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04C-F08D-4AD5-BA2E-EF50300D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C1B9-ED16-4BDF-A922-6DA517E7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A166-FE09-45F2-9E7E-EA0DF445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BCD-911C-4A43-82FC-7F249140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342C-795B-4BA5-99A3-E6ED4D08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3984-5080-4EAB-9C68-5C3E4705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7B59-F2B2-4DAB-A4ED-4066BCF2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F6F3-13AA-4314-A183-A269782E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B939-B78B-4C83-9B5D-88FAA1A0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353A-C882-4219-8F91-FBDAB2ED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5A7D-DC01-4524-BE4D-2EDF723E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573E-C1B4-44F7-9B82-0999D1EC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370A-3CF6-49B6-A23C-CA4075A5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8399-6676-4558-975E-6FFE6EF4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4833-F8E4-42E1-BFB2-C80F59D5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7436-E13A-421A-BA86-2E233DDA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9442-1635-46FA-9943-D013B2855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508-01F1-4127-911A-3B0C284C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F156-A9AE-4212-8631-6A150260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E469-02AC-4C37-910C-06E4708C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CF29-651D-491A-8FB9-3D8E8B75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A1E2-E917-4EB1-825B-8C39C804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01F4-D923-4DB7-9B3E-C3243C26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3A1F-EF29-4B7D-BCA3-A608668F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761D-A4A2-4573-8556-5F678B2B85B4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DBAB-A6CE-4370-9DE5-378D525C49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未标题-1"/>
          <p:cNvPicPr/>
          <p:nvPr/>
        </p:nvPicPr>
        <p:blipFill>
          <a:blip r:embed="rId1"/>
          <a:stretch/>
        </p:blipFill>
        <p:spPr>
          <a:xfrm>
            <a:off x="-168120" y="-88920"/>
            <a:ext cx="9491400" cy="709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2"/>
          <p:cNvPicPr/>
          <p:nvPr/>
        </p:nvPicPr>
        <p:blipFill>
          <a:blip r:embed="rId2"/>
          <a:stretch/>
        </p:blipFill>
        <p:spPr>
          <a:xfrm>
            <a:off x="4356000" y="2003400"/>
            <a:ext cx="584280" cy="27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mulu"/>
          <p:cNvPicPr/>
          <p:nvPr/>
        </p:nvPicPr>
        <p:blipFill>
          <a:blip r:embed="rId1"/>
          <a:stretch/>
        </p:blipFill>
        <p:spPr>
          <a:xfrm>
            <a:off x="-169920" y="-87480"/>
            <a:ext cx="9423360" cy="7045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刺绣简介-01"/>
          <p:cNvPicPr/>
          <p:nvPr/>
        </p:nvPicPr>
        <p:blipFill>
          <a:blip r:embed="rId2"/>
          <a:stretch/>
        </p:blipFill>
        <p:spPr>
          <a:xfrm>
            <a:off x="2197080" y="2201760"/>
            <a:ext cx="933480" cy="2522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刺绣源流-01"/>
          <p:cNvPicPr/>
          <p:nvPr/>
        </p:nvPicPr>
        <p:blipFill>
          <a:blip r:embed="rId3"/>
          <a:stretch/>
        </p:blipFill>
        <p:spPr>
          <a:xfrm>
            <a:off x="3105000" y="2195640"/>
            <a:ext cx="936720" cy="2528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2-01"/>
          <p:cNvPicPr/>
          <p:nvPr/>
        </p:nvPicPr>
        <p:blipFill>
          <a:blip r:embed="rId4"/>
          <a:stretch/>
        </p:blipFill>
        <p:spPr>
          <a:xfrm>
            <a:off x="4041720" y="2127240"/>
            <a:ext cx="961920" cy="2597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历代刺绣-01"/>
          <p:cNvPicPr/>
          <p:nvPr/>
        </p:nvPicPr>
        <p:blipFill>
          <a:blip r:embed="rId5"/>
          <a:stretch/>
        </p:blipFill>
        <p:spPr>
          <a:xfrm>
            <a:off x="4978440" y="2133720"/>
            <a:ext cx="961920" cy="2597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2-01"/>
          <p:cNvPicPr/>
          <p:nvPr/>
        </p:nvPicPr>
        <p:blipFill>
          <a:blip r:embed="rId6"/>
          <a:stretch/>
        </p:blipFill>
        <p:spPr>
          <a:xfrm>
            <a:off x="5916600" y="2127240"/>
            <a:ext cx="96048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背景-01"/>
          <p:cNvPicPr/>
          <p:nvPr/>
        </p:nvPicPr>
        <p:blipFill>
          <a:blip r:embed="rId1"/>
          <a:stretch/>
        </p:blipFill>
        <p:spPr>
          <a:xfrm>
            <a:off x="0" y="-19080"/>
            <a:ext cx="9325080" cy="6959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过度 花圈-01"/>
          <p:cNvPicPr/>
          <p:nvPr/>
        </p:nvPicPr>
        <p:blipFill>
          <a:blip r:embed="rId2"/>
          <a:stretch/>
        </p:blipFill>
        <p:spPr>
          <a:xfrm>
            <a:off x="1495440" y="-17640"/>
            <a:ext cx="5813280" cy="3094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过度鸟2-01-01-01"/>
          <p:cNvPicPr/>
          <p:nvPr/>
        </p:nvPicPr>
        <p:blipFill>
          <a:blip r:embed="rId3"/>
          <a:stretch/>
        </p:blipFill>
        <p:spPr>
          <a:xfrm>
            <a:off x="1496880" y="-19080"/>
            <a:ext cx="5811840" cy="309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过渡页数-01"/>
          <p:cNvPicPr/>
          <p:nvPr/>
        </p:nvPicPr>
        <p:blipFill>
          <a:blip r:embed="rId4"/>
          <a:stretch/>
        </p:blipFill>
        <p:spPr>
          <a:xfrm>
            <a:off x="3825720" y="2278080"/>
            <a:ext cx="1538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背景-01"/>
          <p:cNvPicPr/>
          <p:nvPr/>
        </p:nvPicPr>
        <p:blipFill>
          <a:blip r:embed="rId1"/>
          <a:stretch/>
        </p:blipFill>
        <p:spPr>
          <a:xfrm>
            <a:off x="0" y="-19080"/>
            <a:ext cx="9253440" cy="6959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过渡页数-01"/>
          <p:cNvPicPr/>
          <p:nvPr/>
        </p:nvPicPr>
        <p:blipFill>
          <a:blip r:embed="rId2"/>
          <a:stretch/>
        </p:blipFill>
        <p:spPr>
          <a:xfrm>
            <a:off x="179280" y="1327320"/>
            <a:ext cx="1467000" cy="4124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xian"/>
          <p:cNvPicPr/>
          <p:nvPr/>
        </p:nvPicPr>
        <p:blipFill>
          <a:blip r:embed="rId3"/>
          <a:stretch/>
        </p:blipFill>
        <p:spPr>
          <a:xfrm>
            <a:off x="1495440" y="814320"/>
            <a:ext cx="6767640" cy="311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xian2"/>
          <p:cNvPicPr/>
          <p:nvPr/>
        </p:nvPicPr>
        <p:blipFill>
          <a:blip r:embed="rId4"/>
          <a:stretch/>
        </p:blipFill>
        <p:spPr>
          <a:xfrm>
            <a:off x="1495440" y="5589720"/>
            <a:ext cx="6769080" cy="312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鸟1-01"/>
          <p:cNvPicPr/>
          <p:nvPr/>
        </p:nvPicPr>
        <p:blipFill>
          <a:blip r:embed="rId5"/>
          <a:stretch/>
        </p:blipFill>
        <p:spPr>
          <a:xfrm>
            <a:off x="6753240" y="4005360"/>
            <a:ext cx="1922400" cy="2808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文字-01"/>
          <p:cNvPicPr/>
          <p:nvPr/>
        </p:nvPicPr>
        <p:blipFill>
          <a:blip r:embed="rId6"/>
          <a:stretch/>
        </p:blipFill>
        <p:spPr>
          <a:xfrm>
            <a:off x="1487520" y="1424160"/>
            <a:ext cx="7137360" cy="39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未标题-1"/>
          <p:cNvPicPr/>
          <p:nvPr/>
        </p:nvPicPr>
        <p:blipFill>
          <a:blip r:embed="rId1"/>
          <a:stretch/>
        </p:blipFill>
        <p:spPr>
          <a:xfrm>
            <a:off x="-168120" y="-88920"/>
            <a:ext cx="9491400" cy="7093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谢谢-01-01"/>
          <p:cNvPicPr/>
          <p:nvPr/>
        </p:nvPicPr>
        <p:blipFill>
          <a:blip r:embed="rId2"/>
          <a:stretch/>
        </p:blipFill>
        <p:spPr>
          <a:xfrm>
            <a:off x="3851280" y="1611360"/>
            <a:ext cx="1427040" cy="340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6-04-21T14:02:36Z</dcterms:modified>
  <cp:revision>11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