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1D4-1700-498A-BDDC-6DC17DC4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20F-525E-4C07-92EA-523F0C65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AB05-2F44-4BC2-B56D-E55AABA3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D19-4212-4A11-AFDB-72704A0F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4C6-5829-484C-A894-84A2E1B3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C2A7-6A38-43F3-B0BE-DC81B721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B285-B149-4AE0-8745-BA3EE29F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60D5-7D5B-452E-B2ED-99CD378C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8F96-EA39-4A72-8CA1-2C088FF7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521-D983-441B-A91C-1E62B903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F2C9-741E-472B-A1F6-2B6EBE5B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D757-39F6-4641-A4E0-BAB5685A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6641-9ACA-44E9-BD3E-21EAE6FE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1815-098E-4018-B918-78AD0BA7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40CE-D6F2-4D7C-903D-7C446BFF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C78C-4E96-4B88-89BC-D3232BA5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6E98-D65A-4EB6-A436-B9C9A7CB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F82C-E5B7-4904-B1A7-8B92E9A4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E554-88D3-4B73-9386-C2AC9930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F46A-93A7-435D-92F7-B649D8CB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DFAD-0951-4A50-96CB-B0CEC83D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F5B-AA76-4E68-9777-FE5A11DC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9804-5DF4-48CE-9075-2B05653A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81FA-F7F0-4A6B-A232-3EE505F5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82E8-C263-4E32-9FFE-2F94B198D0AD}" type="slidenum">
              <a:rPr b="0" lang="en-US" sz="800" spc="-1" strike="noStrike">
                <a:solidFill>
                  <a:srgbClr val="8c8c8c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9D8D-7399-4097-9104-68ACE575B2E5}" type="slidenum">
              <a:rPr b="0" lang="en-US" sz="800" spc="-1" strike="noStrike">
                <a:solidFill>
                  <a:srgbClr val="8c8c8c"/>
                </a:solidFill>
                <a:latin typeface="Calibri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75564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ITLE LAYOUT</a:t>
            </a:r>
            <a:endParaRPr b="0" lang="en-US" sz="80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09480" y="3955680"/>
            <a:ext cx="68580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宋体"/>
              </a:rPr>
              <a:t>Subtitl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5960" y="38412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6095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55960" y="2239920"/>
            <a:ext cx="4799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LIS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CH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pic>
        <p:nvPicPr>
          <p:cNvPr id="202" name="Content Placeholder 5" descr="Clustered Column Chart"/>
          <p:cNvPicPr/>
          <p:nvPr/>
        </p:nvPicPr>
        <p:blipFill>
          <a:blip r:embed="rId1"/>
          <a:stretch/>
        </p:blipFill>
        <p:spPr>
          <a:xfrm>
            <a:off x="1930320" y="1936800"/>
            <a:ext cx="9474120" cy="458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TABLE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781680" y="1981080"/>
          <a:ext cx="4572000" cy="20890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5223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5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  <a:tr h="522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4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SMART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8" name="Content Placeholder 4" descr="Interconnected Block Process"/>
          <p:cNvPicPr/>
          <p:nvPr/>
        </p:nvPicPr>
        <p:blipFill>
          <a:blip r:embed="rId1"/>
          <a:stretch/>
        </p:blipFill>
        <p:spPr>
          <a:xfrm>
            <a:off x="6778800" y="1981080"/>
            <a:ext cx="4730400" cy="44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22240"/>
            <a:ext cx="8686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283500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9200" y="4096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6600" y="380520"/>
            <a:ext cx="5489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59200" y="22384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810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9810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7816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816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2:50:02Z</dcterms:created>
  <dc:creator/>
  <dc:description/>
  <dc:language>en-US</dc:language>
  <cp:lastModifiedBy>Administrator</cp:lastModifiedBy>
  <dcterms:modified xsi:type="dcterms:W3CDTF">2016-06-17T04:46:07Z</dcterms:modified>
  <cp:revision>3</cp:revision>
  <dc:subject/>
  <dc:title>TITLE LAY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_TemplateID">
    <vt:lpwstr>TC030310279991</vt:lpwstr>
  </property>
</Properties>
</file>