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7.jpeg" ContentType="image/jpeg"/>
  <Override PartName="/ppt/media/image29.png" ContentType="image/png"/>
  <Override PartName="/ppt/media/image6.png" ContentType="image/png"/>
  <Override PartName="/ppt/media/image5.png" ContentType="image/png"/>
  <Override PartName="/ppt/media/image35.png" ContentType="image/png"/>
  <Override PartName="/ppt/media/image17.png" ContentType="image/png"/>
  <Override PartName="/ppt/media/image32.jpeg" ContentType="image/jpeg"/>
  <Override PartName="/ppt/media/image11.png" ContentType="image/png"/>
  <Override PartName="/ppt/media/image7.png" ContentType="image/png"/>
  <Override PartName="/ppt/media/image8.png" ContentType="image/png"/>
  <Override PartName="/ppt/media/image9.png" ContentType="image/png"/>
  <Override PartName="/ppt/media/image31.jpeg" ContentType="image/jpeg"/>
  <Override PartName="/ppt/media/image2.png" ContentType="image/png"/>
  <Override PartName="/ppt/media/image25.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96740-D739-4BE9-BB63-73A50FE7A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67509-DB13-4640-80E7-3D170825E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BE058-BF5D-4713-A65E-9E1B7C1FE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0A1FB-83F9-4009-BB55-D59842069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5ECEC-6EF4-4E9D-8CD4-9358F8B7C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6E983-F641-4622-8F22-D1365305D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A58E5-9967-4759-8424-3B79998EC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4C434-12BF-48F2-B74C-61F001CB5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562B8-9285-49CF-80F9-8666C0188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85442-1105-43B5-B183-0BB19AA68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8AABB-CFAF-4702-A8BF-677CAE569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94115-39BE-423C-A0AB-C4C5660F8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82863-A9D3-46F5-96E4-90AE0592D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B89E9-3446-431B-B94A-2676583AC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EF7E0-9255-4C8F-9B55-3EDD75DA3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B2D82-28E3-45D7-8435-D333CF6E0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A457F-0C1D-403A-82FF-85262A0BF0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77B543-2515-45B1-9974-0B672BC46C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FDC352-D000-4717-958D-7E5B5171AE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F99D63-EBBE-4CC4-9F86-3D65EE85B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9AAAA-4698-4D1F-A915-CDAEE14E3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0AD61-D624-499B-BFAF-08C5AA829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0A3FD-9CDE-4405-8BC1-A4C4DB472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3EB755-1D7A-4B28-9064-DD543DA5A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98A26-8462-4E72-95F8-E09372EEC5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400A2E-AF2F-43D4-AC19-98431DC74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2A5671-1DC2-40AB-8E3F-FE02F6C6F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C38908-4D52-4797-BD65-BAA190F50B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921631-1C6E-45DE-B44D-8BEAE71F75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4678F5-F879-4B6B-9FA1-34416B62B0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DE67F9-7E80-473C-A862-93C5239B2F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45B246-416F-4C96-BDF3-932E00E2C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7D9E4F-38B6-40C2-A55B-80214FD67F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00616-941D-4494-955F-4AE96AC49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EFA32A-A30A-43BD-A18F-DA7FD9F146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21524A-A1F7-4FB7-8463-05B079FFA4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F5193-75BE-4B4D-BEA5-F675E58ABD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9C551-1944-4E16-B3B2-FE59FCAE5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3BA97-8478-444C-86D9-ED1976BA4E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44927-2273-45C2-8CDB-0C5D50B89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130972-D385-429C-A117-B90526B503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9392C6-C27E-4D3F-A346-78E625D09D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C8A4A2-A957-4982-A371-8D700FE26D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59604-0D91-41E5-A983-6BD9942C2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DA1EA-AFD7-452F-844D-9EBFCCFF1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3DB13-27F3-4D7D-A9CE-2B75DC126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19A3F-55FD-4E89-820C-5710A109D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56BAB-C624-42E6-A04B-C996DD0DA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489AE-EE4E-462F-ADAE-C82FFA092FD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5232-5F40-4410-8055-416CC35F2E9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6"/>
          <p:cNvSpPr/>
          <p:nvPr/>
        </p:nvSpPr>
        <p:spPr>
          <a:xfrm>
            <a:off x="0" y="-38160"/>
            <a:ext cx="12192120" cy="689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1D11-2891-49A8-821A-A3331920A1B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矩形 6"/>
          <p:cNvSpPr/>
          <p:nvPr/>
        </p:nvSpPr>
        <p:spPr>
          <a:xfrm>
            <a:off x="0" y="0"/>
            <a:ext cx="158760" cy="17319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矩形 7"/>
          <p:cNvSpPr/>
          <p:nvPr/>
        </p:nvSpPr>
        <p:spPr>
          <a:xfrm>
            <a:off x="0" y="1731960"/>
            <a:ext cx="158760" cy="169704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矩形 8"/>
          <p:cNvSpPr/>
          <p:nvPr/>
        </p:nvSpPr>
        <p:spPr>
          <a:xfrm>
            <a:off x="0" y="3429000"/>
            <a:ext cx="158760" cy="1731960"/>
          </a:xfrm>
          <a:prstGeom prst="rect">
            <a:avLst/>
          </a:pr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矩形 9"/>
          <p:cNvSpPr/>
          <p:nvPr/>
        </p:nvSpPr>
        <p:spPr>
          <a:xfrm>
            <a:off x="0" y="5160960"/>
            <a:ext cx="158760" cy="169704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矩形 10"/>
          <p:cNvSpPr/>
          <p:nvPr/>
        </p:nvSpPr>
        <p:spPr>
          <a:xfrm>
            <a:off x="12033360" y="0"/>
            <a:ext cx="158760" cy="1731960"/>
          </a:xfrm>
          <a:prstGeom prst="rect">
            <a:avLst/>
          </a:prstGeom>
          <a:solidFill>
            <a:srgbClr val="67a1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11"/>
          <p:cNvSpPr/>
          <p:nvPr/>
        </p:nvSpPr>
        <p:spPr>
          <a:xfrm>
            <a:off x="12033360" y="1731960"/>
            <a:ext cx="158760" cy="169704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矩形 12"/>
          <p:cNvSpPr/>
          <p:nvPr/>
        </p:nvSpPr>
        <p:spPr>
          <a:xfrm>
            <a:off x="12033360" y="3429000"/>
            <a:ext cx="158760" cy="17319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矩形 13"/>
          <p:cNvSpPr/>
          <p:nvPr/>
        </p:nvSpPr>
        <p:spPr>
          <a:xfrm>
            <a:off x="12033360" y="5160960"/>
            <a:ext cx="158760" cy="169704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矩形 14"/>
          <p:cNvSpPr/>
          <p:nvPr/>
        </p:nvSpPr>
        <p:spPr>
          <a:xfrm>
            <a:off x="158760" y="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矩形 15"/>
          <p:cNvSpPr/>
          <p:nvPr/>
        </p:nvSpPr>
        <p:spPr>
          <a:xfrm>
            <a:off x="2487600" y="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矩形 16"/>
          <p:cNvSpPr/>
          <p:nvPr/>
        </p:nvSpPr>
        <p:spPr>
          <a:xfrm>
            <a:off x="4816440" y="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矩形 17"/>
          <p:cNvSpPr/>
          <p:nvPr/>
        </p:nvSpPr>
        <p:spPr>
          <a:xfrm>
            <a:off x="7229520" y="0"/>
            <a:ext cx="231624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矩形 18"/>
          <p:cNvSpPr/>
          <p:nvPr/>
        </p:nvSpPr>
        <p:spPr>
          <a:xfrm>
            <a:off x="9545760" y="0"/>
            <a:ext cx="248760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矩形 19"/>
          <p:cNvSpPr/>
          <p:nvPr/>
        </p:nvSpPr>
        <p:spPr>
          <a:xfrm>
            <a:off x="146160" y="6711840"/>
            <a:ext cx="2328840" cy="1461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20"/>
          <p:cNvSpPr/>
          <p:nvPr/>
        </p:nvSpPr>
        <p:spPr>
          <a:xfrm>
            <a:off x="2475000" y="6711840"/>
            <a:ext cx="2425680" cy="1461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21"/>
          <p:cNvSpPr/>
          <p:nvPr/>
        </p:nvSpPr>
        <p:spPr>
          <a:xfrm>
            <a:off x="4803840" y="6711840"/>
            <a:ext cx="2413080" cy="1461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矩形 22"/>
          <p:cNvSpPr/>
          <p:nvPr/>
        </p:nvSpPr>
        <p:spPr>
          <a:xfrm>
            <a:off x="7216920" y="6711840"/>
            <a:ext cx="2317680" cy="1461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23"/>
          <p:cNvSpPr/>
          <p:nvPr/>
        </p:nvSpPr>
        <p:spPr>
          <a:xfrm>
            <a:off x="9534600" y="6711840"/>
            <a:ext cx="2498760" cy="1461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5"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D5EB-6CBB-4E7F-88CC-FA68E83E929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3.jpeg"/><Relationship Id="rId5"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1"/>
          <p:cNvSpPr/>
          <p:nvPr/>
        </p:nvSpPr>
        <p:spPr>
          <a:xfrm>
            <a:off x="3225240" y="6089760"/>
            <a:ext cx="64274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185" name="矩形 7"/>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186" name="矩形 10"/>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187" name="矩形 4"/>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组合 1"/>
          <p:cNvGrpSpPr/>
          <p:nvPr/>
        </p:nvGrpSpPr>
        <p:grpSpPr>
          <a:xfrm>
            <a:off x="2253960" y="2300400"/>
            <a:ext cx="7553520" cy="1442880"/>
            <a:chOff x="2253960" y="2300400"/>
            <a:chExt cx="7553520" cy="1442880"/>
          </a:xfrm>
        </p:grpSpPr>
        <p:sp>
          <p:nvSpPr>
            <p:cNvPr id="347" name="直接连接符 2"/>
            <p:cNvSpPr/>
            <p:nvPr/>
          </p:nvSpPr>
          <p:spPr>
            <a:xfrm>
              <a:off x="2254320" y="2932200"/>
              <a:ext cx="7553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348" name="直接箭头连接符 3"/>
            <p:cNvCxnSpPr/>
            <p:nvPr/>
          </p:nvCxnSpPr>
          <p:spPr>
            <a:xfrm>
              <a:off x="2253960" y="2931840"/>
              <a:ext cx="1080" cy="811800"/>
            </a:xfrm>
            <a:prstGeom prst="straightConnector1">
              <a:avLst/>
            </a:prstGeom>
            <a:ln w="6480">
              <a:solidFill>
                <a:srgbClr val="7f7f7f"/>
              </a:solidFill>
              <a:miter/>
              <a:tailEnd len="med" type="arrow" w="med"/>
            </a:ln>
          </p:spPr>
        </p:cxnSp>
        <p:cxnSp>
          <p:nvCxnSpPr>
            <p:cNvPr id="349" name="直接箭头连接符 4"/>
            <p:cNvCxnSpPr/>
            <p:nvPr/>
          </p:nvCxnSpPr>
          <p:spPr>
            <a:xfrm>
              <a:off x="4797000" y="2931840"/>
              <a:ext cx="1080" cy="811800"/>
            </a:xfrm>
            <a:prstGeom prst="straightConnector1">
              <a:avLst/>
            </a:prstGeom>
            <a:ln w="6480">
              <a:solidFill>
                <a:srgbClr val="7f7f7f"/>
              </a:solidFill>
              <a:miter/>
              <a:tailEnd len="med" type="arrow" w="med"/>
            </a:ln>
          </p:spPr>
        </p:cxnSp>
        <p:cxnSp>
          <p:nvCxnSpPr>
            <p:cNvPr id="350" name="直接箭头连接符 5"/>
            <p:cNvCxnSpPr/>
            <p:nvPr/>
          </p:nvCxnSpPr>
          <p:spPr>
            <a:xfrm>
              <a:off x="7443360" y="2931840"/>
              <a:ext cx="1080" cy="811800"/>
            </a:xfrm>
            <a:prstGeom prst="straightConnector1">
              <a:avLst/>
            </a:prstGeom>
            <a:ln w="6480">
              <a:solidFill>
                <a:srgbClr val="7f7f7f"/>
              </a:solidFill>
              <a:miter/>
              <a:tailEnd len="med" type="arrow" w="med"/>
            </a:ln>
          </p:spPr>
        </p:cxnSp>
        <p:cxnSp>
          <p:nvCxnSpPr>
            <p:cNvPr id="351" name="直接箭头连接符 6"/>
            <p:cNvCxnSpPr/>
            <p:nvPr/>
          </p:nvCxnSpPr>
          <p:spPr>
            <a:xfrm>
              <a:off x="9804240" y="2931840"/>
              <a:ext cx="1080" cy="811800"/>
            </a:xfrm>
            <a:prstGeom prst="straightConnector1">
              <a:avLst/>
            </a:prstGeom>
            <a:ln w="6480">
              <a:solidFill>
                <a:srgbClr val="7f7f7f"/>
              </a:solidFill>
              <a:miter/>
              <a:tailEnd len="med" type="arrow" w="med"/>
            </a:ln>
          </p:spPr>
        </p:cxnSp>
        <p:sp>
          <p:nvSpPr>
            <p:cNvPr id="352" name="直接连接符 7"/>
            <p:cNvSpPr/>
            <p:nvPr/>
          </p:nvSpPr>
          <p:spPr>
            <a:xfrm>
              <a:off x="6110280" y="2300400"/>
              <a:ext cx="0" cy="63180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53" name="TextBox 29"/>
          <p:cNvSpPr/>
          <p:nvPr/>
        </p:nvSpPr>
        <p:spPr>
          <a:xfrm>
            <a:off x="911160" y="454032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4" name="TextBox 30"/>
          <p:cNvSpPr/>
          <p:nvPr/>
        </p:nvSpPr>
        <p:spPr>
          <a:xfrm>
            <a:off x="3435480" y="454032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5" name="TextBox 31"/>
          <p:cNvSpPr/>
          <p:nvPr/>
        </p:nvSpPr>
        <p:spPr>
          <a:xfrm>
            <a:off x="605160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sp>
        <p:nvSpPr>
          <p:cNvPr id="356" name="TextBox 32"/>
          <p:cNvSpPr/>
          <p:nvPr/>
        </p:nvSpPr>
        <p:spPr>
          <a:xfrm>
            <a:off x="8756640" y="454032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点击添加文字说明</a:t>
            </a:r>
            <a:endParaRPr b="0" lang="en-US" sz="1400" spc="-1" strike="noStrike">
              <a:solidFill>
                <a:srgbClr val="000000"/>
              </a:solidFill>
              <a:latin typeface="Calibri"/>
            </a:endParaRPr>
          </a:p>
        </p:txBody>
      </p:sp>
      <p:pic>
        <p:nvPicPr>
          <p:cNvPr id="357" name="组合 14" descr=""/>
          <p:cNvPicPr/>
          <p:nvPr/>
        </p:nvPicPr>
        <p:blipFill>
          <a:blip r:embed="rId1"/>
          <a:stretch/>
        </p:blipFill>
        <p:spPr>
          <a:xfrm>
            <a:off x="4643280" y="1577880"/>
            <a:ext cx="2905200" cy="722520"/>
          </a:xfrm>
          <a:prstGeom prst="rect">
            <a:avLst/>
          </a:prstGeom>
          <a:ln w="0">
            <a:noFill/>
          </a:ln>
        </p:spPr>
      </p:pic>
      <p:pic>
        <p:nvPicPr>
          <p:cNvPr id="358" name="组合 17" descr=""/>
          <p:cNvPicPr/>
          <p:nvPr/>
        </p:nvPicPr>
        <p:blipFill>
          <a:blip r:embed="rId2"/>
          <a:stretch/>
        </p:blipFill>
        <p:spPr>
          <a:xfrm>
            <a:off x="1000080" y="3743280"/>
            <a:ext cx="2386080" cy="720720"/>
          </a:xfrm>
          <a:prstGeom prst="rect">
            <a:avLst/>
          </a:prstGeom>
          <a:ln w="0">
            <a:noFill/>
          </a:ln>
        </p:spPr>
      </p:pic>
      <p:pic>
        <p:nvPicPr>
          <p:cNvPr id="359" name="组合 20" descr=""/>
          <p:cNvPicPr/>
          <p:nvPr/>
        </p:nvPicPr>
        <p:blipFill>
          <a:blip r:embed="rId3"/>
          <a:stretch/>
        </p:blipFill>
        <p:spPr>
          <a:xfrm>
            <a:off x="3575160" y="3743280"/>
            <a:ext cx="2384280" cy="720720"/>
          </a:xfrm>
          <a:prstGeom prst="rect">
            <a:avLst/>
          </a:prstGeom>
          <a:ln w="0">
            <a:noFill/>
          </a:ln>
        </p:spPr>
      </p:pic>
      <p:pic>
        <p:nvPicPr>
          <p:cNvPr id="360" name="组合 23" descr=""/>
          <p:cNvPicPr/>
          <p:nvPr/>
        </p:nvPicPr>
        <p:blipFill>
          <a:blip r:embed="rId4"/>
          <a:stretch/>
        </p:blipFill>
        <p:spPr>
          <a:xfrm>
            <a:off x="6191280" y="3743280"/>
            <a:ext cx="2384280" cy="720720"/>
          </a:xfrm>
          <a:prstGeom prst="rect">
            <a:avLst/>
          </a:prstGeom>
          <a:ln w="0">
            <a:noFill/>
          </a:ln>
        </p:spPr>
      </p:pic>
      <p:pic>
        <p:nvPicPr>
          <p:cNvPr id="361" name="组合 26" descr=""/>
          <p:cNvPicPr/>
          <p:nvPr/>
        </p:nvPicPr>
        <p:blipFill>
          <a:blip r:embed="rId5"/>
          <a:stretch/>
        </p:blipFill>
        <p:spPr>
          <a:xfrm>
            <a:off x="8805960" y="3743280"/>
            <a:ext cx="2384280" cy="72072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5"/>
          <p:cNvSpPr/>
          <p:nvPr/>
        </p:nvSpPr>
        <p:spPr>
          <a:xfrm>
            <a:off x="5796000" y="-42840"/>
            <a:ext cx="600120" cy="6001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63" name="矩形 1"/>
          <p:cNvSpPr/>
          <p:nvPr/>
        </p:nvSpPr>
        <p:spPr>
          <a:xfrm>
            <a:off x="4979880" y="4281480"/>
            <a:ext cx="222912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362c4"/>
                </a:solidFill>
                <a:latin typeface="微软雅黑"/>
                <a:ea typeface="微软雅黑"/>
              </a:rPr>
              <a:t>研究目的</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62c4"/>
                </a:solidFill>
                <a:latin typeface="微软雅黑"/>
                <a:ea typeface="微软雅黑"/>
              </a:rPr>
              <a:t>Research Goal</a:t>
            </a:r>
            <a:endParaRPr b="0" lang="en-US" sz="2400" spc="-1" strike="noStrike">
              <a:solidFill>
                <a:srgbClr val="000000"/>
              </a:solidFill>
              <a:latin typeface="Calibri"/>
            </a:endParaRPr>
          </a:p>
        </p:txBody>
      </p:sp>
      <p:grpSp>
        <p:nvGrpSpPr>
          <p:cNvPr id="364" name="组合 9"/>
          <p:cNvGrpSpPr/>
          <p:nvPr/>
        </p:nvGrpSpPr>
        <p:grpSpPr>
          <a:xfrm>
            <a:off x="4886280" y="1436760"/>
            <a:ext cx="2432160" cy="2431800"/>
            <a:chOff x="4886280" y="1436760"/>
            <a:chExt cx="2432160" cy="2431800"/>
          </a:xfrm>
        </p:grpSpPr>
        <p:sp>
          <p:nvSpPr>
            <p:cNvPr id="365" name="KSO_Shape"/>
            <p:cNvSpPr/>
            <p:nvPr/>
          </p:nvSpPr>
          <p:spPr>
            <a:xfrm>
              <a:off x="5314680" y="1855800"/>
              <a:ext cx="1575000" cy="159372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椭圆 14"/>
            <p:cNvSpPr/>
            <p:nvPr/>
          </p:nvSpPr>
          <p:spPr>
            <a:xfrm>
              <a:off x="4886280" y="1436760"/>
              <a:ext cx="2432160" cy="243180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等腰三角形 1"/>
          <p:cNvSpPr/>
          <p:nvPr/>
        </p:nvSpPr>
        <p:spPr>
          <a:xfrm>
            <a:off x="8680320" y="1498680"/>
            <a:ext cx="1730520" cy="3209760"/>
          </a:xfrm>
          <a:prstGeom prst="triangle">
            <a:avLst>
              <a:gd name="adj" fmla="val 50000"/>
            </a:avLst>
          </a:prstGeom>
          <a:solidFill>
            <a:srgbClr val="09839b">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等腰三角形 2"/>
          <p:cNvSpPr/>
          <p:nvPr/>
        </p:nvSpPr>
        <p:spPr>
          <a:xfrm>
            <a:off x="1781280" y="2211480"/>
            <a:ext cx="1785960" cy="2460600"/>
          </a:xfrm>
          <a:prstGeom prst="triangle">
            <a:avLst>
              <a:gd name="adj" fmla="val 50000"/>
            </a:avLst>
          </a:prstGeom>
          <a:solidFill>
            <a:srgbClr val="f05a2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等腰三角形 3"/>
          <p:cNvSpPr/>
          <p:nvPr/>
        </p:nvSpPr>
        <p:spPr>
          <a:xfrm>
            <a:off x="3567240" y="2892600"/>
            <a:ext cx="1604880" cy="1815840"/>
          </a:xfrm>
          <a:prstGeom prst="triangle">
            <a:avLst>
              <a:gd name="adj" fmla="val 50000"/>
            </a:avLst>
          </a:prstGeom>
          <a:solidFill>
            <a:srgbClr val="179a44"/>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等腰三角形 4"/>
          <p:cNvSpPr/>
          <p:nvPr/>
        </p:nvSpPr>
        <p:spPr>
          <a:xfrm>
            <a:off x="5143680" y="1898640"/>
            <a:ext cx="1768320" cy="2809800"/>
          </a:xfrm>
          <a:prstGeom prst="triangle">
            <a:avLst>
              <a:gd name="adj" fmla="val 50000"/>
            </a:avLst>
          </a:prstGeom>
          <a:solidFill>
            <a:srgbClr val="a362c4">
              <a:alpha val="6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等腰三角形 5"/>
          <p:cNvSpPr/>
          <p:nvPr/>
        </p:nvSpPr>
        <p:spPr>
          <a:xfrm>
            <a:off x="6926400" y="2211480"/>
            <a:ext cx="1752480" cy="2496960"/>
          </a:xfrm>
          <a:prstGeom prst="triangle">
            <a:avLst>
              <a:gd name="adj" fmla="val 50000"/>
            </a:avLst>
          </a:prstGeom>
          <a:solidFill>
            <a:srgbClr val="faaf3b">
              <a:alpha val="89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矩形 6"/>
          <p:cNvSpPr/>
          <p:nvPr/>
        </p:nvSpPr>
        <p:spPr>
          <a:xfrm>
            <a:off x="23670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3" name="矩形 7"/>
          <p:cNvSpPr/>
          <p:nvPr/>
        </p:nvSpPr>
        <p:spPr>
          <a:xfrm>
            <a:off x="410148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4" name="矩形 8"/>
          <p:cNvSpPr/>
          <p:nvPr/>
        </p:nvSpPr>
        <p:spPr>
          <a:xfrm>
            <a:off x="5662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5" name="矩形 9"/>
          <p:cNvSpPr/>
          <p:nvPr/>
        </p:nvSpPr>
        <p:spPr>
          <a:xfrm>
            <a:off x="739944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
        <p:nvSpPr>
          <p:cNvPr id="376" name="矩形 10"/>
          <p:cNvSpPr/>
          <p:nvPr/>
        </p:nvSpPr>
        <p:spPr>
          <a:xfrm>
            <a:off x="9028800" y="4989600"/>
            <a:ext cx="788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Bodoni MT Black"/>
                <a:ea typeface="微软雅黑"/>
              </a:rPr>
              <a:t>添加标题</a:t>
            </a:r>
            <a:r>
              <a:rPr b="0" lang="en-US" sz="1800" spc="-1" strike="noStrike">
                <a:solidFill>
                  <a:srgbClr val="000000"/>
                </a:solidFill>
                <a:latin typeface="Bodoni MT Black"/>
                <a:ea typeface="微软雅黑"/>
              </a:rPr>
              <a:t> </a:t>
            </a:r>
            <a:endParaRPr b="0" lang="en-US" sz="1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任意多边形 1"/>
          <p:cNvSpPr/>
          <p:nvPr/>
        </p:nvSpPr>
        <p:spPr>
          <a:xfrm>
            <a:off x="4832280" y="99216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78" name="任意多边形 2"/>
          <p:cNvSpPr/>
          <p:nvPr/>
        </p:nvSpPr>
        <p:spPr>
          <a:xfrm>
            <a:off x="5207040" y="2913120"/>
            <a:ext cx="1030320" cy="1031760"/>
          </a:xfrm>
          <a:custGeom>
            <a:avLst/>
            <a:gdLst/>
            <a:ahLst/>
            <a:rect l="l" t="t" r="r" b="b"/>
            <a:pathLst>
              <a:path w="1030520" h="1030520">
                <a:moveTo>
                  <a:pt x="136595" y="394071"/>
                </a:moveTo>
                <a:lnTo>
                  <a:pt x="394071" y="394071"/>
                </a:lnTo>
                <a:lnTo>
                  <a:pt x="394071" y="136595"/>
                </a:lnTo>
                <a:lnTo>
                  <a:pt x="636449" y="136595"/>
                </a:lnTo>
                <a:lnTo>
                  <a:pt x="636449" y="394071"/>
                </a:lnTo>
                <a:lnTo>
                  <a:pt x="893925" y="394071"/>
                </a:lnTo>
                <a:lnTo>
                  <a:pt x="893925" y="636449"/>
                </a:lnTo>
                <a:lnTo>
                  <a:pt x="636449" y="636449"/>
                </a:lnTo>
                <a:lnTo>
                  <a:pt x="636449" y="893925"/>
                </a:lnTo>
                <a:lnTo>
                  <a:pt x="394071" y="893925"/>
                </a:lnTo>
                <a:lnTo>
                  <a:pt x="394071" y="636449"/>
                </a:lnTo>
                <a:lnTo>
                  <a:pt x="136595" y="636449"/>
                </a:lnTo>
                <a:lnTo>
                  <a:pt x="136595" y="394071"/>
                </a:lnTo>
                <a:close/>
              </a:path>
            </a:pathLst>
          </a:custGeom>
          <a:solidFill>
            <a:srgbClr val="d9d9d9"/>
          </a:solidFill>
          <a:ln w="0">
            <a:noFill/>
          </a:ln>
        </p:spPr>
        <p:style>
          <a:lnRef idx="0"/>
          <a:fillRef idx="0"/>
          <a:effectRef idx="0"/>
          <a:fontRef idx="minor"/>
        </p:style>
        <p:txBody>
          <a:bodyPr lIns="136440" rIns="136440" tIns="394200" bIns="39420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800" spc="-1" strike="noStrike">
              <a:solidFill>
                <a:srgbClr val="000000"/>
              </a:solidFill>
              <a:latin typeface="Calibri"/>
            </a:endParaRPr>
          </a:p>
        </p:txBody>
      </p:sp>
      <p:sp>
        <p:nvSpPr>
          <p:cNvPr id="379" name="任意多边形 3"/>
          <p:cNvSpPr/>
          <p:nvPr/>
        </p:nvSpPr>
        <p:spPr>
          <a:xfrm>
            <a:off x="4832280" y="4087800"/>
            <a:ext cx="1778040" cy="1778040"/>
          </a:xfrm>
          <a:custGeom>
            <a:avLst/>
            <a:gdLst/>
            <a:ahLst/>
            <a:rect l="l" t="t" r="r" b="b"/>
            <a:pathLst>
              <a:path w="1776758" h="1776758">
                <a:moveTo>
                  <a:pt x="0" y="888379"/>
                </a:moveTo>
                <a:cubicBezTo>
                  <a:pt x="0" y="397741"/>
                  <a:pt x="397741" y="0"/>
                  <a:pt x="888379" y="0"/>
                </a:cubicBezTo>
                <a:cubicBezTo>
                  <a:pt x="1379017" y="0"/>
                  <a:pt x="1776758" y="397741"/>
                  <a:pt x="1776758" y="888379"/>
                </a:cubicBezTo>
                <a:cubicBezTo>
                  <a:pt x="1776758" y="1379017"/>
                  <a:pt x="1379017" y="1776758"/>
                  <a:pt x="888379" y="1776758"/>
                </a:cubicBezTo>
                <a:cubicBezTo>
                  <a:pt x="397741" y="1776758"/>
                  <a:pt x="0" y="1379017"/>
                  <a:pt x="0" y="888379"/>
                </a:cubicBezTo>
                <a:close/>
              </a:path>
            </a:pathLst>
          </a:custGeom>
          <a:solidFill>
            <a:srgbClr val="7f7f7f"/>
          </a:solidFill>
          <a:ln w="12600">
            <a:solidFill>
              <a:srgbClr val="ffffff"/>
            </a:solidFill>
            <a:miter/>
          </a:ln>
        </p:spPr>
        <p:style>
          <a:lnRef idx="0"/>
          <a:fillRef idx="0"/>
          <a:effectRef idx="0"/>
          <a:fontRef idx="minor"/>
        </p:style>
        <p:txBody>
          <a:bodyPr lIns="309600" rIns="309600" tIns="309600" bIns="309600" anchor="ctr">
            <a:noAutofit/>
          </a:bodyPr>
          <a:p>
            <a:pPr algn="ctr">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
        <p:nvSpPr>
          <p:cNvPr id="380" name="任意多边形 4"/>
          <p:cNvSpPr/>
          <p:nvPr/>
        </p:nvSpPr>
        <p:spPr>
          <a:xfrm>
            <a:off x="6877080" y="3098880"/>
            <a:ext cx="565200" cy="660240"/>
          </a:xfrm>
          <a:custGeom>
            <a:avLst/>
            <a:gdLst/>
            <a:ahLst/>
            <a:rect l="l" t="t" r="r" b="b"/>
            <a:pathLst>
              <a:path w="565009" h="660954">
                <a:moveTo>
                  <a:pt x="0" y="132191"/>
                </a:moveTo>
                <a:lnTo>
                  <a:pt x="282505" y="132191"/>
                </a:lnTo>
                <a:lnTo>
                  <a:pt x="282505" y="0"/>
                </a:lnTo>
                <a:lnTo>
                  <a:pt x="565009" y="330477"/>
                </a:lnTo>
                <a:lnTo>
                  <a:pt x="282505" y="660954"/>
                </a:lnTo>
                <a:lnTo>
                  <a:pt x="282505" y="528763"/>
                </a:lnTo>
                <a:lnTo>
                  <a:pt x="0" y="528763"/>
                </a:lnTo>
                <a:lnTo>
                  <a:pt x="0" y="132191"/>
                </a:lnTo>
                <a:close/>
              </a:path>
            </a:pathLst>
          </a:custGeom>
          <a:solidFill>
            <a:srgbClr val="d9d9d9"/>
          </a:solidFill>
          <a:ln w="0">
            <a:noFill/>
          </a:ln>
        </p:spPr>
        <p:style>
          <a:lnRef idx="0"/>
          <a:fillRef idx="0"/>
          <a:effectRef idx="0"/>
          <a:fontRef idx="minor"/>
        </p:style>
        <p:txBody>
          <a:bodyPr lIns="0" rIns="169560" tIns="132120" bIns="13212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endParaRPr b="0" lang="en-US" sz="1800" spc="-1" strike="noStrike">
              <a:solidFill>
                <a:srgbClr val="000000"/>
              </a:solidFill>
              <a:latin typeface="Calibri"/>
            </a:endParaRPr>
          </a:p>
        </p:txBody>
      </p:sp>
      <p:sp>
        <p:nvSpPr>
          <p:cNvPr id="381" name="任意多边形 5"/>
          <p:cNvSpPr/>
          <p:nvPr/>
        </p:nvSpPr>
        <p:spPr>
          <a:xfrm>
            <a:off x="7675560" y="1652760"/>
            <a:ext cx="3554280" cy="3552480"/>
          </a:xfrm>
          <a:custGeom>
            <a:avLst/>
            <a:gdLst/>
            <a:ahLst/>
            <a:rect l="l" t="t" r="r" b="b"/>
            <a:pathLst>
              <a:path w="3553517" h="3553517">
                <a:moveTo>
                  <a:pt x="0" y="1776759"/>
                </a:moveTo>
                <a:cubicBezTo>
                  <a:pt x="0" y="795482"/>
                  <a:pt x="795482" y="0"/>
                  <a:pt x="1776759" y="0"/>
                </a:cubicBezTo>
                <a:cubicBezTo>
                  <a:pt x="2758036" y="0"/>
                  <a:pt x="3553518" y="795482"/>
                  <a:pt x="3553518" y="1776759"/>
                </a:cubicBezTo>
                <a:cubicBezTo>
                  <a:pt x="3553518" y="2758036"/>
                  <a:pt x="2758036" y="3553518"/>
                  <a:pt x="1776759" y="3553518"/>
                </a:cubicBezTo>
                <a:cubicBezTo>
                  <a:pt x="795482" y="3553518"/>
                  <a:pt x="0" y="2758036"/>
                  <a:pt x="0" y="1776759"/>
                </a:cubicBezTo>
                <a:close/>
              </a:path>
            </a:pathLst>
          </a:custGeom>
          <a:solidFill>
            <a:srgbClr val="62c4bc"/>
          </a:solidFill>
          <a:ln w="12600">
            <a:solidFill>
              <a:srgbClr val="ffffff"/>
            </a:solidFill>
            <a:miter/>
          </a:ln>
        </p:spPr>
        <p:style>
          <a:lnRef idx="0"/>
          <a:fillRef idx="0"/>
          <a:effectRef idx="0"/>
          <a:fontRef idx="minor"/>
        </p:style>
        <p:txBody>
          <a:bodyPr lIns="603000" rIns="603000" tIns="603000" bIns="603000" anchor="ctr">
            <a:noAutofit/>
          </a:bodyPr>
          <a:p>
            <a:pPr algn="ctr">
              <a:lnSpc>
                <a:spcPct val="90000"/>
              </a:lnSpc>
              <a:spcAft>
                <a:spcPts val="2837"/>
              </a:spcAft>
              <a:tabLst>
                <a:tab algn="l" pos="0"/>
                <a:tab algn="l" pos="2889360"/>
                <a:tab algn="l" pos="5778360"/>
                <a:tab algn="l" pos="8667720"/>
              </a:tabLst>
            </a:pPr>
            <a:endParaRPr b="0" lang="en-US" sz="1800" spc="-1" strike="noStrike">
              <a:solidFill>
                <a:srgbClr val="000000"/>
              </a:solidFill>
              <a:latin typeface="Calibri"/>
            </a:endParaRPr>
          </a:p>
        </p:txBody>
      </p:sp>
      <p:sp>
        <p:nvSpPr>
          <p:cNvPr id="382" name="KSO_Shape"/>
          <p:cNvSpPr/>
          <p:nvPr/>
        </p:nvSpPr>
        <p:spPr>
          <a:xfrm>
            <a:off x="8391600" y="2257560"/>
            <a:ext cx="2122560" cy="234288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KSO_Shape"/>
          <p:cNvSpPr/>
          <p:nvPr/>
        </p:nvSpPr>
        <p:spPr>
          <a:xfrm>
            <a:off x="5227560" y="1397160"/>
            <a:ext cx="987480" cy="968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KSO_Shape"/>
          <p:cNvSpPr/>
          <p:nvPr/>
        </p:nvSpPr>
        <p:spPr>
          <a:xfrm>
            <a:off x="5129280" y="4352760"/>
            <a:ext cx="1185840" cy="12481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KSO_Shape"/>
          <p:cNvSpPr/>
          <p:nvPr/>
        </p:nvSpPr>
        <p:spPr>
          <a:xfrm>
            <a:off x="961920" y="1668600"/>
            <a:ext cx="735120" cy="7207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09839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KSO_Shape"/>
          <p:cNvSpPr/>
          <p:nvPr/>
        </p:nvSpPr>
        <p:spPr>
          <a:xfrm>
            <a:off x="987480" y="4486320"/>
            <a:ext cx="68400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TextBox 42"/>
          <p:cNvSpPr/>
          <p:nvPr/>
        </p:nvSpPr>
        <p:spPr>
          <a:xfrm>
            <a:off x="1920960" y="16527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88" name="TextBox 43"/>
          <p:cNvSpPr/>
          <p:nvPr/>
        </p:nvSpPr>
        <p:spPr>
          <a:xfrm>
            <a:off x="1920960" y="19670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89" name="TextBox 42"/>
          <p:cNvSpPr/>
          <p:nvPr/>
        </p:nvSpPr>
        <p:spPr>
          <a:xfrm>
            <a:off x="1895400" y="4356000"/>
            <a:ext cx="197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0" name="TextBox 43"/>
          <p:cNvSpPr/>
          <p:nvPr/>
        </p:nvSpPr>
        <p:spPr>
          <a:xfrm>
            <a:off x="1895400" y="467208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391" name="直接连接符 15"/>
          <p:cNvSpPr/>
          <p:nvPr/>
        </p:nvSpPr>
        <p:spPr>
          <a:xfrm>
            <a:off x="4292640" y="1298520"/>
            <a:ext cx="0" cy="41306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KSO_Shape"/>
          <p:cNvSpPr/>
          <p:nvPr/>
        </p:nvSpPr>
        <p:spPr>
          <a:xfrm>
            <a:off x="992160" y="3076560"/>
            <a:ext cx="674640" cy="72072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TextBox 42"/>
          <p:cNvSpPr/>
          <p:nvPr/>
        </p:nvSpPr>
        <p:spPr>
          <a:xfrm>
            <a:off x="1847880" y="29433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394" name="TextBox 43"/>
          <p:cNvSpPr/>
          <p:nvPr/>
        </p:nvSpPr>
        <p:spPr>
          <a:xfrm>
            <a:off x="1847880" y="325764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任意多边形 2"/>
          <p:cNvSpPr/>
          <p:nvPr/>
        </p:nvSpPr>
        <p:spPr>
          <a:xfrm>
            <a:off x="3865680" y="2627280"/>
            <a:ext cx="141264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6a6a6"/>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6" name="任意多边形 3"/>
          <p:cNvSpPr/>
          <p:nvPr/>
        </p:nvSpPr>
        <p:spPr>
          <a:xfrm>
            <a:off x="4633920" y="12970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05a2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7" name="任意多边形 4"/>
          <p:cNvSpPr/>
          <p:nvPr/>
        </p:nvSpPr>
        <p:spPr>
          <a:xfrm>
            <a:off x="4633920" y="3957480"/>
            <a:ext cx="14112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a362c4"/>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8" name="任意多边形 5"/>
          <p:cNvSpPr/>
          <p:nvPr/>
        </p:nvSpPr>
        <p:spPr>
          <a:xfrm>
            <a:off x="6126120" y="12970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8bc53f"/>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399" name="任意多边形 6"/>
          <p:cNvSpPr/>
          <p:nvPr/>
        </p:nvSpPr>
        <p:spPr>
          <a:xfrm>
            <a:off x="6126120" y="39574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62c4bc"/>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0" name="任意多边形 7"/>
          <p:cNvSpPr/>
          <p:nvPr/>
        </p:nvSpPr>
        <p:spPr>
          <a:xfrm>
            <a:off x="6913440" y="2627280"/>
            <a:ext cx="1413000" cy="1603440"/>
          </a:xfrm>
          <a:custGeom>
            <a:avLst/>
            <a:gdLst/>
            <a:ahLst/>
            <a:rect l="l" t="t" r="r" b="b"/>
            <a:pathLst>
              <a:path w="1032977" h="898690">
                <a:moveTo>
                  <a:pt x="516488" y="0"/>
                </a:moveTo>
                <a:lnTo>
                  <a:pt x="1032976" y="195466"/>
                </a:lnTo>
                <a:lnTo>
                  <a:pt x="1032976" y="703225"/>
                </a:lnTo>
                <a:lnTo>
                  <a:pt x="516489" y="898690"/>
                </a:lnTo>
                <a:lnTo>
                  <a:pt x="1" y="703225"/>
                </a:lnTo>
                <a:lnTo>
                  <a:pt x="1" y="195466"/>
                </a:lnTo>
                <a:lnTo>
                  <a:pt x="516488" y="0"/>
                </a:lnTo>
                <a:close/>
              </a:path>
            </a:pathLst>
          </a:custGeom>
          <a:solidFill>
            <a:srgbClr val="faaf3b"/>
          </a:solidFill>
          <a:ln w="0">
            <a:noFill/>
          </a:ln>
        </p:spPr>
        <p:style>
          <a:lnRef idx="0"/>
          <a:fillRef idx="0"/>
          <a:effectRef idx="0"/>
          <a:fontRef idx="minor"/>
        </p:style>
        <p:txBody>
          <a:bodyPr lIns="262080" rIns="262080" tIns="282960" bIns="282960" anchor="ctr">
            <a:noAutofit/>
          </a:bodyPr>
          <a:p>
            <a:pPr algn="ctr">
              <a:lnSpc>
                <a:spcPct val="90000"/>
              </a:lnSpc>
              <a:spcAft>
                <a:spcPts val="1400"/>
              </a:spcAft>
              <a:tabLst>
                <a:tab algn="l" pos="0"/>
                <a:tab algn="l" pos="1422360"/>
                <a:tab algn="l" pos="2844720"/>
                <a:tab algn="l" pos="4267080"/>
                <a:tab algn="l" pos="5689440"/>
                <a:tab algn="l" pos="7112160"/>
                <a:tab algn="l" pos="8534520"/>
                <a:tab algn="l" pos="9956880"/>
              </a:tabLst>
            </a:pPr>
            <a:endParaRPr b="0" lang="en-US" sz="1800" spc="-1" strike="noStrike">
              <a:solidFill>
                <a:srgbClr val="000000"/>
              </a:solidFill>
              <a:latin typeface="Calibri"/>
            </a:endParaRPr>
          </a:p>
        </p:txBody>
      </p:sp>
      <p:sp>
        <p:nvSpPr>
          <p:cNvPr id="401" name="KSO_Shape"/>
          <p:cNvSpPr/>
          <p:nvPr/>
        </p:nvSpPr>
        <p:spPr>
          <a:xfrm>
            <a:off x="4302000" y="3068640"/>
            <a:ext cx="538200" cy="72072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KSO_Shape"/>
          <p:cNvSpPr/>
          <p:nvPr/>
        </p:nvSpPr>
        <p:spPr>
          <a:xfrm>
            <a:off x="7259760" y="3068640"/>
            <a:ext cx="720720" cy="72072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KSO_Shape"/>
          <p:cNvSpPr/>
          <p:nvPr/>
        </p:nvSpPr>
        <p:spPr>
          <a:xfrm>
            <a:off x="6472080" y="4392720"/>
            <a:ext cx="720720" cy="71892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KSO_Shape"/>
          <p:cNvSpPr/>
          <p:nvPr/>
        </p:nvSpPr>
        <p:spPr>
          <a:xfrm>
            <a:off x="6472080" y="1746360"/>
            <a:ext cx="720720" cy="71892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KSO_Shape"/>
          <p:cNvSpPr/>
          <p:nvPr/>
        </p:nvSpPr>
        <p:spPr>
          <a:xfrm>
            <a:off x="5011560" y="1701720"/>
            <a:ext cx="628920" cy="7192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KSO_Shape"/>
          <p:cNvSpPr/>
          <p:nvPr/>
        </p:nvSpPr>
        <p:spPr>
          <a:xfrm>
            <a:off x="4979880" y="4392720"/>
            <a:ext cx="719280" cy="71892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TextBox 42"/>
          <p:cNvSpPr/>
          <p:nvPr/>
        </p:nvSpPr>
        <p:spPr>
          <a:xfrm>
            <a:off x="2246400" y="1571760"/>
            <a:ext cx="1977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08" name="TextBox 43"/>
          <p:cNvSpPr/>
          <p:nvPr/>
        </p:nvSpPr>
        <p:spPr>
          <a:xfrm>
            <a:off x="2063880" y="188604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09" name="TextBox 42"/>
          <p:cNvSpPr/>
          <p:nvPr/>
        </p:nvSpPr>
        <p:spPr>
          <a:xfrm>
            <a:off x="2181240" y="437832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0" name="TextBox 43"/>
          <p:cNvSpPr/>
          <p:nvPr/>
        </p:nvSpPr>
        <p:spPr>
          <a:xfrm>
            <a:off x="1996920" y="4692600"/>
            <a:ext cx="2160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1" name="TextBox 42"/>
          <p:cNvSpPr/>
          <p:nvPr/>
        </p:nvSpPr>
        <p:spPr>
          <a:xfrm>
            <a:off x="7980480" y="4354560"/>
            <a:ext cx="197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2" name="TextBox 43"/>
          <p:cNvSpPr/>
          <p:nvPr/>
        </p:nvSpPr>
        <p:spPr>
          <a:xfrm>
            <a:off x="7980480" y="4668840"/>
            <a:ext cx="2160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3" name="TextBox 42"/>
          <p:cNvSpPr/>
          <p:nvPr/>
        </p:nvSpPr>
        <p:spPr>
          <a:xfrm>
            <a:off x="8672400" y="298764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4" name="TextBox 43"/>
          <p:cNvSpPr/>
          <p:nvPr/>
        </p:nvSpPr>
        <p:spPr>
          <a:xfrm>
            <a:off x="8672400" y="330372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5" name="TextBox 42"/>
          <p:cNvSpPr/>
          <p:nvPr/>
        </p:nvSpPr>
        <p:spPr>
          <a:xfrm>
            <a:off x="7885080" y="1633680"/>
            <a:ext cx="197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6" name="TextBox 43"/>
          <p:cNvSpPr/>
          <p:nvPr/>
        </p:nvSpPr>
        <p:spPr>
          <a:xfrm>
            <a:off x="7885080" y="1947960"/>
            <a:ext cx="2160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
        <p:nvSpPr>
          <p:cNvPr id="417" name="TextBox 42"/>
          <p:cNvSpPr/>
          <p:nvPr/>
        </p:nvSpPr>
        <p:spPr>
          <a:xfrm>
            <a:off x="1542960" y="3016080"/>
            <a:ext cx="19764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18" name="TextBox 43"/>
          <p:cNvSpPr/>
          <p:nvPr/>
        </p:nvSpPr>
        <p:spPr>
          <a:xfrm>
            <a:off x="1359000" y="3330720"/>
            <a:ext cx="216036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a:t>
            </a:r>
            <a:endParaRPr b="0" lang="en-US" sz="10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组合 1"/>
          <p:cNvGrpSpPr/>
          <p:nvPr/>
        </p:nvGrpSpPr>
        <p:grpSpPr>
          <a:xfrm>
            <a:off x="4691160" y="1144440"/>
            <a:ext cx="6356160" cy="2378160"/>
            <a:chOff x="4691160" y="1144440"/>
            <a:chExt cx="6356160" cy="2378160"/>
          </a:xfrm>
        </p:grpSpPr>
        <p:sp>
          <p:nvSpPr>
            <p:cNvPr id="420" name="矩形 2"/>
            <p:cNvSpPr/>
            <p:nvPr/>
          </p:nvSpPr>
          <p:spPr>
            <a:xfrm>
              <a:off x="4691160" y="1252080"/>
              <a:ext cx="6356160" cy="22705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3"/>
            <p:cNvSpPr/>
            <p:nvPr/>
          </p:nvSpPr>
          <p:spPr>
            <a:xfrm>
              <a:off x="4691160" y="1144440"/>
              <a:ext cx="6356160" cy="10764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422" name="图片 5" descr=""/>
          <p:cNvPicPr/>
          <p:nvPr/>
        </p:nvPicPr>
        <p:blipFill>
          <a:blip r:embed="rId1"/>
          <a:srcRect l="24987" t="0" r="24987" b="0"/>
          <a:stretch/>
        </p:blipFill>
        <p:spPr>
          <a:xfrm>
            <a:off x="1144440" y="1144440"/>
            <a:ext cx="3426120" cy="4569120"/>
          </a:xfrm>
          <a:prstGeom prst="rect">
            <a:avLst/>
          </a:prstGeom>
          <a:ln w="0">
            <a:noFill/>
          </a:ln>
        </p:spPr>
      </p:pic>
      <p:sp>
        <p:nvSpPr>
          <p:cNvPr id="423" name="TextBox 15"/>
          <p:cNvSpPr/>
          <p:nvPr/>
        </p:nvSpPr>
        <p:spPr>
          <a:xfrm>
            <a:off x="4965840" y="1946160"/>
            <a:ext cx="5838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Calibri"/>
            </a:endParaRPr>
          </a:p>
        </p:txBody>
      </p:sp>
      <p:pic>
        <p:nvPicPr>
          <p:cNvPr id="424" name="图片 7" descr=""/>
          <p:cNvPicPr/>
          <p:nvPr/>
        </p:nvPicPr>
        <p:blipFill>
          <a:blip r:embed="rId2"/>
          <a:srcRect l="51804" t="0" r="1280" b="6233"/>
          <a:stretch/>
        </p:blipFill>
        <p:spPr>
          <a:xfrm>
            <a:off x="9545760" y="3708360"/>
            <a:ext cx="1501560" cy="2005200"/>
          </a:xfrm>
          <a:prstGeom prst="rect">
            <a:avLst/>
          </a:prstGeom>
          <a:ln w="0">
            <a:noFill/>
          </a:ln>
        </p:spPr>
      </p:pic>
      <p:grpSp>
        <p:nvGrpSpPr>
          <p:cNvPr id="425" name="组合 8"/>
          <p:cNvGrpSpPr/>
          <p:nvPr/>
        </p:nvGrpSpPr>
        <p:grpSpPr>
          <a:xfrm>
            <a:off x="4691160" y="3708360"/>
            <a:ext cx="4732200" cy="2005200"/>
            <a:chOff x="4691160" y="3708360"/>
            <a:chExt cx="4732200" cy="2005200"/>
          </a:xfrm>
        </p:grpSpPr>
        <p:sp>
          <p:nvSpPr>
            <p:cNvPr id="426" name="矩形 9"/>
            <p:cNvSpPr/>
            <p:nvPr/>
          </p:nvSpPr>
          <p:spPr>
            <a:xfrm>
              <a:off x="4691160" y="3798720"/>
              <a:ext cx="4732200" cy="191484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矩形 10"/>
            <p:cNvSpPr/>
            <p:nvPr/>
          </p:nvSpPr>
          <p:spPr>
            <a:xfrm>
              <a:off x="4691160" y="3708360"/>
              <a:ext cx="4732200" cy="90360"/>
            </a:xfrm>
            <a:prstGeom prst="rect">
              <a:avLst/>
            </a:prstGeom>
            <a:solidFill>
              <a:srgbClr val="179a44"/>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8" name="TextBox 15"/>
          <p:cNvSpPr/>
          <p:nvPr/>
        </p:nvSpPr>
        <p:spPr>
          <a:xfrm>
            <a:off x="4965840" y="45194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Calibri"/>
            </a:endParaRPr>
          </a:p>
        </p:txBody>
      </p:sp>
      <p:sp>
        <p:nvSpPr>
          <p:cNvPr id="429" name="矩形 12"/>
          <p:cNvSpPr/>
          <p:nvPr/>
        </p:nvSpPr>
        <p:spPr>
          <a:xfrm>
            <a:off x="5883480" y="136044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Calibri"/>
            </a:endParaRPr>
          </a:p>
        </p:txBody>
      </p:sp>
      <p:sp>
        <p:nvSpPr>
          <p:cNvPr id="430" name="矩形 13"/>
          <p:cNvSpPr/>
          <p:nvPr/>
        </p:nvSpPr>
        <p:spPr>
          <a:xfrm>
            <a:off x="6427800" y="39304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5"/>
          <p:cNvSpPr/>
          <p:nvPr/>
        </p:nvSpPr>
        <p:spPr>
          <a:xfrm>
            <a:off x="5796000" y="-28440"/>
            <a:ext cx="600120" cy="60156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grpSp>
        <p:nvGrpSpPr>
          <p:cNvPr id="432" name="组合 2"/>
          <p:cNvGrpSpPr/>
          <p:nvPr/>
        </p:nvGrpSpPr>
        <p:grpSpPr>
          <a:xfrm>
            <a:off x="4756680" y="1434960"/>
            <a:ext cx="2678400" cy="3979800"/>
            <a:chOff x="4756680" y="1434960"/>
            <a:chExt cx="2678400" cy="3979800"/>
          </a:xfrm>
        </p:grpSpPr>
        <p:sp>
          <p:nvSpPr>
            <p:cNvPr id="433" name="矩形 1"/>
            <p:cNvSpPr/>
            <p:nvPr/>
          </p:nvSpPr>
          <p:spPr>
            <a:xfrm>
              <a:off x="4756680" y="4284720"/>
              <a:ext cx="26784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方法</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Research Process</a:t>
              </a:r>
              <a:endParaRPr b="0" lang="en-US" sz="2400" spc="-1" strike="noStrike">
                <a:solidFill>
                  <a:srgbClr val="000000"/>
                </a:solidFill>
                <a:latin typeface="Calibri"/>
              </a:endParaRPr>
            </a:p>
          </p:txBody>
        </p:sp>
        <p:grpSp>
          <p:nvGrpSpPr>
            <p:cNvPr id="434" name="组合 18"/>
            <p:cNvGrpSpPr/>
            <p:nvPr/>
          </p:nvGrpSpPr>
          <p:grpSpPr>
            <a:xfrm>
              <a:off x="4937760" y="1434960"/>
              <a:ext cx="2430360" cy="2431080"/>
              <a:chOff x="4937760" y="1434960"/>
              <a:chExt cx="2430360" cy="2431080"/>
            </a:xfrm>
          </p:grpSpPr>
          <p:sp>
            <p:nvSpPr>
              <p:cNvPr id="435" name="KSO_Shape"/>
              <p:cNvSpPr/>
              <p:nvPr/>
            </p:nvSpPr>
            <p:spPr>
              <a:xfrm>
                <a:off x="5478840" y="1854000"/>
                <a:ext cx="1347840" cy="159264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椭圆 20"/>
              <p:cNvSpPr/>
              <p:nvPr/>
            </p:nvSpPr>
            <p:spPr>
              <a:xfrm>
                <a:off x="4937760" y="1434960"/>
                <a:ext cx="2430360" cy="243108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图表 1" descr=""/>
          <p:cNvPicPr/>
          <p:nvPr/>
        </p:nvPicPr>
        <p:blipFill>
          <a:blip r:embed="rId1"/>
          <a:stretch/>
        </p:blipFill>
        <p:spPr>
          <a:xfrm>
            <a:off x="493560" y="890640"/>
            <a:ext cx="11204640" cy="50767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图表 1" descr=""/>
          <p:cNvPicPr/>
          <p:nvPr/>
        </p:nvPicPr>
        <p:blipFill>
          <a:blip r:embed="rId1"/>
          <a:stretch/>
        </p:blipFill>
        <p:spPr>
          <a:xfrm>
            <a:off x="239760" y="793800"/>
            <a:ext cx="8229600" cy="5270400"/>
          </a:xfrm>
          <a:prstGeom prst="rect">
            <a:avLst/>
          </a:prstGeom>
          <a:ln w="0">
            <a:noFill/>
          </a:ln>
        </p:spPr>
      </p:pic>
      <p:grpSp>
        <p:nvGrpSpPr>
          <p:cNvPr id="439" name="组合 2"/>
          <p:cNvGrpSpPr/>
          <p:nvPr/>
        </p:nvGrpSpPr>
        <p:grpSpPr>
          <a:xfrm>
            <a:off x="8388360" y="2225520"/>
            <a:ext cx="655560" cy="654120"/>
            <a:chOff x="8388360" y="2225520"/>
            <a:chExt cx="655560" cy="654120"/>
          </a:xfrm>
        </p:grpSpPr>
        <p:sp>
          <p:nvSpPr>
            <p:cNvPr id="440" name="椭圆 3"/>
            <p:cNvSpPr/>
            <p:nvPr/>
          </p:nvSpPr>
          <p:spPr>
            <a:xfrm>
              <a:off x="8388360" y="2225520"/>
              <a:ext cx="655560" cy="65412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KSO_Shape"/>
            <p:cNvSpPr/>
            <p:nvPr/>
          </p:nvSpPr>
          <p:spPr>
            <a:xfrm>
              <a:off x="8582040" y="2369880"/>
              <a:ext cx="268200" cy="36504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2" name="组合 5"/>
          <p:cNvGrpSpPr/>
          <p:nvPr/>
        </p:nvGrpSpPr>
        <p:grpSpPr>
          <a:xfrm>
            <a:off x="8388360" y="3808440"/>
            <a:ext cx="655560" cy="654120"/>
            <a:chOff x="8388360" y="3808440"/>
            <a:chExt cx="655560" cy="654120"/>
          </a:xfrm>
        </p:grpSpPr>
        <p:sp>
          <p:nvSpPr>
            <p:cNvPr id="443" name="椭圆 6"/>
            <p:cNvSpPr/>
            <p:nvPr/>
          </p:nvSpPr>
          <p:spPr>
            <a:xfrm>
              <a:off x="8388360" y="3808440"/>
              <a:ext cx="655560" cy="65412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KSO_Shape"/>
            <p:cNvSpPr/>
            <p:nvPr/>
          </p:nvSpPr>
          <p:spPr>
            <a:xfrm>
              <a:off x="8553240" y="3979800"/>
              <a:ext cx="325440" cy="3110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45" name="矩形 8"/>
          <p:cNvSpPr/>
          <p:nvPr/>
        </p:nvSpPr>
        <p:spPr>
          <a:xfrm>
            <a:off x="9132840" y="207648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
        <p:nvSpPr>
          <p:cNvPr id="446" name="矩形 9"/>
          <p:cNvSpPr/>
          <p:nvPr/>
        </p:nvSpPr>
        <p:spPr>
          <a:xfrm>
            <a:off x="9209160" y="3719520"/>
            <a:ext cx="2692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d4d4d"/>
                </a:solidFill>
                <a:latin typeface="微软雅黑"/>
                <a:ea typeface="微软雅黑"/>
              </a:rPr>
              <a:t>点击添加内容文本</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单击此处添加段落文本</a:t>
            </a:r>
            <a:endParaRPr b="0" lang="en-US" sz="14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3"/>
          <p:cNvSpPr/>
          <p:nvPr/>
        </p:nvSpPr>
        <p:spPr>
          <a:xfrm>
            <a:off x="5315040" y="2806560"/>
            <a:ext cx="14763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Calibri"/>
            </a:endParaRPr>
          </a:p>
        </p:txBody>
      </p:sp>
      <p:grpSp>
        <p:nvGrpSpPr>
          <p:cNvPr id="448" name="组合 2"/>
          <p:cNvGrpSpPr/>
          <p:nvPr/>
        </p:nvGrpSpPr>
        <p:grpSpPr>
          <a:xfrm>
            <a:off x="2994120" y="702720"/>
            <a:ext cx="5872320" cy="5820840"/>
            <a:chOff x="2994120" y="702720"/>
            <a:chExt cx="5872320" cy="5820840"/>
          </a:xfrm>
        </p:grpSpPr>
        <p:sp>
          <p:nvSpPr>
            <p:cNvPr id="449" name="AutoShape 4"/>
            <p:cNvSpPr/>
            <p:nvPr/>
          </p:nvSpPr>
          <p:spPr>
            <a:xfrm rot="19367400">
              <a:off x="3776760" y="1593360"/>
              <a:ext cx="4306680" cy="4038840"/>
            </a:xfrm>
            <a:custGeom>
              <a:avLst/>
              <a:gdLst/>
              <a:ahLst/>
              <a:rect l="l" t="t" r="r" b="b"/>
              <a:pathLst>
                <a:path w="21600" h="2042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05a24"/>
            </a:solidFill>
            <a:ln w="0">
              <a:noFill/>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WordArt 7"/>
            <p:cNvSpPr txBox="1"/>
            <p:nvPr/>
          </p:nvSpPr>
          <p:spPr>
            <a:xfrm rot="3394200">
              <a:off x="5330160" y="2168640"/>
              <a:ext cx="2444400" cy="202716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51" name="组合 5"/>
          <p:cNvGrpSpPr/>
          <p:nvPr/>
        </p:nvGrpSpPr>
        <p:grpSpPr>
          <a:xfrm>
            <a:off x="7593120" y="1778040"/>
            <a:ext cx="2751120" cy="1005840"/>
            <a:chOff x="7593120" y="1778040"/>
            <a:chExt cx="2751120" cy="1005840"/>
          </a:xfrm>
        </p:grpSpPr>
        <p:grpSp>
          <p:nvGrpSpPr>
            <p:cNvPr id="452" name=""/>
            <p:cNvGrpSpPr/>
            <p:nvPr/>
          </p:nvGrpSpPr>
          <p:grpSpPr>
            <a:xfrm>
              <a:off x="7593120" y="2206440"/>
              <a:ext cx="2751120" cy="360"/>
              <a:chOff x="7593120" y="2206440"/>
              <a:chExt cx="2751120" cy="360"/>
            </a:xfrm>
          </p:grpSpPr>
          <p:sp>
            <p:nvSpPr>
              <p:cNvPr id="453" name="Line 19"/>
              <p:cNvSpPr/>
              <p:nvPr/>
            </p:nvSpPr>
            <p:spPr>
              <a:xfrm flipH="1">
                <a:off x="7593120" y="2206440"/>
                <a:ext cx="2751120" cy="0"/>
              </a:xfrm>
              <a:prstGeom prst="line">
                <a:avLst/>
              </a:prstGeom>
              <a:ln w="19080">
                <a:solidFill>
                  <a:srgbClr val="f05a2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
              <p:cNvSpPr txBox="1"/>
              <p:nvPr/>
            </p:nvSpPr>
            <p:spPr>
              <a:xfrm>
                <a:off x="7593120" y="220644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5" name="TextBox 19"/>
            <p:cNvSpPr/>
            <p:nvPr/>
          </p:nvSpPr>
          <p:spPr>
            <a:xfrm>
              <a:off x="8325000" y="177804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56" name="TextBox 20"/>
            <p:cNvSpPr/>
            <p:nvPr/>
          </p:nvSpPr>
          <p:spPr>
            <a:xfrm>
              <a:off x="8193240" y="2233440"/>
              <a:ext cx="214020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57" name="组合 1"/>
          <p:cNvGrpSpPr/>
          <p:nvPr/>
        </p:nvGrpSpPr>
        <p:grpSpPr>
          <a:xfrm>
            <a:off x="3472200" y="883080"/>
            <a:ext cx="5523840" cy="5377320"/>
            <a:chOff x="3472200" y="883080"/>
            <a:chExt cx="5523840" cy="5377320"/>
          </a:xfrm>
        </p:grpSpPr>
        <p:sp>
          <p:nvSpPr>
            <p:cNvPr id="458" name="AutoShape 6"/>
            <p:cNvSpPr/>
            <p:nvPr/>
          </p:nvSpPr>
          <p:spPr>
            <a:xfrm rot="12146400">
              <a:off x="4079880" y="1552320"/>
              <a:ext cx="4308480" cy="4038480"/>
            </a:xfrm>
            <a:custGeom>
              <a:avLst/>
              <a:gdLst/>
              <a:ahLst/>
              <a:rect l="l" t="t" r="r" b="b"/>
              <a:pathLst>
                <a:path w="21600" h="2042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a362c4"/>
            </a:solidFill>
            <a:ln w="3240">
              <a:solidFill>
                <a:srgbClr val="eaeaea"/>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WordArt 9"/>
            <p:cNvSpPr txBox="1"/>
            <p:nvPr/>
          </p:nvSpPr>
          <p:spPr>
            <a:xfrm rot="17984400">
              <a:off x="4313160" y="2237400"/>
              <a:ext cx="2444760" cy="2025720"/>
            </a:xfrm>
            <a:prstGeom prst="rect">
              <a:avLst/>
            </a:prstGeom>
          </p:spPr>
          <p:txBody>
            <a:bodyPr wrap="none" fromWordArt="1" lIns="90000" rIns="90000" tIns="46800" bIns="46800" anchor="t" anchorCtr="1">
              <a:prstTxWarp prst="textArchUp">
                <a:avLst>
                  <a:gd name="adj" fmla="val 13089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0" name="组合 12"/>
          <p:cNvGrpSpPr/>
          <p:nvPr/>
        </p:nvGrpSpPr>
        <p:grpSpPr>
          <a:xfrm>
            <a:off x="1847880" y="1784520"/>
            <a:ext cx="2770200" cy="1024920"/>
            <a:chOff x="1847880" y="1784520"/>
            <a:chExt cx="2770200" cy="1024920"/>
          </a:xfrm>
        </p:grpSpPr>
        <p:grpSp>
          <p:nvGrpSpPr>
            <p:cNvPr id="461" name=""/>
            <p:cNvGrpSpPr/>
            <p:nvPr/>
          </p:nvGrpSpPr>
          <p:grpSpPr>
            <a:xfrm>
              <a:off x="1865160" y="2206800"/>
              <a:ext cx="2752920" cy="360"/>
              <a:chOff x="1865160" y="2206800"/>
              <a:chExt cx="2752920" cy="360"/>
            </a:xfrm>
          </p:grpSpPr>
          <p:sp>
            <p:nvSpPr>
              <p:cNvPr id="462" name="Line 17"/>
              <p:cNvSpPr/>
              <p:nvPr/>
            </p:nvSpPr>
            <p:spPr>
              <a:xfrm>
                <a:off x="1865160" y="2206800"/>
                <a:ext cx="2752920" cy="0"/>
              </a:xfrm>
              <a:prstGeom prst="line">
                <a:avLst/>
              </a:prstGeom>
              <a:ln w="19080">
                <a:solidFill>
                  <a:srgbClr val="a362c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3" name=""/>
              <p:cNvSpPr txBox="1"/>
              <p:nvPr/>
            </p:nvSpPr>
            <p:spPr>
              <a:xfrm>
                <a:off x="1865160" y="2206800"/>
                <a:ext cx="27529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4" name="TextBox 42"/>
            <p:cNvSpPr/>
            <p:nvPr/>
          </p:nvSpPr>
          <p:spPr>
            <a:xfrm>
              <a:off x="1847880" y="178452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65" name="TextBox 43"/>
            <p:cNvSpPr/>
            <p:nvPr/>
          </p:nvSpPr>
          <p:spPr>
            <a:xfrm>
              <a:off x="1847880" y="2259000"/>
              <a:ext cx="2160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Calibri"/>
              </a:endParaRPr>
            </a:p>
          </p:txBody>
        </p:sp>
      </p:grpSp>
      <p:grpSp>
        <p:nvGrpSpPr>
          <p:cNvPr id="466" name="组合 3"/>
          <p:cNvGrpSpPr/>
          <p:nvPr/>
        </p:nvGrpSpPr>
        <p:grpSpPr>
          <a:xfrm>
            <a:off x="3864960" y="973080"/>
            <a:ext cx="4369680" cy="4723560"/>
            <a:chOff x="3864960" y="973080"/>
            <a:chExt cx="4369680" cy="4723560"/>
          </a:xfrm>
        </p:grpSpPr>
        <p:sp>
          <p:nvSpPr>
            <p:cNvPr id="467" name="AutoShape 5"/>
            <p:cNvSpPr/>
            <p:nvPr/>
          </p:nvSpPr>
          <p:spPr>
            <a:xfrm rot="5077800">
              <a:off x="3864240" y="1345320"/>
              <a:ext cx="4370400" cy="3978360"/>
            </a:xfrm>
            <a:custGeom>
              <a:avLst/>
              <a:gdLst/>
              <a:ahLst/>
              <a:rect l="l" t="t" r="r" b="b"/>
              <a:pathLst>
                <a:path w="21600" h="2042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179a44"/>
            </a:solidFill>
            <a:ln w="3240">
              <a:solidFill>
                <a:srgbClr val="d4e4ff"/>
              </a:solidFill>
              <a:round/>
            </a:ln>
            <a:effectLst>
              <a:outerShdw dist="38183" dir="2700000" blurRad="0" rotWithShape="0">
                <a:srgbClr val="000000">
                  <a:alpha val="40000"/>
                </a:srgbClr>
              </a:outerShdw>
            </a:effectLst>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WordArt 8"/>
            <p:cNvSpPr txBox="1"/>
            <p:nvPr/>
          </p:nvSpPr>
          <p:spPr>
            <a:xfrm rot="79200">
              <a:off x="4631400" y="3052080"/>
              <a:ext cx="2831760" cy="2056680"/>
            </a:xfrm>
            <a:prstGeom prst="rect">
              <a:avLst/>
            </a:prstGeom>
          </p:spPr>
          <p:txBody>
            <a:bodyPr wrap="none" fromWordArt="1" lIns="90000" rIns="90000" tIns="46800" bIns="46800" anchor="t" anchorCtr="1">
              <a:prstTxWarp prst="textArchDown">
                <a:avLst>
                  <a:gd name="adj" fmla="val 28914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0">
                    <a:noFill/>
                  </a:ln>
                  <a:solidFill>
                    <a:srgbClr val="ffffff"/>
                  </a:solidFill>
                  <a:latin typeface="微软雅黑"/>
                </a:rPr>
                <a:t>单击此处添加文字</a:t>
              </a:r>
              <a:endParaRPr b="0" lang="en-US" sz="2000" spc="-1" strike="noStrike">
                <a:ln w="0">
                  <a:noFill/>
                </a:ln>
                <a:solidFill>
                  <a:srgbClr val="ffffff"/>
                </a:solidFill>
                <a:latin typeface="微软雅黑"/>
                <a:ea typeface="微软雅黑"/>
              </a:endParaRPr>
            </a:p>
          </p:txBody>
        </p:sp>
      </p:grpSp>
      <p:grpSp>
        <p:nvGrpSpPr>
          <p:cNvPr id="469" name="组合 19"/>
          <p:cNvGrpSpPr/>
          <p:nvPr/>
        </p:nvGrpSpPr>
        <p:grpSpPr>
          <a:xfrm>
            <a:off x="7464600" y="4540320"/>
            <a:ext cx="2830320" cy="853920"/>
            <a:chOff x="7464600" y="4540320"/>
            <a:chExt cx="2830320" cy="853920"/>
          </a:xfrm>
        </p:grpSpPr>
        <p:grpSp>
          <p:nvGrpSpPr>
            <p:cNvPr id="470" name=""/>
            <p:cNvGrpSpPr/>
            <p:nvPr/>
          </p:nvGrpSpPr>
          <p:grpSpPr>
            <a:xfrm>
              <a:off x="7464600" y="4956120"/>
              <a:ext cx="2751120" cy="360"/>
              <a:chOff x="7464600" y="4956120"/>
              <a:chExt cx="2751120" cy="360"/>
            </a:xfrm>
          </p:grpSpPr>
          <p:sp>
            <p:nvSpPr>
              <p:cNvPr id="471" name="Line 18"/>
              <p:cNvSpPr/>
              <p:nvPr/>
            </p:nvSpPr>
            <p:spPr>
              <a:xfrm flipH="1">
                <a:off x="7464600" y="4956120"/>
                <a:ext cx="2751120" cy="0"/>
              </a:xfrm>
              <a:prstGeom prst="line">
                <a:avLst/>
              </a:prstGeom>
              <a:ln w="19080">
                <a:solidFill>
                  <a:srgbClr val="179a44"/>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2" name=""/>
              <p:cNvSpPr txBox="1"/>
              <p:nvPr/>
            </p:nvSpPr>
            <p:spPr>
              <a:xfrm>
                <a:off x="7464600" y="4956120"/>
                <a:ext cx="2751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19"/>
            <p:cNvSpPr/>
            <p:nvPr/>
          </p:nvSpPr>
          <p:spPr>
            <a:xfrm>
              <a:off x="8255160" y="4540320"/>
              <a:ext cx="197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文本</a:t>
              </a:r>
              <a:endParaRPr b="0" lang="en-US" sz="1800" spc="-1" strike="noStrike">
                <a:solidFill>
                  <a:srgbClr val="000000"/>
                </a:solidFill>
                <a:latin typeface="Calibri"/>
              </a:endParaRPr>
            </a:p>
          </p:txBody>
        </p:sp>
        <p:sp>
          <p:nvSpPr>
            <p:cNvPr id="474" name="TextBox 20"/>
            <p:cNvSpPr/>
            <p:nvPr/>
          </p:nvSpPr>
          <p:spPr>
            <a:xfrm>
              <a:off x="8317080" y="5072040"/>
              <a:ext cx="1977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Calibri"/>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矩形 31"/>
          <p:cNvSpPr/>
          <p:nvPr/>
        </p:nvSpPr>
        <p:spPr>
          <a:xfrm>
            <a:off x="0" y="2336760"/>
            <a:ext cx="12212640" cy="2184480"/>
          </a:xfrm>
          <a:prstGeom prst="rect">
            <a:avLst/>
          </a:prstGeom>
          <a:solidFill>
            <a:srgbClr val="f2f2f2">
              <a:alpha val="9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1"/>
          <p:cNvSpPr/>
          <p:nvPr/>
        </p:nvSpPr>
        <p:spPr>
          <a:xfrm>
            <a:off x="3038760" y="890640"/>
            <a:ext cx="193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aaf3b"/>
                </a:solidFill>
                <a:latin typeface="微软雅黑"/>
                <a:ea typeface="微软雅黑"/>
              </a:rPr>
              <a:t>课题综述</a:t>
            </a:r>
            <a:r>
              <a:rPr b="0" lang="en-US" sz="1800" spc="-1" strike="noStrike">
                <a:solidFill>
                  <a:srgbClr val="faaf3b"/>
                </a:solidFill>
                <a:latin typeface="微软雅黑"/>
                <a:ea typeface="微软雅黑"/>
              </a:rPr>
              <a:t>/</a:t>
            </a:r>
            <a:r>
              <a:rPr b="0" lang="en-US" sz="1200" spc="-1" strike="noStrike">
                <a:solidFill>
                  <a:srgbClr val="ffffff"/>
                </a:solidFill>
                <a:latin typeface="Calibri"/>
              </a:rPr>
              <a:t>Project Overview</a:t>
            </a:r>
            <a:endParaRPr b="0" lang="en-US" sz="1200" spc="-1" strike="noStrike">
              <a:solidFill>
                <a:srgbClr val="000000"/>
              </a:solidFill>
              <a:latin typeface="Calibri"/>
            </a:endParaRPr>
          </a:p>
        </p:txBody>
      </p:sp>
      <p:sp>
        <p:nvSpPr>
          <p:cNvPr id="190" name="矩形 2"/>
          <p:cNvSpPr/>
          <p:nvPr/>
        </p:nvSpPr>
        <p:spPr>
          <a:xfrm>
            <a:off x="3035880" y="1846440"/>
            <a:ext cx="1872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05a24"/>
                </a:solidFill>
                <a:latin typeface="微软雅黑"/>
                <a:ea typeface="微软雅黑"/>
              </a:rPr>
              <a:t>研究背景</a:t>
            </a:r>
            <a:r>
              <a:rPr b="0" lang="en-US" sz="1800" spc="-1" strike="noStrike">
                <a:solidFill>
                  <a:srgbClr val="f05a24"/>
                </a:solidFill>
                <a:latin typeface="微软雅黑"/>
                <a:ea typeface="微软雅黑"/>
              </a:rPr>
              <a:t>/</a:t>
            </a:r>
            <a:r>
              <a:rPr b="0" lang="en-US" sz="1200" spc="-1" strike="noStrike">
                <a:solidFill>
                  <a:srgbClr val="ffffff"/>
                </a:solidFill>
                <a:latin typeface="Calibri"/>
              </a:rPr>
              <a:t>The Background</a:t>
            </a:r>
            <a:endParaRPr b="0" lang="en-US" sz="1200" spc="-1" strike="noStrike">
              <a:solidFill>
                <a:srgbClr val="000000"/>
              </a:solidFill>
              <a:latin typeface="Calibri"/>
            </a:endParaRPr>
          </a:p>
        </p:txBody>
      </p:sp>
      <p:sp>
        <p:nvSpPr>
          <p:cNvPr id="191" name="矩形 3"/>
          <p:cNvSpPr/>
          <p:nvPr/>
        </p:nvSpPr>
        <p:spPr>
          <a:xfrm>
            <a:off x="3036600" y="3757680"/>
            <a:ext cx="194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9839b"/>
                </a:solidFill>
                <a:latin typeface="微软雅黑"/>
                <a:ea typeface="微软雅黑"/>
              </a:rPr>
              <a:t>研究方法</a:t>
            </a:r>
            <a:r>
              <a:rPr b="0" lang="en-US" sz="1800" spc="-1" strike="noStrike">
                <a:solidFill>
                  <a:srgbClr val="09839b"/>
                </a:solidFill>
                <a:latin typeface="微软雅黑"/>
                <a:ea typeface="微软雅黑"/>
              </a:rPr>
              <a:t>/</a:t>
            </a:r>
            <a:r>
              <a:rPr b="0" lang="en-US" sz="1200" spc="-1" strike="noStrike">
                <a:solidFill>
                  <a:srgbClr val="09839b"/>
                </a:solidFill>
                <a:latin typeface="Calibri"/>
              </a:rPr>
              <a:t>Research Process</a:t>
            </a:r>
            <a:endParaRPr b="0" lang="en-US" sz="1200" spc="-1" strike="noStrike">
              <a:solidFill>
                <a:srgbClr val="000000"/>
              </a:solidFill>
              <a:latin typeface="Calibri"/>
            </a:endParaRPr>
          </a:p>
        </p:txBody>
      </p:sp>
      <p:sp>
        <p:nvSpPr>
          <p:cNvPr id="192" name="矩形 4"/>
          <p:cNvSpPr/>
          <p:nvPr/>
        </p:nvSpPr>
        <p:spPr>
          <a:xfrm>
            <a:off x="3035880" y="4711680"/>
            <a:ext cx="157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79a44"/>
                </a:solidFill>
                <a:latin typeface="微软雅黑"/>
                <a:ea typeface="微软雅黑"/>
              </a:rPr>
              <a:t>研究结果</a:t>
            </a:r>
            <a:r>
              <a:rPr b="0" lang="en-US" sz="1800" spc="-1" strike="noStrike">
                <a:solidFill>
                  <a:srgbClr val="179a44"/>
                </a:solidFill>
                <a:latin typeface="微软雅黑"/>
                <a:ea typeface="微软雅黑"/>
              </a:rPr>
              <a:t>/</a:t>
            </a:r>
            <a:r>
              <a:rPr b="0" lang="en-US" sz="1200" spc="-1" strike="noStrike">
                <a:solidFill>
                  <a:srgbClr val="ffffff"/>
                </a:solidFill>
                <a:latin typeface="Calibri"/>
              </a:rPr>
              <a:t>The Results</a:t>
            </a:r>
            <a:endParaRPr b="0" lang="en-US" sz="1200" spc="-1" strike="noStrike">
              <a:solidFill>
                <a:srgbClr val="000000"/>
              </a:solidFill>
              <a:latin typeface="Calibri"/>
            </a:endParaRPr>
          </a:p>
        </p:txBody>
      </p:sp>
      <p:sp>
        <p:nvSpPr>
          <p:cNvPr id="193" name="矩形 5"/>
          <p:cNvSpPr/>
          <p:nvPr/>
        </p:nvSpPr>
        <p:spPr>
          <a:xfrm>
            <a:off x="3036600" y="2801880"/>
            <a:ext cx="175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a362c4"/>
                </a:solidFill>
                <a:latin typeface="微软雅黑"/>
                <a:ea typeface="微软雅黑"/>
              </a:rPr>
              <a:t>研究目的</a:t>
            </a:r>
            <a:r>
              <a:rPr b="0" lang="en-US" sz="1800" spc="-1" strike="noStrike">
                <a:solidFill>
                  <a:srgbClr val="a362c4"/>
                </a:solidFill>
                <a:latin typeface="微软雅黑"/>
                <a:ea typeface="微软雅黑"/>
              </a:rPr>
              <a:t>/</a:t>
            </a:r>
            <a:r>
              <a:rPr b="0" lang="en-US" sz="1200" spc="-1" strike="noStrike">
                <a:solidFill>
                  <a:srgbClr val="09839b"/>
                </a:solidFill>
                <a:latin typeface="Calibri"/>
              </a:rPr>
              <a:t>Research Goal</a:t>
            </a:r>
            <a:endParaRPr b="0" lang="en-US" sz="1200" spc="-1" strike="noStrike">
              <a:solidFill>
                <a:srgbClr val="000000"/>
              </a:solidFill>
              <a:latin typeface="Calibri"/>
            </a:endParaRPr>
          </a:p>
        </p:txBody>
      </p:sp>
      <p:sp>
        <p:nvSpPr>
          <p:cNvPr id="194" name="矩形 6"/>
          <p:cNvSpPr/>
          <p:nvPr/>
        </p:nvSpPr>
        <p:spPr>
          <a:xfrm>
            <a:off x="3031200" y="5667480"/>
            <a:ext cx="176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文献</a:t>
            </a:r>
            <a:r>
              <a:rPr b="0" lang="en-US" sz="1800" spc="-1" strike="noStrike">
                <a:solidFill>
                  <a:srgbClr val="ffffff"/>
                </a:solidFill>
                <a:latin typeface="微软雅黑"/>
                <a:ea typeface="微软雅黑"/>
              </a:rPr>
              <a:t>/</a:t>
            </a:r>
            <a:r>
              <a:rPr b="0" lang="en-US" sz="1200" spc="-1" strike="noStrike">
                <a:solidFill>
                  <a:srgbClr val="ffffff"/>
                </a:solidFill>
                <a:latin typeface="Calibri"/>
              </a:rPr>
              <a:t>The Reference</a:t>
            </a:r>
            <a:endParaRPr b="0" lang="en-US" sz="1200" spc="-1" strike="noStrike">
              <a:solidFill>
                <a:srgbClr val="000000"/>
              </a:solidFill>
              <a:latin typeface="Calibri"/>
            </a:endParaRPr>
          </a:p>
        </p:txBody>
      </p:sp>
      <p:grpSp>
        <p:nvGrpSpPr>
          <p:cNvPr id="195" name="组合 7"/>
          <p:cNvGrpSpPr/>
          <p:nvPr/>
        </p:nvGrpSpPr>
        <p:grpSpPr>
          <a:xfrm>
            <a:off x="1870200" y="2583000"/>
            <a:ext cx="720720" cy="722160"/>
            <a:chOff x="1870200" y="2583000"/>
            <a:chExt cx="720720" cy="722160"/>
          </a:xfrm>
        </p:grpSpPr>
        <p:sp>
          <p:nvSpPr>
            <p:cNvPr id="196" name="KSO_Shape"/>
            <p:cNvSpPr/>
            <p:nvPr/>
          </p:nvSpPr>
          <p:spPr>
            <a:xfrm>
              <a:off x="1996920" y="2706840"/>
              <a:ext cx="466920" cy="474480"/>
            </a:xfrm>
            <a:custGeom>
              <a:avLst/>
              <a:gdLst/>
              <a:ahLst/>
              <a:rect l="l" t="t" r="r" b="b"/>
              <a:pathLst>
                <a:path w="2122487" h="2147888">
                  <a:moveTo>
                    <a:pt x="904800" y="776287"/>
                  </a:moveTo>
                  <a:lnTo>
                    <a:pt x="914580" y="776287"/>
                  </a:lnTo>
                  <a:lnTo>
                    <a:pt x="924095" y="776287"/>
                  </a:lnTo>
                  <a:lnTo>
                    <a:pt x="933610" y="776552"/>
                  </a:lnTo>
                  <a:lnTo>
                    <a:pt x="943390" y="777081"/>
                  </a:lnTo>
                  <a:lnTo>
                    <a:pt x="952906" y="777875"/>
                  </a:lnTo>
                  <a:lnTo>
                    <a:pt x="962421" y="778934"/>
                  </a:lnTo>
                  <a:lnTo>
                    <a:pt x="971937" y="780257"/>
                  </a:lnTo>
                  <a:lnTo>
                    <a:pt x="981452" y="781845"/>
                  </a:lnTo>
                  <a:lnTo>
                    <a:pt x="991232" y="783433"/>
                  </a:lnTo>
                  <a:lnTo>
                    <a:pt x="1000483" y="785551"/>
                  </a:lnTo>
                  <a:lnTo>
                    <a:pt x="1009999" y="787668"/>
                  </a:lnTo>
                  <a:lnTo>
                    <a:pt x="1019250" y="790050"/>
                  </a:lnTo>
                  <a:lnTo>
                    <a:pt x="1028501" y="792432"/>
                  </a:lnTo>
                  <a:lnTo>
                    <a:pt x="1037488" y="795343"/>
                  </a:lnTo>
                  <a:lnTo>
                    <a:pt x="1046475" y="798519"/>
                  </a:lnTo>
                  <a:lnTo>
                    <a:pt x="1055462" y="801431"/>
                  </a:lnTo>
                  <a:lnTo>
                    <a:pt x="1064448" y="804872"/>
                  </a:lnTo>
                  <a:lnTo>
                    <a:pt x="1072907" y="808577"/>
                  </a:lnTo>
                  <a:lnTo>
                    <a:pt x="1081629" y="812282"/>
                  </a:lnTo>
                  <a:lnTo>
                    <a:pt x="1090352" y="815988"/>
                  </a:lnTo>
                  <a:lnTo>
                    <a:pt x="1099074" y="820222"/>
                  </a:lnTo>
                  <a:lnTo>
                    <a:pt x="1107532" y="824457"/>
                  </a:lnTo>
                  <a:lnTo>
                    <a:pt x="1115991" y="828956"/>
                  </a:lnTo>
                  <a:lnTo>
                    <a:pt x="1124449" y="833721"/>
                  </a:lnTo>
                  <a:lnTo>
                    <a:pt x="1132643" y="838485"/>
                  </a:lnTo>
                  <a:lnTo>
                    <a:pt x="1140572" y="843778"/>
                  </a:lnTo>
                  <a:lnTo>
                    <a:pt x="1148766" y="848807"/>
                  </a:lnTo>
                  <a:lnTo>
                    <a:pt x="1156696" y="854100"/>
                  </a:lnTo>
                  <a:lnTo>
                    <a:pt x="1164625" y="859658"/>
                  </a:lnTo>
                  <a:lnTo>
                    <a:pt x="959514" y="1065307"/>
                  </a:lnTo>
                  <a:lnTo>
                    <a:pt x="956342" y="1068483"/>
                  </a:lnTo>
                  <a:lnTo>
                    <a:pt x="953699" y="1071394"/>
                  </a:lnTo>
                  <a:lnTo>
                    <a:pt x="951320" y="1074570"/>
                  </a:lnTo>
                  <a:lnTo>
                    <a:pt x="948941" y="1078011"/>
                  </a:lnTo>
                  <a:lnTo>
                    <a:pt x="946826" y="1081452"/>
                  </a:lnTo>
                  <a:lnTo>
                    <a:pt x="944712" y="1084628"/>
                  </a:lnTo>
                  <a:lnTo>
                    <a:pt x="943126" y="1088333"/>
                  </a:lnTo>
                  <a:lnTo>
                    <a:pt x="941804" y="1092039"/>
                  </a:lnTo>
                  <a:lnTo>
                    <a:pt x="940218" y="1095744"/>
                  </a:lnTo>
                  <a:lnTo>
                    <a:pt x="938897" y="1099185"/>
                  </a:lnTo>
                  <a:lnTo>
                    <a:pt x="938104" y="1103155"/>
                  </a:lnTo>
                  <a:lnTo>
                    <a:pt x="937311" y="1106860"/>
                  </a:lnTo>
                  <a:lnTo>
                    <a:pt x="936518" y="1110830"/>
                  </a:lnTo>
                  <a:lnTo>
                    <a:pt x="935989" y="1114536"/>
                  </a:lnTo>
                  <a:lnTo>
                    <a:pt x="935725" y="1118506"/>
                  </a:lnTo>
                  <a:lnTo>
                    <a:pt x="935725" y="1122211"/>
                  </a:lnTo>
                  <a:lnTo>
                    <a:pt x="935725" y="1126181"/>
                  </a:lnTo>
                  <a:lnTo>
                    <a:pt x="935989" y="1130151"/>
                  </a:lnTo>
                  <a:lnTo>
                    <a:pt x="936518" y="1133857"/>
                  </a:lnTo>
                  <a:lnTo>
                    <a:pt x="937311" y="1137827"/>
                  </a:lnTo>
                  <a:lnTo>
                    <a:pt x="938104" y="1141532"/>
                  </a:lnTo>
                  <a:lnTo>
                    <a:pt x="938897" y="1145502"/>
                  </a:lnTo>
                  <a:lnTo>
                    <a:pt x="940218" y="1148943"/>
                  </a:lnTo>
                  <a:lnTo>
                    <a:pt x="941804" y="1152648"/>
                  </a:lnTo>
                  <a:lnTo>
                    <a:pt x="943126" y="1156354"/>
                  </a:lnTo>
                  <a:lnTo>
                    <a:pt x="944712" y="1160059"/>
                  </a:lnTo>
                  <a:lnTo>
                    <a:pt x="946826" y="1163235"/>
                  </a:lnTo>
                  <a:lnTo>
                    <a:pt x="948941" y="1166676"/>
                  </a:lnTo>
                  <a:lnTo>
                    <a:pt x="951320" y="1170116"/>
                  </a:lnTo>
                  <a:lnTo>
                    <a:pt x="953699" y="1173292"/>
                  </a:lnTo>
                  <a:lnTo>
                    <a:pt x="956342" y="1176204"/>
                  </a:lnTo>
                  <a:lnTo>
                    <a:pt x="959514" y="1179380"/>
                  </a:lnTo>
                  <a:lnTo>
                    <a:pt x="962157" y="1182291"/>
                  </a:lnTo>
                  <a:lnTo>
                    <a:pt x="965329" y="1184673"/>
                  </a:lnTo>
                  <a:lnTo>
                    <a:pt x="968501" y="1187320"/>
                  </a:lnTo>
                  <a:lnTo>
                    <a:pt x="971408" y="1189437"/>
                  </a:lnTo>
                  <a:lnTo>
                    <a:pt x="974844" y="1191819"/>
                  </a:lnTo>
                  <a:lnTo>
                    <a:pt x="978280" y="1193407"/>
                  </a:lnTo>
                  <a:lnTo>
                    <a:pt x="981981" y="1195260"/>
                  </a:lnTo>
                  <a:lnTo>
                    <a:pt x="985417" y="1196848"/>
                  </a:lnTo>
                  <a:lnTo>
                    <a:pt x="989117" y="1198171"/>
                  </a:lnTo>
                  <a:lnTo>
                    <a:pt x="992818" y="1199495"/>
                  </a:lnTo>
                  <a:lnTo>
                    <a:pt x="996518" y="1200553"/>
                  </a:lnTo>
                  <a:lnTo>
                    <a:pt x="1000483" y="1201612"/>
                  </a:lnTo>
                  <a:lnTo>
                    <a:pt x="1004184" y="1202141"/>
                  </a:lnTo>
                  <a:lnTo>
                    <a:pt x="1008148" y="1202671"/>
                  </a:lnTo>
                  <a:lnTo>
                    <a:pt x="1012113" y="1202935"/>
                  </a:lnTo>
                  <a:lnTo>
                    <a:pt x="1016342" y="1202935"/>
                  </a:lnTo>
                  <a:lnTo>
                    <a:pt x="1020307" y="1202935"/>
                  </a:lnTo>
                  <a:lnTo>
                    <a:pt x="1024272" y="1202671"/>
                  </a:lnTo>
                  <a:lnTo>
                    <a:pt x="1028237" y="1202141"/>
                  </a:lnTo>
                  <a:lnTo>
                    <a:pt x="1032201" y="1201612"/>
                  </a:lnTo>
                  <a:lnTo>
                    <a:pt x="1035902" y="1200553"/>
                  </a:lnTo>
                  <a:lnTo>
                    <a:pt x="1039602" y="1199495"/>
                  </a:lnTo>
                  <a:lnTo>
                    <a:pt x="1043303" y="1198171"/>
                  </a:lnTo>
                  <a:lnTo>
                    <a:pt x="1047003" y="1196848"/>
                  </a:lnTo>
                  <a:lnTo>
                    <a:pt x="1050704" y="1195260"/>
                  </a:lnTo>
                  <a:lnTo>
                    <a:pt x="1054140" y="1193407"/>
                  </a:lnTo>
                  <a:lnTo>
                    <a:pt x="1057576" y="1191819"/>
                  </a:lnTo>
                  <a:lnTo>
                    <a:pt x="1061012" y="1189437"/>
                  </a:lnTo>
                  <a:lnTo>
                    <a:pt x="1064184" y="1187320"/>
                  </a:lnTo>
                  <a:lnTo>
                    <a:pt x="1067092" y="1184673"/>
                  </a:lnTo>
                  <a:lnTo>
                    <a:pt x="1070263" y="1182291"/>
                  </a:lnTo>
                  <a:lnTo>
                    <a:pt x="1073435" y="1179380"/>
                  </a:lnTo>
                  <a:lnTo>
                    <a:pt x="1277490" y="974790"/>
                  </a:lnTo>
                  <a:lnTo>
                    <a:pt x="1282776" y="982730"/>
                  </a:lnTo>
                  <a:lnTo>
                    <a:pt x="1288327" y="990670"/>
                  </a:lnTo>
                  <a:lnTo>
                    <a:pt x="1293349" y="998610"/>
                  </a:lnTo>
                  <a:lnTo>
                    <a:pt x="1298106" y="1007080"/>
                  </a:lnTo>
                  <a:lnTo>
                    <a:pt x="1302864" y="1015284"/>
                  </a:lnTo>
                  <a:lnTo>
                    <a:pt x="1307358" y="1024018"/>
                  </a:lnTo>
                  <a:lnTo>
                    <a:pt x="1311851" y="1032488"/>
                  </a:lnTo>
                  <a:lnTo>
                    <a:pt x="1316080" y="1041222"/>
                  </a:lnTo>
                  <a:lnTo>
                    <a:pt x="1320309" y="1049956"/>
                  </a:lnTo>
                  <a:lnTo>
                    <a:pt x="1323745" y="1058955"/>
                  </a:lnTo>
                  <a:lnTo>
                    <a:pt x="1327710" y="1067954"/>
                  </a:lnTo>
                  <a:lnTo>
                    <a:pt x="1331146" y="1077217"/>
                  </a:lnTo>
                  <a:lnTo>
                    <a:pt x="1334582" y="1086216"/>
                  </a:lnTo>
                  <a:lnTo>
                    <a:pt x="1337490" y="1095744"/>
                  </a:lnTo>
                  <a:lnTo>
                    <a:pt x="1340662" y="1105007"/>
                  </a:lnTo>
                  <a:lnTo>
                    <a:pt x="1343569" y="1114536"/>
                  </a:lnTo>
                  <a:lnTo>
                    <a:pt x="1345948" y="1124328"/>
                  </a:lnTo>
                  <a:lnTo>
                    <a:pt x="1348327" y="1134386"/>
                  </a:lnTo>
                  <a:lnTo>
                    <a:pt x="1350442" y="1144179"/>
                  </a:lnTo>
                  <a:lnTo>
                    <a:pt x="1352556" y="1153971"/>
                  </a:lnTo>
                  <a:lnTo>
                    <a:pt x="1354142" y="1164029"/>
                  </a:lnTo>
                  <a:lnTo>
                    <a:pt x="1355464" y="1173822"/>
                  </a:lnTo>
                  <a:lnTo>
                    <a:pt x="1356785" y="1183350"/>
                  </a:lnTo>
                  <a:lnTo>
                    <a:pt x="1357578" y="1193143"/>
                  </a:lnTo>
                  <a:lnTo>
                    <a:pt x="1358371" y="1202935"/>
                  </a:lnTo>
                  <a:lnTo>
                    <a:pt x="1358900" y="1212464"/>
                  </a:lnTo>
                  <a:lnTo>
                    <a:pt x="1358900" y="1221992"/>
                  </a:lnTo>
                  <a:lnTo>
                    <a:pt x="1358900" y="1231520"/>
                  </a:lnTo>
                  <a:lnTo>
                    <a:pt x="1358900" y="1241048"/>
                  </a:lnTo>
                  <a:lnTo>
                    <a:pt x="1358371" y="1250576"/>
                  </a:lnTo>
                  <a:lnTo>
                    <a:pt x="1357843" y="1260104"/>
                  </a:lnTo>
                  <a:lnTo>
                    <a:pt x="1357050" y="1269368"/>
                  </a:lnTo>
                  <a:lnTo>
                    <a:pt x="1355728" y="1278631"/>
                  </a:lnTo>
                  <a:lnTo>
                    <a:pt x="1354406" y="1287895"/>
                  </a:lnTo>
                  <a:lnTo>
                    <a:pt x="1353085" y="1296893"/>
                  </a:lnTo>
                  <a:lnTo>
                    <a:pt x="1350970" y="1306157"/>
                  </a:lnTo>
                  <a:lnTo>
                    <a:pt x="1349120" y="1315156"/>
                  </a:lnTo>
                  <a:lnTo>
                    <a:pt x="1346741" y="1324154"/>
                  </a:lnTo>
                  <a:lnTo>
                    <a:pt x="1344627" y="1332889"/>
                  </a:lnTo>
                  <a:lnTo>
                    <a:pt x="1341983" y="1341358"/>
                  </a:lnTo>
                  <a:lnTo>
                    <a:pt x="1339076" y="1350092"/>
                  </a:lnTo>
                  <a:lnTo>
                    <a:pt x="1336168" y="1358826"/>
                  </a:lnTo>
                  <a:lnTo>
                    <a:pt x="1332732" y="1367296"/>
                  </a:lnTo>
                  <a:lnTo>
                    <a:pt x="1329560" y="1375500"/>
                  </a:lnTo>
                  <a:lnTo>
                    <a:pt x="1325860" y="1383970"/>
                  </a:lnTo>
                  <a:lnTo>
                    <a:pt x="1321895" y="1391910"/>
                  </a:lnTo>
                  <a:lnTo>
                    <a:pt x="1317930" y="1399850"/>
                  </a:lnTo>
                  <a:lnTo>
                    <a:pt x="1313701" y="1407790"/>
                  </a:lnTo>
                  <a:lnTo>
                    <a:pt x="1309208" y="1415730"/>
                  </a:lnTo>
                  <a:lnTo>
                    <a:pt x="1304450" y="1423406"/>
                  </a:lnTo>
                  <a:lnTo>
                    <a:pt x="1299428" y="1431081"/>
                  </a:lnTo>
                  <a:lnTo>
                    <a:pt x="1294406" y="1438492"/>
                  </a:lnTo>
                  <a:lnTo>
                    <a:pt x="1289384" y="1445638"/>
                  </a:lnTo>
                  <a:lnTo>
                    <a:pt x="1283833" y="1453049"/>
                  </a:lnTo>
                  <a:lnTo>
                    <a:pt x="1278018" y="1459930"/>
                  </a:lnTo>
                  <a:lnTo>
                    <a:pt x="1272203" y="1466812"/>
                  </a:lnTo>
                  <a:lnTo>
                    <a:pt x="1266388" y="1473428"/>
                  </a:lnTo>
                  <a:lnTo>
                    <a:pt x="1260044" y="1480045"/>
                  </a:lnTo>
                  <a:lnTo>
                    <a:pt x="1253701" y="1486397"/>
                  </a:lnTo>
                  <a:lnTo>
                    <a:pt x="1247093" y="1492749"/>
                  </a:lnTo>
                  <a:lnTo>
                    <a:pt x="1240221" y="1498837"/>
                  </a:lnTo>
                  <a:lnTo>
                    <a:pt x="1233613" y="1504659"/>
                  </a:lnTo>
                  <a:lnTo>
                    <a:pt x="1226212" y="1510218"/>
                  </a:lnTo>
                  <a:lnTo>
                    <a:pt x="1218811" y="1516040"/>
                  </a:lnTo>
                  <a:lnTo>
                    <a:pt x="1211674" y="1521334"/>
                  </a:lnTo>
                  <a:lnTo>
                    <a:pt x="1203745" y="1526362"/>
                  </a:lnTo>
                  <a:lnTo>
                    <a:pt x="1195815" y="1531391"/>
                  </a:lnTo>
                  <a:lnTo>
                    <a:pt x="1187885" y="1536155"/>
                  </a:lnTo>
                  <a:lnTo>
                    <a:pt x="1179691" y="1540655"/>
                  </a:lnTo>
                  <a:lnTo>
                    <a:pt x="1171233" y="1545154"/>
                  </a:lnTo>
                  <a:lnTo>
                    <a:pt x="1162775" y="1549389"/>
                  </a:lnTo>
                  <a:lnTo>
                    <a:pt x="1154053" y="1553359"/>
                  </a:lnTo>
                  <a:lnTo>
                    <a:pt x="1145066" y="1557064"/>
                  </a:lnTo>
                  <a:lnTo>
                    <a:pt x="1136079" y="1560240"/>
                  </a:lnTo>
                  <a:lnTo>
                    <a:pt x="1127092" y="1563681"/>
                  </a:lnTo>
                  <a:lnTo>
                    <a:pt x="1117577" y="1566592"/>
                  </a:lnTo>
                  <a:lnTo>
                    <a:pt x="1108325" y="1569239"/>
                  </a:lnTo>
                  <a:lnTo>
                    <a:pt x="1098546" y="1571886"/>
                  </a:lnTo>
                  <a:lnTo>
                    <a:pt x="1089030" y="1574003"/>
                  </a:lnTo>
                  <a:lnTo>
                    <a:pt x="1078986" y="1576385"/>
                  </a:lnTo>
                  <a:lnTo>
                    <a:pt x="1068942" y="1577973"/>
                  </a:lnTo>
                  <a:lnTo>
                    <a:pt x="1058633" y="1579296"/>
                  </a:lnTo>
                  <a:lnTo>
                    <a:pt x="1048589" y="1580620"/>
                  </a:lnTo>
                  <a:lnTo>
                    <a:pt x="1038545" y="1581678"/>
                  </a:lnTo>
                  <a:lnTo>
                    <a:pt x="1028501" y="1582208"/>
                  </a:lnTo>
                  <a:lnTo>
                    <a:pt x="1017928" y="1582472"/>
                  </a:lnTo>
                  <a:lnTo>
                    <a:pt x="1007884" y="1582737"/>
                  </a:lnTo>
                  <a:lnTo>
                    <a:pt x="997840" y="1582472"/>
                  </a:lnTo>
                  <a:lnTo>
                    <a:pt x="987796" y="1582208"/>
                  </a:lnTo>
                  <a:lnTo>
                    <a:pt x="977752" y="1581414"/>
                  </a:lnTo>
                  <a:lnTo>
                    <a:pt x="967443" y="1580620"/>
                  </a:lnTo>
                  <a:lnTo>
                    <a:pt x="957399" y="1579032"/>
                  </a:lnTo>
                  <a:lnTo>
                    <a:pt x="947355" y="1577708"/>
                  </a:lnTo>
                  <a:lnTo>
                    <a:pt x="937575" y="1576120"/>
                  </a:lnTo>
                  <a:lnTo>
                    <a:pt x="927531" y="1574003"/>
                  </a:lnTo>
                  <a:lnTo>
                    <a:pt x="917487" y="1571886"/>
                  </a:lnTo>
                  <a:lnTo>
                    <a:pt x="907443" y="1569239"/>
                  </a:lnTo>
                  <a:lnTo>
                    <a:pt x="897663" y="1566857"/>
                  </a:lnTo>
                  <a:lnTo>
                    <a:pt x="887883" y="1563681"/>
                  </a:lnTo>
                  <a:lnTo>
                    <a:pt x="878103" y="1560505"/>
                  </a:lnTo>
                  <a:lnTo>
                    <a:pt x="868324" y="1557064"/>
                  </a:lnTo>
                  <a:lnTo>
                    <a:pt x="858808" y="1553359"/>
                  </a:lnTo>
                  <a:lnTo>
                    <a:pt x="849028" y="1549389"/>
                  </a:lnTo>
                  <a:lnTo>
                    <a:pt x="839513" y="1545419"/>
                  </a:lnTo>
                  <a:lnTo>
                    <a:pt x="829997" y="1540919"/>
                  </a:lnTo>
                  <a:lnTo>
                    <a:pt x="820746" y="1536420"/>
                  </a:lnTo>
                  <a:lnTo>
                    <a:pt x="811495" y="1531656"/>
                  </a:lnTo>
                  <a:lnTo>
                    <a:pt x="802508" y="1526627"/>
                  </a:lnTo>
                  <a:lnTo>
                    <a:pt x="793257" y="1521334"/>
                  </a:lnTo>
                  <a:lnTo>
                    <a:pt x="784535" y="1515776"/>
                  </a:lnTo>
                  <a:lnTo>
                    <a:pt x="775548" y="1509953"/>
                  </a:lnTo>
                  <a:lnTo>
                    <a:pt x="766825" y="1504130"/>
                  </a:lnTo>
                  <a:lnTo>
                    <a:pt x="758367" y="1498307"/>
                  </a:lnTo>
                  <a:lnTo>
                    <a:pt x="749909" y="1491691"/>
                  </a:lnTo>
                  <a:lnTo>
                    <a:pt x="741451" y="1485339"/>
                  </a:lnTo>
                  <a:lnTo>
                    <a:pt x="733257" y="1478457"/>
                  </a:lnTo>
                  <a:lnTo>
                    <a:pt x="725063" y="1471840"/>
                  </a:lnTo>
                  <a:lnTo>
                    <a:pt x="717398" y="1464694"/>
                  </a:lnTo>
                  <a:lnTo>
                    <a:pt x="709468" y="1457548"/>
                  </a:lnTo>
                  <a:lnTo>
                    <a:pt x="701803" y="1450137"/>
                  </a:lnTo>
                  <a:lnTo>
                    <a:pt x="694402" y="1442197"/>
                  </a:lnTo>
                  <a:lnTo>
                    <a:pt x="687001" y="1434787"/>
                  </a:lnTo>
                  <a:lnTo>
                    <a:pt x="679864" y="1426582"/>
                  </a:lnTo>
                  <a:lnTo>
                    <a:pt x="672992" y="1418377"/>
                  </a:lnTo>
                  <a:lnTo>
                    <a:pt x="666120" y="1410172"/>
                  </a:lnTo>
                  <a:lnTo>
                    <a:pt x="659512" y="1401967"/>
                  </a:lnTo>
                  <a:lnTo>
                    <a:pt x="652904" y="1393233"/>
                  </a:lnTo>
                  <a:lnTo>
                    <a:pt x="646824" y="1384499"/>
                  </a:lnTo>
                  <a:lnTo>
                    <a:pt x="641009" y="1375500"/>
                  </a:lnTo>
                  <a:lnTo>
                    <a:pt x="635194" y="1366502"/>
                  </a:lnTo>
                  <a:lnTo>
                    <a:pt x="629379" y="1357238"/>
                  </a:lnTo>
                  <a:lnTo>
                    <a:pt x="623829" y="1347975"/>
                  </a:lnTo>
                  <a:lnTo>
                    <a:pt x="618807" y="1338447"/>
                  </a:lnTo>
                  <a:lnTo>
                    <a:pt x="613784" y="1328918"/>
                  </a:lnTo>
                  <a:lnTo>
                    <a:pt x="609027" y="1319126"/>
                  </a:lnTo>
                  <a:lnTo>
                    <a:pt x="604533" y="1309068"/>
                  </a:lnTo>
                  <a:lnTo>
                    <a:pt x="600040" y="1299275"/>
                  </a:lnTo>
                  <a:lnTo>
                    <a:pt x="595811" y="1289218"/>
                  </a:lnTo>
                  <a:lnTo>
                    <a:pt x="592110" y="1278896"/>
                  </a:lnTo>
                  <a:lnTo>
                    <a:pt x="588410" y="1268309"/>
                  </a:lnTo>
                  <a:lnTo>
                    <a:pt x="585238" y="1257987"/>
                  </a:lnTo>
                  <a:lnTo>
                    <a:pt x="581802" y="1247665"/>
                  </a:lnTo>
                  <a:lnTo>
                    <a:pt x="578894" y="1237078"/>
                  </a:lnTo>
                  <a:lnTo>
                    <a:pt x="576515" y="1225962"/>
                  </a:lnTo>
                  <a:lnTo>
                    <a:pt x="573872" y="1215375"/>
                  </a:lnTo>
                  <a:lnTo>
                    <a:pt x="572022" y="1204523"/>
                  </a:lnTo>
                  <a:lnTo>
                    <a:pt x="570172" y="1193937"/>
                  </a:lnTo>
                  <a:lnTo>
                    <a:pt x="568586" y="1183615"/>
                  </a:lnTo>
                  <a:lnTo>
                    <a:pt x="567529" y="1173028"/>
                  </a:lnTo>
                  <a:lnTo>
                    <a:pt x="566736" y="1162441"/>
                  </a:lnTo>
                  <a:lnTo>
                    <a:pt x="565678" y="1152119"/>
                  </a:lnTo>
                  <a:lnTo>
                    <a:pt x="565414" y="1141797"/>
                  </a:lnTo>
                  <a:lnTo>
                    <a:pt x="565150" y="1131210"/>
                  </a:lnTo>
                  <a:lnTo>
                    <a:pt x="565414" y="1121152"/>
                  </a:lnTo>
                  <a:lnTo>
                    <a:pt x="565678" y="1110830"/>
                  </a:lnTo>
                  <a:lnTo>
                    <a:pt x="566471" y="1100773"/>
                  </a:lnTo>
                  <a:lnTo>
                    <a:pt x="567529" y="1090980"/>
                  </a:lnTo>
                  <a:lnTo>
                    <a:pt x="568586" y="1080923"/>
                  </a:lnTo>
                  <a:lnTo>
                    <a:pt x="569907" y="1071130"/>
                  </a:lnTo>
                  <a:lnTo>
                    <a:pt x="571493" y="1061337"/>
                  </a:lnTo>
                  <a:lnTo>
                    <a:pt x="573344" y="1051809"/>
                  </a:lnTo>
                  <a:lnTo>
                    <a:pt x="575723" y="1042281"/>
                  </a:lnTo>
                  <a:lnTo>
                    <a:pt x="577837" y="1033017"/>
                  </a:lnTo>
                  <a:lnTo>
                    <a:pt x="580480" y="1023754"/>
                  </a:lnTo>
                  <a:lnTo>
                    <a:pt x="583123" y="1014755"/>
                  </a:lnTo>
                  <a:lnTo>
                    <a:pt x="586295" y="1005756"/>
                  </a:lnTo>
                  <a:lnTo>
                    <a:pt x="589467" y="996757"/>
                  </a:lnTo>
                  <a:lnTo>
                    <a:pt x="592903" y="988023"/>
                  </a:lnTo>
                  <a:lnTo>
                    <a:pt x="596604" y="979289"/>
                  </a:lnTo>
                  <a:lnTo>
                    <a:pt x="600568" y="970820"/>
                  </a:lnTo>
                  <a:lnTo>
                    <a:pt x="604533" y="962615"/>
                  </a:lnTo>
                  <a:lnTo>
                    <a:pt x="609027" y="954410"/>
                  </a:lnTo>
                  <a:lnTo>
                    <a:pt x="613520" y="946205"/>
                  </a:lnTo>
                  <a:lnTo>
                    <a:pt x="618278" y="938001"/>
                  </a:lnTo>
                  <a:lnTo>
                    <a:pt x="623036" y="930590"/>
                  </a:lnTo>
                  <a:lnTo>
                    <a:pt x="628322" y="922650"/>
                  </a:lnTo>
                  <a:lnTo>
                    <a:pt x="633344" y="915239"/>
                  </a:lnTo>
                  <a:lnTo>
                    <a:pt x="638895" y="908093"/>
                  </a:lnTo>
                  <a:lnTo>
                    <a:pt x="644710" y="900947"/>
                  </a:lnTo>
                  <a:lnTo>
                    <a:pt x="650525" y="894065"/>
                  </a:lnTo>
                  <a:lnTo>
                    <a:pt x="656340" y="887184"/>
                  </a:lnTo>
                  <a:lnTo>
                    <a:pt x="662683" y="880567"/>
                  </a:lnTo>
                  <a:lnTo>
                    <a:pt x="669027" y="873950"/>
                  </a:lnTo>
                  <a:lnTo>
                    <a:pt x="675371" y="867863"/>
                  </a:lnTo>
                  <a:lnTo>
                    <a:pt x="682243" y="861511"/>
                  </a:lnTo>
                  <a:lnTo>
                    <a:pt x="688851" y="855688"/>
                  </a:lnTo>
                  <a:lnTo>
                    <a:pt x="695988" y="850130"/>
                  </a:lnTo>
                  <a:lnTo>
                    <a:pt x="703124" y="844572"/>
                  </a:lnTo>
                  <a:lnTo>
                    <a:pt x="710525" y="839279"/>
                  </a:lnTo>
                  <a:lnTo>
                    <a:pt x="718190" y="833985"/>
                  </a:lnTo>
                  <a:lnTo>
                    <a:pt x="725591" y="828956"/>
                  </a:lnTo>
                  <a:lnTo>
                    <a:pt x="733521" y="824192"/>
                  </a:lnTo>
                  <a:lnTo>
                    <a:pt x="741451" y="819693"/>
                  </a:lnTo>
                  <a:lnTo>
                    <a:pt x="749644" y="815458"/>
                  </a:lnTo>
                  <a:lnTo>
                    <a:pt x="757574" y="811224"/>
                  </a:lnTo>
                  <a:lnTo>
                    <a:pt x="765768" y="807518"/>
                  </a:lnTo>
                  <a:lnTo>
                    <a:pt x="774226" y="803813"/>
                  </a:lnTo>
                  <a:lnTo>
                    <a:pt x="782949" y="800372"/>
                  </a:lnTo>
                  <a:lnTo>
                    <a:pt x="791671" y="796931"/>
                  </a:lnTo>
                  <a:lnTo>
                    <a:pt x="800394" y="794285"/>
                  </a:lnTo>
                  <a:lnTo>
                    <a:pt x="809381" y="791373"/>
                  </a:lnTo>
                  <a:lnTo>
                    <a:pt x="818632" y="788991"/>
                  </a:lnTo>
                  <a:lnTo>
                    <a:pt x="827883" y="786345"/>
                  </a:lnTo>
                  <a:lnTo>
                    <a:pt x="837134" y="784492"/>
                  </a:lnTo>
                  <a:lnTo>
                    <a:pt x="846650" y="782375"/>
                  </a:lnTo>
                  <a:lnTo>
                    <a:pt x="856165" y="780787"/>
                  </a:lnTo>
                  <a:lnTo>
                    <a:pt x="865680" y="779198"/>
                  </a:lnTo>
                  <a:lnTo>
                    <a:pt x="875460" y="778140"/>
                  </a:lnTo>
                  <a:lnTo>
                    <a:pt x="885240" y="777346"/>
                  </a:lnTo>
                  <a:lnTo>
                    <a:pt x="894756" y="776816"/>
                  </a:lnTo>
                  <a:lnTo>
                    <a:pt x="904800" y="776287"/>
                  </a:lnTo>
                  <a:close/>
                  <a:moveTo>
                    <a:pt x="797783" y="304800"/>
                  </a:moveTo>
                  <a:lnTo>
                    <a:pt x="819466" y="304800"/>
                  </a:lnTo>
                  <a:lnTo>
                    <a:pt x="840885" y="305594"/>
                  </a:lnTo>
                  <a:lnTo>
                    <a:pt x="862304" y="306652"/>
                  </a:lnTo>
                  <a:lnTo>
                    <a:pt x="883722" y="307975"/>
                  </a:lnTo>
                  <a:lnTo>
                    <a:pt x="904877" y="310356"/>
                  </a:lnTo>
                  <a:lnTo>
                    <a:pt x="925767" y="312738"/>
                  </a:lnTo>
                  <a:lnTo>
                    <a:pt x="946921" y="315913"/>
                  </a:lnTo>
                  <a:lnTo>
                    <a:pt x="968075" y="319617"/>
                  </a:lnTo>
                  <a:lnTo>
                    <a:pt x="988701" y="323586"/>
                  </a:lnTo>
                  <a:lnTo>
                    <a:pt x="1009591" y="328083"/>
                  </a:lnTo>
                  <a:lnTo>
                    <a:pt x="1029952" y="333111"/>
                  </a:lnTo>
                  <a:lnTo>
                    <a:pt x="1050577" y="338402"/>
                  </a:lnTo>
                  <a:lnTo>
                    <a:pt x="1070674" y="344223"/>
                  </a:lnTo>
                  <a:lnTo>
                    <a:pt x="1090770" y="350838"/>
                  </a:lnTo>
                  <a:lnTo>
                    <a:pt x="1110603" y="357188"/>
                  </a:lnTo>
                  <a:lnTo>
                    <a:pt x="1130170" y="364331"/>
                  </a:lnTo>
                  <a:lnTo>
                    <a:pt x="1149474" y="371740"/>
                  </a:lnTo>
                  <a:lnTo>
                    <a:pt x="1168513" y="379677"/>
                  </a:lnTo>
                  <a:lnTo>
                    <a:pt x="1187816" y="387879"/>
                  </a:lnTo>
                  <a:lnTo>
                    <a:pt x="1206855" y="396611"/>
                  </a:lnTo>
                  <a:lnTo>
                    <a:pt x="1225629" y="405606"/>
                  </a:lnTo>
                  <a:lnTo>
                    <a:pt x="1244139" y="415131"/>
                  </a:lnTo>
                  <a:lnTo>
                    <a:pt x="1262649" y="424656"/>
                  </a:lnTo>
                  <a:lnTo>
                    <a:pt x="1280895" y="434975"/>
                  </a:lnTo>
                  <a:lnTo>
                    <a:pt x="1298876" y="445294"/>
                  </a:lnTo>
                  <a:lnTo>
                    <a:pt x="1316593" y="456406"/>
                  </a:lnTo>
                  <a:lnTo>
                    <a:pt x="1334310" y="467519"/>
                  </a:lnTo>
                  <a:lnTo>
                    <a:pt x="1351762" y="479161"/>
                  </a:lnTo>
                  <a:lnTo>
                    <a:pt x="1368686" y="491067"/>
                  </a:lnTo>
                  <a:lnTo>
                    <a:pt x="1385609" y="503502"/>
                  </a:lnTo>
                  <a:lnTo>
                    <a:pt x="1404648" y="517790"/>
                  </a:lnTo>
                  <a:lnTo>
                    <a:pt x="1423158" y="532871"/>
                  </a:lnTo>
                  <a:lnTo>
                    <a:pt x="1441404" y="548217"/>
                  </a:lnTo>
                  <a:lnTo>
                    <a:pt x="1459385" y="563563"/>
                  </a:lnTo>
                  <a:lnTo>
                    <a:pt x="1273491" y="749565"/>
                  </a:lnTo>
                  <a:lnTo>
                    <a:pt x="1260270" y="738717"/>
                  </a:lnTo>
                  <a:lnTo>
                    <a:pt x="1253394" y="733161"/>
                  </a:lnTo>
                  <a:lnTo>
                    <a:pt x="1246519" y="728134"/>
                  </a:lnTo>
                  <a:lnTo>
                    <a:pt x="1235149" y="720196"/>
                  </a:lnTo>
                  <a:lnTo>
                    <a:pt x="1224043" y="712259"/>
                  </a:lnTo>
                  <a:lnTo>
                    <a:pt x="1212408" y="704850"/>
                  </a:lnTo>
                  <a:lnTo>
                    <a:pt x="1200773" y="697706"/>
                  </a:lnTo>
                  <a:lnTo>
                    <a:pt x="1188874" y="690298"/>
                  </a:lnTo>
                  <a:lnTo>
                    <a:pt x="1176710" y="683684"/>
                  </a:lnTo>
                  <a:lnTo>
                    <a:pt x="1164811" y="677069"/>
                  </a:lnTo>
                  <a:lnTo>
                    <a:pt x="1152647" y="670719"/>
                  </a:lnTo>
                  <a:lnTo>
                    <a:pt x="1140219" y="664634"/>
                  </a:lnTo>
                  <a:lnTo>
                    <a:pt x="1128055" y="658813"/>
                  </a:lnTo>
                  <a:lnTo>
                    <a:pt x="1115362" y="653521"/>
                  </a:lnTo>
                  <a:lnTo>
                    <a:pt x="1102670" y="648229"/>
                  </a:lnTo>
                  <a:lnTo>
                    <a:pt x="1089713" y="643202"/>
                  </a:lnTo>
                  <a:lnTo>
                    <a:pt x="1076756" y="638704"/>
                  </a:lnTo>
                  <a:lnTo>
                    <a:pt x="1064063" y="634206"/>
                  </a:lnTo>
                  <a:lnTo>
                    <a:pt x="1051106" y="629973"/>
                  </a:lnTo>
                  <a:lnTo>
                    <a:pt x="1037885" y="626004"/>
                  </a:lnTo>
                  <a:lnTo>
                    <a:pt x="1024399" y="622565"/>
                  </a:lnTo>
                  <a:lnTo>
                    <a:pt x="1010913" y="619390"/>
                  </a:lnTo>
                  <a:lnTo>
                    <a:pt x="997427" y="616479"/>
                  </a:lnTo>
                  <a:lnTo>
                    <a:pt x="983941" y="613569"/>
                  </a:lnTo>
                  <a:lnTo>
                    <a:pt x="970191" y="611452"/>
                  </a:lnTo>
                  <a:lnTo>
                    <a:pt x="956705" y="609336"/>
                  </a:lnTo>
                  <a:lnTo>
                    <a:pt x="942954" y="607748"/>
                  </a:lnTo>
                  <a:lnTo>
                    <a:pt x="928940" y="606425"/>
                  </a:lnTo>
                  <a:lnTo>
                    <a:pt x="915189" y="605102"/>
                  </a:lnTo>
                  <a:lnTo>
                    <a:pt x="901439" y="604573"/>
                  </a:lnTo>
                  <a:lnTo>
                    <a:pt x="887424" y="604044"/>
                  </a:lnTo>
                  <a:lnTo>
                    <a:pt x="873410" y="604044"/>
                  </a:lnTo>
                  <a:lnTo>
                    <a:pt x="859395" y="604573"/>
                  </a:lnTo>
                  <a:lnTo>
                    <a:pt x="845380" y="605102"/>
                  </a:lnTo>
                  <a:lnTo>
                    <a:pt x="831365" y="606425"/>
                  </a:lnTo>
                  <a:lnTo>
                    <a:pt x="817351" y="607748"/>
                  </a:lnTo>
                  <a:lnTo>
                    <a:pt x="803071" y="609336"/>
                  </a:lnTo>
                  <a:lnTo>
                    <a:pt x="789057" y="611452"/>
                  </a:lnTo>
                  <a:lnTo>
                    <a:pt x="775306" y="613834"/>
                  </a:lnTo>
                  <a:lnTo>
                    <a:pt x="761820" y="616744"/>
                  </a:lnTo>
                  <a:lnTo>
                    <a:pt x="748599" y="619919"/>
                  </a:lnTo>
                  <a:lnTo>
                    <a:pt x="735377" y="623359"/>
                  </a:lnTo>
                  <a:lnTo>
                    <a:pt x="722156" y="627063"/>
                  </a:lnTo>
                  <a:lnTo>
                    <a:pt x="709199" y="631296"/>
                  </a:lnTo>
                  <a:lnTo>
                    <a:pt x="696506" y="635794"/>
                  </a:lnTo>
                  <a:lnTo>
                    <a:pt x="683814" y="640556"/>
                  </a:lnTo>
                  <a:lnTo>
                    <a:pt x="671650" y="645584"/>
                  </a:lnTo>
                  <a:lnTo>
                    <a:pt x="659486" y="650875"/>
                  </a:lnTo>
                  <a:lnTo>
                    <a:pt x="647323" y="656696"/>
                  </a:lnTo>
                  <a:lnTo>
                    <a:pt x="635952" y="662517"/>
                  </a:lnTo>
                  <a:lnTo>
                    <a:pt x="624053" y="668867"/>
                  </a:lnTo>
                  <a:lnTo>
                    <a:pt x="612682" y="675481"/>
                  </a:lnTo>
                  <a:lnTo>
                    <a:pt x="601312" y="682361"/>
                  </a:lnTo>
                  <a:lnTo>
                    <a:pt x="590206" y="689769"/>
                  </a:lnTo>
                  <a:lnTo>
                    <a:pt x="579100" y="697442"/>
                  </a:lnTo>
                  <a:lnTo>
                    <a:pt x="568523" y="705115"/>
                  </a:lnTo>
                  <a:lnTo>
                    <a:pt x="558210" y="713317"/>
                  </a:lnTo>
                  <a:lnTo>
                    <a:pt x="548162" y="721784"/>
                  </a:lnTo>
                  <a:lnTo>
                    <a:pt x="537849" y="730515"/>
                  </a:lnTo>
                  <a:lnTo>
                    <a:pt x="528329" y="739246"/>
                  </a:lnTo>
                  <a:lnTo>
                    <a:pt x="518810" y="748507"/>
                  </a:lnTo>
                  <a:lnTo>
                    <a:pt x="509555" y="758032"/>
                  </a:lnTo>
                  <a:lnTo>
                    <a:pt x="500564" y="767557"/>
                  </a:lnTo>
                  <a:lnTo>
                    <a:pt x="491838" y="777346"/>
                  </a:lnTo>
                  <a:lnTo>
                    <a:pt x="483641" y="787665"/>
                  </a:lnTo>
                  <a:lnTo>
                    <a:pt x="475444" y="798248"/>
                  </a:lnTo>
                  <a:lnTo>
                    <a:pt x="467246" y="808832"/>
                  </a:lnTo>
                  <a:lnTo>
                    <a:pt x="459578" y="819679"/>
                  </a:lnTo>
                  <a:lnTo>
                    <a:pt x="452174" y="831057"/>
                  </a:lnTo>
                  <a:lnTo>
                    <a:pt x="444770" y="842434"/>
                  </a:lnTo>
                  <a:lnTo>
                    <a:pt x="438159" y="854340"/>
                  </a:lnTo>
                  <a:lnTo>
                    <a:pt x="431284" y="866246"/>
                  </a:lnTo>
                  <a:lnTo>
                    <a:pt x="425202" y="878417"/>
                  </a:lnTo>
                  <a:lnTo>
                    <a:pt x="419120" y="890852"/>
                  </a:lnTo>
                  <a:lnTo>
                    <a:pt x="413303" y="903288"/>
                  </a:lnTo>
                  <a:lnTo>
                    <a:pt x="408014" y="915988"/>
                  </a:lnTo>
                  <a:lnTo>
                    <a:pt x="402990" y="928952"/>
                  </a:lnTo>
                  <a:lnTo>
                    <a:pt x="398495" y="941917"/>
                  </a:lnTo>
                  <a:lnTo>
                    <a:pt x="393999" y="955411"/>
                  </a:lnTo>
                  <a:lnTo>
                    <a:pt x="390033" y="968905"/>
                  </a:lnTo>
                  <a:lnTo>
                    <a:pt x="386331" y="982398"/>
                  </a:lnTo>
                  <a:lnTo>
                    <a:pt x="383158" y="996157"/>
                  </a:lnTo>
                  <a:lnTo>
                    <a:pt x="379985" y="1010180"/>
                  </a:lnTo>
                  <a:lnTo>
                    <a:pt x="377076" y="1024467"/>
                  </a:lnTo>
                  <a:lnTo>
                    <a:pt x="374961" y="1038755"/>
                  </a:lnTo>
                  <a:lnTo>
                    <a:pt x="372845" y="1053571"/>
                  </a:lnTo>
                  <a:lnTo>
                    <a:pt x="371523" y="1068388"/>
                  </a:lnTo>
                  <a:lnTo>
                    <a:pt x="370201" y="1083205"/>
                  </a:lnTo>
                  <a:lnTo>
                    <a:pt x="369672" y="1098021"/>
                  </a:lnTo>
                  <a:lnTo>
                    <a:pt x="368879" y="1113367"/>
                  </a:lnTo>
                  <a:lnTo>
                    <a:pt x="368879" y="1128448"/>
                  </a:lnTo>
                  <a:lnTo>
                    <a:pt x="369143" y="1143794"/>
                  </a:lnTo>
                  <a:lnTo>
                    <a:pt x="370201" y="1159140"/>
                  </a:lnTo>
                  <a:lnTo>
                    <a:pt x="371523" y="1174750"/>
                  </a:lnTo>
                  <a:lnTo>
                    <a:pt x="372845" y="1190096"/>
                  </a:lnTo>
                  <a:lnTo>
                    <a:pt x="374961" y="1205971"/>
                  </a:lnTo>
                  <a:lnTo>
                    <a:pt x="377340" y="1221582"/>
                  </a:lnTo>
                  <a:lnTo>
                    <a:pt x="380249" y="1237721"/>
                  </a:lnTo>
                  <a:lnTo>
                    <a:pt x="383687" y="1253332"/>
                  </a:lnTo>
                  <a:lnTo>
                    <a:pt x="387124" y="1269471"/>
                  </a:lnTo>
                  <a:lnTo>
                    <a:pt x="391355" y="1285346"/>
                  </a:lnTo>
                  <a:lnTo>
                    <a:pt x="395850" y="1300957"/>
                  </a:lnTo>
                  <a:lnTo>
                    <a:pt x="400875" y="1316567"/>
                  </a:lnTo>
                  <a:lnTo>
                    <a:pt x="406163" y="1331648"/>
                  </a:lnTo>
                  <a:lnTo>
                    <a:pt x="411716" y="1347259"/>
                  </a:lnTo>
                  <a:lnTo>
                    <a:pt x="417798" y="1362075"/>
                  </a:lnTo>
                  <a:lnTo>
                    <a:pt x="423880" y="1376892"/>
                  </a:lnTo>
                  <a:lnTo>
                    <a:pt x="430755" y="1391709"/>
                  </a:lnTo>
                  <a:lnTo>
                    <a:pt x="437630" y="1406261"/>
                  </a:lnTo>
                  <a:lnTo>
                    <a:pt x="445034" y="1420548"/>
                  </a:lnTo>
                  <a:lnTo>
                    <a:pt x="452967" y="1434571"/>
                  </a:lnTo>
                  <a:lnTo>
                    <a:pt x="460900" y="1448330"/>
                  </a:lnTo>
                  <a:lnTo>
                    <a:pt x="469097" y="1462088"/>
                  </a:lnTo>
                  <a:lnTo>
                    <a:pt x="477823" y="1475582"/>
                  </a:lnTo>
                  <a:lnTo>
                    <a:pt x="486814" y="1488811"/>
                  </a:lnTo>
                  <a:lnTo>
                    <a:pt x="496069" y="1502040"/>
                  </a:lnTo>
                  <a:lnTo>
                    <a:pt x="505589" y="1515005"/>
                  </a:lnTo>
                  <a:lnTo>
                    <a:pt x="515637" y="1527176"/>
                  </a:lnTo>
                  <a:lnTo>
                    <a:pt x="525685" y="1539611"/>
                  </a:lnTo>
                  <a:lnTo>
                    <a:pt x="535733" y="1551782"/>
                  </a:lnTo>
                  <a:lnTo>
                    <a:pt x="546311" y="1563423"/>
                  </a:lnTo>
                  <a:lnTo>
                    <a:pt x="557417" y="1575065"/>
                  </a:lnTo>
                  <a:lnTo>
                    <a:pt x="568523" y="1586442"/>
                  </a:lnTo>
                  <a:lnTo>
                    <a:pt x="579893" y="1597555"/>
                  </a:lnTo>
                  <a:lnTo>
                    <a:pt x="591264" y="1608138"/>
                  </a:lnTo>
                  <a:lnTo>
                    <a:pt x="603163" y="1618457"/>
                  </a:lnTo>
                  <a:lnTo>
                    <a:pt x="615062" y="1628776"/>
                  </a:lnTo>
                  <a:lnTo>
                    <a:pt x="627490" y="1638830"/>
                  </a:lnTo>
                  <a:lnTo>
                    <a:pt x="639919" y="1648355"/>
                  </a:lnTo>
                  <a:lnTo>
                    <a:pt x="652347" y="1657615"/>
                  </a:lnTo>
                  <a:lnTo>
                    <a:pt x="665304" y="1666611"/>
                  </a:lnTo>
                  <a:lnTo>
                    <a:pt x="678261" y="1675342"/>
                  </a:lnTo>
                  <a:lnTo>
                    <a:pt x="691482" y="1683544"/>
                  </a:lnTo>
                  <a:lnTo>
                    <a:pt x="704968" y="1691482"/>
                  </a:lnTo>
                  <a:lnTo>
                    <a:pt x="718454" y="1699155"/>
                  </a:lnTo>
                  <a:lnTo>
                    <a:pt x="731940" y="1706828"/>
                  </a:lnTo>
                  <a:lnTo>
                    <a:pt x="745690" y="1713707"/>
                  </a:lnTo>
                  <a:lnTo>
                    <a:pt x="759441" y="1720057"/>
                  </a:lnTo>
                  <a:lnTo>
                    <a:pt x="773455" y="1726671"/>
                  </a:lnTo>
                  <a:lnTo>
                    <a:pt x="787734" y="1732492"/>
                  </a:lnTo>
                  <a:lnTo>
                    <a:pt x="801749" y="1738313"/>
                  </a:lnTo>
                  <a:lnTo>
                    <a:pt x="816293" y="1743605"/>
                  </a:lnTo>
                  <a:lnTo>
                    <a:pt x="830836" y="1748632"/>
                  </a:lnTo>
                  <a:lnTo>
                    <a:pt x="845380" y="1753130"/>
                  </a:lnTo>
                  <a:lnTo>
                    <a:pt x="859924" y="1757363"/>
                  </a:lnTo>
                  <a:lnTo>
                    <a:pt x="874732" y="1761067"/>
                  </a:lnTo>
                  <a:lnTo>
                    <a:pt x="889275" y="1764771"/>
                  </a:lnTo>
                  <a:lnTo>
                    <a:pt x="904348" y="1767946"/>
                  </a:lnTo>
                  <a:lnTo>
                    <a:pt x="918891" y="1770328"/>
                  </a:lnTo>
                  <a:lnTo>
                    <a:pt x="933699" y="1772709"/>
                  </a:lnTo>
                  <a:lnTo>
                    <a:pt x="948507" y="1774561"/>
                  </a:lnTo>
                  <a:lnTo>
                    <a:pt x="963580" y="1776413"/>
                  </a:lnTo>
                  <a:lnTo>
                    <a:pt x="978388" y="1777471"/>
                  </a:lnTo>
                  <a:lnTo>
                    <a:pt x="993196" y="1778265"/>
                  </a:lnTo>
                  <a:lnTo>
                    <a:pt x="1008268" y="1778530"/>
                  </a:lnTo>
                  <a:lnTo>
                    <a:pt x="1023341" y="1778530"/>
                  </a:lnTo>
                  <a:lnTo>
                    <a:pt x="1038149" y="1778265"/>
                  </a:lnTo>
                  <a:lnTo>
                    <a:pt x="1052957" y="1777471"/>
                  </a:lnTo>
                  <a:lnTo>
                    <a:pt x="1067765" y="1776149"/>
                  </a:lnTo>
                  <a:lnTo>
                    <a:pt x="1083102" y="1774296"/>
                  </a:lnTo>
                  <a:lnTo>
                    <a:pt x="1097910" y="1772444"/>
                  </a:lnTo>
                  <a:lnTo>
                    <a:pt x="1112718" y="1769799"/>
                  </a:lnTo>
                  <a:lnTo>
                    <a:pt x="1127262" y="1767153"/>
                  </a:lnTo>
                  <a:lnTo>
                    <a:pt x="1142070" y="1763713"/>
                  </a:lnTo>
                  <a:lnTo>
                    <a:pt x="1156349" y="1760273"/>
                  </a:lnTo>
                  <a:lnTo>
                    <a:pt x="1170364" y="1756040"/>
                  </a:lnTo>
                  <a:lnTo>
                    <a:pt x="1184114" y="1751807"/>
                  </a:lnTo>
                  <a:lnTo>
                    <a:pt x="1197600" y="1747044"/>
                  </a:lnTo>
                  <a:lnTo>
                    <a:pt x="1210821" y="1742017"/>
                  </a:lnTo>
                  <a:lnTo>
                    <a:pt x="1224043" y="1736726"/>
                  </a:lnTo>
                  <a:lnTo>
                    <a:pt x="1236735" y="1731169"/>
                  </a:lnTo>
                  <a:lnTo>
                    <a:pt x="1249428" y="1725084"/>
                  </a:lnTo>
                  <a:lnTo>
                    <a:pt x="1261856" y="1718734"/>
                  </a:lnTo>
                  <a:lnTo>
                    <a:pt x="1274020" y="1712119"/>
                  </a:lnTo>
                  <a:lnTo>
                    <a:pt x="1285655" y="1704976"/>
                  </a:lnTo>
                  <a:lnTo>
                    <a:pt x="1297554" y="1697832"/>
                  </a:lnTo>
                  <a:lnTo>
                    <a:pt x="1308660" y="1690423"/>
                  </a:lnTo>
                  <a:lnTo>
                    <a:pt x="1320031" y="1682486"/>
                  </a:lnTo>
                  <a:lnTo>
                    <a:pt x="1330608" y="1674284"/>
                  </a:lnTo>
                  <a:lnTo>
                    <a:pt x="1340920" y="1666082"/>
                  </a:lnTo>
                  <a:lnTo>
                    <a:pt x="1350969" y="1657615"/>
                  </a:lnTo>
                  <a:lnTo>
                    <a:pt x="1361017" y="1648884"/>
                  </a:lnTo>
                  <a:lnTo>
                    <a:pt x="1370801" y="1639888"/>
                  </a:lnTo>
                  <a:lnTo>
                    <a:pt x="1380056" y="1630628"/>
                  </a:lnTo>
                  <a:lnTo>
                    <a:pt x="1389047" y="1621103"/>
                  </a:lnTo>
                  <a:lnTo>
                    <a:pt x="1398037" y="1611313"/>
                  </a:lnTo>
                  <a:lnTo>
                    <a:pt x="1406499" y="1601259"/>
                  </a:lnTo>
                  <a:lnTo>
                    <a:pt x="1414696" y="1590940"/>
                  </a:lnTo>
                  <a:lnTo>
                    <a:pt x="1422629" y="1580621"/>
                  </a:lnTo>
                  <a:lnTo>
                    <a:pt x="1430562" y="1570303"/>
                  </a:lnTo>
                  <a:lnTo>
                    <a:pt x="1437702" y="1559190"/>
                  </a:lnTo>
                  <a:lnTo>
                    <a:pt x="1445106" y="1548342"/>
                  </a:lnTo>
                  <a:lnTo>
                    <a:pt x="1451716" y="1536965"/>
                  </a:lnTo>
                  <a:lnTo>
                    <a:pt x="1458591" y="1525853"/>
                  </a:lnTo>
                  <a:lnTo>
                    <a:pt x="1464673" y="1514211"/>
                  </a:lnTo>
                  <a:lnTo>
                    <a:pt x="1470755" y="1502834"/>
                  </a:lnTo>
                  <a:lnTo>
                    <a:pt x="1476308" y="1490928"/>
                  </a:lnTo>
                  <a:lnTo>
                    <a:pt x="1481597" y="1479286"/>
                  </a:lnTo>
                  <a:lnTo>
                    <a:pt x="1486621" y="1467115"/>
                  </a:lnTo>
                  <a:lnTo>
                    <a:pt x="1491381" y="1454680"/>
                  </a:lnTo>
                  <a:lnTo>
                    <a:pt x="1495876" y="1442773"/>
                  </a:lnTo>
                  <a:lnTo>
                    <a:pt x="1500107" y="1430073"/>
                  </a:lnTo>
                  <a:lnTo>
                    <a:pt x="1503809" y="1417373"/>
                  </a:lnTo>
                  <a:lnTo>
                    <a:pt x="1507511" y="1404673"/>
                  </a:lnTo>
                  <a:lnTo>
                    <a:pt x="1510420" y="1391973"/>
                  </a:lnTo>
                  <a:lnTo>
                    <a:pt x="1513593" y="1379009"/>
                  </a:lnTo>
                  <a:lnTo>
                    <a:pt x="1516237" y="1366044"/>
                  </a:lnTo>
                  <a:lnTo>
                    <a:pt x="1518617" y="1352815"/>
                  </a:lnTo>
                  <a:lnTo>
                    <a:pt x="1520732" y="1339586"/>
                  </a:lnTo>
                  <a:lnTo>
                    <a:pt x="1522319" y="1326092"/>
                  </a:lnTo>
                  <a:lnTo>
                    <a:pt x="1523641" y="1312598"/>
                  </a:lnTo>
                  <a:lnTo>
                    <a:pt x="1524434" y="1299105"/>
                  </a:lnTo>
                  <a:lnTo>
                    <a:pt x="1525492" y="1285611"/>
                  </a:lnTo>
                  <a:lnTo>
                    <a:pt x="1526021" y="1272117"/>
                  </a:lnTo>
                  <a:lnTo>
                    <a:pt x="1526021" y="1258623"/>
                  </a:lnTo>
                  <a:lnTo>
                    <a:pt x="1525757" y="1244865"/>
                  </a:lnTo>
                  <a:lnTo>
                    <a:pt x="1525228" y="1231107"/>
                  </a:lnTo>
                  <a:lnTo>
                    <a:pt x="1524170" y="1217348"/>
                  </a:lnTo>
                  <a:lnTo>
                    <a:pt x="1523112" y="1203325"/>
                  </a:lnTo>
                  <a:lnTo>
                    <a:pt x="1521790" y="1189302"/>
                  </a:lnTo>
                  <a:lnTo>
                    <a:pt x="1519675" y="1175544"/>
                  </a:lnTo>
                  <a:lnTo>
                    <a:pt x="1517559" y="1161521"/>
                  </a:lnTo>
                  <a:lnTo>
                    <a:pt x="1514915" y="1147498"/>
                  </a:lnTo>
                  <a:lnTo>
                    <a:pt x="1512271" y="1133211"/>
                  </a:lnTo>
                  <a:lnTo>
                    <a:pt x="1509097" y="1119188"/>
                  </a:lnTo>
                  <a:lnTo>
                    <a:pt x="1505395" y="1104900"/>
                  </a:lnTo>
                  <a:lnTo>
                    <a:pt x="1501429" y="1090877"/>
                  </a:lnTo>
                  <a:lnTo>
                    <a:pt x="1497198" y="1076855"/>
                  </a:lnTo>
                  <a:lnTo>
                    <a:pt x="1492703" y="1063096"/>
                  </a:lnTo>
                  <a:lnTo>
                    <a:pt x="1487943" y="1049338"/>
                  </a:lnTo>
                  <a:lnTo>
                    <a:pt x="1482919" y="1035580"/>
                  </a:lnTo>
                  <a:lnTo>
                    <a:pt x="1477630" y="1022350"/>
                  </a:lnTo>
                  <a:lnTo>
                    <a:pt x="1472077" y="1008857"/>
                  </a:lnTo>
                  <a:lnTo>
                    <a:pt x="1466260" y="995892"/>
                  </a:lnTo>
                  <a:lnTo>
                    <a:pt x="1460178" y="982927"/>
                  </a:lnTo>
                  <a:lnTo>
                    <a:pt x="1453832" y="969963"/>
                  </a:lnTo>
                  <a:lnTo>
                    <a:pt x="1446957" y="957527"/>
                  </a:lnTo>
                  <a:lnTo>
                    <a:pt x="1440346" y="945092"/>
                  </a:lnTo>
                  <a:lnTo>
                    <a:pt x="1432942" y="932657"/>
                  </a:lnTo>
                  <a:lnTo>
                    <a:pt x="1425802" y="920486"/>
                  </a:lnTo>
                  <a:lnTo>
                    <a:pt x="1418134" y="908844"/>
                  </a:lnTo>
                  <a:lnTo>
                    <a:pt x="1410201" y="896938"/>
                  </a:lnTo>
                  <a:lnTo>
                    <a:pt x="1402268" y="885561"/>
                  </a:lnTo>
                  <a:lnTo>
                    <a:pt x="1398566" y="880534"/>
                  </a:lnTo>
                  <a:lnTo>
                    <a:pt x="1394335" y="875242"/>
                  </a:lnTo>
                  <a:lnTo>
                    <a:pt x="1386402" y="864923"/>
                  </a:lnTo>
                  <a:lnTo>
                    <a:pt x="1572032" y="679450"/>
                  </a:lnTo>
                  <a:lnTo>
                    <a:pt x="1584724" y="694531"/>
                  </a:lnTo>
                  <a:lnTo>
                    <a:pt x="1596624" y="709877"/>
                  </a:lnTo>
                  <a:lnTo>
                    <a:pt x="1608787" y="725752"/>
                  </a:lnTo>
                  <a:lnTo>
                    <a:pt x="1620422" y="741627"/>
                  </a:lnTo>
                  <a:lnTo>
                    <a:pt x="1632850" y="759090"/>
                  </a:lnTo>
                  <a:lnTo>
                    <a:pt x="1644750" y="776817"/>
                  </a:lnTo>
                  <a:lnTo>
                    <a:pt x="1656120" y="794809"/>
                  </a:lnTo>
                  <a:lnTo>
                    <a:pt x="1667755" y="812800"/>
                  </a:lnTo>
                  <a:lnTo>
                    <a:pt x="1678332" y="831321"/>
                  </a:lnTo>
                  <a:lnTo>
                    <a:pt x="1688909" y="850107"/>
                  </a:lnTo>
                  <a:lnTo>
                    <a:pt x="1699222" y="869157"/>
                  </a:lnTo>
                  <a:lnTo>
                    <a:pt x="1709006" y="888207"/>
                  </a:lnTo>
                  <a:lnTo>
                    <a:pt x="1718525" y="908050"/>
                  </a:lnTo>
                  <a:lnTo>
                    <a:pt x="1727781" y="927629"/>
                  </a:lnTo>
                  <a:lnTo>
                    <a:pt x="1736507" y="947473"/>
                  </a:lnTo>
                  <a:lnTo>
                    <a:pt x="1744704" y="967846"/>
                  </a:lnTo>
                  <a:lnTo>
                    <a:pt x="1752373" y="988219"/>
                  </a:lnTo>
                  <a:lnTo>
                    <a:pt x="1760041" y="1009121"/>
                  </a:lnTo>
                  <a:lnTo>
                    <a:pt x="1767181" y="1030023"/>
                  </a:lnTo>
                  <a:lnTo>
                    <a:pt x="1773792" y="1051190"/>
                  </a:lnTo>
                  <a:lnTo>
                    <a:pt x="1779873" y="1072886"/>
                  </a:lnTo>
                  <a:lnTo>
                    <a:pt x="1785955" y="1094052"/>
                  </a:lnTo>
                  <a:lnTo>
                    <a:pt x="1790979" y="1115748"/>
                  </a:lnTo>
                  <a:lnTo>
                    <a:pt x="1795739" y="1137180"/>
                  </a:lnTo>
                  <a:lnTo>
                    <a:pt x="1799970" y="1158611"/>
                  </a:lnTo>
                  <a:lnTo>
                    <a:pt x="1803936" y="1179777"/>
                  </a:lnTo>
                  <a:lnTo>
                    <a:pt x="1806845" y="1201209"/>
                  </a:lnTo>
                  <a:lnTo>
                    <a:pt x="1809754" y="1222640"/>
                  </a:lnTo>
                  <a:lnTo>
                    <a:pt x="1811869" y="1243542"/>
                  </a:lnTo>
                  <a:lnTo>
                    <a:pt x="1813985" y="1264709"/>
                  </a:lnTo>
                  <a:lnTo>
                    <a:pt x="1815042" y="1285611"/>
                  </a:lnTo>
                  <a:lnTo>
                    <a:pt x="1815836" y="1306778"/>
                  </a:lnTo>
                  <a:lnTo>
                    <a:pt x="1816100" y="1327680"/>
                  </a:lnTo>
                  <a:lnTo>
                    <a:pt x="1816100" y="1348317"/>
                  </a:lnTo>
                  <a:lnTo>
                    <a:pt x="1815571" y="1369219"/>
                  </a:lnTo>
                  <a:lnTo>
                    <a:pt x="1814514" y="1389592"/>
                  </a:lnTo>
                  <a:lnTo>
                    <a:pt x="1812927" y="1410494"/>
                  </a:lnTo>
                  <a:lnTo>
                    <a:pt x="1810812" y="1431132"/>
                  </a:lnTo>
                  <a:lnTo>
                    <a:pt x="1808432" y="1451769"/>
                  </a:lnTo>
                  <a:lnTo>
                    <a:pt x="1805523" y="1472142"/>
                  </a:lnTo>
                  <a:lnTo>
                    <a:pt x="1801821" y="1492515"/>
                  </a:lnTo>
                  <a:lnTo>
                    <a:pt x="1797855" y="1512623"/>
                  </a:lnTo>
                  <a:lnTo>
                    <a:pt x="1793359" y="1532467"/>
                  </a:lnTo>
                  <a:lnTo>
                    <a:pt x="1788600" y="1552576"/>
                  </a:lnTo>
                  <a:lnTo>
                    <a:pt x="1783311" y="1572155"/>
                  </a:lnTo>
                  <a:lnTo>
                    <a:pt x="1777758" y="1591469"/>
                  </a:lnTo>
                  <a:lnTo>
                    <a:pt x="1771147" y="1611048"/>
                  </a:lnTo>
                  <a:lnTo>
                    <a:pt x="1764801" y="1630098"/>
                  </a:lnTo>
                  <a:lnTo>
                    <a:pt x="1757397" y="1648884"/>
                  </a:lnTo>
                  <a:lnTo>
                    <a:pt x="1749993" y="1667669"/>
                  </a:lnTo>
                  <a:lnTo>
                    <a:pt x="1741796" y="1685926"/>
                  </a:lnTo>
                  <a:lnTo>
                    <a:pt x="1733334" y="1704182"/>
                  </a:lnTo>
                  <a:lnTo>
                    <a:pt x="1724343" y="1722703"/>
                  </a:lnTo>
                  <a:lnTo>
                    <a:pt x="1714559" y="1740694"/>
                  </a:lnTo>
                  <a:lnTo>
                    <a:pt x="1704775" y="1758686"/>
                  </a:lnTo>
                  <a:lnTo>
                    <a:pt x="1694198" y="1776413"/>
                  </a:lnTo>
                  <a:lnTo>
                    <a:pt x="1683092" y="1793876"/>
                  </a:lnTo>
                  <a:lnTo>
                    <a:pt x="1671721" y="1810544"/>
                  </a:lnTo>
                  <a:lnTo>
                    <a:pt x="1659822" y="1827478"/>
                  </a:lnTo>
                  <a:lnTo>
                    <a:pt x="1647394" y="1844146"/>
                  </a:lnTo>
                  <a:lnTo>
                    <a:pt x="1634966" y="1860021"/>
                  </a:lnTo>
                  <a:lnTo>
                    <a:pt x="1621744" y="1875896"/>
                  </a:lnTo>
                  <a:lnTo>
                    <a:pt x="1608258" y="1891242"/>
                  </a:lnTo>
                  <a:lnTo>
                    <a:pt x="1594244" y="1906324"/>
                  </a:lnTo>
                  <a:lnTo>
                    <a:pt x="1579436" y="1921140"/>
                  </a:lnTo>
                  <a:lnTo>
                    <a:pt x="1564628" y="1935692"/>
                  </a:lnTo>
                  <a:lnTo>
                    <a:pt x="1549291" y="1949715"/>
                  </a:lnTo>
                  <a:lnTo>
                    <a:pt x="1533425" y="1963209"/>
                  </a:lnTo>
                  <a:lnTo>
                    <a:pt x="1517030" y="1976703"/>
                  </a:lnTo>
                  <a:lnTo>
                    <a:pt x="1500107" y="1989667"/>
                  </a:lnTo>
                  <a:lnTo>
                    <a:pt x="1482390" y="2002367"/>
                  </a:lnTo>
                  <a:lnTo>
                    <a:pt x="1464673" y="2014803"/>
                  </a:lnTo>
                  <a:lnTo>
                    <a:pt x="1446428" y="2026709"/>
                  </a:lnTo>
                  <a:lnTo>
                    <a:pt x="1427653" y="2037821"/>
                  </a:lnTo>
                  <a:lnTo>
                    <a:pt x="1408614" y="2048669"/>
                  </a:lnTo>
                  <a:lnTo>
                    <a:pt x="1389047" y="2059253"/>
                  </a:lnTo>
                  <a:lnTo>
                    <a:pt x="1368950" y="2069042"/>
                  </a:lnTo>
                  <a:lnTo>
                    <a:pt x="1348589" y="2078303"/>
                  </a:lnTo>
                  <a:lnTo>
                    <a:pt x="1327699" y="2087034"/>
                  </a:lnTo>
                  <a:lnTo>
                    <a:pt x="1306809" y="2095501"/>
                  </a:lnTo>
                  <a:lnTo>
                    <a:pt x="1285126" y="2102909"/>
                  </a:lnTo>
                  <a:lnTo>
                    <a:pt x="1263178" y="2110317"/>
                  </a:lnTo>
                  <a:lnTo>
                    <a:pt x="1240966" y="2116667"/>
                  </a:lnTo>
                  <a:lnTo>
                    <a:pt x="1218225" y="2123017"/>
                  </a:lnTo>
                  <a:lnTo>
                    <a:pt x="1206590" y="2125663"/>
                  </a:lnTo>
                  <a:lnTo>
                    <a:pt x="1194691" y="2128309"/>
                  </a:lnTo>
                  <a:lnTo>
                    <a:pt x="1183056" y="2130690"/>
                  </a:lnTo>
                  <a:lnTo>
                    <a:pt x="1171157" y="2133072"/>
                  </a:lnTo>
                  <a:lnTo>
                    <a:pt x="1159258" y="2135188"/>
                  </a:lnTo>
                  <a:lnTo>
                    <a:pt x="1147358" y="2137305"/>
                  </a:lnTo>
                  <a:lnTo>
                    <a:pt x="1135459" y="2139157"/>
                  </a:lnTo>
                  <a:lnTo>
                    <a:pt x="1123824" y="2141009"/>
                  </a:lnTo>
                  <a:lnTo>
                    <a:pt x="1111660" y="2142332"/>
                  </a:lnTo>
                  <a:lnTo>
                    <a:pt x="1099761" y="2143390"/>
                  </a:lnTo>
                  <a:lnTo>
                    <a:pt x="1075962" y="2145772"/>
                  </a:lnTo>
                  <a:lnTo>
                    <a:pt x="1052164" y="2147094"/>
                  </a:lnTo>
                  <a:lnTo>
                    <a:pt x="1028365" y="2147888"/>
                  </a:lnTo>
                  <a:lnTo>
                    <a:pt x="1004038" y="2147888"/>
                  </a:lnTo>
                  <a:lnTo>
                    <a:pt x="980239" y="2147359"/>
                  </a:lnTo>
                  <a:lnTo>
                    <a:pt x="956440" y="2146301"/>
                  </a:lnTo>
                  <a:lnTo>
                    <a:pt x="932642" y="2144449"/>
                  </a:lnTo>
                  <a:lnTo>
                    <a:pt x="908843" y="2142067"/>
                  </a:lnTo>
                  <a:lnTo>
                    <a:pt x="884780" y="2138892"/>
                  </a:lnTo>
                  <a:lnTo>
                    <a:pt x="860981" y="2135188"/>
                  </a:lnTo>
                  <a:lnTo>
                    <a:pt x="837183" y="2130690"/>
                  </a:lnTo>
                  <a:lnTo>
                    <a:pt x="813384" y="2125663"/>
                  </a:lnTo>
                  <a:lnTo>
                    <a:pt x="789057" y="2120107"/>
                  </a:lnTo>
                  <a:lnTo>
                    <a:pt x="765522" y="2114022"/>
                  </a:lnTo>
                  <a:lnTo>
                    <a:pt x="741724" y="2106878"/>
                  </a:lnTo>
                  <a:lnTo>
                    <a:pt x="718190" y="2099734"/>
                  </a:lnTo>
                  <a:lnTo>
                    <a:pt x="694920" y="2091532"/>
                  </a:lnTo>
                  <a:lnTo>
                    <a:pt x="671650" y="2082801"/>
                  </a:lnTo>
                  <a:lnTo>
                    <a:pt x="648645" y="2073276"/>
                  </a:lnTo>
                  <a:lnTo>
                    <a:pt x="625904" y="2063486"/>
                  </a:lnTo>
                  <a:lnTo>
                    <a:pt x="603163" y="2052903"/>
                  </a:lnTo>
                  <a:lnTo>
                    <a:pt x="580686" y="2042055"/>
                  </a:lnTo>
                  <a:lnTo>
                    <a:pt x="558474" y="2030149"/>
                  </a:lnTo>
                  <a:lnTo>
                    <a:pt x="536527" y="2018242"/>
                  </a:lnTo>
                  <a:lnTo>
                    <a:pt x="514844" y="2005542"/>
                  </a:lnTo>
                  <a:lnTo>
                    <a:pt x="493425" y="1992313"/>
                  </a:lnTo>
                  <a:lnTo>
                    <a:pt x="472270" y="1978555"/>
                  </a:lnTo>
                  <a:lnTo>
                    <a:pt x="451116" y="1964003"/>
                  </a:lnTo>
                  <a:lnTo>
                    <a:pt x="430491" y="1949186"/>
                  </a:lnTo>
                  <a:lnTo>
                    <a:pt x="410130" y="1933576"/>
                  </a:lnTo>
                  <a:lnTo>
                    <a:pt x="390033" y="1917701"/>
                  </a:lnTo>
                  <a:lnTo>
                    <a:pt x="370465" y="1901296"/>
                  </a:lnTo>
                  <a:lnTo>
                    <a:pt x="351162" y="1884099"/>
                  </a:lnTo>
                  <a:lnTo>
                    <a:pt x="332123" y="1867165"/>
                  </a:lnTo>
                  <a:lnTo>
                    <a:pt x="313613" y="1849174"/>
                  </a:lnTo>
                  <a:lnTo>
                    <a:pt x="295632" y="1830917"/>
                  </a:lnTo>
                  <a:lnTo>
                    <a:pt x="278179" y="1812132"/>
                  </a:lnTo>
                  <a:lnTo>
                    <a:pt x="260727" y="1792553"/>
                  </a:lnTo>
                  <a:lnTo>
                    <a:pt x="243804" y="1772974"/>
                  </a:lnTo>
                  <a:lnTo>
                    <a:pt x="227409" y="1753130"/>
                  </a:lnTo>
                  <a:lnTo>
                    <a:pt x="211543" y="1732492"/>
                  </a:lnTo>
                  <a:lnTo>
                    <a:pt x="196206" y="1711590"/>
                  </a:lnTo>
                  <a:lnTo>
                    <a:pt x="181134" y="1690159"/>
                  </a:lnTo>
                  <a:lnTo>
                    <a:pt x="166590" y="1668463"/>
                  </a:lnTo>
                  <a:lnTo>
                    <a:pt x="152840" y="1646503"/>
                  </a:lnTo>
                  <a:lnTo>
                    <a:pt x="139354" y="1624542"/>
                  </a:lnTo>
                  <a:lnTo>
                    <a:pt x="126397" y="1601788"/>
                  </a:lnTo>
                  <a:lnTo>
                    <a:pt x="114498" y="1578505"/>
                  </a:lnTo>
                  <a:lnTo>
                    <a:pt x="102598" y="1555221"/>
                  </a:lnTo>
                  <a:lnTo>
                    <a:pt x="91492" y="1531673"/>
                  </a:lnTo>
                  <a:lnTo>
                    <a:pt x="80915" y="1507861"/>
                  </a:lnTo>
                  <a:lnTo>
                    <a:pt x="70867" y="1483784"/>
                  </a:lnTo>
                  <a:lnTo>
                    <a:pt x="61612" y="1458913"/>
                  </a:lnTo>
                  <a:lnTo>
                    <a:pt x="57117" y="1446742"/>
                  </a:lnTo>
                  <a:lnTo>
                    <a:pt x="52886" y="1434307"/>
                  </a:lnTo>
                  <a:lnTo>
                    <a:pt x="48655" y="1421871"/>
                  </a:lnTo>
                  <a:lnTo>
                    <a:pt x="44688" y="1409171"/>
                  </a:lnTo>
                  <a:lnTo>
                    <a:pt x="40986" y="1396736"/>
                  </a:lnTo>
                  <a:lnTo>
                    <a:pt x="37284" y="1384036"/>
                  </a:lnTo>
                  <a:lnTo>
                    <a:pt x="33582" y="1371071"/>
                  </a:lnTo>
                  <a:lnTo>
                    <a:pt x="30409" y="1358371"/>
                  </a:lnTo>
                  <a:lnTo>
                    <a:pt x="27236" y="1345407"/>
                  </a:lnTo>
                  <a:lnTo>
                    <a:pt x="24063" y="1332707"/>
                  </a:lnTo>
                  <a:lnTo>
                    <a:pt x="21154" y="1319742"/>
                  </a:lnTo>
                  <a:lnTo>
                    <a:pt x="18774" y="1306513"/>
                  </a:lnTo>
                  <a:lnTo>
                    <a:pt x="16130" y="1293548"/>
                  </a:lnTo>
                  <a:lnTo>
                    <a:pt x="14015" y="1280848"/>
                  </a:lnTo>
                  <a:lnTo>
                    <a:pt x="11635" y="1268148"/>
                  </a:lnTo>
                  <a:lnTo>
                    <a:pt x="9784" y="1255448"/>
                  </a:lnTo>
                  <a:lnTo>
                    <a:pt x="7933" y="1242484"/>
                  </a:lnTo>
                  <a:lnTo>
                    <a:pt x="6346" y="1229784"/>
                  </a:lnTo>
                  <a:lnTo>
                    <a:pt x="3702" y="1204648"/>
                  </a:lnTo>
                  <a:lnTo>
                    <a:pt x="1851" y="1179248"/>
                  </a:lnTo>
                  <a:lnTo>
                    <a:pt x="529" y="1154642"/>
                  </a:lnTo>
                  <a:lnTo>
                    <a:pt x="0" y="1129507"/>
                  </a:lnTo>
                  <a:lnTo>
                    <a:pt x="0" y="1105165"/>
                  </a:lnTo>
                  <a:lnTo>
                    <a:pt x="793" y="1080823"/>
                  </a:lnTo>
                  <a:lnTo>
                    <a:pt x="1851" y="1056217"/>
                  </a:lnTo>
                  <a:lnTo>
                    <a:pt x="4231" y="1032405"/>
                  </a:lnTo>
                  <a:lnTo>
                    <a:pt x="6611" y="1008592"/>
                  </a:lnTo>
                  <a:lnTo>
                    <a:pt x="9784" y="985044"/>
                  </a:lnTo>
                  <a:lnTo>
                    <a:pt x="13750" y="961496"/>
                  </a:lnTo>
                  <a:lnTo>
                    <a:pt x="18245" y="938477"/>
                  </a:lnTo>
                  <a:lnTo>
                    <a:pt x="23270" y="915723"/>
                  </a:lnTo>
                  <a:lnTo>
                    <a:pt x="28823" y="894027"/>
                  </a:lnTo>
                  <a:lnTo>
                    <a:pt x="34905" y="872067"/>
                  </a:lnTo>
                  <a:lnTo>
                    <a:pt x="41515" y="850636"/>
                  </a:lnTo>
                  <a:lnTo>
                    <a:pt x="48655" y="829734"/>
                  </a:lnTo>
                  <a:lnTo>
                    <a:pt x="56323" y="808567"/>
                  </a:lnTo>
                  <a:lnTo>
                    <a:pt x="64785" y="787929"/>
                  </a:lnTo>
                  <a:lnTo>
                    <a:pt x="73511" y="767821"/>
                  </a:lnTo>
                  <a:lnTo>
                    <a:pt x="82766" y="747977"/>
                  </a:lnTo>
                  <a:lnTo>
                    <a:pt x="92550" y="728398"/>
                  </a:lnTo>
                  <a:lnTo>
                    <a:pt x="102598" y="709084"/>
                  </a:lnTo>
                  <a:lnTo>
                    <a:pt x="113704" y="690298"/>
                  </a:lnTo>
                  <a:lnTo>
                    <a:pt x="124810" y="671777"/>
                  </a:lnTo>
                  <a:lnTo>
                    <a:pt x="136181" y="653521"/>
                  </a:lnTo>
                  <a:lnTo>
                    <a:pt x="148345" y="635794"/>
                  </a:lnTo>
                  <a:lnTo>
                    <a:pt x="161037" y="618331"/>
                  </a:lnTo>
                  <a:lnTo>
                    <a:pt x="174259" y="601398"/>
                  </a:lnTo>
                  <a:lnTo>
                    <a:pt x="187480" y="585259"/>
                  </a:lnTo>
                  <a:lnTo>
                    <a:pt x="200966" y="569384"/>
                  </a:lnTo>
                  <a:lnTo>
                    <a:pt x="214981" y="553773"/>
                  </a:lnTo>
                  <a:lnTo>
                    <a:pt x="229260" y="538956"/>
                  </a:lnTo>
                  <a:lnTo>
                    <a:pt x="243804" y="524404"/>
                  </a:lnTo>
                  <a:lnTo>
                    <a:pt x="258876" y="510117"/>
                  </a:lnTo>
                  <a:lnTo>
                    <a:pt x="274477" y="496359"/>
                  </a:lnTo>
                  <a:lnTo>
                    <a:pt x="290343" y="483129"/>
                  </a:lnTo>
                  <a:lnTo>
                    <a:pt x="306738" y="470165"/>
                  </a:lnTo>
                  <a:lnTo>
                    <a:pt x="323132" y="457465"/>
                  </a:lnTo>
                  <a:lnTo>
                    <a:pt x="340056" y="445294"/>
                  </a:lnTo>
                  <a:lnTo>
                    <a:pt x="357508" y="433917"/>
                  </a:lnTo>
                  <a:lnTo>
                    <a:pt x="374961" y="422540"/>
                  </a:lnTo>
                  <a:lnTo>
                    <a:pt x="392942" y="411956"/>
                  </a:lnTo>
                  <a:lnTo>
                    <a:pt x="411187" y="401902"/>
                  </a:lnTo>
                  <a:lnTo>
                    <a:pt x="429697" y="392113"/>
                  </a:lnTo>
                  <a:lnTo>
                    <a:pt x="447943" y="383117"/>
                  </a:lnTo>
                  <a:lnTo>
                    <a:pt x="466717" y="374386"/>
                  </a:lnTo>
                  <a:lnTo>
                    <a:pt x="485492" y="366183"/>
                  </a:lnTo>
                  <a:lnTo>
                    <a:pt x="504795" y="358511"/>
                  </a:lnTo>
                  <a:lnTo>
                    <a:pt x="524099" y="351631"/>
                  </a:lnTo>
                  <a:lnTo>
                    <a:pt x="543931" y="344752"/>
                  </a:lnTo>
                  <a:lnTo>
                    <a:pt x="564027" y="338667"/>
                  </a:lnTo>
                  <a:lnTo>
                    <a:pt x="584388" y="333111"/>
                  </a:lnTo>
                  <a:lnTo>
                    <a:pt x="604749" y="327819"/>
                  </a:lnTo>
                  <a:lnTo>
                    <a:pt x="625639" y="323321"/>
                  </a:lnTo>
                  <a:lnTo>
                    <a:pt x="646529" y="319088"/>
                  </a:lnTo>
                  <a:lnTo>
                    <a:pt x="667684" y="315383"/>
                  </a:lnTo>
                  <a:lnTo>
                    <a:pt x="689367" y="312208"/>
                  </a:lnTo>
                  <a:lnTo>
                    <a:pt x="710786" y="309563"/>
                  </a:lnTo>
                  <a:lnTo>
                    <a:pt x="732733" y="307446"/>
                  </a:lnTo>
                  <a:lnTo>
                    <a:pt x="754681" y="306123"/>
                  </a:lnTo>
                  <a:lnTo>
                    <a:pt x="776364" y="305065"/>
                  </a:lnTo>
                  <a:lnTo>
                    <a:pt x="797783" y="304800"/>
                  </a:lnTo>
                  <a:close/>
                  <a:moveTo>
                    <a:pt x="1971872" y="292100"/>
                  </a:moveTo>
                  <a:lnTo>
                    <a:pt x="2122487" y="334433"/>
                  </a:lnTo>
                  <a:lnTo>
                    <a:pt x="1869877" y="587375"/>
                  </a:lnTo>
                  <a:lnTo>
                    <a:pt x="1719262" y="545042"/>
                  </a:lnTo>
                  <a:lnTo>
                    <a:pt x="1971872" y="292100"/>
                  </a:lnTo>
                  <a:close/>
                  <a:moveTo>
                    <a:pt x="1898928" y="190500"/>
                  </a:moveTo>
                  <a:lnTo>
                    <a:pt x="1903425" y="190765"/>
                  </a:lnTo>
                  <a:lnTo>
                    <a:pt x="1907921" y="191560"/>
                  </a:lnTo>
                  <a:lnTo>
                    <a:pt x="1912418" y="192355"/>
                  </a:lnTo>
                  <a:lnTo>
                    <a:pt x="1916650" y="194209"/>
                  </a:lnTo>
                  <a:lnTo>
                    <a:pt x="1920882" y="196064"/>
                  </a:lnTo>
                  <a:lnTo>
                    <a:pt x="1925114" y="198183"/>
                  </a:lnTo>
                  <a:lnTo>
                    <a:pt x="1928818" y="201098"/>
                  </a:lnTo>
                  <a:lnTo>
                    <a:pt x="1932521" y="204542"/>
                  </a:lnTo>
                  <a:lnTo>
                    <a:pt x="1935695" y="208251"/>
                  </a:lnTo>
                  <a:lnTo>
                    <a:pt x="1938604" y="211696"/>
                  </a:lnTo>
                  <a:lnTo>
                    <a:pt x="1940985" y="215670"/>
                  </a:lnTo>
                  <a:lnTo>
                    <a:pt x="1942837" y="219909"/>
                  </a:lnTo>
                  <a:lnTo>
                    <a:pt x="1944159" y="224413"/>
                  </a:lnTo>
                  <a:lnTo>
                    <a:pt x="1945482" y="228917"/>
                  </a:lnTo>
                  <a:lnTo>
                    <a:pt x="1946011" y="233156"/>
                  </a:lnTo>
                  <a:lnTo>
                    <a:pt x="1946275" y="237925"/>
                  </a:lnTo>
                  <a:lnTo>
                    <a:pt x="1946011" y="242430"/>
                  </a:lnTo>
                  <a:lnTo>
                    <a:pt x="1945482" y="246934"/>
                  </a:lnTo>
                  <a:lnTo>
                    <a:pt x="1944159" y="251173"/>
                  </a:lnTo>
                  <a:lnTo>
                    <a:pt x="1942837" y="255677"/>
                  </a:lnTo>
                  <a:lnTo>
                    <a:pt x="1940985" y="259916"/>
                  </a:lnTo>
                  <a:lnTo>
                    <a:pt x="1938604" y="263890"/>
                  </a:lnTo>
                  <a:lnTo>
                    <a:pt x="1935695" y="267864"/>
                  </a:lnTo>
                  <a:lnTo>
                    <a:pt x="1932521" y="271044"/>
                  </a:lnTo>
                  <a:lnTo>
                    <a:pt x="1064661" y="1140336"/>
                  </a:lnTo>
                  <a:lnTo>
                    <a:pt x="1061222" y="1143515"/>
                  </a:lnTo>
                  <a:lnTo>
                    <a:pt x="1057255" y="1146430"/>
                  </a:lnTo>
                  <a:lnTo>
                    <a:pt x="1053287" y="1148814"/>
                  </a:lnTo>
                  <a:lnTo>
                    <a:pt x="1049055" y="1150934"/>
                  </a:lnTo>
                  <a:lnTo>
                    <a:pt x="1044558" y="1152259"/>
                  </a:lnTo>
                  <a:lnTo>
                    <a:pt x="1040326" y="1153318"/>
                  </a:lnTo>
                  <a:lnTo>
                    <a:pt x="1035829" y="1153848"/>
                  </a:lnTo>
                  <a:lnTo>
                    <a:pt x="1031597" y="1154113"/>
                  </a:lnTo>
                  <a:lnTo>
                    <a:pt x="1026571" y="1153848"/>
                  </a:lnTo>
                  <a:lnTo>
                    <a:pt x="1022075" y="1153318"/>
                  </a:lnTo>
                  <a:lnTo>
                    <a:pt x="1018107" y="1152259"/>
                  </a:lnTo>
                  <a:lnTo>
                    <a:pt x="1013610" y="1150934"/>
                  </a:lnTo>
                  <a:lnTo>
                    <a:pt x="1009378" y="1148814"/>
                  </a:lnTo>
                  <a:lnTo>
                    <a:pt x="1005411" y="1146430"/>
                  </a:lnTo>
                  <a:lnTo>
                    <a:pt x="1001443" y="1143515"/>
                  </a:lnTo>
                  <a:lnTo>
                    <a:pt x="998004" y="1140336"/>
                  </a:lnTo>
                  <a:lnTo>
                    <a:pt x="994566" y="1136892"/>
                  </a:lnTo>
                  <a:lnTo>
                    <a:pt x="991921" y="1132917"/>
                  </a:lnTo>
                  <a:lnTo>
                    <a:pt x="989540" y="1128943"/>
                  </a:lnTo>
                  <a:lnTo>
                    <a:pt x="987688" y="1124704"/>
                  </a:lnTo>
                  <a:lnTo>
                    <a:pt x="986101" y="1120465"/>
                  </a:lnTo>
                  <a:lnTo>
                    <a:pt x="985043" y="1115961"/>
                  </a:lnTo>
                  <a:lnTo>
                    <a:pt x="984250" y="1111457"/>
                  </a:lnTo>
                  <a:lnTo>
                    <a:pt x="984250" y="1106953"/>
                  </a:lnTo>
                  <a:lnTo>
                    <a:pt x="984250" y="1102448"/>
                  </a:lnTo>
                  <a:lnTo>
                    <a:pt x="985043" y="1097944"/>
                  </a:lnTo>
                  <a:lnTo>
                    <a:pt x="986101" y="1093440"/>
                  </a:lnTo>
                  <a:lnTo>
                    <a:pt x="987688" y="1089201"/>
                  </a:lnTo>
                  <a:lnTo>
                    <a:pt x="989540" y="1084962"/>
                  </a:lnTo>
                  <a:lnTo>
                    <a:pt x="991921" y="1080723"/>
                  </a:lnTo>
                  <a:lnTo>
                    <a:pt x="994566" y="1077278"/>
                  </a:lnTo>
                  <a:lnTo>
                    <a:pt x="998004" y="1073569"/>
                  </a:lnTo>
                  <a:lnTo>
                    <a:pt x="1865599" y="204542"/>
                  </a:lnTo>
                  <a:lnTo>
                    <a:pt x="1869303" y="201098"/>
                  </a:lnTo>
                  <a:lnTo>
                    <a:pt x="1873270" y="198183"/>
                  </a:lnTo>
                  <a:lnTo>
                    <a:pt x="1877238" y="196064"/>
                  </a:lnTo>
                  <a:lnTo>
                    <a:pt x="1881470" y="194209"/>
                  </a:lnTo>
                  <a:lnTo>
                    <a:pt x="1885438" y="192355"/>
                  </a:lnTo>
                  <a:lnTo>
                    <a:pt x="1889934" y="191560"/>
                  </a:lnTo>
                  <a:lnTo>
                    <a:pt x="1894431" y="190765"/>
                  </a:lnTo>
                  <a:lnTo>
                    <a:pt x="1898928" y="190500"/>
                  </a:lnTo>
                  <a:close/>
                  <a:moveTo>
                    <a:pt x="1813227" y="0"/>
                  </a:moveTo>
                  <a:lnTo>
                    <a:pt x="1855787" y="150615"/>
                  </a:lnTo>
                  <a:lnTo>
                    <a:pt x="1602807" y="403225"/>
                  </a:lnTo>
                  <a:lnTo>
                    <a:pt x="1560512" y="252610"/>
                  </a:lnTo>
                  <a:lnTo>
                    <a:pt x="1813227" y="0"/>
                  </a:ln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椭圆 9"/>
            <p:cNvSpPr/>
            <p:nvPr/>
          </p:nvSpPr>
          <p:spPr>
            <a:xfrm>
              <a:off x="1870200" y="2583000"/>
              <a:ext cx="720720" cy="722160"/>
            </a:xfrm>
            <a:prstGeom prst="ellipse">
              <a:avLst/>
            </a:prstGeom>
            <a:noFill/>
            <a:ln w="12600">
              <a:solidFill>
                <a:srgbClr val="a362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8" name="组合 10"/>
          <p:cNvGrpSpPr/>
          <p:nvPr/>
        </p:nvGrpSpPr>
        <p:grpSpPr>
          <a:xfrm>
            <a:off x="1870200" y="5491080"/>
            <a:ext cx="720720" cy="722520"/>
            <a:chOff x="1870200" y="5491080"/>
            <a:chExt cx="720720" cy="722520"/>
          </a:xfrm>
        </p:grpSpPr>
        <p:sp>
          <p:nvSpPr>
            <p:cNvPr id="199" name="KSO_Shape"/>
            <p:cNvSpPr/>
            <p:nvPr/>
          </p:nvSpPr>
          <p:spPr>
            <a:xfrm>
              <a:off x="2019240" y="5614920"/>
              <a:ext cx="422280" cy="47484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椭圆 12"/>
            <p:cNvSpPr/>
            <p:nvPr/>
          </p:nvSpPr>
          <p:spPr>
            <a:xfrm>
              <a:off x="1870200" y="5491080"/>
              <a:ext cx="720720" cy="722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1" name="椭圆 15"/>
          <p:cNvSpPr/>
          <p:nvPr/>
        </p:nvSpPr>
        <p:spPr>
          <a:xfrm>
            <a:off x="1870200" y="1614600"/>
            <a:ext cx="720720" cy="722160"/>
          </a:xfrm>
          <a:prstGeom prst="ellipse">
            <a:avLst/>
          </a:prstGeom>
          <a:noFill/>
          <a:ln w="12600">
            <a:solidFill>
              <a:srgbClr val="d35f3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2" name="组合 16"/>
          <p:cNvGrpSpPr/>
          <p:nvPr/>
        </p:nvGrpSpPr>
        <p:grpSpPr>
          <a:xfrm>
            <a:off x="1870200" y="3552840"/>
            <a:ext cx="720720" cy="722160"/>
            <a:chOff x="1870200" y="3552840"/>
            <a:chExt cx="720720" cy="722160"/>
          </a:xfrm>
        </p:grpSpPr>
        <p:sp>
          <p:nvSpPr>
            <p:cNvPr id="203" name="KSO_Shape"/>
            <p:cNvSpPr/>
            <p:nvPr/>
          </p:nvSpPr>
          <p:spPr>
            <a:xfrm>
              <a:off x="2030400" y="3676680"/>
              <a:ext cx="399960" cy="474480"/>
            </a:xfrm>
            <a:custGeom>
              <a:avLst/>
              <a:gdLst/>
              <a:ahLst/>
              <a:rect l="l" t="t" r="r" b="b"/>
              <a:pathLst>
                <a:path w="1966913" h="2327275">
                  <a:moveTo>
                    <a:pt x="954753" y="1302893"/>
                  </a:moveTo>
                  <a:lnTo>
                    <a:pt x="954489" y="1306067"/>
                  </a:lnTo>
                  <a:lnTo>
                    <a:pt x="954753" y="1309506"/>
                  </a:lnTo>
                  <a:lnTo>
                    <a:pt x="955547" y="1313209"/>
                  </a:lnTo>
                  <a:lnTo>
                    <a:pt x="957134" y="1316118"/>
                  </a:lnTo>
                  <a:lnTo>
                    <a:pt x="959251" y="1319292"/>
                  </a:lnTo>
                  <a:lnTo>
                    <a:pt x="961896" y="1322466"/>
                  </a:lnTo>
                  <a:lnTo>
                    <a:pt x="965071" y="1325111"/>
                  </a:lnTo>
                  <a:lnTo>
                    <a:pt x="968510" y="1328020"/>
                  </a:lnTo>
                  <a:lnTo>
                    <a:pt x="972478" y="1330136"/>
                  </a:lnTo>
                  <a:lnTo>
                    <a:pt x="976182" y="1332517"/>
                  </a:lnTo>
                  <a:lnTo>
                    <a:pt x="980679" y="1334368"/>
                  </a:lnTo>
                  <a:lnTo>
                    <a:pt x="985176" y="1336219"/>
                  </a:lnTo>
                  <a:lnTo>
                    <a:pt x="990467" y="1337542"/>
                  </a:lnTo>
                  <a:lnTo>
                    <a:pt x="995229" y="1338864"/>
                  </a:lnTo>
                  <a:lnTo>
                    <a:pt x="1000255" y="1339658"/>
                  </a:lnTo>
                  <a:lnTo>
                    <a:pt x="1005282" y="1339922"/>
                  </a:lnTo>
                  <a:lnTo>
                    <a:pt x="1010308" y="1340451"/>
                  </a:lnTo>
                  <a:lnTo>
                    <a:pt x="1015335" y="1340451"/>
                  </a:lnTo>
                  <a:lnTo>
                    <a:pt x="1050255" y="1340451"/>
                  </a:lnTo>
                  <a:lnTo>
                    <a:pt x="1055017" y="1340451"/>
                  </a:lnTo>
                  <a:lnTo>
                    <a:pt x="1060043" y="1339922"/>
                  </a:lnTo>
                  <a:lnTo>
                    <a:pt x="1065070" y="1339658"/>
                  </a:lnTo>
                  <a:lnTo>
                    <a:pt x="1070096" y="1338864"/>
                  </a:lnTo>
                  <a:lnTo>
                    <a:pt x="1075123" y="1337542"/>
                  </a:lnTo>
                  <a:lnTo>
                    <a:pt x="1079884" y="1336219"/>
                  </a:lnTo>
                  <a:lnTo>
                    <a:pt x="1084646" y="1334368"/>
                  </a:lnTo>
                  <a:lnTo>
                    <a:pt x="1088879" y="1332517"/>
                  </a:lnTo>
                  <a:lnTo>
                    <a:pt x="1093112" y="1330136"/>
                  </a:lnTo>
                  <a:lnTo>
                    <a:pt x="1097080" y="1328020"/>
                  </a:lnTo>
                  <a:lnTo>
                    <a:pt x="1100519" y="1325111"/>
                  </a:lnTo>
                  <a:lnTo>
                    <a:pt x="1103429" y="1322466"/>
                  </a:lnTo>
                  <a:lnTo>
                    <a:pt x="1106075" y="1319292"/>
                  </a:lnTo>
                  <a:lnTo>
                    <a:pt x="1108191" y="1316118"/>
                  </a:lnTo>
                  <a:lnTo>
                    <a:pt x="1109778" y="1313209"/>
                  </a:lnTo>
                  <a:lnTo>
                    <a:pt x="1110836" y="1309506"/>
                  </a:lnTo>
                  <a:lnTo>
                    <a:pt x="1111101" y="1306067"/>
                  </a:lnTo>
                  <a:lnTo>
                    <a:pt x="1110836" y="1302893"/>
                  </a:lnTo>
                  <a:lnTo>
                    <a:pt x="1048668" y="1302893"/>
                  </a:lnTo>
                  <a:lnTo>
                    <a:pt x="1016657" y="1302893"/>
                  </a:lnTo>
                  <a:lnTo>
                    <a:pt x="954753" y="1302893"/>
                  </a:lnTo>
                  <a:close/>
                  <a:moveTo>
                    <a:pt x="941261" y="1215611"/>
                  </a:moveTo>
                  <a:lnTo>
                    <a:pt x="937822" y="1215875"/>
                  </a:lnTo>
                  <a:lnTo>
                    <a:pt x="934383" y="1216404"/>
                  </a:lnTo>
                  <a:lnTo>
                    <a:pt x="931208" y="1217462"/>
                  </a:lnTo>
                  <a:lnTo>
                    <a:pt x="928034" y="1218520"/>
                  </a:lnTo>
                  <a:lnTo>
                    <a:pt x="924859" y="1219842"/>
                  </a:lnTo>
                  <a:lnTo>
                    <a:pt x="922214" y="1221694"/>
                  </a:lnTo>
                  <a:lnTo>
                    <a:pt x="919568" y="1223545"/>
                  </a:lnTo>
                  <a:lnTo>
                    <a:pt x="916923" y="1225661"/>
                  </a:lnTo>
                  <a:lnTo>
                    <a:pt x="914806" y="1228306"/>
                  </a:lnTo>
                  <a:lnTo>
                    <a:pt x="912955" y="1230951"/>
                  </a:lnTo>
                  <a:lnTo>
                    <a:pt x="911103" y="1233596"/>
                  </a:lnTo>
                  <a:lnTo>
                    <a:pt x="909780" y="1236770"/>
                  </a:lnTo>
                  <a:lnTo>
                    <a:pt x="908722" y="1239944"/>
                  </a:lnTo>
                  <a:lnTo>
                    <a:pt x="907664" y="1243118"/>
                  </a:lnTo>
                  <a:lnTo>
                    <a:pt x="907135" y="1246556"/>
                  </a:lnTo>
                  <a:lnTo>
                    <a:pt x="906870" y="1249995"/>
                  </a:lnTo>
                  <a:lnTo>
                    <a:pt x="907135" y="1253698"/>
                  </a:lnTo>
                  <a:lnTo>
                    <a:pt x="907664" y="1256872"/>
                  </a:lnTo>
                  <a:lnTo>
                    <a:pt x="908722" y="1260310"/>
                  </a:lnTo>
                  <a:lnTo>
                    <a:pt x="909780" y="1263484"/>
                  </a:lnTo>
                  <a:lnTo>
                    <a:pt x="911103" y="1266129"/>
                  </a:lnTo>
                  <a:lnTo>
                    <a:pt x="912955" y="1269303"/>
                  </a:lnTo>
                  <a:lnTo>
                    <a:pt x="914806" y="1271948"/>
                  </a:lnTo>
                  <a:lnTo>
                    <a:pt x="916923" y="1274328"/>
                  </a:lnTo>
                  <a:lnTo>
                    <a:pt x="919568" y="1276444"/>
                  </a:lnTo>
                  <a:lnTo>
                    <a:pt x="922214" y="1278560"/>
                  </a:lnTo>
                  <a:lnTo>
                    <a:pt x="924859" y="1280147"/>
                  </a:lnTo>
                  <a:lnTo>
                    <a:pt x="928034" y="1281734"/>
                  </a:lnTo>
                  <a:lnTo>
                    <a:pt x="931208" y="1282792"/>
                  </a:lnTo>
                  <a:lnTo>
                    <a:pt x="934383" y="1283585"/>
                  </a:lnTo>
                  <a:lnTo>
                    <a:pt x="937822" y="1284114"/>
                  </a:lnTo>
                  <a:lnTo>
                    <a:pt x="941261" y="1284114"/>
                  </a:lnTo>
                  <a:lnTo>
                    <a:pt x="1124064" y="1284114"/>
                  </a:lnTo>
                  <a:lnTo>
                    <a:pt x="1127768" y="1284114"/>
                  </a:lnTo>
                  <a:lnTo>
                    <a:pt x="1130942" y="1283585"/>
                  </a:lnTo>
                  <a:lnTo>
                    <a:pt x="1134381" y="1282792"/>
                  </a:lnTo>
                  <a:lnTo>
                    <a:pt x="1137556" y="1281734"/>
                  </a:lnTo>
                  <a:lnTo>
                    <a:pt x="1140466" y="1280147"/>
                  </a:lnTo>
                  <a:lnTo>
                    <a:pt x="1143376" y="1278560"/>
                  </a:lnTo>
                  <a:lnTo>
                    <a:pt x="1146021" y="1276444"/>
                  </a:lnTo>
                  <a:lnTo>
                    <a:pt x="1148402" y="1274328"/>
                  </a:lnTo>
                  <a:lnTo>
                    <a:pt x="1150783" y="1271948"/>
                  </a:lnTo>
                  <a:lnTo>
                    <a:pt x="1152635" y="1269303"/>
                  </a:lnTo>
                  <a:lnTo>
                    <a:pt x="1154222" y="1266129"/>
                  </a:lnTo>
                  <a:lnTo>
                    <a:pt x="1155810" y="1263484"/>
                  </a:lnTo>
                  <a:lnTo>
                    <a:pt x="1156868" y="1260310"/>
                  </a:lnTo>
                  <a:lnTo>
                    <a:pt x="1157661" y="1256872"/>
                  </a:lnTo>
                  <a:lnTo>
                    <a:pt x="1158191" y="1253698"/>
                  </a:lnTo>
                  <a:lnTo>
                    <a:pt x="1158191" y="1249995"/>
                  </a:lnTo>
                  <a:lnTo>
                    <a:pt x="1158191" y="1246556"/>
                  </a:lnTo>
                  <a:lnTo>
                    <a:pt x="1157661" y="1243118"/>
                  </a:lnTo>
                  <a:lnTo>
                    <a:pt x="1156868" y="1239944"/>
                  </a:lnTo>
                  <a:lnTo>
                    <a:pt x="1155810" y="1236770"/>
                  </a:lnTo>
                  <a:lnTo>
                    <a:pt x="1154222" y="1233596"/>
                  </a:lnTo>
                  <a:lnTo>
                    <a:pt x="1152635" y="1230951"/>
                  </a:lnTo>
                  <a:lnTo>
                    <a:pt x="1150783" y="1228306"/>
                  </a:lnTo>
                  <a:lnTo>
                    <a:pt x="1148402" y="1225661"/>
                  </a:lnTo>
                  <a:lnTo>
                    <a:pt x="1146021" y="1223545"/>
                  </a:lnTo>
                  <a:lnTo>
                    <a:pt x="1143376" y="1221694"/>
                  </a:lnTo>
                  <a:lnTo>
                    <a:pt x="1140466" y="1219842"/>
                  </a:lnTo>
                  <a:lnTo>
                    <a:pt x="1137556" y="1218520"/>
                  </a:lnTo>
                  <a:lnTo>
                    <a:pt x="1134381" y="1217462"/>
                  </a:lnTo>
                  <a:lnTo>
                    <a:pt x="1130942" y="1216404"/>
                  </a:lnTo>
                  <a:lnTo>
                    <a:pt x="1127768" y="1215875"/>
                  </a:lnTo>
                  <a:lnTo>
                    <a:pt x="1124064" y="1215611"/>
                  </a:lnTo>
                  <a:lnTo>
                    <a:pt x="941261" y="1215611"/>
                  </a:lnTo>
                  <a:close/>
                  <a:moveTo>
                    <a:pt x="941261" y="1129121"/>
                  </a:moveTo>
                  <a:lnTo>
                    <a:pt x="937822" y="1129386"/>
                  </a:lnTo>
                  <a:lnTo>
                    <a:pt x="934383" y="1130179"/>
                  </a:lnTo>
                  <a:lnTo>
                    <a:pt x="931208" y="1130973"/>
                  </a:lnTo>
                  <a:lnTo>
                    <a:pt x="928034" y="1132031"/>
                  </a:lnTo>
                  <a:lnTo>
                    <a:pt x="924859" y="1133353"/>
                  </a:lnTo>
                  <a:lnTo>
                    <a:pt x="922214" y="1135205"/>
                  </a:lnTo>
                  <a:lnTo>
                    <a:pt x="919568" y="1137056"/>
                  </a:lnTo>
                  <a:lnTo>
                    <a:pt x="916923" y="1139437"/>
                  </a:lnTo>
                  <a:lnTo>
                    <a:pt x="914806" y="1141817"/>
                  </a:lnTo>
                  <a:lnTo>
                    <a:pt x="912955" y="1144462"/>
                  </a:lnTo>
                  <a:lnTo>
                    <a:pt x="911103" y="1147107"/>
                  </a:lnTo>
                  <a:lnTo>
                    <a:pt x="909780" y="1150281"/>
                  </a:lnTo>
                  <a:lnTo>
                    <a:pt x="908722" y="1153455"/>
                  </a:lnTo>
                  <a:lnTo>
                    <a:pt x="907664" y="1156629"/>
                  </a:lnTo>
                  <a:lnTo>
                    <a:pt x="907135" y="1160067"/>
                  </a:lnTo>
                  <a:lnTo>
                    <a:pt x="906870" y="1163505"/>
                  </a:lnTo>
                  <a:lnTo>
                    <a:pt x="907135" y="1167208"/>
                  </a:lnTo>
                  <a:lnTo>
                    <a:pt x="907664" y="1170382"/>
                  </a:lnTo>
                  <a:lnTo>
                    <a:pt x="908722" y="1173821"/>
                  </a:lnTo>
                  <a:lnTo>
                    <a:pt x="909780" y="1176995"/>
                  </a:lnTo>
                  <a:lnTo>
                    <a:pt x="911103" y="1179640"/>
                  </a:lnTo>
                  <a:lnTo>
                    <a:pt x="912955" y="1182813"/>
                  </a:lnTo>
                  <a:lnTo>
                    <a:pt x="914806" y="1185458"/>
                  </a:lnTo>
                  <a:lnTo>
                    <a:pt x="916923" y="1187839"/>
                  </a:lnTo>
                  <a:lnTo>
                    <a:pt x="919568" y="1189955"/>
                  </a:lnTo>
                  <a:lnTo>
                    <a:pt x="922214" y="1191806"/>
                  </a:lnTo>
                  <a:lnTo>
                    <a:pt x="924859" y="1193658"/>
                  </a:lnTo>
                  <a:lnTo>
                    <a:pt x="928034" y="1195245"/>
                  </a:lnTo>
                  <a:lnTo>
                    <a:pt x="931208" y="1196303"/>
                  </a:lnTo>
                  <a:lnTo>
                    <a:pt x="934383" y="1197096"/>
                  </a:lnTo>
                  <a:lnTo>
                    <a:pt x="937822" y="1197625"/>
                  </a:lnTo>
                  <a:lnTo>
                    <a:pt x="941261" y="1197625"/>
                  </a:lnTo>
                  <a:lnTo>
                    <a:pt x="1124064" y="1197625"/>
                  </a:lnTo>
                  <a:lnTo>
                    <a:pt x="1127768" y="1197625"/>
                  </a:lnTo>
                  <a:lnTo>
                    <a:pt x="1130942" y="1197096"/>
                  </a:lnTo>
                  <a:lnTo>
                    <a:pt x="1134381" y="1196303"/>
                  </a:lnTo>
                  <a:lnTo>
                    <a:pt x="1137556" y="1195245"/>
                  </a:lnTo>
                  <a:lnTo>
                    <a:pt x="1140466" y="1193658"/>
                  </a:lnTo>
                  <a:lnTo>
                    <a:pt x="1143376" y="1191806"/>
                  </a:lnTo>
                  <a:lnTo>
                    <a:pt x="1146021" y="1189955"/>
                  </a:lnTo>
                  <a:lnTo>
                    <a:pt x="1148402" y="1187839"/>
                  </a:lnTo>
                  <a:lnTo>
                    <a:pt x="1150783" y="1185458"/>
                  </a:lnTo>
                  <a:lnTo>
                    <a:pt x="1152635" y="1182813"/>
                  </a:lnTo>
                  <a:lnTo>
                    <a:pt x="1154222" y="1179640"/>
                  </a:lnTo>
                  <a:lnTo>
                    <a:pt x="1155810" y="1176995"/>
                  </a:lnTo>
                  <a:lnTo>
                    <a:pt x="1156868" y="1173821"/>
                  </a:lnTo>
                  <a:lnTo>
                    <a:pt x="1157661" y="1170382"/>
                  </a:lnTo>
                  <a:lnTo>
                    <a:pt x="1158191" y="1167208"/>
                  </a:lnTo>
                  <a:lnTo>
                    <a:pt x="1158191" y="1163505"/>
                  </a:lnTo>
                  <a:lnTo>
                    <a:pt x="1158191" y="1160067"/>
                  </a:lnTo>
                  <a:lnTo>
                    <a:pt x="1157661" y="1156629"/>
                  </a:lnTo>
                  <a:lnTo>
                    <a:pt x="1156868" y="1153455"/>
                  </a:lnTo>
                  <a:lnTo>
                    <a:pt x="1155810" y="1150281"/>
                  </a:lnTo>
                  <a:lnTo>
                    <a:pt x="1154222" y="1147107"/>
                  </a:lnTo>
                  <a:lnTo>
                    <a:pt x="1152635" y="1144462"/>
                  </a:lnTo>
                  <a:lnTo>
                    <a:pt x="1150783" y="1141817"/>
                  </a:lnTo>
                  <a:lnTo>
                    <a:pt x="1148402" y="1139437"/>
                  </a:lnTo>
                  <a:lnTo>
                    <a:pt x="1146021" y="1137056"/>
                  </a:lnTo>
                  <a:lnTo>
                    <a:pt x="1143376" y="1135205"/>
                  </a:lnTo>
                  <a:lnTo>
                    <a:pt x="1140466" y="1133353"/>
                  </a:lnTo>
                  <a:lnTo>
                    <a:pt x="1137556" y="1132031"/>
                  </a:lnTo>
                  <a:lnTo>
                    <a:pt x="1134381" y="1130973"/>
                  </a:lnTo>
                  <a:lnTo>
                    <a:pt x="1130942" y="1130179"/>
                  </a:lnTo>
                  <a:lnTo>
                    <a:pt x="1127768" y="1129386"/>
                  </a:lnTo>
                  <a:lnTo>
                    <a:pt x="1124064" y="1129121"/>
                  </a:lnTo>
                  <a:lnTo>
                    <a:pt x="941261" y="1129121"/>
                  </a:lnTo>
                  <a:close/>
                  <a:moveTo>
                    <a:pt x="1341787" y="876266"/>
                  </a:moveTo>
                  <a:lnTo>
                    <a:pt x="1336231" y="884201"/>
                  </a:lnTo>
                  <a:lnTo>
                    <a:pt x="1330676" y="891871"/>
                  </a:lnTo>
                  <a:lnTo>
                    <a:pt x="1325120" y="899277"/>
                  </a:lnTo>
                  <a:lnTo>
                    <a:pt x="1319565" y="906418"/>
                  </a:lnTo>
                  <a:lnTo>
                    <a:pt x="1308189" y="920172"/>
                  </a:lnTo>
                  <a:lnTo>
                    <a:pt x="1297078" y="932867"/>
                  </a:lnTo>
                  <a:lnTo>
                    <a:pt x="1362686" y="998726"/>
                  </a:lnTo>
                  <a:lnTo>
                    <a:pt x="1365596" y="1001107"/>
                  </a:lnTo>
                  <a:lnTo>
                    <a:pt x="1368241" y="1003223"/>
                  </a:lnTo>
                  <a:lnTo>
                    <a:pt x="1371416" y="1005074"/>
                  </a:lnTo>
                  <a:lnTo>
                    <a:pt x="1374591" y="1006396"/>
                  </a:lnTo>
                  <a:lnTo>
                    <a:pt x="1377765" y="1007719"/>
                  </a:lnTo>
                  <a:lnTo>
                    <a:pt x="1381204" y="1008512"/>
                  </a:lnTo>
                  <a:lnTo>
                    <a:pt x="1384643" y="1009041"/>
                  </a:lnTo>
                  <a:lnTo>
                    <a:pt x="1388083" y="1009041"/>
                  </a:lnTo>
                  <a:lnTo>
                    <a:pt x="1391522" y="1009041"/>
                  </a:lnTo>
                  <a:lnTo>
                    <a:pt x="1394961" y="1008512"/>
                  </a:lnTo>
                  <a:lnTo>
                    <a:pt x="1398400" y="1007719"/>
                  </a:lnTo>
                  <a:lnTo>
                    <a:pt x="1401839" y="1006396"/>
                  </a:lnTo>
                  <a:lnTo>
                    <a:pt x="1404749" y="1005074"/>
                  </a:lnTo>
                  <a:lnTo>
                    <a:pt x="1407924" y="1003223"/>
                  </a:lnTo>
                  <a:lnTo>
                    <a:pt x="1410834" y="1001107"/>
                  </a:lnTo>
                  <a:lnTo>
                    <a:pt x="1413479" y="998726"/>
                  </a:lnTo>
                  <a:lnTo>
                    <a:pt x="1416125" y="995817"/>
                  </a:lnTo>
                  <a:lnTo>
                    <a:pt x="1417976" y="993172"/>
                  </a:lnTo>
                  <a:lnTo>
                    <a:pt x="1420093" y="989998"/>
                  </a:lnTo>
                  <a:lnTo>
                    <a:pt x="1421416" y="986824"/>
                  </a:lnTo>
                  <a:lnTo>
                    <a:pt x="1422474" y="983386"/>
                  </a:lnTo>
                  <a:lnTo>
                    <a:pt x="1423267" y="980212"/>
                  </a:lnTo>
                  <a:lnTo>
                    <a:pt x="1423797" y="976773"/>
                  </a:lnTo>
                  <a:lnTo>
                    <a:pt x="1423797" y="973335"/>
                  </a:lnTo>
                  <a:lnTo>
                    <a:pt x="1423797" y="969632"/>
                  </a:lnTo>
                  <a:lnTo>
                    <a:pt x="1423267" y="966458"/>
                  </a:lnTo>
                  <a:lnTo>
                    <a:pt x="1422474" y="963020"/>
                  </a:lnTo>
                  <a:lnTo>
                    <a:pt x="1421416" y="959581"/>
                  </a:lnTo>
                  <a:lnTo>
                    <a:pt x="1420093" y="956672"/>
                  </a:lnTo>
                  <a:lnTo>
                    <a:pt x="1417976" y="953498"/>
                  </a:lnTo>
                  <a:lnTo>
                    <a:pt x="1416125" y="950588"/>
                  </a:lnTo>
                  <a:lnTo>
                    <a:pt x="1413479" y="947944"/>
                  </a:lnTo>
                  <a:lnTo>
                    <a:pt x="1341787" y="876266"/>
                  </a:lnTo>
                  <a:close/>
                  <a:moveTo>
                    <a:pt x="723538" y="876266"/>
                  </a:moveTo>
                  <a:lnTo>
                    <a:pt x="651846" y="947944"/>
                  </a:lnTo>
                  <a:lnTo>
                    <a:pt x="649465" y="950588"/>
                  </a:lnTo>
                  <a:lnTo>
                    <a:pt x="647084" y="953498"/>
                  </a:lnTo>
                  <a:lnTo>
                    <a:pt x="645497" y="956672"/>
                  </a:lnTo>
                  <a:lnTo>
                    <a:pt x="644174" y="959581"/>
                  </a:lnTo>
                  <a:lnTo>
                    <a:pt x="642587" y="963020"/>
                  </a:lnTo>
                  <a:lnTo>
                    <a:pt x="642058" y="966458"/>
                  </a:lnTo>
                  <a:lnTo>
                    <a:pt x="641529" y="969632"/>
                  </a:lnTo>
                  <a:lnTo>
                    <a:pt x="641264" y="973335"/>
                  </a:lnTo>
                  <a:lnTo>
                    <a:pt x="641529" y="976773"/>
                  </a:lnTo>
                  <a:lnTo>
                    <a:pt x="642058" y="980212"/>
                  </a:lnTo>
                  <a:lnTo>
                    <a:pt x="642587" y="983386"/>
                  </a:lnTo>
                  <a:lnTo>
                    <a:pt x="644174" y="986824"/>
                  </a:lnTo>
                  <a:lnTo>
                    <a:pt x="645497" y="989998"/>
                  </a:lnTo>
                  <a:lnTo>
                    <a:pt x="647084" y="993172"/>
                  </a:lnTo>
                  <a:lnTo>
                    <a:pt x="649465" y="995817"/>
                  </a:lnTo>
                  <a:lnTo>
                    <a:pt x="651846" y="998726"/>
                  </a:lnTo>
                  <a:lnTo>
                    <a:pt x="654491" y="1001107"/>
                  </a:lnTo>
                  <a:lnTo>
                    <a:pt x="657666" y="1003223"/>
                  </a:lnTo>
                  <a:lnTo>
                    <a:pt x="660576" y="1005074"/>
                  </a:lnTo>
                  <a:lnTo>
                    <a:pt x="663751" y="1006396"/>
                  </a:lnTo>
                  <a:lnTo>
                    <a:pt x="667190" y="1007719"/>
                  </a:lnTo>
                  <a:lnTo>
                    <a:pt x="670629" y="1008512"/>
                  </a:lnTo>
                  <a:lnTo>
                    <a:pt x="673803" y="1009041"/>
                  </a:lnTo>
                  <a:lnTo>
                    <a:pt x="677243" y="1009041"/>
                  </a:lnTo>
                  <a:lnTo>
                    <a:pt x="680682" y="1009041"/>
                  </a:lnTo>
                  <a:lnTo>
                    <a:pt x="683856" y="1008512"/>
                  </a:lnTo>
                  <a:lnTo>
                    <a:pt x="687295" y="1007719"/>
                  </a:lnTo>
                  <a:lnTo>
                    <a:pt x="690734" y="1006396"/>
                  </a:lnTo>
                  <a:lnTo>
                    <a:pt x="694174" y="1005074"/>
                  </a:lnTo>
                  <a:lnTo>
                    <a:pt x="696819" y="1003223"/>
                  </a:lnTo>
                  <a:lnTo>
                    <a:pt x="699994" y="1001107"/>
                  </a:lnTo>
                  <a:lnTo>
                    <a:pt x="702639" y="998726"/>
                  </a:lnTo>
                  <a:lnTo>
                    <a:pt x="768512" y="932867"/>
                  </a:lnTo>
                  <a:lnTo>
                    <a:pt x="757401" y="920172"/>
                  </a:lnTo>
                  <a:lnTo>
                    <a:pt x="745760" y="906418"/>
                  </a:lnTo>
                  <a:lnTo>
                    <a:pt x="740205" y="899277"/>
                  </a:lnTo>
                  <a:lnTo>
                    <a:pt x="734649" y="891606"/>
                  </a:lnTo>
                  <a:lnTo>
                    <a:pt x="728829" y="884201"/>
                  </a:lnTo>
                  <a:lnTo>
                    <a:pt x="723538" y="876266"/>
                  </a:lnTo>
                  <a:close/>
                  <a:moveTo>
                    <a:pt x="1407659" y="582150"/>
                  </a:moveTo>
                  <a:lnTo>
                    <a:pt x="1408982" y="594581"/>
                  </a:lnTo>
                  <a:lnTo>
                    <a:pt x="1410040" y="607276"/>
                  </a:lnTo>
                  <a:lnTo>
                    <a:pt x="1411098" y="620237"/>
                  </a:lnTo>
                  <a:lnTo>
                    <a:pt x="1411098" y="633197"/>
                  </a:lnTo>
                  <a:lnTo>
                    <a:pt x="1411098" y="643512"/>
                  </a:lnTo>
                  <a:lnTo>
                    <a:pt x="1410834" y="653827"/>
                  </a:lnTo>
                  <a:lnTo>
                    <a:pt x="1535436" y="653827"/>
                  </a:lnTo>
                  <a:lnTo>
                    <a:pt x="1539139" y="653563"/>
                  </a:lnTo>
                  <a:lnTo>
                    <a:pt x="1542314" y="653034"/>
                  </a:lnTo>
                  <a:lnTo>
                    <a:pt x="1546018" y="652240"/>
                  </a:lnTo>
                  <a:lnTo>
                    <a:pt x="1549192" y="651182"/>
                  </a:lnTo>
                  <a:lnTo>
                    <a:pt x="1552631" y="649331"/>
                  </a:lnTo>
                  <a:lnTo>
                    <a:pt x="1555277" y="647744"/>
                  </a:lnTo>
                  <a:lnTo>
                    <a:pt x="1558187" y="645628"/>
                  </a:lnTo>
                  <a:lnTo>
                    <a:pt x="1560568" y="643247"/>
                  </a:lnTo>
                  <a:lnTo>
                    <a:pt x="1562949" y="640603"/>
                  </a:lnTo>
                  <a:lnTo>
                    <a:pt x="1565065" y="637958"/>
                  </a:lnTo>
                  <a:lnTo>
                    <a:pt x="1566917" y="635048"/>
                  </a:lnTo>
                  <a:lnTo>
                    <a:pt x="1568504" y="631874"/>
                  </a:lnTo>
                  <a:lnTo>
                    <a:pt x="1569562" y="628700"/>
                  </a:lnTo>
                  <a:lnTo>
                    <a:pt x="1570356" y="625262"/>
                  </a:lnTo>
                  <a:lnTo>
                    <a:pt x="1571150" y="621559"/>
                  </a:lnTo>
                  <a:lnTo>
                    <a:pt x="1571414" y="617856"/>
                  </a:lnTo>
                  <a:lnTo>
                    <a:pt x="1571150" y="614418"/>
                  </a:lnTo>
                  <a:lnTo>
                    <a:pt x="1570356" y="610715"/>
                  </a:lnTo>
                  <a:lnTo>
                    <a:pt x="1569562" y="607276"/>
                  </a:lnTo>
                  <a:lnTo>
                    <a:pt x="1568504" y="603838"/>
                  </a:lnTo>
                  <a:lnTo>
                    <a:pt x="1566917" y="600929"/>
                  </a:lnTo>
                  <a:lnTo>
                    <a:pt x="1565065" y="598019"/>
                  </a:lnTo>
                  <a:lnTo>
                    <a:pt x="1562949" y="595110"/>
                  </a:lnTo>
                  <a:lnTo>
                    <a:pt x="1560568" y="592729"/>
                  </a:lnTo>
                  <a:lnTo>
                    <a:pt x="1558187" y="590084"/>
                  </a:lnTo>
                  <a:lnTo>
                    <a:pt x="1555277" y="588233"/>
                  </a:lnTo>
                  <a:lnTo>
                    <a:pt x="1552631" y="586646"/>
                  </a:lnTo>
                  <a:lnTo>
                    <a:pt x="1549192" y="584794"/>
                  </a:lnTo>
                  <a:lnTo>
                    <a:pt x="1546018" y="583736"/>
                  </a:lnTo>
                  <a:lnTo>
                    <a:pt x="1542314" y="582943"/>
                  </a:lnTo>
                  <a:lnTo>
                    <a:pt x="1539139" y="582414"/>
                  </a:lnTo>
                  <a:lnTo>
                    <a:pt x="1535436" y="582150"/>
                  </a:lnTo>
                  <a:lnTo>
                    <a:pt x="1407659" y="582150"/>
                  </a:lnTo>
                  <a:close/>
                  <a:moveTo>
                    <a:pt x="530154" y="582150"/>
                  </a:moveTo>
                  <a:lnTo>
                    <a:pt x="526450" y="582414"/>
                  </a:lnTo>
                  <a:lnTo>
                    <a:pt x="522747" y="582943"/>
                  </a:lnTo>
                  <a:lnTo>
                    <a:pt x="519308" y="583736"/>
                  </a:lnTo>
                  <a:lnTo>
                    <a:pt x="516133" y="584794"/>
                  </a:lnTo>
                  <a:lnTo>
                    <a:pt x="512958" y="586646"/>
                  </a:lnTo>
                  <a:lnTo>
                    <a:pt x="509784" y="588233"/>
                  </a:lnTo>
                  <a:lnTo>
                    <a:pt x="507403" y="590084"/>
                  </a:lnTo>
                  <a:lnTo>
                    <a:pt x="504493" y="592729"/>
                  </a:lnTo>
                  <a:lnTo>
                    <a:pt x="502376" y="595110"/>
                  </a:lnTo>
                  <a:lnTo>
                    <a:pt x="500260" y="598019"/>
                  </a:lnTo>
                  <a:lnTo>
                    <a:pt x="498408" y="600929"/>
                  </a:lnTo>
                  <a:lnTo>
                    <a:pt x="497085" y="603838"/>
                  </a:lnTo>
                  <a:lnTo>
                    <a:pt x="495763" y="607276"/>
                  </a:lnTo>
                  <a:lnTo>
                    <a:pt x="494969" y="610715"/>
                  </a:lnTo>
                  <a:lnTo>
                    <a:pt x="494440" y="614418"/>
                  </a:lnTo>
                  <a:lnTo>
                    <a:pt x="494175" y="617856"/>
                  </a:lnTo>
                  <a:lnTo>
                    <a:pt x="494440" y="621559"/>
                  </a:lnTo>
                  <a:lnTo>
                    <a:pt x="494969" y="625262"/>
                  </a:lnTo>
                  <a:lnTo>
                    <a:pt x="495763" y="628700"/>
                  </a:lnTo>
                  <a:lnTo>
                    <a:pt x="497085" y="631874"/>
                  </a:lnTo>
                  <a:lnTo>
                    <a:pt x="498408" y="635048"/>
                  </a:lnTo>
                  <a:lnTo>
                    <a:pt x="500260" y="637958"/>
                  </a:lnTo>
                  <a:lnTo>
                    <a:pt x="502376" y="640603"/>
                  </a:lnTo>
                  <a:lnTo>
                    <a:pt x="504493" y="643247"/>
                  </a:lnTo>
                  <a:lnTo>
                    <a:pt x="507403" y="645628"/>
                  </a:lnTo>
                  <a:lnTo>
                    <a:pt x="509784" y="647744"/>
                  </a:lnTo>
                  <a:lnTo>
                    <a:pt x="512958" y="649331"/>
                  </a:lnTo>
                  <a:lnTo>
                    <a:pt x="516133" y="651182"/>
                  </a:lnTo>
                  <a:lnTo>
                    <a:pt x="519308" y="652240"/>
                  </a:lnTo>
                  <a:lnTo>
                    <a:pt x="522747" y="653034"/>
                  </a:lnTo>
                  <a:lnTo>
                    <a:pt x="526450" y="653563"/>
                  </a:lnTo>
                  <a:lnTo>
                    <a:pt x="530154" y="653827"/>
                  </a:lnTo>
                  <a:lnTo>
                    <a:pt x="654756" y="653827"/>
                  </a:lnTo>
                  <a:lnTo>
                    <a:pt x="654491" y="643512"/>
                  </a:lnTo>
                  <a:lnTo>
                    <a:pt x="654227" y="633197"/>
                  </a:lnTo>
                  <a:lnTo>
                    <a:pt x="654491" y="620237"/>
                  </a:lnTo>
                  <a:lnTo>
                    <a:pt x="655285" y="607276"/>
                  </a:lnTo>
                  <a:lnTo>
                    <a:pt x="656079" y="594581"/>
                  </a:lnTo>
                  <a:lnTo>
                    <a:pt x="657666" y="582150"/>
                  </a:lnTo>
                  <a:lnTo>
                    <a:pt x="530154" y="582150"/>
                  </a:lnTo>
                  <a:close/>
                  <a:moveTo>
                    <a:pt x="1010822" y="371475"/>
                  </a:moveTo>
                  <a:lnTo>
                    <a:pt x="1014779" y="372005"/>
                  </a:lnTo>
                  <a:lnTo>
                    <a:pt x="1018472" y="372270"/>
                  </a:lnTo>
                  <a:lnTo>
                    <a:pt x="1021902" y="373065"/>
                  </a:lnTo>
                  <a:lnTo>
                    <a:pt x="1025331" y="374126"/>
                  </a:lnTo>
                  <a:lnTo>
                    <a:pt x="1028497" y="375451"/>
                  </a:lnTo>
                  <a:lnTo>
                    <a:pt x="1031927" y="377306"/>
                  </a:lnTo>
                  <a:lnTo>
                    <a:pt x="1034565" y="379427"/>
                  </a:lnTo>
                  <a:lnTo>
                    <a:pt x="1037467" y="381813"/>
                  </a:lnTo>
                  <a:lnTo>
                    <a:pt x="1039841" y="384198"/>
                  </a:lnTo>
                  <a:lnTo>
                    <a:pt x="1041951" y="387114"/>
                  </a:lnTo>
                  <a:lnTo>
                    <a:pt x="1043798" y="389764"/>
                  </a:lnTo>
                  <a:lnTo>
                    <a:pt x="1045645" y="393210"/>
                  </a:lnTo>
                  <a:lnTo>
                    <a:pt x="1046964" y="396656"/>
                  </a:lnTo>
                  <a:lnTo>
                    <a:pt x="1048019" y="400102"/>
                  </a:lnTo>
                  <a:lnTo>
                    <a:pt x="1048547" y="403548"/>
                  </a:lnTo>
                  <a:lnTo>
                    <a:pt x="1049338" y="407523"/>
                  </a:lnTo>
                  <a:lnTo>
                    <a:pt x="1049074" y="411234"/>
                  </a:lnTo>
                  <a:lnTo>
                    <a:pt x="1048547" y="414945"/>
                  </a:lnTo>
                  <a:lnTo>
                    <a:pt x="1047755" y="418656"/>
                  </a:lnTo>
                  <a:lnTo>
                    <a:pt x="1046700" y="421837"/>
                  </a:lnTo>
                  <a:lnTo>
                    <a:pt x="1045381" y="425283"/>
                  </a:lnTo>
                  <a:lnTo>
                    <a:pt x="1043534" y="428463"/>
                  </a:lnTo>
                  <a:lnTo>
                    <a:pt x="1041424" y="431644"/>
                  </a:lnTo>
                  <a:lnTo>
                    <a:pt x="1039049" y="434030"/>
                  </a:lnTo>
                  <a:lnTo>
                    <a:pt x="1036675" y="436680"/>
                  </a:lnTo>
                  <a:lnTo>
                    <a:pt x="1033773" y="438801"/>
                  </a:lnTo>
                  <a:lnTo>
                    <a:pt x="1031135" y="440921"/>
                  </a:lnTo>
                  <a:lnTo>
                    <a:pt x="1027706" y="442512"/>
                  </a:lnTo>
                  <a:lnTo>
                    <a:pt x="1024276" y="443837"/>
                  </a:lnTo>
                  <a:lnTo>
                    <a:pt x="1020846" y="445162"/>
                  </a:lnTo>
                  <a:lnTo>
                    <a:pt x="1017417" y="445692"/>
                  </a:lnTo>
                  <a:lnTo>
                    <a:pt x="1013460" y="445957"/>
                  </a:lnTo>
                  <a:lnTo>
                    <a:pt x="1005809" y="446487"/>
                  </a:lnTo>
                  <a:lnTo>
                    <a:pt x="998422" y="447018"/>
                  </a:lnTo>
                  <a:lnTo>
                    <a:pt x="991563" y="447813"/>
                  </a:lnTo>
                  <a:lnTo>
                    <a:pt x="984704" y="448873"/>
                  </a:lnTo>
                  <a:lnTo>
                    <a:pt x="978373" y="450198"/>
                  </a:lnTo>
                  <a:lnTo>
                    <a:pt x="972305" y="451524"/>
                  </a:lnTo>
                  <a:lnTo>
                    <a:pt x="965973" y="453114"/>
                  </a:lnTo>
                  <a:lnTo>
                    <a:pt x="960433" y="454969"/>
                  </a:lnTo>
                  <a:lnTo>
                    <a:pt x="954893" y="456825"/>
                  </a:lnTo>
                  <a:lnTo>
                    <a:pt x="949881" y="458945"/>
                  </a:lnTo>
                  <a:lnTo>
                    <a:pt x="944868" y="461066"/>
                  </a:lnTo>
                  <a:lnTo>
                    <a:pt x="939856" y="463716"/>
                  </a:lnTo>
                  <a:lnTo>
                    <a:pt x="935371" y="466102"/>
                  </a:lnTo>
                  <a:lnTo>
                    <a:pt x="930886" y="468753"/>
                  </a:lnTo>
                  <a:lnTo>
                    <a:pt x="926665" y="471403"/>
                  </a:lnTo>
                  <a:lnTo>
                    <a:pt x="922444" y="474319"/>
                  </a:lnTo>
                  <a:lnTo>
                    <a:pt x="918487" y="477235"/>
                  </a:lnTo>
                  <a:lnTo>
                    <a:pt x="914530" y="480150"/>
                  </a:lnTo>
                  <a:lnTo>
                    <a:pt x="910837" y="483331"/>
                  </a:lnTo>
                  <a:lnTo>
                    <a:pt x="907671" y="486777"/>
                  </a:lnTo>
                  <a:lnTo>
                    <a:pt x="900812" y="493403"/>
                  </a:lnTo>
                  <a:lnTo>
                    <a:pt x="894744" y="500825"/>
                  </a:lnTo>
                  <a:lnTo>
                    <a:pt x="888940" y="508247"/>
                  </a:lnTo>
                  <a:lnTo>
                    <a:pt x="883928" y="516199"/>
                  </a:lnTo>
                  <a:lnTo>
                    <a:pt x="879443" y="524150"/>
                  </a:lnTo>
                  <a:lnTo>
                    <a:pt x="874958" y="532367"/>
                  </a:lnTo>
                  <a:lnTo>
                    <a:pt x="871529" y="540319"/>
                  </a:lnTo>
                  <a:lnTo>
                    <a:pt x="868099" y="548801"/>
                  </a:lnTo>
                  <a:lnTo>
                    <a:pt x="864933" y="557018"/>
                  </a:lnTo>
                  <a:lnTo>
                    <a:pt x="862559" y="565235"/>
                  </a:lnTo>
                  <a:lnTo>
                    <a:pt x="860185" y="573452"/>
                  </a:lnTo>
                  <a:lnTo>
                    <a:pt x="858338" y="580874"/>
                  </a:lnTo>
                  <a:lnTo>
                    <a:pt x="856491" y="588295"/>
                  </a:lnTo>
                  <a:lnTo>
                    <a:pt x="855436" y="595187"/>
                  </a:lnTo>
                  <a:lnTo>
                    <a:pt x="853589" y="607645"/>
                  </a:lnTo>
                  <a:lnTo>
                    <a:pt x="852270" y="617717"/>
                  </a:lnTo>
                  <a:lnTo>
                    <a:pt x="852006" y="624874"/>
                  </a:lnTo>
                  <a:lnTo>
                    <a:pt x="851743" y="627789"/>
                  </a:lnTo>
                  <a:lnTo>
                    <a:pt x="851743" y="631765"/>
                  </a:lnTo>
                  <a:lnTo>
                    <a:pt x="851215" y="635476"/>
                  </a:lnTo>
                  <a:lnTo>
                    <a:pt x="850160" y="638922"/>
                  </a:lnTo>
                  <a:lnTo>
                    <a:pt x="849104" y="642633"/>
                  </a:lnTo>
                  <a:lnTo>
                    <a:pt x="847258" y="645549"/>
                  </a:lnTo>
                  <a:lnTo>
                    <a:pt x="845675" y="648729"/>
                  </a:lnTo>
                  <a:lnTo>
                    <a:pt x="843301" y="651645"/>
                  </a:lnTo>
                  <a:lnTo>
                    <a:pt x="841190" y="654296"/>
                  </a:lnTo>
                  <a:lnTo>
                    <a:pt x="838288" y="656681"/>
                  </a:lnTo>
                  <a:lnTo>
                    <a:pt x="835650" y="658802"/>
                  </a:lnTo>
                  <a:lnTo>
                    <a:pt x="832484" y="660657"/>
                  </a:lnTo>
                  <a:lnTo>
                    <a:pt x="829319" y="662247"/>
                  </a:lnTo>
                  <a:lnTo>
                    <a:pt x="826153" y="663308"/>
                  </a:lnTo>
                  <a:lnTo>
                    <a:pt x="822459" y="664103"/>
                  </a:lnTo>
                  <a:lnTo>
                    <a:pt x="818766" y="664898"/>
                  </a:lnTo>
                  <a:lnTo>
                    <a:pt x="814809" y="665163"/>
                  </a:lnTo>
                  <a:lnTo>
                    <a:pt x="811115" y="664898"/>
                  </a:lnTo>
                  <a:lnTo>
                    <a:pt x="807686" y="664103"/>
                  </a:lnTo>
                  <a:lnTo>
                    <a:pt x="803993" y="663308"/>
                  </a:lnTo>
                  <a:lnTo>
                    <a:pt x="800563" y="662247"/>
                  </a:lnTo>
                  <a:lnTo>
                    <a:pt x="797133" y="660657"/>
                  </a:lnTo>
                  <a:lnTo>
                    <a:pt x="794495" y="658802"/>
                  </a:lnTo>
                  <a:lnTo>
                    <a:pt x="791330" y="656681"/>
                  </a:lnTo>
                  <a:lnTo>
                    <a:pt x="788691" y="654296"/>
                  </a:lnTo>
                  <a:lnTo>
                    <a:pt x="786317" y="651645"/>
                  </a:lnTo>
                  <a:lnTo>
                    <a:pt x="784207" y="648729"/>
                  </a:lnTo>
                  <a:lnTo>
                    <a:pt x="782360" y="645549"/>
                  </a:lnTo>
                  <a:lnTo>
                    <a:pt x="781041" y="642633"/>
                  </a:lnTo>
                  <a:lnTo>
                    <a:pt x="779458" y="638922"/>
                  </a:lnTo>
                  <a:lnTo>
                    <a:pt x="778667" y="635476"/>
                  </a:lnTo>
                  <a:lnTo>
                    <a:pt x="778139" y="631765"/>
                  </a:lnTo>
                  <a:lnTo>
                    <a:pt x="777875" y="627789"/>
                  </a:lnTo>
                  <a:lnTo>
                    <a:pt x="778139" y="623814"/>
                  </a:lnTo>
                  <a:lnTo>
                    <a:pt x="778667" y="613741"/>
                  </a:lnTo>
                  <a:lnTo>
                    <a:pt x="779194" y="606850"/>
                  </a:lnTo>
                  <a:lnTo>
                    <a:pt x="780249" y="598898"/>
                  </a:lnTo>
                  <a:lnTo>
                    <a:pt x="781305" y="590151"/>
                  </a:lnTo>
                  <a:lnTo>
                    <a:pt x="782888" y="580343"/>
                  </a:lnTo>
                  <a:lnTo>
                    <a:pt x="785262" y="569741"/>
                  </a:lnTo>
                  <a:lnTo>
                    <a:pt x="787636" y="558343"/>
                  </a:lnTo>
                  <a:lnTo>
                    <a:pt x="790802" y="546681"/>
                  </a:lnTo>
                  <a:lnTo>
                    <a:pt x="794759" y="534223"/>
                  </a:lnTo>
                  <a:lnTo>
                    <a:pt x="799508" y="521500"/>
                  </a:lnTo>
                  <a:lnTo>
                    <a:pt x="801882" y="515138"/>
                  </a:lnTo>
                  <a:lnTo>
                    <a:pt x="804784" y="508247"/>
                  </a:lnTo>
                  <a:lnTo>
                    <a:pt x="807950" y="501885"/>
                  </a:lnTo>
                  <a:lnTo>
                    <a:pt x="810852" y="495524"/>
                  </a:lnTo>
                  <a:lnTo>
                    <a:pt x="814545" y="488632"/>
                  </a:lnTo>
                  <a:lnTo>
                    <a:pt x="818238" y="482271"/>
                  </a:lnTo>
                  <a:lnTo>
                    <a:pt x="823515" y="473259"/>
                  </a:lnTo>
                  <a:lnTo>
                    <a:pt x="829319" y="464512"/>
                  </a:lnTo>
                  <a:lnTo>
                    <a:pt x="835914" y="456030"/>
                  </a:lnTo>
                  <a:lnTo>
                    <a:pt x="842773" y="447548"/>
                  </a:lnTo>
                  <a:lnTo>
                    <a:pt x="850160" y="439331"/>
                  </a:lnTo>
                  <a:lnTo>
                    <a:pt x="858338" y="431379"/>
                  </a:lnTo>
                  <a:lnTo>
                    <a:pt x="867044" y="423692"/>
                  </a:lnTo>
                  <a:lnTo>
                    <a:pt x="876013" y="416270"/>
                  </a:lnTo>
                  <a:lnTo>
                    <a:pt x="882345" y="411499"/>
                  </a:lnTo>
                  <a:lnTo>
                    <a:pt x="888940" y="406993"/>
                  </a:lnTo>
                  <a:lnTo>
                    <a:pt x="896063" y="402752"/>
                  </a:lnTo>
                  <a:lnTo>
                    <a:pt x="903450" y="398776"/>
                  </a:lnTo>
                  <a:lnTo>
                    <a:pt x="910837" y="395066"/>
                  </a:lnTo>
                  <a:lnTo>
                    <a:pt x="918751" y="391620"/>
                  </a:lnTo>
                  <a:lnTo>
                    <a:pt x="926929" y="388174"/>
                  </a:lnTo>
                  <a:lnTo>
                    <a:pt x="935371" y="384993"/>
                  </a:lnTo>
                  <a:lnTo>
                    <a:pt x="943549" y="382343"/>
                  </a:lnTo>
                  <a:lnTo>
                    <a:pt x="952519" y="379957"/>
                  </a:lnTo>
                  <a:lnTo>
                    <a:pt x="961489" y="377837"/>
                  </a:lnTo>
                  <a:lnTo>
                    <a:pt x="970986" y="375716"/>
                  </a:lnTo>
                  <a:lnTo>
                    <a:pt x="980747" y="374391"/>
                  </a:lnTo>
                  <a:lnTo>
                    <a:pt x="990508" y="373065"/>
                  </a:lnTo>
                  <a:lnTo>
                    <a:pt x="1000533" y="372270"/>
                  </a:lnTo>
                  <a:lnTo>
                    <a:pt x="1010822" y="371475"/>
                  </a:lnTo>
                  <a:close/>
                  <a:moveTo>
                    <a:pt x="1024065" y="303903"/>
                  </a:moveTo>
                  <a:lnTo>
                    <a:pt x="1016128" y="304432"/>
                  </a:lnTo>
                  <a:lnTo>
                    <a:pt x="1001049" y="305490"/>
                  </a:lnTo>
                  <a:lnTo>
                    <a:pt x="997875" y="305754"/>
                  </a:lnTo>
                  <a:lnTo>
                    <a:pt x="990467" y="306548"/>
                  </a:lnTo>
                  <a:lnTo>
                    <a:pt x="983060" y="307606"/>
                  </a:lnTo>
                  <a:lnTo>
                    <a:pt x="975388" y="308928"/>
                  </a:lnTo>
                  <a:lnTo>
                    <a:pt x="968245" y="310251"/>
                  </a:lnTo>
                  <a:lnTo>
                    <a:pt x="960838" y="311573"/>
                  </a:lnTo>
                  <a:lnTo>
                    <a:pt x="953430" y="313424"/>
                  </a:lnTo>
                  <a:lnTo>
                    <a:pt x="946288" y="315276"/>
                  </a:lnTo>
                  <a:lnTo>
                    <a:pt x="938880" y="317392"/>
                  </a:lnTo>
                  <a:lnTo>
                    <a:pt x="915071" y="324269"/>
                  </a:lnTo>
                  <a:lnTo>
                    <a:pt x="915336" y="325591"/>
                  </a:lnTo>
                  <a:lnTo>
                    <a:pt x="904754" y="330088"/>
                  </a:lnTo>
                  <a:lnTo>
                    <a:pt x="893907" y="334584"/>
                  </a:lnTo>
                  <a:lnTo>
                    <a:pt x="883590" y="340138"/>
                  </a:lnTo>
                  <a:lnTo>
                    <a:pt x="873537" y="345428"/>
                  </a:lnTo>
                  <a:lnTo>
                    <a:pt x="863749" y="350983"/>
                  </a:lnTo>
                  <a:lnTo>
                    <a:pt x="853961" y="357066"/>
                  </a:lnTo>
                  <a:lnTo>
                    <a:pt x="844437" y="363678"/>
                  </a:lnTo>
                  <a:lnTo>
                    <a:pt x="835178" y="370291"/>
                  </a:lnTo>
                  <a:lnTo>
                    <a:pt x="826183" y="377432"/>
                  </a:lnTo>
                  <a:lnTo>
                    <a:pt x="817453" y="384573"/>
                  </a:lnTo>
                  <a:lnTo>
                    <a:pt x="808987" y="392508"/>
                  </a:lnTo>
                  <a:lnTo>
                    <a:pt x="800522" y="400443"/>
                  </a:lnTo>
                  <a:lnTo>
                    <a:pt x="792585" y="408642"/>
                  </a:lnTo>
                  <a:lnTo>
                    <a:pt x="785178" y="416841"/>
                  </a:lnTo>
                  <a:lnTo>
                    <a:pt x="777771" y="425570"/>
                  </a:lnTo>
                  <a:lnTo>
                    <a:pt x="770363" y="434562"/>
                  </a:lnTo>
                  <a:lnTo>
                    <a:pt x="762956" y="445407"/>
                  </a:lnTo>
                  <a:lnTo>
                    <a:pt x="755813" y="455986"/>
                  </a:lnTo>
                  <a:lnTo>
                    <a:pt x="748935" y="467095"/>
                  </a:lnTo>
                  <a:lnTo>
                    <a:pt x="742586" y="478468"/>
                  </a:lnTo>
                  <a:lnTo>
                    <a:pt x="736766" y="490106"/>
                  </a:lnTo>
                  <a:lnTo>
                    <a:pt x="731210" y="502008"/>
                  </a:lnTo>
                  <a:lnTo>
                    <a:pt x="726184" y="514439"/>
                  </a:lnTo>
                  <a:lnTo>
                    <a:pt x="721687" y="526606"/>
                  </a:lnTo>
                  <a:lnTo>
                    <a:pt x="717718" y="539302"/>
                  </a:lnTo>
                  <a:lnTo>
                    <a:pt x="714015" y="552262"/>
                  </a:lnTo>
                  <a:lnTo>
                    <a:pt x="710840" y="565222"/>
                  </a:lnTo>
                  <a:lnTo>
                    <a:pt x="708724" y="578447"/>
                  </a:lnTo>
                  <a:lnTo>
                    <a:pt x="706607" y="591936"/>
                  </a:lnTo>
                  <a:lnTo>
                    <a:pt x="705285" y="605689"/>
                  </a:lnTo>
                  <a:lnTo>
                    <a:pt x="704491" y="619443"/>
                  </a:lnTo>
                  <a:lnTo>
                    <a:pt x="704226" y="633197"/>
                  </a:lnTo>
                  <a:lnTo>
                    <a:pt x="704226" y="642983"/>
                  </a:lnTo>
                  <a:lnTo>
                    <a:pt x="704491" y="652769"/>
                  </a:lnTo>
                  <a:lnTo>
                    <a:pt x="705020" y="662026"/>
                  </a:lnTo>
                  <a:lnTo>
                    <a:pt x="705549" y="671284"/>
                  </a:lnTo>
                  <a:lnTo>
                    <a:pt x="706607" y="680541"/>
                  </a:lnTo>
                  <a:lnTo>
                    <a:pt x="707930" y="689269"/>
                  </a:lnTo>
                  <a:lnTo>
                    <a:pt x="708988" y="697998"/>
                  </a:lnTo>
                  <a:lnTo>
                    <a:pt x="710311" y="706461"/>
                  </a:lnTo>
                  <a:lnTo>
                    <a:pt x="712163" y="714661"/>
                  </a:lnTo>
                  <a:lnTo>
                    <a:pt x="713750" y="722595"/>
                  </a:lnTo>
                  <a:lnTo>
                    <a:pt x="715602" y="730266"/>
                  </a:lnTo>
                  <a:lnTo>
                    <a:pt x="717983" y="738200"/>
                  </a:lnTo>
                  <a:lnTo>
                    <a:pt x="720099" y="745342"/>
                  </a:lnTo>
                  <a:lnTo>
                    <a:pt x="722480" y="752748"/>
                  </a:lnTo>
                  <a:lnTo>
                    <a:pt x="724861" y="759624"/>
                  </a:lnTo>
                  <a:lnTo>
                    <a:pt x="727507" y="766766"/>
                  </a:lnTo>
                  <a:lnTo>
                    <a:pt x="731739" y="776816"/>
                  </a:lnTo>
                  <a:lnTo>
                    <a:pt x="736237" y="786338"/>
                  </a:lnTo>
                  <a:lnTo>
                    <a:pt x="740734" y="795595"/>
                  </a:lnTo>
                  <a:lnTo>
                    <a:pt x="745760" y="804324"/>
                  </a:lnTo>
                  <a:lnTo>
                    <a:pt x="750522" y="812788"/>
                  </a:lnTo>
                  <a:lnTo>
                    <a:pt x="755549" y="820987"/>
                  </a:lnTo>
                  <a:lnTo>
                    <a:pt x="760840" y="828922"/>
                  </a:lnTo>
                  <a:lnTo>
                    <a:pt x="766131" y="836327"/>
                  </a:lnTo>
                  <a:lnTo>
                    <a:pt x="771686" y="843469"/>
                  </a:lnTo>
                  <a:lnTo>
                    <a:pt x="776977" y="850346"/>
                  </a:lnTo>
                  <a:lnTo>
                    <a:pt x="782268" y="856958"/>
                  </a:lnTo>
                  <a:lnTo>
                    <a:pt x="787824" y="863041"/>
                  </a:lnTo>
                  <a:lnTo>
                    <a:pt x="798141" y="875208"/>
                  </a:lnTo>
                  <a:lnTo>
                    <a:pt x="808458" y="885788"/>
                  </a:lnTo>
                  <a:lnTo>
                    <a:pt x="826977" y="905096"/>
                  </a:lnTo>
                  <a:lnTo>
                    <a:pt x="834649" y="913824"/>
                  </a:lnTo>
                  <a:lnTo>
                    <a:pt x="841262" y="921759"/>
                  </a:lnTo>
                  <a:lnTo>
                    <a:pt x="844172" y="925726"/>
                  </a:lnTo>
                  <a:lnTo>
                    <a:pt x="846553" y="929165"/>
                  </a:lnTo>
                  <a:lnTo>
                    <a:pt x="848934" y="932338"/>
                  </a:lnTo>
                  <a:lnTo>
                    <a:pt x="850521" y="935512"/>
                  </a:lnTo>
                  <a:lnTo>
                    <a:pt x="851844" y="938686"/>
                  </a:lnTo>
                  <a:lnTo>
                    <a:pt x="852902" y="941067"/>
                  </a:lnTo>
                  <a:lnTo>
                    <a:pt x="853961" y="943976"/>
                  </a:lnTo>
                  <a:lnTo>
                    <a:pt x="854490" y="946092"/>
                  </a:lnTo>
                  <a:lnTo>
                    <a:pt x="856341" y="957994"/>
                  </a:lnTo>
                  <a:lnTo>
                    <a:pt x="857929" y="969896"/>
                  </a:lnTo>
                  <a:lnTo>
                    <a:pt x="858987" y="981799"/>
                  </a:lnTo>
                  <a:lnTo>
                    <a:pt x="859781" y="993436"/>
                  </a:lnTo>
                  <a:lnTo>
                    <a:pt x="860310" y="1003752"/>
                  </a:lnTo>
                  <a:lnTo>
                    <a:pt x="860574" y="1012744"/>
                  </a:lnTo>
                  <a:lnTo>
                    <a:pt x="860574" y="1025176"/>
                  </a:lnTo>
                  <a:lnTo>
                    <a:pt x="860574" y="1026762"/>
                  </a:lnTo>
                  <a:lnTo>
                    <a:pt x="860574" y="1027291"/>
                  </a:lnTo>
                  <a:lnTo>
                    <a:pt x="860574" y="1027556"/>
                  </a:lnTo>
                  <a:lnTo>
                    <a:pt x="860574" y="1027820"/>
                  </a:lnTo>
                  <a:lnTo>
                    <a:pt x="860839" y="1031788"/>
                  </a:lnTo>
                  <a:lnTo>
                    <a:pt x="861103" y="1036020"/>
                  </a:lnTo>
                  <a:lnTo>
                    <a:pt x="861632" y="1039987"/>
                  </a:lnTo>
                  <a:lnTo>
                    <a:pt x="862161" y="1043955"/>
                  </a:lnTo>
                  <a:lnTo>
                    <a:pt x="863220" y="1047922"/>
                  </a:lnTo>
                  <a:lnTo>
                    <a:pt x="864278" y="1051360"/>
                  </a:lnTo>
                  <a:lnTo>
                    <a:pt x="865601" y="1055063"/>
                  </a:lnTo>
                  <a:lnTo>
                    <a:pt x="867188" y="1058766"/>
                  </a:lnTo>
                  <a:lnTo>
                    <a:pt x="868511" y="1062469"/>
                  </a:lnTo>
                  <a:lnTo>
                    <a:pt x="870362" y="1065643"/>
                  </a:lnTo>
                  <a:lnTo>
                    <a:pt x="872479" y="1069081"/>
                  </a:lnTo>
                  <a:lnTo>
                    <a:pt x="874331" y="1072255"/>
                  </a:lnTo>
                  <a:lnTo>
                    <a:pt x="876712" y="1075694"/>
                  </a:lnTo>
                  <a:lnTo>
                    <a:pt x="878828" y="1078339"/>
                  </a:lnTo>
                  <a:lnTo>
                    <a:pt x="881473" y="1081513"/>
                  </a:lnTo>
                  <a:lnTo>
                    <a:pt x="884119" y="1083893"/>
                  </a:lnTo>
                  <a:lnTo>
                    <a:pt x="887029" y="1086802"/>
                  </a:lnTo>
                  <a:lnTo>
                    <a:pt x="889939" y="1089447"/>
                  </a:lnTo>
                  <a:lnTo>
                    <a:pt x="892849" y="1091563"/>
                  </a:lnTo>
                  <a:lnTo>
                    <a:pt x="896024" y="1093944"/>
                  </a:lnTo>
                  <a:lnTo>
                    <a:pt x="899198" y="1095795"/>
                  </a:lnTo>
                  <a:lnTo>
                    <a:pt x="902373" y="1097647"/>
                  </a:lnTo>
                  <a:lnTo>
                    <a:pt x="905812" y="1099763"/>
                  </a:lnTo>
                  <a:lnTo>
                    <a:pt x="909516" y="1101085"/>
                  </a:lnTo>
                  <a:lnTo>
                    <a:pt x="913219" y="1102408"/>
                  </a:lnTo>
                  <a:lnTo>
                    <a:pt x="916658" y="1103994"/>
                  </a:lnTo>
                  <a:lnTo>
                    <a:pt x="920627" y="1105052"/>
                  </a:lnTo>
                  <a:lnTo>
                    <a:pt x="924330" y="1105846"/>
                  </a:lnTo>
                  <a:lnTo>
                    <a:pt x="928298" y="1106375"/>
                  </a:lnTo>
                  <a:lnTo>
                    <a:pt x="932267" y="1106904"/>
                  </a:lnTo>
                  <a:lnTo>
                    <a:pt x="936499" y="1107433"/>
                  </a:lnTo>
                  <a:lnTo>
                    <a:pt x="940468" y="1107697"/>
                  </a:lnTo>
                  <a:lnTo>
                    <a:pt x="1124857" y="1107697"/>
                  </a:lnTo>
                  <a:lnTo>
                    <a:pt x="1129090" y="1107433"/>
                  </a:lnTo>
                  <a:lnTo>
                    <a:pt x="1133058" y="1106904"/>
                  </a:lnTo>
                  <a:lnTo>
                    <a:pt x="1137027" y="1106375"/>
                  </a:lnTo>
                  <a:lnTo>
                    <a:pt x="1140730" y="1105846"/>
                  </a:lnTo>
                  <a:lnTo>
                    <a:pt x="1144699" y="1105052"/>
                  </a:lnTo>
                  <a:lnTo>
                    <a:pt x="1148667" y="1103994"/>
                  </a:lnTo>
                  <a:lnTo>
                    <a:pt x="1152370" y="1102408"/>
                  </a:lnTo>
                  <a:lnTo>
                    <a:pt x="1156074" y="1101085"/>
                  </a:lnTo>
                  <a:lnTo>
                    <a:pt x="1159513" y="1099763"/>
                  </a:lnTo>
                  <a:lnTo>
                    <a:pt x="1162688" y="1097647"/>
                  </a:lnTo>
                  <a:lnTo>
                    <a:pt x="1166127" y="1095795"/>
                  </a:lnTo>
                  <a:lnTo>
                    <a:pt x="1169566" y="1093944"/>
                  </a:lnTo>
                  <a:lnTo>
                    <a:pt x="1172476" y="1091563"/>
                  </a:lnTo>
                  <a:lnTo>
                    <a:pt x="1175651" y="1089447"/>
                  </a:lnTo>
                  <a:lnTo>
                    <a:pt x="1178561" y="1086802"/>
                  </a:lnTo>
                  <a:lnTo>
                    <a:pt x="1181206" y="1083893"/>
                  </a:lnTo>
                  <a:lnTo>
                    <a:pt x="1183852" y="1081248"/>
                  </a:lnTo>
                  <a:lnTo>
                    <a:pt x="1186233" y="1078339"/>
                  </a:lnTo>
                  <a:lnTo>
                    <a:pt x="1188878" y="1075429"/>
                  </a:lnTo>
                  <a:lnTo>
                    <a:pt x="1190994" y="1072255"/>
                  </a:lnTo>
                  <a:lnTo>
                    <a:pt x="1193111" y="1069081"/>
                  </a:lnTo>
                  <a:lnTo>
                    <a:pt x="1194963" y="1065643"/>
                  </a:lnTo>
                  <a:lnTo>
                    <a:pt x="1196814" y="1062469"/>
                  </a:lnTo>
                  <a:lnTo>
                    <a:pt x="1198402" y="1058766"/>
                  </a:lnTo>
                  <a:lnTo>
                    <a:pt x="1199725" y="1055063"/>
                  </a:lnTo>
                  <a:lnTo>
                    <a:pt x="1201047" y="1051360"/>
                  </a:lnTo>
                  <a:lnTo>
                    <a:pt x="1202105" y="1047922"/>
                  </a:lnTo>
                  <a:lnTo>
                    <a:pt x="1202899" y="1043955"/>
                  </a:lnTo>
                  <a:lnTo>
                    <a:pt x="1203693" y="1039987"/>
                  </a:lnTo>
                  <a:lnTo>
                    <a:pt x="1204222" y="1036020"/>
                  </a:lnTo>
                  <a:lnTo>
                    <a:pt x="1204486" y="1031788"/>
                  </a:lnTo>
                  <a:lnTo>
                    <a:pt x="1204486" y="1027820"/>
                  </a:lnTo>
                  <a:lnTo>
                    <a:pt x="1204486" y="1027556"/>
                  </a:lnTo>
                  <a:lnTo>
                    <a:pt x="1204486" y="1027291"/>
                  </a:lnTo>
                  <a:lnTo>
                    <a:pt x="1204486" y="1026762"/>
                  </a:lnTo>
                  <a:lnTo>
                    <a:pt x="1204486" y="1025176"/>
                  </a:lnTo>
                  <a:lnTo>
                    <a:pt x="1204751" y="1013009"/>
                  </a:lnTo>
                  <a:lnTo>
                    <a:pt x="1205280" y="1004016"/>
                  </a:lnTo>
                  <a:lnTo>
                    <a:pt x="1205809" y="993701"/>
                  </a:lnTo>
                  <a:lnTo>
                    <a:pt x="1206338" y="982063"/>
                  </a:lnTo>
                  <a:lnTo>
                    <a:pt x="1207661" y="969896"/>
                  </a:lnTo>
                  <a:lnTo>
                    <a:pt x="1208984" y="957994"/>
                  </a:lnTo>
                  <a:lnTo>
                    <a:pt x="1211100" y="946092"/>
                  </a:lnTo>
                  <a:lnTo>
                    <a:pt x="1211894" y="943183"/>
                  </a:lnTo>
                  <a:lnTo>
                    <a:pt x="1212952" y="939480"/>
                  </a:lnTo>
                  <a:lnTo>
                    <a:pt x="1215068" y="935512"/>
                  </a:lnTo>
                  <a:lnTo>
                    <a:pt x="1217185" y="931280"/>
                  </a:lnTo>
                  <a:lnTo>
                    <a:pt x="1220095" y="927313"/>
                  </a:lnTo>
                  <a:lnTo>
                    <a:pt x="1223005" y="923081"/>
                  </a:lnTo>
                  <a:lnTo>
                    <a:pt x="1226708" y="918585"/>
                  </a:lnTo>
                  <a:lnTo>
                    <a:pt x="1230677" y="913824"/>
                  </a:lnTo>
                  <a:lnTo>
                    <a:pt x="1239936" y="903773"/>
                  </a:lnTo>
                  <a:lnTo>
                    <a:pt x="1250253" y="892929"/>
                  </a:lnTo>
                  <a:lnTo>
                    <a:pt x="1258719" y="883936"/>
                  </a:lnTo>
                  <a:lnTo>
                    <a:pt x="1267713" y="873885"/>
                  </a:lnTo>
                  <a:lnTo>
                    <a:pt x="1276972" y="863570"/>
                  </a:lnTo>
                  <a:lnTo>
                    <a:pt x="1286496" y="852461"/>
                  </a:lnTo>
                  <a:lnTo>
                    <a:pt x="1296020" y="840559"/>
                  </a:lnTo>
                  <a:lnTo>
                    <a:pt x="1300517" y="834211"/>
                  </a:lnTo>
                  <a:lnTo>
                    <a:pt x="1305279" y="827335"/>
                  </a:lnTo>
                  <a:lnTo>
                    <a:pt x="1309776" y="820722"/>
                  </a:lnTo>
                  <a:lnTo>
                    <a:pt x="1314274" y="813581"/>
                  </a:lnTo>
                  <a:lnTo>
                    <a:pt x="1318506" y="806175"/>
                  </a:lnTo>
                  <a:lnTo>
                    <a:pt x="1322739" y="798505"/>
                  </a:lnTo>
                  <a:lnTo>
                    <a:pt x="1326972" y="790570"/>
                  </a:lnTo>
                  <a:lnTo>
                    <a:pt x="1330940" y="782371"/>
                  </a:lnTo>
                  <a:lnTo>
                    <a:pt x="1334908" y="773907"/>
                  </a:lnTo>
                  <a:lnTo>
                    <a:pt x="1338612" y="765179"/>
                  </a:lnTo>
                  <a:lnTo>
                    <a:pt x="1341787" y="755922"/>
                  </a:lnTo>
                  <a:lnTo>
                    <a:pt x="1344961" y="746135"/>
                  </a:lnTo>
                  <a:lnTo>
                    <a:pt x="1347871" y="736614"/>
                  </a:lnTo>
                  <a:lnTo>
                    <a:pt x="1350517" y="726563"/>
                  </a:lnTo>
                  <a:lnTo>
                    <a:pt x="1352898" y="715983"/>
                  </a:lnTo>
                  <a:lnTo>
                    <a:pt x="1355014" y="705403"/>
                  </a:lnTo>
                  <a:lnTo>
                    <a:pt x="1357130" y="694030"/>
                  </a:lnTo>
                  <a:lnTo>
                    <a:pt x="1358453" y="682657"/>
                  </a:lnTo>
                  <a:lnTo>
                    <a:pt x="1359511" y="670755"/>
                  </a:lnTo>
                  <a:lnTo>
                    <a:pt x="1360834" y="658588"/>
                  </a:lnTo>
                  <a:lnTo>
                    <a:pt x="1361099" y="646157"/>
                  </a:lnTo>
                  <a:lnTo>
                    <a:pt x="1361363" y="633197"/>
                  </a:lnTo>
                  <a:lnTo>
                    <a:pt x="1361099" y="619443"/>
                  </a:lnTo>
                  <a:lnTo>
                    <a:pt x="1360041" y="605689"/>
                  </a:lnTo>
                  <a:lnTo>
                    <a:pt x="1358718" y="591936"/>
                  </a:lnTo>
                  <a:lnTo>
                    <a:pt x="1356866" y="578447"/>
                  </a:lnTo>
                  <a:lnTo>
                    <a:pt x="1354220" y="565222"/>
                  </a:lnTo>
                  <a:lnTo>
                    <a:pt x="1351046" y="552262"/>
                  </a:lnTo>
                  <a:lnTo>
                    <a:pt x="1347871" y="539302"/>
                  </a:lnTo>
                  <a:lnTo>
                    <a:pt x="1343639" y="526606"/>
                  </a:lnTo>
                  <a:lnTo>
                    <a:pt x="1339141" y="514439"/>
                  </a:lnTo>
                  <a:lnTo>
                    <a:pt x="1334115" y="502008"/>
                  </a:lnTo>
                  <a:lnTo>
                    <a:pt x="1328824" y="490106"/>
                  </a:lnTo>
                  <a:lnTo>
                    <a:pt x="1322739" y="478468"/>
                  </a:lnTo>
                  <a:lnTo>
                    <a:pt x="1316390" y="467095"/>
                  </a:lnTo>
                  <a:lnTo>
                    <a:pt x="1309512" y="455986"/>
                  </a:lnTo>
                  <a:lnTo>
                    <a:pt x="1302369" y="445407"/>
                  </a:lnTo>
                  <a:lnTo>
                    <a:pt x="1294697" y="434562"/>
                  </a:lnTo>
                  <a:lnTo>
                    <a:pt x="1287819" y="425570"/>
                  </a:lnTo>
                  <a:lnTo>
                    <a:pt x="1280412" y="416841"/>
                  </a:lnTo>
                  <a:lnTo>
                    <a:pt x="1272740" y="408642"/>
                  </a:lnTo>
                  <a:lnTo>
                    <a:pt x="1265068" y="400443"/>
                  </a:lnTo>
                  <a:lnTo>
                    <a:pt x="1256867" y="392508"/>
                  </a:lnTo>
                  <a:lnTo>
                    <a:pt x="1248401" y="384838"/>
                  </a:lnTo>
                  <a:lnTo>
                    <a:pt x="1239671" y="377696"/>
                  </a:lnTo>
                  <a:lnTo>
                    <a:pt x="1230677" y="370555"/>
                  </a:lnTo>
                  <a:lnTo>
                    <a:pt x="1221417" y="363943"/>
                  </a:lnTo>
                  <a:lnTo>
                    <a:pt x="1211894" y="357330"/>
                  </a:lnTo>
                  <a:lnTo>
                    <a:pt x="1202370" y="351247"/>
                  </a:lnTo>
                  <a:lnTo>
                    <a:pt x="1192317" y="345693"/>
                  </a:lnTo>
                  <a:lnTo>
                    <a:pt x="1182000" y="340403"/>
                  </a:lnTo>
                  <a:lnTo>
                    <a:pt x="1171947" y="334848"/>
                  </a:lnTo>
                  <a:lnTo>
                    <a:pt x="1161365" y="330352"/>
                  </a:lnTo>
                  <a:lnTo>
                    <a:pt x="1150783" y="325856"/>
                  </a:lnTo>
                  <a:lnTo>
                    <a:pt x="1151048" y="324269"/>
                  </a:lnTo>
                  <a:lnTo>
                    <a:pt x="1126180" y="317392"/>
                  </a:lnTo>
                  <a:lnTo>
                    <a:pt x="1119302" y="315276"/>
                  </a:lnTo>
                  <a:lnTo>
                    <a:pt x="1111895" y="313424"/>
                  </a:lnTo>
                  <a:lnTo>
                    <a:pt x="1104752" y="311573"/>
                  </a:lnTo>
                  <a:lnTo>
                    <a:pt x="1097345" y="310251"/>
                  </a:lnTo>
                  <a:lnTo>
                    <a:pt x="1089673" y="308928"/>
                  </a:lnTo>
                  <a:lnTo>
                    <a:pt x="1082530" y="307606"/>
                  </a:lnTo>
                  <a:lnTo>
                    <a:pt x="1074858" y="306548"/>
                  </a:lnTo>
                  <a:lnTo>
                    <a:pt x="1067186" y="305754"/>
                  </a:lnTo>
                  <a:lnTo>
                    <a:pt x="1064541" y="305490"/>
                  </a:lnTo>
                  <a:lnTo>
                    <a:pt x="1064276" y="305490"/>
                  </a:lnTo>
                  <a:lnTo>
                    <a:pt x="1049197" y="304432"/>
                  </a:lnTo>
                  <a:lnTo>
                    <a:pt x="1041525" y="303903"/>
                  </a:lnTo>
                  <a:lnTo>
                    <a:pt x="1033588" y="303903"/>
                  </a:lnTo>
                  <a:lnTo>
                    <a:pt x="1032795" y="303903"/>
                  </a:lnTo>
                  <a:lnTo>
                    <a:pt x="1032530" y="303903"/>
                  </a:lnTo>
                  <a:lnTo>
                    <a:pt x="1032001" y="303903"/>
                  </a:lnTo>
                  <a:lnTo>
                    <a:pt x="1024065" y="303903"/>
                  </a:lnTo>
                  <a:close/>
                  <a:moveTo>
                    <a:pt x="1388083" y="226671"/>
                  </a:moveTo>
                  <a:lnTo>
                    <a:pt x="1384643" y="226935"/>
                  </a:lnTo>
                  <a:lnTo>
                    <a:pt x="1381204" y="227464"/>
                  </a:lnTo>
                  <a:lnTo>
                    <a:pt x="1377765" y="228258"/>
                  </a:lnTo>
                  <a:lnTo>
                    <a:pt x="1374591" y="229316"/>
                  </a:lnTo>
                  <a:lnTo>
                    <a:pt x="1371416" y="230903"/>
                  </a:lnTo>
                  <a:lnTo>
                    <a:pt x="1368241" y="232490"/>
                  </a:lnTo>
                  <a:lnTo>
                    <a:pt x="1365596" y="234606"/>
                  </a:lnTo>
                  <a:lnTo>
                    <a:pt x="1362686" y="237250"/>
                  </a:lnTo>
                  <a:lnTo>
                    <a:pt x="1273269" y="326649"/>
                  </a:lnTo>
                  <a:lnTo>
                    <a:pt x="1280147" y="332468"/>
                  </a:lnTo>
                  <a:lnTo>
                    <a:pt x="1286496" y="338551"/>
                  </a:lnTo>
                  <a:lnTo>
                    <a:pt x="1293110" y="344899"/>
                  </a:lnTo>
                  <a:lnTo>
                    <a:pt x="1299195" y="351247"/>
                  </a:lnTo>
                  <a:lnTo>
                    <a:pt x="1305279" y="357859"/>
                  </a:lnTo>
                  <a:lnTo>
                    <a:pt x="1311364" y="364736"/>
                  </a:lnTo>
                  <a:lnTo>
                    <a:pt x="1317184" y="371348"/>
                  </a:lnTo>
                  <a:lnTo>
                    <a:pt x="1322739" y="378490"/>
                  </a:lnTo>
                  <a:lnTo>
                    <a:pt x="1413479" y="288033"/>
                  </a:lnTo>
                  <a:lnTo>
                    <a:pt x="1416125" y="285388"/>
                  </a:lnTo>
                  <a:lnTo>
                    <a:pt x="1417976" y="282479"/>
                  </a:lnTo>
                  <a:lnTo>
                    <a:pt x="1420093" y="279305"/>
                  </a:lnTo>
                  <a:lnTo>
                    <a:pt x="1421416" y="276131"/>
                  </a:lnTo>
                  <a:lnTo>
                    <a:pt x="1422474" y="272957"/>
                  </a:lnTo>
                  <a:lnTo>
                    <a:pt x="1423267" y="269519"/>
                  </a:lnTo>
                  <a:lnTo>
                    <a:pt x="1423797" y="266080"/>
                  </a:lnTo>
                  <a:lnTo>
                    <a:pt x="1423797" y="262642"/>
                  </a:lnTo>
                  <a:lnTo>
                    <a:pt x="1423797" y="259203"/>
                  </a:lnTo>
                  <a:lnTo>
                    <a:pt x="1423267" y="255765"/>
                  </a:lnTo>
                  <a:lnTo>
                    <a:pt x="1422474" y="252327"/>
                  </a:lnTo>
                  <a:lnTo>
                    <a:pt x="1421416" y="249153"/>
                  </a:lnTo>
                  <a:lnTo>
                    <a:pt x="1420093" y="245979"/>
                  </a:lnTo>
                  <a:lnTo>
                    <a:pt x="1417976" y="242805"/>
                  </a:lnTo>
                  <a:lnTo>
                    <a:pt x="1416125" y="240160"/>
                  </a:lnTo>
                  <a:lnTo>
                    <a:pt x="1413479" y="237250"/>
                  </a:lnTo>
                  <a:lnTo>
                    <a:pt x="1410834" y="234606"/>
                  </a:lnTo>
                  <a:lnTo>
                    <a:pt x="1407924" y="232490"/>
                  </a:lnTo>
                  <a:lnTo>
                    <a:pt x="1404749" y="230903"/>
                  </a:lnTo>
                  <a:lnTo>
                    <a:pt x="1401839" y="229316"/>
                  </a:lnTo>
                  <a:lnTo>
                    <a:pt x="1398400" y="228258"/>
                  </a:lnTo>
                  <a:lnTo>
                    <a:pt x="1394961" y="227464"/>
                  </a:lnTo>
                  <a:lnTo>
                    <a:pt x="1391522" y="226935"/>
                  </a:lnTo>
                  <a:lnTo>
                    <a:pt x="1388083" y="226671"/>
                  </a:lnTo>
                  <a:close/>
                  <a:moveTo>
                    <a:pt x="677243" y="226671"/>
                  </a:moveTo>
                  <a:lnTo>
                    <a:pt x="673803" y="226935"/>
                  </a:lnTo>
                  <a:lnTo>
                    <a:pt x="670629" y="227464"/>
                  </a:lnTo>
                  <a:lnTo>
                    <a:pt x="667190" y="228258"/>
                  </a:lnTo>
                  <a:lnTo>
                    <a:pt x="663751" y="229316"/>
                  </a:lnTo>
                  <a:lnTo>
                    <a:pt x="660576" y="230903"/>
                  </a:lnTo>
                  <a:lnTo>
                    <a:pt x="657666" y="232490"/>
                  </a:lnTo>
                  <a:lnTo>
                    <a:pt x="654491" y="234606"/>
                  </a:lnTo>
                  <a:lnTo>
                    <a:pt x="651846" y="237250"/>
                  </a:lnTo>
                  <a:lnTo>
                    <a:pt x="649465" y="240160"/>
                  </a:lnTo>
                  <a:lnTo>
                    <a:pt x="647084" y="242805"/>
                  </a:lnTo>
                  <a:lnTo>
                    <a:pt x="645497" y="245979"/>
                  </a:lnTo>
                  <a:lnTo>
                    <a:pt x="644174" y="249153"/>
                  </a:lnTo>
                  <a:lnTo>
                    <a:pt x="642587" y="252327"/>
                  </a:lnTo>
                  <a:lnTo>
                    <a:pt x="642058" y="255765"/>
                  </a:lnTo>
                  <a:lnTo>
                    <a:pt x="641529" y="259203"/>
                  </a:lnTo>
                  <a:lnTo>
                    <a:pt x="641264" y="262642"/>
                  </a:lnTo>
                  <a:lnTo>
                    <a:pt x="641529" y="266080"/>
                  </a:lnTo>
                  <a:lnTo>
                    <a:pt x="642058" y="269519"/>
                  </a:lnTo>
                  <a:lnTo>
                    <a:pt x="642587" y="272957"/>
                  </a:lnTo>
                  <a:lnTo>
                    <a:pt x="644174" y="276131"/>
                  </a:lnTo>
                  <a:lnTo>
                    <a:pt x="645497" y="279305"/>
                  </a:lnTo>
                  <a:lnTo>
                    <a:pt x="647084" y="282479"/>
                  </a:lnTo>
                  <a:lnTo>
                    <a:pt x="649465" y="285388"/>
                  </a:lnTo>
                  <a:lnTo>
                    <a:pt x="651846" y="288033"/>
                  </a:lnTo>
                  <a:lnTo>
                    <a:pt x="742321" y="378490"/>
                  </a:lnTo>
                  <a:lnTo>
                    <a:pt x="748406" y="371348"/>
                  </a:lnTo>
                  <a:lnTo>
                    <a:pt x="753961" y="364736"/>
                  </a:lnTo>
                  <a:lnTo>
                    <a:pt x="760046" y="357859"/>
                  </a:lnTo>
                  <a:lnTo>
                    <a:pt x="765866" y="351247"/>
                  </a:lnTo>
                  <a:lnTo>
                    <a:pt x="772480" y="344899"/>
                  </a:lnTo>
                  <a:lnTo>
                    <a:pt x="778564" y="338551"/>
                  </a:lnTo>
                  <a:lnTo>
                    <a:pt x="785443" y="332468"/>
                  </a:lnTo>
                  <a:lnTo>
                    <a:pt x="791792" y="326649"/>
                  </a:lnTo>
                  <a:lnTo>
                    <a:pt x="702639" y="237250"/>
                  </a:lnTo>
                  <a:lnTo>
                    <a:pt x="699994" y="234606"/>
                  </a:lnTo>
                  <a:lnTo>
                    <a:pt x="696819" y="232490"/>
                  </a:lnTo>
                  <a:lnTo>
                    <a:pt x="694174" y="230903"/>
                  </a:lnTo>
                  <a:lnTo>
                    <a:pt x="690734" y="229316"/>
                  </a:lnTo>
                  <a:lnTo>
                    <a:pt x="687295" y="228258"/>
                  </a:lnTo>
                  <a:lnTo>
                    <a:pt x="683856" y="227464"/>
                  </a:lnTo>
                  <a:lnTo>
                    <a:pt x="680682" y="226935"/>
                  </a:lnTo>
                  <a:lnTo>
                    <a:pt x="677243" y="226671"/>
                  </a:lnTo>
                  <a:close/>
                  <a:moveTo>
                    <a:pt x="1032795" y="79348"/>
                  </a:moveTo>
                  <a:lnTo>
                    <a:pt x="1029091" y="79877"/>
                  </a:lnTo>
                  <a:lnTo>
                    <a:pt x="1025387" y="80406"/>
                  </a:lnTo>
                  <a:lnTo>
                    <a:pt x="1021948" y="81200"/>
                  </a:lnTo>
                  <a:lnTo>
                    <a:pt x="1018774" y="82257"/>
                  </a:lnTo>
                  <a:lnTo>
                    <a:pt x="1015599" y="83844"/>
                  </a:lnTo>
                  <a:lnTo>
                    <a:pt x="1012425" y="85696"/>
                  </a:lnTo>
                  <a:lnTo>
                    <a:pt x="1010044" y="87547"/>
                  </a:lnTo>
                  <a:lnTo>
                    <a:pt x="1007134" y="90192"/>
                  </a:lnTo>
                  <a:lnTo>
                    <a:pt x="1005017" y="92573"/>
                  </a:lnTo>
                  <a:lnTo>
                    <a:pt x="1002901" y="95482"/>
                  </a:lnTo>
                  <a:lnTo>
                    <a:pt x="1001049" y="98392"/>
                  </a:lnTo>
                  <a:lnTo>
                    <a:pt x="999726" y="101301"/>
                  </a:lnTo>
                  <a:lnTo>
                    <a:pt x="998404" y="104739"/>
                  </a:lnTo>
                  <a:lnTo>
                    <a:pt x="997610" y="108178"/>
                  </a:lnTo>
                  <a:lnTo>
                    <a:pt x="997081" y="111881"/>
                  </a:lnTo>
                  <a:lnTo>
                    <a:pt x="996816" y="115319"/>
                  </a:lnTo>
                  <a:lnTo>
                    <a:pt x="996816" y="236986"/>
                  </a:lnTo>
                  <a:lnTo>
                    <a:pt x="1005546" y="236192"/>
                  </a:lnTo>
                  <a:lnTo>
                    <a:pt x="1014276" y="235664"/>
                  </a:lnTo>
                  <a:lnTo>
                    <a:pt x="1023007" y="235399"/>
                  </a:lnTo>
                  <a:lnTo>
                    <a:pt x="1031737" y="235135"/>
                  </a:lnTo>
                  <a:lnTo>
                    <a:pt x="1032795" y="235135"/>
                  </a:lnTo>
                  <a:lnTo>
                    <a:pt x="1033588" y="235135"/>
                  </a:lnTo>
                  <a:lnTo>
                    <a:pt x="1042583" y="235399"/>
                  </a:lnTo>
                  <a:lnTo>
                    <a:pt x="1051313" y="235664"/>
                  </a:lnTo>
                  <a:lnTo>
                    <a:pt x="1060043" y="236192"/>
                  </a:lnTo>
                  <a:lnTo>
                    <a:pt x="1068773" y="236986"/>
                  </a:lnTo>
                  <a:lnTo>
                    <a:pt x="1068773" y="115319"/>
                  </a:lnTo>
                  <a:lnTo>
                    <a:pt x="1068509" y="111881"/>
                  </a:lnTo>
                  <a:lnTo>
                    <a:pt x="1067715" y="108178"/>
                  </a:lnTo>
                  <a:lnTo>
                    <a:pt x="1066922" y="104739"/>
                  </a:lnTo>
                  <a:lnTo>
                    <a:pt x="1065863" y="101301"/>
                  </a:lnTo>
                  <a:lnTo>
                    <a:pt x="1064276" y="98392"/>
                  </a:lnTo>
                  <a:lnTo>
                    <a:pt x="1062424" y="95482"/>
                  </a:lnTo>
                  <a:lnTo>
                    <a:pt x="1060308" y="92573"/>
                  </a:lnTo>
                  <a:lnTo>
                    <a:pt x="1057927" y="90192"/>
                  </a:lnTo>
                  <a:lnTo>
                    <a:pt x="1055546" y="87547"/>
                  </a:lnTo>
                  <a:lnTo>
                    <a:pt x="1052636" y="85696"/>
                  </a:lnTo>
                  <a:lnTo>
                    <a:pt x="1049990" y="83844"/>
                  </a:lnTo>
                  <a:lnTo>
                    <a:pt x="1046816" y="82257"/>
                  </a:lnTo>
                  <a:lnTo>
                    <a:pt x="1043377" y="81200"/>
                  </a:lnTo>
                  <a:lnTo>
                    <a:pt x="1039938" y="80406"/>
                  </a:lnTo>
                  <a:lnTo>
                    <a:pt x="1036498" y="79877"/>
                  </a:lnTo>
                  <a:lnTo>
                    <a:pt x="1032795" y="79348"/>
                  </a:lnTo>
                  <a:close/>
                  <a:moveTo>
                    <a:pt x="986234" y="0"/>
                  </a:moveTo>
                  <a:lnTo>
                    <a:pt x="1012954" y="265"/>
                  </a:lnTo>
                  <a:lnTo>
                    <a:pt x="1039938" y="1058"/>
                  </a:lnTo>
                  <a:lnTo>
                    <a:pt x="1066922" y="2381"/>
                  </a:lnTo>
                  <a:lnTo>
                    <a:pt x="1093641" y="4232"/>
                  </a:lnTo>
                  <a:lnTo>
                    <a:pt x="1120096" y="6612"/>
                  </a:lnTo>
                  <a:lnTo>
                    <a:pt x="1146286" y="8993"/>
                  </a:lnTo>
                  <a:lnTo>
                    <a:pt x="1172212" y="12431"/>
                  </a:lnTo>
                  <a:lnTo>
                    <a:pt x="1198137" y="16134"/>
                  </a:lnTo>
                  <a:lnTo>
                    <a:pt x="1223798" y="20366"/>
                  </a:lnTo>
                  <a:lnTo>
                    <a:pt x="1248930" y="25127"/>
                  </a:lnTo>
                  <a:lnTo>
                    <a:pt x="1274327" y="30417"/>
                  </a:lnTo>
                  <a:lnTo>
                    <a:pt x="1298930" y="35971"/>
                  </a:lnTo>
                  <a:lnTo>
                    <a:pt x="1323268" y="42055"/>
                  </a:lnTo>
                  <a:lnTo>
                    <a:pt x="1347871" y="48931"/>
                  </a:lnTo>
                  <a:lnTo>
                    <a:pt x="1371681" y="56073"/>
                  </a:lnTo>
                  <a:lnTo>
                    <a:pt x="1395225" y="64007"/>
                  </a:lnTo>
                  <a:lnTo>
                    <a:pt x="1418506" y="72207"/>
                  </a:lnTo>
                  <a:lnTo>
                    <a:pt x="1441521" y="80935"/>
                  </a:lnTo>
                  <a:lnTo>
                    <a:pt x="1464272" y="90192"/>
                  </a:lnTo>
                  <a:lnTo>
                    <a:pt x="1486494" y="99979"/>
                  </a:lnTo>
                  <a:lnTo>
                    <a:pt x="1508716" y="110029"/>
                  </a:lnTo>
                  <a:lnTo>
                    <a:pt x="1530145" y="120873"/>
                  </a:lnTo>
                  <a:lnTo>
                    <a:pt x="1551309" y="131982"/>
                  </a:lnTo>
                  <a:lnTo>
                    <a:pt x="1572208" y="143884"/>
                  </a:lnTo>
                  <a:lnTo>
                    <a:pt x="1592313" y="156051"/>
                  </a:lnTo>
                  <a:lnTo>
                    <a:pt x="1612684" y="168747"/>
                  </a:lnTo>
                  <a:lnTo>
                    <a:pt x="1631996" y="181971"/>
                  </a:lnTo>
                  <a:lnTo>
                    <a:pt x="1651043" y="195725"/>
                  </a:lnTo>
                  <a:lnTo>
                    <a:pt x="1660567" y="202602"/>
                  </a:lnTo>
                  <a:lnTo>
                    <a:pt x="1669826" y="210008"/>
                  </a:lnTo>
                  <a:lnTo>
                    <a:pt x="1678821" y="217413"/>
                  </a:lnTo>
                  <a:lnTo>
                    <a:pt x="1687815" y="224819"/>
                  </a:lnTo>
                  <a:lnTo>
                    <a:pt x="1696810" y="232225"/>
                  </a:lnTo>
                  <a:lnTo>
                    <a:pt x="1705804" y="240160"/>
                  </a:lnTo>
                  <a:lnTo>
                    <a:pt x="1714535" y="247830"/>
                  </a:lnTo>
                  <a:lnTo>
                    <a:pt x="1723000" y="255765"/>
                  </a:lnTo>
                  <a:lnTo>
                    <a:pt x="1731466" y="263964"/>
                  </a:lnTo>
                  <a:lnTo>
                    <a:pt x="1739931" y="272164"/>
                  </a:lnTo>
                  <a:lnTo>
                    <a:pt x="1747868" y="280098"/>
                  </a:lnTo>
                  <a:lnTo>
                    <a:pt x="1756069" y="288827"/>
                  </a:lnTo>
                  <a:lnTo>
                    <a:pt x="1764005" y="297290"/>
                  </a:lnTo>
                  <a:lnTo>
                    <a:pt x="1771941" y="306019"/>
                  </a:lnTo>
                  <a:lnTo>
                    <a:pt x="1779349" y="314747"/>
                  </a:lnTo>
                  <a:lnTo>
                    <a:pt x="1787021" y="323740"/>
                  </a:lnTo>
                  <a:lnTo>
                    <a:pt x="1794163" y="332997"/>
                  </a:lnTo>
                  <a:lnTo>
                    <a:pt x="1801571" y="341990"/>
                  </a:lnTo>
                  <a:lnTo>
                    <a:pt x="1808714" y="351512"/>
                  </a:lnTo>
                  <a:lnTo>
                    <a:pt x="1815592" y="360769"/>
                  </a:lnTo>
                  <a:lnTo>
                    <a:pt x="1822735" y="370291"/>
                  </a:lnTo>
                  <a:lnTo>
                    <a:pt x="1829348" y="380077"/>
                  </a:lnTo>
                  <a:lnTo>
                    <a:pt x="1835962" y="389863"/>
                  </a:lnTo>
                  <a:lnTo>
                    <a:pt x="1842311" y="399914"/>
                  </a:lnTo>
                  <a:lnTo>
                    <a:pt x="1848396" y="409964"/>
                  </a:lnTo>
                  <a:lnTo>
                    <a:pt x="1854745" y="420280"/>
                  </a:lnTo>
                  <a:lnTo>
                    <a:pt x="1860830" y="430330"/>
                  </a:lnTo>
                  <a:lnTo>
                    <a:pt x="1866385" y="441175"/>
                  </a:lnTo>
                  <a:lnTo>
                    <a:pt x="1872470" y="451490"/>
                  </a:lnTo>
                  <a:lnTo>
                    <a:pt x="1877761" y="462070"/>
                  </a:lnTo>
                  <a:lnTo>
                    <a:pt x="1883316" y="473178"/>
                  </a:lnTo>
                  <a:lnTo>
                    <a:pt x="1888342" y="484023"/>
                  </a:lnTo>
                  <a:lnTo>
                    <a:pt x="1893369" y="495396"/>
                  </a:lnTo>
                  <a:lnTo>
                    <a:pt x="1898395" y="506240"/>
                  </a:lnTo>
                  <a:lnTo>
                    <a:pt x="1903157" y="517613"/>
                  </a:lnTo>
                  <a:lnTo>
                    <a:pt x="1907654" y="529251"/>
                  </a:lnTo>
                  <a:lnTo>
                    <a:pt x="1912152" y="540624"/>
                  </a:lnTo>
                  <a:lnTo>
                    <a:pt x="1916385" y="552526"/>
                  </a:lnTo>
                  <a:lnTo>
                    <a:pt x="1920617" y="564428"/>
                  </a:lnTo>
                  <a:lnTo>
                    <a:pt x="1924586" y="576331"/>
                  </a:lnTo>
                  <a:lnTo>
                    <a:pt x="1928289" y="588497"/>
                  </a:lnTo>
                  <a:lnTo>
                    <a:pt x="1931993" y="600664"/>
                  </a:lnTo>
                  <a:lnTo>
                    <a:pt x="1935432" y="612831"/>
                  </a:lnTo>
                  <a:lnTo>
                    <a:pt x="1938607" y="625526"/>
                  </a:lnTo>
                  <a:lnTo>
                    <a:pt x="1941781" y="637958"/>
                  </a:lnTo>
                  <a:lnTo>
                    <a:pt x="1944691" y="650918"/>
                  </a:lnTo>
                  <a:lnTo>
                    <a:pt x="1947337" y="663613"/>
                  </a:lnTo>
                  <a:lnTo>
                    <a:pt x="1950247" y="676574"/>
                  </a:lnTo>
                  <a:lnTo>
                    <a:pt x="1952363" y="689798"/>
                  </a:lnTo>
                  <a:lnTo>
                    <a:pt x="1954744" y="703023"/>
                  </a:lnTo>
                  <a:lnTo>
                    <a:pt x="1956596" y="716248"/>
                  </a:lnTo>
                  <a:lnTo>
                    <a:pt x="1958448" y="729737"/>
                  </a:lnTo>
                  <a:lnTo>
                    <a:pt x="1960299" y="743490"/>
                  </a:lnTo>
                  <a:lnTo>
                    <a:pt x="1961622" y="757244"/>
                  </a:lnTo>
                  <a:lnTo>
                    <a:pt x="1962945" y="770998"/>
                  </a:lnTo>
                  <a:lnTo>
                    <a:pt x="1964268" y="785016"/>
                  </a:lnTo>
                  <a:lnTo>
                    <a:pt x="1965061" y="799034"/>
                  </a:lnTo>
                  <a:lnTo>
                    <a:pt x="1965855" y="813317"/>
                  </a:lnTo>
                  <a:lnTo>
                    <a:pt x="1966384" y="827599"/>
                  </a:lnTo>
                  <a:lnTo>
                    <a:pt x="1966649" y="842411"/>
                  </a:lnTo>
                  <a:lnTo>
                    <a:pt x="1966913" y="856958"/>
                  </a:lnTo>
                  <a:lnTo>
                    <a:pt x="1966913" y="871769"/>
                  </a:lnTo>
                  <a:lnTo>
                    <a:pt x="1966649" y="886581"/>
                  </a:lnTo>
                  <a:lnTo>
                    <a:pt x="1966120" y="901393"/>
                  </a:lnTo>
                  <a:lnTo>
                    <a:pt x="1965590" y="916733"/>
                  </a:lnTo>
                  <a:lnTo>
                    <a:pt x="1964797" y="931809"/>
                  </a:lnTo>
                  <a:lnTo>
                    <a:pt x="1964003" y="947150"/>
                  </a:lnTo>
                  <a:lnTo>
                    <a:pt x="1962416" y="962755"/>
                  </a:lnTo>
                  <a:lnTo>
                    <a:pt x="1961093" y="978360"/>
                  </a:lnTo>
                  <a:lnTo>
                    <a:pt x="1959506" y="994230"/>
                  </a:lnTo>
                  <a:lnTo>
                    <a:pt x="1957654" y="1010099"/>
                  </a:lnTo>
                  <a:lnTo>
                    <a:pt x="1955802" y="1026233"/>
                  </a:lnTo>
                  <a:lnTo>
                    <a:pt x="1953950" y="1038929"/>
                  </a:lnTo>
                  <a:lnTo>
                    <a:pt x="1952363" y="1051360"/>
                  </a:lnTo>
                  <a:lnTo>
                    <a:pt x="1950247" y="1064056"/>
                  </a:lnTo>
                  <a:lnTo>
                    <a:pt x="1947866" y="1076752"/>
                  </a:lnTo>
                  <a:lnTo>
                    <a:pt x="1944956" y="1089447"/>
                  </a:lnTo>
                  <a:lnTo>
                    <a:pt x="1942046" y="1101879"/>
                  </a:lnTo>
                  <a:lnTo>
                    <a:pt x="1938607" y="1114574"/>
                  </a:lnTo>
                  <a:lnTo>
                    <a:pt x="1935167" y="1127005"/>
                  </a:lnTo>
                  <a:lnTo>
                    <a:pt x="1931199" y="1139701"/>
                  </a:lnTo>
                  <a:lnTo>
                    <a:pt x="1927231" y="1152132"/>
                  </a:lnTo>
                  <a:lnTo>
                    <a:pt x="1922998" y="1164828"/>
                  </a:lnTo>
                  <a:lnTo>
                    <a:pt x="1918501" y="1177524"/>
                  </a:lnTo>
                  <a:lnTo>
                    <a:pt x="1913210" y="1189955"/>
                  </a:lnTo>
                  <a:lnTo>
                    <a:pt x="1908448" y="1202386"/>
                  </a:lnTo>
                  <a:lnTo>
                    <a:pt x="1903157" y="1214817"/>
                  </a:lnTo>
                  <a:lnTo>
                    <a:pt x="1897866" y="1227513"/>
                  </a:lnTo>
                  <a:lnTo>
                    <a:pt x="1892311" y="1239944"/>
                  </a:lnTo>
                  <a:lnTo>
                    <a:pt x="1886491" y="1252111"/>
                  </a:lnTo>
                  <a:lnTo>
                    <a:pt x="1880142" y="1264806"/>
                  </a:lnTo>
                  <a:lnTo>
                    <a:pt x="1874321" y="1276973"/>
                  </a:lnTo>
                  <a:lnTo>
                    <a:pt x="1861359" y="1301571"/>
                  </a:lnTo>
                  <a:lnTo>
                    <a:pt x="1847867" y="1325904"/>
                  </a:lnTo>
                  <a:lnTo>
                    <a:pt x="1834110" y="1350238"/>
                  </a:lnTo>
                  <a:lnTo>
                    <a:pt x="1819825" y="1374306"/>
                  </a:lnTo>
                  <a:lnTo>
                    <a:pt x="1805274" y="1397846"/>
                  </a:lnTo>
                  <a:lnTo>
                    <a:pt x="1790195" y="1421386"/>
                  </a:lnTo>
                  <a:lnTo>
                    <a:pt x="1774851" y="1444662"/>
                  </a:lnTo>
                  <a:lnTo>
                    <a:pt x="1759772" y="1467673"/>
                  </a:lnTo>
                  <a:lnTo>
                    <a:pt x="1744164" y="1490154"/>
                  </a:lnTo>
                  <a:lnTo>
                    <a:pt x="1728820" y="1512636"/>
                  </a:lnTo>
                  <a:lnTo>
                    <a:pt x="1697868" y="1556278"/>
                  </a:lnTo>
                  <a:lnTo>
                    <a:pt x="1667974" y="1598332"/>
                  </a:lnTo>
                  <a:lnTo>
                    <a:pt x="1639403" y="1638535"/>
                  </a:lnTo>
                  <a:lnTo>
                    <a:pt x="1625647" y="1658108"/>
                  </a:lnTo>
                  <a:lnTo>
                    <a:pt x="1612419" y="1676887"/>
                  </a:lnTo>
                  <a:lnTo>
                    <a:pt x="1599985" y="1695401"/>
                  </a:lnTo>
                  <a:lnTo>
                    <a:pt x="1587816" y="1713387"/>
                  </a:lnTo>
                  <a:lnTo>
                    <a:pt x="1576705" y="1730843"/>
                  </a:lnTo>
                  <a:lnTo>
                    <a:pt x="1566388" y="1748035"/>
                  </a:lnTo>
                  <a:lnTo>
                    <a:pt x="1607393" y="2062253"/>
                  </a:lnTo>
                  <a:lnTo>
                    <a:pt x="1556070" y="2077329"/>
                  </a:lnTo>
                  <a:lnTo>
                    <a:pt x="1479087" y="2100605"/>
                  </a:lnTo>
                  <a:lnTo>
                    <a:pt x="1371681" y="2133931"/>
                  </a:lnTo>
                  <a:lnTo>
                    <a:pt x="1245491" y="2173076"/>
                  </a:lnTo>
                  <a:lnTo>
                    <a:pt x="1113217" y="2214601"/>
                  </a:lnTo>
                  <a:lnTo>
                    <a:pt x="986499" y="2254804"/>
                  </a:lnTo>
                  <a:lnTo>
                    <a:pt x="877241" y="2289188"/>
                  </a:lnTo>
                  <a:lnTo>
                    <a:pt x="797347" y="2314844"/>
                  </a:lnTo>
                  <a:lnTo>
                    <a:pt x="772480" y="2323043"/>
                  </a:lnTo>
                  <a:lnTo>
                    <a:pt x="759252" y="2327275"/>
                  </a:lnTo>
                  <a:lnTo>
                    <a:pt x="710046" y="2094521"/>
                  </a:lnTo>
                  <a:lnTo>
                    <a:pt x="701846" y="2097431"/>
                  </a:lnTo>
                  <a:lnTo>
                    <a:pt x="680153" y="2105630"/>
                  </a:lnTo>
                  <a:lnTo>
                    <a:pt x="664544" y="2110920"/>
                  </a:lnTo>
                  <a:lnTo>
                    <a:pt x="646820" y="2117003"/>
                  </a:lnTo>
                  <a:lnTo>
                    <a:pt x="626978" y="2123351"/>
                  </a:lnTo>
                  <a:lnTo>
                    <a:pt x="605550" y="2129699"/>
                  </a:lnTo>
                  <a:lnTo>
                    <a:pt x="582799" y="2136576"/>
                  </a:lnTo>
                  <a:lnTo>
                    <a:pt x="559254" y="2142923"/>
                  </a:lnTo>
                  <a:lnTo>
                    <a:pt x="535180" y="2149007"/>
                  </a:lnTo>
                  <a:lnTo>
                    <a:pt x="523011" y="2151652"/>
                  </a:lnTo>
                  <a:lnTo>
                    <a:pt x="511107" y="2154297"/>
                  </a:lnTo>
                  <a:lnTo>
                    <a:pt x="498937" y="2156413"/>
                  </a:lnTo>
                  <a:lnTo>
                    <a:pt x="486768" y="2158793"/>
                  </a:lnTo>
                  <a:lnTo>
                    <a:pt x="475128" y="2160644"/>
                  </a:lnTo>
                  <a:lnTo>
                    <a:pt x="463488" y="2162496"/>
                  </a:lnTo>
                  <a:lnTo>
                    <a:pt x="452112" y="2163554"/>
                  </a:lnTo>
                  <a:lnTo>
                    <a:pt x="441001" y="2164612"/>
                  </a:lnTo>
                  <a:lnTo>
                    <a:pt x="430419" y="2165141"/>
                  </a:lnTo>
                  <a:lnTo>
                    <a:pt x="420102" y="2165141"/>
                  </a:lnTo>
                  <a:lnTo>
                    <a:pt x="410049" y="2164876"/>
                  </a:lnTo>
                  <a:lnTo>
                    <a:pt x="400261" y="2164083"/>
                  </a:lnTo>
                  <a:lnTo>
                    <a:pt x="391002" y="2162760"/>
                  </a:lnTo>
                  <a:lnTo>
                    <a:pt x="382272" y="2160644"/>
                  </a:lnTo>
                  <a:lnTo>
                    <a:pt x="373806" y="2158264"/>
                  </a:lnTo>
                  <a:lnTo>
                    <a:pt x="365870" y="2155355"/>
                  </a:lnTo>
                  <a:lnTo>
                    <a:pt x="357933" y="2151916"/>
                  </a:lnTo>
                  <a:lnTo>
                    <a:pt x="350790" y="2148213"/>
                  </a:lnTo>
                  <a:lnTo>
                    <a:pt x="343648" y="2144246"/>
                  </a:lnTo>
                  <a:lnTo>
                    <a:pt x="337034" y="2139749"/>
                  </a:lnTo>
                  <a:lnTo>
                    <a:pt x="330685" y="2135253"/>
                  </a:lnTo>
                  <a:lnTo>
                    <a:pt x="324600" y="2129963"/>
                  </a:lnTo>
                  <a:lnTo>
                    <a:pt x="319045" y="2124938"/>
                  </a:lnTo>
                  <a:lnTo>
                    <a:pt x="313489" y="2119384"/>
                  </a:lnTo>
                  <a:lnTo>
                    <a:pt x="308463" y="2114094"/>
                  </a:lnTo>
                  <a:lnTo>
                    <a:pt x="303966" y="2108539"/>
                  </a:lnTo>
                  <a:lnTo>
                    <a:pt x="299468" y="2102456"/>
                  </a:lnTo>
                  <a:lnTo>
                    <a:pt x="295500" y="2096902"/>
                  </a:lnTo>
                  <a:lnTo>
                    <a:pt x="291796" y="2091083"/>
                  </a:lnTo>
                  <a:lnTo>
                    <a:pt x="288357" y="2085264"/>
                  </a:lnTo>
                  <a:lnTo>
                    <a:pt x="285183" y="2079445"/>
                  </a:lnTo>
                  <a:lnTo>
                    <a:pt x="282537" y="2073891"/>
                  </a:lnTo>
                  <a:lnTo>
                    <a:pt x="279892" y="2068336"/>
                  </a:lnTo>
                  <a:lnTo>
                    <a:pt x="277511" y="2062782"/>
                  </a:lnTo>
                  <a:lnTo>
                    <a:pt x="275394" y="2057757"/>
                  </a:lnTo>
                  <a:lnTo>
                    <a:pt x="273807" y="2052467"/>
                  </a:lnTo>
                  <a:lnTo>
                    <a:pt x="272220" y="2047706"/>
                  </a:lnTo>
                  <a:lnTo>
                    <a:pt x="271162" y="2042945"/>
                  </a:lnTo>
                  <a:lnTo>
                    <a:pt x="270103" y="2038713"/>
                  </a:lnTo>
                  <a:lnTo>
                    <a:pt x="269574" y="2035275"/>
                  </a:lnTo>
                  <a:lnTo>
                    <a:pt x="269310" y="2031572"/>
                  </a:lnTo>
                  <a:lnTo>
                    <a:pt x="269045" y="2028398"/>
                  </a:lnTo>
                  <a:lnTo>
                    <a:pt x="269045" y="2025489"/>
                  </a:lnTo>
                  <a:lnTo>
                    <a:pt x="269310" y="2022050"/>
                  </a:lnTo>
                  <a:lnTo>
                    <a:pt x="270632" y="2013851"/>
                  </a:lnTo>
                  <a:lnTo>
                    <a:pt x="272484" y="2004329"/>
                  </a:lnTo>
                  <a:lnTo>
                    <a:pt x="274865" y="1993749"/>
                  </a:lnTo>
                  <a:lnTo>
                    <a:pt x="280156" y="1969680"/>
                  </a:lnTo>
                  <a:lnTo>
                    <a:pt x="282802" y="1957249"/>
                  </a:lnTo>
                  <a:lnTo>
                    <a:pt x="284918" y="1944289"/>
                  </a:lnTo>
                  <a:lnTo>
                    <a:pt x="285712" y="1937677"/>
                  </a:lnTo>
                  <a:lnTo>
                    <a:pt x="286770" y="1931329"/>
                  </a:lnTo>
                  <a:lnTo>
                    <a:pt x="287034" y="1924981"/>
                  </a:lnTo>
                  <a:lnTo>
                    <a:pt x="287299" y="1918633"/>
                  </a:lnTo>
                  <a:lnTo>
                    <a:pt x="287564" y="1912285"/>
                  </a:lnTo>
                  <a:lnTo>
                    <a:pt x="287299" y="1906202"/>
                  </a:lnTo>
                  <a:lnTo>
                    <a:pt x="286770" y="1900383"/>
                  </a:lnTo>
                  <a:lnTo>
                    <a:pt x="285712" y="1894564"/>
                  </a:lnTo>
                  <a:lnTo>
                    <a:pt x="284654" y="1889010"/>
                  </a:lnTo>
                  <a:lnTo>
                    <a:pt x="283066" y="1883985"/>
                  </a:lnTo>
                  <a:lnTo>
                    <a:pt x="280950" y="1878695"/>
                  </a:lnTo>
                  <a:lnTo>
                    <a:pt x="278569" y="1873934"/>
                  </a:lnTo>
                  <a:lnTo>
                    <a:pt x="275659" y="1869438"/>
                  </a:lnTo>
                  <a:lnTo>
                    <a:pt x="272220" y="1865735"/>
                  </a:lnTo>
                  <a:lnTo>
                    <a:pt x="268781" y="1862032"/>
                  </a:lnTo>
                  <a:lnTo>
                    <a:pt x="264283" y="1858593"/>
                  </a:lnTo>
                  <a:lnTo>
                    <a:pt x="235712" y="1840343"/>
                  </a:lnTo>
                  <a:lnTo>
                    <a:pt x="215077" y="1826854"/>
                  </a:lnTo>
                  <a:lnTo>
                    <a:pt x="198146" y="1816274"/>
                  </a:lnTo>
                  <a:lnTo>
                    <a:pt x="194443" y="1807017"/>
                  </a:lnTo>
                  <a:lnTo>
                    <a:pt x="191004" y="1797231"/>
                  </a:lnTo>
                  <a:lnTo>
                    <a:pt x="187300" y="1785064"/>
                  </a:lnTo>
                  <a:lnTo>
                    <a:pt x="185448" y="1778981"/>
                  </a:lnTo>
                  <a:lnTo>
                    <a:pt x="184125" y="1772369"/>
                  </a:lnTo>
                  <a:lnTo>
                    <a:pt x="182803" y="1766285"/>
                  </a:lnTo>
                  <a:lnTo>
                    <a:pt x="182009" y="1759937"/>
                  </a:lnTo>
                  <a:lnTo>
                    <a:pt x="181744" y="1754383"/>
                  </a:lnTo>
                  <a:lnTo>
                    <a:pt x="181744" y="1749093"/>
                  </a:lnTo>
                  <a:lnTo>
                    <a:pt x="182009" y="1746977"/>
                  </a:lnTo>
                  <a:lnTo>
                    <a:pt x="182538" y="1744597"/>
                  </a:lnTo>
                  <a:lnTo>
                    <a:pt x="183067" y="1742745"/>
                  </a:lnTo>
                  <a:lnTo>
                    <a:pt x="183861" y="1740629"/>
                  </a:lnTo>
                  <a:lnTo>
                    <a:pt x="186242" y="1737191"/>
                  </a:lnTo>
                  <a:lnTo>
                    <a:pt x="188623" y="1734017"/>
                  </a:lnTo>
                  <a:lnTo>
                    <a:pt x="191797" y="1730579"/>
                  </a:lnTo>
                  <a:lnTo>
                    <a:pt x="194707" y="1727140"/>
                  </a:lnTo>
                  <a:lnTo>
                    <a:pt x="201586" y="1720792"/>
                  </a:lnTo>
                  <a:lnTo>
                    <a:pt x="208199" y="1714445"/>
                  </a:lnTo>
                  <a:lnTo>
                    <a:pt x="214548" y="1709155"/>
                  </a:lnTo>
                  <a:lnTo>
                    <a:pt x="219310" y="1704394"/>
                  </a:lnTo>
                  <a:lnTo>
                    <a:pt x="220897" y="1702542"/>
                  </a:lnTo>
                  <a:lnTo>
                    <a:pt x="221691" y="1700691"/>
                  </a:lnTo>
                  <a:lnTo>
                    <a:pt x="222220" y="1699369"/>
                  </a:lnTo>
                  <a:lnTo>
                    <a:pt x="221956" y="1698840"/>
                  </a:lnTo>
                  <a:lnTo>
                    <a:pt x="221691" y="1698311"/>
                  </a:lnTo>
                  <a:lnTo>
                    <a:pt x="220104" y="1697253"/>
                  </a:lnTo>
                  <a:lnTo>
                    <a:pt x="216929" y="1695666"/>
                  </a:lnTo>
                  <a:lnTo>
                    <a:pt x="207141" y="1691169"/>
                  </a:lnTo>
                  <a:lnTo>
                    <a:pt x="193914" y="1686144"/>
                  </a:lnTo>
                  <a:lnTo>
                    <a:pt x="178834" y="1680061"/>
                  </a:lnTo>
                  <a:lnTo>
                    <a:pt x="163491" y="1674242"/>
                  </a:lnTo>
                  <a:lnTo>
                    <a:pt x="148940" y="1668158"/>
                  </a:lnTo>
                  <a:lnTo>
                    <a:pt x="137300" y="1663133"/>
                  </a:lnTo>
                  <a:lnTo>
                    <a:pt x="132803" y="1661282"/>
                  </a:lnTo>
                  <a:lnTo>
                    <a:pt x="129628" y="1659166"/>
                  </a:lnTo>
                  <a:lnTo>
                    <a:pt x="128570" y="1658372"/>
                  </a:lnTo>
                  <a:lnTo>
                    <a:pt x="127248" y="1657314"/>
                  </a:lnTo>
                  <a:lnTo>
                    <a:pt x="124602" y="1654140"/>
                  </a:lnTo>
                  <a:lnTo>
                    <a:pt x="122221" y="1649908"/>
                  </a:lnTo>
                  <a:lnTo>
                    <a:pt x="119576" y="1645147"/>
                  </a:lnTo>
                  <a:lnTo>
                    <a:pt x="116930" y="1639593"/>
                  </a:lnTo>
                  <a:lnTo>
                    <a:pt x="115078" y="1633774"/>
                  </a:lnTo>
                  <a:lnTo>
                    <a:pt x="112697" y="1627162"/>
                  </a:lnTo>
                  <a:lnTo>
                    <a:pt x="111375" y="1620814"/>
                  </a:lnTo>
                  <a:lnTo>
                    <a:pt x="110052" y="1613937"/>
                  </a:lnTo>
                  <a:lnTo>
                    <a:pt x="109258" y="1607589"/>
                  </a:lnTo>
                  <a:lnTo>
                    <a:pt x="108994" y="1601506"/>
                  </a:lnTo>
                  <a:lnTo>
                    <a:pt x="109258" y="1595158"/>
                  </a:lnTo>
                  <a:lnTo>
                    <a:pt x="109523" y="1592513"/>
                  </a:lnTo>
                  <a:lnTo>
                    <a:pt x="110052" y="1589868"/>
                  </a:lnTo>
                  <a:lnTo>
                    <a:pt x="110846" y="1587488"/>
                  </a:lnTo>
                  <a:lnTo>
                    <a:pt x="111639" y="1585107"/>
                  </a:lnTo>
                  <a:lnTo>
                    <a:pt x="112697" y="1582992"/>
                  </a:lnTo>
                  <a:lnTo>
                    <a:pt x="114285" y="1581140"/>
                  </a:lnTo>
                  <a:lnTo>
                    <a:pt x="115607" y="1579553"/>
                  </a:lnTo>
                  <a:lnTo>
                    <a:pt x="117195" y="1578231"/>
                  </a:lnTo>
                  <a:lnTo>
                    <a:pt x="120898" y="1575321"/>
                  </a:lnTo>
                  <a:lnTo>
                    <a:pt x="124338" y="1572412"/>
                  </a:lnTo>
                  <a:lnTo>
                    <a:pt x="127512" y="1569502"/>
                  </a:lnTo>
                  <a:lnTo>
                    <a:pt x="130158" y="1566328"/>
                  </a:lnTo>
                  <a:lnTo>
                    <a:pt x="132803" y="1563155"/>
                  </a:lnTo>
                  <a:lnTo>
                    <a:pt x="134655" y="1560245"/>
                  </a:lnTo>
                  <a:lnTo>
                    <a:pt x="136771" y="1556807"/>
                  </a:lnTo>
                  <a:lnTo>
                    <a:pt x="138094" y="1553368"/>
                  </a:lnTo>
                  <a:lnTo>
                    <a:pt x="139417" y="1549930"/>
                  </a:lnTo>
                  <a:lnTo>
                    <a:pt x="140475" y="1546756"/>
                  </a:lnTo>
                  <a:lnTo>
                    <a:pt x="141004" y="1543318"/>
                  </a:lnTo>
                  <a:lnTo>
                    <a:pt x="141004" y="1539879"/>
                  </a:lnTo>
                  <a:lnTo>
                    <a:pt x="141004" y="1536705"/>
                  </a:lnTo>
                  <a:lnTo>
                    <a:pt x="140475" y="1533531"/>
                  </a:lnTo>
                  <a:lnTo>
                    <a:pt x="139417" y="1530093"/>
                  </a:lnTo>
                  <a:lnTo>
                    <a:pt x="138359" y="1526919"/>
                  </a:lnTo>
                  <a:lnTo>
                    <a:pt x="136771" y="1524010"/>
                  </a:lnTo>
                  <a:lnTo>
                    <a:pt x="134655" y="1521100"/>
                  </a:lnTo>
                  <a:lnTo>
                    <a:pt x="132539" y="1518455"/>
                  </a:lnTo>
                  <a:lnTo>
                    <a:pt x="129628" y="1515546"/>
                  </a:lnTo>
                  <a:lnTo>
                    <a:pt x="126718" y="1512901"/>
                  </a:lnTo>
                  <a:lnTo>
                    <a:pt x="123279" y="1510520"/>
                  </a:lnTo>
                  <a:lnTo>
                    <a:pt x="119576" y="1508404"/>
                  </a:lnTo>
                  <a:lnTo>
                    <a:pt x="115343" y="1506289"/>
                  </a:lnTo>
                  <a:lnTo>
                    <a:pt x="110581" y="1504702"/>
                  </a:lnTo>
                  <a:lnTo>
                    <a:pt x="105555" y="1502850"/>
                  </a:lnTo>
                  <a:lnTo>
                    <a:pt x="100264" y="1501792"/>
                  </a:lnTo>
                  <a:lnTo>
                    <a:pt x="94179" y="1500734"/>
                  </a:lnTo>
                  <a:lnTo>
                    <a:pt x="88094" y="1499676"/>
                  </a:lnTo>
                  <a:lnTo>
                    <a:pt x="81481" y="1499147"/>
                  </a:lnTo>
                  <a:lnTo>
                    <a:pt x="74338" y="1498883"/>
                  </a:lnTo>
                  <a:lnTo>
                    <a:pt x="66666" y="1498883"/>
                  </a:lnTo>
                  <a:lnTo>
                    <a:pt x="60846" y="1498883"/>
                  </a:lnTo>
                  <a:lnTo>
                    <a:pt x="55026" y="1498354"/>
                  </a:lnTo>
                  <a:lnTo>
                    <a:pt x="49735" y="1497560"/>
                  </a:lnTo>
                  <a:lnTo>
                    <a:pt x="44709" y="1496238"/>
                  </a:lnTo>
                  <a:lnTo>
                    <a:pt x="39947" y="1494386"/>
                  </a:lnTo>
                  <a:lnTo>
                    <a:pt x="35449" y="1492270"/>
                  </a:lnTo>
                  <a:lnTo>
                    <a:pt x="31217" y="1489625"/>
                  </a:lnTo>
                  <a:lnTo>
                    <a:pt x="27248" y="1486981"/>
                  </a:lnTo>
                  <a:lnTo>
                    <a:pt x="23545" y="1483807"/>
                  </a:lnTo>
                  <a:lnTo>
                    <a:pt x="20106" y="1480368"/>
                  </a:lnTo>
                  <a:lnTo>
                    <a:pt x="17196" y="1476665"/>
                  </a:lnTo>
                  <a:lnTo>
                    <a:pt x="14286" y="1472962"/>
                  </a:lnTo>
                  <a:lnTo>
                    <a:pt x="11640" y="1468995"/>
                  </a:lnTo>
                  <a:lnTo>
                    <a:pt x="9524" y="1464499"/>
                  </a:lnTo>
                  <a:lnTo>
                    <a:pt x="7407" y="1460002"/>
                  </a:lnTo>
                  <a:lnTo>
                    <a:pt x="5820" y="1455506"/>
                  </a:lnTo>
                  <a:lnTo>
                    <a:pt x="4233" y="1450745"/>
                  </a:lnTo>
                  <a:lnTo>
                    <a:pt x="2910" y="1445720"/>
                  </a:lnTo>
                  <a:lnTo>
                    <a:pt x="1852" y="1440959"/>
                  </a:lnTo>
                  <a:lnTo>
                    <a:pt x="1058" y="1435669"/>
                  </a:lnTo>
                  <a:lnTo>
                    <a:pt x="529" y="1430643"/>
                  </a:lnTo>
                  <a:lnTo>
                    <a:pt x="265" y="1425354"/>
                  </a:lnTo>
                  <a:lnTo>
                    <a:pt x="0" y="1420328"/>
                  </a:lnTo>
                  <a:lnTo>
                    <a:pt x="0" y="1415303"/>
                  </a:lnTo>
                  <a:lnTo>
                    <a:pt x="265" y="1410278"/>
                  </a:lnTo>
                  <a:lnTo>
                    <a:pt x="794" y="1405252"/>
                  </a:lnTo>
                  <a:lnTo>
                    <a:pt x="1323" y="1400227"/>
                  </a:lnTo>
                  <a:lnTo>
                    <a:pt x="2116" y="1395466"/>
                  </a:lnTo>
                  <a:lnTo>
                    <a:pt x="2910" y="1390705"/>
                  </a:lnTo>
                  <a:lnTo>
                    <a:pt x="4233" y="1386209"/>
                  </a:lnTo>
                  <a:lnTo>
                    <a:pt x="5556" y="1381977"/>
                  </a:lnTo>
                  <a:lnTo>
                    <a:pt x="6878" y="1377745"/>
                  </a:lnTo>
                  <a:lnTo>
                    <a:pt x="11640" y="1365843"/>
                  </a:lnTo>
                  <a:lnTo>
                    <a:pt x="19048" y="1349444"/>
                  </a:lnTo>
                  <a:lnTo>
                    <a:pt x="39947" y="1303687"/>
                  </a:lnTo>
                  <a:lnTo>
                    <a:pt x="65608" y="1245763"/>
                  </a:lnTo>
                  <a:lnTo>
                    <a:pt x="79629" y="1214288"/>
                  </a:lnTo>
                  <a:lnTo>
                    <a:pt x="93650" y="1182020"/>
                  </a:lnTo>
                  <a:lnTo>
                    <a:pt x="107406" y="1149487"/>
                  </a:lnTo>
                  <a:lnTo>
                    <a:pt x="120634" y="1117484"/>
                  </a:lnTo>
                  <a:lnTo>
                    <a:pt x="133068" y="1086802"/>
                  </a:lnTo>
                  <a:lnTo>
                    <a:pt x="138623" y="1072255"/>
                  </a:lnTo>
                  <a:lnTo>
                    <a:pt x="143914" y="1057973"/>
                  </a:lnTo>
                  <a:lnTo>
                    <a:pt x="148411" y="1044748"/>
                  </a:lnTo>
                  <a:lnTo>
                    <a:pt x="152909" y="1031788"/>
                  </a:lnTo>
                  <a:lnTo>
                    <a:pt x="156612" y="1019886"/>
                  </a:lnTo>
                  <a:lnTo>
                    <a:pt x="159787" y="1009041"/>
                  </a:lnTo>
                  <a:lnTo>
                    <a:pt x="162168" y="999255"/>
                  </a:lnTo>
                  <a:lnTo>
                    <a:pt x="164020" y="990527"/>
                  </a:lnTo>
                  <a:lnTo>
                    <a:pt x="164813" y="982857"/>
                  </a:lnTo>
                  <a:lnTo>
                    <a:pt x="165078" y="979683"/>
                  </a:lnTo>
                  <a:lnTo>
                    <a:pt x="165078" y="976509"/>
                  </a:lnTo>
                  <a:lnTo>
                    <a:pt x="164549" y="965929"/>
                  </a:lnTo>
                  <a:lnTo>
                    <a:pt x="163755" y="956143"/>
                  </a:lnTo>
                  <a:lnTo>
                    <a:pt x="162697" y="947944"/>
                  </a:lnTo>
                  <a:lnTo>
                    <a:pt x="161374" y="940273"/>
                  </a:lnTo>
                  <a:lnTo>
                    <a:pt x="160051" y="933396"/>
                  </a:lnTo>
                  <a:lnTo>
                    <a:pt x="158729" y="927578"/>
                  </a:lnTo>
                  <a:lnTo>
                    <a:pt x="157141" y="922288"/>
                  </a:lnTo>
                  <a:lnTo>
                    <a:pt x="155554" y="917527"/>
                  </a:lnTo>
                  <a:lnTo>
                    <a:pt x="152380" y="908799"/>
                  </a:lnTo>
                  <a:lnTo>
                    <a:pt x="149999" y="900864"/>
                  </a:lnTo>
                  <a:lnTo>
                    <a:pt x="148940" y="897425"/>
                  </a:lnTo>
                  <a:lnTo>
                    <a:pt x="148147" y="893458"/>
                  </a:lnTo>
                  <a:lnTo>
                    <a:pt x="147618" y="889226"/>
                  </a:lnTo>
                  <a:lnTo>
                    <a:pt x="147353" y="884730"/>
                  </a:lnTo>
                  <a:lnTo>
                    <a:pt x="147618" y="861190"/>
                  </a:lnTo>
                  <a:lnTo>
                    <a:pt x="148411" y="837385"/>
                  </a:lnTo>
                  <a:lnTo>
                    <a:pt x="149734" y="814374"/>
                  </a:lnTo>
                  <a:lnTo>
                    <a:pt x="151321" y="791364"/>
                  </a:lnTo>
                  <a:lnTo>
                    <a:pt x="153438" y="768617"/>
                  </a:lnTo>
                  <a:lnTo>
                    <a:pt x="156083" y="745871"/>
                  </a:lnTo>
                  <a:lnTo>
                    <a:pt x="159258" y="723653"/>
                  </a:lnTo>
                  <a:lnTo>
                    <a:pt x="162697" y="701700"/>
                  </a:lnTo>
                  <a:lnTo>
                    <a:pt x="166665" y="679747"/>
                  </a:lnTo>
                  <a:lnTo>
                    <a:pt x="171163" y="657795"/>
                  </a:lnTo>
                  <a:lnTo>
                    <a:pt x="176189" y="636371"/>
                  </a:lnTo>
                  <a:lnTo>
                    <a:pt x="181744" y="615476"/>
                  </a:lnTo>
                  <a:lnTo>
                    <a:pt x="187300" y="594316"/>
                  </a:lnTo>
                  <a:lnTo>
                    <a:pt x="193649" y="573686"/>
                  </a:lnTo>
                  <a:lnTo>
                    <a:pt x="200263" y="553320"/>
                  </a:lnTo>
                  <a:lnTo>
                    <a:pt x="207406" y="533218"/>
                  </a:lnTo>
                  <a:lnTo>
                    <a:pt x="215077" y="513117"/>
                  </a:lnTo>
                  <a:lnTo>
                    <a:pt x="223014" y="493809"/>
                  </a:lnTo>
                  <a:lnTo>
                    <a:pt x="231215" y="474501"/>
                  </a:lnTo>
                  <a:lnTo>
                    <a:pt x="239945" y="455457"/>
                  </a:lnTo>
                  <a:lnTo>
                    <a:pt x="249204" y="436943"/>
                  </a:lnTo>
                  <a:lnTo>
                    <a:pt x="259257" y="418428"/>
                  </a:lnTo>
                  <a:lnTo>
                    <a:pt x="269045" y="400443"/>
                  </a:lnTo>
                  <a:lnTo>
                    <a:pt x="279627" y="382722"/>
                  </a:lnTo>
                  <a:lnTo>
                    <a:pt x="290209" y="365265"/>
                  </a:lnTo>
                  <a:lnTo>
                    <a:pt x="301585" y="348073"/>
                  </a:lnTo>
                  <a:lnTo>
                    <a:pt x="313225" y="331410"/>
                  </a:lnTo>
                  <a:lnTo>
                    <a:pt x="325394" y="315011"/>
                  </a:lnTo>
                  <a:lnTo>
                    <a:pt x="337828" y="299142"/>
                  </a:lnTo>
                  <a:lnTo>
                    <a:pt x="350261" y="283272"/>
                  </a:lnTo>
                  <a:lnTo>
                    <a:pt x="363489" y="267932"/>
                  </a:lnTo>
                  <a:lnTo>
                    <a:pt x="376981" y="252856"/>
                  </a:lnTo>
                  <a:lnTo>
                    <a:pt x="391002" y="238044"/>
                  </a:lnTo>
                  <a:lnTo>
                    <a:pt x="405552" y="224026"/>
                  </a:lnTo>
                  <a:lnTo>
                    <a:pt x="420102" y="210008"/>
                  </a:lnTo>
                  <a:lnTo>
                    <a:pt x="434917" y="196519"/>
                  </a:lnTo>
                  <a:lnTo>
                    <a:pt x="450261" y="183558"/>
                  </a:lnTo>
                  <a:lnTo>
                    <a:pt x="466133" y="171127"/>
                  </a:lnTo>
                  <a:lnTo>
                    <a:pt x="482006" y="158696"/>
                  </a:lnTo>
                  <a:lnTo>
                    <a:pt x="498673" y="146794"/>
                  </a:lnTo>
                  <a:lnTo>
                    <a:pt x="515339" y="135421"/>
                  </a:lnTo>
                  <a:lnTo>
                    <a:pt x="532270" y="124312"/>
                  </a:lnTo>
                  <a:lnTo>
                    <a:pt x="549731" y="113732"/>
                  </a:lnTo>
                  <a:lnTo>
                    <a:pt x="567455" y="103681"/>
                  </a:lnTo>
                  <a:lnTo>
                    <a:pt x="585709" y="93895"/>
                  </a:lnTo>
                  <a:lnTo>
                    <a:pt x="603963" y="84638"/>
                  </a:lnTo>
                  <a:lnTo>
                    <a:pt x="622746" y="75645"/>
                  </a:lnTo>
                  <a:lnTo>
                    <a:pt x="641793" y="67446"/>
                  </a:lnTo>
                  <a:lnTo>
                    <a:pt x="661105" y="59247"/>
                  </a:lnTo>
                  <a:lnTo>
                    <a:pt x="680946" y="51841"/>
                  </a:lnTo>
                  <a:lnTo>
                    <a:pt x="700787" y="44964"/>
                  </a:lnTo>
                  <a:lnTo>
                    <a:pt x="721157" y="38616"/>
                  </a:lnTo>
                  <a:lnTo>
                    <a:pt x="741528" y="32533"/>
                  </a:lnTo>
                  <a:lnTo>
                    <a:pt x="762427" y="26978"/>
                  </a:lnTo>
                  <a:lnTo>
                    <a:pt x="783326" y="21953"/>
                  </a:lnTo>
                  <a:lnTo>
                    <a:pt x="805019" y="17457"/>
                  </a:lnTo>
                  <a:lnTo>
                    <a:pt x="826712" y="13489"/>
                  </a:lnTo>
                  <a:lnTo>
                    <a:pt x="848405" y="9786"/>
                  </a:lnTo>
                  <a:lnTo>
                    <a:pt x="870627" y="7141"/>
                  </a:lnTo>
                  <a:lnTo>
                    <a:pt x="893378" y="4497"/>
                  </a:lnTo>
                  <a:lnTo>
                    <a:pt x="916129" y="2645"/>
                  </a:lnTo>
                  <a:lnTo>
                    <a:pt x="939145" y="1058"/>
                  </a:lnTo>
                  <a:lnTo>
                    <a:pt x="962425" y="265"/>
                  </a:lnTo>
                  <a:lnTo>
                    <a:pt x="986234" y="0"/>
                  </a:lnTo>
                  <a:close/>
                </a:path>
              </a:pathLst>
            </a:custGeom>
            <a:solidFill>
              <a:srgbClr val="09839b"/>
            </a:solidFill>
            <a:ln w="9360">
              <a:solidFill>
                <a:srgbClr val="609da7"/>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18"/>
            <p:cNvSpPr/>
            <p:nvPr/>
          </p:nvSpPr>
          <p:spPr>
            <a:xfrm>
              <a:off x="1870200" y="3552840"/>
              <a:ext cx="720720" cy="722160"/>
            </a:xfrm>
            <a:prstGeom prst="ellipse">
              <a:avLst/>
            </a:prstGeom>
            <a:noFill/>
            <a:ln w="12600">
              <a:solidFill>
                <a:srgbClr val="09839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5" name="组合 19"/>
          <p:cNvGrpSpPr/>
          <p:nvPr/>
        </p:nvGrpSpPr>
        <p:grpSpPr>
          <a:xfrm>
            <a:off x="1870200" y="4521240"/>
            <a:ext cx="720720" cy="722160"/>
            <a:chOff x="1870200" y="4521240"/>
            <a:chExt cx="720720" cy="722160"/>
          </a:xfrm>
        </p:grpSpPr>
        <p:sp>
          <p:nvSpPr>
            <p:cNvPr id="206" name="KSO_Shape"/>
            <p:cNvSpPr/>
            <p:nvPr/>
          </p:nvSpPr>
          <p:spPr>
            <a:xfrm>
              <a:off x="1994040" y="4645080"/>
              <a:ext cx="473040" cy="47448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21"/>
            <p:cNvSpPr/>
            <p:nvPr/>
          </p:nvSpPr>
          <p:spPr>
            <a:xfrm>
              <a:off x="1870200" y="4521240"/>
              <a:ext cx="720720" cy="722160"/>
            </a:xfrm>
            <a:prstGeom prst="ellipse">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8" name="组合 22"/>
          <p:cNvGrpSpPr/>
          <p:nvPr/>
        </p:nvGrpSpPr>
        <p:grpSpPr>
          <a:xfrm>
            <a:off x="1870200" y="644400"/>
            <a:ext cx="720720" cy="722520"/>
            <a:chOff x="1870200" y="644400"/>
            <a:chExt cx="720720" cy="722520"/>
          </a:xfrm>
        </p:grpSpPr>
        <p:sp>
          <p:nvSpPr>
            <p:cNvPr id="209" name="KSO_Shape"/>
            <p:cNvSpPr/>
            <p:nvPr/>
          </p:nvSpPr>
          <p:spPr>
            <a:xfrm>
              <a:off x="1994040" y="841320"/>
              <a:ext cx="473040" cy="32868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椭圆 24"/>
            <p:cNvSpPr/>
            <p:nvPr/>
          </p:nvSpPr>
          <p:spPr>
            <a:xfrm>
              <a:off x="1870200" y="644400"/>
              <a:ext cx="720720" cy="72252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1" name="直接连接符 26"/>
          <p:cNvSpPr/>
          <p:nvPr/>
        </p:nvSpPr>
        <p:spPr>
          <a:xfrm>
            <a:off x="2209680" y="136692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直接连接符 27"/>
          <p:cNvSpPr/>
          <p:nvPr/>
        </p:nvSpPr>
        <p:spPr>
          <a:xfrm>
            <a:off x="2209680" y="233676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直接连接符 28"/>
          <p:cNvSpPr/>
          <p:nvPr/>
        </p:nvSpPr>
        <p:spPr>
          <a:xfrm>
            <a:off x="2209680" y="3305160"/>
            <a:ext cx="0" cy="24768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直接连接符 29"/>
          <p:cNvSpPr/>
          <p:nvPr/>
        </p:nvSpPr>
        <p:spPr>
          <a:xfrm>
            <a:off x="2209680" y="4275000"/>
            <a:ext cx="0" cy="246240"/>
          </a:xfrm>
          <a:prstGeom prst="line">
            <a:avLst/>
          </a:prstGeom>
          <a:ln w="6480">
            <a:solidFill>
              <a:srgbClr val="09839b"/>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直接连接符 30"/>
          <p:cNvSpPr/>
          <p:nvPr/>
        </p:nvSpPr>
        <p:spPr>
          <a:xfrm>
            <a:off x="2209680" y="5243400"/>
            <a:ext cx="0" cy="247680"/>
          </a:xfrm>
          <a:prstGeom prst="line">
            <a:avLst/>
          </a:prstGeom>
          <a:ln w="64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KSO_Shape"/>
          <p:cNvSpPr/>
          <p:nvPr/>
        </p:nvSpPr>
        <p:spPr>
          <a:xfrm>
            <a:off x="1987560" y="1716120"/>
            <a:ext cx="515880" cy="54756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矩形 33"/>
          <p:cNvSpPr/>
          <p:nvPr/>
        </p:nvSpPr>
        <p:spPr>
          <a:xfrm>
            <a:off x="7698240" y="2859120"/>
            <a:ext cx="28630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839b"/>
                </a:solidFill>
                <a:latin typeface="微软雅黑"/>
                <a:ea typeface="微软雅黑"/>
              </a:rPr>
              <a:t>点击添加标题文字</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839b"/>
                </a:solidFill>
                <a:latin typeface="微软雅黑"/>
                <a:ea typeface="微软雅黑"/>
              </a:rPr>
              <a:t>Add the title here</a:t>
            </a:r>
            <a:endParaRPr b="0" lang="en-US" sz="24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椭圆 1"/>
          <p:cNvSpPr/>
          <p:nvPr/>
        </p:nvSpPr>
        <p:spPr>
          <a:xfrm>
            <a:off x="1314360" y="2220840"/>
            <a:ext cx="2251080" cy="24066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椭圆 2"/>
          <p:cNvSpPr/>
          <p:nvPr/>
        </p:nvSpPr>
        <p:spPr>
          <a:xfrm>
            <a:off x="8070840" y="2239920"/>
            <a:ext cx="2406600" cy="24084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椭圆 1"/>
          <p:cNvSpPr/>
          <p:nvPr/>
        </p:nvSpPr>
        <p:spPr>
          <a:xfrm>
            <a:off x="356544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椭圆 1"/>
          <p:cNvSpPr/>
          <p:nvPr/>
        </p:nvSpPr>
        <p:spPr>
          <a:xfrm>
            <a:off x="5816520" y="2239920"/>
            <a:ext cx="2251080" cy="2408400"/>
          </a:xfrm>
          <a:custGeom>
            <a:avLst/>
            <a:gdLst/>
            <a:ahLst/>
            <a:rect l="l" t="t" r="r" b="b"/>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TextBox 14"/>
          <p:cNvSpPr/>
          <p:nvPr/>
        </p:nvSpPr>
        <p:spPr>
          <a:xfrm>
            <a:off x="218988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1</a:t>
            </a:r>
            <a:endParaRPr b="0" lang="en-US" sz="3200" spc="-1" strike="noStrike">
              <a:solidFill>
                <a:srgbClr val="000000"/>
              </a:solidFill>
              <a:latin typeface="Calibri"/>
            </a:endParaRPr>
          </a:p>
        </p:txBody>
      </p:sp>
      <p:sp>
        <p:nvSpPr>
          <p:cNvPr id="480" name="TextBox 15"/>
          <p:cNvSpPr/>
          <p:nvPr/>
        </p:nvSpPr>
        <p:spPr>
          <a:xfrm>
            <a:off x="44791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2</a:t>
            </a:r>
            <a:endParaRPr b="0" lang="en-US" sz="3200" spc="-1" strike="noStrike">
              <a:solidFill>
                <a:srgbClr val="000000"/>
              </a:solidFill>
              <a:latin typeface="Calibri"/>
            </a:endParaRPr>
          </a:p>
        </p:txBody>
      </p:sp>
      <p:sp>
        <p:nvSpPr>
          <p:cNvPr id="481" name="TextBox 16"/>
          <p:cNvSpPr/>
          <p:nvPr/>
        </p:nvSpPr>
        <p:spPr>
          <a:xfrm>
            <a:off x="667944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3</a:t>
            </a:r>
            <a:endParaRPr b="0" lang="en-US" sz="3200" spc="-1" strike="noStrike">
              <a:solidFill>
                <a:srgbClr val="000000"/>
              </a:solidFill>
              <a:latin typeface="Calibri"/>
            </a:endParaRPr>
          </a:p>
        </p:txBody>
      </p:sp>
      <p:sp>
        <p:nvSpPr>
          <p:cNvPr id="482" name="TextBox 17"/>
          <p:cNvSpPr/>
          <p:nvPr/>
        </p:nvSpPr>
        <p:spPr>
          <a:xfrm>
            <a:off x="9011520" y="223524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04</a:t>
            </a:r>
            <a:endParaRPr b="0" lang="en-US" sz="3200" spc="-1" strike="noStrike">
              <a:solidFill>
                <a:srgbClr val="000000"/>
              </a:solidFill>
              <a:latin typeface="Calibri"/>
            </a:endParaRPr>
          </a:p>
        </p:txBody>
      </p:sp>
      <p:sp>
        <p:nvSpPr>
          <p:cNvPr id="483" name="直接连接符 9"/>
          <p:cNvSpPr/>
          <p:nvPr/>
        </p:nvSpPr>
        <p:spPr>
          <a:xfrm>
            <a:off x="1590840" y="2986200"/>
            <a:ext cx="165240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4" name="直接连接符 10"/>
          <p:cNvSpPr/>
          <p:nvPr/>
        </p:nvSpPr>
        <p:spPr>
          <a:xfrm>
            <a:off x="386568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5" name="直接连接符 11"/>
          <p:cNvSpPr/>
          <p:nvPr/>
        </p:nvSpPr>
        <p:spPr>
          <a:xfrm>
            <a:off x="6116760" y="2986200"/>
            <a:ext cx="165096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6" name="直接连接符 12"/>
          <p:cNvSpPr/>
          <p:nvPr/>
        </p:nvSpPr>
        <p:spPr>
          <a:xfrm>
            <a:off x="8379000" y="2986200"/>
            <a:ext cx="1844640" cy="0"/>
          </a:xfrm>
          <a:prstGeom prst="line">
            <a:avLst/>
          </a:prstGeom>
          <a:ln w="648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7" name="TextBox 22"/>
          <p:cNvSpPr/>
          <p:nvPr/>
        </p:nvSpPr>
        <p:spPr>
          <a:xfrm>
            <a:off x="135396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88" name="TextBox 23"/>
          <p:cNvSpPr/>
          <p:nvPr/>
        </p:nvSpPr>
        <p:spPr>
          <a:xfrm>
            <a:off x="135396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89" name="TextBox 24"/>
          <p:cNvSpPr/>
          <p:nvPr/>
        </p:nvSpPr>
        <p:spPr>
          <a:xfrm>
            <a:off x="36781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0" name="TextBox 25"/>
          <p:cNvSpPr/>
          <p:nvPr/>
        </p:nvSpPr>
        <p:spPr>
          <a:xfrm>
            <a:off x="3706920" y="3583080"/>
            <a:ext cx="22446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1" name="TextBox 26"/>
          <p:cNvSpPr/>
          <p:nvPr/>
        </p:nvSpPr>
        <p:spPr>
          <a:xfrm>
            <a:off x="5857920" y="313848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2" name="TextBox 27"/>
          <p:cNvSpPr/>
          <p:nvPr/>
        </p:nvSpPr>
        <p:spPr>
          <a:xfrm>
            <a:off x="5857920" y="3583080"/>
            <a:ext cx="22464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3" name="TextBox 28"/>
          <p:cNvSpPr/>
          <p:nvPr/>
        </p:nvSpPr>
        <p:spPr>
          <a:xfrm>
            <a:off x="8253360" y="3173400"/>
            <a:ext cx="22464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Calibri"/>
            </a:endParaRPr>
          </a:p>
        </p:txBody>
      </p:sp>
      <p:sp>
        <p:nvSpPr>
          <p:cNvPr id="494" name="TextBox 29"/>
          <p:cNvSpPr/>
          <p:nvPr/>
        </p:nvSpPr>
        <p:spPr>
          <a:xfrm>
            <a:off x="8282160" y="3619440"/>
            <a:ext cx="224604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Calibri"/>
            </a:endParaRPr>
          </a:p>
        </p:txBody>
      </p:sp>
      <p:sp>
        <p:nvSpPr>
          <p:cNvPr id="495" name="KSO_Shape"/>
          <p:cNvSpPr/>
          <p:nvPr/>
        </p:nvSpPr>
        <p:spPr>
          <a:xfrm>
            <a:off x="1611360" y="1306440"/>
            <a:ext cx="47448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KSO_Shape"/>
          <p:cNvSpPr/>
          <p:nvPr/>
        </p:nvSpPr>
        <p:spPr>
          <a:xfrm>
            <a:off x="1611360" y="5059440"/>
            <a:ext cx="474480" cy="47448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KSO_Shape"/>
          <p:cNvSpPr/>
          <p:nvPr/>
        </p:nvSpPr>
        <p:spPr>
          <a:xfrm flipH="1">
            <a:off x="10404360" y="13064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KSO_Shape"/>
          <p:cNvSpPr/>
          <p:nvPr/>
        </p:nvSpPr>
        <p:spPr>
          <a:xfrm flipH="1">
            <a:off x="10404360" y="509436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文本框 25"/>
          <p:cNvSpPr/>
          <p:nvPr/>
        </p:nvSpPr>
        <p:spPr>
          <a:xfrm>
            <a:off x="223308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00" name="TextBox 15"/>
          <p:cNvSpPr/>
          <p:nvPr/>
        </p:nvSpPr>
        <p:spPr>
          <a:xfrm>
            <a:off x="2192400" y="146844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1" name="文本框 27"/>
          <p:cNvSpPr/>
          <p:nvPr/>
        </p:nvSpPr>
        <p:spPr>
          <a:xfrm>
            <a:off x="2233080" y="5000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02" name="TextBox 15"/>
          <p:cNvSpPr/>
          <p:nvPr/>
        </p:nvSpPr>
        <p:spPr>
          <a:xfrm>
            <a:off x="2192400" y="5272200"/>
            <a:ext cx="3295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3" name="文本框 29"/>
          <p:cNvSpPr/>
          <p:nvPr/>
        </p:nvSpPr>
        <p:spPr>
          <a:xfrm>
            <a:off x="8979840" y="119700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04" name="TextBox 15"/>
          <p:cNvSpPr/>
          <p:nvPr/>
        </p:nvSpPr>
        <p:spPr>
          <a:xfrm>
            <a:off x="7112160" y="146844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05" name="文本框 31"/>
          <p:cNvSpPr/>
          <p:nvPr/>
        </p:nvSpPr>
        <p:spPr>
          <a:xfrm>
            <a:off x="8979840" y="5019840"/>
            <a:ext cx="1326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06" name="TextBox 15"/>
          <p:cNvSpPr/>
          <p:nvPr/>
        </p:nvSpPr>
        <p:spPr>
          <a:xfrm>
            <a:off x="7112160" y="5291280"/>
            <a:ext cx="3235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reeform 4"/>
          <p:cNvSpPr/>
          <p:nvPr/>
        </p:nvSpPr>
        <p:spPr>
          <a:xfrm>
            <a:off x="4311720" y="3111480"/>
            <a:ext cx="1447560" cy="195408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179a4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Freeform 5"/>
          <p:cNvSpPr/>
          <p:nvPr/>
        </p:nvSpPr>
        <p:spPr>
          <a:xfrm rot="7200000">
            <a:off x="6003360" y="2031840"/>
            <a:ext cx="1365120" cy="20732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faaf3b">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9" name="Group 6" descr=""/>
          <p:cNvPicPr/>
          <p:nvPr/>
        </p:nvPicPr>
        <p:blipFill>
          <a:blip r:embed="rId1"/>
          <a:stretch/>
        </p:blipFill>
        <p:spPr>
          <a:xfrm>
            <a:off x="4641840" y="2206800"/>
            <a:ext cx="2171880" cy="1838160"/>
          </a:xfrm>
          <a:prstGeom prst="rect">
            <a:avLst/>
          </a:prstGeom>
          <a:ln w="0">
            <a:noFill/>
          </a:ln>
        </p:spPr>
      </p:pic>
      <p:sp>
        <p:nvSpPr>
          <p:cNvPr id="510" name="Freeform 10"/>
          <p:cNvSpPr/>
          <p:nvPr/>
        </p:nvSpPr>
        <p:spPr>
          <a:xfrm rot="14400000">
            <a:off x="6117120" y="3883680"/>
            <a:ext cx="1365120" cy="2071440"/>
          </a:xfrm>
          <a:custGeom>
            <a:avLst/>
            <a:gdLst/>
            <a:ahLst/>
            <a:rect l="l" t="t" r="r" b="b"/>
            <a:pathLst>
              <a:path w="1233" h="1764">
                <a:moveTo>
                  <a:pt x="1233" y="343"/>
                </a:moveTo>
                <a:lnTo>
                  <a:pt x="413" y="1764"/>
                </a:lnTo>
                <a:lnTo>
                  <a:pt x="0" y="1226"/>
                </a:lnTo>
                <a:lnTo>
                  <a:pt x="6" y="1098"/>
                </a:lnTo>
                <a:lnTo>
                  <a:pt x="638" y="0"/>
                </a:lnTo>
                <a:lnTo>
                  <a:pt x="1233" y="343"/>
                </a:lnTo>
                <a:close/>
              </a:path>
            </a:pathLst>
          </a:custGeom>
          <a:solidFill>
            <a:srgbClr val="a362c4">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1" name="Group 11" descr=""/>
          <p:cNvPicPr/>
          <p:nvPr/>
        </p:nvPicPr>
        <p:blipFill>
          <a:blip r:embed="rId2"/>
          <a:stretch/>
        </p:blipFill>
        <p:spPr>
          <a:xfrm>
            <a:off x="6446880" y="3013200"/>
            <a:ext cx="1614600" cy="2385720"/>
          </a:xfrm>
          <a:prstGeom prst="rect">
            <a:avLst/>
          </a:prstGeom>
          <a:ln w="0">
            <a:noFill/>
          </a:ln>
        </p:spPr>
      </p:pic>
      <p:pic>
        <p:nvPicPr>
          <p:cNvPr id="512" name="Group 15" descr=""/>
          <p:cNvPicPr/>
          <p:nvPr/>
        </p:nvPicPr>
        <p:blipFill>
          <a:blip r:embed="rId3"/>
          <a:stretch/>
        </p:blipFill>
        <p:spPr>
          <a:xfrm>
            <a:off x="4303800" y="4316400"/>
            <a:ext cx="2495520" cy="1395360"/>
          </a:xfrm>
          <a:prstGeom prst="rect">
            <a:avLst/>
          </a:prstGeom>
          <a:ln w="0">
            <a:noFill/>
          </a:ln>
        </p:spPr>
      </p:pic>
      <p:sp>
        <p:nvSpPr>
          <p:cNvPr id="513" name="文本框 17"/>
          <p:cNvSpPr/>
          <p:nvPr/>
        </p:nvSpPr>
        <p:spPr>
          <a:xfrm>
            <a:off x="1601640" y="506412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4" name="文本框 18"/>
          <p:cNvSpPr/>
          <p:nvPr/>
        </p:nvSpPr>
        <p:spPr>
          <a:xfrm>
            <a:off x="1601640" y="454356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
        <p:nvSpPr>
          <p:cNvPr id="515" name="文本框 19"/>
          <p:cNvSpPr/>
          <p:nvPr/>
        </p:nvSpPr>
        <p:spPr>
          <a:xfrm>
            <a:off x="8032680" y="5022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点击此处添加文字说明</a:t>
            </a:r>
            <a:endParaRPr b="0" lang="en-US" sz="1800" spc="-1" strike="noStrike">
              <a:solidFill>
                <a:srgbClr val="000000"/>
              </a:solidFill>
              <a:latin typeface="Calibri"/>
            </a:endParaRPr>
          </a:p>
        </p:txBody>
      </p:sp>
      <p:sp>
        <p:nvSpPr>
          <p:cNvPr id="516" name="文本框 20"/>
          <p:cNvSpPr/>
          <p:nvPr/>
        </p:nvSpPr>
        <p:spPr>
          <a:xfrm>
            <a:off x="8032680" y="45021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040"/>
                </a:solidFill>
                <a:latin typeface="微软雅黑"/>
                <a:ea typeface="微软雅黑"/>
              </a:rPr>
              <a:t>添加标题</a:t>
            </a:r>
            <a:endParaRPr b="0" lang="en-US" sz="3200" spc="-1" strike="noStrike">
              <a:solidFill>
                <a:srgbClr val="000000"/>
              </a:solidFill>
              <a:latin typeface="Calibri"/>
            </a:endParaRPr>
          </a:p>
        </p:txBody>
      </p:sp>
      <p:sp>
        <p:nvSpPr>
          <p:cNvPr id="517" name="文本框 21"/>
          <p:cNvSpPr/>
          <p:nvPr/>
        </p:nvSpPr>
        <p:spPr>
          <a:xfrm>
            <a:off x="4816440" y="166860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Calibri"/>
            </a:endParaRPr>
          </a:p>
        </p:txBody>
      </p:sp>
      <p:sp>
        <p:nvSpPr>
          <p:cNvPr id="518" name="文本框 22"/>
          <p:cNvSpPr/>
          <p:nvPr/>
        </p:nvSpPr>
        <p:spPr>
          <a:xfrm>
            <a:off x="4816440" y="11462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5"/>
          <p:cNvSpPr/>
          <p:nvPr/>
        </p:nvSpPr>
        <p:spPr>
          <a:xfrm>
            <a:off x="5796000" y="-28440"/>
            <a:ext cx="600120" cy="600120"/>
          </a:xfrm>
          <a:prstGeom prst="rect">
            <a:avLst/>
          </a:prstGeom>
          <a:solidFill>
            <a:srgbClr val="c027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520" name="矩形 1"/>
          <p:cNvSpPr/>
          <p:nvPr/>
        </p:nvSpPr>
        <p:spPr>
          <a:xfrm>
            <a:off x="5183280" y="4281480"/>
            <a:ext cx="182196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272d"/>
                </a:solidFill>
                <a:latin typeface="微软雅黑"/>
                <a:ea typeface="微软雅黑"/>
              </a:rPr>
              <a:t>研究结果</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272d"/>
                </a:solidFill>
                <a:latin typeface="微软雅黑"/>
                <a:ea typeface="微软雅黑"/>
              </a:rPr>
              <a:t>The Results</a:t>
            </a:r>
            <a:endParaRPr b="0" lang="en-US" sz="2400" spc="-1" strike="noStrike">
              <a:solidFill>
                <a:srgbClr val="000000"/>
              </a:solidFill>
              <a:latin typeface="Calibri"/>
            </a:endParaRPr>
          </a:p>
        </p:txBody>
      </p:sp>
      <p:grpSp>
        <p:nvGrpSpPr>
          <p:cNvPr id="521" name="组合 21"/>
          <p:cNvGrpSpPr/>
          <p:nvPr/>
        </p:nvGrpSpPr>
        <p:grpSpPr>
          <a:xfrm>
            <a:off x="4886280" y="1436760"/>
            <a:ext cx="2432160" cy="2431800"/>
            <a:chOff x="4886280" y="1436760"/>
            <a:chExt cx="2432160" cy="2431800"/>
          </a:xfrm>
        </p:grpSpPr>
        <p:sp>
          <p:nvSpPr>
            <p:cNvPr id="522" name="KSO_Shape"/>
            <p:cNvSpPr/>
            <p:nvPr/>
          </p:nvSpPr>
          <p:spPr>
            <a:xfrm>
              <a:off x="5305320" y="1855800"/>
              <a:ext cx="1594080" cy="1593720"/>
            </a:xfrm>
            <a:custGeom>
              <a:avLst/>
              <a:gdLst/>
              <a:ahLst/>
              <a:rect l="l" t="t" r="r" b="b"/>
              <a:pathLst>
                <a:path w="1589088" h="1589088">
                  <a:moveTo>
                    <a:pt x="916859" y="288925"/>
                  </a:moveTo>
                  <a:lnTo>
                    <a:pt x="954088" y="332030"/>
                  </a:lnTo>
                  <a:lnTo>
                    <a:pt x="816067" y="450682"/>
                  </a:lnTo>
                  <a:lnTo>
                    <a:pt x="817430" y="454085"/>
                  </a:lnTo>
                  <a:lnTo>
                    <a:pt x="818338" y="457488"/>
                  </a:lnTo>
                  <a:lnTo>
                    <a:pt x="819246" y="461118"/>
                  </a:lnTo>
                  <a:lnTo>
                    <a:pt x="820381" y="464748"/>
                  </a:lnTo>
                  <a:lnTo>
                    <a:pt x="820835" y="468378"/>
                  </a:lnTo>
                  <a:lnTo>
                    <a:pt x="821289" y="472008"/>
                  </a:lnTo>
                  <a:lnTo>
                    <a:pt x="821743" y="475865"/>
                  </a:lnTo>
                  <a:lnTo>
                    <a:pt x="821743" y="479722"/>
                  </a:lnTo>
                  <a:lnTo>
                    <a:pt x="821743" y="483805"/>
                  </a:lnTo>
                  <a:lnTo>
                    <a:pt x="821289" y="487662"/>
                  </a:lnTo>
                  <a:lnTo>
                    <a:pt x="820835" y="491746"/>
                  </a:lnTo>
                  <a:lnTo>
                    <a:pt x="820154" y="495602"/>
                  </a:lnTo>
                  <a:lnTo>
                    <a:pt x="819246" y="499459"/>
                  </a:lnTo>
                  <a:lnTo>
                    <a:pt x="818338" y="503089"/>
                  </a:lnTo>
                  <a:lnTo>
                    <a:pt x="816976" y="506946"/>
                  </a:lnTo>
                  <a:lnTo>
                    <a:pt x="815840" y="510349"/>
                  </a:lnTo>
                  <a:lnTo>
                    <a:pt x="814251" y="513979"/>
                  </a:lnTo>
                  <a:lnTo>
                    <a:pt x="812662" y="517382"/>
                  </a:lnTo>
                  <a:lnTo>
                    <a:pt x="810619" y="520785"/>
                  </a:lnTo>
                  <a:lnTo>
                    <a:pt x="808803" y="523961"/>
                  </a:lnTo>
                  <a:lnTo>
                    <a:pt x="806760" y="527137"/>
                  </a:lnTo>
                  <a:lnTo>
                    <a:pt x="804263" y="530313"/>
                  </a:lnTo>
                  <a:lnTo>
                    <a:pt x="801993" y="533036"/>
                  </a:lnTo>
                  <a:lnTo>
                    <a:pt x="799496" y="535985"/>
                  </a:lnTo>
                  <a:lnTo>
                    <a:pt x="796772" y="538707"/>
                  </a:lnTo>
                  <a:lnTo>
                    <a:pt x="794048" y="541203"/>
                  </a:lnTo>
                  <a:lnTo>
                    <a:pt x="791324" y="543698"/>
                  </a:lnTo>
                  <a:lnTo>
                    <a:pt x="788146" y="545967"/>
                  </a:lnTo>
                  <a:lnTo>
                    <a:pt x="785194" y="548009"/>
                  </a:lnTo>
                  <a:lnTo>
                    <a:pt x="781789" y="550051"/>
                  </a:lnTo>
                  <a:lnTo>
                    <a:pt x="778611" y="552093"/>
                  </a:lnTo>
                  <a:lnTo>
                    <a:pt x="775433" y="553908"/>
                  </a:lnTo>
                  <a:lnTo>
                    <a:pt x="771801" y="555496"/>
                  </a:lnTo>
                  <a:lnTo>
                    <a:pt x="768396" y="556857"/>
                  </a:lnTo>
                  <a:lnTo>
                    <a:pt x="764537" y="558218"/>
                  </a:lnTo>
                  <a:lnTo>
                    <a:pt x="760905" y="559352"/>
                  </a:lnTo>
                  <a:lnTo>
                    <a:pt x="757046" y="560260"/>
                  </a:lnTo>
                  <a:lnTo>
                    <a:pt x="753413" y="560940"/>
                  </a:lnTo>
                  <a:lnTo>
                    <a:pt x="749327" y="561621"/>
                  </a:lnTo>
                  <a:lnTo>
                    <a:pt x="745241" y="562075"/>
                  </a:lnTo>
                  <a:lnTo>
                    <a:pt x="692121" y="754005"/>
                  </a:lnTo>
                  <a:lnTo>
                    <a:pt x="697343" y="756728"/>
                  </a:lnTo>
                  <a:lnTo>
                    <a:pt x="702110" y="759904"/>
                  </a:lnTo>
                  <a:lnTo>
                    <a:pt x="706650" y="763080"/>
                  </a:lnTo>
                  <a:lnTo>
                    <a:pt x="710963" y="766937"/>
                  </a:lnTo>
                  <a:lnTo>
                    <a:pt x="715049" y="770794"/>
                  </a:lnTo>
                  <a:lnTo>
                    <a:pt x="718908" y="774877"/>
                  </a:lnTo>
                  <a:lnTo>
                    <a:pt x="722313" y="779188"/>
                  </a:lnTo>
                  <a:lnTo>
                    <a:pt x="725718" y="783952"/>
                  </a:lnTo>
                  <a:lnTo>
                    <a:pt x="728670" y="788943"/>
                  </a:lnTo>
                  <a:lnTo>
                    <a:pt x="731167" y="793934"/>
                  </a:lnTo>
                  <a:lnTo>
                    <a:pt x="733437" y="799379"/>
                  </a:lnTo>
                  <a:lnTo>
                    <a:pt x="735253" y="804824"/>
                  </a:lnTo>
                  <a:lnTo>
                    <a:pt x="736615" y="810496"/>
                  </a:lnTo>
                  <a:lnTo>
                    <a:pt x="737750" y="816167"/>
                  </a:lnTo>
                  <a:lnTo>
                    <a:pt x="738431" y="822066"/>
                  </a:lnTo>
                  <a:lnTo>
                    <a:pt x="738658" y="828191"/>
                  </a:lnTo>
                  <a:lnTo>
                    <a:pt x="738658" y="832729"/>
                  </a:lnTo>
                  <a:lnTo>
                    <a:pt x="738431" y="836812"/>
                  </a:lnTo>
                  <a:lnTo>
                    <a:pt x="737523" y="840896"/>
                  </a:lnTo>
                  <a:lnTo>
                    <a:pt x="736842" y="844980"/>
                  </a:lnTo>
                  <a:lnTo>
                    <a:pt x="735934" y="849063"/>
                  </a:lnTo>
                  <a:lnTo>
                    <a:pt x="734799" y="852920"/>
                  </a:lnTo>
                  <a:lnTo>
                    <a:pt x="733664" y="856777"/>
                  </a:lnTo>
                  <a:lnTo>
                    <a:pt x="732075" y="860407"/>
                  </a:lnTo>
                  <a:lnTo>
                    <a:pt x="730259" y="864263"/>
                  </a:lnTo>
                  <a:lnTo>
                    <a:pt x="728670" y="867666"/>
                  </a:lnTo>
                  <a:lnTo>
                    <a:pt x="726626" y="871296"/>
                  </a:lnTo>
                  <a:lnTo>
                    <a:pt x="724583" y="874699"/>
                  </a:lnTo>
                  <a:lnTo>
                    <a:pt x="722086" y="877876"/>
                  </a:lnTo>
                  <a:lnTo>
                    <a:pt x="719589" y="881052"/>
                  </a:lnTo>
                  <a:lnTo>
                    <a:pt x="717092" y="884228"/>
                  </a:lnTo>
                  <a:lnTo>
                    <a:pt x="714141" y="886950"/>
                  </a:lnTo>
                  <a:lnTo>
                    <a:pt x="711417" y="889673"/>
                  </a:lnTo>
                  <a:lnTo>
                    <a:pt x="708239" y="892395"/>
                  </a:lnTo>
                  <a:lnTo>
                    <a:pt x="705288" y="894891"/>
                  </a:lnTo>
                  <a:lnTo>
                    <a:pt x="702110" y="896933"/>
                  </a:lnTo>
                  <a:lnTo>
                    <a:pt x="698705" y="899428"/>
                  </a:lnTo>
                  <a:lnTo>
                    <a:pt x="695299" y="901243"/>
                  </a:lnTo>
                  <a:lnTo>
                    <a:pt x="691440" y="903058"/>
                  </a:lnTo>
                  <a:lnTo>
                    <a:pt x="688035" y="904646"/>
                  </a:lnTo>
                  <a:lnTo>
                    <a:pt x="684176" y="906234"/>
                  </a:lnTo>
                  <a:lnTo>
                    <a:pt x="680317" y="907595"/>
                  </a:lnTo>
                  <a:lnTo>
                    <a:pt x="676231" y="908730"/>
                  </a:lnTo>
                  <a:lnTo>
                    <a:pt x="672372" y="909637"/>
                  </a:lnTo>
                  <a:lnTo>
                    <a:pt x="668286" y="910318"/>
                  </a:lnTo>
                  <a:lnTo>
                    <a:pt x="664199" y="910771"/>
                  </a:lnTo>
                  <a:lnTo>
                    <a:pt x="659886" y="911225"/>
                  </a:lnTo>
                  <a:lnTo>
                    <a:pt x="655573" y="911225"/>
                  </a:lnTo>
                  <a:lnTo>
                    <a:pt x="651260" y="911225"/>
                  </a:lnTo>
                  <a:lnTo>
                    <a:pt x="646947" y="910771"/>
                  </a:lnTo>
                  <a:lnTo>
                    <a:pt x="643088" y="910318"/>
                  </a:lnTo>
                  <a:lnTo>
                    <a:pt x="638775" y="909637"/>
                  </a:lnTo>
                  <a:lnTo>
                    <a:pt x="634915" y="908730"/>
                  </a:lnTo>
                  <a:lnTo>
                    <a:pt x="630829" y="907595"/>
                  </a:lnTo>
                  <a:lnTo>
                    <a:pt x="627197" y="906234"/>
                  </a:lnTo>
                  <a:lnTo>
                    <a:pt x="623338" y="904646"/>
                  </a:lnTo>
                  <a:lnTo>
                    <a:pt x="619706" y="903058"/>
                  </a:lnTo>
                  <a:lnTo>
                    <a:pt x="616074" y="901243"/>
                  </a:lnTo>
                  <a:lnTo>
                    <a:pt x="612669" y="899428"/>
                  </a:lnTo>
                  <a:lnTo>
                    <a:pt x="609037" y="896933"/>
                  </a:lnTo>
                  <a:lnTo>
                    <a:pt x="605858" y="894891"/>
                  </a:lnTo>
                  <a:lnTo>
                    <a:pt x="602680" y="892395"/>
                  </a:lnTo>
                  <a:lnTo>
                    <a:pt x="599729" y="889673"/>
                  </a:lnTo>
                  <a:lnTo>
                    <a:pt x="596778" y="886950"/>
                  </a:lnTo>
                  <a:lnTo>
                    <a:pt x="594054" y="884228"/>
                  </a:lnTo>
                  <a:lnTo>
                    <a:pt x="591557" y="881052"/>
                  </a:lnTo>
                  <a:lnTo>
                    <a:pt x="588833" y="877876"/>
                  </a:lnTo>
                  <a:lnTo>
                    <a:pt x="586790" y="874699"/>
                  </a:lnTo>
                  <a:lnTo>
                    <a:pt x="584520" y="871296"/>
                  </a:lnTo>
                  <a:lnTo>
                    <a:pt x="582704" y="867666"/>
                  </a:lnTo>
                  <a:lnTo>
                    <a:pt x="580661" y="864263"/>
                  </a:lnTo>
                  <a:lnTo>
                    <a:pt x="579072" y="860407"/>
                  </a:lnTo>
                  <a:lnTo>
                    <a:pt x="577710" y="856777"/>
                  </a:lnTo>
                  <a:lnTo>
                    <a:pt x="576348" y="852920"/>
                  </a:lnTo>
                  <a:lnTo>
                    <a:pt x="575212" y="849063"/>
                  </a:lnTo>
                  <a:lnTo>
                    <a:pt x="574077" y="844980"/>
                  </a:lnTo>
                  <a:lnTo>
                    <a:pt x="573396" y="840896"/>
                  </a:lnTo>
                  <a:lnTo>
                    <a:pt x="572942" y="836812"/>
                  </a:lnTo>
                  <a:lnTo>
                    <a:pt x="572488" y="832729"/>
                  </a:lnTo>
                  <a:lnTo>
                    <a:pt x="572488" y="828191"/>
                  </a:lnTo>
                  <a:lnTo>
                    <a:pt x="572488" y="825242"/>
                  </a:lnTo>
                  <a:lnTo>
                    <a:pt x="572715" y="822066"/>
                  </a:lnTo>
                  <a:lnTo>
                    <a:pt x="573623" y="815940"/>
                  </a:lnTo>
                  <a:lnTo>
                    <a:pt x="574986" y="810042"/>
                  </a:lnTo>
                  <a:lnTo>
                    <a:pt x="576575" y="804370"/>
                  </a:lnTo>
                  <a:lnTo>
                    <a:pt x="454445" y="733134"/>
                  </a:lnTo>
                  <a:lnTo>
                    <a:pt x="449904" y="736083"/>
                  </a:lnTo>
                  <a:lnTo>
                    <a:pt x="444910" y="738352"/>
                  </a:lnTo>
                  <a:lnTo>
                    <a:pt x="439689" y="740166"/>
                  </a:lnTo>
                  <a:lnTo>
                    <a:pt x="434468" y="741981"/>
                  </a:lnTo>
                  <a:lnTo>
                    <a:pt x="429020" y="743569"/>
                  </a:lnTo>
                  <a:lnTo>
                    <a:pt x="423571" y="744477"/>
                  </a:lnTo>
                  <a:lnTo>
                    <a:pt x="417669" y="745158"/>
                  </a:lnTo>
                  <a:lnTo>
                    <a:pt x="412221" y="745384"/>
                  </a:lnTo>
                  <a:lnTo>
                    <a:pt x="408589" y="745158"/>
                  </a:lnTo>
                  <a:lnTo>
                    <a:pt x="405411" y="744931"/>
                  </a:lnTo>
                  <a:lnTo>
                    <a:pt x="398828" y="744023"/>
                  </a:lnTo>
                  <a:lnTo>
                    <a:pt x="305755" y="898294"/>
                  </a:lnTo>
                  <a:lnTo>
                    <a:pt x="257175" y="869255"/>
                  </a:lnTo>
                  <a:lnTo>
                    <a:pt x="349113" y="716118"/>
                  </a:lnTo>
                  <a:lnTo>
                    <a:pt x="347070" y="713396"/>
                  </a:lnTo>
                  <a:lnTo>
                    <a:pt x="344573" y="710220"/>
                  </a:lnTo>
                  <a:lnTo>
                    <a:pt x="342757" y="707497"/>
                  </a:lnTo>
                  <a:lnTo>
                    <a:pt x="340714" y="704321"/>
                  </a:lnTo>
                  <a:lnTo>
                    <a:pt x="339125" y="701145"/>
                  </a:lnTo>
                  <a:lnTo>
                    <a:pt x="337536" y="697969"/>
                  </a:lnTo>
                  <a:lnTo>
                    <a:pt x="335720" y="694793"/>
                  </a:lnTo>
                  <a:lnTo>
                    <a:pt x="334358" y="691390"/>
                  </a:lnTo>
                  <a:lnTo>
                    <a:pt x="333223" y="687987"/>
                  </a:lnTo>
                  <a:lnTo>
                    <a:pt x="332087" y="684584"/>
                  </a:lnTo>
                  <a:lnTo>
                    <a:pt x="331179" y="680954"/>
                  </a:lnTo>
                  <a:lnTo>
                    <a:pt x="330498" y="677324"/>
                  </a:lnTo>
                  <a:lnTo>
                    <a:pt x="329590" y="673467"/>
                  </a:lnTo>
                  <a:lnTo>
                    <a:pt x="329136" y="670064"/>
                  </a:lnTo>
                  <a:lnTo>
                    <a:pt x="328909" y="665981"/>
                  </a:lnTo>
                  <a:lnTo>
                    <a:pt x="328909" y="662351"/>
                  </a:lnTo>
                  <a:lnTo>
                    <a:pt x="328909" y="658040"/>
                  </a:lnTo>
                  <a:lnTo>
                    <a:pt x="329363" y="653730"/>
                  </a:lnTo>
                  <a:lnTo>
                    <a:pt x="330044" y="649646"/>
                  </a:lnTo>
                  <a:lnTo>
                    <a:pt x="330725" y="645335"/>
                  </a:lnTo>
                  <a:lnTo>
                    <a:pt x="331633" y="641479"/>
                  </a:lnTo>
                  <a:lnTo>
                    <a:pt x="332768" y="637395"/>
                  </a:lnTo>
                  <a:lnTo>
                    <a:pt x="333904" y="633765"/>
                  </a:lnTo>
                  <a:lnTo>
                    <a:pt x="335493" y="629908"/>
                  </a:lnTo>
                  <a:lnTo>
                    <a:pt x="337082" y="626279"/>
                  </a:lnTo>
                  <a:lnTo>
                    <a:pt x="339125" y="622649"/>
                  </a:lnTo>
                  <a:lnTo>
                    <a:pt x="340941" y="619246"/>
                  </a:lnTo>
                  <a:lnTo>
                    <a:pt x="342984" y="615843"/>
                  </a:lnTo>
                  <a:lnTo>
                    <a:pt x="345481" y="612666"/>
                  </a:lnTo>
                  <a:lnTo>
                    <a:pt x="347978" y="609263"/>
                  </a:lnTo>
                  <a:lnTo>
                    <a:pt x="350475" y="606314"/>
                  </a:lnTo>
                  <a:lnTo>
                    <a:pt x="353426" y="603592"/>
                  </a:lnTo>
                  <a:lnTo>
                    <a:pt x="356150" y="600642"/>
                  </a:lnTo>
                  <a:lnTo>
                    <a:pt x="359101" y="598147"/>
                  </a:lnTo>
                  <a:lnTo>
                    <a:pt x="362279" y="595878"/>
                  </a:lnTo>
                  <a:lnTo>
                    <a:pt x="365458" y="593383"/>
                  </a:lnTo>
                  <a:lnTo>
                    <a:pt x="369090" y="591341"/>
                  </a:lnTo>
                  <a:lnTo>
                    <a:pt x="372495" y="589299"/>
                  </a:lnTo>
                  <a:lnTo>
                    <a:pt x="376127" y="587484"/>
                  </a:lnTo>
                  <a:lnTo>
                    <a:pt x="379759" y="585669"/>
                  </a:lnTo>
                  <a:lnTo>
                    <a:pt x="383618" y="584308"/>
                  </a:lnTo>
                  <a:lnTo>
                    <a:pt x="387250" y="582947"/>
                  </a:lnTo>
                  <a:lnTo>
                    <a:pt x="391336" y="581812"/>
                  </a:lnTo>
                  <a:lnTo>
                    <a:pt x="395196" y="580905"/>
                  </a:lnTo>
                  <a:lnTo>
                    <a:pt x="399509" y="580224"/>
                  </a:lnTo>
                  <a:lnTo>
                    <a:pt x="403368" y="579544"/>
                  </a:lnTo>
                  <a:lnTo>
                    <a:pt x="407681" y="579317"/>
                  </a:lnTo>
                  <a:lnTo>
                    <a:pt x="412221" y="579090"/>
                  </a:lnTo>
                  <a:lnTo>
                    <a:pt x="416307" y="579317"/>
                  </a:lnTo>
                  <a:lnTo>
                    <a:pt x="420620" y="579544"/>
                  </a:lnTo>
                  <a:lnTo>
                    <a:pt x="424707" y="580224"/>
                  </a:lnTo>
                  <a:lnTo>
                    <a:pt x="428793" y="580905"/>
                  </a:lnTo>
                  <a:lnTo>
                    <a:pt x="432652" y="581812"/>
                  </a:lnTo>
                  <a:lnTo>
                    <a:pt x="436738" y="582947"/>
                  </a:lnTo>
                  <a:lnTo>
                    <a:pt x="440597" y="584308"/>
                  </a:lnTo>
                  <a:lnTo>
                    <a:pt x="444456" y="585669"/>
                  </a:lnTo>
                  <a:lnTo>
                    <a:pt x="447861" y="587484"/>
                  </a:lnTo>
                  <a:lnTo>
                    <a:pt x="451720" y="589299"/>
                  </a:lnTo>
                  <a:lnTo>
                    <a:pt x="454899" y="591341"/>
                  </a:lnTo>
                  <a:lnTo>
                    <a:pt x="458531" y="593383"/>
                  </a:lnTo>
                  <a:lnTo>
                    <a:pt x="461709" y="595878"/>
                  </a:lnTo>
                  <a:lnTo>
                    <a:pt x="464887" y="598147"/>
                  </a:lnTo>
                  <a:lnTo>
                    <a:pt x="467838" y="600642"/>
                  </a:lnTo>
                  <a:lnTo>
                    <a:pt x="470562" y="603592"/>
                  </a:lnTo>
                  <a:lnTo>
                    <a:pt x="473513" y="606314"/>
                  </a:lnTo>
                  <a:lnTo>
                    <a:pt x="476010" y="609263"/>
                  </a:lnTo>
                  <a:lnTo>
                    <a:pt x="478734" y="612666"/>
                  </a:lnTo>
                  <a:lnTo>
                    <a:pt x="481004" y="615843"/>
                  </a:lnTo>
                  <a:lnTo>
                    <a:pt x="483047" y="619246"/>
                  </a:lnTo>
                  <a:lnTo>
                    <a:pt x="484864" y="622649"/>
                  </a:lnTo>
                  <a:lnTo>
                    <a:pt x="486907" y="626279"/>
                  </a:lnTo>
                  <a:lnTo>
                    <a:pt x="488496" y="629908"/>
                  </a:lnTo>
                  <a:lnTo>
                    <a:pt x="490085" y="633765"/>
                  </a:lnTo>
                  <a:lnTo>
                    <a:pt x="491220" y="637395"/>
                  </a:lnTo>
                  <a:lnTo>
                    <a:pt x="492355" y="641479"/>
                  </a:lnTo>
                  <a:lnTo>
                    <a:pt x="493490" y="645335"/>
                  </a:lnTo>
                  <a:lnTo>
                    <a:pt x="494171" y="649646"/>
                  </a:lnTo>
                  <a:lnTo>
                    <a:pt x="494625" y="653730"/>
                  </a:lnTo>
                  <a:lnTo>
                    <a:pt x="495079" y="658040"/>
                  </a:lnTo>
                  <a:lnTo>
                    <a:pt x="495079" y="662351"/>
                  </a:lnTo>
                  <a:lnTo>
                    <a:pt x="495079" y="665527"/>
                  </a:lnTo>
                  <a:lnTo>
                    <a:pt x="494852" y="669157"/>
                  </a:lnTo>
                  <a:lnTo>
                    <a:pt x="494398" y="672333"/>
                  </a:lnTo>
                  <a:lnTo>
                    <a:pt x="493944" y="675509"/>
                  </a:lnTo>
                  <a:lnTo>
                    <a:pt x="492355" y="682088"/>
                  </a:lnTo>
                  <a:lnTo>
                    <a:pt x="490539" y="688214"/>
                  </a:lnTo>
                  <a:lnTo>
                    <a:pt x="610853" y="758543"/>
                  </a:lnTo>
                  <a:lnTo>
                    <a:pt x="616528" y="755140"/>
                  </a:lnTo>
                  <a:lnTo>
                    <a:pt x="622430" y="752417"/>
                  </a:lnTo>
                  <a:lnTo>
                    <a:pt x="628559" y="749922"/>
                  </a:lnTo>
                  <a:lnTo>
                    <a:pt x="634915" y="748107"/>
                  </a:lnTo>
                  <a:lnTo>
                    <a:pt x="690305" y="547101"/>
                  </a:lnTo>
                  <a:lnTo>
                    <a:pt x="686673" y="544152"/>
                  </a:lnTo>
                  <a:lnTo>
                    <a:pt x="682814" y="540976"/>
                  </a:lnTo>
                  <a:lnTo>
                    <a:pt x="679409" y="537800"/>
                  </a:lnTo>
                  <a:lnTo>
                    <a:pt x="676004" y="533943"/>
                  </a:lnTo>
                  <a:lnTo>
                    <a:pt x="673053" y="530540"/>
                  </a:lnTo>
                  <a:lnTo>
                    <a:pt x="670102" y="526456"/>
                  </a:lnTo>
                  <a:lnTo>
                    <a:pt x="667605" y="522373"/>
                  </a:lnTo>
                  <a:lnTo>
                    <a:pt x="665107" y="518062"/>
                  </a:lnTo>
                  <a:lnTo>
                    <a:pt x="662837" y="513979"/>
                  </a:lnTo>
                  <a:lnTo>
                    <a:pt x="661021" y="509214"/>
                  </a:lnTo>
                  <a:lnTo>
                    <a:pt x="659432" y="504450"/>
                  </a:lnTo>
                  <a:lnTo>
                    <a:pt x="658070" y="499913"/>
                  </a:lnTo>
                  <a:lnTo>
                    <a:pt x="657162" y="494922"/>
                  </a:lnTo>
                  <a:lnTo>
                    <a:pt x="656027" y="489931"/>
                  </a:lnTo>
                  <a:lnTo>
                    <a:pt x="655573" y="484940"/>
                  </a:lnTo>
                  <a:lnTo>
                    <a:pt x="655573" y="479722"/>
                  </a:lnTo>
                  <a:lnTo>
                    <a:pt x="655573" y="475411"/>
                  </a:lnTo>
                  <a:lnTo>
                    <a:pt x="655800" y="471327"/>
                  </a:lnTo>
                  <a:lnTo>
                    <a:pt x="656708" y="467017"/>
                  </a:lnTo>
                  <a:lnTo>
                    <a:pt x="657389" y="463160"/>
                  </a:lnTo>
                  <a:lnTo>
                    <a:pt x="658297" y="458850"/>
                  </a:lnTo>
                  <a:lnTo>
                    <a:pt x="659432" y="455220"/>
                  </a:lnTo>
                  <a:lnTo>
                    <a:pt x="660567" y="451136"/>
                  </a:lnTo>
                  <a:lnTo>
                    <a:pt x="661929" y="447506"/>
                  </a:lnTo>
                  <a:lnTo>
                    <a:pt x="663745" y="443649"/>
                  </a:lnTo>
                  <a:lnTo>
                    <a:pt x="665561" y="440246"/>
                  </a:lnTo>
                  <a:lnTo>
                    <a:pt x="667605" y="436617"/>
                  </a:lnTo>
                  <a:lnTo>
                    <a:pt x="669648" y="433440"/>
                  </a:lnTo>
                  <a:lnTo>
                    <a:pt x="672145" y="430037"/>
                  </a:lnTo>
                  <a:lnTo>
                    <a:pt x="674642" y="426861"/>
                  </a:lnTo>
                  <a:lnTo>
                    <a:pt x="677139" y="423912"/>
                  </a:lnTo>
                  <a:lnTo>
                    <a:pt x="679863" y="420963"/>
                  </a:lnTo>
                  <a:lnTo>
                    <a:pt x="682814" y="418240"/>
                  </a:lnTo>
                  <a:lnTo>
                    <a:pt x="685765" y="415518"/>
                  </a:lnTo>
                  <a:lnTo>
                    <a:pt x="688943" y="413249"/>
                  </a:lnTo>
                  <a:lnTo>
                    <a:pt x="692121" y="410980"/>
                  </a:lnTo>
                  <a:lnTo>
                    <a:pt x="695526" y="408712"/>
                  </a:lnTo>
                  <a:lnTo>
                    <a:pt x="698932" y="406670"/>
                  </a:lnTo>
                  <a:lnTo>
                    <a:pt x="702791" y="404855"/>
                  </a:lnTo>
                  <a:lnTo>
                    <a:pt x="706196" y="403267"/>
                  </a:lnTo>
                  <a:lnTo>
                    <a:pt x="710055" y="401679"/>
                  </a:lnTo>
                  <a:lnTo>
                    <a:pt x="713914" y="400318"/>
                  </a:lnTo>
                  <a:lnTo>
                    <a:pt x="718000" y="399410"/>
                  </a:lnTo>
                  <a:lnTo>
                    <a:pt x="721859" y="398503"/>
                  </a:lnTo>
                  <a:lnTo>
                    <a:pt x="725945" y="397595"/>
                  </a:lnTo>
                  <a:lnTo>
                    <a:pt x="730032" y="397141"/>
                  </a:lnTo>
                  <a:lnTo>
                    <a:pt x="734345" y="396915"/>
                  </a:lnTo>
                  <a:lnTo>
                    <a:pt x="738658" y="396688"/>
                  </a:lnTo>
                  <a:lnTo>
                    <a:pt x="744106" y="396915"/>
                  </a:lnTo>
                  <a:lnTo>
                    <a:pt x="749554" y="397595"/>
                  </a:lnTo>
                  <a:lnTo>
                    <a:pt x="754775" y="398276"/>
                  </a:lnTo>
                  <a:lnTo>
                    <a:pt x="759770" y="399637"/>
                  </a:lnTo>
                  <a:lnTo>
                    <a:pt x="764764" y="400998"/>
                  </a:lnTo>
                  <a:lnTo>
                    <a:pt x="769758" y="403040"/>
                  </a:lnTo>
                  <a:lnTo>
                    <a:pt x="774298" y="405082"/>
                  </a:lnTo>
                  <a:lnTo>
                    <a:pt x="778838" y="407577"/>
                  </a:lnTo>
                  <a:lnTo>
                    <a:pt x="916859" y="288925"/>
                  </a:lnTo>
                  <a:close/>
                  <a:moveTo>
                    <a:pt x="607752" y="120128"/>
                  </a:moveTo>
                  <a:lnTo>
                    <a:pt x="595738" y="120581"/>
                  </a:lnTo>
                  <a:lnTo>
                    <a:pt x="583950" y="121488"/>
                  </a:lnTo>
                  <a:lnTo>
                    <a:pt x="571936" y="122621"/>
                  </a:lnTo>
                  <a:lnTo>
                    <a:pt x="559921" y="123755"/>
                  </a:lnTo>
                  <a:lnTo>
                    <a:pt x="548133" y="125341"/>
                  </a:lnTo>
                  <a:lnTo>
                    <a:pt x="536119" y="127154"/>
                  </a:lnTo>
                  <a:lnTo>
                    <a:pt x="524331" y="129421"/>
                  </a:lnTo>
                  <a:lnTo>
                    <a:pt x="512543" y="131688"/>
                  </a:lnTo>
                  <a:lnTo>
                    <a:pt x="500755" y="134407"/>
                  </a:lnTo>
                  <a:lnTo>
                    <a:pt x="489194" y="137581"/>
                  </a:lnTo>
                  <a:lnTo>
                    <a:pt x="477406" y="140754"/>
                  </a:lnTo>
                  <a:lnTo>
                    <a:pt x="466072" y="144380"/>
                  </a:lnTo>
                  <a:lnTo>
                    <a:pt x="454511" y="148234"/>
                  </a:lnTo>
                  <a:lnTo>
                    <a:pt x="443176" y="152313"/>
                  </a:lnTo>
                  <a:lnTo>
                    <a:pt x="431615" y="156620"/>
                  </a:lnTo>
                  <a:lnTo>
                    <a:pt x="420508" y="161380"/>
                  </a:lnTo>
                  <a:lnTo>
                    <a:pt x="409400" y="166593"/>
                  </a:lnTo>
                  <a:lnTo>
                    <a:pt x="398519" y="171579"/>
                  </a:lnTo>
                  <a:lnTo>
                    <a:pt x="387411" y="177246"/>
                  </a:lnTo>
                  <a:lnTo>
                    <a:pt x="376530" y="183139"/>
                  </a:lnTo>
                  <a:lnTo>
                    <a:pt x="365876" y="189485"/>
                  </a:lnTo>
                  <a:lnTo>
                    <a:pt x="355221" y="195831"/>
                  </a:lnTo>
                  <a:lnTo>
                    <a:pt x="344794" y="202631"/>
                  </a:lnTo>
                  <a:lnTo>
                    <a:pt x="334593" y="209431"/>
                  </a:lnTo>
                  <a:lnTo>
                    <a:pt x="324392" y="216684"/>
                  </a:lnTo>
                  <a:lnTo>
                    <a:pt x="314191" y="224163"/>
                  </a:lnTo>
                  <a:lnTo>
                    <a:pt x="304443" y="232323"/>
                  </a:lnTo>
                  <a:lnTo>
                    <a:pt x="294695" y="240483"/>
                  </a:lnTo>
                  <a:lnTo>
                    <a:pt x="284948" y="248869"/>
                  </a:lnTo>
                  <a:lnTo>
                    <a:pt x="275654" y="257482"/>
                  </a:lnTo>
                  <a:lnTo>
                    <a:pt x="266359" y="266548"/>
                  </a:lnTo>
                  <a:lnTo>
                    <a:pt x="257518" y="275614"/>
                  </a:lnTo>
                  <a:lnTo>
                    <a:pt x="248678" y="285134"/>
                  </a:lnTo>
                  <a:lnTo>
                    <a:pt x="240290" y="294654"/>
                  </a:lnTo>
                  <a:lnTo>
                    <a:pt x="232129" y="304400"/>
                  </a:lnTo>
                  <a:lnTo>
                    <a:pt x="224195" y="314373"/>
                  </a:lnTo>
                  <a:lnTo>
                    <a:pt x="216714" y="324346"/>
                  </a:lnTo>
                  <a:lnTo>
                    <a:pt x="209460" y="334545"/>
                  </a:lnTo>
                  <a:lnTo>
                    <a:pt x="202433" y="344971"/>
                  </a:lnTo>
                  <a:lnTo>
                    <a:pt x="195632" y="355397"/>
                  </a:lnTo>
                  <a:lnTo>
                    <a:pt x="189058" y="366050"/>
                  </a:lnTo>
                  <a:lnTo>
                    <a:pt x="183164" y="376703"/>
                  </a:lnTo>
                  <a:lnTo>
                    <a:pt x="177271" y="387583"/>
                  </a:lnTo>
                  <a:lnTo>
                    <a:pt x="171603" y="398462"/>
                  </a:lnTo>
                  <a:lnTo>
                    <a:pt x="166390" y="409342"/>
                  </a:lnTo>
                  <a:lnTo>
                    <a:pt x="161402" y="420448"/>
                  </a:lnTo>
                  <a:lnTo>
                    <a:pt x="156642" y="431554"/>
                  </a:lnTo>
                  <a:lnTo>
                    <a:pt x="152108" y="443114"/>
                  </a:lnTo>
                  <a:lnTo>
                    <a:pt x="148028" y="454673"/>
                  </a:lnTo>
                  <a:lnTo>
                    <a:pt x="144174" y="466006"/>
                  </a:lnTo>
                  <a:lnTo>
                    <a:pt x="140774" y="477565"/>
                  </a:lnTo>
                  <a:lnTo>
                    <a:pt x="137373" y="489125"/>
                  </a:lnTo>
                  <a:lnTo>
                    <a:pt x="134426" y="500911"/>
                  </a:lnTo>
                  <a:lnTo>
                    <a:pt x="131706" y="512470"/>
                  </a:lnTo>
                  <a:lnTo>
                    <a:pt x="129213" y="524256"/>
                  </a:lnTo>
                  <a:lnTo>
                    <a:pt x="127172" y="536269"/>
                  </a:lnTo>
                  <a:lnTo>
                    <a:pt x="125359" y="548055"/>
                  </a:lnTo>
                  <a:lnTo>
                    <a:pt x="123772" y="560068"/>
                  </a:lnTo>
                  <a:lnTo>
                    <a:pt x="122185" y="571854"/>
                  </a:lnTo>
                  <a:lnTo>
                    <a:pt x="121278" y="583867"/>
                  </a:lnTo>
                  <a:lnTo>
                    <a:pt x="120598" y="595880"/>
                  </a:lnTo>
                  <a:lnTo>
                    <a:pt x="120145" y="607666"/>
                  </a:lnTo>
                  <a:lnTo>
                    <a:pt x="120145" y="619905"/>
                  </a:lnTo>
                  <a:lnTo>
                    <a:pt x="120145" y="631918"/>
                  </a:lnTo>
                  <a:lnTo>
                    <a:pt x="120598" y="643704"/>
                  </a:lnTo>
                  <a:lnTo>
                    <a:pt x="121278" y="655717"/>
                  </a:lnTo>
                  <a:lnTo>
                    <a:pt x="122185" y="667503"/>
                  </a:lnTo>
                  <a:lnTo>
                    <a:pt x="123772" y="679516"/>
                  </a:lnTo>
                  <a:lnTo>
                    <a:pt x="125359" y="691529"/>
                  </a:lnTo>
                  <a:lnTo>
                    <a:pt x="127172" y="703315"/>
                  </a:lnTo>
                  <a:lnTo>
                    <a:pt x="129213" y="715328"/>
                  </a:lnTo>
                  <a:lnTo>
                    <a:pt x="131706" y="726887"/>
                  </a:lnTo>
                  <a:lnTo>
                    <a:pt x="134426" y="738673"/>
                  </a:lnTo>
                  <a:lnTo>
                    <a:pt x="137373" y="750460"/>
                  </a:lnTo>
                  <a:lnTo>
                    <a:pt x="140774" y="762019"/>
                  </a:lnTo>
                  <a:lnTo>
                    <a:pt x="144174" y="773579"/>
                  </a:lnTo>
                  <a:lnTo>
                    <a:pt x="148028" y="784911"/>
                  </a:lnTo>
                  <a:lnTo>
                    <a:pt x="152108" y="796471"/>
                  </a:lnTo>
                  <a:lnTo>
                    <a:pt x="156642" y="807804"/>
                  </a:lnTo>
                  <a:lnTo>
                    <a:pt x="161402" y="819136"/>
                  </a:lnTo>
                  <a:lnTo>
                    <a:pt x="166390" y="830016"/>
                  </a:lnTo>
                  <a:lnTo>
                    <a:pt x="171603" y="841122"/>
                  </a:lnTo>
                  <a:lnTo>
                    <a:pt x="177271" y="852002"/>
                  </a:lnTo>
                  <a:lnTo>
                    <a:pt x="183164" y="862881"/>
                  </a:lnTo>
                  <a:lnTo>
                    <a:pt x="189058" y="873534"/>
                  </a:lnTo>
                  <a:lnTo>
                    <a:pt x="195632" y="884187"/>
                  </a:lnTo>
                  <a:lnTo>
                    <a:pt x="202433" y="894613"/>
                  </a:lnTo>
                  <a:lnTo>
                    <a:pt x="209460" y="904813"/>
                  </a:lnTo>
                  <a:lnTo>
                    <a:pt x="216714" y="915239"/>
                  </a:lnTo>
                  <a:lnTo>
                    <a:pt x="224195" y="925212"/>
                  </a:lnTo>
                  <a:lnTo>
                    <a:pt x="232129" y="934958"/>
                  </a:lnTo>
                  <a:lnTo>
                    <a:pt x="240290" y="944931"/>
                  </a:lnTo>
                  <a:lnTo>
                    <a:pt x="248678" y="954450"/>
                  </a:lnTo>
                  <a:lnTo>
                    <a:pt x="257518" y="963743"/>
                  </a:lnTo>
                  <a:lnTo>
                    <a:pt x="266359" y="973036"/>
                  </a:lnTo>
                  <a:lnTo>
                    <a:pt x="275654" y="982102"/>
                  </a:lnTo>
                  <a:lnTo>
                    <a:pt x="284948" y="990715"/>
                  </a:lnTo>
                  <a:lnTo>
                    <a:pt x="294695" y="999102"/>
                  </a:lnTo>
                  <a:lnTo>
                    <a:pt x="304443" y="1007261"/>
                  </a:lnTo>
                  <a:lnTo>
                    <a:pt x="314191" y="1015194"/>
                  </a:lnTo>
                  <a:lnTo>
                    <a:pt x="324392" y="1022674"/>
                  </a:lnTo>
                  <a:lnTo>
                    <a:pt x="334593" y="1029927"/>
                  </a:lnTo>
                  <a:lnTo>
                    <a:pt x="344794" y="1036953"/>
                  </a:lnTo>
                  <a:lnTo>
                    <a:pt x="355221" y="1043753"/>
                  </a:lnTo>
                  <a:lnTo>
                    <a:pt x="365876" y="1050099"/>
                  </a:lnTo>
                  <a:lnTo>
                    <a:pt x="376530" y="1056446"/>
                  </a:lnTo>
                  <a:lnTo>
                    <a:pt x="387411" y="1062339"/>
                  </a:lnTo>
                  <a:lnTo>
                    <a:pt x="398292" y="1067779"/>
                  </a:lnTo>
                  <a:lnTo>
                    <a:pt x="409400" y="1072992"/>
                  </a:lnTo>
                  <a:lnTo>
                    <a:pt x="420508" y="1078205"/>
                  </a:lnTo>
                  <a:lnTo>
                    <a:pt x="431615" y="1082738"/>
                  </a:lnTo>
                  <a:lnTo>
                    <a:pt x="443176" y="1087271"/>
                  </a:lnTo>
                  <a:lnTo>
                    <a:pt x="454511" y="1091351"/>
                  </a:lnTo>
                  <a:lnTo>
                    <a:pt x="466072" y="1095204"/>
                  </a:lnTo>
                  <a:lnTo>
                    <a:pt x="477406" y="1098830"/>
                  </a:lnTo>
                  <a:lnTo>
                    <a:pt x="489194" y="1102004"/>
                  </a:lnTo>
                  <a:lnTo>
                    <a:pt x="500755" y="1104950"/>
                  </a:lnTo>
                  <a:lnTo>
                    <a:pt x="512543" y="1107897"/>
                  </a:lnTo>
                  <a:lnTo>
                    <a:pt x="524331" y="1110163"/>
                  </a:lnTo>
                  <a:lnTo>
                    <a:pt x="536119" y="1112203"/>
                  </a:lnTo>
                  <a:lnTo>
                    <a:pt x="548133" y="1114243"/>
                  </a:lnTo>
                  <a:lnTo>
                    <a:pt x="559921" y="1115830"/>
                  </a:lnTo>
                  <a:lnTo>
                    <a:pt x="571936" y="1116963"/>
                  </a:lnTo>
                  <a:lnTo>
                    <a:pt x="583950" y="1118096"/>
                  </a:lnTo>
                  <a:lnTo>
                    <a:pt x="595738" y="1118776"/>
                  </a:lnTo>
                  <a:lnTo>
                    <a:pt x="607752" y="1119230"/>
                  </a:lnTo>
                  <a:lnTo>
                    <a:pt x="619540" y="1119230"/>
                  </a:lnTo>
                  <a:lnTo>
                    <a:pt x="631782" y="1119230"/>
                  </a:lnTo>
                  <a:lnTo>
                    <a:pt x="643796" y="1118776"/>
                  </a:lnTo>
                  <a:lnTo>
                    <a:pt x="655584" y="1118096"/>
                  </a:lnTo>
                  <a:lnTo>
                    <a:pt x="667598" y="1116963"/>
                  </a:lnTo>
                  <a:lnTo>
                    <a:pt x="679613" y="1115830"/>
                  </a:lnTo>
                  <a:lnTo>
                    <a:pt x="691401" y="1114243"/>
                  </a:lnTo>
                  <a:lnTo>
                    <a:pt x="703415" y="1112203"/>
                  </a:lnTo>
                  <a:lnTo>
                    <a:pt x="715203" y="1110163"/>
                  </a:lnTo>
                  <a:lnTo>
                    <a:pt x="726991" y="1107897"/>
                  </a:lnTo>
                  <a:lnTo>
                    <a:pt x="738779" y="1104950"/>
                  </a:lnTo>
                  <a:lnTo>
                    <a:pt x="750340" y="1102004"/>
                  </a:lnTo>
                  <a:lnTo>
                    <a:pt x="762128" y="1098830"/>
                  </a:lnTo>
                  <a:lnTo>
                    <a:pt x="773462" y="1095204"/>
                  </a:lnTo>
                  <a:lnTo>
                    <a:pt x="785023" y="1091351"/>
                  </a:lnTo>
                  <a:lnTo>
                    <a:pt x="796358" y="1087271"/>
                  </a:lnTo>
                  <a:lnTo>
                    <a:pt x="807692" y="1082738"/>
                  </a:lnTo>
                  <a:lnTo>
                    <a:pt x="819026" y="1078205"/>
                  </a:lnTo>
                  <a:lnTo>
                    <a:pt x="830134" y="1072992"/>
                  </a:lnTo>
                  <a:lnTo>
                    <a:pt x="841015" y="1067779"/>
                  </a:lnTo>
                  <a:lnTo>
                    <a:pt x="852123" y="1062339"/>
                  </a:lnTo>
                  <a:lnTo>
                    <a:pt x="862777" y="1056446"/>
                  </a:lnTo>
                  <a:lnTo>
                    <a:pt x="873658" y="1050099"/>
                  </a:lnTo>
                  <a:lnTo>
                    <a:pt x="884086" y="1043753"/>
                  </a:lnTo>
                  <a:lnTo>
                    <a:pt x="894740" y="1036953"/>
                  </a:lnTo>
                  <a:lnTo>
                    <a:pt x="904941" y="1029927"/>
                  </a:lnTo>
                  <a:lnTo>
                    <a:pt x="915142" y="1022674"/>
                  </a:lnTo>
                  <a:lnTo>
                    <a:pt x="925343" y="1015194"/>
                  </a:lnTo>
                  <a:lnTo>
                    <a:pt x="935091" y="1007261"/>
                  </a:lnTo>
                  <a:lnTo>
                    <a:pt x="944839" y="999102"/>
                  </a:lnTo>
                  <a:lnTo>
                    <a:pt x="954586" y="990715"/>
                  </a:lnTo>
                  <a:lnTo>
                    <a:pt x="963880" y="982102"/>
                  </a:lnTo>
                  <a:lnTo>
                    <a:pt x="972948" y="973036"/>
                  </a:lnTo>
                  <a:lnTo>
                    <a:pt x="982016" y="963743"/>
                  </a:lnTo>
                  <a:lnTo>
                    <a:pt x="990856" y="954450"/>
                  </a:lnTo>
                  <a:lnTo>
                    <a:pt x="999244" y="944931"/>
                  </a:lnTo>
                  <a:lnTo>
                    <a:pt x="1007405" y="934958"/>
                  </a:lnTo>
                  <a:lnTo>
                    <a:pt x="1015339" y="925212"/>
                  </a:lnTo>
                  <a:lnTo>
                    <a:pt x="1022820" y="915239"/>
                  </a:lnTo>
                  <a:lnTo>
                    <a:pt x="1030074" y="904813"/>
                  </a:lnTo>
                  <a:lnTo>
                    <a:pt x="1037101" y="894613"/>
                  </a:lnTo>
                  <a:lnTo>
                    <a:pt x="1043902" y="884187"/>
                  </a:lnTo>
                  <a:lnTo>
                    <a:pt x="1050249" y="873534"/>
                  </a:lnTo>
                  <a:lnTo>
                    <a:pt x="1056370" y="862881"/>
                  </a:lnTo>
                  <a:lnTo>
                    <a:pt x="1062263" y="852002"/>
                  </a:lnTo>
                  <a:lnTo>
                    <a:pt x="1067931" y="841122"/>
                  </a:lnTo>
                  <a:lnTo>
                    <a:pt x="1073144" y="830016"/>
                  </a:lnTo>
                  <a:lnTo>
                    <a:pt x="1078132" y="819136"/>
                  </a:lnTo>
                  <a:lnTo>
                    <a:pt x="1082892" y="807804"/>
                  </a:lnTo>
                  <a:lnTo>
                    <a:pt x="1087426" y="796471"/>
                  </a:lnTo>
                  <a:lnTo>
                    <a:pt x="1091280" y="784911"/>
                  </a:lnTo>
                  <a:lnTo>
                    <a:pt x="1095360" y="773579"/>
                  </a:lnTo>
                  <a:lnTo>
                    <a:pt x="1098760" y="762019"/>
                  </a:lnTo>
                  <a:lnTo>
                    <a:pt x="1102161" y="750460"/>
                  </a:lnTo>
                  <a:lnTo>
                    <a:pt x="1105108" y="738673"/>
                  </a:lnTo>
                  <a:lnTo>
                    <a:pt x="1107828" y="726887"/>
                  </a:lnTo>
                  <a:lnTo>
                    <a:pt x="1110321" y="715328"/>
                  </a:lnTo>
                  <a:lnTo>
                    <a:pt x="1112362" y="703315"/>
                  </a:lnTo>
                  <a:lnTo>
                    <a:pt x="1114175" y="691529"/>
                  </a:lnTo>
                  <a:lnTo>
                    <a:pt x="1115762" y="679516"/>
                  </a:lnTo>
                  <a:lnTo>
                    <a:pt x="1117122" y="667503"/>
                  </a:lnTo>
                  <a:lnTo>
                    <a:pt x="1118256" y="655717"/>
                  </a:lnTo>
                  <a:lnTo>
                    <a:pt x="1118936" y="643704"/>
                  </a:lnTo>
                  <a:lnTo>
                    <a:pt x="1119389" y="631918"/>
                  </a:lnTo>
                  <a:lnTo>
                    <a:pt x="1119389" y="619905"/>
                  </a:lnTo>
                  <a:lnTo>
                    <a:pt x="1119389" y="607666"/>
                  </a:lnTo>
                  <a:lnTo>
                    <a:pt x="1118936" y="595880"/>
                  </a:lnTo>
                  <a:lnTo>
                    <a:pt x="1118256" y="583867"/>
                  </a:lnTo>
                  <a:lnTo>
                    <a:pt x="1117122" y="571854"/>
                  </a:lnTo>
                  <a:lnTo>
                    <a:pt x="1115762" y="560068"/>
                  </a:lnTo>
                  <a:lnTo>
                    <a:pt x="1114175" y="548055"/>
                  </a:lnTo>
                  <a:lnTo>
                    <a:pt x="1112362" y="536269"/>
                  </a:lnTo>
                  <a:lnTo>
                    <a:pt x="1110321" y="524256"/>
                  </a:lnTo>
                  <a:lnTo>
                    <a:pt x="1107828" y="512470"/>
                  </a:lnTo>
                  <a:lnTo>
                    <a:pt x="1105108" y="500911"/>
                  </a:lnTo>
                  <a:lnTo>
                    <a:pt x="1102161" y="489125"/>
                  </a:lnTo>
                  <a:lnTo>
                    <a:pt x="1098760" y="477565"/>
                  </a:lnTo>
                  <a:lnTo>
                    <a:pt x="1095360" y="466006"/>
                  </a:lnTo>
                  <a:lnTo>
                    <a:pt x="1091280" y="454673"/>
                  </a:lnTo>
                  <a:lnTo>
                    <a:pt x="1087426" y="443114"/>
                  </a:lnTo>
                  <a:lnTo>
                    <a:pt x="1082892" y="431554"/>
                  </a:lnTo>
                  <a:lnTo>
                    <a:pt x="1078132" y="420448"/>
                  </a:lnTo>
                  <a:lnTo>
                    <a:pt x="1073144" y="409342"/>
                  </a:lnTo>
                  <a:lnTo>
                    <a:pt x="1067931" y="398462"/>
                  </a:lnTo>
                  <a:lnTo>
                    <a:pt x="1062263" y="387583"/>
                  </a:lnTo>
                  <a:lnTo>
                    <a:pt x="1056370" y="376703"/>
                  </a:lnTo>
                  <a:lnTo>
                    <a:pt x="1050249" y="366050"/>
                  </a:lnTo>
                  <a:lnTo>
                    <a:pt x="1043902" y="355397"/>
                  </a:lnTo>
                  <a:lnTo>
                    <a:pt x="1037101" y="344971"/>
                  </a:lnTo>
                  <a:lnTo>
                    <a:pt x="1030074" y="334545"/>
                  </a:lnTo>
                  <a:lnTo>
                    <a:pt x="1022820" y="324346"/>
                  </a:lnTo>
                  <a:lnTo>
                    <a:pt x="1015339" y="314373"/>
                  </a:lnTo>
                  <a:lnTo>
                    <a:pt x="1007405" y="304400"/>
                  </a:lnTo>
                  <a:lnTo>
                    <a:pt x="999244" y="294654"/>
                  </a:lnTo>
                  <a:lnTo>
                    <a:pt x="990856" y="285134"/>
                  </a:lnTo>
                  <a:lnTo>
                    <a:pt x="982016" y="275614"/>
                  </a:lnTo>
                  <a:lnTo>
                    <a:pt x="972948" y="266548"/>
                  </a:lnTo>
                  <a:lnTo>
                    <a:pt x="963880" y="257482"/>
                  </a:lnTo>
                  <a:lnTo>
                    <a:pt x="954586" y="248869"/>
                  </a:lnTo>
                  <a:lnTo>
                    <a:pt x="944839" y="240483"/>
                  </a:lnTo>
                  <a:lnTo>
                    <a:pt x="935091" y="232323"/>
                  </a:lnTo>
                  <a:lnTo>
                    <a:pt x="925343" y="224163"/>
                  </a:lnTo>
                  <a:lnTo>
                    <a:pt x="915142" y="216684"/>
                  </a:lnTo>
                  <a:lnTo>
                    <a:pt x="904941" y="209431"/>
                  </a:lnTo>
                  <a:lnTo>
                    <a:pt x="894740" y="202631"/>
                  </a:lnTo>
                  <a:lnTo>
                    <a:pt x="884086" y="195831"/>
                  </a:lnTo>
                  <a:lnTo>
                    <a:pt x="873658" y="189485"/>
                  </a:lnTo>
                  <a:lnTo>
                    <a:pt x="862777" y="183139"/>
                  </a:lnTo>
                  <a:lnTo>
                    <a:pt x="852123" y="177246"/>
                  </a:lnTo>
                  <a:lnTo>
                    <a:pt x="841015" y="171579"/>
                  </a:lnTo>
                  <a:lnTo>
                    <a:pt x="830134" y="166593"/>
                  </a:lnTo>
                  <a:lnTo>
                    <a:pt x="819026" y="161380"/>
                  </a:lnTo>
                  <a:lnTo>
                    <a:pt x="807692" y="156620"/>
                  </a:lnTo>
                  <a:lnTo>
                    <a:pt x="796358" y="152313"/>
                  </a:lnTo>
                  <a:lnTo>
                    <a:pt x="785023" y="148234"/>
                  </a:lnTo>
                  <a:lnTo>
                    <a:pt x="773462" y="144380"/>
                  </a:lnTo>
                  <a:lnTo>
                    <a:pt x="762128" y="140754"/>
                  </a:lnTo>
                  <a:lnTo>
                    <a:pt x="750340" y="137581"/>
                  </a:lnTo>
                  <a:lnTo>
                    <a:pt x="738779" y="134407"/>
                  </a:lnTo>
                  <a:lnTo>
                    <a:pt x="726991" y="131688"/>
                  </a:lnTo>
                  <a:lnTo>
                    <a:pt x="715203" y="129421"/>
                  </a:lnTo>
                  <a:lnTo>
                    <a:pt x="703415" y="127154"/>
                  </a:lnTo>
                  <a:lnTo>
                    <a:pt x="691401" y="125341"/>
                  </a:lnTo>
                  <a:lnTo>
                    <a:pt x="679613" y="123755"/>
                  </a:lnTo>
                  <a:lnTo>
                    <a:pt x="667598" y="122621"/>
                  </a:lnTo>
                  <a:lnTo>
                    <a:pt x="655584" y="121488"/>
                  </a:lnTo>
                  <a:lnTo>
                    <a:pt x="643796" y="120581"/>
                  </a:lnTo>
                  <a:lnTo>
                    <a:pt x="631782" y="120128"/>
                  </a:lnTo>
                  <a:lnTo>
                    <a:pt x="619540" y="120128"/>
                  </a:lnTo>
                  <a:lnTo>
                    <a:pt x="607752" y="120128"/>
                  </a:lnTo>
                  <a:close/>
                  <a:moveTo>
                    <a:pt x="619540" y="0"/>
                  </a:moveTo>
                  <a:lnTo>
                    <a:pt x="634502" y="227"/>
                  </a:lnTo>
                  <a:lnTo>
                    <a:pt x="649690" y="907"/>
                  </a:lnTo>
                  <a:lnTo>
                    <a:pt x="664198" y="1587"/>
                  </a:lnTo>
                  <a:lnTo>
                    <a:pt x="678933" y="3173"/>
                  </a:lnTo>
                  <a:lnTo>
                    <a:pt x="694121" y="4533"/>
                  </a:lnTo>
                  <a:lnTo>
                    <a:pt x="708629" y="6573"/>
                  </a:lnTo>
                  <a:lnTo>
                    <a:pt x="723364" y="8840"/>
                  </a:lnTo>
                  <a:lnTo>
                    <a:pt x="738098" y="11560"/>
                  </a:lnTo>
                  <a:lnTo>
                    <a:pt x="752607" y="14506"/>
                  </a:lnTo>
                  <a:lnTo>
                    <a:pt x="767115" y="17906"/>
                  </a:lnTo>
                  <a:lnTo>
                    <a:pt x="781623" y="21533"/>
                  </a:lnTo>
                  <a:lnTo>
                    <a:pt x="796131" y="25839"/>
                  </a:lnTo>
                  <a:lnTo>
                    <a:pt x="810412" y="30146"/>
                  </a:lnTo>
                  <a:lnTo>
                    <a:pt x="824694" y="34905"/>
                  </a:lnTo>
                  <a:lnTo>
                    <a:pt x="838975" y="40118"/>
                  </a:lnTo>
                  <a:lnTo>
                    <a:pt x="853030" y="45558"/>
                  </a:lnTo>
                  <a:lnTo>
                    <a:pt x="866858" y="51451"/>
                  </a:lnTo>
                  <a:lnTo>
                    <a:pt x="880686" y="57571"/>
                  </a:lnTo>
                  <a:lnTo>
                    <a:pt x="894514" y="64144"/>
                  </a:lnTo>
                  <a:lnTo>
                    <a:pt x="907888" y="71170"/>
                  </a:lnTo>
                  <a:lnTo>
                    <a:pt x="921263" y="78423"/>
                  </a:lnTo>
                  <a:lnTo>
                    <a:pt x="934638" y="85903"/>
                  </a:lnTo>
                  <a:lnTo>
                    <a:pt x="947786" y="93836"/>
                  </a:lnTo>
                  <a:lnTo>
                    <a:pt x="960934" y="102222"/>
                  </a:lnTo>
                  <a:lnTo>
                    <a:pt x="973401" y="110835"/>
                  </a:lnTo>
                  <a:lnTo>
                    <a:pt x="986096" y="119901"/>
                  </a:lnTo>
                  <a:lnTo>
                    <a:pt x="998791" y="129421"/>
                  </a:lnTo>
                  <a:lnTo>
                    <a:pt x="1010805" y="139167"/>
                  </a:lnTo>
                  <a:lnTo>
                    <a:pt x="1023046" y="149140"/>
                  </a:lnTo>
                  <a:lnTo>
                    <a:pt x="1034607" y="159793"/>
                  </a:lnTo>
                  <a:lnTo>
                    <a:pt x="1046395" y="170446"/>
                  </a:lnTo>
                  <a:lnTo>
                    <a:pt x="1057956" y="181779"/>
                  </a:lnTo>
                  <a:lnTo>
                    <a:pt x="1067251" y="191072"/>
                  </a:lnTo>
                  <a:lnTo>
                    <a:pt x="1076318" y="200591"/>
                  </a:lnTo>
                  <a:lnTo>
                    <a:pt x="1084932" y="210564"/>
                  </a:lnTo>
                  <a:lnTo>
                    <a:pt x="1093546" y="220310"/>
                  </a:lnTo>
                  <a:lnTo>
                    <a:pt x="1101934" y="230283"/>
                  </a:lnTo>
                  <a:lnTo>
                    <a:pt x="1110095" y="240709"/>
                  </a:lnTo>
                  <a:lnTo>
                    <a:pt x="1117802" y="250909"/>
                  </a:lnTo>
                  <a:lnTo>
                    <a:pt x="1125510" y="261108"/>
                  </a:lnTo>
                  <a:lnTo>
                    <a:pt x="1132764" y="271988"/>
                  </a:lnTo>
                  <a:lnTo>
                    <a:pt x="1139791" y="282414"/>
                  </a:lnTo>
                  <a:lnTo>
                    <a:pt x="1146592" y="293294"/>
                  </a:lnTo>
                  <a:lnTo>
                    <a:pt x="1153166" y="304173"/>
                  </a:lnTo>
                  <a:lnTo>
                    <a:pt x="1159513" y="315279"/>
                  </a:lnTo>
                  <a:lnTo>
                    <a:pt x="1165634" y="326159"/>
                  </a:lnTo>
                  <a:lnTo>
                    <a:pt x="1171527" y="337492"/>
                  </a:lnTo>
                  <a:lnTo>
                    <a:pt x="1177195" y="348598"/>
                  </a:lnTo>
                  <a:lnTo>
                    <a:pt x="1182408" y="360157"/>
                  </a:lnTo>
                  <a:lnTo>
                    <a:pt x="1187622" y="371490"/>
                  </a:lnTo>
                  <a:lnTo>
                    <a:pt x="1192610" y="383050"/>
                  </a:lnTo>
                  <a:lnTo>
                    <a:pt x="1197143" y="394609"/>
                  </a:lnTo>
                  <a:lnTo>
                    <a:pt x="1201677" y="406395"/>
                  </a:lnTo>
                  <a:lnTo>
                    <a:pt x="1205984" y="418181"/>
                  </a:lnTo>
                  <a:lnTo>
                    <a:pt x="1209611" y="429741"/>
                  </a:lnTo>
                  <a:lnTo>
                    <a:pt x="1213465" y="441754"/>
                  </a:lnTo>
                  <a:lnTo>
                    <a:pt x="1216865" y="453540"/>
                  </a:lnTo>
                  <a:lnTo>
                    <a:pt x="1219812" y="465552"/>
                  </a:lnTo>
                  <a:lnTo>
                    <a:pt x="1222986" y="477792"/>
                  </a:lnTo>
                  <a:lnTo>
                    <a:pt x="1225706" y="489578"/>
                  </a:lnTo>
                  <a:lnTo>
                    <a:pt x="1228200" y="501818"/>
                  </a:lnTo>
                  <a:lnTo>
                    <a:pt x="1230240" y="514057"/>
                  </a:lnTo>
                  <a:lnTo>
                    <a:pt x="1232280" y="526070"/>
                  </a:lnTo>
                  <a:lnTo>
                    <a:pt x="1233867" y="538536"/>
                  </a:lnTo>
                  <a:lnTo>
                    <a:pt x="1235680" y="550775"/>
                  </a:lnTo>
                  <a:lnTo>
                    <a:pt x="1236814" y="563015"/>
                  </a:lnTo>
                  <a:lnTo>
                    <a:pt x="1237720" y="575254"/>
                  </a:lnTo>
                  <a:lnTo>
                    <a:pt x="1238401" y="587720"/>
                  </a:lnTo>
                  <a:lnTo>
                    <a:pt x="1239081" y="599733"/>
                  </a:lnTo>
                  <a:lnTo>
                    <a:pt x="1239307" y="612199"/>
                  </a:lnTo>
                  <a:lnTo>
                    <a:pt x="1239307" y="624665"/>
                  </a:lnTo>
                  <a:lnTo>
                    <a:pt x="1239081" y="636678"/>
                  </a:lnTo>
                  <a:lnTo>
                    <a:pt x="1238627" y="649144"/>
                  </a:lnTo>
                  <a:lnTo>
                    <a:pt x="1237947" y="661610"/>
                  </a:lnTo>
                  <a:lnTo>
                    <a:pt x="1237040" y="673623"/>
                  </a:lnTo>
                  <a:lnTo>
                    <a:pt x="1235907" y="686089"/>
                  </a:lnTo>
                  <a:lnTo>
                    <a:pt x="1234320" y="698102"/>
                  </a:lnTo>
                  <a:lnTo>
                    <a:pt x="1232507" y="710341"/>
                  </a:lnTo>
                  <a:lnTo>
                    <a:pt x="1230693" y="722807"/>
                  </a:lnTo>
                  <a:lnTo>
                    <a:pt x="1228653" y="734820"/>
                  </a:lnTo>
                  <a:lnTo>
                    <a:pt x="1226159" y="746833"/>
                  </a:lnTo>
                  <a:lnTo>
                    <a:pt x="1223439" y="759073"/>
                  </a:lnTo>
                  <a:lnTo>
                    <a:pt x="1220719" y="771085"/>
                  </a:lnTo>
                  <a:lnTo>
                    <a:pt x="1217545" y="783098"/>
                  </a:lnTo>
                  <a:lnTo>
                    <a:pt x="1214145" y="795111"/>
                  </a:lnTo>
                  <a:lnTo>
                    <a:pt x="1210518" y="806897"/>
                  </a:lnTo>
                  <a:lnTo>
                    <a:pt x="1206664" y="818683"/>
                  </a:lnTo>
                  <a:lnTo>
                    <a:pt x="1202357" y="830469"/>
                  </a:lnTo>
                  <a:lnTo>
                    <a:pt x="1198277" y="842255"/>
                  </a:lnTo>
                  <a:lnTo>
                    <a:pt x="1193516" y="853588"/>
                  </a:lnTo>
                  <a:lnTo>
                    <a:pt x="1188529" y="865374"/>
                  </a:lnTo>
                  <a:lnTo>
                    <a:pt x="1183769" y="876934"/>
                  </a:lnTo>
                  <a:lnTo>
                    <a:pt x="1178328" y="888267"/>
                  </a:lnTo>
                  <a:lnTo>
                    <a:pt x="1172661" y="899599"/>
                  </a:lnTo>
                  <a:lnTo>
                    <a:pt x="1166767" y="910706"/>
                  </a:lnTo>
                  <a:lnTo>
                    <a:pt x="1160646" y="921812"/>
                  </a:lnTo>
                  <a:lnTo>
                    <a:pt x="1534229" y="1295115"/>
                  </a:lnTo>
                  <a:lnTo>
                    <a:pt x="1540350" y="1301461"/>
                  </a:lnTo>
                  <a:lnTo>
                    <a:pt x="1545790" y="1308034"/>
                  </a:lnTo>
                  <a:lnTo>
                    <a:pt x="1551231" y="1314607"/>
                  </a:lnTo>
                  <a:lnTo>
                    <a:pt x="1556445" y="1321407"/>
                  </a:lnTo>
                  <a:lnTo>
                    <a:pt x="1560752" y="1328433"/>
                  </a:lnTo>
                  <a:lnTo>
                    <a:pt x="1565286" y="1335460"/>
                  </a:lnTo>
                  <a:lnTo>
                    <a:pt x="1569366" y="1342713"/>
                  </a:lnTo>
                  <a:lnTo>
                    <a:pt x="1572766" y="1349966"/>
                  </a:lnTo>
                  <a:lnTo>
                    <a:pt x="1576167" y="1357219"/>
                  </a:lnTo>
                  <a:lnTo>
                    <a:pt x="1578887" y="1364698"/>
                  </a:lnTo>
                  <a:lnTo>
                    <a:pt x="1581381" y="1372178"/>
                  </a:lnTo>
                  <a:lnTo>
                    <a:pt x="1583648" y="1379658"/>
                  </a:lnTo>
                  <a:lnTo>
                    <a:pt x="1585461" y="1387137"/>
                  </a:lnTo>
                  <a:lnTo>
                    <a:pt x="1586821" y="1394617"/>
                  </a:lnTo>
                  <a:lnTo>
                    <a:pt x="1587955" y="1402323"/>
                  </a:lnTo>
                  <a:lnTo>
                    <a:pt x="1588635" y="1409803"/>
                  </a:lnTo>
                  <a:lnTo>
                    <a:pt x="1589088" y="1417283"/>
                  </a:lnTo>
                  <a:lnTo>
                    <a:pt x="1589088" y="1424762"/>
                  </a:lnTo>
                  <a:lnTo>
                    <a:pt x="1588861" y="1432242"/>
                  </a:lnTo>
                  <a:lnTo>
                    <a:pt x="1588181" y="1439495"/>
                  </a:lnTo>
                  <a:lnTo>
                    <a:pt x="1587274" y="1446748"/>
                  </a:lnTo>
                  <a:lnTo>
                    <a:pt x="1585914" y="1454001"/>
                  </a:lnTo>
                  <a:lnTo>
                    <a:pt x="1584101" y="1461027"/>
                  </a:lnTo>
                  <a:lnTo>
                    <a:pt x="1581834" y="1467827"/>
                  </a:lnTo>
                  <a:lnTo>
                    <a:pt x="1579340" y="1474627"/>
                  </a:lnTo>
                  <a:lnTo>
                    <a:pt x="1576620" y="1481200"/>
                  </a:lnTo>
                  <a:lnTo>
                    <a:pt x="1573220" y="1487773"/>
                  </a:lnTo>
                  <a:lnTo>
                    <a:pt x="1569593" y="1494119"/>
                  </a:lnTo>
                  <a:lnTo>
                    <a:pt x="1565512" y="1500239"/>
                  </a:lnTo>
                  <a:lnTo>
                    <a:pt x="1561432" y="1506132"/>
                  </a:lnTo>
                  <a:lnTo>
                    <a:pt x="1556445" y="1511572"/>
                  </a:lnTo>
                  <a:lnTo>
                    <a:pt x="1551231" y="1517011"/>
                  </a:lnTo>
                  <a:lnTo>
                    <a:pt x="1517228" y="1551237"/>
                  </a:lnTo>
                  <a:lnTo>
                    <a:pt x="1511787" y="1556223"/>
                  </a:lnTo>
                  <a:lnTo>
                    <a:pt x="1506120" y="1561209"/>
                  </a:lnTo>
                  <a:lnTo>
                    <a:pt x="1500226" y="1565516"/>
                  </a:lnTo>
                  <a:lnTo>
                    <a:pt x="1494106" y="1569369"/>
                  </a:lnTo>
                  <a:lnTo>
                    <a:pt x="1487985" y="1573222"/>
                  </a:lnTo>
                  <a:lnTo>
                    <a:pt x="1481411" y="1576395"/>
                  </a:lnTo>
                  <a:lnTo>
                    <a:pt x="1474837" y="1579342"/>
                  </a:lnTo>
                  <a:lnTo>
                    <a:pt x="1468036" y="1581835"/>
                  </a:lnTo>
                  <a:lnTo>
                    <a:pt x="1461009" y="1583875"/>
                  </a:lnTo>
                  <a:lnTo>
                    <a:pt x="1453982" y="1585688"/>
                  </a:lnTo>
                  <a:lnTo>
                    <a:pt x="1446728" y="1587275"/>
                  </a:lnTo>
                  <a:lnTo>
                    <a:pt x="1439474" y="1588182"/>
                  </a:lnTo>
                  <a:lnTo>
                    <a:pt x="1432219" y="1588862"/>
                  </a:lnTo>
                  <a:lnTo>
                    <a:pt x="1424739" y="1589088"/>
                  </a:lnTo>
                  <a:lnTo>
                    <a:pt x="1417258" y="1589088"/>
                  </a:lnTo>
                  <a:lnTo>
                    <a:pt x="1409777" y="1588862"/>
                  </a:lnTo>
                  <a:lnTo>
                    <a:pt x="1402296" y="1587955"/>
                  </a:lnTo>
                  <a:lnTo>
                    <a:pt x="1394589" y="1587048"/>
                  </a:lnTo>
                  <a:lnTo>
                    <a:pt x="1387108" y="1585235"/>
                  </a:lnTo>
                  <a:lnTo>
                    <a:pt x="1379628" y="1583422"/>
                  </a:lnTo>
                  <a:lnTo>
                    <a:pt x="1372147" y="1581382"/>
                  </a:lnTo>
                  <a:lnTo>
                    <a:pt x="1364666" y="1578662"/>
                  </a:lnTo>
                  <a:lnTo>
                    <a:pt x="1357186" y="1575942"/>
                  </a:lnTo>
                  <a:lnTo>
                    <a:pt x="1349931" y="1572769"/>
                  </a:lnTo>
                  <a:lnTo>
                    <a:pt x="1342677" y="1569142"/>
                  </a:lnTo>
                  <a:lnTo>
                    <a:pt x="1335423" y="1565289"/>
                  </a:lnTo>
                  <a:lnTo>
                    <a:pt x="1328396" y="1560756"/>
                  </a:lnTo>
                  <a:lnTo>
                    <a:pt x="1321369" y="1556223"/>
                  </a:lnTo>
                  <a:lnTo>
                    <a:pt x="1314568" y="1551237"/>
                  </a:lnTo>
                  <a:lnTo>
                    <a:pt x="1307994" y="1545797"/>
                  </a:lnTo>
                  <a:lnTo>
                    <a:pt x="1301420" y="1540130"/>
                  </a:lnTo>
                  <a:lnTo>
                    <a:pt x="1295299" y="1534011"/>
                  </a:lnTo>
                  <a:lnTo>
                    <a:pt x="921716" y="1160708"/>
                  </a:lnTo>
                  <a:lnTo>
                    <a:pt x="910835" y="1166827"/>
                  </a:lnTo>
                  <a:lnTo>
                    <a:pt x="899501" y="1172720"/>
                  </a:lnTo>
                  <a:lnTo>
                    <a:pt x="888166" y="1178160"/>
                  </a:lnTo>
                  <a:lnTo>
                    <a:pt x="876832" y="1183600"/>
                  </a:lnTo>
                  <a:lnTo>
                    <a:pt x="865498" y="1188586"/>
                  </a:lnTo>
                  <a:lnTo>
                    <a:pt x="853710" y="1193346"/>
                  </a:lnTo>
                  <a:lnTo>
                    <a:pt x="842375" y="1198106"/>
                  </a:lnTo>
                  <a:lnTo>
                    <a:pt x="830588" y="1202412"/>
                  </a:lnTo>
                  <a:lnTo>
                    <a:pt x="818573" y="1206492"/>
                  </a:lnTo>
                  <a:lnTo>
                    <a:pt x="807012" y="1210572"/>
                  </a:lnTo>
                  <a:lnTo>
                    <a:pt x="794997" y="1213972"/>
                  </a:lnTo>
                  <a:lnTo>
                    <a:pt x="783210" y="1217598"/>
                  </a:lnTo>
                  <a:lnTo>
                    <a:pt x="771195" y="1220545"/>
                  </a:lnTo>
                  <a:lnTo>
                    <a:pt x="758954" y="1223265"/>
                  </a:lnTo>
                  <a:lnTo>
                    <a:pt x="746939" y="1226211"/>
                  </a:lnTo>
                  <a:lnTo>
                    <a:pt x="734698" y="1228478"/>
                  </a:lnTo>
                  <a:lnTo>
                    <a:pt x="722457" y="1230518"/>
                  </a:lnTo>
                  <a:lnTo>
                    <a:pt x="710442" y="1232784"/>
                  </a:lnTo>
                  <a:lnTo>
                    <a:pt x="698201" y="1234371"/>
                  </a:lnTo>
                  <a:lnTo>
                    <a:pt x="685960" y="1235731"/>
                  </a:lnTo>
                  <a:lnTo>
                    <a:pt x="673719" y="1236864"/>
                  </a:lnTo>
                  <a:lnTo>
                    <a:pt x="661478" y="1237771"/>
                  </a:lnTo>
                  <a:lnTo>
                    <a:pt x="649010" y="1238451"/>
                  </a:lnTo>
                  <a:lnTo>
                    <a:pt x="636769" y="1239131"/>
                  </a:lnTo>
                  <a:lnTo>
                    <a:pt x="624527" y="1239357"/>
                  </a:lnTo>
                  <a:lnTo>
                    <a:pt x="612060" y="1239357"/>
                  </a:lnTo>
                  <a:lnTo>
                    <a:pt x="599818" y="1239131"/>
                  </a:lnTo>
                  <a:lnTo>
                    <a:pt x="587577" y="1238451"/>
                  </a:lnTo>
                  <a:lnTo>
                    <a:pt x="575109" y="1237544"/>
                  </a:lnTo>
                  <a:lnTo>
                    <a:pt x="562868" y="1236638"/>
                  </a:lnTo>
                  <a:lnTo>
                    <a:pt x="550627" y="1235504"/>
                  </a:lnTo>
                  <a:lnTo>
                    <a:pt x="538612" y="1233918"/>
                  </a:lnTo>
                  <a:lnTo>
                    <a:pt x="526145" y="1232331"/>
                  </a:lnTo>
                  <a:lnTo>
                    <a:pt x="513903" y="1230291"/>
                  </a:lnTo>
                  <a:lnTo>
                    <a:pt x="501889" y="1228025"/>
                  </a:lnTo>
                  <a:lnTo>
                    <a:pt x="489648" y="1225758"/>
                  </a:lnTo>
                  <a:lnTo>
                    <a:pt x="477633" y="1222811"/>
                  </a:lnTo>
                  <a:lnTo>
                    <a:pt x="465619" y="1219865"/>
                  </a:lnTo>
                  <a:lnTo>
                    <a:pt x="453604" y="1216918"/>
                  </a:lnTo>
                  <a:lnTo>
                    <a:pt x="441590" y="1213292"/>
                  </a:lnTo>
                  <a:lnTo>
                    <a:pt x="429802" y="1209665"/>
                  </a:lnTo>
                  <a:lnTo>
                    <a:pt x="418014" y="1205812"/>
                  </a:lnTo>
                  <a:lnTo>
                    <a:pt x="406453" y="1201506"/>
                  </a:lnTo>
                  <a:lnTo>
                    <a:pt x="394665" y="1197199"/>
                  </a:lnTo>
                  <a:lnTo>
                    <a:pt x="383104" y="1192440"/>
                  </a:lnTo>
                  <a:lnTo>
                    <a:pt x="371543" y="1187680"/>
                  </a:lnTo>
                  <a:lnTo>
                    <a:pt x="359982" y="1182467"/>
                  </a:lnTo>
                  <a:lnTo>
                    <a:pt x="348647" y="1177027"/>
                  </a:lnTo>
                  <a:lnTo>
                    <a:pt x="337313" y="1171360"/>
                  </a:lnTo>
                  <a:lnTo>
                    <a:pt x="326205" y="1165694"/>
                  </a:lnTo>
                  <a:lnTo>
                    <a:pt x="315097" y="1159574"/>
                  </a:lnTo>
                  <a:lnTo>
                    <a:pt x="304216" y="1153228"/>
                  </a:lnTo>
                  <a:lnTo>
                    <a:pt x="293109" y="1146655"/>
                  </a:lnTo>
                  <a:lnTo>
                    <a:pt x="282454" y="1139629"/>
                  </a:lnTo>
                  <a:lnTo>
                    <a:pt x="272026" y="1132602"/>
                  </a:lnTo>
                  <a:lnTo>
                    <a:pt x="261145" y="1125349"/>
                  </a:lnTo>
                  <a:lnTo>
                    <a:pt x="250944" y="1117643"/>
                  </a:lnTo>
                  <a:lnTo>
                    <a:pt x="240517" y="1109937"/>
                  </a:lnTo>
                  <a:lnTo>
                    <a:pt x="230316" y="1101777"/>
                  </a:lnTo>
                  <a:lnTo>
                    <a:pt x="220341" y="1093617"/>
                  </a:lnTo>
                  <a:lnTo>
                    <a:pt x="210367" y="1085004"/>
                  </a:lnTo>
                  <a:lnTo>
                    <a:pt x="200620" y="1076391"/>
                  </a:lnTo>
                  <a:lnTo>
                    <a:pt x="191099" y="1067099"/>
                  </a:lnTo>
                  <a:lnTo>
                    <a:pt x="181578" y="1057806"/>
                  </a:lnTo>
                  <a:lnTo>
                    <a:pt x="170470" y="1046473"/>
                  </a:lnTo>
                  <a:lnTo>
                    <a:pt x="159589" y="1034913"/>
                  </a:lnTo>
                  <a:lnTo>
                    <a:pt x="149161" y="1022901"/>
                  </a:lnTo>
                  <a:lnTo>
                    <a:pt x="139187" y="1010888"/>
                  </a:lnTo>
                  <a:lnTo>
                    <a:pt x="129213" y="998648"/>
                  </a:lnTo>
                  <a:lnTo>
                    <a:pt x="119918" y="985956"/>
                  </a:lnTo>
                  <a:lnTo>
                    <a:pt x="110851" y="973489"/>
                  </a:lnTo>
                  <a:lnTo>
                    <a:pt x="102237" y="960797"/>
                  </a:lnTo>
                  <a:lnTo>
                    <a:pt x="93849" y="947651"/>
                  </a:lnTo>
                  <a:lnTo>
                    <a:pt x="85688" y="934505"/>
                  </a:lnTo>
                  <a:lnTo>
                    <a:pt x="78208" y="921358"/>
                  </a:lnTo>
                  <a:lnTo>
                    <a:pt x="70954" y="907986"/>
                  </a:lnTo>
                  <a:lnTo>
                    <a:pt x="64153" y="894386"/>
                  </a:lnTo>
                  <a:lnTo>
                    <a:pt x="57579" y="880560"/>
                  </a:lnTo>
                  <a:lnTo>
                    <a:pt x="51232" y="866734"/>
                  </a:lnTo>
                  <a:lnTo>
                    <a:pt x="45338" y="852908"/>
                  </a:lnTo>
                  <a:lnTo>
                    <a:pt x="39897" y="838856"/>
                  </a:lnTo>
                  <a:lnTo>
                    <a:pt x="34910" y="824803"/>
                  </a:lnTo>
                  <a:lnTo>
                    <a:pt x="30150" y="810524"/>
                  </a:lnTo>
                  <a:lnTo>
                    <a:pt x="25616" y="796244"/>
                  </a:lnTo>
                  <a:lnTo>
                    <a:pt x="21535" y="781738"/>
                  </a:lnTo>
                  <a:lnTo>
                    <a:pt x="17682" y="767232"/>
                  </a:lnTo>
                  <a:lnTo>
                    <a:pt x="14508" y="752726"/>
                  </a:lnTo>
                  <a:lnTo>
                    <a:pt x="11334" y="738220"/>
                  </a:lnTo>
                  <a:lnTo>
                    <a:pt x="8841" y="723487"/>
                  </a:lnTo>
                  <a:lnTo>
                    <a:pt x="6574" y="708755"/>
                  </a:lnTo>
                  <a:lnTo>
                    <a:pt x="4307" y="694022"/>
                  </a:lnTo>
                  <a:lnTo>
                    <a:pt x="2947" y="679289"/>
                  </a:lnTo>
                  <a:lnTo>
                    <a:pt x="1587" y="664330"/>
                  </a:lnTo>
                  <a:lnTo>
                    <a:pt x="680" y="649597"/>
                  </a:lnTo>
                  <a:lnTo>
                    <a:pt x="227" y="634638"/>
                  </a:lnTo>
                  <a:lnTo>
                    <a:pt x="0" y="619905"/>
                  </a:lnTo>
                  <a:lnTo>
                    <a:pt x="227" y="604946"/>
                  </a:lnTo>
                  <a:lnTo>
                    <a:pt x="680" y="589987"/>
                  </a:lnTo>
                  <a:lnTo>
                    <a:pt x="1587" y="575254"/>
                  </a:lnTo>
                  <a:lnTo>
                    <a:pt x="2947" y="560295"/>
                  </a:lnTo>
                  <a:lnTo>
                    <a:pt x="4307" y="545562"/>
                  </a:lnTo>
                  <a:lnTo>
                    <a:pt x="6574" y="530830"/>
                  </a:lnTo>
                  <a:lnTo>
                    <a:pt x="8841" y="516097"/>
                  </a:lnTo>
                  <a:lnTo>
                    <a:pt x="11334" y="501364"/>
                  </a:lnTo>
                  <a:lnTo>
                    <a:pt x="14508" y="486858"/>
                  </a:lnTo>
                  <a:lnTo>
                    <a:pt x="17682" y="472352"/>
                  </a:lnTo>
                  <a:lnTo>
                    <a:pt x="21535" y="457846"/>
                  </a:lnTo>
                  <a:lnTo>
                    <a:pt x="25616" y="443340"/>
                  </a:lnTo>
                  <a:lnTo>
                    <a:pt x="30150" y="429061"/>
                  </a:lnTo>
                  <a:lnTo>
                    <a:pt x="34910" y="414781"/>
                  </a:lnTo>
                  <a:lnTo>
                    <a:pt x="39897" y="400502"/>
                  </a:lnTo>
                  <a:lnTo>
                    <a:pt x="45338" y="386449"/>
                  </a:lnTo>
                  <a:lnTo>
                    <a:pt x="51232" y="372850"/>
                  </a:lnTo>
                  <a:lnTo>
                    <a:pt x="57579" y="359024"/>
                  </a:lnTo>
                  <a:lnTo>
                    <a:pt x="64153" y="345198"/>
                  </a:lnTo>
                  <a:lnTo>
                    <a:pt x="70954" y="331599"/>
                  </a:lnTo>
                  <a:lnTo>
                    <a:pt x="78208" y="318226"/>
                  </a:lnTo>
                  <a:lnTo>
                    <a:pt x="85688" y="304853"/>
                  </a:lnTo>
                  <a:lnTo>
                    <a:pt x="93849" y="291934"/>
                  </a:lnTo>
                  <a:lnTo>
                    <a:pt x="102237" y="278788"/>
                  </a:lnTo>
                  <a:lnTo>
                    <a:pt x="110851" y="266095"/>
                  </a:lnTo>
                  <a:lnTo>
                    <a:pt x="119918" y="253402"/>
                  </a:lnTo>
                  <a:lnTo>
                    <a:pt x="129213" y="240936"/>
                  </a:lnTo>
                  <a:lnTo>
                    <a:pt x="139187" y="228697"/>
                  </a:lnTo>
                  <a:lnTo>
                    <a:pt x="149161" y="216457"/>
                  </a:lnTo>
                  <a:lnTo>
                    <a:pt x="159589" y="204671"/>
                  </a:lnTo>
                  <a:lnTo>
                    <a:pt x="170470" y="193111"/>
                  </a:lnTo>
                  <a:lnTo>
                    <a:pt x="181578" y="181779"/>
                  </a:lnTo>
                  <a:lnTo>
                    <a:pt x="193139" y="170446"/>
                  </a:lnTo>
                  <a:lnTo>
                    <a:pt x="204473" y="159793"/>
                  </a:lnTo>
                  <a:lnTo>
                    <a:pt x="216488" y="149140"/>
                  </a:lnTo>
                  <a:lnTo>
                    <a:pt x="228729" y="139167"/>
                  </a:lnTo>
                  <a:lnTo>
                    <a:pt x="240743" y="129421"/>
                  </a:lnTo>
                  <a:lnTo>
                    <a:pt x="253438" y="119901"/>
                  </a:lnTo>
                  <a:lnTo>
                    <a:pt x="266133" y="110835"/>
                  </a:lnTo>
                  <a:lnTo>
                    <a:pt x="278600" y="102222"/>
                  </a:lnTo>
                  <a:lnTo>
                    <a:pt x="291748" y="93836"/>
                  </a:lnTo>
                  <a:lnTo>
                    <a:pt x="304896" y="85903"/>
                  </a:lnTo>
                  <a:lnTo>
                    <a:pt x="318271" y="78423"/>
                  </a:lnTo>
                  <a:lnTo>
                    <a:pt x="331646" y="71170"/>
                  </a:lnTo>
                  <a:lnTo>
                    <a:pt x="345020" y="64144"/>
                  </a:lnTo>
                  <a:lnTo>
                    <a:pt x="358848" y="57571"/>
                  </a:lnTo>
                  <a:lnTo>
                    <a:pt x="372676" y="51451"/>
                  </a:lnTo>
                  <a:lnTo>
                    <a:pt x="386504" y="45558"/>
                  </a:lnTo>
                  <a:lnTo>
                    <a:pt x="400559" y="40118"/>
                  </a:lnTo>
                  <a:lnTo>
                    <a:pt x="414840" y="34905"/>
                  </a:lnTo>
                  <a:lnTo>
                    <a:pt x="429122" y="30146"/>
                  </a:lnTo>
                  <a:lnTo>
                    <a:pt x="443403" y="25839"/>
                  </a:lnTo>
                  <a:lnTo>
                    <a:pt x="457911" y="21533"/>
                  </a:lnTo>
                  <a:lnTo>
                    <a:pt x="472419" y="17906"/>
                  </a:lnTo>
                  <a:lnTo>
                    <a:pt x="486927" y="14506"/>
                  </a:lnTo>
                  <a:lnTo>
                    <a:pt x="501435" y="11560"/>
                  </a:lnTo>
                  <a:lnTo>
                    <a:pt x="515944" y="8840"/>
                  </a:lnTo>
                  <a:lnTo>
                    <a:pt x="530678" y="6573"/>
                  </a:lnTo>
                  <a:lnTo>
                    <a:pt x="545413" y="4533"/>
                  </a:lnTo>
                  <a:lnTo>
                    <a:pt x="560148" y="3173"/>
                  </a:lnTo>
                  <a:lnTo>
                    <a:pt x="575109" y="1587"/>
                  </a:lnTo>
                  <a:lnTo>
                    <a:pt x="589844" y="907"/>
                  </a:lnTo>
                  <a:lnTo>
                    <a:pt x="604806" y="227"/>
                  </a:lnTo>
                  <a:lnTo>
                    <a:pt x="619540" y="0"/>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椭圆 23"/>
            <p:cNvSpPr/>
            <p:nvPr/>
          </p:nvSpPr>
          <p:spPr>
            <a:xfrm>
              <a:off x="4886280" y="1436760"/>
              <a:ext cx="2432160" cy="243180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矩形 19"/>
          <p:cNvSpPr/>
          <p:nvPr/>
        </p:nvSpPr>
        <p:spPr>
          <a:xfrm>
            <a:off x="5479920" y="797040"/>
            <a:ext cx="5712120" cy="52639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TextBox 12"/>
          <p:cNvSpPr/>
          <p:nvPr/>
        </p:nvSpPr>
        <p:spPr>
          <a:xfrm>
            <a:off x="1000080" y="181944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Calibri"/>
            </a:endParaRPr>
          </a:p>
        </p:txBody>
      </p:sp>
      <p:sp>
        <p:nvSpPr>
          <p:cNvPr id="526" name="TextBox 13"/>
          <p:cNvSpPr/>
          <p:nvPr/>
        </p:nvSpPr>
        <p:spPr>
          <a:xfrm>
            <a:off x="1800360" y="135900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Calibri"/>
            </a:endParaRPr>
          </a:p>
        </p:txBody>
      </p:sp>
      <p:sp>
        <p:nvSpPr>
          <p:cNvPr id="527" name="TextBox 14"/>
          <p:cNvSpPr/>
          <p:nvPr/>
        </p:nvSpPr>
        <p:spPr>
          <a:xfrm>
            <a:off x="6280200" y="136836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2015</a:t>
            </a:r>
            <a:r>
              <a:rPr b="1" lang="zh-CN" sz="2000" spc="-1" strike="noStrike">
                <a:solidFill>
                  <a:srgbClr val="ffffff"/>
                </a:solidFill>
                <a:latin typeface="微软雅黑"/>
                <a:ea typeface="微软雅黑"/>
              </a:rPr>
              <a:t>年工作情况</a:t>
            </a:r>
            <a:endParaRPr b="0" lang="en-US" sz="2000" spc="-1" strike="noStrike">
              <a:solidFill>
                <a:srgbClr val="000000"/>
              </a:solidFill>
              <a:latin typeface="Calibri"/>
            </a:endParaRPr>
          </a:p>
        </p:txBody>
      </p:sp>
      <p:sp>
        <p:nvSpPr>
          <p:cNvPr id="528" name="TextBox 15"/>
          <p:cNvSpPr/>
          <p:nvPr/>
        </p:nvSpPr>
        <p:spPr>
          <a:xfrm>
            <a:off x="6303960" y="184932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Calibri"/>
            </a:endParaRPr>
          </a:p>
        </p:txBody>
      </p:sp>
      <p:sp>
        <p:nvSpPr>
          <p:cNvPr id="529" name="矩形 7"/>
          <p:cNvSpPr/>
          <p:nvPr/>
        </p:nvSpPr>
        <p:spPr>
          <a:xfrm>
            <a:off x="2481120" y="3884760"/>
            <a:ext cx="187992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矩形 8"/>
          <p:cNvSpPr/>
          <p:nvPr/>
        </p:nvSpPr>
        <p:spPr>
          <a:xfrm>
            <a:off x="1400040" y="4284720"/>
            <a:ext cx="294660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矩形 9"/>
          <p:cNvSpPr/>
          <p:nvPr/>
        </p:nvSpPr>
        <p:spPr>
          <a:xfrm>
            <a:off x="196056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TextBox 19"/>
          <p:cNvSpPr/>
          <p:nvPr/>
        </p:nvSpPr>
        <p:spPr>
          <a:xfrm>
            <a:off x="2868840" y="3884760"/>
            <a:ext cx="975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计划完成：</a:t>
            </a:r>
            <a:r>
              <a:rPr b="0" lang="en-US" sz="1200" spc="-1" strike="noStrike">
                <a:solidFill>
                  <a:srgbClr val="ffffff"/>
                </a:solidFill>
                <a:latin typeface="微软雅黑"/>
                <a:ea typeface="微软雅黑"/>
              </a:rPr>
              <a:t>30</a:t>
            </a:r>
            <a:r>
              <a:rPr b="0" lang="zh-CN" sz="1200" spc="-1" strike="noStrike">
                <a:solidFill>
                  <a:srgbClr val="ffffff"/>
                </a:solidFill>
                <a:latin typeface="微软雅黑"/>
                <a:ea typeface="微软雅黑"/>
              </a:rPr>
              <a:t>％</a:t>
            </a:r>
            <a:endParaRPr b="0" lang="en-US" sz="1200" spc="-1" strike="noStrike">
              <a:solidFill>
                <a:srgbClr val="000000"/>
              </a:solidFill>
              <a:latin typeface="Calibri"/>
            </a:endParaRPr>
          </a:p>
        </p:txBody>
      </p:sp>
      <p:sp>
        <p:nvSpPr>
          <p:cNvPr id="533" name="TextBox 20"/>
          <p:cNvSpPr/>
          <p:nvPr/>
        </p:nvSpPr>
        <p:spPr>
          <a:xfrm>
            <a:off x="2500560" y="4284720"/>
            <a:ext cx="124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实际完成数目：</a:t>
            </a:r>
            <a:r>
              <a:rPr b="0" lang="en-US" sz="1200" spc="-1" strike="noStrike">
                <a:solidFill>
                  <a:srgbClr val="ffffff"/>
                </a:solidFill>
                <a:latin typeface="微软雅黑"/>
                <a:ea typeface="微软雅黑"/>
              </a:rPr>
              <a:t>3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4" name="TextBox 21"/>
          <p:cNvSpPr/>
          <p:nvPr/>
        </p:nvSpPr>
        <p:spPr>
          <a:xfrm>
            <a:off x="2886840" y="4757760"/>
            <a:ext cx="97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回款数：</a:t>
            </a:r>
            <a:r>
              <a:rPr b="0" lang="en-US" sz="1200" spc="-1" strike="noStrike">
                <a:solidFill>
                  <a:srgbClr val="ffffff"/>
                </a:solidFill>
                <a:latin typeface="微软雅黑"/>
                <a:ea typeface="微软雅黑"/>
              </a:rPr>
              <a:t>100</a:t>
            </a:r>
            <a:r>
              <a:rPr b="0" lang="zh-CN" sz="1200" spc="-1" strike="noStrike">
                <a:solidFill>
                  <a:srgbClr val="ffffff"/>
                </a:solidFill>
                <a:latin typeface="微软雅黑"/>
                <a:ea typeface="微软雅黑"/>
              </a:rPr>
              <a:t>万</a:t>
            </a:r>
            <a:endParaRPr b="0" lang="en-US" sz="1200" spc="-1" strike="noStrike">
              <a:solidFill>
                <a:srgbClr val="000000"/>
              </a:solidFill>
              <a:latin typeface="Calibri"/>
            </a:endParaRPr>
          </a:p>
        </p:txBody>
      </p:sp>
      <p:sp>
        <p:nvSpPr>
          <p:cNvPr id="535" name="矩形 13"/>
          <p:cNvSpPr/>
          <p:nvPr/>
        </p:nvSpPr>
        <p:spPr>
          <a:xfrm>
            <a:off x="6440400" y="3884760"/>
            <a:ext cx="187956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矩形 14"/>
          <p:cNvSpPr/>
          <p:nvPr/>
        </p:nvSpPr>
        <p:spPr>
          <a:xfrm>
            <a:off x="6453360" y="4284720"/>
            <a:ext cx="2946240" cy="250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矩形 15"/>
          <p:cNvSpPr/>
          <p:nvPr/>
        </p:nvSpPr>
        <p:spPr>
          <a:xfrm>
            <a:off x="6440400" y="4751280"/>
            <a:ext cx="2400480" cy="25236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TextBox 25"/>
          <p:cNvSpPr/>
          <p:nvPr/>
        </p:nvSpPr>
        <p:spPr>
          <a:xfrm>
            <a:off x="6815160" y="388476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20</a:t>
            </a:r>
            <a:r>
              <a:rPr b="0" lang="zh-CN" sz="1100" spc="-1" strike="noStrike">
                <a:solidFill>
                  <a:srgbClr val="ffffff"/>
                </a:solidFill>
                <a:latin typeface="微软雅黑"/>
                <a:ea typeface="微软雅黑"/>
              </a:rPr>
              <a:t>％</a:t>
            </a:r>
            <a:endParaRPr b="0" lang="en-US" sz="1100" spc="-1" strike="noStrike">
              <a:solidFill>
                <a:srgbClr val="000000"/>
              </a:solidFill>
              <a:latin typeface="Calibri"/>
            </a:endParaRPr>
          </a:p>
        </p:txBody>
      </p:sp>
      <p:sp>
        <p:nvSpPr>
          <p:cNvPr id="539" name="TextBox 26"/>
          <p:cNvSpPr/>
          <p:nvPr/>
        </p:nvSpPr>
        <p:spPr>
          <a:xfrm>
            <a:off x="6881760" y="42847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2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0" name="TextBox 27"/>
          <p:cNvSpPr/>
          <p:nvPr/>
        </p:nvSpPr>
        <p:spPr>
          <a:xfrm>
            <a:off x="6809040" y="475776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Calibri"/>
            </a:endParaRPr>
          </a:p>
        </p:txBody>
      </p:sp>
      <p:sp>
        <p:nvSpPr>
          <p:cNvPr id="541" name="椭圆 2"/>
          <p:cNvSpPr/>
          <p:nvPr/>
        </p:nvSpPr>
        <p:spPr>
          <a:xfrm>
            <a:off x="5010120" y="2496960"/>
            <a:ext cx="941400" cy="94320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矩形 36"/>
          <p:cNvSpPr/>
          <p:nvPr/>
        </p:nvSpPr>
        <p:spPr>
          <a:xfrm>
            <a:off x="366840" y="3143160"/>
            <a:ext cx="11458440" cy="2646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3" name="组合 1" descr=""/>
          <p:cNvPicPr/>
          <p:nvPr/>
        </p:nvPicPr>
        <p:blipFill>
          <a:blip r:embed="rId1"/>
          <a:stretch/>
        </p:blipFill>
        <p:spPr>
          <a:xfrm>
            <a:off x="2486160" y="3216240"/>
            <a:ext cx="2133360" cy="2141640"/>
          </a:xfrm>
          <a:prstGeom prst="rect">
            <a:avLst/>
          </a:prstGeom>
          <a:ln w="0">
            <a:noFill/>
          </a:ln>
        </p:spPr>
      </p:pic>
      <p:pic>
        <p:nvPicPr>
          <p:cNvPr id="544" name="组合 5" descr=""/>
          <p:cNvPicPr/>
          <p:nvPr/>
        </p:nvPicPr>
        <p:blipFill>
          <a:blip r:embed="rId2"/>
          <a:stretch/>
        </p:blipFill>
        <p:spPr>
          <a:xfrm>
            <a:off x="3925800" y="1063800"/>
            <a:ext cx="2135160" cy="2141280"/>
          </a:xfrm>
          <a:prstGeom prst="rect">
            <a:avLst/>
          </a:prstGeom>
          <a:ln w="0">
            <a:noFill/>
          </a:ln>
        </p:spPr>
      </p:pic>
      <p:pic>
        <p:nvPicPr>
          <p:cNvPr id="545" name="组合 9" descr=""/>
          <p:cNvPicPr/>
          <p:nvPr/>
        </p:nvPicPr>
        <p:blipFill>
          <a:blip r:embed="rId3"/>
          <a:stretch/>
        </p:blipFill>
        <p:spPr>
          <a:xfrm>
            <a:off x="5372280" y="3216240"/>
            <a:ext cx="2135160" cy="2141640"/>
          </a:xfrm>
          <a:prstGeom prst="rect">
            <a:avLst/>
          </a:prstGeom>
          <a:ln w="0">
            <a:noFill/>
          </a:ln>
        </p:spPr>
      </p:pic>
      <p:pic>
        <p:nvPicPr>
          <p:cNvPr id="546" name="组合 13" descr=""/>
          <p:cNvPicPr/>
          <p:nvPr/>
        </p:nvPicPr>
        <p:blipFill>
          <a:blip r:embed="rId4"/>
          <a:stretch/>
        </p:blipFill>
        <p:spPr>
          <a:xfrm>
            <a:off x="6813720" y="1063800"/>
            <a:ext cx="2133360" cy="2141280"/>
          </a:xfrm>
          <a:prstGeom prst="rect">
            <a:avLst/>
          </a:prstGeom>
          <a:ln w="0">
            <a:noFill/>
          </a:ln>
        </p:spPr>
      </p:pic>
      <p:sp>
        <p:nvSpPr>
          <p:cNvPr id="547" name="矩形 17"/>
          <p:cNvSpPr/>
          <p:nvPr/>
        </p:nvSpPr>
        <p:spPr>
          <a:xfrm>
            <a:off x="1236600" y="2928960"/>
            <a:ext cx="9144000" cy="482400"/>
          </a:xfrm>
          <a:prstGeom prst="rect">
            <a:avLst/>
          </a:prstGeom>
          <a:solidFill>
            <a:srgbClr val="f2f2f2"/>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TextBox 24"/>
          <p:cNvSpPr/>
          <p:nvPr/>
        </p:nvSpPr>
        <p:spPr>
          <a:xfrm>
            <a:off x="3199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9a44"/>
                </a:solidFill>
                <a:latin typeface="Arial Unicode MS"/>
                <a:ea typeface="Arial Unicode MS"/>
              </a:rPr>
              <a:t>01</a:t>
            </a:r>
            <a:endParaRPr b="0" lang="en-US" sz="3600" spc="-1" strike="noStrike">
              <a:solidFill>
                <a:srgbClr val="000000"/>
              </a:solidFill>
              <a:latin typeface="Calibri"/>
            </a:endParaRPr>
          </a:p>
        </p:txBody>
      </p:sp>
      <p:sp>
        <p:nvSpPr>
          <p:cNvPr id="549" name="TextBox 25"/>
          <p:cNvSpPr/>
          <p:nvPr/>
        </p:nvSpPr>
        <p:spPr>
          <a:xfrm>
            <a:off x="33372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9a44"/>
                </a:solidFill>
                <a:latin typeface="Calibri"/>
              </a:rPr>
              <a:t>text</a:t>
            </a:r>
            <a:endParaRPr b="0" lang="en-US" sz="1400" spc="-1" strike="noStrike">
              <a:solidFill>
                <a:srgbClr val="000000"/>
              </a:solidFill>
              <a:latin typeface="Calibri"/>
            </a:endParaRPr>
          </a:p>
        </p:txBody>
      </p:sp>
      <p:sp>
        <p:nvSpPr>
          <p:cNvPr id="550" name="TextBox 26"/>
          <p:cNvSpPr/>
          <p:nvPr/>
        </p:nvSpPr>
        <p:spPr>
          <a:xfrm>
            <a:off x="464184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2</a:t>
            </a:r>
            <a:endParaRPr b="0" lang="en-US" sz="3600" spc="-1" strike="noStrike">
              <a:solidFill>
                <a:srgbClr val="000000"/>
              </a:solidFill>
              <a:latin typeface="Calibri"/>
            </a:endParaRPr>
          </a:p>
        </p:txBody>
      </p:sp>
      <p:sp>
        <p:nvSpPr>
          <p:cNvPr id="551" name="TextBox 27"/>
          <p:cNvSpPr/>
          <p:nvPr/>
        </p:nvSpPr>
        <p:spPr>
          <a:xfrm>
            <a:off x="475884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2" name="TextBox 28"/>
          <p:cNvSpPr/>
          <p:nvPr/>
        </p:nvSpPr>
        <p:spPr>
          <a:xfrm>
            <a:off x="75286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272d"/>
                </a:solidFill>
                <a:latin typeface="Arial Unicode MS"/>
                <a:ea typeface="Arial Unicode MS"/>
              </a:rPr>
              <a:t>04</a:t>
            </a:r>
            <a:endParaRPr b="0" lang="en-US" sz="3600" spc="-1" strike="noStrike">
              <a:solidFill>
                <a:srgbClr val="000000"/>
              </a:solidFill>
              <a:latin typeface="Calibri"/>
            </a:endParaRPr>
          </a:p>
        </p:txBody>
      </p:sp>
      <p:sp>
        <p:nvSpPr>
          <p:cNvPr id="553" name="TextBox 29"/>
          <p:cNvSpPr/>
          <p:nvPr/>
        </p:nvSpPr>
        <p:spPr>
          <a:xfrm>
            <a:off x="7645680" y="260208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text</a:t>
            </a:r>
            <a:endParaRPr b="0" lang="en-US" sz="1400" spc="-1" strike="noStrike">
              <a:solidFill>
                <a:srgbClr val="000000"/>
              </a:solidFill>
              <a:latin typeface="Calibri"/>
            </a:endParaRPr>
          </a:p>
        </p:txBody>
      </p:sp>
      <p:sp>
        <p:nvSpPr>
          <p:cNvPr id="554" name="TextBox 30"/>
          <p:cNvSpPr/>
          <p:nvPr/>
        </p:nvSpPr>
        <p:spPr>
          <a:xfrm>
            <a:off x="6058080" y="28353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839b"/>
                </a:solidFill>
                <a:latin typeface="Arial Unicode MS"/>
                <a:ea typeface="Arial Unicode MS"/>
              </a:rPr>
              <a:t>03</a:t>
            </a:r>
            <a:endParaRPr b="0" lang="en-US" sz="3600" spc="-1" strike="noStrike">
              <a:solidFill>
                <a:srgbClr val="000000"/>
              </a:solidFill>
              <a:latin typeface="Calibri"/>
            </a:endParaRPr>
          </a:p>
        </p:txBody>
      </p:sp>
      <p:sp>
        <p:nvSpPr>
          <p:cNvPr id="555" name="TextBox 31"/>
          <p:cNvSpPr/>
          <p:nvPr/>
        </p:nvSpPr>
        <p:spPr>
          <a:xfrm>
            <a:off x="6195600" y="341640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362c4"/>
                </a:solidFill>
                <a:latin typeface="Calibri"/>
              </a:rPr>
              <a:t>text</a:t>
            </a:r>
            <a:endParaRPr b="0" lang="en-US" sz="1400" spc="-1" strike="noStrike">
              <a:solidFill>
                <a:srgbClr val="000000"/>
              </a:solidFill>
              <a:latin typeface="Calibri"/>
            </a:endParaRPr>
          </a:p>
        </p:txBody>
      </p:sp>
      <p:sp>
        <p:nvSpPr>
          <p:cNvPr id="556" name="矩形 26"/>
          <p:cNvSpPr/>
          <p:nvPr/>
        </p:nvSpPr>
        <p:spPr>
          <a:xfrm>
            <a:off x="326232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7" name="矩形 27"/>
          <p:cNvSpPr/>
          <p:nvPr/>
        </p:nvSpPr>
        <p:spPr>
          <a:xfrm>
            <a:off x="471636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58" name="矩形 28"/>
          <p:cNvSpPr/>
          <p:nvPr/>
        </p:nvSpPr>
        <p:spPr>
          <a:xfrm>
            <a:off x="6148440" y="480528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335c"/>
                </a:solidFill>
                <a:latin typeface="Calibri"/>
              </a:rPr>
              <a:t>Text</a:t>
            </a:r>
            <a:endParaRPr b="0" lang="en-US" sz="1800" spc="-1" strike="noStrike">
              <a:solidFill>
                <a:srgbClr val="000000"/>
              </a:solidFill>
              <a:latin typeface="Calibri"/>
            </a:endParaRPr>
          </a:p>
        </p:txBody>
      </p:sp>
      <p:sp>
        <p:nvSpPr>
          <p:cNvPr id="559" name="矩形 29"/>
          <p:cNvSpPr/>
          <p:nvPr/>
        </p:nvSpPr>
        <p:spPr>
          <a:xfrm>
            <a:off x="7591320" y="1158840"/>
            <a:ext cx="5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560" name="文本框 30"/>
          <p:cNvSpPr/>
          <p:nvPr/>
        </p:nvSpPr>
        <p:spPr>
          <a:xfrm>
            <a:off x="7910640" y="4268880"/>
            <a:ext cx="25574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点击此处添加文字说明</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此处添加文字说明</a:t>
            </a:r>
            <a:endParaRPr b="0" lang="en-US" sz="1600" spc="-1" strike="noStrike">
              <a:solidFill>
                <a:srgbClr val="000000"/>
              </a:solidFill>
              <a:latin typeface="Calibri"/>
            </a:endParaRPr>
          </a:p>
        </p:txBody>
      </p:sp>
      <p:sp>
        <p:nvSpPr>
          <p:cNvPr id="561" name="文本框 31"/>
          <p:cNvSpPr/>
          <p:nvPr/>
        </p:nvSpPr>
        <p:spPr>
          <a:xfrm>
            <a:off x="7910640" y="37465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添加标题</a:t>
            </a:r>
            <a:endParaRPr b="0" lang="en-US" sz="2800" spc="-1" strike="noStrike">
              <a:solidFill>
                <a:srgbClr val="000000"/>
              </a:solidFill>
              <a:latin typeface="Calibri"/>
            </a:endParaRPr>
          </a:p>
        </p:txBody>
      </p:sp>
      <p:sp>
        <p:nvSpPr>
          <p:cNvPr id="562" name="Freeform 5"/>
          <p:cNvSpPr/>
          <p:nvPr/>
        </p:nvSpPr>
        <p:spPr>
          <a:xfrm>
            <a:off x="4778280" y="1943280"/>
            <a:ext cx="457200" cy="439560"/>
          </a:xfrm>
          <a:custGeom>
            <a:avLst/>
            <a:gdLst/>
            <a:ahLst/>
            <a:rect l="l" t="t" r="r" b="b"/>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0983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Freeform 9"/>
          <p:cNvSpPr/>
          <p:nvPr/>
        </p:nvSpPr>
        <p:spPr>
          <a:xfrm>
            <a:off x="3352680" y="3902040"/>
            <a:ext cx="482760" cy="476280"/>
          </a:xfrm>
          <a:custGeom>
            <a:avLst/>
            <a:gdLst/>
            <a:ahLst/>
            <a:rect l="l" t="t" r="r" b="b"/>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179a4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Freeform 13"/>
          <p:cNvSpPr/>
          <p:nvPr/>
        </p:nvSpPr>
        <p:spPr>
          <a:xfrm>
            <a:off x="6261120" y="4006800"/>
            <a:ext cx="403200" cy="401760"/>
          </a:xfrm>
          <a:custGeom>
            <a:avLst/>
            <a:gdLst/>
            <a:ahLst/>
            <a:rect l="l" t="t" r="r" b="b"/>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a362c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Freeform 17"/>
          <p:cNvSpPr/>
          <p:nvPr/>
        </p:nvSpPr>
        <p:spPr>
          <a:xfrm>
            <a:off x="7684920" y="2022480"/>
            <a:ext cx="451080" cy="326880"/>
          </a:xfrm>
          <a:custGeom>
            <a:avLst/>
            <a:gdLst/>
            <a:ahLst/>
            <a:rect l="l" t="t" r="r" b="b"/>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c027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十字箭头 6"/>
          <p:cNvSpPr/>
          <p:nvPr/>
        </p:nvSpPr>
        <p:spPr>
          <a:xfrm>
            <a:off x="925560" y="1133640"/>
            <a:ext cx="4592520" cy="4590720"/>
          </a:xfrm>
          <a:custGeom>
            <a:avLst/>
            <a:gdLst/>
            <a:ahLst/>
            <a:rect l="l" t="t" r="r" b="b"/>
            <a:pathLst>
              <a:path w="4592637" h="4591050">
                <a:moveTo>
                  <a:pt x="0" y="2295525"/>
                </a:moveTo>
                <a:lnTo>
                  <a:pt x="229552" y="2111883"/>
                </a:lnTo>
                <a:lnTo>
                  <a:pt x="229552" y="2249614"/>
                </a:lnTo>
                <a:lnTo>
                  <a:pt x="2250408" y="2249614"/>
                </a:lnTo>
                <a:lnTo>
                  <a:pt x="2250408" y="229552"/>
                </a:lnTo>
                <a:lnTo>
                  <a:pt x="2112676" y="229552"/>
                </a:lnTo>
                <a:lnTo>
                  <a:pt x="2296318" y="0"/>
                </a:lnTo>
                <a:lnTo>
                  <a:pt x="2479960" y="229552"/>
                </a:lnTo>
                <a:lnTo>
                  <a:pt x="2342229" y="229552"/>
                </a:lnTo>
                <a:lnTo>
                  <a:pt x="2342229" y="2249614"/>
                </a:lnTo>
                <a:lnTo>
                  <a:pt x="4363085" y="2249614"/>
                </a:lnTo>
                <a:lnTo>
                  <a:pt x="4363085" y="2111883"/>
                </a:lnTo>
                <a:lnTo>
                  <a:pt x="4592637" y="2295525"/>
                </a:lnTo>
                <a:lnTo>
                  <a:pt x="4363085" y="2479167"/>
                </a:lnTo>
                <a:lnTo>
                  <a:pt x="4363085" y="2341435"/>
                </a:lnTo>
                <a:lnTo>
                  <a:pt x="2342229" y="2341435"/>
                </a:lnTo>
                <a:lnTo>
                  <a:pt x="2342229" y="4361497"/>
                </a:lnTo>
                <a:lnTo>
                  <a:pt x="2479960" y="4361497"/>
                </a:lnTo>
                <a:lnTo>
                  <a:pt x="2296318" y="4591050"/>
                </a:lnTo>
                <a:lnTo>
                  <a:pt x="2112676" y="4361497"/>
                </a:lnTo>
                <a:lnTo>
                  <a:pt x="2250408" y="4361497"/>
                </a:lnTo>
                <a:lnTo>
                  <a:pt x="2250408" y="2341435"/>
                </a:lnTo>
                <a:lnTo>
                  <a:pt x="229552" y="2341435"/>
                </a:lnTo>
                <a:lnTo>
                  <a:pt x="229552" y="2479167"/>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任意多边形 7"/>
          <p:cNvSpPr/>
          <p:nvPr/>
        </p:nvSpPr>
        <p:spPr>
          <a:xfrm>
            <a:off x="122400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a362c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8" name="任意多边形 8"/>
          <p:cNvSpPr/>
          <p:nvPr/>
        </p:nvSpPr>
        <p:spPr>
          <a:xfrm>
            <a:off x="3381480" y="143208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aaf3b"/>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69" name="任意多边形 9"/>
          <p:cNvSpPr/>
          <p:nvPr/>
        </p:nvSpPr>
        <p:spPr>
          <a:xfrm>
            <a:off x="122400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f05a2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0" name="任意多边形 10"/>
          <p:cNvSpPr/>
          <p:nvPr/>
        </p:nvSpPr>
        <p:spPr>
          <a:xfrm>
            <a:off x="3381480" y="3589200"/>
            <a:ext cx="1836720" cy="1836720"/>
          </a:xfrm>
          <a:custGeom>
            <a:avLst/>
            <a:gdLst/>
            <a:ahLst/>
            <a:rect l="l" t="t" r="r" b="b"/>
            <a:pathLst>
              <a:path w="2167466" h="2167466">
                <a:moveTo>
                  <a:pt x="0" y="361252"/>
                </a:moveTo>
                <a:cubicBezTo>
                  <a:pt x="0" y="161738"/>
                  <a:pt x="161738" y="0"/>
                  <a:pt x="361252" y="0"/>
                </a:cubicBezTo>
                <a:lnTo>
                  <a:pt x="1806214" y="0"/>
                </a:lnTo>
                <a:cubicBezTo>
                  <a:pt x="2005728" y="0"/>
                  <a:pt x="2167466" y="161738"/>
                  <a:pt x="2167466" y="361252"/>
                </a:cubicBezTo>
                <a:lnTo>
                  <a:pt x="2167466" y="1806214"/>
                </a:lnTo>
                <a:cubicBezTo>
                  <a:pt x="2167466" y="2005728"/>
                  <a:pt x="2005728" y="2167466"/>
                  <a:pt x="1806214" y="2167466"/>
                </a:cubicBezTo>
                <a:lnTo>
                  <a:pt x="361252" y="2167466"/>
                </a:lnTo>
                <a:cubicBezTo>
                  <a:pt x="161738" y="2167466"/>
                  <a:pt x="0" y="2005728"/>
                  <a:pt x="0" y="1806214"/>
                </a:cubicBezTo>
                <a:lnTo>
                  <a:pt x="0" y="361252"/>
                </a:lnTo>
                <a:close/>
              </a:path>
            </a:pathLst>
          </a:custGeom>
          <a:solidFill>
            <a:srgbClr val="179a44"/>
          </a:solidFill>
          <a:ln w="12600">
            <a:solidFill>
              <a:srgbClr val="ffffff"/>
            </a:solidFill>
            <a:miter/>
          </a:ln>
        </p:spPr>
        <p:style>
          <a:lnRef idx="0"/>
          <a:fillRef idx="0"/>
          <a:effectRef idx="0"/>
          <a:fontRef idx="minor"/>
        </p:style>
        <p:txBody>
          <a:bodyPr lIns="284760" rIns="284760" tIns="284760" bIns="284760" anchor="ctr">
            <a:noAutofit/>
          </a:bodyPr>
          <a:p>
            <a:pPr algn="ctr">
              <a:lnSpc>
                <a:spcPct val="90000"/>
              </a:lnSpc>
              <a:spcAft>
                <a:spcPts val="1925"/>
              </a:spcAft>
              <a:tabLst>
                <a:tab algn="l" pos="0"/>
                <a:tab algn="l" pos="2089080"/>
                <a:tab algn="l" pos="4178160"/>
                <a:tab algn="l" pos="6267600"/>
                <a:tab algn="l" pos="8356680"/>
                <a:tab algn="l" pos="10445760"/>
              </a:tabLst>
            </a:pPr>
            <a:endParaRPr b="0" lang="en-US" sz="1800" spc="-1" strike="noStrike">
              <a:solidFill>
                <a:srgbClr val="000000"/>
              </a:solidFill>
              <a:latin typeface="Calibri"/>
            </a:endParaRPr>
          </a:p>
        </p:txBody>
      </p:sp>
      <p:sp>
        <p:nvSpPr>
          <p:cNvPr id="571" name="KSO_Shape"/>
          <p:cNvSpPr/>
          <p:nvPr/>
        </p:nvSpPr>
        <p:spPr>
          <a:xfrm>
            <a:off x="1835280" y="3909960"/>
            <a:ext cx="612720" cy="10177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KSO_Shape"/>
          <p:cNvSpPr/>
          <p:nvPr/>
        </p:nvSpPr>
        <p:spPr>
          <a:xfrm>
            <a:off x="1649520" y="1731960"/>
            <a:ext cx="1017360" cy="98892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KSO_Shape"/>
          <p:cNvSpPr/>
          <p:nvPr/>
        </p:nvSpPr>
        <p:spPr>
          <a:xfrm>
            <a:off x="3900600" y="3909960"/>
            <a:ext cx="799920" cy="101772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KSO_Shape"/>
          <p:cNvSpPr/>
          <p:nvPr/>
        </p:nvSpPr>
        <p:spPr>
          <a:xfrm>
            <a:off x="3760920" y="1717560"/>
            <a:ext cx="1015920" cy="101772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文本框 19"/>
          <p:cNvSpPr/>
          <p:nvPr/>
        </p:nvSpPr>
        <p:spPr>
          <a:xfrm>
            <a:off x="168084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6" name="文本框 20"/>
          <p:cNvSpPr/>
          <p:nvPr/>
        </p:nvSpPr>
        <p:spPr>
          <a:xfrm>
            <a:off x="3760560" y="281304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7" name="文本框 21"/>
          <p:cNvSpPr/>
          <p:nvPr/>
        </p:nvSpPr>
        <p:spPr>
          <a:xfrm>
            <a:off x="37915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8" name="文本框 22"/>
          <p:cNvSpPr/>
          <p:nvPr/>
        </p:nvSpPr>
        <p:spPr>
          <a:xfrm>
            <a:off x="1618920" y="498960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KEYWORD</a:t>
            </a:r>
            <a:endParaRPr b="0" lang="en-US" sz="1600" spc="-1" strike="noStrike">
              <a:solidFill>
                <a:srgbClr val="000000"/>
              </a:solidFill>
              <a:latin typeface="Calibri"/>
            </a:endParaRPr>
          </a:p>
        </p:txBody>
      </p:sp>
      <p:sp>
        <p:nvSpPr>
          <p:cNvPr id="579" name="KSO_Shape"/>
          <p:cNvSpPr/>
          <p:nvPr/>
        </p:nvSpPr>
        <p:spPr>
          <a:xfrm>
            <a:off x="6488280" y="145080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文本框 26"/>
          <p:cNvSpPr/>
          <p:nvPr/>
        </p:nvSpPr>
        <p:spPr>
          <a:xfrm>
            <a:off x="7002000" y="13939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62c4"/>
                </a:solidFill>
                <a:latin typeface="微软雅黑"/>
                <a:ea typeface="微软雅黑"/>
              </a:rPr>
              <a:t>KEYWORD</a:t>
            </a:r>
            <a:endParaRPr b="0" lang="en-US" sz="1800" spc="-1" strike="noStrike">
              <a:solidFill>
                <a:srgbClr val="000000"/>
              </a:solidFill>
              <a:latin typeface="Calibri"/>
            </a:endParaRPr>
          </a:p>
        </p:txBody>
      </p:sp>
      <p:sp>
        <p:nvSpPr>
          <p:cNvPr id="581" name="TextBox 15"/>
          <p:cNvSpPr/>
          <p:nvPr/>
        </p:nvSpPr>
        <p:spPr>
          <a:xfrm>
            <a:off x="6961320" y="16653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2" name="KSO_Shape"/>
          <p:cNvSpPr/>
          <p:nvPr/>
        </p:nvSpPr>
        <p:spPr>
          <a:xfrm>
            <a:off x="6488280" y="2558880"/>
            <a:ext cx="473040" cy="47340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文本框 36"/>
          <p:cNvSpPr/>
          <p:nvPr/>
        </p:nvSpPr>
        <p:spPr>
          <a:xfrm>
            <a:off x="7002000" y="25034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af3b"/>
                </a:solidFill>
                <a:latin typeface="微软雅黑"/>
                <a:ea typeface="微软雅黑"/>
              </a:rPr>
              <a:t>KEYWORD</a:t>
            </a:r>
            <a:endParaRPr b="0" lang="en-US" sz="1800" spc="-1" strike="noStrike">
              <a:solidFill>
                <a:srgbClr val="000000"/>
              </a:solidFill>
              <a:latin typeface="Calibri"/>
            </a:endParaRPr>
          </a:p>
        </p:txBody>
      </p:sp>
      <p:sp>
        <p:nvSpPr>
          <p:cNvPr id="584" name="TextBox 15"/>
          <p:cNvSpPr/>
          <p:nvPr/>
        </p:nvSpPr>
        <p:spPr>
          <a:xfrm>
            <a:off x="6961320" y="277488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5" name="KSO_Shape"/>
          <p:cNvSpPr/>
          <p:nvPr/>
        </p:nvSpPr>
        <p:spPr>
          <a:xfrm>
            <a:off x="6488280" y="3666960"/>
            <a:ext cx="473040" cy="4748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6" name="文本框 40"/>
          <p:cNvSpPr/>
          <p:nvPr/>
        </p:nvSpPr>
        <p:spPr>
          <a:xfrm>
            <a:off x="7002000" y="36115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9a44"/>
                </a:solidFill>
                <a:latin typeface="微软雅黑"/>
                <a:ea typeface="微软雅黑"/>
              </a:rPr>
              <a:t>KEYWORD</a:t>
            </a:r>
            <a:endParaRPr b="0" lang="en-US" sz="1800" spc="-1" strike="noStrike">
              <a:solidFill>
                <a:srgbClr val="000000"/>
              </a:solidFill>
              <a:latin typeface="Calibri"/>
            </a:endParaRPr>
          </a:p>
        </p:txBody>
      </p:sp>
      <p:sp>
        <p:nvSpPr>
          <p:cNvPr id="587" name="TextBox 15"/>
          <p:cNvSpPr/>
          <p:nvPr/>
        </p:nvSpPr>
        <p:spPr>
          <a:xfrm>
            <a:off x="6961320" y="388296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588" name="KSO_Shape"/>
          <p:cNvSpPr/>
          <p:nvPr/>
        </p:nvSpPr>
        <p:spPr>
          <a:xfrm>
            <a:off x="6488280" y="4776840"/>
            <a:ext cx="473040" cy="473040"/>
          </a:xfrm>
          <a:custGeom>
            <a:avLst/>
            <a:gdLst/>
            <a:ahLst/>
            <a:rect l="l" t="t" r="r" b="b"/>
            <a:pathLst>
              <a:path w="720080" h="720080">
                <a:moveTo>
                  <a:pt x="422617" y="167125"/>
                </a:moveTo>
                <a:cubicBezTo>
                  <a:pt x="411652" y="167125"/>
                  <a:pt x="400686" y="171308"/>
                  <a:pt x="392320" y="179675"/>
                </a:cubicBezTo>
                <a:cubicBezTo>
                  <a:pt x="375587" y="196408"/>
                  <a:pt x="375587" y="223537"/>
                  <a:pt x="392320" y="240270"/>
                </a:cubicBezTo>
                <a:lnTo>
                  <a:pt x="470117" y="318067"/>
                </a:lnTo>
                <a:lnTo>
                  <a:pt x="151276" y="318067"/>
                </a:lnTo>
                <a:cubicBezTo>
                  <a:pt x="127612" y="318067"/>
                  <a:pt x="108429" y="337251"/>
                  <a:pt x="108429" y="360915"/>
                </a:cubicBezTo>
                <a:cubicBezTo>
                  <a:pt x="108429" y="384578"/>
                  <a:pt x="127612" y="403762"/>
                  <a:pt x="151276" y="403762"/>
                </a:cubicBezTo>
                <a:lnTo>
                  <a:pt x="467182" y="403762"/>
                </a:lnTo>
                <a:lnTo>
                  <a:pt x="391132" y="479811"/>
                </a:lnTo>
                <a:cubicBezTo>
                  <a:pt x="374399" y="496544"/>
                  <a:pt x="374399" y="523674"/>
                  <a:pt x="391132" y="540406"/>
                </a:cubicBezTo>
                <a:cubicBezTo>
                  <a:pt x="407865" y="557139"/>
                  <a:pt x="434994" y="557139"/>
                  <a:pt x="451727" y="540406"/>
                </a:cubicBezTo>
                <a:lnTo>
                  <a:pt x="597086" y="395048"/>
                </a:lnTo>
                <a:cubicBezTo>
                  <a:pt x="599177" y="392957"/>
                  <a:pt x="601484" y="390703"/>
                  <a:pt x="603450" y="388459"/>
                </a:cubicBezTo>
                <a:lnTo>
                  <a:pt x="605656" y="385654"/>
                </a:lnTo>
                <a:lnTo>
                  <a:pt x="607314" y="381802"/>
                </a:lnTo>
                <a:cubicBezTo>
                  <a:pt x="610052" y="375572"/>
                  <a:pt x="611651" y="368060"/>
                  <a:pt x="611651" y="359975"/>
                </a:cubicBezTo>
                <a:cubicBezTo>
                  <a:pt x="611651" y="351890"/>
                  <a:pt x="610052" y="344378"/>
                  <a:pt x="607314" y="338148"/>
                </a:cubicBezTo>
                <a:lnTo>
                  <a:pt x="604581" y="333055"/>
                </a:lnTo>
                <a:lnTo>
                  <a:pt x="603896" y="331821"/>
                </a:lnTo>
                <a:cubicBezTo>
                  <a:pt x="602248" y="329405"/>
                  <a:pt x="600365" y="327125"/>
                  <a:pt x="598273" y="325033"/>
                </a:cubicBezTo>
                <a:lnTo>
                  <a:pt x="452915" y="179675"/>
                </a:lnTo>
                <a:cubicBezTo>
                  <a:pt x="444548" y="171308"/>
                  <a:pt x="433583" y="167125"/>
                  <a:pt x="422617" y="167125"/>
                </a:cubicBezTo>
                <a:close/>
                <a:moveTo>
                  <a:pt x="360040" y="0"/>
                </a:moveTo>
                <a:cubicBezTo>
                  <a:pt x="558885" y="0"/>
                  <a:pt x="720080" y="161195"/>
                  <a:pt x="720080" y="360040"/>
                </a:cubicBezTo>
                <a:cubicBezTo>
                  <a:pt x="720080" y="558885"/>
                  <a:pt x="558885" y="720080"/>
                  <a:pt x="360040" y="720080"/>
                </a:cubicBezTo>
                <a:cubicBezTo>
                  <a:pt x="161195" y="720080"/>
                  <a:pt x="0" y="558885"/>
                  <a:pt x="0" y="360040"/>
                </a:cubicBezTo>
                <a:cubicBezTo>
                  <a:pt x="0" y="161195"/>
                  <a:pt x="161195" y="0"/>
                  <a:pt x="360040" y="0"/>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9" name="文本框 44"/>
          <p:cNvSpPr/>
          <p:nvPr/>
        </p:nvSpPr>
        <p:spPr>
          <a:xfrm>
            <a:off x="7002000" y="471960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5a24"/>
                </a:solidFill>
                <a:latin typeface="微软雅黑"/>
                <a:ea typeface="微软雅黑"/>
              </a:rPr>
              <a:t>KEYWORD</a:t>
            </a:r>
            <a:endParaRPr b="0" lang="en-US" sz="1800" spc="-1" strike="noStrike">
              <a:solidFill>
                <a:srgbClr val="000000"/>
              </a:solidFill>
              <a:latin typeface="Calibri"/>
            </a:endParaRPr>
          </a:p>
        </p:txBody>
      </p:sp>
      <p:sp>
        <p:nvSpPr>
          <p:cNvPr id="590" name="TextBox 15"/>
          <p:cNvSpPr/>
          <p:nvPr/>
        </p:nvSpPr>
        <p:spPr>
          <a:xfrm>
            <a:off x="6961320" y="4991040"/>
            <a:ext cx="4305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直接连接符 3"/>
          <p:cNvSpPr/>
          <p:nvPr/>
        </p:nvSpPr>
        <p:spPr>
          <a:xfrm>
            <a:off x="1012680" y="4397400"/>
            <a:ext cx="10166400" cy="0"/>
          </a:xfrm>
          <a:prstGeom prst="line">
            <a:avLst/>
          </a:prstGeom>
          <a:ln w="12600">
            <a:solidFill>
              <a:srgbClr val="09839b"/>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92" name="组合 14" descr=""/>
          <p:cNvPicPr/>
          <p:nvPr/>
        </p:nvPicPr>
        <p:blipFill>
          <a:blip r:embed="rId1"/>
          <a:stretch/>
        </p:blipFill>
        <p:spPr>
          <a:xfrm>
            <a:off x="1622520" y="2593800"/>
            <a:ext cx="1251000" cy="2459160"/>
          </a:xfrm>
          <a:prstGeom prst="rect">
            <a:avLst/>
          </a:prstGeom>
          <a:ln w="0">
            <a:noFill/>
          </a:ln>
        </p:spPr>
      </p:pic>
      <p:pic>
        <p:nvPicPr>
          <p:cNvPr id="593" name="组合 15" descr=""/>
          <p:cNvPicPr/>
          <p:nvPr/>
        </p:nvPicPr>
        <p:blipFill>
          <a:blip r:embed="rId2"/>
          <a:stretch/>
        </p:blipFill>
        <p:spPr>
          <a:xfrm>
            <a:off x="3714840" y="1660680"/>
            <a:ext cx="1971720" cy="3392280"/>
          </a:xfrm>
          <a:prstGeom prst="rect">
            <a:avLst/>
          </a:prstGeom>
          <a:ln w="0">
            <a:noFill/>
          </a:ln>
        </p:spPr>
      </p:pic>
      <p:pic>
        <p:nvPicPr>
          <p:cNvPr id="594" name="组合 16" descr=""/>
          <p:cNvPicPr/>
          <p:nvPr/>
        </p:nvPicPr>
        <p:blipFill>
          <a:blip r:embed="rId3"/>
          <a:stretch/>
        </p:blipFill>
        <p:spPr>
          <a:xfrm>
            <a:off x="6489720" y="1660680"/>
            <a:ext cx="1968480" cy="3392280"/>
          </a:xfrm>
          <a:prstGeom prst="rect">
            <a:avLst/>
          </a:prstGeom>
          <a:ln w="0">
            <a:noFill/>
          </a:ln>
        </p:spPr>
      </p:pic>
      <p:pic>
        <p:nvPicPr>
          <p:cNvPr id="595" name="组合 21" descr=""/>
          <p:cNvPicPr/>
          <p:nvPr/>
        </p:nvPicPr>
        <p:blipFill>
          <a:blip r:embed="rId4"/>
          <a:stretch/>
        </p:blipFill>
        <p:spPr>
          <a:xfrm>
            <a:off x="9282240" y="2593800"/>
            <a:ext cx="1251000" cy="2459160"/>
          </a:xfrm>
          <a:prstGeom prst="rect">
            <a:avLst/>
          </a:prstGeom>
          <a:ln w="0">
            <a:noFill/>
          </a:ln>
        </p:spPr>
      </p:pic>
      <p:sp>
        <p:nvSpPr>
          <p:cNvPr id="596" name="KSO_Shape"/>
          <p:cNvSpPr/>
          <p:nvPr/>
        </p:nvSpPr>
        <p:spPr>
          <a:xfrm>
            <a:off x="9655200" y="2857680"/>
            <a:ext cx="504720" cy="839520"/>
          </a:xfrm>
          <a:custGeom>
            <a:avLst/>
            <a:gdLst/>
            <a:ahLst/>
            <a:rect l="l" t="t" r="r" b="b"/>
            <a:pathLst>
              <a:path w="1536700" h="2555648">
                <a:moveTo>
                  <a:pt x="588566" y="2172931"/>
                </a:moveTo>
                <a:lnTo>
                  <a:pt x="588566" y="2232462"/>
                </a:lnTo>
                <a:lnTo>
                  <a:pt x="948135" y="2232462"/>
                </a:lnTo>
                <a:lnTo>
                  <a:pt x="948135" y="2172931"/>
                </a:lnTo>
                <a:close/>
                <a:moveTo>
                  <a:pt x="588566" y="2014319"/>
                </a:moveTo>
                <a:lnTo>
                  <a:pt x="588566" y="2073850"/>
                </a:lnTo>
                <a:lnTo>
                  <a:pt x="948135" y="2073850"/>
                </a:lnTo>
                <a:lnTo>
                  <a:pt x="948135" y="2014319"/>
                </a:lnTo>
                <a:close/>
                <a:moveTo>
                  <a:pt x="439655" y="1865655"/>
                </a:moveTo>
                <a:lnTo>
                  <a:pt x="1097045" y="1865655"/>
                </a:lnTo>
                <a:cubicBezTo>
                  <a:pt x="1147961" y="1865655"/>
                  <a:pt x="1189236" y="1904861"/>
                  <a:pt x="1189236" y="1953225"/>
                </a:cubicBezTo>
                <a:cubicBezTo>
                  <a:pt x="1189236" y="2001589"/>
                  <a:pt x="1147961" y="2040795"/>
                  <a:pt x="1097045" y="2040795"/>
                </a:cubicBezTo>
                <a:cubicBezTo>
                  <a:pt x="1147961" y="2040795"/>
                  <a:pt x="1189236" y="2080001"/>
                  <a:pt x="1189236" y="2128365"/>
                </a:cubicBezTo>
                <a:cubicBezTo>
                  <a:pt x="1189236" y="2176729"/>
                  <a:pt x="1147961" y="2215935"/>
                  <a:pt x="1097045" y="2215935"/>
                </a:cubicBezTo>
                <a:cubicBezTo>
                  <a:pt x="1147961" y="2215935"/>
                  <a:pt x="1189236" y="2255141"/>
                  <a:pt x="1189236" y="2303505"/>
                </a:cubicBezTo>
                <a:cubicBezTo>
                  <a:pt x="1189236" y="2351869"/>
                  <a:pt x="1147961" y="2391075"/>
                  <a:pt x="1097045" y="2391075"/>
                </a:cubicBezTo>
                <a:lnTo>
                  <a:pt x="948071" y="2391075"/>
                </a:lnTo>
                <a:lnTo>
                  <a:pt x="937297" y="2444188"/>
                </a:lnTo>
                <a:cubicBezTo>
                  <a:pt x="909462" y="2509689"/>
                  <a:pt x="844299" y="2555648"/>
                  <a:pt x="768350" y="2555648"/>
                </a:cubicBezTo>
                <a:cubicBezTo>
                  <a:pt x="692402" y="2555648"/>
                  <a:pt x="627238" y="2509689"/>
                  <a:pt x="599403" y="2444188"/>
                </a:cubicBezTo>
                <a:lnTo>
                  <a:pt x="588630" y="2391075"/>
                </a:lnTo>
                <a:lnTo>
                  <a:pt x="439655" y="2391075"/>
                </a:lnTo>
                <a:cubicBezTo>
                  <a:pt x="388739" y="2391075"/>
                  <a:pt x="347464" y="2351869"/>
                  <a:pt x="347464" y="2303505"/>
                </a:cubicBezTo>
                <a:cubicBezTo>
                  <a:pt x="347464" y="2255141"/>
                  <a:pt x="388739" y="2215935"/>
                  <a:pt x="439655" y="2215935"/>
                </a:cubicBezTo>
                <a:cubicBezTo>
                  <a:pt x="388739" y="2215935"/>
                  <a:pt x="347464" y="2176729"/>
                  <a:pt x="347464" y="2128365"/>
                </a:cubicBezTo>
                <a:cubicBezTo>
                  <a:pt x="347464" y="2080001"/>
                  <a:pt x="388739" y="2040795"/>
                  <a:pt x="439655" y="2040795"/>
                </a:cubicBezTo>
                <a:cubicBezTo>
                  <a:pt x="388739" y="2040795"/>
                  <a:pt x="347464" y="2001589"/>
                  <a:pt x="347464" y="1953225"/>
                </a:cubicBezTo>
                <a:cubicBezTo>
                  <a:pt x="347464" y="1904861"/>
                  <a:pt x="388739" y="1865655"/>
                  <a:pt x="439655" y="1865655"/>
                </a:cubicBezTo>
                <a:close/>
                <a:moveTo>
                  <a:pt x="768350" y="0"/>
                </a:moveTo>
                <a:cubicBezTo>
                  <a:pt x="1192698" y="0"/>
                  <a:pt x="1536700" y="344894"/>
                  <a:pt x="1536700" y="770343"/>
                </a:cubicBezTo>
                <a:cubicBezTo>
                  <a:pt x="1536700" y="823524"/>
                  <a:pt x="1531325" y="875447"/>
                  <a:pt x="1521090" y="925594"/>
                </a:cubicBezTo>
                <a:lnTo>
                  <a:pt x="1491688" y="1020556"/>
                </a:lnTo>
                <a:lnTo>
                  <a:pt x="1491950" y="1020556"/>
                </a:lnTo>
                <a:lnTo>
                  <a:pt x="1140478" y="1823920"/>
                </a:lnTo>
                <a:lnTo>
                  <a:pt x="396222" y="1823920"/>
                </a:lnTo>
                <a:lnTo>
                  <a:pt x="44750" y="1020556"/>
                </a:lnTo>
                <a:lnTo>
                  <a:pt x="45012" y="1020556"/>
                </a:lnTo>
                <a:lnTo>
                  <a:pt x="15610" y="925594"/>
                </a:lnTo>
                <a:cubicBezTo>
                  <a:pt x="5375" y="875447"/>
                  <a:pt x="0" y="823524"/>
                  <a:pt x="0" y="770343"/>
                </a:cubicBezTo>
                <a:cubicBezTo>
                  <a:pt x="0" y="344894"/>
                  <a:pt x="344002" y="0"/>
                  <a:pt x="76835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KSO_Shape"/>
          <p:cNvSpPr/>
          <p:nvPr/>
        </p:nvSpPr>
        <p:spPr>
          <a:xfrm>
            <a:off x="1832040" y="2873520"/>
            <a:ext cx="839880" cy="815760"/>
          </a:xfrm>
          <a:custGeom>
            <a:avLst/>
            <a:gdLst/>
            <a:ahLst/>
            <a:rect l="l" t="t" r="r" b="b"/>
            <a:pathLst>
              <a:path w="4656" h="4524">
                <a:moveTo>
                  <a:pt x="3336" y="0"/>
                </a:moveTo>
                <a:lnTo>
                  <a:pt x="3336" y="0"/>
                </a:lnTo>
                <a:lnTo>
                  <a:pt x="3295" y="0"/>
                </a:lnTo>
                <a:lnTo>
                  <a:pt x="3256" y="3"/>
                </a:lnTo>
                <a:lnTo>
                  <a:pt x="3217" y="5"/>
                </a:lnTo>
                <a:lnTo>
                  <a:pt x="3179" y="9"/>
                </a:lnTo>
                <a:lnTo>
                  <a:pt x="3142" y="14"/>
                </a:lnTo>
                <a:lnTo>
                  <a:pt x="3103" y="21"/>
                </a:lnTo>
                <a:lnTo>
                  <a:pt x="3068" y="28"/>
                </a:lnTo>
                <a:lnTo>
                  <a:pt x="3031" y="37"/>
                </a:lnTo>
                <a:lnTo>
                  <a:pt x="2995" y="46"/>
                </a:lnTo>
                <a:lnTo>
                  <a:pt x="2960" y="57"/>
                </a:lnTo>
                <a:lnTo>
                  <a:pt x="2926" y="68"/>
                </a:lnTo>
                <a:lnTo>
                  <a:pt x="2892" y="81"/>
                </a:lnTo>
                <a:lnTo>
                  <a:pt x="2859" y="95"/>
                </a:lnTo>
                <a:lnTo>
                  <a:pt x="2825" y="110"/>
                </a:lnTo>
                <a:lnTo>
                  <a:pt x="2793" y="125"/>
                </a:lnTo>
                <a:lnTo>
                  <a:pt x="2762" y="141"/>
                </a:lnTo>
                <a:lnTo>
                  <a:pt x="2730" y="160"/>
                </a:lnTo>
                <a:lnTo>
                  <a:pt x="2699" y="177"/>
                </a:lnTo>
                <a:lnTo>
                  <a:pt x="2669" y="197"/>
                </a:lnTo>
                <a:lnTo>
                  <a:pt x="2640" y="217"/>
                </a:lnTo>
                <a:lnTo>
                  <a:pt x="2610" y="238"/>
                </a:lnTo>
                <a:lnTo>
                  <a:pt x="2582" y="260"/>
                </a:lnTo>
                <a:lnTo>
                  <a:pt x="2555" y="282"/>
                </a:lnTo>
                <a:lnTo>
                  <a:pt x="2527" y="306"/>
                </a:lnTo>
                <a:lnTo>
                  <a:pt x="2500" y="331"/>
                </a:lnTo>
                <a:lnTo>
                  <a:pt x="2474" y="355"/>
                </a:lnTo>
                <a:lnTo>
                  <a:pt x="2448" y="381"/>
                </a:lnTo>
                <a:lnTo>
                  <a:pt x="2423" y="408"/>
                </a:lnTo>
                <a:lnTo>
                  <a:pt x="2399" y="435"/>
                </a:lnTo>
                <a:lnTo>
                  <a:pt x="2375" y="462"/>
                </a:lnTo>
                <a:lnTo>
                  <a:pt x="2351" y="491"/>
                </a:lnTo>
                <a:lnTo>
                  <a:pt x="2328" y="520"/>
                </a:lnTo>
                <a:lnTo>
                  <a:pt x="2305" y="491"/>
                </a:lnTo>
                <a:lnTo>
                  <a:pt x="2282" y="462"/>
                </a:lnTo>
                <a:lnTo>
                  <a:pt x="2258" y="435"/>
                </a:lnTo>
                <a:lnTo>
                  <a:pt x="2232" y="408"/>
                </a:lnTo>
                <a:lnTo>
                  <a:pt x="2208" y="381"/>
                </a:lnTo>
                <a:lnTo>
                  <a:pt x="2182" y="355"/>
                </a:lnTo>
                <a:lnTo>
                  <a:pt x="2156" y="331"/>
                </a:lnTo>
                <a:lnTo>
                  <a:pt x="2129" y="306"/>
                </a:lnTo>
                <a:lnTo>
                  <a:pt x="2102" y="282"/>
                </a:lnTo>
                <a:lnTo>
                  <a:pt x="2074" y="260"/>
                </a:lnTo>
                <a:lnTo>
                  <a:pt x="2045" y="238"/>
                </a:lnTo>
                <a:lnTo>
                  <a:pt x="2016" y="217"/>
                </a:lnTo>
                <a:lnTo>
                  <a:pt x="1986" y="197"/>
                </a:lnTo>
                <a:lnTo>
                  <a:pt x="1956" y="177"/>
                </a:lnTo>
                <a:lnTo>
                  <a:pt x="1925" y="160"/>
                </a:lnTo>
                <a:lnTo>
                  <a:pt x="1894" y="141"/>
                </a:lnTo>
                <a:lnTo>
                  <a:pt x="1863" y="125"/>
                </a:lnTo>
                <a:lnTo>
                  <a:pt x="1830" y="110"/>
                </a:lnTo>
                <a:lnTo>
                  <a:pt x="1797" y="95"/>
                </a:lnTo>
                <a:lnTo>
                  <a:pt x="1763" y="81"/>
                </a:lnTo>
                <a:lnTo>
                  <a:pt x="1730" y="68"/>
                </a:lnTo>
                <a:lnTo>
                  <a:pt x="1695" y="57"/>
                </a:lnTo>
                <a:lnTo>
                  <a:pt x="1661" y="46"/>
                </a:lnTo>
                <a:lnTo>
                  <a:pt x="1625" y="37"/>
                </a:lnTo>
                <a:lnTo>
                  <a:pt x="1589" y="28"/>
                </a:lnTo>
                <a:lnTo>
                  <a:pt x="1552" y="21"/>
                </a:lnTo>
                <a:lnTo>
                  <a:pt x="1515" y="14"/>
                </a:lnTo>
                <a:lnTo>
                  <a:pt x="1477" y="9"/>
                </a:lnTo>
                <a:lnTo>
                  <a:pt x="1439" y="5"/>
                </a:lnTo>
                <a:lnTo>
                  <a:pt x="1400" y="3"/>
                </a:lnTo>
                <a:lnTo>
                  <a:pt x="1360" y="0"/>
                </a:lnTo>
                <a:lnTo>
                  <a:pt x="1320" y="0"/>
                </a:lnTo>
                <a:lnTo>
                  <a:pt x="1286" y="0"/>
                </a:lnTo>
                <a:lnTo>
                  <a:pt x="1253" y="1"/>
                </a:lnTo>
                <a:lnTo>
                  <a:pt x="1218" y="4"/>
                </a:lnTo>
                <a:lnTo>
                  <a:pt x="1185" y="6"/>
                </a:lnTo>
                <a:lnTo>
                  <a:pt x="1152" y="11"/>
                </a:lnTo>
                <a:lnTo>
                  <a:pt x="1119" y="15"/>
                </a:lnTo>
                <a:lnTo>
                  <a:pt x="1087" y="20"/>
                </a:lnTo>
                <a:lnTo>
                  <a:pt x="1054" y="27"/>
                </a:lnTo>
                <a:lnTo>
                  <a:pt x="1022" y="34"/>
                </a:lnTo>
                <a:lnTo>
                  <a:pt x="991" y="42"/>
                </a:lnTo>
                <a:lnTo>
                  <a:pt x="958" y="50"/>
                </a:lnTo>
                <a:lnTo>
                  <a:pt x="927" y="59"/>
                </a:lnTo>
                <a:lnTo>
                  <a:pt x="897" y="70"/>
                </a:lnTo>
                <a:lnTo>
                  <a:pt x="866" y="80"/>
                </a:lnTo>
                <a:lnTo>
                  <a:pt x="836" y="91"/>
                </a:lnTo>
                <a:lnTo>
                  <a:pt x="806" y="103"/>
                </a:lnTo>
                <a:lnTo>
                  <a:pt x="777" y="117"/>
                </a:lnTo>
                <a:lnTo>
                  <a:pt x="748" y="130"/>
                </a:lnTo>
                <a:lnTo>
                  <a:pt x="719" y="145"/>
                </a:lnTo>
                <a:lnTo>
                  <a:pt x="690" y="158"/>
                </a:lnTo>
                <a:lnTo>
                  <a:pt x="663" y="175"/>
                </a:lnTo>
                <a:lnTo>
                  <a:pt x="635" y="191"/>
                </a:lnTo>
                <a:lnTo>
                  <a:pt x="608" y="208"/>
                </a:lnTo>
                <a:lnTo>
                  <a:pt x="582" y="225"/>
                </a:lnTo>
                <a:lnTo>
                  <a:pt x="555" y="243"/>
                </a:lnTo>
                <a:lnTo>
                  <a:pt x="530" y="262"/>
                </a:lnTo>
                <a:lnTo>
                  <a:pt x="504" y="281"/>
                </a:lnTo>
                <a:lnTo>
                  <a:pt x="480" y="302"/>
                </a:lnTo>
                <a:lnTo>
                  <a:pt x="456" y="321"/>
                </a:lnTo>
                <a:lnTo>
                  <a:pt x="432" y="343"/>
                </a:lnTo>
                <a:lnTo>
                  <a:pt x="408" y="364"/>
                </a:lnTo>
                <a:lnTo>
                  <a:pt x="387" y="386"/>
                </a:lnTo>
                <a:lnTo>
                  <a:pt x="365" y="409"/>
                </a:lnTo>
                <a:lnTo>
                  <a:pt x="343" y="432"/>
                </a:lnTo>
                <a:lnTo>
                  <a:pt x="322" y="457"/>
                </a:lnTo>
                <a:lnTo>
                  <a:pt x="301" y="481"/>
                </a:lnTo>
                <a:lnTo>
                  <a:pt x="281" y="505"/>
                </a:lnTo>
                <a:lnTo>
                  <a:pt x="262" y="530"/>
                </a:lnTo>
                <a:lnTo>
                  <a:pt x="243" y="556"/>
                </a:lnTo>
                <a:lnTo>
                  <a:pt x="225" y="582"/>
                </a:lnTo>
                <a:lnTo>
                  <a:pt x="207" y="609"/>
                </a:lnTo>
                <a:lnTo>
                  <a:pt x="190" y="636"/>
                </a:lnTo>
                <a:lnTo>
                  <a:pt x="174" y="663"/>
                </a:lnTo>
                <a:lnTo>
                  <a:pt x="159" y="691"/>
                </a:lnTo>
                <a:lnTo>
                  <a:pt x="144" y="719"/>
                </a:lnTo>
                <a:lnTo>
                  <a:pt x="129" y="748"/>
                </a:lnTo>
                <a:lnTo>
                  <a:pt x="116" y="777"/>
                </a:lnTo>
                <a:lnTo>
                  <a:pt x="104" y="807"/>
                </a:lnTo>
                <a:lnTo>
                  <a:pt x="91" y="837"/>
                </a:lnTo>
                <a:lnTo>
                  <a:pt x="79" y="867"/>
                </a:lnTo>
                <a:lnTo>
                  <a:pt x="69" y="897"/>
                </a:lnTo>
                <a:lnTo>
                  <a:pt x="58" y="928"/>
                </a:lnTo>
                <a:lnTo>
                  <a:pt x="49" y="959"/>
                </a:lnTo>
                <a:lnTo>
                  <a:pt x="41" y="990"/>
                </a:lnTo>
                <a:lnTo>
                  <a:pt x="33" y="1023"/>
                </a:lnTo>
                <a:lnTo>
                  <a:pt x="26" y="1055"/>
                </a:lnTo>
                <a:lnTo>
                  <a:pt x="20" y="1087"/>
                </a:lnTo>
                <a:lnTo>
                  <a:pt x="15" y="1120"/>
                </a:lnTo>
                <a:lnTo>
                  <a:pt x="10" y="1153"/>
                </a:lnTo>
                <a:lnTo>
                  <a:pt x="6" y="1185"/>
                </a:lnTo>
                <a:lnTo>
                  <a:pt x="3" y="1219"/>
                </a:lnTo>
                <a:lnTo>
                  <a:pt x="1" y="1252"/>
                </a:lnTo>
                <a:lnTo>
                  <a:pt x="0" y="1287"/>
                </a:lnTo>
                <a:lnTo>
                  <a:pt x="0" y="1321"/>
                </a:lnTo>
                <a:lnTo>
                  <a:pt x="1" y="1383"/>
                </a:lnTo>
                <a:lnTo>
                  <a:pt x="4" y="1444"/>
                </a:lnTo>
                <a:lnTo>
                  <a:pt x="10" y="1504"/>
                </a:lnTo>
                <a:lnTo>
                  <a:pt x="18" y="1563"/>
                </a:lnTo>
                <a:lnTo>
                  <a:pt x="30" y="1622"/>
                </a:lnTo>
                <a:lnTo>
                  <a:pt x="42" y="1679"/>
                </a:lnTo>
                <a:lnTo>
                  <a:pt x="57" y="1735"/>
                </a:lnTo>
                <a:lnTo>
                  <a:pt x="75" y="1791"/>
                </a:lnTo>
                <a:lnTo>
                  <a:pt x="93" y="1845"/>
                </a:lnTo>
                <a:lnTo>
                  <a:pt x="114" y="1898"/>
                </a:lnTo>
                <a:lnTo>
                  <a:pt x="137" y="1950"/>
                </a:lnTo>
                <a:lnTo>
                  <a:pt x="161" y="2002"/>
                </a:lnTo>
                <a:lnTo>
                  <a:pt x="188" y="2053"/>
                </a:lnTo>
                <a:lnTo>
                  <a:pt x="217" y="2103"/>
                </a:lnTo>
                <a:lnTo>
                  <a:pt x="246" y="2151"/>
                </a:lnTo>
                <a:lnTo>
                  <a:pt x="278" y="2200"/>
                </a:lnTo>
                <a:lnTo>
                  <a:pt x="310" y="2247"/>
                </a:lnTo>
                <a:lnTo>
                  <a:pt x="345" y="2293"/>
                </a:lnTo>
                <a:lnTo>
                  <a:pt x="380" y="2338"/>
                </a:lnTo>
                <a:lnTo>
                  <a:pt x="417" y="2383"/>
                </a:lnTo>
                <a:lnTo>
                  <a:pt x="456" y="2427"/>
                </a:lnTo>
                <a:lnTo>
                  <a:pt x="495" y="2470"/>
                </a:lnTo>
                <a:lnTo>
                  <a:pt x="536" y="2513"/>
                </a:lnTo>
                <a:lnTo>
                  <a:pt x="577" y="2554"/>
                </a:lnTo>
                <a:lnTo>
                  <a:pt x="620" y="2595"/>
                </a:lnTo>
                <a:lnTo>
                  <a:pt x="663" y="2635"/>
                </a:lnTo>
                <a:lnTo>
                  <a:pt x="708" y="2675"/>
                </a:lnTo>
                <a:lnTo>
                  <a:pt x="753" y="2713"/>
                </a:lnTo>
                <a:lnTo>
                  <a:pt x="799" y="2751"/>
                </a:lnTo>
                <a:lnTo>
                  <a:pt x="845" y="2788"/>
                </a:lnTo>
                <a:lnTo>
                  <a:pt x="892" y="2825"/>
                </a:lnTo>
                <a:lnTo>
                  <a:pt x="940" y="2861"/>
                </a:lnTo>
                <a:lnTo>
                  <a:pt x="1032" y="2930"/>
                </a:lnTo>
                <a:lnTo>
                  <a:pt x="1129" y="3006"/>
                </a:lnTo>
                <a:lnTo>
                  <a:pt x="1229" y="3087"/>
                </a:lnTo>
                <a:lnTo>
                  <a:pt x="1279" y="3131"/>
                </a:lnTo>
                <a:lnTo>
                  <a:pt x="1331" y="3175"/>
                </a:lnTo>
                <a:lnTo>
                  <a:pt x="1383" y="3221"/>
                </a:lnTo>
                <a:lnTo>
                  <a:pt x="1435" y="3267"/>
                </a:lnTo>
                <a:lnTo>
                  <a:pt x="1487" y="3316"/>
                </a:lnTo>
                <a:lnTo>
                  <a:pt x="1539" y="3365"/>
                </a:lnTo>
                <a:lnTo>
                  <a:pt x="1590" y="3415"/>
                </a:lnTo>
                <a:lnTo>
                  <a:pt x="1642" y="3467"/>
                </a:lnTo>
                <a:lnTo>
                  <a:pt x="1692" y="3520"/>
                </a:lnTo>
                <a:lnTo>
                  <a:pt x="1743" y="3573"/>
                </a:lnTo>
                <a:lnTo>
                  <a:pt x="1791" y="3628"/>
                </a:lnTo>
                <a:lnTo>
                  <a:pt x="1840" y="3683"/>
                </a:lnTo>
                <a:lnTo>
                  <a:pt x="1886" y="3740"/>
                </a:lnTo>
                <a:lnTo>
                  <a:pt x="1932" y="3796"/>
                </a:lnTo>
                <a:lnTo>
                  <a:pt x="1976" y="3854"/>
                </a:lnTo>
                <a:lnTo>
                  <a:pt x="2019" y="3913"/>
                </a:lnTo>
                <a:lnTo>
                  <a:pt x="2059" y="3972"/>
                </a:lnTo>
                <a:lnTo>
                  <a:pt x="2098" y="4031"/>
                </a:lnTo>
                <a:lnTo>
                  <a:pt x="2135" y="4091"/>
                </a:lnTo>
                <a:lnTo>
                  <a:pt x="2171" y="4152"/>
                </a:lnTo>
                <a:lnTo>
                  <a:pt x="2204" y="4213"/>
                </a:lnTo>
                <a:lnTo>
                  <a:pt x="2234" y="4274"/>
                </a:lnTo>
                <a:lnTo>
                  <a:pt x="2261" y="4337"/>
                </a:lnTo>
                <a:lnTo>
                  <a:pt x="2287" y="4399"/>
                </a:lnTo>
                <a:lnTo>
                  <a:pt x="2298" y="4430"/>
                </a:lnTo>
                <a:lnTo>
                  <a:pt x="2309" y="4462"/>
                </a:lnTo>
                <a:lnTo>
                  <a:pt x="2319" y="4493"/>
                </a:lnTo>
                <a:lnTo>
                  <a:pt x="2328" y="4524"/>
                </a:lnTo>
                <a:lnTo>
                  <a:pt x="2338" y="4493"/>
                </a:lnTo>
                <a:lnTo>
                  <a:pt x="2347" y="4462"/>
                </a:lnTo>
                <a:lnTo>
                  <a:pt x="2358" y="4430"/>
                </a:lnTo>
                <a:lnTo>
                  <a:pt x="2369" y="4399"/>
                </a:lnTo>
                <a:lnTo>
                  <a:pt x="2394" y="4337"/>
                </a:lnTo>
                <a:lnTo>
                  <a:pt x="2422" y="4274"/>
                </a:lnTo>
                <a:lnTo>
                  <a:pt x="2452" y="4213"/>
                </a:lnTo>
                <a:lnTo>
                  <a:pt x="2484" y="4152"/>
                </a:lnTo>
                <a:lnTo>
                  <a:pt x="2520" y="4091"/>
                </a:lnTo>
                <a:lnTo>
                  <a:pt x="2557" y="4031"/>
                </a:lnTo>
                <a:lnTo>
                  <a:pt x="2596" y="3972"/>
                </a:lnTo>
                <a:lnTo>
                  <a:pt x="2637" y="3913"/>
                </a:lnTo>
                <a:lnTo>
                  <a:pt x="2680" y="3854"/>
                </a:lnTo>
                <a:lnTo>
                  <a:pt x="2723" y="3796"/>
                </a:lnTo>
                <a:lnTo>
                  <a:pt x="2770" y="3740"/>
                </a:lnTo>
                <a:lnTo>
                  <a:pt x="2817" y="3683"/>
                </a:lnTo>
                <a:lnTo>
                  <a:pt x="2864" y="3628"/>
                </a:lnTo>
                <a:lnTo>
                  <a:pt x="2914" y="3573"/>
                </a:lnTo>
                <a:lnTo>
                  <a:pt x="2964" y="3520"/>
                </a:lnTo>
                <a:lnTo>
                  <a:pt x="3015" y="3467"/>
                </a:lnTo>
                <a:lnTo>
                  <a:pt x="3065" y="3415"/>
                </a:lnTo>
                <a:lnTo>
                  <a:pt x="3117" y="3365"/>
                </a:lnTo>
                <a:lnTo>
                  <a:pt x="3168" y="3316"/>
                </a:lnTo>
                <a:lnTo>
                  <a:pt x="3220" y="3267"/>
                </a:lnTo>
                <a:lnTo>
                  <a:pt x="3272" y="3221"/>
                </a:lnTo>
                <a:lnTo>
                  <a:pt x="3324" y="3175"/>
                </a:lnTo>
                <a:lnTo>
                  <a:pt x="3376" y="3131"/>
                </a:lnTo>
                <a:lnTo>
                  <a:pt x="3427" y="3087"/>
                </a:lnTo>
                <a:lnTo>
                  <a:pt x="3527" y="3006"/>
                </a:lnTo>
                <a:lnTo>
                  <a:pt x="3623" y="2930"/>
                </a:lnTo>
                <a:lnTo>
                  <a:pt x="3716" y="2861"/>
                </a:lnTo>
                <a:lnTo>
                  <a:pt x="3763" y="2825"/>
                </a:lnTo>
                <a:lnTo>
                  <a:pt x="3810" y="2788"/>
                </a:lnTo>
                <a:lnTo>
                  <a:pt x="3858" y="2751"/>
                </a:lnTo>
                <a:lnTo>
                  <a:pt x="3903" y="2713"/>
                </a:lnTo>
                <a:lnTo>
                  <a:pt x="3948" y="2675"/>
                </a:lnTo>
                <a:lnTo>
                  <a:pt x="3993" y="2635"/>
                </a:lnTo>
                <a:lnTo>
                  <a:pt x="4037" y="2595"/>
                </a:lnTo>
                <a:lnTo>
                  <a:pt x="4078" y="2554"/>
                </a:lnTo>
                <a:lnTo>
                  <a:pt x="4120" y="2513"/>
                </a:lnTo>
                <a:lnTo>
                  <a:pt x="4160" y="2470"/>
                </a:lnTo>
                <a:lnTo>
                  <a:pt x="4201" y="2427"/>
                </a:lnTo>
                <a:lnTo>
                  <a:pt x="4239" y="2383"/>
                </a:lnTo>
                <a:lnTo>
                  <a:pt x="4276" y="2338"/>
                </a:lnTo>
                <a:lnTo>
                  <a:pt x="4311" y="2293"/>
                </a:lnTo>
                <a:lnTo>
                  <a:pt x="4345" y="2247"/>
                </a:lnTo>
                <a:lnTo>
                  <a:pt x="4378" y="2200"/>
                </a:lnTo>
                <a:lnTo>
                  <a:pt x="4410" y="2151"/>
                </a:lnTo>
                <a:lnTo>
                  <a:pt x="4439" y="2103"/>
                </a:lnTo>
                <a:lnTo>
                  <a:pt x="4468" y="2053"/>
                </a:lnTo>
                <a:lnTo>
                  <a:pt x="4494" y="2002"/>
                </a:lnTo>
                <a:lnTo>
                  <a:pt x="4519" y="1950"/>
                </a:lnTo>
                <a:lnTo>
                  <a:pt x="4542" y="1898"/>
                </a:lnTo>
                <a:lnTo>
                  <a:pt x="4562" y="1845"/>
                </a:lnTo>
                <a:lnTo>
                  <a:pt x="4581" y="1791"/>
                </a:lnTo>
                <a:lnTo>
                  <a:pt x="4598" y="1735"/>
                </a:lnTo>
                <a:lnTo>
                  <a:pt x="4613" y="1679"/>
                </a:lnTo>
                <a:lnTo>
                  <a:pt x="4626" y="1622"/>
                </a:lnTo>
                <a:lnTo>
                  <a:pt x="4636" y="1563"/>
                </a:lnTo>
                <a:lnTo>
                  <a:pt x="4646" y="1504"/>
                </a:lnTo>
                <a:lnTo>
                  <a:pt x="4651" y="1444"/>
                </a:lnTo>
                <a:lnTo>
                  <a:pt x="4655" y="1383"/>
                </a:lnTo>
                <a:lnTo>
                  <a:pt x="4656" y="1321"/>
                </a:lnTo>
                <a:lnTo>
                  <a:pt x="4656" y="1287"/>
                </a:lnTo>
                <a:lnTo>
                  <a:pt x="4655" y="1252"/>
                </a:lnTo>
                <a:lnTo>
                  <a:pt x="4653" y="1219"/>
                </a:lnTo>
                <a:lnTo>
                  <a:pt x="4649" y="1185"/>
                </a:lnTo>
                <a:lnTo>
                  <a:pt x="4646" y="1153"/>
                </a:lnTo>
                <a:lnTo>
                  <a:pt x="4641" y="1120"/>
                </a:lnTo>
                <a:lnTo>
                  <a:pt x="4635" y="1087"/>
                </a:lnTo>
                <a:lnTo>
                  <a:pt x="4629" y="1055"/>
                </a:lnTo>
                <a:lnTo>
                  <a:pt x="4623" y="1023"/>
                </a:lnTo>
                <a:lnTo>
                  <a:pt x="4614" y="990"/>
                </a:lnTo>
                <a:lnTo>
                  <a:pt x="4606" y="959"/>
                </a:lnTo>
                <a:lnTo>
                  <a:pt x="4597" y="928"/>
                </a:lnTo>
                <a:lnTo>
                  <a:pt x="4587" y="897"/>
                </a:lnTo>
                <a:lnTo>
                  <a:pt x="4576" y="867"/>
                </a:lnTo>
                <a:lnTo>
                  <a:pt x="4565" y="837"/>
                </a:lnTo>
                <a:lnTo>
                  <a:pt x="4552" y="807"/>
                </a:lnTo>
                <a:lnTo>
                  <a:pt x="4539" y="777"/>
                </a:lnTo>
                <a:lnTo>
                  <a:pt x="4527" y="748"/>
                </a:lnTo>
                <a:lnTo>
                  <a:pt x="4512" y="719"/>
                </a:lnTo>
                <a:lnTo>
                  <a:pt x="4497" y="691"/>
                </a:lnTo>
                <a:lnTo>
                  <a:pt x="4482" y="663"/>
                </a:lnTo>
                <a:lnTo>
                  <a:pt x="4465" y="636"/>
                </a:lnTo>
                <a:lnTo>
                  <a:pt x="4448" y="609"/>
                </a:lnTo>
                <a:lnTo>
                  <a:pt x="4431" y="582"/>
                </a:lnTo>
                <a:lnTo>
                  <a:pt x="4412" y="556"/>
                </a:lnTo>
                <a:lnTo>
                  <a:pt x="4394" y="530"/>
                </a:lnTo>
                <a:lnTo>
                  <a:pt x="4374" y="505"/>
                </a:lnTo>
                <a:lnTo>
                  <a:pt x="4355" y="481"/>
                </a:lnTo>
                <a:lnTo>
                  <a:pt x="4334" y="457"/>
                </a:lnTo>
                <a:lnTo>
                  <a:pt x="4313" y="432"/>
                </a:lnTo>
                <a:lnTo>
                  <a:pt x="4291" y="409"/>
                </a:lnTo>
                <a:lnTo>
                  <a:pt x="4269" y="386"/>
                </a:lnTo>
                <a:lnTo>
                  <a:pt x="4247" y="364"/>
                </a:lnTo>
                <a:lnTo>
                  <a:pt x="4224" y="343"/>
                </a:lnTo>
                <a:lnTo>
                  <a:pt x="4200" y="321"/>
                </a:lnTo>
                <a:lnTo>
                  <a:pt x="4175" y="302"/>
                </a:lnTo>
                <a:lnTo>
                  <a:pt x="4151" y="281"/>
                </a:lnTo>
                <a:lnTo>
                  <a:pt x="4126" y="262"/>
                </a:lnTo>
                <a:lnTo>
                  <a:pt x="4100" y="243"/>
                </a:lnTo>
                <a:lnTo>
                  <a:pt x="4074" y="225"/>
                </a:lnTo>
                <a:lnTo>
                  <a:pt x="4047" y="208"/>
                </a:lnTo>
                <a:lnTo>
                  <a:pt x="4021" y="191"/>
                </a:lnTo>
                <a:lnTo>
                  <a:pt x="3993" y="175"/>
                </a:lnTo>
                <a:lnTo>
                  <a:pt x="3965" y="158"/>
                </a:lnTo>
                <a:lnTo>
                  <a:pt x="3936" y="145"/>
                </a:lnTo>
                <a:lnTo>
                  <a:pt x="3907" y="130"/>
                </a:lnTo>
                <a:lnTo>
                  <a:pt x="3879" y="117"/>
                </a:lnTo>
                <a:lnTo>
                  <a:pt x="3850" y="103"/>
                </a:lnTo>
                <a:lnTo>
                  <a:pt x="3820" y="91"/>
                </a:lnTo>
                <a:lnTo>
                  <a:pt x="3790" y="80"/>
                </a:lnTo>
                <a:lnTo>
                  <a:pt x="3758" y="70"/>
                </a:lnTo>
                <a:lnTo>
                  <a:pt x="3728" y="59"/>
                </a:lnTo>
                <a:lnTo>
                  <a:pt x="3697" y="50"/>
                </a:lnTo>
                <a:lnTo>
                  <a:pt x="3665" y="42"/>
                </a:lnTo>
                <a:lnTo>
                  <a:pt x="3634" y="34"/>
                </a:lnTo>
                <a:lnTo>
                  <a:pt x="3601" y="27"/>
                </a:lnTo>
                <a:lnTo>
                  <a:pt x="3569" y="20"/>
                </a:lnTo>
                <a:lnTo>
                  <a:pt x="3537" y="15"/>
                </a:lnTo>
                <a:lnTo>
                  <a:pt x="3503" y="11"/>
                </a:lnTo>
                <a:lnTo>
                  <a:pt x="3470" y="6"/>
                </a:lnTo>
                <a:lnTo>
                  <a:pt x="3437" y="4"/>
                </a:lnTo>
                <a:lnTo>
                  <a:pt x="3403" y="1"/>
                </a:lnTo>
                <a:lnTo>
                  <a:pt x="3369" y="0"/>
                </a:lnTo>
                <a:lnTo>
                  <a:pt x="333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KSO_Shape"/>
          <p:cNvSpPr/>
          <p:nvPr/>
        </p:nvSpPr>
        <p:spPr>
          <a:xfrm>
            <a:off x="7002360" y="2138400"/>
            <a:ext cx="944640" cy="1201680"/>
          </a:xfrm>
          <a:custGeom>
            <a:avLst/>
            <a:gdLst/>
            <a:ahLst/>
            <a:rect l="l" t="t" r="r" b="b"/>
            <a:pathLst>
              <a:path w="4116" h="5239">
                <a:moveTo>
                  <a:pt x="2496" y="2121"/>
                </a:moveTo>
                <a:lnTo>
                  <a:pt x="2496" y="2121"/>
                </a:lnTo>
                <a:lnTo>
                  <a:pt x="2443" y="2107"/>
                </a:lnTo>
                <a:lnTo>
                  <a:pt x="2390" y="2095"/>
                </a:lnTo>
                <a:lnTo>
                  <a:pt x="2336" y="2084"/>
                </a:lnTo>
                <a:lnTo>
                  <a:pt x="2282" y="2075"/>
                </a:lnTo>
                <a:lnTo>
                  <a:pt x="2227" y="2068"/>
                </a:lnTo>
                <a:lnTo>
                  <a:pt x="2171" y="2063"/>
                </a:lnTo>
                <a:lnTo>
                  <a:pt x="2115" y="2060"/>
                </a:lnTo>
                <a:lnTo>
                  <a:pt x="2058" y="2059"/>
                </a:lnTo>
                <a:lnTo>
                  <a:pt x="2002" y="2060"/>
                </a:lnTo>
                <a:lnTo>
                  <a:pt x="1945" y="2063"/>
                </a:lnTo>
                <a:lnTo>
                  <a:pt x="1890" y="2068"/>
                </a:lnTo>
                <a:lnTo>
                  <a:pt x="1835" y="2075"/>
                </a:lnTo>
                <a:lnTo>
                  <a:pt x="1780" y="2084"/>
                </a:lnTo>
                <a:lnTo>
                  <a:pt x="1726" y="2095"/>
                </a:lnTo>
                <a:lnTo>
                  <a:pt x="1673" y="2107"/>
                </a:lnTo>
                <a:lnTo>
                  <a:pt x="1621" y="2121"/>
                </a:lnTo>
                <a:lnTo>
                  <a:pt x="1621" y="761"/>
                </a:lnTo>
                <a:lnTo>
                  <a:pt x="452" y="761"/>
                </a:lnTo>
                <a:lnTo>
                  <a:pt x="452" y="1438"/>
                </a:lnTo>
                <a:lnTo>
                  <a:pt x="1020" y="2446"/>
                </a:lnTo>
                <a:lnTo>
                  <a:pt x="989" y="2473"/>
                </a:lnTo>
                <a:lnTo>
                  <a:pt x="958" y="2502"/>
                </a:lnTo>
                <a:lnTo>
                  <a:pt x="928" y="2532"/>
                </a:lnTo>
                <a:lnTo>
                  <a:pt x="900" y="2561"/>
                </a:lnTo>
                <a:lnTo>
                  <a:pt x="871" y="2593"/>
                </a:lnTo>
                <a:lnTo>
                  <a:pt x="844" y="2624"/>
                </a:lnTo>
                <a:lnTo>
                  <a:pt x="817" y="2656"/>
                </a:lnTo>
                <a:lnTo>
                  <a:pt x="792" y="2689"/>
                </a:lnTo>
                <a:lnTo>
                  <a:pt x="767" y="2723"/>
                </a:lnTo>
                <a:lnTo>
                  <a:pt x="743" y="2758"/>
                </a:lnTo>
                <a:lnTo>
                  <a:pt x="720" y="2792"/>
                </a:lnTo>
                <a:lnTo>
                  <a:pt x="697" y="2828"/>
                </a:lnTo>
                <a:lnTo>
                  <a:pt x="676" y="2864"/>
                </a:lnTo>
                <a:lnTo>
                  <a:pt x="655" y="2901"/>
                </a:lnTo>
                <a:lnTo>
                  <a:pt x="636" y="2938"/>
                </a:lnTo>
                <a:lnTo>
                  <a:pt x="618" y="2977"/>
                </a:lnTo>
                <a:lnTo>
                  <a:pt x="600" y="3015"/>
                </a:lnTo>
                <a:lnTo>
                  <a:pt x="584" y="3054"/>
                </a:lnTo>
                <a:lnTo>
                  <a:pt x="569" y="3094"/>
                </a:lnTo>
                <a:lnTo>
                  <a:pt x="554" y="3134"/>
                </a:lnTo>
                <a:lnTo>
                  <a:pt x="540" y="3174"/>
                </a:lnTo>
                <a:lnTo>
                  <a:pt x="528" y="3216"/>
                </a:lnTo>
                <a:lnTo>
                  <a:pt x="517" y="3257"/>
                </a:lnTo>
                <a:lnTo>
                  <a:pt x="507" y="3300"/>
                </a:lnTo>
                <a:lnTo>
                  <a:pt x="499" y="3341"/>
                </a:lnTo>
                <a:lnTo>
                  <a:pt x="490" y="3384"/>
                </a:lnTo>
                <a:lnTo>
                  <a:pt x="483" y="3428"/>
                </a:lnTo>
                <a:lnTo>
                  <a:pt x="478" y="3472"/>
                </a:lnTo>
                <a:lnTo>
                  <a:pt x="474" y="3515"/>
                </a:lnTo>
                <a:lnTo>
                  <a:pt x="471" y="3559"/>
                </a:lnTo>
                <a:lnTo>
                  <a:pt x="469" y="3604"/>
                </a:lnTo>
                <a:lnTo>
                  <a:pt x="468" y="3649"/>
                </a:lnTo>
                <a:lnTo>
                  <a:pt x="469" y="3691"/>
                </a:lnTo>
                <a:lnTo>
                  <a:pt x="470" y="3731"/>
                </a:lnTo>
                <a:lnTo>
                  <a:pt x="473" y="3771"/>
                </a:lnTo>
                <a:lnTo>
                  <a:pt x="476" y="3812"/>
                </a:lnTo>
                <a:lnTo>
                  <a:pt x="481" y="3852"/>
                </a:lnTo>
                <a:lnTo>
                  <a:pt x="486" y="3891"/>
                </a:lnTo>
                <a:lnTo>
                  <a:pt x="493" y="3931"/>
                </a:lnTo>
                <a:lnTo>
                  <a:pt x="501" y="3970"/>
                </a:lnTo>
                <a:lnTo>
                  <a:pt x="509" y="4008"/>
                </a:lnTo>
                <a:lnTo>
                  <a:pt x="519" y="4046"/>
                </a:lnTo>
                <a:lnTo>
                  <a:pt x="529" y="4085"/>
                </a:lnTo>
                <a:lnTo>
                  <a:pt x="540" y="4122"/>
                </a:lnTo>
                <a:lnTo>
                  <a:pt x="552" y="4159"/>
                </a:lnTo>
                <a:lnTo>
                  <a:pt x="565" y="4196"/>
                </a:lnTo>
                <a:lnTo>
                  <a:pt x="579" y="4233"/>
                </a:lnTo>
                <a:lnTo>
                  <a:pt x="593" y="4268"/>
                </a:lnTo>
                <a:lnTo>
                  <a:pt x="609" y="4304"/>
                </a:lnTo>
                <a:lnTo>
                  <a:pt x="625" y="4339"/>
                </a:lnTo>
                <a:lnTo>
                  <a:pt x="642" y="4373"/>
                </a:lnTo>
                <a:lnTo>
                  <a:pt x="661" y="4407"/>
                </a:lnTo>
                <a:lnTo>
                  <a:pt x="679" y="4440"/>
                </a:lnTo>
                <a:lnTo>
                  <a:pt x="698" y="4474"/>
                </a:lnTo>
                <a:lnTo>
                  <a:pt x="719" y="4507"/>
                </a:lnTo>
                <a:lnTo>
                  <a:pt x="740" y="4538"/>
                </a:lnTo>
                <a:lnTo>
                  <a:pt x="761" y="4570"/>
                </a:lnTo>
                <a:lnTo>
                  <a:pt x="785" y="4600"/>
                </a:lnTo>
                <a:lnTo>
                  <a:pt x="807" y="4631"/>
                </a:lnTo>
                <a:lnTo>
                  <a:pt x="832" y="4660"/>
                </a:lnTo>
                <a:lnTo>
                  <a:pt x="856" y="4690"/>
                </a:lnTo>
                <a:lnTo>
                  <a:pt x="882" y="4718"/>
                </a:lnTo>
                <a:lnTo>
                  <a:pt x="907" y="4746"/>
                </a:lnTo>
                <a:lnTo>
                  <a:pt x="935" y="4773"/>
                </a:lnTo>
                <a:lnTo>
                  <a:pt x="961" y="4800"/>
                </a:lnTo>
                <a:lnTo>
                  <a:pt x="990" y="4826"/>
                </a:lnTo>
                <a:lnTo>
                  <a:pt x="1018" y="4852"/>
                </a:lnTo>
                <a:lnTo>
                  <a:pt x="1047" y="4876"/>
                </a:lnTo>
                <a:lnTo>
                  <a:pt x="1077" y="4900"/>
                </a:lnTo>
                <a:lnTo>
                  <a:pt x="1107" y="4923"/>
                </a:lnTo>
                <a:lnTo>
                  <a:pt x="1138" y="4946"/>
                </a:lnTo>
                <a:lnTo>
                  <a:pt x="1170" y="4968"/>
                </a:lnTo>
                <a:lnTo>
                  <a:pt x="1201" y="4988"/>
                </a:lnTo>
                <a:lnTo>
                  <a:pt x="1234" y="5009"/>
                </a:lnTo>
                <a:lnTo>
                  <a:pt x="1267" y="5028"/>
                </a:lnTo>
                <a:lnTo>
                  <a:pt x="1300" y="5047"/>
                </a:lnTo>
                <a:lnTo>
                  <a:pt x="1335" y="5065"/>
                </a:lnTo>
                <a:lnTo>
                  <a:pt x="1370" y="5082"/>
                </a:lnTo>
                <a:lnTo>
                  <a:pt x="1404" y="5098"/>
                </a:lnTo>
                <a:lnTo>
                  <a:pt x="1440" y="5114"/>
                </a:lnTo>
                <a:lnTo>
                  <a:pt x="1476" y="5129"/>
                </a:lnTo>
                <a:lnTo>
                  <a:pt x="1512" y="5142"/>
                </a:lnTo>
                <a:lnTo>
                  <a:pt x="1549" y="5155"/>
                </a:lnTo>
                <a:lnTo>
                  <a:pt x="1586" y="5168"/>
                </a:lnTo>
                <a:lnTo>
                  <a:pt x="1623" y="5179"/>
                </a:lnTo>
                <a:lnTo>
                  <a:pt x="1661" y="5189"/>
                </a:lnTo>
                <a:lnTo>
                  <a:pt x="1700" y="5198"/>
                </a:lnTo>
                <a:lnTo>
                  <a:pt x="1738" y="5206"/>
                </a:lnTo>
                <a:lnTo>
                  <a:pt x="1777" y="5214"/>
                </a:lnTo>
                <a:lnTo>
                  <a:pt x="1817" y="5221"/>
                </a:lnTo>
                <a:lnTo>
                  <a:pt x="1855" y="5227"/>
                </a:lnTo>
                <a:lnTo>
                  <a:pt x="1896" y="5231"/>
                </a:lnTo>
                <a:lnTo>
                  <a:pt x="1936" y="5235"/>
                </a:lnTo>
                <a:lnTo>
                  <a:pt x="1977" y="5237"/>
                </a:lnTo>
                <a:lnTo>
                  <a:pt x="2017" y="5239"/>
                </a:lnTo>
                <a:lnTo>
                  <a:pt x="2058" y="5239"/>
                </a:lnTo>
                <a:lnTo>
                  <a:pt x="2099" y="5239"/>
                </a:lnTo>
                <a:lnTo>
                  <a:pt x="2141" y="5237"/>
                </a:lnTo>
                <a:lnTo>
                  <a:pt x="2180" y="5235"/>
                </a:lnTo>
                <a:lnTo>
                  <a:pt x="2221" y="5231"/>
                </a:lnTo>
                <a:lnTo>
                  <a:pt x="2261" y="5227"/>
                </a:lnTo>
                <a:lnTo>
                  <a:pt x="2301" y="5221"/>
                </a:lnTo>
                <a:lnTo>
                  <a:pt x="2339" y="5214"/>
                </a:lnTo>
                <a:lnTo>
                  <a:pt x="2379" y="5206"/>
                </a:lnTo>
                <a:lnTo>
                  <a:pt x="2418" y="5198"/>
                </a:lnTo>
                <a:lnTo>
                  <a:pt x="2456" y="5189"/>
                </a:lnTo>
                <a:lnTo>
                  <a:pt x="2494" y="5179"/>
                </a:lnTo>
                <a:lnTo>
                  <a:pt x="2531" y="5168"/>
                </a:lnTo>
                <a:lnTo>
                  <a:pt x="2569" y="5155"/>
                </a:lnTo>
                <a:lnTo>
                  <a:pt x="2605" y="5142"/>
                </a:lnTo>
                <a:lnTo>
                  <a:pt x="2642" y="5129"/>
                </a:lnTo>
                <a:lnTo>
                  <a:pt x="2678" y="5114"/>
                </a:lnTo>
                <a:lnTo>
                  <a:pt x="2713" y="5098"/>
                </a:lnTo>
                <a:lnTo>
                  <a:pt x="2748" y="5082"/>
                </a:lnTo>
                <a:lnTo>
                  <a:pt x="2783" y="5065"/>
                </a:lnTo>
                <a:lnTo>
                  <a:pt x="2816" y="5047"/>
                </a:lnTo>
                <a:lnTo>
                  <a:pt x="2850" y="5028"/>
                </a:lnTo>
                <a:lnTo>
                  <a:pt x="2883" y="5009"/>
                </a:lnTo>
                <a:lnTo>
                  <a:pt x="2915" y="4988"/>
                </a:lnTo>
                <a:lnTo>
                  <a:pt x="2948" y="4968"/>
                </a:lnTo>
                <a:lnTo>
                  <a:pt x="2979" y="4946"/>
                </a:lnTo>
                <a:lnTo>
                  <a:pt x="3010" y="4923"/>
                </a:lnTo>
                <a:lnTo>
                  <a:pt x="3040" y="4900"/>
                </a:lnTo>
                <a:lnTo>
                  <a:pt x="3070" y="4876"/>
                </a:lnTo>
                <a:lnTo>
                  <a:pt x="3099" y="4852"/>
                </a:lnTo>
                <a:lnTo>
                  <a:pt x="3128" y="4826"/>
                </a:lnTo>
                <a:lnTo>
                  <a:pt x="3155" y="4800"/>
                </a:lnTo>
                <a:lnTo>
                  <a:pt x="3183" y="4773"/>
                </a:lnTo>
                <a:lnTo>
                  <a:pt x="3209" y="4746"/>
                </a:lnTo>
                <a:lnTo>
                  <a:pt x="3236" y="4718"/>
                </a:lnTo>
                <a:lnTo>
                  <a:pt x="3260" y="4690"/>
                </a:lnTo>
                <a:lnTo>
                  <a:pt x="3286" y="4660"/>
                </a:lnTo>
                <a:lnTo>
                  <a:pt x="3309" y="4631"/>
                </a:lnTo>
                <a:lnTo>
                  <a:pt x="3333" y="4600"/>
                </a:lnTo>
                <a:lnTo>
                  <a:pt x="3355" y="4570"/>
                </a:lnTo>
                <a:lnTo>
                  <a:pt x="3376" y="4538"/>
                </a:lnTo>
                <a:lnTo>
                  <a:pt x="3398" y="4507"/>
                </a:lnTo>
                <a:lnTo>
                  <a:pt x="3418" y="4474"/>
                </a:lnTo>
                <a:lnTo>
                  <a:pt x="3438" y="4440"/>
                </a:lnTo>
                <a:lnTo>
                  <a:pt x="3457" y="4407"/>
                </a:lnTo>
                <a:lnTo>
                  <a:pt x="3474" y="4373"/>
                </a:lnTo>
                <a:lnTo>
                  <a:pt x="3492" y="4339"/>
                </a:lnTo>
                <a:lnTo>
                  <a:pt x="3508" y="4304"/>
                </a:lnTo>
                <a:lnTo>
                  <a:pt x="3523" y="4268"/>
                </a:lnTo>
                <a:lnTo>
                  <a:pt x="3538" y="4233"/>
                </a:lnTo>
                <a:lnTo>
                  <a:pt x="3552" y="4196"/>
                </a:lnTo>
                <a:lnTo>
                  <a:pt x="3565" y="4159"/>
                </a:lnTo>
                <a:lnTo>
                  <a:pt x="3577" y="4122"/>
                </a:lnTo>
                <a:lnTo>
                  <a:pt x="3588" y="4085"/>
                </a:lnTo>
                <a:lnTo>
                  <a:pt x="3599" y="4046"/>
                </a:lnTo>
                <a:lnTo>
                  <a:pt x="3608" y="4008"/>
                </a:lnTo>
                <a:lnTo>
                  <a:pt x="3616" y="3970"/>
                </a:lnTo>
                <a:lnTo>
                  <a:pt x="3624" y="3931"/>
                </a:lnTo>
                <a:lnTo>
                  <a:pt x="3630" y="3891"/>
                </a:lnTo>
                <a:lnTo>
                  <a:pt x="3635" y="3852"/>
                </a:lnTo>
                <a:lnTo>
                  <a:pt x="3640" y="3812"/>
                </a:lnTo>
                <a:lnTo>
                  <a:pt x="3643" y="3771"/>
                </a:lnTo>
                <a:lnTo>
                  <a:pt x="3646" y="3731"/>
                </a:lnTo>
                <a:lnTo>
                  <a:pt x="3648" y="3691"/>
                </a:lnTo>
                <a:lnTo>
                  <a:pt x="3648" y="3649"/>
                </a:lnTo>
                <a:lnTo>
                  <a:pt x="3647" y="3601"/>
                </a:lnTo>
                <a:lnTo>
                  <a:pt x="3645" y="3552"/>
                </a:lnTo>
                <a:lnTo>
                  <a:pt x="3642" y="3504"/>
                </a:lnTo>
                <a:lnTo>
                  <a:pt x="3637" y="3457"/>
                </a:lnTo>
                <a:lnTo>
                  <a:pt x="3631" y="3411"/>
                </a:lnTo>
                <a:lnTo>
                  <a:pt x="3623" y="3364"/>
                </a:lnTo>
                <a:lnTo>
                  <a:pt x="3614" y="3318"/>
                </a:lnTo>
                <a:lnTo>
                  <a:pt x="3604" y="3272"/>
                </a:lnTo>
                <a:lnTo>
                  <a:pt x="3591" y="3227"/>
                </a:lnTo>
                <a:lnTo>
                  <a:pt x="3579" y="3182"/>
                </a:lnTo>
                <a:lnTo>
                  <a:pt x="3565" y="3139"/>
                </a:lnTo>
                <a:lnTo>
                  <a:pt x="3550" y="3095"/>
                </a:lnTo>
                <a:lnTo>
                  <a:pt x="3532" y="3052"/>
                </a:lnTo>
                <a:lnTo>
                  <a:pt x="3515" y="3010"/>
                </a:lnTo>
                <a:lnTo>
                  <a:pt x="3496" y="2969"/>
                </a:lnTo>
                <a:lnTo>
                  <a:pt x="3475" y="2928"/>
                </a:lnTo>
                <a:lnTo>
                  <a:pt x="3454" y="2887"/>
                </a:lnTo>
                <a:lnTo>
                  <a:pt x="3431" y="2847"/>
                </a:lnTo>
                <a:lnTo>
                  <a:pt x="3408" y="2809"/>
                </a:lnTo>
                <a:lnTo>
                  <a:pt x="3384" y="2771"/>
                </a:lnTo>
                <a:lnTo>
                  <a:pt x="3358" y="2733"/>
                </a:lnTo>
                <a:lnTo>
                  <a:pt x="3332" y="2697"/>
                </a:lnTo>
                <a:lnTo>
                  <a:pt x="3304" y="2661"/>
                </a:lnTo>
                <a:lnTo>
                  <a:pt x="3276" y="2626"/>
                </a:lnTo>
                <a:lnTo>
                  <a:pt x="3246" y="2592"/>
                </a:lnTo>
                <a:lnTo>
                  <a:pt x="3215" y="2559"/>
                </a:lnTo>
                <a:lnTo>
                  <a:pt x="3184" y="2526"/>
                </a:lnTo>
                <a:lnTo>
                  <a:pt x="3151" y="2495"/>
                </a:lnTo>
                <a:lnTo>
                  <a:pt x="3118" y="2464"/>
                </a:lnTo>
                <a:lnTo>
                  <a:pt x="3084" y="2435"/>
                </a:lnTo>
                <a:lnTo>
                  <a:pt x="3049" y="2406"/>
                </a:lnTo>
                <a:lnTo>
                  <a:pt x="3014" y="2378"/>
                </a:lnTo>
                <a:lnTo>
                  <a:pt x="3666" y="1453"/>
                </a:lnTo>
                <a:lnTo>
                  <a:pt x="3666" y="761"/>
                </a:lnTo>
                <a:lnTo>
                  <a:pt x="2496" y="761"/>
                </a:lnTo>
                <a:lnTo>
                  <a:pt x="2496" y="2121"/>
                </a:lnTo>
                <a:close/>
                <a:moveTo>
                  <a:pt x="3080" y="3649"/>
                </a:moveTo>
                <a:lnTo>
                  <a:pt x="3080" y="3649"/>
                </a:lnTo>
                <a:lnTo>
                  <a:pt x="3079" y="3675"/>
                </a:lnTo>
                <a:lnTo>
                  <a:pt x="3078" y="3702"/>
                </a:lnTo>
                <a:lnTo>
                  <a:pt x="3077" y="3727"/>
                </a:lnTo>
                <a:lnTo>
                  <a:pt x="3074" y="3754"/>
                </a:lnTo>
                <a:lnTo>
                  <a:pt x="3072" y="3779"/>
                </a:lnTo>
                <a:lnTo>
                  <a:pt x="3068" y="3805"/>
                </a:lnTo>
                <a:lnTo>
                  <a:pt x="3064" y="3829"/>
                </a:lnTo>
                <a:lnTo>
                  <a:pt x="3059" y="3855"/>
                </a:lnTo>
                <a:lnTo>
                  <a:pt x="3053" y="3879"/>
                </a:lnTo>
                <a:lnTo>
                  <a:pt x="3047" y="3905"/>
                </a:lnTo>
                <a:lnTo>
                  <a:pt x="3041" y="3928"/>
                </a:lnTo>
                <a:lnTo>
                  <a:pt x="3033" y="3952"/>
                </a:lnTo>
                <a:lnTo>
                  <a:pt x="3026" y="3976"/>
                </a:lnTo>
                <a:lnTo>
                  <a:pt x="3018" y="4000"/>
                </a:lnTo>
                <a:lnTo>
                  <a:pt x="3009" y="4023"/>
                </a:lnTo>
                <a:lnTo>
                  <a:pt x="3000" y="4046"/>
                </a:lnTo>
                <a:lnTo>
                  <a:pt x="2979" y="4091"/>
                </a:lnTo>
                <a:lnTo>
                  <a:pt x="2956" y="4136"/>
                </a:lnTo>
                <a:lnTo>
                  <a:pt x="2931" y="4179"/>
                </a:lnTo>
                <a:lnTo>
                  <a:pt x="2905" y="4219"/>
                </a:lnTo>
                <a:lnTo>
                  <a:pt x="2876" y="4260"/>
                </a:lnTo>
                <a:lnTo>
                  <a:pt x="2846" y="4299"/>
                </a:lnTo>
                <a:lnTo>
                  <a:pt x="2814" y="4335"/>
                </a:lnTo>
                <a:lnTo>
                  <a:pt x="2780" y="4371"/>
                </a:lnTo>
                <a:lnTo>
                  <a:pt x="2745" y="4405"/>
                </a:lnTo>
                <a:lnTo>
                  <a:pt x="2707" y="4437"/>
                </a:lnTo>
                <a:lnTo>
                  <a:pt x="2669" y="4467"/>
                </a:lnTo>
                <a:lnTo>
                  <a:pt x="2629" y="4495"/>
                </a:lnTo>
                <a:lnTo>
                  <a:pt x="2588" y="4522"/>
                </a:lnTo>
                <a:lnTo>
                  <a:pt x="2545" y="4547"/>
                </a:lnTo>
                <a:lnTo>
                  <a:pt x="2500" y="4570"/>
                </a:lnTo>
                <a:lnTo>
                  <a:pt x="2456" y="4590"/>
                </a:lnTo>
                <a:lnTo>
                  <a:pt x="2432" y="4599"/>
                </a:lnTo>
                <a:lnTo>
                  <a:pt x="2410" y="4608"/>
                </a:lnTo>
                <a:lnTo>
                  <a:pt x="2385" y="4617"/>
                </a:lnTo>
                <a:lnTo>
                  <a:pt x="2362" y="4625"/>
                </a:lnTo>
                <a:lnTo>
                  <a:pt x="2337" y="4632"/>
                </a:lnTo>
                <a:lnTo>
                  <a:pt x="2313" y="4638"/>
                </a:lnTo>
                <a:lnTo>
                  <a:pt x="2288" y="4644"/>
                </a:lnTo>
                <a:lnTo>
                  <a:pt x="2264" y="4649"/>
                </a:lnTo>
                <a:lnTo>
                  <a:pt x="2239" y="4654"/>
                </a:lnTo>
                <a:lnTo>
                  <a:pt x="2214" y="4658"/>
                </a:lnTo>
                <a:lnTo>
                  <a:pt x="2189" y="4662"/>
                </a:lnTo>
                <a:lnTo>
                  <a:pt x="2163" y="4665"/>
                </a:lnTo>
                <a:lnTo>
                  <a:pt x="2137" y="4668"/>
                </a:lnTo>
                <a:lnTo>
                  <a:pt x="2111" y="4669"/>
                </a:lnTo>
                <a:lnTo>
                  <a:pt x="2085" y="4670"/>
                </a:lnTo>
                <a:lnTo>
                  <a:pt x="2058" y="4671"/>
                </a:lnTo>
                <a:lnTo>
                  <a:pt x="2032" y="4670"/>
                </a:lnTo>
                <a:lnTo>
                  <a:pt x="2006" y="4669"/>
                </a:lnTo>
                <a:lnTo>
                  <a:pt x="1980" y="4668"/>
                </a:lnTo>
                <a:lnTo>
                  <a:pt x="1954" y="4665"/>
                </a:lnTo>
                <a:lnTo>
                  <a:pt x="1929" y="4662"/>
                </a:lnTo>
                <a:lnTo>
                  <a:pt x="1903" y="4658"/>
                </a:lnTo>
                <a:lnTo>
                  <a:pt x="1878" y="4654"/>
                </a:lnTo>
                <a:lnTo>
                  <a:pt x="1852" y="4649"/>
                </a:lnTo>
                <a:lnTo>
                  <a:pt x="1828" y="4644"/>
                </a:lnTo>
                <a:lnTo>
                  <a:pt x="1804" y="4638"/>
                </a:lnTo>
                <a:lnTo>
                  <a:pt x="1779" y="4632"/>
                </a:lnTo>
                <a:lnTo>
                  <a:pt x="1755" y="4625"/>
                </a:lnTo>
                <a:lnTo>
                  <a:pt x="1731" y="4617"/>
                </a:lnTo>
                <a:lnTo>
                  <a:pt x="1708" y="4608"/>
                </a:lnTo>
                <a:lnTo>
                  <a:pt x="1684" y="4599"/>
                </a:lnTo>
                <a:lnTo>
                  <a:pt x="1661" y="4590"/>
                </a:lnTo>
                <a:lnTo>
                  <a:pt x="1616" y="4570"/>
                </a:lnTo>
                <a:lnTo>
                  <a:pt x="1572" y="4547"/>
                </a:lnTo>
                <a:lnTo>
                  <a:pt x="1530" y="4522"/>
                </a:lnTo>
                <a:lnTo>
                  <a:pt x="1488" y="4495"/>
                </a:lnTo>
                <a:lnTo>
                  <a:pt x="1448" y="4467"/>
                </a:lnTo>
                <a:lnTo>
                  <a:pt x="1409" y="4437"/>
                </a:lnTo>
                <a:lnTo>
                  <a:pt x="1373" y="4405"/>
                </a:lnTo>
                <a:lnTo>
                  <a:pt x="1337" y="4371"/>
                </a:lnTo>
                <a:lnTo>
                  <a:pt x="1303" y="4335"/>
                </a:lnTo>
                <a:lnTo>
                  <a:pt x="1271" y="4299"/>
                </a:lnTo>
                <a:lnTo>
                  <a:pt x="1240" y="4260"/>
                </a:lnTo>
                <a:lnTo>
                  <a:pt x="1212" y="4219"/>
                </a:lnTo>
                <a:lnTo>
                  <a:pt x="1185" y="4179"/>
                </a:lnTo>
                <a:lnTo>
                  <a:pt x="1161" y="4136"/>
                </a:lnTo>
                <a:lnTo>
                  <a:pt x="1138" y="4091"/>
                </a:lnTo>
                <a:lnTo>
                  <a:pt x="1118" y="4046"/>
                </a:lnTo>
                <a:lnTo>
                  <a:pt x="1108" y="4023"/>
                </a:lnTo>
                <a:lnTo>
                  <a:pt x="1100" y="4000"/>
                </a:lnTo>
                <a:lnTo>
                  <a:pt x="1091" y="3976"/>
                </a:lnTo>
                <a:lnTo>
                  <a:pt x="1083" y="3952"/>
                </a:lnTo>
                <a:lnTo>
                  <a:pt x="1076" y="3928"/>
                </a:lnTo>
                <a:lnTo>
                  <a:pt x="1069" y="3905"/>
                </a:lnTo>
                <a:lnTo>
                  <a:pt x="1064" y="3879"/>
                </a:lnTo>
                <a:lnTo>
                  <a:pt x="1058" y="3855"/>
                </a:lnTo>
                <a:lnTo>
                  <a:pt x="1053" y="3829"/>
                </a:lnTo>
                <a:lnTo>
                  <a:pt x="1049" y="3805"/>
                </a:lnTo>
                <a:lnTo>
                  <a:pt x="1046" y="3779"/>
                </a:lnTo>
                <a:lnTo>
                  <a:pt x="1043" y="3754"/>
                </a:lnTo>
                <a:lnTo>
                  <a:pt x="1041" y="3727"/>
                </a:lnTo>
                <a:lnTo>
                  <a:pt x="1038" y="3702"/>
                </a:lnTo>
                <a:lnTo>
                  <a:pt x="1037" y="3675"/>
                </a:lnTo>
                <a:lnTo>
                  <a:pt x="1037" y="3649"/>
                </a:lnTo>
                <a:lnTo>
                  <a:pt x="1037" y="3622"/>
                </a:lnTo>
                <a:lnTo>
                  <a:pt x="1038" y="3597"/>
                </a:lnTo>
                <a:lnTo>
                  <a:pt x="1041" y="3571"/>
                </a:lnTo>
                <a:lnTo>
                  <a:pt x="1043" y="3545"/>
                </a:lnTo>
                <a:lnTo>
                  <a:pt x="1046" y="3520"/>
                </a:lnTo>
                <a:lnTo>
                  <a:pt x="1049" y="3494"/>
                </a:lnTo>
                <a:lnTo>
                  <a:pt x="1053" y="3469"/>
                </a:lnTo>
                <a:lnTo>
                  <a:pt x="1058" y="3444"/>
                </a:lnTo>
                <a:lnTo>
                  <a:pt x="1064" y="3419"/>
                </a:lnTo>
                <a:lnTo>
                  <a:pt x="1069" y="3394"/>
                </a:lnTo>
                <a:lnTo>
                  <a:pt x="1076" y="3370"/>
                </a:lnTo>
                <a:lnTo>
                  <a:pt x="1083" y="3346"/>
                </a:lnTo>
                <a:lnTo>
                  <a:pt x="1091" y="3322"/>
                </a:lnTo>
                <a:lnTo>
                  <a:pt x="1100" y="3299"/>
                </a:lnTo>
                <a:lnTo>
                  <a:pt x="1108" y="3275"/>
                </a:lnTo>
                <a:lnTo>
                  <a:pt x="1118" y="3252"/>
                </a:lnTo>
                <a:lnTo>
                  <a:pt x="1138" y="3207"/>
                </a:lnTo>
                <a:lnTo>
                  <a:pt x="1161" y="3163"/>
                </a:lnTo>
                <a:lnTo>
                  <a:pt x="1185" y="3120"/>
                </a:lnTo>
                <a:lnTo>
                  <a:pt x="1212" y="3079"/>
                </a:lnTo>
                <a:lnTo>
                  <a:pt x="1240" y="3039"/>
                </a:lnTo>
                <a:lnTo>
                  <a:pt x="1271" y="3000"/>
                </a:lnTo>
                <a:lnTo>
                  <a:pt x="1303" y="2963"/>
                </a:lnTo>
                <a:lnTo>
                  <a:pt x="1337" y="2928"/>
                </a:lnTo>
                <a:lnTo>
                  <a:pt x="1373" y="2894"/>
                </a:lnTo>
                <a:lnTo>
                  <a:pt x="1409" y="2862"/>
                </a:lnTo>
                <a:lnTo>
                  <a:pt x="1448" y="2831"/>
                </a:lnTo>
                <a:lnTo>
                  <a:pt x="1488" y="2802"/>
                </a:lnTo>
                <a:lnTo>
                  <a:pt x="1530" y="2776"/>
                </a:lnTo>
                <a:lnTo>
                  <a:pt x="1572" y="2752"/>
                </a:lnTo>
                <a:lnTo>
                  <a:pt x="1616" y="2729"/>
                </a:lnTo>
                <a:lnTo>
                  <a:pt x="1661" y="2709"/>
                </a:lnTo>
                <a:lnTo>
                  <a:pt x="1684" y="2700"/>
                </a:lnTo>
                <a:lnTo>
                  <a:pt x="1708" y="2690"/>
                </a:lnTo>
                <a:lnTo>
                  <a:pt x="1731" y="2682"/>
                </a:lnTo>
                <a:lnTo>
                  <a:pt x="1755" y="2674"/>
                </a:lnTo>
                <a:lnTo>
                  <a:pt x="1779" y="2667"/>
                </a:lnTo>
                <a:lnTo>
                  <a:pt x="1804" y="2661"/>
                </a:lnTo>
                <a:lnTo>
                  <a:pt x="1828" y="2655"/>
                </a:lnTo>
                <a:lnTo>
                  <a:pt x="1852" y="2649"/>
                </a:lnTo>
                <a:lnTo>
                  <a:pt x="1878" y="2645"/>
                </a:lnTo>
                <a:lnTo>
                  <a:pt x="1903" y="2640"/>
                </a:lnTo>
                <a:lnTo>
                  <a:pt x="1929" y="2636"/>
                </a:lnTo>
                <a:lnTo>
                  <a:pt x="1954" y="2633"/>
                </a:lnTo>
                <a:lnTo>
                  <a:pt x="1980" y="2631"/>
                </a:lnTo>
                <a:lnTo>
                  <a:pt x="2006" y="2629"/>
                </a:lnTo>
                <a:lnTo>
                  <a:pt x="2032" y="2628"/>
                </a:lnTo>
                <a:lnTo>
                  <a:pt x="2058" y="2628"/>
                </a:lnTo>
                <a:lnTo>
                  <a:pt x="2085" y="2628"/>
                </a:lnTo>
                <a:lnTo>
                  <a:pt x="2111" y="2629"/>
                </a:lnTo>
                <a:lnTo>
                  <a:pt x="2137" y="2631"/>
                </a:lnTo>
                <a:lnTo>
                  <a:pt x="2163" y="2633"/>
                </a:lnTo>
                <a:lnTo>
                  <a:pt x="2189" y="2636"/>
                </a:lnTo>
                <a:lnTo>
                  <a:pt x="2214" y="2640"/>
                </a:lnTo>
                <a:lnTo>
                  <a:pt x="2239" y="2645"/>
                </a:lnTo>
                <a:lnTo>
                  <a:pt x="2264" y="2649"/>
                </a:lnTo>
                <a:lnTo>
                  <a:pt x="2288" y="2655"/>
                </a:lnTo>
                <a:lnTo>
                  <a:pt x="2313" y="2661"/>
                </a:lnTo>
                <a:lnTo>
                  <a:pt x="2337" y="2667"/>
                </a:lnTo>
                <a:lnTo>
                  <a:pt x="2362" y="2674"/>
                </a:lnTo>
                <a:lnTo>
                  <a:pt x="2385" y="2682"/>
                </a:lnTo>
                <a:lnTo>
                  <a:pt x="2410" y="2690"/>
                </a:lnTo>
                <a:lnTo>
                  <a:pt x="2432" y="2700"/>
                </a:lnTo>
                <a:lnTo>
                  <a:pt x="2456" y="2709"/>
                </a:lnTo>
                <a:lnTo>
                  <a:pt x="2500" y="2729"/>
                </a:lnTo>
                <a:lnTo>
                  <a:pt x="2545" y="2752"/>
                </a:lnTo>
                <a:lnTo>
                  <a:pt x="2588" y="2776"/>
                </a:lnTo>
                <a:lnTo>
                  <a:pt x="2629" y="2802"/>
                </a:lnTo>
                <a:lnTo>
                  <a:pt x="2669" y="2831"/>
                </a:lnTo>
                <a:lnTo>
                  <a:pt x="2707" y="2862"/>
                </a:lnTo>
                <a:lnTo>
                  <a:pt x="2745" y="2894"/>
                </a:lnTo>
                <a:lnTo>
                  <a:pt x="2780" y="2928"/>
                </a:lnTo>
                <a:lnTo>
                  <a:pt x="2814" y="2963"/>
                </a:lnTo>
                <a:lnTo>
                  <a:pt x="2846" y="3000"/>
                </a:lnTo>
                <a:lnTo>
                  <a:pt x="2876" y="3039"/>
                </a:lnTo>
                <a:lnTo>
                  <a:pt x="2905" y="3079"/>
                </a:lnTo>
                <a:lnTo>
                  <a:pt x="2931" y="3120"/>
                </a:lnTo>
                <a:lnTo>
                  <a:pt x="2956" y="3163"/>
                </a:lnTo>
                <a:lnTo>
                  <a:pt x="2979" y="3207"/>
                </a:lnTo>
                <a:lnTo>
                  <a:pt x="3000" y="3252"/>
                </a:lnTo>
                <a:lnTo>
                  <a:pt x="3009" y="3275"/>
                </a:lnTo>
                <a:lnTo>
                  <a:pt x="3018" y="3299"/>
                </a:lnTo>
                <a:lnTo>
                  <a:pt x="3026" y="3322"/>
                </a:lnTo>
                <a:lnTo>
                  <a:pt x="3033" y="3346"/>
                </a:lnTo>
                <a:lnTo>
                  <a:pt x="3041" y="3370"/>
                </a:lnTo>
                <a:lnTo>
                  <a:pt x="3047" y="3394"/>
                </a:lnTo>
                <a:lnTo>
                  <a:pt x="3053" y="3419"/>
                </a:lnTo>
                <a:lnTo>
                  <a:pt x="3059" y="3444"/>
                </a:lnTo>
                <a:lnTo>
                  <a:pt x="3064" y="3469"/>
                </a:lnTo>
                <a:lnTo>
                  <a:pt x="3068" y="3494"/>
                </a:lnTo>
                <a:lnTo>
                  <a:pt x="3072" y="3520"/>
                </a:lnTo>
                <a:lnTo>
                  <a:pt x="3074" y="3545"/>
                </a:lnTo>
                <a:lnTo>
                  <a:pt x="3077" y="3571"/>
                </a:lnTo>
                <a:lnTo>
                  <a:pt x="3078" y="3597"/>
                </a:lnTo>
                <a:lnTo>
                  <a:pt x="3079" y="3622"/>
                </a:lnTo>
                <a:lnTo>
                  <a:pt x="3080" y="3649"/>
                </a:lnTo>
                <a:close/>
                <a:moveTo>
                  <a:pt x="0" y="0"/>
                </a:moveTo>
                <a:lnTo>
                  <a:pt x="0" y="462"/>
                </a:lnTo>
                <a:lnTo>
                  <a:pt x="4116" y="462"/>
                </a:lnTo>
                <a:lnTo>
                  <a:pt x="4116" y="0"/>
                </a:lnTo>
                <a:lnTo>
                  <a:pt x="0" y="0"/>
                </a:lnTo>
                <a:close/>
                <a:moveTo>
                  <a:pt x="2024" y="2698"/>
                </a:moveTo>
                <a:lnTo>
                  <a:pt x="1820" y="3321"/>
                </a:lnTo>
                <a:lnTo>
                  <a:pt x="1165" y="3321"/>
                </a:lnTo>
                <a:lnTo>
                  <a:pt x="1159" y="3321"/>
                </a:lnTo>
                <a:lnTo>
                  <a:pt x="1154" y="3323"/>
                </a:lnTo>
                <a:lnTo>
                  <a:pt x="1149" y="3325"/>
                </a:lnTo>
                <a:lnTo>
                  <a:pt x="1143" y="3328"/>
                </a:lnTo>
                <a:lnTo>
                  <a:pt x="1139" y="3331"/>
                </a:lnTo>
                <a:lnTo>
                  <a:pt x="1135" y="3335"/>
                </a:lnTo>
                <a:lnTo>
                  <a:pt x="1133" y="3340"/>
                </a:lnTo>
                <a:lnTo>
                  <a:pt x="1130" y="3345"/>
                </a:lnTo>
                <a:lnTo>
                  <a:pt x="1129" y="3352"/>
                </a:lnTo>
                <a:lnTo>
                  <a:pt x="1129" y="3357"/>
                </a:lnTo>
                <a:lnTo>
                  <a:pt x="1129" y="3363"/>
                </a:lnTo>
                <a:lnTo>
                  <a:pt x="1130" y="3368"/>
                </a:lnTo>
                <a:lnTo>
                  <a:pt x="1132" y="3373"/>
                </a:lnTo>
                <a:lnTo>
                  <a:pt x="1135" y="3378"/>
                </a:lnTo>
                <a:lnTo>
                  <a:pt x="1139" y="3382"/>
                </a:lnTo>
                <a:lnTo>
                  <a:pt x="1143" y="3386"/>
                </a:lnTo>
                <a:lnTo>
                  <a:pt x="1673" y="3772"/>
                </a:lnTo>
                <a:lnTo>
                  <a:pt x="1469" y="4400"/>
                </a:lnTo>
                <a:lnTo>
                  <a:pt x="1468" y="4405"/>
                </a:lnTo>
                <a:lnTo>
                  <a:pt x="1467" y="4411"/>
                </a:lnTo>
                <a:lnTo>
                  <a:pt x="1468" y="4416"/>
                </a:lnTo>
                <a:lnTo>
                  <a:pt x="1469" y="4422"/>
                </a:lnTo>
                <a:lnTo>
                  <a:pt x="1471" y="4427"/>
                </a:lnTo>
                <a:lnTo>
                  <a:pt x="1475" y="4431"/>
                </a:lnTo>
                <a:lnTo>
                  <a:pt x="1479" y="4436"/>
                </a:lnTo>
                <a:lnTo>
                  <a:pt x="1483" y="4439"/>
                </a:lnTo>
                <a:lnTo>
                  <a:pt x="1488" y="4442"/>
                </a:lnTo>
                <a:lnTo>
                  <a:pt x="1493" y="4444"/>
                </a:lnTo>
                <a:lnTo>
                  <a:pt x="1498" y="4446"/>
                </a:lnTo>
                <a:lnTo>
                  <a:pt x="1504" y="4446"/>
                </a:lnTo>
                <a:lnTo>
                  <a:pt x="1509" y="4446"/>
                </a:lnTo>
                <a:lnTo>
                  <a:pt x="1515" y="4444"/>
                </a:lnTo>
                <a:lnTo>
                  <a:pt x="1520" y="4442"/>
                </a:lnTo>
                <a:lnTo>
                  <a:pt x="1525" y="4439"/>
                </a:lnTo>
                <a:lnTo>
                  <a:pt x="2058" y="4052"/>
                </a:lnTo>
                <a:lnTo>
                  <a:pt x="2591" y="4439"/>
                </a:lnTo>
                <a:lnTo>
                  <a:pt x="2596" y="4442"/>
                </a:lnTo>
                <a:lnTo>
                  <a:pt x="2601" y="4444"/>
                </a:lnTo>
                <a:lnTo>
                  <a:pt x="2606" y="4446"/>
                </a:lnTo>
                <a:lnTo>
                  <a:pt x="2612" y="4446"/>
                </a:lnTo>
                <a:lnTo>
                  <a:pt x="2617" y="4446"/>
                </a:lnTo>
                <a:lnTo>
                  <a:pt x="2623" y="4444"/>
                </a:lnTo>
                <a:lnTo>
                  <a:pt x="2628" y="4442"/>
                </a:lnTo>
                <a:lnTo>
                  <a:pt x="2633" y="4439"/>
                </a:lnTo>
                <a:lnTo>
                  <a:pt x="2638" y="4436"/>
                </a:lnTo>
                <a:lnTo>
                  <a:pt x="2641" y="4431"/>
                </a:lnTo>
                <a:lnTo>
                  <a:pt x="2644" y="4427"/>
                </a:lnTo>
                <a:lnTo>
                  <a:pt x="2646" y="4422"/>
                </a:lnTo>
                <a:lnTo>
                  <a:pt x="2648" y="4416"/>
                </a:lnTo>
                <a:lnTo>
                  <a:pt x="2648" y="4411"/>
                </a:lnTo>
                <a:lnTo>
                  <a:pt x="2648" y="4405"/>
                </a:lnTo>
                <a:lnTo>
                  <a:pt x="2646" y="4400"/>
                </a:lnTo>
                <a:lnTo>
                  <a:pt x="2442" y="3772"/>
                </a:lnTo>
                <a:lnTo>
                  <a:pt x="2973" y="3386"/>
                </a:lnTo>
                <a:lnTo>
                  <a:pt x="2977" y="3382"/>
                </a:lnTo>
                <a:lnTo>
                  <a:pt x="2981" y="3378"/>
                </a:lnTo>
                <a:lnTo>
                  <a:pt x="2984" y="3373"/>
                </a:lnTo>
                <a:lnTo>
                  <a:pt x="2986" y="3368"/>
                </a:lnTo>
                <a:lnTo>
                  <a:pt x="2987" y="3363"/>
                </a:lnTo>
                <a:lnTo>
                  <a:pt x="2988" y="3357"/>
                </a:lnTo>
                <a:lnTo>
                  <a:pt x="2987" y="3352"/>
                </a:lnTo>
                <a:lnTo>
                  <a:pt x="2986" y="3345"/>
                </a:lnTo>
                <a:lnTo>
                  <a:pt x="2984" y="3340"/>
                </a:lnTo>
                <a:lnTo>
                  <a:pt x="2981" y="3335"/>
                </a:lnTo>
                <a:lnTo>
                  <a:pt x="2977" y="3331"/>
                </a:lnTo>
                <a:lnTo>
                  <a:pt x="2973" y="3328"/>
                </a:lnTo>
                <a:lnTo>
                  <a:pt x="2968" y="3325"/>
                </a:lnTo>
                <a:lnTo>
                  <a:pt x="2963" y="3323"/>
                </a:lnTo>
                <a:lnTo>
                  <a:pt x="2958" y="3321"/>
                </a:lnTo>
                <a:lnTo>
                  <a:pt x="2952" y="3321"/>
                </a:lnTo>
                <a:lnTo>
                  <a:pt x="2296" y="3321"/>
                </a:lnTo>
                <a:lnTo>
                  <a:pt x="2093" y="2698"/>
                </a:lnTo>
                <a:lnTo>
                  <a:pt x="2091" y="2691"/>
                </a:lnTo>
                <a:lnTo>
                  <a:pt x="2088" y="2687"/>
                </a:lnTo>
                <a:lnTo>
                  <a:pt x="2084" y="2682"/>
                </a:lnTo>
                <a:lnTo>
                  <a:pt x="2080" y="2679"/>
                </a:lnTo>
                <a:lnTo>
                  <a:pt x="2075" y="2676"/>
                </a:lnTo>
                <a:lnTo>
                  <a:pt x="2069" y="2674"/>
                </a:lnTo>
                <a:lnTo>
                  <a:pt x="2064" y="2673"/>
                </a:lnTo>
                <a:lnTo>
                  <a:pt x="2058" y="2672"/>
                </a:lnTo>
                <a:lnTo>
                  <a:pt x="2053" y="2673"/>
                </a:lnTo>
                <a:lnTo>
                  <a:pt x="2047" y="2674"/>
                </a:lnTo>
                <a:lnTo>
                  <a:pt x="2042" y="2676"/>
                </a:lnTo>
                <a:lnTo>
                  <a:pt x="2037" y="2679"/>
                </a:lnTo>
                <a:lnTo>
                  <a:pt x="2033" y="2682"/>
                </a:lnTo>
                <a:lnTo>
                  <a:pt x="2030" y="2687"/>
                </a:lnTo>
                <a:lnTo>
                  <a:pt x="2027" y="2691"/>
                </a:lnTo>
                <a:lnTo>
                  <a:pt x="2024" y="269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KSO_Shape"/>
          <p:cNvSpPr/>
          <p:nvPr/>
        </p:nvSpPr>
        <p:spPr>
          <a:xfrm>
            <a:off x="4089240" y="2046240"/>
            <a:ext cx="1198800" cy="1200240"/>
          </a:xfrm>
          <a:custGeom>
            <a:avLst/>
            <a:gdLst/>
            <a:ahLst/>
            <a:rect l="l" t="t" r="r" b="b"/>
            <a:pathLst>
              <a:path w="4408" h="4408">
                <a:moveTo>
                  <a:pt x="4239" y="1864"/>
                </a:moveTo>
                <a:lnTo>
                  <a:pt x="4036" y="1864"/>
                </a:lnTo>
                <a:lnTo>
                  <a:pt x="4018" y="1864"/>
                </a:lnTo>
                <a:lnTo>
                  <a:pt x="4001" y="1861"/>
                </a:lnTo>
                <a:lnTo>
                  <a:pt x="3983" y="1857"/>
                </a:lnTo>
                <a:lnTo>
                  <a:pt x="3966" y="1852"/>
                </a:lnTo>
                <a:lnTo>
                  <a:pt x="3949" y="1845"/>
                </a:lnTo>
                <a:lnTo>
                  <a:pt x="3933" y="1837"/>
                </a:lnTo>
                <a:lnTo>
                  <a:pt x="3916" y="1828"/>
                </a:lnTo>
                <a:lnTo>
                  <a:pt x="3901" y="1818"/>
                </a:lnTo>
                <a:lnTo>
                  <a:pt x="3887" y="1806"/>
                </a:lnTo>
                <a:lnTo>
                  <a:pt x="3873" y="1793"/>
                </a:lnTo>
                <a:lnTo>
                  <a:pt x="3861" y="1780"/>
                </a:lnTo>
                <a:lnTo>
                  <a:pt x="3848" y="1766"/>
                </a:lnTo>
                <a:lnTo>
                  <a:pt x="3838" y="1751"/>
                </a:lnTo>
                <a:lnTo>
                  <a:pt x="3829" y="1736"/>
                </a:lnTo>
                <a:lnTo>
                  <a:pt x="3822" y="1719"/>
                </a:lnTo>
                <a:lnTo>
                  <a:pt x="3816" y="1703"/>
                </a:lnTo>
                <a:lnTo>
                  <a:pt x="3699" y="1419"/>
                </a:lnTo>
                <a:lnTo>
                  <a:pt x="3691" y="1403"/>
                </a:lnTo>
                <a:lnTo>
                  <a:pt x="3685" y="1387"/>
                </a:lnTo>
                <a:lnTo>
                  <a:pt x="3680" y="1369"/>
                </a:lnTo>
                <a:lnTo>
                  <a:pt x="3677" y="1351"/>
                </a:lnTo>
                <a:lnTo>
                  <a:pt x="3675" y="1333"/>
                </a:lnTo>
                <a:lnTo>
                  <a:pt x="3675" y="1315"/>
                </a:lnTo>
                <a:lnTo>
                  <a:pt x="3675" y="1296"/>
                </a:lnTo>
                <a:lnTo>
                  <a:pt x="3678" y="1278"/>
                </a:lnTo>
                <a:lnTo>
                  <a:pt x="3681" y="1260"/>
                </a:lnTo>
                <a:lnTo>
                  <a:pt x="3685" y="1242"/>
                </a:lnTo>
                <a:lnTo>
                  <a:pt x="3691" y="1224"/>
                </a:lnTo>
                <a:lnTo>
                  <a:pt x="3698" y="1208"/>
                </a:lnTo>
                <a:lnTo>
                  <a:pt x="3706" y="1192"/>
                </a:lnTo>
                <a:lnTo>
                  <a:pt x="3717" y="1177"/>
                </a:lnTo>
                <a:lnTo>
                  <a:pt x="3727" y="1162"/>
                </a:lnTo>
                <a:lnTo>
                  <a:pt x="3739" y="1149"/>
                </a:lnTo>
                <a:lnTo>
                  <a:pt x="3883" y="1005"/>
                </a:lnTo>
                <a:lnTo>
                  <a:pt x="3895" y="992"/>
                </a:lnTo>
                <a:lnTo>
                  <a:pt x="3904" y="979"/>
                </a:lnTo>
                <a:lnTo>
                  <a:pt x="3913" y="965"/>
                </a:lnTo>
                <a:lnTo>
                  <a:pt x="3920" y="949"/>
                </a:lnTo>
                <a:lnTo>
                  <a:pt x="3926" y="933"/>
                </a:lnTo>
                <a:lnTo>
                  <a:pt x="3930" y="918"/>
                </a:lnTo>
                <a:lnTo>
                  <a:pt x="3932" y="902"/>
                </a:lnTo>
                <a:lnTo>
                  <a:pt x="3933" y="886"/>
                </a:lnTo>
                <a:lnTo>
                  <a:pt x="3932" y="869"/>
                </a:lnTo>
                <a:lnTo>
                  <a:pt x="3930" y="853"/>
                </a:lnTo>
                <a:lnTo>
                  <a:pt x="3926" y="837"/>
                </a:lnTo>
                <a:lnTo>
                  <a:pt x="3920" y="822"/>
                </a:lnTo>
                <a:lnTo>
                  <a:pt x="3913" y="806"/>
                </a:lnTo>
                <a:lnTo>
                  <a:pt x="3904" y="792"/>
                </a:lnTo>
                <a:lnTo>
                  <a:pt x="3895" y="778"/>
                </a:lnTo>
                <a:lnTo>
                  <a:pt x="3883" y="765"/>
                </a:lnTo>
                <a:lnTo>
                  <a:pt x="3643" y="525"/>
                </a:lnTo>
                <a:lnTo>
                  <a:pt x="3630" y="514"/>
                </a:lnTo>
                <a:lnTo>
                  <a:pt x="3616" y="504"/>
                </a:lnTo>
                <a:lnTo>
                  <a:pt x="3602" y="495"/>
                </a:lnTo>
                <a:lnTo>
                  <a:pt x="3587" y="489"/>
                </a:lnTo>
                <a:lnTo>
                  <a:pt x="3572" y="483"/>
                </a:lnTo>
                <a:lnTo>
                  <a:pt x="3555" y="479"/>
                </a:lnTo>
                <a:lnTo>
                  <a:pt x="3539" y="477"/>
                </a:lnTo>
                <a:lnTo>
                  <a:pt x="3523" y="476"/>
                </a:lnTo>
                <a:lnTo>
                  <a:pt x="3507" y="477"/>
                </a:lnTo>
                <a:lnTo>
                  <a:pt x="3490" y="479"/>
                </a:lnTo>
                <a:lnTo>
                  <a:pt x="3474" y="483"/>
                </a:lnTo>
                <a:lnTo>
                  <a:pt x="3459" y="489"/>
                </a:lnTo>
                <a:lnTo>
                  <a:pt x="3444" y="495"/>
                </a:lnTo>
                <a:lnTo>
                  <a:pt x="3430" y="504"/>
                </a:lnTo>
                <a:lnTo>
                  <a:pt x="3415" y="514"/>
                </a:lnTo>
                <a:lnTo>
                  <a:pt x="3403" y="525"/>
                </a:lnTo>
                <a:lnTo>
                  <a:pt x="3259" y="669"/>
                </a:lnTo>
                <a:lnTo>
                  <a:pt x="3246" y="682"/>
                </a:lnTo>
                <a:lnTo>
                  <a:pt x="3232" y="692"/>
                </a:lnTo>
                <a:lnTo>
                  <a:pt x="3217" y="702"/>
                </a:lnTo>
                <a:lnTo>
                  <a:pt x="3200" y="710"/>
                </a:lnTo>
                <a:lnTo>
                  <a:pt x="3183" y="717"/>
                </a:lnTo>
                <a:lnTo>
                  <a:pt x="3166" y="723"/>
                </a:lnTo>
                <a:lnTo>
                  <a:pt x="3149" y="727"/>
                </a:lnTo>
                <a:lnTo>
                  <a:pt x="3130" y="731"/>
                </a:lnTo>
                <a:lnTo>
                  <a:pt x="3112" y="733"/>
                </a:lnTo>
                <a:lnTo>
                  <a:pt x="3093" y="733"/>
                </a:lnTo>
                <a:lnTo>
                  <a:pt x="3075" y="733"/>
                </a:lnTo>
                <a:lnTo>
                  <a:pt x="3056" y="731"/>
                </a:lnTo>
                <a:lnTo>
                  <a:pt x="3039" y="728"/>
                </a:lnTo>
                <a:lnTo>
                  <a:pt x="3022" y="723"/>
                </a:lnTo>
                <a:lnTo>
                  <a:pt x="3005" y="717"/>
                </a:lnTo>
                <a:lnTo>
                  <a:pt x="2989" y="710"/>
                </a:lnTo>
                <a:lnTo>
                  <a:pt x="2705" y="592"/>
                </a:lnTo>
                <a:lnTo>
                  <a:pt x="2689" y="587"/>
                </a:lnTo>
                <a:lnTo>
                  <a:pt x="2673" y="579"/>
                </a:lnTo>
                <a:lnTo>
                  <a:pt x="2658" y="570"/>
                </a:lnTo>
                <a:lnTo>
                  <a:pt x="2642" y="560"/>
                </a:lnTo>
                <a:lnTo>
                  <a:pt x="2628" y="549"/>
                </a:lnTo>
                <a:lnTo>
                  <a:pt x="2615" y="536"/>
                </a:lnTo>
                <a:lnTo>
                  <a:pt x="2603" y="522"/>
                </a:lnTo>
                <a:lnTo>
                  <a:pt x="2591" y="507"/>
                </a:lnTo>
                <a:lnTo>
                  <a:pt x="2581" y="492"/>
                </a:lnTo>
                <a:lnTo>
                  <a:pt x="2571" y="476"/>
                </a:lnTo>
                <a:lnTo>
                  <a:pt x="2563" y="460"/>
                </a:lnTo>
                <a:lnTo>
                  <a:pt x="2556" y="442"/>
                </a:lnTo>
                <a:lnTo>
                  <a:pt x="2551" y="425"/>
                </a:lnTo>
                <a:lnTo>
                  <a:pt x="2547" y="408"/>
                </a:lnTo>
                <a:lnTo>
                  <a:pt x="2544" y="391"/>
                </a:lnTo>
                <a:lnTo>
                  <a:pt x="2543" y="373"/>
                </a:lnTo>
                <a:lnTo>
                  <a:pt x="2543" y="169"/>
                </a:lnTo>
                <a:lnTo>
                  <a:pt x="2543" y="152"/>
                </a:lnTo>
                <a:lnTo>
                  <a:pt x="2540" y="135"/>
                </a:lnTo>
                <a:lnTo>
                  <a:pt x="2536" y="119"/>
                </a:lnTo>
                <a:lnTo>
                  <a:pt x="2530" y="103"/>
                </a:lnTo>
                <a:lnTo>
                  <a:pt x="2523" y="88"/>
                </a:lnTo>
                <a:lnTo>
                  <a:pt x="2515" y="75"/>
                </a:lnTo>
                <a:lnTo>
                  <a:pt x="2505" y="62"/>
                </a:lnTo>
                <a:lnTo>
                  <a:pt x="2493" y="50"/>
                </a:lnTo>
                <a:lnTo>
                  <a:pt x="2481" y="39"/>
                </a:lnTo>
                <a:lnTo>
                  <a:pt x="2469" y="28"/>
                </a:lnTo>
                <a:lnTo>
                  <a:pt x="2455" y="20"/>
                </a:lnTo>
                <a:lnTo>
                  <a:pt x="2440" y="13"/>
                </a:lnTo>
                <a:lnTo>
                  <a:pt x="2424" y="7"/>
                </a:lnTo>
                <a:lnTo>
                  <a:pt x="2408" y="3"/>
                </a:lnTo>
                <a:lnTo>
                  <a:pt x="2391" y="1"/>
                </a:lnTo>
                <a:lnTo>
                  <a:pt x="2374" y="0"/>
                </a:lnTo>
                <a:lnTo>
                  <a:pt x="2035" y="0"/>
                </a:lnTo>
                <a:lnTo>
                  <a:pt x="2018" y="1"/>
                </a:lnTo>
                <a:lnTo>
                  <a:pt x="2001" y="3"/>
                </a:lnTo>
                <a:lnTo>
                  <a:pt x="1985" y="7"/>
                </a:lnTo>
                <a:lnTo>
                  <a:pt x="1969" y="13"/>
                </a:lnTo>
                <a:lnTo>
                  <a:pt x="1955" y="20"/>
                </a:lnTo>
                <a:lnTo>
                  <a:pt x="1941" y="28"/>
                </a:lnTo>
                <a:lnTo>
                  <a:pt x="1927" y="39"/>
                </a:lnTo>
                <a:lnTo>
                  <a:pt x="1915" y="50"/>
                </a:lnTo>
                <a:lnTo>
                  <a:pt x="1904" y="62"/>
                </a:lnTo>
                <a:lnTo>
                  <a:pt x="1894" y="75"/>
                </a:lnTo>
                <a:lnTo>
                  <a:pt x="1886" y="88"/>
                </a:lnTo>
                <a:lnTo>
                  <a:pt x="1879" y="103"/>
                </a:lnTo>
                <a:lnTo>
                  <a:pt x="1873" y="119"/>
                </a:lnTo>
                <a:lnTo>
                  <a:pt x="1869" y="135"/>
                </a:lnTo>
                <a:lnTo>
                  <a:pt x="1867" y="152"/>
                </a:lnTo>
                <a:lnTo>
                  <a:pt x="1866" y="169"/>
                </a:lnTo>
                <a:lnTo>
                  <a:pt x="1866" y="373"/>
                </a:lnTo>
                <a:lnTo>
                  <a:pt x="1864" y="391"/>
                </a:lnTo>
                <a:lnTo>
                  <a:pt x="1861" y="408"/>
                </a:lnTo>
                <a:lnTo>
                  <a:pt x="1858" y="425"/>
                </a:lnTo>
                <a:lnTo>
                  <a:pt x="1852" y="442"/>
                </a:lnTo>
                <a:lnTo>
                  <a:pt x="1845" y="460"/>
                </a:lnTo>
                <a:lnTo>
                  <a:pt x="1837" y="476"/>
                </a:lnTo>
                <a:lnTo>
                  <a:pt x="1828" y="492"/>
                </a:lnTo>
                <a:lnTo>
                  <a:pt x="1818" y="507"/>
                </a:lnTo>
                <a:lnTo>
                  <a:pt x="1807" y="522"/>
                </a:lnTo>
                <a:lnTo>
                  <a:pt x="1793" y="536"/>
                </a:lnTo>
                <a:lnTo>
                  <a:pt x="1780" y="549"/>
                </a:lnTo>
                <a:lnTo>
                  <a:pt x="1766" y="560"/>
                </a:lnTo>
                <a:lnTo>
                  <a:pt x="1751" y="570"/>
                </a:lnTo>
                <a:lnTo>
                  <a:pt x="1736" y="579"/>
                </a:lnTo>
                <a:lnTo>
                  <a:pt x="1719" y="587"/>
                </a:lnTo>
                <a:lnTo>
                  <a:pt x="1703" y="592"/>
                </a:lnTo>
                <a:lnTo>
                  <a:pt x="1419" y="710"/>
                </a:lnTo>
                <a:lnTo>
                  <a:pt x="1404" y="717"/>
                </a:lnTo>
                <a:lnTo>
                  <a:pt x="1387" y="723"/>
                </a:lnTo>
                <a:lnTo>
                  <a:pt x="1370" y="728"/>
                </a:lnTo>
                <a:lnTo>
                  <a:pt x="1352" y="731"/>
                </a:lnTo>
                <a:lnTo>
                  <a:pt x="1334" y="733"/>
                </a:lnTo>
                <a:lnTo>
                  <a:pt x="1316" y="733"/>
                </a:lnTo>
                <a:lnTo>
                  <a:pt x="1297" y="733"/>
                </a:lnTo>
                <a:lnTo>
                  <a:pt x="1278" y="731"/>
                </a:lnTo>
                <a:lnTo>
                  <a:pt x="1261" y="727"/>
                </a:lnTo>
                <a:lnTo>
                  <a:pt x="1243" y="723"/>
                </a:lnTo>
                <a:lnTo>
                  <a:pt x="1225" y="717"/>
                </a:lnTo>
                <a:lnTo>
                  <a:pt x="1208" y="710"/>
                </a:lnTo>
                <a:lnTo>
                  <a:pt x="1193" y="702"/>
                </a:lnTo>
                <a:lnTo>
                  <a:pt x="1178" y="692"/>
                </a:lnTo>
                <a:lnTo>
                  <a:pt x="1164" y="682"/>
                </a:lnTo>
                <a:lnTo>
                  <a:pt x="1150" y="669"/>
                </a:lnTo>
                <a:lnTo>
                  <a:pt x="1005" y="525"/>
                </a:lnTo>
                <a:lnTo>
                  <a:pt x="993" y="514"/>
                </a:lnTo>
                <a:lnTo>
                  <a:pt x="979" y="504"/>
                </a:lnTo>
                <a:lnTo>
                  <a:pt x="965" y="495"/>
                </a:lnTo>
                <a:lnTo>
                  <a:pt x="950" y="489"/>
                </a:lnTo>
                <a:lnTo>
                  <a:pt x="934" y="483"/>
                </a:lnTo>
                <a:lnTo>
                  <a:pt x="918" y="479"/>
                </a:lnTo>
                <a:lnTo>
                  <a:pt x="902" y="477"/>
                </a:lnTo>
                <a:lnTo>
                  <a:pt x="886" y="476"/>
                </a:lnTo>
                <a:lnTo>
                  <a:pt x="869" y="477"/>
                </a:lnTo>
                <a:lnTo>
                  <a:pt x="853" y="479"/>
                </a:lnTo>
                <a:lnTo>
                  <a:pt x="837" y="483"/>
                </a:lnTo>
                <a:lnTo>
                  <a:pt x="822" y="489"/>
                </a:lnTo>
                <a:lnTo>
                  <a:pt x="807" y="495"/>
                </a:lnTo>
                <a:lnTo>
                  <a:pt x="792" y="504"/>
                </a:lnTo>
                <a:lnTo>
                  <a:pt x="779" y="514"/>
                </a:lnTo>
                <a:lnTo>
                  <a:pt x="766" y="525"/>
                </a:lnTo>
                <a:lnTo>
                  <a:pt x="527" y="765"/>
                </a:lnTo>
                <a:lnTo>
                  <a:pt x="514" y="778"/>
                </a:lnTo>
                <a:lnTo>
                  <a:pt x="504" y="792"/>
                </a:lnTo>
                <a:lnTo>
                  <a:pt x="496" y="806"/>
                </a:lnTo>
                <a:lnTo>
                  <a:pt x="489" y="822"/>
                </a:lnTo>
                <a:lnTo>
                  <a:pt x="484" y="837"/>
                </a:lnTo>
                <a:lnTo>
                  <a:pt x="480" y="853"/>
                </a:lnTo>
                <a:lnTo>
                  <a:pt x="477" y="869"/>
                </a:lnTo>
                <a:lnTo>
                  <a:pt x="477" y="886"/>
                </a:lnTo>
                <a:lnTo>
                  <a:pt x="477" y="902"/>
                </a:lnTo>
                <a:lnTo>
                  <a:pt x="480" y="918"/>
                </a:lnTo>
                <a:lnTo>
                  <a:pt x="484" y="933"/>
                </a:lnTo>
                <a:lnTo>
                  <a:pt x="489" y="949"/>
                </a:lnTo>
                <a:lnTo>
                  <a:pt x="496" y="965"/>
                </a:lnTo>
                <a:lnTo>
                  <a:pt x="504" y="979"/>
                </a:lnTo>
                <a:lnTo>
                  <a:pt x="514" y="992"/>
                </a:lnTo>
                <a:lnTo>
                  <a:pt x="527" y="1005"/>
                </a:lnTo>
                <a:lnTo>
                  <a:pt x="670" y="1149"/>
                </a:lnTo>
                <a:lnTo>
                  <a:pt x="682" y="1162"/>
                </a:lnTo>
                <a:lnTo>
                  <a:pt x="693" y="1177"/>
                </a:lnTo>
                <a:lnTo>
                  <a:pt x="702" y="1192"/>
                </a:lnTo>
                <a:lnTo>
                  <a:pt x="710" y="1208"/>
                </a:lnTo>
                <a:lnTo>
                  <a:pt x="717" y="1224"/>
                </a:lnTo>
                <a:lnTo>
                  <a:pt x="723" y="1242"/>
                </a:lnTo>
                <a:lnTo>
                  <a:pt x="728" y="1260"/>
                </a:lnTo>
                <a:lnTo>
                  <a:pt x="732" y="1278"/>
                </a:lnTo>
                <a:lnTo>
                  <a:pt x="734" y="1296"/>
                </a:lnTo>
                <a:lnTo>
                  <a:pt x="735" y="1315"/>
                </a:lnTo>
                <a:lnTo>
                  <a:pt x="734" y="1333"/>
                </a:lnTo>
                <a:lnTo>
                  <a:pt x="732" y="1351"/>
                </a:lnTo>
                <a:lnTo>
                  <a:pt x="728" y="1369"/>
                </a:lnTo>
                <a:lnTo>
                  <a:pt x="723" y="1387"/>
                </a:lnTo>
                <a:lnTo>
                  <a:pt x="717" y="1403"/>
                </a:lnTo>
                <a:lnTo>
                  <a:pt x="710" y="1419"/>
                </a:lnTo>
                <a:lnTo>
                  <a:pt x="594" y="1703"/>
                </a:lnTo>
                <a:lnTo>
                  <a:pt x="587" y="1719"/>
                </a:lnTo>
                <a:lnTo>
                  <a:pt x="579" y="1736"/>
                </a:lnTo>
                <a:lnTo>
                  <a:pt x="570" y="1751"/>
                </a:lnTo>
                <a:lnTo>
                  <a:pt x="560" y="1766"/>
                </a:lnTo>
                <a:lnTo>
                  <a:pt x="549" y="1780"/>
                </a:lnTo>
                <a:lnTo>
                  <a:pt x="536" y="1793"/>
                </a:lnTo>
                <a:lnTo>
                  <a:pt x="523" y="1806"/>
                </a:lnTo>
                <a:lnTo>
                  <a:pt x="508" y="1818"/>
                </a:lnTo>
                <a:lnTo>
                  <a:pt x="493" y="1828"/>
                </a:lnTo>
                <a:lnTo>
                  <a:pt x="477" y="1837"/>
                </a:lnTo>
                <a:lnTo>
                  <a:pt x="460" y="1845"/>
                </a:lnTo>
                <a:lnTo>
                  <a:pt x="443" y="1852"/>
                </a:lnTo>
                <a:lnTo>
                  <a:pt x="426" y="1857"/>
                </a:lnTo>
                <a:lnTo>
                  <a:pt x="409" y="1861"/>
                </a:lnTo>
                <a:lnTo>
                  <a:pt x="391" y="1864"/>
                </a:lnTo>
                <a:lnTo>
                  <a:pt x="373" y="1865"/>
                </a:lnTo>
                <a:lnTo>
                  <a:pt x="170" y="1864"/>
                </a:lnTo>
                <a:lnTo>
                  <a:pt x="152" y="1865"/>
                </a:lnTo>
                <a:lnTo>
                  <a:pt x="136" y="1868"/>
                </a:lnTo>
                <a:lnTo>
                  <a:pt x="120" y="1873"/>
                </a:lnTo>
                <a:lnTo>
                  <a:pt x="104" y="1879"/>
                </a:lnTo>
                <a:lnTo>
                  <a:pt x="89" y="1886"/>
                </a:lnTo>
                <a:lnTo>
                  <a:pt x="75" y="1894"/>
                </a:lnTo>
                <a:lnTo>
                  <a:pt x="62" y="1904"/>
                </a:lnTo>
                <a:lnTo>
                  <a:pt x="50" y="1915"/>
                </a:lnTo>
                <a:lnTo>
                  <a:pt x="39" y="1926"/>
                </a:lnTo>
                <a:lnTo>
                  <a:pt x="30" y="1939"/>
                </a:lnTo>
                <a:lnTo>
                  <a:pt x="20" y="1954"/>
                </a:lnTo>
                <a:lnTo>
                  <a:pt x="13" y="1969"/>
                </a:lnTo>
                <a:lnTo>
                  <a:pt x="8" y="1984"/>
                </a:lnTo>
                <a:lnTo>
                  <a:pt x="3" y="2000"/>
                </a:lnTo>
                <a:lnTo>
                  <a:pt x="1" y="2018"/>
                </a:lnTo>
                <a:lnTo>
                  <a:pt x="0" y="2035"/>
                </a:lnTo>
                <a:lnTo>
                  <a:pt x="0" y="2374"/>
                </a:lnTo>
                <a:lnTo>
                  <a:pt x="1" y="2391"/>
                </a:lnTo>
                <a:lnTo>
                  <a:pt x="3" y="2408"/>
                </a:lnTo>
                <a:lnTo>
                  <a:pt x="8" y="2424"/>
                </a:lnTo>
                <a:lnTo>
                  <a:pt x="13" y="2440"/>
                </a:lnTo>
                <a:lnTo>
                  <a:pt x="20" y="2454"/>
                </a:lnTo>
                <a:lnTo>
                  <a:pt x="30" y="2468"/>
                </a:lnTo>
                <a:lnTo>
                  <a:pt x="39" y="2481"/>
                </a:lnTo>
                <a:lnTo>
                  <a:pt x="50" y="2493"/>
                </a:lnTo>
                <a:lnTo>
                  <a:pt x="62" y="2504"/>
                </a:lnTo>
                <a:lnTo>
                  <a:pt x="75" y="2515"/>
                </a:lnTo>
                <a:lnTo>
                  <a:pt x="89" y="2523"/>
                </a:lnTo>
                <a:lnTo>
                  <a:pt x="104" y="2530"/>
                </a:lnTo>
                <a:lnTo>
                  <a:pt x="120" y="2536"/>
                </a:lnTo>
                <a:lnTo>
                  <a:pt x="136" y="2540"/>
                </a:lnTo>
                <a:lnTo>
                  <a:pt x="152" y="2542"/>
                </a:lnTo>
                <a:lnTo>
                  <a:pt x="170" y="2543"/>
                </a:lnTo>
                <a:lnTo>
                  <a:pt x="373" y="2543"/>
                </a:lnTo>
                <a:lnTo>
                  <a:pt x="391" y="2544"/>
                </a:lnTo>
                <a:lnTo>
                  <a:pt x="408" y="2547"/>
                </a:lnTo>
                <a:lnTo>
                  <a:pt x="426" y="2551"/>
                </a:lnTo>
                <a:lnTo>
                  <a:pt x="443" y="2556"/>
                </a:lnTo>
                <a:lnTo>
                  <a:pt x="460" y="2563"/>
                </a:lnTo>
                <a:lnTo>
                  <a:pt x="477" y="2571"/>
                </a:lnTo>
                <a:lnTo>
                  <a:pt x="492" y="2581"/>
                </a:lnTo>
                <a:lnTo>
                  <a:pt x="507" y="2591"/>
                </a:lnTo>
                <a:lnTo>
                  <a:pt x="523" y="2603"/>
                </a:lnTo>
                <a:lnTo>
                  <a:pt x="536" y="2615"/>
                </a:lnTo>
                <a:lnTo>
                  <a:pt x="549" y="2628"/>
                </a:lnTo>
                <a:lnTo>
                  <a:pt x="560" y="2642"/>
                </a:lnTo>
                <a:lnTo>
                  <a:pt x="570" y="2658"/>
                </a:lnTo>
                <a:lnTo>
                  <a:pt x="579" y="2673"/>
                </a:lnTo>
                <a:lnTo>
                  <a:pt x="586" y="2689"/>
                </a:lnTo>
                <a:lnTo>
                  <a:pt x="593" y="2705"/>
                </a:lnTo>
                <a:lnTo>
                  <a:pt x="710" y="2989"/>
                </a:lnTo>
                <a:lnTo>
                  <a:pt x="717" y="3006"/>
                </a:lnTo>
                <a:lnTo>
                  <a:pt x="723" y="3022"/>
                </a:lnTo>
                <a:lnTo>
                  <a:pt x="728" y="3039"/>
                </a:lnTo>
                <a:lnTo>
                  <a:pt x="732" y="3057"/>
                </a:lnTo>
                <a:lnTo>
                  <a:pt x="734" y="3075"/>
                </a:lnTo>
                <a:lnTo>
                  <a:pt x="735" y="3094"/>
                </a:lnTo>
                <a:lnTo>
                  <a:pt x="734" y="3112"/>
                </a:lnTo>
                <a:lnTo>
                  <a:pt x="732" y="3130"/>
                </a:lnTo>
                <a:lnTo>
                  <a:pt x="727" y="3149"/>
                </a:lnTo>
                <a:lnTo>
                  <a:pt x="723" y="3166"/>
                </a:lnTo>
                <a:lnTo>
                  <a:pt x="717" y="3184"/>
                </a:lnTo>
                <a:lnTo>
                  <a:pt x="710" y="3200"/>
                </a:lnTo>
                <a:lnTo>
                  <a:pt x="702" y="3217"/>
                </a:lnTo>
                <a:lnTo>
                  <a:pt x="693" y="3232"/>
                </a:lnTo>
                <a:lnTo>
                  <a:pt x="682" y="3246"/>
                </a:lnTo>
                <a:lnTo>
                  <a:pt x="670" y="3259"/>
                </a:lnTo>
                <a:lnTo>
                  <a:pt x="526" y="3403"/>
                </a:lnTo>
                <a:lnTo>
                  <a:pt x="514" y="3415"/>
                </a:lnTo>
                <a:lnTo>
                  <a:pt x="504" y="3430"/>
                </a:lnTo>
                <a:lnTo>
                  <a:pt x="496" y="3444"/>
                </a:lnTo>
                <a:lnTo>
                  <a:pt x="489" y="3459"/>
                </a:lnTo>
                <a:lnTo>
                  <a:pt x="483" y="3474"/>
                </a:lnTo>
                <a:lnTo>
                  <a:pt x="480" y="3490"/>
                </a:lnTo>
                <a:lnTo>
                  <a:pt x="477" y="3507"/>
                </a:lnTo>
                <a:lnTo>
                  <a:pt x="477" y="3523"/>
                </a:lnTo>
                <a:lnTo>
                  <a:pt x="477" y="3539"/>
                </a:lnTo>
                <a:lnTo>
                  <a:pt x="480" y="3555"/>
                </a:lnTo>
                <a:lnTo>
                  <a:pt x="483" y="3572"/>
                </a:lnTo>
                <a:lnTo>
                  <a:pt x="489" y="3587"/>
                </a:lnTo>
                <a:lnTo>
                  <a:pt x="496" y="3602"/>
                </a:lnTo>
                <a:lnTo>
                  <a:pt x="504" y="3616"/>
                </a:lnTo>
                <a:lnTo>
                  <a:pt x="514" y="3630"/>
                </a:lnTo>
                <a:lnTo>
                  <a:pt x="526" y="3643"/>
                </a:lnTo>
                <a:lnTo>
                  <a:pt x="766" y="3883"/>
                </a:lnTo>
                <a:lnTo>
                  <a:pt x="779" y="3894"/>
                </a:lnTo>
                <a:lnTo>
                  <a:pt x="792" y="3904"/>
                </a:lnTo>
                <a:lnTo>
                  <a:pt x="807" y="3913"/>
                </a:lnTo>
                <a:lnTo>
                  <a:pt x="822" y="3921"/>
                </a:lnTo>
                <a:lnTo>
                  <a:pt x="837" y="3926"/>
                </a:lnTo>
                <a:lnTo>
                  <a:pt x="853" y="3930"/>
                </a:lnTo>
                <a:lnTo>
                  <a:pt x="869" y="3932"/>
                </a:lnTo>
                <a:lnTo>
                  <a:pt x="886" y="3933"/>
                </a:lnTo>
                <a:lnTo>
                  <a:pt x="902" y="3932"/>
                </a:lnTo>
                <a:lnTo>
                  <a:pt x="918" y="3930"/>
                </a:lnTo>
                <a:lnTo>
                  <a:pt x="934" y="3926"/>
                </a:lnTo>
                <a:lnTo>
                  <a:pt x="950" y="3921"/>
                </a:lnTo>
                <a:lnTo>
                  <a:pt x="965" y="3913"/>
                </a:lnTo>
                <a:lnTo>
                  <a:pt x="979" y="3904"/>
                </a:lnTo>
                <a:lnTo>
                  <a:pt x="993" y="3894"/>
                </a:lnTo>
                <a:lnTo>
                  <a:pt x="1005" y="3883"/>
                </a:lnTo>
                <a:lnTo>
                  <a:pt x="1150" y="3739"/>
                </a:lnTo>
                <a:lnTo>
                  <a:pt x="1163" y="3727"/>
                </a:lnTo>
                <a:lnTo>
                  <a:pt x="1177" y="3717"/>
                </a:lnTo>
                <a:lnTo>
                  <a:pt x="1192" y="3706"/>
                </a:lnTo>
                <a:lnTo>
                  <a:pt x="1208" y="3698"/>
                </a:lnTo>
                <a:lnTo>
                  <a:pt x="1225" y="3691"/>
                </a:lnTo>
                <a:lnTo>
                  <a:pt x="1243" y="3685"/>
                </a:lnTo>
                <a:lnTo>
                  <a:pt x="1260" y="3681"/>
                </a:lnTo>
                <a:lnTo>
                  <a:pt x="1278" y="3678"/>
                </a:lnTo>
                <a:lnTo>
                  <a:pt x="1296" y="3675"/>
                </a:lnTo>
                <a:lnTo>
                  <a:pt x="1315" y="3675"/>
                </a:lnTo>
                <a:lnTo>
                  <a:pt x="1333" y="3675"/>
                </a:lnTo>
                <a:lnTo>
                  <a:pt x="1351" y="3677"/>
                </a:lnTo>
                <a:lnTo>
                  <a:pt x="1370" y="3681"/>
                </a:lnTo>
                <a:lnTo>
                  <a:pt x="1387" y="3685"/>
                </a:lnTo>
                <a:lnTo>
                  <a:pt x="1403" y="3691"/>
                </a:lnTo>
                <a:lnTo>
                  <a:pt x="1419" y="3699"/>
                </a:lnTo>
                <a:lnTo>
                  <a:pt x="1703" y="3816"/>
                </a:lnTo>
                <a:lnTo>
                  <a:pt x="1719" y="3822"/>
                </a:lnTo>
                <a:lnTo>
                  <a:pt x="1736" y="3829"/>
                </a:lnTo>
                <a:lnTo>
                  <a:pt x="1751" y="3838"/>
                </a:lnTo>
                <a:lnTo>
                  <a:pt x="1766" y="3848"/>
                </a:lnTo>
                <a:lnTo>
                  <a:pt x="1780" y="3861"/>
                </a:lnTo>
                <a:lnTo>
                  <a:pt x="1793" y="3873"/>
                </a:lnTo>
                <a:lnTo>
                  <a:pt x="1807" y="3887"/>
                </a:lnTo>
                <a:lnTo>
                  <a:pt x="1818" y="3901"/>
                </a:lnTo>
                <a:lnTo>
                  <a:pt x="1828" y="3916"/>
                </a:lnTo>
                <a:lnTo>
                  <a:pt x="1837" y="3933"/>
                </a:lnTo>
                <a:lnTo>
                  <a:pt x="1845" y="3949"/>
                </a:lnTo>
                <a:lnTo>
                  <a:pt x="1852" y="3966"/>
                </a:lnTo>
                <a:lnTo>
                  <a:pt x="1858" y="3983"/>
                </a:lnTo>
                <a:lnTo>
                  <a:pt x="1861" y="4001"/>
                </a:lnTo>
                <a:lnTo>
                  <a:pt x="1864" y="4019"/>
                </a:lnTo>
                <a:lnTo>
                  <a:pt x="1866" y="4036"/>
                </a:lnTo>
                <a:lnTo>
                  <a:pt x="1866" y="4239"/>
                </a:lnTo>
                <a:lnTo>
                  <a:pt x="1867" y="4256"/>
                </a:lnTo>
                <a:lnTo>
                  <a:pt x="1869" y="4272"/>
                </a:lnTo>
                <a:lnTo>
                  <a:pt x="1873" y="4289"/>
                </a:lnTo>
                <a:lnTo>
                  <a:pt x="1879" y="4305"/>
                </a:lnTo>
                <a:lnTo>
                  <a:pt x="1886" y="4319"/>
                </a:lnTo>
                <a:lnTo>
                  <a:pt x="1894" y="4333"/>
                </a:lnTo>
                <a:lnTo>
                  <a:pt x="1904" y="4347"/>
                </a:lnTo>
                <a:lnTo>
                  <a:pt x="1915" y="4359"/>
                </a:lnTo>
                <a:lnTo>
                  <a:pt x="1927" y="4370"/>
                </a:lnTo>
                <a:lnTo>
                  <a:pt x="1941" y="4379"/>
                </a:lnTo>
                <a:lnTo>
                  <a:pt x="1954" y="4388"/>
                </a:lnTo>
                <a:lnTo>
                  <a:pt x="1969" y="4395"/>
                </a:lnTo>
                <a:lnTo>
                  <a:pt x="1984" y="4400"/>
                </a:lnTo>
                <a:lnTo>
                  <a:pt x="2000" y="4405"/>
                </a:lnTo>
                <a:lnTo>
                  <a:pt x="2018" y="4407"/>
                </a:lnTo>
                <a:lnTo>
                  <a:pt x="2035" y="4408"/>
                </a:lnTo>
                <a:lnTo>
                  <a:pt x="2374" y="4408"/>
                </a:lnTo>
                <a:lnTo>
                  <a:pt x="2391" y="4407"/>
                </a:lnTo>
                <a:lnTo>
                  <a:pt x="2408" y="4405"/>
                </a:lnTo>
                <a:lnTo>
                  <a:pt x="2424" y="4400"/>
                </a:lnTo>
                <a:lnTo>
                  <a:pt x="2440" y="4395"/>
                </a:lnTo>
                <a:lnTo>
                  <a:pt x="2455" y="4388"/>
                </a:lnTo>
                <a:lnTo>
                  <a:pt x="2469" y="4379"/>
                </a:lnTo>
                <a:lnTo>
                  <a:pt x="2481" y="4370"/>
                </a:lnTo>
                <a:lnTo>
                  <a:pt x="2493" y="4359"/>
                </a:lnTo>
                <a:lnTo>
                  <a:pt x="2505" y="4347"/>
                </a:lnTo>
                <a:lnTo>
                  <a:pt x="2515" y="4333"/>
                </a:lnTo>
                <a:lnTo>
                  <a:pt x="2523" y="4319"/>
                </a:lnTo>
                <a:lnTo>
                  <a:pt x="2530" y="4305"/>
                </a:lnTo>
                <a:lnTo>
                  <a:pt x="2536" y="4289"/>
                </a:lnTo>
                <a:lnTo>
                  <a:pt x="2540" y="4272"/>
                </a:lnTo>
                <a:lnTo>
                  <a:pt x="2543" y="4256"/>
                </a:lnTo>
                <a:lnTo>
                  <a:pt x="2543" y="4239"/>
                </a:lnTo>
                <a:lnTo>
                  <a:pt x="2543" y="4036"/>
                </a:lnTo>
                <a:lnTo>
                  <a:pt x="2544" y="4019"/>
                </a:lnTo>
                <a:lnTo>
                  <a:pt x="2547" y="4001"/>
                </a:lnTo>
                <a:lnTo>
                  <a:pt x="2551" y="3983"/>
                </a:lnTo>
                <a:lnTo>
                  <a:pt x="2556" y="3966"/>
                </a:lnTo>
                <a:lnTo>
                  <a:pt x="2563" y="3949"/>
                </a:lnTo>
                <a:lnTo>
                  <a:pt x="2571" y="3933"/>
                </a:lnTo>
                <a:lnTo>
                  <a:pt x="2581" y="3916"/>
                </a:lnTo>
                <a:lnTo>
                  <a:pt x="2591" y="3901"/>
                </a:lnTo>
                <a:lnTo>
                  <a:pt x="2603" y="3887"/>
                </a:lnTo>
                <a:lnTo>
                  <a:pt x="2615" y="3873"/>
                </a:lnTo>
                <a:lnTo>
                  <a:pt x="2628" y="3861"/>
                </a:lnTo>
                <a:lnTo>
                  <a:pt x="2642" y="3848"/>
                </a:lnTo>
                <a:lnTo>
                  <a:pt x="2658" y="3838"/>
                </a:lnTo>
                <a:lnTo>
                  <a:pt x="2673" y="3829"/>
                </a:lnTo>
                <a:lnTo>
                  <a:pt x="2689" y="3822"/>
                </a:lnTo>
                <a:lnTo>
                  <a:pt x="2705" y="3816"/>
                </a:lnTo>
                <a:lnTo>
                  <a:pt x="2989" y="3699"/>
                </a:lnTo>
                <a:lnTo>
                  <a:pt x="3006" y="3691"/>
                </a:lnTo>
                <a:lnTo>
                  <a:pt x="3022" y="3685"/>
                </a:lnTo>
                <a:lnTo>
                  <a:pt x="3039" y="3681"/>
                </a:lnTo>
                <a:lnTo>
                  <a:pt x="3057" y="3677"/>
                </a:lnTo>
                <a:lnTo>
                  <a:pt x="3076" y="3675"/>
                </a:lnTo>
                <a:lnTo>
                  <a:pt x="3094" y="3675"/>
                </a:lnTo>
                <a:lnTo>
                  <a:pt x="3112" y="3675"/>
                </a:lnTo>
                <a:lnTo>
                  <a:pt x="3130" y="3678"/>
                </a:lnTo>
                <a:lnTo>
                  <a:pt x="3149" y="3681"/>
                </a:lnTo>
                <a:lnTo>
                  <a:pt x="3167" y="3685"/>
                </a:lnTo>
                <a:lnTo>
                  <a:pt x="3184" y="3691"/>
                </a:lnTo>
                <a:lnTo>
                  <a:pt x="3201" y="3698"/>
                </a:lnTo>
                <a:lnTo>
                  <a:pt x="3217" y="3706"/>
                </a:lnTo>
                <a:lnTo>
                  <a:pt x="3232" y="3717"/>
                </a:lnTo>
                <a:lnTo>
                  <a:pt x="3246" y="3727"/>
                </a:lnTo>
                <a:lnTo>
                  <a:pt x="3259" y="3739"/>
                </a:lnTo>
                <a:lnTo>
                  <a:pt x="3403" y="3883"/>
                </a:lnTo>
                <a:lnTo>
                  <a:pt x="3415" y="3894"/>
                </a:lnTo>
                <a:lnTo>
                  <a:pt x="3430" y="3904"/>
                </a:lnTo>
                <a:lnTo>
                  <a:pt x="3444" y="3913"/>
                </a:lnTo>
                <a:lnTo>
                  <a:pt x="3459" y="3921"/>
                </a:lnTo>
                <a:lnTo>
                  <a:pt x="3474" y="3926"/>
                </a:lnTo>
                <a:lnTo>
                  <a:pt x="3490" y="3930"/>
                </a:lnTo>
                <a:lnTo>
                  <a:pt x="3507" y="3932"/>
                </a:lnTo>
                <a:lnTo>
                  <a:pt x="3523" y="3933"/>
                </a:lnTo>
                <a:lnTo>
                  <a:pt x="3539" y="3932"/>
                </a:lnTo>
                <a:lnTo>
                  <a:pt x="3555" y="3930"/>
                </a:lnTo>
                <a:lnTo>
                  <a:pt x="3572" y="3926"/>
                </a:lnTo>
                <a:lnTo>
                  <a:pt x="3587" y="3921"/>
                </a:lnTo>
                <a:lnTo>
                  <a:pt x="3602" y="3913"/>
                </a:lnTo>
                <a:lnTo>
                  <a:pt x="3616" y="3904"/>
                </a:lnTo>
                <a:lnTo>
                  <a:pt x="3630" y="3894"/>
                </a:lnTo>
                <a:lnTo>
                  <a:pt x="3643" y="3883"/>
                </a:lnTo>
                <a:lnTo>
                  <a:pt x="3883" y="3643"/>
                </a:lnTo>
                <a:lnTo>
                  <a:pt x="3895" y="3630"/>
                </a:lnTo>
                <a:lnTo>
                  <a:pt x="3904" y="3616"/>
                </a:lnTo>
                <a:lnTo>
                  <a:pt x="3913" y="3602"/>
                </a:lnTo>
                <a:lnTo>
                  <a:pt x="3920" y="3587"/>
                </a:lnTo>
                <a:lnTo>
                  <a:pt x="3926" y="3572"/>
                </a:lnTo>
                <a:lnTo>
                  <a:pt x="3930" y="3555"/>
                </a:lnTo>
                <a:lnTo>
                  <a:pt x="3932" y="3539"/>
                </a:lnTo>
                <a:lnTo>
                  <a:pt x="3933" y="3523"/>
                </a:lnTo>
                <a:lnTo>
                  <a:pt x="3932" y="3507"/>
                </a:lnTo>
                <a:lnTo>
                  <a:pt x="3930" y="3490"/>
                </a:lnTo>
                <a:lnTo>
                  <a:pt x="3926" y="3474"/>
                </a:lnTo>
                <a:lnTo>
                  <a:pt x="3920" y="3459"/>
                </a:lnTo>
                <a:lnTo>
                  <a:pt x="3913" y="3444"/>
                </a:lnTo>
                <a:lnTo>
                  <a:pt x="3904" y="3430"/>
                </a:lnTo>
                <a:lnTo>
                  <a:pt x="3895" y="3415"/>
                </a:lnTo>
                <a:lnTo>
                  <a:pt x="3883" y="3403"/>
                </a:lnTo>
                <a:lnTo>
                  <a:pt x="3739" y="3259"/>
                </a:lnTo>
                <a:lnTo>
                  <a:pt x="3727" y="3246"/>
                </a:lnTo>
                <a:lnTo>
                  <a:pt x="3717" y="3232"/>
                </a:lnTo>
                <a:lnTo>
                  <a:pt x="3706" y="3217"/>
                </a:lnTo>
                <a:lnTo>
                  <a:pt x="3698" y="3200"/>
                </a:lnTo>
                <a:lnTo>
                  <a:pt x="3691" y="3184"/>
                </a:lnTo>
                <a:lnTo>
                  <a:pt x="3685" y="3166"/>
                </a:lnTo>
                <a:lnTo>
                  <a:pt x="3681" y="3149"/>
                </a:lnTo>
                <a:lnTo>
                  <a:pt x="3678" y="3130"/>
                </a:lnTo>
                <a:lnTo>
                  <a:pt x="3675" y="3112"/>
                </a:lnTo>
                <a:lnTo>
                  <a:pt x="3675" y="3094"/>
                </a:lnTo>
                <a:lnTo>
                  <a:pt x="3675" y="3075"/>
                </a:lnTo>
                <a:lnTo>
                  <a:pt x="3677" y="3057"/>
                </a:lnTo>
                <a:lnTo>
                  <a:pt x="3680" y="3039"/>
                </a:lnTo>
                <a:lnTo>
                  <a:pt x="3685" y="3022"/>
                </a:lnTo>
                <a:lnTo>
                  <a:pt x="3691" y="3006"/>
                </a:lnTo>
                <a:lnTo>
                  <a:pt x="3699" y="2989"/>
                </a:lnTo>
                <a:lnTo>
                  <a:pt x="3816" y="2705"/>
                </a:lnTo>
                <a:lnTo>
                  <a:pt x="3822" y="2689"/>
                </a:lnTo>
                <a:lnTo>
                  <a:pt x="3829" y="2673"/>
                </a:lnTo>
                <a:lnTo>
                  <a:pt x="3838" y="2658"/>
                </a:lnTo>
                <a:lnTo>
                  <a:pt x="3848" y="2642"/>
                </a:lnTo>
                <a:lnTo>
                  <a:pt x="3861" y="2628"/>
                </a:lnTo>
                <a:lnTo>
                  <a:pt x="3873" y="2615"/>
                </a:lnTo>
                <a:lnTo>
                  <a:pt x="3887" y="2603"/>
                </a:lnTo>
                <a:lnTo>
                  <a:pt x="3901" y="2591"/>
                </a:lnTo>
                <a:lnTo>
                  <a:pt x="3916" y="2581"/>
                </a:lnTo>
                <a:lnTo>
                  <a:pt x="3933" y="2571"/>
                </a:lnTo>
                <a:lnTo>
                  <a:pt x="3949" y="2563"/>
                </a:lnTo>
                <a:lnTo>
                  <a:pt x="3966" y="2556"/>
                </a:lnTo>
                <a:lnTo>
                  <a:pt x="3983" y="2551"/>
                </a:lnTo>
                <a:lnTo>
                  <a:pt x="4001" y="2547"/>
                </a:lnTo>
                <a:lnTo>
                  <a:pt x="4018" y="2544"/>
                </a:lnTo>
                <a:lnTo>
                  <a:pt x="4036" y="2543"/>
                </a:lnTo>
                <a:lnTo>
                  <a:pt x="4239" y="2543"/>
                </a:lnTo>
                <a:lnTo>
                  <a:pt x="4256" y="2543"/>
                </a:lnTo>
                <a:lnTo>
                  <a:pt x="4273" y="2540"/>
                </a:lnTo>
                <a:lnTo>
                  <a:pt x="4290" y="2536"/>
                </a:lnTo>
                <a:lnTo>
                  <a:pt x="4305" y="2530"/>
                </a:lnTo>
                <a:lnTo>
                  <a:pt x="4320" y="2523"/>
                </a:lnTo>
                <a:lnTo>
                  <a:pt x="4333" y="2515"/>
                </a:lnTo>
                <a:lnTo>
                  <a:pt x="4346" y="2504"/>
                </a:lnTo>
                <a:lnTo>
                  <a:pt x="4359" y="2493"/>
                </a:lnTo>
                <a:lnTo>
                  <a:pt x="4370" y="2481"/>
                </a:lnTo>
                <a:lnTo>
                  <a:pt x="4380" y="2469"/>
                </a:lnTo>
                <a:lnTo>
                  <a:pt x="4388" y="2455"/>
                </a:lnTo>
                <a:lnTo>
                  <a:pt x="4395" y="2440"/>
                </a:lnTo>
                <a:lnTo>
                  <a:pt x="4401" y="2424"/>
                </a:lnTo>
                <a:lnTo>
                  <a:pt x="4405" y="2408"/>
                </a:lnTo>
                <a:lnTo>
                  <a:pt x="4407" y="2391"/>
                </a:lnTo>
                <a:lnTo>
                  <a:pt x="4408" y="2374"/>
                </a:lnTo>
                <a:lnTo>
                  <a:pt x="4408" y="2035"/>
                </a:lnTo>
                <a:lnTo>
                  <a:pt x="4407" y="2018"/>
                </a:lnTo>
                <a:lnTo>
                  <a:pt x="4405" y="2000"/>
                </a:lnTo>
                <a:lnTo>
                  <a:pt x="4401" y="1984"/>
                </a:lnTo>
                <a:lnTo>
                  <a:pt x="4395" y="1969"/>
                </a:lnTo>
                <a:lnTo>
                  <a:pt x="4388" y="1954"/>
                </a:lnTo>
                <a:lnTo>
                  <a:pt x="4380" y="1939"/>
                </a:lnTo>
                <a:lnTo>
                  <a:pt x="4370" y="1926"/>
                </a:lnTo>
                <a:lnTo>
                  <a:pt x="4359" y="1915"/>
                </a:lnTo>
                <a:lnTo>
                  <a:pt x="4346" y="1904"/>
                </a:lnTo>
                <a:lnTo>
                  <a:pt x="4333" y="1894"/>
                </a:lnTo>
                <a:lnTo>
                  <a:pt x="4320" y="1886"/>
                </a:lnTo>
                <a:lnTo>
                  <a:pt x="4305" y="1879"/>
                </a:lnTo>
                <a:lnTo>
                  <a:pt x="4290" y="1873"/>
                </a:lnTo>
                <a:lnTo>
                  <a:pt x="4273" y="1868"/>
                </a:lnTo>
                <a:lnTo>
                  <a:pt x="4256" y="1865"/>
                </a:lnTo>
                <a:lnTo>
                  <a:pt x="4239" y="1864"/>
                </a:lnTo>
                <a:close/>
                <a:moveTo>
                  <a:pt x="3052" y="2204"/>
                </a:moveTo>
                <a:lnTo>
                  <a:pt x="3052" y="2204"/>
                </a:lnTo>
                <a:lnTo>
                  <a:pt x="3051" y="2248"/>
                </a:lnTo>
                <a:lnTo>
                  <a:pt x="3048" y="2290"/>
                </a:lnTo>
                <a:lnTo>
                  <a:pt x="3043" y="2333"/>
                </a:lnTo>
                <a:lnTo>
                  <a:pt x="3035" y="2375"/>
                </a:lnTo>
                <a:lnTo>
                  <a:pt x="3026" y="2415"/>
                </a:lnTo>
                <a:lnTo>
                  <a:pt x="3015" y="2456"/>
                </a:lnTo>
                <a:lnTo>
                  <a:pt x="3002" y="2495"/>
                </a:lnTo>
                <a:lnTo>
                  <a:pt x="2986" y="2534"/>
                </a:lnTo>
                <a:lnTo>
                  <a:pt x="2969" y="2571"/>
                </a:lnTo>
                <a:lnTo>
                  <a:pt x="2950" y="2608"/>
                </a:lnTo>
                <a:lnTo>
                  <a:pt x="2929" y="2643"/>
                </a:lnTo>
                <a:lnTo>
                  <a:pt x="2908" y="2678"/>
                </a:lnTo>
                <a:lnTo>
                  <a:pt x="2884" y="2711"/>
                </a:lnTo>
                <a:lnTo>
                  <a:pt x="2858" y="2743"/>
                </a:lnTo>
                <a:lnTo>
                  <a:pt x="2832" y="2774"/>
                </a:lnTo>
                <a:lnTo>
                  <a:pt x="2805" y="2804"/>
                </a:lnTo>
                <a:lnTo>
                  <a:pt x="2775" y="2831"/>
                </a:lnTo>
                <a:lnTo>
                  <a:pt x="2744" y="2858"/>
                </a:lnTo>
                <a:lnTo>
                  <a:pt x="2712" y="2883"/>
                </a:lnTo>
                <a:lnTo>
                  <a:pt x="2679" y="2907"/>
                </a:lnTo>
                <a:lnTo>
                  <a:pt x="2644" y="2928"/>
                </a:lnTo>
                <a:lnTo>
                  <a:pt x="2609" y="2949"/>
                </a:lnTo>
                <a:lnTo>
                  <a:pt x="2572" y="2968"/>
                </a:lnTo>
                <a:lnTo>
                  <a:pt x="2535" y="2985"/>
                </a:lnTo>
                <a:lnTo>
                  <a:pt x="2496" y="3000"/>
                </a:lnTo>
                <a:lnTo>
                  <a:pt x="2457" y="3014"/>
                </a:lnTo>
                <a:lnTo>
                  <a:pt x="2416" y="3025"/>
                </a:lnTo>
                <a:lnTo>
                  <a:pt x="2376" y="3034"/>
                </a:lnTo>
                <a:lnTo>
                  <a:pt x="2334" y="3042"/>
                </a:lnTo>
                <a:lnTo>
                  <a:pt x="2292" y="3047"/>
                </a:lnTo>
                <a:lnTo>
                  <a:pt x="2249" y="3050"/>
                </a:lnTo>
                <a:lnTo>
                  <a:pt x="2205" y="3051"/>
                </a:lnTo>
                <a:lnTo>
                  <a:pt x="2162" y="3050"/>
                </a:lnTo>
                <a:lnTo>
                  <a:pt x="2118" y="3047"/>
                </a:lnTo>
                <a:lnTo>
                  <a:pt x="2075" y="3042"/>
                </a:lnTo>
                <a:lnTo>
                  <a:pt x="2034" y="3034"/>
                </a:lnTo>
                <a:lnTo>
                  <a:pt x="1993" y="3025"/>
                </a:lnTo>
                <a:lnTo>
                  <a:pt x="1953" y="3014"/>
                </a:lnTo>
                <a:lnTo>
                  <a:pt x="1913" y="3000"/>
                </a:lnTo>
                <a:lnTo>
                  <a:pt x="1875" y="2985"/>
                </a:lnTo>
                <a:lnTo>
                  <a:pt x="1837" y="2968"/>
                </a:lnTo>
                <a:lnTo>
                  <a:pt x="1801" y="2949"/>
                </a:lnTo>
                <a:lnTo>
                  <a:pt x="1765" y="2928"/>
                </a:lnTo>
                <a:lnTo>
                  <a:pt x="1731" y="2907"/>
                </a:lnTo>
                <a:lnTo>
                  <a:pt x="1697" y="2883"/>
                </a:lnTo>
                <a:lnTo>
                  <a:pt x="1666" y="2858"/>
                </a:lnTo>
                <a:lnTo>
                  <a:pt x="1635" y="2831"/>
                </a:lnTo>
                <a:lnTo>
                  <a:pt x="1605" y="2804"/>
                </a:lnTo>
                <a:lnTo>
                  <a:pt x="1577" y="2774"/>
                </a:lnTo>
                <a:lnTo>
                  <a:pt x="1551" y="2743"/>
                </a:lnTo>
                <a:lnTo>
                  <a:pt x="1526" y="2711"/>
                </a:lnTo>
                <a:lnTo>
                  <a:pt x="1501" y="2678"/>
                </a:lnTo>
                <a:lnTo>
                  <a:pt x="1480" y="2643"/>
                </a:lnTo>
                <a:lnTo>
                  <a:pt x="1460" y="2608"/>
                </a:lnTo>
                <a:lnTo>
                  <a:pt x="1441" y="2571"/>
                </a:lnTo>
                <a:lnTo>
                  <a:pt x="1423" y="2534"/>
                </a:lnTo>
                <a:lnTo>
                  <a:pt x="1408" y="2495"/>
                </a:lnTo>
                <a:lnTo>
                  <a:pt x="1395" y="2456"/>
                </a:lnTo>
                <a:lnTo>
                  <a:pt x="1384" y="2415"/>
                </a:lnTo>
                <a:lnTo>
                  <a:pt x="1375" y="2375"/>
                </a:lnTo>
                <a:lnTo>
                  <a:pt x="1366" y="2333"/>
                </a:lnTo>
                <a:lnTo>
                  <a:pt x="1361" y="2290"/>
                </a:lnTo>
                <a:lnTo>
                  <a:pt x="1358" y="2248"/>
                </a:lnTo>
                <a:lnTo>
                  <a:pt x="1357" y="2204"/>
                </a:lnTo>
                <a:lnTo>
                  <a:pt x="1358" y="2161"/>
                </a:lnTo>
                <a:lnTo>
                  <a:pt x="1361" y="2117"/>
                </a:lnTo>
                <a:lnTo>
                  <a:pt x="1366" y="2074"/>
                </a:lnTo>
                <a:lnTo>
                  <a:pt x="1375" y="2033"/>
                </a:lnTo>
                <a:lnTo>
                  <a:pt x="1384" y="1992"/>
                </a:lnTo>
                <a:lnTo>
                  <a:pt x="1395" y="1952"/>
                </a:lnTo>
                <a:lnTo>
                  <a:pt x="1408" y="1912"/>
                </a:lnTo>
                <a:lnTo>
                  <a:pt x="1423" y="1874"/>
                </a:lnTo>
                <a:lnTo>
                  <a:pt x="1441" y="1836"/>
                </a:lnTo>
                <a:lnTo>
                  <a:pt x="1460" y="1799"/>
                </a:lnTo>
                <a:lnTo>
                  <a:pt x="1480" y="1764"/>
                </a:lnTo>
                <a:lnTo>
                  <a:pt x="1501" y="1729"/>
                </a:lnTo>
                <a:lnTo>
                  <a:pt x="1526" y="1697"/>
                </a:lnTo>
                <a:lnTo>
                  <a:pt x="1551" y="1665"/>
                </a:lnTo>
                <a:lnTo>
                  <a:pt x="1577" y="1634"/>
                </a:lnTo>
                <a:lnTo>
                  <a:pt x="1605" y="1605"/>
                </a:lnTo>
                <a:lnTo>
                  <a:pt x="1635" y="1576"/>
                </a:lnTo>
                <a:lnTo>
                  <a:pt x="1666" y="1550"/>
                </a:lnTo>
                <a:lnTo>
                  <a:pt x="1697" y="1525"/>
                </a:lnTo>
                <a:lnTo>
                  <a:pt x="1731" y="1501"/>
                </a:lnTo>
                <a:lnTo>
                  <a:pt x="1765" y="1479"/>
                </a:lnTo>
                <a:lnTo>
                  <a:pt x="1801" y="1459"/>
                </a:lnTo>
                <a:lnTo>
                  <a:pt x="1837" y="1439"/>
                </a:lnTo>
                <a:lnTo>
                  <a:pt x="1875" y="1423"/>
                </a:lnTo>
                <a:lnTo>
                  <a:pt x="1913" y="1408"/>
                </a:lnTo>
                <a:lnTo>
                  <a:pt x="1953" y="1394"/>
                </a:lnTo>
                <a:lnTo>
                  <a:pt x="1993" y="1383"/>
                </a:lnTo>
                <a:lnTo>
                  <a:pt x="2034" y="1373"/>
                </a:lnTo>
                <a:lnTo>
                  <a:pt x="2075" y="1365"/>
                </a:lnTo>
                <a:lnTo>
                  <a:pt x="2118" y="1360"/>
                </a:lnTo>
                <a:lnTo>
                  <a:pt x="2162" y="1357"/>
                </a:lnTo>
                <a:lnTo>
                  <a:pt x="2205" y="1356"/>
                </a:lnTo>
                <a:lnTo>
                  <a:pt x="2249" y="1357"/>
                </a:lnTo>
                <a:lnTo>
                  <a:pt x="2292" y="1360"/>
                </a:lnTo>
                <a:lnTo>
                  <a:pt x="2334" y="1365"/>
                </a:lnTo>
                <a:lnTo>
                  <a:pt x="2376" y="1373"/>
                </a:lnTo>
                <a:lnTo>
                  <a:pt x="2416" y="1383"/>
                </a:lnTo>
                <a:lnTo>
                  <a:pt x="2457" y="1394"/>
                </a:lnTo>
                <a:lnTo>
                  <a:pt x="2496" y="1408"/>
                </a:lnTo>
                <a:lnTo>
                  <a:pt x="2535" y="1423"/>
                </a:lnTo>
                <a:lnTo>
                  <a:pt x="2572" y="1439"/>
                </a:lnTo>
                <a:lnTo>
                  <a:pt x="2609" y="1459"/>
                </a:lnTo>
                <a:lnTo>
                  <a:pt x="2644" y="1479"/>
                </a:lnTo>
                <a:lnTo>
                  <a:pt x="2679" y="1501"/>
                </a:lnTo>
                <a:lnTo>
                  <a:pt x="2712" y="1525"/>
                </a:lnTo>
                <a:lnTo>
                  <a:pt x="2744" y="1550"/>
                </a:lnTo>
                <a:lnTo>
                  <a:pt x="2775" y="1576"/>
                </a:lnTo>
                <a:lnTo>
                  <a:pt x="2805" y="1605"/>
                </a:lnTo>
                <a:lnTo>
                  <a:pt x="2832" y="1634"/>
                </a:lnTo>
                <a:lnTo>
                  <a:pt x="2858" y="1665"/>
                </a:lnTo>
                <a:lnTo>
                  <a:pt x="2884" y="1697"/>
                </a:lnTo>
                <a:lnTo>
                  <a:pt x="2908" y="1729"/>
                </a:lnTo>
                <a:lnTo>
                  <a:pt x="2929" y="1764"/>
                </a:lnTo>
                <a:lnTo>
                  <a:pt x="2950" y="1799"/>
                </a:lnTo>
                <a:lnTo>
                  <a:pt x="2969" y="1836"/>
                </a:lnTo>
                <a:lnTo>
                  <a:pt x="2986" y="1874"/>
                </a:lnTo>
                <a:lnTo>
                  <a:pt x="3002" y="1912"/>
                </a:lnTo>
                <a:lnTo>
                  <a:pt x="3015" y="1952"/>
                </a:lnTo>
                <a:lnTo>
                  <a:pt x="3026" y="1992"/>
                </a:lnTo>
                <a:lnTo>
                  <a:pt x="3035" y="2033"/>
                </a:lnTo>
                <a:lnTo>
                  <a:pt x="3043" y="2074"/>
                </a:lnTo>
                <a:lnTo>
                  <a:pt x="3048" y="2117"/>
                </a:lnTo>
                <a:lnTo>
                  <a:pt x="3051" y="2161"/>
                </a:lnTo>
                <a:lnTo>
                  <a:pt x="3052" y="22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文本框 30"/>
          <p:cNvSpPr/>
          <p:nvPr/>
        </p:nvSpPr>
        <p:spPr>
          <a:xfrm>
            <a:off x="1608120" y="5048280"/>
            <a:ext cx="1279440" cy="368280"/>
          </a:xfrm>
          <a:prstGeom prst="rect">
            <a:avLst/>
          </a:prstGeom>
          <a:solidFill>
            <a:srgbClr val="f05a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1" name="文本框 31"/>
          <p:cNvSpPr/>
          <p:nvPr/>
        </p:nvSpPr>
        <p:spPr>
          <a:xfrm>
            <a:off x="4076640" y="5048280"/>
            <a:ext cx="1279440" cy="368280"/>
          </a:xfrm>
          <a:prstGeom prst="rect">
            <a:avLst/>
          </a:prstGeom>
          <a:solidFill>
            <a:srgbClr val="8bc53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2" name="文本框 32"/>
          <p:cNvSpPr/>
          <p:nvPr/>
        </p:nvSpPr>
        <p:spPr>
          <a:xfrm>
            <a:off x="6837480" y="5048280"/>
            <a:ext cx="1279440" cy="368280"/>
          </a:xfrm>
          <a:prstGeom prst="rect">
            <a:avLst/>
          </a:prstGeom>
          <a:solidFill>
            <a:srgbClr val="a362c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3" name="文本框 33"/>
          <p:cNvSpPr/>
          <p:nvPr/>
        </p:nvSpPr>
        <p:spPr>
          <a:xfrm>
            <a:off x="9316440" y="5048280"/>
            <a:ext cx="1279440" cy="368280"/>
          </a:xfrm>
          <a:prstGeom prst="rect">
            <a:avLst/>
          </a:prstGeom>
          <a:solidFill>
            <a:srgbClr val="faaf3b"/>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KEYWORD</a:t>
            </a:r>
            <a:endParaRPr b="0" lang="en-US" sz="1800" spc="-1" strike="noStrike">
              <a:solidFill>
                <a:srgbClr val="000000"/>
              </a:solidFill>
              <a:latin typeface="Calibri"/>
            </a:endParaRPr>
          </a:p>
        </p:txBody>
      </p:sp>
      <p:sp>
        <p:nvSpPr>
          <p:cNvPr id="604" name="TextBox 15"/>
          <p:cNvSpPr/>
          <p:nvPr/>
        </p:nvSpPr>
        <p:spPr>
          <a:xfrm>
            <a:off x="124632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5" name="TextBox 15"/>
          <p:cNvSpPr/>
          <p:nvPr/>
        </p:nvSpPr>
        <p:spPr>
          <a:xfrm>
            <a:off x="36990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6" name="TextBox 15"/>
          <p:cNvSpPr/>
          <p:nvPr/>
        </p:nvSpPr>
        <p:spPr>
          <a:xfrm>
            <a:off x="641520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
        <p:nvSpPr>
          <p:cNvPr id="607" name="TextBox 15"/>
          <p:cNvSpPr/>
          <p:nvPr/>
        </p:nvSpPr>
        <p:spPr>
          <a:xfrm>
            <a:off x="8906040" y="5611680"/>
            <a:ext cx="20034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a:t>
            </a:r>
            <a:endParaRPr b="0" lang="en-US" sz="12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图片 2" descr=""/>
          <p:cNvPicPr/>
          <p:nvPr/>
        </p:nvPicPr>
        <p:blipFill>
          <a:blip r:embed="rId1"/>
          <a:srcRect l="0" t="0" r="6374" b="0"/>
          <a:stretch/>
        </p:blipFill>
        <p:spPr>
          <a:xfrm>
            <a:off x="379440" y="1359000"/>
            <a:ext cx="11433240" cy="2773440"/>
          </a:xfrm>
          <a:prstGeom prst="rect">
            <a:avLst/>
          </a:prstGeom>
          <a:ln w="0">
            <a:noFill/>
          </a:ln>
        </p:spPr>
      </p:pic>
      <p:sp>
        <p:nvSpPr>
          <p:cNvPr id="609" name="任意多边形 3"/>
          <p:cNvSpPr/>
          <p:nvPr/>
        </p:nvSpPr>
        <p:spPr>
          <a:xfrm flipH="1" rot="16200000">
            <a:off x="8502120" y="822960"/>
            <a:ext cx="2773440" cy="384516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KSO_Shape"/>
          <p:cNvSpPr/>
          <p:nvPr/>
        </p:nvSpPr>
        <p:spPr>
          <a:xfrm>
            <a:off x="9388440" y="1647720"/>
            <a:ext cx="1320840" cy="1306440"/>
          </a:xfrm>
          <a:custGeom>
            <a:avLst/>
            <a:gdLst/>
            <a:ahLst/>
            <a:rect l="l" t="t" r="r" b="b"/>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矩形 13"/>
          <p:cNvSpPr/>
          <p:nvPr/>
        </p:nvSpPr>
        <p:spPr>
          <a:xfrm>
            <a:off x="8751960" y="2908440"/>
            <a:ext cx="259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Calibri"/>
            </a:endParaRPr>
          </a:p>
        </p:txBody>
      </p:sp>
      <p:sp>
        <p:nvSpPr>
          <p:cNvPr id="612" name="TextBox 15"/>
          <p:cNvSpPr/>
          <p:nvPr/>
        </p:nvSpPr>
        <p:spPr>
          <a:xfrm>
            <a:off x="1235160" y="4422600"/>
            <a:ext cx="970416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a:t>
            </a:r>
            <a:endParaRPr b="0" lang="en-US" sz="16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矩形 5"/>
          <p:cNvSpPr/>
          <p:nvPr/>
        </p:nvSpPr>
        <p:spPr>
          <a:xfrm>
            <a:off x="5830920" y="-42840"/>
            <a:ext cx="60156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614" name="矩形 1"/>
          <p:cNvSpPr/>
          <p:nvPr/>
        </p:nvSpPr>
        <p:spPr>
          <a:xfrm>
            <a:off x="4725360" y="4257720"/>
            <a:ext cx="27410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应用价值</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Application Value </a:t>
            </a:r>
            <a:endParaRPr b="0" lang="en-US" sz="2400" spc="-1" strike="noStrike">
              <a:solidFill>
                <a:srgbClr val="000000"/>
              </a:solidFill>
              <a:latin typeface="Calibri"/>
            </a:endParaRPr>
          </a:p>
        </p:txBody>
      </p:sp>
      <p:grpSp>
        <p:nvGrpSpPr>
          <p:cNvPr id="615" name="组合 15"/>
          <p:cNvGrpSpPr/>
          <p:nvPr/>
        </p:nvGrpSpPr>
        <p:grpSpPr>
          <a:xfrm>
            <a:off x="4915080" y="1460520"/>
            <a:ext cx="2431800" cy="2432160"/>
            <a:chOff x="4915080" y="1460520"/>
            <a:chExt cx="2431800" cy="2432160"/>
          </a:xfrm>
        </p:grpSpPr>
        <p:sp>
          <p:nvSpPr>
            <p:cNvPr id="616" name="KSO_Shape"/>
            <p:cNvSpPr/>
            <p:nvPr/>
          </p:nvSpPr>
          <p:spPr>
            <a:xfrm>
              <a:off x="5418000" y="1879560"/>
              <a:ext cx="1425600" cy="1594080"/>
            </a:xfrm>
            <a:custGeom>
              <a:avLst/>
              <a:gdLst/>
              <a:ahLst/>
              <a:rect l="l" t="t" r="r" b="b"/>
              <a:pathLst>
                <a:path w="2033587" h="2276475">
                  <a:moveTo>
                    <a:pt x="312737" y="1411287"/>
                  </a:moveTo>
                  <a:lnTo>
                    <a:pt x="1422400" y="1411287"/>
                  </a:lnTo>
                  <a:lnTo>
                    <a:pt x="1422400" y="1552575"/>
                  </a:lnTo>
                  <a:lnTo>
                    <a:pt x="312737" y="1552575"/>
                  </a:lnTo>
                  <a:lnTo>
                    <a:pt x="312737" y="1411287"/>
                  </a:lnTo>
                  <a:close/>
                  <a:moveTo>
                    <a:pt x="296862" y="1128712"/>
                  </a:moveTo>
                  <a:lnTo>
                    <a:pt x="1404937" y="1128712"/>
                  </a:lnTo>
                  <a:lnTo>
                    <a:pt x="1404937" y="1270000"/>
                  </a:lnTo>
                  <a:lnTo>
                    <a:pt x="296862" y="1270000"/>
                  </a:lnTo>
                  <a:lnTo>
                    <a:pt x="296862" y="1128712"/>
                  </a:lnTo>
                  <a:close/>
                  <a:moveTo>
                    <a:pt x="296862" y="847725"/>
                  </a:moveTo>
                  <a:lnTo>
                    <a:pt x="1404937" y="847725"/>
                  </a:lnTo>
                  <a:lnTo>
                    <a:pt x="1404937" y="987425"/>
                  </a:lnTo>
                  <a:lnTo>
                    <a:pt x="296862" y="987425"/>
                  </a:lnTo>
                  <a:lnTo>
                    <a:pt x="296862" y="847725"/>
                  </a:lnTo>
                  <a:close/>
                  <a:moveTo>
                    <a:pt x="869950" y="565150"/>
                  </a:moveTo>
                  <a:lnTo>
                    <a:pt x="1408113" y="565150"/>
                  </a:lnTo>
                  <a:lnTo>
                    <a:pt x="1408113" y="706438"/>
                  </a:lnTo>
                  <a:lnTo>
                    <a:pt x="869950" y="706438"/>
                  </a:lnTo>
                  <a:lnTo>
                    <a:pt x="869950" y="565150"/>
                  </a:lnTo>
                  <a:close/>
                  <a:moveTo>
                    <a:pt x="1869440" y="276225"/>
                  </a:moveTo>
                  <a:lnTo>
                    <a:pt x="1877695" y="276543"/>
                  </a:lnTo>
                  <a:lnTo>
                    <a:pt x="1885950" y="276860"/>
                  </a:lnTo>
                  <a:lnTo>
                    <a:pt x="1894522" y="278130"/>
                  </a:lnTo>
                  <a:lnTo>
                    <a:pt x="1902460" y="279400"/>
                  </a:lnTo>
                  <a:lnTo>
                    <a:pt x="1910080" y="281305"/>
                  </a:lnTo>
                  <a:lnTo>
                    <a:pt x="1918017" y="283528"/>
                  </a:lnTo>
                  <a:lnTo>
                    <a:pt x="1925955" y="286068"/>
                  </a:lnTo>
                  <a:lnTo>
                    <a:pt x="1933257" y="288925"/>
                  </a:lnTo>
                  <a:lnTo>
                    <a:pt x="1940242" y="292418"/>
                  </a:lnTo>
                  <a:lnTo>
                    <a:pt x="1947545" y="296228"/>
                  </a:lnTo>
                  <a:lnTo>
                    <a:pt x="1954530" y="299720"/>
                  </a:lnTo>
                  <a:lnTo>
                    <a:pt x="1961197" y="304165"/>
                  </a:lnTo>
                  <a:lnTo>
                    <a:pt x="1967865" y="308928"/>
                  </a:lnTo>
                  <a:lnTo>
                    <a:pt x="1973897" y="313690"/>
                  </a:lnTo>
                  <a:lnTo>
                    <a:pt x="1979612" y="318770"/>
                  </a:lnTo>
                  <a:lnTo>
                    <a:pt x="1985645" y="324168"/>
                  </a:lnTo>
                  <a:lnTo>
                    <a:pt x="1991042" y="330200"/>
                  </a:lnTo>
                  <a:lnTo>
                    <a:pt x="1996122" y="335915"/>
                  </a:lnTo>
                  <a:lnTo>
                    <a:pt x="2000885" y="342265"/>
                  </a:lnTo>
                  <a:lnTo>
                    <a:pt x="2005647" y="348615"/>
                  </a:lnTo>
                  <a:lnTo>
                    <a:pt x="2010092" y="355283"/>
                  </a:lnTo>
                  <a:lnTo>
                    <a:pt x="2013585" y="362268"/>
                  </a:lnTo>
                  <a:lnTo>
                    <a:pt x="2017395" y="369570"/>
                  </a:lnTo>
                  <a:lnTo>
                    <a:pt x="2020570" y="376873"/>
                  </a:lnTo>
                  <a:lnTo>
                    <a:pt x="2023745" y="384175"/>
                  </a:lnTo>
                  <a:lnTo>
                    <a:pt x="2026285" y="391795"/>
                  </a:lnTo>
                  <a:lnTo>
                    <a:pt x="2028507" y="399733"/>
                  </a:lnTo>
                  <a:lnTo>
                    <a:pt x="2030412" y="407670"/>
                  </a:lnTo>
                  <a:lnTo>
                    <a:pt x="2032000" y="415608"/>
                  </a:lnTo>
                  <a:lnTo>
                    <a:pt x="2032952" y="423863"/>
                  </a:lnTo>
                  <a:lnTo>
                    <a:pt x="2033270" y="432118"/>
                  </a:lnTo>
                  <a:lnTo>
                    <a:pt x="2033587" y="440373"/>
                  </a:lnTo>
                  <a:lnTo>
                    <a:pt x="2033587" y="2112328"/>
                  </a:lnTo>
                  <a:lnTo>
                    <a:pt x="2033270" y="2120583"/>
                  </a:lnTo>
                  <a:lnTo>
                    <a:pt x="2032952" y="2128838"/>
                  </a:lnTo>
                  <a:lnTo>
                    <a:pt x="2032000" y="2137410"/>
                  </a:lnTo>
                  <a:lnTo>
                    <a:pt x="2030412" y="2145348"/>
                  </a:lnTo>
                  <a:lnTo>
                    <a:pt x="2028507" y="2153285"/>
                  </a:lnTo>
                  <a:lnTo>
                    <a:pt x="2026285" y="2160905"/>
                  </a:lnTo>
                  <a:lnTo>
                    <a:pt x="2023745" y="2168525"/>
                  </a:lnTo>
                  <a:lnTo>
                    <a:pt x="2020570" y="2175828"/>
                  </a:lnTo>
                  <a:lnTo>
                    <a:pt x="2017395" y="2183130"/>
                  </a:lnTo>
                  <a:lnTo>
                    <a:pt x="2013585" y="2190433"/>
                  </a:lnTo>
                  <a:lnTo>
                    <a:pt x="2010092" y="2197418"/>
                  </a:lnTo>
                  <a:lnTo>
                    <a:pt x="2005647" y="2204085"/>
                  </a:lnTo>
                  <a:lnTo>
                    <a:pt x="2000885" y="2210435"/>
                  </a:lnTo>
                  <a:lnTo>
                    <a:pt x="1996122" y="2216785"/>
                  </a:lnTo>
                  <a:lnTo>
                    <a:pt x="1991042" y="2222500"/>
                  </a:lnTo>
                  <a:lnTo>
                    <a:pt x="1985645" y="2228533"/>
                  </a:lnTo>
                  <a:lnTo>
                    <a:pt x="1979612" y="2233930"/>
                  </a:lnTo>
                  <a:lnTo>
                    <a:pt x="1973897" y="2239010"/>
                  </a:lnTo>
                  <a:lnTo>
                    <a:pt x="1967865" y="2243773"/>
                  </a:lnTo>
                  <a:lnTo>
                    <a:pt x="1961197" y="2248535"/>
                  </a:lnTo>
                  <a:lnTo>
                    <a:pt x="1954530" y="2252980"/>
                  </a:lnTo>
                  <a:lnTo>
                    <a:pt x="1947545" y="2256790"/>
                  </a:lnTo>
                  <a:lnTo>
                    <a:pt x="1940242" y="2260600"/>
                  </a:lnTo>
                  <a:lnTo>
                    <a:pt x="1933257" y="2263775"/>
                  </a:lnTo>
                  <a:lnTo>
                    <a:pt x="1925955" y="2266633"/>
                  </a:lnTo>
                  <a:lnTo>
                    <a:pt x="1918017" y="2269173"/>
                  </a:lnTo>
                  <a:lnTo>
                    <a:pt x="1910080" y="2271395"/>
                  </a:lnTo>
                  <a:lnTo>
                    <a:pt x="1902460" y="2273300"/>
                  </a:lnTo>
                  <a:lnTo>
                    <a:pt x="1894522" y="2274888"/>
                  </a:lnTo>
                  <a:lnTo>
                    <a:pt x="1885950" y="2275840"/>
                  </a:lnTo>
                  <a:lnTo>
                    <a:pt x="1877695" y="2276475"/>
                  </a:lnTo>
                  <a:lnTo>
                    <a:pt x="1869440" y="2276475"/>
                  </a:lnTo>
                  <a:lnTo>
                    <a:pt x="480377" y="2276475"/>
                  </a:lnTo>
                  <a:lnTo>
                    <a:pt x="471805" y="2276475"/>
                  </a:lnTo>
                  <a:lnTo>
                    <a:pt x="463550" y="2275840"/>
                  </a:lnTo>
                  <a:lnTo>
                    <a:pt x="455295" y="2274888"/>
                  </a:lnTo>
                  <a:lnTo>
                    <a:pt x="447040" y="2273300"/>
                  </a:lnTo>
                  <a:lnTo>
                    <a:pt x="439102" y="2271395"/>
                  </a:lnTo>
                  <a:lnTo>
                    <a:pt x="431482" y="2269173"/>
                  </a:lnTo>
                  <a:lnTo>
                    <a:pt x="423862" y="2266633"/>
                  </a:lnTo>
                  <a:lnTo>
                    <a:pt x="416242" y="2263775"/>
                  </a:lnTo>
                  <a:lnTo>
                    <a:pt x="408940" y="2260600"/>
                  </a:lnTo>
                  <a:lnTo>
                    <a:pt x="401955" y="2256790"/>
                  </a:lnTo>
                  <a:lnTo>
                    <a:pt x="394970" y="2252980"/>
                  </a:lnTo>
                  <a:lnTo>
                    <a:pt x="388620" y="2248535"/>
                  </a:lnTo>
                  <a:lnTo>
                    <a:pt x="381952" y="2243773"/>
                  </a:lnTo>
                  <a:lnTo>
                    <a:pt x="375602" y="2239010"/>
                  </a:lnTo>
                  <a:lnTo>
                    <a:pt x="369887" y="2233930"/>
                  </a:lnTo>
                  <a:lnTo>
                    <a:pt x="364172" y="2228533"/>
                  </a:lnTo>
                  <a:lnTo>
                    <a:pt x="358457" y="2222500"/>
                  </a:lnTo>
                  <a:lnTo>
                    <a:pt x="353377" y="2216785"/>
                  </a:lnTo>
                  <a:lnTo>
                    <a:pt x="348297" y="2210435"/>
                  </a:lnTo>
                  <a:lnTo>
                    <a:pt x="343852" y="2204085"/>
                  </a:lnTo>
                  <a:lnTo>
                    <a:pt x="339725" y="2197418"/>
                  </a:lnTo>
                  <a:lnTo>
                    <a:pt x="335597" y="2190433"/>
                  </a:lnTo>
                  <a:lnTo>
                    <a:pt x="332105" y="2183130"/>
                  </a:lnTo>
                  <a:lnTo>
                    <a:pt x="328612" y="2175828"/>
                  </a:lnTo>
                  <a:lnTo>
                    <a:pt x="325755" y="2168525"/>
                  </a:lnTo>
                  <a:lnTo>
                    <a:pt x="323215" y="2160905"/>
                  </a:lnTo>
                  <a:lnTo>
                    <a:pt x="320992" y="2153285"/>
                  </a:lnTo>
                  <a:lnTo>
                    <a:pt x="319087" y="2145348"/>
                  </a:lnTo>
                  <a:lnTo>
                    <a:pt x="317817" y="2137410"/>
                  </a:lnTo>
                  <a:lnTo>
                    <a:pt x="316547" y="2128838"/>
                  </a:lnTo>
                  <a:lnTo>
                    <a:pt x="315912" y="2120583"/>
                  </a:lnTo>
                  <a:lnTo>
                    <a:pt x="315912" y="2112328"/>
                  </a:lnTo>
                  <a:lnTo>
                    <a:pt x="456565" y="2112328"/>
                  </a:lnTo>
                  <a:lnTo>
                    <a:pt x="456882" y="2114868"/>
                  </a:lnTo>
                  <a:lnTo>
                    <a:pt x="457200" y="2116773"/>
                  </a:lnTo>
                  <a:lnTo>
                    <a:pt x="457835" y="2118995"/>
                  </a:lnTo>
                  <a:lnTo>
                    <a:pt x="458470" y="2121218"/>
                  </a:lnTo>
                  <a:lnTo>
                    <a:pt x="459422" y="2123440"/>
                  </a:lnTo>
                  <a:lnTo>
                    <a:pt x="460692" y="2125345"/>
                  </a:lnTo>
                  <a:lnTo>
                    <a:pt x="463550" y="2128838"/>
                  </a:lnTo>
                  <a:lnTo>
                    <a:pt x="467042" y="2132013"/>
                  </a:lnTo>
                  <a:lnTo>
                    <a:pt x="468947" y="2132965"/>
                  </a:lnTo>
                  <a:lnTo>
                    <a:pt x="471170" y="2133918"/>
                  </a:lnTo>
                  <a:lnTo>
                    <a:pt x="473392" y="2134870"/>
                  </a:lnTo>
                  <a:lnTo>
                    <a:pt x="475615" y="2135188"/>
                  </a:lnTo>
                  <a:lnTo>
                    <a:pt x="477837" y="2135505"/>
                  </a:lnTo>
                  <a:lnTo>
                    <a:pt x="480377" y="2135823"/>
                  </a:lnTo>
                  <a:lnTo>
                    <a:pt x="1869440" y="2135823"/>
                  </a:lnTo>
                  <a:lnTo>
                    <a:pt x="1871980" y="2135505"/>
                  </a:lnTo>
                  <a:lnTo>
                    <a:pt x="1874202" y="2135188"/>
                  </a:lnTo>
                  <a:lnTo>
                    <a:pt x="1876107" y="2134870"/>
                  </a:lnTo>
                  <a:lnTo>
                    <a:pt x="1878330" y="2133918"/>
                  </a:lnTo>
                  <a:lnTo>
                    <a:pt x="1880552" y="2132965"/>
                  </a:lnTo>
                  <a:lnTo>
                    <a:pt x="1882457" y="2132013"/>
                  </a:lnTo>
                  <a:lnTo>
                    <a:pt x="1885950" y="2128838"/>
                  </a:lnTo>
                  <a:lnTo>
                    <a:pt x="1888490" y="2125345"/>
                  </a:lnTo>
                  <a:lnTo>
                    <a:pt x="1890077" y="2123440"/>
                  </a:lnTo>
                  <a:lnTo>
                    <a:pt x="1890712" y="2121218"/>
                  </a:lnTo>
                  <a:lnTo>
                    <a:pt x="1891982" y="2118995"/>
                  </a:lnTo>
                  <a:lnTo>
                    <a:pt x="1892300" y="2116773"/>
                  </a:lnTo>
                  <a:lnTo>
                    <a:pt x="1892617" y="2114868"/>
                  </a:lnTo>
                  <a:lnTo>
                    <a:pt x="1892617" y="2112328"/>
                  </a:lnTo>
                  <a:lnTo>
                    <a:pt x="1892617" y="440373"/>
                  </a:lnTo>
                  <a:lnTo>
                    <a:pt x="1892617" y="438468"/>
                  </a:lnTo>
                  <a:lnTo>
                    <a:pt x="1892300" y="435928"/>
                  </a:lnTo>
                  <a:lnTo>
                    <a:pt x="1891982" y="433705"/>
                  </a:lnTo>
                  <a:lnTo>
                    <a:pt x="1890712" y="431483"/>
                  </a:lnTo>
                  <a:lnTo>
                    <a:pt x="1890077" y="429578"/>
                  </a:lnTo>
                  <a:lnTo>
                    <a:pt x="1888490" y="427355"/>
                  </a:lnTo>
                  <a:lnTo>
                    <a:pt x="1885950" y="424180"/>
                  </a:lnTo>
                  <a:lnTo>
                    <a:pt x="1882457" y="421323"/>
                  </a:lnTo>
                  <a:lnTo>
                    <a:pt x="1880552" y="420053"/>
                  </a:lnTo>
                  <a:lnTo>
                    <a:pt x="1878330" y="419100"/>
                  </a:lnTo>
                  <a:lnTo>
                    <a:pt x="1876107" y="418148"/>
                  </a:lnTo>
                  <a:lnTo>
                    <a:pt x="1874202" y="417513"/>
                  </a:lnTo>
                  <a:lnTo>
                    <a:pt x="1871980" y="417195"/>
                  </a:lnTo>
                  <a:lnTo>
                    <a:pt x="1869440" y="417195"/>
                  </a:lnTo>
                  <a:lnTo>
                    <a:pt x="1869440" y="276225"/>
                  </a:lnTo>
                  <a:close/>
                  <a:moveTo>
                    <a:pt x="589072" y="140970"/>
                  </a:moveTo>
                  <a:lnTo>
                    <a:pt x="589072" y="424815"/>
                  </a:lnTo>
                  <a:lnTo>
                    <a:pt x="588754" y="433070"/>
                  </a:lnTo>
                  <a:lnTo>
                    <a:pt x="588436" y="441643"/>
                  </a:lnTo>
                  <a:lnTo>
                    <a:pt x="587166" y="449580"/>
                  </a:lnTo>
                  <a:lnTo>
                    <a:pt x="585896" y="458153"/>
                  </a:lnTo>
                  <a:lnTo>
                    <a:pt x="583991" y="465773"/>
                  </a:lnTo>
                  <a:lnTo>
                    <a:pt x="581768" y="473710"/>
                  </a:lnTo>
                  <a:lnTo>
                    <a:pt x="579227" y="481330"/>
                  </a:lnTo>
                  <a:lnTo>
                    <a:pt x="576052" y="488633"/>
                  </a:lnTo>
                  <a:lnTo>
                    <a:pt x="572876" y="495935"/>
                  </a:lnTo>
                  <a:lnTo>
                    <a:pt x="569065" y="503238"/>
                  </a:lnTo>
                  <a:lnTo>
                    <a:pt x="565572" y="509905"/>
                  </a:lnTo>
                  <a:lnTo>
                    <a:pt x="561126" y="516573"/>
                  </a:lnTo>
                  <a:lnTo>
                    <a:pt x="556363" y="522923"/>
                  </a:lnTo>
                  <a:lnTo>
                    <a:pt x="551600" y="528955"/>
                  </a:lnTo>
                  <a:lnTo>
                    <a:pt x="546519" y="535305"/>
                  </a:lnTo>
                  <a:lnTo>
                    <a:pt x="541120" y="541020"/>
                  </a:lnTo>
                  <a:lnTo>
                    <a:pt x="535087" y="546100"/>
                  </a:lnTo>
                  <a:lnTo>
                    <a:pt x="529371" y="551815"/>
                  </a:lnTo>
                  <a:lnTo>
                    <a:pt x="522702" y="556260"/>
                  </a:lnTo>
                  <a:lnTo>
                    <a:pt x="516668" y="561023"/>
                  </a:lnTo>
                  <a:lnTo>
                    <a:pt x="509682" y="565150"/>
                  </a:lnTo>
                  <a:lnTo>
                    <a:pt x="503013" y="569278"/>
                  </a:lnTo>
                  <a:lnTo>
                    <a:pt x="495709" y="572770"/>
                  </a:lnTo>
                  <a:lnTo>
                    <a:pt x="488406" y="575945"/>
                  </a:lnTo>
                  <a:lnTo>
                    <a:pt x="481102" y="579120"/>
                  </a:lnTo>
                  <a:lnTo>
                    <a:pt x="473480" y="581978"/>
                  </a:lnTo>
                  <a:lnTo>
                    <a:pt x="465541" y="584200"/>
                  </a:lnTo>
                  <a:lnTo>
                    <a:pt x="457602" y="585788"/>
                  </a:lnTo>
                  <a:lnTo>
                    <a:pt x="449663" y="587375"/>
                  </a:lnTo>
                  <a:lnTo>
                    <a:pt x="441407" y="588328"/>
                  </a:lnTo>
                  <a:lnTo>
                    <a:pt x="433150" y="588963"/>
                  </a:lnTo>
                  <a:lnTo>
                    <a:pt x="424576" y="589280"/>
                  </a:lnTo>
                  <a:lnTo>
                    <a:pt x="140678" y="589280"/>
                  </a:lnTo>
                  <a:lnTo>
                    <a:pt x="140678" y="1836103"/>
                  </a:lnTo>
                  <a:lnTo>
                    <a:pt x="140678" y="1838643"/>
                  </a:lnTo>
                  <a:lnTo>
                    <a:pt x="140996" y="1840548"/>
                  </a:lnTo>
                  <a:lnTo>
                    <a:pt x="141948" y="1842770"/>
                  </a:lnTo>
                  <a:lnTo>
                    <a:pt x="142584" y="1844993"/>
                  </a:lnTo>
                  <a:lnTo>
                    <a:pt x="143536" y="1847215"/>
                  </a:lnTo>
                  <a:lnTo>
                    <a:pt x="144807" y="1849120"/>
                  </a:lnTo>
                  <a:lnTo>
                    <a:pt x="147665" y="1852613"/>
                  </a:lnTo>
                  <a:lnTo>
                    <a:pt x="151475" y="1855470"/>
                  </a:lnTo>
                  <a:lnTo>
                    <a:pt x="153063" y="1856740"/>
                  </a:lnTo>
                  <a:lnTo>
                    <a:pt x="155286" y="1857693"/>
                  </a:lnTo>
                  <a:lnTo>
                    <a:pt x="157191" y="1858645"/>
                  </a:lnTo>
                  <a:lnTo>
                    <a:pt x="159732" y="1858963"/>
                  </a:lnTo>
                  <a:lnTo>
                    <a:pt x="161955" y="1859280"/>
                  </a:lnTo>
                  <a:lnTo>
                    <a:pt x="164495" y="1859598"/>
                  </a:lnTo>
                  <a:lnTo>
                    <a:pt x="1553180" y="1859598"/>
                  </a:lnTo>
                  <a:lnTo>
                    <a:pt x="1556038" y="1859280"/>
                  </a:lnTo>
                  <a:lnTo>
                    <a:pt x="1557943" y="1858963"/>
                  </a:lnTo>
                  <a:lnTo>
                    <a:pt x="1560484" y="1858645"/>
                  </a:lnTo>
                  <a:lnTo>
                    <a:pt x="1562389" y="1857693"/>
                  </a:lnTo>
                  <a:lnTo>
                    <a:pt x="1564612" y="1856740"/>
                  </a:lnTo>
                  <a:lnTo>
                    <a:pt x="1566517" y="1855470"/>
                  </a:lnTo>
                  <a:lnTo>
                    <a:pt x="1570010" y="1852613"/>
                  </a:lnTo>
                  <a:lnTo>
                    <a:pt x="1572868" y="1849120"/>
                  </a:lnTo>
                  <a:lnTo>
                    <a:pt x="1574139" y="1847215"/>
                  </a:lnTo>
                  <a:lnTo>
                    <a:pt x="1575091" y="1844993"/>
                  </a:lnTo>
                  <a:lnTo>
                    <a:pt x="1576044" y="1842770"/>
                  </a:lnTo>
                  <a:lnTo>
                    <a:pt x="1576679" y="1840548"/>
                  </a:lnTo>
                  <a:lnTo>
                    <a:pt x="1576997" y="1838643"/>
                  </a:lnTo>
                  <a:lnTo>
                    <a:pt x="1576997" y="1836103"/>
                  </a:lnTo>
                  <a:lnTo>
                    <a:pt x="1576997" y="164782"/>
                  </a:lnTo>
                  <a:lnTo>
                    <a:pt x="1576997" y="161925"/>
                  </a:lnTo>
                  <a:lnTo>
                    <a:pt x="1576679" y="160020"/>
                  </a:lnTo>
                  <a:lnTo>
                    <a:pt x="1576044" y="157480"/>
                  </a:lnTo>
                  <a:lnTo>
                    <a:pt x="1575091" y="155257"/>
                  </a:lnTo>
                  <a:lnTo>
                    <a:pt x="1574139" y="153352"/>
                  </a:lnTo>
                  <a:lnTo>
                    <a:pt x="1572868" y="151447"/>
                  </a:lnTo>
                  <a:lnTo>
                    <a:pt x="1570010" y="147955"/>
                  </a:lnTo>
                  <a:lnTo>
                    <a:pt x="1566517" y="145097"/>
                  </a:lnTo>
                  <a:lnTo>
                    <a:pt x="1564612" y="143827"/>
                  </a:lnTo>
                  <a:lnTo>
                    <a:pt x="1562389" y="142875"/>
                  </a:lnTo>
                  <a:lnTo>
                    <a:pt x="1560484" y="141922"/>
                  </a:lnTo>
                  <a:lnTo>
                    <a:pt x="1557943" y="141287"/>
                  </a:lnTo>
                  <a:lnTo>
                    <a:pt x="1556038" y="140970"/>
                  </a:lnTo>
                  <a:lnTo>
                    <a:pt x="1553180" y="140970"/>
                  </a:lnTo>
                  <a:lnTo>
                    <a:pt x="589072" y="140970"/>
                  </a:lnTo>
                  <a:close/>
                  <a:moveTo>
                    <a:pt x="489358" y="0"/>
                  </a:moveTo>
                  <a:lnTo>
                    <a:pt x="1553180" y="0"/>
                  </a:lnTo>
                  <a:lnTo>
                    <a:pt x="1562071" y="317"/>
                  </a:lnTo>
                  <a:lnTo>
                    <a:pt x="1570010" y="952"/>
                  </a:lnTo>
                  <a:lnTo>
                    <a:pt x="1578584" y="2222"/>
                  </a:lnTo>
                  <a:lnTo>
                    <a:pt x="1586523" y="3492"/>
                  </a:lnTo>
                  <a:lnTo>
                    <a:pt x="1594462" y="5397"/>
                  </a:lnTo>
                  <a:lnTo>
                    <a:pt x="1602084" y="7620"/>
                  </a:lnTo>
                  <a:lnTo>
                    <a:pt x="1609705" y="10160"/>
                  </a:lnTo>
                  <a:lnTo>
                    <a:pt x="1617644" y="13017"/>
                  </a:lnTo>
                  <a:lnTo>
                    <a:pt x="1624630" y="16192"/>
                  </a:lnTo>
                  <a:lnTo>
                    <a:pt x="1631617" y="20002"/>
                  </a:lnTo>
                  <a:lnTo>
                    <a:pt x="1638603" y="23812"/>
                  </a:lnTo>
                  <a:lnTo>
                    <a:pt x="1645589" y="28257"/>
                  </a:lnTo>
                  <a:lnTo>
                    <a:pt x="1651623" y="32702"/>
                  </a:lnTo>
                  <a:lnTo>
                    <a:pt x="1657974" y="37782"/>
                  </a:lnTo>
                  <a:lnTo>
                    <a:pt x="1664008" y="42862"/>
                  </a:lnTo>
                  <a:lnTo>
                    <a:pt x="1669724" y="48260"/>
                  </a:lnTo>
                  <a:lnTo>
                    <a:pt x="1675122" y="53975"/>
                  </a:lnTo>
                  <a:lnTo>
                    <a:pt x="1680203" y="60007"/>
                  </a:lnTo>
                  <a:lnTo>
                    <a:pt x="1685284" y="66357"/>
                  </a:lnTo>
                  <a:lnTo>
                    <a:pt x="1689730" y="72390"/>
                  </a:lnTo>
                  <a:lnTo>
                    <a:pt x="1694176" y="79375"/>
                  </a:lnTo>
                  <a:lnTo>
                    <a:pt x="1697987" y="86360"/>
                  </a:lnTo>
                  <a:lnTo>
                    <a:pt x="1701797" y="93345"/>
                  </a:lnTo>
                  <a:lnTo>
                    <a:pt x="1704973" y="100647"/>
                  </a:lnTo>
                  <a:lnTo>
                    <a:pt x="1707831" y="108267"/>
                  </a:lnTo>
                  <a:lnTo>
                    <a:pt x="1710371" y="115570"/>
                  </a:lnTo>
                  <a:lnTo>
                    <a:pt x="1712594" y="123507"/>
                  </a:lnTo>
                  <a:lnTo>
                    <a:pt x="1714500" y="131445"/>
                  </a:lnTo>
                  <a:lnTo>
                    <a:pt x="1715770" y="139382"/>
                  </a:lnTo>
                  <a:lnTo>
                    <a:pt x="1717040" y="147637"/>
                  </a:lnTo>
                  <a:lnTo>
                    <a:pt x="1717675" y="155892"/>
                  </a:lnTo>
                  <a:lnTo>
                    <a:pt x="1717675" y="164782"/>
                  </a:lnTo>
                  <a:lnTo>
                    <a:pt x="1717675" y="1836103"/>
                  </a:lnTo>
                  <a:lnTo>
                    <a:pt x="1717675" y="1844358"/>
                  </a:lnTo>
                  <a:lnTo>
                    <a:pt x="1717040" y="1852613"/>
                  </a:lnTo>
                  <a:lnTo>
                    <a:pt x="1715770" y="1861185"/>
                  </a:lnTo>
                  <a:lnTo>
                    <a:pt x="1714500" y="1869123"/>
                  </a:lnTo>
                  <a:lnTo>
                    <a:pt x="1712594" y="1877060"/>
                  </a:lnTo>
                  <a:lnTo>
                    <a:pt x="1710371" y="1884680"/>
                  </a:lnTo>
                  <a:lnTo>
                    <a:pt x="1707831" y="1892300"/>
                  </a:lnTo>
                  <a:lnTo>
                    <a:pt x="1704973" y="1900238"/>
                  </a:lnTo>
                  <a:lnTo>
                    <a:pt x="1701797" y="1907223"/>
                  </a:lnTo>
                  <a:lnTo>
                    <a:pt x="1697987" y="1914208"/>
                  </a:lnTo>
                  <a:lnTo>
                    <a:pt x="1694176" y="1921193"/>
                  </a:lnTo>
                  <a:lnTo>
                    <a:pt x="1689730" y="1927860"/>
                  </a:lnTo>
                  <a:lnTo>
                    <a:pt x="1685284" y="1934210"/>
                  </a:lnTo>
                  <a:lnTo>
                    <a:pt x="1680203" y="1940560"/>
                  </a:lnTo>
                  <a:lnTo>
                    <a:pt x="1675122" y="1946275"/>
                  </a:lnTo>
                  <a:lnTo>
                    <a:pt x="1669724" y="1952308"/>
                  </a:lnTo>
                  <a:lnTo>
                    <a:pt x="1664008" y="1957705"/>
                  </a:lnTo>
                  <a:lnTo>
                    <a:pt x="1657974" y="1962785"/>
                  </a:lnTo>
                  <a:lnTo>
                    <a:pt x="1651623" y="1967865"/>
                  </a:lnTo>
                  <a:lnTo>
                    <a:pt x="1645589" y="1972310"/>
                  </a:lnTo>
                  <a:lnTo>
                    <a:pt x="1638603" y="1976755"/>
                  </a:lnTo>
                  <a:lnTo>
                    <a:pt x="1631617" y="1980565"/>
                  </a:lnTo>
                  <a:lnTo>
                    <a:pt x="1624630" y="1984375"/>
                  </a:lnTo>
                  <a:lnTo>
                    <a:pt x="1617644" y="1987550"/>
                  </a:lnTo>
                  <a:lnTo>
                    <a:pt x="1609705" y="1990408"/>
                  </a:lnTo>
                  <a:lnTo>
                    <a:pt x="1602084" y="1992948"/>
                  </a:lnTo>
                  <a:lnTo>
                    <a:pt x="1594462" y="1995170"/>
                  </a:lnTo>
                  <a:lnTo>
                    <a:pt x="1586523" y="1997075"/>
                  </a:lnTo>
                  <a:lnTo>
                    <a:pt x="1578584" y="1998345"/>
                  </a:lnTo>
                  <a:lnTo>
                    <a:pt x="1570010" y="1999615"/>
                  </a:lnTo>
                  <a:lnTo>
                    <a:pt x="1562071" y="2000250"/>
                  </a:lnTo>
                  <a:lnTo>
                    <a:pt x="1553180" y="2000250"/>
                  </a:lnTo>
                  <a:lnTo>
                    <a:pt x="164495" y="2000250"/>
                  </a:lnTo>
                  <a:lnTo>
                    <a:pt x="155604" y="2000250"/>
                  </a:lnTo>
                  <a:lnTo>
                    <a:pt x="147665" y="1999615"/>
                  </a:lnTo>
                  <a:lnTo>
                    <a:pt x="139408" y="1998345"/>
                  </a:lnTo>
                  <a:lnTo>
                    <a:pt x="131152" y="1997075"/>
                  </a:lnTo>
                  <a:lnTo>
                    <a:pt x="123213" y="1995170"/>
                  </a:lnTo>
                  <a:lnTo>
                    <a:pt x="115591" y="1992948"/>
                  </a:lnTo>
                  <a:lnTo>
                    <a:pt x="107970" y="1990408"/>
                  </a:lnTo>
                  <a:lnTo>
                    <a:pt x="100348" y="1987550"/>
                  </a:lnTo>
                  <a:lnTo>
                    <a:pt x="93044" y="1984375"/>
                  </a:lnTo>
                  <a:lnTo>
                    <a:pt x="86058" y="1980565"/>
                  </a:lnTo>
                  <a:lnTo>
                    <a:pt x="79072" y="1976755"/>
                  </a:lnTo>
                  <a:lnTo>
                    <a:pt x="72721" y="1972310"/>
                  </a:lnTo>
                  <a:lnTo>
                    <a:pt x="66052" y="1967865"/>
                  </a:lnTo>
                  <a:lnTo>
                    <a:pt x="59701" y="1962785"/>
                  </a:lnTo>
                  <a:lnTo>
                    <a:pt x="53667" y="1957705"/>
                  </a:lnTo>
                  <a:lnTo>
                    <a:pt x="48269" y="1952308"/>
                  </a:lnTo>
                  <a:lnTo>
                    <a:pt x="42553" y="1946275"/>
                  </a:lnTo>
                  <a:lnTo>
                    <a:pt x="37472" y="1940560"/>
                  </a:lnTo>
                  <a:lnTo>
                    <a:pt x="32391" y="1934210"/>
                  </a:lnTo>
                  <a:lnTo>
                    <a:pt x="27945" y="1927860"/>
                  </a:lnTo>
                  <a:lnTo>
                    <a:pt x="23817" y="1921193"/>
                  </a:lnTo>
                  <a:lnTo>
                    <a:pt x="19688" y="1914208"/>
                  </a:lnTo>
                  <a:lnTo>
                    <a:pt x="16195" y="1907223"/>
                  </a:lnTo>
                  <a:lnTo>
                    <a:pt x="12702" y="1900238"/>
                  </a:lnTo>
                  <a:lnTo>
                    <a:pt x="9844" y="1892300"/>
                  </a:lnTo>
                  <a:lnTo>
                    <a:pt x="7304" y="1884680"/>
                  </a:lnTo>
                  <a:lnTo>
                    <a:pt x="5081" y="1877060"/>
                  </a:lnTo>
                  <a:lnTo>
                    <a:pt x="3175" y="1869123"/>
                  </a:lnTo>
                  <a:lnTo>
                    <a:pt x="1905" y="1861185"/>
                  </a:lnTo>
                  <a:lnTo>
                    <a:pt x="635" y="1852613"/>
                  </a:lnTo>
                  <a:lnTo>
                    <a:pt x="0" y="1844358"/>
                  </a:lnTo>
                  <a:lnTo>
                    <a:pt x="0" y="1836103"/>
                  </a:lnTo>
                  <a:lnTo>
                    <a:pt x="0" y="489585"/>
                  </a:lnTo>
                  <a:lnTo>
                    <a:pt x="489358"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椭圆 17"/>
            <p:cNvSpPr/>
            <p:nvPr/>
          </p:nvSpPr>
          <p:spPr>
            <a:xfrm>
              <a:off x="4915080" y="1460520"/>
              <a:ext cx="2431800" cy="24321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六边形 2"/>
          <p:cNvSpPr/>
          <p:nvPr/>
        </p:nvSpPr>
        <p:spPr>
          <a:xfrm>
            <a:off x="2562120" y="2057400"/>
            <a:ext cx="2048040" cy="1765440"/>
          </a:xfrm>
          <a:prstGeom prst="hexagon">
            <a:avLst>
              <a:gd name="adj" fmla="val 25000"/>
              <a:gd name="vf" fmla="val 115470"/>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六边形 3"/>
          <p:cNvSpPr/>
          <p:nvPr/>
        </p:nvSpPr>
        <p:spPr>
          <a:xfrm>
            <a:off x="4235400" y="2940120"/>
            <a:ext cx="2048040" cy="1765080"/>
          </a:xfrm>
          <a:prstGeom prst="hexagon">
            <a:avLst>
              <a:gd name="adj" fmla="val 25006"/>
              <a:gd name="vf" fmla="val 115470"/>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六边形 4"/>
          <p:cNvSpPr/>
          <p:nvPr/>
        </p:nvSpPr>
        <p:spPr>
          <a:xfrm>
            <a:off x="5908680" y="2057400"/>
            <a:ext cx="2048040" cy="1765440"/>
          </a:xfrm>
          <a:prstGeom prst="hexagon">
            <a:avLst>
              <a:gd name="adj" fmla="val 25000"/>
              <a:gd name="vf" fmla="val 115470"/>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六边形 5"/>
          <p:cNvSpPr/>
          <p:nvPr/>
        </p:nvSpPr>
        <p:spPr>
          <a:xfrm>
            <a:off x="7581960" y="2940120"/>
            <a:ext cx="2047680" cy="1765080"/>
          </a:xfrm>
          <a:prstGeom prst="hexagon">
            <a:avLst>
              <a:gd name="adj" fmla="val 25001"/>
              <a:gd name="vf" fmla="val 115470"/>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六边形 18"/>
          <p:cNvSpPr/>
          <p:nvPr/>
        </p:nvSpPr>
        <p:spPr>
          <a:xfrm>
            <a:off x="888840" y="2940120"/>
            <a:ext cx="2048040" cy="1765080"/>
          </a:xfrm>
          <a:prstGeom prst="hexagon">
            <a:avLst>
              <a:gd name="adj" fmla="val 25006"/>
              <a:gd name="vf" fmla="val 115470"/>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六边形 19"/>
          <p:cNvSpPr/>
          <p:nvPr/>
        </p:nvSpPr>
        <p:spPr>
          <a:xfrm>
            <a:off x="9255240" y="2082960"/>
            <a:ext cx="2047680" cy="1765080"/>
          </a:xfrm>
          <a:prstGeom prst="hexagon">
            <a:avLst>
              <a:gd name="adj" fmla="val 25001"/>
              <a:gd name="vf" fmla="val 115470"/>
            </a:avLst>
          </a:prstGeom>
          <a:noFill/>
          <a:ln w="1260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文本框 20"/>
          <p:cNvSpPr/>
          <p:nvPr/>
        </p:nvSpPr>
        <p:spPr>
          <a:xfrm>
            <a:off x="323100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5" name="文本框 21"/>
          <p:cNvSpPr/>
          <p:nvPr/>
        </p:nvSpPr>
        <p:spPr>
          <a:xfrm>
            <a:off x="4927320" y="35305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6" name="文本框 22"/>
          <p:cNvSpPr/>
          <p:nvPr/>
        </p:nvSpPr>
        <p:spPr>
          <a:xfrm>
            <a:off x="6595920" y="26337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7" name="文本框 23"/>
          <p:cNvSpPr/>
          <p:nvPr/>
        </p:nvSpPr>
        <p:spPr>
          <a:xfrm>
            <a:off x="8272440" y="355608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标题</a:t>
            </a:r>
            <a:endParaRPr b="0" lang="en-US" sz="3200" spc="-1" strike="noStrike">
              <a:solidFill>
                <a:srgbClr val="000000"/>
              </a:solidFill>
              <a:latin typeface="Calibri"/>
            </a:endParaRPr>
          </a:p>
        </p:txBody>
      </p:sp>
      <p:sp>
        <p:nvSpPr>
          <p:cNvPr id="628" name="矩形 1"/>
          <p:cNvSpPr/>
          <p:nvPr/>
        </p:nvSpPr>
        <p:spPr>
          <a:xfrm>
            <a:off x="293688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29" name="矩形 27"/>
          <p:cNvSpPr/>
          <p:nvPr/>
        </p:nvSpPr>
        <p:spPr>
          <a:xfrm>
            <a:off x="335448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0" name="矩形 1"/>
          <p:cNvSpPr/>
          <p:nvPr/>
        </p:nvSpPr>
        <p:spPr>
          <a:xfrm>
            <a:off x="6345360" y="13939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1" name="矩形 29"/>
          <p:cNvSpPr/>
          <p:nvPr/>
        </p:nvSpPr>
        <p:spPr>
          <a:xfrm>
            <a:off x="6762960" y="89388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2" name="矩形 1"/>
          <p:cNvSpPr/>
          <p:nvPr/>
        </p:nvSpPr>
        <p:spPr>
          <a:xfrm>
            <a:off x="46195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3" name="矩形 31"/>
          <p:cNvSpPr/>
          <p:nvPr/>
        </p:nvSpPr>
        <p:spPr>
          <a:xfrm>
            <a:off x="50378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sp>
        <p:nvSpPr>
          <p:cNvPr id="634" name="矩形 1"/>
          <p:cNvSpPr/>
          <p:nvPr/>
        </p:nvSpPr>
        <p:spPr>
          <a:xfrm>
            <a:off x="7956720" y="544032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35" name="矩形 33"/>
          <p:cNvSpPr/>
          <p:nvPr/>
        </p:nvSpPr>
        <p:spPr>
          <a:xfrm>
            <a:off x="8375040" y="49417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Calibri"/>
            </a:endParaRPr>
          </a:p>
        </p:txBody>
      </p:sp>
      <p:pic>
        <p:nvPicPr>
          <p:cNvPr id="636" name="Group 98" descr=""/>
          <p:cNvPicPr/>
          <p:nvPr/>
        </p:nvPicPr>
        <p:blipFill>
          <a:blip r:embed="rId1"/>
          <a:stretch/>
        </p:blipFill>
        <p:spPr>
          <a:xfrm>
            <a:off x="9744120" y="2452680"/>
            <a:ext cx="1055520" cy="982800"/>
          </a:xfrm>
          <a:prstGeom prst="rect">
            <a:avLst/>
          </a:prstGeom>
          <a:ln w="0">
            <a:noFill/>
          </a:ln>
        </p:spPr>
      </p:pic>
      <p:pic>
        <p:nvPicPr>
          <p:cNvPr id="637" name="Group 78" descr=""/>
          <p:cNvPicPr/>
          <p:nvPr/>
        </p:nvPicPr>
        <p:blipFill>
          <a:blip r:embed="rId2"/>
          <a:stretch/>
        </p:blipFill>
        <p:spPr>
          <a:xfrm>
            <a:off x="1336680" y="3289320"/>
            <a:ext cx="1073160" cy="10382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1"/>
          <p:cNvSpPr/>
          <p:nvPr/>
        </p:nvSpPr>
        <p:spPr>
          <a:xfrm>
            <a:off x="4795200" y="4287960"/>
            <a:ext cx="260100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aaf3b"/>
                </a:solidFill>
                <a:latin typeface="微软雅黑"/>
                <a:ea typeface="微软雅黑"/>
              </a:rPr>
              <a:t>课题综述</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af3b"/>
                </a:solidFill>
                <a:latin typeface="微软雅黑"/>
                <a:ea typeface="微软雅黑"/>
              </a:rPr>
              <a:t>Project Overview</a:t>
            </a:r>
            <a:endParaRPr b="0" lang="en-US" sz="2400" spc="-1" strike="noStrike">
              <a:solidFill>
                <a:srgbClr val="000000"/>
              </a:solidFill>
              <a:latin typeface="Calibri"/>
            </a:endParaRPr>
          </a:p>
        </p:txBody>
      </p:sp>
      <p:grpSp>
        <p:nvGrpSpPr>
          <p:cNvPr id="219" name="组合 2"/>
          <p:cNvGrpSpPr/>
          <p:nvPr/>
        </p:nvGrpSpPr>
        <p:grpSpPr>
          <a:xfrm>
            <a:off x="4886280" y="1432080"/>
            <a:ext cx="2419560" cy="2417760"/>
            <a:chOff x="4886280" y="1432080"/>
            <a:chExt cx="2419560" cy="2417760"/>
          </a:xfrm>
        </p:grpSpPr>
        <p:sp>
          <p:nvSpPr>
            <p:cNvPr id="220" name="KSO_Shape"/>
            <p:cNvSpPr/>
            <p:nvPr/>
          </p:nvSpPr>
          <p:spPr>
            <a:xfrm>
              <a:off x="5302080" y="2092320"/>
              <a:ext cx="1587600" cy="1096920"/>
            </a:xfrm>
            <a:custGeom>
              <a:avLst/>
              <a:gdLst/>
              <a:ahLst/>
              <a:rect l="l" t="t" r="r" b="b"/>
              <a:pathLst>
                <a:path w="2006600" h="1387475">
                  <a:moveTo>
                    <a:pt x="1003300" y="323850"/>
                  </a:moveTo>
                  <a:lnTo>
                    <a:pt x="1019520" y="324168"/>
                  </a:lnTo>
                  <a:lnTo>
                    <a:pt x="1035740" y="325120"/>
                  </a:lnTo>
                  <a:lnTo>
                    <a:pt x="1031924" y="332423"/>
                  </a:lnTo>
                  <a:lnTo>
                    <a:pt x="1028425" y="339090"/>
                  </a:lnTo>
                  <a:lnTo>
                    <a:pt x="1025245" y="346075"/>
                  </a:lnTo>
                  <a:lnTo>
                    <a:pt x="1022065" y="353378"/>
                  </a:lnTo>
                  <a:lnTo>
                    <a:pt x="1019202" y="360680"/>
                  </a:lnTo>
                  <a:lnTo>
                    <a:pt x="1016658" y="367983"/>
                  </a:lnTo>
                  <a:lnTo>
                    <a:pt x="1014113" y="375285"/>
                  </a:lnTo>
                  <a:lnTo>
                    <a:pt x="1011887" y="383223"/>
                  </a:lnTo>
                  <a:lnTo>
                    <a:pt x="1009661" y="391160"/>
                  </a:lnTo>
                  <a:lnTo>
                    <a:pt x="1008071" y="398780"/>
                  </a:lnTo>
                  <a:lnTo>
                    <a:pt x="1006480" y="406718"/>
                  </a:lnTo>
                  <a:lnTo>
                    <a:pt x="1005526" y="414655"/>
                  </a:lnTo>
                  <a:lnTo>
                    <a:pt x="1004572" y="422910"/>
                  </a:lnTo>
                  <a:lnTo>
                    <a:pt x="1003618" y="430848"/>
                  </a:lnTo>
                  <a:lnTo>
                    <a:pt x="1003300" y="439103"/>
                  </a:lnTo>
                  <a:lnTo>
                    <a:pt x="1003300" y="447358"/>
                  </a:lnTo>
                  <a:lnTo>
                    <a:pt x="1003618" y="460058"/>
                  </a:lnTo>
                  <a:lnTo>
                    <a:pt x="1004572" y="472758"/>
                  </a:lnTo>
                  <a:lnTo>
                    <a:pt x="1006162" y="485140"/>
                  </a:lnTo>
                  <a:lnTo>
                    <a:pt x="1008389" y="497205"/>
                  </a:lnTo>
                  <a:lnTo>
                    <a:pt x="1011251" y="509270"/>
                  </a:lnTo>
                  <a:lnTo>
                    <a:pt x="1014432" y="521018"/>
                  </a:lnTo>
                  <a:lnTo>
                    <a:pt x="1018248" y="532448"/>
                  </a:lnTo>
                  <a:lnTo>
                    <a:pt x="1022701" y="543560"/>
                  </a:lnTo>
                  <a:lnTo>
                    <a:pt x="1027471" y="554673"/>
                  </a:lnTo>
                  <a:lnTo>
                    <a:pt x="1033196" y="565150"/>
                  </a:lnTo>
                  <a:lnTo>
                    <a:pt x="1038921" y="575628"/>
                  </a:lnTo>
                  <a:lnTo>
                    <a:pt x="1045600" y="585470"/>
                  </a:lnTo>
                  <a:lnTo>
                    <a:pt x="1052597" y="595313"/>
                  </a:lnTo>
                  <a:lnTo>
                    <a:pt x="1059594" y="604838"/>
                  </a:lnTo>
                  <a:lnTo>
                    <a:pt x="1067545" y="613728"/>
                  </a:lnTo>
                  <a:lnTo>
                    <a:pt x="1075814" y="622300"/>
                  </a:lnTo>
                  <a:lnTo>
                    <a:pt x="1084401" y="630555"/>
                  </a:lnTo>
                  <a:lnTo>
                    <a:pt x="1093306" y="638175"/>
                  </a:lnTo>
                  <a:lnTo>
                    <a:pt x="1102848" y="645478"/>
                  </a:lnTo>
                  <a:lnTo>
                    <a:pt x="1112389" y="652463"/>
                  </a:lnTo>
                  <a:lnTo>
                    <a:pt x="1122566" y="658813"/>
                  </a:lnTo>
                  <a:lnTo>
                    <a:pt x="1132744" y="664845"/>
                  </a:lnTo>
                  <a:lnTo>
                    <a:pt x="1143557" y="670243"/>
                  </a:lnTo>
                  <a:lnTo>
                    <a:pt x="1154689" y="675323"/>
                  </a:lnTo>
                  <a:lnTo>
                    <a:pt x="1165820" y="679450"/>
                  </a:lnTo>
                  <a:lnTo>
                    <a:pt x="1177270" y="683578"/>
                  </a:lnTo>
                  <a:lnTo>
                    <a:pt x="1189037" y="686753"/>
                  </a:lnTo>
                  <a:lnTo>
                    <a:pt x="1201123" y="689610"/>
                  </a:lnTo>
                  <a:lnTo>
                    <a:pt x="1213209" y="691833"/>
                  </a:lnTo>
                  <a:lnTo>
                    <a:pt x="1225613" y="693420"/>
                  </a:lnTo>
                  <a:lnTo>
                    <a:pt x="1238016" y="694055"/>
                  </a:lnTo>
                  <a:lnTo>
                    <a:pt x="1251056" y="694690"/>
                  </a:lnTo>
                  <a:lnTo>
                    <a:pt x="1259325" y="694690"/>
                  </a:lnTo>
                  <a:lnTo>
                    <a:pt x="1267276" y="694055"/>
                  </a:lnTo>
                  <a:lnTo>
                    <a:pt x="1275545" y="693420"/>
                  </a:lnTo>
                  <a:lnTo>
                    <a:pt x="1283815" y="692468"/>
                  </a:lnTo>
                  <a:lnTo>
                    <a:pt x="1291766" y="691198"/>
                  </a:lnTo>
                  <a:lnTo>
                    <a:pt x="1299399" y="689928"/>
                  </a:lnTo>
                  <a:lnTo>
                    <a:pt x="1307350" y="688023"/>
                  </a:lnTo>
                  <a:lnTo>
                    <a:pt x="1315301" y="686118"/>
                  </a:lnTo>
                  <a:lnTo>
                    <a:pt x="1322616" y="683895"/>
                  </a:lnTo>
                  <a:lnTo>
                    <a:pt x="1330249" y="681355"/>
                  </a:lnTo>
                  <a:lnTo>
                    <a:pt x="1337564" y="678815"/>
                  </a:lnTo>
                  <a:lnTo>
                    <a:pt x="1345197" y="675958"/>
                  </a:lnTo>
                  <a:lnTo>
                    <a:pt x="1352194" y="672783"/>
                  </a:lnTo>
                  <a:lnTo>
                    <a:pt x="1359509" y="669608"/>
                  </a:lnTo>
                  <a:lnTo>
                    <a:pt x="1366188" y="666115"/>
                  </a:lnTo>
                  <a:lnTo>
                    <a:pt x="1372867" y="661988"/>
                  </a:lnTo>
                  <a:lnTo>
                    <a:pt x="1374139" y="678498"/>
                  </a:lnTo>
                  <a:lnTo>
                    <a:pt x="1374775" y="694690"/>
                  </a:lnTo>
                  <a:lnTo>
                    <a:pt x="1374457" y="704215"/>
                  </a:lnTo>
                  <a:lnTo>
                    <a:pt x="1374139" y="713740"/>
                  </a:lnTo>
                  <a:lnTo>
                    <a:pt x="1373821" y="722948"/>
                  </a:lnTo>
                  <a:lnTo>
                    <a:pt x="1372549" y="732790"/>
                  </a:lnTo>
                  <a:lnTo>
                    <a:pt x="1371595" y="741998"/>
                  </a:lnTo>
                  <a:lnTo>
                    <a:pt x="1370640" y="751205"/>
                  </a:lnTo>
                  <a:lnTo>
                    <a:pt x="1368732" y="760413"/>
                  </a:lnTo>
                  <a:lnTo>
                    <a:pt x="1366824" y="769303"/>
                  </a:lnTo>
                  <a:lnTo>
                    <a:pt x="1365234" y="778193"/>
                  </a:lnTo>
                  <a:lnTo>
                    <a:pt x="1363007" y="787083"/>
                  </a:lnTo>
                  <a:lnTo>
                    <a:pt x="1360463" y="795973"/>
                  </a:lnTo>
                  <a:lnTo>
                    <a:pt x="1357919" y="804863"/>
                  </a:lnTo>
                  <a:lnTo>
                    <a:pt x="1355056" y="813435"/>
                  </a:lnTo>
                  <a:lnTo>
                    <a:pt x="1351876" y="822008"/>
                  </a:lnTo>
                  <a:lnTo>
                    <a:pt x="1348695" y="830580"/>
                  </a:lnTo>
                  <a:lnTo>
                    <a:pt x="1345515" y="839153"/>
                  </a:lnTo>
                  <a:lnTo>
                    <a:pt x="1342017" y="847408"/>
                  </a:lnTo>
                  <a:lnTo>
                    <a:pt x="1337882" y="855663"/>
                  </a:lnTo>
                  <a:lnTo>
                    <a:pt x="1334065" y="863283"/>
                  </a:lnTo>
                  <a:lnTo>
                    <a:pt x="1329931" y="871538"/>
                  </a:lnTo>
                  <a:lnTo>
                    <a:pt x="1325478" y="879158"/>
                  </a:lnTo>
                  <a:lnTo>
                    <a:pt x="1321026" y="886778"/>
                  </a:lnTo>
                  <a:lnTo>
                    <a:pt x="1316255" y="894398"/>
                  </a:lnTo>
                  <a:lnTo>
                    <a:pt x="1311166" y="901700"/>
                  </a:lnTo>
                  <a:lnTo>
                    <a:pt x="1306396" y="909320"/>
                  </a:lnTo>
                  <a:lnTo>
                    <a:pt x="1300989" y="916305"/>
                  </a:lnTo>
                  <a:lnTo>
                    <a:pt x="1289857" y="930276"/>
                  </a:lnTo>
                  <a:lnTo>
                    <a:pt x="1278090" y="943928"/>
                  </a:lnTo>
                  <a:lnTo>
                    <a:pt x="1266004" y="956628"/>
                  </a:lnTo>
                  <a:lnTo>
                    <a:pt x="1252964" y="969011"/>
                  </a:lnTo>
                  <a:lnTo>
                    <a:pt x="1239606" y="980758"/>
                  </a:lnTo>
                  <a:lnTo>
                    <a:pt x="1225295" y="991553"/>
                  </a:lnTo>
                  <a:lnTo>
                    <a:pt x="1218297" y="996951"/>
                  </a:lnTo>
                  <a:lnTo>
                    <a:pt x="1210983" y="1002031"/>
                  </a:lnTo>
                  <a:lnTo>
                    <a:pt x="1203667" y="1006793"/>
                  </a:lnTo>
                  <a:lnTo>
                    <a:pt x="1195716" y="1011873"/>
                  </a:lnTo>
                  <a:lnTo>
                    <a:pt x="1188083" y="1016318"/>
                  </a:lnTo>
                  <a:lnTo>
                    <a:pt x="1180450" y="1020763"/>
                  </a:lnTo>
                  <a:lnTo>
                    <a:pt x="1172499" y="1024573"/>
                  </a:lnTo>
                  <a:lnTo>
                    <a:pt x="1164230" y="1029018"/>
                  </a:lnTo>
                  <a:lnTo>
                    <a:pt x="1155961" y="1032511"/>
                  </a:lnTo>
                  <a:lnTo>
                    <a:pt x="1148010" y="1036003"/>
                  </a:lnTo>
                  <a:lnTo>
                    <a:pt x="1139423" y="1039813"/>
                  </a:lnTo>
                  <a:lnTo>
                    <a:pt x="1131154" y="1042988"/>
                  </a:lnTo>
                  <a:lnTo>
                    <a:pt x="1122566" y="1046163"/>
                  </a:lnTo>
                  <a:lnTo>
                    <a:pt x="1113661" y="1048703"/>
                  </a:lnTo>
                  <a:lnTo>
                    <a:pt x="1105074" y="1051561"/>
                  </a:lnTo>
                  <a:lnTo>
                    <a:pt x="1096169" y="1053466"/>
                  </a:lnTo>
                  <a:lnTo>
                    <a:pt x="1087264" y="1056006"/>
                  </a:lnTo>
                  <a:lnTo>
                    <a:pt x="1078358" y="1057911"/>
                  </a:lnTo>
                  <a:lnTo>
                    <a:pt x="1069135" y="1059498"/>
                  </a:lnTo>
                  <a:lnTo>
                    <a:pt x="1059594" y="1061086"/>
                  </a:lnTo>
                  <a:lnTo>
                    <a:pt x="1050370" y="1062356"/>
                  </a:lnTo>
                  <a:lnTo>
                    <a:pt x="1041147" y="1063626"/>
                  </a:lnTo>
                  <a:lnTo>
                    <a:pt x="1031924" y="1064261"/>
                  </a:lnTo>
                  <a:lnTo>
                    <a:pt x="1022383" y="1064896"/>
                  </a:lnTo>
                  <a:lnTo>
                    <a:pt x="1012841" y="1065213"/>
                  </a:lnTo>
                  <a:lnTo>
                    <a:pt x="1003300" y="1065213"/>
                  </a:lnTo>
                  <a:lnTo>
                    <a:pt x="993759" y="1065213"/>
                  </a:lnTo>
                  <a:lnTo>
                    <a:pt x="984218" y="1064896"/>
                  </a:lnTo>
                  <a:lnTo>
                    <a:pt x="974676" y="1064261"/>
                  </a:lnTo>
                  <a:lnTo>
                    <a:pt x="965135" y="1063626"/>
                  </a:lnTo>
                  <a:lnTo>
                    <a:pt x="955912" y="1062356"/>
                  </a:lnTo>
                  <a:lnTo>
                    <a:pt x="946688" y="1061086"/>
                  </a:lnTo>
                  <a:lnTo>
                    <a:pt x="937783" y="1059498"/>
                  </a:lnTo>
                  <a:lnTo>
                    <a:pt x="928560" y="1057911"/>
                  </a:lnTo>
                  <a:lnTo>
                    <a:pt x="919655" y="1056006"/>
                  </a:lnTo>
                  <a:lnTo>
                    <a:pt x="910750" y="1053466"/>
                  </a:lnTo>
                  <a:lnTo>
                    <a:pt x="901526" y="1051561"/>
                  </a:lnTo>
                  <a:lnTo>
                    <a:pt x="892621" y="1048703"/>
                  </a:lnTo>
                  <a:lnTo>
                    <a:pt x="884034" y="1046163"/>
                  </a:lnTo>
                  <a:lnTo>
                    <a:pt x="875765" y="1042988"/>
                  </a:lnTo>
                  <a:lnTo>
                    <a:pt x="867178" y="1039813"/>
                  </a:lnTo>
                  <a:lnTo>
                    <a:pt x="858908" y="1036003"/>
                  </a:lnTo>
                  <a:lnTo>
                    <a:pt x="850321" y="1032511"/>
                  </a:lnTo>
                  <a:lnTo>
                    <a:pt x="842370" y="1029018"/>
                  </a:lnTo>
                  <a:lnTo>
                    <a:pt x="834101" y="1024573"/>
                  </a:lnTo>
                  <a:lnTo>
                    <a:pt x="826468" y="1020763"/>
                  </a:lnTo>
                  <a:lnTo>
                    <a:pt x="818517" y="1016318"/>
                  </a:lnTo>
                  <a:lnTo>
                    <a:pt x="810566" y="1011873"/>
                  </a:lnTo>
                  <a:lnTo>
                    <a:pt x="803251" y="1006793"/>
                  </a:lnTo>
                  <a:lnTo>
                    <a:pt x="795618" y="1002031"/>
                  </a:lnTo>
                  <a:lnTo>
                    <a:pt x="788303" y="996951"/>
                  </a:lnTo>
                  <a:lnTo>
                    <a:pt x="780988" y="991553"/>
                  </a:lnTo>
                  <a:lnTo>
                    <a:pt x="767312" y="980758"/>
                  </a:lnTo>
                  <a:lnTo>
                    <a:pt x="753636" y="969011"/>
                  </a:lnTo>
                  <a:lnTo>
                    <a:pt x="740914" y="956628"/>
                  </a:lnTo>
                  <a:lnTo>
                    <a:pt x="728192" y="943928"/>
                  </a:lnTo>
                  <a:lnTo>
                    <a:pt x="716743" y="930276"/>
                  </a:lnTo>
                  <a:lnTo>
                    <a:pt x="705929" y="916305"/>
                  </a:lnTo>
                  <a:lnTo>
                    <a:pt x="700523" y="909320"/>
                  </a:lnTo>
                  <a:lnTo>
                    <a:pt x="695434" y="901700"/>
                  </a:lnTo>
                  <a:lnTo>
                    <a:pt x="690345" y="894398"/>
                  </a:lnTo>
                  <a:lnTo>
                    <a:pt x="685893" y="886778"/>
                  </a:lnTo>
                  <a:lnTo>
                    <a:pt x="681122" y="879158"/>
                  </a:lnTo>
                  <a:lnTo>
                    <a:pt x="676669" y="871538"/>
                  </a:lnTo>
                  <a:lnTo>
                    <a:pt x="672535" y="863283"/>
                  </a:lnTo>
                  <a:lnTo>
                    <a:pt x="668718" y="855663"/>
                  </a:lnTo>
                  <a:lnTo>
                    <a:pt x="664902" y="847408"/>
                  </a:lnTo>
                  <a:lnTo>
                    <a:pt x="661085" y="839153"/>
                  </a:lnTo>
                  <a:lnTo>
                    <a:pt x="657587" y="830580"/>
                  </a:lnTo>
                  <a:lnTo>
                    <a:pt x="654406" y="822008"/>
                  </a:lnTo>
                  <a:lnTo>
                    <a:pt x="651544" y="813435"/>
                  </a:lnTo>
                  <a:lnTo>
                    <a:pt x="648682" y="804863"/>
                  </a:lnTo>
                  <a:lnTo>
                    <a:pt x="645819" y="795973"/>
                  </a:lnTo>
                  <a:lnTo>
                    <a:pt x="643593" y="787083"/>
                  </a:lnTo>
                  <a:lnTo>
                    <a:pt x="641367" y="778193"/>
                  </a:lnTo>
                  <a:lnTo>
                    <a:pt x="639458" y="769303"/>
                  </a:lnTo>
                  <a:lnTo>
                    <a:pt x="637550" y="760413"/>
                  </a:lnTo>
                  <a:lnTo>
                    <a:pt x="636278" y="751205"/>
                  </a:lnTo>
                  <a:lnTo>
                    <a:pt x="634688" y="741998"/>
                  </a:lnTo>
                  <a:lnTo>
                    <a:pt x="633734" y="732790"/>
                  </a:lnTo>
                  <a:lnTo>
                    <a:pt x="633097" y="722948"/>
                  </a:lnTo>
                  <a:lnTo>
                    <a:pt x="632143" y="713740"/>
                  </a:lnTo>
                  <a:lnTo>
                    <a:pt x="631825" y="704215"/>
                  </a:lnTo>
                  <a:lnTo>
                    <a:pt x="631825" y="694690"/>
                  </a:lnTo>
                  <a:lnTo>
                    <a:pt x="631825" y="684848"/>
                  </a:lnTo>
                  <a:lnTo>
                    <a:pt x="632143" y="675640"/>
                  </a:lnTo>
                  <a:lnTo>
                    <a:pt x="633097" y="666115"/>
                  </a:lnTo>
                  <a:lnTo>
                    <a:pt x="633734" y="656908"/>
                  </a:lnTo>
                  <a:lnTo>
                    <a:pt x="634688" y="647383"/>
                  </a:lnTo>
                  <a:lnTo>
                    <a:pt x="636278" y="638175"/>
                  </a:lnTo>
                  <a:lnTo>
                    <a:pt x="637550" y="628968"/>
                  </a:lnTo>
                  <a:lnTo>
                    <a:pt x="639458" y="620078"/>
                  </a:lnTo>
                  <a:lnTo>
                    <a:pt x="641367" y="610870"/>
                  </a:lnTo>
                  <a:lnTo>
                    <a:pt x="643593" y="601980"/>
                  </a:lnTo>
                  <a:lnTo>
                    <a:pt x="645819" y="593090"/>
                  </a:lnTo>
                  <a:lnTo>
                    <a:pt x="648682" y="584518"/>
                  </a:lnTo>
                  <a:lnTo>
                    <a:pt x="651544" y="575628"/>
                  </a:lnTo>
                  <a:lnTo>
                    <a:pt x="654406" y="567055"/>
                  </a:lnTo>
                  <a:lnTo>
                    <a:pt x="657587" y="558800"/>
                  </a:lnTo>
                  <a:lnTo>
                    <a:pt x="661085" y="550228"/>
                  </a:lnTo>
                  <a:lnTo>
                    <a:pt x="664902" y="541973"/>
                  </a:lnTo>
                  <a:lnTo>
                    <a:pt x="668718" y="534035"/>
                  </a:lnTo>
                  <a:lnTo>
                    <a:pt x="672535" y="525780"/>
                  </a:lnTo>
                  <a:lnTo>
                    <a:pt x="676669" y="517843"/>
                  </a:lnTo>
                  <a:lnTo>
                    <a:pt x="681122" y="509905"/>
                  </a:lnTo>
                  <a:lnTo>
                    <a:pt x="685893" y="502603"/>
                  </a:lnTo>
                  <a:lnTo>
                    <a:pt x="690345" y="494665"/>
                  </a:lnTo>
                  <a:lnTo>
                    <a:pt x="695434" y="487363"/>
                  </a:lnTo>
                  <a:lnTo>
                    <a:pt x="700523" y="480060"/>
                  </a:lnTo>
                  <a:lnTo>
                    <a:pt x="705929" y="472758"/>
                  </a:lnTo>
                  <a:lnTo>
                    <a:pt x="716743" y="458788"/>
                  </a:lnTo>
                  <a:lnTo>
                    <a:pt x="728192" y="445135"/>
                  </a:lnTo>
                  <a:lnTo>
                    <a:pt x="740914" y="432435"/>
                  </a:lnTo>
                  <a:lnTo>
                    <a:pt x="753636" y="420370"/>
                  </a:lnTo>
                  <a:lnTo>
                    <a:pt x="767312" y="408623"/>
                  </a:lnTo>
                  <a:lnTo>
                    <a:pt x="780988" y="397510"/>
                  </a:lnTo>
                  <a:lnTo>
                    <a:pt x="788303" y="392113"/>
                  </a:lnTo>
                  <a:lnTo>
                    <a:pt x="795618" y="387033"/>
                  </a:lnTo>
                  <a:lnTo>
                    <a:pt x="803251" y="382270"/>
                  </a:lnTo>
                  <a:lnTo>
                    <a:pt x="810566" y="377508"/>
                  </a:lnTo>
                  <a:lnTo>
                    <a:pt x="818517" y="373063"/>
                  </a:lnTo>
                  <a:lnTo>
                    <a:pt x="826468" y="368618"/>
                  </a:lnTo>
                  <a:lnTo>
                    <a:pt x="834101" y="364490"/>
                  </a:lnTo>
                  <a:lnTo>
                    <a:pt x="842370" y="360363"/>
                  </a:lnTo>
                  <a:lnTo>
                    <a:pt x="850321" y="356553"/>
                  </a:lnTo>
                  <a:lnTo>
                    <a:pt x="858908" y="353060"/>
                  </a:lnTo>
                  <a:lnTo>
                    <a:pt x="867178" y="349885"/>
                  </a:lnTo>
                  <a:lnTo>
                    <a:pt x="875765" y="346710"/>
                  </a:lnTo>
                  <a:lnTo>
                    <a:pt x="884034" y="343218"/>
                  </a:lnTo>
                  <a:lnTo>
                    <a:pt x="892621" y="340360"/>
                  </a:lnTo>
                  <a:lnTo>
                    <a:pt x="901526" y="338138"/>
                  </a:lnTo>
                  <a:lnTo>
                    <a:pt x="910750" y="335598"/>
                  </a:lnTo>
                  <a:lnTo>
                    <a:pt x="919655" y="333375"/>
                  </a:lnTo>
                  <a:lnTo>
                    <a:pt x="928560" y="331470"/>
                  </a:lnTo>
                  <a:lnTo>
                    <a:pt x="937783" y="329883"/>
                  </a:lnTo>
                  <a:lnTo>
                    <a:pt x="946688" y="327978"/>
                  </a:lnTo>
                  <a:lnTo>
                    <a:pt x="955912" y="327025"/>
                  </a:lnTo>
                  <a:lnTo>
                    <a:pt x="965135" y="326073"/>
                  </a:lnTo>
                  <a:lnTo>
                    <a:pt x="974676" y="324803"/>
                  </a:lnTo>
                  <a:lnTo>
                    <a:pt x="984218" y="324485"/>
                  </a:lnTo>
                  <a:lnTo>
                    <a:pt x="993759" y="324168"/>
                  </a:lnTo>
                  <a:lnTo>
                    <a:pt x="1003300" y="323850"/>
                  </a:lnTo>
                  <a:close/>
                  <a:moveTo>
                    <a:pt x="990283" y="189417"/>
                  </a:moveTo>
                  <a:lnTo>
                    <a:pt x="977265" y="190052"/>
                  </a:lnTo>
                  <a:lnTo>
                    <a:pt x="964565" y="190687"/>
                  </a:lnTo>
                  <a:lnTo>
                    <a:pt x="951865" y="191956"/>
                  </a:lnTo>
                  <a:lnTo>
                    <a:pt x="939165" y="193225"/>
                  </a:lnTo>
                  <a:lnTo>
                    <a:pt x="926465" y="195129"/>
                  </a:lnTo>
                  <a:lnTo>
                    <a:pt x="914083" y="197349"/>
                  </a:lnTo>
                  <a:lnTo>
                    <a:pt x="901383" y="199888"/>
                  </a:lnTo>
                  <a:lnTo>
                    <a:pt x="889318" y="202109"/>
                  </a:lnTo>
                  <a:lnTo>
                    <a:pt x="877253" y="205282"/>
                  </a:lnTo>
                  <a:lnTo>
                    <a:pt x="865188" y="208772"/>
                  </a:lnTo>
                  <a:lnTo>
                    <a:pt x="853440" y="212262"/>
                  </a:lnTo>
                  <a:lnTo>
                    <a:pt x="841693" y="216069"/>
                  </a:lnTo>
                  <a:lnTo>
                    <a:pt x="829945" y="219877"/>
                  </a:lnTo>
                  <a:lnTo>
                    <a:pt x="818515" y="224319"/>
                  </a:lnTo>
                  <a:lnTo>
                    <a:pt x="807085" y="228760"/>
                  </a:lnTo>
                  <a:lnTo>
                    <a:pt x="795655" y="233837"/>
                  </a:lnTo>
                  <a:lnTo>
                    <a:pt x="784543" y="239231"/>
                  </a:lnTo>
                  <a:lnTo>
                    <a:pt x="773748" y="244625"/>
                  </a:lnTo>
                  <a:lnTo>
                    <a:pt x="762953" y="250336"/>
                  </a:lnTo>
                  <a:lnTo>
                    <a:pt x="752158" y="256364"/>
                  </a:lnTo>
                  <a:lnTo>
                    <a:pt x="741680" y="262392"/>
                  </a:lnTo>
                  <a:lnTo>
                    <a:pt x="731203" y="269055"/>
                  </a:lnTo>
                  <a:lnTo>
                    <a:pt x="721360" y="275401"/>
                  </a:lnTo>
                  <a:lnTo>
                    <a:pt x="711200" y="282698"/>
                  </a:lnTo>
                  <a:lnTo>
                    <a:pt x="701358" y="289679"/>
                  </a:lnTo>
                  <a:lnTo>
                    <a:pt x="691833" y="297293"/>
                  </a:lnTo>
                  <a:lnTo>
                    <a:pt x="682308" y="304591"/>
                  </a:lnTo>
                  <a:lnTo>
                    <a:pt x="673100" y="312523"/>
                  </a:lnTo>
                  <a:lnTo>
                    <a:pt x="663893" y="320772"/>
                  </a:lnTo>
                  <a:lnTo>
                    <a:pt x="655003" y="329022"/>
                  </a:lnTo>
                  <a:lnTo>
                    <a:pt x="646430" y="337588"/>
                  </a:lnTo>
                  <a:lnTo>
                    <a:pt x="637858" y="346155"/>
                  </a:lnTo>
                  <a:lnTo>
                    <a:pt x="629602" y="355039"/>
                  </a:lnTo>
                  <a:lnTo>
                    <a:pt x="621665" y="363923"/>
                  </a:lnTo>
                  <a:lnTo>
                    <a:pt x="613727" y="373124"/>
                  </a:lnTo>
                  <a:lnTo>
                    <a:pt x="606107" y="382642"/>
                  </a:lnTo>
                  <a:lnTo>
                    <a:pt x="598805" y="392161"/>
                  </a:lnTo>
                  <a:lnTo>
                    <a:pt x="591502" y="401997"/>
                  </a:lnTo>
                  <a:lnTo>
                    <a:pt x="584835" y="411832"/>
                  </a:lnTo>
                  <a:lnTo>
                    <a:pt x="578167" y="422303"/>
                  </a:lnTo>
                  <a:lnTo>
                    <a:pt x="571817" y="432456"/>
                  </a:lnTo>
                  <a:lnTo>
                    <a:pt x="565150" y="442926"/>
                  </a:lnTo>
                  <a:lnTo>
                    <a:pt x="559435" y="453396"/>
                  </a:lnTo>
                  <a:lnTo>
                    <a:pt x="553720" y="464501"/>
                  </a:lnTo>
                  <a:lnTo>
                    <a:pt x="548005" y="475289"/>
                  </a:lnTo>
                  <a:lnTo>
                    <a:pt x="543242" y="486711"/>
                  </a:lnTo>
                  <a:lnTo>
                    <a:pt x="538162" y="497499"/>
                  </a:lnTo>
                  <a:lnTo>
                    <a:pt x="533400" y="508921"/>
                  </a:lnTo>
                  <a:lnTo>
                    <a:pt x="529272" y="520660"/>
                  </a:lnTo>
                  <a:lnTo>
                    <a:pt x="525145" y="532082"/>
                  </a:lnTo>
                  <a:lnTo>
                    <a:pt x="521017" y="543822"/>
                  </a:lnTo>
                  <a:lnTo>
                    <a:pt x="517525" y="555878"/>
                  </a:lnTo>
                  <a:lnTo>
                    <a:pt x="514350" y="568252"/>
                  </a:lnTo>
                  <a:lnTo>
                    <a:pt x="511492" y="580309"/>
                  </a:lnTo>
                  <a:lnTo>
                    <a:pt x="508635" y="592366"/>
                  </a:lnTo>
                  <a:lnTo>
                    <a:pt x="506412" y="604740"/>
                  </a:lnTo>
                  <a:lnTo>
                    <a:pt x="504190" y="617114"/>
                  </a:lnTo>
                  <a:lnTo>
                    <a:pt x="502602" y="629805"/>
                  </a:lnTo>
                  <a:lnTo>
                    <a:pt x="501015" y="642496"/>
                  </a:lnTo>
                  <a:lnTo>
                    <a:pt x="500062" y="654870"/>
                  </a:lnTo>
                  <a:lnTo>
                    <a:pt x="499110" y="668196"/>
                  </a:lnTo>
                  <a:lnTo>
                    <a:pt x="498792" y="680888"/>
                  </a:lnTo>
                  <a:lnTo>
                    <a:pt x="498157" y="693896"/>
                  </a:lnTo>
                  <a:lnTo>
                    <a:pt x="498792" y="706905"/>
                  </a:lnTo>
                  <a:lnTo>
                    <a:pt x="499110" y="719596"/>
                  </a:lnTo>
                  <a:lnTo>
                    <a:pt x="500062" y="732605"/>
                  </a:lnTo>
                  <a:lnTo>
                    <a:pt x="501015" y="745296"/>
                  </a:lnTo>
                  <a:lnTo>
                    <a:pt x="502602" y="758304"/>
                  </a:lnTo>
                  <a:lnTo>
                    <a:pt x="504190" y="770678"/>
                  </a:lnTo>
                  <a:lnTo>
                    <a:pt x="506412" y="783052"/>
                  </a:lnTo>
                  <a:lnTo>
                    <a:pt x="508635" y="795426"/>
                  </a:lnTo>
                  <a:lnTo>
                    <a:pt x="511492" y="807800"/>
                  </a:lnTo>
                  <a:lnTo>
                    <a:pt x="514350" y="819857"/>
                  </a:lnTo>
                  <a:lnTo>
                    <a:pt x="517525" y="831914"/>
                  </a:lnTo>
                  <a:lnTo>
                    <a:pt x="521017" y="843653"/>
                  </a:lnTo>
                  <a:lnTo>
                    <a:pt x="525145" y="855393"/>
                  </a:lnTo>
                  <a:lnTo>
                    <a:pt x="529272" y="867132"/>
                  </a:lnTo>
                  <a:lnTo>
                    <a:pt x="533400" y="878554"/>
                  </a:lnTo>
                  <a:lnTo>
                    <a:pt x="538162" y="889977"/>
                  </a:lnTo>
                  <a:lnTo>
                    <a:pt x="543242" y="901399"/>
                  </a:lnTo>
                  <a:lnTo>
                    <a:pt x="548005" y="912186"/>
                  </a:lnTo>
                  <a:lnTo>
                    <a:pt x="553720" y="923291"/>
                  </a:lnTo>
                  <a:lnTo>
                    <a:pt x="559435" y="934079"/>
                  </a:lnTo>
                  <a:lnTo>
                    <a:pt x="565150" y="944549"/>
                  </a:lnTo>
                  <a:lnTo>
                    <a:pt x="571817" y="955337"/>
                  </a:lnTo>
                  <a:lnTo>
                    <a:pt x="578167" y="965807"/>
                  </a:lnTo>
                  <a:lnTo>
                    <a:pt x="584835" y="975643"/>
                  </a:lnTo>
                  <a:lnTo>
                    <a:pt x="591502" y="985479"/>
                  </a:lnTo>
                  <a:lnTo>
                    <a:pt x="598805" y="995632"/>
                  </a:lnTo>
                  <a:lnTo>
                    <a:pt x="606107" y="1005150"/>
                  </a:lnTo>
                  <a:lnTo>
                    <a:pt x="613727" y="1014351"/>
                  </a:lnTo>
                  <a:lnTo>
                    <a:pt x="621665" y="1023552"/>
                  </a:lnTo>
                  <a:lnTo>
                    <a:pt x="629602" y="1033071"/>
                  </a:lnTo>
                  <a:lnTo>
                    <a:pt x="637858" y="1041955"/>
                  </a:lnTo>
                  <a:lnTo>
                    <a:pt x="646430" y="1050521"/>
                  </a:lnTo>
                  <a:lnTo>
                    <a:pt x="655003" y="1059088"/>
                  </a:lnTo>
                  <a:lnTo>
                    <a:pt x="663893" y="1067020"/>
                  </a:lnTo>
                  <a:lnTo>
                    <a:pt x="673100" y="1074952"/>
                  </a:lnTo>
                  <a:lnTo>
                    <a:pt x="682308" y="1082884"/>
                  </a:lnTo>
                  <a:lnTo>
                    <a:pt x="691833" y="1090499"/>
                  </a:lnTo>
                  <a:lnTo>
                    <a:pt x="701358" y="1098114"/>
                  </a:lnTo>
                  <a:lnTo>
                    <a:pt x="711200" y="1105094"/>
                  </a:lnTo>
                  <a:lnTo>
                    <a:pt x="721360" y="1112074"/>
                  </a:lnTo>
                  <a:lnTo>
                    <a:pt x="731203" y="1118737"/>
                  </a:lnTo>
                  <a:lnTo>
                    <a:pt x="741680" y="1125083"/>
                  </a:lnTo>
                  <a:lnTo>
                    <a:pt x="752158" y="1131111"/>
                  </a:lnTo>
                  <a:lnTo>
                    <a:pt x="762953" y="1137139"/>
                  </a:lnTo>
                  <a:lnTo>
                    <a:pt x="773748" y="1142850"/>
                  </a:lnTo>
                  <a:lnTo>
                    <a:pt x="784543" y="1148562"/>
                  </a:lnTo>
                  <a:lnTo>
                    <a:pt x="795655" y="1153638"/>
                  </a:lnTo>
                  <a:lnTo>
                    <a:pt x="807085" y="1158715"/>
                  </a:lnTo>
                  <a:lnTo>
                    <a:pt x="818515" y="1163157"/>
                  </a:lnTo>
                  <a:lnTo>
                    <a:pt x="829945" y="1167599"/>
                  </a:lnTo>
                  <a:lnTo>
                    <a:pt x="841693" y="1171723"/>
                  </a:lnTo>
                  <a:lnTo>
                    <a:pt x="853440" y="1175531"/>
                  </a:lnTo>
                  <a:lnTo>
                    <a:pt x="865188" y="1179338"/>
                  </a:lnTo>
                  <a:lnTo>
                    <a:pt x="877253" y="1182511"/>
                  </a:lnTo>
                  <a:lnTo>
                    <a:pt x="889318" y="1185366"/>
                  </a:lnTo>
                  <a:lnTo>
                    <a:pt x="901383" y="1188222"/>
                  </a:lnTo>
                  <a:lnTo>
                    <a:pt x="914083" y="1190126"/>
                  </a:lnTo>
                  <a:lnTo>
                    <a:pt x="926465" y="1192347"/>
                  </a:lnTo>
                  <a:lnTo>
                    <a:pt x="939165" y="1194250"/>
                  </a:lnTo>
                  <a:lnTo>
                    <a:pt x="951865" y="1195519"/>
                  </a:lnTo>
                  <a:lnTo>
                    <a:pt x="964565" y="1196788"/>
                  </a:lnTo>
                  <a:lnTo>
                    <a:pt x="977265" y="1197740"/>
                  </a:lnTo>
                  <a:lnTo>
                    <a:pt x="990283" y="1198058"/>
                  </a:lnTo>
                  <a:lnTo>
                    <a:pt x="1003300" y="1198375"/>
                  </a:lnTo>
                  <a:lnTo>
                    <a:pt x="1016317" y="1198058"/>
                  </a:lnTo>
                  <a:lnTo>
                    <a:pt x="1029335" y="1197740"/>
                  </a:lnTo>
                  <a:lnTo>
                    <a:pt x="1042035" y="1196788"/>
                  </a:lnTo>
                  <a:lnTo>
                    <a:pt x="1055053" y="1195519"/>
                  </a:lnTo>
                  <a:lnTo>
                    <a:pt x="1067435" y="1194250"/>
                  </a:lnTo>
                  <a:lnTo>
                    <a:pt x="1079817" y="1192347"/>
                  </a:lnTo>
                  <a:lnTo>
                    <a:pt x="1092517" y="1190126"/>
                  </a:lnTo>
                  <a:lnTo>
                    <a:pt x="1104900" y="1188222"/>
                  </a:lnTo>
                  <a:lnTo>
                    <a:pt x="1116965" y="1185366"/>
                  </a:lnTo>
                  <a:lnTo>
                    <a:pt x="1129347" y="1182511"/>
                  </a:lnTo>
                  <a:lnTo>
                    <a:pt x="1141095" y="1179338"/>
                  </a:lnTo>
                  <a:lnTo>
                    <a:pt x="1153160" y="1175531"/>
                  </a:lnTo>
                  <a:lnTo>
                    <a:pt x="1164907" y="1171723"/>
                  </a:lnTo>
                  <a:lnTo>
                    <a:pt x="1176973" y="1167599"/>
                  </a:lnTo>
                  <a:lnTo>
                    <a:pt x="1188085" y="1163157"/>
                  </a:lnTo>
                  <a:lnTo>
                    <a:pt x="1199515" y="1158715"/>
                  </a:lnTo>
                  <a:lnTo>
                    <a:pt x="1210945" y="1153638"/>
                  </a:lnTo>
                  <a:lnTo>
                    <a:pt x="1222057" y="1148562"/>
                  </a:lnTo>
                  <a:lnTo>
                    <a:pt x="1232853" y="1142850"/>
                  </a:lnTo>
                  <a:lnTo>
                    <a:pt x="1243647" y="1137139"/>
                  </a:lnTo>
                  <a:lnTo>
                    <a:pt x="1254443" y="1131111"/>
                  </a:lnTo>
                  <a:lnTo>
                    <a:pt x="1264920" y="1125083"/>
                  </a:lnTo>
                  <a:lnTo>
                    <a:pt x="1275080" y="1118737"/>
                  </a:lnTo>
                  <a:lnTo>
                    <a:pt x="1285557" y="1112074"/>
                  </a:lnTo>
                  <a:lnTo>
                    <a:pt x="1295400" y="1105094"/>
                  </a:lnTo>
                  <a:lnTo>
                    <a:pt x="1304925" y="1098114"/>
                  </a:lnTo>
                  <a:lnTo>
                    <a:pt x="1314767" y="1090499"/>
                  </a:lnTo>
                  <a:lnTo>
                    <a:pt x="1324293" y="1082884"/>
                  </a:lnTo>
                  <a:lnTo>
                    <a:pt x="1333500" y="1074952"/>
                  </a:lnTo>
                  <a:lnTo>
                    <a:pt x="1342390" y="1067020"/>
                  </a:lnTo>
                  <a:lnTo>
                    <a:pt x="1351280" y="1059088"/>
                  </a:lnTo>
                  <a:lnTo>
                    <a:pt x="1359853" y="1050521"/>
                  </a:lnTo>
                  <a:lnTo>
                    <a:pt x="1368425" y="1041955"/>
                  </a:lnTo>
                  <a:lnTo>
                    <a:pt x="1376680" y="1033071"/>
                  </a:lnTo>
                  <a:lnTo>
                    <a:pt x="1384935" y="1023552"/>
                  </a:lnTo>
                  <a:lnTo>
                    <a:pt x="1392555" y="1014351"/>
                  </a:lnTo>
                  <a:lnTo>
                    <a:pt x="1400175" y="1005150"/>
                  </a:lnTo>
                  <a:lnTo>
                    <a:pt x="1407477" y="995632"/>
                  </a:lnTo>
                  <a:lnTo>
                    <a:pt x="1414780" y="985479"/>
                  </a:lnTo>
                  <a:lnTo>
                    <a:pt x="1421765" y="975643"/>
                  </a:lnTo>
                  <a:lnTo>
                    <a:pt x="1428433" y="965807"/>
                  </a:lnTo>
                  <a:lnTo>
                    <a:pt x="1435100" y="955337"/>
                  </a:lnTo>
                  <a:lnTo>
                    <a:pt x="1441133" y="944549"/>
                  </a:lnTo>
                  <a:lnTo>
                    <a:pt x="1447165" y="934079"/>
                  </a:lnTo>
                  <a:lnTo>
                    <a:pt x="1452880" y="923291"/>
                  </a:lnTo>
                  <a:lnTo>
                    <a:pt x="1458277" y="912186"/>
                  </a:lnTo>
                  <a:lnTo>
                    <a:pt x="1463675" y="901399"/>
                  </a:lnTo>
                  <a:lnTo>
                    <a:pt x="1468437" y="889977"/>
                  </a:lnTo>
                  <a:lnTo>
                    <a:pt x="1473200" y="878554"/>
                  </a:lnTo>
                  <a:lnTo>
                    <a:pt x="1477327" y="867132"/>
                  </a:lnTo>
                  <a:lnTo>
                    <a:pt x="1481455" y="855393"/>
                  </a:lnTo>
                  <a:lnTo>
                    <a:pt x="1485265" y="843653"/>
                  </a:lnTo>
                  <a:lnTo>
                    <a:pt x="1488757" y="831914"/>
                  </a:lnTo>
                  <a:lnTo>
                    <a:pt x="1491933" y="819857"/>
                  </a:lnTo>
                  <a:lnTo>
                    <a:pt x="1495107" y="807800"/>
                  </a:lnTo>
                  <a:lnTo>
                    <a:pt x="1497647" y="795426"/>
                  </a:lnTo>
                  <a:lnTo>
                    <a:pt x="1500187" y="783052"/>
                  </a:lnTo>
                  <a:lnTo>
                    <a:pt x="1502410" y="770678"/>
                  </a:lnTo>
                  <a:lnTo>
                    <a:pt x="1503997" y="758304"/>
                  </a:lnTo>
                  <a:lnTo>
                    <a:pt x="1505585" y="745296"/>
                  </a:lnTo>
                  <a:lnTo>
                    <a:pt x="1506537" y="732605"/>
                  </a:lnTo>
                  <a:lnTo>
                    <a:pt x="1507490" y="719596"/>
                  </a:lnTo>
                  <a:lnTo>
                    <a:pt x="1508125" y="706905"/>
                  </a:lnTo>
                  <a:lnTo>
                    <a:pt x="1508125" y="693896"/>
                  </a:lnTo>
                  <a:lnTo>
                    <a:pt x="1508125" y="680888"/>
                  </a:lnTo>
                  <a:lnTo>
                    <a:pt x="1507490" y="668196"/>
                  </a:lnTo>
                  <a:lnTo>
                    <a:pt x="1506537" y="654870"/>
                  </a:lnTo>
                  <a:lnTo>
                    <a:pt x="1505585" y="642496"/>
                  </a:lnTo>
                  <a:lnTo>
                    <a:pt x="1503997" y="629805"/>
                  </a:lnTo>
                  <a:lnTo>
                    <a:pt x="1502410" y="617114"/>
                  </a:lnTo>
                  <a:lnTo>
                    <a:pt x="1500187" y="604740"/>
                  </a:lnTo>
                  <a:lnTo>
                    <a:pt x="1497647" y="592366"/>
                  </a:lnTo>
                  <a:lnTo>
                    <a:pt x="1495107" y="580309"/>
                  </a:lnTo>
                  <a:lnTo>
                    <a:pt x="1491933" y="568252"/>
                  </a:lnTo>
                  <a:lnTo>
                    <a:pt x="1488757" y="555878"/>
                  </a:lnTo>
                  <a:lnTo>
                    <a:pt x="1485265" y="543822"/>
                  </a:lnTo>
                  <a:lnTo>
                    <a:pt x="1481455" y="532082"/>
                  </a:lnTo>
                  <a:lnTo>
                    <a:pt x="1477327" y="520660"/>
                  </a:lnTo>
                  <a:lnTo>
                    <a:pt x="1473200" y="508921"/>
                  </a:lnTo>
                  <a:lnTo>
                    <a:pt x="1468437" y="497499"/>
                  </a:lnTo>
                  <a:lnTo>
                    <a:pt x="1463675" y="486711"/>
                  </a:lnTo>
                  <a:lnTo>
                    <a:pt x="1458277" y="475289"/>
                  </a:lnTo>
                  <a:lnTo>
                    <a:pt x="1452880" y="464501"/>
                  </a:lnTo>
                  <a:lnTo>
                    <a:pt x="1447165" y="453396"/>
                  </a:lnTo>
                  <a:lnTo>
                    <a:pt x="1441133" y="442926"/>
                  </a:lnTo>
                  <a:lnTo>
                    <a:pt x="1435100" y="432456"/>
                  </a:lnTo>
                  <a:lnTo>
                    <a:pt x="1428433" y="422303"/>
                  </a:lnTo>
                  <a:lnTo>
                    <a:pt x="1421765" y="411832"/>
                  </a:lnTo>
                  <a:lnTo>
                    <a:pt x="1414780" y="401997"/>
                  </a:lnTo>
                  <a:lnTo>
                    <a:pt x="1407477" y="392161"/>
                  </a:lnTo>
                  <a:lnTo>
                    <a:pt x="1400175" y="382642"/>
                  </a:lnTo>
                  <a:lnTo>
                    <a:pt x="1392555" y="373124"/>
                  </a:lnTo>
                  <a:lnTo>
                    <a:pt x="1384935" y="363923"/>
                  </a:lnTo>
                  <a:lnTo>
                    <a:pt x="1376680" y="355039"/>
                  </a:lnTo>
                  <a:lnTo>
                    <a:pt x="1368425" y="346155"/>
                  </a:lnTo>
                  <a:lnTo>
                    <a:pt x="1359853" y="337588"/>
                  </a:lnTo>
                  <a:lnTo>
                    <a:pt x="1351280" y="329022"/>
                  </a:lnTo>
                  <a:lnTo>
                    <a:pt x="1342390" y="320772"/>
                  </a:lnTo>
                  <a:lnTo>
                    <a:pt x="1333500" y="312523"/>
                  </a:lnTo>
                  <a:lnTo>
                    <a:pt x="1324293" y="304591"/>
                  </a:lnTo>
                  <a:lnTo>
                    <a:pt x="1314767" y="297293"/>
                  </a:lnTo>
                  <a:lnTo>
                    <a:pt x="1304925" y="289679"/>
                  </a:lnTo>
                  <a:lnTo>
                    <a:pt x="1295400" y="282698"/>
                  </a:lnTo>
                  <a:lnTo>
                    <a:pt x="1285557" y="275401"/>
                  </a:lnTo>
                  <a:lnTo>
                    <a:pt x="1275080" y="269055"/>
                  </a:lnTo>
                  <a:lnTo>
                    <a:pt x="1264920" y="262392"/>
                  </a:lnTo>
                  <a:lnTo>
                    <a:pt x="1254443" y="256364"/>
                  </a:lnTo>
                  <a:lnTo>
                    <a:pt x="1243647" y="250336"/>
                  </a:lnTo>
                  <a:lnTo>
                    <a:pt x="1232853" y="244625"/>
                  </a:lnTo>
                  <a:lnTo>
                    <a:pt x="1222057" y="239231"/>
                  </a:lnTo>
                  <a:lnTo>
                    <a:pt x="1210945" y="233837"/>
                  </a:lnTo>
                  <a:lnTo>
                    <a:pt x="1199515" y="228760"/>
                  </a:lnTo>
                  <a:lnTo>
                    <a:pt x="1188085" y="224319"/>
                  </a:lnTo>
                  <a:lnTo>
                    <a:pt x="1176973" y="219877"/>
                  </a:lnTo>
                  <a:lnTo>
                    <a:pt x="1164907" y="216069"/>
                  </a:lnTo>
                  <a:lnTo>
                    <a:pt x="1153160" y="212262"/>
                  </a:lnTo>
                  <a:lnTo>
                    <a:pt x="1141095" y="208772"/>
                  </a:lnTo>
                  <a:lnTo>
                    <a:pt x="1129347" y="205282"/>
                  </a:lnTo>
                  <a:lnTo>
                    <a:pt x="1116965" y="202109"/>
                  </a:lnTo>
                  <a:lnTo>
                    <a:pt x="1104900" y="199888"/>
                  </a:lnTo>
                  <a:lnTo>
                    <a:pt x="1092517" y="197349"/>
                  </a:lnTo>
                  <a:lnTo>
                    <a:pt x="1079817" y="195129"/>
                  </a:lnTo>
                  <a:lnTo>
                    <a:pt x="1067435" y="193225"/>
                  </a:lnTo>
                  <a:lnTo>
                    <a:pt x="1055053" y="191956"/>
                  </a:lnTo>
                  <a:lnTo>
                    <a:pt x="1042035" y="190687"/>
                  </a:lnTo>
                  <a:lnTo>
                    <a:pt x="1029335" y="190052"/>
                  </a:lnTo>
                  <a:lnTo>
                    <a:pt x="1016317" y="189417"/>
                  </a:lnTo>
                  <a:lnTo>
                    <a:pt x="1003300" y="189417"/>
                  </a:lnTo>
                  <a:lnTo>
                    <a:pt x="990283" y="189417"/>
                  </a:lnTo>
                  <a:close/>
                  <a:moveTo>
                    <a:pt x="1003300" y="0"/>
                  </a:moveTo>
                  <a:lnTo>
                    <a:pt x="1024573" y="317"/>
                  </a:lnTo>
                  <a:lnTo>
                    <a:pt x="1046163" y="1269"/>
                  </a:lnTo>
                  <a:lnTo>
                    <a:pt x="1067117" y="2221"/>
                  </a:lnTo>
                  <a:lnTo>
                    <a:pt x="1088390" y="3490"/>
                  </a:lnTo>
                  <a:lnTo>
                    <a:pt x="1109345" y="5711"/>
                  </a:lnTo>
                  <a:lnTo>
                    <a:pt x="1130935" y="8249"/>
                  </a:lnTo>
                  <a:lnTo>
                    <a:pt x="1151890" y="11105"/>
                  </a:lnTo>
                  <a:lnTo>
                    <a:pt x="1172845" y="14278"/>
                  </a:lnTo>
                  <a:lnTo>
                    <a:pt x="1193483" y="17768"/>
                  </a:lnTo>
                  <a:lnTo>
                    <a:pt x="1214120" y="21892"/>
                  </a:lnTo>
                  <a:lnTo>
                    <a:pt x="1234757" y="26334"/>
                  </a:lnTo>
                  <a:lnTo>
                    <a:pt x="1255395" y="31411"/>
                  </a:lnTo>
                  <a:lnTo>
                    <a:pt x="1276033" y="36487"/>
                  </a:lnTo>
                  <a:lnTo>
                    <a:pt x="1296353" y="42199"/>
                  </a:lnTo>
                  <a:lnTo>
                    <a:pt x="1316355" y="48227"/>
                  </a:lnTo>
                  <a:lnTo>
                    <a:pt x="1336675" y="54573"/>
                  </a:lnTo>
                  <a:lnTo>
                    <a:pt x="1356677" y="61553"/>
                  </a:lnTo>
                  <a:lnTo>
                    <a:pt x="1376363" y="68850"/>
                  </a:lnTo>
                  <a:lnTo>
                    <a:pt x="1395730" y="76148"/>
                  </a:lnTo>
                  <a:lnTo>
                    <a:pt x="1415415" y="84080"/>
                  </a:lnTo>
                  <a:lnTo>
                    <a:pt x="1434783" y="92329"/>
                  </a:lnTo>
                  <a:lnTo>
                    <a:pt x="1453833" y="101213"/>
                  </a:lnTo>
                  <a:lnTo>
                    <a:pt x="1472883" y="110097"/>
                  </a:lnTo>
                  <a:lnTo>
                    <a:pt x="1491297" y="119298"/>
                  </a:lnTo>
                  <a:lnTo>
                    <a:pt x="1509713" y="128817"/>
                  </a:lnTo>
                  <a:lnTo>
                    <a:pt x="1528445" y="138970"/>
                  </a:lnTo>
                  <a:lnTo>
                    <a:pt x="1546543" y="149440"/>
                  </a:lnTo>
                  <a:lnTo>
                    <a:pt x="1564323" y="160228"/>
                  </a:lnTo>
                  <a:lnTo>
                    <a:pt x="1582103" y="171015"/>
                  </a:lnTo>
                  <a:lnTo>
                    <a:pt x="1599565" y="182437"/>
                  </a:lnTo>
                  <a:lnTo>
                    <a:pt x="1616710" y="194177"/>
                  </a:lnTo>
                  <a:lnTo>
                    <a:pt x="1633855" y="205916"/>
                  </a:lnTo>
                  <a:lnTo>
                    <a:pt x="1650683" y="218290"/>
                  </a:lnTo>
                  <a:lnTo>
                    <a:pt x="1666875" y="230664"/>
                  </a:lnTo>
                  <a:lnTo>
                    <a:pt x="1683067" y="243355"/>
                  </a:lnTo>
                  <a:lnTo>
                    <a:pt x="1698943" y="256681"/>
                  </a:lnTo>
                  <a:lnTo>
                    <a:pt x="1714500" y="270324"/>
                  </a:lnTo>
                  <a:lnTo>
                    <a:pt x="1730057" y="283650"/>
                  </a:lnTo>
                  <a:lnTo>
                    <a:pt x="1745297" y="297611"/>
                  </a:lnTo>
                  <a:lnTo>
                    <a:pt x="1759903" y="311888"/>
                  </a:lnTo>
                  <a:lnTo>
                    <a:pt x="1774507" y="326483"/>
                  </a:lnTo>
                  <a:lnTo>
                    <a:pt x="1788477" y="341396"/>
                  </a:lnTo>
                  <a:lnTo>
                    <a:pt x="1802130" y="356308"/>
                  </a:lnTo>
                  <a:lnTo>
                    <a:pt x="1815783" y="371537"/>
                  </a:lnTo>
                  <a:lnTo>
                    <a:pt x="1829117" y="387402"/>
                  </a:lnTo>
                  <a:lnTo>
                    <a:pt x="1841817" y="402948"/>
                  </a:lnTo>
                  <a:lnTo>
                    <a:pt x="1854200" y="419130"/>
                  </a:lnTo>
                  <a:lnTo>
                    <a:pt x="1866265" y="435311"/>
                  </a:lnTo>
                  <a:lnTo>
                    <a:pt x="1878013" y="451810"/>
                  </a:lnTo>
                  <a:lnTo>
                    <a:pt x="1889443" y="468309"/>
                  </a:lnTo>
                  <a:lnTo>
                    <a:pt x="1900555" y="485442"/>
                  </a:lnTo>
                  <a:lnTo>
                    <a:pt x="1911350" y="502575"/>
                  </a:lnTo>
                  <a:lnTo>
                    <a:pt x="1921510" y="520026"/>
                  </a:lnTo>
                  <a:lnTo>
                    <a:pt x="1931670" y="537793"/>
                  </a:lnTo>
                  <a:lnTo>
                    <a:pt x="1940877" y="555561"/>
                  </a:lnTo>
                  <a:lnTo>
                    <a:pt x="1950085" y="573329"/>
                  </a:lnTo>
                  <a:lnTo>
                    <a:pt x="1958657" y="592049"/>
                  </a:lnTo>
                  <a:lnTo>
                    <a:pt x="1966913" y="610134"/>
                  </a:lnTo>
                  <a:lnTo>
                    <a:pt x="1974533" y="628536"/>
                  </a:lnTo>
                  <a:lnTo>
                    <a:pt x="1981835" y="647573"/>
                  </a:lnTo>
                  <a:lnTo>
                    <a:pt x="1988820" y="666610"/>
                  </a:lnTo>
                  <a:lnTo>
                    <a:pt x="1995170" y="685647"/>
                  </a:lnTo>
                  <a:lnTo>
                    <a:pt x="2000885" y="704684"/>
                  </a:lnTo>
                  <a:lnTo>
                    <a:pt x="2006600" y="724355"/>
                  </a:lnTo>
                  <a:lnTo>
                    <a:pt x="2000885" y="742123"/>
                  </a:lnTo>
                  <a:lnTo>
                    <a:pt x="1995170" y="759891"/>
                  </a:lnTo>
                  <a:lnTo>
                    <a:pt x="1988820" y="777341"/>
                  </a:lnTo>
                  <a:lnTo>
                    <a:pt x="1981835" y="794792"/>
                  </a:lnTo>
                  <a:lnTo>
                    <a:pt x="1974533" y="811925"/>
                  </a:lnTo>
                  <a:lnTo>
                    <a:pt x="1966913" y="829058"/>
                  </a:lnTo>
                  <a:lnTo>
                    <a:pt x="1958657" y="845874"/>
                  </a:lnTo>
                  <a:lnTo>
                    <a:pt x="1950085" y="862373"/>
                  </a:lnTo>
                  <a:lnTo>
                    <a:pt x="1940877" y="879189"/>
                  </a:lnTo>
                  <a:lnTo>
                    <a:pt x="1931670" y="895053"/>
                  </a:lnTo>
                  <a:lnTo>
                    <a:pt x="1921510" y="911552"/>
                  </a:lnTo>
                  <a:lnTo>
                    <a:pt x="1911350" y="927099"/>
                  </a:lnTo>
                  <a:lnTo>
                    <a:pt x="1900555" y="943280"/>
                  </a:lnTo>
                  <a:lnTo>
                    <a:pt x="1889443" y="958510"/>
                  </a:lnTo>
                  <a:lnTo>
                    <a:pt x="1878013" y="973739"/>
                  </a:lnTo>
                  <a:lnTo>
                    <a:pt x="1866265" y="989286"/>
                  </a:lnTo>
                  <a:lnTo>
                    <a:pt x="1854200" y="1004198"/>
                  </a:lnTo>
                  <a:lnTo>
                    <a:pt x="1841817" y="1018793"/>
                  </a:lnTo>
                  <a:lnTo>
                    <a:pt x="1829117" y="1033388"/>
                  </a:lnTo>
                  <a:lnTo>
                    <a:pt x="1815783" y="1047666"/>
                  </a:lnTo>
                  <a:lnTo>
                    <a:pt x="1802130" y="1061309"/>
                  </a:lnTo>
                  <a:lnTo>
                    <a:pt x="1788477" y="1075269"/>
                  </a:lnTo>
                  <a:lnTo>
                    <a:pt x="1774507" y="1088913"/>
                  </a:lnTo>
                  <a:lnTo>
                    <a:pt x="1759903" y="1101921"/>
                  </a:lnTo>
                  <a:lnTo>
                    <a:pt x="1745297" y="1115247"/>
                  </a:lnTo>
                  <a:lnTo>
                    <a:pt x="1730057" y="1127938"/>
                  </a:lnTo>
                  <a:lnTo>
                    <a:pt x="1714500" y="1140312"/>
                  </a:lnTo>
                  <a:lnTo>
                    <a:pt x="1698943" y="1152686"/>
                  </a:lnTo>
                  <a:lnTo>
                    <a:pt x="1683067" y="1164743"/>
                  </a:lnTo>
                  <a:lnTo>
                    <a:pt x="1666875" y="1176482"/>
                  </a:lnTo>
                  <a:lnTo>
                    <a:pt x="1650683" y="1187905"/>
                  </a:lnTo>
                  <a:lnTo>
                    <a:pt x="1633855" y="1199009"/>
                  </a:lnTo>
                  <a:lnTo>
                    <a:pt x="1616710" y="1210114"/>
                  </a:lnTo>
                  <a:lnTo>
                    <a:pt x="1599565" y="1220902"/>
                  </a:lnTo>
                  <a:lnTo>
                    <a:pt x="1582103" y="1231055"/>
                  </a:lnTo>
                  <a:lnTo>
                    <a:pt x="1564323" y="1241208"/>
                  </a:lnTo>
                  <a:lnTo>
                    <a:pt x="1546543" y="1250726"/>
                  </a:lnTo>
                  <a:lnTo>
                    <a:pt x="1528445" y="1260245"/>
                  </a:lnTo>
                  <a:lnTo>
                    <a:pt x="1509713" y="1269763"/>
                  </a:lnTo>
                  <a:lnTo>
                    <a:pt x="1491297" y="1278647"/>
                  </a:lnTo>
                  <a:lnTo>
                    <a:pt x="1472883" y="1287214"/>
                  </a:lnTo>
                  <a:lnTo>
                    <a:pt x="1453833" y="1295146"/>
                  </a:lnTo>
                  <a:lnTo>
                    <a:pt x="1434783" y="1303078"/>
                  </a:lnTo>
                  <a:lnTo>
                    <a:pt x="1415415" y="1310693"/>
                  </a:lnTo>
                  <a:lnTo>
                    <a:pt x="1395730" y="1317990"/>
                  </a:lnTo>
                  <a:lnTo>
                    <a:pt x="1376363" y="1324653"/>
                  </a:lnTo>
                  <a:lnTo>
                    <a:pt x="1356677" y="1331316"/>
                  </a:lnTo>
                  <a:lnTo>
                    <a:pt x="1336675" y="1337662"/>
                  </a:lnTo>
                  <a:lnTo>
                    <a:pt x="1316355" y="1343373"/>
                  </a:lnTo>
                  <a:lnTo>
                    <a:pt x="1296353" y="1349084"/>
                  </a:lnTo>
                  <a:lnTo>
                    <a:pt x="1276033" y="1354478"/>
                  </a:lnTo>
                  <a:lnTo>
                    <a:pt x="1255395" y="1358920"/>
                  </a:lnTo>
                  <a:lnTo>
                    <a:pt x="1234757" y="1363679"/>
                  </a:lnTo>
                  <a:lnTo>
                    <a:pt x="1214120" y="1367486"/>
                  </a:lnTo>
                  <a:lnTo>
                    <a:pt x="1193483" y="1371294"/>
                  </a:lnTo>
                  <a:lnTo>
                    <a:pt x="1172845" y="1374784"/>
                  </a:lnTo>
                  <a:lnTo>
                    <a:pt x="1151890" y="1377639"/>
                  </a:lnTo>
                  <a:lnTo>
                    <a:pt x="1130935" y="1380178"/>
                  </a:lnTo>
                  <a:lnTo>
                    <a:pt x="1109345" y="1382399"/>
                  </a:lnTo>
                  <a:lnTo>
                    <a:pt x="1088390" y="1384302"/>
                  </a:lnTo>
                  <a:lnTo>
                    <a:pt x="1067117" y="1385571"/>
                  </a:lnTo>
                  <a:lnTo>
                    <a:pt x="1046163" y="1386840"/>
                  </a:lnTo>
                  <a:lnTo>
                    <a:pt x="1024573" y="1387475"/>
                  </a:lnTo>
                  <a:lnTo>
                    <a:pt x="1003300" y="1387475"/>
                  </a:lnTo>
                  <a:lnTo>
                    <a:pt x="981393" y="1387475"/>
                  </a:lnTo>
                  <a:lnTo>
                    <a:pt x="959485" y="1386840"/>
                  </a:lnTo>
                  <a:lnTo>
                    <a:pt x="937895" y="1385571"/>
                  </a:lnTo>
                  <a:lnTo>
                    <a:pt x="916305" y="1384302"/>
                  </a:lnTo>
                  <a:lnTo>
                    <a:pt x="895033" y="1382399"/>
                  </a:lnTo>
                  <a:lnTo>
                    <a:pt x="873760" y="1380178"/>
                  </a:lnTo>
                  <a:lnTo>
                    <a:pt x="852805" y="1377639"/>
                  </a:lnTo>
                  <a:lnTo>
                    <a:pt x="831533" y="1374784"/>
                  </a:lnTo>
                  <a:lnTo>
                    <a:pt x="810578" y="1371294"/>
                  </a:lnTo>
                  <a:lnTo>
                    <a:pt x="789940" y="1367486"/>
                  </a:lnTo>
                  <a:lnTo>
                    <a:pt x="769303" y="1363679"/>
                  </a:lnTo>
                  <a:lnTo>
                    <a:pt x="748983" y="1358920"/>
                  </a:lnTo>
                  <a:lnTo>
                    <a:pt x="728980" y="1354478"/>
                  </a:lnTo>
                  <a:lnTo>
                    <a:pt x="708660" y="1349084"/>
                  </a:lnTo>
                  <a:lnTo>
                    <a:pt x="689293" y="1343373"/>
                  </a:lnTo>
                  <a:lnTo>
                    <a:pt x="669290" y="1337662"/>
                  </a:lnTo>
                  <a:lnTo>
                    <a:pt x="649605" y="1331316"/>
                  </a:lnTo>
                  <a:lnTo>
                    <a:pt x="630555" y="1324653"/>
                  </a:lnTo>
                  <a:lnTo>
                    <a:pt x="611187" y="1317990"/>
                  </a:lnTo>
                  <a:lnTo>
                    <a:pt x="592455" y="1310693"/>
                  </a:lnTo>
                  <a:lnTo>
                    <a:pt x="573722" y="1303078"/>
                  </a:lnTo>
                  <a:lnTo>
                    <a:pt x="554990" y="1295146"/>
                  </a:lnTo>
                  <a:lnTo>
                    <a:pt x="536892" y="1287214"/>
                  </a:lnTo>
                  <a:lnTo>
                    <a:pt x="518477" y="1278647"/>
                  </a:lnTo>
                  <a:lnTo>
                    <a:pt x="500380" y="1269763"/>
                  </a:lnTo>
                  <a:lnTo>
                    <a:pt x="482917" y="1260245"/>
                  </a:lnTo>
                  <a:lnTo>
                    <a:pt x="465137" y="1250726"/>
                  </a:lnTo>
                  <a:lnTo>
                    <a:pt x="447992" y="1241208"/>
                  </a:lnTo>
                  <a:lnTo>
                    <a:pt x="430847" y="1231055"/>
                  </a:lnTo>
                  <a:lnTo>
                    <a:pt x="414020" y="1220902"/>
                  </a:lnTo>
                  <a:lnTo>
                    <a:pt x="397510" y="1210114"/>
                  </a:lnTo>
                  <a:lnTo>
                    <a:pt x="381000" y="1199009"/>
                  </a:lnTo>
                  <a:lnTo>
                    <a:pt x="364807" y="1187905"/>
                  </a:lnTo>
                  <a:lnTo>
                    <a:pt x="348615" y="1176482"/>
                  </a:lnTo>
                  <a:lnTo>
                    <a:pt x="333057" y="1164743"/>
                  </a:lnTo>
                  <a:lnTo>
                    <a:pt x="317817" y="1152686"/>
                  </a:lnTo>
                  <a:lnTo>
                    <a:pt x="302260" y="1140312"/>
                  </a:lnTo>
                  <a:lnTo>
                    <a:pt x="287337" y="1127938"/>
                  </a:lnTo>
                  <a:lnTo>
                    <a:pt x="272732" y="1115247"/>
                  </a:lnTo>
                  <a:lnTo>
                    <a:pt x="258445" y="1101921"/>
                  </a:lnTo>
                  <a:lnTo>
                    <a:pt x="244475" y="1088913"/>
                  </a:lnTo>
                  <a:lnTo>
                    <a:pt x="230505" y="1075269"/>
                  </a:lnTo>
                  <a:lnTo>
                    <a:pt x="216852" y="1061309"/>
                  </a:lnTo>
                  <a:lnTo>
                    <a:pt x="203517" y="1047666"/>
                  </a:lnTo>
                  <a:lnTo>
                    <a:pt x="190182" y="1033388"/>
                  </a:lnTo>
                  <a:lnTo>
                    <a:pt x="177800" y="1018793"/>
                  </a:lnTo>
                  <a:lnTo>
                    <a:pt x="164782" y="1004198"/>
                  </a:lnTo>
                  <a:lnTo>
                    <a:pt x="152717" y="989286"/>
                  </a:lnTo>
                  <a:lnTo>
                    <a:pt x="140970" y="973739"/>
                  </a:lnTo>
                  <a:lnTo>
                    <a:pt x="129222" y="958510"/>
                  </a:lnTo>
                  <a:lnTo>
                    <a:pt x="117792" y="943280"/>
                  </a:lnTo>
                  <a:lnTo>
                    <a:pt x="106997" y="927099"/>
                  </a:lnTo>
                  <a:lnTo>
                    <a:pt x="96202" y="911552"/>
                  </a:lnTo>
                  <a:lnTo>
                    <a:pt x="85725" y="895053"/>
                  </a:lnTo>
                  <a:lnTo>
                    <a:pt x="75882" y="879189"/>
                  </a:lnTo>
                  <a:lnTo>
                    <a:pt x="66040" y="862373"/>
                  </a:lnTo>
                  <a:lnTo>
                    <a:pt x="56515" y="845874"/>
                  </a:lnTo>
                  <a:lnTo>
                    <a:pt x="47307" y="829058"/>
                  </a:lnTo>
                  <a:lnTo>
                    <a:pt x="38735" y="811925"/>
                  </a:lnTo>
                  <a:lnTo>
                    <a:pt x="30162" y="794792"/>
                  </a:lnTo>
                  <a:lnTo>
                    <a:pt x="22225" y="777341"/>
                  </a:lnTo>
                  <a:lnTo>
                    <a:pt x="14287" y="759891"/>
                  </a:lnTo>
                  <a:lnTo>
                    <a:pt x="6667" y="742123"/>
                  </a:lnTo>
                  <a:lnTo>
                    <a:pt x="0" y="724355"/>
                  </a:lnTo>
                  <a:lnTo>
                    <a:pt x="6667" y="704684"/>
                  </a:lnTo>
                  <a:lnTo>
                    <a:pt x="14287" y="685647"/>
                  </a:lnTo>
                  <a:lnTo>
                    <a:pt x="22225" y="666610"/>
                  </a:lnTo>
                  <a:lnTo>
                    <a:pt x="30162" y="647573"/>
                  </a:lnTo>
                  <a:lnTo>
                    <a:pt x="38735" y="628536"/>
                  </a:lnTo>
                  <a:lnTo>
                    <a:pt x="47307" y="610134"/>
                  </a:lnTo>
                  <a:lnTo>
                    <a:pt x="56515" y="592049"/>
                  </a:lnTo>
                  <a:lnTo>
                    <a:pt x="66040" y="573329"/>
                  </a:lnTo>
                  <a:lnTo>
                    <a:pt x="75882" y="555561"/>
                  </a:lnTo>
                  <a:lnTo>
                    <a:pt x="85725" y="537793"/>
                  </a:lnTo>
                  <a:lnTo>
                    <a:pt x="96202" y="520026"/>
                  </a:lnTo>
                  <a:lnTo>
                    <a:pt x="106997" y="502575"/>
                  </a:lnTo>
                  <a:lnTo>
                    <a:pt x="117792" y="485442"/>
                  </a:lnTo>
                  <a:lnTo>
                    <a:pt x="129222" y="468309"/>
                  </a:lnTo>
                  <a:lnTo>
                    <a:pt x="140970" y="451810"/>
                  </a:lnTo>
                  <a:lnTo>
                    <a:pt x="152717" y="435311"/>
                  </a:lnTo>
                  <a:lnTo>
                    <a:pt x="164782" y="419130"/>
                  </a:lnTo>
                  <a:lnTo>
                    <a:pt x="177800" y="402948"/>
                  </a:lnTo>
                  <a:lnTo>
                    <a:pt x="190182" y="387402"/>
                  </a:lnTo>
                  <a:lnTo>
                    <a:pt x="203517" y="371537"/>
                  </a:lnTo>
                  <a:lnTo>
                    <a:pt x="216852" y="356308"/>
                  </a:lnTo>
                  <a:lnTo>
                    <a:pt x="230505" y="341396"/>
                  </a:lnTo>
                  <a:lnTo>
                    <a:pt x="244475" y="326483"/>
                  </a:lnTo>
                  <a:lnTo>
                    <a:pt x="258445" y="311888"/>
                  </a:lnTo>
                  <a:lnTo>
                    <a:pt x="272732" y="297611"/>
                  </a:lnTo>
                  <a:lnTo>
                    <a:pt x="287337" y="283650"/>
                  </a:lnTo>
                  <a:lnTo>
                    <a:pt x="302260" y="270324"/>
                  </a:lnTo>
                  <a:lnTo>
                    <a:pt x="317817" y="256681"/>
                  </a:lnTo>
                  <a:lnTo>
                    <a:pt x="333057" y="243355"/>
                  </a:lnTo>
                  <a:lnTo>
                    <a:pt x="348615" y="230664"/>
                  </a:lnTo>
                  <a:lnTo>
                    <a:pt x="364807" y="218290"/>
                  </a:lnTo>
                  <a:lnTo>
                    <a:pt x="381000" y="205916"/>
                  </a:lnTo>
                  <a:lnTo>
                    <a:pt x="397510" y="194177"/>
                  </a:lnTo>
                  <a:lnTo>
                    <a:pt x="414020" y="182437"/>
                  </a:lnTo>
                  <a:lnTo>
                    <a:pt x="430847" y="171015"/>
                  </a:lnTo>
                  <a:lnTo>
                    <a:pt x="447992" y="160228"/>
                  </a:lnTo>
                  <a:lnTo>
                    <a:pt x="465137" y="149440"/>
                  </a:lnTo>
                  <a:lnTo>
                    <a:pt x="482917" y="138970"/>
                  </a:lnTo>
                  <a:lnTo>
                    <a:pt x="500380" y="128817"/>
                  </a:lnTo>
                  <a:lnTo>
                    <a:pt x="518477" y="119298"/>
                  </a:lnTo>
                  <a:lnTo>
                    <a:pt x="536892" y="110097"/>
                  </a:lnTo>
                  <a:lnTo>
                    <a:pt x="554990" y="101213"/>
                  </a:lnTo>
                  <a:lnTo>
                    <a:pt x="573722" y="92329"/>
                  </a:lnTo>
                  <a:lnTo>
                    <a:pt x="592455" y="84080"/>
                  </a:lnTo>
                  <a:lnTo>
                    <a:pt x="611187" y="76148"/>
                  </a:lnTo>
                  <a:lnTo>
                    <a:pt x="630555" y="68850"/>
                  </a:lnTo>
                  <a:lnTo>
                    <a:pt x="649605" y="61553"/>
                  </a:lnTo>
                  <a:lnTo>
                    <a:pt x="669290" y="54573"/>
                  </a:lnTo>
                  <a:lnTo>
                    <a:pt x="689293" y="48227"/>
                  </a:lnTo>
                  <a:lnTo>
                    <a:pt x="708660" y="42199"/>
                  </a:lnTo>
                  <a:lnTo>
                    <a:pt x="728980" y="36487"/>
                  </a:lnTo>
                  <a:lnTo>
                    <a:pt x="748983" y="31411"/>
                  </a:lnTo>
                  <a:lnTo>
                    <a:pt x="769303" y="26334"/>
                  </a:lnTo>
                  <a:lnTo>
                    <a:pt x="789940" y="21892"/>
                  </a:lnTo>
                  <a:lnTo>
                    <a:pt x="810578" y="17768"/>
                  </a:lnTo>
                  <a:lnTo>
                    <a:pt x="831533" y="14278"/>
                  </a:lnTo>
                  <a:lnTo>
                    <a:pt x="852805" y="11105"/>
                  </a:lnTo>
                  <a:lnTo>
                    <a:pt x="873760" y="8249"/>
                  </a:lnTo>
                  <a:lnTo>
                    <a:pt x="895033" y="5711"/>
                  </a:lnTo>
                  <a:lnTo>
                    <a:pt x="916305" y="3490"/>
                  </a:lnTo>
                  <a:lnTo>
                    <a:pt x="937895" y="2221"/>
                  </a:lnTo>
                  <a:lnTo>
                    <a:pt x="959485" y="1269"/>
                  </a:lnTo>
                  <a:lnTo>
                    <a:pt x="981393" y="317"/>
                  </a:lnTo>
                  <a:lnTo>
                    <a:pt x="1003300"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椭圆 4"/>
            <p:cNvSpPr/>
            <p:nvPr/>
          </p:nvSpPr>
          <p:spPr>
            <a:xfrm>
              <a:off x="4886280" y="1432080"/>
              <a:ext cx="2419560" cy="2417760"/>
            </a:xfrm>
            <a:prstGeom prst="ellipse">
              <a:avLst/>
            </a:prstGeom>
            <a:noFill/>
            <a:ln w="1260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2" name="矩形 5"/>
          <p:cNvSpPr/>
          <p:nvPr/>
        </p:nvSpPr>
        <p:spPr>
          <a:xfrm>
            <a:off x="5796000" y="-42840"/>
            <a:ext cx="600120" cy="60012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椭圆 6"/>
          <p:cNvSpPr/>
          <p:nvPr/>
        </p:nvSpPr>
        <p:spPr>
          <a:xfrm>
            <a:off x="7459560" y="2502000"/>
            <a:ext cx="228600" cy="22860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椭圆 7"/>
          <p:cNvSpPr/>
          <p:nvPr/>
        </p:nvSpPr>
        <p:spPr>
          <a:xfrm>
            <a:off x="7459560" y="4915080"/>
            <a:ext cx="228600" cy="228600"/>
          </a:xfrm>
          <a:prstGeom prst="ellipse">
            <a:avLst/>
          </a:pr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椭圆 17"/>
          <p:cNvSpPr/>
          <p:nvPr/>
        </p:nvSpPr>
        <p:spPr>
          <a:xfrm>
            <a:off x="7459560" y="4110120"/>
            <a:ext cx="228600" cy="22860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椭圆 18"/>
          <p:cNvSpPr/>
          <p:nvPr/>
        </p:nvSpPr>
        <p:spPr>
          <a:xfrm>
            <a:off x="7459560" y="1697040"/>
            <a:ext cx="228600" cy="228600"/>
          </a:xfrm>
          <a:prstGeom prst="ellipse">
            <a:avLst/>
          </a:pr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椭圆 31"/>
          <p:cNvSpPr/>
          <p:nvPr/>
        </p:nvSpPr>
        <p:spPr>
          <a:xfrm>
            <a:off x="7459560" y="3305160"/>
            <a:ext cx="228600" cy="228600"/>
          </a:xfrm>
          <a:prstGeom prst="ellipse">
            <a:avLst/>
          </a:pr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矩形 13"/>
          <p:cNvSpPr/>
          <p:nvPr/>
        </p:nvSpPr>
        <p:spPr>
          <a:xfrm>
            <a:off x="7851600" y="151272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4" name="矩形 13"/>
          <p:cNvSpPr/>
          <p:nvPr/>
        </p:nvSpPr>
        <p:spPr>
          <a:xfrm>
            <a:off x="7851600" y="231624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5" name="矩形 13"/>
          <p:cNvSpPr/>
          <p:nvPr/>
        </p:nvSpPr>
        <p:spPr>
          <a:xfrm>
            <a:off x="7851600" y="31212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6" name="矩形 13"/>
          <p:cNvSpPr/>
          <p:nvPr/>
        </p:nvSpPr>
        <p:spPr>
          <a:xfrm>
            <a:off x="7851600" y="392580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7" name="矩形 13"/>
          <p:cNvSpPr/>
          <p:nvPr/>
        </p:nvSpPr>
        <p:spPr>
          <a:xfrm>
            <a:off x="7851600" y="4730760"/>
            <a:ext cx="2592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Calibri"/>
            </a:endParaRPr>
          </a:p>
        </p:txBody>
      </p:sp>
      <p:sp>
        <p:nvSpPr>
          <p:cNvPr id="648" name="五边形 1"/>
          <p:cNvSpPr/>
          <p:nvPr/>
        </p:nvSpPr>
        <p:spPr>
          <a:xfrm>
            <a:off x="385920" y="180504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五边形 29"/>
          <p:cNvSpPr/>
          <p:nvPr/>
        </p:nvSpPr>
        <p:spPr>
          <a:xfrm>
            <a:off x="385920" y="244332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五边形 37"/>
          <p:cNvSpPr/>
          <p:nvPr/>
        </p:nvSpPr>
        <p:spPr>
          <a:xfrm>
            <a:off x="385920" y="307980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五边形 38"/>
          <p:cNvSpPr/>
          <p:nvPr/>
        </p:nvSpPr>
        <p:spPr>
          <a:xfrm>
            <a:off x="385920" y="3716280"/>
            <a:ext cx="5597280" cy="646200"/>
          </a:xfrm>
          <a:custGeom>
            <a:avLst/>
            <a:gdLst>
              <a:gd name="textAreaLeft" fmla="*/ 0 w 5597280"/>
              <a:gd name="textAreaRight" fmla="*/ 5597280 w 5597280"/>
              <a:gd name="textAreaTop" fmla="*/ 0 h 646200"/>
              <a:gd name="textAreaBottom" fmla="*/ 646560 h 646200"/>
            </a:gdLst>
            <a:ahLst/>
            <a:rect l="textAreaLeft" t="textAreaTop" r="textAreaRight" b="textAreaBottom"/>
            <a:pathLst>
              <a:path w="21600" h="21600">
                <a:moveTo>
                  <a:pt x="0" y="0"/>
                </a:moveTo>
                <a:lnTo>
                  <a:pt x="20354" y="0"/>
                </a:lnTo>
                <a:lnTo>
                  <a:pt x="21600" y="10800"/>
                </a:lnTo>
                <a:lnTo>
                  <a:pt x="20354" y="21600"/>
                </a:lnTo>
                <a:lnTo>
                  <a:pt x="0" y="2160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2" name="五边形 39"/>
          <p:cNvSpPr/>
          <p:nvPr/>
        </p:nvSpPr>
        <p:spPr>
          <a:xfrm>
            <a:off x="385920" y="4354560"/>
            <a:ext cx="5597280" cy="644400"/>
          </a:xfrm>
          <a:custGeom>
            <a:avLst/>
            <a:gdLst>
              <a:gd name="textAreaLeft" fmla="*/ 0 w 5597280"/>
              <a:gd name="textAreaRight" fmla="*/ 5597280 w 5597280"/>
              <a:gd name="textAreaTop" fmla="*/ 0 h 644400"/>
              <a:gd name="textAreaBottom" fmla="*/ 644760 h 644400"/>
            </a:gdLst>
            <a:ahLst/>
            <a:rect l="textAreaLeft" t="textAreaTop" r="textAreaRight" b="textAreaBottom"/>
            <a:pathLst>
              <a:path w="21600" h="21600">
                <a:moveTo>
                  <a:pt x="0" y="0"/>
                </a:moveTo>
                <a:lnTo>
                  <a:pt x="20357" y="0"/>
                </a:lnTo>
                <a:lnTo>
                  <a:pt x="21600" y="10800"/>
                </a:lnTo>
                <a:lnTo>
                  <a:pt x="20357" y="21600"/>
                </a:lnTo>
                <a:lnTo>
                  <a:pt x="0" y="21600"/>
                </a:ln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53" name="图片 2" descr=""/>
          <p:cNvPicPr/>
          <p:nvPr/>
        </p:nvPicPr>
        <p:blipFill>
          <a:blip r:embed="rId1"/>
          <a:stretch/>
        </p:blipFill>
        <p:spPr>
          <a:xfrm>
            <a:off x="1611360" y="928800"/>
            <a:ext cx="2566800" cy="5000400"/>
          </a:xfrm>
          <a:prstGeom prst="rect">
            <a:avLst/>
          </a:prstGeom>
          <a:ln w="0">
            <a:noFill/>
          </a:ln>
        </p:spPr>
      </p:pic>
      <p:sp>
        <p:nvSpPr>
          <p:cNvPr id="654" name="文本框 24"/>
          <p:cNvSpPr/>
          <p:nvPr/>
        </p:nvSpPr>
        <p:spPr>
          <a:xfrm>
            <a:off x="2155680" y="442908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5" name="文本框 25"/>
          <p:cNvSpPr/>
          <p:nvPr/>
        </p:nvSpPr>
        <p:spPr>
          <a:xfrm>
            <a:off x="2155680" y="379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6" name="文本框 26"/>
          <p:cNvSpPr/>
          <p:nvPr/>
        </p:nvSpPr>
        <p:spPr>
          <a:xfrm>
            <a:off x="2155680" y="316872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09da7"/>
                </a:solidFill>
                <a:latin typeface="微软雅黑"/>
                <a:ea typeface="微软雅黑"/>
              </a:rPr>
              <a:t>添加文字</a:t>
            </a:r>
            <a:endParaRPr b="0" lang="en-US" sz="1800" spc="-1" strike="noStrike">
              <a:solidFill>
                <a:srgbClr val="000000"/>
              </a:solidFill>
              <a:latin typeface="Calibri"/>
            </a:endParaRPr>
          </a:p>
        </p:txBody>
      </p:sp>
      <p:sp>
        <p:nvSpPr>
          <p:cNvPr id="657" name="文本框 27"/>
          <p:cNvSpPr/>
          <p:nvPr/>
        </p:nvSpPr>
        <p:spPr>
          <a:xfrm>
            <a:off x="2155680" y="253836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
        <p:nvSpPr>
          <p:cNvPr id="658" name="文本框 30"/>
          <p:cNvSpPr/>
          <p:nvPr/>
        </p:nvSpPr>
        <p:spPr>
          <a:xfrm>
            <a:off x="2155680" y="5059440"/>
            <a:ext cx="14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字</a:t>
            </a:r>
            <a:endParaRPr b="0" lang="en-US" sz="1800" spc="-1" strike="noStrike">
              <a:solidFill>
                <a:srgbClr val="000000"/>
              </a:solidFill>
              <a:latin typeface="Calibri"/>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图片 1" descr=""/>
          <p:cNvPicPr/>
          <p:nvPr/>
        </p:nvPicPr>
        <p:blipFill>
          <a:blip r:embed="rId1"/>
          <a:srcRect l="17019" t="8823" r="5692" b="26001"/>
          <a:stretch/>
        </p:blipFill>
        <p:spPr>
          <a:xfrm>
            <a:off x="173160" y="2176560"/>
            <a:ext cx="2922480" cy="1690560"/>
          </a:xfrm>
          <a:prstGeom prst="rect">
            <a:avLst/>
          </a:prstGeom>
          <a:ln w="0">
            <a:noFill/>
          </a:ln>
        </p:spPr>
      </p:pic>
      <p:pic>
        <p:nvPicPr>
          <p:cNvPr id="660" name="图片 2" descr=""/>
          <p:cNvPicPr/>
          <p:nvPr/>
        </p:nvPicPr>
        <p:blipFill>
          <a:blip r:embed="rId2"/>
          <a:srcRect l="16122" t="18319" r="13891" b="28480"/>
          <a:stretch/>
        </p:blipFill>
        <p:spPr>
          <a:xfrm>
            <a:off x="3147840" y="4087800"/>
            <a:ext cx="2922840" cy="1692360"/>
          </a:xfrm>
          <a:prstGeom prst="rect">
            <a:avLst/>
          </a:prstGeom>
          <a:ln w="0">
            <a:noFill/>
          </a:ln>
        </p:spPr>
      </p:pic>
      <p:pic>
        <p:nvPicPr>
          <p:cNvPr id="661" name="图片 3" descr=""/>
          <p:cNvPicPr/>
          <p:nvPr/>
        </p:nvPicPr>
        <p:blipFill>
          <a:blip r:embed="rId3"/>
          <a:srcRect l="20971" t="25637" r="7697" b="16213"/>
          <a:stretch/>
        </p:blipFill>
        <p:spPr>
          <a:xfrm>
            <a:off x="6121440" y="2176560"/>
            <a:ext cx="2922480" cy="1690560"/>
          </a:xfrm>
          <a:prstGeom prst="rect">
            <a:avLst/>
          </a:prstGeom>
          <a:ln w="0">
            <a:noFill/>
          </a:ln>
        </p:spPr>
      </p:pic>
      <p:pic>
        <p:nvPicPr>
          <p:cNvPr id="662" name="图片 4" descr=""/>
          <p:cNvPicPr/>
          <p:nvPr/>
        </p:nvPicPr>
        <p:blipFill>
          <a:blip r:embed="rId4"/>
          <a:srcRect l="15724" t="170" r="1621" b="30150"/>
          <a:stretch/>
        </p:blipFill>
        <p:spPr>
          <a:xfrm>
            <a:off x="9096480" y="4087800"/>
            <a:ext cx="2922480" cy="1692360"/>
          </a:xfrm>
          <a:prstGeom prst="rect">
            <a:avLst/>
          </a:prstGeom>
          <a:ln w="0">
            <a:noFill/>
          </a:ln>
        </p:spPr>
      </p:pic>
      <p:sp>
        <p:nvSpPr>
          <p:cNvPr id="663" name="矩形 5"/>
          <p:cNvSpPr/>
          <p:nvPr/>
        </p:nvSpPr>
        <p:spPr>
          <a:xfrm>
            <a:off x="173160" y="4087800"/>
            <a:ext cx="2922480" cy="1692360"/>
          </a:xfrm>
          <a:prstGeom prst="rect">
            <a:avLst/>
          </a:prstGeom>
          <a:solidFill>
            <a:srgbClr val="faaf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4" name="矩形 6"/>
          <p:cNvSpPr/>
          <p:nvPr/>
        </p:nvSpPr>
        <p:spPr>
          <a:xfrm>
            <a:off x="3147840" y="2176560"/>
            <a:ext cx="2922840" cy="1690560"/>
          </a:xfrm>
          <a:prstGeom prst="rect">
            <a:avLst/>
          </a:prstGeom>
          <a:solidFill>
            <a:srgbClr val="ae73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5" name="矩形 7"/>
          <p:cNvSpPr/>
          <p:nvPr/>
        </p:nvSpPr>
        <p:spPr>
          <a:xfrm>
            <a:off x="6121440" y="4087800"/>
            <a:ext cx="2922480" cy="1692360"/>
          </a:xfrm>
          <a:prstGeom prst="rect">
            <a:avLst/>
          </a:prstGeom>
          <a:solidFill>
            <a:srgbClr val="62c4b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6" name="矩形 8"/>
          <p:cNvSpPr/>
          <p:nvPr/>
        </p:nvSpPr>
        <p:spPr>
          <a:xfrm>
            <a:off x="9096480" y="2176560"/>
            <a:ext cx="2922480" cy="1690560"/>
          </a:xfrm>
          <a:prstGeom prst="rect">
            <a:avLst/>
          </a:prstGeom>
          <a:solidFill>
            <a:srgbClr val="8bc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KEYWOR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a:t>
            </a:r>
            <a:endParaRPr b="0" lang="en-US" sz="1400" spc="-1" strike="noStrike">
              <a:solidFill>
                <a:srgbClr val="000000"/>
              </a:solidFill>
              <a:latin typeface="Calibri"/>
            </a:endParaRPr>
          </a:p>
        </p:txBody>
      </p:sp>
      <p:sp>
        <p:nvSpPr>
          <p:cNvPr id="667" name="直接连接符 9"/>
          <p:cNvSpPr/>
          <p:nvPr/>
        </p:nvSpPr>
        <p:spPr>
          <a:xfrm>
            <a:off x="17316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直接连接符 10"/>
          <p:cNvSpPr/>
          <p:nvPr/>
        </p:nvSpPr>
        <p:spPr>
          <a:xfrm>
            <a:off x="7724880" y="1608120"/>
            <a:ext cx="4294080" cy="0"/>
          </a:xfrm>
          <a:prstGeom prst="line">
            <a:avLst/>
          </a:prstGeom>
          <a:ln w="190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文本框 11"/>
          <p:cNvSpPr/>
          <p:nvPr/>
        </p:nvSpPr>
        <p:spPr>
          <a:xfrm>
            <a:off x="5117040" y="1077840"/>
            <a:ext cx="195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微软雅黑"/>
                <a:ea typeface="微软雅黑"/>
              </a:rPr>
              <a:t>KEYWORD</a:t>
            </a:r>
            <a:endParaRPr b="0" lang="en-US" sz="2800" spc="-1" strike="noStrike">
              <a:solidFill>
                <a:srgbClr val="000000"/>
              </a:solidFill>
              <a:latin typeface="Calibri"/>
            </a:endParaRPr>
          </a:p>
        </p:txBody>
      </p:sp>
      <p:sp>
        <p:nvSpPr>
          <p:cNvPr id="670" name="TextBox 15"/>
          <p:cNvSpPr/>
          <p:nvPr/>
        </p:nvSpPr>
        <p:spPr>
          <a:xfrm>
            <a:off x="5122800" y="1509840"/>
            <a:ext cx="194616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a:t>
            </a:r>
            <a:endParaRPr b="0" lang="en-US" sz="1200" spc="-1" strike="noStrike">
              <a:solidFill>
                <a:srgbClr val="000000"/>
              </a:solidFill>
              <a:latin typeface="Calibri"/>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任意多边形 4"/>
          <p:cNvSpPr/>
          <p:nvPr/>
        </p:nvSpPr>
        <p:spPr>
          <a:xfrm>
            <a:off x="1082520" y="4324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2" name="任意多边形 5"/>
          <p:cNvSpPr/>
          <p:nvPr/>
        </p:nvSpPr>
        <p:spPr>
          <a:xfrm>
            <a:off x="1082520" y="2759040"/>
            <a:ext cx="10026720" cy="133992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3" name="任意多边形 6"/>
          <p:cNvSpPr/>
          <p:nvPr/>
        </p:nvSpPr>
        <p:spPr>
          <a:xfrm>
            <a:off x="1082520" y="1192320"/>
            <a:ext cx="10026720" cy="1341360"/>
          </a:xfrm>
          <a:custGeom>
            <a:avLst/>
            <a:gdLst/>
            <a:ahLst/>
            <a:rect l="l" t="t" r="r" b="b"/>
            <a:pathLst>
              <a:path w="11343473" h="1517550">
                <a:moveTo>
                  <a:pt x="0" y="151755"/>
                </a:moveTo>
                <a:cubicBezTo>
                  <a:pt x="0" y="67943"/>
                  <a:pt x="67943" y="0"/>
                  <a:pt x="151755" y="0"/>
                </a:cubicBezTo>
                <a:lnTo>
                  <a:pt x="11191718" y="0"/>
                </a:lnTo>
                <a:cubicBezTo>
                  <a:pt x="11275530" y="0"/>
                  <a:pt x="11343473" y="67943"/>
                  <a:pt x="11343473" y="151755"/>
                </a:cubicBezTo>
                <a:lnTo>
                  <a:pt x="11343473" y="1365795"/>
                </a:lnTo>
                <a:cubicBezTo>
                  <a:pt x="11343473" y="1449607"/>
                  <a:pt x="11275530" y="1517550"/>
                  <a:pt x="11191718" y="1517550"/>
                </a:cubicBezTo>
                <a:lnTo>
                  <a:pt x="151755" y="1517550"/>
                </a:lnTo>
                <a:cubicBezTo>
                  <a:pt x="67943" y="1517550"/>
                  <a:pt x="0" y="1449607"/>
                  <a:pt x="0" y="1365795"/>
                </a:cubicBezTo>
                <a:lnTo>
                  <a:pt x="0" y="151755"/>
                </a:lnTo>
                <a:close/>
              </a:path>
            </a:pathLst>
          </a:custGeom>
          <a:solidFill>
            <a:srgbClr val="d9d9d9"/>
          </a:solidFill>
          <a:ln w="0">
            <a:noFill/>
          </a:ln>
        </p:spPr>
        <p:style>
          <a:lnRef idx="0"/>
          <a:fillRef idx="0"/>
          <a:effectRef idx="0"/>
          <a:fontRef idx="minor"/>
        </p:style>
        <p:txBody>
          <a:bodyPr lIns="369720" rIns="8310240" tIns="369720" bIns="369720" anchor="ctr">
            <a:noAutofit/>
          </a:bodyPr>
          <a:p>
            <a:pPr algn="ctr">
              <a:lnSpc>
                <a:spcPct val="90000"/>
              </a:lnSpc>
              <a:spcAft>
                <a:spcPts val="2276"/>
              </a:spcAft>
              <a:tabLst>
                <a:tab algn="l" pos="0"/>
                <a:tab algn="l" pos="2311560"/>
                <a:tab algn="l" pos="4622760"/>
                <a:tab algn="l" pos="6934320"/>
                <a:tab algn="l" pos="9245520"/>
              </a:tabLst>
            </a:pPr>
            <a:endParaRPr b="0" lang="en-US" sz="1800" spc="-1" strike="noStrike">
              <a:solidFill>
                <a:srgbClr val="000000"/>
              </a:solidFill>
              <a:latin typeface="Calibri"/>
            </a:endParaRPr>
          </a:p>
        </p:txBody>
      </p:sp>
      <p:sp>
        <p:nvSpPr>
          <p:cNvPr id="674" name="任意多边形 7"/>
          <p:cNvSpPr/>
          <p:nvPr/>
        </p:nvSpPr>
        <p:spPr>
          <a:xfrm>
            <a:off x="7346880" y="1305000"/>
            <a:ext cx="1685880" cy="112392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62c4bc"/>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5" name="任意多边形 8"/>
          <p:cNvSpPr/>
          <p:nvPr/>
        </p:nvSpPr>
        <p:spPr>
          <a:xfrm>
            <a:off x="6545160" y="2428920"/>
            <a:ext cx="1644840" cy="449280"/>
          </a:xfrm>
          <a:custGeom>
            <a:avLst/>
            <a:gdLst/>
            <a:ahLst/>
            <a:rect l="l" t="t" r="r" b="b"/>
            <a:pathLst>
              <a:path w="1644650" h="449262">
                <a:moveTo>
                  <a:pt x="1860415" y="0"/>
                </a:moveTo>
                <a:lnTo>
                  <a:pt x="1860415"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6" name="任意多边形 9"/>
          <p:cNvSpPr/>
          <p:nvPr/>
        </p:nvSpPr>
        <p:spPr>
          <a:xfrm>
            <a:off x="570240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8bc53f"/>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77" name="任意多边形 10"/>
          <p:cNvSpPr/>
          <p:nvPr/>
        </p:nvSpPr>
        <p:spPr>
          <a:xfrm>
            <a:off x="5334120" y="4003560"/>
            <a:ext cx="1095120" cy="449280"/>
          </a:xfrm>
          <a:custGeom>
            <a:avLst/>
            <a:gdLst/>
            <a:ahLst/>
            <a:rect l="l" t="t" r="r" b="b"/>
            <a:pathLst>
              <a:path w="1095375" h="449262">
                <a:moveTo>
                  <a:pt x="1240276" y="0"/>
                </a:moveTo>
                <a:lnTo>
                  <a:pt x="1240276" y="254415"/>
                </a:lnTo>
                <a:lnTo>
                  <a:pt x="0" y="254415"/>
                </a:lnTo>
                <a:lnTo>
                  <a:pt x="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任意多边形 11"/>
          <p:cNvSpPr/>
          <p:nvPr/>
        </p:nvSpPr>
        <p:spPr>
          <a:xfrm>
            <a:off x="4605480" y="4452840"/>
            <a:ext cx="1687320" cy="1123920"/>
          </a:xfrm>
          <a:prstGeom prst="pie">
            <a:avLst/>
          </a:prstGeom>
          <a:solidFill>
            <a:srgbClr val="ae73c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79" name="任意多边形 12"/>
          <p:cNvSpPr/>
          <p:nvPr/>
        </p:nvSpPr>
        <p:spPr>
          <a:xfrm>
            <a:off x="6576840" y="4011480"/>
            <a:ext cx="1003320" cy="449280"/>
          </a:xfrm>
          <a:custGeom>
            <a:avLst/>
            <a:gdLst/>
            <a:ahLst/>
            <a:rect l="l" t="t" r="r" b="b"/>
            <a:pathLst>
              <a:path w="1003300" h="449262">
                <a:moveTo>
                  <a:pt x="0" y="0"/>
                </a:moveTo>
                <a:lnTo>
                  <a:pt x="0" y="254415"/>
                </a:lnTo>
                <a:lnTo>
                  <a:pt x="1240276" y="254415"/>
                </a:lnTo>
                <a:lnTo>
                  <a:pt x="1240276"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0" name="任意多边形 13"/>
          <p:cNvSpPr/>
          <p:nvPr/>
        </p:nvSpPr>
        <p:spPr>
          <a:xfrm>
            <a:off x="6799320" y="4452840"/>
            <a:ext cx="1685880" cy="1123920"/>
          </a:xfrm>
          <a:prstGeom prst="pie">
            <a:avLst/>
          </a:prstGeom>
          <a:solidFill>
            <a:srgbClr val="f05a24"/>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1" name="任意多边形 14"/>
          <p:cNvSpPr/>
          <p:nvPr/>
        </p:nvSpPr>
        <p:spPr>
          <a:xfrm>
            <a:off x="8190000" y="2428920"/>
            <a:ext cx="1644480" cy="449280"/>
          </a:xfrm>
          <a:custGeom>
            <a:avLst/>
            <a:gdLst/>
            <a:ahLst/>
            <a:rect l="l" t="t" r="r" b="b"/>
            <a:pathLst>
              <a:path w="1644650" h="449262">
                <a:moveTo>
                  <a:pt x="0" y="0"/>
                </a:moveTo>
                <a:lnTo>
                  <a:pt x="0" y="254415"/>
                </a:lnTo>
                <a:lnTo>
                  <a:pt x="1860415" y="254415"/>
                </a:lnTo>
                <a:lnTo>
                  <a:pt x="1860415"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2" name="任意多边形 15"/>
          <p:cNvSpPr/>
          <p:nvPr/>
        </p:nvSpPr>
        <p:spPr>
          <a:xfrm>
            <a:off x="8991720" y="2878200"/>
            <a:ext cx="1685880" cy="1125360"/>
          </a:xfrm>
          <a:custGeom>
            <a:avLst/>
            <a:gdLst/>
            <a:ahLst/>
            <a:rect l="l" t="t" r="r" b="b"/>
            <a:pathLst>
              <a:path w="1908118" h="1272078">
                <a:moveTo>
                  <a:pt x="0" y="127208"/>
                </a:moveTo>
                <a:cubicBezTo>
                  <a:pt x="0" y="56953"/>
                  <a:pt x="56953" y="0"/>
                  <a:pt x="127208" y="0"/>
                </a:cubicBezTo>
                <a:lnTo>
                  <a:pt x="1780910" y="0"/>
                </a:lnTo>
                <a:cubicBezTo>
                  <a:pt x="1851165" y="0"/>
                  <a:pt x="1908118" y="56953"/>
                  <a:pt x="1908118" y="127208"/>
                </a:cubicBezTo>
                <a:lnTo>
                  <a:pt x="1908118" y="1144870"/>
                </a:lnTo>
                <a:cubicBezTo>
                  <a:pt x="1908118" y="1215125"/>
                  <a:pt x="1851165" y="1272078"/>
                  <a:pt x="1780910" y="1272078"/>
                </a:cubicBezTo>
                <a:lnTo>
                  <a:pt x="127208" y="1272078"/>
                </a:lnTo>
                <a:cubicBezTo>
                  <a:pt x="56953" y="1272078"/>
                  <a:pt x="0" y="1215125"/>
                  <a:pt x="0" y="1144870"/>
                </a:cubicBezTo>
                <a:lnTo>
                  <a:pt x="0" y="127208"/>
                </a:lnTo>
                <a:close/>
              </a:path>
            </a:pathLst>
          </a:custGeom>
          <a:solidFill>
            <a:srgbClr val="faaf3b"/>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2137"/>
              </a:spcAft>
              <a:tabLst>
                <a:tab algn="l" pos="0"/>
                <a:tab algn="l" pos="2178000"/>
                <a:tab algn="l" pos="4356000"/>
                <a:tab algn="l" pos="6534000"/>
                <a:tab algn="l" pos="8712360"/>
                <a:tab algn="l" pos="10890360"/>
              </a:tabLst>
            </a:pPr>
            <a:endParaRPr b="0" lang="en-US" sz="1800" spc="-1" strike="noStrike">
              <a:solidFill>
                <a:srgbClr val="000000"/>
              </a:solidFill>
              <a:latin typeface="Calibri"/>
            </a:endParaRPr>
          </a:p>
        </p:txBody>
      </p:sp>
      <p:sp>
        <p:nvSpPr>
          <p:cNvPr id="683" name="任意多边形 16"/>
          <p:cNvSpPr/>
          <p:nvPr/>
        </p:nvSpPr>
        <p:spPr>
          <a:xfrm>
            <a:off x="9793440" y="4003560"/>
            <a:ext cx="80640" cy="449280"/>
          </a:xfrm>
          <a:custGeom>
            <a:avLst/>
            <a:gdLst/>
            <a:ahLst/>
            <a:rect l="l" t="t" r="r" b="b"/>
            <a:pathLst>
              <a:path w="80962" h="449262">
                <a:moveTo>
                  <a:pt x="45720" y="0"/>
                </a:moveTo>
                <a:lnTo>
                  <a:pt x="45720" y="508831"/>
                </a:lnTo>
              </a:path>
            </a:pathLst>
          </a:custGeom>
          <a:noFill/>
          <a:ln w="284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4" name="任意多边形 17"/>
          <p:cNvSpPr/>
          <p:nvPr/>
        </p:nvSpPr>
        <p:spPr>
          <a:xfrm>
            <a:off x="8991720" y="4452840"/>
            <a:ext cx="1685880" cy="1123920"/>
          </a:xfrm>
          <a:prstGeom prst="pie">
            <a:avLst/>
          </a:prstGeom>
          <a:solidFill>
            <a:srgbClr val="c0272d"/>
          </a:solidFill>
          <a:ln w="12600">
            <a:solidFill>
              <a:srgbClr val="ffffff"/>
            </a:solidFill>
            <a:miter/>
          </a:ln>
        </p:spPr>
        <p:style>
          <a:lnRef idx="0"/>
          <a:fillRef idx="0"/>
          <a:effectRef idx="0"/>
          <a:fontRef idx="minor"/>
        </p:style>
        <p:txBody>
          <a:bodyPr lIns="223920" rIns="223920" tIns="223920" bIns="223920" anchor="ctr">
            <a:noAutofit/>
          </a:bodyPr>
          <a:p>
            <a:pPr algn="ctr">
              <a:lnSpc>
                <a:spcPct val="90000"/>
              </a:lnSpc>
              <a:spcAft>
                <a:spcPts val="876"/>
              </a:spcAft>
              <a:tabLst>
                <a:tab algn="l" pos="0"/>
                <a:tab algn="l" pos="2178000"/>
                <a:tab algn="l" pos="4356000"/>
                <a:tab algn="l" pos="6534000"/>
                <a:tab algn="l" pos="8712360"/>
                <a:tab algn="l" pos="10890360"/>
              </a:tabLst>
            </a:pPr>
            <a:r>
              <a:rPr b="0" lang="en-US" sz="2000" spc="-1" strike="noStrike">
                <a:solidFill>
                  <a:srgbClr val="ffffff"/>
                </a:solidFill>
                <a:latin typeface="微软雅黑"/>
                <a:ea typeface="微软雅黑"/>
              </a:rPr>
              <a:t>Keyword</a:t>
            </a:r>
            <a:endParaRPr b="0" lang="en-US" sz="2000" spc="-1" strike="noStrike">
              <a:solidFill>
                <a:srgbClr val="000000"/>
              </a:solidFill>
              <a:latin typeface="Calibri"/>
            </a:endParaRPr>
          </a:p>
        </p:txBody>
      </p:sp>
      <p:sp>
        <p:nvSpPr>
          <p:cNvPr id="685" name="KSO_Shape"/>
          <p:cNvSpPr/>
          <p:nvPr/>
        </p:nvSpPr>
        <p:spPr>
          <a:xfrm>
            <a:off x="1347840" y="15717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0caac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KSO_Shape"/>
          <p:cNvSpPr/>
          <p:nvPr/>
        </p:nvSpPr>
        <p:spPr>
          <a:xfrm>
            <a:off x="1347840" y="3171960"/>
            <a:ext cx="487440" cy="4870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KSO_Shape"/>
          <p:cNvSpPr/>
          <p:nvPr/>
        </p:nvSpPr>
        <p:spPr>
          <a:xfrm>
            <a:off x="1347840" y="4770360"/>
            <a:ext cx="487440" cy="488880"/>
          </a:xfrm>
          <a:custGeom>
            <a:avLst/>
            <a:gdLst/>
            <a:ahLst/>
            <a:rect l="l" t="t" r="r" b="b"/>
            <a:pathLst>
              <a:path w="742418" h="742418">
                <a:moveTo>
                  <a:pt x="424729" y="206218"/>
                </a:moveTo>
                <a:cubicBezTo>
                  <a:pt x="434107" y="206218"/>
                  <a:pt x="443486" y="209796"/>
                  <a:pt x="450641" y="216951"/>
                </a:cubicBezTo>
                <a:lnTo>
                  <a:pt x="574959" y="341269"/>
                </a:lnTo>
                <a:cubicBezTo>
                  <a:pt x="576748" y="343058"/>
                  <a:pt x="578358" y="345008"/>
                  <a:pt x="579768" y="347074"/>
                </a:cubicBezTo>
                <a:lnTo>
                  <a:pt x="580353" y="348130"/>
                </a:lnTo>
                <a:lnTo>
                  <a:pt x="582691" y="352485"/>
                </a:lnTo>
                <a:cubicBezTo>
                  <a:pt x="585033" y="357814"/>
                  <a:pt x="586400" y="364238"/>
                  <a:pt x="586400" y="371153"/>
                </a:cubicBezTo>
                <a:cubicBezTo>
                  <a:pt x="586400" y="378068"/>
                  <a:pt x="585033" y="384492"/>
                  <a:pt x="582691" y="389821"/>
                </a:cubicBezTo>
                <a:lnTo>
                  <a:pt x="581273" y="393115"/>
                </a:lnTo>
                <a:lnTo>
                  <a:pt x="579386" y="395514"/>
                </a:lnTo>
                <a:cubicBezTo>
                  <a:pt x="577705" y="397433"/>
                  <a:pt x="575732" y="399361"/>
                  <a:pt x="573943" y="401149"/>
                </a:cubicBezTo>
                <a:lnTo>
                  <a:pt x="449625" y="525467"/>
                </a:lnTo>
                <a:cubicBezTo>
                  <a:pt x="435314" y="539778"/>
                  <a:pt x="412112" y="539778"/>
                  <a:pt x="397801" y="525467"/>
                </a:cubicBezTo>
                <a:cubicBezTo>
                  <a:pt x="383490" y="511156"/>
                  <a:pt x="383490" y="487954"/>
                  <a:pt x="397801" y="473643"/>
                </a:cubicBezTo>
                <a:lnTo>
                  <a:pt x="462843" y="408602"/>
                </a:lnTo>
                <a:lnTo>
                  <a:pt x="192664" y="408602"/>
                </a:lnTo>
                <a:cubicBezTo>
                  <a:pt x="172426" y="408602"/>
                  <a:pt x="156019" y="392195"/>
                  <a:pt x="156019" y="371957"/>
                </a:cubicBezTo>
                <a:cubicBezTo>
                  <a:pt x="156019" y="351718"/>
                  <a:pt x="172426" y="335311"/>
                  <a:pt x="192664" y="335311"/>
                </a:cubicBezTo>
                <a:lnTo>
                  <a:pt x="465353" y="335311"/>
                </a:lnTo>
                <a:lnTo>
                  <a:pt x="398817" y="268775"/>
                </a:lnTo>
                <a:cubicBezTo>
                  <a:pt x="384506" y="254464"/>
                  <a:pt x="384506" y="231262"/>
                  <a:pt x="398817" y="216951"/>
                </a:cubicBezTo>
                <a:cubicBezTo>
                  <a:pt x="405972" y="209796"/>
                  <a:pt x="415351" y="206218"/>
                  <a:pt x="424729" y="206218"/>
                </a:cubicBezTo>
                <a:close/>
                <a:moveTo>
                  <a:pt x="371209" y="67983"/>
                </a:moveTo>
                <a:cubicBezTo>
                  <a:pt x="203742" y="67983"/>
                  <a:pt x="67983" y="203742"/>
                  <a:pt x="67983" y="371209"/>
                </a:cubicBezTo>
                <a:cubicBezTo>
                  <a:pt x="67983" y="538676"/>
                  <a:pt x="203742" y="674435"/>
                  <a:pt x="371209" y="674435"/>
                </a:cubicBezTo>
                <a:cubicBezTo>
                  <a:pt x="538676" y="674435"/>
                  <a:pt x="674435" y="538676"/>
                  <a:pt x="674435" y="371209"/>
                </a:cubicBezTo>
                <a:cubicBezTo>
                  <a:pt x="674435" y="203742"/>
                  <a:pt x="538676" y="67983"/>
                  <a:pt x="371209" y="67983"/>
                </a:cubicBezTo>
                <a:close/>
                <a:moveTo>
                  <a:pt x="371209" y="0"/>
                </a:moveTo>
                <a:cubicBezTo>
                  <a:pt x="576222" y="0"/>
                  <a:pt x="742418" y="166196"/>
                  <a:pt x="742418" y="371209"/>
                </a:cubicBezTo>
                <a:cubicBezTo>
                  <a:pt x="742418" y="576222"/>
                  <a:pt x="576222" y="742418"/>
                  <a:pt x="371209" y="742418"/>
                </a:cubicBezTo>
                <a:cubicBezTo>
                  <a:pt x="166196" y="742418"/>
                  <a:pt x="0" y="576222"/>
                  <a:pt x="0" y="371209"/>
                </a:cubicBezTo>
                <a:cubicBezTo>
                  <a:pt x="0" y="166196"/>
                  <a:pt x="166196" y="0"/>
                  <a:pt x="371209" y="0"/>
                </a:cubicBezTo>
                <a:close/>
              </a:path>
            </a:pathLst>
          </a:custGeom>
          <a:solidFill>
            <a:srgbClr val="ae73c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KSO_Shape"/>
          <p:cNvSpPr/>
          <p:nvPr/>
        </p:nvSpPr>
        <p:spPr>
          <a:xfrm>
            <a:off x="6235560" y="3254400"/>
            <a:ext cx="559080" cy="476280"/>
          </a:xfrm>
          <a:custGeom>
            <a:avLst/>
            <a:gdLst/>
            <a:ahLst/>
            <a:rect l="l" t="t" r="r" b="b"/>
            <a:pathLst>
              <a:path w="4999037" h="4260141">
                <a:moveTo>
                  <a:pt x="1900345" y="3557911"/>
                </a:moveTo>
                <a:lnTo>
                  <a:pt x="3097730" y="3557911"/>
                </a:lnTo>
                <a:lnTo>
                  <a:pt x="3102535" y="3590573"/>
                </a:lnTo>
                <a:lnTo>
                  <a:pt x="3107340" y="3623235"/>
                </a:lnTo>
                <a:lnTo>
                  <a:pt x="3113106" y="3656858"/>
                </a:lnTo>
                <a:lnTo>
                  <a:pt x="3119833" y="3691441"/>
                </a:lnTo>
                <a:lnTo>
                  <a:pt x="3126560" y="3717378"/>
                </a:lnTo>
                <a:lnTo>
                  <a:pt x="3134248" y="3744276"/>
                </a:lnTo>
                <a:lnTo>
                  <a:pt x="3140975" y="3769253"/>
                </a:lnTo>
                <a:lnTo>
                  <a:pt x="3148663" y="3795190"/>
                </a:lnTo>
                <a:lnTo>
                  <a:pt x="3158272" y="3821127"/>
                </a:lnTo>
                <a:lnTo>
                  <a:pt x="3166921" y="3846104"/>
                </a:lnTo>
                <a:lnTo>
                  <a:pt x="3177492" y="3871081"/>
                </a:lnTo>
                <a:lnTo>
                  <a:pt x="3189024" y="3895097"/>
                </a:lnTo>
                <a:lnTo>
                  <a:pt x="3200556" y="3919113"/>
                </a:lnTo>
                <a:lnTo>
                  <a:pt x="3213048" y="3941208"/>
                </a:lnTo>
                <a:lnTo>
                  <a:pt x="3226502" y="3964263"/>
                </a:lnTo>
                <a:lnTo>
                  <a:pt x="3240917" y="3984437"/>
                </a:lnTo>
                <a:lnTo>
                  <a:pt x="3256293" y="4004610"/>
                </a:lnTo>
                <a:lnTo>
                  <a:pt x="3271668" y="4024784"/>
                </a:lnTo>
                <a:lnTo>
                  <a:pt x="3288966" y="4042075"/>
                </a:lnTo>
                <a:lnTo>
                  <a:pt x="3306264" y="4058406"/>
                </a:lnTo>
                <a:lnTo>
                  <a:pt x="3318757" y="4069934"/>
                </a:lnTo>
                <a:lnTo>
                  <a:pt x="3331249" y="4079540"/>
                </a:lnTo>
                <a:lnTo>
                  <a:pt x="3344703" y="4089147"/>
                </a:lnTo>
                <a:lnTo>
                  <a:pt x="3358157" y="4097793"/>
                </a:lnTo>
                <a:lnTo>
                  <a:pt x="3372572" y="4106438"/>
                </a:lnTo>
                <a:lnTo>
                  <a:pt x="3386026" y="4114123"/>
                </a:lnTo>
                <a:lnTo>
                  <a:pt x="3402362" y="4121809"/>
                </a:lnTo>
                <a:lnTo>
                  <a:pt x="3417738" y="4127573"/>
                </a:lnTo>
                <a:lnTo>
                  <a:pt x="3433114" y="4133336"/>
                </a:lnTo>
                <a:lnTo>
                  <a:pt x="3450411" y="4138140"/>
                </a:lnTo>
                <a:lnTo>
                  <a:pt x="3467709" y="4142943"/>
                </a:lnTo>
                <a:lnTo>
                  <a:pt x="3485007" y="4145825"/>
                </a:lnTo>
                <a:lnTo>
                  <a:pt x="3504227" y="4148707"/>
                </a:lnTo>
                <a:lnTo>
                  <a:pt x="3523446" y="4151589"/>
                </a:lnTo>
                <a:lnTo>
                  <a:pt x="3543627" y="4152549"/>
                </a:lnTo>
                <a:lnTo>
                  <a:pt x="3564769" y="4152549"/>
                </a:lnTo>
                <a:lnTo>
                  <a:pt x="3564769" y="4260141"/>
                </a:lnTo>
                <a:lnTo>
                  <a:pt x="1434268" y="4260141"/>
                </a:lnTo>
                <a:lnTo>
                  <a:pt x="1434268" y="4152549"/>
                </a:lnTo>
                <a:lnTo>
                  <a:pt x="1455409" y="4152549"/>
                </a:lnTo>
                <a:lnTo>
                  <a:pt x="1474629" y="4151589"/>
                </a:lnTo>
                <a:lnTo>
                  <a:pt x="1493849" y="4148707"/>
                </a:lnTo>
                <a:lnTo>
                  <a:pt x="1513068" y="4145825"/>
                </a:lnTo>
                <a:lnTo>
                  <a:pt x="1530366" y="4142943"/>
                </a:lnTo>
                <a:lnTo>
                  <a:pt x="1547664" y="4138140"/>
                </a:lnTo>
                <a:lnTo>
                  <a:pt x="1564962" y="4133336"/>
                </a:lnTo>
                <a:lnTo>
                  <a:pt x="1581298" y="4127573"/>
                </a:lnTo>
                <a:lnTo>
                  <a:pt x="1596674" y="4121809"/>
                </a:lnTo>
                <a:lnTo>
                  <a:pt x="1612050" y="4114123"/>
                </a:lnTo>
                <a:lnTo>
                  <a:pt x="1626465" y="4106438"/>
                </a:lnTo>
                <a:lnTo>
                  <a:pt x="1639918" y="4097793"/>
                </a:lnTo>
                <a:lnTo>
                  <a:pt x="1653372" y="4089147"/>
                </a:lnTo>
                <a:lnTo>
                  <a:pt x="1666826" y="4079540"/>
                </a:lnTo>
                <a:lnTo>
                  <a:pt x="1679319" y="4069934"/>
                </a:lnTo>
                <a:lnTo>
                  <a:pt x="1691811" y="4058406"/>
                </a:lnTo>
                <a:lnTo>
                  <a:pt x="1703343" y="4047839"/>
                </a:lnTo>
                <a:lnTo>
                  <a:pt x="1715836" y="4036311"/>
                </a:lnTo>
                <a:lnTo>
                  <a:pt x="1726407" y="4024784"/>
                </a:lnTo>
                <a:lnTo>
                  <a:pt x="1736978" y="4012295"/>
                </a:lnTo>
                <a:lnTo>
                  <a:pt x="1757158" y="3985397"/>
                </a:lnTo>
                <a:lnTo>
                  <a:pt x="1776378" y="3956578"/>
                </a:lnTo>
                <a:lnTo>
                  <a:pt x="1793676" y="3926798"/>
                </a:lnTo>
                <a:lnTo>
                  <a:pt x="1809052" y="3895097"/>
                </a:lnTo>
                <a:lnTo>
                  <a:pt x="1824427" y="3863396"/>
                </a:lnTo>
                <a:lnTo>
                  <a:pt x="1837881" y="3829773"/>
                </a:lnTo>
                <a:lnTo>
                  <a:pt x="1849413" y="3795190"/>
                </a:lnTo>
                <a:lnTo>
                  <a:pt x="1859984" y="3761568"/>
                </a:lnTo>
                <a:lnTo>
                  <a:pt x="1868632" y="3726984"/>
                </a:lnTo>
                <a:lnTo>
                  <a:pt x="1878242" y="3692401"/>
                </a:lnTo>
                <a:lnTo>
                  <a:pt x="1884969" y="3657818"/>
                </a:lnTo>
                <a:lnTo>
                  <a:pt x="1890735" y="3623235"/>
                </a:lnTo>
                <a:lnTo>
                  <a:pt x="1896501" y="3590573"/>
                </a:lnTo>
                <a:lnTo>
                  <a:pt x="1900345" y="3557911"/>
                </a:lnTo>
                <a:close/>
                <a:moveTo>
                  <a:pt x="344993" y="345832"/>
                </a:moveTo>
                <a:lnTo>
                  <a:pt x="344993" y="3036592"/>
                </a:lnTo>
                <a:lnTo>
                  <a:pt x="4655005" y="3036592"/>
                </a:lnTo>
                <a:lnTo>
                  <a:pt x="4655005" y="345832"/>
                </a:lnTo>
                <a:lnTo>
                  <a:pt x="344993" y="345832"/>
                </a:lnTo>
                <a:close/>
                <a:moveTo>
                  <a:pt x="142226" y="0"/>
                </a:moveTo>
                <a:lnTo>
                  <a:pt x="4857773" y="0"/>
                </a:lnTo>
                <a:lnTo>
                  <a:pt x="4872187" y="961"/>
                </a:lnTo>
                <a:lnTo>
                  <a:pt x="4885641" y="2882"/>
                </a:lnTo>
                <a:lnTo>
                  <a:pt x="4899095" y="6725"/>
                </a:lnTo>
                <a:lnTo>
                  <a:pt x="4913510" y="10567"/>
                </a:lnTo>
                <a:lnTo>
                  <a:pt x="4925042" y="17292"/>
                </a:lnTo>
                <a:lnTo>
                  <a:pt x="4936573" y="24016"/>
                </a:lnTo>
                <a:lnTo>
                  <a:pt x="4947144" y="32662"/>
                </a:lnTo>
                <a:lnTo>
                  <a:pt x="4957715" y="42268"/>
                </a:lnTo>
                <a:lnTo>
                  <a:pt x="4967325" y="51875"/>
                </a:lnTo>
                <a:lnTo>
                  <a:pt x="4975974" y="62442"/>
                </a:lnTo>
                <a:lnTo>
                  <a:pt x="4982701" y="73970"/>
                </a:lnTo>
                <a:lnTo>
                  <a:pt x="4988466" y="87419"/>
                </a:lnTo>
                <a:lnTo>
                  <a:pt x="4993271" y="99907"/>
                </a:lnTo>
                <a:lnTo>
                  <a:pt x="4996154" y="113356"/>
                </a:lnTo>
                <a:lnTo>
                  <a:pt x="4999037" y="127766"/>
                </a:lnTo>
                <a:lnTo>
                  <a:pt x="4999037" y="142175"/>
                </a:lnTo>
                <a:lnTo>
                  <a:pt x="4999037" y="3238327"/>
                </a:lnTo>
                <a:lnTo>
                  <a:pt x="4999037" y="3253697"/>
                </a:lnTo>
                <a:lnTo>
                  <a:pt x="4996154" y="3268106"/>
                </a:lnTo>
                <a:lnTo>
                  <a:pt x="4993271" y="3281555"/>
                </a:lnTo>
                <a:lnTo>
                  <a:pt x="4988466" y="3295004"/>
                </a:lnTo>
                <a:lnTo>
                  <a:pt x="4982701" y="3307493"/>
                </a:lnTo>
                <a:lnTo>
                  <a:pt x="4975974" y="3319021"/>
                </a:lnTo>
                <a:lnTo>
                  <a:pt x="4967325" y="3329588"/>
                </a:lnTo>
                <a:lnTo>
                  <a:pt x="4957715" y="3339194"/>
                </a:lnTo>
                <a:lnTo>
                  <a:pt x="4947144" y="3349761"/>
                </a:lnTo>
                <a:lnTo>
                  <a:pt x="4936573" y="3357446"/>
                </a:lnTo>
                <a:lnTo>
                  <a:pt x="4925042" y="3364171"/>
                </a:lnTo>
                <a:lnTo>
                  <a:pt x="4913510" y="3369935"/>
                </a:lnTo>
                <a:lnTo>
                  <a:pt x="4899095" y="3374738"/>
                </a:lnTo>
                <a:lnTo>
                  <a:pt x="4885641" y="3378580"/>
                </a:lnTo>
                <a:lnTo>
                  <a:pt x="4872187" y="3380502"/>
                </a:lnTo>
                <a:lnTo>
                  <a:pt x="4857773" y="3381462"/>
                </a:lnTo>
                <a:lnTo>
                  <a:pt x="142226" y="3381462"/>
                </a:lnTo>
                <a:lnTo>
                  <a:pt x="127811" y="3380502"/>
                </a:lnTo>
                <a:lnTo>
                  <a:pt x="113396" y="3378580"/>
                </a:lnTo>
                <a:lnTo>
                  <a:pt x="99942" y="3374738"/>
                </a:lnTo>
                <a:lnTo>
                  <a:pt x="86489" y="3369935"/>
                </a:lnTo>
                <a:lnTo>
                  <a:pt x="73996" y="3364171"/>
                </a:lnTo>
                <a:lnTo>
                  <a:pt x="62464" y="3357446"/>
                </a:lnTo>
                <a:lnTo>
                  <a:pt x="51893" y="3349761"/>
                </a:lnTo>
                <a:lnTo>
                  <a:pt x="42283" y="3339194"/>
                </a:lnTo>
                <a:lnTo>
                  <a:pt x="31713" y="3329588"/>
                </a:lnTo>
                <a:lnTo>
                  <a:pt x="24025" y="3319021"/>
                </a:lnTo>
                <a:lnTo>
                  <a:pt x="17298" y="3307493"/>
                </a:lnTo>
                <a:lnTo>
                  <a:pt x="11532" y="3295004"/>
                </a:lnTo>
                <a:lnTo>
                  <a:pt x="6727" y="3281555"/>
                </a:lnTo>
                <a:lnTo>
                  <a:pt x="2883" y="3268106"/>
                </a:lnTo>
                <a:lnTo>
                  <a:pt x="961" y="3253697"/>
                </a:lnTo>
                <a:lnTo>
                  <a:pt x="0" y="3238327"/>
                </a:lnTo>
                <a:lnTo>
                  <a:pt x="0" y="142175"/>
                </a:lnTo>
                <a:lnTo>
                  <a:pt x="961" y="127766"/>
                </a:lnTo>
                <a:lnTo>
                  <a:pt x="2883" y="113356"/>
                </a:lnTo>
                <a:lnTo>
                  <a:pt x="6727" y="99907"/>
                </a:lnTo>
                <a:lnTo>
                  <a:pt x="11532" y="87419"/>
                </a:lnTo>
                <a:lnTo>
                  <a:pt x="17298" y="73970"/>
                </a:lnTo>
                <a:lnTo>
                  <a:pt x="24025" y="62442"/>
                </a:lnTo>
                <a:lnTo>
                  <a:pt x="31713" y="51875"/>
                </a:lnTo>
                <a:lnTo>
                  <a:pt x="42283" y="42268"/>
                </a:lnTo>
                <a:lnTo>
                  <a:pt x="51893" y="32662"/>
                </a:lnTo>
                <a:lnTo>
                  <a:pt x="62464" y="24016"/>
                </a:lnTo>
                <a:lnTo>
                  <a:pt x="73996" y="17292"/>
                </a:lnTo>
                <a:lnTo>
                  <a:pt x="86489" y="10567"/>
                </a:lnTo>
                <a:lnTo>
                  <a:pt x="99942" y="6725"/>
                </a:lnTo>
                <a:lnTo>
                  <a:pt x="113396" y="2882"/>
                </a:lnTo>
                <a:lnTo>
                  <a:pt x="127811" y="961"/>
                </a:lnTo>
                <a:lnTo>
                  <a:pt x="14222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KSO_Shape"/>
          <p:cNvSpPr/>
          <p:nvPr/>
        </p:nvSpPr>
        <p:spPr>
          <a:xfrm>
            <a:off x="9513720" y="3203640"/>
            <a:ext cx="559080" cy="515880"/>
          </a:xfrm>
          <a:custGeom>
            <a:avLst/>
            <a:gdLst/>
            <a:ahLst/>
            <a:rect l="l" t="t" r="r" b="b"/>
            <a:pathLst>
              <a:path w="4477" h="4133">
                <a:moveTo>
                  <a:pt x="3646" y="48"/>
                </a:moveTo>
                <a:lnTo>
                  <a:pt x="3646" y="48"/>
                </a:lnTo>
                <a:lnTo>
                  <a:pt x="3623" y="39"/>
                </a:lnTo>
                <a:lnTo>
                  <a:pt x="3600" y="31"/>
                </a:lnTo>
                <a:lnTo>
                  <a:pt x="3578" y="24"/>
                </a:lnTo>
                <a:lnTo>
                  <a:pt x="3557" y="18"/>
                </a:lnTo>
                <a:lnTo>
                  <a:pt x="3536" y="13"/>
                </a:lnTo>
                <a:lnTo>
                  <a:pt x="3515" y="8"/>
                </a:lnTo>
                <a:lnTo>
                  <a:pt x="3494" y="5"/>
                </a:lnTo>
                <a:lnTo>
                  <a:pt x="3473" y="3"/>
                </a:lnTo>
                <a:lnTo>
                  <a:pt x="3454" y="1"/>
                </a:lnTo>
                <a:lnTo>
                  <a:pt x="3434" y="0"/>
                </a:lnTo>
                <a:lnTo>
                  <a:pt x="3415" y="0"/>
                </a:lnTo>
                <a:lnTo>
                  <a:pt x="3395" y="1"/>
                </a:lnTo>
                <a:lnTo>
                  <a:pt x="3376" y="3"/>
                </a:lnTo>
                <a:lnTo>
                  <a:pt x="3358" y="5"/>
                </a:lnTo>
                <a:lnTo>
                  <a:pt x="3339" y="9"/>
                </a:lnTo>
                <a:lnTo>
                  <a:pt x="3321" y="13"/>
                </a:lnTo>
                <a:lnTo>
                  <a:pt x="3303" y="18"/>
                </a:lnTo>
                <a:lnTo>
                  <a:pt x="3285" y="23"/>
                </a:lnTo>
                <a:lnTo>
                  <a:pt x="3268" y="30"/>
                </a:lnTo>
                <a:lnTo>
                  <a:pt x="3251" y="37"/>
                </a:lnTo>
                <a:lnTo>
                  <a:pt x="3235" y="45"/>
                </a:lnTo>
                <a:lnTo>
                  <a:pt x="3219" y="54"/>
                </a:lnTo>
                <a:lnTo>
                  <a:pt x="3201" y="63"/>
                </a:lnTo>
                <a:lnTo>
                  <a:pt x="3186" y="74"/>
                </a:lnTo>
                <a:lnTo>
                  <a:pt x="3170" y="85"/>
                </a:lnTo>
                <a:lnTo>
                  <a:pt x="3155" y="96"/>
                </a:lnTo>
                <a:lnTo>
                  <a:pt x="3139" y="108"/>
                </a:lnTo>
                <a:lnTo>
                  <a:pt x="3124" y="121"/>
                </a:lnTo>
                <a:lnTo>
                  <a:pt x="3110" y="134"/>
                </a:lnTo>
                <a:lnTo>
                  <a:pt x="3094" y="149"/>
                </a:lnTo>
                <a:lnTo>
                  <a:pt x="3066" y="179"/>
                </a:lnTo>
                <a:lnTo>
                  <a:pt x="3079" y="337"/>
                </a:lnTo>
                <a:lnTo>
                  <a:pt x="3094" y="494"/>
                </a:lnTo>
                <a:lnTo>
                  <a:pt x="3112" y="649"/>
                </a:lnTo>
                <a:lnTo>
                  <a:pt x="3131" y="802"/>
                </a:lnTo>
                <a:lnTo>
                  <a:pt x="3151" y="954"/>
                </a:lnTo>
                <a:lnTo>
                  <a:pt x="3174" y="1104"/>
                </a:lnTo>
                <a:lnTo>
                  <a:pt x="3198" y="1252"/>
                </a:lnTo>
                <a:lnTo>
                  <a:pt x="3226" y="1398"/>
                </a:lnTo>
                <a:lnTo>
                  <a:pt x="3254" y="1543"/>
                </a:lnTo>
                <a:lnTo>
                  <a:pt x="3284" y="1686"/>
                </a:lnTo>
                <a:lnTo>
                  <a:pt x="3318" y="1827"/>
                </a:lnTo>
                <a:lnTo>
                  <a:pt x="3352" y="1967"/>
                </a:lnTo>
                <a:lnTo>
                  <a:pt x="3388" y="2104"/>
                </a:lnTo>
                <a:lnTo>
                  <a:pt x="3407" y="2172"/>
                </a:lnTo>
                <a:lnTo>
                  <a:pt x="3427" y="2240"/>
                </a:lnTo>
                <a:lnTo>
                  <a:pt x="3447" y="2307"/>
                </a:lnTo>
                <a:lnTo>
                  <a:pt x="3468" y="2374"/>
                </a:lnTo>
                <a:lnTo>
                  <a:pt x="3488" y="2441"/>
                </a:lnTo>
                <a:lnTo>
                  <a:pt x="3510" y="2506"/>
                </a:lnTo>
                <a:lnTo>
                  <a:pt x="4267" y="2335"/>
                </a:lnTo>
                <a:lnTo>
                  <a:pt x="4258" y="2257"/>
                </a:lnTo>
                <a:lnTo>
                  <a:pt x="4249" y="2179"/>
                </a:lnTo>
                <a:lnTo>
                  <a:pt x="4238" y="2102"/>
                </a:lnTo>
                <a:lnTo>
                  <a:pt x="4227" y="2026"/>
                </a:lnTo>
                <a:lnTo>
                  <a:pt x="4214" y="1950"/>
                </a:lnTo>
                <a:lnTo>
                  <a:pt x="4202" y="1874"/>
                </a:lnTo>
                <a:lnTo>
                  <a:pt x="4189" y="1798"/>
                </a:lnTo>
                <a:lnTo>
                  <a:pt x="4175" y="1724"/>
                </a:lnTo>
                <a:lnTo>
                  <a:pt x="4161" y="1649"/>
                </a:lnTo>
                <a:lnTo>
                  <a:pt x="4146" y="1574"/>
                </a:lnTo>
                <a:lnTo>
                  <a:pt x="4130" y="1500"/>
                </a:lnTo>
                <a:lnTo>
                  <a:pt x="4113" y="1428"/>
                </a:lnTo>
                <a:lnTo>
                  <a:pt x="4096" y="1354"/>
                </a:lnTo>
                <a:lnTo>
                  <a:pt x="4078" y="1282"/>
                </a:lnTo>
                <a:lnTo>
                  <a:pt x="4060" y="1210"/>
                </a:lnTo>
                <a:lnTo>
                  <a:pt x="4041" y="1138"/>
                </a:lnTo>
                <a:lnTo>
                  <a:pt x="4020" y="1067"/>
                </a:lnTo>
                <a:lnTo>
                  <a:pt x="4000" y="995"/>
                </a:lnTo>
                <a:lnTo>
                  <a:pt x="3979" y="926"/>
                </a:lnTo>
                <a:lnTo>
                  <a:pt x="3957" y="855"/>
                </a:lnTo>
                <a:lnTo>
                  <a:pt x="3935" y="785"/>
                </a:lnTo>
                <a:lnTo>
                  <a:pt x="3911" y="717"/>
                </a:lnTo>
                <a:lnTo>
                  <a:pt x="3888" y="648"/>
                </a:lnTo>
                <a:lnTo>
                  <a:pt x="3863" y="579"/>
                </a:lnTo>
                <a:lnTo>
                  <a:pt x="3839" y="512"/>
                </a:lnTo>
                <a:lnTo>
                  <a:pt x="3812" y="444"/>
                </a:lnTo>
                <a:lnTo>
                  <a:pt x="3786" y="377"/>
                </a:lnTo>
                <a:lnTo>
                  <a:pt x="3759" y="310"/>
                </a:lnTo>
                <a:lnTo>
                  <a:pt x="3732" y="244"/>
                </a:lnTo>
                <a:lnTo>
                  <a:pt x="3703" y="179"/>
                </a:lnTo>
                <a:lnTo>
                  <a:pt x="3675" y="113"/>
                </a:lnTo>
                <a:lnTo>
                  <a:pt x="3646" y="48"/>
                </a:lnTo>
                <a:close/>
                <a:moveTo>
                  <a:pt x="831" y="2804"/>
                </a:moveTo>
                <a:lnTo>
                  <a:pt x="2810" y="2804"/>
                </a:lnTo>
                <a:lnTo>
                  <a:pt x="2810" y="2949"/>
                </a:lnTo>
                <a:lnTo>
                  <a:pt x="831" y="2949"/>
                </a:lnTo>
                <a:lnTo>
                  <a:pt x="831" y="2804"/>
                </a:lnTo>
                <a:close/>
                <a:moveTo>
                  <a:pt x="3516" y="3370"/>
                </a:moveTo>
                <a:lnTo>
                  <a:pt x="3637" y="3750"/>
                </a:lnTo>
                <a:lnTo>
                  <a:pt x="190" y="3750"/>
                </a:lnTo>
                <a:lnTo>
                  <a:pt x="0" y="3750"/>
                </a:lnTo>
                <a:lnTo>
                  <a:pt x="0" y="3559"/>
                </a:lnTo>
                <a:lnTo>
                  <a:pt x="0" y="1320"/>
                </a:lnTo>
                <a:lnTo>
                  <a:pt x="0" y="1240"/>
                </a:lnTo>
                <a:lnTo>
                  <a:pt x="59" y="1183"/>
                </a:lnTo>
                <a:lnTo>
                  <a:pt x="764" y="503"/>
                </a:lnTo>
                <a:lnTo>
                  <a:pt x="819" y="449"/>
                </a:lnTo>
                <a:lnTo>
                  <a:pt x="895" y="449"/>
                </a:lnTo>
                <a:lnTo>
                  <a:pt x="2831" y="449"/>
                </a:lnTo>
                <a:lnTo>
                  <a:pt x="2840" y="545"/>
                </a:lnTo>
                <a:lnTo>
                  <a:pt x="2849" y="640"/>
                </a:lnTo>
                <a:lnTo>
                  <a:pt x="2859" y="735"/>
                </a:lnTo>
                <a:lnTo>
                  <a:pt x="2870" y="829"/>
                </a:lnTo>
                <a:lnTo>
                  <a:pt x="1084" y="829"/>
                </a:lnTo>
                <a:lnTo>
                  <a:pt x="1138" y="1419"/>
                </a:lnTo>
                <a:lnTo>
                  <a:pt x="1148" y="1526"/>
                </a:lnTo>
                <a:lnTo>
                  <a:pt x="1040" y="1522"/>
                </a:lnTo>
                <a:lnTo>
                  <a:pt x="380" y="1497"/>
                </a:lnTo>
                <a:lnTo>
                  <a:pt x="380" y="3370"/>
                </a:lnTo>
                <a:lnTo>
                  <a:pt x="3516" y="3370"/>
                </a:lnTo>
                <a:close/>
                <a:moveTo>
                  <a:pt x="472" y="1312"/>
                </a:moveTo>
                <a:lnTo>
                  <a:pt x="939" y="1329"/>
                </a:lnTo>
                <a:lnTo>
                  <a:pt x="900" y="898"/>
                </a:lnTo>
                <a:lnTo>
                  <a:pt x="472" y="1312"/>
                </a:lnTo>
                <a:close/>
                <a:moveTo>
                  <a:pt x="2810" y="2206"/>
                </a:moveTo>
                <a:lnTo>
                  <a:pt x="831" y="2206"/>
                </a:lnTo>
                <a:lnTo>
                  <a:pt x="831" y="2351"/>
                </a:lnTo>
                <a:lnTo>
                  <a:pt x="2810" y="2351"/>
                </a:lnTo>
                <a:lnTo>
                  <a:pt x="2810" y="2206"/>
                </a:lnTo>
                <a:close/>
                <a:moveTo>
                  <a:pt x="2810" y="1666"/>
                </a:moveTo>
                <a:lnTo>
                  <a:pt x="1621" y="1666"/>
                </a:lnTo>
                <a:lnTo>
                  <a:pt x="1621" y="1810"/>
                </a:lnTo>
                <a:lnTo>
                  <a:pt x="2810" y="1810"/>
                </a:lnTo>
                <a:lnTo>
                  <a:pt x="2810" y="1666"/>
                </a:lnTo>
                <a:close/>
                <a:moveTo>
                  <a:pt x="2810" y="1112"/>
                </a:moveTo>
                <a:lnTo>
                  <a:pt x="1621" y="1112"/>
                </a:lnTo>
                <a:lnTo>
                  <a:pt x="1621" y="1256"/>
                </a:lnTo>
                <a:lnTo>
                  <a:pt x="2810" y="1256"/>
                </a:lnTo>
                <a:lnTo>
                  <a:pt x="2810" y="1112"/>
                </a:lnTo>
                <a:close/>
                <a:moveTo>
                  <a:pt x="4318" y="3463"/>
                </a:moveTo>
                <a:lnTo>
                  <a:pt x="4002" y="3540"/>
                </a:lnTo>
                <a:lnTo>
                  <a:pt x="4007" y="3867"/>
                </a:lnTo>
                <a:lnTo>
                  <a:pt x="4237" y="4133"/>
                </a:lnTo>
                <a:lnTo>
                  <a:pt x="4387" y="4100"/>
                </a:lnTo>
                <a:lnTo>
                  <a:pt x="4477" y="3751"/>
                </a:lnTo>
                <a:lnTo>
                  <a:pt x="4318" y="3463"/>
                </a:lnTo>
                <a:close/>
                <a:moveTo>
                  <a:pt x="4272" y="2491"/>
                </a:moveTo>
                <a:lnTo>
                  <a:pt x="4272" y="2491"/>
                </a:lnTo>
                <a:lnTo>
                  <a:pt x="4388" y="3367"/>
                </a:lnTo>
                <a:lnTo>
                  <a:pt x="3870" y="3485"/>
                </a:lnTo>
                <a:lnTo>
                  <a:pt x="3583" y="2648"/>
                </a:lnTo>
                <a:lnTo>
                  <a:pt x="4272" y="249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0" name="TextBox 15"/>
          <p:cNvSpPr/>
          <p:nvPr/>
        </p:nvSpPr>
        <p:spPr>
          <a:xfrm>
            <a:off x="1886040" y="1353960"/>
            <a:ext cx="48798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a:t>
            </a:r>
            <a:endParaRPr b="0" lang="en-US" sz="1400" spc="-1" strike="noStrike">
              <a:solidFill>
                <a:srgbClr val="000000"/>
              </a:solidFill>
              <a:latin typeface="Calibri"/>
            </a:endParaRPr>
          </a:p>
        </p:txBody>
      </p:sp>
      <p:sp>
        <p:nvSpPr>
          <p:cNvPr id="691" name="TextBox 15"/>
          <p:cNvSpPr/>
          <p:nvPr/>
        </p:nvSpPr>
        <p:spPr>
          <a:xfrm>
            <a:off x="1886040" y="3049560"/>
            <a:ext cx="36813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简单简单的文字概述这里</a:t>
            </a:r>
            <a:endParaRPr b="0" lang="en-US" sz="1400" spc="-1" strike="noStrike">
              <a:solidFill>
                <a:srgbClr val="000000"/>
              </a:solidFill>
              <a:latin typeface="Calibri"/>
            </a:endParaRPr>
          </a:p>
        </p:txBody>
      </p:sp>
      <p:sp>
        <p:nvSpPr>
          <p:cNvPr id="692" name="TextBox 15"/>
          <p:cNvSpPr/>
          <p:nvPr/>
        </p:nvSpPr>
        <p:spPr>
          <a:xfrm>
            <a:off x="1886040" y="4626000"/>
            <a:ext cx="25779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这里输入简单的文字概述这里输入简单字概述这里输入</a:t>
            </a:r>
            <a:endParaRPr b="0" lang="en-US" sz="1400" spc="-1" strike="noStrike">
              <a:solidFill>
                <a:srgbClr val="000000"/>
              </a:solidFill>
              <a:latin typeface="Calibri"/>
            </a:endParaRPr>
          </a:p>
        </p:txBody>
      </p:sp>
      <p:sp>
        <p:nvSpPr>
          <p:cNvPr id="693" name="KSO_Shape"/>
          <p:cNvSpPr/>
          <p:nvPr/>
        </p:nvSpPr>
        <p:spPr>
          <a:xfrm>
            <a:off x="7878600" y="1450800"/>
            <a:ext cx="622440" cy="847800"/>
          </a:xfrm>
          <a:custGeom>
            <a:avLst/>
            <a:gdLst/>
            <a:ahLst/>
            <a:rect l="l" t="t" r="r" b="b"/>
            <a:pathLst>
              <a:path w="4676" h="6235">
                <a:moveTo>
                  <a:pt x="4676" y="3897"/>
                </a:moveTo>
                <a:lnTo>
                  <a:pt x="4676" y="3897"/>
                </a:lnTo>
                <a:lnTo>
                  <a:pt x="4674" y="3817"/>
                </a:lnTo>
                <a:lnTo>
                  <a:pt x="4671" y="3736"/>
                </a:lnTo>
                <a:lnTo>
                  <a:pt x="4663" y="3656"/>
                </a:lnTo>
                <a:lnTo>
                  <a:pt x="4653" y="3575"/>
                </a:lnTo>
                <a:lnTo>
                  <a:pt x="4642" y="3493"/>
                </a:lnTo>
                <a:lnTo>
                  <a:pt x="4627" y="3412"/>
                </a:lnTo>
                <a:lnTo>
                  <a:pt x="4610" y="3330"/>
                </a:lnTo>
                <a:lnTo>
                  <a:pt x="4590" y="3249"/>
                </a:lnTo>
                <a:lnTo>
                  <a:pt x="4569" y="3167"/>
                </a:lnTo>
                <a:lnTo>
                  <a:pt x="4546" y="3086"/>
                </a:lnTo>
                <a:lnTo>
                  <a:pt x="4520" y="3005"/>
                </a:lnTo>
                <a:lnTo>
                  <a:pt x="4493" y="2923"/>
                </a:lnTo>
                <a:lnTo>
                  <a:pt x="4463" y="2842"/>
                </a:lnTo>
                <a:lnTo>
                  <a:pt x="4432" y="2761"/>
                </a:lnTo>
                <a:lnTo>
                  <a:pt x="4400" y="2680"/>
                </a:lnTo>
                <a:lnTo>
                  <a:pt x="4366" y="2600"/>
                </a:lnTo>
                <a:lnTo>
                  <a:pt x="4330" y="2520"/>
                </a:lnTo>
                <a:lnTo>
                  <a:pt x="4293" y="2441"/>
                </a:lnTo>
                <a:lnTo>
                  <a:pt x="4255" y="2362"/>
                </a:lnTo>
                <a:lnTo>
                  <a:pt x="4215" y="2283"/>
                </a:lnTo>
                <a:lnTo>
                  <a:pt x="4173" y="2205"/>
                </a:lnTo>
                <a:lnTo>
                  <a:pt x="4133" y="2127"/>
                </a:lnTo>
                <a:lnTo>
                  <a:pt x="4089" y="2051"/>
                </a:lnTo>
                <a:lnTo>
                  <a:pt x="4046" y="1975"/>
                </a:lnTo>
                <a:lnTo>
                  <a:pt x="4002" y="1900"/>
                </a:lnTo>
                <a:lnTo>
                  <a:pt x="3956" y="1825"/>
                </a:lnTo>
                <a:lnTo>
                  <a:pt x="3910" y="1752"/>
                </a:lnTo>
                <a:lnTo>
                  <a:pt x="3865" y="1679"/>
                </a:lnTo>
                <a:lnTo>
                  <a:pt x="3818" y="1608"/>
                </a:lnTo>
                <a:lnTo>
                  <a:pt x="3771" y="1537"/>
                </a:lnTo>
                <a:lnTo>
                  <a:pt x="3724" y="1468"/>
                </a:lnTo>
                <a:lnTo>
                  <a:pt x="3676" y="1399"/>
                </a:lnTo>
                <a:lnTo>
                  <a:pt x="3582" y="1266"/>
                </a:lnTo>
                <a:lnTo>
                  <a:pt x="3487" y="1139"/>
                </a:lnTo>
                <a:lnTo>
                  <a:pt x="3395" y="1016"/>
                </a:lnTo>
                <a:lnTo>
                  <a:pt x="3303" y="899"/>
                </a:lnTo>
                <a:lnTo>
                  <a:pt x="3214" y="789"/>
                </a:lnTo>
                <a:lnTo>
                  <a:pt x="3129" y="686"/>
                </a:lnTo>
                <a:lnTo>
                  <a:pt x="3048" y="590"/>
                </a:lnTo>
                <a:lnTo>
                  <a:pt x="2971" y="502"/>
                </a:lnTo>
                <a:lnTo>
                  <a:pt x="2901" y="420"/>
                </a:lnTo>
                <a:lnTo>
                  <a:pt x="2835" y="349"/>
                </a:lnTo>
                <a:lnTo>
                  <a:pt x="2777" y="285"/>
                </a:lnTo>
                <a:lnTo>
                  <a:pt x="2727" y="230"/>
                </a:lnTo>
                <a:lnTo>
                  <a:pt x="2650" y="151"/>
                </a:lnTo>
                <a:lnTo>
                  <a:pt x="2613" y="114"/>
                </a:lnTo>
                <a:lnTo>
                  <a:pt x="2600" y="100"/>
                </a:lnTo>
                <a:lnTo>
                  <a:pt x="2584" y="87"/>
                </a:lnTo>
                <a:lnTo>
                  <a:pt x="2569" y="75"/>
                </a:lnTo>
                <a:lnTo>
                  <a:pt x="2553" y="64"/>
                </a:lnTo>
                <a:lnTo>
                  <a:pt x="2536" y="54"/>
                </a:lnTo>
                <a:lnTo>
                  <a:pt x="2520" y="44"/>
                </a:lnTo>
                <a:lnTo>
                  <a:pt x="2502" y="37"/>
                </a:lnTo>
                <a:lnTo>
                  <a:pt x="2485" y="28"/>
                </a:lnTo>
                <a:lnTo>
                  <a:pt x="2466" y="22"/>
                </a:lnTo>
                <a:lnTo>
                  <a:pt x="2449" y="16"/>
                </a:lnTo>
                <a:lnTo>
                  <a:pt x="2431" y="11"/>
                </a:lnTo>
                <a:lnTo>
                  <a:pt x="2412" y="7"/>
                </a:lnTo>
                <a:lnTo>
                  <a:pt x="2394" y="5"/>
                </a:lnTo>
                <a:lnTo>
                  <a:pt x="2375" y="2"/>
                </a:lnTo>
                <a:lnTo>
                  <a:pt x="2357" y="1"/>
                </a:lnTo>
                <a:lnTo>
                  <a:pt x="2338" y="0"/>
                </a:lnTo>
                <a:lnTo>
                  <a:pt x="2320" y="1"/>
                </a:lnTo>
                <a:lnTo>
                  <a:pt x="2301" y="2"/>
                </a:lnTo>
                <a:lnTo>
                  <a:pt x="2283" y="5"/>
                </a:lnTo>
                <a:lnTo>
                  <a:pt x="2264" y="7"/>
                </a:lnTo>
                <a:lnTo>
                  <a:pt x="2246" y="11"/>
                </a:lnTo>
                <a:lnTo>
                  <a:pt x="2227" y="16"/>
                </a:lnTo>
                <a:lnTo>
                  <a:pt x="2209" y="22"/>
                </a:lnTo>
                <a:lnTo>
                  <a:pt x="2191" y="28"/>
                </a:lnTo>
                <a:lnTo>
                  <a:pt x="2174" y="37"/>
                </a:lnTo>
                <a:lnTo>
                  <a:pt x="2157" y="44"/>
                </a:lnTo>
                <a:lnTo>
                  <a:pt x="2139" y="54"/>
                </a:lnTo>
                <a:lnTo>
                  <a:pt x="2123" y="64"/>
                </a:lnTo>
                <a:lnTo>
                  <a:pt x="2107" y="75"/>
                </a:lnTo>
                <a:lnTo>
                  <a:pt x="2093" y="87"/>
                </a:lnTo>
                <a:lnTo>
                  <a:pt x="2077" y="100"/>
                </a:lnTo>
                <a:lnTo>
                  <a:pt x="2063" y="114"/>
                </a:lnTo>
                <a:lnTo>
                  <a:pt x="2026" y="151"/>
                </a:lnTo>
                <a:lnTo>
                  <a:pt x="1949" y="230"/>
                </a:lnTo>
                <a:lnTo>
                  <a:pt x="1899" y="285"/>
                </a:lnTo>
                <a:lnTo>
                  <a:pt x="1841" y="349"/>
                </a:lnTo>
                <a:lnTo>
                  <a:pt x="1775" y="420"/>
                </a:lnTo>
                <a:lnTo>
                  <a:pt x="1705" y="502"/>
                </a:lnTo>
                <a:lnTo>
                  <a:pt x="1629" y="590"/>
                </a:lnTo>
                <a:lnTo>
                  <a:pt x="1547" y="686"/>
                </a:lnTo>
                <a:lnTo>
                  <a:pt x="1462" y="789"/>
                </a:lnTo>
                <a:lnTo>
                  <a:pt x="1373" y="899"/>
                </a:lnTo>
                <a:lnTo>
                  <a:pt x="1282" y="1016"/>
                </a:lnTo>
                <a:lnTo>
                  <a:pt x="1188" y="1139"/>
                </a:lnTo>
                <a:lnTo>
                  <a:pt x="1094" y="1266"/>
                </a:lnTo>
                <a:lnTo>
                  <a:pt x="999" y="1399"/>
                </a:lnTo>
                <a:lnTo>
                  <a:pt x="952" y="1468"/>
                </a:lnTo>
                <a:lnTo>
                  <a:pt x="905" y="1537"/>
                </a:lnTo>
                <a:lnTo>
                  <a:pt x="858" y="1608"/>
                </a:lnTo>
                <a:lnTo>
                  <a:pt x="812" y="1679"/>
                </a:lnTo>
                <a:lnTo>
                  <a:pt x="766" y="1752"/>
                </a:lnTo>
                <a:lnTo>
                  <a:pt x="719" y="1825"/>
                </a:lnTo>
                <a:lnTo>
                  <a:pt x="675" y="1900"/>
                </a:lnTo>
                <a:lnTo>
                  <a:pt x="630" y="1975"/>
                </a:lnTo>
                <a:lnTo>
                  <a:pt x="587" y="2051"/>
                </a:lnTo>
                <a:lnTo>
                  <a:pt x="544" y="2127"/>
                </a:lnTo>
                <a:lnTo>
                  <a:pt x="502" y="2205"/>
                </a:lnTo>
                <a:lnTo>
                  <a:pt x="461" y="2283"/>
                </a:lnTo>
                <a:lnTo>
                  <a:pt x="422" y="2362"/>
                </a:lnTo>
                <a:lnTo>
                  <a:pt x="383" y="2441"/>
                </a:lnTo>
                <a:lnTo>
                  <a:pt x="346" y="2520"/>
                </a:lnTo>
                <a:lnTo>
                  <a:pt x="311" y="2600"/>
                </a:lnTo>
                <a:lnTo>
                  <a:pt x="276" y="2680"/>
                </a:lnTo>
                <a:lnTo>
                  <a:pt x="243" y="2761"/>
                </a:lnTo>
                <a:lnTo>
                  <a:pt x="212" y="2842"/>
                </a:lnTo>
                <a:lnTo>
                  <a:pt x="183" y="2923"/>
                </a:lnTo>
                <a:lnTo>
                  <a:pt x="155" y="3005"/>
                </a:lnTo>
                <a:lnTo>
                  <a:pt x="130" y="3086"/>
                </a:lnTo>
                <a:lnTo>
                  <a:pt x="106" y="3167"/>
                </a:lnTo>
                <a:lnTo>
                  <a:pt x="85" y="3249"/>
                </a:lnTo>
                <a:lnTo>
                  <a:pt x="66" y="3330"/>
                </a:lnTo>
                <a:lnTo>
                  <a:pt x="49" y="3412"/>
                </a:lnTo>
                <a:lnTo>
                  <a:pt x="34" y="3493"/>
                </a:lnTo>
                <a:lnTo>
                  <a:pt x="22" y="3575"/>
                </a:lnTo>
                <a:lnTo>
                  <a:pt x="12" y="3656"/>
                </a:lnTo>
                <a:lnTo>
                  <a:pt x="6" y="3736"/>
                </a:lnTo>
                <a:lnTo>
                  <a:pt x="1" y="3817"/>
                </a:lnTo>
                <a:lnTo>
                  <a:pt x="0" y="3897"/>
                </a:lnTo>
                <a:lnTo>
                  <a:pt x="1" y="3957"/>
                </a:lnTo>
                <a:lnTo>
                  <a:pt x="3" y="4016"/>
                </a:lnTo>
                <a:lnTo>
                  <a:pt x="7" y="4076"/>
                </a:lnTo>
                <a:lnTo>
                  <a:pt x="12" y="4135"/>
                </a:lnTo>
                <a:lnTo>
                  <a:pt x="18" y="4194"/>
                </a:lnTo>
                <a:lnTo>
                  <a:pt x="27" y="4252"/>
                </a:lnTo>
                <a:lnTo>
                  <a:pt x="37" y="4310"/>
                </a:lnTo>
                <a:lnTo>
                  <a:pt x="48" y="4367"/>
                </a:lnTo>
                <a:lnTo>
                  <a:pt x="60" y="4424"/>
                </a:lnTo>
                <a:lnTo>
                  <a:pt x="74" y="4480"/>
                </a:lnTo>
                <a:lnTo>
                  <a:pt x="88" y="4536"/>
                </a:lnTo>
                <a:lnTo>
                  <a:pt x="104" y="4591"/>
                </a:lnTo>
                <a:lnTo>
                  <a:pt x="123" y="4646"/>
                </a:lnTo>
                <a:lnTo>
                  <a:pt x="141" y="4700"/>
                </a:lnTo>
                <a:lnTo>
                  <a:pt x="162" y="4753"/>
                </a:lnTo>
                <a:lnTo>
                  <a:pt x="183" y="4806"/>
                </a:lnTo>
                <a:lnTo>
                  <a:pt x="207" y="4858"/>
                </a:lnTo>
                <a:lnTo>
                  <a:pt x="230" y="4910"/>
                </a:lnTo>
                <a:lnTo>
                  <a:pt x="256" y="4960"/>
                </a:lnTo>
                <a:lnTo>
                  <a:pt x="282" y="5010"/>
                </a:lnTo>
                <a:lnTo>
                  <a:pt x="311" y="5059"/>
                </a:lnTo>
                <a:lnTo>
                  <a:pt x="339" y="5109"/>
                </a:lnTo>
                <a:lnTo>
                  <a:pt x="369" y="5157"/>
                </a:lnTo>
                <a:lnTo>
                  <a:pt x="399" y="5204"/>
                </a:lnTo>
                <a:lnTo>
                  <a:pt x="431" y="5249"/>
                </a:lnTo>
                <a:lnTo>
                  <a:pt x="465" y="5295"/>
                </a:lnTo>
                <a:lnTo>
                  <a:pt x="499" y="5339"/>
                </a:lnTo>
                <a:lnTo>
                  <a:pt x="534" y="5384"/>
                </a:lnTo>
                <a:lnTo>
                  <a:pt x="571" y="5426"/>
                </a:lnTo>
                <a:lnTo>
                  <a:pt x="608" y="5468"/>
                </a:lnTo>
                <a:lnTo>
                  <a:pt x="646" y="5510"/>
                </a:lnTo>
                <a:lnTo>
                  <a:pt x="686" y="5549"/>
                </a:lnTo>
                <a:lnTo>
                  <a:pt x="725" y="5589"/>
                </a:lnTo>
                <a:lnTo>
                  <a:pt x="767" y="5627"/>
                </a:lnTo>
                <a:lnTo>
                  <a:pt x="809" y="5664"/>
                </a:lnTo>
                <a:lnTo>
                  <a:pt x="851" y="5701"/>
                </a:lnTo>
                <a:lnTo>
                  <a:pt x="895" y="5735"/>
                </a:lnTo>
                <a:lnTo>
                  <a:pt x="940" y="5770"/>
                </a:lnTo>
                <a:lnTo>
                  <a:pt x="986" y="5803"/>
                </a:lnTo>
                <a:lnTo>
                  <a:pt x="1031" y="5835"/>
                </a:lnTo>
                <a:lnTo>
                  <a:pt x="1078" y="5866"/>
                </a:lnTo>
                <a:lnTo>
                  <a:pt x="1126" y="5896"/>
                </a:lnTo>
                <a:lnTo>
                  <a:pt x="1176" y="5924"/>
                </a:lnTo>
                <a:lnTo>
                  <a:pt x="1225" y="5953"/>
                </a:lnTo>
                <a:lnTo>
                  <a:pt x="1274" y="5979"/>
                </a:lnTo>
                <a:lnTo>
                  <a:pt x="1325" y="6004"/>
                </a:lnTo>
                <a:lnTo>
                  <a:pt x="1377" y="6028"/>
                </a:lnTo>
                <a:lnTo>
                  <a:pt x="1429" y="6051"/>
                </a:lnTo>
                <a:lnTo>
                  <a:pt x="1482" y="6072"/>
                </a:lnTo>
                <a:lnTo>
                  <a:pt x="1535" y="6093"/>
                </a:lnTo>
                <a:lnTo>
                  <a:pt x="1589" y="6112"/>
                </a:lnTo>
                <a:lnTo>
                  <a:pt x="1643" y="6129"/>
                </a:lnTo>
                <a:lnTo>
                  <a:pt x="1699" y="6146"/>
                </a:lnTo>
                <a:lnTo>
                  <a:pt x="1754" y="6161"/>
                </a:lnTo>
                <a:lnTo>
                  <a:pt x="1811" y="6175"/>
                </a:lnTo>
                <a:lnTo>
                  <a:pt x="1868" y="6187"/>
                </a:lnTo>
                <a:lnTo>
                  <a:pt x="1925" y="6198"/>
                </a:lnTo>
                <a:lnTo>
                  <a:pt x="1983" y="6208"/>
                </a:lnTo>
                <a:lnTo>
                  <a:pt x="2041" y="6217"/>
                </a:lnTo>
                <a:lnTo>
                  <a:pt x="2100" y="6223"/>
                </a:lnTo>
                <a:lnTo>
                  <a:pt x="2158" y="6228"/>
                </a:lnTo>
                <a:lnTo>
                  <a:pt x="2218" y="6232"/>
                </a:lnTo>
                <a:lnTo>
                  <a:pt x="2278" y="6234"/>
                </a:lnTo>
                <a:lnTo>
                  <a:pt x="2338" y="6235"/>
                </a:lnTo>
                <a:lnTo>
                  <a:pt x="2399" y="6234"/>
                </a:lnTo>
                <a:lnTo>
                  <a:pt x="2458" y="6232"/>
                </a:lnTo>
                <a:lnTo>
                  <a:pt x="2518" y="6228"/>
                </a:lnTo>
                <a:lnTo>
                  <a:pt x="2576" y="6223"/>
                </a:lnTo>
                <a:lnTo>
                  <a:pt x="2636" y="6217"/>
                </a:lnTo>
                <a:lnTo>
                  <a:pt x="2694" y="6208"/>
                </a:lnTo>
                <a:lnTo>
                  <a:pt x="2752" y="6198"/>
                </a:lnTo>
                <a:lnTo>
                  <a:pt x="2808" y="6187"/>
                </a:lnTo>
                <a:lnTo>
                  <a:pt x="2865" y="6175"/>
                </a:lnTo>
                <a:lnTo>
                  <a:pt x="2922" y="6161"/>
                </a:lnTo>
                <a:lnTo>
                  <a:pt x="2977" y="6146"/>
                </a:lnTo>
                <a:lnTo>
                  <a:pt x="3033" y="6129"/>
                </a:lnTo>
                <a:lnTo>
                  <a:pt x="3087" y="6112"/>
                </a:lnTo>
                <a:lnTo>
                  <a:pt x="3142" y="6093"/>
                </a:lnTo>
                <a:lnTo>
                  <a:pt x="3195" y="6072"/>
                </a:lnTo>
                <a:lnTo>
                  <a:pt x="3248" y="6051"/>
                </a:lnTo>
                <a:lnTo>
                  <a:pt x="3299" y="6028"/>
                </a:lnTo>
                <a:lnTo>
                  <a:pt x="3351" y="6004"/>
                </a:lnTo>
                <a:lnTo>
                  <a:pt x="3402" y="5979"/>
                </a:lnTo>
                <a:lnTo>
                  <a:pt x="3451" y="5953"/>
                </a:lnTo>
                <a:lnTo>
                  <a:pt x="3501" y="5924"/>
                </a:lnTo>
                <a:lnTo>
                  <a:pt x="3550" y="5896"/>
                </a:lnTo>
                <a:lnTo>
                  <a:pt x="3597" y="5866"/>
                </a:lnTo>
                <a:lnTo>
                  <a:pt x="3644" y="5835"/>
                </a:lnTo>
                <a:lnTo>
                  <a:pt x="3691" y="5803"/>
                </a:lnTo>
                <a:lnTo>
                  <a:pt x="3736" y="5770"/>
                </a:lnTo>
                <a:lnTo>
                  <a:pt x="3781" y="5735"/>
                </a:lnTo>
                <a:lnTo>
                  <a:pt x="3824" y="5701"/>
                </a:lnTo>
                <a:lnTo>
                  <a:pt x="3867" y="5664"/>
                </a:lnTo>
                <a:lnTo>
                  <a:pt x="3909" y="5627"/>
                </a:lnTo>
                <a:lnTo>
                  <a:pt x="3950" y="5589"/>
                </a:lnTo>
                <a:lnTo>
                  <a:pt x="3991" y="5549"/>
                </a:lnTo>
                <a:lnTo>
                  <a:pt x="4030" y="5510"/>
                </a:lnTo>
                <a:lnTo>
                  <a:pt x="4068" y="5468"/>
                </a:lnTo>
                <a:lnTo>
                  <a:pt x="4105" y="5426"/>
                </a:lnTo>
                <a:lnTo>
                  <a:pt x="4141" y="5384"/>
                </a:lnTo>
                <a:lnTo>
                  <a:pt x="4177" y="5339"/>
                </a:lnTo>
                <a:lnTo>
                  <a:pt x="4211" y="5295"/>
                </a:lnTo>
                <a:lnTo>
                  <a:pt x="4244" y="5249"/>
                </a:lnTo>
                <a:lnTo>
                  <a:pt x="4276" y="5204"/>
                </a:lnTo>
                <a:lnTo>
                  <a:pt x="4308" y="5157"/>
                </a:lnTo>
                <a:lnTo>
                  <a:pt x="4337" y="5109"/>
                </a:lnTo>
                <a:lnTo>
                  <a:pt x="4366" y="5059"/>
                </a:lnTo>
                <a:lnTo>
                  <a:pt x="4393" y="5010"/>
                </a:lnTo>
                <a:lnTo>
                  <a:pt x="4420" y="4960"/>
                </a:lnTo>
                <a:lnTo>
                  <a:pt x="4445" y="4910"/>
                </a:lnTo>
                <a:lnTo>
                  <a:pt x="4469" y="4858"/>
                </a:lnTo>
                <a:lnTo>
                  <a:pt x="4492" y="4806"/>
                </a:lnTo>
                <a:lnTo>
                  <a:pt x="4514" y="4753"/>
                </a:lnTo>
                <a:lnTo>
                  <a:pt x="4534" y="4700"/>
                </a:lnTo>
                <a:lnTo>
                  <a:pt x="4553" y="4646"/>
                </a:lnTo>
                <a:lnTo>
                  <a:pt x="4571" y="4591"/>
                </a:lnTo>
                <a:lnTo>
                  <a:pt x="4587" y="4536"/>
                </a:lnTo>
                <a:lnTo>
                  <a:pt x="4603" y="4480"/>
                </a:lnTo>
                <a:lnTo>
                  <a:pt x="4616" y="4424"/>
                </a:lnTo>
                <a:lnTo>
                  <a:pt x="4629" y="4367"/>
                </a:lnTo>
                <a:lnTo>
                  <a:pt x="4640" y="4310"/>
                </a:lnTo>
                <a:lnTo>
                  <a:pt x="4648" y="4252"/>
                </a:lnTo>
                <a:lnTo>
                  <a:pt x="4657" y="4194"/>
                </a:lnTo>
                <a:lnTo>
                  <a:pt x="4664" y="4135"/>
                </a:lnTo>
                <a:lnTo>
                  <a:pt x="4669" y="4076"/>
                </a:lnTo>
                <a:lnTo>
                  <a:pt x="4673" y="4016"/>
                </a:lnTo>
                <a:lnTo>
                  <a:pt x="4676" y="3957"/>
                </a:lnTo>
                <a:lnTo>
                  <a:pt x="4676" y="3897"/>
                </a:lnTo>
                <a:close/>
                <a:moveTo>
                  <a:pt x="3835" y="4954"/>
                </a:moveTo>
                <a:lnTo>
                  <a:pt x="3835" y="4954"/>
                </a:lnTo>
                <a:lnTo>
                  <a:pt x="3807" y="4996"/>
                </a:lnTo>
                <a:lnTo>
                  <a:pt x="3778" y="5036"/>
                </a:lnTo>
                <a:lnTo>
                  <a:pt x="3747" y="5075"/>
                </a:lnTo>
                <a:lnTo>
                  <a:pt x="3715" y="5111"/>
                </a:lnTo>
                <a:lnTo>
                  <a:pt x="3683" y="5147"/>
                </a:lnTo>
                <a:lnTo>
                  <a:pt x="3649" y="5180"/>
                </a:lnTo>
                <a:lnTo>
                  <a:pt x="3614" y="5211"/>
                </a:lnTo>
                <a:lnTo>
                  <a:pt x="3578" y="5241"/>
                </a:lnTo>
                <a:lnTo>
                  <a:pt x="3543" y="5269"/>
                </a:lnTo>
                <a:lnTo>
                  <a:pt x="3506" y="5295"/>
                </a:lnTo>
                <a:lnTo>
                  <a:pt x="3467" y="5320"/>
                </a:lnTo>
                <a:lnTo>
                  <a:pt x="3429" y="5342"/>
                </a:lnTo>
                <a:lnTo>
                  <a:pt x="3390" y="5362"/>
                </a:lnTo>
                <a:lnTo>
                  <a:pt x="3350" y="5380"/>
                </a:lnTo>
                <a:lnTo>
                  <a:pt x="3311" y="5396"/>
                </a:lnTo>
                <a:lnTo>
                  <a:pt x="3271" y="5411"/>
                </a:lnTo>
                <a:lnTo>
                  <a:pt x="3230" y="5423"/>
                </a:lnTo>
                <a:lnTo>
                  <a:pt x="3190" y="5434"/>
                </a:lnTo>
                <a:lnTo>
                  <a:pt x="3150" y="5443"/>
                </a:lnTo>
                <a:lnTo>
                  <a:pt x="3109" y="5449"/>
                </a:lnTo>
                <a:lnTo>
                  <a:pt x="3069" y="5453"/>
                </a:lnTo>
                <a:lnTo>
                  <a:pt x="3029" y="5455"/>
                </a:lnTo>
                <a:lnTo>
                  <a:pt x="2989" y="5455"/>
                </a:lnTo>
                <a:lnTo>
                  <a:pt x="2949" y="5453"/>
                </a:lnTo>
                <a:lnTo>
                  <a:pt x="2911" y="5449"/>
                </a:lnTo>
                <a:lnTo>
                  <a:pt x="2871" y="5442"/>
                </a:lnTo>
                <a:lnTo>
                  <a:pt x="2833" y="5433"/>
                </a:lnTo>
                <a:lnTo>
                  <a:pt x="2796" y="5422"/>
                </a:lnTo>
                <a:lnTo>
                  <a:pt x="2759" y="5408"/>
                </a:lnTo>
                <a:lnTo>
                  <a:pt x="2722" y="5392"/>
                </a:lnTo>
                <a:lnTo>
                  <a:pt x="2687" y="5374"/>
                </a:lnTo>
                <a:lnTo>
                  <a:pt x="2653" y="5353"/>
                </a:lnTo>
                <a:lnTo>
                  <a:pt x="2620" y="5331"/>
                </a:lnTo>
                <a:lnTo>
                  <a:pt x="2589" y="5306"/>
                </a:lnTo>
                <a:lnTo>
                  <a:pt x="2559" y="5280"/>
                </a:lnTo>
                <a:lnTo>
                  <a:pt x="2532" y="5252"/>
                </a:lnTo>
                <a:lnTo>
                  <a:pt x="2506" y="5222"/>
                </a:lnTo>
                <a:lnTo>
                  <a:pt x="2481" y="5191"/>
                </a:lnTo>
                <a:lnTo>
                  <a:pt x="2459" y="5159"/>
                </a:lnTo>
                <a:lnTo>
                  <a:pt x="2439" y="5125"/>
                </a:lnTo>
                <a:lnTo>
                  <a:pt x="2421" y="5090"/>
                </a:lnTo>
                <a:lnTo>
                  <a:pt x="2404" y="5054"/>
                </a:lnTo>
                <a:lnTo>
                  <a:pt x="2389" y="5016"/>
                </a:lnTo>
                <a:lnTo>
                  <a:pt x="2376" y="4978"/>
                </a:lnTo>
                <a:lnTo>
                  <a:pt x="2365" y="4938"/>
                </a:lnTo>
                <a:lnTo>
                  <a:pt x="2355" y="4899"/>
                </a:lnTo>
                <a:lnTo>
                  <a:pt x="2348" y="4857"/>
                </a:lnTo>
                <a:lnTo>
                  <a:pt x="2343" y="4816"/>
                </a:lnTo>
                <a:lnTo>
                  <a:pt x="2339" y="4773"/>
                </a:lnTo>
                <a:lnTo>
                  <a:pt x="2338" y="4730"/>
                </a:lnTo>
                <a:lnTo>
                  <a:pt x="2338" y="4687"/>
                </a:lnTo>
                <a:lnTo>
                  <a:pt x="2341" y="4643"/>
                </a:lnTo>
                <a:lnTo>
                  <a:pt x="2346" y="4599"/>
                </a:lnTo>
                <a:lnTo>
                  <a:pt x="2352" y="4554"/>
                </a:lnTo>
                <a:lnTo>
                  <a:pt x="2359" y="4510"/>
                </a:lnTo>
                <a:lnTo>
                  <a:pt x="2370" y="4464"/>
                </a:lnTo>
                <a:lnTo>
                  <a:pt x="2381" y="4420"/>
                </a:lnTo>
                <a:lnTo>
                  <a:pt x="2396" y="4376"/>
                </a:lnTo>
                <a:lnTo>
                  <a:pt x="2412" y="4331"/>
                </a:lnTo>
                <a:lnTo>
                  <a:pt x="2431" y="4287"/>
                </a:lnTo>
                <a:lnTo>
                  <a:pt x="2450" y="4242"/>
                </a:lnTo>
                <a:lnTo>
                  <a:pt x="2473" y="4199"/>
                </a:lnTo>
                <a:lnTo>
                  <a:pt x="2496" y="4156"/>
                </a:lnTo>
                <a:lnTo>
                  <a:pt x="2523" y="4113"/>
                </a:lnTo>
                <a:lnTo>
                  <a:pt x="2550" y="4071"/>
                </a:lnTo>
                <a:lnTo>
                  <a:pt x="2580" y="4031"/>
                </a:lnTo>
                <a:lnTo>
                  <a:pt x="2611" y="3993"/>
                </a:lnTo>
                <a:lnTo>
                  <a:pt x="2642" y="3956"/>
                </a:lnTo>
                <a:lnTo>
                  <a:pt x="2675" y="3921"/>
                </a:lnTo>
                <a:lnTo>
                  <a:pt x="2708" y="3888"/>
                </a:lnTo>
                <a:lnTo>
                  <a:pt x="2744" y="3856"/>
                </a:lnTo>
                <a:lnTo>
                  <a:pt x="2780" y="3826"/>
                </a:lnTo>
                <a:lnTo>
                  <a:pt x="2816" y="3799"/>
                </a:lnTo>
                <a:lnTo>
                  <a:pt x="2853" y="3773"/>
                </a:lnTo>
                <a:lnTo>
                  <a:pt x="2891" y="3749"/>
                </a:lnTo>
                <a:lnTo>
                  <a:pt x="2929" y="3726"/>
                </a:lnTo>
                <a:lnTo>
                  <a:pt x="2969" y="3705"/>
                </a:lnTo>
                <a:lnTo>
                  <a:pt x="3007" y="3687"/>
                </a:lnTo>
                <a:lnTo>
                  <a:pt x="3048" y="3671"/>
                </a:lnTo>
                <a:lnTo>
                  <a:pt x="3087" y="3656"/>
                </a:lnTo>
                <a:lnTo>
                  <a:pt x="3128" y="3644"/>
                </a:lnTo>
                <a:lnTo>
                  <a:pt x="3167" y="3634"/>
                </a:lnTo>
                <a:lnTo>
                  <a:pt x="3208" y="3625"/>
                </a:lnTo>
                <a:lnTo>
                  <a:pt x="3249" y="3619"/>
                </a:lnTo>
                <a:lnTo>
                  <a:pt x="3290" y="3614"/>
                </a:lnTo>
                <a:lnTo>
                  <a:pt x="3329" y="3612"/>
                </a:lnTo>
                <a:lnTo>
                  <a:pt x="3369" y="3612"/>
                </a:lnTo>
                <a:lnTo>
                  <a:pt x="3408" y="3614"/>
                </a:lnTo>
                <a:lnTo>
                  <a:pt x="3448" y="3619"/>
                </a:lnTo>
                <a:lnTo>
                  <a:pt x="3487" y="3625"/>
                </a:lnTo>
                <a:lnTo>
                  <a:pt x="3525" y="3634"/>
                </a:lnTo>
                <a:lnTo>
                  <a:pt x="3562" y="3646"/>
                </a:lnTo>
                <a:lnTo>
                  <a:pt x="3599" y="3660"/>
                </a:lnTo>
                <a:lnTo>
                  <a:pt x="3635" y="3675"/>
                </a:lnTo>
                <a:lnTo>
                  <a:pt x="3671" y="3693"/>
                </a:lnTo>
                <a:lnTo>
                  <a:pt x="3706" y="3714"/>
                </a:lnTo>
                <a:lnTo>
                  <a:pt x="3739" y="3736"/>
                </a:lnTo>
                <a:lnTo>
                  <a:pt x="3770" y="3761"/>
                </a:lnTo>
                <a:lnTo>
                  <a:pt x="3799" y="3788"/>
                </a:lnTo>
                <a:lnTo>
                  <a:pt x="3826" y="3815"/>
                </a:lnTo>
                <a:lnTo>
                  <a:pt x="3852" y="3845"/>
                </a:lnTo>
                <a:lnTo>
                  <a:pt x="3877" y="3876"/>
                </a:lnTo>
                <a:lnTo>
                  <a:pt x="3899" y="3909"/>
                </a:lnTo>
                <a:lnTo>
                  <a:pt x="3919" y="3942"/>
                </a:lnTo>
                <a:lnTo>
                  <a:pt x="3938" y="3977"/>
                </a:lnTo>
                <a:lnTo>
                  <a:pt x="3955" y="4014"/>
                </a:lnTo>
                <a:lnTo>
                  <a:pt x="3970" y="4051"/>
                </a:lnTo>
                <a:lnTo>
                  <a:pt x="3982" y="4089"/>
                </a:lnTo>
                <a:lnTo>
                  <a:pt x="3993" y="4129"/>
                </a:lnTo>
                <a:lnTo>
                  <a:pt x="4002" y="4169"/>
                </a:lnTo>
                <a:lnTo>
                  <a:pt x="4009" y="4210"/>
                </a:lnTo>
                <a:lnTo>
                  <a:pt x="4015" y="4252"/>
                </a:lnTo>
                <a:lnTo>
                  <a:pt x="4018" y="4294"/>
                </a:lnTo>
                <a:lnTo>
                  <a:pt x="4020" y="4337"/>
                </a:lnTo>
                <a:lnTo>
                  <a:pt x="4019" y="4380"/>
                </a:lnTo>
                <a:lnTo>
                  <a:pt x="4017" y="4425"/>
                </a:lnTo>
                <a:lnTo>
                  <a:pt x="4013" y="4468"/>
                </a:lnTo>
                <a:lnTo>
                  <a:pt x="4007" y="4513"/>
                </a:lnTo>
                <a:lnTo>
                  <a:pt x="3998" y="4558"/>
                </a:lnTo>
                <a:lnTo>
                  <a:pt x="3988" y="4603"/>
                </a:lnTo>
                <a:lnTo>
                  <a:pt x="3976" y="4647"/>
                </a:lnTo>
                <a:lnTo>
                  <a:pt x="3962" y="4691"/>
                </a:lnTo>
                <a:lnTo>
                  <a:pt x="3946" y="4737"/>
                </a:lnTo>
                <a:lnTo>
                  <a:pt x="3928" y="4780"/>
                </a:lnTo>
                <a:lnTo>
                  <a:pt x="3908" y="4825"/>
                </a:lnTo>
                <a:lnTo>
                  <a:pt x="3886" y="4869"/>
                </a:lnTo>
                <a:lnTo>
                  <a:pt x="3861" y="4912"/>
                </a:lnTo>
                <a:lnTo>
                  <a:pt x="3835" y="49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4" name="KSO_Shape" descr=""/>
          <p:cNvPicPr/>
          <p:nvPr/>
        </p:nvPicPr>
        <p:blipFill>
          <a:blip r:embed="rId1"/>
          <a:stretch/>
        </p:blipFill>
        <p:spPr>
          <a:xfrm>
            <a:off x="1336680" y="1031760"/>
            <a:ext cx="5807160" cy="4861080"/>
          </a:xfrm>
          <a:prstGeom prst="rect">
            <a:avLst/>
          </a:prstGeom>
          <a:ln w="0">
            <a:noFill/>
          </a:ln>
        </p:spPr>
      </p:pic>
      <p:sp>
        <p:nvSpPr>
          <p:cNvPr id="695" name="矩形 1"/>
          <p:cNvSpPr/>
          <p:nvPr/>
        </p:nvSpPr>
        <p:spPr>
          <a:xfrm>
            <a:off x="8613720" y="197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6" name="矩形 35"/>
          <p:cNvSpPr/>
          <p:nvPr/>
        </p:nvSpPr>
        <p:spPr>
          <a:xfrm>
            <a:off x="9032040" y="160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7" name="矩形 1"/>
          <p:cNvSpPr/>
          <p:nvPr/>
        </p:nvSpPr>
        <p:spPr>
          <a:xfrm>
            <a:off x="8613720" y="31352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698" name="矩形 41"/>
          <p:cNvSpPr/>
          <p:nvPr/>
        </p:nvSpPr>
        <p:spPr>
          <a:xfrm>
            <a:off x="9032040" y="27637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
        <p:nvSpPr>
          <p:cNvPr id="699" name="矩形 1"/>
          <p:cNvSpPr/>
          <p:nvPr/>
        </p:nvSpPr>
        <p:spPr>
          <a:xfrm>
            <a:off x="8613720" y="4313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Calibri"/>
            </a:endParaRPr>
          </a:p>
        </p:txBody>
      </p:sp>
      <p:sp>
        <p:nvSpPr>
          <p:cNvPr id="700" name="矩形 43"/>
          <p:cNvSpPr/>
          <p:nvPr/>
        </p:nvSpPr>
        <p:spPr>
          <a:xfrm>
            <a:off x="9032040" y="3943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09da7"/>
                </a:solidFill>
                <a:latin typeface="微软雅黑"/>
                <a:ea typeface="微软雅黑"/>
              </a:rPr>
              <a:t>点击添加文字说明</a:t>
            </a:r>
            <a:endParaRPr b="0" lang="en-US" sz="2000" spc="-1" strike="noStrike">
              <a:solidFill>
                <a:srgbClr val="000000"/>
              </a:solidFill>
              <a:latin typeface="Calibri"/>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组合 1" descr=""/>
          <p:cNvPicPr/>
          <p:nvPr/>
        </p:nvPicPr>
        <p:blipFill>
          <a:blip r:embed="rId1"/>
          <a:stretch/>
        </p:blipFill>
        <p:spPr>
          <a:xfrm>
            <a:off x="878040" y="1193760"/>
            <a:ext cx="10078920" cy="5095800"/>
          </a:xfrm>
          <a:prstGeom prst="rect">
            <a:avLst/>
          </a:prstGeom>
          <a:ln w="0">
            <a:noFill/>
          </a:ln>
        </p:spPr>
      </p:pic>
      <p:sp>
        <p:nvSpPr>
          <p:cNvPr id="702" name="椭圆 174"/>
          <p:cNvSpPr/>
          <p:nvPr/>
        </p:nvSpPr>
        <p:spPr>
          <a:xfrm>
            <a:off x="3087720" y="2616120"/>
            <a:ext cx="914400" cy="914400"/>
          </a:xfrm>
          <a:prstGeom prst="ellipse">
            <a:avLst/>
          </a:prstGeom>
          <a:solidFill>
            <a:srgbClr val="179a44">
              <a:alpha val="50000"/>
            </a:srgbClr>
          </a:solidFill>
          <a:ln w="28440">
            <a:solidFill>
              <a:srgbClr val="179a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0%</a:t>
            </a:r>
            <a:endParaRPr b="0" lang="en-US" sz="1800" spc="-1" strike="noStrike">
              <a:solidFill>
                <a:srgbClr val="000000"/>
              </a:solidFill>
              <a:latin typeface="Calibri"/>
            </a:endParaRPr>
          </a:p>
        </p:txBody>
      </p:sp>
      <p:sp>
        <p:nvSpPr>
          <p:cNvPr id="703" name="椭圆 175"/>
          <p:cNvSpPr/>
          <p:nvPr/>
        </p:nvSpPr>
        <p:spPr>
          <a:xfrm>
            <a:off x="4192560" y="4361040"/>
            <a:ext cx="601560" cy="601560"/>
          </a:xfrm>
          <a:prstGeom prst="ellipse">
            <a:avLst/>
          </a:prstGeom>
          <a:solidFill>
            <a:srgbClr val="faaf3b">
              <a:alpha val="50000"/>
            </a:srgbClr>
          </a:solidFill>
          <a:ln w="28440">
            <a:solidFill>
              <a:srgbClr val="faaf3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10%</a:t>
            </a:r>
            <a:endParaRPr b="0" lang="en-US" sz="1100" spc="-1" strike="noStrike">
              <a:solidFill>
                <a:srgbClr val="000000"/>
              </a:solidFill>
              <a:latin typeface="Calibri"/>
            </a:endParaRPr>
          </a:p>
        </p:txBody>
      </p:sp>
      <p:sp>
        <p:nvSpPr>
          <p:cNvPr id="704" name="椭圆 176"/>
          <p:cNvSpPr/>
          <p:nvPr/>
        </p:nvSpPr>
        <p:spPr>
          <a:xfrm>
            <a:off x="9540720" y="5246640"/>
            <a:ext cx="365400" cy="363600"/>
          </a:xfrm>
          <a:prstGeom prst="ellipse">
            <a:avLst/>
          </a:prstGeom>
          <a:solidFill>
            <a:srgbClr val="f05a24">
              <a:alpha val="50000"/>
            </a:srgbClr>
          </a:solidFill>
          <a:ln w="2844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椭圆 177"/>
          <p:cNvSpPr/>
          <p:nvPr/>
        </p:nvSpPr>
        <p:spPr>
          <a:xfrm>
            <a:off x="7677000" y="2416320"/>
            <a:ext cx="1632240" cy="1630080"/>
          </a:xfrm>
          <a:prstGeom prst="ellipse">
            <a:avLst/>
          </a:prstGeom>
          <a:solidFill>
            <a:srgbClr val="ae73cb">
              <a:alpha val="50000"/>
            </a:srgbClr>
          </a:solidFill>
          <a:ln w="28440">
            <a:solidFill>
              <a:srgbClr val="ae73c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a:t>
            </a:r>
            <a:endParaRPr b="0" lang="en-US" sz="3200" spc="-1" strike="noStrike">
              <a:solidFill>
                <a:srgbClr val="000000"/>
              </a:solidFill>
              <a:latin typeface="Calibri"/>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文本框 1"/>
          <p:cNvSpPr/>
          <p:nvPr/>
        </p:nvSpPr>
        <p:spPr>
          <a:xfrm>
            <a:off x="1578960" y="14158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e73cb"/>
                </a:solidFill>
                <a:latin typeface="微软雅黑"/>
                <a:ea typeface="微软雅黑"/>
              </a:rPr>
              <a:t>章节目录修改及调整方法：</a:t>
            </a:r>
            <a:endParaRPr b="0" lang="en-US" sz="2000" spc="-1" strike="noStrike">
              <a:solidFill>
                <a:srgbClr val="000000"/>
              </a:solidFill>
              <a:latin typeface="Calibri"/>
            </a:endParaRPr>
          </a:p>
        </p:txBody>
      </p:sp>
      <p:sp>
        <p:nvSpPr>
          <p:cNvPr id="707" name="文本框 2"/>
          <p:cNvSpPr/>
          <p:nvPr/>
        </p:nvSpPr>
        <p:spPr>
          <a:xfrm>
            <a:off x="1268280" y="21049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179a4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9a44"/>
                </a:solidFill>
                <a:latin typeface="微软雅黑"/>
                <a:ea typeface="微软雅黑"/>
              </a:rPr>
              <a:t>目录修改：</a:t>
            </a:r>
            <a:endParaRPr b="0" lang="en-US" sz="2400" spc="-1" strike="noStrike">
              <a:solidFill>
                <a:srgbClr val="000000"/>
              </a:solidFill>
              <a:latin typeface="Calibri"/>
            </a:endParaRPr>
          </a:p>
        </p:txBody>
      </p:sp>
      <p:sp>
        <p:nvSpPr>
          <p:cNvPr id="708" name="文本框 3"/>
          <p:cNvSpPr/>
          <p:nvPr/>
        </p:nvSpPr>
        <p:spPr>
          <a:xfrm>
            <a:off x="1268280" y="4511520"/>
            <a:ext cx="14382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62c4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2c4bc"/>
                </a:solidFill>
                <a:latin typeface="微软雅黑"/>
                <a:ea typeface="微软雅黑"/>
              </a:rPr>
              <a:t>目录调整：</a:t>
            </a:r>
            <a:endParaRPr b="0" lang="en-US" sz="2400" spc="-1" strike="noStrike">
              <a:solidFill>
                <a:srgbClr val="000000"/>
              </a:solidFill>
              <a:latin typeface="Calibri"/>
            </a:endParaRPr>
          </a:p>
        </p:txBody>
      </p:sp>
      <p:sp>
        <p:nvSpPr>
          <p:cNvPr id="709" name="文本框 5"/>
          <p:cNvSpPr/>
          <p:nvPr/>
        </p:nvSpPr>
        <p:spPr>
          <a:xfrm>
            <a:off x="2781000" y="5041800"/>
            <a:ext cx="442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05a24"/>
                </a:solidFill>
                <a:latin typeface="微软雅黑"/>
                <a:ea typeface="微软雅黑"/>
              </a:rPr>
              <a:t>选中左侧缩略图文件 </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右键“版式”</a:t>
            </a:r>
            <a:r>
              <a:rPr b="0" lang="en-US" sz="2000" spc="-1" strike="noStrike">
                <a:solidFill>
                  <a:srgbClr val="f05a24"/>
                </a:solidFill>
                <a:latin typeface="微软雅黑"/>
                <a:ea typeface="微软雅黑"/>
              </a:rPr>
              <a:t>— </a:t>
            </a:r>
            <a:r>
              <a:rPr b="0" lang="zh-CN" sz="2000" spc="-1" strike="noStrike">
                <a:solidFill>
                  <a:srgbClr val="f05a24"/>
                </a:solidFill>
                <a:latin typeface="微软雅黑"/>
                <a:ea typeface="微软雅黑"/>
              </a:rPr>
              <a:t>选择需要调整的版式</a:t>
            </a:r>
            <a:endParaRPr b="0" lang="en-US" sz="2000" spc="-1" strike="noStrike">
              <a:solidFill>
                <a:srgbClr val="000000"/>
              </a:solidFill>
              <a:latin typeface="Calibri"/>
            </a:endParaRPr>
          </a:p>
        </p:txBody>
      </p:sp>
      <p:grpSp>
        <p:nvGrpSpPr>
          <p:cNvPr id="710" name="组合 11"/>
          <p:cNvGrpSpPr/>
          <p:nvPr/>
        </p:nvGrpSpPr>
        <p:grpSpPr>
          <a:xfrm>
            <a:off x="1434960" y="2468520"/>
            <a:ext cx="9804600" cy="1741680"/>
            <a:chOff x="1434960" y="2468520"/>
            <a:chExt cx="9804600" cy="1741680"/>
          </a:xfrm>
        </p:grpSpPr>
        <p:pic>
          <p:nvPicPr>
            <p:cNvPr id="711" name="图片 4" descr=""/>
            <p:cNvPicPr/>
            <p:nvPr/>
          </p:nvPicPr>
          <p:blipFill>
            <a:blip r:embed="rId1"/>
            <a:stretch/>
          </p:blipFill>
          <p:spPr>
            <a:xfrm>
              <a:off x="1434960" y="2648880"/>
              <a:ext cx="9804600" cy="1561320"/>
            </a:xfrm>
            <a:prstGeom prst="rect">
              <a:avLst/>
            </a:prstGeom>
            <a:ln w="0">
              <a:noFill/>
            </a:ln>
          </p:spPr>
        </p:pic>
        <p:sp>
          <p:nvSpPr>
            <p:cNvPr id="712" name="矩形 6"/>
            <p:cNvSpPr/>
            <p:nvPr/>
          </p:nvSpPr>
          <p:spPr>
            <a:xfrm>
              <a:off x="7873920" y="2757240"/>
              <a:ext cx="582480" cy="461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3" name="矩形 7"/>
            <p:cNvSpPr/>
            <p:nvPr/>
          </p:nvSpPr>
          <p:spPr>
            <a:xfrm>
              <a:off x="4362120" y="3198960"/>
              <a:ext cx="801720" cy="812880"/>
            </a:xfrm>
            <a:prstGeom prst="rect">
              <a:avLst/>
            </a:prstGeom>
            <a:solidFill>
              <a:srgbClr val="9f6633">
                <a:alpha val="37000"/>
              </a:srgbClr>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4" name="椭圆 8"/>
            <p:cNvSpPr/>
            <p:nvPr/>
          </p:nvSpPr>
          <p:spPr>
            <a:xfrm>
              <a:off x="7996320" y="2468520"/>
              <a:ext cx="338040" cy="33804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715" name="椭圆 9"/>
            <p:cNvSpPr/>
            <p:nvPr/>
          </p:nvSpPr>
          <p:spPr>
            <a:xfrm>
              <a:off x="4593960" y="2922480"/>
              <a:ext cx="338040" cy="339480"/>
            </a:xfrm>
            <a:prstGeom prst="ellipse">
              <a:avLst/>
            </a:prstGeom>
            <a:solidFill>
              <a:srgbClr val="9f6633"/>
            </a:solidFill>
            <a:ln w="12600">
              <a:solidFill>
                <a:srgbClr val="9f66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矩形 5"/>
          <p:cNvSpPr/>
          <p:nvPr/>
        </p:nvSpPr>
        <p:spPr>
          <a:xfrm>
            <a:off x="3221640" y="6089760"/>
            <a:ext cx="63676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142920"/>
                <a:tab algn="l" pos="107964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导师：达人</a:t>
            </a:r>
            <a:r>
              <a:rPr b="0" lang="zh-CN" sz="1800" spc="-1" strike="noStrike">
                <a:solidFill>
                  <a:srgbClr val="ffffff"/>
                </a:solidFill>
                <a:latin typeface="微软雅黑"/>
                <a:ea typeface="微软雅黑"/>
              </a:rPr>
              <a:t>ppt</a:t>
            </a:r>
            <a:r>
              <a:rPr b="0" lang="zh-CN" sz="1800" spc="-1" strike="noStrike">
                <a:solidFill>
                  <a:srgbClr val="ffffff"/>
                </a:solidFill>
                <a:latin typeface="微软雅黑"/>
                <a:ea typeface="微软雅黑"/>
              </a:rPr>
              <a:t>模板素材    答辩人：理工大    时间：</a:t>
            </a:r>
            <a:r>
              <a:rPr b="0" lang="en-US" sz="1800" spc="-1" strike="noStrike">
                <a:solidFill>
                  <a:srgbClr val="ffffff"/>
                </a:solidFill>
                <a:latin typeface="微软雅黑"/>
                <a:ea typeface="微软雅黑"/>
              </a:rPr>
              <a:t>2015.03.24  </a:t>
            </a:r>
            <a:r>
              <a:rPr b="0" lang="zh-CN" sz="1800" spc="-1" strike="noStrike">
                <a:solidFill>
                  <a:srgbClr val="ffffff"/>
                </a:solidFill>
                <a:latin typeface="微软雅黑"/>
                <a:ea typeface="微软雅黑"/>
              </a:rPr>
              <a:t>专业：工程机械专业</a:t>
            </a:r>
            <a:endParaRPr b="0" lang="en-US" sz="1800" spc="-1" strike="noStrike">
              <a:solidFill>
                <a:srgbClr val="000000"/>
              </a:solidFill>
              <a:latin typeface="Calibri"/>
            </a:endParaRPr>
          </a:p>
        </p:txBody>
      </p:sp>
      <p:sp>
        <p:nvSpPr>
          <p:cNvPr id="717" name="矩形 6"/>
          <p:cNvSpPr/>
          <p:nvPr/>
        </p:nvSpPr>
        <p:spPr>
          <a:xfrm>
            <a:off x="2538000" y="366876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
        <p:nvSpPr>
          <p:cNvPr id="718" name="矩形 8"/>
          <p:cNvSpPr/>
          <p:nvPr/>
        </p:nvSpPr>
        <p:spPr>
          <a:xfrm>
            <a:off x="3296160" y="4129200"/>
            <a:ext cx="559944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开题报告、论文答辩</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               </a:t>
            </a:r>
            <a:r>
              <a:rPr b="1" lang="zh-CN" sz="4000" spc="-1" strike="noStrike">
                <a:solidFill>
                  <a:srgbClr val="ffffff"/>
                </a:solidFill>
                <a:latin typeface="微软雅黑"/>
                <a:ea typeface="微软雅黑"/>
              </a:rPr>
              <a:t>学术类通用</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版</a:t>
            </a:r>
            <a:endParaRPr b="0" lang="en-US" sz="4000" spc="-1" strike="noStrike">
              <a:solidFill>
                <a:srgbClr val="000000"/>
              </a:solidFill>
              <a:latin typeface="Calibri"/>
            </a:endParaRPr>
          </a:p>
        </p:txBody>
      </p:sp>
      <p:sp>
        <p:nvSpPr>
          <p:cNvPr id="719" name="矩形 9"/>
          <p:cNvSpPr/>
          <p:nvPr/>
        </p:nvSpPr>
        <p:spPr>
          <a:xfrm>
            <a:off x="5012280" y="5384880"/>
            <a:ext cx="4388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cademic Papers Powerpoint Template</a:t>
            </a:r>
            <a:endParaRPr b="0" lang="en-US" sz="1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椭圆 2"/>
          <p:cNvSpPr/>
          <p:nvPr/>
        </p:nvSpPr>
        <p:spPr>
          <a:xfrm>
            <a:off x="885960" y="2163600"/>
            <a:ext cx="2558880" cy="2559240"/>
          </a:xfrm>
          <a:prstGeom prst="ellipse">
            <a:avLst/>
          </a:prstGeom>
          <a:noFill/>
          <a:ln w="7632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直接连接符 3"/>
          <p:cNvSpPr/>
          <p:nvPr/>
        </p:nvSpPr>
        <p:spPr>
          <a:xfrm>
            <a:off x="3444840" y="3443400"/>
            <a:ext cx="361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椭圆 4"/>
          <p:cNvSpPr/>
          <p:nvPr/>
        </p:nvSpPr>
        <p:spPr>
          <a:xfrm>
            <a:off x="7059600" y="2882880"/>
            <a:ext cx="1119240" cy="1120680"/>
          </a:xfrm>
          <a:prstGeom prst="ellipse">
            <a:avLst/>
          </a:pr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直接连接符 5"/>
          <p:cNvSpPr/>
          <p:nvPr/>
        </p:nvSpPr>
        <p:spPr>
          <a:xfrm flipV="1">
            <a:off x="7620120" y="2010960"/>
            <a:ext cx="0" cy="87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直接连接符 6"/>
          <p:cNvSpPr/>
          <p:nvPr/>
        </p:nvSpPr>
        <p:spPr>
          <a:xfrm flipV="1">
            <a:off x="8015400" y="2400480"/>
            <a:ext cx="668160" cy="64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直接连接符 7"/>
          <p:cNvSpPr/>
          <p:nvPr/>
        </p:nvSpPr>
        <p:spPr>
          <a:xfrm>
            <a:off x="8015400" y="3838680"/>
            <a:ext cx="712800" cy="69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直接连接符 8"/>
          <p:cNvSpPr/>
          <p:nvPr/>
        </p:nvSpPr>
        <p:spPr>
          <a:xfrm>
            <a:off x="7620120" y="4003560"/>
            <a:ext cx="11160" cy="843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直接连接符 9"/>
          <p:cNvSpPr/>
          <p:nvPr/>
        </p:nvSpPr>
        <p:spPr>
          <a:xfrm flipH="1">
            <a:off x="6539040" y="3838680"/>
            <a:ext cx="684000" cy="64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直接连接符 10"/>
          <p:cNvSpPr/>
          <p:nvPr/>
        </p:nvSpPr>
        <p:spPr>
          <a:xfrm flipH="1" flipV="1">
            <a:off x="6564240" y="2387520"/>
            <a:ext cx="658800" cy="65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椭圆 11"/>
          <p:cNvSpPr/>
          <p:nvPr/>
        </p:nvSpPr>
        <p:spPr>
          <a:xfrm>
            <a:off x="5970600" y="1822320"/>
            <a:ext cx="682560" cy="681120"/>
          </a:xfrm>
          <a:prstGeom prst="ellipse">
            <a:avLst/>
          </a:prstGeom>
          <a:noFill/>
          <a:ln w="12600">
            <a:solidFill>
              <a:srgbClr val="f6921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椭圆 12"/>
          <p:cNvSpPr/>
          <p:nvPr/>
        </p:nvSpPr>
        <p:spPr>
          <a:xfrm>
            <a:off x="7278840" y="1330200"/>
            <a:ext cx="68256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椭圆 13"/>
          <p:cNvSpPr/>
          <p:nvPr/>
        </p:nvSpPr>
        <p:spPr>
          <a:xfrm>
            <a:off x="8577360" y="1809720"/>
            <a:ext cx="682560" cy="682560"/>
          </a:xfrm>
          <a:prstGeom prst="ellipse">
            <a:avLst/>
          </a:prstGeom>
          <a:noFill/>
          <a:ln w="12600">
            <a:solidFill>
              <a:srgbClr val="66a1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椭圆 14"/>
          <p:cNvSpPr/>
          <p:nvPr/>
        </p:nvSpPr>
        <p:spPr>
          <a:xfrm>
            <a:off x="8623440" y="4429080"/>
            <a:ext cx="680760" cy="682560"/>
          </a:xfrm>
          <a:prstGeom prst="ellipse">
            <a:avLst/>
          </a:prstGeom>
          <a:noFill/>
          <a:ln w="12600">
            <a:solidFill>
              <a:srgbClr val="609d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椭圆 15"/>
          <p:cNvSpPr/>
          <p:nvPr/>
        </p:nvSpPr>
        <p:spPr>
          <a:xfrm>
            <a:off x="7289640" y="4846680"/>
            <a:ext cx="682920" cy="681120"/>
          </a:xfrm>
          <a:prstGeom prst="ellipse">
            <a:avLst/>
          </a:pr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椭圆 16"/>
          <p:cNvSpPr/>
          <p:nvPr/>
        </p:nvSpPr>
        <p:spPr>
          <a:xfrm>
            <a:off x="5956200" y="4381560"/>
            <a:ext cx="682560" cy="6825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椭圆 22"/>
          <p:cNvSpPr/>
          <p:nvPr/>
        </p:nvSpPr>
        <p:spPr>
          <a:xfrm>
            <a:off x="9021600" y="3098880"/>
            <a:ext cx="681120" cy="682560"/>
          </a:xfrm>
          <a:prstGeom prst="ellipse">
            <a:avLst/>
          </a:prstGeom>
          <a:solidFill>
            <a:srgbClr val="f05a24"/>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直接连接符 30"/>
          <p:cNvSpPr/>
          <p:nvPr/>
        </p:nvSpPr>
        <p:spPr>
          <a:xfrm flipV="1">
            <a:off x="8178840" y="3439800"/>
            <a:ext cx="84276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Calibri"/>
            </a:endParaRPr>
          </a:p>
        </p:txBody>
      </p:sp>
      <p:sp>
        <p:nvSpPr>
          <p:cNvPr id="240" name="直接连接符 31"/>
          <p:cNvSpPr/>
          <p:nvPr/>
        </p:nvSpPr>
        <p:spPr>
          <a:xfrm>
            <a:off x="9710640" y="3443400"/>
            <a:ext cx="909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椭圆 32"/>
          <p:cNvSpPr/>
          <p:nvPr/>
        </p:nvSpPr>
        <p:spPr>
          <a:xfrm>
            <a:off x="10623600" y="3098880"/>
            <a:ext cx="682560" cy="682560"/>
          </a:xfrm>
          <a:prstGeom prst="ellipse">
            <a:avLst/>
          </a:prstGeom>
          <a:solidFill>
            <a:srgbClr val="00914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直接连接符 34"/>
          <p:cNvSpPr/>
          <p:nvPr/>
        </p:nvSpPr>
        <p:spPr>
          <a:xfrm flipV="1">
            <a:off x="9363240" y="232416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椭圆 35"/>
          <p:cNvSpPr/>
          <p:nvPr/>
        </p:nvSpPr>
        <p:spPr>
          <a:xfrm>
            <a:off x="9969480" y="1741320"/>
            <a:ext cx="682560" cy="68292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直接连接符 37"/>
          <p:cNvSpPr/>
          <p:nvPr/>
        </p:nvSpPr>
        <p:spPr>
          <a:xfrm>
            <a:off x="9372600" y="3781440"/>
            <a:ext cx="70632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椭圆 38"/>
          <p:cNvSpPr/>
          <p:nvPr/>
        </p:nvSpPr>
        <p:spPr>
          <a:xfrm flipV="1">
            <a:off x="9979200" y="4456080"/>
            <a:ext cx="682560" cy="68256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文本框 48"/>
          <p:cNvSpPr/>
          <p:nvPr/>
        </p:nvSpPr>
        <p:spPr>
          <a:xfrm>
            <a:off x="3556080" y="3033720"/>
            <a:ext cx="297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Calibri"/>
            </a:endParaRPr>
          </a:p>
        </p:txBody>
      </p:sp>
      <p:sp>
        <p:nvSpPr>
          <p:cNvPr id="247" name="矩形 49"/>
          <p:cNvSpPr/>
          <p:nvPr/>
        </p:nvSpPr>
        <p:spPr>
          <a:xfrm>
            <a:off x="3435480" y="3498840"/>
            <a:ext cx="3368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微软雅黑"/>
                <a:ea typeface="微软雅黑"/>
              </a:rPr>
              <a:t>This is an example text.</a:t>
            </a:r>
            <a:r>
              <a:rPr b="0" lang="ru-RU" sz="1200" spc="-1" strike="noStrike">
                <a:solidFill>
                  <a:srgbClr val="404040"/>
                </a:solidFill>
                <a:latin typeface="微软雅黑"/>
                <a:ea typeface="微软雅黑"/>
              </a:rPr>
              <a:t> </a:t>
            </a:r>
            <a:r>
              <a:rPr b="0" lang="en-US" sz="1200" spc="-1" strike="noStrike">
                <a:solidFill>
                  <a:srgbClr val="404040"/>
                </a:solidFill>
                <a:latin typeface="微软雅黑"/>
                <a:ea typeface="微软雅黑"/>
              </a:rPr>
              <a:t>Go ahead and replace it with your own text. </a:t>
            </a:r>
            <a:endParaRPr b="0" lang="en-US" sz="1200" spc="-1" strike="noStrike">
              <a:solidFill>
                <a:srgbClr val="000000"/>
              </a:solidFill>
              <a:latin typeface="Calibri"/>
            </a:endParaRPr>
          </a:p>
        </p:txBody>
      </p:sp>
      <p:sp>
        <p:nvSpPr>
          <p:cNvPr id="248" name="KSO_Shape"/>
          <p:cNvSpPr/>
          <p:nvPr/>
        </p:nvSpPr>
        <p:spPr>
          <a:xfrm>
            <a:off x="7386480" y="3083040"/>
            <a:ext cx="465120" cy="698400"/>
          </a:xfrm>
          <a:custGeom>
            <a:avLst/>
            <a:gdLst/>
            <a:ahLst/>
            <a:rect l="l" t="t" r="r" b="b"/>
            <a:pathLst>
              <a:path w="1357313" h="2041525">
                <a:moveTo>
                  <a:pt x="550334" y="1339850"/>
                </a:moveTo>
                <a:lnTo>
                  <a:pt x="806980" y="1339850"/>
                </a:lnTo>
                <a:lnTo>
                  <a:pt x="827353" y="1358335"/>
                </a:lnTo>
                <a:lnTo>
                  <a:pt x="846138" y="1376291"/>
                </a:lnTo>
                <a:lnTo>
                  <a:pt x="864130" y="1393983"/>
                </a:lnTo>
                <a:lnTo>
                  <a:pt x="880799" y="1411676"/>
                </a:lnTo>
                <a:lnTo>
                  <a:pt x="896674" y="1428840"/>
                </a:lnTo>
                <a:lnTo>
                  <a:pt x="911490" y="1445476"/>
                </a:lnTo>
                <a:lnTo>
                  <a:pt x="925249" y="1462376"/>
                </a:lnTo>
                <a:lnTo>
                  <a:pt x="938213" y="1479012"/>
                </a:lnTo>
                <a:lnTo>
                  <a:pt x="950120" y="1495120"/>
                </a:lnTo>
                <a:lnTo>
                  <a:pt x="955940" y="1503570"/>
                </a:lnTo>
                <a:lnTo>
                  <a:pt x="961232" y="1511756"/>
                </a:lnTo>
                <a:lnTo>
                  <a:pt x="966259" y="1519942"/>
                </a:lnTo>
                <a:lnTo>
                  <a:pt x="971286" y="1527863"/>
                </a:lnTo>
                <a:lnTo>
                  <a:pt x="976049" y="1535785"/>
                </a:lnTo>
                <a:lnTo>
                  <a:pt x="980547" y="1543971"/>
                </a:lnTo>
                <a:lnTo>
                  <a:pt x="985045" y="1552157"/>
                </a:lnTo>
                <a:lnTo>
                  <a:pt x="989278" y="1560343"/>
                </a:lnTo>
                <a:lnTo>
                  <a:pt x="993247" y="1568265"/>
                </a:lnTo>
                <a:lnTo>
                  <a:pt x="996951" y="1576451"/>
                </a:lnTo>
                <a:lnTo>
                  <a:pt x="1000391" y="1584637"/>
                </a:lnTo>
                <a:lnTo>
                  <a:pt x="1003830" y="1592823"/>
                </a:lnTo>
                <a:lnTo>
                  <a:pt x="1007005" y="1601273"/>
                </a:lnTo>
                <a:lnTo>
                  <a:pt x="1010180" y="1609195"/>
                </a:lnTo>
                <a:lnTo>
                  <a:pt x="1013355" y="1620286"/>
                </a:lnTo>
                <a:lnTo>
                  <a:pt x="1017059" y="1632697"/>
                </a:lnTo>
                <a:lnTo>
                  <a:pt x="1020764" y="1647484"/>
                </a:lnTo>
                <a:lnTo>
                  <a:pt x="1024203" y="1663592"/>
                </a:lnTo>
                <a:lnTo>
                  <a:pt x="1027643" y="1681284"/>
                </a:lnTo>
                <a:lnTo>
                  <a:pt x="1031347" y="1700297"/>
                </a:lnTo>
                <a:lnTo>
                  <a:pt x="1034786" y="1721158"/>
                </a:lnTo>
                <a:lnTo>
                  <a:pt x="1038226" y="1743075"/>
                </a:lnTo>
                <a:lnTo>
                  <a:pt x="319088" y="1743075"/>
                </a:lnTo>
                <a:lnTo>
                  <a:pt x="322528" y="1721158"/>
                </a:lnTo>
                <a:lnTo>
                  <a:pt x="325967" y="1700297"/>
                </a:lnTo>
                <a:lnTo>
                  <a:pt x="329407" y="1681284"/>
                </a:lnTo>
                <a:lnTo>
                  <a:pt x="332846" y="1663592"/>
                </a:lnTo>
                <a:lnTo>
                  <a:pt x="336551" y="1647484"/>
                </a:lnTo>
                <a:lnTo>
                  <a:pt x="339990" y="1632697"/>
                </a:lnTo>
                <a:lnTo>
                  <a:pt x="343694" y="1620286"/>
                </a:lnTo>
                <a:lnTo>
                  <a:pt x="347398" y="1609195"/>
                </a:lnTo>
                <a:lnTo>
                  <a:pt x="350309" y="1601273"/>
                </a:lnTo>
                <a:lnTo>
                  <a:pt x="353484" y="1592823"/>
                </a:lnTo>
                <a:lnTo>
                  <a:pt x="356923" y="1584637"/>
                </a:lnTo>
                <a:lnTo>
                  <a:pt x="360363" y="1576451"/>
                </a:lnTo>
                <a:lnTo>
                  <a:pt x="364067" y="1568265"/>
                </a:lnTo>
                <a:lnTo>
                  <a:pt x="368036" y="1560343"/>
                </a:lnTo>
                <a:lnTo>
                  <a:pt x="372269" y="1552157"/>
                </a:lnTo>
                <a:lnTo>
                  <a:pt x="376503" y="1543971"/>
                </a:lnTo>
                <a:lnTo>
                  <a:pt x="381265" y="1535785"/>
                </a:lnTo>
                <a:lnTo>
                  <a:pt x="386028" y="1527863"/>
                </a:lnTo>
                <a:lnTo>
                  <a:pt x="390790" y="1519942"/>
                </a:lnTo>
                <a:lnTo>
                  <a:pt x="396082" y="1511756"/>
                </a:lnTo>
                <a:lnTo>
                  <a:pt x="401373" y="1503570"/>
                </a:lnTo>
                <a:lnTo>
                  <a:pt x="407194" y="1495120"/>
                </a:lnTo>
                <a:lnTo>
                  <a:pt x="419101" y="1479012"/>
                </a:lnTo>
                <a:lnTo>
                  <a:pt x="432065" y="1462376"/>
                </a:lnTo>
                <a:lnTo>
                  <a:pt x="445824" y="1445476"/>
                </a:lnTo>
                <a:lnTo>
                  <a:pt x="460640" y="1428840"/>
                </a:lnTo>
                <a:lnTo>
                  <a:pt x="476515" y="1411676"/>
                </a:lnTo>
                <a:lnTo>
                  <a:pt x="493184" y="1393983"/>
                </a:lnTo>
                <a:lnTo>
                  <a:pt x="511176" y="1376291"/>
                </a:lnTo>
                <a:lnTo>
                  <a:pt x="530226" y="1358335"/>
                </a:lnTo>
                <a:lnTo>
                  <a:pt x="550334" y="1339850"/>
                </a:lnTo>
                <a:close/>
                <a:moveTo>
                  <a:pt x="430213" y="534988"/>
                </a:moveTo>
                <a:lnTo>
                  <a:pt x="925513" y="534988"/>
                </a:lnTo>
                <a:lnTo>
                  <a:pt x="916527" y="545836"/>
                </a:lnTo>
                <a:lnTo>
                  <a:pt x="907012" y="557478"/>
                </a:lnTo>
                <a:lnTo>
                  <a:pt x="897233" y="568590"/>
                </a:lnTo>
                <a:lnTo>
                  <a:pt x="886925" y="580232"/>
                </a:lnTo>
                <a:lnTo>
                  <a:pt x="876089" y="591609"/>
                </a:lnTo>
                <a:lnTo>
                  <a:pt x="864988" y="603515"/>
                </a:lnTo>
                <a:lnTo>
                  <a:pt x="853095" y="615422"/>
                </a:lnTo>
                <a:lnTo>
                  <a:pt x="840937" y="627328"/>
                </a:lnTo>
                <a:lnTo>
                  <a:pt x="828250" y="639499"/>
                </a:lnTo>
                <a:lnTo>
                  <a:pt x="815035" y="651934"/>
                </a:lnTo>
                <a:lnTo>
                  <a:pt x="801292" y="664105"/>
                </a:lnTo>
                <a:lnTo>
                  <a:pt x="787019" y="677069"/>
                </a:lnTo>
                <a:lnTo>
                  <a:pt x="772218" y="690034"/>
                </a:lnTo>
                <a:lnTo>
                  <a:pt x="756625" y="702999"/>
                </a:lnTo>
                <a:lnTo>
                  <a:pt x="740767" y="716492"/>
                </a:lnTo>
                <a:lnTo>
                  <a:pt x="724116" y="729986"/>
                </a:lnTo>
                <a:lnTo>
                  <a:pt x="717772" y="735278"/>
                </a:lnTo>
                <a:lnTo>
                  <a:pt x="711429" y="740834"/>
                </a:lnTo>
                <a:lnTo>
                  <a:pt x="705350" y="746655"/>
                </a:lnTo>
                <a:lnTo>
                  <a:pt x="699536" y="753005"/>
                </a:lnTo>
                <a:lnTo>
                  <a:pt x="693985" y="759090"/>
                </a:lnTo>
                <a:lnTo>
                  <a:pt x="688171" y="765969"/>
                </a:lnTo>
                <a:lnTo>
                  <a:pt x="682885" y="772584"/>
                </a:lnTo>
                <a:lnTo>
                  <a:pt x="677863" y="779463"/>
                </a:lnTo>
                <a:lnTo>
                  <a:pt x="672841" y="772584"/>
                </a:lnTo>
                <a:lnTo>
                  <a:pt x="667555" y="765969"/>
                </a:lnTo>
                <a:lnTo>
                  <a:pt x="662005" y="759090"/>
                </a:lnTo>
                <a:lnTo>
                  <a:pt x="656190" y="753005"/>
                </a:lnTo>
                <a:lnTo>
                  <a:pt x="650376" y="746655"/>
                </a:lnTo>
                <a:lnTo>
                  <a:pt x="644297" y="740834"/>
                </a:lnTo>
                <a:lnTo>
                  <a:pt x="637954" y="735278"/>
                </a:lnTo>
                <a:lnTo>
                  <a:pt x="631610" y="729986"/>
                </a:lnTo>
                <a:lnTo>
                  <a:pt x="614959" y="716492"/>
                </a:lnTo>
                <a:lnTo>
                  <a:pt x="599101" y="702999"/>
                </a:lnTo>
                <a:lnTo>
                  <a:pt x="583508" y="690034"/>
                </a:lnTo>
                <a:lnTo>
                  <a:pt x="568707" y="677069"/>
                </a:lnTo>
                <a:lnTo>
                  <a:pt x="554434" y="664105"/>
                </a:lnTo>
                <a:lnTo>
                  <a:pt x="540691" y="651934"/>
                </a:lnTo>
                <a:lnTo>
                  <a:pt x="527476" y="639499"/>
                </a:lnTo>
                <a:lnTo>
                  <a:pt x="514789" y="627328"/>
                </a:lnTo>
                <a:lnTo>
                  <a:pt x="502631" y="615422"/>
                </a:lnTo>
                <a:lnTo>
                  <a:pt x="490738" y="603515"/>
                </a:lnTo>
                <a:lnTo>
                  <a:pt x="479637" y="591609"/>
                </a:lnTo>
                <a:lnTo>
                  <a:pt x="468801" y="580232"/>
                </a:lnTo>
                <a:lnTo>
                  <a:pt x="458493" y="568590"/>
                </a:lnTo>
                <a:lnTo>
                  <a:pt x="448714" y="557478"/>
                </a:lnTo>
                <a:lnTo>
                  <a:pt x="439199" y="545836"/>
                </a:lnTo>
                <a:lnTo>
                  <a:pt x="430213" y="534988"/>
                </a:lnTo>
                <a:close/>
                <a:moveTo>
                  <a:pt x="188949" y="224189"/>
                </a:moveTo>
                <a:lnTo>
                  <a:pt x="193448" y="263892"/>
                </a:lnTo>
                <a:lnTo>
                  <a:pt x="195830" y="284803"/>
                </a:lnTo>
                <a:lnTo>
                  <a:pt x="198741" y="306507"/>
                </a:lnTo>
                <a:lnTo>
                  <a:pt x="201917" y="328741"/>
                </a:lnTo>
                <a:lnTo>
                  <a:pt x="204828" y="350710"/>
                </a:lnTo>
                <a:lnTo>
                  <a:pt x="208532" y="372678"/>
                </a:lnTo>
                <a:lnTo>
                  <a:pt x="212502" y="394118"/>
                </a:lnTo>
                <a:lnTo>
                  <a:pt x="215413" y="408146"/>
                </a:lnTo>
                <a:lnTo>
                  <a:pt x="218059" y="421645"/>
                </a:lnTo>
                <a:lnTo>
                  <a:pt x="221235" y="434880"/>
                </a:lnTo>
                <a:lnTo>
                  <a:pt x="224410" y="447585"/>
                </a:lnTo>
                <a:lnTo>
                  <a:pt x="227321" y="459496"/>
                </a:lnTo>
                <a:lnTo>
                  <a:pt x="230497" y="470348"/>
                </a:lnTo>
                <a:lnTo>
                  <a:pt x="233673" y="480406"/>
                </a:lnTo>
                <a:lnTo>
                  <a:pt x="236584" y="489405"/>
                </a:lnTo>
                <a:lnTo>
                  <a:pt x="241082" y="501316"/>
                </a:lnTo>
                <a:lnTo>
                  <a:pt x="246111" y="513227"/>
                </a:lnTo>
                <a:lnTo>
                  <a:pt x="251403" y="524873"/>
                </a:lnTo>
                <a:lnTo>
                  <a:pt x="256961" y="536784"/>
                </a:lnTo>
                <a:lnTo>
                  <a:pt x="262783" y="547901"/>
                </a:lnTo>
                <a:lnTo>
                  <a:pt x="268605" y="559547"/>
                </a:lnTo>
                <a:lnTo>
                  <a:pt x="275220" y="570664"/>
                </a:lnTo>
                <a:lnTo>
                  <a:pt x="281836" y="581781"/>
                </a:lnTo>
                <a:lnTo>
                  <a:pt x="288981" y="593162"/>
                </a:lnTo>
                <a:lnTo>
                  <a:pt x="296127" y="604014"/>
                </a:lnTo>
                <a:lnTo>
                  <a:pt x="304066" y="615396"/>
                </a:lnTo>
                <a:lnTo>
                  <a:pt x="312005" y="626248"/>
                </a:lnTo>
                <a:lnTo>
                  <a:pt x="320473" y="637365"/>
                </a:lnTo>
                <a:lnTo>
                  <a:pt x="329206" y="648482"/>
                </a:lnTo>
                <a:lnTo>
                  <a:pt x="338468" y="659334"/>
                </a:lnTo>
                <a:lnTo>
                  <a:pt x="347730" y="670450"/>
                </a:lnTo>
                <a:lnTo>
                  <a:pt x="366784" y="692419"/>
                </a:lnTo>
                <a:lnTo>
                  <a:pt x="385309" y="714388"/>
                </a:lnTo>
                <a:lnTo>
                  <a:pt x="404362" y="736887"/>
                </a:lnTo>
                <a:lnTo>
                  <a:pt x="414154" y="748268"/>
                </a:lnTo>
                <a:lnTo>
                  <a:pt x="424210" y="759385"/>
                </a:lnTo>
                <a:lnTo>
                  <a:pt x="435060" y="771031"/>
                </a:lnTo>
                <a:lnTo>
                  <a:pt x="445910" y="782413"/>
                </a:lnTo>
                <a:lnTo>
                  <a:pt x="457554" y="794059"/>
                </a:lnTo>
                <a:lnTo>
                  <a:pt x="469463" y="805440"/>
                </a:lnTo>
                <a:lnTo>
                  <a:pt x="482165" y="817351"/>
                </a:lnTo>
                <a:lnTo>
                  <a:pt x="495661" y="829262"/>
                </a:lnTo>
                <a:lnTo>
                  <a:pt x="509952" y="841173"/>
                </a:lnTo>
                <a:lnTo>
                  <a:pt x="525036" y="853349"/>
                </a:lnTo>
                <a:lnTo>
                  <a:pt x="531916" y="858907"/>
                </a:lnTo>
                <a:lnTo>
                  <a:pt x="537738" y="864730"/>
                </a:lnTo>
                <a:lnTo>
                  <a:pt x="543031" y="870818"/>
                </a:lnTo>
                <a:lnTo>
                  <a:pt x="547530" y="876376"/>
                </a:lnTo>
                <a:lnTo>
                  <a:pt x="551764" y="882199"/>
                </a:lnTo>
                <a:lnTo>
                  <a:pt x="555204" y="888023"/>
                </a:lnTo>
                <a:lnTo>
                  <a:pt x="558644" y="893846"/>
                </a:lnTo>
                <a:lnTo>
                  <a:pt x="561291" y="899669"/>
                </a:lnTo>
                <a:lnTo>
                  <a:pt x="564202" y="905227"/>
                </a:lnTo>
                <a:lnTo>
                  <a:pt x="566848" y="911315"/>
                </a:lnTo>
                <a:lnTo>
                  <a:pt x="568965" y="916873"/>
                </a:lnTo>
                <a:lnTo>
                  <a:pt x="570818" y="922696"/>
                </a:lnTo>
                <a:lnTo>
                  <a:pt x="574523" y="934607"/>
                </a:lnTo>
                <a:lnTo>
                  <a:pt x="577698" y="946518"/>
                </a:lnTo>
                <a:lnTo>
                  <a:pt x="582462" y="966370"/>
                </a:lnTo>
                <a:lnTo>
                  <a:pt x="584314" y="973781"/>
                </a:lnTo>
                <a:lnTo>
                  <a:pt x="585902" y="980927"/>
                </a:lnTo>
                <a:lnTo>
                  <a:pt x="587225" y="988074"/>
                </a:lnTo>
                <a:lnTo>
                  <a:pt x="587754" y="996015"/>
                </a:lnTo>
                <a:lnTo>
                  <a:pt x="588284" y="1005808"/>
                </a:lnTo>
                <a:lnTo>
                  <a:pt x="588548" y="1017719"/>
                </a:lnTo>
                <a:lnTo>
                  <a:pt x="588284" y="1026453"/>
                </a:lnTo>
                <a:lnTo>
                  <a:pt x="588019" y="1033600"/>
                </a:lnTo>
                <a:lnTo>
                  <a:pt x="587754" y="1039423"/>
                </a:lnTo>
                <a:lnTo>
                  <a:pt x="587225" y="1044717"/>
                </a:lnTo>
                <a:lnTo>
                  <a:pt x="585373" y="1055304"/>
                </a:lnTo>
                <a:lnTo>
                  <a:pt x="582726" y="1070391"/>
                </a:lnTo>
                <a:lnTo>
                  <a:pt x="581138" y="1079655"/>
                </a:lnTo>
                <a:lnTo>
                  <a:pt x="579021" y="1088919"/>
                </a:lnTo>
                <a:lnTo>
                  <a:pt x="576904" y="1097919"/>
                </a:lnTo>
                <a:lnTo>
                  <a:pt x="574523" y="1106918"/>
                </a:lnTo>
                <a:lnTo>
                  <a:pt x="571876" y="1115917"/>
                </a:lnTo>
                <a:lnTo>
                  <a:pt x="568701" y="1124652"/>
                </a:lnTo>
                <a:lnTo>
                  <a:pt x="565260" y="1133387"/>
                </a:lnTo>
                <a:lnTo>
                  <a:pt x="561291" y="1142121"/>
                </a:lnTo>
                <a:lnTo>
                  <a:pt x="558644" y="1147680"/>
                </a:lnTo>
                <a:lnTo>
                  <a:pt x="555204" y="1153768"/>
                </a:lnTo>
                <a:lnTo>
                  <a:pt x="551764" y="1159326"/>
                </a:lnTo>
                <a:lnTo>
                  <a:pt x="547530" y="1165149"/>
                </a:lnTo>
                <a:lnTo>
                  <a:pt x="543031" y="1170972"/>
                </a:lnTo>
                <a:lnTo>
                  <a:pt x="538003" y="1176795"/>
                </a:lnTo>
                <a:lnTo>
                  <a:pt x="532181" y="1182618"/>
                </a:lnTo>
                <a:lnTo>
                  <a:pt x="525300" y="1188177"/>
                </a:lnTo>
                <a:lnTo>
                  <a:pt x="510216" y="1200352"/>
                </a:lnTo>
                <a:lnTo>
                  <a:pt x="495926" y="1212263"/>
                </a:lnTo>
                <a:lnTo>
                  <a:pt x="482430" y="1224174"/>
                </a:lnTo>
                <a:lnTo>
                  <a:pt x="469463" y="1236085"/>
                </a:lnTo>
                <a:lnTo>
                  <a:pt x="457554" y="1247466"/>
                </a:lnTo>
                <a:lnTo>
                  <a:pt x="445910" y="1259377"/>
                </a:lnTo>
                <a:lnTo>
                  <a:pt x="435060" y="1270759"/>
                </a:lnTo>
                <a:lnTo>
                  <a:pt x="424210" y="1282140"/>
                </a:lnTo>
                <a:lnTo>
                  <a:pt x="414154" y="1293257"/>
                </a:lnTo>
                <a:lnTo>
                  <a:pt x="404362" y="1304903"/>
                </a:lnTo>
                <a:lnTo>
                  <a:pt x="385309" y="1326872"/>
                </a:lnTo>
                <a:lnTo>
                  <a:pt x="366784" y="1349106"/>
                </a:lnTo>
                <a:lnTo>
                  <a:pt x="347730" y="1371340"/>
                </a:lnTo>
                <a:lnTo>
                  <a:pt x="338468" y="1382456"/>
                </a:lnTo>
                <a:lnTo>
                  <a:pt x="329206" y="1393309"/>
                </a:lnTo>
                <a:lnTo>
                  <a:pt x="320473" y="1404161"/>
                </a:lnTo>
                <a:lnTo>
                  <a:pt x="312005" y="1415278"/>
                </a:lnTo>
                <a:lnTo>
                  <a:pt x="304066" y="1426394"/>
                </a:lnTo>
                <a:lnTo>
                  <a:pt x="296127" y="1437511"/>
                </a:lnTo>
                <a:lnTo>
                  <a:pt x="288981" y="1448628"/>
                </a:lnTo>
                <a:lnTo>
                  <a:pt x="281836" y="1459480"/>
                </a:lnTo>
                <a:lnTo>
                  <a:pt x="275220" y="1470862"/>
                </a:lnTo>
                <a:lnTo>
                  <a:pt x="268605" y="1482243"/>
                </a:lnTo>
                <a:lnTo>
                  <a:pt x="262783" y="1493625"/>
                </a:lnTo>
                <a:lnTo>
                  <a:pt x="256961" y="1505006"/>
                </a:lnTo>
                <a:lnTo>
                  <a:pt x="251403" y="1516652"/>
                </a:lnTo>
                <a:lnTo>
                  <a:pt x="246111" y="1528563"/>
                </a:lnTo>
                <a:lnTo>
                  <a:pt x="241082" y="1540209"/>
                </a:lnTo>
                <a:lnTo>
                  <a:pt x="236584" y="1552385"/>
                </a:lnTo>
                <a:lnTo>
                  <a:pt x="233937" y="1560326"/>
                </a:lnTo>
                <a:lnTo>
                  <a:pt x="231026" y="1568796"/>
                </a:lnTo>
                <a:lnTo>
                  <a:pt x="228115" y="1578060"/>
                </a:lnTo>
                <a:lnTo>
                  <a:pt x="225734" y="1588382"/>
                </a:lnTo>
                <a:lnTo>
                  <a:pt x="222823" y="1598705"/>
                </a:lnTo>
                <a:lnTo>
                  <a:pt x="220441" y="1609822"/>
                </a:lnTo>
                <a:lnTo>
                  <a:pt x="215413" y="1633114"/>
                </a:lnTo>
                <a:lnTo>
                  <a:pt x="210649" y="1658260"/>
                </a:lnTo>
                <a:lnTo>
                  <a:pt x="206415" y="1683934"/>
                </a:lnTo>
                <a:lnTo>
                  <a:pt x="202181" y="1709609"/>
                </a:lnTo>
                <a:lnTo>
                  <a:pt x="198741" y="1735548"/>
                </a:lnTo>
                <a:lnTo>
                  <a:pt x="193448" y="1778162"/>
                </a:lnTo>
                <a:lnTo>
                  <a:pt x="188949" y="1817336"/>
                </a:lnTo>
                <a:lnTo>
                  <a:pt x="1168364" y="1817336"/>
                </a:lnTo>
                <a:lnTo>
                  <a:pt x="1164130" y="1777898"/>
                </a:lnTo>
                <a:lnTo>
                  <a:pt x="1161748" y="1756987"/>
                </a:lnTo>
                <a:lnTo>
                  <a:pt x="1158837" y="1735019"/>
                </a:lnTo>
                <a:lnTo>
                  <a:pt x="1155661" y="1713050"/>
                </a:lnTo>
                <a:lnTo>
                  <a:pt x="1152486" y="1690816"/>
                </a:lnTo>
                <a:lnTo>
                  <a:pt x="1148781" y="1668847"/>
                </a:lnTo>
                <a:lnTo>
                  <a:pt x="1144811" y="1647672"/>
                </a:lnTo>
                <a:lnTo>
                  <a:pt x="1142165" y="1633644"/>
                </a:lnTo>
                <a:lnTo>
                  <a:pt x="1139518" y="1619880"/>
                </a:lnTo>
                <a:lnTo>
                  <a:pt x="1136343" y="1606910"/>
                </a:lnTo>
                <a:lnTo>
                  <a:pt x="1133167" y="1594205"/>
                </a:lnTo>
                <a:lnTo>
                  <a:pt x="1130256" y="1582295"/>
                </a:lnTo>
                <a:lnTo>
                  <a:pt x="1127080" y="1571442"/>
                </a:lnTo>
                <a:lnTo>
                  <a:pt x="1123905" y="1561384"/>
                </a:lnTo>
                <a:lnTo>
                  <a:pt x="1120994" y="1552385"/>
                </a:lnTo>
                <a:lnTo>
                  <a:pt x="1116230" y="1540209"/>
                </a:lnTo>
                <a:lnTo>
                  <a:pt x="1111467" y="1528563"/>
                </a:lnTo>
                <a:lnTo>
                  <a:pt x="1106174" y="1516652"/>
                </a:lnTo>
                <a:lnTo>
                  <a:pt x="1100617" y="1505006"/>
                </a:lnTo>
                <a:lnTo>
                  <a:pt x="1094795" y="1493625"/>
                </a:lnTo>
                <a:lnTo>
                  <a:pt x="1088708" y="1482243"/>
                </a:lnTo>
                <a:lnTo>
                  <a:pt x="1082357" y="1470862"/>
                </a:lnTo>
                <a:lnTo>
                  <a:pt x="1075741" y="1459480"/>
                </a:lnTo>
                <a:lnTo>
                  <a:pt x="1068596" y="1448628"/>
                </a:lnTo>
                <a:lnTo>
                  <a:pt x="1061186" y="1437511"/>
                </a:lnTo>
                <a:lnTo>
                  <a:pt x="1053512" y="1426394"/>
                </a:lnTo>
                <a:lnTo>
                  <a:pt x="1045308" y="1415278"/>
                </a:lnTo>
                <a:lnTo>
                  <a:pt x="1037105" y="1404161"/>
                </a:lnTo>
                <a:lnTo>
                  <a:pt x="1028107" y="1393309"/>
                </a:lnTo>
                <a:lnTo>
                  <a:pt x="1019374" y="1382456"/>
                </a:lnTo>
                <a:lnTo>
                  <a:pt x="1009847" y="1371340"/>
                </a:lnTo>
                <a:lnTo>
                  <a:pt x="990794" y="1349106"/>
                </a:lnTo>
                <a:lnTo>
                  <a:pt x="972269" y="1326872"/>
                </a:lnTo>
                <a:lnTo>
                  <a:pt x="953215" y="1304903"/>
                </a:lnTo>
                <a:lnTo>
                  <a:pt x="943424" y="1293257"/>
                </a:lnTo>
                <a:lnTo>
                  <a:pt x="933368" y="1282140"/>
                </a:lnTo>
                <a:lnTo>
                  <a:pt x="922518" y="1270759"/>
                </a:lnTo>
                <a:lnTo>
                  <a:pt x="911668" y="1259377"/>
                </a:lnTo>
                <a:lnTo>
                  <a:pt x="900024" y="1247731"/>
                </a:lnTo>
                <a:lnTo>
                  <a:pt x="888115" y="1236085"/>
                </a:lnTo>
                <a:lnTo>
                  <a:pt x="875148" y="1224174"/>
                </a:lnTo>
                <a:lnTo>
                  <a:pt x="861652" y="1212263"/>
                </a:lnTo>
                <a:lnTo>
                  <a:pt x="847361" y="1200352"/>
                </a:lnTo>
                <a:lnTo>
                  <a:pt x="832277" y="1188177"/>
                </a:lnTo>
                <a:lnTo>
                  <a:pt x="825397" y="1182618"/>
                </a:lnTo>
                <a:lnTo>
                  <a:pt x="819575" y="1176795"/>
                </a:lnTo>
                <a:lnTo>
                  <a:pt x="814547" y="1170972"/>
                </a:lnTo>
                <a:lnTo>
                  <a:pt x="809783" y="1165149"/>
                </a:lnTo>
                <a:lnTo>
                  <a:pt x="805814" y="1159326"/>
                </a:lnTo>
                <a:lnTo>
                  <a:pt x="802109" y="1153768"/>
                </a:lnTo>
                <a:lnTo>
                  <a:pt x="798933" y="1147680"/>
                </a:lnTo>
                <a:lnTo>
                  <a:pt x="796287" y="1142121"/>
                </a:lnTo>
                <a:lnTo>
                  <a:pt x="793376" y="1136563"/>
                </a:lnTo>
                <a:lnTo>
                  <a:pt x="790994" y="1130740"/>
                </a:lnTo>
                <a:lnTo>
                  <a:pt x="788612" y="1124652"/>
                </a:lnTo>
                <a:lnTo>
                  <a:pt x="786760" y="1119094"/>
                </a:lnTo>
                <a:lnTo>
                  <a:pt x="784643" y="1113271"/>
                </a:lnTo>
                <a:lnTo>
                  <a:pt x="783055" y="1107183"/>
                </a:lnTo>
                <a:lnTo>
                  <a:pt x="779879" y="1095272"/>
                </a:lnTo>
                <a:lnTo>
                  <a:pt x="774851" y="1074362"/>
                </a:lnTo>
                <a:lnTo>
                  <a:pt x="773264" y="1065627"/>
                </a:lnTo>
                <a:lnTo>
                  <a:pt x="771411" y="1057686"/>
                </a:lnTo>
                <a:lnTo>
                  <a:pt x="770353" y="1049216"/>
                </a:lnTo>
                <a:lnTo>
                  <a:pt x="769559" y="1040217"/>
                </a:lnTo>
                <a:lnTo>
                  <a:pt x="769294" y="1029630"/>
                </a:lnTo>
                <a:lnTo>
                  <a:pt x="769029" y="1017719"/>
                </a:lnTo>
                <a:lnTo>
                  <a:pt x="769029" y="1009249"/>
                </a:lnTo>
                <a:lnTo>
                  <a:pt x="769294" y="1002896"/>
                </a:lnTo>
                <a:lnTo>
                  <a:pt x="769823" y="998132"/>
                </a:lnTo>
                <a:lnTo>
                  <a:pt x="770353" y="993897"/>
                </a:lnTo>
                <a:lnTo>
                  <a:pt x="772470" y="985427"/>
                </a:lnTo>
                <a:lnTo>
                  <a:pt x="773528" y="979075"/>
                </a:lnTo>
                <a:lnTo>
                  <a:pt x="774851" y="971399"/>
                </a:lnTo>
                <a:lnTo>
                  <a:pt x="776439" y="961870"/>
                </a:lnTo>
                <a:lnTo>
                  <a:pt x="778556" y="952606"/>
                </a:lnTo>
                <a:lnTo>
                  <a:pt x="780409" y="943607"/>
                </a:lnTo>
                <a:lnTo>
                  <a:pt x="783055" y="934607"/>
                </a:lnTo>
                <a:lnTo>
                  <a:pt x="785437" y="925608"/>
                </a:lnTo>
                <a:lnTo>
                  <a:pt x="788612" y="916873"/>
                </a:lnTo>
                <a:lnTo>
                  <a:pt x="792317" y="908139"/>
                </a:lnTo>
                <a:lnTo>
                  <a:pt x="796287" y="899669"/>
                </a:lnTo>
                <a:lnTo>
                  <a:pt x="798933" y="893846"/>
                </a:lnTo>
                <a:lnTo>
                  <a:pt x="802109" y="888023"/>
                </a:lnTo>
                <a:lnTo>
                  <a:pt x="805814" y="882199"/>
                </a:lnTo>
                <a:lnTo>
                  <a:pt x="809783" y="876376"/>
                </a:lnTo>
                <a:lnTo>
                  <a:pt x="814547" y="870818"/>
                </a:lnTo>
                <a:lnTo>
                  <a:pt x="819575" y="864730"/>
                </a:lnTo>
                <a:lnTo>
                  <a:pt x="825397" y="858907"/>
                </a:lnTo>
                <a:lnTo>
                  <a:pt x="832277" y="853349"/>
                </a:lnTo>
                <a:lnTo>
                  <a:pt x="847361" y="841173"/>
                </a:lnTo>
                <a:lnTo>
                  <a:pt x="861652" y="829262"/>
                </a:lnTo>
                <a:lnTo>
                  <a:pt x="875148" y="817351"/>
                </a:lnTo>
                <a:lnTo>
                  <a:pt x="888115" y="805440"/>
                </a:lnTo>
                <a:lnTo>
                  <a:pt x="900024" y="794059"/>
                </a:lnTo>
                <a:lnTo>
                  <a:pt x="911668" y="782413"/>
                </a:lnTo>
                <a:lnTo>
                  <a:pt x="922518" y="771031"/>
                </a:lnTo>
                <a:lnTo>
                  <a:pt x="933368" y="759385"/>
                </a:lnTo>
                <a:lnTo>
                  <a:pt x="943424" y="748268"/>
                </a:lnTo>
                <a:lnTo>
                  <a:pt x="953215" y="736887"/>
                </a:lnTo>
                <a:lnTo>
                  <a:pt x="972269" y="714388"/>
                </a:lnTo>
                <a:lnTo>
                  <a:pt x="990794" y="692419"/>
                </a:lnTo>
                <a:lnTo>
                  <a:pt x="1009847" y="670450"/>
                </a:lnTo>
                <a:lnTo>
                  <a:pt x="1019374" y="659334"/>
                </a:lnTo>
                <a:lnTo>
                  <a:pt x="1028107" y="648482"/>
                </a:lnTo>
                <a:lnTo>
                  <a:pt x="1037105" y="637365"/>
                </a:lnTo>
                <a:lnTo>
                  <a:pt x="1045308" y="626248"/>
                </a:lnTo>
                <a:lnTo>
                  <a:pt x="1053512" y="615396"/>
                </a:lnTo>
                <a:lnTo>
                  <a:pt x="1061186" y="604014"/>
                </a:lnTo>
                <a:lnTo>
                  <a:pt x="1068596" y="593162"/>
                </a:lnTo>
                <a:lnTo>
                  <a:pt x="1075741" y="581781"/>
                </a:lnTo>
                <a:lnTo>
                  <a:pt x="1082357" y="570664"/>
                </a:lnTo>
                <a:lnTo>
                  <a:pt x="1088708" y="559547"/>
                </a:lnTo>
                <a:lnTo>
                  <a:pt x="1094795" y="547901"/>
                </a:lnTo>
                <a:lnTo>
                  <a:pt x="1100617" y="536784"/>
                </a:lnTo>
                <a:lnTo>
                  <a:pt x="1106174" y="524873"/>
                </a:lnTo>
                <a:lnTo>
                  <a:pt x="1111467" y="513227"/>
                </a:lnTo>
                <a:lnTo>
                  <a:pt x="1116230" y="501316"/>
                </a:lnTo>
                <a:lnTo>
                  <a:pt x="1120994" y="489405"/>
                </a:lnTo>
                <a:lnTo>
                  <a:pt x="1123640" y="481729"/>
                </a:lnTo>
                <a:lnTo>
                  <a:pt x="1126287" y="472995"/>
                </a:lnTo>
                <a:lnTo>
                  <a:pt x="1129198" y="463466"/>
                </a:lnTo>
                <a:lnTo>
                  <a:pt x="1131844" y="453408"/>
                </a:lnTo>
                <a:lnTo>
                  <a:pt x="1134490" y="442820"/>
                </a:lnTo>
                <a:lnTo>
                  <a:pt x="1137137" y="431968"/>
                </a:lnTo>
                <a:lnTo>
                  <a:pt x="1142165" y="408146"/>
                </a:lnTo>
                <a:lnTo>
                  <a:pt x="1146664" y="383531"/>
                </a:lnTo>
                <a:lnTo>
                  <a:pt x="1151162" y="357591"/>
                </a:lnTo>
                <a:lnTo>
                  <a:pt x="1155132" y="331917"/>
                </a:lnTo>
                <a:lnTo>
                  <a:pt x="1158837" y="305978"/>
                </a:lnTo>
                <a:lnTo>
                  <a:pt x="1161748" y="284273"/>
                </a:lnTo>
                <a:lnTo>
                  <a:pt x="1164130" y="263628"/>
                </a:lnTo>
                <a:lnTo>
                  <a:pt x="1168364" y="224189"/>
                </a:lnTo>
                <a:lnTo>
                  <a:pt x="188949" y="224189"/>
                </a:lnTo>
                <a:close/>
                <a:moveTo>
                  <a:pt x="111941" y="0"/>
                </a:moveTo>
                <a:lnTo>
                  <a:pt x="1245372" y="0"/>
                </a:lnTo>
                <a:lnTo>
                  <a:pt x="1251194" y="265"/>
                </a:lnTo>
                <a:lnTo>
                  <a:pt x="1257016" y="530"/>
                </a:lnTo>
                <a:lnTo>
                  <a:pt x="1262574" y="1324"/>
                </a:lnTo>
                <a:lnTo>
                  <a:pt x="1268131" y="2382"/>
                </a:lnTo>
                <a:lnTo>
                  <a:pt x="1273424" y="3706"/>
                </a:lnTo>
                <a:lnTo>
                  <a:pt x="1278716" y="5029"/>
                </a:lnTo>
                <a:lnTo>
                  <a:pt x="1284009" y="6882"/>
                </a:lnTo>
                <a:lnTo>
                  <a:pt x="1289302" y="9000"/>
                </a:lnTo>
                <a:lnTo>
                  <a:pt x="1294065" y="11382"/>
                </a:lnTo>
                <a:lnTo>
                  <a:pt x="1299093" y="13499"/>
                </a:lnTo>
                <a:lnTo>
                  <a:pt x="1303592" y="16411"/>
                </a:lnTo>
                <a:lnTo>
                  <a:pt x="1308091" y="19058"/>
                </a:lnTo>
                <a:lnTo>
                  <a:pt x="1312590" y="22499"/>
                </a:lnTo>
                <a:lnTo>
                  <a:pt x="1316824" y="25675"/>
                </a:lnTo>
                <a:lnTo>
                  <a:pt x="1321058" y="29380"/>
                </a:lnTo>
                <a:lnTo>
                  <a:pt x="1324498" y="32821"/>
                </a:lnTo>
                <a:lnTo>
                  <a:pt x="1328468" y="36792"/>
                </a:lnTo>
                <a:lnTo>
                  <a:pt x="1331908" y="41027"/>
                </a:lnTo>
                <a:lnTo>
                  <a:pt x="1335348" y="45262"/>
                </a:lnTo>
                <a:lnTo>
                  <a:pt x="1338259" y="49497"/>
                </a:lnTo>
                <a:lnTo>
                  <a:pt x="1341435" y="53996"/>
                </a:lnTo>
                <a:lnTo>
                  <a:pt x="1344081" y="58761"/>
                </a:lnTo>
                <a:lnTo>
                  <a:pt x="1346463" y="63525"/>
                </a:lnTo>
                <a:lnTo>
                  <a:pt x="1348845" y="68554"/>
                </a:lnTo>
                <a:lnTo>
                  <a:pt x="1350697" y="73583"/>
                </a:lnTo>
                <a:lnTo>
                  <a:pt x="1352285" y="78877"/>
                </a:lnTo>
                <a:lnTo>
                  <a:pt x="1354137" y="84435"/>
                </a:lnTo>
                <a:lnTo>
                  <a:pt x="1355196" y="89729"/>
                </a:lnTo>
                <a:lnTo>
                  <a:pt x="1356254" y="95287"/>
                </a:lnTo>
                <a:lnTo>
                  <a:pt x="1356784" y="100846"/>
                </a:lnTo>
                <a:lnTo>
                  <a:pt x="1357313" y="106404"/>
                </a:lnTo>
                <a:lnTo>
                  <a:pt x="1357313" y="112227"/>
                </a:lnTo>
                <a:lnTo>
                  <a:pt x="1357313" y="117786"/>
                </a:lnTo>
                <a:lnTo>
                  <a:pt x="1356784" y="122815"/>
                </a:lnTo>
                <a:lnTo>
                  <a:pt x="1356254" y="128108"/>
                </a:lnTo>
                <a:lnTo>
                  <a:pt x="1355460" y="133137"/>
                </a:lnTo>
                <a:lnTo>
                  <a:pt x="1354402" y="138166"/>
                </a:lnTo>
                <a:lnTo>
                  <a:pt x="1353344" y="143460"/>
                </a:lnTo>
                <a:lnTo>
                  <a:pt x="1351491" y="148225"/>
                </a:lnTo>
                <a:lnTo>
                  <a:pt x="1349903" y="152989"/>
                </a:lnTo>
                <a:lnTo>
                  <a:pt x="1347786" y="157753"/>
                </a:lnTo>
                <a:lnTo>
                  <a:pt x="1345669" y="162253"/>
                </a:lnTo>
                <a:lnTo>
                  <a:pt x="1343287" y="166753"/>
                </a:lnTo>
                <a:lnTo>
                  <a:pt x="1340906" y="170988"/>
                </a:lnTo>
                <a:lnTo>
                  <a:pt x="1337995" y="174958"/>
                </a:lnTo>
                <a:lnTo>
                  <a:pt x="1335084" y="179193"/>
                </a:lnTo>
                <a:lnTo>
                  <a:pt x="1331908" y="183163"/>
                </a:lnTo>
                <a:lnTo>
                  <a:pt x="1328732" y="186869"/>
                </a:lnTo>
                <a:lnTo>
                  <a:pt x="1325028" y="190574"/>
                </a:lnTo>
                <a:lnTo>
                  <a:pt x="1321852" y="194015"/>
                </a:lnTo>
                <a:lnTo>
                  <a:pt x="1317882" y="197191"/>
                </a:lnTo>
                <a:lnTo>
                  <a:pt x="1313913" y="200368"/>
                </a:lnTo>
                <a:lnTo>
                  <a:pt x="1309943" y="203544"/>
                </a:lnTo>
                <a:lnTo>
                  <a:pt x="1305709" y="206191"/>
                </a:lnTo>
                <a:lnTo>
                  <a:pt x="1301475" y="208838"/>
                </a:lnTo>
                <a:lnTo>
                  <a:pt x="1296976" y="211220"/>
                </a:lnTo>
                <a:lnTo>
                  <a:pt x="1292477" y="213602"/>
                </a:lnTo>
                <a:lnTo>
                  <a:pt x="1287714" y="215455"/>
                </a:lnTo>
                <a:lnTo>
                  <a:pt x="1282950" y="217308"/>
                </a:lnTo>
                <a:lnTo>
                  <a:pt x="1278187" y="218896"/>
                </a:lnTo>
                <a:lnTo>
                  <a:pt x="1273159" y="220219"/>
                </a:lnTo>
                <a:lnTo>
                  <a:pt x="1268131" y="221543"/>
                </a:lnTo>
                <a:lnTo>
                  <a:pt x="1263103" y="222337"/>
                </a:lnTo>
                <a:lnTo>
                  <a:pt x="1258075" y="223131"/>
                </a:lnTo>
                <a:lnTo>
                  <a:pt x="1253841" y="266275"/>
                </a:lnTo>
                <a:lnTo>
                  <a:pt x="1251194" y="290096"/>
                </a:lnTo>
                <a:lnTo>
                  <a:pt x="1248548" y="314447"/>
                </a:lnTo>
                <a:lnTo>
                  <a:pt x="1245372" y="340122"/>
                </a:lnTo>
                <a:lnTo>
                  <a:pt x="1241932" y="365532"/>
                </a:lnTo>
                <a:lnTo>
                  <a:pt x="1237963" y="391471"/>
                </a:lnTo>
                <a:lnTo>
                  <a:pt x="1234258" y="416881"/>
                </a:lnTo>
                <a:lnTo>
                  <a:pt x="1231347" y="432762"/>
                </a:lnTo>
                <a:lnTo>
                  <a:pt x="1228436" y="447849"/>
                </a:lnTo>
                <a:lnTo>
                  <a:pt x="1225525" y="462936"/>
                </a:lnTo>
                <a:lnTo>
                  <a:pt x="1222349" y="477759"/>
                </a:lnTo>
                <a:lnTo>
                  <a:pt x="1218644" y="492052"/>
                </a:lnTo>
                <a:lnTo>
                  <a:pt x="1215204" y="506080"/>
                </a:lnTo>
                <a:lnTo>
                  <a:pt x="1211499" y="519579"/>
                </a:lnTo>
                <a:lnTo>
                  <a:pt x="1207265" y="532814"/>
                </a:lnTo>
                <a:lnTo>
                  <a:pt x="1202237" y="547636"/>
                </a:lnTo>
                <a:lnTo>
                  <a:pt x="1196415" y="562458"/>
                </a:lnTo>
                <a:lnTo>
                  <a:pt x="1190593" y="577016"/>
                </a:lnTo>
                <a:lnTo>
                  <a:pt x="1184506" y="591839"/>
                </a:lnTo>
                <a:lnTo>
                  <a:pt x="1177890" y="606132"/>
                </a:lnTo>
                <a:lnTo>
                  <a:pt x="1171010" y="620160"/>
                </a:lnTo>
                <a:lnTo>
                  <a:pt x="1163865" y="634188"/>
                </a:lnTo>
                <a:lnTo>
                  <a:pt x="1156455" y="648217"/>
                </a:lnTo>
                <a:lnTo>
                  <a:pt x="1148516" y="661981"/>
                </a:lnTo>
                <a:lnTo>
                  <a:pt x="1140312" y="675480"/>
                </a:lnTo>
                <a:lnTo>
                  <a:pt x="1131844" y="689243"/>
                </a:lnTo>
                <a:lnTo>
                  <a:pt x="1123111" y="702478"/>
                </a:lnTo>
                <a:lnTo>
                  <a:pt x="1113849" y="715712"/>
                </a:lnTo>
                <a:lnTo>
                  <a:pt x="1104586" y="728946"/>
                </a:lnTo>
                <a:lnTo>
                  <a:pt x="1094795" y="742180"/>
                </a:lnTo>
                <a:lnTo>
                  <a:pt x="1085004" y="754885"/>
                </a:lnTo>
                <a:lnTo>
                  <a:pt x="1074947" y="767590"/>
                </a:lnTo>
                <a:lnTo>
                  <a:pt x="1064097" y="780031"/>
                </a:lnTo>
                <a:lnTo>
                  <a:pt x="1053512" y="792736"/>
                </a:lnTo>
                <a:lnTo>
                  <a:pt x="1042662" y="804911"/>
                </a:lnTo>
                <a:lnTo>
                  <a:pt x="1031283" y="817351"/>
                </a:lnTo>
                <a:lnTo>
                  <a:pt x="1019903" y="829792"/>
                </a:lnTo>
                <a:lnTo>
                  <a:pt x="1007995" y="841967"/>
                </a:lnTo>
                <a:lnTo>
                  <a:pt x="995557" y="854407"/>
                </a:lnTo>
                <a:lnTo>
                  <a:pt x="983384" y="866848"/>
                </a:lnTo>
                <a:lnTo>
                  <a:pt x="970681" y="879288"/>
                </a:lnTo>
                <a:lnTo>
                  <a:pt x="957714" y="891463"/>
                </a:lnTo>
                <a:lnTo>
                  <a:pt x="944218" y="903904"/>
                </a:lnTo>
                <a:lnTo>
                  <a:pt x="916960" y="928520"/>
                </a:lnTo>
                <a:lnTo>
                  <a:pt x="888380" y="953665"/>
                </a:lnTo>
                <a:lnTo>
                  <a:pt x="888115" y="954459"/>
                </a:lnTo>
                <a:lnTo>
                  <a:pt x="886792" y="957900"/>
                </a:lnTo>
                <a:lnTo>
                  <a:pt x="885204" y="962664"/>
                </a:lnTo>
                <a:lnTo>
                  <a:pt x="883616" y="968487"/>
                </a:lnTo>
                <a:lnTo>
                  <a:pt x="881764" y="975369"/>
                </a:lnTo>
                <a:lnTo>
                  <a:pt x="880441" y="981457"/>
                </a:lnTo>
                <a:lnTo>
                  <a:pt x="879118" y="986221"/>
                </a:lnTo>
                <a:lnTo>
                  <a:pt x="876736" y="993632"/>
                </a:lnTo>
                <a:lnTo>
                  <a:pt x="876207" y="997338"/>
                </a:lnTo>
                <a:lnTo>
                  <a:pt x="875677" y="1002102"/>
                </a:lnTo>
                <a:lnTo>
                  <a:pt x="875148" y="1008984"/>
                </a:lnTo>
                <a:lnTo>
                  <a:pt x="875148" y="1017719"/>
                </a:lnTo>
                <a:lnTo>
                  <a:pt x="875148" y="1025130"/>
                </a:lnTo>
                <a:lnTo>
                  <a:pt x="875413" y="1030953"/>
                </a:lnTo>
                <a:lnTo>
                  <a:pt x="875942" y="1035453"/>
                </a:lnTo>
                <a:lnTo>
                  <a:pt x="876471" y="1038894"/>
                </a:lnTo>
                <a:lnTo>
                  <a:pt x="878059" y="1046305"/>
                </a:lnTo>
                <a:lnTo>
                  <a:pt x="879118" y="1051069"/>
                </a:lnTo>
                <a:lnTo>
                  <a:pt x="880176" y="1056892"/>
                </a:lnTo>
                <a:lnTo>
                  <a:pt x="880970" y="1062715"/>
                </a:lnTo>
                <a:lnTo>
                  <a:pt x="882293" y="1068009"/>
                </a:lnTo>
                <a:lnTo>
                  <a:pt x="884675" y="1077009"/>
                </a:lnTo>
                <a:lnTo>
                  <a:pt x="887057" y="1083890"/>
                </a:lnTo>
                <a:lnTo>
                  <a:pt x="888644" y="1088125"/>
                </a:lnTo>
                <a:lnTo>
                  <a:pt x="916960" y="1113271"/>
                </a:lnTo>
                <a:lnTo>
                  <a:pt x="944482" y="1137886"/>
                </a:lnTo>
                <a:lnTo>
                  <a:pt x="957714" y="1150327"/>
                </a:lnTo>
                <a:lnTo>
                  <a:pt x="970681" y="1162767"/>
                </a:lnTo>
                <a:lnTo>
                  <a:pt x="983384" y="1174942"/>
                </a:lnTo>
                <a:lnTo>
                  <a:pt x="995557" y="1187118"/>
                </a:lnTo>
                <a:lnTo>
                  <a:pt x="1007995" y="1199558"/>
                </a:lnTo>
                <a:lnTo>
                  <a:pt x="1019903" y="1211734"/>
                </a:lnTo>
                <a:lnTo>
                  <a:pt x="1031283" y="1224174"/>
                </a:lnTo>
                <a:lnTo>
                  <a:pt x="1042662" y="1236614"/>
                </a:lnTo>
                <a:lnTo>
                  <a:pt x="1053512" y="1249055"/>
                </a:lnTo>
                <a:lnTo>
                  <a:pt x="1064097" y="1261495"/>
                </a:lnTo>
                <a:lnTo>
                  <a:pt x="1074947" y="1274200"/>
                </a:lnTo>
                <a:lnTo>
                  <a:pt x="1085004" y="1286905"/>
                </a:lnTo>
                <a:lnTo>
                  <a:pt x="1094795" y="1299874"/>
                </a:lnTo>
                <a:lnTo>
                  <a:pt x="1104586" y="1312844"/>
                </a:lnTo>
                <a:lnTo>
                  <a:pt x="1113849" y="1325814"/>
                </a:lnTo>
                <a:lnTo>
                  <a:pt x="1123111" y="1339048"/>
                </a:lnTo>
                <a:lnTo>
                  <a:pt x="1131844" y="1352547"/>
                </a:lnTo>
                <a:lnTo>
                  <a:pt x="1140312" y="1366046"/>
                </a:lnTo>
                <a:lnTo>
                  <a:pt x="1148516" y="1379810"/>
                </a:lnTo>
                <a:lnTo>
                  <a:pt x="1156455" y="1393309"/>
                </a:lnTo>
                <a:lnTo>
                  <a:pt x="1163865" y="1407337"/>
                </a:lnTo>
                <a:lnTo>
                  <a:pt x="1171010" y="1421365"/>
                </a:lnTo>
                <a:lnTo>
                  <a:pt x="1177890" y="1435394"/>
                </a:lnTo>
                <a:lnTo>
                  <a:pt x="1184506" y="1449951"/>
                </a:lnTo>
                <a:lnTo>
                  <a:pt x="1190593" y="1464509"/>
                </a:lnTo>
                <a:lnTo>
                  <a:pt x="1196415" y="1479332"/>
                </a:lnTo>
                <a:lnTo>
                  <a:pt x="1202237" y="1493889"/>
                </a:lnTo>
                <a:lnTo>
                  <a:pt x="1207265" y="1508976"/>
                </a:lnTo>
                <a:lnTo>
                  <a:pt x="1211499" y="1521946"/>
                </a:lnTo>
                <a:lnTo>
                  <a:pt x="1215204" y="1535710"/>
                </a:lnTo>
                <a:lnTo>
                  <a:pt x="1218644" y="1549473"/>
                </a:lnTo>
                <a:lnTo>
                  <a:pt x="1222349" y="1563767"/>
                </a:lnTo>
                <a:lnTo>
                  <a:pt x="1225525" y="1578854"/>
                </a:lnTo>
                <a:lnTo>
                  <a:pt x="1228436" y="1593676"/>
                </a:lnTo>
                <a:lnTo>
                  <a:pt x="1231347" y="1609028"/>
                </a:lnTo>
                <a:lnTo>
                  <a:pt x="1234258" y="1624909"/>
                </a:lnTo>
                <a:lnTo>
                  <a:pt x="1239286" y="1656407"/>
                </a:lnTo>
                <a:lnTo>
                  <a:pt x="1243785" y="1687640"/>
                </a:lnTo>
                <a:lnTo>
                  <a:pt x="1247490" y="1719137"/>
                </a:lnTo>
                <a:lnTo>
                  <a:pt x="1250930" y="1749576"/>
                </a:lnTo>
                <a:lnTo>
                  <a:pt x="1254899" y="1785838"/>
                </a:lnTo>
                <a:lnTo>
                  <a:pt x="1258075" y="1818659"/>
                </a:lnTo>
                <a:lnTo>
                  <a:pt x="1263103" y="1819189"/>
                </a:lnTo>
                <a:lnTo>
                  <a:pt x="1268131" y="1820247"/>
                </a:lnTo>
                <a:lnTo>
                  <a:pt x="1273159" y="1821571"/>
                </a:lnTo>
                <a:lnTo>
                  <a:pt x="1278187" y="1822894"/>
                </a:lnTo>
                <a:lnTo>
                  <a:pt x="1282950" y="1824218"/>
                </a:lnTo>
                <a:lnTo>
                  <a:pt x="1287714" y="1826335"/>
                </a:lnTo>
                <a:lnTo>
                  <a:pt x="1292477" y="1828188"/>
                </a:lnTo>
                <a:lnTo>
                  <a:pt x="1296976" y="1830570"/>
                </a:lnTo>
                <a:lnTo>
                  <a:pt x="1301475" y="1832688"/>
                </a:lnTo>
                <a:lnTo>
                  <a:pt x="1305709" y="1835599"/>
                </a:lnTo>
                <a:lnTo>
                  <a:pt x="1309943" y="1838246"/>
                </a:lnTo>
                <a:lnTo>
                  <a:pt x="1313913" y="1841158"/>
                </a:lnTo>
                <a:lnTo>
                  <a:pt x="1317882" y="1844334"/>
                </a:lnTo>
                <a:lnTo>
                  <a:pt x="1321852" y="1847510"/>
                </a:lnTo>
                <a:lnTo>
                  <a:pt x="1325028" y="1850951"/>
                </a:lnTo>
                <a:lnTo>
                  <a:pt x="1328732" y="1854657"/>
                </a:lnTo>
                <a:lnTo>
                  <a:pt x="1331908" y="1858627"/>
                </a:lnTo>
                <a:lnTo>
                  <a:pt x="1335084" y="1862597"/>
                </a:lnTo>
                <a:lnTo>
                  <a:pt x="1337995" y="1866568"/>
                </a:lnTo>
                <a:lnTo>
                  <a:pt x="1340906" y="1870538"/>
                </a:lnTo>
                <a:lnTo>
                  <a:pt x="1343287" y="1874773"/>
                </a:lnTo>
                <a:lnTo>
                  <a:pt x="1345669" y="1879273"/>
                </a:lnTo>
                <a:lnTo>
                  <a:pt x="1347786" y="1883772"/>
                </a:lnTo>
                <a:lnTo>
                  <a:pt x="1349903" y="1888537"/>
                </a:lnTo>
                <a:lnTo>
                  <a:pt x="1351491" y="1893301"/>
                </a:lnTo>
                <a:lnTo>
                  <a:pt x="1353344" y="1898065"/>
                </a:lnTo>
                <a:lnTo>
                  <a:pt x="1354402" y="1903359"/>
                </a:lnTo>
                <a:lnTo>
                  <a:pt x="1355460" y="1908388"/>
                </a:lnTo>
                <a:lnTo>
                  <a:pt x="1356254" y="1913417"/>
                </a:lnTo>
                <a:lnTo>
                  <a:pt x="1356784" y="1918711"/>
                </a:lnTo>
                <a:lnTo>
                  <a:pt x="1357313" y="1924004"/>
                </a:lnTo>
                <a:lnTo>
                  <a:pt x="1357313" y="1929298"/>
                </a:lnTo>
                <a:lnTo>
                  <a:pt x="1357313" y="1934857"/>
                </a:lnTo>
                <a:lnTo>
                  <a:pt x="1356784" y="1940944"/>
                </a:lnTo>
                <a:lnTo>
                  <a:pt x="1356254" y="1946503"/>
                </a:lnTo>
                <a:lnTo>
                  <a:pt x="1355196" y="1951797"/>
                </a:lnTo>
                <a:lnTo>
                  <a:pt x="1354137" y="1957355"/>
                </a:lnTo>
                <a:lnTo>
                  <a:pt x="1352285" y="1962913"/>
                </a:lnTo>
                <a:lnTo>
                  <a:pt x="1350697" y="1967942"/>
                </a:lnTo>
                <a:lnTo>
                  <a:pt x="1348845" y="1972971"/>
                </a:lnTo>
                <a:lnTo>
                  <a:pt x="1346463" y="1978000"/>
                </a:lnTo>
                <a:lnTo>
                  <a:pt x="1344081" y="1982765"/>
                </a:lnTo>
                <a:lnTo>
                  <a:pt x="1341435" y="1987529"/>
                </a:lnTo>
                <a:lnTo>
                  <a:pt x="1338259" y="1992029"/>
                </a:lnTo>
                <a:lnTo>
                  <a:pt x="1335348" y="1996529"/>
                </a:lnTo>
                <a:lnTo>
                  <a:pt x="1331908" y="2000764"/>
                </a:lnTo>
                <a:lnTo>
                  <a:pt x="1328468" y="2004734"/>
                </a:lnTo>
                <a:lnTo>
                  <a:pt x="1324498" y="2008704"/>
                </a:lnTo>
                <a:lnTo>
                  <a:pt x="1321058" y="2012410"/>
                </a:lnTo>
                <a:lnTo>
                  <a:pt x="1316824" y="2015851"/>
                </a:lnTo>
                <a:lnTo>
                  <a:pt x="1312590" y="2019292"/>
                </a:lnTo>
                <a:lnTo>
                  <a:pt x="1308091" y="2022468"/>
                </a:lnTo>
                <a:lnTo>
                  <a:pt x="1303592" y="2025115"/>
                </a:lnTo>
                <a:lnTo>
                  <a:pt x="1299093" y="2028026"/>
                </a:lnTo>
                <a:lnTo>
                  <a:pt x="1294065" y="2030408"/>
                </a:lnTo>
                <a:lnTo>
                  <a:pt x="1289302" y="2032791"/>
                </a:lnTo>
                <a:lnTo>
                  <a:pt x="1284009" y="2034643"/>
                </a:lnTo>
                <a:lnTo>
                  <a:pt x="1278716" y="2036496"/>
                </a:lnTo>
                <a:lnTo>
                  <a:pt x="1273424" y="2038084"/>
                </a:lnTo>
                <a:lnTo>
                  <a:pt x="1268131" y="2039143"/>
                </a:lnTo>
                <a:lnTo>
                  <a:pt x="1262574" y="2040466"/>
                </a:lnTo>
                <a:lnTo>
                  <a:pt x="1257016" y="2040996"/>
                </a:lnTo>
                <a:lnTo>
                  <a:pt x="1251194" y="2041525"/>
                </a:lnTo>
                <a:lnTo>
                  <a:pt x="1245372" y="2041525"/>
                </a:lnTo>
                <a:lnTo>
                  <a:pt x="111941" y="2041525"/>
                </a:lnTo>
                <a:lnTo>
                  <a:pt x="106119" y="2041525"/>
                </a:lnTo>
                <a:lnTo>
                  <a:pt x="100561" y="2040996"/>
                </a:lnTo>
                <a:lnTo>
                  <a:pt x="94739" y="2040466"/>
                </a:lnTo>
                <a:lnTo>
                  <a:pt x="89447" y="2039143"/>
                </a:lnTo>
                <a:lnTo>
                  <a:pt x="83889" y="2038084"/>
                </a:lnTo>
                <a:lnTo>
                  <a:pt x="78861" y="2036496"/>
                </a:lnTo>
                <a:lnTo>
                  <a:pt x="73569" y="2034643"/>
                </a:lnTo>
                <a:lnTo>
                  <a:pt x="68540" y="2032791"/>
                </a:lnTo>
                <a:lnTo>
                  <a:pt x="63248" y="2030408"/>
                </a:lnTo>
                <a:lnTo>
                  <a:pt x="58484" y="2028026"/>
                </a:lnTo>
                <a:lnTo>
                  <a:pt x="53721" y="2025115"/>
                </a:lnTo>
                <a:lnTo>
                  <a:pt x="49222" y="2022468"/>
                </a:lnTo>
                <a:lnTo>
                  <a:pt x="44988" y="2019292"/>
                </a:lnTo>
                <a:lnTo>
                  <a:pt x="40754" y="2015851"/>
                </a:lnTo>
                <a:lnTo>
                  <a:pt x="36784" y="2012410"/>
                </a:lnTo>
                <a:lnTo>
                  <a:pt x="32815" y="2008704"/>
                </a:lnTo>
                <a:lnTo>
                  <a:pt x="29110" y="2004734"/>
                </a:lnTo>
                <a:lnTo>
                  <a:pt x="25405" y="2000764"/>
                </a:lnTo>
                <a:lnTo>
                  <a:pt x="22229" y="1996529"/>
                </a:lnTo>
                <a:lnTo>
                  <a:pt x="19054" y="1992029"/>
                </a:lnTo>
                <a:lnTo>
                  <a:pt x="16143" y="1987529"/>
                </a:lnTo>
                <a:lnTo>
                  <a:pt x="13232" y="1982765"/>
                </a:lnTo>
                <a:lnTo>
                  <a:pt x="11115" y="1978000"/>
                </a:lnTo>
                <a:lnTo>
                  <a:pt x="8733" y="1972971"/>
                </a:lnTo>
                <a:lnTo>
                  <a:pt x="6881" y="1967942"/>
                </a:lnTo>
                <a:lnTo>
                  <a:pt x="5028" y="1962913"/>
                </a:lnTo>
                <a:lnTo>
                  <a:pt x="3440" y="1957355"/>
                </a:lnTo>
                <a:lnTo>
                  <a:pt x="2117" y="1951797"/>
                </a:lnTo>
                <a:lnTo>
                  <a:pt x="1323" y="1946503"/>
                </a:lnTo>
                <a:lnTo>
                  <a:pt x="529" y="1940944"/>
                </a:lnTo>
                <a:lnTo>
                  <a:pt x="265" y="1934857"/>
                </a:lnTo>
                <a:lnTo>
                  <a:pt x="0" y="1929298"/>
                </a:lnTo>
                <a:lnTo>
                  <a:pt x="265" y="1924004"/>
                </a:lnTo>
                <a:lnTo>
                  <a:pt x="529" y="1918711"/>
                </a:lnTo>
                <a:lnTo>
                  <a:pt x="1059" y="1913417"/>
                </a:lnTo>
                <a:lnTo>
                  <a:pt x="1852" y="1908388"/>
                </a:lnTo>
                <a:lnTo>
                  <a:pt x="2911" y="1903359"/>
                </a:lnTo>
                <a:lnTo>
                  <a:pt x="4499" y="1898065"/>
                </a:lnTo>
                <a:lnTo>
                  <a:pt x="5822" y="1893301"/>
                </a:lnTo>
                <a:lnTo>
                  <a:pt x="7674" y="1888537"/>
                </a:lnTo>
                <a:lnTo>
                  <a:pt x="9791" y="1883772"/>
                </a:lnTo>
                <a:lnTo>
                  <a:pt x="11644" y="1879273"/>
                </a:lnTo>
                <a:lnTo>
                  <a:pt x="14290" y="1874773"/>
                </a:lnTo>
                <a:lnTo>
                  <a:pt x="16672" y="1870538"/>
                </a:lnTo>
                <a:lnTo>
                  <a:pt x="19583" y="1866568"/>
                </a:lnTo>
                <a:lnTo>
                  <a:pt x="22229" y="1862597"/>
                </a:lnTo>
                <a:lnTo>
                  <a:pt x="25405" y="1858627"/>
                </a:lnTo>
                <a:lnTo>
                  <a:pt x="28845" y="1854657"/>
                </a:lnTo>
                <a:lnTo>
                  <a:pt x="32285" y="1850951"/>
                </a:lnTo>
                <a:lnTo>
                  <a:pt x="35726" y="1847510"/>
                </a:lnTo>
                <a:lnTo>
                  <a:pt x="39431" y="1844334"/>
                </a:lnTo>
                <a:lnTo>
                  <a:pt x="43400" y="1841158"/>
                </a:lnTo>
                <a:lnTo>
                  <a:pt x="47634" y="1838246"/>
                </a:lnTo>
                <a:lnTo>
                  <a:pt x="51604" y="1835599"/>
                </a:lnTo>
                <a:lnTo>
                  <a:pt x="56103" y="1832688"/>
                </a:lnTo>
                <a:lnTo>
                  <a:pt x="60601" y="1830570"/>
                </a:lnTo>
                <a:lnTo>
                  <a:pt x="65100" y="1828188"/>
                </a:lnTo>
                <a:lnTo>
                  <a:pt x="69599" y="1826335"/>
                </a:lnTo>
                <a:lnTo>
                  <a:pt x="74362" y="1824218"/>
                </a:lnTo>
                <a:lnTo>
                  <a:pt x="79391" y="1822894"/>
                </a:lnTo>
                <a:lnTo>
                  <a:pt x="84154" y="1821571"/>
                </a:lnTo>
                <a:lnTo>
                  <a:pt x="89182" y="1820247"/>
                </a:lnTo>
                <a:lnTo>
                  <a:pt x="94210" y="1819189"/>
                </a:lnTo>
                <a:lnTo>
                  <a:pt x="99503" y="1818659"/>
                </a:lnTo>
                <a:lnTo>
                  <a:pt x="103737" y="1775516"/>
                </a:lnTo>
                <a:lnTo>
                  <a:pt x="106383" y="1751694"/>
                </a:lnTo>
                <a:lnTo>
                  <a:pt x="108765" y="1727078"/>
                </a:lnTo>
                <a:lnTo>
                  <a:pt x="112205" y="1701668"/>
                </a:lnTo>
                <a:lnTo>
                  <a:pt x="115646" y="1675993"/>
                </a:lnTo>
                <a:lnTo>
                  <a:pt x="119615" y="1650319"/>
                </a:lnTo>
                <a:lnTo>
                  <a:pt x="123585" y="1624909"/>
                </a:lnTo>
                <a:lnTo>
                  <a:pt x="126231" y="1609028"/>
                </a:lnTo>
                <a:lnTo>
                  <a:pt x="129142" y="1593676"/>
                </a:lnTo>
                <a:lnTo>
                  <a:pt x="132053" y="1578854"/>
                </a:lnTo>
                <a:lnTo>
                  <a:pt x="135228" y="1563767"/>
                </a:lnTo>
                <a:lnTo>
                  <a:pt x="138669" y="1549473"/>
                </a:lnTo>
                <a:lnTo>
                  <a:pt x="142374" y="1535710"/>
                </a:lnTo>
                <a:lnTo>
                  <a:pt x="146343" y="1521946"/>
                </a:lnTo>
                <a:lnTo>
                  <a:pt x="150313" y="1508976"/>
                </a:lnTo>
                <a:lnTo>
                  <a:pt x="155605" y="1493889"/>
                </a:lnTo>
                <a:lnTo>
                  <a:pt x="161163" y="1479332"/>
                </a:lnTo>
                <a:lnTo>
                  <a:pt x="166985" y="1464509"/>
                </a:lnTo>
                <a:lnTo>
                  <a:pt x="173071" y="1449951"/>
                </a:lnTo>
                <a:lnTo>
                  <a:pt x="179687" y="1435394"/>
                </a:lnTo>
                <a:lnTo>
                  <a:pt x="186568" y="1421365"/>
                </a:lnTo>
                <a:lnTo>
                  <a:pt x="193713" y="1407337"/>
                </a:lnTo>
                <a:lnTo>
                  <a:pt x="201387" y="1393309"/>
                </a:lnTo>
                <a:lnTo>
                  <a:pt x="209062" y="1379810"/>
                </a:lnTo>
                <a:lnTo>
                  <a:pt x="217265" y="1366046"/>
                </a:lnTo>
                <a:lnTo>
                  <a:pt x="225734" y="1352547"/>
                </a:lnTo>
                <a:lnTo>
                  <a:pt x="234467" y="1339048"/>
                </a:lnTo>
                <a:lnTo>
                  <a:pt x="243729" y="1325814"/>
                </a:lnTo>
                <a:lnTo>
                  <a:pt x="252991" y="1312844"/>
                </a:lnTo>
                <a:lnTo>
                  <a:pt x="262783" y="1299874"/>
                </a:lnTo>
                <a:lnTo>
                  <a:pt x="272574" y="1286905"/>
                </a:lnTo>
                <a:lnTo>
                  <a:pt x="282630" y="1274200"/>
                </a:lnTo>
                <a:lnTo>
                  <a:pt x="293216" y="1261495"/>
                </a:lnTo>
                <a:lnTo>
                  <a:pt x="304066" y="1249055"/>
                </a:lnTo>
                <a:lnTo>
                  <a:pt x="314916" y="1236614"/>
                </a:lnTo>
                <a:lnTo>
                  <a:pt x="326295" y="1224174"/>
                </a:lnTo>
                <a:lnTo>
                  <a:pt x="337674" y="1211734"/>
                </a:lnTo>
                <a:lnTo>
                  <a:pt x="349583" y="1199558"/>
                </a:lnTo>
                <a:lnTo>
                  <a:pt x="361756" y="1187118"/>
                </a:lnTo>
                <a:lnTo>
                  <a:pt x="374194" y="1174678"/>
                </a:lnTo>
                <a:lnTo>
                  <a:pt x="386896" y="1162767"/>
                </a:lnTo>
                <a:lnTo>
                  <a:pt x="399864" y="1150327"/>
                </a:lnTo>
                <a:lnTo>
                  <a:pt x="413095" y="1137886"/>
                </a:lnTo>
                <a:lnTo>
                  <a:pt x="440617" y="1113271"/>
                </a:lnTo>
                <a:lnTo>
                  <a:pt x="468933" y="1088125"/>
                </a:lnTo>
                <a:lnTo>
                  <a:pt x="469198" y="1087331"/>
                </a:lnTo>
                <a:lnTo>
                  <a:pt x="470786" y="1083890"/>
                </a:lnTo>
                <a:lnTo>
                  <a:pt x="472374" y="1079126"/>
                </a:lnTo>
                <a:lnTo>
                  <a:pt x="473961" y="1073303"/>
                </a:lnTo>
                <a:lnTo>
                  <a:pt x="475814" y="1066156"/>
                </a:lnTo>
                <a:lnTo>
                  <a:pt x="478460" y="1054510"/>
                </a:lnTo>
                <a:lnTo>
                  <a:pt x="479519" y="1049746"/>
                </a:lnTo>
                <a:lnTo>
                  <a:pt x="480577" y="1044982"/>
                </a:lnTo>
                <a:lnTo>
                  <a:pt x="481371" y="1039952"/>
                </a:lnTo>
                <a:lnTo>
                  <a:pt x="481900" y="1033865"/>
                </a:lnTo>
                <a:lnTo>
                  <a:pt x="482165" y="1026718"/>
                </a:lnTo>
                <a:lnTo>
                  <a:pt x="482430" y="1017719"/>
                </a:lnTo>
                <a:lnTo>
                  <a:pt x="482430" y="1010308"/>
                </a:lnTo>
                <a:lnTo>
                  <a:pt x="482165" y="1005279"/>
                </a:lnTo>
                <a:lnTo>
                  <a:pt x="481636" y="1001838"/>
                </a:lnTo>
                <a:lnTo>
                  <a:pt x="481106" y="999455"/>
                </a:lnTo>
                <a:lnTo>
                  <a:pt x="479254" y="994426"/>
                </a:lnTo>
                <a:lnTo>
                  <a:pt x="478460" y="990456"/>
                </a:lnTo>
                <a:lnTo>
                  <a:pt x="477402" y="984633"/>
                </a:lnTo>
                <a:lnTo>
                  <a:pt x="476343" y="978810"/>
                </a:lnTo>
                <a:lnTo>
                  <a:pt x="475549" y="973516"/>
                </a:lnTo>
                <a:lnTo>
                  <a:pt x="472903" y="964517"/>
                </a:lnTo>
                <a:lnTo>
                  <a:pt x="470786" y="957900"/>
                </a:lnTo>
                <a:lnTo>
                  <a:pt x="468933" y="953665"/>
                </a:lnTo>
                <a:lnTo>
                  <a:pt x="440617" y="928520"/>
                </a:lnTo>
                <a:lnTo>
                  <a:pt x="413095" y="903904"/>
                </a:lnTo>
                <a:lnTo>
                  <a:pt x="399864" y="891463"/>
                </a:lnTo>
                <a:lnTo>
                  <a:pt x="386896" y="879288"/>
                </a:lnTo>
                <a:lnTo>
                  <a:pt x="374194" y="866848"/>
                </a:lnTo>
                <a:lnTo>
                  <a:pt x="361756" y="854407"/>
                </a:lnTo>
                <a:lnTo>
                  <a:pt x="349583" y="841967"/>
                </a:lnTo>
                <a:lnTo>
                  <a:pt x="337674" y="829792"/>
                </a:lnTo>
                <a:lnTo>
                  <a:pt x="326295" y="817351"/>
                </a:lnTo>
                <a:lnTo>
                  <a:pt x="314916" y="804911"/>
                </a:lnTo>
                <a:lnTo>
                  <a:pt x="304066" y="792736"/>
                </a:lnTo>
                <a:lnTo>
                  <a:pt x="293216" y="780031"/>
                </a:lnTo>
                <a:lnTo>
                  <a:pt x="282630" y="767590"/>
                </a:lnTo>
                <a:lnTo>
                  <a:pt x="272574" y="754885"/>
                </a:lnTo>
                <a:lnTo>
                  <a:pt x="262783" y="742180"/>
                </a:lnTo>
                <a:lnTo>
                  <a:pt x="252991" y="728946"/>
                </a:lnTo>
                <a:lnTo>
                  <a:pt x="243729" y="715712"/>
                </a:lnTo>
                <a:lnTo>
                  <a:pt x="234467" y="702478"/>
                </a:lnTo>
                <a:lnTo>
                  <a:pt x="225734" y="689243"/>
                </a:lnTo>
                <a:lnTo>
                  <a:pt x="217265" y="675480"/>
                </a:lnTo>
                <a:lnTo>
                  <a:pt x="209062" y="661981"/>
                </a:lnTo>
                <a:lnTo>
                  <a:pt x="201387" y="648217"/>
                </a:lnTo>
                <a:lnTo>
                  <a:pt x="193713" y="634188"/>
                </a:lnTo>
                <a:lnTo>
                  <a:pt x="186568" y="620160"/>
                </a:lnTo>
                <a:lnTo>
                  <a:pt x="179687" y="606132"/>
                </a:lnTo>
                <a:lnTo>
                  <a:pt x="173071" y="591839"/>
                </a:lnTo>
                <a:lnTo>
                  <a:pt x="166985" y="577016"/>
                </a:lnTo>
                <a:lnTo>
                  <a:pt x="161163" y="562458"/>
                </a:lnTo>
                <a:lnTo>
                  <a:pt x="155605" y="547636"/>
                </a:lnTo>
                <a:lnTo>
                  <a:pt x="150313" y="532814"/>
                </a:lnTo>
                <a:lnTo>
                  <a:pt x="146343" y="519579"/>
                </a:lnTo>
                <a:lnTo>
                  <a:pt x="142374" y="506080"/>
                </a:lnTo>
                <a:lnTo>
                  <a:pt x="138669" y="492052"/>
                </a:lnTo>
                <a:lnTo>
                  <a:pt x="135228" y="477759"/>
                </a:lnTo>
                <a:lnTo>
                  <a:pt x="132053" y="462936"/>
                </a:lnTo>
                <a:lnTo>
                  <a:pt x="129142" y="447849"/>
                </a:lnTo>
                <a:lnTo>
                  <a:pt x="126231" y="432762"/>
                </a:lnTo>
                <a:lnTo>
                  <a:pt x="123585" y="416881"/>
                </a:lnTo>
                <a:lnTo>
                  <a:pt x="118292" y="385648"/>
                </a:lnTo>
                <a:lnTo>
                  <a:pt x="113793" y="353886"/>
                </a:lnTo>
                <a:lnTo>
                  <a:pt x="110088" y="322653"/>
                </a:lnTo>
                <a:lnTo>
                  <a:pt x="106383" y="292214"/>
                </a:lnTo>
                <a:lnTo>
                  <a:pt x="102678" y="255952"/>
                </a:lnTo>
                <a:lnTo>
                  <a:pt x="99503" y="223131"/>
                </a:lnTo>
                <a:lnTo>
                  <a:pt x="94210" y="222337"/>
                </a:lnTo>
                <a:lnTo>
                  <a:pt x="89182" y="221543"/>
                </a:lnTo>
                <a:lnTo>
                  <a:pt x="84154" y="220219"/>
                </a:lnTo>
                <a:lnTo>
                  <a:pt x="79391" y="218896"/>
                </a:lnTo>
                <a:lnTo>
                  <a:pt x="74362" y="217308"/>
                </a:lnTo>
                <a:lnTo>
                  <a:pt x="69599" y="215455"/>
                </a:lnTo>
                <a:lnTo>
                  <a:pt x="65100" y="213602"/>
                </a:lnTo>
                <a:lnTo>
                  <a:pt x="60601" y="211220"/>
                </a:lnTo>
                <a:lnTo>
                  <a:pt x="56103" y="208838"/>
                </a:lnTo>
                <a:lnTo>
                  <a:pt x="51604" y="206191"/>
                </a:lnTo>
                <a:lnTo>
                  <a:pt x="47634" y="203544"/>
                </a:lnTo>
                <a:lnTo>
                  <a:pt x="43400" y="200368"/>
                </a:lnTo>
                <a:lnTo>
                  <a:pt x="39431" y="197191"/>
                </a:lnTo>
                <a:lnTo>
                  <a:pt x="35726" y="194280"/>
                </a:lnTo>
                <a:lnTo>
                  <a:pt x="32285" y="190574"/>
                </a:lnTo>
                <a:lnTo>
                  <a:pt x="28845" y="186869"/>
                </a:lnTo>
                <a:lnTo>
                  <a:pt x="25405" y="183163"/>
                </a:lnTo>
                <a:lnTo>
                  <a:pt x="22229" y="179193"/>
                </a:lnTo>
                <a:lnTo>
                  <a:pt x="19583" y="174958"/>
                </a:lnTo>
                <a:lnTo>
                  <a:pt x="16672" y="171252"/>
                </a:lnTo>
                <a:lnTo>
                  <a:pt x="14290" y="166753"/>
                </a:lnTo>
                <a:lnTo>
                  <a:pt x="11644" y="162253"/>
                </a:lnTo>
                <a:lnTo>
                  <a:pt x="9791" y="157753"/>
                </a:lnTo>
                <a:lnTo>
                  <a:pt x="7674" y="152989"/>
                </a:lnTo>
                <a:lnTo>
                  <a:pt x="5822" y="148225"/>
                </a:lnTo>
                <a:lnTo>
                  <a:pt x="4499" y="143460"/>
                </a:lnTo>
                <a:lnTo>
                  <a:pt x="2911" y="138166"/>
                </a:lnTo>
                <a:lnTo>
                  <a:pt x="1852" y="133137"/>
                </a:lnTo>
                <a:lnTo>
                  <a:pt x="1059" y="128108"/>
                </a:lnTo>
                <a:lnTo>
                  <a:pt x="529" y="122815"/>
                </a:lnTo>
                <a:lnTo>
                  <a:pt x="265" y="117786"/>
                </a:lnTo>
                <a:lnTo>
                  <a:pt x="0" y="112227"/>
                </a:lnTo>
                <a:lnTo>
                  <a:pt x="265" y="106404"/>
                </a:lnTo>
                <a:lnTo>
                  <a:pt x="529" y="100846"/>
                </a:lnTo>
                <a:lnTo>
                  <a:pt x="1323" y="95287"/>
                </a:lnTo>
                <a:lnTo>
                  <a:pt x="2117" y="89729"/>
                </a:lnTo>
                <a:lnTo>
                  <a:pt x="3440" y="84435"/>
                </a:lnTo>
                <a:lnTo>
                  <a:pt x="5028" y="78877"/>
                </a:lnTo>
                <a:lnTo>
                  <a:pt x="6881" y="73583"/>
                </a:lnTo>
                <a:lnTo>
                  <a:pt x="8733" y="68554"/>
                </a:lnTo>
                <a:lnTo>
                  <a:pt x="11115" y="63525"/>
                </a:lnTo>
                <a:lnTo>
                  <a:pt x="13232" y="58761"/>
                </a:lnTo>
                <a:lnTo>
                  <a:pt x="16143" y="53996"/>
                </a:lnTo>
                <a:lnTo>
                  <a:pt x="19054" y="49497"/>
                </a:lnTo>
                <a:lnTo>
                  <a:pt x="22229" y="45262"/>
                </a:lnTo>
                <a:lnTo>
                  <a:pt x="25405" y="41027"/>
                </a:lnTo>
                <a:lnTo>
                  <a:pt x="29110" y="36792"/>
                </a:lnTo>
                <a:lnTo>
                  <a:pt x="32815" y="32821"/>
                </a:lnTo>
                <a:lnTo>
                  <a:pt x="36784" y="29380"/>
                </a:lnTo>
                <a:lnTo>
                  <a:pt x="40754" y="25675"/>
                </a:lnTo>
                <a:lnTo>
                  <a:pt x="44988" y="22499"/>
                </a:lnTo>
                <a:lnTo>
                  <a:pt x="49222" y="19058"/>
                </a:lnTo>
                <a:lnTo>
                  <a:pt x="53721" y="16411"/>
                </a:lnTo>
                <a:lnTo>
                  <a:pt x="58484" y="13499"/>
                </a:lnTo>
                <a:lnTo>
                  <a:pt x="63248" y="11382"/>
                </a:lnTo>
                <a:lnTo>
                  <a:pt x="68540" y="9000"/>
                </a:lnTo>
                <a:lnTo>
                  <a:pt x="73569" y="6882"/>
                </a:lnTo>
                <a:lnTo>
                  <a:pt x="78861" y="5029"/>
                </a:lnTo>
                <a:lnTo>
                  <a:pt x="83889" y="3706"/>
                </a:lnTo>
                <a:lnTo>
                  <a:pt x="89447" y="2382"/>
                </a:lnTo>
                <a:lnTo>
                  <a:pt x="94739" y="1324"/>
                </a:lnTo>
                <a:lnTo>
                  <a:pt x="100561" y="530"/>
                </a:lnTo>
                <a:lnTo>
                  <a:pt x="106119" y="265"/>
                </a:lnTo>
                <a:lnTo>
                  <a:pt x="1119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KSO_Shape"/>
          <p:cNvSpPr/>
          <p:nvPr/>
        </p:nvSpPr>
        <p:spPr>
          <a:xfrm>
            <a:off x="1393920" y="2522520"/>
            <a:ext cx="1593720" cy="1758960"/>
          </a:xfrm>
          <a:custGeom>
            <a:avLst/>
            <a:gdLst/>
            <a:ahLst/>
            <a:rect l="l" t="t" r="r" b="b"/>
            <a:pathLst>
              <a:path w="2087563" h="2301875">
                <a:moveTo>
                  <a:pt x="1411686" y="1172602"/>
                </a:moveTo>
                <a:lnTo>
                  <a:pt x="1405972" y="1186570"/>
                </a:lnTo>
                <a:lnTo>
                  <a:pt x="1400576" y="1200219"/>
                </a:lnTo>
                <a:lnTo>
                  <a:pt x="1394862" y="1213551"/>
                </a:lnTo>
                <a:lnTo>
                  <a:pt x="1389148" y="1226884"/>
                </a:lnTo>
                <a:lnTo>
                  <a:pt x="1383117" y="1239898"/>
                </a:lnTo>
                <a:lnTo>
                  <a:pt x="1377086" y="1252278"/>
                </a:lnTo>
                <a:lnTo>
                  <a:pt x="1370737" y="1264976"/>
                </a:lnTo>
                <a:lnTo>
                  <a:pt x="1364071" y="1277038"/>
                </a:lnTo>
                <a:lnTo>
                  <a:pt x="1357405" y="1288783"/>
                </a:lnTo>
                <a:lnTo>
                  <a:pt x="1350421" y="1300528"/>
                </a:lnTo>
                <a:lnTo>
                  <a:pt x="1343438" y="1311956"/>
                </a:lnTo>
                <a:lnTo>
                  <a:pt x="1336454" y="1323066"/>
                </a:lnTo>
                <a:lnTo>
                  <a:pt x="1329153" y="1334176"/>
                </a:lnTo>
                <a:lnTo>
                  <a:pt x="1321535" y="1344969"/>
                </a:lnTo>
                <a:lnTo>
                  <a:pt x="1313916" y="1355127"/>
                </a:lnTo>
                <a:lnTo>
                  <a:pt x="1306615" y="1365285"/>
                </a:lnTo>
                <a:lnTo>
                  <a:pt x="1324392" y="1356714"/>
                </a:lnTo>
                <a:lnTo>
                  <a:pt x="1341850" y="1347826"/>
                </a:lnTo>
                <a:lnTo>
                  <a:pt x="1359627" y="1338303"/>
                </a:lnTo>
                <a:lnTo>
                  <a:pt x="1376451" y="1328145"/>
                </a:lnTo>
                <a:lnTo>
                  <a:pt x="1393275" y="1317987"/>
                </a:lnTo>
                <a:lnTo>
                  <a:pt x="1409781" y="1306877"/>
                </a:lnTo>
                <a:lnTo>
                  <a:pt x="1425653" y="1295449"/>
                </a:lnTo>
                <a:lnTo>
                  <a:pt x="1441525" y="1283704"/>
                </a:lnTo>
                <a:lnTo>
                  <a:pt x="1456444" y="1271007"/>
                </a:lnTo>
                <a:lnTo>
                  <a:pt x="1471681" y="1258310"/>
                </a:lnTo>
                <a:lnTo>
                  <a:pt x="1485966" y="1245295"/>
                </a:lnTo>
                <a:lnTo>
                  <a:pt x="1500568" y="1231328"/>
                </a:lnTo>
                <a:lnTo>
                  <a:pt x="1514217" y="1217361"/>
                </a:lnTo>
                <a:lnTo>
                  <a:pt x="1527232" y="1203076"/>
                </a:lnTo>
                <a:lnTo>
                  <a:pt x="1540247" y="1188157"/>
                </a:lnTo>
                <a:lnTo>
                  <a:pt x="1552944" y="1172602"/>
                </a:lnTo>
                <a:lnTo>
                  <a:pt x="1411686" y="1172602"/>
                </a:lnTo>
                <a:close/>
                <a:moveTo>
                  <a:pt x="1074888" y="1172602"/>
                </a:moveTo>
                <a:lnTo>
                  <a:pt x="1074888" y="1421153"/>
                </a:lnTo>
                <a:lnTo>
                  <a:pt x="1090760" y="1420201"/>
                </a:lnTo>
                <a:lnTo>
                  <a:pt x="1106632" y="1418614"/>
                </a:lnTo>
                <a:lnTo>
                  <a:pt x="1122503" y="1416709"/>
                </a:lnTo>
                <a:lnTo>
                  <a:pt x="1138058" y="1414487"/>
                </a:lnTo>
                <a:lnTo>
                  <a:pt x="1145041" y="1410361"/>
                </a:lnTo>
                <a:lnTo>
                  <a:pt x="1152342" y="1406551"/>
                </a:lnTo>
                <a:lnTo>
                  <a:pt x="1159326" y="1402107"/>
                </a:lnTo>
                <a:lnTo>
                  <a:pt x="1166309" y="1397346"/>
                </a:lnTo>
                <a:lnTo>
                  <a:pt x="1172975" y="1391949"/>
                </a:lnTo>
                <a:lnTo>
                  <a:pt x="1179959" y="1386871"/>
                </a:lnTo>
                <a:lnTo>
                  <a:pt x="1186625" y="1381474"/>
                </a:lnTo>
                <a:lnTo>
                  <a:pt x="1193609" y="1375443"/>
                </a:lnTo>
                <a:lnTo>
                  <a:pt x="1200275" y="1369729"/>
                </a:lnTo>
                <a:lnTo>
                  <a:pt x="1206623" y="1363380"/>
                </a:lnTo>
                <a:lnTo>
                  <a:pt x="1219956" y="1350048"/>
                </a:lnTo>
                <a:lnTo>
                  <a:pt x="1232336" y="1336081"/>
                </a:lnTo>
                <a:lnTo>
                  <a:pt x="1244716" y="1321162"/>
                </a:lnTo>
                <a:lnTo>
                  <a:pt x="1256778" y="1305290"/>
                </a:lnTo>
                <a:lnTo>
                  <a:pt x="1268206" y="1288783"/>
                </a:lnTo>
                <a:lnTo>
                  <a:pt x="1279633" y="1271007"/>
                </a:lnTo>
                <a:lnTo>
                  <a:pt x="1290426" y="1252913"/>
                </a:lnTo>
                <a:lnTo>
                  <a:pt x="1300901" y="1233867"/>
                </a:lnTo>
                <a:lnTo>
                  <a:pt x="1311059" y="1214504"/>
                </a:lnTo>
                <a:lnTo>
                  <a:pt x="1320582" y="1193871"/>
                </a:lnTo>
                <a:lnTo>
                  <a:pt x="1329788" y="1172602"/>
                </a:lnTo>
                <a:lnTo>
                  <a:pt x="1074888" y="1172602"/>
                </a:lnTo>
                <a:close/>
                <a:moveTo>
                  <a:pt x="746661" y="1172602"/>
                </a:moveTo>
                <a:lnTo>
                  <a:pt x="755867" y="1193871"/>
                </a:lnTo>
                <a:lnTo>
                  <a:pt x="765390" y="1214504"/>
                </a:lnTo>
                <a:lnTo>
                  <a:pt x="775865" y="1233867"/>
                </a:lnTo>
                <a:lnTo>
                  <a:pt x="786023" y="1252913"/>
                </a:lnTo>
                <a:lnTo>
                  <a:pt x="797133" y="1271007"/>
                </a:lnTo>
                <a:lnTo>
                  <a:pt x="808243" y="1288783"/>
                </a:lnTo>
                <a:lnTo>
                  <a:pt x="819988" y="1305290"/>
                </a:lnTo>
                <a:lnTo>
                  <a:pt x="831734" y="1321162"/>
                </a:lnTo>
                <a:lnTo>
                  <a:pt x="843796" y="1336081"/>
                </a:lnTo>
                <a:lnTo>
                  <a:pt x="856811" y="1350048"/>
                </a:lnTo>
                <a:lnTo>
                  <a:pt x="869826" y="1363380"/>
                </a:lnTo>
                <a:lnTo>
                  <a:pt x="876492" y="1369729"/>
                </a:lnTo>
                <a:lnTo>
                  <a:pt x="882840" y="1375443"/>
                </a:lnTo>
                <a:lnTo>
                  <a:pt x="889507" y="1381474"/>
                </a:lnTo>
                <a:lnTo>
                  <a:pt x="896173" y="1386871"/>
                </a:lnTo>
                <a:lnTo>
                  <a:pt x="903156" y="1391949"/>
                </a:lnTo>
                <a:lnTo>
                  <a:pt x="910140" y="1397346"/>
                </a:lnTo>
                <a:lnTo>
                  <a:pt x="916806" y="1402107"/>
                </a:lnTo>
                <a:lnTo>
                  <a:pt x="924424" y="1406551"/>
                </a:lnTo>
                <a:lnTo>
                  <a:pt x="931408" y="1410361"/>
                </a:lnTo>
                <a:lnTo>
                  <a:pt x="938391" y="1414487"/>
                </a:lnTo>
                <a:lnTo>
                  <a:pt x="953628" y="1416709"/>
                </a:lnTo>
                <a:lnTo>
                  <a:pt x="969500" y="1418614"/>
                </a:lnTo>
                <a:lnTo>
                  <a:pt x="985372" y="1420201"/>
                </a:lnTo>
                <a:lnTo>
                  <a:pt x="1001243" y="1421153"/>
                </a:lnTo>
                <a:lnTo>
                  <a:pt x="1001243" y="1172602"/>
                </a:lnTo>
                <a:lnTo>
                  <a:pt x="746661" y="1172602"/>
                </a:lnTo>
                <a:close/>
                <a:moveTo>
                  <a:pt x="523822" y="1172602"/>
                </a:moveTo>
                <a:lnTo>
                  <a:pt x="536202" y="1188157"/>
                </a:lnTo>
                <a:lnTo>
                  <a:pt x="548900" y="1203076"/>
                </a:lnTo>
                <a:lnTo>
                  <a:pt x="562232" y="1217361"/>
                </a:lnTo>
                <a:lnTo>
                  <a:pt x="576199" y="1231328"/>
                </a:lnTo>
                <a:lnTo>
                  <a:pt x="590166" y="1245295"/>
                </a:lnTo>
                <a:lnTo>
                  <a:pt x="604768" y="1258310"/>
                </a:lnTo>
                <a:lnTo>
                  <a:pt x="619687" y="1271007"/>
                </a:lnTo>
                <a:lnTo>
                  <a:pt x="634924" y="1283704"/>
                </a:lnTo>
                <a:lnTo>
                  <a:pt x="650796" y="1295449"/>
                </a:lnTo>
                <a:lnTo>
                  <a:pt x="666668" y="1306877"/>
                </a:lnTo>
                <a:lnTo>
                  <a:pt x="683174" y="1317987"/>
                </a:lnTo>
                <a:lnTo>
                  <a:pt x="699681" y="1328145"/>
                </a:lnTo>
                <a:lnTo>
                  <a:pt x="717140" y="1338303"/>
                </a:lnTo>
                <a:lnTo>
                  <a:pt x="734281" y="1347826"/>
                </a:lnTo>
                <a:lnTo>
                  <a:pt x="752058" y="1356714"/>
                </a:lnTo>
                <a:lnTo>
                  <a:pt x="770151" y="1365285"/>
                </a:lnTo>
                <a:lnTo>
                  <a:pt x="762533" y="1355127"/>
                </a:lnTo>
                <a:lnTo>
                  <a:pt x="754597" y="1344969"/>
                </a:lnTo>
                <a:lnTo>
                  <a:pt x="747296" y="1334176"/>
                </a:lnTo>
                <a:lnTo>
                  <a:pt x="739995" y="1323066"/>
                </a:lnTo>
                <a:lnTo>
                  <a:pt x="733011" y="1311956"/>
                </a:lnTo>
                <a:lnTo>
                  <a:pt x="726028" y="1300528"/>
                </a:lnTo>
                <a:lnTo>
                  <a:pt x="719362" y="1288783"/>
                </a:lnTo>
                <a:lnTo>
                  <a:pt x="712378" y="1277038"/>
                </a:lnTo>
                <a:lnTo>
                  <a:pt x="706030" y="1264976"/>
                </a:lnTo>
                <a:lnTo>
                  <a:pt x="699681" y="1252278"/>
                </a:lnTo>
                <a:lnTo>
                  <a:pt x="693650" y="1239898"/>
                </a:lnTo>
                <a:lnTo>
                  <a:pt x="687301" y="1226884"/>
                </a:lnTo>
                <a:lnTo>
                  <a:pt x="681587" y="1213551"/>
                </a:lnTo>
                <a:lnTo>
                  <a:pt x="675873" y="1200219"/>
                </a:lnTo>
                <a:lnTo>
                  <a:pt x="670159" y="1186570"/>
                </a:lnTo>
                <a:lnTo>
                  <a:pt x="665080" y="1172602"/>
                </a:lnTo>
                <a:lnTo>
                  <a:pt x="523822" y="1172602"/>
                </a:lnTo>
                <a:close/>
                <a:moveTo>
                  <a:pt x="1997481" y="1012825"/>
                </a:moveTo>
                <a:lnTo>
                  <a:pt x="2002239" y="1013143"/>
                </a:lnTo>
                <a:lnTo>
                  <a:pt x="2006679" y="1013461"/>
                </a:lnTo>
                <a:lnTo>
                  <a:pt x="2011120" y="1013779"/>
                </a:lnTo>
                <a:lnTo>
                  <a:pt x="2015561" y="1014414"/>
                </a:lnTo>
                <a:lnTo>
                  <a:pt x="2020001" y="1015685"/>
                </a:lnTo>
                <a:lnTo>
                  <a:pt x="2024442" y="1016639"/>
                </a:lnTo>
                <a:lnTo>
                  <a:pt x="2032372" y="1020135"/>
                </a:lnTo>
                <a:lnTo>
                  <a:pt x="2040619" y="1023631"/>
                </a:lnTo>
                <a:lnTo>
                  <a:pt x="2047914" y="1028080"/>
                </a:lnTo>
                <a:lnTo>
                  <a:pt x="2054892" y="1033483"/>
                </a:lnTo>
                <a:lnTo>
                  <a:pt x="2061236" y="1039204"/>
                </a:lnTo>
                <a:lnTo>
                  <a:pt x="2066946" y="1045560"/>
                </a:lnTo>
                <a:lnTo>
                  <a:pt x="2072338" y="1052552"/>
                </a:lnTo>
                <a:lnTo>
                  <a:pt x="2076778" y="1059861"/>
                </a:lnTo>
                <a:lnTo>
                  <a:pt x="2080268" y="1068125"/>
                </a:lnTo>
                <a:lnTo>
                  <a:pt x="2083757" y="1076070"/>
                </a:lnTo>
                <a:lnTo>
                  <a:pt x="2084708" y="1080519"/>
                </a:lnTo>
                <a:lnTo>
                  <a:pt x="2085977" y="1084969"/>
                </a:lnTo>
                <a:lnTo>
                  <a:pt x="2086611" y="1089418"/>
                </a:lnTo>
                <a:lnTo>
                  <a:pt x="2086929" y="1093867"/>
                </a:lnTo>
                <a:lnTo>
                  <a:pt x="2087246" y="1098635"/>
                </a:lnTo>
                <a:lnTo>
                  <a:pt x="2087563" y="1103084"/>
                </a:lnTo>
                <a:lnTo>
                  <a:pt x="2087563" y="1647816"/>
                </a:lnTo>
                <a:lnTo>
                  <a:pt x="2087563" y="1676419"/>
                </a:lnTo>
                <a:lnTo>
                  <a:pt x="2062505" y="1710425"/>
                </a:lnTo>
                <a:lnTo>
                  <a:pt x="1627954" y="2301875"/>
                </a:lnTo>
                <a:lnTo>
                  <a:pt x="1111250" y="2301875"/>
                </a:lnTo>
                <a:lnTo>
                  <a:pt x="1115373" y="2246576"/>
                </a:lnTo>
                <a:lnTo>
                  <a:pt x="1140432" y="1924313"/>
                </a:lnTo>
                <a:lnTo>
                  <a:pt x="1141383" y="1909376"/>
                </a:lnTo>
                <a:lnTo>
                  <a:pt x="1143286" y="1898252"/>
                </a:lnTo>
                <a:lnTo>
                  <a:pt x="1145824" y="1887129"/>
                </a:lnTo>
                <a:lnTo>
                  <a:pt x="1150582" y="1871874"/>
                </a:lnTo>
                <a:lnTo>
                  <a:pt x="1155657" y="1857572"/>
                </a:lnTo>
                <a:lnTo>
                  <a:pt x="1158829" y="1850263"/>
                </a:lnTo>
                <a:lnTo>
                  <a:pt x="1161683" y="1843271"/>
                </a:lnTo>
                <a:lnTo>
                  <a:pt x="1168662" y="1829923"/>
                </a:lnTo>
                <a:lnTo>
                  <a:pt x="1175640" y="1816892"/>
                </a:lnTo>
                <a:lnTo>
                  <a:pt x="1179446" y="1810218"/>
                </a:lnTo>
                <a:lnTo>
                  <a:pt x="1182935" y="1804180"/>
                </a:lnTo>
                <a:lnTo>
                  <a:pt x="1187059" y="1797824"/>
                </a:lnTo>
                <a:lnTo>
                  <a:pt x="1191499" y="1791785"/>
                </a:lnTo>
                <a:lnTo>
                  <a:pt x="1200698" y="1780026"/>
                </a:lnTo>
                <a:lnTo>
                  <a:pt x="1210531" y="1768585"/>
                </a:lnTo>
                <a:lnTo>
                  <a:pt x="1220364" y="1757461"/>
                </a:lnTo>
                <a:lnTo>
                  <a:pt x="1230514" y="1746973"/>
                </a:lnTo>
                <a:lnTo>
                  <a:pt x="1237492" y="1740299"/>
                </a:lnTo>
                <a:lnTo>
                  <a:pt x="1244153" y="1734261"/>
                </a:lnTo>
                <a:lnTo>
                  <a:pt x="1257158" y="1723137"/>
                </a:lnTo>
                <a:lnTo>
                  <a:pt x="1361196" y="1633832"/>
                </a:lnTo>
                <a:lnTo>
                  <a:pt x="1569908" y="1455221"/>
                </a:lnTo>
                <a:lnTo>
                  <a:pt x="1575934" y="1450454"/>
                </a:lnTo>
                <a:lnTo>
                  <a:pt x="1582913" y="1446004"/>
                </a:lnTo>
                <a:lnTo>
                  <a:pt x="1589891" y="1442191"/>
                </a:lnTo>
                <a:lnTo>
                  <a:pt x="1597503" y="1439013"/>
                </a:lnTo>
                <a:lnTo>
                  <a:pt x="1604799" y="1436788"/>
                </a:lnTo>
                <a:lnTo>
                  <a:pt x="1612411" y="1434881"/>
                </a:lnTo>
                <a:lnTo>
                  <a:pt x="1620341" y="1433928"/>
                </a:lnTo>
                <a:lnTo>
                  <a:pt x="1627954" y="1433610"/>
                </a:lnTo>
                <a:lnTo>
                  <a:pt x="1636201" y="1433928"/>
                </a:lnTo>
                <a:lnTo>
                  <a:pt x="1643813" y="1434881"/>
                </a:lnTo>
                <a:lnTo>
                  <a:pt x="1651426" y="1436470"/>
                </a:lnTo>
                <a:lnTo>
                  <a:pt x="1659038" y="1439013"/>
                </a:lnTo>
                <a:lnTo>
                  <a:pt x="1666651" y="1441873"/>
                </a:lnTo>
                <a:lnTo>
                  <a:pt x="1673629" y="1445687"/>
                </a:lnTo>
                <a:lnTo>
                  <a:pt x="1680607" y="1450136"/>
                </a:lnTo>
                <a:lnTo>
                  <a:pt x="1687268" y="1455221"/>
                </a:lnTo>
                <a:lnTo>
                  <a:pt x="1690757" y="1458717"/>
                </a:lnTo>
                <a:lnTo>
                  <a:pt x="1693929" y="1461895"/>
                </a:lnTo>
                <a:lnTo>
                  <a:pt x="1696784" y="1465073"/>
                </a:lnTo>
                <a:lnTo>
                  <a:pt x="1699956" y="1468569"/>
                </a:lnTo>
                <a:lnTo>
                  <a:pt x="1702494" y="1472383"/>
                </a:lnTo>
                <a:lnTo>
                  <a:pt x="1705031" y="1475879"/>
                </a:lnTo>
                <a:lnTo>
                  <a:pt x="1709472" y="1483824"/>
                </a:lnTo>
                <a:lnTo>
                  <a:pt x="1712961" y="1491770"/>
                </a:lnTo>
                <a:lnTo>
                  <a:pt x="1715498" y="1500033"/>
                </a:lnTo>
                <a:lnTo>
                  <a:pt x="1717401" y="1508296"/>
                </a:lnTo>
                <a:lnTo>
                  <a:pt x="1718670" y="1517195"/>
                </a:lnTo>
                <a:lnTo>
                  <a:pt x="1718987" y="1525776"/>
                </a:lnTo>
                <a:lnTo>
                  <a:pt x="1718353" y="1534674"/>
                </a:lnTo>
                <a:lnTo>
                  <a:pt x="1717084" y="1543255"/>
                </a:lnTo>
                <a:lnTo>
                  <a:pt x="1714547" y="1551518"/>
                </a:lnTo>
                <a:lnTo>
                  <a:pt x="1711692" y="1560099"/>
                </a:lnTo>
                <a:lnTo>
                  <a:pt x="1709789" y="1564231"/>
                </a:lnTo>
                <a:lnTo>
                  <a:pt x="1707569" y="1568362"/>
                </a:lnTo>
                <a:lnTo>
                  <a:pt x="1705348" y="1571858"/>
                </a:lnTo>
                <a:lnTo>
                  <a:pt x="1702811" y="1575990"/>
                </a:lnTo>
                <a:lnTo>
                  <a:pt x="1700273" y="1579804"/>
                </a:lnTo>
                <a:lnTo>
                  <a:pt x="1697101" y="1582982"/>
                </a:lnTo>
                <a:lnTo>
                  <a:pt x="1552779" y="1752376"/>
                </a:lnTo>
                <a:lnTo>
                  <a:pt x="1463649" y="1856937"/>
                </a:lnTo>
                <a:lnTo>
                  <a:pt x="1460794" y="1859797"/>
                </a:lnTo>
                <a:lnTo>
                  <a:pt x="1458257" y="1863611"/>
                </a:lnTo>
                <a:lnTo>
                  <a:pt x="1456354" y="1866789"/>
                </a:lnTo>
                <a:lnTo>
                  <a:pt x="1454768" y="1870603"/>
                </a:lnTo>
                <a:lnTo>
                  <a:pt x="1453499" y="1874099"/>
                </a:lnTo>
                <a:lnTo>
                  <a:pt x="1452547" y="1878230"/>
                </a:lnTo>
                <a:lnTo>
                  <a:pt x="1452230" y="1882044"/>
                </a:lnTo>
                <a:lnTo>
                  <a:pt x="1452230" y="1885858"/>
                </a:lnTo>
                <a:lnTo>
                  <a:pt x="1452230" y="1889989"/>
                </a:lnTo>
                <a:lnTo>
                  <a:pt x="1452547" y="1893803"/>
                </a:lnTo>
                <a:lnTo>
                  <a:pt x="1453499" y="1897935"/>
                </a:lnTo>
                <a:lnTo>
                  <a:pt x="1454450" y="1901748"/>
                </a:lnTo>
                <a:lnTo>
                  <a:pt x="1456671" y="1909694"/>
                </a:lnTo>
                <a:lnTo>
                  <a:pt x="1459525" y="1917003"/>
                </a:lnTo>
                <a:lnTo>
                  <a:pt x="1463014" y="1924313"/>
                </a:lnTo>
                <a:lnTo>
                  <a:pt x="1466504" y="1930987"/>
                </a:lnTo>
                <a:lnTo>
                  <a:pt x="1470310" y="1937026"/>
                </a:lnTo>
                <a:lnTo>
                  <a:pt x="1473799" y="1942111"/>
                </a:lnTo>
                <a:lnTo>
                  <a:pt x="1479191" y="1949420"/>
                </a:lnTo>
                <a:lnTo>
                  <a:pt x="1481094" y="1951963"/>
                </a:lnTo>
                <a:lnTo>
                  <a:pt x="1907399" y="1605864"/>
                </a:lnTo>
                <a:lnTo>
                  <a:pt x="1907399" y="1103084"/>
                </a:lnTo>
                <a:lnTo>
                  <a:pt x="1907399" y="1098635"/>
                </a:lnTo>
                <a:lnTo>
                  <a:pt x="1908033" y="1093867"/>
                </a:lnTo>
                <a:lnTo>
                  <a:pt x="1908350" y="1089418"/>
                </a:lnTo>
                <a:lnTo>
                  <a:pt x="1909302" y="1084969"/>
                </a:lnTo>
                <a:lnTo>
                  <a:pt x="1910253" y="1080519"/>
                </a:lnTo>
                <a:lnTo>
                  <a:pt x="1911522" y="1076070"/>
                </a:lnTo>
                <a:lnTo>
                  <a:pt x="1914694" y="1068125"/>
                </a:lnTo>
                <a:lnTo>
                  <a:pt x="1918183" y="1059861"/>
                </a:lnTo>
                <a:lnTo>
                  <a:pt x="1922624" y="1052552"/>
                </a:lnTo>
                <a:lnTo>
                  <a:pt x="1927699" y="1045560"/>
                </a:lnTo>
                <a:lnTo>
                  <a:pt x="1933726" y="1039204"/>
                </a:lnTo>
                <a:lnTo>
                  <a:pt x="1940069" y="1033483"/>
                </a:lnTo>
                <a:lnTo>
                  <a:pt x="1947048" y="1028080"/>
                </a:lnTo>
                <a:lnTo>
                  <a:pt x="1954343" y="1023631"/>
                </a:lnTo>
                <a:lnTo>
                  <a:pt x="1962590" y="1020135"/>
                </a:lnTo>
                <a:lnTo>
                  <a:pt x="1970520" y="1016639"/>
                </a:lnTo>
                <a:lnTo>
                  <a:pt x="1974960" y="1015685"/>
                </a:lnTo>
                <a:lnTo>
                  <a:pt x="1979401" y="1014414"/>
                </a:lnTo>
                <a:lnTo>
                  <a:pt x="1983842" y="1013779"/>
                </a:lnTo>
                <a:lnTo>
                  <a:pt x="1988282" y="1013461"/>
                </a:lnTo>
                <a:lnTo>
                  <a:pt x="1992723" y="1013143"/>
                </a:lnTo>
                <a:lnTo>
                  <a:pt x="1997481" y="1012825"/>
                </a:lnTo>
                <a:close/>
                <a:moveTo>
                  <a:pt x="90082" y="1012825"/>
                </a:moveTo>
                <a:lnTo>
                  <a:pt x="94523" y="1013143"/>
                </a:lnTo>
                <a:lnTo>
                  <a:pt x="99281" y="1013461"/>
                </a:lnTo>
                <a:lnTo>
                  <a:pt x="103721" y="1013779"/>
                </a:lnTo>
                <a:lnTo>
                  <a:pt x="108162" y="1014414"/>
                </a:lnTo>
                <a:lnTo>
                  <a:pt x="112603" y="1015685"/>
                </a:lnTo>
                <a:lnTo>
                  <a:pt x="117043" y="1016639"/>
                </a:lnTo>
                <a:lnTo>
                  <a:pt x="125290" y="1020135"/>
                </a:lnTo>
                <a:lnTo>
                  <a:pt x="133220" y="1023631"/>
                </a:lnTo>
                <a:lnTo>
                  <a:pt x="140515" y="1028080"/>
                </a:lnTo>
                <a:lnTo>
                  <a:pt x="147494" y="1033483"/>
                </a:lnTo>
                <a:lnTo>
                  <a:pt x="153838" y="1039204"/>
                </a:lnTo>
                <a:lnTo>
                  <a:pt x="159864" y="1045560"/>
                </a:lnTo>
                <a:lnTo>
                  <a:pt x="164939" y="1052552"/>
                </a:lnTo>
                <a:lnTo>
                  <a:pt x="169380" y="1059861"/>
                </a:lnTo>
                <a:lnTo>
                  <a:pt x="173186" y="1068125"/>
                </a:lnTo>
                <a:lnTo>
                  <a:pt x="176358" y="1076070"/>
                </a:lnTo>
                <a:lnTo>
                  <a:pt x="177310" y="1080519"/>
                </a:lnTo>
                <a:lnTo>
                  <a:pt x="178578" y="1084969"/>
                </a:lnTo>
                <a:lnTo>
                  <a:pt x="179213" y="1089418"/>
                </a:lnTo>
                <a:lnTo>
                  <a:pt x="179530" y="1093867"/>
                </a:lnTo>
                <a:lnTo>
                  <a:pt x="180164" y="1098635"/>
                </a:lnTo>
                <a:lnTo>
                  <a:pt x="180482" y="1103084"/>
                </a:lnTo>
                <a:lnTo>
                  <a:pt x="180482" y="1605864"/>
                </a:lnTo>
                <a:lnTo>
                  <a:pt x="606151" y="1951963"/>
                </a:lnTo>
                <a:lnTo>
                  <a:pt x="608372" y="1949420"/>
                </a:lnTo>
                <a:lnTo>
                  <a:pt x="614081" y="1942111"/>
                </a:lnTo>
                <a:lnTo>
                  <a:pt x="617253" y="1937026"/>
                </a:lnTo>
                <a:lnTo>
                  <a:pt x="621059" y="1930987"/>
                </a:lnTo>
                <a:lnTo>
                  <a:pt x="624548" y="1924313"/>
                </a:lnTo>
                <a:lnTo>
                  <a:pt x="628038" y="1917003"/>
                </a:lnTo>
                <a:lnTo>
                  <a:pt x="630892" y="1909694"/>
                </a:lnTo>
                <a:lnTo>
                  <a:pt x="633113" y="1901748"/>
                </a:lnTo>
                <a:lnTo>
                  <a:pt x="634064" y="1897935"/>
                </a:lnTo>
                <a:lnTo>
                  <a:pt x="635016" y="1893803"/>
                </a:lnTo>
                <a:lnTo>
                  <a:pt x="635333" y="1889989"/>
                </a:lnTo>
                <a:lnTo>
                  <a:pt x="635333" y="1885858"/>
                </a:lnTo>
                <a:lnTo>
                  <a:pt x="635333" y="1882044"/>
                </a:lnTo>
                <a:lnTo>
                  <a:pt x="635016" y="1878230"/>
                </a:lnTo>
                <a:lnTo>
                  <a:pt x="634064" y="1874099"/>
                </a:lnTo>
                <a:lnTo>
                  <a:pt x="632795" y="1870603"/>
                </a:lnTo>
                <a:lnTo>
                  <a:pt x="631210" y="1866789"/>
                </a:lnTo>
                <a:lnTo>
                  <a:pt x="629306" y="1863611"/>
                </a:lnTo>
                <a:lnTo>
                  <a:pt x="626769" y="1859797"/>
                </a:lnTo>
                <a:lnTo>
                  <a:pt x="623914" y="1856937"/>
                </a:lnTo>
                <a:lnTo>
                  <a:pt x="534784" y="1752376"/>
                </a:lnTo>
                <a:lnTo>
                  <a:pt x="390462" y="1582982"/>
                </a:lnTo>
                <a:lnTo>
                  <a:pt x="387290" y="1579804"/>
                </a:lnTo>
                <a:lnTo>
                  <a:pt x="384752" y="1575990"/>
                </a:lnTo>
                <a:lnTo>
                  <a:pt x="382215" y="1571858"/>
                </a:lnTo>
                <a:lnTo>
                  <a:pt x="379994" y="1568362"/>
                </a:lnTo>
                <a:lnTo>
                  <a:pt x="377774" y="1564231"/>
                </a:lnTo>
                <a:lnTo>
                  <a:pt x="375871" y="1560099"/>
                </a:lnTo>
                <a:lnTo>
                  <a:pt x="373016" y="1551518"/>
                </a:lnTo>
                <a:lnTo>
                  <a:pt x="370479" y="1543255"/>
                </a:lnTo>
                <a:lnTo>
                  <a:pt x="369210" y="1534674"/>
                </a:lnTo>
                <a:lnTo>
                  <a:pt x="368576" y="1525776"/>
                </a:lnTo>
                <a:lnTo>
                  <a:pt x="368893" y="1517195"/>
                </a:lnTo>
                <a:lnTo>
                  <a:pt x="370162" y="1508296"/>
                </a:lnTo>
                <a:lnTo>
                  <a:pt x="372065" y="1500033"/>
                </a:lnTo>
                <a:lnTo>
                  <a:pt x="374602" y="1491770"/>
                </a:lnTo>
                <a:lnTo>
                  <a:pt x="378091" y="1483824"/>
                </a:lnTo>
                <a:lnTo>
                  <a:pt x="382532" y="1475879"/>
                </a:lnTo>
                <a:lnTo>
                  <a:pt x="384752" y="1472383"/>
                </a:lnTo>
                <a:lnTo>
                  <a:pt x="387924" y="1468569"/>
                </a:lnTo>
                <a:lnTo>
                  <a:pt x="390462" y="1465073"/>
                </a:lnTo>
                <a:lnTo>
                  <a:pt x="393634" y="1461895"/>
                </a:lnTo>
                <a:lnTo>
                  <a:pt x="397123" y="1458717"/>
                </a:lnTo>
                <a:lnTo>
                  <a:pt x="400295" y="1455221"/>
                </a:lnTo>
                <a:lnTo>
                  <a:pt x="406956" y="1450136"/>
                </a:lnTo>
                <a:lnTo>
                  <a:pt x="413934" y="1445687"/>
                </a:lnTo>
                <a:lnTo>
                  <a:pt x="420912" y="1441873"/>
                </a:lnTo>
                <a:lnTo>
                  <a:pt x="428207" y="1439013"/>
                </a:lnTo>
                <a:lnTo>
                  <a:pt x="436137" y="1436470"/>
                </a:lnTo>
                <a:lnTo>
                  <a:pt x="443750" y="1434881"/>
                </a:lnTo>
                <a:lnTo>
                  <a:pt x="451362" y="1433928"/>
                </a:lnTo>
                <a:lnTo>
                  <a:pt x="459609" y="1433610"/>
                </a:lnTo>
                <a:lnTo>
                  <a:pt x="467222" y="1433928"/>
                </a:lnTo>
                <a:lnTo>
                  <a:pt x="475152" y="1434881"/>
                </a:lnTo>
                <a:lnTo>
                  <a:pt x="482764" y="1436788"/>
                </a:lnTo>
                <a:lnTo>
                  <a:pt x="490060" y="1439013"/>
                </a:lnTo>
                <a:lnTo>
                  <a:pt x="497672" y="1442191"/>
                </a:lnTo>
                <a:lnTo>
                  <a:pt x="504650" y="1446004"/>
                </a:lnTo>
                <a:lnTo>
                  <a:pt x="511629" y="1450454"/>
                </a:lnTo>
                <a:lnTo>
                  <a:pt x="517655" y="1455221"/>
                </a:lnTo>
                <a:lnTo>
                  <a:pt x="726367" y="1633832"/>
                </a:lnTo>
                <a:lnTo>
                  <a:pt x="830405" y="1723137"/>
                </a:lnTo>
                <a:lnTo>
                  <a:pt x="843410" y="1734261"/>
                </a:lnTo>
                <a:lnTo>
                  <a:pt x="850071" y="1740299"/>
                </a:lnTo>
                <a:lnTo>
                  <a:pt x="857366" y="1746973"/>
                </a:lnTo>
                <a:lnTo>
                  <a:pt x="867517" y="1757461"/>
                </a:lnTo>
                <a:lnTo>
                  <a:pt x="877350" y="1768585"/>
                </a:lnTo>
                <a:lnTo>
                  <a:pt x="886865" y="1780026"/>
                </a:lnTo>
                <a:lnTo>
                  <a:pt x="896064" y="1791785"/>
                </a:lnTo>
                <a:lnTo>
                  <a:pt x="900504" y="1797824"/>
                </a:lnTo>
                <a:lnTo>
                  <a:pt x="904628" y="1804180"/>
                </a:lnTo>
                <a:lnTo>
                  <a:pt x="908117" y="1810218"/>
                </a:lnTo>
                <a:lnTo>
                  <a:pt x="911923" y="1816892"/>
                </a:lnTo>
                <a:lnTo>
                  <a:pt x="918902" y="1829923"/>
                </a:lnTo>
                <a:lnTo>
                  <a:pt x="925880" y="1843271"/>
                </a:lnTo>
                <a:lnTo>
                  <a:pt x="929369" y="1850263"/>
                </a:lnTo>
                <a:lnTo>
                  <a:pt x="931906" y="1857572"/>
                </a:lnTo>
                <a:lnTo>
                  <a:pt x="936981" y="1871874"/>
                </a:lnTo>
                <a:lnTo>
                  <a:pt x="941739" y="1887129"/>
                </a:lnTo>
                <a:lnTo>
                  <a:pt x="944277" y="1898252"/>
                </a:lnTo>
                <a:lnTo>
                  <a:pt x="946180" y="1909376"/>
                </a:lnTo>
                <a:lnTo>
                  <a:pt x="946814" y="1924313"/>
                </a:lnTo>
                <a:lnTo>
                  <a:pt x="972190" y="2246576"/>
                </a:lnTo>
                <a:lnTo>
                  <a:pt x="976313" y="2301875"/>
                </a:lnTo>
                <a:lnTo>
                  <a:pt x="459609" y="2301875"/>
                </a:lnTo>
                <a:lnTo>
                  <a:pt x="25058" y="1710425"/>
                </a:lnTo>
                <a:lnTo>
                  <a:pt x="0" y="1676419"/>
                </a:lnTo>
                <a:lnTo>
                  <a:pt x="0" y="1647816"/>
                </a:lnTo>
                <a:lnTo>
                  <a:pt x="0" y="1103084"/>
                </a:lnTo>
                <a:lnTo>
                  <a:pt x="317" y="1098635"/>
                </a:lnTo>
                <a:lnTo>
                  <a:pt x="634" y="1093867"/>
                </a:lnTo>
                <a:lnTo>
                  <a:pt x="952" y="1089418"/>
                </a:lnTo>
                <a:lnTo>
                  <a:pt x="1903" y="1084969"/>
                </a:lnTo>
                <a:lnTo>
                  <a:pt x="2855" y="1080519"/>
                </a:lnTo>
                <a:lnTo>
                  <a:pt x="3806" y="1076070"/>
                </a:lnTo>
                <a:lnTo>
                  <a:pt x="7295" y="1068125"/>
                </a:lnTo>
                <a:lnTo>
                  <a:pt x="11102" y="1059861"/>
                </a:lnTo>
                <a:lnTo>
                  <a:pt x="15225" y="1052552"/>
                </a:lnTo>
                <a:lnTo>
                  <a:pt x="20617" y="1045560"/>
                </a:lnTo>
                <a:lnTo>
                  <a:pt x="26327" y="1039204"/>
                </a:lnTo>
                <a:lnTo>
                  <a:pt x="32671" y="1033483"/>
                </a:lnTo>
                <a:lnTo>
                  <a:pt x="39649" y="1028080"/>
                </a:lnTo>
                <a:lnTo>
                  <a:pt x="46944" y="1023631"/>
                </a:lnTo>
                <a:lnTo>
                  <a:pt x="55191" y="1020135"/>
                </a:lnTo>
                <a:lnTo>
                  <a:pt x="63121" y="1016639"/>
                </a:lnTo>
                <a:lnTo>
                  <a:pt x="67562" y="1015685"/>
                </a:lnTo>
                <a:lnTo>
                  <a:pt x="72002" y="1014414"/>
                </a:lnTo>
                <a:lnTo>
                  <a:pt x="76443" y="1013779"/>
                </a:lnTo>
                <a:lnTo>
                  <a:pt x="80884" y="1013461"/>
                </a:lnTo>
                <a:lnTo>
                  <a:pt x="85324" y="1013143"/>
                </a:lnTo>
                <a:lnTo>
                  <a:pt x="90082" y="1012825"/>
                </a:lnTo>
                <a:close/>
                <a:moveTo>
                  <a:pt x="1479299" y="812949"/>
                </a:moveTo>
                <a:lnTo>
                  <a:pt x="1478664" y="831995"/>
                </a:lnTo>
                <a:lnTo>
                  <a:pt x="1477712" y="850724"/>
                </a:lnTo>
                <a:lnTo>
                  <a:pt x="1476125" y="870087"/>
                </a:lnTo>
                <a:lnTo>
                  <a:pt x="1474538" y="888816"/>
                </a:lnTo>
                <a:lnTo>
                  <a:pt x="1472951" y="907227"/>
                </a:lnTo>
                <a:lnTo>
                  <a:pt x="1470729" y="925638"/>
                </a:lnTo>
                <a:lnTo>
                  <a:pt x="1467872" y="943732"/>
                </a:lnTo>
                <a:lnTo>
                  <a:pt x="1465332" y="961826"/>
                </a:lnTo>
                <a:lnTo>
                  <a:pt x="1462475" y="979919"/>
                </a:lnTo>
                <a:lnTo>
                  <a:pt x="1459618" y="997696"/>
                </a:lnTo>
                <a:lnTo>
                  <a:pt x="1456127" y="1014838"/>
                </a:lnTo>
                <a:lnTo>
                  <a:pt x="1452635" y="1032296"/>
                </a:lnTo>
                <a:lnTo>
                  <a:pt x="1448508" y="1049120"/>
                </a:lnTo>
                <a:lnTo>
                  <a:pt x="1444382" y="1065627"/>
                </a:lnTo>
                <a:lnTo>
                  <a:pt x="1440255" y="1082769"/>
                </a:lnTo>
                <a:lnTo>
                  <a:pt x="1435494" y="1098958"/>
                </a:lnTo>
                <a:lnTo>
                  <a:pt x="1602781" y="1098958"/>
                </a:lnTo>
                <a:lnTo>
                  <a:pt x="1611987" y="1082769"/>
                </a:lnTo>
                <a:lnTo>
                  <a:pt x="1620875" y="1066579"/>
                </a:lnTo>
                <a:lnTo>
                  <a:pt x="1629446" y="1050073"/>
                </a:lnTo>
                <a:lnTo>
                  <a:pt x="1637064" y="1032931"/>
                </a:lnTo>
                <a:lnTo>
                  <a:pt x="1644683" y="1016107"/>
                </a:lnTo>
                <a:lnTo>
                  <a:pt x="1651349" y="998331"/>
                </a:lnTo>
                <a:lnTo>
                  <a:pt x="1657698" y="980872"/>
                </a:lnTo>
                <a:lnTo>
                  <a:pt x="1663729" y="962778"/>
                </a:lnTo>
                <a:lnTo>
                  <a:pt x="1668808" y="945002"/>
                </a:lnTo>
                <a:lnTo>
                  <a:pt x="1674204" y="926273"/>
                </a:lnTo>
                <a:lnTo>
                  <a:pt x="1678013" y="907862"/>
                </a:lnTo>
                <a:lnTo>
                  <a:pt x="1682140" y="889133"/>
                </a:lnTo>
                <a:lnTo>
                  <a:pt x="1685632" y="870405"/>
                </a:lnTo>
                <a:lnTo>
                  <a:pt x="1688171" y="851359"/>
                </a:lnTo>
                <a:lnTo>
                  <a:pt x="1690393" y="831995"/>
                </a:lnTo>
                <a:lnTo>
                  <a:pt x="1691980" y="812949"/>
                </a:lnTo>
                <a:lnTo>
                  <a:pt x="1479299" y="812949"/>
                </a:lnTo>
                <a:close/>
                <a:moveTo>
                  <a:pt x="1074888" y="812949"/>
                </a:moveTo>
                <a:lnTo>
                  <a:pt x="1074888" y="1098958"/>
                </a:lnTo>
                <a:lnTo>
                  <a:pt x="1357087" y="1098958"/>
                </a:lnTo>
                <a:lnTo>
                  <a:pt x="1362166" y="1082769"/>
                </a:lnTo>
                <a:lnTo>
                  <a:pt x="1366928" y="1066262"/>
                </a:lnTo>
                <a:lnTo>
                  <a:pt x="1371372" y="1049438"/>
                </a:lnTo>
                <a:lnTo>
                  <a:pt x="1375498" y="1032296"/>
                </a:lnTo>
                <a:lnTo>
                  <a:pt x="1379625" y="1015155"/>
                </a:lnTo>
                <a:lnTo>
                  <a:pt x="1383117" y="997696"/>
                </a:lnTo>
                <a:lnTo>
                  <a:pt x="1386926" y="980237"/>
                </a:lnTo>
                <a:lnTo>
                  <a:pt x="1390100" y="962143"/>
                </a:lnTo>
                <a:lnTo>
                  <a:pt x="1393275" y="944049"/>
                </a:lnTo>
                <a:lnTo>
                  <a:pt x="1395814" y="925638"/>
                </a:lnTo>
                <a:lnTo>
                  <a:pt x="1398036" y="907227"/>
                </a:lnTo>
                <a:lnTo>
                  <a:pt x="1400258" y="888816"/>
                </a:lnTo>
                <a:lnTo>
                  <a:pt x="1402163" y="870087"/>
                </a:lnTo>
                <a:lnTo>
                  <a:pt x="1403433" y="851359"/>
                </a:lnTo>
                <a:lnTo>
                  <a:pt x="1404702" y="831995"/>
                </a:lnTo>
                <a:lnTo>
                  <a:pt x="1405655" y="812949"/>
                </a:lnTo>
                <a:lnTo>
                  <a:pt x="1074888" y="812949"/>
                </a:lnTo>
                <a:close/>
                <a:moveTo>
                  <a:pt x="671112" y="812949"/>
                </a:moveTo>
                <a:lnTo>
                  <a:pt x="671747" y="831995"/>
                </a:lnTo>
                <a:lnTo>
                  <a:pt x="673016" y="851359"/>
                </a:lnTo>
                <a:lnTo>
                  <a:pt x="674604" y="870087"/>
                </a:lnTo>
                <a:lnTo>
                  <a:pt x="676191" y="888816"/>
                </a:lnTo>
                <a:lnTo>
                  <a:pt x="678413" y="907227"/>
                </a:lnTo>
                <a:lnTo>
                  <a:pt x="680952" y="925638"/>
                </a:lnTo>
                <a:lnTo>
                  <a:pt x="683492" y="944049"/>
                </a:lnTo>
                <a:lnTo>
                  <a:pt x="686666" y="962143"/>
                </a:lnTo>
                <a:lnTo>
                  <a:pt x="689523" y="980237"/>
                </a:lnTo>
                <a:lnTo>
                  <a:pt x="693015" y="997696"/>
                </a:lnTo>
                <a:lnTo>
                  <a:pt x="696824" y="1015155"/>
                </a:lnTo>
                <a:lnTo>
                  <a:pt x="700951" y="1032296"/>
                </a:lnTo>
                <a:lnTo>
                  <a:pt x="705395" y="1049438"/>
                </a:lnTo>
                <a:lnTo>
                  <a:pt x="709839" y="1066262"/>
                </a:lnTo>
                <a:lnTo>
                  <a:pt x="714600" y="1082769"/>
                </a:lnTo>
                <a:lnTo>
                  <a:pt x="719362" y="1098958"/>
                </a:lnTo>
                <a:lnTo>
                  <a:pt x="1001243" y="1098958"/>
                </a:lnTo>
                <a:lnTo>
                  <a:pt x="1001243" y="812949"/>
                </a:lnTo>
                <a:lnTo>
                  <a:pt x="671112" y="812949"/>
                </a:lnTo>
                <a:close/>
                <a:moveTo>
                  <a:pt x="384469" y="812949"/>
                </a:moveTo>
                <a:lnTo>
                  <a:pt x="386056" y="831995"/>
                </a:lnTo>
                <a:lnTo>
                  <a:pt x="388278" y="851359"/>
                </a:lnTo>
                <a:lnTo>
                  <a:pt x="390817" y="870405"/>
                </a:lnTo>
                <a:lnTo>
                  <a:pt x="394309" y="889133"/>
                </a:lnTo>
                <a:lnTo>
                  <a:pt x="398118" y="907862"/>
                </a:lnTo>
                <a:lnTo>
                  <a:pt x="402562" y="926273"/>
                </a:lnTo>
                <a:lnTo>
                  <a:pt x="407324" y="945002"/>
                </a:lnTo>
                <a:lnTo>
                  <a:pt x="412720" y="962778"/>
                </a:lnTo>
                <a:lnTo>
                  <a:pt x="418434" y="980872"/>
                </a:lnTo>
                <a:lnTo>
                  <a:pt x="425100" y="998331"/>
                </a:lnTo>
                <a:lnTo>
                  <a:pt x="431766" y="1016107"/>
                </a:lnTo>
                <a:lnTo>
                  <a:pt x="439067" y="1032931"/>
                </a:lnTo>
                <a:lnTo>
                  <a:pt x="447321" y="1050073"/>
                </a:lnTo>
                <a:lnTo>
                  <a:pt x="455256" y="1066579"/>
                </a:lnTo>
                <a:lnTo>
                  <a:pt x="464145" y="1082769"/>
                </a:lnTo>
                <a:lnTo>
                  <a:pt x="473350" y="1098958"/>
                </a:lnTo>
                <a:lnTo>
                  <a:pt x="640956" y="1098958"/>
                </a:lnTo>
                <a:lnTo>
                  <a:pt x="635877" y="1082769"/>
                </a:lnTo>
                <a:lnTo>
                  <a:pt x="632067" y="1065627"/>
                </a:lnTo>
                <a:lnTo>
                  <a:pt x="627941" y="1049120"/>
                </a:lnTo>
                <a:lnTo>
                  <a:pt x="623814" y="1032296"/>
                </a:lnTo>
                <a:lnTo>
                  <a:pt x="620005" y="1014838"/>
                </a:lnTo>
                <a:lnTo>
                  <a:pt x="616830" y="997696"/>
                </a:lnTo>
                <a:lnTo>
                  <a:pt x="613974" y="979919"/>
                </a:lnTo>
                <a:lnTo>
                  <a:pt x="610799" y="961826"/>
                </a:lnTo>
                <a:lnTo>
                  <a:pt x="608260" y="943732"/>
                </a:lnTo>
                <a:lnTo>
                  <a:pt x="605720" y="925638"/>
                </a:lnTo>
                <a:lnTo>
                  <a:pt x="603816" y="907227"/>
                </a:lnTo>
                <a:lnTo>
                  <a:pt x="602229" y="888816"/>
                </a:lnTo>
                <a:lnTo>
                  <a:pt x="600324" y="870087"/>
                </a:lnTo>
                <a:lnTo>
                  <a:pt x="599054" y="850724"/>
                </a:lnTo>
                <a:lnTo>
                  <a:pt x="598102" y="831995"/>
                </a:lnTo>
                <a:lnTo>
                  <a:pt x="596832" y="812949"/>
                </a:lnTo>
                <a:lnTo>
                  <a:pt x="384469" y="812949"/>
                </a:lnTo>
                <a:close/>
                <a:moveTo>
                  <a:pt x="1438033" y="443773"/>
                </a:moveTo>
                <a:lnTo>
                  <a:pt x="1442477" y="460280"/>
                </a:lnTo>
                <a:lnTo>
                  <a:pt x="1446921" y="477738"/>
                </a:lnTo>
                <a:lnTo>
                  <a:pt x="1451048" y="495197"/>
                </a:lnTo>
                <a:lnTo>
                  <a:pt x="1454857" y="512656"/>
                </a:lnTo>
                <a:lnTo>
                  <a:pt x="1458349" y="530433"/>
                </a:lnTo>
                <a:lnTo>
                  <a:pt x="1461840" y="548526"/>
                </a:lnTo>
                <a:lnTo>
                  <a:pt x="1464698" y="566620"/>
                </a:lnTo>
                <a:lnTo>
                  <a:pt x="1467554" y="585031"/>
                </a:lnTo>
                <a:lnTo>
                  <a:pt x="1469776" y="603760"/>
                </a:lnTo>
                <a:lnTo>
                  <a:pt x="1471998" y="622488"/>
                </a:lnTo>
                <a:lnTo>
                  <a:pt x="1474220" y="641535"/>
                </a:lnTo>
                <a:lnTo>
                  <a:pt x="1475808" y="660581"/>
                </a:lnTo>
                <a:lnTo>
                  <a:pt x="1477077" y="680262"/>
                </a:lnTo>
                <a:lnTo>
                  <a:pt x="1478347" y="699308"/>
                </a:lnTo>
                <a:lnTo>
                  <a:pt x="1479299" y="719306"/>
                </a:lnTo>
                <a:lnTo>
                  <a:pt x="1479934" y="738987"/>
                </a:lnTo>
                <a:lnTo>
                  <a:pt x="1692933" y="738987"/>
                </a:lnTo>
                <a:lnTo>
                  <a:pt x="1691663" y="718988"/>
                </a:lnTo>
                <a:lnTo>
                  <a:pt x="1690076" y="699308"/>
                </a:lnTo>
                <a:lnTo>
                  <a:pt x="1687854" y="679309"/>
                </a:lnTo>
                <a:lnTo>
                  <a:pt x="1684679" y="659946"/>
                </a:lnTo>
                <a:lnTo>
                  <a:pt x="1681505" y="640582"/>
                </a:lnTo>
                <a:lnTo>
                  <a:pt x="1677378" y="621536"/>
                </a:lnTo>
                <a:lnTo>
                  <a:pt x="1672934" y="602808"/>
                </a:lnTo>
                <a:lnTo>
                  <a:pt x="1667855" y="584396"/>
                </a:lnTo>
                <a:lnTo>
                  <a:pt x="1662142" y="565350"/>
                </a:lnTo>
                <a:lnTo>
                  <a:pt x="1656110" y="547574"/>
                </a:lnTo>
                <a:lnTo>
                  <a:pt x="1649444" y="529480"/>
                </a:lnTo>
                <a:lnTo>
                  <a:pt x="1642461" y="511704"/>
                </a:lnTo>
                <a:lnTo>
                  <a:pt x="1634525" y="494245"/>
                </a:lnTo>
                <a:lnTo>
                  <a:pt x="1626589" y="477104"/>
                </a:lnTo>
                <a:lnTo>
                  <a:pt x="1617701" y="460280"/>
                </a:lnTo>
                <a:lnTo>
                  <a:pt x="1608495" y="443773"/>
                </a:lnTo>
                <a:lnTo>
                  <a:pt x="1438033" y="443773"/>
                </a:lnTo>
                <a:close/>
                <a:moveTo>
                  <a:pt x="1074888" y="443773"/>
                </a:moveTo>
                <a:lnTo>
                  <a:pt x="1074888" y="738987"/>
                </a:lnTo>
                <a:lnTo>
                  <a:pt x="1405972" y="738987"/>
                </a:lnTo>
                <a:lnTo>
                  <a:pt x="1405337" y="719306"/>
                </a:lnTo>
                <a:lnTo>
                  <a:pt x="1404702" y="699625"/>
                </a:lnTo>
                <a:lnTo>
                  <a:pt x="1403115" y="680262"/>
                </a:lnTo>
                <a:lnTo>
                  <a:pt x="1401528" y="660581"/>
                </a:lnTo>
                <a:lnTo>
                  <a:pt x="1399941" y="641535"/>
                </a:lnTo>
                <a:lnTo>
                  <a:pt x="1397719" y="622171"/>
                </a:lnTo>
                <a:lnTo>
                  <a:pt x="1394862" y="603442"/>
                </a:lnTo>
                <a:lnTo>
                  <a:pt x="1392322" y="585031"/>
                </a:lnTo>
                <a:lnTo>
                  <a:pt x="1389466" y="566620"/>
                </a:lnTo>
                <a:lnTo>
                  <a:pt x="1385656" y="548209"/>
                </a:lnTo>
                <a:lnTo>
                  <a:pt x="1382482" y="530115"/>
                </a:lnTo>
                <a:lnTo>
                  <a:pt x="1378355" y="512339"/>
                </a:lnTo>
                <a:lnTo>
                  <a:pt x="1374229" y="494562"/>
                </a:lnTo>
                <a:lnTo>
                  <a:pt x="1369467" y="477421"/>
                </a:lnTo>
                <a:lnTo>
                  <a:pt x="1365023" y="460280"/>
                </a:lnTo>
                <a:lnTo>
                  <a:pt x="1359944" y="443773"/>
                </a:lnTo>
                <a:lnTo>
                  <a:pt x="1074888" y="443773"/>
                </a:lnTo>
                <a:close/>
                <a:moveTo>
                  <a:pt x="716505" y="443773"/>
                </a:moveTo>
                <a:lnTo>
                  <a:pt x="711426" y="460280"/>
                </a:lnTo>
                <a:lnTo>
                  <a:pt x="706664" y="477421"/>
                </a:lnTo>
                <a:lnTo>
                  <a:pt x="702220" y="494562"/>
                </a:lnTo>
                <a:lnTo>
                  <a:pt x="698094" y="512339"/>
                </a:lnTo>
                <a:lnTo>
                  <a:pt x="694284" y="530115"/>
                </a:lnTo>
                <a:lnTo>
                  <a:pt x="690475" y="548209"/>
                </a:lnTo>
                <a:lnTo>
                  <a:pt x="687301" y="566620"/>
                </a:lnTo>
                <a:lnTo>
                  <a:pt x="683809" y="585031"/>
                </a:lnTo>
                <a:lnTo>
                  <a:pt x="681270" y="603442"/>
                </a:lnTo>
                <a:lnTo>
                  <a:pt x="678730" y="622171"/>
                </a:lnTo>
                <a:lnTo>
                  <a:pt x="676508" y="641535"/>
                </a:lnTo>
                <a:lnTo>
                  <a:pt x="674604" y="660581"/>
                </a:lnTo>
                <a:lnTo>
                  <a:pt x="673334" y="680262"/>
                </a:lnTo>
                <a:lnTo>
                  <a:pt x="672064" y="699625"/>
                </a:lnTo>
                <a:lnTo>
                  <a:pt x="671112" y="719306"/>
                </a:lnTo>
                <a:lnTo>
                  <a:pt x="670159" y="738987"/>
                </a:lnTo>
                <a:lnTo>
                  <a:pt x="1001243" y="738987"/>
                </a:lnTo>
                <a:lnTo>
                  <a:pt x="1001243" y="443773"/>
                </a:lnTo>
                <a:lnTo>
                  <a:pt x="716505" y="443773"/>
                </a:lnTo>
                <a:close/>
                <a:moveTo>
                  <a:pt x="467954" y="443773"/>
                </a:moveTo>
                <a:lnTo>
                  <a:pt x="458748" y="460280"/>
                </a:lnTo>
                <a:lnTo>
                  <a:pt x="450178" y="477104"/>
                </a:lnTo>
                <a:lnTo>
                  <a:pt x="442242" y="494245"/>
                </a:lnTo>
                <a:lnTo>
                  <a:pt x="434306" y="511704"/>
                </a:lnTo>
                <a:lnTo>
                  <a:pt x="427005" y="529480"/>
                </a:lnTo>
                <a:lnTo>
                  <a:pt x="420339" y="547574"/>
                </a:lnTo>
                <a:lnTo>
                  <a:pt x="413990" y="565350"/>
                </a:lnTo>
                <a:lnTo>
                  <a:pt x="408594" y="584396"/>
                </a:lnTo>
                <a:lnTo>
                  <a:pt x="403515" y="602808"/>
                </a:lnTo>
                <a:lnTo>
                  <a:pt x="399071" y="621536"/>
                </a:lnTo>
                <a:lnTo>
                  <a:pt x="394944" y="640582"/>
                </a:lnTo>
                <a:lnTo>
                  <a:pt x="391452" y="659946"/>
                </a:lnTo>
                <a:lnTo>
                  <a:pt x="388595" y="679309"/>
                </a:lnTo>
                <a:lnTo>
                  <a:pt x="386373" y="699308"/>
                </a:lnTo>
                <a:lnTo>
                  <a:pt x="384469" y="718988"/>
                </a:lnTo>
                <a:lnTo>
                  <a:pt x="383516" y="738987"/>
                </a:lnTo>
                <a:lnTo>
                  <a:pt x="596515" y="738987"/>
                </a:lnTo>
                <a:lnTo>
                  <a:pt x="597150" y="719306"/>
                </a:lnTo>
                <a:lnTo>
                  <a:pt x="598102" y="699308"/>
                </a:lnTo>
                <a:lnTo>
                  <a:pt x="599054" y="680262"/>
                </a:lnTo>
                <a:lnTo>
                  <a:pt x="600641" y="660581"/>
                </a:lnTo>
                <a:lnTo>
                  <a:pt x="602229" y="641535"/>
                </a:lnTo>
                <a:lnTo>
                  <a:pt x="604451" y="622488"/>
                </a:lnTo>
                <a:lnTo>
                  <a:pt x="606673" y="603760"/>
                </a:lnTo>
                <a:lnTo>
                  <a:pt x="608577" y="585031"/>
                </a:lnTo>
                <a:lnTo>
                  <a:pt x="611752" y="566620"/>
                </a:lnTo>
                <a:lnTo>
                  <a:pt x="614608" y="548526"/>
                </a:lnTo>
                <a:lnTo>
                  <a:pt x="618100" y="530433"/>
                </a:lnTo>
                <a:lnTo>
                  <a:pt x="621592" y="512656"/>
                </a:lnTo>
                <a:lnTo>
                  <a:pt x="625401" y="495197"/>
                </a:lnTo>
                <a:lnTo>
                  <a:pt x="629528" y="477738"/>
                </a:lnTo>
                <a:lnTo>
                  <a:pt x="633654" y="460280"/>
                </a:lnTo>
                <a:lnTo>
                  <a:pt x="638099" y="443773"/>
                </a:lnTo>
                <a:lnTo>
                  <a:pt x="467954" y="443773"/>
                </a:lnTo>
                <a:close/>
                <a:moveTo>
                  <a:pt x="1306615" y="168557"/>
                </a:moveTo>
                <a:lnTo>
                  <a:pt x="1314234" y="178715"/>
                </a:lnTo>
                <a:lnTo>
                  <a:pt x="1322487" y="189826"/>
                </a:lnTo>
                <a:lnTo>
                  <a:pt x="1329788" y="200936"/>
                </a:lnTo>
                <a:lnTo>
                  <a:pt x="1337406" y="212046"/>
                </a:lnTo>
                <a:lnTo>
                  <a:pt x="1345025" y="223791"/>
                </a:lnTo>
                <a:lnTo>
                  <a:pt x="1352326" y="235536"/>
                </a:lnTo>
                <a:lnTo>
                  <a:pt x="1359309" y="247916"/>
                </a:lnTo>
                <a:lnTo>
                  <a:pt x="1365975" y="260613"/>
                </a:lnTo>
                <a:lnTo>
                  <a:pt x="1372959" y="272993"/>
                </a:lnTo>
                <a:lnTo>
                  <a:pt x="1379308" y="286326"/>
                </a:lnTo>
                <a:lnTo>
                  <a:pt x="1385656" y="299658"/>
                </a:lnTo>
                <a:lnTo>
                  <a:pt x="1391688" y="312990"/>
                </a:lnTo>
                <a:lnTo>
                  <a:pt x="1398036" y="326957"/>
                </a:lnTo>
                <a:lnTo>
                  <a:pt x="1403433" y="340924"/>
                </a:lnTo>
                <a:lnTo>
                  <a:pt x="1409464" y="355209"/>
                </a:lnTo>
                <a:lnTo>
                  <a:pt x="1414543" y="369811"/>
                </a:lnTo>
                <a:lnTo>
                  <a:pt x="1559293" y="369811"/>
                </a:lnTo>
                <a:lnTo>
                  <a:pt x="1546913" y="353939"/>
                </a:lnTo>
                <a:lnTo>
                  <a:pt x="1533581" y="338067"/>
                </a:lnTo>
                <a:lnTo>
                  <a:pt x="1520248" y="322831"/>
                </a:lnTo>
                <a:lnTo>
                  <a:pt x="1505964" y="308229"/>
                </a:lnTo>
                <a:lnTo>
                  <a:pt x="1491679" y="293627"/>
                </a:lnTo>
                <a:lnTo>
                  <a:pt x="1476760" y="280294"/>
                </a:lnTo>
                <a:lnTo>
                  <a:pt x="1461523" y="266645"/>
                </a:lnTo>
                <a:lnTo>
                  <a:pt x="1445969" y="253630"/>
                </a:lnTo>
                <a:lnTo>
                  <a:pt x="1429780" y="240932"/>
                </a:lnTo>
                <a:lnTo>
                  <a:pt x="1412956" y="229187"/>
                </a:lnTo>
                <a:lnTo>
                  <a:pt x="1396132" y="217760"/>
                </a:lnTo>
                <a:lnTo>
                  <a:pt x="1378673" y="206650"/>
                </a:lnTo>
                <a:lnTo>
                  <a:pt x="1361531" y="196492"/>
                </a:lnTo>
                <a:lnTo>
                  <a:pt x="1343438" y="186651"/>
                </a:lnTo>
                <a:lnTo>
                  <a:pt x="1325026" y="177128"/>
                </a:lnTo>
                <a:lnTo>
                  <a:pt x="1306615" y="168557"/>
                </a:lnTo>
                <a:close/>
                <a:moveTo>
                  <a:pt x="770151" y="168557"/>
                </a:moveTo>
                <a:lnTo>
                  <a:pt x="751423" y="177128"/>
                </a:lnTo>
                <a:lnTo>
                  <a:pt x="733329" y="186651"/>
                </a:lnTo>
                <a:lnTo>
                  <a:pt x="715235" y="196492"/>
                </a:lnTo>
                <a:lnTo>
                  <a:pt x="697459" y="206650"/>
                </a:lnTo>
                <a:lnTo>
                  <a:pt x="680317" y="217760"/>
                </a:lnTo>
                <a:lnTo>
                  <a:pt x="663176" y="229187"/>
                </a:lnTo>
                <a:lnTo>
                  <a:pt x="646669" y="240932"/>
                </a:lnTo>
                <a:lnTo>
                  <a:pt x="630798" y="253630"/>
                </a:lnTo>
                <a:lnTo>
                  <a:pt x="614926" y="266645"/>
                </a:lnTo>
                <a:lnTo>
                  <a:pt x="599372" y="280294"/>
                </a:lnTo>
                <a:lnTo>
                  <a:pt x="584770" y="293627"/>
                </a:lnTo>
                <a:lnTo>
                  <a:pt x="570485" y="308229"/>
                </a:lnTo>
                <a:lnTo>
                  <a:pt x="556518" y="322831"/>
                </a:lnTo>
                <a:lnTo>
                  <a:pt x="542868" y="338067"/>
                </a:lnTo>
                <a:lnTo>
                  <a:pt x="529536" y="353939"/>
                </a:lnTo>
                <a:lnTo>
                  <a:pt x="516839" y="369811"/>
                </a:lnTo>
                <a:lnTo>
                  <a:pt x="661906" y="369811"/>
                </a:lnTo>
                <a:lnTo>
                  <a:pt x="667303" y="355209"/>
                </a:lnTo>
                <a:lnTo>
                  <a:pt x="673016" y="340924"/>
                </a:lnTo>
                <a:lnTo>
                  <a:pt x="678730" y="326957"/>
                </a:lnTo>
                <a:lnTo>
                  <a:pt x="684761" y="312990"/>
                </a:lnTo>
                <a:lnTo>
                  <a:pt x="690793" y="299658"/>
                </a:lnTo>
                <a:lnTo>
                  <a:pt x="697141" y="286326"/>
                </a:lnTo>
                <a:lnTo>
                  <a:pt x="703808" y="272993"/>
                </a:lnTo>
                <a:lnTo>
                  <a:pt x="710474" y="260613"/>
                </a:lnTo>
                <a:lnTo>
                  <a:pt x="717457" y="247916"/>
                </a:lnTo>
                <a:lnTo>
                  <a:pt x="724441" y="235536"/>
                </a:lnTo>
                <a:lnTo>
                  <a:pt x="731424" y="223791"/>
                </a:lnTo>
                <a:lnTo>
                  <a:pt x="738725" y="212046"/>
                </a:lnTo>
                <a:lnTo>
                  <a:pt x="746661" y="200936"/>
                </a:lnTo>
                <a:lnTo>
                  <a:pt x="754280" y="189826"/>
                </a:lnTo>
                <a:lnTo>
                  <a:pt x="762215" y="178715"/>
                </a:lnTo>
                <a:lnTo>
                  <a:pt x="770151" y="168557"/>
                </a:lnTo>
                <a:close/>
                <a:moveTo>
                  <a:pt x="1074888" y="112372"/>
                </a:moveTo>
                <a:lnTo>
                  <a:pt x="1074888" y="369811"/>
                </a:lnTo>
                <a:lnTo>
                  <a:pt x="1333597" y="369811"/>
                </a:lnTo>
                <a:lnTo>
                  <a:pt x="1324392" y="347908"/>
                </a:lnTo>
                <a:lnTo>
                  <a:pt x="1314551" y="326640"/>
                </a:lnTo>
                <a:lnTo>
                  <a:pt x="1304393" y="306324"/>
                </a:lnTo>
                <a:lnTo>
                  <a:pt x="1293600" y="286326"/>
                </a:lnTo>
                <a:lnTo>
                  <a:pt x="1282490" y="267597"/>
                </a:lnTo>
                <a:lnTo>
                  <a:pt x="1271063" y="249503"/>
                </a:lnTo>
                <a:lnTo>
                  <a:pt x="1259318" y="232362"/>
                </a:lnTo>
                <a:lnTo>
                  <a:pt x="1247255" y="215538"/>
                </a:lnTo>
                <a:lnTo>
                  <a:pt x="1234558" y="199983"/>
                </a:lnTo>
                <a:lnTo>
                  <a:pt x="1221860" y="185699"/>
                </a:lnTo>
                <a:lnTo>
                  <a:pt x="1215194" y="178715"/>
                </a:lnTo>
                <a:lnTo>
                  <a:pt x="1208528" y="172049"/>
                </a:lnTo>
                <a:lnTo>
                  <a:pt x="1201862" y="165383"/>
                </a:lnTo>
                <a:lnTo>
                  <a:pt x="1194878" y="159352"/>
                </a:lnTo>
                <a:lnTo>
                  <a:pt x="1188212" y="153321"/>
                </a:lnTo>
                <a:lnTo>
                  <a:pt x="1181229" y="147924"/>
                </a:lnTo>
                <a:lnTo>
                  <a:pt x="1174245" y="142210"/>
                </a:lnTo>
                <a:lnTo>
                  <a:pt x="1167262" y="137131"/>
                </a:lnTo>
                <a:lnTo>
                  <a:pt x="1159961" y="132370"/>
                </a:lnTo>
                <a:lnTo>
                  <a:pt x="1152977" y="127608"/>
                </a:lnTo>
                <a:lnTo>
                  <a:pt x="1145359" y="123164"/>
                </a:lnTo>
                <a:lnTo>
                  <a:pt x="1138058" y="119038"/>
                </a:lnTo>
                <a:lnTo>
                  <a:pt x="1122503" y="116816"/>
                </a:lnTo>
                <a:lnTo>
                  <a:pt x="1106632" y="114911"/>
                </a:lnTo>
                <a:lnTo>
                  <a:pt x="1090760" y="113641"/>
                </a:lnTo>
                <a:lnTo>
                  <a:pt x="1074888" y="112372"/>
                </a:lnTo>
                <a:close/>
                <a:moveTo>
                  <a:pt x="1001243" y="112372"/>
                </a:moveTo>
                <a:lnTo>
                  <a:pt x="985372" y="113641"/>
                </a:lnTo>
                <a:lnTo>
                  <a:pt x="969500" y="114911"/>
                </a:lnTo>
                <a:lnTo>
                  <a:pt x="953628" y="116816"/>
                </a:lnTo>
                <a:lnTo>
                  <a:pt x="938391" y="119038"/>
                </a:lnTo>
                <a:lnTo>
                  <a:pt x="930773" y="123164"/>
                </a:lnTo>
                <a:lnTo>
                  <a:pt x="923789" y="127608"/>
                </a:lnTo>
                <a:lnTo>
                  <a:pt x="916488" y="132370"/>
                </a:lnTo>
                <a:lnTo>
                  <a:pt x="909505" y="137131"/>
                </a:lnTo>
                <a:lnTo>
                  <a:pt x="902204" y="142210"/>
                </a:lnTo>
                <a:lnTo>
                  <a:pt x="895220" y="147924"/>
                </a:lnTo>
                <a:lnTo>
                  <a:pt x="888554" y="153321"/>
                </a:lnTo>
                <a:lnTo>
                  <a:pt x="881571" y="159352"/>
                </a:lnTo>
                <a:lnTo>
                  <a:pt x="874587" y="165383"/>
                </a:lnTo>
                <a:lnTo>
                  <a:pt x="867921" y="172049"/>
                </a:lnTo>
                <a:lnTo>
                  <a:pt x="861255" y="178715"/>
                </a:lnTo>
                <a:lnTo>
                  <a:pt x="854589" y="185699"/>
                </a:lnTo>
                <a:lnTo>
                  <a:pt x="841574" y="199983"/>
                </a:lnTo>
                <a:lnTo>
                  <a:pt x="829194" y="215538"/>
                </a:lnTo>
                <a:lnTo>
                  <a:pt x="817132" y="232362"/>
                </a:lnTo>
                <a:lnTo>
                  <a:pt x="805069" y="249503"/>
                </a:lnTo>
                <a:lnTo>
                  <a:pt x="793641" y="267597"/>
                </a:lnTo>
                <a:lnTo>
                  <a:pt x="782849" y="286326"/>
                </a:lnTo>
                <a:lnTo>
                  <a:pt x="772056" y="306324"/>
                </a:lnTo>
                <a:lnTo>
                  <a:pt x="762215" y="326640"/>
                </a:lnTo>
                <a:lnTo>
                  <a:pt x="752058" y="347908"/>
                </a:lnTo>
                <a:lnTo>
                  <a:pt x="742852" y="369811"/>
                </a:lnTo>
                <a:lnTo>
                  <a:pt x="1001243" y="369811"/>
                </a:lnTo>
                <a:lnTo>
                  <a:pt x="1001243" y="112372"/>
                </a:lnTo>
                <a:close/>
                <a:moveTo>
                  <a:pt x="1018702" y="0"/>
                </a:moveTo>
                <a:lnTo>
                  <a:pt x="1038066" y="0"/>
                </a:lnTo>
                <a:lnTo>
                  <a:pt x="1058064" y="0"/>
                </a:lnTo>
                <a:lnTo>
                  <a:pt x="1077745" y="635"/>
                </a:lnTo>
                <a:lnTo>
                  <a:pt x="1097109" y="2222"/>
                </a:lnTo>
                <a:lnTo>
                  <a:pt x="1116790" y="4127"/>
                </a:lnTo>
                <a:lnTo>
                  <a:pt x="1135836" y="6349"/>
                </a:lnTo>
                <a:lnTo>
                  <a:pt x="1154882" y="8888"/>
                </a:lnTo>
                <a:lnTo>
                  <a:pt x="1173928" y="11745"/>
                </a:lnTo>
                <a:lnTo>
                  <a:pt x="1192656" y="15554"/>
                </a:lnTo>
                <a:lnTo>
                  <a:pt x="1211067" y="19363"/>
                </a:lnTo>
                <a:lnTo>
                  <a:pt x="1229479" y="23807"/>
                </a:lnTo>
                <a:lnTo>
                  <a:pt x="1247890" y="29204"/>
                </a:lnTo>
                <a:lnTo>
                  <a:pt x="1265984" y="34283"/>
                </a:lnTo>
                <a:lnTo>
                  <a:pt x="1284077" y="39997"/>
                </a:lnTo>
                <a:lnTo>
                  <a:pt x="1301854" y="46345"/>
                </a:lnTo>
                <a:lnTo>
                  <a:pt x="1318995" y="53011"/>
                </a:lnTo>
                <a:lnTo>
                  <a:pt x="1336454" y="59995"/>
                </a:lnTo>
                <a:lnTo>
                  <a:pt x="1353278" y="67931"/>
                </a:lnTo>
                <a:lnTo>
                  <a:pt x="1370420" y="75549"/>
                </a:lnTo>
                <a:lnTo>
                  <a:pt x="1386926" y="84120"/>
                </a:lnTo>
                <a:lnTo>
                  <a:pt x="1403433" y="92373"/>
                </a:lnTo>
                <a:lnTo>
                  <a:pt x="1419622" y="101579"/>
                </a:lnTo>
                <a:lnTo>
                  <a:pt x="1435494" y="110784"/>
                </a:lnTo>
                <a:lnTo>
                  <a:pt x="1451365" y="120942"/>
                </a:lnTo>
                <a:lnTo>
                  <a:pt x="1466602" y="131100"/>
                </a:lnTo>
                <a:lnTo>
                  <a:pt x="1482156" y="141576"/>
                </a:lnTo>
                <a:lnTo>
                  <a:pt x="1496758" y="152686"/>
                </a:lnTo>
                <a:lnTo>
                  <a:pt x="1511360" y="163796"/>
                </a:lnTo>
                <a:lnTo>
                  <a:pt x="1525962" y="175224"/>
                </a:lnTo>
                <a:lnTo>
                  <a:pt x="1539929" y="187286"/>
                </a:lnTo>
                <a:lnTo>
                  <a:pt x="1553579" y="199349"/>
                </a:lnTo>
                <a:lnTo>
                  <a:pt x="1567229" y="212046"/>
                </a:lnTo>
                <a:lnTo>
                  <a:pt x="1579926" y="224743"/>
                </a:lnTo>
                <a:lnTo>
                  <a:pt x="1592941" y="237758"/>
                </a:lnTo>
                <a:lnTo>
                  <a:pt x="1605638" y="251408"/>
                </a:lnTo>
                <a:lnTo>
                  <a:pt x="1617701" y="265057"/>
                </a:lnTo>
                <a:lnTo>
                  <a:pt x="1629763" y="279025"/>
                </a:lnTo>
                <a:lnTo>
                  <a:pt x="1641191" y="293309"/>
                </a:lnTo>
                <a:lnTo>
                  <a:pt x="1652618" y="308229"/>
                </a:lnTo>
                <a:lnTo>
                  <a:pt x="1663411" y="323148"/>
                </a:lnTo>
                <a:lnTo>
                  <a:pt x="1674204" y="338385"/>
                </a:lnTo>
                <a:lnTo>
                  <a:pt x="1684044" y="353939"/>
                </a:lnTo>
                <a:lnTo>
                  <a:pt x="1693885" y="369493"/>
                </a:lnTo>
                <a:lnTo>
                  <a:pt x="1703091" y="385365"/>
                </a:lnTo>
                <a:lnTo>
                  <a:pt x="1712296" y="401554"/>
                </a:lnTo>
                <a:lnTo>
                  <a:pt x="1720867" y="418061"/>
                </a:lnTo>
                <a:lnTo>
                  <a:pt x="1729438" y="434567"/>
                </a:lnTo>
                <a:lnTo>
                  <a:pt x="1737056" y="451709"/>
                </a:lnTo>
                <a:lnTo>
                  <a:pt x="1744992" y="468533"/>
                </a:lnTo>
                <a:lnTo>
                  <a:pt x="1751976" y="485992"/>
                </a:lnTo>
                <a:lnTo>
                  <a:pt x="1758324" y="503133"/>
                </a:lnTo>
                <a:lnTo>
                  <a:pt x="1764673" y="520910"/>
                </a:lnTo>
                <a:lnTo>
                  <a:pt x="1770704" y="539003"/>
                </a:lnTo>
                <a:lnTo>
                  <a:pt x="1775783" y="557097"/>
                </a:lnTo>
                <a:lnTo>
                  <a:pt x="1780862" y="575508"/>
                </a:lnTo>
                <a:lnTo>
                  <a:pt x="1785306" y="593919"/>
                </a:lnTo>
                <a:lnTo>
                  <a:pt x="1789433" y="612331"/>
                </a:lnTo>
                <a:lnTo>
                  <a:pt x="1793242" y="631059"/>
                </a:lnTo>
                <a:lnTo>
                  <a:pt x="1796099" y="650423"/>
                </a:lnTo>
                <a:lnTo>
                  <a:pt x="1798956" y="669151"/>
                </a:lnTo>
                <a:lnTo>
                  <a:pt x="1801178" y="688515"/>
                </a:lnTo>
                <a:lnTo>
                  <a:pt x="1802765" y="707878"/>
                </a:lnTo>
                <a:lnTo>
                  <a:pt x="1804035" y="727242"/>
                </a:lnTo>
                <a:lnTo>
                  <a:pt x="1804987" y="746923"/>
                </a:lnTo>
                <a:lnTo>
                  <a:pt x="1804987" y="766921"/>
                </a:lnTo>
                <a:lnTo>
                  <a:pt x="1804987" y="786285"/>
                </a:lnTo>
                <a:lnTo>
                  <a:pt x="1804035" y="806283"/>
                </a:lnTo>
                <a:lnTo>
                  <a:pt x="1802765" y="825646"/>
                </a:lnTo>
                <a:lnTo>
                  <a:pt x="1801178" y="845010"/>
                </a:lnTo>
                <a:lnTo>
                  <a:pt x="1798956" y="864056"/>
                </a:lnTo>
                <a:lnTo>
                  <a:pt x="1796099" y="883419"/>
                </a:lnTo>
                <a:lnTo>
                  <a:pt x="1793242" y="902465"/>
                </a:lnTo>
                <a:lnTo>
                  <a:pt x="1789433" y="921194"/>
                </a:lnTo>
                <a:lnTo>
                  <a:pt x="1785306" y="939605"/>
                </a:lnTo>
                <a:lnTo>
                  <a:pt x="1780862" y="958016"/>
                </a:lnTo>
                <a:lnTo>
                  <a:pt x="1775783" y="976428"/>
                </a:lnTo>
                <a:lnTo>
                  <a:pt x="1770704" y="994521"/>
                </a:lnTo>
                <a:lnTo>
                  <a:pt x="1764673" y="1012298"/>
                </a:lnTo>
                <a:lnTo>
                  <a:pt x="1758324" y="1030074"/>
                </a:lnTo>
                <a:lnTo>
                  <a:pt x="1751976" y="1047851"/>
                </a:lnTo>
                <a:lnTo>
                  <a:pt x="1744992" y="1064992"/>
                </a:lnTo>
                <a:lnTo>
                  <a:pt x="1737056" y="1082134"/>
                </a:lnTo>
                <a:lnTo>
                  <a:pt x="1729438" y="1098958"/>
                </a:lnTo>
                <a:lnTo>
                  <a:pt x="1720867" y="1115464"/>
                </a:lnTo>
                <a:lnTo>
                  <a:pt x="1712296" y="1132288"/>
                </a:lnTo>
                <a:lnTo>
                  <a:pt x="1703091" y="1147843"/>
                </a:lnTo>
                <a:lnTo>
                  <a:pt x="1693885" y="1164349"/>
                </a:lnTo>
                <a:lnTo>
                  <a:pt x="1684044" y="1179586"/>
                </a:lnTo>
                <a:lnTo>
                  <a:pt x="1674204" y="1195140"/>
                </a:lnTo>
                <a:lnTo>
                  <a:pt x="1663411" y="1210377"/>
                </a:lnTo>
                <a:lnTo>
                  <a:pt x="1652618" y="1225297"/>
                </a:lnTo>
                <a:lnTo>
                  <a:pt x="1641191" y="1239898"/>
                </a:lnTo>
                <a:lnTo>
                  <a:pt x="1629763" y="1254183"/>
                </a:lnTo>
                <a:lnTo>
                  <a:pt x="1617701" y="1268150"/>
                </a:lnTo>
                <a:lnTo>
                  <a:pt x="1605638" y="1282117"/>
                </a:lnTo>
                <a:lnTo>
                  <a:pt x="1592941" y="1295449"/>
                </a:lnTo>
                <a:lnTo>
                  <a:pt x="1579926" y="1308782"/>
                </a:lnTo>
                <a:lnTo>
                  <a:pt x="1567229" y="1321797"/>
                </a:lnTo>
                <a:lnTo>
                  <a:pt x="1553579" y="1334176"/>
                </a:lnTo>
                <a:lnTo>
                  <a:pt x="1539929" y="1346239"/>
                </a:lnTo>
                <a:lnTo>
                  <a:pt x="1525962" y="1357984"/>
                </a:lnTo>
                <a:lnTo>
                  <a:pt x="1511360" y="1370047"/>
                </a:lnTo>
                <a:lnTo>
                  <a:pt x="1496758" y="1381157"/>
                </a:lnTo>
                <a:lnTo>
                  <a:pt x="1482156" y="1391949"/>
                </a:lnTo>
                <a:lnTo>
                  <a:pt x="1466602" y="1402425"/>
                </a:lnTo>
                <a:lnTo>
                  <a:pt x="1451365" y="1412583"/>
                </a:lnTo>
                <a:lnTo>
                  <a:pt x="1435494" y="1422423"/>
                </a:lnTo>
                <a:lnTo>
                  <a:pt x="1419622" y="1431946"/>
                </a:lnTo>
                <a:lnTo>
                  <a:pt x="1403433" y="1441152"/>
                </a:lnTo>
                <a:lnTo>
                  <a:pt x="1386926" y="1449723"/>
                </a:lnTo>
                <a:lnTo>
                  <a:pt x="1370420" y="1457976"/>
                </a:lnTo>
                <a:lnTo>
                  <a:pt x="1353278" y="1465912"/>
                </a:lnTo>
                <a:lnTo>
                  <a:pt x="1336454" y="1473213"/>
                </a:lnTo>
                <a:lnTo>
                  <a:pt x="1318995" y="1480196"/>
                </a:lnTo>
                <a:lnTo>
                  <a:pt x="1301854" y="1487180"/>
                </a:lnTo>
                <a:lnTo>
                  <a:pt x="1284077" y="1493528"/>
                </a:lnTo>
                <a:lnTo>
                  <a:pt x="1265984" y="1498925"/>
                </a:lnTo>
                <a:lnTo>
                  <a:pt x="1247890" y="1504639"/>
                </a:lnTo>
                <a:lnTo>
                  <a:pt x="1229479" y="1509400"/>
                </a:lnTo>
                <a:lnTo>
                  <a:pt x="1211067" y="1514162"/>
                </a:lnTo>
                <a:lnTo>
                  <a:pt x="1192656" y="1518288"/>
                </a:lnTo>
                <a:lnTo>
                  <a:pt x="1173928" y="1521463"/>
                </a:lnTo>
                <a:lnTo>
                  <a:pt x="1154882" y="1524637"/>
                </a:lnTo>
                <a:lnTo>
                  <a:pt x="1135836" y="1527494"/>
                </a:lnTo>
                <a:lnTo>
                  <a:pt x="1116790" y="1529716"/>
                </a:lnTo>
                <a:lnTo>
                  <a:pt x="1097109" y="1531303"/>
                </a:lnTo>
                <a:lnTo>
                  <a:pt x="1077745" y="1532573"/>
                </a:lnTo>
                <a:lnTo>
                  <a:pt x="1058064" y="1533208"/>
                </a:lnTo>
                <a:lnTo>
                  <a:pt x="1038066" y="1533525"/>
                </a:lnTo>
                <a:lnTo>
                  <a:pt x="1018702" y="1533208"/>
                </a:lnTo>
                <a:lnTo>
                  <a:pt x="998704" y="1532573"/>
                </a:lnTo>
                <a:lnTo>
                  <a:pt x="979340" y="1531303"/>
                </a:lnTo>
                <a:lnTo>
                  <a:pt x="959977" y="1529716"/>
                </a:lnTo>
                <a:lnTo>
                  <a:pt x="940931" y="1527494"/>
                </a:lnTo>
                <a:lnTo>
                  <a:pt x="921567" y="1524637"/>
                </a:lnTo>
                <a:lnTo>
                  <a:pt x="902839" y="1521463"/>
                </a:lnTo>
                <a:lnTo>
                  <a:pt x="884110" y="1518288"/>
                </a:lnTo>
                <a:lnTo>
                  <a:pt x="865382" y="1514162"/>
                </a:lnTo>
                <a:lnTo>
                  <a:pt x="846970" y="1509400"/>
                </a:lnTo>
                <a:lnTo>
                  <a:pt x="828559" y="1504639"/>
                </a:lnTo>
                <a:lnTo>
                  <a:pt x="810465" y="1498925"/>
                </a:lnTo>
                <a:lnTo>
                  <a:pt x="792689" y="1493528"/>
                </a:lnTo>
                <a:lnTo>
                  <a:pt x="774913" y="1487180"/>
                </a:lnTo>
                <a:lnTo>
                  <a:pt x="757136" y="1480196"/>
                </a:lnTo>
                <a:lnTo>
                  <a:pt x="739995" y="1473213"/>
                </a:lnTo>
                <a:lnTo>
                  <a:pt x="722854" y="1465912"/>
                </a:lnTo>
                <a:lnTo>
                  <a:pt x="706030" y="1457976"/>
                </a:lnTo>
                <a:lnTo>
                  <a:pt x="689523" y="1449723"/>
                </a:lnTo>
                <a:lnTo>
                  <a:pt x="673334" y="1441152"/>
                </a:lnTo>
                <a:lnTo>
                  <a:pt x="657145" y="1431946"/>
                </a:lnTo>
                <a:lnTo>
                  <a:pt x="640956" y="1422423"/>
                </a:lnTo>
                <a:lnTo>
                  <a:pt x="625401" y="1412583"/>
                </a:lnTo>
                <a:lnTo>
                  <a:pt x="609847" y="1402425"/>
                </a:lnTo>
                <a:lnTo>
                  <a:pt x="594610" y="1391949"/>
                </a:lnTo>
                <a:lnTo>
                  <a:pt x="579691" y="1381157"/>
                </a:lnTo>
                <a:lnTo>
                  <a:pt x="565089" y="1370047"/>
                </a:lnTo>
                <a:lnTo>
                  <a:pt x="550804" y="1357984"/>
                </a:lnTo>
                <a:lnTo>
                  <a:pt x="536837" y="1346239"/>
                </a:lnTo>
                <a:lnTo>
                  <a:pt x="522870" y="1334176"/>
                </a:lnTo>
                <a:lnTo>
                  <a:pt x="509538" y="1321797"/>
                </a:lnTo>
                <a:lnTo>
                  <a:pt x="496205" y="1308782"/>
                </a:lnTo>
                <a:lnTo>
                  <a:pt x="483508" y="1295449"/>
                </a:lnTo>
                <a:lnTo>
                  <a:pt x="470811" y="1282117"/>
                </a:lnTo>
                <a:lnTo>
                  <a:pt x="458748" y="1268150"/>
                </a:lnTo>
                <a:lnTo>
                  <a:pt x="447003" y="1254183"/>
                </a:lnTo>
                <a:lnTo>
                  <a:pt x="435258" y="1239898"/>
                </a:lnTo>
                <a:lnTo>
                  <a:pt x="424148" y="1225297"/>
                </a:lnTo>
                <a:lnTo>
                  <a:pt x="413038" y="1210377"/>
                </a:lnTo>
                <a:lnTo>
                  <a:pt x="402562" y="1195140"/>
                </a:lnTo>
                <a:lnTo>
                  <a:pt x="392404" y="1179586"/>
                </a:lnTo>
                <a:lnTo>
                  <a:pt x="382881" y="1164349"/>
                </a:lnTo>
                <a:lnTo>
                  <a:pt x="373041" y="1147843"/>
                </a:lnTo>
                <a:lnTo>
                  <a:pt x="364470" y="1132288"/>
                </a:lnTo>
                <a:lnTo>
                  <a:pt x="355582" y="1115464"/>
                </a:lnTo>
                <a:lnTo>
                  <a:pt x="347329" y="1098958"/>
                </a:lnTo>
                <a:lnTo>
                  <a:pt x="339393" y="1082134"/>
                </a:lnTo>
                <a:lnTo>
                  <a:pt x="331775" y="1064992"/>
                </a:lnTo>
                <a:lnTo>
                  <a:pt x="324791" y="1047851"/>
                </a:lnTo>
                <a:lnTo>
                  <a:pt x="318125" y="1030074"/>
                </a:lnTo>
                <a:lnTo>
                  <a:pt x="312094" y="1012298"/>
                </a:lnTo>
                <a:lnTo>
                  <a:pt x="306062" y="994521"/>
                </a:lnTo>
                <a:lnTo>
                  <a:pt x="300666" y="976428"/>
                </a:lnTo>
                <a:lnTo>
                  <a:pt x="295904" y="958016"/>
                </a:lnTo>
                <a:lnTo>
                  <a:pt x="290825" y="939605"/>
                </a:lnTo>
                <a:lnTo>
                  <a:pt x="287016" y="921194"/>
                </a:lnTo>
                <a:lnTo>
                  <a:pt x="283525" y="902465"/>
                </a:lnTo>
                <a:lnTo>
                  <a:pt x="280350" y="883419"/>
                </a:lnTo>
                <a:lnTo>
                  <a:pt x="277811" y="864056"/>
                </a:lnTo>
                <a:lnTo>
                  <a:pt x="275589" y="845010"/>
                </a:lnTo>
                <a:lnTo>
                  <a:pt x="273684" y="825646"/>
                </a:lnTo>
                <a:lnTo>
                  <a:pt x="272414" y="806283"/>
                </a:lnTo>
                <a:lnTo>
                  <a:pt x="271779" y="786285"/>
                </a:lnTo>
                <a:lnTo>
                  <a:pt x="271462" y="766921"/>
                </a:lnTo>
                <a:lnTo>
                  <a:pt x="271779" y="746923"/>
                </a:lnTo>
                <a:lnTo>
                  <a:pt x="272414" y="727242"/>
                </a:lnTo>
                <a:lnTo>
                  <a:pt x="273684" y="707878"/>
                </a:lnTo>
                <a:lnTo>
                  <a:pt x="275589" y="688515"/>
                </a:lnTo>
                <a:lnTo>
                  <a:pt x="277811" y="669151"/>
                </a:lnTo>
                <a:lnTo>
                  <a:pt x="280350" y="650423"/>
                </a:lnTo>
                <a:lnTo>
                  <a:pt x="283525" y="631059"/>
                </a:lnTo>
                <a:lnTo>
                  <a:pt x="287016" y="612331"/>
                </a:lnTo>
                <a:lnTo>
                  <a:pt x="290825" y="593919"/>
                </a:lnTo>
                <a:lnTo>
                  <a:pt x="295904" y="575508"/>
                </a:lnTo>
                <a:lnTo>
                  <a:pt x="300666" y="557097"/>
                </a:lnTo>
                <a:lnTo>
                  <a:pt x="306062" y="539003"/>
                </a:lnTo>
                <a:lnTo>
                  <a:pt x="312094" y="520910"/>
                </a:lnTo>
                <a:lnTo>
                  <a:pt x="318125" y="503133"/>
                </a:lnTo>
                <a:lnTo>
                  <a:pt x="324791" y="485992"/>
                </a:lnTo>
                <a:lnTo>
                  <a:pt x="331775" y="468533"/>
                </a:lnTo>
                <a:lnTo>
                  <a:pt x="339393" y="451709"/>
                </a:lnTo>
                <a:lnTo>
                  <a:pt x="347329" y="434567"/>
                </a:lnTo>
                <a:lnTo>
                  <a:pt x="355582" y="418061"/>
                </a:lnTo>
                <a:lnTo>
                  <a:pt x="364470" y="401554"/>
                </a:lnTo>
                <a:lnTo>
                  <a:pt x="373041" y="385365"/>
                </a:lnTo>
                <a:lnTo>
                  <a:pt x="382881" y="369493"/>
                </a:lnTo>
                <a:lnTo>
                  <a:pt x="392404" y="353939"/>
                </a:lnTo>
                <a:lnTo>
                  <a:pt x="402562" y="338385"/>
                </a:lnTo>
                <a:lnTo>
                  <a:pt x="413038" y="323148"/>
                </a:lnTo>
                <a:lnTo>
                  <a:pt x="424148" y="308229"/>
                </a:lnTo>
                <a:lnTo>
                  <a:pt x="435258" y="293309"/>
                </a:lnTo>
                <a:lnTo>
                  <a:pt x="447003" y="279025"/>
                </a:lnTo>
                <a:lnTo>
                  <a:pt x="458748" y="265057"/>
                </a:lnTo>
                <a:lnTo>
                  <a:pt x="470811" y="251408"/>
                </a:lnTo>
                <a:lnTo>
                  <a:pt x="483508" y="237758"/>
                </a:lnTo>
                <a:lnTo>
                  <a:pt x="496205" y="224743"/>
                </a:lnTo>
                <a:lnTo>
                  <a:pt x="509538" y="212046"/>
                </a:lnTo>
                <a:lnTo>
                  <a:pt x="522870" y="199349"/>
                </a:lnTo>
                <a:lnTo>
                  <a:pt x="536837" y="187286"/>
                </a:lnTo>
                <a:lnTo>
                  <a:pt x="550804" y="175224"/>
                </a:lnTo>
                <a:lnTo>
                  <a:pt x="565089" y="163796"/>
                </a:lnTo>
                <a:lnTo>
                  <a:pt x="579691" y="152686"/>
                </a:lnTo>
                <a:lnTo>
                  <a:pt x="594610" y="141576"/>
                </a:lnTo>
                <a:lnTo>
                  <a:pt x="609847" y="131100"/>
                </a:lnTo>
                <a:lnTo>
                  <a:pt x="625401" y="120942"/>
                </a:lnTo>
                <a:lnTo>
                  <a:pt x="640956" y="110784"/>
                </a:lnTo>
                <a:lnTo>
                  <a:pt x="657145" y="101579"/>
                </a:lnTo>
                <a:lnTo>
                  <a:pt x="673334" y="92373"/>
                </a:lnTo>
                <a:lnTo>
                  <a:pt x="689523" y="84120"/>
                </a:lnTo>
                <a:lnTo>
                  <a:pt x="706030" y="75549"/>
                </a:lnTo>
                <a:lnTo>
                  <a:pt x="722854" y="67931"/>
                </a:lnTo>
                <a:lnTo>
                  <a:pt x="739995" y="59995"/>
                </a:lnTo>
                <a:lnTo>
                  <a:pt x="757136" y="53011"/>
                </a:lnTo>
                <a:lnTo>
                  <a:pt x="774913" y="46345"/>
                </a:lnTo>
                <a:lnTo>
                  <a:pt x="792689" y="39997"/>
                </a:lnTo>
                <a:lnTo>
                  <a:pt x="810465" y="34283"/>
                </a:lnTo>
                <a:lnTo>
                  <a:pt x="828559" y="29204"/>
                </a:lnTo>
                <a:lnTo>
                  <a:pt x="846970" y="23807"/>
                </a:lnTo>
                <a:lnTo>
                  <a:pt x="865382" y="19363"/>
                </a:lnTo>
                <a:lnTo>
                  <a:pt x="884110" y="15554"/>
                </a:lnTo>
                <a:lnTo>
                  <a:pt x="902839" y="11745"/>
                </a:lnTo>
                <a:lnTo>
                  <a:pt x="921567" y="8888"/>
                </a:lnTo>
                <a:lnTo>
                  <a:pt x="940931" y="6349"/>
                </a:lnTo>
                <a:lnTo>
                  <a:pt x="959977" y="4127"/>
                </a:lnTo>
                <a:lnTo>
                  <a:pt x="979340" y="2222"/>
                </a:lnTo>
                <a:lnTo>
                  <a:pt x="998704" y="635"/>
                </a:lnTo>
                <a:lnTo>
                  <a:pt x="1018702" y="0"/>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KSO_Shape"/>
          <p:cNvSpPr/>
          <p:nvPr/>
        </p:nvSpPr>
        <p:spPr>
          <a:xfrm>
            <a:off x="8791560" y="4556160"/>
            <a:ext cx="368280" cy="380880"/>
          </a:xfrm>
          <a:custGeom>
            <a:avLst/>
            <a:gdLst/>
            <a:ahLst/>
            <a:rect l="l" t="t" r="r" b="b"/>
            <a:pathLst>
              <a:path w="1119349" h="1157433">
                <a:moveTo>
                  <a:pt x="135620" y="818456"/>
                </a:moveTo>
                <a:cubicBezTo>
                  <a:pt x="71450" y="948523"/>
                  <a:pt x="57484" y="1054732"/>
                  <a:pt x="108323" y="1103729"/>
                </a:cubicBezTo>
                <a:cubicBezTo>
                  <a:pt x="164989" y="1158341"/>
                  <a:pt x="289713" y="1129874"/>
                  <a:pt x="437069" y="1040437"/>
                </a:cubicBezTo>
                <a:cubicBezTo>
                  <a:pt x="307239" y="1007168"/>
                  <a:pt x="198946" y="926245"/>
                  <a:pt x="135620" y="818456"/>
                </a:cubicBezTo>
                <a:close/>
                <a:moveTo>
                  <a:pt x="582086" y="345816"/>
                </a:moveTo>
                <a:cubicBezTo>
                  <a:pt x="490772" y="345817"/>
                  <a:pt x="434615" y="407693"/>
                  <a:pt x="413811" y="495363"/>
                </a:cubicBezTo>
                <a:lnTo>
                  <a:pt x="750361" y="495364"/>
                </a:lnTo>
                <a:cubicBezTo>
                  <a:pt x="729557" y="407692"/>
                  <a:pt x="673401" y="345816"/>
                  <a:pt x="582086" y="345816"/>
                </a:cubicBezTo>
                <a:close/>
                <a:moveTo>
                  <a:pt x="954622" y="129"/>
                </a:moveTo>
                <a:cubicBezTo>
                  <a:pt x="1007406" y="-1466"/>
                  <a:pt x="1051113" y="11645"/>
                  <a:pt x="1081775" y="41196"/>
                </a:cubicBezTo>
                <a:cubicBezTo>
                  <a:pt x="1101805" y="60500"/>
                  <a:pt x="1115030" y="85625"/>
                  <a:pt x="1119349" y="116033"/>
                </a:cubicBezTo>
                <a:cubicBezTo>
                  <a:pt x="1112931" y="103633"/>
                  <a:pt x="1104158" y="92219"/>
                  <a:pt x="1093494" y="81508"/>
                </a:cubicBezTo>
                <a:cubicBezTo>
                  <a:pt x="1010899" y="-1451"/>
                  <a:pt x="882017" y="28786"/>
                  <a:pt x="737350" y="130602"/>
                </a:cubicBezTo>
                <a:cubicBezTo>
                  <a:pt x="943277" y="190863"/>
                  <a:pt x="1091569" y="370605"/>
                  <a:pt x="1091569" y="582598"/>
                </a:cubicBezTo>
                <a:lnTo>
                  <a:pt x="1085273" y="640757"/>
                </a:lnTo>
                <a:lnTo>
                  <a:pt x="755888" y="640756"/>
                </a:lnTo>
                <a:lnTo>
                  <a:pt x="719073" y="640757"/>
                </a:lnTo>
                <a:lnTo>
                  <a:pt x="408284" y="640757"/>
                </a:lnTo>
                <a:cubicBezTo>
                  <a:pt x="424002" y="743453"/>
                  <a:pt x="484447" y="819382"/>
                  <a:pt x="582086" y="819383"/>
                </a:cubicBezTo>
                <a:cubicBezTo>
                  <a:pt x="648673" y="819382"/>
                  <a:pt x="697960" y="784070"/>
                  <a:pt x="725617" y="727992"/>
                </a:cubicBezTo>
                <a:lnTo>
                  <a:pt x="1064773" y="727992"/>
                </a:lnTo>
                <a:cubicBezTo>
                  <a:pt x="1000780" y="921122"/>
                  <a:pt x="807116" y="1060320"/>
                  <a:pt x="578539" y="1060320"/>
                </a:cubicBezTo>
                <a:cubicBezTo>
                  <a:pt x="541437" y="1060319"/>
                  <a:pt x="505255" y="1056652"/>
                  <a:pt x="470646" y="1048435"/>
                </a:cubicBezTo>
                <a:cubicBezTo>
                  <a:pt x="288189" y="1159820"/>
                  <a:pt x="124174" y="1191927"/>
                  <a:pt x="45670" y="1116267"/>
                </a:cubicBezTo>
                <a:cubicBezTo>
                  <a:pt x="-38972" y="1034693"/>
                  <a:pt x="-2092" y="849162"/>
                  <a:pt x="124297" y="645271"/>
                </a:cubicBezTo>
                <a:cubicBezTo>
                  <a:pt x="126384" y="641564"/>
                  <a:pt x="128546" y="637931"/>
                  <a:pt x="130887" y="634433"/>
                </a:cubicBezTo>
                <a:cubicBezTo>
                  <a:pt x="140131" y="616742"/>
                  <a:pt x="151256" y="599735"/>
                  <a:pt x="163296" y="582889"/>
                </a:cubicBezTo>
                <a:cubicBezTo>
                  <a:pt x="171413" y="570408"/>
                  <a:pt x="179765" y="558285"/>
                  <a:pt x="189707" y="547372"/>
                </a:cubicBezTo>
                <a:cubicBezTo>
                  <a:pt x="207410" y="520542"/>
                  <a:pt x="227598" y="494496"/>
                  <a:pt x="249351" y="468810"/>
                </a:cubicBezTo>
                <a:cubicBezTo>
                  <a:pt x="261501" y="453873"/>
                  <a:pt x="274484" y="439223"/>
                  <a:pt x="288439" y="424719"/>
                </a:cubicBezTo>
                <a:cubicBezTo>
                  <a:pt x="304701" y="403895"/>
                  <a:pt x="322841" y="384213"/>
                  <a:pt x="341644" y="364703"/>
                </a:cubicBezTo>
                <a:cubicBezTo>
                  <a:pt x="392793" y="311630"/>
                  <a:pt x="445389" y="263415"/>
                  <a:pt x="498166" y="220924"/>
                </a:cubicBezTo>
                <a:cubicBezTo>
                  <a:pt x="310657" y="309270"/>
                  <a:pt x="183697" y="431706"/>
                  <a:pt x="65845" y="579499"/>
                </a:cubicBezTo>
                <a:cubicBezTo>
                  <a:pt x="67312" y="317087"/>
                  <a:pt x="296312" y="104878"/>
                  <a:pt x="578538" y="104878"/>
                </a:cubicBezTo>
                <a:lnTo>
                  <a:pt x="651994" y="111773"/>
                </a:lnTo>
                <a:cubicBezTo>
                  <a:pt x="764896" y="41979"/>
                  <a:pt x="871117" y="2651"/>
                  <a:pt x="954622" y="129"/>
                </a:cubicBez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KSO_Shape"/>
          <p:cNvSpPr/>
          <p:nvPr/>
        </p:nvSpPr>
        <p:spPr>
          <a:xfrm>
            <a:off x="6107040" y="1995480"/>
            <a:ext cx="381240" cy="3110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KSO_Shape"/>
          <p:cNvSpPr/>
          <p:nvPr/>
        </p:nvSpPr>
        <p:spPr>
          <a:xfrm>
            <a:off x="7456320" y="4998960"/>
            <a:ext cx="381240" cy="355680"/>
          </a:xfrm>
          <a:custGeom>
            <a:avLst/>
            <a:gdLst/>
            <a:ahLst/>
            <a:rect l="l" t="t" r="r" b="b"/>
            <a:pathLst>
              <a:path w="969654" h="903534">
                <a:moveTo>
                  <a:pt x="813088" y="487443"/>
                </a:moveTo>
                <a:cubicBezTo>
                  <a:pt x="793206" y="487443"/>
                  <a:pt x="777088" y="503561"/>
                  <a:pt x="777088" y="523443"/>
                </a:cubicBezTo>
                <a:cubicBezTo>
                  <a:pt x="777088" y="543325"/>
                  <a:pt x="793206" y="559443"/>
                  <a:pt x="813088" y="559443"/>
                </a:cubicBezTo>
                <a:cubicBezTo>
                  <a:pt x="832970" y="559443"/>
                  <a:pt x="849088" y="543325"/>
                  <a:pt x="849088" y="523443"/>
                </a:cubicBezTo>
                <a:cubicBezTo>
                  <a:pt x="849088" y="503561"/>
                  <a:pt x="832970" y="487443"/>
                  <a:pt x="813088" y="487443"/>
                </a:cubicBezTo>
                <a:close/>
                <a:moveTo>
                  <a:pt x="606961" y="487443"/>
                </a:moveTo>
                <a:cubicBezTo>
                  <a:pt x="587079" y="487443"/>
                  <a:pt x="570961" y="503561"/>
                  <a:pt x="570961" y="523443"/>
                </a:cubicBezTo>
                <a:cubicBezTo>
                  <a:pt x="570961" y="543325"/>
                  <a:pt x="587079" y="559443"/>
                  <a:pt x="606961" y="559443"/>
                </a:cubicBezTo>
                <a:cubicBezTo>
                  <a:pt x="626843" y="559443"/>
                  <a:pt x="642961" y="543325"/>
                  <a:pt x="642961" y="523443"/>
                </a:cubicBezTo>
                <a:cubicBezTo>
                  <a:pt x="642961" y="503561"/>
                  <a:pt x="626843" y="487443"/>
                  <a:pt x="606961" y="487443"/>
                </a:cubicBezTo>
                <a:close/>
                <a:moveTo>
                  <a:pt x="691345" y="336511"/>
                </a:moveTo>
                <a:cubicBezTo>
                  <a:pt x="769490" y="335080"/>
                  <a:pt x="847112" y="364668"/>
                  <a:pt x="901758" y="422110"/>
                </a:cubicBezTo>
                <a:cubicBezTo>
                  <a:pt x="999759" y="525126"/>
                  <a:pt x="990612" y="681640"/>
                  <a:pt x="881173" y="774306"/>
                </a:cubicBezTo>
                <a:lnTo>
                  <a:pt x="905846" y="903534"/>
                </a:lnTo>
                <a:lnTo>
                  <a:pt x="792422" y="824563"/>
                </a:lnTo>
                <a:cubicBezTo>
                  <a:pt x="666952" y="867914"/>
                  <a:pt x="525982" y="820668"/>
                  <a:pt x="459770" y="713074"/>
                </a:cubicBezTo>
                <a:cubicBezTo>
                  <a:pt x="386891" y="594648"/>
                  <a:pt x="429055" y="444146"/>
                  <a:pt x="554971" y="373268"/>
                </a:cubicBezTo>
                <a:cubicBezTo>
                  <a:pt x="597384" y="349394"/>
                  <a:pt x="644458" y="337369"/>
                  <a:pt x="691345" y="336511"/>
                </a:cubicBezTo>
                <a:close/>
                <a:moveTo>
                  <a:pt x="547874" y="187267"/>
                </a:moveTo>
                <a:cubicBezTo>
                  <a:pt x="518051" y="187267"/>
                  <a:pt x="493874" y="211444"/>
                  <a:pt x="493874" y="241267"/>
                </a:cubicBezTo>
                <a:cubicBezTo>
                  <a:pt x="493874" y="271090"/>
                  <a:pt x="518051" y="295267"/>
                  <a:pt x="547874" y="295267"/>
                </a:cubicBezTo>
                <a:cubicBezTo>
                  <a:pt x="577697" y="295267"/>
                  <a:pt x="601874" y="271090"/>
                  <a:pt x="601874" y="241267"/>
                </a:cubicBezTo>
                <a:cubicBezTo>
                  <a:pt x="601874" y="211444"/>
                  <a:pt x="577697" y="187267"/>
                  <a:pt x="547874" y="187267"/>
                </a:cubicBezTo>
                <a:close/>
                <a:moveTo>
                  <a:pt x="294449" y="187267"/>
                </a:moveTo>
                <a:cubicBezTo>
                  <a:pt x="264626" y="187267"/>
                  <a:pt x="240449" y="211444"/>
                  <a:pt x="240449" y="241267"/>
                </a:cubicBezTo>
                <a:cubicBezTo>
                  <a:pt x="240449" y="271090"/>
                  <a:pt x="264626" y="295267"/>
                  <a:pt x="294449" y="295267"/>
                </a:cubicBezTo>
                <a:cubicBezTo>
                  <a:pt x="324272" y="295267"/>
                  <a:pt x="348449" y="271090"/>
                  <a:pt x="348449" y="241267"/>
                </a:cubicBezTo>
                <a:cubicBezTo>
                  <a:pt x="348449" y="211444"/>
                  <a:pt x="324272" y="187267"/>
                  <a:pt x="294449" y="187267"/>
                </a:cubicBezTo>
                <a:close/>
                <a:moveTo>
                  <a:pt x="408549" y="168"/>
                </a:moveTo>
                <a:cubicBezTo>
                  <a:pt x="456533" y="-1113"/>
                  <a:pt x="505397" y="4870"/>
                  <a:pt x="553141" y="18800"/>
                </a:cubicBezTo>
                <a:cubicBezTo>
                  <a:pt x="730896" y="70663"/>
                  <a:pt x="843952" y="217556"/>
                  <a:pt x="840274" y="375462"/>
                </a:cubicBezTo>
                <a:cubicBezTo>
                  <a:pt x="754752" y="310337"/>
                  <a:pt x="632797" y="302687"/>
                  <a:pt x="535419" y="357502"/>
                </a:cubicBezTo>
                <a:cubicBezTo>
                  <a:pt x="409503" y="428380"/>
                  <a:pt x="367339" y="578882"/>
                  <a:pt x="440218" y="697308"/>
                </a:cubicBezTo>
                <a:cubicBezTo>
                  <a:pt x="450352" y="713775"/>
                  <a:pt x="462237" y="728829"/>
                  <a:pt x="478397" y="739559"/>
                </a:cubicBezTo>
                <a:cubicBezTo>
                  <a:pt x="442192" y="745523"/>
                  <a:pt x="404623" y="745773"/>
                  <a:pt x="366675" y="741395"/>
                </a:cubicBezTo>
                <a:lnTo>
                  <a:pt x="245711" y="837584"/>
                </a:lnTo>
                <a:lnTo>
                  <a:pt x="214226" y="696474"/>
                </a:lnTo>
                <a:cubicBezTo>
                  <a:pt x="11680" y="595442"/>
                  <a:pt x="-59861" y="368389"/>
                  <a:pt x="54436" y="189343"/>
                </a:cubicBezTo>
                <a:cubicBezTo>
                  <a:pt x="128564" y="73222"/>
                  <a:pt x="264598" y="4010"/>
                  <a:pt x="408549" y="168"/>
                </a:cubicBez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KSO_Shape"/>
          <p:cNvSpPr/>
          <p:nvPr/>
        </p:nvSpPr>
        <p:spPr>
          <a:xfrm>
            <a:off x="6146640" y="4518000"/>
            <a:ext cx="279720" cy="380880"/>
          </a:xfrm>
          <a:custGeom>
            <a:avLst/>
            <a:gdLst/>
            <a:ahLst/>
            <a:rect l="l" t="t" r="r" b="b"/>
            <a:pathLst>
              <a:path w="1387475" h="1890713">
                <a:moveTo>
                  <a:pt x="1185185" y="1355117"/>
                </a:moveTo>
                <a:lnTo>
                  <a:pt x="1112995" y="1364242"/>
                </a:lnTo>
                <a:lnTo>
                  <a:pt x="719520" y="1412247"/>
                </a:lnTo>
                <a:lnTo>
                  <a:pt x="699687" y="1419785"/>
                </a:lnTo>
                <a:lnTo>
                  <a:pt x="661609" y="1434464"/>
                </a:lnTo>
                <a:lnTo>
                  <a:pt x="591006" y="1461839"/>
                </a:lnTo>
                <a:lnTo>
                  <a:pt x="656849" y="1453905"/>
                </a:lnTo>
                <a:lnTo>
                  <a:pt x="686201" y="1449937"/>
                </a:lnTo>
                <a:lnTo>
                  <a:pt x="1212950" y="1385269"/>
                </a:lnTo>
                <a:lnTo>
                  <a:pt x="1207397" y="1379318"/>
                </a:lnTo>
                <a:lnTo>
                  <a:pt x="1185185" y="1355117"/>
                </a:lnTo>
                <a:close/>
                <a:moveTo>
                  <a:pt x="882939" y="1288862"/>
                </a:moveTo>
                <a:lnTo>
                  <a:pt x="692944" y="1297987"/>
                </a:lnTo>
                <a:lnTo>
                  <a:pt x="638207" y="1300764"/>
                </a:lnTo>
                <a:lnTo>
                  <a:pt x="608855" y="1302351"/>
                </a:lnTo>
                <a:lnTo>
                  <a:pt x="271704" y="1332106"/>
                </a:lnTo>
                <a:lnTo>
                  <a:pt x="253855" y="1342421"/>
                </a:lnTo>
                <a:lnTo>
                  <a:pt x="152313" y="1399948"/>
                </a:lnTo>
                <a:lnTo>
                  <a:pt x="688581" y="1318617"/>
                </a:lnTo>
                <a:lnTo>
                  <a:pt x="749665" y="1309492"/>
                </a:lnTo>
                <a:lnTo>
                  <a:pt x="761564" y="1307112"/>
                </a:lnTo>
                <a:lnTo>
                  <a:pt x="882939" y="1288862"/>
                </a:lnTo>
                <a:close/>
                <a:moveTo>
                  <a:pt x="1118944" y="1098824"/>
                </a:moveTo>
                <a:lnTo>
                  <a:pt x="1117754" y="1099221"/>
                </a:lnTo>
                <a:lnTo>
                  <a:pt x="1116168" y="1100808"/>
                </a:lnTo>
                <a:lnTo>
                  <a:pt x="1115374" y="1102395"/>
                </a:lnTo>
                <a:lnTo>
                  <a:pt x="1114978" y="1103585"/>
                </a:lnTo>
                <a:lnTo>
                  <a:pt x="1115771" y="1105569"/>
                </a:lnTo>
                <a:lnTo>
                  <a:pt x="1116564" y="1107156"/>
                </a:lnTo>
                <a:lnTo>
                  <a:pt x="1118151" y="1109139"/>
                </a:lnTo>
                <a:lnTo>
                  <a:pt x="1119737" y="1110726"/>
                </a:lnTo>
                <a:lnTo>
                  <a:pt x="1124497" y="1114694"/>
                </a:lnTo>
                <a:lnTo>
                  <a:pt x="1123307" y="1106362"/>
                </a:lnTo>
                <a:lnTo>
                  <a:pt x="1122514" y="1102791"/>
                </a:lnTo>
                <a:lnTo>
                  <a:pt x="1121721" y="1100808"/>
                </a:lnTo>
                <a:lnTo>
                  <a:pt x="1120134" y="1099221"/>
                </a:lnTo>
                <a:lnTo>
                  <a:pt x="1118944" y="1098824"/>
                </a:lnTo>
                <a:close/>
                <a:moveTo>
                  <a:pt x="953542" y="742950"/>
                </a:moveTo>
                <a:lnTo>
                  <a:pt x="973374" y="743347"/>
                </a:lnTo>
                <a:lnTo>
                  <a:pt x="993207" y="744140"/>
                </a:lnTo>
                <a:lnTo>
                  <a:pt x="1013436" y="746124"/>
                </a:lnTo>
                <a:lnTo>
                  <a:pt x="1033268" y="749298"/>
                </a:lnTo>
                <a:lnTo>
                  <a:pt x="1053497" y="752868"/>
                </a:lnTo>
                <a:lnTo>
                  <a:pt x="1072933" y="757629"/>
                </a:lnTo>
                <a:lnTo>
                  <a:pt x="1093162" y="762787"/>
                </a:lnTo>
                <a:lnTo>
                  <a:pt x="1112598" y="768738"/>
                </a:lnTo>
                <a:lnTo>
                  <a:pt x="1132430" y="775483"/>
                </a:lnTo>
                <a:lnTo>
                  <a:pt x="1151469" y="782624"/>
                </a:lnTo>
                <a:lnTo>
                  <a:pt x="1170509" y="790162"/>
                </a:lnTo>
                <a:lnTo>
                  <a:pt x="1188754" y="798097"/>
                </a:lnTo>
                <a:lnTo>
                  <a:pt x="1206603" y="806428"/>
                </a:lnTo>
                <a:lnTo>
                  <a:pt x="1224056" y="815553"/>
                </a:lnTo>
                <a:lnTo>
                  <a:pt x="1240715" y="824678"/>
                </a:lnTo>
                <a:lnTo>
                  <a:pt x="1257374" y="833803"/>
                </a:lnTo>
                <a:lnTo>
                  <a:pt x="1272844" y="843722"/>
                </a:lnTo>
                <a:lnTo>
                  <a:pt x="1287520" y="853640"/>
                </a:lnTo>
                <a:lnTo>
                  <a:pt x="1301402" y="863558"/>
                </a:lnTo>
                <a:lnTo>
                  <a:pt x="1314492" y="873477"/>
                </a:lnTo>
                <a:lnTo>
                  <a:pt x="1326391" y="883395"/>
                </a:lnTo>
                <a:lnTo>
                  <a:pt x="1337894" y="893314"/>
                </a:lnTo>
                <a:lnTo>
                  <a:pt x="1347810" y="903232"/>
                </a:lnTo>
                <a:lnTo>
                  <a:pt x="1356537" y="912754"/>
                </a:lnTo>
                <a:lnTo>
                  <a:pt x="1364866" y="922672"/>
                </a:lnTo>
                <a:lnTo>
                  <a:pt x="1370816" y="931797"/>
                </a:lnTo>
                <a:lnTo>
                  <a:pt x="1376369" y="940526"/>
                </a:lnTo>
                <a:lnTo>
                  <a:pt x="1378749" y="944890"/>
                </a:lnTo>
                <a:lnTo>
                  <a:pt x="1380732" y="948857"/>
                </a:lnTo>
                <a:lnTo>
                  <a:pt x="1381922" y="953221"/>
                </a:lnTo>
                <a:lnTo>
                  <a:pt x="1383112" y="957585"/>
                </a:lnTo>
                <a:lnTo>
                  <a:pt x="1383905" y="961156"/>
                </a:lnTo>
                <a:lnTo>
                  <a:pt x="1384302" y="965123"/>
                </a:lnTo>
                <a:lnTo>
                  <a:pt x="1385888" y="976232"/>
                </a:lnTo>
                <a:lnTo>
                  <a:pt x="1387078" y="988134"/>
                </a:lnTo>
                <a:lnTo>
                  <a:pt x="1387475" y="1000830"/>
                </a:lnTo>
                <a:lnTo>
                  <a:pt x="1387475" y="1013922"/>
                </a:lnTo>
                <a:lnTo>
                  <a:pt x="1386682" y="1027014"/>
                </a:lnTo>
                <a:lnTo>
                  <a:pt x="1385492" y="1040900"/>
                </a:lnTo>
                <a:lnTo>
                  <a:pt x="1383509" y="1055183"/>
                </a:lnTo>
                <a:lnTo>
                  <a:pt x="1381525" y="1069465"/>
                </a:lnTo>
                <a:lnTo>
                  <a:pt x="1379145" y="1084541"/>
                </a:lnTo>
                <a:lnTo>
                  <a:pt x="1375972" y="1100014"/>
                </a:lnTo>
                <a:lnTo>
                  <a:pt x="1372799" y="1115487"/>
                </a:lnTo>
                <a:lnTo>
                  <a:pt x="1369229" y="1131357"/>
                </a:lnTo>
                <a:lnTo>
                  <a:pt x="1365263" y="1148020"/>
                </a:lnTo>
                <a:lnTo>
                  <a:pt x="1360503" y="1164286"/>
                </a:lnTo>
                <a:lnTo>
                  <a:pt x="1350983" y="1198009"/>
                </a:lnTo>
                <a:lnTo>
                  <a:pt x="1339877" y="1232525"/>
                </a:lnTo>
                <a:lnTo>
                  <a:pt x="1327978" y="1267834"/>
                </a:lnTo>
                <a:lnTo>
                  <a:pt x="1315285" y="1303541"/>
                </a:lnTo>
                <a:lnTo>
                  <a:pt x="1302196" y="1339247"/>
                </a:lnTo>
                <a:lnTo>
                  <a:pt x="1288710" y="1374954"/>
                </a:lnTo>
                <a:lnTo>
                  <a:pt x="1274827" y="1411057"/>
                </a:lnTo>
                <a:lnTo>
                  <a:pt x="1246665" y="1482073"/>
                </a:lnTo>
                <a:lnTo>
                  <a:pt x="1212950" y="1581654"/>
                </a:lnTo>
                <a:lnTo>
                  <a:pt x="1106251" y="1559437"/>
                </a:lnTo>
                <a:lnTo>
                  <a:pt x="1101095" y="1638784"/>
                </a:lnTo>
                <a:lnTo>
                  <a:pt x="1092369" y="1729241"/>
                </a:lnTo>
                <a:lnTo>
                  <a:pt x="1085229" y="1803431"/>
                </a:lnTo>
                <a:lnTo>
                  <a:pt x="1076503" y="1890713"/>
                </a:lnTo>
                <a:lnTo>
                  <a:pt x="285190" y="1890713"/>
                </a:lnTo>
                <a:lnTo>
                  <a:pt x="274084" y="1780023"/>
                </a:lnTo>
                <a:lnTo>
                  <a:pt x="265358" y="1685203"/>
                </a:lnTo>
                <a:lnTo>
                  <a:pt x="255441" y="1570546"/>
                </a:lnTo>
                <a:lnTo>
                  <a:pt x="232832" y="1576893"/>
                </a:lnTo>
                <a:lnTo>
                  <a:pt x="209827" y="1582448"/>
                </a:lnTo>
                <a:lnTo>
                  <a:pt x="197927" y="1584828"/>
                </a:lnTo>
                <a:lnTo>
                  <a:pt x="186821" y="1587605"/>
                </a:lnTo>
                <a:lnTo>
                  <a:pt x="174922" y="1589192"/>
                </a:lnTo>
                <a:lnTo>
                  <a:pt x="163816" y="1590779"/>
                </a:lnTo>
                <a:lnTo>
                  <a:pt x="152313" y="1591573"/>
                </a:lnTo>
                <a:lnTo>
                  <a:pt x="142000" y="1591969"/>
                </a:lnTo>
                <a:lnTo>
                  <a:pt x="131291" y="1591969"/>
                </a:lnTo>
                <a:lnTo>
                  <a:pt x="121374" y="1591573"/>
                </a:lnTo>
                <a:lnTo>
                  <a:pt x="112251" y="1590382"/>
                </a:lnTo>
                <a:lnTo>
                  <a:pt x="103129" y="1588399"/>
                </a:lnTo>
                <a:lnTo>
                  <a:pt x="99162" y="1587209"/>
                </a:lnTo>
                <a:lnTo>
                  <a:pt x="95196" y="1585225"/>
                </a:lnTo>
                <a:lnTo>
                  <a:pt x="91229" y="1583638"/>
                </a:lnTo>
                <a:lnTo>
                  <a:pt x="87659" y="1581654"/>
                </a:lnTo>
                <a:lnTo>
                  <a:pt x="74570" y="1515399"/>
                </a:lnTo>
                <a:lnTo>
                  <a:pt x="59497" y="1433274"/>
                </a:lnTo>
                <a:lnTo>
                  <a:pt x="51564" y="1388046"/>
                </a:lnTo>
                <a:lnTo>
                  <a:pt x="43235" y="1341628"/>
                </a:lnTo>
                <a:lnTo>
                  <a:pt x="35698" y="1295209"/>
                </a:lnTo>
                <a:lnTo>
                  <a:pt x="28162" y="1247998"/>
                </a:lnTo>
                <a:lnTo>
                  <a:pt x="21022" y="1202373"/>
                </a:lnTo>
                <a:lnTo>
                  <a:pt x="14676" y="1157938"/>
                </a:lnTo>
                <a:lnTo>
                  <a:pt x="9520" y="1116677"/>
                </a:lnTo>
                <a:lnTo>
                  <a:pt x="5156" y="1078987"/>
                </a:lnTo>
                <a:lnTo>
                  <a:pt x="1983" y="1045264"/>
                </a:lnTo>
                <a:lnTo>
                  <a:pt x="793" y="1030188"/>
                </a:lnTo>
                <a:lnTo>
                  <a:pt x="0" y="1016699"/>
                </a:lnTo>
                <a:lnTo>
                  <a:pt x="0" y="1004797"/>
                </a:lnTo>
                <a:lnTo>
                  <a:pt x="0" y="994482"/>
                </a:lnTo>
                <a:lnTo>
                  <a:pt x="397" y="985754"/>
                </a:lnTo>
                <a:lnTo>
                  <a:pt x="1190" y="979009"/>
                </a:lnTo>
                <a:lnTo>
                  <a:pt x="1587" y="972661"/>
                </a:lnTo>
                <a:lnTo>
                  <a:pt x="2380" y="966314"/>
                </a:lnTo>
                <a:lnTo>
                  <a:pt x="3966" y="959966"/>
                </a:lnTo>
                <a:lnTo>
                  <a:pt x="5553" y="954015"/>
                </a:lnTo>
                <a:lnTo>
                  <a:pt x="7536" y="948064"/>
                </a:lnTo>
                <a:lnTo>
                  <a:pt x="9520" y="942113"/>
                </a:lnTo>
                <a:lnTo>
                  <a:pt x="12296" y="936558"/>
                </a:lnTo>
                <a:lnTo>
                  <a:pt x="15073" y="931004"/>
                </a:lnTo>
                <a:lnTo>
                  <a:pt x="18246" y="925053"/>
                </a:lnTo>
                <a:lnTo>
                  <a:pt x="21816" y="919498"/>
                </a:lnTo>
                <a:lnTo>
                  <a:pt x="25782" y="914341"/>
                </a:lnTo>
                <a:lnTo>
                  <a:pt x="29352" y="909183"/>
                </a:lnTo>
                <a:lnTo>
                  <a:pt x="34112" y="904026"/>
                </a:lnTo>
                <a:lnTo>
                  <a:pt x="38872" y="898471"/>
                </a:lnTo>
                <a:lnTo>
                  <a:pt x="48391" y="888950"/>
                </a:lnTo>
                <a:lnTo>
                  <a:pt x="59894" y="879031"/>
                </a:lnTo>
                <a:lnTo>
                  <a:pt x="71793" y="869906"/>
                </a:lnTo>
                <a:lnTo>
                  <a:pt x="84486" y="860781"/>
                </a:lnTo>
                <a:lnTo>
                  <a:pt x="98765" y="852450"/>
                </a:lnTo>
                <a:lnTo>
                  <a:pt x="113441" y="844118"/>
                </a:lnTo>
                <a:lnTo>
                  <a:pt x="128514" y="836183"/>
                </a:lnTo>
                <a:lnTo>
                  <a:pt x="144380" y="828645"/>
                </a:lnTo>
                <a:lnTo>
                  <a:pt x="161436" y="821504"/>
                </a:lnTo>
                <a:lnTo>
                  <a:pt x="178492" y="814760"/>
                </a:lnTo>
                <a:lnTo>
                  <a:pt x="196341" y="808015"/>
                </a:lnTo>
                <a:lnTo>
                  <a:pt x="214587" y="801667"/>
                </a:lnTo>
                <a:lnTo>
                  <a:pt x="233229" y="795716"/>
                </a:lnTo>
                <a:lnTo>
                  <a:pt x="252268" y="790162"/>
                </a:lnTo>
                <a:lnTo>
                  <a:pt x="271704" y="784608"/>
                </a:lnTo>
                <a:lnTo>
                  <a:pt x="291140" y="779450"/>
                </a:lnTo>
                <a:lnTo>
                  <a:pt x="310972" y="774689"/>
                </a:lnTo>
                <a:lnTo>
                  <a:pt x="331201" y="769928"/>
                </a:lnTo>
                <a:lnTo>
                  <a:pt x="351034" y="765564"/>
                </a:lnTo>
                <a:lnTo>
                  <a:pt x="371263" y="761994"/>
                </a:lnTo>
                <a:lnTo>
                  <a:pt x="391492" y="758026"/>
                </a:lnTo>
                <a:lnTo>
                  <a:pt x="431156" y="751282"/>
                </a:lnTo>
                <a:lnTo>
                  <a:pt x="470028" y="745727"/>
                </a:lnTo>
                <a:lnTo>
                  <a:pt x="474788" y="745330"/>
                </a:lnTo>
                <a:lnTo>
                  <a:pt x="479548" y="744934"/>
                </a:lnTo>
                <a:lnTo>
                  <a:pt x="488670" y="745330"/>
                </a:lnTo>
                <a:lnTo>
                  <a:pt x="616391" y="1197215"/>
                </a:lnTo>
                <a:lnTo>
                  <a:pt x="618771" y="1179759"/>
                </a:lnTo>
                <a:lnTo>
                  <a:pt x="663196" y="869509"/>
                </a:lnTo>
                <a:lnTo>
                  <a:pt x="650503" y="838961"/>
                </a:lnTo>
                <a:lnTo>
                  <a:pt x="675095" y="798493"/>
                </a:lnTo>
                <a:lnTo>
                  <a:pt x="731022" y="798097"/>
                </a:lnTo>
                <a:lnTo>
                  <a:pt x="754028" y="838961"/>
                </a:lnTo>
                <a:lnTo>
                  <a:pt x="743319" y="875461"/>
                </a:lnTo>
                <a:lnTo>
                  <a:pt x="782983" y="1202373"/>
                </a:lnTo>
                <a:lnTo>
                  <a:pt x="887302" y="760407"/>
                </a:lnTo>
                <a:lnTo>
                  <a:pt x="899201" y="754852"/>
                </a:lnTo>
                <a:lnTo>
                  <a:pt x="907927" y="750488"/>
                </a:lnTo>
                <a:lnTo>
                  <a:pt x="913481" y="747314"/>
                </a:lnTo>
                <a:lnTo>
                  <a:pt x="914671" y="746124"/>
                </a:lnTo>
                <a:lnTo>
                  <a:pt x="914671" y="745727"/>
                </a:lnTo>
                <a:lnTo>
                  <a:pt x="924587" y="744537"/>
                </a:lnTo>
                <a:lnTo>
                  <a:pt x="934106" y="743744"/>
                </a:lnTo>
                <a:lnTo>
                  <a:pt x="943626" y="743347"/>
                </a:lnTo>
                <a:lnTo>
                  <a:pt x="953542" y="742950"/>
                </a:lnTo>
                <a:close/>
                <a:moveTo>
                  <a:pt x="713979" y="0"/>
                </a:moveTo>
                <a:lnTo>
                  <a:pt x="725091" y="0"/>
                </a:lnTo>
                <a:lnTo>
                  <a:pt x="736601" y="397"/>
                </a:lnTo>
                <a:lnTo>
                  <a:pt x="746919" y="794"/>
                </a:lnTo>
                <a:lnTo>
                  <a:pt x="758032" y="1985"/>
                </a:lnTo>
                <a:lnTo>
                  <a:pt x="768351" y="3177"/>
                </a:lnTo>
                <a:lnTo>
                  <a:pt x="778669" y="4368"/>
                </a:lnTo>
                <a:lnTo>
                  <a:pt x="788591" y="5956"/>
                </a:lnTo>
                <a:lnTo>
                  <a:pt x="808038" y="9530"/>
                </a:lnTo>
                <a:lnTo>
                  <a:pt x="826691" y="13898"/>
                </a:lnTo>
                <a:lnTo>
                  <a:pt x="844551" y="19060"/>
                </a:lnTo>
                <a:lnTo>
                  <a:pt x="860822" y="25016"/>
                </a:lnTo>
                <a:lnTo>
                  <a:pt x="876697" y="30973"/>
                </a:lnTo>
                <a:lnTo>
                  <a:pt x="891779" y="37723"/>
                </a:lnTo>
                <a:lnTo>
                  <a:pt x="906066" y="44076"/>
                </a:lnTo>
                <a:lnTo>
                  <a:pt x="919163" y="51224"/>
                </a:lnTo>
                <a:lnTo>
                  <a:pt x="930672" y="57974"/>
                </a:lnTo>
                <a:lnTo>
                  <a:pt x="942182" y="64725"/>
                </a:lnTo>
                <a:lnTo>
                  <a:pt x="952501" y="71475"/>
                </a:lnTo>
                <a:lnTo>
                  <a:pt x="961232" y="77829"/>
                </a:lnTo>
                <a:lnTo>
                  <a:pt x="969566" y="84182"/>
                </a:lnTo>
                <a:lnTo>
                  <a:pt x="976313" y="89344"/>
                </a:lnTo>
                <a:lnTo>
                  <a:pt x="987822" y="98874"/>
                </a:lnTo>
                <a:lnTo>
                  <a:pt x="994172" y="105227"/>
                </a:lnTo>
                <a:lnTo>
                  <a:pt x="996554" y="107213"/>
                </a:lnTo>
                <a:lnTo>
                  <a:pt x="993775" y="113566"/>
                </a:lnTo>
                <a:lnTo>
                  <a:pt x="989410" y="120317"/>
                </a:lnTo>
                <a:lnTo>
                  <a:pt x="984251" y="129450"/>
                </a:lnTo>
                <a:lnTo>
                  <a:pt x="977107" y="139774"/>
                </a:lnTo>
                <a:lnTo>
                  <a:pt x="973138" y="144936"/>
                </a:lnTo>
                <a:lnTo>
                  <a:pt x="968375" y="150495"/>
                </a:lnTo>
                <a:lnTo>
                  <a:pt x="963216" y="156054"/>
                </a:lnTo>
                <a:lnTo>
                  <a:pt x="957660" y="161613"/>
                </a:lnTo>
                <a:lnTo>
                  <a:pt x="951707" y="167173"/>
                </a:lnTo>
                <a:lnTo>
                  <a:pt x="945754" y="172732"/>
                </a:lnTo>
                <a:lnTo>
                  <a:pt x="938610" y="177497"/>
                </a:lnTo>
                <a:lnTo>
                  <a:pt x="931069" y="182262"/>
                </a:lnTo>
                <a:lnTo>
                  <a:pt x="923529" y="186630"/>
                </a:lnTo>
                <a:lnTo>
                  <a:pt x="915194" y="190601"/>
                </a:lnTo>
                <a:lnTo>
                  <a:pt x="906463" y="194174"/>
                </a:lnTo>
                <a:lnTo>
                  <a:pt x="896938" y="196954"/>
                </a:lnTo>
                <a:lnTo>
                  <a:pt x="887413" y="199733"/>
                </a:lnTo>
                <a:lnTo>
                  <a:pt x="877094" y="200925"/>
                </a:lnTo>
                <a:lnTo>
                  <a:pt x="866775" y="201719"/>
                </a:lnTo>
                <a:lnTo>
                  <a:pt x="855266" y="201719"/>
                </a:lnTo>
                <a:lnTo>
                  <a:pt x="843360" y="200925"/>
                </a:lnTo>
                <a:lnTo>
                  <a:pt x="831454" y="198939"/>
                </a:lnTo>
                <a:lnTo>
                  <a:pt x="818357" y="195763"/>
                </a:lnTo>
                <a:lnTo>
                  <a:pt x="805260" y="191792"/>
                </a:lnTo>
                <a:lnTo>
                  <a:pt x="791369" y="186233"/>
                </a:lnTo>
                <a:lnTo>
                  <a:pt x="777082" y="179879"/>
                </a:lnTo>
                <a:lnTo>
                  <a:pt x="760016" y="171938"/>
                </a:lnTo>
                <a:lnTo>
                  <a:pt x="743347" y="165187"/>
                </a:lnTo>
                <a:lnTo>
                  <a:pt x="778272" y="181468"/>
                </a:lnTo>
                <a:lnTo>
                  <a:pt x="812007" y="196954"/>
                </a:lnTo>
                <a:lnTo>
                  <a:pt x="828279" y="204101"/>
                </a:lnTo>
                <a:lnTo>
                  <a:pt x="844551" y="210852"/>
                </a:lnTo>
                <a:lnTo>
                  <a:pt x="860029" y="217205"/>
                </a:lnTo>
                <a:lnTo>
                  <a:pt x="875110" y="222367"/>
                </a:lnTo>
                <a:lnTo>
                  <a:pt x="889397" y="226735"/>
                </a:lnTo>
                <a:lnTo>
                  <a:pt x="903288" y="229912"/>
                </a:lnTo>
                <a:lnTo>
                  <a:pt x="910035" y="231103"/>
                </a:lnTo>
                <a:lnTo>
                  <a:pt x="916385" y="232294"/>
                </a:lnTo>
                <a:lnTo>
                  <a:pt x="922735" y="232691"/>
                </a:lnTo>
                <a:lnTo>
                  <a:pt x="929085" y="233089"/>
                </a:lnTo>
                <a:lnTo>
                  <a:pt x="935038" y="233089"/>
                </a:lnTo>
                <a:lnTo>
                  <a:pt x="940991" y="232294"/>
                </a:lnTo>
                <a:lnTo>
                  <a:pt x="946547" y="231103"/>
                </a:lnTo>
                <a:lnTo>
                  <a:pt x="951707" y="229912"/>
                </a:lnTo>
                <a:lnTo>
                  <a:pt x="956866" y="228324"/>
                </a:lnTo>
                <a:lnTo>
                  <a:pt x="961629" y="226338"/>
                </a:lnTo>
                <a:lnTo>
                  <a:pt x="966788" y="223161"/>
                </a:lnTo>
                <a:lnTo>
                  <a:pt x="970757" y="220382"/>
                </a:lnTo>
                <a:lnTo>
                  <a:pt x="972741" y="231500"/>
                </a:lnTo>
                <a:lnTo>
                  <a:pt x="973535" y="242619"/>
                </a:lnTo>
                <a:lnTo>
                  <a:pt x="973932" y="253340"/>
                </a:lnTo>
                <a:lnTo>
                  <a:pt x="974329" y="263267"/>
                </a:lnTo>
                <a:lnTo>
                  <a:pt x="974329" y="273591"/>
                </a:lnTo>
                <a:lnTo>
                  <a:pt x="973932" y="283121"/>
                </a:lnTo>
                <a:lnTo>
                  <a:pt x="973138" y="302181"/>
                </a:lnTo>
                <a:lnTo>
                  <a:pt x="974725" y="300196"/>
                </a:lnTo>
                <a:lnTo>
                  <a:pt x="976710" y="298210"/>
                </a:lnTo>
                <a:lnTo>
                  <a:pt x="978297" y="297416"/>
                </a:lnTo>
                <a:lnTo>
                  <a:pt x="980282" y="297019"/>
                </a:lnTo>
                <a:lnTo>
                  <a:pt x="982663" y="297416"/>
                </a:lnTo>
                <a:lnTo>
                  <a:pt x="985044" y="299005"/>
                </a:lnTo>
                <a:lnTo>
                  <a:pt x="987822" y="301784"/>
                </a:lnTo>
                <a:lnTo>
                  <a:pt x="989807" y="304564"/>
                </a:lnTo>
                <a:lnTo>
                  <a:pt x="991791" y="308932"/>
                </a:lnTo>
                <a:lnTo>
                  <a:pt x="994172" y="313697"/>
                </a:lnTo>
                <a:lnTo>
                  <a:pt x="995760" y="318859"/>
                </a:lnTo>
                <a:lnTo>
                  <a:pt x="997744" y="325212"/>
                </a:lnTo>
                <a:lnTo>
                  <a:pt x="998935" y="331963"/>
                </a:lnTo>
                <a:lnTo>
                  <a:pt x="1000919" y="339507"/>
                </a:lnTo>
                <a:lnTo>
                  <a:pt x="1002110" y="347846"/>
                </a:lnTo>
                <a:lnTo>
                  <a:pt x="1002904" y="356185"/>
                </a:lnTo>
                <a:lnTo>
                  <a:pt x="1003697" y="364523"/>
                </a:lnTo>
                <a:lnTo>
                  <a:pt x="1004094" y="373656"/>
                </a:lnTo>
                <a:lnTo>
                  <a:pt x="1004491" y="383584"/>
                </a:lnTo>
                <a:lnTo>
                  <a:pt x="1004888" y="393114"/>
                </a:lnTo>
                <a:lnTo>
                  <a:pt x="1004491" y="403438"/>
                </a:lnTo>
                <a:lnTo>
                  <a:pt x="1004094" y="412571"/>
                </a:lnTo>
                <a:lnTo>
                  <a:pt x="1003697" y="422101"/>
                </a:lnTo>
                <a:lnTo>
                  <a:pt x="1002904" y="430837"/>
                </a:lnTo>
                <a:lnTo>
                  <a:pt x="1002110" y="439175"/>
                </a:lnTo>
                <a:lnTo>
                  <a:pt x="1000919" y="447117"/>
                </a:lnTo>
                <a:lnTo>
                  <a:pt x="998935" y="454265"/>
                </a:lnTo>
                <a:lnTo>
                  <a:pt x="997744" y="461015"/>
                </a:lnTo>
                <a:lnTo>
                  <a:pt x="995760" y="467368"/>
                </a:lnTo>
                <a:lnTo>
                  <a:pt x="994172" y="472928"/>
                </a:lnTo>
                <a:lnTo>
                  <a:pt x="991791" y="478090"/>
                </a:lnTo>
                <a:lnTo>
                  <a:pt x="989807" y="481663"/>
                </a:lnTo>
                <a:lnTo>
                  <a:pt x="987822" y="485237"/>
                </a:lnTo>
                <a:lnTo>
                  <a:pt x="985044" y="487620"/>
                </a:lnTo>
                <a:lnTo>
                  <a:pt x="982663" y="488811"/>
                </a:lnTo>
                <a:lnTo>
                  <a:pt x="980282" y="489605"/>
                </a:lnTo>
                <a:lnTo>
                  <a:pt x="978694" y="489605"/>
                </a:lnTo>
                <a:lnTo>
                  <a:pt x="977504" y="488811"/>
                </a:lnTo>
                <a:lnTo>
                  <a:pt x="975122" y="487223"/>
                </a:lnTo>
                <a:lnTo>
                  <a:pt x="972741" y="484840"/>
                </a:lnTo>
                <a:lnTo>
                  <a:pt x="970360" y="481266"/>
                </a:lnTo>
                <a:lnTo>
                  <a:pt x="968375" y="476898"/>
                </a:lnTo>
                <a:lnTo>
                  <a:pt x="966391" y="471736"/>
                </a:lnTo>
                <a:lnTo>
                  <a:pt x="964010" y="465780"/>
                </a:lnTo>
                <a:lnTo>
                  <a:pt x="962422" y="459030"/>
                </a:lnTo>
                <a:lnTo>
                  <a:pt x="960438" y="476104"/>
                </a:lnTo>
                <a:lnTo>
                  <a:pt x="957263" y="491988"/>
                </a:lnTo>
                <a:lnTo>
                  <a:pt x="953691" y="507871"/>
                </a:lnTo>
                <a:lnTo>
                  <a:pt x="949325" y="523754"/>
                </a:lnTo>
                <a:lnTo>
                  <a:pt x="944563" y="538844"/>
                </a:lnTo>
                <a:lnTo>
                  <a:pt x="939404" y="553536"/>
                </a:lnTo>
                <a:lnTo>
                  <a:pt x="933451" y="567434"/>
                </a:lnTo>
                <a:lnTo>
                  <a:pt x="927101" y="581332"/>
                </a:lnTo>
                <a:lnTo>
                  <a:pt x="920354" y="594435"/>
                </a:lnTo>
                <a:lnTo>
                  <a:pt x="912813" y="607539"/>
                </a:lnTo>
                <a:lnTo>
                  <a:pt x="905272" y="619849"/>
                </a:lnTo>
                <a:lnTo>
                  <a:pt x="896938" y="631364"/>
                </a:lnTo>
                <a:lnTo>
                  <a:pt x="888604" y="642880"/>
                </a:lnTo>
                <a:lnTo>
                  <a:pt x="879872" y="653601"/>
                </a:lnTo>
                <a:lnTo>
                  <a:pt x="870347" y="663925"/>
                </a:lnTo>
                <a:lnTo>
                  <a:pt x="861219" y="673852"/>
                </a:lnTo>
                <a:lnTo>
                  <a:pt x="851694" y="682985"/>
                </a:lnTo>
                <a:lnTo>
                  <a:pt x="841772" y="691721"/>
                </a:lnTo>
                <a:lnTo>
                  <a:pt x="831851" y="700060"/>
                </a:lnTo>
                <a:lnTo>
                  <a:pt x="821532" y="707604"/>
                </a:lnTo>
                <a:lnTo>
                  <a:pt x="811610" y="714752"/>
                </a:lnTo>
                <a:lnTo>
                  <a:pt x="801291" y="721105"/>
                </a:lnTo>
                <a:lnTo>
                  <a:pt x="790972" y="727062"/>
                </a:lnTo>
                <a:lnTo>
                  <a:pt x="780257" y="732224"/>
                </a:lnTo>
                <a:lnTo>
                  <a:pt x="769938" y="736989"/>
                </a:lnTo>
                <a:lnTo>
                  <a:pt x="759619" y="741357"/>
                </a:lnTo>
                <a:lnTo>
                  <a:pt x="749301" y="744533"/>
                </a:lnTo>
                <a:lnTo>
                  <a:pt x="738585" y="747710"/>
                </a:lnTo>
                <a:lnTo>
                  <a:pt x="728663" y="750093"/>
                </a:lnTo>
                <a:lnTo>
                  <a:pt x="718344" y="751284"/>
                </a:lnTo>
                <a:lnTo>
                  <a:pt x="708819" y="752475"/>
                </a:lnTo>
                <a:lnTo>
                  <a:pt x="698897" y="752475"/>
                </a:lnTo>
                <a:lnTo>
                  <a:pt x="690960" y="752475"/>
                </a:lnTo>
                <a:lnTo>
                  <a:pt x="683022" y="751284"/>
                </a:lnTo>
                <a:lnTo>
                  <a:pt x="674688" y="749695"/>
                </a:lnTo>
                <a:lnTo>
                  <a:pt x="665560" y="747313"/>
                </a:lnTo>
                <a:lnTo>
                  <a:pt x="656432" y="744136"/>
                </a:lnTo>
                <a:lnTo>
                  <a:pt x="646907" y="740960"/>
                </a:lnTo>
                <a:lnTo>
                  <a:pt x="637779" y="736195"/>
                </a:lnTo>
                <a:lnTo>
                  <a:pt x="628254" y="731430"/>
                </a:lnTo>
                <a:lnTo>
                  <a:pt x="617935" y="725870"/>
                </a:lnTo>
                <a:lnTo>
                  <a:pt x="608410" y="719914"/>
                </a:lnTo>
                <a:lnTo>
                  <a:pt x="598091" y="713561"/>
                </a:lnTo>
                <a:lnTo>
                  <a:pt x="588169" y="706413"/>
                </a:lnTo>
                <a:lnTo>
                  <a:pt x="578247" y="698471"/>
                </a:lnTo>
                <a:lnTo>
                  <a:pt x="568325" y="690133"/>
                </a:lnTo>
                <a:lnTo>
                  <a:pt x="558007" y="681397"/>
                </a:lnTo>
                <a:lnTo>
                  <a:pt x="548482" y="671867"/>
                </a:lnTo>
                <a:lnTo>
                  <a:pt x="538560" y="662734"/>
                </a:lnTo>
                <a:lnTo>
                  <a:pt x="529035" y="652410"/>
                </a:lnTo>
                <a:lnTo>
                  <a:pt x="519510" y="641688"/>
                </a:lnTo>
                <a:lnTo>
                  <a:pt x="509985" y="630570"/>
                </a:lnTo>
                <a:lnTo>
                  <a:pt x="501254" y="619452"/>
                </a:lnTo>
                <a:lnTo>
                  <a:pt x="492522" y="607539"/>
                </a:lnTo>
                <a:lnTo>
                  <a:pt x="483791" y="595230"/>
                </a:lnTo>
                <a:lnTo>
                  <a:pt x="475854" y="582523"/>
                </a:lnTo>
                <a:lnTo>
                  <a:pt x="467916" y="569419"/>
                </a:lnTo>
                <a:lnTo>
                  <a:pt x="460772" y="556315"/>
                </a:lnTo>
                <a:lnTo>
                  <a:pt x="453629" y="542417"/>
                </a:lnTo>
                <a:lnTo>
                  <a:pt x="447279" y="528519"/>
                </a:lnTo>
                <a:lnTo>
                  <a:pt x="441325" y="514224"/>
                </a:lnTo>
                <a:lnTo>
                  <a:pt x="435769" y="499929"/>
                </a:lnTo>
                <a:lnTo>
                  <a:pt x="431007" y="485237"/>
                </a:lnTo>
                <a:lnTo>
                  <a:pt x="426244" y="470148"/>
                </a:lnTo>
                <a:lnTo>
                  <a:pt x="424657" y="474913"/>
                </a:lnTo>
                <a:lnTo>
                  <a:pt x="422672" y="480075"/>
                </a:lnTo>
                <a:lnTo>
                  <a:pt x="421085" y="484046"/>
                </a:lnTo>
                <a:lnTo>
                  <a:pt x="419101" y="487620"/>
                </a:lnTo>
                <a:lnTo>
                  <a:pt x="417116" y="490399"/>
                </a:lnTo>
                <a:lnTo>
                  <a:pt x="414735" y="492385"/>
                </a:lnTo>
                <a:lnTo>
                  <a:pt x="412354" y="493576"/>
                </a:lnTo>
                <a:lnTo>
                  <a:pt x="410369" y="493973"/>
                </a:lnTo>
                <a:lnTo>
                  <a:pt x="407591" y="493576"/>
                </a:lnTo>
                <a:lnTo>
                  <a:pt x="405210" y="491988"/>
                </a:lnTo>
                <a:lnTo>
                  <a:pt x="402829" y="490002"/>
                </a:lnTo>
                <a:lnTo>
                  <a:pt x="400447" y="486428"/>
                </a:lnTo>
                <a:lnTo>
                  <a:pt x="398463" y="482855"/>
                </a:lnTo>
                <a:lnTo>
                  <a:pt x="396082" y="477693"/>
                </a:lnTo>
                <a:lnTo>
                  <a:pt x="394494" y="472133"/>
                </a:lnTo>
                <a:lnTo>
                  <a:pt x="392907" y="465780"/>
                </a:lnTo>
                <a:lnTo>
                  <a:pt x="391319" y="459030"/>
                </a:lnTo>
                <a:lnTo>
                  <a:pt x="390129" y="451882"/>
                </a:lnTo>
                <a:lnTo>
                  <a:pt x="388541" y="443940"/>
                </a:lnTo>
                <a:lnTo>
                  <a:pt x="387351" y="435602"/>
                </a:lnTo>
                <a:lnTo>
                  <a:pt x="386557" y="426469"/>
                </a:lnTo>
                <a:lnTo>
                  <a:pt x="386160" y="417336"/>
                </a:lnTo>
                <a:lnTo>
                  <a:pt x="385763" y="407409"/>
                </a:lnTo>
                <a:lnTo>
                  <a:pt x="385763" y="397879"/>
                </a:lnTo>
                <a:lnTo>
                  <a:pt x="385763" y="388349"/>
                </a:lnTo>
                <a:lnTo>
                  <a:pt x="386160" y="378421"/>
                </a:lnTo>
                <a:lnTo>
                  <a:pt x="386557" y="369288"/>
                </a:lnTo>
                <a:lnTo>
                  <a:pt x="387351" y="360156"/>
                </a:lnTo>
                <a:lnTo>
                  <a:pt x="388541" y="351817"/>
                </a:lnTo>
                <a:lnTo>
                  <a:pt x="390129" y="344272"/>
                </a:lnTo>
                <a:lnTo>
                  <a:pt x="391319" y="336728"/>
                </a:lnTo>
                <a:lnTo>
                  <a:pt x="392907" y="329977"/>
                </a:lnTo>
                <a:lnTo>
                  <a:pt x="394494" y="323624"/>
                </a:lnTo>
                <a:lnTo>
                  <a:pt x="396082" y="318065"/>
                </a:lnTo>
                <a:lnTo>
                  <a:pt x="398463" y="313697"/>
                </a:lnTo>
                <a:lnTo>
                  <a:pt x="400447" y="309329"/>
                </a:lnTo>
                <a:lnTo>
                  <a:pt x="402829" y="305755"/>
                </a:lnTo>
                <a:lnTo>
                  <a:pt x="405210" y="303770"/>
                </a:lnTo>
                <a:lnTo>
                  <a:pt x="407591" y="302181"/>
                </a:lnTo>
                <a:lnTo>
                  <a:pt x="410369" y="301784"/>
                </a:lnTo>
                <a:lnTo>
                  <a:pt x="411560" y="302181"/>
                </a:lnTo>
                <a:lnTo>
                  <a:pt x="413147" y="302975"/>
                </a:lnTo>
                <a:lnTo>
                  <a:pt x="413544" y="289872"/>
                </a:lnTo>
                <a:lnTo>
                  <a:pt x="414338" y="277562"/>
                </a:lnTo>
                <a:lnTo>
                  <a:pt x="415925" y="266444"/>
                </a:lnTo>
                <a:lnTo>
                  <a:pt x="418307" y="255722"/>
                </a:lnTo>
                <a:lnTo>
                  <a:pt x="417116" y="242222"/>
                </a:lnTo>
                <a:lnTo>
                  <a:pt x="415925" y="229515"/>
                </a:lnTo>
                <a:lnTo>
                  <a:pt x="415925" y="217205"/>
                </a:lnTo>
                <a:lnTo>
                  <a:pt x="416322" y="206484"/>
                </a:lnTo>
                <a:lnTo>
                  <a:pt x="417910" y="195763"/>
                </a:lnTo>
                <a:lnTo>
                  <a:pt x="419497" y="185835"/>
                </a:lnTo>
                <a:lnTo>
                  <a:pt x="421482" y="176305"/>
                </a:lnTo>
                <a:lnTo>
                  <a:pt x="424260" y="167570"/>
                </a:lnTo>
                <a:lnTo>
                  <a:pt x="427435" y="159628"/>
                </a:lnTo>
                <a:lnTo>
                  <a:pt x="431007" y="152480"/>
                </a:lnTo>
                <a:lnTo>
                  <a:pt x="434975" y="145730"/>
                </a:lnTo>
                <a:lnTo>
                  <a:pt x="439341" y="139377"/>
                </a:lnTo>
                <a:lnTo>
                  <a:pt x="444501" y="133420"/>
                </a:lnTo>
                <a:lnTo>
                  <a:pt x="449660" y="128258"/>
                </a:lnTo>
                <a:lnTo>
                  <a:pt x="455613" y="123890"/>
                </a:lnTo>
                <a:lnTo>
                  <a:pt x="461566" y="119522"/>
                </a:lnTo>
                <a:lnTo>
                  <a:pt x="434182" y="119919"/>
                </a:lnTo>
                <a:lnTo>
                  <a:pt x="413147" y="120714"/>
                </a:lnTo>
                <a:lnTo>
                  <a:pt x="394891" y="121508"/>
                </a:lnTo>
                <a:lnTo>
                  <a:pt x="401241" y="118728"/>
                </a:lnTo>
                <a:lnTo>
                  <a:pt x="407591" y="115154"/>
                </a:lnTo>
                <a:lnTo>
                  <a:pt x="420291" y="107213"/>
                </a:lnTo>
                <a:lnTo>
                  <a:pt x="433388" y="98477"/>
                </a:lnTo>
                <a:lnTo>
                  <a:pt x="446485" y="88947"/>
                </a:lnTo>
                <a:lnTo>
                  <a:pt x="459185" y="79814"/>
                </a:lnTo>
                <a:lnTo>
                  <a:pt x="471488" y="71475"/>
                </a:lnTo>
                <a:lnTo>
                  <a:pt x="482601" y="63931"/>
                </a:lnTo>
                <a:lnTo>
                  <a:pt x="488157" y="60357"/>
                </a:lnTo>
                <a:lnTo>
                  <a:pt x="493316" y="57577"/>
                </a:lnTo>
                <a:lnTo>
                  <a:pt x="507604" y="50827"/>
                </a:lnTo>
                <a:lnTo>
                  <a:pt x="521891" y="44473"/>
                </a:lnTo>
                <a:lnTo>
                  <a:pt x="536179" y="38517"/>
                </a:lnTo>
                <a:lnTo>
                  <a:pt x="550069" y="32958"/>
                </a:lnTo>
                <a:lnTo>
                  <a:pt x="563563" y="27796"/>
                </a:lnTo>
                <a:lnTo>
                  <a:pt x="577057" y="23428"/>
                </a:lnTo>
                <a:lnTo>
                  <a:pt x="590551" y="19457"/>
                </a:lnTo>
                <a:lnTo>
                  <a:pt x="603647" y="15883"/>
                </a:lnTo>
                <a:lnTo>
                  <a:pt x="616744" y="12310"/>
                </a:lnTo>
                <a:lnTo>
                  <a:pt x="629841" y="9927"/>
                </a:lnTo>
                <a:lnTo>
                  <a:pt x="642541" y="7148"/>
                </a:lnTo>
                <a:lnTo>
                  <a:pt x="654844" y="5162"/>
                </a:lnTo>
                <a:lnTo>
                  <a:pt x="666751" y="3574"/>
                </a:lnTo>
                <a:lnTo>
                  <a:pt x="679054" y="2382"/>
                </a:lnTo>
                <a:lnTo>
                  <a:pt x="690960" y="1191"/>
                </a:lnTo>
                <a:lnTo>
                  <a:pt x="702866" y="397"/>
                </a:lnTo>
                <a:lnTo>
                  <a:pt x="713979" y="0"/>
                </a:lnTo>
                <a:close/>
              </a:path>
            </a:pathLst>
          </a:custGeom>
          <a:solidFill>
            <a:srgbClr val="faa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KSO_Shape"/>
          <p:cNvSpPr/>
          <p:nvPr/>
        </p:nvSpPr>
        <p:spPr>
          <a:xfrm>
            <a:off x="8737560" y="1960560"/>
            <a:ext cx="374760" cy="380880"/>
          </a:xfrm>
          <a:custGeom>
            <a:avLst/>
            <a:gdLst/>
            <a:ahLst/>
            <a:rect l="l" t="t" r="r" b="b"/>
            <a:pathLst>
              <a:path w="3543300" h="3617913">
                <a:moveTo>
                  <a:pt x="1752918" y="1088708"/>
                </a:moveTo>
                <a:lnTo>
                  <a:pt x="1734502" y="1089660"/>
                </a:lnTo>
                <a:lnTo>
                  <a:pt x="1716088" y="1090613"/>
                </a:lnTo>
                <a:lnTo>
                  <a:pt x="1697990" y="1092518"/>
                </a:lnTo>
                <a:lnTo>
                  <a:pt x="1679892" y="1094423"/>
                </a:lnTo>
                <a:lnTo>
                  <a:pt x="1662112" y="1097280"/>
                </a:lnTo>
                <a:lnTo>
                  <a:pt x="1644332" y="1100138"/>
                </a:lnTo>
                <a:lnTo>
                  <a:pt x="1626552" y="1103630"/>
                </a:lnTo>
                <a:lnTo>
                  <a:pt x="1608772" y="1107440"/>
                </a:lnTo>
                <a:lnTo>
                  <a:pt x="1591628" y="1111568"/>
                </a:lnTo>
                <a:lnTo>
                  <a:pt x="1574800" y="1116013"/>
                </a:lnTo>
                <a:lnTo>
                  <a:pt x="1557338" y="1121093"/>
                </a:lnTo>
                <a:lnTo>
                  <a:pt x="1540828" y="1126490"/>
                </a:lnTo>
                <a:lnTo>
                  <a:pt x="1524318" y="1132523"/>
                </a:lnTo>
                <a:lnTo>
                  <a:pt x="1507808" y="1138555"/>
                </a:lnTo>
                <a:lnTo>
                  <a:pt x="1491615" y="1145223"/>
                </a:lnTo>
                <a:lnTo>
                  <a:pt x="1475422" y="1152525"/>
                </a:lnTo>
                <a:lnTo>
                  <a:pt x="1459548" y="1159510"/>
                </a:lnTo>
                <a:lnTo>
                  <a:pt x="1443672" y="1167448"/>
                </a:lnTo>
                <a:lnTo>
                  <a:pt x="1428432" y="1175703"/>
                </a:lnTo>
                <a:lnTo>
                  <a:pt x="1413192" y="1183958"/>
                </a:lnTo>
                <a:lnTo>
                  <a:pt x="1398270" y="1193165"/>
                </a:lnTo>
                <a:lnTo>
                  <a:pt x="1383665" y="1202055"/>
                </a:lnTo>
                <a:lnTo>
                  <a:pt x="1368742" y="1211898"/>
                </a:lnTo>
                <a:lnTo>
                  <a:pt x="1354772" y="1221740"/>
                </a:lnTo>
                <a:lnTo>
                  <a:pt x="1340485" y="1231900"/>
                </a:lnTo>
                <a:lnTo>
                  <a:pt x="1327150" y="1242378"/>
                </a:lnTo>
                <a:lnTo>
                  <a:pt x="1313498" y="1253173"/>
                </a:lnTo>
                <a:lnTo>
                  <a:pt x="1300480" y="1264285"/>
                </a:lnTo>
                <a:lnTo>
                  <a:pt x="1287462" y="1275715"/>
                </a:lnTo>
                <a:lnTo>
                  <a:pt x="1274762" y="1287463"/>
                </a:lnTo>
                <a:lnTo>
                  <a:pt x="1262380" y="1299528"/>
                </a:lnTo>
                <a:lnTo>
                  <a:pt x="1250315" y="1311910"/>
                </a:lnTo>
                <a:lnTo>
                  <a:pt x="1238568" y="1324928"/>
                </a:lnTo>
                <a:lnTo>
                  <a:pt x="1227138" y="1337628"/>
                </a:lnTo>
                <a:lnTo>
                  <a:pt x="1215708" y="1350645"/>
                </a:lnTo>
                <a:lnTo>
                  <a:pt x="1205230" y="1364298"/>
                </a:lnTo>
                <a:lnTo>
                  <a:pt x="1194752" y="1377950"/>
                </a:lnTo>
                <a:lnTo>
                  <a:pt x="1183958" y="1392238"/>
                </a:lnTo>
                <a:lnTo>
                  <a:pt x="1174432" y="1406525"/>
                </a:lnTo>
                <a:lnTo>
                  <a:pt x="1164908" y="1420813"/>
                </a:lnTo>
                <a:lnTo>
                  <a:pt x="1155382" y="1435418"/>
                </a:lnTo>
                <a:lnTo>
                  <a:pt x="1146810" y="1450340"/>
                </a:lnTo>
                <a:lnTo>
                  <a:pt x="1138391" y="1465309"/>
                </a:lnTo>
                <a:lnTo>
                  <a:pt x="1130549" y="1480376"/>
                </a:lnTo>
                <a:lnTo>
                  <a:pt x="1122615" y="1496257"/>
                </a:lnTo>
                <a:lnTo>
                  <a:pt x="1114998" y="1512138"/>
                </a:lnTo>
                <a:lnTo>
                  <a:pt x="1108333" y="1528337"/>
                </a:lnTo>
                <a:lnTo>
                  <a:pt x="1101668" y="1544536"/>
                </a:lnTo>
                <a:lnTo>
                  <a:pt x="1095321" y="1561052"/>
                </a:lnTo>
                <a:lnTo>
                  <a:pt x="1089608" y="1577568"/>
                </a:lnTo>
                <a:lnTo>
                  <a:pt x="1083895" y="1594402"/>
                </a:lnTo>
                <a:lnTo>
                  <a:pt x="1079134" y="1611554"/>
                </a:lnTo>
                <a:lnTo>
                  <a:pt x="1074056" y="1628388"/>
                </a:lnTo>
                <a:lnTo>
                  <a:pt x="1069931" y="1646175"/>
                </a:lnTo>
                <a:lnTo>
                  <a:pt x="1066122" y="1663327"/>
                </a:lnTo>
                <a:lnTo>
                  <a:pt x="1062948" y="1681114"/>
                </a:lnTo>
                <a:lnTo>
                  <a:pt x="1059774" y="1698901"/>
                </a:lnTo>
                <a:lnTo>
                  <a:pt x="1057553" y="1717005"/>
                </a:lnTo>
                <a:lnTo>
                  <a:pt x="1055331" y="1735110"/>
                </a:lnTo>
                <a:lnTo>
                  <a:pt x="1053744" y="1753532"/>
                </a:lnTo>
                <a:lnTo>
                  <a:pt x="1052792" y="1771319"/>
                </a:lnTo>
                <a:lnTo>
                  <a:pt x="1051840" y="1790376"/>
                </a:lnTo>
                <a:lnTo>
                  <a:pt x="1051523" y="1808798"/>
                </a:lnTo>
                <a:lnTo>
                  <a:pt x="1051840" y="1827221"/>
                </a:lnTo>
                <a:lnTo>
                  <a:pt x="1052792" y="1845960"/>
                </a:lnTo>
                <a:lnTo>
                  <a:pt x="1053744" y="1864065"/>
                </a:lnTo>
                <a:lnTo>
                  <a:pt x="1055331" y="1882487"/>
                </a:lnTo>
                <a:lnTo>
                  <a:pt x="1057553" y="1900592"/>
                </a:lnTo>
                <a:lnTo>
                  <a:pt x="1059774" y="1918696"/>
                </a:lnTo>
                <a:lnTo>
                  <a:pt x="1062948" y="1936483"/>
                </a:lnTo>
                <a:lnTo>
                  <a:pt x="1066122" y="1953952"/>
                </a:lnTo>
                <a:lnTo>
                  <a:pt x="1069931" y="1971739"/>
                </a:lnTo>
                <a:lnTo>
                  <a:pt x="1074056" y="1988891"/>
                </a:lnTo>
                <a:lnTo>
                  <a:pt x="1079134" y="2006043"/>
                </a:lnTo>
                <a:lnTo>
                  <a:pt x="1083895" y="2022877"/>
                </a:lnTo>
                <a:lnTo>
                  <a:pt x="1089608" y="2039711"/>
                </a:lnTo>
                <a:lnTo>
                  <a:pt x="1095321" y="2056545"/>
                </a:lnTo>
                <a:lnTo>
                  <a:pt x="1101668" y="2073061"/>
                </a:lnTo>
                <a:lnTo>
                  <a:pt x="1108333" y="2089260"/>
                </a:lnTo>
                <a:lnTo>
                  <a:pt x="1114998" y="2105459"/>
                </a:lnTo>
                <a:lnTo>
                  <a:pt x="1122615" y="2121022"/>
                </a:lnTo>
                <a:lnTo>
                  <a:pt x="1130549" y="2136904"/>
                </a:lnTo>
                <a:lnTo>
                  <a:pt x="1138484" y="2152467"/>
                </a:lnTo>
                <a:lnTo>
                  <a:pt x="1147053" y="2167395"/>
                </a:lnTo>
                <a:lnTo>
                  <a:pt x="1155622" y="2182641"/>
                </a:lnTo>
                <a:lnTo>
                  <a:pt x="1165144" y="2197252"/>
                </a:lnTo>
                <a:lnTo>
                  <a:pt x="1174665" y="2211863"/>
                </a:lnTo>
                <a:lnTo>
                  <a:pt x="1184186" y="2225838"/>
                </a:lnTo>
                <a:lnTo>
                  <a:pt x="1194977" y="2240131"/>
                </a:lnTo>
                <a:lnTo>
                  <a:pt x="1205450" y="2253789"/>
                </a:lnTo>
                <a:lnTo>
                  <a:pt x="1215924" y="2267129"/>
                </a:lnTo>
                <a:lnTo>
                  <a:pt x="1227349" y="2280469"/>
                </a:lnTo>
                <a:lnTo>
                  <a:pt x="1238775" y="2293174"/>
                </a:lnTo>
                <a:lnTo>
                  <a:pt x="1250518" y="2305879"/>
                </a:lnTo>
                <a:lnTo>
                  <a:pt x="1262578" y="2318267"/>
                </a:lnTo>
                <a:lnTo>
                  <a:pt x="1274956" y="2330336"/>
                </a:lnTo>
                <a:lnTo>
                  <a:pt x="1287651" y="2342088"/>
                </a:lnTo>
                <a:lnTo>
                  <a:pt x="1300663" y="2353840"/>
                </a:lnTo>
                <a:lnTo>
                  <a:pt x="1313676" y="2364640"/>
                </a:lnTo>
                <a:lnTo>
                  <a:pt x="1327323" y="2375756"/>
                </a:lnTo>
                <a:lnTo>
                  <a:pt x="1340653" y="2386238"/>
                </a:lnTo>
                <a:lnTo>
                  <a:pt x="1354935" y="2396402"/>
                </a:lnTo>
                <a:lnTo>
                  <a:pt x="1368899" y="2406566"/>
                </a:lnTo>
                <a:lnTo>
                  <a:pt x="1383816" y="2415777"/>
                </a:lnTo>
                <a:lnTo>
                  <a:pt x="1398415" y="2424988"/>
                </a:lnTo>
                <a:lnTo>
                  <a:pt x="1413332" y="2433882"/>
                </a:lnTo>
                <a:lnTo>
                  <a:pt x="1428566" y="2442775"/>
                </a:lnTo>
                <a:lnTo>
                  <a:pt x="1443800" y="2450398"/>
                </a:lnTo>
                <a:lnTo>
                  <a:pt x="1459669" y="2458339"/>
                </a:lnTo>
                <a:lnTo>
                  <a:pt x="1475538" y="2465644"/>
                </a:lnTo>
                <a:lnTo>
                  <a:pt x="1491724" y="2472632"/>
                </a:lnTo>
                <a:lnTo>
                  <a:pt x="1507910" y="2479619"/>
                </a:lnTo>
                <a:lnTo>
                  <a:pt x="1524414" y="2485654"/>
                </a:lnTo>
                <a:lnTo>
                  <a:pt x="1540917" y="2491689"/>
                </a:lnTo>
                <a:lnTo>
                  <a:pt x="1557421" y="2496771"/>
                </a:lnTo>
                <a:lnTo>
                  <a:pt x="1574877" y="2502171"/>
                </a:lnTo>
                <a:lnTo>
                  <a:pt x="1591698" y="2506617"/>
                </a:lnTo>
                <a:lnTo>
                  <a:pt x="1608836" y="2510746"/>
                </a:lnTo>
                <a:lnTo>
                  <a:pt x="1626609" y="2514876"/>
                </a:lnTo>
                <a:lnTo>
                  <a:pt x="1644382" y="2518369"/>
                </a:lnTo>
                <a:lnTo>
                  <a:pt x="1662155" y="2520910"/>
                </a:lnTo>
                <a:lnTo>
                  <a:pt x="1679928" y="2523451"/>
                </a:lnTo>
                <a:lnTo>
                  <a:pt x="1698019" y="2525675"/>
                </a:lnTo>
                <a:lnTo>
                  <a:pt x="1716109" y="2527263"/>
                </a:lnTo>
                <a:lnTo>
                  <a:pt x="1734517" y="2528533"/>
                </a:lnTo>
                <a:lnTo>
                  <a:pt x="1752925" y="2529169"/>
                </a:lnTo>
                <a:lnTo>
                  <a:pt x="1771967" y="2529169"/>
                </a:lnTo>
                <a:lnTo>
                  <a:pt x="1790375" y="2529169"/>
                </a:lnTo>
                <a:lnTo>
                  <a:pt x="1808783" y="2528533"/>
                </a:lnTo>
                <a:lnTo>
                  <a:pt x="1827191" y="2527263"/>
                </a:lnTo>
                <a:lnTo>
                  <a:pt x="1845281" y="2525675"/>
                </a:lnTo>
                <a:lnTo>
                  <a:pt x="1863372" y="2523451"/>
                </a:lnTo>
                <a:lnTo>
                  <a:pt x="1881145" y="2520910"/>
                </a:lnTo>
                <a:lnTo>
                  <a:pt x="1898918" y="2518369"/>
                </a:lnTo>
                <a:lnTo>
                  <a:pt x="1916691" y="2514876"/>
                </a:lnTo>
                <a:lnTo>
                  <a:pt x="1934464" y="2510746"/>
                </a:lnTo>
                <a:lnTo>
                  <a:pt x="1951602" y="2506617"/>
                </a:lnTo>
                <a:lnTo>
                  <a:pt x="1969058" y="2502171"/>
                </a:lnTo>
                <a:lnTo>
                  <a:pt x="1985879" y="2496771"/>
                </a:lnTo>
                <a:lnTo>
                  <a:pt x="2002383" y="2491689"/>
                </a:lnTo>
                <a:lnTo>
                  <a:pt x="2019204" y="2485654"/>
                </a:lnTo>
                <a:lnTo>
                  <a:pt x="2035390" y="2479619"/>
                </a:lnTo>
                <a:lnTo>
                  <a:pt x="2051894" y="2472632"/>
                </a:lnTo>
                <a:lnTo>
                  <a:pt x="2067762" y="2465644"/>
                </a:lnTo>
                <a:lnTo>
                  <a:pt x="2083631" y="2458339"/>
                </a:lnTo>
                <a:lnTo>
                  <a:pt x="2099500" y="2450398"/>
                </a:lnTo>
                <a:lnTo>
                  <a:pt x="2114734" y="2442775"/>
                </a:lnTo>
                <a:lnTo>
                  <a:pt x="2129968" y="2433882"/>
                </a:lnTo>
                <a:lnTo>
                  <a:pt x="2144885" y="2424988"/>
                </a:lnTo>
                <a:lnTo>
                  <a:pt x="2159484" y="2415777"/>
                </a:lnTo>
                <a:lnTo>
                  <a:pt x="2174401" y="2406566"/>
                </a:lnTo>
                <a:lnTo>
                  <a:pt x="2188683" y="2396402"/>
                </a:lnTo>
                <a:lnTo>
                  <a:pt x="2202647" y="2386238"/>
                </a:lnTo>
                <a:lnTo>
                  <a:pt x="2215977" y="2375756"/>
                </a:lnTo>
                <a:lnTo>
                  <a:pt x="2229624" y="2364640"/>
                </a:lnTo>
                <a:lnTo>
                  <a:pt x="2242637" y="2353840"/>
                </a:lnTo>
                <a:lnTo>
                  <a:pt x="2255966" y="2342088"/>
                </a:lnTo>
                <a:lnTo>
                  <a:pt x="2268344" y="2330336"/>
                </a:lnTo>
                <a:lnTo>
                  <a:pt x="2280722" y="2318267"/>
                </a:lnTo>
                <a:lnTo>
                  <a:pt x="2292782" y="2305879"/>
                </a:lnTo>
                <a:lnTo>
                  <a:pt x="2304525" y="2293174"/>
                </a:lnTo>
                <a:lnTo>
                  <a:pt x="2315951" y="2280469"/>
                </a:lnTo>
                <a:lnTo>
                  <a:pt x="2327376" y="2267129"/>
                </a:lnTo>
                <a:lnTo>
                  <a:pt x="2338167" y="2253789"/>
                </a:lnTo>
                <a:lnTo>
                  <a:pt x="2348958" y="2240131"/>
                </a:lnTo>
                <a:lnTo>
                  <a:pt x="2359114" y="2225838"/>
                </a:lnTo>
                <a:lnTo>
                  <a:pt x="2368635" y="2211863"/>
                </a:lnTo>
                <a:lnTo>
                  <a:pt x="2378156" y="2197252"/>
                </a:lnTo>
                <a:lnTo>
                  <a:pt x="2387678" y="2182641"/>
                </a:lnTo>
                <a:lnTo>
                  <a:pt x="2396247" y="2167395"/>
                </a:lnTo>
                <a:lnTo>
                  <a:pt x="2404816" y="2152467"/>
                </a:lnTo>
                <a:lnTo>
                  <a:pt x="2412750" y="2136904"/>
                </a:lnTo>
                <a:lnTo>
                  <a:pt x="2420685" y="2121022"/>
                </a:lnTo>
                <a:lnTo>
                  <a:pt x="2428302" y="2105459"/>
                </a:lnTo>
                <a:lnTo>
                  <a:pt x="2434967" y="2089260"/>
                </a:lnTo>
                <a:lnTo>
                  <a:pt x="2441632" y="2073061"/>
                </a:lnTo>
                <a:lnTo>
                  <a:pt x="2447979" y="2056545"/>
                </a:lnTo>
                <a:lnTo>
                  <a:pt x="2453692" y="2039711"/>
                </a:lnTo>
                <a:lnTo>
                  <a:pt x="2459405" y="2022877"/>
                </a:lnTo>
                <a:lnTo>
                  <a:pt x="2464166" y="2006043"/>
                </a:lnTo>
                <a:lnTo>
                  <a:pt x="2469244" y="1988891"/>
                </a:lnTo>
                <a:lnTo>
                  <a:pt x="2473370" y="1971739"/>
                </a:lnTo>
                <a:lnTo>
                  <a:pt x="2477178" y="1953952"/>
                </a:lnTo>
                <a:lnTo>
                  <a:pt x="2480352" y="1936483"/>
                </a:lnTo>
                <a:lnTo>
                  <a:pt x="2483526" y="1918696"/>
                </a:lnTo>
                <a:lnTo>
                  <a:pt x="2486064" y="1900592"/>
                </a:lnTo>
                <a:lnTo>
                  <a:pt x="2487969" y="1882487"/>
                </a:lnTo>
                <a:lnTo>
                  <a:pt x="2489556" y="1864065"/>
                </a:lnTo>
                <a:lnTo>
                  <a:pt x="2490508" y="1845960"/>
                </a:lnTo>
                <a:lnTo>
                  <a:pt x="2491460" y="1827221"/>
                </a:lnTo>
                <a:lnTo>
                  <a:pt x="2491777" y="1808798"/>
                </a:lnTo>
                <a:lnTo>
                  <a:pt x="2491460" y="1790376"/>
                </a:lnTo>
                <a:lnTo>
                  <a:pt x="2490508" y="1771319"/>
                </a:lnTo>
                <a:lnTo>
                  <a:pt x="2489556" y="1753532"/>
                </a:lnTo>
                <a:lnTo>
                  <a:pt x="2487969" y="1735110"/>
                </a:lnTo>
                <a:lnTo>
                  <a:pt x="2486064" y="1717005"/>
                </a:lnTo>
                <a:lnTo>
                  <a:pt x="2483526" y="1698901"/>
                </a:lnTo>
                <a:lnTo>
                  <a:pt x="2480352" y="1681114"/>
                </a:lnTo>
                <a:lnTo>
                  <a:pt x="2477178" y="1663327"/>
                </a:lnTo>
                <a:lnTo>
                  <a:pt x="2473370" y="1646175"/>
                </a:lnTo>
                <a:lnTo>
                  <a:pt x="2469244" y="1628388"/>
                </a:lnTo>
                <a:lnTo>
                  <a:pt x="2464166" y="1611554"/>
                </a:lnTo>
                <a:lnTo>
                  <a:pt x="2459405" y="1594402"/>
                </a:lnTo>
                <a:lnTo>
                  <a:pt x="2453692" y="1577568"/>
                </a:lnTo>
                <a:lnTo>
                  <a:pt x="2447979" y="1561052"/>
                </a:lnTo>
                <a:lnTo>
                  <a:pt x="2441632" y="1544536"/>
                </a:lnTo>
                <a:lnTo>
                  <a:pt x="2434967" y="1528337"/>
                </a:lnTo>
                <a:lnTo>
                  <a:pt x="2428302" y="1512138"/>
                </a:lnTo>
                <a:lnTo>
                  <a:pt x="2420685" y="1496257"/>
                </a:lnTo>
                <a:lnTo>
                  <a:pt x="2412750" y="1480376"/>
                </a:lnTo>
                <a:lnTo>
                  <a:pt x="2404909" y="1465308"/>
                </a:lnTo>
                <a:lnTo>
                  <a:pt x="2396490" y="1450340"/>
                </a:lnTo>
                <a:lnTo>
                  <a:pt x="2387918" y="1435418"/>
                </a:lnTo>
                <a:lnTo>
                  <a:pt x="2378392" y="1420813"/>
                </a:lnTo>
                <a:lnTo>
                  <a:pt x="2368868" y="1406525"/>
                </a:lnTo>
                <a:lnTo>
                  <a:pt x="2359342" y="1392238"/>
                </a:lnTo>
                <a:lnTo>
                  <a:pt x="2349182" y="1377950"/>
                </a:lnTo>
                <a:lnTo>
                  <a:pt x="2338388" y="1364298"/>
                </a:lnTo>
                <a:lnTo>
                  <a:pt x="2327592" y="1350645"/>
                </a:lnTo>
                <a:lnTo>
                  <a:pt x="2316162" y="1337628"/>
                </a:lnTo>
                <a:lnTo>
                  <a:pt x="2304732" y="1324928"/>
                </a:lnTo>
                <a:lnTo>
                  <a:pt x="2292985" y="1311910"/>
                </a:lnTo>
                <a:lnTo>
                  <a:pt x="2280920" y="1299528"/>
                </a:lnTo>
                <a:lnTo>
                  <a:pt x="2268538" y="1287463"/>
                </a:lnTo>
                <a:lnTo>
                  <a:pt x="2256155" y="1275715"/>
                </a:lnTo>
                <a:lnTo>
                  <a:pt x="2242820" y="1264285"/>
                </a:lnTo>
                <a:lnTo>
                  <a:pt x="2229802" y="1253173"/>
                </a:lnTo>
                <a:lnTo>
                  <a:pt x="2216150" y="1242378"/>
                </a:lnTo>
                <a:lnTo>
                  <a:pt x="2202815" y="1231900"/>
                </a:lnTo>
                <a:lnTo>
                  <a:pt x="2188845" y="1221740"/>
                </a:lnTo>
                <a:lnTo>
                  <a:pt x="2174558" y="1211898"/>
                </a:lnTo>
                <a:lnTo>
                  <a:pt x="2159635" y="1202055"/>
                </a:lnTo>
                <a:lnTo>
                  <a:pt x="2145030" y="1193165"/>
                </a:lnTo>
                <a:lnTo>
                  <a:pt x="2130108" y="1183958"/>
                </a:lnTo>
                <a:lnTo>
                  <a:pt x="2114868" y="1175703"/>
                </a:lnTo>
                <a:lnTo>
                  <a:pt x="2099628" y="1167448"/>
                </a:lnTo>
                <a:lnTo>
                  <a:pt x="2083752" y="1159510"/>
                </a:lnTo>
                <a:lnTo>
                  <a:pt x="2067878" y="1152525"/>
                </a:lnTo>
                <a:lnTo>
                  <a:pt x="2052002" y="1145223"/>
                </a:lnTo>
                <a:lnTo>
                  <a:pt x="2035492" y="1138555"/>
                </a:lnTo>
                <a:lnTo>
                  <a:pt x="2019300" y="1132523"/>
                </a:lnTo>
                <a:lnTo>
                  <a:pt x="2002472" y="1126490"/>
                </a:lnTo>
                <a:lnTo>
                  <a:pt x="1985962" y="1121093"/>
                </a:lnTo>
                <a:lnTo>
                  <a:pt x="1969135" y="1116013"/>
                </a:lnTo>
                <a:lnTo>
                  <a:pt x="1951672" y="1111568"/>
                </a:lnTo>
                <a:lnTo>
                  <a:pt x="1934528" y="1107440"/>
                </a:lnTo>
                <a:lnTo>
                  <a:pt x="1916748" y="1103630"/>
                </a:lnTo>
                <a:lnTo>
                  <a:pt x="1898968" y="1100138"/>
                </a:lnTo>
                <a:lnTo>
                  <a:pt x="1881188" y="1097280"/>
                </a:lnTo>
                <a:lnTo>
                  <a:pt x="1863408" y="1094423"/>
                </a:lnTo>
                <a:lnTo>
                  <a:pt x="1845310" y="1092518"/>
                </a:lnTo>
                <a:lnTo>
                  <a:pt x="1827212" y="1090613"/>
                </a:lnTo>
                <a:lnTo>
                  <a:pt x="1808798" y="1089660"/>
                </a:lnTo>
                <a:lnTo>
                  <a:pt x="1790382" y="1088708"/>
                </a:lnTo>
                <a:lnTo>
                  <a:pt x="1771968" y="1088708"/>
                </a:lnTo>
                <a:lnTo>
                  <a:pt x="1752918" y="1088708"/>
                </a:lnTo>
                <a:close/>
                <a:moveTo>
                  <a:pt x="1615758" y="0"/>
                </a:moveTo>
                <a:lnTo>
                  <a:pt x="1620520" y="0"/>
                </a:lnTo>
                <a:lnTo>
                  <a:pt x="1922780" y="0"/>
                </a:lnTo>
                <a:lnTo>
                  <a:pt x="1927225" y="0"/>
                </a:lnTo>
                <a:lnTo>
                  <a:pt x="1931670" y="317"/>
                </a:lnTo>
                <a:lnTo>
                  <a:pt x="1936115" y="952"/>
                </a:lnTo>
                <a:lnTo>
                  <a:pt x="1940878" y="1905"/>
                </a:lnTo>
                <a:lnTo>
                  <a:pt x="1949450" y="4127"/>
                </a:lnTo>
                <a:lnTo>
                  <a:pt x="1957705" y="6985"/>
                </a:lnTo>
                <a:lnTo>
                  <a:pt x="1965325" y="10795"/>
                </a:lnTo>
                <a:lnTo>
                  <a:pt x="1972628" y="14922"/>
                </a:lnTo>
                <a:lnTo>
                  <a:pt x="1979612" y="20320"/>
                </a:lnTo>
                <a:lnTo>
                  <a:pt x="1985962" y="26035"/>
                </a:lnTo>
                <a:lnTo>
                  <a:pt x="1991678" y="32385"/>
                </a:lnTo>
                <a:lnTo>
                  <a:pt x="1996758" y="39052"/>
                </a:lnTo>
                <a:lnTo>
                  <a:pt x="2001202" y="46672"/>
                </a:lnTo>
                <a:lnTo>
                  <a:pt x="2005012" y="54610"/>
                </a:lnTo>
                <a:lnTo>
                  <a:pt x="2007870" y="62230"/>
                </a:lnTo>
                <a:lnTo>
                  <a:pt x="2010092" y="71120"/>
                </a:lnTo>
                <a:lnTo>
                  <a:pt x="2010728" y="75565"/>
                </a:lnTo>
                <a:lnTo>
                  <a:pt x="2011362" y="80010"/>
                </a:lnTo>
                <a:lnTo>
                  <a:pt x="2011998" y="84455"/>
                </a:lnTo>
                <a:lnTo>
                  <a:pt x="2011998" y="89217"/>
                </a:lnTo>
                <a:lnTo>
                  <a:pt x="2011998" y="388620"/>
                </a:lnTo>
                <a:lnTo>
                  <a:pt x="2038350" y="393065"/>
                </a:lnTo>
                <a:lnTo>
                  <a:pt x="2064702" y="398462"/>
                </a:lnTo>
                <a:lnTo>
                  <a:pt x="2091055" y="404177"/>
                </a:lnTo>
                <a:lnTo>
                  <a:pt x="2116772" y="410210"/>
                </a:lnTo>
                <a:lnTo>
                  <a:pt x="2142490" y="416877"/>
                </a:lnTo>
                <a:lnTo>
                  <a:pt x="2167890" y="423545"/>
                </a:lnTo>
                <a:lnTo>
                  <a:pt x="2193608" y="431165"/>
                </a:lnTo>
                <a:lnTo>
                  <a:pt x="2218690" y="439102"/>
                </a:lnTo>
                <a:lnTo>
                  <a:pt x="2243772" y="447675"/>
                </a:lnTo>
                <a:lnTo>
                  <a:pt x="2268538" y="456247"/>
                </a:lnTo>
                <a:lnTo>
                  <a:pt x="2292985" y="465772"/>
                </a:lnTo>
                <a:lnTo>
                  <a:pt x="2317432" y="475615"/>
                </a:lnTo>
                <a:lnTo>
                  <a:pt x="2341562" y="485457"/>
                </a:lnTo>
                <a:lnTo>
                  <a:pt x="2365692" y="496252"/>
                </a:lnTo>
                <a:lnTo>
                  <a:pt x="2388870" y="507047"/>
                </a:lnTo>
                <a:lnTo>
                  <a:pt x="2412682" y="518477"/>
                </a:lnTo>
                <a:lnTo>
                  <a:pt x="2588260" y="276542"/>
                </a:lnTo>
                <a:lnTo>
                  <a:pt x="2591435" y="272732"/>
                </a:lnTo>
                <a:lnTo>
                  <a:pt x="2593975" y="269240"/>
                </a:lnTo>
                <a:lnTo>
                  <a:pt x="2597468" y="266065"/>
                </a:lnTo>
                <a:lnTo>
                  <a:pt x="2600325" y="262890"/>
                </a:lnTo>
                <a:lnTo>
                  <a:pt x="2606992" y="257175"/>
                </a:lnTo>
                <a:lnTo>
                  <a:pt x="2614295" y="252412"/>
                </a:lnTo>
                <a:lnTo>
                  <a:pt x="2621915" y="248602"/>
                </a:lnTo>
                <a:lnTo>
                  <a:pt x="2629852" y="245110"/>
                </a:lnTo>
                <a:lnTo>
                  <a:pt x="2638108" y="242570"/>
                </a:lnTo>
                <a:lnTo>
                  <a:pt x="2646362" y="240665"/>
                </a:lnTo>
                <a:lnTo>
                  <a:pt x="2654935" y="240030"/>
                </a:lnTo>
                <a:lnTo>
                  <a:pt x="2663508" y="240030"/>
                </a:lnTo>
                <a:lnTo>
                  <a:pt x="2671762" y="240665"/>
                </a:lnTo>
                <a:lnTo>
                  <a:pt x="2680652" y="242252"/>
                </a:lnTo>
                <a:lnTo>
                  <a:pt x="2688908" y="244475"/>
                </a:lnTo>
                <a:lnTo>
                  <a:pt x="2697162" y="247967"/>
                </a:lnTo>
                <a:lnTo>
                  <a:pt x="2705100" y="251777"/>
                </a:lnTo>
                <a:lnTo>
                  <a:pt x="2709228" y="254317"/>
                </a:lnTo>
                <a:lnTo>
                  <a:pt x="2712720" y="256857"/>
                </a:lnTo>
                <a:lnTo>
                  <a:pt x="2957512" y="434022"/>
                </a:lnTo>
                <a:lnTo>
                  <a:pt x="2960688" y="437197"/>
                </a:lnTo>
                <a:lnTo>
                  <a:pt x="2964498" y="439737"/>
                </a:lnTo>
                <a:lnTo>
                  <a:pt x="2967672" y="443230"/>
                </a:lnTo>
                <a:lnTo>
                  <a:pt x="2970848" y="446087"/>
                </a:lnTo>
                <a:lnTo>
                  <a:pt x="2976245" y="453072"/>
                </a:lnTo>
                <a:lnTo>
                  <a:pt x="2981008" y="460375"/>
                </a:lnTo>
                <a:lnTo>
                  <a:pt x="2985452" y="467995"/>
                </a:lnTo>
                <a:lnTo>
                  <a:pt x="2988628" y="475932"/>
                </a:lnTo>
                <a:lnTo>
                  <a:pt x="2991168" y="484187"/>
                </a:lnTo>
                <a:lnTo>
                  <a:pt x="2992755" y="492442"/>
                </a:lnTo>
                <a:lnTo>
                  <a:pt x="2994025" y="501015"/>
                </a:lnTo>
                <a:lnTo>
                  <a:pt x="2994025" y="509270"/>
                </a:lnTo>
                <a:lnTo>
                  <a:pt x="2993072" y="518160"/>
                </a:lnTo>
                <a:lnTo>
                  <a:pt x="2991802" y="526732"/>
                </a:lnTo>
                <a:lnTo>
                  <a:pt x="2988945" y="534987"/>
                </a:lnTo>
                <a:lnTo>
                  <a:pt x="2986088" y="543242"/>
                </a:lnTo>
                <a:lnTo>
                  <a:pt x="2981960" y="551180"/>
                </a:lnTo>
                <a:lnTo>
                  <a:pt x="2979738" y="554990"/>
                </a:lnTo>
                <a:lnTo>
                  <a:pt x="2976880" y="558800"/>
                </a:lnTo>
                <a:lnTo>
                  <a:pt x="2800985" y="801052"/>
                </a:lnTo>
                <a:lnTo>
                  <a:pt x="2819082" y="819785"/>
                </a:lnTo>
                <a:lnTo>
                  <a:pt x="2837180" y="839470"/>
                </a:lnTo>
                <a:lnTo>
                  <a:pt x="2854642" y="858837"/>
                </a:lnTo>
                <a:lnTo>
                  <a:pt x="2871788" y="878840"/>
                </a:lnTo>
                <a:lnTo>
                  <a:pt x="2888615" y="899160"/>
                </a:lnTo>
                <a:lnTo>
                  <a:pt x="2905125" y="919797"/>
                </a:lnTo>
                <a:lnTo>
                  <a:pt x="2921318" y="940752"/>
                </a:lnTo>
                <a:lnTo>
                  <a:pt x="2937192" y="962025"/>
                </a:lnTo>
                <a:lnTo>
                  <a:pt x="2952432" y="983615"/>
                </a:lnTo>
                <a:lnTo>
                  <a:pt x="2967672" y="1005205"/>
                </a:lnTo>
                <a:lnTo>
                  <a:pt x="2981960" y="1027113"/>
                </a:lnTo>
                <a:lnTo>
                  <a:pt x="2996248" y="1049655"/>
                </a:lnTo>
                <a:lnTo>
                  <a:pt x="3010218" y="1072198"/>
                </a:lnTo>
                <a:lnTo>
                  <a:pt x="3023235" y="1095375"/>
                </a:lnTo>
                <a:lnTo>
                  <a:pt x="3036570" y="1118553"/>
                </a:lnTo>
                <a:lnTo>
                  <a:pt x="3048952" y="1142048"/>
                </a:lnTo>
                <a:lnTo>
                  <a:pt x="3333115" y="1049338"/>
                </a:lnTo>
                <a:lnTo>
                  <a:pt x="3337560" y="1048068"/>
                </a:lnTo>
                <a:lnTo>
                  <a:pt x="3342005" y="1047115"/>
                </a:lnTo>
                <a:lnTo>
                  <a:pt x="3346450" y="1046480"/>
                </a:lnTo>
                <a:lnTo>
                  <a:pt x="3350578" y="1045528"/>
                </a:lnTo>
                <a:lnTo>
                  <a:pt x="3359785" y="1044893"/>
                </a:lnTo>
                <a:lnTo>
                  <a:pt x="3368358" y="1045210"/>
                </a:lnTo>
                <a:lnTo>
                  <a:pt x="3376930" y="1046480"/>
                </a:lnTo>
                <a:lnTo>
                  <a:pt x="3385185" y="1048068"/>
                </a:lnTo>
                <a:lnTo>
                  <a:pt x="3393440" y="1051243"/>
                </a:lnTo>
                <a:lnTo>
                  <a:pt x="3401060" y="1054735"/>
                </a:lnTo>
                <a:lnTo>
                  <a:pt x="3408680" y="1058863"/>
                </a:lnTo>
                <a:lnTo>
                  <a:pt x="3415665" y="1063625"/>
                </a:lnTo>
                <a:lnTo>
                  <a:pt x="3422015" y="1069340"/>
                </a:lnTo>
                <a:lnTo>
                  <a:pt x="3428048" y="1075690"/>
                </a:lnTo>
                <a:lnTo>
                  <a:pt x="3433445" y="1082358"/>
                </a:lnTo>
                <a:lnTo>
                  <a:pt x="3438208" y="1089978"/>
                </a:lnTo>
                <a:lnTo>
                  <a:pt x="3442335" y="1097915"/>
                </a:lnTo>
                <a:lnTo>
                  <a:pt x="3443922" y="1102043"/>
                </a:lnTo>
                <a:lnTo>
                  <a:pt x="3445510" y="1106488"/>
                </a:lnTo>
                <a:lnTo>
                  <a:pt x="3538855" y="1393508"/>
                </a:lnTo>
                <a:lnTo>
                  <a:pt x="3539808" y="1397635"/>
                </a:lnTo>
                <a:lnTo>
                  <a:pt x="3541078" y="1402398"/>
                </a:lnTo>
                <a:lnTo>
                  <a:pt x="3542030" y="1406843"/>
                </a:lnTo>
                <a:lnTo>
                  <a:pt x="3542665" y="1411288"/>
                </a:lnTo>
                <a:lnTo>
                  <a:pt x="3543300" y="1419860"/>
                </a:lnTo>
                <a:lnTo>
                  <a:pt x="3542982" y="1428750"/>
                </a:lnTo>
                <a:lnTo>
                  <a:pt x="3541712" y="1437323"/>
                </a:lnTo>
                <a:lnTo>
                  <a:pt x="3539808" y="1445578"/>
                </a:lnTo>
                <a:lnTo>
                  <a:pt x="3537268" y="1453833"/>
                </a:lnTo>
                <a:lnTo>
                  <a:pt x="3533458" y="1461453"/>
                </a:lnTo>
                <a:lnTo>
                  <a:pt x="3529330" y="1468755"/>
                </a:lnTo>
                <a:lnTo>
                  <a:pt x="3524568" y="1476058"/>
                </a:lnTo>
                <a:lnTo>
                  <a:pt x="3518852" y="1482408"/>
                </a:lnTo>
                <a:lnTo>
                  <a:pt x="3512502" y="1488440"/>
                </a:lnTo>
                <a:lnTo>
                  <a:pt x="3505518" y="1494155"/>
                </a:lnTo>
                <a:lnTo>
                  <a:pt x="3498215" y="1498600"/>
                </a:lnTo>
                <a:lnTo>
                  <a:pt x="3490278" y="1502728"/>
                </a:lnTo>
                <a:lnTo>
                  <a:pt x="3486150" y="1504633"/>
                </a:lnTo>
                <a:lnTo>
                  <a:pt x="3481705" y="1506220"/>
                </a:lnTo>
                <a:lnTo>
                  <a:pt x="3197225" y="1598295"/>
                </a:lnTo>
                <a:lnTo>
                  <a:pt x="3200400" y="1624330"/>
                </a:lnTo>
                <a:lnTo>
                  <a:pt x="3203892" y="1650365"/>
                </a:lnTo>
                <a:lnTo>
                  <a:pt x="3206115" y="1676718"/>
                </a:lnTo>
                <a:lnTo>
                  <a:pt x="3208338" y="1703070"/>
                </a:lnTo>
                <a:lnTo>
                  <a:pt x="3210242" y="1729423"/>
                </a:lnTo>
                <a:lnTo>
                  <a:pt x="3211512" y="1755775"/>
                </a:lnTo>
                <a:lnTo>
                  <a:pt x="3212148" y="1782445"/>
                </a:lnTo>
                <a:lnTo>
                  <a:pt x="3212465" y="1809115"/>
                </a:lnTo>
                <a:lnTo>
                  <a:pt x="3212148" y="1835785"/>
                </a:lnTo>
                <a:lnTo>
                  <a:pt x="3211512" y="1862455"/>
                </a:lnTo>
                <a:lnTo>
                  <a:pt x="3210242" y="1889125"/>
                </a:lnTo>
                <a:lnTo>
                  <a:pt x="3208338" y="1915478"/>
                </a:lnTo>
                <a:lnTo>
                  <a:pt x="3206115" y="1941830"/>
                </a:lnTo>
                <a:lnTo>
                  <a:pt x="3203892" y="1967865"/>
                </a:lnTo>
                <a:lnTo>
                  <a:pt x="3200400" y="1993900"/>
                </a:lnTo>
                <a:lnTo>
                  <a:pt x="3197225" y="2019618"/>
                </a:lnTo>
                <a:lnTo>
                  <a:pt x="3481705" y="2112328"/>
                </a:lnTo>
                <a:lnTo>
                  <a:pt x="3486150" y="2113915"/>
                </a:lnTo>
                <a:lnTo>
                  <a:pt x="3490278" y="2115820"/>
                </a:lnTo>
                <a:lnTo>
                  <a:pt x="3498215" y="2119630"/>
                </a:lnTo>
                <a:lnTo>
                  <a:pt x="3505518" y="2124393"/>
                </a:lnTo>
                <a:lnTo>
                  <a:pt x="3512502" y="2129790"/>
                </a:lnTo>
                <a:lnTo>
                  <a:pt x="3518852" y="2135505"/>
                </a:lnTo>
                <a:lnTo>
                  <a:pt x="3524568" y="2142173"/>
                </a:lnTo>
                <a:lnTo>
                  <a:pt x="3529330" y="2149158"/>
                </a:lnTo>
                <a:lnTo>
                  <a:pt x="3533458" y="2156778"/>
                </a:lnTo>
                <a:lnTo>
                  <a:pt x="3537268" y="2164398"/>
                </a:lnTo>
                <a:lnTo>
                  <a:pt x="3539808" y="2172653"/>
                </a:lnTo>
                <a:lnTo>
                  <a:pt x="3541712" y="2180908"/>
                </a:lnTo>
                <a:lnTo>
                  <a:pt x="3542982" y="2189480"/>
                </a:lnTo>
                <a:lnTo>
                  <a:pt x="3543300" y="2198053"/>
                </a:lnTo>
                <a:lnTo>
                  <a:pt x="3542665" y="2206625"/>
                </a:lnTo>
                <a:lnTo>
                  <a:pt x="3542030" y="2211388"/>
                </a:lnTo>
                <a:lnTo>
                  <a:pt x="3541078" y="2215833"/>
                </a:lnTo>
                <a:lnTo>
                  <a:pt x="3539808" y="2220278"/>
                </a:lnTo>
                <a:lnTo>
                  <a:pt x="3538855" y="2224405"/>
                </a:lnTo>
                <a:lnTo>
                  <a:pt x="3445510" y="2512060"/>
                </a:lnTo>
                <a:lnTo>
                  <a:pt x="3443922" y="2516188"/>
                </a:lnTo>
                <a:lnTo>
                  <a:pt x="3442335" y="2520315"/>
                </a:lnTo>
                <a:lnTo>
                  <a:pt x="3438208" y="2528253"/>
                </a:lnTo>
                <a:lnTo>
                  <a:pt x="3433445" y="2535555"/>
                </a:lnTo>
                <a:lnTo>
                  <a:pt x="3428048" y="2542540"/>
                </a:lnTo>
                <a:lnTo>
                  <a:pt x="3422015" y="2548890"/>
                </a:lnTo>
                <a:lnTo>
                  <a:pt x="3415665" y="2554605"/>
                </a:lnTo>
                <a:lnTo>
                  <a:pt x="3408680" y="2559368"/>
                </a:lnTo>
                <a:lnTo>
                  <a:pt x="3401060" y="2563495"/>
                </a:lnTo>
                <a:lnTo>
                  <a:pt x="3393440" y="2567305"/>
                </a:lnTo>
                <a:lnTo>
                  <a:pt x="3385185" y="2569845"/>
                </a:lnTo>
                <a:lnTo>
                  <a:pt x="3376930" y="2571750"/>
                </a:lnTo>
                <a:lnTo>
                  <a:pt x="3368358" y="2573020"/>
                </a:lnTo>
                <a:lnTo>
                  <a:pt x="3359785" y="2573338"/>
                </a:lnTo>
                <a:lnTo>
                  <a:pt x="3350578" y="2573020"/>
                </a:lnTo>
                <a:lnTo>
                  <a:pt x="3346450" y="2572068"/>
                </a:lnTo>
                <a:lnTo>
                  <a:pt x="3342005" y="2571433"/>
                </a:lnTo>
                <a:lnTo>
                  <a:pt x="3337560" y="2570163"/>
                </a:lnTo>
                <a:lnTo>
                  <a:pt x="3333115" y="2568893"/>
                </a:lnTo>
                <a:lnTo>
                  <a:pt x="3048952" y="2476500"/>
                </a:lnTo>
                <a:lnTo>
                  <a:pt x="3035935" y="2499995"/>
                </a:lnTo>
                <a:lnTo>
                  <a:pt x="3023235" y="2523173"/>
                </a:lnTo>
                <a:lnTo>
                  <a:pt x="3009900" y="2546033"/>
                </a:lnTo>
                <a:lnTo>
                  <a:pt x="2996248" y="2568893"/>
                </a:lnTo>
                <a:lnTo>
                  <a:pt x="2981960" y="2590800"/>
                </a:lnTo>
                <a:lnTo>
                  <a:pt x="2967355" y="2613025"/>
                </a:lnTo>
                <a:lnTo>
                  <a:pt x="2952115" y="2634933"/>
                </a:lnTo>
                <a:lnTo>
                  <a:pt x="2936875" y="2656523"/>
                </a:lnTo>
                <a:lnTo>
                  <a:pt x="2921318" y="2677478"/>
                </a:lnTo>
                <a:lnTo>
                  <a:pt x="2905125" y="2698115"/>
                </a:lnTo>
                <a:lnTo>
                  <a:pt x="2888615" y="2718753"/>
                </a:lnTo>
                <a:lnTo>
                  <a:pt x="2871788" y="2739073"/>
                </a:lnTo>
                <a:lnTo>
                  <a:pt x="2854325" y="2759076"/>
                </a:lnTo>
                <a:lnTo>
                  <a:pt x="2837180" y="2778761"/>
                </a:lnTo>
                <a:lnTo>
                  <a:pt x="2819082" y="2797811"/>
                </a:lnTo>
                <a:lnTo>
                  <a:pt x="2800985" y="2817178"/>
                </a:lnTo>
                <a:lnTo>
                  <a:pt x="2976880" y="3059431"/>
                </a:lnTo>
                <a:lnTo>
                  <a:pt x="2979738" y="3063241"/>
                </a:lnTo>
                <a:lnTo>
                  <a:pt x="2981960" y="3067368"/>
                </a:lnTo>
                <a:lnTo>
                  <a:pt x="2986088" y="3075306"/>
                </a:lnTo>
                <a:lnTo>
                  <a:pt x="2988945" y="3083243"/>
                </a:lnTo>
                <a:lnTo>
                  <a:pt x="2991802" y="3091816"/>
                </a:lnTo>
                <a:lnTo>
                  <a:pt x="2993072" y="3100071"/>
                </a:lnTo>
                <a:lnTo>
                  <a:pt x="2994025" y="3108643"/>
                </a:lnTo>
                <a:lnTo>
                  <a:pt x="2994025" y="3117216"/>
                </a:lnTo>
                <a:lnTo>
                  <a:pt x="2992755" y="3125788"/>
                </a:lnTo>
                <a:lnTo>
                  <a:pt x="2991168" y="3134043"/>
                </a:lnTo>
                <a:lnTo>
                  <a:pt x="2988628" y="3142298"/>
                </a:lnTo>
                <a:lnTo>
                  <a:pt x="2985770" y="3150236"/>
                </a:lnTo>
                <a:lnTo>
                  <a:pt x="2981642" y="3157538"/>
                </a:lnTo>
                <a:lnTo>
                  <a:pt x="2976562" y="3165158"/>
                </a:lnTo>
                <a:lnTo>
                  <a:pt x="2970848" y="3171826"/>
                </a:lnTo>
                <a:lnTo>
                  <a:pt x="2967990" y="3175001"/>
                </a:lnTo>
                <a:lnTo>
                  <a:pt x="2964498" y="3177858"/>
                </a:lnTo>
                <a:lnTo>
                  <a:pt x="2961322" y="3181033"/>
                </a:lnTo>
                <a:lnTo>
                  <a:pt x="2957512" y="3183573"/>
                </a:lnTo>
                <a:lnTo>
                  <a:pt x="2712720" y="3361056"/>
                </a:lnTo>
                <a:lnTo>
                  <a:pt x="2709228" y="3363913"/>
                </a:lnTo>
                <a:lnTo>
                  <a:pt x="2705100" y="3366453"/>
                </a:lnTo>
                <a:lnTo>
                  <a:pt x="2697162" y="3370581"/>
                </a:lnTo>
                <a:lnTo>
                  <a:pt x="2688908" y="3373756"/>
                </a:lnTo>
                <a:lnTo>
                  <a:pt x="2680652" y="3376296"/>
                </a:lnTo>
                <a:lnTo>
                  <a:pt x="2671762" y="3377883"/>
                </a:lnTo>
                <a:lnTo>
                  <a:pt x="2663508" y="3378518"/>
                </a:lnTo>
                <a:lnTo>
                  <a:pt x="2654935" y="3378518"/>
                </a:lnTo>
                <a:lnTo>
                  <a:pt x="2646362" y="3377248"/>
                </a:lnTo>
                <a:lnTo>
                  <a:pt x="2638108" y="3375978"/>
                </a:lnTo>
                <a:lnTo>
                  <a:pt x="2629852" y="3373121"/>
                </a:lnTo>
                <a:lnTo>
                  <a:pt x="2621915" y="3369946"/>
                </a:lnTo>
                <a:lnTo>
                  <a:pt x="2614295" y="3365818"/>
                </a:lnTo>
                <a:lnTo>
                  <a:pt x="2606992" y="3360738"/>
                </a:lnTo>
                <a:lnTo>
                  <a:pt x="2600325" y="3355023"/>
                </a:lnTo>
                <a:lnTo>
                  <a:pt x="2597468" y="3352166"/>
                </a:lnTo>
                <a:lnTo>
                  <a:pt x="2593975" y="3348673"/>
                </a:lnTo>
                <a:lnTo>
                  <a:pt x="2591435" y="3345498"/>
                </a:lnTo>
                <a:lnTo>
                  <a:pt x="2588260" y="3341688"/>
                </a:lnTo>
                <a:lnTo>
                  <a:pt x="2412682" y="3099753"/>
                </a:lnTo>
                <a:lnTo>
                  <a:pt x="2388870" y="3110866"/>
                </a:lnTo>
                <a:lnTo>
                  <a:pt x="2365692" y="3122296"/>
                </a:lnTo>
                <a:lnTo>
                  <a:pt x="2341562" y="3132773"/>
                </a:lnTo>
                <a:lnTo>
                  <a:pt x="2317432" y="3142933"/>
                </a:lnTo>
                <a:lnTo>
                  <a:pt x="2292985" y="3152776"/>
                </a:lnTo>
                <a:lnTo>
                  <a:pt x="2268538" y="3161666"/>
                </a:lnTo>
                <a:lnTo>
                  <a:pt x="2243772" y="3170873"/>
                </a:lnTo>
                <a:lnTo>
                  <a:pt x="2218690" y="3179128"/>
                </a:lnTo>
                <a:lnTo>
                  <a:pt x="2193608" y="3187066"/>
                </a:lnTo>
                <a:lnTo>
                  <a:pt x="2167890" y="3194368"/>
                </a:lnTo>
                <a:lnTo>
                  <a:pt x="2142490" y="3201671"/>
                </a:lnTo>
                <a:lnTo>
                  <a:pt x="2116772" y="3208021"/>
                </a:lnTo>
                <a:lnTo>
                  <a:pt x="2091055" y="3214371"/>
                </a:lnTo>
                <a:lnTo>
                  <a:pt x="2064702" y="3220086"/>
                </a:lnTo>
                <a:lnTo>
                  <a:pt x="2038350" y="3225483"/>
                </a:lnTo>
                <a:lnTo>
                  <a:pt x="2011998" y="3229928"/>
                </a:lnTo>
                <a:lnTo>
                  <a:pt x="2011998" y="3529013"/>
                </a:lnTo>
                <a:lnTo>
                  <a:pt x="2011998" y="3533458"/>
                </a:lnTo>
                <a:lnTo>
                  <a:pt x="2011362" y="3537903"/>
                </a:lnTo>
                <a:lnTo>
                  <a:pt x="2010728" y="3542666"/>
                </a:lnTo>
                <a:lnTo>
                  <a:pt x="2010092" y="3547111"/>
                </a:lnTo>
                <a:lnTo>
                  <a:pt x="2007870" y="3555366"/>
                </a:lnTo>
                <a:lnTo>
                  <a:pt x="2005012" y="3563621"/>
                </a:lnTo>
                <a:lnTo>
                  <a:pt x="2001202" y="3571558"/>
                </a:lnTo>
                <a:lnTo>
                  <a:pt x="1996758" y="3578543"/>
                </a:lnTo>
                <a:lnTo>
                  <a:pt x="1991678" y="3585846"/>
                </a:lnTo>
                <a:lnTo>
                  <a:pt x="1985962" y="3591878"/>
                </a:lnTo>
                <a:lnTo>
                  <a:pt x="1979612" y="3597911"/>
                </a:lnTo>
                <a:lnTo>
                  <a:pt x="1972628" y="3602673"/>
                </a:lnTo>
                <a:lnTo>
                  <a:pt x="1965325" y="3607118"/>
                </a:lnTo>
                <a:lnTo>
                  <a:pt x="1957705" y="3610928"/>
                </a:lnTo>
                <a:lnTo>
                  <a:pt x="1949450" y="3614103"/>
                </a:lnTo>
                <a:lnTo>
                  <a:pt x="1940878" y="3616326"/>
                </a:lnTo>
                <a:lnTo>
                  <a:pt x="1931670" y="3617278"/>
                </a:lnTo>
                <a:lnTo>
                  <a:pt x="1927225" y="3617913"/>
                </a:lnTo>
                <a:lnTo>
                  <a:pt x="1922780" y="3617913"/>
                </a:lnTo>
                <a:lnTo>
                  <a:pt x="1620520" y="3617913"/>
                </a:lnTo>
                <a:lnTo>
                  <a:pt x="1615758" y="3617913"/>
                </a:lnTo>
                <a:lnTo>
                  <a:pt x="1611630" y="3617278"/>
                </a:lnTo>
                <a:lnTo>
                  <a:pt x="1602422" y="3616326"/>
                </a:lnTo>
                <a:lnTo>
                  <a:pt x="1594168" y="3614103"/>
                </a:lnTo>
                <a:lnTo>
                  <a:pt x="1585912" y="3610928"/>
                </a:lnTo>
                <a:lnTo>
                  <a:pt x="1577975" y="3607118"/>
                </a:lnTo>
                <a:lnTo>
                  <a:pt x="1570990" y="3602673"/>
                </a:lnTo>
                <a:lnTo>
                  <a:pt x="1563688" y="3597911"/>
                </a:lnTo>
                <a:lnTo>
                  <a:pt x="1557655" y="3591878"/>
                </a:lnTo>
                <a:lnTo>
                  <a:pt x="1551622" y="3585846"/>
                </a:lnTo>
                <a:lnTo>
                  <a:pt x="1546860" y="3578543"/>
                </a:lnTo>
                <a:lnTo>
                  <a:pt x="1542415" y="3571558"/>
                </a:lnTo>
                <a:lnTo>
                  <a:pt x="1538605" y="3563621"/>
                </a:lnTo>
                <a:lnTo>
                  <a:pt x="1535430" y="3555366"/>
                </a:lnTo>
                <a:lnTo>
                  <a:pt x="1533208" y="3547111"/>
                </a:lnTo>
                <a:lnTo>
                  <a:pt x="1532572" y="3542666"/>
                </a:lnTo>
                <a:lnTo>
                  <a:pt x="1531620" y="3537903"/>
                </a:lnTo>
                <a:lnTo>
                  <a:pt x="1531302" y="3533458"/>
                </a:lnTo>
                <a:lnTo>
                  <a:pt x="1531302" y="3529013"/>
                </a:lnTo>
                <a:lnTo>
                  <a:pt x="1531302" y="3229928"/>
                </a:lnTo>
                <a:lnTo>
                  <a:pt x="1504950" y="3225483"/>
                </a:lnTo>
                <a:lnTo>
                  <a:pt x="1478598" y="3220086"/>
                </a:lnTo>
                <a:lnTo>
                  <a:pt x="1452245" y="3214371"/>
                </a:lnTo>
                <a:lnTo>
                  <a:pt x="1426845" y="3208021"/>
                </a:lnTo>
                <a:lnTo>
                  <a:pt x="1400810" y="3201671"/>
                </a:lnTo>
                <a:lnTo>
                  <a:pt x="1375092" y="3194368"/>
                </a:lnTo>
                <a:lnTo>
                  <a:pt x="1350010" y="3187066"/>
                </a:lnTo>
                <a:lnTo>
                  <a:pt x="1324928" y="3179128"/>
                </a:lnTo>
                <a:lnTo>
                  <a:pt x="1299528" y="3170873"/>
                </a:lnTo>
                <a:lnTo>
                  <a:pt x="1274762" y="3161666"/>
                </a:lnTo>
                <a:lnTo>
                  <a:pt x="1250315" y="3152776"/>
                </a:lnTo>
                <a:lnTo>
                  <a:pt x="1225868" y="3142933"/>
                </a:lnTo>
                <a:lnTo>
                  <a:pt x="1201738" y="3132773"/>
                </a:lnTo>
                <a:lnTo>
                  <a:pt x="1177925" y="3122296"/>
                </a:lnTo>
                <a:lnTo>
                  <a:pt x="1154430" y="3110866"/>
                </a:lnTo>
                <a:lnTo>
                  <a:pt x="1130618" y="3099753"/>
                </a:lnTo>
                <a:lnTo>
                  <a:pt x="955040" y="3342006"/>
                </a:lnTo>
                <a:lnTo>
                  <a:pt x="952182" y="3345816"/>
                </a:lnTo>
                <a:lnTo>
                  <a:pt x="949325" y="3349308"/>
                </a:lnTo>
                <a:lnTo>
                  <a:pt x="946150" y="3352483"/>
                </a:lnTo>
                <a:lnTo>
                  <a:pt x="942975" y="3355658"/>
                </a:lnTo>
                <a:lnTo>
                  <a:pt x="935990" y="3361056"/>
                </a:lnTo>
                <a:lnTo>
                  <a:pt x="929005" y="3366136"/>
                </a:lnTo>
                <a:lnTo>
                  <a:pt x="921385" y="3369946"/>
                </a:lnTo>
                <a:lnTo>
                  <a:pt x="913448" y="3373121"/>
                </a:lnTo>
                <a:lnTo>
                  <a:pt x="905192" y="3375978"/>
                </a:lnTo>
                <a:lnTo>
                  <a:pt x="896938" y="3377248"/>
                </a:lnTo>
                <a:lnTo>
                  <a:pt x="888365" y="3378518"/>
                </a:lnTo>
                <a:lnTo>
                  <a:pt x="879792" y="3378518"/>
                </a:lnTo>
                <a:lnTo>
                  <a:pt x="870902" y="3377883"/>
                </a:lnTo>
                <a:lnTo>
                  <a:pt x="862648" y="3376296"/>
                </a:lnTo>
                <a:lnTo>
                  <a:pt x="854075" y="3373756"/>
                </a:lnTo>
                <a:lnTo>
                  <a:pt x="846138" y="3370581"/>
                </a:lnTo>
                <a:lnTo>
                  <a:pt x="837882" y="3366453"/>
                </a:lnTo>
                <a:lnTo>
                  <a:pt x="834072" y="3363913"/>
                </a:lnTo>
                <a:lnTo>
                  <a:pt x="830262" y="3361056"/>
                </a:lnTo>
                <a:lnTo>
                  <a:pt x="586105" y="3183573"/>
                </a:lnTo>
                <a:lnTo>
                  <a:pt x="582930" y="3181033"/>
                </a:lnTo>
                <a:lnTo>
                  <a:pt x="579438" y="3177858"/>
                </a:lnTo>
                <a:lnTo>
                  <a:pt x="575945" y="3175001"/>
                </a:lnTo>
                <a:lnTo>
                  <a:pt x="573088" y="3171826"/>
                </a:lnTo>
                <a:lnTo>
                  <a:pt x="567372" y="3165158"/>
                </a:lnTo>
                <a:lnTo>
                  <a:pt x="562610" y="3157538"/>
                </a:lnTo>
                <a:lnTo>
                  <a:pt x="558482" y="3150236"/>
                </a:lnTo>
                <a:lnTo>
                  <a:pt x="554990" y="3142298"/>
                </a:lnTo>
                <a:lnTo>
                  <a:pt x="552450" y="3134043"/>
                </a:lnTo>
                <a:lnTo>
                  <a:pt x="550862" y="3125788"/>
                </a:lnTo>
                <a:lnTo>
                  <a:pt x="549592" y="3117216"/>
                </a:lnTo>
                <a:lnTo>
                  <a:pt x="549592" y="3108643"/>
                </a:lnTo>
                <a:lnTo>
                  <a:pt x="550545" y="3100071"/>
                </a:lnTo>
                <a:lnTo>
                  <a:pt x="551815" y="3091816"/>
                </a:lnTo>
                <a:lnTo>
                  <a:pt x="554355" y="3083243"/>
                </a:lnTo>
                <a:lnTo>
                  <a:pt x="557530" y="3075306"/>
                </a:lnTo>
                <a:lnTo>
                  <a:pt x="559435" y="3071178"/>
                </a:lnTo>
                <a:lnTo>
                  <a:pt x="561340" y="3067368"/>
                </a:lnTo>
                <a:lnTo>
                  <a:pt x="563880" y="3063241"/>
                </a:lnTo>
                <a:lnTo>
                  <a:pt x="566738" y="3059431"/>
                </a:lnTo>
                <a:lnTo>
                  <a:pt x="742632" y="2817178"/>
                </a:lnTo>
                <a:lnTo>
                  <a:pt x="724218" y="2797811"/>
                </a:lnTo>
                <a:lnTo>
                  <a:pt x="706755" y="2778761"/>
                </a:lnTo>
                <a:lnTo>
                  <a:pt x="688975" y="2759076"/>
                </a:lnTo>
                <a:lnTo>
                  <a:pt x="671512" y="2739073"/>
                </a:lnTo>
                <a:lnTo>
                  <a:pt x="655002" y="2718753"/>
                </a:lnTo>
                <a:lnTo>
                  <a:pt x="638492" y="2698115"/>
                </a:lnTo>
                <a:lnTo>
                  <a:pt x="622300" y="2677478"/>
                </a:lnTo>
                <a:lnTo>
                  <a:pt x="606425" y="2656523"/>
                </a:lnTo>
                <a:lnTo>
                  <a:pt x="591185" y="2634933"/>
                </a:lnTo>
                <a:lnTo>
                  <a:pt x="576580" y="2613025"/>
                </a:lnTo>
                <a:lnTo>
                  <a:pt x="561658" y="2590800"/>
                </a:lnTo>
                <a:lnTo>
                  <a:pt x="547370" y="2568893"/>
                </a:lnTo>
                <a:lnTo>
                  <a:pt x="534035" y="2546033"/>
                </a:lnTo>
                <a:lnTo>
                  <a:pt x="520382" y="2523173"/>
                </a:lnTo>
                <a:lnTo>
                  <a:pt x="507682" y="2499995"/>
                </a:lnTo>
                <a:lnTo>
                  <a:pt x="494665" y="2476500"/>
                </a:lnTo>
                <a:lnTo>
                  <a:pt x="209868" y="2568893"/>
                </a:lnTo>
                <a:lnTo>
                  <a:pt x="205740" y="2570163"/>
                </a:lnTo>
                <a:lnTo>
                  <a:pt x="201295" y="2571433"/>
                </a:lnTo>
                <a:lnTo>
                  <a:pt x="196850" y="2572068"/>
                </a:lnTo>
                <a:lnTo>
                  <a:pt x="192722" y="2573020"/>
                </a:lnTo>
                <a:lnTo>
                  <a:pt x="183515" y="2573338"/>
                </a:lnTo>
                <a:lnTo>
                  <a:pt x="174942" y="2573020"/>
                </a:lnTo>
                <a:lnTo>
                  <a:pt x="166688" y="2571750"/>
                </a:lnTo>
                <a:lnTo>
                  <a:pt x="158115" y="2569845"/>
                </a:lnTo>
                <a:lnTo>
                  <a:pt x="150177" y="2567305"/>
                </a:lnTo>
                <a:lnTo>
                  <a:pt x="142240" y="2563495"/>
                </a:lnTo>
                <a:lnTo>
                  <a:pt x="134620" y="2559368"/>
                </a:lnTo>
                <a:lnTo>
                  <a:pt x="127952" y="2554605"/>
                </a:lnTo>
                <a:lnTo>
                  <a:pt x="121602" y="2548890"/>
                </a:lnTo>
                <a:lnTo>
                  <a:pt x="115570" y="2542540"/>
                </a:lnTo>
                <a:lnTo>
                  <a:pt x="109855" y="2535555"/>
                </a:lnTo>
                <a:lnTo>
                  <a:pt x="105410" y="2528253"/>
                </a:lnTo>
                <a:lnTo>
                  <a:pt x="101282" y="2520315"/>
                </a:lnTo>
                <a:lnTo>
                  <a:pt x="99377" y="2516188"/>
                </a:lnTo>
                <a:lnTo>
                  <a:pt x="97790" y="2512060"/>
                </a:lnTo>
                <a:lnTo>
                  <a:pt x="4445" y="2224405"/>
                </a:lnTo>
                <a:lnTo>
                  <a:pt x="3492" y="2220278"/>
                </a:lnTo>
                <a:lnTo>
                  <a:pt x="2222" y="2215833"/>
                </a:lnTo>
                <a:lnTo>
                  <a:pt x="1587" y="2211388"/>
                </a:lnTo>
                <a:lnTo>
                  <a:pt x="635" y="2206625"/>
                </a:lnTo>
                <a:lnTo>
                  <a:pt x="0" y="2198053"/>
                </a:lnTo>
                <a:lnTo>
                  <a:pt x="317" y="2189480"/>
                </a:lnTo>
                <a:lnTo>
                  <a:pt x="1587" y="2180908"/>
                </a:lnTo>
                <a:lnTo>
                  <a:pt x="3810" y="2172653"/>
                </a:lnTo>
                <a:lnTo>
                  <a:pt x="6350" y="2164398"/>
                </a:lnTo>
                <a:lnTo>
                  <a:pt x="9842" y="2156778"/>
                </a:lnTo>
                <a:lnTo>
                  <a:pt x="13970" y="2149158"/>
                </a:lnTo>
                <a:lnTo>
                  <a:pt x="19050" y="2142173"/>
                </a:lnTo>
                <a:lnTo>
                  <a:pt x="24447" y="2135505"/>
                </a:lnTo>
                <a:lnTo>
                  <a:pt x="30797" y="2129790"/>
                </a:lnTo>
                <a:lnTo>
                  <a:pt x="37465" y="2124393"/>
                </a:lnTo>
                <a:lnTo>
                  <a:pt x="45085" y="2119630"/>
                </a:lnTo>
                <a:lnTo>
                  <a:pt x="49212" y="2117725"/>
                </a:lnTo>
                <a:lnTo>
                  <a:pt x="53340" y="2115820"/>
                </a:lnTo>
                <a:lnTo>
                  <a:pt x="57467" y="2113915"/>
                </a:lnTo>
                <a:lnTo>
                  <a:pt x="61595" y="2112328"/>
                </a:lnTo>
                <a:lnTo>
                  <a:pt x="346392" y="2019618"/>
                </a:lnTo>
                <a:lnTo>
                  <a:pt x="342900" y="1993900"/>
                </a:lnTo>
                <a:lnTo>
                  <a:pt x="339725" y="1967865"/>
                </a:lnTo>
                <a:lnTo>
                  <a:pt x="337185" y="1941830"/>
                </a:lnTo>
                <a:lnTo>
                  <a:pt x="334962" y="1915478"/>
                </a:lnTo>
                <a:lnTo>
                  <a:pt x="333375" y="1889125"/>
                </a:lnTo>
                <a:lnTo>
                  <a:pt x="331788" y="1862455"/>
                </a:lnTo>
                <a:lnTo>
                  <a:pt x="331152" y="1835785"/>
                </a:lnTo>
                <a:lnTo>
                  <a:pt x="331152" y="1809115"/>
                </a:lnTo>
                <a:lnTo>
                  <a:pt x="331152" y="1782445"/>
                </a:lnTo>
                <a:lnTo>
                  <a:pt x="331788" y="1755775"/>
                </a:lnTo>
                <a:lnTo>
                  <a:pt x="333375" y="1729423"/>
                </a:lnTo>
                <a:lnTo>
                  <a:pt x="334962" y="1703070"/>
                </a:lnTo>
                <a:lnTo>
                  <a:pt x="337185" y="1676718"/>
                </a:lnTo>
                <a:lnTo>
                  <a:pt x="339725" y="1650365"/>
                </a:lnTo>
                <a:lnTo>
                  <a:pt x="342900" y="1624330"/>
                </a:lnTo>
                <a:lnTo>
                  <a:pt x="346392" y="1598295"/>
                </a:lnTo>
                <a:lnTo>
                  <a:pt x="61595" y="1506220"/>
                </a:lnTo>
                <a:lnTo>
                  <a:pt x="57467" y="1504633"/>
                </a:lnTo>
                <a:lnTo>
                  <a:pt x="53340" y="1502728"/>
                </a:lnTo>
                <a:lnTo>
                  <a:pt x="45085" y="1498600"/>
                </a:lnTo>
                <a:lnTo>
                  <a:pt x="37465" y="1494155"/>
                </a:lnTo>
                <a:lnTo>
                  <a:pt x="30797" y="1488440"/>
                </a:lnTo>
                <a:lnTo>
                  <a:pt x="24447" y="1482408"/>
                </a:lnTo>
                <a:lnTo>
                  <a:pt x="19050" y="1476058"/>
                </a:lnTo>
                <a:lnTo>
                  <a:pt x="13970" y="1468755"/>
                </a:lnTo>
                <a:lnTo>
                  <a:pt x="9842" y="1461453"/>
                </a:lnTo>
                <a:lnTo>
                  <a:pt x="6350" y="1453833"/>
                </a:lnTo>
                <a:lnTo>
                  <a:pt x="3810" y="1445578"/>
                </a:lnTo>
                <a:lnTo>
                  <a:pt x="1587" y="1437323"/>
                </a:lnTo>
                <a:lnTo>
                  <a:pt x="317" y="1428750"/>
                </a:lnTo>
                <a:lnTo>
                  <a:pt x="0" y="1419860"/>
                </a:lnTo>
                <a:lnTo>
                  <a:pt x="635" y="1411288"/>
                </a:lnTo>
                <a:lnTo>
                  <a:pt x="1587" y="1406843"/>
                </a:lnTo>
                <a:lnTo>
                  <a:pt x="2222" y="1402398"/>
                </a:lnTo>
                <a:lnTo>
                  <a:pt x="3492" y="1397635"/>
                </a:lnTo>
                <a:lnTo>
                  <a:pt x="4445" y="1393508"/>
                </a:lnTo>
                <a:lnTo>
                  <a:pt x="97790" y="1106488"/>
                </a:lnTo>
                <a:lnTo>
                  <a:pt x="99377" y="1102043"/>
                </a:lnTo>
                <a:lnTo>
                  <a:pt x="101282" y="1097915"/>
                </a:lnTo>
                <a:lnTo>
                  <a:pt x="103187" y="1093788"/>
                </a:lnTo>
                <a:lnTo>
                  <a:pt x="105410" y="1089978"/>
                </a:lnTo>
                <a:lnTo>
                  <a:pt x="109855" y="1082358"/>
                </a:lnTo>
                <a:lnTo>
                  <a:pt x="115570" y="1075690"/>
                </a:lnTo>
                <a:lnTo>
                  <a:pt x="121602" y="1069340"/>
                </a:lnTo>
                <a:lnTo>
                  <a:pt x="127952" y="1063625"/>
                </a:lnTo>
                <a:lnTo>
                  <a:pt x="134620" y="1058863"/>
                </a:lnTo>
                <a:lnTo>
                  <a:pt x="142240" y="1054735"/>
                </a:lnTo>
                <a:lnTo>
                  <a:pt x="150177" y="1051243"/>
                </a:lnTo>
                <a:lnTo>
                  <a:pt x="158115" y="1048068"/>
                </a:lnTo>
                <a:lnTo>
                  <a:pt x="166688" y="1046480"/>
                </a:lnTo>
                <a:lnTo>
                  <a:pt x="174942" y="1045210"/>
                </a:lnTo>
                <a:lnTo>
                  <a:pt x="183515" y="1044893"/>
                </a:lnTo>
                <a:lnTo>
                  <a:pt x="192722" y="1045528"/>
                </a:lnTo>
                <a:lnTo>
                  <a:pt x="196850" y="1046480"/>
                </a:lnTo>
                <a:lnTo>
                  <a:pt x="201295" y="1047115"/>
                </a:lnTo>
                <a:lnTo>
                  <a:pt x="205740" y="1048068"/>
                </a:lnTo>
                <a:lnTo>
                  <a:pt x="209868" y="1049338"/>
                </a:lnTo>
                <a:lnTo>
                  <a:pt x="494665" y="1141413"/>
                </a:lnTo>
                <a:lnTo>
                  <a:pt x="507682" y="1118235"/>
                </a:lnTo>
                <a:lnTo>
                  <a:pt x="520382" y="1095375"/>
                </a:lnTo>
                <a:lnTo>
                  <a:pt x="534035" y="1072198"/>
                </a:lnTo>
                <a:lnTo>
                  <a:pt x="547370" y="1049655"/>
                </a:lnTo>
                <a:lnTo>
                  <a:pt x="561658" y="1027113"/>
                </a:lnTo>
                <a:lnTo>
                  <a:pt x="576580" y="1005205"/>
                </a:lnTo>
                <a:lnTo>
                  <a:pt x="591185" y="983615"/>
                </a:lnTo>
                <a:lnTo>
                  <a:pt x="606425" y="961707"/>
                </a:lnTo>
                <a:lnTo>
                  <a:pt x="622300" y="940752"/>
                </a:lnTo>
                <a:lnTo>
                  <a:pt x="638492" y="919797"/>
                </a:lnTo>
                <a:lnTo>
                  <a:pt x="655002" y="899160"/>
                </a:lnTo>
                <a:lnTo>
                  <a:pt x="671512" y="878840"/>
                </a:lnTo>
                <a:lnTo>
                  <a:pt x="688975" y="858837"/>
                </a:lnTo>
                <a:lnTo>
                  <a:pt x="706755" y="839470"/>
                </a:lnTo>
                <a:lnTo>
                  <a:pt x="724218" y="819785"/>
                </a:lnTo>
                <a:lnTo>
                  <a:pt x="742632" y="801052"/>
                </a:lnTo>
                <a:lnTo>
                  <a:pt x="566420" y="558800"/>
                </a:lnTo>
                <a:lnTo>
                  <a:pt x="563562" y="554990"/>
                </a:lnTo>
                <a:lnTo>
                  <a:pt x="561340" y="551180"/>
                </a:lnTo>
                <a:lnTo>
                  <a:pt x="559118" y="547370"/>
                </a:lnTo>
                <a:lnTo>
                  <a:pt x="557212" y="543242"/>
                </a:lnTo>
                <a:lnTo>
                  <a:pt x="554355" y="534987"/>
                </a:lnTo>
                <a:lnTo>
                  <a:pt x="551498" y="526732"/>
                </a:lnTo>
                <a:lnTo>
                  <a:pt x="550228" y="518160"/>
                </a:lnTo>
                <a:lnTo>
                  <a:pt x="549592" y="509270"/>
                </a:lnTo>
                <a:lnTo>
                  <a:pt x="549592" y="500697"/>
                </a:lnTo>
                <a:lnTo>
                  <a:pt x="550862" y="492442"/>
                </a:lnTo>
                <a:lnTo>
                  <a:pt x="552450" y="483870"/>
                </a:lnTo>
                <a:lnTo>
                  <a:pt x="554990" y="475932"/>
                </a:lnTo>
                <a:lnTo>
                  <a:pt x="558482" y="467677"/>
                </a:lnTo>
                <a:lnTo>
                  <a:pt x="562610" y="460057"/>
                </a:lnTo>
                <a:lnTo>
                  <a:pt x="567372" y="453072"/>
                </a:lnTo>
                <a:lnTo>
                  <a:pt x="573088" y="446087"/>
                </a:lnTo>
                <a:lnTo>
                  <a:pt x="575945" y="442912"/>
                </a:lnTo>
                <a:lnTo>
                  <a:pt x="579438" y="439737"/>
                </a:lnTo>
                <a:lnTo>
                  <a:pt x="582930" y="436880"/>
                </a:lnTo>
                <a:lnTo>
                  <a:pt x="586105" y="434022"/>
                </a:lnTo>
                <a:lnTo>
                  <a:pt x="830898" y="256857"/>
                </a:lnTo>
                <a:lnTo>
                  <a:pt x="834708" y="254317"/>
                </a:lnTo>
                <a:lnTo>
                  <a:pt x="838200" y="251777"/>
                </a:lnTo>
                <a:lnTo>
                  <a:pt x="842328" y="249872"/>
                </a:lnTo>
                <a:lnTo>
                  <a:pt x="846138" y="247967"/>
                </a:lnTo>
                <a:lnTo>
                  <a:pt x="854392" y="244475"/>
                </a:lnTo>
                <a:lnTo>
                  <a:pt x="862648" y="242252"/>
                </a:lnTo>
                <a:lnTo>
                  <a:pt x="871538" y="240665"/>
                </a:lnTo>
                <a:lnTo>
                  <a:pt x="880110" y="240030"/>
                </a:lnTo>
                <a:lnTo>
                  <a:pt x="888365" y="240030"/>
                </a:lnTo>
                <a:lnTo>
                  <a:pt x="896938" y="240665"/>
                </a:lnTo>
                <a:lnTo>
                  <a:pt x="905192" y="242570"/>
                </a:lnTo>
                <a:lnTo>
                  <a:pt x="913448" y="245110"/>
                </a:lnTo>
                <a:lnTo>
                  <a:pt x="921385" y="248602"/>
                </a:lnTo>
                <a:lnTo>
                  <a:pt x="929005" y="252412"/>
                </a:lnTo>
                <a:lnTo>
                  <a:pt x="935990" y="257175"/>
                </a:lnTo>
                <a:lnTo>
                  <a:pt x="942975" y="262890"/>
                </a:lnTo>
                <a:lnTo>
                  <a:pt x="946150" y="266065"/>
                </a:lnTo>
                <a:lnTo>
                  <a:pt x="949325" y="269240"/>
                </a:lnTo>
                <a:lnTo>
                  <a:pt x="952182" y="272732"/>
                </a:lnTo>
                <a:lnTo>
                  <a:pt x="955040" y="276542"/>
                </a:lnTo>
                <a:lnTo>
                  <a:pt x="1130618" y="518477"/>
                </a:lnTo>
                <a:lnTo>
                  <a:pt x="1154430" y="507047"/>
                </a:lnTo>
                <a:lnTo>
                  <a:pt x="1177925" y="496252"/>
                </a:lnTo>
                <a:lnTo>
                  <a:pt x="1201738" y="485457"/>
                </a:lnTo>
                <a:lnTo>
                  <a:pt x="1225868" y="475615"/>
                </a:lnTo>
                <a:lnTo>
                  <a:pt x="1250315" y="465772"/>
                </a:lnTo>
                <a:lnTo>
                  <a:pt x="1274762" y="456247"/>
                </a:lnTo>
                <a:lnTo>
                  <a:pt x="1299528" y="447675"/>
                </a:lnTo>
                <a:lnTo>
                  <a:pt x="1324928" y="439102"/>
                </a:lnTo>
                <a:lnTo>
                  <a:pt x="1350010" y="431165"/>
                </a:lnTo>
                <a:lnTo>
                  <a:pt x="1375092" y="423545"/>
                </a:lnTo>
                <a:lnTo>
                  <a:pt x="1400810" y="416877"/>
                </a:lnTo>
                <a:lnTo>
                  <a:pt x="1426845" y="410210"/>
                </a:lnTo>
                <a:lnTo>
                  <a:pt x="1452245" y="404177"/>
                </a:lnTo>
                <a:lnTo>
                  <a:pt x="1478598" y="398462"/>
                </a:lnTo>
                <a:lnTo>
                  <a:pt x="1504950" y="393065"/>
                </a:lnTo>
                <a:lnTo>
                  <a:pt x="1531302" y="388620"/>
                </a:lnTo>
                <a:lnTo>
                  <a:pt x="1531302" y="89217"/>
                </a:lnTo>
                <a:lnTo>
                  <a:pt x="1531302" y="84455"/>
                </a:lnTo>
                <a:lnTo>
                  <a:pt x="1531620" y="80010"/>
                </a:lnTo>
                <a:lnTo>
                  <a:pt x="1532572" y="75565"/>
                </a:lnTo>
                <a:lnTo>
                  <a:pt x="1533208" y="71120"/>
                </a:lnTo>
                <a:lnTo>
                  <a:pt x="1535430" y="62865"/>
                </a:lnTo>
                <a:lnTo>
                  <a:pt x="1538605" y="54610"/>
                </a:lnTo>
                <a:lnTo>
                  <a:pt x="1542415" y="46672"/>
                </a:lnTo>
                <a:lnTo>
                  <a:pt x="1546860" y="39370"/>
                </a:lnTo>
                <a:lnTo>
                  <a:pt x="1551622" y="32385"/>
                </a:lnTo>
                <a:lnTo>
                  <a:pt x="1557655" y="26352"/>
                </a:lnTo>
                <a:lnTo>
                  <a:pt x="1563688" y="20320"/>
                </a:lnTo>
                <a:lnTo>
                  <a:pt x="1570990" y="15240"/>
                </a:lnTo>
                <a:lnTo>
                  <a:pt x="1577975" y="10795"/>
                </a:lnTo>
                <a:lnTo>
                  <a:pt x="1585912" y="6985"/>
                </a:lnTo>
                <a:lnTo>
                  <a:pt x="1594168" y="4127"/>
                </a:lnTo>
                <a:lnTo>
                  <a:pt x="1602422" y="1905"/>
                </a:lnTo>
                <a:lnTo>
                  <a:pt x="1607185" y="952"/>
                </a:lnTo>
                <a:lnTo>
                  <a:pt x="1611630" y="317"/>
                </a:lnTo>
                <a:lnTo>
                  <a:pt x="1615758" y="0"/>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KSO_Shape"/>
          <p:cNvSpPr/>
          <p:nvPr/>
        </p:nvSpPr>
        <p:spPr>
          <a:xfrm>
            <a:off x="10713960" y="3292560"/>
            <a:ext cx="501840" cy="295200"/>
          </a:xfrm>
          <a:custGeom>
            <a:avLst/>
            <a:gdLst/>
            <a:ahLst/>
            <a:rect l="l" t="t" r="r" b="b"/>
            <a:pathLst>
              <a:path w="6649" h="3908">
                <a:moveTo>
                  <a:pt x="6649" y="1054"/>
                </a:moveTo>
                <a:lnTo>
                  <a:pt x="3324" y="0"/>
                </a:lnTo>
                <a:lnTo>
                  <a:pt x="0" y="1054"/>
                </a:lnTo>
                <a:lnTo>
                  <a:pt x="1706" y="1594"/>
                </a:lnTo>
                <a:lnTo>
                  <a:pt x="1398" y="3223"/>
                </a:lnTo>
                <a:lnTo>
                  <a:pt x="3324" y="3908"/>
                </a:lnTo>
                <a:lnTo>
                  <a:pt x="5251" y="3223"/>
                </a:lnTo>
                <a:lnTo>
                  <a:pt x="4943" y="1594"/>
                </a:lnTo>
                <a:lnTo>
                  <a:pt x="6649" y="1054"/>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KSO_Shape"/>
          <p:cNvSpPr/>
          <p:nvPr/>
        </p:nvSpPr>
        <p:spPr>
          <a:xfrm>
            <a:off x="9193320" y="3255840"/>
            <a:ext cx="338040" cy="325440"/>
          </a:xfrm>
          <a:custGeom>
            <a:avLst/>
            <a:gdLst/>
            <a:ahLst/>
            <a:rect l="l" t="t" r="r" b="b"/>
            <a:pathLst>
              <a:path w="5440" h="5267">
                <a:moveTo>
                  <a:pt x="1521" y="2392"/>
                </a:moveTo>
                <a:lnTo>
                  <a:pt x="1521" y="2392"/>
                </a:lnTo>
                <a:lnTo>
                  <a:pt x="1525" y="2395"/>
                </a:lnTo>
                <a:lnTo>
                  <a:pt x="2073" y="2944"/>
                </a:lnTo>
                <a:lnTo>
                  <a:pt x="2265" y="2753"/>
                </a:lnTo>
                <a:lnTo>
                  <a:pt x="2058" y="2546"/>
                </a:lnTo>
                <a:lnTo>
                  <a:pt x="1964" y="2452"/>
                </a:lnTo>
                <a:lnTo>
                  <a:pt x="2443" y="1974"/>
                </a:lnTo>
                <a:lnTo>
                  <a:pt x="2506" y="1981"/>
                </a:lnTo>
                <a:lnTo>
                  <a:pt x="2531" y="1984"/>
                </a:lnTo>
                <a:lnTo>
                  <a:pt x="2554" y="1985"/>
                </a:lnTo>
                <a:lnTo>
                  <a:pt x="2579" y="1984"/>
                </a:lnTo>
                <a:lnTo>
                  <a:pt x="2603" y="1981"/>
                </a:lnTo>
                <a:lnTo>
                  <a:pt x="2628" y="1978"/>
                </a:lnTo>
                <a:lnTo>
                  <a:pt x="2651" y="1973"/>
                </a:lnTo>
                <a:lnTo>
                  <a:pt x="2300" y="1621"/>
                </a:lnTo>
                <a:lnTo>
                  <a:pt x="2288" y="1611"/>
                </a:lnTo>
                <a:lnTo>
                  <a:pt x="2277" y="1601"/>
                </a:lnTo>
                <a:lnTo>
                  <a:pt x="2287" y="1564"/>
                </a:lnTo>
                <a:lnTo>
                  <a:pt x="2295" y="1528"/>
                </a:lnTo>
                <a:lnTo>
                  <a:pt x="2302" y="1490"/>
                </a:lnTo>
                <a:lnTo>
                  <a:pt x="2308" y="1454"/>
                </a:lnTo>
                <a:lnTo>
                  <a:pt x="2313" y="1416"/>
                </a:lnTo>
                <a:lnTo>
                  <a:pt x="2316" y="1379"/>
                </a:lnTo>
                <a:lnTo>
                  <a:pt x="2318" y="1340"/>
                </a:lnTo>
                <a:lnTo>
                  <a:pt x="2320" y="1303"/>
                </a:lnTo>
                <a:lnTo>
                  <a:pt x="2320" y="1265"/>
                </a:lnTo>
                <a:lnTo>
                  <a:pt x="2318" y="1227"/>
                </a:lnTo>
                <a:lnTo>
                  <a:pt x="2316" y="1190"/>
                </a:lnTo>
                <a:lnTo>
                  <a:pt x="2311" y="1152"/>
                </a:lnTo>
                <a:lnTo>
                  <a:pt x="2307" y="1115"/>
                </a:lnTo>
                <a:lnTo>
                  <a:pt x="2301" y="1077"/>
                </a:lnTo>
                <a:lnTo>
                  <a:pt x="2293" y="1041"/>
                </a:lnTo>
                <a:lnTo>
                  <a:pt x="2284" y="1004"/>
                </a:lnTo>
                <a:lnTo>
                  <a:pt x="2275" y="967"/>
                </a:lnTo>
                <a:lnTo>
                  <a:pt x="2263" y="931"/>
                </a:lnTo>
                <a:lnTo>
                  <a:pt x="2252" y="895"/>
                </a:lnTo>
                <a:lnTo>
                  <a:pt x="2238" y="859"/>
                </a:lnTo>
                <a:lnTo>
                  <a:pt x="2222" y="824"/>
                </a:lnTo>
                <a:lnTo>
                  <a:pt x="2207" y="789"/>
                </a:lnTo>
                <a:lnTo>
                  <a:pt x="2190" y="754"/>
                </a:lnTo>
                <a:lnTo>
                  <a:pt x="2171" y="720"/>
                </a:lnTo>
                <a:lnTo>
                  <a:pt x="2152" y="687"/>
                </a:lnTo>
                <a:lnTo>
                  <a:pt x="2131" y="654"/>
                </a:lnTo>
                <a:lnTo>
                  <a:pt x="2109" y="621"/>
                </a:lnTo>
                <a:lnTo>
                  <a:pt x="2085" y="590"/>
                </a:lnTo>
                <a:lnTo>
                  <a:pt x="2061" y="558"/>
                </a:lnTo>
                <a:lnTo>
                  <a:pt x="2035" y="528"/>
                </a:lnTo>
                <a:lnTo>
                  <a:pt x="2008" y="498"/>
                </a:lnTo>
                <a:lnTo>
                  <a:pt x="1980" y="469"/>
                </a:lnTo>
                <a:lnTo>
                  <a:pt x="1952" y="441"/>
                </a:lnTo>
                <a:lnTo>
                  <a:pt x="1922" y="414"/>
                </a:lnTo>
                <a:lnTo>
                  <a:pt x="1892" y="389"/>
                </a:lnTo>
                <a:lnTo>
                  <a:pt x="1860" y="365"/>
                </a:lnTo>
                <a:lnTo>
                  <a:pt x="1828" y="341"/>
                </a:lnTo>
                <a:lnTo>
                  <a:pt x="1797" y="319"/>
                </a:lnTo>
                <a:lnTo>
                  <a:pt x="1764" y="299"/>
                </a:lnTo>
                <a:lnTo>
                  <a:pt x="1731" y="279"/>
                </a:lnTo>
                <a:lnTo>
                  <a:pt x="1697" y="260"/>
                </a:lnTo>
                <a:lnTo>
                  <a:pt x="1663" y="244"/>
                </a:lnTo>
                <a:lnTo>
                  <a:pt x="1628" y="228"/>
                </a:lnTo>
                <a:lnTo>
                  <a:pt x="1593" y="212"/>
                </a:lnTo>
                <a:lnTo>
                  <a:pt x="1558" y="199"/>
                </a:lnTo>
                <a:lnTo>
                  <a:pt x="1523" y="187"/>
                </a:lnTo>
                <a:lnTo>
                  <a:pt x="1486" y="176"/>
                </a:lnTo>
                <a:lnTo>
                  <a:pt x="1450" y="165"/>
                </a:lnTo>
                <a:lnTo>
                  <a:pt x="1414" y="157"/>
                </a:lnTo>
                <a:lnTo>
                  <a:pt x="1376" y="150"/>
                </a:lnTo>
                <a:lnTo>
                  <a:pt x="1340" y="143"/>
                </a:lnTo>
                <a:lnTo>
                  <a:pt x="1302" y="139"/>
                </a:lnTo>
                <a:lnTo>
                  <a:pt x="1265" y="134"/>
                </a:lnTo>
                <a:lnTo>
                  <a:pt x="1228" y="131"/>
                </a:lnTo>
                <a:lnTo>
                  <a:pt x="1191" y="130"/>
                </a:lnTo>
                <a:lnTo>
                  <a:pt x="1153" y="129"/>
                </a:lnTo>
                <a:lnTo>
                  <a:pt x="1116" y="130"/>
                </a:lnTo>
                <a:lnTo>
                  <a:pt x="1078" y="133"/>
                </a:lnTo>
                <a:lnTo>
                  <a:pt x="1041" y="136"/>
                </a:lnTo>
                <a:lnTo>
                  <a:pt x="1003" y="140"/>
                </a:lnTo>
                <a:lnTo>
                  <a:pt x="967" y="146"/>
                </a:lnTo>
                <a:lnTo>
                  <a:pt x="929" y="153"/>
                </a:lnTo>
                <a:lnTo>
                  <a:pt x="893" y="161"/>
                </a:lnTo>
                <a:lnTo>
                  <a:pt x="857" y="170"/>
                </a:lnTo>
                <a:lnTo>
                  <a:pt x="1514" y="827"/>
                </a:lnTo>
                <a:lnTo>
                  <a:pt x="1341" y="1470"/>
                </a:lnTo>
                <a:lnTo>
                  <a:pt x="697" y="1642"/>
                </a:lnTo>
                <a:lnTo>
                  <a:pt x="41" y="986"/>
                </a:lnTo>
                <a:lnTo>
                  <a:pt x="31" y="1022"/>
                </a:lnTo>
                <a:lnTo>
                  <a:pt x="23" y="1059"/>
                </a:lnTo>
                <a:lnTo>
                  <a:pt x="16" y="1096"/>
                </a:lnTo>
                <a:lnTo>
                  <a:pt x="10" y="1133"/>
                </a:lnTo>
                <a:lnTo>
                  <a:pt x="7" y="1170"/>
                </a:lnTo>
                <a:lnTo>
                  <a:pt x="3" y="1208"/>
                </a:lnTo>
                <a:lnTo>
                  <a:pt x="1" y="1245"/>
                </a:lnTo>
                <a:lnTo>
                  <a:pt x="0" y="1283"/>
                </a:lnTo>
                <a:lnTo>
                  <a:pt x="1" y="1320"/>
                </a:lnTo>
                <a:lnTo>
                  <a:pt x="2" y="1358"/>
                </a:lnTo>
                <a:lnTo>
                  <a:pt x="4" y="1394"/>
                </a:lnTo>
                <a:lnTo>
                  <a:pt x="9" y="1431"/>
                </a:lnTo>
                <a:lnTo>
                  <a:pt x="14" y="1469"/>
                </a:lnTo>
                <a:lnTo>
                  <a:pt x="21" y="1505"/>
                </a:lnTo>
                <a:lnTo>
                  <a:pt x="28" y="1543"/>
                </a:lnTo>
                <a:lnTo>
                  <a:pt x="36" y="1579"/>
                </a:lnTo>
                <a:lnTo>
                  <a:pt x="47" y="1615"/>
                </a:lnTo>
                <a:lnTo>
                  <a:pt x="57" y="1652"/>
                </a:lnTo>
                <a:lnTo>
                  <a:pt x="70" y="1687"/>
                </a:lnTo>
                <a:lnTo>
                  <a:pt x="84" y="1722"/>
                </a:lnTo>
                <a:lnTo>
                  <a:pt x="98" y="1757"/>
                </a:lnTo>
                <a:lnTo>
                  <a:pt x="115" y="1793"/>
                </a:lnTo>
                <a:lnTo>
                  <a:pt x="131" y="1826"/>
                </a:lnTo>
                <a:lnTo>
                  <a:pt x="150" y="1860"/>
                </a:lnTo>
                <a:lnTo>
                  <a:pt x="170" y="1893"/>
                </a:lnTo>
                <a:lnTo>
                  <a:pt x="190" y="1926"/>
                </a:lnTo>
                <a:lnTo>
                  <a:pt x="212" y="1958"/>
                </a:lnTo>
                <a:lnTo>
                  <a:pt x="235" y="1989"/>
                </a:lnTo>
                <a:lnTo>
                  <a:pt x="260" y="2021"/>
                </a:lnTo>
                <a:lnTo>
                  <a:pt x="285" y="2052"/>
                </a:lnTo>
                <a:lnTo>
                  <a:pt x="312" y="2081"/>
                </a:lnTo>
                <a:lnTo>
                  <a:pt x="340" y="2109"/>
                </a:lnTo>
                <a:lnTo>
                  <a:pt x="370" y="2138"/>
                </a:lnTo>
                <a:lnTo>
                  <a:pt x="401" y="2166"/>
                </a:lnTo>
                <a:lnTo>
                  <a:pt x="434" y="2193"/>
                </a:lnTo>
                <a:lnTo>
                  <a:pt x="466" y="2219"/>
                </a:lnTo>
                <a:lnTo>
                  <a:pt x="499" y="2243"/>
                </a:lnTo>
                <a:lnTo>
                  <a:pt x="533" y="2266"/>
                </a:lnTo>
                <a:lnTo>
                  <a:pt x="567" y="2287"/>
                </a:lnTo>
                <a:lnTo>
                  <a:pt x="602" y="2307"/>
                </a:lnTo>
                <a:lnTo>
                  <a:pt x="639" y="2326"/>
                </a:lnTo>
                <a:lnTo>
                  <a:pt x="675" y="2343"/>
                </a:lnTo>
                <a:lnTo>
                  <a:pt x="711" y="2359"/>
                </a:lnTo>
                <a:lnTo>
                  <a:pt x="748" y="2374"/>
                </a:lnTo>
                <a:lnTo>
                  <a:pt x="785" y="2387"/>
                </a:lnTo>
                <a:lnTo>
                  <a:pt x="823" y="2400"/>
                </a:lnTo>
                <a:lnTo>
                  <a:pt x="861" y="2410"/>
                </a:lnTo>
                <a:lnTo>
                  <a:pt x="900" y="2420"/>
                </a:lnTo>
                <a:lnTo>
                  <a:pt x="939" y="2428"/>
                </a:lnTo>
                <a:lnTo>
                  <a:pt x="977" y="2435"/>
                </a:lnTo>
                <a:lnTo>
                  <a:pt x="1016" y="2441"/>
                </a:lnTo>
                <a:lnTo>
                  <a:pt x="1055" y="2444"/>
                </a:lnTo>
                <a:lnTo>
                  <a:pt x="1095" y="2448"/>
                </a:lnTo>
                <a:lnTo>
                  <a:pt x="1133" y="2449"/>
                </a:lnTo>
                <a:lnTo>
                  <a:pt x="1173" y="2449"/>
                </a:lnTo>
                <a:lnTo>
                  <a:pt x="1212" y="2448"/>
                </a:lnTo>
                <a:lnTo>
                  <a:pt x="1252" y="2445"/>
                </a:lnTo>
                <a:lnTo>
                  <a:pt x="1290" y="2442"/>
                </a:lnTo>
                <a:lnTo>
                  <a:pt x="1329" y="2437"/>
                </a:lnTo>
                <a:lnTo>
                  <a:pt x="1368" y="2430"/>
                </a:lnTo>
                <a:lnTo>
                  <a:pt x="1406" y="2422"/>
                </a:lnTo>
                <a:lnTo>
                  <a:pt x="1445" y="2414"/>
                </a:lnTo>
                <a:lnTo>
                  <a:pt x="1484" y="2403"/>
                </a:lnTo>
                <a:lnTo>
                  <a:pt x="1521" y="2392"/>
                </a:lnTo>
                <a:close/>
                <a:moveTo>
                  <a:pt x="3463" y="2785"/>
                </a:moveTo>
                <a:lnTo>
                  <a:pt x="3463" y="2785"/>
                </a:lnTo>
                <a:lnTo>
                  <a:pt x="3459" y="2803"/>
                </a:lnTo>
                <a:lnTo>
                  <a:pt x="3457" y="2821"/>
                </a:lnTo>
                <a:lnTo>
                  <a:pt x="3454" y="2838"/>
                </a:lnTo>
                <a:lnTo>
                  <a:pt x="3453" y="2857"/>
                </a:lnTo>
                <a:lnTo>
                  <a:pt x="3452" y="2876"/>
                </a:lnTo>
                <a:lnTo>
                  <a:pt x="3452" y="2893"/>
                </a:lnTo>
                <a:lnTo>
                  <a:pt x="3453" y="2912"/>
                </a:lnTo>
                <a:lnTo>
                  <a:pt x="3454" y="2931"/>
                </a:lnTo>
                <a:lnTo>
                  <a:pt x="3461" y="2994"/>
                </a:lnTo>
                <a:lnTo>
                  <a:pt x="3417" y="3039"/>
                </a:lnTo>
                <a:lnTo>
                  <a:pt x="3077" y="3379"/>
                </a:lnTo>
                <a:lnTo>
                  <a:pt x="2984" y="3472"/>
                </a:lnTo>
                <a:lnTo>
                  <a:pt x="2684" y="3172"/>
                </a:lnTo>
                <a:lnTo>
                  <a:pt x="2493" y="3363"/>
                </a:lnTo>
                <a:lnTo>
                  <a:pt x="4228" y="5098"/>
                </a:lnTo>
                <a:lnTo>
                  <a:pt x="4248" y="5117"/>
                </a:lnTo>
                <a:lnTo>
                  <a:pt x="4269" y="5136"/>
                </a:lnTo>
                <a:lnTo>
                  <a:pt x="4291" y="5152"/>
                </a:lnTo>
                <a:lnTo>
                  <a:pt x="4314" y="5168"/>
                </a:lnTo>
                <a:lnTo>
                  <a:pt x="4336" y="5183"/>
                </a:lnTo>
                <a:lnTo>
                  <a:pt x="4361" y="5195"/>
                </a:lnTo>
                <a:lnTo>
                  <a:pt x="4384" y="5207"/>
                </a:lnTo>
                <a:lnTo>
                  <a:pt x="4409" y="5218"/>
                </a:lnTo>
                <a:lnTo>
                  <a:pt x="4433" y="5227"/>
                </a:lnTo>
                <a:lnTo>
                  <a:pt x="4459" y="5235"/>
                </a:lnTo>
                <a:lnTo>
                  <a:pt x="4485" y="5242"/>
                </a:lnTo>
                <a:lnTo>
                  <a:pt x="4511" y="5248"/>
                </a:lnTo>
                <a:lnTo>
                  <a:pt x="4536" y="5253"/>
                </a:lnTo>
                <a:lnTo>
                  <a:pt x="4562" y="5255"/>
                </a:lnTo>
                <a:lnTo>
                  <a:pt x="4588" y="5258"/>
                </a:lnTo>
                <a:lnTo>
                  <a:pt x="4615" y="5259"/>
                </a:lnTo>
                <a:lnTo>
                  <a:pt x="4641" y="5258"/>
                </a:lnTo>
                <a:lnTo>
                  <a:pt x="4668" y="5255"/>
                </a:lnTo>
                <a:lnTo>
                  <a:pt x="4693" y="5253"/>
                </a:lnTo>
                <a:lnTo>
                  <a:pt x="4719" y="5248"/>
                </a:lnTo>
                <a:lnTo>
                  <a:pt x="4745" y="5242"/>
                </a:lnTo>
                <a:lnTo>
                  <a:pt x="4771" y="5235"/>
                </a:lnTo>
                <a:lnTo>
                  <a:pt x="4795" y="5227"/>
                </a:lnTo>
                <a:lnTo>
                  <a:pt x="4821" y="5218"/>
                </a:lnTo>
                <a:lnTo>
                  <a:pt x="4845" y="5207"/>
                </a:lnTo>
                <a:lnTo>
                  <a:pt x="4869" y="5195"/>
                </a:lnTo>
                <a:lnTo>
                  <a:pt x="4893" y="5183"/>
                </a:lnTo>
                <a:lnTo>
                  <a:pt x="4916" y="5168"/>
                </a:lnTo>
                <a:lnTo>
                  <a:pt x="4938" y="5152"/>
                </a:lnTo>
                <a:lnTo>
                  <a:pt x="4961" y="5136"/>
                </a:lnTo>
                <a:lnTo>
                  <a:pt x="4982" y="5117"/>
                </a:lnTo>
                <a:lnTo>
                  <a:pt x="5002" y="5098"/>
                </a:lnTo>
                <a:lnTo>
                  <a:pt x="5022" y="5077"/>
                </a:lnTo>
                <a:lnTo>
                  <a:pt x="5039" y="5056"/>
                </a:lnTo>
                <a:lnTo>
                  <a:pt x="5057" y="5035"/>
                </a:lnTo>
                <a:lnTo>
                  <a:pt x="5072" y="5013"/>
                </a:lnTo>
                <a:lnTo>
                  <a:pt x="5086" y="4989"/>
                </a:lnTo>
                <a:lnTo>
                  <a:pt x="5099" y="4966"/>
                </a:lnTo>
                <a:lnTo>
                  <a:pt x="5112" y="4941"/>
                </a:lnTo>
                <a:lnTo>
                  <a:pt x="5122" y="4916"/>
                </a:lnTo>
                <a:lnTo>
                  <a:pt x="5132" y="4892"/>
                </a:lnTo>
                <a:lnTo>
                  <a:pt x="5140" y="4867"/>
                </a:lnTo>
                <a:lnTo>
                  <a:pt x="5146" y="4841"/>
                </a:lnTo>
                <a:lnTo>
                  <a:pt x="5152" y="4816"/>
                </a:lnTo>
                <a:lnTo>
                  <a:pt x="5156" y="4790"/>
                </a:lnTo>
                <a:lnTo>
                  <a:pt x="5160" y="4763"/>
                </a:lnTo>
                <a:lnTo>
                  <a:pt x="5161" y="4737"/>
                </a:lnTo>
                <a:lnTo>
                  <a:pt x="5162" y="4711"/>
                </a:lnTo>
                <a:lnTo>
                  <a:pt x="5161" y="4684"/>
                </a:lnTo>
                <a:lnTo>
                  <a:pt x="5160" y="4659"/>
                </a:lnTo>
                <a:lnTo>
                  <a:pt x="5156" y="4632"/>
                </a:lnTo>
                <a:lnTo>
                  <a:pt x="5152" y="4606"/>
                </a:lnTo>
                <a:lnTo>
                  <a:pt x="5146" y="4580"/>
                </a:lnTo>
                <a:lnTo>
                  <a:pt x="5140" y="4555"/>
                </a:lnTo>
                <a:lnTo>
                  <a:pt x="5132" y="4530"/>
                </a:lnTo>
                <a:lnTo>
                  <a:pt x="5122" y="4505"/>
                </a:lnTo>
                <a:lnTo>
                  <a:pt x="5112" y="4480"/>
                </a:lnTo>
                <a:lnTo>
                  <a:pt x="5099" y="4456"/>
                </a:lnTo>
                <a:lnTo>
                  <a:pt x="5086" y="4432"/>
                </a:lnTo>
                <a:lnTo>
                  <a:pt x="5072" y="4410"/>
                </a:lnTo>
                <a:lnTo>
                  <a:pt x="5057" y="4387"/>
                </a:lnTo>
                <a:lnTo>
                  <a:pt x="5039" y="4366"/>
                </a:lnTo>
                <a:lnTo>
                  <a:pt x="5022" y="4344"/>
                </a:lnTo>
                <a:lnTo>
                  <a:pt x="5002" y="4323"/>
                </a:lnTo>
                <a:lnTo>
                  <a:pt x="3463" y="2785"/>
                </a:lnTo>
                <a:close/>
                <a:moveTo>
                  <a:pt x="4802" y="4918"/>
                </a:moveTo>
                <a:lnTo>
                  <a:pt x="4527" y="4991"/>
                </a:lnTo>
                <a:lnTo>
                  <a:pt x="4304" y="4769"/>
                </a:lnTo>
                <a:lnTo>
                  <a:pt x="4377" y="4493"/>
                </a:lnTo>
                <a:lnTo>
                  <a:pt x="4652" y="4419"/>
                </a:lnTo>
                <a:lnTo>
                  <a:pt x="4876" y="4643"/>
                </a:lnTo>
                <a:lnTo>
                  <a:pt x="4802" y="4918"/>
                </a:lnTo>
                <a:close/>
                <a:moveTo>
                  <a:pt x="2687" y="2988"/>
                </a:moveTo>
                <a:lnTo>
                  <a:pt x="2985" y="3287"/>
                </a:lnTo>
                <a:lnTo>
                  <a:pt x="3325" y="2947"/>
                </a:lnTo>
                <a:lnTo>
                  <a:pt x="3323" y="2917"/>
                </a:lnTo>
                <a:lnTo>
                  <a:pt x="3322" y="2885"/>
                </a:lnTo>
                <a:lnTo>
                  <a:pt x="3323" y="2853"/>
                </a:lnTo>
                <a:lnTo>
                  <a:pt x="3325" y="2823"/>
                </a:lnTo>
                <a:lnTo>
                  <a:pt x="3330" y="2791"/>
                </a:lnTo>
                <a:lnTo>
                  <a:pt x="3336" y="2761"/>
                </a:lnTo>
                <a:lnTo>
                  <a:pt x="3343" y="2730"/>
                </a:lnTo>
                <a:lnTo>
                  <a:pt x="3352" y="2700"/>
                </a:lnTo>
                <a:lnTo>
                  <a:pt x="3363" y="2670"/>
                </a:lnTo>
                <a:lnTo>
                  <a:pt x="3376" y="2641"/>
                </a:lnTo>
                <a:lnTo>
                  <a:pt x="3391" y="2613"/>
                </a:lnTo>
                <a:lnTo>
                  <a:pt x="3406" y="2585"/>
                </a:lnTo>
                <a:lnTo>
                  <a:pt x="3425" y="2558"/>
                </a:lnTo>
                <a:lnTo>
                  <a:pt x="3444" y="2532"/>
                </a:lnTo>
                <a:lnTo>
                  <a:pt x="3465" y="2506"/>
                </a:lnTo>
                <a:lnTo>
                  <a:pt x="3488" y="2482"/>
                </a:lnTo>
                <a:lnTo>
                  <a:pt x="3513" y="2459"/>
                </a:lnTo>
                <a:lnTo>
                  <a:pt x="3538" y="2438"/>
                </a:lnTo>
                <a:lnTo>
                  <a:pt x="3565" y="2418"/>
                </a:lnTo>
                <a:lnTo>
                  <a:pt x="3592" y="2401"/>
                </a:lnTo>
                <a:lnTo>
                  <a:pt x="3620" y="2384"/>
                </a:lnTo>
                <a:lnTo>
                  <a:pt x="3648" y="2370"/>
                </a:lnTo>
                <a:lnTo>
                  <a:pt x="3677" y="2358"/>
                </a:lnTo>
                <a:lnTo>
                  <a:pt x="3706" y="2346"/>
                </a:lnTo>
                <a:lnTo>
                  <a:pt x="3737" y="2338"/>
                </a:lnTo>
                <a:lnTo>
                  <a:pt x="3767" y="2329"/>
                </a:lnTo>
                <a:lnTo>
                  <a:pt x="3798" y="2324"/>
                </a:lnTo>
                <a:lnTo>
                  <a:pt x="3828" y="2319"/>
                </a:lnTo>
                <a:lnTo>
                  <a:pt x="3860" y="2316"/>
                </a:lnTo>
                <a:lnTo>
                  <a:pt x="3892" y="2316"/>
                </a:lnTo>
                <a:lnTo>
                  <a:pt x="3922" y="2316"/>
                </a:lnTo>
                <a:lnTo>
                  <a:pt x="3954" y="2320"/>
                </a:lnTo>
                <a:lnTo>
                  <a:pt x="5440" y="834"/>
                </a:lnTo>
                <a:lnTo>
                  <a:pt x="4608" y="0"/>
                </a:lnTo>
                <a:lnTo>
                  <a:pt x="3121" y="1487"/>
                </a:lnTo>
                <a:lnTo>
                  <a:pt x="3124" y="1518"/>
                </a:lnTo>
                <a:lnTo>
                  <a:pt x="3125" y="1550"/>
                </a:lnTo>
                <a:lnTo>
                  <a:pt x="3124" y="1580"/>
                </a:lnTo>
                <a:lnTo>
                  <a:pt x="3121" y="1612"/>
                </a:lnTo>
                <a:lnTo>
                  <a:pt x="3117" y="1642"/>
                </a:lnTo>
                <a:lnTo>
                  <a:pt x="3111" y="1674"/>
                </a:lnTo>
                <a:lnTo>
                  <a:pt x="3104" y="1705"/>
                </a:lnTo>
                <a:lnTo>
                  <a:pt x="3094" y="1734"/>
                </a:lnTo>
                <a:lnTo>
                  <a:pt x="3083" y="1764"/>
                </a:lnTo>
                <a:lnTo>
                  <a:pt x="3071" y="1793"/>
                </a:lnTo>
                <a:lnTo>
                  <a:pt x="3056" y="1822"/>
                </a:lnTo>
                <a:lnTo>
                  <a:pt x="3041" y="1849"/>
                </a:lnTo>
                <a:lnTo>
                  <a:pt x="3022" y="1877"/>
                </a:lnTo>
                <a:lnTo>
                  <a:pt x="3003" y="1903"/>
                </a:lnTo>
                <a:lnTo>
                  <a:pt x="2981" y="1928"/>
                </a:lnTo>
                <a:lnTo>
                  <a:pt x="2959" y="1952"/>
                </a:lnTo>
                <a:lnTo>
                  <a:pt x="2934" y="1975"/>
                </a:lnTo>
                <a:lnTo>
                  <a:pt x="2909" y="1996"/>
                </a:lnTo>
                <a:lnTo>
                  <a:pt x="2882" y="2016"/>
                </a:lnTo>
                <a:lnTo>
                  <a:pt x="2855" y="2034"/>
                </a:lnTo>
                <a:lnTo>
                  <a:pt x="2827" y="2050"/>
                </a:lnTo>
                <a:lnTo>
                  <a:pt x="2799" y="2064"/>
                </a:lnTo>
                <a:lnTo>
                  <a:pt x="2770" y="2077"/>
                </a:lnTo>
                <a:lnTo>
                  <a:pt x="2740" y="2088"/>
                </a:lnTo>
                <a:lnTo>
                  <a:pt x="2710" y="2097"/>
                </a:lnTo>
                <a:lnTo>
                  <a:pt x="2680" y="2105"/>
                </a:lnTo>
                <a:lnTo>
                  <a:pt x="2649" y="2111"/>
                </a:lnTo>
                <a:lnTo>
                  <a:pt x="2617" y="2115"/>
                </a:lnTo>
                <a:lnTo>
                  <a:pt x="2587" y="2117"/>
                </a:lnTo>
                <a:lnTo>
                  <a:pt x="2555" y="2118"/>
                </a:lnTo>
                <a:lnTo>
                  <a:pt x="2525" y="2117"/>
                </a:lnTo>
                <a:lnTo>
                  <a:pt x="2493" y="2115"/>
                </a:lnTo>
                <a:lnTo>
                  <a:pt x="2153" y="2455"/>
                </a:lnTo>
                <a:lnTo>
                  <a:pt x="2453" y="2755"/>
                </a:lnTo>
                <a:lnTo>
                  <a:pt x="984" y="4223"/>
                </a:lnTo>
                <a:lnTo>
                  <a:pt x="931" y="4170"/>
                </a:lnTo>
                <a:lnTo>
                  <a:pt x="648" y="4396"/>
                </a:lnTo>
                <a:lnTo>
                  <a:pt x="174" y="5145"/>
                </a:lnTo>
                <a:lnTo>
                  <a:pt x="295" y="5267"/>
                </a:lnTo>
                <a:lnTo>
                  <a:pt x="1044" y="4792"/>
                </a:lnTo>
                <a:lnTo>
                  <a:pt x="1272" y="4510"/>
                </a:lnTo>
                <a:lnTo>
                  <a:pt x="1218" y="4457"/>
                </a:lnTo>
                <a:lnTo>
                  <a:pt x="2687" y="2988"/>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KSO_Shape"/>
          <p:cNvSpPr/>
          <p:nvPr/>
        </p:nvSpPr>
        <p:spPr>
          <a:xfrm>
            <a:off x="7448400" y="1479600"/>
            <a:ext cx="322560" cy="382680"/>
          </a:xfrm>
          <a:custGeom>
            <a:avLst/>
            <a:gdLst/>
            <a:ahLst/>
            <a:rect l="l" t="t" r="r" b="b"/>
            <a:pathLst>
              <a:path w="1282700" h="1516063">
                <a:moveTo>
                  <a:pt x="583935" y="525463"/>
                </a:moveTo>
                <a:lnTo>
                  <a:pt x="700617" y="525463"/>
                </a:lnTo>
                <a:lnTo>
                  <a:pt x="700617" y="774462"/>
                </a:lnTo>
                <a:lnTo>
                  <a:pt x="706967" y="778423"/>
                </a:lnTo>
                <a:lnTo>
                  <a:pt x="712788" y="782648"/>
                </a:lnTo>
                <a:lnTo>
                  <a:pt x="718873" y="787401"/>
                </a:lnTo>
                <a:lnTo>
                  <a:pt x="724429" y="792682"/>
                </a:lnTo>
                <a:lnTo>
                  <a:pt x="729456" y="797963"/>
                </a:lnTo>
                <a:lnTo>
                  <a:pt x="734484" y="803508"/>
                </a:lnTo>
                <a:lnTo>
                  <a:pt x="738717" y="809845"/>
                </a:lnTo>
                <a:lnTo>
                  <a:pt x="742686" y="815918"/>
                </a:lnTo>
                <a:lnTo>
                  <a:pt x="746390" y="822519"/>
                </a:lnTo>
                <a:lnTo>
                  <a:pt x="749565" y="829649"/>
                </a:lnTo>
                <a:lnTo>
                  <a:pt x="752475" y="836514"/>
                </a:lnTo>
                <a:lnTo>
                  <a:pt x="754592" y="843643"/>
                </a:lnTo>
                <a:lnTo>
                  <a:pt x="756444" y="851301"/>
                </a:lnTo>
                <a:lnTo>
                  <a:pt x="757767" y="858958"/>
                </a:lnTo>
                <a:lnTo>
                  <a:pt x="758561" y="866880"/>
                </a:lnTo>
                <a:lnTo>
                  <a:pt x="758825" y="874801"/>
                </a:lnTo>
                <a:lnTo>
                  <a:pt x="758561" y="882987"/>
                </a:lnTo>
                <a:lnTo>
                  <a:pt x="757767" y="890644"/>
                </a:lnTo>
                <a:lnTo>
                  <a:pt x="756444" y="898038"/>
                </a:lnTo>
                <a:lnTo>
                  <a:pt x="754592" y="905695"/>
                </a:lnTo>
                <a:lnTo>
                  <a:pt x="752475" y="912824"/>
                </a:lnTo>
                <a:lnTo>
                  <a:pt x="749565" y="920218"/>
                </a:lnTo>
                <a:lnTo>
                  <a:pt x="746390" y="926819"/>
                </a:lnTo>
                <a:lnTo>
                  <a:pt x="742686" y="933420"/>
                </a:lnTo>
                <a:lnTo>
                  <a:pt x="738717" y="939757"/>
                </a:lnTo>
                <a:lnTo>
                  <a:pt x="734484" y="945831"/>
                </a:lnTo>
                <a:lnTo>
                  <a:pt x="729456" y="951376"/>
                </a:lnTo>
                <a:lnTo>
                  <a:pt x="724429" y="956921"/>
                </a:lnTo>
                <a:lnTo>
                  <a:pt x="718873" y="961938"/>
                </a:lnTo>
                <a:lnTo>
                  <a:pt x="712788" y="966691"/>
                </a:lnTo>
                <a:lnTo>
                  <a:pt x="706967" y="970915"/>
                </a:lnTo>
                <a:lnTo>
                  <a:pt x="700617" y="975140"/>
                </a:lnTo>
                <a:lnTo>
                  <a:pt x="700617" y="1049338"/>
                </a:lnTo>
                <a:lnTo>
                  <a:pt x="583935" y="1049338"/>
                </a:lnTo>
                <a:lnTo>
                  <a:pt x="583935" y="975140"/>
                </a:lnTo>
                <a:lnTo>
                  <a:pt x="577585" y="970915"/>
                </a:lnTo>
                <a:lnTo>
                  <a:pt x="571500" y="966691"/>
                </a:lnTo>
                <a:lnTo>
                  <a:pt x="565679" y="961938"/>
                </a:lnTo>
                <a:lnTo>
                  <a:pt x="560123" y="956921"/>
                </a:lnTo>
                <a:lnTo>
                  <a:pt x="555096" y="951376"/>
                </a:lnTo>
                <a:lnTo>
                  <a:pt x="550333" y="945831"/>
                </a:lnTo>
                <a:lnTo>
                  <a:pt x="545835" y="939757"/>
                </a:lnTo>
                <a:lnTo>
                  <a:pt x="541602" y="933420"/>
                </a:lnTo>
                <a:lnTo>
                  <a:pt x="538162" y="926819"/>
                </a:lnTo>
                <a:lnTo>
                  <a:pt x="534987" y="920218"/>
                </a:lnTo>
                <a:lnTo>
                  <a:pt x="532077" y="912824"/>
                </a:lnTo>
                <a:lnTo>
                  <a:pt x="529960" y="905695"/>
                </a:lnTo>
                <a:lnTo>
                  <a:pt x="528108" y="898038"/>
                </a:lnTo>
                <a:lnTo>
                  <a:pt x="526785" y="890644"/>
                </a:lnTo>
                <a:lnTo>
                  <a:pt x="525727" y="882987"/>
                </a:lnTo>
                <a:lnTo>
                  <a:pt x="525462" y="874801"/>
                </a:lnTo>
                <a:lnTo>
                  <a:pt x="525727" y="866880"/>
                </a:lnTo>
                <a:lnTo>
                  <a:pt x="526785" y="858958"/>
                </a:lnTo>
                <a:lnTo>
                  <a:pt x="528108" y="851301"/>
                </a:lnTo>
                <a:lnTo>
                  <a:pt x="529960" y="843643"/>
                </a:lnTo>
                <a:lnTo>
                  <a:pt x="532077" y="836514"/>
                </a:lnTo>
                <a:lnTo>
                  <a:pt x="534987" y="829649"/>
                </a:lnTo>
                <a:lnTo>
                  <a:pt x="538162" y="822519"/>
                </a:lnTo>
                <a:lnTo>
                  <a:pt x="541602" y="815918"/>
                </a:lnTo>
                <a:lnTo>
                  <a:pt x="545835" y="809845"/>
                </a:lnTo>
                <a:lnTo>
                  <a:pt x="550333" y="803508"/>
                </a:lnTo>
                <a:lnTo>
                  <a:pt x="555096" y="797963"/>
                </a:lnTo>
                <a:lnTo>
                  <a:pt x="560123" y="792682"/>
                </a:lnTo>
                <a:lnTo>
                  <a:pt x="565679" y="787401"/>
                </a:lnTo>
                <a:lnTo>
                  <a:pt x="571500" y="782648"/>
                </a:lnTo>
                <a:lnTo>
                  <a:pt x="577585" y="778423"/>
                </a:lnTo>
                <a:lnTo>
                  <a:pt x="583935" y="774462"/>
                </a:lnTo>
                <a:lnTo>
                  <a:pt x="583935" y="525463"/>
                </a:lnTo>
                <a:close/>
                <a:moveTo>
                  <a:pt x="641615" y="349983"/>
                </a:moveTo>
                <a:lnTo>
                  <a:pt x="627862" y="350247"/>
                </a:lnTo>
                <a:lnTo>
                  <a:pt x="614374" y="350512"/>
                </a:lnTo>
                <a:lnTo>
                  <a:pt x="601150" y="351570"/>
                </a:lnTo>
                <a:lnTo>
                  <a:pt x="587926" y="352628"/>
                </a:lnTo>
                <a:lnTo>
                  <a:pt x="574703" y="354216"/>
                </a:lnTo>
                <a:lnTo>
                  <a:pt x="561479" y="356067"/>
                </a:lnTo>
                <a:lnTo>
                  <a:pt x="548784" y="358184"/>
                </a:lnTo>
                <a:lnTo>
                  <a:pt x="535825" y="360829"/>
                </a:lnTo>
                <a:lnTo>
                  <a:pt x="522866" y="363474"/>
                </a:lnTo>
                <a:lnTo>
                  <a:pt x="510435" y="366649"/>
                </a:lnTo>
                <a:lnTo>
                  <a:pt x="498005" y="369823"/>
                </a:lnTo>
                <a:lnTo>
                  <a:pt x="485575" y="373527"/>
                </a:lnTo>
                <a:lnTo>
                  <a:pt x="473409" y="377759"/>
                </a:lnTo>
                <a:lnTo>
                  <a:pt x="461243" y="381992"/>
                </a:lnTo>
                <a:lnTo>
                  <a:pt x="449077" y="386489"/>
                </a:lnTo>
                <a:lnTo>
                  <a:pt x="437441" y="391251"/>
                </a:lnTo>
                <a:lnTo>
                  <a:pt x="425539" y="396541"/>
                </a:lnTo>
                <a:lnTo>
                  <a:pt x="414167" y="401832"/>
                </a:lnTo>
                <a:lnTo>
                  <a:pt x="402794" y="407388"/>
                </a:lnTo>
                <a:lnTo>
                  <a:pt x="391422" y="413207"/>
                </a:lnTo>
                <a:lnTo>
                  <a:pt x="380579" y="419556"/>
                </a:lnTo>
                <a:lnTo>
                  <a:pt x="369471" y="425905"/>
                </a:lnTo>
                <a:lnTo>
                  <a:pt x="358892" y="432519"/>
                </a:lnTo>
                <a:lnTo>
                  <a:pt x="348313" y="439661"/>
                </a:lnTo>
                <a:lnTo>
                  <a:pt x="337998" y="446804"/>
                </a:lnTo>
                <a:lnTo>
                  <a:pt x="327684" y="454475"/>
                </a:lnTo>
                <a:lnTo>
                  <a:pt x="317634" y="462147"/>
                </a:lnTo>
                <a:lnTo>
                  <a:pt x="307848" y="469818"/>
                </a:lnTo>
                <a:lnTo>
                  <a:pt x="298063" y="478019"/>
                </a:lnTo>
                <a:lnTo>
                  <a:pt x="288806" y="486484"/>
                </a:lnTo>
                <a:lnTo>
                  <a:pt x="279549" y="495214"/>
                </a:lnTo>
                <a:lnTo>
                  <a:pt x="270557" y="503679"/>
                </a:lnTo>
                <a:lnTo>
                  <a:pt x="261565" y="512938"/>
                </a:lnTo>
                <a:lnTo>
                  <a:pt x="253102" y="521932"/>
                </a:lnTo>
                <a:lnTo>
                  <a:pt x="244903" y="531455"/>
                </a:lnTo>
                <a:lnTo>
                  <a:pt x="236705" y="540979"/>
                </a:lnTo>
                <a:lnTo>
                  <a:pt x="228770" y="551031"/>
                </a:lnTo>
                <a:lnTo>
                  <a:pt x="221101" y="560819"/>
                </a:lnTo>
                <a:lnTo>
                  <a:pt x="213695" y="571136"/>
                </a:lnTo>
                <a:lnTo>
                  <a:pt x="206290" y="581453"/>
                </a:lnTo>
                <a:lnTo>
                  <a:pt x="199414" y="592035"/>
                </a:lnTo>
                <a:lnTo>
                  <a:pt x="192802" y="602881"/>
                </a:lnTo>
                <a:lnTo>
                  <a:pt x="186190" y="613727"/>
                </a:lnTo>
                <a:lnTo>
                  <a:pt x="180107" y="624837"/>
                </a:lnTo>
                <a:lnTo>
                  <a:pt x="174289" y="635948"/>
                </a:lnTo>
                <a:lnTo>
                  <a:pt x="168470" y="647587"/>
                </a:lnTo>
                <a:lnTo>
                  <a:pt x="163181" y="659227"/>
                </a:lnTo>
                <a:lnTo>
                  <a:pt x="158156" y="670602"/>
                </a:lnTo>
                <a:lnTo>
                  <a:pt x="153395" y="682506"/>
                </a:lnTo>
                <a:lnTo>
                  <a:pt x="148635" y="694410"/>
                </a:lnTo>
                <a:lnTo>
                  <a:pt x="144403" y="706579"/>
                </a:lnTo>
                <a:lnTo>
                  <a:pt x="140436" y="719012"/>
                </a:lnTo>
                <a:lnTo>
                  <a:pt x="136733" y="731181"/>
                </a:lnTo>
                <a:lnTo>
                  <a:pt x="133295" y="743614"/>
                </a:lnTo>
                <a:lnTo>
                  <a:pt x="130122" y="756577"/>
                </a:lnTo>
                <a:lnTo>
                  <a:pt x="127477" y="769010"/>
                </a:lnTo>
                <a:lnTo>
                  <a:pt x="124832" y="781972"/>
                </a:lnTo>
                <a:lnTo>
                  <a:pt x="122716" y="794935"/>
                </a:lnTo>
                <a:lnTo>
                  <a:pt x="121129" y="808161"/>
                </a:lnTo>
                <a:lnTo>
                  <a:pt x="119543" y="821124"/>
                </a:lnTo>
                <a:lnTo>
                  <a:pt x="118485" y="834351"/>
                </a:lnTo>
                <a:lnTo>
                  <a:pt x="117427" y="847842"/>
                </a:lnTo>
                <a:lnTo>
                  <a:pt x="116898" y="861069"/>
                </a:lnTo>
                <a:lnTo>
                  <a:pt x="116898" y="874825"/>
                </a:lnTo>
                <a:lnTo>
                  <a:pt x="116898" y="888316"/>
                </a:lnTo>
                <a:lnTo>
                  <a:pt x="117427" y="901808"/>
                </a:lnTo>
                <a:lnTo>
                  <a:pt x="118485" y="915035"/>
                </a:lnTo>
                <a:lnTo>
                  <a:pt x="119543" y="928261"/>
                </a:lnTo>
                <a:lnTo>
                  <a:pt x="121129" y="941488"/>
                </a:lnTo>
                <a:lnTo>
                  <a:pt x="122716" y="954451"/>
                </a:lnTo>
                <a:lnTo>
                  <a:pt x="124832" y="967413"/>
                </a:lnTo>
                <a:lnTo>
                  <a:pt x="127477" y="980375"/>
                </a:lnTo>
                <a:lnTo>
                  <a:pt x="130122" y="993073"/>
                </a:lnTo>
                <a:lnTo>
                  <a:pt x="133295" y="1005771"/>
                </a:lnTo>
                <a:lnTo>
                  <a:pt x="136733" y="1018469"/>
                </a:lnTo>
                <a:lnTo>
                  <a:pt x="140436" y="1030637"/>
                </a:lnTo>
                <a:lnTo>
                  <a:pt x="144403" y="1042806"/>
                </a:lnTo>
                <a:lnTo>
                  <a:pt x="148635" y="1054975"/>
                </a:lnTo>
                <a:lnTo>
                  <a:pt x="153395" y="1066879"/>
                </a:lnTo>
                <a:lnTo>
                  <a:pt x="158156" y="1078783"/>
                </a:lnTo>
                <a:lnTo>
                  <a:pt x="163181" y="1090687"/>
                </a:lnTo>
                <a:lnTo>
                  <a:pt x="168470" y="1102062"/>
                </a:lnTo>
                <a:lnTo>
                  <a:pt x="174289" y="1113437"/>
                </a:lnTo>
                <a:lnTo>
                  <a:pt x="180107" y="1124813"/>
                </a:lnTo>
                <a:lnTo>
                  <a:pt x="186190" y="1135659"/>
                </a:lnTo>
                <a:lnTo>
                  <a:pt x="192802" y="1146769"/>
                </a:lnTo>
                <a:lnTo>
                  <a:pt x="199414" y="1157351"/>
                </a:lnTo>
                <a:lnTo>
                  <a:pt x="206290" y="1167932"/>
                </a:lnTo>
                <a:lnTo>
                  <a:pt x="213695" y="1178249"/>
                </a:lnTo>
                <a:lnTo>
                  <a:pt x="221101" y="1188566"/>
                </a:lnTo>
                <a:lnTo>
                  <a:pt x="228770" y="1198354"/>
                </a:lnTo>
                <a:lnTo>
                  <a:pt x="236705" y="1208406"/>
                </a:lnTo>
                <a:lnTo>
                  <a:pt x="244903" y="1217930"/>
                </a:lnTo>
                <a:lnTo>
                  <a:pt x="253102" y="1227453"/>
                </a:lnTo>
                <a:lnTo>
                  <a:pt x="261565" y="1236447"/>
                </a:lnTo>
                <a:lnTo>
                  <a:pt x="270557" y="1245706"/>
                </a:lnTo>
                <a:lnTo>
                  <a:pt x="279549" y="1254436"/>
                </a:lnTo>
                <a:lnTo>
                  <a:pt x="288806" y="1263166"/>
                </a:lnTo>
                <a:lnTo>
                  <a:pt x="298063" y="1271366"/>
                </a:lnTo>
                <a:lnTo>
                  <a:pt x="307848" y="1279567"/>
                </a:lnTo>
                <a:lnTo>
                  <a:pt x="317634" y="1287503"/>
                </a:lnTo>
                <a:lnTo>
                  <a:pt x="327684" y="1295175"/>
                </a:lnTo>
                <a:lnTo>
                  <a:pt x="337998" y="1302582"/>
                </a:lnTo>
                <a:lnTo>
                  <a:pt x="348313" y="1309724"/>
                </a:lnTo>
                <a:lnTo>
                  <a:pt x="358892" y="1316867"/>
                </a:lnTo>
                <a:lnTo>
                  <a:pt x="369471" y="1323480"/>
                </a:lnTo>
                <a:lnTo>
                  <a:pt x="380579" y="1329829"/>
                </a:lnTo>
                <a:lnTo>
                  <a:pt x="391422" y="1336178"/>
                </a:lnTo>
                <a:lnTo>
                  <a:pt x="402794" y="1341998"/>
                </a:lnTo>
                <a:lnTo>
                  <a:pt x="414167" y="1347553"/>
                </a:lnTo>
                <a:lnTo>
                  <a:pt x="425539" y="1353108"/>
                </a:lnTo>
                <a:lnTo>
                  <a:pt x="437441" y="1358399"/>
                </a:lnTo>
                <a:lnTo>
                  <a:pt x="449077" y="1363161"/>
                </a:lnTo>
                <a:lnTo>
                  <a:pt x="461243" y="1367922"/>
                </a:lnTo>
                <a:lnTo>
                  <a:pt x="473409" y="1372155"/>
                </a:lnTo>
                <a:lnTo>
                  <a:pt x="485575" y="1375858"/>
                </a:lnTo>
                <a:lnTo>
                  <a:pt x="498005" y="1379562"/>
                </a:lnTo>
                <a:lnTo>
                  <a:pt x="510435" y="1383001"/>
                </a:lnTo>
                <a:lnTo>
                  <a:pt x="522866" y="1385911"/>
                </a:lnTo>
                <a:lnTo>
                  <a:pt x="535825" y="1389085"/>
                </a:lnTo>
                <a:lnTo>
                  <a:pt x="548784" y="1391466"/>
                </a:lnTo>
                <a:lnTo>
                  <a:pt x="561479" y="1393582"/>
                </a:lnTo>
                <a:lnTo>
                  <a:pt x="574703" y="1395434"/>
                </a:lnTo>
                <a:lnTo>
                  <a:pt x="587926" y="1396757"/>
                </a:lnTo>
                <a:lnTo>
                  <a:pt x="601150" y="1398080"/>
                </a:lnTo>
                <a:lnTo>
                  <a:pt x="614374" y="1398873"/>
                </a:lnTo>
                <a:lnTo>
                  <a:pt x="627862" y="1399402"/>
                </a:lnTo>
                <a:lnTo>
                  <a:pt x="641615" y="1399402"/>
                </a:lnTo>
                <a:lnTo>
                  <a:pt x="654838" y="1399402"/>
                </a:lnTo>
                <a:lnTo>
                  <a:pt x="668327" y="1398873"/>
                </a:lnTo>
                <a:lnTo>
                  <a:pt x="681815" y="1398080"/>
                </a:lnTo>
                <a:lnTo>
                  <a:pt x="695038" y="1396757"/>
                </a:lnTo>
                <a:lnTo>
                  <a:pt x="707998" y="1395434"/>
                </a:lnTo>
                <a:lnTo>
                  <a:pt x="721221" y="1393582"/>
                </a:lnTo>
                <a:lnTo>
                  <a:pt x="734181" y="1391466"/>
                </a:lnTo>
                <a:lnTo>
                  <a:pt x="746875" y="1389085"/>
                </a:lnTo>
                <a:lnTo>
                  <a:pt x="759835" y="1385911"/>
                </a:lnTo>
                <a:lnTo>
                  <a:pt x="772529" y="1383001"/>
                </a:lnTo>
                <a:lnTo>
                  <a:pt x="784695" y="1379562"/>
                </a:lnTo>
                <a:lnTo>
                  <a:pt x="797390" y="1375858"/>
                </a:lnTo>
                <a:lnTo>
                  <a:pt x="809556" y="1372155"/>
                </a:lnTo>
                <a:lnTo>
                  <a:pt x="821457" y="1367922"/>
                </a:lnTo>
                <a:lnTo>
                  <a:pt x="833623" y="1363161"/>
                </a:lnTo>
                <a:lnTo>
                  <a:pt x="845524" y="1358399"/>
                </a:lnTo>
                <a:lnTo>
                  <a:pt x="857161" y="1353108"/>
                </a:lnTo>
                <a:lnTo>
                  <a:pt x="868798" y="1347553"/>
                </a:lnTo>
                <a:lnTo>
                  <a:pt x="879906" y="1341998"/>
                </a:lnTo>
                <a:lnTo>
                  <a:pt x="891278" y="1336178"/>
                </a:lnTo>
                <a:lnTo>
                  <a:pt x="902386" y="1329829"/>
                </a:lnTo>
                <a:lnTo>
                  <a:pt x="913230" y="1323480"/>
                </a:lnTo>
                <a:lnTo>
                  <a:pt x="924073" y="1316867"/>
                </a:lnTo>
                <a:lnTo>
                  <a:pt x="934387" y="1309724"/>
                </a:lnTo>
                <a:lnTo>
                  <a:pt x="944966" y="1302582"/>
                </a:lnTo>
                <a:lnTo>
                  <a:pt x="955016" y="1295175"/>
                </a:lnTo>
                <a:lnTo>
                  <a:pt x="965066" y="1287503"/>
                </a:lnTo>
                <a:lnTo>
                  <a:pt x="974852" y="1279567"/>
                </a:lnTo>
                <a:lnTo>
                  <a:pt x="984638" y="1271366"/>
                </a:lnTo>
                <a:lnTo>
                  <a:pt x="993894" y="1263166"/>
                </a:lnTo>
                <a:lnTo>
                  <a:pt x="1003151" y="1254436"/>
                </a:lnTo>
                <a:lnTo>
                  <a:pt x="1012143" y="1245706"/>
                </a:lnTo>
                <a:lnTo>
                  <a:pt x="1021135" y="1236447"/>
                </a:lnTo>
                <a:lnTo>
                  <a:pt x="1029598" y="1227453"/>
                </a:lnTo>
                <a:lnTo>
                  <a:pt x="1038061" y="1217930"/>
                </a:lnTo>
                <a:lnTo>
                  <a:pt x="1045996" y="1208406"/>
                </a:lnTo>
                <a:lnTo>
                  <a:pt x="1054194" y="1198354"/>
                </a:lnTo>
                <a:lnTo>
                  <a:pt x="1061599" y="1188566"/>
                </a:lnTo>
                <a:lnTo>
                  <a:pt x="1069005" y="1178249"/>
                </a:lnTo>
                <a:lnTo>
                  <a:pt x="1076410" y="1167932"/>
                </a:lnTo>
                <a:lnTo>
                  <a:pt x="1083286" y="1157351"/>
                </a:lnTo>
                <a:lnTo>
                  <a:pt x="1090163" y="1146769"/>
                </a:lnTo>
                <a:lnTo>
                  <a:pt x="1096510" y="1135659"/>
                </a:lnTo>
                <a:lnTo>
                  <a:pt x="1102593" y="1124813"/>
                </a:lnTo>
                <a:lnTo>
                  <a:pt x="1108676" y="1113437"/>
                </a:lnTo>
                <a:lnTo>
                  <a:pt x="1114230" y="1102062"/>
                </a:lnTo>
                <a:lnTo>
                  <a:pt x="1119519" y="1090687"/>
                </a:lnTo>
                <a:lnTo>
                  <a:pt x="1124544" y="1078783"/>
                </a:lnTo>
                <a:lnTo>
                  <a:pt x="1129834" y="1066879"/>
                </a:lnTo>
                <a:lnTo>
                  <a:pt x="1134330" y="1054975"/>
                </a:lnTo>
                <a:lnTo>
                  <a:pt x="1138297" y="1042806"/>
                </a:lnTo>
                <a:lnTo>
                  <a:pt x="1142264" y="1030637"/>
                </a:lnTo>
                <a:lnTo>
                  <a:pt x="1146231" y="1018469"/>
                </a:lnTo>
                <a:lnTo>
                  <a:pt x="1149669" y="1005771"/>
                </a:lnTo>
                <a:lnTo>
                  <a:pt x="1152579" y="993073"/>
                </a:lnTo>
                <a:lnTo>
                  <a:pt x="1155488" y="980375"/>
                </a:lnTo>
                <a:lnTo>
                  <a:pt x="1157868" y="967413"/>
                </a:lnTo>
                <a:lnTo>
                  <a:pt x="1159984" y="954451"/>
                </a:lnTo>
                <a:lnTo>
                  <a:pt x="1161835" y="941488"/>
                </a:lnTo>
                <a:lnTo>
                  <a:pt x="1163158" y="928261"/>
                </a:lnTo>
                <a:lnTo>
                  <a:pt x="1164745" y="915035"/>
                </a:lnTo>
                <a:lnTo>
                  <a:pt x="1165538" y="901808"/>
                </a:lnTo>
                <a:lnTo>
                  <a:pt x="1166067" y="888316"/>
                </a:lnTo>
                <a:lnTo>
                  <a:pt x="1166067" y="874825"/>
                </a:lnTo>
                <a:lnTo>
                  <a:pt x="1166067" y="861069"/>
                </a:lnTo>
                <a:lnTo>
                  <a:pt x="1165538" y="847842"/>
                </a:lnTo>
                <a:lnTo>
                  <a:pt x="1164745" y="834351"/>
                </a:lnTo>
                <a:lnTo>
                  <a:pt x="1163158" y="821124"/>
                </a:lnTo>
                <a:lnTo>
                  <a:pt x="1161835" y="808161"/>
                </a:lnTo>
                <a:lnTo>
                  <a:pt x="1159984" y="794935"/>
                </a:lnTo>
                <a:lnTo>
                  <a:pt x="1157868" y="781972"/>
                </a:lnTo>
                <a:lnTo>
                  <a:pt x="1155488" y="769010"/>
                </a:lnTo>
                <a:lnTo>
                  <a:pt x="1152579" y="756577"/>
                </a:lnTo>
                <a:lnTo>
                  <a:pt x="1149669" y="743614"/>
                </a:lnTo>
                <a:lnTo>
                  <a:pt x="1146231" y="731181"/>
                </a:lnTo>
                <a:lnTo>
                  <a:pt x="1142264" y="719012"/>
                </a:lnTo>
                <a:lnTo>
                  <a:pt x="1138297" y="706579"/>
                </a:lnTo>
                <a:lnTo>
                  <a:pt x="1134330" y="694410"/>
                </a:lnTo>
                <a:lnTo>
                  <a:pt x="1129834" y="682506"/>
                </a:lnTo>
                <a:lnTo>
                  <a:pt x="1124544" y="670602"/>
                </a:lnTo>
                <a:lnTo>
                  <a:pt x="1119519" y="659227"/>
                </a:lnTo>
                <a:lnTo>
                  <a:pt x="1114230" y="647587"/>
                </a:lnTo>
                <a:lnTo>
                  <a:pt x="1108676" y="635948"/>
                </a:lnTo>
                <a:lnTo>
                  <a:pt x="1102593" y="624837"/>
                </a:lnTo>
                <a:lnTo>
                  <a:pt x="1096510" y="613727"/>
                </a:lnTo>
                <a:lnTo>
                  <a:pt x="1090163" y="602881"/>
                </a:lnTo>
                <a:lnTo>
                  <a:pt x="1083286" y="592035"/>
                </a:lnTo>
                <a:lnTo>
                  <a:pt x="1076410" y="581453"/>
                </a:lnTo>
                <a:lnTo>
                  <a:pt x="1069005" y="571136"/>
                </a:lnTo>
                <a:lnTo>
                  <a:pt x="1061599" y="560819"/>
                </a:lnTo>
                <a:lnTo>
                  <a:pt x="1054194" y="551031"/>
                </a:lnTo>
                <a:lnTo>
                  <a:pt x="1045996" y="540979"/>
                </a:lnTo>
                <a:lnTo>
                  <a:pt x="1038061" y="531455"/>
                </a:lnTo>
                <a:lnTo>
                  <a:pt x="1029598" y="521932"/>
                </a:lnTo>
                <a:lnTo>
                  <a:pt x="1021135" y="512938"/>
                </a:lnTo>
                <a:lnTo>
                  <a:pt x="1012143" y="503679"/>
                </a:lnTo>
                <a:lnTo>
                  <a:pt x="1003151" y="495214"/>
                </a:lnTo>
                <a:lnTo>
                  <a:pt x="993894" y="486484"/>
                </a:lnTo>
                <a:lnTo>
                  <a:pt x="984638" y="478019"/>
                </a:lnTo>
                <a:lnTo>
                  <a:pt x="974852" y="469818"/>
                </a:lnTo>
                <a:lnTo>
                  <a:pt x="965066" y="462147"/>
                </a:lnTo>
                <a:lnTo>
                  <a:pt x="955016" y="454475"/>
                </a:lnTo>
                <a:lnTo>
                  <a:pt x="944966" y="446804"/>
                </a:lnTo>
                <a:lnTo>
                  <a:pt x="934387" y="439661"/>
                </a:lnTo>
                <a:lnTo>
                  <a:pt x="924073" y="432519"/>
                </a:lnTo>
                <a:lnTo>
                  <a:pt x="913230" y="425905"/>
                </a:lnTo>
                <a:lnTo>
                  <a:pt x="902386" y="419556"/>
                </a:lnTo>
                <a:lnTo>
                  <a:pt x="891278" y="413207"/>
                </a:lnTo>
                <a:lnTo>
                  <a:pt x="879906" y="407388"/>
                </a:lnTo>
                <a:lnTo>
                  <a:pt x="868798" y="401832"/>
                </a:lnTo>
                <a:lnTo>
                  <a:pt x="857161" y="396541"/>
                </a:lnTo>
                <a:lnTo>
                  <a:pt x="845524" y="391251"/>
                </a:lnTo>
                <a:lnTo>
                  <a:pt x="833623" y="386489"/>
                </a:lnTo>
                <a:lnTo>
                  <a:pt x="821457" y="381992"/>
                </a:lnTo>
                <a:lnTo>
                  <a:pt x="809556" y="377759"/>
                </a:lnTo>
                <a:lnTo>
                  <a:pt x="797390" y="373527"/>
                </a:lnTo>
                <a:lnTo>
                  <a:pt x="784695" y="369823"/>
                </a:lnTo>
                <a:lnTo>
                  <a:pt x="772529" y="366649"/>
                </a:lnTo>
                <a:lnTo>
                  <a:pt x="759835" y="363474"/>
                </a:lnTo>
                <a:lnTo>
                  <a:pt x="746875" y="360829"/>
                </a:lnTo>
                <a:lnTo>
                  <a:pt x="734181" y="358184"/>
                </a:lnTo>
                <a:lnTo>
                  <a:pt x="721221" y="356067"/>
                </a:lnTo>
                <a:lnTo>
                  <a:pt x="707998" y="354216"/>
                </a:lnTo>
                <a:lnTo>
                  <a:pt x="695038" y="352628"/>
                </a:lnTo>
                <a:lnTo>
                  <a:pt x="681815" y="351570"/>
                </a:lnTo>
                <a:lnTo>
                  <a:pt x="668327" y="350512"/>
                </a:lnTo>
                <a:lnTo>
                  <a:pt x="654838" y="350247"/>
                </a:lnTo>
                <a:lnTo>
                  <a:pt x="641615" y="349983"/>
                </a:lnTo>
                <a:close/>
                <a:moveTo>
                  <a:pt x="524717" y="0"/>
                </a:moveTo>
                <a:lnTo>
                  <a:pt x="757983" y="0"/>
                </a:lnTo>
                <a:lnTo>
                  <a:pt x="757983" y="116926"/>
                </a:lnTo>
                <a:lnTo>
                  <a:pt x="699799" y="116926"/>
                </a:lnTo>
                <a:lnTo>
                  <a:pt x="699799" y="236232"/>
                </a:lnTo>
                <a:lnTo>
                  <a:pt x="711171" y="237555"/>
                </a:lnTo>
                <a:lnTo>
                  <a:pt x="722544" y="238877"/>
                </a:lnTo>
                <a:lnTo>
                  <a:pt x="734181" y="240200"/>
                </a:lnTo>
                <a:lnTo>
                  <a:pt x="745289" y="242052"/>
                </a:lnTo>
                <a:lnTo>
                  <a:pt x="756661" y="243903"/>
                </a:lnTo>
                <a:lnTo>
                  <a:pt x="767504" y="246020"/>
                </a:lnTo>
                <a:lnTo>
                  <a:pt x="778877" y="248665"/>
                </a:lnTo>
                <a:lnTo>
                  <a:pt x="789985" y="251046"/>
                </a:lnTo>
                <a:lnTo>
                  <a:pt x="800828" y="253691"/>
                </a:lnTo>
                <a:lnTo>
                  <a:pt x="811672" y="256601"/>
                </a:lnTo>
                <a:lnTo>
                  <a:pt x="822515" y="259776"/>
                </a:lnTo>
                <a:lnTo>
                  <a:pt x="833359" y="262950"/>
                </a:lnTo>
                <a:lnTo>
                  <a:pt x="843673" y="266654"/>
                </a:lnTo>
                <a:lnTo>
                  <a:pt x="854516" y="270093"/>
                </a:lnTo>
                <a:lnTo>
                  <a:pt x="865095" y="273796"/>
                </a:lnTo>
                <a:lnTo>
                  <a:pt x="875145" y="277764"/>
                </a:lnTo>
                <a:lnTo>
                  <a:pt x="885724" y="281997"/>
                </a:lnTo>
                <a:lnTo>
                  <a:pt x="895774" y="286494"/>
                </a:lnTo>
                <a:lnTo>
                  <a:pt x="905824" y="290991"/>
                </a:lnTo>
                <a:lnTo>
                  <a:pt x="915874" y="295488"/>
                </a:lnTo>
                <a:lnTo>
                  <a:pt x="925924" y="300250"/>
                </a:lnTo>
                <a:lnTo>
                  <a:pt x="935445" y="305541"/>
                </a:lnTo>
                <a:lnTo>
                  <a:pt x="945495" y="310567"/>
                </a:lnTo>
                <a:lnTo>
                  <a:pt x="955016" y="315858"/>
                </a:lnTo>
                <a:lnTo>
                  <a:pt x="964537" y="321148"/>
                </a:lnTo>
                <a:lnTo>
                  <a:pt x="973794" y="327233"/>
                </a:lnTo>
                <a:lnTo>
                  <a:pt x="983315" y="332788"/>
                </a:lnTo>
                <a:lnTo>
                  <a:pt x="992307" y="338608"/>
                </a:lnTo>
                <a:lnTo>
                  <a:pt x="1001564" y="344957"/>
                </a:lnTo>
                <a:lnTo>
                  <a:pt x="1010556" y="351041"/>
                </a:lnTo>
                <a:lnTo>
                  <a:pt x="1019548" y="357390"/>
                </a:lnTo>
                <a:lnTo>
                  <a:pt x="1028276" y="364268"/>
                </a:lnTo>
                <a:lnTo>
                  <a:pt x="1156017" y="236232"/>
                </a:lnTo>
                <a:lnTo>
                  <a:pt x="1279791" y="360035"/>
                </a:lnTo>
                <a:lnTo>
                  <a:pt x="1152050" y="487807"/>
                </a:lnTo>
                <a:lnTo>
                  <a:pt x="1159455" y="498124"/>
                </a:lnTo>
                <a:lnTo>
                  <a:pt x="1167125" y="508441"/>
                </a:lnTo>
                <a:lnTo>
                  <a:pt x="1174001" y="518758"/>
                </a:lnTo>
                <a:lnTo>
                  <a:pt x="1180877" y="529604"/>
                </a:lnTo>
                <a:lnTo>
                  <a:pt x="1187754" y="540185"/>
                </a:lnTo>
                <a:lnTo>
                  <a:pt x="1194366" y="551031"/>
                </a:lnTo>
                <a:lnTo>
                  <a:pt x="1200449" y="561877"/>
                </a:lnTo>
                <a:lnTo>
                  <a:pt x="1206796" y="573252"/>
                </a:lnTo>
                <a:lnTo>
                  <a:pt x="1212614" y="584627"/>
                </a:lnTo>
                <a:lnTo>
                  <a:pt x="1218433" y="596003"/>
                </a:lnTo>
                <a:lnTo>
                  <a:pt x="1223987" y="607642"/>
                </a:lnTo>
                <a:lnTo>
                  <a:pt x="1229276" y="619017"/>
                </a:lnTo>
                <a:lnTo>
                  <a:pt x="1234037" y="630922"/>
                </a:lnTo>
                <a:lnTo>
                  <a:pt x="1239062" y="643090"/>
                </a:lnTo>
                <a:lnTo>
                  <a:pt x="1243558" y="654730"/>
                </a:lnTo>
                <a:lnTo>
                  <a:pt x="1248054" y="667163"/>
                </a:lnTo>
                <a:lnTo>
                  <a:pt x="1252021" y="679332"/>
                </a:lnTo>
                <a:lnTo>
                  <a:pt x="1255724" y="691501"/>
                </a:lnTo>
                <a:lnTo>
                  <a:pt x="1259691" y="704198"/>
                </a:lnTo>
                <a:lnTo>
                  <a:pt x="1262864" y="716896"/>
                </a:lnTo>
                <a:lnTo>
                  <a:pt x="1266038" y="729329"/>
                </a:lnTo>
                <a:lnTo>
                  <a:pt x="1268683" y="742292"/>
                </a:lnTo>
                <a:lnTo>
                  <a:pt x="1271328" y="755254"/>
                </a:lnTo>
                <a:lnTo>
                  <a:pt x="1273708" y="767952"/>
                </a:lnTo>
                <a:lnTo>
                  <a:pt x="1275559" y="781179"/>
                </a:lnTo>
                <a:lnTo>
                  <a:pt x="1277675" y="794406"/>
                </a:lnTo>
                <a:lnTo>
                  <a:pt x="1279262" y="807632"/>
                </a:lnTo>
                <a:lnTo>
                  <a:pt x="1280584" y="820595"/>
                </a:lnTo>
                <a:lnTo>
                  <a:pt x="1281378" y="834086"/>
                </a:lnTo>
                <a:lnTo>
                  <a:pt x="1282171" y="847842"/>
                </a:lnTo>
                <a:lnTo>
                  <a:pt x="1282435" y="861069"/>
                </a:lnTo>
                <a:lnTo>
                  <a:pt x="1282700" y="874825"/>
                </a:lnTo>
                <a:lnTo>
                  <a:pt x="1282435" y="891226"/>
                </a:lnTo>
                <a:lnTo>
                  <a:pt x="1281907" y="907892"/>
                </a:lnTo>
                <a:lnTo>
                  <a:pt x="1280849" y="924293"/>
                </a:lnTo>
                <a:lnTo>
                  <a:pt x="1279526" y="940430"/>
                </a:lnTo>
                <a:lnTo>
                  <a:pt x="1277675" y="956302"/>
                </a:lnTo>
                <a:lnTo>
                  <a:pt x="1275030" y="972439"/>
                </a:lnTo>
                <a:lnTo>
                  <a:pt x="1272650" y="988311"/>
                </a:lnTo>
                <a:lnTo>
                  <a:pt x="1269476" y="1003919"/>
                </a:lnTo>
                <a:lnTo>
                  <a:pt x="1266303" y="1019527"/>
                </a:lnTo>
                <a:lnTo>
                  <a:pt x="1262600" y="1035134"/>
                </a:lnTo>
                <a:lnTo>
                  <a:pt x="1258368" y="1050478"/>
                </a:lnTo>
                <a:lnTo>
                  <a:pt x="1253608" y="1065292"/>
                </a:lnTo>
                <a:lnTo>
                  <a:pt x="1248847" y="1080370"/>
                </a:lnTo>
                <a:lnTo>
                  <a:pt x="1243822" y="1095184"/>
                </a:lnTo>
                <a:lnTo>
                  <a:pt x="1238004" y="1109999"/>
                </a:lnTo>
                <a:lnTo>
                  <a:pt x="1232185" y="1124284"/>
                </a:lnTo>
                <a:lnTo>
                  <a:pt x="1226103" y="1138569"/>
                </a:lnTo>
                <a:lnTo>
                  <a:pt x="1219226" y="1152854"/>
                </a:lnTo>
                <a:lnTo>
                  <a:pt x="1212350" y="1166874"/>
                </a:lnTo>
                <a:lnTo>
                  <a:pt x="1205209" y="1180365"/>
                </a:lnTo>
                <a:lnTo>
                  <a:pt x="1197539" y="1193857"/>
                </a:lnTo>
                <a:lnTo>
                  <a:pt x="1189869" y="1207348"/>
                </a:lnTo>
                <a:lnTo>
                  <a:pt x="1181406" y="1220575"/>
                </a:lnTo>
                <a:lnTo>
                  <a:pt x="1173208" y="1233273"/>
                </a:lnTo>
                <a:lnTo>
                  <a:pt x="1164480" y="1245971"/>
                </a:lnTo>
                <a:lnTo>
                  <a:pt x="1155223" y="1258668"/>
                </a:lnTo>
                <a:lnTo>
                  <a:pt x="1145967" y="1270573"/>
                </a:lnTo>
                <a:lnTo>
                  <a:pt x="1136181" y="1282741"/>
                </a:lnTo>
                <a:lnTo>
                  <a:pt x="1126396" y="1294646"/>
                </a:lnTo>
                <a:lnTo>
                  <a:pt x="1116081" y="1306021"/>
                </a:lnTo>
                <a:lnTo>
                  <a:pt x="1105502" y="1317396"/>
                </a:lnTo>
                <a:lnTo>
                  <a:pt x="1094923" y="1328242"/>
                </a:lnTo>
                <a:lnTo>
                  <a:pt x="1083815" y="1339088"/>
                </a:lnTo>
                <a:lnTo>
                  <a:pt x="1072707" y="1349669"/>
                </a:lnTo>
                <a:lnTo>
                  <a:pt x="1061071" y="1359722"/>
                </a:lnTo>
                <a:lnTo>
                  <a:pt x="1049169" y="1369774"/>
                </a:lnTo>
                <a:lnTo>
                  <a:pt x="1037268" y="1379297"/>
                </a:lnTo>
                <a:lnTo>
                  <a:pt x="1025102" y="1388821"/>
                </a:lnTo>
                <a:lnTo>
                  <a:pt x="1012407" y="1397815"/>
                </a:lnTo>
                <a:lnTo>
                  <a:pt x="999977" y="1406809"/>
                </a:lnTo>
                <a:lnTo>
                  <a:pt x="987018" y="1415010"/>
                </a:lnTo>
                <a:lnTo>
                  <a:pt x="973794" y="1423211"/>
                </a:lnTo>
                <a:lnTo>
                  <a:pt x="960570" y="1431147"/>
                </a:lnTo>
                <a:lnTo>
                  <a:pt x="947082" y="1438554"/>
                </a:lnTo>
                <a:lnTo>
                  <a:pt x="933330" y="1445961"/>
                </a:lnTo>
                <a:lnTo>
                  <a:pt x="919313" y="1452839"/>
                </a:lnTo>
                <a:lnTo>
                  <a:pt x="905295" y="1459452"/>
                </a:lnTo>
                <a:lnTo>
                  <a:pt x="891014" y="1465801"/>
                </a:lnTo>
                <a:lnTo>
                  <a:pt x="876468" y="1471621"/>
                </a:lnTo>
                <a:lnTo>
                  <a:pt x="861657" y="1477176"/>
                </a:lnTo>
                <a:lnTo>
                  <a:pt x="847111" y="1482467"/>
                </a:lnTo>
                <a:lnTo>
                  <a:pt x="832036" y="1487493"/>
                </a:lnTo>
                <a:lnTo>
                  <a:pt x="816961" y="1491726"/>
                </a:lnTo>
                <a:lnTo>
                  <a:pt x="801622" y="1495958"/>
                </a:lnTo>
                <a:lnTo>
                  <a:pt x="786018" y="1499926"/>
                </a:lnTo>
                <a:lnTo>
                  <a:pt x="770678" y="1503101"/>
                </a:lnTo>
                <a:lnTo>
                  <a:pt x="755074" y="1506275"/>
                </a:lnTo>
                <a:lnTo>
                  <a:pt x="739206" y="1508656"/>
                </a:lnTo>
                <a:lnTo>
                  <a:pt x="723073" y="1511037"/>
                </a:lnTo>
                <a:lnTo>
                  <a:pt x="706940" y="1512889"/>
                </a:lnTo>
                <a:lnTo>
                  <a:pt x="690542" y="1514211"/>
                </a:lnTo>
                <a:lnTo>
                  <a:pt x="674409" y="1515270"/>
                </a:lnTo>
                <a:lnTo>
                  <a:pt x="658012" y="1515799"/>
                </a:lnTo>
                <a:lnTo>
                  <a:pt x="641615" y="1516063"/>
                </a:lnTo>
                <a:lnTo>
                  <a:pt x="624953" y="1515799"/>
                </a:lnTo>
                <a:lnTo>
                  <a:pt x="608555" y="1515270"/>
                </a:lnTo>
                <a:lnTo>
                  <a:pt x="592158" y="1514211"/>
                </a:lnTo>
                <a:lnTo>
                  <a:pt x="575761" y="1512889"/>
                </a:lnTo>
                <a:lnTo>
                  <a:pt x="559628" y="1511037"/>
                </a:lnTo>
                <a:lnTo>
                  <a:pt x="543759" y="1508656"/>
                </a:lnTo>
                <a:lnTo>
                  <a:pt x="527891" y="1506275"/>
                </a:lnTo>
                <a:lnTo>
                  <a:pt x="512287" y="1503101"/>
                </a:lnTo>
                <a:lnTo>
                  <a:pt x="496683" y="1499926"/>
                </a:lnTo>
                <a:lnTo>
                  <a:pt x="481079" y="1495958"/>
                </a:lnTo>
                <a:lnTo>
                  <a:pt x="465739" y="1491726"/>
                </a:lnTo>
                <a:lnTo>
                  <a:pt x="450929" y="1487493"/>
                </a:lnTo>
                <a:lnTo>
                  <a:pt x="435854" y="1482467"/>
                </a:lnTo>
                <a:lnTo>
                  <a:pt x="421043" y="1477176"/>
                </a:lnTo>
                <a:lnTo>
                  <a:pt x="406233" y="1471621"/>
                </a:lnTo>
                <a:lnTo>
                  <a:pt x="391687" y="1465801"/>
                </a:lnTo>
                <a:lnTo>
                  <a:pt x="377669" y="1459452"/>
                </a:lnTo>
                <a:lnTo>
                  <a:pt x="363388" y="1452839"/>
                </a:lnTo>
                <a:lnTo>
                  <a:pt x="349371" y="1445961"/>
                </a:lnTo>
                <a:lnTo>
                  <a:pt x="335618" y="1438554"/>
                </a:lnTo>
                <a:lnTo>
                  <a:pt x="322394" y="1431147"/>
                </a:lnTo>
                <a:lnTo>
                  <a:pt x="308906" y="1423211"/>
                </a:lnTo>
                <a:lnTo>
                  <a:pt x="295682" y="1415010"/>
                </a:lnTo>
                <a:lnTo>
                  <a:pt x="282988" y="1406809"/>
                </a:lnTo>
                <a:lnTo>
                  <a:pt x="270293" y="1397815"/>
                </a:lnTo>
                <a:lnTo>
                  <a:pt x="257598" y="1388821"/>
                </a:lnTo>
                <a:lnTo>
                  <a:pt x="245697" y="1379297"/>
                </a:lnTo>
                <a:lnTo>
                  <a:pt x="233531" y="1369774"/>
                </a:lnTo>
                <a:lnTo>
                  <a:pt x="221630" y="1359722"/>
                </a:lnTo>
                <a:lnTo>
                  <a:pt x="210257" y="1349669"/>
                </a:lnTo>
                <a:lnTo>
                  <a:pt x="198885" y="1339088"/>
                </a:lnTo>
                <a:lnTo>
                  <a:pt x="188041" y="1328242"/>
                </a:lnTo>
                <a:lnTo>
                  <a:pt x="177198" y="1317396"/>
                </a:lnTo>
                <a:lnTo>
                  <a:pt x="166619" y="1306021"/>
                </a:lnTo>
                <a:lnTo>
                  <a:pt x="156569" y="1294646"/>
                </a:lnTo>
                <a:lnTo>
                  <a:pt x="146519" y="1282741"/>
                </a:lnTo>
                <a:lnTo>
                  <a:pt x="136998" y="1270573"/>
                </a:lnTo>
                <a:lnTo>
                  <a:pt x="127477" y="1258668"/>
                </a:lnTo>
                <a:lnTo>
                  <a:pt x="118485" y="1245971"/>
                </a:lnTo>
                <a:lnTo>
                  <a:pt x="109493" y="1233273"/>
                </a:lnTo>
                <a:lnTo>
                  <a:pt x="101294" y="1220575"/>
                </a:lnTo>
                <a:lnTo>
                  <a:pt x="92831" y="1207348"/>
                </a:lnTo>
                <a:lnTo>
                  <a:pt x="85161" y="1193857"/>
                </a:lnTo>
                <a:lnTo>
                  <a:pt x="77756" y="1180365"/>
                </a:lnTo>
                <a:lnTo>
                  <a:pt x="70350" y="1166874"/>
                </a:lnTo>
                <a:lnTo>
                  <a:pt x="63474" y="1152854"/>
                </a:lnTo>
                <a:lnTo>
                  <a:pt x="56862" y="1138569"/>
                </a:lnTo>
                <a:lnTo>
                  <a:pt x="50515" y="1124284"/>
                </a:lnTo>
                <a:lnTo>
                  <a:pt x="44696" y="1109999"/>
                </a:lnTo>
                <a:lnTo>
                  <a:pt x="39142" y="1095184"/>
                </a:lnTo>
                <a:lnTo>
                  <a:pt x="33853" y="1080370"/>
                </a:lnTo>
                <a:lnTo>
                  <a:pt x="29092" y="1065292"/>
                </a:lnTo>
                <a:lnTo>
                  <a:pt x="24596" y="1050478"/>
                </a:lnTo>
                <a:lnTo>
                  <a:pt x="20365" y="1035134"/>
                </a:lnTo>
                <a:lnTo>
                  <a:pt x="16398" y="1019527"/>
                </a:lnTo>
                <a:lnTo>
                  <a:pt x="13224" y="1003919"/>
                </a:lnTo>
                <a:lnTo>
                  <a:pt x="10315" y="988311"/>
                </a:lnTo>
                <a:lnTo>
                  <a:pt x="7670" y="972439"/>
                </a:lnTo>
                <a:lnTo>
                  <a:pt x="5290" y="956302"/>
                </a:lnTo>
                <a:lnTo>
                  <a:pt x="3703" y="940430"/>
                </a:lnTo>
                <a:lnTo>
                  <a:pt x="2116" y="924293"/>
                </a:lnTo>
                <a:lnTo>
                  <a:pt x="1058" y="907892"/>
                </a:lnTo>
                <a:lnTo>
                  <a:pt x="529" y="891226"/>
                </a:lnTo>
                <a:lnTo>
                  <a:pt x="0" y="874825"/>
                </a:lnTo>
                <a:lnTo>
                  <a:pt x="529" y="858953"/>
                </a:lnTo>
                <a:lnTo>
                  <a:pt x="1058" y="843345"/>
                </a:lnTo>
                <a:lnTo>
                  <a:pt x="1852" y="828266"/>
                </a:lnTo>
                <a:lnTo>
                  <a:pt x="3174" y="812923"/>
                </a:lnTo>
                <a:lnTo>
                  <a:pt x="4761" y="797580"/>
                </a:lnTo>
                <a:lnTo>
                  <a:pt x="6877" y="782237"/>
                </a:lnTo>
                <a:lnTo>
                  <a:pt x="9257" y="767158"/>
                </a:lnTo>
                <a:lnTo>
                  <a:pt x="11902" y="752609"/>
                </a:lnTo>
                <a:lnTo>
                  <a:pt x="14811" y="737795"/>
                </a:lnTo>
                <a:lnTo>
                  <a:pt x="18249" y="722980"/>
                </a:lnTo>
                <a:lnTo>
                  <a:pt x="21952" y="708431"/>
                </a:lnTo>
                <a:lnTo>
                  <a:pt x="25919" y="693881"/>
                </a:lnTo>
                <a:lnTo>
                  <a:pt x="30415" y="679861"/>
                </a:lnTo>
                <a:lnTo>
                  <a:pt x="34911" y="665840"/>
                </a:lnTo>
                <a:lnTo>
                  <a:pt x="40200" y="651820"/>
                </a:lnTo>
                <a:lnTo>
                  <a:pt x="45225" y="637799"/>
                </a:lnTo>
                <a:lnTo>
                  <a:pt x="50779" y="624308"/>
                </a:lnTo>
                <a:lnTo>
                  <a:pt x="56862" y="610817"/>
                </a:lnTo>
                <a:lnTo>
                  <a:pt x="63210" y="597325"/>
                </a:lnTo>
                <a:lnTo>
                  <a:pt x="69557" y="584363"/>
                </a:lnTo>
                <a:lnTo>
                  <a:pt x="76433" y="571401"/>
                </a:lnTo>
                <a:lnTo>
                  <a:pt x="83574" y="558438"/>
                </a:lnTo>
                <a:lnTo>
                  <a:pt x="90715" y="546005"/>
                </a:lnTo>
                <a:lnTo>
                  <a:pt x="98649" y="533572"/>
                </a:lnTo>
                <a:lnTo>
                  <a:pt x="106319" y="521139"/>
                </a:lnTo>
                <a:lnTo>
                  <a:pt x="114782" y="509234"/>
                </a:lnTo>
                <a:lnTo>
                  <a:pt x="122981" y="497330"/>
                </a:lnTo>
                <a:lnTo>
                  <a:pt x="131973" y="485691"/>
                </a:lnTo>
                <a:lnTo>
                  <a:pt x="140701" y="474315"/>
                </a:lnTo>
                <a:lnTo>
                  <a:pt x="149693" y="462940"/>
                </a:lnTo>
                <a:lnTo>
                  <a:pt x="159478" y="451830"/>
                </a:lnTo>
                <a:lnTo>
                  <a:pt x="169264" y="441248"/>
                </a:lnTo>
                <a:lnTo>
                  <a:pt x="179049" y="430402"/>
                </a:lnTo>
                <a:lnTo>
                  <a:pt x="189364" y="420350"/>
                </a:lnTo>
                <a:lnTo>
                  <a:pt x="199678" y="410033"/>
                </a:lnTo>
                <a:lnTo>
                  <a:pt x="210522" y="400245"/>
                </a:lnTo>
                <a:lnTo>
                  <a:pt x="221101" y="390457"/>
                </a:lnTo>
                <a:lnTo>
                  <a:pt x="232209" y="381198"/>
                </a:lnTo>
                <a:lnTo>
                  <a:pt x="243317" y="371940"/>
                </a:lnTo>
                <a:lnTo>
                  <a:pt x="254953" y="363210"/>
                </a:lnTo>
                <a:lnTo>
                  <a:pt x="266855" y="354216"/>
                </a:lnTo>
                <a:lnTo>
                  <a:pt x="278492" y="346015"/>
                </a:lnTo>
                <a:lnTo>
                  <a:pt x="290922" y="337814"/>
                </a:lnTo>
                <a:lnTo>
                  <a:pt x="303088" y="330143"/>
                </a:lnTo>
                <a:lnTo>
                  <a:pt x="315518" y="322471"/>
                </a:lnTo>
                <a:lnTo>
                  <a:pt x="328213" y="315064"/>
                </a:lnTo>
                <a:lnTo>
                  <a:pt x="341172" y="308186"/>
                </a:lnTo>
                <a:lnTo>
                  <a:pt x="354131" y="301308"/>
                </a:lnTo>
                <a:lnTo>
                  <a:pt x="367355" y="294959"/>
                </a:lnTo>
                <a:lnTo>
                  <a:pt x="380843" y="288875"/>
                </a:lnTo>
                <a:lnTo>
                  <a:pt x="394331" y="282790"/>
                </a:lnTo>
                <a:lnTo>
                  <a:pt x="407819" y="277500"/>
                </a:lnTo>
                <a:lnTo>
                  <a:pt x="421837" y="272209"/>
                </a:lnTo>
                <a:lnTo>
                  <a:pt x="435854" y="267447"/>
                </a:lnTo>
                <a:lnTo>
                  <a:pt x="449871" y="262686"/>
                </a:lnTo>
                <a:lnTo>
                  <a:pt x="464153" y="258453"/>
                </a:lnTo>
                <a:lnTo>
                  <a:pt x="478699" y="254485"/>
                </a:lnTo>
                <a:lnTo>
                  <a:pt x="493245" y="251046"/>
                </a:lnTo>
                <a:lnTo>
                  <a:pt x="508055" y="247607"/>
                </a:lnTo>
                <a:lnTo>
                  <a:pt x="522601" y="244433"/>
                </a:lnTo>
                <a:lnTo>
                  <a:pt x="537676" y="242052"/>
                </a:lnTo>
                <a:lnTo>
                  <a:pt x="552751" y="239671"/>
                </a:lnTo>
                <a:lnTo>
                  <a:pt x="567826" y="237819"/>
                </a:lnTo>
                <a:lnTo>
                  <a:pt x="583166" y="236232"/>
                </a:lnTo>
                <a:lnTo>
                  <a:pt x="583166" y="116926"/>
                </a:lnTo>
                <a:lnTo>
                  <a:pt x="524717" y="116926"/>
                </a:lnTo>
                <a:lnTo>
                  <a:pt x="524717"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10145880" y="4629240"/>
            <a:ext cx="349200" cy="334800"/>
          </a:xfrm>
          <a:custGeom>
            <a:avLst/>
            <a:gdLst/>
            <a:ahLst/>
            <a:rect l="l" t="t" r="r" b="b"/>
            <a:pathLst>
              <a:path w="1889279" h="1810503">
                <a:moveTo>
                  <a:pt x="1408636" y="1462945"/>
                </a:moveTo>
                <a:cubicBezTo>
                  <a:pt x="1471912" y="1494489"/>
                  <a:pt x="1528819" y="1532588"/>
                  <a:pt x="1575786" y="1578162"/>
                </a:cubicBezTo>
                <a:cubicBezTo>
                  <a:pt x="1467281" y="1672800"/>
                  <a:pt x="1335058" y="1742507"/>
                  <a:pt x="1188886" y="1779443"/>
                </a:cubicBezTo>
                <a:cubicBezTo>
                  <a:pt x="1278166" y="1700386"/>
                  <a:pt x="1353810" y="1592053"/>
                  <a:pt x="1408636" y="1462945"/>
                </a:cubicBezTo>
                <a:close/>
                <a:moveTo>
                  <a:pt x="494888" y="1445849"/>
                </a:moveTo>
                <a:cubicBezTo>
                  <a:pt x="556747" y="1590569"/>
                  <a:pt x="643865" y="1709702"/>
                  <a:pt x="747068" y="1790925"/>
                </a:cubicBezTo>
                <a:cubicBezTo>
                  <a:pt x="576321" y="1756303"/>
                  <a:pt x="422614" y="1677538"/>
                  <a:pt x="300900" y="1566189"/>
                </a:cubicBezTo>
                <a:cubicBezTo>
                  <a:pt x="355309" y="1517036"/>
                  <a:pt x="421005" y="1476420"/>
                  <a:pt x="494888" y="1445849"/>
                </a:cubicBezTo>
                <a:close/>
                <a:moveTo>
                  <a:pt x="900586" y="1355871"/>
                </a:moveTo>
                <a:lnTo>
                  <a:pt x="900586" y="1808904"/>
                </a:lnTo>
                <a:lnTo>
                  <a:pt x="884222" y="1808113"/>
                </a:lnTo>
                <a:cubicBezTo>
                  <a:pt x="745280" y="1742581"/>
                  <a:pt x="627378" y="1604992"/>
                  <a:pt x="551037" y="1423344"/>
                </a:cubicBezTo>
                <a:cubicBezTo>
                  <a:pt x="655969" y="1381011"/>
                  <a:pt x="774745" y="1357337"/>
                  <a:pt x="900586" y="1355871"/>
                </a:cubicBezTo>
                <a:close/>
                <a:moveTo>
                  <a:pt x="953521" y="1355186"/>
                </a:moveTo>
                <a:cubicBezTo>
                  <a:pt x="1099660" y="1356509"/>
                  <a:pt x="1236550" y="1386650"/>
                  <a:pt x="1354036" y="1440083"/>
                </a:cubicBezTo>
                <a:cubicBezTo>
                  <a:pt x="1283551" y="1605630"/>
                  <a:pt x="1178611" y="1734316"/>
                  <a:pt x="1054486" y="1804443"/>
                </a:cubicBezTo>
                <a:lnTo>
                  <a:pt x="953521" y="1810503"/>
                </a:lnTo>
                <a:close/>
                <a:moveTo>
                  <a:pt x="1517159" y="931303"/>
                </a:moveTo>
                <a:lnTo>
                  <a:pt x="1889279" y="931303"/>
                </a:lnTo>
                <a:cubicBezTo>
                  <a:pt x="1883282" y="1167646"/>
                  <a:pt x="1781715" y="1381244"/>
                  <a:pt x="1618873" y="1536894"/>
                </a:cubicBezTo>
                <a:cubicBezTo>
                  <a:pt x="1566437" y="1485571"/>
                  <a:pt x="1502786" y="1442774"/>
                  <a:pt x="1431939" y="1407715"/>
                </a:cubicBezTo>
                <a:cubicBezTo>
                  <a:pt x="1485774" y="1266553"/>
                  <a:pt x="1516428" y="1104135"/>
                  <a:pt x="1517159" y="931303"/>
                </a:cubicBezTo>
                <a:close/>
                <a:moveTo>
                  <a:pt x="953521" y="931303"/>
                </a:moveTo>
                <a:lnTo>
                  <a:pt x="1456842" y="931303"/>
                </a:lnTo>
                <a:cubicBezTo>
                  <a:pt x="1456123" y="1096196"/>
                  <a:pt x="1427268" y="1250986"/>
                  <a:pt x="1375819" y="1384691"/>
                </a:cubicBezTo>
                <a:cubicBezTo>
                  <a:pt x="1251537" y="1327928"/>
                  <a:pt x="1107288" y="1296191"/>
                  <a:pt x="953521" y="1294902"/>
                </a:cubicBezTo>
                <a:close/>
                <a:moveTo>
                  <a:pt x="448568" y="931303"/>
                </a:moveTo>
                <a:lnTo>
                  <a:pt x="900586" y="931303"/>
                </a:lnTo>
                <a:lnTo>
                  <a:pt x="900586" y="1295603"/>
                </a:lnTo>
                <a:cubicBezTo>
                  <a:pt x="766605" y="1297053"/>
                  <a:pt x="640053" y="1322469"/>
                  <a:pt x="528061" y="1368046"/>
                </a:cubicBezTo>
                <a:cubicBezTo>
                  <a:pt x="478984" y="1238632"/>
                  <a:pt x="450499" y="1089843"/>
                  <a:pt x="448568" y="931303"/>
                </a:cubicBezTo>
                <a:close/>
                <a:moveTo>
                  <a:pt x="0" y="931303"/>
                </a:moveTo>
                <a:lnTo>
                  <a:pt x="388264" y="931303"/>
                </a:lnTo>
                <a:cubicBezTo>
                  <a:pt x="390220" y="1097785"/>
                  <a:pt x="420532" y="1254193"/>
                  <a:pt x="473139" y="1390578"/>
                </a:cubicBezTo>
                <a:cubicBezTo>
                  <a:pt x="391203" y="1423988"/>
                  <a:pt x="318506" y="1469260"/>
                  <a:pt x="258353" y="1524144"/>
                </a:cubicBezTo>
                <a:cubicBezTo>
                  <a:pt x="102364" y="1370026"/>
                  <a:pt x="5849" y="1161456"/>
                  <a:pt x="0" y="931303"/>
                </a:cubicBezTo>
                <a:close/>
                <a:moveTo>
                  <a:pt x="536834" y="421694"/>
                </a:moveTo>
                <a:cubicBezTo>
                  <a:pt x="646682" y="464986"/>
                  <a:pt x="770110" y="489176"/>
                  <a:pt x="900586" y="490537"/>
                </a:cubicBezTo>
                <a:lnTo>
                  <a:pt x="900586" y="875390"/>
                </a:lnTo>
                <a:lnTo>
                  <a:pt x="448805" y="875390"/>
                </a:lnTo>
                <a:cubicBezTo>
                  <a:pt x="451150" y="709592"/>
                  <a:pt x="482649" y="554587"/>
                  <a:pt x="536834" y="421694"/>
                </a:cubicBezTo>
                <a:close/>
                <a:moveTo>
                  <a:pt x="1356131" y="409527"/>
                </a:moveTo>
                <a:cubicBezTo>
                  <a:pt x="1415590" y="544412"/>
                  <a:pt x="1451132" y="703874"/>
                  <a:pt x="1455052" y="875390"/>
                </a:cubicBezTo>
                <a:lnTo>
                  <a:pt x="953521" y="875390"/>
                </a:lnTo>
                <a:lnTo>
                  <a:pt x="953521" y="491238"/>
                </a:lnTo>
                <a:cubicBezTo>
                  <a:pt x="1099303" y="490092"/>
                  <a:pt x="1236528" y="461431"/>
                  <a:pt x="1356131" y="409527"/>
                </a:cubicBezTo>
                <a:close/>
                <a:moveTo>
                  <a:pt x="271202" y="273767"/>
                </a:moveTo>
                <a:cubicBezTo>
                  <a:pt x="330895" y="324894"/>
                  <a:pt x="401533" y="367494"/>
                  <a:pt x="480768" y="398692"/>
                </a:cubicBezTo>
                <a:cubicBezTo>
                  <a:pt x="424147" y="539118"/>
                  <a:pt x="390867" y="701724"/>
                  <a:pt x="388496" y="875390"/>
                </a:cubicBezTo>
                <a:lnTo>
                  <a:pt x="238" y="875390"/>
                </a:lnTo>
                <a:cubicBezTo>
                  <a:pt x="7162" y="640451"/>
                  <a:pt x="108645" y="428248"/>
                  <a:pt x="271202" y="273767"/>
                </a:cubicBezTo>
                <a:close/>
                <a:moveTo>
                  <a:pt x="1605567" y="261436"/>
                </a:moveTo>
                <a:cubicBezTo>
                  <a:pt x="1775300" y="417133"/>
                  <a:pt x="1881942" y="634296"/>
                  <a:pt x="1889035" y="875390"/>
                </a:cubicBezTo>
                <a:lnTo>
                  <a:pt x="1515364" y="875390"/>
                </a:lnTo>
                <a:cubicBezTo>
                  <a:pt x="1511419" y="696081"/>
                  <a:pt x="1474168" y="529014"/>
                  <a:pt x="1413107" y="386152"/>
                </a:cubicBezTo>
                <a:cubicBezTo>
                  <a:pt x="1485941" y="353453"/>
                  <a:pt x="1551126" y="311628"/>
                  <a:pt x="1605567" y="261436"/>
                </a:cubicBezTo>
                <a:close/>
                <a:moveTo>
                  <a:pt x="748157" y="19413"/>
                </a:moveTo>
                <a:cubicBezTo>
                  <a:pt x="649482" y="96557"/>
                  <a:pt x="565491" y="208310"/>
                  <a:pt x="504779" y="344256"/>
                </a:cubicBezTo>
                <a:cubicBezTo>
                  <a:pt x="432706" y="315858"/>
                  <a:pt x="368354" y="277545"/>
                  <a:pt x="313920" y="231604"/>
                </a:cubicBezTo>
                <a:cubicBezTo>
                  <a:pt x="434240" y="127070"/>
                  <a:pt x="583275" y="52667"/>
                  <a:pt x="748157" y="19413"/>
                </a:cubicBezTo>
                <a:close/>
                <a:moveTo>
                  <a:pt x="1137621" y="18543"/>
                </a:moveTo>
                <a:cubicBezTo>
                  <a:pt x="1297904" y="50310"/>
                  <a:pt x="1443338" y="120918"/>
                  <a:pt x="1562575" y="219802"/>
                </a:cubicBezTo>
                <a:cubicBezTo>
                  <a:pt x="1512842" y="265093"/>
                  <a:pt x="1453308" y="302843"/>
                  <a:pt x="1386970" y="332857"/>
                </a:cubicBezTo>
                <a:cubicBezTo>
                  <a:pt x="1323718" y="199817"/>
                  <a:pt x="1237626" y="91674"/>
                  <a:pt x="1137621" y="18543"/>
                </a:cubicBezTo>
                <a:close/>
                <a:moveTo>
                  <a:pt x="900586" y="1702"/>
                </a:moveTo>
                <a:lnTo>
                  <a:pt x="900586" y="430269"/>
                </a:lnTo>
                <a:cubicBezTo>
                  <a:pt x="778345" y="428899"/>
                  <a:pt x="662774" y="406468"/>
                  <a:pt x="560047" y="366408"/>
                </a:cubicBezTo>
                <a:cubicBezTo>
                  <a:pt x="637783" y="193348"/>
                  <a:pt x="753999" y="63227"/>
                  <a:pt x="890213" y="2203"/>
                </a:cubicBezTo>
                <a:close/>
                <a:moveTo>
                  <a:pt x="953521" y="0"/>
                </a:moveTo>
                <a:lnTo>
                  <a:pt x="981035" y="1330"/>
                </a:lnTo>
                <a:cubicBezTo>
                  <a:pt x="1124068" y="53565"/>
                  <a:pt x="1247786" y="180867"/>
                  <a:pt x="1332000" y="354889"/>
                </a:cubicBezTo>
                <a:cubicBezTo>
                  <a:pt x="1219743" y="403080"/>
                  <a:pt x="1090709" y="429800"/>
                  <a:pt x="953521" y="430954"/>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KSO_Shape"/>
          <p:cNvSpPr/>
          <p:nvPr/>
        </p:nvSpPr>
        <p:spPr>
          <a:xfrm>
            <a:off x="10166400" y="1908000"/>
            <a:ext cx="325440" cy="351000"/>
          </a:xfrm>
          <a:custGeom>
            <a:avLst/>
            <a:gdLst/>
            <a:ahLst/>
            <a:rect l="l" t="t" r="r" b="b"/>
            <a:pathLst>
              <a:path w="4295694" h="4602950">
                <a:moveTo>
                  <a:pt x="788546" y="3262602"/>
                </a:moveTo>
                <a:lnTo>
                  <a:pt x="722065" y="3276024"/>
                </a:lnTo>
                <a:lnTo>
                  <a:pt x="703443" y="3286707"/>
                </a:lnTo>
                <a:lnTo>
                  <a:pt x="667154" y="3311174"/>
                </a:lnTo>
                <a:lnTo>
                  <a:pt x="650940" y="3329902"/>
                </a:lnTo>
                <a:lnTo>
                  <a:pt x="628475" y="3363222"/>
                </a:lnTo>
                <a:lnTo>
                  <a:pt x="611251" y="3407093"/>
                </a:lnTo>
                <a:lnTo>
                  <a:pt x="611248" y="3407104"/>
                </a:lnTo>
                <a:cubicBezTo>
                  <a:pt x="608837" y="3418885"/>
                  <a:pt x="607571" y="3431083"/>
                  <a:pt x="607571" y="3443577"/>
                </a:cubicBezTo>
                <a:cubicBezTo>
                  <a:pt x="607571" y="3543527"/>
                  <a:pt x="688596" y="3624552"/>
                  <a:pt x="788546" y="3624552"/>
                </a:cubicBezTo>
                <a:cubicBezTo>
                  <a:pt x="888496" y="3624552"/>
                  <a:pt x="969521" y="3543527"/>
                  <a:pt x="969521" y="3443577"/>
                </a:cubicBezTo>
                <a:cubicBezTo>
                  <a:pt x="969521" y="3431083"/>
                  <a:pt x="968255" y="3418885"/>
                  <a:pt x="965845" y="3407104"/>
                </a:cubicBezTo>
                <a:lnTo>
                  <a:pt x="962750" y="3397135"/>
                </a:lnTo>
                <a:lnTo>
                  <a:pt x="962749" y="3397136"/>
                </a:lnTo>
                <a:lnTo>
                  <a:pt x="955298" y="3373133"/>
                </a:lnTo>
                <a:lnTo>
                  <a:pt x="955291" y="3373121"/>
                </a:lnTo>
                <a:lnTo>
                  <a:pt x="920412" y="3321388"/>
                </a:lnTo>
                <a:lnTo>
                  <a:pt x="906965" y="3309169"/>
                </a:lnTo>
                <a:lnTo>
                  <a:pt x="868849" y="3283471"/>
                </a:lnTo>
                <a:lnTo>
                  <a:pt x="852148" y="3275443"/>
                </a:lnTo>
                <a:close/>
                <a:moveTo>
                  <a:pt x="3704648" y="908397"/>
                </a:moveTo>
                <a:lnTo>
                  <a:pt x="2413156" y="1136122"/>
                </a:lnTo>
                <a:lnTo>
                  <a:pt x="3048940" y="2044116"/>
                </a:lnTo>
                <a:close/>
                <a:moveTo>
                  <a:pt x="1220089" y="619236"/>
                </a:moveTo>
                <a:lnTo>
                  <a:pt x="1204000" y="653307"/>
                </a:lnTo>
                <a:cubicBezTo>
                  <a:pt x="955662" y="1247544"/>
                  <a:pt x="1007937" y="1952277"/>
                  <a:pt x="1404665" y="2518863"/>
                </a:cubicBezTo>
                <a:cubicBezTo>
                  <a:pt x="1801394" y="3085450"/>
                  <a:pt x="2445746" y="3375605"/>
                  <a:pt x="3089083" y="3345485"/>
                </a:cubicBezTo>
                <a:lnTo>
                  <a:pt x="3126598" y="3342019"/>
                </a:lnTo>
                <a:lnTo>
                  <a:pt x="3126489" y="3342009"/>
                </a:lnTo>
                <a:cubicBezTo>
                  <a:pt x="2522425" y="3261313"/>
                  <a:pt x="1952730" y="2937731"/>
                  <a:pt x="1575619" y="2399160"/>
                </a:cubicBezTo>
                <a:cubicBezTo>
                  <a:pt x="1198508" y="1860590"/>
                  <a:pt x="1089288" y="1214580"/>
                  <a:pt x="1220060" y="619347"/>
                </a:cubicBezTo>
                <a:close/>
                <a:moveTo>
                  <a:pt x="1617635" y="0"/>
                </a:moveTo>
                <a:lnTo>
                  <a:pt x="2292594" y="963942"/>
                </a:lnTo>
                <a:lnTo>
                  <a:pt x="3658628" y="723073"/>
                </a:lnTo>
                <a:lnTo>
                  <a:pt x="3663439" y="662289"/>
                </a:lnTo>
                <a:cubicBezTo>
                  <a:pt x="3677595" y="582007"/>
                  <a:pt x="3722377" y="507126"/>
                  <a:pt x="3794430" y="456674"/>
                </a:cubicBezTo>
                <a:cubicBezTo>
                  <a:pt x="3938536" y="355769"/>
                  <a:pt x="4137157" y="390792"/>
                  <a:pt x="4238061" y="534898"/>
                </a:cubicBezTo>
                <a:cubicBezTo>
                  <a:pt x="4338965" y="679004"/>
                  <a:pt x="4303943" y="877625"/>
                  <a:pt x="4159837" y="978529"/>
                </a:cubicBezTo>
                <a:cubicBezTo>
                  <a:pt x="4087784" y="1028981"/>
                  <a:pt x="4002102" y="1045452"/>
                  <a:pt x="3921820" y="1031296"/>
                </a:cubicBezTo>
                <a:lnTo>
                  <a:pt x="3863056" y="1015027"/>
                </a:lnTo>
                <a:lnTo>
                  <a:pt x="3169503" y="2216297"/>
                </a:lnTo>
                <a:lnTo>
                  <a:pt x="3844461" y="3180237"/>
                </a:lnTo>
                <a:lnTo>
                  <a:pt x="3708278" y="3265695"/>
                </a:lnTo>
                <a:cubicBezTo>
                  <a:pt x="2956045" y="3686124"/>
                  <a:pt x="2019093" y="3555481"/>
                  <a:pt x="1410024" y="2964151"/>
                </a:cubicBezTo>
                <a:lnTo>
                  <a:pt x="1376409" y="2928277"/>
                </a:lnTo>
                <a:lnTo>
                  <a:pt x="1156105" y="3177978"/>
                </a:lnTo>
                <a:lnTo>
                  <a:pt x="1202745" y="3230084"/>
                </a:lnTo>
                <a:cubicBezTo>
                  <a:pt x="1216415" y="3250449"/>
                  <a:pt x="1227745" y="3273276"/>
                  <a:pt x="1236231" y="3297943"/>
                </a:cubicBezTo>
                <a:lnTo>
                  <a:pt x="1246620" y="3361214"/>
                </a:lnTo>
                <a:lnTo>
                  <a:pt x="1138418" y="3948390"/>
                </a:lnTo>
                <a:lnTo>
                  <a:pt x="1183839" y="3969580"/>
                </a:lnTo>
                <a:cubicBezTo>
                  <a:pt x="1377847" y="4081138"/>
                  <a:pt x="1520277" y="4272289"/>
                  <a:pt x="1566559" y="4498463"/>
                </a:cubicBezTo>
                <a:lnTo>
                  <a:pt x="1577092" y="4602950"/>
                </a:lnTo>
                <a:lnTo>
                  <a:pt x="0" y="4602950"/>
                </a:lnTo>
                <a:lnTo>
                  <a:pt x="10534" y="4498463"/>
                </a:lnTo>
                <a:cubicBezTo>
                  <a:pt x="56816" y="4272289"/>
                  <a:pt x="199246" y="4081138"/>
                  <a:pt x="393255" y="3969580"/>
                </a:cubicBezTo>
                <a:lnTo>
                  <a:pt x="438675" y="3948390"/>
                </a:lnTo>
                <a:lnTo>
                  <a:pt x="330473" y="3361214"/>
                </a:lnTo>
                <a:lnTo>
                  <a:pt x="340862" y="3297943"/>
                </a:lnTo>
                <a:cubicBezTo>
                  <a:pt x="349348" y="3273276"/>
                  <a:pt x="360679" y="3250449"/>
                  <a:pt x="374348" y="3230084"/>
                </a:cubicBezTo>
                <a:lnTo>
                  <a:pt x="400339" y="3201047"/>
                </a:lnTo>
                <a:lnTo>
                  <a:pt x="322880" y="3110756"/>
                </a:lnTo>
                <a:cubicBezTo>
                  <a:pt x="267986" y="3046768"/>
                  <a:pt x="283977" y="2937741"/>
                  <a:pt x="353773" y="2837154"/>
                </a:cubicBezTo>
                <a:lnTo>
                  <a:pt x="405273" y="2780511"/>
                </a:lnTo>
                <a:lnTo>
                  <a:pt x="1005359" y="2395676"/>
                </a:lnTo>
                <a:lnTo>
                  <a:pt x="988063" y="2361529"/>
                </a:lnTo>
                <a:cubicBezTo>
                  <a:pt x="640709" y="1586944"/>
                  <a:pt x="838400" y="661814"/>
                  <a:pt x="1490754" y="98742"/>
                </a:cubicBezTo>
                <a:close/>
              </a:path>
            </a:pathLst>
          </a:custGeom>
          <a:solidFill>
            <a:srgbClr val="9d75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任意多边形 1"/>
          <p:cNvSpPr/>
          <p:nvPr/>
        </p:nvSpPr>
        <p:spPr>
          <a:xfrm>
            <a:off x="1247760" y="973080"/>
            <a:ext cx="3772080" cy="4913280"/>
          </a:xfrm>
          <a:custGeom>
            <a:avLst/>
            <a:gdLst/>
            <a:ahLst/>
            <a:rect l="l" t="t" r="r" b="b"/>
            <a:pathLst>
              <a:path w="3771900" h="4914514">
                <a:moveTo>
                  <a:pt x="0" y="0"/>
                </a:moveTo>
                <a:lnTo>
                  <a:pt x="3771900" y="0"/>
                </a:lnTo>
                <a:lnTo>
                  <a:pt x="3771900" y="1646878"/>
                </a:lnTo>
                <a:cubicBezTo>
                  <a:pt x="3411710" y="1646878"/>
                  <a:pt x="3119718" y="1938870"/>
                  <a:pt x="3119718" y="2299060"/>
                </a:cubicBezTo>
                <a:cubicBezTo>
                  <a:pt x="3119718" y="2659250"/>
                  <a:pt x="3411710" y="2951242"/>
                  <a:pt x="3771900" y="2951242"/>
                </a:cubicBezTo>
                <a:lnTo>
                  <a:pt x="3771900" y="4914514"/>
                </a:lnTo>
                <a:lnTo>
                  <a:pt x="0" y="4914514"/>
                </a:lnTo>
                <a:lnTo>
                  <a:pt x="0" y="0"/>
                </a:lnTo>
                <a:close/>
              </a:path>
            </a:pathLst>
          </a:custGeom>
          <a:noFill/>
          <a:ln w="12600">
            <a:solidFill>
              <a:srgbClr val="00924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任意多边形 2"/>
          <p:cNvSpPr/>
          <p:nvPr/>
        </p:nvSpPr>
        <p:spPr>
          <a:xfrm>
            <a:off x="6570720" y="973080"/>
            <a:ext cx="4424400" cy="4913280"/>
          </a:xfrm>
          <a:custGeom>
            <a:avLst/>
            <a:gdLst/>
            <a:ahLst/>
            <a:rect l="l" t="t" r="r" b="b"/>
            <a:pathLst>
              <a:path w="4424082" h="4914514">
                <a:moveTo>
                  <a:pt x="652182" y="0"/>
                </a:moveTo>
                <a:lnTo>
                  <a:pt x="4424082" y="0"/>
                </a:lnTo>
                <a:lnTo>
                  <a:pt x="4424082" y="4914514"/>
                </a:lnTo>
                <a:lnTo>
                  <a:pt x="652182" y="4914514"/>
                </a:lnTo>
                <a:lnTo>
                  <a:pt x="652182" y="2951242"/>
                </a:lnTo>
                <a:cubicBezTo>
                  <a:pt x="291992" y="2951242"/>
                  <a:pt x="0" y="2659250"/>
                  <a:pt x="0" y="2299060"/>
                </a:cubicBezTo>
                <a:cubicBezTo>
                  <a:pt x="0" y="1938870"/>
                  <a:pt x="291992" y="1646878"/>
                  <a:pt x="652182" y="1646878"/>
                </a:cubicBezTo>
                <a:close/>
              </a:path>
            </a:pathLst>
          </a:custGeom>
          <a:noFill/>
          <a:ln w="12600">
            <a:solidFill>
              <a:srgbClr val="c0272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椭圆 3"/>
          <p:cNvSpPr/>
          <p:nvPr/>
        </p:nvSpPr>
        <p:spPr>
          <a:xfrm>
            <a:off x="4506840" y="2762280"/>
            <a:ext cx="1027080" cy="1027080"/>
          </a:xfrm>
          <a:prstGeom prst="ellipse">
            <a:avLst/>
          </a:prstGeom>
          <a:solidFill>
            <a:srgbClr val="7cbb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椭圆 4"/>
          <p:cNvSpPr/>
          <p:nvPr/>
        </p:nvSpPr>
        <p:spPr>
          <a:xfrm>
            <a:off x="6689880" y="2773440"/>
            <a:ext cx="1027080" cy="1027080"/>
          </a:xfrm>
          <a:prstGeom prst="ellipse">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KSO_Shape"/>
          <p:cNvSpPr/>
          <p:nvPr/>
        </p:nvSpPr>
        <p:spPr>
          <a:xfrm>
            <a:off x="4600440" y="2968560"/>
            <a:ext cx="797040" cy="689040"/>
          </a:xfrm>
          <a:custGeom>
            <a:avLst/>
            <a:gdLst/>
            <a:ahLst/>
            <a:rect l="l" t="t" r="r" b="b"/>
            <a:pathLst>
              <a:path w="1360" h="1358">
                <a:moveTo>
                  <a:pt x="1331" y="0"/>
                </a:moveTo>
                <a:lnTo>
                  <a:pt x="1360" y="54"/>
                </a:lnTo>
                <a:lnTo>
                  <a:pt x="1287" y="109"/>
                </a:lnTo>
                <a:lnTo>
                  <a:pt x="1216" y="169"/>
                </a:lnTo>
                <a:lnTo>
                  <a:pt x="1145" y="232"/>
                </a:lnTo>
                <a:lnTo>
                  <a:pt x="1076" y="299"/>
                </a:lnTo>
                <a:lnTo>
                  <a:pt x="1007" y="368"/>
                </a:lnTo>
                <a:lnTo>
                  <a:pt x="941" y="443"/>
                </a:lnTo>
                <a:lnTo>
                  <a:pt x="876" y="520"/>
                </a:lnTo>
                <a:lnTo>
                  <a:pt x="813" y="602"/>
                </a:lnTo>
                <a:lnTo>
                  <a:pt x="751" y="685"/>
                </a:lnTo>
                <a:lnTo>
                  <a:pt x="693" y="765"/>
                </a:lnTo>
                <a:lnTo>
                  <a:pt x="642" y="848"/>
                </a:lnTo>
                <a:lnTo>
                  <a:pt x="594" y="930"/>
                </a:lnTo>
                <a:lnTo>
                  <a:pt x="551" y="1011"/>
                </a:lnTo>
                <a:lnTo>
                  <a:pt x="511" y="1091"/>
                </a:lnTo>
                <a:lnTo>
                  <a:pt x="476" y="1172"/>
                </a:lnTo>
                <a:lnTo>
                  <a:pt x="446" y="1251"/>
                </a:lnTo>
                <a:lnTo>
                  <a:pt x="401" y="1281"/>
                </a:lnTo>
                <a:lnTo>
                  <a:pt x="375" y="1300"/>
                </a:lnTo>
                <a:lnTo>
                  <a:pt x="348" y="1320"/>
                </a:lnTo>
                <a:lnTo>
                  <a:pt x="325" y="1339"/>
                </a:lnTo>
                <a:lnTo>
                  <a:pt x="304" y="1358"/>
                </a:lnTo>
                <a:lnTo>
                  <a:pt x="298" y="1337"/>
                </a:lnTo>
                <a:lnTo>
                  <a:pt x="290" y="1310"/>
                </a:lnTo>
                <a:lnTo>
                  <a:pt x="279" y="1276"/>
                </a:lnTo>
                <a:lnTo>
                  <a:pt x="263" y="1237"/>
                </a:lnTo>
                <a:lnTo>
                  <a:pt x="240" y="1178"/>
                </a:lnTo>
                <a:lnTo>
                  <a:pt x="221" y="1132"/>
                </a:lnTo>
                <a:lnTo>
                  <a:pt x="204" y="1088"/>
                </a:lnTo>
                <a:lnTo>
                  <a:pt x="186" y="1049"/>
                </a:lnTo>
                <a:lnTo>
                  <a:pt x="171" y="1013"/>
                </a:lnTo>
                <a:lnTo>
                  <a:pt x="156" y="982"/>
                </a:lnTo>
                <a:lnTo>
                  <a:pt x="140" y="953"/>
                </a:lnTo>
                <a:lnTo>
                  <a:pt x="125" y="928"/>
                </a:lnTo>
                <a:lnTo>
                  <a:pt x="111" y="907"/>
                </a:lnTo>
                <a:lnTo>
                  <a:pt x="100" y="890"/>
                </a:lnTo>
                <a:lnTo>
                  <a:pt x="86" y="873"/>
                </a:lnTo>
                <a:lnTo>
                  <a:pt x="71" y="859"/>
                </a:lnTo>
                <a:lnTo>
                  <a:pt x="58" y="848"/>
                </a:lnTo>
                <a:lnTo>
                  <a:pt x="44" y="838"/>
                </a:lnTo>
                <a:lnTo>
                  <a:pt x="29" y="832"/>
                </a:lnTo>
                <a:lnTo>
                  <a:pt x="15" y="827"/>
                </a:lnTo>
                <a:lnTo>
                  <a:pt x="0" y="825"/>
                </a:lnTo>
                <a:lnTo>
                  <a:pt x="19" y="806"/>
                </a:lnTo>
                <a:lnTo>
                  <a:pt x="38" y="790"/>
                </a:lnTo>
                <a:lnTo>
                  <a:pt x="58" y="777"/>
                </a:lnTo>
                <a:lnTo>
                  <a:pt x="77" y="765"/>
                </a:lnTo>
                <a:lnTo>
                  <a:pt x="94" y="758"/>
                </a:lnTo>
                <a:lnTo>
                  <a:pt x="109" y="752"/>
                </a:lnTo>
                <a:lnTo>
                  <a:pt x="127" y="748"/>
                </a:lnTo>
                <a:lnTo>
                  <a:pt x="142" y="746"/>
                </a:lnTo>
                <a:lnTo>
                  <a:pt x="163" y="750"/>
                </a:lnTo>
                <a:lnTo>
                  <a:pt x="184" y="761"/>
                </a:lnTo>
                <a:lnTo>
                  <a:pt x="207" y="779"/>
                </a:lnTo>
                <a:lnTo>
                  <a:pt x="231" y="806"/>
                </a:lnTo>
                <a:lnTo>
                  <a:pt x="254" y="838"/>
                </a:lnTo>
                <a:lnTo>
                  <a:pt x="277" y="878"/>
                </a:lnTo>
                <a:lnTo>
                  <a:pt x="302" y="924"/>
                </a:lnTo>
                <a:lnTo>
                  <a:pt x="327" y="980"/>
                </a:lnTo>
                <a:lnTo>
                  <a:pt x="363" y="1063"/>
                </a:lnTo>
                <a:lnTo>
                  <a:pt x="409" y="982"/>
                </a:lnTo>
                <a:lnTo>
                  <a:pt x="457" y="901"/>
                </a:lnTo>
                <a:lnTo>
                  <a:pt x="507" y="823"/>
                </a:lnTo>
                <a:lnTo>
                  <a:pt x="561" y="744"/>
                </a:lnTo>
                <a:lnTo>
                  <a:pt x="615" y="669"/>
                </a:lnTo>
                <a:lnTo>
                  <a:pt x="672" y="596"/>
                </a:lnTo>
                <a:lnTo>
                  <a:pt x="732" y="524"/>
                </a:lnTo>
                <a:lnTo>
                  <a:pt x="795" y="453"/>
                </a:lnTo>
                <a:lnTo>
                  <a:pt x="859" y="385"/>
                </a:lnTo>
                <a:lnTo>
                  <a:pt x="924" y="320"/>
                </a:lnTo>
                <a:lnTo>
                  <a:pt x="989" y="259"/>
                </a:lnTo>
                <a:lnTo>
                  <a:pt x="1055" y="199"/>
                </a:lnTo>
                <a:lnTo>
                  <a:pt x="1124" y="144"/>
                </a:lnTo>
                <a:lnTo>
                  <a:pt x="1191" y="92"/>
                </a:lnTo>
                <a:lnTo>
                  <a:pt x="1260" y="44"/>
                </a:lnTo>
                <a:lnTo>
                  <a:pt x="1331"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KSO_Shape"/>
          <p:cNvSpPr/>
          <p:nvPr/>
        </p:nvSpPr>
        <p:spPr>
          <a:xfrm>
            <a:off x="6819840" y="2889360"/>
            <a:ext cx="795240" cy="690480"/>
          </a:xfrm>
          <a:custGeom>
            <a:avLst/>
            <a:gdLst/>
            <a:ahLst/>
            <a:rect l="l" t="t" r="r" b="b"/>
            <a:pathLst>
              <a:path w="1360" h="1360">
                <a:moveTo>
                  <a:pt x="345" y="0"/>
                </a:moveTo>
                <a:lnTo>
                  <a:pt x="363" y="75"/>
                </a:lnTo>
                <a:lnTo>
                  <a:pt x="384" y="150"/>
                </a:lnTo>
                <a:lnTo>
                  <a:pt x="409" y="223"/>
                </a:lnTo>
                <a:lnTo>
                  <a:pt x="439" y="295"/>
                </a:lnTo>
                <a:lnTo>
                  <a:pt x="472" y="366"/>
                </a:lnTo>
                <a:lnTo>
                  <a:pt x="510" y="435"/>
                </a:lnTo>
                <a:lnTo>
                  <a:pt x="552" y="504"/>
                </a:lnTo>
                <a:lnTo>
                  <a:pt x="598" y="574"/>
                </a:lnTo>
                <a:lnTo>
                  <a:pt x="629" y="614"/>
                </a:lnTo>
                <a:lnTo>
                  <a:pt x="685" y="539"/>
                </a:lnTo>
                <a:lnTo>
                  <a:pt x="717" y="493"/>
                </a:lnTo>
                <a:lnTo>
                  <a:pt x="750" y="451"/>
                </a:lnTo>
                <a:lnTo>
                  <a:pt x="783" y="410"/>
                </a:lnTo>
                <a:lnTo>
                  <a:pt x="813" y="374"/>
                </a:lnTo>
                <a:lnTo>
                  <a:pt x="844" y="341"/>
                </a:lnTo>
                <a:lnTo>
                  <a:pt x="873" y="311"/>
                </a:lnTo>
                <a:lnTo>
                  <a:pt x="902" y="282"/>
                </a:lnTo>
                <a:lnTo>
                  <a:pt x="930" y="257"/>
                </a:lnTo>
                <a:lnTo>
                  <a:pt x="957" y="236"/>
                </a:lnTo>
                <a:lnTo>
                  <a:pt x="982" y="217"/>
                </a:lnTo>
                <a:lnTo>
                  <a:pt x="1007" y="199"/>
                </a:lnTo>
                <a:lnTo>
                  <a:pt x="1032" y="186"/>
                </a:lnTo>
                <a:lnTo>
                  <a:pt x="1055" y="176"/>
                </a:lnTo>
                <a:lnTo>
                  <a:pt x="1076" y="169"/>
                </a:lnTo>
                <a:lnTo>
                  <a:pt x="1099" y="165"/>
                </a:lnTo>
                <a:lnTo>
                  <a:pt x="1118" y="163"/>
                </a:lnTo>
                <a:lnTo>
                  <a:pt x="1139" y="165"/>
                </a:lnTo>
                <a:lnTo>
                  <a:pt x="1157" y="169"/>
                </a:lnTo>
                <a:lnTo>
                  <a:pt x="1176" y="176"/>
                </a:lnTo>
                <a:lnTo>
                  <a:pt x="1191" y="184"/>
                </a:lnTo>
                <a:lnTo>
                  <a:pt x="1208" y="198"/>
                </a:lnTo>
                <a:lnTo>
                  <a:pt x="1224" y="213"/>
                </a:lnTo>
                <a:lnTo>
                  <a:pt x="1237" y="230"/>
                </a:lnTo>
                <a:lnTo>
                  <a:pt x="1251" y="249"/>
                </a:lnTo>
                <a:lnTo>
                  <a:pt x="1262" y="269"/>
                </a:lnTo>
                <a:lnTo>
                  <a:pt x="1278" y="292"/>
                </a:lnTo>
                <a:lnTo>
                  <a:pt x="1226" y="320"/>
                </a:lnTo>
                <a:lnTo>
                  <a:pt x="1172" y="357"/>
                </a:lnTo>
                <a:lnTo>
                  <a:pt x="1116" y="399"/>
                </a:lnTo>
                <a:lnTo>
                  <a:pt x="1059" y="447"/>
                </a:lnTo>
                <a:lnTo>
                  <a:pt x="1001" y="503"/>
                </a:lnTo>
                <a:lnTo>
                  <a:pt x="942" y="564"/>
                </a:lnTo>
                <a:lnTo>
                  <a:pt x="880" y="633"/>
                </a:lnTo>
                <a:lnTo>
                  <a:pt x="817" y="708"/>
                </a:lnTo>
                <a:lnTo>
                  <a:pt x="762" y="777"/>
                </a:lnTo>
                <a:lnTo>
                  <a:pt x="802" y="825"/>
                </a:lnTo>
                <a:lnTo>
                  <a:pt x="832" y="861"/>
                </a:lnTo>
                <a:lnTo>
                  <a:pt x="861" y="894"/>
                </a:lnTo>
                <a:lnTo>
                  <a:pt x="892" y="925"/>
                </a:lnTo>
                <a:lnTo>
                  <a:pt x="921" y="953"/>
                </a:lnTo>
                <a:lnTo>
                  <a:pt x="950" y="980"/>
                </a:lnTo>
                <a:lnTo>
                  <a:pt x="978" y="1003"/>
                </a:lnTo>
                <a:lnTo>
                  <a:pt x="1007" y="1026"/>
                </a:lnTo>
                <a:lnTo>
                  <a:pt x="1034" y="1045"/>
                </a:lnTo>
                <a:lnTo>
                  <a:pt x="1063" y="1063"/>
                </a:lnTo>
                <a:lnTo>
                  <a:pt x="1090" y="1078"/>
                </a:lnTo>
                <a:lnTo>
                  <a:pt x="1116" y="1090"/>
                </a:lnTo>
                <a:lnTo>
                  <a:pt x="1143" y="1101"/>
                </a:lnTo>
                <a:lnTo>
                  <a:pt x="1170" y="1109"/>
                </a:lnTo>
                <a:lnTo>
                  <a:pt x="1197" y="1114"/>
                </a:lnTo>
                <a:lnTo>
                  <a:pt x="1222" y="1118"/>
                </a:lnTo>
                <a:lnTo>
                  <a:pt x="1247" y="1118"/>
                </a:lnTo>
                <a:lnTo>
                  <a:pt x="1291" y="1116"/>
                </a:lnTo>
                <a:lnTo>
                  <a:pt x="1333" y="1111"/>
                </a:lnTo>
                <a:lnTo>
                  <a:pt x="1360" y="1105"/>
                </a:lnTo>
                <a:lnTo>
                  <a:pt x="1360" y="1105"/>
                </a:lnTo>
                <a:lnTo>
                  <a:pt x="1343" y="1141"/>
                </a:lnTo>
                <a:lnTo>
                  <a:pt x="1329" y="1170"/>
                </a:lnTo>
                <a:lnTo>
                  <a:pt x="1316" y="1197"/>
                </a:lnTo>
                <a:lnTo>
                  <a:pt x="1304" y="1222"/>
                </a:lnTo>
                <a:lnTo>
                  <a:pt x="1291" y="1243"/>
                </a:lnTo>
                <a:lnTo>
                  <a:pt x="1279" y="1262"/>
                </a:lnTo>
                <a:lnTo>
                  <a:pt x="1270" y="1279"/>
                </a:lnTo>
                <a:lnTo>
                  <a:pt x="1258" y="1293"/>
                </a:lnTo>
                <a:lnTo>
                  <a:pt x="1249" y="1304"/>
                </a:lnTo>
                <a:lnTo>
                  <a:pt x="1224" y="1325"/>
                </a:lnTo>
                <a:lnTo>
                  <a:pt x="1195" y="1341"/>
                </a:lnTo>
                <a:lnTo>
                  <a:pt x="1164" y="1348"/>
                </a:lnTo>
                <a:lnTo>
                  <a:pt x="1128" y="1352"/>
                </a:lnTo>
                <a:lnTo>
                  <a:pt x="1107" y="1350"/>
                </a:lnTo>
                <a:lnTo>
                  <a:pt x="1084" y="1347"/>
                </a:lnTo>
                <a:lnTo>
                  <a:pt x="1061" y="1341"/>
                </a:lnTo>
                <a:lnTo>
                  <a:pt x="1038" y="1331"/>
                </a:lnTo>
                <a:lnTo>
                  <a:pt x="1013" y="1320"/>
                </a:lnTo>
                <a:lnTo>
                  <a:pt x="988" y="1306"/>
                </a:lnTo>
                <a:lnTo>
                  <a:pt x="961" y="1289"/>
                </a:lnTo>
                <a:lnTo>
                  <a:pt x="934" y="1270"/>
                </a:lnTo>
                <a:lnTo>
                  <a:pt x="907" y="1249"/>
                </a:lnTo>
                <a:lnTo>
                  <a:pt x="879" y="1224"/>
                </a:lnTo>
                <a:lnTo>
                  <a:pt x="850" y="1199"/>
                </a:lnTo>
                <a:lnTo>
                  <a:pt x="819" y="1168"/>
                </a:lnTo>
                <a:lnTo>
                  <a:pt x="788" y="1137"/>
                </a:lnTo>
                <a:lnTo>
                  <a:pt x="758" y="1103"/>
                </a:lnTo>
                <a:lnTo>
                  <a:pt x="725" y="1067"/>
                </a:lnTo>
                <a:lnTo>
                  <a:pt x="692" y="1026"/>
                </a:lnTo>
                <a:lnTo>
                  <a:pt x="629" y="951"/>
                </a:lnTo>
                <a:lnTo>
                  <a:pt x="597" y="997"/>
                </a:lnTo>
                <a:lnTo>
                  <a:pt x="568" y="1040"/>
                </a:lnTo>
                <a:lnTo>
                  <a:pt x="541" y="1078"/>
                </a:lnTo>
                <a:lnTo>
                  <a:pt x="512" y="1114"/>
                </a:lnTo>
                <a:lnTo>
                  <a:pt x="487" y="1147"/>
                </a:lnTo>
                <a:lnTo>
                  <a:pt x="460" y="1180"/>
                </a:lnTo>
                <a:lnTo>
                  <a:pt x="435" y="1207"/>
                </a:lnTo>
                <a:lnTo>
                  <a:pt x="412" y="1233"/>
                </a:lnTo>
                <a:lnTo>
                  <a:pt x="387" y="1256"/>
                </a:lnTo>
                <a:lnTo>
                  <a:pt x="366" y="1279"/>
                </a:lnTo>
                <a:lnTo>
                  <a:pt x="343" y="1297"/>
                </a:lnTo>
                <a:lnTo>
                  <a:pt x="322" y="1314"/>
                </a:lnTo>
                <a:lnTo>
                  <a:pt x="303" y="1327"/>
                </a:lnTo>
                <a:lnTo>
                  <a:pt x="282" y="1339"/>
                </a:lnTo>
                <a:lnTo>
                  <a:pt x="265" y="1348"/>
                </a:lnTo>
                <a:lnTo>
                  <a:pt x="246" y="1354"/>
                </a:lnTo>
                <a:lnTo>
                  <a:pt x="228" y="1358"/>
                </a:lnTo>
                <a:lnTo>
                  <a:pt x="211" y="1360"/>
                </a:lnTo>
                <a:lnTo>
                  <a:pt x="211" y="1360"/>
                </a:lnTo>
                <a:lnTo>
                  <a:pt x="198" y="1358"/>
                </a:lnTo>
                <a:lnTo>
                  <a:pt x="173" y="1352"/>
                </a:lnTo>
                <a:lnTo>
                  <a:pt x="150" y="1343"/>
                </a:lnTo>
                <a:lnTo>
                  <a:pt x="125" y="1327"/>
                </a:lnTo>
                <a:lnTo>
                  <a:pt x="100" y="1306"/>
                </a:lnTo>
                <a:lnTo>
                  <a:pt x="75" y="1279"/>
                </a:lnTo>
                <a:lnTo>
                  <a:pt x="50" y="1249"/>
                </a:lnTo>
                <a:lnTo>
                  <a:pt x="25" y="1212"/>
                </a:lnTo>
                <a:lnTo>
                  <a:pt x="0" y="1170"/>
                </a:lnTo>
                <a:lnTo>
                  <a:pt x="17" y="1174"/>
                </a:lnTo>
                <a:lnTo>
                  <a:pt x="33" y="1178"/>
                </a:lnTo>
                <a:lnTo>
                  <a:pt x="46" y="1180"/>
                </a:lnTo>
                <a:lnTo>
                  <a:pt x="58" y="1180"/>
                </a:lnTo>
                <a:lnTo>
                  <a:pt x="79" y="1178"/>
                </a:lnTo>
                <a:lnTo>
                  <a:pt x="102" y="1174"/>
                </a:lnTo>
                <a:lnTo>
                  <a:pt x="123" y="1168"/>
                </a:lnTo>
                <a:lnTo>
                  <a:pt x="146" y="1161"/>
                </a:lnTo>
                <a:lnTo>
                  <a:pt x="171" y="1149"/>
                </a:lnTo>
                <a:lnTo>
                  <a:pt x="194" y="1136"/>
                </a:lnTo>
                <a:lnTo>
                  <a:pt x="219" y="1118"/>
                </a:lnTo>
                <a:lnTo>
                  <a:pt x="242" y="1101"/>
                </a:lnTo>
                <a:lnTo>
                  <a:pt x="267" y="1080"/>
                </a:lnTo>
                <a:lnTo>
                  <a:pt x="293" y="1055"/>
                </a:lnTo>
                <a:lnTo>
                  <a:pt x="318" y="1030"/>
                </a:lnTo>
                <a:lnTo>
                  <a:pt x="345" y="1001"/>
                </a:lnTo>
                <a:lnTo>
                  <a:pt x="370" y="971"/>
                </a:lnTo>
                <a:lnTo>
                  <a:pt x="397" y="938"/>
                </a:lnTo>
                <a:lnTo>
                  <a:pt x="424" y="902"/>
                </a:lnTo>
                <a:lnTo>
                  <a:pt x="453" y="863"/>
                </a:lnTo>
                <a:lnTo>
                  <a:pt x="504" y="790"/>
                </a:lnTo>
                <a:lnTo>
                  <a:pt x="466" y="740"/>
                </a:lnTo>
                <a:lnTo>
                  <a:pt x="434" y="698"/>
                </a:lnTo>
                <a:lnTo>
                  <a:pt x="405" y="658"/>
                </a:lnTo>
                <a:lnTo>
                  <a:pt x="376" y="618"/>
                </a:lnTo>
                <a:lnTo>
                  <a:pt x="349" y="581"/>
                </a:lnTo>
                <a:lnTo>
                  <a:pt x="326" y="545"/>
                </a:lnTo>
                <a:lnTo>
                  <a:pt x="303" y="510"/>
                </a:lnTo>
                <a:lnTo>
                  <a:pt x="284" y="478"/>
                </a:lnTo>
                <a:lnTo>
                  <a:pt x="267" y="447"/>
                </a:lnTo>
                <a:lnTo>
                  <a:pt x="249" y="416"/>
                </a:lnTo>
                <a:lnTo>
                  <a:pt x="236" y="389"/>
                </a:lnTo>
                <a:lnTo>
                  <a:pt x="224" y="363"/>
                </a:lnTo>
                <a:lnTo>
                  <a:pt x="215" y="338"/>
                </a:lnTo>
                <a:lnTo>
                  <a:pt x="209" y="315"/>
                </a:lnTo>
                <a:lnTo>
                  <a:pt x="203" y="293"/>
                </a:lnTo>
                <a:lnTo>
                  <a:pt x="199" y="272"/>
                </a:lnTo>
                <a:lnTo>
                  <a:pt x="199" y="255"/>
                </a:lnTo>
                <a:lnTo>
                  <a:pt x="201" y="228"/>
                </a:lnTo>
                <a:lnTo>
                  <a:pt x="207" y="201"/>
                </a:lnTo>
                <a:lnTo>
                  <a:pt x="219" y="173"/>
                </a:lnTo>
                <a:lnTo>
                  <a:pt x="236" y="140"/>
                </a:lnTo>
                <a:lnTo>
                  <a:pt x="255" y="107"/>
                </a:lnTo>
                <a:lnTo>
                  <a:pt x="280" y="73"/>
                </a:lnTo>
                <a:lnTo>
                  <a:pt x="311" y="38"/>
                </a:lnTo>
                <a:lnTo>
                  <a:pt x="345" y="0"/>
                </a:lnTo>
                <a:close/>
              </a:path>
            </a:pathLst>
          </a:custGeom>
          <a:solidFill>
            <a:srgbClr val="ffffff"/>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KSO_Shape"/>
          <p:cNvSpPr/>
          <p:nvPr/>
        </p:nvSpPr>
        <p:spPr>
          <a:xfrm>
            <a:off x="1459080" y="146196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KSO_Shape"/>
          <p:cNvSpPr/>
          <p:nvPr/>
        </p:nvSpPr>
        <p:spPr>
          <a:xfrm>
            <a:off x="7756560" y="15890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文本框 18"/>
          <p:cNvSpPr/>
          <p:nvPr/>
        </p:nvSpPr>
        <p:spPr>
          <a:xfrm>
            <a:off x="2028240" y="1436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69" name="TextBox 15"/>
          <p:cNvSpPr/>
          <p:nvPr/>
        </p:nvSpPr>
        <p:spPr>
          <a:xfrm>
            <a:off x="1987560" y="170820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0" name="KSO_Shape"/>
          <p:cNvSpPr/>
          <p:nvPr/>
        </p:nvSpPr>
        <p:spPr>
          <a:xfrm>
            <a:off x="1459080" y="4371840"/>
            <a:ext cx="488880" cy="48744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文本框 21"/>
          <p:cNvSpPr/>
          <p:nvPr/>
        </p:nvSpPr>
        <p:spPr>
          <a:xfrm>
            <a:off x="2028240" y="43466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2" name="TextBox 15"/>
          <p:cNvSpPr/>
          <p:nvPr/>
        </p:nvSpPr>
        <p:spPr>
          <a:xfrm>
            <a:off x="1987560" y="461808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3" name="文本框 23"/>
          <p:cNvSpPr/>
          <p:nvPr/>
        </p:nvSpPr>
        <p:spPr>
          <a:xfrm>
            <a:off x="8344800" y="151776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4" name="TextBox 15"/>
          <p:cNvSpPr/>
          <p:nvPr/>
        </p:nvSpPr>
        <p:spPr>
          <a:xfrm>
            <a:off x="8304120" y="178920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5" name="KSO_Shape"/>
          <p:cNvSpPr/>
          <p:nvPr/>
        </p:nvSpPr>
        <p:spPr>
          <a:xfrm>
            <a:off x="7756560" y="4344840"/>
            <a:ext cx="488880" cy="4874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文本框 26"/>
          <p:cNvSpPr/>
          <p:nvPr/>
        </p:nvSpPr>
        <p:spPr>
          <a:xfrm>
            <a:off x="8344800" y="428472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77" name="TextBox 15"/>
          <p:cNvSpPr/>
          <p:nvPr/>
        </p:nvSpPr>
        <p:spPr>
          <a:xfrm>
            <a:off x="8304120" y="45496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78" name="KSO_Shape"/>
          <p:cNvSpPr/>
          <p:nvPr/>
        </p:nvSpPr>
        <p:spPr>
          <a:xfrm>
            <a:off x="1459080" y="2882880"/>
            <a:ext cx="488880" cy="488880"/>
          </a:xfrm>
          <a:custGeom>
            <a:avLst/>
            <a:gdLst/>
            <a:ahLst/>
            <a:rect l="l" t="t" r="r" b="b"/>
            <a:pathLst>
              <a:path w="1360" h="1360">
                <a:moveTo>
                  <a:pt x="83" y="161"/>
                </a:moveTo>
                <a:lnTo>
                  <a:pt x="83" y="1274"/>
                </a:lnTo>
                <a:lnTo>
                  <a:pt x="1179" y="1274"/>
                </a:lnTo>
                <a:lnTo>
                  <a:pt x="1179" y="192"/>
                </a:lnTo>
                <a:lnTo>
                  <a:pt x="1081" y="286"/>
                </a:lnTo>
                <a:lnTo>
                  <a:pt x="991" y="387"/>
                </a:lnTo>
                <a:lnTo>
                  <a:pt x="903" y="493"/>
                </a:lnTo>
                <a:lnTo>
                  <a:pt x="822" y="604"/>
                </a:lnTo>
                <a:lnTo>
                  <a:pt x="784" y="660"/>
                </a:lnTo>
                <a:lnTo>
                  <a:pt x="747" y="715"/>
                </a:lnTo>
                <a:lnTo>
                  <a:pt x="715" y="771"/>
                </a:lnTo>
                <a:lnTo>
                  <a:pt x="684" y="825"/>
                </a:lnTo>
                <a:lnTo>
                  <a:pt x="657" y="880"/>
                </a:lnTo>
                <a:lnTo>
                  <a:pt x="632" y="932"/>
                </a:lnTo>
                <a:lnTo>
                  <a:pt x="609" y="986"/>
                </a:lnTo>
                <a:lnTo>
                  <a:pt x="590" y="1038"/>
                </a:lnTo>
                <a:lnTo>
                  <a:pt x="551" y="1063"/>
                </a:lnTo>
                <a:lnTo>
                  <a:pt x="507" y="1095"/>
                </a:lnTo>
                <a:lnTo>
                  <a:pt x="469" y="1128"/>
                </a:lnTo>
                <a:lnTo>
                  <a:pt x="463" y="1109"/>
                </a:lnTo>
                <a:lnTo>
                  <a:pt x="455" y="1086"/>
                </a:lnTo>
                <a:lnTo>
                  <a:pt x="446" y="1059"/>
                </a:lnTo>
                <a:lnTo>
                  <a:pt x="434" y="1026"/>
                </a:lnTo>
                <a:lnTo>
                  <a:pt x="415" y="978"/>
                </a:lnTo>
                <a:lnTo>
                  <a:pt x="400" y="938"/>
                </a:lnTo>
                <a:lnTo>
                  <a:pt x="384" y="903"/>
                </a:lnTo>
                <a:lnTo>
                  <a:pt x="371" y="871"/>
                </a:lnTo>
                <a:lnTo>
                  <a:pt x="355" y="842"/>
                </a:lnTo>
                <a:lnTo>
                  <a:pt x="344" y="815"/>
                </a:lnTo>
                <a:lnTo>
                  <a:pt x="330" y="790"/>
                </a:lnTo>
                <a:lnTo>
                  <a:pt x="319" y="771"/>
                </a:lnTo>
                <a:lnTo>
                  <a:pt x="307" y="754"/>
                </a:lnTo>
                <a:lnTo>
                  <a:pt x="284" y="725"/>
                </a:lnTo>
                <a:lnTo>
                  <a:pt x="261" y="704"/>
                </a:lnTo>
                <a:lnTo>
                  <a:pt x="236" y="691"/>
                </a:lnTo>
                <a:lnTo>
                  <a:pt x="211" y="685"/>
                </a:lnTo>
                <a:lnTo>
                  <a:pt x="229" y="669"/>
                </a:lnTo>
                <a:lnTo>
                  <a:pt x="246" y="656"/>
                </a:lnTo>
                <a:lnTo>
                  <a:pt x="261" y="645"/>
                </a:lnTo>
                <a:lnTo>
                  <a:pt x="277" y="637"/>
                </a:lnTo>
                <a:lnTo>
                  <a:pt x="292" y="629"/>
                </a:lnTo>
                <a:lnTo>
                  <a:pt x="305" y="623"/>
                </a:lnTo>
                <a:lnTo>
                  <a:pt x="321" y="621"/>
                </a:lnTo>
                <a:lnTo>
                  <a:pt x="332" y="620"/>
                </a:lnTo>
                <a:lnTo>
                  <a:pt x="352" y="623"/>
                </a:lnTo>
                <a:lnTo>
                  <a:pt x="369" y="633"/>
                </a:lnTo>
                <a:lnTo>
                  <a:pt x="388" y="648"/>
                </a:lnTo>
                <a:lnTo>
                  <a:pt x="407" y="669"/>
                </a:lnTo>
                <a:lnTo>
                  <a:pt x="426" y="696"/>
                </a:lnTo>
                <a:lnTo>
                  <a:pt x="446" y="729"/>
                </a:lnTo>
                <a:lnTo>
                  <a:pt x="467" y="769"/>
                </a:lnTo>
                <a:lnTo>
                  <a:pt x="488" y="813"/>
                </a:lnTo>
                <a:lnTo>
                  <a:pt x="519" y="882"/>
                </a:lnTo>
                <a:lnTo>
                  <a:pt x="576" y="783"/>
                </a:lnTo>
                <a:lnTo>
                  <a:pt x="640" y="685"/>
                </a:lnTo>
                <a:lnTo>
                  <a:pt x="707" y="591"/>
                </a:lnTo>
                <a:lnTo>
                  <a:pt x="778" y="501"/>
                </a:lnTo>
                <a:lnTo>
                  <a:pt x="855" y="410"/>
                </a:lnTo>
                <a:lnTo>
                  <a:pt x="935" y="324"/>
                </a:lnTo>
                <a:lnTo>
                  <a:pt x="1020" y="242"/>
                </a:lnTo>
                <a:lnTo>
                  <a:pt x="1110" y="161"/>
                </a:lnTo>
                <a:lnTo>
                  <a:pt x="83" y="161"/>
                </a:lnTo>
                <a:lnTo>
                  <a:pt x="83" y="161"/>
                </a:lnTo>
                <a:close/>
                <a:moveTo>
                  <a:pt x="1337" y="0"/>
                </a:moveTo>
                <a:lnTo>
                  <a:pt x="1360" y="46"/>
                </a:lnTo>
                <a:lnTo>
                  <a:pt x="1316" y="79"/>
                </a:lnTo>
                <a:lnTo>
                  <a:pt x="1264" y="119"/>
                </a:lnTo>
                <a:lnTo>
                  <a:pt x="1264" y="1360"/>
                </a:lnTo>
                <a:lnTo>
                  <a:pt x="0" y="1360"/>
                </a:lnTo>
                <a:lnTo>
                  <a:pt x="0" y="77"/>
                </a:lnTo>
                <a:lnTo>
                  <a:pt x="1222" y="77"/>
                </a:lnTo>
                <a:lnTo>
                  <a:pt x="1281" y="35"/>
                </a:lnTo>
                <a:lnTo>
                  <a:pt x="1337" y="0"/>
                </a:lnTo>
                <a:lnTo>
                  <a:pt x="1337" y="0"/>
                </a:lnTo>
                <a:close/>
              </a:path>
            </a:pathLst>
          </a:custGeom>
          <a:solidFill>
            <a:srgbClr val="66a1a0"/>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文本框 29"/>
          <p:cNvSpPr/>
          <p:nvPr/>
        </p:nvSpPr>
        <p:spPr>
          <a:xfrm>
            <a:off x="2028240" y="285768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0" name="TextBox 15"/>
          <p:cNvSpPr/>
          <p:nvPr/>
        </p:nvSpPr>
        <p:spPr>
          <a:xfrm>
            <a:off x="1987560" y="3129120"/>
            <a:ext cx="2513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
        <p:nvSpPr>
          <p:cNvPr id="281" name="KSO_Shape"/>
          <p:cNvSpPr/>
          <p:nvPr/>
        </p:nvSpPr>
        <p:spPr>
          <a:xfrm>
            <a:off x="7756560" y="2895480"/>
            <a:ext cx="488880" cy="489240"/>
          </a:xfrm>
          <a:custGeom>
            <a:avLst/>
            <a:gdLst/>
            <a:ahLst/>
            <a:rect l="l" t="t" r="r" b="b"/>
            <a:pathLst>
              <a:path w="1360" h="1360">
                <a:moveTo>
                  <a:pt x="449" y="211"/>
                </a:moveTo>
                <a:lnTo>
                  <a:pt x="461" y="257"/>
                </a:lnTo>
                <a:lnTo>
                  <a:pt x="474" y="303"/>
                </a:lnTo>
                <a:lnTo>
                  <a:pt x="494" y="349"/>
                </a:lnTo>
                <a:lnTo>
                  <a:pt x="513" y="395"/>
                </a:lnTo>
                <a:lnTo>
                  <a:pt x="536" y="439"/>
                </a:lnTo>
                <a:lnTo>
                  <a:pt x="563" y="481"/>
                </a:lnTo>
                <a:lnTo>
                  <a:pt x="592" y="526"/>
                </a:lnTo>
                <a:lnTo>
                  <a:pt x="624" y="568"/>
                </a:lnTo>
                <a:lnTo>
                  <a:pt x="645" y="593"/>
                </a:lnTo>
                <a:lnTo>
                  <a:pt x="684" y="547"/>
                </a:lnTo>
                <a:lnTo>
                  <a:pt x="730" y="491"/>
                </a:lnTo>
                <a:lnTo>
                  <a:pt x="774" y="443"/>
                </a:lnTo>
                <a:lnTo>
                  <a:pt x="814" y="403"/>
                </a:lnTo>
                <a:lnTo>
                  <a:pt x="855" y="370"/>
                </a:lnTo>
                <a:lnTo>
                  <a:pt x="891" y="345"/>
                </a:lnTo>
                <a:lnTo>
                  <a:pt x="924" y="326"/>
                </a:lnTo>
                <a:lnTo>
                  <a:pt x="957" y="315"/>
                </a:lnTo>
                <a:lnTo>
                  <a:pt x="985" y="311"/>
                </a:lnTo>
                <a:lnTo>
                  <a:pt x="1012" y="315"/>
                </a:lnTo>
                <a:lnTo>
                  <a:pt x="1035" y="326"/>
                </a:lnTo>
                <a:lnTo>
                  <a:pt x="1058" y="341"/>
                </a:lnTo>
                <a:lnTo>
                  <a:pt x="1076" y="366"/>
                </a:lnTo>
                <a:lnTo>
                  <a:pt x="1083" y="378"/>
                </a:lnTo>
                <a:lnTo>
                  <a:pt x="1095" y="391"/>
                </a:lnTo>
                <a:lnTo>
                  <a:pt x="1058" y="410"/>
                </a:lnTo>
                <a:lnTo>
                  <a:pt x="1022" y="432"/>
                </a:lnTo>
                <a:lnTo>
                  <a:pt x="984" y="458"/>
                </a:lnTo>
                <a:lnTo>
                  <a:pt x="943" y="489"/>
                </a:lnTo>
                <a:lnTo>
                  <a:pt x="903" y="524"/>
                </a:lnTo>
                <a:lnTo>
                  <a:pt x="862" y="562"/>
                </a:lnTo>
                <a:lnTo>
                  <a:pt x="820" y="604"/>
                </a:lnTo>
                <a:lnTo>
                  <a:pt x="776" y="652"/>
                </a:lnTo>
                <a:lnTo>
                  <a:pt x="738" y="694"/>
                </a:lnTo>
                <a:lnTo>
                  <a:pt x="765" y="725"/>
                </a:lnTo>
                <a:lnTo>
                  <a:pt x="807" y="767"/>
                </a:lnTo>
                <a:lnTo>
                  <a:pt x="847" y="806"/>
                </a:lnTo>
                <a:lnTo>
                  <a:pt x="887" y="836"/>
                </a:lnTo>
                <a:lnTo>
                  <a:pt x="926" y="861"/>
                </a:lnTo>
                <a:lnTo>
                  <a:pt x="964" y="882"/>
                </a:lnTo>
                <a:lnTo>
                  <a:pt x="1003" y="896"/>
                </a:lnTo>
                <a:lnTo>
                  <a:pt x="1039" y="905"/>
                </a:lnTo>
                <a:lnTo>
                  <a:pt x="1076" y="907"/>
                </a:lnTo>
                <a:lnTo>
                  <a:pt x="1114" y="905"/>
                </a:lnTo>
                <a:lnTo>
                  <a:pt x="1153" y="900"/>
                </a:lnTo>
                <a:lnTo>
                  <a:pt x="1141" y="923"/>
                </a:lnTo>
                <a:lnTo>
                  <a:pt x="1129" y="942"/>
                </a:lnTo>
                <a:lnTo>
                  <a:pt x="1120" y="961"/>
                </a:lnTo>
                <a:lnTo>
                  <a:pt x="1110" y="978"/>
                </a:lnTo>
                <a:lnTo>
                  <a:pt x="1101" y="992"/>
                </a:lnTo>
                <a:lnTo>
                  <a:pt x="1091" y="1005"/>
                </a:lnTo>
                <a:lnTo>
                  <a:pt x="1083" y="1015"/>
                </a:lnTo>
                <a:lnTo>
                  <a:pt x="1076" y="1024"/>
                </a:lnTo>
                <a:lnTo>
                  <a:pt x="1058" y="1036"/>
                </a:lnTo>
                <a:lnTo>
                  <a:pt x="1037" y="1045"/>
                </a:lnTo>
                <a:lnTo>
                  <a:pt x="1016" y="1051"/>
                </a:lnTo>
                <a:lnTo>
                  <a:pt x="991" y="1053"/>
                </a:lnTo>
                <a:lnTo>
                  <a:pt x="960" y="1049"/>
                </a:lnTo>
                <a:lnTo>
                  <a:pt x="930" y="1040"/>
                </a:lnTo>
                <a:lnTo>
                  <a:pt x="895" y="1024"/>
                </a:lnTo>
                <a:lnTo>
                  <a:pt x="857" y="1003"/>
                </a:lnTo>
                <a:lnTo>
                  <a:pt x="818" y="974"/>
                </a:lnTo>
                <a:lnTo>
                  <a:pt x="778" y="940"/>
                </a:lnTo>
                <a:lnTo>
                  <a:pt x="734" y="898"/>
                </a:lnTo>
                <a:lnTo>
                  <a:pt x="690" y="850"/>
                </a:lnTo>
                <a:lnTo>
                  <a:pt x="645" y="804"/>
                </a:lnTo>
                <a:lnTo>
                  <a:pt x="624" y="832"/>
                </a:lnTo>
                <a:lnTo>
                  <a:pt x="582" y="886"/>
                </a:lnTo>
                <a:lnTo>
                  <a:pt x="542" y="932"/>
                </a:lnTo>
                <a:lnTo>
                  <a:pt x="505" y="971"/>
                </a:lnTo>
                <a:lnTo>
                  <a:pt x="471" y="1001"/>
                </a:lnTo>
                <a:lnTo>
                  <a:pt x="438" y="1026"/>
                </a:lnTo>
                <a:lnTo>
                  <a:pt x="407" y="1043"/>
                </a:lnTo>
                <a:lnTo>
                  <a:pt x="380" y="1055"/>
                </a:lnTo>
                <a:lnTo>
                  <a:pt x="355" y="1059"/>
                </a:lnTo>
                <a:lnTo>
                  <a:pt x="338" y="1057"/>
                </a:lnTo>
                <a:lnTo>
                  <a:pt x="319" y="1051"/>
                </a:lnTo>
                <a:lnTo>
                  <a:pt x="302" y="1042"/>
                </a:lnTo>
                <a:lnTo>
                  <a:pt x="284" y="1028"/>
                </a:lnTo>
                <a:lnTo>
                  <a:pt x="265" y="1013"/>
                </a:lnTo>
                <a:lnTo>
                  <a:pt x="248" y="992"/>
                </a:lnTo>
                <a:lnTo>
                  <a:pt x="229" y="969"/>
                </a:lnTo>
                <a:lnTo>
                  <a:pt x="209" y="940"/>
                </a:lnTo>
                <a:lnTo>
                  <a:pt x="232" y="944"/>
                </a:lnTo>
                <a:lnTo>
                  <a:pt x="248" y="946"/>
                </a:lnTo>
                <a:lnTo>
                  <a:pt x="279" y="942"/>
                </a:lnTo>
                <a:lnTo>
                  <a:pt x="311" y="934"/>
                </a:lnTo>
                <a:lnTo>
                  <a:pt x="344" y="919"/>
                </a:lnTo>
                <a:lnTo>
                  <a:pt x="376" y="896"/>
                </a:lnTo>
                <a:lnTo>
                  <a:pt x="413" y="869"/>
                </a:lnTo>
                <a:lnTo>
                  <a:pt x="448" y="834"/>
                </a:lnTo>
                <a:lnTo>
                  <a:pt x="486" y="794"/>
                </a:lnTo>
                <a:lnTo>
                  <a:pt x="522" y="748"/>
                </a:lnTo>
                <a:lnTo>
                  <a:pt x="559" y="704"/>
                </a:lnTo>
                <a:lnTo>
                  <a:pt x="532" y="671"/>
                </a:lnTo>
                <a:lnTo>
                  <a:pt x="490" y="620"/>
                </a:lnTo>
                <a:lnTo>
                  <a:pt x="451" y="572"/>
                </a:lnTo>
                <a:lnTo>
                  <a:pt x="419" y="528"/>
                </a:lnTo>
                <a:lnTo>
                  <a:pt x="394" y="489"/>
                </a:lnTo>
                <a:lnTo>
                  <a:pt x="373" y="453"/>
                </a:lnTo>
                <a:lnTo>
                  <a:pt x="359" y="420"/>
                </a:lnTo>
                <a:lnTo>
                  <a:pt x="350" y="393"/>
                </a:lnTo>
                <a:lnTo>
                  <a:pt x="348" y="368"/>
                </a:lnTo>
                <a:lnTo>
                  <a:pt x="350" y="353"/>
                </a:lnTo>
                <a:lnTo>
                  <a:pt x="353" y="336"/>
                </a:lnTo>
                <a:lnTo>
                  <a:pt x="361" y="318"/>
                </a:lnTo>
                <a:lnTo>
                  <a:pt x="373" y="297"/>
                </a:lnTo>
                <a:lnTo>
                  <a:pt x="386" y="278"/>
                </a:lnTo>
                <a:lnTo>
                  <a:pt x="405" y="257"/>
                </a:lnTo>
                <a:lnTo>
                  <a:pt x="425" y="234"/>
                </a:lnTo>
                <a:lnTo>
                  <a:pt x="449" y="211"/>
                </a:lnTo>
                <a:lnTo>
                  <a:pt x="449" y="211"/>
                </a:lnTo>
                <a:close/>
                <a:moveTo>
                  <a:pt x="92" y="90"/>
                </a:moveTo>
                <a:lnTo>
                  <a:pt x="92" y="1268"/>
                </a:lnTo>
                <a:lnTo>
                  <a:pt x="1270" y="1268"/>
                </a:lnTo>
                <a:lnTo>
                  <a:pt x="1270" y="90"/>
                </a:lnTo>
                <a:lnTo>
                  <a:pt x="92" y="90"/>
                </a:lnTo>
                <a:lnTo>
                  <a:pt x="92" y="90"/>
                </a:lnTo>
                <a:close/>
                <a:moveTo>
                  <a:pt x="0" y="0"/>
                </a:moveTo>
                <a:lnTo>
                  <a:pt x="1360" y="0"/>
                </a:lnTo>
                <a:lnTo>
                  <a:pt x="1360" y="1360"/>
                </a:lnTo>
                <a:lnTo>
                  <a:pt x="0" y="1360"/>
                </a:lnTo>
                <a:lnTo>
                  <a:pt x="0" y="0"/>
                </a:lnTo>
                <a:lnTo>
                  <a:pt x="0" y="0"/>
                </a:lnTo>
                <a:close/>
              </a:path>
            </a:pathLst>
          </a:custGeom>
          <a:solidFill>
            <a:srgbClr val="f6921e"/>
          </a:solidFill>
          <a:ln w="0">
            <a:noFill/>
          </a:ln>
        </p:spPr>
        <p:style>
          <a:lnRef idx="0"/>
          <a:fillRef idx="0"/>
          <a:effectRef idx="0"/>
          <a:fontRef idx="minor"/>
        </p:style>
        <p:txBody>
          <a:bodyPr lIns="68760" rIns="6876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文本框 32"/>
          <p:cNvSpPr/>
          <p:nvPr/>
        </p:nvSpPr>
        <p:spPr>
          <a:xfrm>
            <a:off x="8344800" y="2894040"/>
            <a:ext cx="132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KEYWORD</a:t>
            </a:r>
            <a:endParaRPr b="0" lang="en-US" sz="1800" spc="-1" strike="noStrike">
              <a:solidFill>
                <a:srgbClr val="000000"/>
              </a:solidFill>
              <a:latin typeface="Calibri"/>
            </a:endParaRPr>
          </a:p>
        </p:txBody>
      </p:sp>
      <p:sp>
        <p:nvSpPr>
          <p:cNvPr id="283" name="TextBox 15"/>
          <p:cNvSpPr/>
          <p:nvPr/>
        </p:nvSpPr>
        <p:spPr>
          <a:xfrm>
            <a:off x="8304120" y="3165480"/>
            <a:ext cx="2511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椭圆 1"/>
          <p:cNvSpPr/>
          <p:nvPr/>
        </p:nvSpPr>
        <p:spPr>
          <a:xfrm>
            <a:off x="6068880" y="2854440"/>
            <a:ext cx="1752840" cy="1752480"/>
          </a:xfrm>
          <a:prstGeom prst="ellipse">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5" name="组合 69"/>
          <p:cNvGrpSpPr/>
          <p:nvPr/>
        </p:nvGrpSpPr>
        <p:grpSpPr>
          <a:xfrm>
            <a:off x="7929720" y="1881360"/>
            <a:ext cx="1774800" cy="3633480"/>
            <a:chOff x="7929720" y="1881360"/>
            <a:chExt cx="1774800" cy="3633480"/>
          </a:xfrm>
        </p:grpSpPr>
        <p:sp>
          <p:nvSpPr>
            <p:cNvPr id="286" name="直接连接符 11"/>
            <p:cNvSpPr/>
            <p:nvPr/>
          </p:nvSpPr>
          <p:spPr>
            <a:xfrm>
              <a:off x="8609040" y="1881360"/>
              <a:ext cx="0" cy="36334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直接连接符 12"/>
            <p:cNvSpPr/>
            <p:nvPr/>
          </p:nvSpPr>
          <p:spPr>
            <a:xfrm>
              <a:off x="7929720" y="3668760"/>
              <a:ext cx="67932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直接连接符 13"/>
            <p:cNvSpPr/>
            <p:nvPr/>
          </p:nvSpPr>
          <p:spPr>
            <a:xfrm>
              <a:off x="8609040" y="188136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9" name="直接连接符 14"/>
            <p:cNvSpPr/>
            <p:nvPr/>
          </p:nvSpPr>
          <p:spPr>
            <a:xfrm>
              <a:off x="8609040" y="30924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直接连接符 15"/>
            <p:cNvSpPr/>
            <p:nvPr/>
          </p:nvSpPr>
          <p:spPr>
            <a:xfrm>
              <a:off x="8609040" y="430380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直接连接符 16"/>
            <p:cNvSpPr/>
            <p:nvPr/>
          </p:nvSpPr>
          <p:spPr>
            <a:xfrm>
              <a:off x="8609040" y="5514840"/>
              <a:ext cx="109548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2" name="椭圆 17"/>
          <p:cNvSpPr/>
          <p:nvPr/>
        </p:nvSpPr>
        <p:spPr>
          <a:xfrm>
            <a:off x="9653760" y="1830240"/>
            <a:ext cx="101520" cy="103320"/>
          </a:xfrm>
          <a:prstGeom prst="ellipse">
            <a:avLst/>
          </a:prstGeom>
          <a:solidFill>
            <a:srgbClr val="f05a24"/>
          </a:solidFill>
          <a:ln w="12600">
            <a:solidFill>
              <a:srgbClr val="ffffff"/>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椭圆 18"/>
          <p:cNvSpPr/>
          <p:nvPr/>
        </p:nvSpPr>
        <p:spPr>
          <a:xfrm>
            <a:off x="9653760" y="3048120"/>
            <a:ext cx="101520" cy="101520"/>
          </a:xfrm>
          <a:prstGeom prst="ellipse">
            <a:avLst/>
          </a:prstGeom>
          <a:solidFill>
            <a:srgbClr val="009145"/>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椭圆 19"/>
          <p:cNvSpPr/>
          <p:nvPr/>
        </p:nvSpPr>
        <p:spPr>
          <a:xfrm>
            <a:off x="9653760" y="4264200"/>
            <a:ext cx="101520" cy="101520"/>
          </a:xfrm>
          <a:prstGeom prst="ellipse">
            <a:avLst/>
          </a:prstGeom>
          <a:solidFill>
            <a:srgbClr val="c0272d"/>
          </a:solidFill>
          <a:ln w="12600">
            <a:solidFill>
              <a:srgbClr val="ffffff"/>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椭圆 20"/>
          <p:cNvSpPr/>
          <p:nvPr/>
        </p:nvSpPr>
        <p:spPr>
          <a:xfrm>
            <a:off x="9653760" y="5479920"/>
            <a:ext cx="101520" cy="101880"/>
          </a:xfrm>
          <a:prstGeom prst="ellipse">
            <a:avLst/>
          </a:prstGeom>
          <a:solidFill>
            <a:srgbClr val="f6921e"/>
          </a:solidFill>
          <a:ln w="12600">
            <a:solidFill>
              <a:srgbClr val="ffffff"/>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椭圆 21"/>
          <p:cNvSpPr/>
          <p:nvPr/>
        </p:nvSpPr>
        <p:spPr>
          <a:xfrm>
            <a:off x="5937120" y="2701800"/>
            <a:ext cx="1992600" cy="1992600"/>
          </a:xfrm>
          <a:prstGeom prst="ellipse">
            <a:avLst/>
          </a:prstGeom>
          <a:noFill/>
          <a:ln w="12600">
            <a:solidFill>
              <a:srgbClr val="9166a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KSO_Shape"/>
          <p:cNvSpPr/>
          <p:nvPr/>
        </p:nvSpPr>
        <p:spPr>
          <a:xfrm>
            <a:off x="6202440" y="3098880"/>
            <a:ext cx="1387440" cy="1141200"/>
          </a:xfrm>
          <a:custGeom>
            <a:avLst/>
            <a:gdLst/>
            <a:ahLst/>
            <a:rect l="l" t="t" r="r" b="b"/>
            <a:pathLst>
              <a:path w="1903412" h="1563688">
                <a:moveTo>
                  <a:pt x="872180" y="1544638"/>
                </a:moveTo>
                <a:lnTo>
                  <a:pt x="875675" y="1544638"/>
                </a:lnTo>
                <a:lnTo>
                  <a:pt x="1859905" y="1544638"/>
                </a:lnTo>
                <a:lnTo>
                  <a:pt x="1863400" y="1544638"/>
                </a:lnTo>
                <a:lnTo>
                  <a:pt x="1866577" y="1545233"/>
                </a:lnTo>
                <a:lnTo>
                  <a:pt x="1869118" y="1545829"/>
                </a:lnTo>
                <a:lnTo>
                  <a:pt x="1871660" y="1546722"/>
                </a:lnTo>
                <a:lnTo>
                  <a:pt x="1873884" y="1547912"/>
                </a:lnTo>
                <a:lnTo>
                  <a:pt x="1875154" y="1549103"/>
                </a:lnTo>
                <a:lnTo>
                  <a:pt x="1876107" y="1550591"/>
                </a:lnTo>
                <a:lnTo>
                  <a:pt x="1876425" y="1552079"/>
                </a:lnTo>
                <a:lnTo>
                  <a:pt x="1876425" y="1555651"/>
                </a:lnTo>
                <a:lnTo>
                  <a:pt x="1876107" y="1557140"/>
                </a:lnTo>
                <a:lnTo>
                  <a:pt x="1875154" y="1558926"/>
                </a:lnTo>
                <a:lnTo>
                  <a:pt x="1873884" y="1560116"/>
                </a:lnTo>
                <a:lnTo>
                  <a:pt x="1871660" y="1561307"/>
                </a:lnTo>
                <a:lnTo>
                  <a:pt x="1869118" y="1562200"/>
                </a:lnTo>
                <a:lnTo>
                  <a:pt x="1866577" y="1563093"/>
                </a:lnTo>
                <a:lnTo>
                  <a:pt x="1863400" y="1563390"/>
                </a:lnTo>
                <a:lnTo>
                  <a:pt x="1859905" y="1563688"/>
                </a:lnTo>
                <a:lnTo>
                  <a:pt x="875675" y="1563688"/>
                </a:lnTo>
                <a:lnTo>
                  <a:pt x="872180" y="1563390"/>
                </a:lnTo>
                <a:lnTo>
                  <a:pt x="869003" y="1563093"/>
                </a:lnTo>
                <a:lnTo>
                  <a:pt x="866144" y="1562200"/>
                </a:lnTo>
                <a:lnTo>
                  <a:pt x="863603" y="1561307"/>
                </a:lnTo>
                <a:lnTo>
                  <a:pt x="861696" y="1560116"/>
                </a:lnTo>
                <a:lnTo>
                  <a:pt x="860108" y="1558926"/>
                </a:lnTo>
                <a:lnTo>
                  <a:pt x="859155" y="1557140"/>
                </a:lnTo>
                <a:lnTo>
                  <a:pt x="858837" y="1555651"/>
                </a:lnTo>
                <a:lnTo>
                  <a:pt x="858837" y="1552079"/>
                </a:lnTo>
                <a:lnTo>
                  <a:pt x="859155" y="1550591"/>
                </a:lnTo>
                <a:lnTo>
                  <a:pt x="860108" y="1549103"/>
                </a:lnTo>
                <a:lnTo>
                  <a:pt x="861696" y="1547912"/>
                </a:lnTo>
                <a:lnTo>
                  <a:pt x="863603" y="1546722"/>
                </a:lnTo>
                <a:lnTo>
                  <a:pt x="866144" y="1545829"/>
                </a:lnTo>
                <a:lnTo>
                  <a:pt x="869003" y="1545233"/>
                </a:lnTo>
                <a:lnTo>
                  <a:pt x="872180" y="1544638"/>
                </a:lnTo>
                <a:close/>
                <a:moveTo>
                  <a:pt x="1255848" y="1415770"/>
                </a:moveTo>
                <a:lnTo>
                  <a:pt x="1252677" y="1416407"/>
                </a:lnTo>
                <a:lnTo>
                  <a:pt x="1249823" y="1417361"/>
                </a:lnTo>
                <a:lnTo>
                  <a:pt x="1247286" y="1419271"/>
                </a:lnTo>
                <a:lnTo>
                  <a:pt x="1245383" y="1420862"/>
                </a:lnTo>
                <a:lnTo>
                  <a:pt x="1243797" y="1422771"/>
                </a:lnTo>
                <a:lnTo>
                  <a:pt x="1242529" y="1424680"/>
                </a:lnTo>
                <a:lnTo>
                  <a:pt x="1242212" y="1426908"/>
                </a:lnTo>
                <a:lnTo>
                  <a:pt x="1235235" y="1522691"/>
                </a:lnTo>
                <a:lnTo>
                  <a:pt x="1235235" y="1525237"/>
                </a:lnTo>
                <a:lnTo>
                  <a:pt x="1236186" y="1527146"/>
                </a:lnTo>
                <a:lnTo>
                  <a:pt x="1237772" y="1529056"/>
                </a:lnTo>
                <a:lnTo>
                  <a:pt x="1239675" y="1530647"/>
                </a:lnTo>
                <a:lnTo>
                  <a:pt x="1242212" y="1532238"/>
                </a:lnTo>
                <a:lnTo>
                  <a:pt x="1245066" y="1533193"/>
                </a:lnTo>
                <a:lnTo>
                  <a:pt x="1247920" y="1533829"/>
                </a:lnTo>
                <a:lnTo>
                  <a:pt x="1251408" y="1534147"/>
                </a:lnTo>
                <a:lnTo>
                  <a:pt x="1488299" y="1535738"/>
                </a:lnTo>
                <a:lnTo>
                  <a:pt x="1491787" y="1535738"/>
                </a:lnTo>
                <a:lnTo>
                  <a:pt x="1494641" y="1535102"/>
                </a:lnTo>
                <a:lnTo>
                  <a:pt x="1497813" y="1533829"/>
                </a:lnTo>
                <a:lnTo>
                  <a:pt x="1500032" y="1532556"/>
                </a:lnTo>
                <a:lnTo>
                  <a:pt x="1502252" y="1530965"/>
                </a:lnTo>
                <a:lnTo>
                  <a:pt x="1503521" y="1529056"/>
                </a:lnTo>
                <a:lnTo>
                  <a:pt x="1504472" y="1526828"/>
                </a:lnTo>
                <a:lnTo>
                  <a:pt x="1504789" y="1524601"/>
                </a:lnTo>
                <a:lnTo>
                  <a:pt x="1499715" y="1428181"/>
                </a:lnTo>
                <a:lnTo>
                  <a:pt x="1499398" y="1425953"/>
                </a:lnTo>
                <a:lnTo>
                  <a:pt x="1498130" y="1424044"/>
                </a:lnTo>
                <a:lnTo>
                  <a:pt x="1496227" y="1422134"/>
                </a:lnTo>
                <a:lnTo>
                  <a:pt x="1494324" y="1420543"/>
                </a:lnTo>
                <a:lnTo>
                  <a:pt x="1491787" y="1418952"/>
                </a:lnTo>
                <a:lnTo>
                  <a:pt x="1489250" y="1417679"/>
                </a:lnTo>
                <a:lnTo>
                  <a:pt x="1486396" y="1417043"/>
                </a:lnTo>
                <a:lnTo>
                  <a:pt x="1483225" y="1416725"/>
                </a:lnTo>
                <a:lnTo>
                  <a:pt x="1259019" y="1415770"/>
                </a:lnTo>
                <a:lnTo>
                  <a:pt x="1255848" y="1415770"/>
                </a:lnTo>
                <a:close/>
                <a:moveTo>
                  <a:pt x="1699820" y="1377902"/>
                </a:moveTo>
                <a:lnTo>
                  <a:pt x="1703942" y="1405269"/>
                </a:lnTo>
                <a:lnTo>
                  <a:pt x="1750876" y="1405587"/>
                </a:lnTo>
                <a:lnTo>
                  <a:pt x="1746437" y="1378220"/>
                </a:lnTo>
                <a:lnTo>
                  <a:pt x="1699820" y="1377902"/>
                </a:lnTo>
                <a:close/>
                <a:moveTo>
                  <a:pt x="1636078" y="1377902"/>
                </a:moveTo>
                <a:lnTo>
                  <a:pt x="1639249" y="1404951"/>
                </a:lnTo>
                <a:lnTo>
                  <a:pt x="1686183" y="1405269"/>
                </a:lnTo>
                <a:lnTo>
                  <a:pt x="1682378" y="1377902"/>
                </a:lnTo>
                <a:lnTo>
                  <a:pt x="1636078" y="1377902"/>
                </a:lnTo>
                <a:close/>
                <a:moveTo>
                  <a:pt x="1572019" y="1377584"/>
                </a:moveTo>
                <a:lnTo>
                  <a:pt x="1574239" y="1404633"/>
                </a:lnTo>
                <a:lnTo>
                  <a:pt x="1621490" y="1404951"/>
                </a:lnTo>
                <a:lnTo>
                  <a:pt x="1618636" y="1377584"/>
                </a:lnTo>
                <a:lnTo>
                  <a:pt x="1572019" y="1377584"/>
                </a:lnTo>
                <a:close/>
                <a:moveTo>
                  <a:pt x="1507960" y="1377266"/>
                </a:moveTo>
                <a:lnTo>
                  <a:pt x="1509546" y="1404314"/>
                </a:lnTo>
                <a:lnTo>
                  <a:pt x="1556797" y="1404633"/>
                </a:lnTo>
                <a:lnTo>
                  <a:pt x="1554577" y="1377266"/>
                </a:lnTo>
                <a:lnTo>
                  <a:pt x="1507960" y="1377266"/>
                </a:lnTo>
                <a:close/>
                <a:moveTo>
                  <a:pt x="1443902" y="1376948"/>
                </a:moveTo>
                <a:lnTo>
                  <a:pt x="1444853" y="1403996"/>
                </a:lnTo>
                <a:lnTo>
                  <a:pt x="1491787" y="1403996"/>
                </a:lnTo>
                <a:lnTo>
                  <a:pt x="1490519" y="1377266"/>
                </a:lnTo>
                <a:lnTo>
                  <a:pt x="1443902" y="1376948"/>
                </a:lnTo>
                <a:close/>
                <a:moveTo>
                  <a:pt x="1380160" y="1376629"/>
                </a:moveTo>
                <a:lnTo>
                  <a:pt x="1379843" y="1403678"/>
                </a:lnTo>
                <a:lnTo>
                  <a:pt x="1426777" y="1403996"/>
                </a:lnTo>
                <a:lnTo>
                  <a:pt x="1426460" y="1376948"/>
                </a:lnTo>
                <a:lnTo>
                  <a:pt x="1380160" y="1376629"/>
                </a:lnTo>
                <a:close/>
                <a:moveTo>
                  <a:pt x="1316101" y="1376311"/>
                </a:moveTo>
                <a:lnTo>
                  <a:pt x="1315150" y="1403360"/>
                </a:lnTo>
                <a:lnTo>
                  <a:pt x="1362401" y="1403360"/>
                </a:lnTo>
                <a:lnTo>
                  <a:pt x="1362718" y="1376629"/>
                </a:lnTo>
                <a:lnTo>
                  <a:pt x="1316101" y="1376311"/>
                </a:lnTo>
                <a:close/>
                <a:moveTo>
                  <a:pt x="1252043" y="1375993"/>
                </a:moveTo>
                <a:lnTo>
                  <a:pt x="1250140" y="1403041"/>
                </a:lnTo>
                <a:lnTo>
                  <a:pt x="1297391" y="1403041"/>
                </a:lnTo>
                <a:lnTo>
                  <a:pt x="1298660" y="1376311"/>
                </a:lnTo>
                <a:lnTo>
                  <a:pt x="1252043" y="1375993"/>
                </a:lnTo>
                <a:close/>
                <a:moveTo>
                  <a:pt x="1188301" y="1375675"/>
                </a:moveTo>
                <a:lnTo>
                  <a:pt x="1185764" y="1402723"/>
                </a:lnTo>
                <a:lnTo>
                  <a:pt x="1232698" y="1402723"/>
                </a:lnTo>
                <a:lnTo>
                  <a:pt x="1234601" y="1375993"/>
                </a:lnTo>
                <a:lnTo>
                  <a:pt x="1188301" y="1375675"/>
                </a:lnTo>
                <a:close/>
                <a:moveTo>
                  <a:pt x="1124242" y="1375356"/>
                </a:moveTo>
                <a:lnTo>
                  <a:pt x="1120754" y="1402405"/>
                </a:lnTo>
                <a:lnTo>
                  <a:pt x="1167688" y="1402405"/>
                </a:lnTo>
                <a:lnTo>
                  <a:pt x="1170859" y="1375675"/>
                </a:lnTo>
                <a:lnTo>
                  <a:pt x="1124242" y="1375356"/>
                </a:lnTo>
                <a:close/>
                <a:moveTo>
                  <a:pt x="1060183" y="1375038"/>
                </a:moveTo>
                <a:lnTo>
                  <a:pt x="1056061" y="1402087"/>
                </a:lnTo>
                <a:lnTo>
                  <a:pt x="1102995" y="1402087"/>
                </a:lnTo>
                <a:lnTo>
                  <a:pt x="1106800" y="1375356"/>
                </a:lnTo>
                <a:lnTo>
                  <a:pt x="1060183" y="1375038"/>
                </a:lnTo>
                <a:close/>
                <a:moveTo>
                  <a:pt x="996442" y="1374720"/>
                </a:moveTo>
                <a:lnTo>
                  <a:pt x="991051" y="1401769"/>
                </a:lnTo>
                <a:lnTo>
                  <a:pt x="1038302" y="1401769"/>
                </a:lnTo>
                <a:lnTo>
                  <a:pt x="1042742" y="1375038"/>
                </a:lnTo>
                <a:lnTo>
                  <a:pt x="996442" y="1374720"/>
                </a:lnTo>
                <a:close/>
                <a:moveTo>
                  <a:pt x="394079" y="1340803"/>
                </a:moveTo>
                <a:lnTo>
                  <a:pt x="364253" y="1348105"/>
                </a:lnTo>
                <a:lnTo>
                  <a:pt x="354734" y="1351280"/>
                </a:lnTo>
                <a:lnTo>
                  <a:pt x="367743" y="1359853"/>
                </a:lnTo>
                <a:lnTo>
                  <a:pt x="380752" y="1368743"/>
                </a:lnTo>
                <a:lnTo>
                  <a:pt x="393761" y="1376998"/>
                </a:lnTo>
                <a:lnTo>
                  <a:pt x="407088" y="1385571"/>
                </a:lnTo>
                <a:lnTo>
                  <a:pt x="420414" y="1393191"/>
                </a:lnTo>
                <a:lnTo>
                  <a:pt x="434375" y="1400493"/>
                </a:lnTo>
                <a:lnTo>
                  <a:pt x="448336" y="1408113"/>
                </a:lnTo>
                <a:lnTo>
                  <a:pt x="462297" y="1415098"/>
                </a:lnTo>
                <a:lnTo>
                  <a:pt x="453095" y="1406526"/>
                </a:lnTo>
                <a:lnTo>
                  <a:pt x="444528" y="1397636"/>
                </a:lnTo>
                <a:lnTo>
                  <a:pt x="435644" y="1389063"/>
                </a:lnTo>
                <a:lnTo>
                  <a:pt x="427077" y="1379538"/>
                </a:lnTo>
                <a:lnTo>
                  <a:pt x="418510" y="1370331"/>
                </a:lnTo>
                <a:lnTo>
                  <a:pt x="410261" y="1360488"/>
                </a:lnTo>
                <a:lnTo>
                  <a:pt x="402011" y="1350963"/>
                </a:lnTo>
                <a:lnTo>
                  <a:pt x="394079" y="1340803"/>
                </a:lnTo>
                <a:close/>
                <a:moveTo>
                  <a:pt x="1694111" y="1340353"/>
                </a:moveTo>
                <a:lnTo>
                  <a:pt x="1698234" y="1367401"/>
                </a:lnTo>
                <a:lnTo>
                  <a:pt x="1744534" y="1367719"/>
                </a:lnTo>
                <a:lnTo>
                  <a:pt x="1739777" y="1340671"/>
                </a:lnTo>
                <a:lnTo>
                  <a:pt x="1694111" y="1340353"/>
                </a:lnTo>
                <a:close/>
                <a:moveTo>
                  <a:pt x="1631321" y="1340034"/>
                </a:moveTo>
                <a:lnTo>
                  <a:pt x="1634809" y="1367083"/>
                </a:lnTo>
                <a:lnTo>
                  <a:pt x="1680792" y="1367401"/>
                </a:lnTo>
                <a:lnTo>
                  <a:pt x="1676987" y="1340353"/>
                </a:lnTo>
                <a:lnTo>
                  <a:pt x="1631321" y="1340034"/>
                </a:lnTo>
                <a:close/>
                <a:moveTo>
                  <a:pt x="1568531" y="1339716"/>
                </a:moveTo>
                <a:lnTo>
                  <a:pt x="1571068" y="1366765"/>
                </a:lnTo>
                <a:lnTo>
                  <a:pt x="1617051" y="1367083"/>
                </a:lnTo>
                <a:lnTo>
                  <a:pt x="1614196" y="1340034"/>
                </a:lnTo>
                <a:lnTo>
                  <a:pt x="1568531" y="1339716"/>
                </a:lnTo>
                <a:close/>
                <a:moveTo>
                  <a:pt x="1505741" y="1339716"/>
                </a:moveTo>
                <a:lnTo>
                  <a:pt x="1507326" y="1366765"/>
                </a:lnTo>
                <a:lnTo>
                  <a:pt x="1553626" y="1366765"/>
                </a:lnTo>
                <a:lnTo>
                  <a:pt x="1551406" y="1339716"/>
                </a:lnTo>
                <a:lnTo>
                  <a:pt x="1505741" y="1339716"/>
                </a:lnTo>
                <a:close/>
                <a:moveTo>
                  <a:pt x="1442950" y="1339398"/>
                </a:moveTo>
                <a:lnTo>
                  <a:pt x="1443585" y="1366128"/>
                </a:lnTo>
                <a:lnTo>
                  <a:pt x="1489884" y="1366128"/>
                </a:lnTo>
                <a:lnTo>
                  <a:pt x="1488616" y="1339398"/>
                </a:lnTo>
                <a:lnTo>
                  <a:pt x="1442950" y="1339398"/>
                </a:lnTo>
                <a:close/>
                <a:moveTo>
                  <a:pt x="1380160" y="1339080"/>
                </a:moveTo>
                <a:lnTo>
                  <a:pt x="1380160" y="1365810"/>
                </a:lnTo>
                <a:lnTo>
                  <a:pt x="1426143" y="1365810"/>
                </a:lnTo>
                <a:lnTo>
                  <a:pt x="1425826" y="1339398"/>
                </a:lnTo>
                <a:lnTo>
                  <a:pt x="1380160" y="1339080"/>
                </a:lnTo>
                <a:close/>
                <a:moveTo>
                  <a:pt x="1317370" y="1338761"/>
                </a:moveTo>
                <a:lnTo>
                  <a:pt x="1316418" y="1365492"/>
                </a:lnTo>
                <a:lnTo>
                  <a:pt x="1362718" y="1365492"/>
                </a:lnTo>
                <a:lnTo>
                  <a:pt x="1363035" y="1339080"/>
                </a:lnTo>
                <a:lnTo>
                  <a:pt x="1317370" y="1338761"/>
                </a:lnTo>
                <a:close/>
                <a:moveTo>
                  <a:pt x="1254897" y="1338443"/>
                </a:moveTo>
                <a:lnTo>
                  <a:pt x="1252677" y="1365174"/>
                </a:lnTo>
                <a:lnTo>
                  <a:pt x="1298977" y="1365492"/>
                </a:lnTo>
                <a:lnTo>
                  <a:pt x="1300245" y="1338761"/>
                </a:lnTo>
                <a:lnTo>
                  <a:pt x="1254897" y="1338443"/>
                </a:lnTo>
                <a:close/>
                <a:moveTo>
                  <a:pt x="1192106" y="1338443"/>
                </a:moveTo>
                <a:lnTo>
                  <a:pt x="1189252" y="1364855"/>
                </a:lnTo>
                <a:lnTo>
                  <a:pt x="1235235" y="1365174"/>
                </a:lnTo>
                <a:lnTo>
                  <a:pt x="1237772" y="1338443"/>
                </a:lnTo>
                <a:lnTo>
                  <a:pt x="1192106" y="1338443"/>
                </a:lnTo>
                <a:close/>
                <a:moveTo>
                  <a:pt x="1128999" y="1338125"/>
                </a:moveTo>
                <a:lnTo>
                  <a:pt x="1125511" y="1364537"/>
                </a:lnTo>
                <a:lnTo>
                  <a:pt x="1172128" y="1364855"/>
                </a:lnTo>
                <a:lnTo>
                  <a:pt x="1174665" y="1338125"/>
                </a:lnTo>
                <a:lnTo>
                  <a:pt x="1128999" y="1338125"/>
                </a:lnTo>
                <a:close/>
                <a:moveTo>
                  <a:pt x="1066526" y="1337807"/>
                </a:moveTo>
                <a:lnTo>
                  <a:pt x="1061769" y="1364219"/>
                </a:lnTo>
                <a:lnTo>
                  <a:pt x="1108386" y="1364537"/>
                </a:lnTo>
                <a:lnTo>
                  <a:pt x="1111874" y="1338125"/>
                </a:lnTo>
                <a:lnTo>
                  <a:pt x="1066526" y="1337807"/>
                </a:lnTo>
                <a:close/>
                <a:moveTo>
                  <a:pt x="1003419" y="1337489"/>
                </a:moveTo>
                <a:lnTo>
                  <a:pt x="998345" y="1363901"/>
                </a:lnTo>
                <a:lnTo>
                  <a:pt x="1044644" y="1364219"/>
                </a:lnTo>
                <a:lnTo>
                  <a:pt x="1049401" y="1337807"/>
                </a:lnTo>
                <a:lnTo>
                  <a:pt x="1003419" y="1337489"/>
                </a:lnTo>
                <a:close/>
                <a:moveTo>
                  <a:pt x="538764" y="1314450"/>
                </a:moveTo>
                <a:lnTo>
                  <a:pt x="518458" y="1317308"/>
                </a:lnTo>
                <a:lnTo>
                  <a:pt x="498468" y="1320165"/>
                </a:lnTo>
                <a:lnTo>
                  <a:pt x="478479" y="1323340"/>
                </a:lnTo>
                <a:lnTo>
                  <a:pt x="458807" y="1326833"/>
                </a:lnTo>
                <a:lnTo>
                  <a:pt x="467691" y="1336675"/>
                </a:lnTo>
                <a:lnTo>
                  <a:pt x="476258" y="1346200"/>
                </a:lnTo>
                <a:lnTo>
                  <a:pt x="485142" y="1355408"/>
                </a:lnTo>
                <a:lnTo>
                  <a:pt x="494343" y="1364298"/>
                </a:lnTo>
                <a:lnTo>
                  <a:pt x="503228" y="1372871"/>
                </a:lnTo>
                <a:lnTo>
                  <a:pt x="512746" y="1381126"/>
                </a:lnTo>
                <a:lnTo>
                  <a:pt x="521948" y="1389381"/>
                </a:lnTo>
                <a:lnTo>
                  <a:pt x="531784" y="1397001"/>
                </a:lnTo>
                <a:lnTo>
                  <a:pt x="540986" y="1404621"/>
                </a:lnTo>
                <a:lnTo>
                  <a:pt x="551139" y="1411606"/>
                </a:lnTo>
                <a:lnTo>
                  <a:pt x="560658" y="1418273"/>
                </a:lnTo>
                <a:lnTo>
                  <a:pt x="570811" y="1424941"/>
                </a:lnTo>
                <a:lnTo>
                  <a:pt x="580965" y="1430973"/>
                </a:lnTo>
                <a:lnTo>
                  <a:pt x="591118" y="1437323"/>
                </a:lnTo>
                <a:lnTo>
                  <a:pt x="601589" y="1442721"/>
                </a:lnTo>
                <a:lnTo>
                  <a:pt x="611742" y="1447801"/>
                </a:lnTo>
                <a:lnTo>
                  <a:pt x="601589" y="1433831"/>
                </a:lnTo>
                <a:lnTo>
                  <a:pt x="591753" y="1419226"/>
                </a:lnTo>
                <a:lnTo>
                  <a:pt x="582234" y="1403351"/>
                </a:lnTo>
                <a:lnTo>
                  <a:pt x="573032" y="1387158"/>
                </a:lnTo>
                <a:lnTo>
                  <a:pt x="564148" y="1370013"/>
                </a:lnTo>
                <a:lnTo>
                  <a:pt x="555264" y="1352233"/>
                </a:lnTo>
                <a:lnTo>
                  <a:pt x="547014" y="1333500"/>
                </a:lnTo>
                <a:lnTo>
                  <a:pt x="538764" y="1314450"/>
                </a:lnTo>
                <a:close/>
                <a:moveTo>
                  <a:pt x="1688403" y="1302485"/>
                </a:moveTo>
                <a:lnTo>
                  <a:pt x="1692526" y="1329215"/>
                </a:lnTo>
                <a:lnTo>
                  <a:pt x="1737557" y="1329533"/>
                </a:lnTo>
                <a:lnTo>
                  <a:pt x="1733117" y="1302803"/>
                </a:lnTo>
                <a:lnTo>
                  <a:pt x="1688403" y="1302485"/>
                </a:lnTo>
                <a:close/>
                <a:moveTo>
                  <a:pt x="1626881" y="1302166"/>
                </a:moveTo>
                <a:lnTo>
                  <a:pt x="1630053" y="1329215"/>
                </a:lnTo>
                <a:lnTo>
                  <a:pt x="1675401" y="1329215"/>
                </a:lnTo>
                <a:lnTo>
                  <a:pt x="1671596" y="1302485"/>
                </a:lnTo>
                <a:lnTo>
                  <a:pt x="1626881" y="1302166"/>
                </a:lnTo>
                <a:close/>
                <a:moveTo>
                  <a:pt x="1565042" y="1302166"/>
                </a:moveTo>
                <a:lnTo>
                  <a:pt x="1567579" y="1328897"/>
                </a:lnTo>
                <a:lnTo>
                  <a:pt x="1612928" y="1329215"/>
                </a:lnTo>
                <a:lnTo>
                  <a:pt x="1610074" y="1302166"/>
                </a:lnTo>
                <a:lnTo>
                  <a:pt x="1565042" y="1302166"/>
                </a:lnTo>
                <a:close/>
                <a:moveTo>
                  <a:pt x="1503521" y="1301848"/>
                </a:moveTo>
                <a:lnTo>
                  <a:pt x="1505106" y="1328578"/>
                </a:lnTo>
                <a:lnTo>
                  <a:pt x="1550772" y="1328897"/>
                </a:lnTo>
                <a:lnTo>
                  <a:pt x="1548552" y="1302166"/>
                </a:lnTo>
                <a:lnTo>
                  <a:pt x="1503521" y="1301848"/>
                </a:lnTo>
                <a:close/>
                <a:moveTo>
                  <a:pt x="1441999" y="1301848"/>
                </a:moveTo>
                <a:lnTo>
                  <a:pt x="1442633" y="1328260"/>
                </a:lnTo>
                <a:lnTo>
                  <a:pt x="1487982" y="1328578"/>
                </a:lnTo>
                <a:lnTo>
                  <a:pt x="1486713" y="1301848"/>
                </a:lnTo>
                <a:lnTo>
                  <a:pt x="1441999" y="1301848"/>
                </a:lnTo>
                <a:close/>
                <a:moveTo>
                  <a:pt x="1380477" y="1301530"/>
                </a:moveTo>
                <a:lnTo>
                  <a:pt x="1380477" y="1328260"/>
                </a:lnTo>
                <a:lnTo>
                  <a:pt x="1425509" y="1328260"/>
                </a:lnTo>
                <a:lnTo>
                  <a:pt x="1425191" y="1301530"/>
                </a:lnTo>
                <a:lnTo>
                  <a:pt x="1380477" y="1301530"/>
                </a:lnTo>
                <a:close/>
                <a:moveTo>
                  <a:pt x="1318638" y="1301212"/>
                </a:moveTo>
                <a:lnTo>
                  <a:pt x="1317687" y="1327942"/>
                </a:lnTo>
                <a:lnTo>
                  <a:pt x="1363353" y="1328260"/>
                </a:lnTo>
                <a:lnTo>
                  <a:pt x="1363670" y="1301530"/>
                </a:lnTo>
                <a:lnTo>
                  <a:pt x="1318638" y="1301212"/>
                </a:lnTo>
                <a:close/>
                <a:moveTo>
                  <a:pt x="1257434" y="1301212"/>
                </a:moveTo>
                <a:lnTo>
                  <a:pt x="1255531" y="1327624"/>
                </a:lnTo>
                <a:lnTo>
                  <a:pt x="1300879" y="1327942"/>
                </a:lnTo>
                <a:lnTo>
                  <a:pt x="1301831" y="1301212"/>
                </a:lnTo>
                <a:lnTo>
                  <a:pt x="1257434" y="1301212"/>
                </a:lnTo>
                <a:close/>
                <a:moveTo>
                  <a:pt x="1195595" y="1300894"/>
                </a:moveTo>
                <a:lnTo>
                  <a:pt x="1193058" y="1327306"/>
                </a:lnTo>
                <a:lnTo>
                  <a:pt x="1238406" y="1327624"/>
                </a:lnTo>
                <a:lnTo>
                  <a:pt x="1240626" y="1300894"/>
                </a:lnTo>
                <a:lnTo>
                  <a:pt x="1195595" y="1300894"/>
                </a:lnTo>
                <a:close/>
                <a:moveTo>
                  <a:pt x="1134073" y="1300575"/>
                </a:moveTo>
                <a:lnTo>
                  <a:pt x="1130268" y="1327306"/>
                </a:lnTo>
                <a:lnTo>
                  <a:pt x="1175933" y="1327306"/>
                </a:lnTo>
                <a:lnTo>
                  <a:pt x="1178787" y="1300894"/>
                </a:lnTo>
                <a:lnTo>
                  <a:pt x="1134073" y="1300575"/>
                </a:lnTo>
                <a:close/>
                <a:moveTo>
                  <a:pt x="1072551" y="1300575"/>
                </a:moveTo>
                <a:lnTo>
                  <a:pt x="1068112" y="1326987"/>
                </a:lnTo>
                <a:lnTo>
                  <a:pt x="1113460" y="1326987"/>
                </a:lnTo>
                <a:lnTo>
                  <a:pt x="1117266" y="1300575"/>
                </a:lnTo>
                <a:lnTo>
                  <a:pt x="1072551" y="1300575"/>
                </a:lnTo>
                <a:close/>
                <a:moveTo>
                  <a:pt x="1010712" y="1300257"/>
                </a:moveTo>
                <a:lnTo>
                  <a:pt x="1005638" y="1326669"/>
                </a:lnTo>
                <a:lnTo>
                  <a:pt x="1050987" y="1326987"/>
                </a:lnTo>
                <a:lnTo>
                  <a:pt x="1055744" y="1300575"/>
                </a:lnTo>
                <a:lnTo>
                  <a:pt x="1010712" y="1300257"/>
                </a:lnTo>
                <a:close/>
                <a:moveTo>
                  <a:pt x="742467" y="1299528"/>
                </a:moveTo>
                <a:lnTo>
                  <a:pt x="705978" y="1300480"/>
                </a:lnTo>
                <a:lnTo>
                  <a:pt x="670124" y="1302068"/>
                </a:lnTo>
                <a:lnTo>
                  <a:pt x="634587" y="1304290"/>
                </a:lnTo>
                <a:lnTo>
                  <a:pt x="600002" y="1307148"/>
                </a:lnTo>
                <a:lnTo>
                  <a:pt x="608886" y="1327150"/>
                </a:lnTo>
                <a:lnTo>
                  <a:pt x="618088" y="1346518"/>
                </a:lnTo>
                <a:lnTo>
                  <a:pt x="627607" y="1364298"/>
                </a:lnTo>
                <a:lnTo>
                  <a:pt x="632683" y="1373188"/>
                </a:lnTo>
                <a:lnTo>
                  <a:pt x="637760" y="1381126"/>
                </a:lnTo>
                <a:lnTo>
                  <a:pt x="642519" y="1389381"/>
                </a:lnTo>
                <a:lnTo>
                  <a:pt x="647596" y="1397001"/>
                </a:lnTo>
                <a:lnTo>
                  <a:pt x="652673" y="1404621"/>
                </a:lnTo>
                <a:lnTo>
                  <a:pt x="657750" y="1411288"/>
                </a:lnTo>
                <a:lnTo>
                  <a:pt x="662826" y="1417956"/>
                </a:lnTo>
                <a:lnTo>
                  <a:pt x="668220" y="1424623"/>
                </a:lnTo>
                <a:lnTo>
                  <a:pt x="673614" y="1430656"/>
                </a:lnTo>
                <a:lnTo>
                  <a:pt x="678691" y="1436688"/>
                </a:lnTo>
                <a:lnTo>
                  <a:pt x="686941" y="1444626"/>
                </a:lnTo>
                <a:lnTo>
                  <a:pt x="694873" y="1451928"/>
                </a:lnTo>
                <a:lnTo>
                  <a:pt x="703123" y="1458913"/>
                </a:lnTo>
                <a:lnTo>
                  <a:pt x="711055" y="1464628"/>
                </a:lnTo>
                <a:lnTo>
                  <a:pt x="718987" y="1469708"/>
                </a:lnTo>
                <a:lnTo>
                  <a:pt x="726920" y="1474153"/>
                </a:lnTo>
                <a:lnTo>
                  <a:pt x="734535" y="1477963"/>
                </a:lnTo>
                <a:lnTo>
                  <a:pt x="742467" y="1480821"/>
                </a:lnTo>
                <a:lnTo>
                  <a:pt x="742467" y="1299528"/>
                </a:lnTo>
                <a:close/>
                <a:moveTo>
                  <a:pt x="1682695" y="1264935"/>
                </a:moveTo>
                <a:lnTo>
                  <a:pt x="1686818" y="1291665"/>
                </a:lnTo>
                <a:lnTo>
                  <a:pt x="1731215" y="1291665"/>
                </a:lnTo>
                <a:lnTo>
                  <a:pt x="1726775" y="1264935"/>
                </a:lnTo>
                <a:lnTo>
                  <a:pt x="1682695" y="1264935"/>
                </a:lnTo>
                <a:close/>
                <a:moveTo>
                  <a:pt x="1622442" y="1264617"/>
                </a:moveTo>
                <a:lnTo>
                  <a:pt x="1625613" y="1291347"/>
                </a:lnTo>
                <a:lnTo>
                  <a:pt x="1670327" y="1291665"/>
                </a:lnTo>
                <a:lnTo>
                  <a:pt x="1666205" y="1264617"/>
                </a:lnTo>
                <a:lnTo>
                  <a:pt x="1622442" y="1264617"/>
                </a:lnTo>
                <a:close/>
                <a:moveTo>
                  <a:pt x="1561871" y="1264617"/>
                </a:moveTo>
                <a:lnTo>
                  <a:pt x="1564091" y="1291347"/>
                </a:lnTo>
                <a:lnTo>
                  <a:pt x="1608805" y="1291347"/>
                </a:lnTo>
                <a:lnTo>
                  <a:pt x="1605951" y="1264617"/>
                </a:lnTo>
                <a:lnTo>
                  <a:pt x="1561871" y="1264617"/>
                </a:lnTo>
                <a:close/>
                <a:moveTo>
                  <a:pt x="1501618" y="1264298"/>
                </a:moveTo>
                <a:lnTo>
                  <a:pt x="1502886" y="1291029"/>
                </a:lnTo>
                <a:lnTo>
                  <a:pt x="1547284" y="1291029"/>
                </a:lnTo>
                <a:lnTo>
                  <a:pt x="1545381" y="1264298"/>
                </a:lnTo>
                <a:lnTo>
                  <a:pt x="1501618" y="1264298"/>
                </a:lnTo>
                <a:close/>
                <a:moveTo>
                  <a:pt x="1441048" y="1263980"/>
                </a:moveTo>
                <a:lnTo>
                  <a:pt x="1441682" y="1290711"/>
                </a:lnTo>
                <a:lnTo>
                  <a:pt x="1486396" y="1291029"/>
                </a:lnTo>
                <a:lnTo>
                  <a:pt x="1485128" y="1264298"/>
                </a:lnTo>
                <a:lnTo>
                  <a:pt x="1441048" y="1263980"/>
                </a:lnTo>
                <a:close/>
                <a:moveTo>
                  <a:pt x="1380794" y="1263980"/>
                </a:moveTo>
                <a:lnTo>
                  <a:pt x="1380477" y="1290711"/>
                </a:lnTo>
                <a:lnTo>
                  <a:pt x="1424874" y="1290711"/>
                </a:lnTo>
                <a:lnTo>
                  <a:pt x="1424557" y="1263980"/>
                </a:lnTo>
                <a:lnTo>
                  <a:pt x="1380794" y="1263980"/>
                </a:lnTo>
                <a:close/>
                <a:moveTo>
                  <a:pt x="1320224" y="1263662"/>
                </a:moveTo>
                <a:lnTo>
                  <a:pt x="1319273" y="1290392"/>
                </a:lnTo>
                <a:lnTo>
                  <a:pt x="1363670" y="1290711"/>
                </a:lnTo>
                <a:lnTo>
                  <a:pt x="1363987" y="1263980"/>
                </a:lnTo>
                <a:lnTo>
                  <a:pt x="1320224" y="1263662"/>
                </a:lnTo>
                <a:close/>
                <a:moveTo>
                  <a:pt x="1259654" y="1263662"/>
                </a:moveTo>
                <a:lnTo>
                  <a:pt x="1258068" y="1290392"/>
                </a:lnTo>
                <a:lnTo>
                  <a:pt x="1302465" y="1290392"/>
                </a:lnTo>
                <a:lnTo>
                  <a:pt x="1303416" y="1263662"/>
                </a:lnTo>
                <a:lnTo>
                  <a:pt x="1259654" y="1263662"/>
                </a:lnTo>
                <a:close/>
                <a:moveTo>
                  <a:pt x="1199083" y="1263344"/>
                </a:moveTo>
                <a:lnTo>
                  <a:pt x="1196546" y="1290074"/>
                </a:lnTo>
                <a:lnTo>
                  <a:pt x="1241260" y="1290392"/>
                </a:lnTo>
                <a:lnTo>
                  <a:pt x="1243163" y="1263662"/>
                </a:lnTo>
                <a:lnTo>
                  <a:pt x="1199083" y="1263344"/>
                </a:lnTo>
                <a:close/>
                <a:moveTo>
                  <a:pt x="1138830" y="1263344"/>
                </a:moveTo>
                <a:lnTo>
                  <a:pt x="1135659" y="1289756"/>
                </a:lnTo>
                <a:lnTo>
                  <a:pt x="1180056" y="1290074"/>
                </a:lnTo>
                <a:lnTo>
                  <a:pt x="1182593" y="1263344"/>
                </a:lnTo>
                <a:lnTo>
                  <a:pt x="1138830" y="1263344"/>
                </a:lnTo>
                <a:close/>
                <a:moveTo>
                  <a:pt x="1078259" y="1263026"/>
                </a:moveTo>
                <a:lnTo>
                  <a:pt x="1074137" y="1289756"/>
                </a:lnTo>
                <a:lnTo>
                  <a:pt x="1118851" y="1289756"/>
                </a:lnTo>
                <a:lnTo>
                  <a:pt x="1122339" y="1263344"/>
                </a:lnTo>
                <a:lnTo>
                  <a:pt x="1078259" y="1263026"/>
                </a:lnTo>
                <a:close/>
                <a:moveTo>
                  <a:pt x="1018006" y="1263026"/>
                </a:moveTo>
                <a:lnTo>
                  <a:pt x="1012615" y="1289438"/>
                </a:lnTo>
                <a:lnTo>
                  <a:pt x="1057329" y="1289756"/>
                </a:lnTo>
                <a:lnTo>
                  <a:pt x="1061769" y="1263026"/>
                </a:lnTo>
                <a:lnTo>
                  <a:pt x="1018006" y="1263026"/>
                </a:lnTo>
                <a:close/>
                <a:moveTo>
                  <a:pt x="1676987" y="1227067"/>
                </a:moveTo>
                <a:lnTo>
                  <a:pt x="1681109" y="1253797"/>
                </a:lnTo>
                <a:lnTo>
                  <a:pt x="1724872" y="1254115"/>
                </a:lnTo>
                <a:lnTo>
                  <a:pt x="1719798" y="1227067"/>
                </a:lnTo>
                <a:lnTo>
                  <a:pt x="1676987" y="1227067"/>
                </a:lnTo>
                <a:close/>
                <a:moveTo>
                  <a:pt x="1618002" y="1227067"/>
                </a:moveTo>
                <a:lnTo>
                  <a:pt x="1621173" y="1253797"/>
                </a:lnTo>
                <a:lnTo>
                  <a:pt x="1664619" y="1253797"/>
                </a:lnTo>
                <a:lnTo>
                  <a:pt x="1660813" y="1227067"/>
                </a:lnTo>
                <a:lnTo>
                  <a:pt x="1618002" y="1227067"/>
                </a:lnTo>
                <a:close/>
                <a:moveTo>
                  <a:pt x="1558383" y="1226431"/>
                </a:moveTo>
                <a:lnTo>
                  <a:pt x="1560920" y="1253479"/>
                </a:lnTo>
                <a:lnTo>
                  <a:pt x="1604683" y="1253797"/>
                </a:lnTo>
                <a:lnTo>
                  <a:pt x="1601512" y="1226431"/>
                </a:lnTo>
                <a:lnTo>
                  <a:pt x="1558383" y="1226431"/>
                </a:lnTo>
                <a:close/>
                <a:moveTo>
                  <a:pt x="1499398" y="1226431"/>
                </a:moveTo>
                <a:lnTo>
                  <a:pt x="1500984" y="1253479"/>
                </a:lnTo>
                <a:lnTo>
                  <a:pt x="1544430" y="1253479"/>
                </a:lnTo>
                <a:lnTo>
                  <a:pt x="1542210" y="1226431"/>
                </a:lnTo>
                <a:lnTo>
                  <a:pt x="1499398" y="1226431"/>
                </a:lnTo>
                <a:close/>
                <a:moveTo>
                  <a:pt x="1439779" y="1226112"/>
                </a:moveTo>
                <a:lnTo>
                  <a:pt x="1440730" y="1253161"/>
                </a:lnTo>
                <a:lnTo>
                  <a:pt x="1484493" y="1253479"/>
                </a:lnTo>
                <a:lnTo>
                  <a:pt x="1483225" y="1226431"/>
                </a:lnTo>
                <a:lnTo>
                  <a:pt x="1439779" y="1226112"/>
                </a:lnTo>
                <a:close/>
                <a:moveTo>
                  <a:pt x="1380794" y="1226112"/>
                </a:moveTo>
                <a:lnTo>
                  <a:pt x="1380794" y="1253161"/>
                </a:lnTo>
                <a:lnTo>
                  <a:pt x="1424240" y="1253161"/>
                </a:lnTo>
                <a:lnTo>
                  <a:pt x="1423606" y="1226112"/>
                </a:lnTo>
                <a:lnTo>
                  <a:pt x="1380794" y="1226112"/>
                </a:lnTo>
                <a:close/>
                <a:moveTo>
                  <a:pt x="1321492" y="1226112"/>
                </a:moveTo>
                <a:lnTo>
                  <a:pt x="1320541" y="1252843"/>
                </a:lnTo>
                <a:lnTo>
                  <a:pt x="1364304" y="1253161"/>
                </a:lnTo>
                <a:lnTo>
                  <a:pt x="1364621" y="1226112"/>
                </a:lnTo>
                <a:lnTo>
                  <a:pt x="1321492" y="1226112"/>
                </a:lnTo>
                <a:close/>
                <a:moveTo>
                  <a:pt x="1262190" y="1225794"/>
                </a:moveTo>
                <a:lnTo>
                  <a:pt x="1260605" y="1252843"/>
                </a:lnTo>
                <a:lnTo>
                  <a:pt x="1304051" y="1252843"/>
                </a:lnTo>
                <a:lnTo>
                  <a:pt x="1305319" y="1225794"/>
                </a:lnTo>
                <a:lnTo>
                  <a:pt x="1262190" y="1225794"/>
                </a:lnTo>
                <a:close/>
                <a:moveTo>
                  <a:pt x="1203206" y="1225794"/>
                </a:moveTo>
                <a:lnTo>
                  <a:pt x="1200352" y="1252524"/>
                </a:lnTo>
                <a:lnTo>
                  <a:pt x="1244115" y="1252843"/>
                </a:lnTo>
                <a:lnTo>
                  <a:pt x="1246017" y="1225794"/>
                </a:lnTo>
                <a:lnTo>
                  <a:pt x="1203206" y="1225794"/>
                </a:lnTo>
                <a:close/>
                <a:moveTo>
                  <a:pt x="1143904" y="1225476"/>
                </a:moveTo>
                <a:lnTo>
                  <a:pt x="1140415" y="1252524"/>
                </a:lnTo>
                <a:lnTo>
                  <a:pt x="1183861" y="1252524"/>
                </a:lnTo>
                <a:lnTo>
                  <a:pt x="1187032" y="1225794"/>
                </a:lnTo>
                <a:lnTo>
                  <a:pt x="1143904" y="1225476"/>
                </a:lnTo>
                <a:close/>
                <a:moveTo>
                  <a:pt x="1084602" y="1225476"/>
                </a:moveTo>
                <a:lnTo>
                  <a:pt x="1080162" y="1252206"/>
                </a:lnTo>
                <a:lnTo>
                  <a:pt x="1123925" y="1252524"/>
                </a:lnTo>
                <a:lnTo>
                  <a:pt x="1127731" y="1225476"/>
                </a:lnTo>
                <a:lnTo>
                  <a:pt x="1084602" y="1225476"/>
                </a:lnTo>
                <a:close/>
                <a:moveTo>
                  <a:pt x="1025300" y="1225476"/>
                </a:moveTo>
                <a:lnTo>
                  <a:pt x="1020226" y="1252206"/>
                </a:lnTo>
                <a:lnTo>
                  <a:pt x="1063672" y="1252206"/>
                </a:lnTo>
                <a:lnTo>
                  <a:pt x="1068429" y="1225476"/>
                </a:lnTo>
                <a:lnTo>
                  <a:pt x="1025300" y="1225476"/>
                </a:lnTo>
                <a:close/>
                <a:moveTo>
                  <a:pt x="1671279" y="1188881"/>
                </a:moveTo>
                <a:lnTo>
                  <a:pt x="1675401" y="1216248"/>
                </a:lnTo>
                <a:lnTo>
                  <a:pt x="1718213" y="1216248"/>
                </a:lnTo>
                <a:lnTo>
                  <a:pt x="1713456" y="1188881"/>
                </a:lnTo>
                <a:lnTo>
                  <a:pt x="1671279" y="1188881"/>
                </a:lnTo>
                <a:close/>
                <a:moveTo>
                  <a:pt x="1613245" y="1188881"/>
                </a:moveTo>
                <a:lnTo>
                  <a:pt x="1616416" y="1215929"/>
                </a:lnTo>
                <a:lnTo>
                  <a:pt x="1659228" y="1216248"/>
                </a:lnTo>
                <a:lnTo>
                  <a:pt x="1655422" y="1188881"/>
                </a:lnTo>
                <a:lnTo>
                  <a:pt x="1613245" y="1188881"/>
                </a:lnTo>
                <a:close/>
                <a:moveTo>
                  <a:pt x="1555212" y="1188881"/>
                </a:moveTo>
                <a:lnTo>
                  <a:pt x="1557432" y="1215929"/>
                </a:lnTo>
                <a:lnTo>
                  <a:pt x="1600560" y="1215929"/>
                </a:lnTo>
                <a:lnTo>
                  <a:pt x="1597389" y="1188881"/>
                </a:lnTo>
                <a:lnTo>
                  <a:pt x="1555212" y="1188881"/>
                </a:lnTo>
                <a:close/>
                <a:moveTo>
                  <a:pt x="1497178" y="1188881"/>
                </a:moveTo>
                <a:lnTo>
                  <a:pt x="1498764" y="1215929"/>
                </a:lnTo>
                <a:lnTo>
                  <a:pt x="1541575" y="1215929"/>
                </a:lnTo>
                <a:lnTo>
                  <a:pt x="1539356" y="1188881"/>
                </a:lnTo>
                <a:lnTo>
                  <a:pt x="1497178" y="1188881"/>
                </a:lnTo>
                <a:close/>
                <a:moveTo>
                  <a:pt x="1438828" y="1188563"/>
                </a:moveTo>
                <a:lnTo>
                  <a:pt x="1439779" y="1215611"/>
                </a:lnTo>
                <a:lnTo>
                  <a:pt x="1482591" y="1215929"/>
                </a:lnTo>
                <a:lnTo>
                  <a:pt x="1481322" y="1188563"/>
                </a:lnTo>
                <a:lnTo>
                  <a:pt x="1438828" y="1188563"/>
                </a:lnTo>
                <a:close/>
                <a:moveTo>
                  <a:pt x="1381111" y="1188563"/>
                </a:moveTo>
                <a:lnTo>
                  <a:pt x="1380794" y="1215611"/>
                </a:lnTo>
                <a:lnTo>
                  <a:pt x="1423606" y="1215611"/>
                </a:lnTo>
                <a:lnTo>
                  <a:pt x="1422972" y="1188563"/>
                </a:lnTo>
                <a:lnTo>
                  <a:pt x="1381111" y="1188563"/>
                </a:lnTo>
                <a:close/>
                <a:moveTo>
                  <a:pt x="1322761" y="1188563"/>
                </a:moveTo>
                <a:lnTo>
                  <a:pt x="1321810" y="1215611"/>
                </a:lnTo>
                <a:lnTo>
                  <a:pt x="1364621" y="1215611"/>
                </a:lnTo>
                <a:lnTo>
                  <a:pt x="1365255" y="1188563"/>
                </a:lnTo>
                <a:lnTo>
                  <a:pt x="1322761" y="1188563"/>
                </a:lnTo>
                <a:close/>
                <a:moveTo>
                  <a:pt x="1264727" y="1188563"/>
                </a:moveTo>
                <a:lnTo>
                  <a:pt x="1263142" y="1215293"/>
                </a:lnTo>
                <a:lnTo>
                  <a:pt x="1305636" y="1215293"/>
                </a:lnTo>
                <a:lnTo>
                  <a:pt x="1307222" y="1188563"/>
                </a:lnTo>
                <a:lnTo>
                  <a:pt x="1264727" y="1188563"/>
                </a:lnTo>
                <a:close/>
                <a:moveTo>
                  <a:pt x="1206694" y="1188244"/>
                </a:moveTo>
                <a:lnTo>
                  <a:pt x="1204157" y="1215293"/>
                </a:lnTo>
                <a:lnTo>
                  <a:pt x="1246969" y="1215293"/>
                </a:lnTo>
                <a:lnTo>
                  <a:pt x="1248871" y="1188563"/>
                </a:lnTo>
                <a:lnTo>
                  <a:pt x="1206694" y="1188244"/>
                </a:lnTo>
                <a:close/>
                <a:moveTo>
                  <a:pt x="1148661" y="1188244"/>
                </a:moveTo>
                <a:lnTo>
                  <a:pt x="1145172" y="1215293"/>
                </a:lnTo>
                <a:lnTo>
                  <a:pt x="1188301" y="1215293"/>
                </a:lnTo>
                <a:lnTo>
                  <a:pt x="1190838" y="1188244"/>
                </a:lnTo>
                <a:lnTo>
                  <a:pt x="1148661" y="1188244"/>
                </a:lnTo>
                <a:close/>
                <a:moveTo>
                  <a:pt x="1090627" y="1188244"/>
                </a:moveTo>
                <a:lnTo>
                  <a:pt x="1086505" y="1214975"/>
                </a:lnTo>
                <a:lnTo>
                  <a:pt x="1128999" y="1214975"/>
                </a:lnTo>
                <a:lnTo>
                  <a:pt x="1132805" y="1188244"/>
                </a:lnTo>
                <a:lnTo>
                  <a:pt x="1090627" y="1188244"/>
                </a:lnTo>
                <a:close/>
                <a:moveTo>
                  <a:pt x="1032594" y="1187926"/>
                </a:moveTo>
                <a:lnTo>
                  <a:pt x="1027203" y="1214975"/>
                </a:lnTo>
                <a:lnTo>
                  <a:pt x="1070331" y="1214975"/>
                </a:lnTo>
                <a:lnTo>
                  <a:pt x="1074771" y="1188244"/>
                </a:lnTo>
                <a:lnTo>
                  <a:pt x="1032594" y="1187926"/>
                </a:lnTo>
                <a:close/>
                <a:moveTo>
                  <a:pt x="1740728" y="1132875"/>
                </a:moveTo>
                <a:lnTo>
                  <a:pt x="1737874" y="1133193"/>
                </a:lnTo>
                <a:lnTo>
                  <a:pt x="1735337" y="1133829"/>
                </a:lnTo>
                <a:lnTo>
                  <a:pt x="1733117" y="1134784"/>
                </a:lnTo>
                <a:lnTo>
                  <a:pt x="1731532" y="1136057"/>
                </a:lnTo>
                <a:lnTo>
                  <a:pt x="1730263" y="1137648"/>
                </a:lnTo>
                <a:lnTo>
                  <a:pt x="1729312" y="1139875"/>
                </a:lnTo>
                <a:lnTo>
                  <a:pt x="1728995" y="1142103"/>
                </a:lnTo>
                <a:lnTo>
                  <a:pt x="1728995" y="1144330"/>
                </a:lnTo>
                <a:lnTo>
                  <a:pt x="1730263" y="1151649"/>
                </a:lnTo>
                <a:lnTo>
                  <a:pt x="1731215" y="1153877"/>
                </a:lnTo>
                <a:lnTo>
                  <a:pt x="1732166" y="1156104"/>
                </a:lnTo>
                <a:lnTo>
                  <a:pt x="1734069" y="1158332"/>
                </a:lnTo>
                <a:lnTo>
                  <a:pt x="1735971" y="1159923"/>
                </a:lnTo>
                <a:lnTo>
                  <a:pt x="1738508" y="1161514"/>
                </a:lnTo>
                <a:lnTo>
                  <a:pt x="1741045" y="1162469"/>
                </a:lnTo>
                <a:lnTo>
                  <a:pt x="1743582" y="1163105"/>
                </a:lnTo>
                <a:lnTo>
                  <a:pt x="1746437" y="1163423"/>
                </a:lnTo>
                <a:lnTo>
                  <a:pt x="1772123" y="1163423"/>
                </a:lnTo>
                <a:lnTo>
                  <a:pt x="1775295" y="1163105"/>
                </a:lnTo>
                <a:lnTo>
                  <a:pt x="1777832" y="1162469"/>
                </a:lnTo>
                <a:lnTo>
                  <a:pt x="1779734" y="1161514"/>
                </a:lnTo>
                <a:lnTo>
                  <a:pt x="1781637" y="1159923"/>
                </a:lnTo>
                <a:lnTo>
                  <a:pt x="1782906" y="1158332"/>
                </a:lnTo>
                <a:lnTo>
                  <a:pt x="1783857" y="1156104"/>
                </a:lnTo>
                <a:lnTo>
                  <a:pt x="1784174" y="1154195"/>
                </a:lnTo>
                <a:lnTo>
                  <a:pt x="1783857" y="1151968"/>
                </a:lnTo>
                <a:lnTo>
                  <a:pt x="1782271" y="1144330"/>
                </a:lnTo>
                <a:lnTo>
                  <a:pt x="1781637" y="1142103"/>
                </a:lnTo>
                <a:lnTo>
                  <a:pt x="1780369" y="1139875"/>
                </a:lnTo>
                <a:lnTo>
                  <a:pt x="1778783" y="1137648"/>
                </a:lnTo>
                <a:lnTo>
                  <a:pt x="1776563" y="1136057"/>
                </a:lnTo>
                <a:lnTo>
                  <a:pt x="1774343" y="1134784"/>
                </a:lnTo>
                <a:lnTo>
                  <a:pt x="1771489" y="1133829"/>
                </a:lnTo>
                <a:lnTo>
                  <a:pt x="1768635" y="1133193"/>
                </a:lnTo>
                <a:lnTo>
                  <a:pt x="1766098" y="1132875"/>
                </a:lnTo>
                <a:lnTo>
                  <a:pt x="1740728" y="1132875"/>
                </a:lnTo>
                <a:close/>
                <a:moveTo>
                  <a:pt x="1664619" y="1132875"/>
                </a:moveTo>
                <a:lnTo>
                  <a:pt x="1661765" y="1133193"/>
                </a:lnTo>
                <a:lnTo>
                  <a:pt x="1659545" y="1133829"/>
                </a:lnTo>
                <a:lnTo>
                  <a:pt x="1657325" y="1134784"/>
                </a:lnTo>
                <a:lnTo>
                  <a:pt x="1655422" y="1136057"/>
                </a:lnTo>
                <a:lnTo>
                  <a:pt x="1654154" y="1137648"/>
                </a:lnTo>
                <a:lnTo>
                  <a:pt x="1653203" y="1139875"/>
                </a:lnTo>
                <a:lnTo>
                  <a:pt x="1652568" y="1142103"/>
                </a:lnTo>
                <a:lnTo>
                  <a:pt x="1652568" y="1144330"/>
                </a:lnTo>
                <a:lnTo>
                  <a:pt x="1653837" y="1151649"/>
                </a:lnTo>
                <a:lnTo>
                  <a:pt x="1654471" y="1153877"/>
                </a:lnTo>
                <a:lnTo>
                  <a:pt x="1655422" y="1156104"/>
                </a:lnTo>
                <a:lnTo>
                  <a:pt x="1657008" y="1158332"/>
                </a:lnTo>
                <a:lnTo>
                  <a:pt x="1658911" y="1159923"/>
                </a:lnTo>
                <a:lnTo>
                  <a:pt x="1661131" y="1161196"/>
                </a:lnTo>
                <a:lnTo>
                  <a:pt x="1663668" y="1162469"/>
                </a:lnTo>
                <a:lnTo>
                  <a:pt x="1666205" y="1163105"/>
                </a:lnTo>
                <a:lnTo>
                  <a:pt x="1669376" y="1163105"/>
                </a:lnTo>
                <a:lnTo>
                  <a:pt x="1695063" y="1163423"/>
                </a:lnTo>
                <a:lnTo>
                  <a:pt x="1697917" y="1163105"/>
                </a:lnTo>
                <a:lnTo>
                  <a:pt x="1700137" y="1162469"/>
                </a:lnTo>
                <a:lnTo>
                  <a:pt x="1702357" y="1161514"/>
                </a:lnTo>
                <a:lnTo>
                  <a:pt x="1704576" y="1159923"/>
                </a:lnTo>
                <a:lnTo>
                  <a:pt x="1705845" y="1158332"/>
                </a:lnTo>
                <a:lnTo>
                  <a:pt x="1706796" y="1156104"/>
                </a:lnTo>
                <a:lnTo>
                  <a:pt x="1707430" y="1153877"/>
                </a:lnTo>
                <a:lnTo>
                  <a:pt x="1707113" y="1151649"/>
                </a:lnTo>
                <a:lnTo>
                  <a:pt x="1705845" y="1144330"/>
                </a:lnTo>
                <a:lnTo>
                  <a:pt x="1705211" y="1142103"/>
                </a:lnTo>
                <a:lnTo>
                  <a:pt x="1704259" y="1139875"/>
                </a:lnTo>
                <a:lnTo>
                  <a:pt x="1702357" y="1137648"/>
                </a:lnTo>
                <a:lnTo>
                  <a:pt x="1700137" y="1136057"/>
                </a:lnTo>
                <a:lnTo>
                  <a:pt x="1697917" y="1134784"/>
                </a:lnTo>
                <a:lnTo>
                  <a:pt x="1695697" y="1133829"/>
                </a:lnTo>
                <a:lnTo>
                  <a:pt x="1692843" y="1133193"/>
                </a:lnTo>
                <a:lnTo>
                  <a:pt x="1689989" y="1132875"/>
                </a:lnTo>
                <a:lnTo>
                  <a:pt x="1664619" y="1132875"/>
                </a:lnTo>
                <a:close/>
                <a:moveTo>
                  <a:pt x="1586924" y="1132875"/>
                </a:moveTo>
                <a:lnTo>
                  <a:pt x="1584704" y="1133511"/>
                </a:lnTo>
                <a:lnTo>
                  <a:pt x="1582167" y="1134784"/>
                </a:lnTo>
                <a:lnTo>
                  <a:pt x="1580264" y="1136057"/>
                </a:lnTo>
                <a:lnTo>
                  <a:pt x="1578679" y="1137648"/>
                </a:lnTo>
                <a:lnTo>
                  <a:pt x="1577727" y="1139875"/>
                </a:lnTo>
                <a:lnTo>
                  <a:pt x="1577093" y="1142103"/>
                </a:lnTo>
                <a:lnTo>
                  <a:pt x="1577093" y="1144330"/>
                </a:lnTo>
                <a:lnTo>
                  <a:pt x="1578044" y="1151649"/>
                </a:lnTo>
                <a:lnTo>
                  <a:pt x="1578362" y="1153877"/>
                </a:lnTo>
                <a:lnTo>
                  <a:pt x="1579313" y="1156104"/>
                </a:lnTo>
                <a:lnTo>
                  <a:pt x="1580899" y="1158332"/>
                </a:lnTo>
                <a:lnTo>
                  <a:pt x="1583118" y="1159923"/>
                </a:lnTo>
                <a:lnTo>
                  <a:pt x="1585338" y="1161196"/>
                </a:lnTo>
                <a:lnTo>
                  <a:pt x="1587558" y="1162151"/>
                </a:lnTo>
                <a:lnTo>
                  <a:pt x="1590412" y="1162787"/>
                </a:lnTo>
                <a:lnTo>
                  <a:pt x="1593266" y="1163105"/>
                </a:lnTo>
                <a:lnTo>
                  <a:pt x="1618953" y="1163105"/>
                </a:lnTo>
                <a:lnTo>
                  <a:pt x="1621807" y="1163105"/>
                </a:lnTo>
                <a:lnTo>
                  <a:pt x="1624344" y="1162469"/>
                </a:lnTo>
                <a:lnTo>
                  <a:pt x="1626564" y="1161196"/>
                </a:lnTo>
                <a:lnTo>
                  <a:pt x="1628467" y="1159923"/>
                </a:lnTo>
                <a:lnTo>
                  <a:pt x="1629735" y="1158332"/>
                </a:lnTo>
                <a:lnTo>
                  <a:pt x="1631004" y="1156104"/>
                </a:lnTo>
                <a:lnTo>
                  <a:pt x="1631321" y="1153877"/>
                </a:lnTo>
                <a:lnTo>
                  <a:pt x="1631321" y="1151649"/>
                </a:lnTo>
                <a:lnTo>
                  <a:pt x="1630370" y="1144330"/>
                </a:lnTo>
                <a:lnTo>
                  <a:pt x="1629735" y="1142103"/>
                </a:lnTo>
                <a:lnTo>
                  <a:pt x="1628784" y="1139875"/>
                </a:lnTo>
                <a:lnTo>
                  <a:pt x="1627198" y="1137648"/>
                </a:lnTo>
                <a:lnTo>
                  <a:pt x="1625296" y="1136057"/>
                </a:lnTo>
                <a:lnTo>
                  <a:pt x="1623076" y="1134784"/>
                </a:lnTo>
                <a:lnTo>
                  <a:pt x="1620856" y="1133829"/>
                </a:lnTo>
                <a:lnTo>
                  <a:pt x="1618002" y="1132875"/>
                </a:lnTo>
                <a:lnTo>
                  <a:pt x="1615148" y="1132875"/>
                </a:lnTo>
                <a:lnTo>
                  <a:pt x="1589778" y="1132875"/>
                </a:lnTo>
                <a:lnTo>
                  <a:pt x="1586924" y="1132875"/>
                </a:lnTo>
                <a:close/>
                <a:moveTo>
                  <a:pt x="1510815" y="1132875"/>
                </a:moveTo>
                <a:lnTo>
                  <a:pt x="1508278" y="1133511"/>
                </a:lnTo>
                <a:lnTo>
                  <a:pt x="1506058" y="1134784"/>
                </a:lnTo>
                <a:lnTo>
                  <a:pt x="1504155" y="1136057"/>
                </a:lnTo>
                <a:lnTo>
                  <a:pt x="1502569" y="1137648"/>
                </a:lnTo>
                <a:lnTo>
                  <a:pt x="1501618" y="1139875"/>
                </a:lnTo>
                <a:lnTo>
                  <a:pt x="1500984" y="1142103"/>
                </a:lnTo>
                <a:lnTo>
                  <a:pt x="1500667" y="1144330"/>
                </a:lnTo>
                <a:lnTo>
                  <a:pt x="1501301" y="1151649"/>
                </a:lnTo>
                <a:lnTo>
                  <a:pt x="1501618" y="1153877"/>
                </a:lnTo>
                <a:lnTo>
                  <a:pt x="1502569" y="1156104"/>
                </a:lnTo>
                <a:lnTo>
                  <a:pt x="1503838" y="1158332"/>
                </a:lnTo>
                <a:lnTo>
                  <a:pt x="1505741" y="1159923"/>
                </a:lnTo>
                <a:lnTo>
                  <a:pt x="1507960" y="1161196"/>
                </a:lnTo>
                <a:lnTo>
                  <a:pt x="1510180" y="1162151"/>
                </a:lnTo>
                <a:lnTo>
                  <a:pt x="1512717" y="1162787"/>
                </a:lnTo>
                <a:lnTo>
                  <a:pt x="1515888" y="1163105"/>
                </a:lnTo>
                <a:lnTo>
                  <a:pt x="1541575" y="1163105"/>
                </a:lnTo>
                <a:lnTo>
                  <a:pt x="1544430" y="1162787"/>
                </a:lnTo>
                <a:lnTo>
                  <a:pt x="1546966" y="1162151"/>
                </a:lnTo>
                <a:lnTo>
                  <a:pt x="1549503" y="1161196"/>
                </a:lnTo>
                <a:lnTo>
                  <a:pt x="1551406" y="1159923"/>
                </a:lnTo>
                <a:lnTo>
                  <a:pt x="1552992" y="1158332"/>
                </a:lnTo>
                <a:lnTo>
                  <a:pt x="1553943" y="1156104"/>
                </a:lnTo>
                <a:lnTo>
                  <a:pt x="1554577" y="1153877"/>
                </a:lnTo>
                <a:lnTo>
                  <a:pt x="1554577" y="1151649"/>
                </a:lnTo>
                <a:lnTo>
                  <a:pt x="1553943" y="1144330"/>
                </a:lnTo>
                <a:lnTo>
                  <a:pt x="1553626" y="1142103"/>
                </a:lnTo>
                <a:lnTo>
                  <a:pt x="1552675" y="1139875"/>
                </a:lnTo>
                <a:lnTo>
                  <a:pt x="1551089" y="1137648"/>
                </a:lnTo>
                <a:lnTo>
                  <a:pt x="1549186" y="1136057"/>
                </a:lnTo>
                <a:lnTo>
                  <a:pt x="1546966" y="1134784"/>
                </a:lnTo>
                <a:lnTo>
                  <a:pt x="1544430" y="1133511"/>
                </a:lnTo>
                <a:lnTo>
                  <a:pt x="1541893" y="1132875"/>
                </a:lnTo>
                <a:lnTo>
                  <a:pt x="1539038" y="1132875"/>
                </a:lnTo>
                <a:lnTo>
                  <a:pt x="1513986" y="1132875"/>
                </a:lnTo>
                <a:lnTo>
                  <a:pt x="1510815" y="1132875"/>
                </a:lnTo>
                <a:close/>
                <a:moveTo>
                  <a:pt x="981854" y="1117600"/>
                </a:moveTo>
                <a:lnTo>
                  <a:pt x="1765464" y="1117600"/>
                </a:lnTo>
                <a:lnTo>
                  <a:pt x="1769904" y="1117918"/>
                </a:lnTo>
                <a:lnTo>
                  <a:pt x="1774978" y="1118236"/>
                </a:lnTo>
                <a:lnTo>
                  <a:pt x="1779417" y="1119191"/>
                </a:lnTo>
                <a:lnTo>
                  <a:pt x="1783857" y="1120464"/>
                </a:lnTo>
                <a:lnTo>
                  <a:pt x="1787980" y="1122373"/>
                </a:lnTo>
                <a:lnTo>
                  <a:pt x="1792736" y="1124283"/>
                </a:lnTo>
                <a:lnTo>
                  <a:pt x="1796542" y="1126510"/>
                </a:lnTo>
                <a:lnTo>
                  <a:pt x="1800347" y="1129056"/>
                </a:lnTo>
                <a:lnTo>
                  <a:pt x="1803836" y="1131602"/>
                </a:lnTo>
                <a:lnTo>
                  <a:pt x="1807007" y="1134466"/>
                </a:lnTo>
                <a:lnTo>
                  <a:pt x="1810495" y="1137648"/>
                </a:lnTo>
                <a:lnTo>
                  <a:pt x="1813032" y="1141148"/>
                </a:lnTo>
                <a:lnTo>
                  <a:pt x="1815252" y="1144649"/>
                </a:lnTo>
                <a:lnTo>
                  <a:pt x="1817155" y="1148149"/>
                </a:lnTo>
                <a:lnTo>
                  <a:pt x="1818740" y="1151649"/>
                </a:lnTo>
                <a:lnTo>
                  <a:pt x="1820009" y="1155468"/>
                </a:lnTo>
                <a:lnTo>
                  <a:pt x="1903095" y="1502007"/>
                </a:lnTo>
                <a:lnTo>
                  <a:pt x="1903412" y="1506144"/>
                </a:lnTo>
                <a:lnTo>
                  <a:pt x="1903412" y="1509963"/>
                </a:lnTo>
                <a:lnTo>
                  <a:pt x="1903095" y="1513463"/>
                </a:lnTo>
                <a:lnTo>
                  <a:pt x="1901827" y="1516963"/>
                </a:lnTo>
                <a:lnTo>
                  <a:pt x="1900241" y="1520146"/>
                </a:lnTo>
                <a:lnTo>
                  <a:pt x="1898338" y="1523646"/>
                </a:lnTo>
                <a:lnTo>
                  <a:pt x="1895801" y="1526510"/>
                </a:lnTo>
                <a:lnTo>
                  <a:pt x="1892313" y="1529056"/>
                </a:lnTo>
                <a:lnTo>
                  <a:pt x="1889142" y="1531283"/>
                </a:lnTo>
                <a:lnTo>
                  <a:pt x="1885336" y="1533511"/>
                </a:lnTo>
                <a:lnTo>
                  <a:pt x="1881214" y="1535420"/>
                </a:lnTo>
                <a:lnTo>
                  <a:pt x="1876774" y="1537011"/>
                </a:lnTo>
                <a:lnTo>
                  <a:pt x="1871700" y="1538284"/>
                </a:lnTo>
                <a:lnTo>
                  <a:pt x="1866626" y="1538920"/>
                </a:lnTo>
                <a:lnTo>
                  <a:pt x="1861235" y="1539557"/>
                </a:lnTo>
                <a:lnTo>
                  <a:pt x="1855210" y="1539875"/>
                </a:lnTo>
                <a:lnTo>
                  <a:pt x="884498" y="1539875"/>
                </a:lnTo>
                <a:lnTo>
                  <a:pt x="878789" y="1539557"/>
                </a:lnTo>
                <a:lnTo>
                  <a:pt x="873081" y="1538920"/>
                </a:lnTo>
                <a:lnTo>
                  <a:pt x="868007" y="1537966"/>
                </a:lnTo>
                <a:lnTo>
                  <a:pt x="863250" y="1536693"/>
                </a:lnTo>
                <a:lnTo>
                  <a:pt x="858811" y="1535102"/>
                </a:lnTo>
                <a:lnTo>
                  <a:pt x="854371" y="1533193"/>
                </a:lnTo>
                <a:lnTo>
                  <a:pt x="850566" y="1531283"/>
                </a:lnTo>
                <a:lnTo>
                  <a:pt x="847394" y="1528737"/>
                </a:lnTo>
                <a:lnTo>
                  <a:pt x="844223" y="1526192"/>
                </a:lnTo>
                <a:lnTo>
                  <a:pt x="842003" y="1523010"/>
                </a:lnTo>
                <a:lnTo>
                  <a:pt x="839466" y="1519827"/>
                </a:lnTo>
                <a:lnTo>
                  <a:pt x="837881" y="1516645"/>
                </a:lnTo>
                <a:lnTo>
                  <a:pt x="836929" y="1513463"/>
                </a:lnTo>
                <a:lnTo>
                  <a:pt x="836612" y="1509963"/>
                </a:lnTo>
                <a:lnTo>
                  <a:pt x="836612" y="1506144"/>
                </a:lnTo>
                <a:lnTo>
                  <a:pt x="837246" y="1502007"/>
                </a:lnTo>
                <a:lnTo>
                  <a:pt x="926675" y="1154832"/>
                </a:lnTo>
                <a:lnTo>
                  <a:pt x="927943" y="1151331"/>
                </a:lnTo>
                <a:lnTo>
                  <a:pt x="929529" y="1147513"/>
                </a:lnTo>
                <a:lnTo>
                  <a:pt x="931432" y="1144012"/>
                </a:lnTo>
                <a:lnTo>
                  <a:pt x="933969" y="1140830"/>
                </a:lnTo>
                <a:lnTo>
                  <a:pt x="936823" y="1137011"/>
                </a:lnTo>
                <a:lnTo>
                  <a:pt x="939677" y="1134147"/>
                </a:lnTo>
                <a:lnTo>
                  <a:pt x="943165" y="1131283"/>
                </a:lnTo>
                <a:lnTo>
                  <a:pt x="946971" y="1128738"/>
                </a:lnTo>
                <a:lnTo>
                  <a:pt x="950776" y="1126192"/>
                </a:lnTo>
                <a:lnTo>
                  <a:pt x="954582" y="1124283"/>
                </a:lnTo>
                <a:lnTo>
                  <a:pt x="959021" y="1122373"/>
                </a:lnTo>
                <a:lnTo>
                  <a:pt x="963461" y="1120464"/>
                </a:lnTo>
                <a:lnTo>
                  <a:pt x="967901" y="1119191"/>
                </a:lnTo>
                <a:lnTo>
                  <a:pt x="972341" y="1118236"/>
                </a:lnTo>
                <a:lnTo>
                  <a:pt x="977097" y="1117918"/>
                </a:lnTo>
                <a:lnTo>
                  <a:pt x="981854" y="1117600"/>
                </a:lnTo>
                <a:close/>
                <a:moveTo>
                  <a:pt x="268430" y="1104583"/>
                </a:moveTo>
                <a:lnTo>
                  <a:pt x="254469" y="1109980"/>
                </a:lnTo>
                <a:lnTo>
                  <a:pt x="240826" y="1115695"/>
                </a:lnTo>
                <a:lnTo>
                  <a:pt x="227500" y="1121410"/>
                </a:lnTo>
                <a:lnTo>
                  <a:pt x="214808" y="1127443"/>
                </a:lnTo>
                <a:lnTo>
                  <a:pt x="202433" y="1133158"/>
                </a:lnTo>
                <a:lnTo>
                  <a:pt x="190693" y="1139190"/>
                </a:lnTo>
                <a:lnTo>
                  <a:pt x="178954" y="1145858"/>
                </a:lnTo>
                <a:lnTo>
                  <a:pt x="168483" y="1151890"/>
                </a:lnTo>
                <a:lnTo>
                  <a:pt x="178954" y="1168718"/>
                </a:lnTo>
                <a:lnTo>
                  <a:pt x="190376" y="1185228"/>
                </a:lnTo>
                <a:lnTo>
                  <a:pt x="202433" y="1201420"/>
                </a:lnTo>
                <a:lnTo>
                  <a:pt x="214490" y="1217295"/>
                </a:lnTo>
                <a:lnTo>
                  <a:pt x="227182" y="1232535"/>
                </a:lnTo>
                <a:lnTo>
                  <a:pt x="240191" y="1247775"/>
                </a:lnTo>
                <a:lnTo>
                  <a:pt x="253835" y="1262380"/>
                </a:lnTo>
                <a:lnTo>
                  <a:pt x="267479" y="1276668"/>
                </a:lnTo>
                <a:lnTo>
                  <a:pt x="283026" y="1291590"/>
                </a:lnTo>
                <a:lnTo>
                  <a:pt x="299208" y="1306195"/>
                </a:lnTo>
                <a:lnTo>
                  <a:pt x="313486" y="1301750"/>
                </a:lnTo>
                <a:lnTo>
                  <a:pt x="327764" y="1297623"/>
                </a:lnTo>
                <a:lnTo>
                  <a:pt x="357590" y="1289368"/>
                </a:lnTo>
                <a:lnTo>
                  <a:pt x="350609" y="1278890"/>
                </a:lnTo>
                <a:lnTo>
                  <a:pt x="344264" y="1268413"/>
                </a:lnTo>
                <a:lnTo>
                  <a:pt x="337600" y="1257618"/>
                </a:lnTo>
                <a:lnTo>
                  <a:pt x="331572" y="1246823"/>
                </a:lnTo>
                <a:lnTo>
                  <a:pt x="325543" y="1235710"/>
                </a:lnTo>
                <a:lnTo>
                  <a:pt x="319515" y="1224280"/>
                </a:lnTo>
                <a:lnTo>
                  <a:pt x="313803" y="1213168"/>
                </a:lnTo>
                <a:lnTo>
                  <a:pt x="308409" y="1201738"/>
                </a:lnTo>
                <a:lnTo>
                  <a:pt x="302381" y="1189990"/>
                </a:lnTo>
                <a:lnTo>
                  <a:pt x="297304" y="1178243"/>
                </a:lnTo>
                <a:lnTo>
                  <a:pt x="287151" y="1154113"/>
                </a:lnTo>
                <a:lnTo>
                  <a:pt x="277315" y="1129665"/>
                </a:lnTo>
                <a:lnTo>
                  <a:pt x="268430" y="1104583"/>
                </a:lnTo>
                <a:close/>
                <a:moveTo>
                  <a:pt x="469277" y="1050290"/>
                </a:moveTo>
                <a:lnTo>
                  <a:pt x="441990" y="1055688"/>
                </a:lnTo>
                <a:lnTo>
                  <a:pt x="415337" y="1061403"/>
                </a:lnTo>
                <a:lnTo>
                  <a:pt x="389319" y="1067118"/>
                </a:lnTo>
                <a:lnTo>
                  <a:pt x="364253" y="1073785"/>
                </a:lnTo>
                <a:lnTo>
                  <a:pt x="343946" y="1079500"/>
                </a:lnTo>
                <a:lnTo>
                  <a:pt x="324274" y="1085215"/>
                </a:lnTo>
                <a:lnTo>
                  <a:pt x="328716" y="1098550"/>
                </a:lnTo>
                <a:lnTo>
                  <a:pt x="333476" y="1111568"/>
                </a:lnTo>
                <a:lnTo>
                  <a:pt x="338235" y="1124585"/>
                </a:lnTo>
                <a:lnTo>
                  <a:pt x="343629" y="1136968"/>
                </a:lnTo>
                <a:lnTo>
                  <a:pt x="349023" y="1149668"/>
                </a:lnTo>
                <a:lnTo>
                  <a:pt x="354417" y="1162050"/>
                </a:lnTo>
                <a:lnTo>
                  <a:pt x="360446" y="1174115"/>
                </a:lnTo>
                <a:lnTo>
                  <a:pt x="366157" y="1186180"/>
                </a:lnTo>
                <a:lnTo>
                  <a:pt x="371868" y="1197928"/>
                </a:lnTo>
                <a:lnTo>
                  <a:pt x="378531" y="1209358"/>
                </a:lnTo>
                <a:lnTo>
                  <a:pt x="384560" y="1220788"/>
                </a:lnTo>
                <a:lnTo>
                  <a:pt x="391223" y="1232218"/>
                </a:lnTo>
                <a:lnTo>
                  <a:pt x="397886" y="1243013"/>
                </a:lnTo>
                <a:lnTo>
                  <a:pt x="404549" y="1254125"/>
                </a:lnTo>
                <a:lnTo>
                  <a:pt x="411530" y="1264603"/>
                </a:lnTo>
                <a:lnTo>
                  <a:pt x="418510" y="1275080"/>
                </a:lnTo>
                <a:lnTo>
                  <a:pt x="442942" y="1270318"/>
                </a:lnTo>
                <a:lnTo>
                  <a:pt x="467373" y="1265873"/>
                </a:lnTo>
                <a:lnTo>
                  <a:pt x="492440" y="1261428"/>
                </a:lnTo>
                <a:lnTo>
                  <a:pt x="518140" y="1257618"/>
                </a:lnTo>
                <a:lnTo>
                  <a:pt x="510525" y="1234123"/>
                </a:lnTo>
                <a:lnTo>
                  <a:pt x="503545" y="1209993"/>
                </a:lnTo>
                <a:lnTo>
                  <a:pt x="496882" y="1184910"/>
                </a:lnTo>
                <a:lnTo>
                  <a:pt x="490219" y="1159193"/>
                </a:lnTo>
                <a:lnTo>
                  <a:pt x="484507" y="1132840"/>
                </a:lnTo>
                <a:lnTo>
                  <a:pt x="479113" y="1106170"/>
                </a:lnTo>
                <a:lnTo>
                  <a:pt x="473719" y="1078548"/>
                </a:lnTo>
                <a:lnTo>
                  <a:pt x="469277" y="1050290"/>
                </a:lnTo>
                <a:close/>
                <a:moveTo>
                  <a:pt x="742467" y="1024890"/>
                </a:moveTo>
                <a:lnTo>
                  <a:pt x="714228" y="1025525"/>
                </a:lnTo>
                <a:lnTo>
                  <a:pt x="686623" y="1026478"/>
                </a:lnTo>
                <a:lnTo>
                  <a:pt x="659019" y="1028065"/>
                </a:lnTo>
                <a:lnTo>
                  <a:pt x="631731" y="1029653"/>
                </a:lnTo>
                <a:lnTo>
                  <a:pt x="605396" y="1031875"/>
                </a:lnTo>
                <a:lnTo>
                  <a:pt x="578743" y="1034733"/>
                </a:lnTo>
                <a:lnTo>
                  <a:pt x="553043" y="1037908"/>
                </a:lnTo>
                <a:lnTo>
                  <a:pt x="527025" y="1041083"/>
                </a:lnTo>
                <a:lnTo>
                  <a:pt x="530515" y="1059498"/>
                </a:lnTo>
                <a:lnTo>
                  <a:pt x="533688" y="1077595"/>
                </a:lnTo>
                <a:lnTo>
                  <a:pt x="536861" y="1095375"/>
                </a:lnTo>
                <a:lnTo>
                  <a:pt x="540351" y="1112838"/>
                </a:lnTo>
                <a:lnTo>
                  <a:pt x="543841" y="1130300"/>
                </a:lnTo>
                <a:lnTo>
                  <a:pt x="547966" y="1147128"/>
                </a:lnTo>
                <a:lnTo>
                  <a:pt x="552091" y="1163638"/>
                </a:lnTo>
                <a:lnTo>
                  <a:pt x="556216" y="1180148"/>
                </a:lnTo>
                <a:lnTo>
                  <a:pt x="561292" y="1198245"/>
                </a:lnTo>
                <a:lnTo>
                  <a:pt x="566686" y="1216025"/>
                </a:lnTo>
                <a:lnTo>
                  <a:pt x="572080" y="1233488"/>
                </a:lnTo>
                <a:lnTo>
                  <a:pt x="577792" y="1250315"/>
                </a:lnTo>
                <a:lnTo>
                  <a:pt x="597464" y="1248410"/>
                </a:lnTo>
                <a:lnTo>
                  <a:pt x="617771" y="1246823"/>
                </a:lnTo>
                <a:lnTo>
                  <a:pt x="638077" y="1245235"/>
                </a:lnTo>
                <a:lnTo>
                  <a:pt x="658701" y="1243648"/>
                </a:lnTo>
                <a:lnTo>
                  <a:pt x="679326" y="1242378"/>
                </a:lnTo>
                <a:lnTo>
                  <a:pt x="699950" y="1241425"/>
                </a:lnTo>
                <a:lnTo>
                  <a:pt x="721208" y="1240790"/>
                </a:lnTo>
                <a:lnTo>
                  <a:pt x="742467" y="1240473"/>
                </a:lnTo>
                <a:lnTo>
                  <a:pt x="742467" y="1024890"/>
                </a:lnTo>
                <a:close/>
                <a:moveTo>
                  <a:pt x="507035" y="801688"/>
                </a:moveTo>
                <a:lnTo>
                  <a:pt x="507670" y="824865"/>
                </a:lnTo>
                <a:lnTo>
                  <a:pt x="508622" y="848360"/>
                </a:lnTo>
                <a:lnTo>
                  <a:pt x="509573" y="871538"/>
                </a:lnTo>
                <a:lnTo>
                  <a:pt x="510843" y="894080"/>
                </a:lnTo>
                <a:lnTo>
                  <a:pt x="512746" y="916940"/>
                </a:lnTo>
                <a:lnTo>
                  <a:pt x="514650" y="939165"/>
                </a:lnTo>
                <a:lnTo>
                  <a:pt x="516871" y="961073"/>
                </a:lnTo>
                <a:lnTo>
                  <a:pt x="519410" y="982663"/>
                </a:lnTo>
                <a:lnTo>
                  <a:pt x="546062" y="979170"/>
                </a:lnTo>
                <a:lnTo>
                  <a:pt x="572715" y="976313"/>
                </a:lnTo>
                <a:lnTo>
                  <a:pt x="600319" y="973455"/>
                </a:lnTo>
                <a:lnTo>
                  <a:pt x="627924" y="971233"/>
                </a:lnTo>
                <a:lnTo>
                  <a:pt x="656163" y="969328"/>
                </a:lnTo>
                <a:lnTo>
                  <a:pt x="684720" y="967740"/>
                </a:lnTo>
                <a:lnTo>
                  <a:pt x="713276" y="966788"/>
                </a:lnTo>
                <a:lnTo>
                  <a:pt x="742467" y="965835"/>
                </a:lnTo>
                <a:lnTo>
                  <a:pt x="742467" y="801688"/>
                </a:lnTo>
                <a:lnTo>
                  <a:pt x="507035" y="801688"/>
                </a:lnTo>
                <a:close/>
                <a:moveTo>
                  <a:pt x="273824" y="801688"/>
                </a:moveTo>
                <a:lnTo>
                  <a:pt x="274142" y="816610"/>
                </a:lnTo>
                <a:lnTo>
                  <a:pt x="275094" y="831533"/>
                </a:lnTo>
                <a:lnTo>
                  <a:pt x="276045" y="846455"/>
                </a:lnTo>
                <a:lnTo>
                  <a:pt x="276997" y="860743"/>
                </a:lnTo>
                <a:lnTo>
                  <a:pt x="278584" y="875665"/>
                </a:lnTo>
                <a:lnTo>
                  <a:pt x="280170" y="889953"/>
                </a:lnTo>
                <a:lnTo>
                  <a:pt x="281757" y="904558"/>
                </a:lnTo>
                <a:lnTo>
                  <a:pt x="283660" y="918845"/>
                </a:lnTo>
                <a:lnTo>
                  <a:pt x="285882" y="933133"/>
                </a:lnTo>
                <a:lnTo>
                  <a:pt x="288737" y="947103"/>
                </a:lnTo>
                <a:lnTo>
                  <a:pt x="291276" y="961073"/>
                </a:lnTo>
                <a:lnTo>
                  <a:pt x="293814" y="975043"/>
                </a:lnTo>
                <a:lnTo>
                  <a:pt x="296670" y="988695"/>
                </a:lnTo>
                <a:lnTo>
                  <a:pt x="299842" y="1002665"/>
                </a:lnTo>
                <a:lnTo>
                  <a:pt x="303015" y="1015683"/>
                </a:lnTo>
                <a:lnTo>
                  <a:pt x="306823" y="1029335"/>
                </a:lnTo>
                <a:lnTo>
                  <a:pt x="324909" y="1023938"/>
                </a:lnTo>
                <a:lnTo>
                  <a:pt x="343312" y="1018858"/>
                </a:lnTo>
                <a:lnTo>
                  <a:pt x="362032" y="1013778"/>
                </a:lnTo>
                <a:lnTo>
                  <a:pt x="381070" y="1009015"/>
                </a:lnTo>
                <a:lnTo>
                  <a:pt x="400742" y="1004570"/>
                </a:lnTo>
                <a:lnTo>
                  <a:pt x="420414" y="1000125"/>
                </a:lnTo>
                <a:lnTo>
                  <a:pt x="440721" y="995998"/>
                </a:lnTo>
                <a:lnTo>
                  <a:pt x="461345" y="992188"/>
                </a:lnTo>
                <a:lnTo>
                  <a:pt x="458489" y="969328"/>
                </a:lnTo>
                <a:lnTo>
                  <a:pt x="456268" y="945833"/>
                </a:lnTo>
                <a:lnTo>
                  <a:pt x="454047" y="922655"/>
                </a:lnTo>
                <a:lnTo>
                  <a:pt x="452461" y="899160"/>
                </a:lnTo>
                <a:lnTo>
                  <a:pt x="451191" y="874713"/>
                </a:lnTo>
                <a:lnTo>
                  <a:pt x="449922" y="850900"/>
                </a:lnTo>
                <a:lnTo>
                  <a:pt x="448970" y="826135"/>
                </a:lnTo>
                <a:lnTo>
                  <a:pt x="448653" y="801688"/>
                </a:lnTo>
                <a:lnTo>
                  <a:pt x="273824" y="801688"/>
                </a:lnTo>
                <a:close/>
                <a:moveTo>
                  <a:pt x="59334" y="801688"/>
                </a:moveTo>
                <a:lnTo>
                  <a:pt x="60286" y="821690"/>
                </a:lnTo>
                <a:lnTo>
                  <a:pt x="62507" y="841693"/>
                </a:lnTo>
                <a:lnTo>
                  <a:pt x="64411" y="861378"/>
                </a:lnTo>
                <a:lnTo>
                  <a:pt x="67266" y="881380"/>
                </a:lnTo>
                <a:lnTo>
                  <a:pt x="70439" y="900748"/>
                </a:lnTo>
                <a:lnTo>
                  <a:pt x="74247" y="919798"/>
                </a:lnTo>
                <a:lnTo>
                  <a:pt x="78372" y="938848"/>
                </a:lnTo>
                <a:lnTo>
                  <a:pt x="83448" y="957898"/>
                </a:lnTo>
                <a:lnTo>
                  <a:pt x="88525" y="976630"/>
                </a:lnTo>
                <a:lnTo>
                  <a:pt x="94236" y="995045"/>
                </a:lnTo>
                <a:lnTo>
                  <a:pt x="100899" y="1013143"/>
                </a:lnTo>
                <a:lnTo>
                  <a:pt x="107245" y="1031240"/>
                </a:lnTo>
                <a:lnTo>
                  <a:pt x="114860" y="1049020"/>
                </a:lnTo>
                <a:lnTo>
                  <a:pt x="122475" y="1066483"/>
                </a:lnTo>
                <a:lnTo>
                  <a:pt x="130408" y="1083628"/>
                </a:lnTo>
                <a:lnTo>
                  <a:pt x="138975" y="1100773"/>
                </a:lnTo>
                <a:lnTo>
                  <a:pt x="150080" y="1094740"/>
                </a:lnTo>
                <a:lnTo>
                  <a:pt x="161185" y="1088390"/>
                </a:lnTo>
                <a:lnTo>
                  <a:pt x="172925" y="1082358"/>
                </a:lnTo>
                <a:lnTo>
                  <a:pt x="184982" y="1076325"/>
                </a:lnTo>
                <a:lnTo>
                  <a:pt x="197039" y="1070293"/>
                </a:lnTo>
                <a:lnTo>
                  <a:pt x="209731" y="1064895"/>
                </a:lnTo>
                <a:lnTo>
                  <a:pt x="222740" y="1059498"/>
                </a:lnTo>
                <a:lnTo>
                  <a:pt x="236066" y="1054100"/>
                </a:lnTo>
                <a:lnTo>
                  <a:pt x="250979" y="1048385"/>
                </a:lnTo>
                <a:lnTo>
                  <a:pt x="247172" y="1033780"/>
                </a:lnTo>
                <a:lnTo>
                  <a:pt x="243364" y="1019175"/>
                </a:lnTo>
                <a:lnTo>
                  <a:pt x="240191" y="1004570"/>
                </a:lnTo>
                <a:lnTo>
                  <a:pt x="236701" y="989330"/>
                </a:lnTo>
                <a:lnTo>
                  <a:pt x="233528" y="974408"/>
                </a:lnTo>
                <a:lnTo>
                  <a:pt x="230672" y="959168"/>
                </a:lnTo>
                <a:lnTo>
                  <a:pt x="228134" y="943928"/>
                </a:lnTo>
                <a:lnTo>
                  <a:pt x="225913" y="928370"/>
                </a:lnTo>
                <a:lnTo>
                  <a:pt x="223692" y="912813"/>
                </a:lnTo>
                <a:lnTo>
                  <a:pt x="221788" y="897573"/>
                </a:lnTo>
                <a:lnTo>
                  <a:pt x="220202" y="881698"/>
                </a:lnTo>
                <a:lnTo>
                  <a:pt x="218615" y="865823"/>
                </a:lnTo>
                <a:lnTo>
                  <a:pt x="217029" y="849948"/>
                </a:lnTo>
                <a:lnTo>
                  <a:pt x="216077" y="834073"/>
                </a:lnTo>
                <a:lnTo>
                  <a:pt x="215125" y="817880"/>
                </a:lnTo>
                <a:lnTo>
                  <a:pt x="214808" y="801688"/>
                </a:lnTo>
                <a:lnTo>
                  <a:pt x="59334" y="801688"/>
                </a:lnTo>
                <a:close/>
                <a:moveTo>
                  <a:pt x="1734820" y="720725"/>
                </a:moveTo>
                <a:lnTo>
                  <a:pt x="1735138" y="764540"/>
                </a:lnTo>
                <a:lnTo>
                  <a:pt x="1735138" y="861378"/>
                </a:lnTo>
                <a:lnTo>
                  <a:pt x="1735138" y="913765"/>
                </a:lnTo>
                <a:lnTo>
                  <a:pt x="1734503" y="960120"/>
                </a:lnTo>
                <a:lnTo>
                  <a:pt x="1734185" y="979488"/>
                </a:lnTo>
                <a:lnTo>
                  <a:pt x="1733549" y="994728"/>
                </a:lnTo>
                <a:lnTo>
                  <a:pt x="1732914" y="1005840"/>
                </a:lnTo>
                <a:lnTo>
                  <a:pt x="1732596" y="1009333"/>
                </a:lnTo>
                <a:lnTo>
                  <a:pt x="1732278" y="1011238"/>
                </a:lnTo>
                <a:lnTo>
                  <a:pt x="1731642" y="1011873"/>
                </a:lnTo>
                <a:lnTo>
                  <a:pt x="1730689" y="1012190"/>
                </a:lnTo>
                <a:lnTo>
                  <a:pt x="1727511" y="1013143"/>
                </a:lnTo>
                <a:lnTo>
                  <a:pt x="1722744" y="1014095"/>
                </a:lnTo>
                <a:lnTo>
                  <a:pt x="1716071" y="1014730"/>
                </a:lnTo>
                <a:lnTo>
                  <a:pt x="1708443" y="1015365"/>
                </a:lnTo>
                <a:lnTo>
                  <a:pt x="1698910" y="1015683"/>
                </a:lnTo>
                <a:lnTo>
                  <a:pt x="1676982" y="1016000"/>
                </a:lnTo>
                <a:lnTo>
                  <a:pt x="1650923" y="1016000"/>
                </a:lnTo>
                <a:lnTo>
                  <a:pt x="1622321" y="1015683"/>
                </a:lnTo>
                <a:lnTo>
                  <a:pt x="1591496" y="1014730"/>
                </a:lnTo>
                <a:lnTo>
                  <a:pt x="1559716" y="1013778"/>
                </a:lnTo>
                <a:lnTo>
                  <a:pt x="1497746" y="1011555"/>
                </a:lnTo>
                <a:lnTo>
                  <a:pt x="1443404" y="1009333"/>
                </a:lnTo>
                <a:lnTo>
                  <a:pt x="1390650" y="1006793"/>
                </a:lnTo>
                <a:lnTo>
                  <a:pt x="1438319" y="1005205"/>
                </a:lnTo>
                <a:lnTo>
                  <a:pt x="1487259" y="1003300"/>
                </a:lnTo>
                <a:lnTo>
                  <a:pt x="1543509" y="1000443"/>
                </a:lnTo>
                <a:lnTo>
                  <a:pt x="1572428" y="998538"/>
                </a:lnTo>
                <a:lnTo>
                  <a:pt x="1600394" y="996633"/>
                </a:lnTo>
                <a:lnTo>
                  <a:pt x="1626771" y="994410"/>
                </a:lnTo>
                <a:lnTo>
                  <a:pt x="1650605" y="992188"/>
                </a:lnTo>
                <a:lnTo>
                  <a:pt x="1671262" y="989648"/>
                </a:lnTo>
                <a:lnTo>
                  <a:pt x="1679842" y="988378"/>
                </a:lnTo>
                <a:lnTo>
                  <a:pt x="1687787" y="986790"/>
                </a:lnTo>
                <a:lnTo>
                  <a:pt x="1693825" y="985520"/>
                </a:lnTo>
                <a:lnTo>
                  <a:pt x="1698592" y="983933"/>
                </a:lnTo>
                <a:lnTo>
                  <a:pt x="1702088" y="982028"/>
                </a:lnTo>
                <a:lnTo>
                  <a:pt x="1703359" y="981075"/>
                </a:lnTo>
                <a:lnTo>
                  <a:pt x="1704312" y="980440"/>
                </a:lnTo>
                <a:lnTo>
                  <a:pt x="1705266" y="978218"/>
                </a:lnTo>
                <a:lnTo>
                  <a:pt x="1706219" y="974725"/>
                </a:lnTo>
                <a:lnTo>
                  <a:pt x="1707490" y="969963"/>
                </a:lnTo>
                <a:lnTo>
                  <a:pt x="1708443" y="963930"/>
                </a:lnTo>
                <a:lnTo>
                  <a:pt x="1710986" y="949960"/>
                </a:lnTo>
                <a:lnTo>
                  <a:pt x="1713528" y="932498"/>
                </a:lnTo>
                <a:lnTo>
                  <a:pt x="1716071" y="912178"/>
                </a:lnTo>
                <a:lnTo>
                  <a:pt x="1718613" y="890270"/>
                </a:lnTo>
                <a:lnTo>
                  <a:pt x="1723698" y="844233"/>
                </a:lnTo>
                <a:lnTo>
                  <a:pt x="1728147" y="798513"/>
                </a:lnTo>
                <a:lnTo>
                  <a:pt x="1731642" y="759143"/>
                </a:lnTo>
                <a:lnTo>
                  <a:pt x="1734820" y="720725"/>
                </a:lnTo>
                <a:close/>
                <a:moveTo>
                  <a:pt x="519410" y="561340"/>
                </a:moveTo>
                <a:lnTo>
                  <a:pt x="516871" y="583565"/>
                </a:lnTo>
                <a:lnTo>
                  <a:pt x="514650" y="605473"/>
                </a:lnTo>
                <a:lnTo>
                  <a:pt x="512746" y="627698"/>
                </a:lnTo>
                <a:lnTo>
                  <a:pt x="510843" y="650240"/>
                </a:lnTo>
                <a:lnTo>
                  <a:pt x="509573" y="673100"/>
                </a:lnTo>
                <a:lnTo>
                  <a:pt x="508622" y="695960"/>
                </a:lnTo>
                <a:lnTo>
                  <a:pt x="507670" y="719138"/>
                </a:lnTo>
                <a:lnTo>
                  <a:pt x="507352" y="742950"/>
                </a:lnTo>
                <a:lnTo>
                  <a:pt x="742467" y="742950"/>
                </a:lnTo>
                <a:lnTo>
                  <a:pt x="742467" y="578485"/>
                </a:lnTo>
                <a:lnTo>
                  <a:pt x="713276" y="577850"/>
                </a:lnTo>
                <a:lnTo>
                  <a:pt x="684720" y="576580"/>
                </a:lnTo>
                <a:lnTo>
                  <a:pt x="656163" y="575310"/>
                </a:lnTo>
                <a:lnTo>
                  <a:pt x="627924" y="573405"/>
                </a:lnTo>
                <a:lnTo>
                  <a:pt x="600319" y="570865"/>
                </a:lnTo>
                <a:lnTo>
                  <a:pt x="573032" y="568325"/>
                </a:lnTo>
                <a:lnTo>
                  <a:pt x="546062" y="564833"/>
                </a:lnTo>
                <a:lnTo>
                  <a:pt x="519410" y="561340"/>
                </a:lnTo>
                <a:close/>
                <a:moveTo>
                  <a:pt x="1074474" y="554038"/>
                </a:moveTo>
                <a:lnTo>
                  <a:pt x="1100533" y="554038"/>
                </a:lnTo>
                <a:lnTo>
                  <a:pt x="1129135" y="554356"/>
                </a:lnTo>
                <a:lnTo>
                  <a:pt x="1159961" y="555308"/>
                </a:lnTo>
                <a:lnTo>
                  <a:pt x="1191422" y="556261"/>
                </a:lnTo>
                <a:lnTo>
                  <a:pt x="1253392" y="558483"/>
                </a:lnTo>
                <a:lnTo>
                  <a:pt x="1307734" y="560706"/>
                </a:lnTo>
                <a:lnTo>
                  <a:pt x="1360488" y="563246"/>
                </a:lnTo>
                <a:lnTo>
                  <a:pt x="1313137" y="564833"/>
                </a:lnTo>
                <a:lnTo>
                  <a:pt x="1264197" y="567056"/>
                </a:lnTo>
                <a:lnTo>
                  <a:pt x="1207947" y="569913"/>
                </a:lnTo>
                <a:lnTo>
                  <a:pt x="1179028" y="571501"/>
                </a:lnTo>
                <a:lnTo>
                  <a:pt x="1150745" y="573406"/>
                </a:lnTo>
                <a:lnTo>
                  <a:pt x="1124685" y="575628"/>
                </a:lnTo>
                <a:lnTo>
                  <a:pt x="1100851" y="577851"/>
                </a:lnTo>
                <a:lnTo>
                  <a:pt x="1079877" y="580391"/>
                </a:lnTo>
                <a:lnTo>
                  <a:pt x="1071296" y="581661"/>
                </a:lnTo>
                <a:lnTo>
                  <a:pt x="1063669" y="583248"/>
                </a:lnTo>
                <a:lnTo>
                  <a:pt x="1057313" y="584836"/>
                </a:lnTo>
                <a:lnTo>
                  <a:pt x="1052546" y="586423"/>
                </a:lnTo>
                <a:lnTo>
                  <a:pt x="1049051" y="588011"/>
                </a:lnTo>
                <a:lnTo>
                  <a:pt x="1048097" y="588963"/>
                </a:lnTo>
                <a:lnTo>
                  <a:pt x="1046826" y="589598"/>
                </a:lnTo>
                <a:lnTo>
                  <a:pt x="1045873" y="591821"/>
                </a:lnTo>
                <a:lnTo>
                  <a:pt x="1044919" y="595313"/>
                </a:lnTo>
                <a:lnTo>
                  <a:pt x="1042695" y="606108"/>
                </a:lnTo>
                <a:lnTo>
                  <a:pt x="1040152" y="620396"/>
                </a:lnTo>
                <a:lnTo>
                  <a:pt x="1037610" y="637858"/>
                </a:lnTo>
                <a:lnTo>
                  <a:pt x="1035386" y="657861"/>
                </a:lnTo>
                <a:lnTo>
                  <a:pt x="1032843" y="679768"/>
                </a:lnTo>
                <a:lnTo>
                  <a:pt x="1027441" y="726123"/>
                </a:lnTo>
                <a:lnTo>
                  <a:pt x="1022992" y="771526"/>
                </a:lnTo>
                <a:lnTo>
                  <a:pt x="1019496" y="811213"/>
                </a:lnTo>
                <a:lnTo>
                  <a:pt x="1016318" y="849313"/>
                </a:lnTo>
                <a:lnTo>
                  <a:pt x="1016000" y="805498"/>
                </a:lnTo>
                <a:lnTo>
                  <a:pt x="1016000" y="708978"/>
                </a:lnTo>
                <a:lnTo>
                  <a:pt x="1016318" y="656591"/>
                </a:lnTo>
                <a:lnTo>
                  <a:pt x="1016636" y="609918"/>
                </a:lnTo>
                <a:lnTo>
                  <a:pt x="1017271" y="590551"/>
                </a:lnTo>
                <a:lnTo>
                  <a:pt x="1017589" y="575311"/>
                </a:lnTo>
                <a:lnTo>
                  <a:pt x="1018225" y="564198"/>
                </a:lnTo>
                <a:lnTo>
                  <a:pt x="1018860" y="560706"/>
                </a:lnTo>
                <a:lnTo>
                  <a:pt x="1019178" y="558801"/>
                </a:lnTo>
                <a:lnTo>
                  <a:pt x="1019496" y="558166"/>
                </a:lnTo>
                <a:lnTo>
                  <a:pt x="1020449" y="557848"/>
                </a:lnTo>
                <a:lnTo>
                  <a:pt x="1023627" y="556896"/>
                </a:lnTo>
                <a:lnTo>
                  <a:pt x="1028394" y="555943"/>
                </a:lnTo>
                <a:lnTo>
                  <a:pt x="1035068" y="555308"/>
                </a:lnTo>
                <a:lnTo>
                  <a:pt x="1043013" y="554673"/>
                </a:lnTo>
                <a:lnTo>
                  <a:pt x="1052546" y="554356"/>
                </a:lnTo>
                <a:lnTo>
                  <a:pt x="1074474" y="554038"/>
                </a:lnTo>
                <a:close/>
                <a:moveTo>
                  <a:pt x="995680" y="516891"/>
                </a:moveTo>
                <a:lnTo>
                  <a:pt x="992187" y="517208"/>
                </a:lnTo>
                <a:lnTo>
                  <a:pt x="989330" y="518161"/>
                </a:lnTo>
                <a:lnTo>
                  <a:pt x="986790" y="519748"/>
                </a:lnTo>
                <a:lnTo>
                  <a:pt x="984567" y="521971"/>
                </a:lnTo>
                <a:lnTo>
                  <a:pt x="982662" y="524511"/>
                </a:lnTo>
                <a:lnTo>
                  <a:pt x="981075" y="527368"/>
                </a:lnTo>
                <a:lnTo>
                  <a:pt x="980440" y="530543"/>
                </a:lnTo>
                <a:lnTo>
                  <a:pt x="980122" y="534353"/>
                </a:lnTo>
                <a:lnTo>
                  <a:pt x="980122" y="1036638"/>
                </a:lnTo>
                <a:lnTo>
                  <a:pt x="980440" y="1040131"/>
                </a:lnTo>
                <a:lnTo>
                  <a:pt x="981075" y="1043306"/>
                </a:lnTo>
                <a:lnTo>
                  <a:pt x="982662" y="1046163"/>
                </a:lnTo>
                <a:lnTo>
                  <a:pt x="984567" y="1048703"/>
                </a:lnTo>
                <a:lnTo>
                  <a:pt x="986790" y="1050926"/>
                </a:lnTo>
                <a:lnTo>
                  <a:pt x="989330" y="1052196"/>
                </a:lnTo>
                <a:lnTo>
                  <a:pt x="992187" y="1053783"/>
                </a:lnTo>
                <a:lnTo>
                  <a:pt x="995680" y="1054101"/>
                </a:lnTo>
                <a:lnTo>
                  <a:pt x="1752918" y="1054101"/>
                </a:lnTo>
                <a:lnTo>
                  <a:pt x="1756093" y="1053783"/>
                </a:lnTo>
                <a:lnTo>
                  <a:pt x="1759268" y="1052196"/>
                </a:lnTo>
                <a:lnTo>
                  <a:pt x="1761808" y="1050926"/>
                </a:lnTo>
                <a:lnTo>
                  <a:pt x="1764030" y="1048703"/>
                </a:lnTo>
                <a:lnTo>
                  <a:pt x="1765935" y="1046163"/>
                </a:lnTo>
                <a:lnTo>
                  <a:pt x="1767205" y="1043306"/>
                </a:lnTo>
                <a:lnTo>
                  <a:pt x="1768158" y="1040131"/>
                </a:lnTo>
                <a:lnTo>
                  <a:pt x="1768475" y="1036638"/>
                </a:lnTo>
                <a:lnTo>
                  <a:pt x="1768475" y="534353"/>
                </a:lnTo>
                <a:lnTo>
                  <a:pt x="1768158" y="530543"/>
                </a:lnTo>
                <a:lnTo>
                  <a:pt x="1767205" y="527368"/>
                </a:lnTo>
                <a:lnTo>
                  <a:pt x="1765935" y="524511"/>
                </a:lnTo>
                <a:lnTo>
                  <a:pt x="1764030" y="521971"/>
                </a:lnTo>
                <a:lnTo>
                  <a:pt x="1761808" y="519748"/>
                </a:lnTo>
                <a:lnTo>
                  <a:pt x="1759268" y="518161"/>
                </a:lnTo>
                <a:lnTo>
                  <a:pt x="1756093" y="517208"/>
                </a:lnTo>
                <a:lnTo>
                  <a:pt x="1752918" y="516891"/>
                </a:lnTo>
                <a:lnTo>
                  <a:pt x="995680" y="516891"/>
                </a:lnTo>
                <a:close/>
                <a:moveTo>
                  <a:pt x="306823" y="515303"/>
                </a:moveTo>
                <a:lnTo>
                  <a:pt x="303015" y="528320"/>
                </a:lnTo>
                <a:lnTo>
                  <a:pt x="299842" y="541973"/>
                </a:lnTo>
                <a:lnTo>
                  <a:pt x="296670" y="555625"/>
                </a:lnTo>
                <a:lnTo>
                  <a:pt x="293814" y="569595"/>
                </a:lnTo>
                <a:lnTo>
                  <a:pt x="290958" y="583565"/>
                </a:lnTo>
                <a:lnTo>
                  <a:pt x="288420" y="597218"/>
                </a:lnTo>
                <a:lnTo>
                  <a:pt x="285882" y="611505"/>
                </a:lnTo>
                <a:lnTo>
                  <a:pt x="283660" y="625793"/>
                </a:lnTo>
                <a:lnTo>
                  <a:pt x="281757" y="640080"/>
                </a:lnTo>
                <a:lnTo>
                  <a:pt x="280170" y="654368"/>
                </a:lnTo>
                <a:lnTo>
                  <a:pt x="278584" y="668655"/>
                </a:lnTo>
                <a:lnTo>
                  <a:pt x="276997" y="683260"/>
                </a:lnTo>
                <a:lnTo>
                  <a:pt x="276045" y="698183"/>
                </a:lnTo>
                <a:lnTo>
                  <a:pt x="275094" y="713105"/>
                </a:lnTo>
                <a:lnTo>
                  <a:pt x="274142" y="728028"/>
                </a:lnTo>
                <a:lnTo>
                  <a:pt x="273824" y="742950"/>
                </a:lnTo>
                <a:lnTo>
                  <a:pt x="448336" y="742950"/>
                </a:lnTo>
                <a:lnTo>
                  <a:pt x="448970" y="718185"/>
                </a:lnTo>
                <a:lnTo>
                  <a:pt x="449922" y="693738"/>
                </a:lnTo>
                <a:lnTo>
                  <a:pt x="450874" y="669290"/>
                </a:lnTo>
                <a:lnTo>
                  <a:pt x="452461" y="645478"/>
                </a:lnTo>
                <a:lnTo>
                  <a:pt x="454047" y="621983"/>
                </a:lnTo>
                <a:lnTo>
                  <a:pt x="456268" y="598170"/>
                </a:lnTo>
                <a:lnTo>
                  <a:pt x="458489" y="574993"/>
                </a:lnTo>
                <a:lnTo>
                  <a:pt x="461345" y="552450"/>
                </a:lnTo>
                <a:lnTo>
                  <a:pt x="432154" y="546418"/>
                </a:lnTo>
                <a:lnTo>
                  <a:pt x="403597" y="540703"/>
                </a:lnTo>
                <a:lnTo>
                  <a:pt x="376310" y="534353"/>
                </a:lnTo>
                <a:lnTo>
                  <a:pt x="349023" y="527368"/>
                </a:lnTo>
                <a:lnTo>
                  <a:pt x="327764" y="521335"/>
                </a:lnTo>
                <a:lnTo>
                  <a:pt x="306823" y="515303"/>
                </a:lnTo>
                <a:close/>
                <a:moveTo>
                  <a:pt x="956945" y="477838"/>
                </a:moveTo>
                <a:lnTo>
                  <a:pt x="958532" y="477838"/>
                </a:lnTo>
                <a:lnTo>
                  <a:pt x="1789748" y="477838"/>
                </a:lnTo>
                <a:lnTo>
                  <a:pt x="1791653" y="477838"/>
                </a:lnTo>
                <a:lnTo>
                  <a:pt x="1793240" y="478156"/>
                </a:lnTo>
                <a:lnTo>
                  <a:pt x="1796415" y="479743"/>
                </a:lnTo>
                <a:lnTo>
                  <a:pt x="1799273" y="481648"/>
                </a:lnTo>
                <a:lnTo>
                  <a:pt x="1801813" y="483871"/>
                </a:lnTo>
                <a:lnTo>
                  <a:pt x="1803718" y="486728"/>
                </a:lnTo>
                <a:lnTo>
                  <a:pt x="1805305" y="490221"/>
                </a:lnTo>
                <a:lnTo>
                  <a:pt x="1806258" y="493713"/>
                </a:lnTo>
                <a:lnTo>
                  <a:pt x="1806575" y="498158"/>
                </a:lnTo>
                <a:lnTo>
                  <a:pt x="1806575" y="1074103"/>
                </a:lnTo>
                <a:lnTo>
                  <a:pt x="1806258" y="1077913"/>
                </a:lnTo>
                <a:lnTo>
                  <a:pt x="1805305" y="1081406"/>
                </a:lnTo>
                <a:lnTo>
                  <a:pt x="1803718" y="1084898"/>
                </a:lnTo>
                <a:lnTo>
                  <a:pt x="1801813" y="1088073"/>
                </a:lnTo>
                <a:lnTo>
                  <a:pt x="1799273" y="1090613"/>
                </a:lnTo>
                <a:lnTo>
                  <a:pt x="1796415" y="1092201"/>
                </a:lnTo>
                <a:lnTo>
                  <a:pt x="1793240" y="1093471"/>
                </a:lnTo>
                <a:lnTo>
                  <a:pt x="1791653" y="1093788"/>
                </a:lnTo>
                <a:lnTo>
                  <a:pt x="1789748" y="1093788"/>
                </a:lnTo>
                <a:lnTo>
                  <a:pt x="958532" y="1093788"/>
                </a:lnTo>
                <a:lnTo>
                  <a:pt x="956945" y="1093788"/>
                </a:lnTo>
                <a:lnTo>
                  <a:pt x="955040" y="1093471"/>
                </a:lnTo>
                <a:lnTo>
                  <a:pt x="951865" y="1092201"/>
                </a:lnTo>
                <a:lnTo>
                  <a:pt x="949325" y="1090613"/>
                </a:lnTo>
                <a:lnTo>
                  <a:pt x="946785" y="1088073"/>
                </a:lnTo>
                <a:lnTo>
                  <a:pt x="944562" y="1084898"/>
                </a:lnTo>
                <a:lnTo>
                  <a:pt x="942657" y="1081406"/>
                </a:lnTo>
                <a:lnTo>
                  <a:pt x="941705" y="1077913"/>
                </a:lnTo>
                <a:lnTo>
                  <a:pt x="941387" y="1074103"/>
                </a:lnTo>
                <a:lnTo>
                  <a:pt x="941387" y="498158"/>
                </a:lnTo>
                <a:lnTo>
                  <a:pt x="941705" y="493713"/>
                </a:lnTo>
                <a:lnTo>
                  <a:pt x="942657" y="490221"/>
                </a:lnTo>
                <a:lnTo>
                  <a:pt x="944562" y="486728"/>
                </a:lnTo>
                <a:lnTo>
                  <a:pt x="946785" y="483871"/>
                </a:lnTo>
                <a:lnTo>
                  <a:pt x="949325" y="481648"/>
                </a:lnTo>
                <a:lnTo>
                  <a:pt x="951865" y="479743"/>
                </a:lnTo>
                <a:lnTo>
                  <a:pt x="955040" y="478156"/>
                </a:lnTo>
                <a:lnTo>
                  <a:pt x="956945" y="477838"/>
                </a:lnTo>
                <a:close/>
                <a:moveTo>
                  <a:pt x="138975" y="443230"/>
                </a:moveTo>
                <a:lnTo>
                  <a:pt x="130408" y="460375"/>
                </a:lnTo>
                <a:lnTo>
                  <a:pt x="122475" y="477838"/>
                </a:lnTo>
                <a:lnTo>
                  <a:pt x="114860" y="495300"/>
                </a:lnTo>
                <a:lnTo>
                  <a:pt x="107245" y="513080"/>
                </a:lnTo>
                <a:lnTo>
                  <a:pt x="100899" y="531178"/>
                </a:lnTo>
                <a:lnTo>
                  <a:pt x="94236" y="549593"/>
                </a:lnTo>
                <a:lnTo>
                  <a:pt x="88525" y="568008"/>
                </a:lnTo>
                <a:lnTo>
                  <a:pt x="83448" y="586740"/>
                </a:lnTo>
                <a:lnTo>
                  <a:pt x="78372" y="605473"/>
                </a:lnTo>
                <a:lnTo>
                  <a:pt x="74247" y="624523"/>
                </a:lnTo>
                <a:lnTo>
                  <a:pt x="70439" y="643890"/>
                </a:lnTo>
                <a:lnTo>
                  <a:pt x="67266" y="663258"/>
                </a:lnTo>
                <a:lnTo>
                  <a:pt x="64411" y="682943"/>
                </a:lnTo>
                <a:lnTo>
                  <a:pt x="62507" y="702628"/>
                </a:lnTo>
                <a:lnTo>
                  <a:pt x="60286" y="722948"/>
                </a:lnTo>
                <a:lnTo>
                  <a:pt x="59334" y="742950"/>
                </a:lnTo>
                <a:lnTo>
                  <a:pt x="214808" y="742950"/>
                </a:lnTo>
                <a:lnTo>
                  <a:pt x="215125" y="726758"/>
                </a:lnTo>
                <a:lnTo>
                  <a:pt x="216077" y="710565"/>
                </a:lnTo>
                <a:lnTo>
                  <a:pt x="217029" y="694373"/>
                </a:lnTo>
                <a:lnTo>
                  <a:pt x="218615" y="678498"/>
                </a:lnTo>
                <a:lnTo>
                  <a:pt x="220202" y="662623"/>
                </a:lnTo>
                <a:lnTo>
                  <a:pt x="221788" y="647065"/>
                </a:lnTo>
                <a:lnTo>
                  <a:pt x="223692" y="631190"/>
                </a:lnTo>
                <a:lnTo>
                  <a:pt x="225913" y="615950"/>
                </a:lnTo>
                <a:lnTo>
                  <a:pt x="228134" y="600710"/>
                </a:lnTo>
                <a:lnTo>
                  <a:pt x="230672" y="585470"/>
                </a:lnTo>
                <a:lnTo>
                  <a:pt x="233528" y="570230"/>
                </a:lnTo>
                <a:lnTo>
                  <a:pt x="236701" y="554990"/>
                </a:lnTo>
                <a:lnTo>
                  <a:pt x="239874" y="540068"/>
                </a:lnTo>
                <a:lnTo>
                  <a:pt x="243364" y="525145"/>
                </a:lnTo>
                <a:lnTo>
                  <a:pt x="247172" y="510540"/>
                </a:lnTo>
                <a:lnTo>
                  <a:pt x="250979" y="496253"/>
                </a:lnTo>
                <a:lnTo>
                  <a:pt x="235749" y="490220"/>
                </a:lnTo>
                <a:lnTo>
                  <a:pt x="220519" y="484188"/>
                </a:lnTo>
                <a:lnTo>
                  <a:pt x="205924" y="477520"/>
                </a:lnTo>
                <a:lnTo>
                  <a:pt x="191645" y="471170"/>
                </a:lnTo>
                <a:lnTo>
                  <a:pt x="177684" y="464820"/>
                </a:lnTo>
                <a:lnTo>
                  <a:pt x="164358" y="457518"/>
                </a:lnTo>
                <a:lnTo>
                  <a:pt x="151666" y="450850"/>
                </a:lnTo>
                <a:lnTo>
                  <a:pt x="138975" y="443230"/>
                </a:lnTo>
                <a:close/>
                <a:moveTo>
                  <a:pt x="577792" y="294005"/>
                </a:moveTo>
                <a:lnTo>
                  <a:pt x="570177" y="317500"/>
                </a:lnTo>
                <a:lnTo>
                  <a:pt x="562562" y="341630"/>
                </a:lnTo>
                <a:lnTo>
                  <a:pt x="555581" y="366713"/>
                </a:lnTo>
                <a:lnTo>
                  <a:pt x="549235" y="392748"/>
                </a:lnTo>
                <a:lnTo>
                  <a:pt x="542889" y="419100"/>
                </a:lnTo>
                <a:lnTo>
                  <a:pt x="537495" y="446405"/>
                </a:lnTo>
                <a:lnTo>
                  <a:pt x="532101" y="474345"/>
                </a:lnTo>
                <a:lnTo>
                  <a:pt x="527342" y="503238"/>
                </a:lnTo>
                <a:lnTo>
                  <a:pt x="553043" y="506413"/>
                </a:lnTo>
                <a:lnTo>
                  <a:pt x="578743" y="509588"/>
                </a:lnTo>
                <a:lnTo>
                  <a:pt x="605396" y="512128"/>
                </a:lnTo>
                <a:lnTo>
                  <a:pt x="631731" y="514668"/>
                </a:lnTo>
                <a:lnTo>
                  <a:pt x="659019" y="516573"/>
                </a:lnTo>
                <a:lnTo>
                  <a:pt x="686623" y="517843"/>
                </a:lnTo>
                <a:lnTo>
                  <a:pt x="714228" y="519113"/>
                </a:lnTo>
                <a:lnTo>
                  <a:pt x="742467" y="519748"/>
                </a:lnTo>
                <a:lnTo>
                  <a:pt x="742467" y="303848"/>
                </a:lnTo>
                <a:lnTo>
                  <a:pt x="721208" y="303213"/>
                </a:lnTo>
                <a:lnTo>
                  <a:pt x="699950" y="302578"/>
                </a:lnTo>
                <a:lnTo>
                  <a:pt x="679326" y="301625"/>
                </a:lnTo>
                <a:lnTo>
                  <a:pt x="658701" y="300673"/>
                </a:lnTo>
                <a:lnTo>
                  <a:pt x="638077" y="299403"/>
                </a:lnTo>
                <a:lnTo>
                  <a:pt x="618088" y="297815"/>
                </a:lnTo>
                <a:lnTo>
                  <a:pt x="597464" y="295910"/>
                </a:lnTo>
                <a:lnTo>
                  <a:pt x="577792" y="294005"/>
                </a:lnTo>
                <a:close/>
                <a:moveTo>
                  <a:pt x="418510" y="269240"/>
                </a:moveTo>
                <a:lnTo>
                  <a:pt x="411530" y="279718"/>
                </a:lnTo>
                <a:lnTo>
                  <a:pt x="404549" y="290513"/>
                </a:lnTo>
                <a:lnTo>
                  <a:pt x="397886" y="300990"/>
                </a:lnTo>
                <a:lnTo>
                  <a:pt x="391223" y="312103"/>
                </a:lnTo>
                <a:lnTo>
                  <a:pt x="384560" y="323533"/>
                </a:lnTo>
                <a:lnTo>
                  <a:pt x="378531" y="334645"/>
                </a:lnTo>
                <a:lnTo>
                  <a:pt x="371868" y="346393"/>
                </a:lnTo>
                <a:lnTo>
                  <a:pt x="366157" y="358458"/>
                </a:lnTo>
                <a:lnTo>
                  <a:pt x="360446" y="370205"/>
                </a:lnTo>
                <a:lnTo>
                  <a:pt x="354417" y="382270"/>
                </a:lnTo>
                <a:lnTo>
                  <a:pt x="349023" y="394653"/>
                </a:lnTo>
                <a:lnTo>
                  <a:pt x="343946" y="407035"/>
                </a:lnTo>
                <a:lnTo>
                  <a:pt x="338870" y="419735"/>
                </a:lnTo>
                <a:lnTo>
                  <a:pt x="333476" y="432753"/>
                </a:lnTo>
                <a:lnTo>
                  <a:pt x="328716" y="445770"/>
                </a:lnTo>
                <a:lnTo>
                  <a:pt x="324274" y="458788"/>
                </a:lnTo>
                <a:lnTo>
                  <a:pt x="341091" y="463868"/>
                </a:lnTo>
                <a:lnTo>
                  <a:pt x="358224" y="468948"/>
                </a:lnTo>
                <a:lnTo>
                  <a:pt x="375993" y="473393"/>
                </a:lnTo>
                <a:lnTo>
                  <a:pt x="393761" y="477838"/>
                </a:lnTo>
                <a:lnTo>
                  <a:pt x="412164" y="482283"/>
                </a:lnTo>
                <a:lnTo>
                  <a:pt x="430885" y="486410"/>
                </a:lnTo>
                <a:lnTo>
                  <a:pt x="449922" y="490220"/>
                </a:lnTo>
                <a:lnTo>
                  <a:pt x="469277" y="493713"/>
                </a:lnTo>
                <a:lnTo>
                  <a:pt x="472133" y="474663"/>
                </a:lnTo>
                <a:lnTo>
                  <a:pt x="475623" y="455930"/>
                </a:lnTo>
                <a:lnTo>
                  <a:pt x="479113" y="437515"/>
                </a:lnTo>
                <a:lnTo>
                  <a:pt x="482921" y="419418"/>
                </a:lnTo>
                <a:lnTo>
                  <a:pt x="486728" y="401320"/>
                </a:lnTo>
                <a:lnTo>
                  <a:pt x="490536" y="383540"/>
                </a:lnTo>
                <a:lnTo>
                  <a:pt x="495295" y="366395"/>
                </a:lnTo>
                <a:lnTo>
                  <a:pt x="499420" y="349250"/>
                </a:lnTo>
                <a:lnTo>
                  <a:pt x="503862" y="333058"/>
                </a:lnTo>
                <a:lnTo>
                  <a:pt x="508304" y="317183"/>
                </a:lnTo>
                <a:lnTo>
                  <a:pt x="513381" y="301943"/>
                </a:lnTo>
                <a:lnTo>
                  <a:pt x="518140" y="286703"/>
                </a:lnTo>
                <a:lnTo>
                  <a:pt x="492440" y="282893"/>
                </a:lnTo>
                <a:lnTo>
                  <a:pt x="467691" y="278765"/>
                </a:lnTo>
                <a:lnTo>
                  <a:pt x="442942" y="274320"/>
                </a:lnTo>
                <a:lnTo>
                  <a:pt x="418510" y="269240"/>
                </a:lnTo>
                <a:close/>
                <a:moveTo>
                  <a:pt x="299208" y="238125"/>
                </a:moveTo>
                <a:lnTo>
                  <a:pt x="283026" y="252730"/>
                </a:lnTo>
                <a:lnTo>
                  <a:pt x="275411" y="260033"/>
                </a:lnTo>
                <a:lnTo>
                  <a:pt x="267479" y="267653"/>
                </a:lnTo>
                <a:lnTo>
                  <a:pt x="253835" y="281940"/>
                </a:lnTo>
                <a:lnTo>
                  <a:pt x="240191" y="296863"/>
                </a:lnTo>
                <a:lnTo>
                  <a:pt x="227182" y="311785"/>
                </a:lnTo>
                <a:lnTo>
                  <a:pt x="214490" y="327343"/>
                </a:lnTo>
                <a:lnTo>
                  <a:pt x="202433" y="343218"/>
                </a:lnTo>
                <a:lnTo>
                  <a:pt x="190376" y="359093"/>
                </a:lnTo>
                <a:lnTo>
                  <a:pt x="178954" y="375603"/>
                </a:lnTo>
                <a:lnTo>
                  <a:pt x="168483" y="392430"/>
                </a:lnTo>
                <a:lnTo>
                  <a:pt x="178002" y="398145"/>
                </a:lnTo>
                <a:lnTo>
                  <a:pt x="188472" y="403860"/>
                </a:lnTo>
                <a:lnTo>
                  <a:pt x="198943" y="409575"/>
                </a:lnTo>
                <a:lnTo>
                  <a:pt x="210048" y="414973"/>
                </a:lnTo>
                <a:lnTo>
                  <a:pt x="221471" y="420053"/>
                </a:lnTo>
                <a:lnTo>
                  <a:pt x="232894" y="425450"/>
                </a:lnTo>
                <a:lnTo>
                  <a:pt x="245268" y="430848"/>
                </a:lnTo>
                <a:lnTo>
                  <a:pt x="257642" y="435610"/>
                </a:lnTo>
                <a:lnTo>
                  <a:pt x="268430" y="439738"/>
                </a:lnTo>
                <a:lnTo>
                  <a:pt x="277315" y="414655"/>
                </a:lnTo>
                <a:lnTo>
                  <a:pt x="287151" y="390208"/>
                </a:lnTo>
                <a:lnTo>
                  <a:pt x="297304" y="366078"/>
                </a:lnTo>
                <a:lnTo>
                  <a:pt x="302381" y="354330"/>
                </a:lnTo>
                <a:lnTo>
                  <a:pt x="308409" y="342900"/>
                </a:lnTo>
                <a:lnTo>
                  <a:pt x="313803" y="331153"/>
                </a:lnTo>
                <a:lnTo>
                  <a:pt x="319515" y="319723"/>
                </a:lnTo>
                <a:lnTo>
                  <a:pt x="325543" y="308610"/>
                </a:lnTo>
                <a:lnTo>
                  <a:pt x="331572" y="297498"/>
                </a:lnTo>
                <a:lnTo>
                  <a:pt x="337600" y="286703"/>
                </a:lnTo>
                <a:lnTo>
                  <a:pt x="344264" y="275908"/>
                </a:lnTo>
                <a:lnTo>
                  <a:pt x="350609" y="265430"/>
                </a:lnTo>
                <a:lnTo>
                  <a:pt x="357590" y="254953"/>
                </a:lnTo>
                <a:lnTo>
                  <a:pt x="349023" y="253048"/>
                </a:lnTo>
                <a:lnTo>
                  <a:pt x="323957" y="245745"/>
                </a:lnTo>
                <a:lnTo>
                  <a:pt x="299208" y="238125"/>
                </a:lnTo>
                <a:close/>
                <a:moveTo>
                  <a:pt x="1081336" y="129223"/>
                </a:moveTo>
                <a:lnTo>
                  <a:pt x="1090538" y="137795"/>
                </a:lnTo>
                <a:lnTo>
                  <a:pt x="1099422" y="146368"/>
                </a:lnTo>
                <a:lnTo>
                  <a:pt x="1107989" y="155575"/>
                </a:lnTo>
                <a:lnTo>
                  <a:pt x="1116873" y="164465"/>
                </a:lnTo>
                <a:lnTo>
                  <a:pt x="1125123" y="173990"/>
                </a:lnTo>
                <a:lnTo>
                  <a:pt x="1133690" y="183833"/>
                </a:lnTo>
                <a:lnTo>
                  <a:pt x="1141622" y="193358"/>
                </a:lnTo>
                <a:lnTo>
                  <a:pt x="1149555" y="203518"/>
                </a:lnTo>
                <a:lnTo>
                  <a:pt x="1164467" y="199708"/>
                </a:lnTo>
                <a:lnTo>
                  <a:pt x="1179380" y="195898"/>
                </a:lnTo>
                <a:lnTo>
                  <a:pt x="1188899" y="193358"/>
                </a:lnTo>
                <a:lnTo>
                  <a:pt x="1175890" y="184468"/>
                </a:lnTo>
                <a:lnTo>
                  <a:pt x="1162881" y="175578"/>
                </a:lnTo>
                <a:lnTo>
                  <a:pt x="1149872" y="167323"/>
                </a:lnTo>
                <a:lnTo>
                  <a:pt x="1136863" y="159068"/>
                </a:lnTo>
                <a:lnTo>
                  <a:pt x="1123219" y="151130"/>
                </a:lnTo>
                <a:lnTo>
                  <a:pt x="1109258" y="143510"/>
                </a:lnTo>
                <a:lnTo>
                  <a:pt x="1095297" y="136208"/>
                </a:lnTo>
                <a:lnTo>
                  <a:pt x="1081336" y="129223"/>
                </a:lnTo>
                <a:close/>
                <a:moveTo>
                  <a:pt x="462297" y="129223"/>
                </a:moveTo>
                <a:lnTo>
                  <a:pt x="448336" y="136208"/>
                </a:lnTo>
                <a:lnTo>
                  <a:pt x="434375" y="143510"/>
                </a:lnTo>
                <a:lnTo>
                  <a:pt x="420731" y="151130"/>
                </a:lnTo>
                <a:lnTo>
                  <a:pt x="407088" y="159068"/>
                </a:lnTo>
                <a:lnTo>
                  <a:pt x="394079" y="167323"/>
                </a:lnTo>
                <a:lnTo>
                  <a:pt x="380752" y="175578"/>
                </a:lnTo>
                <a:lnTo>
                  <a:pt x="367743" y="184468"/>
                </a:lnTo>
                <a:lnTo>
                  <a:pt x="355052" y="193358"/>
                </a:lnTo>
                <a:lnTo>
                  <a:pt x="374406" y="198438"/>
                </a:lnTo>
                <a:lnTo>
                  <a:pt x="394079" y="203518"/>
                </a:lnTo>
                <a:lnTo>
                  <a:pt x="402011" y="193358"/>
                </a:lnTo>
                <a:lnTo>
                  <a:pt x="410261" y="183833"/>
                </a:lnTo>
                <a:lnTo>
                  <a:pt x="418510" y="173990"/>
                </a:lnTo>
                <a:lnTo>
                  <a:pt x="427077" y="164465"/>
                </a:lnTo>
                <a:lnTo>
                  <a:pt x="435644" y="155575"/>
                </a:lnTo>
                <a:lnTo>
                  <a:pt x="444528" y="146368"/>
                </a:lnTo>
                <a:lnTo>
                  <a:pt x="453095" y="137795"/>
                </a:lnTo>
                <a:lnTo>
                  <a:pt x="462297" y="129223"/>
                </a:lnTo>
                <a:close/>
                <a:moveTo>
                  <a:pt x="931891" y="96838"/>
                </a:moveTo>
                <a:lnTo>
                  <a:pt x="942045" y="110490"/>
                </a:lnTo>
                <a:lnTo>
                  <a:pt x="951881" y="125413"/>
                </a:lnTo>
                <a:lnTo>
                  <a:pt x="961717" y="140970"/>
                </a:lnTo>
                <a:lnTo>
                  <a:pt x="970918" y="157480"/>
                </a:lnTo>
                <a:lnTo>
                  <a:pt x="979803" y="174625"/>
                </a:lnTo>
                <a:lnTo>
                  <a:pt x="988369" y="192405"/>
                </a:lnTo>
                <a:lnTo>
                  <a:pt x="996936" y="210820"/>
                </a:lnTo>
                <a:lnTo>
                  <a:pt x="1004869" y="230188"/>
                </a:lnTo>
                <a:lnTo>
                  <a:pt x="1025176" y="227330"/>
                </a:lnTo>
                <a:lnTo>
                  <a:pt x="1045165" y="224155"/>
                </a:lnTo>
                <a:lnTo>
                  <a:pt x="1065472" y="220980"/>
                </a:lnTo>
                <a:lnTo>
                  <a:pt x="1084827" y="217170"/>
                </a:lnTo>
                <a:lnTo>
                  <a:pt x="1076260" y="207645"/>
                </a:lnTo>
                <a:lnTo>
                  <a:pt x="1067376" y="198120"/>
                </a:lnTo>
                <a:lnTo>
                  <a:pt x="1058491" y="188913"/>
                </a:lnTo>
                <a:lnTo>
                  <a:pt x="1049607" y="180023"/>
                </a:lnTo>
                <a:lnTo>
                  <a:pt x="1040406" y="171450"/>
                </a:lnTo>
                <a:lnTo>
                  <a:pt x="1031204" y="163195"/>
                </a:lnTo>
                <a:lnTo>
                  <a:pt x="1021685" y="155258"/>
                </a:lnTo>
                <a:lnTo>
                  <a:pt x="1011849" y="147320"/>
                </a:lnTo>
                <a:lnTo>
                  <a:pt x="1002648" y="140018"/>
                </a:lnTo>
                <a:lnTo>
                  <a:pt x="992494" y="133033"/>
                </a:lnTo>
                <a:lnTo>
                  <a:pt x="982975" y="126048"/>
                </a:lnTo>
                <a:lnTo>
                  <a:pt x="972822" y="119380"/>
                </a:lnTo>
                <a:lnTo>
                  <a:pt x="962986" y="113348"/>
                </a:lnTo>
                <a:lnTo>
                  <a:pt x="952515" y="107315"/>
                </a:lnTo>
                <a:lnTo>
                  <a:pt x="942045" y="101918"/>
                </a:lnTo>
                <a:lnTo>
                  <a:pt x="931891" y="96838"/>
                </a:lnTo>
                <a:close/>
                <a:moveTo>
                  <a:pt x="611742" y="96838"/>
                </a:moveTo>
                <a:lnTo>
                  <a:pt x="601589" y="101918"/>
                </a:lnTo>
                <a:lnTo>
                  <a:pt x="591118" y="107315"/>
                </a:lnTo>
                <a:lnTo>
                  <a:pt x="580965" y="113348"/>
                </a:lnTo>
                <a:lnTo>
                  <a:pt x="570811" y="119698"/>
                </a:lnTo>
                <a:lnTo>
                  <a:pt x="560658" y="126048"/>
                </a:lnTo>
                <a:lnTo>
                  <a:pt x="551139" y="133033"/>
                </a:lnTo>
                <a:lnTo>
                  <a:pt x="540986" y="140018"/>
                </a:lnTo>
                <a:lnTo>
                  <a:pt x="531784" y="147320"/>
                </a:lnTo>
                <a:lnTo>
                  <a:pt x="521948" y="155258"/>
                </a:lnTo>
                <a:lnTo>
                  <a:pt x="512746" y="163195"/>
                </a:lnTo>
                <a:lnTo>
                  <a:pt x="503228" y="171450"/>
                </a:lnTo>
                <a:lnTo>
                  <a:pt x="494343" y="180023"/>
                </a:lnTo>
                <a:lnTo>
                  <a:pt x="485142" y="189230"/>
                </a:lnTo>
                <a:lnTo>
                  <a:pt x="476258" y="198120"/>
                </a:lnTo>
                <a:lnTo>
                  <a:pt x="467691" y="207645"/>
                </a:lnTo>
                <a:lnTo>
                  <a:pt x="458807" y="217170"/>
                </a:lnTo>
                <a:lnTo>
                  <a:pt x="478479" y="220980"/>
                </a:lnTo>
                <a:lnTo>
                  <a:pt x="498468" y="224155"/>
                </a:lnTo>
                <a:lnTo>
                  <a:pt x="518458" y="227330"/>
                </a:lnTo>
                <a:lnTo>
                  <a:pt x="538764" y="230188"/>
                </a:lnTo>
                <a:lnTo>
                  <a:pt x="547014" y="210820"/>
                </a:lnTo>
                <a:lnTo>
                  <a:pt x="555264" y="192405"/>
                </a:lnTo>
                <a:lnTo>
                  <a:pt x="564148" y="174625"/>
                </a:lnTo>
                <a:lnTo>
                  <a:pt x="573032" y="157480"/>
                </a:lnTo>
                <a:lnTo>
                  <a:pt x="582234" y="140970"/>
                </a:lnTo>
                <a:lnTo>
                  <a:pt x="591753" y="125413"/>
                </a:lnTo>
                <a:lnTo>
                  <a:pt x="601589" y="110490"/>
                </a:lnTo>
                <a:lnTo>
                  <a:pt x="611742" y="96838"/>
                </a:lnTo>
                <a:close/>
                <a:moveTo>
                  <a:pt x="801166" y="63818"/>
                </a:moveTo>
                <a:lnTo>
                  <a:pt x="801166" y="245110"/>
                </a:lnTo>
                <a:lnTo>
                  <a:pt x="837655" y="244158"/>
                </a:lnTo>
                <a:lnTo>
                  <a:pt x="873509" y="242570"/>
                </a:lnTo>
                <a:lnTo>
                  <a:pt x="909363" y="240348"/>
                </a:lnTo>
                <a:lnTo>
                  <a:pt x="944266" y="237173"/>
                </a:lnTo>
                <a:lnTo>
                  <a:pt x="935064" y="216853"/>
                </a:lnTo>
                <a:lnTo>
                  <a:pt x="925545" y="197803"/>
                </a:lnTo>
                <a:lnTo>
                  <a:pt x="916027" y="179705"/>
                </a:lnTo>
                <a:lnTo>
                  <a:pt x="906190" y="162878"/>
                </a:lnTo>
                <a:lnTo>
                  <a:pt x="901114" y="155258"/>
                </a:lnTo>
                <a:lnTo>
                  <a:pt x="896037" y="147320"/>
                </a:lnTo>
                <a:lnTo>
                  <a:pt x="890960" y="140018"/>
                </a:lnTo>
                <a:lnTo>
                  <a:pt x="885884" y="133033"/>
                </a:lnTo>
                <a:lnTo>
                  <a:pt x="880807" y="126048"/>
                </a:lnTo>
                <a:lnTo>
                  <a:pt x="875730" y="119698"/>
                </a:lnTo>
                <a:lnTo>
                  <a:pt x="870019" y="113665"/>
                </a:lnTo>
                <a:lnTo>
                  <a:pt x="864942" y="107633"/>
                </a:lnTo>
                <a:lnTo>
                  <a:pt x="856693" y="99695"/>
                </a:lnTo>
                <a:lnTo>
                  <a:pt x="848760" y="92075"/>
                </a:lnTo>
                <a:lnTo>
                  <a:pt x="840828" y="85725"/>
                </a:lnTo>
                <a:lnTo>
                  <a:pt x="832896" y="79693"/>
                </a:lnTo>
                <a:lnTo>
                  <a:pt x="824963" y="74613"/>
                </a:lnTo>
                <a:lnTo>
                  <a:pt x="817031" y="70168"/>
                </a:lnTo>
                <a:lnTo>
                  <a:pt x="809099" y="66675"/>
                </a:lnTo>
                <a:lnTo>
                  <a:pt x="801166" y="63818"/>
                </a:lnTo>
                <a:close/>
                <a:moveTo>
                  <a:pt x="742467" y="63818"/>
                </a:moveTo>
                <a:lnTo>
                  <a:pt x="734535" y="66675"/>
                </a:lnTo>
                <a:lnTo>
                  <a:pt x="726920" y="70168"/>
                </a:lnTo>
                <a:lnTo>
                  <a:pt x="718987" y="74613"/>
                </a:lnTo>
                <a:lnTo>
                  <a:pt x="711055" y="79693"/>
                </a:lnTo>
                <a:lnTo>
                  <a:pt x="703123" y="85725"/>
                </a:lnTo>
                <a:lnTo>
                  <a:pt x="694873" y="92075"/>
                </a:lnTo>
                <a:lnTo>
                  <a:pt x="686941" y="99695"/>
                </a:lnTo>
                <a:lnTo>
                  <a:pt x="678691" y="107633"/>
                </a:lnTo>
                <a:lnTo>
                  <a:pt x="673614" y="113665"/>
                </a:lnTo>
                <a:lnTo>
                  <a:pt x="668538" y="119698"/>
                </a:lnTo>
                <a:lnTo>
                  <a:pt x="662826" y="126048"/>
                </a:lnTo>
                <a:lnTo>
                  <a:pt x="657750" y="133033"/>
                </a:lnTo>
                <a:lnTo>
                  <a:pt x="652990" y="140018"/>
                </a:lnTo>
                <a:lnTo>
                  <a:pt x="647596" y="147320"/>
                </a:lnTo>
                <a:lnTo>
                  <a:pt x="642519" y="154940"/>
                </a:lnTo>
                <a:lnTo>
                  <a:pt x="637760" y="162878"/>
                </a:lnTo>
                <a:lnTo>
                  <a:pt x="632683" y="171450"/>
                </a:lnTo>
                <a:lnTo>
                  <a:pt x="627607" y="179705"/>
                </a:lnTo>
                <a:lnTo>
                  <a:pt x="618088" y="197803"/>
                </a:lnTo>
                <a:lnTo>
                  <a:pt x="608569" y="216853"/>
                </a:lnTo>
                <a:lnTo>
                  <a:pt x="599685" y="237173"/>
                </a:lnTo>
                <a:lnTo>
                  <a:pt x="634587" y="240030"/>
                </a:lnTo>
                <a:lnTo>
                  <a:pt x="670124" y="242570"/>
                </a:lnTo>
                <a:lnTo>
                  <a:pt x="705978" y="244158"/>
                </a:lnTo>
                <a:lnTo>
                  <a:pt x="742467" y="245110"/>
                </a:lnTo>
                <a:lnTo>
                  <a:pt x="742467" y="63818"/>
                </a:lnTo>
                <a:close/>
                <a:moveTo>
                  <a:pt x="754841" y="0"/>
                </a:moveTo>
                <a:lnTo>
                  <a:pt x="771975" y="0"/>
                </a:lnTo>
                <a:lnTo>
                  <a:pt x="789109" y="0"/>
                </a:lnTo>
                <a:lnTo>
                  <a:pt x="806243" y="635"/>
                </a:lnTo>
                <a:lnTo>
                  <a:pt x="823377" y="1588"/>
                </a:lnTo>
                <a:lnTo>
                  <a:pt x="840193" y="2858"/>
                </a:lnTo>
                <a:lnTo>
                  <a:pt x="856693" y="4445"/>
                </a:lnTo>
                <a:lnTo>
                  <a:pt x="873509" y="6350"/>
                </a:lnTo>
                <a:lnTo>
                  <a:pt x="890008" y="9208"/>
                </a:lnTo>
                <a:lnTo>
                  <a:pt x="906508" y="11748"/>
                </a:lnTo>
                <a:lnTo>
                  <a:pt x="923007" y="14923"/>
                </a:lnTo>
                <a:lnTo>
                  <a:pt x="939189" y="18098"/>
                </a:lnTo>
                <a:lnTo>
                  <a:pt x="955371" y="21908"/>
                </a:lnTo>
                <a:lnTo>
                  <a:pt x="971236" y="25718"/>
                </a:lnTo>
                <a:lnTo>
                  <a:pt x="987100" y="30480"/>
                </a:lnTo>
                <a:lnTo>
                  <a:pt x="1002965" y="35243"/>
                </a:lnTo>
                <a:lnTo>
                  <a:pt x="1018512" y="40005"/>
                </a:lnTo>
                <a:lnTo>
                  <a:pt x="1034060" y="45720"/>
                </a:lnTo>
                <a:lnTo>
                  <a:pt x="1049290" y="51435"/>
                </a:lnTo>
                <a:lnTo>
                  <a:pt x="1064520" y="57150"/>
                </a:lnTo>
                <a:lnTo>
                  <a:pt x="1079115" y="63818"/>
                </a:lnTo>
                <a:lnTo>
                  <a:pt x="1094028" y="70168"/>
                </a:lnTo>
                <a:lnTo>
                  <a:pt x="1108624" y="76835"/>
                </a:lnTo>
                <a:lnTo>
                  <a:pt x="1123219" y="84455"/>
                </a:lnTo>
                <a:lnTo>
                  <a:pt x="1137497" y="91758"/>
                </a:lnTo>
                <a:lnTo>
                  <a:pt x="1151458" y="99695"/>
                </a:lnTo>
                <a:lnTo>
                  <a:pt x="1165419" y="107633"/>
                </a:lnTo>
                <a:lnTo>
                  <a:pt x="1179063" y="116205"/>
                </a:lnTo>
                <a:lnTo>
                  <a:pt x="1192707" y="124778"/>
                </a:lnTo>
                <a:lnTo>
                  <a:pt x="1206033" y="133668"/>
                </a:lnTo>
                <a:lnTo>
                  <a:pt x="1219042" y="142558"/>
                </a:lnTo>
                <a:lnTo>
                  <a:pt x="1232051" y="152400"/>
                </a:lnTo>
                <a:lnTo>
                  <a:pt x="1244743" y="161925"/>
                </a:lnTo>
                <a:lnTo>
                  <a:pt x="1257434" y="171768"/>
                </a:lnTo>
                <a:lnTo>
                  <a:pt x="1270126" y="182245"/>
                </a:lnTo>
                <a:lnTo>
                  <a:pt x="1282818" y="193358"/>
                </a:lnTo>
                <a:lnTo>
                  <a:pt x="1295192" y="204470"/>
                </a:lnTo>
                <a:lnTo>
                  <a:pt x="1307567" y="215900"/>
                </a:lnTo>
                <a:lnTo>
                  <a:pt x="1323749" y="232093"/>
                </a:lnTo>
                <a:lnTo>
                  <a:pt x="1339296" y="248920"/>
                </a:lnTo>
                <a:lnTo>
                  <a:pt x="1354844" y="266065"/>
                </a:lnTo>
                <a:lnTo>
                  <a:pt x="1369756" y="283528"/>
                </a:lnTo>
                <a:lnTo>
                  <a:pt x="1384035" y="301625"/>
                </a:lnTo>
                <a:lnTo>
                  <a:pt x="1397995" y="320358"/>
                </a:lnTo>
                <a:lnTo>
                  <a:pt x="1411322" y="339090"/>
                </a:lnTo>
                <a:lnTo>
                  <a:pt x="1423696" y="358775"/>
                </a:lnTo>
                <a:lnTo>
                  <a:pt x="1431629" y="371158"/>
                </a:lnTo>
                <a:lnTo>
                  <a:pt x="1439244" y="383858"/>
                </a:lnTo>
                <a:lnTo>
                  <a:pt x="1446859" y="396875"/>
                </a:lnTo>
                <a:lnTo>
                  <a:pt x="1453839" y="410210"/>
                </a:lnTo>
                <a:lnTo>
                  <a:pt x="1463675" y="429260"/>
                </a:lnTo>
                <a:lnTo>
                  <a:pt x="1301855" y="429260"/>
                </a:lnTo>
                <a:lnTo>
                  <a:pt x="1321528" y="420370"/>
                </a:lnTo>
                <a:lnTo>
                  <a:pt x="1340565" y="411480"/>
                </a:lnTo>
                <a:lnTo>
                  <a:pt x="1358651" y="401955"/>
                </a:lnTo>
                <a:lnTo>
                  <a:pt x="1375785" y="392430"/>
                </a:lnTo>
                <a:lnTo>
                  <a:pt x="1364680" y="375603"/>
                </a:lnTo>
                <a:lnTo>
                  <a:pt x="1353257" y="359093"/>
                </a:lnTo>
                <a:lnTo>
                  <a:pt x="1341517" y="343218"/>
                </a:lnTo>
                <a:lnTo>
                  <a:pt x="1329143" y="327343"/>
                </a:lnTo>
                <a:lnTo>
                  <a:pt x="1316451" y="311785"/>
                </a:lnTo>
                <a:lnTo>
                  <a:pt x="1303442" y="296863"/>
                </a:lnTo>
                <a:lnTo>
                  <a:pt x="1290116" y="281940"/>
                </a:lnTo>
                <a:lnTo>
                  <a:pt x="1276155" y="267653"/>
                </a:lnTo>
                <a:lnTo>
                  <a:pt x="1268222" y="260033"/>
                </a:lnTo>
                <a:lnTo>
                  <a:pt x="1260607" y="252730"/>
                </a:lnTo>
                <a:lnTo>
                  <a:pt x="1244425" y="238125"/>
                </a:lnTo>
                <a:lnTo>
                  <a:pt x="1215869" y="246698"/>
                </a:lnTo>
                <a:lnTo>
                  <a:pt x="1200956" y="250825"/>
                </a:lnTo>
                <a:lnTo>
                  <a:pt x="1186361" y="254953"/>
                </a:lnTo>
                <a:lnTo>
                  <a:pt x="1198735" y="274955"/>
                </a:lnTo>
                <a:lnTo>
                  <a:pt x="1210792" y="295275"/>
                </a:lnTo>
                <a:lnTo>
                  <a:pt x="1222215" y="316230"/>
                </a:lnTo>
                <a:lnTo>
                  <a:pt x="1233003" y="337820"/>
                </a:lnTo>
                <a:lnTo>
                  <a:pt x="1243473" y="360045"/>
                </a:lnTo>
                <a:lnTo>
                  <a:pt x="1253310" y="382588"/>
                </a:lnTo>
                <a:lnTo>
                  <a:pt x="1262828" y="405448"/>
                </a:lnTo>
                <a:lnTo>
                  <a:pt x="1271395" y="429260"/>
                </a:lnTo>
                <a:lnTo>
                  <a:pt x="1208888" y="429260"/>
                </a:lnTo>
                <a:lnTo>
                  <a:pt x="1200004" y="407353"/>
                </a:lnTo>
                <a:lnTo>
                  <a:pt x="1190803" y="385763"/>
                </a:lnTo>
                <a:lnTo>
                  <a:pt x="1180967" y="365125"/>
                </a:lnTo>
                <a:lnTo>
                  <a:pt x="1170813" y="344805"/>
                </a:lnTo>
                <a:lnTo>
                  <a:pt x="1160025" y="325120"/>
                </a:lnTo>
                <a:lnTo>
                  <a:pt x="1148603" y="306070"/>
                </a:lnTo>
                <a:lnTo>
                  <a:pt x="1137180" y="287020"/>
                </a:lnTo>
                <a:lnTo>
                  <a:pt x="1125123" y="269240"/>
                </a:lnTo>
                <a:lnTo>
                  <a:pt x="1101009" y="274320"/>
                </a:lnTo>
                <a:lnTo>
                  <a:pt x="1076260" y="278765"/>
                </a:lnTo>
                <a:lnTo>
                  <a:pt x="1051194" y="282893"/>
                </a:lnTo>
                <a:lnTo>
                  <a:pt x="1025493" y="286703"/>
                </a:lnTo>
                <a:lnTo>
                  <a:pt x="1031204" y="303213"/>
                </a:lnTo>
                <a:lnTo>
                  <a:pt x="1036281" y="320040"/>
                </a:lnTo>
                <a:lnTo>
                  <a:pt x="1041040" y="337503"/>
                </a:lnTo>
                <a:lnTo>
                  <a:pt x="1045800" y="355283"/>
                </a:lnTo>
                <a:lnTo>
                  <a:pt x="1050559" y="373063"/>
                </a:lnTo>
                <a:lnTo>
                  <a:pt x="1054684" y="391478"/>
                </a:lnTo>
                <a:lnTo>
                  <a:pt x="1058809" y="410528"/>
                </a:lnTo>
                <a:lnTo>
                  <a:pt x="1062616" y="429260"/>
                </a:lnTo>
                <a:lnTo>
                  <a:pt x="1002965" y="429260"/>
                </a:lnTo>
                <a:lnTo>
                  <a:pt x="999475" y="412750"/>
                </a:lnTo>
                <a:lnTo>
                  <a:pt x="995667" y="396240"/>
                </a:lnTo>
                <a:lnTo>
                  <a:pt x="991542" y="380365"/>
                </a:lnTo>
                <a:lnTo>
                  <a:pt x="987418" y="364490"/>
                </a:lnTo>
                <a:lnTo>
                  <a:pt x="982658" y="346075"/>
                </a:lnTo>
                <a:lnTo>
                  <a:pt x="976947" y="328295"/>
                </a:lnTo>
                <a:lnTo>
                  <a:pt x="971553" y="311150"/>
                </a:lnTo>
                <a:lnTo>
                  <a:pt x="966159" y="294005"/>
                </a:lnTo>
                <a:lnTo>
                  <a:pt x="946169" y="295910"/>
                </a:lnTo>
                <a:lnTo>
                  <a:pt x="926180" y="297815"/>
                </a:lnTo>
                <a:lnTo>
                  <a:pt x="905556" y="299403"/>
                </a:lnTo>
                <a:lnTo>
                  <a:pt x="884932" y="300673"/>
                </a:lnTo>
                <a:lnTo>
                  <a:pt x="864308" y="301625"/>
                </a:lnTo>
                <a:lnTo>
                  <a:pt x="843684" y="302578"/>
                </a:lnTo>
                <a:lnTo>
                  <a:pt x="822742" y="303213"/>
                </a:lnTo>
                <a:lnTo>
                  <a:pt x="801166" y="303848"/>
                </a:lnTo>
                <a:lnTo>
                  <a:pt x="801166" y="519748"/>
                </a:lnTo>
                <a:lnTo>
                  <a:pt x="822108" y="519113"/>
                </a:lnTo>
                <a:lnTo>
                  <a:pt x="843366" y="518478"/>
                </a:lnTo>
                <a:lnTo>
                  <a:pt x="864308" y="517525"/>
                </a:lnTo>
                <a:lnTo>
                  <a:pt x="884614" y="516573"/>
                </a:lnTo>
                <a:lnTo>
                  <a:pt x="884614" y="575310"/>
                </a:lnTo>
                <a:lnTo>
                  <a:pt x="864308" y="576263"/>
                </a:lnTo>
                <a:lnTo>
                  <a:pt x="843366" y="577215"/>
                </a:lnTo>
                <a:lnTo>
                  <a:pt x="822108" y="577850"/>
                </a:lnTo>
                <a:lnTo>
                  <a:pt x="801166" y="578168"/>
                </a:lnTo>
                <a:lnTo>
                  <a:pt x="801166" y="742950"/>
                </a:lnTo>
                <a:lnTo>
                  <a:pt x="884614" y="742950"/>
                </a:lnTo>
                <a:lnTo>
                  <a:pt x="884614" y="801688"/>
                </a:lnTo>
                <a:lnTo>
                  <a:pt x="801166" y="801688"/>
                </a:lnTo>
                <a:lnTo>
                  <a:pt x="801166" y="965835"/>
                </a:lnTo>
                <a:lnTo>
                  <a:pt x="822108" y="966470"/>
                </a:lnTo>
                <a:lnTo>
                  <a:pt x="843366" y="967105"/>
                </a:lnTo>
                <a:lnTo>
                  <a:pt x="864308" y="968058"/>
                </a:lnTo>
                <a:lnTo>
                  <a:pt x="884614" y="969010"/>
                </a:lnTo>
                <a:lnTo>
                  <a:pt x="884614" y="1028065"/>
                </a:lnTo>
                <a:lnTo>
                  <a:pt x="864308" y="1026795"/>
                </a:lnTo>
                <a:lnTo>
                  <a:pt x="843366" y="1025843"/>
                </a:lnTo>
                <a:lnTo>
                  <a:pt x="822108" y="1025208"/>
                </a:lnTo>
                <a:lnTo>
                  <a:pt x="801166" y="1024890"/>
                </a:lnTo>
                <a:lnTo>
                  <a:pt x="801166" y="1240473"/>
                </a:lnTo>
                <a:lnTo>
                  <a:pt x="824963" y="1240790"/>
                </a:lnTo>
                <a:lnTo>
                  <a:pt x="848126" y="1241743"/>
                </a:lnTo>
                <a:lnTo>
                  <a:pt x="832896" y="1300163"/>
                </a:lnTo>
                <a:lnTo>
                  <a:pt x="801166" y="1299528"/>
                </a:lnTo>
                <a:lnTo>
                  <a:pt x="801166" y="1423353"/>
                </a:lnTo>
                <a:lnTo>
                  <a:pt x="771658" y="1538606"/>
                </a:lnTo>
                <a:lnTo>
                  <a:pt x="771023" y="1541781"/>
                </a:lnTo>
                <a:lnTo>
                  <a:pt x="771023" y="1544638"/>
                </a:lnTo>
                <a:lnTo>
                  <a:pt x="753890" y="1544321"/>
                </a:lnTo>
                <a:lnTo>
                  <a:pt x="736756" y="1543686"/>
                </a:lnTo>
                <a:lnTo>
                  <a:pt x="719622" y="1542733"/>
                </a:lnTo>
                <a:lnTo>
                  <a:pt x="702805" y="1541463"/>
                </a:lnTo>
                <a:lnTo>
                  <a:pt x="685989" y="1539558"/>
                </a:lnTo>
                <a:lnTo>
                  <a:pt x="669489" y="1537653"/>
                </a:lnTo>
                <a:lnTo>
                  <a:pt x="652673" y="1535431"/>
                </a:lnTo>
                <a:lnTo>
                  <a:pt x="636491" y="1532573"/>
                </a:lnTo>
                <a:lnTo>
                  <a:pt x="619992" y="1529716"/>
                </a:lnTo>
                <a:lnTo>
                  <a:pt x="603810" y="1526223"/>
                </a:lnTo>
                <a:lnTo>
                  <a:pt x="587628" y="1522096"/>
                </a:lnTo>
                <a:lnTo>
                  <a:pt x="571763" y="1518286"/>
                </a:lnTo>
                <a:lnTo>
                  <a:pt x="555898" y="1513841"/>
                </a:lnTo>
                <a:lnTo>
                  <a:pt x="540351" y="1509078"/>
                </a:lnTo>
                <a:lnTo>
                  <a:pt x="524486" y="1503998"/>
                </a:lnTo>
                <a:lnTo>
                  <a:pt x="509256" y="1498601"/>
                </a:lnTo>
                <a:lnTo>
                  <a:pt x="494343" y="1492886"/>
                </a:lnTo>
                <a:lnTo>
                  <a:pt x="479113" y="1486853"/>
                </a:lnTo>
                <a:lnTo>
                  <a:pt x="464200" y="1480503"/>
                </a:lnTo>
                <a:lnTo>
                  <a:pt x="449288" y="1474153"/>
                </a:lnTo>
                <a:lnTo>
                  <a:pt x="434692" y="1467168"/>
                </a:lnTo>
                <a:lnTo>
                  <a:pt x="420414" y="1459866"/>
                </a:lnTo>
                <a:lnTo>
                  <a:pt x="406136" y="1452246"/>
                </a:lnTo>
                <a:lnTo>
                  <a:pt x="392175" y="1444626"/>
                </a:lnTo>
                <a:lnTo>
                  <a:pt x="378214" y="1436688"/>
                </a:lnTo>
                <a:lnTo>
                  <a:pt x="364570" y="1428116"/>
                </a:lnTo>
                <a:lnTo>
                  <a:pt x="350927" y="1419861"/>
                </a:lnTo>
                <a:lnTo>
                  <a:pt x="337600" y="1410653"/>
                </a:lnTo>
                <a:lnTo>
                  <a:pt x="324591" y="1401763"/>
                </a:lnTo>
                <a:lnTo>
                  <a:pt x="311582" y="1392238"/>
                </a:lnTo>
                <a:lnTo>
                  <a:pt x="298891" y="1382396"/>
                </a:lnTo>
                <a:lnTo>
                  <a:pt x="286199" y="1372553"/>
                </a:lnTo>
                <a:lnTo>
                  <a:pt x="273507" y="1361758"/>
                </a:lnTo>
                <a:lnTo>
                  <a:pt x="260815" y="1351280"/>
                </a:lnTo>
                <a:lnTo>
                  <a:pt x="248441" y="1339850"/>
                </a:lnTo>
                <a:lnTo>
                  <a:pt x="236701" y="1328420"/>
                </a:lnTo>
                <a:lnTo>
                  <a:pt x="220202" y="1311910"/>
                </a:lnTo>
                <a:lnTo>
                  <a:pt x="204337" y="1295400"/>
                </a:lnTo>
                <a:lnTo>
                  <a:pt x="188790" y="1278255"/>
                </a:lnTo>
                <a:lnTo>
                  <a:pt x="173877" y="1260475"/>
                </a:lnTo>
                <a:lnTo>
                  <a:pt x="159599" y="1242378"/>
                </a:lnTo>
                <a:lnTo>
                  <a:pt x="145638" y="1223963"/>
                </a:lnTo>
                <a:lnTo>
                  <a:pt x="132629" y="1204913"/>
                </a:lnTo>
                <a:lnTo>
                  <a:pt x="119937" y="1185863"/>
                </a:lnTo>
                <a:lnTo>
                  <a:pt x="112005" y="1173163"/>
                </a:lnTo>
                <a:lnTo>
                  <a:pt x="104390" y="1160463"/>
                </a:lnTo>
                <a:lnTo>
                  <a:pt x="97409" y="1147445"/>
                </a:lnTo>
                <a:lnTo>
                  <a:pt x="90111" y="1134428"/>
                </a:lnTo>
                <a:lnTo>
                  <a:pt x="79641" y="1114108"/>
                </a:lnTo>
                <a:lnTo>
                  <a:pt x="69805" y="1093153"/>
                </a:lnTo>
                <a:lnTo>
                  <a:pt x="60286" y="1072198"/>
                </a:lnTo>
                <a:lnTo>
                  <a:pt x="51719" y="1050608"/>
                </a:lnTo>
                <a:lnTo>
                  <a:pt x="43469" y="1029018"/>
                </a:lnTo>
                <a:lnTo>
                  <a:pt x="36172" y="1006793"/>
                </a:lnTo>
                <a:lnTo>
                  <a:pt x="29826" y="984568"/>
                </a:lnTo>
                <a:lnTo>
                  <a:pt x="23480" y="961708"/>
                </a:lnTo>
                <a:lnTo>
                  <a:pt x="18086" y="939165"/>
                </a:lnTo>
                <a:lnTo>
                  <a:pt x="13326" y="915988"/>
                </a:lnTo>
                <a:lnTo>
                  <a:pt x="9202" y="892493"/>
                </a:lnTo>
                <a:lnTo>
                  <a:pt x="6029" y="868998"/>
                </a:lnTo>
                <a:lnTo>
                  <a:pt x="3490" y="845185"/>
                </a:lnTo>
                <a:lnTo>
                  <a:pt x="1587" y="820738"/>
                </a:lnTo>
                <a:lnTo>
                  <a:pt x="317" y="796608"/>
                </a:lnTo>
                <a:lnTo>
                  <a:pt x="0" y="772160"/>
                </a:lnTo>
                <a:lnTo>
                  <a:pt x="317" y="747713"/>
                </a:lnTo>
                <a:lnTo>
                  <a:pt x="1587" y="723583"/>
                </a:lnTo>
                <a:lnTo>
                  <a:pt x="3490" y="699453"/>
                </a:lnTo>
                <a:lnTo>
                  <a:pt x="6029" y="675640"/>
                </a:lnTo>
                <a:lnTo>
                  <a:pt x="9202" y="651828"/>
                </a:lnTo>
                <a:lnTo>
                  <a:pt x="13326" y="628650"/>
                </a:lnTo>
                <a:lnTo>
                  <a:pt x="18086" y="605473"/>
                </a:lnTo>
                <a:lnTo>
                  <a:pt x="23480" y="582295"/>
                </a:lnTo>
                <a:lnTo>
                  <a:pt x="29826" y="559753"/>
                </a:lnTo>
                <a:lnTo>
                  <a:pt x="36172" y="537528"/>
                </a:lnTo>
                <a:lnTo>
                  <a:pt x="43469" y="515620"/>
                </a:lnTo>
                <a:lnTo>
                  <a:pt x="51719" y="493713"/>
                </a:lnTo>
                <a:lnTo>
                  <a:pt x="60286" y="472440"/>
                </a:lnTo>
                <a:lnTo>
                  <a:pt x="69805" y="451168"/>
                </a:lnTo>
                <a:lnTo>
                  <a:pt x="79641" y="430530"/>
                </a:lnTo>
                <a:lnTo>
                  <a:pt x="90111" y="410210"/>
                </a:lnTo>
                <a:lnTo>
                  <a:pt x="97409" y="396875"/>
                </a:lnTo>
                <a:lnTo>
                  <a:pt x="104390" y="383858"/>
                </a:lnTo>
                <a:lnTo>
                  <a:pt x="112005" y="371158"/>
                </a:lnTo>
                <a:lnTo>
                  <a:pt x="119937" y="358775"/>
                </a:lnTo>
                <a:lnTo>
                  <a:pt x="132629" y="339090"/>
                </a:lnTo>
                <a:lnTo>
                  <a:pt x="145638" y="320040"/>
                </a:lnTo>
                <a:lnTo>
                  <a:pt x="159599" y="301625"/>
                </a:lnTo>
                <a:lnTo>
                  <a:pt x="173877" y="283528"/>
                </a:lnTo>
                <a:lnTo>
                  <a:pt x="188790" y="266065"/>
                </a:lnTo>
                <a:lnTo>
                  <a:pt x="204337" y="248920"/>
                </a:lnTo>
                <a:lnTo>
                  <a:pt x="220202" y="232093"/>
                </a:lnTo>
                <a:lnTo>
                  <a:pt x="236701" y="215900"/>
                </a:lnTo>
                <a:lnTo>
                  <a:pt x="248441" y="204470"/>
                </a:lnTo>
                <a:lnTo>
                  <a:pt x="260815" y="193358"/>
                </a:lnTo>
                <a:lnTo>
                  <a:pt x="273507" y="182245"/>
                </a:lnTo>
                <a:lnTo>
                  <a:pt x="286199" y="171768"/>
                </a:lnTo>
                <a:lnTo>
                  <a:pt x="298891" y="161925"/>
                </a:lnTo>
                <a:lnTo>
                  <a:pt x="311582" y="152400"/>
                </a:lnTo>
                <a:lnTo>
                  <a:pt x="324591" y="142558"/>
                </a:lnTo>
                <a:lnTo>
                  <a:pt x="337600" y="133668"/>
                </a:lnTo>
                <a:lnTo>
                  <a:pt x="350927" y="124460"/>
                </a:lnTo>
                <a:lnTo>
                  <a:pt x="364570" y="116205"/>
                </a:lnTo>
                <a:lnTo>
                  <a:pt x="378531" y="107633"/>
                </a:lnTo>
                <a:lnTo>
                  <a:pt x="392492" y="99695"/>
                </a:lnTo>
                <a:lnTo>
                  <a:pt x="406136" y="91758"/>
                </a:lnTo>
                <a:lnTo>
                  <a:pt x="420731" y="84455"/>
                </a:lnTo>
                <a:lnTo>
                  <a:pt x="435009" y="76835"/>
                </a:lnTo>
                <a:lnTo>
                  <a:pt x="449922" y="70168"/>
                </a:lnTo>
                <a:lnTo>
                  <a:pt x="464518" y="63818"/>
                </a:lnTo>
                <a:lnTo>
                  <a:pt x="479748" y="57150"/>
                </a:lnTo>
                <a:lnTo>
                  <a:pt x="494661" y="51118"/>
                </a:lnTo>
                <a:lnTo>
                  <a:pt x="509573" y="45720"/>
                </a:lnTo>
                <a:lnTo>
                  <a:pt x="525121" y="40005"/>
                </a:lnTo>
                <a:lnTo>
                  <a:pt x="540668" y="35243"/>
                </a:lnTo>
                <a:lnTo>
                  <a:pt x="556533" y="30480"/>
                </a:lnTo>
                <a:lnTo>
                  <a:pt x="572398" y="25718"/>
                </a:lnTo>
                <a:lnTo>
                  <a:pt x="588262" y="21908"/>
                </a:lnTo>
                <a:lnTo>
                  <a:pt x="604444" y="18098"/>
                </a:lnTo>
                <a:lnTo>
                  <a:pt x="620626" y="14605"/>
                </a:lnTo>
                <a:lnTo>
                  <a:pt x="637125" y="11748"/>
                </a:lnTo>
                <a:lnTo>
                  <a:pt x="653625" y="9208"/>
                </a:lnTo>
                <a:lnTo>
                  <a:pt x="670124" y="6350"/>
                </a:lnTo>
                <a:lnTo>
                  <a:pt x="686941" y="4445"/>
                </a:lnTo>
                <a:lnTo>
                  <a:pt x="703757" y="2858"/>
                </a:lnTo>
                <a:lnTo>
                  <a:pt x="720574" y="1588"/>
                </a:lnTo>
                <a:lnTo>
                  <a:pt x="737708" y="635"/>
                </a:lnTo>
                <a:lnTo>
                  <a:pt x="754841" y="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KSO_Shape"/>
          <p:cNvSpPr/>
          <p:nvPr/>
        </p:nvSpPr>
        <p:spPr>
          <a:xfrm>
            <a:off x="10194840" y="3930480"/>
            <a:ext cx="843120" cy="586080"/>
          </a:xfrm>
          <a:custGeom>
            <a:avLst/>
            <a:gdLst/>
            <a:ahLst/>
            <a:rect l="l" t="t" r="r" b="b"/>
            <a:pathLst>
              <a:path w="6190" h="4291">
                <a:moveTo>
                  <a:pt x="179" y="508"/>
                </a:moveTo>
                <a:lnTo>
                  <a:pt x="4027" y="508"/>
                </a:lnTo>
                <a:lnTo>
                  <a:pt x="4206" y="508"/>
                </a:lnTo>
                <a:lnTo>
                  <a:pt x="4206" y="688"/>
                </a:lnTo>
                <a:lnTo>
                  <a:pt x="4206" y="3418"/>
                </a:lnTo>
                <a:lnTo>
                  <a:pt x="4206" y="3598"/>
                </a:lnTo>
                <a:lnTo>
                  <a:pt x="4027" y="3598"/>
                </a:lnTo>
                <a:lnTo>
                  <a:pt x="2568" y="3598"/>
                </a:lnTo>
                <a:lnTo>
                  <a:pt x="2568" y="3721"/>
                </a:lnTo>
                <a:lnTo>
                  <a:pt x="2634" y="3731"/>
                </a:lnTo>
                <a:lnTo>
                  <a:pt x="2698" y="3740"/>
                </a:lnTo>
                <a:lnTo>
                  <a:pt x="2764" y="3752"/>
                </a:lnTo>
                <a:lnTo>
                  <a:pt x="2829" y="3765"/>
                </a:lnTo>
                <a:lnTo>
                  <a:pt x="2895" y="3779"/>
                </a:lnTo>
                <a:lnTo>
                  <a:pt x="2961" y="3794"/>
                </a:lnTo>
                <a:lnTo>
                  <a:pt x="3026" y="3811"/>
                </a:lnTo>
                <a:lnTo>
                  <a:pt x="3092" y="3829"/>
                </a:lnTo>
                <a:lnTo>
                  <a:pt x="3157" y="3848"/>
                </a:lnTo>
                <a:lnTo>
                  <a:pt x="3223" y="3868"/>
                </a:lnTo>
                <a:lnTo>
                  <a:pt x="3288" y="3891"/>
                </a:lnTo>
                <a:lnTo>
                  <a:pt x="3354" y="3914"/>
                </a:lnTo>
                <a:lnTo>
                  <a:pt x="3419" y="3938"/>
                </a:lnTo>
                <a:lnTo>
                  <a:pt x="3485" y="3965"/>
                </a:lnTo>
                <a:lnTo>
                  <a:pt x="3550" y="3993"/>
                </a:lnTo>
                <a:lnTo>
                  <a:pt x="3616" y="4021"/>
                </a:lnTo>
                <a:lnTo>
                  <a:pt x="3616" y="4291"/>
                </a:lnTo>
                <a:lnTo>
                  <a:pt x="632" y="4291"/>
                </a:lnTo>
                <a:lnTo>
                  <a:pt x="632" y="4021"/>
                </a:lnTo>
                <a:lnTo>
                  <a:pt x="696" y="3995"/>
                </a:lnTo>
                <a:lnTo>
                  <a:pt x="758" y="3970"/>
                </a:lnTo>
                <a:lnTo>
                  <a:pt x="822" y="3946"/>
                </a:lnTo>
                <a:lnTo>
                  <a:pt x="885" y="3924"/>
                </a:lnTo>
                <a:lnTo>
                  <a:pt x="949" y="3901"/>
                </a:lnTo>
                <a:lnTo>
                  <a:pt x="1013" y="3881"/>
                </a:lnTo>
                <a:lnTo>
                  <a:pt x="1075" y="3861"/>
                </a:lnTo>
                <a:lnTo>
                  <a:pt x="1139" y="3843"/>
                </a:lnTo>
                <a:lnTo>
                  <a:pt x="1203" y="3825"/>
                </a:lnTo>
                <a:lnTo>
                  <a:pt x="1266" y="3809"/>
                </a:lnTo>
                <a:lnTo>
                  <a:pt x="1330" y="3793"/>
                </a:lnTo>
                <a:lnTo>
                  <a:pt x="1394" y="3779"/>
                </a:lnTo>
                <a:lnTo>
                  <a:pt x="1456" y="3765"/>
                </a:lnTo>
                <a:lnTo>
                  <a:pt x="1520" y="3753"/>
                </a:lnTo>
                <a:lnTo>
                  <a:pt x="1584" y="3743"/>
                </a:lnTo>
                <a:lnTo>
                  <a:pt x="1647" y="3733"/>
                </a:lnTo>
                <a:lnTo>
                  <a:pt x="1647" y="3598"/>
                </a:lnTo>
                <a:lnTo>
                  <a:pt x="179" y="3598"/>
                </a:lnTo>
                <a:lnTo>
                  <a:pt x="0" y="3598"/>
                </a:lnTo>
                <a:lnTo>
                  <a:pt x="0" y="3418"/>
                </a:lnTo>
                <a:lnTo>
                  <a:pt x="0" y="688"/>
                </a:lnTo>
                <a:lnTo>
                  <a:pt x="0" y="508"/>
                </a:lnTo>
                <a:lnTo>
                  <a:pt x="179" y="508"/>
                </a:lnTo>
                <a:close/>
                <a:moveTo>
                  <a:pt x="4438" y="4291"/>
                </a:moveTo>
                <a:lnTo>
                  <a:pt x="6190" y="4291"/>
                </a:lnTo>
                <a:lnTo>
                  <a:pt x="6190" y="0"/>
                </a:lnTo>
                <a:lnTo>
                  <a:pt x="4438" y="0"/>
                </a:lnTo>
                <a:lnTo>
                  <a:pt x="4438" y="4291"/>
                </a:lnTo>
                <a:close/>
                <a:moveTo>
                  <a:pt x="4659" y="374"/>
                </a:moveTo>
                <a:lnTo>
                  <a:pt x="6000" y="374"/>
                </a:lnTo>
                <a:lnTo>
                  <a:pt x="6000" y="791"/>
                </a:lnTo>
                <a:lnTo>
                  <a:pt x="4659" y="791"/>
                </a:lnTo>
                <a:lnTo>
                  <a:pt x="4659" y="374"/>
                </a:lnTo>
                <a:close/>
                <a:moveTo>
                  <a:pt x="4659" y="1025"/>
                </a:moveTo>
                <a:lnTo>
                  <a:pt x="6000" y="1025"/>
                </a:lnTo>
                <a:lnTo>
                  <a:pt x="6000" y="1444"/>
                </a:lnTo>
                <a:lnTo>
                  <a:pt x="4659" y="1444"/>
                </a:lnTo>
                <a:lnTo>
                  <a:pt x="4659" y="1025"/>
                </a:lnTo>
                <a:close/>
                <a:moveTo>
                  <a:pt x="4652" y="1798"/>
                </a:moveTo>
                <a:lnTo>
                  <a:pt x="5102" y="1798"/>
                </a:lnTo>
                <a:lnTo>
                  <a:pt x="5102" y="2121"/>
                </a:lnTo>
                <a:lnTo>
                  <a:pt x="4652" y="2121"/>
                </a:lnTo>
                <a:lnTo>
                  <a:pt x="4652" y="1798"/>
                </a:lnTo>
                <a:close/>
                <a:moveTo>
                  <a:pt x="4652" y="2317"/>
                </a:moveTo>
                <a:lnTo>
                  <a:pt x="5102" y="2317"/>
                </a:lnTo>
                <a:lnTo>
                  <a:pt x="5102" y="2640"/>
                </a:lnTo>
                <a:lnTo>
                  <a:pt x="4652" y="2640"/>
                </a:lnTo>
                <a:lnTo>
                  <a:pt x="4652" y="2317"/>
                </a:lnTo>
                <a:close/>
                <a:moveTo>
                  <a:pt x="3847" y="868"/>
                </a:moveTo>
                <a:lnTo>
                  <a:pt x="359" y="868"/>
                </a:lnTo>
                <a:lnTo>
                  <a:pt x="359" y="3238"/>
                </a:lnTo>
                <a:lnTo>
                  <a:pt x="3847" y="3238"/>
                </a:lnTo>
                <a:lnTo>
                  <a:pt x="3847" y="868"/>
                </a:lnTo>
                <a:close/>
              </a:path>
            </a:pathLst>
          </a:custGeom>
          <a:solidFill>
            <a:srgbClr val="c0272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KSO_Shape"/>
          <p:cNvSpPr/>
          <p:nvPr/>
        </p:nvSpPr>
        <p:spPr>
          <a:xfrm>
            <a:off x="10294920" y="2581200"/>
            <a:ext cx="370080" cy="844560"/>
          </a:xfrm>
          <a:custGeom>
            <a:avLst/>
            <a:gdLst/>
            <a:ahLst/>
            <a:rect l="l" t="t" r="r" b="b"/>
            <a:pathLst>
              <a:path w="1488" h="3386">
                <a:moveTo>
                  <a:pt x="1373" y="842"/>
                </a:moveTo>
                <a:lnTo>
                  <a:pt x="869" y="842"/>
                </a:lnTo>
                <a:lnTo>
                  <a:pt x="869" y="787"/>
                </a:lnTo>
                <a:lnTo>
                  <a:pt x="869" y="780"/>
                </a:lnTo>
                <a:lnTo>
                  <a:pt x="867" y="771"/>
                </a:lnTo>
                <a:lnTo>
                  <a:pt x="865" y="764"/>
                </a:lnTo>
                <a:lnTo>
                  <a:pt x="862" y="756"/>
                </a:lnTo>
                <a:lnTo>
                  <a:pt x="859" y="750"/>
                </a:lnTo>
                <a:lnTo>
                  <a:pt x="855" y="744"/>
                </a:lnTo>
                <a:lnTo>
                  <a:pt x="851" y="737"/>
                </a:lnTo>
                <a:lnTo>
                  <a:pt x="845" y="732"/>
                </a:lnTo>
                <a:lnTo>
                  <a:pt x="840" y="727"/>
                </a:lnTo>
                <a:lnTo>
                  <a:pt x="834" y="723"/>
                </a:lnTo>
                <a:lnTo>
                  <a:pt x="827" y="718"/>
                </a:lnTo>
                <a:lnTo>
                  <a:pt x="821" y="715"/>
                </a:lnTo>
                <a:lnTo>
                  <a:pt x="814" y="713"/>
                </a:lnTo>
                <a:lnTo>
                  <a:pt x="806" y="711"/>
                </a:lnTo>
                <a:lnTo>
                  <a:pt x="799" y="710"/>
                </a:lnTo>
                <a:lnTo>
                  <a:pt x="791" y="709"/>
                </a:lnTo>
                <a:lnTo>
                  <a:pt x="519" y="709"/>
                </a:lnTo>
                <a:lnTo>
                  <a:pt x="511" y="710"/>
                </a:lnTo>
                <a:lnTo>
                  <a:pt x="504" y="711"/>
                </a:lnTo>
                <a:lnTo>
                  <a:pt x="496" y="713"/>
                </a:lnTo>
                <a:lnTo>
                  <a:pt x="489" y="715"/>
                </a:lnTo>
                <a:lnTo>
                  <a:pt x="483" y="718"/>
                </a:lnTo>
                <a:lnTo>
                  <a:pt x="476" y="723"/>
                </a:lnTo>
                <a:lnTo>
                  <a:pt x="470" y="727"/>
                </a:lnTo>
                <a:lnTo>
                  <a:pt x="465" y="732"/>
                </a:lnTo>
                <a:lnTo>
                  <a:pt x="459" y="737"/>
                </a:lnTo>
                <a:lnTo>
                  <a:pt x="455" y="744"/>
                </a:lnTo>
                <a:lnTo>
                  <a:pt x="451" y="750"/>
                </a:lnTo>
                <a:lnTo>
                  <a:pt x="448" y="756"/>
                </a:lnTo>
                <a:lnTo>
                  <a:pt x="445" y="764"/>
                </a:lnTo>
                <a:lnTo>
                  <a:pt x="444" y="771"/>
                </a:lnTo>
                <a:lnTo>
                  <a:pt x="442" y="780"/>
                </a:lnTo>
                <a:lnTo>
                  <a:pt x="441" y="787"/>
                </a:lnTo>
                <a:lnTo>
                  <a:pt x="441" y="842"/>
                </a:lnTo>
                <a:lnTo>
                  <a:pt x="384" y="842"/>
                </a:lnTo>
                <a:lnTo>
                  <a:pt x="384" y="99"/>
                </a:lnTo>
                <a:lnTo>
                  <a:pt x="384" y="90"/>
                </a:lnTo>
                <a:lnTo>
                  <a:pt x="382" y="79"/>
                </a:lnTo>
                <a:lnTo>
                  <a:pt x="380" y="70"/>
                </a:lnTo>
                <a:lnTo>
                  <a:pt x="377" y="60"/>
                </a:lnTo>
                <a:lnTo>
                  <a:pt x="373" y="52"/>
                </a:lnTo>
                <a:lnTo>
                  <a:pt x="368" y="43"/>
                </a:lnTo>
                <a:lnTo>
                  <a:pt x="362" y="36"/>
                </a:lnTo>
                <a:lnTo>
                  <a:pt x="356" y="29"/>
                </a:lnTo>
                <a:lnTo>
                  <a:pt x="349" y="22"/>
                </a:lnTo>
                <a:lnTo>
                  <a:pt x="341" y="17"/>
                </a:lnTo>
                <a:lnTo>
                  <a:pt x="333" y="12"/>
                </a:lnTo>
                <a:lnTo>
                  <a:pt x="323" y="7"/>
                </a:lnTo>
                <a:lnTo>
                  <a:pt x="315" y="4"/>
                </a:lnTo>
                <a:lnTo>
                  <a:pt x="305" y="1"/>
                </a:lnTo>
                <a:lnTo>
                  <a:pt x="295" y="0"/>
                </a:lnTo>
                <a:lnTo>
                  <a:pt x="285" y="0"/>
                </a:lnTo>
                <a:lnTo>
                  <a:pt x="275" y="0"/>
                </a:lnTo>
                <a:lnTo>
                  <a:pt x="264" y="1"/>
                </a:lnTo>
                <a:lnTo>
                  <a:pt x="255" y="4"/>
                </a:lnTo>
                <a:lnTo>
                  <a:pt x="246" y="7"/>
                </a:lnTo>
                <a:lnTo>
                  <a:pt x="237" y="12"/>
                </a:lnTo>
                <a:lnTo>
                  <a:pt x="229" y="17"/>
                </a:lnTo>
                <a:lnTo>
                  <a:pt x="221" y="22"/>
                </a:lnTo>
                <a:lnTo>
                  <a:pt x="215" y="29"/>
                </a:lnTo>
                <a:lnTo>
                  <a:pt x="207" y="36"/>
                </a:lnTo>
                <a:lnTo>
                  <a:pt x="202" y="43"/>
                </a:lnTo>
                <a:lnTo>
                  <a:pt x="197" y="52"/>
                </a:lnTo>
                <a:lnTo>
                  <a:pt x="192" y="60"/>
                </a:lnTo>
                <a:lnTo>
                  <a:pt x="189" y="70"/>
                </a:lnTo>
                <a:lnTo>
                  <a:pt x="187" y="79"/>
                </a:lnTo>
                <a:lnTo>
                  <a:pt x="185" y="90"/>
                </a:lnTo>
                <a:lnTo>
                  <a:pt x="185" y="99"/>
                </a:lnTo>
                <a:lnTo>
                  <a:pt x="185" y="842"/>
                </a:lnTo>
                <a:lnTo>
                  <a:pt x="114" y="842"/>
                </a:lnTo>
                <a:lnTo>
                  <a:pt x="103" y="843"/>
                </a:lnTo>
                <a:lnTo>
                  <a:pt x="91" y="845"/>
                </a:lnTo>
                <a:lnTo>
                  <a:pt x="81" y="847"/>
                </a:lnTo>
                <a:lnTo>
                  <a:pt x="70" y="851"/>
                </a:lnTo>
                <a:lnTo>
                  <a:pt x="60" y="855"/>
                </a:lnTo>
                <a:lnTo>
                  <a:pt x="50" y="862"/>
                </a:lnTo>
                <a:lnTo>
                  <a:pt x="42" y="868"/>
                </a:lnTo>
                <a:lnTo>
                  <a:pt x="33" y="875"/>
                </a:lnTo>
                <a:lnTo>
                  <a:pt x="26" y="884"/>
                </a:lnTo>
                <a:lnTo>
                  <a:pt x="19" y="892"/>
                </a:lnTo>
                <a:lnTo>
                  <a:pt x="14" y="902"/>
                </a:lnTo>
                <a:lnTo>
                  <a:pt x="9" y="912"/>
                </a:lnTo>
                <a:lnTo>
                  <a:pt x="5" y="922"/>
                </a:lnTo>
                <a:lnTo>
                  <a:pt x="3" y="933"/>
                </a:lnTo>
                <a:lnTo>
                  <a:pt x="0" y="945"/>
                </a:lnTo>
                <a:lnTo>
                  <a:pt x="0" y="957"/>
                </a:lnTo>
                <a:lnTo>
                  <a:pt x="0" y="3271"/>
                </a:lnTo>
                <a:lnTo>
                  <a:pt x="0" y="3282"/>
                </a:lnTo>
                <a:lnTo>
                  <a:pt x="3" y="3294"/>
                </a:lnTo>
                <a:lnTo>
                  <a:pt x="5" y="3306"/>
                </a:lnTo>
                <a:lnTo>
                  <a:pt x="9" y="3316"/>
                </a:lnTo>
                <a:lnTo>
                  <a:pt x="14" y="3326"/>
                </a:lnTo>
                <a:lnTo>
                  <a:pt x="19" y="3335"/>
                </a:lnTo>
                <a:lnTo>
                  <a:pt x="26" y="3344"/>
                </a:lnTo>
                <a:lnTo>
                  <a:pt x="33" y="3352"/>
                </a:lnTo>
                <a:lnTo>
                  <a:pt x="42" y="3359"/>
                </a:lnTo>
                <a:lnTo>
                  <a:pt x="50" y="3366"/>
                </a:lnTo>
                <a:lnTo>
                  <a:pt x="60" y="3372"/>
                </a:lnTo>
                <a:lnTo>
                  <a:pt x="70" y="3376"/>
                </a:lnTo>
                <a:lnTo>
                  <a:pt x="81" y="3380"/>
                </a:lnTo>
                <a:lnTo>
                  <a:pt x="91" y="3383"/>
                </a:lnTo>
                <a:lnTo>
                  <a:pt x="103" y="3385"/>
                </a:lnTo>
                <a:lnTo>
                  <a:pt x="114" y="3386"/>
                </a:lnTo>
                <a:lnTo>
                  <a:pt x="1373" y="3386"/>
                </a:lnTo>
                <a:lnTo>
                  <a:pt x="1384" y="3385"/>
                </a:lnTo>
                <a:lnTo>
                  <a:pt x="1396" y="3383"/>
                </a:lnTo>
                <a:lnTo>
                  <a:pt x="1407" y="3380"/>
                </a:lnTo>
                <a:lnTo>
                  <a:pt x="1417" y="3376"/>
                </a:lnTo>
                <a:lnTo>
                  <a:pt x="1428" y="3372"/>
                </a:lnTo>
                <a:lnTo>
                  <a:pt x="1437" y="3366"/>
                </a:lnTo>
                <a:lnTo>
                  <a:pt x="1446" y="3359"/>
                </a:lnTo>
                <a:lnTo>
                  <a:pt x="1454" y="3352"/>
                </a:lnTo>
                <a:lnTo>
                  <a:pt x="1461" y="3344"/>
                </a:lnTo>
                <a:lnTo>
                  <a:pt x="1468" y="3335"/>
                </a:lnTo>
                <a:lnTo>
                  <a:pt x="1473" y="3326"/>
                </a:lnTo>
                <a:lnTo>
                  <a:pt x="1478" y="3316"/>
                </a:lnTo>
                <a:lnTo>
                  <a:pt x="1483" y="3306"/>
                </a:lnTo>
                <a:lnTo>
                  <a:pt x="1485" y="3294"/>
                </a:lnTo>
                <a:lnTo>
                  <a:pt x="1487" y="3282"/>
                </a:lnTo>
                <a:lnTo>
                  <a:pt x="1488" y="3271"/>
                </a:lnTo>
                <a:lnTo>
                  <a:pt x="1488" y="957"/>
                </a:lnTo>
                <a:lnTo>
                  <a:pt x="1487" y="945"/>
                </a:lnTo>
                <a:lnTo>
                  <a:pt x="1485" y="933"/>
                </a:lnTo>
                <a:lnTo>
                  <a:pt x="1483" y="922"/>
                </a:lnTo>
                <a:lnTo>
                  <a:pt x="1478" y="912"/>
                </a:lnTo>
                <a:lnTo>
                  <a:pt x="1473" y="902"/>
                </a:lnTo>
                <a:lnTo>
                  <a:pt x="1468" y="892"/>
                </a:lnTo>
                <a:lnTo>
                  <a:pt x="1461" y="884"/>
                </a:lnTo>
                <a:lnTo>
                  <a:pt x="1454" y="875"/>
                </a:lnTo>
                <a:lnTo>
                  <a:pt x="1446" y="868"/>
                </a:lnTo>
                <a:lnTo>
                  <a:pt x="1437" y="862"/>
                </a:lnTo>
                <a:lnTo>
                  <a:pt x="1428" y="855"/>
                </a:lnTo>
                <a:lnTo>
                  <a:pt x="1417" y="851"/>
                </a:lnTo>
                <a:lnTo>
                  <a:pt x="1407" y="847"/>
                </a:lnTo>
                <a:lnTo>
                  <a:pt x="1396" y="845"/>
                </a:lnTo>
                <a:lnTo>
                  <a:pt x="1384" y="843"/>
                </a:lnTo>
                <a:lnTo>
                  <a:pt x="1373" y="842"/>
                </a:lnTo>
                <a:close/>
                <a:moveTo>
                  <a:pt x="493" y="2805"/>
                </a:moveTo>
                <a:lnTo>
                  <a:pt x="493" y="2805"/>
                </a:lnTo>
                <a:lnTo>
                  <a:pt x="469" y="2804"/>
                </a:lnTo>
                <a:lnTo>
                  <a:pt x="447" y="2801"/>
                </a:lnTo>
                <a:lnTo>
                  <a:pt x="425" y="2798"/>
                </a:lnTo>
                <a:lnTo>
                  <a:pt x="403" y="2793"/>
                </a:lnTo>
                <a:lnTo>
                  <a:pt x="383" y="2788"/>
                </a:lnTo>
                <a:lnTo>
                  <a:pt x="365" y="2780"/>
                </a:lnTo>
                <a:lnTo>
                  <a:pt x="348" y="2773"/>
                </a:lnTo>
                <a:lnTo>
                  <a:pt x="332" y="2763"/>
                </a:lnTo>
                <a:lnTo>
                  <a:pt x="317" y="2754"/>
                </a:lnTo>
                <a:lnTo>
                  <a:pt x="303" y="2743"/>
                </a:lnTo>
                <a:lnTo>
                  <a:pt x="292" y="2732"/>
                </a:lnTo>
                <a:lnTo>
                  <a:pt x="282" y="2720"/>
                </a:lnTo>
                <a:lnTo>
                  <a:pt x="275" y="2708"/>
                </a:lnTo>
                <a:lnTo>
                  <a:pt x="269" y="2694"/>
                </a:lnTo>
                <a:lnTo>
                  <a:pt x="265" y="2680"/>
                </a:lnTo>
                <a:lnTo>
                  <a:pt x="264" y="2666"/>
                </a:lnTo>
                <a:lnTo>
                  <a:pt x="265" y="2653"/>
                </a:lnTo>
                <a:lnTo>
                  <a:pt x="269" y="2639"/>
                </a:lnTo>
                <a:lnTo>
                  <a:pt x="275" y="2625"/>
                </a:lnTo>
                <a:lnTo>
                  <a:pt x="282" y="2613"/>
                </a:lnTo>
                <a:lnTo>
                  <a:pt x="292" y="2601"/>
                </a:lnTo>
                <a:lnTo>
                  <a:pt x="303" y="2589"/>
                </a:lnTo>
                <a:lnTo>
                  <a:pt x="317" y="2579"/>
                </a:lnTo>
                <a:lnTo>
                  <a:pt x="332" y="2569"/>
                </a:lnTo>
                <a:lnTo>
                  <a:pt x="348" y="2560"/>
                </a:lnTo>
                <a:lnTo>
                  <a:pt x="365" y="2553"/>
                </a:lnTo>
                <a:lnTo>
                  <a:pt x="383" y="2545"/>
                </a:lnTo>
                <a:lnTo>
                  <a:pt x="403" y="2540"/>
                </a:lnTo>
                <a:lnTo>
                  <a:pt x="425" y="2535"/>
                </a:lnTo>
                <a:lnTo>
                  <a:pt x="447" y="2531"/>
                </a:lnTo>
                <a:lnTo>
                  <a:pt x="469" y="2529"/>
                </a:lnTo>
                <a:lnTo>
                  <a:pt x="493" y="2528"/>
                </a:lnTo>
                <a:lnTo>
                  <a:pt x="504" y="2529"/>
                </a:lnTo>
                <a:lnTo>
                  <a:pt x="515" y="2531"/>
                </a:lnTo>
                <a:lnTo>
                  <a:pt x="525" y="2536"/>
                </a:lnTo>
                <a:lnTo>
                  <a:pt x="534" y="2541"/>
                </a:lnTo>
                <a:lnTo>
                  <a:pt x="543" y="2546"/>
                </a:lnTo>
                <a:lnTo>
                  <a:pt x="550" y="2554"/>
                </a:lnTo>
                <a:lnTo>
                  <a:pt x="557" y="2562"/>
                </a:lnTo>
                <a:lnTo>
                  <a:pt x="564" y="2572"/>
                </a:lnTo>
                <a:lnTo>
                  <a:pt x="569" y="2582"/>
                </a:lnTo>
                <a:lnTo>
                  <a:pt x="574" y="2593"/>
                </a:lnTo>
                <a:lnTo>
                  <a:pt x="579" y="2604"/>
                </a:lnTo>
                <a:lnTo>
                  <a:pt x="582" y="2616"/>
                </a:lnTo>
                <a:lnTo>
                  <a:pt x="584" y="2628"/>
                </a:lnTo>
                <a:lnTo>
                  <a:pt x="586" y="2641"/>
                </a:lnTo>
                <a:lnTo>
                  <a:pt x="587" y="2654"/>
                </a:lnTo>
                <a:lnTo>
                  <a:pt x="587" y="2666"/>
                </a:lnTo>
                <a:lnTo>
                  <a:pt x="587" y="2679"/>
                </a:lnTo>
                <a:lnTo>
                  <a:pt x="586" y="2692"/>
                </a:lnTo>
                <a:lnTo>
                  <a:pt x="584" y="2704"/>
                </a:lnTo>
                <a:lnTo>
                  <a:pt x="582" y="2717"/>
                </a:lnTo>
                <a:lnTo>
                  <a:pt x="579" y="2729"/>
                </a:lnTo>
                <a:lnTo>
                  <a:pt x="574" y="2740"/>
                </a:lnTo>
                <a:lnTo>
                  <a:pt x="569" y="2751"/>
                </a:lnTo>
                <a:lnTo>
                  <a:pt x="564" y="2761"/>
                </a:lnTo>
                <a:lnTo>
                  <a:pt x="557" y="2771"/>
                </a:lnTo>
                <a:lnTo>
                  <a:pt x="550" y="2778"/>
                </a:lnTo>
                <a:lnTo>
                  <a:pt x="543" y="2786"/>
                </a:lnTo>
                <a:lnTo>
                  <a:pt x="534" y="2792"/>
                </a:lnTo>
                <a:lnTo>
                  <a:pt x="525" y="2797"/>
                </a:lnTo>
                <a:lnTo>
                  <a:pt x="515" y="2801"/>
                </a:lnTo>
                <a:lnTo>
                  <a:pt x="504" y="2804"/>
                </a:lnTo>
                <a:lnTo>
                  <a:pt x="493" y="2805"/>
                </a:lnTo>
                <a:close/>
                <a:moveTo>
                  <a:pt x="739" y="3128"/>
                </a:moveTo>
                <a:lnTo>
                  <a:pt x="739" y="3128"/>
                </a:lnTo>
                <a:lnTo>
                  <a:pt x="725" y="3127"/>
                </a:lnTo>
                <a:lnTo>
                  <a:pt x="711" y="3124"/>
                </a:lnTo>
                <a:lnTo>
                  <a:pt x="698" y="3118"/>
                </a:lnTo>
                <a:lnTo>
                  <a:pt x="685" y="3110"/>
                </a:lnTo>
                <a:lnTo>
                  <a:pt x="673" y="3101"/>
                </a:lnTo>
                <a:lnTo>
                  <a:pt x="662" y="3089"/>
                </a:lnTo>
                <a:lnTo>
                  <a:pt x="651" y="3077"/>
                </a:lnTo>
                <a:lnTo>
                  <a:pt x="642" y="3062"/>
                </a:lnTo>
                <a:lnTo>
                  <a:pt x="632" y="3045"/>
                </a:lnTo>
                <a:lnTo>
                  <a:pt x="625" y="3028"/>
                </a:lnTo>
                <a:lnTo>
                  <a:pt x="618" y="3009"/>
                </a:lnTo>
                <a:lnTo>
                  <a:pt x="612" y="2989"/>
                </a:lnTo>
                <a:lnTo>
                  <a:pt x="607" y="2968"/>
                </a:lnTo>
                <a:lnTo>
                  <a:pt x="604" y="2946"/>
                </a:lnTo>
                <a:lnTo>
                  <a:pt x="602" y="2924"/>
                </a:lnTo>
                <a:lnTo>
                  <a:pt x="601" y="2901"/>
                </a:lnTo>
                <a:lnTo>
                  <a:pt x="602" y="2889"/>
                </a:lnTo>
                <a:lnTo>
                  <a:pt x="604" y="2878"/>
                </a:lnTo>
                <a:lnTo>
                  <a:pt x="608" y="2868"/>
                </a:lnTo>
                <a:lnTo>
                  <a:pt x="613" y="2858"/>
                </a:lnTo>
                <a:lnTo>
                  <a:pt x="620" y="2850"/>
                </a:lnTo>
                <a:lnTo>
                  <a:pt x="627" y="2843"/>
                </a:lnTo>
                <a:lnTo>
                  <a:pt x="634" y="2835"/>
                </a:lnTo>
                <a:lnTo>
                  <a:pt x="644" y="2829"/>
                </a:lnTo>
                <a:lnTo>
                  <a:pt x="654" y="2824"/>
                </a:lnTo>
                <a:lnTo>
                  <a:pt x="665" y="2819"/>
                </a:lnTo>
                <a:lnTo>
                  <a:pt x="677" y="2815"/>
                </a:lnTo>
                <a:lnTo>
                  <a:pt x="688" y="2812"/>
                </a:lnTo>
                <a:lnTo>
                  <a:pt x="701" y="2809"/>
                </a:lnTo>
                <a:lnTo>
                  <a:pt x="714" y="2807"/>
                </a:lnTo>
                <a:lnTo>
                  <a:pt x="726" y="2806"/>
                </a:lnTo>
                <a:lnTo>
                  <a:pt x="739" y="2806"/>
                </a:lnTo>
                <a:lnTo>
                  <a:pt x="752" y="2806"/>
                </a:lnTo>
                <a:lnTo>
                  <a:pt x="764" y="2807"/>
                </a:lnTo>
                <a:lnTo>
                  <a:pt x="777" y="2809"/>
                </a:lnTo>
                <a:lnTo>
                  <a:pt x="790" y="2812"/>
                </a:lnTo>
                <a:lnTo>
                  <a:pt x="801" y="2815"/>
                </a:lnTo>
                <a:lnTo>
                  <a:pt x="813" y="2819"/>
                </a:lnTo>
                <a:lnTo>
                  <a:pt x="823" y="2824"/>
                </a:lnTo>
                <a:lnTo>
                  <a:pt x="834" y="2829"/>
                </a:lnTo>
                <a:lnTo>
                  <a:pt x="843" y="2835"/>
                </a:lnTo>
                <a:lnTo>
                  <a:pt x="852" y="2843"/>
                </a:lnTo>
                <a:lnTo>
                  <a:pt x="859" y="2850"/>
                </a:lnTo>
                <a:lnTo>
                  <a:pt x="864" y="2858"/>
                </a:lnTo>
                <a:lnTo>
                  <a:pt x="870" y="2868"/>
                </a:lnTo>
                <a:lnTo>
                  <a:pt x="874" y="2878"/>
                </a:lnTo>
                <a:lnTo>
                  <a:pt x="876" y="2889"/>
                </a:lnTo>
                <a:lnTo>
                  <a:pt x="877" y="2901"/>
                </a:lnTo>
                <a:lnTo>
                  <a:pt x="876" y="2924"/>
                </a:lnTo>
                <a:lnTo>
                  <a:pt x="874" y="2946"/>
                </a:lnTo>
                <a:lnTo>
                  <a:pt x="871" y="2968"/>
                </a:lnTo>
                <a:lnTo>
                  <a:pt x="865" y="2989"/>
                </a:lnTo>
                <a:lnTo>
                  <a:pt x="860" y="3009"/>
                </a:lnTo>
                <a:lnTo>
                  <a:pt x="853" y="3028"/>
                </a:lnTo>
                <a:lnTo>
                  <a:pt x="845" y="3045"/>
                </a:lnTo>
                <a:lnTo>
                  <a:pt x="836" y="3062"/>
                </a:lnTo>
                <a:lnTo>
                  <a:pt x="826" y="3077"/>
                </a:lnTo>
                <a:lnTo>
                  <a:pt x="816" y="3089"/>
                </a:lnTo>
                <a:lnTo>
                  <a:pt x="804" y="3101"/>
                </a:lnTo>
                <a:lnTo>
                  <a:pt x="793" y="3110"/>
                </a:lnTo>
                <a:lnTo>
                  <a:pt x="780" y="3118"/>
                </a:lnTo>
                <a:lnTo>
                  <a:pt x="766" y="3124"/>
                </a:lnTo>
                <a:lnTo>
                  <a:pt x="753" y="3127"/>
                </a:lnTo>
                <a:lnTo>
                  <a:pt x="739" y="3128"/>
                </a:lnTo>
                <a:close/>
                <a:moveTo>
                  <a:pt x="601" y="2433"/>
                </a:moveTo>
                <a:lnTo>
                  <a:pt x="601" y="2433"/>
                </a:lnTo>
                <a:lnTo>
                  <a:pt x="602" y="2410"/>
                </a:lnTo>
                <a:lnTo>
                  <a:pt x="604" y="2387"/>
                </a:lnTo>
                <a:lnTo>
                  <a:pt x="607" y="2365"/>
                </a:lnTo>
                <a:lnTo>
                  <a:pt x="612" y="2344"/>
                </a:lnTo>
                <a:lnTo>
                  <a:pt x="618" y="2325"/>
                </a:lnTo>
                <a:lnTo>
                  <a:pt x="625" y="2306"/>
                </a:lnTo>
                <a:lnTo>
                  <a:pt x="632" y="2288"/>
                </a:lnTo>
                <a:lnTo>
                  <a:pt x="642" y="2272"/>
                </a:lnTo>
                <a:lnTo>
                  <a:pt x="651" y="2257"/>
                </a:lnTo>
                <a:lnTo>
                  <a:pt x="662" y="2243"/>
                </a:lnTo>
                <a:lnTo>
                  <a:pt x="673" y="2232"/>
                </a:lnTo>
                <a:lnTo>
                  <a:pt x="685" y="2222"/>
                </a:lnTo>
                <a:lnTo>
                  <a:pt x="698" y="2215"/>
                </a:lnTo>
                <a:lnTo>
                  <a:pt x="711" y="2210"/>
                </a:lnTo>
                <a:lnTo>
                  <a:pt x="725" y="2206"/>
                </a:lnTo>
                <a:lnTo>
                  <a:pt x="739" y="2204"/>
                </a:lnTo>
                <a:lnTo>
                  <a:pt x="753" y="2206"/>
                </a:lnTo>
                <a:lnTo>
                  <a:pt x="766" y="2210"/>
                </a:lnTo>
                <a:lnTo>
                  <a:pt x="780" y="2215"/>
                </a:lnTo>
                <a:lnTo>
                  <a:pt x="793" y="2222"/>
                </a:lnTo>
                <a:lnTo>
                  <a:pt x="804" y="2232"/>
                </a:lnTo>
                <a:lnTo>
                  <a:pt x="816" y="2243"/>
                </a:lnTo>
                <a:lnTo>
                  <a:pt x="826" y="2257"/>
                </a:lnTo>
                <a:lnTo>
                  <a:pt x="836" y="2272"/>
                </a:lnTo>
                <a:lnTo>
                  <a:pt x="845" y="2288"/>
                </a:lnTo>
                <a:lnTo>
                  <a:pt x="853" y="2306"/>
                </a:lnTo>
                <a:lnTo>
                  <a:pt x="860" y="2325"/>
                </a:lnTo>
                <a:lnTo>
                  <a:pt x="865" y="2344"/>
                </a:lnTo>
                <a:lnTo>
                  <a:pt x="871" y="2365"/>
                </a:lnTo>
                <a:lnTo>
                  <a:pt x="874" y="2387"/>
                </a:lnTo>
                <a:lnTo>
                  <a:pt x="876" y="2410"/>
                </a:lnTo>
                <a:lnTo>
                  <a:pt x="877" y="2433"/>
                </a:lnTo>
                <a:lnTo>
                  <a:pt x="876" y="2445"/>
                </a:lnTo>
                <a:lnTo>
                  <a:pt x="874" y="2455"/>
                </a:lnTo>
                <a:lnTo>
                  <a:pt x="870" y="2465"/>
                </a:lnTo>
                <a:lnTo>
                  <a:pt x="864" y="2474"/>
                </a:lnTo>
                <a:lnTo>
                  <a:pt x="859" y="2483"/>
                </a:lnTo>
                <a:lnTo>
                  <a:pt x="852" y="2490"/>
                </a:lnTo>
                <a:lnTo>
                  <a:pt x="843" y="2498"/>
                </a:lnTo>
                <a:lnTo>
                  <a:pt x="834" y="2504"/>
                </a:lnTo>
                <a:lnTo>
                  <a:pt x="823" y="2509"/>
                </a:lnTo>
                <a:lnTo>
                  <a:pt x="813" y="2515"/>
                </a:lnTo>
                <a:lnTo>
                  <a:pt x="801" y="2519"/>
                </a:lnTo>
                <a:lnTo>
                  <a:pt x="790" y="2522"/>
                </a:lnTo>
                <a:lnTo>
                  <a:pt x="777" y="2524"/>
                </a:lnTo>
                <a:lnTo>
                  <a:pt x="764" y="2526"/>
                </a:lnTo>
                <a:lnTo>
                  <a:pt x="752" y="2527"/>
                </a:lnTo>
                <a:lnTo>
                  <a:pt x="739" y="2527"/>
                </a:lnTo>
                <a:lnTo>
                  <a:pt x="726" y="2527"/>
                </a:lnTo>
                <a:lnTo>
                  <a:pt x="714" y="2526"/>
                </a:lnTo>
                <a:lnTo>
                  <a:pt x="701" y="2524"/>
                </a:lnTo>
                <a:lnTo>
                  <a:pt x="688" y="2522"/>
                </a:lnTo>
                <a:lnTo>
                  <a:pt x="677" y="2519"/>
                </a:lnTo>
                <a:lnTo>
                  <a:pt x="665" y="2515"/>
                </a:lnTo>
                <a:lnTo>
                  <a:pt x="654" y="2509"/>
                </a:lnTo>
                <a:lnTo>
                  <a:pt x="644" y="2504"/>
                </a:lnTo>
                <a:lnTo>
                  <a:pt x="634" y="2498"/>
                </a:lnTo>
                <a:lnTo>
                  <a:pt x="627" y="2490"/>
                </a:lnTo>
                <a:lnTo>
                  <a:pt x="620" y="2483"/>
                </a:lnTo>
                <a:lnTo>
                  <a:pt x="613" y="2474"/>
                </a:lnTo>
                <a:lnTo>
                  <a:pt x="608" y="2465"/>
                </a:lnTo>
                <a:lnTo>
                  <a:pt x="604" y="2455"/>
                </a:lnTo>
                <a:lnTo>
                  <a:pt x="602" y="2445"/>
                </a:lnTo>
                <a:lnTo>
                  <a:pt x="601" y="2433"/>
                </a:lnTo>
                <a:close/>
                <a:moveTo>
                  <a:pt x="994" y="2805"/>
                </a:moveTo>
                <a:lnTo>
                  <a:pt x="994" y="2805"/>
                </a:lnTo>
                <a:lnTo>
                  <a:pt x="984" y="2804"/>
                </a:lnTo>
                <a:lnTo>
                  <a:pt x="972" y="2801"/>
                </a:lnTo>
                <a:lnTo>
                  <a:pt x="963" y="2797"/>
                </a:lnTo>
                <a:lnTo>
                  <a:pt x="953" y="2792"/>
                </a:lnTo>
                <a:lnTo>
                  <a:pt x="945" y="2786"/>
                </a:lnTo>
                <a:lnTo>
                  <a:pt x="937" y="2778"/>
                </a:lnTo>
                <a:lnTo>
                  <a:pt x="930" y="2771"/>
                </a:lnTo>
                <a:lnTo>
                  <a:pt x="923" y="2761"/>
                </a:lnTo>
                <a:lnTo>
                  <a:pt x="918" y="2751"/>
                </a:lnTo>
                <a:lnTo>
                  <a:pt x="913" y="2740"/>
                </a:lnTo>
                <a:lnTo>
                  <a:pt x="910" y="2729"/>
                </a:lnTo>
                <a:lnTo>
                  <a:pt x="906" y="2717"/>
                </a:lnTo>
                <a:lnTo>
                  <a:pt x="903" y="2704"/>
                </a:lnTo>
                <a:lnTo>
                  <a:pt x="901" y="2692"/>
                </a:lnTo>
                <a:lnTo>
                  <a:pt x="900" y="2679"/>
                </a:lnTo>
                <a:lnTo>
                  <a:pt x="900" y="2666"/>
                </a:lnTo>
                <a:lnTo>
                  <a:pt x="900" y="2654"/>
                </a:lnTo>
                <a:lnTo>
                  <a:pt x="901" y="2641"/>
                </a:lnTo>
                <a:lnTo>
                  <a:pt x="903" y="2628"/>
                </a:lnTo>
                <a:lnTo>
                  <a:pt x="906" y="2616"/>
                </a:lnTo>
                <a:lnTo>
                  <a:pt x="910" y="2604"/>
                </a:lnTo>
                <a:lnTo>
                  <a:pt x="913" y="2593"/>
                </a:lnTo>
                <a:lnTo>
                  <a:pt x="918" y="2582"/>
                </a:lnTo>
                <a:lnTo>
                  <a:pt x="923" y="2572"/>
                </a:lnTo>
                <a:lnTo>
                  <a:pt x="930" y="2562"/>
                </a:lnTo>
                <a:lnTo>
                  <a:pt x="937" y="2554"/>
                </a:lnTo>
                <a:lnTo>
                  <a:pt x="945" y="2546"/>
                </a:lnTo>
                <a:lnTo>
                  <a:pt x="953" y="2541"/>
                </a:lnTo>
                <a:lnTo>
                  <a:pt x="963" y="2536"/>
                </a:lnTo>
                <a:lnTo>
                  <a:pt x="972" y="2531"/>
                </a:lnTo>
                <a:lnTo>
                  <a:pt x="984" y="2529"/>
                </a:lnTo>
                <a:lnTo>
                  <a:pt x="994" y="2528"/>
                </a:lnTo>
                <a:lnTo>
                  <a:pt x="1018" y="2529"/>
                </a:lnTo>
                <a:lnTo>
                  <a:pt x="1041" y="2531"/>
                </a:lnTo>
                <a:lnTo>
                  <a:pt x="1063" y="2535"/>
                </a:lnTo>
                <a:lnTo>
                  <a:pt x="1084" y="2540"/>
                </a:lnTo>
                <a:lnTo>
                  <a:pt x="1104" y="2545"/>
                </a:lnTo>
                <a:lnTo>
                  <a:pt x="1122" y="2553"/>
                </a:lnTo>
                <a:lnTo>
                  <a:pt x="1140" y="2560"/>
                </a:lnTo>
                <a:lnTo>
                  <a:pt x="1157" y="2569"/>
                </a:lnTo>
                <a:lnTo>
                  <a:pt x="1170" y="2579"/>
                </a:lnTo>
                <a:lnTo>
                  <a:pt x="1184" y="2589"/>
                </a:lnTo>
                <a:lnTo>
                  <a:pt x="1196" y="2601"/>
                </a:lnTo>
                <a:lnTo>
                  <a:pt x="1205" y="2613"/>
                </a:lnTo>
                <a:lnTo>
                  <a:pt x="1213" y="2625"/>
                </a:lnTo>
                <a:lnTo>
                  <a:pt x="1219" y="2639"/>
                </a:lnTo>
                <a:lnTo>
                  <a:pt x="1222" y="2653"/>
                </a:lnTo>
                <a:lnTo>
                  <a:pt x="1223" y="2666"/>
                </a:lnTo>
                <a:lnTo>
                  <a:pt x="1222" y="2680"/>
                </a:lnTo>
                <a:lnTo>
                  <a:pt x="1219" y="2694"/>
                </a:lnTo>
                <a:lnTo>
                  <a:pt x="1213" y="2708"/>
                </a:lnTo>
                <a:lnTo>
                  <a:pt x="1205" y="2720"/>
                </a:lnTo>
                <a:lnTo>
                  <a:pt x="1196" y="2732"/>
                </a:lnTo>
                <a:lnTo>
                  <a:pt x="1184" y="2743"/>
                </a:lnTo>
                <a:lnTo>
                  <a:pt x="1170" y="2754"/>
                </a:lnTo>
                <a:lnTo>
                  <a:pt x="1157" y="2763"/>
                </a:lnTo>
                <a:lnTo>
                  <a:pt x="1140" y="2773"/>
                </a:lnTo>
                <a:lnTo>
                  <a:pt x="1122" y="2780"/>
                </a:lnTo>
                <a:lnTo>
                  <a:pt x="1104" y="2788"/>
                </a:lnTo>
                <a:lnTo>
                  <a:pt x="1084" y="2793"/>
                </a:lnTo>
                <a:lnTo>
                  <a:pt x="1063" y="2798"/>
                </a:lnTo>
                <a:lnTo>
                  <a:pt x="1041" y="2801"/>
                </a:lnTo>
                <a:lnTo>
                  <a:pt x="1018" y="2804"/>
                </a:lnTo>
                <a:lnTo>
                  <a:pt x="994" y="2805"/>
                </a:lnTo>
                <a:close/>
                <a:moveTo>
                  <a:pt x="1323" y="1909"/>
                </a:moveTo>
                <a:lnTo>
                  <a:pt x="1323" y="1909"/>
                </a:lnTo>
                <a:lnTo>
                  <a:pt x="1323" y="1921"/>
                </a:lnTo>
                <a:lnTo>
                  <a:pt x="1321" y="1932"/>
                </a:lnTo>
                <a:lnTo>
                  <a:pt x="1318" y="1943"/>
                </a:lnTo>
                <a:lnTo>
                  <a:pt x="1315" y="1953"/>
                </a:lnTo>
                <a:lnTo>
                  <a:pt x="1310" y="1963"/>
                </a:lnTo>
                <a:lnTo>
                  <a:pt x="1304" y="1972"/>
                </a:lnTo>
                <a:lnTo>
                  <a:pt x="1298" y="1982"/>
                </a:lnTo>
                <a:lnTo>
                  <a:pt x="1291" y="1989"/>
                </a:lnTo>
                <a:lnTo>
                  <a:pt x="1282" y="1997"/>
                </a:lnTo>
                <a:lnTo>
                  <a:pt x="1274" y="2004"/>
                </a:lnTo>
                <a:lnTo>
                  <a:pt x="1264" y="2009"/>
                </a:lnTo>
                <a:lnTo>
                  <a:pt x="1254" y="2015"/>
                </a:lnTo>
                <a:lnTo>
                  <a:pt x="1243" y="2018"/>
                </a:lnTo>
                <a:lnTo>
                  <a:pt x="1233" y="2021"/>
                </a:lnTo>
                <a:lnTo>
                  <a:pt x="1221" y="2023"/>
                </a:lnTo>
                <a:lnTo>
                  <a:pt x="1209" y="2023"/>
                </a:lnTo>
                <a:lnTo>
                  <a:pt x="299" y="2023"/>
                </a:lnTo>
                <a:lnTo>
                  <a:pt x="287" y="2023"/>
                </a:lnTo>
                <a:lnTo>
                  <a:pt x="276" y="2021"/>
                </a:lnTo>
                <a:lnTo>
                  <a:pt x="265" y="2018"/>
                </a:lnTo>
                <a:lnTo>
                  <a:pt x="255" y="2015"/>
                </a:lnTo>
                <a:lnTo>
                  <a:pt x="244" y="2009"/>
                </a:lnTo>
                <a:lnTo>
                  <a:pt x="236" y="2004"/>
                </a:lnTo>
                <a:lnTo>
                  <a:pt x="226" y="1997"/>
                </a:lnTo>
                <a:lnTo>
                  <a:pt x="218" y="1989"/>
                </a:lnTo>
                <a:lnTo>
                  <a:pt x="210" y="1982"/>
                </a:lnTo>
                <a:lnTo>
                  <a:pt x="204" y="1972"/>
                </a:lnTo>
                <a:lnTo>
                  <a:pt x="199" y="1963"/>
                </a:lnTo>
                <a:lnTo>
                  <a:pt x="194" y="1953"/>
                </a:lnTo>
                <a:lnTo>
                  <a:pt x="190" y="1943"/>
                </a:lnTo>
                <a:lnTo>
                  <a:pt x="187" y="1932"/>
                </a:lnTo>
                <a:lnTo>
                  <a:pt x="185" y="1921"/>
                </a:lnTo>
                <a:lnTo>
                  <a:pt x="185" y="1909"/>
                </a:lnTo>
                <a:lnTo>
                  <a:pt x="185" y="1177"/>
                </a:lnTo>
                <a:lnTo>
                  <a:pt x="185" y="1166"/>
                </a:lnTo>
                <a:lnTo>
                  <a:pt x="187" y="1154"/>
                </a:lnTo>
                <a:lnTo>
                  <a:pt x="190" y="1142"/>
                </a:lnTo>
                <a:lnTo>
                  <a:pt x="194" y="1132"/>
                </a:lnTo>
                <a:lnTo>
                  <a:pt x="199" y="1122"/>
                </a:lnTo>
                <a:lnTo>
                  <a:pt x="204" y="1113"/>
                </a:lnTo>
                <a:lnTo>
                  <a:pt x="210" y="1104"/>
                </a:lnTo>
                <a:lnTo>
                  <a:pt x="218" y="1096"/>
                </a:lnTo>
                <a:lnTo>
                  <a:pt x="226" y="1089"/>
                </a:lnTo>
                <a:lnTo>
                  <a:pt x="236" y="1082"/>
                </a:lnTo>
                <a:lnTo>
                  <a:pt x="244" y="1076"/>
                </a:lnTo>
                <a:lnTo>
                  <a:pt x="255" y="1072"/>
                </a:lnTo>
                <a:lnTo>
                  <a:pt x="265" y="1067"/>
                </a:lnTo>
                <a:lnTo>
                  <a:pt x="276" y="1065"/>
                </a:lnTo>
                <a:lnTo>
                  <a:pt x="287" y="1063"/>
                </a:lnTo>
                <a:lnTo>
                  <a:pt x="299" y="1062"/>
                </a:lnTo>
                <a:lnTo>
                  <a:pt x="1209" y="1062"/>
                </a:lnTo>
                <a:lnTo>
                  <a:pt x="1221" y="1063"/>
                </a:lnTo>
                <a:lnTo>
                  <a:pt x="1233" y="1065"/>
                </a:lnTo>
                <a:lnTo>
                  <a:pt x="1243" y="1067"/>
                </a:lnTo>
                <a:lnTo>
                  <a:pt x="1254" y="1072"/>
                </a:lnTo>
                <a:lnTo>
                  <a:pt x="1264" y="1076"/>
                </a:lnTo>
                <a:lnTo>
                  <a:pt x="1274" y="1082"/>
                </a:lnTo>
                <a:lnTo>
                  <a:pt x="1282" y="1089"/>
                </a:lnTo>
                <a:lnTo>
                  <a:pt x="1291" y="1096"/>
                </a:lnTo>
                <a:lnTo>
                  <a:pt x="1298" y="1104"/>
                </a:lnTo>
                <a:lnTo>
                  <a:pt x="1304" y="1113"/>
                </a:lnTo>
                <a:lnTo>
                  <a:pt x="1310" y="1122"/>
                </a:lnTo>
                <a:lnTo>
                  <a:pt x="1315" y="1132"/>
                </a:lnTo>
                <a:lnTo>
                  <a:pt x="1318" y="1142"/>
                </a:lnTo>
                <a:lnTo>
                  <a:pt x="1321" y="1154"/>
                </a:lnTo>
                <a:lnTo>
                  <a:pt x="1323" y="1166"/>
                </a:lnTo>
                <a:lnTo>
                  <a:pt x="1323" y="1177"/>
                </a:lnTo>
                <a:lnTo>
                  <a:pt x="1323" y="1909"/>
                </a:lnTo>
                <a:close/>
              </a:path>
            </a:pathLst>
          </a:custGeom>
          <a:solidFill>
            <a:srgbClr val="00914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KSO_Shape"/>
          <p:cNvSpPr/>
          <p:nvPr/>
        </p:nvSpPr>
        <p:spPr>
          <a:xfrm>
            <a:off x="10056960" y="1517760"/>
            <a:ext cx="844560" cy="62712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05a24"/>
          </a:solidFill>
          <a:ln w="0">
            <a:noFill/>
          </a:ln>
        </p:spPr>
        <p:style>
          <a:lnRef idx="0"/>
          <a:fillRef idx="0"/>
          <a:effectRef idx="0"/>
          <a:fontRef idx="minor"/>
        </p:style>
        <p:txBody>
          <a:bodyPr lIns="68760" rIns="68760" tIns="34200" bIns="54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KSO_Shape"/>
          <p:cNvSpPr/>
          <p:nvPr/>
        </p:nvSpPr>
        <p:spPr>
          <a:xfrm>
            <a:off x="10174320" y="5110200"/>
            <a:ext cx="844560" cy="598320"/>
          </a:xfrm>
          <a:custGeom>
            <a:avLst/>
            <a:gdLst/>
            <a:ahLst/>
            <a:rect l="l" t="t" r="r" b="b"/>
            <a:pathLst>
              <a:path w="472572" h="335351">
                <a:moveTo>
                  <a:pt x="236286" y="238384"/>
                </a:moveTo>
                <a:cubicBezTo>
                  <a:pt x="263564" y="238384"/>
                  <a:pt x="287156" y="254165"/>
                  <a:pt x="297849" y="277381"/>
                </a:cubicBezTo>
                <a:lnTo>
                  <a:pt x="236286" y="335351"/>
                </a:lnTo>
                <a:lnTo>
                  <a:pt x="174722" y="277381"/>
                </a:lnTo>
                <a:cubicBezTo>
                  <a:pt x="185416" y="254165"/>
                  <a:pt x="209008" y="238384"/>
                  <a:pt x="236286" y="238384"/>
                </a:cubicBezTo>
                <a:close/>
                <a:moveTo>
                  <a:pt x="236286" y="153779"/>
                </a:moveTo>
                <a:cubicBezTo>
                  <a:pt x="287723" y="153779"/>
                  <a:pt x="333263" y="179027"/>
                  <a:pt x="360886" y="218025"/>
                </a:cubicBezTo>
                <a:lnTo>
                  <a:pt x="331907" y="245311"/>
                </a:lnTo>
                <a:cubicBezTo>
                  <a:pt x="311651" y="213977"/>
                  <a:pt x="276380" y="193327"/>
                  <a:pt x="236286" y="193327"/>
                </a:cubicBezTo>
                <a:cubicBezTo>
                  <a:pt x="196191" y="193327"/>
                  <a:pt x="160920" y="213977"/>
                  <a:pt x="140664" y="245311"/>
                </a:cubicBezTo>
                <a:lnTo>
                  <a:pt x="111686" y="218025"/>
                </a:lnTo>
                <a:cubicBezTo>
                  <a:pt x="139308" y="179027"/>
                  <a:pt x="184848" y="153779"/>
                  <a:pt x="236286" y="153779"/>
                </a:cubicBezTo>
                <a:close/>
                <a:moveTo>
                  <a:pt x="236285" y="72334"/>
                </a:moveTo>
                <a:cubicBezTo>
                  <a:pt x="311099" y="72334"/>
                  <a:pt x="377756" y="107256"/>
                  <a:pt x="420037" y="162327"/>
                </a:cubicBezTo>
                <a:lnTo>
                  <a:pt x="389766" y="190830"/>
                </a:lnTo>
                <a:cubicBezTo>
                  <a:pt x="354994" y="143968"/>
                  <a:pt x="299138" y="114013"/>
                  <a:pt x="236285" y="114013"/>
                </a:cubicBezTo>
                <a:cubicBezTo>
                  <a:pt x="173433" y="114013"/>
                  <a:pt x="117576" y="143967"/>
                  <a:pt x="82804" y="190829"/>
                </a:cubicBezTo>
                <a:lnTo>
                  <a:pt x="52534" y="162327"/>
                </a:lnTo>
                <a:cubicBezTo>
                  <a:pt x="94815" y="107256"/>
                  <a:pt x="161472" y="72334"/>
                  <a:pt x="236285" y="72334"/>
                </a:cubicBezTo>
                <a:close/>
                <a:moveTo>
                  <a:pt x="236286" y="0"/>
                </a:moveTo>
                <a:cubicBezTo>
                  <a:pt x="331854" y="0"/>
                  <a:pt x="417244" y="43584"/>
                  <a:pt x="472572" y="112859"/>
                </a:cubicBezTo>
                <a:lnTo>
                  <a:pt x="443240" y="140479"/>
                </a:lnTo>
                <a:cubicBezTo>
                  <a:pt x="395198" y="79129"/>
                  <a:pt x="320266" y="40387"/>
                  <a:pt x="236286" y="40387"/>
                </a:cubicBezTo>
                <a:cubicBezTo>
                  <a:pt x="152305" y="40387"/>
                  <a:pt x="77373" y="79129"/>
                  <a:pt x="29332" y="140479"/>
                </a:cubicBezTo>
                <a:lnTo>
                  <a:pt x="0" y="112859"/>
                </a:lnTo>
                <a:cubicBezTo>
                  <a:pt x="55328" y="43584"/>
                  <a:pt x="140717" y="0"/>
                  <a:pt x="236286" y="0"/>
                </a:cubicBez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33"/>
          <p:cNvSpPr/>
          <p:nvPr/>
        </p:nvSpPr>
        <p:spPr>
          <a:xfrm>
            <a:off x="393840" y="1436760"/>
            <a:ext cx="49719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一）社会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a:t>
            </a:r>
            <a:endParaRPr b="0" lang="en-US" sz="1600" spc="-1" strike="noStrike">
              <a:solidFill>
                <a:srgbClr val="000000"/>
              </a:solidFill>
              <a:latin typeface="Calibri"/>
            </a:endParaRPr>
          </a:p>
        </p:txBody>
      </p:sp>
      <p:sp>
        <p:nvSpPr>
          <p:cNvPr id="303" name="矩形 34"/>
          <p:cNvSpPr/>
          <p:nvPr/>
        </p:nvSpPr>
        <p:spPr>
          <a:xfrm>
            <a:off x="334800" y="3666960"/>
            <a:ext cx="5150160" cy="100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现实依据</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 </a:t>
            </a:r>
            <a:r>
              <a:rPr b="0" lang="zh-CN" sz="1600" spc="-1" strike="noStrike">
                <a:solidFill>
                  <a:srgbClr val="000000"/>
                </a:solidFill>
                <a:latin typeface="微软雅黑"/>
                <a:ea typeface="微软雅黑"/>
              </a:rPr>
              <a:t>进入</a:t>
            </a:r>
            <a:r>
              <a:rPr b="0" lang="zh-CN" sz="1600" spc="-1" strike="noStrike">
                <a:solidFill>
                  <a:srgbClr val="000000"/>
                </a:solidFill>
                <a:latin typeface="微软雅黑"/>
                <a:ea typeface="微软雅黑"/>
              </a:rPr>
              <a:t>21</a:t>
            </a:r>
            <a:r>
              <a:rPr b="0" lang="zh-CN" sz="1600" spc="-1" strike="noStrike">
                <a:solidFill>
                  <a:srgbClr val="000000"/>
                </a:solidFill>
                <a:latin typeface="微软雅黑"/>
                <a:ea typeface="微软雅黑"/>
              </a:rPr>
              <a:t>世纪，以</a:t>
            </a:r>
            <a:r>
              <a:rPr b="0" lang="zh-CN" sz="1600" spc="-1" strike="noStrike">
                <a:solidFill>
                  <a:srgbClr val="000000"/>
                </a:solidFill>
                <a:latin typeface="微软雅黑"/>
                <a:ea typeface="微软雅黑"/>
              </a:rPr>
              <a:t>Internet</a:t>
            </a:r>
            <a:r>
              <a:rPr b="0" lang="zh-CN" sz="1600" spc="-1" strike="noStrike">
                <a:solidFill>
                  <a:srgbClr val="000000"/>
                </a:solidFill>
                <a:latin typeface="微软雅黑"/>
                <a:ea typeface="微软雅黑"/>
              </a:rPr>
              <a:t>为核心的现代网络技术和通信技术已经得到了飞速的发展和广泛的应用，世界经济向全球化和信息化发展成为新世纪鲜明的特征和趋势。</a:t>
            </a:r>
            <a:endParaRPr b="0" lang="en-US" sz="16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5"/>
          <p:cNvSpPr/>
          <p:nvPr/>
        </p:nvSpPr>
        <p:spPr>
          <a:xfrm>
            <a:off x="5796000" y="-42840"/>
            <a:ext cx="600120" cy="6001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Logo</a:t>
            </a:r>
            <a:endParaRPr b="0" lang="en-US" sz="1200" spc="-1" strike="noStrike">
              <a:solidFill>
                <a:srgbClr val="000000"/>
              </a:solidFill>
              <a:latin typeface="Calibri"/>
            </a:endParaRPr>
          </a:p>
        </p:txBody>
      </p:sp>
      <p:sp>
        <p:nvSpPr>
          <p:cNvPr id="305" name="矩形 1"/>
          <p:cNvSpPr/>
          <p:nvPr/>
        </p:nvSpPr>
        <p:spPr>
          <a:xfrm>
            <a:off x="4829760" y="4287960"/>
            <a:ext cx="253224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05a24"/>
                </a:solidFill>
                <a:latin typeface="微软雅黑"/>
                <a:ea typeface="微软雅黑"/>
              </a:rPr>
              <a:t>研究背景</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5a24"/>
                </a:solidFill>
                <a:latin typeface="微软雅黑"/>
                <a:ea typeface="微软雅黑"/>
              </a:rPr>
              <a:t>The Background</a:t>
            </a:r>
            <a:endParaRPr b="0" lang="en-US" sz="2400" spc="-1" strike="noStrike">
              <a:solidFill>
                <a:srgbClr val="000000"/>
              </a:solidFill>
              <a:latin typeface="Calibri"/>
            </a:endParaRPr>
          </a:p>
        </p:txBody>
      </p:sp>
      <p:grpSp>
        <p:nvGrpSpPr>
          <p:cNvPr id="306" name="组合 9"/>
          <p:cNvGrpSpPr/>
          <p:nvPr/>
        </p:nvGrpSpPr>
        <p:grpSpPr>
          <a:xfrm>
            <a:off x="4886280" y="1432080"/>
            <a:ext cx="2419560" cy="2417760"/>
            <a:chOff x="4886280" y="1432080"/>
            <a:chExt cx="2419560" cy="2417760"/>
          </a:xfrm>
        </p:grpSpPr>
        <p:sp>
          <p:nvSpPr>
            <p:cNvPr id="307" name="KSO_Shape"/>
            <p:cNvSpPr/>
            <p:nvPr/>
          </p:nvSpPr>
          <p:spPr>
            <a:xfrm>
              <a:off x="5348160" y="1847880"/>
              <a:ext cx="1495440" cy="1585800"/>
            </a:xfrm>
            <a:custGeom>
              <a:avLst/>
              <a:gdLst/>
              <a:ahLst/>
              <a:rect l="l" t="t" r="r" b="b"/>
              <a:pathLst>
                <a:path w="2344738" h="2484437">
                  <a:moveTo>
                    <a:pt x="756092" y="2055731"/>
                  </a:moveTo>
                  <a:lnTo>
                    <a:pt x="756568" y="2065020"/>
                  </a:lnTo>
                  <a:lnTo>
                    <a:pt x="759424" y="2100897"/>
                  </a:lnTo>
                  <a:lnTo>
                    <a:pt x="761011" y="2118360"/>
                  </a:lnTo>
                  <a:lnTo>
                    <a:pt x="762915" y="2135187"/>
                  </a:lnTo>
                  <a:lnTo>
                    <a:pt x="765136" y="2151697"/>
                  </a:lnTo>
                  <a:lnTo>
                    <a:pt x="767675" y="2167255"/>
                  </a:lnTo>
                  <a:lnTo>
                    <a:pt x="770214" y="2183130"/>
                  </a:lnTo>
                  <a:lnTo>
                    <a:pt x="773070" y="2198052"/>
                  </a:lnTo>
                  <a:lnTo>
                    <a:pt x="775609" y="2212975"/>
                  </a:lnTo>
                  <a:lnTo>
                    <a:pt x="778782" y="2227262"/>
                  </a:lnTo>
                  <a:lnTo>
                    <a:pt x="781955" y="2241232"/>
                  </a:lnTo>
                  <a:lnTo>
                    <a:pt x="785129" y="2254250"/>
                  </a:lnTo>
                  <a:lnTo>
                    <a:pt x="788619" y="2267267"/>
                  </a:lnTo>
                  <a:lnTo>
                    <a:pt x="792427" y="2279650"/>
                  </a:lnTo>
                  <a:lnTo>
                    <a:pt x="796553" y="2291397"/>
                  </a:lnTo>
                  <a:lnTo>
                    <a:pt x="800678" y="2303145"/>
                  </a:lnTo>
                  <a:lnTo>
                    <a:pt x="804486" y="2314257"/>
                  </a:lnTo>
                  <a:lnTo>
                    <a:pt x="808929" y="2324735"/>
                  </a:lnTo>
                  <a:lnTo>
                    <a:pt x="813372" y="2334577"/>
                  </a:lnTo>
                  <a:lnTo>
                    <a:pt x="817815" y="2343785"/>
                  </a:lnTo>
                  <a:lnTo>
                    <a:pt x="822892" y="2352992"/>
                  </a:lnTo>
                  <a:lnTo>
                    <a:pt x="827969" y="2361247"/>
                  </a:lnTo>
                  <a:lnTo>
                    <a:pt x="833047" y="2369185"/>
                  </a:lnTo>
                  <a:lnTo>
                    <a:pt x="837807" y="2376487"/>
                  </a:lnTo>
                  <a:lnTo>
                    <a:pt x="843202" y="2383472"/>
                  </a:lnTo>
                  <a:lnTo>
                    <a:pt x="848596" y="2389505"/>
                  </a:lnTo>
                  <a:lnTo>
                    <a:pt x="854309" y="2395220"/>
                  </a:lnTo>
                  <a:lnTo>
                    <a:pt x="860021" y="2400617"/>
                  </a:lnTo>
                  <a:lnTo>
                    <a:pt x="866050" y="2405380"/>
                  </a:lnTo>
                  <a:lnTo>
                    <a:pt x="871762" y="2409190"/>
                  </a:lnTo>
                  <a:lnTo>
                    <a:pt x="877792" y="2412682"/>
                  </a:lnTo>
                  <a:lnTo>
                    <a:pt x="884138" y="2415540"/>
                  </a:lnTo>
                  <a:lnTo>
                    <a:pt x="890485" y="2417445"/>
                  </a:lnTo>
                  <a:lnTo>
                    <a:pt x="896515" y="2419350"/>
                  </a:lnTo>
                  <a:lnTo>
                    <a:pt x="904765" y="2420620"/>
                  </a:lnTo>
                  <a:lnTo>
                    <a:pt x="913334" y="2420937"/>
                  </a:lnTo>
                  <a:lnTo>
                    <a:pt x="921584" y="2420620"/>
                  </a:lnTo>
                  <a:lnTo>
                    <a:pt x="930470" y="2419032"/>
                  </a:lnTo>
                  <a:lnTo>
                    <a:pt x="939355" y="2417127"/>
                  </a:lnTo>
                  <a:lnTo>
                    <a:pt x="948241" y="2413635"/>
                  </a:lnTo>
                  <a:lnTo>
                    <a:pt x="957444" y="2409825"/>
                  </a:lnTo>
                  <a:lnTo>
                    <a:pt x="966964" y="2405380"/>
                  </a:lnTo>
                  <a:lnTo>
                    <a:pt x="976484" y="2399665"/>
                  </a:lnTo>
                  <a:lnTo>
                    <a:pt x="986004" y="2392997"/>
                  </a:lnTo>
                  <a:lnTo>
                    <a:pt x="996159" y="2386012"/>
                  </a:lnTo>
                  <a:lnTo>
                    <a:pt x="1005997" y="2378075"/>
                  </a:lnTo>
                  <a:lnTo>
                    <a:pt x="1016151" y="2368867"/>
                  </a:lnTo>
                  <a:lnTo>
                    <a:pt x="1026624" y="2359025"/>
                  </a:lnTo>
                  <a:lnTo>
                    <a:pt x="1036778" y="2348865"/>
                  </a:lnTo>
                  <a:lnTo>
                    <a:pt x="1047251" y="2337752"/>
                  </a:lnTo>
                  <a:lnTo>
                    <a:pt x="1057723" y="2325687"/>
                  </a:lnTo>
                  <a:lnTo>
                    <a:pt x="1067878" y="2312987"/>
                  </a:lnTo>
                  <a:lnTo>
                    <a:pt x="1078667" y="2299652"/>
                  </a:lnTo>
                  <a:lnTo>
                    <a:pt x="1089457" y="2285365"/>
                  </a:lnTo>
                  <a:lnTo>
                    <a:pt x="1100246" y="2270442"/>
                  </a:lnTo>
                  <a:lnTo>
                    <a:pt x="1111036" y="2254567"/>
                  </a:lnTo>
                  <a:lnTo>
                    <a:pt x="1121825" y="2238057"/>
                  </a:lnTo>
                  <a:lnTo>
                    <a:pt x="1132615" y="2221230"/>
                  </a:lnTo>
                  <a:lnTo>
                    <a:pt x="1143404" y="2203450"/>
                  </a:lnTo>
                  <a:lnTo>
                    <a:pt x="1153877" y="2185035"/>
                  </a:lnTo>
                  <a:lnTo>
                    <a:pt x="1162059" y="2170588"/>
                  </a:lnTo>
                  <a:lnTo>
                    <a:pt x="1158106" y="2170430"/>
                  </a:lnTo>
                  <a:lnTo>
                    <a:pt x="1134306" y="2168842"/>
                  </a:lnTo>
                  <a:lnTo>
                    <a:pt x="1110823" y="2166619"/>
                  </a:lnTo>
                  <a:lnTo>
                    <a:pt x="1087340" y="2164079"/>
                  </a:lnTo>
                  <a:lnTo>
                    <a:pt x="1063857" y="2160903"/>
                  </a:lnTo>
                  <a:lnTo>
                    <a:pt x="1041326" y="2157093"/>
                  </a:lnTo>
                  <a:lnTo>
                    <a:pt x="1018160" y="2152647"/>
                  </a:lnTo>
                  <a:lnTo>
                    <a:pt x="995629" y="2147884"/>
                  </a:lnTo>
                  <a:lnTo>
                    <a:pt x="973415" y="2142485"/>
                  </a:lnTo>
                  <a:lnTo>
                    <a:pt x="951519" y="2136134"/>
                  </a:lnTo>
                  <a:lnTo>
                    <a:pt x="928988" y="2129783"/>
                  </a:lnTo>
                  <a:lnTo>
                    <a:pt x="907727" y="2122797"/>
                  </a:lnTo>
                  <a:lnTo>
                    <a:pt x="886148" y="2115176"/>
                  </a:lnTo>
                  <a:lnTo>
                    <a:pt x="864886" y="2106919"/>
                  </a:lnTo>
                  <a:lnTo>
                    <a:pt x="843942" y="2098663"/>
                  </a:lnTo>
                  <a:lnTo>
                    <a:pt x="822997" y="2089454"/>
                  </a:lnTo>
                  <a:lnTo>
                    <a:pt x="802688" y="2079609"/>
                  </a:lnTo>
                  <a:lnTo>
                    <a:pt x="782378" y="2069765"/>
                  </a:lnTo>
                  <a:lnTo>
                    <a:pt x="762386" y="2059286"/>
                  </a:lnTo>
                  <a:lnTo>
                    <a:pt x="756092" y="2055731"/>
                  </a:lnTo>
                  <a:close/>
                  <a:moveTo>
                    <a:pt x="1982350" y="1752593"/>
                  </a:moveTo>
                  <a:lnTo>
                    <a:pt x="1976519" y="1761420"/>
                  </a:lnTo>
                  <a:lnTo>
                    <a:pt x="1963826" y="1779838"/>
                  </a:lnTo>
                  <a:lnTo>
                    <a:pt x="1950498" y="1797939"/>
                  </a:lnTo>
                  <a:lnTo>
                    <a:pt x="1937169" y="1815722"/>
                  </a:lnTo>
                  <a:lnTo>
                    <a:pt x="1923207" y="1832870"/>
                  </a:lnTo>
                  <a:lnTo>
                    <a:pt x="1908609" y="1850335"/>
                  </a:lnTo>
                  <a:lnTo>
                    <a:pt x="1893694" y="1866848"/>
                  </a:lnTo>
                  <a:lnTo>
                    <a:pt x="1878779" y="1883043"/>
                  </a:lnTo>
                  <a:lnTo>
                    <a:pt x="1862912" y="1899239"/>
                  </a:lnTo>
                  <a:lnTo>
                    <a:pt x="1847045" y="1914799"/>
                  </a:lnTo>
                  <a:lnTo>
                    <a:pt x="1830544" y="1929724"/>
                  </a:lnTo>
                  <a:lnTo>
                    <a:pt x="1814043" y="1944966"/>
                  </a:lnTo>
                  <a:lnTo>
                    <a:pt x="1796906" y="1958939"/>
                  </a:lnTo>
                  <a:lnTo>
                    <a:pt x="1779453" y="1973229"/>
                  </a:lnTo>
                  <a:lnTo>
                    <a:pt x="1761999" y="1986884"/>
                  </a:lnTo>
                  <a:lnTo>
                    <a:pt x="1743911" y="1999903"/>
                  </a:lnTo>
                  <a:lnTo>
                    <a:pt x="1725505" y="2012923"/>
                  </a:lnTo>
                  <a:lnTo>
                    <a:pt x="1706465" y="2025308"/>
                  </a:lnTo>
                  <a:lnTo>
                    <a:pt x="1687742" y="2036740"/>
                  </a:lnTo>
                  <a:lnTo>
                    <a:pt x="1668385" y="2048172"/>
                  </a:lnTo>
                  <a:lnTo>
                    <a:pt x="1649027" y="2059286"/>
                  </a:lnTo>
                  <a:lnTo>
                    <a:pt x="1629035" y="2069765"/>
                  </a:lnTo>
                  <a:lnTo>
                    <a:pt x="1608725" y="2079609"/>
                  </a:lnTo>
                  <a:lnTo>
                    <a:pt x="1604716" y="2081523"/>
                  </a:lnTo>
                  <a:lnTo>
                    <a:pt x="1636599" y="2093237"/>
                  </a:lnTo>
                  <a:lnTo>
                    <a:pt x="1675639" y="2106893"/>
                  </a:lnTo>
                  <a:lnTo>
                    <a:pt x="1714043" y="2119279"/>
                  </a:lnTo>
                  <a:lnTo>
                    <a:pt x="1751496" y="2130395"/>
                  </a:lnTo>
                  <a:lnTo>
                    <a:pt x="1787679" y="2140558"/>
                  </a:lnTo>
                  <a:lnTo>
                    <a:pt x="1822275" y="2149450"/>
                  </a:lnTo>
                  <a:lnTo>
                    <a:pt x="1839096" y="2153261"/>
                  </a:lnTo>
                  <a:lnTo>
                    <a:pt x="1855918" y="2156755"/>
                  </a:lnTo>
                  <a:lnTo>
                    <a:pt x="1872105" y="2159613"/>
                  </a:lnTo>
                  <a:lnTo>
                    <a:pt x="1887975" y="2162789"/>
                  </a:lnTo>
                  <a:lnTo>
                    <a:pt x="1903527" y="2165329"/>
                  </a:lnTo>
                  <a:lnTo>
                    <a:pt x="1919079" y="2167870"/>
                  </a:lnTo>
                  <a:lnTo>
                    <a:pt x="1933679" y="2169776"/>
                  </a:lnTo>
                  <a:lnTo>
                    <a:pt x="1948280" y="2171364"/>
                  </a:lnTo>
                  <a:lnTo>
                    <a:pt x="1962245" y="2172634"/>
                  </a:lnTo>
                  <a:lnTo>
                    <a:pt x="1975893" y="2173587"/>
                  </a:lnTo>
                  <a:lnTo>
                    <a:pt x="1989223" y="2174222"/>
                  </a:lnTo>
                  <a:lnTo>
                    <a:pt x="2002237" y="2175175"/>
                  </a:lnTo>
                  <a:lnTo>
                    <a:pt x="2014615" y="2175175"/>
                  </a:lnTo>
                  <a:lnTo>
                    <a:pt x="2026993" y="2175175"/>
                  </a:lnTo>
                  <a:lnTo>
                    <a:pt x="2038737" y="2174222"/>
                  </a:lnTo>
                  <a:lnTo>
                    <a:pt x="2049845" y="2173587"/>
                  </a:lnTo>
                  <a:lnTo>
                    <a:pt x="2060637" y="2172634"/>
                  </a:lnTo>
                  <a:lnTo>
                    <a:pt x="2071111" y="2171364"/>
                  </a:lnTo>
                  <a:lnTo>
                    <a:pt x="2080950" y="2169776"/>
                  </a:lnTo>
                  <a:lnTo>
                    <a:pt x="2090789" y="2167870"/>
                  </a:lnTo>
                  <a:lnTo>
                    <a:pt x="2099994" y="2165329"/>
                  </a:lnTo>
                  <a:lnTo>
                    <a:pt x="2108246" y="2162789"/>
                  </a:lnTo>
                  <a:lnTo>
                    <a:pt x="2116815" y="2159930"/>
                  </a:lnTo>
                  <a:lnTo>
                    <a:pt x="2124433" y="2156755"/>
                  </a:lnTo>
                  <a:lnTo>
                    <a:pt x="2131415" y="2153261"/>
                  </a:lnTo>
                  <a:lnTo>
                    <a:pt x="2138398" y="2149768"/>
                  </a:lnTo>
                  <a:lnTo>
                    <a:pt x="2144429" y="2145321"/>
                  </a:lnTo>
                  <a:lnTo>
                    <a:pt x="2150142" y="2141193"/>
                  </a:lnTo>
                  <a:lnTo>
                    <a:pt x="2155537" y="2136747"/>
                  </a:lnTo>
                  <a:lnTo>
                    <a:pt x="2160298" y="2131665"/>
                  </a:lnTo>
                  <a:lnTo>
                    <a:pt x="2164425" y="2126266"/>
                  </a:lnTo>
                  <a:lnTo>
                    <a:pt x="2167916" y="2120867"/>
                  </a:lnTo>
                  <a:lnTo>
                    <a:pt x="2171725" y="2113563"/>
                  </a:lnTo>
                  <a:lnTo>
                    <a:pt x="2174899" y="2105941"/>
                  </a:lnTo>
                  <a:lnTo>
                    <a:pt x="2177120" y="2097683"/>
                  </a:lnTo>
                  <a:lnTo>
                    <a:pt x="2178707" y="2089109"/>
                  </a:lnTo>
                  <a:lnTo>
                    <a:pt x="2179025" y="2079581"/>
                  </a:lnTo>
                  <a:lnTo>
                    <a:pt x="2179025" y="2070053"/>
                  </a:lnTo>
                  <a:lnTo>
                    <a:pt x="2178390" y="2060208"/>
                  </a:lnTo>
                  <a:lnTo>
                    <a:pt x="2176803" y="2049728"/>
                  </a:lnTo>
                  <a:lnTo>
                    <a:pt x="2174899" y="2038930"/>
                  </a:lnTo>
                  <a:lnTo>
                    <a:pt x="2171725" y="2027497"/>
                  </a:lnTo>
                  <a:lnTo>
                    <a:pt x="2167916" y="2016064"/>
                  </a:lnTo>
                  <a:lnTo>
                    <a:pt x="2163790" y="2003996"/>
                  </a:lnTo>
                  <a:lnTo>
                    <a:pt x="2158394" y="1991292"/>
                  </a:lnTo>
                  <a:lnTo>
                    <a:pt x="2152681" y="1978589"/>
                  </a:lnTo>
                  <a:lnTo>
                    <a:pt x="2146016" y="1965568"/>
                  </a:lnTo>
                  <a:lnTo>
                    <a:pt x="2138716" y="1952229"/>
                  </a:lnTo>
                  <a:lnTo>
                    <a:pt x="2130781" y="1938255"/>
                  </a:lnTo>
                  <a:lnTo>
                    <a:pt x="2121894" y="1924281"/>
                  </a:lnTo>
                  <a:lnTo>
                    <a:pt x="2112689" y="1909672"/>
                  </a:lnTo>
                  <a:lnTo>
                    <a:pt x="2102533" y="1895063"/>
                  </a:lnTo>
                  <a:lnTo>
                    <a:pt x="2091741" y="1880137"/>
                  </a:lnTo>
                  <a:lnTo>
                    <a:pt x="2080315" y="1865210"/>
                  </a:lnTo>
                  <a:lnTo>
                    <a:pt x="2068572" y="1849331"/>
                  </a:lnTo>
                  <a:lnTo>
                    <a:pt x="2055241" y="1834087"/>
                  </a:lnTo>
                  <a:lnTo>
                    <a:pt x="2042228" y="1817890"/>
                  </a:lnTo>
                  <a:lnTo>
                    <a:pt x="2027945" y="1801693"/>
                  </a:lnTo>
                  <a:lnTo>
                    <a:pt x="2013345" y="1785814"/>
                  </a:lnTo>
                  <a:lnTo>
                    <a:pt x="1998110" y="1768982"/>
                  </a:lnTo>
                  <a:lnTo>
                    <a:pt x="1982350" y="1752593"/>
                  </a:lnTo>
                  <a:close/>
                  <a:moveTo>
                    <a:pt x="704690" y="1683845"/>
                  </a:moveTo>
                  <a:lnTo>
                    <a:pt x="688658" y="1685924"/>
                  </a:lnTo>
                  <a:lnTo>
                    <a:pt x="671195" y="1688464"/>
                  </a:lnTo>
                  <a:lnTo>
                    <a:pt x="654368" y="1690052"/>
                  </a:lnTo>
                  <a:lnTo>
                    <a:pt x="638175" y="1691323"/>
                  </a:lnTo>
                  <a:lnTo>
                    <a:pt x="621983" y="1692593"/>
                  </a:lnTo>
                  <a:lnTo>
                    <a:pt x="606425" y="1693228"/>
                  </a:lnTo>
                  <a:lnTo>
                    <a:pt x="590550" y="1693863"/>
                  </a:lnTo>
                  <a:lnTo>
                    <a:pt x="575628" y="1693228"/>
                  </a:lnTo>
                  <a:lnTo>
                    <a:pt x="564912" y="1692995"/>
                  </a:lnTo>
                  <a:lnTo>
                    <a:pt x="566650" y="1695450"/>
                  </a:lnTo>
                  <a:lnTo>
                    <a:pt x="577756" y="1710690"/>
                  </a:lnTo>
                  <a:lnTo>
                    <a:pt x="589179" y="1725295"/>
                  </a:lnTo>
                  <a:lnTo>
                    <a:pt x="601236" y="1740535"/>
                  </a:lnTo>
                  <a:lnTo>
                    <a:pt x="612977" y="1754505"/>
                  </a:lnTo>
                  <a:lnTo>
                    <a:pt x="625669" y="1768793"/>
                  </a:lnTo>
                  <a:lnTo>
                    <a:pt x="638361" y="1782445"/>
                  </a:lnTo>
                  <a:lnTo>
                    <a:pt x="651371" y="1796098"/>
                  </a:lnTo>
                  <a:lnTo>
                    <a:pt x="665015" y="1809115"/>
                  </a:lnTo>
                  <a:lnTo>
                    <a:pt x="678659" y="1821815"/>
                  </a:lnTo>
                  <a:lnTo>
                    <a:pt x="692323" y="1833968"/>
                  </a:lnTo>
                  <a:lnTo>
                    <a:pt x="692466" y="1831022"/>
                  </a:lnTo>
                  <a:lnTo>
                    <a:pt x="695322" y="1784985"/>
                  </a:lnTo>
                  <a:lnTo>
                    <a:pt x="699130" y="1737995"/>
                  </a:lnTo>
                  <a:lnTo>
                    <a:pt x="703890" y="1691005"/>
                  </a:lnTo>
                  <a:lnTo>
                    <a:pt x="704690" y="1683845"/>
                  </a:lnTo>
                  <a:close/>
                  <a:moveTo>
                    <a:pt x="769029" y="1673012"/>
                  </a:moveTo>
                  <a:lnTo>
                    <a:pt x="768310" y="1678622"/>
                  </a:lnTo>
                  <a:lnTo>
                    <a:pt x="763232" y="1726565"/>
                  </a:lnTo>
                  <a:lnTo>
                    <a:pt x="759424" y="1773555"/>
                  </a:lnTo>
                  <a:lnTo>
                    <a:pt x="756568" y="1819275"/>
                  </a:lnTo>
                  <a:lnTo>
                    <a:pt x="754029" y="1863725"/>
                  </a:lnTo>
                  <a:lnTo>
                    <a:pt x="753619" y="1882342"/>
                  </a:lnTo>
                  <a:lnTo>
                    <a:pt x="767505" y="1891983"/>
                  </a:lnTo>
                  <a:lnTo>
                    <a:pt x="783053" y="1902143"/>
                  </a:lnTo>
                  <a:lnTo>
                    <a:pt x="799236" y="1912303"/>
                  </a:lnTo>
                  <a:lnTo>
                    <a:pt x="815419" y="1921828"/>
                  </a:lnTo>
                  <a:lnTo>
                    <a:pt x="831919" y="1931035"/>
                  </a:lnTo>
                  <a:lnTo>
                    <a:pt x="848736" y="1939925"/>
                  </a:lnTo>
                  <a:lnTo>
                    <a:pt x="865870" y="1948498"/>
                  </a:lnTo>
                  <a:lnTo>
                    <a:pt x="883005" y="1956435"/>
                  </a:lnTo>
                  <a:lnTo>
                    <a:pt x="900774" y="1964055"/>
                  </a:lnTo>
                  <a:lnTo>
                    <a:pt x="918226" y="1971358"/>
                  </a:lnTo>
                  <a:lnTo>
                    <a:pt x="935995" y="1978025"/>
                  </a:lnTo>
                  <a:lnTo>
                    <a:pt x="954399" y="1984375"/>
                  </a:lnTo>
                  <a:lnTo>
                    <a:pt x="972486" y="1990090"/>
                  </a:lnTo>
                  <a:lnTo>
                    <a:pt x="990889" y="1996123"/>
                  </a:lnTo>
                  <a:lnTo>
                    <a:pt x="1009928" y="2000885"/>
                  </a:lnTo>
                  <a:lnTo>
                    <a:pt x="1028649" y="2005648"/>
                  </a:lnTo>
                  <a:lnTo>
                    <a:pt x="1047687" y="2009775"/>
                  </a:lnTo>
                  <a:lnTo>
                    <a:pt x="1067043" y="2013268"/>
                  </a:lnTo>
                  <a:lnTo>
                    <a:pt x="1086082" y="2016760"/>
                  </a:lnTo>
                  <a:lnTo>
                    <a:pt x="1105755" y="2019300"/>
                  </a:lnTo>
                  <a:lnTo>
                    <a:pt x="1125428" y="2021840"/>
                  </a:lnTo>
                  <a:lnTo>
                    <a:pt x="1145418" y="2023428"/>
                  </a:lnTo>
                  <a:lnTo>
                    <a:pt x="1165409" y="2024380"/>
                  </a:lnTo>
                  <a:lnTo>
                    <a:pt x="1185399" y="2025333"/>
                  </a:lnTo>
                  <a:lnTo>
                    <a:pt x="1205707" y="2025650"/>
                  </a:lnTo>
                  <a:lnTo>
                    <a:pt x="1226014" y="2025333"/>
                  </a:lnTo>
                  <a:lnTo>
                    <a:pt x="1246005" y="2024380"/>
                  </a:lnTo>
                  <a:lnTo>
                    <a:pt x="1265995" y="2023428"/>
                  </a:lnTo>
                  <a:lnTo>
                    <a:pt x="1285985" y="2021840"/>
                  </a:lnTo>
                  <a:lnTo>
                    <a:pt x="1305658" y="2019300"/>
                  </a:lnTo>
                  <a:lnTo>
                    <a:pt x="1309126" y="2018845"/>
                  </a:lnTo>
                  <a:lnTo>
                    <a:pt x="1285562" y="2006536"/>
                  </a:lnTo>
                  <a:lnTo>
                    <a:pt x="1242397" y="1983988"/>
                  </a:lnTo>
                  <a:lnTo>
                    <a:pt x="1199231" y="1960486"/>
                  </a:lnTo>
                  <a:lnTo>
                    <a:pt x="1156701" y="1936350"/>
                  </a:lnTo>
                  <a:lnTo>
                    <a:pt x="1114487" y="1911260"/>
                  </a:lnTo>
                  <a:lnTo>
                    <a:pt x="1074178" y="1886806"/>
                  </a:lnTo>
                  <a:lnTo>
                    <a:pt x="1033869" y="1861717"/>
                  </a:lnTo>
                  <a:lnTo>
                    <a:pt x="994195" y="1835992"/>
                  </a:lnTo>
                  <a:lnTo>
                    <a:pt x="955156" y="1809633"/>
                  </a:lnTo>
                  <a:lnTo>
                    <a:pt x="916117" y="1782955"/>
                  </a:lnTo>
                  <a:lnTo>
                    <a:pt x="877712" y="1755643"/>
                  </a:lnTo>
                  <a:lnTo>
                    <a:pt x="840577" y="1728013"/>
                  </a:lnTo>
                  <a:lnTo>
                    <a:pt x="803759" y="1700383"/>
                  </a:lnTo>
                  <a:lnTo>
                    <a:pt x="769029" y="1673012"/>
                  </a:lnTo>
                  <a:close/>
                  <a:moveTo>
                    <a:pt x="1070070" y="1580060"/>
                  </a:moveTo>
                  <a:lnTo>
                    <a:pt x="1056640" y="1585250"/>
                  </a:lnTo>
                  <a:lnTo>
                    <a:pt x="1014730" y="1600812"/>
                  </a:lnTo>
                  <a:lnTo>
                    <a:pt x="973773" y="1615421"/>
                  </a:lnTo>
                  <a:lnTo>
                    <a:pt x="933450" y="1628441"/>
                  </a:lnTo>
                  <a:lnTo>
                    <a:pt x="893445" y="1640827"/>
                  </a:lnTo>
                  <a:lnTo>
                    <a:pt x="873443" y="1646544"/>
                  </a:lnTo>
                  <a:lnTo>
                    <a:pt x="854393" y="1651942"/>
                  </a:lnTo>
                  <a:lnTo>
                    <a:pt x="846810" y="1653777"/>
                  </a:lnTo>
                  <a:lnTo>
                    <a:pt x="858351" y="1662590"/>
                  </a:lnTo>
                  <a:lnTo>
                    <a:pt x="895169" y="1690855"/>
                  </a:lnTo>
                  <a:lnTo>
                    <a:pt x="933891" y="1718485"/>
                  </a:lnTo>
                  <a:lnTo>
                    <a:pt x="973882" y="1746433"/>
                  </a:lnTo>
                  <a:lnTo>
                    <a:pt x="1014826" y="1774381"/>
                  </a:lnTo>
                  <a:lnTo>
                    <a:pt x="1057674" y="1802328"/>
                  </a:lnTo>
                  <a:lnTo>
                    <a:pt x="1101792" y="1829958"/>
                  </a:lnTo>
                  <a:lnTo>
                    <a:pt x="1146861" y="1857271"/>
                  </a:lnTo>
                  <a:lnTo>
                    <a:pt x="1194471" y="1885218"/>
                  </a:lnTo>
                  <a:lnTo>
                    <a:pt x="1229421" y="1905168"/>
                  </a:lnTo>
                  <a:lnTo>
                    <a:pt x="1229311" y="1905000"/>
                  </a:lnTo>
                  <a:lnTo>
                    <a:pt x="1219795" y="1889760"/>
                  </a:lnTo>
                  <a:lnTo>
                    <a:pt x="1209963" y="1874203"/>
                  </a:lnTo>
                  <a:lnTo>
                    <a:pt x="1200447" y="1858645"/>
                  </a:lnTo>
                  <a:lnTo>
                    <a:pt x="1191249" y="1842135"/>
                  </a:lnTo>
                  <a:lnTo>
                    <a:pt x="1182051" y="1825625"/>
                  </a:lnTo>
                  <a:lnTo>
                    <a:pt x="1172853" y="1808163"/>
                  </a:lnTo>
                  <a:lnTo>
                    <a:pt x="1163655" y="1791018"/>
                  </a:lnTo>
                  <a:lnTo>
                    <a:pt x="1154457" y="1772920"/>
                  </a:lnTo>
                  <a:lnTo>
                    <a:pt x="1145576" y="1754823"/>
                  </a:lnTo>
                  <a:lnTo>
                    <a:pt x="1136695" y="1736408"/>
                  </a:lnTo>
                  <a:lnTo>
                    <a:pt x="1119250" y="1698308"/>
                  </a:lnTo>
                  <a:lnTo>
                    <a:pt x="1102122" y="1658938"/>
                  </a:lnTo>
                  <a:lnTo>
                    <a:pt x="1085312" y="1619250"/>
                  </a:lnTo>
                  <a:lnTo>
                    <a:pt x="1070070" y="1580060"/>
                  </a:lnTo>
                  <a:close/>
                  <a:moveTo>
                    <a:pt x="1191479" y="1530183"/>
                  </a:moveTo>
                  <a:lnTo>
                    <a:pt x="1183323" y="1533802"/>
                  </a:lnTo>
                  <a:lnTo>
                    <a:pt x="1141095" y="1551904"/>
                  </a:lnTo>
                  <a:lnTo>
                    <a:pt x="1128914" y="1556814"/>
                  </a:lnTo>
                  <a:lnTo>
                    <a:pt x="1137012" y="1577658"/>
                  </a:lnTo>
                  <a:lnTo>
                    <a:pt x="1152871" y="1616393"/>
                  </a:lnTo>
                  <a:lnTo>
                    <a:pt x="1169047" y="1653858"/>
                  </a:lnTo>
                  <a:lnTo>
                    <a:pt x="1185223" y="1689418"/>
                  </a:lnTo>
                  <a:lnTo>
                    <a:pt x="1201716" y="1723708"/>
                  </a:lnTo>
                  <a:lnTo>
                    <a:pt x="1218209" y="1756410"/>
                  </a:lnTo>
                  <a:lnTo>
                    <a:pt x="1234703" y="1787525"/>
                  </a:lnTo>
                  <a:lnTo>
                    <a:pt x="1251196" y="1816735"/>
                  </a:lnTo>
                  <a:lnTo>
                    <a:pt x="1268006" y="1844675"/>
                  </a:lnTo>
                  <a:lnTo>
                    <a:pt x="1284500" y="1870710"/>
                  </a:lnTo>
                  <a:lnTo>
                    <a:pt x="1300993" y="1895158"/>
                  </a:lnTo>
                  <a:lnTo>
                    <a:pt x="1309557" y="1906905"/>
                  </a:lnTo>
                  <a:lnTo>
                    <a:pt x="1317486" y="1918018"/>
                  </a:lnTo>
                  <a:lnTo>
                    <a:pt x="1326050" y="1928495"/>
                  </a:lnTo>
                  <a:lnTo>
                    <a:pt x="1333979" y="1938973"/>
                  </a:lnTo>
                  <a:lnTo>
                    <a:pt x="1342226" y="1948815"/>
                  </a:lnTo>
                  <a:lnTo>
                    <a:pt x="1350473" y="1958023"/>
                  </a:lnTo>
                  <a:lnTo>
                    <a:pt x="1358719" y="1966913"/>
                  </a:lnTo>
                  <a:lnTo>
                    <a:pt x="1366331" y="1975485"/>
                  </a:lnTo>
                  <a:lnTo>
                    <a:pt x="1369346" y="1978503"/>
                  </a:lnTo>
                  <a:lnTo>
                    <a:pt x="1380463" y="1983988"/>
                  </a:lnTo>
                  <a:lnTo>
                    <a:pt x="1410560" y="1998615"/>
                  </a:lnTo>
                  <a:lnTo>
                    <a:pt x="1420523" y="1996123"/>
                  </a:lnTo>
                  <a:lnTo>
                    <a:pt x="1438927" y="1990090"/>
                  </a:lnTo>
                  <a:lnTo>
                    <a:pt x="1456697" y="1984375"/>
                  </a:lnTo>
                  <a:lnTo>
                    <a:pt x="1475418" y="1978025"/>
                  </a:lnTo>
                  <a:lnTo>
                    <a:pt x="1492869" y="1971358"/>
                  </a:lnTo>
                  <a:lnTo>
                    <a:pt x="1510639" y="1964055"/>
                  </a:lnTo>
                  <a:lnTo>
                    <a:pt x="1528408" y="1956435"/>
                  </a:lnTo>
                  <a:lnTo>
                    <a:pt x="1545543" y="1948498"/>
                  </a:lnTo>
                  <a:lnTo>
                    <a:pt x="1562360" y="1939925"/>
                  </a:lnTo>
                  <a:lnTo>
                    <a:pt x="1579494" y="1931035"/>
                  </a:lnTo>
                  <a:lnTo>
                    <a:pt x="1595994" y="1921828"/>
                  </a:lnTo>
                  <a:lnTo>
                    <a:pt x="1612177" y="1912303"/>
                  </a:lnTo>
                  <a:lnTo>
                    <a:pt x="1628042" y="1902143"/>
                  </a:lnTo>
                  <a:lnTo>
                    <a:pt x="1643908" y="1891983"/>
                  </a:lnTo>
                  <a:lnTo>
                    <a:pt x="1659139" y="1881188"/>
                  </a:lnTo>
                  <a:lnTo>
                    <a:pt x="1674687" y="1870075"/>
                  </a:lnTo>
                  <a:lnTo>
                    <a:pt x="1689600" y="1858328"/>
                  </a:lnTo>
                  <a:lnTo>
                    <a:pt x="1704196" y="1846580"/>
                  </a:lnTo>
                  <a:lnTo>
                    <a:pt x="1718475" y="1834515"/>
                  </a:lnTo>
                  <a:lnTo>
                    <a:pt x="1732754" y="1821815"/>
                  </a:lnTo>
                  <a:lnTo>
                    <a:pt x="1746398" y="1809115"/>
                  </a:lnTo>
                  <a:lnTo>
                    <a:pt x="1760042" y="1796098"/>
                  </a:lnTo>
                  <a:lnTo>
                    <a:pt x="1773052" y="1782445"/>
                  </a:lnTo>
                  <a:lnTo>
                    <a:pt x="1785744" y="1768793"/>
                  </a:lnTo>
                  <a:lnTo>
                    <a:pt x="1798436" y="1754505"/>
                  </a:lnTo>
                  <a:lnTo>
                    <a:pt x="1810177" y="1740535"/>
                  </a:lnTo>
                  <a:lnTo>
                    <a:pt x="1822234" y="1725295"/>
                  </a:lnTo>
                  <a:lnTo>
                    <a:pt x="1833657" y="1710690"/>
                  </a:lnTo>
                  <a:lnTo>
                    <a:pt x="1844763" y="1695450"/>
                  </a:lnTo>
                  <a:lnTo>
                    <a:pt x="1847759" y="1691218"/>
                  </a:lnTo>
                  <a:lnTo>
                    <a:pt x="1836392" y="1692275"/>
                  </a:lnTo>
                  <a:lnTo>
                    <a:pt x="1822102" y="1692910"/>
                  </a:lnTo>
                  <a:lnTo>
                    <a:pt x="1807177" y="1693228"/>
                  </a:lnTo>
                  <a:lnTo>
                    <a:pt x="1792252" y="1693863"/>
                  </a:lnTo>
                  <a:lnTo>
                    <a:pt x="1776692" y="1693228"/>
                  </a:lnTo>
                  <a:lnTo>
                    <a:pt x="1761132" y="1692593"/>
                  </a:lnTo>
                  <a:lnTo>
                    <a:pt x="1744937" y="1691323"/>
                  </a:lnTo>
                  <a:lnTo>
                    <a:pt x="1728424" y="1690052"/>
                  </a:lnTo>
                  <a:lnTo>
                    <a:pt x="1711276" y="1688464"/>
                  </a:lnTo>
                  <a:lnTo>
                    <a:pt x="1702865" y="1687195"/>
                  </a:lnTo>
                  <a:lnTo>
                    <a:pt x="1701800" y="1689328"/>
                  </a:lnTo>
                  <a:lnTo>
                    <a:pt x="1699260" y="1694733"/>
                  </a:lnTo>
                  <a:lnTo>
                    <a:pt x="1696085" y="1699501"/>
                  </a:lnTo>
                  <a:lnTo>
                    <a:pt x="1692910" y="1704906"/>
                  </a:lnTo>
                  <a:lnTo>
                    <a:pt x="1689100" y="1709992"/>
                  </a:lnTo>
                  <a:lnTo>
                    <a:pt x="1685607" y="1714760"/>
                  </a:lnTo>
                  <a:lnTo>
                    <a:pt x="1681480" y="1719211"/>
                  </a:lnTo>
                  <a:lnTo>
                    <a:pt x="1677670" y="1723344"/>
                  </a:lnTo>
                  <a:lnTo>
                    <a:pt x="1673225" y="1727794"/>
                  </a:lnTo>
                  <a:lnTo>
                    <a:pt x="1668462" y="1731927"/>
                  </a:lnTo>
                  <a:lnTo>
                    <a:pt x="1664017" y="1735424"/>
                  </a:lnTo>
                  <a:lnTo>
                    <a:pt x="1658937" y="1738921"/>
                  </a:lnTo>
                  <a:lnTo>
                    <a:pt x="1653857" y="1742418"/>
                  </a:lnTo>
                  <a:lnTo>
                    <a:pt x="1648460" y="1745279"/>
                  </a:lnTo>
                  <a:lnTo>
                    <a:pt x="1643062" y="1748140"/>
                  </a:lnTo>
                  <a:lnTo>
                    <a:pt x="1637347" y="1750683"/>
                  </a:lnTo>
                  <a:lnTo>
                    <a:pt x="1631632" y="1752591"/>
                  </a:lnTo>
                  <a:lnTo>
                    <a:pt x="1625917" y="1755134"/>
                  </a:lnTo>
                  <a:lnTo>
                    <a:pt x="1620202" y="1756723"/>
                  </a:lnTo>
                  <a:lnTo>
                    <a:pt x="1613852" y="1757995"/>
                  </a:lnTo>
                  <a:lnTo>
                    <a:pt x="1607502" y="1759267"/>
                  </a:lnTo>
                  <a:lnTo>
                    <a:pt x="1601152" y="1759902"/>
                  </a:lnTo>
                  <a:lnTo>
                    <a:pt x="1594802" y="1760538"/>
                  </a:lnTo>
                  <a:lnTo>
                    <a:pt x="1588452" y="1760538"/>
                  </a:lnTo>
                  <a:lnTo>
                    <a:pt x="1582102" y="1760538"/>
                  </a:lnTo>
                  <a:lnTo>
                    <a:pt x="1575435" y="1759902"/>
                  </a:lnTo>
                  <a:lnTo>
                    <a:pt x="1569402" y="1759267"/>
                  </a:lnTo>
                  <a:lnTo>
                    <a:pt x="1562735" y="1757995"/>
                  </a:lnTo>
                  <a:lnTo>
                    <a:pt x="1557020" y="1756723"/>
                  </a:lnTo>
                  <a:lnTo>
                    <a:pt x="1550987" y="1755134"/>
                  </a:lnTo>
                  <a:lnTo>
                    <a:pt x="1544955" y="1752591"/>
                  </a:lnTo>
                  <a:lnTo>
                    <a:pt x="1539240" y="1750683"/>
                  </a:lnTo>
                  <a:lnTo>
                    <a:pt x="1533525" y="1748140"/>
                  </a:lnTo>
                  <a:lnTo>
                    <a:pt x="1528127" y="1745279"/>
                  </a:lnTo>
                  <a:lnTo>
                    <a:pt x="1522730" y="1742418"/>
                  </a:lnTo>
                  <a:lnTo>
                    <a:pt x="1517967" y="1738921"/>
                  </a:lnTo>
                  <a:lnTo>
                    <a:pt x="1512887" y="1735424"/>
                  </a:lnTo>
                  <a:lnTo>
                    <a:pt x="1508125" y="1731927"/>
                  </a:lnTo>
                  <a:lnTo>
                    <a:pt x="1503680" y="1727794"/>
                  </a:lnTo>
                  <a:lnTo>
                    <a:pt x="1499235" y="1723344"/>
                  </a:lnTo>
                  <a:lnTo>
                    <a:pt x="1495107" y="1719211"/>
                  </a:lnTo>
                  <a:lnTo>
                    <a:pt x="1490980" y="1714760"/>
                  </a:lnTo>
                  <a:lnTo>
                    <a:pt x="1487487" y="1709992"/>
                  </a:lnTo>
                  <a:lnTo>
                    <a:pt x="1483677" y="1704906"/>
                  </a:lnTo>
                  <a:lnTo>
                    <a:pt x="1480502" y="1699501"/>
                  </a:lnTo>
                  <a:lnTo>
                    <a:pt x="1477327" y="1694733"/>
                  </a:lnTo>
                  <a:lnTo>
                    <a:pt x="1474787" y="1689328"/>
                  </a:lnTo>
                  <a:lnTo>
                    <a:pt x="1471930" y="1683606"/>
                  </a:lnTo>
                  <a:lnTo>
                    <a:pt x="1469707" y="1677566"/>
                  </a:lnTo>
                  <a:lnTo>
                    <a:pt x="1467802" y="1671844"/>
                  </a:lnTo>
                  <a:lnTo>
                    <a:pt x="1466215" y="1665804"/>
                  </a:lnTo>
                  <a:lnTo>
                    <a:pt x="1464627" y="1659446"/>
                  </a:lnTo>
                  <a:lnTo>
                    <a:pt x="1463675" y="1653406"/>
                  </a:lnTo>
                  <a:lnTo>
                    <a:pt x="1462722" y="1647366"/>
                  </a:lnTo>
                  <a:lnTo>
                    <a:pt x="1462405" y="1640690"/>
                  </a:lnTo>
                  <a:lnTo>
                    <a:pt x="1462087" y="1634332"/>
                  </a:lnTo>
                  <a:lnTo>
                    <a:pt x="1462182" y="1632333"/>
                  </a:lnTo>
                  <a:lnTo>
                    <a:pt x="1449611" y="1628441"/>
                  </a:lnTo>
                  <a:lnTo>
                    <a:pt x="1408965" y="1615421"/>
                  </a:lnTo>
                  <a:lnTo>
                    <a:pt x="1367683" y="1600812"/>
                  </a:lnTo>
                  <a:lnTo>
                    <a:pt x="1326401" y="1585250"/>
                  </a:lnTo>
                  <a:lnTo>
                    <a:pt x="1284483" y="1569054"/>
                  </a:lnTo>
                  <a:lnTo>
                    <a:pt x="1241931" y="1551904"/>
                  </a:lnTo>
                  <a:lnTo>
                    <a:pt x="1199697" y="1533802"/>
                  </a:lnTo>
                  <a:lnTo>
                    <a:pt x="1191479" y="1530183"/>
                  </a:lnTo>
                  <a:close/>
                  <a:moveTo>
                    <a:pt x="1104493" y="1490234"/>
                  </a:moveTo>
                  <a:lnTo>
                    <a:pt x="1106563" y="1496060"/>
                  </a:lnTo>
                  <a:lnTo>
                    <a:pt x="1107088" y="1497526"/>
                  </a:lnTo>
                  <a:lnTo>
                    <a:pt x="1113937" y="1494744"/>
                  </a:lnTo>
                  <a:lnTo>
                    <a:pt x="1104493" y="1490234"/>
                  </a:lnTo>
                  <a:close/>
                  <a:moveTo>
                    <a:pt x="287237" y="1385930"/>
                  </a:moveTo>
                  <a:lnTo>
                    <a:pt x="272098" y="1400560"/>
                  </a:lnTo>
                  <a:lnTo>
                    <a:pt x="245428" y="1426926"/>
                  </a:lnTo>
                  <a:lnTo>
                    <a:pt x="220980" y="1452657"/>
                  </a:lnTo>
                  <a:lnTo>
                    <a:pt x="208915" y="1465681"/>
                  </a:lnTo>
                  <a:lnTo>
                    <a:pt x="197803" y="1478387"/>
                  </a:lnTo>
                  <a:lnTo>
                    <a:pt x="187008" y="1490776"/>
                  </a:lnTo>
                  <a:lnTo>
                    <a:pt x="176530" y="1503165"/>
                  </a:lnTo>
                  <a:lnTo>
                    <a:pt x="166370" y="1515554"/>
                  </a:lnTo>
                  <a:lnTo>
                    <a:pt x="157163" y="1527625"/>
                  </a:lnTo>
                  <a:lnTo>
                    <a:pt x="147955" y="1539696"/>
                  </a:lnTo>
                  <a:lnTo>
                    <a:pt x="139383" y="1551132"/>
                  </a:lnTo>
                  <a:lnTo>
                    <a:pt x="131128" y="1563203"/>
                  </a:lnTo>
                  <a:lnTo>
                    <a:pt x="123190" y="1574321"/>
                  </a:lnTo>
                  <a:lnTo>
                    <a:pt x="115888" y="1585440"/>
                  </a:lnTo>
                  <a:lnTo>
                    <a:pt x="109538" y="1596558"/>
                  </a:lnTo>
                  <a:lnTo>
                    <a:pt x="102870" y="1607358"/>
                  </a:lnTo>
                  <a:lnTo>
                    <a:pt x="97155" y="1618159"/>
                  </a:lnTo>
                  <a:lnTo>
                    <a:pt x="91758" y="1628324"/>
                  </a:lnTo>
                  <a:lnTo>
                    <a:pt x="86678" y="1638807"/>
                  </a:lnTo>
                  <a:lnTo>
                    <a:pt x="82233" y="1648337"/>
                  </a:lnTo>
                  <a:lnTo>
                    <a:pt x="78423" y="1658502"/>
                  </a:lnTo>
                  <a:lnTo>
                    <a:pt x="74930" y="1668032"/>
                  </a:lnTo>
                  <a:lnTo>
                    <a:pt x="71755" y="1677244"/>
                  </a:lnTo>
                  <a:lnTo>
                    <a:pt x="69215" y="1686139"/>
                  </a:lnTo>
                  <a:lnTo>
                    <a:pt x="67310" y="1695033"/>
                  </a:lnTo>
                  <a:lnTo>
                    <a:pt x="65723" y="1703292"/>
                  </a:lnTo>
                  <a:lnTo>
                    <a:pt x="64453" y="1711869"/>
                  </a:lnTo>
                  <a:lnTo>
                    <a:pt x="64135" y="1719493"/>
                  </a:lnTo>
                  <a:lnTo>
                    <a:pt x="64135" y="1727435"/>
                  </a:lnTo>
                  <a:lnTo>
                    <a:pt x="64453" y="1735059"/>
                  </a:lnTo>
                  <a:lnTo>
                    <a:pt x="65405" y="1742047"/>
                  </a:lnTo>
                  <a:lnTo>
                    <a:pt x="66993" y="1748718"/>
                  </a:lnTo>
                  <a:lnTo>
                    <a:pt x="68898" y="1755389"/>
                  </a:lnTo>
                  <a:lnTo>
                    <a:pt x="71438" y="1761425"/>
                  </a:lnTo>
                  <a:lnTo>
                    <a:pt x="74295" y="1767143"/>
                  </a:lnTo>
                  <a:lnTo>
                    <a:pt x="78740" y="1774131"/>
                  </a:lnTo>
                  <a:lnTo>
                    <a:pt x="83820" y="1780802"/>
                  </a:lnTo>
                  <a:lnTo>
                    <a:pt x="89853" y="1786838"/>
                  </a:lnTo>
                  <a:lnTo>
                    <a:pt x="96838" y="1792238"/>
                  </a:lnTo>
                  <a:lnTo>
                    <a:pt x="104458" y="1797638"/>
                  </a:lnTo>
                  <a:lnTo>
                    <a:pt x="112713" y="1802403"/>
                  </a:lnTo>
                  <a:lnTo>
                    <a:pt x="121920" y="1806533"/>
                  </a:lnTo>
                  <a:lnTo>
                    <a:pt x="131763" y="1810345"/>
                  </a:lnTo>
                  <a:lnTo>
                    <a:pt x="142240" y="1813839"/>
                  </a:lnTo>
                  <a:lnTo>
                    <a:pt x="153353" y="1817016"/>
                  </a:lnTo>
                  <a:lnTo>
                    <a:pt x="165735" y="1819239"/>
                  </a:lnTo>
                  <a:lnTo>
                    <a:pt x="177800" y="1821463"/>
                  </a:lnTo>
                  <a:lnTo>
                    <a:pt x="191453" y="1823051"/>
                  </a:lnTo>
                  <a:lnTo>
                    <a:pt x="205740" y="1824322"/>
                  </a:lnTo>
                  <a:lnTo>
                    <a:pt x="220345" y="1824957"/>
                  </a:lnTo>
                  <a:lnTo>
                    <a:pt x="235585" y="1825275"/>
                  </a:lnTo>
                  <a:lnTo>
                    <a:pt x="251460" y="1825275"/>
                  </a:lnTo>
                  <a:lnTo>
                    <a:pt x="267970" y="1824639"/>
                  </a:lnTo>
                  <a:lnTo>
                    <a:pt x="285115" y="1823686"/>
                  </a:lnTo>
                  <a:lnTo>
                    <a:pt x="302895" y="1822098"/>
                  </a:lnTo>
                  <a:lnTo>
                    <a:pt x="320993" y="1820192"/>
                  </a:lnTo>
                  <a:lnTo>
                    <a:pt x="339725" y="1817968"/>
                  </a:lnTo>
                  <a:lnTo>
                    <a:pt x="359410" y="1814792"/>
                  </a:lnTo>
                  <a:lnTo>
                    <a:pt x="379413" y="1811615"/>
                  </a:lnTo>
                  <a:lnTo>
                    <a:pt x="399733" y="1808121"/>
                  </a:lnTo>
                  <a:lnTo>
                    <a:pt x="420370" y="1803674"/>
                  </a:lnTo>
                  <a:lnTo>
                    <a:pt x="441960" y="1798909"/>
                  </a:lnTo>
                  <a:lnTo>
                    <a:pt x="458716" y="1795021"/>
                  </a:lnTo>
                  <a:lnTo>
                    <a:pt x="447270" y="1779838"/>
                  </a:lnTo>
                  <a:lnTo>
                    <a:pt x="434894" y="1761420"/>
                  </a:lnTo>
                  <a:lnTo>
                    <a:pt x="422518" y="1742684"/>
                  </a:lnTo>
                  <a:lnTo>
                    <a:pt x="410459" y="1723949"/>
                  </a:lnTo>
                  <a:lnTo>
                    <a:pt x="399352" y="1704260"/>
                  </a:lnTo>
                  <a:lnTo>
                    <a:pt x="388245" y="1684572"/>
                  </a:lnTo>
                  <a:lnTo>
                    <a:pt x="377773" y="1664884"/>
                  </a:lnTo>
                  <a:lnTo>
                    <a:pt x="367936" y="1644560"/>
                  </a:lnTo>
                  <a:lnTo>
                    <a:pt x="358415" y="1624237"/>
                  </a:lnTo>
                  <a:lnTo>
                    <a:pt x="349213" y="1603596"/>
                  </a:lnTo>
                  <a:lnTo>
                    <a:pt x="340645" y="1582320"/>
                  </a:lnTo>
                  <a:lnTo>
                    <a:pt x="332711" y="1561361"/>
                  </a:lnTo>
                  <a:lnTo>
                    <a:pt x="324778" y="1539767"/>
                  </a:lnTo>
                  <a:lnTo>
                    <a:pt x="318114" y="1517856"/>
                  </a:lnTo>
                  <a:lnTo>
                    <a:pt x="311449" y="1495945"/>
                  </a:lnTo>
                  <a:lnTo>
                    <a:pt x="305420" y="1474034"/>
                  </a:lnTo>
                  <a:lnTo>
                    <a:pt x="300025" y="1451170"/>
                  </a:lnTo>
                  <a:lnTo>
                    <a:pt x="294948" y="1428941"/>
                  </a:lnTo>
                  <a:lnTo>
                    <a:pt x="290823" y="1406077"/>
                  </a:lnTo>
                  <a:lnTo>
                    <a:pt x="287237" y="1385930"/>
                  </a:lnTo>
                  <a:close/>
                  <a:moveTo>
                    <a:pt x="825882" y="1340155"/>
                  </a:moveTo>
                  <a:lnTo>
                    <a:pt x="819719" y="1367155"/>
                  </a:lnTo>
                  <a:lnTo>
                    <a:pt x="808612" y="1421447"/>
                  </a:lnTo>
                  <a:lnTo>
                    <a:pt x="798457" y="1474787"/>
                  </a:lnTo>
                  <a:lnTo>
                    <a:pt x="789571" y="1527175"/>
                  </a:lnTo>
                  <a:lnTo>
                    <a:pt x="781321" y="1578610"/>
                  </a:lnTo>
                  <a:lnTo>
                    <a:pt x="778588" y="1599316"/>
                  </a:lnTo>
                  <a:lnTo>
                    <a:pt x="782951" y="1602926"/>
                  </a:lnTo>
                  <a:lnTo>
                    <a:pt x="789940" y="1601447"/>
                  </a:lnTo>
                  <a:lnTo>
                    <a:pt x="824230" y="1593190"/>
                  </a:lnTo>
                  <a:lnTo>
                    <a:pt x="859473" y="1583662"/>
                  </a:lnTo>
                  <a:lnTo>
                    <a:pt x="895985" y="1573182"/>
                  </a:lnTo>
                  <a:lnTo>
                    <a:pt x="933768" y="1561432"/>
                  </a:lnTo>
                  <a:lnTo>
                    <a:pt x="972185" y="1548729"/>
                  </a:lnTo>
                  <a:lnTo>
                    <a:pt x="1011555" y="1535073"/>
                  </a:lnTo>
                  <a:lnTo>
                    <a:pt x="1048349" y="1520873"/>
                  </a:lnTo>
                  <a:lnTo>
                    <a:pt x="1038369" y="1492568"/>
                  </a:lnTo>
                  <a:lnTo>
                    <a:pt x="1024413" y="1450656"/>
                  </a:lnTo>
                  <a:lnTo>
                    <a:pt x="987571" y="1431541"/>
                  </a:lnTo>
                  <a:lnTo>
                    <a:pt x="945971" y="1409310"/>
                  </a:lnTo>
                  <a:lnTo>
                    <a:pt x="904689" y="1386127"/>
                  </a:lnTo>
                  <a:lnTo>
                    <a:pt x="862455" y="1361991"/>
                  </a:lnTo>
                  <a:lnTo>
                    <a:pt x="825882" y="1340155"/>
                  </a:lnTo>
                  <a:close/>
                  <a:moveTo>
                    <a:pt x="426033" y="1320824"/>
                  </a:moveTo>
                  <a:lnTo>
                    <a:pt x="426083" y="1321435"/>
                  </a:lnTo>
                  <a:lnTo>
                    <a:pt x="428304" y="1341438"/>
                  </a:lnTo>
                  <a:lnTo>
                    <a:pt x="430842" y="1361123"/>
                  </a:lnTo>
                  <a:lnTo>
                    <a:pt x="434333" y="1380490"/>
                  </a:lnTo>
                  <a:lnTo>
                    <a:pt x="437823" y="1399540"/>
                  </a:lnTo>
                  <a:lnTo>
                    <a:pt x="442265" y="1418908"/>
                  </a:lnTo>
                  <a:lnTo>
                    <a:pt x="446708" y="1437640"/>
                  </a:lnTo>
                  <a:lnTo>
                    <a:pt x="451785" y="1456055"/>
                  </a:lnTo>
                  <a:lnTo>
                    <a:pt x="457179" y="1474788"/>
                  </a:lnTo>
                  <a:lnTo>
                    <a:pt x="463208" y="1492885"/>
                  </a:lnTo>
                  <a:lnTo>
                    <a:pt x="469236" y="1510983"/>
                  </a:lnTo>
                  <a:lnTo>
                    <a:pt x="476217" y="1529080"/>
                  </a:lnTo>
                  <a:lnTo>
                    <a:pt x="483515" y="1546860"/>
                  </a:lnTo>
                  <a:lnTo>
                    <a:pt x="491131" y="1564005"/>
                  </a:lnTo>
                  <a:lnTo>
                    <a:pt x="499381" y="1581468"/>
                  </a:lnTo>
                  <a:lnTo>
                    <a:pt x="507631" y="1598613"/>
                  </a:lnTo>
                  <a:lnTo>
                    <a:pt x="516515" y="1615123"/>
                  </a:lnTo>
                  <a:lnTo>
                    <a:pt x="521451" y="1623979"/>
                  </a:lnTo>
                  <a:lnTo>
                    <a:pt x="528955" y="1624948"/>
                  </a:lnTo>
                  <a:lnTo>
                    <a:pt x="539433" y="1626218"/>
                  </a:lnTo>
                  <a:lnTo>
                    <a:pt x="550545" y="1627171"/>
                  </a:lnTo>
                  <a:lnTo>
                    <a:pt x="561658" y="1628124"/>
                  </a:lnTo>
                  <a:lnTo>
                    <a:pt x="573405" y="1628441"/>
                  </a:lnTo>
                  <a:lnTo>
                    <a:pt x="585470" y="1628441"/>
                  </a:lnTo>
                  <a:lnTo>
                    <a:pt x="597853" y="1628124"/>
                  </a:lnTo>
                  <a:lnTo>
                    <a:pt x="610553" y="1627489"/>
                  </a:lnTo>
                  <a:lnTo>
                    <a:pt x="623570" y="1626854"/>
                  </a:lnTo>
                  <a:lnTo>
                    <a:pt x="637223" y="1626218"/>
                  </a:lnTo>
                  <a:lnTo>
                    <a:pt x="650875" y="1624948"/>
                  </a:lnTo>
                  <a:lnTo>
                    <a:pt x="665163" y="1623360"/>
                  </a:lnTo>
                  <a:lnTo>
                    <a:pt x="694373" y="1619549"/>
                  </a:lnTo>
                  <a:lnTo>
                    <a:pt x="702748" y="1618167"/>
                  </a:lnTo>
                  <a:lnTo>
                    <a:pt x="699337" y="1615270"/>
                  </a:lnTo>
                  <a:lnTo>
                    <a:pt x="666011" y="1586687"/>
                  </a:lnTo>
                  <a:lnTo>
                    <a:pt x="634589" y="1557787"/>
                  </a:lnTo>
                  <a:lnTo>
                    <a:pt x="604436" y="1529204"/>
                  </a:lnTo>
                  <a:lnTo>
                    <a:pt x="589836" y="1514595"/>
                  </a:lnTo>
                  <a:lnTo>
                    <a:pt x="575236" y="1500304"/>
                  </a:lnTo>
                  <a:lnTo>
                    <a:pt x="561271" y="1486330"/>
                  </a:lnTo>
                  <a:lnTo>
                    <a:pt x="547940" y="1472038"/>
                  </a:lnTo>
                  <a:lnTo>
                    <a:pt x="534292" y="1457747"/>
                  </a:lnTo>
                  <a:lnTo>
                    <a:pt x="521597" y="1443456"/>
                  </a:lnTo>
                  <a:lnTo>
                    <a:pt x="508901" y="1429164"/>
                  </a:lnTo>
                  <a:lnTo>
                    <a:pt x="497157" y="1415508"/>
                  </a:lnTo>
                  <a:lnTo>
                    <a:pt x="485731" y="1401217"/>
                  </a:lnTo>
                  <a:lnTo>
                    <a:pt x="473988" y="1387561"/>
                  </a:lnTo>
                  <a:lnTo>
                    <a:pt x="463196" y="1373587"/>
                  </a:lnTo>
                  <a:lnTo>
                    <a:pt x="453357" y="1359613"/>
                  </a:lnTo>
                  <a:lnTo>
                    <a:pt x="443201" y="1345957"/>
                  </a:lnTo>
                  <a:lnTo>
                    <a:pt x="433679" y="1332300"/>
                  </a:lnTo>
                  <a:lnTo>
                    <a:pt x="426033" y="1320824"/>
                  </a:lnTo>
                  <a:close/>
                  <a:moveTo>
                    <a:pt x="563522" y="1163592"/>
                  </a:moveTo>
                  <a:lnTo>
                    <a:pt x="542290" y="1178196"/>
                  </a:lnTo>
                  <a:lnTo>
                    <a:pt x="502920" y="1206786"/>
                  </a:lnTo>
                  <a:lnTo>
                    <a:pt x="465455" y="1234740"/>
                  </a:lnTo>
                  <a:lnTo>
                    <a:pt x="455660" y="1242410"/>
                  </a:lnTo>
                  <a:lnTo>
                    <a:pt x="456848" y="1244647"/>
                  </a:lnTo>
                  <a:lnTo>
                    <a:pt x="462562" y="1255445"/>
                  </a:lnTo>
                  <a:lnTo>
                    <a:pt x="468909" y="1265925"/>
                  </a:lnTo>
                  <a:lnTo>
                    <a:pt x="475575" y="1277040"/>
                  </a:lnTo>
                  <a:lnTo>
                    <a:pt x="482557" y="1287838"/>
                  </a:lnTo>
                  <a:lnTo>
                    <a:pt x="490175" y="1299271"/>
                  </a:lnTo>
                  <a:lnTo>
                    <a:pt x="498110" y="1310387"/>
                  </a:lnTo>
                  <a:lnTo>
                    <a:pt x="506362" y="1322138"/>
                  </a:lnTo>
                  <a:lnTo>
                    <a:pt x="524453" y="1345957"/>
                  </a:lnTo>
                  <a:lnTo>
                    <a:pt x="543497" y="1370093"/>
                  </a:lnTo>
                  <a:lnTo>
                    <a:pt x="564762" y="1394865"/>
                  </a:lnTo>
                  <a:lnTo>
                    <a:pt x="587297" y="1419954"/>
                  </a:lnTo>
                  <a:lnTo>
                    <a:pt x="611736" y="1445361"/>
                  </a:lnTo>
                  <a:lnTo>
                    <a:pt x="637445" y="1471721"/>
                  </a:lnTo>
                  <a:lnTo>
                    <a:pt x="664106" y="1498081"/>
                  </a:lnTo>
                  <a:lnTo>
                    <a:pt x="692989" y="1525075"/>
                  </a:lnTo>
                  <a:lnTo>
                    <a:pt x="721963" y="1551321"/>
                  </a:lnTo>
                  <a:lnTo>
                    <a:pt x="722613" y="1546860"/>
                  </a:lnTo>
                  <a:lnTo>
                    <a:pt x="730229" y="1498282"/>
                  </a:lnTo>
                  <a:lnTo>
                    <a:pt x="739115" y="1450340"/>
                  </a:lnTo>
                  <a:lnTo>
                    <a:pt x="748317" y="1401762"/>
                  </a:lnTo>
                  <a:lnTo>
                    <a:pt x="758472" y="1354137"/>
                  </a:lnTo>
                  <a:lnTo>
                    <a:pt x="768627" y="1308100"/>
                  </a:lnTo>
                  <a:lnTo>
                    <a:pt x="769341" y="1305052"/>
                  </a:lnTo>
                  <a:lnTo>
                    <a:pt x="737021" y="1284818"/>
                  </a:lnTo>
                  <a:lnTo>
                    <a:pt x="696374" y="1257824"/>
                  </a:lnTo>
                  <a:lnTo>
                    <a:pt x="656362" y="1230512"/>
                  </a:lnTo>
                  <a:lnTo>
                    <a:pt x="616985" y="1202882"/>
                  </a:lnTo>
                  <a:lnTo>
                    <a:pt x="578561" y="1174935"/>
                  </a:lnTo>
                  <a:lnTo>
                    <a:pt x="563522" y="1163592"/>
                  </a:lnTo>
                  <a:close/>
                  <a:moveTo>
                    <a:pt x="441840" y="1066401"/>
                  </a:moveTo>
                  <a:lnTo>
                    <a:pt x="437823" y="1083628"/>
                  </a:lnTo>
                  <a:lnTo>
                    <a:pt x="434333" y="1102995"/>
                  </a:lnTo>
                  <a:lnTo>
                    <a:pt x="430842" y="1122045"/>
                  </a:lnTo>
                  <a:lnTo>
                    <a:pt x="428304" y="1141730"/>
                  </a:lnTo>
                  <a:lnTo>
                    <a:pt x="426083" y="1161415"/>
                  </a:lnTo>
                  <a:lnTo>
                    <a:pt x="425439" y="1169539"/>
                  </a:lnTo>
                  <a:lnTo>
                    <a:pt x="427648" y="1177001"/>
                  </a:lnTo>
                  <a:lnTo>
                    <a:pt x="429516" y="1183022"/>
                  </a:lnTo>
                  <a:lnTo>
                    <a:pt x="451485" y="1166443"/>
                  </a:lnTo>
                  <a:lnTo>
                    <a:pt x="489903" y="1138171"/>
                  </a:lnTo>
                  <a:lnTo>
                    <a:pt x="511337" y="1123125"/>
                  </a:lnTo>
                  <a:lnTo>
                    <a:pt x="504571" y="1117771"/>
                  </a:lnTo>
                  <a:lnTo>
                    <a:pt x="469005" y="1089506"/>
                  </a:lnTo>
                  <a:lnTo>
                    <a:pt x="441840" y="1066401"/>
                  </a:lnTo>
                  <a:close/>
                  <a:moveTo>
                    <a:pt x="1964738" y="1045668"/>
                  </a:moveTo>
                  <a:lnTo>
                    <a:pt x="1964373" y="1045997"/>
                  </a:lnTo>
                  <a:lnTo>
                    <a:pt x="1947863" y="1060606"/>
                  </a:lnTo>
                  <a:lnTo>
                    <a:pt x="1913890" y="1089506"/>
                  </a:lnTo>
                  <a:lnTo>
                    <a:pt x="1878330" y="1117771"/>
                  </a:lnTo>
                  <a:lnTo>
                    <a:pt x="1841818" y="1146671"/>
                  </a:lnTo>
                  <a:lnTo>
                    <a:pt x="1804353" y="1174935"/>
                  </a:lnTo>
                  <a:lnTo>
                    <a:pt x="1765935" y="1202882"/>
                  </a:lnTo>
                  <a:lnTo>
                    <a:pt x="1726565" y="1230512"/>
                  </a:lnTo>
                  <a:lnTo>
                    <a:pt x="1686243" y="1257824"/>
                  </a:lnTo>
                  <a:lnTo>
                    <a:pt x="1645603" y="1284818"/>
                  </a:lnTo>
                  <a:lnTo>
                    <a:pt x="1604328" y="1310860"/>
                  </a:lnTo>
                  <a:lnTo>
                    <a:pt x="1562418" y="1336584"/>
                  </a:lnTo>
                  <a:lnTo>
                    <a:pt x="1520508" y="1361991"/>
                  </a:lnTo>
                  <a:lnTo>
                    <a:pt x="1477963" y="1386127"/>
                  </a:lnTo>
                  <a:lnTo>
                    <a:pt x="1437005" y="1409310"/>
                  </a:lnTo>
                  <a:lnTo>
                    <a:pt x="1395095" y="1431541"/>
                  </a:lnTo>
                  <a:lnTo>
                    <a:pt x="1353185" y="1453454"/>
                  </a:lnTo>
                  <a:lnTo>
                    <a:pt x="1310958" y="1474732"/>
                  </a:lnTo>
                  <a:lnTo>
                    <a:pt x="1268838" y="1494705"/>
                  </a:lnTo>
                  <a:lnTo>
                    <a:pt x="1289882" y="1503314"/>
                  </a:lnTo>
                  <a:lnTo>
                    <a:pt x="1330846" y="1519511"/>
                  </a:lnTo>
                  <a:lnTo>
                    <a:pt x="1371176" y="1535073"/>
                  </a:lnTo>
                  <a:lnTo>
                    <a:pt x="1410870" y="1548729"/>
                  </a:lnTo>
                  <a:lnTo>
                    <a:pt x="1449294" y="1561432"/>
                  </a:lnTo>
                  <a:lnTo>
                    <a:pt x="1479284" y="1570917"/>
                  </a:lnTo>
                  <a:lnTo>
                    <a:pt x="1480502" y="1568844"/>
                  </a:lnTo>
                  <a:lnTo>
                    <a:pt x="1483677" y="1563758"/>
                  </a:lnTo>
                  <a:lnTo>
                    <a:pt x="1487487" y="1558671"/>
                  </a:lnTo>
                  <a:lnTo>
                    <a:pt x="1490980" y="1554221"/>
                  </a:lnTo>
                  <a:lnTo>
                    <a:pt x="1495107" y="1549452"/>
                  </a:lnTo>
                  <a:lnTo>
                    <a:pt x="1499235" y="1545002"/>
                  </a:lnTo>
                  <a:lnTo>
                    <a:pt x="1503680" y="1540551"/>
                  </a:lnTo>
                  <a:lnTo>
                    <a:pt x="1508125" y="1536736"/>
                  </a:lnTo>
                  <a:lnTo>
                    <a:pt x="1512887" y="1532921"/>
                  </a:lnTo>
                  <a:lnTo>
                    <a:pt x="1517967" y="1529424"/>
                  </a:lnTo>
                  <a:lnTo>
                    <a:pt x="1522730" y="1526563"/>
                  </a:lnTo>
                  <a:lnTo>
                    <a:pt x="1528127" y="1523384"/>
                  </a:lnTo>
                  <a:lnTo>
                    <a:pt x="1533525" y="1520841"/>
                  </a:lnTo>
                  <a:lnTo>
                    <a:pt x="1539240" y="1517980"/>
                  </a:lnTo>
                  <a:lnTo>
                    <a:pt x="1544955" y="1515755"/>
                  </a:lnTo>
                  <a:lnTo>
                    <a:pt x="1550987" y="1513847"/>
                  </a:lnTo>
                  <a:lnTo>
                    <a:pt x="1557020" y="1512258"/>
                  </a:lnTo>
                  <a:lnTo>
                    <a:pt x="1562735" y="1510668"/>
                  </a:lnTo>
                  <a:lnTo>
                    <a:pt x="1569402" y="1509397"/>
                  </a:lnTo>
                  <a:lnTo>
                    <a:pt x="1575435" y="1508761"/>
                  </a:lnTo>
                  <a:lnTo>
                    <a:pt x="1582102" y="1508443"/>
                  </a:lnTo>
                  <a:lnTo>
                    <a:pt x="1588452" y="1508125"/>
                  </a:lnTo>
                  <a:lnTo>
                    <a:pt x="1594802" y="1508443"/>
                  </a:lnTo>
                  <a:lnTo>
                    <a:pt x="1601152" y="1508761"/>
                  </a:lnTo>
                  <a:lnTo>
                    <a:pt x="1607502" y="1509397"/>
                  </a:lnTo>
                  <a:lnTo>
                    <a:pt x="1613852" y="1510668"/>
                  </a:lnTo>
                  <a:lnTo>
                    <a:pt x="1620202" y="1512258"/>
                  </a:lnTo>
                  <a:lnTo>
                    <a:pt x="1625917" y="1513847"/>
                  </a:lnTo>
                  <a:lnTo>
                    <a:pt x="1631632" y="1515755"/>
                  </a:lnTo>
                  <a:lnTo>
                    <a:pt x="1637347" y="1517980"/>
                  </a:lnTo>
                  <a:lnTo>
                    <a:pt x="1643062" y="1520841"/>
                  </a:lnTo>
                  <a:lnTo>
                    <a:pt x="1648460" y="1523384"/>
                  </a:lnTo>
                  <a:lnTo>
                    <a:pt x="1653857" y="1526563"/>
                  </a:lnTo>
                  <a:lnTo>
                    <a:pt x="1658937" y="1529424"/>
                  </a:lnTo>
                  <a:lnTo>
                    <a:pt x="1664017" y="1532921"/>
                  </a:lnTo>
                  <a:lnTo>
                    <a:pt x="1668462" y="1536736"/>
                  </a:lnTo>
                  <a:lnTo>
                    <a:pt x="1673225" y="1540551"/>
                  </a:lnTo>
                  <a:lnTo>
                    <a:pt x="1677670" y="1545002"/>
                  </a:lnTo>
                  <a:lnTo>
                    <a:pt x="1681480" y="1549452"/>
                  </a:lnTo>
                  <a:lnTo>
                    <a:pt x="1685607" y="1554221"/>
                  </a:lnTo>
                  <a:lnTo>
                    <a:pt x="1689100" y="1558671"/>
                  </a:lnTo>
                  <a:lnTo>
                    <a:pt x="1692910" y="1563758"/>
                  </a:lnTo>
                  <a:lnTo>
                    <a:pt x="1696085" y="1568844"/>
                  </a:lnTo>
                  <a:lnTo>
                    <a:pt x="1699260" y="1574248"/>
                  </a:lnTo>
                  <a:lnTo>
                    <a:pt x="1701800" y="1579653"/>
                  </a:lnTo>
                  <a:lnTo>
                    <a:pt x="1704657" y="1585375"/>
                  </a:lnTo>
                  <a:lnTo>
                    <a:pt x="1706880" y="1591097"/>
                  </a:lnTo>
                  <a:lnTo>
                    <a:pt x="1708785" y="1596819"/>
                  </a:lnTo>
                  <a:lnTo>
                    <a:pt x="1710372" y="1602542"/>
                  </a:lnTo>
                  <a:lnTo>
                    <a:pt x="1711960" y="1608900"/>
                  </a:lnTo>
                  <a:lnTo>
                    <a:pt x="1712913" y="1614940"/>
                  </a:lnTo>
                  <a:lnTo>
                    <a:pt x="1713865" y="1621616"/>
                  </a:lnTo>
                  <a:lnTo>
                    <a:pt x="1713930" y="1622842"/>
                  </a:lnTo>
                  <a:lnTo>
                    <a:pt x="1717944" y="1623360"/>
                  </a:lnTo>
                  <a:lnTo>
                    <a:pt x="1731917" y="1624948"/>
                  </a:lnTo>
                  <a:lnTo>
                    <a:pt x="1745572" y="1626218"/>
                  </a:lnTo>
                  <a:lnTo>
                    <a:pt x="1759544" y="1626854"/>
                  </a:lnTo>
                  <a:lnTo>
                    <a:pt x="1772564" y="1627489"/>
                  </a:lnTo>
                  <a:lnTo>
                    <a:pt x="1785266" y="1628124"/>
                  </a:lnTo>
                  <a:lnTo>
                    <a:pt x="1797650" y="1628441"/>
                  </a:lnTo>
                  <a:lnTo>
                    <a:pt x="1809400" y="1628441"/>
                  </a:lnTo>
                  <a:lnTo>
                    <a:pt x="1821467" y="1628124"/>
                  </a:lnTo>
                  <a:lnTo>
                    <a:pt x="1832581" y="1627171"/>
                  </a:lnTo>
                  <a:lnTo>
                    <a:pt x="1843378" y="1626218"/>
                  </a:lnTo>
                  <a:lnTo>
                    <a:pt x="1853540" y="1624948"/>
                  </a:lnTo>
                  <a:lnTo>
                    <a:pt x="1864019" y="1623678"/>
                  </a:lnTo>
                  <a:lnTo>
                    <a:pt x="1873546" y="1621772"/>
                  </a:lnTo>
                  <a:lnTo>
                    <a:pt x="1882755" y="1619867"/>
                  </a:lnTo>
                  <a:lnTo>
                    <a:pt x="1891646" y="1617644"/>
                  </a:lnTo>
                  <a:lnTo>
                    <a:pt x="1893435" y="1617180"/>
                  </a:lnTo>
                  <a:lnTo>
                    <a:pt x="1894581" y="1615123"/>
                  </a:lnTo>
                  <a:lnTo>
                    <a:pt x="1903465" y="1598613"/>
                  </a:lnTo>
                  <a:lnTo>
                    <a:pt x="1912032" y="1581468"/>
                  </a:lnTo>
                  <a:lnTo>
                    <a:pt x="1919965" y="1564005"/>
                  </a:lnTo>
                  <a:lnTo>
                    <a:pt x="1927580" y="1546860"/>
                  </a:lnTo>
                  <a:lnTo>
                    <a:pt x="1934879" y="1529080"/>
                  </a:lnTo>
                  <a:lnTo>
                    <a:pt x="1941859" y="1510983"/>
                  </a:lnTo>
                  <a:lnTo>
                    <a:pt x="1948205" y="1492885"/>
                  </a:lnTo>
                  <a:lnTo>
                    <a:pt x="1954234" y="1474788"/>
                  </a:lnTo>
                  <a:lnTo>
                    <a:pt x="1959628" y="1456055"/>
                  </a:lnTo>
                  <a:lnTo>
                    <a:pt x="1964705" y="1437640"/>
                  </a:lnTo>
                  <a:lnTo>
                    <a:pt x="1969148" y="1418908"/>
                  </a:lnTo>
                  <a:lnTo>
                    <a:pt x="1973590" y="1399540"/>
                  </a:lnTo>
                  <a:lnTo>
                    <a:pt x="1977398" y="1380490"/>
                  </a:lnTo>
                  <a:lnTo>
                    <a:pt x="1980253" y="1361123"/>
                  </a:lnTo>
                  <a:lnTo>
                    <a:pt x="1983109" y="1341438"/>
                  </a:lnTo>
                  <a:lnTo>
                    <a:pt x="1985330" y="1321435"/>
                  </a:lnTo>
                  <a:lnTo>
                    <a:pt x="1986917" y="1302068"/>
                  </a:lnTo>
                  <a:lnTo>
                    <a:pt x="1988503" y="1282065"/>
                  </a:lnTo>
                  <a:lnTo>
                    <a:pt x="1989138" y="1261428"/>
                  </a:lnTo>
                  <a:lnTo>
                    <a:pt x="1989138" y="1241743"/>
                  </a:lnTo>
                  <a:lnTo>
                    <a:pt x="1989138" y="1221105"/>
                  </a:lnTo>
                  <a:lnTo>
                    <a:pt x="1988503" y="1201103"/>
                  </a:lnTo>
                  <a:lnTo>
                    <a:pt x="1986917" y="1181418"/>
                  </a:lnTo>
                  <a:lnTo>
                    <a:pt x="1985330" y="1161415"/>
                  </a:lnTo>
                  <a:lnTo>
                    <a:pt x="1983109" y="1141730"/>
                  </a:lnTo>
                  <a:lnTo>
                    <a:pt x="1980253" y="1122045"/>
                  </a:lnTo>
                  <a:lnTo>
                    <a:pt x="1977398" y="1102995"/>
                  </a:lnTo>
                  <a:lnTo>
                    <a:pt x="1973590" y="1083628"/>
                  </a:lnTo>
                  <a:lnTo>
                    <a:pt x="1969148" y="1064578"/>
                  </a:lnTo>
                  <a:lnTo>
                    <a:pt x="1964738" y="1045668"/>
                  </a:lnTo>
                  <a:close/>
                  <a:moveTo>
                    <a:pt x="916037" y="1019660"/>
                  </a:moveTo>
                  <a:lnTo>
                    <a:pt x="912064" y="1031240"/>
                  </a:lnTo>
                  <a:lnTo>
                    <a:pt x="897467" y="1075690"/>
                  </a:lnTo>
                  <a:lnTo>
                    <a:pt x="883186" y="1121410"/>
                  </a:lnTo>
                  <a:lnTo>
                    <a:pt x="869541" y="1167765"/>
                  </a:lnTo>
                  <a:lnTo>
                    <a:pt x="856213" y="1215707"/>
                  </a:lnTo>
                  <a:lnTo>
                    <a:pt x="843519" y="1265555"/>
                  </a:lnTo>
                  <a:lnTo>
                    <a:pt x="841045" y="1275844"/>
                  </a:lnTo>
                  <a:lnTo>
                    <a:pt x="841178" y="1275926"/>
                  </a:lnTo>
                  <a:lnTo>
                    <a:pt x="887541" y="1303556"/>
                  </a:lnTo>
                  <a:lnTo>
                    <a:pt x="935809" y="1331185"/>
                  </a:lnTo>
                  <a:lnTo>
                    <a:pt x="981855" y="1356909"/>
                  </a:lnTo>
                  <a:lnTo>
                    <a:pt x="997943" y="1365625"/>
                  </a:lnTo>
                  <a:lnTo>
                    <a:pt x="996185" y="1359853"/>
                  </a:lnTo>
                  <a:lnTo>
                    <a:pt x="983180" y="1314450"/>
                  </a:lnTo>
                  <a:lnTo>
                    <a:pt x="970810" y="1268730"/>
                  </a:lnTo>
                  <a:lnTo>
                    <a:pt x="959075" y="1223010"/>
                  </a:lnTo>
                  <a:lnTo>
                    <a:pt x="948291" y="1176655"/>
                  </a:lnTo>
                  <a:lnTo>
                    <a:pt x="937824" y="1130618"/>
                  </a:lnTo>
                  <a:lnTo>
                    <a:pt x="927991" y="1082675"/>
                  </a:lnTo>
                  <a:lnTo>
                    <a:pt x="918793" y="1034733"/>
                  </a:lnTo>
                  <a:lnTo>
                    <a:pt x="916037" y="1019660"/>
                  </a:lnTo>
                  <a:close/>
                  <a:moveTo>
                    <a:pt x="863289" y="979742"/>
                  </a:moveTo>
                  <a:lnTo>
                    <a:pt x="855028" y="984105"/>
                  </a:lnTo>
                  <a:lnTo>
                    <a:pt x="808990" y="1009835"/>
                  </a:lnTo>
                  <a:lnTo>
                    <a:pt x="761048" y="1037472"/>
                  </a:lnTo>
                  <a:lnTo>
                    <a:pt x="714375" y="1065426"/>
                  </a:lnTo>
                  <a:lnTo>
                    <a:pt x="668973" y="1093698"/>
                  </a:lnTo>
                  <a:lnTo>
                    <a:pt x="625158" y="1121652"/>
                  </a:lnTo>
                  <a:lnTo>
                    <a:pt x="618343" y="1126266"/>
                  </a:lnTo>
                  <a:lnTo>
                    <a:pt x="629688" y="1134920"/>
                  </a:lnTo>
                  <a:lnTo>
                    <a:pt x="669382" y="1162867"/>
                  </a:lnTo>
                  <a:lnTo>
                    <a:pt x="710029" y="1191450"/>
                  </a:lnTo>
                  <a:lnTo>
                    <a:pt x="752263" y="1219397"/>
                  </a:lnTo>
                  <a:lnTo>
                    <a:pt x="784932" y="1240860"/>
                  </a:lnTo>
                  <a:lnTo>
                    <a:pt x="791475" y="1215707"/>
                  </a:lnTo>
                  <a:lnTo>
                    <a:pt x="803852" y="1169987"/>
                  </a:lnTo>
                  <a:lnTo>
                    <a:pt x="816863" y="1124902"/>
                  </a:lnTo>
                  <a:lnTo>
                    <a:pt x="830191" y="1080135"/>
                  </a:lnTo>
                  <a:lnTo>
                    <a:pt x="844471" y="1035685"/>
                  </a:lnTo>
                  <a:lnTo>
                    <a:pt x="859069" y="991870"/>
                  </a:lnTo>
                  <a:lnTo>
                    <a:pt x="863289" y="979742"/>
                  </a:lnTo>
                  <a:close/>
                  <a:moveTo>
                    <a:pt x="1657985" y="712821"/>
                  </a:moveTo>
                  <a:lnTo>
                    <a:pt x="1645285" y="713456"/>
                  </a:lnTo>
                  <a:lnTo>
                    <a:pt x="1632268" y="714092"/>
                  </a:lnTo>
                  <a:lnTo>
                    <a:pt x="1618615" y="715362"/>
                  </a:lnTo>
                  <a:lnTo>
                    <a:pt x="1604963" y="716315"/>
                  </a:lnTo>
                  <a:lnTo>
                    <a:pt x="1590675" y="717903"/>
                  </a:lnTo>
                  <a:lnTo>
                    <a:pt x="1561465" y="721715"/>
                  </a:lnTo>
                  <a:lnTo>
                    <a:pt x="1530668" y="726798"/>
                  </a:lnTo>
                  <a:lnTo>
                    <a:pt x="1498918" y="732516"/>
                  </a:lnTo>
                  <a:lnTo>
                    <a:pt x="1465898" y="739822"/>
                  </a:lnTo>
                  <a:lnTo>
                    <a:pt x="1431608" y="748081"/>
                  </a:lnTo>
                  <a:lnTo>
                    <a:pt x="1396048" y="757611"/>
                  </a:lnTo>
                  <a:lnTo>
                    <a:pt x="1359535" y="768094"/>
                  </a:lnTo>
                  <a:lnTo>
                    <a:pt x="1322070" y="779848"/>
                  </a:lnTo>
                  <a:lnTo>
                    <a:pt x="1283653" y="792554"/>
                  </a:lnTo>
                  <a:lnTo>
                    <a:pt x="1244283" y="806531"/>
                  </a:lnTo>
                  <a:lnTo>
                    <a:pt x="1203960" y="821461"/>
                  </a:lnTo>
                  <a:lnTo>
                    <a:pt x="1163003" y="837662"/>
                  </a:lnTo>
                  <a:lnTo>
                    <a:pt x="1121093" y="855134"/>
                  </a:lnTo>
                  <a:lnTo>
                    <a:pt x="1077913" y="873558"/>
                  </a:lnTo>
                  <a:lnTo>
                    <a:pt x="1035050" y="893253"/>
                  </a:lnTo>
                  <a:lnTo>
                    <a:pt x="990600" y="914537"/>
                  </a:lnTo>
                  <a:lnTo>
                    <a:pt x="964318" y="927496"/>
                  </a:lnTo>
                  <a:lnTo>
                    <a:pt x="968907" y="957263"/>
                  </a:lnTo>
                  <a:lnTo>
                    <a:pt x="978106" y="1009650"/>
                  </a:lnTo>
                  <a:lnTo>
                    <a:pt x="988255" y="1062990"/>
                  </a:lnTo>
                  <a:lnTo>
                    <a:pt x="999357" y="1117283"/>
                  </a:lnTo>
                  <a:lnTo>
                    <a:pt x="1010775" y="1168718"/>
                  </a:lnTo>
                  <a:lnTo>
                    <a:pt x="1023145" y="1219518"/>
                  </a:lnTo>
                  <a:lnTo>
                    <a:pt x="1035832" y="1268730"/>
                  </a:lnTo>
                  <a:lnTo>
                    <a:pt x="1049153" y="1316673"/>
                  </a:lnTo>
                  <a:lnTo>
                    <a:pt x="1062792" y="1363663"/>
                  </a:lnTo>
                  <a:lnTo>
                    <a:pt x="1075796" y="1405968"/>
                  </a:lnTo>
                  <a:lnTo>
                    <a:pt x="1117450" y="1427095"/>
                  </a:lnTo>
                  <a:lnTo>
                    <a:pt x="1161590" y="1447738"/>
                  </a:lnTo>
                  <a:lnTo>
                    <a:pt x="1191459" y="1461474"/>
                  </a:lnTo>
                  <a:lnTo>
                    <a:pt x="1221105" y="1447738"/>
                  </a:lnTo>
                  <a:lnTo>
                    <a:pt x="1264920" y="1427095"/>
                  </a:lnTo>
                  <a:lnTo>
                    <a:pt x="1309688" y="1404547"/>
                  </a:lnTo>
                  <a:lnTo>
                    <a:pt x="1355090" y="1381681"/>
                  </a:lnTo>
                  <a:lnTo>
                    <a:pt x="1400810" y="1356909"/>
                  </a:lnTo>
                  <a:lnTo>
                    <a:pt x="1446848" y="1331185"/>
                  </a:lnTo>
                  <a:lnTo>
                    <a:pt x="1494790" y="1303556"/>
                  </a:lnTo>
                  <a:lnTo>
                    <a:pt x="1541780" y="1275926"/>
                  </a:lnTo>
                  <a:lnTo>
                    <a:pt x="1586865" y="1247979"/>
                  </a:lnTo>
                  <a:lnTo>
                    <a:pt x="1630680" y="1219397"/>
                  </a:lnTo>
                  <a:lnTo>
                    <a:pt x="1672908" y="1191450"/>
                  </a:lnTo>
                  <a:lnTo>
                    <a:pt x="1713548" y="1162867"/>
                  </a:lnTo>
                  <a:lnTo>
                    <a:pt x="1752918" y="1134920"/>
                  </a:lnTo>
                  <a:lnTo>
                    <a:pt x="1790383" y="1106338"/>
                  </a:lnTo>
                  <a:lnTo>
                    <a:pt x="1826895" y="1078391"/>
                  </a:lnTo>
                  <a:lnTo>
                    <a:pt x="1861503" y="1050126"/>
                  </a:lnTo>
                  <a:lnTo>
                    <a:pt x="1894523" y="1022496"/>
                  </a:lnTo>
                  <a:lnTo>
                    <a:pt x="1925638" y="994867"/>
                  </a:lnTo>
                  <a:lnTo>
                    <a:pt x="1944123" y="978323"/>
                  </a:lnTo>
                  <a:lnTo>
                    <a:pt x="1941859" y="971868"/>
                  </a:lnTo>
                  <a:lnTo>
                    <a:pt x="1934879" y="954088"/>
                  </a:lnTo>
                  <a:lnTo>
                    <a:pt x="1927580" y="936308"/>
                  </a:lnTo>
                  <a:lnTo>
                    <a:pt x="1919965" y="918845"/>
                  </a:lnTo>
                  <a:lnTo>
                    <a:pt x="1912032" y="901383"/>
                  </a:lnTo>
                  <a:lnTo>
                    <a:pt x="1903465" y="884555"/>
                  </a:lnTo>
                  <a:lnTo>
                    <a:pt x="1894581" y="867728"/>
                  </a:lnTo>
                  <a:lnTo>
                    <a:pt x="1885379" y="851218"/>
                  </a:lnTo>
                  <a:lnTo>
                    <a:pt x="1875859" y="835025"/>
                  </a:lnTo>
                  <a:lnTo>
                    <a:pt x="1866023" y="818833"/>
                  </a:lnTo>
                  <a:lnTo>
                    <a:pt x="1855552" y="802958"/>
                  </a:lnTo>
                  <a:lnTo>
                    <a:pt x="1844763" y="787718"/>
                  </a:lnTo>
                  <a:lnTo>
                    <a:pt x="1833657" y="772478"/>
                  </a:lnTo>
                  <a:lnTo>
                    <a:pt x="1822234" y="757238"/>
                  </a:lnTo>
                  <a:lnTo>
                    <a:pt x="1812344" y="745258"/>
                  </a:lnTo>
                  <a:lnTo>
                    <a:pt x="1808481" y="742681"/>
                  </a:lnTo>
                  <a:lnTo>
                    <a:pt x="1802448" y="738869"/>
                  </a:lnTo>
                  <a:lnTo>
                    <a:pt x="1795463" y="734740"/>
                  </a:lnTo>
                  <a:lnTo>
                    <a:pt x="1788478" y="731881"/>
                  </a:lnTo>
                  <a:lnTo>
                    <a:pt x="1780858" y="728704"/>
                  </a:lnTo>
                  <a:lnTo>
                    <a:pt x="1772921" y="726163"/>
                  </a:lnTo>
                  <a:lnTo>
                    <a:pt x="1764348" y="723304"/>
                  </a:lnTo>
                  <a:lnTo>
                    <a:pt x="1755458" y="721080"/>
                  </a:lnTo>
                  <a:lnTo>
                    <a:pt x="1746251" y="719174"/>
                  </a:lnTo>
                  <a:lnTo>
                    <a:pt x="1736725" y="717586"/>
                  </a:lnTo>
                  <a:lnTo>
                    <a:pt x="1726565" y="715997"/>
                  </a:lnTo>
                  <a:lnTo>
                    <a:pt x="1716405" y="714727"/>
                  </a:lnTo>
                  <a:lnTo>
                    <a:pt x="1705293" y="714092"/>
                  </a:lnTo>
                  <a:lnTo>
                    <a:pt x="1694181" y="713456"/>
                  </a:lnTo>
                  <a:lnTo>
                    <a:pt x="1682433" y="712821"/>
                  </a:lnTo>
                  <a:lnTo>
                    <a:pt x="1670685" y="712821"/>
                  </a:lnTo>
                  <a:lnTo>
                    <a:pt x="1657985" y="712821"/>
                  </a:lnTo>
                  <a:close/>
                  <a:moveTo>
                    <a:pt x="868468" y="533737"/>
                  </a:moveTo>
                  <a:lnTo>
                    <a:pt x="865870" y="534988"/>
                  </a:lnTo>
                  <a:lnTo>
                    <a:pt x="848736" y="543243"/>
                  </a:lnTo>
                  <a:lnTo>
                    <a:pt x="831919" y="552133"/>
                  </a:lnTo>
                  <a:lnTo>
                    <a:pt x="815419" y="561340"/>
                  </a:lnTo>
                  <a:lnTo>
                    <a:pt x="799236" y="570865"/>
                  </a:lnTo>
                  <a:lnTo>
                    <a:pt x="783053" y="581025"/>
                  </a:lnTo>
                  <a:lnTo>
                    <a:pt x="767505" y="591503"/>
                  </a:lnTo>
                  <a:lnTo>
                    <a:pt x="751957" y="601980"/>
                  </a:lnTo>
                  <a:lnTo>
                    <a:pt x="736726" y="613410"/>
                  </a:lnTo>
                  <a:lnTo>
                    <a:pt x="721813" y="624840"/>
                  </a:lnTo>
                  <a:lnTo>
                    <a:pt x="707217" y="636270"/>
                  </a:lnTo>
                  <a:lnTo>
                    <a:pt x="692938" y="648653"/>
                  </a:lnTo>
                  <a:lnTo>
                    <a:pt x="678659" y="661035"/>
                  </a:lnTo>
                  <a:lnTo>
                    <a:pt x="665015" y="674053"/>
                  </a:lnTo>
                  <a:lnTo>
                    <a:pt x="651371" y="687070"/>
                  </a:lnTo>
                  <a:lnTo>
                    <a:pt x="638361" y="700405"/>
                  </a:lnTo>
                  <a:lnTo>
                    <a:pt x="625669" y="714375"/>
                  </a:lnTo>
                  <a:lnTo>
                    <a:pt x="612977" y="728028"/>
                  </a:lnTo>
                  <a:lnTo>
                    <a:pt x="601236" y="742633"/>
                  </a:lnTo>
                  <a:lnTo>
                    <a:pt x="589179" y="757238"/>
                  </a:lnTo>
                  <a:lnTo>
                    <a:pt x="577756" y="772478"/>
                  </a:lnTo>
                  <a:lnTo>
                    <a:pt x="566650" y="787718"/>
                  </a:lnTo>
                  <a:lnTo>
                    <a:pt x="555861" y="802958"/>
                  </a:lnTo>
                  <a:lnTo>
                    <a:pt x="545390" y="818833"/>
                  </a:lnTo>
                  <a:lnTo>
                    <a:pt x="535554" y="835025"/>
                  </a:lnTo>
                  <a:lnTo>
                    <a:pt x="525717" y="851218"/>
                  </a:lnTo>
                  <a:lnTo>
                    <a:pt x="516515" y="867728"/>
                  </a:lnTo>
                  <a:lnTo>
                    <a:pt x="507631" y="884555"/>
                  </a:lnTo>
                  <a:lnTo>
                    <a:pt x="499381" y="901383"/>
                  </a:lnTo>
                  <a:lnTo>
                    <a:pt x="491131" y="918845"/>
                  </a:lnTo>
                  <a:lnTo>
                    <a:pt x="483515" y="936308"/>
                  </a:lnTo>
                  <a:lnTo>
                    <a:pt x="476217" y="954088"/>
                  </a:lnTo>
                  <a:lnTo>
                    <a:pt x="469236" y="971868"/>
                  </a:lnTo>
                  <a:lnTo>
                    <a:pt x="463208" y="989965"/>
                  </a:lnTo>
                  <a:lnTo>
                    <a:pt x="460561" y="998051"/>
                  </a:lnTo>
                  <a:lnTo>
                    <a:pt x="488376" y="1022496"/>
                  </a:lnTo>
                  <a:lnTo>
                    <a:pt x="521402" y="1050126"/>
                  </a:lnTo>
                  <a:lnTo>
                    <a:pt x="556015" y="1078391"/>
                  </a:lnTo>
                  <a:lnTo>
                    <a:pt x="565691" y="1085860"/>
                  </a:lnTo>
                  <a:lnTo>
                    <a:pt x="569595" y="1083215"/>
                  </a:lnTo>
                  <a:lnTo>
                    <a:pt x="610235" y="1056214"/>
                  </a:lnTo>
                  <a:lnTo>
                    <a:pt x="651510" y="1030166"/>
                  </a:lnTo>
                  <a:lnTo>
                    <a:pt x="693420" y="1004435"/>
                  </a:lnTo>
                  <a:lnTo>
                    <a:pt x="735013" y="979340"/>
                  </a:lnTo>
                  <a:lnTo>
                    <a:pt x="777875" y="954880"/>
                  </a:lnTo>
                  <a:lnTo>
                    <a:pt x="818833" y="932008"/>
                  </a:lnTo>
                  <a:lnTo>
                    <a:pt x="860743" y="909454"/>
                  </a:lnTo>
                  <a:lnTo>
                    <a:pt x="895555" y="891247"/>
                  </a:lnTo>
                  <a:lnTo>
                    <a:pt x="895322" y="889635"/>
                  </a:lnTo>
                  <a:lnTo>
                    <a:pt x="888661" y="841693"/>
                  </a:lnTo>
                  <a:lnTo>
                    <a:pt x="883269" y="794068"/>
                  </a:lnTo>
                  <a:lnTo>
                    <a:pt x="878829" y="746443"/>
                  </a:lnTo>
                  <a:lnTo>
                    <a:pt x="875023" y="699453"/>
                  </a:lnTo>
                  <a:lnTo>
                    <a:pt x="871851" y="653415"/>
                  </a:lnTo>
                  <a:lnTo>
                    <a:pt x="869948" y="608013"/>
                  </a:lnTo>
                  <a:lnTo>
                    <a:pt x="868679" y="562928"/>
                  </a:lnTo>
                  <a:lnTo>
                    <a:pt x="868468" y="533737"/>
                  </a:lnTo>
                  <a:close/>
                  <a:moveTo>
                    <a:pt x="2020253" y="515954"/>
                  </a:moveTo>
                  <a:lnTo>
                    <a:pt x="2004378" y="516272"/>
                  </a:lnTo>
                  <a:lnTo>
                    <a:pt x="1987868" y="516589"/>
                  </a:lnTo>
                  <a:lnTo>
                    <a:pt x="1970723" y="517860"/>
                  </a:lnTo>
                  <a:lnTo>
                    <a:pt x="1952943" y="519448"/>
                  </a:lnTo>
                  <a:lnTo>
                    <a:pt x="1934845" y="521353"/>
                  </a:lnTo>
                  <a:lnTo>
                    <a:pt x="1916113" y="523576"/>
                  </a:lnTo>
                  <a:lnTo>
                    <a:pt x="1896428" y="526434"/>
                  </a:lnTo>
                  <a:lnTo>
                    <a:pt x="1876425" y="529610"/>
                  </a:lnTo>
                  <a:lnTo>
                    <a:pt x="1856105" y="533739"/>
                  </a:lnTo>
                  <a:lnTo>
                    <a:pt x="1835468" y="537867"/>
                  </a:lnTo>
                  <a:lnTo>
                    <a:pt x="1818071" y="541450"/>
                  </a:lnTo>
                  <a:lnTo>
                    <a:pt x="1830544" y="552491"/>
                  </a:lnTo>
                  <a:lnTo>
                    <a:pt x="1847045" y="568051"/>
                  </a:lnTo>
                  <a:lnTo>
                    <a:pt x="1862912" y="583929"/>
                  </a:lnTo>
                  <a:lnTo>
                    <a:pt x="1878779" y="599489"/>
                  </a:lnTo>
                  <a:lnTo>
                    <a:pt x="1893694" y="616002"/>
                  </a:lnTo>
                  <a:lnTo>
                    <a:pt x="1908609" y="632515"/>
                  </a:lnTo>
                  <a:lnTo>
                    <a:pt x="1923207" y="649345"/>
                  </a:lnTo>
                  <a:lnTo>
                    <a:pt x="1937169" y="667128"/>
                  </a:lnTo>
                  <a:lnTo>
                    <a:pt x="1950498" y="684911"/>
                  </a:lnTo>
                  <a:lnTo>
                    <a:pt x="1963826" y="703012"/>
                  </a:lnTo>
                  <a:lnTo>
                    <a:pt x="1976519" y="721430"/>
                  </a:lnTo>
                  <a:lnTo>
                    <a:pt x="1988895" y="739848"/>
                  </a:lnTo>
                  <a:lnTo>
                    <a:pt x="2000637" y="758901"/>
                  </a:lnTo>
                  <a:lnTo>
                    <a:pt x="2012378" y="778272"/>
                  </a:lnTo>
                  <a:lnTo>
                    <a:pt x="2023168" y="797961"/>
                  </a:lnTo>
                  <a:lnTo>
                    <a:pt x="2033323" y="817967"/>
                  </a:lnTo>
                  <a:lnTo>
                    <a:pt x="2043477" y="838290"/>
                  </a:lnTo>
                  <a:lnTo>
                    <a:pt x="2052998" y="858614"/>
                  </a:lnTo>
                  <a:lnTo>
                    <a:pt x="2056015" y="865380"/>
                  </a:lnTo>
                  <a:lnTo>
                    <a:pt x="2058035" y="863071"/>
                  </a:lnTo>
                  <a:lnTo>
                    <a:pt x="2069148" y="850367"/>
                  </a:lnTo>
                  <a:lnTo>
                    <a:pt x="2079308" y="837982"/>
                  </a:lnTo>
                  <a:lnTo>
                    <a:pt x="2089468" y="825914"/>
                  </a:lnTo>
                  <a:lnTo>
                    <a:pt x="2098675" y="813845"/>
                  </a:lnTo>
                  <a:lnTo>
                    <a:pt x="2107883" y="801777"/>
                  </a:lnTo>
                  <a:lnTo>
                    <a:pt x="2116455" y="790027"/>
                  </a:lnTo>
                  <a:lnTo>
                    <a:pt x="2124711" y="778594"/>
                  </a:lnTo>
                  <a:lnTo>
                    <a:pt x="2132331" y="766843"/>
                  </a:lnTo>
                  <a:lnTo>
                    <a:pt x="2139633" y="755728"/>
                  </a:lnTo>
                  <a:lnTo>
                    <a:pt x="2146301" y="744930"/>
                  </a:lnTo>
                  <a:lnTo>
                    <a:pt x="2152968" y="733815"/>
                  </a:lnTo>
                  <a:lnTo>
                    <a:pt x="2158683" y="723652"/>
                  </a:lnTo>
                  <a:lnTo>
                    <a:pt x="2164081" y="713172"/>
                  </a:lnTo>
                  <a:lnTo>
                    <a:pt x="2168843" y="702692"/>
                  </a:lnTo>
                  <a:lnTo>
                    <a:pt x="2173605" y="692847"/>
                  </a:lnTo>
                  <a:lnTo>
                    <a:pt x="2177415" y="683002"/>
                  </a:lnTo>
                  <a:lnTo>
                    <a:pt x="2179793" y="676516"/>
                  </a:lnTo>
                  <a:lnTo>
                    <a:pt x="2174979" y="674995"/>
                  </a:lnTo>
                  <a:lnTo>
                    <a:pt x="2169575" y="672452"/>
                  </a:lnTo>
                  <a:lnTo>
                    <a:pt x="2163853" y="669909"/>
                  </a:lnTo>
                  <a:lnTo>
                    <a:pt x="2158448" y="667048"/>
                  </a:lnTo>
                  <a:lnTo>
                    <a:pt x="2153044" y="664187"/>
                  </a:lnTo>
                  <a:lnTo>
                    <a:pt x="2147958" y="661008"/>
                  </a:lnTo>
                  <a:lnTo>
                    <a:pt x="2142871" y="657511"/>
                  </a:lnTo>
                  <a:lnTo>
                    <a:pt x="2138421" y="653696"/>
                  </a:lnTo>
                  <a:lnTo>
                    <a:pt x="2133652" y="649881"/>
                  </a:lnTo>
                  <a:lnTo>
                    <a:pt x="2129201" y="645749"/>
                  </a:lnTo>
                  <a:lnTo>
                    <a:pt x="2124751" y="640980"/>
                  </a:lnTo>
                  <a:lnTo>
                    <a:pt x="2120936" y="636529"/>
                  </a:lnTo>
                  <a:lnTo>
                    <a:pt x="2117121" y="631761"/>
                  </a:lnTo>
                  <a:lnTo>
                    <a:pt x="2113624" y="626675"/>
                  </a:lnTo>
                  <a:lnTo>
                    <a:pt x="2110763" y="621906"/>
                  </a:lnTo>
                  <a:lnTo>
                    <a:pt x="2107584" y="616502"/>
                  </a:lnTo>
                  <a:lnTo>
                    <a:pt x="2105041" y="611097"/>
                  </a:lnTo>
                  <a:lnTo>
                    <a:pt x="2102180" y="605375"/>
                  </a:lnTo>
                  <a:lnTo>
                    <a:pt x="2099955" y="599971"/>
                  </a:lnTo>
                  <a:lnTo>
                    <a:pt x="2098047" y="593613"/>
                  </a:lnTo>
                  <a:lnTo>
                    <a:pt x="2096458" y="587891"/>
                  </a:lnTo>
                  <a:lnTo>
                    <a:pt x="2094868" y="581851"/>
                  </a:lnTo>
                  <a:lnTo>
                    <a:pt x="2093597" y="575493"/>
                  </a:lnTo>
                  <a:lnTo>
                    <a:pt x="2092961" y="569135"/>
                  </a:lnTo>
                  <a:lnTo>
                    <a:pt x="2092643" y="562777"/>
                  </a:lnTo>
                  <a:lnTo>
                    <a:pt x="2092325" y="556419"/>
                  </a:lnTo>
                  <a:lnTo>
                    <a:pt x="2092643" y="549743"/>
                  </a:lnTo>
                  <a:lnTo>
                    <a:pt x="2092961" y="543385"/>
                  </a:lnTo>
                  <a:lnTo>
                    <a:pt x="2093597" y="537027"/>
                  </a:lnTo>
                  <a:lnTo>
                    <a:pt x="2094868" y="530987"/>
                  </a:lnTo>
                  <a:lnTo>
                    <a:pt x="2096458" y="524946"/>
                  </a:lnTo>
                  <a:lnTo>
                    <a:pt x="2096810" y="523537"/>
                  </a:lnTo>
                  <a:lnTo>
                    <a:pt x="2090103" y="521988"/>
                  </a:lnTo>
                  <a:lnTo>
                    <a:pt x="2078038" y="520083"/>
                  </a:lnTo>
                  <a:lnTo>
                    <a:pt x="2064385" y="518177"/>
                  </a:lnTo>
                  <a:lnTo>
                    <a:pt x="2050098" y="517225"/>
                  </a:lnTo>
                  <a:lnTo>
                    <a:pt x="2035493" y="516272"/>
                  </a:lnTo>
                  <a:lnTo>
                    <a:pt x="2020253" y="515954"/>
                  </a:lnTo>
                  <a:close/>
                  <a:moveTo>
                    <a:pt x="362307" y="515954"/>
                  </a:moveTo>
                  <a:lnTo>
                    <a:pt x="346747" y="516272"/>
                  </a:lnTo>
                  <a:lnTo>
                    <a:pt x="332140" y="517225"/>
                  </a:lnTo>
                  <a:lnTo>
                    <a:pt x="318485" y="518177"/>
                  </a:lnTo>
                  <a:lnTo>
                    <a:pt x="304830" y="520083"/>
                  </a:lnTo>
                  <a:lnTo>
                    <a:pt x="292128" y="521988"/>
                  </a:lnTo>
                  <a:lnTo>
                    <a:pt x="280378" y="524846"/>
                  </a:lnTo>
                  <a:lnTo>
                    <a:pt x="269264" y="527387"/>
                  </a:lnTo>
                  <a:lnTo>
                    <a:pt x="258467" y="530881"/>
                  </a:lnTo>
                  <a:lnTo>
                    <a:pt x="248941" y="534692"/>
                  </a:lnTo>
                  <a:lnTo>
                    <a:pt x="239732" y="539455"/>
                  </a:lnTo>
                  <a:lnTo>
                    <a:pt x="231158" y="543901"/>
                  </a:lnTo>
                  <a:lnTo>
                    <a:pt x="223536" y="548983"/>
                  </a:lnTo>
                  <a:lnTo>
                    <a:pt x="219442" y="552492"/>
                  </a:lnTo>
                  <a:lnTo>
                    <a:pt x="224375" y="554685"/>
                  </a:lnTo>
                  <a:lnTo>
                    <a:pt x="230097" y="556910"/>
                  </a:lnTo>
                  <a:lnTo>
                    <a:pt x="235502" y="560089"/>
                  </a:lnTo>
                  <a:lnTo>
                    <a:pt x="240906" y="562632"/>
                  </a:lnTo>
                  <a:lnTo>
                    <a:pt x="245992" y="566129"/>
                  </a:lnTo>
                  <a:lnTo>
                    <a:pt x="251079" y="569626"/>
                  </a:lnTo>
                  <a:lnTo>
                    <a:pt x="255529" y="573441"/>
                  </a:lnTo>
                  <a:lnTo>
                    <a:pt x="260298" y="577256"/>
                  </a:lnTo>
                  <a:lnTo>
                    <a:pt x="264749" y="581389"/>
                  </a:lnTo>
                  <a:lnTo>
                    <a:pt x="268563" y="585839"/>
                  </a:lnTo>
                  <a:lnTo>
                    <a:pt x="273014" y="590290"/>
                  </a:lnTo>
                  <a:lnTo>
                    <a:pt x="276829" y="595376"/>
                  </a:lnTo>
                  <a:lnTo>
                    <a:pt x="280326" y="600463"/>
                  </a:lnTo>
                  <a:lnTo>
                    <a:pt x="283187" y="605549"/>
                  </a:lnTo>
                  <a:lnTo>
                    <a:pt x="286366" y="610635"/>
                  </a:lnTo>
                  <a:lnTo>
                    <a:pt x="289227" y="616040"/>
                  </a:lnTo>
                  <a:lnTo>
                    <a:pt x="291770" y="621444"/>
                  </a:lnTo>
                  <a:lnTo>
                    <a:pt x="293995" y="627484"/>
                  </a:lnTo>
                  <a:lnTo>
                    <a:pt x="295903" y="633206"/>
                  </a:lnTo>
                  <a:lnTo>
                    <a:pt x="297492" y="639246"/>
                  </a:lnTo>
                  <a:lnTo>
                    <a:pt x="299082" y="645287"/>
                  </a:lnTo>
                  <a:lnTo>
                    <a:pt x="300353" y="651645"/>
                  </a:lnTo>
                  <a:lnTo>
                    <a:pt x="300989" y="657685"/>
                  </a:lnTo>
                  <a:lnTo>
                    <a:pt x="301307" y="664361"/>
                  </a:lnTo>
                  <a:lnTo>
                    <a:pt x="301625" y="670719"/>
                  </a:lnTo>
                  <a:lnTo>
                    <a:pt x="301307" y="677394"/>
                  </a:lnTo>
                  <a:lnTo>
                    <a:pt x="300989" y="683752"/>
                  </a:lnTo>
                  <a:lnTo>
                    <a:pt x="300353" y="690111"/>
                  </a:lnTo>
                  <a:lnTo>
                    <a:pt x="299082" y="696151"/>
                  </a:lnTo>
                  <a:lnTo>
                    <a:pt x="297492" y="702509"/>
                  </a:lnTo>
                  <a:lnTo>
                    <a:pt x="295903" y="708549"/>
                  </a:lnTo>
                  <a:lnTo>
                    <a:pt x="293995" y="714271"/>
                  </a:lnTo>
                  <a:lnTo>
                    <a:pt x="291770" y="719993"/>
                  </a:lnTo>
                  <a:lnTo>
                    <a:pt x="289227" y="725397"/>
                  </a:lnTo>
                  <a:lnTo>
                    <a:pt x="286366" y="730802"/>
                  </a:lnTo>
                  <a:lnTo>
                    <a:pt x="283187" y="736206"/>
                  </a:lnTo>
                  <a:lnTo>
                    <a:pt x="280326" y="741292"/>
                  </a:lnTo>
                  <a:lnTo>
                    <a:pt x="276829" y="746379"/>
                  </a:lnTo>
                  <a:lnTo>
                    <a:pt x="273014" y="751147"/>
                  </a:lnTo>
                  <a:lnTo>
                    <a:pt x="268563" y="755916"/>
                  </a:lnTo>
                  <a:lnTo>
                    <a:pt x="264749" y="760049"/>
                  </a:lnTo>
                  <a:lnTo>
                    <a:pt x="260298" y="764181"/>
                  </a:lnTo>
                  <a:lnTo>
                    <a:pt x="255529" y="768314"/>
                  </a:lnTo>
                  <a:lnTo>
                    <a:pt x="252928" y="770544"/>
                  </a:lnTo>
                  <a:lnTo>
                    <a:pt x="258150" y="778594"/>
                  </a:lnTo>
                  <a:lnTo>
                    <a:pt x="266089" y="790027"/>
                  </a:lnTo>
                  <a:lnTo>
                    <a:pt x="274980" y="801777"/>
                  </a:lnTo>
                  <a:lnTo>
                    <a:pt x="283872" y="813845"/>
                  </a:lnTo>
                  <a:lnTo>
                    <a:pt x="293398" y="825914"/>
                  </a:lnTo>
                  <a:lnTo>
                    <a:pt x="303560" y="837982"/>
                  </a:lnTo>
                  <a:lnTo>
                    <a:pt x="313722" y="850367"/>
                  </a:lnTo>
                  <a:lnTo>
                    <a:pt x="324518" y="863071"/>
                  </a:lnTo>
                  <a:lnTo>
                    <a:pt x="335950" y="875774"/>
                  </a:lnTo>
                  <a:lnTo>
                    <a:pt x="346135" y="886785"/>
                  </a:lnTo>
                  <a:lnTo>
                    <a:pt x="349213" y="879255"/>
                  </a:lnTo>
                  <a:lnTo>
                    <a:pt x="358415" y="858614"/>
                  </a:lnTo>
                  <a:lnTo>
                    <a:pt x="367936" y="838290"/>
                  </a:lnTo>
                  <a:lnTo>
                    <a:pt x="377773" y="817967"/>
                  </a:lnTo>
                  <a:lnTo>
                    <a:pt x="388245" y="797961"/>
                  </a:lnTo>
                  <a:lnTo>
                    <a:pt x="399352" y="778272"/>
                  </a:lnTo>
                  <a:lnTo>
                    <a:pt x="410459" y="758901"/>
                  </a:lnTo>
                  <a:lnTo>
                    <a:pt x="422518" y="739848"/>
                  </a:lnTo>
                  <a:lnTo>
                    <a:pt x="434894" y="721430"/>
                  </a:lnTo>
                  <a:lnTo>
                    <a:pt x="447270" y="703012"/>
                  </a:lnTo>
                  <a:lnTo>
                    <a:pt x="460915" y="684911"/>
                  </a:lnTo>
                  <a:lnTo>
                    <a:pt x="474244" y="667128"/>
                  </a:lnTo>
                  <a:lnTo>
                    <a:pt x="488524" y="649345"/>
                  </a:lnTo>
                  <a:lnTo>
                    <a:pt x="502804" y="632515"/>
                  </a:lnTo>
                  <a:lnTo>
                    <a:pt x="517719" y="616002"/>
                  </a:lnTo>
                  <a:lnTo>
                    <a:pt x="532634" y="599489"/>
                  </a:lnTo>
                  <a:lnTo>
                    <a:pt x="548501" y="583929"/>
                  </a:lnTo>
                  <a:lnTo>
                    <a:pt x="564050" y="568051"/>
                  </a:lnTo>
                  <a:lnTo>
                    <a:pt x="580552" y="552491"/>
                  </a:lnTo>
                  <a:lnTo>
                    <a:pt x="587136" y="546773"/>
                  </a:lnTo>
                  <a:lnTo>
                    <a:pt x="569035" y="542313"/>
                  </a:lnTo>
                  <a:lnTo>
                    <a:pt x="547441" y="537867"/>
                  </a:lnTo>
                  <a:lnTo>
                    <a:pt x="526483" y="533739"/>
                  </a:lnTo>
                  <a:lnTo>
                    <a:pt x="505842" y="529610"/>
                  </a:lnTo>
                  <a:lnTo>
                    <a:pt x="486153" y="526434"/>
                  </a:lnTo>
                  <a:lnTo>
                    <a:pt x="466783" y="523576"/>
                  </a:lnTo>
                  <a:lnTo>
                    <a:pt x="448047" y="521353"/>
                  </a:lnTo>
                  <a:lnTo>
                    <a:pt x="429629" y="519448"/>
                  </a:lnTo>
                  <a:lnTo>
                    <a:pt x="411846" y="517860"/>
                  </a:lnTo>
                  <a:lnTo>
                    <a:pt x="395015" y="516589"/>
                  </a:lnTo>
                  <a:lnTo>
                    <a:pt x="378503" y="516272"/>
                  </a:lnTo>
                  <a:lnTo>
                    <a:pt x="362307" y="515954"/>
                  </a:lnTo>
                  <a:close/>
                  <a:moveTo>
                    <a:pt x="1144594" y="459502"/>
                  </a:moveTo>
                  <a:lnTo>
                    <a:pt x="1125428" y="461328"/>
                  </a:lnTo>
                  <a:lnTo>
                    <a:pt x="1105755" y="463868"/>
                  </a:lnTo>
                  <a:lnTo>
                    <a:pt x="1086082" y="466408"/>
                  </a:lnTo>
                  <a:lnTo>
                    <a:pt x="1067043" y="469583"/>
                  </a:lnTo>
                  <a:lnTo>
                    <a:pt x="1047687" y="473393"/>
                  </a:lnTo>
                  <a:lnTo>
                    <a:pt x="1028649" y="477520"/>
                  </a:lnTo>
                  <a:lnTo>
                    <a:pt x="1009928" y="482283"/>
                  </a:lnTo>
                  <a:lnTo>
                    <a:pt x="990889" y="487045"/>
                  </a:lnTo>
                  <a:lnTo>
                    <a:pt x="972486" y="492443"/>
                  </a:lnTo>
                  <a:lnTo>
                    <a:pt x="954399" y="498793"/>
                  </a:lnTo>
                  <a:lnTo>
                    <a:pt x="935995" y="504825"/>
                  </a:lnTo>
                  <a:lnTo>
                    <a:pt x="932351" y="506258"/>
                  </a:lnTo>
                  <a:lnTo>
                    <a:pt x="932115" y="536258"/>
                  </a:lnTo>
                  <a:lnTo>
                    <a:pt x="932432" y="577533"/>
                  </a:lnTo>
                  <a:lnTo>
                    <a:pt x="933701" y="621030"/>
                  </a:lnTo>
                  <a:lnTo>
                    <a:pt x="935921" y="665163"/>
                  </a:lnTo>
                  <a:lnTo>
                    <a:pt x="939093" y="710883"/>
                  </a:lnTo>
                  <a:lnTo>
                    <a:pt x="942899" y="757873"/>
                  </a:lnTo>
                  <a:lnTo>
                    <a:pt x="944704" y="775147"/>
                  </a:lnTo>
                  <a:lnTo>
                    <a:pt x="957126" y="748030"/>
                  </a:lnTo>
                  <a:lnTo>
                    <a:pt x="966329" y="729615"/>
                  </a:lnTo>
                  <a:lnTo>
                    <a:pt x="974897" y="711517"/>
                  </a:lnTo>
                  <a:lnTo>
                    <a:pt x="984100" y="693420"/>
                  </a:lnTo>
                  <a:lnTo>
                    <a:pt x="992986" y="676275"/>
                  </a:lnTo>
                  <a:lnTo>
                    <a:pt x="1002189" y="659130"/>
                  </a:lnTo>
                  <a:lnTo>
                    <a:pt x="1012026" y="642620"/>
                  </a:lnTo>
                  <a:lnTo>
                    <a:pt x="1021229" y="626427"/>
                  </a:lnTo>
                  <a:lnTo>
                    <a:pt x="1030749" y="610235"/>
                  </a:lnTo>
                  <a:lnTo>
                    <a:pt x="1040269" y="594677"/>
                  </a:lnTo>
                  <a:lnTo>
                    <a:pt x="1049789" y="579755"/>
                  </a:lnTo>
                  <a:lnTo>
                    <a:pt x="1059627" y="564832"/>
                  </a:lnTo>
                  <a:lnTo>
                    <a:pt x="1069147" y="550862"/>
                  </a:lnTo>
                  <a:lnTo>
                    <a:pt x="1078985" y="537210"/>
                  </a:lnTo>
                  <a:lnTo>
                    <a:pt x="1088822" y="523557"/>
                  </a:lnTo>
                  <a:lnTo>
                    <a:pt x="1098660" y="511175"/>
                  </a:lnTo>
                  <a:lnTo>
                    <a:pt x="1108814" y="498792"/>
                  </a:lnTo>
                  <a:lnTo>
                    <a:pt x="1118652" y="487045"/>
                  </a:lnTo>
                  <a:lnTo>
                    <a:pt x="1129124" y="475932"/>
                  </a:lnTo>
                  <a:lnTo>
                    <a:pt x="1138962" y="465137"/>
                  </a:lnTo>
                  <a:lnTo>
                    <a:pt x="1144594" y="459502"/>
                  </a:lnTo>
                  <a:close/>
                  <a:moveTo>
                    <a:pt x="1249064" y="458616"/>
                  </a:moveTo>
                  <a:lnTo>
                    <a:pt x="1248761" y="458787"/>
                  </a:lnTo>
                  <a:lnTo>
                    <a:pt x="1241462" y="463232"/>
                  </a:lnTo>
                  <a:lnTo>
                    <a:pt x="1233846" y="468312"/>
                  </a:lnTo>
                  <a:lnTo>
                    <a:pt x="1226230" y="474027"/>
                  </a:lnTo>
                  <a:lnTo>
                    <a:pt x="1218614" y="480377"/>
                  </a:lnTo>
                  <a:lnTo>
                    <a:pt x="1210997" y="486727"/>
                  </a:lnTo>
                  <a:lnTo>
                    <a:pt x="1203064" y="493712"/>
                  </a:lnTo>
                  <a:lnTo>
                    <a:pt x="1195131" y="501015"/>
                  </a:lnTo>
                  <a:lnTo>
                    <a:pt x="1187197" y="508952"/>
                  </a:lnTo>
                  <a:lnTo>
                    <a:pt x="1178946" y="517525"/>
                  </a:lnTo>
                  <a:lnTo>
                    <a:pt x="1171013" y="526415"/>
                  </a:lnTo>
                  <a:lnTo>
                    <a:pt x="1162762" y="535940"/>
                  </a:lnTo>
                  <a:lnTo>
                    <a:pt x="1154829" y="545465"/>
                  </a:lnTo>
                  <a:lnTo>
                    <a:pt x="1146578" y="555942"/>
                  </a:lnTo>
                  <a:lnTo>
                    <a:pt x="1138327" y="566737"/>
                  </a:lnTo>
                  <a:lnTo>
                    <a:pt x="1130076" y="577850"/>
                  </a:lnTo>
                  <a:lnTo>
                    <a:pt x="1121825" y="589280"/>
                  </a:lnTo>
                  <a:lnTo>
                    <a:pt x="1105324" y="613727"/>
                  </a:lnTo>
                  <a:lnTo>
                    <a:pt x="1088187" y="640080"/>
                  </a:lnTo>
                  <a:lnTo>
                    <a:pt x="1071686" y="667702"/>
                  </a:lnTo>
                  <a:lnTo>
                    <a:pt x="1055184" y="697547"/>
                  </a:lnTo>
                  <a:lnTo>
                    <a:pt x="1038365" y="728662"/>
                  </a:lnTo>
                  <a:lnTo>
                    <a:pt x="1021864" y="761365"/>
                  </a:lnTo>
                  <a:lnTo>
                    <a:pt x="1005679" y="795337"/>
                  </a:lnTo>
                  <a:lnTo>
                    <a:pt x="989178" y="831215"/>
                  </a:lnTo>
                  <a:lnTo>
                    <a:pt x="981773" y="848753"/>
                  </a:lnTo>
                  <a:lnTo>
                    <a:pt x="987743" y="845921"/>
                  </a:lnTo>
                  <a:lnTo>
                    <a:pt x="1029970" y="826544"/>
                  </a:lnTo>
                  <a:lnTo>
                    <a:pt x="1072515" y="807167"/>
                  </a:lnTo>
                  <a:lnTo>
                    <a:pt x="1114743" y="789060"/>
                  </a:lnTo>
                  <a:lnTo>
                    <a:pt x="1157288" y="772224"/>
                  </a:lnTo>
                  <a:lnTo>
                    <a:pt x="1198880" y="755705"/>
                  </a:lnTo>
                  <a:lnTo>
                    <a:pt x="1240790" y="740140"/>
                  </a:lnTo>
                  <a:lnTo>
                    <a:pt x="1282065" y="726163"/>
                  </a:lnTo>
                  <a:lnTo>
                    <a:pt x="1322388" y="712503"/>
                  </a:lnTo>
                  <a:lnTo>
                    <a:pt x="1362393" y="700114"/>
                  </a:lnTo>
                  <a:lnTo>
                    <a:pt x="1382395" y="695032"/>
                  </a:lnTo>
                  <a:lnTo>
                    <a:pt x="1401445" y="689632"/>
                  </a:lnTo>
                  <a:lnTo>
                    <a:pt x="1421130" y="684231"/>
                  </a:lnTo>
                  <a:lnTo>
                    <a:pt x="1439863" y="679466"/>
                  </a:lnTo>
                  <a:lnTo>
                    <a:pt x="1459230" y="675019"/>
                  </a:lnTo>
                  <a:lnTo>
                    <a:pt x="1477645" y="670889"/>
                  </a:lnTo>
                  <a:lnTo>
                    <a:pt x="1496060" y="667077"/>
                  </a:lnTo>
                  <a:lnTo>
                    <a:pt x="1514475" y="663583"/>
                  </a:lnTo>
                  <a:lnTo>
                    <a:pt x="1532255" y="660407"/>
                  </a:lnTo>
                  <a:lnTo>
                    <a:pt x="1550035" y="657548"/>
                  </a:lnTo>
                  <a:lnTo>
                    <a:pt x="1567180" y="655006"/>
                  </a:lnTo>
                  <a:lnTo>
                    <a:pt x="1584643" y="653100"/>
                  </a:lnTo>
                  <a:lnTo>
                    <a:pt x="1601470" y="651194"/>
                  </a:lnTo>
                  <a:lnTo>
                    <a:pt x="1617663" y="649606"/>
                  </a:lnTo>
                  <a:lnTo>
                    <a:pt x="1633855" y="648653"/>
                  </a:lnTo>
                  <a:lnTo>
                    <a:pt x="1649413" y="648018"/>
                  </a:lnTo>
                  <a:lnTo>
                    <a:pt x="1665288" y="647700"/>
                  </a:lnTo>
                  <a:lnTo>
                    <a:pt x="1680211" y="647700"/>
                  </a:lnTo>
                  <a:lnTo>
                    <a:pt x="1694815" y="648018"/>
                  </a:lnTo>
                  <a:lnTo>
                    <a:pt x="1709103" y="648653"/>
                  </a:lnTo>
                  <a:lnTo>
                    <a:pt x="1719853" y="649848"/>
                  </a:lnTo>
                  <a:lnTo>
                    <a:pt x="1718475" y="648653"/>
                  </a:lnTo>
                  <a:lnTo>
                    <a:pt x="1704196" y="636270"/>
                  </a:lnTo>
                  <a:lnTo>
                    <a:pt x="1689600" y="624840"/>
                  </a:lnTo>
                  <a:lnTo>
                    <a:pt x="1674687" y="613410"/>
                  </a:lnTo>
                  <a:lnTo>
                    <a:pt x="1659139" y="601980"/>
                  </a:lnTo>
                  <a:lnTo>
                    <a:pt x="1643908" y="591503"/>
                  </a:lnTo>
                  <a:lnTo>
                    <a:pt x="1628042" y="581025"/>
                  </a:lnTo>
                  <a:lnTo>
                    <a:pt x="1612177" y="570865"/>
                  </a:lnTo>
                  <a:lnTo>
                    <a:pt x="1595994" y="561340"/>
                  </a:lnTo>
                  <a:lnTo>
                    <a:pt x="1579494" y="552133"/>
                  </a:lnTo>
                  <a:lnTo>
                    <a:pt x="1562360" y="543243"/>
                  </a:lnTo>
                  <a:lnTo>
                    <a:pt x="1545543" y="534988"/>
                  </a:lnTo>
                  <a:lnTo>
                    <a:pt x="1528408" y="526733"/>
                  </a:lnTo>
                  <a:lnTo>
                    <a:pt x="1510639" y="519113"/>
                  </a:lnTo>
                  <a:lnTo>
                    <a:pt x="1492869" y="511810"/>
                  </a:lnTo>
                  <a:lnTo>
                    <a:pt x="1475418" y="504825"/>
                  </a:lnTo>
                  <a:lnTo>
                    <a:pt x="1456697" y="498793"/>
                  </a:lnTo>
                  <a:lnTo>
                    <a:pt x="1438927" y="492443"/>
                  </a:lnTo>
                  <a:lnTo>
                    <a:pt x="1420523" y="487045"/>
                  </a:lnTo>
                  <a:lnTo>
                    <a:pt x="1401485" y="482283"/>
                  </a:lnTo>
                  <a:lnTo>
                    <a:pt x="1382764" y="477520"/>
                  </a:lnTo>
                  <a:lnTo>
                    <a:pt x="1363408" y="473393"/>
                  </a:lnTo>
                  <a:lnTo>
                    <a:pt x="1344370" y="469583"/>
                  </a:lnTo>
                  <a:lnTo>
                    <a:pt x="1325014" y="466408"/>
                  </a:lnTo>
                  <a:lnTo>
                    <a:pt x="1305658" y="463868"/>
                  </a:lnTo>
                  <a:lnTo>
                    <a:pt x="1285985" y="461328"/>
                  </a:lnTo>
                  <a:lnTo>
                    <a:pt x="1265995" y="459423"/>
                  </a:lnTo>
                  <a:lnTo>
                    <a:pt x="1249064" y="458616"/>
                  </a:lnTo>
                  <a:close/>
                  <a:moveTo>
                    <a:pt x="1092607" y="63500"/>
                  </a:moveTo>
                  <a:lnTo>
                    <a:pt x="1084677" y="63818"/>
                  </a:lnTo>
                  <a:lnTo>
                    <a:pt x="1076431" y="65088"/>
                  </a:lnTo>
                  <a:lnTo>
                    <a:pt x="1070087" y="66993"/>
                  </a:lnTo>
                  <a:lnTo>
                    <a:pt x="1063744" y="69215"/>
                  </a:lnTo>
                  <a:lnTo>
                    <a:pt x="1057400" y="71755"/>
                  </a:lnTo>
                  <a:lnTo>
                    <a:pt x="1051374" y="75247"/>
                  </a:lnTo>
                  <a:lnTo>
                    <a:pt x="1045347" y="79693"/>
                  </a:lnTo>
                  <a:lnTo>
                    <a:pt x="1039638" y="84137"/>
                  </a:lnTo>
                  <a:lnTo>
                    <a:pt x="1033929" y="89218"/>
                  </a:lnTo>
                  <a:lnTo>
                    <a:pt x="1028537" y="94932"/>
                  </a:lnTo>
                  <a:lnTo>
                    <a:pt x="1022828" y="100965"/>
                  </a:lnTo>
                  <a:lnTo>
                    <a:pt x="1017753" y="107950"/>
                  </a:lnTo>
                  <a:lnTo>
                    <a:pt x="1012361" y="115252"/>
                  </a:lnTo>
                  <a:lnTo>
                    <a:pt x="1007286" y="123508"/>
                  </a:lnTo>
                  <a:lnTo>
                    <a:pt x="1002528" y="131763"/>
                  </a:lnTo>
                  <a:lnTo>
                    <a:pt x="997771" y="140652"/>
                  </a:lnTo>
                  <a:lnTo>
                    <a:pt x="993013" y="150178"/>
                  </a:lnTo>
                  <a:lnTo>
                    <a:pt x="988572" y="160020"/>
                  </a:lnTo>
                  <a:lnTo>
                    <a:pt x="984449" y="170815"/>
                  </a:lnTo>
                  <a:lnTo>
                    <a:pt x="980009" y="181293"/>
                  </a:lnTo>
                  <a:lnTo>
                    <a:pt x="975885" y="193040"/>
                  </a:lnTo>
                  <a:lnTo>
                    <a:pt x="972079" y="204788"/>
                  </a:lnTo>
                  <a:lnTo>
                    <a:pt x="968590" y="217170"/>
                  </a:lnTo>
                  <a:lnTo>
                    <a:pt x="964784" y="230188"/>
                  </a:lnTo>
                  <a:lnTo>
                    <a:pt x="961612" y="243840"/>
                  </a:lnTo>
                  <a:lnTo>
                    <a:pt x="958123" y="257493"/>
                  </a:lnTo>
                  <a:lnTo>
                    <a:pt x="955269" y="271780"/>
                  </a:lnTo>
                  <a:lnTo>
                    <a:pt x="952414" y="286385"/>
                  </a:lnTo>
                  <a:lnTo>
                    <a:pt x="949877" y="301307"/>
                  </a:lnTo>
                  <a:lnTo>
                    <a:pt x="947022" y="317183"/>
                  </a:lnTo>
                  <a:lnTo>
                    <a:pt x="944802" y="333375"/>
                  </a:lnTo>
                  <a:lnTo>
                    <a:pt x="942987" y="349121"/>
                  </a:lnTo>
                  <a:lnTo>
                    <a:pt x="951519" y="346716"/>
                  </a:lnTo>
                  <a:lnTo>
                    <a:pt x="973415" y="340365"/>
                  </a:lnTo>
                  <a:lnTo>
                    <a:pt x="995629" y="334967"/>
                  </a:lnTo>
                  <a:lnTo>
                    <a:pt x="1018160" y="330203"/>
                  </a:lnTo>
                  <a:lnTo>
                    <a:pt x="1041326" y="325758"/>
                  </a:lnTo>
                  <a:lnTo>
                    <a:pt x="1063857" y="321947"/>
                  </a:lnTo>
                  <a:lnTo>
                    <a:pt x="1087340" y="318454"/>
                  </a:lnTo>
                  <a:lnTo>
                    <a:pt x="1110823" y="315913"/>
                  </a:lnTo>
                  <a:lnTo>
                    <a:pt x="1134306" y="314008"/>
                  </a:lnTo>
                  <a:lnTo>
                    <a:pt x="1158106" y="312420"/>
                  </a:lnTo>
                  <a:lnTo>
                    <a:pt x="1181906" y="311785"/>
                  </a:lnTo>
                  <a:lnTo>
                    <a:pt x="1205707" y="311150"/>
                  </a:lnTo>
                  <a:lnTo>
                    <a:pt x="1229824" y="311785"/>
                  </a:lnTo>
                  <a:lnTo>
                    <a:pt x="1253624" y="312420"/>
                  </a:lnTo>
                  <a:lnTo>
                    <a:pt x="1277107" y="314008"/>
                  </a:lnTo>
                  <a:lnTo>
                    <a:pt x="1300590" y="315913"/>
                  </a:lnTo>
                  <a:lnTo>
                    <a:pt x="1324073" y="318454"/>
                  </a:lnTo>
                  <a:lnTo>
                    <a:pt x="1345556" y="321650"/>
                  </a:lnTo>
                  <a:lnTo>
                    <a:pt x="1344129" y="319088"/>
                  </a:lnTo>
                  <a:lnTo>
                    <a:pt x="1333345" y="299720"/>
                  </a:lnTo>
                  <a:lnTo>
                    <a:pt x="1322561" y="281305"/>
                  </a:lnTo>
                  <a:lnTo>
                    <a:pt x="1311777" y="263208"/>
                  </a:lnTo>
                  <a:lnTo>
                    <a:pt x="1300993" y="246380"/>
                  </a:lnTo>
                  <a:lnTo>
                    <a:pt x="1290209" y="229870"/>
                  </a:lnTo>
                  <a:lnTo>
                    <a:pt x="1279425" y="213995"/>
                  </a:lnTo>
                  <a:lnTo>
                    <a:pt x="1268958" y="199073"/>
                  </a:lnTo>
                  <a:lnTo>
                    <a:pt x="1258174" y="185420"/>
                  </a:lnTo>
                  <a:lnTo>
                    <a:pt x="1247707" y="171450"/>
                  </a:lnTo>
                  <a:lnTo>
                    <a:pt x="1236923" y="158750"/>
                  </a:lnTo>
                  <a:lnTo>
                    <a:pt x="1226456" y="146685"/>
                  </a:lnTo>
                  <a:lnTo>
                    <a:pt x="1216306" y="135573"/>
                  </a:lnTo>
                  <a:lnTo>
                    <a:pt x="1205839" y="125413"/>
                  </a:lnTo>
                  <a:lnTo>
                    <a:pt x="1195373" y="115570"/>
                  </a:lnTo>
                  <a:lnTo>
                    <a:pt x="1185540" y="106998"/>
                  </a:lnTo>
                  <a:lnTo>
                    <a:pt x="1175390" y="98743"/>
                  </a:lnTo>
                  <a:lnTo>
                    <a:pt x="1165558" y="91440"/>
                  </a:lnTo>
                  <a:lnTo>
                    <a:pt x="1156042" y="85090"/>
                  </a:lnTo>
                  <a:lnTo>
                    <a:pt x="1146210" y="79058"/>
                  </a:lnTo>
                  <a:lnTo>
                    <a:pt x="1137012" y="74613"/>
                  </a:lnTo>
                  <a:lnTo>
                    <a:pt x="1127814" y="70802"/>
                  </a:lnTo>
                  <a:lnTo>
                    <a:pt x="1118615" y="67628"/>
                  </a:lnTo>
                  <a:lnTo>
                    <a:pt x="1109734" y="65405"/>
                  </a:lnTo>
                  <a:lnTo>
                    <a:pt x="1101171" y="63818"/>
                  </a:lnTo>
                  <a:lnTo>
                    <a:pt x="1092607" y="63500"/>
                  </a:lnTo>
                  <a:close/>
                  <a:moveTo>
                    <a:pt x="1090069" y="0"/>
                  </a:moveTo>
                  <a:lnTo>
                    <a:pt x="1096730" y="0"/>
                  </a:lnTo>
                  <a:lnTo>
                    <a:pt x="1103708" y="318"/>
                  </a:lnTo>
                  <a:lnTo>
                    <a:pt x="1110369" y="1270"/>
                  </a:lnTo>
                  <a:lnTo>
                    <a:pt x="1117030" y="1905"/>
                  </a:lnTo>
                  <a:lnTo>
                    <a:pt x="1124007" y="3175"/>
                  </a:lnTo>
                  <a:lnTo>
                    <a:pt x="1130985" y="4763"/>
                  </a:lnTo>
                  <a:lnTo>
                    <a:pt x="1137646" y="6668"/>
                  </a:lnTo>
                  <a:lnTo>
                    <a:pt x="1144307" y="8573"/>
                  </a:lnTo>
                  <a:lnTo>
                    <a:pt x="1151285" y="11113"/>
                  </a:lnTo>
                  <a:lnTo>
                    <a:pt x="1157945" y="13970"/>
                  </a:lnTo>
                  <a:lnTo>
                    <a:pt x="1164923" y="16510"/>
                  </a:lnTo>
                  <a:lnTo>
                    <a:pt x="1171584" y="20003"/>
                  </a:lnTo>
                  <a:lnTo>
                    <a:pt x="1178245" y="23495"/>
                  </a:lnTo>
                  <a:lnTo>
                    <a:pt x="1185223" y="27305"/>
                  </a:lnTo>
                  <a:lnTo>
                    <a:pt x="1192201" y="31115"/>
                  </a:lnTo>
                  <a:lnTo>
                    <a:pt x="1198544" y="35878"/>
                  </a:lnTo>
                  <a:lnTo>
                    <a:pt x="1211866" y="45085"/>
                  </a:lnTo>
                  <a:lnTo>
                    <a:pt x="1225504" y="55880"/>
                  </a:lnTo>
                  <a:lnTo>
                    <a:pt x="1238826" y="66993"/>
                  </a:lnTo>
                  <a:lnTo>
                    <a:pt x="1252465" y="79693"/>
                  </a:lnTo>
                  <a:lnTo>
                    <a:pt x="1265469" y="93028"/>
                  </a:lnTo>
                  <a:lnTo>
                    <a:pt x="1278473" y="107315"/>
                  </a:lnTo>
                  <a:lnTo>
                    <a:pt x="1291795" y="122555"/>
                  </a:lnTo>
                  <a:lnTo>
                    <a:pt x="1304482" y="138748"/>
                  </a:lnTo>
                  <a:lnTo>
                    <a:pt x="1317486" y="155575"/>
                  </a:lnTo>
                  <a:lnTo>
                    <a:pt x="1330490" y="173355"/>
                  </a:lnTo>
                  <a:lnTo>
                    <a:pt x="1343177" y="191770"/>
                  </a:lnTo>
                  <a:lnTo>
                    <a:pt x="1355865" y="211455"/>
                  </a:lnTo>
                  <a:lnTo>
                    <a:pt x="1368235" y="231458"/>
                  </a:lnTo>
                  <a:lnTo>
                    <a:pt x="1380604" y="252095"/>
                  </a:lnTo>
                  <a:lnTo>
                    <a:pt x="1392974" y="273685"/>
                  </a:lnTo>
                  <a:lnTo>
                    <a:pt x="1405027" y="295910"/>
                  </a:lnTo>
                  <a:lnTo>
                    <a:pt x="1417080" y="318770"/>
                  </a:lnTo>
                  <a:lnTo>
                    <a:pt x="1426613" y="337599"/>
                  </a:lnTo>
                  <a:lnTo>
                    <a:pt x="1437997" y="340365"/>
                  </a:lnTo>
                  <a:lnTo>
                    <a:pt x="1460211" y="346716"/>
                  </a:lnTo>
                  <a:lnTo>
                    <a:pt x="1482107" y="353067"/>
                  </a:lnTo>
                  <a:lnTo>
                    <a:pt x="1503686" y="360053"/>
                  </a:lnTo>
                  <a:lnTo>
                    <a:pt x="1525265" y="367675"/>
                  </a:lnTo>
                  <a:lnTo>
                    <a:pt x="1546527" y="375931"/>
                  </a:lnTo>
                  <a:lnTo>
                    <a:pt x="1567471" y="384188"/>
                  </a:lnTo>
                  <a:lnTo>
                    <a:pt x="1588098" y="393397"/>
                  </a:lnTo>
                  <a:lnTo>
                    <a:pt x="1608725" y="402606"/>
                  </a:lnTo>
                  <a:lnTo>
                    <a:pt x="1629035" y="413085"/>
                  </a:lnTo>
                  <a:lnTo>
                    <a:pt x="1649027" y="423564"/>
                  </a:lnTo>
                  <a:lnTo>
                    <a:pt x="1668385" y="434361"/>
                  </a:lnTo>
                  <a:lnTo>
                    <a:pt x="1687742" y="445793"/>
                  </a:lnTo>
                  <a:lnTo>
                    <a:pt x="1706465" y="457543"/>
                  </a:lnTo>
                  <a:lnTo>
                    <a:pt x="1725505" y="469927"/>
                  </a:lnTo>
                  <a:lnTo>
                    <a:pt x="1743911" y="482629"/>
                  </a:lnTo>
                  <a:lnTo>
                    <a:pt x="1754618" y="490712"/>
                  </a:lnTo>
                  <a:lnTo>
                    <a:pt x="1765300" y="488007"/>
                  </a:lnTo>
                  <a:lnTo>
                    <a:pt x="1790383" y="481655"/>
                  </a:lnTo>
                  <a:lnTo>
                    <a:pt x="1815148" y="475939"/>
                  </a:lnTo>
                  <a:lnTo>
                    <a:pt x="1839278" y="470858"/>
                  </a:lnTo>
                  <a:lnTo>
                    <a:pt x="1863090" y="466412"/>
                  </a:lnTo>
                  <a:lnTo>
                    <a:pt x="1886585" y="461965"/>
                  </a:lnTo>
                  <a:lnTo>
                    <a:pt x="1909128" y="458790"/>
                  </a:lnTo>
                  <a:lnTo>
                    <a:pt x="1931353" y="455931"/>
                  </a:lnTo>
                  <a:lnTo>
                    <a:pt x="1953260" y="453708"/>
                  </a:lnTo>
                  <a:lnTo>
                    <a:pt x="1974533" y="452120"/>
                  </a:lnTo>
                  <a:lnTo>
                    <a:pt x="1995170" y="450850"/>
                  </a:lnTo>
                  <a:lnTo>
                    <a:pt x="2015173" y="450850"/>
                  </a:lnTo>
                  <a:lnTo>
                    <a:pt x="2034858" y="450850"/>
                  </a:lnTo>
                  <a:lnTo>
                    <a:pt x="2053591" y="452120"/>
                  </a:lnTo>
                  <a:lnTo>
                    <a:pt x="2071688" y="453708"/>
                  </a:lnTo>
                  <a:lnTo>
                    <a:pt x="2089468" y="455931"/>
                  </a:lnTo>
                  <a:lnTo>
                    <a:pt x="2105978" y="459107"/>
                  </a:lnTo>
                  <a:lnTo>
                    <a:pt x="2122171" y="462918"/>
                  </a:lnTo>
                  <a:lnTo>
                    <a:pt x="2129791" y="465141"/>
                  </a:lnTo>
                  <a:lnTo>
                    <a:pt x="2130938" y="465476"/>
                  </a:lnTo>
                  <a:lnTo>
                    <a:pt x="2133652" y="462956"/>
                  </a:lnTo>
                  <a:lnTo>
                    <a:pt x="2138421" y="459141"/>
                  </a:lnTo>
                  <a:lnTo>
                    <a:pt x="2142871" y="455008"/>
                  </a:lnTo>
                  <a:lnTo>
                    <a:pt x="2147958" y="451829"/>
                  </a:lnTo>
                  <a:lnTo>
                    <a:pt x="2153044" y="448332"/>
                  </a:lnTo>
                  <a:lnTo>
                    <a:pt x="2158448" y="445153"/>
                  </a:lnTo>
                  <a:lnTo>
                    <a:pt x="2163853" y="442610"/>
                  </a:lnTo>
                  <a:lnTo>
                    <a:pt x="2169575" y="439749"/>
                  </a:lnTo>
                  <a:lnTo>
                    <a:pt x="2174979" y="437524"/>
                  </a:lnTo>
                  <a:lnTo>
                    <a:pt x="2181019" y="435616"/>
                  </a:lnTo>
                  <a:lnTo>
                    <a:pt x="2186741" y="434027"/>
                  </a:lnTo>
                  <a:lnTo>
                    <a:pt x="2193099" y="432437"/>
                  </a:lnTo>
                  <a:lnTo>
                    <a:pt x="2199140" y="431166"/>
                  </a:lnTo>
                  <a:lnTo>
                    <a:pt x="2205815" y="430530"/>
                  </a:lnTo>
                  <a:lnTo>
                    <a:pt x="2211856" y="430212"/>
                  </a:lnTo>
                  <a:lnTo>
                    <a:pt x="2218531" y="430212"/>
                  </a:lnTo>
                  <a:lnTo>
                    <a:pt x="2224890" y="430212"/>
                  </a:lnTo>
                  <a:lnTo>
                    <a:pt x="2231565" y="430530"/>
                  </a:lnTo>
                  <a:lnTo>
                    <a:pt x="2237606" y="431166"/>
                  </a:lnTo>
                  <a:lnTo>
                    <a:pt x="2243646" y="432437"/>
                  </a:lnTo>
                  <a:lnTo>
                    <a:pt x="2250004" y="434027"/>
                  </a:lnTo>
                  <a:lnTo>
                    <a:pt x="2256044" y="435616"/>
                  </a:lnTo>
                  <a:lnTo>
                    <a:pt x="2261766" y="437524"/>
                  </a:lnTo>
                  <a:lnTo>
                    <a:pt x="2267806" y="439749"/>
                  </a:lnTo>
                  <a:lnTo>
                    <a:pt x="2273528" y="442610"/>
                  </a:lnTo>
                  <a:lnTo>
                    <a:pt x="2278933" y="445153"/>
                  </a:lnTo>
                  <a:lnTo>
                    <a:pt x="2283701" y="448332"/>
                  </a:lnTo>
                  <a:lnTo>
                    <a:pt x="2289105" y="451829"/>
                  </a:lnTo>
                  <a:lnTo>
                    <a:pt x="2294192" y="455008"/>
                  </a:lnTo>
                  <a:lnTo>
                    <a:pt x="2298960" y="459141"/>
                  </a:lnTo>
                  <a:lnTo>
                    <a:pt x="2303411" y="462956"/>
                  </a:lnTo>
                  <a:lnTo>
                    <a:pt x="2307544" y="467089"/>
                  </a:lnTo>
                  <a:lnTo>
                    <a:pt x="2311994" y="471221"/>
                  </a:lnTo>
                  <a:lnTo>
                    <a:pt x="2315809" y="475990"/>
                  </a:lnTo>
                  <a:lnTo>
                    <a:pt x="2319624" y="480440"/>
                  </a:lnTo>
                  <a:lnTo>
                    <a:pt x="2323121" y="485527"/>
                  </a:lnTo>
                  <a:lnTo>
                    <a:pt x="2326618" y="490931"/>
                  </a:lnTo>
                  <a:lnTo>
                    <a:pt x="2329479" y="496017"/>
                  </a:lnTo>
                  <a:lnTo>
                    <a:pt x="2332340" y="501422"/>
                  </a:lnTo>
                  <a:lnTo>
                    <a:pt x="2334883" y="507144"/>
                  </a:lnTo>
                  <a:lnTo>
                    <a:pt x="2336790" y="512866"/>
                  </a:lnTo>
                  <a:lnTo>
                    <a:pt x="2339334" y="518588"/>
                  </a:lnTo>
                  <a:lnTo>
                    <a:pt x="2340923" y="524946"/>
                  </a:lnTo>
                  <a:lnTo>
                    <a:pt x="2342195" y="530987"/>
                  </a:lnTo>
                  <a:lnTo>
                    <a:pt x="2343466" y="537027"/>
                  </a:lnTo>
                  <a:lnTo>
                    <a:pt x="2344102" y="543385"/>
                  </a:lnTo>
                  <a:lnTo>
                    <a:pt x="2344738" y="549743"/>
                  </a:lnTo>
                  <a:lnTo>
                    <a:pt x="2344738" y="556419"/>
                  </a:lnTo>
                  <a:lnTo>
                    <a:pt x="2344738" y="562777"/>
                  </a:lnTo>
                  <a:lnTo>
                    <a:pt x="2344102" y="569135"/>
                  </a:lnTo>
                  <a:lnTo>
                    <a:pt x="2343466" y="575493"/>
                  </a:lnTo>
                  <a:lnTo>
                    <a:pt x="2342195" y="581851"/>
                  </a:lnTo>
                  <a:lnTo>
                    <a:pt x="2340923" y="587891"/>
                  </a:lnTo>
                  <a:lnTo>
                    <a:pt x="2339334" y="593613"/>
                  </a:lnTo>
                  <a:lnTo>
                    <a:pt x="2336790" y="599971"/>
                  </a:lnTo>
                  <a:lnTo>
                    <a:pt x="2334883" y="605375"/>
                  </a:lnTo>
                  <a:lnTo>
                    <a:pt x="2332340" y="611097"/>
                  </a:lnTo>
                  <a:lnTo>
                    <a:pt x="2329479" y="616502"/>
                  </a:lnTo>
                  <a:lnTo>
                    <a:pt x="2326618" y="621906"/>
                  </a:lnTo>
                  <a:lnTo>
                    <a:pt x="2323121" y="626675"/>
                  </a:lnTo>
                  <a:lnTo>
                    <a:pt x="2319624" y="631761"/>
                  </a:lnTo>
                  <a:lnTo>
                    <a:pt x="2315809" y="636529"/>
                  </a:lnTo>
                  <a:lnTo>
                    <a:pt x="2311994" y="640980"/>
                  </a:lnTo>
                  <a:lnTo>
                    <a:pt x="2307544" y="645749"/>
                  </a:lnTo>
                  <a:lnTo>
                    <a:pt x="2303411" y="649881"/>
                  </a:lnTo>
                  <a:lnTo>
                    <a:pt x="2298960" y="653696"/>
                  </a:lnTo>
                  <a:lnTo>
                    <a:pt x="2294192" y="657511"/>
                  </a:lnTo>
                  <a:lnTo>
                    <a:pt x="2289105" y="661008"/>
                  </a:lnTo>
                  <a:lnTo>
                    <a:pt x="2283701" y="664187"/>
                  </a:lnTo>
                  <a:lnTo>
                    <a:pt x="2278933" y="667048"/>
                  </a:lnTo>
                  <a:lnTo>
                    <a:pt x="2273528" y="669909"/>
                  </a:lnTo>
                  <a:lnTo>
                    <a:pt x="2267806" y="672452"/>
                  </a:lnTo>
                  <a:lnTo>
                    <a:pt x="2261766" y="674995"/>
                  </a:lnTo>
                  <a:lnTo>
                    <a:pt x="2256044" y="676903"/>
                  </a:lnTo>
                  <a:lnTo>
                    <a:pt x="2250004" y="678174"/>
                  </a:lnTo>
                  <a:lnTo>
                    <a:pt x="2247042" y="678915"/>
                  </a:lnTo>
                  <a:lnTo>
                    <a:pt x="2244725" y="687131"/>
                  </a:lnTo>
                  <a:lnTo>
                    <a:pt x="2240598" y="699199"/>
                  </a:lnTo>
                  <a:lnTo>
                    <a:pt x="2235835" y="711902"/>
                  </a:lnTo>
                  <a:lnTo>
                    <a:pt x="2230438" y="724605"/>
                  </a:lnTo>
                  <a:lnTo>
                    <a:pt x="2224405" y="737626"/>
                  </a:lnTo>
                  <a:lnTo>
                    <a:pt x="2217738" y="750647"/>
                  </a:lnTo>
                  <a:lnTo>
                    <a:pt x="2210753" y="763985"/>
                  </a:lnTo>
                  <a:lnTo>
                    <a:pt x="2203133" y="777324"/>
                  </a:lnTo>
                  <a:lnTo>
                    <a:pt x="2194878" y="790662"/>
                  </a:lnTo>
                  <a:lnTo>
                    <a:pt x="2185988" y="804318"/>
                  </a:lnTo>
                  <a:lnTo>
                    <a:pt x="2176781" y="817974"/>
                  </a:lnTo>
                  <a:lnTo>
                    <a:pt x="2166621" y="831948"/>
                  </a:lnTo>
                  <a:lnTo>
                    <a:pt x="2156778" y="845604"/>
                  </a:lnTo>
                  <a:lnTo>
                    <a:pt x="2145665" y="859577"/>
                  </a:lnTo>
                  <a:lnTo>
                    <a:pt x="2134235" y="873868"/>
                  </a:lnTo>
                  <a:lnTo>
                    <a:pt x="2122488" y="887524"/>
                  </a:lnTo>
                  <a:lnTo>
                    <a:pt x="2110105" y="901815"/>
                  </a:lnTo>
                  <a:lnTo>
                    <a:pt x="2097405" y="916107"/>
                  </a:lnTo>
                  <a:lnTo>
                    <a:pt x="2084388" y="930715"/>
                  </a:lnTo>
                  <a:lnTo>
                    <a:pt x="2082612" y="932575"/>
                  </a:lnTo>
                  <a:lnTo>
                    <a:pt x="2086318" y="943083"/>
                  </a:lnTo>
                  <a:lnTo>
                    <a:pt x="2093299" y="964677"/>
                  </a:lnTo>
                  <a:lnTo>
                    <a:pt x="2099963" y="986588"/>
                  </a:lnTo>
                  <a:lnTo>
                    <a:pt x="2105993" y="1008817"/>
                  </a:lnTo>
                  <a:lnTo>
                    <a:pt x="2111388" y="1031045"/>
                  </a:lnTo>
                  <a:lnTo>
                    <a:pt x="2116465" y="1053909"/>
                  </a:lnTo>
                  <a:lnTo>
                    <a:pt x="2120591" y="1076456"/>
                  </a:lnTo>
                  <a:lnTo>
                    <a:pt x="2124399" y="1099637"/>
                  </a:lnTo>
                  <a:lnTo>
                    <a:pt x="2127889" y="1123136"/>
                  </a:lnTo>
                  <a:lnTo>
                    <a:pt x="2130745" y="1146000"/>
                  </a:lnTo>
                  <a:lnTo>
                    <a:pt x="2132649" y="1169817"/>
                  </a:lnTo>
                  <a:lnTo>
                    <a:pt x="2133919" y="1193316"/>
                  </a:lnTo>
                  <a:lnTo>
                    <a:pt x="2134871" y="1217132"/>
                  </a:lnTo>
                  <a:lnTo>
                    <a:pt x="2135188" y="1241584"/>
                  </a:lnTo>
                  <a:lnTo>
                    <a:pt x="2134871" y="1265400"/>
                  </a:lnTo>
                  <a:lnTo>
                    <a:pt x="2133919" y="1289217"/>
                  </a:lnTo>
                  <a:lnTo>
                    <a:pt x="2132649" y="1313034"/>
                  </a:lnTo>
                  <a:lnTo>
                    <a:pt x="2130745" y="1336533"/>
                  </a:lnTo>
                  <a:lnTo>
                    <a:pt x="2127889" y="1359714"/>
                  </a:lnTo>
                  <a:lnTo>
                    <a:pt x="2124399" y="1382896"/>
                  </a:lnTo>
                  <a:lnTo>
                    <a:pt x="2120591" y="1406077"/>
                  </a:lnTo>
                  <a:lnTo>
                    <a:pt x="2116465" y="1428941"/>
                  </a:lnTo>
                  <a:lnTo>
                    <a:pt x="2111388" y="1451170"/>
                  </a:lnTo>
                  <a:lnTo>
                    <a:pt x="2105993" y="1474034"/>
                  </a:lnTo>
                  <a:lnTo>
                    <a:pt x="2099963" y="1495945"/>
                  </a:lnTo>
                  <a:lnTo>
                    <a:pt x="2093299" y="1517856"/>
                  </a:lnTo>
                  <a:lnTo>
                    <a:pt x="2086318" y="1539767"/>
                  </a:lnTo>
                  <a:lnTo>
                    <a:pt x="2078702" y="1561361"/>
                  </a:lnTo>
                  <a:lnTo>
                    <a:pt x="2070769" y="1582320"/>
                  </a:lnTo>
                  <a:lnTo>
                    <a:pt x="2062200" y="1603596"/>
                  </a:lnTo>
                  <a:lnTo>
                    <a:pt x="2052998" y="1624237"/>
                  </a:lnTo>
                  <a:lnTo>
                    <a:pt x="2043477" y="1644560"/>
                  </a:lnTo>
                  <a:lnTo>
                    <a:pt x="2033323" y="1664884"/>
                  </a:lnTo>
                  <a:lnTo>
                    <a:pt x="2023168" y="1684572"/>
                  </a:lnTo>
                  <a:lnTo>
                    <a:pt x="2016689" y="1696395"/>
                  </a:lnTo>
                  <a:lnTo>
                    <a:pt x="2018423" y="1698160"/>
                  </a:lnTo>
                  <a:lnTo>
                    <a:pt x="2036832" y="1716580"/>
                  </a:lnTo>
                  <a:lnTo>
                    <a:pt x="2054606" y="1735318"/>
                  </a:lnTo>
                  <a:lnTo>
                    <a:pt x="2071746" y="1753738"/>
                  </a:lnTo>
                  <a:lnTo>
                    <a:pt x="2088250" y="1772158"/>
                  </a:lnTo>
                  <a:lnTo>
                    <a:pt x="2103802" y="1790578"/>
                  </a:lnTo>
                  <a:lnTo>
                    <a:pt x="2119037" y="1808998"/>
                  </a:lnTo>
                  <a:lnTo>
                    <a:pt x="2133320" y="1827100"/>
                  </a:lnTo>
                  <a:lnTo>
                    <a:pt x="2146650" y="1845202"/>
                  </a:lnTo>
                  <a:lnTo>
                    <a:pt x="2159346" y="1862987"/>
                  </a:lnTo>
                  <a:lnTo>
                    <a:pt x="2171407" y="1880454"/>
                  </a:lnTo>
                  <a:lnTo>
                    <a:pt x="2182516" y="1898239"/>
                  </a:lnTo>
                  <a:lnTo>
                    <a:pt x="2192990" y="1915707"/>
                  </a:lnTo>
                  <a:lnTo>
                    <a:pt x="2202194" y="1932539"/>
                  </a:lnTo>
                  <a:lnTo>
                    <a:pt x="2210447" y="1949371"/>
                  </a:lnTo>
                  <a:lnTo>
                    <a:pt x="2218381" y="1965885"/>
                  </a:lnTo>
                  <a:lnTo>
                    <a:pt x="2224729" y="1982400"/>
                  </a:lnTo>
                  <a:lnTo>
                    <a:pt x="2230442" y="1998279"/>
                  </a:lnTo>
                  <a:lnTo>
                    <a:pt x="2235203" y="2014476"/>
                  </a:lnTo>
                  <a:lnTo>
                    <a:pt x="2237107" y="2022098"/>
                  </a:lnTo>
                  <a:lnTo>
                    <a:pt x="2238695" y="2029720"/>
                  </a:lnTo>
                  <a:lnTo>
                    <a:pt x="2240281" y="2037342"/>
                  </a:lnTo>
                  <a:lnTo>
                    <a:pt x="2241234" y="2044647"/>
                  </a:lnTo>
                  <a:lnTo>
                    <a:pt x="2242186" y="2052586"/>
                  </a:lnTo>
                  <a:lnTo>
                    <a:pt x="2242821" y="2059891"/>
                  </a:lnTo>
                  <a:lnTo>
                    <a:pt x="2243138" y="2067195"/>
                  </a:lnTo>
                  <a:lnTo>
                    <a:pt x="2243138" y="2074500"/>
                  </a:lnTo>
                  <a:lnTo>
                    <a:pt x="2243138" y="2081169"/>
                  </a:lnTo>
                  <a:lnTo>
                    <a:pt x="2242821" y="2088473"/>
                  </a:lnTo>
                  <a:lnTo>
                    <a:pt x="2242186" y="2095460"/>
                  </a:lnTo>
                  <a:lnTo>
                    <a:pt x="2240916" y="2102130"/>
                  </a:lnTo>
                  <a:lnTo>
                    <a:pt x="2239647" y="2108799"/>
                  </a:lnTo>
                  <a:lnTo>
                    <a:pt x="2237742" y="2115468"/>
                  </a:lnTo>
                  <a:lnTo>
                    <a:pt x="2235838" y="2122138"/>
                  </a:lnTo>
                  <a:lnTo>
                    <a:pt x="2233934" y="2128489"/>
                  </a:lnTo>
                  <a:lnTo>
                    <a:pt x="2231395" y="2134841"/>
                  </a:lnTo>
                  <a:lnTo>
                    <a:pt x="2228538" y="2141193"/>
                  </a:lnTo>
                  <a:lnTo>
                    <a:pt x="2225681" y="2147545"/>
                  </a:lnTo>
                  <a:lnTo>
                    <a:pt x="2222190" y="2153261"/>
                  </a:lnTo>
                  <a:lnTo>
                    <a:pt x="2216477" y="2162471"/>
                  </a:lnTo>
                  <a:lnTo>
                    <a:pt x="2209812" y="2170728"/>
                  </a:lnTo>
                  <a:lnTo>
                    <a:pt x="2202512" y="2178986"/>
                  </a:lnTo>
                  <a:lnTo>
                    <a:pt x="2194894" y="2186608"/>
                  </a:lnTo>
                  <a:lnTo>
                    <a:pt x="2186325" y="2193595"/>
                  </a:lnTo>
                  <a:lnTo>
                    <a:pt x="2177438" y="2199946"/>
                  </a:lnTo>
                  <a:lnTo>
                    <a:pt x="2168233" y="2206298"/>
                  </a:lnTo>
                  <a:lnTo>
                    <a:pt x="2158394" y="2211697"/>
                  </a:lnTo>
                  <a:lnTo>
                    <a:pt x="2147920" y="2216461"/>
                  </a:lnTo>
                  <a:lnTo>
                    <a:pt x="2137129" y="2221225"/>
                  </a:lnTo>
                  <a:lnTo>
                    <a:pt x="2125703" y="2225036"/>
                  </a:lnTo>
                  <a:lnTo>
                    <a:pt x="2113641" y="2228529"/>
                  </a:lnTo>
                  <a:lnTo>
                    <a:pt x="2100946" y="2231705"/>
                  </a:lnTo>
                  <a:lnTo>
                    <a:pt x="2088250" y="2234246"/>
                  </a:lnTo>
                  <a:lnTo>
                    <a:pt x="2074919" y="2236151"/>
                  </a:lnTo>
                  <a:lnTo>
                    <a:pt x="2061272" y="2237739"/>
                  </a:lnTo>
                  <a:lnTo>
                    <a:pt x="2047306" y="2239327"/>
                  </a:lnTo>
                  <a:lnTo>
                    <a:pt x="2032706" y="2239962"/>
                  </a:lnTo>
                  <a:lnTo>
                    <a:pt x="2017471" y="2239962"/>
                  </a:lnTo>
                  <a:lnTo>
                    <a:pt x="2001919" y="2239962"/>
                  </a:lnTo>
                  <a:lnTo>
                    <a:pt x="1986049" y="2239645"/>
                  </a:lnTo>
                  <a:lnTo>
                    <a:pt x="1970180" y="2238374"/>
                  </a:lnTo>
                  <a:lnTo>
                    <a:pt x="1953675" y="2237421"/>
                  </a:lnTo>
                  <a:lnTo>
                    <a:pt x="1937171" y="2235516"/>
                  </a:lnTo>
                  <a:lnTo>
                    <a:pt x="1919714" y="2233610"/>
                  </a:lnTo>
                  <a:lnTo>
                    <a:pt x="1901940" y="2230752"/>
                  </a:lnTo>
                  <a:lnTo>
                    <a:pt x="1884483" y="2228211"/>
                  </a:lnTo>
                  <a:lnTo>
                    <a:pt x="1866392" y="2224718"/>
                  </a:lnTo>
                  <a:lnTo>
                    <a:pt x="1847983" y="2221225"/>
                  </a:lnTo>
                  <a:lnTo>
                    <a:pt x="1828940" y="2217096"/>
                  </a:lnTo>
                  <a:lnTo>
                    <a:pt x="1810213" y="2212650"/>
                  </a:lnTo>
                  <a:lnTo>
                    <a:pt x="1791170" y="2208204"/>
                  </a:lnTo>
                  <a:lnTo>
                    <a:pt x="1771491" y="2203122"/>
                  </a:lnTo>
                  <a:lnTo>
                    <a:pt x="1751813" y="2197723"/>
                  </a:lnTo>
                  <a:lnTo>
                    <a:pt x="1732135" y="2192007"/>
                  </a:lnTo>
                  <a:lnTo>
                    <a:pt x="1711822" y="2185973"/>
                  </a:lnTo>
                  <a:lnTo>
                    <a:pt x="1691508" y="2179303"/>
                  </a:lnTo>
                  <a:lnTo>
                    <a:pt x="1671195" y="2172634"/>
                  </a:lnTo>
                  <a:lnTo>
                    <a:pt x="1650882" y="2165965"/>
                  </a:lnTo>
                  <a:lnTo>
                    <a:pt x="1629617" y="2158660"/>
                  </a:lnTo>
                  <a:lnTo>
                    <a:pt x="1587721" y="2143098"/>
                  </a:lnTo>
                  <a:lnTo>
                    <a:pt x="1545507" y="2126584"/>
                  </a:lnTo>
                  <a:lnTo>
                    <a:pt x="1521352" y="2116558"/>
                  </a:lnTo>
                  <a:lnTo>
                    <a:pt x="1503686" y="2122797"/>
                  </a:lnTo>
                  <a:lnTo>
                    <a:pt x="1482107" y="2129783"/>
                  </a:lnTo>
                  <a:lnTo>
                    <a:pt x="1460211" y="2136134"/>
                  </a:lnTo>
                  <a:lnTo>
                    <a:pt x="1437997" y="2142485"/>
                  </a:lnTo>
                  <a:lnTo>
                    <a:pt x="1415784" y="2147884"/>
                  </a:lnTo>
                  <a:lnTo>
                    <a:pt x="1393253" y="2152647"/>
                  </a:lnTo>
                  <a:lnTo>
                    <a:pt x="1370087" y="2157093"/>
                  </a:lnTo>
                  <a:lnTo>
                    <a:pt x="1347556" y="2160903"/>
                  </a:lnTo>
                  <a:lnTo>
                    <a:pt x="1324073" y="2164079"/>
                  </a:lnTo>
                  <a:lnTo>
                    <a:pt x="1300590" y="2166619"/>
                  </a:lnTo>
                  <a:lnTo>
                    <a:pt x="1277107" y="2168842"/>
                  </a:lnTo>
                  <a:lnTo>
                    <a:pt x="1253624" y="2170430"/>
                  </a:lnTo>
                  <a:lnTo>
                    <a:pt x="1235048" y="2171174"/>
                  </a:lnTo>
                  <a:lnTo>
                    <a:pt x="1225595" y="2188845"/>
                  </a:lnTo>
                  <a:lnTo>
                    <a:pt x="1213536" y="2210752"/>
                  </a:lnTo>
                  <a:lnTo>
                    <a:pt x="1201160" y="2232342"/>
                  </a:lnTo>
                  <a:lnTo>
                    <a:pt x="1189101" y="2252980"/>
                  </a:lnTo>
                  <a:lnTo>
                    <a:pt x="1176408" y="2273617"/>
                  </a:lnTo>
                  <a:lnTo>
                    <a:pt x="1163714" y="2292667"/>
                  </a:lnTo>
                  <a:lnTo>
                    <a:pt x="1151020" y="2311082"/>
                  </a:lnTo>
                  <a:lnTo>
                    <a:pt x="1138327" y="2328862"/>
                  </a:lnTo>
                  <a:lnTo>
                    <a:pt x="1125316" y="2346007"/>
                  </a:lnTo>
                  <a:lnTo>
                    <a:pt x="1112305" y="2362200"/>
                  </a:lnTo>
                  <a:lnTo>
                    <a:pt x="1098977" y="2377122"/>
                  </a:lnTo>
                  <a:lnTo>
                    <a:pt x="1085966" y="2391410"/>
                  </a:lnTo>
                  <a:lnTo>
                    <a:pt x="1072638" y="2404745"/>
                  </a:lnTo>
                  <a:lnTo>
                    <a:pt x="1059627" y="2417445"/>
                  </a:lnTo>
                  <a:lnTo>
                    <a:pt x="1045981" y="2429192"/>
                  </a:lnTo>
                  <a:lnTo>
                    <a:pt x="1032653" y="2439352"/>
                  </a:lnTo>
                  <a:lnTo>
                    <a:pt x="1019325" y="2449195"/>
                  </a:lnTo>
                  <a:lnTo>
                    <a:pt x="1012343" y="2453322"/>
                  </a:lnTo>
                  <a:lnTo>
                    <a:pt x="1005679" y="2457450"/>
                  </a:lnTo>
                  <a:lnTo>
                    <a:pt x="998698" y="2460942"/>
                  </a:lnTo>
                  <a:lnTo>
                    <a:pt x="992034" y="2464752"/>
                  </a:lnTo>
                  <a:lnTo>
                    <a:pt x="985370" y="2467927"/>
                  </a:lnTo>
                  <a:lnTo>
                    <a:pt x="978388" y="2471102"/>
                  </a:lnTo>
                  <a:lnTo>
                    <a:pt x="971407" y="2473642"/>
                  </a:lnTo>
                  <a:lnTo>
                    <a:pt x="965060" y="2475865"/>
                  </a:lnTo>
                  <a:lnTo>
                    <a:pt x="958078" y="2477770"/>
                  </a:lnTo>
                  <a:lnTo>
                    <a:pt x="951097" y="2479992"/>
                  </a:lnTo>
                  <a:lnTo>
                    <a:pt x="944750" y="2481262"/>
                  </a:lnTo>
                  <a:lnTo>
                    <a:pt x="937769" y="2482532"/>
                  </a:lnTo>
                  <a:lnTo>
                    <a:pt x="930787" y="2483802"/>
                  </a:lnTo>
                  <a:lnTo>
                    <a:pt x="924440" y="2484120"/>
                  </a:lnTo>
                  <a:lnTo>
                    <a:pt x="917459" y="2484437"/>
                  </a:lnTo>
                  <a:lnTo>
                    <a:pt x="910478" y="2484437"/>
                  </a:lnTo>
                  <a:lnTo>
                    <a:pt x="903813" y="2484120"/>
                  </a:lnTo>
                  <a:lnTo>
                    <a:pt x="897149" y="2483167"/>
                  </a:lnTo>
                  <a:lnTo>
                    <a:pt x="890168" y="2482532"/>
                  </a:lnTo>
                  <a:lnTo>
                    <a:pt x="883504" y="2480945"/>
                  </a:lnTo>
                  <a:lnTo>
                    <a:pt x="872714" y="2478405"/>
                  </a:lnTo>
                  <a:lnTo>
                    <a:pt x="862559" y="2474912"/>
                  </a:lnTo>
                  <a:lnTo>
                    <a:pt x="852722" y="2471102"/>
                  </a:lnTo>
                  <a:lnTo>
                    <a:pt x="843202" y="2466022"/>
                  </a:lnTo>
                  <a:lnTo>
                    <a:pt x="833682" y="2460307"/>
                  </a:lnTo>
                  <a:lnTo>
                    <a:pt x="824796" y="2453957"/>
                  </a:lnTo>
                  <a:lnTo>
                    <a:pt x="815911" y="2447290"/>
                  </a:lnTo>
                  <a:lnTo>
                    <a:pt x="807977" y="2439352"/>
                  </a:lnTo>
                  <a:lnTo>
                    <a:pt x="799726" y="2431097"/>
                  </a:lnTo>
                  <a:lnTo>
                    <a:pt x="792110" y="2422207"/>
                  </a:lnTo>
                  <a:lnTo>
                    <a:pt x="784494" y="2412682"/>
                  </a:lnTo>
                  <a:lnTo>
                    <a:pt x="777513" y="2402205"/>
                  </a:lnTo>
                  <a:lnTo>
                    <a:pt x="770531" y="2391410"/>
                  </a:lnTo>
                  <a:lnTo>
                    <a:pt x="764184" y="2380297"/>
                  </a:lnTo>
                  <a:lnTo>
                    <a:pt x="757520" y="2368550"/>
                  </a:lnTo>
                  <a:lnTo>
                    <a:pt x="751808" y="2355850"/>
                  </a:lnTo>
                  <a:lnTo>
                    <a:pt x="746096" y="2342515"/>
                  </a:lnTo>
                  <a:lnTo>
                    <a:pt x="740701" y="2329180"/>
                  </a:lnTo>
                  <a:lnTo>
                    <a:pt x="735624" y="2314892"/>
                  </a:lnTo>
                  <a:lnTo>
                    <a:pt x="730864" y="2300287"/>
                  </a:lnTo>
                  <a:lnTo>
                    <a:pt x="726104" y="2285365"/>
                  </a:lnTo>
                  <a:lnTo>
                    <a:pt x="721978" y="2269490"/>
                  </a:lnTo>
                  <a:lnTo>
                    <a:pt x="718170" y="2253615"/>
                  </a:lnTo>
                  <a:lnTo>
                    <a:pt x="714362" y="2237105"/>
                  </a:lnTo>
                  <a:lnTo>
                    <a:pt x="710871" y="2219960"/>
                  </a:lnTo>
                  <a:lnTo>
                    <a:pt x="707698" y="2202815"/>
                  </a:lnTo>
                  <a:lnTo>
                    <a:pt x="704525" y="2185035"/>
                  </a:lnTo>
                  <a:lnTo>
                    <a:pt x="701986" y="2166620"/>
                  </a:lnTo>
                  <a:lnTo>
                    <a:pt x="699765" y="2148205"/>
                  </a:lnTo>
                  <a:lnTo>
                    <a:pt x="697226" y="2128837"/>
                  </a:lnTo>
                  <a:lnTo>
                    <a:pt x="695322" y="2109787"/>
                  </a:lnTo>
                  <a:lnTo>
                    <a:pt x="693735" y="2090102"/>
                  </a:lnTo>
                  <a:lnTo>
                    <a:pt x="692466" y="2070100"/>
                  </a:lnTo>
                  <a:lnTo>
                    <a:pt x="691196" y="2049780"/>
                  </a:lnTo>
                  <a:lnTo>
                    <a:pt x="689927" y="2029142"/>
                  </a:lnTo>
                  <a:lnTo>
                    <a:pt x="689723" y="2015447"/>
                  </a:lnTo>
                  <a:lnTo>
                    <a:pt x="685908" y="2012923"/>
                  </a:lnTo>
                  <a:lnTo>
                    <a:pt x="667502" y="1999903"/>
                  </a:lnTo>
                  <a:lnTo>
                    <a:pt x="649414" y="1986884"/>
                  </a:lnTo>
                  <a:lnTo>
                    <a:pt x="631643" y="1973229"/>
                  </a:lnTo>
                  <a:lnTo>
                    <a:pt x="614507" y="1958939"/>
                  </a:lnTo>
                  <a:lnTo>
                    <a:pt x="597371" y="1944966"/>
                  </a:lnTo>
                  <a:lnTo>
                    <a:pt x="580552" y="1929724"/>
                  </a:lnTo>
                  <a:lnTo>
                    <a:pt x="564050" y="1914799"/>
                  </a:lnTo>
                  <a:lnTo>
                    <a:pt x="548501" y="1899239"/>
                  </a:lnTo>
                  <a:lnTo>
                    <a:pt x="532634" y="1883043"/>
                  </a:lnTo>
                  <a:lnTo>
                    <a:pt x="517719" y="1866848"/>
                  </a:lnTo>
                  <a:lnTo>
                    <a:pt x="502852" y="1850389"/>
                  </a:lnTo>
                  <a:lnTo>
                    <a:pt x="490220" y="1853864"/>
                  </a:lnTo>
                  <a:lnTo>
                    <a:pt x="465455" y="1859900"/>
                  </a:lnTo>
                  <a:lnTo>
                    <a:pt x="440690" y="1865300"/>
                  </a:lnTo>
                  <a:lnTo>
                    <a:pt x="416560" y="1870700"/>
                  </a:lnTo>
                  <a:lnTo>
                    <a:pt x="392748" y="1875465"/>
                  </a:lnTo>
                  <a:lnTo>
                    <a:pt x="369253" y="1879277"/>
                  </a:lnTo>
                  <a:lnTo>
                    <a:pt x="346710" y="1882772"/>
                  </a:lnTo>
                  <a:lnTo>
                    <a:pt x="324485" y="1885631"/>
                  </a:lnTo>
                  <a:lnTo>
                    <a:pt x="302578" y="1887537"/>
                  </a:lnTo>
                  <a:lnTo>
                    <a:pt x="281305" y="1889443"/>
                  </a:lnTo>
                  <a:lnTo>
                    <a:pt x="260668" y="1890396"/>
                  </a:lnTo>
                  <a:lnTo>
                    <a:pt x="240665" y="1890713"/>
                  </a:lnTo>
                  <a:lnTo>
                    <a:pt x="220980" y="1890396"/>
                  </a:lnTo>
                  <a:lnTo>
                    <a:pt x="202248" y="1889443"/>
                  </a:lnTo>
                  <a:lnTo>
                    <a:pt x="184150" y="1887537"/>
                  </a:lnTo>
                  <a:lnTo>
                    <a:pt x="166370" y="1885313"/>
                  </a:lnTo>
                  <a:lnTo>
                    <a:pt x="149860" y="1882136"/>
                  </a:lnTo>
                  <a:lnTo>
                    <a:pt x="133668" y="1878324"/>
                  </a:lnTo>
                  <a:lnTo>
                    <a:pt x="126048" y="1876418"/>
                  </a:lnTo>
                  <a:lnTo>
                    <a:pt x="118428" y="1874195"/>
                  </a:lnTo>
                  <a:lnTo>
                    <a:pt x="111125" y="1871336"/>
                  </a:lnTo>
                  <a:lnTo>
                    <a:pt x="103823" y="1868794"/>
                  </a:lnTo>
                  <a:lnTo>
                    <a:pt x="96838" y="1865936"/>
                  </a:lnTo>
                  <a:lnTo>
                    <a:pt x="90170" y="1862759"/>
                  </a:lnTo>
                  <a:lnTo>
                    <a:pt x="83820" y="1859582"/>
                  </a:lnTo>
                  <a:lnTo>
                    <a:pt x="77153" y="1856088"/>
                  </a:lnTo>
                  <a:lnTo>
                    <a:pt x="71438" y="1852276"/>
                  </a:lnTo>
                  <a:lnTo>
                    <a:pt x="65405" y="1848464"/>
                  </a:lnTo>
                  <a:lnTo>
                    <a:pt x="60008" y="1844652"/>
                  </a:lnTo>
                  <a:lnTo>
                    <a:pt x="54293" y="1839887"/>
                  </a:lnTo>
                  <a:lnTo>
                    <a:pt x="49213" y="1835758"/>
                  </a:lnTo>
                  <a:lnTo>
                    <a:pt x="44133" y="1830993"/>
                  </a:lnTo>
                  <a:lnTo>
                    <a:pt x="39688" y="1826228"/>
                  </a:lnTo>
                  <a:lnTo>
                    <a:pt x="34925" y="1821145"/>
                  </a:lnTo>
                  <a:lnTo>
                    <a:pt x="30798" y="1815745"/>
                  </a:lnTo>
                  <a:lnTo>
                    <a:pt x="26353" y="1810345"/>
                  </a:lnTo>
                  <a:lnTo>
                    <a:pt x="22543" y="1804627"/>
                  </a:lnTo>
                  <a:lnTo>
                    <a:pt x="19050" y="1798273"/>
                  </a:lnTo>
                  <a:lnTo>
                    <a:pt x="14288" y="1788744"/>
                  </a:lnTo>
                  <a:lnTo>
                    <a:pt x="9843" y="1778896"/>
                  </a:lnTo>
                  <a:lnTo>
                    <a:pt x="6668" y="1768731"/>
                  </a:lnTo>
                  <a:lnTo>
                    <a:pt x="3810" y="1758566"/>
                  </a:lnTo>
                  <a:lnTo>
                    <a:pt x="1905" y="1747765"/>
                  </a:lnTo>
                  <a:lnTo>
                    <a:pt x="318" y="1736647"/>
                  </a:lnTo>
                  <a:lnTo>
                    <a:pt x="0" y="1725211"/>
                  </a:lnTo>
                  <a:lnTo>
                    <a:pt x="0" y="1714093"/>
                  </a:lnTo>
                  <a:lnTo>
                    <a:pt x="1270" y="1702657"/>
                  </a:lnTo>
                  <a:lnTo>
                    <a:pt x="2540" y="1690904"/>
                  </a:lnTo>
                  <a:lnTo>
                    <a:pt x="4445" y="1678832"/>
                  </a:lnTo>
                  <a:lnTo>
                    <a:pt x="7620" y="1666761"/>
                  </a:lnTo>
                  <a:lnTo>
                    <a:pt x="11113" y="1654690"/>
                  </a:lnTo>
                  <a:lnTo>
                    <a:pt x="15240" y="1642301"/>
                  </a:lnTo>
                  <a:lnTo>
                    <a:pt x="20003" y="1629595"/>
                  </a:lnTo>
                  <a:lnTo>
                    <a:pt x="25400" y="1616570"/>
                  </a:lnTo>
                  <a:lnTo>
                    <a:pt x="31115" y="1603864"/>
                  </a:lnTo>
                  <a:lnTo>
                    <a:pt x="38100" y="1590840"/>
                  </a:lnTo>
                  <a:lnTo>
                    <a:pt x="45085" y="1577180"/>
                  </a:lnTo>
                  <a:lnTo>
                    <a:pt x="52705" y="1564156"/>
                  </a:lnTo>
                  <a:lnTo>
                    <a:pt x="60960" y="1550814"/>
                  </a:lnTo>
                  <a:lnTo>
                    <a:pt x="69850" y="1536837"/>
                  </a:lnTo>
                  <a:lnTo>
                    <a:pt x="79058" y="1523495"/>
                  </a:lnTo>
                  <a:lnTo>
                    <a:pt x="88900" y="1509518"/>
                  </a:lnTo>
                  <a:lnTo>
                    <a:pt x="99060" y="1495859"/>
                  </a:lnTo>
                  <a:lnTo>
                    <a:pt x="110173" y="1481564"/>
                  </a:lnTo>
                  <a:lnTo>
                    <a:pt x="121285" y="1467587"/>
                  </a:lnTo>
                  <a:lnTo>
                    <a:pt x="133350" y="1453610"/>
                  </a:lnTo>
                  <a:lnTo>
                    <a:pt x="145733" y="1439315"/>
                  </a:lnTo>
                  <a:lnTo>
                    <a:pt x="158433" y="1425020"/>
                  </a:lnTo>
                  <a:lnTo>
                    <a:pt x="171450" y="1410725"/>
                  </a:lnTo>
                  <a:lnTo>
                    <a:pt x="185103" y="1396748"/>
                  </a:lnTo>
                  <a:lnTo>
                    <a:pt x="199073" y="1382136"/>
                  </a:lnTo>
                  <a:lnTo>
                    <a:pt x="213678" y="1367841"/>
                  </a:lnTo>
                  <a:lnTo>
                    <a:pt x="228283" y="1353228"/>
                  </a:lnTo>
                  <a:lnTo>
                    <a:pt x="243523" y="1338616"/>
                  </a:lnTo>
                  <a:lnTo>
                    <a:pt x="259080" y="1324321"/>
                  </a:lnTo>
                  <a:lnTo>
                    <a:pt x="275273" y="1309709"/>
                  </a:lnTo>
                  <a:lnTo>
                    <a:pt x="278354" y="1306873"/>
                  </a:lnTo>
                  <a:lnTo>
                    <a:pt x="277177" y="1289217"/>
                  </a:lnTo>
                  <a:lnTo>
                    <a:pt x="276542" y="1265400"/>
                  </a:lnTo>
                  <a:lnTo>
                    <a:pt x="276225" y="1241584"/>
                  </a:lnTo>
                  <a:lnTo>
                    <a:pt x="276542" y="1217132"/>
                  </a:lnTo>
                  <a:lnTo>
                    <a:pt x="277177" y="1193316"/>
                  </a:lnTo>
                  <a:lnTo>
                    <a:pt x="278764" y="1169817"/>
                  </a:lnTo>
                  <a:lnTo>
                    <a:pt x="280668" y="1146000"/>
                  </a:lnTo>
                  <a:lnTo>
                    <a:pt x="283524" y="1123136"/>
                  </a:lnTo>
                  <a:lnTo>
                    <a:pt x="286697" y="1099637"/>
                  </a:lnTo>
                  <a:lnTo>
                    <a:pt x="290823" y="1076456"/>
                  </a:lnTo>
                  <a:lnTo>
                    <a:pt x="294948" y="1053909"/>
                  </a:lnTo>
                  <a:lnTo>
                    <a:pt x="300025" y="1031045"/>
                  </a:lnTo>
                  <a:lnTo>
                    <a:pt x="305420" y="1008817"/>
                  </a:lnTo>
                  <a:lnTo>
                    <a:pt x="311449" y="986588"/>
                  </a:lnTo>
                  <a:lnTo>
                    <a:pt x="318114" y="964677"/>
                  </a:lnTo>
                  <a:lnTo>
                    <a:pt x="321267" y="954459"/>
                  </a:lnTo>
                  <a:lnTo>
                    <a:pt x="311816" y="945006"/>
                  </a:lnTo>
                  <a:lnTo>
                    <a:pt x="298479" y="930715"/>
                  </a:lnTo>
                  <a:lnTo>
                    <a:pt x="285459" y="916107"/>
                  </a:lnTo>
                  <a:lnTo>
                    <a:pt x="272757" y="901815"/>
                  </a:lnTo>
                  <a:lnTo>
                    <a:pt x="260373" y="887524"/>
                  </a:lnTo>
                  <a:lnTo>
                    <a:pt x="248306" y="873868"/>
                  </a:lnTo>
                  <a:lnTo>
                    <a:pt x="236874" y="859577"/>
                  </a:lnTo>
                  <a:lnTo>
                    <a:pt x="226077" y="845604"/>
                  </a:lnTo>
                  <a:lnTo>
                    <a:pt x="215915" y="831948"/>
                  </a:lnTo>
                  <a:lnTo>
                    <a:pt x="206071" y="817974"/>
                  </a:lnTo>
                  <a:lnTo>
                    <a:pt x="196544" y="804318"/>
                  </a:lnTo>
                  <a:lnTo>
                    <a:pt x="191046" y="795873"/>
                  </a:lnTo>
                  <a:lnTo>
                    <a:pt x="188135" y="796289"/>
                  </a:lnTo>
                  <a:lnTo>
                    <a:pt x="181777" y="796925"/>
                  </a:lnTo>
                  <a:lnTo>
                    <a:pt x="175419" y="796925"/>
                  </a:lnTo>
                  <a:lnTo>
                    <a:pt x="169060" y="796925"/>
                  </a:lnTo>
                  <a:lnTo>
                    <a:pt x="162385" y="796289"/>
                  </a:lnTo>
                  <a:lnTo>
                    <a:pt x="156344" y="795336"/>
                  </a:lnTo>
                  <a:lnTo>
                    <a:pt x="150304" y="794382"/>
                  </a:lnTo>
                  <a:lnTo>
                    <a:pt x="143946" y="793110"/>
                  </a:lnTo>
                  <a:lnTo>
                    <a:pt x="137906" y="791203"/>
                  </a:lnTo>
                  <a:lnTo>
                    <a:pt x="132184" y="789295"/>
                  </a:lnTo>
                  <a:lnTo>
                    <a:pt x="126462" y="787070"/>
                  </a:lnTo>
                  <a:lnTo>
                    <a:pt x="120422" y="784845"/>
                  </a:lnTo>
                  <a:lnTo>
                    <a:pt x="115017" y="781666"/>
                  </a:lnTo>
                  <a:lnTo>
                    <a:pt x="110249" y="778805"/>
                  </a:lnTo>
                  <a:lnTo>
                    <a:pt x="104845" y="775626"/>
                  </a:lnTo>
                  <a:lnTo>
                    <a:pt x="99758" y="772129"/>
                  </a:lnTo>
                  <a:lnTo>
                    <a:pt x="94990" y="768314"/>
                  </a:lnTo>
                  <a:lnTo>
                    <a:pt x="90539" y="764181"/>
                  </a:lnTo>
                  <a:lnTo>
                    <a:pt x="86406" y="760049"/>
                  </a:lnTo>
                  <a:lnTo>
                    <a:pt x="81956" y="755916"/>
                  </a:lnTo>
                  <a:lnTo>
                    <a:pt x="77823" y="751147"/>
                  </a:lnTo>
                  <a:lnTo>
                    <a:pt x="74326" y="746379"/>
                  </a:lnTo>
                  <a:lnTo>
                    <a:pt x="70829" y="741292"/>
                  </a:lnTo>
                  <a:lnTo>
                    <a:pt x="67332" y="736206"/>
                  </a:lnTo>
                  <a:lnTo>
                    <a:pt x="64471" y="730802"/>
                  </a:lnTo>
                  <a:lnTo>
                    <a:pt x="61610" y="725397"/>
                  </a:lnTo>
                  <a:lnTo>
                    <a:pt x="59067" y="719993"/>
                  </a:lnTo>
                  <a:lnTo>
                    <a:pt x="56524" y="714271"/>
                  </a:lnTo>
                  <a:lnTo>
                    <a:pt x="54616" y="708549"/>
                  </a:lnTo>
                  <a:lnTo>
                    <a:pt x="53345" y="702509"/>
                  </a:lnTo>
                  <a:lnTo>
                    <a:pt x="51755" y="696151"/>
                  </a:lnTo>
                  <a:lnTo>
                    <a:pt x="50484" y="690111"/>
                  </a:lnTo>
                  <a:lnTo>
                    <a:pt x="49848" y="683752"/>
                  </a:lnTo>
                  <a:lnTo>
                    <a:pt x="49212" y="677394"/>
                  </a:lnTo>
                  <a:lnTo>
                    <a:pt x="49212" y="670719"/>
                  </a:lnTo>
                  <a:lnTo>
                    <a:pt x="49212" y="664361"/>
                  </a:lnTo>
                  <a:lnTo>
                    <a:pt x="49848" y="657685"/>
                  </a:lnTo>
                  <a:lnTo>
                    <a:pt x="50484" y="651645"/>
                  </a:lnTo>
                  <a:lnTo>
                    <a:pt x="51755" y="645287"/>
                  </a:lnTo>
                  <a:lnTo>
                    <a:pt x="53345" y="639246"/>
                  </a:lnTo>
                  <a:lnTo>
                    <a:pt x="54616" y="633206"/>
                  </a:lnTo>
                  <a:lnTo>
                    <a:pt x="56524" y="627484"/>
                  </a:lnTo>
                  <a:lnTo>
                    <a:pt x="59067" y="621444"/>
                  </a:lnTo>
                  <a:lnTo>
                    <a:pt x="61610" y="616040"/>
                  </a:lnTo>
                  <a:lnTo>
                    <a:pt x="64471" y="610635"/>
                  </a:lnTo>
                  <a:lnTo>
                    <a:pt x="67332" y="605549"/>
                  </a:lnTo>
                  <a:lnTo>
                    <a:pt x="70829" y="600463"/>
                  </a:lnTo>
                  <a:lnTo>
                    <a:pt x="74326" y="595376"/>
                  </a:lnTo>
                  <a:lnTo>
                    <a:pt x="77823" y="590290"/>
                  </a:lnTo>
                  <a:lnTo>
                    <a:pt x="81956" y="585839"/>
                  </a:lnTo>
                  <a:lnTo>
                    <a:pt x="86406" y="581389"/>
                  </a:lnTo>
                  <a:lnTo>
                    <a:pt x="90539" y="577256"/>
                  </a:lnTo>
                  <a:lnTo>
                    <a:pt x="94990" y="573441"/>
                  </a:lnTo>
                  <a:lnTo>
                    <a:pt x="99758" y="569626"/>
                  </a:lnTo>
                  <a:lnTo>
                    <a:pt x="104845" y="566129"/>
                  </a:lnTo>
                  <a:lnTo>
                    <a:pt x="110249" y="562632"/>
                  </a:lnTo>
                  <a:lnTo>
                    <a:pt x="115017" y="560089"/>
                  </a:lnTo>
                  <a:lnTo>
                    <a:pt x="120422" y="556910"/>
                  </a:lnTo>
                  <a:lnTo>
                    <a:pt x="126462" y="554685"/>
                  </a:lnTo>
                  <a:lnTo>
                    <a:pt x="132184" y="552142"/>
                  </a:lnTo>
                  <a:lnTo>
                    <a:pt x="137906" y="550234"/>
                  </a:lnTo>
                  <a:lnTo>
                    <a:pt x="143255" y="548545"/>
                  </a:lnTo>
                  <a:lnTo>
                    <a:pt x="146053" y="542949"/>
                  </a:lnTo>
                  <a:lnTo>
                    <a:pt x="149546" y="536915"/>
                  </a:lnTo>
                  <a:lnTo>
                    <a:pt x="153357" y="531198"/>
                  </a:lnTo>
                  <a:lnTo>
                    <a:pt x="157485" y="525799"/>
                  </a:lnTo>
                  <a:lnTo>
                    <a:pt x="161613" y="520400"/>
                  </a:lnTo>
                  <a:lnTo>
                    <a:pt x="166059" y="515637"/>
                  </a:lnTo>
                  <a:lnTo>
                    <a:pt x="171140" y="510555"/>
                  </a:lnTo>
                  <a:lnTo>
                    <a:pt x="175903" y="505792"/>
                  </a:lnTo>
                  <a:lnTo>
                    <a:pt x="181302" y="501345"/>
                  </a:lnTo>
                  <a:lnTo>
                    <a:pt x="186700" y="497217"/>
                  </a:lnTo>
                  <a:lnTo>
                    <a:pt x="192416" y="492771"/>
                  </a:lnTo>
                  <a:lnTo>
                    <a:pt x="198132" y="488960"/>
                  </a:lnTo>
                  <a:lnTo>
                    <a:pt x="204166" y="485466"/>
                  </a:lnTo>
                  <a:lnTo>
                    <a:pt x="210517" y="481973"/>
                  </a:lnTo>
                  <a:lnTo>
                    <a:pt x="216868" y="478480"/>
                  </a:lnTo>
                  <a:lnTo>
                    <a:pt x="223854" y="475621"/>
                  </a:lnTo>
                  <a:lnTo>
                    <a:pt x="230840" y="472446"/>
                  </a:lnTo>
                  <a:lnTo>
                    <a:pt x="238144" y="469905"/>
                  </a:lnTo>
                  <a:lnTo>
                    <a:pt x="245448" y="467364"/>
                  </a:lnTo>
                  <a:lnTo>
                    <a:pt x="252751" y="465141"/>
                  </a:lnTo>
                  <a:lnTo>
                    <a:pt x="260373" y="462918"/>
                  </a:lnTo>
                  <a:lnTo>
                    <a:pt x="276568" y="459107"/>
                  </a:lnTo>
                  <a:lnTo>
                    <a:pt x="293398" y="455931"/>
                  </a:lnTo>
                  <a:lnTo>
                    <a:pt x="310864" y="453708"/>
                  </a:lnTo>
                  <a:lnTo>
                    <a:pt x="329282" y="452120"/>
                  </a:lnTo>
                  <a:lnTo>
                    <a:pt x="348017" y="450850"/>
                  </a:lnTo>
                  <a:lnTo>
                    <a:pt x="367071" y="450850"/>
                  </a:lnTo>
                  <a:lnTo>
                    <a:pt x="387712" y="450850"/>
                  </a:lnTo>
                  <a:lnTo>
                    <a:pt x="408035" y="452120"/>
                  </a:lnTo>
                  <a:lnTo>
                    <a:pt x="429629" y="453708"/>
                  </a:lnTo>
                  <a:lnTo>
                    <a:pt x="450905" y="455931"/>
                  </a:lnTo>
                  <a:lnTo>
                    <a:pt x="473769" y="458790"/>
                  </a:lnTo>
                  <a:lnTo>
                    <a:pt x="496315" y="461965"/>
                  </a:lnTo>
                  <a:lnTo>
                    <a:pt x="519814" y="466412"/>
                  </a:lnTo>
                  <a:lnTo>
                    <a:pt x="543631" y="470858"/>
                  </a:lnTo>
                  <a:lnTo>
                    <a:pt x="567447" y="475939"/>
                  </a:lnTo>
                  <a:lnTo>
                    <a:pt x="592216" y="481655"/>
                  </a:lnTo>
                  <a:lnTo>
                    <a:pt x="616985" y="488007"/>
                  </a:lnTo>
                  <a:lnTo>
                    <a:pt x="642390" y="494359"/>
                  </a:lnTo>
                  <a:lnTo>
                    <a:pt x="649347" y="496334"/>
                  </a:lnTo>
                  <a:lnTo>
                    <a:pt x="649414" y="496284"/>
                  </a:lnTo>
                  <a:lnTo>
                    <a:pt x="667502" y="482629"/>
                  </a:lnTo>
                  <a:lnTo>
                    <a:pt x="685908" y="469927"/>
                  </a:lnTo>
                  <a:lnTo>
                    <a:pt x="704631" y="457543"/>
                  </a:lnTo>
                  <a:lnTo>
                    <a:pt x="723671" y="445793"/>
                  </a:lnTo>
                  <a:lnTo>
                    <a:pt x="742711" y="434361"/>
                  </a:lnTo>
                  <a:lnTo>
                    <a:pt x="762386" y="423564"/>
                  </a:lnTo>
                  <a:lnTo>
                    <a:pt x="782378" y="413085"/>
                  </a:lnTo>
                  <a:lnTo>
                    <a:pt x="802688" y="402606"/>
                  </a:lnTo>
                  <a:lnTo>
                    <a:pt x="822997" y="393397"/>
                  </a:lnTo>
                  <a:lnTo>
                    <a:pt x="843942" y="384188"/>
                  </a:lnTo>
                  <a:lnTo>
                    <a:pt x="864886" y="375931"/>
                  </a:lnTo>
                  <a:lnTo>
                    <a:pt x="875299" y="371888"/>
                  </a:lnTo>
                  <a:lnTo>
                    <a:pt x="876926" y="355600"/>
                  </a:lnTo>
                  <a:lnTo>
                    <a:pt x="879146" y="336550"/>
                  </a:lnTo>
                  <a:lnTo>
                    <a:pt x="881366" y="317818"/>
                  </a:lnTo>
                  <a:lnTo>
                    <a:pt x="884221" y="299720"/>
                  </a:lnTo>
                  <a:lnTo>
                    <a:pt x="887076" y="281622"/>
                  </a:lnTo>
                  <a:lnTo>
                    <a:pt x="890247" y="264478"/>
                  </a:lnTo>
                  <a:lnTo>
                    <a:pt x="893736" y="247650"/>
                  </a:lnTo>
                  <a:lnTo>
                    <a:pt x="897542" y="231140"/>
                  </a:lnTo>
                  <a:lnTo>
                    <a:pt x="901349" y="214948"/>
                  </a:lnTo>
                  <a:lnTo>
                    <a:pt x="906106" y="199390"/>
                  </a:lnTo>
                  <a:lnTo>
                    <a:pt x="910229" y="184150"/>
                  </a:lnTo>
                  <a:lnTo>
                    <a:pt x="915304" y="169545"/>
                  </a:lnTo>
                  <a:lnTo>
                    <a:pt x="920379" y="155257"/>
                  </a:lnTo>
                  <a:lnTo>
                    <a:pt x="925454" y="141922"/>
                  </a:lnTo>
                  <a:lnTo>
                    <a:pt x="931480" y="128905"/>
                  </a:lnTo>
                  <a:lnTo>
                    <a:pt x="937507" y="116523"/>
                  </a:lnTo>
                  <a:lnTo>
                    <a:pt x="943533" y="104140"/>
                  </a:lnTo>
                  <a:lnTo>
                    <a:pt x="950194" y="93028"/>
                  </a:lnTo>
                  <a:lnTo>
                    <a:pt x="957172" y="82233"/>
                  </a:lnTo>
                  <a:lnTo>
                    <a:pt x="963833" y="71755"/>
                  </a:lnTo>
                  <a:lnTo>
                    <a:pt x="971762" y="62230"/>
                  </a:lnTo>
                  <a:lnTo>
                    <a:pt x="979374" y="53340"/>
                  </a:lnTo>
                  <a:lnTo>
                    <a:pt x="987304" y="45403"/>
                  </a:lnTo>
                  <a:lnTo>
                    <a:pt x="995868" y="37783"/>
                  </a:lnTo>
                  <a:lnTo>
                    <a:pt x="1004431" y="30797"/>
                  </a:lnTo>
                  <a:lnTo>
                    <a:pt x="1013630" y="24130"/>
                  </a:lnTo>
                  <a:lnTo>
                    <a:pt x="1022828" y="18733"/>
                  </a:lnTo>
                  <a:lnTo>
                    <a:pt x="1032343" y="13970"/>
                  </a:lnTo>
                  <a:lnTo>
                    <a:pt x="1042176" y="9525"/>
                  </a:lnTo>
                  <a:lnTo>
                    <a:pt x="1052325" y="6033"/>
                  </a:lnTo>
                  <a:lnTo>
                    <a:pt x="1063109" y="3493"/>
                  </a:lnTo>
                  <a:lnTo>
                    <a:pt x="1069453" y="2223"/>
                  </a:lnTo>
                  <a:lnTo>
                    <a:pt x="1076431" y="1270"/>
                  </a:lnTo>
                  <a:lnTo>
                    <a:pt x="1083409" y="318"/>
                  </a:lnTo>
                  <a:lnTo>
                    <a:pt x="1090069" y="0"/>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椭圆 14"/>
            <p:cNvSpPr/>
            <p:nvPr/>
          </p:nvSpPr>
          <p:spPr>
            <a:xfrm>
              <a:off x="4886280" y="1432080"/>
              <a:ext cx="2419560" cy="2417760"/>
            </a:xfrm>
            <a:prstGeom prst="ellipse">
              <a:avLst/>
            </a:prstGeom>
            <a:noFill/>
            <a:ln w="12600">
              <a:solidFill>
                <a:srgbClr val="f05a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矩形 2"/>
          <p:cNvSpPr/>
          <p:nvPr/>
        </p:nvSpPr>
        <p:spPr>
          <a:xfrm>
            <a:off x="754200" y="1407960"/>
            <a:ext cx="2333520" cy="4111920"/>
          </a:xfrm>
          <a:prstGeom prst="rect">
            <a:avLst/>
          </a:pr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TextBox 4"/>
          <p:cNvSpPr/>
          <p:nvPr/>
        </p:nvSpPr>
        <p:spPr>
          <a:xfrm>
            <a:off x="8953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pic>
        <p:nvPicPr>
          <p:cNvPr id="311" name="图片 5" descr=""/>
          <p:cNvPicPr/>
          <p:nvPr/>
        </p:nvPicPr>
        <p:blipFill>
          <a:blip r:embed="rId1"/>
          <a:stretch/>
        </p:blipFill>
        <p:spPr>
          <a:xfrm>
            <a:off x="984240" y="1809720"/>
            <a:ext cx="1871640" cy="1871640"/>
          </a:xfrm>
          <a:prstGeom prst="rect">
            <a:avLst/>
          </a:prstGeom>
          <a:ln w="0">
            <a:noFill/>
          </a:ln>
        </p:spPr>
      </p:pic>
      <p:sp>
        <p:nvSpPr>
          <p:cNvPr id="312" name="矩形 34"/>
          <p:cNvSpPr/>
          <p:nvPr/>
        </p:nvSpPr>
        <p:spPr>
          <a:xfrm>
            <a:off x="7542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矩形 36"/>
          <p:cNvSpPr/>
          <p:nvPr/>
        </p:nvSpPr>
        <p:spPr>
          <a:xfrm>
            <a:off x="3537000" y="1407960"/>
            <a:ext cx="2333520" cy="4111920"/>
          </a:xfrm>
          <a:prstGeom prst="rect">
            <a:avLst/>
          </a:prstGeom>
          <a:solidFill>
            <a:srgbClr val="179a4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TextBox 4"/>
          <p:cNvSpPr/>
          <p:nvPr/>
        </p:nvSpPr>
        <p:spPr>
          <a:xfrm>
            <a:off x="367812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5" name="矩形 39"/>
          <p:cNvSpPr/>
          <p:nvPr/>
        </p:nvSpPr>
        <p:spPr>
          <a:xfrm>
            <a:off x="35370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矩形 41"/>
          <p:cNvSpPr/>
          <p:nvPr/>
        </p:nvSpPr>
        <p:spPr>
          <a:xfrm>
            <a:off x="6321600" y="1407960"/>
            <a:ext cx="2333520" cy="4111920"/>
          </a:xfrm>
          <a:prstGeom prst="rect">
            <a:avLst/>
          </a:pr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TextBox 4"/>
          <p:cNvSpPr/>
          <p:nvPr/>
        </p:nvSpPr>
        <p:spPr>
          <a:xfrm>
            <a:off x="6461280" y="4017960"/>
            <a:ext cx="205236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18" name="矩形 43"/>
          <p:cNvSpPr/>
          <p:nvPr/>
        </p:nvSpPr>
        <p:spPr>
          <a:xfrm>
            <a:off x="63216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矩形 45"/>
          <p:cNvSpPr/>
          <p:nvPr/>
        </p:nvSpPr>
        <p:spPr>
          <a:xfrm>
            <a:off x="9104400" y="1407960"/>
            <a:ext cx="2333520" cy="4111920"/>
          </a:xfrm>
          <a:prstGeom prst="rect">
            <a:avLst/>
          </a:pr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4"/>
          <p:cNvSpPr/>
          <p:nvPr/>
        </p:nvSpPr>
        <p:spPr>
          <a:xfrm>
            <a:off x="9244080" y="401796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Calibri"/>
            </a:endParaRPr>
          </a:p>
        </p:txBody>
      </p:sp>
      <p:sp>
        <p:nvSpPr>
          <p:cNvPr id="321" name="矩形 47"/>
          <p:cNvSpPr/>
          <p:nvPr/>
        </p:nvSpPr>
        <p:spPr>
          <a:xfrm>
            <a:off x="9104400" y="1338120"/>
            <a:ext cx="2333520" cy="69840"/>
          </a:xfrm>
          <a:prstGeom prst="rect">
            <a:avLst/>
          </a:prstGeom>
          <a:solidFill>
            <a:srgbClr val="000000"/>
          </a:solid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图片 6" descr=""/>
          <p:cNvPicPr/>
          <p:nvPr/>
        </p:nvPicPr>
        <p:blipFill>
          <a:blip r:embed="rId2"/>
          <a:stretch/>
        </p:blipFill>
        <p:spPr>
          <a:xfrm>
            <a:off x="3768840" y="1809720"/>
            <a:ext cx="1869840" cy="1871640"/>
          </a:xfrm>
          <a:prstGeom prst="rect">
            <a:avLst/>
          </a:prstGeom>
          <a:ln w="0">
            <a:noFill/>
          </a:ln>
        </p:spPr>
      </p:pic>
      <p:pic>
        <p:nvPicPr>
          <p:cNvPr id="323" name="图片 7" descr=""/>
          <p:cNvPicPr/>
          <p:nvPr/>
        </p:nvPicPr>
        <p:blipFill>
          <a:blip r:embed="rId3"/>
          <a:stretch/>
        </p:blipFill>
        <p:spPr>
          <a:xfrm>
            <a:off x="6551640" y="1809720"/>
            <a:ext cx="1871640" cy="1871640"/>
          </a:xfrm>
          <a:prstGeom prst="rect">
            <a:avLst/>
          </a:prstGeom>
          <a:ln w="0">
            <a:noFill/>
          </a:ln>
        </p:spPr>
      </p:pic>
      <p:pic>
        <p:nvPicPr>
          <p:cNvPr id="324" name="图片 8" descr=""/>
          <p:cNvPicPr/>
          <p:nvPr/>
        </p:nvPicPr>
        <p:blipFill>
          <a:blip r:embed="rId4"/>
          <a:stretch/>
        </p:blipFill>
        <p:spPr>
          <a:xfrm>
            <a:off x="9334440" y="1809720"/>
            <a:ext cx="1871640" cy="18716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Group 4"/>
          <p:cNvGrpSpPr/>
          <p:nvPr/>
        </p:nvGrpSpPr>
        <p:grpSpPr>
          <a:xfrm>
            <a:off x="1025640" y="1441440"/>
            <a:ext cx="2482200" cy="3719520"/>
            <a:chOff x="1025640" y="1441440"/>
            <a:chExt cx="2482200" cy="3719520"/>
          </a:xfrm>
        </p:grpSpPr>
        <p:sp>
          <p:nvSpPr>
            <p:cNvPr id="326" name="Freeform 5"/>
            <p:cNvSpPr/>
            <p:nvPr/>
          </p:nvSpPr>
          <p:spPr>
            <a:xfrm>
              <a:off x="1401480" y="1738440"/>
              <a:ext cx="2010960" cy="3117960"/>
            </a:xfrm>
            <a:custGeom>
              <a:avLst/>
              <a:gdLst/>
              <a:ahLst/>
              <a:rect l="l" t="t" r="r" b="b"/>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6"/>
            <p:cNvSpPr/>
            <p:nvPr/>
          </p:nvSpPr>
          <p:spPr>
            <a:xfrm>
              <a:off x="1025640" y="1441440"/>
              <a:ext cx="2441160" cy="3719520"/>
            </a:xfrm>
            <a:custGeom>
              <a:avLst/>
              <a:gdLst/>
              <a:ahLst/>
              <a:rect l="l" t="t" r="r" b="b"/>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Freeform 7"/>
            <p:cNvSpPr/>
            <p:nvPr/>
          </p:nvSpPr>
          <p:spPr>
            <a:xfrm>
              <a:off x="1066680" y="1441440"/>
              <a:ext cx="2441160" cy="3719520"/>
            </a:xfrm>
            <a:custGeom>
              <a:avLst/>
              <a:gdLst/>
              <a:ahLst/>
              <a:rect l="l" t="t" r="r" b="b"/>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9" name="任意多边形 17"/>
          <p:cNvSpPr/>
          <p:nvPr/>
        </p:nvSpPr>
        <p:spPr>
          <a:xfrm rot="10800000">
            <a:off x="9245520" y="2166840"/>
            <a:ext cx="1687680" cy="2185920"/>
          </a:xfrm>
          <a:custGeom>
            <a:avLst/>
            <a:gdLst/>
            <a:ahLst/>
            <a:rect l="l" t="t" r="r" b="b"/>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close/>
              </a:path>
            </a:pathLst>
          </a:custGeom>
          <a:solidFill>
            <a:srgbClr val="62c4b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任意多边形 15"/>
          <p:cNvSpPr/>
          <p:nvPr/>
        </p:nvSpPr>
        <p:spPr>
          <a:xfrm rot="5400000">
            <a:off x="795384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05a2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任意多边形 14"/>
          <p:cNvSpPr/>
          <p:nvPr/>
        </p:nvSpPr>
        <p:spPr>
          <a:xfrm rot="5400000">
            <a:off x="6564600" y="2475720"/>
            <a:ext cx="1312920" cy="156852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f6921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任意多边形 13"/>
          <p:cNvSpPr/>
          <p:nvPr/>
        </p:nvSpPr>
        <p:spPr>
          <a:xfrm rot="5400000">
            <a:off x="5144760" y="2476440"/>
            <a:ext cx="1312920" cy="1567080"/>
          </a:xfrm>
          <a:custGeom>
            <a:avLst/>
            <a:gdLst/>
            <a:ahLst/>
            <a:rect l="l" t="t" r="r" b="b"/>
            <a:pathLst>
              <a:path w="1021607" h="1219907">
                <a:moveTo>
                  <a:pt x="0" y="1219907"/>
                </a:moveTo>
                <a:lnTo>
                  <a:pt x="0" y="116036"/>
                </a:lnTo>
                <a:lnTo>
                  <a:pt x="381631" y="116036"/>
                </a:lnTo>
                <a:lnTo>
                  <a:pt x="510804" y="0"/>
                </a:lnTo>
                <a:lnTo>
                  <a:pt x="639977" y="116036"/>
                </a:lnTo>
                <a:lnTo>
                  <a:pt x="1021607" y="116036"/>
                </a:lnTo>
                <a:lnTo>
                  <a:pt x="1021607" y="1219907"/>
                </a:lnTo>
                <a:close/>
              </a:path>
            </a:pathLst>
          </a:custGeom>
          <a:solidFill>
            <a:srgbClr val="8bc5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任意多边形 10"/>
          <p:cNvSpPr/>
          <p:nvPr/>
        </p:nvSpPr>
        <p:spPr>
          <a:xfrm rot="16200000">
            <a:off x="2698560" y="2028600"/>
            <a:ext cx="2449440" cy="2462040"/>
          </a:xfrm>
          <a:custGeom>
            <a:avLst/>
            <a:gdLst/>
            <a:ahLst/>
            <a:rect l="l" t="t" r="r" b="b"/>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a36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4" name="Group 4" descr=""/>
          <p:cNvPicPr/>
          <p:nvPr/>
        </p:nvPicPr>
        <p:blipFill>
          <a:blip r:embed="rId1"/>
          <a:stretch/>
        </p:blipFill>
        <p:spPr>
          <a:xfrm>
            <a:off x="6916680" y="3021120"/>
            <a:ext cx="449280" cy="544320"/>
          </a:xfrm>
          <a:prstGeom prst="rect">
            <a:avLst/>
          </a:prstGeom>
          <a:ln w="0">
            <a:noFill/>
          </a:ln>
        </p:spPr>
      </p:pic>
      <p:sp>
        <p:nvSpPr>
          <p:cNvPr id="335" name="Freeform 13"/>
          <p:cNvSpPr/>
          <p:nvPr/>
        </p:nvSpPr>
        <p:spPr>
          <a:xfrm>
            <a:off x="5468760" y="3033720"/>
            <a:ext cx="452520" cy="442800"/>
          </a:xfrm>
          <a:custGeom>
            <a:avLst/>
            <a:gdLst/>
            <a:ahLst/>
            <a:rect l="l" t="t" r="r" b="b"/>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Freeform 21"/>
          <p:cNvSpPr/>
          <p:nvPr/>
        </p:nvSpPr>
        <p:spPr>
          <a:xfrm>
            <a:off x="8366040" y="3017880"/>
            <a:ext cx="471600" cy="474480"/>
          </a:xfrm>
          <a:custGeom>
            <a:avLst/>
            <a:gdLst/>
            <a:ahLst/>
            <a:rect l="l" t="t" r="r" b="b"/>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Freeform 25"/>
          <p:cNvSpPr/>
          <p:nvPr/>
        </p:nvSpPr>
        <p:spPr>
          <a:xfrm>
            <a:off x="9828360" y="3021120"/>
            <a:ext cx="468000" cy="468360"/>
          </a:xfrm>
          <a:custGeom>
            <a:avLst/>
            <a:gdLst/>
            <a:ahLst/>
            <a:rect l="l" t="t" r="r" b="b"/>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文本框 28"/>
          <p:cNvSpPr/>
          <p:nvPr/>
        </p:nvSpPr>
        <p:spPr>
          <a:xfrm>
            <a:off x="5078520" y="117144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39" name="文本框 29"/>
          <p:cNvSpPr/>
          <p:nvPr/>
        </p:nvSpPr>
        <p:spPr>
          <a:xfrm>
            <a:off x="5078520" y="191448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0" name="文本框 30"/>
          <p:cNvSpPr/>
          <p:nvPr/>
        </p:nvSpPr>
        <p:spPr>
          <a:xfrm>
            <a:off x="7826400" y="11620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1" name="文本框 31"/>
          <p:cNvSpPr/>
          <p:nvPr/>
        </p:nvSpPr>
        <p:spPr>
          <a:xfrm>
            <a:off x="7826400" y="19051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2" name="文本框 32"/>
          <p:cNvSpPr/>
          <p:nvPr/>
        </p:nvSpPr>
        <p:spPr>
          <a:xfrm>
            <a:off x="6413400" y="45385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3" name="文本框 33"/>
          <p:cNvSpPr/>
          <p:nvPr/>
        </p:nvSpPr>
        <p:spPr>
          <a:xfrm>
            <a:off x="6413400" y="405936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
        <p:nvSpPr>
          <p:cNvPr id="344" name="文本框 34"/>
          <p:cNvSpPr/>
          <p:nvPr/>
        </p:nvSpPr>
        <p:spPr>
          <a:xfrm>
            <a:off x="9366120" y="504972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Calibri"/>
            </a:endParaRPr>
          </a:p>
        </p:txBody>
      </p:sp>
      <p:sp>
        <p:nvSpPr>
          <p:cNvPr id="345" name="文本框 35"/>
          <p:cNvSpPr/>
          <p:nvPr/>
        </p:nvSpPr>
        <p:spPr>
          <a:xfrm>
            <a:off x="9366120" y="45705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53Z</dcterms:created>
  <dc:creator>哎呀小小草</dc:creator>
  <dc:description/>
  <dc:language>en-US</dc:language>
  <cp:lastModifiedBy>Administrator</cp:lastModifiedBy>
  <dcterms:modified xsi:type="dcterms:W3CDTF">2016-08-02T07:58:52Z</dcterms:modified>
  <cp:revision>5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