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D44-36CF-467E-9D30-F7CAA418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06F-E18A-4CDD-822A-9F1BFC5E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277-02F4-4340-8330-B33048D8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567-4764-4DD5-8D28-C6CD0B95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ABC-E71A-4D74-A0D0-326C4690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6B2-741C-4B5A-B727-EEE9DB5A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6BA-A0F2-4A5C-813F-4ACC4E73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583-FF6B-4523-960E-CA57B79B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787-A160-460F-B540-DF858714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803-D439-4126-AEB0-D5CFA813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8A0-3B8E-468E-BD8C-42758F96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858-C7A8-4B1A-8527-6D95BB9D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D2DD-80C7-4592-9FCA-31B2AFA1D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无标题"/>
          <p:cNvPicPr/>
          <p:nvPr/>
        </p:nvPicPr>
        <p:blipFill>
          <a:blip r:embed="rId1"/>
          <a:stretch/>
        </p:blipFill>
        <p:spPr>
          <a:xfrm>
            <a:off x="1692360" y="105264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0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9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8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7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6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1714680" y="1138320"/>
            <a:ext cx="5715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6:45:51Z</dcterms:created>
  <dc:creator>User</dc:creator>
  <dc:description/>
  <dc:language>en-US</dc:language>
  <cp:lastModifiedBy>zjp888</cp:lastModifiedBy>
  <dcterms:modified xsi:type="dcterms:W3CDTF">2012-01-01T06:43:24Z</dcterms:modified>
  <cp:revision>4</cp:revision>
  <dc:subject/>
  <dc:title>锐得PPT论坛独家收集</dc:title>
</cp:coreProperties>
</file>