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762B-FCD4-45A3-B31E-3DC7F825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1705-A4FE-45D7-97D6-44DBE406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F842-3643-4ABC-ABFD-30F84B6C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848B-EEC7-461F-9AA9-A517A257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B0B5-DE9E-4FCB-8150-B093C407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BAAE-4A5D-4859-AA93-047791F0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509F-D456-4B40-B1AB-1D4E7F45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B569-F66A-4B04-B74A-B951FAE0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1D6A-02B3-4172-8317-BF37A3D3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DDF2-3ED8-4D49-87A2-FF494BA0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5430-3855-4464-8B66-930AF1F3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6E1C-0CF4-468F-BE99-368F60CE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07FE-A82F-45F9-A7E1-7C8250E9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C472-4486-471F-AE84-8CCA9286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CDCC-259B-4835-BA1D-250506AC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A7DA-0D92-4B77-9B14-78426EFC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F9B5-44E7-42B2-A670-9E110A9A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B680-0AD9-46F5-A9C8-9BEB6B8C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AB80-BB2B-422F-AE5A-C84C8C17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F0F3-08E0-402F-BC96-ABE9ED7A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B339-DD2E-4292-A211-1B184BF7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0D1-693C-40F4-A7E4-42A36D1E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A410-D730-4550-A482-242BF9F6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913A-8ED7-49D2-9C55-9EB5DF45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26C5-C185-49B6-8339-1C0603C6966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F45A-A9CD-4E76-914D-D6809CB1E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image" Target="../media/image13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12192120" cy="6845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-71280" y="-55440"/>
            <a:ext cx="12452040" cy="6999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340000" y="158760"/>
            <a:ext cx="112680" cy="114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3600" y="-17640"/>
            <a:ext cx="422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515360" y="1355760"/>
            <a:ext cx="44798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12287160" cy="6896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759720" y="3286080"/>
            <a:ext cx="2760480" cy="1133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61240" y="3546360"/>
            <a:ext cx="4575240" cy="1343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854760" y="2381400"/>
            <a:ext cx="4576680" cy="1342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6854760" y="2770200"/>
            <a:ext cx="4575240" cy="1343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28440" y="-11160"/>
            <a:ext cx="7378920" cy="5121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919680" y="2857680"/>
            <a:ext cx="36147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900" spc="-1" strike="noStrike">
                <a:solidFill>
                  <a:srgbClr val="ffffff"/>
                </a:solidFill>
                <a:latin typeface="Calibri"/>
                <a:ea typeface="文鼎火柴体"/>
              </a:rPr>
              <a:t>演 讲 目 录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169040" y="2789280"/>
            <a:ext cx="3870360" cy="17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压历山大的社会现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安安然，悠然愉悦的心情制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7165800" y="3557520"/>
            <a:ext cx="452916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心自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择机所需，在工作中也如鱼得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Text Placeholder 2" descr=""/>
          <p:cNvPicPr/>
          <p:nvPr/>
        </p:nvPicPr>
        <p:blipFill>
          <a:blip r:embed="rId7"/>
          <a:stretch/>
        </p:blipFill>
        <p:spPr>
          <a:xfrm>
            <a:off x="2333520" y="150840"/>
            <a:ext cx="120600" cy="1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924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802640" y="1190520"/>
            <a:ext cx="4357440" cy="2262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575160" y="1846440"/>
            <a:ext cx="5371920" cy="2939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5160" y="-111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333520" y="179280"/>
            <a:ext cx="120600" cy="119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448160" y="1593720"/>
            <a:ext cx="46702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13555"/>
                </a:solidFill>
                <a:latin typeface="浪漫雅圆"/>
              </a:rPr>
              <a:t>PA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13555"/>
                </a:solidFill>
                <a:latin typeface="浪漫雅圆"/>
              </a:rPr>
              <a:t>RT.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6355800" y="870120"/>
            <a:ext cx="181584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500" spc="-1" strike="noStrike">
                <a:solidFill>
                  <a:srgbClr val="013555"/>
                </a:solidFill>
                <a:latin typeface="浪漫雅圆"/>
              </a:rPr>
              <a:t>1</a:t>
            </a:r>
            <a:endParaRPr b="0" lang="en-US" sz="2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727680" y="1746360"/>
            <a:ext cx="1376640" cy="2752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6360" y="2981160"/>
            <a:ext cx="373860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19080" y="-14400"/>
            <a:ext cx="12180960" cy="6880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333520" y="150840"/>
            <a:ext cx="120600" cy="119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854920" y="985680"/>
            <a:ext cx="294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如何制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8982000" y="1824120"/>
            <a:ext cx="3571920" cy="33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姜太公垂钓的悠然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陶渊明“采菊东篱下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悠然见南山”的闲散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在当今社会已是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说。信息的极度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胀，与社会的浮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之气，已将人们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忍耐逼至死角。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何制造悠然自得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                  </a:t>
            </a: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心情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-17640" y="1098720"/>
            <a:ext cx="8899560" cy="4572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8740800" y="911160"/>
            <a:ext cx="2992320" cy="1050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10953720" y="1730520"/>
            <a:ext cx="81756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12192120" cy="6845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025880" y="555480"/>
            <a:ext cx="7743960" cy="5212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54000" y="1314360"/>
            <a:ext cx="294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愉悦体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1397160" y="2124000"/>
            <a:ext cx="3571560" cy="33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轻松的方式有多种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不论是哪种，让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脑停止思考，以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个愉悦的状态迎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体验，是最适宜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爱生活，爱工作，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不同状态的自己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适时调整，重装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发。生活其实是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场修行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4994280" y="5222880"/>
            <a:ext cx="66769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音乐，电影，大海，访友，旅行，放松的不只是心情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853920" y="1254240"/>
            <a:ext cx="2948040" cy="1035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143680" y="1028880"/>
            <a:ext cx="5160960" cy="4122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92280" y="1938240"/>
            <a:ext cx="85716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6480" y="-12600"/>
            <a:ext cx="12322440" cy="6906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412120" y="884160"/>
            <a:ext cx="294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随心自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8837640" y="1857240"/>
            <a:ext cx="182556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没有人一直处于逆境或顺境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将自己的身心收放自如，处惊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之不变。困闲世之蛰伏，佛曰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心不动，人不妄动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8325000" y="809640"/>
            <a:ext cx="294768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0450440" y="1687680"/>
            <a:ext cx="817560" cy="3659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-4680" y="1771560"/>
            <a:ext cx="123188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197840" y="1285920"/>
            <a:ext cx="29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如鱼得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7170840" y="3241800"/>
            <a:ext cx="47401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自信在自卑之上，在自负之下。知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者智，自知者明，了解自己，完善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我，自信来源于你内心强大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7156440" y="2197080"/>
            <a:ext cx="47401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如鱼得水，不是因为鱼儿的安安然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在适应环境的同时，有效的利用现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环境，在自己的原则内，扬马驰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7183440" y="4275000"/>
            <a:ext cx="47401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藏锋守拙，却也要适时的张扬自我，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时务者为俊杰，创造时机，把握时机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做个职场聪明人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081920" y="1222200"/>
            <a:ext cx="2948040" cy="103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380280" y="2019240"/>
            <a:ext cx="817560" cy="3660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492120" y="1079640"/>
            <a:ext cx="1167624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12192120" cy="6897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-30240" y="-57240"/>
            <a:ext cx="12254040" cy="5154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5160" y="-237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335320" y="160200"/>
            <a:ext cx="118800" cy="119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2855880" y="4238640"/>
            <a:ext cx="3570480" cy="1641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1844640" y="1212840"/>
            <a:ext cx="94950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20520" y="-17640"/>
            <a:ext cx="12266640" cy="6883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176480" y="1228680"/>
            <a:ext cx="10171080" cy="4200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160" y="-93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2335320" y="189000"/>
            <a:ext cx="118800" cy="118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94120" y="133524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感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4984920" y="133668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谢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6056280" y="133812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关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121520" y="133812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注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3637080" y="2505240"/>
            <a:ext cx="52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浪漫雅圆"/>
              </a:rPr>
              <a:t>THANK YOU 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4194000" y="3044880"/>
            <a:ext cx="52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浪漫雅圆"/>
              </a:rPr>
              <a:t>YOUR ATTEN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asus</dc:creator>
  <dc:description/>
  <dc:language>en-US</dc:language>
  <cp:lastModifiedBy>zuazua W</cp:lastModifiedBy>
  <dcterms:modified xsi:type="dcterms:W3CDTF">2015-01-07T08:55:3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