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A3D-F819-43CB-8376-A1399E41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810-057F-4669-BE16-8F78A5C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D50-394C-439F-89D0-B87E485B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8B5-BCE2-46E2-94D3-B13D3D2D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AC5-4088-4B7C-8135-83B52C50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F88D-24C1-4129-9528-78A909B6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B96-6150-4668-95E9-1154D9A7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CC81-18CB-4C8B-9308-4DF65BE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A9D0-DD40-42BC-BAA7-EFA5EF4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8A49-2A51-4770-AAD7-1EE84BB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BCE4-1DE4-42D9-89EB-C121CB9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399-66CB-4242-BBC1-E3470AE5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E759-4DCB-447A-BF58-2087956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A909-E0A4-4ED8-9D92-1229860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9C9A-D3D7-44E9-BC4C-97E4785C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ACCE-C2FE-4A99-8171-AF4D0464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2883-2A00-4837-BC66-8D5DDA7D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177-EB5B-45B7-8B2C-FC7047E5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7FE-09CC-442F-8EBA-BEC64CD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382-2610-4DEB-B07D-52A1B9F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EF2-0AB3-4F7F-B9E7-72090D75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4B5-BD2D-4D1C-9853-BF5CA4A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60B-E1CB-4C87-AFBF-21505BD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4AD-3C41-4E08-824D-5461B9D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887-DF83-432F-9D97-5C90481A0B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D85F-9F97-48B6-AF5B-66AE873ED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-1764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 Placeholder 2" descr="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asus</dc:creator>
  <dc:description/>
  <dc:language>en-US</dc:language>
  <cp:lastModifiedBy>zuazua W</cp:lastModifiedBy>
  <dcterms:modified xsi:type="dcterms:W3CDTF">2015-01-07T08:5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