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5C5-CD05-4EC4-A158-065995CC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885F-1007-4FC9-90A5-6749B802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A2E-D077-4A8E-AEF2-5B10717C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8D7-13D3-4648-A013-A3A335A1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7F63-DD2A-4F36-869F-E2C3470E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E110-724C-4BF1-A1C6-C31C5C3F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62F-2F18-4BB2-962D-104E6333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45A-9FE7-43AE-A382-BD26CDCB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2B48-0949-465C-85D4-078CD874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62F-BE84-460B-83FC-C098758C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35D-594D-4280-B94E-845D1A65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4CE-750A-49DA-906F-181839FA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B5D7-42B6-4A23-85B5-A1F665BDF3BE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21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png"/><Relationship Id="rId11" Type="http://schemas.openxmlformats.org/officeDocument/2006/relationships/image" Target="../media/image75.png"/><Relationship Id="rId12" Type="http://schemas.openxmlformats.org/officeDocument/2006/relationships/image" Target="../media/image75.png"/><Relationship Id="rId13" Type="http://schemas.openxmlformats.org/officeDocument/2006/relationships/image" Target="../media/image75.png"/><Relationship Id="rId14" Type="http://schemas.openxmlformats.org/officeDocument/2006/relationships/image" Target="../media/image75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Rihanna take a bow.mp3" descr="Rihanna take a bow"/>
          <p:cNvPicPr/>
          <p:nvPr/>
        </p:nvPicPr>
        <p:blipFill>
          <a:blip r:embed="rId2"/>
          <a:stretch/>
        </p:blipFill>
        <p:spPr>
          <a:xfrm>
            <a:off x="95400" y="4927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5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30-01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31-01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32-01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33-01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34-01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35-01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0" dur="998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3-02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14-02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16-02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43-02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30-02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08" dur="998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23-03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24-03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20-03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1-03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22-03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3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7-03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4-03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26-03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28-03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29-03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31-02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32-02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33-02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34-02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35-02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36-02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37-02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0-03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30-04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38-02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9-02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40-02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41-02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41-02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42-02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13-02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14-02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16-02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33-03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44-02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45-02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45-03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45-04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45-05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46-03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46-04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46-05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46-06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41-02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41-02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41-02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41-02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48-02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49-02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47-02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0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5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5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7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5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68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99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-01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4-01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3-01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6-02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7-02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8-02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9-02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8-02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8-02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8-02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10-02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11-02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12-02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13-02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14-02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15-02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16-02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6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7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8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8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499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4" dur="99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2-03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2-03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6-03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7-03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4-03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5-03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999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999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8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9-03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9-03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9-03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88-03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10-03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20-02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21-02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22-02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22-02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22-02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22-02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23-02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23-02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23-02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23-02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24-02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25-02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26-02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27-02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8-01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20-01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23-01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5-01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23-01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27-01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29-01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23-01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23-01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19-01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4-01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26-01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28-01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cp:keywords/>
  <dc:language>en-US</dc:language>
  <cp:lastModifiedBy>Administrator</cp:lastModifiedBy>
  <dcterms:modified xsi:type="dcterms:W3CDTF">2016-07-25T13:49:35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