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4.jpeg" ContentType="image/jpeg"/>
  <Override PartName="/ppt/media/image59.png" ContentType="image/png"/>
  <Override PartName="/ppt/media/image21.png" ContentType="image/png"/>
  <Override PartName="/ppt/media/image5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47.png" ContentType="image/png"/>
  <Override PartName="/ppt/media/image28.png" ContentType="image/png"/>
  <Override PartName="/ppt/media/image7.jpeg" ContentType="image/jpeg"/>
  <Override PartName="/ppt/media/image5.png" ContentType="image/png"/>
  <Override PartName="/ppt/media/image35.png" ContentType="image/png"/>
  <Override PartName="/ppt/media/image25.png" ContentType="image/png"/>
  <Override PartName="/ppt/media/image19.jpeg" ContentType="image/jpeg"/>
  <Override PartName="/ppt/media/image2.png" ContentType="image/png"/>
  <Override PartName="/ppt/media/image32.png" ContentType="image/png"/>
  <Override PartName="/ppt/media/image15.png" ContentType="image/png"/>
  <Override PartName="/ppt/media/image3.jpeg" ContentType="image/jpeg"/>
  <Override PartName="/ppt/media/image30.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53.png" ContentType="image/png"/>
  <Override PartName="/ppt/media/image42.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18.png" ContentType="image/png"/>
  <Override PartName="/ppt/media/image20.png" ContentType="image/png"/>
  <Override PartName="/ppt/media/image44.png" ContentType="image/png"/>
  <Override PartName="/ppt/media/image56.png" ContentType="image/png"/>
  <Override PartName="/ppt/media/image41.png" ContentType="image/png"/>
  <Override PartName="/ppt/media/image40.png" ContentType="image/png"/>
  <Override PartName="/ppt/media/image37.png" ContentType="image/png"/>
  <Override PartName="/ppt/media/image33.png" ContentType="image/png"/>
  <Override PartName="/ppt/media/image38.png" ContentType="image/png"/>
  <Override PartName="/ppt/media/image8.png" ContentType="image/png"/>
  <Override PartName="/ppt/media/image31.png" ContentType="image/png"/>
  <Override PartName="/ppt/media/image49.png" ContentType="image/png"/>
  <Override PartName="/ppt/media/image12.png" ContentType="image/png"/>
  <Override PartName="/ppt/media/image39.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5B56E-8149-478D-B160-91CD41787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AC3F9-AA45-4311-9BAB-1A588EB16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4A6E2-A484-41D2-925D-147D94E04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05B02-9772-4B92-9D90-DF0C1BA7C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0E94E-F711-46D2-A963-E0E1F2645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9397D-995C-407D-B097-DFC7C1929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BDB43-556B-4ED0-A46A-1ABD17C2B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C02A7-A37F-42EB-B74F-585C77D2E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5C5C2-6E9E-4482-A898-D14B5FC91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BA6E9-E50C-44C2-B076-D08A47330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A0BD5-B8A4-4E1D-A418-6797FF927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7FD92-F088-41F8-9A97-409EDF1C9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86096-3D24-42B1-9332-E4CAC76E0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F7BE2-FFCA-4727-92A7-F012DFE6E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E8562-898B-4572-AC5F-5636A4556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90AF1-6B89-42E0-80C3-95000E111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D3A68-B9EF-4FFA-AF39-589D4C544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F0B6F2-2DE8-4E9E-A0F2-E4F6D2C086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82467-34A4-4CBC-97E4-30404CAD23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2F376-5C1E-484F-9BFB-06B94C5CE9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D8A028-252E-4F24-9D35-8C0DF308A2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B74C18-2570-4CAA-9F16-596377B377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929C9-2ECE-4A94-BC3D-C1FF4C476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3076FB-8284-4C67-890E-91102A698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83B4D-95A8-433D-9ADF-60B461FEF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EFA17-B5F9-4F86-896D-934D55327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C528D-ACA8-42F4-97CF-2EC484941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6CB60-E710-4042-8132-DEE1CCD3C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A733EA-0051-48F1-A3EC-9C3F9C962C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DEF1BD-EB44-46A0-814E-A278025F13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5B29E6-7587-44A7-ADB1-DF0573D964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B6BA85-93E3-4B96-9887-7C480B2A71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E2856-DA0A-4A2E-9B4B-C7D8D22AA0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936E9-4076-43AB-81AF-1D03EF799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4575BD-E9B8-498C-AA5D-0686EA844C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CA9EF0-9E90-4470-9643-1A94BB4CAA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7BA74E-89A7-4873-974E-D5DC1E8FAE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EB2DA-96D4-4F47-851D-FE7965098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4DBAA-E494-43F7-BF1D-5B0B31E01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3453D6-1F99-4D42-9E10-5D16AD5C6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75942C-FDFF-4FC1-9884-B5E8253FD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8683E9-A22A-4836-9F8A-03C254D9D6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C68F7A-B28D-4E15-9693-67D33BCD12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D3C0AE-D724-4AB6-86A9-855266A2FB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6599C-7516-4963-9026-CCE281D06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85B664-43EF-4662-B16A-D31D1AA72F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188862-6062-4AA6-A28F-F86E2D841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B7C46-E4F9-4D82-A122-5488DB97D6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1F147-9C62-42A1-878A-FF5F1D8812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3D203C-4B0E-40E3-B402-F766EFF4F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4379E-8197-42F3-8846-2A60EF8CB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EC53DC-4069-484B-9A11-5B388DD36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8192FE-B7F4-4AF2-AE9B-DE4A353EE3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FE9CF2-0B2B-4224-9885-FC3B3384FC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47D977-CB7E-4F2C-905C-0762B3CB70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CEC70-927D-4085-ADDA-54D91B6A2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E88BE1-019D-4C70-B972-56FD21E469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84CA2-33F7-4736-9EF7-5A7D27ED1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E5AE-DDBA-484B-BD03-F3F89406C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3C31-66F3-401A-A3E3-0B02B3177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B5CC-3770-45B2-BF52-F2D98C196F5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5367-C51F-4C55-8D70-BFB9106D249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FF2F-B253-439D-AA26-728B8B422A2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09D8-6F85-48EB-994D-7829A5AAA74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1215-50F4-4FF5-A0B5-8954240C9CB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64000" y="226368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7" descr="12-3"/>
          <p:cNvPicPr/>
          <p:nvPr/>
        </p:nvPicPr>
        <p:blipFill>
          <a:blip r:embed="rId5"/>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par>
                                <p:cTn id="553" nodeType="withEffect" fill="hold" presetClass="entr" presetID="12" presetSubtype="8">
                                  <p:stCondLst>
                                    <p:cond delay="0"/>
                                  </p:stCondLst>
                                  <p:childTnLst>
                                    <p:set>
                                      <p:cBhvr>
                                        <p:cTn id="554" dur="1" fill="hold">
                                          <p:stCondLst>
                                            <p:cond delay="0"/>
                                          </p:stCondLst>
                                        </p:cTn>
                                        <p:tgtEl>
                                          <p:spTgt spid="349"/>
                                        </p:tgtEl>
                                        <p:attrNameLst>
                                          <p:attrName>style.visibility</p:attrName>
                                        </p:attrNameLst>
                                      </p:cBhvr>
                                      <p:to>
                                        <p:strVal val="visible"/>
                                      </p:to>
                                    </p:set>
                                    <p:animEffect filter="slide(fromLeft)" transition="in">
                                      <p:cBhvr additive="repl">
                                        <p:cTn id="555"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39600" y="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Administrator</cp:lastModifiedBy>
  <dcterms:modified xsi:type="dcterms:W3CDTF">2016-07-26T02:47:36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