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475-0A64-430A-BEBD-3030263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B49-2CBA-457E-9248-4BF3ECE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774-4B37-4F6F-AB41-68DDBFC8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44C-2A45-49B7-930B-0FCBB994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5B1-11A4-4F15-866B-A98C4853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ACC-2875-4D22-AB5B-D5F52B8B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158-1EA5-419D-A6F9-F0D45EC2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929-7867-4A14-B49F-0B8C0FB9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E93-4EB2-42DB-93BF-87016EFA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4FF-615C-4B9E-81A9-C2592B8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1F3-73C4-4089-BB2C-91DDA1F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0AF-7841-4CAA-9FEB-1F039875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4AF-771D-40B8-98FB-7BE4236547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7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4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8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79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3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7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8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6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6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4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8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2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6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0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3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6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19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2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5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0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5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0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6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7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1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5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59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3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4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8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69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3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4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79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1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0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4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29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49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8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5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6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7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3"/>
            <p:cNvSpPr/>
            <p:nvPr/>
          </p:nvSpPr>
          <p:spPr>
            <a:xfrm>
              <a:off x="3500280" y="3513240"/>
              <a:ext cx="5144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0:35:51Z</dcterms:modified>
  <cp:revision>26</cp:revision>
  <dc:subject/>
  <dc:title>幻灯片 1</dc:title>
</cp:coreProperties>
</file>