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2A6-1529-45B2-AFDD-DD8A291B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5EA-4C6F-4B46-A12E-5D0B54F8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0C5-898A-4A3B-A6BE-8CC5BD29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90E-C4BD-43D1-83F1-3F147B27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846-BF90-4995-A1DB-AAC07F8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E2F-9E33-47C0-87D8-B6186AB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B60-2463-475E-B413-27F9572E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AC9-3D9A-4AF6-9A23-3A2823C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6FE-C3CD-4691-AFC8-84479B03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159-2CDA-4309-9ECA-3C3765F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7D6-68E1-4318-8484-91B255B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8A7-602F-41E9-9790-21121FE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53A-CBDC-4D26-A36C-CE81546C2C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5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9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4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8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9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5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9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3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7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1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4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7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20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3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6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1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6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1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7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8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2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6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60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4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5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9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4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8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30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7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1:48:37Z</dcterms:modified>
  <cp:revision>25</cp:revision>
  <dc:subject/>
  <dc:title>PowerPoint 演示文稿</dc:title>
</cp:coreProperties>
</file>