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88E3-AF82-40F8-8980-49EB0D145A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FA36-E21A-4DA1-9F4B-65F294E8157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C1E-3A5D-4C4A-9363-21FB56E3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0E6-F812-4821-B35B-F72FBA4D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9B3-661D-4765-ACD9-632DE8A2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4C86-6C4E-4CA2-8FB6-39415DBE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341-8E8B-41FA-9D77-D71161BF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399-609D-47CE-B855-693E42A0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913-9B00-4B75-8BD7-7742DBE9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04A-A718-4EBF-BB4D-822B2D90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539-C42A-4953-A68B-34085EFD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7F5-111E-43D0-BFA6-08EF9532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811-E4A9-4919-BBA6-99F09E2E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5C8-B0B1-481F-99AA-14DA347B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3F7C-D76D-49D2-A907-848233E3A53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548C-790E-4587-8795-EA8682A207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9744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2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"/>
          <p:cNvSpPr/>
          <p:nvPr/>
        </p:nvSpPr>
        <p:spPr>
          <a:xfrm>
            <a:off x="-511200" y="1119240"/>
            <a:ext cx="1611360" cy="9936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9"/>
          <p:cNvSpPr/>
          <p:nvPr/>
        </p:nvSpPr>
        <p:spPr>
          <a:xfrm>
            <a:off x="-169920" y="1467000"/>
            <a:ext cx="2502000" cy="15444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6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65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63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0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9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3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9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nodeType="clickEffect" fill="hold">
                      <p:stCondLst>
                        <p:cond delay="0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0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9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9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3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1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5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3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7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46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49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52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55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nodeType="clickEffect" fill="hold">
                      <p:stCondLst>
                        <p:cond delay="0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19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9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9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9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5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9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69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5" dur="8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8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3" dur="indefinite" restart="never" nodeType="tmRoot">
          <p:childTnLst>
            <p:seq>
              <p:cTn id="1744" dur="indefinite" nodeType="mainSeq">
                <p:childTnLst>
                  <p:par>
                    <p:cTn id="1745" nodeType="clickEffect" fill="hold">
                      <p:stCondLst>
                        <p:cond delay="0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9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3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7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1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9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4"/>
          <p:cNvSpPr/>
          <p:nvPr/>
        </p:nvSpPr>
        <p:spPr>
          <a:xfrm>
            <a:off x="853524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nodeType="clickEffect" fill="hold">
                      <p:stCondLst>
                        <p:cond delay="0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1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1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nodeType="clickEffect" fill="hold">
                      <p:stCondLst>
                        <p:cond delay="0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9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4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2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6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8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9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04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7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nodeType="clickEffect" fill="hold">
                      <p:stCondLst>
                        <p:cond delay="0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nodeType="clickEffect" fill="hold">
                      <p:stCondLst>
                        <p:cond delay="0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6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44892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7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0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3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8969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907056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Administrator</cp:lastModifiedBy>
  <dcterms:modified xsi:type="dcterms:W3CDTF">2016-07-26T02:03:17Z</dcterms:modified>
  <cp:revision>1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