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36.png" ContentType="image/png"/>
  <Override PartName="/ppt/media/image29.png" ContentType="image/png"/>
  <Override PartName="/ppt/media/image34.png" ContentType="image/png"/>
  <Override PartName="/ppt/media/image28.png" ContentType="image/png"/>
  <Override PartName="/ppt/media/image4.png" ContentType="image/png"/>
  <Override PartName="/ppt/media/image7.jpeg" ContentType="image/jpeg"/>
  <Override PartName="/ppt/media/image16.png" ContentType="image/png"/>
  <Override PartName="/ppt/media/image27.png" ContentType="image/png"/>
  <Override PartName="/ppt/media/image19.jpeg" ContentType="image/jpeg"/>
  <Override PartName="/ppt/media/image25.png" ContentType="image/png"/>
  <Override PartName="/ppt/media/image14.png" ContentType="image/png"/>
  <Override PartName="/ppt/media/image2.png" ContentType="image/png"/>
  <Override PartName="/ppt/media/image32.png" ContentType="image/png"/>
  <Override PartName="/ppt/media/image35.png" ContentType="image/png"/>
  <Override PartName="/ppt/media/image26.png" ContentType="image/png"/>
  <Override PartName="/ppt/media/image59.png" ContentType="image/png"/>
  <Override PartName="/ppt/media/image22.png" ContentType="image/png"/>
  <Override PartName="/ppt/media/image24.jpeg" ContentType="image/jpeg"/>
  <Override PartName="/ppt/media/image47.png" ContentType="image/png"/>
  <Override PartName="/ppt/media/image10.png" ContentType="image/png"/>
  <Override PartName="/ppt/media/image15.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1.jpeg" ContentType="image/jpeg"/>
  <Override PartName="/ppt/media/image21.png" ContentType="image/png"/>
  <Override PartName="/ppt/media/image30.png" ContentType="image/png"/>
  <Override PartName="/ppt/media/image5.png" ContentType="image/png"/>
  <Override PartName="/ppt/media/image17.png" ContentType="image/png"/>
  <Override PartName="/ppt/media/image20.png" ContentType="image/png"/>
  <Override PartName="/ppt/media/image11.png" ContentType="image/png"/>
  <Override PartName="/ppt/media/image48.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12.png" ContentType="image/png"/>
  <Override PartName="/ppt/media/image49.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57.jpeg" ContentType="image/jpe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8AA50-C585-434D-9D87-8F10BC5E6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DAB22-45DE-4352-B9B1-ACA268E9F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C6657-801B-4DB3-80F7-2CC8B91E1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036A4-E213-4B11-8784-53407E67E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0F94D9-3DB7-43AF-871C-D78820780A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A7993-043F-4D3F-A751-042C54F65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DD6B5-4AF5-43EB-8C3D-FEBF00D0F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F2CF7-B9A4-4C97-A0B5-A2B6AE04D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73C91-0DB8-48F5-B1DF-F7CEA4B7E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CA68C-E03F-4F5A-9DF7-FBDCFE5E5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58A2D-99DA-4A6A-987C-CFC2094B9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AC316-1C47-472C-B086-F4274ED44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E0CF1-2ED6-4613-B2AE-5409E5194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9C7CB-7583-4EAD-9181-B58F87151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38201-FF27-48E0-ABF0-59AA0BC93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98F3C-50C2-483D-BAD7-217E5369D6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201668-CFB0-4AFB-913B-0613DEA1BC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560A8E-ADC2-4774-ACFE-1E31BDAA01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61F1AF-C0DA-40E2-9139-46272F37EE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40BD9A-251C-44C7-89B7-C0B374F5B6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6EFFCB-AC4D-4C92-AAD1-CD75889F0C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FAE3AA-DBCF-409A-B3A8-120B03CA70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17729-A884-499E-A441-233BEBF53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BF2EFE-1A61-4B7E-AB22-3F81A51FB0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FA69F-53FF-4B54-939D-FAA422FA53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CE6130-44FD-41B1-B720-62EA36FFD3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0707A-F5C9-44C2-A7BD-2426C91CD6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2728D4-B535-4FA9-917E-F8C128389F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ADAA1D-7EC4-44CE-8D16-E1BA53902E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9920C8-C795-4D84-8415-6B9BB7F5B7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AB21B0-B13B-4424-97A0-6A50F10257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C815D5-1226-43EC-A71B-4AD9BA0B24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727502-9DB0-4966-976F-F4C1F9E821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05EC4-7CE1-45D1-AB02-7823710E9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3779E5-ED8C-4C9E-AD4E-2A77F4ABB9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533152-92D2-4229-850C-473B754C88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23159B-7C76-4CBE-841E-19188994AA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E372C8-4750-4142-959B-3335D267CD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284A0E-791C-43C1-8B86-D0D3525BC7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E083C6-63DE-4EC6-9817-EE24073FE6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F1CE06-B3C0-4110-A78E-D52A68206A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7938CF-7F6B-46B3-AFCA-5CD9D08273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3F23A8-72F9-4E31-829B-009A386B99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ECAF03-776D-44E7-B9E1-89520AF480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874B3-B28F-406F-8293-6BC5B676E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BD1AD9-8B36-4C55-83C5-C7113CEE0F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E85C11-8CC5-457F-82A7-11C08B1A97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991732-0100-4031-82C1-6BF7AFAACF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3F37C8-B37F-4C27-A461-54CB8395E3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92FE73-11F9-4EA6-BA30-D4918EB58B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58B954-BED4-4AA3-ACDA-A6FE560015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3FF760-6014-4FA1-A4AC-2D4BA2034D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BAA1B3-3D06-49E7-98EE-53771804AE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FC766F-11FB-46FC-A701-5C57C46D57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CADE93-AD33-478C-B206-E52F16C401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EEB2E-E2A7-40E5-8474-A5A4E9E2A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B198F6-9F2A-447B-9649-C7CC3C61EB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B61A2-4B11-4ACF-9A76-30C45DDAD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ED96E-C951-42EB-A3F6-7A3193F6C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E6999-6DF3-413B-8B00-999229118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D93E6-0DEC-4DC7-9168-D51078A9365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72C7-425D-40C1-911E-82457467453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22F8-1020-4B0F-A189-D867BC4ED7A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FA8B-6430-4FED-9E9B-F6BFF718114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9FB7-FA96-428A-9EA9-4C7ED342AD2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03520" y="219060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6" descr="12-2"/>
          <p:cNvPicPr/>
          <p:nvPr/>
        </p:nvPicPr>
        <p:blipFill>
          <a:blip r:embed="rId5"/>
          <a:stretch/>
        </p:blipFill>
        <p:spPr>
          <a:xfrm>
            <a:off x="4506840" y="3151080"/>
            <a:ext cx="1311480" cy="270000"/>
          </a:xfrm>
          <a:prstGeom prst="rect">
            <a:avLst/>
          </a:prstGeom>
          <a:ln w="0">
            <a:noFill/>
          </a:ln>
        </p:spPr>
      </p:pic>
      <p:pic>
        <p:nvPicPr>
          <p:cNvPr id="350" name="Picture 7" descr="12-3"/>
          <p:cNvPicPr/>
          <p:nvPr/>
        </p:nvPicPr>
        <p:blipFill>
          <a:blip r:embed="rId6"/>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000"/>
                            </p:stCondLst>
                            <p:childTnLst>
                              <p:par>
                                <p:cTn id="554" nodeType="afterEffect" fill="hold" presetClass="entr" presetID="12" presetSubtype="2">
                                  <p:stCondLst>
                                    <p:cond delay="0"/>
                                  </p:stCondLst>
                                  <p:childTnLst>
                                    <p:set>
                                      <p:cBhvr>
                                        <p:cTn id="555" dur="1" fill="hold">
                                          <p:stCondLst>
                                            <p:cond delay="0"/>
                                          </p:stCondLst>
                                        </p:cTn>
                                        <p:tgtEl>
                                          <p:spTgt spid="349"/>
                                        </p:tgtEl>
                                        <p:attrNameLst>
                                          <p:attrName>style.visibility</p:attrName>
                                        </p:attrNameLst>
                                      </p:cBhvr>
                                      <p:to>
                                        <p:strVal val="visible"/>
                                      </p:to>
                                    </p:set>
                                    <p:animEffect filter="slide(fromRight)" transition="in">
                                      <p:cBhvr additive="repl">
                                        <p:cTn id="556" dur="500"/>
                                        <p:tgtEl>
                                          <p:spTgt spid="349"/>
                                        </p:tgtEl>
                                      </p:cBhvr>
                                    </p:animEffect>
                                  </p:childTnLst>
                                </p:cTn>
                              </p:par>
                              <p:par>
                                <p:cTn id="557" nodeType="withEffect" fill="hold" presetClass="entr" presetID="12" presetSubtype="8">
                                  <p:stCondLst>
                                    <p:cond delay="0"/>
                                  </p:stCondLst>
                                  <p:childTnLst>
                                    <p:set>
                                      <p:cBhvr>
                                        <p:cTn id="558" dur="1" fill="hold">
                                          <p:stCondLst>
                                            <p:cond delay="0"/>
                                          </p:stCondLst>
                                        </p:cTn>
                                        <p:tgtEl>
                                          <p:spTgt spid="350"/>
                                        </p:tgtEl>
                                        <p:attrNameLst>
                                          <p:attrName>style.visibility</p:attrName>
                                        </p:attrNameLst>
                                      </p:cBhvr>
                                      <p:to>
                                        <p:strVal val="visible"/>
                                      </p:to>
                                    </p:set>
                                    <p:animEffect filter="slide(fromLeft)" transition="in">
                                      <p:cBhvr additive="repl">
                                        <p:cTn id="559"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7920" y="-1116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假字假字假字假字假字假字假字假字假字假字假字</a:t>
            </a:r>
            <a:endParaRPr b="0" lang="en-US" sz="2000" spc="-1" strike="noStrike">
              <a:solidFill>
                <a:srgbClr val="000000"/>
              </a:solidFill>
              <a:latin typeface="Calibri"/>
            </a:endParaRPr>
          </a:p>
        </p:txBody>
      </p:sp>
      <p:sp>
        <p:nvSpPr>
          <p:cNvPr id="239"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6"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7"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a:t>
            </a:r>
            <a:endParaRPr b="0" lang="en-US" sz="1000" spc="-1" strike="noStrike">
              <a:solidFill>
                <a:srgbClr val="000000"/>
              </a:solidFill>
              <a:latin typeface="Calibri"/>
            </a:endParaRPr>
          </a:p>
        </p:txBody>
      </p:sp>
      <p:sp>
        <p:nvSpPr>
          <p:cNvPr id="298"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zhnagsir</cp:lastModifiedBy>
  <dcterms:modified xsi:type="dcterms:W3CDTF">2013-04-01T03:08:05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