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0C9-9CE3-4E1C-90E2-28212049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D1C-A747-41E2-B0FB-93F2A5FD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A55-E19D-4539-B41A-3FC639FB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CDE-098D-4C2E-B993-89170CB8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88C-5407-4982-9D52-7665CC68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A94-1D61-4B8D-97E6-2998E88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57D-B885-4340-BD68-19D92663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B89-779F-418D-90F6-F35EB91D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5AF-15FD-4B10-96FF-39C492B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064-4078-4181-89D6-4CBE6DC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329-39B4-4ABE-9ADB-E6D6536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6AF-FFBA-4389-A53A-0F09C99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FF2A-6AF6-4E20-95C2-3DE2B7853F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95E0-A216-46C5-8A41-24B5EFCCAD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45" name="TextBox 19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1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2">
              <a:hlinkClick r:id="rId3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3">
              <a:hlinkClick r:id="rId4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>
              <a:hlinkClick r:id="rId5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2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"/>
          <p:cNvPicPr/>
          <p:nvPr/>
        </p:nvPicPr>
        <p:blipFill>
          <a:blip r:embed="rId6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2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8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2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1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5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燕尾形 39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4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76" name="TextBox 52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3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4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5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6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8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89" name="TextBox 17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0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2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16"/>
          <p:cNvSpPr/>
          <p:nvPr/>
        </p:nvSpPr>
        <p:spPr>
          <a:xfrm>
            <a:off x="1440" y="4913280"/>
            <a:ext cx="71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9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6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29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38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42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5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4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68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7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1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4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3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0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08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3:34:00Z</dcterms:created>
  <dc:creator>微软中国</dc:creator>
  <dc:description/>
  <cp:keywords/>
  <dc:language>en-US</dc:language>
  <cp:lastModifiedBy>administrator</cp:lastModifiedBy>
  <cp:lastPrinted>1899-12-30T00:00:00Z</cp:lastPrinted>
  <dcterms:modified xsi:type="dcterms:W3CDTF">2015-10-21T12:51:58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