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181-2D21-4174-8E8A-C2FD802E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971-4F66-431E-A4F2-7EE9FBA0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35D-BBD4-43DC-BB09-4BAC7D04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9F1-FE8E-4CBA-81A3-1096BEDF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FE1-AA20-44B6-9B7B-0668F7B5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8ED-D612-4E00-BD8D-386B5EA4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7F7-D97B-48A7-BE60-28E0768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D6F-428E-4571-8AAB-E6642E3B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A2B-F003-4265-A557-E8705575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AA5-57B9-49AE-B652-3BDE5CC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319-181D-4ADE-AE3E-0FC74D57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938-A7CF-458E-B980-2E06B40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AB01-4A89-409D-A36F-5FB97EB0F8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275C-A967-43D0-86C0-C4B4918052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45" name="TextBox 19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1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22">
              <a:hlinkClick r:id="rId3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3">
              <a:hlinkClick r:id="rId4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>
              <a:hlinkClick r:id="rId5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2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"/>
          <p:cNvPicPr/>
          <p:nvPr/>
        </p:nvPicPr>
        <p:blipFill>
          <a:blip r:embed="rId6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2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8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2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15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5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燕尾形 39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4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76" name="TextBox 52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3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54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5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6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8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89" name="TextBox 17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0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2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16"/>
          <p:cNvSpPr/>
          <p:nvPr/>
        </p:nvSpPr>
        <p:spPr>
          <a:xfrm>
            <a:off x="1440" y="4913280"/>
            <a:ext cx="71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9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6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29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38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42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5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4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68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7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1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4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3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0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08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3:34:00Z</dcterms:created>
  <dc:creator>微软中国</dc:creator>
  <dc:description/>
  <cp:keywords/>
  <dc:language>en-US</dc:language>
  <cp:lastModifiedBy>administrator</cp:lastModifiedBy>
  <cp:lastPrinted>1899-12-30T00:00:00Z</cp:lastPrinted>
  <dcterms:modified xsi:type="dcterms:W3CDTF">2015-10-21T12:51:58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