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679-608A-435A-A351-D96E8CA1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1BB-5576-457E-8A8F-F849BBB5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152-F24B-48A9-8333-8A659F4F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9AA-4EDE-460E-B864-A516A2D5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B102-8775-41DE-9B28-F08FCBF5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8100-FD9A-4AF0-B20D-8982E7AF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CED6-9D43-4461-9FA5-BFF80654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B2C2-70A4-4BBF-9B36-BA7166B3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F1A2-CE77-4262-BB57-ED08C6F7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1605-84E2-46DD-8E24-6A9279F8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1F68-2D2A-4432-9116-FF384F1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C7A-609E-46CE-B02D-BB741F32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F66-7383-4E33-99FD-7FEB531E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F1F2-9B33-43B6-90FB-956FF10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5C8C-34FD-4DE5-9F5A-E81C8A38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8166-4BC2-4490-8277-B18E1CFA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A71E-CF3B-48CE-B337-8AA03C3C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C7C-B6AE-461A-ABF2-0205F8E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8F1-10EE-4DBC-90EF-FD2FCF30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7F9-B97F-4E8C-ACA0-077C4A12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9A4-730C-450E-A929-84961BCE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462-3C3D-4771-847F-7B87F0D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B04-3BB9-4B23-99D1-10311FC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AD1-2C68-45C1-8A4B-85E97C2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0F6B-9126-4F60-9CA9-B662D1E027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277-8027-416A-A631-AE6F079FB5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2834-4F5D-4C56-9A45-037D2666F9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816-971A-411C-BA62-552E7C2513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5530680"/>
              <a:gd name="textAreaBottom" fmla="*/ 5530680 h 5530680"/>
            </a:gdLst>
            <a:ahLst/>
            <a:rect l="textAreaLeft" t="textAreaTop" r="textAreaRight" b="textAreaBottom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4602240"/>
              <a:gd name="textAreaBottom" fmla="*/ 4602600 h 4602240"/>
            </a:gdLst>
            <a:ahLst/>
            <a:rect l="textAreaLeft" t="textAreaTop" r="textAreaRight" b="textAreaBottom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5478480"/>
              <a:gd name="textAreaBottom" fmla="*/ 5478840 h 5478480"/>
            </a:gdLst>
            <a:ahLst/>
            <a:rect l="textAreaLeft" t="textAreaTop" r="textAreaRight" b="textAreaBottom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3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1062720"/>
                <a:gd name="textAreaBottom" fmla="*/ 1063080 h 10627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149480"/>
              <a:gd name="textAreaBottom" fmla="*/ 1149840 h 114948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327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328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>
              <a:gd name="textAreaLeft" fmla="*/ -360 w 517320"/>
              <a:gd name="textAreaRight" fmla="*/ 517320 w 5173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4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7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0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3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360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361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>
                <a:gd name="textAreaLeft" fmla="*/ 0 w 2387160"/>
                <a:gd name="textAreaRight" fmla="*/ 2387520 w 238716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亲们选择玩转大学素材，我们立志做最好的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>
              <a:gd name="textAreaLeft" fmla="*/ -360 w 1629000"/>
              <a:gd name="textAreaRight" fmla="*/ 1629000 w 1629000"/>
              <a:gd name="textAreaTop" fmla="*/ 0 h 3259080"/>
              <a:gd name="textAreaBottom" fmla="*/ 3259440 h 325908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>
              <a:gd name="textAreaLeft" fmla="*/ -360 w 1141560"/>
              <a:gd name="textAreaRight" fmla="*/ 1141560 w 11415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>
              <a:gd name="textAreaLeft" fmla="*/ 0 w 393840"/>
              <a:gd name="textAreaRight" fmla="*/ 394200 w 3938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>
              <a:gd name="textAreaLeft" fmla="*/ -360 w 1989000"/>
              <a:gd name="textAreaRight" fmla="*/ 1989000 w 1989000"/>
              <a:gd name="textAreaTop" fmla="*/ 0 h 3981240"/>
              <a:gd name="textAreaBottom" fmla="*/ 3981600 h 398124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>
              <a:gd name="textAreaLeft" fmla="*/ 0 w 574560"/>
              <a:gd name="textAreaRight" fmla="*/ 574920 w 5745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905480"/>
                <a:gd name="textAreaBottom" fmla="*/ 1905840 h 1905480"/>
              </a:gdLst>
              <a:ahLst/>
              <a:rect l="textAreaLeft" t="textAreaTop" r="textAreaRight" b="textAreaBottom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1288080"/>
                <a:gd name="textAreaBottom" fmla="*/ 1288440 h 128808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389960"/>
                <a:gd name="textAreaBottom" fmla="*/ 1390320 h 1389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>
              <a:gd name="textAreaLeft" fmla="*/ 0 w 965160"/>
              <a:gd name="textAreaRight" fmla="*/ 965520 w 96516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BST-WLZ</cp:lastModifiedBy>
  <dcterms:modified xsi:type="dcterms:W3CDTF">2015-05-14T07:50:02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