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6A5-D23A-4608-8080-7E9909CB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3D2-478F-4B4F-A876-4C37EE41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8E9A-8EE8-4F0F-8ACC-42BCB61D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81C9-3722-4359-A461-B346A8A9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1100-6CD3-4B30-A457-8E5B0BE6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91C-7CF5-49CC-A981-582D3752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8A9D-F3CC-4C83-8B56-0599FFD2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00D-8921-4741-9D2B-5A47D8C8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17D-2950-4200-B015-D332D12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529-E368-426B-84C4-7E61DBC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5EC-EE18-4B4C-B19B-0D4BAA61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CA19-3AD5-4930-A6D3-92C4595E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B7F9-DBE1-4734-A09D-FEDE781D40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F:\希言\新建文件夹\ppt-02.png"/>
          <p:cNvPicPr/>
          <p:nvPr/>
        </p:nvPicPr>
        <p:blipFill>
          <a:blip r:embed="rId3"/>
          <a:stretch/>
        </p:blipFill>
        <p:spPr>
          <a:xfrm>
            <a:off x="795240" y="1471680"/>
            <a:ext cx="7491600" cy="7984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SUNNY-PC</cp:lastModifiedBy>
  <dcterms:modified xsi:type="dcterms:W3CDTF">2015-01-06T16:21:49Z</dcterms:modified>
  <cp:revision>1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