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927-82B0-4C9A-8E70-1ED9275C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787-5AD6-4665-ACA6-6986A655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ECF-907B-43A0-B1D3-27016916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E30-9BB8-438D-86E8-A4517A06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C830-EA29-463F-B709-8DC3BE8C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B6AE-1DA9-45F0-94A4-43335DE2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8016-CC3A-4DEE-ACB7-D770BD0A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CB9A-849C-4329-BA6C-A45FA6A8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0343-56AD-4D98-B3D7-41620C11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CC31-267C-4A40-A75F-4A08B4BF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38E2-FDEA-4DB8-BBA5-C6DC71AC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21D-D5EB-4AF6-BAF1-7F2F79AD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67DE-9090-47EF-90FA-B182C710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EDCF-7047-425D-A1F7-74C195DF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05F6-49FA-4855-89AC-58766479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4674-9E24-4A31-A502-11D22774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A503-7534-43A7-839F-A58D17E8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6CE29-E159-477F-A97E-8AEDFDCC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755C-49AB-46DE-9089-890D8FF4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9A324-441F-44CF-BBF8-1971978E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673BD-69AE-452F-B847-9024D039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729BB-C5AC-4950-A4CD-DD057E01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8EE-8ED7-48D3-9FFD-2181775A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2E28C-D17C-42A9-8B5D-4900D5C6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164D6-8E78-4E9A-BD36-E0D27599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E2582-C2D0-4605-B319-E23E947A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6802B-02AA-4CCC-9846-21AC1C1B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A6A1D-1EAE-4482-AD0A-C87E7664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0A835-894C-4086-99BA-A4FC0E4F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B047F-F536-4C0E-9903-499A3EEC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C4C59-5307-4F93-B025-A8CE6098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92B1E-FBE7-4BC5-BD32-53DB515B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B8275-6B86-4BCD-AA2F-25193924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7ADE-CBBC-4462-BFA0-91D646AE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08EF1-E907-4584-ACFE-C286BD1B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4BF9D-7866-43AB-90F8-351D96C5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EFE88-4937-4988-9510-DACBA524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1434D-A064-421C-AEBF-558B2235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21CFE-382D-4834-82FB-75EA2F59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6DEB8-B091-4782-9446-F959B0FD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B8705-2787-4B51-968E-4710EEEB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2293F-AE34-4AC5-8E68-91B916EF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F1E69-D1EF-40C8-91E1-F76192B1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DA4-F805-4333-A4E5-FE1CD5B7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E53-F0F7-4D81-A398-745E9340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C13-7E39-40E3-8CDC-7A5D47A2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3F7-B18F-4F0B-B5C7-71814165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282-85E5-4884-93A3-3122AFC8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CD68-EF1A-46F3-8D6E-CD16D5DCF34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A8E7-F28E-4288-AC3F-E2BBD8D8A42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130D-BE39-41B5-BDD7-AA2ACFAB162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5C10-21B8-4463-A6A4-C622D694DEF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580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583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4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585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7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588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9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590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2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593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597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9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01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3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26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0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31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34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37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9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40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43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4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45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7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48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9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50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2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53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4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55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7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58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9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60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64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5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66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8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69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0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71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3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74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5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76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8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679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696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99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0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1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2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3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09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0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1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2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3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31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4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779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76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7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478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0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481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2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483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486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7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488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0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12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14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17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19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1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22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3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24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6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27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8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29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1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32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3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34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6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37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8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39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1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1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52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53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5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56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8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61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62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4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7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70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71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3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74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76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zzf</cp:lastModifiedBy>
  <dcterms:modified xsi:type="dcterms:W3CDTF">2016-03-24T06:02:47Z</dcterms:modified>
  <cp:revision>79</cp:revision>
  <dc:subject/>
  <dc:title>PowerPoint 演示文稿</dc:title>
</cp:coreProperties>
</file>