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CDD-4838-4BBF-8B5E-273A56C0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ECC-448E-4EFA-9AF8-57AEB50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7D3-9C40-46D3-826A-1C3A4724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8BE-0416-4EB2-81D7-57D5917C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464-BC71-439C-B5B7-70356BBB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1100-BC27-4C10-9B69-5ACE2EA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8A60-CFB3-411F-97D2-ECCB42A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9542-A378-42AB-8274-4A5DA35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9AE-E095-4832-9F0D-82B677BF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F09C-299C-4DDB-9A17-40AB5DC5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5791-E83C-4AE4-BB73-79C3CFF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00F-B68A-410D-86C5-7232B81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B1C-9594-4CEB-9F05-94AB00D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7619-241B-4962-AC2D-96B2549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563B-8D44-4DC1-BBC5-7FAE25BD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725C-8686-43F0-9F95-A5C68400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CEB-B21C-4735-9931-A6DAF323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382C-E195-4DFD-B22A-7950C66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A92C-289E-4921-9D9B-B9B21C4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1B03-5D79-4359-B452-9CD80FA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E61E-9ABF-4FB2-AF68-267E394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06D8-1350-43EC-A7BB-7A17D8B5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F61-2894-4FF2-A85C-00AF1B1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FD01-ED3A-4E3A-8B85-D1E705B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39D1-E104-46A1-8FBD-E8C8C87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B754-302D-4BAF-9554-472B51D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B905-D8B9-491A-A770-5197F34A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9A0C-C04D-43BA-A30B-CB2D6A4B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E550-058E-4B73-A188-0930E8DC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8979-70A3-4700-99F6-C21E85E6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C368-2518-48D0-AB04-8C03DC8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A21C7-BA73-4CED-9C09-52D5B268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930D-F09D-4775-AAD9-FB7DD66D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032-D0F2-4C54-8102-1178B8D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E164-91B5-4F59-ADFE-49D38106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50E2-A5D2-4DAB-9D25-4DF74545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FF68-9BE1-47D5-A7C7-70641BB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B9FF-C2B6-4AE7-B493-B36488E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8372-30C9-49D3-A3EC-C806BCD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37BE-44BA-4C1A-BF7A-3066860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A158-0F92-4724-BB99-B9F77E94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2389-4F8D-4E5B-A59E-B1CD1E9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23C8-1C22-4389-8663-8F3D2312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F48-04D4-41CA-ACC4-618691FB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9CE-16A6-4D65-A7B5-C8680FBB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0D9-A83F-4F9E-AAD9-2D3049D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115-7BBA-4A2F-9209-C847623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540-33D7-4C75-B20B-B7D3B8D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6B73-08B5-4971-AD8B-5427F07FAA6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E47-EF56-4DD2-836A-98F0B14846B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D63-86F8-4D5E-B8A6-2C03D1D62E5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60B-8E20-49DE-8096-8612FEA8F8A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580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583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585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7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588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590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2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593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597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01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26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31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34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37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40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43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4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45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48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9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50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2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53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55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7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58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60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64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66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8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69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71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3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74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5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76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679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696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99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0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2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3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09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0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1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2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13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31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779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76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7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481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483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486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488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0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12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14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17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19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22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6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27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29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32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3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34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6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37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8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39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1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52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53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5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56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8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61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62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4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7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70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71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74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6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zzf</cp:lastModifiedBy>
  <dcterms:modified xsi:type="dcterms:W3CDTF">2016-03-24T06:02:47Z</dcterms:modified>
  <cp:revision>79</cp:revision>
  <dc:subject/>
  <dc:title>PowerPoint 演示文稿</dc:title>
</cp:coreProperties>
</file>