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4D1-64A5-4885-8AC8-B7822E0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86A-2B84-4E32-BA79-012B466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2AD-96E1-4443-8EDB-B6D0EC72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85C-CC61-47FC-8829-3FEA8704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071-4F39-42C9-8738-4A93AF4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73D-464A-45D8-8F87-91AC41E6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233-A00A-4B61-AE80-1A9879F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F12-1F3F-425B-8904-B5CD673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258-2737-4E89-B4D1-8739182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9A3-EA0F-400F-A43F-AD91ABE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C7E-20C6-44EC-A865-50899AA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571-1F24-42FC-8A04-B6DDEC9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1467-774F-4B01-98E5-E7B069EB69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F951-A1EC-4CCF-B50A-EA27A21ABD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86" y="3"/>
                  </a:moveTo>
                  <a:cubicBezTo>
                    <a:pt x="72" y="0"/>
                    <a:pt x="61" y="0"/>
                    <a:pt x="52" y="1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60" y="64"/>
                    <a:pt x="27" y="61"/>
                    <a:pt x="15" y="5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75"/>
                    <a:pt x="6" y="77"/>
                    <a:pt x="6" y="77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8" y="91"/>
                    <a:pt x="18" y="91"/>
                    <a:pt x="18" y="91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7" y="127"/>
                    <a:pt x="38" y="118"/>
                    <a:pt x="38" y="118"/>
                  </a:cubicBezTo>
                  <a:cubicBezTo>
                    <a:pt x="38" y="118"/>
                    <a:pt x="52" y="111"/>
                    <a:pt x="54" y="133"/>
                  </a:cubicBezTo>
                  <a:cubicBezTo>
                    <a:pt x="102" y="133"/>
                    <a:pt x="102" y="133"/>
                    <a:pt x="102" y="133"/>
                  </a:cubicBezTo>
                  <a:cubicBezTo>
                    <a:pt x="99" y="98"/>
                    <a:pt x="109" y="65"/>
                    <a:pt x="109" y="65"/>
                  </a:cubicBezTo>
                  <a:cubicBezTo>
                    <a:pt x="129" y="15"/>
                    <a:pt x="86" y="3"/>
                    <a:pt x="86" y="3"/>
                  </a:cubicBezTo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111" y="0"/>
                  </a:moveTo>
                  <a:cubicBezTo>
                    <a:pt x="100" y="0"/>
                    <a:pt x="88" y="2"/>
                    <a:pt x="74" y="5"/>
                  </a:cubicBezTo>
                  <a:cubicBezTo>
                    <a:pt x="74" y="5"/>
                    <a:pt x="0" y="24"/>
                    <a:pt x="33" y="111"/>
                  </a:cubicBezTo>
                  <a:cubicBezTo>
                    <a:pt x="33" y="111"/>
                    <a:pt x="51" y="166"/>
                    <a:pt x="45" y="226"/>
                  </a:cubicBezTo>
                  <a:cubicBezTo>
                    <a:pt x="128" y="226"/>
                    <a:pt x="128" y="226"/>
                    <a:pt x="128" y="226"/>
                  </a:cubicBezTo>
                  <a:cubicBezTo>
                    <a:pt x="129" y="203"/>
                    <a:pt x="139" y="198"/>
                    <a:pt x="146" y="198"/>
                  </a:cubicBezTo>
                  <a:cubicBezTo>
                    <a:pt x="151" y="198"/>
                    <a:pt x="155" y="200"/>
                    <a:pt x="155" y="200"/>
                  </a:cubicBezTo>
                  <a:cubicBezTo>
                    <a:pt x="155" y="200"/>
                    <a:pt x="156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3" y="196"/>
                    <a:pt x="163" y="196"/>
                    <a:pt x="163" y="196"/>
                  </a:cubicBezTo>
                  <a:cubicBezTo>
                    <a:pt x="163" y="196"/>
                    <a:pt x="163" y="196"/>
                    <a:pt x="163" y="194"/>
                  </a:cubicBezTo>
                  <a:cubicBezTo>
                    <a:pt x="163" y="192"/>
                    <a:pt x="162" y="190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2" y="151"/>
                    <a:pt x="196" y="144"/>
                  </a:cubicBezTo>
                  <a:cubicBezTo>
                    <a:pt x="195" y="136"/>
                    <a:pt x="195" y="136"/>
                    <a:pt x="195" y="136"/>
                  </a:cubicBezTo>
                  <a:cubicBezTo>
                    <a:pt x="210" y="131"/>
                    <a:pt x="210" y="131"/>
                    <a:pt x="210" y="131"/>
                  </a:cubicBezTo>
                  <a:cubicBezTo>
                    <a:pt x="210" y="131"/>
                    <a:pt x="219" y="127"/>
                    <a:pt x="210" y="117"/>
                  </a:cubicBezTo>
                  <a:cubicBezTo>
                    <a:pt x="188" y="91"/>
                    <a:pt x="188" y="91"/>
                    <a:pt x="188" y="91"/>
                  </a:cubicBezTo>
                  <a:cubicBezTo>
                    <a:pt x="188" y="91"/>
                    <a:pt x="184" y="84"/>
                    <a:pt x="193" y="74"/>
                  </a:cubicBezTo>
                  <a:cubicBezTo>
                    <a:pt x="193" y="74"/>
                    <a:pt x="188" y="0"/>
                    <a:pt x="111" y="0"/>
                  </a:cubicBez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" y="7"/>
                    <a:pt x="1" y="42"/>
                    <a:pt x="1" y="42"/>
                  </a:cubicBezTo>
                  <a:cubicBezTo>
                    <a:pt x="3" y="46"/>
                    <a:pt x="4" y="48"/>
                    <a:pt x="4" y="50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4" y="58"/>
                    <a:pt x="8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4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13" y="58"/>
                  </a:move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moveTo>
                    <a:pt x="0" y="57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moveTo>
                    <a:pt x="29" y="24"/>
                  </a:moveTo>
                  <a:cubicBezTo>
                    <a:pt x="29" y="24"/>
                    <a:pt x="29" y="24"/>
                    <a:pt x="29" y="24"/>
                  </a:cubicBezTo>
                  <a:cubicBezTo>
                    <a:pt x="40" y="51"/>
                    <a:pt x="28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moveTo>
                    <a:pt x="29" y="10"/>
                  </a:moveTo>
                  <a:cubicBezTo>
                    <a:pt x="29" y="10"/>
                    <a:pt x="29" y="10"/>
                    <a:pt x="29" y="10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custGeom>
              <a:avLst/>
              <a:gdLst/>
              <a:ahLst/>
              <a:rect l="l" t="t" r="r" b="b"/>
              <a:pathLst>
                <a:path w="343" h="352">
                  <a:moveTo>
                    <a:pt x="174" y="0"/>
                  </a:moveTo>
                  <a:cubicBezTo>
                    <a:pt x="156" y="0"/>
                    <a:pt x="137" y="2"/>
                    <a:pt x="115" y="8"/>
                  </a:cubicBezTo>
                  <a:cubicBezTo>
                    <a:pt x="115" y="8"/>
                    <a:pt x="0" y="37"/>
                    <a:pt x="51" y="172"/>
                  </a:cubicBezTo>
                  <a:cubicBezTo>
                    <a:pt x="51" y="172"/>
                    <a:pt x="79" y="259"/>
                    <a:pt x="70" y="352"/>
                  </a:cubicBezTo>
                  <a:cubicBezTo>
                    <a:pt x="200" y="352"/>
                    <a:pt x="200" y="352"/>
                    <a:pt x="200" y="352"/>
                  </a:cubicBezTo>
                  <a:cubicBezTo>
                    <a:pt x="202" y="316"/>
                    <a:pt x="217" y="309"/>
                    <a:pt x="228" y="309"/>
                  </a:cubicBezTo>
                  <a:cubicBezTo>
                    <a:pt x="236" y="309"/>
                    <a:pt x="241" y="312"/>
                    <a:pt x="241" y="312"/>
                  </a:cubicBezTo>
                  <a:cubicBezTo>
                    <a:pt x="241" y="312"/>
                    <a:pt x="254" y="316"/>
                    <a:pt x="268" y="316"/>
                  </a:cubicBezTo>
                  <a:cubicBezTo>
                    <a:pt x="289" y="316"/>
                    <a:pt x="313" y="307"/>
                    <a:pt x="294" y="262"/>
                  </a:cubicBezTo>
                  <a:cubicBezTo>
                    <a:pt x="304" y="249"/>
                    <a:pt x="304" y="249"/>
                    <a:pt x="304" y="249"/>
                  </a:cubicBezTo>
                  <a:cubicBezTo>
                    <a:pt x="294" y="240"/>
                    <a:pt x="294" y="240"/>
                    <a:pt x="294" y="240"/>
                  </a:cubicBezTo>
                  <a:cubicBezTo>
                    <a:pt x="307" y="233"/>
                    <a:pt x="307" y="233"/>
                    <a:pt x="307" y="233"/>
                  </a:cubicBezTo>
                  <a:cubicBezTo>
                    <a:pt x="305" y="212"/>
                    <a:pt x="305" y="212"/>
                    <a:pt x="305" y="212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7" y="204"/>
                    <a:pt x="343" y="198"/>
                    <a:pt x="328" y="182"/>
                  </a:cubicBezTo>
                  <a:cubicBezTo>
                    <a:pt x="320" y="173"/>
                    <a:pt x="320" y="173"/>
                    <a:pt x="320" y="173"/>
                  </a:cubicBezTo>
                  <a:cubicBezTo>
                    <a:pt x="282" y="173"/>
                    <a:pt x="282" y="173"/>
                    <a:pt x="282" y="173"/>
                  </a:cubicBezTo>
                  <a:cubicBezTo>
                    <a:pt x="280" y="147"/>
                    <a:pt x="270" y="140"/>
                    <a:pt x="261" y="139"/>
                  </a:cubicBezTo>
                  <a:cubicBezTo>
                    <a:pt x="260" y="139"/>
                    <a:pt x="259" y="138"/>
                    <a:pt x="258" y="138"/>
                  </a:cubicBezTo>
                  <a:cubicBezTo>
                    <a:pt x="258" y="138"/>
                    <a:pt x="257" y="139"/>
                    <a:pt x="257" y="139"/>
                  </a:cubicBezTo>
                  <a:cubicBezTo>
                    <a:pt x="252" y="139"/>
                    <a:pt x="249" y="140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7" y="141"/>
                    <a:pt x="237" y="144"/>
                    <a:pt x="227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5" y="144"/>
                    <a:pt x="225" y="144"/>
                  </a:cubicBezTo>
                  <a:cubicBezTo>
                    <a:pt x="209" y="144"/>
                    <a:pt x="192" y="137"/>
                    <a:pt x="203" y="106"/>
                  </a:cubicBezTo>
                  <a:cubicBezTo>
                    <a:pt x="203" y="105"/>
                    <a:pt x="204" y="103"/>
                    <a:pt x="204" y="102"/>
                  </a:cubicBezTo>
                  <a:cubicBezTo>
                    <a:pt x="204" y="102"/>
                    <a:pt x="204" y="101"/>
                    <a:pt x="205" y="101"/>
                  </a:cubicBezTo>
                  <a:cubicBezTo>
                    <a:pt x="205" y="101"/>
                    <a:pt x="205" y="100"/>
                    <a:pt x="205" y="100"/>
                  </a:cubicBezTo>
                  <a:cubicBezTo>
                    <a:pt x="197" y="90"/>
                    <a:pt x="197" y="90"/>
                    <a:pt x="197" y="90"/>
                  </a:cubicBezTo>
                  <a:cubicBezTo>
                    <a:pt x="205" y="82"/>
                    <a:pt x="205" y="82"/>
                    <a:pt x="205" y="82"/>
                  </a:cubicBezTo>
                  <a:cubicBezTo>
                    <a:pt x="194" y="76"/>
                    <a:pt x="194" y="76"/>
                    <a:pt x="194" y="76"/>
                  </a:cubicBezTo>
                  <a:cubicBezTo>
                    <a:pt x="196" y="59"/>
                    <a:pt x="196" y="59"/>
                    <a:pt x="196" y="59"/>
                  </a:cubicBezTo>
                  <a:cubicBezTo>
                    <a:pt x="178" y="53"/>
                    <a:pt x="178" y="53"/>
                    <a:pt x="178" y="53"/>
                  </a:cubicBezTo>
                  <a:cubicBezTo>
                    <a:pt x="178" y="53"/>
                    <a:pt x="172" y="50"/>
                    <a:pt x="172" y="45"/>
                  </a:cubicBezTo>
                  <a:cubicBezTo>
                    <a:pt x="172" y="42"/>
                    <a:pt x="173" y="39"/>
                    <a:pt x="177" y="35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195" y="1"/>
                    <a:pt x="185" y="0"/>
                    <a:pt x="174" y="0"/>
                  </a:cubicBezTo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custGeom>
              <a:avLst/>
              <a:gdLst/>
              <a:ahLst/>
              <a:rect l="l" t="t" r="r" b="b"/>
              <a:pathLst>
                <a:path w="148" h="170"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47"/>
                    <a:pt x="6" y="50"/>
                    <a:pt x="6" y="50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33" y="79"/>
                    <a:pt x="33" y="79"/>
                    <a:pt x="33" y="79"/>
                  </a:cubicBezTo>
                  <a:cubicBezTo>
                    <a:pt x="25" y="87"/>
                    <a:pt x="25" y="87"/>
                    <a:pt x="25" y="8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8"/>
                    <a:pt x="33" y="98"/>
                  </a:cubicBezTo>
                  <a:cubicBezTo>
                    <a:pt x="32" y="98"/>
                    <a:pt x="32" y="99"/>
                    <a:pt x="32" y="99"/>
                  </a:cubicBezTo>
                  <a:cubicBezTo>
                    <a:pt x="32" y="100"/>
                    <a:pt x="31" y="102"/>
                    <a:pt x="31" y="103"/>
                  </a:cubicBezTo>
                  <a:cubicBezTo>
                    <a:pt x="20" y="134"/>
                    <a:pt x="37" y="141"/>
                    <a:pt x="53" y="141"/>
                  </a:cubicBez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cubicBezTo>
                    <a:pt x="85" y="136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98" y="137"/>
                    <a:pt x="108" y="144"/>
                    <a:pt x="110" y="170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121" y="138"/>
                    <a:pt x="121" y="138"/>
                    <a:pt x="121" y="138"/>
                  </a:cubicBezTo>
                  <a:cubicBezTo>
                    <a:pt x="121" y="138"/>
                    <a:pt x="120" y="136"/>
                    <a:pt x="120" y="132"/>
                  </a:cubicBezTo>
                  <a:cubicBezTo>
                    <a:pt x="120" y="127"/>
                    <a:pt x="121" y="120"/>
                    <a:pt x="129" y="111"/>
                  </a:cubicBezTo>
                  <a:cubicBezTo>
                    <a:pt x="129" y="111"/>
                    <a:pt x="123" y="17"/>
                    <a:pt x="33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custGeom>
              <a:avLst/>
              <a:gdLst/>
              <a:ahLst/>
              <a:rect l="l" t="t" r="r" b="b"/>
              <a:pathLst>
                <a:path w="89" h="141">
                  <a:moveTo>
                    <a:pt x="53" y="141"/>
                  </a:move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4" y="141"/>
                  </a:cubicBezTo>
                  <a:cubicBezTo>
                    <a:pt x="54" y="141"/>
                    <a:pt x="53" y="141"/>
                    <a:pt x="53" y="141"/>
                  </a:cubicBezTo>
                  <a:moveTo>
                    <a:pt x="76" y="138"/>
                  </a:moveTo>
                  <a:cubicBezTo>
                    <a:pt x="75" y="138"/>
                    <a:pt x="65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moveTo>
                    <a:pt x="85" y="136"/>
                  </a:moveTo>
                  <a:cubicBezTo>
                    <a:pt x="80" y="136"/>
                    <a:pt x="77" y="137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moveTo>
                    <a:pt x="86" y="135"/>
                  </a:move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88" y="136"/>
                    <a:pt x="87" y="135"/>
                    <a:pt x="86" y="135"/>
                  </a:cubicBezTo>
                  <a:moveTo>
                    <a:pt x="32" y="99"/>
                  </a:moveTo>
                  <a:cubicBezTo>
                    <a:pt x="32" y="100"/>
                    <a:pt x="31" y="102"/>
                    <a:pt x="31" y="103"/>
                  </a:cubicBezTo>
                  <a:cubicBezTo>
                    <a:pt x="31" y="102"/>
                    <a:pt x="32" y="100"/>
                    <a:pt x="32" y="99"/>
                  </a:cubicBezTo>
                  <a:moveTo>
                    <a:pt x="33" y="97"/>
                  </a:moveTo>
                  <a:cubicBezTo>
                    <a:pt x="33" y="97"/>
                    <a:pt x="33" y="98"/>
                    <a:pt x="33" y="98"/>
                  </a:cubicBezTo>
                  <a:cubicBezTo>
                    <a:pt x="33" y="98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moveTo>
                    <a:pt x="33" y="79"/>
                  </a:moveTo>
                  <a:cubicBezTo>
                    <a:pt x="25" y="87"/>
                    <a:pt x="25" y="87"/>
                    <a:pt x="25" y="87"/>
                  </a:cubicBezTo>
                  <a:cubicBezTo>
                    <a:pt x="33" y="79"/>
                    <a:pt x="33" y="79"/>
                    <a:pt x="33" y="79"/>
                  </a:cubicBezTo>
                  <a:moveTo>
                    <a:pt x="24" y="56"/>
                  </a:moveTo>
                  <a:cubicBezTo>
                    <a:pt x="22" y="73"/>
                    <a:pt x="22" y="73"/>
                    <a:pt x="22" y="73"/>
                  </a:cubicBezTo>
                  <a:cubicBezTo>
                    <a:pt x="24" y="56"/>
                    <a:pt x="24" y="56"/>
                    <a:pt x="24" y="56"/>
                  </a:cubicBezTo>
                  <a:moveTo>
                    <a:pt x="33" y="0"/>
                  </a:move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39"/>
                    <a:pt x="1" y="36"/>
                    <a:pt x="5" y="32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0" y="17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0" y="17"/>
                  </a:lnTo>
                  <a:close/>
                  <a:moveTo>
                    <a:pt x="50" y="45"/>
                  </a:moveTo>
                  <a:cubicBezTo>
                    <a:pt x="48" y="47"/>
                    <a:pt x="37" y="52"/>
                    <a:pt x="32" y="56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7" y="13"/>
                    <a:pt x="48" y="19"/>
                    <a:pt x="50" y="21"/>
                  </a:cubicBezTo>
                  <a:lnTo>
                    <a:pt x="50" y="45"/>
                  </a:lnTo>
                  <a:close/>
                  <a:moveTo>
                    <a:pt x="7" y="21"/>
                  </a:moveTo>
                  <a:cubicBezTo>
                    <a:pt x="9" y="19"/>
                    <a:pt x="19" y="14"/>
                    <a:pt x="25" y="10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19" y="52"/>
                    <a:pt x="9" y="47"/>
                    <a:pt x="7" y="45"/>
                  </a:cubicBezTo>
                  <a:lnTo>
                    <a:pt x="7" y="2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custGeom>
              <a:avLst/>
              <a:gdLst/>
              <a:ahLst/>
              <a:rect l="l" t="t" r="r" b="b"/>
              <a:pathLst>
                <a:path w="398383" h="430254">
                  <a:moveTo>
                    <a:pt x="121108" y="258152"/>
                  </a:moveTo>
                  <a:lnTo>
                    <a:pt x="121108" y="232656"/>
                  </a:lnTo>
                  <a:lnTo>
                    <a:pt x="270900" y="232656"/>
                  </a:lnTo>
                  <a:lnTo>
                    <a:pt x="270900" y="258152"/>
                  </a:lnTo>
                  <a:lnTo>
                    <a:pt x="121108" y="258152"/>
                  </a:lnTo>
                  <a:moveTo>
                    <a:pt x="121108" y="188037"/>
                  </a:moveTo>
                  <a:lnTo>
                    <a:pt x="121108" y="159353"/>
                  </a:lnTo>
                  <a:lnTo>
                    <a:pt x="270900" y="159353"/>
                  </a:lnTo>
                  <a:lnTo>
                    <a:pt x="270900" y="188037"/>
                  </a:lnTo>
                  <a:lnTo>
                    <a:pt x="121108" y="188037"/>
                  </a:lnTo>
                  <a:moveTo>
                    <a:pt x="121108" y="114734"/>
                  </a:moveTo>
                  <a:lnTo>
                    <a:pt x="121108" y="89238"/>
                  </a:lnTo>
                  <a:lnTo>
                    <a:pt x="270900" y="89238"/>
                  </a:lnTo>
                  <a:lnTo>
                    <a:pt x="270900" y="114734"/>
                  </a:lnTo>
                  <a:lnTo>
                    <a:pt x="121108" y="114734"/>
                  </a:lnTo>
                  <a:moveTo>
                    <a:pt x="299584" y="0"/>
                  </a:moveTo>
                  <a:lnTo>
                    <a:pt x="98799" y="0"/>
                  </a:lnTo>
                  <a:lnTo>
                    <a:pt x="0" y="172101"/>
                  </a:lnTo>
                  <a:lnTo>
                    <a:pt x="98799" y="344203"/>
                  </a:lnTo>
                  <a:lnTo>
                    <a:pt x="229469" y="344203"/>
                  </a:lnTo>
                  <a:lnTo>
                    <a:pt x="347390" y="430254"/>
                  </a:lnTo>
                  <a:lnTo>
                    <a:pt x="328268" y="293210"/>
                  </a:lnTo>
                  <a:lnTo>
                    <a:pt x="398383" y="172101"/>
                  </a:lnTo>
                  <a:lnTo>
                    <a:pt x="299584" y="0"/>
                  </a:ln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custGeom>
              <a:avLst/>
              <a:gdLst/>
              <a:ahLst/>
              <a:rect l="l" t="t" r="r" b="b"/>
              <a:pathLst>
                <a:path w="229" h="287">
                  <a:moveTo>
                    <a:pt x="104" y="0"/>
                  </a:moveTo>
                  <a:cubicBezTo>
                    <a:pt x="6" y="0"/>
                    <a:pt x="0" y="94"/>
                    <a:pt x="0" y="94"/>
                  </a:cubicBezTo>
                  <a:cubicBezTo>
                    <a:pt x="12" y="106"/>
                    <a:pt x="7" y="115"/>
                    <a:pt x="7" y="115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96" y="134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94" y="237"/>
                    <a:pt x="93" y="244"/>
                    <a:pt x="93" y="249"/>
                  </a:cubicBezTo>
                  <a:cubicBezTo>
                    <a:pt x="93" y="253"/>
                    <a:pt x="94" y="255"/>
                    <a:pt x="94" y="255"/>
                  </a:cubicBezTo>
                  <a:cubicBezTo>
                    <a:pt x="121" y="287"/>
                    <a:pt x="121" y="287"/>
                    <a:pt x="121" y="287"/>
                  </a:cubicBezTo>
                  <a:cubicBezTo>
                    <a:pt x="188" y="287"/>
                    <a:pt x="188" y="287"/>
                    <a:pt x="188" y="287"/>
                  </a:cubicBezTo>
                  <a:cubicBezTo>
                    <a:pt x="181" y="211"/>
                    <a:pt x="204" y="141"/>
                    <a:pt x="204" y="141"/>
                  </a:cubicBezTo>
                  <a:cubicBezTo>
                    <a:pt x="229" y="75"/>
                    <a:pt x="205" y="40"/>
                    <a:pt x="183" y="22"/>
                  </a:cubicBezTo>
                  <a:cubicBezTo>
                    <a:pt x="162" y="37"/>
                    <a:pt x="162" y="37"/>
                    <a:pt x="162" y="37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58" y="8"/>
                    <a:pt x="152" y="7"/>
                    <a:pt x="152" y="7"/>
                  </a:cubicBezTo>
                  <a:cubicBezTo>
                    <a:pt x="134" y="2"/>
                    <a:pt x="118" y="0"/>
                    <a:pt x="104" y="0"/>
                  </a:cubicBez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0"/>
                  </a:moveTo>
                  <a:cubicBezTo>
                    <a:pt x="1" y="9"/>
                    <a:pt x="0" y="16"/>
                    <a:pt x="0" y="21"/>
                  </a:cubicBezTo>
                  <a:cubicBezTo>
                    <a:pt x="0" y="16"/>
                    <a:pt x="1" y="9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39" y="80"/>
                  </a:moveTo>
                  <a:cubicBezTo>
                    <a:pt x="39" y="72"/>
                    <a:pt x="39" y="72"/>
                    <a:pt x="39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80"/>
                    <a:pt x="86" y="80"/>
                    <a:pt x="86" y="80"/>
                  </a:cubicBezTo>
                  <a:cubicBezTo>
                    <a:pt x="39" y="80"/>
                    <a:pt x="39" y="80"/>
                    <a:pt x="39" y="80"/>
                  </a:cubicBezTo>
                  <a:moveTo>
                    <a:pt x="39" y="58"/>
                  </a:moveTo>
                  <a:cubicBezTo>
                    <a:pt x="39" y="49"/>
                    <a:pt x="39" y="49"/>
                    <a:pt x="39" y="49"/>
                  </a:cubicBezTo>
                  <a:cubicBezTo>
                    <a:pt x="86" y="49"/>
                    <a:pt x="86" y="49"/>
                    <a:pt x="86" y="49"/>
                  </a:cubicBezTo>
                  <a:cubicBezTo>
                    <a:pt x="86" y="58"/>
                    <a:pt x="86" y="58"/>
                    <a:pt x="86" y="58"/>
                  </a:cubicBezTo>
                  <a:cubicBezTo>
                    <a:pt x="39" y="58"/>
                    <a:pt x="39" y="58"/>
                    <a:pt x="39" y="58"/>
                  </a:cubicBezTo>
                  <a:moveTo>
                    <a:pt x="39" y="35"/>
                  </a:moveTo>
                  <a:cubicBezTo>
                    <a:pt x="39" y="27"/>
                    <a:pt x="39" y="27"/>
                    <a:pt x="39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35"/>
                    <a:pt x="86" y="35"/>
                    <a:pt x="86" y="35"/>
                  </a:cubicBezTo>
                  <a:cubicBezTo>
                    <a:pt x="39" y="35"/>
                    <a:pt x="39" y="35"/>
                    <a:pt x="39" y="35"/>
                  </a:cubicBezTo>
                  <a:moveTo>
                    <a:pt x="93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1" y="91"/>
                    <a:pt x="21" y="91"/>
                    <a:pt x="21" y="91"/>
                  </a:cubicBezTo>
                  <a:cubicBezTo>
                    <a:pt x="19" y="109"/>
                    <a:pt x="19" y="109"/>
                    <a:pt x="19" y="109"/>
                  </a:cubicBezTo>
                  <a:cubicBezTo>
                    <a:pt x="24" y="112"/>
                    <a:pt x="30" y="115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93" y="108"/>
                    <a:pt x="93" y="108"/>
                    <a:pt x="93" y="108"/>
                  </a:cubicBezTo>
                  <a:cubicBezTo>
                    <a:pt x="125" y="54"/>
                    <a:pt x="125" y="54"/>
                    <a:pt x="125" y="54"/>
                  </a:cubicBezTo>
                  <a:cubicBezTo>
                    <a:pt x="93" y="0"/>
                    <a:pt x="93" y="0"/>
                    <a:pt x="93" y="0"/>
                  </a:cubicBezTo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5" y="6"/>
                    <a:pt x="9" y="3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/>
              <a:ahLst/>
              <a:rect l="l" t="t" r="r" b="b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  <a:close/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/>
              <a:ahLst/>
              <a:rect l="l" t="t" r="r" b="b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1" y="6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1" y="6"/>
                    <a:pt x="5" y="3"/>
                    <a:pt x="0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54" y="52"/>
                  </a:moveTo>
                  <a:cubicBezTo>
                    <a:pt x="98" y="26"/>
                    <a:pt x="98" y="26"/>
                    <a:pt x="98" y="2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11"/>
                    <a:pt x="54" y="15"/>
                  </a:cubicBezTo>
                  <a:cubicBezTo>
                    <a:pt x="48" y="15"/>
                    <a:pt x="0" y="15"/>
                    <a:pt x="0" y="1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48" y="36"/>
                    <a:pt x="54" y="36"/>
                  </a:cubicBezTo>
                  <a:cubicBezTo>
                    <a:pt x="54" y="40"/>
                    <a:pt x="54" y="52"/>
                    <a:pt x="54" y="52"/>
                  </a:cubicBezTo>
                  <a:close/>
                  <a:moveTo>
                    <a:pt x="7" y="30"/>
                  </a:moveTo>
                  <a:cubicBezTo>
                    <a:pt x="7" y="27"/>
                    <a:pt x="7" y="24"/>
                    <a:pt x="7" y="22"/>
                  </a:cubicBezTo>
                  <a:cubicBezTo>
                    <a:pt x="13" y="22"/>
                    <a:pt x="61" y="22"/>
                    <a:pt x="61" y="22"/>
                  </a:cubicBezTo>
                  <a:cubicBezTo>
                    <a:pt x="61" y="22"/>
                    <a:pt x="61" y="15"/>
                    <a:pt x="61" y="11"/>
                  </a:cubicBezTo>
                  <a:cubicBezTo>
                    <a:pt x="67" y="15"/>
                    <a:pt x="80" y="22"/>
                    <a:pt x="86" y="26"/>
                  </a:cubicBezTo>
                  <a:cubicBezTo>
                    <a:pt x="80" y="29"/>
                    <a:pt x="67" y="37"/>
                    <a:pt x="61" y="40"/>
                  </a:cubicBezTo>
                  <a:cubicBezTo>
                    <a:pt x="61" y="37"/>
                    <a:pt x="61" y="30"/>
                    <a:pt x="61" y="30"/>
                  </a:cubicBezTo>
                  <a:cubicBezTo>
                    <a:pt x="61" y="30"/>
                    <a:pt x="13" y="30"/>
                    <a:pt x="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custGeom>
              <a:avLst/>
              <a:gdLst/>
              <a:ahLst/>
              <a:rect l="l" t="t" r="r" b="b"/>
              <a:pathLst>
                <a:path w="112" h="59">
                  <a:moveTo>
                    <a:pt x="43" y="46"/>
                  </a:moveTo>
                  <a:cubicBezTo>
                    <a:pt x="36" y="42"/>
                    <a:pt x="21" y="34"/>
                    <a:pt x="15" y="30"/>
                  </a:cubicBezTo>
                  <a:cubicBezTo>
                    <a:pt x="21" y="26"/>
                    <a:pt x="36" y="17"/>
                    <a:pt x="43" y="13"/>
                  </a:cubicBezTo>
                  <a:cubicBezTo>
                    <a:pt x="43" y="17"/>
                    <a:pt x="43" y="25"/>
                    <a:pt x="43" y="25"/>
                  </a:cubicBezTo>
                  <a:cubicBezTo>
                    <a:pt x="43" y="25"/>
                    <a:pt x="98" y="25"/>
                    <a:pt x="104" y="25"/>
                  </a:cubicBezTo>
                  <a:cubicBezTo>
                    <a:pt x="104" y="28"/>
                    <a:pt x="104" y="31"/>
                    <a:pt x="104" y="34"/>
                  </a:cubicBezTo>
                  <a:cubicBezTo>
                    <a:pt x="98" y="34"/>
                    <a:pt x="43" y="34"/>
                    <a:pt x="43" y="34"/>
                  </a:cubicBezTo>
                  <a:cubicBezTo>
                    <a:pt x="43" y="34"/>
                    <a:pt x="43" y="42"/>
                    <a:pt x="43" y="46"/>
                  </a:cubicBezTo>
                  <a:moveTo>
                    <a:pt x="50" y="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50" y="59"/>
                    <a:pt x="50" y="46"/>
                    <a:pt x="50" y="42"/>
                  </a:cubicBezTo>
                  <a:cubicBezTo>
                    <a:pt x="57" y="42"/>
                    <a:pt x="112" y="42"/>
                    <a:pt x="112" y="42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57" y="17"/>
                    <a:pt x="50" y="17"/>
                  </a:cubicBezTo>
                  <a:cubicBezTo>
                    <a:pt x="50" y="13"/>
                    <a:pt x="50" y="0"/>
                    <a:pt x="50" y="0"/>
                  </a:cubicBezTo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custGeom>
              <a:avLst/>
              <a:gdLst/>
              <a:ahLst/>
              <a:rect l="l" t="t" r="r" b="b"/>
              <a:pathLst>
                <a:path w="261339" h="229468">
                  <a:moveTo>
                    <a:pt x="89238" y="188036"/>
                  </a:moveTo>
                  <a:lnTo>
                    <a:pt x="44619" y="114734"/>
                  </a:lnTo>
                  <a:lnTo>
                    <a:pt x="89238" y="38244"/>
                  </a:lnTo>
                  <a:lnTo>
                    <a:pt x="175289" y="38244"/>
                  </a:lnTo>
                  <a:lnTo>
                    <a:pt x="216721" y="114734"/>
                  </a:lnTo>
                  <a:lnTo>
                    <a:pt x="175289" y="188036"/>
                  </a:lnTo>
                  <a:lnTo>
                    <a:pt x="89238" y="188036"/>
                  </a:lnTo>
                  <a:moveTo>
                    <a:pt x="197598" y="0"/>
                  </a:moveTo>
                  <a:lnTo>
                    <a:pt x="63741" y="0"/>
                  </a:lnTo>
                  <a:lnTo>
                    <a:pt x="0" y="114734"/>
                  </a:lnTo>
                  <a:lnTo>
                    <a:pt x="63741" y="229468"/>
                  </a:lnTo>
                  <a:lnTo>
                    <a:pt x="197598" y="229468"/>
                  </a:lnTo>
                  <a:lnTo>
                    <a:pt x="261339" y="114734"/>
                  </a:lnTo>
                  <a:lnTo>
                    <a:pt x="197598" y="0"/>
                  </a:lnTo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custGeom>
              <a:avLst/>
              <a:gdLst/>
              <a:ahLst/>
              <a:rect l="l" t="t" r="r" b="b"/>
              <a:pathLst>
                <a:path w="210346" h="181662">
                  <a:moveTo>
                    <a:pt x="70115" y="149792"/>
                  </a:moveTo>
                  <a:lnTo>
                    <a:pt x="38244" y="92425"/>
                  </a:lnTo>
                  <a:lnTo>
                    <a:pt x="70115" y="31870"/>
                  </a:lnTo>
                  <a:lnTo>
                    <a:pt x="140230" y="31870"/>
                  </a:lnTo>
                  <a:lnTo>
                    <a:pt x="175288" y="92425"/>
                  </a:lnTo>
                  <a:lnTo>
                    <a:pt x="140230" y="149792"/>
                  </a:lnTo>
                  <a:lnTo>
                    <a:pt x="70115" y="149792"/>
                  </a:lnTo>
                  <a:moveTo>
                    <a:pt x="159353" y="0"/>
                  </a:moveTo>
                  <a:lnTo>
                    <a:pt x="54180" y="0"/>
                  </a:lnTo>
                  <a:lnTo>
                    <a:pt x="0" y="92425"/>
                  </a:lnTo>
                  <a:lnTo>
                    <a:pt x="54180" y="181662"/>
                  </a:lnTo>
                  <a:lnTo>
                    <a:pt x="159353" y="181662"/>
                  </a:lnTo>
                  <a:lnTo>
                    <a:pt x="210346" y="92425"/>
                  </a:lnTo>
                  <a:lnTo>
                    <a:pt x="159353" y="0"/>
                  </a:ln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custGeom>
              <a:avLst/>
              <a:gdLst/>
              <a:ahLst/>
              <a:rect l="l" t="t" r="r" b="b"/>
              <a:pathLst>
                <a:path w="156166" h="137044">
                  <a:moveTo>
                    <a:pt x="54180" y="111548"/>
                  </a:moveTo>
                  <a:lnTo>
                    <a:pt x="28683" y="70116"/>
                  </a:lnTo>
                  <a:lnTo>
                    <a:pt x="54180" y="25497"/>
                  </a:lnTo>
                  <a:lnTo>
                    <a:pt x="105173" y="25497"/>
                  </a:lnTo>
                  <a:lnTo>
                    <a:pt x="130669" y="70116"/>
                  </a:lnTo>
                  <a:lnTo>
                    <a:pt x="105173" y="111548"/>
                  </a:lnTo>
                  <a:lnTo>
                    <a:pt x="54180" y="111548"/>
                  </a:lnTo>
                  <a:moveTo>
                    <a:pt x="117921" y="0"/>
                  </a:moveTo>
                  <a:lnTo>
                    <a:pt x="38245" y="0"/>
                  </a:lnTo>
                  <a:lnTo>
                    <a:pt x="0" y="70116"/>
                  </a:lnTo>
                  <a:lnTo>
                    <a:pt x="38245" y="137044"/>
                  </a:lnTo>
                  <a:lnTo>
                    <a:pt x="117921" y="137044"/>
                  </a:lnTo>
                  <a:lnTo>
                    <a:pt x="156166" y="70116"/>
                  </a:lnTo>
                  <a:lnTo>
                    <a:pt x="117921" y="0"/>
                  </a:lnTo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custGeom>
              <a:avLst/>
              <a:gdLst/>
              <a:ahLst/>
              <a:rect l="l" t="t" r="r" b="b"/>
              <a:pathLst>
                <a:path w="229469" h="328267">
                  <a:moveTo>
                    <a:pt x="0" y="98799"/>
                  </a:moveTo>
                  <a:lnTo>
                    <a:pt x="57368" y="197598"/>
                  </a:lnTo>
                  <a:lnTo>
                    <a:pt x="172102" y="197598"/>
                  </a:lnTo>
                  <a:lnTo>
                    <a:pt x="229469" y="98799"/>
                  </a:lnTo>
                  <a:lnTo>
                    <a:pt x="172102" y="0"/>
                  </a:lnTo>
                  <a:lnTo>
                    <a:pt x="57368" y="0"/>
                  </a:lnTo>
                  <a:lnTo>
                    <a:pt x="0" y="98799"/>
                  </a:lnTo>
                  <a:close/>
                  <a:moveTo>
                    <a:pt x="41432" y="98799"/>
                  </a:moveTo>
                  <a:lnTo>
                    <a:pt x="79677" y="31871"/>
                  </a:lnTo>
                  <a:lnTo>
                    <a:pt x="152980" y="31871"/>
                  </a:lnTo>
                  <a:lnTo>
                    <a:pt x="191224" y="98799"/>
                  </a:lnTo>
                  <a:lnTo>
                    <a:pt x="152980" y="162540"/>
                  </a:lnTo>
                  <a:lnTo>
                    <a:pt x="79677" y="162540"/>
                  </a:lnTo>
                  <a:lnTo>
                    <a:pt x="41432" y="98799"/>
                  </a:lnTo>
                  <a:close/>
                  <a:moveTo>
                    <a:pt x="146605" y="296397"/>
                  </a:moveTo>
                  <a:lnTo>
                    <a:pt x="86051" y="296397"/>
                  </a:lnTo>
                  <a:lnTo>
                    <a:pt x="86051" y="328267"/>
                  </a:lnTo>
                  <a:lnTo>
                    <a:pt x="146605" y="328267"/>
                  </a:lnTo>
                  <a:lnTo>
                    <a:pt x="146605" y="296397"/>
                  </a:lnTo>
                  <a:close/>
                  <a:moveTo>
                    <a:pt x="172102" y="213533"/>
                  </a:moveTo>
                  <a:lnTo>
                    <a:pt x="57368" y="213533"/>
                  </a:lnTo>
                  <a:lnTo>
                    <a:pt x="57368" y="242217"/>
                  </a:lnTo>
                  <a:lnTo>
                    <a:pt x="172102" y="242217"/>
                  </a:lnTo>
                  <a:lnTo>
                    <a:pt x="172102" y="213533"/>
                  </a:lnTo>
                  <a:close/>
                  <a:moveTo>
                    <a:pt x="172102" y="254965"/>
                  </a:moveTo>
                  <a:lnTo>
                    <a:pt x="57368" y="254965"/>
                  </a:lnTo>
                  <a:lnTo>
                    <a:pt x="57368" y="286836"/>
                  </a:lnTo>
                  <a:lnTo>
                    <a:pt x="172102" y="286836"/>
                  </a:lnTo>
                  <a:lnTo>
                    <a:pt x="172102" y="25496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2"/>
                    <a:pt x="18" y="79"/>
                    <a:pt x="40" y="79"/>
                  </a:cubicBezTo>
                  <a:cubicBezTo>
                    <a:pt x="62" y="79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  <a:moveTo>
                    <a:pt x="5" y="42"/>
                  </a:moveTo>
                  <a:cubicBezTo>
                    <a:pt x="18" y="42"/>
                    <a:pt x="18" y="42"/>
                    <a:pt x="18" y="42"/>
                  </a:cubicBezTo>
                  <a:cubicBezTo>
                    <a:pt x="18" y="46"/>
                    <a:pt x="18" y="50"/>
                    <a:pt x="19" y="54"/>
                  </a:cubicBezTo>
                  <a:cubicBezTo>
                    <a:pt x="8" y="54"/>
                    <a:pt x="8" y="54"/>
                    <a:pt x="8" y="54"/>
                  </a:cubicBezTo>
                  <a:cubicBezTo>
                    <a:pt x="7" y="50"/>
                    <a:pt x="6" y="46"/>
                    <a:pt x="5" y="42"/>
                  </a:cubicBezTo>
                  <a:close/>
                  <a:moveTo>
                    <a:pt x="43" y="19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7" y="6"/>
                    <a:pt x="52" y="12"/>
                    <a:pt x="54" y="19"/>
                  </a:cubicBezTo>
                  <a:lnTo>
                    <a:pt x="43" y="19"/>
                  </a:lnTo>
                  <a:close/>
                  <a:moveTo>
                    <a:pt x="56" y="24"/>
                  </a:moveTo>
                  <a:cubicBezTo>
                    <a:pt x="57" y="28"/>
                    <a:pt x="57" y="33"/>
                    <a:pt x="57" y="37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24"/>
                    <a:pt x="43" y="24"/>
                    <a:pt x="43" y="24"/>
                  </a:cubicBezTo>
                  <a:lnTo>
                    <a:pt x="56" y="24"/>
                  </a:lnTo>
                  <a:close/>
                  <a:moveTo>
                    <a:pt x="38" y="5"/>
                  </a:moveTo>
                  <a:cubicBezTo>
                    <a:pt x="38" y="19"/>
                    <a:pt x="38" y="19"/>
                    <a:pt x="3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12"/>
                    <a:pt x="33" y="6"/>
                    <a:pt x="38" y="5"/>
                  </a:cubicBezTo>
                  <a:close/>
                  <a:moveTo>
                    <a:pt x="38" y="24"/>
                  </a:moveTo>
                  <a:cubicBezTo>
                    <a:pt x="38" y="37"/>
                    <a:pt x="38" y="37"/>
                    <a:pt x="38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3" y="33"/>
                    <a:pt x="24" y="28"/>
                    <a:pt x="25" y="24"/>
                  </a:cubicBezTo>
                  <a:lnTo>
                    <a:pt x="38" y="24"/>
                  </a:lnTo>
                  <a:close/>
                  <a:moveTo>
                    <a:pt x="1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6" y="33"/>
                    <a:pt x="7" y="28"/>
                    <a:pt x="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8"/>
                    <a:pt x="18" y="33"/>
                    <a:pt x="18" y="37"/>
                  </a:cubicBezTo>
                  <a:close/>
                  <a:moveTo>
                    <a:pt x="23" y="42"/>
                  </a:moveTo>
                  <a:cubicBezTo>
                    <a:pt x="38" y="42"/>
                    <a:pt x="38" y="42"/>
                    <a:pt x="38" y="42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3" y="50"/>
                    <a:pt x="23" y="46"/>
                    <a:pt x="23" y="42"/>
                  </a:cubicBezTo>
                  <a:close/>
                  <a:moveTo>
                    <a:pt x="38" y="59"/>
                  </a:moveTo>
                  <a:cubicBezTo>
                    <a:pt x="38" y="74"/>
                    <a:pt x="38" y="74"/>
                    <a:pt x="38" y="74"/>
                  </a:cubicBezTo>
                  <a:cubicBezTo>
                    <a:pt x="33" y="73"/>
                    <a:pt x="28" y="67"/>
                    <a:pt x="26" y="59"/>
                  </a:cubicBezTo>
                  <a:lnTo>
                    <a:pt x="38" y="59"/>
                  </a:lnTo>
                  <a:close/>
                  <a:moveTo>
                    <a:pt x="43" y="74"/>
                  </a:moveTo>
                  <a:cubicBezTo>
                    <a:pt x="43" y="59"/>
                    <a:pt x="43" y="59"/>
                    <a:pt x="43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2" y="67"/>
                    <a:pt x="47" y="73"/>
                    <a:pt x="43" y="74"/>
                  </a:cubicBezTo>
                  <a:close/>
                  <a:moveTo>
                    <a:pt x="43" y="54"/>
                  </a:moveTo>
                  <a:cubicBezTo>
                    <a:pt x="43" y="42"/>
                    <a:pt x="43" y="42"/>
                    <a:pt x="43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6"/>
                    <a:pt x="57" y="50"/>
                    <a:pt x="56" y="54"/>
                  </a:cubicBezTo>
                  <a:lnTo>
                    <a:pt x="43" y="54"/>
                  </a:lnTo>
                  <a:close/>
                  <a:moveTo>
                    <a:pt x="62" y="42"/>
                  </a:moveTo>
                  <a:cubicBezTo>
                    <a:pt x="75" y="42"/>
                    <a:pt x="75" y="42"/>
                    <a:pt x="75" y="42"/>
                  </a:cubicBezTo>
                  <a:cubicBezTo>
                    <a:pt x="75" y="46"/>
                    <a:pt x="74" y="50"/>
                    <a:pt x="72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2" y="50"/>
                    <a:pt x="62" y="46"/>
                    <a:pt x="62" y="42"/>
                  </a:cubicBezTo>
                  <a:close/>
                  <a:moveTo>
                    <a:pt x="62" y="37"/>
                  </a:moveTo>
                  <a:cubicBezTo>
                    <a:pt x="62" y="33"/>
                    <a:pt x="62" y="28"/>
                    <a:pt x="6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8"/>
                    <a:pt x="75" y="33"/>
                    <a:pt x="75" y="37"/>
                  </a:cubicBezTo>
                  <a:lnTo>
                    <a:pt x="62" y="37"/>
                  </a:lnTo>
                  <a:close/>
                  <a:moveTo>
                    <a:pt x="69" y="19"/>
                  </a:moveTo>
                  <a:cubicBezTo>
                    <a:pt x="59" y="19"/>
                    <a:pt x="59" y="19"/>
                    <a:pt x="59" y="19"/>
                  </a:cubicBezTo>
                  <a:cubicBezTo>
                    <a:pt x="58" y="15"/>
                    <a:pt x="56" y="10"/>
                    <a:pt x="53" y="7"/>
                  </a:cubicBezTo>
                  <a:cubicBezTo>
                    <a:pt x="60" y="10"/>
                    <a:pt x="65" y="14"/>
                    <a:pt x="69" y="19"/>
                  </a:cubicBezTo>
                  <a:close/>
                  <a:moveTo>
                    <a:pt x="27" y="7"/>
                  </a:moveTo>
                  <a:cubicBezTo>
                    <a:pt x="24" y="10"/>
                    <a:pt x="22" y="15"/>
                    <a:pt x="21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5" y="14"/>
                    <a:pt x="21" y="10"/>
                    <a:pt x="27" y="7"/>
                  </a:cubicBezTo>
                  <a:close/>
                  <a:moveTo>
                    <a:pt x="11" y="59"/>
                  </a:moveTo>
                  <a:cubicBezTo>
                    <a:pt x="21" y="59"/>
                    <a:pt x="21" y="59"/>
                    <a:pt x="21" y="59"/>
                  </a:cubicBezTo>
                  <a:cubicBezTo>
                    <a:pt x="22" y="64"/>
                    <a:pt x="24" y="69"/>
                    <a:pt x="27" y="72"/>
                  </a:cubicBezTo>
                  <a:cubicBezTo>
                    <a:pt x="20" y="69"/>
                    <a:pt x="15" y="65"/>
                    <a:pt x="11" y="59"/>
                  </a:cubicBezTo>
                  <a:close/>
                  <a:moveTo>
                    <a:pt x="53" y="72"/>
                  </a:moveTo>
                  <a:cubicBezTo>
                    <a:pt x="56" y="69"/>
                    <a:pt x="58" y="64"/>
                    <a:pt x="60" y="59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65" y="65"/>
                    <a:pt x="60" y="69"/>
                    <a:pt x="53" y="72"/>
                  </a:cubicBezTo>
                  <a:close/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custGeom>
              <a:avLst/>
              <a:gdLst/>
              <a:ahLst/>
              <a:rect l="l" t="t" r="r" b="b"/>
              <a:pathLst>
                <a:path w="172102" h="219907">
                  <a:moveTo>
                    <a:pt x="127483" y="0"/>
                  </a:moveTo>
                  <a:lnTo>
                    <a:pt x="41432" y="0"/>
                  </a:lnTo>
                  <a:lnTo>
                    <a:pt x="0" y="73303"/>
                  </a:lnTo>
                  <a:lnTo>
                    <a:pt x="35058" y="133857"/>
                  </a:lnTo>
                  <a:lnTo>
                    <a:pt x="0" y="194411"/>
                  </a:lnTo>
                  <a:lnTo>
                    <a:pt x="15936" y="219907"/>
                  </a:lnTo>
                  <a:lnTo>
                    <a:pt x="60555" y="146605"/>
                  </a:lnTo>
                  <a:lnTo>
                    <a:pt x="127483" y="146605"/>
                  </a:lnTo>
                  <a:lnTo>
                    <a:pt x="172102" y="73303"/>
                  </a:lnTo>
                  <a:lnTo>
                    <a:pt x="127483" y="0"/>
                  </a:lnTo>
                  <a:close/>
                  <a:moveTo>
                    <a:pt x="114735" y="121108"/>
                  </a:moveTo>
                  <a:lnTo>
                    <a:pt x="57367" y="121108"/>
                  </a:lnTo>
                  <a:lnTo>
                    <a:pt x="28684" y="73303"/>
                  </a:lnTo>
                  <a:lnTo>
                    <a:pt x="57367" y="25497"/>
                  </a:lnTo>
                  <a:lnTo>
                    <a:pt x="114735" y="25497"/>
                  </a:lnTo>
                  <a:lnTo>
                    <a:pt x="140231" y="73303"/>
                  </a:lnTo>
                  <a:lnTo>
                    <a:pt x="114735" y="121108"/>
                  </a:lnTo>
                  <a:close/>
                  <a:moveTo>
                    <a:pt x="92425" y="66928"/>
                  </a:moveTo>
                  <a:lnTo>
                    <a:pt x="92425" y="41432"/>
                  </a:lnTo>
                  <a:lnTo>
                    <a:pt x="79677" y="41432"/>
                  </a:lnTo>
                  <a:lnTo>
                    <a:pt x="79677" y="66928"/>
                  </a:lnTo>
                  <a:lnTo>
                    <a:pt x="54180" y="66928"/>
                  </a:lnTo>
                  <a:lnTo>
                    <a:pt x="54180" y="76490"/>
                  </a:lnTo>
                  <a:lnTo>
                    <a:pt x="79677" y="76490"/>
                  </a:lnTo>
                  <a:lnTo>
                    <a:pt x="79677" y="101986"/>
                  </a:lnTo>
                  <a:lnTo>
                    <a:pt x="92425" y="101986"/>
                  </a:lnTo>
                  <a:lnTo>
                    <a:pt x="92425" y="76490"/>
                  </a:lnTo>
                  <a:lnTo>
                    <a:pt x="114735" y="76490"/>
                  </a:lnTo>
                  <a:lnTo>
                    <a:pt x="114735" y="66928"/>
                  </a:lnTo>
                  <a:lnTo>
                    <a:pt x="92425" y="66928"/>
                  </a:lnTo>
                  <a:close/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2" marL="891360" indent="-178200">
              <a:spcBef>
                <a:spcPts val="799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3" marL="1248120" indent="-178200">
              <a:spcBef>
                <a:spcPts val="799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4" marL="1604520" indent="-178200">
              <a:spcBef>
                <a:spcPts val="799"/>
              </a:spcBef>
              <a:buClr>
                <a:srgbClr val="3f3f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5" marL="1604520" indent="-178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6" marL="1604520" indent="-178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939600" y="2905200"/>
            <a:ext cx="229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5240" y="-1440"/>
            <a:ext cx="1024200" cy="57369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395280" y="480960"/>
            <a:ext cx="266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426960" y="995400"/>
            <a:ext cx="244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739880" y="1987560"/>
            <a:ext cx="2119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1327320" y="3176640"/>
            <a:ext cx="212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92560" y="3741840"/>
            <a:ext cx="2119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3359160" y="2637000"/>
            <a:ext cx="212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524720" y="4290840"/>
            <a:ext cx="12952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4519800" y="1812960"/>
            <a:ext cx="200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4895280" y="2533680"/>
            <a:ext cx="201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7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8" name="TextBox 10"/>
          <p:cNvSpPr/>
          <p:nvPr/>
        </p:nvSpPr>
        <p:spPr>
          <a:xfrm>
            <a:off x="5651640" y="3936960"/>
            <a:ext cx="129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/>
            <a:ahLst/>
            <a:rect l="l" t="t" r="r" b="b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4"/>
          <p:cNvSpPr/>
          <p:nvPr/>
        </p:nvSpPr>
        <p:spPr>
          <a:xfrm>
            <a:off x="979560" y="1359000"/>
            <a:ext cx="230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61"/>
          <p:cNvGrpSpPr/>
          <p:nvPr/>
        </p:nvGrpSpPr>
        <p:grpSpPr>
          <a:xfrm>
            <a:off x="2419200" y="3924360"/>
            <a:ext cx="374760" cy="368280"/>
            <a:chOff x="2419200" y="3924360"/>
            <a:chExt cx="374760" cy="368280"/>
          </a:xfrm>
        </p:grpSpPr>
        <p:sp>
          <p:nvSpPr>
            <p:cNvPr id="297" name="椭圆 57"/>
            <p:cNvSpPr/>
            <p:nvPr/>
          </p:nvSpPr>
          <p:spPr>
            <a:xfrm>
              <a:off x="2423160" y="3939480"/>
              <a:ext cx="27000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60"/>
            <p:cNvSpPr/>
            <p:nvPr/>
          </p:nvSpPr>
          <p:spPr>
            <a:xfrm>
              <a:off x="2419200" y="392436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4"/>
          <p:cNvSpPr/>
          <p:nvPr/>
        </p:nvSpPr>
        <p:spPr>
          <a:xfrm>
            <a:off x="3184560" y="376236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7"/>
          <p:cNvSpPr/>
          <p:nvPr/>
        </p:nvSpPr>
        <p:spPr>
          <a:xfrm>
            <a:off x="4025880" y="355428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0"/>
          <p:cNvSpPr/>
          <p:nvPr/>
        </p:nvSpPr>
        <p:spPr>
          <a:xfrm>
            <a:off x="4651200" y="306720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3"/>
          <p:cNvSpPr/>
          <p:nvPr/>
        </p:nvSpPr>
        <p:spPr>
          <a:xfrm>
            <a:off x="4994280" y="213984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4"/>
          <p:cNvSpPr/>
          <p:nvPr/>
        </p:nvSpPr>
        <p:spPr>
          <a:xfrm>
            <a:off x="2673360" y="41212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5"/>
          <p:cNvSpPr/>
          <p:nvPr/>
        </p:nvSpPr>
        <p:spPr>
          <a:xfrm>
            <a:off x="3490920" y="411624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6"/>
          <p:cNvSpPr/>
          <p:nvPr/>
        </p:nvSpPr>
        <p:spPr>
          <a:xfrm>
            <a:off x="4362480" y="41068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7"/>
          <p:cNvSpPr/>
          <p:nvPr/>
        </p:nvSpPr>
        <p:spPr>
          <a:xfrm>
            <a:off x="4794120" y="4106880"/>
            <a:ext cx="86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4308480" y="176688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 rot="19701600">
            <a:off x="-468000" y="360360"/>
            <a:ext cx="30272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7791480" y="1766880"/>
            <a:ext cx="1224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39"/>
          <p:cNvGrpSpPr/>
          <p:nvPr/>
        </p:nvGrpSpPr>
        <p:grpSpPr>
          <a:xfrm>
            <a:off x="7481880" y="1895400"/>
            <a:ext cx="372960" cy="368280"/>
            <a:chOff x="7481880" y="1895400"/>
            <a:chExt cx="372960" cy="368280"/>
          </a:xfrm>
        </p:grpSpPr>
        <p:sp>
          <p:nvSpPr>
            <p:cNvPr id="318" name="椭圆 40"/>
            <p:cNvSpPr/>
            <p:nvPr/>
          </p:nvSpPr>
          <p:spPr>
            <a:xfrm>
              <a:off x="7485840" y="191052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41"/>
            <p:cNvSpPr/>
            <p:nvPr/>
          </p:nvSpPr>
          <p:spPr>
            <a:xfrm>
              <a:off x="7481880" y="18954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2"/>
          <p:cNvGrpSpPr/>
          <p:nvPr/>
        </p:nvGrpSpPr>
        <p:grpSpPr>
          <a:xfrm>
            <a:off x="7481880" y="2305080"/>
            <a:ext cx="372960" cy="368280"/>
            <a:chOff x="7481880" y="2305080"/>
            <a:chExt cx="372960" cy="368280"/>
          </a:xfrm>
        </p:grpSpPr>
        <p:sp>
          <p:nvSpPr>
            <p:cNvPr id="321" name="椭圆 43"/>
            <p:cNvSpPr/>
            <p:nvPr/>
          </p:nvSpPr>
          <p:spPr>
            <a:xfrm>
              <a:off x="7485840" y="232020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45"/>
            <p:cNvSpPr/>
            <p:nvPr/>
          </p:nvSpPr>
          <p:spPr>
            <a:xfrm>
              <a:off x="7481880" y="230508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6"/>
          <p:cNvGrpSpPr/>
          <p:nvPr/>
        </p:nvGrpSpPr>
        <p:grpSpPr>
          <a:xfrm>
            <a:off x="7481880" y="2712960"/>
            <a:ext cx="372960" cy="368280"/>
            <a:chOff x="7481880" y="2712960"/>
            <a:chExt cx="372960" cy="368280"/>
          </a:xfrm>
        </p:grpSpPr>
        <p:sp>
          <p:nvSpPr>
            <p:cNvPr id="324" name="椭圆 47"/>
            <p:cNvSpPr/>
            <p:nvPr/>
          </p:nvSpPr>
          <p:spPr>
            <a:xfrm>
              <a:off x="7485840" y="272808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7481880" y="27129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9"/>
          <p:cNvGrpSpPr/>
          <p:nvPr/>
        </p:nvGrpSpPr>
        <p:grpSpPr>
          <a:xfrm>
            <a:off x="7481880" y="3122640"/>
            <a:ext cx="372960" cy="368280"/>
            <a:chOff x="7481880" y="3122640"/>
            <a:chExt cx="372960" cy="368280"/>
          </a:xfrm>
        </p:grpSpPr>
        <p:sp>
          <p:nvSpPr>
            <p:cNvPr id="327" name="椭圆 50"/>
            <p:cNvSpPr/>
            <p:nvPr/>
          </p:nvSpPr>
          <p:spPr>
            <a:xfrm>
              <a:off x="7485840" y="313776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51"/>
            <p:cNvSpPr/>
            <p:nvPr/>
          </p:nvSpPr>
          <p:spPr>
            <a:xfrm>
              <a:off x="7481880" y="31226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52"/>
          <p:cNvGrpSpPr/>
          <p:nvPr/>
        </p:nvGrpSpPr>
        <p:grpSpPr>
          <a:xfrm>
            <a:off x="7481880" y="3530520"/>
            <a:ext cx="372960" cy="368280"/>
            <a:chOff x="7481880" y="3530520"/>
            <a:chExt cx="372960" cy="368280"/>
          </a:xfrm>
        </p:grpSpPr>
        <p:sp>
          <p:nvSpPr>
            <p:cNvPr id="330" name="椭圆 53"/>
            <p:cNvSpPr/>
            <p:nvPr/>
          </p:nvSpPr>
          <p:spPr>
            <a:xfrm>
              <a:off x="7485840" y="354564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54"/>
            <p:cNvSpPr/>
            <p:nvPr/>
          </p:nvSpPr>
          <p:spPr>
            <a:xfrm>
              <a:off x="7481880" y="353052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6" descr="Kaffee"/>
          <p:cNvPicPr/>
          <p:nvPr/>
        </p:nvPicPr>
        <p:blipFill>
          <a:blip r:embed="rId1"/>
          <a:stretch/>
        </p:blipFill>
        <p:spPr>
          <a:xfrm>
            <a:off x="-4680" y="-33480"/>
            <a:ext cx="2998800" cy="5748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8440"/>
            <a:ext cx="6149880" cy="57481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231"/>
          <p:cNvSpPr/>
          <p:nvPr/>
        </p:nvSpPr>
        <p:spPr>
          <a:xfrm>
            <a:off x="4716360" y="1851120"/>
            <a:ext cx="324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32"/>
          <p:cNvSpPr/>
          <p:nvPr/>
        </p:nvSpPr>
        <p:spPr>
          <a:xfrm>
            <a:off x="4765680" y="2425680"/>
            <a:ext cx="18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7524720" y="424008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4646520" y="1633680"/>
            <a:ext cx="1773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782600" y="2209680"/>
            <a:ext cx="125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4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7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4089240" y="2089080"/>
            <a:ext cx="535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71640" y="-1246320"/>
            <a:ext cx="6985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6080" y="-1432080"/>
            <a:ext cx="34984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0560" y="-1189080"/>
            <a:ext cx="72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305840" y="4019760"/>
            <a:ext cx="1004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达人</a:t>
            </a: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0200" y="1806480"/>
            <a:ext cx="19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200" y="2527200"/>
            <a:ext cx="186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049-79DB-4CB9-8413-46AB06E813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-3240" y="4659480"/>
            <a:ext cx="85266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209520" y="1128600"/>
            <a:ext cx="25844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065400" y="1128600"/>
            <a:ext cx="25862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940360" y="1128600"/>
            <a:ext cx="25844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816120" y="328680"/>
            <a:ext cx="4968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1"/>
          <p:cNvSpPr/>
          <p:nvPr/>
        </p:nvSpPr>
        <p:spPr>
          <a:xfrm>
            <a:off x="330120" y="3184560"/>
            <a:ext cx="2586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3240000" y="3265560"/>
            <a:ext cx="2584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073920" y="3260880"/>
            <a:ext cx="2585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968400" y="4057560"/>
            <a:ext cx="144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3876840" y="4057560"/>
            <a:ext cx="1774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6804000" y="4057560"/>
            <a:ext cx="158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7"/>
          <p:cNvSpPr/>
          <p:nvPr/>
        </p:nvSpPr>
        <p:spPr>
          <a:xfrm>
            <a:off x="1009800" y="4863960"/>
            <a:ext cx="334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8"/>
          <p:cNvSpPr/>
          <p:nvPr/>
        </p:nvSpPr>
        <p:spPr>
          <a:xfrm>
            <a:off x="3933720" y="4863960"/>
            <a:ext cx="2140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6877080" y="4863960"/>
            <a:ext cx="15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8526600" y="3075120"/>
            <a:ext cx="869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8"/>
          <p:cNvSpPr/>
          <p:nvPr/>
        </p:nvSpPr>
        <p:spPr>
          <a:xfrm>
            <a:off x="8523360" y="3855960"/>
            <a:ext cx="869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0"/>
          <p:cNvSpPr/>
          <p:nvPr/>
        </p:nvSpPr>
        <p:spPr>
          <a:xfrm>
            <a:off x="8529480" y="4659480"/>
            <a:ext cx="871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2"/>
          <p:cNvSpPr/>
          <p:nvPr/>
        </p:nvSpPr>
        <p:spPr>
          <a:xfrm>
            <a:off x="-3240" y="0"/>
            <a:ext cx="91519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6" name="矩形 44"/>
          <p:cNvSpPr/>
          <p:nvPr/>
        </p:nvSpPr>
        <p:spPr>
          <a:xfrm>
            <a:off x="2184840" y="3978360"/>
            <a:ext cx="205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6"/>
          <p:cNvSpPr/>
          <p:nvPr/>
        </p:nvSpPr>
        <p:spPr>
          <a:xfrm>
            <a:off x="2268360" y="4273560"/>
            <a:ext cx="200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8"/>
          <p:cNvSpPr/>
          <p:nvPr/>
        </p:nvSpPr>
        <p:spPr>
          <a:xfrm>
            <a:off x="4572000" y="4343400"/>
            <a:ext cx="215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524720" y="429732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1"/>
          <p:cNvSpPr/>
          <p:nvPr/>
        </p:nvSpPr>
        <p:spPr>
          <a:xfrm>
            <a:off x="4470840" y="1812960"/>
            <a:ext cx="210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4791240" y="2533680"/>
            <a:ext cx="170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4519800" y="1812960"/>
            <a:ext cx="200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738680" y="2533680"/>
            <a:ext cx="155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7524720" y="4290840"/>
            <a:ext cx="12952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1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2" name="TextBox 10"/>
          <p:cNvSpPr/>
          <p:nvPr/>
        </p:nvSpPr>
        <p:spPr>
          <a:xfrm>
            <a:off x="5651640" y="3936960"/>
            <a:ext cx="129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/>
            <a:ahLst/>
            <a:rect l="l" t="t" r="r" b="b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979560" y="1359000"/>
            <a:ext cx="230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61"/>
          <p:cNvGrpSpPr/>
          <p:nvPr/>
        </p:nvGrpSpPr>
        <p:grpSpPr>
          <a:xfrm>
            <a:off x="2419200" y="3924360"/>
            <a:ext cx="374760" cy="368280"/>
            <a:chOff x="2419200" y="3924360"/>
            <a:chExt cx="374760" cy="368280"/>
          </a:xfrm>
        </p:grpSpPr>
        <p:sp>
          <p:nvSpPr>
            <p:cNvPr id="231" name="椭圆 57"/>
            <p:cNvSpPr/>
            <p:nvPr/>
          </p:nvSpPr>
          <p:spPr>
            <a:xfrm>
              <a:off x="2423160" y="3939480"/>
              <a:ext cx="27000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60"/>
            <p:cNvSpPr/>
            <p:nvPr/>
          </p:nvSpPr>
          <p:spPr>
            <a:xfrm>
              <a:off x="2419200" y="392436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4"/>
          <p:cNvSpPr/>
          <p:nvPr/>
        </p:nvSpPr>
        <p:spPr>
          <a:xfrm>
            <a:off x="3184560" y="376236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7"/>
          <p:cNvSpPr/>
          <p:nvPr/>
        </p:nvSpPr>
        <p:spPr>
          <a:xfrm>
            <a:off x="4025880" y="355428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0"/>
          <p:cNvSpPr/>
          <p:nvPr/>
        </p:nvSpPr>
        <p:spPr>
          <a:xfrm>
            <a:off x="4651200" y="306720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4994280" y="213984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4"/>
          <p:cNvSpPr/>
          <p:nvPr/>
        </p:nvSpPr>
        <p:spPr>
          <a:xfrm>
            <a:off x="2673360" y="41212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5"/>
          <p:cNvSpPr/>
          <p:nvPr/>
        </p:nvSpPr>
        <p:spPr>
          <a:xfrm>
            <a:off x="3490920" y="411624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6"/>
          <p:cNvSpPr/>
          <p:nvPr/>
        </p:nvSpPr>
        <p:spPr>
          <a:xfrm>
            <a:off x="4362480" y="41068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7"/>
          <p:cNvSpPr/>
          <p:nvPr/>
        </p:nvSpPr>
        <p:spPr>
          <a:xfrm>
            <a:off x="4794120" y="4106880"/>
            <a:ext cx="86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 rot="19701600">
            <a:off x="-468000" y="360360"/>
            <a:ext cx="30272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7791480" y="1766880"/>
            <a:ext cx="1224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39"/>
          <p:cNvGrpSpPr/>
          <p:nvPr/>
        </p:nvGrpSpPr>
        <p:grpSpPr>
          <a:xfrm>
            <a:off x="7481880" y="1895400"/>
            <a:ext cx="372960" cy="368280"/>
            <a:chOff x="7481880" y="1895400"/>
            <a:chExt cx="372960" cy="368280"/>
          </a:xfrm>
        </p:grpSpPr>
        <p:sp>
          <p:nvSpPr>
            <p:cNvPr id="251" name="椭圆 40"/>
            <p:cNvSpPr/>
            <p:nvPr/>
          </p:nvSpPr>
          <p:spPr>
            <a:xfrm>
              <a:off x="7485840" y="191052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41"/>
            <p:cNvSpPr/>
            <p:nvPr/>
          </p:nvSpPr>
          <p:spPr>
            <a:xfrm>
              <a:off x="7481880" y="18954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2"/>
          <p:cNvGrpSpPr/>
          <p:nvPr/>
        </p:nvGrpSpPr>
        <p:grpSpPr>
          <a:xfrm>
            <a:off x="7481880" y="2305080"/>
            <a:ext cx="372960" cy="368280"/>
            <a:chOff x="7481880" y="2305080"/>
            <a:chExt cx="372960" cy="368280"/>
          </a:xfrm>
        </p:grpSpPr>
        <p:sp>
          <p:nvSpPr>
            <p:cNvPr id="254" name="椭圆 43"/>
            <p:cNvSpPr/>
            <p:nvPr/>
          </p:nvSpPr>
          <p:spPr>
            <a:xfrm>
              <a:off x="7485840" y="232020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5"/>
            <p:cNvSpPr/>
            <p:nvPr/>
          </p:nvSpPr>
          <p:spPr>
            <a:xfrm>
              <a:off x="7481880" y="230508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46"/>
          <p:cNvGrpSpPr/>
          <p:nvPr/>
        </p:nvGrpSpPr>
        <p:grpSpPr>
          <a:xfrm>
            <a:off x="7481880" y="2712960"/>
            <a:ext cx="372960" cy="368280"/>
            <a:chOff x="7481880" y="2712960"/>
            <a:chExt cx="372960" cy="368280"/>
          </a:xfrm>
        </p:grpSpPr>
        <p:sp>
          <p:nvSpPr>
            <p:cNvPr id="257" name="椭圆 47"/>
            <p:cNvSpPr/>
            <p:nvPr/>
          </p:nvSpPr>
          <p:spPr>
            <a:xfrm>
              <a:off x="7485840" y="272808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8"/>
            <p:cNvSpPr/>
            <p:nvPr/>
          </p:nvSpPr>
          <p:spPr>
            <a:xfrm>
              <a:off x="7481880" y="27129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49"/>
          <p:cNvGrpSpPr/>
          <p:nvPr/>
        </p:nvGrpSpPr>
        <p:grpSpPr>
          <a:xfrm>
            <a:off x="7481880" y="3122640"/>
            <a:ext cx="372960" cy="368280"/>
            <a:chOff x="7481880" y="3122640"/>
            <a:chExt cx="372960" cy="368280"/>
          </a:xfrm>
        </p:grpSpPr>
        <p:sp>
          <p:nvSpPr>
            <p:cNvPr id="260" name="椭圆 50"/>
            <p:cNvSpPr/>
            <p:nvPr/>
          </p:nvSpPr>
          <p:spPr>
            <a:xfrm>
              <a:off x="7485840" y="313776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51"/>
            <p:cNvSpPr/>
            <p:nvPr/>
          </p:nvSpPr>
          <p:spPr>
            <a:xfrm>
              <a:off x="7481880" y="31226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52"/>
          <p:cNvGrpSpPr/>
          <p:nvPr/>
        </p:nvGrpSpPr>
        <p:grpSpPr>
          <a:xfrm>
            <a:off x="7481880" y="3530520"/>
            <a:ext cx="372960" cy="368280"/>
            <a:chOff x="7481880" y="3530520"/>
            <a:chExt cx="372960" cy="368280"/>
          </a:xfrm>
        </p:grpSpPr>
        <p:sp>
          <p:nvSpPr>
            <p:cNvPr id="263" name="椭圆 53"/>
            <p:cNvSpPr/>
            <p:nvPr/>
          </p:nvSpPr>
          <p:spPr>
            <a:xfrm>
              <a:off x="7485840" y="354564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54"/>
            <p:cNvSpPr/>
            <p:nvPr/>
          </p:nvSpPr>
          <p:spPr>
            <a:xfrm>
              <a:off x="7481880" y="353052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27:09Z</dcterms:created>
  <dc:creator/>
  <dc:description/>
  <dc:language>en-US</dc:language>
  <cp:lastModifiedBy>Administrator</cp:lastModifiedBy>
  <dcterms:modified xsi:type="dcterms:W3CDTF">2016-08-02T06:35:5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