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7D9-B8E8-46D2-91A6-6A263E11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7A3-E8CA-42CC-829C-F7142BDF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85E-7BD1-4069-8070-DC50043C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112-B650-4FED-90F0-3217F605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A31-7874-4217-B716-39F2DE6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D88-497F-48E5-8460-07F6AED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3DB-1910-4E92-898E-7227EE5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5ED-8F91-4A0A-A670-5F67A53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177-0CCA-4173-92BF-A58787E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1FF-8C49-4188-9A84-3EED34C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680-FBC5-4A31-A9C4-38C6DDF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698-D26C-40D3-9B63-30A2D27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6B2D-CA22-4107-82EB-876DBB05C0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01AE-564F-49B3-8942-EB7DA59D18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1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1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1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custGeom>
            <a:avLst/>
            <a:gdLst/>
            <a:ahLst/>
            <a:rect l="l" t="t" r="r" b="b"/>
            <a:pathLst>
              <a:path w="5573492" h="5573492">
                <a:moveTo>
                  <a:pt x="2786746" y="1074060"/>
                </a:moveTo>
                <a:cubicBezTo>
                  <a:pt x="1840856" y="1074060"/>
                  <a:pt x="1074060" y="1840856"/>
                  <a:pt x="1074060" y="2786746"/>
                </a:cubicBezTo>
                <a:cubicBezTo>
                  <a:pt x="1074060" y="3732636"/>
                  <a:pt x="1840856" y="4499432"/>
                  <a:pt x="2786746" y="4499432"/>
                </a:cubicBezTo>
                <a:cubicBezTo>
                  <a:pt x="3732636" y="4499432"/>
                  <a:pt x="4499432" y="3732636"/>
                  <a:pt x="4499432" y="2786746"/>
                </a:cubicBezTo>
                <a:cubicBezTo>
                  <a:pt x="4499432" y="1840856"/>
                  <a:pt x="3732636" y="1074060"/>
                  <a:pt x="2786746" y="1074060"/>
                </a:cubicBezTo>
                <a:close/>
                <a:moveTo>
                  <a:pt x="2786746" y="0"/>
                </a:moveTo>
                <a:cubicBezTo>
                  <a:pt x="4325823" y="0"/>
                  <a:pt x="5573492" y="1247669"/>
                  <a:pt x="5573492" y="2786746"/>
                </a:cubicBezTo>
                <a:cubicBezTo>
                  <a:pt x="5573492" y="4325823"/>
                  <a:pt x="4325823" y="5573492"/>
                  <a:pt x="2786746" y="5573492"/>
                </a:cubicBezTo>
                <a:cubicBezTo>
                  <a:pt x="1247669" y="5573492"/>
                  <a:pt x="0" y="4325823"/>
                  <a:pt x="0" y="2786746"/>
                </a:cubicBezTo>
                <a:cubicBezTo>
                  <a:pt x="0" y="1247669"/>
                  <a:pt x="1247669" y="0"/>
                  <a:pt x="2786746" y="0"/>
                </a:cubicBezTo>
                <a:close/>
              </a:path>
            </a:pathLst>
          </a:cu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custGeom>
            <a:avLst/>
            <a:gdLst/>
            <a:ahLst/>
            <a:rect l="l" t="t" r="r" b="b"/>
            <a:pathLst>
              <a:path w="6961238" h="6961238">
                <a:moveTo>
                  <a:pt x="3480619" y="1268359"/>
                </a:moveTo>
                <a:cubicBezTo>
                  <a:pt x="2226241" y="1268359"/>
                  <a:pt x="1209367" y="2285233"/>
                  <a:pt x="1209367" y="3539611"/>
                </a:cubicBezTo>
                <a:cubicBezTo>
                  <a:pt x="1209367" y="4793989"/>
                  <a:pt x="2226241" y="5810863"/>
                  <a:pt x="3480619" y="5810863"/>
                </a:cubicBezTo>
                <a:cubicBezTo>
                  <a:pt x="4734997" y="5810863"/>
                  <a:pt x="5751871" y="4793989"/>
                  <a:pt x="5751871" y="3539611"/>
                </a:cubicBezTo>
                <a:cubicBezTo>
                  <a:pt x="5751871" y="2285233"/>
                  <a:pt x="4734997" y="1268359"/>
                  <a:pt x="3480619" y="1268359"/>
                </a:cubicBezTo>
                <a:close/>
                <a:moveTo>
                  <a:pt x="3480619" y="0"/>
                </a:moveTo>
                <a:cubicBezTo>
                  <a:pt x="5402912" y="0"/>
                  <a:pt x="6961238" y="1558326"/>
                  <a:pt x="6961238" y="3480619"/>
                </a:cubicBezTo>
                <a:cubicBezTo>
                  <a:pt x="6961238" y="5402912"/>
                  <a:pt x="5402912" y="6961238"/>
                  <a:pt x="3480619" y="6961238"/>
                </a:cubicBezTo>
                <a:cubicBezTo>
                  <a:pt x="1558326" y="6961238"/>
                  <a:pt x="0" y="5402912"/>
                  <a:pt x="0" y="3480619"/>
                </a:cubicBezTo>
                <a:cubicBezTo>
                  <a:pt x="0" y="1558326"/>
                  <a:pt x="1558326" y="0"/>
                  <a:pt x="3480619" y="0"/>
                </a:cubicBezTo>
                <a:close/>
              </a:path>
            </a:pathLst>
          </a:cu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custGeom>
            <a:avLst/>
            <a:gdLst/>
            <a:ahLst/>
            <a:rect l="l" t="t" r="r" b="b"/>
            <a:pathLst>
              <a:path w="6208730" h="6208730">
                <a:moveTo>
                  <a:pt x="3104365" y="1040115"/>
                </a:moveTo>
                <a:cubicBezTo>
                  <a:pt x="1966737" y="1040115"/>
                  <a:pt x="1044508" y="1962344"/>
                  <a:pt x="1044508" y="3099972"/>
                </a:cubicBezTo>
                <a:cubicBezTo>
                  <a:pt x="1044508" y="4237600"/>
                  <a:pt x="1966737" y="5159829"/>
                  <a:pt x="3104365" y="5159829"/>
                </a:cubicBezTo>
                <a:cubicBezTo>
                  <a:pt x="4241993" y="5159829"/>
                  <a:pt x="5164222" y="4237600"/>
                  <a:pt x="5164222" y="3099972"/>
                </a:cubicBezTo>
                <a:cubicBezTo>
                  <a:pt x="5164222" y="1962344"/>
                  <a:pt x="4241993" y="1040115"/>
                  <a:pt x="3104365" y="1040115"/>
                </a:cubicBezTo>
                <a:close/>
                <a:moveTo>
                  <a:pt x="3104365" y="0"/>
                </a:moveTo>
                <a:cubicBezTo>
                  <a:pt x="4818858" y="0"/>
                  <a:pt x="6208730" y="1389872"/>
                  <a:pt x="6208730" y="3104365"/>
                </a:cubicBezTo>
                <a:cubicBezTo>
                  <a:pt x="6208730" y="4818858"/>
                  <a:pt x="4818858" y="6208730"/>
                  <a:pt x="3104365" y="6208730"/>
                </a:cubicBezTo>
                <a:cubicBezTo>
                  <a:pt x="1389872" y="6208730"/>
                  <a:pt x="0" y="4818858"/>
                  <a:pt x="0" y="3104365"/>
                </a:cubicBezTo>
                <a:cubicBezTo>
                  <a:pt x="0" y="1389872"/>
                  <a:pt x="1389872" y="0"/>
                  <a:pt x="3104365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custGeom>
            <a:avLst/>
            <a:gdLst/>
            <a:ahLst/>
            <a:rect l="l" t="t" r="r" b="b"/>
            <a:pathLst>
              <a:path w="6362700" h="6362700">
                <a:moveTo>
                  <a:pt x="3105150" y="902280"/>
                </a:moveTo>
                <a:cubicBezTo>
                  <a:pt x="1909581" y="902280"/>
                  <a:pt x="940380" y="1871481"/>
                  <a:pt x="940380" y="3067050"/>
                </a:cubicBezTo>
                <a:cubicBezTo>
                  <a:pt x="940380" y="4262619"/>
                  <a:pt x="1909581" y="5231820"/>
                  <a:pt x="3105150" y="5231820"/>
                </a:cubicBezTo>
                <a:cubicBezTo>
                  <a:pt x="4300719" y="5231820"/>
                  <a:pt x="5269920" y="4262619"/>
                  <a:pt x="5269920" y="3067050"/>
                </a:cubicBezTo>
                <a:cubicBezTo>
                  <a:pt x="5269920" y="1871481"/>
                  <a:pt x="4300719" y="902280"/>
                  <a:pt x="3105150" y="902280"/>
                </a:cubicBezTo>
                <a:close/>
                <a:moveTo>
                  <a:pt x="3181350" y="0"/>
                </a:moveTo>
                <a:cubicBezTo>
                  <a:pt x="4938361" y="0"/>
                  <a:pt x="6362700" y="1424339"/>
                  <a:pt x="6362700" y="3181350"/>
                </a:cubicBezTo>
                <a:cubicBezTo>
                  <a:pt x="6362700" y="4938361"/>
                  <a:pt x="4938361" y="6362700"/>
                  <a:pt x="3181350" y="6362700"/>
                </a:cubicBezTo>
                <a:cubicBezTo>
                  <a:pt x="1424339" y="6362700"/>
                  <a:pt x="0" y="4938361"/>
                  <a:pt x="0" y="3181350"/>
                </a:cubicBezTo>
                <a:cubicBezTo>
                  <a:pt x="0" y="1424339"/>
                  <a:pt x="1424339" y="0"/>
                  <a:pt x="3181350" y="0"/>
                </a:cubicBezTo>
                <a:close/>
              </a:path>
            </a:pathLst>
          </a:cu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2000" y="3858480"/>
            <a:ext cx="477360" cy="476280"/>
            <a:chOff x="5022000" y="38584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89680" y="39232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5400" y="3991320"/>
              <a:ext cx="24984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89360" y="3424680"/>
            <a:ext cx="570960" cy="569160"/>
            <a:chOff x="2889360" y="34246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5680" y="34981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1840" y="3580560"/>
              <a:ext cx="306000" cy="256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19040" y="3525840"/>
            <a:ext cx="317520" cy="311040"/>
            <a:chOff x="1319040" y="3525840"/>
            <a:chExt cx="317520" cy="311040"/>
          </a:xfrm>
        </p:grpSpPr>
        <p:sp>
          <p:nvSpPr>
            <p:cNvPr id="70" name="Oval 5"/>
            <p:cNvSpPr/>
            <p:nvPr/>
          </p:nvSpPr>
          <p:spPr>
            <a:xfrm rot="16200000">
              <a:off x="1322280" y="3522600"/>
              <a:ext cx="3110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3680" y="3584880"/>
              <a:ext cx="227880" cy="192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6400" y="4950360"/>
            <a:ext cx="363960" cy="361800"/>
            <a:chOff x="9536400" y="4950360"/>
            <a:chExt cx="363960" cy="361800"/>
          </a:xfrm>
        </p:grpSpPr>
        <p:sp>
          <p:nvSpPr>
            <p:cNvPr id="76" name="Oval 5"/>
            <p:cNvSpPr/>
            <p:nvPr/>
          </p:nvSpPr>
          <p:spPr>
            <a:xfrm rot="14494200">
              <a:off x="9585360" y="4996080"/>
              <a:ext cx="26532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1000" y="5049360"/>
              <a:ext cx="194400" cy="164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0800" y="3452760"/>
            <a:ext cx="1525680" cy="1525320"/>
            <a:chOff x="5410800" y="3452760"/>
            <a:chExt cx="152568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7600" y="3672360"/>
              <a:ext cx="1071360" cy="10861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68280" y="3872520"/>
              <a:ext cx="784800" cy="6595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6360" y="3211560"/>
            <a:ext cx="489960" cy="489600"/>
            <a:chOff x="756360" y="3211560"/>
            <a:chExt cx="489960" cy="489600"/>
          </a:xfrm>
        </p:grpSpPr>
        <p:sp>
          <p:nvSpPr>
            <p:cNvPr id="88" name="Oval 5"/>
            <p:cNvSpPr/>
            <p:nvPr/>
          </p:nvSpPr>
          <p:spPr>
            <a:xfrm rot="13726800">
              <a:off x="829080" y="3281400"/>
              <a:ext cx="344520" cy="34956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5160" y="3350160"/>
              <a:ext cx="252360" cy="2124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0960" y="5355360"/>
            <a:ext cx="446400" cy="445320"/>
            <a:chOff x="11190960" y="5355360"/>
            <a:chExt cx="446400" cy="4453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6840" y="5417640"/>
              <a:ext cx="314280" cy="32040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8600" y="5480640"/>
              <a:ext cx="230400" cy="194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2880" y="3959280"/>
            <a:ext cx="566640" cy="565200"/>
            <a:chOff x="8282880" y="3959280"/>
            <a:chExt cx="566640" cy="565200"/>
          </a:xfrm>
        </p:grpSpPr>
        <p:sp>
          <p:nvSpPr>
            <p:cNvPr id="121" name="Oval 5"/>
            <p:cNvSpPr/>
            <p:nvPr/>
          </p:nvSpPr>
          <p:spPr>
            <a:xfrm rot="18294000">
              <a:off x="8364600" y="4037040"/>
              <a:ext cx="403200" cy="40968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240" y="4116960"/>
              <a:ext cx="295200" cy="248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7080" y="2984040"/>
            <a:ext cx="610920" cy="610560"/>
            <a:chOff x="2377080" y="2984040"/>
            <a:chExt cx="610920" cy="610560"/>
          </a:xfrm>
        </p:grpSpPr>
        <p:sp>
          <p:nvSpPr>
            <p:cNvPr id="136" name="Oval 5"/>
            <p:cNvSpPr/>
            <p:nvPr/>
          </p:nvSpPr>
          <p:spPr>
            <a:xfrm rot="13497600">
              <a:off x="2467800" y="3071520"/>
              <a:ext cx="428760" cy="43488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5400" y="3157200"/>
              <a:ext cx="313920" cy="264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28360" y="3302280"/>
            <a:ext cx="295560" cy="293400"/>
            <a:chOff x="1728360" y="3302280"/>
            <a:chExt cx="29556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68680" y="3339360"/>
              <a:ext cx="21456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7480" y="3381840"/>
              <a:ext cx="157320" cy="133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700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701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704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70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71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71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71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719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72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72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72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73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734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3424400">
              <a:off x="11310480" y="6096600"/>
              <a:ext cx="444240" cy="3704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44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737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任意多边形 48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任意多边形 49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50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745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"/>
            <p:cNvSpPr/>
            <p:nvPr/>
          </p:nvSpPr>
          <p:spPr>
            <a:xfrm rot="13320000">
              <a:off x="4543920" y="183636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748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rot="13320000">
              <a:off x="4543920" y="3971520"/>
              <a:ext cx="78624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751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3320000">
              <a:off x="2561040" y="184428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754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3320000">
              <a:off x="2535480" y="3971520"/>
              <a:ext cx="78624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757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"/>
            <p:cNvSpPr/>
            <p:nvPr/>
          </p:nvSpPr>
          <p:spPr>
            <a:xfrm rot="13320000">
              <a:off x="789480" y="183636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760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 rot="13320000">
              <a:off x="738360" y="3971520"/>
              <a:ext cx="78480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6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6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7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780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8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8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795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9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804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807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810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1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1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820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823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826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829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831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833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835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837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840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299"/>
            <p:cNvSpPr/>
            <p:nvPr/>
          </p:nvSpPr>
          <p:spPr>
            <a:xfrm>
              <a:off x="25995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843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心形 55"/>
            <p:cNvSpPr/>
            <p:nvPr/>
          </p:nvSpPr>
          <p:spPr>
            <a:xfrm>
              <a:off x="7333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846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7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849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851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854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856" name="矩形 3087"/>
              <p:cNvSpPr/>
              <p:nvPr/>
            </p:nvSpPr>
            <p:spPr>
              <a:xfrm>
                <a:off x="26190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858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861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864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867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8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870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872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874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876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878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881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348"/>
            <p:cNvSpPr/>
            <p:nvPr/>
          </p:nvSpPr>
          <p:spPr>
            <a:xfrm>
              <a:off x="53427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884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心形 55"/>
            <p:cNvSpPr/>
            <p:nvPr/>
          </p:nvSpPr>
          <p:spPr>
            <a:xfrm>
              <a:off x="34765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887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890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892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895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897" name="矩形 3087"/>
              <p:cNvSpPr/>
              <p:nvPr/>
            </p:nvSpPr>
            <p:spPr>
              <a:xfrm>
                <a:off x="53622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899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0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902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4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905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908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9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911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913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915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917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919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922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392"/>
            <p:cNvSpPr/>
            <p:nvPr/>
          </p:nvSpPr>
          <p:spPr>
            <a:xfrm>
              <a:off x="81003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925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心形 55"/>
            <p:cNvSpPr/>
            <p:nvPr/>
          </p:nvSpPr>
          <p:spPr>
            <a:xfrm>
              <a:off x="62341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928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0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931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933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936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938" name="矩形 3087"/>
              <p:cNvSpPr/>
              <p:nvPr/>
            </p:nvSpPr>
            <p:spPr>
              <a:xfrm>
                <a:off x="81180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94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94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94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94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95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95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956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958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960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963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36"/>
            <p:cNvSpPr/>
            <p:nvPr/>
          </p:nvSpPr>
          <p:spPr>
            <a:xfrm>
              <a:off x="81003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966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心形 55"/>
            <p:cNvSpPr/>
            <p:nvPr/>
          </p:nvSpPr>
          <p:spPr>
            <a:xfrm>
              <a:off x="62341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969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0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972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974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977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979" name="矩形 3087"/>
              <p:cNvSpPr/>
              <p:nvPr/>
            </p:nvSpPr>
            <p:spPr>
              <a:xfrm>
                <a:off x="81180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0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981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984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6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987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990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1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993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995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997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999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0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001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004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任意多边形 480"/>
            <p:cNvSpPr/>
            <p:nvPr/>
          </p:nvSpPr>
          <p:spPr>
            <a:xfrm>
              <a:off x="53427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007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心形 55"/>
            <p:cNvSpPr/>
            <p:nvPr/>
          </p:nvSpPr>
          <p:spPr>
            <a:xfrm>
              <a:off x="34765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010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013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015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018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020" name="矩形 3087"/>
              <p:cNvSpPr/>
              <p:nvPr/>
            </p:nvSpPr>
            <p:spPr>
              <a:xfrm>
                <a:off x="53622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022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025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028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031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3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034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036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7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038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040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1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042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045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任意多边形 524"/>
            <p:cNvSpPr/>
            <p:nvPr/>
          </p:nvSpPr>
          <p:spPr>
            <a:xfrm>
              <a:off x="26139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048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心形 55"/>
            <p:cNvSpPr/>
            <p:nvPr/>
          </p:nvSpPr>
          <p:spPr>
            <a:xfrm>
              <a:off x="7477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051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2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054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056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059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061" name="矩形 3087"/>
              <p:cNvSpPr/>
              <p:nvPr/>
            </p:nvSpPr>
            <p:spPr>
              <a:xfrm>
                <a:off x="26316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2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063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4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5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066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7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151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custGeom>
            <a:avLst/>
            <a:gdLst/>
            <a:ahLst/>
            <a:rect l="l" t="t" r="r" b="b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达人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模板素材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690-72C3-471D-88D9-CEBAF30C0D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211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226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235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238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241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251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254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7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 rot="2803800">
              <a:off x="6643800" y="254700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7"/>
          <p:cNvSpPr/>
          <p:nvPr/>
        </p:nvSpPr>
        <p:spPr>
          <a:xfrm>
            <a:off x="1866960" y="2759040"/>
            <a:ext cx="4216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8"/>
          <p:cNvSpPr/>
          <p:nvPr/>
        </p:nvSpPr>
        <p:spPr>
          <a:xfrm>
            <a:off x="6799320" y="2759040"/>
            <a:ext cx="427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9"/>
          <p:cNvSpPr/>
          <p:nvPr/>
        </p:nvSpPr>
        <p:spPr>
          <a:xfrm>
            <a:off x="1866960" y="4545000"/>
            <a:ext cx="421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>
            <a:off x="6799320" y="4564080"/>
            <a:ext cx="42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8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1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5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9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285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9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3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6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300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3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6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309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312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315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8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2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325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30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3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6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9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2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21"/>
            <p:cNvSpPr/>
            <p:nvPr/>
          </p:nvSpPr>
          <p:spPr>
            <a:xfrm>
              <a:off x="1527840" y="38642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5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6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377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392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401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404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407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1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417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2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420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 rot="2803800">
              <a:off x="6638760" y="254700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438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441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444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447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450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453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456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459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462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465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468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471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13424400">
              <a:off x="11310480" y="6096600"/>
              <a:ext cx="444240" cy="3704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44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474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任意多边形 48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49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50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表 8" descr=""/>
          <p:cNvPicPr/>
          <p:nvPr/>
        </p:nvPicPr>
        <p:blipFill>
          <a:blip r:embed="rId2"/>
          <a:stretch/>
        </p:blipFill>
        <p:spPr>
          <a:xfrm>
            <a:off x="-176040" y="1755720"/>
            <a:ext cx="7478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8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8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9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9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500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0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0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1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515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1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2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524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527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530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3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3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540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图表 32" descr=""/>
          <p:cNvPicPr/>
          <p:nvPr/>
        </p:nvPicPr>
        <p:blipFill>
          <a:blip r:embed="rId2"/>
          <a:stretch/>
        </p:blipFill>
        <p:spPr>
          <a:xfrm>
            <a:off x="601560" y="2338560"/>
            <a:ext cx="5686560" cy="341460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546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 rot="2803800">
              <a:off x="6676560" y="3021480"/>
              <a:ext cx="17676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40"/>
          <p:cNvSpPr/>
          <p:nvPr/>
        </p:nvSpPr>
        <p:spPr>
          <a:xfrm>
            <a:off x="6851520" y="3181320"/>
            <a:ext cx="22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51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54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58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62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568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72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76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79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583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86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89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592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595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598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01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05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608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0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840"/>
                <a:gridCol w="1103400"/>
                <a:gridCol w="1104840"/>
                <a:gridCol w="1103400"/>
                <a:gridCol w="1103400"/>
                <a:gridCol w="110484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1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615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 rot="2803800">
              <a:off x="7908840" y="302976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文本框 14"/>
          <p:cNvSpPr/>
          <p:nvPr/>
        </p:nvSpPr>
        <p:spPr>
          <a:xfrm>
            <a:off x="8077320" y="31719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1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2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2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3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636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4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4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4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651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5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5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660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663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666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6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7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676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组合 5"/>
          <p:cNvGrpSpPr/>
          <p:nvPr/>
        </p:nvGrpSpPr>
        <p:grpSpPr>
          <a:xfrm>
            <a:off x="6568560" y="2464200"/>
            <a:ext cx="319680" cy="319680"/>
            <a:chOff x="6568560" y="2464200"/>
            <a:chExt cx="319680" cy="319680"/>
          </a:xfrm>
        </p:grpSpPr>
        <p:sp>
          <p:nvSpPr>
            <p:cNvPr id="681" name="Oval 5"/>
            <p:cNvSpPr/>
            <p:nvPr/>
          </p:nvSpPr>
          <p:spPr>
            <a:xfrm rot="2803800">
              <a:off x="6615360" y="251028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2803800">
              <a:off x="6639120" y="2550600"/>
              <a:ext cx="176400" cy="1476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684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 rot="2803800">
              <a:off x="1706400" y="255348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Administrator</cp:lastModifiedBy>
  <dcterms:modified xsi:type="dcterms:W3CDTF">2016-08-02T06:39:12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