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779-B342-405D-A066-D0E0F821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ABA-EA0D-46B3-9396-DFA5CBEF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E6F-21A4-44E5-BCEB-1BBF09CC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C83-7E93-4E9C-8B2D-DEDA4101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070-32EF-4D55-9B96-5667BC6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1D0-3BC1-4485-9209-74E9C604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46A-F6AA-4B73-97BA-19A928AC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AD7-AB1C-4185-B868-CDE68D21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9A0-A24E-4803-8541-A390A055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B5A-FD5A-4196-940C-4E780DF8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EBF-AE94-4392-AA9C-0EBAC25E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17C-30AF-492A-91CD-368A92B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004-C75A-4508-B772-768C54A28E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4EBE-2D5A-4C86-9600-B4BAF396AE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20"/>
          <p:cNvSpPr/>
          <p:nvPr/>
        </p:nvSpPr>
        <p:spPr>
          <a:xfrm>
            <a:off x="2238480" y="328788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46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6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TextBox 3"/>
          <p:cNvSpPr/>
          <p:nvPr/>
        </p:nvSpPr>
        <p:spPr>
          <a:xfrm>
            <a:off x="504720" y="6608880"/>
            <a:ext cx="46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DDF0-274E-43E4-B0E3-C4DE024533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901800" y="1519200"/>
            <a:ext cx="7416360" cy="4068720"/>
            <a:chOff x="901800" y="1519200"/>
            <a:chExt cx="7416360" cy="4068720"/>
          </a:xfrm>
        </p:grpSpPr>
        <p:sp>
          <p:nvSpPr>
            <p:cNvPr id="245" name="Oval 4"/>
            <p:cNvSpPr/>
            <p:nvPr/>
          </p:nvSpPr>
          <p:spPr>
            <a:xfrm>
              <a:off x="901800" y="3510000"/>
              <a:ext cx="1361880" cy="1282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993600" y="3597840"/>
              <a:ext cx="1179360" cy="111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"/>
            <p:cNvSpPr/>
            <p:nvPr/>
          </p:nvSpPr>
          <p:spPr>
            <a:xfrm>
              <a:off x="3690720" y="3799080"/>
              <a:ext cx="1899720" cy="178884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3818880" y="3922560"/>
              <a:ext cx="1645560" cy="154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"/>
            <p:cNvSpPr/>
            <p:nvPr/>
          </p:nvSpPr>
          <p:spPr>
            <a:xfrm>
              <a:off x="3840480" y="2844720"/>
              <a:ext cx="799920" cy="7542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894840" y="2896920"/>
              <a:ext cx="693000" cy="651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1" name="AutoShape 10"/>
            <p:cNvCxnSpPr>
              <a:stCxn id="245" idx="0"/>
              <a:endCxn id="252" idx="0"/>
            </p:cNvCxnSpPr>
            <p:nvPr/>
          </p:nvCxnSpPr>
          <p:spPr>
            <a:xfrm flipV="1">
              <a:off x="1582560" y="1583640"/>
              <a:ext cx="1127160" cy="1926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3" name="AutoShape 11"/>
            <p:cNvCxnSpPr>
              <a:stCxn id="245" idx="7"/>
              <a:endCxn id="249" idx="2"/>
            </p:cNvCxnSpPr>
            <p:nvPr/>
          </p:nvCxnSpPr>
          <p:spPr>
            <a:xfrm flipV="1">
              <a:off x="2063160" y="3220560"/>
              <a:ext cx="1777320" cy="4777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4" name="AutoShape 12"/>
            <p:cNvCxnSpPr>
              <a:stCxn id="245" idx="5"/>
              <a:endCxn id="247" idx="2"/>
            </p:cNvCxnSpPr>
            <p:nvPr/>
          </p:nvCxnSpPr>
          <p:spPr>
            <a:xfrm>
              <a:off x="2063160" y="4604400"/>
              <a:ext cx="1627560" cy="892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5" name="AutoShape 13"/>
            <p:cNvCxnSpPr>
              <a:stCxn id="249" idx="6"/>
              <a:endCxn id="256" idx="2"/>
            </p:cNvCxnSpPr>
            <p:nvPr/>
          </p:nvCxnSpPr>
          <p:spPr>
            <a:xfrm>
              <a:off x="4640400" y="3220920"/>
              <a:ext cx="2727000" cy="18900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7" name="AutoShape 14"/>
            <p:cNvCxnSpPr>
              <a:stCxn id="247" idx="6"/>
              <a:endCxn id="256" idx="3"/>
            </p:cNvCxnSpPr>
            <p:nvPr/>
          </p:nvCxnSpPr>
          <p:spPr>
            <a:xfrm flipV="1">
              <a:off x="5590440" y="3725640"/>
              <a:ext cx="1916640" cy="96732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8" name="AutoShape 15"/>
            <p:cNvCxnSpPr>
              <a:stCxn id="247" idx="1"/>
              <a:endCxn id="252" idx="3"/>
            </p:cNvCxnSpPr>
            <p:nvPr/>
          </p:nvCxnSpPr>
          <p:spPr>
            <a:xfrm flipH="1" flipV="1">
              <a:off x="3282120" y="2903040"/>
              <a:ext cx="686880" cy="1158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59" name="AutoShape 16"/>
            <p:cNvCxnSpPr>
              <a:stCxn id="249" idx="1"/>
              <a:endCxn id="252" idx="7"/>
            </p:cNvCxnSpPr>
            <p:nvPr/>
          </p:nvCxnSpPr>
          <p:spPr>
            <a:xfrm flipH="1" flipV="1">
              <a:off x="2134440" y="1807920"/>
              <a:ext cx="1823400" cy="114804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cxnSp>
          <p:nvCxnSpPr>
            <p:cNvPr id="260" name="AutoShape 17"/>
            <p:cNvCxnSpPr>
              <a:stCxn id="261" idx="1"/>
              <a:endCxn id="252" idx="2"/>
            </p:cNvCxnSpPr>
            <p:nvPr/>
          </p:nvCxnSpPr>
          <p:spPr>
            <a:xfrm flipH="1" flipV="1">
              <a:off x="3529080" y="2355840"/>
              <a:ext cx="4023000" cy="780480"/>
            </a:xfrm>
            <a:prstGeom prst="straightConnector1">
              <a:avLst/>
            </a:prstGeom>
            <a:ln cap="rnd" w="25560">
              <a:solidFill>
                <a:srgbClr val="ee0f68"/>
              </a:solidFill>
              <a:custDash>
                <a:ds d="100000" sp="1000"/>
              </a:custDash>
              <a:round/>
            </a:ln>
          </p:spPr>
        </p:cxnSp>
        <p:grpSp>
          <p:nvGrpSpPr>
            <p:cNvPr id="262" name="Group 18"/>
            <p:cNvGrpSpPr/>
            <p:nvPr/>
          </p:nvGrpSpPr>
          <p:grpSpPr>
            <a:xfrm>
              <a:off x="1820160" y="1519200"/>
              <a:ext cx="1778040" cy="1674000"/>
              <a:chOff x="1820160" y="1519200"/>
              <a:chExt cx="1778040" cy="1674000"/>
            </a:xfrm>
          </p:grpSpPr>
          <p:pic>
            <p:nvPicPr>
              <p:cNvPr id="263" name="Picture 19" descr="ball"/>
              <p:cNvPicPr/>
              <p:nvPr/>
            </p:nvPicPr>
            <p:blipFill>
              <a:blip r:embed="rId1"/>
              <a:stretch/>
            </p:blipFill>
            <p:spPr>
              <a:xfrm flipH="1">
                <a:off x="1820160" y="1519200"/>
                <a:ext cx="1778040" cy="16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20"/>
              <p:cNvSpPr/>
              <p:nvPr/>
            </p:nvSpPr>
            <p:spPr>
              <a:xfrm flipH="1">
                <a:off x="1897920" y="1591920"/>
                <a:ext cx="1622880" cy="152820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Verdana"/>
                    <a:ea typeface="Gulim"/>
                  </a:rPr>
                  <a:t>Subtitl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Oval 22"/>
            <p:cNvSpPr/>
            <p:nvPr/>
          </p:nvSpPr>
          <p:spPr>
            <a:xfrm>
              <a:off x="7367400" y="2962080"/>
              <a:ext cx="950760" cy="8953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7431840" y="3022920"/>
              <a:ext cx="822960" cy="77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11"/>
          <p:cNvSpPr/>
          <p:nvPr/>
        </p:nvSpPr>
        <p:spPr>
          <a:xfrm>
            <a:off x="7893000" y="4995720"/>
            <a:ext cx="425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13"/>
          <p:cNvSpPr/>
          <p:nvPr/>
        </p:nvSpPr>
        <p:spPr>
          <a:xfrm>
            <a:off x="7878240" y="4395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0C0-73B4-4DCA-BFE2-62124F2FF1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277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287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6708-D219-4A59-B362-EF87373691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7"/>
          <p:cNvSpPr/>
          <p:nvPr/>
        </p:nvSpPr>
        <p:spPr>
          <a:xfrm flipV="1">
            <a:off x="0" y="4797000"/>
            <a:ext cx="1830240" cy="148932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"/>
          <p:cNvSpPr/>
          <p:nvPr/>
        </p:nvSpPr>
        <p:spPr>
          <a:xfrm flipH="1" flipV="1">
            <a:off x="1941120" y="4887720"/>
            <a:ext cx="1157400" cy="6238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2"/>
          <p:cNvSpPr/>
          <p:nvPr/>
        </p:nvSpPr>
        <p:spPr>
          <a:xfrm flipH="1">
            <a:off x="3207960" y="3705120"/>
            <a:ext cx="2259000" cy="180684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3"/>
          <p:cNvSpPr/>
          <p:nvPr/>
        </p:nvSpPr>
        <p:spPr>
          <a:xfrm flipH="1" flipV="1">
            <a:off x="5578200" y="3705120"/>
            <a:ext cx="1517400" cy="1000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4"/>
          <p:cNvSpPr/>
          <p:nvPr/>
        </p:nvSpPr>
        <p:spPr>
          <a:xfrm flipH="1">
            <a:off x="7207200" y="2454120"/>
            <a:ext cx="1790640" cy="225108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5"/>
          <p:cNvSpPr/>
          <p:nvPr/>
        </p:nvSpPr>
        <p:spPr>
          <a:xfrm flipH="1">
            <a:off x="9069480" y="1476360"/>
            <a:ext cx="3122640" cy="939960"/>
          </a:xfrm>
          <a:prstGeom prst="line">
            <a:avLst/>
          </a:prstGeom>
          <a:ln w="64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8"/>
          <p:cNvGrpSpPr/>
          <p:nvPr/>
        </p:nvGrpSpPr>
        <p:grpSpPr>
          <a:xfrm>
            <a:off x="1030320" y="3274920"/>
            <a:ext cx="1881000" cy="1094040"/>
            <a:chOff x="1030320" y="3274920"/>
            <a:chExt cx="1881000" cy="1094040"/>
          </a:xfrm>
        </p:grpSpPr>
        <p:sp>
          <p:nvSpPr>
            <p:cNvPr id="306" name="文本框 29"/>
            <p:cNvSpPr/>
            <p:nvPr/>
          </p:nvSpPr>
          <p:spPr>
            <a:xfrm>
              <a:off x="1030320" y="3274920"/>
              <a:ext cx="1881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30"/>
            <p:cNvSpPr/>
            <p:nvPr/>
          </p:nvSpPr>
          <p:spPr>
            <a:xfrm>
              <a:off x="1030320" y="4031640"/>
              <a:ext cx="162540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5"/>
          <p:cNvGrpSpPr/>
          <p:nvPr/>
        </p:nvGrpSpPr>
        <p:grpSpPr>
          <a:xfrm>
            <a:off x="4670280" y="2171880"/>
            <a:ext cx="1881360" cy="1141560"/>
            <a:chOff x="4670280" y="2171880"/>
            <a:chExt cx="1881360" cy="1141560"/>
          </a:xfrm>
        </p:grpSpPr>
        <p:sp>
          <p:nvSpPr>
            <p:cNvPr id="309" name="文本框 31"/>
            <p:cNvSpPr/>
            <p:nvPr/>
          </p:nvSpPr>
          <p:spPr>
            <a:xfrm>
              <a:off x="4670280" y="2171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5"/>
            <p:cNvSpPr/>
            <p:nvPr/>
          </p:nvSpPr>
          <p:spPr>
            <a:xfrm>
              <a:off x="4670280" y="297612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"/>
          <p:cNvGrpSpPr/>
          <p:nvPr/>
        </p:nvGrpSpPr>
        <p:grpSpPr>
          <a:xfrm>
            <a:off x="8118360" y="1028880"/>
            <a:ext cx="1908360" cy="1065240"/>
            <a:chOff x="8118360" y="1028880"/>
            <a:chExt cx="1908360" cy="1065240"/>
          </a:xfrm>
        </p:grpSpPr>
        <p:sp>
          <p:nvSpPr>
            <p:cNvPr id="312" name="文本框 32"/>
            <p:cNvSpPr/>
            <p:nvPr/>
          </p:nvSpPr>
          <p:spPr>
            <a:xfrm>
              <a:off x="8145360" y="102888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36"/>
            <p:cNvSpPr/>
            <p:nvPr/>
          </p:nvSpPr>
          <p:spPr>
            <a:xfrm>
              <a:off x="8118360" y="175680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"/>
          <p:cNvGrpSpPr/>
          <p:nvPr/>
        </p:nvGrpSpPr>
        <p:grpSpPr>
          <a:xfrm>
            <a:off x="7350120" y="4484520"/>
            <a:ext cx="1881360" cy="1124280"/>
            <a:chOff x="7350120" y="4484520"/>
            <a:chExt cx="1881360" cy="1124280"/>
          </a:xfrm>
        </p:grpSpPr>
        <p:sp>
          <p:nvSpPr>
            <p:cNvPr id="315" name="文本框 33"/>
            <p:cNvSpPr/>
            <p:nvPr/>
          </p:nvSpPr>
          <p:spPr>
            <a:xfrm>
              <a:off x="7350120" y="4484520"/>
              <a:ext cx="18813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37"/>
            <p:cNvSpPr/>
            <p:nvPr/>
          </p:nvSpPr>
          <p:spPr>
            <a:xfrm>
              <a:off x="7404120" y="5271480"/>
              <a:ext cx="162576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"/>
          <p:cNvGrpSpPr/>
          <p:nvPr/>
        </p:nvGrpSpPr>
        <p:grpSpPr>
          <a:xfrm>
            <a:off x="3425760" y="5043600"/>
            <a:ext cx="1879560" cy="1119600"/>
            <a:chOff x="3425760" y="5043600"/>
            <a:chExt cx="1879560" cy="1119600"/>
          </a:xfrm>
        </p:grpSpPr>
        <p:sp>
          <p:nvSpPr>
            <p:cNvPr id="318" name="文本框 34"/>
            <p:cNvSpPr/>
            <p:nvPr/>
          </p:nvSpPr>
          <p:spPr>
            <a:xfrm>
              <a:off x="3425760" y="5043600"/>
              <a:ext cx="18795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6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8"/>
            <p:cNvSpPr/>
            <p:nvPr/>
          </p:nvSpPr>
          <p:spPr>
            <a:xfrm>
              <a:off x="3425760" y="5825880"/>
              <a:ext cx="1624320" cy="3373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f5f5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3"/>
          <p:cNvGrpSpPr/>
          <p:nvPr/>
        </p:nvGrpSpPr>
        <p:grpSpPr>
          <a:xfrm>
            <a:off x="1596960" y="4608360"/>
            <a:ext cx="531720" cy="532080"/>
            <a:chOff x="1596960" y="4608360"/>
            <a:chExt cx="531720" cy="532080"/>
          </a:xfrm>
        </p:grpSpPr>
        <p:sp>
          <p:nvSpPr>
            <p:cNvPr id="321" name="椭圆 2"/>
            <p:cNvSpPr/>
            <p:nvPr/>
          </p:nvSpPr>
          <p:spPr>
            <a:xfrm>
              <a:off x="1596960" y="4608360"/>
              <a:ext cx="5317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0"/>
            <p:cNvSpPr/>
            <p:nvPr/>
          </p:nvSpPr>
          <p:spPr>
            <a:xfrm>
              <a:off x="1726920" y="4738680"/>
              <a:ext cx="27324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3"/>
          <p:cNvGrpSpPr/>
          <p:nvPr/>
        </p:nvGrpSpPr>
        <p:grpSpPr>
          <a:xfrm>
            <a:off x="2894040" y="5186520"/>
            <a:ext cx="531720" cy="529920"/>
            <a:chOff x="2894040" y="5186520"/>
            <a:chExt cx="531720" cy="529920"/>
          </a:xfrm>
        </p:grpSpPr>
        <p:sp>
          <p:nvSpPr>
            <p:cNvPr id="324" name="椭圆 44"/>
            <p:cNvSpPr/>
            <p:nvPr/>
          </p:nvSpPr>
          <p:spPr>
            <a:xfrm>
              <a:off x="2894040" y="5186520"/>
              <a:ext cx="531720" cy="5299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5"/>
            <p:cNvSpPr/>
            <p:nvPr/>
          </p:nvSpPr>
          <p:spPr>
            <a:xfrm>
              <a:off x="3024000" y="5316480"/>
              <a:ext cx="27324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5275440" y="3500280"/>
            <a:ext cx="529920" cy="532080"/>
            <a:chOff x="5275440" y="3500280"/>
            <a:chExt cx="529920" cy="532080"/>
          </a:xfrm>
        </p:grpSpPr>
        <p:sp>
          <p:nvSpPr>
            <p:cNvPr id="327" name="椭圆 47"/>
            <p:cNvSpPr/>
            <p:nvPr/>
          </p:nvSpPr>
          <p:spPr>
            <a:xfrm>
              <a:off x="5275440" y="3500280"/>
              <a:ext cx="529920" cy="5320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48"/>
            <p:cNvSpPr/>
            <p:nvPr/>
          </p:nvSpPr>
          <p:spPr>
            <a:xfrm>
              <a:off x="5405040" y="363060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6900840" y="4330800"/>
            <a:ext cx="530280" cy="530280"/>
            <a:chOff x="6900840" y="4330800"/>
            <a:chExt cx="530280" cy="530280"/>
          </a:xfrm>
        </p:grpSpPr>
        <p:sp>
          <p:nvSpPr>
            <p:cNvPr id="330" name="椭圆 50"/>
            <p:cNvSpPr/>
            <p:nvPr/>
          </p:nvSpPr>
          <p:spPr>
            <a:xfrm>
              <a:off x="6900840" y="4330800"/>
              <a:ext cx="530280" cy="53028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1"/>
            <p:cNvSpPr/>
            <p:nvPr/>
          </p:nvSpPr>
          <p:spPr>
            <a:xfrm>
              <a:off x="7030440" y="4460760"/>
              <a:ext cx="272160" cy="27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8804160" y="2151000"/>
            <a:ext cx="530280" cy="531720"/>
            <a:chOff x="8804160" y="2151000"/>
            <a:chExt cx="530280" cy="531720"/>
          </a:xfrm>
        </p:grpSpPr>
        <p:sp>
          <p:nvSpPr>
            <p:cNvPr id="333" name="椭圆 53"/>
            <p:cNvSpPr/>
            <p:nvPr/>
          </p:nvSpPr>
          <p:spPr>
            <a:xfrm>
              <a:off x="8804160" y="2151000"/>
              <a:ext cx="530280" cy="53172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4"/>
            <p:cNvSpPr/>
            <p:nvPr/>
          </p:nvSpPr>
          <p:spPr>
            <a:xfrm>
              <a:off x="8933760" y="2281320"/>
              <a:ext cx="272160" cy="27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4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500"/>
                            </p:stCondLst>
                            <p:childTnLst>
                              <p:par>
                                <p:cTn id="4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5F9-FAEB-4A02-8176-A696AA6213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2251080" y="1636560"/>
            <a:ext cx="7866000" cy="3146400"/>
            <a:chOff x="2251080" y="1636560"/>
            <a:chExt cx="7866000" cy="3146400"/>
          </a:xfrm>
        </p:grpSpPr>
        <p:sp>
          <p:nvSpPr>
            <p:cNvPr id="343" name="Freeform 4"/>
            <p:cNvSpPr/>
            <p:nvPr/>
          </p:nvSpPr>
          <p:spPr>
            <a:xfrm>
              <a:off x="2395440" y="1776240"/>
              <a:ext cx="2313000" cy="28764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"/>
            <p:cNvSpPr/>
            <p:nvPr/>
          </p:nvSpPr>
          <p:spPr>
            <a:xfrm>
              <a:off x="2322360" y="2050920"/>
              <a:ext cx="61920" cy="414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>
              <a:off x="2882880" y="2233440"/>
              <a:ext cx="71640" cy="475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"/>
            <p:cNvSpPr/>
            <p:nvPr/>
          </p:nvSpPr>
          <p:spPr>
            <a:xfrm>
              <a:off x="4309920" y="2315880"/>
              <a:ext cx="179640" cy="1098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"/>
            <p:cNvSpPr/>
            <p:nvPr/>
          </p:nvSpPr>
          <p:spPr>
            <a:xfrm>
              <a:off x="3444840" y="2885760"/>
              <a:ext cx="289080" cy="1256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"/>
            <p:cNvSpPr/>
            <p:nvPr/>
          </p:nvSpPr>
          <p:spPr>
            <a:xfrm>
              <a:off x="3683160" y="2981160"/>
              <a:ext cx="180720" cy="604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"/>
            <p:cNvSpPr/>
            <p:nvPr/>
          </p:nvSpPr>
          <p:spPr>
            <a:xfrm>
              <a:off x="3875040" y="30193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1"/>
            <p:cNvSpPr/>
            <p:nvPr/>
          </p:nvSpPr>
          <p:spPr>
            <a:xfrm>
              <a:off x="3976560" y="3024000"/>
              <a:ext cx="22320" cy="381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"/>
            <p:cNvSpPr/>
            <p:nvPr/>
          </p:nvSpPr>
          <p:spPr>
            <a:xfrm>
              <a:off x="3641760" y="1768320"/>
              <a:ext cx="328680" cy="1303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3"/>
            <p:cNvSpPr/>
            <p:nvPr/>
          </p:nvSpPr>
          <p:spPr>
            <a:xfrm>
              <a:off x="3787920" y="1707840"/>
              <a:ext cx="266400" cy="8892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4"/>
            <p:cNvSpPr/>
            <p:nvPr/>
          </p:nvSpPr>
          <p:spPr>
            <a:xfrm>
              <a:off x="4162320" y="1811160"/>
              <a:ext cx="425520" cy="2826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5"/>
            <p:cNvSpPr/>
            <p:nvPr/>
          </p:nvSpPr>
          <p:spPr>
            <a:xfrm>
              <a:off x="4159080" y="1690560"/>
              <a:ext cx="81000" cy="540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"/>
            <p:cNvSpPr/>
            <p:nvPr/>
          </p:nvSpPr>
          <p:spPr>
            <a:xfrm>
              <a:off x="4005360" y="1793880"/>
              <a:ext cx="118800" cy="619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7"/>
            <p:cNvSpPr/>
            <p:nvPr/>
          </p:nvSpPr>
          <p:spPr>
            <a:xfrm>
              <a:off x="4130640" y="1806480"/>
              <a:ext cx="98640" cy="3636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8"/>
            <p:cNvSpPr/>
            <p:nvPr/>
          </p:nvSpPr>
          <p:spPr>
            <a:xfrm>
              <a:off x="4076640" y="1752480"/>
              <a:ext cx="117720" cy="507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"/>
            <p:cNvSpPr/>
            <p:nvPr/>
          </p:nvSpPr>
          <p:spPr>
            <a:xfrm>
              <a:off x="4027320" y="1704960"/>
              <a:ext cx="81000" cy="349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"/>
            <p:cNvSpPr/>
            <p:nvPr/>
          </p:nvSpPr>
          <p:spPr>
            <a:xfrm>
              <a:off x="4235400" y="1709640"/>
              <a:ext cx="208080" cy="11412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1"/>
            <p:cNvSpPr/>
            <p:nvPr/>
          </p:nvSpPr>
          <p:spPr>
            <a:xfrm>
              <a:off x="2251080" y="2073240"/>
              <a:ext cx="46080" cy="219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2"/>
            <p:cNvSpPr/>
            <p:nvPr/>
          </p:nvSpPr>
          <p:spPr>
            <a:xfrm>
              <a:off x="3633840" y="2832120"/>
              <a:ext cx="284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"/>
            <p:cNvSpPr/>
            <p:nvPr/>
          </p:nvSpPr>
          <p:spPr>
            <a:xfrm>
              <a:off x="3638520" y="2868480"/>
              <a:ext cx="30240" cy="172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"/>
            <p:cNvSpPr/>
            <p:nvPr/>
          </p:nvSpPr>
          <p:spPr>
            <a:xfrm>
              <a:off x="4011480" y="3063600"/>
              <a:ext cx="2700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5"/>
            <p:cNvSpPr/>
            <p:nvPr/>
          </p:nvSpPr>
          <p:spPr>
            <a:xfrm>
              <a:off x="4237200" y="234612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6"/>
            <p:cNvSpPr/>
            <p:nvPr/>
          </p:nvSpPr>
          <p:spPr>
            <a:xfrm>
              <a:off x="4054320" y="2041200"/>
              <a:ext cx="698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4173480" y="1776240"/>
              <a:ext cx="71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8"/>
            <p:cNvSpPr/>
            <p:nvPr/>
          </p:nvSpPr>
          <p:spPr>
            <a:xfrm>
              <a:off x="4289400" y="193644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9"/>
            <p:cNvSpPr/>
            <p:nvPr/>
          </p:nvSpPr>
          <p:spPr>
            <a:xfrm>
              <a:off x="4317840" y="1636560"/>
              <a:ext cx="1271880" cy="5126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0"/>
            <p:cNvSpPr/>
            <p:nvPr/>
          </p:nvSpPr>
          <p:spPr>
            <a:xfrm>
              <a:off x="4707000" y="1909440"/>
              <a:ext cx="71280" cy="349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1"/>
            <p:cNvSpPr/>
            <p:nvPr/>
          </p:nvSpPr>
          <p:spPr>
            <a:xfrm>
              <a:off x="5224320" y="2008080"/>
              <a:ext cx="233640" cy="792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2"/>
            <p:cNvSpPr/>
            <p:nvPr/>
          </p:nvSpPr>
          <p:spPr>
            <a:xfrm>
              <a:off x="5408640" y="1765080"/>
              <a:ext cx="71280" cy="367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"/>
            <p:cNvSpPr/>
            <p:nvPr/>
          </p:nvSpPr>
          <p:spPr>
            <a:xfrm>
              <a:off x="5899320" y="1717560"/>
              <a:ext cx="282240" cy="936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4"/>
            <p:cNvSpPr/>
            <p:nvPr/>
          </p:nvSpPr>
          <p:spPr>
            <a:xfrm>
              <a:off x="6076800" y="1766880"/>
              <a:ext cx="87480" cy="316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5"/>
            <p:cNvSpPr/>
            <p:nvPr/>
          </p:nvSpPr>
          <p:spPr>
            <a:xfrm>
              <a:off x="5543640" y="2171520"/>
              <a:ext cx="198360" cy="1951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6"/>
            <p:cNvSpPr/>
            <p:nvPr/>
          </p:nvSpPr>
          <p:spPr>
            <a:xfrm>
              <a:off x="5445000" y="2241360"/>
              <a:ext cx="125640" cy="1015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7"/>
            <p:cNvSpPr/>
            <p:nvPr/>
          </p:nvSpPr>
          <p:spPr>
            <a:xfrm>
              <a:off x="8523360" y="3938400"/>
              <a:ext cx="865080" cy="7351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"/>
            <p:cNvSpPr/>
            <p:nvPr/>
          </p:nvSpPr>
          <p:spPr>
            <a:xfrm>
              <a:off x="8791560" y="3551040"/>
              <a:ext cx="582480" cy="31104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9"/>
            <p:cNvSpPr/>
            <p:nvPr/>
          </p:nvSpPr>
          <p:spPr>
            <a:xfrm>
              <a:off x="9228240" y="4697280"/>
              <a:ext cx="82440" cy="856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0"/>
            <p:cNvSpPr/>
            <p:nvPr/>
          </p:nvSpPr>
          <p:spPr>
            <a:xfrm>
              <a:off x="9475920" y="4564080"/>
              <a:ext cx="299880" cy="12528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1"/>
            <p:cNvSpPr/>
            <p:nvPr/>
          </p:nvSpPr>
          <p:spPr>
            <a:xfrm>
              <a:off x="9786960" y="4489200"/>
              <a:ext cx="189000" cy="136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"/>
            <p:cNvSpPr/>
            <p:nvPr/>
          </p:nvSpPr>
          <p:spPr>
            <a:xfrm>
              <a:off x="9887040" y="4429080"/>
              <a:ext cx="6804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3"/>
            <p:cNvSpPr/>
            <p:nvPr/>
          </p:nvSpPr>
          <p:spPr>
            <a:xfrm>
              <a:off x="6740640" y="3706560"/>
              <a:ext cx="225360" cy="2984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4"/>
            <p:cNvSpPr/>
            <p:nvPr/>
          </p:nvSpPr>
          <p:spPr>
            <a:xfrm>
              <a:off x="7711920" y="3244680"/>
              <a:ext cx="90720" cy="9036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"/>
            <p:cNvSpPr/>
            <p:nvPr/>
          </p:nvSpPr>
          <p:spPr>
            <a:xfrm>
              <a:off x="8319960" y="3341520"/>
              <a:ext cx="203400" cy="27144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6"/>
            <p:cNvSpPr/>
            <p:nvPr/>
          </p:nvSpPr>
          <p:spPr>
            <a:xfrm>
              <a:off x="8148600" y="3257280"/>
              <a:ext cx="131760" cy="20340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7"/>
            <p:cNvSpPr/>
            <p:nvPr/>
          </p:nvSpPr>
          <p:spPr>
            <a:xfrm>
              <a:off x="8237520" y="3421080"/>
              <a:ext cx="73080" cy="1936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8319960" y="3624120"/>
              <a:ext cx="119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9"/>
            <p:cNvSpPr/>
            <p:nvPr/>
          </p:nvSpPr>
          <p:spPr>
            <a:xfrm>
              <a:off x="8510760" y="3483000"/>
              <a:ext cx="150480" cy="1728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0"/>
            <p:cNvSpPr/>
            <p:nvPr/>
          </p:nvSpPr>
          <p:spPr>
            <a:xfrm>
              <a:off x="8459640" y="2862000"/>
              <a:ext cx="39960" cy="106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51"/>
            <p:cNvSpPr/>
            <p:nvPr/>
          </p:nvSpPr>
          <p:spPr>
            <a:xfrm>
              <a:off x="8485200" y="3038400"/>
              <a:ext cx="111240" cy="17604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52"/>
            <p:cNvSpPr/>
            <p:nvPr/>
          </p:nvSpPr>
          <p:spPr>
            <a:xfrm>
              <a:off x="8562960" y="3270240"/>
              <a:ext cx="117360" cy="11736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3"/>
            <p:cNvSpPr/>
            <p:nvPr/>
          </p:nvSpPr>
          <p:spPr>
            <a:xfrm>
              <a:off x="8702640" y="3479760"/>
              <a:ext cx="52560" cy="730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4"/>
            <p:cNvSpPr/>
            <p:nvPr/>
          </p:nvSpPr>
          <p:spPr>
            <a:xfrm>
              <a:off x="8672400" y="3601800"/>
              <a:ext cx="3348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5"/>
            <p:cNvSpPr/>
            <p:nvPr/>
          </p:nvSpPr>
          <p:spPr>
            <a:xfrm>
              <a:off x="8721720" y="3585960"/>
              <a:ext cx="82440" cy="554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6"/>
            <p:cNvSpPr/>
            <p:nvPr/>
          </p:nvSpPr>
          <p:spPr>
            <a:xfrm>
              <a:off x="8848800" y="3690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"/>
            <p:cNvSpPr/>
            <p:nvPr/>
          </p:nvSpPr>
          <p:spPr>
            <a:xfrm>
              <a:off x="9336240" y="3628800"/>
              <a:ext cx="83880" cy="6984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8"/>
            <p:cNvSpPr/>
            <p:nvPr/>
          </p:nvSpPr>
          <p:spPr>
            <a:xfrm>
              <a:off x="8610480" y="3716280"/>
              <a:ext cx="84240" cy="745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9"/>
            <p:cNvSpPr/>
            <p:nvPr/>
          </p:nvSpPr>
          <p:spPr>
            <a:xfrm>
              <a:off x="8521560" y="3744720"/>
              <a:ext cx="59040" cy="396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0"/>
            <p:cNvSpPr/>
            <p:nvPr/>
          </p:nvSpPr>
          <p:spPr>
            <a:xfrm>
              <a:off x="8483760" y="3700440"/>
              <a:ext cx="42840" cy="4608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1"/>
            <p:cNvSpPr/>
            <p:nvPr/>
          </p:nvSpPr>
          <p:spPr>
            <a:xfrm>
              <a:off x="8545680" y="3717720"/>
              <a:ext cx="61920" cy="3492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2"/>
            <p:cNvSpPr/>
            <p:nvPr/>
          </p:nvSpPr>
          <p:spPr>
            <a:xfrm>
              <a:off x="8454960" y="3224160"/>
              <a:ext cx="49320" cy="82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3"/>
            <p:cNvSpPr/>
            <p:nvPr/>
          </p:nvSpPr>
          <p:spPr>
            <a:xfrm>
              <a:off x="8548560" y="3211200"/>
              <a:ext cx="34920" cy="810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4"/>
            <p:cNvSpPr/>
            <p:nvPr/>
          </p:nvSpPr>
          <p:spPr>
            <a:xfrm>
              <a:off x="8588520" y="3186000"/>
              <a:ext cx="19080" cy="3636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5"/>
            <p:cNvSpPr/>
            <p:nvPr/>
          </p:nvSpPr>
          <p:spPr>
            <a:xfrm>
              <a:off x="8607600" y="3203280"/>
              <a:ext cx="37800" cy="716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6"/>
            <p:cNvSpPr/>
            <p:nvPr/>
          </p:nvSpPr>
          <p:spPr>
            <a:xfrm>
              <a:off x="8115480" y="3306600"/>
              <a:ext cx="21960" cy="3960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7"/>
            <p:cNvSpPr/>
            <p:nvPr/>
          </p:nvSpPr>
          <p:spPr>
            <a:xfrm>
              <a:off x="8097840" y="3271680"/>
              <a:ext cx="176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8"/>
            <p:cNvSpPr/>
            <p:nvPr/>
          </p:nvSpPr>
          <p:spPr>
            <a:xfrm>
              <a:off x="8089920" y="3244680"/>
              <a:ext cx="22320" cy="2232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9"/>
            <p:cNvSpPr/>
            <p:nvPr/>
          </p:nvSpPr>
          <p:spPr>
            <a:xfrm>
              <a:off x="8067600" y="3186000"/>
              <a:ext cx="2088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70"/>
            <p:cNvSpPr/>
            <p:nvPr/>
          </p:nvSpPr>
          <p:spPr>
            <a:xfrm>
              <a:off x="8072280" y="3222360"/>
              <a:ext cx="2880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71"/>
            <p:cNvSpPr/>
            <p:nvPr/>
          </p:nvSpPr>
          <p:spPr>
            <a:xfrm>
              <a:off x="9597960" y="4147920"/>
              <a:ext cx="82800" cy="889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72"/>
            <p:cNvSpPr/>
            <p:nvPr/>
          </p:nvSpPr>
          <p:spPr>
            <a:xfrm>
              <a:off x="10020240" y="4074840"/>
              <a:ext cx="96840" cy="684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73"/>
            <p:cNvSpPr/>
            <p:nvPr/>
          </p:nvSpPr>
          <p:spPr>
            <a:xfrm>
              <a:off x="9728280" y="4038480"/>
              <a:ext cx="31680" cy="3348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4"/>
            <p:cNvSpPr/>
            <p:nvPr/>
          </p:nvSpPr>
          <p:spPr>
            <a:xfrm>
              <a:off x="9713880" y="4005000"/>
              <a:ext cx="3672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5"/>
            <p:cNvSpPr/>
            <p:nvPr/>
          </p:nvSpPr>
          <p:spPr>
            <a:xfrm>
              <a:off x="9434520" y="3717720"/>
              <a:ext cx="42840" cy="493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6"/>
            <p:cNvSpPr/>
            <p:nvPr/>
          </p:nvSpPr>
          <p:spPr>
            <a:xfrm>
              <a:off x="9496440" y="3781440"/>
              <a:ext cx="47520" cy="489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77"/>
            <p:cNvSpPr/>
            <p:nvPr/>
          </p:nvSpPr>
          <p:spPr>
            <a:xfrm>
              <a:off x="9545760" y="3875040"/>
              <a:ext cx="50760" cy="41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78"/>
            <p:cNvSpPr/>
            <p:nvPr/>
          </p:nvSpPr>
          <p:spPr>
            <a:xfrm>
              <a:off x="9607680" y="3859200"/>
              <a:ext cx="50760" cy="396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9"/>
            <p:cNvSpPr/>
            <p:nvPr/>
          </p:nvSpPr>
          <p:spPr>
            <a:xfrm>
              <a:off x="9590040" y="3806640"/>
              <a:ext cx="47520" cy="30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80"/>
            <p:cNvSpPr/>
            <p:nvPr/>
          </p:nvSpPr>
          <p:spPr>
            <a:xfrm>
              <a:off x="9542520" y="3768480"/>
              <a:ext cx="47520" cy="525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81"/>
            <p:cNvSpPr/>
            <p:nvPr/>
          </p:nvSpPr>
          <p:spPr>
            <a:xfrm>
              <a:off x="9483840" y="374652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82"/>
            <p:cNvSpPr/>
            <p:nvPr/>
          </p:nvSpPr>
          <p:spPr>
            <a:xfrm>
              <a:off x="9556920" y="3824280"/>
              <a:ext cx="42840" cy="378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83"/>
            <p:cNvSpPr/>
            <p:nvPr/>
          </p:nvSpPr>
          <p:spPr>
            <a:xfrm>
              <a:off x="6616800" y="1784160"/>
              <a:ext cx="257040" cy="1602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84"/>
            <p:cNvSpPr/>
            <p:nvPr/>
          </p:nvSpPr>
          <p:spPr>
            <a:xfrm>
              <a:off x="6770520" y="1939680"/>
              <a:ext cx="73080" cy="176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85"/>
            <p:cNvSpPr/>
            <p:nvPr/>
          </p:nvSpPr>
          <p:spPr>
            <a:xfrm>
              <a:off x="7143840" y="1707840"/>
              <a:ext cx="77760" cy="414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6"/>
            <p:cNvSpPr/>
            <p:nvPr/>
          </p:nvSpPr>
          <p:spPr>
            <a:xfrm>
              <a:off x="7199280" y="1726920"/>
              <a:ext cx="92160" cy="302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87"/>
            <p:cNvSpPr/>
            <p:nvPr/>
          </p:nvSpPr>
          <p:spPr>
            <a:xfrm>
              <a:off x="7297920" y="1731960"/>
              <a:ext cx="91800" cy="4752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8"/>
            <p:cNvSpPr/>
            <p:nvPr/>
          </p:nvSpPr>
          <p:spPr>
            <a:xfrm>
              <a:off x="7935840" y="1771560"/>
              <a:ext cx="160560" cy="4608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9"/>
            <p:cNvSpPr/>
            <p:nvPr/>
          </p:nvSpPr>
          <p:spPr>
            <a:xfrm>
              <a:off x="8099280" y="1769760"/>
              <a:ext cx="84240" cy="3672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90"/>
            <p:cNvSpPr/>
            <p:nvPr/>
          </p:nvSpPr>
          <p:spPr>
            <a:xfrm>
              <a:off x="8061480" y="1812600"/>
              <a:ext cx="6660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91"/>
            <p:cNvSpPr/>
            <p:nvPr/>
          </p:nvSpPr>
          <p:spPr>
            <a:xfrm>
              <a:off x="8521560" y="2146320"/>
              <a:ext cx="138240" cy="16812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92"/>
            <p:cNvSpPr/>
            <p:nvPr/>
          </p:nvSpPr>
          <p:spPr>
            <a:xfrm>
              <a:off x="8632800" y="2320920"/>
              <a:ext cx="100080" cy="1159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93"/>
            <p:cNvSpPr/>
            <p:nvPr/>
          </p:nvSpPr>
          <p:spPr>
            <a:xfrm>
              <a:off x="8566200" y="2439720"/>
              <a:ext cx="200160" cy="27936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94"/>
            <p:cNvSpPr/>
            <p:nvPr/>
          </p:nvSpPr>
          <p:spPr>
            <a:xfrm>
              <a:off x="6629400" y="1692000"/>
              <a:ext cx="95400" cy="4464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95"/>
            <p:cNvSpPr/>
            <p:nvPr/>
          </p:nvSpPr>
          <p:spPr>
            <a:xfrm>
              <a:off x="6434280" y="1704960"/>
              <a:ext cx="34920" cy="331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96"/>
            <p:cNvSpPr/>
            <p:nvPr/>
          </p:nvSpPr>
          <p:spPr>
            <a:xfrm>
              <a:off x="6478560" y="1703160"/>
              <a:ext cx="66600" cy="3960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97"/>
            <p:cNvSpPr/>
            <p:nvPr/>
          </p:nvSpPr>
          <p:spPr>
            <a:xfrm>
              <a:off x="6589800" y="1690560"/>
              <a:ext cx="36360" cy="237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98"/>
            <p:cNvSpPr/>
            <p:nvPr/>
          </p:nvSpPr>
          <p:spPr>
            <a:xfrm>
              <a:off x="6556320" y="171576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9"/>
            <p:cNvSpPr/>
            <p:nvPr/>
          </p:nvSpPr>
          <p:spPr>
            <a:xfrm>
              <a:off x="8637480" y="1739880"/>
              <a:ext cx="33480" cy="489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00"/>
            <p:cNvSpPr/>
            <p:nvPr/>
          </p:nvSpPr>
          <p:spPr>
            <a:xfrm>
              <a:off x="7024680" y="3895560"/>
              <a:ext cx="5544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01"/>
            <p:cNvSpPr/>
            <p:nvPr/>
          </p:nvSpPr>
          <p:spPr>
            <a:xfrm>
              <a:off x="7097760" y="3884400"/>
              <a:ext cx="172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2"/>
            <p:cNvSpPr/>
            <p:nvPr/>
          </p:nvSpPr>
          <p:spPr>
            <a:xfrm>
              <a:off x="6975360" y="3655800"/>
              <a:ext cx="158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03"/>
            <p:cNvSpPr/>
            <p:nvPr/>
          </p:nvSpPr>
          <p:spPr>
            <a:xfrm>
              <a:off x="7085160" y="3547800"/>
              <a:ext cx="1908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04"/>
            <p:cNvSpPr/>
            <p:nvPr/>
          </p:nvSpPr>
          <p:spPr>
            <a:xfrm>
              <a:off x="7040520" y="3546360"/>
              <a:ext cx="205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5"/>
            <p:cNvSpPr/>
            <p:nvPr/>
          </p:nvSpPr>
          <p:spPr>
            <a:xfrm>
              <a:off x="7020000" y="3579840"/>
              <a:ext cx="1908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6"/>
            <p:cNvSpPr/>
            <p:nvPr/>
          </p:nvSpPr>
          <p:spPr>
            <a:xfrm>
              <a:off x="6975360" y="3630600"/>
              <a:ext cx="15840" cy="219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"/>
            <p:cNvSpPr/>
            <p:nvPr/>
          </p:nvSpPr>
          <p:spPr>
            <a:xfrm>
              <a:off x="7008840" y="360972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8"/>
            <p:cNvSpPr/>
            <p:nvPr/>
          </p:nvSpPr>
          <p:spPr>
            <a:xfrm>
              <a:off x="5670720" y="2144520"/>
              <a:ext cx="1872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9"/>
            <p:cNvSpPr/>
            <p:nvPr/>
          </p:nvSpPr>
          <p:spPr>
            <a:xfrm>
              <a:off x="5559480" y="2093760"/>
              <a:ext cx="1908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0"/>
            <p:cNvSpPr/>
            <p:nvPr/>
          </p:nvSpPr>
          <p:spPr>
            <a:xfrm>
              <a:off x="5124600" y="1771560"/>
              <a:ext cx="3762360" cy="24400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AutoShape 111"/>
          <p:cNvSpPr/>
          <p:nvPr/>
        </p:nvSpPr>
        <p:spPr>
          <a:xfrm>
            <a:off x="4962600" y="376884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646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12"/>
          <p:cNvSpPr/>
          <p:nvPr/>
        </p:nvSpPr>
        <p:spPr>
          <a:xfrm>
            <a:off x="2467080" y="3751200"/>
            <a:ext cx="2276280" cy="131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7439040" y="3722760"/>
            <a:ext cx="227664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44a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2"/>
          <p:cNvSpPr/>
          <p:nvPr/>
        </p:nvSpPr>
        <p:spPr>
          <a:xfrm>
            <a:off x="2035080" y="2084400"/>
            <a:ext cx="812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04"/>
          <p:cNvSpPr/>
          <p:nvPr/>
        </p:nvSpPr>
        <p:spPr>
          <a:xfrm>
            <a:off x="2552760" y="4645080"/>
            <a:ext cx="1805040" cy="13953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205"/>
          <p:cNvSpPr/>
          <p:nvPr/>
        </p:nvSpPr>
        <p:spPr>
          <a:xfrm>
            <a:off x="5051520" y="4626000"/>
            <a:ext cx="180324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206"/>
          <p:cNvSpPr/>
          <p:nvPr/>
        </p:nvSpPr>
        <p:spPr>
          <a:xfrm>
            <a:off x="7556400" y="4626000"/>
            <a:ext cx="1803600" cy="1396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f44a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208"/>
          <p:cNvGrpSpPr/>
          <p:nvPr/>
        </p:nvGrpSpPr>
        <p:grpSpPr>
          <a:xfrm>
            <a:off x="3051000" y="4975200"/>
            <a:ext cx="1495440" cy="691920"/>
            <a:chOff x="3051000" y="4975200"/>
            <a:chExt cx="1495440" cy="691920"/>
          </a:xfrm>
        </p:grpSpPr>
        <p:sp>
          <p:nvSpPr>
            <p:cNvPr id="458" name="文本框 209"/>
            <p:cNvSpPr/>
            <p:nvPr/>
          </p:nvSpPr>
          <p:spPr>
            <a:xfrm>
              <a:off x="3051000" y="536004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文本框 20"/>
            <p:cNvSpPr/>
            <p:nvPr/>
          </p:nvSpPr>
          <p:spPr>
            <a:xfrm>
              <a:off x="3051000" y="497520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211"/>
          <p:cNvGrpSpPr/>
          <p:nvPr/>
        </p:nvGrpSpPr>
        <p:grpSpPr>
          <a:xfrm>
            <a:off x="5554800" y="4971960"/>
            <a:ext cx="1495440" cy="692640"/>
            <a:chOff x="5554800" y="4971960"/>
            <a:chExt cx="1495440" cy="692640"/>
          </a:xfrm>
        </p:grpSpPr>
        <p:sp>
          <p:nvSpPr>
            <p:cNvPr id="461" name="文本框 212"/>
            <p:cNvSpPr/>
            <p:nvPr/>
          </p:nvSpPr>
          <p:spPr>
            <a:xfrm>
              <a:off x="5554800" y="5357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文本框 20"/>
            <p:cNvSpPr/>
            <p:nvPr/>
          </p:nvSpPr>
          <p:spPr>
            <a:xfrm>
              <a:off x="5554800" y="49719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214"/>
          <p:cNvGrpSpPr/>
          <p:nvPr/>
        </p:nvGrpSpPr>
        <p:grpSpPr>
          <a:xfrm>
            <a:off x="8058240" y="4968720"/>
            <a:ext cx="1495440" cy="692640"/>
            <a:chOff x="8058240" y="4968720"/>
            <a:chExt cx="1495440" cy="692640"/>
          </a:xfrm>
        </p:grpSpPr>
        <p:sp>
          <p:nvSpPr>
            <p:cNvPr id="464" name="文本框 215"/>
            <p:cNvSpPr/>
            <p:nvPr/>
          </p:nvSpPr>
          <p:spPr>
            <a:xfrm>
              <a:off x="8058240" y="535428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文本框 20"/>
            <p:cNvSpPr/>
            <p:nvPr/>
          </p:nvSpPr>
          <p:spPr>
            <a:xfrm>
              <a:off x="8058240" y="496872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5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A5D0-4F99-4678-9926-A4ABDCC228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4"/>
          <p:cNvSpPr/>
          <p:nvPr/>
        </p:nvSpPr>
        <p:spPr>
          <a:xfrm rot="1233600">
            <a:off x="3946320" y="3477960"/>
            <a:ext cx="2020680" cy="239544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3757680" y="1992240"/>
            <a:ext cx="129708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等腰三角形 36"/>
          <p:cNvSpPr/>
          <p:nvPr/>
        </p:nvSpPr>
        <p:spPr>
          <a:xfrm>
            <a:off x="4229280" y="3181320"/>
            <a:ext cx="35532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8"/>
          <p:cNvSpPr/>
          <p:nvPr/>
        </p:nvSpPr>
        <p:spPr>
          <a:xfrm>
            <a:off x="3757680" y="238608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38"/>
          <p:cNvSpPr/>
          <p:nvPr/>
        </p:nvSpPr>
        <p:spPr>
          <a:xfrm flipH="1" rot="21353400">
            <a:off x="5857560" y="3425400"/>
            <a:ext cx="1898640" cy="1433520"/>
          </a:xfrm>
          <a:custGeom>
            <a:avLst/>
            <a:gdLst/>
            <a:ahLst/>
            <a:rect l="l" t="t" r="r" b="b"/>
            <a:pathLst>
              <a:path w="1945835" h="1717589">
                <a:moveTo>
                  <a:pt x="15012" y="0"/>
                </a:moveTo>
                <a:cubicBezTo>
                  <a:pt x="23250" y="41189"/>
                  <a:pt x="-7630" y="85824"/>
                  <a:pt x="1815" y="126753"/>
                </a:cubicBezTo>
                <a:cubicBezTo>
                  <a:pt x="12662" y="173757"/>
                  <a:pt x="56061" y="175584"/>
                  <a:pt x="76796" y="210064"/>
                </a:cubicBezTo>
                <a:cubicBezTo>
                  <a:pt x="97531" y="244544"/>
                  <a:pt x="68267" y="217717"/>
                  <a:pt x="126223" y="333632"/>
                </a:cubicBezTo>
                <a:cubicBezTo>
                  <a:pt x="130777" y="365510"/>
                  <a:pt x="133683" y="422692"/>
                  <a:pt x="150937" y="457200"/>
                </a:cubicBezTo>
                <a:cubicBezTo>
                  <a:pt x="157578" y="470483"/>
                  <a:pt x="167412" y="481913"/>
                  <a:pt x="175650" y="494270"/>
                </a:cubicBezTo>
                <a:cubicBezTo>
                  <a:pt x="179769" y="518983"/>
                  <a:pt x="180084" y="544641"/>
                  <a:pt x="188007" y="568410"/>
                </a:cubicBezTo>
                <a:cubicBezTo>
                  <a:pt x="192703" y="582499"/>
                  <a:pt x="207505" y="591575"/>
                  <a:pt x="212720" y="605481"/>
                </a:cubicBezTo>
                <a:cubicBezTo>
                  <a:pt x="219647" y="623954"/>
                  <a:pt x="233964" y="727523"/>
                  <a:pt x="237434" y="741405"/>
                </a:cubicBezTo>
                <a:cubicBezTo>
                  <a:pt x="251860" y="799110"/>
                  <a:pt x="267203" y="823271"/>
                  <a:pt x="286861" y="877329"/>
                </a:cubicBezTo>
                <a:cubicBezTo>
                  <a:pt x="323599" y="978356"/>
                  <a:pt x="291588" y="924820"/>
                  <a:pt x="348645" y="1000897"/>
                </a:cubicBezTo>
                <a:cubicBezTo>
                  <a:pt x="352764" y="1025610"/>
                  <a:pt x="354410" y="1050866"/>
                  <a:pt x="361002" y="1075037"/>
                </a:cubicBezTo>
                <a:cubicBezTo>
                  <a:pt x="374955" y="1126197"/>
                  <a:pt x="384308" y="1134711"/>
                  <a:pt x="410429" y="1173891"/>
                </a:cubicBezTo>
                <a:cubicBezTo>
                  <a:pt x="414548" y="1186248"/>
                  <a:pt x="416323" y="1199653"/>
                  <a:pt x="422785" y="1210962"/>
                </a:cubicBezTo>
                <a:cubicBezTo>
                  <a:pt x="433003" y="1228843"/>
                  <a:pt x="448432" y="1243253"/>
                  <a:pt x="459856" y="1260389"/>
                </a:cubicBezTo>
                <a:cubicBezTo>
                  <a:pt x="473178" y="1280373"/>
                  <a:pt x="484569" y="1301578"/>
                  <a:pt x="496926" y="1322173"/>
                </a:cubicBezTo>
                <a:cubicBezTo>
                  <a:pt x="519484" y="1412402"/>
                  <a:pt x="491139" y="1335051"/>
                  <a:pt x="546353" y="1408670"/>
                </a:cubicBezTo>
                <a:cubicBezTo>
                  <a:pt x="604051" y="1485601"/>
                  <a:pt x="564130" y="1449470"/>
                  <a:pt x="608137" y="1519881"/>
                </a:cubicBezTo>
                <a:cubicBezTo>
                  <a:pt x="630927" y="1556345"/>
                  <a:pt x="690465" y="1624193"/>
                  <a:pt x="719347" y="1643448"/>
                </a:cubicBezTo>
                <a:cubicBezTo>
                  <a:pt x="731704" y="1651686"/>
                  <a:pt x="742768" y="1662312"/>
                  <a:pt x="756418" y="1668162"/>
                </a:cubicBezTo>
                <a:cubicBezTo>
                  <a:pt x="772028" y="1674852"/>
                  <a:pt x="789516" y="1675854"/>
                  <a:pt x="805845" y="1680519"/>
                </a:cubicBezTo>
                <a:cubicBezTo>
                  <a:pt x="818369" y="1684097"/>
                  <a:pt x="830279" y="1689716"/>
                  <a:pt x="842915" y="1692875"/>
                </a:cubicBezTo>
                <a:lnTo>
                  <a:pt x="941769" y="1717589"/>
                </a:lnTo>
                <a:cubicBezTo>
                  <a:pt x="1061218" y="1709351"/>
                  <a:pt x="1181307" y="1707726"/>
                  <a:pt x="1300115" y="1692875"/>
                </a:cubicBezTo>
                <a:cubicBezTo>
                  <a:pt x="1314851" y="1691033"/>
                  <a:pt x="1323902" y="1674803"/>
                  <a:pt x="1337185" y="1668162"/>
                </a:cubicBezTo>
                <a:cubicBezTo>
                  <a:pt x="1380908" y="1646301"/>
                  <a:pt x="1465939" y="1625905"/>
                  <a:pt x="1497823" y="1594021"/>
                </a:cubicBezTo>
                <a:cubicBezTo>
                  <a:pt x="1571062" y="1520782"/>
                  <a:pt x="1502682" y="1596977"/>
                  <a:pt x="1559607" y="1507524"/>
                </a:cubicBezTo>
                <a:cubicBezTo>
                  <a:pt x="1578630" y="1477631"/>
                  <a:pt x="1600796" y="1449859"/>
                  <a:pt x="1621391" y="1421027"/>
                </a:cubicBezTo>
                <a:cubicBezTo>
                  <a:pt x="1625510" y="1408670"/>
                  <a:pt x="1785040" y="1493466"/>
                  <a:pt x="1816118" y="1457747"/>
                </a:cubicBezTo>
                <a:cubicBezTo>
                  <a:pt x="1847196" y="1422028"/>
                  <a:pt x="1813544" y="1254022"/>
                  <a:pt x="1807862" y="1206713"/>
                </a:cubicBezTo>
                <a:cubicBezTo>
                  <a:pt x="1802181" y="1159404"/>
                  <a:pt x="1773791" y="1186248"/>
                  <a:pt x="1782029" y="1173891"/>
                </a:cubicBezTo>
                <a:cubicBezTo>
                  <a:pt x="1786148" y="1161534"/>
                  <a:pt x="1796772" y="1160295"/>
                  <a:pt x="1794385" y="1136821"/>
                </a:cubicBezTo>
                <a:cubicBezTo>
                  <a:pt x="1791998" y="1113347"/>
                  <a:pt x="1768234" y="1060867"/>
                  <a:pt x="1767709" y="1033047"/>
                </a:cubicBezTo>
                <a:cubicBezTo>
                  <a:pt x="1767184" y="1005227"/>
                  <a:pt x="1778877" y="986379"/>
                  <a:pt x="1791234" y="969903"/>
                </a:cubicBezTo>
                <a:cubicBezTo>
                  <a:pt x="1795353" y="949309"/>
                  <a:pt x="1809458" y="952458"/>
                  <a:pt x="1817137" y="921835"/>
                </a:cubicBezTo>
                <a:cubicBezTo>
                  <a:pt x="1824816" y="891212"/>
                  <a:pt x="1816056" y="863846"/>
                  <a:pt x="1837307" y="786165"/>
                </a:cubicBezTo>
                <a:cubicBezTo>
                  <a:pt x="1858558" y="708484"/>
                  <a:pt x="1935322" y="518812"/>
                  <a:pt x="1944644" y="455747"/>
                </a:cubicBezTo>
                <a:cubicBezTo>
                  <a:pt x="1953966" y="392682"/>
                  <a:pt x="1905925" y="426066"/>
                  <a:pt x="1893239" y="407773"/>
                </a:cubicBezTo>
                <a:cubicBezTo>
                  <a:pt x="1880553" y="389480"/>
                  <a:pt x="1874900" y="367235"/>
                  <a:pt x="1868526" y="345989"/>
                </a:cubicBezTo>
                <a:cubicBezTo>
                  <a:pt x="1862491" y="325872"/>
                  <a:pt x="1862811" y="304130"/>
                  <a:pt x="1856169" y="284205"/>
                </a:cubicBezTo>
                <a:cubicBezTo>
                  <a:pt x="1841207" y="239319"/>
                  <a:pt x="1835019" y="238341"/>
                  <a:pt x="1806742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任意多边形 39"/>
          <p:cNvSpPr/>
          <p:nvPr/>
        </p:nvSpPr>
        <p:spPr>
          <a:xfrm rot="1233600">
            <a:off x="7327440" y="3688920"/>
            <a:ext cx="1516320" cy="171792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椭圆 40"/>
          <p:cNvSpPr/>
          <p:nvPr/>
        </p:nvSpPr>
        <p:spPr>
          <a:xfrm>
            <a:off x="6896160" y="1776240"/>
            <a:ext cx="1584360" cy="15195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等腰三角形 41"/>
          <p:cNvSpPr/>
          <p:nvPr/>
        </p:nvSpPr>
        <p:spPr>
          <a:xfrm>
            <a:off x="7508880" y="3116160"/>
            <a:ext cx="3556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77"/>
          <p:cNvSpPr/>
          <p:nvPr/>
        </p:nvSpPr>
        <p:spPr>
          <a:xfrm>
            <a:off x="7039080" y="22399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43"/>
          <p:cNvSpPr/>
          <p:nvPr/>
        </p:nvSpPr>
        <p:spPr>
          <a:xfrm flipH="1">
            <a:off x="8911440" y="3587760"/>
            <a:ext cx="1660680" cy="2381400"/>
          </a:xfrm>
          <a:custGeom>
            <a:avLst/>
            <a:gdLst/>
            <a:ahLst/>
            <a:rect l="l" t="t" r="r" b="b"/>
            <a:pathLst>
              <a:path w="1932997" h="1717589">
                <a:moveTo>
                  <a:pt x="0" y="0"/>
                </a:moveTo>
                <a:cubicBezTo>
                  <a:pt x="8238" y="41189"/>
                  <a:pt x="15269" y="82638"/>
                  <a:pt x="24714" y="123567"/>
                </a:cubicBezTo>
                <a:cubicBezTo>
                  <a:pt x="35561" y="170571"/>
                  <a:pt x="41619" y="159651"/>
                  <a:pt x="61784" y="210064"/>
                </a:cubicBezTo>
                <a:cubicBezTo>
                  <a:pt x="122861" y="362757"/>
                  <a:pt x="53255" y="217717"/>
                  <a:pt x="111211" y="333632"/>
                </a:cubicBezTo>
                <a:cubicBezTo>
                  <a:pt x="115765" y="365510"/>
                  <a:pt x="118671" y="422692"/>
                  <a:pt x="135925" y="457200"/>
                </a:cubicBezTo>
                <a:cubicBezTo>
                  <a:pt x="142566" y="470483"/>
                  <a:pt x="152400" y="481913"/>
                  <a:pt x="160638" y="494270"/>
                </a:cubicBezTo>
                <a:cubicBezTo>
                  <a:pt x="164757" y="518983"/>
                  <a:pt x="165072" y="544641"/>
                  <a:pt x="172995" y="568410"/>
                </a:cubicBezTo>
                <a:cubicBezTo>
                  <a:pt x="177691" y="582499"/>
                  <a:pt x="192493" y="591575"/>
                  <a:pt x="197708" y="605481"/>
                </a:cubicBezTo>
                <a:cubicBezTo>
                  <a:pt x="204635" y="623954"/>
                  <a:pt x="218952" y="727523"/>
                  <a:pt x="222422" y="741405"/>
                </a:cubicBezTo>
                <a:cubicBezTo>
                  <a:pt x="236848" y="799110"/>
                  <a:pt x="252191" y="823271"/>
                  <a:pt x="271849" y="877329"/>
                </a:cubicBezTo>
                <a:cubicBezTo>
                  <a:pt x="308587" y="978356"/>
                  <a:pt x="276576" y="924820"/>
                  <a:pt x="333633" y="1000897"/>
                </a:cubicBezTo>
                <a:cubicBezTo>
                  <a:pt x="337752" y="1025610"/>
                  <a:pt x="339398" y="1050866"/>
                  <a:pt x="345990" y="1075037"/>
                </a:cubicBezTo>
                <a:cubicBezTo>
                  <a:pt x="359943" y="1126197"/>
                  <a:pt x="369296" y="1134711"/>
                  <a:pt x="395417" y="1173891"/>
                </a:cubicBezTo>
                <a:cubicBezTo>
                  <a:pt x="399536" y="1186248"/>
                  <a:pt x="401311" y="1199653"/>
                  <a:pt x="407773" y="1210962"/>
                </a:cubicBezTo>
                <a:cubicBezTo>
                  <a:pt x="417991" y="1228843"/>
                  <a:pt x="433420" y="1243253"/>
                  <a:pt x="444844" y="1260389"/>
                </a:cubicBezTo>
                <a:cubicBezTo>
                  <a:pt x="458166" y="1280373"/>
                  <a:pt x="469557" y="1301578"/>
                  <a:pt x="481914" y="1322173"/>
                </a:cubicBezTo>
                <a:cubicBezTo>
                  <a:pt x="504472" y="1412402"/>
                  <a:pt x="476127" y="1335051"/>
                  <a:pt x="531341" y="1408670"/>
                </a:cubicBezTo>
                <a:cubicBezTo>
                  <a:pt x="589039" y="1485601"/>
                  <a:pt x="549118" y="1449470"/>
                  <a:pt x="593125" y="1519881"/>
                </a:cubicBezTo>
                <a:cubicBezTo>
                  <a:pt x="615915" y="1556345"/>
                  <a:pt x="675453" y="1624193"/>
                  <a:pt x="704335" y="1643448"/>
                </a:cubicBezTo>
                <a:cubicBezTo>
                  <a:pt x="716692" y="1651686"/>
                  <a:pt x="727756" y="1662312"/>
                  <a:pt x="741406" y="1668162"/>
                </a:cubicBezTo>
                <a:cubicBezTo>
                  <a:pt x="757016" y="1674852"/>
                  <a:pt x="774504" y="1675854"/>
                  <a:pt x="790833" y="1680519"/>
                </a:cubicBezTo>
                <a:cubicBezTo>
                  <a:pt x="803357" y="1684097"/>
                  <a:pt x="815267" y="1689716"/>
                  <a:pt x="827903" y="1692875"/>
                </a:cubicBezTo>
                <a:lnTo>
                  <a:pt x="926757" y="1717589"/>
                </a:lnTo>
                <a:cubicBezTo>
                  <a:pt x="1046206" y="1709351"/>
                  <a:pt x="1166295" y="1707726"/>
                  <a:pt x="1285103" y="1692875"/>
                </a:cubicBezTo>
                <a:cubicBezTo>
                  <a:pt x="1299839" y="1691033"/>
                  <a:pt x="1308890" y="1674803"/>
                  <a:pt x="1322173" y="1668162"/>
                </a:cubicBezTo>
                <a:cubicBezTo>
                  <a:pt x="1365896" y="1646301"/>
                  <a:pt x="1450927" y="1625905"/>
                  <a:pt x="1482811" y="1594021"/>
                </a:cubicBezTo>
                <a:cubicBezTo>
                  <a:pt x="1556050" y="1520782"/>
                  <a:pt x="1487670" y="1596977"/>
                  <a:pt x="1544595" y="1507524"/>
                </a:cubicBezTo>
                <a:cubicBezTo>
                  <a:pt x="1563618" y="1477631"/>
                  <a:pt x="1585784" y="1449859"/>
                  <a:pt x="1606379" y="1421027"/>
                </a:cubicBezTo>
                <a:cubicBezTo>
                  <a:pt x="1610498" y="1408670"/>
                  <a:pt x="1612910" y="1395606"/>
                  <a:pt x="1618735" y="1383956"/>
                </a:cubicBezTo>
                <a:cubicBezTo>
                  <a:pt x="1661329" y="1298769"/>
                  <a:pt x="1677510" y="1308152"/>
                  <a:pt x="1742303" y="1210962"/>
                </a:cubicBezTo>
                <a:lnTo>
                  <a:pt x="1767017" y="1173891"/>
                </a:lnTo>
                <a:cubicBezTo>
                  <a:pt x="1771136" y="1161534"/>
                  <a:pt x="1774242" y="1148793"/>
                  <a:pt x="1779373" y="1136821"/>
                </a:cubicBezTo>
                <a:cubicBezTo>
                  <a:pt x="1793504" y="1103850"/>
                  <a:pt x="1822413" y="1053726"/>
                  <a:pt x="1841157" y="1025610"/>
                </a:cubicBezTo>
                <a:cubicBezTo>
                  <a:pt x="1852581" y="1008474"/>
                  <a:pt x="1865870" y="992659"/>
                  <a:pt x="1878227" y="976183"/>
                </a:cubicBezTo>
                <a:cubicBezTo>
                  <a:pt x="1882346" y="955589"/>
                  <a:pt x="1884549" y="934516"/>
                  <a:pt x="1890584" y="914400"/>
                </a:cubicBezTo>
                <a:cubicBezTo>
                  <a:pt x="1896958" y="893154"/>
                  <a:pt x="1908790" y="929058"/>
                  <a:pt x="1915298" y="852616"/>
                </a:cubicBezTo>
                <a:cubicBezTo>
                  <a:pt x="1921806" y="776174"/>
                  <a:pt x="1940599" y="587353"/>
                  <a:pt x="1929632" y="455747"/>
                </a:cubicBezTo>
                <a:cubicBezTo>
                  <a:pt x="1928222" y="438823"/>
                  <a:pt x="1890913" y="426066"/>
                  <a:pt x="1878227" y="407773"/>
                </a:cubicBezTo>
                <a:cubicBezTo>
                  <a:pt x="1865541" y="389480"/>
                  <a:pt x="1859888" y="367235"/>
                  <a:pt x="1853514" y="345989"/>
                </a:cubicBezTo>
                <a:cubicBezTo>
                  <a:pt x="1847479" y="325872"/>
                  <a:pt x="1847799" y="304130"/>
                  <a:pt x="1841157" y="284205"/>
                </a:cubicBezTo>
                <a:cubicBezTo>
                  <a:pt x="1826195" y="239319"/>
                  <a:pt x="1820007" y="238341"/>
                  <a:pt x="1791730" y="210064"/>
                </a:cubicBezTo>
              </a:path>
            </a:pathLst>
          </a:custGeom>
          <a:noFill/>
          <a:ln w="19080">
            <a:solidFill>
              <a:srgbClr val="9c9f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44"/>
          <p:cNvSpPr/>
          <p:nvPr/>
        </p:nvSpPr>
        <p:spPr>
          <a:xfrm>
            <a:off x="9807480" y="2154240"/>
            <a:ext cx="1413000" cy="15238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等腰三角形 45"/>
          <p:cNvSpPr/>
          <p:nvPr/>
        </p:nvSpPr>
        <p:spPr>
          <a:xfrm>
            <a:off x="10318680" y="3478320"/>
            <a:ext cx="387360" cy="40140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1"/>
          <p:cNvSpPr/>
          <p:nvPr/>
        </p:nvSpPr>
        <p:spPr>
          <a:xfrm>
            <a:off x="9807480" y="2629080"/>
            <a:ext cx="14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47"/>
          <p:cNvSpPr/>
          <p:nvPr/>
        </p:nvSpPr>
        <p:spPr>
          <a:xfrm>
            <a:off x="8334360" y="3048120"/>
            <a:ext cx="1152720" cy="136836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等腰三角形 48"/>
          <p:cNvSpPr/>
          <p:nvPr/>
        </p:nvSpPr>
        <p:spPr>
          <a:xfrm>
            <a:off x="8753400" y="4235400"/>
            <a:ext cx="316080" cy="3603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64"/>
          <p:cNvSpPr/>
          <p:nvPr/>
        </p:nvSpPr>
        <p:spPr>
          <a:xfrm>
            <a:off x="5383080" y="3181320"/>
            <a:ext cx="1224000" cy="105408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65"/>
          <p:cNvSpPr/>
          <p:nvPr/>
        </p:nvSpPr>
        <p:spPr>
          <a:xfrm>
            <a:off x="5853240" y="4138560"/>
            <a:ext cx="336600" cy="27792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3"/>
          <p:cNvSpPr/>
          <p:nvPr/>
        </p:nvSpPr>
        <p:spPr>
          <a:xfrm>
            <a:off x="5383080" y="338292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8"/>
          <p:cNvSpPr/>
          <p:nvPr/>
        </p:nvSpPr>
        <p:spPr>
          <a:xfrm>
            <a:off x="8296200" y="34354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70"/>
          <p:cNvSpPr/>
          <p:nvPr/>
        </p:nvSpPr>
        <p:spPr>
          <a:xfrm>
            <a:off x="439560" y="4397400"/>
            <a:ext cx="331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71"/>
          <p:cNvSpPr/>
          <p:nvPr/>
        </p:nvSpPr>
        <p:spPr>
          <a:xfrm>
            <a:off x="424440" y="37972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12C-CBC3-45B7-924D-2CADCA6577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505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515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3B9-6C64-4D3E-9FDB-2BB3436B87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7"/>
          <p:cNvSpPr/>
          <p:nvPr/>
        </p:nvSpPr>
        <p:spPr>
          <a:xfrm>
            <a:off x="2454120" y="20606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245412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9"/>
          <p:cNvSpPr/>
          <p:nvPr/>
        </p:nvSpPr>
        <p:spPr>
          <a:xfrm>
            <a:off x="245412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0"/>
          <p:cNvSpPr/>
          <p:nvPr/>
        </p:nvSpPr>
        <p:spPr>
          <a:xfrm>
            <a:off x="8024760" y="203832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1"/>
          <p:cNvSpPr/>
          <p:nvPr/>
        </p:nvSpPr>
        <p:spPr>
          <a:xfrm>
            <a:off x="8024760" y="31352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2"/>
          <p:cNvSpPr/>
          <p:nvPr/>
        </p:nvSpPr>
        <p:spPr>
          <a:xfrm>
            <a:off x="8024760" y="4253040"/>
            <a:ext cx="31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微软雅黑"/>
                <a:ea typeface="微软雅黑"/>
              </a:rPr>
              <a:t>PowerPoint presentations consist of a number of individual pages or "slides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31"/>
          <p:cNvGrpSpPr/>
          <p:nvPr/>
        </p:nvGrpSpPr>
        <p:grpSpPr>
          <a:xfrm>
            <a:off x="831960" y="1685880"/>
            <a:ext cx="1233360" cy="2981520"/>
            <a:chOff x="831960" y="1685880"/>
            <a:chExt cx="1233360" cy="2981520"/>
          </a:xfrm>
        </p:grpSpPr>
        <p:sp>
          <p:nvSpPr>
            <p:cNvPr id="534" name="Oval 109"/>
            <p:cNvSpPr/>
            <p:nvPr/>
          </p:nvSpPr>
          <p:spPr>
            <a:xfrm>
              <a:off x="1189440" y="1685880"/>
              <a:ext cx="518400" cy="530640"/>
            </a:xfrm>
            <a:prstGeom prst="ellipse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0"/>
            <p:cNvSpPr/>
            <p:nvPr/>
          </p:nvSpPr>
          <p:spPr>
            <a:xfrm>
              <a:off x="831960" y="2270160"/>
              <a:ext cx="1233360" cy="2397240"/>
            </a:xfrm>
            <a:custGeom>
              <a:avLst/>
              <a:gdLst/>
              <a:ahLst/>
              <a:rect l="l" t="t" r="r" b="b"/>
              <a:pathLst>
                <a:path w="87" h="168">
                  <a:moveTo>
                    <a:pt x="87" y="25"/>
                  </a:moveTo>
                  <a:cubicBezTo>
                    <a:pt x="87" y="11"/>
                    <a:pt x="75" y="0"/>
                    <a:pt x="6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2" y="0"/>
                    <a:pt x="0" y="11"/>
                    <a:pt x="0" y="25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8"/>
                    <a:pt x="4" y="81"/>
                    <a:pt x="8" y="81"/>
                  </a:cubicBezTo>
                  <a:cubicBezTo>
                    <a:pt x="13" y="81"/>
                    <a:pt x="16" y="78"/>
                    <a:pt x="16" y="73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157"/>
                    <a:pt x="20" y="157"/>
                    <a:pt x="20" y="157"/>
                  </a:cubicBezTo>
                  <a:cubicBezTo>
                    <a:pt x="20" y="163"/>
                    <a:pt x="25" y="168"/>
                    <a:pt x="31" y="168"/>
                  </a:cubicBezTo>
                  <a:cubicBezTo>
                    <a:pt x="37" y="168"/>
                    <a:pt x="41" y="163"/>
                    <a:pt x="41" y="157"/>
                  </a:cubicBezTo>
                  <a:cubicBezTo>
                    <a:pt x="41" y="81"/>
                    <a:pt x="41" y="81"/>
                    <a:pt x="41" y="81"/>
                  </a:cubicBezTo>
                  <a:cubicBezTo>
                    <a:pt x="46" y="81"/>
                    <a:pt x="46" y="81"/>
                    <a:pt x="46" y="81"/>
                  </a:cubicBezTo>
                  <a:cubicBezTo>
                    <a:pt x="46" y="157"/>
                    <a:pt x="46" y="157"/>
                    <a:pt x="46" y="157"/>
                  </a:cubicBezTo>
                  <a:cubicBezTo>
                    <a:pt x="46" y="163"/>
                    <a:pt x="50" y="168"/>
                    <a:pt x="56" y="168"/>
                  </a:cubicBezTo>
                  <a:cubicBezTo>
                    <a:pt x="62" y="168"/>
                    <a:pt x="67" y="163"/>
                    <a:pt x="67" y="157"/>
                  </a:cubicBezTo>
                  <a:cubicBezTo>
                    <a:pt x="67" y="81"/>
                    <a:pt x="67" y="81"/>
                    <a:pt x="67" y="81"/>
                  </a:cubicBezTo>
                  <a:cubicBezTo>
                    <a:pt x="67" y="77"/>
                    <a:pt x="67" y="77"/>
                    <a:pt x="67" y="77"/>
                  </a:cubicBezTo>
                  <a:cubicBezTo>
                    <a:pt x="67" y="46"/>
                    <a:pt x="67" y="46"/>
                    <a:pt x="67" y="4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45"/>
                    <a:pt x="71" y="45"/>
                    <a:pt x="71" y="45"/>
                  </a:cubicBezTo>
                  <a:cubicBezTo>
                    <a:pt x="71" y="73"/>
                    <a:pt x="71" y="73"/>
                    <a:pt x="71" y="73"/>
                  </a:cubicBezTo>
                  <a:cubicBezTo>
                    <a:pt x="71" y="78"/>
                    <a:pt x="74" y="81"/>
                    <a:pt x="79" y="81"/>
                  </a:cubicBezTo>
                  <a:cubicBezTo>
                    <a:pt x="83" y="81"/>
                    <a:pt x="87" y="78"/>
                    <a:pt x="87" y="73"/>
                  </a:cubicBezTo>
                  <a:cubicBezTo>
                    <a:pt x="87" y="25"/>
                    <a:pt x="87" y="25"/>
                    <a:pt x="87" y="25"/>
                  </a:cubicBezTo>
                  <a:cubicBezTo>
                    <a:pt x="87" y="25"/>
                    <a:pt x="87" y="25"/>
                    <a:pt x="87" y="25"/>
                  </a:cubicBezTo>
                  <a:close/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4"/>
          <p:cNvGrpSpPr/>
          <p:nvPr/>
        </p:nvGrpSpPr>
        <p:grpSpPr>
          <a:xfrm>
            <a:off x="6707160" y="1685880"/>
            <a:ext cx="1317600" cy="2948040"/>
            <a:chOff x="6707160" y="1685880"/>
            <a:chExt cx="1317600" cy="2948040"/>
          </a:xfrm>
        </p:grpSpPr>
        <p:sp>
          <p:nvSpPr>
            <p:cNvPr id="537" name="Oval 5"/>
            <p:cNvSpPr/>
            <p:nvPr/>
          </p:nvSpPr>
          <p:spPr>
            <a:xfrm>
              <a:off x="7112880" y="1685880"/>
              <a:ext cx="511560" cy="51480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"/>
            <p:cNvSpPr/>
            <p:nvPr/>
          </p:nvSpPr>
          <p:spPr>
            <a:xfrm>
              <a:off x="6707160" y="2259000"/>
              <a:ext cx="1317600" cy="237492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4" y="63"/>
                  </a:moveTo>
                  <a:cubicBezTo>
                    <a:pt x="80" y="18"/>
                    <a:pt x="80" y="18"/>
                    <a:pt x="80" y="18"/>
                  </a:cubicBezTo>
                  <a:cubicBezTo>
                    <a:pt x="80" y="18"/>
                    <a:pt x="79" y="18"/>
                    <a:pt x="79" y="18"/>
                  </a:cubicBezTo>
                  <a:cubicBezTo>
                    <a:pt x="74" y="3"/>
                    <a:pt x="61" y="0"/>
                    <a:pt x="56" y="0"/>
                  </a:cubicBezTo>
                  <a:cubicBezTo>
                    <a:pt x="52" y="0"/>
                    <a:pt x="53" y="0"/>
                    <a:pt x="49" y="0"/>
                  </a:cubicBezTo>
                  <a:cubicBezTo>
                    <a:pt x="48" y="0"/>
                    <a:pt x="47" y="0"/>
                    <a:pt x="46" y="0"/>
                  </a:cubicBezTo>
                  <a:cubicBezTo>
                    <a:pt x="42" y="0"/>
                    <a:pt x="43" y="0"/>
                    <a:pt x="39" y="0"/>
                  </a:cubicBezTo>
                  <a:cubicBezTo>
                    <a:pt x="34" y="0"/>
                    <a:pt x="21" y="3"/>
                    <a:pt x="16" y="18"/>
                  </a:cubicBezTo>
                  <a:cubicBezTo>
                    <a:pt x="16" y="18"/>
                    <a:pt x="15" y="18"/>
                    <a:pt x="15" y="18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7"/>
                    <a:pt x="2" y="71"/>
                    <a:pt x="5" y="73"/>
                  </a:cubicBezTo>
                  <a:cubicBezTo>
                    <a:pt x="9" y="74"/>
                    <a:pt x="13" y="72"/>
                    <a:pt x="15" y="68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7" y="158"/>
                    <a:pt x="27" y="158"/>
                    <a:pt x="27" y="158"/>
                  </a:cubicBezTo>
                  <a:cubicBezTo>
                    <a:pt x="27" y="163"/>
                    <a:pt x="31" y="166"/>
                    <a:pt x="36" y="166"/>
                  </a:cubicBezTo>
                  <a:cubicBezTo>
                    <a:pt x="41" y="166"/>
                    <a:pt x="44" y="163"/>
                    <a:pt x="44" y="158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1" y="99"/>
                    <a:pt x="51" y="99"/>
                    <a:pt x="51" y="99"/>
                  </a:cubicBezTo>
                  <a:cubicBezTo>
                    <a:pt x="51" y="158"/>
                    <a:pt x="51" y="158"/>
                    <a:pt x="51" y="158"/>
                  </a:cubicBezTo>
                  <a:cubicBezTo>
                    <a:pt x="51" y="163"/>
                    <a:pt x="54" y="166"/>
                    <a:pt x="59" y="166"/>
                  </a:cubicBezTo>
                  <a:cubicBezTo>
                    <a:pt x="64" y="166"/>
                    <a:pt x="68" y="163"/>
                    <a:pt x="68" y="158"/>
                  </a:cubicBezTo>
                  <a:cubicBezTo>
                    <a:pt x="68" y="99"/>
                    <a:pt x="68" y="99"/>
                    <a:pt x="68" y="99"/>
                  </a:cubicBezTo>
                  <a:cubicBezTo>
                    <a:pt x="87" y="99"/>
                    <a:pt x="87" y="99"/>
                    <a:pt x="87" y="99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7" y="25"/>
                    <a:pt x="67" y="25"/>
                    <a:pt x="67" y="25"/>
                  </a:cubicBezTo>
                  <a:cubicBezTo>
                    <a:pt x="80" y="68"/>
                    <a:pt x="80" y="68"/>
                    <a:pt x="80" y="68"/>
                  </a:cubicBezTo>
                  <a:cubicBezTo>
                    <a:pt x="82" y="72"/>
                    <a:pt x="86" y="74"/>
                    <a:pt x="90" y="73"/>
                  </a:cubicBezTo>
                  <a:cubicBezTo>
                    <a:pt x="93" y="71"/>
                    <a:pt x="95" y="67"/>
                    <a:pt x="94" y="63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6F41-9A25-4097-83B7-F1B4E31E00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9"/>
          <p:cNvSpPr/>
          <p:nvPr/>
        </p:nvSpPr>
        <p:spPr>
          <a:xfrm>
            <a:off x="4341960" y="2581200"/>
            <a:ext cx="3644640" cy="364500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椭圆 10"/>
          <p:cNvSpPr/>
          <p:nvPr/>
        </p:nvSpPr>
        <p:spPr>
          <a:xfrm>
            <a:off x="7497720" y="1596960"/>
            <a:ext cx="1263600" cy="126360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椭圆 11"/>
          <p:cNvSpPr/>
          <p:nvPr/>
        </p:nvSpPr>
        <p:spPr>
          <a:xfrm>
            <a:off x="8427960" y="2975040"/>
            <a:ext cx="1892520" cy="189216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"/>
          <p:cNvSpPr/>
          <p:nvPr/>
        </p:nvSpPr>
        <p:spPr>
          <a:xfrm>
            <a:off x="9476280" y="507996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14"/>
          <p:cNvSpPr/>
          <p:nvPr/>
        </p:nvSpPr>
        <p:spPr>
          <a:xfrm>
            <a:off x="6129360" y="1406520"/>
            <a:ext cx="816120" cy="816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15"/>
          <p:cNvSpPr/>
          <p:nvPr/>
        </p:nvSpPr>
        <p:spPr>
          <a:xfrm>
            <a:off x="4761000" y="1814400"/>
            <a:ext cx="652320" cy="654120"/>
          </a:xfrm>
          <a:prstGeom prst="ellipse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6"/>
          <p:cNvSpPr/>
          <p:nvPr/>
        </p:nvSpPr>
        <p:spPr>
          <a:xfrm>
            <a:off x="8802360" y="366696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7674840" y="20066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6193800" y="16430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770000" y="2008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5"/>
          <p:cNvSpPr/>
          <p:nvPr/>
        </p:nvSpPr>
        <p:spPr>
          <a:xfrm>
            <a:off x="4518000" y="377208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7"/>
          <p:cNvSpPr/>
          <p:nvPr/>
        </p:nvSpPr>
        <p:spPr>
          <a:xfrm>
            <a:off x="222120" y="5003640"/>
            <a:ext cx="3903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0f68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8"/>
          <p:cNvSpPr/>
          <p:nvPr/>
        </p:nvSpPr>
        <p:spPr>
          <a:xfrm>
            <a:off x="206640" y="4403880"/>
            <a:ext cx="22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82AA-CF1A-4074-9E2C-0576B34C0F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1"/>
          <p:cNvGrpSpPr/>
          <p:nvPr/>
        </p:nvGrpSpPr>
        <p:grpSpPr>
          <a:xfrm>
            <a:off x="5133960" y="3763800"/>
            <a:ext cx="2479680" cy="2462400"/>
            <a:chOff x="5133960" y="3763800"/>
            <a:chExt cx="2479680" cy="2462400"/>
          </a:xfrm>
        </p:grpSpPr>
        <p:sp>
          <p:nvSpPr>
            <p:cNvPr id="567" name="Rectangle 240"/>
            <p:cNvSpPr/>
            <p:nvPr/>
          </p:nvSpPr>
          <p:spPr>
            <a:xfrm>
              <a:off x="5133960" y="3763800"/>
              <a:ext cx="2479680" cy="365760"/>
            </a:xfrm>
            <a:prstGeom prst="rect">
              <a:avLst/>
            </a:prstGeom>
            <a:solidFill>
              <a:srgbClr val="7f7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1"/>
            <p:cNvSpPr/>
            <p:nvPr/>
          </p:nvSpPr>
          <p:spPr>
            <a:xfrm>
              <a:off x="513396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2111400" y="3763800"/>
            <a:ext cx="2479680" cy="2462400"/>
            <a:chOff x="2111400" y="3763800"/>
            <a:chExt cx="2479680" cy="2462400"/>
          </a:xfrm>
        </p:grpSpPr>
        <p:sp>
          <p:nvSpPr>
            <p:cNvPr id="570" name="Rectangle 249"/>
            <p:cNvSpPr/>
            <p:nvPr/>
          </p:nvSpPr>
          <p:spPr>
            <a:xfrm>
              <a:off x="2111400" y="3763800"/>
              <a:ext cx="2479680" cy="36576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50"/>
            <p:cNvSpPr/>
            <p:nvPr/>
          </p:nvSpPr>
          <p:spPr>
            <a:xfrm>
              <a:off x="211140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"/>
          <p:cNvGrpSpPr/>
          <p:nvPr/>
        </p:nvGrpSpPr>
        <p:grpSpPr>
          <a:xfrm>
            <a:off x="8180280" y="3763800"/>
            <a:ext cx="2479680" cy="2462400"/>
            <a:chOff x="8180280" y="3763800"/>
            <a:chExt cx="2479680" cy="2462400"/>
          </a:xfrm>
        </p:grpSpPr>
        <p:sp>
          <p:nvSpPr>
            <p:cNvPr id="573" name="Rectangle 252"/>
            <p:cNvSpPr/>
            <p:nvPr/>
          </p:nvSpPr>
          <p:spPr>
            <a:xfrm>
              <a:off x="8180280" y="3763800"/>
              <a:ext cx="2479680" cy="365760"/>
            </a:xfrm>
            <a:prstGeom prst="rect">
              <a:avLst/>
            </a:prstGeom>
            <a:gradFill rotWithShape="0">
              <a:gsLst>
                <a:gs pos="0">
                  <a:srgbClr val="ef95e4"/>
                </a:gs>
                <a:gs pos="100000">
                  <a:srgbClr val="f44a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ample sub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53"/>
            <p:cNvSpPr/>
            <p:nvPr/>
          </p:nvSpPr>
          <p:spPr>
            <a:xfrm>
              <a:off x="8180280" y="4129560"/>
              <a:ext cx="2479680" cy="20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Calibri"/>
                  <a:ea typeface="Calibri"/>
                </a:rPr>
                <a:t>This is a sample text, insert your desired text here. This is a sample text, insert your desired text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椭圆 200"/>
          <p:cNvSpPr/>
          <p:nvPr/>
        </p:nvSpPr>
        <p:spPr>
          <a:xfrm>
            <a:off x="2413080" y="1674720"/>
            <a:ext cx="1724040" cy="1724040"/>
          </a:xfrm>
          <a:prstGeom prst="ellipse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43040" y="227340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椭圆 202"/>
          <p:cNvSpPr/>
          <p:nvPr/>
        </p:nvSpPr>
        <p:spPr>
          <a:xfrm>
            <a:off x="5438880" y="1684440"/>
            <a:ext cx="1724040" cy="1724040"/>
          </a:xfrm>
          <a:prstGeom prst="ellipse">
            <a:avLst/>
          </a:prstGeom>
          <a:solidFill>
            <a:srgbClr val="7f7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5"/>
          <p:cNvSpPr/>
          <p:nvPr/>
        </p:nvSpPr>
        <p:spPr>
          <a:xfrm>
            <a:off x="5568840" y="228276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椭圆 204"/>
          <p:cNvSpPr/>
          <p:nvPr/>
        </p:nvSpPr>
        <p:spPr>
          <a:xfrm>
            <a:off x="8466120" y="1695600"/>
            <a:ext cx="1724040" cy="1724040"/>
          </a:xfrm>
          <a:prstGeom prst="ellipse">
            <a:avLst/>
          </a:prstGeom>
          <a:solidFill>
            <a:srgbClr val="f44ab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"/>
          <p:cNvSpPr/>
          <p:nvPr/>
        </p:nvSpPr>
        <p:spPr>
          <a:xfrm>
            <a:off x="8594640" y="2292480"/>
            <a:ext cx="1517760" cy="59688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F1C7-82BE-4648-9580-70E04E7856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20"/>
          <p:cNvSpPr/>
          <p:nvPr/>
        </p:nvSpPr>
        <p:spPr>
          <a:xfrm>
            <a:off x="1550880" y="3287880"/>
            <a:ext cx="946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e0f68"/>
                </a:solidFill>
                <a:latin typeface="微软雅黑"/>
                <a:ea typeface="微软雅黑"/>
              </a:rPr>
              <a:t>Thank you for liste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21"/>
          <p:cNvSpPr/>
          <p:nvPr/>
        </p:nvSpPr>
        <p:spPr>
          <a:xfrm>
            <a:off x="2589120" y="42768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3111480" y="814320"/>
            <a:ext cx="6156360" cy="241632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"/>
          <p:cNvSpPr/>
          <p:nvPr/>
        </p:nvSpPr>
        <p:spPr>
          <a:xfrm>
            <a:off x="4259160" y="5097600"/>
            <a:ext cx="4240440" cy="160164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69"/>
          <p:cNvGrpSpPr/>
          <p:nvPr/>
        </p:nvGrpSpPr>
        <p:grpSpPr>
          <a:xfrm>
            <a:off x="8450640" y="2462040"/>
            <a:ext cx="3671640" cy="4281120"/>
            <a:chOff x="8450640" y="2462040"/>
            <a:chExt cx="3671640" cy="4281120"/>
          </a:xfrm>
        </p:grpSpPr>
        <p:sp>
          <p:nvSpPr>
            <p:cNvPr id="588" name="Rounded Rectangle 70"/>
            <p:cNvSpPr/>
            <p:nvPr/>
          </p:nvSpPr>
          <p:spPr>
            <a:xfrm rot="18600000">
              <a:off x="11467440" y="2678760"/>
              <a:ext cx="681840" cy="247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Isosceles Triangle 12"/>
            <p:cNvSpPr/>
            <p:nvPr/>
          </p:nvSpPr>
          <p:spPr>
            <a:xfrm rot="13200000">
              <a:off x="8571600" y="6473520"/>
              <a:ext cx="65880" cy="27432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ounded Rectangle 72"/>
            <p:cNvSpPr/>
            <p:nvPr/>
          </p:nvSpPr>
          <p:spPr>
            <a:xfrm rot="18600000">
              <a:off x="8629920" y="5247360"/>
              <a:ext cx="1881720" cy="42408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Isosceles Triangle 24"/>
            <p:cNvSpPr/>
            <p:nvPr/>
          </p:nvSpPr>
          <p:spPr>
            <a:xfrm rot="13200000">
              <a:off x="8584200" y="6132960"/>
              <a:ext cx="376920" cy="55368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4"/>
            <p:cNvSpPr/>
            <p:nvPr/>
          </p:nvSpPr>
          <p:spPr>
            <a:xfrm rot="18600000">
              <a:off x="9682920" y="3483720"/>
              <a:ext cx="2735640" cy="42408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75"/>
            <p:cNvSpPr/>
            <p:nvPr/>
          </p:nvSpPr>
          <p:spPr>
            <a:xfrm rot="18600000">
              <a:off x="10134000" y="4548240"/>
              <a:ext cx="47160" cy="424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ounded Rectangle 76"/>
            <p:cNvSpPr/>
            <p:nvPr/>
          </p:nvSpPr>
          <p:spPr>
            <a:xfrm rot="18600000">
              <a:off x="8940600" y="5974920"/>
              <a:ext cx="47160" cy="414360"/>
            </a:xfrm>
            <a:custGeom>
              <a:avLst/>
              <a:gdLst>
                <a:gd name="textAreaLeft" fmla="*/ 5040 w 47160"/>
                <a:gd name="textAreaRight" fmla="*/ 42120 w 47160"/>
                <a:gd name="textAreaTop" fmla="*/ 5040 h 414360"/>
                <a:gd name="textAreaBottom" fmla="*/ 409320 h 414360"/>
              </a:gdLst>
              <a:ahLst/>
              <a:rect l="textAreaLeft" t="textAreaTop" r="textAreaRight" b="textAreaBottom"/>
              <a:pathLst>
                <a:path w="21600" h="188509">
                  <a:moveTo>
                    <a:pt x="7961" y="0"/>
                  </a:moveTo>
                  <a:arcTo wR="7961" hR="7961" stAng="16200000" swAng="-5400000"/>
                  <a:lnTo>
                    <a:pt x="0" y="180548"/>
                  </a:lnTo>
                  <a:arcTo wR="7961" hR="7961" stAng="10800000" swAng="-5400000"/>
                  <a:lnTo>
                    <a:pt x="13639" y="188509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ounded Rectangle 77"/>
            <p:cNvSpPr/>
            <p:nvPr/>
          </p:nvSpPr>
          <p:spPr>
            <a:xfrm rot="18600000">
              <a:off x="11725920" y="2631600"/>
              <a:ext cx="133560" cy="408600"/>
            </a:xfrm>
            <a:custGeom>
              <a:avLst/>
              <a:gdLst>
                <a:gd name="textAreaLeft" fmla="*/ 7560 w 133560"/>
                <a:gd name="textAreaRight" fmla="*/ 126000 w 133560"/>
                <a:gd name="textAreaTop" fmla="*/ 7560 h 408600"/>
                <a:gd name="textAreaBottom" fmla="*/ 401040 h 408600"/>
              </a:gdLst>
              <a:ahLst/>
              <a:rect l="textAreaLeft" t="textAreaTop" r="textAreaRight" b="textAreaBottom"/>
              <a:pathLst>
                <a:path w="21600" h="65961">
                  <a:moveTo>
                    <a:pt x="4279" y="0"/>
                  </a:moveTo>
                  <a:arcTo wR="4279" hR="4279" stAng="16200000" swAng="-5400000"/>
                  <a:lnTo>
                    <a:pt x="0" y="61682"/>
                  </a:lnTo>
                  <a:arcTo wR="4279" hR="4279" stAng="10800000" swAng="-5400000"/>
                  <a:lnTo>
                    <a:pt x="17321" y="65961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ounded Rectangle 78"/>
            <p:cNvSpPr/>
            <p:nvPr/>
          </p:nvSpPr>
          <p:spPr>
            <a:xfrm rot="18600000">
              <a:off x="10679400" y="3219480"/>
              <a:ext cx="1477800" cy="1335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79"/>
            <p:cNvGrpSpPr/>
            <p:nvPr/>
          </p:nvGrpSpPr>
          <p:grpSpPr>
            <a:xfrm>
              <a:off x="11006280" y="2801160"/>
              <a:ext cx="824400" cy="970560"/>
              <a:chOff x="11006280" y="2801160"/>
              <a:chExt cx="824400" cy="970560"/>
            </a:xfrm>
          </p:grpSpPr>
          <p:sp>
            <p:nvSpPr>
              <p:cNvPr id="598" name="Straight Connector 80"/>
              <p:cNvSpPr/>
              <p:nvPr/>
            </p:nvSpPr>
            <p:spPr>
              <a:xfrm flipV="1">
                <a:off x="11040480" y="28299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81"/>
              <p:cNvSpPr/>
              <p:nvPr/>
            </p:nvSpPr>
            <p:spPr>
              <a:xfrm flipV="1">
                <a:off x="11006280" y="2801160"/>
                <a:ext cx="790200" cy="94176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0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DAED-38F6-4538-B4E4-C78E63547A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0" y="69696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6"/>
          <p:cNvSpPr/>
          <p:nvPr/>
        </p:nvSpPr>
        <p:spPr>
          <a:xfrm>
            <a:off x="4282920" y="3129120"/>
            <a:ext cx="3097440" cy="3095640"/>
          </a:xfrm>
          <a:prstGeom prst="ellipse">
            <a:avLst/>
          </a:prstGeom>
          <a:solidFill>
            <a:srgbClr val="ee0f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8"/>
          <p:cNvSpPr/>
          <p:nvPr/>
        </p:nvSpPr>
        <p:spPr>
          <a:xfrm>
            <a:off x="7870680" y="3900600"/>
            <a:ext cx="1295640" cy="1295280"/>
          </a:xfrm>
          <a:prstGeom prst="ellipse">
            <a:avLst/>
          </a:prstGeom>
          <a:solidFill>
            <a:srgbClr val="ee0f6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19"/>
          <p:cNvSpPr/>
          <p:nvPr/>
        </p:nvSpPr>
        <p:spPr>
          <a:xfrm>
            <a:off x="9339120" y="2152800"/>
            <a:ext cx="1944720" cy="1944360"/>
          </a:xfrm>
          <a:prstGeom prst="ellipse">
            <a:avLst/>
          </a:prstGeom>
          <a:solidFill>
            <a:srgbClr val="ee0f6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4257720" y="4575240"/>
            <a:ext cx="3211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8737560" y="3078000"/>
            <a:ext cx="3211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7"/>
          <p:cNvSpPr/>
          <p:nvPr/>
        </p:nvSpPr>
        <p:spPr>
          <a:xfrm>
            <a:off x="7746840" y="4540320"/>
            <a:ext cx="16066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9"/>
          <p:cNvSpPr/>
          <p:nvPr/>
        </p:nvSpPr>
        <p:spPr>
          <a:xfrm>
            <a:off x="5542200" y="34416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0"/>
          <p:cNvSpPr/>
          <p:nvPr/>
        </p:nvSpPr>
        <p:spPr>
          <a:xfrm>
            <a:off x="8293680" y="4006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1"/>
          <p:cNvSpPr/>
          <p:nvPr/>
        </p:nvSpPr>
        <p:spPr>
          <a:xfrm>
            <a:off x="10088640" y="239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4"/>
          <p:cNvSpPr/>
          <p:nvPr/>
        </p:nvSpPr>
        <p:spPr>
          <a:xfrm flipV="1">
            <a:off x="2502000" y="1545840"/>
            <a:ext cx="1440" cy="11574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2"/>
          <p:cNvSpPr/>
          <p:nvPr/>
        </p:nvSpPr>
        <p:spPr>
          <a:xfrm flipV="1">
            <a:off x="5854680" y="1568520"/>
            <a:ext cx="1440" cy="15746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34"/>
          <p:cNvSpPr/>
          <p:nvPr/>
        </p:nvSpPr>
        <p:spPr>
          <a:xfrm flipV="1">
            <a:off x="8507520" y="1440000"/>
            <a:ext cx="1440" cy="248760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5"/>
          <p:cNvSpPr/>
          <p:nvPr/>
        </p:nvSpPr>
        <p:spPr>
          <a:xfrm flipV="1">
            <a:off x="10283760" y="1525320"/>
            <a:ext cx="1800" cy="633240"/>
          </a:xfrm>
          <a:prstGeom prst="line">
            <a:avLst/>
          </a:prstGeom>
          <a:ln w="648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1374840" y="2703600"/>
            <a:ext cx="2254320" cy="2254320"/>
          </a:xfrm>
          <a:prstGeom prst="ellipse">
            <a:avLst/>
          </a:prstGeom>
          <a:solidFill>
            <a:srgbClr val="ee0f6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3"/>
          <p:cNvSpPr/>
          <p:nvPr/>
        </p:nvSpPr>
        <p:spPr>
          <a:xfrm>
            <a:off x="1230480" y="3745080"/>
            <a:ext cx="2665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8"/>
          <p:cNvSpPr/>
          <p:nvPr/>
        </p:nvSpPr>
        <p:spPr>
          <a:xfrm>
            <a:off x="2260800" y="2901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9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等腰三角形 50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1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等腰三角形 52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4EB-3124-4D16-92FE-DC145A20AD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92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02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8CF-D673-49A2-866A-F02F0BF540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le 29"/>
          <p:cNvSpPr/>
          <p:nvPr/>
        </p:nvSpPr>
        <p:spPr>
          <a:xfrm>
            <a:off x="1387440" y="1174680"/>
            <a:ext cx="548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Test Tubes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415880" y="2425680"/>
            <a:ext cx="3476880" cy="1308240"/>
            <a:chOff x="1415880" y="2425680"/>
            <a:chExt cx="3476880" cy="1308240"/>
          </a:xfrm>
        </p:grpSpPr>
        <p:sp>
          <p:nvSpPr>
            <p:cNvPr id="115" name="Rectangle 41"/>
            <p:cNvSpPr/>
            <p:nvPr/>
          </p:nvSpPr>
          <p:spPr>
            <a:xfrm>
              <a:off x="1415880" y="2425680"/>
              <a:ext cx="27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1415880" y="2758680"/>
              <a:ext cx="34768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3"/>
          <p:cNvGrpSpPr/>
          <p:nvPr/>
        </p:nvGrpSpPr>
        <p:grpSpPr>
          <a:xfrm>
            <a:off x="7346880" y="4699080"/>
            <a:ext cx="3475080" cy="1306440"/>
            <a:chOff x="7346880" y="4699080"/>
            <a:chExt cx="3475080" cy="1306440"/>
          </a:xfrm>
        </p:grpSpPr>
        <p:sp>
          <p:nvSpPr>
            <p:cNvPr id="118" name="Rectangle 44"/>
            <p:cNvSpPr/>
            <p:nvPr/>
          </p:nvSpPr>
          <p:spPr>
            <a:xfrm>
              <a:off x="7346880" y="469908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5"/>
            <p:cNvSpPr/>
            <p:nvPr/>
          </p:nvSpPr>
          <p:spPr>
            <a:xfrm>
              <a:off x="7346880" y="50313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5"/>
          <p:cNvSpPr/>
          <p:nvPr/>
        </p:nvSpPr>
        <p:spPr>
          <a:xfrm>
            <a:off x="4525920" y="3375000"/>
            <a:ext cx="3222720" cy="1265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9FDD-3EC3-463F-9CB2-13789969E5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3706920" y="1486080"/>
            <a:ext cx="4774680" cy="4635000"/>
            <a:chOff x="3706920" y="1486080"/>
            <a:chExt cx="4774680" cy="4635000"/>
          </a:xfrm>
        </p:grpSpPr>
        <p:sp>
          <p:nvSpPr>
            <p:cNvPr id="129" name="Freeform 4"/>
            <p:cNvSpPr/>
            <p:nvPr/>
          </p:nvSpPr>
          <p:spPr>
            <a:xfrm>
              <a:off x="3993840" y="1486080"/>
              <a:ext cx="2487240" cy="205596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"/>
            <p:cNvSpPr/>
            <p:nvPr/>
          </p:nvSpPr>
          <p:spPr>
            <a:xfrm>
              <a:off x="5657760" y="4056120"/>
              <a:ext cx="2430720" cy="20649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"/>
            <p:cNvSpPr/>
            <p:nvPr/>
          </p:nvSpPr>
          <p:spPr>
            <a:xfrm>
              <a:off x="3706920" y="3304440"/>
              <a:ext cx="2188440" cy="245592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"/>
            <p:cNvSpPr/>
            <p:nvPr/>
          </p:nvSpPr>
          <p:spPr>
            <a:xfrm>
              <a:off x="6262560" y="1810080"/>
              <a:ext cx="2219040" cy="24332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20"/>
          <p:cNvSpPr/>
          <p:nvPr/>
        </p:nvSpPr>
        <p:spPr>
          <a:xfrm>
            <a:off x="2116080" y="180972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1"/>
          <p:cNvSpPr/>
          <p:nvPr/>
        </p:nvSpPr>
        <p:spPr>
          <a:xfrm>
            <a:off x="211608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8143920" y="180972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3"/>
          <p:cNvSpPr/>
          <p:nvPr/>
        </p:nvSpPr>
        <p:spPr>
          <a:xfrm>
            <a:off x="8143920" y="225432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4"/>
          <p:cNvSpPr/>
          <p:nvPr/>
        </p:nvSpPr>
        <p:spPr>
          <a:xfrm>
            <a:off x="8143920" y="5384880"/>
            <a:ext cx="1878120" cy="3988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5"/>
          <p:cNvSpPr/>
          <p:nvPr/>
        </p:nvSpPr>
        <p:spPr>
          <a:xfrm>
            <a:off x="814392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6"/>
          <p:cNvSpPr/>
          <p:nvPr/>
        </p:nvSpPr>
        <p:spPr>
          <a:xfrm>
            <a:off x="2116080" y="5384880"/>
            <a:ext cx="1878120" cy="39888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7"/>
          <p:cNvSpPr/>
          <p:nvPr/>
        </p:nvSpPr>
        <p:spPr>
          <a:xfrm>
            <a:off x="2116080" y="582768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DD5-ECFE-4BB0-99B9-ABED0FF6DF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表 78" descr=""/>
          <p:cNvPicPr/>
          <p:nvPr/>
        </p:nvPicPr>
        <p:blipFill>
          <a:blip r:embed="rId1"/>
          <a:stretch/>
        </p:blipFill>
        <p:spPr>
          <a:xfrm>
            <a:off x="3254400" y="158112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46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358920" y="3197160"/>
            <a:ext cx="3476520" cy="1306440"/>
            <a:chOff x="358920" y="3197160"/>
            <a:chExt cx="3476520" cy="1306440"/>
          </a:xfrm>
        </p:grpSpPr>
        <p:sp>
          <p:nvSpPr>
            <p:cNvPr id="150" name="Rectangle 41"/>
            <p:cNvSpPr/>
            <p:nvPr/>
          </p:nvSpPr>
          <p:spPr>
            <a:xfrm>
              <a:off x="358920" y="3197160"/>
              <a:ext cx="2743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7f7f7f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358920" y="3529440"/>
              <a:ext cx="347652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3"/>
          <p:cNvGrpSpPr/>
          <p:nvPr/>
        </p:nvGrpSpPr>
        <p:grpSpPr>
          <a:xfrm>
            <a:off x="8248680" y="4767120"/>
            <a:ext cx="3475080" cy="1306800"/>
            <a:chOff x="8248680" y="4767120"/>
            <a:chExt cx="3475080" cy="1306800"/>
          </a:xfrm>
        </p:grpSpPr>
        <p:sp>
          <p:nvSpPr>
            <p:cNvPr id="153" name="Rectangle 44"/>
            <p:cNvSpPr/>
            <p:nvPr/>
          </p:nvSpPr>
          <p:spPr>
            <a:xfrm>
              <a:off x="8248680" y="4767120"/>
              <a:ext cx="2742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0f68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8248680" y="5099760"/>
              <a:ext cx="3475080" cy="9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Arial"/>
                </a:rPr>
                <a:t>This is a sample text. Insert your desired text here. Again, this is a dummy text, enter your own text here. This is a sample text. Insert your desired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reeform 5"/>
          <p:cNvSpPr/>
          <p:nvPr/>
        </p:nvSpPr>
        <p:spPr>
          <a:xfrm>
            <a:off x="747720" y="198612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8593200" y="3697200"/>
            <a:ext cx="2054160" cy="80640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tle 29"/>
          <p:cNvSpPr/>
          <p:nvPr/>
        </p:nvSpPr>
        <p:spPr>
          <a:xfrm>
            <a:off x="5160960" y="3227400"/>
            <a:ext cx="23828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e0f68"/>
                </a:solidFill>
                <a:latin typeface="Calibri Light"/>
              </a:rPr>
              <a:t>88</a:t>
            </a:r>
            <a:r>
              <a:rPr b="1" lang="en-US" sz="5400" spc="-1" strike="noStrike">
                <a:solidFill>
                  <a:srgbClr val="ee0f68"/>
                </a:solidFill>
                <a:latin typeface="Calibri Light"/>
              </a:rPr>
              <a:t>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B31-EFBD-4FF4-839A-42680176BEC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29"/>
          <p:cNvSpPr/>
          <p:nvPr/>
        </p:nvSpPr>
        <p:spPr>
          <a:xfrm>
            <a:off x="5494320" y="2693880"/>
            <a:ext cx="5486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0f68"/>
                </a:solidFill>
                <a:latin typeface="Calibri Light"/>
              </a:rPr>
              <a:t>Click add your text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5594400" y="3409920"/>
            <a:ext cx="4967280" cy="27000"/>
          </a:xfrm>
          <a:prstGeom prst="rect">
            <a:avLst/>
          </a:prstGeom>
          <a:gradFill rotWithShape="0">
            <a:gsLst>
              <a:gs pos="0">
                <a:srgbClr val="ee0f6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5494320" y="3436920"/>
            <a:ext cx="558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0f68"/>
                </a:solidFill>
                <a:latin typeface="Calibri Light"/>
              </a:rPr>
              <a:t>Enter your sub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084400" y="2808360"/>
            <a:ext cx="3222720" cy="1265040"/>
          </a:xfrm>
          <a:custGeom>
            <a:avLst/>
            <a:gdLst/>
            <a:ahLst/>
            <a:rect l="l" t="t" r="r" b="b"/>
            <a:pathLst>
              <a:path w="387" h="150">
                <a:moveTo>
                  <a:pt x="383" y="34"/>
                </a:moveTo>
                <a:cubicBezTo>
                  <a:pt x="379" y="30"/>
                  <a:pt x="373" y="29"/>
                  <a:pt x="370" y="29"/>
                </a:cubicBezTo>
                <a:cubicBezTo>
                  <a:pt x="370" y="29"/>
                  <a:pt x="370" y="29"/>
                  <a:pt x="370" y="29"/>
                </a:cubicBezTo>
                <a:cubicBezTo>
                  <a:pt x="356" y="29"/>
                  <a:pt x="352" y="28"/>
                  <a:pt x="343" y="24"/>
                </a:cubicBezTo>
                <a:cubicBezTo>
                  <a:pt x="338" y="21"/>
                  <a:pt x="330" y="18"/>
                  <a:pt x="319" y="14"/>
                </a:cubicBezTo>
                <a:cubicBezTo>
                  <a:pt x="277" y="0"/>
                  <a:pt x="242" y="15"/>
                  <a:pt x="231" y="20"/>
                </a:cubicBezTo>
                <a:cubicBezTo>
                  <a:pt x="229" y="21"/>
                  <a:pt x="229" y="21"/>
                  <a:pt x="229" y="21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18" y="27"/>
                  <a:pt x="213" y="29"/>
                  <a:pt x="194" y="29"/>
                </a:cubicBezTo>
                <a:cubicBezTo>
                  <a:pt x="174" y="29"/>
                  <a:pt x="169" y="27"/>
                  <a:pt x="163" y="24"/>
                </a:cubicBezTo>
                <a:cubicBezTo>
                  <a:pt x="158" y="21"/>
                  <a:pt x="158" y="21"/>
                  <a:pt x="158" y="21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45" y="15"/>
                  <a:pt x="111" y="0"/>
                  <a:pt x="68" y="14"/>
                </a:cubicBezTo>
                <a:cubicBezTo>
                  <a:pt x="57" y="18"/>
                  <a:pt x="50" y="21"/>
                  <a:pt x="44" y="24"/>
                </a:cubicBezTo>
                <a:cubicBezTo>
                  <a:pt x="35" y="28"/>
                  <a:pt x="31" y="29"/>
                  <a:pt x="18" y="29"/>
                </a:cubicBezTo>
                <a:cubicBezTo>
                  <a:pt x="14" y="29"/>
                  <a:pt x="8" y="30"/>
                  <a:pt x="4" y="34"/>
                </a:cubicBezTo>
                <a:cubicBezTo>
                  <a:pt x="2" y="37"/>
                  <a:pt x="0" y="41"/>
                  <a:pt x="0" y="45"/>
                </a:cubicBezTo>
                <a:cubicBezTo>
                  <a:pt x="0" y="57"/>
                  <a:pt x="6" y="63"/>
                  <a:pt x="18" y="63"/>
                </a:cubicBezTo>
                <a:cubicBezTo>
                  <a:pt x="26" y="63"/>
                  <a:pt x="27" y="64"/>
                  <a:pt x="30" y="69"/>
                </a:cubicBezTo>
                <a:cubicBezTo>
                  <a:pt x="30" y="70"/>
                  <a:pt x="31" y="73"/>
                  <a:pt x="31" y="75"/>
                </a:cubicBezTo>
                <a:cubicBezTo>
                  <a:pt x="35" y="95"/>
                  <a:pt x="44" y="147"/>
                  <a:pt x="102" y="149"/>
                </a:cubicBezTo>
                <a:cubicBezTo>
                  <a:pt x="103" y="149"/>
                  <a:pt x="133" y="150"/>
                  <a:pt x="155" y="130"/>
                </a:cubicBezTo>
                <a:cubicBezTo>
                  <a:pt x="170" y="117"/>
                  <a:pt x="178" y="97"/>
                  <a:pt x="179" y="72"/>
                </a:cubicBezTo>
                <a:cubicBezTo>
                  <a:pt x="179" y="70"/>
                  <a:pt x="180" y="55"/>
                  <a:pt x="194" y="55"/>
                </a:cubicBezTo>
                <a:cubicBezTo>
                  <a:pt x="207" y="55"/>
                  <a:pt x="208" y="70"/>
                  <a:pt x="208" y="72"/>
                </a:cubicBezTo>
                <a:cubicBezTo>
                  <a:pt x="209" y="97"/>
                  <a:pt x="217" y="117"/>
                  <a:pt x="232" y="130"/>
                </a:cubicBezTo>
                <a:cubicBezTo>
                  <a:pt x="254" y="150"/>
                  <a:pt x="284" y="149"/>
                  <a:pt x="285" y="149"/>
                </a:cubicBezTo>
                <a:cubicBezTo>
                  <a:pt x="344" y="147"/>
                  <a:pt x="353" y="95"/>
                  <a:pt x="356" y="75"/>
                </a:cubicBezTo>
                <a:cubicBezTo>
                  <a:pt x="356" y="73"/>
                  <a:pt x="357" y="70"/>
                  <a:pt x="357" y="69"/>
                </a:cubicBezTo>
                <a:cubicBezTo>
                  <a:pt x="360" y="64"/>
                  <a:pt x="362" y="63"/>
                  <a:pt x="370" y="63"/>
                </a:cubicBezTo>
                <a:cubicBezTo>
                  <a:pt x="381" y="63"/>
                  <a:pt x="387" y="57"/>
                  <a:pt x="387" y="45"/>
                </a:cubicBezTo>
                <a:cubicBezTo>
                  <a:pt x="387" y="41"/>
                  <a:pt x="386" y="37"/>
                  <a:pt x="383" y="34"/>
                </a:cubicBezTo>
                <a:close/>
                <a:moveTo>
                  <a:pt x="286" y="131"/>
                </a:moveTo>
                <a:cubicBezTo>
                  <a:pt x="227" y="134"/>
                  <a:pt x="218" y="68"/>
                  <a:pt x="230" y="50"/>
                </a:cubicBezTo>
                <a:cubicBezTo>
                  <a:pt x="243" y="30"/>
                  <a:pt x="264" y="24"/>
                  <a:pt x="285" y="26"/>
                </a:cubicBezTo>
                <a:cubicBezTo>
                  <a:pt x="306" y="28"/>
                  <a:pt x="319" y="35"/>
                  <a:pt x="319" y="35"/>
                </a:cubicBezTo>
                <a:cubicBezTo>
                  <a:pt x="343" y="50"/>
                  <a:pt x="337" y="74"/>
                  <a:pt x="337" y="74"/>
                </a:cubicBezTo>
                <a:cubicBezTo>
                  <a:pt x="329" y="132"/>
                  <a:pt x="286" y="131"/>
                  <a:pt x="286" y="131"/>
                </a:cubicBezTo>
                <a:close/>
                <a:moveTo>
                  <a:pt x="101" y="131"/>
                </a:moveTo>
                <a:cubicBezTo>
                  <a:pt x="101" y="131"/>
                  <a:pt x="58" y="132"/>
                  <a:pt x="51" y="74"/>
                </a:cubicBezTo>
                <a:cubicBezTo>
                  <a:pt x="51" y="74"/>
                  <a:pt x="45" y="50"/>
                  <a:pt x="68" y="35"/>
                </a:cubicBezTo>
                <a:cubicBezTo>
                  <a:pt x="68" y="35"/>
                  <a:pt x="81" y="28"/>
                  <a:pt x="102" y="26"/>
                </a:cubicBezTo>
                <a:cubicBezTo>
                  <a:pt x="123" y="24"/>
                  <a:pt x="144" y="30"/>
                  <a:pt x="157" y="50"/>
                </a:cubicBezTo>
                <a:cubicBezTo>
                  <a:pt x="169" y="68"/>
                  <a:pt x="160" y="134"/>
                  <a:pt x="101" y="131"/>
                </a:cubicBezTo>
                <a:close/>
              </a:path>
            </a:pathLst>
          </a:custGeom>
          <a:solidFill>
            <a:srgbClr val="ee0f68"/>
          </a:solidFill>
          <a:ln w="936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9"/>
          <p:cNvGrpSpPr/>
          <p:nvPr/>
        </p:nvGrpSpPr>
        <p:grpSpPr>
          <a:xfrm>
            <a:off x="9910800" y="4458240"/>
            <a:ext cx="1457280" cy="1696320"/>
            <a:chOff x="9910800" y="4458240"/>
            <a:chExt cx="1457280" cy="1696320"/>
          </a:xfrm>
        </p:grpSpPr>
        <p:sp>
          <p:nvSpPr>
            <p:cNvPr id="169" name="Rounded Rectangle 70"/>
            <p:cNvSpPr/>
            <p:nvPr/>
          </p:nvSpPr>
          <p:spPr>
            <a:xfrm rot="18600000">
              <a:off x="11107080" y="4542480"/>
              <a:ext cx="269280" cy="10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50000">
                  <a:srgbClr val="fffff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Isosceles Triangle 12"/>
            <p:cNvSpPr/>
            <p:nvPr/>
          </p:nvSpPr>
          <p:spPr>
            <a:xfrm rot="13200000">
              <a:off x="9961200" y="6045120"/>
              <a:ext cx="27360" cy="108360"/>
            </a:xfrm>
            <a:custGeom>
              <a:avLst/>
              <a:gdLst/>
              <a:ahLst/>
              <a:rect l="l" t="t" r="r" b="b"/>
              <a:pathLst>
                <a:path w="64009" h="266094">
                  <a:moveTo>
                    <a:pt x="64009" y="82284"/>
                  </a:moveTo>
                  <a:lnTo>
                    <a:pt x="64009" y="120601"/>
                  </a:lnTo>
                  <a:lnTo>
                    <a:pt x="64008" y="120601"/>
                  </a:lnTo>
                  <a:lnTo>
                    <a:pt x="64008" y="266094"/>
                  </a:lnTo>
                  <a:lnTo>
                    <a:pt x="0" y="266094"/>
                  </a:lnTo>
                  <a:lnTo>
                    <a:pt x="0" y="113694"/>
                  </a:lnTo>
                  <a:lnTo>
                    <a:pt x="1" y="113694"/>
                  </a:lnTo>
                  <a:lnTo>
                    <a:pt x="1" y="82284"/>
                  </a:lnTo>
                  <a:lnTo>
                    <a:pt x="28685" y="0"/>
                  </a:lnTo>
                  <a:lnTo>
                    <a:pt x="35325" y="0"/>
                  </a:lnTo>
                  <a:lnTo>
                    <a:pt x="64009" y="82284"/>
                  </a:ln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262626"/>
                </a:gs>
              </a:gsLst>
              <a:lin ang="5400000"/>
            </a:gra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72"/>
            <p:cNvSpPr/>
            <p:nvPr/>
          </p:nvSpPr>
          <p:spPr>
            <a:xfrm rot="18600000">
              <a:off x="9985320" y="5555520"/>
              <a:ext cx="743760" cy="177840"/>
            </a:xfrm>
            <a:prstGeom prst="roundRect">
              <a:avLst>
                <a:gd name="adj" fmla="val 10718"/>
              </a:avLst>
            </a:prstGeom>
            <a:solidFill>
              <a:srgbClr val="ee0f6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4"/>
            <p:cNvSpPr/>
            <p:nvPr/>
          </p:nvSpPr>
          <p:spPr>
            <a:xfrm rot="13200000">
              <a:off x="9962280" y="5910480"/>
              <a:ext cx="158040" cy="218520"/>
            </a:xfrm>
            <a:custGeom>
              <a:avLst/>
              <a:gdLst/>
              <a:ahLst/>
              <a:rect l="l" t="t" r="r" b="b"/>
              <a:pathLst>
                <a:path w="365760" h="536750">
                  <a:moveTo>
                    <a:pt x="365760" y="536750"/>
                  </a:moveTo>
                  <a:lnTo>
                    <a:pt x="0" y="536750"/>
                  </a:lnTo>
                  <a:lnTo>
                    <a:pt x="129028" y="0"/>
                  </a:lnTo>
                  <a:lnTo>
                    <a:pt x="236732" y="0"/>
                  </a:lnTo>
                  <a:lnTo>
                    <a:pt x="365760" y="53675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50000">
                  <a:srgbClr val="7f7f7f"/>
                </a:gs>
                <a:gs pos="100000">
                  <a:srgbClr val="d8d8d8"/>
                </a:gs>
              </a:gsLst>
              <a:lin ang="5400000"/>
            </a:gradFill>
            <a:ln w="32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4"/>
            <p:cNvSpPr/>
            <p:nvPr/>
          </p:nvSpPr>
          <p:spPr>
            <a:xfrm rot="18600000">
              <a:off x="10401120" y="4858560"/>
              <a:ext cx="1081080" cy="177840"/>
            </a:xfrm>
            <a:custGeom>
              <a:avLst/>
              <a:gdLst/>
              <a:ahLst/>
              <a:rect l="l" t="t" r="r" b="b"/>
              <a:pathLst>
                <a:path w="3084" h="476">
                  <a:moveTo>
                    <a:pt x="3065" y="68"/>
                  </a:moveTo>
                  <a:cubicBezTo>
                    <a:pt x="3084" y="85"/>
                    <a:pt x="3079" y="397"/>
                    <a:pt x="3064" y="414"/>
                  </a:cubicBezTo>
                  <a:cubicBezTo>
                    <a:pt x="3049" y="431"/>
                    <a:pt x="2891" y="455"/>
                    <a:pt x="2791" y="458"/>
                  </a:cubicBezTo>
                  <a:cubicBezTo>
                    <a:pt x="208" y="456"/>
                    <a:pt x="208" y="456"/>
                    <a:pt x="208" y="456"/>
                  </a:cubicBezTo>
                  <a:cubicBezTo>
                    <a:pt x="105" y="449"/>
                    <a:pt x="44" y="462"/>
                    <a:pt x="0" y="47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9" y="21"/>
                    <a:pt x="126" y="25"/>
                    <a:pt x="219" y="28"/>
                  </a:cubicBezTo>
                  <a:cubicBezTo>
                    <a:pt x="2786" y="43"/>
                    <a:pt x="2786" y="43"/>
                    <a:pt x="2786" y="43"/>
                  </a:cubicBezTo>
                  <a:cubicBezTo>
                    <a:pt x="2890" y="40"/>
                    <a:pt x="3045" y="51"/>
                    <a:pt x="3065" y="68"/>
                  </a:cubicBezTo>
                  <a:close/>
                </a:path>
              </a:pathLst>
            </a:custGeom>
            <a:solidFill>
              <a:srgbClr val="ee0f68"/>
            </a:solidFill>
            <a:ln w="12600">
              <a:solidFill>
                <a:srgbClr val="ee0f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75"/>
            <p:cNvSpPr/>
            <p:nvPr/>
          </p:nvSpPr>
          <p:spPr>
            <a:xfrm rot="18600000">
              <a:off x="10579680" y="5279400"/>
              <a:ext cx="18360" cy="177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ounded Rectangle 76"/>
            <p:cNvSpPr/>
            <p:nvPr/>
          </p:nvSpPr>
          <p:spPr>
            <a:xfrm rot="18600000">
              <a:off x="10107720" y="5843160"/>
              <a:ext cx="18360" cy="173880"/>
            </a:xfrm>
            <a:custGeom>
              <a:avLst/>
              <a:gdLst>
                <a:gd name="textAreaLeft" fmla="*/ 1800 w 18360"/>
                <a:gd name="textAreaRight" fmla="*/ 16560 w 18360"/>
                <a:gd name="textAreaTop" fmla="*/ 1800 h 173880"/>
                <a:gd name="textAreaBottom" fmla="*/ 172080 h 173880"/>
              </a:gdLst>
              <a:ahLst/>
              <a:rect l="textAreaLeft" t="textAreaTop" r="textAreaRight" b="textAreaBottom"/>
              <a:pathLst>
                <a:path w="21600" h="201046">
                  <a:moveTo>
                    <a:pt x="7961" y="0"/>
                  </a:moveTo>
                  <a:arcTo wR="7961" hR="7961" stAng="16200000" swAng="-5400000"/>
                  <a:lnTo>
                    <a:pt x="0" y="193085"/>
                  </a:lnTo>
                  <a:arcTo wR="7961" hR="7961" stAng="10800000" swAng="-5400000"/>
                  <a:lnTo>
                    <a:pt x="13639" y="201046"/>
                  </a:lnTo>
                  <a:arcTo wR="7961" hR="7961" stAng="5400000" swAng="-5400000"/>
                  <a:lnTo>
                    <a:pt x="21600" y="7961"/>
                  </a:lnTo>
                  <a:arcTo wR="7961" hR="7961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ounded Rectangle 77"/>
            <p:cNvSpPr/>
            <p:nvPr/>
          </p:nvSpPr>
          <p:spPr>
            <a:xfrm rot="18600000">
              <a:off x="11209320" y="4521960"/>
              <a:ext cx="52920" cy="171360"/>
            </a:xfrm>
            <a:custGeom>
              <a:avLst/>
              <a:gdLst>
                <a:gd name="textAreaLeft" fmla="*/ 2880 w 52920"/>
                <a:gd name="textAreaRight" fmla="*/ 50040 w 52920"/>
                <a:gd name="textAreaTop" fmla="*/ 2880 h 171360"/>
                <a:gd name="textAreaBottom" fmla="*/ 168480 h 171360"/>
              </a:gdLst>
              <a:ahLst/>
              <a:rect l="textAreaLeft" t="textAreaTop" r="textAreaRight" b="textAreaBottom"/>
              <a:pathLst>
                <a:path w="21600" h="69616">
                  <a:moveTo>
                    <a:pt x="4279" y="0"/>
                  </a:moveTo>
                  <a:arcTo wR="4279" hR="4279" stAng="16200000" swAng="-5400000"/>
                  <a:lnTo>
                    <a:pt x="0" y="65337"/>
                  </a:lnTo>
                  <a:arcTo wR="4279" hR="4279" stAng="10800000" swAng="-5400000"/>
                  <a:lnTo>
                    <a:pt x="17321" y="69616"/>
                  </a:lnTo>
                  <a:arcTo wR="4279" hR="4279" stAng="5400000" swAng="-5400000"/>
                  <a:lnTo>
                    <a:pt x="21600" y="4279"/>
                  </a:lnTo>
                  <a:arcTo wR="4279" hR="4279" stAng="0" swAng="-5400000"/>
                  <a:close/>
                </a:path>
              </a:pathLst>
            </a:custGeom>
            <a:solidFill>
              <a:srgbClr val="d8d8d8"/>
            </a:solidFill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78"/>
            <p:cNvSpPr/>
            <p:nvPr/>
          </p:nvSpPr>
          <p:spPr>
            <a:xfrm rot="18600000">
              <a:off x="10795680" y="4757760"/>
              <a:ext cx="583920" cy="56160"/>
            </a:xfrm>
            <a:prstGeom prst="roundRect">
              <a:avLst>
                <a:gd name="adj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9"/>
            <p:cNvGrpSpPr/>
            <p:nvPr/>
          </p:nvGrpSpPr>
          <p:grpSpPr>
            <a:xfrm>
              <a:off x="10924200" y="4593960"/>
              <a:ext cx="326520" cy="384120"/>
              <a:chOff x="10924200" y="4593960"/>
              <a:chExt cx="326520" cy="384120"/>
            </a:xfrm>
          </p:grpSpPr>
          <p:sp>
            <p:nvSpPr>
              <p:cNvPr id="179" name="Straight Connector 80"/>
              <p:cNvSpPr/>
              <p:nvPr/>
            </p:nvSpPr>
            <p:spPr>
              <a:xfrm flipV="1">
                <a:off x="10938600" y="4606200"/>
                <a:ext cx="312120" cy="37188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Straight Connector 81"/>
              <p:cNvSpPr/>
              <p:nvPr/>
            </p:nvSpPr>
            <p:spPr>
              <a:xfrm flipV="1">
                <a:off x="10924200" y="4593960"/>
                <a:ext cx="312120" cy="372240"/>
              </a:xfrm>
              <a:prstGeom prst="line">
                <a:avLst/>
              </a:prstGeom>
              <a:ln cap="rnd" w="190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Oval 1"/>
          <p:cNvSpPr/>
          <p:nvPr/>
        </p:nvSpPr>
        <p:spPr>
          <a:xfrm>
            <a:off x="7978680" y="5611680"/>
            <a:ext cx="1952640" cy="547920"/>
          </a:xfrm>
          <a:custGeom>
            <a:avLst/>
            <a:gdLst/>
            <a:ahLst/>
            <a:rect l="l" t="t" r="r" b="b"/>
            <a:pathLst>
              <a:path w="4239998" h="1601996">
                <a:moveTo>
                  <a:pt x="245299" y="254963"/>
                </a:moveTo>
                <a:cubicBezTo>
                  <a:pt x="-863677" y="1360431"/>
                  <a:pt x="2132100" y="-204513"/>
                  <a:pt x="2391408" y="22950"/>
                </a:cubicBezTo>
                <a:cubicBezTo>
                  <a:pt x="2650716" y="250413"/>
                  <a:pt x="1035732" y="916879"/>
                  <a:pt x="1227937" y="1128420"/>
                </a:cubicBezTo>
                <a:cubicBezTo>
                  <a:pt x="1420142" y="1339961"/>
                  <a:pt x="2747199" y="578149"/>
                  <a:pt x="3053325" y="718986"/>
                </a:cubicBezTo>
                <a:cubicBezTo>
                  <a:pt x="3359451" y="859823"/>
                  <a:pt x="2443839" y="1384997"/>
                  <a:pt x="2573379" y="1564010"/>
                </a:cubicBezTo>
                <a:cubicBezTo>
                  <a:pt x="2702919" y="1743023"/>
                  <a:pt x="3247996" y="1008811"/>
                  <a:pt x="4239998" y="1601996"/>
                </a:cubicBezTo>
              </a:path>
            </a:pathLst>
          </a:custGeom>
          <a:noFill/>
          <a:ln cap="rnd" w="12600">
            <a:solidFill>
              <a:srgbClr val="ee0f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0"/>
          <p:cNvSpPr/>
          <p:nvPr/>
        </p:nvSpPr>
        <p:spPr>
          <a:xfrm>
            <a:off x="0" y="0"/>
            <a:ext cx="1665360" cy="238428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01"/>
          <p:cNvSpPr/>
          <p:nvPr/>
        </p:nvSpPr>
        <p:spPr>
          <a:xfrm>
            <a:off x="-12600" y="-334800"/>
            <a:ext cx="33606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F94-EE07-461C-B2F2-E2E384B253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69"/>
          <p:cNvSpPr/>
          <p:nvPr/>
        </p:nvSpPr>
        <p:spPr>
          <a:xfrm>
            <a:off x="6340320" y="2484360"/>
            <a:ext cx="2465640" cy="2125800"/>
          </a:xfrm>
          <a:custGeom>
            <a:avLst/>
            <a:gdLst/>
            <a:ahLst/>
            <a:rect l="l" t="t" r="r" b="b"/>
            <a:pathLst>
              <a:path w="2465294" h="2125612">
                <a:moveTo>
                  <a:pt x="2126117" y="643820"/>
                </a:moveTo>
                <a:lnTo>
                  <a:pt x="2203492" y="667839"/>
                </a:lnTo>
                <a:cubicBezTo>
                  <a:pt x="2357342" y="732912"/>
                  <a:pt x="2465294" y="885252"/>
                  <a:pt x="2465294" y="1062806"/>
                </a:cubicBezTo>
                <a:cubicBezTo>
                  <a:pt x="2465294" y="1240360"/>
                  <a:pt x="2357342" y="1392701"/>
                  <a:pt x="2203492" y="1457774"/>
                </a:cubicBezTo>
                <a:lnTo>
                  <a:pt x="2126117" y="1481792"/>
                </a:lnTo>
                <a:lnTo>
                  <a:pt x="2126117" y="643820"/>
                </a:lnTo>
                <a:close/>
                <a:moveTo>
                  <a:pt x="0" y="0"/>
                </a:moveTo>
                <a:lnTo>
                  <a:pt x="2126117" y="0"/>
                </a:lnTo>
                <a:lnTo>
                  <a:pt x="2126117" y="643820"/>
                </a:lnTo>
                <a:lnTo>
                  <a:pt x="2123030" y="642862"/>
                </a:lnTo>
                <a:cubicBezTo>
                  <a:pt x="2095125" y="637152"/>
                  <a:pt x="2066233" y="634153"/>
                  <a:pt x="2036641" y="634153"/>
                </a:cubicBezTo>
                <a:cubicBezTo>
                  <a:pt x="1799902" y="634153"/>
                  <a:pt x="1607988" y="826067"/>
                  <a:pt x="1607988" y="1062806"/>
                </a:cubicBezTo>
                <a:cubicBezTo>
                  <a:pt x="1607988" y="1299545"/>
                  <a:pt x="1799902" y="1491459"/>
                  <a:pt x="2036641" y="1491459"/>
                </a:cubicBezTo>
                <a:cubicBezTo>
                  <a:pt x="2066233" y="1491459"/>
                  <a:pt x="2095125" y="1488460"/>
                  <a:pt x="2123030" y="1482750"/>
                </a:cubicBezTo>
                <a:lnTo>
                  <a:pt x="2126117" y="1481792"/>
                </a:lnTo>
                <a:lnTo>
                  <a:pt x="2126117" y="2125612"/>
                </a:lnTo>
                <a:lnTo>
                  <a:pt x="0" y="2125612"/>
                </a:lnTo>
                <a:lnTo>
                  <a:pt x="0" y="0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68"/>
          <p:cNvSpPr/>
          <p:nvPr/>
        </p:nvSpPr>
        <p:spPr>
          <a:xfrm>
            <a:off x="3003480" y="2484360"/>
            <a:ext cx="2482920" cy="212580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295280" y="2116080"/>
            <a:ext cx="1533600" cy="2737800"/>
            <a:chOff x="1295280" y="2116080"/>
            <a:chExt cx="1533600" cy="2737800"/>
          </a:xfrm>
        </p:grpSpPr>
        <p:sp>
          <p:nvSpPr>
            <p:cNvPr id="194" name="文本框 20"/>
            <p:cNvSpPr/>
            <p:nvPr/>
          </p:nvSpPr>
          <p:spPr>
            <a:xfrm>
              <a:off x="133308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40"/>
            <p:cNvSpPr/>
            <p:nvPr/>
          </p:nvSpPr>
          <p:spPr>
            <a:xfrm>
              <a:off x="1295280" y="2116080"/>
              <a:ext cx="1457640" cy="459720"/>
            </a:xfrm>
            <a:prstGeom prst="rect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20"/>
            <p:cNvSpPr/>
            <p:nvPr/>
          </p:nvSpPr>
          <p:spPr>
            <a:xfrm>
              <a:off x="133308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20"/>
            <p:cNvSpPr/>
            <p:nvPr/>
          </p:nvSpPr>
          <p:spPr>
            <a:xfrm>
              <a:off x="133308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20"/>
            <p:cNvSpPr/>
            <p:nvPr/>
          </p:nvSpPr>
          <p:spPr>
            <a:xfrm>
              <a:off x="133308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44"/>
            <p:cNvSpPr/>
            <p:nvPr/>
          </p:nvSpPr>
          <p:spPr>
            <a:xfrm>
              <a:off x="133308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20"/>
            <p:cNvSpPr/>
            <p:nvPr/>
          </p:nvSpPr>
          <p:spPr>
            <a:xfrm>
              <a:off x="133308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33308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0f68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9213840" y="2116080"/>
            <a:ext cx="1533600" cy="2737800"/>
            <a:chOff x="9213840" y="2116080"/>
            <a:chExt cx="1533600" cy="2737800"/>
          </a:xfrm>
        </p:grpSpPr>
        <p:sp>
          <p:nvSpPr>
            <p:cNvPr id="203" name="文本框 20"/>
            <p:cNvSpPr/>
            <p:nvPr/>
          </p:nvSpPr>
          <p:spPr>
            <a:xfrm>
              <a:off x="9251640" y="26269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51"/>
            <p:cNvSpPr/>
            <p:nvPr/>
          </p:nvSpPr>
          <p:spPr>
            <a:xfrm>
              <a:off x="9213840" y="2116080"/>
              <a:ext cx="1457640" cy="4597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20"/>
            <p:cNvSpPr/>
            <p:nvPr/>
          </p:nvSpPr>
          <p:spPr>
            <a:xfrm>
              <a:off x="9251640" y="297432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20"/>
            <p:cNvSpPr/>
            <p:nvPr/>
          </p:nvSpPr>
          <p:spPr>
            <a:xfrm>
              <a:off x="9251640" y="32853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20"/>
            <p:cNvSpPr/>
            <p:nvPr/>
          </p:nvSpPr>
          <p:spPr>
            <a:xfrm>
              <a:off x="9251640" y="36381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5"/>
            <p:cNvSpPr/>
            <p:nvPr/>
          </p:nvSpPr>
          <p:spPr>
            <a:xfrm>
              <a:off x="9251640" y="393876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20"/>
            <p:cNvSpPr/>
            <p:nvPr/>
          </p:nvSpPr>
          <p:spPr>
            <a:xfrm>
              <a:off x="9251640" y="421704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20"/>
            <p:cNvSpPr/>
            <p:nvPr/>
          </p:nvSpPr>
          <p:spPr>
            <a:xfrm>
              <a:off x="9251640" y="4546800"/>
              <a:ext cx="149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8"/>
          <p:cNvSpPr/>
          <p:nvPr/>
        </p:nvSpPr>
        <p:spPr>
          <a:xfrm>
            <a:off x="3567240" y="3071880"/>
            <a:ext cx="20476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211800" y="3022560"/>
            <a:ext cx="2048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marL="114480" indent="-114480"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哎呀小小草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9CE6-F2FC-4FA1-9791-1F82018025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4"/>
          <p:cNvSpPr/>
          <p:nvPr/>
        </p:nvSpPr>
        <p:spPr>
          <a:xfrm>
            <a:off x="0" y="6524640"/>
            <a:ext cx="46656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75"/>
          <p:cNvSpPr/>
          <p:nvPr/>
        </p:nvSpPr>
        <p:spPr>
          <a:xfrm rot="16200000">
            <a:off x="79200" y="6546240"/>
            <a:ext cx="258840" cy="300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79"/>
          <p:cNvSpPr/>
          <p:nvPr/>
        </p:nvSpPr>
        <p:spPr>
          <a:xfrm rot="10800000">
            <a:off x="11724840" y="6494400"/>
            <a:ext cx="466920" cy="33336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等腰三角形 80"/>
          <p:cNvSpPr/>
          <p:nvPr/>
        </p:nvSpPr>
        <p:spPr>
          <a:xfrm rot="5400000">
            <a:off x="11863080" y="6516720"/>
            <a:ext cx="260280" cy="298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0" y="0"/>
            <a:ext cx="12192120" cy="84924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任意多边形 7"/>
          <p:cNvSpPr/>
          <p:nvPr/>
        </p:nvSpPr>
        <p:spPr>
          <a:xfrm>
            <a:off x="3021120" y="1325520"/>
            <a:ext cx="28890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"/>
          <p:cNvSpPr/>
          <p:nvPr/>
        </p:nvSpPr>
        <p:spPr>
          <a:xfrm>
            <a:off x="3021120" y="3895560"/>
            <a:ext cx="28890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9"/>
          <p:cNvSpPr/>
          <p:nvPr/>
        </p:nvSpPr>
        <p:spPr>
          <a:xfrm rot="10800000">
            <a:off x="6225840" y="1325160"/>
            <a:ext cx="2917800" cy="23241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0"/>
          <p:cNvSpPr/>
          <p:nvPr/>
        </p:nvSpPr>
        <p:spPr>
          <a:xfrm rot="10800000">
            <a:off x="6225840" y="3895200"/>
            <a:ext cx="2917800" cy="2325960"/>
          </a:xfrm>
          <a:custGeom>
            <a:avLst/>
            <a:gdLst/>
            <a:ahLst/>
            <a:rect l="l" t="t" r="r" b="b"/>
            <a:pathLst>
              <a:path w="2482039" h="2125612">
                <a:moveTo>
                  <a:pt x="355922" y="641485"/>
                </a:moveTo>
                <a:lnTo>
                  <a:pt x="355922" y="1484127"/>
                </a:lnTo>
                <a:lnTo>
                  <a:pt x="342265" y="1482750"/>
                </a:lnTo>
                <a:cubicBezTo>
                  <a:pt x="146934" y="1442780"/>
                  <a:pt x="0" y="1269953"/>
                  <a:pt x="0" y="1062806"/>
                </a:cubicBezTo>
                <a:cubicBezTo>
                  <a:pt x="0" y="855660"/>
                  <a:pt x="146934" y="682832"/>
                  <a:pt x="342265" y="642862"/>
                </a:cubicBezTo>
                <a:lnTo>
                  <a:pt x="355922" y="641485"/>
                </a:lnTo>
                <a:close/>
                <a:moveTo>
                  <a:pt x="355922" y="0"/>
                </a:moveTo>
                <a:lnTo>
                  <a:pt x="2482039" y="0"/>
                </a:lnTo>
                <a:lnTo>
                  <a:pt x="2482039" y="2125612"/>
                </a:lnTo>
                <a:lnTo>
                  <a:pt x="355922" y="2125612"/>
                </a:lnTo>
                <a:lnTo>
                  <a:pt x="355922" y="1484127"/>
                </a:lnTo>
                <a:lnTo>
                  <a:pt x="428653" y="1491459"/>
                </a:lnTo>
                <a:cubicBezTo>
                  <a:pt x="665392" y="1491459"/>
                  <a:pt x="857306" y="1299545"/>
                  <a:pt x="857306" y="1062806"/>
                </a:cubicBezTo>
                <a:cubicBezTo>
                  <a:pt x="857306" y="826067"/>
                  <a:pt x="665392" y="634153"/>
                  <a:pt x="428653" y="634153"/>
                </a:cubicBezTo>
                <a:lnTo>
                  <a:pt x="355922" y="641485"/>
                </a:lnTo>
                <a:lnTo>
                  <a:pt x="355922" y="0"/>
                </a:lnTo>
                <a:close/>
              </a:path>
            </a:pathLst>
          </a:cu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11"/>
          <p:cNvGrpSpPr/>
          <p:nvPr/>
        </p:nvGrpSpPr>
        <p:grpSpPr>
          <a:xfrm>
            <a:off x="4416480" y="2041560"/>
            <a:ext cx="1495440" cy="691920"/>
            <a:chOff x="4416480" y="2041560"/>
            <a:chExt cx="1495440" cy="691920"/>
          </a:xfrm>
        </p:grpSpPr>
        <p:sp>
          <p:nvSpPr>
            <p:cNvPr id="225" name="文本框 12"/>
            <p:cNvSpPr/>
            <p:nvPr/>
          </p:nvSpPr>
          <p:spPr>
            <a:xfrm>
              <a:off x="4416480" y="242640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0"/>
            <p:cNvSpPr/>
            <p:nvPr/>
          </p:nvSpPr>
          <p:spPr>
            <a:xfrm>
              <a:off x="4416480" y="204156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14"/>
          <p:cNvGrpSpPr/>
          <p:nvPr/>
        </p:nvGrpSpPr>
        <p:grpSpPr>
          <a:xfrm>
            <a:off x="6527880" y="2041560"/>
            <a:ext cx="1757160" cy="729000"/>
            <a:chOff x="6527880" y="2041560"/>
            <a:chExt cx="1757160" cy="729000"/>
          </a:xfrm>
        </p:grpSpPr>
        <p:sp>
          <p:nvSpPr>
            <p:cNvPr id="228" name="文本框 15"/>
            <p:cNvSpPr/>
            <p:nvPr/>
          </p:nvSpPr>
          <p:spPr>
            <a:xfrm>
              <a:off x="6527880" y="24634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0"/>
            <p:cNvSpPr/>
            <p:nvPr/>
          </p:nvSpPr>
          <p:spPr>
            <a:xfrm>
              <a:off x="6527880" y="204156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17"/>
          <p:cNvGrpSpPr/>
          <p:nvPr/>
        </p:nvGrpSpPr>
        <p:grpSpPr>
          <a:xfrm>
            <a:off x="4321080" y="4630680"/>
            <a:ext cx="1495440" cy="691920"/>
            <a:chOff x="4321080" y="4630680"/>
            <a:chExt cx="1495440" cy="691920"/>
          </a:xfrm>
        </p:grpSpPr>
        <p:sp>
          <p:nvSpPr>
            <p:cNvPr id="231" name="文本框 18"/>
            <p:cNvSpPr/>
            <p:nvPr/>
          </p:nvSpPr>
          <p:spPr>
            <a:xfrm>
              <a:off x="4321080" y="5015520"/>
              <a:ext cx="1495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20"/>
            <p:cNvSpPr/>
            <p:nvPr/>
          </p:nvSpPr>
          <p:spPr>
            <a:xfrm>
              <a:off x="4321080" y="4630680"/>
              <a:ext cx="1238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0"/>
          <p:cNvGrpSpPr/>
          <p:nvPr/>
        </p:nvGrpSpPr>
        <p:grpSpPr>
          <a:xfrm>
            <a:off x="6434280" y="4630680"/>
            <a:ext cx="1757160" cy="728280"/>
            <a:chOff x="6434280" y="4630680"/>
            <a:chExt cx="1757160" cy="728280"/>
          </a:xfrm>
        </p:grpSpPr>
        <p:sp>
          <p:nvSpPr>
            <p:cNvPr id="234" name="文本框 21"/>
            <p:cNvSpPr/>
            <p:nvPr/>
          </p:nvSpPr>
          <p:spPr>
            <a:xfrm>
              <a:off x="6434280" y="5051880"/>
              <a:ext cx="1757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0"/>
            <p:cNvSpPr/>
            <p:nvPr/>
          </p:nvSpPr>
          <p:spPr>
            <a:xfrm>
              <a:off x="6434280" y="4630680"/>
              <a:ext cx="1455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菱形 1"/>
          <p:cNvSpPr/>
          <p:nvPr/>
        </p:nvSpPr>
        <p:spPr>
          <a:xfrm>
            <a:off x="5524560" y="3308400"/>
            <a:ext cx="1066680" cy="10652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84200" y="6608880"/>
            <a:ext cx="460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 更多精品模板请访问：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达人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ppt</a:t>
            </a:r>
            <a:r>
              <a:rPr b="0" lang="en-US" sz="1000" spc="-1" strike="noStrike">
                <a:solidFill>
                  <a:srgbClr val="44546a"/>
                </a:solidFill>
                <a:latin typeface="微软雅黑"/>
                <a:ea typeface="微软雅黑"/>
              </a:rPr>
              <a:t>模板素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2:47:00Z</dcterms:created>
  <dc:creator>Sky123.Org</dc:creator>
  <dc:description/>
  <dc:language>en-US</dc:language>
  <cp:lastModifiedBy>Administrator</cp:lastModifiedBy>
  <dcterms:modified xsi:type="dcterms:W3CDTF">2016-08-02T07:00:01Z</dcterms:modified>
  <cp:revision>58</cp:revision>
  <dc:subject/>
  <dc:title>深蓝极简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