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7.png" ContentType="image/png"/>
  <Override PartName="/ppt/media/image45.jpeg" ContentType="image/jpeg"/>
  <Override PartName="/ppt/media/image30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4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7BC-33F4-454F-A122-D19F285C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C61-98D9-4960-8CE1-13829B06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DF4-BADB-4302-9F50-0B405E42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574-6398-4F49-A80F-33F7F41C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1B6-CA14-4D4A-B579-33D7C85E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ED5-9250-4E18-86A4-4DD76F54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95A-F970-41B8-A5C0-FCBC96F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3D4-71AB-4316-A06E-669DA7F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9EF-AE4B-45D3-834C-A969C62B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282-59D1-4FCE-AD15-3B53079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569-7986-44A9-A001-8A1D614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110-94A6-4FF0-B445-EE21BEB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6BEF-49E8-4578-BFCC-4223BD35B9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34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接连接符 7"/>
            <p:cNvSpPr/>
            <p:nvPr/>
          </p:nvSpPr>
          <p:spPr>
            <a:xfrm flipH="1">
              <a:off x="2732040" y="313380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64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66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0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74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0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83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85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89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393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02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3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04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17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0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23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26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28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0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32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42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45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48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51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54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5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56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8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72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3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74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6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3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4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5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1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7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8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23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24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25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35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37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5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4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5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5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6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6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6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/>
            <a:ahLst/>
            <a:rect l="l" t="t" r="r" b="b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0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83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6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7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8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89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94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96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8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29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31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36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39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41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7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48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0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6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08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11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14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0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1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22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4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38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0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2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64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66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6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6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6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11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14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17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2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25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7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29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35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Group 17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741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5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5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Text Box 30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68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71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74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77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0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1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82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Text Box 2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89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3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6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01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5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06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7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08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0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14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19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3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24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6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0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1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32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4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5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46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0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54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7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58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62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71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2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73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 Box 4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6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7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7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8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8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8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7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78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194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197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0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02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1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06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09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12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15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18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29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0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31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 Box 2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3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57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8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59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74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76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1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8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29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29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29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0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0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0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13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15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19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21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3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25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28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9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0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Text Box 2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Administrator</cp:lastModifiedBy>
  <dcterms:modified xsi:type="dcterms:W3CDTF">2016-08-02T03:45:47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