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3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F2F5-BD34-47D2-A4C1-7C2EA81B3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C273-554D-4DD4-AD82-848F71E7A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04C6-F226-49F4-922D-540AF4198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18AB-B2F5-46F7-9BE5-41D2A7699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181A-BC38-4C15-AC53-8E3322A4B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5A8B-033F-4E9B-8618-0E4C28FFC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8253-5ED5-4416-BBA7-C15486F19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9043-2F73-44AC-87B4-D32D6806D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2F9C-1217-4AAB-820A-755E9B9BC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749B-1267-46F9-80F6-9D982B33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DC47-25D5-4775-8889-0E21873B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EEC0-FACC-4968-85EB-4F08AEC7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6EA73-BCBC-4D45-8DBC-97E09A83B98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6D766-7648-45CD-B13B-946102A0643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8.png"/><Relationship Id="rId10" Type="http://schemas.openxmlformats.org/officeDocument/2006/relationships/image" Target="../media/image9.wmf"/><Relationship Id="rId11" Type="http://schemas.openxmlformats.org/officeDocument/2006/relationships/image" Target="../media/image11.png"/><Relationship Id="rId12" Type="http://schemas.openxmlformats.org/officeDocument/2006/relationships/image" Target="../media/image8.png"/><Relationship Id="rId13" Type="http://schemas.openxmlformats.org/officeDocument/2006/relationships/image" Target="../media/image9.wmf"/><Relationship Id="rId14" Type="http://schemas.openxmlformats.org/officeDocument/2006/relationships/image" Target="../media/image12.png"/><Relationship Id="rId15" Type="http://schemas.openxmlformats.org/officeDocument/2006/relationships/image" Target="../media/image8.png"/><Relationship Id="rId16" Type="http://schemas.openxmlformats.org/officeDocument/2006/relationships/image" Target="../media/image9.wmf"/><Relationship Id="rId17" Type="http://schemas.openxmlformats.org/officeDocument/2006/relationships/image" Target="../media/image11.png"/><Relationship Id="rId1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4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42" name="图片 13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43" name="图片 12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pic>
        <p:nvPicPr>
          <p:cNvPr id="44" name="图片 10" descr=""/>
          <p:cNvPicPr/>
          <p:nvPr/>
        </p:nvPicPr>
        <p:blipFill>
          <a:blip r:embed="rId5"/>
          <a:srcRect l="10436" t="0" r="56809" b="54695"/>
          <a:stretch/>
        </p:blipFill>
        <p:spPr>
          <a:xfrm>
            <a:off x="4035600" y="108000"/>
            <a:ext cx="4120920" cy="2506680"/>
          </a:xfrm>
          <a:prstGeom prst="rect">
            <a:avLst/>
          </a:prstGeom>
          <a:ln w="0">
            <a:noFill/>
          </a:ln>
        </p:spPr>
      </p:pic>
      <p:sp>
        <p:nvSpPr>
          <p:cNvPr id="45" name="文本框 15"/>
          <p:cNvSpPr/>
          <p:nvPr/>
        </p:nvSpPr>
        <p:spPr>
          <a:xfrm>
            <a:off x="5484960" y="2890800"/>
            <a:ext cx="12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e0000"/>
                </a:solidFill>
                <a:latin typeface="Calibri"/>
                <a:ea typeface="Calibri"/>
              </a:rPr>
              <a:t>LET'S 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16"/>
          <p:cNvSpPr/>
          <p:nvPr/>
        </p:nvSpPr>
        <p:spPr>
          <a:xfrm>
            <a:off x="4369680" y="3438360"/>
            <a:ext cx="34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e0000"/>
                </a:solidFill>
                <a:latin typeface="微软雅黑"/>
                <a:ea typeface="微软雅黑"/>
              </a:rPr>
              <a:t>企业集团公司年中工作汇报总结商务通用</a:t>
            </a:r>
            <a:r>
              <a:rPr b="1" lang="en-US" sz="1800" spc="-1" strike="noStrike">
                <a:solidFill>
                  <a:srgbClr val="9e0000"/>
                </a:solidFill>
                <a:latin typeface="微软雅黑"/>
                <a:ea typeface="微软雅黑"/>
              </a:rPr>
              <a:t>PPT</a:t>
            </a:r>
            <a:r>
              <a:rPr b="1" lang="zh-CN" sz="1800" spc="-1" strike="noStrike">
                <a:solidFill>
                  <a:srgbClr val="9e0000"/>
                </a:solidFill>
                <a:latin typeface="微软雅黑"/>
                <a:ea typeface="微软雅黑"/>
              </a:rPr>
              <a:t>模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5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75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23" presetSubtype="36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7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7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7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7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23" presetSubtype="3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23" presetSubtype="3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5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5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5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5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8469F-BCA6-48EF-9B78-5EED0706745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276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277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278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280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5556240" y="765000"/>
            <a:ext cx="2406600" cy="3048120"/>
          </a:xfrm>
          <a:prstGeom prst="rect">
            <a:avLst/>
          </a:prstGeom>
          <a:gradFill rotWithShape="0">
            <a:gsLst>
              <a:gs pos="0">
                <a:srgbClr val="ff0517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4"/>
          <p:cNvSpPr/>
          <p:nvPr/>
        </p:nvSpPr>
        <p:spPr>
          <a:xfrm rot="10800000">
            <a:off x="2896920" y="4600080"/>
            <a:ext cx="2576520" cy="24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822" y="21600"/>
                </a:lnTo>
                <a:lnTo>
                  <a:pt x="1877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8132760" y="1365120"/>
            <a:ext cx="2405160" cy="30481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6"/>
          <p:cNvSpPr/>
          <p:nvPr/>
        </p:nvSpPr>
        <p:spPr>
          <a:xfrm rot="10800000">
            <a:off x="2470320" y="5781240"/>
            <a:ext cx="8578800" cy="496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 rot="10800000">
            <a:off x="2896920" y="4858920"/>
            <a:ext cx="2576520" cy="9190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8"/>
          <p:cNvSpPr/>
          <p:nvPr/>
        </p:nvSpPr>
        <p:spPr>
          <a:xfrm rot="10800000">
            <a:off x="5470200" y="4095720"/>
            <a:ext cx="2576520" cy="1682640"/>
          </a:xfrm>
          <a:prstGeom prst="rect">
            <a:avLst/>
          </a:prstGeom>
          <a:gradFill rotWithShape="0">
            <a:gsLst>
              <a:gs pos="0">
                <a:srgbClr val="bc000d"/>
              </a:gs>
              <a:gs pos="100000">
                <a:srgbClr val="ff0517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9"/>
          <p:cNvSpPr/>
          <p:nvPr/>
        </p:nvSpPr>
        <p:spPr>
          <a:xfrm rot="10800000">
            <a:off x="5470200" y="3765600"/>
            <a:ext cx="2576520" cy="317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4551" y="21600"/>
                </a:lnTo>
                <a:lnTo>
                  <a:pt x="17049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517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0"/>
          <p:cNvSpPr/>
          <p:nvPr/>
        </p:nvSpPr>
        <p:spPr>
          <a:xfrm rot="10800000">
            <a:off x="8044920" y="4670280"/>
            <a:ext cx="2576520" cy="11080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11"/>
          <p:cNvSpPr/>
          <p:nvPr/>
        </p:nvSpPr>
        <p:spPr>
          <a:xfrm rot="10800000">
            <a:off x="8044920" y="4405320"/>
            <a:ext cx="2576520" cy="249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3584" y="21600"/>
                </a:lnTo>
                <a:lnTo>
                  <a:pt x="18016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WordArt 12"/>
          <p:cNvSpPr txBox="1"/>
          <p:nvPr/>
        </p:nvSpPr>
        <p:spPr>
          <a:xfrm>
            <a:off x="6561000" y="4514760"/>
            <a:ext cx="397080" cy="71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bevel/>
                </a:ln>
                <a:solidFill>
                  <a:srgbClr val="ffffff"/>
                </a:solidFill>
                <a:latin typeface="黑体"/>
              </a:rPr>
              <a:t>1</a:t>
            </a:r>
            <a:endParaRPr b="1" i="1" lang="en-US" sz="2400" spc="1" strike="noStrike">
              <a:ln w="9360">
                <a:solidFill>
                  <a:srgbClr val="ffffff"/>
                </a:solidFill>
                <a:beve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92" name="WordArt 13"/>
          <p:cNvSpPr txBox="1"/>
          <p:nvPr/>
        </p:nvSpPr>
        <p:spPr>
          <a:xfrm>
            <a:off x="3965400" y="5037120"/>
            <a:ext cx="492480" cy="6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bevel/>
                </a:ln>
                <a:solidFill>
                  <a:srgbClr val="b2b2b2"/>
                </a:solidFill>
                <a:latin typeface="黑体"/>
              </a:rPr>
              <a:t>3</a:t>
            </a:r>
            <a:endParaRPr b="1" i="1" lang="en-US" sz="2400" spc="1" strike="noStrike">
              <a:ln w="9360">
                <a:solidFill>
                  <a:srgbClr val="ffffff"/>
                </a:solidFill>
                <a:bevel/>
              </a:ln>
              <a:solidFill>
                <a:srgbClr val="b2b2b2"/>
              </a:solidFill>
              <a:latin typeface="黑体"/>
              <a:ea typeface="黑体"/>
            </a:endParaRPr>
          </a:p>
        </p:txBody>
      </p:sp>
      <p:sp>
        <p:nvSpPr>
          <p:cNvPr id="293" name="WordArt 14"/>
          <p:cNvSpPr txBox="1"/>
          <p:nvPr/>
        </p:nvSpPr>
        <p:spPr>
          <a:xfrm>
            <a:off x="9075600" y="4917960"/>
            <a:ext cx="492120" cy="61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bevel/>
                </a:ln>
                <a:solidFill>
                  <a:srgbClr val="b2b2b2"/>
                </a:solidFill>
                <a:latin typeface="黑体"/>
              </a:rPr>
              <a:t>2</a:t>
            </a:r>
            <a:endParaRPr b="1" i="1" lang="en-US" sz="2400" spc="1" strike="noStrike">
              <a:ln w="9360">
                <a:solidFill>
                  <a:srgbClr val="ffffff"/>
                </a:solidFill>
                <a:bevel/>
              </a:ln>
              <a:solidFill>
                <a:srgbClr val="b2b2b2"/>
              </a:solidFill>
              <a:latin typeface="黑体"/>
              <a:ea typeface="黑体"/>
            </a:endParaRPr>
          </a:p>
        </p:txBody>
      </p:sp>
      <p:sp>
        <p:nvSpPr>
          <p:cNvPr id="294" name="Rectangle 15"/>
          <p:cNvSpPr/>
          <p:nvPr/>
        </p:nvSpPr>
        <p:spPr>
          <a:xfrm>
            <a:off x="2984400" y="1536840"/>
            <a:ext cx="2406600" cy="30477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6"/>
          <p:cNvSpPr/>
          <p:nvPr/>
        </p:nvSpPr>
        <p:spPr>
          <a:xfrm>
            <a:off x="2984400" y="1881360"/>
            <a:ext cx="24019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7"/>
          <p:cNvSpPr/>
          <p:nvPr/>
        </p:nvSpPr>
        <p:spPr>
          <a:xfrm>
            <a:off x="5557680" y="1193760"/>
            <a:ext cx="24019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8"/>
          <p:cNvSpPr/>
          <p:nvPr/>
        </p:nvSpPr>
        <p:spPr>
          <a:xfrm>
            <a:off x="8132760" y="1708200"/>
            <a:ext cx="24019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19" descr="10"/>
          <p:cNvPicPr/>
          <p:nvPr/>
        </p:nvPicPr>
        <p:blipFill>
          <a:blip r:embed="rId6"/>
          <a:stretch/>
        </p:blipFill>
        <p:spPr>
          <a:xfrm>
            <a:off x="1266840" y="2733840"/>
            <a:ext cx="1420920" cy="6264000"/>
          </a:xfrm>
          <a:prstGeom prst="rect">
            <a:avLst/>
          </a:prstGeom>
          <a:ln w="0">
            <a:noFill/>
          </a:ln>
        </p:spPr>
      </p:pic>
    </p:spTree>
  </p:cSld>
  <p:transition spd="slow" advTm="0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D1BE8-26CC-49D7-8A3D-24F0754149D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图片 14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301" name="图片 13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302" name="图片 12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303" name="任意多边形 4"/>
          <p:cNvSpPr/>
          <p:nvPr/>
        </p:nvSpPr>
        <p:spPr>
          <a:xfrm>
            <a:off x="1844640" y="1343160"/>
            <a:ext cx="8170920" cy="2139840"/>
          </a:xfrm>
          <a:custGeom>
            <a:avLst/>
            <a:gdLst/>
            <a:ahLst/>
            <a:rect l="l" t="t" r="r" b="b"/>
            <a:pathLst>
              <a:path w="6634280" h="1738203">
                <a:moveTo>
                  <a:pt x="3326681" y="1342526"/>
                </a:moveTo>
                <a:lnTo>
                  <a:pt x="3324688" y="1342739"/>
                </a:lnTo>
                <a:lnTo>
                  <a:pt x="3327475" y="1344906"/>
                </a:lnTo>
                <a:lnTo>
                  <a:pt x="3326681" y="1342526"/>
                </a:lnTo>
                <a:close/>
                <a:moveTo>
                  <a:pt x="3526967" y="1321134"/>
                </a:moveTo>
                <a:lnTo>
                  <a:pt x="3519137" y="1321970"/>
                </a:lnTo>
                <a:lnTo>
                  <a:pt x="3523747" y="1325428"/>
                </a:lnTo>
                <a:lnTo>
                  <a:pt x="3523088" y="1326307"/>
                </a:lnTo>
                <a:lnTo>
                  <a:pt x="3517596" y="1340036"/>
                </a:lnTo>
                <a:lnTo>
                  <a:pt x="3536818" y="1337290"/>
                </a:lnTo>
                <a:lnTo>
                  <a:pt x="3529679" y="1330151"/>
                </a:lnTo>
                <a:lnTo>
                  <a:pt x="3528580" y="1331799"/>
                </a:lnTo>
                <a:lnTo>
                  <a:pt x="3529129" y="1329602"/>
                </a:lnTo>
                <a:lnTo>
                  <a:pt x="3528580" y="1329053"/>
                </a:lnTo>
                <a:lnTo>
                  <a:pt x="3523747" y="1325428"/>
                </a:lnTo>
                <a:lnTo>
                  <a:pt x="3526967" y="1321134"/>
                </a:lnTo>
                <a:close/>
                <a:moveTo>
                  <a:pt x="3599976" y="1298847"/>
                </a:moveTo>
                <a:lnTo>
                  <a:pt x="3575262" y="1301593"/>
                </a:lnTo>
                <a:lnTo>
                  <a:pt x="3574250" y="1301882"/>
                </a:lnTo>
                <a:lnTo>
                  <a:pt x="3577576" y="1302436"/>
                </a:lnTo>
                <a:lnTo>
                  <a:pt x="3603861" y="1299304"/>
                </a:lnTo>
                <a:lnTo>
                  <a:pt x="3599976" y="1298847"/>
                </a:lnTo>
                <a:close/>
                <a:moveTo>
                  <a:pt x="3767126" y="1295483"/>
                </a:moveTo>
                <a:lnTo>
                  <a:pt x="3755086" y="1296769"/>
                </a:lnTo>
                <a:lnTo>
                  <a:pt x="3764735" y="1301593"/>
                </a:lnTo>
                <a:lnTo>
                  <a:pt x="3765911" y="1302769"/>
                </a:lnTo>
                <a:lnTo>
                  <a:pt x="3767126" y="1295483"/>
                </a:lnTo>
                <a:close/>
                <a:moveTo>
                  <a:pt x="5384650" y="1258502"/>
                </a:moveTo>
                <a:lnTo>
                  <a:pt x="5387607" y="1265895"/>
                </a:lnTo>
                <a:lnTo>
                  <a:pt x="5393099" y="1268641"/>
                </a:lnTo>
                <a:lnTo>
                  <a:pt x="5398590" y="1271387"/>
                </a:lnTo>
                <a:lnTo>
                  <a:pt x="5404082" y="1274132"/>
                </a:lnTo>
                <a:lnTo>
                  <a:pt x="5409574" y="1279624"/>
                </a:lnTo>
                <a:lnTo>
                  <a:pt x="5412320" y="1287862"/>
                </a:lnTo>
                <a:lnTo>
                  <a:pt x="5412320" y="1296100"/>
                </a:lnTo>
                <a:lnTo>
                  <a:pt x="5409574" y="1298846"/>
                </a:lnTo>
                <a:lnTo>
                  <a:pt x="5404082" y="1307084"/>
                </a:lnTo>
                <a:lnTo>
                  <a:pt x="5401336" y="1309830"/>
                </a:lnTo>
                <a:lnTo>
                  <a:pt x="5395844" y="1309830"/>
                </a:lnTo>
                <a:lnTo>
                  <a:pt x="5393099" y="1309830"/>
                </a:lnTo>
                <a:lnTo>
                  <a:pt x="5382115" y="1307084"/>
                </a:lnTo>
                <a:lnTo>
                  <a:pt x="5373877" y="1298846"/>
                </a:lnTo>
                <a:lnTo>
                  <a:pt x="5373877" y="1287862"/>
                </a:lnTo>
                <a:lnTo>
                  <a:pt x="5376623" y="1282370"/>
                </a:lnTo>
                <a:lnTo>
                  <a:pt x="5379369" y="1276878"/>
                </a:lnTo>
                <a:lnTo>
                  <a:pt x="5382115" y="1268641"/>
                </a:lnTo>
                <a:lnTo>
                  <a:pt x="5384650" y="1258502"/>
                </a:lnTo>
                <a:close/>
                <a:moveTo>
                  <a:pt x="5382548" y="1232220"/>
                </a:moveTo>
                <a:lnTo>
                  <a:pt x="5384861" y="1257657"/>
                </a:lnTo>
                <a:lnTo>
                  <a:pt x="5384650" y="1258502"/>
                </a:lnTo>
                <a:lnTo>
                  <a:pt x="5382115" y="1252165"/>
                </a:lnTo>
                <a:lnTo>
                  <a:pt x="5382115" y="1235689"/>
                </a:lnTo>
                <a:lnTo>
                  <a:pt x="5382548" y="1232220"/>
                </a:lnTo>
                <a:close/>
                <a:moveTo>
                  <a:pt x="4338643" y="1216468"/>
                </a:moveTo>
                <a:lnTo>
                  <a:pt x="4338643" y="1219214"/>
                </a:lnTo>
                <a:lnTo>
                  <a:pt x="4338643" y="1221960"/>
                </a:lnTo>
                <a:lnTo>
                  <a:pt x="4344135" y="1219214"/>
                </a:lnTo>
                <a:lnTo>
                  <a:pt x="4344135" y="1216468"/>
                </a:lnTo>
                <a:lnTo>
                  <a:pt x="4338643" y="1216468"/>
                </a:lnTo>
                <a:close/>
                <a:moveTo>
                  <a:pt x="4300199" y="1213722"/>
                </a:moveTo>
                <a:lnTo>
                  <a:pt x="4298827" y="1215095"/>
                </a:lnTo>
                <a:lnTo>
                  <a:pt x="4300199" y="1216467"/>
                </a:lnTo>
                <a:lnTo>
                  <a:pt x="4297453" y="1219213"/>
                </a:lnTo>
                <a:lnTo>
                  <a:pt x="4297449" y="1219214"/>
                </a:lnTo>
                <a:lnTo>
                  <a:pt x="4300199" y="1219214"/>
                </a:lnTo>
                <a:lnTo>
                  <a:pt x="4305691" y="1221960"/>
                </a:lnTo>
                <a:lnTo>
                  <a:pt x="4308437" y="1224706"/>
                </a:lnTo>
                <a:lnTo>
                  <a:pt x="4311183" y="1221960"/>
                </a:lnTo>
                <a:lnTo>
                  <a:pt x="4308437" y="1221960"/>
                </a:lnTo>
                <a:lnTo>
                  <a:pt x="4308437" y="1219214"/>
                </a:lnTo>
                <a:lnTo>
                  <a:pt x="4308437" y="1216468"/>
                </a:lnTo>
                <a:lnTo>
                  <a:pt x="4302945" y="1216468"/>
                </a:lnTo>
                <a:lnTo>
                  <a:pt x="4300199" y="1213722"/>
                </a:lnTo>
                <a:close/>
                <a:moveTo>
                  <a:pt x="4492418" y="1210976"/>
                </a:moveTo>
                <a:lnTo>
                  <a:pt x="4492418" y="1213722"/>
                </a:lnTo>
                <a:lnTo>
                  <a:pt x="4497910" y="1213722"/>
                </a:lnTo>
                <a:lnTo>
                  <a:pt x="4497910" y="1210976"/>
                </a:lnTo>
                <a:lnTo>
                  <a:pt x="4492418" y="1210976"/>
                </a:lnTo>
                <a:close/>
                <a:moveTo>
                  <a:pt x="4434752" y="1199992"/>
                </a:moveTo>
                <a:lnTo>
                  <a:pt x="4429260" y="1202738"/>
                </a:lnTo>
                <a:lnTo>
                  <a:pt x="4429260" y="1208230"/>
                </a:lnTo>
                <a:lnTo>
                  <a:pt x="4434752" y="1208230"/>
                </a:lnTo>
                <a:lnTo>
                  <a:pt x="4434752" y="1199992"/>
                </a:lnTo>
                <a:close/>
                <a:moveTo>
                  <a:pt x="4404547" y="1194500"/>
                </a:moveTo>
                <a:lnTo>
                  <a:pt x="4401801" y="1197246"/>
                </a:lnTo>
                <a:lnTo>
                  <a:pt x="4401801" y="1199992"/>
                </a:lnTo>
                <a:lnTo>
                  <a:pt x="4404547" y="1199992"/>
                </a:lnTo>
                <a:lnTo>
                  <a:pt x="4412784" y="1199992"/>
                </a:lnTo>
                <a:lnTo>
                  <a:pt x="4412784" y="1194500"/>
                </a:lnTo>
                <a:lnTo>
                  <a:pt x="4404547" y="1194500"/>
                </a:lnTo>
                <a:close/>
                <a:moveTo>
                  <a:pt x="6049387" y="1158802"/>
                </a:moveTo>
                <a:lnTo>
                  <a:pt x="6054021" y="1160347"/>
                </a:lnTo>
                <a:lnTo>
                  <a:pt x="6054879" y="1161548"/>
                </a:lnTo>
                <a:lnTo>
                  <a:pt x="6049387" y="1158802"/>
                </a:lnTo>
                <a:close/>
                <a:moveTo>
                  <a:pt x="5062413" y="1157634"/>
                </a:moveTo>
                <a:lnTo>
                  <a:pt x="5057771" y="1158125"/>
                </a:lnTo>
                <a:lnTo>
                  <a:pt x="5066327" y="1161548"/>
                </a:lnTo>
                <a:lnTo>
                  <a:pt x="5062413" y="1157634"/>
                </a:lnTo>
                <a:close/>
                <a:moveTo>
                  <a:pt x="4945951" y="1148115"/>
                </a:moveTo>
                <a:lnTo>
                  <a:pt x="4904314" y="1150564"/>
                </a:lnTo>
                <a:lnTo>
                  <a:pt x="4912552" y="1156056"/>
                </a:lnTo>
                <a:lnTo>
                  <a:pt x="4923536" y="1161548"/>
                </a:lnTo>
                <a:lnTo>
                  <a:pt x="4934520" y="1161548"/>
                </a:lnTo>
                <a:lnTo>
                  <a:pt x="4945504" y="1158802"/>
                </a:lnTo>
                <a:lnTo>
                  <a:pt x="4958813" y="1155845"/>
                </a:lnTo>
                <a:lnTo>
                  <a:pt x="4953742" y="1153310"/>
                </a:lnTo>
                <a:lnTo>
                  <a:pt x="4945951" y="1148115"/>
                </a:lnTo>
                <a:close/>
                <a:moveTo>
                  <a:pt x="5014153" y="1139581"/>
                </a:moveTo>
                <a:lnTo>
                  <a:pt x="5010164" y="1140578"/>
                </a:lnTo>
                <a:lnTo>
                  <a:pt x="5019988" y="1139923"/>
                </a:lnTo>
                <a:lnTo>
                  <a:pt x="5019645" y="1139581"/>
                </a:lnTo>
                <a:lnTo>
                  <a:pt x="5014153" y="1139581"/>
                </a:lnTo>
                <a:close/>
                <a:moveTo>
                  <a:pt x="4907060" y="1136835"/>
                </a:moveTo>
                <a:lnTo>
                  <a:pt x="4909806" y="1142327"/>
                </a:lnTo>
                <a:lnTo>
                  <a:pt x="4912552" y="1142327"/>
                </a:lnTo>
                <a:lnTo>
                  <a:pt x="4915298" y="1139581"/>
                </a:lnTo>
                <a:lnTo>
                  <a:pt x="4915298" y="1136835"/>
                </a:lnTo>
                <a:lnTo>
                  <a:pt x="4907060" y="1136835"/>
                </a:lnTo>
                <a:close/>
                <a:moveTo>
                  <a:pt x="5176166" y="1131343"/>
                </a:moveTo>
                <a:lnTo>
                  <a:pt x="5176166" y="1136835"/>
                </a:lnTo>
                <a:lnTo>
                  <a:pt x="5177645" y="1139791"/>
                </a:lnTo>
                <a:lnTo>
                  <a:pt x="5178912" y="1139580"/>
                </a:lnTo>
                <a:lnTo>
                  <a:pt x="5189896" y="1136834"/>
                </a:lnTo>
                <a:lnTo>
                  <a:pt x="5189896" y="1134089"/>
                </a:lnTo>
                <a:lnTo>
                  <a:pt x="5187150" y="1134089"/>
                </a:lnTo>
                <a:lnTo>
                  <a:pt x="5181658" y="1131343"/>
                </a:lnTo>
                <a:lnTo>
                  <a:pt x="5178912" y="1131343"/>
                </a:lnTo>
                <a:lnTo>
                  <a:pt x="5176166" y="1131343"/>
                </a:lnTo>
                <a:close/>
                <a:moveTo>
                  <a:pt x="6075474" y="1129969"/>
                </a:moveTo>
                <a:lnTo>
                  <a:pt x="6076847" y="1131342"/>
                </a:lnTo>
                <a:lnTo>
                  <a:pt x="6079593" y="1136834"/>
                </a:lnTo>
                <a:lnTo>
                  <a:pt x="6079593" y="1142326"/>
                </a:lnTo>
                <a:lnTo>
                  <a:pt x="6076847" y="1134088"/>
                </a:lnTo>
                <a:lnTo>
                  <a:pt x="6075474" y="1129969"/>
                </a:lnTo>
                <a:close/>
                <a:moveTo>
                  <a:pt x="5104771" y="1128597"/>
                </a:moveTo>
                <a:lnTo>
                  <a:pt x="5104771" y="1130884"/>
                </a:lnTo>
                <a:lnTo>
                  <a:pt x="5115753" y="1129969"/>
                </a:lnTo>
                <a:lnTo>
                  <a:pt x="5113009" y="1128597"/>
                </a:lnTo>
                <a:lnTo>
                  <a:pt x="5104771" y="1128597"/>
                </a:lnTo>
                <a:close/>
                <a:moveTo>
                  <a:pt x="5093787" y="1128597"/>
                </a:moveTo>
                <a:lnTo>
                  <a:pt x="5092011" y="1132149"/>
                </a:lnTo>
                <a:lnTo>
                  <a:pt x="5096807" y="1131617"/>
                </a:lnTo>
                <a:lnTo>
                  <a:pt x="5093787" y="1128597"/>
                </a:lnTo>
                <a:close/>
                <a:moveTo>
                  <a:pt x="5140468" y="1123105"/>
                </a:moveTo>
                <a:lnTo>
                  <a:pt x="5137723" y="1128596"/>
                </a:lnTo>
                <a:lnTo>
                  <a:pt x="5145961" y="1131342"/>
                </a:lnTo>
                <a:lnTo>
                  <a:pt x="5151452" y="1136833"/>
                </a:lnTo>
                <a:lnTo>
                  <a:pt x="5151452" y="1128597"/>
                </a:lnTo>
                <a:lnTo>
                  <a:pt x="5145960" y="1125851"/>
                </a:lnTo>
                <a:lnTo>
                  <a:pt x="5140468" y="1123105"/>
                </a:lnTo>
                <a:close/>
                <a:moveTo>
                  <a:pt x="5121247" y="1123105"/>
                </a:moveTo>
                <a:lnTo>
                  <a:pt x="5121247" y="1128597"/>
                </a:lnTo>
                <a:lnTo>
                  <a:pt x="5120249" y="1129594"/>
                </a:lnTo>
                <a:lnTo>
                  <a:pt x="5128465" y="1128910"/>
                </a:lnTo>
                <a:lnTo>
                  <a:pt x="5129485" y="1125851"/>
                </a:lnTo>
                <a:lnTo>
                  <a:pt x="5126739" y="1125851"/>
                </a:lnTo>
                <a:lnTo>
                  <a:pt x="5123993" y="1125851"/>
                </a:lnTo>
                <a:lnTo>
                  <a:pt x="5121247" y="1123105"/>
                </a:lnTo>
                <a:close/>
                <a:moveTo>
                  <a:pt x="6046642" y="1120359"/>
                </a:moveTo>
                <a:lnTo>
                  <a:pt x="6047557" y="1120359"/>
                </a:lnTo>
                <a:lnTo>
                  <a:pt x="6046642" y="1123104"/>
                </a:lnTo>
                <a:lnTo>
                  <a:pt x="6043896" y="1134088"/>
                </a:lnTo>
                <a:lnTo>
                  <a:pt x="6079593" y="1142326"/>
                </a:lnTo>
                <a:lnTo>
                  <a:pt x="6076847" y="1150564"/>
                </a:lnTo>
                <a:lnTo>
                  <a:pt x="6071355" y="1156056"/>
                </a:lnTo>
                <a:lnTo>
                  <a:pt x="6065863" y="1161548"/>
                </a:lnTo>
                <a:lnTo>
                  <a:pt x="6057625" y="1161548"/>
                </a:lnTo>
                <a:lnTo>
                  <a:pt x="6054021" y="1160347"/>
                </a:lnTo>
                <a:lnTo>
                  <a:pt x="6041150" y="1142326"/>
                </a:lnTo>
                <a:lnTo>
                  <a:pt x="6043896" y="1153310"/>
                </a:lnTo>
                <a:lnTo>
                  <a:pt x="6049387" y="1158802"/>
                </a:lnTo>
                <a:lnTo>
                  <a:pt x="6041150" y="1156056"/>
                </a:lnTo>
                <a:lnTo>
                  <a:pt x="6035658" y="1147818"/>
                </a:lnTo>
                <a:lnTo>
                  <a:pt x="6032912" y="1142326"/>
                </a:lnTo>
                <a:lnTo>
                  <a:pt x="6035658" y="1134088"/>
                </a:lnTo>
                <a:lnTo>
                  <a:pt x="6041150" y="1125850"/>
                </a:lnTo>
                <a:lnTo>
                  <a:pt x="6046642" y="1120359"/>
                </a:lnTo>
                <a:close/>
                <a:moveTo>
                  <a:pt x="5318957" y="1117613"/>
                </a:moveTo>
                <a:lnTo>
                  <a:pt x="5324449" y="1117613"/>
                </a:lnTo>
                <a:lnTo>
                  <a:pt x="5329941" y="1117613"/>
                </a:lnTo>
                <a:lnTo>
                  <a:pt x="5338179" y="1120359"/>
                </a:lnTo>
                <a:lnTo>
                  <a:pt x="5354655" y="1128597"/>
                </a:lnTo>
                <a:lnTo>
                  <a:pt x="5294243" y="1134089"/>
                </a:lnTo>
                <a:lnTo>
                  <a:pt x="5318957" y="1120359"/>
                </a:lnTo>
                <a:lnTo>
                  <a:pt x="5318957" y="1117613"/>
                </a:lnTo>
                <a:close/>
                <a:moveTo>
                  <a:pt x="4901568" y="1117613"/>
                </a:moveTo>
                <a:lnTo>
                  <a:pt x="4885093" y="1120359"/>
                </a:lnTo>
                <a:lnTo>
                  <a:pt x="4868617" y="1123105"/>
                </a:lnTo>
                <a:lnTo>
                  <a:pt x="4835665" y="1136835"/>
                </a:lnTo>
                <a:lnTo>
                  <a:pt x="4805459" y="1150564"/>
                </a:lnTo>
                <a:lnTo>
                  <a:pt x="4799967" y="1147819"/>
                </a:lnTo>
                <a:lnTo>
                  <a:pt x="4794475" y="1145073"/>
                </a:lnTo>
                <a:lnTo>
                  <a:pt x="4788983" y="1145073"/>
                </a:lnTo>
                <a:lnTo>
                  <a:pt x="4780745" y="1153310"/>
                </a:lnTo>
                <a:lnTo>
                  <a:pt x="4775253" y="1158802"/>
                </a:lnTo>
                <a:lnTo>
                  <a:pt x="4775253" y="1167040"/>
                </a:lnTo>
                <a:lnTo>
                  <a:pt x="4777999" y="1172532"/>
                </a:lnTo>
                <a:lnTo>
                  <a:pt x="4783491" y="1172532"/>
                </a:lnTo>
                <a:lnTo>
                  <a:pt x="4791729" y="1175278"/>
                </a:lnTo>
                <a:lnTo>
                  <a:pt x="4805459" y="1175278"/>
                </a:lnTo>
                <a:lnTo>
                  <a:pt x="4816443" y="1175278"/>
                </a:lnTo>
                <a:lnTo>
                  <a:pt x="4810951" y="1167040"/>
                </a:lnTo>
                <a:lnTo>
                  <a:pt x="4810951" y="1161548"/>
                </a:lnTo>
                <a:lnTo>
                  <a:pt x="4810951" y="1158802"/>
                </a:lnTo>
                <a:lnTo>
                  <a:pt x="4827427" y="1156056"/>
                </a:lnTo>
                <a:lnTo>
                  <a:pt x="4841157" y="1153310"/>
                </a:lnTo>
                <a:lnTo>
                  <a:pt x="4852141" y="1150564"/>
                </a:lnTo>
                <a:lnTo>
                  <a:pt x="4863125" y="1147819"/>
                </a:lnTo>
                <a:lnTo>
                  <a:pt x="4865871" y="1147819"/>
                </a:lnTo>
                <a:lnTo>
                  <a:pt x="4865871" y="1150564"/>
                </a:lnTo>
                <a:lnTo>
                  <a:pt x="4868617" y="1150564"/>
                </a:lnTo>
                <a:lnTo>
                  <a:pt x="4876855" y="1156056"/>
                </a:lnTo>
                <a:lnTo>
                  <a:pt x="4879601" y="1156056"/>
                </a:lnTo>
                <a:lnTo>
                  <a:pt x="4885093" y="1156056"/>
                </a:lnTo>
                <a:lnTo>
                  <a:pt x="4893330" y="1147819"/>
                </a:lnTo>
                <a:lnTo>
                  <a:pt x="4904314" y="1134089"/>
                </a:lnTo>
                <a:lnTo>
                  <a:pt x="4909806" y="1128597"/>
                </a:lnTo>
                <a:lnTo>
                  <a:pt x="4918044" y="1123105"/>
                </a:lnTo>
                <a:lnTo>
                  <a:pt x="4926282" y="1123105"/>
                </a:lnTo>
                <a:lnTo>
                  <a:pt x="4918044" y="1120359"/>
                </a:lnTo>
                <a:lnTo>
                  <a:pt x="4901568" y="1117613"/>
                </a:lnTo>
                <a:close/>
                <a:moveTo>
                  <a:pt x="5011407" y="1103883"/>
                </a:moveTo>
                <a:lnTo>
                  <a:pt x="5008661" y="1106629"/>
                </a:lnTo>
                <a:lnTo>
                  <a:pt x="5011407" y="1109375"/>
                </a:lnTo>
                <a:lnTo>
                  <a:pt x="5011407" y="1112121"/>
                </a:lnTo>
                <a:lnTo>
                  <a:pt x="5014153" y="1109375"/>
                </a:lnTo>
                <a:lnTo>
                  <a:pt x="5016899" y="1109375"/>
                </a:lnTo>
                <a:lnTo>
                  <a:pt x="5016899" y="1106629"/>
                </a:lnTo>
                <a:lnTo>
                  <a:pt x="5016899" y="1103883"/>
                </a:lnTo>
                <a:lnTo>
                  <a:pt x="5011407" y="1103883"/>
                </a:lnTo>
                <a:close/>
                <a:moveTo>
                  <a:pt x="5052597" y="1095645"/>
                </a:moveTo>
                <a:lnTo>
                  <a:pt x="5049851" y="1098391"/>
                </a:lnTo>
                <a:lnTo>
                  <a:pt x="5055343" y="1101137"/>
                </a:lnTo>
                <a:lnTo>
                  <a:pt x="5060835" y="1101137"/>
                </a:lnTo>
                <a:lnTo>
                  <a:pt x="5060835" y="1098391"/>
                </a:lnTo>
                <a:lnTo>
                  <a:pt x="5063581" y="1098391"/>
                </a:lnTo>
                <a:lnTo>
                  <a:pt x="5063581" y="1095645"/>
                </a:lnTo>
                <a:lnTo>
                  <a:pt x="5058089" y="1098391"/>
                </a:lnTo>
                <a:lnTo>
                  <a:pt x="5058089" y="1095645"/>
                </a:lnTo>
                <a:lnTo>
                  <a:pt x="5052597" y="1095645"/>
                </a:lnTo>
                <a:close/>
                <a:moveTo>
                  <a:pt x="5151452" y="1094272"/>
                </a:moveTo>
                <a:lnTo>
                  <a:pt x="5151452" y="1095645"/>
                </a:lnTo>
                <a:lnTo>
                  <a:pt x="5148706" y="1095645"/>
                </a:lnTo>
                <a:lnTo>
                  <a:pt x="5151452" y="1094272"/>
                </a:lnTo>
                <a:close/>
                <a:moveTo>
                  <a:pt x="2746" y="1092899"/>
                </a:moveTo>
                <a:lnTo>
                  <a:pt x="10984" y="1092899"/>
                </a:lnTo>
                <a:lnTo>
                  <a:pt x="21968" y="1092899"/>
                </a:lnTo>
                <a:lnTo>
                  <a:pt x="0" y="1095645"/>
                </a:lnTo>
                <a:lnTo>
                  <a:pt x="2746" y="1092899"/>
                </a:lnTo>
                <a:close/>
                <a:moveTo>
                  <a:pt x="5398590" y="1092899"/>
                </a:moveTo>
                <a:lnTo>
                  <a:pt x="5398590" y="1095645"/>
                </a:lnTo>
                <a:lnTo>
                  <a:pt x="5401336" y="1095645"/>
                </a:lnTo>
                <a:lnTo>
                  <a:pt x="5398590" y="1092899"/>
                </a:lnTo>
                <a:close/>
                <a:moveTo>
                  <a:pt x="5601793" y="1090153"/>
                </a:moveTo>
                <a:lnTo>
                  <a:pt x="5640236" y="1090153"/>
                </a:lnTo>
                <a:lnTo>
                  <a:pt x="5670442" y="1095645"/>
                </a:lnTo>
                <a:lnTo>
                  <a:pt x="5535889" y="1109375"/>
                </a:lnTo>
                <a:lnTo>
                  <a:pt x="5549619" y="1101137"/>
                </a:lnTo>
                <a:lnTo>
                  <a:pt x="5566095" y="1095645"/>
                </a:lnTo>
                <a:lnTo>
                  <a:pt x="5582571" y="1092899"/>
                </a:lnTo>
                <a:lnTo>
                  <a:pt x="5601793" y="1090153"/>
                </a:lnTo>
                <a:close/>
                <a:moveTo>
                  <a:pt x="5848573" y="1088123"/>
                </a:moveTo>
                <a:lnTo>
                  <a:pt x="5846185" y="1092899"/>
                </a:lnTo>
                <a:lnTo>
                  <a:pt x="5845636" y="1093997"/>
                </a:lnTo>
                <a:lnTo>
                  <a:pt x="5840693" y="1095645"/>
                </a:lnTo>
                <a:lnTo>
                  <a:pt x="5843439" y="1098391"/>
                </a:lnTo>
                <a:lnTo>
                  <a:pt x="5845636" y="1093997"/>
                </a:lnTo>
                <a:lnTo>
                  <a:pt x="5860112" y="1089172"/>
                </a:lnTo>
                <a:lnTo>
                  <a:pt x="5848573" y="1088123"/>
                </a:lnTo>
                <a:close/>
                <a:moveTo>
                  <a:pt x="5703394" y="1084661"/>
                </a:moveTo>
                <a:lnTo>
                  <a:pt x="5711632" y="1087407"/>
                </a:lnTo>
                <a:lnTo>
                  <a:pt x="5722616" y="1090153"/>
                </a:lnTo>
                <a:lnTo>
                  <a:pt x="5689664" y="1092899"/>
                </a:lnTo>
                <a:lnTo>
                  <a:pt x="5695156" y="1087407"/>
                </a:lnTo>
                <a:lnTo>
                  <a:pt x="5703394" y="1084661"/>
                </a:lnTo>
                <a:close/>
                <a:moveTo>
                  <a:pt x="5261291" y="1081915"/>
                </a:moveTo>
                <a:lnTo>
                  <a:pt x="5264037" y="1084661"/>
                </a:lnTo>
                <a:lnTo>
                  <a:pt x="5261291" y="1087407"/>
                </a:lnTo>
                <a:lnTo>
                  <a:pt x="5261291" y="1081915"/>
                </a:lnTo>
                <a:close/>
                <a:moveTo>
                  <a:pt x="5091041" y="1079169"/>
                </a:moveTo>
                <a:lnTo>
                  <a:pt x="5091041" y="1084661"/>
                </a:lnTo>
                <a:lnTo>
                  <a:pt x="5096533" y="1084661"/>
                </a:lnTo>
                <a:lnTo>
                  <a:pt x="5096533" y="1079169"/>
                </a:lnTo>
                <a:lnTo>
                  <a:pt x="5093787" y="1079169"/>
                </a:lnTo>
                <a:lnTo>
                  <a:pt x="5091041" y="1079169"/>
                </a:lnTo>
                <a:close/>
                <a:moveTo>
                  <a:pt x="5132230" y="1068185"/>
                </a:moveTo>
                <a:lnTo>
                  <a:pt x="5129485" y="1070931"/>
                </a:lnTo>
                <a:lnTo>
                  <a:pt x="5129485" y="1073677"/>
                </a:lnTo>
                <a:lnTo>
                  <a:pt x="5126739" y="1079169"/>
                </a:lnTo>
                <a:lnTo>
                  <a:pt x="5126739" y="1076423"/>
                </a:lnTo>
                <a:lnTo>
                  <a:pt x="5121247" y="1076423"/>
                </a:lnTo>
                <a:lnTo>
                  <a:pt x="5121247" y="1081915"/>
                </a:lnTo>
                <a:lnTo>
                  <a:pt x="5118501" y="1081915"/>
                </a:lnTo>
                <a:lnTo>
                  <a:pt x="5115755" y="1084661"/>
                </a:lnTo>
                <a:lnTo>
                  <a:pt x="5113009" y="1084661"/>
                </a:lnTo>
                <a:lnTo>
                  <a:pt x="5113009" y="1087407"/>
                </a:lnTo>
                <a:lnTo>
                  <a:pt x="5115755" y="1090153"/>
                </a:lnTo>
                <a:lnTo>
                  <a:pt x="5118501" y="1095645"/>
                </a:lnTo>
                <a:lnTo>
                  <a:pt x="5110263" y="1092899"/>
                </a:lnTo>
                <a:lnTo>
                  <a:pt x="5104771" y="1090153"/>
                </a:lnTo>
                <a:lnTo>
                  <a:pt x="5102025" y="1092899"/>
                </a:lnTo>
                <a:lnTo>
                  <a:pt x="5102025" y="1103883"/>
                </a:lnTo>
                <a:lnTo>
                  <a:pt x="5102025" y="1112121"/>
                </a:lnTo>
                <a:lnTo>
                  <a:pt x="5099279" y="1112121"/>
                </a:lnTo>
                <a:lnTo>
                  <a:pt x="5099279" y="1114867"/>
                </a:lnTo>
                <a:lnTo>
                  <a:pt x="5096533" y="1112121"/>
                </a:lnTo>
                <a:lnTo>
                  <a:pt x="5096533" y="1103883"/>
                </a:lnTo>
                <a:lnTo>
                  <a:pt x="5099279" y="1095645"/>
                </a:lnTo>
                <a:lnTo>
                  <a:pt x="5088295" y="1095645"/>
                </a:lnTo>
                <a:lnTo>
                  <a:pt x="5080057" y="1095645"/>
                </a:lnTo>
                <a:lnTo>
                  <a:pt x="5071819" y="1101137"/>
                </a:lnTo>
                <a:lnTo>
                  <a:pt x="5063581" y="1103883"/>
                </a:lnTo>
                <a:lnTo>
                  <a:pt x="5069073" y="1109375"/>
                </a:lnTo>
                <a:lnTo>
                  <a:pt x="5074565" y="1114867"/>
                </a:lnTo>
                <a:lnTo>
                  <a:pt x="5074565" y="1112121"/>
                </a:lnTo>
                <a:lnTo>
                  <a:pt x="5074565" y="1109375"/>
                </a:lnTo>
                <a:lnTo>
                  <a:pt x="5082803" y="1106629"/>
                </a:lnTo>
                <a:lnTo>
                  <a:pt x="5091041" y="1106629"/>
                </a:lnTo>
                <a:lnTo>
                  <a:pt x="5093787" y="1109375"/>
                </a:lnTo>
                <a:lnTo>
                  <a:pt x="5093787" y="1112121"/>
                </a:lnTo>
                <a:lnTo>
                  <a:pt x="5088295" y="1112121"/>
                </a:lnTo>
                <a:lnTo>
                  <a:pt x="5082803" y="1114867"/>
                </a:lnTo>
                <a:lnTo>
                  <a:pt x="5082803" y="1117613"/>
                </a:lnTo>
                <a:lnTo>
                  <a:pt x="5049851" y="1112121"/>
                </a:lnTo>
                <a:lnTo>
                  <a:pt x="5033375" y="1112121"/>
                </a:lnTo>
                <a:lnTo>
                  <a:pt x="5025137" y="1114867"/>
                </a:lnTo>
                <a:lnTo>
                  <a:pt x="5016899" y="1120359"/>
                </a:lnTo>
                <a:lnTo>
                  <a:pt x="5025137" y="1123105"/>
                </a:lnTo>
                <a:lnTo>
                  <a:pt x="5030629" y="1125851"/>
                </a:lnTo>
                <a:lnTo>
                  <a:pt x="5033375" y="1134089"/>
                </a:lnTo>
                <a:lnTo>
                  <a:pt x="5034748" y="1139580"/>
                </a:lnTo>
                <a:lnTo>
                  <a:pt x="5038867" y="1139580"/>
                </a:lnTo>
                <a:lnTo>
                  <a:pt x="5036121" y="1145072"/>
                </a:lnTo>
                <a:lnTo>
                  <a:pt x="5036121" y="1145072"/>
                </a:lnTo>
                <a:lnTo>
                  <a:pt x="5036121" y="1145073"/>
                </a:lnTo>
                <a:lnTo>
                  <a:pt x="5042006" y="1141149"/>
                </a:lnTo>
                <a:lnTo>
                  <a:pt x="5038867" y="1139580"/>
                </a:lnTo>
                <a:lnTo>
                  <a:pt x="5049851" y="1131342"/>
                </a:lnTo>
                <a:lnTo>
                  <a:pt x="5063581" y="1128596"/>
                </a:lnTo>
                <a:lnTo>
                  <a:pt x="5069073" y="1131342"/>
                </a:lnTo>
                <a:lnTo>
                  <a:pt x="5069074" y="1131342"/>
                </a:lnTo>
                <a:lnTo>
                  <a:pt x="5088295" y="1128597"/>
                </a:lnTo>
                <a:lnTo>
                  <a:pt x="5104771" y="1125851"/>
                </a:lnTo>
                <a:lnTo>
                  <a:pt x="5110263" y="1123105"/>
                </a:lnTo>
                <a:lnTo>
                  <a:pt x="5118501" y="1117613"/>
                </a:lnTo>
                <a:lnTo>
                  <a:pt x="5126739" y="1112121"/>
                </a:lnTo>
                <a:lnTo>
                  <a:pt x="5107517" y="1117613"/>
                </a:lnTo>
                <a:lnTo>
                  <a:pt x="5104771" y="1112121"/>
                </a:lnTo>
                <a:lnTo>
                  <a:pt x="5118501" y="1112121"/>
                </a:lnTo>
                <a:lnTo>
                  <a:pt x="5118501" y="1103883"/>
                </a:lnTo>
                <a:lnTo>
                  <a:pt x="5118501" y="1101137"/>
                </a:lnTo>
                <a:lnTo>
                  <a:pt x="5118501" y="1095645"/>
                </a:lnTo>
                <a:lnTo>
                  <a:pt x="5123993" y="1095645"/>
                </a:lnTo>
                <a:lnTo>
                  <a:pt x="5126739" y="1098391"/>
                </a:lnTo>
                <a:lnTo>
                  <a:pt x="5132230" y="1098391"/>
                </a:lnTo>
                <a:lnTo>
                  <a:pt x="5134976" y="1095645"/>
                </a:lnTo>
                <a:lnTo>
                  <a:pt x="5134976" y="1092899"/>
                </a:lnTo>
                <a:lnTo>
                  <a:pt x="5129485" y="1092899"/>
                </a:lnTo>
                <a:lnTo>
                  <a:pt x="5129485" y="1087407"/>
                </a:lnTo>
                <a:lnTo>
                  <a:pt x="5134976" y="1087407"/>
                </a:lnTo>
                <a:lnTo>
                  <a:pt x="5137722" y="1087407"/>
                </a:lnTo>
                <a:lnTo>
                  <a:pt x="5140468" y="1087407"/>
                </a:lnTo>
                <a:lnTo>
                  <a:pt x="5143214" y="1087407"/>
                </a:lnTo>
                <a:lnTo>
                  <a:pt x="5145960" y="1084661"/>
                </a:lnTo>
                <a:lnTo>
                  <a:pt x="5143214" y="1081915"/>
                </a:lnTo>
                <a:lnTo>
                  <a:pt x="5143214" y="1079169"/>
                </a:lnTo>
                <a:lnTo>
                  <a:pt x="5143214" y="1073677"/>
                </a:lnTo>
                <a:lnTo>
                  <a:pt x="5137722" y="1070931"/>
                </a:lnTo>
                <a:lnTo>
                  <a:pt x="5132230" y="1068185"/>
                </a:lnTo>
                <a:close/>
                <a:moveTo>
                  <a:pt x="5266783" y="1065439"/>
                </a:moveTo>
                <a:lnTo>
                  <a:pt x="5266783" y="1070931"/>
                </a:lnTo>
                <a:lnTo>
                  <a:pt x="5269529" y="1073677"/>
                </a:lnTo>
                <a:lnTo>
                  <a:pt x="5272275" y="1076423"/>
                </a:lnTo>
                <a:lnTo>
                  <a:pt x="5272275" y="1081915"/>
                </a:lnTo>
                <a:lnTo>
                  <a:pt x="5280513" y="1081915"/>
                </a:lnTo>
                <a:lnTo>
                  <a:pt x="5280513" y="1076423"/>
                </a:lnTo>
                <a:lnTo>
                  <a:pt x="5277767" y="1073677"/>
                </a:lnTo>
                <a:lnTo>
                  <a:pt x="5275021" y="1070931"/>
                </a:lnTo>
                <a:lnTo>
                  <a:pt x="5275021" y="1065439"/>
                </a:lnTo>
                <a:lnTo>
                  <a:pt x="5266783" y="1065439"/>
                </a:lnTo>
                <a:close/>
                <a:moveTo>
                  <a:pt x="5206372" y="1065439"/>
                </a:moveTo>
                <a:lnTo>
                  <a:pt x="5200880" y="1068185"/>
                </a:lnTo>
                <a:lnTo>
                  <a:pt x="5198134" y="1070931"/>
                </a:lnTo>
                <a:lnTo>
                  <a:pt x="5198134" y="1076423"/>
                </a:lnTo>
                <a:lnTo>
                  <a:pt x="5203626" y="1081915"/>
                </a:lnTo>
                <a:lnTo>
                  <a:pt x="5209118" y="1084661"/>
                </a:lnTo>
                <a:lnTo>
                  <a:pt x="5214610" y="1084661"/>
                </a:lnTo>
                <a:lnTo>
                  <a:pt x="5217356" y="1084661"/>
                </a:lnTo>
                <a:lnTo>
                  <a:pt x="5217356" y="1068185"/>
                </a:lnTo>
                <a:lnTo>
                  <a:pt x="5209118" y="1068185"/>
                </a:lnTo>
                <a:lnTo>
                  <a:pt x="5206372" y="1065439"/>
                </a:lnTo>
                <a:close/>
                <a:moveTo>
                  <a:pt x="5069073" y="1059947"/>
                </a:moveTo>
                <a:lnTo>
                  <a:pt x="5069073" y="1062693"/>
                </a:lnTo>
                <a:lnTo>
                  <a:pt x="5071819" y="1065439"/>
                </a:lnTo>
                <a:lnTo>
                  <a:pt x="5077311" y="1068185"/>
                </a:lnTo>
                <a:lnTo>
                  <a:pt x="5080057" y="1065439"/>
                </a:lnTo>
                <a:lnTo>
                  <a:pt x="5080057" y="1062693"/>
                </a:lnTo>
                <a:lnTo>
                  <a:pt x="5077311" y="1059947"/>
                </a:lnTo>
                <a:lnTo>
                  <a:pt x="5071819" y="1059947"/>
                </a:lnTo>
                <a:lnTo>
                  <a:pt x="5069073" y="1059947"/>
                </a:lnTo>
                <a:close/>
                <a:moveTo>
                  <a:pt x="5390352" y="1057201"/>
                </a:moveTo>
                <a:lnTo>
                  <a:pt x="5382114" y="1059947"/>
                </a:lnTo>
                <a:lnTo>
                  <a:pt x="5384860" y="1070931"/>
                </a:lnTo>
                <a:lnTo>
                  <a:pt x="5387606" y="1076423"/>
                </a:lnTo>
                <a:lnTo>
                  <a:pt x="5387606" y="1084661"/>
                </a:lnTo>
                <a:lnTo>
                  <a:pt x="5401336" y="1087407"/>
                </a:lnTo>
                <a:lnTo>
                  <a:pt x="5415066" y="1084661"/>
                </a:lnTo>
                <a:lnTo>
                  <a:pt x="5415066" y="1073677"/>
                </a:lnTo>
                <a:lnTo>
                  <a:pt x="5412320" y="1073677"/>
                </a:lnTo>
                <a:lnTo>
                  <a:pt x="5409574" y="1070931"/>
                </a:lnTo>
                <a:lnTo>
                  <a:pt x="5412320" y="1062693"/>
                </a:lnTo>
                <a:lnTo>
                  <a:pt x="5406828" y="1059947"/>
                </a:lnTo>
                <a:lnTo>
                  <a:pt x="5404082" y="1057201"/>
                </a:lnTo>
                <a:lnTo>
                  <a:pt x="5390352" y="1057201"/>
                </a:lnTo>
                <a:close/>
                <a:moveTo>
                  <a:pt x="5302481" y="1057201"/>
                </a:moveTo>
                <a:lnTo>
                  <a:pt x="5296989" y="1059947"/>
                </a:lnTo>
                <a:lnTo>
                  <a:pt x="5296989" y="1065439"/>
                </a:lnTo>
                <a:lnTo>
                  <a:pt x="5302481" y="1062693"/>
                </a:lnTo>
                <a:lnTo>
                  <a:pt x="5302481" y="1057201"/>
                </a:lnTo>
                <a:close/>
                <a:moveTo>
                  <a:pt x="5220102" y="1057201"/>
                </a:moveTo>
                <a:lnTo>
                  <a:pt x="5217356" y="1059947"/>
                </a:lnTo>
                <a:lnTo>
                  <a:pt x="5217356" y="1065439"/>
                </a:lnTo>
                <a:lnTo>
                  <a:pt x="5222848" y="1065439"/>
                </a:lnTo>
                <a:lnTo>
                  <a:pt x="5222848" y="1059947"/>
                </a:lnTo>
                <a:lnTo>
                  <a:pt x="5225594" y="1059947"/>
                </a:lnTo>
                <a:lnTo>
                  <a:pt x="5225594" y="1057201"/>
                </a:lnTo>
                <a:lnTo>
                  <a:pt x="5222848" y="1057201"/>
                </a:lnTo>
                <a:lnTo>
                  <a:pt x="5220102" y="1057201"/>
                </a:lnTo>
                <a:close/>
                <a:moveTo>
                  <a:pt x="6050990" y="1055027"/>
                </a:moveTo>
                <a:lnTo>
                  <a:pt x="5826635" y="1077772"/>
                </a:lnTo>
                <a:lnTo>
                  <a:pt x="5846185" y="1079169"/>
                </a:lnTo>
                <a:lnTo>
                  <a:pt x="5881883" y="1076423"/>
                </a:lnTo>
                <a:lnTo>
                  <a:pt x="5917580" y="1070931"/>
                </a:lnTo>
                <a:lnTo>
                  <a:pt x="5956024" y="1065439"/>
                </a:lnTo>
                <a:lnTo>
                  <a:pt x="5983484" y="1062693"/>
                </a:lnTo>
                <a:lnTo>
                  <a:pt x="6008198" y="1062693"/>
                </a:lnTo>
                <a:lnTo>
                  <a:pt x="6032912" y="1059947"/>
                </a:lnTo>
                <a:lnTo>
                  <a:pt x="6046642" y="1057201"/>
                </a:lnTo>
                <a:lnTo>
                  <a:pt x="6050990" y="1055027"/>
                </a:lnTo>
                <a:close/>
                <a:moveTo>
                  <a:pt x="5209118" y="1051709"/>
                </a:moveTo>
                <a:lnTo>
                  <a:pt x="5206372" y="1054455"/>
                </a:lnTo>
                <a:lnTo>
                  <a:pt x="5200880" y="1054455"/>
                </a:lnTo>
                <a:lnTo>
                  <a:pt x="5195388" y="1057201"/>
                </a:lnTo>
                <a:lnTo>
                  <a:pt x="5192642" y="1062693"/>
                </a:lnTo>
                <a:lnTo>
                  <a:pt x="5209118" y="1062693"/>
                </a:lnTo>
                <a:lnTo>
                  <a:pt x="5211864" y="1059947"/>
                </a:lnTo>
                <a:lnTo>
                  <a:pt x="5211864" y="1057201"/>
                </a:lnTo>
                <a:lnTo>
                  <a:pt x="5209118" y="1051709"/>
                </a:lnTo>
                <a:close/>
                <a:moveTo>
                  <a:pt x="5187150" y="1051709"/>
                </a:moveTo>
                <a:lnTo>
                  <a:pt x="5187150" y="1057201"/>
                </a:lnTo>
                <a:lnTo>
                  <a:pt x="5192642" y="1057201"/>
                </a:lnTo>
                <a:lnTo>
                  <a:pt x="5192642" y="1051709"/>
                </a:lnTo>
                <a:lnTo>
                  <a:pt x="5187150" y="1051709"/>
                </a:lnTo>
                <a:close/>
                <a:moveTo>
                  <a:pt x="5118501" y="1051709"/>
                </a:moveTo>
                <a:lnTo>
                  <a:pt x="5121247" y="1057201"/>
                </a:lnTo>
                <a:lnTo>
                  <a:pt x="5126739" y="1057201"/>
                </a:lnTo>
                <a:lnTo>
                  <a:pt x="5123993" y="1051709"/>
                </a:lnTo>
                <a:lnTo>
                  <a:pt x="5118501" y="1051709"/>
                </a:lnTo>
                <a:close/>
                <a:moveTo>
                  <a:pt x="5480970" y="1048963"/>
                </a:moveTo>
                <a:lnTo>
                  <a:pt x="5478224" y="1051709"/>
                </a:lnTo>
                <a:lnTo>
                  <a:pt x="5478224" y="1054455"/>
                </a:lnTo>
                <a:lnTo>
                  <a:pt x="5480970" y="1057201"/>
                </a:lnTo>
                <a:lnTo>
                  <a:pt x="5483716" y="1057201"/>
                </a:lnTo>
                <a:lnTo>
                  <a:pt x="5486462" y="1057201"/>
                </a:lnTo>
                <a:lnTo>
                  <a:pt x="5486462" y="1051709"/>
                </a:lnTo>
                <a:lnTo>
                  <a:pt x="5486462" y="1048963"/>
                </a:lnTo>
                <a:lnTo>
                  <a:pt x="5480970" y="1048963"/>
                </a:lnTo>
                <a:close/>
                <a:moveTo>
                  <a:pt x="5091041" y="1043471"/>
                </a:moveTo>
                <a:lnTo>
                  <a:pt x="5088295" y="1046217"/>
                </a:lnTo>
                <a:lnTo>
                  <a:pt x="5088295" y="1054455"/>
                </a:lnTo>
                <a:lnTo>
                  <a:pt x="5093787" y="1054455"/>
                </a:lnTo>
                <a:lnTo>
                  <a:pt x="5096533" y="1057201"/>
                </a:lnTo>
                <a:lnTo>
                  <a:pt x="5099279" y="1057201"/>
                </a:lnTo>
                <a:lnTo>
                  <a:pt x="5099279" y="1046217"/>
                </a:lnTo>
                <a:lnTo>
                  <a:pt x="5096533" y="1046217"/>
                </a:lnTo>
                <a:lnTo>
                  <a:pt x="5093787" y="1046217"/>
                </a:lnTo>
                <a:lnTo>
                  <a:pt x="5093787" y="1043471"/>
                </a:lnTo>
                <a:lnTo>
                  <a:pt x="5091041" y="1043471"/>
                </a:lnTo>
                <a:close/>
                <a:moveTo>
                  <a:pt x="5264037" y="1040725"/>
                </a:moveTo>
                <a:lnTo>
                  <a:pt x="5261291" y="1048963"/>
                </a:lnTo>
                <a:lnTo>
                  <a:pt x="5261291" y="1057201"/>
                </a:lnTo>
                <a:lnTo>
                  <a:pt x="5266783" y="1057201"/>
                </a:lnTo>
                <a:lnTo>
                  <a:pt x="5266783" y="1054455"/>
                </a:lnTo>
                <a:lnTo>
                  <a:pt x="5272275" y="1054455"/>
                </a:lnTo>
                <a:lnTo>
                  <a:pt x="5272275" y="1043471"/>
                </a:lnTo>
                <a:lnTo>
                  <a:pt x="5269529" y="1040725"/>
                </a:lnTo>
                <a:lnTo>
                  <a:pt x="5264037" y="1040725"/>
                </a:lnTo>
                <a:close/>
                <a:moveTo>
                  <a:pt x="5250308" y="1040725"/>
                </a:moveTo>
                <a:lnTo>
                  <a:pt x="5250308" y="1043471"/>
                </a:lnTo>
                <a:lnTo>
                  <a:pt x="5253053" y="1043471"/>
                </a:lnTo>
                <a:lnTo>
                  <a:pt x="5253053" y="1046217"/>
                </a:lnTo>
                <a:lnTo>
                  <a:pt x="5253053" y="1048963"/>
                </a:lnTo>
                <a:lnTo>
                  <a:pt x="5258545" y="1048963"/>
                </a:lnTo>
                <a:lnTo>
                  <a:pt x="5258545" y="1043471"/>
                </a:lnTo>
                <a:lnTo>
                  <a:pt x="5258545" y="1040725"/>
                </a:lnTo>
                <a:lnTo>
                  <a:pt x="5255799" y="1040725"/>
                </a:lnTo>
                <a:lnTo>
                  <a:pt x="5253053" y="1040725"/>
                </a:lnTo>
                <a:lnTo>
                  <a:pt x="5250308" y="1040725"/>
                </a:lnTo>
                <a:close/>
                <a:moveTo>
                  <a:pt x="5071819" y="1040725"/>
                </a:moveTo>
                <a:lnTo>
                  <a:pt x="5069073" y="1043471"/>
                </a:lnTo>
                <a:lnTo>
                  <a:pt x="5066327" y="1043471"/>
                </a:lnTo>
                <a:lnTo>
                  <a:pt x="5063581" y="1043471"/>
                </a:lnTo>
                <a:lnTo>
                  <a:pt x="5066327" y="1048963"/>
                </a:lnTo>
                <a:lnTo>
                  <a:pt x="5066327" y="1054455"/>
                </a:lnTo>
                <a:lnTo>
                  <a:pt x="5074565" y="1054455"/>
                </a:lnTo>
                <a:lnTo>
                  <a:pt x="5074565" y="1048963"/>
                </a:lnTo>
                <a:lnTo>
                  <a:pt x="5074565" y="1046217"/>
                </a:lnTo>
                <a:lnTo>
                  <a:pt x="5071819" y="1040725"/>
                </a:lnTo>
                <a:close/>
                <a:moveTo>
                  <a:pt x="5579825" y="1037979"/>
                </a:moveTo>
                <a:lnTo>
                  <a:pt x="5579825" y="1040725"/>
                </a:lnTo>
                <a:lnTo>
                  <a:pt x="5582571" y="1046217"/>
                </a:lnTo>
                <a:lnTo>
                  <a:pt x="5588063" y="1046217"/>
                </a:lnTo>
                <a:lnTo>
                  <a:pt x="5593555" y="1043471"/>
                </a:lnTo>
                <a:lnTo>
                  <a:pt x="5588063" y="1040725"/>
                </a:lnTo>
                <a:lnTo>
                  <a:pt x="5579825" y="1037979"/>
                </a:lnTo>
                <a:close/>
                <a:moveTo>
                  <a:pt x="5198134" y="1037979"/>
                </a:moveTo>
                <a:lnTo>
                  <a:pt x="5195388" y="1040725"/>
                </a:lnTo>
                <a:lnTo>
                  <a:pt x="5198134" y="1046217"/>
                </a:lnTo>
                <a:lnTo>
                  <a:pt x="5203626" y="1046217"/>
                </a:lnTo>
                <a:lnTo>
                  <a:pt x="5209118" y="1043471"/>
                </a:lnTo>
                <a:lnTo>
                  <a:pt x="5214610" y="1040725"/>
                </a:lnTo>
                <a:lnTo>
                  <a:pt x="5203626" y="1037979"/>
                </a:lnTo>
                <a:lnTo>
                  <a:pt x="5198134" y="1037979"/>
                </a:lnTo>
                <a:close/>
                <a:moveTo>
                  <a:pt x="5129485" y="1037979"/>
                </a:moveTo>
                <a:lnTo>
                  <a:pt x="5126739" y="1040725"/>
                </a:lnTo>
                <a:lnTo>
                  <a:pt x="5123993" y="1046217"/>
                </a:lnTo>
                <a:lnTo>
                  <a:pt x="5126739" y="1048963"/>
                </a:lnTo>
                <a:lnTo>
                  <a:pt x="5132230" y="1048963"/>
                </a:lnTo>
                <a:lnTo>
                  <a:pt x="5137722" y="1043471"/>
                </a:lnTo>
                <a:lnTo>
                  <a:pt x="5145960" y="1040725"/>
                </a:lnTo>
                <a:lnTo>
                  <a:pt x="5145960" y="1046217"/>
                </a:lnTo>
                <a:lnTo>
                  <a:pt x="5143214" y="1051709"/>
                </a:lnTo>
                <a:lnTo>
                  <a:pt x="5140468" y="1057201"/>
                </a:lnTo>
                <a:lnTo>
                  <a:pt x="5143214" y="1057201"/>
                </a:lnTo>
                <a:lnTo>
                  <a:pt x="5148706" y="1062693"/>
                </a:lnTo>
                <a:lnTo>
                  <a:pt x="5143214" y="1065439"/>
                </a:lnTo>
                <a:lnTo>
                  <a:pt x="5143214" y="1070931"/>
                </a:lnTo>
                <a:lnTo>
                  <a:pt x="5145960" y="1070931"/>
                </a:lnTo>
                <a:lnTo>
                  <a:pt x="5148706" y="1073677"/>
                </a:lnTo>
                <a:lnTo>
                  <a:pt x="5151452" y="1076423"/>
                </a:lnTo>
                <a:lnTo>
                  <a:pt x="5148706" y="1076423"/>
                </a:lnTo>
                <a:lnTo>
                  <a:pt x="5151452" y="1079169"/>
                </a:lnTo>
                <a:lnTo>
                  <a:pt x="5151452" y="1084661"/>
                </a:lnTo>
                <a:lnTo>
                  <a:pt x="5154198" y="1084661"/>
                </a:lnTo>
                <a:lnTo>
                  <a:pt x="5156944" y="1081915"/>
                </a:lnTo>
                <a:lnTo>
                  <a:pt x="5159690" y="1084661"/>
                </a:lnTo>
                <a:lnTo>
                  <a:pt x="5176166" y="1084661"/>
                </a:lnTo>
                <a:lnTo>
                  <a:pt x="5176166" y="1081915"/>
                </a:lnTo>
                <a:lnTo>
                  <a:pt x="5178912" y="1076423"/>
                </a:lnTo>
                <a:lnTo>
                  <a:pt x="5181658" y="1076423"/>
                </a:lnTo>
                <a:lnTo>
                  <a:pt x="5187150" y="1076423"/>
                </a:lnTo>
                <a:lnTo>
                  <a:pt x="5187150" y="1070931"/>
                </a:lnTo>
                <a:lnTo>
                  <a:pt x="5187150" y="1068185"/>
                </a:lnTo>
                <a:lnTo>
                  <a:pt x="5187150" y="1065439"/>
                </a:lnTo>
                <a:lnTo>
                  <a:pt x="5181658" y="1065439"/>
                </a:lnTo>
                <a:lnTo>
                  <a:pt x="5178912" y="1065439"/>
                </a:lnTo>
                <a:lnTo>
                  <a:pt x="5167928" y="1062693"/>
                </a:lnTo>
                <a:lnTo>
                  <a:pt x="5167928" y="1065439"/>
                </a:lnTo>
                <a:lnTo>
                  <a:pt x="5165182" y="1068185"/>
                </a:lnTo>
                <a:lnTo>
                  <a:pt x="5159690" y="1068185"/>
                </a:lnTo>
                <a:lnTo>
                  <a:pt x="5156944" y="1068185"/>
                </a:lnTo>
                <a:lnTo>
                  <a:pt x="5154198" y="1065439"/>
                </a:lnTo>
                <a:lnTo>
                  <a:pt x="5154198" y="1062693"/>
                </a:lnTo>
                <a:lnTo>
                  <a:pt x="5154198" y="1059947"/>
                </a:lnTo>
                <a:lnTo>
                  <a:pt x="5159690" y="1059947"/>
                </a:lnTo>
                <a:lnTo>
                  <a:pt x="5165182" y="1062693"/>
                </a:lnTo>
                <a:lnTo>
                  <a:pt x="5170674" y="1057201"/>
                </a:lnTo>
                <a:lnTo>
                  <a:pt x="5173420" y="1057201"/>
                </a:lnTo>
                <a:lnTo>
                  <a:pt x="5176166" y="1057201"/>
                </a:lnTo>
                <a:lnTo>
                  <a:pt x="5178912" y="1054455"/>
                </a:lnTo>
                <a:lnTo>
                  <a:pt x="5178912" y="1046217"/>
                </a:lnTo>
                <a:lnTo>
                  <a:pt x="5173420" y="1046217"/>
                </a:lnTo>
                <a:lnTo>
                  <a:pt x="5170674" y="1048963"/>
                </a:lnTo>
                <a:lnTo>
                  <a:pt x="5167928" y="1046217"/>
                </a:lnTo>
                <a:lnTo>
                  <a:pt x="5165182" y="1043471"/>
                </a:lnTo>
                <a:lnTo>
                  <a:pt x="5165182" y="1040725"/>
                </a:lnTo>
                <a:lnTo>
                  <a:pt x="5159690" y="1040725"/>
                </a:lnTo>
                <a:lnTo>
                  <a:pt x="5156944" y="1043471"/>
                </a:lnTo>
                <a:lnTo>
                  <a:pt x="5154198" y="1040725"/>
                </a:lnTo>
                <a:lnTo>
                  <a:pt x="5151452" y="1040725"/>
                </a:lnTo>
                <a:lnTo>
                  <a:pt x="5145960" y="1037979"/>
                </a:lnTo>
                <a:lnTo>
                  <a:pt x="5143214" y="1037979"/>
                </a:lnTo>
                <a:lnTo>
                  <a:pt x="5140468" y="1040725"/>
                </a:lnTo>
                <a:lnTo>
                  <a:pt x="5137722" y="1040725"/>
                </a:lnTo>
                <a:lnTo>
                  <a:pt x="5129485" y="1037979"/>
                </a:lnTo>
                <a:close/>
                <a:moveTo>
                  <a:pt x="400913" y="1035234"/>
                </a:moveTo>
                <a:lnTo>
                  <a:pt x="409150" y="1035234"/>
                </a:lnTo>
                <a:lnTo>
                  <a:pt x="414642" y="1035234"/>
                </a:lnTo>
                <a:lnTo>
                  <a:pt x="417389" y="1037980"/>
                </a:lnTo>
                <a:lnTo>
                  <a:pt x="411897" y="1040726"/>
                </a:lnTo>
                <a:lnTo>
                  <a:pt x="409150" y="1043472"/>
                </a:lnTo>
                <a:lnTo>
                  <a:pt x="411897" y="1043472"/>
                </a:lnTo>
                <a:lnTo>
                  <a:pt x="414642" y="1046218"/>
                </a:lnTo>
                <a:lnTo>
                  <a:pt x="398167" y="1048964"/>
                </a:lnTo>
                <a:lnTo>
                  <a:pt x="398167" y="1046218"/>
                </a:lnTo>
                <a:lnTo>
                  <a:pt x="406404" y="1046218"/>
                </a:lnTo>
                <a:lnTo>
                  <a:pt x="406404" y="1040726"/>
                </a:lnTo>
                <a:lnTo>
                  <a:pt x="403658" y="1040726"/>
                </a:lnTo>
                <a:lnTo>
                  <a:pt x="403658" y="1037980"/>
                </a:lnTo>
                <a:lnTo>
                  <a:pt x="400913" y="1035234"/>
                </a:lnTo>
                <a:close/>
                <a:moveTo>
                  <a:pt x="5110263" y="1032487"/>
                </a:moveTo>
                <a:lnTo>
                  <a:pt x="5110263" y="1043471"/>
                </a:lnTo>
                <a:lnTo>
                  <a:pt x="5118501" y="1043471"/>
                </a:lnTo>
                <a:lnTo>
                  <a:pt x="5123993" y="1037979"/>
                </a:lnTo>
                <a:lnTo>
                  <a:pt x="5118501" y="1032487"/>
                </a:lnTo>
                <a:lnTo>
                  <a:pt x="5110263" y="1032487"/>
                </a:lnTo>
                <a:close/>
                <a:moveTo>
                  <a:pt x="5286005" y="1029741"/>
                </a:moveTo>
                <a:lnTo>
                  <a:pt x="5286005" y="1032487"/>
                </a:lnTo>
                <a:lnTo>
                  <a:pt x="5286005" y="1035233"/>
                </a:lnTo>
                <a:lnTo>
                  <a:pt x="5291497" y="1037979"/>
                </a:lnTo>
                <a:lnTo>
                  <a:pt x="5294243" y="1035233"/>
                </a:lnTo>
                <a:lnTo>
                  <a:pt x="5294243" y="1032487"/>
                </a:lnTo>
                <a:lnTo>
                  <a:pt x="5291497" y="1029741"/>
                </a:lnTo>
                <a:lnTo>
                  <a:pt x="5288751" y="1029741"/>
                </a:lnTo>
                <a:lnTo>
                  <a:pt x="5286005" y="1029741"/>
                </a:lnTo>
                <a:close/>
                <a:moveTo>
                  <a:pt x="5181658" y="1026996"/>
                </a:moveTo>
                <a:lnTo>
                  <a:pt x="5181658" y="1032487"/>
                </a:lnTo>
                <a:lnTo>
                  <a:pt x="5187150" y="1032487"/>
                </a:lnTo>
                <a:lnTo>
                  <a:pt x="5187150" y="1026996"/>
                </a:lnTo>
                <a:lnTo>
                  <a:pt x="5181658" y="1026996"/>
                </a:lnTo>
                <a:close/>
                <a:moveTo>
                  <a:pt x="5140468" y="1026996"/>
                </a:moveTo>
                <a:lnTo>
                  <a:pt x="5137722" y="1029741"/>
                </a:lnTo>
                <a:lnTo>
                  <a:pt x="5134976" y="1029741"/>
                </a:lnTo>
                <a:lnTo>
                  <a:pt x="5134976" y="1032487"/>
                </a:lnTo>
                <a:lnTo>
                  <a:pt x="5137722" y="1032487"/>
                </a:lnTo>
                <a:lnTo>
                  <a:pt x="5145960" y="1032487"/>
                </a:lnTo>
                <a:lnTo>
                  <a:pt x="5145960" y="1029741"/>
                </a:lnTo>
                <a:lnTo>
                  <a:pt x="5148706" y="1029741"/>
                </a:lnTo>
                <a:lnTo>
                  <a:pt x="5140468" y="1026996"/>
                </a:lnTo>
                <a:close/>
                <a:moveTo>
                  <a:pt x="428372" y="1024250"/>
                </a:moveTo>
                <a:lnTo>
                  <a:pt x="428372" y="1029742"/>
                </a:lnTo>
                <a:lnTo>
                  <a:pt x="431118" y="1032488"/>
                </a:lnTo>
                <a:lnTo>
                  <a:pt x="431118" y="1024250"/>
                </a:lnTo>
                <a:lnTo>
                  <a:pt x="428372" y="1024250"/>
                </a:lnTo>
                <a:close/>
                <a:moveTo>
                  <a:pt x="486038" y="1021504"/>
                </a:moveTo>
                <a:lnTo>
                  <a:pt x="486038" y="1026996"/>
                </a:lnTo>
                <a:lnTo>
                  <a:pt x="483292" y="1029742"/>
                </a:lnTo>
                <a:lnTo>
                  <a:pt x="483292" y="1032488"/>
                </a:lnTo>
                <a:lnTo>
                  <a:pt x="483292" y="1037980"/>
                </a:lnTo>
                <a:lnTo>
                  <a:pt x="488784" y="1035234"/>
                </a:lnTo>
                <a:lnTo>
                  <a:pt x="499768" y="1035234"/>
                </a:lnTo>
                <a:lnTo>
                  <a:pt x="499768" y="1029742"/>
                </a:lnTo>
                <a:lnTo>
                  <a:pt x="491530" y="1029742"/>
                </a:lnTo>
                <a:lnTo>
                  <a:pt x="491530" y="1026996"/>
                </a:lnTo>
                <a:lnTo>
                  <a:pt x="488784" y="1024250"/>
                </a:lnTo>
                <a:lnTo>
                  <a:pt x="491530" y="1024250"/>
                </a:lnTo>
                <a:lnTo>
                  <a:pt x="491530" y="1021504"/>
                </a:lnTo>
                <a:lnTo>
                  <a:pt x="486038" y="1021504"/>
                </a:lnTo>
                <a:close/>
                <a:moveTo>
                  <a:pt x="5258545" y="1018758"/>
                </a:moveTo>
                <a:lnTo>
                  <a:pt x="5258545" y="1026996"/>
                </a:lnTo>
                <a:lnTo>
                  <a:pt x="5250308" y="1026996"/>
                </a:lnTo>
                <a:lnTo>
                  <a:pt x="5244816" y="1026996"/>
                </a:lnTo>
                <a:lnTo>
                  <a:pt x="5244816" y="1029741"/>
                </a:lnTo>
                <a:lnTo>
                  <a:pt x="5247562" y="1032487"/>
                </a:lnTo>
                <a:lnTo>
                  <a:pt x="5255799" y="1035233"/>
                </a:lnTo>
                <a:lnTo>
                  <a:pt x="5258545" y="1029741"/>
                </a:lnTo>
                <a:lnTo>
                  <a:pt x="5261291" y="1029741"/>
                </a:lnTo>
                <a:lnTo>
                  <a:pt x="5261291" y="1018758"/>
                </a:lnTo>
                <a:lnTo>
                  <a:pt x="5258545" y="1018758"/>
                </a:lnTo>
                <a:close/>
                <a:moveTo>
                  <a:pt x="5104771" y="1018758"/>
                </a:moveTo>
                <a:lnTo>
                  <a:pt x="5104771" y="1021504"/>
                </a:lnTo>
                <a:lnTo>
                  <a:pt x="5107517" y="1024250"/>
                </a:lnTo>
                <a:lnTo>
                  <a:pt x="5110263" y="1026996"/>
                </a:lnTo>
                <a:lnTo>
                  <a:pt x="5110263" y="1029741"/>
                </a:lnTo>
                <a:lnTo>
                  <a:pt x="5115755" y="1029741"/>
                </a:lnTo>
                <a:lnTo>
                  <a:pt x="5118501" y="1029741"/>
                </a:lnTo>
                <a:lnTo>
                  <a:pt x="5118501" y="1026996"/>
                </a:lnTo>
                <a:lnTo>
                  <a:pt x="5118501" y="1024250"/>
                </a:lnTo>
                <a:lnTo>
                  <a:pt x="5113009" y="1024250"/>
                </a:lnTo>
                <a:lnTo>
                  <a:pt x="5110263" y="1021504"/>
                </a:lnTo>
                <a:lnTo>
                  <a:pt x="5110263" y="1018758"/>
                </a:lnTo>
                <a:lnTo>
                  <a:pt x="5104771" y="1018758"/>
                </a:lnTo>
                <a:close/>
                <a:moveTo>
                  <a:pt x="475054" y="1016012"/>
                </a:moveTo>
                <a:lnTo>
                  <a:pt x="475054" y="1024250"/>
                </a:lnTo>
                <a:lnTo>
                  <a:pt x="477800" y="1021504"/>
                </a:lnTo>
                <a:lnTo>
                  <a:pt x="480546" y="1018758"/>
                </a:lnTo>
                <a:lnTo>
                  <a:pt x="477800" y="1016012"/>
                </a:lnTo>
                <a:lnTo>
                  <a:pt x="475054" y="1016012"/>
                </a:lnTo>
                <a:close/>
                <a:moveTo>
                  <a:pt x="321279" y="1016012"/>
                </a:moveTo>
                <a:lnTo>
                  <a:pt x="321279" y="1021504"/>
                </a:lnTo>
                <a:lnTo>
                  <a:pt x="326771" y="1021504"/>
                </a:lnTo>
                <a:lnTo>
                  <a:pt x="326771" y="1016012"/>
                </a:lnTo>
                <a:lnTo>
                  <a:pt x="321279" y="1016012"/>
                </a:lnTo>
                <a:close/>
                <a:moveTo>
                  <a:pt x="447594" y="1013266"/>
                </a:moveTo>
                <a:lnTo>
                  <a:pt x="444848" y="1016012"/>
                </a:lnTo>
                <a:lnTo>
                  <a:pt x="444848" y="1018758"/>
                </a:lnTo>
                <a:lnTo>
                  <a:pt x="442102" y="1021504"/>
                </a:lnTo>
                <a:lnTo>
                  <a:pt x="442102" y="1024250"/>
                </a:lnTo>
                <a:lnTo>
                  <a:pt x="444848" y="1026996"/>
                </a:lnTo>
                <a:lnTo>
                  <a:pt x="444848" y="1024250"/>
                </a:lnTo>
                <a:lnTo>
                  <a:pt x="447594" y="1024250"/>
                </a:lnTo>
                <a:lnTo>
                  <a:pt x="447594" y="1013266"/>
                </a:lnTo>
                <a:close/>
                <a:moveTo>
                  <a:pt x="5140468" y="1013266"/>
                </a:moveTo>
                <a:lnTo>
                  <a:pt x="5140468" y="1016012"/>
                </a:lnTo>
                <a:lnTo>
                  <a:pt x="5143214" y="1016012"/>
                </a:lnTo>
                <a:lnTo>
                  <a:pt x="5145960" y="1013266"/>
                </a:lnTo>
                <a:lnTo>
                  <a:pt x="5140468" y="1013266"/>
                </a:lnTo>
                <a:close/>
                <a:moveTo>
                  <a:pt x="5118501" y="1013266"/>
                </a:moveTo>
                <a:lnTo>
                  <a:pt x="5121247" y="1016012"/>
                </a:lnTo>
                <a:lnTo>
                  <a:pt x="5126739" y="1016012"/>
                </a:lnTo>
                <a:lnTo>
                  <a:pt x="5126739" y="1013266"/>
                </a:lnTo>
                <a:lnTo>
                  <a:pt x="5118501" y="1013266"/>
                </a:lnTo>
                <a:close/>
                <a:moveTo>
                  <a:pt x="175743" y="1010520"/>
                </a:moveTo>
                <a:lnTo>
                  <a:pt x="178488" y="1016012"/>
                </a:lnTo>
                <a:lnTo>
                  <a:pt x="181234" y="1018758"/>
                </a:lnTo>
                <a:lnTo>
                  <a:pt x="183980" y="1016012"/>
                </a:lnTo>
                <a:lnTo>
                  <a:pt x="186726" y="1013266"/>
                </a:lnTo>
                <a:lnTo>
                  <a:pt x="181234" y="1010520"/>
                </a:lnTo>
                <a:lnTo>
                  <a:pt x="175743" y="1010520"/>
                </a:lnTo>
                <a:close/>
                <a:moveTo>
                  <a:pt x="1062693" y="1010520"/>
                </a:moveTo>
                <a:lnTo>
                  <a:pt x="1065439" y="1015096"/>
                </a:lnTo>
                <a:lnTo>
                  <a:pt x="1065439" y="1018758"/>
                </a:lnTo>
                <a:lnTo>
                  <a:pt x="1062693" y="1010520"/>
                </a:lnTo>
                <a:close/>
                <a:moveTo>
                  <a:pt x="472308" y="1007774"/>
                </a:moveTo>
                <a:lnTo>
                  <a:pt x="472308" y="1010520"/>
                </a:lnTo>
                <a:lnTo>
                  <a:pt x="469562" y="1010520"/>
                </a:lnTo>
                <a:lnTo>
                  <a:pt x="469562" y="1016012"/>
                </a:lnTo>
                <a:lnTo>
                  <a:pt x="472308" y="1016012"/>
                </a:lnTo>
                <a:lnTo>
                  <a:pt x="475054" y="1010520"/>
                </a:lnTo>
                <a:lnTo>
                  <a:pt x="475054" y="1007774"/>
                </a:lnTo>
                <a:lnTo>
                  <a:pt x="472308" y="1007774"/>
                </a:lnTo>
                <a:close/>
                <a:moveTo>
                  <a:pt x="5060835" y="1007774"/>
                </a:moveTo>
                <a:lnTo>
                  <a:pt x="5060835" y="1013266"/>
                </a:lnTo>
                <a:lnTo>
                  <a:pt x="5063581" y="1010520"/>
                </a:lnTo>
                <a:lnTo>
                  <a:pt x="5063581" y="1013266"/>
                </a:lnTo>
                <a:lnTo>
                  <a:pt x="5066327" y="1013266"/>
                </a:lnTo>
                <a:lnTo>
                  <a:pt x="5069073" y="1013266"/>
                </a:lnTo>
                <a:lnTo>
                  <a:pt x="5069073" y="1010520"/>
                </a:lnTo>
                <a:lnTo>
                  <a:pt x="5066327" y="1007774"/>
                </a:lnTo>
                <a:lnTo>
                  <a:pt x="5060835" y="1007774"/>
                </a:lnTo>
                <a:close/>
                <a:moveTo>
                  <a:pt x="5156944" y="1005028"/>
                </a:moveTo>
                <a:lnTo>
                  <a:pt x="5156944" y="1010520"/>
                </a:lnTo>
                <a:lnTo>
                  <a:pt x="5159690" y="1013266"/>
                </a:lnTo>
                <a:lnTo>
                  <a:pt x="5162436" y="1013266"/>
                </a:lnTo>
                <a:lnTo>
                  <a:pt x="5162436" y="1010520"/>
                </a:lnTo>
                <a:lnTo>
                  <a:pt x="5165182" y="1010520"/>
                </a:lnTo>
                <a:lnTo>
                  <a:pt x="5165182" y="1013266"/>
                </a:lnTo>
                <a:lnTo>
                  <a:pt x="5159690" y="1016012"/>
                </a:lnTo>
                <a:lnTo>
                  <a:pt x="5162436" y="1021504"/>
                </a:lnTo>
                <a:lnTo>
                  <a:pt x="5162436" y="1026996"/>
                </a:lnTo>
                <a:lnTo>
                  <a:pt x="5165182" y="1026996"/>
                </a:lnTo>
                <a:lnTo>
                  <a:pt x="5173420" y="1024250"/>
                </a:lnTo>
                <a:lnTo>
                  <a:pt x="5181658" y="1024250"/>
                </a:lnTo>
                <a:lnTo>
                  <a:pt x="5181658" y="1018758"/>
                </a:lnTo>
                <a:lnTo>
                  <a:pt x="5181658" y="1016012"/>
                </a:lnTo>
                <a:lnTo>
                  <a:pt x="5178912" y="1013266"/>
                </a:lnTo>
                <a:lnTo>
                  <a:pt x="5178912" y="1010520"/>
                </a:lnTo>
                <a:lnTo>
                  <a:pt x="5167928" y="1007774"/>
                </a:lnTo>
                <a:lnTo>
                  <a:pt x="5156944" y="1005028"/>
                </a:lnTo>
                <a:close/>
                <a:moveTo>
                  <a:pt x="505260" y="1002282"/>
                </a:moveTo>
                <a:lnTo>
                  <a:pt x="499768" y="1005028"/>
                </a:lnTo>
                <a:lnTo>
                  <a:pt x="497022" y="1005028"/>
                </a:lnTo>
                <a:lnTo>
                  <a:pt x="494276" y="1007774"/>
                </a:lnTo>
                <a:lnTo>
                  <a:pt x="497022" y="1007774"/>
                </a:lnTo>
                <a:lnTo>
                  <a:pt x="497022" y="1010520"/>
                </a:lnTo>
                <a:lnTo>
                  <a:pt x="499768" y="1010520"/>
                </a:lnTo>
                <a:lnTo>
                  <a:pt x="502514" y="1007774"/>
                </a:lnTo>
                <a:lnTo>
                  <a:pt x="505260" y="1007774"/>
                </a:lnTo>
                <a:lnTo>
                  <a:pt x="505260" y="1002282"/>
                </a:lnTo>
                <a:close/>
                <a:moveTo>
                  <a:pt x="428372" y="1002282"/>
                </a:moveTo>
                <a:lnTo>
                  <a:pt x="422880" y="1007774"/>
                </a:lnTo>
                <a:lnTo>
                  <a:pt x="417389" y="1016012"/>
                </a:lnTo>
                <a:lnTo>
                  <a:pt x="420134" y="1016012"/>
                </a:lnTo>
                <a:lnTo>
                  <a:pt x="422880" y="1016012"/>
                </a:lnTo>
                <a:lnTo>
                  <a:pt x="425626" y="1018758"/>
                </a:lnTo>
                <a:lnTo>
                  <a:pt x="428372" y="1021504"/>
                </a:lnTo>
                <a:lnTo>
                  <a:pt x="431118" y="1018758"/>
                </a:lnTo>
                <a:lnTo>
                  <a:pt x="433864" y="1021504"/>
                </a:lnTo>
                <a:lnTo>
                  <a:pt x="433864" y="1016012"/>
                </a:lnTo>
                <a:lnTo>
                  <a:pt x="428372" y="1016012"/>
                </a:lnTo>
                <a:lnTo>
                  <a:pt x="425626" y="1013266"/>
                </a:lnTo>
                <a:lnTo>
                  <a:pt x="425626" y="1010520"/>
                </a:lnTo>
                <a:lnTo>
                  <a:pt x="428372" y="1007774"/>
                </a:lnTo>
                <a:lnTo>
                  <a:pt x="428372" y="1002282"/>
                </a:lnTo>
                <a:close/>
                <a:moveTo>
                  <a:pt x="5233832" y="1002282"/>
                </a:moveTo>
                <a:lnTo>
                  <a:pt x="5233832" y="1005028"/>
                </a:lnTo>
                <a:lnTo>
                  <a:pt x="5231086" y="1007774"/>
                </a:lnTo>
                <a:lnTo>
                  <a:pt x="5231086" y="1010520"/>
                </a:lnTo>
                <a:lnTo>
                  <a:pt x="5236578" y="1007774"/>
                </a:lnTo>
                <a:lnTo>
                  <a:pt x="5239324" y="1007774"/>
                </a:lnTo>
                <a:lnTo>
                  <a:pt x="5244816" y="1007774"/>
                </a:lnTo>
                <a:lnTo>
                  <a:pt x="5244816" y="1002282"/>
                </a:lnTo>
                <a:lnTo>
                  <a:pt x="5233832" y="1002282"/>
                </a:lnTo>
                <a:close/>
                <a:moveTo>
                  <a:pt x="6326731" y="999536"/>
                </a:moveTo>
                <a:lnTo>
                  <a:pt x="6323985" y="1005028"/>
                </a:lnTo>
                <a:lnTo>
                  <a:pt x="6323985" y="1007774"/>
                </a:lnTo>
                <a:lnTo>
                  <a:pt x="6323985" y="1013266"/>
                </a:lnTo>
                <a:lnTo>
                  <a:pt x="6326731" y="1016012"/>
                </a:lnTo>
                <a:lnTo>
                  <a:pt x="6332223" y="1016012"/>
                </a:lnTo>
                <a:lnTo>
                  <a:pt x="6334969" y="1016012"/>
                </a:lnTo>
                <a:lnTo>
                  <a:pt x="6337715" y="1013266"/>
                </a:lnTo>
                <a:lnTo>
                  <a:pt x="6340461" y="1007774"/>
                </a:lnTo>
                <a:lnTo>
                  <a:pt x="6337715" y="1005028"/>
                </a:lnTo>
                <a:lnTo>
                  <a:pt x="6334969" y="1002282"/>
                </a:lnTo>
                <a:lnTo>
                  <a:pt x="6326731" y="999536"/>
                </a:lnTo>
                <a:close/>
                <a:moveTo>
                  <a:pt x="5209118" y="999536"/>
                </a:moveTo>
                <a:lnTo>
                  <a:pt x="5206372" y="1005028"/>
                </a:lnTo>
                <a:lnTo>
                  <a:pt x="5206372" y="1010520"/>
                </a:lnTo>
                <a:lnTo>
                  <a:pt x="5214610" y="1010520"/>
                </a:lnTo>
                <a:lnTo>
                  <a:pt x="5220102" y="1007774"/>
                </a:lnTo>
                <a:lnTo>
                  <a:pt x="5220102" y="999536"/>
                </a:lnTo>
                <a:lnTo>
                  <a:pt x="5209118" y="999536"/>
                </a:lnTo>
                <a:close/>
                <a:moveTo>
                  <a:pt x="5093787" y="999536"/>
                </a:moveTo>
                <a:lnTo>
                  <a:pt x="5091041" y="1002282"/>
                </a:lnTo>
                <a:lnTo>
                  <a:pt x="5099279" y="1002282"/>
                </a:lnTo>
                <a:lnTo>
                  <a:pt x="5102025" y="1002282"/>
                </a:lnTo>
                <a:lnTo>
                  <a:pt x="5102025" y="999536"/>
                </a:lnTo>
                <a:lnTo>
                  <a:pt x="5099279" y="999536"/>
                </a:lnTo>
                <a:lnTo>
                  <a:pt x="5093787" y="999536"/>
                </a:lnTo>
                <a:close/>
                <a:moveTo>
                  <a:pt x="1079168" y="988552"/>
                </a:moveTo>
                <a:lnTo>
                  <a:pt x="1073676" y="991298"/>
                </a:lnTo>
                <a:lnTo>
                  <a:pt x="1068185" y="996790"/>
                </a:lnTo>
                <a:lnTo>
                  <a:pt x="1065439" y="1002282"/>
                </a:lnTo>
                <a:lnTo>
                  <a:pt x="1062693" y="1007774"/>
                </a:lnTo>
                <a:lnTo>
                  <a:pt x="1062693" y="1010520"/>
                </a:lnTo>
                <a:lnTo>
                  <a:pt x="1062693" y="1013266"/>
                </a:lnTo>
                <a:lnTo>
                  <a:pt x="1065439" y="1018758"/>
                </a:lnTo>
                <a:lnTo>
                  <a:pt x="1068185" y="1024249"/>
                </a:lnTo>
                <a:lnTo>
                  <a:pt x="1070931" y="1024249"/>
                </a:lnTo>
                <a:lnTo>
                  <a:pt x="1065439" y="1015096"/>
                </a:lnTo>
                <a:lnTo>
                  <a:pt x="1065439" y="1005028"/>
                </a:lnTo>
                <a:lnTo>
                  <a:pt x="1070931" y="994044"/>
                </a:lnTo>
                <a:lnTo>
                  <a:pt x="1077795" y="991298"/>
                </a:lnTo>
                <a:lnTo>
                  <a:pt x="1078253" y="990383"/>
                </a:lnTo>
                <a:lnTo>
                  <a:pt x="1070931" y="994044"/>
                </a:lnTo>
                <a:lnTo>
                  <a:pt x="1079168" y="988553"/>
                </a:lnTo>
                <a:lnTo>
                  <a:pt x="1079168" y="988552"/>
                </a:lnTo>
                <a:close/>
                <a:moveTo>
                  <a:pt x="5329941" y="988552"/>
                </a:moveTo>
                <a:lnTo>
                  <a:pt x="5327195" y="991298"/>
                </a:lnTo>
                <a:lnTo>
                  <a:pt x="5327195" y="999536"/>
                </a:lnTo>
                <a:lnTo>
                  <a:pt x="5332687" y="999536"/>
                </a:lnTo>
                <a:lnTo>
                  <a:pt x="5332687" y="996790"/>
                </a:lnTo>
                <a:lnTo>
                  <a:pt x="5335433" y="994044"/>
                </a:lnTo>
                <a:lnTo>
                  <a:pt x="5343671" y="996790"/>
                </a:lnTo>
                <a:lnTo>
                  <a:pt x="5343671" y="991298"/>
                </a:lnTo>
                <a:lnTo>
                  <a:pt x="5338179" y="988552"/>
                </a:lnTo>
                <a:lnTo>
                  <a:pt x="5338179" y="991298"/>
                </a:lnTo>
                <a:lnTo>
                  <a:pt x="5338179" y="994044"/>
                </a:lnTo>
                <a:lnTo>
                  <a:pt x="5335433" y="994044"/>
                </a:lnTo>
                <a:lnTo>
                  <a:pt x="5332687" y="991298"/>
                </a:lnTo>
                <a:lnTo>
                  <a:pt x="5329941" y="988552"/>
                </a:lnTo>
                <a:close/>
                <a:moveTo>
                  <a:pt x="5211864" y="985806"/>
                </a:moveTo>
                <a:lnTo>
                  <a:pt x="5211864" y="994044"/>
                </a:lnTo>
                <a:lnTo>
                  <a:pt x="5217356" y="991298"/>
                </a:lnTo>
                <a:lnTo>
                  <a:pt x="5220102" y="988552"/>
                </a:lnTo>
                <a:lnTo>
                  <a:pt x="5217356" y="985806"/>
                </a:lnTo>
                <a:lnTo>
                  <a:pt x="5211864" y="985806"/>
                </a:lnTo>
                <a:close/>
                <a:moveTo>
                  <a:pt x="5091041" y="985806"/>
                </a:moveTo>
                <a:lnTo>
                  <a:pt x="5085549" y="988552"/>
                </a:lnTo>
                <a:lnTo>
                  <a:pt x="5077311" y="988552"/>
                </a:lnTo>
                <a:lnTo>
                  <a:pt x="5071819" y="988552"/>
                </a:lnTo>
                <a:lnTo>
                  <a:pt x="5066327" y="991298"/>
                </a:lnTo>
                <a:lnTo>
                  <a:pt x="5069073" y="996790"/>
                </a:lnTo>
                <a:lnTo>
                  <a:pt x="5071819" y="1002282"/>
                </a:lnTo>
                <a:lnTo>
                  <a:pt x="5080057" y="1005028"/>
                </a:lnTo>
                <a:lnTo>
                  <a:pt x="5088295" y="1013266"/>
                </a:lnTo>
                <a:lnTo>
                  <a:pt x="5082803" y="1013266"/>
                </a:lnTo>
                <a:lnTo>
                  <a:pt x="5082803" y="1016012"/>
                </a:lnTo>
                <a:lnTo>
                  <a:pt x="5085549" y="1021504"/>
                </a:lnTo>
                <a:lnTo>
                  <a:pt x="5077311" y="1032487"/>
                </a:lnTo>
                <a:lnTo>
                  <a:pt x="5080057" y="1035233"/>
                </a:lnTo>
                <a:lnTo>
                  <a:pt x="5085549" y="1035233"/>
                </a:lnTo>
                <a:lnTo>
                  <a:pt x="5082803" y="1037979"/>
                </a:lnTo>
                <a:lnTo>
                  <a:pt x="5080057" y="1040725"/>
                </a:lnTo>
                <a:lnTo>
                  <a:pt x="5082803" y="1043471"/>
                </a:lnTo>
                <a:lnTo>
                  <a:pt x="5085549" y="1043471"/>
                </a:lnTo>
                <a:lnTo>
                  <a:pt x="5085549" y="1040725"/>
                </a:lnTo>
                <a:lnTo>
                  <a:pt x="5088295" y="1040725"/>
                </a:lnTo>
                <a:lnTo>
                  <a:pt x="5088295" y="1035233"/>
                </a:lnTo>
                <a:lnTo>
                  <a:pt x="5091041" y="1032487"/>
                </a:lnTo>
                <a:lnTo>
                  <a:pt x="5102025" y="1032487"/>
                </a:lnTo>
                <a:lnTo>
                  <a:pt x="5102025" y="1029741"/>
                </a:lnTo>
                <a:lnTo>
                  <a:pt x="5104771" y="1029741"/>
                </a:lnTo>
                <a:lnTo>
                  <a:pt x="5102025" y="1024250"/>
                </a:lnTo>
                <a:lnTo>
                  <a:pt x="5099279" y="1021504"/>
                </a:lnTo>
                <a:lnTo>
                  <a:pt x="5096533" y="1021504"/>
                </a:lnTo>
                <a:lnTo>
                  <a:pt x="5093787" y="1018758"/>
                </a:lnTo>
                <a:lnTo>
                  <a:pt x="5093787" y="1013266"/>
                </a:lnTo>
                <a:lnTo>
                  <a:pt x="5091041" y="1010520"/>
                </a:lnTo>
                <a:lnTo>
                  <a:pt x="5088295" y="1010520"/>
                </a:lnTo>
                <a:lnTo>
                  <a:pt x="5088295" y="1002282"/>
                </a:lnTo>
                <a:lnTo>
                  <a:pt x="5091041" y="996790"/>
                </a:lnTo>
                <a:lnTo>
                  <a:pt x="5088295" y="994044"/>
                </a:lnTo>
                <a:lnTo>
                  <a:pt x="5088295" y="991298"/>
                </a:lnTo>
                <a:lnTo>
                  <a:pt x="5091041" y="991298"/>
                </a:lnTo>
                <a:lnTo>
                  <a:pt x="5091041" y="988552"/>
                </a:lnTo>
                <a:lnTo>
                  <a:pt x="5091041" y="985806"/>
                </a:lnTo>
                <a:close/>
                <a:moveTo>
                  <a:pt x="1084661" y="983060"/>
                </a:moveTo>
                <a:lnTo>
                  <a:pt x="1090153" y="985806"/>
                </a:lnTo>
                <a:lnTo>
                  <a:pt x="1092898" y="985806"/>
                </a:lnTo>
                <a:lnTo>
                  <a:pt x="1095644" y="985806"/>
                </a:lnTo>
                <a:lnTo>
                  <a:pt x="1101136" y="988552"/>
                </a:lnTo>
                <a:lnTo>
                  <a:pt x="1101137" y="988552"/>
                </a:lnTo>
                <a:lnTo>
                  <a:pt x="1103882" y="991298"/>
                </a:lnTo>
                <a:lnTo>
                  <a:pt x="1102234" y="990748"/>
                </a:lnTo>
                <a:lnTo>
                  <a:pt x="1103882" y="994044"/>
                </a:lnTo>
                <a:lnTo>
                  <a:pt x="1103882" y="997340"/>
                </a:lnTo>
                <a:lnTo>
                  <a:pt x="1106628" y="999536"/>
                </a:lnTo>
                <a:lnTo>
                  <a:pt x="1103882" y="991298"/>
                </a:lnTo>
                <a:lnTo>
                  <a:pt x="1109374" y="996790"/>
                </a:lnTo>
                <a:lnTo>
                  <a:pt x="1114867" y="1005028"/>
                </a:lnTo>
                <a:lnTo>
                  <a:pt x="1114867" y="1016012"/>
                </a:lnTo>
                <a:lnTo>
                  <a:pt x="1112120" y="1024249"/>
                </a:lnTo>
                <a:lnTo>
                  <a:pt x="1103882" y="1035233"/>
                </a:lnTo>
                <a:lnTo>
                  <a:pt x="1106628" y="1026995"/>
                </a:lnTo>
                <a:lnTo>
                  <a:pt x="1092898" y="1037979"/>
                </a:lnTo>
                <a:lnTo>
                  <a:pt x="1103882" y="1035233"/>
                </a:lnTo>
                <a:lnTo>
                  <a:pt x="1095645" y="1037979"/>
                </a:lnTo>
                <a:lnTo>
                  <a:pt x="1090153" y="1040725"/>
                </a:lnTo>
                <a:lnTo>
                  <a:pt x="1081915" y="1043471"/>
                </a:lnTo>
                <a:lnTo>
                  <a:pt x="1076423" y="1040725"/>
                </a:lnTo>
                <a:lnTo>
                  <a:pt x="1065439" y="1040725"/>
                </a:lnTo>
                <a:lnTo>
                  <a:pt x="1057202" y="1032487"/>
                </a:lnTo>
                <a:lnTo>
                  <a:pt x="1048963" y="1024249"/>
                </a:lnTo>
                <a:lnTo>
                  <a:pt x="1048963" y="1013266"/>
                </a:lnTo>
                <a:lnTo>
                  <a:pt x="1048963" y="1002282"/>
                </a:lnTo>
                <a:lnTo>
                  <a:pt x="1057202" y="994044"/>
                </a:lnTo>
                <a:lnTo>
                  <a:pt x="1065439" y="985806"/>
                </a:lnTo>
                <a:lnTo>
                  <a:pt x="1073676" y="985806"/>
                </a:lnTo>
                <a:lnTo>
                  <a:pt x="1084661" y="983060"/>
                </a:lnTo>
                <a:close/>
                <a:moveTo>
                  <a:pt x="5258545" y="983060"/>
                </a:moveTo>
                <a:lnTo>
                  <a:pt x="5258545" y="985806"/>
                </a:lnTo>
                <a:lnTo>
                  <a:pt x="5264037" y="988552"/>
                </a:lnTo>
                <a:lnTo>
                  <a:pt x="5264037" y="991298"/>
                </a:lnTo>
                <a:lnTo>
                  <a:pt x="5269529" y="991298"/>
                </a:lnTo>
                <a:lnTo>
                  <a:pt x="5269529" y="985806"/>
                </a:lnTo>
                <a:lnTo>
                  <a:pt x="5264037" y="985806"/>
                </a:lnTo>
                <a:lnTo>
                  <a:pt x="5258545" y="983060"/>
                </a:lnTo>
                <a:close/>
                <a:moveTo>
                  <a:pt x="5162436" y="980314"/>
                </a:moveTo>
                <a:lnTo>
                  <a:pt x="5162436" y="985806"/>
                </a:lnTo>
                <a:lnTo>
                  <a:pt x="5165182" y="988552"/>
                </a:lnTo>
                <a:lnTo>
                  <a:pt x="5159690" y="988552"/>
                </a:lnTo>
                <a:lnTo>
                  <a:pt x="5162436" y="994044"/>
                </a:lnTo>
                <a:lnTo>
                  <a:pt x="5165182" y="996790"/>
                </a:lnTo>
                <a:lnTo>
                  <a:pt x="5167928" y="994044"/>
                </a:lnTo>
                <a:lnTo>
                  <a:pt x="5167928" y="991298"/>
                </a:lnTo>
                <a:lnTo>
                  <a:pt x="5167928" y="988552"/>
                </a:lnTo>
                <a:lnTo>
                  <a:pt x="5167928" y="985806"/>
                </a:lnTo>
                <a:lnTo>
                  <a:pt x="5170674" y="985806"/>
                </a:lnTo>
                <a:lnTo>
                  <a:pt x="5170674" y="983060"/>
                </a:lnTo>
                <a:lnTo>
                  <a:pt x="5167928" y="983060"/>
                </a:lnTo>
                <a:lnTo>
                  <a:pt x="5167928" y="980314"/>
                </a:lnTo>
                <a:lnTo>
                  <a:pt x="5165182" y="980314"/>
                </a:lnTo>
                <a:lnTo>
                  <a:pt x="5162436" y="980314"/>
                </a:lnTo>
                <a:close/>
                <a:moveTo>
                  <a:pt x="5104771" y="977568"/>
                </a:moveTo>
                <a:lnTo>
                  <a:pt x="5107517" y="980314"/>
                </a:lnTo>
                <a:lnTo>
                  <a:pt x="5113009" y="983060"/>
                </a:lnTo>
                <a:lnTo>
                  <a:pt x="5107517" y="983060"/>
                </a:lnTo>
                <a:lnTo>
                  <a:pt x="5104771" y="985806"/>
                </a:lnTo>
                <a:lnTo>
                  <a:pt x="5104771" y="991298"/>
                </a:lnTo>
                <a:lnTo>
                  <a:pt x="5110263" y="994044"/>
                </a:lnTo>
                <a:lnTo>
                  <a:pt x="5115755" y="994044"/>
                </a:lnTo>
                <a:lnTo>
                  <a:pt x="5118501" y="991298"/>
                </a:lnTo>
                <a:lnTo>
                  <a:pt x="5121247" y="985806"/>
                </a:lnTo>
                <a:lnTo>
                  <a:pt x="5115755" y="983060"/>
                </a:lnTo>
                <a:lnTo>
                  <a:pt x="5113009" y="983060"/>
                </a:lnTo>
                <a:lnTo>
                  <a:pt x="5113009" y="977568"/>
                </a:lnTo>
                <a:lnTo>
                  <a:pt x="5104771" y="977568"/>
                </a:lnTo>
                <a:close/>
                <a:moveTo>
                  <a:pt x="6615058" y="974822"/>
                </a:moveTo>
                <a:lnTo>
                  <a:pt x="6634280" y="994044"/>
                </a:lnTo>
                <a:lnTo>
                  <a:pt x="6436570" y="1016012"/>
                </a:lnTo>
                <a:lnTo>
                  <a:pt x="6447554" y="1007774"/>
                </a:lnTo>
                <a:lnTo>
                  <a:pt x="6458538" y="1002282"/>
                </a:lnTo>
                <a:lnTo>
                  <a:pt x="6475013" y="999536"/>
                </a:lnTo>
                <a:lnTo>
                  <a:pt x="6491489" y="1002282"/>
                </a:lnTo>
                <a:lnTo>
                  <a:pt x="6521695" y="1005028"/>
                </a:lnTo>
                <a:lnTo>
                  <a:pt x="6538171" y="1002282"/>
                </a:lnTo>
                <a:lnTo>
                  <a:pt x="6562885" y="994044"/>
                </a:lnTo>
                <a:lnTo>
                  <a:pt x="6615058" y="974822"/>
                </a:lnTo>
                <a:close/>
                <a:moveTo>
                  <a:pt x="5137722" y="966584"/>
                </a:moveTo>
                <a:lnTo>
                  <a:pt x="5129485" y="969330"/>
                </a:lnTo>
                <a:lnTo>
                  <a:pt x="5126739" y="969330"/>
                </a:lnTo>
                <a:lnTo>
                  <a:pt x="5123993" y="972076"/>
                </a:lnTo>
                <a:lnTo>
                  <a:pt x="5129485" y="977568"/>
                </a:lnTo>
                <a:lnTo>
                  <a:pt x="5137722" y="974822"/>
                </a:lnTo>
                <a:lnTo>
                  <a:pt x="5137722" y="966584"/>
                </a:lnTo>
                <a:close/>
                <a:moveTo>
                  <a:pt x="5102025" y="966584"/>
                </a:moveTo>
                <a:lnTo>
                  <a:pt x="5104771" y="972076"/>
                </a:lnTo>
                <a:lnTo>
                  <a:pt x="5107517" y="972076"/>
                </a:lnTo>
                <a:lnTo>
                  <a:pt x="5110263" y="969330"/>
                </a:lnTo>
                <a:lnTo>
                  <a:pt x="5110263" y="966584"/>
                </a:lnTo>
                <a:lnTo>
                  <a:pt x="5102025" y="966584"/>
                </a:lnTo>
                <a:close/>
                <a:moveTo>
                  <a:pt x="1035233" y="966584"/>
                </a:moveTo>
                <a:lnTo>
                  <a:pt x="1035233" y="969330"/>
                </a:lnTo>
                <a:lnTo>
                  <a:pt x="1043472" y="969330"/>
                </a:lnTo>
                <a:lnTo>
                  <a:pt x="1048964" y="966584"/>
                </a:lnTo>
                <a:lnTo>
                  <a:pt x="1035233" y="966584"/>
                </a:lnTo>
                <a:close/>
                <a:moveTo>
                  <a:pt x="5264037" y="963838"/>
                </a:moveTo>
                <a:lnTo>
                  <a:pt x="5264037" y="969330"/>
                </a:lnTo>
                <a:lnTo>
                  <a:pt x="5264037" y="972076"/>
                </a:lnTo>
                <a:lnTo>
                  <a:pt x="5258545" y="977568"/>
                </a:lnTo>
                <a:lnTo>
                  <a:pt x="5264037" y="980314"/>
                </a:lnTo>
                <a:lnTo>
                  <a:pt x="5269529" y="980314"/>
                </a:lnTo>
                <a:lnTo>
                  <a:pt x="5272275" y="972076"/>
                </a:lnTo>
                <a:lnTo>
                  <a:pt x="5269529" y="963838"/>
                </a:lnTo>
                <a:lnTo>
                  <a:pt x="5264037" y="963838"/>
                </a:lnTo>
                <a:close/>
                <a:moveTo>
                  <a:pt x="5244816" y="961092"/>
                </a:moveTo>
                <a:lnTo>
                  <a:pt x="5242070" y="963838"/>
                </a:lnTo>
                <a:lnTo>
                  <a:pt x="5242070" y="966584"/>
                </a:lnTo>
                <a:lnTo>
                  <a:pt x="5244816" y="966584"/>
                </a:lnTo>
                <a:lnTo>
                  <a:pt x="5247562" y="966584"/>
                </a:lnTo>
                <a:lnTo>
                  <a:pt x="5250308" y="966584"/>
                </a:lnTo>
                <a:lnTo>
                  <a:pt x="5253053" y="966584"/>
                </a:lnTo>
                <a:lnTo>
                  <a:pt x="5253053" y="961092"/>
                </a:lnTo>
                <a:lnTo>
                  <a:pt x="5244816" y="961092"/>
                </a:lnTo>
                <a:close/>
                <a:moveTo>
                  <a:pt x="1169785" y="961092"/>
                </a:moveTo>
                <a:lnTo>
                  <a:pt x="1175277" y="963838"/>
                </a:lnTo>
                <a:lnTo>
                  <a:pt x="1178023" y="969330"/>
                </a:lnTo>
                <a:lnTo>
                  <a:pt x="1178023" y="974822"/>
                </a:lnTo>
                <a:lnTo>
                  <a:pt x="1178023" y="980314"/>
                </a:lnTo>
                <a:lnTo>
                  <a:pt x="1175277" y="983060"/>
                </a:lnTo>
                <a:lnTo>
                  <a:pt x="1169785" y="983060"/>
                </a:lnTo>
                <a:lnTo>
                  <a:pt x="1167039" y="983060"/>
                </a:lnTo>
                <a:lnTo>
                  <a:pt x="1164293" y="980314"/>
                </a:lnTo>
                <a:lnTo>
                  <a:pt x="1161547" y="974822"/>
                </a:lnTo>
                <a:lnTo>
                  <a:pt x="1161547" y="969330"/>
                </a:lnTo>
                <a:lnTo>
                  <a:pt x="1164293" y="963838"/>
                </a:lnTo>
                <a:lnTo>
                  <a:pt x="1169785" y="961092"/>
                </a:lnTo>
                <a:close/>
                <a:moveTo>
                  <a:pt x="6175702" y="955600"/>
                </a:moveTo>
                <a:lnTo>
                  <a:pt x="6167464" y="958346"/>
                </a:lnTo>
                <a:lnTo>
                  <a:pt x="6159226" y="961092"/>
                </a:lnTo>
                <a:lnTo>
                  <a:pt x="6148242" y="963838"/>
                </a:lnTo>
                <a:lnTo>
                  <a:pt x="6137258" y="963838"/>
                </a:lnTo>
                <a:lnTo>
                  <a:pt x="6137258" y="958346"/>
                </a:lnTo>
                <a:lnTo>
                  <a:pt x="6134512" y="958346"/>
                </a:lnTo>
                <a:lnTo>
                  <a:pt x="6129020" y="958346"/>
                </a:lnTo>
                <a:lnTo>
                  <a:pt x="6129020" y="963838"/>
                </a:lnTo>
                <a:lnTo>
                  <a:pt x="6137258" y="963838"/>
                </a:lnTo>
                <a:lnTo>
                  <a:pt x="6145496" y="966584"/>
                </a:lnTo>
                <a:lnTo>
                  <a:pt x="6159226" y="966584"/>
                </a:lnTo>
                <a:lnTo>
                  <a:pt x="6172956" y="963838"/>
                </a:lnTo>
                <a:lnTo>
                  <a:pt x="6175702" y="961092"/>
                </a:lnTo>
                <a:lnTo>
                  <a:pt x="6175702" y="955600"/>
                </a:lnTo>
                <a:close/>
                <a:moveTo>
                  <a:pt x="5225594" y="955600"/>
                </a:moveTo>
                <a:lnTo>
                  <a:pt x="5225594" y="966584"/>
                </a:lnTo>
                <a:lnTo>
                  <a:pt x="5231086" y="963838"/>
                </a:lnTo>
                <a:lnTo>
                  <a:pt x="5233832" y="958346"/>
                </a:lnTo>
                <a:lnTo>
                  <a:pt x="5231086" y="958346"/>
                </a:lnTo>
                <a:lnTo>
                  <a:pt x="5225594" y="955600"/>
                </a:lnTo>
                <a:close/>
                <a:moveTo>
                  <a:pt x="5082803" y="955600"/>
                </a:moveTo>
                <a:lnTo>
                  <a:pt x="5082803" y="961092"/>
                </a:lnTo>
                <a:lnTo>
                  <a:pt x="5088295" y="961092"/>
                </a:lnTo>
                <a:lnTo>
                  <a:pt x="5091041" y="955600"/>
                </a:lnTo>
                <a:lnTo>
                  <a:pt x="5082803" y="955600"/>
                </a:lnTo>
                <a:close/>
                <a:moveTo>
                  <a:pt x="930887" y="955600"/>
                </a:moveTo>
                <a:lnTo>
                  <a:pt x="928141" y="958346"/>
                </a:lnTo>
                <a:lnTo>
                  <a:pt x="928141" y="963838"/>
                </a:lnTo>
                <a:lnTo>
                  <a:pt x="930887" y="963838"/>
                </a:lnTo>
                <a:lnTo>
                  <a:pt x="933632" y="963838"/>
                </a:lnTo>
                <a:lnTo>
                  <a:pt x="935005" y="965211"/>
                </a:lnTo>
                <a:lnTo>
                  <a:pt x="937857" y="965528"/>
                </a:lnTo>
                <a:lnTo>
                  <a:pt x="936378" y="961092"/>
                </a:lnTo>
                <a:lnTo>
                  <a:pt x="930887" y="955600"/>
                </a:lnTo>
                <a:close/>
                <a:moveTo>
                  <a:pt x="5354655" y="952854"/>
                </a:moveTo>
                <a:lnTo>
                  <a:pt x="5354655" y="955600"/>
                </a:lnTo>
                <a:lnTo>
                  <a:pt x="5357401" y="958346"/>
                </a:lnTo>
                <a:lnTo>
                  <a:pt x="5360147" y="955600"/>
                </a:lnTo>
                <a:lnTo>
                  <a:pt x="5360147" y="952854"/>
                </a:lnTo>
                <a:lnTo>
                  <a:pt x="5357401" y="952854"/>
                </a:lnTo>
                <a:lnTo>
                  <a:pt x="5354655" y="952854"/>
                </a:lnTo>
                <a:close/>
                <a:moveTo>
                  <a:pt x="5178912" y="952854"/>
                </a:moveTo>
                <a:lnTo>
                  <a:pt x="5173420" y="958346"/>
                </a:lnTo>
                <a:lnTo>
                  <a:pt x="5167928" y="966584"/>
                </a:lnTo>
                <a:lnTo>
                  <a:pt x="5170674" y="966584"/>
                </a:lnTo>
                <a:lnTo>
                  <a:pt x="5173420" y="969330"/>
                </a:lnTo>
                <a:lnTo>
                  <a:pt x="5176166" y="972076"/>
                </a:lnTo>
                <a:lnTo>
                  <a:pt x="5181658" y="972076"/>
                </a:lnTo>
                <a:lnTo>
                  <a:pt x="5187150" y="974822"/>
                </a:lnTo>
                <a:lnTo>
                  <a:pt x="5187150" y="980314"/>
                </a:lnTo>
                <a:lnTo>
                  <a:pt x="5184404" y="980314"/>
                </a:lnTo>
                <a:lnTo>
                  <a:pt x="5176166" y="983060"/>
                </a:lnTo>
                <a:lnTo>
                  <a:pt x="5178912" y="994044"/>
                </a:lnTo>
                <a:lnTo>
                  <a:pt x="5187150" y="999536"/>
                </a:lnTo>
                <a:lnTo>
                  <a:pt x="5189896" y="996790"/>
                </a:lnTo>
                <a:lnTo>
                  <a:pt x="5192642" y="991298"/>
                </a:lnTo>
                <a:lnTo>
                  <a:pt x="5189896" y="985806"/>
                </a:lnTo>
                <a:lnTo>
                  <a:pt x="5187150" y="983060"/>
                </a:lnTo>
                <a:lnTo>
                  <a:pt x="5198134" y="983060"/>
                </a:lnTo>
                <a:lnTo>
                  <a:pt x="5200880" y="977568"/>
                </a:lnTo>
                <a:lnTo>
                  <a:pt x="5198134" y="974822"/>
                </a:lnTo>
                <a:lnTo>
                  <a:pt x="5195388" y="969330"/>
                </a:lnTo>
                <a:lnTo>
                  <a:pt x="5195388" y="963838"/>
                </a:lnTo>
                <a:lnTo>
                  <a:pt x="5187150" y="958346"/>
                </a:lnTo>
                <a:lnTo>
                  <a:pt x="5181658" y="955600"/>
                </a:lnTo>
                <a:lnTo>
                  <a:pt x="5178912" y="952854"/>
                </a:lnTo>
                <a:close/>
                <a:moveTo>
                  <a:pt x="856745" y="950108"/>
                </a:moveTo>
                <a:lnTo>
                  <a:pt x="853999" y="952854"/>
                </a:lnTo>
                <a:lnTo>
                  <a:pt x="856745" y="952854"/>
                </a:lnTo>
                <a:lnTo>
                  <a:pt x="856745" y="955600"/>
                </a:lnTo>
                <a:lnTo>
                  <a:pt x="859491" y="955600"/>
                </a:lnTo>
                <a:lnTo>
                  <a:pt x="862237" y="952854"/>
                </a:lnTo>
                <a:lnTo>
                  <a:pt x="862237" y="950108"/>
                </a:lnTo>
                <a:lnTo>
                  <a:pt x="856745" y="950108"/>
                </a:lnTo>
                <a:close/>
                <a:moveTo>
                  <a:pt x="6238859" y="950108"/>
                </a:moveTo>
                <a:lnTo>
                  <a:pt x="6222384" y="955600"/>
                </a:lnTo>
                <a:lnTo>
                  <a:pt x="6216892" y="961092"/>
                </a:lnTo>
                <a:lnTo>
                  <a:pt x="6211400" y="963838"/>
                </a:lnTo>
                <a:lnTo>
                  <a:pt x="6238859" y="958346"/>
                </a:lnTo>
                <a:lnTo>
                  <a:pt x="6252589" y="958346"/>
                </a:lnTo>
                <a:lnTo>
                  <a:pt x="6269065" y="958346"/>
                </a:lnTo>
                <a:lnTo>
                  <a:pt x="6263573" y="952854"/>
                </a:lnTo>
                <a:lnTo>
                  <a:pt x="6258081" y="950108"/>
                </a:lnTo>
                <a:lnTo>
                  <a:pt x="6249843" y="950108"/>
                </a:lnTo>
                <a:lnTo>
                  <a:pt x="6238859" y="950108"/>
                </a:lnTo>
                <a:close/>
                <a:moveTo>
                  <a:pt x="5140468" y="950108"/>
                </a:moveTo>
                <a:lnTo>
                  <a:pt x="5140468" y="955600"/>
                </a:lnTo>
                <a:lnTo>
                  <a:pt x="5148706" y="955600"/>
                </a:lnTo>
                <a:lnTo>
                  <a:pt x="5148706" y="952854"/>
                </a:lnTo>
                <a:lnTo>
                  <a:pt x="5145960" y="950108"/>
                </a:lnTo>
                <a:lnTo>
                  <a:pt x="5140468" y="950108"/>
                </a:lnTo>
                <a:close/>
                <a:moveTo>
                  <a:pt x="1062694" y="947362"/>
                </a:moveTo>
                <a:lnTo>
                  <a:pt x="1062694" y="950108"/>
                </a:lnTo>
                <a:lnTo>
                  <a:pt x="1062694" y="952854"/>
                </a:lnTo>
                <a:lnTo>
                  <a:pt x="1065439" y="952854"/>
                </a:lnTo>
                <a:lnTo>
                  <a:pt x="1068185" y="952854"/>
                </a:lnTo>
                <a:lnTo>
                  <a:pt x="1068185" y="950108"/>
                </a:lnTo>
                <a:lnTo>
                  <a:pt x="1065439" y="950108"/>
                </a:lnTo>
                <a:lnTo>
                  <a:pt x="1065439" y="947362"/>
                </a:lnTo>
                <a:lnTo>
                  <a:pt x="1062694" y="947362"/>
                </a:lnTo>
                <a:close/>
                <a:moveTo>
                  <a:pt x="799080" y="947362"/>
                </a:moveTo>
                <a:lnTo>
                  <a:pt x="799080" y="952854"/>
                </a:lnTo>
                <a:lnTo>
                  <a:pt x="804571" y="952854"/>
                </a:lnTo>
                <a:lnTo>
                  <a:pt x="804571" y="950108"/>
                </a:lnTo>
                <a:lnTo>
                  <a:pt x="799080" y="947362"/>
                </a:lnTo>
                <a:close/>
                <a:moveTo>
                  <a:pt x="6065863" y="947362"/>
                </a:moveTo>
                <a:lnTo>
                  <a:pt x="6068609" y="952854"/>
                </a:lnTo>
                <a:lnTo>
                  <a:pt x="6068609" y="958346"/>
                </a:lnTo>
                <a:lnTo>
                  <a:pt x="6076847" y="963838"/>
                </a:lnTo>
                <a:lnTo>
                  <a:pt x="6082339" y="969330"/>
                </a:lnTo>
                <a:lnTo>
                  <a:pt x="6082339" y="974822"/>
                </a:lnTo>
                <a:lnTo>
                  <a:pt x="6082339" y="983060"/>
                </a:lnTo>
                <a:lnTo>
                  <a:pt x="6076847" y="980314"/>
                </a:lnTo>
                <a:lnTo>
                  <a:pt x="6068609" y="980314"/>
                </a:lnTo>
                <a:lnTo>
                  <a:pt x="6060371" y="983060"/>
                </a:lnTo>
                <a:lnTo>
                  <a:pt x="6054879" y="988552"/>
                </a:lnTo>
                <a:lnTo>
                  <a:pt x="6065863" y="991298"/>
                </a:lnTo>
                <a:lnTo>
                  <a:pt x="6074101" y="999536"/>
                </a:lnTo>
                <a:lnTo>
                  <a:pt x="6076847" y="1007774"/>
                </a:lnTo>
                <a:lnTo>
                  <a:pt x="6076847" y="1018758"/>
                </a:lnTo>
                <a:lnTo>
                  <a:pt x="6079593" y="1029741"/>
                </a:lnTo>
                <a:lnTo>
                  <a:pt x="6082339" y="1037979"/>
                </a:lnTo>
                <a:lnTo>
                  <a:pt x="6090577" y="1043471"/>
                </a:lnTo>
                <a:lnTo>
                  <a:pt x="6104306" y="1043471"/>
                </a:lnTo>
                <a:lnTo>
                  <a:pt x="6104306" y="1037979"/>
                </a:lnTo>
                <a:lnTo>
                  <a:pt x="6104306" y="1035233"/>
                </a:lnTo>
                <a:lnTo>
                  <a:pt x="6096069" y="1032487"/>
                </a:lnTo>
                <a:lnTo>
                  <a:pt x="6087831" y="1032487"/>
                </a:lnTo>
                <a:lnTo>
                  <a:pt x="6085085" y="1029741"/>
                </a:lnTo>
                <a:lnTo>
                  <a:pt x="6082339" y="1026996"/>
                </a:lnTo>
                <a:lnTo>
                  <a:pt x="6093323" y="1024250"/>
                </a:lnTo>
                <a:lnTo>
                  <a:pt x="6104306" y="1024250"/>
                </a:lnTo>
                <a:lnTo>
                  <a:pt x="6123528" y="1029741"/>
                </a:lnTo>
                <a:lnTo>
                  <a:pt x="6142750" y="1037979"/>
                </a:lnTo>
                <a:lnTo>
                  <a:pt x="6150988" y="1040725"/>
                </a:lnTo>
                <a:lnTo>
                  <a:pt x="6161972" y="1040725"/>
                </a:lnTo>
                <a:lnTo>
                  <a:pt x="6172956" y="1035233"/>
                </a:lnTo>
                <a:lnTo>
                  <a:pt x="6178448" y="1029741"/>
                </a:lnTo>
                <a:lnTo>
                  <a:pt x="6189432" y="1026996"/>
                </a:lnTo>
                <a:lnTo>
                  <a:pt x="6200416" y="1024250"/>
                </a:lnTo>
                <a:lnTo>
                  <a:pt x="6208654" y="1018758"/>
                </a:lnTo>
                <a:lnTo>
                  <a:pt x="6216892" y="1016012"/>
                </a:lnTo>
                <a:lnTo>
                  <a:pt x="6227875" y="1010520"/>
                </a:lnTo>
                <a:lnTo>
                  <a:pt x="6238859" y="1010520"/>
                </a:lnTo>
                <a:lnTo>
                  <a:pt x="6249843" y="1013266"/>
                </a:lnTo>
                <a:lnTo>
                  <a:pt x="6271811" y="1016012"/>
                </a:lnTo>
                <a:lnTo>
                  <a:pt x="6293779" y="1018758"/>
                </a:lnTo>
                <a:lnTo>
                  <a:pt x="6304763" y="1018758"/>
                </a:lnTo>
                <a:lnTo>
                  <a:pt x="6315747" y="1013266"/>
                </a:lnTo>
                <a:lnTo>
                  <a:pt x="6318493" y="1013266"/>
                </a:lnTo>
                <a:lnTo>
                  <a:pt x="6310255" y="1005028"/>
                </a:lnTo>
                <a:lnTo>
                  <a:pt x="6296525" y="1002282"/>
                </a:lnTo>
                <a:lnTo>
                  <a:pt x="6280049" y="999536"/>
                </a:lnTo>
                <a:lnTo>
                  <a:pt x="6260827" y="999536"/>
                </a:lnTo>
                <a:lnTo>
                  <a:pt x="6216892" y="1005028"/>
                </a:lnTo>
                <a:lnTo>
                  <a:pt x="6175702" y="1010520"/>
                </a:lnTo>
                <a:lnTo>
                  <a:pt x="6137258" y="1013266"/>
                </a:lnTo>
                <a:lnTo>
                  <a:pt x="6120782" y="1013266"/>
                </a:lnTo>
                <a:lnTo>
                  <a:pt x="6109798" y="1007774"/>
                </a:lnTo>
                <a:lnTo>
                  <a:pt x="6101561" y="999536"/>
                </a:lnTo>
                <a:lnTo>
                  <a:pt x="6096069" y="991298"/>
                </a:lnTo>
                <a:lnTo>
                  <a:pt x="6098815" y="974822"/>
                </a:lnTo>
                <a:lnTo>
                  <a:pt x="6107052" y="955600"/>
                </a:lnTo>
                <a:lnTo>
                  <a:pt x="6087831" y="950108"/>
                </a:lnTo>
                <a:lnTo>
                  <a:pt x="6065863" y="947362"/>
                </a:lnTo>
                <a:close/>
                <a:moveTo>
                  <a:pt x="1048964" y="944616"/>
                </a:moveTo>
                <a:lnTo>
                  <a:pt x="1048964" y="947362"/>
                </a:lnTo>
                <a:lnTo>
                  <a:pt x="1048964" y="950108"/>
                </a:lnTo>
                <a:lnTo>
                  <a:pt x="1048964" y="955600"/>
                </a:lnTo>
                <a:lnTo>
                  <a:pt x="1051710" y="955600"/>
                </a:lnTo>
                <a:lnTo>
                  <a:pt x="1051710" y="944616"/>
                </a:lnTo>
                <a:lnTo>
                  <a:pt x="1048964" y="944616"/>
                </a:lnTo>
                <a:close/>
                <a:moveTo>
                  <a:pt x="812809" y="941870"/>
                </a:moveTo>
                <a:lnTo>
                  <a:pt x="812809" y="947362"/>
                </a:lnTo>
                <a:lnTo>
                  <a:pt x="821047" y="947362"/>
                </a:lnTo>
                <a:lnTo>
                  <a:pt x="818301" y="944616"/>
                </a:lnTo>
                <a:lnTo>
                  <a:pt x="812809" y="941870"/>
                </a:lnTo>
                <a:close/>
                <a:moveTo>
                  <a:pt x="994043" y="939124"/>
                </a:moveTo>
                <a:lnTo>
                  <a:pt x="994043" y="941870"/>
                </a:lnTo>
                <a:lnTo>
                  <a:pt x="999536" y="941870"/>
                </a:lnTo>
                <a:lnTo>
                  <a:pt x="996790" y="939124"/>
                </a:lnTo>
                <a:lnTo>
                  <a:pt x="994043" y="939124"/>
                </a:lnTo>
                <a:close/>
                <a:moveTo>
                  <a:pt x="5195388" y="939124"/>
                </a:moveTo>
                <a:lnTo>
                  <a:pt x="5195388" y="944616"/>
                </a:lnTo>
                <a:lnTo>
                  <a:pt x="5200880" y="944616"/>
                </a:lnTo>
                <a:lnTo>
                  <a:pt x="5203626" y="939124"/>
                </a:lnTo>
                <a:lnTo>
                  <a:pt x="5195388" y="939124"/>
                </a:lnTo>
                <a:close/>
                <a:moveTo>
                  <a:pt x="5280513" y="936378"/>
                </a:moveTo>
                <a:lnTo>
                  <a:pt x="5277767" y="941870"/>
                </a:lnTo>
                <a:lnTo>
                  <a:pt x="5275021" y="944616"/>
                </a:lnTo>
                <a:lnTo>
                  <a:pt x="5275021" y="939124"/>
                </a:lnTo>
                <a:lnTo>
                  <a:pt x="5272275" y="939124"/>
                </a:lnTo>
                <a:lnTo>
                  <a:pt x="5269529" y="939124"/>
                </a:lnTo>
                <a:lnTo>
                  <a:pt x="5269529" y="944616"/>
                </a:lnTo>
                <a:lnTo>
                  <a:pt x="5277767" y="947362"/>
                </a:lnTo>
                <a:lnTo>
                  <a:pt x="5283259" y="952854"/>
                </a:lnTo>
                <a:lnTo>
                  <a:pt x="5288751" y="952854"/>
                </a:lnTo>
                <a:lnTo>
                  <a:pt x="5294243" y="950108"/>
                </a:lnTo>
                <a:lnTo>
                  <a:pt x="5294243" y="944616"/>
                </a:lnTo>
                <a:lnTo>
                  <a:pt x="5291497" y="939124"/>
                </a:lnTo>
                <a:lnTo>
                  <a:pt x="5288751" y="936378"/>
                </a:lnTo>
                <a:lnTo>
                  <a:pt x="5280513" y="936378"/>
                </a:lnTo>
                <a:close/>
                <a:moveTo>
                  <a:pt x="5178912" y="936378"/>
                </a:moveTo>
                <a:lnTo>
                  <a:pt x="5176166" y="939124"/>
                </a:lnTo>
                <a:lnTo>
                  <a:pt x="5178912" y="941870"/>
                </a:lnTo>
                <a:lnTo>
                  <a:pt x="5181658" y="944616"/>
                </a:lnTo>
                <a:lnTo>
                  <a:pt x="5184404" y="944616"/>
                </a:lnTo>
                <a:lnTo>
                  <a:pt x="5184404" y="936378"/>
                </a:lnTo>
                <a:lnTo>
                  <a:pt x="5181658" y="936378"/>
                </a:lnTo>
                <a:lnTo>
                  <a:pt x="5178912" y="936378"/>
                </a:lnTo>
                <a:close/>
                <a:moveTo>
                  <a:pt x="1315322" y="933632"/>
                </a:moveTo>
                <a:lnTo>
                  <a:pt x="1315322" y="941870"/>
                </a:lnTo>
                <a:lnTo>
                  <a:pt x="1320814" y="941870"/>
                </a:lnTo>
                <a:lnTo>
                  <a:pt x="1318068" y="939124"/>
                </a:lnTo>
                <a:lnTo>
                  <a:pt x="1315322" y="933632"/>
                </a:lnTo>
                <a:close/>
                <a:moveTo>
                  <a:pt x="1062694" y="933632"/>
                </a:moveTo>
                <a:lnTo>
                  <a:pt x="1062694" y="939124"/>
                </a:lnTo>
                <a:lnTo>
                  <a:pt x="1070932" y="939124"/>
                </a:lnTo>
                <a:lnTo>
                  <a:pt x="1073678" y="939124"/>
                </a:lnTo>
                <a:lnTo>
                  <a:pt x="1073678" y="936378"/>
                </a:lnTo>
                <a:lnTo>
                  <a:pt x="1068185" y="933632"/>
                </a:lnTo>
                <a:lnTo>
                  <a:pt x="1062694" y="933632"/>
                </a:lnTo>
                <a:close/>
                <a:moveTo>
                  <a:pt x="1054456" y="933632"/>
                </a:moveTo>
                <a:lnTo>
                  <a:pt x="1054456" y="936378"/>
                </a:lnTo>
                <a:lnTo>
                  <a:pt x="1057202" y="939124"/>
                </a:lnTo>
                <a:lnTo>
                  <a:pt x="1057202" y="941870"/>
                </a:lnTo>
                <a:lnTo>
                  <a:pt x="1062694" y="941870"/>
                </a:lnTo>
                <a:lnTo>
                  <a:pt x="1059948" y="936378"/>
                </a:lnTo>
                <a:lnTo>
                  <a:pt x="1054456" y="933632"/>
                </a:lnTo>
                <a:close/>
                <a:moveTo>
                  <a:pt x="5956024" y="930886"/>
                </a:moveTo>
                <a:lnTo>
                  <a:pt x="5942294" y="944616"/>
                </a:lnTo>
                <a:lnTo>
                  <a:pt x="5917580" y="963838"/>
                </a:lnTo>
                <a:lnTo>
                  <a:pt x="5909342" y="969330"/>
                </a:lnTo>
                <a:lnTo>
                  <a:pt x="5903850" y="974822"/>
                </a:lnTo>
                <a:lnTo>
                  <a:pt x="5898358" y="983060"/>
                </a:lnTo>
                <a:lnTo>
                  <a:pt x="5892866" y="988552"/>
                </a:lnTo>
                <a:lnTo>
                  <a:pt x="5887374" y="991298"/>
                </a:lnTo>
                <a:lnTo>
                  <a:pt x="5879136" y="994044"/>
                </a:lnTo>
                <a:lnTo>
                  <a:pt x="5873644" y="996790"/>
                </a:lnTo>
                <a:lnTo>
                  <a:pt x="5868152" y="999536"/>
                </a:lnTo>
                <a:lnTo>
                  <a:pt x="5859914" y="1010520"/>
                </a:lnTo>
                <a:lnTo>
                  <a:pt x="5857169" y="1018758"/>
                </a:lnTo>
                <a:lnTo>
                  <a:pt x="5851677" y="1029741"/>
                </a:lnTo>
                <a:lnTo>
                  <a:pt x="5846185" y="1035233"/>
                </a:lnTo>
                <a:lnTo>
                  <a:pt x="5835201" y="1040725"/>
                </a:lnTo>
                <a:lnTo>
                  <a:pt x="5821471" y="1043471"/>
                </a:lnTo>
                <a:lnTo>
                  <a:pt x="5796757" y="1048963"/>
                </a:lnTo>
                <a:lnTo>
                  <a:pt x="5788519" y="1051709"/>
                </a:lnTo>
                <a:lnTo>
                  <a:pt x="5785773" y="1057201"/>
                </a:lnTo>
                <a:lnTo>
                  <a:pt x="5788519" y="1065439"/>
                </a:lnTo>
                <a:lnTo>
                  <a:pt x="5799503" y="1076423"/>
                </a:lnTo>
                <a:lnTo>
                  <a:pt x="5796757" y="1079169"/>
                </a:lnTo>
                <a:lnTo>
                  <a:pt x="5799503" y="1079169"/>
                </a:lnTo>
                <a:lnTo>
                  <a:pt x="5799503" y="1076423"/>
                </a:lnTo>
                <a:lnTo>
                  <a:pt x="5804995" y="1079169"/>
                </a:lnTo>
                <a:lnTo>
                  <a:pt x="5810487" y="1079169"/>
                </a:lnTo>
                <a:lnTo>
                  <a:pt x="5812318" y="1077949"/>
                </a:lnTo>
                <a:lnTo>
                  <a:pt x="5807741" y="1076423"/>
                </a:lnTo>
                <a:lnTo>
                  <a:pt x="5813942" y="1076866"/>
                </a:lnTo>
                <a:lnTo>
                  <a:pt x="5818725" y="1073677"/>
                </a:lnTo>
                <a:lnTo>
                  <a:pt x="5826963" y="1068185"/>
                </a:lnTo>
                <a:lnTo>
                  <a:pt x="5835201" y="1062693"/>
                </a:lnTo>
                <a:lnTo>
                  <a:pt x="5835201" y="1065439"/>
                </a:lnTo>
                <a:lnTo>
                  <a:pt x="5837947" y="1065439"/>
                </a:lnTo>
                <a:lnTo>
                  <a:pt x="5837947" y="1062693"/>
                </a:lnTo>
                <a:lnTo>
                  <a:pt x="5843439" y="1054455"/>
                </a:lnTo>
                <a:lnTo>
                  <a:pt x="5846185" y="1051709"/>
                </a:lnTo>
                <a:lnTo>
                  <a:pt x="5851677" y="1048963"/>
                </a:lnTo>
                <a:lnTo>
                  <a:pt x="5857169" y="1046217"/>
                </a:lnTo>
                <a:lnTo>
                  <a:pt x="5890120" y="1046217"/>
                </a:lnTo>
                <a:lnTo>
                  <a:pt x="5906596" y="1043471"/>
                </a:lnTo>
                <a:lnTo>
                  <a:pt x="5923072" y="1040725"/>
                </a:lnTo>
                <a:lnTo>
                  <a:pt x="5953278" y="1026996"/>
                </a:lnTo>
                <a:lnTo>
                  <a:pt x="5983483" y="1016012"/>
                </a:lnTo>
                <a:lnTo>
                  <a:pt x="6008197" y="1007774"/>
                </a:lnTo>
                <a:lnTo>
                  <a:pt x="6016435" y="1005028"/>
                </a:lnTo>
                <a:lnTo>
                  <a:pt x="6024673" y="1007774"/>
                </a:lnTo>
                <a:lnTo>
                  <a:pt x="6038403" y="1013266"/>
                </a:lnTo>
                <a:lnTo>
                  <a:pt x="6052133" y="1021504"/>
                </a:lnTo>
                <a:lnTo>
                  <a:pt x="6065863" y="1032487"/>
                </a:lnTo>
                <a:lnTo>
                  <a:pt x="6065863" y="1018758"/>
                </a:lnTo>
                <a:lnTo>
                  <a:pt x="6063117" y="1010520"/>
                </a:lnTo>
                <a:lnTo>
                  <a:pt x="6054879" y="1005028"/>
                </a:lnTo>
                <a:lnTo>
                  <a:pt x="6043895" y="999536"/>
                </a:lnTo>
                <a:lnTo>
                  <a:pt x="6019181" y="988552"/>
                </a:lnTo>
                <a:lnTo>
                  <a:pt x="6010943" y="983060"/>
                </a:lnTo>
                <a:lnTo>
                  <a:pt x="6005451" y="977568"/>
                </a:lnTo>
                <a:lnTo>
                  <a:pt x="6005451" y="972076"/>
                </a:lnTo>
                <a:lnTo>
                  <a:pt x="6002705" y="972076"/>
                </a:lnTo>
                <a:lnTo>
                  <a:pt x="5991721" y="969330"/>
                </a:lnTo>
                <a:lnTo>
                  <a:pt x="5986229" y="963838"/>
                </a:lnTo>
                <a:lnTo>
                  <a:pt x="5980738" y="958346"/>
                </a:lnTo>
                <a:lnTo>
                  <a:pt x="5972500" y="944616"/>
                </a:lnTo>
                <a:lnTo>
                  <a:pt x="5967008" y="933632"/>
                </a:lnTo>
                <a:lnTo>
                  <a:pt x="5961516" y="930886"/>
                </a:lnTo>
                <a:lnTo>
                  <a:pt x="5956024" y="930886"/>
                </a:lnTo>
                <a:close/>
                <a:moveTo>
                  <a:pt x="1340038" y="928140"/>
                </a:moveTo>
                <a:lnTo>
                  <a:pt x="1340038" y="936378"/>
                </a:lnTo>
                <a:lnTo>
                  <a:pt x="1345529" y="936378"/>
                </a:lnTo>
                <a:lnTo>
                  <a:pt x="1348275" y="933632"/>
                </a:lnTo>
                <a:lnTo>
                  <a:pt x="1345529" y="930886"/>
                </a:lnTo>
                <a:lnTo>
                  <a:pt x="1340038" y="928140"/>
                </a:lnTo>
                <a:close/>
                <a:moveTo>
                  <a:pt x="6109798" y="925394"/>
                </a:moveTo>
                <a:lnTo>
                  <a:pt x="6109798" y="930886"/>
                </a:lnTo>
                <a:lnTo>
                  <a:pt x="6115290" y="930886"/>
                </a:lnTo>
                <a:lnTo>
                  <a:pt x="6118036" y="925394"/>
                </a:lnTo>
                <a:lnTo>
                  <a:pt x="6109798" y="925394"/>
                </a:lnTo>
                <a:close/>
                <a:moveTo>
                  <a:pt x="5371131" y="925394"/>
                </a:moveTo>
                <a:lnTo>
                  <a:pt x="5371131" y="928140"/>
                </a:lnTo>
                <a:lnTo>
                  <a:pt x="5373876" y="930886"/>
                </a:lnTo>
                <a:lnTo>
                  <a:pt x="5376622" y="933632"/>
                </a:lnTo>
                <a:lnTo>
                  <a:pt x="5382114" y="933632"/>
                </a:lnTo>
                <a:lnTo>
                  <a:pt x="5382114" y="930886"/>
                </a:lnTo>
                <a:lnTo>
                  <a:pt x="5382114" y="928140"/>
                </a:lnTo>
                <a:lnTo>
                  <a:pt x="5379368" y="925394"/>
                </a:lnTo>
                <a:lnTo>
                  <a:pt x="5371131" y="925394"/>
                </a:lnTo>
                <a:close/>
                <a:moveTo>
                  <a:pt x="5121247" y="925394"/>
                </a:moveTo>
                <a:lnTo>
                  <a:pt x="5118501" y="928140"/>
                </a:lnTo>
                <a:lnTo>
                  <a:pt x="5121247" y="930886"/>
                </a:lnTo>
                <a:lnTo>
                  <a:pt x="5123993" y="930886"/>
                </a:lnTo>
                <a:lnTo>
                  <a:pt x="5126739" y="928140"/>
                </a:lnTo>
                <a:lnTo>
                  <a:pt x="5123993" y="925394"/>
                </a:lnTo>
                <a:lnTo>
                  <a:pt x="5121247" y="925394"/>
                </a:lnTo>
                <a:close/>
                <a:moveTo>
                  <a:pt x="966584" y="919902"/>
                </a:moveTo>
                <a:lnTo>
                  <a:pt x="966584" y="922648"/>
                </a:lnTo>
                <a:lnTo>
                  <a:pt x="963838" y="922648"/>
                </a:lnTo>
                <a:lnTo>
                  <a:pt x="963838" y="925394"/>
                </a:lnTo>
                <a:lnTo>
                  <a:pt x="969330" y="925394"/>
                </a:lnTo>
                <a:lnTo>
                  <a:pt x="972076" y="925394"/>
                </a:lnTo>
                <a:lnTo>
                  <a:pt x="974822" y="925394"/>
                </a:lnTo>
                <a:lnTo>
                  <a:pt x="974822" y="922648"/>
                </a:lnTo>
                <a:lnTo>
                  <a:pt x="972076" y="922648"/>
                </a:lnTo>
                <a:lnTo>
                  <a:pt x="966584" y="919902"/>
                </a:lnTo>
                <a:close/>
                <a:moveTo>
                  <a:pt x="6293779" y="917156"/>
                </a:moveTo>
                <a:lnTo>
                  <a:pt x="6293779" y="925394"/>
                </a:lnTo>
                <a:lnTo>
                  <a:pt x="6296525" y="925394"/>
                </a:lnTo>
                <a:lnTo>
                  <a:pt x="6296525" y="919902"/>
                </a:lnTo>
                <a:lnTo>
                  <a:pt x="6293779" y="917156"/>
                </a:lnTo>
                <a:close/>
                <a:moveTo>
                  <a:pt x="5445272" y="917156"/>
                </a:moveTo>
                <a:lnTo>
                  <a:pt x="5445272" y="922648"/>
                </a:lnTo>
                <a:lnTo>
                  <a:pt x="5450764" y="922648"/>
                </a:lnTo>
                <a:lnTo>
                  <a:pt x="5453510" y="925394"/>
                </a:lnTo>
                <a:lnTo>
                  <a:pt x="5450764" y="919902"/>
                </a:lnTo>
                <a:lnTo>
                  <a:pt x="5445272" y="917156"/>
                </a:lnTo>
                <a:close/>
                <a:moveTo>
                  <a:pt x="5239324" y="917156"/>
                </a:moveTo>
                <a:lnTo>
                  <a:pt x="5236578" y="925394"/>
                </a:lnTo>
                <a:lnTo>
                  <a:pt x="5236578" y="930886"/>
                </a:lnTo>
                <a:lnTo>
                  <a:pt x="5239324" y="936378"/>
                </a:lnTo>
                <a:lnTo>
                  <a:pt x="5244816" y="939124"/>
                </a:lnTo>
                <a:lnTo>
                  <a:pt x="5244816" y="930886"/>
                </a:lnTo>
                <a:lnTo>
                  <a:pt x="5242070" y="925394"/>
                </a:lnTo>
                <a:lnTo>
                  <a:pt x="5247562" y="925394"/>
                </a:lnTo>
                <a:lnTo>
                  <a:pt x="5247562" y="917156"/>
                </a:lnTo>
                <a:lnTo>
                  <a:pt x="5239324" y="917156"/>
                </a:lnTo>
                <a:close/>
                <a:moveTo>
                  <a:pt x="5118501" y="917156"/>
                </a:moveTo>
                <a:lnTo>
                  <a:pt x="5118501" y="919902"/>
                </a:lnTo>
                <a:lnTo>
                  <a:pt x="5123993" y="922648"/>
                </a:lnTo>
                <a:lnTo>
                  <a:pt x="5123993" y="917156"/>
                </a:lnTo>
                <a:lnTo>
                  <a:pt x="5118501" y="917156"/>
                </a:lnTo>
                <a:close/>
                <a:moveTo>
                  <a:pt x="5082803" y="917156"/>
                </a:moveTo>
                <a:lnTo>
                  <a:pt x="5085549" y="922648"/>
                </a:lnTo>
                <a:lnTo>
                  <a:pt x="5088295" y="928140"/>
                </a:lnTo>
                <a:lnTo>
                  <a:pt x="5091041" y="930886"/>
                </a:lnTo>
                <a:lnTo>
                  <a:pt x="5093787" y="936378"/>
                </a:lnTo>
                <a:lnTo>
                  <a:pt x="5091041" y="939124"/>
                </a:lnTo>
                <a:lnTo>
                  <a:pt x="5091041" y="941870"/>
                </a:lnTo>
                <a:lnTo>
                  <a:pt x="5093787" y="947362"/>
                </a:lnTo>
                <a:lnTo>
                  <a:pt x="5107517" y="947362"/>
                </a:lnTo>
                <a:lnTo>
                  <a:pt x="5110263" y="955600"/>
                </a:lnTo>
                <a:lnTo>
                  <a:pt x="5113009" y="961092"/>
                </a:lnTo>
                <a:lnTo>
                  <a:pt x="5118501" y="961092"/>
                </a:lnTo>
                <a:lnTo>
                  <a:pt x="5118501" y="955600"/>
                </a:lnTo>
                <a:lnTo>
                  <a:pt x="5118501" y="952854"/>
                </a:lnTo>
                <a:lnTo>
                  <a:pt x="5118501" y="950108"/>
                </a:lnTo>
                <a:lnTo>
                  <a:pt x="5118501" y="944616"/>
                </a:lnTo>
                <a:lnTo>
                  <a:pt x="5115755" y="944616"/>
                </a:lnTo>
                <a:lnTo>
                  <a:pt x="5113009" y="944616"/>
                </a:lnTo>
                <a:lnTo>
                  <a:pt x="5104771" y="944616"/>
                </a:lnTo>
                <a:lnTo>
                  <a:pt x="5104771" y="941870"/>
                </a:lnTo>
                <a:lnTo>
                  <a:pt x="5102025" y="939124"/>
                </a:lnTo>
                <a:lnTo>
                  <a:pt x="5102025" y="936378"/>
                </a:lnTo>
                <a:lnTo>
                  <a:pt x="5102025" y="930886"/>
                </a:lnTo>
                <a:lnTo>
                  <a:pt x="5102025" y="928140"/>
                </a:lnTo>
                <a:lnTo>
                  <a:pt x="5096533" y="925394"/>
                </a:lnTo>
                <a:lnTo>
                  <a:pt x="5091041" y="922648"/>
                </a:lnTo>
                <a:lnTo>
                  <a:pt x="5082803" y="917156"/>
                </a:lnTo>
                <a:close/>
                <a:moveTo>
                  <a:pt x="1263149" y="911664"/>
                </a:moveTo>
                <a:lnTo>
                  <a:pt x="1263149" y="917156"/>
                </a:lnTo>
                <a:lnTo>
                  <a:pt x="1263149" y="922648"/>
                </a:lnTo>
                <a:lnTo>
                  <a:pt x="1271389" y="925394"/>
                </a:lnTo>
                <a:lnTo>
                  <a:pt x="1276880" y="922648"/>
                </a:lnTo>
                <a:lnTo>
                  <a:pt x="1279625" y="922648"/>
                </a:lnTo>
                <a:lnTo>
                  <a:pt x="1282371" y="917156"/>
                </a:lnTo>
                <a:lnTo>
                  <a:pt x="1279625" y="917156"/>
                </a:lnTo>
                <a:lnTo>
                  <a:pt x="1279625" y="914410"/>
                </a:lnTo>
                <a:lnTo>
                  <a:pt x="1279625" y="911664"/>
                </a:lnTo>
                <a:lnTo>
                  <a:pt x="1263149" y="911664"/>
                </a:lnTo>
                <a:close/>
                <a:moveTo>
                  <a:pt x="5102025" y="911664"/>
                </a:moveTo>
                <a:lnTo>
                  <a:pt x="5102025" y="917156"/>
                </a:lnTo>
                <a:lnTo>
                  <a:pt x="5104771" y="919902"/>
                </a:lnTo>
                <a:lnTo>
                  <a:pt x="5115755" y="922648"/>
                </a:lnTo>
                <a:lnTo>
                  <a:pt x="5115755" y="917156"/>
                </a:lnTo>
                <a:lnTo>
                  <a:pt x="5110263" y="917156"/>
                </a:lnTo>
                <a:lnTo>
                  <a:pt x="5107517" y="914410"/>
                </a:lnTo>
                <a:lnTo>
                  <a:pt x="5104771" y="911664"/>
                </a:lnTo>
                <a:lnTo>
                  <a:pt x="5102025" y="911664"/>
                </a:lnTo>
                <a:close/>
                <a:moveTo>
                  <a:pt x="6024673" y="906172"/>
                </a:moveTo>
                <a:lnTo>
                  <a:pt x="6024673" y="908918"/>
                </a:lnTo>
                <a:lnTo>
                  <a:pt x="6030165" y="908918"/>
                </a:lnTo>
                <a:lnTo>
                  <a:pt x="6032911" y="908918"/>
                </a:lnTo>
                <a:lnTo>
                  <a:pt x="6032911" y="906172"/>
                </a:lnTo>
                <a:lnTo>
                  <a:pt x="6030165" y="906172"/>
                </a:lnTo>
                <a:lnTo>
                  <a:pt x="6027419" y="906172"/>
                </a:lnTo>
                <a:lnTo>
                  <a:pt x="6024673" y="906172"/>
                </a:lnTo>
                <a:close/>
                <a:moveTo>
                  <a:pt x="5708886" y="906172"/>
                </a:moveTo>
                <a:lnTo>
                  <a:pt x="5708886" y="914410"/>
                </a:lnTo>
                <a:lnTo>
                  <a:pt x="5714378" y="914410"/>
                </a:lnTo>
                <a:lnTo>
                  <a:pt x="5717124" y="908918"/>
                </a:lnTo>
                <a:lnTo>
                  <a:pt x="5714378" y="908918"/>
                </a:lnTo>
                <a:lnTo>
                  <a:pt x="5708886" y="906172"/>
                </a:lnTo>
                <a:close/>
                <a:moveTo>
                  <a:pt x="5165182" y="906172"/>
                </a:moveTo>
                <a:lnTo>
                  <a:pt x="5162436" y="908918"/>
                </a:lnTo>
                <a:lnTo>
                  <a:pt x="5159690" y="908918"/>
                </a:lnTo>
                <a:lnTo>
                  <a:pt x="5159690" y="917156"/>
                </a:lnTo>
                <a:lnTo>
                  <a:pt x="5165182" y="917156"/>
                </a:lnTo>
                <a:lnTo>
                  <a:pt x="5167928" y="911664"/>
                </a:lnTo>
                <a:lnTo>
                  <a:pt x="5165182" y="906172"/>
                </a:lnTo>
                <a:close/>
                <a:moveTo>
                  <a:pt x="810063" y="906172"/>
                </a:moveTo>
                <a:lnTo>
                  <a:pt x="807317" y="911664"/>
                </a:lnTo>
                <a:lnTo>
                  <a:pt x="804571" y="914410"/>
                </a:lnTo>
                <a:lnTo>
                  <a:pt x="801825" y="917156"/>
                </a:lnTo>
                <a:lnTo>
                  <a:pt x="799080" y="919902"/>
                </a:lnTo>
                <a:lnTo>
                  <a:pt x="804571" y="919902"/>
                </a:lnTo>
                <a:lnTo>
                  <a:pt x="807317" y="917156"/>
                </a:lnTo>
                <a:lnTo>
                  <a:pt x="810063" y="914410"/>
                </a:lnTo>
                <a:lnTo>
                  <a:pt x="812809" y="914410"/>
                </a:lnTo>
                <a:lnTo>
                  <a:pt x="812809" y="908918"/>
                </a:lnTo>
                <a:lnTo>
                  <a:pt x="810063" y="906172"/>
                </a:lnTo>
                <a:close/>
                <a:moveTo>
                  <a:pt x="5791265" y="900680"/>
                </a:moveTo>
                <a:lnTo>
                  <a:pt x="5791265" y="903426"/>
                </a:lnTo>
                <a:lnTo>
                  <a:pt x="5788519" y="906172"/>
                </a:lnTo>
                <a:lnTo>
                  <a:pt x="5791265" y="906172"/>
                </a:lnTo>
                <a:lnTo>
                  <a:pt x="5794011" y="906172"/>
                </a:lnTo>
                <a:lnTo>
                  <a:pt x="5796757" y="903426"/>
                </a:lnTo>
                <a:lnTo>
                  <a:pt x="5794011" y="903426"/>
                </a:lnTo>
                <a:lnTo>
                  <a:pt x="5794011" y="900680"/>
                </a:lnTo>
                <a:lnTo>
                  <a:pt x="5791265" y="900680"/>
                </a:lnTo>
                <a:close/>
                <a:moveTo>
                  <a:pt x="903426" y="900680"/>
                </a:moveTo>
                <a:lnTo>
                  <a:pt x="895189" y="903426"/>
                </a:lnTo>
                <a:lnTo>
                  <a:pt x="895189" y="911664"/>
                </a:lnTo>
                <a:lnTo>
                  <a:pt x="903426" y="911664"/>
                </a:lnTo>
                <a:lnTo>
                  <a:pt x="903426" y="908918"/>
                </a:lnTo>
                <a:lnTo>
                  <a:pt x="908919" y="906172"/>
                </a:lnTo>
                <a:lnTo>
                  <a:pt x="911664" y="906172"/>
                </a:lnTo>
                <a:lnTo>
                  <a:pt x="911664" y="903426"/>
                </a:lnTo>
                <a:lnTo>
                  <a:pt x="903426" y="900680"/>
                </a:lnTo>
                <a:close/>
                <a:moveTo>
                  <a:pt x="1556969" y="895188"/>
                </a:moveTo>
                <a:lnTo>
                  <a:pt x="1565206" y="897934"/>
                </a:lnTo>
                <a:lnTo>
                  <a:pt x="1573445" y="897934"/>
                </a:lnTo>
                <a:lnTo>
                  <a:pt x="1573445" y="914410"/>
                </a:lnTo>
                <a:lnTo>
                  <a:pt x="1559715" y="914410"/>
                </a:lnTo>
                <a:lnTo>
                  <a:pt x="1562461" y="903426"/>
                </a:lnTo>
                <a:lnTo>
                  <a:pt x="1559715" y="903426"/>
                </a:lnTo>
                <a:lnTo>
                  <a:pt x="1556969" y="900680"/>
                </a:lnTo>
                <a:lnTo>
                  <a:pt x="1556969" y="897934"/>
                </a:lnTo>
                <a:lnTo>
                  <a:pt x="1556969" y="895188"/>
                </a:lnTo>
                <a:close/>
                <a:moveTo>
                  <a:pt x="1419670" y="892443"/>
                </a:moveTo>
                <a:lnTo>
                  <a:pt x="1414179" y="900680"/>
                </a:lnTo>
                <a:lnTo>
                  <a:pt x="1419670" y="903426"/>
                </a:lnTo>
                <a:lnTo>
                  <a:pt x="1425162" y="903426"/>
                </a:lnTo>
                <a:lnTo>
                  <a:pt x="1433400" y="897934"/>
                </a:lnTo>
                <a:lnTo>
                  <a:pt x="1433400" y="895188"/>
                </a:lnTo>
                <a:lnTo>
                  <a:pt x="1427907" y="892443"/>
                </a:lnTo>
                <a:lnTo>
                  <a:pt x="1419670" y="892443"/>
                </a:lnTo>
                <a:close/>
                <a:moveTo>
                  <a:pt x="5225594" y="892442"/>
                </a:moveTo>
                <a:lnTo>
                  <a:pt x="5225594" y="895188"/>
                </a:lnTo>
                <a:lnTo>
                  <a:pt x="5222848" y="895188"/>
                </a:lnTo>
                <a:lnTo>
                  <a:pt x="5222848" y="900680"/>
                </a:lnTo>
                <a:lnTo>
                  <a:pt x="5231086" y="900680"/>
                </a:lnTo>
                <a:lnTo>
                  <a:pt x="5239324" y="900680"/>
                </a:lnTo>
                <a:lnTo>
                  <a:pt x="5239324" y="897934"/>
                </a:lnTo>
                <a:lnTo>
                  <a:pt x="5242070" y="895188"/>
                </a:lnTo>
                <a:lnTo>
                  <a:pt x="5231086" y="900680"/>
                </a:lnTo>
                <a:lnTo>
                  <a:pt x="5231086" y="895188"/>
                </a:lnTo>
                <a:lnTo>
                  <a:pt x="5228340" y="892442"/>
                </a:lnTo>
                <a:lnTo>
                  <a:pt x="5225594" y="892442"/>
                </a:lnTo>
                <a:close/>
                <a:moveTo>
                  <a:pt x="1046217" y="889697"/>
                </a:moveTo>
                <a:lnTo>
                  <a:pt x="1040725" y="892443"/>
                </a:lnTo>
                <a:lnTo>
                  <a:pt x="1035233" y="895188"/>
                </a:lnTo>
                <a:lnTo>
                  <a:pt x="1035233" y="900680"/>
                </a:lnTo>
                <a:lnTo>
                  <a:pt x="1032487" y="903426"/>
                </a:lnTo>
                <a:lnTo>
                  <a:pt x="1029742" y="911664"/>
                </a:lnTo>
                <a:lnTo>
                  <a:pt x="1035233" y="903426"/>
                </a:lnTo>
                <a:lnTo>
                  <a:pt x="1040725" y="895188"/>
                </a:lnTo>
                <a:lnTo>
                  <a:pt x="1043472" y="895188"/>
                </a:lnTo>
                <a:lnTo>
                  <a:pt x="1046217" y="897934"/>
                </a:lnTo>
                <a:lnTo>
                  <a:pt x="1048964" y="897934"/>
                </a:lnTo>
                <a:lnTo>
                  <a:pt x="1048964" y="895188"/>
                </a:lnTo>
                <a:lnTo>
                  <a:pt x="1046217" y="895188"/>
                </a:lnTo>
                <a:lnTo>
                  <a:pt x="1046217" y="892443"/>
                </a:lnTo>
                <a:lnTo>
                  <a:pt x="1046217" y="889697"/>
                </a:lnTo>
                <a:close/>
                <a:moveTo>
                  <a:pt x="1002281" y="889697"/>
                </a:moveTo>
                <a:lnTo>
                  <a:pt x="1002281" y="895188"/>
                </a:lnTo>
                <a:lnTo>
                  <a:pt x="999536" y="897934"/>
                </a:lnTo>
                <a:lnTo>
                  <a:pt x="996790" y="900680"/>
                </a:lnTo>
                <a:lnTo>
                  <a:pt x="996790" y="906172"/>
                </a:lnTo>
                <a:lnTo>
                  <a:pt x="1002281" y="906172"/>
                </a:lnTo>
                <a:lnTo>
                  <a:pt x="1002281" y="911664"/>
                </a:lnTo>
                <a:lnTo>
                  <a:pt x="1005028" y="908918"/>
                </a:lnTo>
                <a:lnTo>
                  <a:pt x="1010520" y="906172"/>
                </a:lnTo>
                <a:lnTo>
                  <a:pt x="1013265" y="903426"/>
                </a:lnTo>
                <a:lnTo>
                  <a:pt x="1016011" y="903426"/>
                </a:lnTo>
                <a:lnTo>
                  <a:pt x="1016011" y="895188"/>
                </a:lnTo>
                <a:lnTo>
                  <a:pt x="1010520" y="892443"/>
                </a:lnTo>
                <a:lnTo>
                  <a:pt x="1007773" y="889697"/>
                </a:lnTo>
                <a:lnTo>
                  <a:pt x="1002281" y="889697"/>
                </a:lnTo>
                <a:close/>
                <a:moveTo>
                  <a:pt x="5329941" y="889696"/>
                </a:moveTo>
                <a:lnTo>
                  <a:pt x="5329941" y="895188"/>
                </a:lnTo>
                <a:lnTo>
                  <a:pt x="5332687" y="897934"/>
                </a:lnTo>
                <a:lnTo>
                  <a:pt x="5335433" y="897934"/>
                </a:lnTo>
                <a:lnTo>
                  <a:pt x="5338179" y="897934"/>
                </a:lnTo>
                <a:lnTo>
                  <a:pt x="5338179" y="895188"/>
                </a:lnTo>
                <a:lnTo>
                  <a:pt x="5338179" y="892442"/>
                </a:lnTo>
                <a:lnTo>
                  <a:pt x="5335433" y="889696"/>
                </a:lnTo>
                <a:lnTo>
                  <a:pt x="5329941" y="889696"/>
                </a:lnTo>
                <a:close/>
                <a:moveTo>
                  <a:pt x="5305227" y="889696"/>
                </a:moveTo>
                <a:lnTo>
                  <a:pt x="5305227" y="892442"/>
                </a:lnTo>
                <a:lnTo>
                  <a:pt x="5310719" y="892442"/>
                </a:lnTo>
                <a:lnTo>
                  <a:pt x="5310719" y="889696"/>
                </a:lnTo>
                <a:lnTo>
                  <a:pt x="5305227" y="889696"/>
                </a:lnTo>
                <a:close/>
                <a:moveTo>
                  <a:pt x="983059" y="884205"/>
                </a:moveTo>
                <a:lnTo>
                  <a:pt x="983059" y="889697"/>
                </a:lnTo>
                <a:lnTo>
                  <a:pt x="991298" y="892443"/>
                </a:lnTo>
                <a:lnTo>
                  <a:pt x="994043" y="892443"/>
                </a:lnTo>
                <a:lnTo>
                  <a:pt x="996790" y="892443"/>
                </a:lnTo>
                <a:lnTo>
                  <a:pt x="996790" y="889697"/>
                </a:lnTo>
                <a:lnTo>
                  <a:pt x="996790" y="886951"/>
                </a:lnTo>
                <a:lnTo>
                  <a:pt x="994043" y="884205"/>
                </a:lnTo>
                <a:lnTo>
                  <a:pt x="988551" y="886951"/>
                </a:lnTo>
                <a:lnTo>
                  <a:pt x="983059" y="884205"/>
                </a:lnTo>
                <a:close/>
                <a:moveTo>
                  <a:pt x="5113009" y="884204"/>
                </a:moveTo>
                <a:lnTo>
                  <a:pt x="5113009" y="886950"/>
                </a:lnTo>
                <a:lnTo>
                  <a:pt x="5110263" y="889696"/>
                </a:lnTo>
                <a:lnTo>
                  <a:pt x="5107517" y="889696"/>
                </a:lnTo>
                <a:lnTo>
                  <a:pt x="5104771" y="892442"/>
                </a:lnTo>
                <a:lnTo>
                  <a:pt x="5113009" y="892442"/>
                </a:lnTo>
                <a:lnTo>
                  <a:pt x="5118501" y="897934"/>
                </a:lnTo>
                <a:lnTo>
                  <a:pt x="5123993" y="895188"/>
                </a:lnTo>
                <a:lnTo>
                  <a:pt x="5129485" y="892442"/>
                </a:lnTo>
                <a:lnTo>
                  <a:pt x="5143214" y="889696"/>
                </a:lnTo>
                <a:lnTo>
                  <a:pt x="5143214" y="884204"/>
                </a:lnTo>
                <a:lnTo>
                  <a:pt x="5132230" y="884204"/>
                </a:lnTo>
                <a:lnTo>
                  <a:pt x="5123993" y="889696"/>
                </a:lnTo>
                <a:lnTo>
                  <a:pt x="5121247" y="884204"/>
                </a:lnTo>
                <a:lnTo>
                  <a:pt x="5113009" y="884204"/>
                </a:lnTo>
                <a:close/>
                <a:moveTo>
                  <a:pt x="5167928" y="881458"/>
                </a:moveTo>
                <a:lnTo>
                  <a:pt x="5170674" y="884204"/>
                </a:lnTo>
                <a:lnTo>
                  <a:pt x="5176166" y="884204"/>
                </a:lnTo>
                <a:lnTo>
                  <a:pt x="5176166" y="881458"/>
                </a:lnTo>
                <a:lnTo>
                  <a:pt x="5167928" y="881458"/>
                </a:lnTo>
                <a:close/>
                <a:moveTo>
                  <a:pt x="1032487" y="878713"/>
                </a:moveTo>
                <a:lnTo>
                  <a:pt x="1032487" y="884205"/>
                </a:lnTo>
                <a:lnTo>
                  <a:pt x="1035233" y="884205"/>
                </a:lnTo>
                <a:lnTo>
                  <a:pt x="1035233" y="878713"/>
                </a:lnTo>
                <a:lnTo>
                  <a:pt x="1032487" y="878713"/>
                </a:lnTo>
                <a:close/>
                <a:moveTo>
                  <a:pt x="952854" y="878713"/>
                </a:moveTo>
                <a:lnTo>
                  <a:pt x="950108" y="884205"/>
                </a:lnTo>
                <a:lnTo>
                  <a:pt x="950108" y="886951"/>
                </a:lnTo>
                <a:lnTo>
                  <a:pt x="952854" y="892443"/>
                </a:lnTo>
                <a:lnTo>
                  <a:pt x="955600" y="895188"/>
                </a:lnTo>
                <a:lnTo>
                  <a:pt x="958346" y="895188"/>
                </a:lnTo>
                <a:lnTo>
                  <a:pt x="961092" y="892443"/>
                </a:lnTo>
                <a:lnTo>
                  <a:pt x="961092" y="889697"/>
                </a:lnTo>
                <a:lnTo>
                  <a:pt x="955600" y="886951"/>
                </a:lnTo>
                <a:lnTo>
                  <a:pt x="950108" y="886951"/>
                </a:lnTo>
                <a:lnTo>
                  <a:pt x="952854" y="884205"/>
                </a:lnTo>
                <a:lnTo>
                  <a:pt x="952854" y="878713"/>
                </a:lnTo>
                <a:close/>
                <a:moveTo>
                  <a:pt x="5898358" y="878712"/>
                </a:moveTo>
                <a:lnTo>
                  <a:pt x="5901104" y="881458"/>
                </a:lnTo>
                <a:lnTo>
                  <a:pt x="5903850" y="886950"/>
                </a:lnTo>
                <a:lnTo>
                  <a:pt x="5906596" y="884204"/>
                </a:lnTo>
                <a:lnTo>
                  <a:pt x="5909342" y="881458"/>
                </a:lnTo>
                <a:lnTo>
                  <a:pt x="5903850" y="881458"/>
                </a:lnTo>
                <a:lnTo>
                  <a:pt x="5898358" y="878712"/>
                </a:lnTo>
                <a:close/>
                <a:moveTo>
                  <a:pt x="5275021" y="873220"/>
                </a:moveTo>
                <a:lnTo>
                  <a:pt x="5272275" y="878712"/>
                </a:lnTo>
                <a:lnTo>
                  <a:pt x="5277767" y="878712"/>
                </a:lnTo>
                <a:lnTo>
                  <a:pt x="5277767" y="873220"/>
                </a:lnTo>
                <a:lnTo>
                  <a:pt x="5275021" y="873220"/>
                </a:lnTo>
                <a:close/>
                <a:moveTo>
                  <a:pt x="930887" y="870475"/>
                </a:moveTo>
                <a:lnTo>
                  <a:pt x="928141" y="873221"/>
                </a:lnTo>
                <a:lnTo>
                  <a:pt x="928141" y="878713"/>
                </a:lnTo>
                <a:lnTo>
                  <a:pt x="930887" y="878713"/>
                </a:lnTo>
                <a:lnTo>
                  <a:pt x="933632" y="881459"/>
                </a:lnTo>
                <a:lnTo>
                  <a:pt x="936378" y="884205"/>
                </a:lnTo>
                <a:lnTo>
                  <a:pt x="936378" y="875967"/>
                </a:lnTo>
                <a:lnTo>
                  <a:pt x="930887" y="870475"/>
                </a:lnTo>
                <a:close/>
                <a:moveTo>
                  <a:pt x="5873644" y="870475"/>
                </a:moveTo>
                <a:lnTo>
                  <a:pt x="5873644" y="878712"/>
                </a:lnTo>
                <a:lnTo>
                  <a:pt x="5879136" y="875966"/>
                </a:lnTo>
                <a:lnTo>
                  <a:pt x="5879136" y="870475"/>
                </a:lnTo>
                <a:lnTo>
                  <a:pt x="5873644" y="870475"/>
                </a:lnTo>
                <a:close/>
                <a:moveTo>
                  <a:pt x="5203626" y="870475"/>
                </a:moveTo>
                <a:lnTo>
                  <a:pt x="5206372" y="875966"/>
                </a:lnTo>
                <a:lnTo>
                  <a:pt x="5209118" y="878712"/>
                </a:lnTo>
                <a:lnTo>
                  <a:pt x="5211864" y="878712"/>
                </a:lnTo>
                <a:lnTo>
                  <a:pt x="5211864" y="870475"/>
                </a:lnTo>
                <a:lnTo>
                  <a:pt x="5203626" y="870475"/>
                </a:lnTo>
                <a:close/>
                <a:moveTo>
                  <a:pt x="1013265" y="867729"/>
                </a:moveTo>
                <a:lnTo>
                  <a:pt x="1013265" y="873221"/>
                </a:lnTo>
                <a:lnTo>
                  <a:pt x="1024250" y="873221"/>
                </a:lnTo>
                <a:lnTo>
                  <a:pt x="1018758" y="870475"/>
                </a:lnTo>
                <a:lnTo>
                  <a:pt x="1013265" y="867729"/>
                </a:lnTo>
                <a:close/>
                <a:moveTo>
                  <a:pt x="1414179" y="864983"/>
                </a:moveTo>
                <a:lnTo>
                  <a:pt x="1414179" y="870475"/>
                </a:lnTo>
                <a:lnTo>
                  <a:pt x="1416924" y="870475"/>
                </a:lnTo>
                <a:lnTo>
                  <a:pt x="1419670" y="870475"/>
                </a:lnTo>
                <a:lnTo>
                  <a:pt x="1419670" y="873221"/>
                </a:lnTo>
                <a:lnTo>
                  <a:pt x="1422416" y="873221"/>
                </a:lnTo>
                <a:lnTo>
                  <a:pt x="1422416" y="867729"/>
                </a:lnTo>
                <a:lnTo>
                  <a:pt x="1419670" y="867729"/>
                </a:lnTo>
                <a:lnTo>
                  <a:pt x="1416924" y="864983"/>
                </a:lnTo>
                <a:lnTo>
                  <a:pt x="1414179" y="864983"/>
                </a:lnTo>
                <a:close/>
                <a:moveTo>
                  <a:pt x="5527651" y="864983"/>
                </a:moveTo>
                <a:lnTo>
                  <a:pt x="5522159" y="867729"/>
                </a:lnTo>
                <a:lnTo>
                  <a:pt x="5522159" y="870475"/>
                </a:lnTo>
                <a:lnTo>
                  <a:pt x="5527651" y="870475"/>
                </a:lnTo>
                <a:lnTo>
                  <a:pt x="5530397" y="870475"/>
                </a:lnTo>
                <a:lnTo>
                  <a:pt x="5530397" y="867729"/>
                </a:lnTo>
                <a:lnTo>
                  <a:pt x="5527651" y="864983"/>
                </a:lnTo>
                <a:close/>
                <a:moveTo>
                  <a:pt x="1548731" y="856745"/>
                </a:moveTo>
                <a:lnTo>
                  <a:pt x="1548731" y="862237"/>
                </a:lnTo>
                <a:lnTo>
                  <a:pt x="1554223" y="862237"/>
                </a:lnTo>
                <a:lnTo>
                  <a:pt x="1554223" y="859491"/>
                </a:lnTo>
                <a:lnTo>
                  <a:pt x="1551477" y="856745"/>
                </a:lnTo>
                <a:lnTo>
                  <a:pt x="1548731" y="856745"/>
                </a:lnTo>
                <a:close/>
                <a:moveTo>
                  <a:pt x="1114868" y="856745"/>
                </a:moveTo>
                <a:lnTo>
                  <a:pt x="1114868" y="862237"/>
                </a:lnTo>
                <a:lnTo>
                  <a:pt x="1120359" y="862237"/>
                </a:lnTo>
                <a:lnTo>
                  <a:pt x="1123105" y="856745"/>
                </a:lnTo>
                <a:lnTo>
                  <a:pt x="1114868" y="856745"/>
                </a:lnTo>
                <a:close/>
                <a:moveTo>
                  <a:pt x="958346" y="856745"/>
                </a:moveTo>
                <a:lnTo>
                  <a:pt x="958346" y="862237"/>
                </a:lnTo>
                <a:lnTo>
                  <a:pt x="963838" y="862237"/>
                </a:lnTo>
                <a:lnTo>
                  <a:pt x="963838" y="856745"/>
                </a:lnTo>
                <a:lnTo>
                  <a:pt x="958346" y="856745"/>
                </a:lnTo>
                <a:close/>
                <a:moveTo>
                  <a:pt x="922648" y="856745"/>
                </a:moveTo>
                <a:lnTo>
                  <a:pt x="919902" y="859491"/>
                </a:lnTo>
                <a:lnTo>
                  <a:pt x="919902" y="862237"/>
                </a:lnTo>
                <a:lnTo>
                  <a:pt x="922648" y="862237"/>
                </a:lnTo>
                <a:lnTo>
                  <a:pt x="925395" y="862237"/>
                </a:lnTo>
                <a:lnTo>
                  <a:pt x="925395" y="859491"/>
                </a:lnTo>
                <a:lnTo>
                  <a:pt x="922648" y="856745"/>
                </a:lnTo>
                <a:close/>
                <a:moveTo>
                  <a:pt x="5615523" y="853999"/>
                </a:moveTo>
                <a:lnTo>
                  <a:pt x="5607285" y="856745"/>
                </a:lnTo>
                <a:lnTo>
                  <a:pt x="5604539" y="862237"/>
                </a:lnTo>
                <a:lnTo>
                  <a:pt x="5610031" y="862237"/>
                </a:lnTo>
                <a:lnTo>
                  <a:pt x="5615523" y="867729"/>
                </a:lnTo>
                <a:lnTo>
                  <a:pt x="5615523" y="853999"/>
                </a:lnTo>
                <a:close/>
                <a:moveTo>
                  <a:pt x="5069073" y="853999"/>
                </a:moveTo>
                <a:lnTo>
                  <a:pt x="5069073" y="859491"/>
                </a:lnTo>
                <a:lnTo>
                  <a:pt x="5071819" y="864983"/>
                </a:lnTo>
                <a:lnTo>
                  <a:pt x="5077311" y="867729"/>
                </a:lnTo>
                <a:lnTo>
                  <a:pt x="5080057" y="862237"/>
                </a:lnTo>
                <a:lnTo>
                  <a:pt x="5080057" y="853999"/>
                </a:lnTo>
                <a:lnTo>
                  <a:pt x="5069073" y="853999"/>
                </a:lnTo>
                <a:close/>
                <a:moveTo>
                  <a:pt x="895189" y="851253"/>
                </a:moveTo>
                <a:lnTo>
                  <a:pt x="895189" y="859491"/>
                </a:lnTo>
                <a:lnTo>
                  <a:pt x="895189" y="862237"/>
                </a:lnTo>
                <a:lnTo>
                  <a:pt x="895189" y="864983"/>
                </a:lnTo>
                <a:lnTo>
                  <a:pt x="900680" y="859491"/>
                </a:lnTo>
                <a:lnTo>
                  <a:pt x="911664" y="859491"/>
                </a:lnTo>
                <a:lnTo>
                  <a:pt x="911664" y="856745"/>
                </a:lnTo>
                <a:lnTo>
                  <a:pt x="908919" y="856745"/>
                </a:lnTo>
                <a:lnTo>
                  <a:pt x="908919" y="853999"/>
                </a:lnTo>
                <a:lnTo>
                  <a:pt x="908919" y="851253"/>
                </a:lnTo>
                <a:lnTo>
                  <a:pt x="895189" y="851253"/>
                </a:lnTo>
                <a:close/>
                <a:moveTo>
                  <a:pt x="719446" y="851253"/>
                </a:moveTo>
                <a:lnTo>
                  <a:pt x="722192" y="853999"/>
                </a:lnTo>
                <a:lnTo>
                  <a:pt x="722192" y="856745"/>
                </a:lnTo>
                <a:lnTo>
                  <a:pt x="724938" y="856745"/>
                </a:lnTo>
                <a:lnTo>
                  <a:pt x="724938" y="851253"/>
                </a:lnTo>
                <a:lnTo>
                  <a:pt x="722192" y="851253"/>
                </a:lnTo>
                <a:lnTo>
                  <a:pt x="719446" y="851253"/>
                </a:lnTo>
                <a:close/>
                <a:moveTo>
                  <a:pt x="5307973" y="851253"/>
                </a:moveTo>
                <a:lnTo>
                  <a:pt x="5307973" y="856745"/>
                </a:lnTo>
                <a:lnTo>
                  <a:pt x="5310719" y="859491"/>
                </a:lnTo>
                <a:lnTo>
                  <a:pt x="5316211" y="859491"/>
                </a:lnTo>
                <a:lnTo>
                  <a:pt x="5316211" y="856745"/>
                </a:lnTo>
                <a:lnTo>
                  <a:pt x="5316211" y="853999"/>
                </a:lnTo>
                <a:lnTo>
                  <a:pt x="5313465" y="851253"/>
                </a:lnTo>
                <a:lnTo>
                  <a:pt x="5307973" y="851253"/>
                </a:lnTo>
                <a:close/>
                <a:moveTo>
                  <a:pt x="1449877" y="848507"/>
                </a:moveTo>
                <a:lnTo>
                  <a:pt x="1447130" y="851253"/>
                </a:lnTo>
                <a:lnTo>
                  <a:pt x="1447130" y="856745"/>
                </a:lnTo>
                <a:lnTo>
                  <a:pt x="1447130" y="859491"/>
                </a:lnTo>
                <a:lnTo>
                  <a:pt x="1452622" y="864983"/>
                </a:lnTo>
                <a:lnTo>
                  <a:pt x="1458113" y="867729"/>
                </a:lnTo>
                <a:lnTo>
                  <a:pt x="1458113" y="870475"/>
                </a:lnTo>
                <a:lnTo>
                  <a:pt x="1458113" y="873221"/>
                </a:lnTo>
                <a:lnTo>
                  <a:pt x="1471844" y="873221"/>
                </a:lnTo>
                <a:lnTo>
                  <a:pt x="1474589" y="873221"/>
                </a:lnTo>
                <a:lnTo>
                  <a:pt x="1480081" y="870475"/>
                </a:lnTo>
                <a:lnTo>
                  <a:pt x="1474589" y="864983"/>
                </a:lnTo>
                <a:lnTo>
                  <a:pt x="1474589" y="856745"/>
                </a:lnTo>
                <a:lnTo>
                  <a:pt x="1469098" y="856745"/>
                </a:lnTo>
                <a:lnTo>
                  <a:pt x="1466353" y="853999"/>
                </a:lnTo>
                <a:lnTo>
                  <a:pt x="1466353" y="851253"/>
                </a:lnTo>
                <a:lnTo>
                  <a:pt x="1455368" y="848507"/>
                </a:lnTo>
                <a:lnTo>
                  <a:pt x="1449877" y="848507"/>
                </a:lnTo>
                <a:close/>
                <a:moveTo>
                  <a:pt x="1013265" y="845761"/>
                </a:moveTo>
                <a:lnTo>
                  <a:pt x="1013265" y="851253"/>
                </a:lnTo>
                <a:lnTo>
                  <a:pt x="1018758" y="851253"/>
                </a:lnTo>
                <a:lnTo>
                  <a:pt x="1018758" y="845761"/>
                </a:lnTo>
                <a:lnTo>
                  <a:pt x="1013265" y="845761"/>
                </a:lnTo>
                <a:close/>
                <a:moveTo>
                  <a:pt x="1002281" y="845761"/>
                </a:moveTo>
                <a:lnTo>
                  <a:pt x="1002281" y="851253"/>
                </a:lnTo>
                <a:lnTo>
                  <a:pt x="1005028" y="851253"/>
                </a:lnTo>
                <a:lnTo>
                  <a:pt x="1005028" y="845761"/>
                </a:lnTo>
                <a:lnTo>
                  <a:pt x="1002281" y="845761"/>
                </a:lnTo>
                <a:close/>
                <a:moveTo>
                  <a:pt x="969330" y="845761"/>
                </a:moveTo>
                <a:lnTo>
                  <a:pt x="969330" y="848507"/>
                </a:lnTo>
                <a:lnTo>
                  <a:pt x="974822" y="851253"/>
                </a:lnTo>
                <a:lnTo>
                  <a:pt x="977568" y="848507"/>
                </a:lnTo>
                <a:lnTo>
                  <a:pt x="977568" y="845761"/>
                </a:lnTo>
                <a:lnTo>
                  <a:pt x="972076" y="845761"/>
                </a:lnTo>
                <a:lnTo>
                  <a:pt x="969330" y="845761"/>
                </a:lnTo>
                <a:close/>
                <a:moveTo>
                  <a:pt x="939124" y="845761"/>
                </a:moveTo>
                <a:lnTo>
                  <a:pt x="930887" y="848507"/>
                </a:lnTo>
                <a:lnTo>
                  <a:pt x="928141" y="851253"/>
                </a:lnTo>
                <a:lnTo>
                  <a:pt x="928141" y="856745"/>
                </a:lnTo>
                <a:lnTo>
                  <a:pt x="930887" y="853999"/>
                </a:lnTo>
                <a:lnTo>
                  <a:pt x="933632" y="851253"/>
                </a:lnTo>
                <a:lnTo>
                  <a:pt x="936378" y="851253"/>
                </a:lnTo>
                <a:lnTo>
                  <a:pt x="936378" y="856745"/>
                </a:lnTo>
                <a:lnTo>
                  <a:pt x="939124" y="856745"/>
                </a:lnTo>
                <a:lnTo>
                  <a:pt x="939124" y="845761"/>
                </a:lnTo>
                <a:close/>
                <a:moveTo>
                  <a:pt x="1290611" y="843015"/>
                </a:moveTo>
                <a:lnTo>
                  <a:pt x="1290611" y="845761"/>
                </a:lnTo>
                <a:lnTo>
                  <a:pt x="1287865" y="845761"/>
                </a:lnTo>
                <a:lnTo>
                  <a:pt x="1287865" y="848507"/>
                </a:lnTo>
                <a:lnTo>
                  <a:pt x="1296101" y="848507"/>
                </a:lnTo>
                <a:lnTo>
                  <a:pt x="1296101" y="843015"/>
                </a:lnTo>
                <a:lnTo>
                  <a:pt x="1290611" y="843015"/>
                </a:lnTo>
                <a:close/>
                <a:moveTo>
                  <a:pt x="1035233" y="843015"/>
                </a:moveTo>
                <a:lnTo>
                  <a:pt x="1040725" y="845761"/>
                </a:lnTo>
                <a:lnTo>
                  <a:pt x="1048964" y="845761"/>
                </a:lnTo>
                <a:lnTo>
                  <a:pt x="1054456" y="843015"/>
                </a:lnTo>
                <a:lnTo>
                  <a:pt x="1040725" y="843015"/>
                </a:lnTo>
                <a:lnTo>
                  <a:pt x="1035233" y="843015"/>
                </a:lnTo>
                <a:close/>
                <a:moveTo>
                  <a:pt x="656289" y="840269"/>
                </a:moveTo>
                <a:lnTo>
                  <a:pt x="656289" y="845761"/>
                </a:lnTo>
                <a:lnTo>
                  <a:pt x="656289" y="851253"/>
                </a:lnTo>
                <a:lnTo>
                  <a:pt x="659035" y="851253"/>
                </a:lnTo>
                <a:lnTo>
                  <a:pt x="661780" y="851253"/>
                </a:lnTo>
                <a:lnTo>
                  <a:pt x="661780" y="845761"/>
                </a:lnTo>
                <a:lnTo>
                  <a:pt x="661780" y="843015"/>
                </a:lnTo>
                <a:lnTo>
                  <a:pt x="656289" y="840269"/>
                </a:lnTo>
                <a:close/>
                <a:moveTo>
                  <a:pt x="5091041" y="837523"/>
                </a:moveTo>
                <a:lnTo>
                  <a:pt x="5091041" y="843015"/>
                </a:lnTo>
                <a:lnTo>
                  <a:pt x="5093787" y="845761"/>
                </a:lnTo>
                <a:lnTo>
                  <a:pt x="5099279" y="843015"/>
                </a:lnTo>
                <a:lnTo>
                  <a:pt x="5099279" y="840269"/>
                </a:lnTo>
                <a:lnTo>
                  <a:pt x="5096533" y="837523"/>
                </a:lnTo>
                <a:lnTo>
                  <a:pt x="5091041" y="837523"/>
                </a:lnTo>
                <a:close/>
                <a:moveTo>
                  <a:pt x="906173" y="837523"/>
                </a:moveTo>
                <a:lnTo>
                  <a:pt x="906173" y="840269"/>
                </a:lnTo>
                <a:lnTo>
                  <a:pt x="911664" y="843015"/>
                </a:lnTo>
                <a:lnTo>
                  <a:pt x="911664" y="837523"/>
                </a:lnTo>
                <a:lnTo>
                  <a:pt x="906173" y="837523"/>
                </a:lnTo>
                <a:close/>
                <a:moveTo>
                  <a:pt x="236154" y="837523"/>
                </a:moveTo>
                <a:lnTo>
                  <a:pt x="233408" y="840269"/>
                </a:lnTo>
                <a:lnTo>
                  <a:pt x="233408" y="843015"/>
                </a:lnTo>
                <a:lnTo>
                  <a:pt x="233408" y="845761"/>
                </a:lnTo>
                <a:lnTo>
                  <a:pt x="236154" y="848507"/>
                </a:lnTo>
                <a:lnTo>
                  <a:pt x="241646" y="845761"/>
                </a:lnTo>
                <a:lnTo>
                  <a:pt x="241646" y="843015"/>
                </a:lnTo>
                <a:lnTo>
                  <a:pt x="244392" y="837523"/>
                </a:lnTo>
                <a:lnTo>
                  <a:pt x="236154" y="837523"/>
                </a:lnTo>
                <a:close/>
                <a:moveTo>
                  <a:pt x="214186" y="837523"/>
                </a:moveTo>
                <a:lnTo>
                  <a:pt x="214186" y="843015"/>
                </a:lnTo>
                <a:lnTo>
                  <a:pt x="214186" y="848507"/>
                </a:lnTo>
                <a:lnTo>
                  <a:pt x="219678" y="845761"/>
                </a:lnTo>
                <a:lnTo>
                  <a:pt x="222424" y="843015"/>
                </a:lnTo>
                <a:lnTo>
                  <a:pt x="219678" y="840269"/>
                </a:lnTo>
                <a:lnTo>
                  <a:pt x="219678" y="837523"/>
                </a:lnTo>
                <a:lnTo>
                  <a:pt x="216932" y="837523"/>
                </a:lnTo>
                <a:lnTo>
                  <a:pt x="214186" y="837523"/>
                </a:lnTo>
                <a:close/>
                <a:moveTo>
                  <a:pt x="1518526" y="834777"/>
                </a:moveTo>
                <a:lnTo>
                  <a:pt x="1513033" y="837523"/>
                </a:lnTo>
                <a:lnTo>
                  <a:pt x="1507541" y="840269"/>
                </a:lnTo>
                <a:lnTo>
                  <a:pt x="1507541" y="848507"/>
                </a:lnTo>
                <a:lnTo>
                  <a:pt x="1504796" y="856745"/>
                </a:lnTo>
                <a:lnTo>
                  <a:pt x="1502050" y="853999"/>
                </a:lnTo>
                <a:lnTo>
                  <a:pt x="1496557" y="856745"/>
                </a:lnTo>
                <a:lnTo>
                  <a:pt x="1493811" y="859491"/>
                </a:lnTo>
                <a:lnTo>
                  <a:pt x="1491065" y="864983"/>
                </a:lnTo>
                <a:lnTo>
                  <a:pt x="1493811" y="864983"/>
                </a:lnTo>
                <a:lnTo>
                  <a:pt x="1496557" y="864983"/>
                </a:lnTo>
                <a:lnTo>
                  <a:pt x="1499304" y="862237"/>
                </a:lnTo>
                <a:lnTo>
                  <a:pt x="1504796" y="862237"/>
                </a:lnTo>
                <a:lnTo>
                  <a:pt x="1507541" y="856745"/>
                </a:lnTo>
                <a:lnTo>
                  <a:pt x="1515779" y="856745"/>
                </a:lnTo>
                <a:lnTo>
                  <a:pt x="1515779" y="859491"/>
                </a:lnTo>
                <a:lnTo>
                  <a:pt x="1518526" y="862237"/>
                </a:lnTo>
                <a:lnTo>
                  <a:pt x="1521272" y="862237"/>
                </a:lnTo>
                <a:lnTo>
                  <a:pt x="1521272" y="864983"/>
                </a:lnTo>
                <a:lnTo>
                  <a:pt x="1515779" y="864983"/>
                </a:lnTo>
                <a:lnTo>
                  <a:pt x="1513033" y="864983"/>
                </a:lnTo>
                <a:lnTo>
                  <a:pt x="1502050" y="864983"/>
                </a:lnTo>
                <a:lnTo>
                  <a:pt x="1499304" y="873221"/>
                </a:lnTo>
                <a:lnTo>
                  <a:pt x="1496557" y="881459"/>
                </a:lnTo>
                <a:lnTo>
                  <a:pt x="1502050" y="884205"/>
                </a:lnTo>
                <a:lnTo>
                  <a:pt x="1504796" y="889697"/>
                </a:lnTo>
                <a:lnTo>
                  <a:pt x="1507541" y="889697"/>
                </a:lnTo>
                <a:lnTo>
                  <a:pt x="1510287" y="889697"/>
                </a:lnTo>
                <a:lnTo>
                  <a:pt x="1515779" y="889697"/>
                </a:lnTo>
                <a:lnTo>
                  <a:pt x="1518526" y="889697"/>
                </a:lnTo>
                <a:lnTo>
                  <a:pt x="1521272" y="884205"/>
                </a:lnTo>
                <a:lnTo>
                  <a:pt x="1524017" y="878713"/>
                </a:lnTo>
                <a:lnTo>
                  <a:pt x="1526763" y="873221"/>
                </a:lnTo>
                <a:lnTo>
                  <a:pt x="1526763" y="862237"/>
                </a:lnTo>
                <a:lnTo>
                  <a:pt x="1532255" y="862237"/>
                </a:lnTo>
                <a:lnTo>
                  <a:pt x="1532255" y="856745"/>
                </a:lnTo>
                <a:lnTo>
                  <a:pt x="1535002" y="853999"/>
                </a:lnTo>
                <a:lnTo>
                  <a:pt x="1537748" y="851253"/>
                </a:lnTo>
                <a:lnTo>
                  <a:pt x="1535002" y="845761"/>
                </a:lnTo>
                <a:lnTo>
                  <a:pt x="1535002" y="840269"/>
                </a:lnTo>
                <a:lnTo>
                  <a:pt x="1518526" y="834777"/>
                </a:lnTo>
                <a:close/>
                <a:moveTo>
                  <a:pt x="1016011" y="832031"/>
                </a:moveTo>
                <a:lnTo>
                  <a:pt x="1013265" y="834777"/>
                </a:lnTo>
                <a:lnTo>
                  <a:pt x="1010520" y="834777"/>
                </a:lnTo>
                <a:lnTo>
                  <a:pt x="1013265" y="840269"/>
                </a:lnTo>
                <a:lnTo>
                  <a:pt x="1016011" y="840269"/>
                </a:lnTo>
                <a:lnTo>
                  <a:pt x="1021503" y="837523"/>
                </a:lnTo>
                <a:lnTo>
                  <a:pt x="1024250" y="832031"/>
                </a:lnTo>
                <a:lnTo>
                  <a:pt x="1018758" y="832031"/>
                </a:lnTo>
                <a:lnTo>
                  <a:pt x="1016011" y="832031"/>
                </a:lnTo>
                <a:close/>
                <a:moveTo>
                  <a:pt x="878712" y="832031"/>
                </a:moveTo>
                <a:lnTo>
                  <a:pt x="873221" y="834777"/>
                </a:lnTo>
                <a:lnTo>
                  <a:pt x="870475" y="834777"/>
                </a:lnTo>
                <a:lnTo>
                  <a:pt x="867729" y="837523"/>
                </a:lnTo>
                <a:lnTo>
                  <a:pt x="873221" y="837523"/>
                </a:lnTo>
                <a:lnTo>
                  <a:pt x="878712" y="840269"/>
                </a:lnTo>
                <a:lnTo>
                  <a:pt x="878712" y="832031"/>
                </a:lnTo>
                <a:close/>
                <a:moveTo>
                  <a:pt x="1488320" y="826539"/>
                </a:moveTo>
                <a:lnTo>
                  <a:pt x="1477335" y="829285"/>
                </a:lnTo>
                <a:lnTo>
                  <a:pt x="1477335" y="832031"/>
                </a:lnTo>
                <a:lnTo>
                  <a:pt x="1477335" y="834777"/>
                </a:lnTo>
                <a:lnTo>
                  <a:pt x="1474589" y="840269"/>
                </a:lnTo>
                <a:lnTo>
                  <a:pt x="1482829" y="843015"/>
                </a:lnTo>
                <a:lnTo>
                  <a:pt x="1493811" y="840269"/>
                </a:lnTo>
                <a:lnTo>
                  <a:pt x="1493811" y="829285"/>
                </a:lnTo>
                <a:lnTo>
                  <a:pt x="1496557" y="829285"/>
                </a:lnTo>
                <a:lnTo>
                  <a:pt x="1499304" y="826539"/>
                </a:lnTo>
                <a:lnTo>
                  <a:pt x="1488320" y="826539"/>
                </a:lnTo>
                <a:close/>
                <a:moveTo>
                  <a:pt x="5884628" y="826539"/>
                </a:moveTo>
                <a:lnTo>
                  <a:pt x="5884628" y="829285"/>
                </a:lnTo>
                <a:lnTo>
                  <a:pt x="5887374" y="832031"/>
                </a:lnTo>
                <a:lnTo>
                  <a:pt x="5892866" y="832031"/>
                </a:lnTo>
                <a:lnTo>
                  <a:pt x="5892866" y="829285"/>
                </a:lnTo>
                <a:lnTo>
                  <a:pt x="5887374" y="826539"/>
                </a:lnTo>
                <a:lnTo>
                  <a:pt x="5884628" y="826539"/>
                </a:lnTo>
                <a:close/>
                <a:moveTo>
                  <a:pt x="5250308" y="826539"/>
                </a:moveTo>
                <a:lnTo>
                  <a:pt x="5250308" y="834777"/>
                </a:lnTo>
                <a:lnTo>
                  <a:pt x="5255799" y="834777"/>
                </a:lnTo>
                <a:lnTo>
                  <a:pt x="5255799" y="829285"/>
                </a:lnTo>
                <a:lnTo>
                  <a:pt x="5250308" y="826539"/>
                </a:lnTo>
                <a:close/>
                <a:moveTo>
                  <a:pt x="1005028" y="823793"/>
                </a:moveTo>
                <a:lnTo>
                  <a:pt x="999536" y="826539"/>
                </a:lnTo>
                <a:lnTo>
                  <a:pt x="999536" y="832031"/>
                </a:lnTo>
                <a:lnTo>
                  <a:pt x="1005028" y="832031"/>
                </a:lnTo>
                <a:lnTo>
                  <a:pt x="1005028" y="823793"/>
                </a:lnTo>
                <a:close/>
                <a:moveTo>
                  <a:pt x="686494" y="823793"/>
                </a:moveTo>
                <a:lnTo>
                  <a:pt x="686494" y="832031"/>
                </a:lnTo>
                <a:lnTo>
                  <a:pt x="686494" y="843015"/>
                </a:lnTo>
                <a:lnTo>
                  <a:pt x="689240" y="851253"/>
                </a:lnTo>
                <a:lnTo>
                  <a:pt x="689240" y="853999"/>
                </a:lnTo>
                <a:lnTo>
                  <a:pt x="691986" y="853999"/>
                </a:lnTo>
                <a:lnTo>
                  <a:pt x="694732" y="848507"/>
                </a:lnTo>
                <a:lnTo>
                  <a:pt x="694732" y="837523"/>
                </a:lnTo>
                <a:lnTo>
                  <a:pt x="691986" y="829285"/>
                </a:lnTo>
                <a:lnTo>
                  <a:pt x="686494" y="823793"/>
                </a:lnTo>
                <a:close/>
                <a:moveTo>
                  <a:pt x="977568" y="821047"/>
                </a:moveTo>
                <a:lnTo>
                  <a:pt x="977568" y="823793"/>
                </a:lnTo>
                <a:lnTo>
                  <a:pt x="983059" y="823793"/>
                </a:lnTo>
                <a:lnTo>
                  <a:pt x="983059" y="826539"/>
                </a:lnTo>
                <a:lnTo>
                  <a:pt x="988551" y="829285"/>
                </a:lnTo>
                <a:lnTo>
                  <a:pt x="991298" y="823793"/>
                </a:lnTo>
                <a:lnTo>
                  <a:pt x="988551" y="821047"/>
                </a:lnTo>
                <a:lnTo>
                  <a:pt x="985806" y="821047"/>
                </a:lnTo>
                <a:lnTo>
                  <a:pt x="983059" y="821047"/>
                </a:lnTo>
                <a:lnTo>
                  <a:pt x="977568" y="821047"/>
                </a:lnTo>
                <a:close/>
                <a:moveTo>
                  <a:pt x="1378481" y="818301"/>
                </a:moveTo>
                <a:lnTo>
                  <a:pt x="1378481" y="821047"/>
                </a:lnTo>
                <a:lnTo>
                  <a:pt x="1378481" y="823793"/>
                </a:lnTo>
                <a:lnTo>
                  <a:pt x="1378481" y="826539"/>
                </a:lnTo>
                <a:lnTo>
                  <a:pt x="1381227" y="826539"/>
                </a:lnTo>
                <a:lnTo>
                  <a:pt x="1381227" y="823793"/>
                </a:lnTo>
                <a:lnTo>
                  <a:pt x="1383972" y="823793"/>
                </a:lnTo>
                <a:lnTo>
                  <a:pt x="1383972" y="818301"/>
                </a:lnTo>
                <a:lnTo>
                  <a:pt x="1381227" y="818301"/>
                </a:lnTo>
                <a:lnTo>
                  <a:pt x="1378481" y="818301"/>
                </a:lnTo>
                <a:close/>
                <a:moveTo>
                  <a:pt x="5077311" y="815555"/>
                </a:moveTo>
                <a:lnTo>
                  <a:pt x="5080057" y="818301"/>
                </a:lnTo>
                <a:lnTo>
                  <a:pt x="5082803" y="821047"/>
                </a:lnTo>
                <a:lnTo>
                  <a:pt x="5082803" y="818301"/>
                </a:lnTo>
                <a:lnTo>
                  <a:pt x="5085549" y="815555"/>
                </a:lnTo>
                <a:lnTo>
                  <a:pt x="5077311" y="815555"/>
                </a:lnTo>
                <a:close/>
                <a:moveTo>
                  <a:pt x="5426050" y="812809"/>
                </a:moveTo>
                <a:lnTo>
                  <a:pt x="5426050" y="818301"/>
                </a:lnTo>
                <a:lnTo>
                  <a:pt x="5428796" y="821047"/>
                </a:lnTo>
                <a:lnTo>
                  <a:pt x="5431542" y="818301"/>
                </a:lnTo>
                <a:lnTo>
                  <a:pt x="5431542" y="815555"/>
                </a:lnTo>
                <a:lnTo>
                  <a:pt x="5428796" y="812809"/>
                </a:lnTo>
                <a:lnTo>
                  <a:pt x="5426050" y="812809"/>
                </a:lnTo>
                <a:close/>
                <a:moveTo>
                  <a:pt x="5170674" y="812809"/>
                </a:moveTo>
                <a:lnTo>
                  <a:pt x="5176166" y="812809"/>
                </a:lnTo>
                <a:lnTo>
                  <a:pt x="5178912" y="821047"/>
                </a:lnTo>
                <a:lnTo>
                  <a:pt x="5176166" y="818301"/>
                </a:lnTo>
                <a:lnTo>
                  <a:pt x="5176166" y="815555"/>
                </a:lnTo>
                <a:lnTo>
                  <a:pt x="5170674" y="818301"/>
                </a:lnTo>
                <a:lnTo>
                  <a:pt x="5167928" y="815555"/>
                </a:lnTo>
                <a:lnTo>
                  <a:pt x="5170674" y="812809"/>
                </a:lnTo>
                <a:close/>
                <a:moveTo>
                  <a:pt x="930887" y="810063"/>
                </a:moveTo>
                <a:lnTo>
                  <a:pt x="928141" y="812809"/>
                </a:lnTo>
                <a:lnTo>
                  <a:pt x="930887" y="818301"/>
                </a:lnTo>
                <a:lnTo>
                  <a:pt x="936378" y="821047"/>
                </a:lnTo>
                <a:lnTo>
                  <a:pt x="939124" y="823793"/>
                </a:lnTo>
                <a:lnTo>
                  <a:pt x="936378" y="815555"/>
                </a:lnTo>
                <a:lnTo>
                  <a:pt x="930887" y="810063"/>
                </a:lnTo>
                <a:close/>
                <a:moveTo>
                  <a:pt x="1551477" y="807317"/>
                </a:moveTo>
                <a:lnTo>
                  <a:pt x="1551477" y="812809"/>
                </a:lnTo>
                <a:lnTo>
                  <a:pt x="1556969" y="812809"/>
                </a:lnTo>
                <a:lnTo>
                  <a:pt x="1556969" y="807317"/>
                </a:lnTo>
                <a:lnTo>
                  <a:pt x="1554223" y="807317"/>
                </a:lnTo>
                <a:lnTo>
                  <a:pt x="1551477" y="807317"/>
                </a:lnTo>
                <a:close/>
                <a:moveTo>
                  <a:pt x="5796757" y="807317"/>
                </a:moveTo>
                <a:lnTo>
                  <a:pt x="5796757" y="810063"/>
                </a:lnTo>
                <a:lnTo>
                  <a:pt x="5799503" y="812809"/>
                </a:lnTo>
                <a:lnTo>
                  <a:pt x="5802249" y="812809"/>
                </a:lnTo>
                <a:lnTo>
                  <a:pt x="5802249" y="807317"/>
                </a:lnTo>
                <a:lnTo>
                  <a:pt x="5796757" y="807317"/>
                </a:lnTo>
                <a:close/>
                <a:moveTo>
                  <a:pt x="991298" y="804571"/>
                </a:moveTo>
                <a:lnTo>
                  <a:pt x="988551" y="807317"/>
                </a:lnTo>
                <a:lnTo>
                  <a:pt x="988551" y="812809"/>
                </a:lnTo>
                <a:lnTo>
                  <a:pt x="994043" y="812809"/>
                </a:lnTo>
                <a:lnTo>
                  <a:pt x="994043" y="810063"/>
                </a:lnTo>
                <a:lnTo>
                  <a:pt x="994043" y="807317"/>
                </a:lnTo>
                <a:lnTo>
                  <a:pt x="996790" y="804571"/>
                </a:lnTo>
                <a:lnTo>
                  <a:pt x="991298" y="804571"/>
                </a:lnTo>
                <a:close/>
                <a:moveTo>
                  <a:pt x="5758313" y="804571"/>
                </a:moveTo>
                <a:lnTo>
                  <a:pt x="5755567" y="807317"/>
                </a:lnTo>
                <a:lnTo>
                  <a:pt x="5755567" y="810063"/>
                </a:lnTo>
                <a:lnTo>
                  <a:pt x="5761059" y="810063"/>
                </a:lnTo>
                <a:lnTo>
                  <a:pt x="5763805" y="812809"/>
                </a:lnTo>
                <a:lnTo>
                  <a:pt x="5766551" y="815555"/>
                </a:lnTo>
                <a:lnTo>
                  <a:pt x="5769297" y="812809"/>
                </a:lnTo>
                <a:lnTo>
                  <a:pt x="5766551" y="812809"/>
                </a:lnTo>
                <a:lnTo>
                  <a:pt x="5766551" y="807317"/>
                </a:lnTo>
                <a:lnTo>
                  <a:pt x="5761059" y="807317"/>
                </a:lnTo>
                <a:lnTo>
                  <a:pt x="5758313" y="804571"/>
                </a:lnTo>
                <a:close/>
                <a:moveTo>
                  <a:pt x="1005028" y="801825"/>
                </a:moveTo>
                <a:lnTo>
                  <a:pt x="1002281" y="804571"/>
                </a:lnTo>
                <a:lnTo>
                  <a:pt x="1002281" y="807317"/>
                </a:lnTo>
                <a:lnTo>
                  <a:pt x="1005028" y="807317"/>
                </a:lnTo>
                <a:lnTo>
                  <a:pt x="1005028" y="810063"/>
                </a:lnTo>
                <a:lnTo>
                  <a:pt x="1007773" y="810063"/>
                </a:lnTo>
                <a:lnTo>
                  <a:pt x="1007773" y="807317"/>
                </a:lnTo>
                <a:lnTo>
                  <a:pt x="1010520" y="807317"/>
                </a:lnTo>
                <a:lnTo>
                  <a:pt x="1007773" y="804571"/>
                </a:lnTo>
                <a:lnTo>
                  <a:pt x="1005028" y="801825"/>
                </a:lnTo>
                <a:close/>
                <a:moveTo>
                  <a:pt x="5950532" y="801825"/>
                </a:moveTo>
                <a:lnTo>
                  <a:pt x="5950532" y="804571"/>
                </a:lnTo>
                <a:lnTo>
                  <a:pt x="5956024" y="804571"/>
                </a:lnTo>
                <a:lnTo>
                  <a:pt x="5956024" y="801825"/>
                </a:lnTo>
                <a:lnTo>
                  <a:pt x="5950532" y="801825"/>
                </a:lnTo>
                <a:close/>
                <a:moveTo>
                  <a:pt x="5423304" y="801825"/>
                </a:moveTo>
                <a:lnTo>
                  <a:pt x="5423304" y="807317"/>
                </a:lnTo>
                <a:lnTo>
                  <a:pt x="5423304" y="810063"/>
                </a:lnTo>
                <a:lnTo>
                  <a:pt x="5428796" y="807317"/>
                </a:lnTo>
                <a:lnTo>
                  <a:pt x="5431542" y="801825"/>
                </a:lnTo>
                <a:lnTo>
                  <a:pt x="5423304" y="801825"/>
                </a:lnTo>
                <a:close/>
                <a:moveTo>
                  <a:pt x="659035" y="799079"/>
                </a:moveTo>
                <a:lnTo>
                  <a:pt x="653542" y="810063"/>
                </a:lnTo>
                <a:lnTo>
                  <a:pt x="650797" y="815555"/>
                </a:lnTo>
                <a:lnTo>
                  <a:pt x="653542" y="821047"/>
                </a:lnTo>
                <a:lnTo>
                  <a:pt x="656289" y="821047"/>
                </a:lnTo>
                <a:lnTo>
                  <a:pt x="661780" y="821047"/>
                </a:lnTo>
                <a:lnTo>
                  <a:pt x="664526" y="818301"/>
                </a:lnTo>
                <a:lnTo>
                  <a:pt x="664526" y="810063"/>
                </a:lnTo>
                <a:lnTo>
                  <a:pt x="659035" y="799079"/>
                </a:lnTo>
                <a:close/>
                <a:moveTo>
                  <a:pt x="5395844" y="799079"/>
                </a:moveTo>
                <a:lnTo>
                  <a:pt x="5395844" y="804571"/>
                </a:lnTo>
                <a:lnTo>
                  <a:pt x="5393098" y="807317"/>
                </a:lnTo>
                <a:lnTo>
                  <a:pt x="5393098" y="812809"/>
                </a:lnTo>
                <a:lnTo>
                  <a:pt x="5393098" y="815555"/>
                </a:lnTo>
                <a:lnTo>
                  <a:pt x="5406828" y="821047"/>
                </a:lnTo>
                <a:lnTo>
                  <a:pt x="5412320" y="821047"/>
                </a:lnTo>
                <a:lnTo>
                  <a:pt x="5420558" y="818301"/>
                </a:lnTo>
                <a:lnTo>
                  <a:pt x="5417812" y="810063"/>
                </a:lnTo>
                <a:lnTo>
                  <a:pt x="5415066" y="801825"/>
                </a:lnTo>
                <a:lnTo>
                  <a:pt x="5406828" y="799079"/>
                </a:lnTo>
                <a:lnTo>
                  <a:pt x="5395844" y="799079"/>
                </a:lnTo>
                <a:close/>
                <a:moveTo>
                  <a:pt x="5357401" y="799079"/>
                </a:moveTo>
                <a:lnTo>
                  <a:pt x="5357401" y="804571"/>
                </a:lnTo>
                <a:lnTo>
                  <a:pt x="5362893" y="804571"/>
                </a:lnTo>
                <a:lnTo>
                  <a:pt x="5362893" y="799079"/>
                </a:lnTo>
                <a:lnTo>
                  <a:pt x="5357401" y="799079"/>
                </a:lnTo>
                <a:close/>
                <a:moveTo>
                  <a:pt x="1518526" y="793587"/>
                </a:moveTo>
                <a:lnTo>
                  <a:pt x="1513033" y="799079"/>
                </a:lnTo>
                <a:lnTo>
                  <a:pt x="1510287" y="804571"/>
                </a:lnTo>
                <a:lnTo>
                  <a:pt x="1510287" y="812809"/>
                </a:lnTo>
                <a:lnTo>
                  <a:pt x="1513033" y="821047"/>
                </a:lnTo>
                <a:lnTo>
                  <a:pt x="1526763" y="821047"/>
                </a:lnTo>
                <a:lnTo>
                  <a:pt x="1529509" y="815555"/>
                </a:lnTo>
                <a:lnTo>
                  <a:pt x="1532255" y="810063"/>
                </a:lnTo>
                <a:lnTo>
                  <a:pt x="1526763" y="799079"/>
                </a:lnTo>
                <a:lnTo>
                  <a:pt x="1524017" y="799079"/>
                </a:lnTo>
                <a:lnTo>
                  <a:pt x="1521272" y="796333"/>
                </a:lnTo>
                <a:lnTo>
                  <a:pt x="1521272" y="793587"/>
                </a:lnTo>
                <a:lnTo>
                  <a:pt x="1518526" y="793587"/>
                </a:lnTo>
                <a:close/>
                <a:moveTo>
                  <a:pt x="689240" y="793587"/>
                </a:moveTo>
                <a:lnTo>
                  <a:pt x="686494" y="796333"/>
                </a:lnTo>
                <a:lnTo>
                  <a:pt x="681002" y="799079"/>
                </a:lnTo>
                <a:lnTo>
                  <a:pt x="672764" y="801825"/>
                </a:lnTo>
                <a:lnTo>
                  <a:pt x="670018" y="801825"/>
                </a:lnTo>
                <a:lnTo>
                  <a:pt x="667272" y="807317"/>
                </a:lnTo>
                <a:lnTo>
                  <a:pt x="667272" y="810063"/>
                </a:lnTo>
                <a:lnTo>
                  <a:pt x="667272" y="818301"/>
                </a:lnTo>
                <a:lnTo>
                  <a:pt x="686494" y="807317"/>
                </a:lnTo>
                <a:lnTo>
                  <a:pt x="691986" y="801825"/>
                </a:lnTo>
                <a:lnTo>
                  <a:pt x="691986" y="796333"/>
                </a:lnTo>
                <a:lnTo>
                  <a:pt x="689240" y="793587"/>
                </a:lnTo>
                <a:close/>
                <a:moveTo>
                  <a:pt x="5890120" y="793587"/>
                </a:moveTo>
                <a:lnTo>
                  <a:pt x="5887374" y="799079"/>
                </a:lnTo>
                <a:lnTo>
                  <a:pt x="5892866" y="799079"/>
                </a:lnTo>
                <a:lnTo>
                  <a:pt x="5892866" y="793587"/>
                </a:lnTo>
                <a:lnTo>
                  <a:pt x="5890120" y="793587"/>
                </a:lnTo>
                <a:close/>
                <a:moveTo>
                  <a:pt x="5085549" y="793587"/>
                </a:moveTo>
                <a:lnTo>
                  <a:pt x="5085549" y="799079"/>
                </a:lnTo>
                <a:lnTo>
                  <a:pt x="5091041" y="799079"/>
                </a:lnTo>
                <a:lnTo>
                  <a:pt x="5091041" y="796333"/>
                </a:lnTo>
                <a:lnTo>
                  <a:pt x="5088295" y="793587"/>
                </a:lnTo>
                <a:lnTo>
                  <a:pt x="5085549" y="793587"/>
                </a:lnTo>
                <a:close/>
                <a:moveTo>
                  <a:pt x="1032487" y="790841"/>
                </a:moveTo>
                <a:lnTo>
                  <a:pt x="1032487" y="793587"/>
                </a:lnTo>
                <a:lnTo>
                  <a:pt x="1037980" y="796333"/>
                </a:lnTo>
                <a:lnTo>
                  <a:pt x="1040725" y="793587"/>
                </a:lnTo>
                <a:lnTo>
                  <a:pt x="1040725" y="790841"/>
                </a:lnTo>
                <a:lnTo>
                  <a:pt x="1035233" y="790841"/>
                </a:lnTo>
                <a:lnTo>
                  <a:pt x="1032487" y="790841"/>
                </a:lnTo>
                <a:close/>
                <a:moveTo>
                  <a:pt x="908919" y="790841"/>
                </a:moveTo>
                <a:lnTo>
                  <a:pt x="906173" y="793587"/>
                </a:lnTo>
                <a:lnTo>
                  <a:pt x="917156" y="793587"/>
                </a:lnTo>
                <a:lnTo>
                  <a:pt x="914410" y="790841"/>
                </a:lnTo>
                <a:lnTo>
                  <a:pt x="908919" y="790841"/>
                </a:lnTo>
                <a:close/>
                <a:moveTo>
                  <a:pt x="892443" y="790841"/>
                </a:moveTo>
                <a:lnTo>
                  <a:pt x="892443" y="793587"/>
                </a:lnTo>
                <a:lnTo>
                  <a:pt x="892443" y="799079"/>
                </a:lnTo>
                <a:lnTo>
                  <a:pt x="895189" y="799079"/>
                </a:lnTo>
                <a:lnTo>
                  <a:pt x="895189" y="790841"/>
                </a:lnTo>
                <a:lnTo>
                  <a:pt x="892443" y="790841"/>
                </a:lnTo>
                <a:close/>
                <a:moveTo>
                  <a:pt x="1485574" y="788095"/>
                </a:moveTo>
                <a:lnTo>
                  <a:pt x="1480081" y="793587"/>
                </a:lnTo>
                <a:lnTo>
                  <a:pt x="1477335" y="799079"/>
                </a:lnTo>
                <a:lnTo>
                  <a:pt x="1477335" y="807317"/>
                </a:lnTo>
                <a:lnTo>
                  <a:pt x="1480081" y="815555"/>
                </a:lnTo>
                <a:lnTo>
                  <a:pt x="1488320" y="812809"/>
                </a:lnTo>
                <a:lnTo>
                  <a:pt x="1496557" y="815555"/>
                </a:lnTo>
                <a:lnTo>
                  <a:pt x="1502050" y="807317"/>
                </a:lnTo>
                <a:lnTo>
                  <a:pt x="1502050" y="799079"/>
                </a:lnTo>
                <a:lnTo>
                  <a:pt x="1507541" y="796333"/>
                </a:lnTo>
                <a:lnTo>
                  <a:pt x="1510287" y="793587"/>
                </a:lnTo>
                <a:lnTo>
                  <a:pt x="1502050" y="793587"/>
                </a:lnTo>
                <a:lnTo>
                  <a:pt x="1496557" y="793587"/>
                </a:lnTo>
                <a:lnTo>
                  <a:pt x="1491065" y="790841"/>
                </a:lnTo>
                <a:lnTo>
                  <a:pt x="1485574" y="788095"/>
                </a:lnTo>
                <a:close/>
                <a:moveTo>
                  <a:pt x="5255799" y="785349"/>
                </a:moveTo>
                <a:lnTo>
                  <a:pt x="5244816" y="788095"/>
                </a:lnTo>
                <a:lnTo>
                  <a:pt x="5236578" y="790841"/>
                </a:lnTo>
                <a:lnTo>
                  <a:pt x="5236578" y="799079"/>
                </a:lnTo>
                <a:lnTo>
                  <a:pt x="5236578" y="801825"/>
                </a:lnTo>
                <a:lnTo>
                  <a:pt x="5239324" y="804571"/>
                </a:lnTo>
                <a:lnTo>
                  <a:pt x="5239324" y="812809"/>
                </a:lnTo>
                <a:lnTo>
                  <a:pt x="5247562" y="818301"/>
                </a:lnTo>
                <a:lnTo>
                  <a:pt x="5255799" y="818301"/>
                </a:lnTo>
                <a:lnTo>
                  <a:pt x="5266783" y="818301"/>
                </a:lnTo>
                <a:lnTo>
                  <a:pt x="5269529" y="812809"/>
                </a:lnTo>
                <a:lnTo>
                  <a:pt x="5272275" y="807317"/>
                </a:lnTo>
                <a:lnTo>
                  <a:pt x="5275021" y="790841"/>
                </a:lnTo>
                <a:lnTo>
                  <a:pt x="5266783" y="788095"/>
                </a:lnTo>
                <a:lnTo>
                  <a:pt x="5255799" y="785349"/>
                </a:lnTo>
                <a:close/>
                <a:moveTo>
                  <a:pt x="961092" y="785349"/>
                </a:moveTo>
                <a:lnTo>
                  <a:pt x="958346" y="788095"/>
                </a:lnTo>
                <a:lnTo>
                  <a:pt x="963838" y="790841"/>
                </a:lnTo>
                <a:lnTo>
                  <a:pt x="972076" y="790841"/>
                </a:lnTo>
                <a:lnTo>
                  <a:pt x="963838" y="785349"/>
                </a:lnTo>
                <a:lnTo>
                  <a:pt x="961092" y="785349"/>
                </a:lnTo>
                <a:close/>
                <a:moveTo>
                  <a:pt x="1513033" y="782603"/>
                </a:moveTo>
                <a:lnTo>
                  <a:pt x="1510287" y="785349"/>
                </a:lnTo>
                <a:lnTo>
                  <a:pt x="1510287" y="788095"/>
                </a:lnTo>
                <a:lnTo>
                  <a:pt x="1513033" y="788095"/>
                </a:lnTo>
                <a:lnTo>
                  <a:pt x="1515779" y="788095"/>
                </a:lnTo>
                <a:lnTo>
                  <a:pt x="1515779" y="785349"/>
                </a:lnTo>
                <a:lnTo>
                  <a:pt x="1513033" y="782603"/>
                </a:lnTo>
                <a:close/>
                <a:moveTo>
                  <a:pt x="1449877" y="782603"/>
                </a:moveTo>
                <a:lnTo>
                  <a:pt x="1455368" y="782603"/>
                </a:lnTo>
                <a:lnTo>
                  <a:pt x="1455368" y="788095"/>
                </a:lnTo>
                <a:lnTo>
                  <a:pt x="1449877" y="788095"/>
                </a:lnTo>
                <a:lnTo>
                  <a:pt x="1449877" y="782603"/>
                </a:lnTo>
                <a:close/>
                <a:moveTo>
                  <a:pt x="878712" y="782603"/>
                </a:moveTo>
                <a:lnTo>
                  <a:pt x="878712" y="788095"/>
                </a:lnTo>
                <a:lnTo>
                  <a:pt x="884205" y="788095"/>
                </a:lnTo>
                <a:lnTo>
                  <a:pt x="884205" y="782603"/>
                </a:lnTo>
                <a:lnTo>
                  <a:pt x="878712" y="782603"/>
                </a:lnTo>
                <a:close/>
                <a:moveTo>
                  <a:pt x="5069073" y="774365"/>
                </a:moveTo>
                <a:lnTo>
                  <a:pt x="5066327" y="779857"/>
                </a:lnTo>
                <a:lnTo>
                  <a:pt x="5063581" y="788095"/>
                </a:lnTo>
                <a:lnTo>
                  <a:pt x="5071819" y="785349"/>
                </a:lnTo>
                <a:lnTo>
                  <a:pt x="5074565" y="782603"/>
                </a:lnTo>
                <a:lnTo>
                  <a:pt x="5071819" y="777111"/>
                </a:lnTo>
                <a:lnTo>
                  <a:pt x="5069073" y="774365"/>
                </a:lnTo>
                <a:close/>
                <a:moveTo>
                  <a:pt x="1436146" y="774365"/>
                </a:moveTo>
                <a:lnTo>
                  <a:pt x="1427907" y="777111"/>
                </a:lnTo>
                <a:lnTo>
                  <a:pt x="1422416" y="785349"/>
                </a:lnTo>
                <a:lnTo>
                  <a:pt x="1422416" y="788095"/>
                </a:lnTo>
                <a:lnTo>
                  <a:pt x="1422416" y="793587"/>
                </a:lnTo>
                <a:lnTo>
                  <a:pt x="1419670" y="793587"/>
                </a:lnTo>
                <a:lnTo>
                  <a:pt x="1416924" y="804571"/>
                </a:lnTo>
                <a:lnTo>
                  <a:pt x="1419670" y="815555"/>
                </a:lnTo>
                <a:lnTo>
                  <a:pt x="1441637" y="815555"/>
                </a:lnTo>
                <a:lnTo>
                  <a:pt x="1452622" y="815555"/>
                </a:lnTo>
                <a:lnTo>
                  <a:pt x="1460859" y="812809"/>
                </a:lnTo>
                <a:lnTo>
                  <a:pt x="1460859" y="815555"/>
                </a:lnTo>
                <a:lnTo>
                  <a:pt x="1460859" y="818301"/>
                </a:lnTo>
                <a:lnTo>
                  <a:pt x="1463606" y="815555"/>
                </a:lnTo>
                <a:lnTo>
                  <a:pt x="1466353" y="815555"/>
                </a:lnTo>
                <a:lnTo>
                  <a:pt x="1469098" y="812809"/>
                </a:lnTo>
                <a:lnTo>
                  <a:pt x="1466353" y="807317"/>
                </a:lnTo>
                <a:lnTo>
                  <a:pt x="1466353" y="804571"/>
                </a:lnTo>
                <a:lnTo>
                  <a:pt x="1469098" y="793587"/>
                </a:lnTo>
                <a:lnTo>
                  <a:pt x="1463606" y="788095"/>
                </a:lnTo>
                <a:lnTo>
                  <a:pt x="1460859" y="785349"/>
                </a:lnTo>
                <a:lnTo>
                  <a:pt x="1463606" y="779857"/>
                </a:lnTo>
                <a:lnTo>
                  <a:pt x="1460859" y="779857"/>
                </a:lnTo>
                <a:lnTo>
                  <a:pt x="1458113" y="774365"/>
                </a:lnTo>
                <a:lnTo>
                  <a:pt x="1447130" y="774365"/>
                </a:lnTo>
                <a:lnTo>
                  <a:pt x="1436146" y="774365"/>
                </a:lnTo>
                <a:close/>
                <a:moveTo>
                  <a:pt x="1518526" y="768874"/>
                </a:moveTo>
                <a:lnTo>
                  <a:pt x="1515779" y="771620"/>
                </a:lnTo>
                <a:lnTo>
                  <a:pt x="1515779" y="774365"/>
                </a:lnTo>
                <a:lnTo>
                  <a:pt x="1518526" y="774365"/>
                </a:lnTo>
                <a:lnTo>
                  <a:pt x="1521272" y="777111"/>
                </a:lnTo>
                <a:lnTo>
                  <a:pt x="1524017" y="777111"/>
                </a:lnTo>
                <a:lnTo>
                  <a:pt x="1526763" y="774365"/>
                </a:lnTo>
                <a:lnTo>
                  <a:pt x="1526763" y="771620"/>
                </a:lnTo>
                <a:lnTo>
                  <a:pt x="1524017" y="768874"/>
                </a:lnTo>
                <a:lnTo>
                  <a:pt x="1518526" y="768874"/>
                </a:lnTo>
                <a:close/>
                <a:moveTo>
                  <a:pt x="5857169" y="768873"/>
                </a:moveTo>
                <a:lnTo>
                  <a:pt x="5857169" y="771619"/>
                </a:lnTo>
                <a:lnTo>
                  <a:pt x="5854423" y="774365"/>
                </a:lnTo>
                <a:lnTo>
                  <a:pt x="5854423" y="777111"/>
                </a:lnTo>
                <a:lnTo>
                  <a:pt x="5857169" y="777111"/>
                </a:lnTo>
                <a:lnTo>
                  <a:pt x="5859914" y="777111"/>
                </a:lnTo>
                <a:lnTo>
                  <a:pt x="5859914" y="768873"/>
                </a:lnTo>
                <a:lnTo>
                  <a:pt x="5857169" y="768873"/>
                </a:lnTo>
                <a:close/>
                <a:moveTo>
                  <a:pt x="1532255" y="766128"/>
                </a:moveTo>
                <a:lnTo>
                  <a:pt x="1532255" y="774365"/>
                </a:lnTo>
                <a:lnTo>
                  <a:pt x="1535002" y="774365"/>
                </a:lnTo>
                <a:lnTo>
                  <a:pt x="1537748" y="774365"/>
                </a:lnTo>
                <a:lnTo>
                  <a:pt x="1537748" y="768874"/>
                </a:lnTo>
                <a:lnTo>
                  <a:pt x="1535002" y="766128"/>
                </a:lnTo>
                <a:lnTo>
                  <a:pt x="1532255" y="766128"/>
                </a:lnTo>
                <a:close/>
                <a:moveTo>
                  <a:pt x="966584" y="766128"/>
                </a:moveTo>
                <a:lnTo>
                  <a:pt x="966584" y="771620"/>
                </a:lnTo>
                <a:lnTo>
                  <a:pt x="969330" y="771620"/>
                </a:lnTo>
                <a:lnTo>
                  <a:pt x="969330" y="766128"/>
                </a:lnTo>
                <a:lnTo>
                  <a:pt x="966584" y="766128"/>
                </a:lnTo>
                <a:close/>
                <a:moveTo>
                  <a:pt x="5667696" y="766127"/>
                </a:moveTo>
                <a:lnTo>
                  <a:pt x="5667696" y="771619"/>
                </a:lnTo>
                <a:lnTo>
                  <a:pt x="5673188" y="771619"/>
                </a:lnTo>
                <a:lnTo>
                  <a:pt x="5673188" y="766127"/>
                </a:lnTo>
                <a:lnTo>
                  <a:pt x="5667696" y="766127"/>
                </a:lnTo>
                <a:close/>
                <a:moveTo>
                  <a:pt x="1362005" y="763382"/>
                </a:moveTo>
                <a:lnTo>
                  <a:pt x="1359260" y="768874"/>
                </a:lnTo>
                <a:lnTo>
                  <a:pt x="1359260" y="771620"/>
                </a:lnTo>
                <a:lnTo>
                  <a:pt x="1364751" y="771620"/>
                </a:lnTo>
                <a:lnTo>
                  <a:pt x="1367496" y="768874"/>
                </a:lnTo>
                <a:lnTo>
                  <a:pt x="1364751" y="766128"/>
                </a:lnTo>
                <a:lnTo>
                  <a:pt x="1362005" y="763382"/>
                </a:lnTo>
                <a:close/>
                <a:moveTo>
                  <a:pt x="5118501" y="757889"/>
                </a:moveTo>
                <a:lnTo>
                  <a:pt x="5118501" y="760635"/>
                </a:lnTo>
                <a:lnTo>
                  <a:pt x="5113009" y="766127"/>
                </a:lnTo>
                <a:lnTo>
                  <a:pt x="5107517" y="766127"/>
                </a:lnTo>
                <a:lnTo>
                  <a:pt x="5102025" y="768873"/>
                </a:lnTo>
                <a:lnTo>
                  <a:pt x="5091041" y="774365"/>
                </a:lnTo>
                <a:lnTo>
                  <a:pt x="5091041" y="782603"/>
                </a:lnTo>
                <a:lnTo>
                  <a:pt x="5088295" y="788095"/>
                </a:lnTo>
                <a:lnTo>
                  <a:pt x="5091041" y="793587"/>
                </a:lnTo>
                <a:lnTo>
                  <a:pt x="5096533" y="796333"/>
                </a:lnTo>
                <a:lnTo>
                  <a:pt x="5099279" y="804571"/>
                </a:lnTo>
                <a:lnTo>
                  <a:pt x="5107517" y="810063"/>
                </a:lnTo>
                <a:lnTo>
                  <a:pt x="5121247" y="818301"/>
                </a:lnTo>
                <a:lnTo>
                  <a:pt x="5121247" y="821047"/>
                </a:lnTo>
                <a:lnTo>
                  <a:pt x="5118501" y="821047"/>
                </a:lnTo>
                <a:lnTo>
                  <a:pt x="5118501" y="823793"/>
                </a:lnTo>
                <a:lnTo>
                  <a:pt x="5121247" y="823793"/>
                </a:lnTo>
                <a:lnTo>
                  <a:pt x="5121247" y="826539"/>
                </a:lnTo>
                <a:lnTo>
                  <a:pt x="5123993" y="826539"/>
                </a:lnTo>
                <a:lnTo>
                  <a:pt x="5126739" y="823793"/>
                </a:lnTo>
                <a:lnTo>
                  <a:pt x="5137722" y="823793"/>
                </a:lnTo>
                <a:lnTo>
                  <a:pt x="5148706" y="823793"/>
                </a:lnTo>
                <a:lnTo>
                  <a:pt x="5154198" y="826539"/>
                </a:lnTo>
                <a:lnTo>
                  <a:pt x="5156944" y="829285"/>
                </a:lnTo>
                <a:lnTo>
                  <a:pt x="5159690" y="832031"/>
                </a:lnTo>
                <a:lnTo>
                  <a:pt x="5159690" y="840269"/>
                </a:lnTo>
                <a:lnTo>
                  <a:pt x="5156944" y="840269"/>
                </a:lnTo>
                <a:lnTo>
                  <a:pt x="5154198" y="845761"/>
                </a:lnTo>
                <a:lnTo>
                  <a:pt x="5165182" y="851253"/>
                </a:lnTo>
                <a:lnTo>
                  <a:pt x="5176166" y="856745"/>
                </a:lnTo>
                <a:lnTo>
                  <a:pt x="5181658" y="856745"/>
                </a:lnTo>
                <a:lnTo>
                  <a:pt x="5184404" y="851253"/>
                </a:lnTo>
                <a:lnTo>
                  <a:pt x="5189896" y="848507"/>
                </a:lnTo>
                <a:lnTo>
                  <a:pt x="5189896" y="853999"/>
                </a:lnTo>
                <a:lnTo>
                  <a:pt x="5195388" y="853999"/>
                </a:lnTo>
                <a:lnTo>
                  <a:pt x="5198134" y="853999"/>
                </a:lnTo>
                <a:lnTo>
                  <a:pt x="5198134" y="851253"/>
                </a:lnTo>
                <a:lnTo>
                  <a:pt x="5195388" y="851253"/>
                </a:lnTo>
                <a:lnTo>
                  <a:pt x="5195388" y="848507"/>
                </a:lnTo>
                <a:lnTo>
                  <a:pt x="5192642" y="848507"/>
                </a:lnTo>
                <a:lnTo>
                  <a:pt x="5189896" y="848507"/>
                </a:lnTo>
                <a:lnTo>
                  <a:pt x="5195388" y="845761"/>
                </a:lnTo>
                <a:lnTo>
                  <a:pt x="5195388" y="843015"/>
                </a:lnTo>
                <a:lnTo>
                  <a:pt x="5198134" y="843015"/>
                </a:lnTo>
                <a:lnTo>
                  <a:pt x="5198134" y="845761"/>
                </a:lnTo>
                <a:lnTo>
                  <a:pt x="5203626" y="845761"/>
                </a:lnTo>
                <a:lnTo>
                  <a:pt x="5203626" y="843015"/>
                </a:lnTo>
                <a:lnTo>
                  <a:pt x="5206372" y="843015"/>
                </a:lnTo>
                <a:lnTo>
                  <a:pt x="5206372" y="845761"/>
                </a:lnTo>
                <a:lnTo>
                  <a:pt x="5211864" y="845761"/>
                </a:lnTo>
                <a:lnTo>
                  <a:pt x="5214610" y="843015"/>
                </a:lnTo>
                <a:lnTo>
                  <a:pt x="5211864" y="840269"/>
                </a:lnTo>
                <a:lnTo>
                  <a:pt x="5203626" y="837523"/>
                </a:lnTo>
                <a:lnTo>
                  <a:pt x="5198134" y="837523"/>
                </a:lnTo>
                <a:lnTo>
                  <a:pt x="5195388" y="840269"/>
                </a:lnTo>
                <a:lnTo>
                  <a:pt x="5195388" y="832031"/>
                </a:lnTo>
                <a:lnTo>
                  <a:pt x="5195388" y="829285"/>
                </a:lnTo>
                <a:lnTo>
                  <a:pt x="5189896" y="826539"/>
                </a:lnTo>
                <a:lnTo>
                  <a:pt x="5184404" y="823793"/>
                </a:lnTo>
                <a:lnTo>
                  <a:pt x="5189896" y="821047"/>
                </a:lnTo>
                <a:lnTo>
                  <a:pt x="5189896" y="810063"/>
                </a:lnTo>
                <a:lnTo>
                  <a:pt x="5181658" y="807317"/>
                </a:lnTo>
                <a:lnTo>
                  <a:pt x="5176166" y="801825"/>
                </a:lnTo>
                <a:lnTo>
                  <a:pt x="5178912" y="796333"/>
                </a:lnTo>
                <a:lnTo>
                  <a:pt x="5181658" y="790841"/>
                </a:lnTo>
                <a:lnTo>
                  <a:pt x="5178912" y="788095"/>
                </a:lnTo>
                <a:lnTo>
                  <a:pt x="5176166" y="785349"/>
                </a:lnTo>
                <a:lnTo>
                  <a:pt x="5178912" y="779857"/>
                </a:lnTo>
                <a:lnTo>
                  <a:pt x="5178912" y="771619"/>
                </a:lnTo>
                <a:lnTo>
                  <a:pt x="5176166" y="757889"/>
                </a:lnTo>
                <a:lnTo>
                  <a:pt x="5162436" y="760635"/>
                </a:lnTo>
                <a:lnTo>
                  <a:pt x="5148706" y="757889"/>
                </a:lnTo>
                <a:lnTo>
                  <a:pt x="5134976" y="757889"/>
                </a:lnTo>
                <a:lnTo>
                  <a:pt x="5123993" y="757889"/>
                </a:lnTo>
                <a:lnTo>
                  <a:pt x="5118501" y="757889"/>
                </a:lnTo>
                <a:close/>
                <a:moveTo>
                  <a:pt x="936378" y="749652"/>
                </a:moveTo>
                <a:lnTo>
                  <a:pt x="936378" y="752398"/>
                </a:lnTo>
                <a:lnTo>
                  <a:pt x="939124" y="755144"/>
                </a:lnTo>
                <a:lnTo>
                  <a:pt x="941870" y="752398"/>
                </a:lnTo>
                <a:lnTo>
                  <a:pt x="941870" y="749652"/>
                </a:lnTo>
                <a:lnTo>
                  <a:pt x="939124" y="749652"/>
                </a:lnTo>
                <a:lnTo>
                  <a:pt x="936378" y="749652"/>
                </a:lnTo>
                <a:close/>
                <a:moveTo>
                  <a:pt x="5906596" y="749652"/>
                </a:moveTo>
                <a:lnTo>
                  <a:pt x="5903850" y="752398"/>
                </a:lnTo>
                <a:lnTo>
                  <a:pt x="5901104" y="755143"/>
                </a:lnTo>
                <a:lnTo>
                  <a:pt x="5914834" y="755143"/>
                </a:lnTo>
                <a:lnTo>
                  <a:pt x="5912088" y="752398"/>
                </a:lnTo>
                <a:lnTo>
                  <a:pt x="5906596" y="749652"/>
                </a:lnTo>
                <a:close/>
                <a:moveTo>
                  <a:pt x="1559715" y="746906"/>
                </a:moveTo>
                <a:lnTo>
                  <a:pt x="1556969" y="749652"/>
                </a:lnTo>
                <a:lnTo>
                  <a:pt x="1554223" y="755144"/>
                </a:lnTo>
                <a:lnTo>
                  <a:pt x="1556969" y="757890"/>
                </a:lnTo>
                <a:lnTo>
                  <a:pt x="1562461" y="760636"/>
                </a:lnTo>
                <a:lnTo>
                  <a:pt x="1559715" y="755144"/>
                </a:lnTo>
                <a:lnTo>
                  <a:pt x="1559715" y="752398"/>
                </a:lnTo>
                <a:lnTo>
                  <a:pt x="1559715" y="746906"/>
                </a:lnTo>
                <a:close/>
                <a:moveTo>
                  <a:pt x="958346" y="746906"/>
                </a:moveTo>
                <a:lnTo>
                  <a:pt x="952854" y="749652"/>
                </a:lnTo>
                <a:lnTo>
                  <a:pt x="950108" y="755144"/>
                </a:lnTo>
                <a:lnTo>
                  <a:pt x="955600" y="752398"/>
                </a:lnTo>
                <a:lnTo>
                  <a:pt x="958346" y="746906"/>
                </a:lnTo>
                <a:close/>
                <a:moveTo>
                  <a:pt x="1477335" y="744160"/>
                </a:moveTo>
                <a:lnTo>
                  <a:pt x="1474589" y="749652"/>
                </a:lnTo>
                <a:lnTo>
                  <a:pt x="1471844" y="752398"/>
                </a:lnTo>
                <a:lnTo>
                  <a:pt x="1463606" y="757890"/>
                </a:lnTo>
                <a:lnTo>
                  <a:pt x="1463606" y="763382"/>
                </a:lnTo>
                <a:lnTo>
                  <a:pt x="1466353" y="763382"/>
                </a:lnTo>
                <a:lnTo>
                  <a:pt x="1469098" y="766128"/>
                </a:lnTo>
                <a:lnTo>
                  <a:pt x="1469098" y="771620"/>
                </a:lnTo>
                <a:lnTo>
                  <a:pt x="1474589" y="777111"/>
                </a:lnTo>
                <a:lnTo>
                  <a:pt x="1477335" y="785349"/>
                </a:lnTo>
                <a:lnTo>
                  <a:pt x="1488320" y="782603"/>
                </a:lnTo>
                <a:lnTo>
                  <a:pt x="1499304" y="779857"/>
                </a:lnTo>
                <a:lnTo>
                  <a:pt x="1502050" y="774365"/>
                </a:lnTo>
                <a:lnTo>
                  <a:pt x="1504796" y="771620"/>
                </a:lnTo>
                <a:lnTo>
                  <a:pt x="1507541" y="771620"/>
                </a:lnTo>
                <a:lnTo>
                  <a:pt x="1507541" y="763382"/>
                </a:lnTo>
                <a:lnTo>
                  <a:pt x="1510287" y="760636"/>
                </a:lnTo>
                <a:lnTo>
                  <a:pt x="1504796" y="755144"/>
                </a:lnTo>
                <a:lnTo>
                  <a:pt x="1499304" y="746906"/>
                </a:lnTo>
                <a:lnTo>
                  <a:pt x="1491065" y="746906"/>
                </a:lnTo>
                <a:lnTo>
                  <a:pt x="1485574" y="744160"/>
                </a:lnTo>
                <a:lnTo>
                  <a:pt x="1482829" y="744160"/>
                </a:lnTo>
                <a:lnTo>
                  <a:pt x="1477335" y="744160"/>
                </a:lnTo>
                <a:close/>
                <a:moveTo>
                  <a:pt x="969330" y="744160"/>
                </a:moveTo>
                <a:lnTo>
                  <a:pt x="969330" y="746906"/>
                </a:lnTo>
                <a:lnTo>
                  <a:pt x="969330" y="749652"/>
                </a:lnTo>
                <a:lnTo>
                  <a:pt x="966584" y="752398"/>
                </a:lnTo>
                <a:lnTo>
                  <a:pt x="969330" y="752398"/>
                </a:lnTo>
                <a:lnTo>
                  <a:pt x="972076" y="752398"/>
                </a:lnTo>
                <a:lnTo>
                  <a:pt x="974822" y="749652"/>
                </a:lnTo>
                <a:lnTo>
                  <a:pt x="972076" y="746906"/>
                </a:lnTo>
                <a:lnTo>
                  <a:pt x="969330" y="744160"/>
                </a:lnTo>
                <a:close/>
                <a:moveTo>
                  <a:pt x="527228" y="741414"/>
                </a:moveTo>
                <a:lnTo>
                  <a:pt x="521736" y="744160"/>
                </a:lnTo>
                <a:lnTo>
                  <a:pt x="521736" y="752398"/>
                </a:lnTo>
                <a:lnTo>
                  <a:pt x="524482" y="749652"/>
                </a:lnTo>
                <a:lnTo>
                  <a:pt x="527228" y="749652"/>
                </a:lnTo>
                <a:lnTo>
                  <a:pt x="527228" y="741414"/>
                </a:lnTo>
                <a:close/>
                <a:moveTo>
                  <a:pt x="5733600" y="741414"/>
                </a:moveTo>
                <a:lnTo>
                  <a:pt x="5730854" y="744160"/>
                </a:lnTo>
                <a:lnTo>
                  <a:pt x="5728108" y="744160"/>
                </a:lnTo>
                <a:lnTo>
                  <a:pt x="5725362" y="746906"/>
                </a:lnTo>
                <a:lnTo>
                  <a:pt x="5728108" y="749652"/>
                </a:lnTo>
                <a:lnTo>
                  <a:pt x="5730854" y="752398"/>
                </a:lnTo>
                <a:lnTo>
                  <a:pt x="5736346" y="752398"/>
                </a:lnTo>
                <a:lnTo>
                  <a:pt x="5739091" y="749652"/>
                </a:lnTo>
                <a:lnTo>
                  <a:pt x="5739091" y="744160"/>
                </a:lnTo>
                <a:lnTo>
                  <a:pt x="5736346" y="744160"/>
                </a:lnTo>
                <a:lnTo>
                  <a:pt x="5733600" y="741414"/>
                </a:lnTo>
                <a:close/>
                <a:moveTo>
                  <a:pt x="5203626" y="738668"/>
                </a:moveTo>
                <a:lnTo>
                  <a:pt x="5195388" y="744160"/>
                </a:lnTo>
                <a:lnTo>
                  <a:pt x="5189896" y="752398"/>
                </a:lnTo>
                <a:lnTo>
                  <a:pt x="5184404" y="760635"/>
                </a:lnTo>
                <a:lnTo>
                  <a:pt x="5189896" y="766127"/>
                </a:lnTo>
                <a:lnTo>
                  <a:pt x="5198134" y="768873"/>
                </a:lnTo>
                <a:lnTo>
                  <a:pt x="5206372" y="768873"/>
                </a:lnTo>
                <a:lnTo>
                  <a:pt x="5214610" y="768873"/>
                </a:lnTo>
                <a:lnTo>
                  <a:pt x="5220102" y="763381"/>
                </a:lnTo>
                <a:lnTo>
                  <a:pt x="5225594" y="760635"/>
                </a:lnTo>
                <a:lnTo>
                  <a:pt x="5225594" y="755143"/>
                </a:lnTo>
                <a:lnTo>
                  <a:pt x="5222848" y="755143"/>
                </a:lnTo>
                <a:lnTo>
                  <a:pt x="5220102" y="746906"/>
                </a:lnTo>
                <a:lnTo>
                  <a:pt x="5214610" y="741414"/>
                </a:lnTo>
                <a:lnTo>
                  <a:pt x="5209118" y="738668"/>
                </a:lnTo>
                <a:lnTo>
                  <a:pt x="5203626" y="738668"/>
                </a:lnTo>
                <a:close/>
                <a:moveTo>
                  <a:pt x="6323985" y="735922"/>
                </a:moveTo>
                <a:lnTo>
                  <a:pt x="6323985" y="741414"/>
                </a:lnTo>
                <a:lnTo>
                  <a:pt x="6329477" y="741414"/>
                </a:lnTo>
                <a:lnTo>
                  <a:pt x="6332223" y="735922"/>
                </a:lnTo>
                <a:lnTo>
                  <a:pt x="6323985" y="735922"/>
                </a:lnTo>
                <a:close/>
                <a:moveTo>
                  <a:pt x="917156" y="730430"/>
                </a:moveTo>
                <a:lnTo>
                  <a:pt x="917156" y="733176"/>
                </a:lnTo>
                <a:lnTo>
                  <a:pt x="917156" y="735922"/>
                </a:lnTo>
                <a:lnTo>
                  <a:pt x="919902" y="735922"/>
                </a:lnTo>
                <a:lnTo>
                  <a:pt x="919902" y="738668"/>
                </a:lnTo>
                <a:lnTo>
                  <a:pt x="922648" y="738668"/>
                </a:lnTo>
                <a:lnTo>
                  <a:pt x="922648" y="733176"/>
                </a:lnTo>
                <a:lnTo>
                  <a:pt x="917156" y="730430"/>
                </a:lnTo>
                <a:close/>
                <a:moveTo>
                  <a:pt x="450340" y="724938"/>
                </a:moveTo>
                <a:lnTo>
                  <a:pt x="447594" y="727684"/>
                </a:lnTo>
                <a:lnTo>
                  <a:pt x="444848" y="727684"/>
                </a:lnTo>
                <a:lnTo>
                  <a:pt x="450340" y="730430"/>
                </a:lnTo>
                <a:lnTo>
                  <a:pt x="453086" y="730430"/>
                </a:lnTo>
                <a:lnTo>
                  <a:pt x="455832" y="727684"/>
                </a:lnTo>
                <a:lnTo>
                  <a:pt x="450340" y="724938"/>
                </a:lnTo>
                <a:close/>
                <a:moveTo>
                  <a:pt x="5719870" y="719446"/>
                </a:moveTo>
                <a:lnTo>
                  <a:pt x="5719870" y="724938"/>
                </a:lnTo>
                <a:lnTo>
                  <a:pt x="5725362" y="727684"/>
                </a:lnTo>
                <a:lnTo>
                  <a:pt x="5725362" y="719446"/>
                </a:lnTo>
                <a:lnTo>
                  <a:pt x="5719870" y="719446"/>
                </a:lnTo>
                <a:close/>
                <a:moveTo>
                  <a:pt x="5288751" y="719446"/>
                </a:moveTo>
                <a:lnTo>
                  <a:pt x="5283259" y="722192"/>
                </a:lnTo>
                <a:lnTo>
                  <a:pt x="5283259" y="724938"/>
                </a:lnTo>
                <a:lnTo>
                  <a:pt x="5286005" y="724938"/>
                </a:lnTo>
                <a:lnTo>
                  <a:pt x="5286005" y="730430"/>
                </a:lnTo>
                <a:lnTo>
                  <a:pt x="5288751" y="727684"/>
                </a:lnTo>
                <a:lnTo>
                  <a:pt x="5291497" y="724938"/>
                </a:lnTo>
                <a:lnTo>
                  <a:pt x="5288751" y="722192"/>
                </a:lnTo>
                <a:lnTo>
                  <a:pt x="5288751" y="719446"/>
                </a:lnTo>
                <a:close/>
                <a:moveTo>
                  <a:pt x="5077311" y="719446"/>
                </a:moveTo>
                <a:lnTo>
                  <a:pt x="5077311" y="724938"/>
                </a:lnTo>
                <a:lnTo>
                  <a:pt x="5074565" y="730430"/>
                </a:lnTo>
                <a:lnTo>
                  <a:pt x="5071819" y="735922"/>
                </a:lnTo>
                <a:lnTo>
                  <a:pt x="5069073" y="741414"/>
                </a:lnTo>
                <a:lnTo>
                  <a:pt x="5074565" y="744160"/>
                </a:lnTo>
                <a:lnTo>
                  <a:pt x="5077311" y="746906"/>
                </a:lnTo>
                <a:lnTo>
                  <a:pt x="5096533" y="746906"/>
                </a:lnTo>
                <a:lnTo>
                  <a:pt x="5099279" y="741414"/>
                </a:lnTo>
                <a:lnTo>
                  <a:pt x="5099279" y="738668"/>
                </a:lnTo>
                <a:lnTo>
                  <a:pt x="5099279" y="733176"/>
                </a:lnTo>
                <a:lnTo>
                  <a:pt x="5096533" y="727684"/>
                </a:lnTo>
                <a:lnTo>
                  <a:pt x="5082803" y="727684"/>
                </a:lnTo>
                <a:lnTo>
                  <a:pt x="5080057" y="722192"/>
                </a:lnTo>
                <a:lnTo>
                  <a:pt x="5077311" y="719446"/>
                </a:lnTo>
                <a:close/>
                <a:moveTo>
                  <a:pt x="875967" y="719446"/>
                </a:moveTo>
                <a:lnTo>
                  <a:pt x="873221" y="722192"/>
                </a:lnTo>
                <a:lnTo>
                  <a:pt x="867729" y="730430"/>
                </a:lnTo>
                <a:lnTo>
                  <a:pt x="878712" y="730430"/>
                </a:lnTo>
                <a:lnTo>
                  <a:pt x="884205" y="727684"/>
                </a:lnTo>
                <a:lnTo>
                  <a:pt x="881458" y="724938"/>
                </a:lnTo>
                <a:lnTo>
                  <a:pt x="881458" y="722192"/>
                </a:lnTo>
                <a:lnTo>
                  <a:pt x="881458" y="719446"/>
                </a:lnTo>
                <a:lnTo>
                  <a:pt x="875967" y="719446"/>
                </a:lnTo>
                <a:close/>
                <a:moveTo>
                  <a:pt x="488784" y="719446"/>
                </a:moveTo>
                <a:lnTo>
                  <a:pt x="486038" y="722192"/>
                </a:lnTo>
                <a:lnTo>
                  <a:pt x="483292" y="724938"/>
                </a:lnTo>
                <a:lnTo>
                  <a:pt x="488784" y="724938"/>
                </a:lnTo>
                <a:lnTo>
                  <a:pt x="494276" y="724938"/>
                </a:lnTo>
                <a:lnTo>
                  <a:pt x="491530" y="722192"/>
                </a:lnTo>
                <a:lnTo>
                  <a:pt x="488784" y="719446"/>
                </a:lnTo>
                <a:close/>
                <a:moveTo>
                  <a:pt x="6145496" y="716700"/>
                </a:moveTo>
                <a:lnTo>
                  <a:pt x="6140004" y="719446"/>
                </a:lnTo>
                <a:lnTo>
                  <a:pt x="6142750" y="722192"/>
                </a:lnTo>
                <a:lnTo>
                  <a:pt x="6145496" y="722192"/>
                </a:lnTo>
                <a:lnTo>
                  <a:pt x="6148242" y="722192"/>
                </a:lnTo>
                <a:lnTo>
                  <a:pt x="6150988" y="719446"/>
                </a:lnTo>
                <a:lnTo>
                  <a:pt x="6145496" y="716700"/>
                </a:lnTo>
                <a:close/>
                <a:moveTo>
                  <a:pt x="5275021" y="716700"/>
                </a:moveTo>
                <a:lnTo>
                  <a:pt x="5272275" y="719446"/>
                </a:lnTo>
                <a:lnTo>
                  <a:pt x="5266783" y="719446"/>
                </a:lnTo>
                <a:lnTo>
                  <a:pt x="5266783" y="724938"/>
                </a:lnTo>
                <a:lnTo>
                  <a:pt x="5264037" y="727684"/>
                </a:lnTo>
                <a:lnTo>
                  <a:pt x="5261291" y="727684"/>
                </a:lnTo>
                <a:lnTo>
                  <a:pt x="5261291" y="733176"/>
                </a:lnTo>
                <a:lnTo>
                  <a:pt x="5275021" y="733176"/>
                </a:lnTo>
                <a:lnTo>
                  <a:pt x="5277767" y="724938"/>
                </a:lnTo>
                <a:lnTo>
                  <a:pt x="5277767" y="716700"/>
                </a:lnTo>
                <a:lnTo>
                  <a:pt x="5275021" y="716700"/>
                </a:lnTo>
                <a:close/>
                <a:moveTo>
                  <a:pt x="1485574" y="716700"/>
                </a:moveTo>
                <a:lnTo>
                  <a:pt x="1493811" y="716700"/>
                </a:lnTo>
                <a:lnTo>
                  <a:pt x="1485574" y="733176"/>
                </a:lnTo>
                <a:lnTo>
                  <a:pt x="1485574" y="724938"/>
                </a:lnTo>
                <a:lnTo>
                  <a:pt x="1485574" y="716700"/>
                </a:lnTo>
                <a:close/>
                <a:moveTo>
                  <a:pt x="722192" y="716700"/>
                </a:moveTo>
                <a:lnTo>
                  <a:pt x="719446" y="719446"/>
                </a:lnTo>
                <a:lnTo>
                  <a:pt x="719446" y="722192"/>
                </a:lnTo>
                <a:lnTo>
                  <a:pt x="722192" y="727684"/>
                </a:lnTo>
                <a:lnTo>
                  <a:pt x="727684" y="733176"/>
                </a:lnTo>
                <a:lnTo>
                  <a:pt x="730430" y="733176"/>
                </a:lnTo>
                <a:lnTo>
                  <a:pt x="735922" y="727684"/>
                </a:lnTo>
                <a:lnTo>
                  <a:pt x="735922" y="724938"/>
                </a:lnTo>
                <a:lnTo>
                  <a:pt x="733176" y="719446"/>
                </a:lnTo>
                <a:lnTo>
                  <a:pt x="724938" y="716700"/>
                </a:lnTo>
                <a:lnTo>
                  <a:pt x="722192" y="716700"/>
                </a:lnTo>
                <a:close/>
                <a:moveTo>
                  <a:pt x="5700648" y="713954"/>
                </a:moveTo>
                <a:lnTo>
                  <a:pt x="5700648" y="722192"/>
                </a:lnTo>
                <a:lnTo>
                  <a:pt x="5697902" y="727684"/>
                </a:lnTo>
                <a:lnTo>
                  <a:pt x="5689664" y="733176"/>
                </a:lnTo>
                <a:lnTo>
                  <a:pt x="5678680" y="735922"/>
                </a:lnTo>
                <a:lnTo>
                  <a:pt x="5667696" y="735922"/>
                </a:lnTo>
                <a:lnTo>
                  <a:pt x="5653966" y="738668"/>
                </a:lnTo>
                <a:lnTo>
                  <a:pt x="5642982" y="741414"/>
                </a:lnTo>
                <a:lnTo>
                  <a:pt x="5634744" y="746906"/>
                </a:lnTo>
                <a:lnTo>
                  <a:pt x="5631998" y="752398"/>
                </a:lnTo>
                <a:lnTo>
                  <a:pt x="5629252" y="757889"/>
                </a:lnTo>
                <a:lnTo>
                  <a:pt x="5664950" y="755143"/>
                </a:lnTo>
                <a:lnTo>
                  <a:pt x="5684172" y="752398"/>
                </a:lnTo>
                <a:lnTo>
                  <a:pt x="5700648" y="749652"/>
                </a:lnTo>
                <a:lnTo>
                  <a:pt x="5711632" y="744160"/>
                </a:lnTo>
                <a:lnTo>
                  <a:pt x="5714378" y="738668"/>
                </a:lnTo>
                <a:lnTo>
                  <a:pt x="5717124" y="735922"/>
                </a:lnTo>
                <a:lnTo>
                  <a:pt x="5717124" y="730430"/>
                </a:lnTo>
                <a:lnTo>
                  <a:pt x="5714378" y="724938"/>
                </a:lnTo>
                <a:lnTo>
                  <a:pt x="5700648" y="713954"/>
                </a:lnTo>
                <a:close/>
                <a:moveTo>
                  <a:pt x="1345529" y="713954"/>
                </a:moveTo>
                <a:lnTo>
                  <a:pt x="1342784" y="716700"/>
                </a:lnTo>
                <a:lnTo>
                  <a:pt x="1345529" y="719446"/>
                </a:lnTo>
                <a:lnTo>
                  <a:pt x="1348275" y="722192"/>
                </a:lnTo>
                <a:lnTo>
                  <a:pt x="1351020" y="722192"/>
                </a:lnTo>
                <a:lnTo>
                  <a:pt x="1351020" y="716700"/>
                </a:lnTo>
                <a:lnTo>
                  <a:pt x="1351020" y="713954"/>
                </a:lnTo>
                <a:lnTo>
                  <a:pt x="1345529" y="713954"/>
                </a:lnTo>
                <a:close/>
                <a:moveTo>
                  <a:pt x="911664" y="713954"/>
                </a:moveTo>
                <a:lnTo>
                  <a:pt x="911664" y="724938"/>
                </a:lnTo>
                <a:lnTo>
                  <a:pt x="914410" y="724938"/>
                </a:lnTo>
                <a:lnTo>
                  <a:pt x="914410" y="716700"/>
                </a:lnTo>
                <a:lnTo>
                  <a:pt x="911664" y="713954"/>
                </a:lnTo>
                <a:close/>
                <a:moveTo>
                  <a:pt x="1359260" y="711208"/>
                </a:moveTo>
                <a:lnTo>
                  <a:pt x="1359260" y="716700"/>
                </a:lnTo>
                <a:lnTo>
                  <a:pt x="1356512" y="724938"/>
                </a:lnTo>
                <a:lnTo>
                  <a:pt x="1362005" y="724938"/>
                </a:lnTo>
                <a:lnTo>
                  <a:pt x="1367496" y="722192"/>
                </a:lnTo>
                <a:lnTo>
                  <a:pt x="1370242" y="719446"/>
                </a:lnTo>
                <a:lnTo>
                  <a:pt x="1370242" y="716700"/>
                </a:lnTo>
                <a:lnTo>
                  <a:pt x="1372988" y="713954"/>
                </a:lnTo>
                <a:lnTo>
                  <a:pt x="1372988" y="711208"/>
                </a:lnTo>
                <a:lnTo>
                  <a:pt x="1359260" y="711208"/>
                </a:lnTo>
                <a:close/>
                <a:moveTo>
                  <a:pt x="579401" y="711208"/>
                </a:moveTo>
                <a:lnTo>
                  <a:pt x="565671" y="713954"/>
                </a:lnTo>
                <a:lnTo>
                  <a:pt x="557433" y="719446"/>
                </a:lnTo>
                <a:lnTo>
                  <a:pt x="557433" y="713954"/>
                </a:lnTo>
                <a:lnTo>
                  <a:pt x="549195" y="722192"/>
                </a:lnTo>
                <a:lnTo>
                  <a:pt x="551942" y="724938"/>
                </a:lnTo>
                <a:lnTo>
                  <a:pt x="543703" y="730430"/>
                </a:lnTo>
                <a:lnTo>
                  <a:pt x="535466" y="733176"/>
                </a:lnTo>
                <a:lnTo>
                  <a:pt x="518990" y="733176"/>
                </a:lnTo>
                <a:lnTo>
                  <a:pt x="497022" y="730430"/>
                </a:lnTo>
                <a:lnTo>
                  <a:pt x="486038" y="730430"/>
                </a:lnTo>
                <a:lnTo>
                  <a:pt x="477800" y="733176"/>
                </a:lnTo>
                <a:lnTo>
                  <a:pt x="472308" y="735922"/>
                </a:lnTo>
                <a:lnTo>
                  <a:pt x="469562" y="744160"/>
                </a:lnTo>
                <a:lnTo>
                  <a:pt x="472308" y="746906"/>
                </a:lnTo>
                <a:lnTo>
                  <a:pt x="480546" y="746906"/>
                </a:lnTo>
                <a:lnTo>
                  <a:pt x="502514" y="752398"/>
                </a:lnTo>
                <a:lnTo>
                  <a:pt x="497022" y="755144"/>
                </a:lnTo>
                <a:lnTo>
                  <a:pt x="510751" y="755144"/>
                </a:lnTo>
                <a:lnTo>
                  <a:pt x="502514" y="752398"/>
                </a:lnTo>
                <a:lnTo>
                  <a:pt x="508005" y="744160"/>
                </a:lnTo>
                <a:lnTo>
                  <a:pt x="513498" y="741414"/>
                </a:lnTo>
                <a:lnTo>
                  <a:pt x="521736" y="738668"/>
                </a:lnTo>
                <a:lnTo>
                  <a:pt x="540957" y="744160"/>
                </a:lnTo>
                <a:lnTo>
                  <a:pt x="554687" y="746906"/>
                </a:lnTo>
                <a:lnTo>
                  <a:pt x="571163" y="744160"/>
                </a:lnTo>
                <a:lnTo>
                  <a:pt x="579401" y="735922"/>
                </a:lnTo>
                <a:lnTo>
                  <a:pt x="582147" y="733176"/>
                </a:lnTo>
                <a:lnTo>
                  <a:pt x="587639" y="730430"/>
                </a:lnTo>
                <a:lnTo>
                  <a:pt x="601369" y="730430"/>
                </a:lnTo>
                <a:lnTo>
                  <a:pt x="617845" y="733176"/>
                </a:lnTo>
                <a:lnTo>
                  <a:pt x="642559" y="741414"/>
                </a:lnTo>
                <a:lnTo>
                  <a:pt x="664526" y="752398"/>
                </a:lnTo>
                <a:lnTo>
                  <a:pt x="672764" y="760636"/>
                </a:lnTo>
                <a:lnTo>
                  <a:pt x="672764" y="755144"/>
                </a:lnTo>
                <a:lnTo>
                  <a:pt x="675510" y="749652"/>
                </a:lnTo>
                <a:lnTo>
                  <a:pt x="686494" y="744160"/>
                </a:lnTo>
                <a:lnTo>
                  <a:pt x="713954" y="735922"/>
                </a:lnTo>
                <a:lnTo>
                  <a:pt x="713954" y="722192"/>
                </a:lnTo>
                <a:lnTo>
                  <a:pt x="694732" y="722192"/>
                </a:lnTo>
                <a:lnTo>
                  <a:pt x="672764" y="724938"/>
                </a:lnTo>
                <a:lnTo>
                  <a:pt x="650797" y="727684"/>
                </a:lnTo>
                <a:lnTo>
                  <a:pt x="631574" y="727684"/>
                </a:lnTo>
                <a:lnTo>
                  <a:pt x="628829" y="722192"/>
                </a:lnTo>
                <a:lnTo>
                  <a:pt x="620591" y="713954"/>
                </a:lnTo>
                <a:lnTo>
                  <a:pt x="595877" y="711208"/>
                </a:lnTo>
                <a:lnTo>
                  <a:pt x="579401" y="711208"/>
                </a:lnTo>
                <a:close/>
                <a:moveTo>
                  <a:pt x="6181194" y="711208"/>
                </a:moveTo>
                <a:lnTo>
                  <a:pt x="6181194" y="716700"/>
                </a:lnTo>
                <a:lnTo>
                  <a:pt x="6186686" y="716700"/>
                </a:lnTo>
                <a:lnTo>
                  <a:pt x="6189432" y="716700"/>
                </a:lnTo>
                <a:lnTo>
                  <a:pt x="6189432" y="713954"/>
                </a:lnTo>
                <a:lnTo>
                  <a:pt x="6183940" y="711208"/>
                </a:lnTo>
                <a:lnTo>
                  <a:pt x="6181194" y="711208"/>
                </a:lnTo>
                <a:close/>
                <a:moveTo>
                  <a:pt x="5903850" y="711208"/>
                </a:moveTo>
                <a:lnTo>
                  <a:pt x="5898358" y="713954"/>
                </a:lnTo>
                <a:lnTo>
                  <a:pt x="5898358" y="716700"/>
                </a:lnTo>
                <a:lnTo>
                  <a:pt x="5898358" y="719446"/>
                </a:lnTo>
                <a:lnTo>
                  <a:pt x="5903850" y="722192"/>
                </a:lnTo>
                <a:lnTo>
                  <a:pt x="5909342" y="727684"/>
                </a:lnTo>
                <a:lnTo>
                  <a:pt x="5914834" y="727684"/>
                </a:lnTo>
                <a:lnTo>
                  <a:pt x="5914834" y="724938"/>
                </a:lnTo>
                <a:lnTo>
                  <a:pt x="5914834" y="719446"/>
                </a:lnTo>
                <a:lnTo>
                  <a:pt x="5912088" y="713954"/>
                </a:lnTo>
                <a:lnTo>
                  <a:pt x="5909342" y="711208"/>
                </a:lnTo>
                <a:lnTo>
                  <a:pt x="5903850" y="711208"/>
                </a:lnTo>
                <a:close/>
                <a:moveTo>
                  <a:pt x="5758313" y="711208"/>
                </a:moveTo>
                <a:lnTo>
                  <a:pt x="5750075" y="713954"/>
                </a:lnTo>
                <a:lnTo>
                  <a:pt x="5750075" y="716700"/>
                </a:lnTo>
                <a:lnTo>
                  <a:pt x="5752821" y="719446"/>
                </a:lnTo>
                <a:lnTo>
                  <a:pt x="5755567" y="719446"/>
                </a:lnTo>
                <a:lnTo>
                  <a:pt x="5755567" y="722192"/>
                </a:lnTo>
                <a:lnTo>
                  <a:pt x="5758313" y="722192"/>
                </a:lnTo>
                <a:lnTo>
                  <a:pt x="5763805" y="719446"/>
                </a:lnTo>
                <a:lnTo>
                  <a:pt x="5766551" y="711208"/>
                </a:lnTo>
                <a:lnTo>
                  <a:pt x="5758313" y="711208"/>
                </a:lnTo>
                <a:close/>
                <a:moveTo>
                  <a:pt x="5840693" y="705716"/>
                </a:moveTo>
                <a:lnTo>
                  <a:pt x="5832455" y="708462"/>
                </a:lnTo>
                <a:lnTo>
                  <a:pt x="5829709" y="713954"/>
                </a:lnTo>
                <a:lnTo>
                  <a:pt x="5826963" y="716700"/>
                </a:lnTo>
                <a:lnTo>
                  <a:pt x="5826963" y="727684"/>
                </a:lnTo>
                <a:lnTo>
                  <a:pt x="5829709" y="738668"/>
                </a:lnTo>
                <a:lnTo>
                  <a:pt x="5835201" y="744160"/>
                </a:lnTo>
                <a:lnTo>
                  <a:pt x="5843439" y="746906"/>
                </a:lnTo>
                <a:lnTo>
                  <a:pt x="5848931" y="744160"/>
                </a:lnTo>
                <a:lnTo>
                  <a:pt x="5851677" y="735922"/>
                </a:lnTo>
                <a:lnTo>
                  <a:pt x="5854423" y="727684"/>
                </a:lnTo>
                <a:lnTo>
                  <a:pt x="5851677" y="716700"/>
                </a:lnTo>
                <a:lnTo>
                  <a:pt x="5846185" y="711208"/>
                </a:lnTo>
                <a:lnTo>
                  <a:pt x="5840693" y="705716"/>
                </a:lnTo>
                <a:close/>
                <a:moveTo>
                  <a:pt x="5711632" y="702970"/>
                </a:moveTo>
                <a:lnTo>
                  <a:pt x="5714378" y="708462"/>
                </a:lnTo>
                <a:lnTo>
                  <a:pt x="5717124" y="711208"/>
                </a:lnTo>
                <a:lnTo>
                  <a:pt x="5717124" y="708462"/>
                </a:lnTo>
                <a:lnTo>
                  <a:pt x="5717124" y="705716"/>
                </a:lnTo>
                <a:lnTo>
                  <a:pt x="5717124" y="702970"/>
                </a:lnTo>
                <a:lnTo>
                  <a:pt x="5711632" y="702970"/>
                </a:lnTo>
                <a:close/>
                <a:moveTo>
                  <a:pt x="310295" y="700224"/>
                </a:moveTo>
                <a:lnTo>
                  <a:pt x="304803" y="702970"/>
                </a:lnTo>
                <a:lnTo>
                  <a:pt x="304803" y="708462"/>
                </a:lnTo>
                <a:lnTo>
                  <a:pt x="310295" y="708462"/>
                </a:lnTo>
                <a:lnTo>
                  <a:pt x="310295" y="700224"/>
                </a:lnTo>
                <a:close/>
                <a:moveTo>
                  <a:pt x="1540493" y="694732"/>
                </a:moveTo>
                <a:lnTo>
                  <a:pt x="1535002" y="700224"/>
                </a:lnTo>
                <a:lnTo>
                  <a:pt x="1535002" y="705716"/>
                </a:lnTo>
                <a:lnTo>
                  <a:pt x="1535002" y="711208"/>
                </a:lnTo>
                <a:lnTo>
                  <a:pt x="1540493" y="716700"/>
                </a:lnTo>
                <a:lnTo>
                  <a:pt x="1551477" y="716700"/>
                </a:lnTo>
                <a:lnTo>
                  <a:pt x="1554223" y="719446"/>
                </a:lnTo>
                <a:lnTo>
                  <a:pt x="1554223" y="722192"/>
                </a:lnTo>
                <a:lnTo>
                  <a:pt x="1556969" y="722192"/>
                </a:lnTo>
                <a:lnTo>
                  <a:pt x="1559715" y="716700"/>
                </a:lnTo>
                <a:lnTo>
                  <a:pt x="1562461" y="713954"/>
                </a:lnTo>
                <a:lnTo>
                  <a:pt x="1565206" y="708462"/>
                </a:lnTo>
                <a:lnTo>
                  <a:pt x="1565206" y="702970"/>
                </a:lnTo>
                <a:lnTo>
                  <a:pt x="1559715" y="700224"/>
                </a:lnTo>
                <a:lnTo>
                  <a:pt x="1556969" y="694732"/>
                </a:lnTo>
                <a:lnTo>
                  <a:pt x="1540493" y="694732"/>
                </a:lnTo>
                <a:close/>
                <a:moveTo>
                  <a:pt x="790841" y="694732"/>
                </a:moveTo>
                <a:lnTo>
                  <a:pt x="785349" y="697478"/>
                </a:lnTo>
                <a:lnTo>
                  <a:pt x="782603" y="705716"/>
                </a:lnTo>
                <a:lnTo>
                  <a:pt x="782603" y="716700"/>
                </a:lnTo>
                <a:lnTo>
                  <a:pt x="785349" y="724938"/>
                </a:lnTo>
                <a:lnTo>
                  <a:pt x="788095" y="733176"/>
                </a:lnTo>
                <a:lnTo>
                  <a:pt x="793587" y="735922"/>
                </a:lnTo>
                <a:lnTo>
                  <a:pt x="801825" y="733176"/>
                </a:lnTo>
                <a:lnTo>
                  <a:pt x="804571" y="730430"/>
                </a:lnTo>
                <a:lnTo>
                  <a:pt x="807317" y="724938"/>
                </a:lnTo>
                <a:lnTo>
                  <a:pt x="807317" y="713954"/>
                </a:lnTo>
                <a:lnTo>
                  <a:pt x="804571" y="702970"/>
                </a:lnTo>
                <a:lnTo>
                  <a:pt x="801825" y="697478"/>
                </a:lnTo>
                <a:lnTo>
                  <a:pt x="790841" y="694732"/>
                </a:lnTo>
                <a:close/>
                <a:moveTo>
                  <a:pt x="6109798" y="691986"/>
                </a:moveTo>
                <a:lnTo>
                  <a:pt x="6109798" y="694732"/>
                </a:lnTo>
                <a:lnTo>
                  <a:pt x="6109798" y="700224"/>
                </a:lnTo>
                <a:lnTo>
                  <a:pt x="6112544" y="697478"/>
                </a:lnTo>
                <a:lnTo>
                  <a:pt x="6112544" y="691986"/>
                </a:lnTo>
                <a:lnTo>
                  <a:pt x="6109798" y="691986"/>
                </a:lnTo>
                <a:close/>
                <a:moveTo>
                  <a:pt x="5659458" y="691986"/>
                </a:moveTo>
                <a:lnTo>
                  <a:pt x="5662204" y="697478"/>
                </a:lnTo>
                <a:lnTo>
                  <a:pt x="5664950" y="697478"/>
                </a:lnTo>
                <a:lnTo>
                  <a:pt x="5664950" y="694732"/>
                </a:lnTo>
                <a:lnTo>
                  <a:pt x="5667696" y="691986"/>
                </a:lnTo>
                <a:lnTo>
                  <a:pt x="5664950" y="691986"/>
                </a:lnTo>
                <a:lnTo>
                  <a:pt x="5659458" y="691986"/>
                </a:lnTo>
                <a:close/>
                <a:moveTo>
                  <a:pt x="1471844" y="689240"/>
                </a:moveTo>
                <a:lnTo>
                  <a:pt x="1466353" y="691986"/>
                </a:lnTo>
                <a:lnTo>
                  <a:pt x="1458113" y="691986"/>
                </a:lnTo>
                <a:lnTo>
                  <a:pt x="1458113" y="694732"/>
                </a:lnTo>
                <a:lnTo>
                  <a:pt x="1449877" y="694732"/>
                </a:lnTo>
                <a:lnTo>
                  <a:pt x="1444383" y="697478"/>
                </a:lnTo>
                <a:lnTo>
                  <a:pt x="1441637" y="702970"/>
                </a:lnTo>
                <a:lnTo>
                  <a:pt x="1438891" y="708462"/>
                </a:lnTo>
                <a:lnTo>
                  <a:pt x="1433400" y="708462"/>
                </a:lnTo>
                <a:lnTo>
                  <a:pt x="1427907" y="711208"/>
                </a:lnTo>
                <a:lnTo>
                  <a:pt x="1416924" y="719446"/>
                </a:lnTo>
                <a:lnTo>
                  <a:pt x="1411434" y="724938"/>
                </a:lnTo>
                <a:lnTo>
                  <a:pt x="1411434" y="730430"/>
                </a:lnTo>
                <a:lnTo>
                  <a:pt x="1411434" y="735922"/>
                </a:lnTo>
                <a:lnTo>
                  <a:pt x="1416924" y="741414"/>
                </a:lnTo>
                <a:lnTo>
                  <a:pt x="1419670" y="738668"/>
                </a:lnTo>
                <a:lnTo>
                  <a:pt x="1422416" y="738668"/>
                </a:lnTo>
                <a:lnTo>
                  <a:pt x="1422416" y="744160"/>
                </a:lnTo>
                <a:lnTo>
                  <a:pt x="1427907" y="744160"/>
                </a:lnTo>
                <a:lnTo>
                  <a:pt x="1427907" y="746906"/>
                </a:lnTo>
                <a:lnTo>
                  <a:pt x="1430655" y="752398"/>
                </a:lnTo>
                <a:lnTo>
                  <a:pt x="1444383" y="752398"/>
                </a:lnTo>
                <a:lnTo>
                  <a:pt x="1455368" y="749652"/>
                </a:lnTo>
                <a:lnTo>
                  <a:pt x="1458113" y="735922"/>
                </a:lnTo>
                <a:lnTo>
                  <a:pt x="1460859" y="738668"/>
                </a:lnTo>
                <a:lnTo>
                  <a:pt x="1466353" y="735922"/>
                </a:lnTo>
                <a:lnTo>
                  <a:pt x="1480081" y="735922"/>
                </a:lnTo>
                <a:lnTo>
                  <a:pt x="1477335" y="733176"/>
                </a:lnTo>
                <a:lnTo>
                  <a:pt x="1480081" y="733176"/>
                </a:lnTo>
                <a:lnTo>
                  <a:pt x="1482829" y="733176"/>
                </a:lnTo>
                <a:lnTo>
                  <a:pt x="1485574" y="733176"/>
                </a:lnTo>
                <a:lnTo>
                  <a:pt x="1493811" y="741414"/>
                </a:lnTo>
                <a:lnTo>
                  <a:pt x="1507541" y="744160"/>
                </a:lnTo>
                <a:lnTo>
                  <a:pt x="1515779" y="741414"/>
                </a:lnTo>
                <a:lnTo>
                  <a:pt x="1518526" y="741414"/>
                </a:lnTo>
                <a:lnTo>
                  <a:pt x="1524017" y="738668"/>
                </a:lnTo>
                <a:lnTo>
                  <a:pt x="1524017" y="727684"/>
                </a:lnTo>
                <a:lnTo>
                  <a:pt x="1521272" y="716700"/>
                </a:lnTo>
                <a:lnTo>
                  <a:pt x="1504796" y="711208"/>
                </a:lnTo>
                <a:lnTo>
                  <a:pt x="1507541" y="708462"/>
                </a:lnTo>
                <a:lnTo>
                  <a:pt x="1507541" y="700224"/>
                </a:lnTo>
                <a:lnTo>
                  <a:pt x="1502050" y="697478"/>
                </a:lnTo>
                <a:lnTo>
                  <a:pt x="1499304" y="694732"/>
                </a:lnTo>
                <a:lnTo>
                  <a:pt x="1496557" y="691986"/>
                </a:lnTo>
                <a:lnTo>
                  <a:pt x="1491065" y="691986"/>
                </a:lnTo>
                <a:lnTo>
                  <a:pt x="1491065" y="689240"/>
                </a:lnTo>
                <a:lnTo>
                  <a:pt x="1488320" y="689240"/>
                </a:lnTo>
                <a:lnTo>
                  <a:pt x="1488320" y="691986"/>
                </a:lnTo>
                <a:lnTo>
                  <a:pt x="1485574" y="691986"/>
                </a:lnTo>
                <a:lnTo>
                  <a:pt x="1480081" y="689240"/>
                </a:lnTo>
                <a:lnTo>
                  <a:pt x="1471844" y="689240"/>
                </a:lnTo>
                <a:close/>
                <a:moveTo>
                  <a:pt x="900680" y="689240"/>
                </a:moveTo>
                <a:lnTo>
                  <a:pt x="895189" y="691986"/>
                </a:lnTo>
                <a:lnTo>
                  <a:pt x="895189" y="700224"/>
                </a:lnTo>
                <a:lnTo>
                  <a:pt x="897934" y="697478"/>
                </a:lnTo>
                <a:lnTo>
                  <a:pt x="900680" y="700224"/>
                </a:lnTo>
                <a:lnTo>
                  <a:pt x="903426" y="700224"/>
                </a:lnTo>
                <a:lnTo>
                  <a:pt x="906173" y="697478"/>
                </a:lnTo>
                <a:lnTo>
                  <a:pt x="911664" y="697478"/>
                </a:lnTo>
                <a:lnTo>
                  <a:pt x="908919" y="691986"/>
                </a:lnTo>
                <a:lnTo>
                  <a:pt x="903426" y="689240"/>
                </a:lnTo>
                <a:lnTo>
                  <a:pt x="900680" y="689240"/>
                </a:lnTo>
                <a:close/>
                <a:moveTo>
                  <a:pt x="5692410" y="689240"/>
                </a:moveTo>
                <a:lnTo>
                  <a:pt x="5692410" y="691986"/>
                </a:lnTo>
                <a:lnTo>
                  <a:pt x="5697902" y="694732"/>
                </a:lnTo>
                <a:lnTo>
                  <a:pt x="5700648" y="691986"/>
                </a:lnTo>
                <a:lnTo>
                  <a:pt x="5700648" y="689240"/>
                </a:lnTo>
                <a:lnTo>
                  <a:pt x="5695156" y="689240"/>
                </a:lnTo>
                <a:lnTo>
                  <a:pt x="5692410" y="689240"/>
                </a:lnTo>
                <a:close/>
                <a:moveTo>
                  <a:pt x="5678680" y="689240"/>
                </a:moveTo>
                <a:lnTo>
                  <a:pt x="5678680" y="694732"/>
                </a:lnTo>
                <a:lnTo>
                  <a:pt x="5681426" y="691986"/>
                </a:lnTo>
                <a:lnTo>
                  <a:pt x="5684172" y="689240"/>
                </a:lnTo>
                <a:lnTo>
                  <a:pt x="5678680" y="689240"/>
                </a:lnTo>
                <a:close/>
                <a:moveTo>
                  <a:pt x="5189896" y="689240"/>
                </a:moveTo>
                <a:lnTo>
                  <a:pt x="5181658" y="691986"/>
                </a:lnTo>
                <a:lnTo>
                  <a:pt x="5176166" y="705716"/>
                </a:lnTo>
                <a:lnTo>
                  <a:pt x="5173420" y="705716"/>
                </a:lnTo>
                <a:lnTo>
                  <a:pt x="5167928" y="705716"/>
                </a:lnTo>
                <a:lnTo>
                  <a:pt x="5156944" y="705716"/>
                </a:lnTo>
                <a:lnTo>
                  <a:pt x="5156944" y="708462"/>
                </a:lnTo>
                <a:lnTo>
                  <a:pt x="5156944" y="711208"/>
                </a:lnTo>
                <a:lnTo>
                  <a:pt x="5154198" y="711208"/>
                </a:lnTo>
                <a:lnTo>
                  <a:pt x="5151452" y="711208"/>
                </a:lnTo>
                <a:lnTo>
                  <a:pt x="5148706" y="716700"/>
                </a:lnTo>
                <a:lnTo>
                  <a:pt x="5148706" y="724938"/>
                </a:lnTo>
                <a:lnTo>
                  <a:pt x="5143214" y="724938"/>
                </a:lnTo>
                <a:lnTo>
                  <a:pt x="5148706" y="711208"/>
                </a:lnTo>
                <a:lnTo>
                  <a:pt x="5140468" y="702970"/>
                </a:lnTo>
                <a:lnTo>
                  <a:pt x="5129485" y="697478"/>
                </a:lnTo>
                <a:lnTo>
                  <a:pt x="5121247" y="700224"/>
                </a:lnTo>
                <a:lnTo>
                  <a:pt x="5115755" y="702970"/>
                </a:lnTo>
                <a:lnTo>
                  <a:pt x="5113009" y="705716"/>
                </a:lnTo>
                <a:lnTo>
                  <a:pt x="5113009" y="716700"/>
                </a:lnTo>
                <a:lnTo>
                  <a:pt x="5115755" y="724938"/>
                </a:lnTo>
                <a:lnTo>
                  <a:pt x="5129485" y="730430"/>
                </a:lnTo>
                <a:lnTo>
                  <a:pt x="5129485" y="735922"/>
                </a:lnTo>
                <a:lnTo>
                  <a:pt x="5129485" y="741414"/>
                </a:lnTo>
                <a:lnTo>
                  <a:pt x="5134976" y="744160"/>
                </a:lnTo>
                <a:lnTo>
                  <a:pt x="5137722" y="746906"/>
                </a:lnTo>
                <a:lnTo>
                  <a:pt x="5137722" y="749652"/>
                </a:lnTo>
                <a:lnTo>
                  <a:pt x="5143214" y="749652"/>
                </a:lnTo>
                <a:lnTo>
                  <a:pt x="5143214" y="752398"/>
                </a:lnTo>
                <a:lnTo>
                  <a:pt x="5145960" y="752398"/>
                </a:lnTo>
                <a:lnTo>
                  <a:pt x="5148706" y="752398"/>
                </a:lnTo>
                <a:lnTo>
                  <a:pt x="5151452" y="749652"/>
                </a:lnTo>
                <a:lnTo>
                  <a:pt x="5156944" y="752398"/>
                </a:lnTo>
                <a:lnTo>
                  <a:pt x="5162436" y="752398"/>
                </a:lnTo>
                <a:lnTo>
                  <a:pt x="5170674" y="752398"/>
                </a:lnTo>
                <a:lnTo>
                  <a:pt x="5176166" y="749652"/>
                </a:lnTo>
                <a:lnTo>
                  <a:pt x="5176166" y="746906"/>
                </a:lnTo>
                <a:lnTo>
                  <a:pt x="5184404" y="746906"/>
                </a:lnTo>
                <a:lnTo>
                  <a:pt x="5189896" y="744160"/>
                </a:lnTo>
                <a:lnTo>
                  <a:pt x="5192642" y="741414"/>
                </a:lnTo>
                <a:lnTo>
                  <a:pt x="5195388" y="733176"/>
                </a:lnTo>
                <a:lnTo>
                  <a:pt x="5200880" y="733176"/>
                </a:lnTo>
                <a:lnTo>
                  <a:pt x="5206372" y="730430"/>
                </a:lnTo>
                <a:lnTo>
                  <a:pt x="5220102" y="722192"/>
                </a:lnTo>
                <a:lnTo>
                  <a:pt x="5222848" y="716700"/>
                </a:lnTo>
                <a:lnTo>
                  <a:pt x="5222848" y="711208"/>
                </a:lnTo>
                <a:lnTo>
                  <a:pt x="5222848" y="705716"/>
                </a:lnTo>
                <a:lnTo>
                  <a:pt x="5217356" y="702970"/>
                </a:lnTo>
                <a:lnTo>
                  <a:pt x="5214610" y="702970"/>
                </a:lnTo>
                <a:lnTo>
                  <a:pt x="5214610" y="705716"/>
                </a:lnTo>
                <a:lnTo>
                  <a:pt x="5211864" y="705716"/>
                </a:lnTo>
                <a:lnTo>
                  <a:pt x="5211864" y="697478"/>
                </a:lnTo>
                <a:lnTo>
                  <a:pt x="5206372" y="697478"/>
                </a:lnTo>
                <a:lnTo>
                  <a:pt x="5206372" y="694732"/>
                </a:lnTo>
                <a:lnTo>
                  <a:pt x="5203626" y="689240"/>
                </a:lnTo>
                <a:lnTo>
                  <a:pt x="5189896" y="689240"/>
                </a:lnTo>
                <a:close/>
                <a:moveTo>
                  <a:pt x="722192" y="686494"/>
                </a:moveTo>
                <a:lnTo>
                  <a:pt x="722192" y="691986"/>
                </a:lnTo>
                <a:lnTo>
                  <a:pt x="727684" y="691986"/>
                </a:lnTo>
                <a:lnTo>
                  <a:pt x="730430" y="691986"/>
                </a:lnTo>
                <a:lnTo>
                  <a:pt x="733176" y="686494"/>
                </a:lnTo>
                <a:lnTo>
                  <a:pt x="722192" y="686494"/>
                </a:lnTo>
                <a:close/>
                <a:moveTo>
                  <a:pt x="1005028" y="683748"/>
                </a:moveTo>
                <a:lnTo>
                  <a:pt x="969330" y="686494"/>
                </a:lnTo>
                <a:lnTo>
                  <a:pt x="952854" y="689240"/>
                </a:lnTo>
                <a:lnTo>
                  <a:pt x="936378" y="694732"/>
                </a:lnTo>
                <a:lnTo>
                  <a:pt x="922648" y="700224"/>
                </a:lnTo>
                <a:lnTo>
                  <a:pt x="919902" y="702970"/>
                </a:lnTo>
                <a:lnTo>
                  <a:pt x="917156" y="708462"/>
                </a:lnTo>
                <a:lnTo>
                  <a:pt x="919902" y="711208"/>
                </a:lnTo>
                <a:lnTo>
                  <a:pt x="919902" y="716700"/>
                </a:lnTo>
                <a:lnTo>
                  <a:pt x="933632" y="727684"/>
                </a:lnTo>
                <a:lnTo>
                  <a:pt x="936378" y="722192"/>
                </a:lnTo>
                <a:lnTo>
                  <a:pt x="936378" y="716700"/>
                </a:lnTo>
                <a:lnTo>
                  <a:pt x="944616" y="708462"/>
                </a:lnTo>
                <a:lnTo>
                  <a:pt x="955600" y="705716"/>
                </a:lnTo>
                <a:lnTo>
                  <a:pt x="969330" y="705716"/>
                </a:lnTo>
                <a:lnTo>
                  <a:pt x="980314" y="705716"/>
                </a:lnTo>
                <a:lnTo>
                  <a:pt x="994043" y="702970"/>
                </a:lnTo>
                <a:lnTo>
                  <a:pt x="1002281" y="694732"/>
                </a:lnTo>
                <a:lnTo>
                  <a:pt x="1005028" y="691986"/>
                </a:lnTo>
                <a:lnTo>
                  <a:pt x="1005028" y="683748"/>
                </a:lnTo>
                <a:close/>
                <a:moveTo>
                  <a:pt x="5961516" y="683748"/>
                </a:moveTo>
                <a:lnTo>
                  <a:pt x="5961516" y="689240"/>
                </a:lnTo>
                <a:lnTo>
                  <a:pt x="5958770" y="694732"/>
                </a:lnTo>
                <a:lnTo>
                  <a:pt x="5950532" y="700224"/>
                </a:lnTo>
                <a:lnTo>
                  <a:pt x="5920326" y="708462"/>
                </a:lnTo>
                <a:lnTo>
                  <a:pt x="5920326" y="722192"/>
                </a:lnTo>
                <a:lnTo>
                  <a:pt x="5939548" y="719446"/>
                </a:lnTo>
                <a:lnTo>
                  <a:pt x="5961516" y="716700"/>
                </a:lnTo>
                <a:lnTo>
                  <a:pt x="5983483" y="716700"/>
                </a:lnTo>
                <a:lnTo>
                  <a:pt x="6002705" y="716700"/>
                </a:lnTo>
                <a:lnTo>
                  <a:pt x="6008197" y="722192"/>
                </a:lnTo>
                <a:lnTo>
                  <a:pt x="6013689" y="727684"/>
                </a:lnTo>
                <a:lnTo>
                  <a:pt x="6038403" y="730430"/>
                </a:lnTo>
                <a:lnTo>
                  <a:pt x="6054879" y="730430"/>
                </a:lnTo>
                <a:lnTo>
                  <a:pt x="6071355" y="727684"/>
                </a:lnTo>
                <a:lnTo>
                  <a:pt x="6076847" y="724938"/>
                </a:lnTo>
                <a:lnTo>
                  <a:pt x="6079593" y="727684"/>
                </a:lnTo>
                <a:lnTo>
                  <a:pt x="6085085" y="722192"/>
                </a:lnTo>
                <a:lnTo>
                  <a:pt x="6082339" y="719446"/>
                </a:lnTo>
                <a:lnTo>
                  <a:pt x="6090577" y="713954"/>
                </a:lnTo>
                <a:lnTo>
                  <a:pt x="6098815" y="708462"/>
                </a:lnTo>
                <a:lnTo>
                  <a:pt x="6115290" y="708462"/>
                </a:lnTo>
                <a:lnTo>
                  <a:pt x="6137258" y="711208"/>
                </a:lnTo>
                <a:lnTo>
                  <a:pt x="6148242" y="711208"/>
                </a:lnTo>
                <a:lnTo>
                  <a:pt x="6156480" y="711208"/>
                </a:lnTo>
                <a:lnTo>
                  <a:pt x="6161972" y="705716"/>
                </a:lnTo>
                <a:lnTo>
                  <a:pt x="6164718" y="700224"/>
                </a:lnTo>
                <a:lnTo>
                  <a:pt x="6161972" y="697478"/>
                </a:lnTo>
                <a:lnTo>
                  <a:pt x="6153734" y="694732"/>
                </a:lnTo>
                <a:lnTo>
                  <a:pt x="6134512" y="691986"/>
                </a:lnTo>
                <a:lnTo>
                  <a:pt x="6137258" y="689240"/>
                </a:lnTo>
                <a:lnTo>
                  <a:pt x="6123528" y="689240"/>
                </a:lnTo>
                <a:lnTo>
                  <a:pt x="6134512" y="691986"/>
                </a:lnTo>
                <a:lnTo>
                  <a:pt x="6126274" y="697478"/>
                </a:lnTo>
                <a:lnTo>
                  <a:pt x="6120782" y="702970"/>
                </a:lnTo>
                <a:lnTo>
                  <a:pt x="6112544" y="702970"/>
                </a:lnTo>
                <a:lnTo>
                  <a:pt x="6093323" y="697478"/>
                </a:lnTo>
                <a:lnTo>
                  <a:pt x="6079593" y="694732"/>
                </a:lnTo>
                <a:lnTo>
                  <a:pt x="6063117" y="697478"/>
                </a:lnTo>
                <a:lnTo>
                  <a:pt x="6057625" y="705716"/>
                </a:lnTo>
                <a:lnTo>
                  <a:pt x="6052133" y="711208"/>
                </a:lnTo>
                <a:lnTo>
                  <a:pt x="6046641" y="711208"/>
                </a:lnTo>
                <a:lnTo>
                  <a:pt x="6032911" y="711208"/>
                </a:lnTo>
                <a:lnTo>
                  <a:pt x="6019181" y="708462"/>
                </a:lnTo>
                <a:lnTo>
                  <a:pt x="5991721" y="700224"/>
                </a:lnTo>
                <a:lnTo>
                  <a:pt x="5972500" y="691986"/>
                </a:lnTo>
                <a:lnTo>
                  <a:pt x="5961516" y="683748"/>
                </a:lnTo>
                <a:close/>
                <a:moveTo>
                  <a:pt x="5074565" y="683748"/>
                </a:moveTo>
                <a:lnTo>
                  <a:pt x="5074565" y="689240"/>
                </a:lnTo>
                <a:lnTo>
                  <a:pt x="5074565" y="691986"/>
                </a:lnTo>
                <a:lnTo>
                  <a:pt x="5074565" y="694732"/>
                </a:lnTo>
                <a:lnTo>
                  <a:pt x="5080057" y="691986"/>
                </a:lnTo>
                <a:lnTo>
                  <a:pt x="5080057" y="689240"/>
                </a:lnTo>
                <a:lnTo>
                  <a:pt x="5077311" y="683748"/>
                </a:lnTo>
                <a:lnTo>
                  <a:pt x="5074565" y="683748"/>
                </a:lnTo>
                <a:close/>
                <a:moveTo>
                  <a:pt x="1430655" y="672764"/>
                </a:moveTo>
                <a:lnTo>
                  <a:pt x="1419670" y="675510"/>
                </a:lnTo>
                <a:lnTo>
                  <a:pt x="1416924" y="681002"/>
                </a:lnTo>
                <a:lnTo>
                  <a:pt x="1408686" y="683748"/>
                </a:lnTo>
                <a:lnTo>
                  <a:pt x="1408686" y="689240"/>
                </a:lnTo>
                <a:lnTo>
                  <a:pt x="1414179" y="689240"/>
                </a:lnTo>
                <a:lnTo>
                  <a:pt x="1416924" y="694732"/>
                </a:lnTo>
                <a:lnTo>
                  <a:pt x="1419670" y="702970"/>
                </a:lnTo>
                <a:lnTo>
                  <a:pt x="1425162" y="705716"/>
                </a:lnTo>
                <a:lnTo>
                  <a:pt x="1430655" y="705716"/>
                </a:lnTo>
                <a:lnTo>
                  <a:pt x="1441637" y="700224"/>
                </a:lnTo>
                <a:lnTo>
                  <a:pt x="1447130" y="691986"/>
                </a:lnTo>
                <a:lnTo>
                  <a:pt x="1452622" y="683748"/>
                </a:lnTo>
                <a:lnTo>
                  <a:pt x="1444383" y="678256"/>
                </a:lnTo>
                <a:lnTo>
                  <a:pt x="1438891" y="675510"/>
                </a:lnTo>
                <a:lnTo>
                  <a:pt x="1430655" y="672764"/>
                </a:lnTo>
                <a:close/>
                <a:moveTo>
                  <a:pt x="966584" y="670018"/>
                </a:moveTo>
                <a:lnTo>
                  <a:pt x="963838" y="672764"/>
                </a:lnTo>
                <a:lnTo>
                  <a:pt x="961092" y="675510"/>
                </a:lnTo>
                <a:lnTo>
                  <a:pt x="966584" y="675510"/>
                </a:lnTo>
                <a:lnTo>
                  <a:pt x="966584" y="670018"/>
                </a:lnTo>
                <a:close/>
                <a:moveTo>
                  <a:pt x="5664950" y="670018"/>
                </a:moveTo>
                <a:lnTo>
                  <a:pt x="5664950" y="675510"/>
                </a:lnTo>
                <a:lnTo>
                  <a:pt x="5670442" y="675510"/>
                </a:lnTo>
                <a:lnTo>
                  <a:pt x="5670442" y="670018"/>
                </a:lnTo>
                <a:lnTo>
                  <a:pt x="5664950" y="670018"/>
                </a:lnTo>
                <a:close/>
                <a:moveTo>
                  <a:pt x="5272275" y="670018"/>
                </a:moveTo>
                <a:lnTo>
                  <a:pt x="5269529" y="675510"/>
                </a:lnTo>
                <a:lnTo>
                  <a:pt x="5269529" y="678256"/>
                </a:lnTo>
                <a:lnTo>
                  <a:pt x="5272275" y="678256"/>
                </a:lnTo>
                <a:lnTo>
                  <a:pt x="5275021" y="675510"/>
                </a:lnTo>
                <a:lnTo>
                  <a:pt x="5275021" y="670018"/>
                </a:lnTo>
                <a:lnTo>
                  <a:pt x="5272275" y="670018"/>
                </a:lnTo>
                <a:close/>
                <a:moveTo>
                  <a:pt x="5096533" y="667272"/>
                </a:moveTo>
                <a:lnTo>
                  <a:pt x="5096533" y="675510"/>
                </a:lnTo>
                <a:lnTo>
                  <a:pt x="5099279" y="675510"/>
                </a:lnTo>
                <a:lnTo>
                  <a:pt x="5102025" y="675510"/>
                </a:lnTo>
                <a:lnTo>
                  <a:pt x="5102025" y="670018"/>
                </a:lnTo>
                <a:lnTo>
                  <a:pt x="5099279" y="667272"/>
                </a:lnTo>
                <a:lnTo>
                  <a:pt x="5096533" y="667272"/>
                </a:lnTo>
                <a:close/>
                <a:moveTo>
                  <a:pt x="5110263" y="664526"/>
                </a:moveTo>
                <a:lnTo>
                  <a:pt x="5110263" y="667272"/>
                </a:lnTo>
                <a:lnTo>
                  <a:pt x="5107517" y="670018"/>
                </a:lnTo>
                <a:lnTo>
                  <a:pt x="5110263" y="675510"/>
                </a:lnTo>
                <a:lnTo>
                  <a:pt x="5115755" y="675510"/>
                </a:lnTo>
                <a:lnTo>
                  <a:pt x="5118501" y="672764"/>
                </a:lnTo>
                <a:lnTo>
                  <a:pt x="5118501" y="667272"/>
                </a:lnTo>
                <a:lnTo>
                  <a:pt x="5115755" y="667272"/>
                </a:lnTo>
                <a:lnTo>
                  <a:pt x="5113009" y="664526"/>
                </a:lnTo>
                <a:lnTo>
                  <a:pt x="5110263" y="664526"/>
                </a:lnTo>
                <a:close/>
                <a:moveTo>
                  <a:pt x="777112" y="664526"/>
                </a:moveTo>
                <a:lnTo>
                  <a:pt x="777112" y="667272"/>
                </a:lnTo>
                <a:lnTo>
                  <a:pt x="774366" y="667272"/>
                </a:lnTo>
                <a:lnTo>
                  <a:pt x="774366" y="672764"/>
                </a:lnTo>
                <a:lnTo>
                  <a:pt x="779857" y="672764"/>
                </a:lnTo>
                <a:lnTo>
                  <a:pt x="779857" y="670018"/>
                </a:lnTo>
                <a:lnTo>
                  <a:pt x="782603" y="667272"/>
                </a:lnTo>
                <a:lnTo>
                  <a:pt x="779857" y="667272"/>
                </a:lnTo>
                <a:lnTo>
                  <a:pt x="779857" y="664526"/>
                </a:lnTo>
                <a:lnTo>
                  <a:pt x="777112" y="664526"/>
                </a:lnTo>
                <a:close/>
                <a:moveTo>
                  <a:pt x="5145960" y="659034"/>
                </a:moveTo>
                <a:lnTo>
                  <a:pt x="5134976" y="661780"/>
                </a:lnTo>
                <a:lnTo>
                  <a:pt x="5132230" y="667272"/>
                </a:lnTo>
                <a:lnTo>
                  <a:pt x="5132230" y="670018"/>
                </a:lnTo>
                <a:lnTo>
                  <a:pt x="5129485" y="672764"/>
                </a:lnTo>
                <a:lnTo>
                  <a:pt x="5129485" y="678256"/>
                </a:lnTo>
                <a:lnTo>
                  <a:pt x="5126739" y="683748"/>
                </a:lnTo>
                <a:lnTo>
                  <a:pt x="5132230" y="689240"/>
                </a:lnTo>
                <a:lnTo>
                  <a:pt x="5134976" y="694732"/>
                </a:lnTo>
                <a:lnTo>
                  <a:pt x="5143214" y="697478"/>
                </a:lnTo>
                <a:lnTo>
                  <a:pt x="5148706" y="700224"/>
                </a:lnTo>
                <a:lnTo>
                  <a:pt x="5151452" y="697478"/>
                </a:lnTo>
                <a:lnTo>
                  <a:pt x="5159690" y="697478"/>
                </a:lnTo>
                <a:lnTo>
                  <a:pt x="5159690" y="694732"/>
                </a:lnTo>
                <a:lnTo>
                  <a:pt x="5165182" y="689240"/>
                </a:lnTo>
                <a:lnTo>
                  <a:pt x="5170674" y="686494"/>
                </a:lnTo>
                <a:lnTo>
                  <a:pt x="5170674" y="678256"/>
                </a:lnTo>
                <a:lnTo>
                  <a:pt x="5167928" y="678256"/>
                </a:lnTo>
                <a:lnTo>
                  <a:pt x="5167928" y="675510"/>
                </a:lnTo>
                <a:lnTo>
                  <a:pt x="5167928" y="670018"/>
                </a:lnTo>
                <a:lnTo>
                  <a:pt x="5162436" y="664526"/>
                </a:lnTo>
                <a:lnTo>
                  <a:pt x="5159690" y="659034"/>
                </a:lnTo>
                <a:lnTo>
                  <a:pt x="5145960" y="659034"/>
                </a:lnTo>
                <a:close/>
                <a:moveTo>
                  <a:pt x="1562461" y="656288"/>
                </a:moveTo>
                <a:lnTo>
                  <a:pt x="1559715" y="659034"/>
                </a:lnTo>
                <a:lnTo>
                  <a:pt x="1562461" y="664526"/>
                </a:lnTo>
                <a:lnTo>
                  <a:pt x="1567952" y="667272"/>
                </a:lnTo>
                <a:lnTo>
                  <a:pt x="1570699" y="664526"/>
                </a:lnTo>
                <a:lnTo>
                  <a:pt x="1570699" y="656288"/>
                </a:lnTo>
                <a:lnTo>
                  <a:pt x="1562461" y="656288"/>
                </a:lnTo>
                <a:close/>
                <a:moveTo>
                  <a:pt x="5755567" y="653542"/>
                </a:moveTo>
                <a:lnTo>
                  <a:pt x="5752821" y="656288"/>
                </a:lnTo>
                <a:lnTo>
                  <a:pt x="5750075" y="659034"/>
                </a:lnTo>
                <a:lnTo>
                  <a:pt x="5755567" y="659034"/>
                </a:lnTo>
                <a:lnTo>
                  <a:pt x="5755567" y="653542"/>
                </a:lnTo>
                <a:close/>
                <a:moveTo>
                  <a:pt x="5662204" y="653542"/>
                </a:moveTo>
                <a:lnTo>
                  <a:pt x="5670442" y="656288"/>
                </a:lnTo>
                <a:lnTo>
                  <a:pt x="5673188" y="656288"/>
                </a:lnTo>
                <a:lnTo>
                  <a:pt x="5678680" y="653542"/>
                </a:lnTo>
                <a:lnTo>
                  <a:pt x="5670442" y="653542"/>
                </a:lnTo>
                <a:lnTo>
                  <a:pt x="5662204" y="653542"/>
                </a:lnTo>
                <a:close/>
                <a:moveTo>
                  <a:pt x="5181658" y="653542"/>
                </a:moveTo>
                <a:lnTo>
                  <a:pt x="5187150" y="653542"/>
                </a:lnTo>
                <a:lnTo>
                  <a:pt x="5187150" y="659034"/>
                </a:lnTo>
                <a:lnTo>
                  <a:pt x="5181658" y="659034"/>
                </a:lnTo>
                <a:lnTo>
                  <a:pt x="5181658" y="653542"/>
                </a:lnTo>
                <a:close/>
                <a:moveTo>
                  <a:pt x="5121247" y="653542"/>
                </a:moveTo>
                <a:lnTo>
                  <a:pt x="5121247" y="656288"/>
                </a:lnTo>
                <a:lnTo>
                  <a:pt x="5118501" y="656288"/>
                </a:lnTo>
                <a:lnTo>
                  <a:pt x="5118501" y="659034"/>
                </a:lnTo>
                <a:lnTo>
                  <a:pt x="5121247" y="659034"/>
                </a:lnTo>
                <a:lnTo>
                  <a:pt x="5123993" y="659034"/>
                </a:lnTo>
                <a:lnTo>
                  <a:pt x="5126739" y="659034"/>
                </a:lnTo>
                <a:lnTo>
                  <a:pt x="5126739" y="656288"/>
                </a:lnTo>
                <a:lnTo>
                  <a:pt x="5123993" y="656288"/>
                </a:lnTo>
                <a:lnTo>
                  <a:pt x="5123993" y="653542"/>
                </a:lnTo>
                <a:lnTo>
                  <a:pt x="5121247" y="653542"/>
                </a:lnTo>
                <a:close/>
                <a:moveTo>
                  <a:pt x="5717124" y="648050"/>
                </a:moveTo>
                <a:lnTo>
                  <a:pt x="5719870" y="650796"/>
                </a:lnTo>
                <a:lnTo>
                  <a:pt x="5728108" y="653542"/>
                </a:lnTo>
                <a:lnTo>
                  <a:pt x="5728108" y="650796"/>
                </a:lnTo>
                <a:lnTo>
                  <a:pt x="5728108" y="648050"/>
                </a:lnTo>
                <a:lnTo>
                  <a:pt x="5717124" y="648050"/>
                </a:lnTo>
                <a:close/>
                <a:moveTo>
                  <a:pt x="5596301" y="648050"/>
                </a:moveTo>
                <a:lnTo>
                  <a:pt x="5593555" y="650796"/>
                </a:lnTo>
                <a:lnTo>
                  <a:pt x="5599047" y="653542"/>
                </a:lnTo>
                <a:lnTo>
                  <a:pt x="5601793" y="653542"/>
                </a:lnTo>
                <a:lnTo>
                  <a:pt x="5604539" y="650796"/>
                </a:lnTo>
                <a:lnTo>
                  <a:pt x="5599047" y="648050"/>
                </a:lnTo>
                <a:lnTo>
                  <a:pt x="5596301" y="648050"/>
                </a:lnTo>
                <a:close/>
                <a:moveTo>
                  <a:pt x="1545985" y="642559"/>
                </a:moveTo>
                <a:lnTo>
                  <a:pt x="1543239" y="648051"/>
                </a:lnTo>
                <a:lnTo>
                  <a:pt x="1545985" y="648051"/>
                </a:lnTo>
                <a:lnTo>
                  <a:pt x="1551477" y="650797"/>
                </a:lnTo>
                <a:lnTo>
                  <a:pt x="1551477" y="642559"/>
                </a:lnTo>
                <a:lnTo>
                  <a:pt x="1545985" y="642559"/>
                </a:lnTo>
                <a:close/>
                <a:moveTo>
                  <a:pt x="741414" y="642559"/>
                </a:moveTo>
                <a:lnTo>
                  <a:pt x="741414" y="650797"/>
                </a:lnTo>
                <a:lnTo>
                  <a:pt x="746906" y="648051"/>
                </a:lnTo>
                <a:lnTo>
                  <a:pt x="746906" y="642559"/>
                </a:lnTo>
                <a:lnTo>
                  <a:pt x="741414" y="642559"/>
                </a:lnTo>
                <a:close/>
                <a:moveTo>
                  <a:pt x="5739091" y="642558"/>
                </a:moveTo>
                <a:lnTo>
                  <a:pt x="5739091" y="653542"/>
                </a:lnTo>
                <a:lnTo>
                  <a:pt x="5741837" y="650796"/>
                </a:lnTo>
                <a:lnTo>
                  <a:pt x="5741837" y="648050"/>
                </a:lnTo>
                <a:lnTo>
                  <a:pt x="5744583" y="642558"/>
                </a:lnTo>
                <a:lnTo>
                  <a:pt x="5739091" y="642558"/>
                </a:lnTo>
                <a:close/>
                <a:moveTo>
                  <a:pt x="1271389" y="637067"/>
                </a:moveTo>
                <a:lnTo>
                  <a:pt x="1271389" y="642559"/>
                </a:lnTo>
                <a:lnTo>
                  <a:pt x="1276880" y="642559"/>
                </a:lnTo>
                <a:lnTo>
                  <a:pt x="1276880" y="637067"/>
                </a:lnTo>
                <a:lnTo>
                  <a:pt x="1271389" y="637067"/>
                </a:lnTo>
                <a:close/>
                <a:moveTo>
                  <a:pt x="681002" y="637067"/>
                </a:moveTo>
                <a:lnTo>
                  <a:pt x="681002" y="642559"/>
                </a:lnTo>
                <a:lnTo>
                  <a:pt x="686494" y="642559"/>
                </a:lnTo>
                <a:lnTo>
                  <a:pt x="686494" y="637067"/>
                </a:lnTo>
                <a:lnTo>
                  <a:pt x="681002" y="637067"/>
                </a:lnTo>
                <a:close/>
                <a:moveTo>
                  <a:pt x="5626506" y="634320"/>
                </a:moveTo>
                <a:lnTo>
                  <a:pt x="5623760" y="637066"/>
                </a:lnTo>
                <a:lnTo>
                  <a:pt x="5626506" y="639812"/>
                </a:lnTo>
                <a:lnTo>
                  <a:pt x="5629252" y="639812"/>
                </a:lnTo>
                <a:lnTo>
                  <a:pt x="5631998" y="639812"/>
                </a:lnTo>
                <a:lnTo>
                  <a:pt x="5631998" y="637066"/>
                </a:lnTo>
                <a:lnTo>
                  <a:pt x="5631998" y="634320"/>
                </a:lnTo>
                <a:lnTo>
                  <a:pt x="5629252" y="634320"/>
                </a:lnTo>
                <a:lnTo>
                  <a:pt x="5626506" y="634320"/>
                </a:lnTo>
                <a:close/>
                <a:moveTo>
                  <a:pt x="1213722" y="631575"/>
                </a:moveTo>
                <a:lnTo>
                  <a:pt x="1205484" y="634321"/>
                </a:lnTo>
                <a:lnTo>
                  <a:pt x="1202739" y="639813"/>
                </a:lnTo>
                <a:lnTo>
                  <a:pt x="1210975" y="639813"/>
                </a:lnTo>
                <a:lnTo>
                  <a:pt x="1210975" y="637067"/>
                </a:lnTo>
                <a:lnTo>
                  <a:pt x="1213722" y="631575"/>
                </a:lnTo>
                <a:close/>
                <a:moveTo>
                  <a:pt x="5642982" y="628829"/>
                </a:moveTo>
                <a:lnTo>
                  <a:pt x="5642982" y="634320"/>
                </a:lnTo>
                <a:lnTo>
                  <a:pt x="5640236" y="634320"/>
                </a:lnTo>
                <a:lnTo>
                  <a:pt x="5637490" y="637066"/>
                </a:lnTo>
                <a:lnTo>
                  <a:pt x="5642982" y="637066"/>
                </a:lnTo>
                <a:lnTo>
                  <a:pt x="5645728" y="637066"/>
                </a:lnTo>
                <a:lnTo>
                  <a:pt x="5645728" y="628829"/>
                </a:lnTo>
                <a:lnTo>
                  <a:pt x="5642982" y="628829"/>
                </a:lnTo>
                <a:close/>
                <a:moveTo>
                  <a:pt x="5137722" y="628829"/>
                </a:moveTo>
                <a:lnTo>
                  <a:pt x="5134976" y="634320"/>
                </a:lnTo>
                <a:lnTo>
                  <a:pt x="5132230" y="645304"/>
                </a:lnTo>
                <a:lnTo>
                  <a:pt x="5129485" y="645304"/>
                </a:lnTo>
                <a:lnTo>
                  <a:pt x="5126739" y="648050"/>
                </a:lnTo>
                <a:lnTo>
                  <a:pt x="5132230" y="648050"/>
                </a:lnTo>
                <a:lnTo>
                  <a:pt x="5140468" y="650796"/>
                </a:lnTo>
                <a:lnTo>
                  <a:pt x="5143214" y="653542"/>
                </a:lnTo>
                <a:lnTo>
                  <a:pt x="5151452" y="653542"/>
                </a:lnTo>
                <a:lnTo>
                  <a:pt x="5156944" y="648050"/>
                </a:lnTo>
                <a:lnTo>
                  <a:pt x="5159690" y="642558"/>
                </a:lnTo>
                <a:lnTo>
                  <a:pt x="5159690" y="637066"/>
                </a:lnTo>
                <a:lnTo>
                  <a:pt x="5156944" y="628829"/>
                </a:lnTo>
                <a:lnTo>
                  <a:pt x="5145960" y="628829"/>
                </a:lnTo>
                <a:lnTo>
                  <a:pt x="5137722" y="628829"/>
                </a:lnTo>
                <a:close/>
                <a:moveTo>
                  <a:pt x="5077311" y="628829"/>
                </a:moveTo>
                <a:lnTo>
                  <a:pt x="5077311" y="637066"/>
                </a:lnTo>
                <a:lnTo>
                  <a:pt x="5080057" y="637066"/>
                </a:lnTo>
                <a:lnTo>
                  <a:pt x="5082803" y="634320"/>
                </a:lnTo>
                <a:lnTo>
                  <a:pt x="5085549" y="628829"/>
                </a:lnTo>
                <a:lnTo>
                  <a:pt x="5077311" y="628829"/>
                </a:lnTo>
                <a:close/>
                <a:moveTo>
                  <a:pt x="837523" y="628829"/>
                </a:moveTo>
                <a:lnTo>
                  <a:pt x="832031" y="631575"/>
                </a:lnTo>
                <a:lnTo>
                  <a:pt x="832031" y="634321"/>
                </a:lnTo>
                <a:lnTo>
                  <a:pt x="837523" y="634321"/>
                </a:lnTo>
                <a:lnTo>
                  <a:pt x="840269" y="631575"/>
                </a:lnTo>
                <a:lnTo>
                  <a:pt x="837523" y="631575"/>
                </a:lnTo>
                <a:lnTo>
                  <a:pt x="837523" y="628829"/>
                </a:lnTo>
                <a:close/>
                <a:moveTo>
                  <a:pt x="867729" y="626083"/>
                </a:moveTo>
                <a:lnTo>
                  <a:pt x="864983" y="628829"/>
                </a:lnTo>
                <a:lnTo>
                  <a:pt x="867729" y="628829"/>
                </a:lnTo>
                <a:lnTo>
                  <a:pt x="867729" y="631575"/>
                </a:lnTo>
                <a:lnTo>
                  <a:pt x="867729" y="634321"/>
                </a:lnTo>
                <a:lnTo>
                  <a:pt x="873221" y="634321"/>
                </a:lnTo>
                <a:lnTo>
                  <a:pt x="875967" y="637067"/>
                </a:lnTo>
                <a:lnTo>
                  <a:pt x="878712" y="634321"/>
                </a:lnTo>
                <a:lnTo>
                  <a:pt x="881458" y="631575"/>
                </a:lnTo>
                <a:lnTo>
                  <a:pt x="875967" y="631575"/>
                </a:lnTo>
                <a:lnTo>
                  <a:pt x="873221" y="628829"/>
                </a:lnTo>
                <a:lnTo>
                  <a:pt x="867729" y="626083"/>
                </a:lnTo>
                <a:close/>
                <a:moveTo>
                  <a:pt x="5967008" y="626083"/>
                </a:moveTo>
                <a:lnTo>
                  <a:pt x="5950532" y="637066"/>
                </a:lnTo>
                <a:lnTo>
                  <a:pt x="5942294" y="642558"/>
                </a:lnTo>
                <a:lnTo>
                  <a:pt x="5942294" y="645304"/>
                </a:lnTo>
                <a:lnTo>
                  <a:pt x="5947786" y="648050"/>
                </a:lnTo>
                <a:lnTo>
                  <a:pt x="5950532" y="645304"/>
                </a:lnTo>
                <a:lnTo>
                  <a:pt x="5953278" y="645304"/>
                </a:lnTo>
                <a:lnTo>
                  <a:pt x="5961516" y="642558"/>
                </a:lnTo>
                <a:lnTo>
                  <a:pt x="5964262" y="639812"/>
                </a:lnTo>
                <a:lnTo>
                  <a:pt x="5967008" y="637066"/>
                </a:lnTo>
                <a:lnTo>
                  <a:pt x="5969754" y="631575"/>
                </a:lnTo>
                <a:lnTo>
                  <a:pt x="5967008" y="626083"/>
                </a:lnTo>
                <a:close/>
                <a:moveTo>
                  <a:pt x="5170674" y="626083"/>
                </a:moveTo>
                <a:lnTo>
                  <a:pt x="5167928" y="628829"/>
                </a:lnTo>
                <a:lnTo>
                  <a:pt x="5167928" y="631575"/>
                </a:lnTo>
                <a:lnTo>
                  <a:pt x="5170674" y="634320"/>
                </a:lnTo>
                <a:lnTo>
                  <a:pt x="5167928" y="639812"/>
                </a:lnTo>
                <a:lnTo>
                  <a:pt x="5165182" y="648050"/>
                </a:lnTo>
                <a:lnTo>
                  <a:pt x="5170674" y="653542"/>
                </a:lnTo>
                <a:lnTo>
                  <a:pt x="5173420" y="659034"/>
                </a:lnTo>
                <a:lnTo>
                  <a:pt x="5170674" y="661780"/>
                </a:lnTo>
                <a:lnTo>
                  <a:pt x="5176166" y="664526"/>
                </a:lnTo>
                <a:lnTo>
                  <a:pt x="5176166" y="667272"/>
                </a:lnTo>
                <a:lnTo>
                  <a:pt x="5189896" y="670018"/>
                </a:lnTo>
                <a:lnTo>
                  <a:pt x="5198134" y="667272"/>
                </a:lnTo>
                <a:lnTo>
                  <a:pt x="5206372" y="664526"/>
                </a:lnTo>
                <a:lnTo>
                  <a:pt x="5214610" y="659034"/>
                </a:lnTo>
                <a:lnTo>
                  <a:pt x="5211864" y="653542"/>
                </a:lnTo>
                <a:lnTo>
                  <a:pt x="5211864" y="648050"/>
                </a:lnTo>
                <a:lnTo>
                  <a:pt x="5214610" y="648050"/>
                </a:lnTo>
                <a:lnTo>
                  <a:pt x="5217356" y="639812"/>
                </a:lnTo>
                <a:lnTo>
                  <a:pt x="5214610" y="628829"/>
                </a:lnTo>
                <a:lnTo>
                  <a:pt x="5195388" y="626083"/>
                </a:lnTo>
                <a:lnTo>
                  <a:pt x="5184404" y="628829"/>
                </a:lnTo>
                <a:lnTo>
                  <a:pt x="5173420" y="631575"/>
                </a:lnTo>
                <a:lnTo>
                  <a:pt x="5173420" y="626083"/>
                </a:lnTo>
                <a:lnTo>
                  <a:pt x="5170674" y="626083"/>
                </a:lnTo>
                <a:close/>
                <a:moveTo>
                  <a:pt x="1458113" y="623337"/>
                </a:moveTo>
                <a:lnTo>
                  <a:pt x="1460859" y="623337"/>
                </a:lnTo>
                <a:lnTo>
                  <a:pt x="1460859" y="626083"/>
                </a:lnTo>
                <a:lnTo>
                  <a:pt x="1466353" y="626083"/>
                </a:lnTo>
                <a:lnTo>
                  <a:pt x="1469098" y="626083"/>
                </a:lnTo>
                <a:lnTo>
                  <a:pt x="1466353" y="628829"/>
                </a:lnTo>
                <a:lnTo>
                  <a:pt x="1460859" y="631575"/>
                </a:lnTo>
                <a:lnTo>
                  <a:pt x="1458113" y="623337"/>
                </a:lnTo>
                <a:close/>
                <a:moveTo>
                  <a:pt x="1367496" y="623337"/>
                </a:moveTo>
                <a:lnTo>
                  <a:pt x="1364751" y="628829"/>
                </a:lnTo>
                <a:lnTo>
                  <a:pt x="1362005" y="637067"/>
                </a:lnTo>
                <a:lnTo>
                  <a:pt x="1359260" y="650797"/>
                </a:lnTo>
                <a:lnTo>
                  <a:pt x="1370242" y="656288"/>
                </a:lnTo>
                <a:lnTo>
                  <a:pt x="1378481" y="656288"/>
                </a:lnTo>
                <a:lnTo>
                  <a:pt x="1389464" y="656288"/>
                </a:lnTo>
                <a:lnTo>
                  <a:pt x="1400448" y="650797"/>
                </a:lnTo>
                <a:lnTo>
                  <a:pt x="1400448" y="642559"/>
                </a:lnTo>
                <a:lnTo>
                  <a:pt x="1397703" y="639813"/>
                </a:lnTo>
                <a:lnTo>
                  <a:pt x="1394958" y="639813"/>
                </a:lnTo>
                <a:lnTo>
                  <a:pt x="1394958" y="628829"/>
                </a:lnTo>
                <a:lnTo>
                  <a:pt x="1389464" y="626083"/>
                </a:lnTo>
                <a:lnTo>
                  <a:pt x="1378481" y="623337"/>
                </a:lnTo>
                <a:lnTo>
                  <a:pt x="1367496" y="623337"/>
                </a:lnTo>
                <a:close/>
                <a:moveTo>
                  <a:pt x="1554223" y="620591"/>
                </a:moveTo>
                <a:lnTo>
                  <a:pt x="1551477" y="623337"/>
                </a:lnTo>
                <a:lnTo>
                  <a:pt x="1551477" y="626083"/>
                </a:lnTo>
                <a:lnTo>
                  <a:pt x="1551477" y="628829"/>
                </a:lnTo>
                <a:lnTo>
                  <a:pt x="1556969" y="628829"/>
                </a:lnTo>
                <a:lnTo>
                  <a:pt x="1556969" y="623337"/>
                </a:lnTo>
                <a:lnTo>
                  <a:pt x="1554223" y="620591"/>
                </a:lnTo>
                <a:close/>
                <a:moveTo>
                  <a:pt x="1221961" y="620591"/>
                </a:moveTo>
                <a:lnTo>
                  <a:pt x="1216469" y="623337"/>
                </a:lnTo>
                <a:lnTo>
                  <a:pt x="1216469" y="634321"/>
                </a:lnTo>
                <a:lnTo>
                  <a:pt x="1221961" y="639813"/>
                </a:lnTo>
                <a:lnTo>
                  <a:pt x="1230199" y="642559"/>
                </a:lnTo>
                <a:lnTo>
                  <a:pt x="1241182" y="642559"/>
                </a:lnTo>
                <a:lnTo>
                  <a:pt x="1241182" y="637067"/>
                </a:lnTo>
                <a:lnTo>
                  <a:pt x="1241182" y="634321"/>
                </a:lnTo>
                <a:lnTo>
                  <a:pt x="1243927" y="631575"/>
                </a:lnTo>
                <a:lnTo>
                  <a:pt x="1243927" y="626083"/>
                </a:lnTo>
                <a:lnTo>
                  <a:pt x="1230199" y="620591"/>
                </a:lnTo>
                <a:lnTo>
                  <a:pt x="1221961" y="620591"/>
                </a:lnTo>
                <a:close/>
                <a:moveTo>
                  <a:pt x="1208230" y="620591"/>
                </a:moveTo>
                <a:lnTo>
                  <a:pt x="1205484" y="623337"/>
                </a:lnTo>
                <a:lnTo>
                  <a:pt x="1202739" y="626083"/>
                </a:lnTo>
                <a:lnTo>
                  <a:pt x="1205484" y="628829"/>
                </a:lnTo>
                <a:lnTo>
                  <a:pt x="1210975" y="631575"/>
                </a:lnTo>
                <a:lnTo>
                  <a:pt x="1208230" y="626083"/>
                </a:lnTo>
                <a:lnTo>
                  <a:pt x="1208230" y="620591"/>
                </a:lnTo>
                <a:close/>
                <a:moveTo>
                  <a:pt x="5977992" y="620591"/>
                </a:moveTo>
                <a:lnTo>
                  <a:pt x="5975246" y="623337"/>
                </a:lnTo>
                <a:lnTo>
                  <a:pt x="5972500" y="626083"/>
                </a:lnTo>
                <a:lnTo>
                  <a:pt x="5972500" y="631575"/>
                </a:lnTo>
                <a:lnTo>
                  <a:pt x="5977992" y="642558"/>
                </a:lnTo>
                <a:lnTo>
                  <a:pt x="5983483" y="634320"/>
                </a:lnTo>
                <a:lnTo>
                  <a:pt x="5983483" y="626083"/>
                </a:lnTo>
                <a:lnTo>
                  <a:pt x="5980738" y="623337"/>
                </a:lnTo>
                <a:lnTo>
                  <a:pt x="5977992" y="620591"/>
                </a:lnTo>
                <a:close/>
                <a:moveTo>
                  <a:pt x="5695156" y="620591"/>
                </a:moveTo>
                <a:lnTo>
                  <a:pt x="5697902" y="628829"/>
                </a:lnTo>
                <a:lnTo>
                  <a:pt x="5703394" y="634320"/>
                </a:lnTo>
                <a:lnTo>
                  <a:pt x="5706140" y="628829"/>
                </a:lnTo>
                <a:lnTo>
                  <a:pt x="5703394" y="626083"/>
                </a:lnTo>
                <a:lnTo>
                  <a:pt x="5700648" y="623337"/>
                </a:lnTo>
                <a:lnTo>
                  <a:pt x="5695156" y="620591"/>
                </a:lnTo>
                <a:close/>
                <a:moveTo>
                  <a:pt x="5107517" y="620591"/>
                </a:moveTo>
                <a:lnTo>
                  <a:pt x="5104771" y="626083"/>
                </a:lnTo>
                <a:lnTo>
                  <a:pt x="5104771" y="631575"/>
                </a:lnTo>
                <a:lnTo>
                  <a:pt x="5107517" y="645304"/>
                </a:lnTo>
                <a:lnTo>
                  <a:pt x="5110263" y="645304"/>
                </a:lnTo>
                <a:lnTo>
                  <a:pt x="5113009" y="648050"/>
                </a:lnTo>
                <a:lnTo>
                  <a:pt x="5115755" y="648050"/>
                </a:lnTo>
                <a:lnTo>
                  <a:pt x="5118501" y="648050"/>
                </a:lnTo>
                <a:lnTo>
                  <a:pt x="5121247" y="642558"/>
                </a:lnTo>
                <a:lnTo>
                  <a:pt x="5123993" y="637066"/>
                </a:lnTo>
                <a:lnTo>
                  <a:pt x="5123993" y="628829"/>
                </a:lnTo>
                <a:lnTo>
                  <a:pt x="5123993" y="620591"/>
                </a:lnTo>
                <a:lnTo>
                  <a:pt x="5107517" y="620591"/>
                </a:lnTo>
                <a:close/>
                <a:moveTo>
                  <a:pt x="5250308" y="617845"/>
                </a:moveTo>
                <a:lnTo>
                  <a:pt x="5250308" y="623337"/>
                </a:lnTo>
                <a:lnTo>
                  <a:pt x="5253053" y="623337"/>
                </a:lnTo>
                <a:lnTo>
                  <a:pt x="5253053" y="626083"/>
                </a:lnTo>
                <a:lnTo>
                  <a:pt x="5255799" y="626083"/>
                </a:lnTo>
                <a:lnTo>
                  <a:pt x="5255799" y="623337"/>
                </a:lnTo>
                <a:lnTo>
                  <a:pt x="5258545" y="623337"/>
                </a:lnTo>
                <a:lnTo>
                  <a:pt x="5258545" y="620591"/>
                </a:lnTo>
                <a:lnTo>
                  <a:pt x="5255799" y="620591"/>
                </a:lnTo>
                <a:lnTo>
                  <a:pt x="5255799" y="617845"/>
                </a:lnTo>
                <a:lnTo>
                  <a:pt x="5253053" y="617845"/>
                </a:lnTo>
                <a:lnTo>
                  <a:pt x="5253053" y="620591"/>
                </a:lnTo>
                <a:lnTo>
                  <a:pt x="5250308" y="617845"/>
                </a:lnTo>
                <a:close/>
                <a:moveTo>
                  <a:pt x="5648474" y="615099"/>
                </a:moveTo>
                <a:lnTo>
                  <a:pt x="5642982" y="620591"/>
                </a:lnTo>
                <a:lnTo>
                  <a:pt x="5648474" y="620591"/>
                </a:lnTo>
                <a:lnTo>
                  <a:pt x="5651220" y="620591"/>
                </a:lnTo>
                <a:lnTo>
                  <a:pt x="5653966" y="623337"/>
                </a:lnTo>
                <a:lnTo>
                  <a:pt x="5656712" y="623337"/>
                </a:lnTo>
                <a:lnTo>
                  <a:pt x="5656712" y="617845"/>
                </a:lnTo>
                <a:lnTo>
                  <a:pt x="5653966" y="617845"/>
                </a:lnTo>
                <a:lnTo>
                  <a:pt x="5651220" y="617845"/>
                </a:lnTo>
                <a:lnTo>
                  <a:pt x="5648474" y="615099"/>
                </a:lnTo>
                <a:close/>
                <a:moveTo>
                  <a:pt x="744160" y="612353"/>
                </a:moveTo>
                <a:lnTo>
                  <a:pt x="741414" y="615099"/>
                </a:lnTo>
                <a:lnTo>
                  <a:pt x="746906" y="615099"/>
                </a:lnTo>
                <a:lnTo>
                  <a:pt x="749652" y="615099"/>
                </a:lnTo>
                <a:lnTo>
                  <a:pt x="752397" y="612353"/>
                </a:lnTo>
                <a:lnTo>
                  <a:pt x="746906" y="612353"/>
                </a:lnTo>
                <a:lnTo>
                  <a:pt x="744160" y="612353"/>
                </a:lnTo>
                <a:close/>
                <a:moveTo>
                  <a:pt x="5631998" y="609607"/>
                </a:moveTo>
                <a:lnTo>
                  <a:pt x="5631998" y="617845"/>
                </a:lnTo>
                <a:lnTo>
                  <a:pt x="5634744" y="615099"/>
                </a:lnTo>
                <a:lnTo>
                  <a:pt x="5634744" y="609607"/>
                </a:lnTo>
                <a:lnTo>
                  <a:pt x="5631998" y="609607"/>
                </a:lnTo>
                <a:close/>
                <a:moveTo>
                  <a:pt x="1378481" y="606861"/>
                </a:moveTo>
                <a:lnTo>
                  <a:pt x="1381227" y="612353"/>
                </a:lnTo>
                <a:lnTo>
                  <a:pt x="1383972" y="615099"/>
                </a:lnTo>
                <a:lnTo>
                  <a:pt x="1383972" y="606861"/>
                </a:lnTo>
                <a:lnTo>
                  <a:pt x="1378481" y="606861"/>
                </a:lnTo>
                <a:close/>
                <a:moveTo>
                  <a:pt x="5755567" y="604115"/>
                </a:moveTo>
                <a:lnTo>
                  <a:pt x="5755567" y="609607"/>
                </a:lnTo>
                <a:lnTo>
                  <a:pt x="5761059" y="609607"/>
                </a:lnTo>
                <a:lnTo>
                  <a:pt x="5763805" y="606861"/>
                </a:lnTo>
                <a:lnTo>
                  <a:pt x="5761059" y="606861"/>
                </a:lnTo>
                <a:lnTo>
                  <a:pt x="5755567" y="604115"/>
                </a:lnTo>
                <a:close/>
                <a:moveTo>
                  <a:pt x="5618268" y="601369"/>
                </a:moveTo>
                <a:lnTo>
                  <a:pt x="5612777" y="604115"/>
                </a:lnTo>
                <a:lnTo>
                  <a:pt x="5612777" y="609607"/>
                </a:lnTo>
                <a:lnTo>
                  <a:pt x="5615523" y="609607"/>
                </a:lnTo>
                <a:lnTo>
                  <a:pt x="5618268" y="609607"/>
                </a:lnTo>
                <a:lnTo>
                  <a:pt x="5621014" y="609607"/>
                </a:lnTo>
                <a:lnTo>
                  <a:pt x="5623760" y="609607"/>
                </a:lnTo>
                <a:lnTo>
                  <a:pt x="5623760" y="604115"/>
                </a:lnTo>
                <a:lnTo>
                  <a:pt x="5618268" y="601369"/>
                </a:lnTo>
                <a:close/>
                <a:moveTo>
                  <a:pt x="5151452" y="601369"/>
                </a:moveTo>
                <a:lnTo>
                  <a:pt x="5143214" y="604115"/>
                </a:lnTo>
                <a:lnTo>
                  <a:pt x="5143214" y="612353"/>
                </a:lnTo>
                <a:lnTo>
                  <a:pt x="5137722" y="612353"/>
                </a:lnTo>
                <a:lnTo>
                  <a:pt x="5134976" y="617845"/>
                </a:lnTo>
                <a:lnTo>
                  <a:pt x="5145960" y="615099"/>
                </a:lnTo>
                <a:lnTo>
                  <a:pt x="5159690" y="615099"/>
                </a:lnTo>
                <a:lnTo>
                  <a:pt x="5156944" y="612353"/>
                </a:lnTo>
                <a:lnTo>
                  <a:pt x="5159690" y="609607"/>
                </a:lnTo>
                <a:lnTo>
                  <a:pt x="5159690" y="604115"/>
                </a:lnTo>
                <a:lnTo>
                  <a:pt x="5151452" y="601369"/>
                </a:lnTo>
                <a:close/>
                <a:moveTo>
                  <a:pt x="5725362" y="598623"/>
                </a:moveTo>
                <a:lnTo>
                  <a:pt x="5725362" y="606861"/>
                </a:lnTo>
                <a:lnTo>
                  <a:pt x="5728108" y="606861"/>
                </a:lnTo>
                <a:lnTo>
                  <a:pt x="5728108" y="601369"/>
                </a:lnTo>
                <a:lnTo>
                  <a:pt x="5725362" y="598623"/>
                </a:lnTo>
                <a:close/>
                <a:moveTo>
                  <a:pt x="6395380" y="595877"/>
                </a:moveTo>
                <a:lnTo>
                  <a:pt x="6392634" y="598623"/>
                </a:lnTo>
                <a:lnTo>
                  <a:pt x="6392634" y="604115"/>
                </a:lnTo>
                <a:lnTo>
                  <a:pt x="6398126" y="604115"/>
                </a:lnTo>
                <a:lnTo>
                  <a:pt x="6400872" y="601369"/>
                </a:lnTo>
                <a:lnTo>
                  <a:pt x="6403618" y="598623"/>
                </a:lnTo>
                <a:lnTo>
                  <a:pt x="6400872" y="595877"/>
                </a:lnTo>
                <a:lnTo>
                  <a:pt x="6398126" y="595877"/>
                </a:lnTo>
                <a:lnTo>
                  <a:pt x="6395380" y="595877"/>
                </a:lnTo>
                <a:close/>
                <a:moveTo>
                  <a:pt x="5585317" y="595877"/>
                </a:moveTo>
                <a:lnTo>
                  <a:pt x="5579825" y="598623"/>
                </a:lnTo>
                <a:lnTo>
                  <a:pt x="5593555" y="598623"/>
                </a:lnTo>
                <a:lnTo>
                  <a:pt x="5601793" y="601369"/>
                </a:lnTo>
                <a:lnTo>
                  <a:pt x="5604539" y="604115"/>
                </a:lnTo>
                <a:lnTo>
                  <a:pt x="5601793" y="598623"/>
                </a:lnTo>
                <a:lnTo>
                  <a:pt x="5593555" y="595877"/>
                </a:lnTo>
                <a:lnTo>
                  <a:pt x="5585317" y="595877"/>
                </a:lnTo>
                <a:close/>
                <a:moveTo>
                  <a:pt x="1540493" y="595877"/>
                </a:moveTo>
                <a:lnTo>
                  <a:pt x="1537748" y="598623"/>
                </a:lnTo>
                <a:lnTo>
                  <a:pt x="1537748" y="601369"/>
                </a:lnTo>
                <a:lnTo>
                  <a:pt x="1540493" y="604115"/>
                </a:lnTo>
                <a:lnTo>
                  <a:pt x="1545985" y="604115"/>
                </a:lnTo>
                <a:lnTo>
                  <a:pt x="1545985" y="598623"/>
                </a:lnTo>
                <a:lnTo>
                  <a:pt x="1540493" y="595877"/>
                </a:lnTo>
                <a:close/>
                <a:moveTo>
                  <a:pt x="6422840" y="593131"/>
                </a:moveTo>
                <a:lnTo>
                  <a:pt x="6417348" y="598623"/>
                </a:lnTo>
                <a:lnTo>
                  <a:pt x="6414602" y="601369"/>
                </a:lnTo>
                <a:lnTo>
                  <a:pt x="6414602" y="604115"/>
                </a:lnTo>
                <a:lnTo>
                  <a:pt x="6417348" y="604115"/>
                </a:lnTo>
                <a:lnTo>
                  <a:pt x="6420094" y="606861"/>
                </a:lnTo>
                <a:lnTo>
                  <a:pt x="6420094" y="604115"/>
                </a:lnTo>
                <a:lnTo>
                  <a:pt x="6422840" y="601369"/>
                </a:lnTo>
                <a:lnTo>
                  <a:pt x="6422840" y="593131"/>
                </a:lnTo>
                <a:close/>
                <a:moveTo>
                  <a:pt x="5659458" y="593131"/>
                </a:moveTo>
                <a:lnTo>
                  <a:pt x="5659458" y="595877"/>
                </a:lnTo>
                <a:lnTo>
                  <a:pt x="5662204" y="598623"/>
                </a:lnTo>
                <a:lnTo>
                  <a:pt x="5664950" y="595877"/>
                </a:lnTo>
                <a:lnTo>
                  <a:pt x="5664950" y="593131"/>
                </a:lnTo>
                <a:lnTo>
                  <a:pt x="5662204" y="593131"/>
                </a:lnTo>
                <a:lnTo>
                  <a:pt x="5659458" y="593131"/>
                </a:lnTo>
                <a:close/>
                <a:moveTo>
                  <a:pt x="5615523" y="593131"/>
                </a:moveTo>
                <a:lnTo>
                  <a:pt x="5615523" y="598623"/>
                </a:lnTo>
                <a:lnTo>
                  <a:pt x="5621014" y="598623"/>
                </a:lnTo>
                <a:lnTo>
                  <a:pt x="5621014" y="593131"/>
                </a:lnTo>
                <a:lnTo>
                  <a:pt x="5615523" y="593131"/>
                </a:lnTo>
                <a:close/>
                <a:moveTo>
                  <a:pt x="5338179" y="593131"/>
                </a:moveTo>
                <a:lnTo>
                  <a:pt x="5340925" y="598623"/>
                </a:lnTo>
                <a:lnTo>
                  <a:pt x="5343671" y="601369"/>
                </a:lnTo>
                <a:lnTo>
                  <a:pt x="5346417" y="598623"/>
                </a:lnTo>
                <a:lnTo>
                  <a:pt x="5346417" y="595877"/>
                </a:lnTo>
                <a:lnTo>
                  <a:pt x="5346417" y="593131"/>
                </a:lnTo>
                <a:lnTo>
                  <a:pt x="5338179" y="593131"/>
                </a:lnTo>
                <a:close/>
                <a:moveTo>
                  <a:pt x="5975246" y="590385"/>
                </a:moveTo>
                <a:lnTo>
                  <a:pt x="5975246" y="593131"/>
                </a:lnTo>
                <a:lnTo>
                  <a:pt x="5972500" y="598623"/>
                </a:lnTo>
                <a:lnTo>
                  <a:pt x="5975246" y="601369"/>
                </a:lnTo>
                <a:lnTo>
                  <a:pt x="5977992" y="604115"/>
                </a:lnTo>
                <a:lnTo>
                  <a:pt x="5977992" y="595877"/>
                </a:lnTo>
                <a:lnTo>
                  <a:pt x="5977992" y="593131"/>
                </a:lnTo>
                <a:lnTo>
                  <a:pt x="5975246" y="590385"/>
                </a:lnTo>
                <a:close/>
                <a:moveTo>
                  <a:pt x="5629252" y="590385"/>
                </a:moveTo>
                <a:lnTo>
                  <a:pt x="5629252" y="598623"/>
                </a:lnTo>
                <a:lnTo>
                  <a:pt x="5631998" y="598623"/>
                </a:lnTo>
                <a:lnTo>
                  <a:pt x="5631998" y="593131"/>
                </a:lnTo>
                <a:lnTo>
                  <a:pt x="5629252" y="590385"/>
                </a:lnTo>
                <a:close/>
                <a:moveTo>
                  <a:pt x="5942294" y="587639"/>
                </a:moveTo>
                <a:lnTo>
                  <a:pt x="5939548" y="595877"/>
                </a:lnTo>
                <a:lnTo>
                  <a:pt x="5939548" y="604115"/>
                </a:lnTo>
                <a:lnTo>
                  <a:pt x="5945040" y="612353"/>
                </a:lnTo>
                <a:lnTo>
                  <a:pt x="5947786" y="617845"/>
                </a:lnTo>
                <a:lnTo>
                  <a:pt x="5947786" y="609607"/>
                </a:lnTo>
                <a:lnTo>
                  <a:pt x="5947786" y="601369"/>
                </a:lnTo>
                <a:lnTo>
                  <a:pt x="5947786" y="593131"/>
                </a:lnTo>
                <a:lnTo>
                  <a:pt x="5945040" y="590385"/>
                </a:lnTo>
                <a:lnTo>
                  <a:pt x="5942294" y="587639"/>
                </a:lnTo>
                <a:close/>
                <a:moveTo>
                  <a:pt x="5909342" y="587639"/>
                </a:moveTo>
                <a:lnTo>
                  <a:pt x="5909342" y="593131"/>
                </a:lnTo>
                <a:lnTo>
                  <a:pt x="5914834" y="593131"/>
                </a:lnTo>
                <a:lnTo>
                  <a:pt x="5914834" y="590385"/>
                </a:lnTo>
                <a:lnTo>
                  <a:pt x="5912088" y="587639"/>
                </a:lnTo>
                <a:lnTo>
                  <a:pt x="5909342" y="587639"/>
                </a:lnTo>
                <a:close/>
                <a:moveTo>
                  <a:pt x="1458113" y="584893"/>
                </a:moveTo>
                <a:lnTo>
                  <a:pt x="1452622" y="587639"/>
                </a:lnTo>
                <a:lnTo>
                  <a:pt x="1449877" y="590385"/>
                </a:lnTo>
                <a:lnTo>
                  <a:pt x="1444383" y="593131"/>
                </a:lnTo>
                <a:lnTo>
                  <a:pt x="1444383" y="590385"/>
                </a:lnTo>
                <a:lnTo>
                  <a:pt x="1438891" y="590385"/>
                </a:lnTo>
                <a:lnTo>
                  <a:pt x="1436146" y="593131"/>
                </a:lnTo>
                <a:lnTo>
                  <a:pt x="1438891" y="593131"/>
                </a:lnTo>
                <a:lnTo>
                  <a:pt x="1441637" y="593131"/>
                </a:lnTo>
                <a:lnTo>
                  <a:pt x="1444383" y="593131"/>
                </a:lnTo>
                <a:lnTo>
                  <a:pt x="1438891" y="595877"/>
                </a:lnTo>
                <a:lnTo>
                  <a:pt x="1438891" y="598623"/>
                </a:lnTo>
                <a:lnTo>
                  <a:pt x="1438891" y="601369"/>
                </a:lnTo>
                <a:lnTo>
                  <a:pt x="1436146" y="598623"/>
                </a:lnTo>
                <a:lnTo>
                  <a:pt x="1436146" y="595877"/>
                </a:lnTo>
                <a:lnTo>
                  <a:pt x="1430655" y="595877"/>
                </a:lnTo>
                <a:lnTo>
                  <a:pt x="1430655" y="598623"/>
                </a:lnTo>
                <a:lnTo>
                  <a:pt x="1430655" y="601369"/>
                </a:lnTo>
                <a:lnTo>
                  <a:pt x="1427907" y="598623"/>
                </a:lnTo>
                <a:lnTo>
                  <a:pt x="1427907" y="595877"/>
                </a:lnTo>
                <a:lnTo>
                  <a:pt x="1422416" y="598623"/>
                </a:lnTo>
                <a:lnTo>
                  <a:pt x="1422416" y="601369"/>
                </a:lnTo>
                <a:lnTo>
                  <a:pt x="1425162" y="604115"/>
                </a:lnTo>
                <a:lnTo>
                  <a:pt x="1433400" y="604115"/>
                </a:lnTo>
                <a:lnTo>
                  <a:pt x="1436146" y="604115"/>
                </a:lnTo>
                <a:lnTo>
                  <a:pt x="1438891" y="604115"/>
                </a:lnTo>
                <a:lnTo>
                  <a:pt x="1438891" y="609607"/>
                </a:lnTo>
                <a:lnTo>
                  <a:pt x="1438891" y="615099"/>
                </a:lnTo>
                <a:lnTo>
                  <a:pt x="1444383" y="617845"/>
                </a:lnTo>
                <a:lnTo>
                  <a:pt x="1449877" y="620591"/>
                </a:lnTo>
                <a:lnTo>
                  <a:pt x="1444383" y="620591"/>
                </a:lnTo>
                <a:lnTo>
                  <a:pt x="1444383" y="631575"/>
                </a:lnTo>
                <a:lnTo>
                  <a:pt x="1455368" y="634321"/>
                </a:lnTo>
                <a:lnTo>
                  <a:pt x="1458113" y="642559"/>
                </a:lnTo>
                <a:lnTo>
                  <a:pt x="1455368" y="645305"/>
                </a:lnTo>
                <a:lnTo>
                  <a:pt x="1455368" y="653542"/>
                </a:lnTo>
                <a:lnTo>
                  <a:pt x="1458113" y="653542"/>
                </a:lnTo>
                <a:lnTo>
                  <a:pt x="1458113" y="659034"/>
                </a:lnTo>
                <a:lnTo>
                  <a:pt x="1458113" y="664526"/>
                </a:lnTo>
                <a:lnTo>
                  <a:pt x="1455368" y="672764"/>
                </a:lnTo>
                <a:lnTo>
                  <a:pt x="1458113" y="686494"/>
                </a:lnTo>
                <a:lnTo>
                  <a:pt x="1471844" y="683748"/>
                </a:lnTo>
                <a:lnTo>
                  <a:pt x="1485574" y="683748"/>
                </a:lnTo>
                <a:lnTo>
                  <a:pt x="1499304" y="686494"/>
                </a:lnTo>
                <a:lnTo>
                  <a:pt x="1510287" y="683748"/>
                </a:lnTo>
                <a:lnTo>
                  <a:pt x="1515779" y="686494"/>
                </a:lnTo>
                <a:lnTo>
                  <a:pt x="1518526" y="683748"/>
                </a:lnTo>
                <a:lnTo>
                  <a:pt x="1518526" y="681002"/>
                </a:lnTo>
                <a:lnTo>
                  <a:pt x="1521272" y="675510"/>
                </a:lnTo>
                <a:lnTo>
                  <a:pt x="1529509" y="675510"/>
                </a:lnTo>
                <a:lnTo>
                  <a:pt x="1535002" y="672764"/>
                </a:lnTo>
                <a:lnTo>
                  <a:pt x="1543239" y="667272"/>
                </a:lnTo>
                <a:lnTo>
                  <a:pt x="1543239" y="659034"/>
                </a:lnTo>
                <a:lnTo>
                  <a:pt x="1545985" y="653542"/>
                </a:lnTo>
                <a:lnTo>
                  <a:pt x="1543239" y="650797"/>
                </a:lnTo>
                <a:lnTo>
                  <a:pt x="1540493" y="645305"/>
                </a:lnTo>
                <a:lnTo>
                  <a:pt x="1535002" y="637067"/>
                </a:lnTo>
                <a:lnTo>
                  <a:pt x="1529509" y="631575"/>
                </a:lnTo>
                <a:lnTo>
                  <a:pt x="1513033" y="623337"/>
                </a:lnTo>
                <a:lnTo>
                  <a:pt x="1515779" y="620591"/>
                </a:lnTo>
                <a:lnTo>
                  <a:pt x="1513033" y="620591"/>
                </a:lnTo>
                <a:lnTo>
                  <a:pt x="1513033" y="617845"/>
                </a:lnTo>
                <a:lnTo>
                  <a:pt x="1510287" y="617845"/>
                </a:lnTo>
                <a:lnTo>
                  <a:pt x="1510287" y="620591"/>
                </a:lnTo>
                <a:lnTo>
                  <a:pt x="1496557" y="620591"/>
                </a:lnTo>
                <a:lnTo>
                  <a:pt x="1485574" y="620591"/>
                </a:lnTo>
                <a:lnTo>
                  <a:pt x="1480081" y="617845"/>
                </a:lnTo>
                <a:lnTo>
                  <a:pt x="1477335" y="615099"/>
                </a:lnTo>
                <a:lnTo>
                  <a:pt x="1474589" y="609607"/>
                </a:lnTo>
                <a:lnTo>
                  <a:pt x="1474589" y="604115"/>
                </a:lnTo>
                <a:lnTo>
                  <a:pt x="1480081" y="601369"/>
                </a:lnTo>
                <a:lnTo>
                  <a:pt x="1482829" y="598623"/>
                </a:lnTo>
                <a:lnTo>
                  <a:pt x="1469098" y="593131"/>
                </a:lnTo>
                <a:lnTo>
                  <a:pt x="1458113" y="584893"/>
                </a:lnTo>
                <a:close/>
                <a:moveTo>
                  <a:pt x="5697902" y="584893"/>
                </a:moveTo>
                <a:lnTo>
                  <a:pt x="5697902" y="598623"/>
                </a:lnTo>
                <a:lnTo>
                  <a:pt x="5703394" y="593131"/>
                </a:lnTo>
                <a:lnTo>
                  <a:pt x="5706140" y="590385"/>
                </a:lnTo>
                <a:lnTo>
                  <a:pt x="5706140" y="587639"/>
                </a:lnTo>
                <a:lnTo>
                  <a:pt x="5703394" y="590385"/>
                </a:lnTo>
                <a:lnTo>
                  <a:pt x="5700648" y="590385"/>
                </a:lnTo>
                <a:lnTo>
                  <a:pt x="5700648" y="587639"/>
                </a:lnTo>
                <a:lnTo>
                  <a:pt x="5697902" y="584893"/>
                </a:lnTo>
                <a:close/>
                <a:moveTo>
                  <a:pt x="1318068" y="582147"/>
                </a:moveTo>
                <a:lnTo>
                  <a:pt x="1318068" y="587639"/>
                </a:lnTo>
                <a:lnTo>
                  <a:pt x="1318068" y="590385"/>
                </a:lnTo>
                <a:lnTo>
                  <a:pt x="1320814" y="593131"/>
                </a:lnTo>
                <a:lnTo>
                  <a:pt x="1326308" y="593131"/>
                </a:lnTo>
                <a:lnTo>
                  <a:pt x="1326308" y="587639"/>
                </a:lnTo>
                <a:lnTo>
                  <a:pt x="1323562" y="582147"/>
                </a:lnTo>
                <a:lnTo>
                  <a:pt x="1318068" y="582147"/>
                </a:lnTo>
                <a:close/>
                <a:moveTo>
                  <a:pt x="5673188" y="582147"/>
                </a:moveTo>
                <a:lnTo>
                  <a:pt x="5673188" y="584893"/>
                </a:lnTo>
                <a:lnTo>
                  <a:pt x="5678680" y="584893"/>
                </a:lnTo>
                <a:lnTo>
                  <a:pt x="5678680" y="582147"/>
                </a:lnTo>
                <a:lnTo>
                  <a:pt x="5673188" y="582147"/>
                </a:lnTo>
                <a:close/>
                <a:moveTo>
                  <a:pt x="5516667" y="582147"/>
                </a:moveTo>
                <a:lnTo>
                  <a:pt x="5511175" y="584893"/>
                </a:lnTo>
                <a:lnTo>
                  <a:pt x="5519413" y="584893"/>
                </a:lnTo>
                <a:lnTo>
                  <a:pt x="5519413" y="582147"/>
                </a:lnTo>
                <a:lnTo>
                  <a:pt x="5516667" y="582147"/>
                </a:lnTo>
                <a:close/>
                <a:moveTo>
                  <a:pt x="5739091" y="579401"/>
                </a:moveTo>
                <a:lnTo>
                  <a:pt x="5733600" y="582147"/>
                </a:lnTo>
                <a:lnTo>
                  <a:pt x="5725362" y="582147"/>
                </a:lnTo>
                <a:lnTo>
                  <a:pt x="5725362" y="584893"/>
                </a:lnTo>
                <a:lnTo>
                  <a:pt x="5725362" y="587639"/>
                </a:lnTo>
                <a:lnTo>
                  <a:pt x="5728108" y="587639"/>
                </a:lnTo>
                <a:lnTo>
                  <a:pt x="5728108" y="590385"/>
                </a:lnTo>
                <a:lnTo>
                  <a:pt x="5739091" y="590385"/>
                </a:lnTo>
                <a:lnTo>
                  <a:pt x="5741837" y="584893"/>
                </a:lnTo>
                <a:lnTo>
                  <a:pt x="5741837" y="582147"/>
                </a:lnTo>
                <a:lnTo>
                  <a:pt x="5739091" y="579401"/>
                </a:lnTo>
                <a:close/>
                <a:moveTo>
                  <a:pt x="5711632" y="579401"/>
                </a:moveTo>
                <a:lnTo>
                  <a:pt x="5708886" y="582147"/>
                </a:lnTo>
                <a:lnTo>
                  <a:pt x="5708886" y="584893"/>
                </a:lnTo>
                <a:lnTo>
                  <a:pt x="5714378" y="584893"/>
                </a:lnTo>
                <a:lnTo>
                  <a:pt x="5717124" y="584893"/>
                </a:lnTo>
                <a:lnTo>
                  <a:pt x="5717124" y="582147"/>
                </a:lnTo>
                <a:lnTo>
                  <a:pt x="5711632" y="579401"/>
                </a:lnTo>
                <a:close/>
                <a:moveTo>
                  <a:pt x="5082803" y="579401"/>
                </a:moveTo>
                <a:lnTo>
                  <a:pt x="5080057" y="584893"/>
                </a:lnTo>
                <a:lnTo>
                  <a:pt x="5082803" y="587639"/>
                </a:lnTo>
                <a:lnTo>
                  <a:pt x="5085549" y="587639"/>
                </a:lnTo>
                <a:lnTo>
                  <a:pt x="5085549" y="579401"/>
                </a:lnTo>
                <a:lnTo>
                  <a:pt x="5082803" y="579401"/>
                </a:lnTo>
                <a:close/>
                <a:moveTo>
                  <a:pt x="1556969" y="576655"/>
                </a:moveTo>
                <a:lnTo>
                  <a:pt x="1554223" y="579401"/>
                </a:lnTo>
                <a:lnTo>
                  <a:pt x="1554223" y="587639"/>
                </a:lnTo>
                <a:lnTo>
                  <a:pt x="1565206" y="587639"/>
                </a:lnTo>
                <a:lnTo>
                  <a:pt x="1565206" y="582147"/>
                </a:lnTo>
                <a:lnTo>
                  <a:pt x="1565206" y="579401"/>
                </a:lnTo>
                <a:lnTo>
                  <a:pt x="1556969" y="576655"/>
                </a:lnTo>
                <a:close/>
                <a:moveTo>
                  <a:pt x="1021503" y="576655"/>
                </a:moveTo>
                <a:lnTo>
                  <a:pt x="1021503" y="587639"/>
                </a:lnTo>
                <a:lnTo>
                  <a:pt x="1026995" y="587639"/>
                </a:lnTo>
                <a:lnTo>
                  <a:pt x="1032487" y="582147"/>
                </a:lnTo>
                <a:lnTo>
                  <a:pt x="1026995" y="579401"/>
                </a:lnTo>
                <a:lnTo>
                  <a:pt x="1021503" y="576655"/>
                </a:lnTo>
                <a:close/>
                <a:moveTo>
                  <a:pt x="5211864" y="571163"/>
                </a:moveTo>
                <a:lnTo>
                  <a:pt x="5211864" y="576655"/>
                </a:lnTo>
                <a:lnTo>
                  <a:pt x="5214610" y="573909"/>
                </a:lnTo>
                <a:lnTo>
                  <a:pt x="5214610" y="576655"/>
                </a:lnTo>
                <a:lnTo>
                  <a:pt x="5217356" y="576655"/>
                </a:lnTo>
                <a:lnTo>
                  <a:pt x="5220102" y="576655"/>
                </a:lnTo>
                <a:lnTo>
                  <a:pt x="5220102" y="573909"/>
                </a:lnTo>
                <a:lnTo>
                  <a:pt x="5217356" y="573909"/>
                </a:lnTo>
                <a:lnTo>
                  <a:pt x="5214610" y="571163"/>
                </a:lnTo>
                <a:lnTo>
                  <a:pt x="5211864" y="571163"/>
                </a:lnTo>
                <a:close/>
                <a:moveTo>
                  <a:pt x="1106629" y="571163"/>
                </a:moveTo>
                <a:lnTo>
                  <a:pt x="1103883" y="576655"/>
                </a:lnTo>
                <a:lnTo>
                  <a:pt x="1109376" y="576655"/>
                </a:lnTo>
                <a:lnTo>
                  <a:pt x="1114868" y="576655"/>
                </a:lnTo>
                <a:lnTo>
                  <a:pt x="1112121" y="571163"/>
                </a:lnTo>
                <a:lnTo>
                  <a:pt x="1109376" y="571163"/>
                </a:lnTo>
                <a:lnTo>
                  <a:pt x="1106629" y="571163"/>
                </a:lnTo>
                <a:close/>
                <a:moveTo>
                  <a:pt x="5612777" y="568417"/>
                </a:moveTo>
                <a:lnTo>
                  <a:pt x="5615523" y="573909"/>
                </a:lnTo>
                <a:lnTo>
                  <a:pt x="5621014" y="573909"/>
                </a:lnTo>
                <a:lnTo>
                  <a:pt x="5621014" y="568417"/>
                </a:lnTo>
                <a:lnTo>
                  <a:pt x="5612777" y="568417"/>
                </a:lnTo>
                <a:close/>
                <a:moveTo>
                  <a:pt x="5165182" y="568417"/>
                </a:moveTo>
                <a:lnTo>
                  <a:pt x="5159690" y="571163"/>
                </a:lnTo>
                <a:lnTo>
                  <a:pt x="5156944" y="573909"/>
                </a:lnTo>
                <a:lnTo>
                  <a:pt x="5159690" y="579401"/>
                </a:lnTo>
                <a:lnTo>
                  <a:pt x="5159690" y="584893"/>
                </a:lnTo>
                <a:lnTo>
                  <a:pt x="5167928" y="587639"/>
                </a:lnTo>
                <a:lnTo>
                  <a:pt x="5170674" y="593131"/>
                </a:lnTo>
                <a:lnTo>
                  <a:pt x="5178912" y="593131"/>
                </a:lnTo>
                <a:lnTo>
                  <a:pt x="5184404" y="593131"/>
                </a:lnTo>
                <a:lnTo>
                  <a:pt x="5187150" y="593131"/>
                </a:lnTo>
                <a:lnTo>
                  <a:pt x="5189896" y="587639"/>
                </a:lnTo>
                <a:lnTo>
                  <a:pt x="5187150" y="582147"/>
                </a:lnTo>
                <a:lnTo>
                  <a:pt x="5184404" y="579401"/>
                </a:lnTo>
                <a:lnTo>
                  <a:pt x="5178912" y="576655"/>
                </a:lnTo>
                <a:lnTo>
                  <a:pt x="5176166" y="573909"/>
                </a:lnTo>
                <a:lnTo>
                  <a:pt x="5176166" y="568417"/>
                </a:lnTo>
                <a:lnTo>
                  <a:pt x="5165182" y="568417"/>
                </a:lnTo>
                <a:close/>
                <a:moveTo>
                  <a:pt x="1425162" y="565671"/>
                </a:moveTo>
                <a:lnTo>
                  <a:pt x="1425162" y="573909"/>
                </a:lnTo>
                <a:lnTo>
                  <a:pt x="1430655" y="573909"/>
                </a:lnTo>
                <a:lnTo>
                  <a:pt x="1430655" y="565671"/>
                </a:lnTo>
                <a:lnTo>
                  <a:pt x="1427907" y="565671"/>
                </a:lnTo>
                <a:lnTo>
                  <a:pt x="1425162" y="565671"/>
                </a:lnTo>
                <a:close/>
                <a:moveTo>
                  <a:pt x="1356512" y="562925"/>
                </a:moveTo>
                <a:lnTo>
                  <a:pt x="1356512" y="571163"/>
                </a:lnTo>
                <a:lnTo>
                  <a:pt x="1362005" y="568417"/>
                </a:lnTo>
                <a:lnTo>
                  <a:pt x="1362005" y="562925"/>
                </a:lnTo>
                <a:lnTo>
                  <a:pt x="1356512" y="562925"/>
                </a:lnTo>
                <a:close/>
                <a:moveTo>
                  <a:pt x="760635" y="562925"/>
                </a:moveTo>
                <a:lnTo>
                  <a:pt x="755144" y="565671"/>
                </a:lnTo>
                <a:lnTo>
                  <a:pt x="755144" y="571163"/>
                </a:lnTo>
                <a:lnTo>
                  <a:pt x="760635" y="571163"/>
                </a:lnTo>
                <a:lnTo>
                  <a:pt x="760635" y="562925"/>
                </a:lnTo>
                <a:close/>
                <a:moveTo>
                  <a:pt x="5700648" y="560179"/>
                </a:moveTo>
                <a:lnTo>
                  <a:pt x="5700648" y="568417"/>
                </a:lnTo>
                <a:lnTo>
                  <a:pt x="5703394" y="571163"/>
                </a:lnTo>
                <a:lnTo>
                  <a:pt x="5706140" y="568417"/>
                </a:lnTo>
                <a:lnTo>
                  <a:pt x="5706140" y="562925"/>
                </a:lnTo>
                <a:lnTo>
                  <a:pt x="5703394" y="562925"/>
                </a:lnTo>
                <a:lnTo>
                  <a:pt x="5700648" y="560179"/>
                </a:lnTo>
                <a:close/>
                <a:moveTo>
                  <a:pt x="5599047" y="560179"/>
                </a:moveTo>
                <a:lnTo>
                  <a:pt x="5599047" y="565671"/>
                </a:lnTo>
                <a:lnTo>
                  <a:pt x="5604539" y="565671"/>
                </a:lnTo>
                <a:lnTo>
                  <a:pt x="5604539" y="560179"/>
                </a:lnTo>
                <a:lnTo>
                  <a:pt x="5599047" y="560179"/>
                </a:lnTo>
                <a:close/>
                <a:moveTo>
                  <a:pt x="1460859" y="557433"/>
                </a:moveTo>
                <a:lnTo>
                  <a:pt x="1460859" y="562925"/>
                </a:lnTo>
                <a:lnTo>
                  <a:pt x="1469098" y="562925"/>
                </a:lnTo>
                <a:lnTo>
                  <a:pt x="1466353" y="560179"/>
                </a:lnTo>
                <a:lnTo>
                  <a:pt x="1460859" y="557433"/>
                </a:lnTo>
                <a:close/>
                <a:moveTo>
                  <a:pt x="727684" y="557433"/>
                </a:moveTo>
                <a:lnTo>
                  <a:pt x="724938" y="560179"/>
                </a:lnTo>
                <a:lnTo>
                  <a:pt x="733176" y="562925"/>
                </a:lnTo>
                <a:lnTo>
                  <a:pt x="735922" y="565671"/>
                </a:lnTo>
                <a:lnTo>
                  <a:pt x="733176" y="560179"/>
                </a:lnTo>
                <a:lnTo>
                  <a:pt x="730430" y="557433"/>
                </a:lnTo>
                <a:lnTo>
                  <a:pt x="727684" y="557433"/>
                </a:lnTo>
                <a:close/>
                <a:moveTo>
                  <a:pt x="5637490" y="551941"/>
                </a:moveTo>
                <a:lnTo>
                  <a:pt x="5637490" y="554687"/>
                </a:lnTo>
                <a:lnTo>
                  <a:pt x="5640236" y="557433"/>
                </a:lnTo>
                <a:lnTo>
                  <a:pt x="5645728" y="554687"/>
                </a:lnTo>
                <a:lnTo>
                  <a:pt x="5651220" y="557433"/>
                </a:lnTo>
                <a:lnTo>
                  <a:pt x="5651220" y="551941"/>
                </a:lnTo>
                <a:lnTo>
                  <a:pt x="5645728" y="551941"/>
                </a:lnTo>
                <a:lnTo>
                  <a:pt x="5642982" y="551941"/>
                </a:lnTo>
                <a:lnTo>
                  <a:pt x="5637490" y="551941"/>
                </a:lnTo>
                <a:close/>
                <a:moveTo>
                  <a:pt x="5115755" y="551941"/>
                </a:moveTo>
                <a:lnTo>
                  <a:pt x="5113009" y="557433"/>
                </a:lnTo>
                <a:lnTo>
                  <a:pt x="5110263" y="562925"/>
                </a:lnTo>
                <a:lnTo>
                  <a:pt x="5107517" y="571163"/>
                </a:lnTo>
                <a:lnTo>
                  <a:pt x="5107517" y="579401"/>
                </a:lnTo>
                <a:lnTo>
                  <a:pt x="5104771" y="582147"/>
                </a:lnTo>
                <a:lnTo>
                  <a:pt x="5102025" y="584893"/>
                </a:lnTo>
                <a:lnTo>
                  <a:pt x="5102025" y="590385"/>
                </a:lnTo>
                <a:lnTo>
                  <a:pt x="5096533" y="593131"/>
                </a:lnTo>
                <a:lnTo>
                  <a:pt x="5102025" y="595877"/>
                </a:lnTo>
                <a:lnTo>
                  <a:pt x="5102025" y="604115"/>
                </a:lnTo>
                <a:lnTo>
                  <a:pt x="5115755" y="606861"/>
                </a:lnTo>
                <a:lnTo>
                  <a:pt x="5123993" y="606861"/>
                </a:lnTo>
                <a:lnTo>
                  <a:pt x="5129485" y="604115"/>
                </a:lnTo>
                <a:lnTo>
                  <a:pt x="5129485" y="593131"/>
                </a:lnTo>
                <a:lnTo>
                  <a:pt x="5129485" y="587639"/>
                </a:lnTo>
                <a:lnTo>
                  <a:pt x="5132230" y="587639"/>
                </a:lnTo>
                <a:lnTo>
                  <a:pt x="5137722" y="587639"/>
                </a:lnTo>
                <a:lnTo>
                  <a:pt x="5143214" y="582147"/>
                </a:lnTo>
                <a:lnTo>
                  <a:pt x="5143214" y="576655"/>
                </a:lnTo>
                <a:lnTo>
                  <a:pt x="5140468" y="576655"/>
                </a:lnTo>
                <a:lnTo>
                  <a:pt x="5137722" y="579401"/>
                </a:lnTo>
                <a:lnTo>
                  <a:pt x="5134976" y="579401"/>
                </a:lnTo>
                <a:lnTo>
                  <a:pt x="5132230" y="579401"/>
                </a:lnTo>
                <a:lnTo>
                  <a:pt x="5126739" y="584893"/>
                </a:lnTo>
                <a:lnTo>
                  <a:pt x="5118501" y="584893"/>
                </a:lnTo>
                <a:lnTo>
                  <a:pt x="5118501" y="582147"/>
                </a:lnTo>
                <a:lnTo>
                  <a:pt x="5115755" y="582147"/>
                </a:lnTo>
                <a:lnTo>
                  <a:pt x="5115755" y="579401"/>
                </a:lnTo>
                <a:lnTo>
                  <a:pt x="5115755" y="576655"/>
                </a:lnTo>
                <a:lnTo>
                  <a:pt x="5118501" y="579401"/>
                </a:lnTo>
                <a:lnTo>
                  <a:pt x="5121247" y="579401"/>
                </a:lnTo>
                <a:lnTo>
                  <a:pt x="5132230" y="576655"/>
                </a:lnTo>
                <a:lnTo>
                  <a:pt x="5137722" y="571163"/>
                </a:lnTo>
                <a:lnTo>
                  <a:pt x="5137722" y="562925"/>
                </a:lnTo>
                <a:lnTo>
                  <a:pt x="5132230" y="560179"/>
                </a:lnTo>
                <a:lnTo>
                  <a:pt x="5132230" y="554687"/>
                </a:lnTo>
                <a:lnTo>
                  <a:pt x="5126739" y="554687"/>
                </a:lnTo>
                <a:lnTo>
                  <a:pt x="5123993" y="554687"/>
                </a:lnTo>
                <a:lnTo>
                  <a:pt x="5121247" y="551941"/>
                </a:lnTo>
                <a:lnTo>
                  <a:pt x="5115755" y="551941"/>
                </a:lnTo>
                <a:close/>
                <a:moveTo>
                  <a:pt x="1323562" y="549195"/>
                </a:moveTo>
                <a:lnTo>
                  <a:pt x="1323562" y="554687"/>
                </a:lnTo>
                <a:lnTo>
                  <a:pt x="1329053" y="554687"/>
                </a:lnTo>
                <a:lnTo>
                  <a:pt x="1329053" y="549195"/>
                </a:lnTo>
                <a:lnTo>
                  <a:pt x="1323562" y="549195"/>
                </a:lnTo>
                <a:close/>
                <a:moveTo>
                  <a:pt x="1515779" y="546449"/>
                </a:moveTo>
                <a:lnTo>
                  <a:pt x="1510287" y="549195"/>
                </a:lnTo>
                <a:lnTo>
                  <a:pt x="1504796" y="549195"/>
                </a:lnTo>
                <a:lnTo>
                  <a:pt x="1491065" y="551941"/>
                </a:lnTo>
                <a:lnTo>
                  <a:pt x="1491065" y="560179"/>
                </a:lnTo>
                <a:lnTo>
                  <a:pt x="1502050" y="557433"/>
                </a:lnTo>
                <a:lnTo>
                  <a:pt x="1510287" y="554687"/>
                </a:lnTo>
                <a:lnTo>
                  <a:pt x="1513033" y="560179"/>
                </a:lnTo>
                <a:lnTo>
                  <a:pt x="1524017" y="560179"/>
                </a:lnTo>
                <a:lnTo>
                  <a:pt x="1524017" y="554687"/>
                </a:lnTo>
                <a:lnTo>
                  <a:pt x="1526763" y="551941"/>
                </a:lnTo>
                <a:lnTo>
                  <a:pt x="1529509" y="549195"/>
                </a:lnTo>
                <a:lnTo>
                  <a:pt x="1521272" y="549195"/>
                </a:lnTo>
                <a:lnTo>
                  <a:pt x="1515779" y="546449"/>
                </a:lnTo>
                <a:close/>
                <a:moveTo>
                  <a:pt x="5678680" y="546449"/>
                </a:moveTo>
                <a:lnTo>
                  <a:pt x="5675934" y="549195"/>
                </a:lnTo>
                <a:lnTo>
                  <a:pt x="5673188" y="549195"/>
                </a:lnTo>
                <a:lnTo>
                  <a:pt x="5673188" y="551941"/>
                </a:lnTo>
                <a:lnTo>
                  <a:pt x="5678680" y="554687"/>
                </a:lnTo>
                <a:lnTo>
                  <a:pt x="5684172" y="557433"/>
                </a:lnTo>
                <a:lnTo>
                  <a:pt x="5681426" y="560179"/>
                </a:lnTo>
                <a:lnTo>
                  <a:pt x="5681426" y="562925"/>
                </a:lnTo>
                <a:lnTo>
                  <a:pt x="5684172" y="560179"/>
                </a:lnTo>
                <a:lnTo>
                  <a:pt x="5684172" y="557433"/>
                </a:lnTo>
                <a:lnTo>
                  <a:pt x="5684172" y="554687"/>
                </a:lnTo>
                <a:lnTo>
                  <a:pt x="5684172" y="549195"/>
                </a:lnTo>
                <a:lnTo>
                  <a:pt x="5678680" y="546449"/>
                </a:lnTo>
                <a:close/>
                <a:moveTo>
                  <a:pt x="1298847" y="543703"/>
                </a:moveTo>
                <a:lnTo>
                  <a:pt x="1296101" y="546449"/>
                </a:lnTo>
                <a:lnTo>
                  <a:pt x="1296101" y="549195"/>
                </a:lnTo>
                <a:lnTo>
                  <a:pt x="1298847" y="551941"/>
                </a:lnTo>
                <a:lnTo>
                  <a:pt x="1304341" y="551941"/>
                </a:lnTo>
                <a:lnTo>
                  <a:pt x="1304341" y="546449"/>
                </a:lnTo>
                <a:lnTo>
                  <a:pt x="1301593" y="543703"/>
                </a:lnTo>
                <a:lnTo>
                  <a:pt x="1298847" y="543703"/>
                </a:lnTo>
                <a:close/>
                <a:moveTo>
                  <a:pt x="1394958" y="540957"/>
                </a:moveTo>
                <a:lnTo>
                  <a:pt x="1397703" y="543703"/>
                </a:lnTo>
                <a:lnTo>
                  <a:pt x="1394958" y="546449"/>
                </a:lnTo>
                <a:lnTo>
                  <a:pt x="1394958" y="549195"/>
                </a:lnTo>
                <a:lnTo>
                  <a:pt x="1403194" y="543703"/>
                </a:lnTo>
                <a:lnTo>
                  <a:pt x="1403194" y="549195"/>
                </a:lnTo>
                <a:lnTo>
                  <a:pt x="1408686" y="549195"/>
                </a:lnTo>
                <a:lnTo>
                  <a:pt x="1411434" y="546449"/>
                </a:lnTo>
                <a:lnTo>
                  <a:pt x="1414179" y="549195"/>
                </a:lnTo>
                <a:lnTo>
                  <a:pt x="1414179" y="540957"/>
                </a:lnTo>
                <a:lnTo>
                  <a:pt x="1394958" y="540957"/>
                </a:lnTo>
                <a:close/>
                <a:moveTo>
                  <a:pt x="5209118" y="538211"/>
                </a:moveTo>
                <a:lnTo>
                  <a:pt x="5200880" y="546449"/>
                </a:lnTo>
                <a:lnTo>
                  <a:pt x="5203626" y="549195"/>
                </a:lnTo>
                <a:lnTo>
                  <a:pt x="5206372" y="549195"/>
                </a:lnTo>
                <a:lnTo>
                  <a:pt x="5214610" y="549195"/>
                </a:lnTo>
                <a:lnTo>
                  <a:pt x="5220102" y="540957"/>
                </a:lnTo>
                <a:lnTo>
                  <a:pt x="5214610" y="538211"/>
                </a:lnTo>
                <a:lnTo>
                  <a:pt x="5209118" y="538211"/>
                </a:lnTo>
                <a:close/>
                <a:moveTo>
                  <a:pt x="840269" y="535465"/>
                </a:moveTo>
                <a:lnTo>
                  <a:pt x="837523" y="540957"/>
                </a:lnTo>
                <a:lnTo>
                  <a:pt x="840269" y="540957"/>
                </a:lnTo>
                <a:lnTo>
                  <a:pt x="843015" y="540957"/>
                </a:lnTo>
                <a:lnTo>
                  <a:pt x="845761" y="538211"/>
                </a:lnTo>
                <a:lnTo>
                  <a:pt x="845761" y="535465"/>
                </a:lnTo>
                <a:lnTo>
                  <a:pt x="840269" y="535465"/>
                </a:lnTo>
                <a:close/>
                <a:moveTo>
                  <a:pt x="5733600" y="532719"/>
                </a:moveTo>
                <a:lnTo>
                  <a:pt x="5730854" y="535465"/>
                </a:lnTo>
                <a:lnTo>
                  <a:pt x="5728108" y="535465"/>
                </a:lnTo>
                <a:lnTo>
                  <a:pt x="5722616" y="535465"/>
                </a:lnTo>
                <a:lnTo>
                  <a:pt x="5722616" y="540957"/>
                </a:lnTo>
                <a:lnTo>
                  <a:pt x="5730854" y="540957"/>
                </a:lnTo>
                <a:lnTo>
                  <a:pt x="5739091" y="540957"/>
                </a:lnTo>
                <a:lnTo>
                  <a:pt x="5739091" y="532719"/>
                </a:lnTo>
                <a:lnTo>
                  <a:pt x="5733600" y="532719"/>
                </a:lnTo>
                <a:close/>
                <a:moveTo>
                  <a:pt x="5629252" y="532719"/>
                </a:moveTo>
                <a:lnTo>
                  <a:pt x="5626506" y="535465"/>
                </a:lnTo>
                <a:lnTo>
                  <a:pt x="5623760" y="538211"/>
                </a:lnTo>
                <a:lnTo>
                  <a:pt x="5618268" y="540957"/>
                </a:lnTo>
                <a:lnTo>
                  <a:pt x="5618268" y="546449"/>
                </a:lnTo>
                <a:lnTo>
                  <a:pt x="5626506" y="549195"/>
                </a:lnTo>
                <a:lnTo>
                  <a:pt x="5629252" y="551941"/>
                </a:lnTo>
                <a:lnTo>
                  <a:pt x="5631998" y="551941"/>
                </a:lnTo>
                <a:lnTo>
                  <a:pt x="5634744" y="549195"/>
                </a:lnTo>
                <a:lnTo>
                  <a:pt x="5634744" y="546449"/>
                </a:lnTo>
                <a:lnTo>
                  <a:pt x="5637490" y="543703"/>
                </a:lnTo>
                <a:lnTo>
                  <a:pt x="5637490" y="538211"/>
                </a:lnTo>
                <a:lnTo>
                  <a:pt x="5634744" y="538211"/>
                </a:lnTo>
                <a:lnTo>
                  <a:pt x="5631998" y="532719"/>
                </a:lnTo>
                <a:lnTo>
                  <a:pt x="5629252" y="532719"/>
                </a:lnTo>
                <a:close/>
                <a:moveTo>
                  <a:pt x="5604539" y="532719"/>
                </a:moveTo>
                <a:lnTo>
                  <a:pt x="5599047" y="538211"/>
                </a:lnTo>
                <a:lnTo>
                  <a:pt x="5593555" y="546449"/>
                </a:lnTo>
                <a:lnTo>
                  <a:pt x="5590809" y="546449"/>
                </a:lnTo>
                <a:lnTo>
                  <a:pt x="5588063" y="543703"/>
                </a:lnTo>
                <a:lnTo>
                  <a:pt x="5588063" y="546449"/>
                </a:lnTo>
                <a:lnTo>
                  <a:pt x="5588063" y="549195"/>
                </a:lnTo>
                <a:lnTo>
                  <a:pt x="5588063" y="551941"/>
                </a:lnTo>
                <a:lnTo>
                  <a:pt x="5593555" y="549195"/>
                </a:lnTo>
                <a:lnTo>
                  <a:pt x="5601793" y="549195"/>
                </a:lnTo>
                <a:lnTo>
                  <a:pt x="5601793" y="543703"/>
                </a:lnTo>
                <a:lnTo>
                  <a:pt x="5601793" y="538211"/>
                </a:lnTo>
                <a:lnTo>
                  <a:pt x="5604539" y="532719"/>
                </a:lnTo>
                <a:close/>
                <a:moveTo>
                  <a:pt x="604115" y="532719"/>
                </a:moveTo>
                <a:lnTo>
                  <a:pt x="601369" y="535465"/>
                </a:lnTo>
                <a:lnTo>
                  <a:pt x="604115" y="538211"/>
                </a:lnTo>
                <a:lnTo>
                  <a:pt x="606861" y="538211"/>
                </a:lnTo>
                <a:lnTo>
                  <a:pt x="609607" y="538211"/>
                </a:lnTo>
                <a:lnTo>
                  <a:pt x="609607" y="532719"/>
                </a:lnTo>
                <a:lnTo>
                  <a:pt x="604115" y="532719"/>
                </a:lnTo>
                <a:close/>
                <a:moveTo>
                  <a:pt x="919902" y="529974"/>
                </a:moveTo>
                <a:lnTo>
                  <a:pt x="917156" y="532719"/>
                </a:lnTo>
                <a:lnTo>
                  <a:pt x="919902" y="535465"/>
                </a:lnTo>
                <a:lnTo>
                  <a:pt x="925395" y="535465"/>
                </a:lnTo>
                <a:lnTo>
                  <a:pt x="925395" y="529974"/>
                </a:lnTo>
                <a:lnTo>
                  <a:pt x="919902" y="529974"/>
                </a:lnTo>
                <a:close/>
                <a:moveTo>
                  <a:pt x="1469098" y="527228"/>
                </a:moveTo>
                <a:lnTo>
                  <a:pt x="1469098" y="532719"/>
                </a:lnTo>
                <a:lnTo>
                  <a:pt x="1469098" y="538211"/>
                </a:lnTo>
                <a:lnTo>
                  <a:pt x="1471844" y="535465"/>
                </a:lnTo>
                <a:lnTo>
                  <a:pt x="1474589" y="535465"/>
                </a:lnTo>
                <a:lnTo>
                  <a:pt x="1477335" y="535465"/>
                </a:lnTo>
                <a:lnTo>
                  <a:pt x="1477335" y="527228"/>
                </a:lnTo>
                <a:lnTo>
                  <a:pt x="1469098" y="527228"/>
                </a:lnTo>
                <a:close/>
                <a:moveTo>
                  <a:pt x="5074565" y="527227"/>
                </a:moveTo>
                <a:lnTo>
                  <a:pt x="5074565" y="538211"/>
                </a:lnTo>
                <a:lnTo>
                  <a:pt x="5077311" y="540957"/>
                </a:lnTo>
                <a:lnTo>
                  <a:pt x="5077311" y="546449"/>
                </a:lnTo>
                <a:lnTo>
                  <a:pt x="5069073" y="546449"/>
                </a:lnTo>
                <a:lnTo>
                  <a:pt x="5060835" y="546449"/>
                </a:lnTo>
                <a:lnTo>
                  <a:pt x="5060835" y="529973"/>
                </a:lnTo>
                <a:lnTo>
                  <a:pt x="5074565" y="527227"/>
                </a:lnTo>
                <a:close/>
                <a:moveTo>
                  <a:pt x="5832455" y="524481"/>
                </a:moveTo>
                <a:lnTo>
                  <a:pt x="5829709" y="527227"/>
                </a:lnTo>
                <a:lnTo>
                  <a:pt x="5826963" y="527227"/>
                </a:lnTo>
                <a:lnTo>
                  <a:pt x="5821471" y="527227"/>
                </a:lnTo>
                <a:lnTo>
                  <a:pt x="5824217" y="532719"/>
                </a:lnTo>
                <a:lnTo>
                  <a:pt x="5826963" y="535465"/>
                </a:lnTo>
                <a:lnTo>
                  <a:pt x="5826963" y="529973"/>
                </a:lnTo>
                <a:lnTo>
                  <a:pt x="5829709" y="529973"/>
                </a:lnTo>
                <a:lnTo>
                  <a:pt x="5832455" y="527227"/>
                </a:lnTo>
                <a:lnTo>
                  <a:pt x="5835201" y="524481"/>
                </a:lnTo>
                <a:lnTo>
                  <a:pt x="5832455" y="524481"/>
                </a:lnTo>
                <a:close/>
                <a:moveTo>
                  <a:pt x="1518526" y="521736"/>
                </a:moveTo>
                <a:lnTo>
                  <a:pt x="1518526" y="524482"/>
                </a:lnTo>
                <a:lnTo>
                  <a:pt x="1524017" y="524482"/>
                </a:lnTo>
                <a:lnTo>
                  <a:pt x="1526763" y="527228"/>
                </a:lnTo>
                <a:lnTo>
                  <a:pt x="1529509" y="529974"/>
                </a:lnTo>
                <a:lnTo>
                  <a:pt x="1535002" y="529974"/>
                </a:lnTo>
                <a:lnTo>
                  <a:pt x="1532255" y="524482"/>
                </a:lnTo>
                <a:lnTo>
                  <a:pt x="1529509" y="521736"/>
                </a:lnTo>
                <a:lnTo>
                  <a:pt x="1518526" y="521736"/>
                </a:lnTo>
                <a:close/>
                <a:moveTo>
                  <a:pt x="1510287" y="521736"/>
                </a:moveTo>
                <a:lnTo>
                  <a:pt x="1510287" y="527228"/>
                </a:lnTo>
                <a:lnTo>
                  <a:pt x="1518526" y="527228"/>
                </a:lnTo>
                <a:lnTo>
                  <a:pt x="1515779" y="521736"/>
                </a:lnTo>
                <a:lnTo>
                  <a:pt x="1510287" y="521736"/>
                </a:lnTo>
                <a:close/>
                <a:moveTo>
                  <a:pt x="1183518" y="518990"/>
                </a:moveTo>
                <a:lnTo>
                  <a:pt x="1183518" y="524482"/>
                </a:lnTo>
                <a:lnTo>
                  <a:pt x="1189009" y="524482"/>
                </a:lnTo>
                <a:lnTo>
                  <a:pt x="1189009" y="521736"/>
                </a:lnTo>
                <a:lnTo>
                  <a:pt x="1186263" y="521736"/>
                </a:lnTo>
                <a:lnTo>
                  <a:pt x="1186263" y="518990"/>
                </a:lnTo>
                <a:lnTo>
                  <a:pt x="1183518" y="518990"/>
                </a:lnTo>
                <a:close/>
                <a:moveTo>
                  <a:pt x="5357401" y="518989"/>
                </a:moveTo>
                <a:lnTo>
                  <a:pt x="5354655" y="521735"/>
                </a:lnTo>
                <a:lnTo>
                  <a:pt x="5354655" y="524481"/>
                </a:lnTo>
                <a:lnTo>
                  <a:pt x="5354655" y="527227"/>
                </a:lnTo>
                <a:lnTo>
                  <a:pt x="5357401" y="527227"/>
                </a:lnTo>
                <a:lnTo>
                  <a:pt x="5357401" y="529973"/>
                </a:lnTo>
                <a:lnTo>
                  <a:pt x="5371131" y="529973"/>
                </a:lnTo>
                <a:lnTo>
                  <a:pt x="5371131" y="524481"/>
                </a:lnTo>
                <a:lnTo>
                  <a:pt x="5371131" y="521735"/>
                </a:lnTo>
                <a:lnTo>
                  <a:pt x="5365639" y="518989"/>
                </a:lnTo>
                <a:lnTo>
                  <a:pt x="5357401" y="518989"/>
                </a:lnTo>
                <a:close/>
                <a:moveTo>
                  <a:pt x="337755" y="516244"/>
                </a:moveTo>
                <a:lnTo>
                  <a:pt x="337755" y="521736"/>
                </a:lnTo>
                <a:lnTo>
                  <a:pt x="343247" y="524482"/>
                </a:lnTo>
                <a:lnTo>
                  <a:pt x="343247" y="516244"/>
                </a:lnTo>
                <a:lnTo>
                  <a:pt x="337755" y="516244"/>
                </a:lnTo>
                <a:close/>
                <a:moveTo>
                  <a:pt x="5673188" y="516243"/>
                </a:moveTo>
                <a:lnTo>
                  <a:pt x="5664950" y="518989"/>
                </a:lnTo>
                <a:lnTo>
                  <a:pt x="5662204" y="518989"/>
                </a:lnTo>
                <a:lnTo>
                  <a:pt x="5659458" y="518989"/>
                </a:lnTo>
                <a:lnTo>
                  <a:pt x="5659458" y="521735"/>
                </a:lnTo>
                <a:lnTo>
                  <a:pt x="5664950" y="521735"/>
                </a:lnTo>
                <a:lnTo>
                  <a:pt x="5667696" y="524481"/>
                </a:lnTo>
                <a:lnTo>
                  <a:pt x="5667696" y="521735"/>
                </a:lnTo>
                <a:lnTo>
                  <a:pt x="5673188" y="521735"/>
                </a:lnTo>
                <a:lnTo>
                  <a:pt x="5673188" y="516243"/>
                </a:lnTo>
                <a:close/>
                <a:moveTo>
                  <a:pt x="518990" y="513498"/>
                </a:moveTo>
                <a:lnTo>
                  <a:pt x="516244" y="516244"/>
                </a:lnTo>
                <a:lnTo>
                  <a:pt x="524482" y="516244"/>
                </a:lnTo>
                <a:lnTo>
                  <a:pt x="524482" y="513498"/>
                </a:lnTo>
                <a:lnTo>
                  <a:pt x="518990" y="513498"/>
                </a:lnTo>
                <a:close/>
                <a:moveTo>
                  <a:pt x="1510287" y="510752"/>
                </a:moveTo>
                <a:lnTo>
                  <a:pt x="1510287" y="513498"/>
                </a:lnTo>
                <a:lnTo>
                  <a:pt x="1507541" y="513498"/>
                </a:lnTo>
                <a:lnTo>
                  <a:pt x="1507541" y="516244"/>
                </a:lnTo>
                <a:lnTo>
                  <a:pt x="1510287" y="516244"/>
                </a:lnTo>
                <a:lnTo>
                  <a:pt x="1510287" y="518990"/>
                </a:lnTo>
                <a:lnTo>
                  <a:pt x="1513033" y="518990"/>
                </a:lnTo>
                <a:lnTo>
                  <a:pt x="1513033" y="516244"/>
                </a:lnTo>
                <a:lnTo>
                  <a:pt x="1515779" y="516244"/>
                </a:lnTo>
                <a:lnTo>
                  <a:pt x="1515779" y="513498"/>
                </a:lnTo>
                <a:lnTo>
                  <a:pt x="1513033" y="513498"/>
                </a:lnTo>
                <a:lnTo>
                  <a:pt x="1513033" y="510752"/>
                </a:lnTo>
                <a:lnTo>
                  <a:pt x="1510287" y="510752"/>
                </a:lnTo>
                <a:close/>
                <a:moveTo>
                  <a:pt x="5286005" y="508006"/>
                </a:moveTo>
                <a:lnTo>
                  <a:pt x="5288751" y="513497"/>
                </a:lnTo>
                <a:lnTo>
                  <a:pt x="5294243" y="513497"/>
                </a:lnTo>
                <a:lnTo>
                  <a:pt x="5294243" y="508006"/>
                </a:lnTo>
                <a:lnTo>
                  <a:pt x="5288751" y="508006"/>
                </a:lnTo>
                <a:lnTo>
                  <a:pt x="5286005" y="508006"/>
                </a:lnTo>
                <a:close/>
                <a:moveTo>
                  <a:pt x="1254913" y="508006"/>
                </a:moveTo>
                <a:lnTo>
                  <a:pt x="1254913" y="510752"/>
                </a:lnTo>
                <a:lnTo>
                  <a:pt x="1252167" y="513498"/>
                </a:lnTo>
                <a:lnTo>
                  <a:pt x="1252167" y="516244"/>
                </a:lnTo>
                <a:lnTo>
                  <a:pt x="1257659" y="518990"/>
                </a:lnTo>
                <a:lnTo>
                  <a:pt x="1263149" y="518990"/>
                </a:lnTo>
                <a:lnTo>
                  <a:pt x="1263149" y="513498"/>
                </a:lnTo>
                <a:lnTo>
                  <a:pt x="1260404" y="510752"/>
                </a:lnTo>
                <a:lnTo>
                  <a:pt x="1257659" y="508006"/>
                </a:lnTo>
                <a:lnTo>
                  <a:pt x="1254913" y="508006"/>
                </a:lnTo>
                <a:close/>
                <a:moveTo>
                  <a:pt x="5563349" y="505260"/>
                </a:moveTo>
                <a:lnTo>
                  <a:pt x="5560603" y="508006"/>
                </a:lnTo>
                <a:lnTo>
                  <a:pt x="5566095" y="508006"/>
                </a:lnTo>
                <a:lnTo>
                  <a:pt x="5571587" y="508006"/>
                </a:lnTo>
                <a:lnTo>
                  <a:pt x="5571587" y="505260"/>
                </a:lnTo>
                <a:lnTo>
                  <a:pt x="5566095" y="505260"/>
                </a:lnTo>
                <a:lnTo>
                  <a:pt x="5563349" y="505260"/>
                </a:lnTo>
                <a:close/>
                <a:moveTo>
                  <a:pt x="1389464" y="505260"/>
                </a:moveTo>
                <a:lnTo>
                  <a:pt x="1389464" y="513498"/>
                </a:lnTo>
                <a:lnTo>
                  <a:pt x="1392210" y="518990"/>
                </a:lnTo>
                <a:lnTo>
                  <a:pt x="1386718" y="518990"/>
                </a:lnTo>
                <a:lnTo>
                  <a:pt x="1386718" y="524482"/>
                </a:lnTo>
                <a:lnTo>
                  <a:pt x="1394958" y="524482"/>
                </a:lnTo>
                <a:lnTo>
                  <a:pt x="1397703" y="518990"/>
                </a:lnTo>
                <a:lnTo>
                  <a:pt x="1397703" y="513498"/>
                </a:lnTo>
                <a:lnTo>
                  <a:pt x="1394958" y="508006"/>
                </a:lnTo>
                <a:lnTo>
                  <a:pt x="1389464" y="505260"/>
                </a:lnTo>
                <a:close/>
                <a:moveTo>
                  <a:pt x="1452622" y="499768"/>
                </a:moveTo>
                <a:lnTo>
                  <a:pt x="1452622" y="508006"/>
                </a:lnTo>
                <a:lnTo>
                  <a:pt x="1455368" y="505260"/>
                </a:lnTo>
                <a:lnTo>
                  <a:pt x="1458113" y="505260"/>
                </a:lnTo>
                <a:lnTo>
                  <a:pt x="1455368" y="499768"/>
                </a:lnTo>
                <a:lnTo>
                  <a:pt x="1452622" y="499768"/>
                </a:lnTo>
                <a:close/>
                <a:moveTo>
                  <a:pt x="5634744" y="499768"/>
                </a:moveTo>
                <a:lnTo>
                  <a:pt x="5637490" y="502514"/>
                </a:lnTo>
                <a:lnTo>
                  <a:pt x="5642982" y="505260"/>
                </a:lnTo>
                <a:lnTo>
                  <a:pt x="5642982" y="499768"/>
                </a:lnTo>
                <a:lnTo>
                  <a:pt x="5634744" y="499768"/>
                </a:lnTo>
                <a:close/>
                <a:moveTo>
                  <a:pt x="5574333" y="499768"/>
                </a:moveTo>
                <a:lnTo>
                  <a:pt x="5574333" y="505260"/>
                </a:lnTo>
                <a:lnTo>
                  <a:pt x="5579825" y="510752"/>
                </a:lnTo>
                <a:lnTo>
                  <a:pt x="5579825" y="508006"/>
                </a:lnTo>
                <a:lnTo>
                  <a:pt x="5579825" y="505260"/>
                </a:lnTo>
                <a:lnTo>
                  <a:pt x="5577079" y="502514"/>
                </a:lnTo>
                <a:lnTo>
                  <a:pt x="5577079" y="499768"/>
                </a:lnTo>
                <a:lnTo>
                  <a:pt x="5574333" y="499768"/>
                </a:lnTo>
                <a:close/>
                <a:moveTo>
                  <a:pt x="5316211" y="499768"/>
                </a:moveTo>
                <a:lnTo>
                  <a:pt x="5316211" y="505260"/>
                </a:lnTo>
                <a:lnTo>
                  <a:pt x="5321703" y="508006"/>
                </a:lnTo>
                <a:lnTo>
                  <a:pt x="5321703" y="499768"/>
                </a:lnTo>
                <a:lnTo>
                  <a:pt x="5316211" y="499768"/>
                </a:lnTo>
                <a:close/>
                <a:moveTo>
                  <a:pt x="1433400" y="497022"/>
                </a:moveTo>
                <a:lnTo>
                  <a:pt x="1433400" y="502514"/>
                </a:lnTo>
                <a:lnTo>
                  <a:pt x="1441637" y="502514"/>
                </a:lnTo>
                <a:lnTo>
                  <a:pt x="1441637" y="497022"/>
                </a:lnTo>
                <a:lnTo>
                  <a:pt x="1433400" y="497022"/>
                </a:lnTo>
                <a:close/>
                <a:moveTo>
                  <a:pt x="5815979" y="497022"/>
                </a:moveTo>
                <a:lnTo>
                  <a:pt x="5815979" y="499768"/>
                </a:lnTo>
                <a:lnTo>
                  <a:pt x="5821471" y="499768"/>
                </a:lnTo>
                <a:lnTo>
                  <a:pt x="5821471" y="497022"/>
                </a:lnTo>
                <a:lnTo>
                  <a:pt x="5815979" y="497022"/>
                </a:lnTo>
                <a:close/>
                <a:moveTo>
                  <a:pt x="1340038" y="491530"/>
                </a:moveTo>
                <a:lnTo>
                  <a:pt x="1340038" y="499768"/>
                </a:lnTo>
                <a:lnTo>
                  <a:pt x="1342784" y="505260"/>
                </a:lnTo>
                <a:lnTo>
                  <a:pt x="1348275" y="508006"/>
                </a:lnTo>
                <a:lnTo>
                  <a:pt x="1353766" y="508006"/>
                </a:lnTo>
                <a:lnTo>
                  <a:pt x="1356512" y="502514"/>
                </a:lnTo>
                <a:lnTo>
                  <a:pt x="1359260" y="499768"/>
                </a:lnTo>
                <a:lnTo>
                  <a:pt x="1359260" y="505260"/>
                </a:lnTo>
                <a:lnTo>
                  <a:pt x="1362005" y="502514"/>
                </a:lnTo>
                <a:lnTo>
                  <a:pt x="1364751" y="502514"/>
                </a:lnTo>
                <a:lnTo>
                  <a:pt x="1367496" y="502514"/>
                </a:lnTo>
                <a:lnTo>
                  <a:pt x="1367496" y="497022"/>
                </a:lnTo>
                <a:lnTo>
                  <a:pt x="1356512" y="497022"/>
                </a:lnTo>
                <a:lnTo>
                  <a:pt x="1351020" y="491530"/>
                </a:lnTo>
                <a:lnTo>
                  <a:pt x="1345529" y="491530"/>
                </a:lnTo>
                <a:lnTo>
                  <a:pt x="1340038" y="491530"/>
                </a:lnTo>
                <a:close/>
                <a:moveTo>
                  <a:pt x="5829709" y="488784"/>
                </a:moveTo>
                <a:lnTo>
                  <a:pt x="5832455" y="494276"/>
                </a:lnTo>
                <a:lnTo>
                  <a:pt x="5835201" y="497022"/>
                </a:lnTo>
                <a:lnTo>
                  <a:pt x="5835201" y="488784"/>
                </a:lnTo>
                <a:lnTo>
                  <a:pt x="5829709" y="488784"/>
                </a:lnTo>
                <a:close/>
                <a:moveTo>
                  <a:pt x="5568841" y="488784"/>
                </a:moveTo>
                <a:lnTo>
                  <a:pt x="5568841" y="491530"/>
                </a:lnTo>
                <a:lnTo>
                  <a:pt x="5566095" y="491530"/>
                </a:lnTo>
                <a:lnTo>
                  <a:pt x="5566095" y="494276"/>
                </a:lnTo>
                <a:lnTo>
                  <a:pt x="5568841" y="494276"/>
                </a:lnTo>
                <a:lnTo>
                  <a:pt x="5568841" y="497022"/>
                </a:lnTo>
                <a:lnTo>
                  <a:pt x="5571587" y="497022"/>
                </a:lnTo>
                <a:lnTo>
                  <a:pt x="5571587" y="494276"/>
                </a:lnTo>
                <a:lnTo>
                  <a:pt x="5574333" y="494276"/>
                </a:lnTo>
                <a:lnTo>
                  <a:pt x="5574333" y="491530"/>
                </a:lnTo>
                <a:lnTo>
                  <a:pt x="5571587" y="491530"/>
                </a:lnTo>
                <a:lnTo>
                  <a:pt x="5571587" y="488784"/>
                </a:lnTo>
                <a:lnTo>
                  <a:pt x="5568841" y="488784"/>
                </a:lnTo>
                <a:close/>
                <a:moveTo>
                  <a:pt x="1485574" y="486038"/>
                </a:moveTo>
                <a:lnTo>
                  <a:pt x="1485574" y="488784"/>
                </a:lnTo>
                <a:lnTo>
                  <a:pt x="1488320" y="491530"/>
                </a:lnTo>
                <a:lnTo>
                  <a:pt x="1496557" y="491530"/>
                </a:lnTo>
                <a:lnTo>
                  <a:pt x="1496557" y="486038"/>
                </a:lnTo>
                <a:lnTo>
                  <a:pt x="1485574" y="486038"/>
                </a:lnTo>
                <a:close/>
                <a:moveTo>
                  <a:pt x="1274134" y="486038"/>
                </a:moveTo>
                <a:lnTo>
                  <a:pt x="1274134" y="488784"/>
                </a:lnTo>
                <a:lnTo>
                  <a:pt x="1279625" y="491530"/>
                </a:lnTo>
                <a:lnTo>
                  <a:pt x="1282371" y="488784"/>
                </a:lnTo>
                <a:lnTo>
                  <a:pt x="1282371" y="486038"/>
                </a:lnTo>
                <a:lnTo>
                  <a:pt x="1276880" y="486038"/>
                </a:lnTo>
                <a:lnTo>
                  <a:pt x="1274134" y="486038"/>
                </a:lnTo>
                <a:close/>
                <a:moveTo>
                  <a:pt x="5774789" y="486038"/>
                </a:moveTo>
                <a:lnTo>
                  <a:pt x="5774789" y="488784"/>
                </a:lnTo>
                <a:lnTo>
                  <a:pt x="5772043" y="491530"/>
                </a:lnTo>
                <a:lnTo>
                  <a:pt x="5772043" y="494276"/>
                </a:lnTo>
                <a:lnTo>
                  <a:pt x="5777535" y="491530"/>
                </a:lnTo>
                <a:lnTo>
                  <a:pt x="5780281" y="488784"/>
                </a:lnTo>
                <a:lnTo>
                  <a:pt x="5777535" y="488784"/>
                </a:lnTo>
                <a:lnTo>
                  <a:pt x="5777535" y="486038"/>
                </a:lnTo>
                <a:lnTo>
                  <a:pt x="5774789" y="486038"/>
                </a:lnTo>
                <a:close/>
                <a:moveTo>
                  <a:pt x="5582571" y="486038"/>
                </a:moveTo>
                <a:lnTo>
                  <a:pt x="5582571" y="499768"/>
                </a:lnTo>
                <a:lnTo>
                  <a:pt x="5585317" y="499768"/>
                </a:lnTo>
                <a:lnTo>
                  <a:pt x="5585317" y="497022"/>
                </a:lnTo>
                <a:lnTo>
                  <a:pt x="5588063" y="497022"/>
                </a:lnTo>
                <a:lnTo>
                  <a:pt x="5585317" y="494276"/>
                </a:lnTo>
                <a:lnTo>
                  <a:pt x="5588063" y="486038"/>
                </a:lnTo>
                <a:lnTo>
                  <a:pt x="5582571" y="486038"/>
                </a:lnTo>
                <a:close/>
                <a:moveTo>
                  <a:pt x="1554223" y="480546"/>
                </a:moveTo>
                <a:lnTo>
                  <a:pt x="1545985" y="483292"/>
                </a:lnTo>
                <a:lnTo>
                  <a:pt x="1545985" y="488784"/>
                </a:lnTo>
                <a:lnTo>
                  <a:pt x="1551477" y="486038"/>
                </a:lnTo>
                <a:lnTo>
                  <a:pt x="1554223" y="480546"/>
                </a:lnTo>
                <a:close/>
                <a:moveTo>
                  <a:pt x="1515779" y="480546"/>
                </a:moveTo>
                <a:lnTo>
                  <a:pt x="1515779" y="486038"/>
                </a:lnTo>
                <a:lnTo>
                  <a:pt x="1515779" y="491530"/>
                </a:lnTo>
                <a:lnTo>
                  <a:pt x="1518526" y="494276"/>
                </a:lnTo>
                <a:lnTo>
                  <a:pt x="1515779" y="497022"/>
                </a:lnTo>
                <a:lnTo>
                  <a:pt x="1518526" y="499768"/>
                </a:lnTo>
                <a:lnTo>
                  <a:pt x="1521272" y="499768"/>
                </a:lnTo>
                <a:lnTo>
                  <a:pt x="1529509" y="497022"/>
                </a:lnTo>
                <a:lnTo>
                  <a:pt x="1529509" y="502514"/>
                </a:lnTo>
                <a:lnTo>
                  <a:pt x="1532255" y="505260"/>
                </a:lnTo>
                <a:lnTo>
                  <a:pt x="1535002" y="508006"/>
                </a:lnTo>
                <a:lnTo>
                  <a:pt x="1532255" y="510752"/>
                </a:lnTo>
                <a:lnTo>
                  <a:pt x="1535002" y="510752"/>
                </a:lnTo>
                <a:lnTo>
                  <a:pt x="1535002" y="513498"/>
                </a:lnTo>
                <a:lnTo>
                  <a:pt x="1535002" y="516244"/>
                </a:lnTo>
                <a:lnTo>
                  <a:pt x="1540493" y="516244"/>
                </a:lnTo>
                <a:lnTo>
                  <a:pt x="1543239" y="518990"/>
                </a:lnTo>
                <a:lnTo>
                  <a:pt x="1554223" y="524482"/>
                </a:lnTo>
                <a:lnTo>
                  <a:pt x="1551477" y="518990"/>
                </a:lnTo>
                <a:lnTo>
                  <a:pt x="1545985" y="516244"/>
                </a:lnTo>
                <a:lnTo>
                  <a:pt x="1543239" y="510752"/>
                </a:lnTo>
                <a:lnTo>
                  <a:pt x="1540493" y="505260"/>
                </a:lnTo>
                <a:lnTo>
                  <a:pt x="1543239" y="505260"/>
                </a:lnTo>
                <a:lnTo>
                  <a:pt x="1543239" y="499768"/>
                </a:lnTo>
                <a:lnTo>
                  <a:pt x="1540493" y="494276"/>
                </a:lnTo>
                <a:lnTo>
                  <a:pt x="1526763" y="494276"/>
                </a:lnTo>
                <a:lnTo>
                  <a:pt x="1526763" y="488784"/>
                </a:lnTo>
                <a:lnTo>
                  <a:pt x="1524017" y="480546"/>
                </a:lnTo>
                <a:lnTo>
                  <a:pt x="1515779" y="480546"/>
                </a:lnTo>
                <a:close/>
                <a:moveTo>
                  <a:pt x="1408686" y="477800"/>
                </a:moveTo>
                <a:lnTo>
                  <a:pt x="1403194" y="480546"/>
                </a:lnTo>
                <a:lnTo>
                  <a:pt x="1400448" y="483292"/>
                </a:lnTo>
                <a:lnTo>
                  <a:pt x="1403194" y="486038"/>
                </a:lnTo>
                <a:lnTo>
                  <a:pt x="1408686" y="486038"/>
                </a:lnTo>
                <a:lnTo>
                  <a:pt x="1408686" y="477800"/>
                </a:lnTo>
                <a:close/>
                <a:moveTo>
                  <a:pt x="422880" y="477800"/>
                </a:moveTo>
                <a:lnTo>
                  <a:pt x="395421" y="483292"/>
                </a:lnTo>
                <a:lnTo>
                  <a:pt x="381691" y="486038"/>
                </a:lnTo>
                <a:lnTo>
                  <a:pt x="365215" y="486038"/>
                </a:lnTo>
                <a:lnTo>
                  <a:pt x="370707" y="491530"/>
                </a:lnTo>
                <a:lnTo>
                  <a:pt x="376199" y="494276"/>
                </a:lnTo>
                <a:lnTo>
                  <a:pt x="387183" y="494276"/>
                </a:lnTo>
                <a:lnTo>
                  <a:pt x="395421" y="491530"/>
                </a:lnTo>
                <a:lnTo>
                  <a:pt x="411897" y="486038"/>
                </a:lnTo>
                <a:lnTo>
                  <a:pt x="420134" y="483292"/>
                </a:lnTo>
                <a:lnTo>
                  <a:pt x="422880" y="477800"/>
                </a:lnTo>
                <a:close/>
                <a:moveTo>
                  <a:pt x="5697902" y="475054"/>
                </a:moveTo>
                <a:lnTo>
                  <a:pt x="5697902" y="483292"/>
                </a:lnTo>
                <a:lnTo>
                  <a:pt x="5703394" y="486038"/>
                </a:lnTo>
                <a:lnTo>
                  <a:pt x="5706140" y="483292"/>
                </a:lnTo>
                <a:lnTo>
                  <a:pt x="5706140" y="480546"/>
                </a:lnTo>
                <a:lnTo>
                  <a:pt x="5703394" y="480546"/>
                </a:lnTo>
                <a:lnTo>
                  <a:pt x="5700648" y="477800"/>
                </a:lnTo>
                <a:lnTo>
                  <a:pt x="5700648" y="475054"/>
                </a:lnTo>
                <a:lnTo>
                  <a:pt x="5697902" y="475054"/>
                </a:lnTo>
                <a:close/>
                <a:moveTo>
                  <a:pt x="1386718" y="475054"/>
                </a:moveTo>
                <a:lnTo>
                  <a:pt x="1386718" y="477800"/>
                </a:lnTo>
                <a:lnTo>
                  <a:pt x="1381227" y="477800"/>
                </a:lnTo>
                <a:lnTo>
                  <a:pt x="1381227" y="480546"/>
                </a:lnTo>
                <a:lnTo>
                  <a:pt x="1392210" y="480546"/>
                </a:lnTo>
                <a:lnTo>
                  <a:pt x="1394958" y="475054"/>
                </a:lnTo>
                <a:lnTo>
                  <a:pt x="1389464" y="475054"/>
                </a:lnTo>
                <a:lnTo>
                  <a:pt x="1386718" y="475054"/>
                </a:lnTo>
                <a:close/>
                <a:moveTo>
                  <a:pt x="475054" y="475054"/>
                </a:moveTo>
                <a:lnTo>
                  <a:pt x="461324" y="477800"/>
                </a:lnTo>
                <a:lnTo>
                  <a:pt x="458578" y="480546"/>
                </a:lnTo>
                <a:lnTo>
                  <a:pt x="458578" y="486038"/>
                </a:lnTo>
                <a:lnTo>
                  <a:pt x="469562" y="483292"/>
                </a:lnTo>
                <a:lnTo>
                  <a:pt x="477800" y="483292"/>
                </a:lnTo>
                <a:lnTo>
                  <a:pt x="486038" y="480546"/>
                </a:lnTo>
                <a:lnTo>
                  <a:pt x="497022" y="480546"/>
                </a:lnTo>
                <a:lnTo>
                  <a:pt x="499768" y="483292"/>
                </a:lnTo>
                <a:lnTo>
                  <a:pt x="499768" y="486038"/>
                </a:lnTo>
                <a:lnTo>
                  <a:pt x="505260" y="483292"/>
                </a:lnTo>
                <a:lnTo>
                  <a:pt x="505260" y="480546"/>
                </a:lnTo>
                <a:lnTo>
                  <a:pt x="497022" y="480546"/>
                </a:lnTo>
                <a:lnTo>
                  <a:pt x="488784" y="477800"/>
                </a:lnTo>
                <a:lnTo>
                  <a:pt x="475054" y="475054"/>
                </a:lnTo>
                <a:close/>
                <a:moveTo>
                  <a:pt x="5590809" y="472308"/>
                </a:moveTo>
                <a:lnTo>
                  <a:pt x="5588063" y="477800"/>
                </a:lnTo>
                <a:lnTo>
                  <a:pt x="5599047" y="477800"/>
                </a:lnTo>
                <a:lnTo>
                  <a:pt x="5599047" y="472308"/>
                </a:lnTo>
                <a:lnTo>
                  <a:pt x="5590809" y="472308"/>
                </a:lnTo>
                <a:close/>
                <a:moveTo>
                  <a:pt x="1526763" y="469562"/>
                </a:moveTo>
                <a:lnTo>
                  <a:pt x="1526763" y="472308"/>
                </a:lnTo>
                <a:lnTo>
                  <a:pt x="1524017" y="477800"/>
                </a:lnTo>
                <a:lnTo>
                  <a:pt x="1532255" y="477800"/>
                </a:lnTo>
                <a:lnTo>
                  <a:pt x="1532255" y="472308"/>
                </a:lnTo>
                <a:lnTo>
                  <a:pt x="1526763" y="469562"/>
                </a:lnTo>
                <a:close/>
                <a:moveTo>
                  <a:pt x="1496557" y="466816"/>
                </a:moveTo>
                <a:lnTo>
                  <a:pt x="1496557" y="477800"/>
                </a:lnTo>
                <a:lnTo>
                  <a:pt x="1504796" y="475054"/>
                </a:lnTo>
                <a:lnTo>
                  <a:pt x="1510287" y="472308"/>
                </a:lnTo>
                <a:lnTo>
                  <a:pt x="1510287" y="469562"/>
                </a:lnTo>
                <a:lnTo>
                  <a:pt x="1504796" y="466816"/>
                </a:lnTo>
                <a:lnTo>
                  <a:pt x="1496557" y="466816"/>
                </a:lnTo>
                <a:close/>
                <a:moveTo>
                  <a:pt x="5651220" y="466816"/>
                </a:moveTo>
                <a:lnTo>
                  <a:pt x="5653966" y="472308"/>
                </a:lnTo>
                <a:lnTo>
                  <a:pt x="5653966" y="475054"/>
                </a:lnTo>
                <a:lnTo>
                  <a:pt x="5659458" y="475054"/>
                </a:lnTo>
                <a:lnTo>
                  <a:pt x="5656712" y="466816"/>
                </a:lnTo>
                <a:lnTo>
                  <a:pt x="5651220" y="466816"/>
                </a:lnTo>
                <a:close/>
                <a:moveTo>
                  <a:pt x="1364751" y="464070"/>
                </a:moveTo>
                <a:lnTo>
                  <a:pt x="1362005" y="472308"/>
                </a:lnTo>
                <a:lnTo>
                  <a:pt x="1364751" y="480546"/>
                </a:lnTo>
                <a:lnTo>
                  <a:pt x="1370242" y="480546"/>
                </a:lnTo>
                <a:lnTo>
                  <a:pt x="1370242" y="475054"/>
                </a:lnTo>
                <a:lnTo>
                  <a:pt x="1372988" y="472308"/>
                </a:lnTo>
                <a:lnTo>
                  <a:pt x="1375736" y="464070"/>
                </a:lnTo>
                <a:lnTo>
                  <a:pt x="1370242" y="464070"/>
                </a:lnTo>
                <a:lnTo>
                  <a:pt x="1364751" y="464070"/>
                </a:lnTo>
                <a:close/>
                <a:moveTo>
                  <a:pt x="5741837" y="461324"/>
                </a:moveTo>
                <a:lnTo>
                  <a:pt x="5741837" y="466816"/>
                </a:lnTo>
                <a:lnTo>
                  <a:pt x="5744583" y="464070"/>
                </a:lnTo>
                <a:lnTo>
                  <a:pt x="5747329" y="461324"/>
                </a:lnTo>
                <a:lnTo>
                  <a:pt x="5741837" y="461324"/>
                </a:lnTo>
                <a:close/>
                <a:moveTo>
                  <a:pt x="1367496" y="453086"/>
                </a:moveTo>
                <a:lnTo>
                  <a:pt x="1367496" y="455832"/>
                </a:lnTo>
                <a:lnTo>
                  <a:pt x="1370242" y="455832"/>
                </a:lnTo>
                <a:lnTo>
                  <a:pt x="1372988" y="458578"/>
                </a:lnTo>
                <a:lnTo>
                  <a:pt x="1375736" y="461324"/>
                </a:lnTo>
                <a:lnTo>
                  <a:pt x="1375736" y="455832"/>
                </a:lnTo>
                <a:lnTo>
                  <a:pt x="1372988" y="455832"/>
                </a:lnTo>
                <a:lnTo>
                  <a:pt x="1372988" y="453086"/>
                </a:lnTo>
                <a:lnTo>
                  <a:pt x="1367496" y="453086"/>
                </a:lnTo>
                <a:close/>
                <a:moveTo>
                  <a:pt x="1521272" y="450340"/>
                </a:moveTo>
                <a:lnTo>
                  <a:pt x="1515779" y="453086"/>
                </a:lnTo>
                <a:lnTo>
                  <a:pt x="1513033" y="455832"/>
                </a:lnTo>
                <a:lnTo>
                  <a:pt x="1518526" y="458578"/>
                </a:lnTo>
                <a:lnTo>
                  <a:pt x="1526763" y="461324"/>
                </a:lnTo>
                <a:lnTo>
                  <a:pt x="1524017" y="461324"/>
                </a:lnTo>
                <a:lnTo>
                  <a:pt x="1524017" y="464070"/>
                </a:lnTo>
                <a:lnTo>
                  <a:pt x="1529509" y="464070"/>
                </a:lnTo>
                <a:lnTo>
                  <a:pt x="1526763" y="461324"/>
                </a:lnTo>
                <a:lnTo>
                  <a:pt x="1529509" y="455832"/>
                </a:lnTo>
                <a:lnTo>
                  <a:pt x="1529509" y="453086"/>
                </a:lnTo>
                <a:lnTo>
                  <a:pt x="1524017" y="450340"/>
                </a:lnTo>
                <a:lnTo>
                  <a:pt x="1521272" y="450340"/>
                </a:lnTo>
                <a:close/>
                <a:moveTo>
                  <a:pt x="1416924" y="450340"/>
                </a:moveTo>
                <a:lnTo>
                  <a:pt x="1414179" y="453086"/>
                </a:lnTo>
                <a:lnTo>
                  <a:pt x="1419670" y="455832"/>
                </a:lnTo>
                <a:lnTo>
                  <a:pt x="1425162" y="455832"/>
                </a:lnTo>
                <a:lnTo>
                  <a:pt x="1425162" y="450340"/>
                </a:lnTo>
                <a:lnTo>
                  <a:pt x="1416924" y="450340"/>
                </a:lnTo>
                <a:close/>
                <a:moveTo>
                  <a:pt x="1469098" y="447594"/>
                </a:moveTo>
                <a:lnTo>
                  <a:pt x="1469098" y="450340"/>
                </a:lnTo>
                <a:lnTo>
                  <a:pt x="1466353" y="450340"/>
                </a:lnTo>
                <a:lnTo>
                  <a:pt x="1469098" y="453086"/>
                </a:lnTo>
                <a:lnTo>
                  <a:pt x="1469098" y="455832"/>
                </a:lnTo>
                <a:lnTo>
                  <a:pt x="1466353" y="455832"/>
                </a:lnTo>
                <a:lnTo>
                  <a:pt x="1463606" y="455832"/>
                </a:lnTo>
                <a:lnTo>
                  <a:pt x="1463606" y="461324"/>
                </a:lnTo>
                <a:lnTo>
                  <a:pt x="1466353" y="461324"/>
                </a:lnTo>
                <a:lnTo>
                  <a:pt x="1469098" y="461324"/>
                </a:lnTo>
                <a:lnTo>
                  <a:pt x="1469098" y="464070"/>
                </a:lnTo>
                <a:lnTo>
                  <a:pt x="1471844" y="464070"/>
                </a:lnTo>
                <a:lnTo>
                  <a:pt x="1471844" y="458578"/>
                </a:lnTo>
                <a:lnTo>
                  <a:pt x="1469098" y="453086"/>
                </a:lnTo>
                <a:lnTo>
                  <a:pt x="1474589" y="453086"/>
                </a:lnTo>
                <a:lnTo>
                  <a:pt x="1474589" y="450340"/>
                </a:lnTo>
                <a:lnTo>
                  <a:pt x="1469098" y="447594"/>
                </a:lnTo>
                <a:close/>
                <a:moveTo>
                  <a:pt x="1301593" y="444848"/>
                </a:moveTo>
                <a:lnTo>
                  <a:pt x="1301593" y="447594"/>
                </a:lnTo>
                <a:lnTo>
                  <a:pt x="1298847" y="447594"/>
                </a:lnTo>
                <a:lnTo>
                  <a:pt x="1290611" y="447594"/>
                </a:lnTo>
                <a:lnTo>
                  <a:pt x="1293356" y="453086"/>
                </a:lnTo>
                <a:lnTo>
                  <a:pt x="1296101" y="453086"/>
                </a:lnTo>
                <a:lnTo>
                  <a:pt x="1298847" y="453086"/>
                </a:lnTo>
                <a:lnTo>
                  <a:pt x="1298847" y="450340"/>
                </a:lnTo>
                <a:lnTo>
                  <a:pt x="1301593" y="453086"/>
                </a:lnTo>
                <a:lnTo>
                  <a:pt x="1304341" y="453086"/>
                </a:lnTo>
                <a:lnTo>
                  <a:pt x="1307086" y="453086"/>
                </a:lnTo>
                <a:lnTo>
                  <a:pt x="1309832" y="450340"/>
                </a:lnTo>
                <a:lnTo>
                  <a:pt x="1309832" y="444848"/>
                </a:lnTo>
                <a:lnTo>
                  <a:pt x="1301593" y="444848"/>
                </a:lnTo>
                <a:close/>
                <a:moveTo>
                  <a:pt x="1449877" y="442102"/>
                </a:moveTo>
                <a:lnTo>
                  <a:pt x="1444383" y="444848"/>
                </a:lnTo>
                <a:lnTo>
                  <a:pt x="1444383" y="450340"/>
                </a:lnTo>
                <a:lnTo>
                  <a:pt x="1444383" y="455832"/>
                </a:lnTo>
                <a:lnTo>
                  <a:pt x="1447130" y="461324"/>
                </a:lnTo>
                <a:lnTo>
                  <a:pt x="1436146" y="461324"/>
                </a:lnTo>
                <a:lnTo>
                  <a:pt x="1436146" y="464070"/>
                </a:lnTo>
                <a:lnTo>
                  <a:pt x="1438891" y="469562"/>
                </a:lnTo>
                <a:lnTo>
                  <a:pt x="1441637" y="472308"/>
                </a:lnTo>
                <a:lnTo>
                  <a:pt x="1441637" y="480546"/>
                </a:lnTo>
                <a:lnTo>
                  <a:pt x="1447130" y="486038"/>
                </a:lnTo>
                <a:lnTo>
                  <a:pt x="1452622" y="486038"/>
                </a:lnTo>
                <a:lnTo>
                  <a:pt x="1455368" y="491530"/>
                </a:lnTo>
                <a:lnTo>
                  <a:pt x="1463606" y="486038"/>
                </a:lnTo>
                <a:lnTo>
                  <a:pt x="1469098" y="477800"/>
                </a:lnTo>
                <a:lnTo>
                  <a:pt x="1463606" y="477800"/>
                </a:lnTo>
                <a:lnTo>
                  <a:pt x="1463606" y="475054"/>
                </a:lnTo>
                <a:lnTo>
                  <a:pt x="1460859" y="469562"/>
                </a:lnTo>
                <a:lnTo>
                  <a:pt x="1452622" y="469562"/>
                </a:lnTo>
                <a:lnTo>
                  <a:pt x="1447130" y="469562"/>
                </a:lnTo>
                <a:lnTo>
                  <a:pt x="1447130" y="464070"/>
                </a:lnTo>
                <a:lnTo>
                  <a:pt x="1449877" y="461324"/>
                </a:lnTo>
                <a:lnTo>
                  <a:pt x="1458113" y="458578"/>
                </a:lnTo>
                <a:lnTo>
                  <a:pt x="1455368" y="447594"/>
                </a:lnTo>
                <a:lnTo>
                  <a:pt x="1449877" y="442102"/>
                </a:lnTo>
                <a:close/>
                <a:moveTo>
                  <a:pt x="1532255" y="439356"/>
                </a:moveTo>
                <a:lnTo>
                  <a:pt x="1532255" y="442102"/>
                </a:lnTo>
                <a:lnTo>
                  <a:pt x="1537748" y="442102"/>
                </a:lnTo>
                <a:lnTo>
                  <a:pt x="1540493" y="444848"/>
                </a:lnTo>
                <a:lnTo>
                  <a:pt x="1540493" y="442102"/>
                </a:lnTo>
                <a:lnTo>
                  <a:pt x="1543239" y="442102"/>
                </a:lnTo>
                <a:lnTo>
                  <a:pt x="1543239" y="439356"/>
                </a:lnTo>
                <a:lnTo>
                  <a:pt x="1535002" y="439356"/>
                </a:lnTo>
                <a:lnTo>
                  <a:pt x="1532255" y="439356"/>
                </a:lnTo>
                <a:close/>
                <a:moveTo>
                  <a:pt x="1419670" y="433864"/>
                </a:moveTo>
                <a:lnTo>
                  <a:pt x="1414179" y="436610"/>
                </a:lnTo>
                <a:lnTo>
                  <a:pt x="1414179" y="444848"/>
                </a:lnTo>
                <a:lnTo>
                  <a:pt x="1425162" y="444848"/>
                </a:lnTo>
                <a:lnTo>
                  <a:pt x="1427907" y="439356"/>
                </a:lnTo>
                <a:lnTo>
                  <a:pt x="1427907" y="436610"/>
                </a:lnTo>
                <a:lnTo>
                  <a:pt x="1427907" y="433864"/>
                </a:lnTo>
                <a:lnTo>
                  <a:pt x="1419670" y="433864"/>
                </a:lnTo>
                <a:close/>
                <a:moveTo>
                  <a:pt x="1392210" y="433864"/>
                </a:moveTo>
                <a:lnTo>
                  <a:pt x="1392210" y="442102"/>
                </a:lnTo>
                <a:lnTo>
                  <a:pt x="1400448" y="442102"/>
                </a:lnTo>
                <a:lnTo>
                  <a:pt x="1400448" y="439356"/>
                </a:lnTo>
                <a:lnTo>
                  <a:pt x="1403194" y="436610"/>
                </a:lnTo>
                <a:lnTo>
                  <a:pt x="1403194" y="433864"/>
                </a:lnTo>
                <a:lnTo>
                  <a:pt x="1397703" y="433864"/>
                </a:lnTo>
                <a:lnTo>
                  <a:pt x="1394958" y="436610"/>
                </a:lnTo>
                <a:lnTo>
                  <a:pt x="1392210" y="433864"/>
                </a:lnTo>
                <a:close/>
                <a:moveTo>
                  <a:pt x="6134512" y="431118"/>
                </a:moveTo>
                <a:lnTo>
                  <a:pt x="6134512" y="436610"/>
                </a:lnTo>
                <a:lnTo>
                  <a:pt x="6129020" y="436610"/>
                </a:lnTo>
                <a:lnTo>
                  <a:pt x="6129020" y="439356"/>
                </a:lnTo>
                <a:lnTo>
                  <a:pt x="6137258" y="439356"/>
                </a:lnTo>
                <a:lnTo>
                  <a:pt x="6140004" y="436610"/>
                </a:lnTo>
                <a:lnTo>
                  <a:pt x="6140004" y="433864"/>
                </a:lnTo>
                <a:lnTo>
                  <a:pt x="6137258" y="433864"/>
                </a:lnTo>
                <a:lnTo>
                  <a:pt x="6134512" y="431118"/>
                </a:lnTo>
                <a:close/>
                <a:moveTo>
                  <a:pt x="1471844" y="428372"/>
                </a:moveTo>
                <a:lnTo>
                  <a:pt x="1471844" y="431118"/>
                </a:lnTo>
                <a:lnTo>
                  <a:pt x="1471844" y="433864"/>
                </a:lnTo>
                <a:lnTo>
                  <a:pt x="1469098" y="433864"/>
                </a:lnTo>
                <a:lnTo>
                  <a:pt x="1471844" y="428372"/>
                </a:lnTo>
                <a:close/>
                <a:moveTo>
                  <a:pt x="197710" y="428372"/>
                </a:moveTo>
                <a:lnTo>
                  <a:pt x="186726" y="433864"/>
                </a:lnTo>
                <a:lnTo>
                  <a:pt x="175743" y="439356"/>
                </a:lnTo>
                <a:lnTo>
                  <a:pt x="162012" y="442102"/>
                </a:lnTo>
                <a:lnTo>
                  <a:pt x="145537" y="442102"/>
                </a:lnTo>
                <a:lnTo>
                  <a:pt x="115331" y="439356"/>
                </a:lnTo>
                <a:lnTo>
                  <a:pt x="96109" y="442102"/>
                </a:lnTo>
                <a:lnTo>
                  <a:pt x="71395" y="447594"/>
                </a:lnTo>
                <a:lnTo>
                  <a:pt x="21968" y="466816"/>
                </a:lnTo>
                <a:lnTo>
                  <a:pt x="0" y="447594"/>
                </a:lnTo>
                <a:lnTo>
                  <a:pt x="197710" y="428372"/>
                </a:lnTo>
                <a:close/>
                <a:moveTo>
                  <a:pt x="6161972" y="428372"/>
                </a:moveTo>
                <a:lnTo>
                  <a:pt x="6161972" y="431118"/>
                </a:lnTo>
                <a:lnTo>
                  <a:pt x="6159226" y="433864"/>
                </a:lnTo>
                <a:lnTo>
                  <a:pt x="6161972" y="433864"/>
                </a:lnTo>
                <a:lnTo>
                  <a:pt x="6167464" y="431118"/>
                </a:lnTo>
                <a:lnTo>
                  <a:pt x="6167464" y="428372"/>
                </a:lnTo>
                <a:lnTo>
                  <a:pt x="6161972" y="428372"/>
                </a:lnTo>
                <a:close/>
                <a:moveTo>
                  <a:pt x="1507541" y="425626"/>
                </a:moveTo>
                <a:lnTo>
                  <a:pt x="1507541" y="431118"/>
                </a:lnTo>
                <a:lnTo>
                  <a:pt x="1515779" y="431118"/>
                </a:lnTo>
                <a:lnTo>
                  <a:pt x="1513033" y="428372"/>
                </a:lnTo>
                <a:lnTo>
                  <a:pt x="1507541" y="425626"/>
                </a:lnTo>
                <a:close/>
                <a:moveTo>
                  <a:pt x="1496557" y="425626"/>
                </a:moveTo>
                <a:lnTo>
                  <a:pt x="1491065" y="428372"/>
                </a:lnTo>
                <a:lnTo>
                  <a:pt x="1488320" y="431118"/>
                </a:lnTo>
                <a:lnTo>
                  <a:pt x="1496557" y="431118"/>
                </a:lnTo>
                <a:lnTo>
                  <a:pt x="1496557" y="425626"/>
                </a:lnTo>
                <a:close/>
                <a:moveTo>
                  <a:pt x="304803" y="425626"/>
                </a:moveTo>
                <a:lnTo>
                  <a:pt x="299311" y="428372"/>
                </a:lnTo>
                <a:lnTo>
                  <a:pt x="296565" y="431118"/>
                </a:lnTo>
                <a:lnTo>
                  <a:pt x="293820" y="436610"/>
                </a:lnTo>
                <a:lnTo>
                  <a:pt x="299311" y="436610"/>
                </a:lnTo>
                <a:lnTo>
                  <a:pt x="302057" y="439356"/>
                </a:lnTo>
                <a:lnTo>
                  <a:pt x="307549" y="444848"/>
                </a:lnTo>
                <a:lnTo>
                  <a:pt x="310295" y="439356"/>
                </a:lnTo>
                <a:lnTo>
                  <a:pt x="313041" y="433864"/>
                </a:lnTo>
                <a:lnTo>
                  <a:pt x="310295" y="431118"/>
                </a:lnTo>
                <a:lnTo>
                  <a:pt x="307549" y="428372"/>
                </a:lnTo>
                <a:lnTo>
                  <a:pt x="304803" y="425626"/>
                </a:lnTo>
                <a:close/>
                <a:moveTo>
                  <a:pt x="6450300" y="425626"/>
                </a:moveTo>
                <a:lnTo>
                  <a:pt x="6450300" y="428372"/>
                </a:lnTo>
                <a:lnTo>
                  <a:pt x="6453046" y="431118"/>
                </a:lnTo>
                <a:lnTo>
                  <a:pt x="6458538" y="431118"/>
                </a:lnTo>
                <a:lnTo>
                  <a:pt x="6458538" y="428372"/>
                </a:lnTo>
                <a:lnTo>
                  <a:pt x="6453046" y="425626"/>
                </a:lnTo>
                <a:lnTo>
                  <a:pt x="6450300" y="425626"/>
                </a:lnTo>
                <a:close/>
                <a:moveTo>
                  <a:pt x="6307509" y="422880"/>
                </a:moveTo>
                <a:lnTo>
                  <a:pt x="6307509" y="428372"/>
                </a:lnTo>
                <a:lnTo>
                  <a:pt x="6313001" y="428372"/>
                </a:lnTo>
                <a:lnTo>
                  <a:pt x="6313001" y="422880"/>
                </a:lnTo>
                <a:lnTo>
                  <a:pt x="6307509" y="422880"/>
                </a:lnTo>
                <a:close/>
                <a:moveTo>
                  <a:pt x="6200416" y="422880"/>
                </a:moveTo>
                <a:lnTo>
                  <a:pt x="6200416" y="428372"/>
                </a:lnTo>
                <a:lnTo>
                  <a:pt x="6208654" y="428372"/>
                </a:lnTo>
                <a:lnTo>
                  <a:pt x="6208654" y="431118"/>
                </a:lnTo>
                <a:lnTo>
                  <a:pt x="6211400" y="433864"/>
                </a:lnTo>
                <a:lnTo>
                  <a:pt x="6208654" y="436610"/>
                </a:lnTo>
                <a:lnTo>
                  <a:pt x="6208654" y="439356"/>
                </a:lnTo>
                <a:lnTo>
                  <a:pt x="6214146" y="433864"/>
                </a:lnTo>
                <a:lnTo>
                  <a:pt x="6216892" y="428372"/>
                </a:lnTo>
                <a:lnTo>
                  <a:pt x="6214146" y="425626"/>
                </a:lnTo>
                <a:lnTo>
                  <a:pt x="6211400" y="425626"/>
                </a:lnTo>
                <a:lnTo>
                  <a:pt x="6208654" y="425626"/>
                </a:lnTo>
                <a:lnTo>
                  <a:pt x="6208654" y="422880"/>
                </a:lnTo>
                <a:lnTo>
                  <a:pt x="6205908" y="425626"/>
                </a:lnTo>
                <a:lnTo>
                  <a:pt x="6200416" y="422880"/>
                </a:lnTo>
                <a:close/>
                <a:moveTo>
                  <a:pt x="6156480" y="420134"/>
                </a:moveTo>
                <a:lnTo>
                  <a:pt x="6153734" y="422880"/>
                </a:lnTo>
                <a:lnTo>
                  <a:pt x="6156480" y="425626"/>
                </a:lnTo>
                <a:lnTo>
                  <a:pt x="6159226" y="428372"/>
                </a:lnTo>
                <a:lnTo>
                  <a:pt x="6159226" y="420134"/>
                </a:lnTo>
                <a:lnTo>
                  <a:pt x="6156480" y="420134"/>
                </a:lnTo>
                <a:close/>
                <a:moveTo>
                  <a:pt x="6189432" y="417388"/>
                </a:moveTo>
                <a:lnTo>
                  <a:pt x="6186686" y="420134"/>
                </a:lnTo>
                <a:lnTo>
                  <a:pt x="6186686" y="428372"/>
                </a:lnTo>
                <a:lnTo>
                  <a:pt x="6189432" y="428372"/>
                </a:lnTo>
                <a:lnTo>
                  <a:pt x="6192178" y="425626"/>
                </a:lnTo>
                <a:lnTo>
                  <a:pt x="6192178" y="420134"/>
                </a:lnTo>
                <a:lnTo>
                  <a:pt x="6194924" y="417388"/>
                </a:lnTo>
                <a:lnTo>
                  <a:pt x="6192178" y="417388"/>
                </a:lnTo>
                <a:lnTo>
                  <a:pt x="6189432" y="417388"/>
                </a:lnTo>
                <a:close/>
                <a:moveTo>
                  <a:pt x="1460859" y="417388"/>
                </a:moveTo>
                <a:lnTo>
                  <a:pt x="1452622" y="420134"/>
                </a:lnTo>
                <a:lnTo>
                  <a:pt x="1452622" y="422880"/>
                </a:lnTo>
                <a:lnTo>
                  <a:pt x="1455368" y="425626"/>
                </a:lnTo>
                <a:lnTo>
                  <a:pt x="1455368" y="428372"/>
                </a:lnTo>
                <a:lnTo>
                  <a:pt x="1455368" y="433864"/>
                </a:lnTo>
                <a:lnTo>
                  <a:pt x="1466353" y="436610"/>
                </a:lnTo>
                <a:lnTo>
                  <a:pt x="1480081" y="436610"/>
                </a:lnTo>
                <a:lnTo>
                  <a:pt x="1477335" y="431118"/>
                </a:lnTo>
                <a:lnTo>
                  <a:pt x="1477335" y="428372"/>
                </a:lnTo>
                <a:lnTo>
                  <a:pt x="1474589" y="428372"/>
                </a:lnTo>
                <a:lnTo>
                  <a:pt x="1471844" y="428372"/>
                </a:lnTo>
                <a:lnTo>
                  <a:pt x="1474589" y="425626"/>
                </a:lnTo>
                <a:lnTo>
                  <a:pt x="1471844" y="422880"/>
                </a:lnTo>
                <a:lnTo>
                  <a:pt x="1471844" y="417388"/>
                </a:lnTo>
                <a:lnTo>
                  <a:pt x="1469098" y="417388"/>
                </a:lnTo>
                <a:lnTo>
                  <a:pt x="1460859" y="417388"/>
                </a:lnTo>
                <a:close/>
                <a:moveTo>
                  <a:pt x="6203162" y="411896"/>
                </a:moveTo>
                <a:lnTo>
                  <a:pt x="6203162" y="417388"/>
                </a:lnTo>
                <a:lnTo>
                  <a:pt x="6208654" y="417388"/>
                </a:lnTo>
                <a:lnTo>
                  <a:pt x="6205908" y="411896"/>
                </a:lnTo>
                <a:lnTo>
                  <a:pt x="6203162" y="411896"/>
                </a:lnTo>
                <a:close/>
                <a:moveTo>
                  <a:pt x="6087831" y="411896"/>
                </a:moveTo>
                <a:lnTo>
                  <a:pt x="6093323" y="411896"/>
                </a:lnTo>
                <a:lnTo>
                  <a:pt x="6087831" y="412526"/>
                </a:lnTo>
                <a:lnTo>
                  <a:pt x="6087831" y="411896"/>
                </a:lnTo>
                <a:close/>
                <a:moveTo>
                  <a:pt x="1518526" y="411896"/>
                </a:moveTo>
                <a:lnTo>
                  <a:pt x="1515779" y="414642"/>
                </a:lnTo>
                <a:lnTo>
                  <a:pt x="1515779" y="417388"/>
                </a:lnTo>
                <a:lnTo>
                  <a:pt x="1518526" y="417388"/>
                </a:lnTo>
                <a:lnTo>
                  <a:pt x="1518526" y="420134"/>
                </a:lnTo>
                <a:lnTo>
                  <a:pt x="1521272" y="420134"/>
                </a:lnTo>
                <a:lnTo>
                  <a:pt x="1524017" y="422880"/>
                </a:lnTo>
                <a:lnTo>
                  <a:pt x="1526763" y="422880"/>
                </a:lnTo>
                <a:lnTo>
                  <a:pt x="1529509" y="425626"/>
                </a:lnTo>
                <a:lnTo>
                  <a:pt x="1529509" y="420134"/>
                </a:lnTo>
                <a:lnTo>
                  <a:pt x="1526763" y="417388"/>
                </a:lnTo>
                <a:lnTo>
                  <a:pt x="1526763" y="414642"/>
                </a:lnTo>
                <a:lnTo>
                  <a:pt x="1524017" y="411896"/>
                </a:lnTo>
                <a:lnTo>
                  <a:pt x="1518526" y="411896"/>
                </a:lnTo>
                <a:close/>
                <a:moveTo>
                  <a:pt x="1491065" y="409151"/>
                </a:moveTo>
                <a:lnTo>
                  <a:pt x="1491065" y="411896"/>
                </a:lnTo>
                <a:lnTo>
                  <a:pt x="1488320" y="411896"/>
                </a:lnTo>
                <a:lnTo>
                  <a:pt x="1488320" y="414642"/>
                </a:lnTo>
                <a:lnTo>
                  <a:pt x="1496557" y="414642"/>
                </a:lnTo>
                <a:lnTo>
                  <a:pt x="1499304" y="414642"/>
                </a:lnTo>
                <a:lnTo>
                  <a:pt x="1499304" y="411896"/>
                </a:lnTo>
                <a:lnTo>
                  <a:pt x="1499304" y="409151"/>
                </a:lnTo>
                <a:lnTo>
                  <a:pt x="1496557" y="409151"/>
                </a:lnTo>
                <a:lnTo>
                  <a:pt x="1491065" y="409151"/>
                </a:lnTo>
                <a:close/>
                <a:moveTo>
                  <a:pt x="1452622" y="409151"/>
                </a:moveTo>
                <a:lnTo>
                  <a:pt x="1447130" y="411896"/>
                </a:lnTo>
                <a:lnTo>
                  <a:pt x="1447130" y="417388"/>
                </a:lnTo>
                <a:lnTo>
                  <a:pt x="1452622" y="414642"/>
                </a:lnTo>
                <a:lnTo>
                  <a:pt x="1452622" y="409151"/>
                </a:lnTo>
                <a:close/>
                <a:moveTo>
                  <a:pt x="1378481" y="409151"/>
                </a:moveTo>
                <a:lnTo>
                  <a:pt x="1378481" y="411896"/>
                </a:lnTo>
                <a:lnTo>
                  <a:pt x="1372988" y="414642"/>
                </a:lnTo>
                <a:lnTo>
                  <a:pt x="1372988" y="425626"/>
                </a:lnTo>
                <a:lnTo>
                  <a:pt x="1378481" y="425626"/>
                </a:lnTo>
                <a:lnTo>
                  <a:pt x="1378481" y="417388"/>
                </a:lnTo>
                <a:lnTo>
                  <a:pt x="1383972" y="414642"/>
                </a:lnTo>
                <a:lnTo>
                  <a:pt x="1389464" y="417388"/>
                </a:lnTo>
                <a:lnTo>
                  <a:pt x="1389464" y="411896"/>
                </a:lnTo>
                <a:lnTo>
                  <a:pt x="1386718" y="411896"/>
                </a:lnTo>
                <a:lnTo>
                  <a:pt x="1378481" y="409151"/>
                </a:lnTo>
                <a:close/>
                <a:moveTo>
                  <a:pt x="1345529" y="406405"/>
                </a:moveTo>
                <a:lnTo>
                  <a:pt x="1342784" y="409151"/>
                </a:lnTo>
                <a:lnTo>
                  <a:pt x="1342784" y="411896"/>
                </a:lnTo>
                <a:lnTo>
                  <a:pt x="1342784" y="414642"/>
                </a:lnTo>
                <a:lnTo>
                  <a:pt x="1345529" y="414642"/>
                </a:lnTo>
                <a:lnTo>
                  <a:pt x="1348275" y="411896"/>
                </a:lnTo>
                <a:lnTo>
                  <a:pt x="1351020" y="409151"/>
                </a:lnTo>
                <a:lnTo>
                  <a:pt x="1348275" y="406405"/>
                </a:lnTo>
                <a:lnTo>
                  <a:pt x="1345529" y="406405"/>
                </a:lnTo>
                <a:close/>
                <a:moveTo>
                  <a:pt x="6153734" y="403658"/>
                </a:moveTo>
                <a:lnTo>
                  <a:pt x="6153734" y="403964"/>
                </a:lnTo>
                <a:lnTo>
                  <a:pt x="6152361" y="404116"/>
                </a:lnTo>
                <a:lnTo>
                  <a:pt x="6153734" y="403658"/>
                </a:lnTo>
                <a:close/>
                <a:moveTo>
                  <a:pt x="472308" y="400913"/>
                </a:moveTo>
                <a:lnTo>
                  <a:pt x="464070" y="409151"/>
                </a:lnTo>
                <a:lnTo>
                  <a:pt x="455832" y="414642"/>
                </a:lnTo>
                <a:lnTo>
                  <a:pt x="447594" y="417388"/>
                </a:lnTo>
                <a:lnTo>
                  <a:pt x="436610" y="420134"/>
                </a:lnTo>
                <a:lnTo>
                  <a:pt x="428372" y="422880"/>
                </a:lnTo>
                <a:lnTo>
                  <a:pt x="420134" y="428372"/>
                </a:lnTo>
                <a:lnTo>
                  <a:pt x="409150" y="431118"/>
                </a:lnTo>
                <a:lnTo>
                  <a:pt x="395421" y="431118"/>
                </a:lnTo>
                <a:lnTo>
                  <a:pt x="384437" y="431118"/>
                </a:lnTo>
                <a:lnTo>
                  <a:pt x="362469" y="425626"/>
                </a:lnTo>
                <a:lnTo>
                  <a:pt x="343247" y="422880"/>
                </a:lnTo>
                <a:lnTo>
                  <a:pt x="332263" y="425626"/>
                </a:lnTo>
                <a:lnTo>
                  <a:pt x="321279" y="431118"/>
                </a:lnTo>
                <a:lnTo>
                  <a:pt x="315787" y="431118"/>
                </a:lnTo>
                <a:lnTo>
                  <a:pt x="326771" y="436610"/>
                </a:lnTo>
                <a:lnTo>
                  <a:pt x="340501" y="442102"/>
                </a:lnTo>
                <a:lnTo>
                  <a:pt x="356977" y="442102"/>
                </a:lnTo>
                <a:lnTo>
                  <a:pt x="376199" y="442102"/>
                </a:lnTo>
                <a:lnTo>
                  <a:pt x="417389" y="436610"/>
                </a:lnTo>
                <a:lnTo>
                  <a:pt x="461324" y="431118"/>
                </a:lnTo>
                <a:lnTo>
                  <a:pt x="497022" y="428372"/>
                </a:lnTo>
                <a:lnTo>
                  <a:pt x="513498" y="431118"/>
                </a:lnTo>
                <a:lnTo>
                  <a:pt x="527228" y="433864"/>
                </a:lnTo>
                <a:lnTo>
                  <a:pt x="535466" y="442102"/>
                </a:lnTo>
                <a:lnTo>
                  <a:pt x="538212" y="453086"/>
                </a:lnTo>
                <a:lnTo>
                  <a:pt x="535466" y="466816"/>
                </a:lnTo>
                <a:lnTo>
                  <a:pt x="529974" y="488784"/>
                </a:lnTo>
                <a:lnTo>
                  <a:pt x="546450" y="491530"/>
                </a:lnTo>
                <a:lnTo>
                  <a:pt x="568417" y="494276"/>
                </a:lnTo>
                <a:lnTo>
                  <a:pt x="568417" y="488784"/>
                </a:lnTo>
                <a:lnTo>
                  <a:pt x="565671" y="486038"/>
                </a:lnTo>
                <a:lnTo>
                  <a:pt x="560179" y="480546"/>
                </a:lnTo>
                <a:lnTo>
                  <a:pt x="554687" y="472308"/>
                </a:lnTo>
                <a:lnTo>
                  <a:pt x="551942" y="466816"/>
                </a:lnTo>
                <a:lnTo>
                  <a:pt x="554687" y="461324"/>
                </a:lnTo>
                <a:lnTo>
                  <a:pt x="560179" y="461324"/>
                </a:lnTo>
                <a:lnTo>
                  <a:pt x="565671" y="461324"/>
                </a:lnTo>
                <a:lnTo>
                  <a:pt x="573909" y="458578"/>
                </a:lnTo>
                <a:lnTo>
                  <a:pt x="579401" y="455832"/>
                </a:lnTo>
                <a:lnTo>
                  <a:pt x="568417" y="450340"/>
                </a:lnTo>
                <a:lnTo>
                  <a:pt x="562925" y="444848"/>
                </a:lnTo>
                <a:lnTo>
                  <a:pt x="560179" y="433864"/>
                </a:lnTo>
                <a:lnTo>
                  <a:pt x="557433" y="422880"/>
                </a:lnTo>
                <a:lnTo>
                  <a:pt x="557433" y="414642"/>
                </a:lnTo>
                <a:lnTo>
                  <a:pt x="551942" y="406405"/>
                </a:lnTo>
                <a:lnTo>
                  <a:pt x="543703" y="400913"/>
                </a:lnTo>
                <a:lnTo>
                  <a:pt x="529974" y="400913"/>
                </a:lnTo>
                <a:lnTo>
                  <a:pt x="529974" y="403659"/>
                </a:lnTo>
                <a:lnTo>
                  <a:pt x="532720" y="406405"/>
                </a:lnTo>
                <a:lnTo>
                  <a:pt x="540957" y="409151"/>
                </a:lnTo>
                <a:lnTo>
                  <a:pt x="546450" y="411896"/>
                </a:lnTo>
                <a:lnTo>
                  <a:pt x="551942" y="411896"/>
                </a:lnTo>
                <a:lnTo>
                  <a:pt x="551942" y="417388"/>
                </a:lnTo>
                <a:lnTo>
                  <a:pt x="540957" y="417388"/>
                </a:lnTo>
                <a:lnTo>
                  <a:pt x="529974" y="417388"/>
                </a:lnTo>
                <a:lnTo>
                  <a:pt x="510751" y="411896"/>
                </a:lnTo>
                <a:lnTo>
                  <a:pt x="491530" y="406405"/>
                </a:lnTo>
                <a:lnTo>
                  <a:pt x="483292" y="403659"/>
                </a:lnTo>
                <a:lnTo>
                  <a:pt x="472308" y="400913"/>
                </a:lnTo>
                <a:close/>
                <a:moveTo>
                  <a:pt x="1551477" y="398167"/>
                </a:moveTo>
                <a:lnTo>
                  <a:pt x="1551477" y="400913"/>
                </a:lnTo>
                <a:lnTo>
                  <a:pt x="1548731" y="400913"/>
                </a:lnTo>
                <a:lnTo>
                  <a:pt x="1545985" y="406405"/>
                </a:lnTo>
                <a:lnTo>
                  <a:pt x="1543239" y="409151"/>
                </a:lnTo>
                <a:lnTo>
                  <a:pt x="1532255" y="409151"/>
                </a:lnTo>
                <a:lnTo>
                  <a:pt x="1532255" y="414642"/>
                </a:lnTo>
                <a:lnTo>
                  <a:pt x="1532255" y="420134"/>
                </a:lnTo>
                <a:lnTo>
                  <a:pt x="1535002" y="422880"/>
                </a:lnTo>
                <a:lnTo>
                  <a:pt x="1537748" y="420134"/>
                </a:lnTo>
                <a:lnTo>
                  <a:pt x="1540493" y="425626"/>
                </a:lnTo>
                <a:lnTo>
                  <a:pt x="1540493" y="431118"/>
                </a:lnTo>
                <a:lnTo>
                  <a:pt x="1545985" y="431118"/>
                </a:lnTo>
                <a:lnTo>
                  <a:pt x="1545985" y="433864"/>
                </a:lnTo>
                <a:lnTo>
                  <a:pt x="1545985" y="439356"/>
                </a:lnTo>
                <a:lnTo>
                  <a:pt x="1545985" y="447594"/>
                </a:lnTo>
                <a:lnTo>
                  <a:pt x="1545985" y="450340"/>
                </a:lnTo>
                <a:lnTo>
                  <a:pt x="1548731" y="453086"/>
                </a:lnTo>
                <a:lnTo>
                  <a:pt x="1543239" y="453086"/>
                </a:lnTo>
                <a:lnTo>
                  <a:pt x="1545985" y="455832"/>
                </a:lnTo>
                <a:lnTo>
                  <a:pt x="1551477" y="455832"/>
                </a:lnTo>
                <a:lnTo>
                  <a:pt x="1556969" y="453086"/>
                </a:lnTo>
                <a:lnTo>
                  <a:pt x="1562461" y="453086"/>
                </a:lnTo>
                <a:lnTo>
                  <a:pt x="1567952" y="453086"/>
                </a:lnTo>
                <a:lnTo>
                  <a:pt x="1565206" y="447594"/>
                </a:lnTo>
                <a:lnTo>
                  <a:pt x="1565206" y="439356"/>
                </a:lnTo>
                <a:lnTo>
                  <a:pt x="1554223" y="436610"/>
                </a:lnTo>
                <a:lnTo>
                  <a:pt x="1548731" y="431118"/>
                </a:lnTo>
                <a:lnTo>
                  <a:pt x="1554223" y="431118"/>
                </a:lnTo>
                <a:lnTo>
                  <a:pt x="1551477" y="425626"/>
                </a:lnTo>
                <a:lnTo>
                  <a:pt x="1551477" y="422880"/>
                </a:lnTo>
                <a:lnTo>
                  <a:pt x="1556969" y="411896"/>
                </a:lnTo>
                <a:lnTo>
                  <a:pt x="1554223" y="409151"/>
                </a:lnTo>
                <a:lnTo>
                  <a:pt x="1551477" y="406405"/>
                </a:lnTo>
                <a:lnTo>
                  <a:pt x="1554223" y="403659"/>
                </a:lnTo>
                <a:lnTo>
                  <a:pt x="1554223" y="400913"/>
                </a:lnTo>
                <a:lnTo>
                  <a:pt x="1554223" y="398167"/>
                </a:lnTo>
                <a:lnTo>
                  <a:pt x="1551477" y="398167"/>
                </a:lnTo>
                <a:close/>
                <a:moveTo>
                  <a:pt x="1524017" y="398167"/>
                </a:moveTo>
                <a:lnTo>
                  <a:pt x="1515779" y="400913"/>
                </a:lnTo>
                <a:lnTo>
                  <a:pt x="1510287" y="406405"/>
                </a:lnTo>
                <a:lnTo>
                  <a:pt x="1515779" y="409151"/>
                </a:lnTo>
                <a:lnTo>
                  <a:pt x="1524017" y="409151"/>
                </a:lnTo>
                <a:lnTo>
                  <a:pt x="1524017" y="398167"/>
                </a:lnTo>
                <a:close/>
                <a:moveTo>
                  <a:pt x="1425162" y="398167"/>
                </a:moveTo>
                <a:lnTo>
                  <a:pt x="1422416" y="400913"/>
                </a:lnTo>
                <a:lnTo>
                  <a:pt x="1430655" y="406405"/>
                </a:lnTo>
                <a:lnTo>
                  <a:pt x="1436146" y="403659"/>
                </a:lnTo>
                <a:lnTo>
                  <a:pt x="1441637" y="400913"/>
                </a:lnTo>
                <a:lnTo>
                  <a:pt x="1436146" y="398167"/>
                </a:lnTo>
                <a:lnTo>
                  <a:pt x="1430655" y="398167"/>
                </a:lnTo>
                <a:lnTo>
                  <a:pt x="1425162" y="398167"/>
                </a:lnTo>
                <a:close/>
                <a:moveTo>
                  <a:pt x="1040725" y="398167"/>
                </a:moveTo>
                <a:lnTo>
                  <a:pt x="1040725" y="400913"/>
                </a:lnTo>
                <a:lnTo>
                  <a:pt x="1046217" y="403659"/>
                </a:lnTo>
                <a:lnTo>
                  <a:pt x="1054456" y="403659"/>
                </a:lnTo>
                <a:lnTo>
                  <a:pt x="1054456" y="400913"/>
                </a:lnTo>
                <a:lnTo>
                  <a:pt x="1051710" y="398167"/>
                </a:lnTo>
                <a:lnTo>
                  <a:pt x="1046217" y="398167"/>
                </a:lnTo>
                <a:lnTo>
                  <a:pt x="1040725" y="398167"/>
                </a:lnTo>
                <a:close/>
                <a:moveTo>
                  <a:pt x="1378481" y="395421"/>
                </a:moveTo>
                <a:lnTo>
                  <a:pt x="1375736" y="398167"/>
                </a:lnTo>
                <a:lnTo>
                  <a:pt x="1375736" y="400913"/>
                </a:lnTo>
                <a:lnTo>
                  <a:pt x="1378481" y="403659"/>
                </a:lnTo>
                <a:lnTo>
                  <a:pt x="1381227" y="403659"/>
                </a:lnTo>
                <a:lnTo>
                  <a:pt x="1381227" y="400913"/>
                </a:lnTo>
                <a:lnTo>
                  <a:pt x="1383972" y="400913"/>
                </a:lnTo>
                <a:lnTo>
                  <a:pt x="1383972" y="398167"/>
                </a:lnTo>
                <a:lnTo>
                  <a:pt x="1381227" y="398167"/>
                </a:lnTo>
                <a:lnTo>
                  <a:pt x="1381227" y="395421"/>
                </a:lnTo>
                <a:lnTo>
                  <a:pt x="1378481" y="395421"/>
                </a:lnTo>
                <a:close/>
                <a:moveTo>
                  <a:pt x="6219638" y="395420"/>
                </a:moveTo>
                <a:lnTo>
                  <a:pt x="6236113" y="395420"/>
                </a:lnTo>
                <a:lnTo>
                  <a:pt x="6238859" y="395420"/>
                </a:lnTo>
                <a:lnTo>
                  <a:pt x="6238859" y="398166"/>
                </a:lnTo>
                <a:lnTo>
                  <a:pt x="6227875" y="398166"/>
                </a:lnTo>
                <a:lnTo>
                  <a:pt x="6227875" y="400912"/>
                </a:lnTo>
                <a:lnTo>
                  <a:pt x="6230621" y="403658"/>
                </a:lnTo>
                <a:lnTo>
                  <a:pt x="6233367" y="403658"/>
                </a:lnTo>
                <a:lnTo>
                  <a:pt x="6233367" y="406404"/>
                </a:lnTo>
                <a:lnTo>
                  <a:pt x="6225129" y="409150"/>
                </a:lnTo>
                <a:lnTo>
                  <a:pt x="6219638" y="406404"/>
                </a:lnTo>
                <a:lnTo>
                  <a:pt x="6219638" y="403658"/>
                </a:lnTo>
                <a:lnTo>
                  <a:pt x="6222384" y="403658"/>
                </a:lnTo>
                <a:lnTo>
                  <a:pt x="6225129" y="400912"/>
                </a:lnTo>
                <a:lnTo>
                  <a:pt x="6222384" y="398166"/>
                </a:lnTo>
                <a:lnTo>
                  <a:pt x="6219638" y="395420"/>
                </a:lnTo>
                <a:close/>
                <a:moveTo>
                  <a:pt x="1559715" y="389929"/>
                </a:moveTo>
                <a:lnTo>
                  <a:pt x="1559715" y="392675"/>
                </a:lnTo>
                <a:lnTo>
                  <a:pt x="1559715" y="395421"/>
                </a:lnTo>
                <a:lnTo>
                  <a:pt x="1565206" y="400913"/>
                </a:lnTo>
                <a:lnTo>
                  <a:pt x="1567952" y="400913"/>
                </a:lnTo>
                <a:lnTo>
                  <a:pt x="1567952" y="398167"/>
                </a:lnTo>
                <a:lnTo>
                  <a:pt x="1570699" y="398167"/>
                </a:lnTo>
                <a:lnTo>
                  <a:pt x="1570699" y="392675"/>
                </a:lnTo>
                <a:lnTo>
                  <a:pt x="1567952" y="389929"/>
                </a:lnTo>
                <a:lnTo>
                  <a:pt x="1559715" y="389929"/>
                </a:lnTo>
                <a:close/>
                <a:moveTo>
                  <a:pt x="1537748" y="387183"/>
                </a:moveTo>
                <a:lnTo>
                  <a:pt x="1537748" y="395421"/>
                </a:lnTo>
                <a:lnTo>
                  <a:pt x="1540493" y="398167"/>
                </a:lnTo>
                <a:lnTo>
                  <a:pt x="1543239" y="398167"/>
                </a:lnTo>
                <a:lnTo>
                  <a:pt x="1545985" y="395421"/>
                </a:lnTo>
                <a:lnTo>
                  <a:pt x="1548731" y="389929"/>
                </a:lnTo>
                <a:lnTo>
                  <a:pt x="1543239" y="387183"/>
                </a:lnTo>
                <a:lnTo>
                  <a:pt x="1540493" y="387183"/>
                </a:lnTo>
                <a:lnTo>
                  <a:pt x="1537748" y="387183"/>
                </a:lnTo>
                <a:close/>
                <a:moveTo>
                  <a:pt x="1441637" y="387183"/>
                </a:moveTo>
                <a:lnTo>
                  <a:pt x="1441637" y="392675"/>
                </a:lnTo>
                <a:lnTo>
                  <a:pt x="1447130" y="392675"/>
                </a:lnTo>
                <a:lnTo>
                  <a:pt x="1447130" y="387183"/>
                </a:lnTo>
                <a:lnTo>
                  <a:pt x="1441637" y="387183"/>
                </a:lnTo>
                <a:close/>
                <a:moveTo>
                  <a:pt x="1367496" y="387183"/>
                </a:moveTo>
                <a:lnTo>
                  <a:pt x="1362005" y="389929"/>
                </a:lnTo>
                <a:lnTo>
                  <a:pt x="1362005" y="398167"/>
                </a:lnTo>
                <a:lnTo>
                  <a:pt x="1364751" y="400913"/>
                </a:lnTo>
                <a:lnTo>
                  <a:pt x="1370242" y="400913"/>
                </a:lnTo>
                <a:lnTo>
                  <a:pt x="1372988" y="395421"/>
                </a:lnTo>
                <a:lnTo>
                  <a:pt x="1372988" y="387183"/>
                </a:lnTo>
                <a:lnTo>
                  <a:pt x="1370242" y="387183"/>
                </a:lnTo>
                <a:lnTo>
                  <a:pt x="1367496" y="387183"/>
                </a:lnTo>
                <a:close/>
                <a:moveTo>
                  <a:pt x="1507541" y="384437"/>
                </a:moveTo>
                <a:lnTo>
                  <a:pt x="1510287" y="389929"/>
                </a:lnTo>
                <a:lnTo>
                  <a:pt x="1513033" y="392675"/>
                </a:lnTo>
                <a:lnTo>
                  <a:pt x="1515779" y="392675"/>
                </a:lnTo>
                <a:lnTo>
                  <a:pt x="1513033" y="387183"/>
                </a:lnTo>
                <a:lnTo>
                  <a:pt x="1507541" y="384437"/>
                </a:lnTo>
                <a:close/>
                <a:moveTo>
                  <a:pt x="1150565" y="384437"/>
                </a:moveTo>
                <a:lnTo>
                  <a:pt x="1147820" y="387183"/>
                </a:lnTo>
                <a:lnTo>
                  <a:pt x="1147820" y="389929"/>
                </a:lnTo>
                <a:lnTo>
                  <a:pt x="1150565" y="392675"/>
                </a:lnTo>
                <a:lnTo>
                  <a:pt x="1153311" y="395421"/>
                </a:lnTo>
                <a:lnTo>
                  <a:pt x="1156056" y="392675"/>
                </a:lnTo>
                <a:lnTo>
                  <a:pt x="1156056" y="389929"/>
                </a:lnTo>
                <a:lnTo>
                  <a:pt x="1156056" y="384437"/>
                </a:lnTo>
                <a:lnTo>
                  <a:pt x="1150565" y="384437"/>
                </a:lnTo>
                <a:close/>
                <a:moveTo>
                  <a:pt x="1576191" y="378948"/>
                </a:moveTo>
                <a:lnTo>
                  <a:pt x="1576191" y="414642"/>
                </a:lnTo>
                <a:lnTo>
                  <a:pt x="1576191" y="420135"/>
                </a:lnTo>
                <a:lnTo>
                  <a:pt x="1578936" y="420135"/>
                </a:lnTo>
                <a:lnTo>
                  <a:pt x="1578936" y="414643"/>
                </a:lnTo>
                <a:lnTo>
                  <a:pt x="1578936" y="400913"/>
                </a:lnTo>
                <a:lnTo>
                  <a:pt x="1576191" y="378948"/>
                </a:lnTo>
                <a:close/>
                <a:moveTo>
                  <a:pt x="1425162" y="378945"/>
                </a:moveTo>
                <a:lnTo>
                  <a:pt x="1425162" y="384437"/>
                </a:lnTo>
                <a:lnTo>
                  <a:pt x="1425162" y="392675"/>
                </a:lnTo>
                <a:lnTo>
                  <a:pt x="1430655" y="389929"/>
                </a:lnTo>
                <a:lnTo>
                  <a:pt x="1436146" y="387183"/>
                </a:lnTo>
                <a:lnTo>
                  <a:pt x="1441637" y="384437"/>
                </a:lnTo>
                <a:lnTo>
                  <a:pt x="1441637" y="378945"/>
                </a:lnTo>
                <a:lnTo>
                  <a:pt x="1425162" y="378945"/>
                </a:lnTo>
                <a:close/>
                <a:moveTo>
                  <a:pt x="1414179" y="378945"/>
                </a:moveTo>
                <a:lnTo>
                  <a:pt x="1414179" y="381691"/>
                </a:lnTo>
                <a:lnTo>
                  <a:pt x="1411434" y="381691"/>
                </a:lnTo>
                <a:lnTo>
                  <a:pt x="1408686" y="384437"/>
                </a:lnTo>
                <a:lnTo>
                  <a:pt x="1411434" y="384437"/>
                </a:lnTo>
                <a:lnTo>
                  <a:pt x="1414179" y="387183"/>
                </a:lnTo>
                <a:lnTo>
                  <a:pt x="1416924" y="384437"/>
                </a:lnTo>
                <a:lnTo>
                  <a:pt x="1416924" y="378945"/>
                </a:lnTo>
                <a:lnTo>
                  <a:pt x="1414179" y="378945"/>
                </a:lnTo>
                <a:close/>
                <a:moveTo>
                  <a:pt x="1334544" y="378945"/>
                </a:moveTo>
                <a:lnTo>
                  <a:pt x="1331799" y="384437"/>
                </a:lnTo>
                <a:lnTo>
                  <a:pt x="1337290" y="384437"/>
                </a:lnTo>
                <a:lnTo>
                  <a:pt x="1340038" y="378945"/>
                </a:lnTo>
                <a:lnTo>
                  <a:pt x="1334544" y="378945"/>
                </a:lnTo>
                <a:close/>
                <a:moveTo>
                  <a:pt x="1556969" y="376199"/>
                </a:moveTo>
                <a:lnTo>
                  <a:pt x="1554223" y="378945"/>
                </a:lnTo>
                <a:lnTo>
                  <a:pt x="1554223" y="381691"/>
                </a:lnTo>
                <a:lnTo>
                  <a:pt x="1556969" y="384437"/>
                </a:lnTo>
                <a:lnTo>
                  <a:pt x="1562461" y="384437"/>
                </a:lnTo>
                <a:lnTo>
                  <a:pt x="1565206" y="381691"/>
                </a:lnTo>
                <a:lnTo>
                  <a:pt x="1565206" y="378945"/>
                </a:lnTo>
                <a:lnTo>
                  <a:pt x="1562461" y="376199"/>
                </a:lnTo>
                <a:lnTo>
                  <a:pt x="1556969" y="376199"/>
                </a:lnTo>
                <a:close/>
                <a:moveTo>
                  <a:pt x="1353766" y="362469"/>
                </a:moveTo>
                <a:lnTo>
                  <a:pt x="1356512" y="365215"/>
                </a:lnTo>
                <a:lnTo>
                  <a:pt x="1356512" y="370707"/>
                </a:lnTo>
                <a:lnTo>
                  <a:pt x="1359260" y="373453"/>
                </a:lnTo>
                <a:lnTo>
                  <a:pt x="1359260" y="378945"/>
                </a:lnTo>
                <a:lnTo>
                  <a:pt x="1367496" y="378945"/>
                </a:lnTo>
                <a:lnTo>
                  <a:pt x="1370242" y="373453"/>
                </a:lnTo>
                <a:lnTo>
                  <a:pt x="1367496" y="367961"/>
                </a:lnTo>
                <a:lnTo>
                  <a:pt x="1364751" y="365215"/>
                </a:lnTo>
                <a:lnTo>
                  <a:pt x="1362005" y="362469"/>
                </a:lnTo>
                <a:lnTo>
                  <a:pt x="1353766" y="362469"/>
                </a:lnTo>
                <a:close/>
                <a:moveTo>
                  <a:pt x="834777" y="362469"/>
                </a:moveTo>
                <a:lnTo>
                  <a:pt x="834777" y="365215"/>
                </a:lnTo>
                <a:lnTo>
                  <a:pt x="829285" y="365215"/>
                </a:lnTo>
                <a:lnTo>
                  <a:pt x="823793" y="365215"/>
                </a:lnTo>
                <a:lnTo>
                  <a:pt x="815555" y="367961"/>
                </a:lnTo>
                <a:lnTo>
                  <a:pt x="807317" y="376199"/>
                </a:lnTo>
                <a:lnTo>
                  <a:pt x="801825" y="381691"/>
                </a:lnTo>
                <a:lnTo>
                  <a:pt x="799080" y="378945"/>
                </a:lnTo>
                <a:lnTo>
                  <a:pt x="796334" y="381691"/>
                </a:lnTo>
                <a:lnTo>
                  <a:pt x="793587" y="387183"/>
                </a:lnTo>
                <a:lnTo>
                  <a:pt x="788095" y="392675"/>
                </a:lnTo>
                <a:lnTo>
                  <a:pt x="782603" y="395421"/>
                </a:lnTo>
                <a:lnTo>
                  <a:pt x="777112" y="395421"/>
                </a:lnTo>
                <a:lnTo>
                  <a:pt x="744160" y="395421"/>
                </a:lnTo>
                <a:lnTo>
                  <a:pt x="727684" y="398167"/>
                </a:lnTo>
                <a:lnTo>
                  <a:pt x="711208" y="403659"/>
                </a:lnTo>
                <a:lnTo>
                  <a:pt x="681002" y="414642"/>
                </a:lnTo>
                <a:lnTo>
                  <a:pt x="650797" y="428372"/>
                </a:lnTo>
                <a:lnTo>
                  <a:pt x="628829" y="436610"/>
                </a:lnTo>
                <a:lnTo>
                  <a:pt x="617845" y="436610"/>
                </a:lnTo>
                <a:lnTo>
                  <a:pt x="609607" y="436610"/>
                </a:lnTo>
                <a:lnTo>
                  <a:pt x="595877" y="431118"/>
                </a:lnTo>
                <a:lnTo>
                  <a:pt x="582147" y="420134"/>
                </a:lnTo>
                <a:lnTo>
                  <a:pt x="568417" y="411896"/>
                </a:lnTo>
                <a:lnTo>
                  <a:pt x="568417" y="422880"/>
                </a:lnTo>
                <a:lnTo>
                  <a:pt x="573909" y="431118"/>
                </a:lnTo>
                <a:lnTo>
                  <a:pt x="582147" y="439356"/>
                </a:lnTo>
                <a:lnTo>
                  <a:pt x="593131" y="444848"/>
                </a:lnTo>
                <a:lnTo>
                  <a:pt x="615099" y="453086"/>
                </a:lnTo>
                <a:lnTo>
                  <a:pt x="623337" y="458578"/>
                </a:lnTo>
                <a:lnTo>
                  <a:pt x="628829" y="466816"/>
                </a:lnTo>
                <a:lnTo>
                  <a:pt x="631574" y="472308"/>
                </a:lnTo>
                <a:lnTo>
                  <a:pt x="634321" y="469562"/>
                </a:lnTo>
                <a:lnTo>
                  <a:pt x="642559" y="475054"/>
                </a:lnTo>
                <a:lnTo>
                  <a:pt x="648051" y="480546"/>
                </a:lnTo>
                <a:lnTo>
                  <a:pt x="653542" y="486038"/>
                </a:lnTo>
                <a:lnTo>
                  <a:pt x="661780" y="497022"/>
                </a:lnTo>
                <a:lnTo>
                  <a:pt x="670018" y="508006"/>
                </a:lnTo>
                <a:lnTo>
                  <a:pt x="672764" y="510752"/>
                </a:lnTo>
                <a:lnTo>
                  <a:pt x="678256" y="513498"/>
                </a:lnTo>
                <a:lnTo>
                  <a:pt x="691986" y="499768"/>
                </a:lnTo>
                <a:lnTo>
                  <a:pt x="716700" y="480546"/>
                </a:lnTo>
                <a:lnTo>
                  <a:pt x="724938" y="475054"/>
                </a:lnTo>
                <a:lnTo>
                  <a:pt x="730430" y="466816"/>
                </a:lnTo>
                <a:lnTo>
                  <a:pt x="735922" y="461324"/>
                </a:lnTo>
                <a:lnTo>
                  <a:pt x="741414" y="453086"/>
                </a:lnTo>
                <a:lnTo>
                  <a:pt x="746906" y="450340"/>
                </a:lnTo>
                <a:lnTo>
                  <a:pt x="755144" y="447594"/>
                </a:lnTo>
                <a:lnTo>
                  <a:pt x="763382" y="447594"/>
                </a:lnTo>
                <a:lnTo>
                  <a:pt x="768874" y="442102"/>
                </a:lnTo>
                <a:lnTo>
                  <a:pt x="774366" y="433864"/>
                </a:lnTo>
                <a:lnTo>
                  <a:pt x="779857" y="422880"/>
                </a:lnTo>
                <a:lnTo>
                  <a:pt x="782603" y="414642"/>
                </a:lnTo>
                <a:lnTo>
                  <a:pt x="788095" y="406405"/>
                </a:lnTo>
                <a:lnTo>
                  <a:pt x="799080" y="400913"/>
                </a:lnTo>
                <a:lnTo>
                  <a:pt x="812809" y="398167"/>
                </a:lnTo>
                <a:lnTo>
                  <a:pt x="837523" y="392675"/>
                </a:lnTo>
                <a:lnTo>
                  <a:pt x="845761" y="389929"/>
                </a:lnTo>
                <a:lnTo>
                  <a:pt x="848507" y="384437"/>
                </a:lnTo>
                <a:lnTo>
                  <a:pt x="845761" y="378945"/>
                </a:lnTo>
                <a:lnTo>
                  <a:pt x="834777" y="365215"/>
                </a:lnTo>
                <a:lnTo>
                  <a:pt x="837523" y="365215"/>
                </a:lnTo>
                <a:lnTo>
                  <a:pt x="837523" y="362469"/>
                </a:lnTo>
                <a:lnTo>
                  <a:pt x="834777" y="362469"/>
                </a:lnTo>
                <a:close/>
                <a:moveTo>
                  <a:pt x="1537748" y="359723"/>
                </a:moveTo>
                <a:lnTo>
                  <a:pt x="1537748" y="365215"/>
                </a:lnTo>
                <a:lnTo>
                  <a:pt x="1540493" y="365215"/>
                </a:lnTo>
                <a:lnTo>
                  <a:pt x="1543239" y="362469"/>
                </a:lnTo>
                <a:lnTo>
                  <a:pt x="1545985" y="359723"/>
                </a:lnTo>
                <a:lnTo>
                  <a:pt x="1537748" y="359723"/>
                </a:lnTo>
                <a:close/>
                <a:moveTo>
                  <a:pt x="1458113" y="356977"/>
                </a:moveTo>
                <a:lnTo>
                  <a:pt x="1458113" y="362469"/>
                </a:lnTo>
                <a:lnTo>
                  <a:pt x="1458113" y="365215"/>
                </a:lnTo>
                <a:lnTo>
                  <a:pt x="1452622" y="367961"/>
                </a:lnTo>
                <a:lnTo>
                  <a:pt x="1449877" y="367961"/>
                </a:lnTo>
                <a:lnTo>
                  <a:pt x="1447130" y="373453"/>
                </a:lnTo>
                <a:lnTo>
                  <a:pt x="1447130" y="378945"/>
                </a:lnTo>
                <a:lnTo>
                  <a:pt x="1452622" y="376199"/>
                </a:lnTo>
                <a:lnTo>
                  <a:pt x="1458113" y="376199"/>
                </a:lnTo>
                <a:lnTo>
                  <a:pt x="1469098" y="378945"/>
                </a:lnTo>
                <a:lnTo>
                  <a:pt x="1469098" y="376199"/>
                </a:lnTo>
                <a:lnTo>
                  <a:pt x="1471844" y="376199"/>
                </a:lnTo>
                <a:lnTo>
                  <a:pt x="1474589" y="376199"/>
                </a:lnTo>
                <a:lnTo>
                  <a:pt x="1477335" y="373453"/>
                </a:lnTo>
                <a:lnTo>
                  <a:pt x="1477335" y="376199"/>
                </a:lnTo>
                <a:lnTo>
                  <a:pt x="1480081" y="376199"/>
                </a:lnTo>
                <a:lnTo>
                  <a:pt x="1480081" y="378945"/>
                </a:lnTo>
                <a:lnTo>
                  <a:pt x="1480081" y="381691"/>
                </a:lnTo>
                <a:lnTo>
                  <a:pt x="1474589" y="381691"/>
                </a:lnTo>
                <a:lnTo>
                  <a:pt x="1471844" y="378945"/>
                </a:lnTo>
                <a:lnTo>
                  <a:pt x="1466353" y="384437"/>
                </a:lnTo>
                <a:lnTo>
                  <a:pt x="1460859" y="387183"/>
                </a:lnTo>
                <a:lnTo>
                  <a:pt x="1458113" y="384437"/>
                </a:lnTo>
                <a:lnTo>
                  <a:pt x="1455368" y="389929"/>
                </a:lnTo>
                <a:lnTo>
                  <a:pt x="1455368" y="398167"/>
                </a:lnTo>
                <a:lnTo>
                  <a:pt x="1460859" y="395421"/>
                </a:lnTo>
                <a:lnTo>
                  <a:pt x="1463606" y="395421"/>
                </a:lnTo>
                <a:lnTo>
                  <a:pt x="1466353" y="398167"/>
                </a:lnTo>
                <a:lnTo>
                  <a:pt x="1469098" y="400913"/>
                </a:lnTo>
                <a:lnTo>
                  <a:pt x="1474589" y="400913"/>
                </a:lnTo>
                <a:lnTo>
                  <a:pt x="1480081" y="398167"/>
                </a:lnTo>
                <a:lnTo>
                  <a:pt x="1480081" y="400913"/>
                </a:lnTo>
                <a:lnTo>
                  <a:pt x="1485574" y="403659"/>
                </a:lnTo>
                <a:lnTo>
                  <a:pt x="1488320" y="403659"/>
                </a:lnTo>
                <a:lnTo>
                  <a:pt x="1491065" y="406405"/>
                </a:lnTo>
                <a:lnTo>
                  <a:pt x="1493811" y="403659"/>
                </a:lnTo>
                <a:lnTo>
                  <a:pt x="1499304" y="403659"/>
                </a:lnTo>
                <a:lnTo>
                  <a:pt x="1504796" y="406405"/>
                </a:lnTo>
                <a:lnTo>
                  <a:pt x="1510287" y="403659"/>
                </a:lnTo>
                <a:lnTo>
                  <a:pt x="1510287" y="398167"/>
                </a:lnTo>
                <a:lnTo>
                  <a:pt x="1507541" y="395421"/>
                </a:lnTo>
                <a:lnTo>
                  <a:pt x="1502050" y="395421"/>
                </a:lnTo>
                <a:lnTo>
                  <a:pt x="1496557" y="398167"/>
                </a:lnTo>
                <a:lnTo>
                  <a:pt x="1491065" y="400913"/>
                </a:lnTo>
                <a:lnTo>
                  <a:pt x="1491065" y="395421"/>
                </a:lnTo>
                <a:lnTo>
                  <a:pt x="1491065" y="392675"/>
                </a:lnTo>
                <a:lnTo>
                  <a:pt x="1496557" y="387183"/>
                </a:lnTo>
                <a:lnTo>
                  <a:pt x="1491065" y="384437"/>
                </a:lnTo>
                <a:lnTo>
                  <a:pt x="1488320" y="381691"/>
                </a:lnTo>
                <a:lnTo>
                  <a:pt x="1491065" y="378945"/>
                </a:lnTo>
                <a:lnTo>
                  <a:pt x="1491065" y="370707"/>
                </a:lnTo>
                <a:lnTo>
                  <a:pt x="1488320" y="370707"/>
                </a:lnTo>
                <a:lnTo>
                  <a:pt x="1482829" y="367961"/>
                </a:lnTo>
                <a:lnTo>
                  <a:pt x="1485574" y="367961"/>
                </a:lnTo>
                <a:lnTo>
                  <a:pt x="1485574" y="362469"/>
                </a:lnTo>
                <a:lnTo>
                  <a:pt x="1485574" y="359723"/>
                </a:lnTo>
                <a:lnTo>
                  <a:pt x="1480081" y="359723"/>
                </a:lnTo>
                <a:lnTo>
                  <a:pt x="1477335" y="359723"/>
                </a:lnTo>
                <a:lnTo>
                  <a:pt x="1477335" y="356977"/>
                </a:lnTo>
                <a:lnTo>
                  <a:pt x="1458113" y="356977"/>
                </a:lnTo>
                <a:close/>
                <a:moveTo>
                  <a:pt x="1422416" y="356977"/>
                </a:moveTo>
                <a:lnTo>
                  <a:pt x="1416924" y="359723"/>
                </a:lnTo>
                <a:lnTo>
                  <a:pt x="1416924" y="373453"/>
                </a:lnTo>
                <a:lnTo>
                  <a:pt x="1425162" y="376199"/>
                </a:lnTo>
                <a:lnTo>
                  <a:pt x="1430655" y="376199"/>
                </a:lnTo>
                <a:lnTo>
                  <a:pt x="1436146" y="376199"/>
                </a:lnTo>
                <a:lnTo>
                  <a:pt x="1436146" y="370707"/>
                </a:lnTo>
                <a:lnTo>
                  <a:pt x="1436146" y="367961"/>
                </a:lnTo>
                <a:lnTo>
                  <a:pt x="1433400" y="359723"/>
                </a:lnTo>
                <a:lnTo>
                  <a:pt x="1425162" y="356977"/>
                </a:lnTo>
                <a:lnTo>
                  <a:pt x="1422416" y="356977"/>
                </a:lnTo>
                <a:close/>
                <a:moveTo>
                  <a:pt x="1370242" y="356977"/>
                </a:moveTo>
                <a:lnTo>
                  <a:pt x="1372988" y="356977"/>
                </a:lnTo>
                <a:lnTo>
                  <a:pt x="1375736" y="359723"/>
                </a:lnTo>
                <a:lnTo>
                  <a:pt x="1372988" y="362469"/>
                </a:lnTo>
                <a:lnTo>
                  <a:pt x="1370242" y="356977"/>
                </a:lnTo>
                <a:close/>
                <a:moveTo>
                  <a:pt x="6573869" y="354231"/>
                </a:moveTo>
                <a:lnTo>
                  <a:pt x="6571123" y="356977"/>
                </a:lnTo>
                <a:lnTo>
                  <a:pt x="6565631" y="359723"/>
                </a:lnTo>
                <a:lnTo>
                  <a:pt x="6560139" y="362469"/>
                </a:lnTo>
                <a:lnTo>
                  <a:pt x="6549155" y="367961"/>
                </a:lnTo>
                <a:lnTo>
                  <a:pt x="6549155" y="376199"/>
                </a:lnTo>
                <a:lnTo>
                  <a:pt x="6549155" y="381691"/>
                </a:lnTo>
                <a:lnTo>
                  <a:pt x="6551901" y="384437"/>
                </a:lnTo>
                <a:lnTo>
                  <a:pt x="6554647" y="389929"/>
                </a:lnTo>
                <a:lnTo>
                  <a:pt x="6557393" y="398166"/>
                </a:lnTo>
                <a:lnTo>
                  <a:pt x="6565631" y="403658"/>
                </a:lnTo>
                <a:lnTo>
                  <a:pt x="6573869" y="406404"/>
                </a:lnTo>
                <a:lnTo>
                  <a:pt x="6582107" y="411896"/>
                </a:lnTo>
                <a:lnTo>
                  <a:pt x="6521695" y="486038"/>
                </a:lnTo>
                <a:lnTo>
                  <a:pt x="6516203" y="486038"/>
                </a:lnTo>
                <a:lnTo>
                  <a:pt x="6518949" y="488784"/>
                </a:lnTo>
                <a:lnTo>
                  <a:pt x="6370666" y="670018"/>
                </a:lnTo>
                <a:lnTo>
                  <a:pt x="6354190" y="670018"/>
                </a:lnTo>
                <a:lnTo>
                  <a:pt x="6337715" y="672764"/>
                </a:lnTo>
                <a:lnTo>
                  <a:pt x="6321239" y="678256"/>
                </a:lnTo>
                <a:lnTo>
                  <a:pt x="6304763" y="683748"/>
                </a:lnTo>
                <a:lnTo>
                  <a:pt x="6277303" y="697478"/>
                </a:lnTo>
                <a:lnTo>
                  <a:pt x="6255335" y="711208"/>
                </a:lnTo>
                <a:lnTo>
                  <a:pt x="6263573" y="713954"/>
                </a:lnTo>
                <a:lnTo>
                  <a:pt x="6274557" y="713954"/>
                </a:lnTo>
                <a:lnTo>
                  <a:pt x="6291033" y="711208"/>
                </a:lnTo>
                <a:lnTo>
                  <a:pt x="6307509" y="705716"/>
                </a:lnTo>
                <a:lnTo>
                  <a:pt x="6318493" y="702970"/>
                </a:lnTo>
                <a:lnTo>
                  <a:pt x="6326731" y="702970"/>
                </a:lnTo>
                <a:lnTo>
                  <a:pt x="6329477" y="708462"/>
                </a:lnTo>
                <a:lnTo>
                  <a:pt x="6334969" y="711208"/>
                </a:lnTo>
                <a:lnTo>
                  <a:pt x="6340461" y="708462"/>
                </a:lnTo>
                <a:lnTo>
                  <a:pt x="6345952" y="705716"/>
                </a:lnTo>
                <a:lnTo>
                  <a:pt x="6546409" y="906172"/>
                </a:lnTo>
                <a:lnTo>
                  <a:pt x="6521695" y="917156"/>
                </a:lnTo>
                <a:lnTo>
                  <a:pt x="6513457" y="922648"/>
                </a:lnTo>
                <a:lnTo>
                  <a:pt x="6505219" y="930886"/>
                </a:lnTo>
                <a:lnTo>
                  <a:pt x="6532679" y="936378"/>
                </a:lnTo>
                <a:lnTo>
                  <a:pt x="6543663" y="939124"/>
                </a:lnTo>
                <a:lnTo>
                  <a:pt x="6551901" y="936378"/>
                </a:lnTo>
                <a:lnTo>
                  <a:pt x="6560139" y="933632"/>
                </a:lnTo>
                <a:lnTo>
                  <a:pt x="6565631" y="928140"/>
                </a:lnTo>
                <a:lnTo>
                  <a:pt x="6571123" y="930886"/>
                </a:lnTo>
                <a:lnTo>
                  <a:pt x="6571123" y="933632"/>
                </a:lnTo>
                <a:lnTo>
                  <a:pt x="6571123" y="939124"/>
                </a:lnTo>
                <a:lnTo>
                  <a:pt x="6573869" y="941870"/>
                </a:lnTo>
                <a:lnTo>
                  <a:pt x="6576615" y="941870"/>
                </a:lnTo>
                <a:lnTo>
                  <a:pt x="6579361" y="941870"/>
                </a:lnTo>
                <a:lnTo>
                  <a:pt x="6587599" y="950108"/>
                </a:lnTo>
                <a:lnTo>
                  <a:pt x="6573869" y="950108"/>
                </a:lnTo>
                <a:lnTo>
                  <a:pt x="6562885" y="952854"/>
                </a:lnTo>
                <a:lnTo>
                  <a:pt x="6546409" y="963838"/>
                </a:lnTo>
                <a:lnTo>
                  <a:pt x="6538171" y="966584"/>
                </a:lnTo>
                <a:lnTo>
                  <a:pt x="6532679" y="969330"/>
                </a:lnTo>
                <a:lnTo>
                  <a:pt x="6524441" y="969330"/>
                </a:lnTo>
                <a:lnTo>
                  <a:pt x="6518949" y="966584"/>
                </a:lnTo>
                <a:lnTo>
                  <a:pt x="6516203" y="961092"/>
                </a:lnTo>
                <a:lnTo>
                  <a:pt x="6516203" y="955600"/>
                </a:lnTo>
                <a:lnTo>
                  <a:pt x="6516203" y="947362"/>
                </a:lnTo>
                <a:lnTo>
                  <a:pt x="6513457" y="944616"/>
                </a:lnTo>
                <a:lnTo>
                  <a:pt x="6510711" y="941870"/>
                </a:lnTo>
                <a:lnTo>
                  <a:pt x="6507965" y="944616"/>
                </a:lnTo>
                <a:lnTo>
                  <a:pt x="6505219" y="944616"/>
                </a:lnTo>
                <a:lnTo>
                  <a:pt x="6499727" y="944616"/>
                </a:lnTo>
                <a:lnTo>
                  <a:pt x="6496981" y="936378"/>
                </a:lnTo>
                <a:lnTo>
                  <a:pt x="6494235" y="928140"/>
                </a:lnTo>
                <a:lnTo>
                  <a:pt x="6491489" y="919902"/>
                </a:lnTo>
                <a:lnTo>
                  <a:pt x="6488743" y="917156"/>
                </a:lnTo>
                <a:lnTo>
                  <a:pt x="6483251" y="914410"/>
                </a:lnTo>
                <a:lnTo>
                  <a:pt x="6480505" y="919902"/>
                </a:lnTo>
                <a:lnTo>
                  <a:pt x="6477759" y="922648"/>
                </a:lnTo>
                <a:lnTo>
                  <a:pt x="6483251" y="930886"/>
                </a:lnTo>
                <a:lnTo>
                  <a:pt x="6483251" y="936378"/>
                </a:lnTo>
                <a:lnTo>
                  <a:pt x="6480505" y="941870"/>
                </a:lnTo>
                <a:lnTo>
                  <a:pt x="6477759" y="944616"/>
                </a:lnTo>
                <a:lnTo>
                  <a:pt x="6464030" y="950108"/>
                </a:lnTo>
                <a:lnTo>
                  <a:pt x="6458538" y="955600"/>
                </a:lnTo>
                <a:lnTo>
                  <a:pt x="6464030" y="958346"/>
                </a:lnTo>
                <a:lnTo>
                  <a:pt x="6466776" y="963838"/>
                </a:lnTo>
                <a:lnTo>
                  <a:pt x="6466776" y="966584"/>
                </a:lnTo>
                <a:lnTo>
                  <a:pt x="6461284" y="974822"/>
                </a:lnTo>
                <a:lnTo>
                  <a:pt x="6453046" y="980314"/>
                </a:lnTo>
                <a:lnTo>
                  <a:pt x="6439316" y="985806"/>
                </a:lnTo>
                <a:lnTo>
                  <a:pt x="6425586" y="991298"/>
                </a:lnTo>
                <a:lnTo>
                  <a:pt x="6414602" y="991298"/>
                </a:lnTo>
                <a:lnTo>
                  <a:pt x="6403618" y="988552"/>
                </a:lnTo>
                <a:lnTo>
                  <a:pt x="6398126" y="985806"/>
                </a:lnTo>
                <a:lnTo>
                  <a:pt x="6398126" y="980314"/>
                </a:lnTo>
                <a:lnTo>
                  <a:pt x="6395380" y="977568"/>
                </a:lnTo>
                <a:lnTo>
                  <a:pt x="6395380" y="969330"/>
                </a:lnTo>
                <a:lnTo>
                  <a:pt x="6395380" y="966584"/>
                </a:lnTo>
                <a:lnTo>
                  <a:pt x="6395380" y="963838"/>
                </a:lnTo>
                <a:lnTo>
                  <a:pt x="6384396" y="961092"/>
                </a:lnTo>
                <a:lnTo>
                  <a:pt x="6370666" y="961092"/>
                </a:lnTo>
                <a:lnTo>
                  <a:pt x="6356936" y="963838"/>
                </a:lnTo>
                <a:lnTo>
                  <a:pt x="6365174" y="977568"/>
                </a:lnTo>
                <a:lnTo>
                  <a:pt x="6367920" y="994044"/>
                </a:lnTo>
                <a:lnTo>
                  <a:pt x="6373412" y="1007774"/>
                </a:lnTo>
                <a:lnTo>
                  <a:pt x="6381650" y="1021504"/>
                </a:lnTo>
                <a:lnTo>
                  <a:pt x="6074986" y="1052594"/>
                </a:lnTo>
                <a:lnTo>
                  <a:pt x="6079593" y="1057201"/>
                </a:lnTo>
                <a:lnTo>
                  <a:pt x="6082339" y="1065439"/>
                </a:lnTo>
                <a:lnTo>
                  <a:pt x="6079593" y="1081915"/>
                </a:lnTo>
                <a:lnTo>
                  <a:pt x="6076847" y="1098391"/>
                </a:lnTo>
                <a:lnTo>
                  <a:pt x="6074101" y="1114867"/>
                </a:lnTo>
                <a:lnTo>
                  <a:pt x="6074101" y="1125850"/>
                </a:lnTo>
                <a:lnTo>
                  <a:pt x="6075474" y="1129969"/>
                </a:lnTo>
                <a:lnTo>
                  <a:pt x="6071355" y="1125850"/>
                </a:lnTo>
                <a:lnTo>
                  <a:pt x="6063117" y="1123104"/>
                </a:lnTo>
                <a:lnTo>
                  <a:pt x="6054879" y="1120359"/>
                </a:lnTo>
                <a:lnTo>
                  <a:pt x="6047557" y="1120359"/>
                </a:lnTo>
                <a:lnTo>
                  <a:pt x="6049387" y="1114867"/>
                </a:lnTo>
                <a:lnTo>
                  <a:pt x="6049387" y="1095645"/>
                </a:lnTo>
                <a:lnTo>
                  <a:pt x="6047204" y="1080360"/>
                </a:lnTo>
                <a:lnTo>
                  <a:pt x="6065863" y="1081915"/>
                </a:lnTo>
                <a:lnTo>
                  <a:pt x="6052133" y="1057201"/>
                </a:lnTo>
                <a:lnTo>
                  <a:pt x="6049387" y="1068185"/>
                </a:lnTo>
                <a:lnTo>
                  <a:pt x="6046642" y="1076423"/>
                </a:lnTo>
                <a:lnTo>
                  <a:pt x="6047204" y="1080360"/>
                </a:lnTo>
                <a:lnTo>
                  <a:pt x="6032912" y="1079169"/>
                </a:lnTo>
                <a:lnTo>
                  <a:pt x="5999960" y="1081915"/>
                </a:lnTo>
                <a:lnTo>
                  <a:pt x="5936802" y="1090153"/>
                </a:lnTo>
                <a:lnTo>
                  <a:pt x="5919059" y="1091631"/>
                </a:lnTo>
                <a:lnTo>
                  <a:pt x="5920326" y="1092899"/>
                </a:lnTo>
                <a:lnTo>
                  <a:pt x="5923072" y="1095645"/>
                </a:lnTo>
                <a:lnTo>
                  <a:pt x="5923072" y="1101137"/>
                </a:lnTo>
                <a:lnTo>
                  <a:pt x="5920326" y="1103883"/>
                </a:lnTo>
                <a:lnTo>
                  <a:pt x="5914834" y="1103883"/>
                </a:lnTo>
                <a:lnTo>
                  <a:pt x="5898359" y="1101137"/>
                </a:lnTo>
                <a:lnTo>
                  <a:pt x="5881883" y="1101137"/>
                </a:lnTo>
                <a:lnTo>
                  <a:pt x="5862661" y="1101137"/>
                </a:lnTo>
                <a:lnTo>
                  <a:pt x="5840693" y="1101137"/>
                </a:lnTo>
                <a:lnTo>
                  <a:pt x="5837947" y="1101137"/>
                </a:lnTo>
                <a:lnTo>
                  <a:pt x="5837947" y="1098391"/>
                </a:lnTo>
                <a:lnTo>
                  <a:pt x="5840693" y="1090153"/>
                </a:lnTo>
                <a:lnTo>
                  <a:pt x="5843211" y="1087636"/>
                </a:lnTo>
                <a:lnTo>
                  <a:pt x="5840693" y="1087407"/>
                </a:lnTo>
                <a:lnTo>
                  <a:pt x="5815252" y="1078926"/>
                </a:lnTo>
                <a:lnTo>
                  <a:pt x="5785773" y="1081915"/>
                </a:lnTo>
                <a:lnTo>
                  <a:pt x="5761059" y="1084661"/>
                </a:lnTo>
                <a:lnTo>
                  <a:pt x="5741837" y="1070931"/>
                </a:lnTo>
                <a:lnTo>
                  <a:pt x="5733600" y="1062693"/>
                </a:lnTo>
                <a:lnTo>
                  <a:pt x="5725362" y="1057201"/>
                </a:lnTo>
                <a:lnTo>
                  <a:pt x="5719870" y="1057201"/>
                </a:lnTo>
                <a:lnTo>
                  <a:pt x="5711632" y="1057201"/>
                </a:lnTo>
                <a:lnTo>
                  <a:pt x="5700648" y="1062693"/>
                </a:lnTo>
                <a:lnTo>
                  <a:pt x="5692410" y="1068185"/>
                </a:lnTo>
                <a:lnTo>
                  <a:pt x="5689664" y="1068185"/>
                </a:lnTo>
                <a:lnTo>
                  <a:pt x="5684172" y="1068185"/>
                </a:lnTo>
                <a:lnTo>
                  <a:pt x="5681426" y="1065439"/>
                </a:lnTo>
                <a:lnTo>
                  <a:pt x="5681426" y="1062693"/>
                </a:lnTo>
                <a:lnTo>
                  <a:pt x="5681426" y="1057201"/>
                </a:lnTo>
                <a:lnTo>
                  <a:pt x="5681426" y="1054455"/>
                </a:lnTo>
                <a:lnTo>
                  <a:pt x="5675934" y="1051709"/>
                </a:lnTo>
                <a:lnTo>
                  <a:pt x="5656712" y="1051709"/>
                </a:lnTo>
                <a:lnTo>
                  <a:pt x="5631998" y="1051709"/>
                </a:lnTo>
                <a:lnTo>
                  <a:pt x="5577079" y="1059947"/>
                </a:lnTo>
                <a:lnTo>
                  <a:pt x="5549619" y="1068185"/>
                </a:lnTo>
                <a:lnTo>
                  <a:pt x="5524905" y="1076423"/>
                </a:lnTo>
                <a:lnTo>
                  <a:pt x="5502937" y="1084661"/>
                </a:lnTo>
                <a:lnTo>
                  <a:pt x="5489208" y="1092899"/>
                </a:lnTo>
                <a:lnTo>
                  <a:pt x="5480970" y="1095645"/>
                </a:lnTo>
                <a:lnTo>
                  <a:pt x="5475478" y="1095645"/>
                </a:lnTo>
                <a:lnTo>
                  <a:pt x="5469986" y="1090153"/>
                </a:lnTo>
                <a:lnTo>
                  <a:pt x="5461748" y="1090153"/>
                </a:lnTo>
                <a:lnTo>
                  <a:pt x="5459002" y="1084661"/>
                </a:lnTo>
                <a:lnTo>
                  <a:pt x="5456256" y="1084661"/>
                </a:lnTo>
                <a:lnTo>
                  <a:pt x="5456256" y="1090153"/>
                </a:lnTo>
                <a:lnTo>
                  <a:pt x="5459002" y="1090153"/>
                </a:lnTo>
                <a:lnTo>
                  <a:pt x="5439780" y="1095645"/>
                </a:lnTo>
                <a:lnTo>
                  <a:pt x="5420558" y="1106629"/>
                </a:lnTo>
                <a:lnTo>
                  <a:pt x="5392376" y="1119636"/>
                </a:lnTo>
                <a:lnTo>
                  <a:pt x="5394625" y="1121884"/>
                </a:lnTo>
                <a:lnTo>
                  <a:pt x="5406828" y="1120359"/>
                </a:lnTo>
                <a:lnTo>
                  <a:pt x="5439780" y="1117613"/>
                </a:lnTo>
                <a:lnTo>
                  <a:pt x="5394987" y="1122246"/>
                </a:lnTo>
                <a:lnTo>
                  <a:pt x="5395844" y="1123104"/>
                </a:lnTo>
                <a:lnTo>
                  <a:pt x="5406828" y="1136834"/>
                </a:lnTo>
                <a:lnTo>
                  <a:pt x="5406828" y="1140495"/>
                </a:lnTo>
                <a:lnTo>
                  <a:pt x="5409574" y="1139580"/>
                </a:lnTo>
                <a:lnTo>
                  <a:pt x="5428796" y="1125850"/>
                </a:lnTo>
                <a:lnTo>
                  <a:pt x="5448018" y="1117612"/>
                </a:lnTo>
                <a:lnTo>
                  <a:pt x="5469986" y="1109374"/>
                </a:lnTo>
                <a:lnTo>
                  <a:pt x="5491954" y="1106628"/>
                </a:lnTo>
                <a:lnTo>
                  <a:pt x="5502388" y="1106628"/>
                </a:lnTo>
                <a:lnTo>
                  <a:pt x="5505683" y="1098391"/>
                </a:lnTo>
                <a:lnTo>
                  <a:pt x="5508429" y="1095645"/>
                </a:lnTo>
                <a:lnTo>
                  <a:pt x="5511175" y="1095645"/>
                </a:lnTo>
                <a:lnTo>
                  <a:pt x="5516667" y="1095645"/>
                </a:lnTo>
                <a:lnTo>
                  <a:pt x="5519413" y="1101137"/>
                </a:lnTo>
                <a:lnTo>
                  <a:pt x="5519413" y="1103883"/>
                </a:lnTo>
                <a:lnTo>
                  <a:pt x="5519413" y="1108688"/>
                </a:lnTo>
                <a:lnTo>
                  <a:pt x="5533143" y="1112120"/>
                </a:lnTo>
                <a:lnTo>
                  <a:pt x="5549619" y="1123104"/>
                </a:lnTo>
                <a:lnTo>
                  <a:pt x="5552365" y="1125850"/>
                </a:lnTo>
                <a:lnTo>
                  <a:pt x="5549619" y="1128596"/>
                </a:lnTo>
                <a:lnTo>
                  <a:pt x="5524905" y="1120358"/>
                </a:lnTo>
                <a:lnTo>
                  <a:pt x="5500192" y="1120358"/>
                </a:lnTo>
                <a:lnTo>
                  <a:pt x="5472732" y="1123104"/>
                </a:lnTo>
                <a:lnTo>
                  <a:pt x="5448018" y="1131342"/>
                </a:lnTo>
                <a:lnTo>
                  <a:pt x="5437034" y="1136834"/>
                </a:lnTo>
                <a:lnTo>
                  <a:pt x="5423304" y="1147818"/>
                </a:lnTo>
                <a:lnTo>
                  <a:pt x="5406828" y="1156056"/>
                </a:lnTo>
                <a:lnTo>
                  <a:pt x="5402709" y="1156056"/>
                </a:lnTo>
                <a:lnTo>
                  <a:pt x="5393099" y="1175277"/>
                </a:lnTo>
                <a:lnTo>
                  <a:pt x="5387607" y="1194499"/>
                </a:lnTo>
                <a:lnTo>
                  <a:pt x="5384861" y="1213721"/>
                </a:lnTo>
                <a:lnTo>
                  <a:pt x="5382548" y="1232220"/>
                </a:lnTo>
                <a:lnTo>
                  <a:pt x="5382115" y="1227451"/>
                </a:lnTo>
                <a:lnTo>
                  <a:pt x="5379369" y="1197245"/>
                </a:lnTo>
                <a:lnTo>
                  <a:pt x="5373877" y="1175277"/>
                </a:lnTo>
                <a:lnTo>
                  <a:pt x="5373877" y="1164294"/>
                </a:lnTo>
                <a:lnTo>
                  <a:pt x="5376623" y="1156056"/>
                </a:lnTo>
                <a:lnTo>
                  <a:pt x="5379369" y="1136834"/>
                </a:lnTo>
                <a:lnTo>
                  <a:pt x="5379369" y="1131342"/>
                </a:lnTo>
                <a:lnTo>
                  <a:pt x="5376959" y="1124111"/>
                </a:lnTo>
                <a:lnTo>
                  <a:pt x="5360147" y="1125851"/>
                </a:lnTo>
                <a:lnTo>
                  <a:pt x="5362893" y="1123105"/>
                </a:lnTo>
                <a:lnTo>
                  <a:pt x="5362893" y="1116697"/>
                </a:lnTo>
                <a:lnTo>
                  <a:pt x="5351909" y="1114866"/>
                </a:lnTo>
                <a:lnTo>
                  <a:pt x="5349163" y="1112120"/>
                </a:lnTo>
                <a:lnTo>
                  <a:pt x="5346417" y="1109374"/>
                </a:lnTo>
                <a:lnTo>
                  <a:pt x="5349163" y="1106629"/>
                </a:lnTo>
                <a:lnTo>
                  <a:pt x="5338179" y="1106629"/>
                </a:lnTo>
                <a:lnTo>
                  <a:pt x="5310719" y="1106629"/>
                </a:lnTo>
                <a:lnTo>
                  <a:pt x="5296989" y="1103883"/>
                </a:lnTo>
                <a:lnTo>
                  <a:pt x="5283259" y="1101137"/>
                </a:lnTo>
                <a:lnTo>
                  <a:pt x="5272275" y="1095645"/>
                </a:lnTo>
                <a:lnTo>
                  <a:pt x="5264037" y="1087407"/>
                </a:lnTo>
                <a:lnTo>
                  <a:pt x="5269529" y="1087407"/>
                </a:lnTo>
                <a:lnTo>
                  <a:pt x="5266783" y="1081915"/>
                </a:lnTo>
                <a:lnTo>
                  <a:pt x="5258545" y="1079169"/>
                </a:lnTo>
                <a:lnTo>
                  <a:pt x="5255799" y="1070931"/>
                </a:lnTo>
                <a:lnTo>
                  <a:pt x="5261291" y="1073677"/>
                </a:lnTo>
                <a:lnTo>
                  <a:pt x="5261291" y="1068185"/>
                </a:lnTo>
                <a:lnTo>
                  <a:pt x="5255799" y="1068185"/>
                </a:lnTo>
                <a:lnTo>
                  <a:pt x="5244816" y="1073677"/>
                </a:lnTo>
                <a:lnTo>
                  <a:pt x="5242070" y="1076423"/>
                </a:lnTo>
                <a:lnTo>
                  <a:pt x="5239324" y="1084661"/>
                </a:lnTo>
                <a:lnTo>
                  <a:pt x="5236578" y="1090153"/>
                </a:lnTo>
                <a:lnTo>
                  <a:pt x="5233832" y="1087407"/>
                </a:lnTo>
                <a:lnTo>
                  <a:pt x="5228340" y="1087407"/>
                </a:lnTo>
                <a:lnTo>
                  <a:pt x="5225594" y="1090153"/>
                </a:lnTo>
                <a:lnTo>
                  <a:pt x="5217356" y="1095645"/>
                </a:lnTo>
                <a:lnTo>
                  <a:pt x="5198134" y="1098391"/>
                </a:lnTo>
                <a:lnTo>
                  <a:pt x="5198134" y="1095645"/>
                </a:lnTo>
                <a:lnTo>
                  <a:pt x="5200880" y="1095645"/>
                </a:lnTo>
                <a:lnTo>
                  <a:pt x="5203626" y="1095645"/>
                </a:lnTo>
                <a:lnTo>
                  <a:pt x="5203626" y="1092899"/>
                </a:lnTo>
                <a:lnTo>
                  <a:pt x="5200880" y="1092899"/>
                </a:lnTo>
                <a:lnTo>
                  <a:pt x="5200880" y="1090153"/>
                </a:lnTo>
                <a:lnTo>
                  <a:pt x="5192642" y="1095645"/>
                </a:lnTo>
                <a:lnTo>
                  <a:pt x="5189896" y="1098391"/>
                </a:lnTo>
                <a:lnTo>
                  <a:pt x="5187150" y="1098391"/>
                </a:lnTo>
                <a:lnTo>
                  <a:pt x="5181658" y="1098391"/>
                </a:lnTo>
                <a:lnTo>
                  <a:pt x="5176166" y="1095645"/>
                </a:lnTo>
                <a:lnTo>
                  <a:pt x="5176166" y="1092899"/>
                </a:lnTo>
                <a:lnTo>
                  <a:pt x="5181658" y="1092899"/>
                </a:lnTo>
                <a:lnTo>
                  <a:pt x="5181658" y="1087407"/>
                </a:lnTo>
                <a:lnTo>
                  <a:pt x="5176166" y="1090153"/>
                </a:lnTo>
                <a:lnTo>
                  <a:pt x="5167928" y="1090153"/>
                </a:lnTo>
                <a:lnTo>
                  <a:pt x="5156944" y="1087407"/>
                </a:lnTo>
                <a:lnTo>
                  <a:pt x="5154198" y="1092899"/>
                </a:lnTo>
                <a:lnTo>
                  <a:pt x="5151452" y="1094272"/>
                </a:lnTo>
                <a:lnTo>
                  <a:pt x="5151452" y="1092899"/>
                </a:lnTo>
                <a:lnTo>
                  <a:pt x="5143214" y="1092899"/>
                </a:lnTo>
                <a:lnTo>
                  <a:pt x="5148706" y="1106629"/>
                </a:lnTo>
                <a:lnTo>
                  <a:pt x="5134976" y="1106629"/>
                </a:lnTo>
                <a:lnTo>
                  <a:pt x="5134976" y="1103883"/>
                </a:lnTo>
                <a:lnTo>
                  <a:pt x="5129485" y="1101137"/>
                </a:lnTo>
                <a:lnTo>
                  <a:pt x="5132230" y="1103883"/>
                </a:lnTo>
                <a:lnTo>
                  <a:pt x="5129485" y="1106629"/>
                </a:lnTo>
                <a:lnTo>
                  <a:pt x="5129485" y="1109375"/>
                </a:lnTo>
                <a:lnTo>
                  <a:pt x="5134976" y="1109375"/>
                </a:lnTo>
                <a:lnTo>
                  <a:pt x="5137722" y="1117613"/>
                </a:lnTo>
                <a:lnTo>
                  <a:pt x="5140468" y="1120359"/>
                </a:lnTo>
                <a:lnTo>
                  <a:pt x="5143214" y="1123105"/>
                </a:lnTo>
                <a:lnTo>
                  <a:pt x="5145960" y="1120359"/>
                </a:lnTo>
                <a:lnTo>
                  <a:pt x="5151452" y="1120359"/>
                </a:lnTo>
                <a:lnTo>
                  <a:pt x="5151452" y="1123105"/>
                </a:lnTo>
                <a:lnTo>
                  <a:pt x="5156944" y="1120359"/>
                </a:lnTo>
                <a:lnTo>
                  <a:pt x="5176166" y="1120359"/>
                </a:lnTo>
                <a:lnTo>
                  <a:pt x="5173420" y="1125851"/>
                </a:lnTo>
                <a:lnTo>
                  <a:pt x="5170674" y="1128597"/>
                </a:lnTo>
                <a:lnTo>
                  <a:pt x="5165182" y="1125851"/>
                </a:lnTo>
                <a:lnTo>
                  <a:pt x="5162436" y="1125851"/>
                </a:lnTo>
                <a:lnTo>
                  <a:pt x="5159690" y="1125851"/>
                </a:lnTo>
                <a:lnTo>
                  <a:pt x="5159690" y="1134089"/>
                </a:lnTo>
                <a:lnTo>
                  <a:pt x="5162436" y="1139581"/>
                </a:lnTo>
                <a:lnTo>
                  <a:pt x="5165182" y="1136835"/>
                </a:lnTo>
                <a:lnTo>
                  <a:pt x="5170674" y="1136835"/>
                </a:lnTo>
                <a:lnTo>
                  <a:pt x="5170674" y="1131343"/>
                </a:lnTo>
                <a:lnTo>
                  <a:pt x="5173420" y="1128597"/>
                </a:lnTo>
                <a:lnTo>
                  <a:pt x="5181658" y="1128597"/>
                </a:lnTo>
                <a:lnTo>
                  <a:pt x="5187150" y="1131343"/>
                </a:lnTo>
                <a:lnTo>
                  <a:pt x="5192642" y="1128597"/>
                </a:lnTo>
                <a:lnTo>
                  <a:pt x="5195388" y="1125851"/>
                </a:lnTo>
                <a:lnTo>
                  <a:pt x="5192642" y="1123105"/>
                </a:lnTo>
                <a:lnTo>
                  <a:pt x="5195388" y="1120359"/>
                </a:lnTo>
                <a:lnTo>
                  <a:pt x="5198134" y="1120359"/>
                </a:lnTo>
                <a:lnTo>
                  <a:pt x="5200880" y="1120359"/>
                </a:lnTo>
                <a:lnTo>
                  <a:pt x="5200880" y="1125851"/>
                </a:lnTo>
                <a:lnTo>
                  <a:pt x="5200880" y="1131343"/>
                </a:lnTo>
                <a:lnTo>
                  <a:pt x="5200880" y="1134088"/>
                </a:lnTo>
                <a:lnTo>
                  <a:pt x="5220102" y="1129282"/>
                </a:lnTo>
                <a:lnTo>
                  <a:pt x="5220102" y="1128597"/>
                </a:lnTo>
                <a:lnTo>
                  <a:pt x="5217356" y="1128597"/>
                </a:lnTo>
                <a:lnTo>
                  <a:pt x="5217356" y="1125851"/>
                </a:lnTo>
                <a:lnTo>
                  <a:pt x="5220102" y="1123105"/>
                </a:lnTo>
                <a:lnTo>
                  <a:pt x="5217356" y="1120359"/>
                </a:lnTo>
                <a:lnTo>
                  <a:pt x="5211864" y="1117613"/>
                </a:lnTo>
                <a:lnTo>
                  <a:pt x="5244816" y="1120359"/>
                </a:lnTo>
                <a:lnTo>
                  <a:pt x="5247561" y="1121274"/>
                </a:lnTo>
                <a:lnTo>
                  <a:pt x="5296989" y="1106628"/>
                </a:lnTo>
                <a:lnTo>
                  <a:pt x="5299735" y="1106628"/>
                </a:lnTo>
                <a:lnTo>
                  <a:pt x="5299735" y="1109374"/>
                </a:lnTo>
                <a:lnTo>
                  <a:pt x="5299735" y="1112120"/>
                </a:lnTo>
                <a:lnTo>
                  <a:pt x="5288751" y="1120358"/>
                </a:lnTo>
                <a:lnTo>
                  <a:pt x="5277767" y="1125850"/>
                </a:lnTo>
                <a:lnTo>
                  <a:pt x="5269921" y="1128792"/>
                </a:lnTo>
                <a:lnTo>
                  <a:pt x="5280513" y="1134089"/>
                </a:lnTo>
                <a:lnTo>
                  <a:pt x="5239324" y="1139581"/>
                </a:lnTo>
                <a:lnTo>
                  <a:pt x="5239324" y="1137556"/>
                </a:lnTo>
                <a:lnTo>
                  <a:pt x="5225993" y="1140363"/>
                </a:lnTo>
                <a:lnTo>
                  <a:pt x="5220102" y="1142327"/>
                </a:lnTo>
                <a:lnTo>
                  <a:pt x="5221019" y="1141410"/>
                </a:lnTo>
                <a:lnTo>
                  <a:pt x="5203626" y="1145072"/>
                </a:lnTo>
                <a:lnTo>
                  <a:pt x="5173420" y="1156056"/>
                </a:lnTo>
                <a:lnTo>
                  <a:pt x="5162436" y="1158802"/>
                </a:lnTo>
                <a:lnTo>
                  <a:pt x="5159690" y="1164294"/>
                </a:lnTo>
                <a:lnTo>
                  <a:pt x="5156944" y="1169785"/>
                </a:lnTo>
                <a:lnTo>
                  <a:pt x="5151452" y="1175277"/>
                </a:lnTo>
                <a:lnTo>
                  <a:pt x="5145961" y="1180769"/>
                </a:lnTo>
                <a:lnTo>
                  <a:pt x="5140469" y="1183515"/>
                </a:lnTo>
                <a:lnTo>
                  <a:pt x="5115755" y="1189007"/>
                </a:lnTo>
                <a:lnTo>
                  <a:pt x="5091041" y="1191753"/>
                </a:lnTo>
                <a:lnTo>
                  <a:pt x="5069989" y="1191753"/>
                </a:lnTo>
                <a:lnTo>
                  <a:pt x="5077311" y="1186261"/>
                </a:lnTo>
                <a:lnTo>
                  <a:pt x="5085549" y="1172531"/>
                </a:lnTo>
                <a:lnTo>
                  <a:pt x="5047105" y="1183515"/>
                </a:lnTo>
                <a:lnTo>
                  <a:pt x="5055343" y="1189007"/>
                </a:lnTo>
                <a:lnTo>
                  <a:pt x="5066327" y="1191753"/>
                </a:lnTo>
                <a:lnTo>
                  <a:pt x="5069989" y="1191753"/>
                </a:lnTo>
                <a:lnTo>
                  <a:pt x="5066327" y="1194499"/>
                </a:lnTo>
                <a:lnTo>
                  <a:pt x="5052597" y="1199991"/>
                </a:lnTo>
                <a:lnTo>
                  <a:pt x="5038867" y="1199991"/>
                </a:lnTo>
                <a:lnTo>
                  <a:pt x="5030630" y="1197245"/>
                </a:lnTo>
                <a:lnTo>
                  <a:pt x="5027884" y="1191753"/>
                </a:lnTo>
                <a:lnTo>
                  <a:pt x="5019646" y="1180769"/>
                </a:lnTo>
                <a:lnTo>
                  <a:pt x="5016900" y="1175277"/>
                </a:lnTo>
                <a:lnTo>
                  <a:pt x="5014154" y="1172531"/>
                </a:lnTo>
                <a:lnTo>
                  <a:pt x="5003170" y="1167039"/>
                </a:lnTo>
                <a:lnTo>
                  <a:pt x="4997999" y="1164454"/>
                </a:lnTo>
                <a:lnTo>
                  <a:pt x="4843903" y="1180770"/>
                </a:lnTo>
                <a:lnTo>
                  <a:pt x="4838411" y="1180770"/>
                </a:lnTo>
                <a:lnTo>
                  <a:pt x="4835665" y="1180770"/>
                </a:lnTo>
                <a:lnTo>
                  <a:pt x="4769761" y="1189008"/>
                </a:lnTo>
                <a:lnTo>
                  <a:pt x="4764270" y="1180770"/>
                </a:lnTo>
                <a:lnTo>
                  <a:pt x="4753286" y="1178024"/>
                </a:lnTo>
                <a:lnTo>
                  <a:pt x="4745048" y="1175278"/>
                </a:lnTo>
                <a:lnTo>
                  <a:pt x="4736810" y="1169786"/>
                </a:lnTo>
                <a:lnTo>
                  <a:pt x="4728572" y="1175278"/>
                </a:lnTo>
                <a:lnTo>
                  <a:pt x="4720334" y="1178024"/>
                </a:lnTo>
                <a:lnTo>
                  <a:pt x="4712096" y="1180770"/>
                </a:lnTo>
                <a:lnTo>
                  <a:pt x="4706604" y="1183516"/>
                </a:lnTo>
                <a:lnTo>
                  <a:pt x="4706604" y="1189008"/>
                </a:lnTo>
                <a:lnTo>
                  <a:pt x="4703858" y="1194500"/>
                </a:lnTo>
                <a:lnTo>
                  <a:pt x="4561067" y="1208230"/>
                </a:lnTo>
                <a:lnTo>
                  <a:pt x="4558321" y="1208230"/>
                </a:lnTo>
                <a:lnTo>
                  <a:pt x="4558321" y="1210976"/>
                </a:lnTo>
                <a:lnTo>
                  <a:pt x="4032232" y="1267167"/>
                </a:lnTo>
                <a:lnTo>
                  <a:pt x="4025601" y="1268640"/>
                </a:lnTo>
                <a:lnTo>
                  <a:pt x="4018437" y="1268640"/>
                </a:lnTo>
                <a:lnTo>
                  <a:pt x="3932144" y="1277857"/>
                </a:lnTo>
                <a:lnTo>
                  <a:pt x="3929493" y="1279625"/>
                </a:lnTo>
                <a:lnTo>
                  <a:pt x="3910271" y="1293355"/>
                </a:lnTo>
                <a:lnTo>
                  <a:pt x="3896541" y="1301593"/>
                </a:lnTo>
                <a:lnTo>
                  <a:pt x="3891049" y="1307085"/>
                </a:lnTo>
                <a:lnTo>
                  <a:pt x="3888303" y="1312577"/>
                </a:lnTo>
                <a:lnTo>
                  <a:pt x="3885557" y="1331798"/>
                </a:lnTo>
                <a:lnTo>
                  <a:pt x="3885557" y="1351020"/>
                </a:lnTo>
                <a:lnTo>
                  <a:pt x="3885557" y="1351020"/>
                </a:lnTo>
                <a:lnTo>
                  <a:pt x="3891049" y="1378480"/>
                </a:lnTo>
                <a:lnTo>
                  <a:pt x="3904779" y="1438891"/>
                </a:lnTo>
                <a:lnTo>
                  <a:pt x="3904779" y="1447129"/>
                </a:lnTo>
                <a:lnTo>
                  <a:pt x="3899287" y="1452621"/>
                </a:lnTo>
                <a:lnTo>
                  <a:pt x="3891049" y="1458113"/>
                </a:lnTo>
                <a:lnTo>
                  <a:pt x="3885557" y="1458113"/>
                </a:lnTo>
                <a:lnTo>
                  <a:pt x="3880065" y="1458113"/>
                </a:lnTo>
                <a:lnTo>
                  <a:pt x="3877319" y="1455367"/>
                </a:lnTo>
                <a:lnTo>
                  <a:pt x="3871827" y="1452621"/>
                </a:lnTo>
                <a:lnTo>
                  <a:pt x="3871827" y="1447129"/>
                </a:lnTo>
                <a:lnTo>
                  <a:pt x="3871827" y="1441637"/>
                </a:lnTo>
                <a:lnTo>
                  <a:pt x="3871827" y="1438891"/>
                </a:lnTo>
                <a:lnTo>
                  <a:pt x="3877319" y="1433399"/>
                </a:lnTo>
                <a:lnTo>
                  <a:pt x="3880065" y="1430653"/>
                </a:lnTo>
                <a:lnTo>
                  <a:pt x="3880065" y="1425161"/>
                </a:lnTo>
                <a:lnTo>
                  <a:pt x="3882811" y="1408686"/>
                </a:lnTo>
                <a:lnTo>
                  <a:pt x="3880065" y="1381226"/>
                </a:lnTo>
                <a:lnTo>
                  <a:pt x="3880065" y="1353766"/>
                </a:lnTo>
                <a:lnTo>
                  <a:pt x="3880065" y="1351020"/>
                </a:lnTo>
                <a:lnTo>
                  <a:pt x="3877319" y="1320815"/>
                </a:lnTo>
                <a:lnTo>
                  <a:pt x="3874573" y="1309831"/>
                </a:lnTo>
                <a:lnTo>
                  <a:pt x="3871827" y="1304339"/>
                </a:lnTo>
                <a:lnTo>
                  <a:pt x="3866335" y="1301593"/>
                </a:lnTo>
                <a:lnTo>
                  <a:pt x="3858098" y="1301593"/>
                </a:lnTo>
                <a:lnTo>
                  <a:pt x="3844368" y="1298847"/>
                </a:lnTo>
                <a:lnTo>
                  <a:pt x="3827892" y="1296101"/>
                </a:lnTo>
                <a:lnTo>
                  <a:pt x="3811416" y="1293355"/>
                </a:lnTo>
                <a:lnTo>
                  <a:pt x="3810500" y="1293355"/>
                </a:lnTo>
                <a:lnTo>
                  <a:pt x="3803178" y="1298847"/>
                </a:lnTo>
                <a:lnTo>
                  <a:pt x="3800432" y="1301593"/>
                </a:lnTo>
                <a:lnTo>
                  <a:pt x="3797686" y="1304339"/>
                </a:lnTo>
                <a:lnTo>
                  <a:pt x="3792194" y="1312577"/>
                </a:lnTo>
                <a:lnTo>
                  <a:pt x="3790197" y="1313076"/>
                </a:lnTo>
                <a:lnTo>
                  <a:pt x="3789448" y="1315323"/>
                </a:lnTo>
                <a:lnTo>
                  <a:pt x="3786702" y="1323561"/>
                </a:lnTo>
                <a:lnTo>
                  <a:pt x="3781654" y="1325244"/>
                </a:lnTo>
                <a:lnTo>
                  <a:pt x="3783956" y="1348275"/>
                </a:lnTo>
                <a:lnTo>
                  <a:pt x="3786702" y="1372988"/>
                </a:lnTo>
                <a:lnTo>
                  <a:pt x="3789448" y="1411432"/>
                </a:lnTo>
                <a:lnTo>
                  <a:pt x="3792194" y="1449876"/>
                </a:lnTo>
                <a:lnTo>
                  <a:pt x="3792194" y="1488319"/>
                </a:lnTo>
                <a:lnTo>
                  <a:pt x="3789448" y="1526763"/>
                </a:lnTo>
                <a:lnTo>
                  <a:pt x="3786702" y="1548731"/>
                </a:lnTo>
                <a:lnTo>
                  <a:pt x="3783956" y="1573445"/>
                </a:lnTo>
                <a:lnTo>
                  <a:pt x="3783956" y="1584429"/>
                </a:lnTo>
                <a:lnTo>
                  <a:pt x="3783956" y="1595412"/>
                </a:lnTo>
                <a:lnTo>
                  <a:pt x="3789448" y="1606396"/>
                </a:lnTo>
                <a:lnTo>
                  <a:pt x="3794940" y="1614634"/>
                </a:lnTo>
                <a:lnTo>
                  <a:pt x="3803178" y="1622872"/>
                </a:lnTo>
                <a:lnTo>
                  <a:pt x="3811416" y="1633856"/>
                </a:lnTo>
                <a:lnTo>
                  <a:pt x="3814162" y="1644840"/>
                </a:lnTo>
                <a:lnTo>
                  <a:pt x="3816908" y="1658570"/>
                </a:lnTo>
                <a:lnTo>
                  <a:pt x="3819654" y="1675046"/>
                </a:lnTo>
                <a:lnTo>
                  <a:pt x="3819654" y="1688776"/>
                </a:lnTo>
                <a:lnTo>
                  <a:pt x="3816908" y="1699760"/>
                </a:lnTo>
                <a:lnTo>
                  <a:pt x="3811416" y="1710743"/>
                </a:lnTo>
                <a:lnTo>
                  <a:pt x="3803178" y="1721727"/>
                </a:lnTo>
                <a:lnTo>
                  <a:pt x="3792194" y="1727219"/>
                </a:lnTo>
                <a:lnTo>
                  <a:pt x="3781211" y="1732711"/>
                </a:lnTo>
                <a:lnTo>
                  <a:pt x="3767481" y="1738203"/>
                </a:lnTo>
                <a:lnTo>
                  <a:pt x="3759243" y="1738203"/>
                </a:lnTo>
                <a:lnTo>
                  <a:pt x="3753751" y="1735457"/>
                </a:lnTo>
                <a:lnTo>
                  <a:pt x="3751005" y="1729965"/>
                </a:lnTo>
                <a:lnTo>
                  <a:pt x="3751005" y="1721727"/>
                </a:lnTo>
                <a:lnTo>
                  <a:pt x="3756497" y="1699760"/>
                </a:lnTo>
                <a:lnTo>
                  <a:pt x="3759243" y="1688776"/>
                </a:lnTo>
                <a:lnTo>
                  <a:pt x="3764735" y="1677792"/>
                </a:lnTo>
                <a:lnTo>
                  <a:pt x="3770227" y="1661316"/>
                </a:lnTo>
                <a:lnTo>
                  <a:pt x="3772973" y="1644840"/>
                </a:lnTo>
                <a:lnTo>
                  <a:pt x="3772973" y="1628364"/>
                </a:lnTo>
                <a:lnTo>
                  <a:pt x="3770227" y="1611888"/>
                </a:lnTo>
                <a:lnTo>
                  <a:pt x="3770227" y="1598158"/>
                </a:lnTo>
                <a:lnTo>
                  <a:pt x="3772973" y="1581683"/>
                </a:lnTo>
                <a:lnTo>
                  <a:pt x="3778465" y="1554223"/>
                </a:lnTo>
                <a:lnTo>
                  <a:pt x="3783956" y="1502049"/>
                </a:lnTo>
                <a:lnTo>
                  <a:pt x="3786702" y="1474589"/>
                </a:lnTo>
                <a:lnTo>
                  <a:pt x="3786702" y="1447130"/>
                </a:lnTo>
                <a:lnTo>
                  <a:pt x="3783956" y="1419670"/>
                </a:lnTo>
                <a:lnTo>
                  <a:pt x="3778465" y="1392210"/>
                </a:lnTo>
                <a:lnTo>
                  <a:pt x="3767481" y="1370242"/>
                </a:lnTo>
                <a:lnTo>
                  <a:pt x="3753751" y="1351021"/>
                </a:lnTo>
                <a:lnTo>
                  <a:pt x="3748259" y="1340037"/>
                </a:lnTo>
                <a:lnTo>
                  <a:pt x="3737275" y="1323561"/>
                </a:lnTo>
                <a:lnTo>
                  <a:pt x="3731783" y="1312577"/>
                </a:lnTo>
                <a:lnTo>
                  <a:pt x="3729037" y="1304339"/>
                </a:lnTo>
                <a:lnTo>
                  <a:pt x="3731566" y="1299281"/>
                </a:lnTo>
                <a:lnTo>
                  <a:pt x="3709696" y="1301617"/>
                </a:lnTo>
                <a:lnTo>
                  <a:pt x="3696085" y="1304339"/>
                </a:lnTo>
                <a:lnTo>
                  <a:pt x="3685101" y="1307085"/>
                </a:lnTo>
                <a:lnTo>
                  <a:pt x="3680578" y="1306762"/>
                </a:lnTo>
                <a:lnTo>
                  <a:pt x="3671370" y="1309831"/>
                </a:lnTo>
                <a:lnTo>
                  <a:pt x="3638419" y="1315323"/>
                </a:lnTo>
                <a:lnTo>
                  <a:pt x="3621943" y="1318069"/>
                </a:lnTo>
                <a:lnTo>
                  <a:pt x="3608213" y="1320815"/>
                </a:lnTo>
                <a:lnTo>
                  <a:pt x="3591737" y="1326307"/>
                </a:lnTo>
                <a:lnTo>
                  <a:pt x="3580753" y="1337290"/>
                </a:lnTo>
                <a:lnTo>
                  <a:pt x="3575261" y="1342782"/>
                </a:lnTo>
                <a:lnTo>
                  <a:pt x="3569769" y="1342782"/>
                </a:lnTo>
                <a:lnTo>
                  <a:pt x="3558785" y="1342782"/>
                </a:lnTo>
                <a:lnTo>
                  <a:pt x="3545055" y="1337290"/>
                </a:lnTo>
                <a:lnTo>
                  <a:pt x="3542071" y="1335500"/>
                </a:lnTo>
                <a:lnTo>
                  <a:pt x="3542309" y="1334544"/>
                </a:lnTo>
                <a:lnTo>
                  <a:pt x="3547801" y="1326307"/>
                </a:lnTo>
                <a:lnTo>
                  <a:pt x="3531326" y="1329053"/>
                </a:lnTo>
                <a:lnTo>
                  <a:pt x="3542071" y="1335500"/>
                </a:lnTo>
                <a:lnTo>
                  <a:pt x="3539564" y="1345528"/>
                </a:lnTo>
                <a:lnTo>
                  <a:pt x="3534072" y="1351020"/>
                </a:lnTo>
                <a:lnTo>
                  <a:pt x="3528580" y="1353766"/>
                </a:lnTo>
                <a:lnTo>
                  <a:pt x="3523088" y="1351020"/>
                </a:lnTo>
                <a:lnTo>
                  <a:pt x="3520342" y="1348274"/>
                </a:lnTo>
                <a:lnTo>
                  <a:pt x="3514850" y="1340036"/>
                </a:lnTo>
                <a:lnTo>
                  <a:pt x="3506612" y="1331798"/>
                </a:lnTo>
                <a:lnTo>
                  <a:pt x="3498374" y="1329053"/>
                </a:lnTo>
                <a:lnTo>
                  <a:pt x="3487390" y="1326307"/>
                </a:lnTo>
                <a:lnTo>
                  <a:pt x="3478538" y="1326307"/>
                </a:lnTo>
                <a:lnTo>
                  <a:pt x="3397870" y="1334923"/>
                </a:lnTo>
                <a:lnTo>
                  <a:pt x="3393378" y="1339414"/>
                </a:lnTo>
                <a:lnTo>
                  <a:pt x="3379648" y="1350398"/>
                </a:lnTo>
                <a:lnTo>
                  <a:pt x="3369763" y="1355341"/>
                </a:lnTo>
                <a:lnTo>
                  <a:pt x="3360426" y="1383350"/>
                </a:lnTo>
                <a:lnTo>
                  <a:pt x="3354934" y="1399826"/>
                </a:lnTo>
                <a:lnTo>
                  <a:pt x="3354934" y="1416302"/>
                </a:lnTo>
                <a:lnTo>
                  <a:pt x="3352188" y="1438270"/>
                </a:lnTo>
                <a:lnTo>
                  <a:pt x="3352188" y="1457491"/>
                </a:lnTo>
                <a:lnTo>
                  <a:pt x="3357680" y="1465729"/>
                </a:lnTo>
                <a:lnTo>
                  <a:pt x="3357680" y="1471221"/>
                </a:lnTo>
                <a:lnTo>
                  <a:pt x="3357680" y="1473967"/>
                </a:lnTo>
                <a:lnTo>
                  <a:pt x="3352188" y="1482205"/>
                </a:lnTo>
                <a:lnTo>
                  <a:pt x="3346696" y="1487697"/>
                </a:lnTo>
                <a:lnTo>
                  <a:pt x="3338458" y="1487697"/>
                </a:lnTo>
                <a:lnTo>
                  <a:pt x="3330221" y="1484951"/>
                </a:lnTo>
                <a:lnTo>
                  <a:pt x="3327475" y="1484951"/>
                </a:lnTo>
                <a:lnTo>
                  <a:pt x="3321983" y="1479459"/>
                </a:lnTo>
                <a:lnTo>
                  <a:pt x="3321983" y="1473967"/>
                </a:lnTo>
                <a:lnTo>
                  <a:pt x="3321983" y="1465729"/>
                </a:lnTo>
                <a:lnTo>
                  <a:pt x="3324729" y="1460237"/>
                </a:lnTo>
                <a:lnTo>
                  <a:pt x="3332967" y="1454745"/>
                </a:lnTo>
                <a:lnTo>
                  <a:pt x="3343950" y="1451999"/>
                </a:lnTo>
                <a:lnTo>
                  <a:pt x="3341204" y="1435524"/>
                </a:lnTo>
                <a:lnTo>
                  <a:pt x="3341204" y="1416302"/>
                </a:lnTo>
                <a:lnTo>
                  <a:pt x="3335713" y="1397080"/>
                </a:lnTo>
                <a:lnTo>
                  <a:pt x="3327475" y="1377858"/>
                </a:lnTo>
                <a:lnTo>
                  <a:pt x="3323915" y="1365400"/>
                </a:lnTo>
                <a:lnTo>
                  <a:pt x="3335713" y="1366874"/>
                </a:lnTo>
                <a:lnTo>
                  <a:pt x="3323698" y="1342845"/>
                </a:lnTo>
                <a:lnTo>
                  <a:pt x="3321983" y="1343028"/>
                </a:lnTo>
                <a:lnTo>
                  <a:pt x="3321983" y="1350398"/>
                </a:lnTo>
                <a:lnTo>
                  <a:pt x="3321983" y="1358636"/>
                </a:lnTo>
                <a:lnTo>
                  <a:pt x="3323915" y="1365400"/>
                </a:lnTo>
                <a:lnTo>
                  <a:pt x="3313745" y="1364128"/>
                </a:lnTo>
                <a:lnTo>
                  <a:pt x="3305507" y="1364128"/>
                </a:lnTo>
                <a:lnTo>
                  <a:pt x="3297269" y="1358636"/>
                </a:lnTo>
                <a:lnTo>
                  <a:pt x="3291777" y="1353144"/>
                </a:lnTo>
                <a:lnTo>
                  <a:pt x="3289559" y="1346491"/>
                </a:lnTo>
                <a:lnTo>
                  <a:pt x="2501585" y="1430654"/>
                </a:lnTo>
                <a:lnTo>
                  <a:pt x="3289031" y="1336820"/>
                </a:lnTo>
                <a:lnTo>
                  <a:pt x="3289031" y="1331177"/>
                </a:lnTo>
                <a:lnTo>
                  <a:pt x="3283539" y="1322939"/>
                </a:lnTo>
                <a:lnTo>
                  <a:pt x="3278047" y="1314701"/>
                </a:lnTo>
                <a:lnTo>
                  <a:pt x="3269809" y="1309209"/>
                </a:lnTo>
                <a:lnTo>
                  <a:pt x="3250587" y="1295479"/>
                </a:lnTo>
                <a:lnTo>
                  <a:pt x="3242349" y="1289987"/>
                </a:lnTo>
                <a:lnTo>
                  <a:pt x="3234111" y="1281749"/>
                </a:lnTo>
                <a:lnTo>
                  <a:pt x="3234111" y="1279003"/>
                </a:lnTo>
                <a:lnTo>
                  <a:pt x="3234111" y="1276257"/>
                </a:lnTo>
                <a:lnTo>
                  <a:pt x="3236857" y="1276257"/>
                </a:lnTo>
                <a:lnTo>
                  <a:pt x="3239603" y="1276257"/>
                </a:lnTo>
                <a:lnTo>
                  <a:pt x="3267063" y="1287241"/>
                </a:lnTo>
                <a:lnTo>
                  <a:pt x="3294523" y="1298225"/>
                </a:lnTo>
                <a:lnTo>
                  <a:pt x="3305507" y="1306463"/>
                </a:lnTo>
                <a:lnTo>
                  <a:pt x="3316491" y="1317447"/>
                </a:lnTo>
                <a:lnTo>
                  <a:pt x="3319420" y="1323305"/>
                </a:lnTo>
                <a:lnTo>
                  <a:pt x="3302761" y="1325685"/>
                </a:lnTo>
                <a:lnTo>
                  <a:pt x="3313352" y="1333922"/>
                </a:lnTo>
                <a:lnTo>
                  <a:pt x="3323414" y="1332723"/>
                </a:lnTo>
                <a:lnTo>
                  <a:pt x="3321983" y="1328431"/>
                </a:lnTo>
                <a:lnTo>
                  <a:pt x="3319420" y="1323305"/>
                </a:lnTo>
                <a:lnTo>
                  <a:pt x="3321983" y="1322939"/>
                </a:lnTo>
                <a:lnTo>
                  <a:pt x="3341204" y="1320193"/>
                </a:lnTo>
                <a:lnTo>
                  <a:pt x="3346696" y="1320193"/>
                </a:lnTo>
                <a:lnTo>
                  <a:pt x="3352188" y="1320193"/>
                </a:lnTo>
                <a:lnTo>
                  <a:pt x="3362660" y="1328046"/>
                </a:lnTo>
                <a:lnTo>
                  <a:pt x="3369249" y="1327261"/>
                </a:lnTo>
                <a:lnTo>
                  <a:pt x="3371410" y="1322938"/>
                </a:lnTo>
                <a:lnTo>
                  <a:pt x="3382394" y="1306463"/>
                </a:lnTo>
                <a:lnTo>
                  <a:pt x="3401616" y="1276257"/>
                </a:lnTo>
                <a:lnTo>
                  <a:pt x="3412600" y="1262527"/>
                </a:lnTo>
                <a:lnTo>
                  <a:pt x="3426329" y="1248797"/>
                </a:lnTo>
                <a:lnTo>
                  <a:pt x="3431821" y="1248797"/>
                </a:lnTo>
                <a:lnTo>
                  <a:pt x="3440059" y="1248797"/>
                </a:lnTo>
                <a:lnTo>
                  <a:pt x="3442805" y="1254289"/>
                </a:lnTo>
                <a:lnTo>
                  <a:pt x="3445551" y="1259781"/>
                </a:lnTo>
                <a:lnTo>
                  <a:pt x="3442805" y="1268019"/>
                </a:lnTo>
                <a:lnTo>
                  <a:pt x="3440059" y="1279003"/>
                </a:lnTo>
                <a:lnTo>
                  <a:pt x="3431821" y="1295479"/>
                </a:lnTo>
                <a:lnTo>
                  <a:pt x="3409768" y="1322433"/>
                </a:lnTo>
                <a:lnTo>
                  <a:pt x="3451987" y="1317402"/>
                </a:lnTo>
                <a:lnTo>
                  <a:pt x="3457184" y="1315323"/>
                </a:lnTo>
                <a:lnTo>
                  <a:pt x="3468168" y="1312577"/>
                </a:lnTo>
                <a:lnTo>
                  <a:pt x="3481898" y="1312577"/>
                </a:lnTo>
                <a:lnTo>
                  <a:pt x="3492477" y="1312577"/>
                </a:lnTo>
                <a:lnTo>
                  <a:pt x="3544394" y="1306390"/>
                </a:lnTo>
                <a:lnTo>
                  <a:pt x="3553295" y="1303423"/>
                </a:lnTo>
                <a:lnTo>
                  <a:pt x="3556040" y="1301593"/>
                </a:lnTo>
                <a:lnTo>
                  <a:pt x="3578008" y="1296101"/>
                </a:lnTo>
                <a:lnTo>
                  <a:pt x="3599976" y="1290609"/>
                </a:lnTo>
                <a:lnTo>
                  <a:pt x="3635674" y="1285117"/>
                </a:lnTo>
                <a:lnTo>
                  <a:pt x="3654895" y="1282371"/>
                </a:lnTo>
                <a:lnTo>
                  <a:pt x="3671371" y="1279625"/>
                </a:lnTo>
                <a:lnTo>
                  <a:pt x="3690593" y="1279625"/>
                </a:lnTo>
                <a:lnTo>
                  <a:pt x="3702574" y="1281622"/>
                </a:lnTo>
                <a:lnTo>
                  <a:pt x="3712560" y="1274132"/>
                </a:lnTo>
                <a:lnTo>
                  <a:pt x="3723544" y="1268640"/>
                </a:lnTo>
                <a:lnTo>
                  <a:pt x="3740020" y="1265895"/>
                </a:lnTo>
                <a:lnTo>
                  <a:pt x="3764734" y="1265895"/>
                </a:lnTo>
                <a:lnTo>
                  <a:pt x="3808669" y="1268640"/>
                </a:lnTo>
                <a:lnTo>
                  <a:pt x="3841505" y="1270986"/>
                </a:lnTo>
                <a:lnTo>
                  <a:pt x="3867773" y="1267856"/>
                </a:lnTo>
                <a:lnTo>
                  <a:pt x="3869081" y="1265895"/>
                </a:lnTo>
                <a:lnTo>
                  <a:pt x="3871827" y="1260403"/>
                </a:lnTo>
                <a:lnTo>
                  <a:pt x="3877319" y="1260403"/>
                </a:lnTo>
                <a:lnTo>
                  <a:pt x="3902033" y="1254911"/>
                </a:lnTo>
                <a:lnTo>
                  <a:pt x="3932238" y="1249419"/>
                </a:lnTo>
                <a:lnTo>
                  <a:pt x="3987158" y="1243927"/>
                </a:lnTo>
                <a:lnTo>
                  <a:pt x="4044823" y="1243927"/>
                </a:lnTo>
                <a:lnTo>
                  <a:pt x="4068580" y="1243927"/>
                </a:lnTo>
                <a:lnTo>
                  <a:pt x="4189063" y="1229570"/>
                </a:lnTo>
                <a:lnTo>
                  <a:pt x="4198598" y="1227451"/>
                </a:lnTo>
                <a:lnTo>
                  <a:pt x="4248026" y="1219213"/>
                </a:lnTo>
                <a:lnTo>
                  <a:pt x="4272739" y="1216467"/>
                </a:lnTo>
                <a:lnTo>
                  <a:pt x="4278349" y="1215844"/>
                </a:lnTo>
                <a:lnTo>
                  <a:pt x="4462212" y="1183516"/>
                </a:lnTo>
                <a:lnTo>
                  <a:pt x="4467704" y="1183516"/>
                </a:lnTo>
                <a:lnTo>
                  <a:pt x="4566559" y="1167040"/>
                </a:lnTo>
                <a:lnTo>
                  <a:pt x="4591273" y="1169786"/>
                </a:lnTo>
                <a:lnTo>
                  <a:pt x="4615987" y="1167040"/>
                </a:lnTo>
                <a:lnTo>
                  <a:pt x="4621479" y="1164294"/>
                </a:lnTo>
                <a:lnTo>
                  <a:pt x="4629717" y="1156056"/>
                </a:lnTo>
                <a:lnTo>
                  <a:pt x="4629717" y="1158802"/>
                </a:lnTo>
                <a:lnTo>
                  <a:pt x="4626971" y="1161548"/>
                </a:lnTo>
                <a:lnTo>
                  <a:pt x="4624225" y="1169786"/>
                </a:lnTo>
                <a:lnTo>
                  <a:pt x="4629717" y="1172532"/>
                </a:lnTo>
                <a:lnTo>
                  <a:pt x="4635209" y="1175278"/>
                </a:lnTo>
                <a:lnTo>
                  <a:pt x="4637955" y="1186262"/>
                </a:lnTo>
                <a:lnTo>
                  <a:pt x="4646192" y="1186262"/>
                </a:lnTo>
                <a:lnTo>
                  <a:pt x="4654430" y="1186262"/>
                </a:lnTo>
                <a:lnTo>
                  <a:pt x="4665414" y="1191754"/>
                </a:lnTo>
                <a:lnTo>
                  <a:pt x="4670906" y="1189008"/>
                </a:lnTo>
                <a:lnTo>
                  <a:pt x="4681890" y="1189008"/>
                </a:lnTo>
                <a:lnTo>
                  <a:pt x="4690128" y="1186262"/>
                </a:lnTo>
                <a:lnTo>
                  <a:pt x="4692874" y="1186262"/>
                </a:lnTo>
                <a:lnTo>
                  <a:pt x="4695620" y="1183516"/>
                </a:lnTo>
                <a:lnTo>
                  <a:pt x="4695620" y="1180770"/>
                </a:lnTo>
                <a:lnTo>
                  <a:pt x="4692874" y="1178024"/>
                </a:lnTo>
                <a:lnTo>
                  <a:pt x="4698366" y="1178024"/>
                </a:lnTo>
                <a:lnTo>
                  <a:pt x="4703858" y="1175278"/>
                </a:lnTo>
                <a:lnTo>
                  <a:pt x="4703858" y="1169786"/>
                </a:lnTo>
                <a:lnTo>
                  <a:pt x="4701112" y="1167040"/>
                </a:lnTo>
                <a:lnTo>
                  <a:pt x="4706604" y="1164294"/>
                </a:lnTo>
                <a:lnTo>
                  <a:pt x="4714842" y="1164294"/>
                </a:lnTo>
                <a:lnTo>
                  <a:pt x="4717588" y="1156056"/>
                </a:lnTo>
                <a:lnTo>
                  <a:pt x="4720334" y="1147819"/>
                </a:lnTo>
                <a:lnTo>
                  <a:pt x="4709350" y="1145073"/>
                </a:lnTo>
                <a:lnTo>
                  <a:pt x="4709350" y="1142327"/>
                </a:lnTo>
                <a:lnTo>
                  <a:pt x="4767015" y="1131343"/>
                </a:lnTo>
                <a:lnTo>
                  <a:pt x="4767015" y="1139581"/>
                </a:lnTo>
                <a:lnTo>
                  <a:pt x="4769761" y="1142327"/>
                </a:lnTo>
                <a:lnTo>
                  <a:pt x="4775253" y="1142327"/>
                </a:lnTo>
                <a:lnTo>
                  <a:pt x="4777999" y="1134089"/>
                </a:lnTo>
                <a:lnTo>
                  <a:pt x="4780745" y="1131343"/>
                </a:lnTo>
                <a:lnTo>
                  <a:pt x="4783491" y="1128597"/>
                </a:lnTo>
                <a:lnTo>
                  <a:pt x="4986694" y="1095645"/>
                </a:lnTo>
                <a:lnTo>
                  <a:pt x="4994932" y="1095645"/>
                </a:lnTo>
                <a:lnTo>
                  <a:pt x="4997678" y="1092899"/>
                </a:lnTo>
                <a:lnTo>
                  <a:pt x="5058089" y="1081915"/>
                </a:lnTo>
                <a:lnTo>
                  <a:pt x="5060835" y="1081915"/>
                </a:lnTo>
                <a:lnTo>
                  <a:pt x="5063581" y="1084661"/>
                </a:lnTo>
                <a:lnTo>
                  <a:pt x="5063581" y="1090153"/>
                </a:lnTo>
                <a:lnTo>
                  <a:pt x="5063581" y="1092899"/>
                </a:lnTo>
                <a:lnTo>
                  <a:pt x="5074565" y="1087407"/>
                </a:lnTo>
                <a:lnTo>
                  <a:pt x="5080057" y="1081915"/>
                </a:lnTo>
                <a:lnTo>
                  <a:pt x="5082803" y="1073677"/>
                </a:lnTo>
                <a:lnTo>
                  <a:pt x="5080057" y="1073677"/>
                </a:lnTo>
                <a:lnTo>
                  <a:pt x="5077311" y="1070931"/>
                </a:lnTo>
                <a:lnTo>
                  <a:pt x="5069073" y="1070931"/>
                </a:lnTo>
                <a:lnTo>
                  <a:pt x="5063581" y="1068185"/>
                </a:lnTo>
                <a:lnTo>
                  <a:pt x="5058089" y="1065439"/>
                </a:lnTo>
                <a:lnTo>
                  <a:pt x="5058089" y="1026996"/>
                </a:lnTo>
                <a:lnTo>
                  <a:pt x="5060835" y="1029741"/>
                </a:lnTo>
                <a:lnTo>
                  <a:pt x="5060835" y="1021504"/>
                </a:lnTo>
                <a:lnTo>
                  <a:pt x="5058089" y="1021504"/>
                </a:lnTo>
                <a:lnTo>
                  <a:pt x="5058089" y="985806"/>
                </a:lnTo>
                <a:lnTo>
                  <a:pt x="5063581" y="985806"/>
                </a:lnTo>
                <a:lnTo>
                  <a:pt x="5063581" y="980314"/>
                </a:lnTo>
                <a:lnTo>
                  <a:pt x="5063581" y="974822"/>
                </a:lnTo>
                <a:lnTo>
                  <a:pt x="5058089" y="974822"/>
                </a:lnTo>
                <a:lnTo>
                  <a:pt x="5058089" y="972076"/>
                </a:lnTo>
                <a:lnTo>
                  <a:pt x="5060835" y="972076"/>
                </a:lnTo>
                <a:lnTo>
                  <a:pt x="5060835" y="969330"/>
                </a:lnTo>
                <a:lnTo>
                  <a:pt x="5063581" y="966584"/>
                </a:lnTo>
                <a:lnTo>
                  <a:pt x="5071819" y="980314"/>
                </a:lnTo>
                <a:lnTo>
                  <a:pt x="5077311" y="983060"/>
                </a:lnTo>
                <a:lnTo>
                  <a:pt x="5085549" y="983060"/>
                </a:lnTo>
                <a:lnTo>
                  <a:pt x="5082803" y="980314"/>
                </a:lnTo>
                <a:lnTo>
                  <a:pt x="5082803" y="977568"/>
                </a:lnTo>
                <a:lnTo>
                  <a:pt x="5085549" y="977568"/>
                </a:lnTo>
                <a:lnTo>
                  <a:pt x="5088295" y="974822"/>
                </a:lnTo>
                <a:lnTo>
                  <a:pt x="5091041" y="974822"/>
                </a:lnTo>
                <a:lnTo>
                  <a:pt x="5091041" y="972076"/>
                </a:lnTo>
                <a:lnTo>
                  <a:pt x="5080057" y="966584"/>
                </a:lnTo>
                <a:lnTo>
                  <a:pt x="5074565" y="966584"/>
                </a:lnTo>
                <a:lnTo>
                  <a:pt x="5069073" y="966584"/>
                </a:lnTo>
                <a:lnTo>
                  <a:pt x="5063581" y="966584"/>
                </a:lnTo>
                <a:lnTo>
                  <a:pt x="5058089" y="966584"/>
                </a:lnTo>
                <a:lnTo>
                  <a:pt x="5058089" y="944616"/>
                </a:lnTo>
                <a:lnTo>
                  <a:pt x="5060835" y="944616"/>
                </a:lnTo>
                <a:lnTo>
                  <a:pt x="5063581" y="939124"/>
                </a:lnTo>
                <a:lnTo>
                  <a:pt x="5060835" y="939124"/>
                </a:lnTo>
                <a:lnTo>
                  <a:pt x="5060835" y="930886"/>
                </a:lnTo>
                <a:lnTo>
                  <a:pt x="5058089" y="930886"/>
                </a:lnTo>
                <a:lnTo>
                  <a:pt x="5060835" y="897934"/>
                </a:lnTo>
                <a:lnTo>
                  <a:pt x="5063581" y="897934"/>
                </a:lnTo>
                <a:lnTo>
                  <a:pt x="5063581" y="892442"/>
                </a:lnTo>
                <a:lnTo>
                  <a:pt x="5060835" y="892442"/>
                </a:lnTo>
                <a:lnTo>
                  <a:pt x="5060835" y="873220"/>
                </a:lnTo>
                <a:lnTo>
                  <a:pt x="5063581" y="873220"/>
                </a:lnTo>
                <a:lnTo>
                  <a:pt x="5063581" y="867729"/>
                </a:lnTo>
                <a:lnTo>
                  <a:pt x="5060835" y="864983"/>
                </a:lnTo>
                <a:lnTo>
                  <a:pt x="5060835" y="623337"/>
                </a:lnTo>
                <a:lnTo>
                  <a:pt x="5080057" y="626083"/>
                </a:lnTo>
                <a:lnTo>
                  <a:pt x="5096533" y="623337"/>
                </a:lnTo>
                <a:lnTo>
                  <a:pt x="5096533" y="620591"/>
                </a:lnTo>
                <a:lnTo>
                  <a:pt x="5096533" y="612353"/>
                </a:lnTo>
                <a:lnTo>
                  <a:pt x="5093787" y="612353"/>
                </a:lnTo>
                <a:lnTo>
                  <a:pt x="5093787" y="609607"/>
                </a:lnTo>
                <a:lnTo>
                  <a:pt x="5085549" y="609607"/>
                </a:lnTo>
                <a:lnTo>
                  <a:pt x="5082803" y="606861"/>
                </a:lnTo>
                <a:lnTo>
                  <a:pt x="5080057" y="604115"/>
                </a:lnTo>
                <a:lnTo>
                  <a:pt x="5074565" y="601369"/>
                </a:lnTo>
                <a:lnTo>
                  <a:pt x="5074565" y="590385"/>
                </a:lnTo>
                <a:lnTo>
                  <a:pt x="5066327" y="587639"/>
                </a:lnTo>
                <a:lnTo>
                  <a:pt x="5060835" y="587639"/>
                </a:lnTo>
                <a:lnTo>
                  <a:pt x="5060835" y="576655"/>
                </a:lnTo>
                <a:lnTo>
                  <a:pt x="5074565" y="576655"/>
                </a:lnTo>
                <a:lnTo>
                  <a:pt x="5077311" y="571163"/>
                </a:lnTo>
                <a:lnTo>
                  <a:pt x="5080057" y="568417"/>
                </a:lnTo>
                <a:lnTo>
                  <a:pt x="5080057" y="571163"/>
                </a:lnTo>
                <a:lnTo>
                  <a:pt x="5082803" y="571163"/>
                </a:lnTo>
                <a:lnTo>
                  <a:pt x="5085549" y="568417"/>
                </a:lnTo>
                <a:lnTo>
                  <a:pt x="5088295" y="562925"/>
                </a:lnTo>
                <a:lnTo>
                  <a:pt x="5082803" y="565671"/>
                </a:lnTo>
                <a:lnTo>
                  <a:pt x="5077311" y="565671"/>
                </a:lnTo>
                <a:lnTo>
                  <a:pt x="5080057" y="557433"/>
                </a:lnTo>
                <a:lnTo>
                  <a:pt x="5080057" y="551941"/>
                </a:lnTo>
                <a:lnTo>
                  <a:pt x="5077311" y="546449"/>
                </a:lnTo>
                <a:lnTo>
                  <a:pt x="5085549" y="543703"/>
                </a:lnTo>
                <a:lnTo>
                  <a:pt x="5088295" y="546449"/>
                </a:lnTo>
                <a:lnTo>
                  <a:pt x="5091041" y="549195"/>
                </a:lnTo>
                <a:lnTo>
                  <a:pt x="5091041" y="551941"/>
                </a:lnTo>
                <a:lnTo>
                  <a:pt x="5102025" y="554687"/>
                </a:lnTo>
                <a:lnTo>
                  <a:pt x="5113009" y="551941"/>
                </a:lnTo>
                <a:lnTo>
                  <a:pt x="5115755" y="543703"/>
                </a:lnTo>
                <a:lnTo>
                  <a:pt x="5115755" y="535465"/>
                </a:lnTo>
                <a:lnTo>
                  <a:pt x="5113009" y="532719"/>
                </a:lnTo>
                <a:lnTo>
                  <a:pt x="5110263" y="532719"/>
                </a:lnTo>
                <a:lnTo>
                  <a:pt x="5107517" y="524481"/>
                </a:lnTo>
                <a:lnTo>
                  <a:pt x="5181658" y="516243"/>
                </a:lnTo>
                <a:lnTo>
                  <a:pt x="5181658" y="518989"/>
                </a:lnTo>
                <a:lnTo>
                  <a:pt x="5184404" y="518989"/>
                </a:lnTo>
                <a:lnTo>
                  <a:pt x="5187150" y="518989"/>
                </a:lnTo>
                <a:lnTo>
                  <a:pt x="5187150" y="513497"/>
                </a:lnTo>
                <a:lnTo>
                  <a:pt x="5566095" y="472308"/>
                </a:lnTo>
                <a:lnTo>
                  <a:pt x="5571587" y="475054"/>
                </a:lnTo>
                <a:lnTo>
                  <a:pt x="5579825" y="475054"/>
                </a:lnTo>
                <a:lnTo>
                  <a:pt x="5579825" y="469562"/>
                </a:lnTo>
                <a:lnTo>
                  <a:pt x="5631998" y="464070"/>
                </a:lnTo>
                <a:lnTo>
                  <a:pt x="5634744" y="464070"/>
                </a:lnTo>
                <a:lnTo>
                  <a:pt x="5637490" y="466816"/>
                </a:lnTo>
                <a:lnTo>
                  <a:pt x="5640236" y="469562"/>
                </a:lnTo>
                <a:lnTo>
                  <a:pt x="5642982" y="469562"/>
                </a:lnTo>
                <a:lnTo>
                  <a:pt x="5642982" y="461324"/>
                </a:lnTo>
                <a:lnTo>
                  <a:pt x="5656712" y="461324"/>
                </a:lnTo>
                <a:lnTo>
                  <a:pt x="5659458" y="461324"/>
                </a:lnTo>
                <a:lnTo>
                  <a:pt x="5662204" y="461324"/>
                </a:lnTo>
                <a:lnTo>
                  <a:pt x="6087831" y="412526"/>
                </a:lnTo>
                <a:lnTo>
                  <a:pt x="6087831" y="417388"/>
                </a:lnTo>
                <a:lnTo>
                  <a:pt x="6090577" y="417388"/>
                </a:lnTo>
                <a:lnTo>
                  <a:pt x="6093323" y="417388"/>
                </a:lnTo>
                <a:lnTo>
                  <a:pt x="6096069" y="414642"/>
                </a:lnTo>
                <a:lnTo>
                  <a:pt x="6098815" y="414642"/>
                </a:lnTo>
                <a:lnTo>
                  <a:pt x="6098815" y="409150"/>
                </a:lnTo>
                <a:lnTo>
                  <a:pt x="6120782" y="406404"/>
                </a:lnTo>
                <a:lnTo>
                  <a:pt x="6120782" y="409150"/>
                </a:lnTo>
                <a:lnTo>
                  <a:pt x="6126274" y="409150"/>
                </a:lnTo>
                <a:lnTo>
                  <a:pt x="6131766" y="411896"/>
                </a:lnTo>
                <a:lnTo>
                  <a:pt x="6131766" y="409150"/>
                </a:lnTo>
                <a:lnTo>
                  <a:pt x="6131766" y="406404"/>
                </a:lnTo>
                <a:lnTo>
                  <a:pt x="6152361" y="404116"/>
                </a:lnTo>
                <a:lnTo>
                  <a:pt x="6145496" y="406404"/>
                </a:lnTo>
                <a:lnTo>
                  <a:pt x="6137258" y="409150"/>
                </a:lnTo>
                <a:lnTo>
                  <a:pt x="6137258" y="411896"/>
                </a:lnTo>
                <a:lnTo>
                  <a:pt x="6142750" y="411896"/>
                </a:lnTo>
                <a:lnTo>
                  <a:pt x="6142750" y="417388"/>
                </a:lnTo>
                <a:lnTo>
                  <a:pt x="6145496" y="417388"/>
                </a:lnTo>
                <a:lnTo>
                  <a:pt x="6145496" y="420134"/>
                </a:lnTo>
                <a:lnTo>
                  <a:pt x="6142750" y="420134"/>
                </a:lnTo>
                <a:lnTo>
                  <a:pt x="6142750" y="422880"/>
                </a:lnTo>
                <a:lnTo>
                  <a:pt x="6148242" y="422880"/>
                </a:lnTo>
                <a:lnTo>
                  <a:pt x="6148242" y="417388"/>
                </a:lnTo>
                <a:lnTo>
                  <a:pt x="6150988" y="414642"/>
                </a:lnTo>
                <a:lnTo>
                  <a:pt x="6153734" y="409150"/>
                </a:lnTo>
                <a:lnTo>
                  <a:pt x="6153734" y="403964"/>
                </a:lnTo>
                <a:lnTo>
                  <a:pt x="6156480" y="403658"/>
                </a:lnTo>
                <a:lnTo>
                  <a:pt x="6164718" y="403658"/>
                </a:lnTo>
                <a:lnTo>
                  <a:pt x="6172956" y="400912"/>
                </a:lnTo>
                <a:lnTo>
                  <a:pt x="6175702" y="403658"/>
                </a:lnTo>
                <a:lnTo>
                  <a:pt x="6175702" y="406404"/>
                </a:lnTo>
                <a:lnTo>
                  <a:pt x="6167464" y="406404"/>
                </a:lnTo>
                <a:lnTo>
                  <a:pt x="6167464" y="411896"/>
                </a:lnTo>
                <a:lnTo>
                  <a:pt x="6170210" y="411896"/>
                </a:lnTo>
                <a:lnTo>
                  <a:pt x="6172956" y="411896"/>
                </a:lnTo>
                <a:lnTo>
                  <a:pt x="6175702" y="411896"/>
                </a:lnTo>
                <a:lnTo>
                  <a:pt x="6181194" y="411896"/>
                </a:lnTo>
                <a:lnTo>
                  <a:pt x="6181194" y="406404"/>
                </a:lnTo>
                <a:lnTo>
                  <a:pt x="6186686" y="403658"/>
                </a:lnTo>
                <a:lnTo>
                  <a:pt x="6189432" y="400912"/>
                </a:lnTo>
                <a:lnTo>
                  <a:pt x="6194924" y="398166"/>
                </a:lnTo>
                <a:lnTo>
                  <a:pt x="6194924" y="403658"/>
                </a:lnTo>
                <a:lnTo>
                  <a:pt x="6200416" y="406404"/>
                </a:lnTo>
                <a:lnTo>
                  <a:pt x="6205908" y="406404"/>
                </a:lnTo>
                <a:lnTo>
                  <a:pt x="6211400" y="409150"/>
                </a:lnTo>
                <a:lnTo>
                  <a:pt x="6214146" y="403658"/>
                </a:lnTo>
                <a:lnTo>
                  <a:pt x="6214146" y="409150"/>
                </a:lnTo>
                <a:lnTo>
                  <a:pt x="6216892" y="411896"/>
                </a:lnTo>
                <a:lnTo>
                  <a:pt x="6222384" y="411896"/>
                </a:lnTo>
                <a:lnTo>
                  <a:pt x="6227875" y="414642"/>
                </a:lnTo>
                <a:lnTo>
                  <a:pt x="6233367" y="414642"/>
                </a:lnTo>
                <a:lnTo>
                  <a:pt x="6244351" y="409150"/>
                </a:lnTo>
                <a:lnTo>
                  <a:pt x="6249843" y="409150"/>
                </a:lnTo>
                <a:lnTo>
                  <a:pt x="6252589" y="411896"/>
                </a:lnTo>
                <a:lnTo>
                  <a:pt x="6252589" y="400912"/>
                </a:lnTo>
                <a:lnTo>
                  <a:pt x="6249843" y="403658"/>
                </a:lnTo>
                <a:lnTo>
                  <a:pt x="6249843" y="406404"/>
                </a:lnTo>
                <a:lnTo>
                  <a:pt x="6247097" y="406404"/>
                </a:lnTo>
                <a:lnTo>
                  <a:pt x="6244351" y="403658"/>
                </a:lnTo>
                <a:lnTo>
                  <a:pt x="6238859" y="406404"/>
                </a:lnTo>
                <a:lnTo>
                  <a:pt x="6238859" y="403658"/>
                </a:lnTo>
                <a:lnTo>
                  <a:pt x="6241605" y="400912"/>
                </a:lnTo>
                <a:lnTo>
                  <a:pt x="6244351" y="398166"/>
                </a:lnTo>
                <a:lnTo>
                  <a:pt x="6244351" y="392675"/>
                </a:lnTo>
                <a:lnTo>
                  <a:pt x="6249843" y="392675"/>
                </a:lnTo>
                <a:lnTo>
                  <a:pt x="6249843" y="395420"/>
                </a:lnTo>
                <a:lnTo>
                  <a:pt x="6252589" y="398166"/>
                </a:lnTo>
                <a:lnTo>
                  <a:pt x="6255335" y="395420"/>
                </a:lnTo>
                <a:lnTo>
                  <a:pt x="6258081" y="392675"/>
                </a:lnTo>
                <a:lnTo>
                  <a:pt x="6260827" y="392675"/>
                </a:lnTo>
                <a:lnTo>
                  <a:pt x="6266319" y="395420"/>
                </a:lnTo>
                <a:lnTo>
                  <a:pt x="6266319" y="389929"/>
                </a:lnTo>
                <a:lnTo>
                  <a:pt x="6573869" y="354231"/>
                </a:lnTo>
                <a:close/>
                <a:moveTo>
                  <a:pt x="1235691" y="354231"/>
                </a:moveTo>
                <a:lnTo>
                  <a:pt x="1219215" y="356977"/>
                </a:lnTo>
                <a:lnTo>
                  <a:pt x="1219215" y="367961"/>
                </a:lnTo>
                <a:lnTo>
                  <a:pt x="1224706" y="370707"/>
                </a:lnTo>
                <a:lnTo>
                  <a:pt x="1224706" y="373453"/>
                </a:lnTo>
                <a:lnTo>
                  <a:pt x="1224706" y="378945"/>
                </a:lnTo>
                <a:lnTo>
                  <a:pt x="1227452" y="381691"/>
                </a:lnTo>
                <a:lnTo>
                  <a:pt x="1230199" y="387183"/>
                </a:lnTo>
                <a:lnTo>
                  <a:pt x="1243927" y="387183"/>
                </a:lnTo>
                <a:lnTo>
                  <a:pt x="1254913" y="381691"/>
                </a:lnTo>
                <a:lnTo>
                  <a:pt x="1249421" y="370707"/>
                </a:lnTo>
                <a:lnTo>
                  <a:pt x="1249421" y="365215"/>
                </a:lnTo>
                <a:lnTo>
                  <a:pt x="1246673" y="359723"/>
                </a:lnTo>
                <a:lnTo>
                  <a:pt x="1235691" y="354231"/>
                </a:lnTo>
                <a:close/>
                <a:moveTo>
                  <a:pt x="1573445" y="351485"/>
                </a:moveTo>
                <a:lnTo>
                  <a:pt x="1559715" y="356977"/>
                </a:lnTo>
                <a:lnTo>
                  <a:pt x="1554223" y="362469"/>
                </a:lnTo>
                <a:lnTo>
                  <a:pt x="1554223" y="367961"/>
                </a:lnTo>
                <a:lnTo>
                  <a:pt x="1554223" y="370707"/>
                </a:lnTo>
                <a:lnTo>
                  <a:pt x="1556969" y="370707"/>
                </a:lnTo>
                <a:lnTo>
                  <a:pt x="1565206" y="370707"/>
                </a:lnTo>
                <a:lnTo>
                  <a:pt x="1570699" y="376199"/>
                </a:lnTo>
                <a:lnTo>
                  <a:pt x="1576191" y="378945"/>
                </a:lnTo>
                <a:lnTo>
                  <a:pt x="1576191" y="373453"/>
                </a:lnTo>
                <a:lnTo>
                  <a:pt x="1578936" y="365215"/>
                </a:lnTo>
                <a:lnTo>
                  <a:pt x="1590766" y="357822"/>
                </a:lnTo>
                <a:lnTo>
                  <a:pt x="1576191" y="359723"/>
                </a:lnTo>
                <a:lnTo>
                  <a:pt x="1576191" y="362469"/>
                </a:lnTo>
                <a:lnTo>
                  <a:pt x="1573445" y="359723"/>
                </a:lnTo>
                <a:lnTo>
                  <a:pt x="1570699" y="356977"/>
                </a:lnTo>
                <a:lnTo>
                  <a:pt x="1570699" y="354231"/>
                </a:lnTo>
                <a:lnTo>
                  <a:pt x="1573445" y="351485"/>
                </a:lnTo>
                <a:close/>
                <a:moveTo>
                  <a:pt x="1452622" y="351485"/>
                </a:moveTo>
                <a:lnTo>
                  <a:pt x="1452622" y="354231"/>
                </a:lnTo>
                <a:lnTo>
                  <a:pt x="1458113" y="351485"/>
                </a:lnTo>
                <a:lnTo>
                  <a:pt x="1452622" y="351485"/>
                </a:lnTo>
                <a:close/>
                <a:moveTo>
                  <a:pt x="944616" y="351485"/>
                </a:moveTo>
                <a:lnTo>
                  <a:pt x="939124" y="356977"/>
                </a:lnTo>
                <a:lnTo>
                  <a:pt x="930887" y="356977"/>
                </a:lnTo>
                <a:lnTo>
                  <a:pt x="922648" y="356977"/>
                </a:lnTo>
                <a:lnTo>
                  <a:pt x="914410" y="354231"/>
                </a:lnTo>
                <a:lnTo>
                  <a:pt x="944616" y="351485"/>
                </a:lnTo>
                <a:close/>
                <a:moveTo>
                  <a:pt x="6634280" y="348739"/>
                </a:moveTo>
                <a:lnTo>
                  <a:pt x="6623296" y="351485"/>
                </a:lnTo>
                <a:lnTo>
                  <a:pt x="6612312" y="351485"/>
                </a:lnTo>
                <a:lnTo>
                  <a:pt x="6634280" y="348739"/>
                </a:lnTo>
                <a:close/>
                <a:moveTo>
                  <a:pt x="1507541" y="343247"/>
                </a:moveTo>
                <a:lnTo>
                  <a:pt x="1502050" y="345993"/>
                </a:lnTo>
                <a:lnTo>
                  <a:pt x="1499304" y="345993"/>
                </a:lnTo>
                <a:lnTo>
                  <a:pt x="1499304" y="351485"/>
                </a:lnTo>
                <a:lnTo>
                  <a:pt x="1504796" y="351485"/>
                </a:lnTo>
                <a:lnTo>
                  <a:pt x="1507541" y="354231"/>
                </a:lnTo>
                <a:lnTo>
                  <a:pt x="1499304" y="356977"/>
                </a:lnTo>
                <a:lnTo>
                  <a:pt x="1496557" y="356977"/>
                </a:lnTo>
                <a:lnTo>
                  <a:pt x="1493811" y="354231"/>
                </a:lnTo>
                <a:lnTo>
                  <a:pt x="1491065" y="356977"/>
                </a:lnTo>
                <a:lnTo>
                  <a:pt x="1491065" y="359723"/>
                </a:lnTo>
                <a:lnTo>
                  <a:pt x="1493811" y="362469"/>
                </a:lnTo>
                <a:lnTo>
                  <a:pt x="1491065" y="367961"/>
                </a:lnTo>
                <a:lnTo>
                  <a:pt x="1496557" y="370707"/>
                </a:lnTo>
                <a:lnTo>
                  <a:pt x="1502050" y="373453"/>
                </a:lnTo>
                <a:lnTo>
                  <a:pt x="1504796" y="373453"/>
                </a:lnTo>
                <a:lnTo>
                  <a:pt x="1507541" y="370707"/>
                </a:lnTo>
                <a:lnTo>
                  <a:pt x="1507541" y="365215"/>
                </a:lnTo>
                <a:lnTo>
                  <a:pt x="1510287" y="367961"/>
                </a:lnTo>
                <a:lnTo>
                  <a:pt x="1513033" y="367961"/>
                </a:lnTo>
                <a:lnTo>
                  <a:pt x="1513033" y="362469"/>
                </a:lnTo>
                <a:lnTo>
                  <a:pt x="1515779" y="362469"/>
                </a:lnTo>
                <a:lnTo>
                  <a:pt x="1518526" y="359723"/>
                </a:lnTo>
                <a:lnTo>
                  <a:pt x="1521272" y="359723"/>
                </a:lnTo>
                <a:lnTo>
                  <a:pt x="1524017" y="359723"/>
                </a:lnTo>
                <a:lnTo>
                  <a:pt x="1521272" y="356977"/>
                </a:lnTo>
                <a:lnTo>
                  <a:pt x="1521272" y="354231"/>
                </a:lnTo>
                <a:lnTo>
                  <a:pt x="1518526" y="348739"/>
                </a:lnTo>
                <a:lnTo>
                  <a:pt x="1510287" y="348739"/>
                </a:lnTo>
                <a:lnTo>
                  <a:pt x="1507541" y="343247"/>
                </a:lnTo>
                <a:close/>
                <a:moveTo>
                  <a:pt x="1230199" y="343247"/>
                </a:moveTo>
                <a:lnTo>
                  <a:pt x="1230199" y="345993"/>
                </a:lnTo>
                <a:lnTo>
                  <a:pt x="1232945" y="345993"/>
                </a:lnTo>
                <a:lnTo>
                  <a:pt x="1235691" y="348739"/>
                </a:lnTo>
                <a:lnTo>
                  <a:pt x="1235691" y="345993"/>
                </a:lnTo>
                <a:lnTo>
                  <a:pt x="1232945" y="345993"/>
                </a:lnTo>
                <a:lnTo>
                  <a:pt x="1232945" y="343247"/>
                </a:lnTo>
                <a:lnTo>
                  <a:pt x="1230199" y="343247"/>
                </a:lnTo>
                <a:close/>
                <a:moveTo>
                  <a:pt x="1576191" y="340501"/>
                </a:moveTo>
                <a:lnTo>
                  <a:pt x="1576191" y="343247"/>
                </a:lnTo>
                <a:lnTo>
                  <a:pt x="1573445" y="343247"/>
                </a:lnTo>
                <a:lnTo>
                  <a:pt x="1573445" y="345993"/>
                </a:lnTo>
                <a:lnTo>
                  <a:pt x="1576191" y="345993"/>
                </a:lnTo>
                <a:lnTo>
                  <a:pt x="1578937" y="345993"/>
                </a:lnTo>
                <a:lnTo>
                  <a:pt x="1581682" y="348739"/>
                </a:lnTo>
                <a:lnTo>
                  <a:pt x="1584428" y="345993"/>
                </a:lnTo>
                <a:lnTo>
                  <a:pt x="1584428" y="343247"/>
                </a:lnTo>
                <a:lnTo>
                  <a:pt x="1581682" y="343247"/>
                </a:lnTo>
                <a:lnTo>
                  <a:pt x="1576191" y="340501"/>
                </a:lnTo>
                <a:close/>
                <a:moveTo>
                  <a:pt x="1101137" y="335009"/>
                </a:moveTo>
                <a:lnTo>
                  <a:pt x="1087407" y="340501"/>
                </a:lnTo>
                <a:lnTo>
                  <a:pt x="1070932" y="345993"/>
                </a:lnTo>
                <a:lnTo>
                  <a:pt x="1051710" y="351485"/>
                </a:lnTo>
                <a:lnTo>
                  <a:pt x="1032487" y="351485"/>
                </a:lnTo>
                <a:lnTo>
                  <a:pt x="996790" y="351485"/>
                </a:lnTo>
                <a:lnTo>
                  <a:pt x="963838" y="348739"/>
                </a:lnTo>
                <a:lnTo>
                  <a:pt x="1101137" y="335009"/>
                </a:lnTo>
                <a:close/>
                <a:moveTo>
                  <a:pt x="1620127" y="332263"/>
                </a:moveTo>
                <a:lnTo>
                  <a:pt x="1617380" y="335009"/>
                </a:lnTo>
                <a:lnTo>
                  <a:pt x="1617380" y="337755"/>
                </a:lnTo>
                <a:lnTo>
                  <a:pt x="1620127" y="340501"/>
                </a:lnTo>
                <a:lnTo>
                  <a:pt x="1622873" y="337755"/>
                </a:lnTo>
                <a:lnTo>
                  <a:pt x="1625618" y="335009"/>
                </a:lnTo>
                <a:lnTo>
                  <a:pt x="1622873" y="332263"/>
                </a:lnTo>
                <a:lnTo>
                  <a:pt x="1620127" y="332263"/>
                </a:lnTo>
                <a:close/>
                <a:moveTo>
                  <a:pt x="1134089" y="329517"/>
                </a:moveTo>
                <a:lnTo>
                  <a:pt x="1128598" y="343247"/>
                </a:lnTo>
                <a:lnTo>
                  <a:pt x="1125851" y="348739"/>
                </a:lnTo>
                <a:lnTo>
                  <a:pt x="1123105" y="348739"/>
                </a:lnTo>
                <a:lnTo>
                  <a:pt x="1120359" y="345993"/>
                </a:lnTo>
                <a:lnTo>
                  <a:pt x="1114868" y="343247"/>
                </a:lnTo>
                <a:lnTo>
                  <a:pt x="1114868" y="340501"/>
                </a:lnTo>
                <a:lnTo>
                  <a:pt x="1117613" y="332263"/>
                </a:lnTo>
                <a:lnTo>
                  <a:pt x="1134089" y="329517"/>
                </a:lnTo>
                <a:close/>
                <a:moveTo>
                  <a:pt x="1553356" y="327060"/>
                </a:moveTo>
                <a:lnTo>
                  <a:pt x="1559715" y="328039"/>
                </a:lnTo>
                <a:lnTo>
                  <a:pt x="1559715" y="329517"/>
                </a:lnTo>
                <a:lnTo>
                  <a:pt x="1559715" y="335009"/>
                </a:lnTo>
                <a:lnTo>
                  <a:pt x="1551477" y="337755"/>
                </a:lnTo>
                <a:lnTo>
                  <a:pt x="1543239" y="337755"/>
                </a:lnTo>
                <a:lnTo>
                  <a:pt x="1543239" y="335009"/>
                </a:lnTo>
                <a:lnTo>
                  <a:pt x="1540493" y="332263"/>
                </a:lnTo>
                <a:lnTo>
                  <a:pt x="1545985" y="329517"/>
                </a:lnTo>
                <a:lnTo>
                  <a:pt x="1553356" y="327060"/>
                </a:lnTo>
                <a:close/>
                <a:moveTo>
                  <a:pt x="1559715" y="326771"/>
                </a:moveTo>
                <a:lnTo>
                  <a:pt x="1561213" y="328269"/>
                </a:lnTo>
                <a:lnTo>
                  <a:pt x="1559715" y="328039"/>
                </a:lnTo>
                <a:lnTo>
                  <a:pt x="1559715" y="326771"/>
                </a:lnTo>
                <a:close/>
                <a:moveTo>
                  <a:pt x="1551477" y="326771"/>
                </a:moveTo>
                <a:lnTo>
                  <a:pt x="1554223" y="326771"/>
                </a:lnTo>
                <a:lnTo>
                  <a:pt x="1553356" y="327060"/>
                </a:lnTo>
                <a:lnTo>
                  <a:pt x="1551477" y="326771"/>
                </a:lnTo>
                <a:close/>
                <a:moveTo>
                  <a:pt x="1419121" y="323751"/>
                </a:moveTo>
                <a:lnTo>
                  <a:pt x="1422416" y="324025"/>
                </a:lnTo>
                <a:lnTo>
                  <a:pt x="1419670" y="324025"/>
                </a:lnTo>
                <a:lnTo>
                  <a:pt x="1419121" y="323751"/>
                </a:lnTo>
                <a:close/>
                <a:moveTo>
                  <a:pt x="1248774" y="318695"/>
                </a:moveTo>
                <a:lnTo>
                  <a:pt x="1227452" y="324025"/>
                </a:lnTo>
                <a:lnTo>
                  <a:pt x="1197247" y="324025"/>
                </a:lnTo>
                <a:lnTo>
                  <a:pt x="1248774" y="318695"/>
                </a:lnTo>
                <a:close/>
                <a:moveTo>
                  <a:pt x="1249421" y="318533"/>
                </a:moveTo>
                <a:lnTo>
                  <a:pt x="1249202" y="318650"/>
                </a:lnTo>
                <a:lnTo>
                  <a:pt x="1248774" y="318695"/>
                </a:lnTo>
                <a:lnTo>
                  <a:pt x="1249421" y="318533"/>
                </a:lnTo>
                <a:close/>
                <a:moveTo>
                  <a:pt x="1850788" y="313042"/>
                </a:moveTo>
                <a:lnTo>
                  <a:pt x="1737229" y="333264"/>
                </a:lnTo>
                <a:lnTo>
                  <a:pt x="1754679" y="335009"/>
                </a:lnTo>
                <a:lnTo>
                  <a:pt x="1779393" y="335009"/>
                </a:lnTo>
                <a:lnTo>
                  <a:pt x="1806852" y="332263"/>
                </a:lnTo>
                <a:lnTo>
                  <a:pt x="1828821" y="326772"/>
                </a:lnTo>
                <a:lnTo>
                  <a:pt x="1839804" y="321280"/>
                </a:lnTo>
                <a:lnTo>
                  <a:pt x="1848043" y="315788"/>
                </a:lnTo>
                <a:lnTo>
                  <a:pt x="1850788" y="313042"/>
                </a:lnTo>
                <a:close/>
                <a:moveTo>
                  <a:pt x="1340038" y="310295"/>
                </a:moveTo>
                <a:lnTo>
                  <a:pt x="1318068" y="324025"/>
                </a:lnTo>
                <a:lnTo>
                  <a:pt x="1315322" y="324025"/>
                </a:lnTo>
                <a:lnTo>
                  <a:pt x="1312577" y="326771"/>
                </a:lnTo>
                <a:lnTo>
                  <a:pt x="1304341" y="324025"/>
                </a:lnTo>
                <a:lnTo>
                  <a:pt x="1298847" y="321279"/>
                </a:lnTo>
                <a:lnTo>
                  <a:pt x="1282371" y="315787"/>
                </a:lnTo>
                <a:lnTo>
                  <a:pt x="1340038" y="310295"/>
                </a:lnTo>
                <a:close/>
                <a:moveTo>
                  <a:pt x="1857837" y="305992"/>
                </a:moveTo>
                <a:lnTo>
                  <a:pt x="1856280" y="307549"/>
                </a:lnTo>
                <a:lnTo>
                  <a:pt x="1856280" y="307550"/>
                </a:lnTo>
                <a:lnTo>
                  <a:pt x="1857837" y="305992"/>
                </a:lnTo>
                <a:close/>
                <a:moveTo>
                  <a:pt x="1513033" y="304803"/>
                </a:moveTo>
                <a:lnTo>
                  <a:pt x="1507541" y="307549"/>
                </a:lnTo>
                <a:lnTo>
                  <a:pt x="1507541" y="315787"/>
                </a:lnTo>
                <a:lnTo>
                  <a:pt x="1510287" y="315787"/>
                </a:lnTo>
                <a:lnTo>
                  <a:pt x="1513033" y="318533"/>
                </a:lnTo>
                <a:lnTo>
                  <a:pt x="1513033" y="313041"/>
                </a:lnTo>
                <a:lnTo>
                  <a:pt x="1518526" y="313041"/>
                </a:lnTo>
                <a:lnTo>
                  <a:pt x="1524017" y="313041"/>
                </a:lnTo>
                <a:lnTo>
                  <a:pt x="1529509" y="313041"/>
                </a:lnTo>
                <a:lnTo>
                  <a:pt x="1529509" y="307549"/>
                </a:lnTo>
                <a:lnTo>
                  <a:pt x="1526763" y="304803"/>
                </a:lnTo>
                <a:lnTo>
                  <a:pt x="1524017" y="304803"/>
                </a:lnTo>
                <a:lnTo>
                  <a:pt x="1513033" y="304803"/>
                </a:lnTo>
                <a:close/>
                <a:moveTo>
                  <a:pt x="1408686" y="302057"/>
                </a:moveTo>
                <a:lnTo>
                  <a:pt x="1414179" y="302057"/>
                </a:lnTo>
                <a:lnTo>
                  <a:pt x="1411434" y="304803"/>
                </a:lnTo>
                <a:lnTo>
                  <a:pt x="1408686" y="304803"/>
                </a:lnTo>
                <a:lnTo>
                  <a:pt x="1408686" y="307549"/>
                </a:lnTo>
                <a:lnTo>
                  <a:pt x="1408686" y="310295"/>
                </a:lnTo>
                <a:lnTo>
                  <a:pt x="1405940" y="313041"/>
                </a:lnTo>
                <a:lnTo>
                  <a:pt x="1408686" y="313041"/>
                </a:lnTo>
                <a:lnTo>
                  <a:pt x="1411434" y="313041"/>
                </a:lnTo>
                <a:lnTo>
                  <a:pt x="1414179" y="313041"/>
                </a:lnTo>
                <a:lnTo>
                  <a:pt x="1416924" y="313041"/>
                </a:lnTo>
                <a:lnTo>
                  <a:pt x="1416924" y="315787"/>
                </a:lnTo>
                <a:lnTo>
                  <a:pt x="1416924" y="318533"/>
                </a:lnTo>
                <a:lnTo>
                  <a:pt x="1414179" y="318533"/>
                </a:lnTo>
                <a:lnTo>
                  <a:pt x="1414179" y="321279"/>
                </a:lnTo>
                <a:lnTo>
                  <a:pt x="1419121" y="323751"/>
                </a:lnTo>
                <a:lnTo>
                  <a:pt x="1389464" y="321279"/>
                </a:lnTo>
                <a:lnTo>
                  <a:pt x="1381227" y="321279"/>
                </a:lnTo>
                <a:lnTo>
                  <a:pt x="1386718" y="318533"/>
                </a:lnTo>
                <a:lnTo>
                  <a:pt x="1386718" y="315787"/>
                </a:lnTo>
                <a:lnTo>
                  <a:pt x="1381227" y="321279"/>
                </a:lnTo>
                <a:lnTo>
                  <a:pt x="1367496" y="313041"/>
                </a:lnTo>
                <a:lnTo>
                  <a:pt x="1353766" y="307549"/>
                </a:lnTo>
                <a:lnTo>
                  <a:pt x="1397703" y="304803"/>
                </a:lnTo>
                <a:lnTo>
                  <a:pt x="1394958" y="307549"/>
                </a:lnTo>
                <a:lnTo>
                  <a:pt x="1403194" y="304803"/>
                </a:lnTo>
                <a:lnTo>
                  <a:pt x="1408686" y="302057"/>
                </a:lnTo>
                <a:close/>
                <a:moveTo>
                  <a:pt x="1721728" y="299311"/>
                </a:moveTo>
                <a:lnTo>
                  <a:pt x="1721728" y="302057"/>
                </a:lnTo>
                <a:lnTo>
                  <a:pt x="1721728" y="304803"/>
                </a:lnTo>
                <a:lnTo>
                  <a:pt x="1721728" y="307549"/>
                </a:lnTo>
                <a:lnTo>
                  <a:pt x="1727220" y="307549"/>
                </a:lnTo>
                <a:lnTo>
                  <a:pt x="1727220" y="302057"/>
                </a:lnTo>
                <a:lnTo>
                  <a:pt x="1721728" y="299311"/>
                </a:lnTo>
                <a:close/>
                <a:moveTo>
                  <a:pt x="1600905" y="296565"/>
                </a:moveTo>
                <a:lnTo>
                  <a:pt x="1589921" y="304803"/>
                </a:lnTo>
                <a:lnTo>
                  <a:pt x="1581682" y="310295"/>
                </a:lnTo>
                <a:lnTo>
                  <a:pt x="1581682" y="307549"/>
                </a:lnTo>
                <a:lnTo>
                  <a:pt x="1573445" y="302057"/>
                </a:lnTo>
                <a:lnTo>
                  <a:pt x="1565206" y="302057"/>
                </a:lnTo>
                <a:lnTo>
                  <a:pt x="1562461" y="307549"/>
                </a:lnTo>
                <a:lnTo>
                  <a:pt x="1565206" y="313041"/>
                </a:lnTo>
                <a:lnTo>
                  <a:pt x="1548731" y="313041"/>
                </a:lnTo>
                <a:lnTo>
                  <a:pt x="1529509" y="315787"/>
                </a:lnTo>
                <a:lnTo>
                  <a:pt x="1524017" y="318533"/>
                </a:lnTo>
                <a:lnTo>
                  <a:pt x="1526763" y="318533"/>
                </a:lnTo>
                <a:lnTo>
                  <a:pt x="1518526" y="324025"/>
                </a:lnTo>
                <a:lnTo>
                  <a:pt x="1510287" y="332263"/>
                </a:lnTo>
                <a:lnTo>
                  <a:pt x="1526763" y="326771"/>
                </a:lnTo>
                <a:lnTo>
                  <a:pt x="1529509" y="332263"/>
                </a:lnTo>
                <a:lnTo>
                  <a:pt x="1515779" y="332263"/>
                </a:lnTo>
                <a:lnTo>
                  <a:pt x="1515779" y="337755"/>
                </a:lnTo>
                <a:lnTo>
                  <a:pt x="1518526" y="340501"/>
                </a:lnTo>
                <a:lnTo>
                  <a:pt x="1518526" y="345993"/>
                </a:lnTo>
                <a:lnTo>
                  <a:pt x="1526763" y="351485"/>
                </a:lnTo>
                <a:lnTo>
                  <a:pt x="1529509" y="351485"/>
                </a:lnTo>
                <a:lnTo>
                  <a:pt x="1535002" y="351485"/>
                </a:lnTo>
                <a:lnTo>
                  <a:pt x="1535002" y="340501"/>
                </a:lnTo>
                <a:lnTo>
                  <a:pt x="1532255" y="332263"/>
                </a:lnTo>
                <a:lnTo>
                  <a:pt x="1535002" y="329517"/>
                </a:lnTo>
                <a:lnTo>
                  <a:pt x="1537748" y="329517"/>
                </a:lnTo>
                <a:lnTo>
                  <a:pt x="1537748" y="337755"/>
                </a:lnTo>
                <a:lnTo>
                  <a:pt x="1537748" y="345993"/>
                </a:lnTo>
                <a:lnTo>
                  <a:pt x="1545985" y="348739"/>
                </a:lnTo>
                <a:lnTo>
                  <a:pt x="1554223" y="345993"/>
                </a:lnTo>
                <a:lnTo>
                  <a:pt x="1562461" y="343247"/>
                </a:lnTo>
                <a:lnTo>
                  <a:pt x="1570699" y="340501"/>
                </a:lnTo>
                <a:lnTo>
                  <a:pt x="1565206" y="332263"/>
                </a:lnTo>
                <a:lnTo>
                  <a:pt x="1561213" y="328269"/>
                </a:lnTo>
                <a:lnTo>
                  <a:pt x="1587175" y="332263"/>
                </a:lnTo>
                <a:lnTo>
                  <a:pt x="1603651" y="332263"/>
                </a:lnTo>
                <a:lnTo>
                  <a:pt x="1609143" y="326771"/>
                </a:lnTo>
                <a:lnTo>
                  <a:pt x="1617380" y="321279"/>
                </a:lnTo>
                <a:lnTo>
                  <a:pt x="1609143" y="321279"/>
                </a:lnTo>
                <a:lnTo>
                  <a:pt x="1603651" y="315787"/>
                </a:lnTo>
                <a:lnTo>
                  <a:pt x="1600905" y="307549"/>
                </a:lnTo>
                <a:lnTo>
                  <a:pt x="1600905" y="296565"/>
                </a:lnTo>
                <a:close/>
                <a:moveTo>
                  <a:pt x="1551477" y="296565"/>
                </a:moveTo>
                <a:lnTo>
                  <a:pt x="1543239" y="302057"/>
                </a:lnTo>
                <a:lnTo>
                  <a:pt x="1532255" y="302057"/>
                </a:lnTo>
                <a:lnTo>
                  <a:pt x="1535002" y="310295"/>
                </a:lnTo>
                <a:lnTo>
                  <a:pt x="1540493" y="313041"/>
                </a:lnTo>
                <a:lnTo>
                  <a:pt x="1545985" y="307549"/>
                </a:lnTo>
                <a:lnTo>
                  <a:pt x="1545985" y="304803"/>
                </a:lnTo>
                <a:lnTo>
                  <a:pt x="1551477" y="304803"/>
                </a:lnTo>
                <a:lnTo>
                  <a:pt x="1551477" y="296565"/>
                </a:lnTo>
                <a:close/>
                <a:moveTo>
                  <a:pt x="1688776" y="282836"/>
                </a:moveTo>
                <a:lnTo>
                  <a:pt x="1664062" y="291073"/>
                </a:lnTo>
                <a:lnTo>
                  <a:pt x="1639348" y="296565"/>
                </a:lnTo>
                <a:lnTo>
                  <a:pt x="1625618" y="291073"/>
                </a:lnTo>
                <a:lnTo>
                  <a:pt x="1617380" y="291073"/>
                </a:lnTo>
                <a:lnTo>
                  <a:pt x="1609143" y="291073"/>
                </a:lnTo>
                <a:lnTo>
                  <a:pt x="1609143" y="296565"/>
                </a:lnTo>
                <a:lnTo>
                  <a:pt x="1611889" y="302057"/>
                </a:lnTo>
                <a:lnTo>
                  <a:pt x="1617380" y="302057"/>
                </a:lnTo>
                <a:lnTo>
                  <a:pt x="1620127" y="302057"/>
                </a:lnTo>
                <a:lnTo>
                  <a:pt x="1631111" y="299311"/>
                </a:lnTo>
                <a:lnTo>
                  <a:pt x="1639348" y="296565"/>
                </a:lnTo>
                <a:lnTo>
                  <a:pt x="1661316" y="296565"/>
                </a:lnTo>
                <a:lnTo>
                  <a:pt x="1683284" y="293819"/>
                </a:lnTo>
                <a:lnTo>
                  <a:pt x="1705252" y="293819"/>
                </a:lnTo>
                <a:lnTo>
                  <a:pt x="1732711" y="291073"/>
                </a:lnTo>
                <a:lnTo>
                  <a:pt x="1721728" y="285582"/>
                </a:lnTo>
                <a:lnTo>
                  <a:pt x="1710744" y="282836"/>
                </a:lnTo>
                <a:lnTo>
                  <a:pt x="1699760" y="282836"/>
                </a:lnTo>
                <a:lnTo>
                  <a:pt x="1688776" y="282836"/>
                </a:lnTo>
                <a:close/>
                <a:moveTo>
                  <a:pt x="1817837" y="269106"/>
                </a:moveTo>
                <a:lnTo>
                  <a:pt x="1823329" y="277344"/>
                </a:lnTo>
                <a:lnTo>
                  <a:pt x="1826075" y="280090"/>
                </a:lnTo>
                <a:lnTo>
                  <a:pt x="1826075" y="285582"/>
                </a:lnTo>
                <a:lnTo>
                  <a:pt x="1809599" y="285582"/>
                </a:lnTo>
                <a:lnTo>
                  <a:pt x="1795869" y="288328"/>
                </a:lnTo>
                <a:lnTo>
                  <a:pt x="1782139" y="293819"/>
                </a:lnTo>
                <a:lnTo>
                  <a:pt x="1771156" y="293819"/>
                </a:lnTo>
                <a:lnTo>
                  <a:pt x="1768409" y="293819"/>
                </a:lnTo>
                <a:lnTo>
                  <a:pt x="1765663" y="293819"/>
                </a:lnTo>
                <a:lnTo>
                  <a:pt x="1757425" y="288328"/>
                </a:lnTo>
                <a:lnTo>
                  <a:pt x="1754679" y="285582"/>
                </a:lnTo>
                <a:lnTo>
                  <a:pt x="1749187" y="285582"/>
                </a:lnTo>
                <a:lnTo>
                  <a:pt x="1740950" y="293819"/>
                </a:lnTo>
                <a:lnTo>
                  <a:pt x="1732711" y="307549"/>
                </a:lnTo>
                <a:lnTo>
                  <a:pt x="1724474" y="313041"/>
                </a:lnTo>
                <a:lnTo>
                  <a:pt x="1718982" y="318533"/>
                </a:lnTo>
                <a:lnTo>
                  <a:pt x="1707998" y="321279"/>
                </a:lnTo>
                <a:lnTo>
                  <a:pt x="1716236" y="324025"/>
                </a:lnTo>
                <a:lnTo>
                  <a:pt x="1732711" y="326771"/>
                </a:lnTo>
                <a:lnTo>
                  <a:pt x="1751933" y="324025"/>
                </a:lnTo>
                <a:lnTo>
                  <a:pt x="1768409" y="318533"/>
                </a:lnTo>
                <a:lnTo>
                  <a:pt x="1801361" y="307549"/>
                </a:lnTo>
                <a:lnTo>
                  <a:pt x="1828821" y="291073"/>
                </a:lnTo>
                <a:lnTo>
                  <a:pt x="1837059" y="296565"/>
                </a:lnTo>
                <a:lnTo>
                  <a:pt x="1839805" y="296565"/>
                </a:lnTo>
                <a:lnTo>
                  <a:pt x="1845297" y="296565"/>
                </a:lnTo>
                <a:lnTo>
                  <a:pt x="1856280" y="288328"/>
                </a:lnTo>
                <a:lnTo>
                  <a:pt x="1859026" y="282836"/>
                </a:lnTo>
                <a:lnTo>
                  <a:pt x="1861773" y="274598"/>
                </a:lnTo>
                <a:lnTo>
                  <a:pt x="1856280" y="271852"/>
                </a:lnTo>
                <a:lnTo>
                  <a:pt x="1853535" y="269106"/>
                </a:lnTo>
                <a:lnTo>
                  <a:pt x="1842551" y="269106"/>
                </a:lnTo>
                <a:lnTo>
                  <a:pt x="1831567" y="269106"/>
                </a:lnTo>
                <a:lnTo>
                  <a:pt x="1817837" y="269106"/>
                </a:lnTo>
                <a:close/>
                <a:moveTo>
                  <a:pt x="2233515" y="247993"/>
                </a:moveTo>
                <a:lnTo>
                  <a:pt x="2229733" y="249884"/>
                </a:lnTo>
                <a:lnTo>
                  <a:pt x="2224241" y="249884"/>
                </a:lnTo>
                <a:lnTo>
                  <a:pt x="2224241" y="249522"/>
                </a:lnTo>
                <a:lnTo>
                  <a:pt x="2233515" y="247993"/>
                </a:lnTo>
                <a:close/>
                <a:moveTo>
                  <a:pt x="2202274" y="236154"/>
                </a:moveTo>
                <a:lnTo>
                  <a:pt x="2202274" y="241646"/>
                </a:lnTo>
                <a:lnTo>
                  <a:pt x="2205020" y="238900"/>
                </a:lnTo>
                <a:lnTo>
                  <a:pt x="2205020" y="236154"/>
                </a:lnTo>
                <a:lnTo>
                  <a:pt x="2202274" y="236154"/>
                </a:lnTo>
                <a:close/>
                <a:moveTo>
                  <a:pt x="2139116" y="227916"/>
                </a:moveTo>
                <a:lnTo>
                  <a:pt x="2139116" y="233408"/>
                </a:lnTo>
                <a:lnTo>
                  <a:pt x="2144609" y="233408"/>
                </a:lnTo>
                <a:lnTo>
                  <a:pt x="2144609" y="227916"/>
                </a:lnTo>
                <a:lnTo>
                  <a:pt x="2139116" y="227916"/>
                </a:lnTo>
                <a:close/>
                <a:moveTo>
                  <a:pt x="2292891" y="222424"/>
                </a:moveTo>
                <a:lnTo>
                  <a:pt x="2290144" y="227916"/>
                </a:lnTo>
                <a:lnTo>
                  <a:pt x="2298383" y="227916"/>
                </a:lnTo>
                <a:lnTo>
                  <a:pt x="2298383" y="225170"/>
                </a:lnTo>
                <a:lnTo>
                  <a:pt x="2295637" y="222424"/>
                </a:lnTo>
                <a:lnTo>
                  <a:pt x="2292891" y="222424"/>
                </a:lnTo>
                <a:close/>
                <a:moveTo>
                  <a:pt x="2328589" y="219678"/>
                </a:moveTo>
                <a:lnTo>
                  <a:pt x="2325843" y="222424"/>
                </a:lnTo>
                <a:lnTo>
                  <a:pt x="2328589" y="222424"/>
                </a:lnTo>
                <a:lnTo>
                  <a:pt x="2328589" y="227916"/>
                </a:lnTo>
                <a:lnTo>
                  <a:pt x="2331334" y="227916"/>
                </a:lnTo>
                <a:lnTo>
                  <a:pt x="2336826" y="227916"/>
                </a:lnTo>
                <a:lnTo>
                  <a:pt x="2339572" y="227916"/>
                </a:lnTo>
                <a:lnTo>
                  <a:pt x="2339572" y="222424"/>
                </a:lnTo>
                <a:lnTo>
                  <a:pt x="2334081" y="222424"/>
                </a:lnTo>
                <a:lnTo>
                  <a:pt x="2331334" y="222424"/>
                </a:lnTo>
                <a:lnTo>
                  <a:pt x="2328589" y="219678"/>
                </a:lnTo>
                <a:close/>
                <a:moveTo>
                  <a:pt x="3174349" y="123569"/>
                </a:moveTo>
                <a:lnTo>
                  <a:pt x="2430190" y="214186"/>
                </a:lnTo>
                <a:lnTo>
                  <a:pt x="2424698" y="214186"/>
                </a:lnTo>
                <a:lnTo>
                  <a:pt x="2421952" y="216932"/>
                </a:lnTo>
                <a:lnTo>
                  <a:pt x="2397238" y="221006"/>
                </a:lnTo>
                <a:lnTo>
                  <a:pt x="2397238" y="222424"/>
                </a:lnTo>
                <a:lnTo>
                  <a:pt x="2391745" y="230662"/>
                </a:lnTo>
                <a:lnTo>
                  <a:pt x="2386254" y="233408"/>
                </a:lnTo>
                <a:lnTo>
                  <a:pt x="2375269" y="233408"/>
                </a:lnTo>
                <a:lnTo>
                  <a:pt x="2369778" y="230662"/>
                </a:lnTo>
                <a:lnTo>
                  <a:pt x="2367408" y="225923"/>
                </a:lnTo>
                <a:lnTo>
                  <a:pt x="2233515" y="247993"/>
                </a:lnTo>
                <a:lnTo>
                  <a:pt x="2235225" y="247138"/>
                </a:lnTo>
                <a:lnTo>
                  <a:pt x="2232480" y="244392"/>
                </a:lnTo>
                <a:lnTo>
                  <a:pt x="2232480" y="241646"/>
                </a:lnTo>
                <a:lnTo>
                  <a:pt x="2224241" y="241646"/>
                </a:lnTo>
                <a:lnTo>
                  <a:pt x="2224241" y="249522"/>
                </a:lnTo>
                <a:lnTo>
                  <a:pt x="2172069" y="258122"/>
                </a:lnTo>
                <a:lnTo>
                  <a:pt x="2169322" y="260868"/>
                </a:lnTo>
                <a:lnTo>
                  <a:pt x="2158048" y="262747"/>
                </a:lnTo>
                <a:lnTo>
                  <a:pt x="2158338" y="263614"/>
                </a:lnTo>
                <a:lnTo>
                  <a:pt x="2158338" y="274598"/>
                </a:lnTo>
                <a:lnTo>
                  <a:pt x="2150099" y="280090"/>
                </a:lnTo>
                <a:lnTo>
                  <a:pt x="2141862" y="288328"/>
                </a:lnTo>
                <a:lnTo>
                  <a:pt x="2133624" y="296566"/>
                </a:lnTo>
                <a:lnTo>
                  <a:pt x="2122640" y="299312"/>
                </a:lnTo>
                <a:lnTo>
                  <a:pt x="2111656" y="296566"/>
                </a:lnTo>
                <a:lnTo>
                  <a:pt x="2103418" y="291074"/>
                </a:lnTo>
                <a:lnTo>
                  <a:pt x="2097926" y="282836"/>
                </a:lnTo>
                <a:lnTo>
                  <a:pt x="2097492" y="281102"/>
                </a:lnTo>
                <a:lnTo>
                  <a:pt x="2106164" y="282836"/>
                </a:lnTo>
                <a:lnTo>
                  <a:pt x="2096357" y="273029"/>
                </a:lnTo>
                <a:lnTo>
                  <a:pt x="2095510" y="273170"/>
                </a:lnTo>
                <a:lnTo>
                  <a:pt x="2097492" y="281102"/>
                </a:lnTo>
                <a:lnTo>
                  <a:pt x="2092434" y="280090"/>
                </a:lnTo>
                <a:lnTo>
                  <a:pt x="2078704" y="277344"/>
                </a:lnTo>
                <a:lnTo>
                  <a:pt x="2074960" y="276595"/>
                </a:lnTo>
                <a:lnTo>
                  <a:pt x="2070467" y="277344"/>
                </a:lnTo>
                <a:lnTo>
                  <a:pt x="2045753" y="274598"/>
                </a:lnTo>
                <a:lnTo>
                  <a:pt x="2021039" y="277344"/>
                </a:lnTo>
                <a:lnTo>
                  <a:pt x="2012801" y="280090"/>
                </a:lnTo>
                <a:lnTo>
                  <a:pt x="2007309" y="285582"/>
                </a:lnTo>
                <a:lnTo>
                  <a:pt x="2004563" y="285582"/>
                </a:lnTo>
                <a:lnTo>
                  <a:pt x="2010055" y="280090"/>
                </a:lnTo>
                <a:lnTo>
                  <a:pt x="2010055" y="271852"/>
                </a:lnTo>
                <a:lnTo>
                  <a:pt x="2004563" y="269106"/>
                </a:lnTo>
                <a:lnTo>
                  <a:pt x="2001817" y="266360"/>
                </a:lnTo>
                <a:lnTo>
                  <a:pt x="1996325" y="255376"/>
                </a:lnTo>
                <a:lnTo>
                  <a:pt x="1988087" y="258122"/>
                </a:lnTo>
                <a:lnTo>
                  <a:pt x="1982596" y="255376"/>
                </a:lnTo>
                <a:lnTo>
                  <a:pt x="1968866" y="249884"/>
                </a:lnTo>
                <a:lnTo>
                  <a:pt x="1963374" y="255376"/>
                </a:lnTo>
                <a:lnTo>
                  <a:pt x="1955136" y="255376"/>
                </a:lnTo>
                <a:lnTo>
                  <a:pt x="1944152" y="255376"/>
                </a:lnTo>
                <a:lnTo>
                  <a:pt x="1941406" y="255376"/>
                </a:lnTo>
                <a:lnTo>
                  <a:pt x="1938660" y="258122"/>
                </a:lnTo>
                <a:lnTo>
                  <a:pt x="1938660" y="260868"/>
                </a:lnTo>
                <a:lnTo>
                  <a:pt x="1938660" y="263614"/>
                </a:lnTo>
                <a:lnTo>
                  <a:pt x="1941406" y="266360"/>
                </a:lnTo>
                <a:lnTo>
                  <a:pt x="1935914" y="266360"/>
                </a:lnTo>
                <a:lnTo>
                  <a:pt x="1930422" y="269106"/>
                </a:lnTo>
                <a:lnTo>
                  <a:pt x="1930422" y="271852"/>
                </a:lnTo>
                <a:lnTo>
                  <a:pt x="1933168" y="277344"/>
                </a:lnTo>
                <a:lnTo>
                  <a:pt x="1927676" y="277344"/>
                </a:lnTo>
                <a:lnTo>
                  <a:pt x="1919438" y="280090"/>
                </a:lnTo>
                <a:lnTo>
                  <a:pt x="1916692" y="285582"/>
                </a:lnTo>
                <a:lnTo>
                  <a:pt x="1916692" y="296565"/>
                </a:lnTo>
                <a:lnTo>
                  <a:pt x="1924930" y="299311"/>
                </a:lnTo>
                <a:lnTo>
                  <a:pt x="1924930" y="302057"/>
                </a:lnTo>
                <a:lnTo>
                  <a:pt x="1900163" y="305596"/>
                </a:lnTo>
                <a:lnTo>
                  <a:pt x="1900776" y="307028"/>
                </a:lnTo>
                <a:lnTo>
                  <a:pt x="1949643" y="299312"/>
                </a:lnTo>
                <a:lnTo>
                  <a:pt x="1968865" y="293820"/>
                </a:lnTo>
                <a:lnTo>
                  <a:pt x="1990832" y="285582"/>
                </a:lnTo>
                <a:lnTo>
                  <a:pt x="1993578" y="288328"/>
                </a:lnTo>
                <a:lnTo>
                  <a:pt x="1990832" y="288328"/>
                </a:lnTo>
                <a:lnTo>
                  <a:pt x="1982595" y="296566"/>
                </a:lnTo>
                <a:lnTo>
                  <a:pt x="1971611" y="302058"/>
                </a:lnTo>
                <a:lnTo>
                  <a:pt x="1946897" y="307550"/>
                </a:lnTo>
                <a:lnTo>
                  <a:pt x="1903087" y="312418"/>
                </a:lnTo>
                <a:lnTo>
                  <a:pt x="1905708" y="318534"/>
                </a:lnTo>
                <a:lnTo>
                  <a:pt x="1905708" y="324026"/>
                </a:lnTo>
                <a:lnTo>
                  <a:pt x="1905708" y="329517"/>
                </a:lnTo>
                <a:lnTo>
                  <a:pt x="1900216" y="340501"/>
                </a:lnTo>
                <a:lnTo>
                  <a:pt x="1894723" y="348739"/>
                </a:lnTo>
                <a:lnTo>
                  <a:pt x="1891978" y="356977"/>
                </a:lnTo>
                <a:lnTo>
                  <a:pt x="1889232" y="373453"/>
                </a:lnTo>
                <a:lnTo>
                  <a:pt x="1889232" y="395421"/>
                </a:lnTo>
                <a:lnTo>
                  <a:pt x="1891978" y="414643"/>
                </a:lnTo>
                <a:lnTo>
                  <a:pt x="1902962" y="455832"/>
                </a:lnTo>
                <a:lnTo>
                  <a:pt x="1905708" y="475054"/>
                </a:lnTo>
                <a:lnTo>
                  <a:pt x="1908453" y="491530"/>
                </a:lnTo>
                <a:lnTo>
                  <a:pt x="1905708" y="497022"/>
                </a:lnTo>
                <a:lnTo>
                  <a:pt x="1902962" y="502514"/>
                </a:lnTo>
                <a:lnTo>
                  <a:pt x="1900216" y="505260"/>
                </a:lnTo>
                <a:lnTo>
                  <a:pt x="1894723" y="508006"/>
                </a:lnTo>
                <a:lnTo>
                  <a:pt x="1889232" y="508006"/>
                </a:lnTo>
                <a:lnTo>
                  <a:pt x="1883740" y="505260"/>
                </a:lnTo>
                <a:lnTo>
                  <a:pt x="1878248" y="502514"/>
                </a:lnTo>
                <a:lnTo>
                  <a:pt x="1875502" y="497022"/>
                </a:lnTo>
                <a:lnTo>
                  <a:pt x="1872756" y="477800"/>
                </a:lnTo>
                <a:lnTo>
                  <a:pt x="1867264" y="455832"/>
                </a:lnTo>
                <a:lnTo>
                  <a:pt x="1867264" y="444848"/>
                </a:lnTo>
                <a:lnTo>
                  <a:pt x="1867264" y="433865"/>
                </a:lnTo>
                <a:lnTo>
                  <a:pt x="1870010" y="425627"/>
                </a:lnTo>
                <a:lnTo>
                  <a:pt x="1872756" y="417389"/>
                </a:lnTo>
                <a:lnTo>
                  <a:pt x="1880994" y="409151"/>
                </a:lnTo>
                <a:lnTo>
                  <a:pt x="1883740" y="398167"/>
                </a:lnTo>
                <a:lnTo>
                  <a:pt x="1883740" y="387183"/>
                </a:lnTo>
                <a:lnTo>
                  <a:pt x="1880994" y="376199"/>
                </a:lnTo>
                <a:lnTo>
                  <a:pt x="1872756" y="354231"/>
                </a:lnTo>
                <a:lnTo>
                  <a:pt x="1864518" y="335009"/>
                </a:lnTo>
                <a:lnTo>
                  <a:pt x="1861772" y="326772"/>
                </a:lnTo>
                <a:lnTo>
                  <a:pt x="1861772" y="324483"/>
                </a:lnTo>
                <a:lnTo>
                  <a:pt x="1864518" y="324026"/>
                </a:lnTo>
                <a:lnTo>
                  <a:pt x="1880994" y="324026"/>
                </a:lnTo>
                <a:lnTo>
                  <a:pt x="1871443" y="309699"/>
                </a:lnTo>
                <a:lnTo>
                  <a:pt x="1867265" y="310295"/>
                </a:lnTo>
                <a:lnTo>
                  <a:pt x="1867265" y="303432"/>
                </a:lnTo>
                <a:lnTo>
                  <a:pt x="1866349" y="302057"/>
                </a:lnTo>
                <a:lnTo>
                  <a:pt x="1864519" y="302057"/>
                </a:lnTo>
                <a:lnTo>
                  <a:pt x="1864126" y="302057"/>
                </a:lnTo>
                <a:lnTo>
                  <a:pt x="1861772" y="318534"/>
                </a:lnTo>
                <a:lnTo>
                  <a:pt x="1861772" y="324483"/>
                </a:lnTo>
                <a:lnTo>
                  <a:pt x="1848043" y="326772"/>
                </a:lnTo>
                <a:lnTo>
                  <a:pt x="1815091" y="337755"/>
                </a:lnTo>
                <a:lnTo>
                  <a:pt x="1782139" y="351485"/>
                </a:lnTo>
                <a:lnTo>
                  <a:pt x="1751933" y="365215"/>
                </a:lnTo>
                <a:lnTo>
                  <a:pt x="1735457" y="367961"/>
                </a:lnTo>
                <a:lnTo>
                  <a:pt x="1716235" y="367961"/>
                </a:lnTo>
                <a:lnTo>
                  <a:pt x="1697014" y="367961"/>
                </a:lnTo>
                <a:lnTo>
                  <a:pt x="1677792" y="367961"/>
                </a:lnTo>
                <a:lnTo>
                  <a:pt x="1653078" y="370707"/>
                </a:lnTo>
                <a:lnTo>
                  <a:pt x="1631110" y="376199"/>
                </a:lnTo>
                <a:lnTo>
                  <a:pt x="1620126" y="378945"/>
                </a:lnTo>
                <a:lnTo>
                  <a:pt x="1609143" y="387183"/>
                </a:lnTo>
                <a:lnTo>
                  <a:pt x="1600904" y="395421"/>
                </a:lnTo>
                <a:lnTo>
                  <a:pt x="1595412" y="406405"/>
                </a:lnTo>
                <a:lnTo>
                  <a:pt x="1589921" y="417389"/>
                </a:lnTo>
                <a:lnTo>
                  <a:pt x="1584428" y="422881"/>
                </a:lnTo>
                <a:lnTo>
                  <a:pt x="1578936" y="425627"/>
                </a:lnTo>
                <a:lnTo>
                  <a:pt x="1576191" y="425627"/>
                </a:lnTo>
                <a:lnTo>
                  <a:pt x="1576191" y="431118"/>
                </a:lnTo>
                <a:lnTo>
                  <a:pt x="1573445" y="431118"/>
                </a:lnTo>
                <a:lnTo>
                  <a:pt x="1570699" y="431118"/>
                </a:lnTo>
                <a:lnTo>
                  <a:pt x="1567952" y="428372"/>
                </a:lnTo>
                <a:lnTo>
                  <a:pt x="1565206" y="428372"/>
                </a:lnTo>
                <a:lnTo>
                  <a:pt x="1565206" y="431118"/>
                </a:lnTo>
                <a:lnTo>
                  <a:pt x="1567952" y="433864"/>
                </a:lnTo>
                <a:lnTo>
                  <a:pt x="1567952" y="436610"/>
                </a:lnTo>
                <a:lnTo>
                  <a:pt x="1573445" y="433864"/>
                </a:lnTo>
                <a:lnTo>
                  <a:pt x="1576191" y="431118"/>
                </a:lnTo>
                <a:lnTo>
                  <a:pt x="1576191" y="458578"/>
                </a:lnTo>
                <a:lnTo>
                  <a:pt x="1573445" y="455832"/>
                </a:lnTo>
                <a:lnTo>
                  <a:pt x="1570699" y="461324"/>
                </a:lnTo>
                <a:lnTo>
                  <a:pt x="1573445" y="466816"/>
                </a:lnTo>
                <a:lnTo>
                  <a:pt x="1576191" y="466816"/>
                </a:lnTo>
                <a:lnTo>
                  <a:pt x="1576191" y="472308"/>
                </a:lnTo>
                <a:lnTo>
                  <a:pt x="1573445" y="475054"/>
                </a:lnTo>
                <a:lnTo>
                  <a:pt x="1570699" y="475054"/>
                </a:lnTo>
                <a:lnTo>
                  <a:pt x="1565206" y="464070"/>
                </a:lnTo>
                <a:lnTo>
                  <a:pt x="1559715" y="458578"/>
                </a:lnTo>
                <a:lnTo>
                  <a:pt x="1551477" y="458578"/>
                </a:lnTo>
                <a:lnTo>
                  <a:pt x="1551477" y="461324"/>
                </a:lnTo>
                <a:lnTo>
                  <a:pt x="1554223" y="464070"/>
                </a:lnTo>
                <a:lnTo>
                  <a:pt x="1551477" y="466816"/>
                </a:lnTo>
                <a:lnTo>
                  <a:pt x="1548731" y="466816"/>
                </a:lnTo>
                <a:lnTo>
                  <a:pt x="1545985" y="466816"/>
                </a:lnTo>
                <a:lnTo>
                  <a:pt x="1543239" y="469562"/>
                </a:lnTo>
                <a:lnTo>
                  <a:pt x="1554223" y="475054"/>
                </a:lnTo>
                <a:lnTo>
                  <a:pt x="1559715" y="477800"/>
                </a:lnTo>
                <a:lnTo>
                  <a:pt x="1567952" y="475054"/>
                </a:lnTo>
                <a:lnTo>
                  <a:pt x="1570699" y="477800"/>
                </a:lnTo>
                <a:lnTo>
                  <a:pt x="1576191" y="477800"/>
                </a:lnTo>
                <a:lnTo>
                  <a:pt x="1576191" y="497022"/>
                </a:lnTo>
                <a:lnTo>
                  <a:pt x="1573445" y="499768"/>
                </a:lnTo>
                <a:lnTo>
                  <a:pt x="1573445" y="502514"/>
                </a:lnTo>
                <a:lnTo>
                  <a:pt x="1576191" y="502514"/>
                </a:lnTo>
                <a:lnTo>
                  <a:pt x="1576191" y="505260"/>
                </a:lnTo>
                <a:lnTo>
                  <a:pt x="1576191" y="510752"/>
                </a:lnTo>
                <a:lnTo>
                  <a:pt x="1576191" y="546449"/>
                </a:lnTo>
                <a:lnTo>
                  <a:pt x="1570699" y="546449"/>
                </a:lnTo>
                <a:lnTo>
                  <a:pt x="1570699" y="549195"/>
                </a:lnTo>
                <a:lnTo>
                  <a:pt x="1576191" y="549195"/>
                </a:lnTo>
                <a:lnTo>
                  <a:pt x="1576191" y="568417"/>
                </a:lnTo>
                <a:lnTo>
                  <a:pt x="1570699" y="568417"/>
                </a:lnTo>
                <a:lnTo>
                  <a:pt x="1570699" y="573909"/>
                </a:lnTo>
                <a:lnTo>
                  <a:pt x="1576191" y="576655"/>
                </a:lnTo>
                <a:lnTo>
                  <a:pt x="1573445" y="818301"/>
                </a:lnTo>
                <a:lnTo>
                  <a:pt x="1556969" y="818301"/>
                </a:lnTo>
                <a:lnTo>
                  <a:pt x="1540493" y="818301"/>
                </a:lnTo>
                <a:lnTo>
                  <a:pt x="1537748" y="823793"/>
                </a:lnTo>
                <a:lnTo>
                  <a:pt x="1537748" y="829285"/>
                </a:lnTo>
                <a:lnTo>
                  <a:pt x="1540493" y="829285"/>
                </a:lnTo>
                <a:lnTo>
                  <a:pt x="1540493" y="834777"/>
                </a:lnTo>
                <a:lnTo>
                  <a:pt x="1548731" y="834777"/>
                </a:lnTo>
                <a:lnTo>
                  <a:pt x="1551477" y="837523"/>
                </a:lnTo>
                <a:lnTo>
                  <a:pt x="1556969" y="840269"/>
                </a:lnTo>
                <a:lnTo>
                  <a:pt x="1562461" y="840269"/>
                </a:lnTo>
                <a:lnTo>
                  <a:pt x="1562461" y="853999"/>
                </a:lnTo>
                <a:lnTo>
                  <a:pt x="1567952" y="853999"/>
                </a:lnTo>
                <a:lnTo>
                  <a:pt x="1573445" y="853999"/>
                </a:lnTo>
                <a:lnTo>
                  <a:pt x="1573445" y="867729"/>
                </a:lnTo>
                <a:lnTo>
                  <a:pt x="1562461" y="867729"/>
                </a:lnTo>
                <a:lnTo>
                  <a:pt x="1559715" y="870475"/>
                </a:lnTo>
                <a:lnTo>
                  <a:pt x="1556969" y="873221"/>
                </a:lnTo>
                <a:lnTo>
                  <a:pt x="1554223" y="873221"/>
                </a:lnTo>
                <a:lnTo>
                  <a:pt x="1551477" y="873221"/>
                </a:lnTo>
                <a:lnTo>
                  <a:pt x="1548731" y="875967"/>
                </a:lnTo>
                <a:lnTo>
                  <a:pt x="1545985" y="878713"/>
                </a:lnTo>
                <a:lnTo>
                  <a:pt x="1551477" y="878713"/>
                </a:lnTo>
                <a:lnTo>
                  <a:pt x="1556969" y="875967"/>
                </a:lnTo>
                <a:lnTo>
                  <a:pt x="1554223" y="886951"/>
                </a:lnTo>
                <a:lnTo>
                  <a:pt x="1554223" y="892443"/>
                </a:lnTo>
                <a:lnTo>
                  <a:pt x="1556969" y="895188"/>
                </a:lnTo>
                <a:lnTo>
                  <a:pt x="1548731" y="900680"/>
                </a:lnTo>
                <a:lnTo>
                  <a:pt x="1548731" y="897934"/>
                </a:lnTo>
                <a:lnTo>
                  <a:pt x="1545985" y="895188"/>
                </a:lnTo>
                <a:lnTo>
                  <a:pt x="1543239" y="895188"/>
                </a:lnTo>
                <a:lnTo>
                  <a:pt x="1543239" y="889697"/>
                </a:lnTo>
                <a:lnTo>
                  <a:pt x="1532255" y="889697"/>
                </a:lnTo>
                <a:lnTo>
                  <a:pt x="1524017" y="889697"/>
                </a:lnTo>
                <a:lnTo>
                  <a:pt x="1521272" y="897934"/>
                </a:lnTo>
                <a:lnTo>
                  <a:pt x="1518526" y="908918"/>
                </a:lnTo>
                <a:lnTo>
                  <a:pt x="1524017" y="908918"/>
                </a:lnTo>
                <a:lnTo>
                  <a:pt x="1524017" y="911664"/>
                </a:lnTo>
                <a:lnTo>
                  <a:pt x="1526763" y="919902"/>
                </a:lnTo>
                <a:lnTo>
                  <a:pt x="1455368" y="928140"/>
                </a:lnTo>
                <a:lnTo>
                  <a:pt x="1455368" y="925394"/>
                </a:lnTo>
                <a:lnTo>
                  <a:pt x="1452622" y="925394"/>
                </a:lnTo>
                <a:lnTo>
                  <a:pt x="1447130" y="925394"/>
                </a:lnTo>
                <a:lnTo>
                  <a:pt x="1447130" y="928140"/>
                </a:lnTo>
                <a:lnTo>
                  <a:pt x="1070932" y="972076"/>
                </a:lnTo>
                <a:lnTo>
                  <a:pt x="1062694" y="969330"/>
                </a:lnTo>
                <a:lnTo>
                  <a:pt x="1054456" y="969330"/>
                </a:lnTo>
                <a:lnTo>
                  <a:pt x="1054456" y="972076"/>
                </a:lnTo>
                <a:lnTo>
                  <a:pt x="1018756" y="978026"/>
                </a:lnTo>
                <a:lnTo>
                  <a:pt x="1018756" y="980314"/>
                </a:lnTo>
                <a:lnTo>
                  <a:pt x="1016010" y="985806"/>
                </a:lnTo>
                <a:lnTo>
                  <a:pt x="1010518" y="991298"/>
                </a:lnTo>
                <a:lnTo>
                  <a:pt x="1005026" y="996790"/>
                </a:lnTo>
                <a:lnTo>
                  <a:pt x="991296" y="1002282"/>
                </a:lnTo>
                <a:lnTo>
                  <a:pt x="974820" y="1002282"/>
                </a:lnTo>
                <a:lnTo>
                  <a:pt x="958344" y="999536"/>
                </a:lnTo>
                <a:lnTo>
                  <a:pt x="933631" y="994044"/>
                </a:lnTo>
                <a:lnTo>
                  <a:pt x="911663" y="991298"/>
                </a:lnTo>
                <a:lnTo>
                  <a:pt x="889695" y="994044"/>
                </a:lnTo>
                <a:lnTo>
                  <a:pt x="878712" y="996790"/>
                </a:lnTo>
                <a:lnTo>
                  <a:pt x="867728" y="1002282"/>
                </a:lnTo>
                <a:lnTo>
                  <a:pt x="843014" y="1016011"/>
                </a:lnTo>
                <a:lnTo>
                  <a:pt x="832030" y="1024249"/>
                </a:lnTo>
                <a:lnTo>
                  <a:pt x="818300" y="1026995"/>
                </a:lnTo>
                <a:lnTo>
                  <a:pt x="804570" y="1032487"/>
                </a:lnTo>
                <a:lnTo>
                  <a:pt x="788094" y="1032487"/>
                </a:lnTo>
                <a:lnTo>
                  <a:pt x="757889" y="1032487"/>
                </a:lnTo>
                <a:lnTo>
                  <a:pt x="727683" y="1026995"/>
                </a:lnTo>
                <a:lnTo>
                  <a:pt x="697477" y="1021503"/>
                </a:lnTo>
                <a:lnTo>
                  <a:pt x="680690" y="1016467"/>
                </a:lnTo>
                <a:lnTo>
                  <a:pt x="540957" y="1032488"/>
                </a:lnTo>
                <a:lnTo>
                  <a:pt x="543703" y="1029742"/>
                </a:lnTo>
                <a:lnTo>
                  <a:pt x="546450" y="1029742"/>
                </a:lnTo>
                <a:lnTo>
                  <a:pt x="546450" y="1024250"/>
                </a:lnTo>
                <a:lnTo>
                  <a:pt x="543703" y="1024250"/>
                </a:lnTo>
                <a:lnTo>
                  <a:pt x="540957" y="1026996"/>
                </a:lnTo>
                <a:lnTo>
                  <a:pt x="538212" y="1026996"/>
                </a:lnTo>
                <a:lnTo>
                  <a:pt x="538212" y="1032488"/>
                </a:lnTo>
                <a:lnTo>
                  <a:pt x="513498" y="1035234"/>
                </a:lnTo>
                <a:lnTo>
                  <a:pt x="508005" y="1035234"/>
                </a:lnTo>
                <a:lnTo>
                  <a:pt x="502514" y="1032488"/>
                </a:lnTo>
                <a:lnTo>
                  <a:pt x="502514" y="1035234"/>
                </a:lnTo>
                <a:lnTo>
                  <a:pt x="505260" y="1035234"/>
                </a:lnTo>
                <a:lnTo>
                  <a:pt x="477800" y="1040726"/>
                </a:lnTo>
                <a:lnTo>
                  <a:pt x="469562" y="1037980"/>
                </a:lnTo>
                <a:lnTo>
                  <a:pt x="461324" y="1040726"/>
                </a:lnTo>
                <a:lnTo>
                  <a:pt x="461324" y="1037980"/>
                </a:lnTo>
                <a:lnTo>
                  <a:pt x="458578" y="1035234"/>
                </a:lnTo>
                <a:lnTo>
                  <a:pt x="469562" y="1035234"/>
                </a:lnTo>
                <a:lnTo>
                  <a:pt x="469562" y="1029742"/>
                </a:lnTo>
                <a:lnTo>
                  <a:pt x="464070" y="1029742"/>
                </a:lnTo>
                <a:lnTo>
                  <a:pt x="461324" y="1029742"/>
                </a:lnTo>
                <a:lnTo>
                  <a:pt x="458578" y="1032488"/>
                </a:lnTo>
                <a:lnTo>
                  <a:pt x="455832" y="1032488"/>
                </a:lnTo>
                <a:lnTo>
                  <a:pt x="453086" y="1037980"/>
                </a:lnTo>
                <a:lnTo>
                  <a:pt x="447594" y="1037980"/>
                </a:lnTo>
                <a:lnTo>
                  <a:pt x="447594" y="1043472"/>
                </a:lnTo>
                <a:lnTo>
                  <a:pt x="439356" y="1043472"/>
                </a:lnTo>
                <a:lnTo>
                  <a:pt x="439356" y="1037980"/>
                </a:lnTo>
                <a:lnTo>
                  <a:pt x="433864" y="1037980"/>
                </a:lnTo>
                <a:lnTo>
                  <a:pt x="428372" y="1035234"/>
                </a:lnTo>
                <a:lnTo>
                  <a:pt x="422880" y="1035234"/>
                </a:lnTo>
                <a:lnTo>
                  <a:pt x="420134" y="1037980"/>
                </a:lnTo>
                <a:lnTo>
                  <a:pt x="420134" y="1035234"/>
                </a:lnTo>
                <a:lnTo>
                  <a:pt x="420134" y="1032488"/>
                </a:lnTo>
                <a:lnTo>
                  <a:pt x="414642" y="1029742"/>
                </a:lnTo>
                <a:lnTo>
                  <a:pt x="406404" y="1029742"/>
                </a:lnTo>
                <a:lnTo>
                  <a:pt x="400913" y="1026996"/>
                </a:lnTo>
                <a:lnTo>
                  <a:pt x="392675" y="1032488"/>
                </a:lnTo>
                <a:lnTo>
                  <a:pt x="387183" y="1032488"/>
                </a:lnTo>
                <a:lnTo>
                  <a:pt x="381691" y="1032488"/>
                </a:lnTo>
                <a:lnTo>
                  <a:pt x="381691" y="1043472"/>
                </a:lnTo>
                <a:lnTo>
                  <a:pt x="384437" y="1040726"/>
                </a:lnTo>
                <a:lnTo>
                  <a:pt x="384437" y="1037980"/>
                </a:lnTo>
                <a:lnTo>
                  <a:pt x="387183" y="1035234"/>
                </a:lnTo>
                <a:lnTo>
                  <a:pt x="389929" y="1037980"/>
                </a:lnTo>
                <a:lnTo>
                  <a:pt x="392675" y="1037980"/>
                </a:lnTo>
                <a:lnTo>
                  <a:pt x="398167" y="1035234"/>
                </a:lnTo>
                <a:lnTo>
                  <a:pt x="395421" y="1040726"/>
                </a:lnTo>
                <a:lnTo>
                  <a:pt x="395421" y="1043472"/>
                </a:lnTo>
                <a:lnTo>
                  <a:pt x="392675" y="1046218"/>
                </a:lnTo>
                <a:lnTo>
                  <a:pt x="389929" y="1048964"/>
                </a:lnTo>
                <a:lnTo>
                  <a:pt x="387183" y="1048964"/>
                </a:lnTo>
                <a:lnTo>
                  <a:pt x="384437" y="1046218"/>
                </a:lnTo>
                <a:lnTo>
                  <a:pt x="381691" y="1046218"/>
                </a:lnTo>
                <a:lnTo>
                  <a:pt x="381691" y="1048964"/>
                </a:lnTo>
                <a:lnTo>
                  <a:pt x="378945" y="1051710"/>
                </a:lnTo>
                <a:lnTo>
                  <a:pt x="376199" y="1051710"/>
                </a:lnTo>
                <a:lnTo>
                  <a:pt x="370707" y="1048964"/>
                </a:lnTo>
                <a:lnTo>
                  <a:pt x="370707" y="1051710"/>
                </a:lnTo>
                <a:lnTo>
                  <a:pt x="60411" y="1087407"/>
                </a:lnTo>
                <a:lnTo>
                  <a:pt x="63157" y="1084661"/>
                </a:lnTo>
                <a:lnTo>
                  <a:pt x="68650" y="1084661"/>
                </a:lnTo>
                <a:lnTo>
                  <a:pt x="74141" y="1081915"/>
                </a:lnTo>
                <a:lnTo>
                  <a:pt x="85125" y="1076423"/>
                </a:lnTo>
                <a:lnTo>
                  <a:pt x="85125" y="1068185"/>
                </a:lnTo>
                <a:lnTo>
                  <a:pt x="87871" y="1062693"/>
                </a:lnTo>
                <a:lnTo>
                  <a:pt x="85125" y="1057201"/>
                </a:lnTo>
                <a:lnTo>
                  <a:pt x="79633" y="1054455"/>
                </a:lnTo>
                <a:lnTo>
                  <a:pt x="76887" y="1046218"/>
                </a:lnTo>
                <a:lnTo>
                  <a:pt x="68650" y="1040726"/>
                </a:lnTo>
                <a:lnTo>
                  <a:pt x="60411" y="1035234"/>
                </a:lnTo>
                <a:lnTo>
                  <a:pt x="54920" y="1029742"/>
                </a:lnTo>
                <a:lnTo>
                  <a:pt x="112585" y="958346"/>
                </a:lnTo>
                <a:lnTo>
                  <a:pt x="118077" y="958346"/>
                </a:lnTo>
                <a:lnTo>
                  <a:pt x="115331" y="952854"/>
                </a:lnTo>
                <a:lnTo>
                  <a:pt x="266360" y="771620"/>
                </a:lnTo>
                <a:lnTo>
                  <a:pt x="282836" y="771620"/>
                </a:lnTo>
                <a:lnTo>
                  <a:pt x="296565" y="768874"/>
                </a:lnTo>
                <a:lnTo>
                  <a:pt x="313041" y="766128"/>
                </a:lnTo>
                <a:lnTo>
                  <a:pt x="329517" y="760636"/>
                </a:lnTo>
                <a:lnTo>
                  <a:pt x="356977" y="746906"/>
                </a:lnTo>
                <a:lnTo>
                  <a:pt x="381691" y="730430"/>
                </a:lnTo>
                <a:lnTo>
                  <a:pt x="370707" y="730430"/>
                </a:lnTo>
                <a:lnTo>
                  <a:pt x="362469" y="730430"/>
                </a:lnTo>
                <a:lnTo>
                  <a:pt x="343247" y="733176"/>
                </a:lnTo>
                <a:lnTo>
                  <a:pt x="329517" y="738668"/>
                </a:lnTo>
                <a:lnTo>
                  <a:pt x="315787" y="741414"/>
                </a:lnTo>
                <a:lnTo>
                  <a:pt x="307549" y="738668"/>
                </a:lnTo>
                <a:lnTo>
                  <a:pt x="304803" y="735922"/>
                </a:lnTo>
                <a:lnTo>
                  <a:pt x="299311" y="733176"/>
                </a:lnTo>
                <a:lnTo>
                  <a:pt x="293820" y="733176"/>
                </a:lnTo>
                <a:lnTo>
                  <a:pt x="291074" y="735922"/>
                </a:lnTo>
                <a:lnTo>
                  <a:pt x="90617" y="535465"/>
                </a:lnTo>
                <a:lnTo>
                  <a:pt x="112585" y="527228"/>
                </a:lnTo>
                <a:lnTo>
                  <a:pt x="123569" y="518990"/>
                </a:lnTo>
                <a:lnTo>
                  <a:pt x="131807" y="510752"/>
                </a:lnTo>
                <a:lnTo>
                  <a:pt x="101601" y="505260"/>
                </a:lnTo>
                <a:lnTo>
                  <a:pt x="93363" y="505260"/>
                </a:lnTo>
                <a:lnTo>
                  <a:pt x="85125" y="505260"/>
                </a:lnTo>
                <a:lnTo>
                  <a:pt x="76887" y="508006"/>
                </a:lnTo>
                <a:lnTo>
                  <a:pt x="68650" y="513498"/>
                </a:lnTo>
                <a:lnTo>
                  <a:pt x="68650" y="516244"/>
                </a:lnTo>
                <a:lnTo>
                  <a:pt x="63157" y="510752"/>
                </a:lnTo>
                <a:lnTo>
                  <a:pt x="65904" y="510752"/>
                </a:lnTo>
                <a:lnTo>
                  <a:pt x="63157" y="502514"/>
                </a:lnTo>
                <a:lnTo>
                  <a:pt x="60411" y="499768"/>
                </a:lnTo>
                <a:lnTo>
                  <a:pt x="57665" y="499768"/>
                </a:lnTo>
                <a:lnTo>
                  <a:pt x="54920" y="502514"/>
                </a:lnTo>
                <a:lnTo>
                  <a:pt x="46682" y="494276"/>
                </a:lnTo>
                <a:lnTo>
                  <a:pt x="60411" y="491530"/>
                </a:lnTo>
                <a:lnTo>
                  <a:pt x="71395" y="488784"/>
                </a:lnTo>
                <a:lnTo>
                  <a:pt x="87871" y="480546"/>
                </a:lnTo>
                <a:lnTo>
                  <a:pt x="96109" y="475054"/>
                </a:lnTo>
                <a:lnTo>
                  <a:pt x="104347" y="472308"/>
                </a:lnTo>
                <a:lnTo>
                  <a:pt x="109839" y="472308"/>
                </a:lnTo>
                <a:lnTo>
                  <a:pt x="115331" y="477800"/>
                </a:lnTo>
                <a:lnTo>
                  <a:pt x="118077" y="483292"/>
                </a:lnTo>
                <a:lnTo>
                  <a:pt x="118077" y="488784"/>
                </a:lnTo>
                <a:lnTo>
                  <a:pt x="118077" y="494276"/>
                </a:lnTo>
                <a:lnTo>
                  <a:pt x="120823" y="499768"/>
                </a:lnTo>
                <a:lnTo>
                  <a:pt x="123569" y="499768"/>
                </a:lnTo>
                <a:lnTo>
                  <a:pt x="129061" y="499768"/>
                </a:lnTo>
                <a:lnTo>
                  <a:pt x="131807" y="497022"/>
                </a:lnTo>
                <a:lnTo>
                  <a:pt x="134553" y="499768"/>
                </a:lnTo>
                <a:lnTo>
                  <a:pt x="137299" y="505260"/>
                </a:lnTo>
                <a:lnTo>
                  <a:pt x="140045" y="513498"/>
                </a:lnTo>
                <a:lnTo>
                  <a:pt x="142791" y="521736"/>
                </a:lnTo>
                <a:lnTo>
                  <a:pt x="148283" y="527228"/>
                </a:lnTo>
                <a:lnTo>
                  <a:pt x="153775" y="529974"/>
                </a:lnTo>
                <a:lnTo>
                  <a:pt x="153775" y="521736"/>
                </a:lnTo>
                <a:lnTo>
                  <a:pt x="156521" y="518990"/>
                </a:lnTo>
                <a:lnTo>
                  <a:pt x="151029" y="513498"/>
                </a:lnTo>
                <a:lnTo>
                  <a:pt x="151029" y="505260"/>
                </a:lnTo>
                <a:lnTo>
                  <a:pt x="153775" y="502514"/>
                </a:lnTo>
                <a:lnTo>
                  <a:pt x="159267" y="497022"/>
                </a:lnTo>
                <a:lnTo>
                  <a:pt x="170251" y="494276"/>
                </a:lnTo>
                <a:lnTo>
                  <a:pt x="178488" y="488784"/>
                </a:lnTo>
                <a:lnTo>
                  <a:pt x="175743" y="488784"/>
                </a:lnTo>
                <a:lnTo>
                  <a:pt x="172997" y="483292"/>
                </a:lnTo>
                <a:lnTo>
                  <a:pt x="170251" y="480546"/>
                </a:lnTo>
                <a:lnTo>
                  <a:pt x="167505" y="475054"/>
                </a:lnTo>
                <a:lnTo>
                  <a:pt x="172997" y="469562"/>
                </a:lnTo>
                <a:lnTo>
                  <a:pt x="181234" y="461324"/>
                </a:lnTo>
                <a:lnTo>
                  <a:pt x="194964" y="455832"/>
                </a:lnTo>
                <a:lnTo>
                  <a:pt x="208694" y="453086"/>
                </a:lnTo>
                <a:lnTo>
                  <a:pt x="222424" y="453086"/>
                </a:lnTo>
                <a:lnTo>
                  <a:pt x="230662" y="455832"/>
                </a:lnTo>
                <a:lnTo>
                  <a:pt x="236154" y="458578"/>
                </a:lnTo>
                <a:lnTo>
                  <a:pt x="238900" y="461324"/>
                </a:lnTo>
                <a:lnTo>
                  <a:pt x="238900" y="466816"/>
                </a:lnTo>
                <a:lnTo>
                  <a:pt x="238900" y="472308"/>
                </a:lnTo>
                <a:lnTo>
                  <a:pt x="238900" y="477800"/>
                </a:lnTo>
                <a:lnTo>
                  <a:pt x="241646" y="480546"/>
                </a:lnTo>
                <a:lnTo>
                  <a:pt x="249884" y="480546"/>
                </a:lnTo>
                <a:lnTo>
                  <a:pt x="263614" y="480546"/>
                </a:lnTo>
                <a:lnTo>
                  <a:pt x="277344" y="480546"/>
                </a:lnTo>
                <a:lnTo>
                  <a:pt x="271852" y="464070"/>
                </a:lnTo>
                <a:lnTo>
                  <a:pt x="266360" y="450340"/>
                </a:lnTo>
                <a:lnTo>
                  <a:pt x="260868" y="433864"/>
                </a:lnTo>
                <a:lnTo>
                  <a:pt x="255376" y="422880"/>
                </a:lnTo>
                <a:lnTo>
                  <a:pt x="848507" y="359723"/>
                </a:lnTo>
                <a:lnTo>
                  <a:pt x="873221" y="356977"/>
                </a:lnTo>
                <a:lnTo>
                  <a:pt x="892443" y="373453"/>
                </a:lnTo>
                <a:lnTo>
                  <a:pt x="903426" y="381691"/>
                </a:lnTo>
                <a:lnTo>
                  <a:pt x="911664" y="384437"/>
                </a:lnTo>
                <a:lnTo>
                  <a:pt x="917156" y="384437"/>
                </a:lnTo>
                <a:lnTo>
                  <a:pt x="922648" y="384437"/>
                </a:lnTo>
                <a:lnTo>
                  <a:pt x="933632" y="378945"/>
                </a:lnTo>
                <a:lnTo>
                  <a:pt x="941870" y="376199"/>
                </a:lnTo>
                <a:lnTo>
                  <a:pt x="947362" y="373453"/>
                </a:lnTo>
                <a:lnTo>
                  <a:pt x="950108" y="376199"/>
                </a:lnTo>
                <a:lnTo>
                  <a:pt x="952854" y="376199"/>
                </a:lnTo>
                <a:lnTo>
                  <a:pt x="952854" y="378945"/>
                </a:lnTo>
                <a:lnTo>
                  <a:pt x="952854" y="384437"/>
                </a:lnTo>
                <a:lnTo>
                  <a:pt x="952854" y="389929"/>
                </a:lnTo>
                <a:lnTo>
                  <a:pt x="958346" y="392675"/>
                </a:lnTo>
                <a:lnTo>
                  <a:pt x="980314" y="392675"/>
                </a:lnTo>
                <a:lnTo>
                  <a:pt x="1005028" y="389929"/>
                </a:lnTo>
                <a:lnTo>
                  <a:pt x="1059948" y="381691"/>
                </a:lnTo>
                <a:lnTo>
                  <a:pt x="1087407" y="376199"/>
                </a:lnTo>
                <a:lnTo>
                  <a:pt x="1112121" y="367961"/>
                </a:lnTo>
                <a:lnTo>
                  <a:pt x="1131343" y="359723"/>
                </a:lnTo>
                <a:lnTo>
                  <a:pt x="1145073" y="348739"/>
                </a:lnTo>
                <a:lnTo>
                  <a:pt x="1153311" y="345993"/>
                </a:lnTo>
                <a:lnTo>
                  <a:pt x="1158803" y="348739"/>
                </a:lnTo>
                <a:lnTo>
                  <a:pt x="1164296" y="351485"/>
                </a:lnTo>
                <a:lnTo>
                  <a:pt x="1172532" y="354231"/>
                </a:lnTo>
                <a:lnTo>
                  <a:pt x="1175278" y="356977"/>
                </a:lnTo>
                <a:lnTo>
                  <a:pt x="1180772" y="359723"/>
                </a:lnTo>
                <a:lnTo>
                  <a:pt x="1180772" y="351485"/>
                </a:lnTo>
                <a:lnTo>
                  <a:pt x="1178025" y="351485"/>
                </a:lnTo>
                <a:lnTo>
                  <a:pt x="1194500" y="345993"/>
                </a:lnTo>
                <a:lnTo>
                  <a:pt x="1213722" y="337755"/>
                </a:lnTo>
                <a:lnTo>
                  <a:pt x="1249202" y="318650"/>
                </a:lnTo>
                <a:lnTo>
                  <a:pt x="1276880" y="315787"/>
                </a:lnTo>
                <a:lnTo>
                  <a:pt x="1271389" y="321279"/>
                </a:lnTo>
                <a:lnTo>
                  <a:pt x="1271389" y="332263"/>
                </a:lnTo>
                <a:lnTo>
                  <a:pt x="1282371" y="335009"/>
                </a:lnTo>
                <a:lnTo>
                  <a:pt x="1296101" y="337755"/>
                </a:lnTo>
                <a:lnTo>
                  <a:pt x="1323562" y="337755"/>
                </a:lnTo>
                <a:lnTo>
                  <a:pt x="1337290" y="337755"/>
                </a:lnTo>
                <a:lnTo>
                  <a:pt x="1351020" y="340501"/>
                </a:lnTo>
                <a:lnTo>
                  <a:pt x="1362005" y="345993"/>
                </a:lnTo>
                <a:lnTo>
                  <a:pt x="1372988" y="354231"/>
                </a:lnTo>
                <a:lnTo>
                  <a:pt x="1367496" y="354231"/>
                </a:lnTo>
                <a:lnTo>
                  <a:pt x="1370242" y="362469"/>
                </a:lnTo>
                <a:lnTo>
                  <a:pt x="1375736" y="365215"/>
                </a:lnTo>
                <a:lnTo>
                  <a:pt x="1378481" y="370707"/>
                </a:lnTo>
                <a:lnTo>
                  <a:pt x="1372988" y="367961"/>
                </a:lnTo>
                <a:lnTo>
                  <a:pt x="1375736" y="373453"/>
                </a:lnTo>
                <a:lnTo>
                  <a:pt x="1378481" y="376199"/>
                </a:lnTo>
                <a:lnTo>
                  <a:pt x="1389464" y="370707"/>
                </a:lnTo>
                <a:lnTo>
                  <a:pt x="1392210" y="365215"/>
                </a:lnTo>
                <a:lnTo>
                  <a:pt x="1394958" y="359723"/>
                </a:lnTo>
                <a:lnTo>
                  <a:pt x="1400448" y="354231"/>
                </a:lnTo>
                <a:lnTo>
                  <a:pt x="1405940" y="354231"/>
                </a:lnTo>
                <a:lnTo>
                  <a:pt x="1408686" y="354231"/>
                </a:lnTo>
                <a:lnTo>
                  <a:pt x="1416924" y="345993"/>
                </a:lnTo>
                <a:lnTo>
                  <a:pt x="1436146" y="343247"/>
                </a:lnTo>
                <a:lnTo>
                  <a:pt x="1436146" y="345993"/>
                </a:lnTo>
                <a:lnTo>
                  <a:pt x="1433400" y="345993"/>
                </a:lnTo>
                <a:lnTo>
                  <a:pt x="1433400" y="348739"/>
                </a:lnTo>
                <a:lnTo>
                  <a:pt x="1433400" y="351485"/>
                </a:lnTo>
                <a:lnTo>
                  <a:pt x="1436146" y="351485"/>
                </a:lnTo>
                <a:lnTo>
                  <a:pt x="1441637" y="348739"/>
                </a:lnTo>
                <a:lnTo>
                  <a:pt x="1447130" y="343247"/>
                </a:lnTo>
                <a:lnTo>
                  <a:pt x="1449877" y="343247"/>
                </a:lnTo>
                <a:lnTo>
                  <a:pt x="1455368" y="345993"/>
                </a:lnTo>
                <a:lnTo>
                  <a:pt x="1460859" y="345993"/>
                </a:lnTo>
                <a:lnTo>
                  <a:pt x="1460859" y="351485"/>
                </a:lnTo>
                <a:lnTo>
                  <a:pt x="1466353" y="351485"/>
                </a:lnTo>
                <a:lnTo>
                  <a:pt x="1480081" y="354231"/>
                </a:lnTo>
                <a:lnTo>
                  <a:pt x="1480081" y="348739"/>
                </a:lnTo>
                <a:lnTo>
                  <a:pt x="1485574" y="345993"/>
                </a:lnTo>
                <a:lnTo>
                  <a:pt x="1485574" y="348739"/>
                </a:lnTo>
                <a:lnTo>
                  <a:pt x="1482829" y="348739"/>
                </a:lnTo>
                <a:lnTo>
                  <a:pt x="1482829" y="351485"/>
                </a:lnTo>
                <a:lnTo>
                  <a:pt x="1491065" y="351485"/>
                </a:lnTo>
                <a:lnTo>
                  <a:pt x="1485574" y="337755"/>
                </a:lnTo>
                <a:lnTo>
                  <a:pt x="1499304" y="337755"/>
                </a:lnTo>
                <a:lnTo>
                  <a:pt x="1502050" y="340501"/>
                </a:lnTo>
                <a:lnTo>
                  <a:pt x="1504796" y="340501"/>
                </a:lnTo>
                <a:lnTo>
                  <a:pt x="1504796" y="337755"/>
                </a:lnTo>
                <a:lnTo>
                  <a:pt x="1507541" y="335009"/>
                </a:lnTo>
                <a:lnTo>
                  <a:pt x="1502050" y="335009"/>
                </a:lnTo>
                <a:lnTo>
                  <a:pt x="1499304" y="324025"/>
                </a:lnTo>
                <a:lnTo>
                  <a:pt x="1496557" y="321279"/>
                </a:lnTo>
                <a:lnTo>
                  <a:pt x="1493811" y="321279"/>
                </a:lnTo>
                <a:lnTo>
                  <a:pt x="1499304" y="313041"/>
                </a:lnTo>
                <a:lnTo>
                  <a:pt x="1502050" y="307549"/>
                </a:lnTo>
                <a:lnTo>
                  <a:pt x="1499304" y="307549"/>
                </a:lnTo>
                <a:lnTo>
                  <a:pt x="1496557" y="307549"/>
                </a:lnTo>
                <a:lnTo>
                  <a:pt x="1496557" y="310295"/>
                </a:lnTo>
                <a:lnTo>
                  <a:pt x="1491065" y="310295"/>
                </a:lnTo>
                <a:lnTo>
                  <a:pt x="1493811" y="307549"/>
                </a:lnTo>
                <a:lnTo>
                  <a:pt x="1491065" y="304803"/>
                </a:lnTo>
                <a:lnTo>
                  <a:pt x="1491065" y="302057"/>
                </a:lnTo>
                <a:lnTo>
                  <a:pt x="1491065" y="299311"/>
                </a:lnTo>
                <a:lnTo>
                  <a:pt x="1485574" y="304803"/>
                </a:lnTo>
                <a:lnTo>
                  <a:pt x="1482829" y="313041"/>
                </a:lnTo>
                <a:lnTo>
                  <a:pt x="1488320" y="315787"/>
                </a:lnTo>
                <a:lnTo>
                  <a:pt x="1493811" y="321279"/>
                </a:lnTo>
                <a:lnTo>
                  <a:pt x="1491065" y="321279"/>
                </a:lnTo>
                <a:lnTo>
                  <a:pt x="1488320" y="324025"/>
                </a:lnTo>
                <a:lnTo>
                  <a:pt x="1482829" y="321279"/>
                </a:lnTo>
                <a:lnTo>
                  <a:pt x="1477335" y="321279"/>
                </a:lnTo>
                <a:lnTo>
                  <a:pt x="1460859" y="321279"/>
                </a:lnTo>
                <a:lnTo>
                  <a:pt x="1460859" y="318533"/>
                </a:lnTo>
                <a:lnTo>
                  <a:pt x="1463606" y="313041"/>
                </a:lnTo>
                <a:lnTo>
                  <a:pt x="1469098" y="318533"/>
                </a:lnTo>
                <a:lnTo>
                  <a:pt x="1474589" y="318533"/>
                </a:lnTo>
                <a:lnTo>
                  <a:pt x="1477335" y="315787"/>
                </a:lnTo>
                <a:lnTo>
                  <a:pt x="1474589" y="310295"/>
                </a:lnTo>
                <a:lnTo>
                  <a:pt x="1471844" y="304803"/>
                </a:lnTo>
                <a:lnTo>
                  <a:pt x="1469098" y="304803"/>
                </a:lnTo>
                <a:lnTo>
                  <a:pt x="1463606" y="307549"/>
                </a:lnTo>
                <a:lnTo>
                  <a:pt x="1463606" y="310295"/>
                </a:lnTo>
                <a:lnTo>
                  <a:pt x="1460859" y="313041"/>
                </a:lnTo>
                <a:lnTo>
                  <a:pt x="1460859" y="304803"/>
                </a:lnTo>
                <a:lnTo>
                  <a:pt x="1458113" y="302057"/>
                </a:lnTo>
                <a:lnTo>
                  <a:pt x="1452622" y="299311"/>
                </a:lnTo>
                <a:lnTo>
                  <a:pt x="1447130" y="299311"/>
                </a:lnTo>
                <a:lnTo>
                  <a:pt x="1447130" y="302057"/>
                </a:lnTo>
                <a:lnTo>
                  <a:pt x="1447130" y="304803"/>
                </a:lnTo>
                <a:lnTo>
                  <a:pt x="1444383" y="307549"/>
                </a:lnTo>
                <a:lnTo>
                  <a:pt x="1444383" y="310295"/>
                </a:lnTo>
                <a:lnTo>
                  <a:pt x="1449877" y="310295"/>
                </a:lnTo>
                <a:lnTo>
                  <a:pt x="1452622" y="310295"/>
                </a:lnTo>
                <a:lnTo>
                  <a:pt x="1455368" y="313041"/>
                </a:lnTo>
                <a:lnTo>
                  <a:pt x="1452622" y="313041"/>
                </a:lnTo>
                <a:lnTo>
                  <a:pt x="1447130" y="313041"/>
                </a:lnTo>
                <a:lnTo>
                  <a:pt x="1444383" y="313041"/>
                </a:lnTo>
                <a:lnTo>
                  <a:pt x="1441637" y="315787"/>
                </a:lnTo>
                <a:lnTo>
                  <a:pt x="1441637" y="318533"/>
                </a:lnTo>
                <a:lnTo>
                  <a:pt x="1444383" y="318533"/>
                </a:lnTo>
                <a:lnTo>
                  <a:pt x="1444383" y="321279"/>
                </a:lnTo>
                <a:lnTo>
                  <a:pt x="1441637" y="321279"/>
                </a:lnTo>
                <a:lnTo>
                  <a:pt x="1438891" y="321279"/>
                </a:lnTo>
                <a:lnTo>
                  <a:pt x="1438891" y="324025"/>
                </a:lnTo>
                <a:lnTo>
                  <a:pt x="1436146" y="324025"/>
                </a:lnTo>
                <a:lnTo>
                  <a:pt x="1433400" y="315787"/>
                </a:lnTo>
                <a:lnTo>
                  <a:pt x="1433400" y="313041"/>
                </a:lnTo>
                <a:lnTo>
                  <a:pt x="1436146" y="310295"/>
                </a:lnTo>
                <a:lnTo>
                  <a:pt x="1430655" y="307549"/>
                </a:lnTo>
                <a:lnTo>
                  <a:pt x="1427907" y="304803"/>
                </a:lnTo>
                <a:lnTo>
                  <a:pt x="1427907" y="299311"/>
                </a:lnTo>
                <a:lnTo>
                  <a:pt x="1496557" y="293819"/>
                </a:lnTo>
                <a:lnTo>
                  <a:pt x="1496557" y="299311"/>
                </a:lnTo>
                <a:lnTo>
                  <a:pt x="1507541" y="304803"/>
                </a:lnTo>
                <a:lnTo>
                  <a:pt x="1507541" y="299311"/>
                </a:lnTo>
                <a:lnTo>
                  <a:pt x="1510287" y="299311"/>
                </a:lnTo>
                <a:lnTo>
                  <a:pt x="1510287" y="293819"/>
                </a:lnTo>
                <a:lnTo>
                  <a:pt x="1507541" y="291073"/>
                </a:lnTo>
                <a:lnTo>
                  <a:pt x="1515779" y="291073"/>
                </a:lnTo>
                <a:lnTo>
                  <a:pt x="1513033" y="296565"/>
                </a:lnTo>
                <a:lnTo>
                  <a:pt x="1524017" y="296565"/>
                </a:lnTo>
                <a:lnTo>
                  <a:pt x="1521272" y="291073"/>
                </a:lnTo>
                <a:lnTo>
                  <a:pt x="1529509" y="291073"/>
                </a:lnTo>
                <a:lnTo>
                  <a:pt x="1535002" y="293819"/>
                </a:lnTo>
                <a:lnTo>
                  <a:pt x="1532255" y="288328"/>
                </a:lnTo>
                <a:lnTo>
                  <a:pt x="1548731" y="288328"/>
                </a:lnTo>
                <a:lnTo>
                  <a:pt x="1554223" y="291073"/>
                </a:lnTo>
                <a:lnTo>
                  <a:pt x="1556969" y="291073"/>
                </a:lnTo>
                <a:lnTo>
                  <a:pt x="1559715" y="288328"/>
                </a:lnTo>
                <a:lnTo>
                  <a:pt x="1559715" y="285582"/>
                </a:lnTo>
                <a:lnTo>
                  <a:pt x="1790377" y="263614"/>
                </a:lnTo>
                <a:lnTo>
                  <a:pt x="1795869" y="263614"/>
                </a:lnTo>
                <a:lnTo>
                  <a:pt x="1798615" y="260868"/>
                </a:lnTo>
                <a:lnTo>
                  <a:pt x="1867265" y="255376"/>
                </a:lnTo>
                <a:lnTo>
                  <a:pt x="1872756" y="260868"/>
                </a:lnTo>
                <a:lnTo>
                  <a:pt x="1880995" y="266360"/>
                </a:lnTo>
                <a:lnTo>
                  <a:pt x="1889232" y="269106"/>
                </a:lnTo>
                <a:lnTo>
                  <a:pt x="1900217" y="271852"/>
                </a:lnTo>
                <a:lnTo>
                  <a:pt x="1905708" y="269106"/>
                </a:lnTo>
                <a:lnTo>
                  <a:pt x="1913947" y="266360"/>
                </a:lnTo>
                <a:lnTo>
                  <a:pt x="1922184" y="263614"/>
                </a:lnTo>
                <a:lnTo>
                  <a:pt x="1930422" y="258122"/>
                </a:lnTo>
                <a:lnTo>
                  <a:pt x="1930422" y="252630"/>
                </a:lnTo>
                <a:lnTo>
                  <a:pt x="1930422" y="247138"/>
                </a:lnTo>
                <a:lnTo>
                  <a:pt x="2073213" y="233408"/>
                </a:lnTo>
                <a:lnTo>
                  <a:pt x="2075959" y="233408"/>
                </a:lnTo>
                <a:lnTo>
                  <a:pt x="2378014" y="203202"/>
                </a:lnTo>
                <a:lnTo>
                  <a:pt x="2378015" y="203202"/>
                </a:lnTo>
                <a:lnTo>
                  <a:pt x="2378019" y="203202"/>
                </a:lnTo>
                <a:lnTo>
                  <a:pt x="3174349" y="123569"/>
                </a:lnTo>
                <a:close/>
                <a:moveTo>
                  <a:pt x="3352837" y="98855"/>
                </a:moveTo>
                <a:lnTo>
                  <a:pt x="3358329" y="101601"/>
                </a:lnTo>
                <a:lnTo>
                  <a:pt x="3358329" y="98855"/>
                </a:lnTo>
                <a:lnTo>
                  <a:pt x="3361075" y="101601"/>
                </a:lnTo>
                <a:lnTo>
                  <a:pt x="3350091" y="107093"/>
                </a:lnTo>
                <a:lnTo>
                  <a:pt x="3355583" y="112585"/>
                </a:lnTo>
                <a:lnTo>
                  <a:pt x="3358329" y="118077"/>
                </a:lnTo>
                <a:lnTo>
                  <a:pt x="3355583" y="118077"/>
                </a:lnTo>
                <a:lnTo>
                  <a:pt x="3355583" y="120823"/>
                </a:lnTo>
                <a:lnTo>
                  <a:pt x="3352837" y="123569"/>
                </a:lnTo>
                <a:lnTo>
                  <a:pt x="3350091" y="115331"/>
                </a:lnTo>
                <a:lnTo>
                  <a:pt x="3347345" y="115331"/>
                </a:lnTo>
                <a:lnTo>
                  <a:pt x="3347345" y="118077"/>
                </a:lnTo>
                <a:lnTo>
                  <a:pt x="3347345" y="120823"/>
                </a:lnTo>
                <a:lnTo>
                  <a:pt x="3344599" y="120823"/>
                </a:lnTo>
                <a:lnTo>
                  <a:pt x="3339107" y="115331"/>
                </a:lnTo>
                <a:lnTo>
                  <a:pt x="3339107" y="109839"/>
                </a:lnTo>
                <a:lnTo>
                  <a:pt x="3341853" y="107093"/>
                </a:lnTo>
                <a:lnTo>
                  <a:pt x="3344599" y="112585"/>
                </a:lnTo>
                <a:lnTo>
                  <a:pt x="3347345" y="112585"/>
                </a:lnTo>
                <a:lnTo>
                  <a:pt x="3347345" y="107093"/>
                </a:lnTo>
                <a:lnTo>
                  <a:pt x="3350091" y="104347"/>
                </a:lnTo>
                <a:lnTo>
                  <a:pt x="3352837" y="104347"/>
                </a:lnTo>
                <a:lnTo>
                  <a:pt x="3352837" y="98855"/>
                </a:lnTo>
                <a:close/>
                <a:moveTo>
                  <a:pt x="3374805" y="93363"/>
                </a:moveTo>
                <a:lnTo>
                  <a:pt x="3377551" y="98855"/>
                </a:lnTo>
                <a:lnTo>
                  <a:pt x="3372059" y="101601"/>
                </a:lnTo>
                <a:lnTo>
                  <a:pt x="3372059" y="96109"/>
                </a:lnTo>
                <a:lnTo>
                  <a:pt x="3374805" y="93363"/>
                </a:lnTo>
                <a:close/>
                <a:moveTo>
                  <a:pt x="3372059" y="79633"/>
                </a:moveTo>
                <a:lnTo>
                  <a:pt x="3374805" y="87871"/>
                </a:lnTo>
                <a:lnTo>
                  <a:pt x="3369313" y="90617"/>
                </a:lnTo>
                <a:lnTo>
                  <a:pt x="3366567" y="82379"/>
                </a:lnTo>
                <a:lnTo>
                  <a:pt x="3372059" y="79633"/>
                </a:lnTo>
                <a:close/>
                <a:moveTo>
                  <a:pt x="3377551" y="76887"/>
                </a:moveTo>
                <a:lnTo>
                  <a:pt x="3380297" y="76887"/>
                </a:lnTo>
                <a:lnTo>
                  <a:pt x="3383043" y="76887"/>
                </a:lnTo>
                <a:lnTo>
                  <a:pt x="3388535" y="76887"/>
                </a:lnTo>
                <a:lnTo>
                  <a:pt x="3388535" y="79633"/>
                </a:lnTo>
                <a:lnTo>
                  <a:pt x="3391281" y="82379"/>
                </a:lnTo>
                <a:lnTo>
                  <a:pt x="3399519" y="79633"/>
                </a:lnTo>
                <a:lnTo>
                  <a:pt x="3402265" y="79633"/>
                </a:lnTo>
                <a:lnTo>
                  <a:pt x="3405011" y="85125"/>
                </a:lnTo>
                <a:lnTo>
                  <a:pt x="3396773" y="87871"/>
                </a:lnTo>
                <a:lnTo>
                  <a:pt x="3394027" y="90617"/>
                </a:lnTo>
                <a:lnTo>
                  <a:pt x="3391281" y="85125"/>
                </a:lnTo>
                <a:lnTo>
                  <a:pt x="3385789" y="82379"/>
                </a:lnTo>
                <a:lnTo>
                  <a:pt x="3377551" y="76887"/>
                </a:lnTo>
                <a:close/>
                <a:moveTo>
                  <a:pt x="3888303" y="54919"/>
                </a:moveTo>
                <a:lnTo>
                  <a:pt x="3888303" y="57665"/>
                </a:lnTo>
                <a:lnTo>
                  <a:pt x="3882811" y="57665"/>
                </a:lnTo>
                <a:lnTo>
                  <a:pt x="3888303" y="54919"/>
                </a:lnTo>
                <a:close/>
                <a:moveTo>
                  <a:pt x="3915763" y="52173"/>
                </a:moveTo>
                <a:lnTo>
                  <a:pt x="3918509" y="52173"/>
                </a:lnTo>
                <a:lnTo>
                  <a:pt x="3913017" y="54919"/>
                </a:lnTo>
                <a:lnTo>
                  <a:pt x="3915763" y="52173"/>
                </a:lnTo>
                <a:close/>
                <a:moveTo>
                  <a:pt x="3929492" y="43936"/>
                </a:moveTo>
                <a:lnTo>
                  <a:pt x="3934984" y="49427"/>
                </a:lnTo>
                <a:lnTo>
                  <a:pt x="3940476" y="49427"/>
                </a:lnTo>
                <a:lnTo>
                  <a:pt x="3934984" y="43936"/>
                </a:lnTo>
                <a:lnTo>
                  <a:pt x="3929492" y="43936"/>
                </a:lnTo>
                <a:close/>
                <a:moveTo>
                  <a:pt x="3805923" y="43936"/>
                </a:moveTo>
                <a:lnTo>
                  <a:pt x="3811415" y="49427"/>
                </a:lnTo>
                <a:lnTo>
                  <a:pt x="3805923" y="54919"/>
                </a:lnTo>
                <a:lnTo>
                  <a:pt x="3805923" y="63157"/>
                </a:lnTo>
                <a:lnTo>
                  <a:pt x="3811415" y="63157"/>
                </a:lnTo>
                <a:lnTo>
                  <a:pt x="3808669" y="65903"/>
                </a:lnTo>
                <a:lnTo>
                  <a:pt x="3808669" y="68649"/>
                </a:lnTo>
                <a:lnTo>
                  <a:pt x="3794940" y="68649"/>
                </a:lnTo>
                <a:lnTo>
                  <a:pt x="3792194" y="68649"/>
                </a:lnTo>
                <a:lnTo>
                  <a:pt x="3789448" y="71395"/>
                </a:lnTo>
                <a:lnTo>
                  <a:pt x="3767480" y="74141"/>
                </a:lnTo>
                <a:lnTo>
                  <a:pt x="3764734" y="65903"/>
                </a:lnTo>
                <a:lnTo>
                  <a:pt x="3753750" y="68649"/>
                </a:lnTo>
                <a:lnTo>
                  <a:pt x="3756496" y="74141"/>
                </a:lnTo>
                <a:lnTo>
                  <a:pt x="3753750" y="74141"/>
                </a:lnTo>
                <a:lnTo>
                  <a:pt x="3712560" y="79633"/>
                </a:lnTo>
                <a:lnTo>
                  <a:pt x="3734528" y="49427"/>
                </a:lnTo>
                <a:lnTo>
                  <a:pt x="3805923" y="43936"/>
                </a:lnTo>
                <a:close/>
                <a:moveTo>
                  <a:pt x="3907525" y="32952"/>
                </a:moveTo>
                <a:lnTo>
                  <a:pt x="3915763" y="32952"/>
                </a:lnTo>
                <a:lnTo>
                  <a:pt x="3907525" y="43936"/>
                </a:lnTo>
                <a:lnTo>
                  <a:pt x="3907525" y="49427"/>
                </a:lnTo>
                <a:lnTo>
                  <a:pt x="3910271" y="54919"/>
                </a:lnTo>
                <a:lnTo>
                  <a:pt x="3904779" y="54919"/>
                </a:lnTo>
                <a:lnTo>
                  <a:pt x="3899287" y="43936"/>
                </a:lnTo>
                <a:lnTo>
                  <a:pt x="3899287" y="38444"/>
                </a:lnTo>
                <a:lnTo>
                  <a:pt x="3888303" y="35698"/>
                </a:lnTo>
                <a:lnTo>
                  <a:pt x="3899287" y="35698"/>
                </a:lnTo>
                <a:lnTo>
                  <a:pt x="3907525" y="32952"/>
                </a:lnTo>
                <a:close/>
                <a:moveTo>
                  <a:pt x="4076085" y="31896"/>
                </a:moveTo>
                <a:lnTo>
                  <a:pt x="4075029" y="32952"/>
                </a:lnTo>
                <a:lnTo>
                  <a:pt x="4074222" y="32144"/>
                </a:lnTo>
                <a:lnTo>
                  <a:pt x="4076085" y="31896"/>
                </a:lnTo>
                <a:close/>
                <a:moveTo>
                  <a:pt x="3945968" y="30206"/>
                </a:moveTo>
                <a:lnTo>
                  <a:pt x="3948714" y="32952"/>
                </a:lnTo>
                <a:lnTo>
                  <a:pt x="3954206" y="32952"/>
                </a:lnTo>
                <a:lnTo>
                  <a:pt x="3956952" y="30206"/>
                </a:lnTo>
                <a:lnTo>
                  <a:pt x="3967936" y="30206"/>
                </a:lnTo>
                <a:lnTo>
                  <a:pt x="3962444" y="38444"/>
                </a:lnTo>
                <a:lnTo>
                  <a:pt x="3956952" y="46681"/>
                </a:lnTo>
                <a:lnTo>
                  <a:pt x="3954206" y="46681"/>
                </a:lnTo>
                <a:lnTo>
                  <a:pt x="3951460" y="46681"/>
                </a:lnTo>
                <a:lnTo>
                  <a:pt x="3948714" y="49427"/>
                </a:lnTo>
                <a:lnTo>
                  <a:pt x="3924000" y="52173"/>
                </a:lnTo>
                <a:lnTo>
                  <a:pt x="3924000" y="41190"/>
                </a:lnTo>
                <a:lnTo>
                  <a:pt x="3924000" y="38444"/>
                </a:lnTo>
                <a:lnTo>
                  <a:pt x="3918509" y="32952"/>
                </a:lnTo>
                <a:lnTo>
                  <a:pt x="3945968" y="30206"/>
                </a:lnTo>
                <a:close/>
                <a:moveTo>
                  <a:pt x="4146425" y="13730"/>
                </a:moveTo>
                <a:lnTo>
                  <a:pt x="4149171" y="21968"/>
                </a:lnTo>
                <a:lnTo>
                  <a:pt x="4094251" y="30206"/>
                </a:lnTo>
                <a:lnTo>
                  <a:pt x="4094251" y="27460"/>
                </a:lnTo>
                <a:lnTo>
                  <a:pt x="4088759" y="27460"/>
                </a:lnTo>
                <a:lnTo>
                  <a:pt x="4088759" y="30206"/>
                </a:lnTo>
                <a:lnTo>
                  <a:pt x="4076085" y="31896"/>
                </a:lnTo>
                <a:lnTo>
                  <a:pt x="4077775" y="30206"/>
                </a:lnTo>
                <a:lnTo>
                  <a:pt x="4075029" y="30206"/>
                </a:lnTo>
                <a:lnTo>
                  <a:pt x="4077775" y="27460"/>
                </a:lnTo>
                <a:lnTo>
                  <a:pt x="4075029" y="27460"/>
                </a:lnTo>
                <a:lnTo>
                  <a:pt x="4075029" y="24714"/>
                </a:lnTo>
                <a:lnTo>
                  <a:pt x="4072283" y="24714"/>
                </a:lnTo>
                <a:lnTo>
                  <a:pt x="4072283" y="27460"/>
                </a:lnTo>
                <a:lnTo>
                  <a:pt x="4069537" y="27460"/>
                </a:lnTo>
                <a:lnTo>
                  <a:pt x="4072283" y="30206"/>
                </a:lnTo>
                <a:lnTo>
                  <a:pt x="4074222" y="32144"/>
                </a:lnTo>
                <a:lnTo>
                  <a:pt x="4006380" y="41190"/>
                </a:lnTo>
                <a:lnTo>
                  <a:pt x="4003634" y="38444"/>
                </a:lnTo>
                <a:lnTo>
                  <a:pt x="4003634" y="41190"/>
                </a:lnTo>
                <a:lnTo>
                  <a:pt x="3989904" y="43936"/>
                </a:lnTo>
                <a:lnTo>
                  <a:pt x="3981666" y="38444"/>
                </a:lnTo>
                <a:lnTo>
                  <a:pt x="3976174" y="35698"/>
                </a:lnTo>
                <a:lnTo>
                  <a:pt x="3970682" y="35698"/>
                </a:lnTo>
                <a:lnTo>
                  <a:pt x="3970682" y="30206"/>
                </a:lnTo>
                <a:lnTo>
                  <a:pt x="4146425" y="13730"/>
                </a:lnTo>
                <a:close/>
                <a:moveTo>
                  <a:pt x="4228804" y="8369"/>
                </a:moveTo>
                <a:lnTo>
                  <a:pt x="4228804" y="10984"/>
                </a:lnTo>
                <a:lnTo>
                  <a:pt x="4231550" y="13730"/>
                </a:lnTo>
                <a:lnTo>
                  <a:pt x="4223312" y="13730"/>
                </a:lnTo>
                <a:lnTo>
                  <a:pt x="4217820" y="13730"/>
                </a:lnTo>
                <a:lnTo>
                  <a:pt x="4176630" y="19222"/>
                </a:lnTo>
                <a:lnTo>
                  <a:pt x="4173884" y="10984"/>
                </a:lnTo>
                <a:lnTo>
                  <a:pt x="4228804" y="8369"/>
                </a:lnTo>
                <a:close/>
                <a:moveTo>
                  <a:pt x="4228804" y="8238"/>
                </a:moveTo>
                <a:lnTo>
                  <a:pt x="4231550" y="8238"/>
                </a:lnTo>
                <a:lnTo>
                  <a:pt x="4228804" y="8369"/>
                </a:lnTo>
                <a:lnTo>
                  <a:pt x="4228804" y="8238"/>
                </a:lnTo>
                <a:close/>
                <a:moveTo>
                  <a:pt x="4278232" y="2746"/>
                </a:moveTo>
                <a:lnTo>
                  <a:pt x="4280978" y="2746"/>
                </a:lnTo>
                <a:lnTo>
                  <a:pt x="4280978" y="5492"/>
                </a:lnTo>
                <a:lnTo>
                  <a:pt x="4278232" y="5492"/>
                </a:lnTo>
                <a:lnTo>
                  <a:pt x="4278232" y="2746"/>
                </a:lnTo>
                <a:close/>
                <a:moveTo>
                  <a:pt x="4272740" y="2746"/>
                </a:moveTo>
                <a:lnTo>
                  <a:pt x="4267248" y="5492"/>
                </a:lnTo>
                <a:lnTo>
                  <a:pt x="4261756" y="8238"/>
                </a:lnTo>
                <a:lnTo>
                  <a:pt x="4264502" y="8238"/>
                </a:lnTo>
                <a:lnTo>
                  <a:pt x="4237042" y="10984"/>
                </a:lnTo>
                <a:lnTo>
                  <a:pt x="4237042" y="8238"/>
                </a:lnTo>
                <a:lnTo>
                  <a:pt x="4234296" y="8238"/>
                </a:lnTo>
                <a:lnTo>
                  <a:pt x="4253518" y="5492"/>
                </a:lnTo>
                <a:lnTo>
                  <a:pt x="4256264" y="8238"/>
                </a:lnTo>
                <a:lnTo>
                  <a:pt x="4256264" y="5492"/>
                </a:lnTo>
                <a:lnTo>
                  <a:pt x="4272740" y="2746"/>
                </a:lnTo>
                <a:close/>
                <a:moveTo>
                  <a:pt x="4330405" y="0"/>
                </a:moveTo>
                <a:lnTo>
                  <a:pt x="4286470" y="5492"/>
                </a:lnTo>
                <a:lnTo>
                  <a:pt x="4286470" y="2746"/>
                </a:lnTo>
                <a:lnTo>
                  <a:pt x="4291962" y="2746"/>
                </a:lnTo>
                <a:lnTo>
                  <a:pt x="4300199" y="2746"/>
                </a:lnTo>
                <a:lnTo>
                  <a:pt x="4330405" y="0"/>
                </a:lnTo>
                <a:close/>
              </a:path>
            </a:pathLst>
          </a:cu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文本框 5"/>
          <p:cNvSpPr/>
          <p:nvPr/>
        </p:nvSpPr>
        <p:spPr>
          <a:xfrm rot="21263400">
            <a:off x="4386240" y="1099800"/>
            <a:ext cx="395136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ernard MT Condensed"/>
                <a:ea typeface="华文隶书"/>
              </a:rPr>
              <a:t>Chapter</a:t>
            </a:r>
            <a:r>
              <a:rPr b="0" lang="zh-CN" sz="5400" spc="-1" strike="noStrike">
                <a:solidFill>
                  <a:srgbClr val="000000"/>
                </a:solidFill>
                <a:latin typeface="Bernard MT Condensed"/>
                <a:ea typeface="华文隶书"/>
              </a:rPr>
              <a:t> </a:t>
            </a:r>
            <a:r>
              <a:rPr b="0" lang="en-US" sz="11500" spc="-1" strike="noStrike">
                <a:solidFill>
                  <a:srgbClr val="000000"/>
                </a:solidFill>
                <a:latin typeface="Bernard MT Condensed"/>
                <a:ea typeface="华文隶书"/>
              </a:rPr>
              <a:t>2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文本框 6"/>
          <p:cNvSpPr/>
          <p:nvPr/>
        </p:nvSpPr>
        <p:spPr>
          <a:xfrm rot="21226800">
            <a:off x="7843680" y="1069560"/>
            <a:ext cx="228456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您的内容请写在这里您的内容请写在这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wipe dir="l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5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5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23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5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5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5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5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C509E-097D-4687-82E2-DCE01636B94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308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309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310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312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椭圆 2"/>
          <p:cNvSpPr/>
          <p:nvPr/>
        </p:nvSpPr>
        <p:spPr>
          <a:xfrm rot="10800000">
            <a:off x="3269880" y="1019160"/>
            <a:ext cx="3987720" cy="5275440"/>
          </a:xfrm>
          <a:custGeom>
            <a:avLst/>
            <a:gdLst/>
            <a:ahLst/>
            <a:rect l="l" t="t" r="r" b="b"/>
            <a:pathLst>
              <a:path w="1517963" h="2007730">
                <a:moveTo>
                  <a:pt x="514098" y="0"/>
                </a:moveTo>
                <a:cubicBezTo>
                  <a:pt x="1068517" y="0"/>
                  <a:pt x="1517963" y="449446"/>
                  <a:pt x="1517963" y="1003865"/>
                </a:cubicBezTo>
                <a:cubicBezTo>
                  <a:pt x="1517963" y="1558284"/>
                  <a:pt x="1068517" y="2007730"/>
                  <a:pt x="514098" y="2007730"/>
                </a:cubicBezTo>
                <a:cubicBezTo>
                  <a:pt x="406972" y="2007730"/>
                  <a:pt x="303765" y="1990950"/>
                  <a:pt x="207086" y="1959490"/>
                </a:cubicBezTo>
                <a:cubicBezTo>
                  <a:pt x="279744" y="1976607"/>
                  <a:pt x="355632" y="1985188"/>
                  <a:pt x="433595" y="1985188"/>
                </a:cubicBezTo>
                <a:cubicBezTo>
                  <a:pt x="988014" y="1985188"/>
                  <a:pt x="1437460" y="1551240"/>
                  <a:pt x="1437460" y="1015939"/>
                </a:cubicBezTo>
                <a:cubicBezTo>
                  <a:pt x="1437460" y="480638"/>
                  <a:pt x="988014" y="46690"/>
                  <a:pt x="433595" y="46690"/>
                </a:cubicBezTo>
                <a:cubicBezTo>
                  <a:pt x="278114" y="46690"/>
                  <a:pt x="130888" y="80819"/>
                  <a:pt x="0" y="142787"/>
                </a:cubicBezTo>
                <a:cubicBezTo>
                  <a:pt x="149912" y="51755"/>
                  <a:pt x="325961" y="0"/>
                  <a:pt x="514098" y="0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椭圆 2"/>
          <p:cNvSpPr/>
          <p:nvPr/>
        </p:nvSpPr>
        <p:spPr>
          <a:xfrm rot="1267200">
            <a:off x="3911400" y="1654200"/>
            <a:ext cx="376200" cy="376200"/>
          </a:xfrm>
          <a:prstGeom prst="ellipse">
            <a:avLst/>
          </a:prstGeom>
          <a:solidFill>
            <a:srgbClr val="f2f2f2"/>
          </a:solidFill>
          <a:ln w="12600">
            <a:solidFill>
              <a:srgbClr val="f7a3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椭圆 3"/>
          <p:cNvSpPr/>
          <p:nvPr/>
        </p:nvSpPr>
        <p:spPr>
          <a:xfrm rot="1267200">
            <a:off x="3344400" y="2572920"/>
            <a:ext cx="379440" cy="376200"/>
          </a:xfrm>
          <a:prstGeom prst="ellipse">
            <a:avLst/>
          </a:prstGeom>
          <a:solidFill>
            <a:srgbClr val="f2f2f2"/>
          </a:solidFill>
          <a:ln w="12600">
            <a:solidFill>
              <a:srgbClr val="f7a3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椭圆 4"/>
          <p:cNvSpPr/>
          <p:nvPr/>
        </p:nvSpPr>
        <p:spPr>
          <a:xfrm rot="1267200">
            <a:off x="3187800" y="3514320"/>
            <a:ext cx="380880" cy="376200"/>
          </a:xfrm>
          <a:prstGeom prst="ellipse">
            <a:avLst/>
          </a:prstGeom>
          <a:solidFill>
            <a:srgbClr val="f2f2f2"/>
          </a:solidFill>
          <a:ln w="12600">
            <a:solidFill>
              <a:srgbClr val="f7a3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椭圆 5"/>
          <p:cNvSpPr/>
          <p:nvPr/>
        </p:nvSpPr>
        <p:spPr>
          <a:xfrm rot="1267200">
            <a:off x="3384360" y="4454280"/>
            <a:ext cx="377640" cy="377640"/>
          </a:xfrm>
          <a:prstGeom prst="ellipse">
            <a:avLst/>
          </a:prstGeom>
          <a:solidFill>
            <a:srgbClr val="f2f2f2"/>
          </a:solidFill>
          <a:ln w="12600">
            <a:solidFill>
              <a:srgbClr val="f7a3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椭圆 6"/>
          <p:cNvSpPr/>
          <p:nvPr/>
        </p:nvSpPr>
        <p:spPr>
          <a:xfrm rot="1267200">
            <a:off x="4011120" y="5320800"/>
            <a:ext cx="378000" cy="378000"/>
          </a:xfrm>
          <a:prstGeom prst="ellipse">
            <a:avLst/>
          </a:prstGeom>
          <a:solidFill>
            <a:srgbClr val="f2f2f2"/>
          </a:solidFill>
          <a:ln w="12600">
            <a:solidFill>
              <a:srgbClr val="f7a3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11"/>
          <p:cNvSpPr/>
          <p:nvPr/>
        </p:nvSpPr>
        <p:spPr>
          <a:xfrm>
            <a:off x="1428840" y="1514520"/>
            <a:ext cx="243972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圆角矩形 12"/>
          <p:cNvSpPr/>
          <p:nvPr/>
        </p:nvSpPr>
        <p:spPr>
          <a:xfrm>
            <a:off x="4637160" y="1596960"/>
            <a:ext cx="5846760" cy="507960"/>
          </a:xfrm>
          <a:prstGeom prst="roundRect">
            <a:avLst>
              <a:gd name="adj" fmla="val 50000"/>
            </a:avLst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导者表率对执行力影响是决定性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圆角矩形 13"/>
          <p:cNvSpPr/>
          <p:nvPr/>
        </p:nvSpPr>
        <p:spPr>
          <a:xfrm>
            <a:off x="4216320" y="2514600"/>
            <a:ext cx="6307200" cy="507960"/>
          </a:xfrm>
          <a:prstGeom prst="roundRect">
            <a:avLst>
              <a:gd name="adj" fmla="val 50000"/>
            </a:avLst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言简意赅，说话不拐弯抹角也不虚伪矫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圆角矩形 14"/>
          <p:cNvSpPr/>
          <p:nvPr/>
        </p:nvSpPr>
        <p:spPr>
          <a:xfrm>
            <a:off x="4121280" y="3432240"/>
            <a:ext cx="6413400" cy="506520"/>
          </a:xfrm>
          <a:prstGeom prst="roundRect">
            <a:avLst>
              <a:gd name="adj" fmla="val 50000"/>
            </a:avLst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执行力就是积极选拔合适的人到合适的岗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圆角矩形 15"/>
          <p:cNvSpPr/>
          <p:nvPr/>
        </p:nvSpPr>
        <p:spPr>
          <a:xfrm>
            <a:off x="4216320" y="4348080"/>
            <a:ext cx="6307200" cy="507960"/>
          </a:xfrm>
          <a:prstGeom prst="roundRect">
            <a:avLst>
              <a:gd name="adj" fmla="val 50000"/>
            </a:avLst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监督和检查非关信任与否，而是游戏规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圆角矩形 16"/>
          <p:cNvSpPr/>
          <p:nvPr/>
        </p:nvSpPr>
        <p:spPr>
          <a:xfrm>
            <a:off x="4637160" y="5265720"/>
            <a:ext cx="5846760" cy="507960"/>
          </a:xfrm>
          <a:prstGeom prst="roundRect">
            <a:avLst>
              <a:gd name="adj" fmla="val 50000"/>
            </a:avLst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奖惩分明也是提高执行力的有力杠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11"/>
          <p:cNvSpPr/>
          <p:nvPr/>
        </p:nvSpPr>
        <p:spPr>
          <a:xfrm>
            <a:off x="949320" y="2505240"/>
            <a:ext cx="244152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11"/>
          <p:cNvSpPr/>
          <p:nvPr/>
        </p:nvSpPr>
        <p:spPr>
          <a:xfrm>
            <a:off x="692280" y="3498840"/>
            <a:ext cx="24415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11"/>
          <p:cNvSpPr/>
          <p:nvPr/>
        </p:nvSpPr>
        <p:spPr>
          <a:xfrm>
            <a:off x="990720" y="4446720"/>
            <a:ext cx="243972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11"/>
          <p:cNvSpPr/>
          <p:nvPr/>
        </p:nvSpPr>
        <p:spPr>
          <a:xfrm>
            <a:off x="1577880" y="5365800"/>
            <a:ext cx="244008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0095B-1696-484F-B58D-EC51BB1B399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332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333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334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336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3"/>
          <p:cNvSpPr/>
          <p:nvPr/>
        </p:nvSpPr>
        <p:spPr>
          <a:xfrm flipV="1" rot="10800000">
            <a:off x="3009600" y="5426640"/>
            <a:ext cx="5629320" cy="5540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4"/>
          <p:cNvGrpSpPr/>
          <p:nvPr/>
        </p:nvGrpSpPr>
        <p:grpSpPr>
          <a:xfrm>
            <a:off x="3763800" y="1646280"/>
            <a:ext cx="4078080" cy="4055760"/>
            <a:chOff x="3763800" y="1646280"/>
            <a:chExt cx="4078080" cy="4055760"/>
          </a:xfrm>
        </p:grpSpPr>
        <p:sp>
          <p:nvSpPr>
            <p:cNvPr id="340" name="未知"/>
            <p:cNvSpPr/>
            <p:nvPr/>
          </p:nvSpPr>
          <p:spPr>
            <a:xfrm>
              <a:off x="5805720" y="1646280"/>
              <a:ext cx="2036160" cy="2031840"/>
            </a:xfrm>
            <a:custGeom>
              <a:avLst/>
              <a:gdLst/>
              <a:ahLst/>
              <a:rect l="l" t="t" r="r" b="b"/>
              <a:pathLst>
                <a:path w="174" h="174">
                  <a:moveTo>
                    <a:pt x="174" y="174"/>
                  </a:moveTo>
                  <a:cubicBezTo>
                    <a:pt x="174" y="77"/>
                    <a:pt x="96" y="0"/>
                    <a:pt x="0" y="0"/>
                  </a:cubicBezTo>
                  <a:lnTo>
                    <a:pt x="0" y="174"/>
                  </a:lnTo>
                  <a:lnTo>
                    <a:pt x="174" y="174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990000"/>
                </a:gs>
              </a:gsLst>
              <a:lin ang="2700000"/>
            </a:gradFill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未知"/>
            <p:cNvSpPr/>
            <p:nvPr/>
          </p:nvSpPr>
          <p:spPr>
            <a:xfrm>
              <a:off x="5805720" y="3678120"/>
              <a:ext cx="2036160" cy="2023920"/>
            </a:xfrm>
            <a:custGeom>
              <a:avLst/>
              <a:gdLst/>
              <a:ahLst/>
              <a:rect l="l" t="t" r="r" b="b"/>
              <a:pathLst>
                <a:path w="174" h="173">
                  <a:moveTo>
                    <a:pt x="0" y="173"/>
                  </a:moveTo>
                  <a:cubicBezTo>
                    <a:pt x="96" y="173"/>
                    <a:pt x="174" y="96"/>
                    <a:pt x="174" y="0"/>
                  </a:cubicBezTo>
                  <a:lnTo>
                    <a:pt x="0" y="0"/>
                  </a:lnTo>
                  <a:lnTo>
                    <a:pt x="0" y="173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2700000"/>
            </a:gradFill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未知"/>
            <p:cNvSpPr/>
            <p:nvPr/>
          </p:nvSpPr>
          <p:spPr>
            <a:xfrm>
              <a:off x="3763800" y="3678120"/>
              <a:ext cx="2041920" cy="2023920"/>
            </a:xfrm>
            <a:custGeom>
              <a:avLst/>
              <a:gdLst/>
              <a:ahLst/>
              <a:rect l="l" t="t" r="r" b="b"/>
              <a:pathLst>
                <a:path w="174" h="173">
                  <a:moveTo>
                    <a:pt x="0" y="0"/>
                  </a:moveTo>
                  <a:cubicBezTo>
                    <a:pt x="0" y="96"/>
                    <a:pt x="77" y="173"/>
                    <a:pt x="173" y="173"/>
                  </a:cubicBezTo>
                  <a:lnTo>
                    <a:pt x="174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2700000"/>
            </a:gradFill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3763800" y="1646280"/>
              <a:ext cx="2041920" cy="2031840"/>
            </a:xfrm>
            <a:custGeom>
              <a:avLst/>
              <a:gdLst/>
              <a:ahLst/>
              <a:rect l="l" t="t" r="r" b="b"/>
              <a:pathLst>
                <a:path w="174" h="174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666666"/>
                </a:gs>
              </a:gsLst>
              <a:lin ang="2700000"/>
            </a:gradFill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未知"/>
          <p:cNvSpPr/>
          <p:nvPr/>
        </p:nvSpPr>
        <p:spPr>
          <a:xfrm>
            <a:off x="5802480" y="2038320"/>
            <a:ext cx="1676160" cy="1673280"/>
          </a:xfrm>
          <a:custGeom>
            <a:avLst/>
            <a:gdLst/>
            <a:ahLst/>
            <a:rect l="l" t="t" r="r" b="b"/>
            <a:pathLst>
              <a:path w="174" h="174">
                <a:moveTo>
                  <a:pt x="174" y="174"/>
                </a:moveTo>
                <a:cubicBezTo>
                  <a:pt x="174" y="77"/>
                  <a:pt x="96" y="0"/>
                  <a:pt x="0" y="0"/>
                </a:cubicBezTo>
                <a:lnTo>
                  <a:pt x="0" y="174"/>
                </a:lnTo>
                <a:lnTo>
                  <a:pt x="174" y="174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666666"/>
              </a:gs>
            </a:gsLst>
            <a:lin ang="2700000"/>
          </a:gradFill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未知"/>
          <p:cNvSpPr/>
          <p:nvPr/>
        </p:nvSpPr>
        <p:spPr>
          <a:xfrm>
            <a:off x="5796000" y="3686040"/>
            <a:ext cx="1676520" cy="1665360"/>
          </a:xfrm>
          <a:custGeom>
            <a:avLst/>
            <a:gdLst/>
            <a:ahLst/>
            <a:rect l="l" t="t" r="r" b="b"/>
            <a:pathLst>
              <a:path w="174" h="173">
                <a:moveTo>
                  <a:pt x="0" y="173"/>
                </a:moveTo>
                <a:cubicBezTo>
                  <a:pt x="96" y="173"/>
                  <a:pt x="174" y="96"/>
                  <a:pt x="174" y="0"/>
                </a:cubicBezTo>
                <a:lnTo>
                  <a:pt x="0" y="0"/>
                </a:lnTo>
                <a:lnTo>
                  <a:pt x="0" y="173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lin ang="2700000"/>
          </a:gradFill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未知"/>
          <p:cNvSpPr/>
          <p:nvPr/>
        </p:nvSpPr>
        <p:spPr>
          <a:xfrm>
            <a:off x="4130640" y="3686040"/>
            <a:ext cx="1679760" cy="1665360"/>
          </a:xfrm>
          <a:custGeom>
            <a:avLst/>
            <a:gdLst/>
            <a:ahLst/>
            <a:rect l="l" t="t" r="r" b="b"/>
            <a:pathLst>
              <a:path w="174" h="173">
                <a:moveTo>
                  <a:pt x="0" y="0"/>
                </a:moveTo>
                <a:cubicBezTo>
                  <a:pt x="0" y="96"/>
                  <a:pt x="77" y="173"/>
                  <a:pt x="173" y="173"/>
                </a:cubicBezTo>
                <a:lnTo>
                  <a:pt x="174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666666"/>
              </a:gs>
            </a:gsLst>
            <a:lin ang="2700000"/>
          </a:gradFill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未知"/>
          <p:cNvSpPr/>
          <p:nvPr/>
        </p:nvSpPr>
        <p:spPr>
          <a:xfrm flipH="1" rot="5400000">
            <a:off x="3699720" y="1585080"/>
            <a:ext cx="1739880" cy="2444760"/>
          </a:xfrm>
          <a:custGeom>
            <a:avLst/>
            <a:gdLst/>
            <a:ahLst/>
            <a:rect l="l" t="t" r="r" b="b"/>
            <a:pathLst>
              <a:path w="123" h="173">
                <a:moveTo>
                  <a:pt x="0" y="173"/>
                </a:moveTo>
                <a:cubicBezTo>
                  <a:pt x="46" y="173"/>
                  <a:pt x="90" y="155"/>
                  <a:pt x="123" y="123"/>
                </a:cubicBezTo>
                <a:lnTo>
                  <a:pt x="0" y="0"/>
                </a:lnTo>
                <a:lnTo>
                  <a:pt x="0" y="173"/>
                </a:lnTo>
                <a:close/>
              </a:path>
            </a:pathLst>
          </a:custGeom>
          <a:gradFill rotWithShape="0">
            <a:gsLst>
              <a:gs pos="0">
                <a:srgbClr val="990000"/>
              </a:gs>
              <a:gs pos="100000">
                <a:srgbClr val="ff6600"/>
              </a:gs>
            </a:gsLst>
            <a:lin ang="8100000"/>
          </a:gradFill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13"/>
          <p:cNvGrpSpPr/>
          <p:nvPr/>
        </p:nvGrpSpPr>
        <p:grpSpPr>
          <a:xfrm>
            <a:off x="4541760" y="2444040"/>
            <a:ext cx="2476440" cy="2472840"/>
            <a:chOff x="4541760" y="2444040"/>
            <a:chExt cx="2476440" cy="2472840"/>
          </a:xfrm>
        </p:grpSpPr>
        <p:sp>
          <p:nvSpPr>
            <p:cNvPr id="349" name="Oval 14"/>
            <p:cNvSpPr/>
            <p:nvPr/>
          </p:nvSpPr>
          <p:spPr>
            <a:xfrm rot="649800">
              <a:off x="4721400" y="2624040"/>
              <a:ext cx="2117160" cy="21128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fffff"/>
                </a:gs>
                <a:gs pos="100000">
                  <a:srgbClr val="b2b2b2"/>
                </a:gs>
              </a:gsLst>
              <a:lin ang="2700000"/>
            </a:gradFill>
            <a:ln w="9360">
              <a:solidFill>
                <a:srgbClr val="b2b2b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15"/>
            <p:cNvSpPr/>
            <p:nvPr/>
          </p:nvSpPr>
          <p:spPr>
            <a:xfrm rot="649800">
              <a:off x="4840560" y="2738880"/>
              <a:ext cx="1878840" cy="1881720"/>
            </a:xfrm>
            <a:prstGeom prst="ellipse">
              <a:avLst/>
            </a:prstGeom>
            <a:gradFill rotWithShape="0">
              <a:gsLst>
                <a:gs pos="0">
                  <a:srgbClr val="ff0517"/>
                </a:gs>
                <a:gs pos="100000">
                  <a:srgbClr val="bc000d"/>
                </a:gs>
              </a:gsLst>
              <a:lin ang="2700000"/>
            </a:gradFill>
            <a:ln w="9360">
              <a:solidFill>
                <a:srgbClr val="b2b2b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1" name="WordArt 16" descr=""/>
          <p:cNvPicPr/>
          <p:nvPr/>
        </p:nvPicPr>
        <p:blipFill>
          <a:blip r:embed="rId6"/>
          <a:stretch/>
        </p:blipFill>
        <p:spPr>
          <a:xfrm>
            <a:off x="5167440" y="3370320"/>
            <a:ext cx="1226880" cy="615960"/>
          </a:xfrm>
          <a:prstGeom prst="rect">
            <a:avLst/>
          </a:prstGeom>
          <a:ln w="0">
            <a:noFill/>
          </a:ln>
        </p:spPr>
      </p:pic>
      <p:sp>
        <p:nvSpPr>
          <p:cNvPr id="352" name="WordArt 17"/>
          <p:cNvSpPr txBox="1"/>
          <p:nvPr/>
        </p:nvSpPr>
        <p:spPr>
          <a:xfrm rot="2997000">
            <a:off x="6617520" y="2478960"/>
            <a:ext cx="1062000" cy="1778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此处添加内容</a:t>
            </a:r>
            <a:endParaRPr b="0" lang="en-US" sz="1400" spc="-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353" name="WordArt 18"/>
          <p:cNvSpPr txBox="1"/>
          <p:nvPr/>
        </p:nvSpPr>
        <p:spPr>
          <a:xfrm rot="18869400">
            <a:off x="6534720" y="4807440"/>
            <a:ext cx="1062000" cy="1778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此处添加内容</a:t>
            </a:r>
            <a:endParaRPr b="0" lang="en-US" sz="1400" spc="-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354" name="WordArt 19"/>
          <p:cNvSpPr txBox="1"/>
          <p:nvPr/>
        </p:nvSpPr>
        <p:spPr>
          <a:xfrm rot="2616600">
            <a:off x="4053960" y="4862520"/>
            <a:ext cx="1062360" cy="1778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此处添加内容</a:t>
            </a:r>
            <a:endParaRPr b="0" lang="en-US" sz="1400" spc="-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355" name="Rectangle 20"/>
          <p:cNvSpPr/>
          <p:nvPr/>
        </p:nvSpPr>
        <p:spPr>
          <a:xfrm>
            <a:off x="4589640" y="2038320"/>
            <a:ext cx="12268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990000"/>
                </a:solidFill>
                <a:latin typeface="微软雅黑"/>
                <a:ea typeface="微软雅黑"/>
              </a:rPr>
              <a:t>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1"/>
          <p:cNvSpPr/>
          <p:nvPr/>
        </p:nvSpPr>
        <p:spPr>
          <a:xfrm>
            <a:off x="6238800" y="2678040"/>
            <a:ext cx="12258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990000"/>
                </a:solidFill>
                <a:latin typeface="微软雅黑"/>
                <a:ea typeface="微软雅黑"/>
              </a:rPr>
              <a:t>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2"/>
          <p:cNvSpPr/>
          <p:nvPr/>
        </p:nvSpPr>
        <p:spPr>
          <a:xfrm>
            <a:off x="6146640" y="4329000"/>
            <a:ext cx="12272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990000"/>
                </a:solidFill>
                <a:latin typeface="微软雅黑"/>
                <a:ea typeface="微软雅黑"/>
              </a:rPr>
              <a:t>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4187880" y="4329000"/>
            <a:ext cx="12254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990000"/>
                </a:solidFill>
                <a:latin typeface="微软雅黑"/>
                <a:ea typeface="微软雅黑"/>
              </a:rPr>
              <a:t>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3581280" y="2862360"/>
            <a:ext cx="122580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326880" y="4622760"/>
            <a:ext cx="3483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26"/>
          <p:cNvSpPr/>
          <p:nvPr/>
        </p:nvSpPr>
        <p:spPr>
          <a:xfrm>
            <a:off x="7842240" y="4622760"/>
            <a:ext cx="3483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27"/>
          <p:cNvSpPr/>
          <p:nvPr/>
        </p:nvSpPr>
        <p:spPr>
          <a:xfrm>
            <a:off x="7842240" y="1900080"/>
            <a:ext cx="3483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未知"/>
          <p:cNvSpPr/>
          <p:nvPr/>
        </p:nvSpPr>
        <p:spPr>
          <a:xfrm>
            <a:off x="5002200" y="2735280"/>
            <a:ext cx="1548000" cy="74304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7212F-5389-44F0-B831-F8A3455C710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366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367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368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370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7445520" y="4924440"/>
            <a:ext cx="3927240" cy="10047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4"/>
          <p:cNvSpPr/>
          <p:nvPr/>
        </p:nvSpPr>
        <p:spPr>
          <a:xfrm rot="10800000">
            <a:off x="1076400" y="4924080"/>
            <a:ext cx="3564000" cy="10047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1442880" y="1217520"/>
            <a:ext cx="4108680" cy="10051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6"/>
          <p:cNvSpPr/>
          <p:nvPr/>
        </p:nvSpPr>
        <p:spPr>
          <a:xfrm flipV="1">
            <a:off x="1442880" y="814320"/>
            <a:ext cx="0" cy="2192400"/>
          </a:xfrm>
          <a:prstGeom prst="line">
            <a:avLst/>
          </a:prstGeom>
          <a:ln w="19080">
            <a:solidFill>
              <a:srgbClr val="3a0004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7"/>
          <p:cNvSpPr/>
          <p:nvPr/>
        </p:nvSpPr>
        <p:spPr>
          <a:xfrm flipV="1">
            <a:off x="5551560" y="814320"/>
            <a:ext cx="1440" cy="2192400"/>
          </a:xfrm>
          <a:prstGeom prst="line">
            <a:avLst/>
          </a:prstGeom>
          <a:ln w="19080">
            <a:solidFill>
              <a:srgbClr val="3a0004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8"/>
          <p:cNvSpPr/>
          <p:nvPr/>
        </p:nvSpPr>
        <p:spPr>
          <a:xfrm flipV="1">
            <a:off x="4640400" y="4195800"/>
            <a:ext cx="0" cy="2192400"/>
          </a:xfrm>
          <a:prstGeom prst="line">
            <a:avLst/>
          </a:prstGeom>
          <a:ln w="19080">
            <a:solidFill>
              <a:srgbClr val="3a0004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9"/>
          <p:cNvSpPr/>
          <p:nvPr/>
        </p:nvSpPr>
        <p:spPr>
          <a:xfrm flipV="1">
            <a:off x="7470720" y="4195800"/>
            <a:ext cx="0" cy="2192400"/>
          </a:xfrm>
          <a:prstGeom prst="line">
            <a:avLst/>
          </a:prstGeom>
          <a:ln w="19080">
            <a:solidFill>
              <a:srgbClr val="3a0004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10"/>
          <p:cNvSpPr/>
          <p:nvPr/>
        </p:nvSpPr>
        <p:spPr>
          <a:xfrm>
            <a:off x="1442880" y="814320"/>
            <a:ext cx="2832120" cy="18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11"/>
          <p:cNvSpPr/>
          <p:nvPr/>
        </p:nvSpPr>
        <p:spPr>
          <a:xfrm>
            <a:off x="5551560" y="814320"/>
            <a:ext cx="2833560" cy="18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2"/>
          <p:cNvSpPr/>
          <p:nvPr/>
        </p:nvSpPr>
        <p:spPr>
          <a:xfrm>
            <a:off x="1806480" y="4497480"/>
            <a:ext cx="2833920" cy="18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3"/>
          <p:cNvSpPr/>
          <p:nvPr/>
        </p:nvSpPr>
        <p:spPr>
          <a:xfrm>
            <a:off x="7470720" y="4497480"/>
            <a:ext cx="2832120" cy="18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Group 14"/>
          <p:cNvGrpSpPr/>
          <p:nvPr/>
        </p:nvGrpSpPr>
        <p:grpSpPr>
          <a:xfrm>
            <a:off x="1100160" y="2967120"/>
            <a:ext cx="10251720" cy="1171440"/>
            <a:chOff x="1100160" y="2967120"/>
            <a:chExt cx="10251720" cy="1171440"/>
          </a:xfrm>
        </p:grpSpPr>
        <p:sp>
          <p:nvSpPr>
            <p:cNvPr id="384" name="AutoShape 15"/>
            <p:cNvSpPr/>
            <p:nvPr/>
          </p:nvSpPr>
          <p:spPr>
            <a:xfrm>
              <a:off x="1100160" y="2967120"/>
              <a:ext cx="2297160" cy="1171440"/>
            </a:xfrm>
            <a:custGeom>
              <a:avLst/>
              <a:gdLst>
                <a:gd name="textAreaLeft" fmla="*/ 0 w 2297160"/>
                <a:gd name="textAreaRight" fmla="*/ 2297520 w 2297160"/>
                <a:gd name="textAreaTop" fmla="*/ 0 h 1171440"/>
                <a:gd name="textAreaBottom" fmla="*/ 1171800 h 117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2" y="0"/>
                  </a:lnTo>
                  <a:lnTo>
                    <a:pt x="21600" y="10800"/>
                  </a:lnTo>
                  <a:lnTo>
                    <a:pt x="16202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bc000d"/>
                </a:gs>
                <a:gs pos="100000">
                  <a:srgbClr val="ff05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AutoShape 16"/>
            <p:cNvSpPr/>
            <p:nvPr/>
          </p:nvSpPr>
          <p:spPr>
            <a:xfrm>
              <a:off x="3142800" y="2967120"/>
              <a:ext cx="2297160" cy="1171440"/>
            </a:xfrm>
            <a:custGeom>
              <a:avLst/>
              <a:gdLst>
                <a:gd name="textAreaLeft" fmla="*/ 0 w 2297160"/>
                <a:gd name="textAreaRight" fmla="*/ 2297520 w 2297160"/>
                <a:gd name="textAreaTop" fmla="*/ 0 h 1171440"/>
                <a:gd name="textAreaBottom" fmla="*/ 1171800 h 117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2" y="0"/>
                  </a:lnTo>
                  <a:lnTo>
                    <a:pt x="21600" y="10800"/>
                  </a:lnTo>
                  <a:lnTo>
                    <a:pt x="16202" y="21600"/>
                  </a:lnTo>
                  <a:lnTo>
                    <a:pt x="0" y="21600"/>
                  </a:lnTo>
                  <a:lnTo>
                    <a:pt x="5398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b2b2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utoShape 17"/>
            <p:cNvSpPr/>
            <p:nvPr/>
          </p:nvSpPr>
          <p:spPr>
            <a:xfrm>
              <a:off x="5130360" y="2967120"/>
              <a:ext cx="2297880" cy="1171440"/>
            </a:xfrm>
            <a:custGeom>
              <a:avLst/>
              <a:gdLst>
                <a:gd name="textAreaLeft" fmla="*/ 0 w 2297880"/>
                <a:gd name="textAreaRight" fmla="*/ 2298240 w 2297880"/>
                <a:gd name="textAreaTop" fmla="*/ 0 h 1171440"/>
                <a:gd name="textAreaBottom" fmla="*/ 1171800 h 117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2" y="0"/>
                  </a:lnTo>
                  <a:lnTo>
                    <a:pt x="21600" y="10800"/>
                  </a:lnTo>
                  <a:lnTo>
                    <a:pt x="16202" y="21600"/>
                  </a:lnTo>
                  <a:lnTo>
                    <a:pt x="0" y="21600"/>
                  </a:lnTo>
                  <a:lnTo>
                    <a:pt x="5398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bc000d"/>
                </a:gs>
                <a:gs pos="100000">
                  <a:srgbClr val="ff05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AutoShape 18"/>
            <p:cNvSpPr/>
            <p:nvPr/>
          </p:nvSpPr>
          <p:spPr>
            <a:xfrm>
              <a:off x="7091280" y="2967120"/>
              <a:ext cx="2297160" cy="1171440"/>
            </a:xfrm>
            <a:custGeom>
              <a:avLst/>
              <a:gdLst>
                <a:gd name="textAreaLeft" fmla="*/ 0 w 2297160"/>
                <a:gd name="textAreaRight" fmla="*/ 2297520 w 2297160"/>
                <a:gd name="textAreaTop" fmla="*/ 0 h 1171440"/>
                <a:gd name="textAreaBottom" fmla="*/ 1171800 h 117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2" y="0"/>
                  </a:lnTo>
                  <a:lnTo>
                    <a:pt x="21600" y="10800"/>
                  </a:lnTo>
                  <a:lnTo>
                    <a:pt x="16202" y="21600"/>
                  </a:lnTo>
                  <a:lnTo>
                    <a:pt x="0" y="21600"/>
                  </a:lnTo>
                  <a:lnTo>
                    <a:pt x="5398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b2b2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AutoShape 19"/>
            <p:cNvSpPr/>
            <p:nvPr/>
          </p:nvSpPr>
          <p:spPr>
            <a:xfrm>
              <a:off x="9054000" y="2967120"/>
              <a:ext cx="2297880" cy="1171440"/>
            </a:xfrm>
            <a:custGeom>
              <a:avLst/>
              <a:gdLst>
                <a:gd name="textAreaLeft" fmla="*/ 0 w 2297880"/>
                <a:gd name="textAreaRight" fmla="*/ 2298240 w 2297880"/>
                <a:gd name="textAreaTop" fmla="*/ 0 h 1171440"/>
                <a:gd name="textAreaBottom" fmla="*/ 1171800 h 117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2" y="0"/>
                  </a:lnTo>
                  <a:lnTo>
                    <a:pt x="21600" y="10800"/>
                  </a:lnTo>
                  <a:lnTo>
                    <a:pt x="16202" y="21600"/>
                  </a:lnTo>
                  <a:lnTo>
                    <a:pt x="0" y="21600"/>
                  </a:lnTo>
                  <a:lnTo>
                    <a:pt x="5398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bc000d"/>
                </a:gs>
                <a:gs pos="100000">
                  <a:srgbClr val="ff05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9" name="WordArt 20" descr=""/>
          <p:cNvPicPr/>
          <p:nvPr/>
        </p:nvPicPr>
        <p:blipFill>
          <a:blip r:embed="rId6"/>
          <a:stretch/>
        </p:blipFill>
        <p:spPr>
          <a:xfrm>
            <a:off x="1609560" y="3306600"/>
            <a:ext cx="938520" cy="532080"/>
          </a:xfrm>
          <a:prstGeom prst="rect">
            <a:avLst/>
          </a:prstGeom>
          <a:ln w="0">
            <a:noFill/>
          </a:ln>
        </p:spPr>
      </p:pic>
      <p:pic>
        <p:nvPicPr>
          <p:cNvPr id="390" name="WordArt 21" descr=""/>
          <p:cNvPicPr/>
          <p:nvPr/>
        </p:nvPicPr>
        <p:blipFill>
          <a:blip r:embed="rId7"/>
          <a:stretch/>
        </p:blipFill>
        <p:spPr>
          <a:xfrm>
            <a:off x="3968640" y="3311640"/>
            <a:ext cx="930240" cy="523800"/>
          </a:xfrm>
          <a:prstGeom prst="rect">
            <a:avLst/>
          </a:prstGeom>
          <a:ln w="0">
            <a:noFill/>
          </a:ln>
        </p:spPr>
      </p:pic>
      <p:pic>
        <p:nvPicPr>
          <p:cNvPr id="391" name="WordArt 22" descr=""/>
          <p:cNvPicPr/>
          <p:nvPr/>
        </p:nvPicPr>
        <p:blipFill>
          <a:blip r:embed="rId8"/>
          <a:stretch/>
        </p:blipFill>
        <p:spPr>
          <a:xfrm>
            <a:off x="5972040" y="3306600"/>
            <a:ext cx="938520" cy="532080"/>
          </a:xfrm>
          <a:prstGeom prst="rect">
            <a:avLst/>
          </a:prstGeom>
          <a:ln w="0">
            <a:noFill/>
          </a:ln>
        </p:spPr>
      </p:pic>
      <p:pic>
        <p:nvPicPr>
          <p:cNvPr id="392" name="WordArt 23" descr=""/>
          <p:cNvPicPr/>
          <p:nvPr/>
        </p:nvPicPr>
        <p:blipFill>
          <a:blip r:embed="rId9"/>
          <a:stretch/>
        </p:blipFill>
        <p:spPr>
          <a:xfrm>
            <a:off x="7908840" y="3311640"/>
            <a:ext cx="930240" cy="5238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4" descr="flag_source_128"/>
          <p:cNvPicPr/>
          <p:nvPr/>
        </p:nvPicPr>
        <p:blipFill>
          <a:blip r:embed="rId10">
            <a:lum bright="100000"/>
          </a:blip>
          <a:stretch/>
        </p:blipFill>
        <p:spPr>
          <a:xfrm rot="20019600">
            <a:off x="9718560" y="2382480"/>
            <a:ext cx="1454400" cy="14558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5" descr="flag_source_128"/>
          <p:cNvPicPr/>
          <p:nvPr/>
        </p:nvPicPr>
        <p:blipFill>
          <a:blip r:embed="rId11"/>
          <a:stretch/>
        </p:blipFill>
        <p:spPr>
          <a:xfrm rot="20019600">
            <a:off x="9729720" y="2273400"/>
            <a:ext cx="1455840" cy="1454040"/>
          </a:xfrm>
          <a:prstGeom prst="rect">
            <a:avLst/>
          </a:prstGeom>
          <a:ln w="0">
            <a:noFill/>
          </a:ln>
        </p:spPr>
      </p:pic>
    </p:spTree>
  </p:cSld>
  <p:transition spd="slow" advTm="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490E8-6F61-4778-9755-3350BAC8AAB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397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398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399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401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任意多边形 1"/>
          <p:cNvSpPr/>
          <p:nvPr/>
        </p:nvSpPr>
        <p:spPr>
          <a:xfrm rot="5400000">
            <a:off x="6348240" y="3351240"/>
            <a:ext cx="1152720" cy="936720"/>
          </a:xfrm>
          <a:custGeom>
            <a:avLst/>
            <a:gdLst/>
            <a:ahLst/>
            <a:rect l="l" t="t" r="r" b="b"/>
            <a:pathLst>
              <a:path w="752475" h="611616">
                <a:moveTo>
                  <a:pt x="364836" y="1069"/>
                </a:moveTo>
                <a:cubicBezTo>
                  <a:pt x="368637" y="-2747"/>
                  <a:pt x="372437" y="4885"/>
                  <a:pt x="372437" y="4885"/>
                </a:cubicBezTo>
                <a:cubicBezTo>
                  <a:pt x="380038" y="16333"/>
                  <a:pt x="391439" y="27781"/>
                  <a:pt x="402840" y="39228"/>
                </a:cubicBezTo>
                <a:cubicBezTo>
                  <a:pt x="406640" y="39228"/>
                  <a:pt x="406640" y="43044"/>
                  <a:pt x="410441" y="43044"/>
                </a:cubicBezTo>
                <a:cubicBezTo>
                  <a:pt x="418041" y="50676"/>
                  <a:pt x="425642" y="54492"/>
                  <a:pt x="433243" y="58308"/>
                </a:cubicBezTo>
                <a:cubicBezTo>
                  <a:pt x="437043" y="58308"/>
                  <a:pt x="440844" y="62124"/>
                  <a:pt x="444644" y="62124"/>
                </a:cubicBezTo>
                <a:cubicBezTo>
                  <a:pt x="448444" y="62124"/>
                  <a:pt x="448444" y="62124"/>
                  <a:pt x="448444" y="62124"/>
                </a:cubicBezTo>
                <a:cubicBezTo>
                  <a:pt x="452245" y="65940"/>
                  <a:pt x="456045" y="65940"/>
                  <a:pt x="459846" y="65940"/>
                </a:cubicBezTo>
                <a:cubicBezTo>
                  <a:pt x="463646" y="65940"/>
                  <a:pt x="463646" y="69756"/>
                  <a:pt x="463646" y="69756"/>
                </a:cubicBezTo>
                <a:cubicBezTo>
                  <a:pt x="475047" y="69756"/>
                  <a:pt x="490249" y="77387"/>
                  <a:pt x="501650" y="77387"/>
                </a:cubicBezTo>
                <a:cubicBezTo>
                  <a:pt x="509251" y="81203"/>
                  <a:pt x="513051" y="85019"/>
                  <a:pt x="520652" y="85019"/>
                </a:cubicBezTo>
                <a:cubicBezTo>
                  <a:pt x="524452" y="88835"/>
                  <a:pt x="524452" y="88835"/>
                  <a:pt x="528252" y="88835"/>
                </a:cubicBezTo>
                <a:cubicBezTo>
                  <a:pt x="532053" y="92651"/>
                  <a:pt x="535853" y="92651"/>
                  <a:pt x="539654" y="96467"/>
                </a:cubicBezTo>
                <a:cubicBezTo>
                  <a:pt x="543454" y="100283"/>
                  <a:pt x="547254" y="100283"/>
                  <a:pt x="551055" y="104099"/>
                </a:cubicBezTo>
                <a:cubicBezTo>
                  <a:pt x="554855" y="107915"/>
                  <a:pt x="558655" y="111731"/>
                  <a:pt x="566256" y="115547"/>
                </a:cubicBezTo>
                <a:cubicBezTo>
                  <a:pt x="566256" y="123178"/>
                  <a:pt x="573857" y="126994"/>
                  <a:pt x="577657" y="134626"/>
                </a:cubicBezTo>
                <a:cubicBezTo>
                  <a:pt x="581458" y="138442"/>
                  <a:pt x="581458" y="142258"/>
                  <a:pt x="585258" y="149890"/>
                </a:cubicBezTo>
                <a:cubicBezTo>
                  <a:pt x="589058" y="153706"/>
                  <a:pt x="592859" y="165154"/>
                  <a:pt x="596659" y="172785"/>
                </a:cubicBezTo>
                <a:cubicBezTo>
                  <a:pt x="600460" y="172785"/>
                  <a:pt x="604260" y="172785"/>
                  <a:pt x="608060" y="172785"/>
                </a:cubicBezTo>
                <a:cubicBezTo>
                  <a:pt x="619462" y="172785"/>
                  <a:pt x="627062" y="172785"/>
                  <a:pt x="634663" y="172785"/>
                </a:cubicBezTo>
                <a:cubicBezTo>
                  <a:pt x="638463" y="176601"/>
                  <a:pt x="646064" y="176601"/>
                  <a:pt x="649865" y="180417"/>
                </a:cubicBezTo>
                <a:cubicBezTo>
                  <a:pt x="657465" y="180417"/>
                  <a:pt x="657465" y="184233"/>
                  <a:pt x="661266" y="184233"/>
                </a:cubicBezTo>
                <a:cubicBezTo>
                  <a:pt x="672667" y="188049"/>
                  <a:pt x="680268" y="191865"/>
                  <a:pt x="687868" y="199497"/>
                </a:cubicBezTo>
                <a:cubicBezTo>
                  <a:pt x="699269" y="203313"/>
                  <a:pt x="706870" y="214761"/>
                  <a:pt x="714471" y="222392"/>
                </a:cubicBezTo>
                <a:cubicBezTo>
                  <a:pt x="714471" y="222392"/>
                  <a:pt x="714471" y="226208"/>
                  <a:pt x="718271" y="226208"/>
                </a:cubicBezTo>
                <a:cubicBezTo>
                  <a:pt x="722072" y="233840"/>
                  <a:pt x="729673" y="241472"/>
                  <a:pt x="733473" y="249104"/>
                </a:cubicBezTo>
                <a:cubicBezTo>
                  <a:pt x="737273" y="256736"/>
                  <a:pt x="741074" y="264367"/>
                  <a:pt x="744874" y="275815"/>
                </a:cubicBezTo>
                <a:cubicBezTo>
                  <a:pt x="744874" y="283447"/>
                  <a:pt x="748674" y="287263"/>
                  <a:pt x="748674" y="294895"/>
                </a:cubicBezTo>
                <a:cubicBezTo>
                  <a:pt x="752475" y="298711"/>
                  <a:pt x="748674" y="302527"/>
                  <a:pt x="752475" y="310159"/>
                </a:cubicBezTo>
                <a:cubicBezTo>
                  <a:pt x="752475" y="310159"/>
                  <a:pt x="752475" y="310159"/>
                  <a:pt x="752475" y="336870"/>
                </a:cubicBezTo>
                <a:cubicBezTo>
                  <a:pt x="752475" y="336870"/>
                  <a:pt x="752475" y="336870"/>
                  <a:pt x="748674" y="340686"/>
                </a:cubicBezTo>
                <a:cubicBezTo>
                  <a:pt x="748674" y="340686"/>
                  <a:pt x="748674" y="340686"/>
                  <a:pt x="748674" y="348318"/>
                </a:cubicBezTo>
                <a:cubicBezTo>
                  <a:pt x="744874" y="367397"/>
                  <a:pt x="733473" y="386477"/>
                  <a:pt x="722072" y="401741"/>
                </a:cubicBezTo>
                <a:cubicBezTo>
                  <a:pt x="718271" y="401741"/>
                  <a:pt x="722072" y="405556"/>
                  <a:pt x="722072" y="405556"/>
                </a:cubicBezTo>
                <a:cubicBezTo>
                  <a:pt x="722072" y="409372"/>
                  <a:pt x="725872" y="413188"/>
                  <a:pt x="725872" y="417004"/>
                </a:cubicBezTo>
                <a:cubicBezTo>
                  <a:pt x="733473" y="432268"/>
                  <a:pt x="733473" y="447532"/>
                  <a:pt x="733473" y="466611"/>
                </a:cubicBezTo>
                <a:cubicBezTo>
                  <a:pt x="733473" y="474243"/>
                  <a:pt x="733473" y="481875"/>
                  <a:pt x="729673" y="493323"/>
                </a:cubicBezTo>
                <a:cubicBezTo>
                  <a:pt x="725872" y="508586"/>
                  <a:pt x="718271" y="523850"/>
                  <a:pt x="706870" y="539114"/>
                </a:cubicBezTo>
                <a:cubicBezTo>
                  <a:pt x="706870" y="539114"/>
                  <a:pt x="703070" y="542930"/>
                  <a:pt x="703070" y="542930"/>
                </a:cubicBezTo>
                <a:cubicBezTo>
                  <a:pt x="691669" y="554377"/>
                  <a:pt x="680268" y="562009"/>
                  <a:pt x="668866" y="569641"/>
                </a:cubicBezTo>
                <a:cubicBezTo>
                  <a:pt x="665066" y="573457"/>
                  <a:pt x="657465" y="577273"/>
                  <a:pt x="653665" y="581089"/>
                </a:cubicBezTo>
                <a:cubicBezTo>
                  <a:pt x="649865" y="581089"/>
                  <a:pt x="649865" y="581089"/>
                  <a:pt x="646064" y="584905"/>
                </a:cubicBezTo>
                <a:cubicBezTo>
                  <a:pt x="638463" y="588721"/>
                  <a:pt x="634663" y="588721"/>
                  <a:pt x="627062" y="592537"/>
                </a:cubicBezTo>
                <a:cubicBezTo>
                  <a:pt x="627062" y="592537"/>
                  <a:pt x="627062" y="592537"/>
                  <a:pt x="623262" y="592537"/>
                </a:cubicBezTo>
                <a:cubicBezTo>
                  <a:pt x="619462" y="592537"/>
                  <a:pt x="611861" y="596352"/>
                  <a:pt x="604260" y="596352"/>
                </a:cubicBezTo>
                <a:cubicBezTo>
                  <a:pt x="604260" y="596352"/>
                  <a:pt x="604260" y="596352"/>
                  <a:pt x="600460" y="596352"/>
                </a:cubicBezTo>
                <a:cubicBezTo>
                  <a:pt x="592859" y="600168"/>
                  <a:pt x="585258" y="600168"/>
                  <a:pt x="573857" y="603984"/>
                </a:cubicBezTo>
                <a:cubicBezTo>
                  <a:pt x="562456" y="603984"/>
                  <a:pt x="551055" y="603984"/>
                  <a:pt x="539654" y="603984"/>
                </a:cubicBezTo>
                <a:cubicBezTo>
                  <a:pt x="532053" y="600168"/>
                  <a:pt x="524452" y="600168"/>
                  <a:pt x="516851" y="600168"/>
                </a:cubicBezTo>
                <a:cubicBezTo>
                  <a:pt x="505450" y="596352"/>
                  <a:pt x="494049" y="592537"/>
                  <a:pt x="482648" y="588721"/>
                </a:cubicBezTo>
                <a:cubicBezTo>
                  <a:pt x="475047" y="584905"/>
                  <a:pt x="471247" y="584905"/>
                  <a:pt x="463646" y="577273"/>
                </a:cubicBezTo>
                <a:cubicBezTo>
                  <a:pt x="459846" y="577273"/>
                  <a:pt x="456045" y="573457"/>
                  <a:pt x="452245" y="569641"/>
                </a:cubicBezTo>
                <a:cubicBezTo>
                  <a:pt x="440844" y="565825"/>
                  <a:pt x="437043" y="554377"/>
                  <a:pt x="429443" y="550561"/>
                </a:cubicBezTo>
                <a:cubicBezTo>
                  <a:pt x="418041" y="539114"/>
                  <a:pt x="410441" y="527666"/>
                  <a:pt x="402840" y="516218"/>
                </a:cubicBezTo>
                <a:cubicBezTo>
                  <a:pt x="399040" y="512402"/>
                  <a:pt x="399040" y="504770"/>
                  <a:pt x="395239" y="497139"/>
                </a:cubicBezTo>
                <a:cubicBezTo>
                  <a:pt x="395239" y="493323"/>
                  <a:pt x="391439" y="489507"/>
                  <a:pt x="391439" y="485691"/>
                </a:cubicBezTo>
                <a:cubicBezTo>
                  <a:pt x="387638" y="466611"/>
                  <a:pt x="383838" y="443716"/>
                  <a:pt x="387638" y="428452"/>
                </a:cubicBezTo>
                <a:cubicBezTo>
                  <a:pt x="391439" y="413188"/>
                  <a:pt x="395239" y="401741"/>
                  <a:pt x="399040" y="390293"/>
                </a:cubicBezTo>
                <a:cubicBezTo>
                  <a:pt x="406640" y="382661"/>
                  <a:pt x="410441" y="375029"/>
                  <a:pt x="418041" y="367397"/>
                </a:cubicBezTo>
                <a:cubicBezTo>
                  <a:pt x="421842" y="359765"/>
                  <a:pt x="429443" y="355950"/>
                  <a:pt x="433243" y="352134"/>
                </a:cubicBezTo>
                <a:cubicBezTo>
                  <a:pt x="440844" y="348318"/>
                  <a:pt x="444644" y="344502"/>
                  <a:pt x="452245" y="340686"/>
                </a:cubicBezTo>
                <a:cubicBezTo>
                  <a:pt x="463646" y="336870"/>
                  <a:pt x="475047" y="333054"/>
                  <a:pt x="490249" y="333054"/>
                </a:cubicBezTo>
                <a:cubicBezTo>
                  <a:pt x="494049" y="333054"/>
                  <a:pt x="501650" y="336870"/>
                  <a:pt x="505450" y="336870"/>
                </a:cubicBezTo>
                <a:cubicBezTo>
                  <a:pt x="509251" y="336870"/>
                  <a:pt x="513051" y="340686"/>
                  <a:pt x="516851" y="344502"/>
                </a:cubicBezTo>
                <a:cubicBezTo>
                  <a:pt x="520652" y="348318"/>
                  <a:pt x="528252" y="348318"/>
                  <a:pt x="532053" y="355950"/>
                </a:cubicBezTo>
                <a:cubicBezTo>
                  <a:pt x="539654" y="363581"/>
                  <a:pt x="547254" y="371213"/>
                  <a:pt x="551055" y="382661"/>
                </a:cubicBezTo>
                <a:cubicBezTo>
                  <a:pt x="558655" y="390293"/>
                  <a:pt x="558655" y="405556"/>
                  <a:pt x="554855" y="413188"/>
                </a:cubicBezTo>
                <a:cubicBezTo>
                  <a:pt x="554855" y="428452"/>
                  <a:pt x="547254" y="439900"/>
                  <a:pt x="532053" y="443716"/>
                </a:cubicBezTo>
                <a:cubicBezTo>
                  <a:pt x="528252" y="443716"/>
                  <a:pt x="528252" y="447532"/>
                  <a:pt x="528252" y="451348"/>
                </a:cubicBezTo>
                <a:cubicBezTo>
                  <a:pt x="520652" y="451348"/>
                  <a:pt x="513051" y="455163"/>
                  <a:pt x="505450" y="451348"/>
                </a:cubicBezTo>
                <a:cubicBezTo>
                  <a:pt x="501650" y="451348"/>
                  <a:pt x="501650" y="451348"/>
                  <a:pt x="497849" y="451348"/>
                </a:cubicBezTo>
                <a:cubicBezTo>
                  <a:pt x="494049" y="447532"/>
                  <a:pt x="490249" y="443716"/>
                  <a:pt x="490249" y="439900"/>
                </a:cubicBezTo>
                <a:cubicBezTo>
                  <a:pt x="482648" y="432268"/>
                  <a:pt x="482648" y="420820"/>
                  <a:pt x="490249" y="409372"/>
                </a:cubicBezTo>
                <a:cubicBezTo>
                  <a:pt x="486448" y="405556"/>
                  <a:pt x="490249" y="401741"/>
                  <a:pt x="482648" y="397925"/>
                </a:cubicBezTo>
                <a:cubicBezTo>
                  <a:pt x="478847" y="397925"/>
                  <a:pt x="475047" y="401741"/>
                  <a:pt x="467446" y="405556"/>
                </a:cubicBezTo>
                <a:cubicBezTo>
                  <a:pt x="467446" y="405556"/>
                  <a:pt x="467446" y="405556"/>
                  <a:pt x="463646" y="405556"/>
                </a:cubicBezTo>
                <a:cubicBezTo>
                  <a:pt x="459846" y="413188"/>
                  <a:pt x="456045" y="417004"/>
                  <a:pt x="456045" y="420820"/>
                </a:cubicBezTo>
                <a:cubicBezTo>
                  <a:pt x="452245" y="428452"/>
                  <a:pt x="452245" y="436084"/>
                  <a:pt x="452245" y="439900"/>
                </a:cubicBezTo>
                <a:cubicBezTo>
                  <a:pt x="452245" y="447532"/>
                  <a:pt x="452245" y="451348"/>
                  <a:pt x="452245" y="458979"/>
                </a:cubicBezTo>
                <a:cubicBezTo>
                  <a:pt x="452245" y="474243"/>
                  <a:pt x="459846" y="485691"/>
                  <a:pt x="463646" y="497139"/>
                </a:cubicBezTo>
                <a:cubicBezTo>
                  <a:pt x="471247" y="500954"/>
                  <a:pt x="475047" y="504770"/>
                  <a:pt x="478847" y="508586"/>
                </a:cubicBezTo>
                <a:cubicBezTo>
                  <a:pt x="486448" y="516218"/>
                  <a:pt x="494049" y="523850"/>
                  <a:pt x="505450" y="527666"/>
                </a:cubicBezTo>
                <a:cubicBezTo>
                  <a:pt x="505450" y="531482"/>
                  <a:pt x="509251" y="531482"/>
                  <a:pt x="513051" y="531482"/>
                </a:cubicBezTo>
                <a:cubicBezTo>
                  <a:pt x="516851" y="531482"/>
                  <a:pt x="516851" y="535298"/>
                  <a:pt x="520652" y="535298"/>
                </a:cubicBezTo>
                <a:cubicBezTo>
                  <a:pt x="528252" y="535298"/>
                  <a:pt x="535853" y="539114"/>
                  <a:pt x="547254" y="539114"/>
                </a:cubicBezTo>
                <a:cubicBezTo>
                  <a:pt x="547254" y="539114"/>
                  <a:pt x="551055" y="539114"/>
                  <a:pt x="554855" y="539114"/>
                </a:cubicBezTo>
                <a:cubicBezTo>
                  <a:pt x="558655" y="539114"/>
                  <a:pt x="562456" y="539114"/>
                  <a:pt x="566256" y="539114"/>
                </a:cubicBezTo>
                <a:cubicBezTo>
                  <a:pt x="573857" y="539114"/>
                  <a:pt x="577657" y="539114"/>
                  <a:pt x="585258" y="539114"/>
                </a:cubicBezTo>
                <a:cubicBezTo>
                  <a:pt x="592859" y="539114"/>
                  <a:pt x="600460" y="535298"/>
                  <a:pt x="604260" y="535298"/>
                </a:cubicBezTo>
                <a:cubicBezTo>
                  <a:pt x="604260" y="535298"/>
                  <a:pt x="604260" y="535298"/>
                  <a:pt x="608060" y="535298"/>
                </a:cubicBezTo>
                <a:cubicBezTo>
                  <a:pt x="608060" y="531482"/>
                  <a:pt x="611861" y="531482"/>
                  <a:pt x="615661" y="531482"/>
                </a:cubicBezTo>
                <a:cubicBezTo>
                  <a:pt x="615661" y="527666"/>
                  <a:pt x="619462" y="527666"/>
                  <a:pt x="619462" y="527666"/>
                </a:cubicBezTo>
                <a:cubicBezTo>
                  <a:pt x="627062" y="523850"/>
                  <a:pt x="630863" y="520034"/>
                  <a:pt x="634663" y="516218"/>
                </a:cubicBezTo>
                <a:cubicBezTo>
                  <a:pt x="642264" y="512402"/>
                  <a:pt x="646064" y="508586"/>
                  <a:pt x="649865" y="508586"/>
                </a:cubicBezTo>
                <a:cubicBezTo>
                  <a:pt x="653665" y="500954"/>
                  <a:pt x="661266" y="493323"/>
                  <a:pt x="661266" y="489507"/>
                </a:cubicBezTo>
                <a:cubicBezTo>
                  <a:pt x="665066" y="485691"/>
                  <a:pt x="665066" y="478059"/>
                  <a:pt x="668866" y="478059"/>
                </a:cubicBezTo>
                <a:cubicBezTo>
                  <a:pt x="672667" y="470427"/>
                  <a:pt x="676467" y="466611"/>
                  <a:pt x="672667" y="458979"/>
                </a:cubicBezTo>
                <a:cubicBezTo>
                  <a:pt x="672667" y="455163"/>
                  <a:pt x="672667" y="447532"/>
                  <a:pt x="672667" y="443716"/>
                </a:cubicBezTo>
                <a:cubicBezTo>
                  <a:pt x="668866" y="439900"/>
                  <a:pt x="668866" y="436084"/>
                  <a:pt x="668866" y="432268"/>
                </a:cubicBezTo>
                <a:cubicBezTo>
                  <a:pt x="661266" y="420820"/>
                  <a:pt x="657465" y="409372"/>
                  <a:pt x="646064" y="397925"/>
                </a:cubicBezTo>
                <a:cubicBezTo>
                  <a:pt x="642264" y="390293"/>
                  <a:pt x="653665" y="386477"/>
                  <a:pt x="657465" y="378845"/>
                </a:cubicBezTo>
                <a:cubicBezTo>
                  <a:pt x="661266" y="375029"/>
                  <a:pt x="665066" y="371213"/>
                  <a:pt x="668866" y="367397"/>
                </a:cubicBezTo>
                <a:cubicBezTo>
                  <a:pt x="672667" y="363581"/>
                  <a:pt x="676467" y="359765"/>
                  <a:pt x="680268" y="355950"/>
                </a:cubicBezTo>
                <a:cubicBezTo>
                  <a:pt x="684068" y="348318"/>
                  <a:pt x="687868" y="340686"/>
                  <a:pt x="687868" y="336870"/>
                </a:cubicBezTo>
                <a:cubicBezTo>
                  <a:pt x="691669" y="317790"/>
                  <a:pt x="687868" y="302527"/>
                  <a:pt x="684068" y="287263"/>
                </a:cubicBezTo>
                <a:cubicBezTo>
                  <a:pt x="684068" y="283447"/>
                  <a:pt x="680268" y="279631"/>
                  <a:pt x="680268" y="279631"/>
                </a:cubicBezTo>
                <a:cubicBezTo>
                  <a:pt x="676467" y="271999"/>
                  <a:pt x="672667" y="264367"/>
                  <a:pt x="665066" y="256736"/>
                </a:cubicBezTo>
                <a:cubicBezTo>
                  <a:pt x="653665" y="249104"/>
                  <a:pt x="646064" y="241472"/>
                  <a:pt x="630863" y="237656"/>
                </a:cubicBezTo>
                <a:cubicBezTo>
                  <a:pt x="619462" y="233840"/>
                  <a:pt x="608060" y="233840"/>
                  <a:pt x="596659" y="233840"/>
                </a:cubicBezTo>
                <a:cubicBezTo>
                  <a:pt x="577657" y="233840"/>
                  <a:pt x="562456" y="241472"/>
                  <a:pt x="547254" y="245288"/>
                </a:cubicBezTo>
                <a:cubicBezTo>
                  <a:pt x="535853" y="245288"/>
                  <a:pt x="543454" y="233840"/>
                  <a:pt x="539654" y="230024"/>
                </a:cubicBezTo>
                <a:cubicBezTo>
                  <a:pt x="543454" y="210945"/>
                  <a:pt x="539654" y="188049"/>
                  <a:pt x="528252" y="172785"/>
                </a:cubicBezTo>
                <a:cubicBezTo>
                  <a:pt x="528252" y="168970"/>
                  <a:pt x="524452" y="165154"/>
                  <a:pt x="520652" y="165154"/>
                </a:cubicBezTo>
                <a:cubicBezTo>
                  <a:pt x="516851" y="157522"/>
                  <a:pt x="505450" y="149890"/>
                  <a:pt x="497849" y="146074"/>
                </a:cubicBezTo>
                <a:cubicBezTo>
                  <a:pt x="490249" y="142258"/>
                  <a:pt x="482648" y="138442"/>
                  <a:pt x="475047" y="134626"/>
                </a:cubicBezTo>
                <a:cubicBezTo>
                  <a:pt x="463646" y="130810"/>
                  <a:pt x="452245" y="126994"/>
                  <a:pt x="440844" y="123178"/>
                </a:cubicBezTo>
                <a:cubicBezTo>
                  <a:pt x="433243" y="123178"/>
                  <a:pt x="429443" y="119363"/>
                  <a:pt x="425642" y="115547"/>
                </a:cubicBezTo>
                <a:cubicBezTo>
                  <a:pt x="421842" y="115547"/>
                  <a:pt x="418041" y="111731"/>
                  <a:pt x="414241" y="111731"/>
                </a:cubicBezTo>
                <a:cubicBezTo>
                  <a:pt x="406640" y="107915"/>
                  <a:pt x="395239" y="104099"/>
                  <a:pt x="387638" y="100283"/>
                </a:cubicBezTo>
                <a:cubicBezTo>
                  <a:pt x="387638" y="96467"/>
                  <a:pt x="383838" y="96467"/>
                  <a:pt x="380038" y="92651"/>
                </a:cubicBezTo>
                <a:cubicBezTo>
                  <a:pt x="376237" y="92651"/>
                  <a:pt x="376237" y="88835"/>
                  <a:pt x="372437" y="85019"/>
                </a:cubicBezTo>
                <a:cubicBezTo>
                  <a:pt x="368637" y="92651"/>
                  <a:pt x="361036" y="100283"/>
                  <a:pt x="357235" y="104099"/>
                </a:cubicBezTo>
                <a:cubicBezTo>
                  <a:pt x="349635" y="111731"/>
                  <a:pt x="338233" y="115547"/>
                  <a:pt x="330633" y="119363"/>
                </a:cubicBezTo>
                <a:cubicBezTo>
                  <a:pt x="323032" y="123178"/>
                  <a:pt x="315431" y="126994"/>
                  <a:pt x="311631" y="126994"/>
                </a:cubicBezTo>
                <a:cubicBezTo>
                  <a:pt x="307830" y="130810"/>
                  <a:pt x="304030" y="126994"/>
                  <a:pt x="304030" y="130810"/>
                </a:cubicBezTo>
                <a:cubicBezTo>
                  <a:pt x="296429" y="130810"/>
                  <a:pt x="292629" y="130810"/>
                  <a:pt x="285028" y="134626"/>
                </a:cubicBezTo>
                <a:cubicBezTo>
                  <a:pt x="285028" y="134626"/>
                  <a:pt x="281228" y="134626"/>
                  <a:pt x="281228" y="138442"/>
                </a:cubicBezTo>
                <a:cubicBezTo>
                  <a:pt x="269827" y="138442"/>
                  <a:pt x="262226" y="142258"/>
                  <a:pt x="254625" y="146074"/>
                </a:cubicBezTo>
                <a:cubicBezTo>
                  <a:pt x="254625" y="146074"/>
                  <a:pt x="250825" y="146074"/>
                  <a:pt x="250825" y="146074"/>
                </a:cubicBezTo>
                <a:cubicBezTo>
                  <a:pt x="239424" y="149890"/>
                  <a:pt x="231823" y="157522"/>
                  <a:pt x="224222" y="165154"/>
                </a:cubicBezTo>
                <a:cubicBezTo>
                  <a:pt x="224222" y="165154"/>
                  <a:pt x="220422" y="168970"/>
                  <a:pt x="220422" y="168970"/>
                </a:cubicBezTo>
                <a:cubicBezTo>
                  <a:pt x="216621" y="172785"/>
                  <a:pt x="212821" y="180417"/>
                  <a:pt x="209021" y="184233"/>
                </a:cubicBezTo>
                <a:cubicBezTo>
                  <a:pt x="205220" y="191865"/>
                  <a:pt x="201420" y="195681"/>
                  <a:pt x="201420" y="203313"/>
                </a:cubicBezTo>
                <a:cubicBezTo>
                  <a:pt x="201420" y="207129"/>
                  <a:pt x="197619" y="207129"/>
                  <a:pt x="201420" y="207129"/>
                </a:cubicBezTo>
                <a:cubicBezTo>
                  <a:pt x="197619" y="214761"/>
                  <a:pt x="197619" y="226208"/>
                  <a:pt x="197619" y="233840"/>
                </a:cubicBezTo>
                <a:cubicBezTo>
                  <a:pt x="197619" y="233840"/>
                  <a:pt x="201420" y="241472"/>
                  <a:pt x="197619" y="241472"/>
                </a:cubicBezTo>
                <a:cubicBezTo>
                  <a:pt x="186218" y="245288"/>
                  <a:pt x="174817" y="237656"/>
                  <a:pt x="159616" y="237656"/>
                </a:cubicBezTo>
                <a:cubicBezTo>
                  <a:pt x="159616" y="237656"/>
                  <a:pt x="159616" y="237656"/>
                  <a:pt x="136813" y="237656"/>
                </a:cubicBezTo>
                <a:cubicBezTo>
                  <a:pt x="136813" y="241472"/>
                  <a:pt x="133013" y="237656"/>
                  <a:pt x="133013" y="241472"/>
                </a:cubicBezTo>
                <a:cubicBezTo>
                  <a:pt x="125412" y="241472"/>
                  <a:pt x="117811" y="241472"/>
                  <a:pt x="110211" y="245288"/>
                </a:cubicBezTo>
                <a:cubicBezTo>
                  <a:pt x="106410" y="249104"/>
                  <a:pt x="102610" y="245288"/>
                  <a:pt x="98810" y="249104"/>
                </a:cubicBezTo>
                <a:cubicBezTo>
                  <a:pt x="95009" y="252920"/>
                  <a:pt x="95009" y="249104"/>
                  <a:pt x="91209" y="252920"/>
                </a:cubicBezTo>
                <a:cubicBezTo>
                  <a:pt x="87408" y="256736"/>
                  <a:pt x="83608" y="260552"/>
                  <a:pt x="79808" y="264367"/>
                </a:cubicBezTo>
                <a:cubicBezTo>
                  <a:pt x="76007" y="268183"/>
                  <a:pt x="72207" y="271999"/>
                  <a:pt x="72207" y="275815"/>
                </a:cubicBezTo>
                <a:cubicBezTo>
                  <a:pt x="68407" y="279631"/>
                  <a:pt x="68407" y="279631"/>
                  <a:pt x="64606" y="283447"/>
                </a:cubicBezTo>
                <a:cubicBezTo>
                  <a:pt x="60806" y="294895"/>
                  <a:pt x="57005" y="306343"/>
                  <a:pt x="57005" y="317790"/>
                </a:cubicBezTo>
                <a:cubicBezTo>
                  <a:pt x="57005" y="333054"/>
                  <a:pt x="60806" y="344502"/>
                  <a:pt x="64606" y="355950"/>
                </a:cubicBezTo>
                <a:cubicBezTo>
                  <a:pt x="72207" y="375029"/>
                  <a:pt x="83608" y="390293"/>
                  <a:pt x="102610" y="397925"/>
                </a:cubicBezTo>
                <a:cubicBezTo>
                  <a:pt x="102610" y="401741"/>
                  <a:pt x="106410" y="397925"/>
                  <a:pt x="106410" y="401741"/>
                </a:cubicBezTo>
                <a:cubicBezTo>
                  <a:pt x="106410" y="409372"/>
                  <a:pt x="98810" y="413188"/>
                  <a:pt x="95009" y="420820"/>
                </a:cubicBezTo>
                <a:cubicBezTo>
                  <a:pt x="91209" y="424636"/>
                  <a:pt x="91209" y="432268"/>
                  <a:pt x="87408" y="439900"/>
                </a:cubicBezTo>
                <a:cubicBezTo>
                  <a:pt x="83608" y="447532"/>
                  <a:pt x="79808" y="458979"/>
                  <a:pt x="79808" y="466611"/>
                </a:cubicBezTo>
                <a:cubicBezTo>
                  <a:pt x="79808" y="481875"/>
                  <a:pt x="83608" y="493323"/>
                  <a:pt x="91209" y="504770"/>
                </a:cubicBezTo>
                <a:cubicBezTo>
                  <a:pt x="98810" y="512402"/>
                  <a:pt x="102610" y="520034"/>
                  <a:pt x="110211" y="523850"/>
                </a:cubicBezTo>
                <a:cubicBezTo>
                  <a:pt x="114011" y="527666"/>
                  <a:pt x="117811" y="531482"/>
                  <a:pt x="121612" y="535298"/>
                </a:cubicBezTo>
                <a:cubicBezTo>
                  <a:pt x="125412" y="535298"/>
                  <a:pt x="129213" y="535298"/>
                  <a:pt x="129213" y="535298"/>
                </a:cubicBezTo>
                <a:cubicBezTo>
                  <a:pt x="133013" y="539114"/>
                  <a:pt x="136813" y="539114"/>
                  <a:pt x="140614" y="542930"/>
                </a:cubicBezTo>
                <a:cubicBezTo>
                  <a:pt x="148215" y="542930"/>
                  <a:pt x="152015" y="546745"/>
                  <a:pt x="155815" y="546745"/>
                </a:cubicBezTo>
                <a:cubicBezTo>
                  <a:pt x="159616" y="546745"/>
                  <a:pt x="159616" y="550561"/>
                  <a:pt x="159616" y="546745"/>
                </a:cubicBezTo>
                <a:cubicBezTo>
                  <a:pt x="163416" y="550561"/>
                  <a:pt x="163416" y="546745"/>
                  <a:pt x="167216" y="550561"/>
                </a:cubicBezTo>
                <a:cubicBezTo>
                  <a:pt x="171017" y="550561"/>
                  <a:pt x="171017" y="550561"/>
                  <a:pt x="174817" y="550561"/>
                </a:cubicBezTo>
                <a:cubicBezTo>
                  <a:pt x="174817" y="550561"/>
                  <a:pt x="178618" y="550561"/>
                  <a:pt x="178618" y="550561"/>
                </a:cubicBezTo>
                <a:cubicBezTo>
                  <a:pt x="182418" y="550561"/>
                  <a:pt x="190019" y="554377"/>
                  <a:pt x="190019" y="550561"/>
                </a:cubicBezTo>
                <a:cubicBezTo>
                  <a:pt x="197619" y="550561"/>
                  <a:pt x="205220" y="550561"/>
                  <a:pt x="209021" y="550561"/>
                </a:cubicBezTo>
                <a:cubicBezTo>
                  <a:pt x="212821" y="550561"/>
                  <a:pt x="216621" y="550561"/>
                  <a:pt x="216621" y="550561"/>
                </a:cubicBezTo>
                <a:cubicBezTo>
                  <a:pt x="220422" y="550561"/>
                  <a:pt x="224222" y="546745"/>
                  <a:pt x="228022" y="546745"/>
                </a:cubicBezTo>
                <a:cubicBezTo>
                  <a:pt x="231823" y="542930"/>
                  <a:pt x="235623" y="546745"/>
                  <a:pt x="239424" y="542930"/>
                </a:cubicBezTo>
                <a:cubicBezTo>
                  <a:pt x="247024" y="535298"/>
                  <a:pt x="254625" y="531482"/>
                  <a:pt x="258426" y="527666"/>
                </a:cubicBezTo>
                <a:cubicBezTo>
                  <a:pt x="266026" y="523850"/>
                  <a:pt x="269827" y="520034"/>
                  <a:pt x="273627" y="512402"/>
                </a:cubicBezTo>
                <a:cubicBezTo>
                  <a:pt x="277427" y="512402"/>
                  <a:pt x="281228" y="508586"/>
                  <a:pt x="281228" y="504770"/>
                </a:cubicBezTo>
                <a:cubicBezTo>
                  <a:pt x="281228" y="504770"/>
                  <a:pt x="285028" y="500954"/>
                  <a:pt x="285028" y="500954"/>
                </a:cubicBezTo>
                <a:cubicBezTo>
                  <a:pt x="288829" y="497139"/>
                  <a:pt x="288829" y="493323"/>
                  <a:pt x="292629" y="489507"/>
                </a:cubicBezTo>
                <a:cubicBezTo>
                  <a:pt x="292629" y="481875"/>
                  <a:pt x="296429" y="478059"/>
                  <a:pt x="296429" y="470427"/>
                </a:cubicBezTo>
                <a:cubicBezTo>
                  <a:pt x="300230" y="462795"/>
                  <a:pt x="296429" y="455163"/>
                  <a:pt x="296429" y="447532"/>
                </a:cubicBezTo>
                <a:cubicBezTo>
                  <a:pt x="292629" y="432268"/>
                  <a:pt x="288829" y="420820"/>
                  <a:pt x="277427" y="409372"/>
                </a:cubicBezTo>
                <a:cubicBezTo>
                  <a:pt x="273627" y="405556"/>
                  <a:pt x="269827" y="405556"/>
                  <a:pt x="266026" y="405556"/>
                </a:cubicBezTo>
                <a:cubicBezTo>
                  <a:pt x="262226" y="409372"/>
                  <a:pt x="258426" y="413188"/>
                  <a:pt x="258426" y="417004"/>
                </a:cubicBezTo>
                <a:cubicBezTo>
                  <a:pt x="258426" y="424636"/>
                  <a:pt x="262226" y="436084"/>
                  <a:pt x="258426" y="443716"/>
                </a:cubicBezTo>
                <a:cubicBezTo>
                  <a:pt x="258426" y="451348"/>
                  <a:pt x="250825" y="458979"/>
                  <a:pt x="239424" y="462795"/>
                </a:cubicBezTo>
                <a:cubicBezTo>
                  <a:pt x="231823" y="462795"/>
                  <a:pt x="220422" y="458979"/>
                  <a:pt x="212821" y="451348"/>
                </a:cubicBezTo>
                <a:cubicBezTo>
                  <a:pt x="209021" y="451348"/>
                  <a:pt x="209021" y="447532"/>
                  <a:pt x="209021" y="443716"/>
                </a:cubicBezTo>
                <a:cubicBezTo>
                  <a:pt x="197619" y="439900"/>
                  <a:pt x="193819" y="428452"/>
                  <a:pt x="193819" y="417004"/>
                </a:cubicBezTo>
                <a:cubicBezTo>
                  <a:pt x="190019" y="413188"/>
                  <a:pt x="190019" y="405556"/>
                  <a:pt x="193819" y="401741"/>
                </a:cubicBezTo>
                <a:cubicBezTo>
                  <a:pt x="193819" y="390293"/>
                  <a:pt x="197619" y="378845"/>
                  <a:pt x="205220" y="371213"/>
                </a:cubicBezTo>
                <a:cubicBezTo>
                  <a:pt x="209021" y="367397"/>
                  <a:pt x="212821" y="367397"/>
                  <a:pt x="212821" y="363581"/>
                </a:cubicBezTo>
                <a:cubicBezTo>
                  <a:pt x="216621" y="359765"/>
                  <a:pt x="224222" y="355950"/>
                  <a:pt x="228022" y="355950"/>
                </a:cubicBezTo>
                <a:cubicBezTo>
                  <a:pt x="235623" y="352134"/>
                  <a:pt x="239424" y="348318"/>
                  <a:pt x="247024" y="348318"/>
                </a:cubicBezTo>
                <a:cubicBezTo>
                  <a:pt x="250825" y="348318"/>
                  <a:pt x="254625" y="344502"/>
                  <a:pt x="258426" y="348318"/>
                </a:cubicBezTo>
                <a:cubicBezTo>
                  <a:pt x="258426" y="348318"/>
                  <a:pt x="258426" y="348318"/>
                  <a:pt x="258426" y="344502"/>
                </a:cubicBezTo>
                <a:cubicBezTo>
                  <a:pt x="262226" y="348318"/>
                  <a:pt x="266026" y="344502"/>
                  <a:pt x="266026" y="348318"/>
                </a:cubicBezTo>
                <a:cubicBezTo>
                  <a:pt x="273627" y="344502"/>
                  <a:pt x="281228" y="348318"/>
                  <a:pt x="288829" y="348318"/>
                </a:cubicBezTo>
                <a:cubicBezTo>
                  <a:pt x="300230" y="355950"/>
                  <a:pt x="307830" y="359765"/>
                  <a:pt x="319232" y="367397"/>
                </a:cubicBezTo>
                <a:cubicBezTo>
                  <a:pt x="330633" y="382661"/>
                  <a:pt x="345834" y="397925"/>
                  <a:pt x="349635" y="417004"/>
                </a:cubicBezTo>
                <a:cubicBezTo>
                  <a:pt x="349635" y="424636"/>
                  <a:pt x="353435" y="428452"/>
                  <a:pt x="353435" y="436084"/>
                </a:cubicBezTo>
                <a:cubicBezTo>
                  <a:pt x="353435" y="436084"/>
                  <a:pt x="353435" y="436084"/>
                  <a:pt x="353435" y="439900"/>
                </a:cubicBezTo>
                <a:cubicBezTo>
                  <a:pt x="357235" y="451348"/>
                  <a:pt x="353435" y="458979"/>
                  <a:pt x="353435" y="470427"/>
                </a:cubicBezTo>
                <a:cubicBezTo>
                  <a:pt x="357235" y="478059"/>
                  <a:pt x="353435" y="489507"/>
                  <a:pt x="349635" y="500954"/>
                </a:cubicBezTo>
                <a:cubicBezTo>
                  <a:pt x="345834" y="516218"/>
                  <a:pt x="338233" y="527666"/>
                  <a:pt x="330633" y="542930"/>
                </a:cubicBezTo>
                <a:cubicBezTo>
                  <a:pt x="323032" y="550561"/>
                  <a:pt x="319232" y="558193"/>
                  <a:pt x="311631" y="562009"/>
                </a:cubicBezTo>
                <a:cubicBezTo>
                  <a:pt x="304030" y="569641"/>
                  <a:pt x="300230" y="573457"/>
                  <a:pt x="292629" y="577273"/>
                </a:cubicBezTo>
                <a:cubicBezTo>
                  <a:pt x="292629" y="577273"/>
                  <a:pt x="292629" y="581089"/>
                  <a:pt x="288829" y="577273"/>
                </a:cubicBezTo>
                <a:cubicBezTo>
                  <a:pt x="273627" y="588721"/>
                  <a:pt x="258426" y="596352"/>
                  <a:pt x="239424" y="603984"/>
                </a:cubicBezTo>
                <a:cubicBezTo>
                  <a:pt x="235623" y="603984"/>
                  <a:pt x="235623" y="603984"/>
                  <a:pt x="231823" y="603984"/>
                </a:cubicBezTo>
                <a:cubicBezTo>
                  <a:pt x="224222" y="607800"/>
                  <a:pt x="212821" y="607800"/>
                  <a:pt x="205220" y="607800"/>
                </a:cubicBezTo>
                <a:cubicBezTo>
                  <a:pt x="201420" y="611616"/>
                  <a:pt x="193819" y="611616"/>
                  <a:pt x="190019" y="611616"/>
                </a:cubicBezTo>
                <a:cubicBezTo>
                  <a:pt x="186218" y="611616"/>
                  <a:pt x="182418" y="607800"/>
                  <a:pt x="178618" y="611616"/>
                </a:cubicBezTo>
                <a:cubicBezTo>
                  <a:pt x="174817" y="611616"/>
                  <a:pt x="171017" y="607800"/>
                  <a:pt x="163416" y="607800"/>
                </a:cubicBezTo>
                <a:cubicBezTo>
                  <a:pt x="155815" y="607800"/>
                  <a:pt x="152015" y="607800"/>
                  <a:pt x="144414" y="603984"/>
                </a:cubicBezTo>
                <a:cubicBezTo>
                  <a:pt x="140614" y="603984"/>
                  <a:pt x="136813" y="603984"/>
                  <a:pt x="133013" y="603984"/>
                </a:cubicBezTo>
                <a:cubicBezTo>
                  <a:pt x="129213" y="600168"/>
                  <a:pt x="121612" y="600168"/>
                  <a:pt x="114011" y="596352"/>
                </a:cubicBezTo>
                <a:cubicBezTo>
                  <a:pt x="110211" y="592537"/>
                  <a:pt x="106410" y="592537"/>
                  <a:pt x="102610" y="592537"/>
                </a:cubicBezTo>
                <a:cubicBezTo>
                  <a:pt x="91209" y="588721"/>
                  <a:pt x="83608" y="581089"/>
                  <a:pt x="76007" y="577273"/>
                </a:cubicBezTo>
                <a:cubicBezTo>
                  <a:pt x="76007" y="573457"/>
                  <a:pt x="72207" y="573457"/>
                  <a:pt x="72207" y="573457"/>
                </a:cubicBezTo>
                <a:cubicBezTo>
                  <a:pt x="64606" y="562009"/>
                  <a:pt x="57005" y="554377"/>
                  <a:pt x="49405" y="546745"/>
                </a:cubicBezTo>
                <a:cubicBezTo>
                  <a:pt x="41804" y="535298"/>
                  <a:pt x="34203" y="523850"/>
                  <a:pt x="26602" y="512402"/>
                </a:cubicBezTo>
                <a:cubicBezTo>
                  <a:pt x="22802" y="500954"/>
                  <a:pt x="22802" y="489507"/>
                  <a:pt x="19002" y="478059"/>
                </a:cubicBezTo>
                <a:cubicBezTo>
                  <a:pt x="19002" y="470427"/>
                  <a:pt x="19002" y="462795"/>
                  <a:pt x="19002" y="455163"/>
                </a:cubicBezTo>
                <a:cubicBezTo>
                  <a:pt x="22802" y="443716"/>
                  <a:pt x="26602" y="428452"/>
                  <a:pt x="30403" y="417004"/>
                </a:cubicBezTo>
                <a:cubicBezTo>
                  <a:pt x="30403" y="413188"/>
                  <a:pt x="34203" y="413188"/>
                  <a:pt x="34203" y="409372"/>
                </a:cubicBezTo>
                <a:cubicBezTo>
                  <a:pt x="19002" y="394109"/>
                  <a:pt x="7601" y="382661"/>
                  <a:pt x="7601" y="363581"/>
                </a:cubicBezTo>
                <a:cubicBezTo>
                  <a:pt x="3800" y="355950"/>
                  <a:pt x="0" y="348318"/>
                  <a:pt x="0" y="336870"/>
                </a:cubicBezTo>
                <a:cubicBezTo>
                  <a:pt x="0" y="317790"/>
                  <a:pt x="0" y="298711"/>
                  <a:pt x="7601" y="279631"/>
                </a:cubicBezTo>
                <a:cubicBezTo>
                  <a:pt x="7601" y="271999"/>
                  <a:pt x="11401" y="271999"/>
                  <a:pt x="11401" y="264367"/>
                </a:cubicBezTo>
                <a:cubicBezTo>
                  <a:pt x="11401" y="260552"/>
                  <a:pt x="15201" y="256736"/>
                  <a:pt x="19002" y="252920"/>
                </a:cubicBezTo>
                <a:cubicBezTo>
                  <a:pt x="22802" y="241472"/>
                  <a:pt x="30403" y="233840"/>
                  <a:pt x="38004" y="222392"/>
                </a:cubicBezTo>
                <a:cubicBezTo>
                  <a:pt x="45604" y="218576"/>
                  <a:pt x="53205" y="207129"/>
                  <a:pt x="60806" y="203313"/>
                </a:cubicBezTo>
                <a:cubicBezTo>
                  <a:pt x="64606" y="199497"/>
                  <a:pt x="72207" y="199497"/>
                  <a:pt x="76007" y="195681"/>
                </a:cubicBezTo>
                <a:cubicBezTo>
                  <a:pt x="76007" y="191865"/>
                  <a:pt x="83608" y="191865"/>
                  <a:pt x="83608" y="191865"/>
                </a:cubicBezTo>
                <a:cubicBezTo>
                  <a:pt x="98810" y="188049"/>
                  <a:pt x="110211" y="180417"/>
                  <a:pt x="125412" y="184233"/>
                </a:cubicBezTo>
                <a:cubicBezTo>
                  <a:pt x="133013" y="180417"/>
                  <a:pt x="136813" y="184233"/>
                  <a:pt x="140614" y="180417"/>
                </a:cubicBezTo>
                <a:cubicBezTo>
                  <a:pt x="140614" y="180417"/>
                  <a:pt x="140614" y="180417"/>
                  <a:pt x="148215" y="184233"/>
                </a:cubicBezTo>
                <a:cubicBezTo>
                  <a:pt x="148215" y="180417"/>
                  <a:pt x="148215" y="172785"/>
                  <a:pt x="148215" y="168970"/>
                </a:cubicBezTo>
                <a:cubicBezTo>
                  <a:pt x="152015" y="168970"/>
                  <a:pt x="152015" y="165154"/>
                  <a:pt x="152015" y="165154"/>
                </a:cubicBezTo>
                <a:cubicBezTo>
                  <a:pt x="155815" y="153706"/>
                  <a:pt x="159616" y="146074"/>
                  <a:pt x="167216" y="138442"/>
                </a:cubicBezTo>
                <a:cubicBezTo>
                  <a:pt x="171017" y="130810"/>
                  <a:pt x="174817" y="123178"/>
                  <a:pt x="182418" y="119363"/>
                </a:cubicBezTo>
                <a:cubicBezTo>
                  <a:pt x="186218" y="115547"/>
                  <a:pt x="190019" y="111731"/>
                  <a:pt x="193819" y="107915"/>
                </a:cubicBezTo>
                <a:cubicBezTo>
                  <a:pt x="197619" y="107915"/>
                  <a:pt x="201420" y="104099"/>
                  <a:pt x="205220" y="104099"/>
                </a:cubicBezTo>
                <a:cubicBezTo>
                  <a:pt x="205220" y="104099"/>
                  <a:pt x="205220" y="104099"/>
                  <a:pt x="209021" y="104099"/>
                </a:cubicBezTo>
                <a:cubicBezTo>
                  <a:pt x="212821" y="100283"/>
                  <a:pt x="216621" y="96467"/>
                  <a:pt x="224222" y="96467"/>
                </a:cubicBezTo>
                <a:cubicBezTo>
                  <a:pt x="228022" y="92651"/>
                  <a:pt x="239424" y="92651"/>
                  <a:pt x="243224" y="88835"/>
                </a:cubicBezTo>
                <a:cubicBezTo>
                  <a:pt x="247024" y="88835"/>
                  <a:pt x="247024" y="88835"/>
                  <a:pt x="247024" y="88835"/>
                </a:cubicBezTo>
                <a:cubicBezTo>
                  <a:pt x="262226" y="85019"/>
                  <a:pt x="273627" y="81203"/>
                  <a:pt x="285028" y="77387"/>
                </a:cubicBezTo>
                <a:cubicBezTo>
                  <a:pt x="288829" y="77387"/>
                  <a:pt x="292629" y="73572"/>
                  <a:pt x="296429" y="73572"/>
                </a:cubicBezTo>
                <a:cubicBezTo>
                  <a:pt x="296429" y="73572"/>
                  <a:pt x="296429" y="69756"/>
                  <a:pt x="300230" y="69756"/>
                </a:cubicBezTo>
                <a:cubicBezTo>
                  <a:pt x="307830" y="65940"/>
                  <a:pt x="315431" y="62124"/>
                  <a:pt x="323032" y="58308"/>
                </a:cubicBezTo>
                <a:cubicBezTo>
                  <a:pt x="326832" y="50676"/>
                  <a:pt x="334433" y="46860"/>
                  <a:pt x="342034" y="39228"/>
                </a:cubicBezTo>
                <a:cubicBezTo>
                  <a:pt x="349635" y="23965"/>
                  <a:pt x="361036" y="12517"/>
                  <a:pt x="364836" y="1069"/>
                </a:cubicBezTo>
                <a:close/>
              </a:path>
            </a:pathLst>
          </a:cu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任意多边形 2"/>
          <p:cNvSpPr/>
          <p:nvPr/>
        </p:nvSpPr>
        <p:spPr>
          <a:xfrm>
            <a:off x="5464080" y="2465280"/>
            <a:ext cx="1150920" cy="936720"/>
          </a:xfrm>
          <a:custGeom>
            <a:avLst/>
            <a:gdLst/>
            <a:ahLst/>
            <a:rect l="l" t="t" r="r" b="b"/>
            <a:pathLst>
              <a:path w="752475" h="611616">
                <a:moveTo>
                  <a:pt x="364836" y="1069"/>
                </a:moveTo>
                <a:cubicBezTo>
                  <a:pt x="368637" y="-2747"/>
                  <a:pt x="372437" y="4885"/>
                  <a:pt x="372437" y="4885"/>
                </a:cubicBezTo>
                <a:cubicBezTo>
                  <a:pt x="380038" y="16333"/>
                  <a:pt x="391439" y="27781"/>
                  <a:pt x="402840" y="39228"/>
                </a:cubicBezTo>
                <a:cubicBezTo>
                  <a:pt x="406640" y="39228"/>
                  <a:pt x="406640" y="43044"/>
                  <a:pt x="410441" y="43044"/>
                </a:cubicBezTo>
                <a:cubicBezTo>
                  <a:pt x="418041" y="50676"/>
                  <a:pt x="425642" y="54492"/>
                  <a:pt x="433243" y="58308"/>
                </a:cubicBezTo>
                <a:cubicBezTo>
                  <a:pt x="437043" y="58308"/>
                  <a:pt x="440844" y="62124"/>
                  <a:pt x="444644" y="62124"/>
                </a:cubicBezTo>
                <a:cubicBezTo>
                  <a:pt x="448444" y="62124"/>
                  <a:pt x="448444" y="62124"/>
                  <a:pt x="448444" y="62124"/>
                </a:cubicBezTo>
                <a:cubicBezTo>
                  <a:pt x="452245" y="65940"/>
                  <a:pt x="456045" y="65940"/>
                  <a:pt x="459846" y="65940"/>
                </a:cubicBezTo>
                <a:cubicBezTo>
                  <a:pt x="463646" y="65940"/>
                  <a:pt x="463646" y="69756"/>
                  <a:pt x="463646" y="69756"/>
                </a:cubicBezTo>
                <a:cubicBezTo>
                  <a:pt x="475047" y="69756"/>
                  <a:pt x="490249" y="77387"/>
                  <a:pt x="501650" y="77387"/>
                </a:cubicBezTo>
                <a:cubicBezTo>
                  <a:pt x="509251" y="81203"/>
                  <a:pt x="513051" y="85019"/>
                  <a:pt x="520652" y="85019"/>
                </a:cubicBezTo>
                <a:cubicBezTo>
                  <a:pt x="524452" y="88835"/>
                  <a:pt x="524452" y="88835"/>
                  <a:pt x="528252" y="88835"/>
                </a:cubicBezTo>
                <a:cubicBezTo>
                  <a:pt x="532053" y="92651"/>
                  <a:pt x="535853" y="92651"/>
                  <a:pt x="539654" y="96467"/>
                </a:cubicBezTo>
                <a:cubicBezTo>
                  <a:pt x="543454" y="100283"/>
                  <a:pt x="547254" y="100283"/>
                  <a:pt x="551055" y="104099"/>
                </a:cubicBezTo>
                <a:cubicBezTo>
                  <a:pt x="554855" y="107915"/>
                  <a:pt x="558655" y="111731"/>
                  <a:pt x="566256" y="115547"/>
                </a:cubicBezTo>
                <a:cubicBezTo>
                  <a:pt x="566256" y="123178"/>
                  <a:pt x="573857" y="126994"/>
                  <a:pt x="577657" y="134626"/>
                </a:cubicBezTo>
                <a:cubicBezTo>
                  <a:pt x="581458" y="138442"/>
                  <a:pt x="581458" y="142258"/>
                  <a:pt x="585258" y="149890"/>
                </a:cubicBezTo>
                <a:cubicBezTo>
                  <a:pt x="589058" y="153706"/>
                  <a:pt x="592859" y="165154"/>
                  <a:pt x="596659" y="172785"/>
                </a:cubicBezTo>
                <a:cubicBezTo>
                  <a:pt x="600460" y="172785"/>
                  <a:pt x="604260" y="172785"/>
                  <a:pt x="608060" y="172785"/>
                </a:cubicBezTo>
                <a:cubicBezTo>
                  <a:pt x="619462" y="172785"/>
                  <a:pt x="627062" y="172785"/>
                  <a:pt x="634663" y="172785"/>
                </a:cubicBezTo>
                <a:cubicBezTo>
                  <a:pt x="638463" y="176601"/>
                  <a:pt x="646064" y="176601"/>
                  <a:pt x="649865" y="180417"/>
                </a:cubicBezTo>
                <a:cubicBezTo>
                  <a:pt x="657465" y="180417"/>
                  <a:pt x="657465" y="184233"/>
                  <a:pt x="661266" y="184233"/>
                </a:cubicBezTo>
                <a:cubicBezTo>
                  <a:pt x="672667" y="188049"/>
                  <a:pt x="680268" y="191865"/>
                  <a:pt x="687868" y="199497"/>
                </a:cubicBezTo>
                <a:cubicBezTo>
                  <a:pt x="699269" y="203313"/>
                  <a:pt x="706870" y="214761"/>
                  <a:pt x="714471" y="222392"/>
                </a:cubicBezTo>
                <a:cubicBezTo>
                  <a:pt x="714471" y="222392"/>
                  <a:pt x="714471" y="226208"/>
                  <a:pt x="718271" y="226208"/>
                </a:cubicBezTo>
                <a:cubicBezTo>
                  <a:pt x="722072" y="233840"/>
                  <a:pt x="729673" y="241472"/>
                  <a:pt x="733473" y="249104"/>
                </a:cubicBezTo>
                <a:cubicBezTo>
                  <a:pt x="737273" y="256736"/>
                  <a:pt x="741074" y="264367"/>
                  <a:pt x="744874" y="275815"/>
                </a:cubicBezTo>
                <a:cubicBezTo>
                  <a:pt x="744874" y="283447"/>
                  <a:pt x="748674" y="287263"/>
                  <a:pt x="748674" y="294895"/>
                </a:cubicBezTo>
                <a:cubicBezTo>
                  <a:pt x="752475" y="298711"/>
                  <a:pt x="748674" y="302527"/>
                  <a:pt x="752475" y="310159"/>
                </a:cubicBezTo>
                <a:cubicBezTo>
                  <a:pt x="752475" y="310159"/>
                  <a:pt x="752475" y="310159"/>
                  <a:pt x="752475" y="336870"/>
                </a:cubicBezTo>
                <a:cubicBezTo>
                  <a:pt x="752475" y="336870"/>
                  <a:pt x="752475" y="336870"/>
                  <a:pt x="748674" y="340686"/>
                </a:cubicBezTo>
                <a:cubicBezTo>
                  <a:pt x="748674" y="340686"/>
                  <a:pt x="748674" y="340686"/>
                  <a:pt x="748674" y="348318"/>
                </a:cubicBezTo>
                <a:cubicBezTo>
                  <a:pt x="744874" y="367397"/>
                  <a:pt x="733473" y="386477"/>
                  <a:pt x="722072" y="401741"/>
                </a:cubicBezTo>
                <a:cubicBezTo>
                  <a:pt x="718271" y="401741"/>
                  <a:pt x="722072" y="405556"/>
                  <a:pt x="722072" y="405556"/>
                </a:cubicBezTo>
                <a:cubicBezTo>
                  <a:pt x="722072" y="409372"/>
                  <a:pt x="725872" y="413188"/>
                  <a:pt x="725872" y="417004"/>
                </a:cubicBezTo>
                <a:cubicBezTo>
                  <a:pt x="733473" y="432268"/>
                  <a:pt x="733473" y="447532"/>
                  <a:pt x="733473" y="466611"/>
                </a:cubicBezTo>
                <a:cubicBezTo>
                  <a:pt x="733473" y="474243"/>
                  <a:pt x="733473" y="481875"/>
                  <a:pt x="729673" y="493323"/>
                </a:cubicBezTo>
                <a:cubicBezTo>
                  <a:pt x="725872" y="508586"/>
                  <a:pt x="718271" y="523850"/>
                  <a:pt x="706870" y="539114"/>
                </a:cubicBezTo>
                <a:cubicBezTo>
                  <a:pt x="706870" y="539114"/>
                  <a:pt x="703070" y="542930"/>
                  <a:pt x="703070" y="542930"/>
                </a:cubicBezTo>
                <a:cubicBezTo>
                  <a:pt x="691669" y="554377"/>
                  <a:pt x="680268" y="562009"/>
                  <a:pt x="668866" y="569641"/>
                </a:cubicBezTo>
                <a:cubicBezTo>
                  <a:pt x="665066" y="573457"/>
                  <a:pt x="657465" y="577273"/>
                  <a:pt x="653665" y="581089"/>
                </a:cubicBezTo>
                <a:cubicBezTo>
                  <a:pt x="649865" y="581089"/>
                  <a:pt x="649865" y="581089"/>
                  <a:pt x="646064" y="584905"/>
                </a:cubicBezTo>
                <a:cubicBezTo>
                  <a:pt x="638463" y="588721"/>
                  <a:pt x="634663" y="588721"/>
                  <a:pt x="627062" y="592537"/>
                </a:cubicBezTo>
                <a:cubicBezTo>
                  <a:pt x="627062" y="592537"/>
                  <a:pt x="627062" y="592537"/>
                  <a:pt x="623262" y="592537"/>
                </a:cubicBezTo>
                <a:cubicBezTo>
                  <a:pt x="619462" y="592537"/>
                  <a:pt x="611861" y="596352"/>
                  <a:pt x="604260" y="596352"/>
                </a:cubicBezTo>
                <a:cubicBezTo>
                  <a:pt x="604260" y="596352"/>
                  <a:pt x="604260" y="596352"/>
                  <a:pt x="600460" y="596352"/>
                </a:cubicBezTo>
                <a:cubicBezTo>
                  <a:pt x="592859" y="600168"/>
                  <a:pt x="585258" y="600168"/>
                  <a:pt x="573857" y="603984"/>
                </a:cubicBezTo>
                <a:cubicBezTo>
                  <a:pt x="562456" y="603984"/>
                  <a:pt x="551055" y="603984"/>
                  <a:pt x="539654" y="603984"/>
                </a:cubicBezTo>
                <a:cubicBezTo>
                  <a:pt x="532053" y="600168"/>
                  <a:pt x="524452" y="600168"/>
                  <a:pt x="516851" y="600168"/>
                </a:cubicBezTo>
                <a:cubicBezTo>
                  <a:pt x="505450" y="596352"/>
                  <a:pt x="494049" y="592537"/>
                  <a:pt x="482648" y="588721"/>
                </a:cubicBezTo>
                <a:cubicBezTo>
                  <a:pt x="475047" y="584905"/>
                  <a:pt x="471247" y="584905"/>
                  <a:pt x="463646" y="577273"/>
                </a:cubicBezTo>
                <a:cubicBezTo>
                  <a:pt x="459846" y="577273"/>
                  <a:pt x="456045" y="573457"/>
                  <a:pt x="452245" y="569641"/>
                </a:cubicBezTo>
                <a:cubicBezTo>
                  <a:pt x="440844" y="565825"/>
                  <a:pt x="437043" y="554377"/>
                  <a:pt x="429443" y="550561"/>
                </a:cubicBezTo>
                <a:cubicBezTo>
                  <a:pt x="418041" y="539114"/>
                  <a:pt x="410441" y="527666"/>
                  <a:pt x="402840" y="516218"/>
                </a:cubicBezTo>
                <a:cubicBezTo>
                  <a:pt x="399040" y="512402"/>
                  <a:pt x="399040" y="504770"/>
                  <a:pt x="395239" y="497139"/>
                </a:cubicBezTo>
                <a:cubicBezTo>
                  <a:pt x="395239" y="493323"/>
                  <a:pt x="391439" y="489507"/>
                  <a:pt x="391439" y="485691"/>
                </a:cubicBezTo>
                <a:cubicBezTo>
                  <a:pt x="387638" y="466611"/>
                  <a:pt x="383838" y="443716"/>
                  <a:pt x="387638" y="428452"/>
                </a:cubicBezTo>
                <a:cubicBezTo>
                  <a:pt x="391439" y="413188"/>
                  <a:pt x="395239" y="401741"/>
                  <a:pt x="399040" y="390293"/>
                </a:cubicBezTo>
                <a:cubicBezTo>
                  <a:pt x="406640" y="382661"/>
                  <a:pt x="410441" y="375029"/>
                  <a:pt x="418041" y="367397"/>
                </a:cubicBezTo>
                <a:cubicBezTo>
                  <a:pt x="421842" y="359765"/>
                  <a:pt x="429443" y="355950"/>
                  <a:pt x="433243" y="352134"/>
                </a:cubicBezTo>
                <a:cubicBezTo>
                  <a:pt x="440844" y="348318"/>
                  <a:pt x="444644" y="344502"/>
                  <a:pt x="452245" y="340686"/>
                </a:cubicBezTo>
                <a:cubicBezTo>
                  <a:pt x="463646" y="336870"/>
                  <a:pt x="475047" y="333054"/>
                  <a:pt x="490249" y="333054"/>
                </a:cubicBezTo>
                <a:cubicBezTo>
                  <a:pt x="494049" y="333054"/>
                  <a:pt x="501650" y="336870"/>
                  <a:pt x="505450" y="336870"/>
                </a:cubicBezTo>
                <a:cubicBezTo>
                  <a:pt x="509251" y="336870"/>
                  <a:pt x="513051" y="340686"/>
                  <a:pt x="516851" y="344502"/>
                </a:cubicBezTo>
                <a:cubicBezTo>
                  <a:pt x="520652" y="348318"/>
                  <a:pt x="528252" y="348318"/>
                  <a:pt x="532053" y="355950"/>
                </a:cubicBezTo>
                <a:cubicBezTo>
                  <a:pt x="539654" y="363581"/>
                  <a:pt x="547254" y="371213"/>
                  <a:pt x="551055" y="382661"/>
                </a:cubicBezTo>
                <a:cubicBezTo>
                  <a:pt x="558655" y="390293"/>
                  <a:pt x="558655" y="405556"/>
                  <a:pt x="554855" y="413188"/>
                </a:cubicBezTo>
                <a:cubicBezTo>
                  <a:pt x="554855" y="428452"/>
                  <a:pt x="547254" y="439900"/>
                  <a:pt x="532053" y="443716"/>
                </a:cubicBezTo>
                <a:cubicBezTo>
                  <a:pt x="528252" y="443716"/>
                  <a:pt x="528252" y="447532"/>
                  <a:pt x="528252" y="451348"/>
                </a:cubicBezTo>
                <a:cubicBezTo>
                  <a:pt x="520652" y="451348"/>
                  <a:pt x="513051" y="455163"/>
                  <a:pt x="505450" y="451348"/>
                </a:cubicBezTo>
                <a:cubicBezTo>
                  <a:pt x="501650" y="451348"/>
                  <a:pt x="501650" y="451348"/>
                  <a:pt x="497849" y="451348"/>
                </a:cubicBezTo>
                <a:cubicBezTo>
                  <a:pt x="494049" y="447532"/>
                  <a:pt x="490249" y="443716"/>
                  <a:pt x="490249" y="439900"/>
                </a:cubicBezTo>
                <a:cubicBezTo>
                  <a:pt x="482648" y="432268"/>
                  <a:pt x="482648" y="420820"/>
                  <a:pt x="490249" y="409372"/>
                </a:cubicBezTo>
                <a:cubicBezTo>
                  <a:pt x="486448" y="405556"/>
                  <a:pt x="490249" y="401741"/>
                  <a:pt x="482648" y="397925"/>
                </a:cubicBezTo>
                <a:cubicBezTo>
                  <a:pt x="478847" y="397925"/>
                  <a:pt x="475047" y="401741"/>
                  <a:pt x="467446" y="405556"/>
                </a:cubicBezTo>
                <a:cubicBezTo>
                  <a:pt x="467446" y="405556"/>
                  <a:pt x="467446" y="405556"/>
                  <a:pt x="463646" y="405556"/>
                </a:cubicBezTo>
                <a:cubicBezTo>
                  <a:pt x="459846" y="413188"/>
                  <a:pt x="456045" y="417004"/>
                  <a:pt x="456045" y="420820"/>
                </a:cubicBezTo>
                <a:cubicBezTo>
                  <a:pt x="452245" y="428452"/>
                  <a:pt x="452245" y="436084"/>
                  <a:pt x="452245" y="439900"/>
                </a:cubicBezTo>
                <a:cubicBezTo>
                  <a:pt x="452245" y="447532"/>
                  <a:pt x="452245" y="451348"/>
                  <a:pt x="452245" y="458979"/>
                </a:cubicBezTo>
                <a:cubicBezTo>
                  <a:pt x="452245" y="474243"/>
                  <a:pt x="459846" y="485691"/>
                  <a:pt x="463646" y="497139"/>
                </a:cubicBezTo>
                <a:cubicBezTo>
                  <a:pt x="471247" y="500954"/>
                  <a:pt x="475047" y="504770"/>
                  <a:pt x="478847" y="508586"/>
                </a:cubicBezTo>
                <a:cubicBezTo>
                  <a:pt x="486448" y="516218"/>
                  <a:pt x="494049" y="523850"/>
                  <a:pt x="505450" y="527666"/>
                </a:cubicBezTo>
                <a:cubicBezTo>
                  <a:pt x="505450" y="531482"/>
                  <a:pt x="509251" y="531482"/>
                  <a:pt x="513051" y="531482"/>
                </a:cubicBezTo>
                <a:cubicBezTo>
                  <a:pt x="516851" y="531482"/>
                  <a:pt x="516851" y="535298"/>
                  <a:pt x="520652" y="535298"/>
                </a:cubicBezTo>
                <a:cubicBezTo>
                  <a:pt x="528252" y="535298"/>
                  <a:pt x="535853" y="539114"/>
                  <a:pt x="547254" y="539114"/>
                </a:cubicBezTo>
                <a:cubicBezTo>
                  <a:pt x="547254" y="539114"/>
                  <a:pt x="551055" y="539114"/>
                  <a:pt x="554855" y="539114"/>
                </a:cubicBezTo>
                <a:cubicBezTo>
                  <a:pt x="558655" y="539114"/>
                  <a:pt x="562456" y="539114"/>
                  <a:pt x="566256" y="539114"/>
                </a:cubicBezTo>
                <a:cubicBezTo>
                  <a:pt x="573857" y="539114"/>
                  <a:pt x="577657" y="539114"/>
                  <a:pt x="585258" y="539114"/>
                </a:cubicBezTo>
                <a:cubicBezTo>
                  <a:pt x="592859" y="539114"/>
                  <a:pt x="600460" y="535298"/>
                  <a:pt x="604260" y="535298"/>
                </a:cubicBezTo>
                <a:cubicBezTo>
                  <a:pt x="604260" y="535298"/>
                  <a:pt x="604260" y="535298"/>
                  <a:pt x="608060" y="535298"/>
                </a:cubicBezTo>
                <a:cubicBezTo>
                  <a:pt x="608060" y="531482"/>
                  <a:pt x="611861" y="531482"/>
                  <a:pt x="615661" y="531482"/>
                </a:cubicBezTo>
                <a:cubicBezTo>
                  <a:pt x="615661" y="527666"/>
                  <a:pt x="619462" y="527666"/>
                  <a:pt x="619462" y="527666"/>
                </a:cubicBezTo>
                <a:cubicBezTo>
                  <a:pt x="627062" y="523850"/>
                  <a:pt x="630863" y="520034"/>
                  <a:pt x="634663" y="516218"/>
                </a:cubicBezTo>
                <a:cubicBezTo>
                  <a:pt x="642264" y="512402"/>
                  <a:pt x="646064" y="508586"/>
                  <a:pt x="649865" y="508586"/>
                </a:cubicBezTo>
                <a:cubicBezTo>
                  <a:pt x="653665" y="500954"/>
                  <a:pt x="661266" y="493323"/>
                  <a:pt x="661266" y="489507"/>
                </a:cubicBezTo>
                <a:cubicBezTo>
                  <a:pt x="665066" y="485691"/>
                  <a:pt x="665066" y="478059"/>
                  <a:pt x="668866" y="478059"/>
                </a:cubicBezTo>
                <a:cubicBezTo>
                  <a:pt x="672667" y="470427"/>
                  <a:pt x="676467" y="466611"/>
                  <a:pt x="672667" y="458979"/>
                </a:cubicBezTo>
                <a:cubicBezTo>
                  <a:pt x="672667" y="455163"/>
                  <a:pt x="672667" y="447532"/>
                  <a:pt x="672667" y="443716"/>
                </a:cubicBezTo>
                <a:cubicBezTo>
                  <a:pt x="668866" y="439900"/>
                  <a:pt x="668866" y="436084"/>
                  <a:pt x="668866" y="432268"/>
                </a:cubicBezTo>
                <a:cubicBezTo>
                  <a:pt x="661266" y="420820"/>
                  <a:pt x="657465" y="409372"/>
                  <a:pt x="646064" y="397925"/>
                </a:cubicBezTo>
                <a:cubicBezTo>
                  <a:pt x="642264" y="390293"/>
                  <a:pt x="653665" y="386477"/>
                  <a:pt x="657465" y="378845"/>
                </a:cubicBezTo>
                <a:cubicBezTo>
                  <a:pt x="661266" y="375029"/>
                  <a:pt x="665066" y="371213"/>
                  <a:pt x="668866" y="367397"/>
                </a:cubicBezTo>
                <a:cubicBezTo>
                  <a:pt x="672667" y="363581"/>
                  <a:pt x="676467" y="359765"/>
                  <a:pt x="680268" y="355950"/>
                </a:cubicBezTo>
                <a:cubicBezTo>
                  <a:pt x="684068" y="348318"/>
                  <a:pt x="687868" y="340686"/>
                  <a:pt x="687868" y="336870"/>
                </a:cubicBezTo>
                <a:cubicBezTo>
                  <a:pt x="691669" y="317790"/>
                  <a:pt x="687868" y="302527"/>
                  <a:pt x="684068" y="287263"/>
                </a:cubicBezTo>
                <a:cubicBezTo>
                  <a:pt x="684068" y="283447"/>
                  <a:pt x="680268" y="279631"/>
                  <a:pt x="680268" y="279631"/>
                </a:cubicBezTo>
                <a:cubicBezTo>
                  <a:pt x="676467" y="271999"/>
                  <a:pt x="672667" y="264367"/>
                  <a:pt x="665066" y="256736"/>
                </a:cubicBezTo>
                <a:cubicBezTo>
                  <a:pt x="653665" y="249104"/>
                  <a:pt x="646064" y="241472"/>
                  <a:pt x="630863" y="237656"/>
                </a:cubicBezTo>
                <a:cubicBezTo>
                  <a:pt x="619462" y="233840"/>
                  <a:pt x="608060" y="233840"/>
                  <a:pt x="596659" y="233840"/>
                </a:cubicBezTo>
                <a:cubicBezTo>
                  <a:pt x="577657" y="233840"/>
                  <a:pt x="562456" y="241472"/>
                  <a:pt x="547254" y="245288"/>
                </a:cubicBezTo>
                <a:cubicBezTo>
                  <a:pt x="535853" y="245288"/>
                  <a:pt x="543454" y="233840"/>
                  <a:pt x="539654" y="230024"/>
                </a:cubicBezTo>
                <a:cubicBezTo>
                  <a:pt x="543454" y="210945"/>
                  <a:pt x="539654" y="188049"/>
                  <a:pt x="528252" y="172785"/>
                </a:cubicBezTo>
                <a:cubicBezTo>
                  <a:pt x="528252" y="168970"/>
                  <a:pt x="524452" y="165154"/>
                  <a:pt x="520652" y="165154"/>
                </a:cubicBezTo>
                <a:cubicBezTo>
                  <a:pt x="516851" y="157522"/>
                  <a:pt x="505450" y="149890"/>
                  <a:pt x="497849" y="146074"/>
                </a:cubicBezTo>
                <a:cubicBezTo>
                  <a:pt x="490249" y="142258"/>
                  <a:pt x="482648" y="138442"/>
                  <a:pt x="475047" y="134626"/>
                </a:cubicBezTo>
                <a:cubicBezTo>
                  <a:pt x="463646" y="130810"/>
                  <a:pt x="452245" y="126994"/>
                  <a:pt x="440844" y="123178"/>
                </a:cubicBezTo>
                <a:cubicBezTo>
                  <a:pt x="433243" y="123178"/>
                  <a:pt x="429443" y="119363"/>
                  <a:pt x="425642" y="115547"/>
                </a:cubicBezTo>
                <a:cubicBezTo>
                  <a:pt x="421842" y="115547"/>
                  <a:pt x="418041" y="111731"/>
                  <a:pt x="414241" y="111731"/>
                </a:cubicBezTo>
                <a:cubicBezTo>
                  <a:pt x="406640" y="107915"/>
                  <a:pt x="395239" y="104099"/>
                  <a:pt x="387638" y="100283"/>
                </a:cubicBezTo>
                <a:cubicBezTo>
                  <a:pt x="387638" y="96467"/>
                  <a:pt x="383838" y="96467"/>
                  <a:pt x="380038" y="92651"/>
                </a:cubicBezTo>
                <a:cubicBezTo>
                  <a:pt x="376237" y="92651"/>
                  <a:pt x="376237" y="88835"/>
                  <a:pt x="372437" y="85019"/>
                </a:cubicBezTo>
                <a:cubicBezTo>
                  <a:pt x="368637" y="92651"/>
                  <a:pt x="361036" y="100283"/>
                  <a:pt x="357235" y="104099"/>
                </a:cubicBezTo>
                <a:cubicBezTo>
                  <a:pt x="349635" y="111731"/>
                  <a:pt x="338233" y="115547"/>
                  <a:pt x="330633" y="119363"/>
                </a:cubicBezTo>
                <a:cubicBezTo>
                  <a:pt x="323032" y="123178"/>
                  <a:pt x="315431" y="126994"/>
                  <a:pt x="311631" y="126994"/>
                </a:cubicBezTo>
                <a:cubicBezTo>
                  <a:pt x="307830" y="130810"/>
                  <a:pt x="304030" y="126994"/>
                  <a:pt x="304030" y="130810"/>
                </a:cubicBezTo>
                <a:cubicBezTo>
                  <a:pt x="296429" y="130810"/>
                  <a:pt x="292629" y="130810"/>
                  <a:pt x="285028" y="134626"/>
                </a:cubicBezTo>
                <a:cubicBezTo>
                  <a:pt x="285028" y="134626"/>
                  <a:pt x="281228" y="134626"/>
                  <a:pt x="281228" y="138442"/>
                </a:cubicBezTo>
                <a:cubicBezTo>
                  <a:pt x="269827" y="138442"/>
                  <a:pt x="262226" y="142258"/>
                  <a:pt x="254625" y="146074"/>
                </a:cubicBezTo>
                <a:cubicBezTo>
                  <a:pt x="254625" y="146074"/>
                  <a:pt x="250825" y="146074"/>
                  <a:pt x="250825" y="146074"/>
                </a:cubicBezTo>
                <a:cubicBezTo>
                  <a:pt x="239424" y="149890"/>
                  <a:pt x="231823" y="157522"/>
                  <a:pt x="224222" y="165154"/>
                </a:cubicBezTo>
                <a:cubicBezTo>
                  <a:pt x="224222" y="165154"/>
                  <a:pt x="220422" y="168970"/>
                  <a:pt x="220422" y="168970"/>
                </a:cubicBezTo>
                <a:cubicBezTo>
                  <a:pt x="216621" y="172785"/>
                  <a:pt x="212821" y="180417"/>
                  <a:pt x="209021" y="184233"/>
                </a:cubicBezTo>
                <a:cubicBezTo>
                  <a:pt x="205220" y="191865"/>
                  <a:pt x="201420" y="195681"/>
                  <a:pt x="201420" y="203313"/>
                </a:cubicBezTo>
                <a:cubicBezTo>
                  <a:pt x="201420" y="207129"/>
                  <a:pt x="197619" y="207129"/>
                  <a:pt x="201420" y="207129"/>
                </a:cubicBezTo>
                <a:cubicBezTo>
                  <a:pt x="197619" y="214761"/>
                  <a:pt x="197619" y="226208"/>
                  <a:pt x="197619" y="233840"/>
                </a:cubicBezTo>
                <a:cubicBezTo>
                  <a:pt x="197619" y="233840"/>
                  <a:pt x="201420" y="241472"/>
                  <a:pt x="197619" y="241472"/>
                </a:cubicBezTo>
                <a:cubicBezTo>
                  <a:pt x="186218" y="245288"/>
                  <a:pt x="174817" y="237656"/>
                  <a:pt x="159616" y="237656"/>
                </a:cubicBezTo>
                <a:cubicBezTo>
                  <a:pt x="159616" y="237656"/>
                  <a:pt x="159616" y="237656"/>
                  <a:pt x="136813" y="237656"/>
                </a:cubicBezTo>
                <a:cubicBezTo>
                  <a:pt x="136813" y="241472"/>
                  <a:pt x="133013" y="237656"/>
                  <a:pt x="133013" y="241472"/>
                </a:cubicBezTo>
                <a:cubicBezTo>
                  <a:pt x="125412" y="241472"/>
                  <a:pt x="117811" y="241472"/>
                  <a:pt x="110211" y="245288"/>
                </a:cubicBezTo>
                <a:cubicBezTo>
                  <a:pt x="106410" y="249104"/>
                  <a:pt x="102610" y="245288"/>
                  <a:pt x="98810" y="249104"/>
                </a:cubicBezTo>
                <a:cubicBezTo>
                  <a:pt x="95009" y="252920"/>
                  <a:pt x="95009" y="249104"/>
                  <a:pt x="91209" y="252920"/>
                </a:cubicBezTo>
                <a:cubicBezTo>
                  <a:pt x="87408" y="256736"/>
                  <a:pt x="83608" y="260552"/>
                  <a:pt x="79808" y="264367"/>
                </a:cubicBezTo>
                <a:cubicBezTo>
                  <a:pt x="76007" y="268183"/>
                  <a:pt x="72207" y="271999"/>
                  <a:pt x="72207" y="275815"/>
                </a:cubicBezTo>
                <a:cubicBezTo>
                  <a:pt x="68407" y="279631"/>
                  <a:pt x="68407" y="279631"/>
                  <a:pt x="64606" y="283447"/>
                </a:cubicBezTo>
                <a:cubicBezTo>
                  <a:pt x="60806" y="294895"/>
                  <a:pt x="57005" y="306343"/>
                  <a:pt x="57005" y="317790"/>
                </a:cubicBezTo>
                <a:cubicBezTo>
                  <a:pt x="57005" y="333054"/>
                  <a:pt x="60806" y="344502"/>
                  <a:pt x="64606" y="355950"/>
                </a:cubicBezTo>
                <a:cubicBezTo>
                  <a:pt x="72207" y="375029"/>
                  <a:pt x="83608" y="390293"/>
                  <a:pt x="102610" y="397925"/>
                </a:cubicBezTo>
                <a:cubicBezTo>
                  <a:pt x="102610" y="401741"/>
                  <a:pt x="106410" y="397925"/>
                  <a:pt x="106410" y="401741"/>
                </a:cubicBezTo>
                <a:cubicBezTo>
                  <a:pt x="106410" y="409372"/>
                  <a:pt x="98810" y="413188"/>
                  <a:pt x="95009" y="420820"/>
                </a:cubicBezTo>
                <a:cubicBezTo>
                  <a:pt x="91209" y="424636"/>
                  <a:pt x="91209" y="432268"/>
                  <a:pt x="87408" y="439900"/>
                </a:cubicBezTo>
                <a:cubicBezTo>
                  <a:pt x="83608" y="447532"/>
                  <a:pt x="79808" y="458979"/>
                  <a:pt x="79808" y="466611"/>
                </a:cubicBezTo>
                <a:cubicBezTo>
                  <a:pt x="79808" y="481875"/>
                  <a:pt x="83608" y="493323"/>
                  <a:pt x="91209" y="504770"/>
                </a:cubicBezTo>
                <a:cubicBezTo>
                  <a:pt x="98810" y="512402"/>
                  <a:pt x="102610" y="520034"/>
                  <a:pt x="110211" y="523850"/>
                </a:cubicBezTo>
                <a:cubicBezTo>
                  <a:pt x="114011" y="527666"/>
                  <a:pt x="117811" y="531482"/>
                  <a:pt x="121612" y="535298"/>
                </a:cubicBezTo>
                <a:cubicBezTo>
                  <a:pt x="125412" y="535298"/>
                  <a:pt x="129213" y="535298"/>
                  <a:pt x="129213" y="535298"/>
                </a:cubicBezTo>
                <a:cubicBezTo>
                  <a:pt x="133013" y="539114"/>
                  <a:pt x="136813" y="539114"/>
                  <a:pt x="140614" y="542930"/>
                </a:cubicBezTo>
                <a:cubicBezTo>
                  <a:pt x="148215" y="542930"/>
                  <a:pt x="152015" y="546745"/>
                  <a:pt x="155815" y="546745"/>
                </a:cubicBezTo>
                <a:cubicBezTo>
                  <a:pt x="159616" y="546745"/>
                  <a:pt x="159616" y="550561"/>
                  <a:pt x="159616" y="546745"/>
                </a:cubicBezTo>
                <a:cubicBezTo>
                  <a:pt x="163416" y="550561"/>
                  <a:pt x="163416" y="546745"/>
                  <a:pt x="167216" y="550561"/>
                </a:cubicBezTo>
                <a:cubicBezTo>
                  <a:pt x="171017" y="550561"/>
                  <a:pt x="171017" y="550561"/>
                  <a:pt x="174817" y="550561"/>
                </a:cubicBezTo>
                <a:cubicBezTo>
                  <a:pt x="174817" y="550561"/>
                  <a:pt x="178618" y="550561"/>
                  <a:pt x="178618" y="550561"/>
                </a:cubicBezTo>
                <a:cubicBezTo>
                  <a:pt x="182418" y="550561"/>
                  <a:pt x="190019" y="554377"/>
                  <a:pt x="190019" y="550561"/>
                </a:cubicBezTo>
                <a:cubicBezTo>
                  <a:pt x="197619" y="550561"/>
                  <a:pt x="205220" y="550561"/>
                  <a:pt x="209021" y="550561"/>
                </a:cubicBezTo>
                <a:cubicBezTo>
                  <a:pt x="212821" y="550561"/>
                  <a:pt x="216621" y="550561"/>
                  <a:pt x="216621" y="550561"/>
                </a:cubicBezTo>
                <a:cubicBezTo>
                  <a:pt x="220422" y="550561"/>
                  <a:pt x="224222" y="546745"/>
                  <a:pt x="228022" y="546745"/>
                </a:cubicBezTo>
                <a:cubicBezTo>
                  <a:pt x="231823" y="542930"/>
                  <a:pt x="235623" y="546745"/>
                  <a:pt x="239424" y="542930"/>
                </a:cubicBezTo>
                <a:cubicBezTo>
                  <a:pt x="247024" y="535298"/>
                  <a:pt x="254625" y="531482"/>
                  <a:pt x="258426" y="527666"/>
                </a:cubicBezTo>
                <a:cubicBezTo>
                  <a:pt x="266026" y="523850"/>
                  <a:pt x="269827" y="520034"/>
                  <a:pt x="273627" y="512402"/>
                </a:cubicBezTo>
                <a:cubicBezTo>
                  <a:pt x="277427" y="512402"/>
                  <a:pt x="281228" y="508586"/>
                  <a:pt x="281228" y="504770"/>
                </a:cubicBezTo>
                <a:cubicBezTo>
                  <a:pt x="281228" y="504770"/>
                  <a:pt x="285028" y="500954"/>
                  <a:pt x="285028" y="500954"/>
                </a:cubicBezTo>
                <a:cubicBezTo>
                  <a:pt x="288829" y="497139"/>
                  <a:pt x="288829" y="493323"/>
                  <a:pt x="292629" y="489507"/>
                </a:cubicBezTo>
                <a:cubicBezTo>
                  <a:pt x="292629" y="481875"/>
                  <a:pt x="296429" y="478059"/>
                  <a:pt x="296429" y="470427"/>
                </a:cubicBezTo>
                <a:cubicBezTo>
                  <a:pt x="300230" y="462795"/>
                  <a:pt x="296429" y="455163"/>
                  <a:pt x="296429" y="447532"/>
                </a:cubicBezTo>
                <a:cubicBezTo>
                  <a:pt x="292629" y="432268"/>
                  <a:pt x="288829" y="420820"/>
                  <a:pt x="277427" y="409372"/>
                </a:cubicBezTo>
                <a:cubicBezTo>
                  <a:pt x="273627" y="405556"/>
                  <a:pt x="269827" y="405556"/>
                  <a:pt x="266026" y="405556"/>
                </a:cubicBezTo>
                <a:cubicBezTo>
                  <a:pt x="262226" y="409372"/>
                  <a:pt x="258426" y="413188"/>
                  <a:pt x="258426" y="417004"/>
                </a:cubicBezTo>
                <a:cubicBezTo>
                  <a:pt x="258426" y="424636"/>
                  <a:pt x="262226" y="436084"/>
                  <a:pt x="258426" y="443716"/>
                </a:cubicBezTo>
                <a:cubicBezTo>
                  <a:pt x="258426" y="451348"/>
                  <a:pt x="250825" y="458979"/>
                  <a:pt x="239424" y="462795"/>
                </a:cubicBezTo>
                <a:cubicBezTo>
                  <a:pt x="231823" y="462795"/>
                  <a:pt x="220422" y="458979"/>
                  <a:pt x="212821" y="451348"/>
                </a:cubicBezTo>
                <a:cubicBezTo>
                  <a:pt x="209021" y="451348"/>
                  <a:pt x="209021" y="447532"/>
                  <a:pt x="209021" y="443716"/>
                </a:cubicBezTo>
                <a:cubicBezTo>
                  <a:pt x="197619" y="439900"/>
                  <a:pt x="193819" y="428452"/>
                  <a:pt x="193819" y="417004"/>
                </a:cubicBezTo>
                <a:cubicBezTo>
                  <a:pt x="190019" y="413188"/>
                  <a:pt x="190019" y="405556"/>
                  <a:pt x="193819" y="401741"/>
                </a:cubicBezTo>
                <a:cubicBezTo>
                  <a:pt x="193819" y="390293"/>
                  <a:pt x="197619" y="378845"/>
                  <a:pt x="205220" y="371213"/>
                </a:cubicBezTo>
                <a:cubicBezTo>
                  <a:pt x="209021" y="367397"/>
                  <a:pt x="212821" y="367397"/>
                  <a:pt x="212821" y="363581"/>
                </a:cubicBezTo>
                <a:cubicBezTo>
                  <a:pt x="216621" y="359765"/>
                  <a:pt x="224222" y="355950"/>
                  <a:pt x="228022" y="355950"/>
                </a:cubicBezTo>
                <a:cubicBezTo>
                  <a:pt x="235623" y="352134"/>
                  <a:pt x="239424" y="348318"/>
                  <a:pt x="247024" y="348318"/>
                </a:cubicBezTo>
                <a:cubicBezTo>
                  <a:pt x="250825" y="348318"/>
                  <a:pt x="254625" y="344502"/>
                  <a:pt x="258426" y="348318"/>
                </a:cubicBezTo>
                <a:cubicBezTo>
                  <a:pt x="258426" y="348318"/>
                  <a:pt x="258426" y="348318"/>
                  <a:pt x="258426" y="344502"/>
                </a:cubicBezTo>
                <a:cubicBezTo>
                  <a:pt x="262226" y="348318"/>
                  <a:pt x="266026" y="344502"/>
                  <a:pt x="266026" y="348318"/>
                </a:cubicBezTo>
                <a:cubicBezTo>
                  <a:pt x="273627" y="344502"/>
                  <a:pt x="281228" y="348318"/>
                  <a:pt x="288829" y="348318"/>
                </a:cubicBezTo>
                <a:cubicBezTo>
                  <a:pt x="300230" y="355950"/>
                  <a:pt x="307830" y="359765"/>
                  <a:pt x="319232" y="367397"/>
                </a:cubicBezTo>
                <a:cubicBezTo>
                  <a:pt x="330633" y="382661"/>
                  <a:pt x="345834" y="397925"/>
                  <a:pt x="349635" y="417004"/>
                </a:cubicBezTo>
                <a:cubicBezTo>
                  <a:pt x="349635" y="424636"/>
                  <a:pt x="353435" y="428452"/>
                  <a:pt x="353435" y="436084"/>
                </a:cubicBezTo>
                <a:cubicBezTo>
                  <a:pt x="353435" y="436084"/>
                  <a:pt x="353435" y="436084"/>
                  <a:pt x="353435" y="439900"/>
                </a:cubicBezTo>
                <a:cubicBezTo>
                  <a:pt x="357235" y="451348"/>
                  <a:pt x="353435" y="458979"/>
                  <a:pt x="353435" y="470427"/>
                </a:cubicBezTo>
                <a:cubicBezTo>
                  <a:pt x="357235" y="478059"/>
                  <a:pt x="353435" y="489507"/>
                  <a:pt x="349635" y="500954"/>
                </a:cubicBezTo>
                <a:cubicBezTo>
                  <a:pt x="345834" y="516218"/>
                  <a:pt x="338233" y="527666"/>
                  <a:pt x="330633" y="542930"/>
                </a:cubicBezTo>
                <a:cubicBezTo>
                  <a:pt x="323032" y="550561"/>
                  <a:pt x="319232" y="558193"/>
                  <a:pt x="311631" y="562009"/>
                </a:cubicBezTo>
                <a:cubicBezTo>
                  <a:pt x="304030" y="569641"/>
                  <a:pt x="300230" y="573457"/>
                  <a:pt x="292629" y="577273"/>
                </a:cubicBezTo>
                <a:cubicBezTo>
                  <a:pt x="292629" y="577273"/>
                  <a:pt x="292629" y="581089"/>
                  <a:pt x="288829" y="577273"/>
                </a:cubicBezTo>
                <a:cubicBezTo>
                  <a:pt x="273627" y="588721"/>
                  <a:pt x="258426" y="596352"/>
                  <a:pt x="239424" y="603984"/>
                </a:cubicBezTo>
                <a:cubicBezTo>
                  <a:pt x="235623" y="603984"/>
                  <a:pt x="235623" y="603984"/>
                  <a:pt x="231823" y="603984"/>
                </a:cubicBezTo>
                <a:cubicBezTo>
                  <a:pt x="224222" y="607800"/>
                  <a:pt x="212821" y="607800"/>
                  <a:pt x="205220" y="607800"/>
                </a:cubicBezTo>
                <a:cubicBezTo>
                  <a:pt x="201420" y="611616"/>
                  <a:pt x="193819" y="611616"/>
                  <a:pt x="190019" y="611616"/>
                </a:cubicBezTo>
                <a:cubicBezTo>
                  <a:pt x="186218" y="611616"/>
                  <a:pt x="182418" y="607800"/>
                  <a:pt x="178618" y="611616"/>
                </a:cubicBezTo>
                <a:cubicBezTo>
                  <a:pt x="174817" y="611616"/>
                  <a:pt x="171017" y="607800"/>
                  <a:pt x="163416" y="607800"/>
                </a:cubicBezTo>
                <a:cubicBezTo>
                  <a:pt x="155815" y="607800"/>
                  <a:pt x="152015" y="607800"/>
                  <a:pt x="144414" y="603984"/>
                </a:cubicBezTo>
                <a:cubicBezTo>
                  <a:pt x="140614" y="603984"/>
                  <a:pt x="136813" y="603984"/>
                  <a:pt x="133013" y="603984"/>
                </a:cubicBezTo>
                <a:cubicBezTo>
                  <a:pt x="129213" y="600168"/>
                  <a:pt x="121612" y="600168"/>
                  <a:pt x="114011" y="596352"/>
                </a:cubicBezTo>
                <a:cubicBezTo>
                  <a:pt x="110211" y="592537"/>
                  <a:pt x="106410" y="592537"/>
                  <a:pt x="102610" y="592537"/>
                </a:cubicBezTo>
                <a:cubicBezTo>
                  <a:pt x="91209" y="588721"/>
                  <a:pt x="83608" y="581089"/>
                  <a:pt x="76007" y="577273"/>
                </a:cubicBezTo>
                <a:cubicBezTo>
                  <a:pt x="76007" y="573457"/>
                  <a:pt x="72207" y="573457"/>
                  <a:pt x="72207" y="573457"/>
                </a:cubicBezTo>
                <a:cubicBezTo>
                  <a:pt x="64606" y="562009"/>
                  <a:pt x="57005" y="554377"/>
                  <a:pt x="49405" y="546745"/>
                </a:cubicBezTo>
                <a:cubicBezTo>
                  <a:pt x="41804" y="535298"/>
                  <a:pt x="34203" y="523850"/>
                  <a:pt x="26602" y="512402"/>
                </a:cubicBezTo>
                <a:cubicBezTo>
                  <a:pt x="22802" y="500954"/>
                  <a:pt x="22802" y="489507"/>
                  <a:pt x="19002" y="478059"/>
                </a:cubicBezTo>
                <a:cubicBezTo>
                  <a:pt x="19002" y="470427"/>
                  <a:pt x="19002" y="462795"/>
                  <a:pt x="19002" y="455163"/>
                </a:cubicBezTo>
                <a:cubicBezTo>
                  <a:pt x="22802" y="443716"/>
                  <a:pt x="26602" y="428452"/>
                  <a:pt x="30403" y="417004"/>
                </a:cubicBezTo>
                <a:cubicBezTo>
                  <a:pt x="30403" y="413188"/>
                  <a:pt x="34203" y="413188"/>
                  <a:pt x="34203" y="409372"/>
                </a:cubicBezTo>
                <a:cubicBezTo>
                  <a:pt x="19002" y="394109"/>
                  <a:pt x="7601" y="382661"/>
                  <a:pt x="7601" y="363581"/>
                </a:cubicBezTo>
                <a:cubicBezTo>
                  <a:pt x="3800" y="355950"/>
                  <a:pt x="0" y="348318"/>
                  <a:pt x="0" y="336870"/>
                </a:cubicBezTo>
                <a:cubicBezTo>
                  <a:pt x="0" y="317790"/>
                  <a:pt x="0" y="298711"/>
                  <a:pt x="7601" y="279631"/>
                </a:cubicBezTo>
                <a:cubicBezTo>
                  <a:pt x="7601" y="271999"/>
                  <a:pt x="11401" y="271999"/>
                  <a:pt x="11401" y="264367"/>
                </a:cubicBezTo>
                <a:cubicBezTo>
                  <a:pt x="11401" y="260552"/>
                  <a:pt x="15201" y="256736"/>
                  <a:pt x="19002" y="252920"/>
                </a:cubicBezTo>
                <a:cubicBezTo>
                  <a:pt x="22802" y="241472"/>
                  <a:pt x="30403" y="233840"/>
                  <a:pt x="38004" y="222392"/>
                </a:cubicBezTo>
                <a:cubicBezTo>
                  <a:pt x="45604" y="218576"/>
                  <a:pt x="53205" y="207129"/>
                  <a:pt x="60806" y="203313"/>
                </a:cubicBezTo>
                <a:cubicBezTo>
                  <a:pt x="64606" y="199497"/>
                  <a:pt x="72207" y="199497"/>
                  <a:pt x="76007" y="195681"/>
                </a:cubicBezTo>
                <a:cubicBezTo>
                  <a:pt x="76007" y="191865"/>
                  <a:pt x="83608" y="191865"/>
                  <a:pt x="83608" y="191865"/>
                </a:cubicBezTo>
                <a:cubicBezTo>
                  <a:pt x="98810" y="188049"/>
                  <a:pt x="110211" y="180417"/>
                  <a:pt x="125412" y="184233"/>
                </a:cubicBezTo>
                <a:cubicBezTo>
                  <a:pt x="133013" y="180417"/>
                  <a:pt x="136813" y="184233"/>
                  <a:pt x="140614" y="180417"/>
                </a:cubicBezTo>
                <a:cubicBezTo>
                  <a:pt x="140614" y="180417"/>
                  <a:pt x="140614" y="180417"/>
                  <a:pt x="148215" y="184233"/>
                </a:cubicBezTo>
                <a:cubicBezTo>
                  <a:pt x="148215" y="180417"/>
                  <a:pt x="148215" y="172785"/>
                  <a:pt x="148215" y="168970"/>
                </a:cubicBezTo>
                <a:cubicBezTo>
                  <a:pt x="152015" y="168970"/>
                  <a:pt x="152015" y="165154"/>
                  <a:pt x="152015" y="165154"/>
                </a:cubicBezTo>
                <a:cubicBezTo>
                  <a:pt x="155815" y="153706"/>
                  <a:pt x="159616" y="146074"/>
                  <a:pt x="167216" y="138442"/>
                </a:cubicBezTo>
                <a:cubicBezTo>
                  <a:pt x="171017" y="130810"/>
                  <a:pt x="174817" y="123178"/>
                  <a:pt x="182418" y="119363"/>
                </a:cubicBezTo>
                <a:cubicBezTo>
                  <a:pt x="186218" y="115547"/>
                  <a:pt x="190019" y="111731"/>
                  <a:pt x="193819" y="107915"/>
                </a:cubicBezTo>
                <a:cubicBezTo>
                  <a:pt x="197619" y="107915"/>
                  <a:pt x="201420" y="104099"/>
                  <a:pt x="205220" y="104099"/>
                </a:cubicBezTo>
                <a:cubicBezTo>
                  <a:pt x="205220" y="104099"/>
                  <a:pt x="205220" y="104099"/>
                  <a:pt x="209021" y="104099"/>
                </a:cubicBezTo>
                <a:cubicBezTo>
                  <a:pt x="212821" y="100283"/>
                  <a:pt x="216621" y="96467"/>
                  <a:pt x="224222" y="96467"/>
                </a:cubicBezTo>
                <a:cubicBezTo>
                  <a:pt x="228022" y="92651"/>
                  <a:pt x="239424" y="92651"/>
                  <a:pt x="243224" y="88835"/>
                </a:cubicBezTo>
                <a:cubicBezTo>
                  <a:pt x="247024" y="88835"/>
                  <a:pt x="247024" y="88835"/>
                  <a:pt x="247024" y="88835"/>
                </a:cubicBezTo>
                <a:cubicBezTo>
                  <a:pt x="262226" y="85019"/>
                  <a:pt x="273627" y="81203"/>
                  <a:pt x="285028" y="77387"/>
                </a:cubicBezTo>
                <a:cubicBezTo>
                  <a:pt x="288829" y="77387"/>
                  <a:pt x="292629" y="73572"/>
                  <a:pt x="296429" y="73572"/>
                </a:cubicBezTo>
                <a:cubicBezTo>
                  <a:pt x="296429" y="73572"/>
                  <a:pt x="296429" y="69756"/>
                  <a:pt x="300230" y="69756"/>
                </a:cubicBezTo>
                <a:cubicBezTo>
                  <a:pt x="307830" y="65940"/>
                  <a:pt x="315431" y="62124"/>
                  <a:pt x="323032" y="58308"/>
                </a:cubicBezTo>
                <a:cubicBezTo>
                  <a:pt x="326832" y="50676"/>
                  <a:pt x="334433" y="46860"/>
                  <a:pt x="342034" y="39228"/>
                </a:cubicBezTo>
                <a:cubicBezTo>
                  <a:pt x="349635" y="23965"/>
                  <a:pt x="361036" y="12517"/>
                  <a:pt x="364836" y="1069"/>
                </a:cubicBezTo>
                <a:close/>
              </a:path>
            </a:pathLst>
          </a:cu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任意多边形 3"/>
          <p:cNvSpPr/>
          <p:nvPr/>
        </p:nvSpPr>
        <p:spPr>
          <a:xfrm rot="16200000">
            <a:off x="4574160" y="3351960"/>
            <a:ext cx="1152720" cy="934920"/>
          </a:xfrm>
          <a:custGeom>
            <a:avLst/>
            <a:gdLst/>
            <a:ahLst/>
            <a:rect l="l" t="t" r="r" b="b"/>
            <a:pathLst>
              <a:path w="752475" h="611616">
                <a:moveTo>
                  <a:pt x="364836" y="1069"/>
                </a:moveTo>
                <a:cubicBezTo>
                  <a:pt x="368637" y="-2747"/>
                  <a:pt x="372437" y="4885"/>
                  <a:pt x="372437" y="4885"/>
                </a:cubicBezTo>
                <a:cubicBezTo>
                  <a:pt x="380038" y="16333"/>
                  <a:pt x="391439" y="27781"/>
                  <a:pt x="402840" y="39228"/>
                </a:cubicBezTo>
                <a:cubicBezTo>
                  <a:pt x="406640" y="39228"/>
                  <a:pt x="406640" y="43044"/>
                  <a:pt x="410441" y="43044"/>
                </a:cubicBezTo>
                <a:cubicBezTo>
                  <a:pt x="418041" y="50676"/>
                  <a:pt x="425642" y="54492"/>
                  <a:pt x="433243" y="58308"/>
                </a:cubicBezTo>
                <a:cubicBezTo>
                  <a:pt x="437043" y="58308"/>
                  <a:pt x="440844" y="62124"/>
                  <a:pt x="444644" y="62124"/>
                </a:cubicBezTo>
                <a:cubicBezTo>
                  <a:pt x="448444" y="62124"/>
                  <a:pt x="448444" y="62124"/>
                  <a:pt x="448444" y="62124"/>
                </a:cubicBezTo>
                <a:cubicBezTo>
                  <a:pt x="452245" y="65940"/>
                  <a:pt x="456045" y="65940"/>
                  <a:pt x="459846" y="65940"/>
                </a:cubicBezTo>
                <a:cubicBezTo>
                  <a:pt x="463646" y="65940"/>
                  <a:pt x="463646" y="69756"/>
                  <a:pt x="463646" y="69756"/>
                </a:cubicBezTo>
                <a:cubicBezTo>
                  <a:pt x="475047" y="69756"/>
                  <a:pt x="490249" y="77387"/>
                  <a:pt x="501650" y="77387"/>
                </a:cubicBezTo>
                <a:cubicBezTo>
                  <a:pt x="509251" y="81203"/>
                  <a:pt x="513051" y="85019"/>
                  <a:pt x="520652" y="85019"/>
                </a:cubicBezTo>
                <a:cubicBezTo>
                  <a:pt x="524452" y="88835"/>
                  <a:pt x="524452" y="88835"/>
                  <a:pt x="528252" y="88835"/>
                </a:cubicBezTo>
                <a:cubicBezTo>
                  <a:pt x="532053" y="92651"/>
                  <a:pt x="535853" y="92651"/>
                  <a:pt x="539654" y="96467"/>
                </a:cubicBezTo>
                <a:cubicBezTo>
                  <a:pt x="543454" y="100283"/>
                  <a:pt x="547254" y="100283"/>
                  <a:pt x="551055" y="104099"/>
                </a:cubicBezTo>
                <a:cubicBezTo>
                  <a:pt x="554855" y="107915"/>
                  <a:pt x="558655" y="111731"/>
                  <a:pt x="566256" y="115547"/>
                </a:cubicBezTo>
                <a:cubicBezTo>
                  <a:pt x="566256" y="123178"/>
                  <a:pt x="573857" y="126994"/>
                  <a:pt x="577657" y="134626"/>
                </a:cubicBezTo>
                <a:cubicBezTo>
                  <a:pt x="581458" y="138442"/>
                  <a:pt x="581458" y="142258"/>
                  <a:pt x="585258" y="149890"/>
                </a:cubicBezTo>
                <a:cubicBezTo>
                  <a:pt x="589058" y="153706"/>
                  <a:pt x="592859" y="165154"/>
                  <a:pt x="596659" y="172785"/>
                </a:cubicBezTo>
                <a:cubicBezTo>
                  <a:pt x="600460" y="172785"/>
                  <a:pt x="604260" y="172785"/>
                  <a:pt x="608060" y="172785"/>
                </a:cubicBezTo>
                <a:cubicBezTo>
                  <a:pt x="619462" y="172785"/>
                  <a:pt x="627062" y="172785"/>
                  <a:pt x="634663" y="172785"/>
                </a:cubicBezTo>
                <a:cubicBezTo>
                  <a:pt x="638463" y="176601"/>
                  <a:pt x="646064" y="176601"/>
                  <a:pt x="649865" y="180417"/>
                </a:cubicBezTo>
                <a:cubicBezTo>
                  <a:pt x="657465" y="180417"/>
                  <a:pt x="657465" y="184233"/>
                  <a:pt x="661266" y="184233"/>
                </a:cubicBezTo>
                <a:cubicBezTo>
                  <a:pt x="672667" y="188049"/>
                  <a:pt x="680268" y="191865"/>
                  <a:pt x="687868" y="199497"/>
                </a:cubicBezTo>
                <a:cubicBezTo>
                  <a:pt x="699269" y="203313"/>
                  <a:pt x="706870" y="214761"/>
                  <a:pt x="714471" y="222392"/>
                </a:cubicBezTo>
                <a:cubicBezTo>
                  <a:pt x="714471" y="222392"/>
                  <a:pt x="714471" y="226208"/>
                  <a:pt x="718271" y="226208"/>
                </a:cubicBezTo>
                <a:cubicBezTo>
                  <a:pt x="722072" y="233840"/>
                  <a:pt x="729673" y="241472"/>
                  <a:pt x="733473" y="249104"/>
                </a:cubicBezTo>
                <a:cubicBezTo>
                  <a:pt x="737273" y="256736"/>
                  <a:pt x="741074" y="264367"/>
                  <a:pt x="744874" y="275815"/>
                </a:cubicBezTo>
                <a:cubicBezTo>
                  <a:pt x="744874" y="283447"/>
                  <a:pt x="748674" y="287263"/>
                  <a:pt x="748674" y="294895"/>
                </a:cubicBezTo>
                <a:cubicBezTo>
                  <a:pt x="752475" y="298711"/>
                  <a:pt x="748674" y="302527"/>
                  <a:pt x="752475" y="310159"/>
                </a:cubicBezTo>
                <a:cubicBezTo>
                  <a:pt x="752475" y="310159"/>
                  <a:pt x="752475" y="310159"/>
                  <a:pt x="752475" y="336870"/>
                </a:cubicBezTo>
                <a:cubicBezTo>
                  <a:pt x="752475" y="336870"/>
                  <a:pt x="752475" y="336870"/>
                  <a:pt x="748674" y="340686"/>
                </a:cubicBezTo>
                <a:cubicBezTo>
                  <a:pt x="748674" y="340686"/>
                  <a:pt x="748674" y="340686"/>
                  <a:pt x="748674" y="348318"/>
                </a:cubicBezTo>
                <a:cubicBezTo>
                  <a:pt x="744874" y="367397"/>
                  <a:pt x="733473" y="386477"/>
                  <a:pt x="722072" y="401741"/>
                </a:cubicBezTo>
                <a:cubicBezTo>
                  <a:pt x="718271" y="401741"/>
                  <a:pt x="722072" y="405556"/>
                  <a:pt x="722072" y="405556"/>
                </a:cubicBezTo>
                <a:cubicBezTo>
                  <a:pt x="722072" y="409372"/>
                  <a:pt x="725872" y="413188"/>
                  <a:pt x="725872" y="417004"/>
                </a:cubicBezTo>
                <a:cubicBezTo>
                  <a:pt x="733473" y="432268"/>
                  <a:pt x="733473" y="447532"/>
                  <a:pt x="733473" y="466611"/>
                </a:cubicBezTo>
                <a:cubicBezTo>
                  <a:pt x="733473" y="474243"/>
                  <a:pt x="733473" y="481875"/>
                  <a:pt x="729673" y="493323"/>
                </a:cubicBezTo>
                <a:cubicBezTo>
                  <a:pt x="725872" y="508586"/>
                  <a:pt x="718271" y="523850"/>
                  <a:pt x="706870" y="539114"/>
                </a:cubicBezTo>
                <a:cubicBezTo>
                  <a:pt x="706870" y="539114"/>
                  <a:pt x="703070" y="542930"/>
                  <a:pt x="703070" y="542930"/>
                </a:cubicBezTo>
                <a:cubicBezTo>
                  <a:pt x="691669" y="554377"/>
                  <a:pt x="680268" y="562009"/>
                  <a:pt x="668866" y="569641"/>
                </a:cubicBezTo>
                <a:cubicBezTo>
                  <a:pt x="665066" y="573457"/>
                  <a:pt x="657465" y="577273"/>
                  <a:pt x="653665" y="581089"/>
                </a:cubicBezTo>
                <a:cubicBezTo>
                  <a:pt x="649865" y="581089"/>
                  <a:pt x="649865" y="581089"/>
                  <a:pt x="646064" y="584905"/>
                </a:cubicBezTo>
                <a:cubicBezTo>
                  <a:pt x="638463" y="588721"/>
                  <a:pt x="634663" y="588721"/>
                  <a:pt x="627062" y="592537"/>
                </a:cubicBezTo>
                <a:cubicBezTo>
                  <a:pt x="627062" y="592537"/>
                  <a:pt x="627062" y="592537"/>
                  <a:pt x="623262" y="592537"/>
                </a:cubicBezTo>
                <a:cubicBezTo>
                  <a:pt x="619462" y="592537"/>
                  <a:pt x="611861" y="596352"/>
                  <a:pt x="604260" y="596352"/>
                </a:cubicBezTo>
                <a:cubicBezTo>
                  <a:pt x="604260" y="596352"/>
                  <a:pt x="604260" y="596352"/>
                  <a:pt x="600460" y="596352"/>
                </a:cubicBezTo>
                <a:cubicBezTo>
                  <a:pt x="592859" y="600168"/>
                  <a:pt x="585258" y="600168"/>
                  <a:pt x="573857" y="603984"/>
                </a:cubicBezTo>
                <a:cubicBezTo>
                  <a:pt x="562456" y="603984"/>
                  <a:pt x="551055" y="603984"/>
                  <a:pt x="539654" y="603984"/>
                </a:cubicBezTo>
                <a:cubicBezTo>
                  <a:pt x="532053" y="600168"/>
                  <a:pt x="524452" y="600168"/>
                  <a:pt x="516851" y="600168"/>
                </a:cubicBezTo>
                <a:cubicBezTo>
                  <a:pt x="505450" y="596352"/>
                  <a:pt x="494049" y="592537"/>
                  <a:pt x="482648" y="588721"/>
                </a:cubicBezTo>
                <a:cubicBezTo>
                  <a:pt x="475047" y="584905"/>
                  <a:pt x="471247" y="584905"/>
                  <a:pt x="463646" y="577273"/>
                </a:cubicBezTo>
                <a:cubicBezTo>
                  <a:pt x="459846" y="577273"/>
                  <a:pt x="456045" y="573457"/>
                  <a:pt x="452245" y="569641"/>
                </a:cubicBezTo>
                <a:cubicBezTo>
                  <a:pt x="440844" y="565825"/>
                  <a:pt x="437043" y="554377"/>
                  <a:pt x="429443" y="550561"/>
                </a:cubicBezTo>
                <a:cubicBezTo>
                  <a:pt x="418041" y="539114"/>
                  <a:pt x="410441" y="527666"/>
                  <a:pt x="402840" y="516218"/>
                </a:cubicBezTo>
                <a:cubicBezTo>
                  <a:pt x="399040" y="512402"/>
                  <a:pt x="399040" y="504770"/>
                  <a:pt x="395239" y="497139"/>
                </a:cubicBezTo>
                <a:cubicBezTo>
                  <a:pt x="395239" y="493323"/>
                  <a:pt x="391439" y="489507"/>
                  <a:pt x="391439" y="485691"/>
                </a:cubicBezTo>
                <a:cubicBezTo>
                  <a:pt x="387638" y="466611"/>
                  <a:pt x="383838" y="443716"/>
                  <a:pt x="387638" y="428452"/>
                </a:cubicBezTo>
                <a:cubicBezTo>
                  <a:pt x="391439" y="413188"/>
                  <a:pt x="395239" y="401741"/>
                  <a:pt x="399040" y="390293"/>
                </a:cubicBezTo>
                <a:cubicBezTo>
                  <a:pt x="406640" y="382661"/>
                  <a:pt x="410441" y="375029"/>
                  <a:pt x="418041" y="367397"/>
                </a:cubicBezTo>
                <a:cubicBezTo>
                  <a:pt x="421842" y="359765"/>
                  <a:pt x="429443" y="355950"/>
                  <a:pt x="433243" y="352134"/>
                </a:cubicBezTo>
                <a:cubicBezTo>
                  <a:pt x="440844" y="348318"/>
                  <a:pt x="444644" y="344502"/>
                  <a:pt x="452245" y="340686"/>
                </a:cubicBezTo>
                <a:cubicBezTo>
                  <a:pt x="463646" y="336870"/>
                  <a:pt x="475047" y="333054"/>
                  <a:pt x="490249" y="333054"/>
                </a:cubicBezTo>
                <a:cubicBezTo>
                  <a:pt x="494049" y="333054"/>
                  <a:pt x="501650" y="336870"/>
                  <a:pt x="505450" y="336870"/>
                </a:cubicBezTo>
                <a:cubicBezTo>
                  <a:pt x="509251" y="336870"/>
                  <a:pt x="513051" y="340686"/>
                  <a:pt x="516851" y="344502"/>
                </a:cubicBezTo>
                <a:cubicBezTo>
                  <a:pt x="520652" y="348318"/>
                  <a:pt x="528252" y="348318"/>
                  <a:pt x="532053" y="355950"/>
                </a:cubicBezTo>
                <a:cubicBezTo>
                  <a:pt x="539654" y="363581"/>
                  <a:pt x="547254" y="371213"/>
                  <a:pt x="551055" y="382661"/>
                </a:cubicBezTo>
                <a:cubicBezTo>
                  <a:pt x="558655" y="390293"/>
                  <a:pt x="558655" y="405556"/>
                  <a:pt x="554855" y="413188"/>
                </a:cubicBezTo>
                <a:cubicBezTo>
                  <a:pt x="554855" y="428452"/>
                  <a:pt x="547254" y="439900"/>
                  <a:pt x="532053" y="443716"/>
                </a:cubicBezTo>
                <a:cubicBezTo>
                  <a:pt x="528252" y="443716"/>
                  <a:pt x="528252" y="447532"/>
                  <a:pt x="528252" y="451348"/>
                </a:cubicBezTo>
                <a:cubicBezTo>
                  <a:pt x="520652" y="451348"/>
                  <a:pt x="513051" y="455163"/>
                  <a:pt x="505450" y="451348"/>
                </a:cubicBezTo>
                <a:cubicBezTo>
                  <a:pt x="501650" y="451348"/>
                  <a:pt x="501650" y="451348"/>
                  <a:pt x="497849" y="451348"/>
                </a:cubicBezTo>
                <a:cubicBezTo>
                  <a:pt x="494049" y="447532"/>
                  <a:pt x="490249" y="443716"/>
                  <a:pt x="490249" y="439900"/>
                </a:cubicBezTo>
                <a:cubicBezTo>
                  <a:pt x="482648" y="432268"/>
                  <a:pt x="482648" y="420820"/>
                  <a:pt x="490249" y="409372"/>
                </a:cubicBezTo>
                <a:cubicBezTo>
                  <a:pt x="486448" y="405556"/>
                  <a:pt x="490249" y="401741"/>
                  <a:pt x="482648" y="397925"/>
                </a:cubicBezTo>
                <a:cubicBezTo>
                  <a:pt x="478847" y="397925"/>
                  <a:pt x="475047" y="401741"/>
                  <a:pt x="467446" y="405556"/>
                </a:cubicBezTo>
                <a:cubicBezTo>
                  <a:pt x="467446" y="405556"/>
                  <a:pt x="467446" y="405556"/>
                  <a:pt x="463646" y="405556"/>
                </a:cubicBezTo>
                <a:cubicBezTo>
                  <a:pt x="459846" y="413188"/>
                  <a:pt x="456045" y="417004"/>
                  <a:pt x="456045" y="420820"/>
                </a:cubicBezTo>
                <a:cubicBezTo>
                  <a:pt x="452245" y="428452"/>
                  <a:pt x="452245" y="436084"/>
                  <a:pt x="452245" y="439900"/>
                </a:cubicBezTo>
                <a:cubicBezTo>
                  <a:pt x="452245" y="447532"/>
                  <a:pt x="452245" y="451348"/>
                  <a:pt x="452245" y="458979"/>
                </a:cubicBezTo>
                <a:cubicBezTo>
                  <a:pt x="452245" y="474243"/>
                  <a:pt x="459846" y="485691"/>
                  <a:pt x="463646" y="497139"/>
                </a:cubicBezTo>
                <a:cubicBezTo>
                  <a:pt x="471247" y="500954"/>
                  <a:pt x="475047" y="504770"/>
                  <a:pt x="478847" y="508586"/>
                </a:cubicBezTo>
                <a:cubicBezTo>
                  <a:pt x="486448" y="516218"/>
                  <a:pt x="494049" y="523850"/>
                  <a:pt x="505450" y="527666"/>
                </a:cubicBezTo>
                <a:cubicBezTo>
                  <a:pt x="505450" y="531482"/>
                  <a:pt x="509251" y="531482"/>
                  <a:pt x="513051" y="531482"/>
                </a:cubicBezTo>
                <a:cubicBezTo>
                  <a:pt x="516851" y="531482"/>
                  <a:pt x="516851" y="535298"/>
                  <a:pt x="520652" y="535298"/>
                </a:cubicBezTo>
                <a:cubicBezTo>
                  <a:pt x="528252" y="535298"/>
                  <a:pt x="535853" y="539114"/>
                  <a:pt x="547254" y="539114"/>
                </a:cubicBezTo>
                <a:cubicBezTo>
                  <a:pt x="547254" y="539114"/>
                  <a:pt x="551055" y="539114"/>
                  <a:pt x="554855" y="539114"/>
                </a:cubicBezTo>
                <a:cubicBezTo>
                  <a:pt x="558655" y="539114"/>
                  <a:pt x="562456" y="539114"/>
                  <a:pt x="566256" y="539114"/>
                </a:cubicBezTo>
                <a:cubicBezTo>
                  <a:pt x="573857" y="539114"/>
                  <a:pt x="577657" y="539114"/>
                  <a:pt x="585258" y="539114"/>
                </a:cubicBezTo>
                <a:cubicBezTo>
                  <a:pt x="592859" y="539114"/>
                  <a:pt x="600460" y="535298"/>
                  <a:pt x="604260" y="535298"/>
                </a:cubicBezTo>
                <a:cubicBezTo>
                  <a:pt x="604260" y="535298"/>
                  <a:pt x="604260" y="535298"/>
                  <a:pt x="608060" y="535298"/>
                </a:cubicBezTo>
                <a:cubicBezTo>
                  <a:pt x="608060" y="531482"/>
                  <a:pt x="611861" y="531482"/>
                  <a:pt x="615661" y="531482"/>
                </a:cubicBezTo>
                <a:cubicBezTo>
                  <a:pt x="615661" y="527666"/>
                  <a:pt x="619462" y="527666"/>
                  <a:pt x="619462" y="527666"/>
                </a:cubicBezTo>
                <a:cubicBezTo>
                  <a:pt x="627062" y="523850"/>
                  <a:pt x="630863" y="520034"/>
                  <a:pt x="634663" y="516218"/>
                </a:cubicBezTo>
                <a:cubicBezTo>
                  <a:pt x="642264" y="512402"/>
                  <a:pt x="646064" y="508586"/>
                  <a:pt x="649865" y="508586"/>
                </a:cubicBezTo>
                <a:cubicBezTo>
                  <a:pt x="653665" y="500954"/>
                  <a:pt x="661266" y="493323"/>
                  <a:pt x="661266" y="489507"/>
                </a:cubicBezTo>
                <a:cubicBezTo>
                  <a:pt x="665066" y="485691"/>
                  <a:pt x="665066" y="478059"/>
                  <a:pt x="668866" y="478059"/>
                </a:cubicBezTo>
                <a:cubicBezTo>
                  <a:pt x="672667" y="470427"/>
                  <a:pt x="676467" y="466611"/>
                  <a:pt x="672667" y="458979"/>
                </a:cubicBezTo>
                <a:cubicBezTo>
                  <a:pt x="672667" y="455163"/>
                  <a:pt x="672667" y="447532"/>
                  <a:pt x="672667" y="443716"/>
                </a:cubicBezTo>
                <a:cubicBezTo>
                  <a:pt x="668866" y="439900"/>
                  <a:pt x="668866" y="436084"/>
                  <a:pt x="668866" y="432268"/>
                </a:cubicBezTo>
                <a:cubicBezTo>
                  <a:pt x="661266" y="420820"/>
                  <a:pt x="657465" y="409372"/>
                  <a:pt x="646064" y="397925"/>
                </a:cubicBezTo>
                <a:cubicBezTo>
                  <a:pt x="642264" y="390293"/>
                  <a:pt x="653665" y="386477"/>
                  <a:pt x="657465" y="378845"/>
                </a:cubicBezTo>
                <a:cubicBezTo>
                  <a:pt x="661266" y="375029"/>
                  <a:pt x="665066" y="371213"/>
                  <a:pt x="668866" y="367397"/>
                </a:cubicBezTo>
                <a:cubicBezTo>
                  <a:pt x="672667" y="363581"/>
                  <a:pt x="676467" y="359765"/>
                  <a:pt x="680268" y="355950"/>
                </a:cubicBezTo>
                <a:cubicBezTo>
                  <a:pt x="684068" y="348318"/>
                  <a:pt x="687868" y="340686"/>
                  <a:pt x="687868" y="336870"/>
                </a:cubicBezTo>
                <a:cubicBezTo>
                  <a:pt x="691669" y="317790"/>
                  <a:pt x="687868" y="302527"/>
                  <a:pt x="684068" y="287263"/>
                </a:cubicBezTo>
                <a:cubicBezTo>
                  <a:pt x="684068" y="283447"/>
                  <a:pt x="680268" y="279631"/>
                  <a:pt x="680268" y="279631"/>
                </a:cubicBezTo>
                <a:cubicBezTo>
                  <a:pt x="676467" y="271999"/>
                  <a:pt x="672667" y="264367"/>
                  <a:pt x="665066" y="256736"/>
                </a:cubicBezTo>
                <a:cubicBezTo>
                  <a:pt x="653665" y="249104"/>
                  <a:pt x="646064" y="241472"/>
                  <a:pt x="630863" y="237656"/>
                </a:cubicBezTo>
                <a:cubicBezTo>
                  <a:pt x="619462" y="233840"/>
                  <a:pt x="608060" y="233840"/>
                  <a:pt x="596659" y="233840"/>
                </a:cubicBezTo>
                <a:cubicBezTo>
                  <a:pt x="577657" y="233840"/>
                  <a:pt x="562456" y="241472"/>
                  <a:pt x="547254" y="245288"/>
                </a:cubicBezTo>
                <a:cubicBezTo>
                  <a:pt x="535853" y="245288"/>
                  <a:pt x="543454" y="233840"/>
                  <a:pt x="539654" y="230024"/>
                </a:cubicBezTo>
                <a:cubicBezTo>
                  <a:pt x="543454" y="210945"/>
                  <a:pt x="539654" y="188049"/>
                  <a:pt x="528252" y="172785"/>
                </a:cubicBezTo>
                <a:cubicBezTo>
                  <a:pt x="528252" y="168970"/>
                  <a:pt x="524452" y="165154"/>
                  <a:pt x="520652" y="165154"/>
                </a:cubicBezTo>
                <a:cubicBezTo>
                  <a:pt x="516851" y="157522"/>
                  <a:pt x="505450" y="149890"/>
                  <a:pt x="497849" y="146074"/>
                </a:cubicBezTo>
                <a:cubicBezTo>
                  <a:pt x="490249" y="142258"/>
                  <a:pt x="482648" y="138442"/>
                  <a:pt x="475047" y="134626"/>
                </a:cubicBezTo>
                <a:cubicBezTo>
                  <a:pt x="463646" y="130810"/>
                  <a:pt x="452245" y="126994"/>
                  <a:pt x="440844" y="123178"/>
                </a:cubicBezTo>
                <a:cubicBezTo>
                  <a:pt x="433243" y="123178"/>
                  <a:pt x="429443" y="119363"/>
                  <a:pt x="425642" y="115547"/>
                </a:cubicBezTo>
                <a:cubicBezTo>
                  <a:pt x="421842" y="115547"/>
                  <a:pt x="418041" y="111731"/>
                  <a:pt x="414241" y="111731"/>
                </a:cubicBezTo>
                <a:cubicBezTo>
                  <a:pt x="406640" y="107915"/>
                  <a:pt x="395239" y="104099"/>
                  <a:pt x="387638" y="100283"/>
                </a:cubicBezTo>
                <a:cubicBezTo>
                  <a:pt x="387638" y="96467"/>
                  <a:pt x="383838" y="96467"/>
                  <a:pt x="380038" y="92651"/>
                </a:cubicBezTo>
                <a:cubicBezTo>
                  <a:pt x="376237" y="92651"/>
                  <a:pt x="376237" y="88835"/>
                  <a:pt x="372437" y="85019"/>
                </a:cubicBezTo>
                <a:cubicBezTo>
                  <a:pt x="368637" y="92651"/>
                  <a:pt x="361036" y="100283"/>
                  <a:pt x="357235" y="104099"/>
                </a:cubicBezTo>
                <a:cubicBezTo>
                  <a:pt x="349635" y="111731"/>
                  <a:pt x="338233" y="115547"/>
                  <a:pt x="330633" y="119363"/>
                </a:cubicBezTo>
                <a:cubicBezTo>
                  <a:pt x="323032" y="123178"/>
                  <a:pt x="315431" y="126994"/>
                  <a:pt x="311631" y="126994"/>
                </a:cubicBezTo>
                <a:cubicBezTo>
                  <a:pt x="307830" y="130810"/>
                  <a:pt x="304030" y="126994"/>
                  <a:pt x="304030" y="130810"/>
                </a:cubicBezTo>
                <a:cubicBezTo>
                  <a:pt x="296429" y="130810"/>
                  <a:pt x="292629" y="130810"/>
                  <a:pt x="285028" y="134626"/>
                </a:cubicBezTo>
                <a:cubicBezTo>
                  <a:pt x="285028" y="134626"/>
                  <a:pt x="281228" y="134626"/>
                  <a:pt x="281228" y="138442"/>
                </a:cubicBezTo>
                <a:cubicBezTo>
                  <a:pt x="269827" y="138442"/>
                  <a:pt x="262226" y="142258"/>
                  <a:pt x="254625" y="146074"/>
                </a:cubicBezTo>
                <a:cubicBezTo>
                  <a:pt x="254625" y="146074"/>
                  <a:pt x="250825" y="146074"/>
                  <a:pt x="250825" y="146074"/>
                </a:cubicBezTo>
                <a:cubicBezTo>
                  <a:pt x="239424" y="149890"/>
                  <a:pt x="231823" y="157522"/>
                  <a:pt x="224222" y="165154"/>
                </a:cubicBezTo>
                <a:cubicBezTo>
                  <a:pt x="224222" y="165154"/>
                  <a:pt x="220422" y="168970"/>
                  <a:pt x="220422" y="168970"/>
                </a:cubicBezTo>
                <a:cubicBezTo>
                  <a:pt x="216621" y="172785"/>
                  <a:pt x="212821" y="180417"/>
                  <a:pt x="209021" y="184233"/>
                </a:cubicBezTo>
                <a:cubicBezTo>
                  <a:pt x="205220" y="191865"/>
                  <a:pt x="201420" y="195681"/>
                  <a:pt x="201420" y="203313"/>
                </a:cubicBezTo>
                <a:cubicBezTo>
                  <a:pt x="201420" y="207129"/>
                  <a:pt x="197619" y="207129"/>
                  <a:pt x="201420" y="207129"/>
                </a:cubicBezTo>
                <a:cubicBezTo>
                  <a:pt x="197619" y="214761"/>
                  <a:pt x="197619" y="226208"/>
                  <a:pt x="197619" y="233840"/>
                </a:cubicBezTo>
                <a:cubicBezTo>
                  <a:pt x="197619" y="233840"/>
                  <a:pt x="201420" y="241472"/>
                  <a:pt x="197619" y="241472"/>
                </a:cubicBezTo>
                <a:cubicBezTo>
                  <a:pt x="186218" y="245288"/>
                  <a:pt x="174817" y="237656"/>
                  <a:pt x="159616" y="237656"/>
                </a:cubicBezTo>
                <a:cubicBezTo>
                  <a:pt x="159616" y="237656"/>
                  <a:pt x="159616" y="237656"/>
                  <a:pt x="136813" y="237656"/>
                </a:cubicBezTo>
                <a:cubicBezTo>
                  <a:pt x="136813" y="241472"/>
                  <a:pt x="133013" y="237656"/>
                  <a:pt x="133013" y="241472"/>
                </a:cubicBezTo>
                <a:cubicBezTo>
                  <a:pt x="125412" y="241472"/>
                  <a:pt x="117811" y="241472"/>
                  <a:pt x="110211" y="245288"/>
                </a:cubicBezTo>
                <a:cubicBezTo>
                  <a:pt x="106410" y="249104"/>
                  <a:pt x="102610" y="245288"/>
                  <a:pt x="98810" y="249104"/>
                </a:cubicBezTo>
                <a:cubicBezTo>
                  <a:pt x="95009" y="252920"/>
                  <a:pt x="95009" y="249104"/>
                  <a:pt x="91209" y="252920"/>
                </a:cubicBezTo>
                <a:cubicBezTo>
                  <a:pt x="87408" y="256736"/>
                  <a:pt x="83608" y="260552"/>
                  <a:pt x="79808" y="264367"/>
                </a:cubicBezTo>
                <a:cubicBezTo>
                  <a:pt x="76007" y="268183"/>
                  <a:pt x="72207" y="271999"/>
                  <a:pt x="72207" y="275815"/>
                </a:cubicBezTo>
                <a:cubicBezTo>
                  <a:pt x="68407" y="279631"/>
                  <a:pt x="68407" y="279631"/>
                  <a:pt x="64606" y="283447"/>
                </a:cubicBezTo>
                <a:cubicBezTo>
                  <a:pt x="60806" y="294895"/>
                  <a:pt x="57005" y="306343"/>
                  <a:pt x="57005" y="317790"/>
                </a:cubicBezTo>
                <a:cubicBezTo>
                  <a:pt x="57005" y="333054"/>
                  <a:pt x="60806" y="344502"/>
                  <a:pt x="64606" y="355950"/>
                </a:cubicBezTo>
                <a:cubicBezTo>
                  <a:pt x="72207" y="375029"/>
                  <a:pt x="83608" y="390293"/>
                  <a:pt x="102610" y="397925"/>
                </a:cubicBezTo>
                <a:cubicBezTo>
                  <a:pt x="102610" y="401741"/>
                  <a:pt x="106410" y="397925"/>
                  <a:pt x="106410" y="401741"/>
                </a:cubicBezTo>
                <a:cubicBezTo>
                  <a:pt x="106410" y="409372"/>
                  <a:pt x="98810" y="413188"/>
                  <a:pt x="95009" y="420820"/>
                </a:cubicBezTo>
                <a:cubicBezTo>
                  <a:pt x="91209" y="424636"/>
                  <a:pt x="91209" y="432268"/>
                  <a:pt x="87408" y="439900"/>
                </a:cubicBezTo>
                <a:cubicBezTo>
                  <a:pt x="83608" y="447532"/>
                  <a:pt x="79808" y="458979"/>
                  <a:pt x="79808" y="466611"/>
                </a:cubicBezTo>
                <a:cubicBezTo>
                  <a:pt x="79808" y="481875"/>
                  <a:pt x="83608" y="493323"/>
                  <a:pt x="91209" y="504770"/>
                </a:cubicBezTo>
                <a:cubicBezTo>
                  <a:pt x="98810" y="512402"/>
                  <a:pt x="102610" y="520034"/>
                  <a:pt x="110211" y="523850"/>
                </a:cubicBezTo>
                <a:cubicBezTo>
                  <a:pt x="114011" y="527666"/>
                  <a:pt x="117811" y="531482"/>
                  <a:pt x="121612" y="535298"/>
                </a:cubicBezTo>
                <a:cubicBezTo>
                  <a:pt x="125412" y="535298"/>
                  <a:pt x="129213" y="535298"/>
                  <a:pt x="129213" y="535298"/>
                </a:cubicBezTo>
                <a:cubicBezTo>
                  <a:pt x="133013" y="539114"/>
                  <a:pt x="136813" y="539114"/>
                  <a:pt x="140614" y="542930"/>
                </a:cubicBezTo>
                <a:cubicBezTo>
                  <a:pt x="148215" y="542930"/>
                  <a:pt x="152015" y="546745"/>
                  <a:pt x="155815" y="546745"/>
                </a:cubicBezTo>
                <a:cubicBezTo>
                  <a:pt x="159616" y="546745"/>
                  <a:pt x="159616" y="550561"/>
                  <a:pt x="159616" y="546745"/>
                </a:cubicBezTo>
                <a:cubicBezTo>
                  <a:pt x="163416" y="550561"/>
                  <a:pt x="163416" y="546745"/>
                  <a:pt x="167216" y="550561"/>
                </a:cubicBezTo>
                <a:cubicBezTo>
                  <a:pt x="171017" y="550561"/>
                  <a:pt x="171017" y="550561"/>
                  <a:pt x="174817" y="550561"/>
                </a:cubicBezTo>
                <a:cubicBezTo>
                  <a:pt x="174817" y="550561"/>
                  <a:pt x="178618" y="550561"/>
                  <a:pt x="178618" y="550561"/>
                </a:cubicBezTo>
                <a:cubicBezTo>
                  <a:pt x="182418" y="550561"/>
                  <a:pt x="190019" y="554377"/>
                  <a:pt x="190019" y="550561"/>
                </a:cubicBezTo>
                <a:cubicBezTo>
                  <a:pt x="197619" y="550561"/>
                  <a:pt x="205220" y="550561"/>
                  <a:pt x="209021" y="550561"/>
                </a:cubicBezTo>
                <a:cubicBezTo>
                  <a:pt x="212821" y="550561"/>
                  <a:pt x="216621" y="550561"/>
                  <a:pt x="216621" y="550561"/>
                </a:cubicBezTo>
                <a:cubicBezTo>
                  <a:pt x="220422" y="550561"/>
                  <a:pt x="224222" y="546745"/>
                  <a:pt x="228022" y="546745"/>
                </a:cubicBezTo>
                <a:cubicBezTo>
                  <a:pt x="231823" y="542930"/>
                  <a:pt x="235623" y="546745"/>
                  <a:pt x="239424" y="542930"/>
                </a:cubicBezTo>
                <a:cubicBezTo>
                  <a:pt x="247024" y="535298"/>
                  <a:pt x="254625" y="531482"/>
                  <a:pt x="258426" y="527666"/>
                </a:cubicBezTo>
                <a:cubicBezTo>
                  <a:pt x="266026" y="523850"/>
                  <a:pt x="269827" y="520034"/>
                  <a:pt x="273627" y="512402"/>
                </a:cubicBezTo>
                <a:cubicBezTo>
                  <a:pt x="277427" y="512402"/>
                  <a:pt x="281228" y="508586"/>
                  <a:pt x="281228" y="504770"/>
                </a:cubicBezTo>
                <a:cubicBezTo>
                  <a:pt x="281228" y="504770"/>
                  <a:pt x="285028" y="500954"/>
                  <a:pt x="285028" y="500954"/>
                </a:cubicBezTo>
                <a:cubicBezTo>
                  <a:pt x="288829" y="497139"/>
                  <a:pt x="288829" y="493323"/>
                  <a:pt x="292629" y="489507"/>
                </a:cubicBezTo>
                <a:cubicBezTo>
                  <a:pt x="292629" y="481875"/>
                  <a:pt x="296429" y="478059"/>
                  <a:pt x="296429" y="470427"/>
                </a:cubicBezTo>
                <a:cubicBezTo>
                  <a:pt x="300230" y="462795"/>
                  <a:pt x="296429" y="455163"/>
                  <a:pt x="296429" y="447532"/>
                </a:cubicBezTo>
                <a:cubicBezTo>
                  <a:pt x="292629" y="432268"/>
                  <a:pt x="288829" y="420820"/>
                  <a:pt x="277427" y="409372"/>
                </a:cubicBezTo>
                <a:cubicBezTo>
                  <a:pt x="273627" y="405556"/>
                  <a:pt x="269827" y="405556"/>
                  <a:pt x="266026" y="405556"/>
                </a:cubicBezTo>
                <a:cubicBezTo>
                  <a:pt x="262226" y="409372"/>
                  <a:pt x="258426" y="413188"/>
                  <a:pt x="258426" y="417004"/>
                </a:cubicBezTo>
                <a:cubicBezTo>
                  <a:pt x="258426" y="424636"/>
                  <a:pt x="262226" y="436084"/>
                  <a:pt x="258426" y="443716"/>
                </a:cubicBezTo>
                <a:cubicBezTo>
                  <a:pt x="258426" y="451348"/>
                  <a:pt x="250825" y="458979"/>
                  <a:pt x="239424" y="462795"/>
                </a:cubicBezTo>
                <a:cubicBezTo>
                  <a:pt x="231823" y="462795"/>
                  <a:pt x="220422" y="458979"/>
                  <a:pt x="212821" y="451348"/>
                </a:cubicBezTo>
                <a:cubicBezTo>
                  <a:pt x="209021" y="451348"/>
                  <a:pt x="209021" y="447532"/>
                  <a:pt x="209021" y="443716"/>
                </a:cubicBezTo>
                <a:cubicBezTo>
                  <a:pt x="197619" y="439900"/>
                  <a:pt x="193819" y="428452"/>
                  <a:pt x="193819" y="417004"/>
                </a:cubicBezTo>
                <a:cubicBezTo>
                  <a:pt x="190019" y="413188"/>
                  <a:pt x="190019" y="405556"/>
                  <a:pt x="193819" y="401741"/>
                </a:cubicBezTo>
                <a:cubicBezTo>
                  <a:pt x="193819" y="390293"/>
                  <a:pt x="197619" y="378845"/>
                  <a:pt x="205220" y="371213"/>
                </a:cubicBezTo>
                <a:cubicBezTo>
                  <a:pt x="209021" y="367397"/>
                  <a:pt x="212821" y="367397"/>
                  <a:pt x="212821" y="363581"/>
                </a:cubicBezTo>
                <a:cubicBezTo>
                  <a:pt x="216621" y="359765"/>
                  <a:pt x="224222" y="355950"/>
                  <a:pt x="228022" y="355950"/>
                </a:cubicBezTo>
                <a:cubicBezTo>
                  <a:pt x="235623" y="352134"/>
                  <a:pt x="239424" y="348318"/>
                  <a:pt x="247024" y="348318"/>
                </a:cubicBezTo>
                <a:cubicBezTo>
                  <a:pt x="250825" y="348318"/>
                  <a:pt x="254625" y="344502"/>
                  <a:pt x="258426" y="348318"/>
                </a:cubicBezTo>
                <a:cubicBezTo>
                  <a:pt x="258426" y="348318"/>
                  <a:pt x="258426" y="348318"/>
                  <a:pt x="258426" y="344502"/>
                </a:cubicBezTo>
                <a:cubicBezTo>
                  <a:pt x="262226" y="348318"/>
                  <a:pt x="266026" y="344502"/>
                  <a:pt x="266026" y="348318"/>
                </a:cubicBezTo>
                <a:cubicBezTo>
                  <a:pt x="273627" y="344502"/>
                  <a:pt x="281228" y="348318"/>
                  <a:pt x="288829" y="348318"/>
                </a:cubicBezTo>
                <a:cubicBezTo>
                  <a:pt x="300230" y="355950"/>
                  <a:pt x="307830" y="359765"/>
                  <a:pt x="319232" y="367397"/>
                </a:cubicBezTo>
                <a:cubicBezTo>
                  <a:pt x="330633" y="382661"/>
                  <a:pt x="345834" y="397925"/>
                  <a:pt x="349635" y="417004"/>
                </a:cubicBezTo>
                <a:cubicBezTo>
                  <a:pt x="349635" y="424636"/>
                  <a:pt x="353435" y="428452"/>
                  <a:pt x="353435" y="436084"/>
                </a:cubicBezTo>
                <a:cubicBezTo>
                  <a:pt x="353435" y="436084"/>
                  <a:pt x="353435" y="436084"/>
                  <a:pt x="353435" y="439900"/>
                </a:cubicBezTo>
                <a:cubicBezTo>
                  <a:pt x="357235" y="451348"/>
                  <a:pt x="353435" y="458979"/>
                  <a:pt x="353435" y="470427"/>
                </a:cubicBezTo>
                <a:cubicBezTo>
                  <a:pt x="357235" y="478059"/>
                  <a:pt x="353435" y="489507"/>
                  <a:pt x="349635" y="500954"/>
                </a:cubicBezTo>
                <a:cubicBezTo>
                  <a:pt x="345834" y="516218"/>
                  <a:pt x="338233" y="527666"/>
                  <a:pt x="330633" y="542930"/>
                </a:cubicBezTo>
                <a:cubicBezTo>
                  <a:pt x="323032" y="550561"/>
                  <a:pt x="319232" y="558193"/>
                  <a:pt x="311631" y="562009"/>
                </a:cubicBezTo>
                <a:cubicBezTo>
                  <a:pt x="304030" y="569641"/>
                  <a:pt x="300230" y="573457"/>
                  <a:pt x="292629" y="577273"/>
                </a:cubicBezTo>
                <a:cubicBezTo>
                  <a:pt x="292629" y="577273"/>
                  <a:pt x="292629" y="581089"/>
                  <a:pt x="288829" y="577273"/>
                </a:cubicBezTo>
                <a:cubicBezTo>
                  <a:pt x="273627" y="588721"/>
                  <a:pt x="258426" y="596352"/>
                  <a:pt x="239424" y="603984"/>
                </a:cubicBezTo>
                <a:cubicBezTo>
                  <a:pt x="235623" y="603984"/>
                  <a:pt x="235623" y="603984"/>
                  <a:pt x="231823" y="603984"/>
                </a:cubicBezTo>
                <a:cubicBezTo>
                  <a:pt x="224222" y="607800"/>
                  <a:pt x="212821" y="607800"/>
                  <a:pt x="205220" y="607800"/>
                </a:cubicBezTo>
                <a:cubicBezTo>
                  <a:pt x="201420" y="611616"/>
                  <a:pt x="193819" y="611616"/>
                  <a:pt x="190019" y="611616"/>
                </a:cubicBezTo>
                <a:cubicBezTo>
                  <a:pt x="186218" y="611616"/>
                  <a:pt x="182418" y="607800"/>
                  <a:pt x="178618" y="611616"/>
                </a:cubicBezTo>
                <a:cubicBezTo>
                  <a:pt x="174817" y="611616"/>
                  <a:pt x="171017" y="607800"/>
                  <a:pt x="163416" y="607800"/>
                </a:cubicBezTo>
                <a:cubicBezTo>
                  <a:pt x="155815" y="607800"/>
                  <a:pt x="152015" y="607800"/>
                  <a:pt x="144414" y="603984"/>
                </a:cubicBezTo>
                <a:cubicBezTo>
                  <a:pt x="140614" y="603984"/>
                  <a:pt x="136813" y="603984"/>
                  <a:pt x="133013" y="603984"/>
                </a:cubicBezTo>
                <a:cubicBezTo>
                  <a:pt x="129213" y="600168"/>
                  <a:pt x="121612" y="600168"/>
                  <a:pt x="114011" y="596352"/>
                </a:cubicBezTo>
                <a:cubicBezTo>
                  <a:pt x="110211" y="592537"/>
                  <a:pt x="106410" y="592537"/>
                  <a:pt x="102610" y="592537"/>
                </a:cubicBezTo>
                <a:cubicBezTo>
                  <a:pt x="91209" y="588721"/>
                  <a:pt x="83608" y="581089"/>
                  <a:pt x="76007" y="577273"/>
                </a:cubicBezTo>
                <a:cubicBezTo>
                  <a:pt x="76007" y="573457"/>
                  <a:pt x="72207" y="573457"/>
                  <a:pt x="72207" y="573457"/>
                </a:cubicBezTo>
                <a:cubicBezTo>
                  <a:pt x="64606" y="562009"/>
                  <a:pt x="57005" y="554377"/>
                  <a:pt x="49405" y="546745"/>
                </a:cubicBezTo>
                <a:cubicBezTo>
                  <a:pt x="41804" y="535298"/>
                  <a:pt x="34203" y="523850"/>
                  <a:pt x="26602" y="512402"/>
                </a:cubicBezTo>
                <a:cubicBezTo>
                  <a:pt x="22802" y="500954"/>
                  <a:pt x="22802" y="489507"/>
                  <a:pt x="19002" y="478059"/>
                </a:cubicBezTo>
                <a:cubicBezTo>
                  <a:pt x="19002" y="470427"/>
                  <a:pt x="19002" y="462795"/>
                  <a:pt x="19002" y="455163"/>
                </a:cubicBezTo>
                <a:cubicBezTo>
                  <a:pt x="22802" y="443716"/>
                  <a:pt x="26602" y="428452"/>
                  <a:pt x="30403" y="417004"/>
                </a:cubicBezTo>
                <a:cubicBezTo>
                  <a:pt x="30403" y="413188"/>
                  <a:pt x="34203" y="413188"/>
                  <a:pt x="34203" y="409372"/>
                </a:cubicBezTo>
                <a:cubicBezTo>
                  <a:pt x="19002" y="394109"/>
                  <a:pt x="7601" y="382661"/>
                  <a:pt x="7601" y="363581"/>
                </a:cubicBezTo>
                <a:cubicBezTo>
                  <a:pt x="3800" y="355950"/>
                  <a:pt x="0" y="348318"/>
                  <a:pt x="0" y="336870"/>
                </a:cubicBezTo>
                <a:cubicBezTo>
                  <a:pt x="0" y="317790"/>
                  <a:pt x="0" y="298711"/>
                  <a:pt x="7601" y="279631"/>
                </a:cubicBezTo>
                <a:cubicBezTo>
                  <a:pt x="7601" y="271999"/>
                  <a:pt x="11401" y="271999"/>
                  <a:pt x="11401" y="264367"/>
                </a:cubicBezTo>
                <a:cubicBezTo>
                  <a:pt x="11401" y="260552"/>
                  <a:pt x="15201" y="256736"/>
                  <a:pt x="19002" y="252920"/>
                </a:cubicBezTo>
                <a:cubicBezTo>
                  <a:pt x="22802" y="241472"/>
                  <a:pt x="30403" y="233840"/>
                  <a:pt x="38004" y="222392"/>
                </a:cubicBezTo>
                <a:cubicBezTo>
                  <a:pt x="45604" y="218576"/>
                  <a:pt x="53205" y="207129"/>
                  <a:pt x="60806" y="203313"/>
                </a:cubicBezTo>
                <a:cubicBezTo>
                  <a:pt x="64606" y="199497"/>
                  <a:pt x="72207" y="199497"/>
                  <a:pt x="76007" y="195681"/>
                </a:cubicBezTo>
                <a:cubicBezTo>
                  <a:pt x="76007" y="191865"/>
                  <a:pt x="83608" y="191865"/>
                  <a:pt x="83608" y="191865"/>
                </a:cubicBezTo>
                <a:cubicBezTo>
                  <a:pt x="98810" y="188049"/>
                  <a:pt x="110211" y="180417"/>
                  <a:pt x="125412" y="184233"/>
                </a:cubicBezTo>
                <a:cubicBezTo>
                  <a:pt x="133013" y="180417"/>
                  <a:pt x="136813" y="184233"/>
                  <a:pt x="140614" y="180417"/>
                </a:cubicBezTo>
                <a:cubicBezTo>
                  <a:pt x="140614" y="180417"/>
                  <a:pt x="140614" y="180417"/>
                  <a:pt x="148215" y="184233"/>
                </a:cubicBezTo>
                <a:cubicBezTo>
                  <a:pt x="148215" y="180417"/>
                  <a:pt x="148215" y="172785"/>
                  <a:pt x="148215" y="168970"/>
                </a:cubicBezTo>
                <a:cubicBezTo>
                  <a:pt x="152015" y="168970"/>
                  <a:pt x="152015" y="165154"/>
                  <a:pt x="152015" y="165154"/>
                </a:cubicBezTo>
                <a:cubicBezTo>
                  <a:pt x="155815" y="153706"/>
                  <a:pt x="159616" y="146074"/>
                  <a:pt x="167216" y="138442"/>
                </a:cubicBezTo>
                <a:cubicBezTo>
                  <a:pt x="171017" y="130810"/>
                  <a:pt x="174817" y="123178"/>
                  <a:pt x="182418" y="119363"/>
                </a:cubicBezTo>
                <a:cubicBezTo>
                  <a:pt x="186218" y="115547"/>
                  <a:pt x="190019" y="111731"/>
                  <a:pt x="193819" y="107915"/>
                </a:cubicBezTo>
                <a:cubicBezTo>
                  <a:pt x="197619" y="107915"/>
                  <a:pt x="201420" y="104099"/>
                  <a:pt x="205220" y="104099"/>
                </a:cubicBezTo>
                <a:cubicBezTo>
                  <a:pt x="205220" y="104099"/>
                  <a:pt x="205220" y="104099"/>
                  <a:pt x="209021" y="104099"/>
                </a:cubicBezTo>
                <a:cubicBezTo>
                  <a:pt x="212821" y="100283"/>
                  <a:pt x="216621" y="96467"/>
                  <a:pt x="224222" y="96467"/>
                </a:cubicBezTo>
                <a:cubicBezTo>
                  <a:pt x="228022" y="92651"/>
                  <a:pt x="239424" y="92651"/>
                  <a:pt x="243224" y="88835"/>
                </a:cubicBezTo>
                <a:cubicBezTo>
                  <a:pt x="247024" y="88835"/>
                  <a:pt x="247024" y="88835"/>
                  <a:pt x="247024" y="88835"/>
                </a:cubicBezTo>
                <a:cubicBezTo>
                  <a:pt x="262226" y="85019"/>
                  <a:pt x="273627" y="81203"/>
                  <a:pt x="285028" y="77387"/>
                </a:cubicBezTo>
                <a:cubicBezTo>
                  <a:pt x="288829" y="77387"/>
                  <a:pt x="292629" y="73572"/>
                  <a:pt x="296429" y="73572"/>
                </a:cubicBezTo>
                <a:cubicBezTo>
                  <a:pt x="296429" y="73572"/>
                  <a:pt x="296429" y="69756"/>
                  <a:pt x="300230" y="69756"/>
                </a:cubicBezTo>
                <a:cubicBezTo>
                  <a:pt x="307830" y="65940"/>
                  <a:pt x="315431" y="62124"/>
                  <a:pt x="323032" y="58308"/>
                </a:cubicBezTo>
                <a:cubicBezTo>
                  <a:pt x="326832" y="50676"/>
                  <a:pt x="334433" y="46860"/>
                  <a:pt x="342034" y="39228"/>
                </a:cubicBezTo>
                <a:cubicBezTo>
                  <a:pt x="349635" y="23965"/>
                  <a:pt x="361036" y="12517"/>
                  <a:pt x="364836" y="1069"/>
                </a:cubicBezTo>
                <a:close/>
              </a:path>
            </a:pathLst>
          </a:cu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任意多边形 4"/>
          <p:cNvSpPr/>
          <p:nvPr/>
        </p:nvSpPr>
        <p:spPr>
          <a:xfrm rot="10800000">
            <a:off x="5463720" y="4238640"/>
            <a:ext cx="1150920" cy="938160"/>
          </a:xfrm>
          <a:custGeom>
            <a:avLst/>
            <a:gdLst/>
            <a:ahLst/>
            <a:rect l="l" t="t" r="r" b="b"/>
            <a:pathLst>
              <a:path w="752475" h="611616">
                <a:moveTo>
                  <a:pt x="364836" y="1069"/>
                </a:moveTo>
                <a:cubicBezTo>
                  <a:pt x="368637" y="-2747"/>
                  <a:pt x="372437" y="4885"/>
                  <a:pt x="372437" y="4885"/>
                </a:cubicBezTo>
                <a:cubicBezTo>
                  <a:pt x="380038" y="16333"/>
                  <a:pt x="391439" y="27781"/>
                  <a:pt x="402840" y="39228"/>
                </a:cubicBezTo>
                <a:cubicBezTo>
                  <a:pt x="406640" y="39228"/>
                  <a:pt x="406640" y="43044"/>
                  <a:pt x="410441" y="43044"/>
                </a:cubicBezTo>
                <a:cubicBezTo>
                  <a:pt x="418041" y="50676"/>
                  <a:pt x="425642" y="54492"/>
                  <a:pt x="433243" y="58308"/>
                </a:cubicBezTo>
                <a:cubicBezTo>
                  <a:pt x="437043" y="58308"/>
                  <a:pt x="440844" y="62124"/>
                  <a:pt x="444644" y="62124"/>
                </a:cubicBezTo>
                <a:cubicBezTo>
                  <a:pt x="448444" y="62124"/>
                  <a:pt x="448444" y="62124"/>
                  <a:pt x="448444" y="62124"/>
                </a:cubicBezTo>
                <a:cubicBezTo>
                  <a:pt x="452245" y="65940"/>
                  <a:pt x="456045" y="65940"/>
                  <a:pt x="459846" y="65940"/>
                </a:cubicBezTo>
                <a:cubicBezTo>
                  <a:pt x="463646" y="65940"/>
                  <a:pt x="463646" y="69756"/>
                  <a:pt x="463646" y="69756"/>
                </a:cubicBezTo>
                <a:cubicBezTo>
                  <a:pt x="475047" y="69756"/>
                  <a:pt x="490249" y="77387"/>
                  <a:pt x="501650" y="77387"/>
                </a:cubicBezTo>
                <a:cubicBezTo>
                  <a:pt x="509251" y="81203"/>
                  <a:pt x="513051" y="85019"/>
                  <a:pt x="520652" y="85019"/>
                </a:cubicBezTo>
                <a:cubicBezTo>
                  <a:pt x="524452" y="88835"/>
                  <a:pt x="524452" y="88835"/>
                  <a:pt x="528252" y="88835"/>
                </a:cubicBezTo>
                <a:cubicBezTo>
                  <a:pt x="532053" y="92651"/>
                  <a:pt x="535853" y="92651"/>
                  <a:pt x="539654" y="96467"/>
                </a:cubicBezTo>
                <a:cubicBezTo>
                  <a:pt x="543454" y="100283"/>
                  <a:pt x="547254" y="100283"/>
                  <a:pt x="551055" y="104099"/>
                </a:cubicBezTo>
                <a:cubicBezTo>
                  <a:pt x="554855" y="107915"/>
                  <a:pt x="558655" y="111731"/>
                  <a:pt x="566256" y="115547"/>
                </a:cubicBezTo>
                <a:cubicBezTo>
                  <a:pt x="566256" y="123178"/>
                  <a:pt x="573857" y="126994"/>
                  <a:pt x="577657" y="134626"/>
                </a:cubicBezTo>
                <a:cubicBezTo>
                  <a:pt x="581458" y="138442"/>
                  <a:pt x="581458" y="142258"/>
                  <a:pt x="585258" y="149890"/>
                </a:cubicBezTo>
                <a:cubicBezTo>
                  <a:pt x="589058" y="153706"/>
                  <a:pt x="592859" y="165154"/>
                  <a:pt x="596659" y="172785"/>
                </a:cubicBezTo>
                <a:cubicBezTo>
                  <a:pt x="600460" y="172785"/>
                  <a:pt x="604260" y="172785"/>
                  <a:pt x="608060" y="172785"/>
                </a:cubicBezTo>
                <a:cubicBezTo>
                  <a:pt x="619462" y="172785"/>
                  <a:pt x="627062" y="172785"/>
                  <a:pt x="634663" y="172785"/>
                </a:cubicBezTo>
                <a:cubicBezTo>
                  <a:pt x="638463" y="176601"/>
                  <a:pt x="646064" y="176601"/>
                  <a:pt x="649865" y="180417"/>
                </a:cubicBezTo>
                <a:cubicBezTo>
                  <a:pt x="657465" y="180417"/>
                  <a:pt x="657465" y="184233"/>
                  <a:pt x="661266" y="184233"/>
                </a:cubicBezTo>
                <a:cubicBezTo>
                  <a:pt x="672667" y="188049"/>
                  <a:pt x="680268" y="191865"/>
                  <a:pt x="687868" y="199497"/>
                </a:cubicBezTo>
                <a:cubicBezTo>
                  <a:pt x="699269" y="203313"/>
                  <a:pt x="706870" y="214761"/>
                  <a:pt x="714471" y="222392"/>
                </a:cubicBezTo>
                <a:cubicBezTo>
                  <a:pt x="714471" y="222392"/>
                  <a:pt x="714471" y="226208"/>
                  <a:pt x="718271" y="226208"/>
                </a:cubicBezTo>
                <a:cubicBezTo>
                  <a:pt x="722072" y="233840"/>
                  <a:pt x="729673" y="241472"/>
                  <a:pt x="733473" y="249104"/>
                </a:cubicBezTo>
                <a:cubicBezTo>
                  <a:pt x="737273" y="256736"/>
                  <a:pt x="741074" y="264367"/>
                  <a:pt x="744874" y="275815"/>
                </a:cubicBezTo>
                <a:cubicBezTo>
                  <a:pt x="744874" y="283447"/>
                  <a:pt x="748674" y="287263"/>
                  <a:pt x="748674" y="294895"/>
                </a:cubicBezTo>
                <a:cubicBezTo>
                  <a:pt x="752475" y="298711"/>
                  <a:pt x="748674" y="302527"/>
                  <a:pt x="752475" y="310159"/>
                </a:cubicBezTo>
                <a:cubicBezTo>
                  <a:pt x="752475" y="310159"/>
                  <a:pt x="752475" y="310159"/>
                  <a:pt x="752475" y="336870"/>
                </a:cubicBezTo>
                <a:cubicBezTo>
                  <a:pt x="752475" y="336870"/>
                  <a:pt x="752475" y="336870"/>
                  <a:pt x="748674" y="340686"/>
                </a:cubicBezTo>
                <a:cubicBezTo>
                  <a:pt x="748674" y="340686"/>
                  <a:pt x="748674" y="340686"/>
                  <a:pt x="748674" y="348318"/>
                </a:cubicBezTo>
                <a:cubicBezTo>
                  <a:pt x="744874" y="367397"/>
                  <a:pt x="733473" y="386477"/>
                  <a:pt x="722072" y="401741"/>
                </a:cubicBezTo>
                <a:cubicBezTo>
                  <a:pt x="718271" y="401741"/>
                  <a:pt x="722072" y="405556"/>
                  <a:pt x="722072" y="405556"/>
                </a:cubicBezTo>
                <a:cubicBezTo>
                  <a:pt x="722072" y="409372"/>
                  <a:pt x="725872" y="413188"/>
                  <a:pt x="725872" y="417004"/>
                </a:cubicBezTo>
                <a:cubicBezTo>
                  <a:pt x="733473" y="432268"/>
                  <a:pt x="733473" y="447532"/>
                  <a:pt x="733473" y="466611"/>
                </a:cubicBezTo>
                <a:cubicBezTo>
                  <a:pt x="733473" y="474243"/>
                  <a:pt x="733473" y="481875"/>
                  <a:pt x="729673" y="493323"/>
                </a:cubicBezTo>
                <a:cubicBezTo>
                  <a:pt x="725872" y="508586"/>
                  <a:pt x="718271" y="523850"/>
                  <a:pt x="706870" y="539114"/>
                </a:cubicBezTo>
                <a:cubicBezTo>
                  <a:pt x="706870" y="539114"/>
                  <a:pt x="703070" y="542930"/>
                  <a:pt x="703070" y="542930"/>
                </a:cubicBezTo>
                <a:cubicBezTo>
                  <a:pt x="691669" y="554377"/>
                  <a:pt x="680268" y="562009"/>
                  <a:pt x="668866" y="569641"/>
                </a:cubicBezTo>
                <a:cubicBezTo>
                  <a:pt x="665066" y="573457"/>
                  <a:pt x="657465" y="577273"/>
                  <a:pt x="653665" y="581089"/>
                </a:cubicBezTo>
                <a:cubicBezTo>
                  <a:pt x="649865" y="581089"/>
                  <a:pt x="649865" y="581089"/>
                  <a:pt x="646064" y="584905"/>
                </a:cubicBezTo>
                <a:cubicBezTo>
                  <a:pt x="638463" y="588721"/>
                  <a:pt x="634663" y="588721"/>
                  <a:pt x="627062" y="592537"/>
                </a:cubicBezTo>
                <a:cubicBezTo>
                  <a:pt x="627062" y="592537"/>
                  <a:pt x="627062" y="592537"/>
                  <a:pt x="623262" y="592537"/>
                </a:cubicBezTo>
                <a:cubicBezTo>
                  <a:pt x="619462" y="592537"/>
                  <a:pt x="611861" y="596352"/>
                  <a:pt x="604260" y="596352"/>
                </a:cubicBezTo>
                <a:cubicBezTo>
                  <a:pt x="604260" y="596352"/>
                  <a:pt x="604260" y="596352"/>
                  <a:pt x="600460" y="596352"/>
                </a:cubicBezTo>
                <a:cubicBezTo>
                  <a:pt x="592859" y="600168"/>
                  <a:pt x="585258" y="600168"/>
                  <a:pt x="573857" y="603984"/>
                </a:cubicBezTo>
                <a:cubicBezTo>
                  <a:pt x="562456" y="603984"/>
                  <a:pt x="551055" y="603984"/>
                  <a:pt x="539654" y="603984"/>
                </a:cubicBezTo>
                <a:cubicBezTo>
                  <a:pt x="532053" y="600168"/>
                  <a:pt x="524452" y="600168"/>
                  <a:pt x="516851" y="600168"/>
                </a:cubicBezTo>
                <a:cubicBezTo>
                  <a:pt x="505450" y="596352"/>
                  <a:pt x="494049" y="592537"/>
                  <a:pt x="482648" y="588721"/>
                </a:cubicBezTo>
                <a:cubicBezTo>
                  <a:pt x="475047" y="584905"/>
                  <a:pt x="471247" y="584905"/>
                  <a:pt x="463646" y="577273"/>
                </a:cubicBezTo>
                <a:cubicBezTo>
                  <a:pt x="459846" y="577273"/>
                  <a:pt x="456045" y="573457"/>
                  <a:pt x="452245" y="569641"/>
                </a:cubicBezTo>
                <a:cubicBezTo>
                  <a:pt x="440844" y="565825"/>
                  <a:pt x="437043" y="554377"/>
                  <a:pt x="429443" y="550561"/>
                </a:cubicBezTo>
                <a:cubicBezTo>
                  <a:pt x="418041" y="539114"/>
                  <a:pt x="410441" y="527666"/>
                  <a:pt x="402840" y="516218"/>
                </a:cubicBezTo>
                <a:cubicBezTo>
                  <a:pt x="399040" y="512402"/>
                  <a:pt x="399040" y="504770"/>
                  <a:pt x="395239" y="497139"/>
                </a:cubicBezTo>
                <a:cubicBezTo>
                  <a:pt x="395239" y="493323"/>
                  <a:pt x="391439" y="489507"/>
                  <a:pt x="391439" y="485691"/>
                </a:cubicBezTo>
                <a:cubicBezTo>
                  <a:pt x="387638" y="466611"/>
                  <a:pt x="383838" y="443716"/>
                  <a:pt x="387638" y="428452"/>
                </a:cubicBezTo>
                <a:cubicBezTo>
                  <a:pt x="391439" y="413188"/>
                  <a:pt x="395239" y="401741"/>
                  <a:pt x="399040" y="390293"/>
                </a:cubicBezTo>
                <a:cubicBezTo>
                  <a:pt x="406640" y="382661"/>
                  <a:pt x="410441" y="375029"/>
                  <a:pt x="418041" y="367397"/>
                </a:cubicBezTo>
                <a:cubicBezTo>
                  <a:pt x="421842" y="359765"/>
                  <a:pt x="429443" y="355950"/>
                  <a:pt x="433243" y="352134"/>
                </a:cubicBezTo>
                <a:cubicBezTo>
                  <a:pt x="440844" y="348318"/>
                  <a:pt x="444644" y="344502"/>
                  <a:pt x="452245" y="340686"/>
                </a:cubicBezTo>
                <a:cubicBezTo>
                  <a:pt x="463646" y="336870"/>
                  <a:pt x="475047" y="333054"/>
                  <a:pt x="490249" y="333054"/>
                </a:cubicBezTo>
                <a:cubicBezTo>
                  <a:pt x="494049" y="333054"/>
                  <a:pt x="501650" y="336870"/>
                  <a:pt x="505450" y="336870"/>
                </a:cubicBezTo>
                <a:cubicBezTo>
                  <a:pt x="509251" y="336870"/>
                  <a:pt x="513051" y="340686"/>
                  <a:pt x="516851" y="344502"/>
                </a:cubicBezTo>
                <a:cubicBezTo>
                  <a:pt x="520652" y="348318"/>
                  <a:pt x="528252" y="348318"/>
                  <a:pt x="532053" y="355950"/>
                </a:cubicBezTo>
                <a:cubicBezTo>
                  <a:pt x="539654" y="363581"/>
                  <a:pt x="547254" y="371213"/>
                  <a:pt x="551055" y="382661"/>
                </a:cubicBezTo>
                <a:cubicBezTo>
                  <a:pt x="558655" y="390293"/>
                  <a:pt x="558655" y="405556"/>
                  <a:pt x="554855" y="413188"/>
                </a:cubicBezTo>
                <a:cubicBezTo>
                  <a:pt x="554855" y="428452"/>
                  <a:pt x="547254" y="439900"/>
                  <a:pt x="532053" y="443716"/>
                </a:cubicBezTo>
                <a:cubicBezTo>
                  <a:pt x="528252" y="443716"/>
                  <a:pt x="528252" y="447532"/>
                  <a:pt x="528252" y="451348"/>
                </a:cubicBezTo>
                <a:cubicBezTo>
                  <a:pt x="520652" y="451348"/>
                  <a:pt x="513051" y="455163"/>
                  <a:pt x="505450" y="451348"/>
                </a:cubicBezTo>
                <a:cubicBezTo>
                  <a:pt x="501650" y="451348"/>
                  <a:pt x="501650" y="451348"/>
                  <a:pt x="497849" y="451348"/>
                </a:cubicBezTo>
                <a:cubicBezTo>
                  <a:pt x="494049" y="447532"/>
                  <a:pt x="490249" y="443716"/>
                  <a:pt x="490249" y="439900"/>
                </a:cubicBezTo>
                <a:cubicBezTo>
                  <a:pt x="482648" y="432268"/>
                  <a:pt x="482648" y="420820"/>
                  <a:pt x="490249" y="409372"/>
                </a:cubicBezTo>
                <a:cubicBezTo>
                  <a:pt x="486448" y="405556"/>
                  <a:pt x="490249" y="401741"/>
                  <a:pt x="482648" y="397925"/>
                </a:cubicBezTo>
                <a:cubicBezTo>
                  <a:pt x="478847" y="397925"/>
                  <a:pt x="475047" y="401741"/>
                  <a:pt x="467446" y="405556"/>
                </a:cubicBezTo>
                <a:cubicBezTo>
                  <a:pt x="467446" y="405556"/>
                  <a:pt x="467446" y="405556"/>
                  <a:pt x="463646" y="405556"/>
                </a:cubicBezTo>
                <a:cubicBezTo>
                  <a:pt x="459846" y="413188"/>
                  <a:pt x="456045" y="417004"/>
                  <a:pt x="456045" y="420820"/>
                </a:cubicBezTo>
                <a:cubicBezTo>
                  <a:pt x="452245" y="428452"/>
                  <a:pt x="452245" y="436084"/>
                  <a:pt x="452245" y="439900"/>
                </a:cubicBezTo>
                <a:cubicBezTo>
                  <a:pt x="452245" y="447532"/>
                  <a:pt x="452245" y="451348"/>
                  <a:pt x="452245" y="458979"/>
                </a:cubicBezTo>
                <a:cubicBezTo>
                  <a:pt x="452245" y="474243"/>
                  <a:pt x="459846" y="485691"/>
                  <a:pt x="463646" y="497139"/>
                </a:cubicBezTo>
                <a:cubicBezTo>
                  <a:pt x="471247" y="500954"/>
                  <a:pt x="475047" y="504770"/>
                  <a:pt x="478847" y="508586"/>
                </a:cubicBezTo>
                <a:cubicBezTo>
                  <a:pt x="486448" y="516218"/>
                  <a:pt x="494049" y="523850"/>
                  <a:pt x="505450" y="527666"/>
                </a:cubicBezTo>
                <a:cubicBezTo>
                  <a:pt x="505450" y="531482"/>
                  <a:pt x="509251" y="531482"/>
                  <a:pt x="513051" y="531482"/>
                </a:cubicBezTo>
                <a:cubicBezTo>
                  <a:pt x="516851" y="531482"/>
                  <a:pt x="516851" y="535298"/>
                  <a:pt x="520652" y="535298"/>
                </a:cubicBezTo>
                <a:cubicBezTo>
                  <a:pt x="528252" y="535298"/>
                  <a:pt x="535853" y="539114"/>
                  <a:pt x="547254" y="539114"/>
                </a:cubicBezTo>
                <a:cubicBezTo>
                  <a:pt x="547254" y="539114"/>
                  <a:pt x="551055" y="539114"/>
                  <a:pt x="554855" y="539114"/>
                </a:cubicBezTo>
                <a:cubicBezTo>
                  <a:pt x="558655" y="539114"/>
                  <a:pt x="562456" y="539114"/>
                  <a:pt x="566256" y="539114"/>
                </a:cubicBezTo>
                <a:cubicBezTo>
                  <a:pt x="573857" y="539114"/>
                  <a:pt x="577657" y="539114"/>
                  <a:pt x="585258" y="539114"/>
                </a:cubicBezTo>
                <a:cubicBezTo>
                  <a:pt x="592859" y="539114"/>
                  <a:pt x="600460" y="535298"/>
                  <a:pt x="604260" y="535298"/>
                </a:cubicBezTo>
                <a:cubicBezTo>
                  <a:pt x="604260" y="535298"/>
                  <a:pt x="604260" y="535298"/>
                  <a:pt x="608060" y="535298"/>
                </a:cubicBezTo>
                <a:cubicBezTo>
                  <a:pt x="608060" y="531482"/>
                  <a:pt x="611861" y="531482"/>
                  <a:pt x="615661" y="531482"/>
                </a:cubicBezTo>
                <a:cubicBezTo>
                  <a:pt x="615661" y="527666"/>
                  <a:pt x="619462" y="527666"/>
                  <a:pt x="619462" y="527666"/>
                </a:cubicBezTo>
                <a:cubicBezTo>
                  <a:pt x="627062" y="523850"/>
                  <a:pt x="630863" y="520034"/>
                  <a:pt x="634663" y="516218"/>
                </a:cubicBezTo>
                <a:cubicBezTo>
                  <a:pt x="642264" y="512402"/>
                  <a:pt x="646064" y="508586"/>
                  <a:pt x="649865" y="508586"/>
                </a:cubicBezTo>
                <a:cubicBezTo>
                  <a:pt x="653665" y="500954"/>
                  <a:pt x="661266" y="493323"/>
                  <a:pt x="661266" y="489507"/>
                </a:cubicBezTo>
                <a:cubicBezTo>
                  <a:pt x="665066" y="485691"/>
                  <a:pt x="665066" y="478059"/>
                  <a:pt x="668866" y="478059"/>
                </a:cubicBezTo>
                <a:cubicBezTo>
                  <a:pt x="672667" y="470427"/>
                  <a:pt x="676467" y="466611"/>
                  <a:pt x="672667" y="458979"/>
                </a:cubicBezTo>
                <a:cubicBezTo>
                  <a:pt x="672667" y="455163"/>
                  <a:pt x="672667" y="447532"/>
                  <a:pt x="672667" y="443716"/>
                </a:cubicBezTo>
                <a:cubicBezTo>
                  <a:pt x="668866" y="439900"/>
                  <a:pt x="668866" y="436084"/>
                  <a:pt x="668866" y="432268"/>
                </a:cubicBezTo>
                <a:cubicBezTo>
                  <a:pt x="661266" y="420820"/>
                  <a:pt x="657465" y="409372"/>
                  <a:pt x="646064" y="397925"/>
                </a:cubicBezTo>
                <a:cubicBezTo>
                  <a:pt x="642264" y="390293"/>
                  <a:pt x="653665" y="386477"/>
                  <a:pt x="657465" y="378845"/>
                </a:cubicBezTo>
                <a:cubicBezTo>
                  <a:pt x="661266" y="375029"/>
                  <a:pt x="665066" y="371213"/>
                  <a:pt x="668866" y="367397"/>
                </a:cubicBezTo>
                <a:cubicBezTo>
                  <a:pt x="672667" y="363581"/>
                  <a:pt x="676467" y="359765"/>
                  <a:pt x="680268" y="355950"/>
                </a:cubicBezTo>
                <a:cubicBezTo>
                  <a:pt x="684068" y="348318"/>
                  <a:pt x="687868" y="340686"/>
                  <a:pt x="687868" y="336870"/>
                </a:cubicBezTo>
                <a:cubicBezTo>
                  <a:pt x="691669" y="317790"/>
                  <a:pt x="687868" y="302527"/>
                  <a:pt x="684068" y="287263"/>
                </a:cubicBezTo>
                <a:cubicBezTo>
                  <a:pt x="684068" y="283447"/>
                  <a:pt x="680268" y="279631"/>
                  <a:pt x="680268" y="279631"/>
                </a:cubicBezTo>
                <a:cubicBezTo>
                  <a:pt x="676467" y="271999"/>
                  <a:pt x="672667" y="264367"/>
                  <a:pt x="665066" y="256736"/>
                </a:cubicBezTo>
                <a:cubicBezTo>
                  <a:pt x="653665" y="249104"/>
                  <a:pt x="646064" y="241472"/>
                  <a:pt x="630863" y="237656"/>
                </a:cubicBezTo>
                <a:cubicBezTo>
                  <a:pt x="619462" y="233840"/>
                  <a:pt x="608060" y="233840"/>
                  <a:pt x="596659" y="233840"/>
                </a:cubicBezTo>
                <a:cubicBezTo>
                  <a:pt x="577657" y="233840"/>
                  <a:pt x="562456" y="241472"/>
                  <a:pt x="547254" y="245288"/>
                </a:cubicBezTo>
                <a:cubicBezTo>
                  <a:pt x="535853" y="245288"/>
                  <a:pt x="543454" y="233840"/>
                  <a:pt x="539654" y="230024"/>
                </a:cubicBezTo>
                <a:cubicBezTo>
                  <a:pt x="543454" y="210945"/>
                  <a:pt x="539654" y="188049"/>
                  <a:pt x="528252" y="172785"/>
                </a:cubicBezTo>
                <a:cubicBezTo>
                  <a:pt x="528252" y="168970"/>
                  <a:pt x="524452" y="165154"/>
                  <a:pt x="520652" y="165154"/>
                </a:cubicBezTo>
                <a:cubicBezTo>
                  <a:pt x="516851" y="157522"/>
                  <a:pt x="505450" y="149890"/>
                  <a:pt x="497849" y="146074"/>
                </a:cubicBezTo>
                <a:cubicBezTo>
                  <a:pt x="490249" y="142258"/>
                  <a:pt x="482648" y="138442"/>
                  <a:pt x="475047" y="134626"/>
                </a:cubicBezTo>
                <a:cubicBezTo>
                  <a:pt x="463646" y="130810"/>
                  <a:pt x="452245" y="126994"/>
                  <a:pt x="440844" y="123178"/>
                </a:cubicBezTo>
                <a:cubicBezTo>
                  <a:pt x="433243" y="123178"/>
                  <a:pt x="429443" y="119363"/>
                  <a:pt x="425642" y="115547"/>
                </a:cubicBezTo>
                <a:cubicBezTo>
                  <a:pt x="421842" y="115547"/>
                  <a:pt x="418041" y="111731"/>
                  <a:pt x="414241" y="111731"/>
                </a:cubicBezTo>
                <a:cubicBezTo>
                  <a:pt x="406640" y="107915"/>
                  <a:pt x="395239" y="104099"/>
                  <a:pt x="387638" y="100283"/>
                </a:cubicBezTo>
                <a:cubicBezTo>
                  <a:pt x="387638" y="96467"/>
                  <a:pt x="383838" y="96467"/>
                  <a:pt x="380038" y="92651"/>
                </a:cubicBezTo>
                <a:cubicBezTo>
                  <a:pt x="376237" y="92651"/>
                  <a:pt x="376237" y="88835"/>
                  <a:pt x="372437" y="85019"/>
                </a:cubicBezTo>
                <a:cubicBezTo>
                  <a:pt x="368637" y="92651"/>
                  <a:pt x="361036" y="100283"/>
                  <a:pt x="357235" y="104099"/>
                </a:cubicBezTo>
                <a:cubicBezTo>
                  <a:pt x="349635" y="111731"/>
                  <a:pt x="338233" y="115547"/>
                  <a:pt x="330633" y="119363"/>
                </a:cubicBezTo>
                <a:cubicBezTo>
                  <a:pt x="323032" y="123178"/>
                  <a:pt x="315431" y="126994"/>
                  <a:pt x="311631" y="126994"/>
                </a:cubicBezTo>
                <a:cubicBezTo>
                  <a:pt x="307830" y="130810"/>
                  <a:pt x="304030" y="126994"/>
                  <a:pt x="304030" y="130810"/>
                </a:cubicBezTo>
                <a:cubicBezTo>
                  <a:pt x="296429" y="130810"/>
                  <a:pt x="292629" y="130810"/>
                  <a:pt x="285028" y="134626"/>
                </a:cubicBezTo>
                <a:cubicBezTo>
                  <a:pt x="285028" y="134626"/>
                  <a:pt x="281228" y="134626"/>
                  <a:pt x="281228" y="138442"/>
                </a:cubicBezTo>
                <a:cubicBezTo>
                  <a:pt x="269827" y="138442"/>
                  <a:pt x="262226" y="142258"/>
                  <a:pt x="254625" y="146074"/>
                </a:cubicBezTo>
                <a:cubicBezTo>
                  <a:pt x="254625" y="146074"/>
                  <a:pt x="250825" y="146074"/>
                  <a:pt x="250825" y="146074"/>
                </a:cubicBezTo>
                <a:cubicBezTo>
                  <a:pt x="239424" y="149890"/>
                  <a:pt x="231823" y="157522"/>
                  <a:pt x="224222" y="165154"/>
                </a:cubicBezTo>
                <a:cubicBezTo>
                  <a:pt x="224222" y="165154"/>
                  <a:pt x="220422" y="168970"/>
                  <a:pt x="220422" y="168970"/>
                </a:cubicBezTo>
                <a:cubicBezTo>
                  <a:pt x="216621" y="172785"/>
                  <a:pt x="212821" y="180417"/>
                  <a:pt x="209021" y="184233"/>
                </a:cubicBezTo>
                <a:cubicBezTo>
                  <a:pt x="205220" y="191865"/>
                  <a:pt x="201420" y="195681"/>
                  <a:pt x="201420" y="203313"/>
                </a:cubicBezTo>
                <a:cubicBezTo>
                  <a:pt x="201420" y="207129"/>
                  <a:pt x="197619" y="207129"/>
                  <a:pt x="201420" y="207129"/>
                </a:cubicBezTo>
                <a:cubicBezTo>
                  <a:pt x="197619" y="214761"/>
                  <a:pt x="197619" y="226208"/>
                  <a:pt x="197619" y="233840"/>
                </a:cubicBezTo>
                <a:cubicBezTo>
                  <a:pt x="197619" y="233840"/>
                  <a:pt x="201420" y="241472"/>
                  <a:pt x="197619" y="241472"/>
                </a:cubicBezTo>
                <a:cubicBezTo>
                  <a:pt x="186218" y="245288"/>
                  <a:pt x="174817" y="237656"/>
                  <a:pt x="159616" y="237656"/>
                </a:cubicBezTo>
                <a:cubicBezTo>
                  <a:pt x="159616" y="237656"/>
                  <a:pt x="159616" y="237656"/>
                  <a:pt x="136813" y="237656"/>
                </a:cubicBezTo>
                <a:cubicBezTo>
                  <a:pt x="136813" y="241472"/>
                  <a:pt x="133013" y="237656"/>
                  <a:pt x="133013" y="241472"/>
                </a:cubicBezTo>
                <a:cubicBezTo>
                  <a:pt x="125412" y="241472"/>
                  <a:pt x="117811" y="241472"/>
                  <a:pt x="110211" y="245288"/>
                </a:cubicBezTo>
                <a:cubicBezTo>
                  <a:pt x="106410" y="249104"/>
                  <a:pt x="102610" y="245288"/>
                  <a:pt x="98810" y="249104"/>
                </a:cubicBezTo>
                <a:cubicBezTo>
                  <a:pt x="95009" y="252920"/>
                  <a:pt x="95009" y="249104"/>
                  <a:pt x="91209" y="252920"/>
                </a:cubicBezTo>
                <a:cubicBezTo>
                  <a:pt x="87408" y="256736"/>
                  <a:pt x="83608" y="260552"/>
                  <a:pt x="79808" y="264367"/>
                </a:cubicBezTo>
                <a:cubicBezTo>
                  <a:pt x="76007" y="268183"/>
                  <a:pt x="72207" y="271999"/>
                  <a:pt x="72207" y="275815"/>
                </a:cubicBezTo>
                <a:cubicBezTo>
                  <a:pt x="68407" y="279631"/>
                  <a:pt x="68407" y="279631"/>
                  <a:pt x="64606" y="283447"/>
                </a:cubicBezTo>
                <a:cubicBezTo>
                  <a:pt x="60806" y="294895"/>
                  <a:pt x="57005" y="306343"/>
                  <a:pt x="57005" y="317790"/>
                </a:cubicBezTo>
                <a:cubicBezTo>
                  <a:pt x="57005" y="333054"/>
                  <a:pt x="60806" y="344502"/>
                  <a:pt x="64606" y="355950"/>
                </a:cubicBezTo>
                <a:cubicBezTo>
                  <a:pt x="72207" y="375029"/>
                  <a:pt x="83608" y="390293"/>
                  <a:pt x="102610" y="397925"/>
                </a:cubicBezTo>
                <a:cubicBezTo>
                  <a:pt x="102610" y="401741"/>
                  <a:pt x="106410" y="397925"/>
                  <a:pt x="106410" y="401741"/>
                </a:cubicBezTo>
                <a:cubicBezTo>
                  <a:pt x="106410" y="409372"/>
                  <a:pt x="98810" y="413188"/>
                  <a:pt x="95009" y="420820"/>
                </a:cubicBezTo>
                <a:cubicBezTo>
                  <a:pt x="91209" y="424636"/>
                  <a:pt x="91209" y="432268"/>
                  <a:pt x="87408" y="439900"/>
                </a:cubicBezTo>
                <a:cubicBezTo>
                  <a:pt x="83608" y="447532"/>
                  <a:pt x="79808" y="458979"/>
                  <a:pt x="79808" y="466611"/>
                </a:cubicBezTo>
                <a:cubicBezTo>
                  <a:pt x="79808" y="481875"/>
                  <a:pt x="83608" y="493323"/>
                  <a:pt x="91209" y="504770"/>
                </a:cubicBezTo>
                <a:cubicBezTo>
                  <a:pt x="98810" y="512402"/>
                  <a:pt x="102610" y="520034"/>
                  <a:pt x="110211" y="523850"/>
                </a:cubicBezTo>
                <a:cubicBezTo>
                  <a:pt x="114011" y="527666"/>
                  <a:pt x="117811" y="531482"/>
                  <a:pt x="121612" y="535298"/>
                </a:cubicBezTo>
                <a:cubicBezTo>
                  <a:pt x="125412" y="535298"/>
                  <a:pt x="129213" y="535298"/>
                  <a:pt x="129213" y="535298"/>
                </a:cubicBezTo>
                <a:cubicBezTo>
                  <a:pt x="133013" y="539114"/>
                  <a:pt x="136813" y="539114"/>
                  <a:pt x="140614" y="542930"/>
                </a:cubicBezTo>
                <a:cubicBezTo>
                  <a:pt x="148215" y="542930"/>
                  <a:pt x="152015" y="546745"/>
                  <a:pt x="155815" y="546745"/>
                </a:cubicBezTo>
                <a:cubicBezTo>
                  <a:pt x="159616" y="546745"/>
                  <a:pt x="159616" y="550561"/>
                  <a:pt x="159616" y="546745"/>
                </a:cubicBezTo>
                <a:cubicBezTo>
                  <a:pt x="163416" y="550561"/>
                  <a:pt x="163416" y="546745"/>
                  <a:pt x="167216" y="550561"/>
                </a:cubicBezTo>
                <a:cubicBezTo>
                  <a:pt x="171017" y="550561"/>
                  <a:pt x="171017" y="550561"/>
                  <a:pt x="174817" y="550561"/>
                </a:cubicBezTo>
                <a:cubicBezTo>
                  <a:pt x="174817" y="550561"/>
                  <a:pt x="178618" y="550561"/>
                  <a:pt x="178618" y="550561"/>
                </a:cubicBezTo>
                <a:cubicBezTo>
                  <a:pt x="182418" y="550561"/>
                  <a:pt x="190019" y="554377"/>
                  <a:pt x="190019" y="550561"/>
                </a:cubicBezTo>
                <a:cubicBezTo>
                  <a:pt x="197619" y="550561"/>
                  <a:pt x="205220" y="550561"/>
                  <a:pt x="209021" y="550561"/>
                </a:cubicBezTo>
                <a:cubicBezTo>
                  <a:pt x="212821" y="550561"/>
                  <a:pt x="216621" y="550561"/>
                  <a:pt x="216621" y="550561"/>
                </a:cubicBezTo>
                <a:cubicBezTo>
                  <a:pt x="220422" y="550561"/>
                  <a:pt x="224222" y="546745"/>
                  <a:pt x="228022" y="546745"/>
                </a:cubicBezTo>
                <a:cubicBezTo>
                  <a:pt x="231823" y="542930"/>
                  <a:pt x="235623" y="546745"/>
                  <a:pt x="239424" y="542930"/>
                </a:cubicBezTo>
                <a:cubicBezTo>
                  <a:pt x="247024" y="535298"/>
                  <a:pt x="254625" y="531482"/>
                  <a:pt x="258426" y="527666"/>
                </a:cubicBezTo>
                <a:cubicBezTo>
                  <a:pt x="266026" y="523850"/>
                  <a:pt x="269827" y="520034"/>
                  <a:pt x="273627" y="512402"/>
                </a:cubicBezTo>
                <a:cubicBezTo>
                  <a:pt x="277427" y="512402"/>
                  <a:pt x="281228" y="508586"/>
                  <a:pt x="281228" y="504770"/>
                </a:cubicBezTo>
                <a:cubicBezTo>
                  <a:pt x="281228" y="504770"/>
                  <a:pt x="285028" y="500954"/>
                  <a:pt x="285028" y="500954"/>
                </a:cubicBezTo>
                <a:cubicBezTo>
                  <a:pt x="288829" y="497139"/>
                  <a:pt x="288829" y="493323"/>
                  <a:pt x="292629" y="489507"/>
                </a:cubicBezTo>
                <a:cubicBezTo>
                  <a:pt x="292629" y="481875"/>
                  <a:pt x="296429" y="478059"/>
                  <a:pt x="296429" y="470427"/>
                </a:cubicBezTo>
                <a:cubicBezTo>
                  <a:pt x="300230" y="462795"/>
                  <a:pt x="296429" y="455163"/>
                  <a:pt x="296429" y="447532"/>
                </a:cubicBezTo>
                <a:cubicBezTo>
                  <a:pt x="292629" y="432268"/>
                  <a:pt x="288829" y="420820"/>
                  <a:pt x="277427" y="409372"/>
                </a:cubicBezTo>
                <a:cubicBezTo>
                  <a:pt x="273627" y="405556"/>
                  <a:pt x="269827" y="405556"/>
                  <a:pt x="266026" y="405556"/>
                </a:cubicBezTo>
                <a:cubicBezTo>
                  <a:pt x="262226" y="409372"/>
                  <a:pt x="258426" y="413188"/>
                  <a:pt x="258426" y="417004"/>
                </a:cubicBezTo>
                <a:cubicBezTo>
                  <a:pt x="258426" y="424636"/>
                  <a:pt x="262226" y="436084"/>
                  <a:pt x="258426" y="443716"/>
                </a:cubicBezTo>
                <a:cubicBezTo>
                  <a:pt x="258426" y="451348"/>
                  <a:pt x="250825" y="458979"/>
                  <a:pt x="239424" y="462795"/>
                </a:cubicBezTo>
                <a:cubicBezTo>
                  <a:pt x="231823" y="462795"/>
                  <a:pt x="220422" y="458979"/>
                  <a:pt x="212821" y="451348"/>
                </a:cubicBezTo>
                <a:cubicBezTo>
                  <a:pt x="209021" y="451348"/>
                  <a:pt x="209021" y="447532"/>
                  <a:pt x="209021" y="443716"/>
                </a:cubicBezTo>
                <a:cubicBezTo>
                  <a:pt x="197619" y="439900"/>
                  <a:pt x="193819" y="428452"/>
                  <a:pt x="193819" y="417004"/>
                </a:cubicBezTo>
                <a:cubicBezTo>
                  <a:pt x="190019" y="413188"/>
                  <a:pt x="190019" y="405556"/>
                  <a:pt x="193819" y="401741"/>
                </a:cubicBezTo>
                <a:cubicBezTo>
                  <a:pt x="193819" y="390293"/>
                  <a:pt x="197619" y="378845"/>
                  <a:pt x="205220" y="371213"/>
                </a:cubicBezTo>
                <a:cubicBezTo>
                  <a:pt x="209021" y="367397"/>
                  <a:pt x="212821" y="367397"/>
                  <a:pt x="212821" y="363581"/>
                </a:cubicBezTo>
                <a:cubicBezTo>
                  <a:pt x="216621" y="359765"/>
                  <a:pt x="224222" y="355950"/>
                  <a:pt x="228022" y="355950"/>
                </a:cubicBezTo>
                <a:cubicBezTo>
                  <a:pt x="235623" y="352134"/>
                  <a:pt x="239424" y="348318"/>
                  <a:pt x="247024" y="348318"/>
                </a:cubicBezTo>
                <a:cubicBezTo>
                  <a:pt x="250825" y="348318"/>
                  <a:pt x="254625" y="344502"/>
                  <a:pt x="258426" y="348318"/>
                </a:cubicBezTo>
                <a:cubicBezTo>
                  <a:pt x="258426" y="348318"/>
                  <a:pt x="258426" y="348318"/>
                  <a:pt x="258426" y="344502"/>
                </a:cubicBezTo>
                <a:cubicBezTo>
                  <a:pt x="262226" y="348318"/>
                  <a:pt x="266026" y="344502"/>
                  <a:pt x="266026" y="348318"/>
                </a:cubicBezTo>
                <a:cubicBezTo>
                  <a:pt x="273627" y="344502"/>
                  <a:pt x="281228" y="348318"/>
                  <a:pt x="288829" y="348318"/>
                </a:cubicBezTo>
                <a:cubicBezTo>
                  <a:pt x="300230" y="355950"/>
                  <a:pt x="307830" y="359765"/>
                  <a:pt x="319232" y="367397"/>
                </a:cubicBezTo>
                <a:cubicBezTo>
                  <a:pt x="330633" y="382661"/>
                  <a:pt x="345834" y="397925"/>
                  <a:pt x="349635" y="417004"/>
                </a:cubicBezTo>
                <a:cubicBezTo>
                  <a:pt x="349635" y="424636"/>
                  <a:pt x="353435" y="428452"/>
                  <a:pt x="353435" y="436084"/>
                </a:cubicBezTo>
                <a:cubicBezTo>
                  <a:pt x="353435" y="436084"/>
                  <a:pt x="353435" y="436084"/>
                  <a:pt x="353435" y="439900"/>
                </a:cubicBezTo>
                <a:cubicBezTo>
                  <a:pt x="357235" y="451348"/>
                  <a:pt x="353435" y="458979"/>
                  <a:pt x="353435" y="470427"/>
                </a:cubicBezTo>
                <a:cubicBezTo>
                  <a:pt x="357235" y="478059"/>
                  <a:pt x="353435" y="489507"/>
                  <a:pt x="349635" y="500954"/>
                </a:cubicBezTo>
                <a:cubicBezTo>
                  <a:pt x="345834" y="516218"/>
                  <a:pt x="338233" y="527666"/>
                  <a:pt x="330633" y="542930"/>
                </a:cubicBezTo>
                <a:cubicBezTo>
                  <a:pt x="323032" y="550561"/>
                  <a:pt x="319232" y="558193"/>
                  <a:pt x="311631" y="562009"/>
                </a:cubicBezTo>
                <a:cubicBezTo>
                  <a:pt x="304030" y="569641"/>
                  <a:pt x="300230" y="573457"/>
                  <a:pt x="292629" y="577273"/>
                </a:cubicBezTo>
                <a:cubicBezTo>
                  <a:pt x="292629" y="577273"/>
                  <a:pt x="292629" y="581089"/>
                  <a:pt x="288829" y="577273"/>
                </a:cubicBezTo>
                <a:cubicBezTo>
                  <a:pt x="273627" y="588721"/>
                  <a:pt x="258426" y="596352"/>
                  <a:pt x="239424" y="603984"/>
                </a:cubicBezTo>
                <a:cubicBezTo>
                  <a:pt x="235623" y="603984"/>
                  <a:pt x="235623" y="603984"/>
                  <a:pt x="231823" y="603984"/>
                </a:cubicBezTo>
                <a:cubicBezTo>
                  <a:pt x="224222" y="607800"/>
                  <a:pt x="212821" y="607800"/>
                  <a:pt x="205220" y="607800"/>
                </a:cubicBezTo>
                <a:cubicBezTo>
                  <a:pt x="201420" y="611616"/>
                  <a:pt x="193819" y="611616"/>
                  <a:pt x="190019" y="611616"/>
                </a:cubicBezTo>
                <a:cubicBezTo>
                  <a:pt x="186218" y="611616"/>
                  <a:pt x="182418" y="607800"/>
                  <a:pt x="178618" y="611616"/>
                </a:cubicBezTo>
                <a:cubicBezTo>
                  <a:pt x="174817" y="611616"/>
                  <a:pt x="171017" y="607800"/>
                  <a:pt x="163416" y="607800"/>
                </a:cubicBezTo>
                <a:cubicBezTo>
                  <a:pt x="155815" y="607800"/>
                  <a:pt x="152015" y="607800"/>
                  <a:pt x="144414" y="603984"/>
                </a:cubicBezTo>
                <a:cubicBezTo>
                  <a:pt x="140614" y="603984"/>
                  <a:pt x="136813" y="603984"/>
                  <a:pt x="133013" y="603984"/>
                </a:cubicBezTo>
                <a:cubicBezTo>
                  <a:pt x="129213" y="600168"/>
                  <a:pt x="121612" y="600168"/>
                  <a:pt x="114011" y="596352"/>
                </a:cubicBezTo>
                <a:cubicBezTo>
                  <a:pt x="110211" y="592537"/>
                  <a:pt x="106410" y="592537"/>
                  <a:pt x="102610" y="592537"/>
                </a:cubicBezTo>
                <a:cubicBezTo>
                  <a:pt x="91209" y="588721"/>
                  <a:pt x="83608" y="581089"/>
                  <a:pt x="76007" y="577273"/>
                </a:cubicBezTo>
                <a:cubicBezTo>
                  <a:pt x="76007" y="573457"/>
                  <a:pt x="72207" y="573457"/>
                  <a:pt x="72207" y="573457"/>
                </a:cubicBezTo>
                <a:cubicBezTo>
                  <a:pt x="64606" y="562009"/>
                  <a:pt x="57005" y="554377"/>
                  <a:pt x="49405" y="546745"/>
                </a:cubicBezTo>
                <a:cubicBezTo>
                  <a:pt x="41804" y="535298"/>
                  <a:pt x="34203" y="523850"/>
                  <a:pt x="26602" y="512402"/>
                </a:cubicBezTo>
                <a:cubicBezTo>
                  <a:pt x="22802" y="500954"/>
                  <a:pt x="22802" y="489507"/>
                  <a:pt x="19002" y="478059"/>
                </a:cubicBezTo>
                <a:cubicBezTo>
                  <a:pt x="19002" y="470427"/>
                  <a:pt x="19002" y="462795"/>
                  <a:pt x="19002" y="455163"/>
                </a:cubicBezTo>
                <a:cubicBezTo>
                  <a:pt x="22802" y="443716"/>
                  <a:pt x="26602" y="428452"/>
                  <a:pt x="30403" y="417004"/>
                </a:cubicBezTo>
                <a:cubicBezTo>
                  <a:pt x="30403" y="413188"/>
                  <a:pt x="34203" y="413188"/>
                  <a:pt x="34203" y="409372"/>
                </a:cubicBezTo>
                <a:cubicBezTo>
                  <a:pt x="19002" y="394109"/>
                  <a:pt x="7601" y="382661"/>
                  <a:pt x="7601" y="363581"/>
                </a:cubicBezTo>
                <a:cubicBezTo>
                  <a:pt x="3800" y="355950"/>
                  <a:pt x="0" y="348318"/>
                  <a:pt x="0" y="336870"/>
                </a:cubicBezTo>
                <a:cubicBezTo>
                  <a:pt x="0" y="317790"/>
                  <a:pt x="0" y="298711"/>
                  <a:pt x="7601" y="279631"/>
                </a:cubicBezTo>
                <a:cubicBezTo>
                  <a:pt x="7601" y="271999"/>
                  <a:pt x="11401" y="271999"/>
                  <a:pt x="11401" y="264367"/>
                </a:cubicBezTo>
                <a:cubicBezTo>
                  <a:pt x="11401" y="260552"/>
                  <a:pt x="15201" y="256736"/>
                  <a:pt x="19002" y="252920"/>
                </a:cubicBezTo>
                <a:cubicBezTo>
                  <a:pt x="22802" y="241472"/>
                  <a:pt x="30403" y="233840"/>
                  <a:pt x="38004" y="222392"/>
                </a:cubicBezTo>
                <a:cubicBezTo>
                  <a:pt x="45604" y="218576"/>
                  <a:pt x="53205" y="207129"/>
                  <a:pt x="60806" y="203313"/>
                </a:cubicBezTo>
                <a:cubicBezTo>
                  <a:pt x="64606" y="199497"/>
                  <a:pt x="72207" y="199497"/>
                  <a:pt x="76007" y="195681"/>
                </a:cubicBezTo>
                <a:cubicBezTo>
                  <a:pt x="76007" y="191865"/>
                  <a:pt x="83608" y="191865"/>
                  <a:pt x="83608" y="191865"/>
                </a:cubicBezTo>
                <a:cubicBezTo>
                  <a:pt x="98810" y="188049"/>
                  <a:pt x="110211" y="180417"/>
                  <a:pt x="125412" y="184233"/>
                </a:cubicBezTo>
                <a:cubicBezTo>
                  <a:pt x="133013" y="180417"/>
                  <a:pt x="136813" y="184233"/>
                  <a:pt x="140614" y="180417"/>
                </a:cubicBezTo>
                <a:cubicBezTo>
                  <a:pt x="140614" y="180417"/>
                  <a:pt x="140614" y="180417"/>
                  <a:pt x="148215" y="184233"/>
                </a:cubicBezTo>
                <a:cubicBezTo>
                  <a:pt x="148215" y="180417"/>
                  <a:pt x="148215" y="172785"/>
                  <a:pt x="148215" y="168970"/>
                </a:cubicBezTo>
                <a:cubicBezTo>
                  <a:pt x="152015" y="168970"/>
                  <a:pt x="152015" y="165154"/>
                  <a:pt x="152015" y="165154"/>
                </a:cubicBezTo>
                <a:cubicBezTo>
                  <a:pt x="155815" y="153706"/>
                  <a:pt x="159616" y="146074"/>
                  <a:pt x="167216" y="138442"/>
                </a:cubicBezTo>
                <a:cubicBezTo>
                  <a:pt x="171017" y="130810"/>
                  <a:pt x="174817" y="123178"/>
                  <a:pt x="182418" y="119363"/>
                </a:cubicBezTo>
                <a:cubicBezTo>
                  <a:pt x="186218" y="115547"/>
                  <a:pt x="190019" y="111731"/>
                  <a:pt x="193819" y="107915"/>
                </a:cubicBezTo>
                <a:cubicBezTo>
                  <a:pt x="197619" y="107915"/>
                  <a:pt x="201420" y="104099"/>
                  <a:pt x="205220" y="104099"/>
                </a:cubicBezTo>
                <a:cubicBezTo>
                  <a:pt x="205220" y="104099"/>
                  <a:pt x="205220" y="104099"/>
                  <a:pt x="209021" y="104099"/>
                </a:cubicBezTo>
                <a:cubicBezTo>
                  <a:pt x="212821" y="100283"/>
                  <a:pt x="216621" y="96467"/>
                  <a:pt x="224222" y="96467"/>
                </a:cubicBezTo>
                <a:cubicBezTo>
                  <a:pt x="228022" y="92651"/>
                  <a:pt x="239424" y="92651"/>
                  <a:pt x="243224" y="88835"/>
                </a:cubicBezTo>
                <a:cubicBezTo>
                  <a:pt x="247024" y="88835"/>
                  <a:pt x="247024" y="88835"/>
                  <a:pt x="247024" y="88835"/>
                </a:cubicBezTo>
                <a:cubicBezTo>
                  <a:pt x="262226" y="85019"/>
                  <a:pt x="273627" y="81203"/>
                  <a:pt x="285028" y="77387"/>
                </a:cubicBezTo>
                <a:cubicBezTo>
                  <a:pt x="288829" y="77387"/>
                  <a:pt x="292629" y="73572"/>
                  <a:pt x="296429" y="73572"/>
                </a:cubicBezTo>
                <a:cubicBezTo>
                  <a:pt x="296429" y="73572"/>
                  <a:pt x="296429" y="69756"/>
                  <a:pt x="300230" y="69756"/>
                </a:cubicBezTo>
                <a:cubicBezTo>
                  <a:pt x="307830" y="65940"/>
                  <a:pt x="315431" y="62124"/>
                  <a:pt x="323032" y="58308"/>
                </a:cubicBezTo>
                <a:cubicBezTo>
                  <a:pt x="326832" y="50676"/>
                  <a:pt x="334433" y="46860"/>
                  <a:pt x="342034" y="39228"/>
                </a:cubicBezTo>
                <a:cubicBezTo>
                  <a:pt x="349635" y="23965"/>
                  <a:pt x="361036" y="12517"/>
                  <a:pt x="364836" y="1069"/>
                </a:cubicBezTo>
                <a:close/>
              </a:path>
            </a:pathLst>
          </a:cu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文本框 27"/>
          <p:cNvSpPr/>
          <p:nvPr/>
        </p:nvSpPr>
        <p:spPr>
          <a:xfrm>
            <a:off x="7581960" y="3198960"/>
            <a:ext cx="251460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您的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您的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您的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文本框 28"/>
          <p:cNvSpPr/>
          <p:nvPr/>
        </p:nvSpPr>
        <p:spPr>
          <a:xfrm>
            <a:off x="1994040" y="3198960"/>
            <a:ext cx="251280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您的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您的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您的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文本框 29"/>
          <p:cNvSpPr/>
          <p:nvPr/>
        </p:nvSpPr>
        <p:spPr>
          <a:xfrm>
            <a:off x="4778280" y="5424480"/>
            <a:ext cx="251460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您的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您的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您的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文本框 30"/>
          <p:cNvSpPr/>
          <p:nvPr/>
        </p:nvSpPr>
        <p:spPr>
          <a:xfrm>
            <a:off x="4778280" y="1154160"/>
            <a:ext cx="25146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您的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您的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您的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708E0-F0A1-49CB-B00E-AE02D8585B6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413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414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415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417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Object 3" descr=""/>
          <p:cNvPicPr/>
          <p:nvPr/>
        </p:nvPicPr>
        <p:blipFill>
          <a:blip r:embed="rId6"/>
          <a:stretch/>
        </p:blipFill>
        <p:spPr>
          <a:xfrm>
            <a:off x="1352520" y="480960"/>
            <a:ext cx="9277560" cy="5797440"/>
          </a:xfrm>
          <a:prstGeom prst="rect">
            <a:avLst/>
          </a:prstGeom>
          <a:ln w="0">
            <a:noFill/>
          </a:ln>
        </p:spPr>
      </p:pic>
    </p:spTree>
  </p:cSld>
  <p:transition spd="slow" advTm="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226D2-8B21-41B4-8BF2-FE5952FF8E7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422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423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424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426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Group 3"/>
          <p:cNvGrpSpPr/>
          <p:nvPr/>
        </p:nvGrpSpPr>
        <p:grpSpPr>
          <a:xfrm>
            <a:off x="1219680" y="2027160"/>
            <a:ext cx="2572560" cy="1281600"/>
            <a:chOff x="1219680" y="2027160"/>
            <a:chExt cx="2572560" cy="1281600"/>
          </a:xfrm>
        </p:grpSpPr>
        <p:sp>
          <p:nvSpPr>
            <p:cNvPr id="429" name="未知"/>
            <p:cNvSpPr/>
            <p:nvPr/>
          </p:nvSpPr>
          <p:spPr>
            <a:xfrm>
              <a:off x="1334520" y="2027160"/>
              <a:ext cx="2457720" cy="925200"/>
            </a:xfrm>
            <a:custGeom>
              <a:avLst/>
              <a:gdLst/>
              <a:ahLst/>
              <a:rect l="l" t="t" r="r" b="b"/>
              <a:pathLst>
                <a:path w="1400" h="527">
                  <a:moveTo>
                    <a:pt x="0" y="108"/>
                  </a:moveTo>
                  <a:lnTo>
                    <a:pt x="837" y="527"/>
                  </a:lnTo>
                  <a:lnTo>
                    <a:pt x="1400" y="332"/>
                  </a:lnTo>
                  <a:lnTo>
                    <a:pt x="281" y="0"/>
                  </a:lnTo>
                  <a:lnTo>
                    <a:pt x="0" y="108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4d4d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AutoShape 5"/>
            <p:cNvSpPr/>
            <p:nvPr/>
          </p:nvSpPr>
          <p:spPr>
            <a:xfrm rot="12420000">
              <a:off x="1186560" y="2694240"/>
              <a:ext cx="1653480" cy="252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f5f5f"/>
                </a:gs>
                <a:gs pos="100000">
                  <a:srgbClr val="969696"/>
                </a:gs>
              </a:gsLst>
              <a:lin ang="145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未知"/>
          <p:cNvSpPr/>
          <p:nvPr/>
        </p:nvSpPr>
        <p:spPr>
          <a:xfrm>
            <a:off x="2870280" y="2819520"/>
            <a:ext cx="2876400" cy="1201680"/>
          </a:xfrm>
          <a:custGeom>
            <a:avLst/>
            <a:gdLst/>
            <a:ahLst/>
            <a:rect l="l" t="t" r="r" b="b"/>
            <a:pathLst>
              <a:path w="1698" h="710">
                <a:moveTo>
                  <a:pt x="1002" y="710"/>
                </a:moveTo>
                <a:lnTo>
                  <a:pt x="1698" y="366"/>
                </a:lnTo>
                <a:lnTo>
                  <a:pt x="591" y="0"/>
                </a:lnTo>
                <a:lnTo>
                  <a:pt x="0" y="202"/>
                </a:lnTo>
                <a:lnTo>
                  <a:pt x="1002" y="710"/>
                </a:lnTo>
                <a:close/>
              </a:path>
            </a:pathLst>
          </a:custGeom>
          <a:solidFill>
            <a:srgbClr val="c0c0c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未知"/>
          <p:cNvSpPr/>
          <p:nvPr/>
        </p:nvSpPr>
        <p:spPr>
          <a:xfrm>
            <a:off x="3008160" y="2117880"/>
            <a:ext cx="2874960" cy="1203120"/>
          </a:xfrm>
          <a:custGeom>
            <a:avLst/>
            <a:gdLst/>
            <a:ahLst/>
            <a:rect l="l" t="t" r="r" b="b"/>
            <a:pathLst>
              <a:path w="1698" h="710">
                <a:moveTo>
                  <a:pt x="1002" y="710"/>
                </a:moveTo>
                <a:lnTo>
                  <a:pt x="1698" y="366"/>
                </a:lnTo>
                <a:lnTo>
                  <a:pt x="591" y="0"/>
                </a:lnTo>
                <a:lnTo>
                  <a:pt x="0" y="202"/>
                </a:lnTo>
                <a:lnTo>
                  <a:pt x="1002" y="710"/>
                </a:lnTo>
                <a:close/>
              </a:path>
            </a:pathLst>
          </a:custGeom>
          <a:gradFill rotWithShape="0">
            <a:gsLst>
              <a:gs pos="0">
                <a:srgbClr val="ff0517"/>
              </a:gs>
              <a:gs pos="100000">
                <a:srgbClr val="bc000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8"/>
          <p:cNvSpPr/>
          <p:nvPr/>
        </p:nvSpPr>
        <p:spPr>
          <a:xfrm>
            <a:off x="3089160" y="1339920"/>
            <a:ext cx="2519640" cy="57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912" y="25683"/>
                </a:moveTo>
                <a:lnTo>
                  <a:pt x="-722" y="4740"/>
                </a:lnTo>
              </a:path>
              <a:path w="21600" h="21600">
                <a:moveTo>
                  <a:pt x="-722" y="0"/>
                </a:moveTo>
                <a:lnTo>
                  <a:pt x="-722" y="21600"/>
                </a:lnTo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单击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9"/>
          <p:cNvSpPr/>
          <p:nvPr/>
        </p:nvSpPr>
        <p:spPr>
          <a:xfrm>
            <a:off x="5578560" y="1792440"/>
            <a:ext cx="2520720" cy="576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912" y="25683"/>
                </a:moveTo>
                <a:lnTo>
                  <a:pt x="-722" y="4740"/>
                </a:lnTo>
              </a:path>
              <a:path w="21600" h="21600">
                <a:moveTo>
                  <a:pt x="-722" y="0"/>
                </a:moveTo>
                <a:lnTo>
                  <a:pt x="-722" y="21600"/>
                </a:lnTo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单击添加段落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10"/>
          <p:cNvSpPr/>
          <p:nvPr/>
        </p:nvSpPr>
        <p:spPr>
          <a:xfrm>
            <a:off x="2025720" y="4937040"/>
            <a:ext cx="2344680" cy="57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9134" y="328"/>
                </a:moveTo>
                <a:lnTo>
                  <a:pt x="22376" y="4740"/>
                </a:lnTo>
              </a:path>
              <a:path w="21600" h="21600">
                <a:moveTo>
                  <a:pt x="22376" y="0"/>
                </a:moveTo>
                <a:lnTo>
                  <a:pt x="22376" y="21600"/>
                </a:lnTo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单击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11"/>
          <p:cNvSpPr/>
          <p:nvPr/>
        </p:nvSpPr>
        <p:spPr>
          <a:xfrm rot="12420000">
            <a:off x="4488840" y="4511160"/>
            <a:ext cx="2174760" cy="25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969696"/>
              </a:gs>
            </a:gsLst>
            <a:lin ang="145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未知"/>
          <p:cNvSpPr/>
          <p:nvPr/>
        </p:nvSpPr>
        <p:spPr>
          <a:xfrm>
            <a:off x="4654440" y="3308400"/>
            <a:ext cx="5762880" cy="2436840"/>
          </a:xfrm>
          <a:custGeom>
            <a:avLst/>
            <a:gdLst/>
            <a:ahLst/>
            <a:rect l="l" t="t" r="r" b="b"/>
            <a:pathLst>
              <a:path w="3283" h="1388">
                <a:moveTo>
                  <a:pt x="0" y="332"/>
                </a:moveTo>
                <a:lnTo>
                  <a:pt x="1065" y="869"/>
                </a:lnTo>
                <a:lnTo>
                  <a:pt x="177" y="1388"/>
                </a:lnTo>
                <a:lnTo>
                  <a:pt x="3283" y="1388"/>
                </a:lnTo>
                <a:lnTo>
                  <a:pt x="2529" y="96"/>
                </a:lnTo>
                <a:lnTo>
                  <a:pt x="1981" y="414"/>
                </a:lnTo>
                <a:lnTo>
                  <a:pt x="685" y="0"/>
                </a:lnTo>
                <a:lnTo>
                  <a:pt x="0" y="332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4d4d4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13"/>
          <p:cNvSpPr/>
          <p:nvPr/>
        </p:nvSpPr>
        <p:spPr>
          <a:xfrm rot="10800000">
            <a:off x="4957560" y="5874840"/>
            <a:ext cx="5462280" cy="352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969696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9E8E0-CA29-4753-A826-B5FDDCF8E73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图片 14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441" name="图片 13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442" name="图片 12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443" name="任意多边形 4"/>
          <p:cNvSpPr/>
          <p:nvPr/>
        </p:nvSpPr>
        <p:spPr>
          <a:xfrm>
            <a:off x="1844640" y="1343160"/>
            <a:ext cx="8170920" cy="2139840"/>
          </a:xfrm>
          <a:custGeom>
            <a:avLst/>
            <a:gdLst/>
            <a:ahLst/>
            <a:rect l="l" t="t" r="r" b="b"/>
            <a:pathLst>
              <a:path w="6634280" h="1738203">
                <a:moveTo>
                  <a:pt x="3326681" y="1342526"/>
                </a:moveTo>
                <a:lnTo>
                  <a:pt x="3324688" y="1342739"/>
                </a:lnTo>
                <a:lnTo>
                  <a:pt x="3327475" y="1344906"/>
                </a:lnTo>
                <a:lnTo>
                  <a:pt x="3326681" y="1342526"/>
                </a:lnTo>
                <a:close/>
                <a:moveTo>
                  <a:pt x="3526967" y="1321134"/>
                </a:moveTo>
                <a:lnTo>
                  <a:pt x="3519137" y="1321970"/>
                </a:lnTo>
                <a:lnTo>
                  <a:pt x="3523747" y="1325428"/>
                </a:lnTo>
                <a:lnTo>
                  <a:pt x="3523088" y="1326307"/>
                </a:lnTo>
                <a:lnTo>
                  <a:pt x="3517596" y="1340036"/>
                </a:lnTo>
                <a:lnTo>
                  <a:pt x="3536818" y="1337290"/>
                </a:lnTo>
                <a:lnTo>
                  <a:pt x="3529679" y="1330151"/>
                </a:lnTo>
                <a:lnTo>
                  <a:pt x="3528580" y="1331799"/>
                </a:lnTo>
                <a:lnTo>
                  <a:pt x="3529129" y="1329602"/>
                </a:lnTo>
                <a:lnTo>
                  <a:pt x="3528580" y="1329053"/>
                </a:lnTo>
                <a:lnTo>
                  <a:pt x="3523747" y="1325428"/>
                </a:lnTo>
                <a:lnTo>
                  <a:pt x="3526967" y="1321134"/>
                </a:lnTo>
                <a:close/>
                <a:moveTo>
                  <a:pt x="3599976" y="1298847"/>
                </a:moveTo>
                <a:lnTo>
                  <a:pt x="3575262" y="1301593"/>
                </a:lnTo>
                <a:lnTo>
                  <a:pt x="3574250" y="1301882"/>
                </a:lnTo>
                <a:lnTo>
                  <a:pt x="3577576" y="1302436"/>
                </a:lnTo>
                <a:lnTo>
                  <a:pt x="3603861" y="1299304"/>
                </a:lnTo>
                <a:lnTo>
                  <a:pt x="3599976" y="1298847"/>
                </a:lnTo>
                <a:close/>
                <a:moveTo>
                  <a:pt x="3767126" y="1295483"/>
                </a:moveTo>
                <a:lnTo>
                  <a:pt x="3755086" y="1296769"/>
                </a:lnTo>
                <a:lnTo>
                  <a:pt x="3764735" y="1301593"/>
                </a:lnTo>
                <a:lnTo>
                  <a:pt x="3765911" y="1302769"/>
                </a:lnTo>
                <a:lnTo>
                  <a:pt x="3767126" y="1295483"/>
                </a:lnTo>
                <a:close/>
                <a:moveTo>
                  <a:pt x="5384650" y="1258502"/>
                </a:moveTo>
                <a:lnTo>
                  <a:pt x="5387607" y="1265895"/>
                </a:lnTo>
                <a:lnTo>
                  <a:pt x="5393099" y="1268641"/>
                </a:lnTo>
                <a:lnTo>
                  <a:pt x="5398590" y="1271387"/>
                </a:lnTo>
                <a:lnTo>
                  <a:pt x="5404082" y="1274132"/>
                </a:lnTo>
                <a:lnTo>
                  <a:pt x="5409574" y="1279624"/>
                </a:lnTo>
                <a:lnTo>
                  <a:pt x="5412320" y="1287862"/>
                </a:lnTo>
                <a:lnTo>
                  <a:pt x="5412320" y="1296100"/>
                </a:lnTo>
                <a:lnTo>
                  <a:pt x="5409574" y="1298846"/>
                </a:lnTo>
                <a:lnTo>
                  <a:pt x="5404082" y="1307084"/>
                </a:lnTo>
                <a:lnTo>
                  <a:pt x="5401336" y="1309830"/>
                </a:lnTo>
                <a:lnTo>
                  <a:pt x="5395844" y="1309830"/>
                </a:lnTo>
                <a:lnTo>
                  <a:pt x="5393099" y="1309830"/>
                </a:lnTo>
                <a:lnTo>
                  <a:pt x="5382115" y="1307084"/>
                </a:lnTo>
                <a:lnTo>
                  <a:pt x="5373877" y="1298846"/>
                </a:lnTo>
                <a:lnTo>
                  <a:pt x="5373877" y="1287862"/>
                </a:lnTo>
                <a:lnTo>
                  <a:pt x="5376623" y="1282370"/>
                </a:lnTo>
                <a:lnTo>
                  <a:pt x="5379369" y="1276878"/>
                </a:lnTo>
                <a:lnTo>
                  <a:pt x="5382115" y="1268641"/>
                </a:lnTo>
                <a:lnTo>
                  <a:pt x="5384650" y="1258502"/>
                </a:lnTo>
                <a:close/>
                <a:moveTo>
                  <a:pt x="5382548" y="1232220"/>
                </a:moveTo>
                <a:lnTo>
                  <a:pt x="5384861" y="1257657"/>
                </a:lnTo>
                <a:lnTo>
                  <a:pt x="5384650" y="1258502"/>
                </a:lnTo>
                <a:lnTo>
                  <a:pt x="5382115" y="1252165"/>
                </a:lnTo>
                <a:lnTo>
                  <a:pt x="5382115" y="1235689"/>
                </a:lnTo>
                <a:lnTo>
                  <a:pt x="5382548" y="1232220"/>
                </a:lnTo>
                <a:close/>
                <a:moveTo>
                  <a:pt x="4338643" y="1216468"/>
                </a:moveTo>
                <a:lnTo>
                  <a:pt x="4338643" y="1219214"/>
                </a:lnTo>
                <a:lnTo>
                  <a:pt x="4338643" y="1221960"/>
                </a:lnTo>
                <a:lnTo>
                  <a:pt x="4344135" y="1219214"/>
                </a:lnTo>
                <a:lnTo>
                  <a:pt x="4344135" y="1216468"/>
                </a:lnTo>
                <a:lnTo>
                  <a:pt x="4338643" y="1216468"/>
                </a:lnTo>
                <a:close/>
                <a:moveTo>
                  <a:pt x="4300199" y="1213722"/>
                </a:moveTo>
                <a:lnTo>
                  <a:pt x="4298827" y="1215095"/>
                </a:lnTo>
                <a:lnTo>
                  <a:pt x="4300199" y="1216467"/>
                </a:lnTo>
                <a:lnTo>
                  <a:pt x="4297453" y="1219213"/>
                </a:lnTo>
                <a:lnTo>
                  <a:pt x="4297449" y="1219214"/>
                </a:lnTo>
                <a:lnTo>
                  <a:pt x="4300199" y="1219214"/>
                </a:lnTo>
                <a:lnTo>
                  <a:pt x="4305691" y="1221960"/>
                </a:lnTo>
                <a:lnTo>
                  <a:pt x="4308437" y="1224706"/>
                </a:lnTo>
                <a:lnTo>
                  <a:pt x="4311183" y="1221960"/>
                </a:lnTo>
                <a:lnTo>
                  <a:pt x="4308437" y="1221960"/>
                </a:lnTo>
                <a:lnTo>
                  <a:pt x="4308437" y="1219214"/>
                </a:lnTo>
                <a:lnTo>
                  <a:pt x="4308437" y="1216468"/>
                </a:lnTo>
                <a:lnTo>
                  <a:pt x="4302945" y="1216468"/>
                </a:lnTo>
                <a:lnTo>
                  <a:pt x="4300199" y="1213722"/>
                </a:lnTo>
                <a:close/>
                <a:moveTo>
                  <a:pt x="4492418" y="1210976"/>
                </a:moveTo>
                <a:lnTo>
                  <a:pt x="4492418" y="1213722"/>
                </a:lnTo>
                <a:lnTo>
                  <a:pt x="4497910" y="1213722"/>
                </a:lnTo>
                <a:lnTo>
                  <a:pt x="4497910" y="1210976"/>
                </a:lnTo>
                <a:lnTo>
                  <a:pt x="4492418" y="1210976"/>
                </a:lnTo>
                <a:close/>
                <a:moveTo>
                  <a:pt x="4434752" y="1199992"/>
                </a:moveTo>
                <a:lnTo>
                  <a:pt x="4429260" y="1202738"/>
                </a:lnTo>
                <a:lnTo>
                  <a:pt x="4429260" y="1208230"/>
                </a:lnTo>
                <a:lnTo>
                  <a:pt x="4434752" y="1208230"/>
                </a:lnTo>
                <a:lnTo>
                  <a:pt x="4434752" y="1199992"/>
                </a:lnTo>
                <a:close/>
                <a:moveTo>
                  <a:pt x="4404547" y="1194500"/>
                </a:moveTo>
                <a:lnTo>
                  <a:pt x="4401801" y="1197246"/>
                </a:lnTo>
                <a:lnTo>
                  <a:pt x="4401801" y="1199992"/>
                </a:lnTo>
                <a:lnTo>
                  <a:pt x="4404547" y="1199992"/>
                </a:lnTo>
                <a:lnTo>
                  <a:pt x="4412784" y="1199992"/>
                </a:lnTo>
                <a:lnTo>
                  <a:pt x="4412784" y="1194500"/>
                </a:lnTo>
                <a:lnTo>
                  <a:pt x="4404547" y="1194500"/>
                </a:lnTo>
                <a:close/>
                <a:moveTo>
                  <a:pt x="6049387" y="1158802"/>
                </a:moveTo>
                <a:lnTo>
                  <a:pt x="6054021" y="1160347"/>
                </a:lnTo>
                <a:lnTo>
                  <a:pt x="6054879" y="1161548"/>
                </a:lnTo>
                <a:lnTo>
                  <a:pt x="6049387" y="1158802"/>
                </a:lnTo>
                <a:close/>
                <a:moveTo>
                  <a:pt x="5062413" y="1157634"/>
                </a:moveTo>
                <a:lnTo>
                  <a:pt x="5057771" y="1158125"/>
                </a:lnTo>
                <a:lnTo>
                  <a:pt x="5066327" y="1161548"/>
                </a:lnTo>
                <a:lnTo>
                  <a:pt x="5062413" y="1157634"/>
                </a:lnTo>
                <a:close/>
                <a:moveTo>
                  <a:pt x="4945951" y="1148115"/>
                </a:moveTo>
                <a:lnTo>
                  <a:pt x="4904314" y="1150564"/>
                </a:lnTo>
                <a:lnTo>
                  <a:pt x="4912552" y="1156056"/>
                </a:lnTo>
                <a:lnTo>
                  <a:pt x="4923536" y="1161548"/>
                </a:lnTo>
                <a:lnTo>
                  <a:pt x="4934520" y="1161548"/>
                </a:lnTo>
                <a:lnTo>
                  <a:pt x="4945504" y="1158802"/>
                </a:lnTo>
                <a:lnTo>
                  <a:pt x="4958813" y="1155845"/>
                </a:lnTo>
                <a:lnTo>
                  <a:pt x="4953742" y="1153310"/>
                </a:lnTo>
                <a:lnTo>
                  <a:pt x="4945951" y="1148115"/>
                </a:lnTo>
                <a:close/>
                <a:moveTo>
                  <a:pt x="5014153" y="1139581"/>
                </a:moveTo>
                <a:lnTo>
                  <a:pt x="5010164" y="1140578"/>
                </a:lnTo>
                <a:lnTo>
                  <a:pt x="5019988" y="1139923"/>
                </a:lnTo>
                <a:lnTo>
                  <a:pt x="5019645" y="1139581"/>
                </a:lnTo>
                <a:lnTo>
                  <a:pt x="5014153" y="1139581"/>
                </a:lnTo>
                <a:close/>
                <a:moveTo>
                  <a:pt x="4907060" y="1136835"/>
                </a:moveTo>
                <a:lnTo>
                  <a:pt x="4909806" y="1142327"/>
                </a:lnTo>
                <a:lnTo>
                  <a:pt x="4912552" y="1142327"/>
                </a:lnTo>
                <a:lnTo>
                  <a:pt x="4915298" y="1139581"/>
                </a:lnTo>
                <a:lnTo>
                  <a:pt x="4915298" y="1136835"/>
                </a:lnTo>
                <a:lnTo>
                  <a:pt x="4907060" y="1136835"/>
                </a:lnTo>
                <a:close/>
                <a:moveTo>
                  <a:pt x="5176166" y="1131343"/>
                </a:moveTo>
                <a:lnTo>
                  <a:pt x="5176166" y="1136835"/>
                </a:lnTo>
                <a:lnTo>
                  <a:pt x="5177645" y="1139791"/>
                </a:lnTo>
                <a:lnTo>
                  <a:pt x="5178912" y="1139580"/>
                </a:lnTo>
                <a:lnTo>
                  <a:pt x="5189896" y="1136834"/>
                </a:lnTo>
                <a:lnTo>
                  <a:pt x="5189896" y="1134089"/>
                </a:lnTo>
                <a:lnTo>
                  <a:pt x="5187150" y="1134089"/>
                </a:lnTo>
                <a:lnTo>
                  <a:pt x="5181658" y="1131343"/>
                </a:lnTo>
                <a:lnTo>
                  <a:pt x="5178912" y="1131343"/>
                </a:lnTo>
                <a:lnTo>
                  <a:pt x="5176166" y="1131343"/>
                </a:lnTo>
                <a:close/>
                <a:moveTo>
                  <a:pt x="6075474" y="1129969"/>
                </a:moveTo>
                <a:lnTo>
                  <a:pt x="6076847" y="1131342"/>
                </a:lnTo>
                <a:lnTo>
                  <a:pt x="6079593" y="1136834"/>
                </a:lnTo>
                <a:lnTo>
                  <a:pt x="6079593" y="1142326"/>
                </a:lnTo>
                <a:lnTo>
                  <a:pt x="6076847" y="1134088"/>
                </a:lnTo>
                <a:lnTo>
                  <a:pt x="6075474" y="1129969"/>
                </a:lnTo>
                <a:close/>
                <a:moveTo>
                  <a:pt x="5104771" y="1128597"/>
                </a:moveTo>
                <a:lnTo>
                  <a:pt x="5104771" y="1130884"/>
                </a:lnTo>
                <a:lnTo>
                  <a:pt x="5115753" y="1129969"/>
                </a:lnTo>
                <a:lnTo>
                  <a:pt x="5113009" y="1128597"/>
                </a:lnTo>
                <a:lnTo>
                  <a:pt x="5104771" y="1128597"/>
                </a:lnTo>
                <a:close/>
                <a:moveTo>
                  <a:pt x="5093787" y="1128597"/>
                </a:moveTo>
                <a:lnTo>
                  <a:pt x="5092011" y="1132149"/>
                </a:lnTo>
                <a:lnTo>
                  <a:pt x="5096807" y="1131617"/>
                </a:lnTo>
                <a:lnTo>
                  <a:pt x="5093787" y="1128597"/>
                </a:lnTo>
                <a:close/>
                <a:moveTo>
                  <a:pt x="5140468" y="1123105"/>
                </a:moveTo>
                <a:lnTo>
                  <a:pt x="5137723" y="1128596"/>
                </a:lnTo>
                <a:lnTo>
                  <a:pt x="5145961" y="1131342"/>
                </a:lnTo>
                <a:lnTo>
                  <a:pt x="5151452" y="1136833"/>
                </a:lnTo>
                <a:lnTo>
                  <a:pt x="5151452" y="1128597"/>
                </a:lnTo>
                <a:lnTo>
                  <a:pt x="5145960" y="1125851"/>
                </a:lnTo>
                <a:lnTo>
                  <a:pt x="5140468" y="1123105"/>
                </a:lnTo>
                <a:close/>
                <a:moveTo>
                  <a:pt x="5121247" y="1123105"/>
                </a:moveTo>
                <a:lnTo>
                  <a:pt x="5121247" y="1128597"/>
                </a:lnTo>
                <a:lnTo>
                  <a:pt x="5120249" y="1129594"/>
                </a:lnTo>
                <a:lnTo>
                  <a:pt x="5128465" y="1128910"/>
                </a:lnTo>
                <a:lnTo>
                  <a:pt x="5129485" y="1125851"/>
                </a:lnTo>
                <a:lnTo>
                  <a:pt x="5126739" y="1125851"/>
                </a:lnTo>
                <a:lnTo>
                  <a:pt x="5123993" y="1125851"/>
                </a:lnTo>
                <a:lnTo>
                  <a:pt x="5121247" y="1123105"/>
                </a:lnTo>
                <a:close/>
                <a:moveTo>
                  <a:pt x="6046642" y="1120359"/>
                </a:moveTo>
                <a:lnTo>
                  <a:pt x="6047557" y="1120359"/>
                </a:lnTo>
                <a:lnTo>
                  <a:pt x="6046642" y="1123104"/>
                </a:lnTo>
                <a:lnTo>
                  <a:pt x="6043896" y="1134088"/>
                </a:lnTo>
                <a:lnTo>
                  <a:pt x="6079593" y="1142326"/>
                </a:lnTo>
                <a:lnTo>
                  <a:pt x="6076847" y="1150564"/>
                </a:lnTo>
                <a:lnTo>
                  <a:pt x="6071355" y="1156056"/>
                </a:lnTo>
                <a:lnTo>
                  <a:pt x="6065863" y="1161548"/>
                </a:lnTo>
                <a:lnTo>
                  <a:pt x="6057625" y="1161548"/>
                </a:lnTo>
                <a:lnTo>
                  <a:pt x="6054021" y="1160347"/>
                </a:lnTo>
                <a:lnTo>
                  <a:pt x="6041150" y="1142326"/>
                </a:lnTo>
                <a:lnTo>
                  <a:pt x="6043896" y="1153310"/>
                </a:lnTo>
                <a:lnTo>
                  <a:pt x="6049387" y="1158802"/>
                </a:lnTo>
                <a:lnTo>
                  <a:pt x="6041150" y="1156056"/>
                </a:lnTo>
                <a:lnTo>
                  <a:pt x="6035658" y="1147818"/>
                </a:lnTo>
                <a:lnTo>
                  <a:pt x="6032912" y="1142326"/>
                </a:lnTo>
                <a:lnTo>
                  <a:pt x="6035658" y="1134088"/>
                </a:lnTo>
                <a:lnTo>
                  <a:pt x="6041150" y="1125850"/>
                </a:lnTo>
                <a:lnTo>
                  <a:pt x="6046642" y="1120359"/>
                </a:lnTo>
                <a:close/>
                <a:moveTo>
                  <a:pt x="5318957" y="1117613"/>
                </a:moveTo>
                <a:lnTo>
                  <a:pt x="5324449" y="1117613"/>
                </a:lnTo>
                <a:lnTo>
                  <a:pt x="5329941" y="1117613"/>
                </a:lnTo>
                <a:lnTo>
                  <a:pt x="5338179" y="1120359"/>
                </a:lnTo>
                <a:lnTo>
                  <a:pt x="5354655" y="1128597"/>
                </a:lnTo>
                <a:lnTo>
                  <a:pt x="5294243" y="1134089"/>
                </a:lnTo>
                <a:lnTo>
                  <a:pt x="5318957" y="1120359"/>
                </a:lnTo>
                <a:lnTo>
                  <a:pt x="5318957" y="1117613"/>
                </a:lnTo>
                <a:close/>
                <a:moveTo>
                  <a:pt x="4901568" y="1117613"/>
                </a:moveTo>
                <a:lnTo>
                  <a:pt x="4885093" y="1120359"/>
                </a:lnTo>
                <a:lnTo>
                  <a:pt x="4868617" y="1123105"/>
                </a:lnTo>
                <a:lnTo>
                  <a:pt x="4835665" y="1136835"/>
                </a:lnTo>
                <a:lnTo>
                  <a:pt x="4805459" y="1150564"/>
                </a:lnTo>
                <a:lnTo>
                  <a:pt x="4799967" y="1147819"/>
                </a:lnTo>
                <a:lnTo>
                  <a:pt x="4794475" y="1145073"/>
                </a:lnTo>
                <a:lnTo>
                  <a:pt x="4788983" y="1145073"/>
                </a:lnTo>
                <a:lnTo>
                  <a:pt x="4780745" y="1153310"/>
                </a:lnTo>
                <a:lnTo>
                  <a:pt x="4775253" y="1158802"/>
                </a:lnTo>
                <a:lnTo>
                  <a:pt x="4775253" y="1167040"/>
                </a:lnTo>
                <a:lnTo>
                  <a:pt x="4777999" y="1172532"/>
                </a:lnTo>
                <a:lnTo>
                  <a:pt x="4783491" y="1172532"/>
                </a:lnTo>
                <a:lnTo>
                  <a:pt x="4791729" y="1175278"/>
                </a:lnTo>
                <a:lnTo>
                  <a:pt x="4805459" y="1175278"/>
                </a:lnTo>
                <a:lnTo>
                  <a:pt x="4816443" y="1175278"/>
                </a:lnTo>
                <a:lnTo>
                  <a:pt x="4810951" y="1167040"/>
                </a:lnTo>
                <a:lnTo>
                  <a:pt x="4810951" y="1161548"/>
                </a:lnTo>
                <a:lnTo>
                  <a:pt x="4810951" y="1158802"/>
                </a:lnTo>
                <a:lnTo>
                  <a:pt x="4827427" y="1156056"/>
                </a:lnTo>
                <a:lnTo>
                  <a:pt x="4841157" y="1153310"/>
                </a:lnTo>
                <a:lnTo>
                  <a:pt x="4852141" y="1150564"/>
                </a:lnTo>
                <a:lnTo>
                  <a:pt x="4863125" y="1147819"/>
                </a:lnTo>
                <a:lnTo>
                  <a:pt x="4865871" y="1147819"/>
                </a:lnTo>
                <a:lnTo>
                  <a:pt x="4865871" y="1150564"/>
                </a:lnTo>
                <a:lnTo>
                  <a:pt x="4868617" y="1150564"/>
                </a:lnTo>
                <a:lnTo>
                  <a:pt x="4876855" y="1156056"/>
                </a:lnTo>
                <a:lnTo>
                  <a:pt x="4879601" y="1156056"/>
                </a:lnTo>
                <a:lnTo>
                  <a:pt x="4885093" y="1156056"/>
                </a:lnTo>
                <a:lnTo>
                  <a:pt x="4893330" y="1147819"/>
                </a:lnTo>
                <a:lnTo>
                  <a:pt x="4904314" y="1134089"/>
                </a:lnTo>
                <a:lnTo>
                  <a:pt x="4909806" y="1128597"/>
                </a:lnTo>
                <a:lnTo>
                  <a:pt x="4918044" y="1123105"/>
                </a:lnTo>
                <a:lnTo>
                  <a:pt x="4926282" y="1123105"/>
                </a:lnTo>
                <a:lnTo>
                  <a:pt x="4918044" y="1120359"/>
                </a:lnTo>
                <a:lnTo>
                  <a:pt x="4901568" y="1117613"/>
                </a:lnTo>
                <a:close/>
                <a:moveTo>
                  <a:pt x="5011407" y="1103883"/>
                </a:moveTo>
                <a:lnTo>
                  <a:pt x="5008661" y="1106629"/>
                </a:lnTo>
                <a:lnTo>
                  <a:pt x="5011407" y="1109375"/>
                </a:lnTo>
                <a:lnTo>
                  <a:pt x="5011407" y="1112121"/>
                </a:lnTo>
                <a:lnTo>
                  <a:pt x="5014153" y="1109375"/>
                </a:lnTo>
                <a:lnTo>
                  <a:pt x="5016899" y="1109375"/>
                </a:lnTo>
                <a:lnTo>
                  <a:pt x="5016899" y="1106629"/>
                </a:lnTo>
                <a:lnTo>
                  <a:pt x="5016899" y="1103883"/>
                </a:lnTo>
                <a:lnTo>
                  <a:pt x="5011407" y="1103883"/>
                </a:lnTo>
                <a:close/>
                <a:moveTo>
                  <a:pt x="5052597" y="1095645"/>
                </a:moveTo>
                <a:lnTo>
                  <a:pt x="5049851" y="1098391"/>
                </a:lnTo>
                <a:lnTo>
                  <a:pt x="5055343" y="1101137"/>
                </a:lnTo>
                <a:lnTo>
                  <a:pt x="5060835" y="1101137"/>
                </a:lnTo>
                <a:lnTo>
                  <a:pt x="5060835" y="1098391"/>
                </a:lnTo>
                <a:lnTo>
                  <a:pt x="5063581" y="1098391"/>
                </a:lnTo>
                <a:lnTo>
                  <a:pt x="5063581" y="1095645"/>
                </a:lnTo>
                <a:lnTo>
                  <a:pt x="5058089" y="1098391"/>
                </a:lnTo>
                <a:lnTo>
                  <a:pt x="5058089" y="1095645"/>
                </a:lnTo>
                <a:lnTo>
                  <a:pt x="5052597" y="1095645"/>
                </a:lnTo>
                <a:close/>
                <a:moveTo>
                  <a:pt x="5151452" y="1094272"/>
                </a:moveTo>
                <a:lnTo>
                  <a:pt x="5151452" y="1095645"/>
                </a:lnTo>
                <a:lnTo>
                  <a:pt x="5148706" y="1095645"/>
                </a:lnTo>
                <a:lnTo>
                  <a:pt x="5151452" y="1094272"/>
                </a:lnTo>
                <a:close/>
                <a:moveTo>
                  <a:pt x="2746" y="1092899"/>
                </a:moveTo>
                <a:lnTo>
                  <a:pt x="10984" y="1092899"/>
                </a:lnTo>
                <a:lnTo>
                  <a:pt x="21968" y="1092899"/>
                </a:lnTo>
                <a:lnTo>
                  <a:pt x="0" y="1095645"/>
                </a:lnTo>
                <a:lnTo>
                  <a:pt x="2746" y="1092899"/>
                </a:lnTo>
                <a:close/>
                <a:moveTo>
                  <a:pt x="5398590" y="1092899"/>
                </a:moveTo>
                <a:lnTo>
                  <a:pt x="5398590" y="1095645"/>
                </a:lnTo>
                <a:lnTo>
                  <a:pt x="5401336" y="1095645"/>
                </a:lnTo>
                <a:lnTo>
                  <a:pt x="5398590" y="1092899"/>
                </a:lnTo>
                <a:close/>
                <a:moveTo>
                  <a:pt x="5601793" y="1090153"/>
                </a:moveTo>
                <a:lnTo>
                  <a:pt x="5640236" y="1090153"/>
                </a:lnTo>
                <a:lnTo>
                  <a:pt x="5670442" y="1095645"/>
                </a:lnTo>
                <a:lnTo>
                  <a:pt x="5535889" y="1109375"/>
                </a:lnTo>
                <a:lnTo>
                  <a:pt x="5549619" y="1101137"/>
                </a:lnTo>
                <a:lnTo>
                  <a:pt x="5566095" y="1095645"/>
                </a:lnTo>
                <a:lnTo>
                  <a:pt x="5582571" y="1092899"/>
                </a:lnTo>
                <a:lnTo>
                  <a:pt x="5601793" y="1090153"/>
                </a:lnTo>
                <a:close/>
                <a:moveTo>
                  <a:pt x="5848573" y="1088123"/>
                </a:moveTo>
                <a:lnTo>
                  <a:pt x="5846185" y="1092899"/>
                </a:lnTo>
                <a:lnTo>
                  <a:pt x="5845636" y="1093997"/>
                </a:lnTo>
                <a:lnTo>
                  <a:pt x="5840693" y="1095645"/>
                </a:lnTo>
                <a:lnTo>
                  <a:pt x="5843439" y="1098391"/>
                </a:lnTo>
                <a:lnTo>
                  <a:pt x="5845636" y="1093997"/>
                </a:lnTo>
                <a:lnTo>
                  <a:pt x="5860112" y="1089172"/>
                </a:lnTo>
                <a:lnTo>
                  <a:pt x="5848573" y="1088123"/>
                </a:lnTo>
                <a:close/>
                <a:moveTo>
                  <a:pt x="5703394" y="1084661"/>
                </a:moveTo>
                <a:lnTo>
                  <a:pt x="5711632" y="1087407"/>
                </a:lnTo>
                <a:lnTo>
                  <a:pt x="5722616" y="1090153"/>
                </a:lnTo>
                <a:lnTo>
                  <a:pt x="5689664" y="1092899"/>
                </a:lnTo>
                <a:lnTo>
                  <a:pt x="5695156" y="1087407"/>
                </a:lnTo>
                <a:lnTo>
                  <a:pt x="5703394" y="1084661"/>
                </a:lnTo>
                <a:close/>
                <a:moveTo>
                  <a:pt x="5261291" y="1081915"/>
                </a:moveTo>
                <a:lnTo>
                  <a:pt x="5264037" y="1084661"/>
                </a:lnTo>
                <a:lnTo>
                  <a:pt x="5261291" y="1087407"/>
                </a:lnTo>
                <a:lnTo>
                  <a:pt x="5261291" y="1081915"/>
                </a:lnTo>
                <a:close/>
                <a:moveTo>
                  <a:pt x="5091041" y="1079169"/>
                </a:moveTo>
                <a:lnTo>
                  <a:pt x="5091041" y="1084661"/>
                </a:lnTo>
                <a:lnTo>
                  <a:pt x="5096533" y="1084661"/>
                </a:lnTo>
                <a:lnTo>
                  <a:pt x="5096533" y="1079169"/>
                </a:lnTo>
                <a:lnTo>
                  <a:pt x="5093787" y="1079169"/>
                </a:lnTo>
                <a:lnTo>
                  <a:pt x="5091041" y="1079169"/>
                </a:lnTo>
                <a:close/>
                <a:moveTo>
                  <a:pt x="5132230" y="1068185"/>
                </a:moveTo>
                <a:lnTo>
                  <a:pt x="5129485" y="1070931"/>
                </a:lnTo>
                <a:lnTo>
                  <a:pt x="5129485" y="1073677"/>
                </a:lnTo>
                <a:lnTo>
                  <a:pt x="5126739" y="1079169"/>
                </a:lnTo>
                <a:lnTo>
                  <a:pt x="5126739" y="1076423"/>
                </a:lnTo>
                <a:lnTo>
                  <a:pt x="5121247" y="1076423"/>
                </a:lnTo>
                <a:lnTo>
                  <a:pt x="5121247" y="1081915"/>
                </a:lnTo>
                <a:lnTo>
                  <a:pt x="5118501" y="1081915"/>
                </a:lnTo>
                <a:lnTo>
                  <a:pt x="5115755" y="1084661"/>
                </a:lnTo>
                <a:lnTo>
                  <a:pt x="5113009" y="1084661"/>
                </a:lnTo>
                <a:lnTo>
                  <a:pt x="5113009" y="1087407"/>
                </a:lnTo>
                <a:lnTo>
                  <a:pt x="5115755" y="1090153"/>
                </a:lnTo>
                <a:lnTo>
                  <a:pt x="5118501" y="1095645"/>
                </a:lnTo>
                <a:lnTo>
                  <a:pt x="5110263" y="1092899"/>
                </a:lnTo>
                <a:lnTo>
                  <a:pt x="5104771" y="1090153"/>
                </a:lnTo>
                <a:lnTo>
                  <a:pt x="5102025" y="1092899"/>
                </a:lnTo>
                <a:lnTo>
                  <a:pt x="5102025" y="1103883"/>
                </a:lnTo>
                <a:lnTo>
                  <a:pt x="5102025" y="1112121"/>
                </a:lnTo>
                <a:lnTo>
                  <a:pt x="5099279" y="1112121"/>
                </a:lnTo>
                <a:lnTo>
                  <a:pt x="5099279" y="1114867"/>
                </a:lnTo>
                <a:lnTo>
                  <a:pt x="5096533" y="1112121"/>
                </a:lnTo>
                <a:lnTo>
                  <a:pt x="5096533" y="1103883"/>
                </a:lnTo>
                <a:lnTo>
                  <a:pt x="5099279" y="1095645"/>
                </a:lnTo>
                <a:lnTo>
                  <a:pt x="5088295" y="1095645"/>
                </a:lnTo>
                <a:lnTo>
                  <a:pt x="5080057" y="1095645"/>
                </a:lnTo>
                <a:lnTo>
                  <a:pt x="5071819" y="1101137"/>
                </a:lnTo>
                <a:lnTo>
                  <a:pt x="5063581" y="1103883"/>
                </a:lnTo>
                <a:lnTo>
                  <a:pt x="5069073" y="1109375"/>
                </a:lnTo>
                <a:lnTo>
                  <a:pt x="5074565" y="1114867"/>
                </a:lnTo>
                <a:lnTo>
                  <a:pt x="5074565" y="1112121"/>
                </a:lnTo>
                <a:lnTo>
                  <a:pt x="5074565" y="1109375"/>
                </a:lnTo>
                <a:lnTo>
                  <a:pt x="5082803" y="1106629"/>
                </a:lnTo>
                <a:lnTo>
                  <a:pt x="5091041" y="1106629"/>
                </a:lnTo>
                <a:lnTo>
                  <a:pt x="5093787" y="1109375"/>
                </a:lnTo>
                <a:lnTo>
                  <a:pt x="5093787" y="1112121"/>
                </a:lnTo>
                <a:lnTo>
                  <a:pt x="5088295" y="1112121"/>
                </a:lnTo>
                <a:lnTo>
                  <a:pt x="5082803" y="1114867"/>
                </a:lnTo>
                <a:lnTo>
                  <a:pt x="5082803" y="1117613"/>
                </a:lnTo>
                <a:lnTo>
                  <a:pt x="5049851" y="1112121"/>
                </a:lnTo>
                <a:lnTo>
                  <a:pt x="5033375" y="1112121"/>
                </a:lnTo>
                <a:lnTo>
                  <a:pt x="5025137" y="1114867"/>
                </a:lnTo>
                <a:lnTo>
                  <a:pt x="5016899" y="1120359"/>
                </a:lnTo>
                <a:lnTo>
                  <a:pt x="5025137" y="1123105"/>
                </a:lnTo>
                <a:lnTo>
                  <a:pt x="5030629" y="1125851"/>
                </a:lnTo>
                <a:lnTo>
                  <a:pt x="5033375" y="1134089"/>
                </a:lnTo>
                <a:lnTo>
                  <a:pt x="5034748" y="1139580"/>
                </a:lnTo>
                <a:lnTo>
                  <a:pt x="5038867" y="1139580"/>
                </a:lnTo>
                <a:lnTo>
                  <a:pt x="5036121" y="1145072"/>
                </a:lnTo>
                <a:lnTo>
                  <a:pt x="5036121" y="1145072"/>
                </a:lnTo>
                <a:lnTo>
                  <a:pt x="5036121" y="1145073"/>
                </a:lnTo>
                <a:lnTo>
                  <a:pt x="5042006" y="1141149"/>
                </a:lnTo>
                <a:lnTo>
                  <a:pt x="5038867" y="1139580"/>
                </a:lnTo>
                <a:lnTo>
                  <a:pt x="5049851" y="1131342"/>
                </a:lnTo>
                <a:lnTo>
                  <a:pt x="5063581" y="1128596"/>
                </a:lnTo>
                <a:lnTo>
                  <a:pt x="5069073" y="1131342"/>
                </a:lnTo>
                <a:lnTo>
                  <a:pt x="5069074" y="1131342"/>
                </a:lnTo>
                <a:lnTo>
                  <a:pt x="5088295" y="1128597"/>
                </a:lnTo>
                <a:lnTo>
                  <a:pt x="5104771" y="1125851"/>
                </a:lnTo>
                <a:lnTo>
                  <a:pt x="5110263" y="1123105"/>
                </a:lnTo>
                <a:lnTo>
                  <a:pt x="5118501" y="1117613"/>
                </a:lnTo>
                <a:lnTo>
                  <a:pt x="5126739" y="1112121"/>
                </a:lnTo>
                <a:lnTo>
                  <a:pt x="5107517" y="1117613"/>
                </a:lnTo>
                <a:lnTo>
                  <a:pt x="5104771" y="1112121"/>
                </a:lnTo>
                <a:lnTo>
                  <a:pt x="5118501" y="1112121"/>
                </a:lnTo>
                <a:lnTo>
                  <a:pt x="5118501" y="1103883"/>
                </a:lnTo>
                <a:lnTo>
                  <a:pt x="5118501" y="1101137"/>
                </a:lnTo>
                <a:lnTo>
                  <a:pt x="5118501" y="1095645"/>
                </a:lnTo>
                <a:lnTo>
                  <a:pt x="5123993" y="1095645"/>
                </a:lnTo>
                <a:lnTo>
                  <a:pt x="5126739" y="1098391"/>
                </a:lnTo>
                <a:lnTo>
                  <a:pt x="5132230" y="1098391"/>
                </a:lnTo>
                <a:lnTo>
                  <a:pt x="5134976" y="1095645"/>
                </a:lnTo>
                <a:lnTo>
                  <a:pt x="5134976" y="1092899"/>
                </a:lnTo>
                <a:lnTo>
                  <a:pt x="5129485" y="1092899"/>
                </a:lnTo>
                <a:lnTo>
                  <a:pt x="5129485" y="1087407"/>
                </a:lnTo>
                <a:lnTo>
                  <a:pt x="5134976" y="1087407"/>
                </a:lnTo>
                <a:lnTo>
                  <a:pt x="5137722" y="1087407"/>
                </a:lnTo>
                <a:lnTo>
                  <a:pt x="5140468" y="1087407"/>
                </a:lnTo>
                <a:lnTo>
                  <a:pt x="5143214" y="1087407"/>
                </a:lnTo>
                <a:lnTo>
                  <a:pt x="5145960" y="1084661"/>
                </a:lnTo>
                <a:lnTo>
                  <a:pt x="5143214" y="1081915"/>
                </a:lnTo>
                <a:lnTo>
                  <a:pt x="5143214" y="1079169"/>
                </a:lnTo>
                <a:lnTo>
                  <a:pt x="5143214" y="1073677"/>
                </a:lnTo>
                <a:lnTo>
                  <a:pt x="5137722" y="1070931"/>
                </a:lnTo>
                <a:lnTo>
                  <a:pt x="5132230" y="1068185"/>
                </a:lnTo>
                <a:close/>
                <a:moveTo>
                  <a:pt x="5266783" y="1065439"/>
                </a:moveTo>
                <a:lnTo>
                  <a:pt x="5266783" y="1070931"/>
                </a:lnTo>
                <a:lnTo>
                  <a:pt x="5269529" y="1073677"/>
                </a:lnTo>
                <a:lnTo>
                  <a:pt x="5272275" y="1076423"/>
                </a:lnTo>
                <a:lnTo>
                  <a:pt x="5272275" y="1081915"/>
                </a:lnTo>
                <a:lnTo>
                  <a:pt x="5280513" y="1081915"/>
                </a:lnTo>
                <a:lnTo>
                  <a:pt x="5280513" y="1076423"/>
                </a:lnTo>
                <a:lnTo>
                  <a:pt x="5277767" y="1073677"/>
                </a:lnTo>
                <a:lnTo>
                  <a:pt x="5275021" y="1070931"/>
                </a:lnTo>
                <a:lnTo>
                  <a:pt x="5275021" y="1065439"/>
                </a:lnTo>
                <a:lnTo>
                  <a:pt x="5266783" y="1065439"/>
                </a:lnTo>
                <a:close/>
                <a:moveTo>
                  <a:pt x="5206372" y="1065439"/>
                </a:moveTo>
                <a:lnTo>
                  <a:pt x="5200880" y="1068185"/>
                </a:lnTo>
                <a:lnTo>
                  <a:pt x="5198134" y="1070931"/>
                </a:lnTo>
                <a:lnTo>
                  <a:pt x="5198134" y="1076423"/>
                </a:lnTo>
                <a:lnTo>
                  <a:pt x="5203626" y="1081915"/>
                </a:lnTo>
                <a:lnTo>
                  <a:pt x="5209118" y="1084661"/>
                </a:lnTo>
                <a:lnTo>
                  <a:pt x="5214610" y="1084661"/>
                </a:lnTo>
                <a:lnTo>
                  <a:pt x="5217356" y="1084661"/>
                </a:lnTo>
                <a:lnTo>
                  <a:pt x="5217356" y="1068185"/>
                </a:lnTo>
                <a:lnTo>
                  <a:pt x="5209118" y="1068185"/>
                </a:lnTo>
                <a:lnTo>
                  <a:pt x="5206372" y="1065439"/>
                </a:lnTo>
                <a:close/>
                <a:moveTo>
                  <a:pt x="5069073" y="1059947"/>
                </a:moveTo>
                <a:lnTo>
                  <a:pt x="5069073" y="1062693"/>
                </a:lnTo>
                <a:lnTo>
                  <a:pt x="5071819" y="1065439"/>
                </a:lnTo>
                <a:lnTo>
                  <a:pt x="5077311" y="1068185"/>
                </a:lnTo>
                <a:lnTo>
                  <a:pt x="5080057" y="1065439"/>
                </a:lnTo>
                <a:lnTo>
                  <a:pt x="5080057" y="1062693"/>
                </a:lnTo>
                <a:lnTo>
                  <a:pt x="5077311" y="1059947"/>
                </a:lnTo>
                <a:lnTo>
                  <a:pt x="5071819" y="1059947"/>
                </a:lnTo>
                <a:lnTo>
                  <a:pt x="5069073" y="1059947"/>
                </a:lnTo>
                <a:close/>
                <a:moveTo>
                  <a:pt x="5390352" y="1057201"/>
                </a:moveTo>
                <a:lnTo>
                  <a:pt x="5382114" y="1059947"/>
                </a:lnTo>
                <a:lnTo>
                  <a:pt x="5384860" y="1070931"/>
                </a:lnTo>
                <a:lnTo>
                  <a:pt x="5387606" y="1076423"/>
                </a:lnTo>
                <a:lnTo>
                  <a:pt x="5387606" y="1084661"/>
                </a:lnTo>
                <a:lnTo>
                  <a:pt x="5401336" y="1087407"/>
                </a:lnTo>
                <a:lnTo>
                  <a:pt x="5415066" y="1084661"/>
                </a:lnTo>
                <a:lnTo>
                  <a:pt x="5415066" y="1073677"/>
                </a:lnTo>
                <a:lnTo>
                  <a:pt x="5412320" y="1073677"/>
                </a:lnTo>
                <a:lnTo>
                  <a:pt x="5409574" y="1070931"/>
                </a:lnTo>
                <a:lnTo>
                  <a:pt x="5412320" y="1062693"/>
                </a:lnTo>
                <a:lnTo>
                  <a:pt x="5406828" y="1059947"/>
                </a:lnTo>
                <a:lnTo>
                  <a:pt x="5404082" y="1057201"/>
                </a:lnTo>
                <a:lnTo>
                  <a:pt x="5390352" y="1057201"/>
                </a:lnTo>
                <a:close/>
                <a:moveTo>
                  <a:pt x="5302481" y="1057201"/>
                </a:moveTo>
                <a:lnTo>
                  <a:pt x="5296989" y="1059947"/>
                </a:lnTo>
                <a:lnTo>
                  <a:pt x="5296989" y="1065439"/>
                </a:lnTo>
                <a:lnTo>
                  <a:pt x="5302481" y="1062693"/>
                </a:lnTo>
                <a:lnTo>
                  <a:pt x="5302481" y="1057201"/>
                </a:lnTo>
                <a:close/>
                <a:moveTo>
                  <a:pt x="5220102" y="1057201"/>
                </a:moveTo>
                <a:lnTo>
                  <a:pt x="5217356" y="1059947"/>
                </a:lnTo>
                <a:lnTo>
                  <a:pt x="5217356" y="1065439"/>
                </a:lnTo>
                <a:lnTo>
                  <a:pt x="5222848" y="1065439"/>
                </a:lnTo>
                <a:lnTo>
                  <a:pt x="5222848" y="1059947"/>
                </a:lnTo>
                <a:lnTo>
                  <a:pt x="5225594" y="1059947"/>
                </a:lnTo>
                <a:lnTo>
                  <a:pt x="5225594" y="1057201"/>
                </a:lnTo>
                <a:lnTo>
                  <a:pt x="5222848" y="1057201"/>
                </a:lnTo>
                <a:lnTo>
                  <a:pt x="5220102" y="1057201"/>
                </a:lnTo>
                <a:close/>
                <a:moveTo>
                  <a:pt x="6050990" y="1055027"/>
                </a:moveTo>
                <a:lnTo>
                  <a:pt x="5826635" y="1077772"/>
                </a:lnTo>
                <a:lnTo>
                  <a:pt x="5846185" y="1079169"/>
                </a:lnTo>
                <a:lnTo>
                  <a:pt x="5881883" y="1076423"/>
                </a:lnTo>
                <a:lnTo>
                  <a:pt x="5917580" y="1070931"/>
                </a:lnTo>
                <a:lnTo>
                  <a:pt x="5956024" y="1065439"/>
                </a:lnTo>
                <a:lnTo>
                  <a:pt x="5983484" y="1062693"/>
                </a:lnTo>
                <a:lnTo>
                  <a:pt x="6008198" y="1062693"/>
                </a:lnTo>
                <a:lnTo>
                  <a:pt x="6032912" y="1059947"/>
                </a:lnTo>
                <a:lnTo>
                  <a:pt x="6046642" y="1057201"/>
                </a:lnTo>
                <a:lnTo>
                  <a:pt x="6050990" y="1055027"/>
                </a:lnTo>
                <a:close/>
                <a:moveTo>
                  <a:pt x="5209118" y="1051709"/>
                </a:moveTo>
                <a:lnTo>
                  <a:pt x="5206372" y="1054455"/>
                </a:lnTo>
                <a:lnTo>
                  <a:pt x="5200880" y="1054455"/>
                </a:lnTo>
                <a:lnTo>
                  <a:pt x="5195388" y="1057201"/>
                </a:lnTo>
                <a:lnTo>
                  <a:pt x="5192642" y="1062693"/>
                </a:lnTo>
                <a:lnTo>
                  <a:pt x="5209118" y="1062693"/>
                </a:lnTo>
                <a:lnTo>
                  <a:pt x="5211864" y="1059947"/>
                </a:lnTo>
                <a:lnTo>
                  <a:pt x="5211864" y="1057201"/>
                </a:lnTo>
                <a:lnTo>
                  <a:pt x="5209118" y="1051709"/>
                </a:lnTo>
                <a:close/>
                <a:moveTo>
                  <a:pt x="5187150" y="1051709"/>
                </a:moveTo>
                <a:lnTo>
                  <a:pt x="5187150" y="1057201"/>
                </a:lnTo>
                <a:lnTo>
                  <a:pt x="5192642" y="1057201"/>
                </a:lnTo>
                <a:lnTo>
                  <a:pt x="5192642" y="1051709"/>
                </a:lnTo>
                <a:lnTo>
                  <a:pt x="5187150" y="1051709"/>
                </a:lnTo>
                <a:close/>
                <a:moveTo>
                  <a:pt x="5118501" y="1051709"/>
                </a:moveTo>
                <a:lnTo>
                  <a:pt x="5121247" y="1057201"/>
                </a:lnTo>
                <a:lnTo>
                  <a:pt x="5126739" y="1057201"/>
                </a:lnTo>
                <a:lnTo>
                  <a:pt x="5123993" y="1051709"/>
                </a:lnTo>
                <a:lnTo>
                  <a:pt x="5118501" y="1051709"/>
                </a:lnTo>
                <a:close/>
                <a:moveTo>
                  <a:pt x="5480970" y="1048963"/>
                </a:moveTo>
                <a:lnTo>
                  <a:pt x="5478224" y="1051709"/>
                </a:lnTo>
                <a:lnTo>
                  <a:pt x="5478224" y="1054455"/>
                </a:lnTo>
                <a:lnTo>
                  <a:pt x="5480970" y="1057201"/>
                </a:lnTo>
                <a:lnTo>
                  <a:pt x="5483716" y="1057201"/>
                </a:lnTo>
                <a:lnTo>
                  <a:pt x="5486462" y="1057201"/>
                </a:lnTo>
                <a:lnTo>
                  <a:pt x="5486462" y="1051709"/>
                </a:lnTo>
                <a:lnTo>
                  <a:pt x="5486462" y="1048963"/>
                </a:lnTo>
                <a:lnTo>
                  <a:pt x="5480970" y="1048963"/>
                </a:lnTo>
                <a:close/>
                <a:moveTo>
                  <a:pt x="5091041" y="1043471"/>
                </a:moveTo>
                <a:lnTo>
                  <a:pt x="5088295" y="1046217"/>
                </a:lnTo>
                <a:lnTo>
                  <a:pt x="5088295" y="1054455"/>
                </a:lnTo>
                <a:lnTo>
                  <a:pt x="5093787" y="1054455"/>
                </a:lnTo>
                <a:lnTo>
                  <a:pt x="5096533" y="1057201"/>
                </a:lnTo>
                <a:lnTo>
                  <a:pt x="5099279" y="1057201"/>
                </a:lnTo>
                <a:lnTo>
                  <a:pt x="5099279" y="1046217"/>
                </a:lnTo>
                <a:lnTo>
                  <a:pt x="5096533" y="1046217"/>
                </a:lnTo>
                <a:lnTo>
                  <a:pt x="5093787" y="1046217"/>
                </a:lnTo>
                <a:lnTo>
                  <a:pt x="5093787" y="1043471"/>
                </a:lnTo>
                <a:lnTo>
                  <a:pt x="5091041" y="1043471"/>
                </a:lnTo>
                <a:close/>
                <a:moveTo>
                  <a:pt x="5264037" y="1040725"/>
                </a:moveTo>
                <a:lnTo>
                  <a:pt x="5261291" y="1048963"/>
                </a:lnTo>
                <a:lnTo>
                  <a:pt x="5261291" y="1057201"/>
                </a:lnTo>
                <a:lnTo>
                  <a:pt x="5266783" y="1057201"/>
                </a:lnTo>
                <a:lnTo>
                  <a:pt x="5266783" y="1054455"/>
                </a:lnTo>
                <a:lnTo>
                  <a:pt x="5272275" y="1054455"/>
                </a:lnTo>
                <a:lnTo>
                  <a:pt x="5272275" y="1043471"/>
                </a:lnTo>
                <a:lnTo>
                  <a:pt x="5269529" y="1040725"/>
                </a:lnTo>
                <a:lnTo>
                  <a:pt x="5264037" y="1040725"/>
                </a:lnTo>
                <a:close/>
                <a:moveTo>
                  <a:pt x="5250308" y="1040725"/>
                </a:moveTo>
                <a:lnTo>
                  <a:pt x="5250308" y="1043471"/>
                </a:lnTo>
                <a:lnTo>
                  <a:pt x="5253053" y="1043471"/>
                </a:lnTo>
                <a:lnTo>
                  <a:pt x="5253053" y="1046217"/>
                </a:lnTo>
                <a:lnTo>
                  <a:pt x="5253053" y="1048963"/>
                </a:lnTo>
                <a:lnTo>
                  <a:pt x="5258545" y="1048963"/>
                </a:lnTo>
                <a:lnTo>
                  <a:pt x="5258545" y="1043471"/>
                </a:lnTo>
                <a:lnTo>
                  <a:pt x="5258545" y="1040725"/>
                </a:lnTo>
                <a:lnTo>
                  <a:pt x="5255799" y="1040725"/>
                </a:lnTo>
                <a:lnTo>
                  <a:pt x="5253053" y="1040725"/>
                </a:lnTo>
                <a:lnTo>
                  <a:pt x="5250308" y="1040725"/>
                </a:lnTo>
                <a:close/>
                <a:moveTo>
                  <a:pt x="5071819" y="1040725"/>
                </a:moveTo>
                <a:lnTo>
                  <a:pt x="5069073" y="1043471"/>
                </a:lnTo>
                <a:lnTo>
                  <a:pt x="5066327" y="1043471"/>
                </a:lnTo>
                <a:lnTo>
                  <a:pt x="5063581" y="1043471"/>
                </a:lnTo>
                <a:lnTo>
                  <a:pt x="5066327" y="1048963"/>
                </a:lnTo>
                <a:lnTo>
                  <a:pt x="5066327" y="1054455"/>
                </a:lnTo>
                <a:lnTo>
                  <a:pt x="5074565" y="1054455"/>
                </a:lnTo>
                <a:lnTo>
                  <a:pt x="5074565" y="1048963"/>
                </a:lnTo>
                <a:lnTo>
                  <a:pt x="5074565" y="1046217"/>
                </a:lnTo>
                <a:lnTo>
                  <a:pt x="5071819" y="1040725"/>
                </a:lnTo>
                <a:close/>
                <a:moveTo>
                  <a:pt x="5579825" y="1037979"/>
                </a:moveTo>
                <a:lnTo>
                  <a:pt x="5579825" y="1040725"/>
                </a:lnTo>
                <a:lnTo>
                  <a:pt x="5582571" y="1046217"/>
                </a:lnTo>
                <a:lnTo>
                  <a:pt x="5588063" y="1046217"/>
                </a:lnTo>
                <a:lnTo>
                  <a:pt x="5593555" y="1043471"/>
                </a:lnTo>
                <a:lnTo>
                  <a:pt x="5588063" y="1040725"/>
                </a:lnTo>
                <a:lnTo>
                  <a:pt x="5579825" y="1037979"/>
                </a:lnTo>
                <a:close/>
                <a:moveTo>
                  <a:pt x="5198134" y="1037979"/>
                </a:moveTo>
                <a:lnTo>
                  <a:pt x="5195388" y="1040725"/>
                </a:lnTo>
                <a:lnTo>
                  <a:pt x="5198134" y="1046217"/>
                </a:lnTo>
                <a:lnTo>
                  <a:pt x="5203626" y="1046217"/>
                </a:lnTo>
                <a:lnTo>
                  <a:pt x="5209118" y="1043471"/>
                </a:lnTo>
                <a:lnTo>
                  <a:pt x="5214610" y="1040725"/>
                </a:lnTo>
                <a:lnTo>
                  <a:pt x="5203626" y="1037979"/>
                </a:lnTo>
                <a:lnTo>
                  <a:pt x="5198134" y="1037979"/>
                </a:lnTo>
                <a:close/>
                <a:moveTo>
                  <a:pt x="5129485" y="1037979"/>
                </a:moveTo>
                <a:lnTo>
                  <a:pt x="5126739" y="1040725"/>
                </a:lnTo>
                <a:lnTo>
                  <a:pt x="5123993" y="1046217"/>
                </a:lnTo>
                <a:lnTo>
                  <a:pt x="5126739" y="1048963"/>
                </a:lnTo>
                <a:lnTo>
                  <a:pt x="5132230" y="1048963"/>
                </a:lnTo>
                <a:lnTo>
                  <a:pt x="5137722" y="1043471"/>
                </a:lnTo>
                <a:lnTo>
                  <a:pt x="5145960" y="1040725"/>
                </a:lnTo>
                <a:lnTo>
                  <a:pt x="5145960" y="1046217"/>
                </a:lnTo>
                <a:lnTo>
                  <a:pt x="5143214" y="1051709"/>
                </a:lnTo>
                <a:lnTo>
                  <a:pt x="5140468" y="1057201"/>
                </a:lnTo>
                <a:lnTo>
                  <a:pt x="5143214" y="1057201"/>
                </a:lnTo>
                <a:lnTo>
                  <a:pt x="5148706" y="1062693"/>
                </a:lnTo>
                <a:lnTo>
                  <a:pt x="5143214" y="1065439"/>
                </a:lnTo>
                <a:lnTo>
                  <a:pt x="5143214" y="1070931"/>
                </a:lnTo>
                <a:lnTo>
                  <a:pt x="5145960" y="1070931"/>
                </a:lnTo>
                <a:lnTo>
                  <a:pt x="5148706" y="1073677"/>
                </a:lnTo>
                <a:lnTo>
                  <a:pt x="5151452" y="1076423"/>
                </a:lnTo>
                <a:lnTo>
                  <a:pt x="5148706" y="1076423"/>
                </a:lnTo>
                <a:lnTo>
                  <a:pt x="5151452" y="1079169"/>
                </a:lnTo>
                <a:lnTo>
                  <a:pt x="5151452" y="1084661"/>
                </a:lnTo>
                <a:lnTo>
                  <a:pt x="5154198" y="1084661"/>
                </a:lnTo>
                <a:lnTo>
                  <a:pt x="5156944" y="1081915"/>
                </a:lnTo>
                <a:lnTo>
                  <a:pt x="5159690" y="1084661"/>
                </a:lnTo>
                <a:lnTo>
                  <a:pt x="5176166" y="1084661"/>
                </a:lnTo>
                <a:lnTo>
                  <a:pt x="5176166" y="1081915"/>
                </a:lnTo>
                <a:lnTo>
                  <a:pt x="5178912" y="1076423"/>
                </a:lnTo>
                <a:lnTo>
                  <a:pt x="5181658" y="1076423"/>
                </a:lnTo>
                <a:lnTo>
                  <a:pt x="5187150" y="1076423"/>
                </a:lnTo>
                <a:lnTo>
                  <a:pt x="5187150" y="1070931"/>
                </a:lnTo>
                <a:lnTo>
                  <a:pt x="5187150" y="1068185"/>
                </a:lnTo>
                <a:lnTo>
                  <a:pt x="5187150" y="1065439"/>
                </a:lnTo>
                <a:lnTo>
                  <a:pt x="5181658" y="1065439"/>
                </a:lnTo>
                <a:lnTo>
                  <a:pt x="5178912" y="1065439"/>
                </a:lnTo>
                <a:lnTo>
                  <a:pt x="5167928" y="1062693"/>
                </a:lnTo>
                <a:lnTo>
                  <a:pt x="5167928" y="1065439"/>
                </a:lnTo>
                <a:lnTo>
                  <a:pt x="5165182" y="1068185"/>
                </a:lnTo>
                <a:lnTo>
                  <a:pt x="5159690" y="1068185"/>
                </a:lnTo>
                <a:lnTo>
                  <a:pt x="5156944" y="1068185"/>
                </a:lnTo>
                <a:lnTo>
                  <a:pt x="5154198" y="1065439"/>
                </a:lnTo>
                <a:lnTo>
                  <a:pt x="5154198" y="1062693"/>
                </a:lnTo>
                <a:lnTo>
                  <a:pt x="5154198" y="1059947"/>
                </a:lnTo>
                <a:lnTo>
                  <a:pt x="5159690" y="1059947"/>
                </a:lnTo>
                <a:lnTo>
                  <a:pt x="5165182" y="1062693"/>
                </a:lnTo>
                <a:lnTo>
                  <a:pt x="5170674" y="1057201"/>
                </a:lnTo>
                <a:lnTo>
                  <a:pt x="5173420" y="1057201"/>
                </a:lnTo>
                <a:lnTo>
                  <a:pt x="5176166" y="1057201"/>
                </a:lnTo>
                <a:lnTo>
                  <a:pt x="5178912" y="1054455"/>
                </a:lnTo>
                <a:lnTo>
                  <a:pt x="5178912" y="1046217"/>
                </a:lnTo>
                <a:lnTo>
                  <a:pt x="5173420" y="1046217"/>
                </a:lnTo>
                <a:lnTo>
                  <a:pt x="5170674" y="1048963"/>
                </a:lnTo>
                <a:lnTo>
                  <a:pt x="5167928" y="1046217"/>
                </a:lnTo>
                <a:lnTo>
                  <a:pt x="5165182" y="1043471"/>
                </a:lnTo>
                <a:lnTo>
                  <a:pt x="5165182" y="1040725"/>
                </a:lnTo>
                <a:lnTo>
                  <a:pt x="5159690" y="1040725"/>
                </a:lnTo>
                <a:lnTo>
                  <a:pt x="5156944" y="1043471"/>
                </a:lnTo>
                <a:lnTo>
                  <a:pt x="5154198" y="1040725"/>
                </a:lnTo>
                <a:lnTo>
                  <a:pt x="5151452" y="1040725"/>
                </a:lnTo>
                <a:lnTo>
                  <a:pt x="5145960" y="1037979"/>
                </a:lnTo>
                <a:lnTo>
                  <a:pt x="5143214" y="1037979"/>
                </a:lnTo>
                <a:lnTo>
                  <a:pt x="5140468" y="1040725"/>
                </a:lnTo>
                <a:lnTo>
                  <a:pt x="5137722" y="1040725"/>
                </a:lnTo>
                <a:lnTo>
                  <a:pt x="5129485" y="1037979"/>
                </a:lnTo>
                <a:close/>
                <a:moveTo>
                  <a:pt x="400913" y="1035234"/>
                </a:moveTo>
                <a:lnTo>
                  <a:pt x="409150" y="1035234"/>
                </a:lnTo>
                <a:lnTo>
                  <a:pt x="414642" y="1035234"/>
                </a:lnTo>
                <a:lnTo>
                  <a:pt x="417389" y="1037980"/>
                </a:lnTo>
                <a:lnTo>
                  <a:pt x="411897" y="1040726"/>
                </a:lnTo>
                <a:lnTo>
                  <a:pt x="409150" y="1043472"/>
                </a:lnTo>
                <a:lnTo>
                  <a:pt x="411897" y="1043472"/>
                </a:lnTo>
                <a:lnTo>
                  <a:pt x="414642" y="1046218"/>
                </a:lnTo>
                <a:lnTo>
                  <a:pt x="398167" y="1048964"/>
                </a:lnTo>
                <a:lnTo>
                  <a:pt x="398167" y="1046218"/>
                </a:lnTo>
                <a:lnTo>
                  <a:pt x="406404" y="1046218"/>
                </a:lnTo>
                <a:lnTo>
                  <a:pt x="406404" y="1040726"/>
                </a:lnTo>
                <a:lnTo>
                  <a:pt x="403658" y="1040726"/>
                </a:lnTo>
                <a:lnTo>
                  <a:pt x="403658" y="1037980"/>
                </a:lnTo>
                <a:lnTo>
                  <a:pt x="400913" y="1035234"/>
                </a:lnTo>
                <a:close/>
                <a:moveTo>
                  <a:pt x="5110263" y="1032487"/>
                </a:moveTo>
                <a:lnTo>
                  <a:pt x="5110263" y="1043471"/>
                </a:lnTo>
                <a:lnTo>
                  <a:pt x="5118501" y="1043471"/>
                </a:lnTo>
                <a:lnTo>
                  <a:pt x="5123993" y="1037979"/>
                </a:lnTo>
                <a:lnTo>
                  <a:pt x="5118501" y="1032487"/>
                </a:lnTo>
                <a:lnTo>
                  <a:pt x="5110263" y="1032487"/>
                </a:lnTo>
                <a:close/>
                <a:moveTo>
                  <a:pt x="5286005" y="1029741"/>
                </a:moveTo>
                <a:lnTo>
                  <a:pt x="5286005" y="1032487"/>
                </a:lnTo>
                <a:lnTo>
                  <a:pt x="5286005" y="1035233"/>
                </a:lnTo>
                <a:lnTo>
                  <a:pt x="5291497" y="1037979"/>
                </a:lnTo>
                <a:lnTo>
                  <a:pt x="5294243" y="1035233"/>
                </a:lnTo>
                <a:lnTo>
                  <a:pt x="5294243" y="1032487"/>
                </a:lnTo>
                <a:lnTo>
                  <a:pt x="5291497" y="1029741"/>
                </a:lnTo>
                <a:lnTo>
                  <a:pt x="5288751" y="1029741"/>
                </a:lnTo>
                <a:lnTo>
                  <a:pt x="5286005" y="1029741"/>
                </a:lnTo>
                <a:close/>
                <a:moveTo>
                  <a:pt x="5181658" y="1026996"/>
                </a:moveTo>
                <a:lnTo>
                  <a:pt x="5181658" y="1032487"/>
                </a:lnTo>
                <a:lnTo>
                  <a:pt x="5187150" y="1032487"/>
                </a:lnTo>
                <a:lnTo>
                  <a:pt x="5187150" y="1026996"/>
                </a:lnTo>
                <a:lnTo>
                  <a:pt x="5181658" y="1026996"/>
                </a:lnTo>
                <a:close/>
                <a:moveTo>
                  <a:pt x="5140468" y="1026996"/>
                </a:moveTo>
                <a:lnTo>
                  <a:pt x="5137722" y="1029741"/>
                </a:lnTo>
                <a:lnTo>
                  <a:pt x="5134976" y="1029741"/>
                </a:lnTo>
                <a:lnTo>
                  <a:pt x="5134976" y="1032487"/>
                </a:lnTo>
                <a:lnTo>
                  <a:pt x="5137722" y="1032487"/>
                </a:lnTo>
                <a:lnTo>
                  <a:pt x="5145960" y="1032487"/>
                </a:lnTo>
                <a:lnTo>
                  <a:pt x="5145960" y="1029741"/>
                </a:lnTo>
                <a:lnTo>
                  <a:pt x="5148706" y="1029741"/>
                </a:lnTo>
                <a:lnTo>
                  <a:pt x="5140468" y="1026996"/>
                </a:lnTo>
                <a:close/>
                <a:moveTo>
                  <a:pt x="428372" y="1024250"/>
                </a:moveTo>
                <a:lnTo>
                  <a:pt x="428372" y="1029742"/>
                </a:lnTo>
                <a:lnTo>
                  <a:pt x="431118" y="1032488"/>
                </a:lnTo>
                <a:lnTo>
                  <a:pt x="431118" y="1024250"/>
                </a:lnTo>
                <a:lnTo>
                  <a:pt x="428372" y="1024250"/>
                </a:lnTo>
                <a:close/>
                <a:moveTo>
                  <a:pt x="486038" y="1021504"/>
                </a:moveTo>
                <a:lnTo>
                  <a:pt x="486038" y="1026996"/>
                </a:lnTo>
                <a:lnTo>
                  <a:pt x="483292" y="1029742"/>
                </a:lnTo>
                <a:lnTo>
                  <a:pt x="483292" y="1032488"/>
                </a:lnTo>
                <a:lnTo>
                  <a:pt x="483292" y="1037980"/>
                </a:lnTo>
                <a:lnTo>
                  <a:pt x="488784" y="1035234"/>
                </a:lnTo>
                <a:lnTo>
                  <a:pt x="499768" y="1035234"/>
                </a:lnTo>
                <a:lnTo>
                  <a:pt x="499768" y="1029742"/>
                </a:lnTo>
                <a:lnTo>
                  <a:pt x="491530" y="1029742"/>
                </a:lnTo>
                <a:lnTo>
                  <a:pt x="491530" y="1026996"/>
                </a:lnTo>
                <a:lnTo>
                  <a:pt x="488784" y="1024250"/>
                </a:lnTo>
                <a:lnTo>
                  <a:pt x="491530" y="1024250"/>
                </a:lnTo>
                <a:lnTo>
                  <a:pt x="491530" y="1021504"/>
                </a:lnTo>
                <a:lnTo>
                  <a:pt x="486038" y="1021504"/>
                </a:lnTo>
                <a:close/>
                <a:moveTo>
                  <a:pt x="5258545" y="1018758"/>
                </a:moveTo>
                <a:lnTo>
                  <a:pt x="5258545" y="1026996"/>
                </a:lnTo>
                <a:lnTo>
                  <a:pt x="5250308" y="1026996"/>
                </a:lnTo>
                <a:lnTo>
                  <a:pt x="5244816" y="1026996"/>
                </a:lnTo>
                <a:lnTo>
                  <a:pt x="5244816" y="1029741"/>
                </a:lnTo>
                <a:lnTo>
                  <a:pt x="5247562" y="1032487"/>
                </a:lnTo>
                <a:lnTo>
                  <a:pt x="5255799" y="1035233"/>
                </a:lnTo>
                <a:lnTo>
                  <a:pt x="5258545" y="1029741"/>
                </a:lnTo>
                <a:lnTo>
                  <a:pt x="5261291" y="1029741"/>
                </a:lnTo>
                <a:lnTo>
                  <a:pt x="5261291" y="1018758"/>
                </a:lnTo>
                <a:lnTo>
                  <a:pt x="5258545" y="1018758"/>
                </a:lnTo>
                <a:close/>
                <a:moveTo>
                  <a:pt x="5104771" y="1018758"/>
                </a:moveTo>
                <a:lnTo>
                  <a:pt x="5104771" y="1021504"/>
                </a:lnTo>
                <a:lnTo>
                  <a:pt x="5107517" y="1024250"/>
                </a:lnTo>
                <a:lnTo>
                  <a:pt x="5110263" y="1026996"/>
                </a:lnTo>
                <a:lnTo>
                  <a:pt x="5110263" y="1029741"/>
                </a:lnTo>
                <a:lnTo>
                  <a:pt x="5115755" y="1029741"/>
                </a:lnTo>
                <a:lnTo>
                  <a:pt x="5118501" y="1029741"/>
                </a:lnTo>
                <a:lnTo>
                  <a:pt x="5118501" y="1026996"/>
                </a:lnTo>
                <a:lnTo>
                  <a:pt x="5118501" y="1024250"/>
                </a:lnTo>
                <a:lnTo>
                  <a:pt x="5113009" y="1024250"/>
                </a:lnTo>
                <a:lnTo>
                  <a:pt x="5110263" y="1021504"/>
                </a:lnTo>
                <a:lnTo>
                  <a:pt x="5110263" y="1018758"/>
                </a:lnTo>
                <a:lnTo>
                  <a:pt x="5104771" y="1018758"/>
                </a:lnTo>
                <a:close/>
                <a:moveTo>
                  <a:pt x="475054" y="1016012"/>
                </a:moveTo>
                <a:lnTo>
                  <a:pt x="475054" y="1024250"/>
                </a:lnTo>
                <a:lnTo>
                  <a:pt x="477800" y="1021504"/>
                </a:lnTo>
                <a:lnTo>
                  <a:pt x="480546" y="1018758"/>
                </a:lnTo>
                <a:lnTo>
                  <a:pt x="477800" y="1016012"/>
                </a:lnTo>
                <a:lnTo>
                  <a:pt x="475054" y="1016012"/>
                </a:lnTo>
                <a:close/>
                <a:moveTo>
                  <a:pt x="321279" y="1016012"/>
                </a:moveTo>
                <a:lnTo>
                  <a:pt x="321279" y="1021504"/>
                </a:lnTo>
                <a:lnTo>
                  <a:pt x="326771" y="1021504"/>
                </a:lnTo>
                <a:lnTo>
                  <a:pt x="326771" y="1016012"/>
                </a:lnTo>
                <a:lnTo>
                  <a:pt x="321279" y="1016012"/>
                </a:lnTo>
                <a:close/>
                <a:moveTo>
                  <a:pt x="447594" y="1013266"/>
                </a:moveTo>
                <a:lnTo>
                  <a:pt x="444848" y="1016012"/>
                </a:lnTo>
                <a:lnTo>
                  <a:pt x="444848" y="1018758"/>
                </a:lnTo>
                <a:lnTo>
                  <a:pt x="442102" y="1021504"/>
                </a:lnTo>
                <a:lnTo>
                  <a:pt x="442102" y="1024250"/>
                </a:lnTo>
                <a:lnTo>
                  <a:pt x="444848" y="1026996"/>
                </a:lnTo>
                <a:lnTo>
                  <a:pt x="444848" y="1024250"/>
                </a:lnTo>
                <a:lnTo>
                  <a:pt x="447594" y="1024250"/>
                </a:lnTo>
                <a:lnTo>
                  <a:pt x="447594" y="1013266"/>
                </a:lnTo>
                <a:close/>
                <a:moveTo>
                  <a:pt x="5140468" y="1013266"/>
                </a:moveTo>
                <a:lnTo>
                  <a:pt x="5140468" y="1016012"/>
                </a:lnTo>
                <a:lnTo>
                  <a:pt x="5143214" y="1016012"/>
                </a:lnTo>
                <a:lnTo>
                  <a:pt x="5145960" y="1013266"/>
                </a:lnTo>
                <a:lnTo>
                  <a:pt x="5140468" y="1013266"/>
                </a:lnTo>
                <a:close/>
                <a:moveTo>
                  <a:pt x="5118501" y="1013266"/>
                </a:moveTo>
                <a:lnTo>
                  <a:pt x="5121247" y="1016012"/>
                </a:lnTo>
                <a:lnTo>
                  <a:pt x="5126739" y="1016012"/>
                </a:lnTo>
                <a:lnTo>
                  <a:pt x="5126739" y="1013266"/>
                </a:lnTo>
                <a:lnTo>
                  <a:pt x="5118501" y="1013266"/>
                </a:lnTo>
                <a:close/>
                <a:moveTo>
                  <a:pt x="175743" y="1010520"/>
                </a:moveTo>
                <a:lnTo>
                  <a:pt x="178488" y="1016012"/>
                </a:lnTo>
                <a:lnTo>
                  <a:pt x="181234" y="1018758"/>
                </a:lnTo>
                <a:lnTo>
                  <a:pt x="183980" y="1016012"/>
                </a:lnTo>
                <a:lnTo>
                  <a:pt x="186726" y="1013266"/>
                </a:lnTo>
                <a:lnTo>
                  <a:pt x="181234" y="1010520"/>
                </a:lnTo>
                <a:lnTo>
                  <a:pt x="175743" y="1010520"/>
                </a:lnTo>
                <a:close/>
                <a:moveTo>
                  <a:pt x="1062693" y="1010520"/>
                </a:moveTo>
                <a:lnTo>
                  <a:pt x="1065439" y="1015096"/>
                </a:lnTo>
                <a:lnTo>
                  <a:pt x="1065439" y="1018758"/>
                </a:lnTo>
                <a:lnTo>
                  <a:pt x="1062693" y="1010520"/>
                </a:lnTo>
                <a:close/>
                <a:moveTo>
                  <a:pt x="472308" y="1007774"/>
                </a:moveTo>
                <a:lnTo>
                  <a:pt x="472308" y="1010520"/>
                </a:lnTo>
                <a:lnTo>
                  <a:pt x="469562" y="1010520"/>
                </a:lnTo>
                <a:lnTo>
                  <a:pt x="469562" y="1016012"/>
                </a:lnTo>
                <a:lnTo>
                  <a:pt x="472308" y="1016012"/>
                </a:lnTo>
                <a:lnTo>
                  <a:pt x="475054" y="1010520"/>
                </a:lnTo>
                <a:lnTo>
                  <a:pt x="475054" y="1007774"/>
                </a:lnTo>
                <a:lnTo>
                  <a:pt x="472308" y="1007774"/>
                </a:lnTo>
                <a:close/>
                <a:moveTo>
                  <a:pt x="5060835" y="1007774"/>
                </a:moveTo>
                <a:lnTo>
                  <a:pt x="5060835" y="1013266"/>
                </a:lnTo>
                <a:lnTo>
                  <a:pt x="5063581" y="1010520"/>
                </a:lnTo>
                <a:lnTo>
                  <a:pt x="5063581" y="1013266"/>
                </a:lnTo>
                <a:lnTo>
                  <a:pt x="5066327" y="1013266"/>
                </a:lnTo>
                <a:lnTo>
                  <a:pt x="5069073" y="1013266"/>
                </a:lnTo>
                <a:lnTo>
                  <a:pt x="5069073" y="1010520"/>
                </a:lnTo>
                <a:lnTo>
                  <a:pt x="5066327" y="1007774"/>
                </a:lnTo>
                <a:lnTo>
                  <a:pt x="5060835" y="1007774"/>
                </a:lnTo>
                <a:close/>
                <a:moveTo>
                  <a:pt x="5156944" y="1005028"/>
                </a:moveTo>
                <a:lnTo>
                  <a:pt x="5156944" y="1010520"/>
                </a:lnTo>
                <a:lnTo>
                  <a:pt x="5159690" y="1013266"/>
                </a:lnTo>
                <a:lnTo>
                  <a:pt x="5162436" y="1013266"/>
                </a:lnTo>
                <a:lnTo>
                  <a:pt x="5162436" y="1010520"/>
                </a:lnTo>
                <a:lnTo>
                  <a:pt x="5165182" y="1010520"/>
                </a:lnTo>
                <a:lnTo>
                  <a:pt x="5165182" y="1013266"/>
                </a:lnTo>
                <a:lnTo>
                  <a:pt x="5159690" y="1016012"/>
                </a:lnTo>
                <a:lnTo>
                  <a:pt x="5162436" y="1021504"/>
                </a:lnTo>
                <a:lnTo>
                  <a:pt x="5162436" y="1026996"/>
                </a:lnTo>
                <a:lnTo>
                  <a:pt x="5165182" y="1026996"/>
                </a:lnTo>
                <a:lnTo>
                  <a:pt x="5173420" y="1024250"/>
                </a:lnTo>
                <a:lnTo>
                  <a:pt x="5181658" y="1024250"/>
                </a:lnTo>
                <a:lnTo>
                  <a:pt x="5181658" y="1018758"/>
                </a:lnTo>
                <a:lnTo>
                  <a:pt x="5181658" y="1016012"/>
                </a:lnTo>
                <a:lnTo>
                  <a:pt x="5178912" y="1013266"/>
                </a:lnTo>
                <a:lnTo>
                  <a:pt x="5178912" y="1010520"/>
                </a:lnTo>
                <a:lnTo>
                  <a:pt x="5167928" y="1007774"/>
                </a:lnTo>
                <a:lnTo>
                  <a:pt x="5156944" y="1005028"/>
                </a:lnTo>
                <a:close/>
                <a:moveTo>
                  <a:pt x="505260" y="1002282"/>
                </a:moveTo>
                <a:lnTo>
                  <a:pt x="499768" y="1005028"/>
                </a:lnTo>
                <a:lnTo>
                  <a:pt x="497022" y="1005028"/>
                </a:lnTo>
                <a:lnTo>
                  <a:pt x="494276" y="1007774"/>
                </a:lnTo>
                <a:lnTo>
                  <a:pt x="497022" y="1007774"/>
                </a:lnTo>
                <a:lnTo>
                  <a:pt x="497022" y="1010520"/>
                </a:lnTo>
                <a:lnTo>
                  <a:pt x="499768" y="1010520"/>
                </a:lnTo>
                <a:lnTo>
                  <a:pt x="502514" y="1007774"/>
                </a:lnTo>
                <a:lnTo>
                  <a:pt x="505260" y="1007774"/>
                </a:lnTo>
                <a:lnTo>
                  <a:pt x="505260" y="1002282"/>
                </a:lnTo>
                <a:close/>
                <a:moveTo>
                  <a:pt x="428372" y="1002282"/>
                </a:moveTo>
                <a:lnTo>
                  <a:pt x="422880" y="1007774"/>
                </a:lnTo>
                <a:lnTo>
                  <a:pt x="417389" y="1016012"/>
                </a:lnTo>
                <a:lnTo>
                  <a:pt x="420134" y="1016012"/>
                </a:lnTo>
                <a:lnTo>
                  <a:pt x="422880" y="1016012"/>
                </a:lnTo>
                <a:lnTo>
                  <a:pt x="425626" y="1018758"/>
                </a:lnTo>
                <a:lnTo>
                  <a:pt x="428372" y="1021504"/>
                </a:lnTo>
                <a:lnTo>
                  <a:pt x="431118" y="1018758"/>
                </a:lnTo>
                <a:lnTo>
                  <a:pt x="433864" y="1021504"/>
                </a:lnTo>
                <a:lnTo>
                  <a:pt x="433864" y="1016012"/>
                </a:lnTo>
                <a:lnTo>
                  <a:pt x="428372" y="1016012"/>
                </a:lnTo>
                <a:lnTo>
                  <a:pt x="425626" y="1013266"/>
                </a:lnTo>
                <a:lnTo>
                  <a:pt x="425626" y="1010520"/>
                </a:lnTo>
                <a:lnTo>
                  <a:pt x="428372" y="1007774"/>
                </a:lnTo>
                <a:lnTo>
                  <a:pt x="428372" y="1002282"/>
                </a:lnTo>
                <a:close/>
                <a:moveTo>
                  <a:pt x="5233832" y="1002282"/>
                </a:moveTo>
                <a:lnTo>
                  <a:pt x="5233832" y="1005028"/>
                </a:lnTo>
                <a:lnTo>
                  <a:pt x="5231086" y="1007774"/>
                </a:lnTo>
                <a:lnTo>
                  <a:pt x="5231086" y="1010520"/>
                </a:lnTo>
                <a:lnTo>
                  <a:pt x="5236578" y="1007774"/>
                </a:lnTo>
                <a:lnTo>
                  <a:pt x="5239324" y="1007774"/>
                </a:lnTo>
                <a:lnTo>
                  <a:pt x="5244816" y="1007774"/>
                </a:lnTo>
                <a:lnTo>
                  <a:pt x="5244816" y="1002282"/>
                </a:lnTo>
                <a:lnTo>
                  <a:pt x="5233832" y="1002282"/>
                </a:lnTo>
                <a:close/>
                <a:moveTo>
                  <a:pt x="6326731" y="999536"/>
                </a:moveTo>
                <a:lnTo>
                  <a:pt x="6323985" y="1005028"/>
                </a:lnTo>
                <a:lnTo>
                  <a:pt x="6323985" y="1007774"/>
                </a:lnTo>
                <a:lnTo>
                  <a:pt x="6323985" y="1013266"/>
                </a:lnTo>
                <a:lnTo>
                  <a:pt x="6326731" y="1016012"/>
                </a:lnTo>
                <a:lnTo>
                  <a:pt x="6332223" y="1016012"/>
                </a:lnTo>
                <a:lnTo>
                  <a:pt x="6334969" y="1016012"/>
                </a:lnTo>
                <a:lnTo>
                  <a:pt x="6337715" y="1013266"/>
                </a:lnTo>
                <a:lnTo>
                  <a:pt x="6340461" y="1007774"/>
                </a:lnTo>
                <a:lnTo>
                  <a:pt x="6337715" y="1005028"/>
                </a:lnTo>
                <a:lnTo>
                  <a:pt x="6334969" y="1002282"/>
                </a:lnTo>
                <a:lnTo>
                  <a:pt x="6326731" y="999536"/>
                </a:lnTo>
                <a:close/>
                <a:moveTo>
                  <a:pt x="5209118" y="999536"/>
                </a:moveTo>
                <a:lnTo>
                  <a:pt x="5206372" y="1005028"/>
                </a:lnTo>
                <a:lnTo>
                  <a:pt x="5206372" y="1010520"/>
                </a:lnTo>
                <a:lnTo>
                  <a:pt x="5214610" y="1010520"/>
                </a:lnTo>
                <a:lnTo>
                  <a:pt x="5220102" y="1007774"/>
                </a:lnTo>
                <a:lnTo>
                  <a:pt x="5220102" y="999536"/>
                </a:lnTo>
                <a:lnTo>
                  <a:pt x="5209118" y="999536"/>
                </a:lnTo>
                <a:close/>
                <a:moveTo>
                  <a:pt x="5093787" y="999536"/>
                </a:moveTo>
                <a:lnTo>
                  <a:pt x="5091041" y="1002282"/>
                </a:lnTo>
                <a:lnTo>
                  <a:pt x="5099279" y="1002282"/>
                </a:lnTo>
                <a:lnTo>
                  <a:pt x="5102025" y="1002282"/>
                </a:lnTo>
                <a:lnTo>
                  <a:pt x="5102025" y="999536"/>
                </a:lnTo>
                <a:lnTo>
                  <a:pt x="5099279" y="999536"/>
                </a:lnTo>
                <a:lnTo>
                  <a:pt x="5093787" y="999536"/>
                </a:lnTo>
                <a:close/>
                <a:moveTo>
                  <a:pt x="1079168" y="988552"/>
                </a:moveTo>
                <a:lnTo>
                  <a:pt x="1073676" y="991298"/>
                </a:lnTo>
                <a:lnTo>
                  <a:pt x="1068185" y="996790"/>
                </a:lnTo>
                <a:lnTo>
                  <a:pt x="1065439" y="1002282"/>
                </a:lnTo>
                <a:lnTo>
                  <a:pt x="1062693" y="1007774"/>
                </a:lnTo>
                <a:lnTo>
                  <a:pt x="1062693" y="1010520"/>
                </a:lnTo>
                <a:lnTo>
                  <a:pt x="1062693" y="1013266"/>
                </a:lnTo>
                <a:lnTo>
                  <a:pt x="1065439" y="1018758"/>
                </a:lnTo>
                <a:lnTo>
                  <a:pt x="1068185" y="1024249"/>
                </a:lnTo>
                <a:lnTo>
                  <a:pt x="1070931" y="1024249"/>
                </a:lnTo>
                <a:lnTo>
                  <a:pt x="1065439" y="1015096"/>
                </a:lnTo>
                <a:lnTo>
                  <a:pt x="1065439" y="1005028"/>
                </a:lnTo>
                <a:lnTo>
                  <a:pt x="1070931" y="994044"/>
                </a:lnTo>
                <a:lnTo>
                  <a:pt x="1077795" y="991298"/>
                </a:lnTo>
                <a:lnTo>
                  <a:pt x="1078253" y="990383"/>
                </a:lnTo>
                <a:lnTo>
                  <a:pt x="1070931" y="994044"/>
                </a:lnTo>
                <a:lnTo>
                  <a:pt x="1079168" y="988553"/>
                </a:lnTo>
                <a:lnTo>
                  <a:pt x="1079168" y="988552"/>
                </a:lnTo>
                <a:close/>
                <a:moveTo>
                  <a:pt x="5329941" y="988552"/>
                </a:moveTo>
                <a:lnTo>
                  <a:pt x="5327195" y="991298"/>
                </a:lnTo>
                <a:lnTo>
                  <a:pt x="5327195" y="999536"/>
                </a:lnTo>
                <a:lnTo>
                  <a:pt x="5332687" y="999536"/>
                </a:lnTo>
                <a:lnTo>
                  <a:pt x="5332687" y="996790"/>
                </a:lnTo>
                <a:lnTo>
                  <a:pt x="5335433" y="994044"/>
                </a:lnTo>
                <a:lnTo>
                  <a:pt x="5343671" y="996790"/>
                </a:lnTo>
                <a:lnTo>
                  <a:pt x="5343671" y="991298"/>
                </a:lnTo>
                <a:lnTo>
                  <a:pt x="5338179" y="988552"/>
                </a:lnTo>
                <a:lnTo>
                  <a:pt x="5338179" y="991298"/>
                </a:lnTo>
                <a:lnTo>
                  <a:pt x="5338179" y="994044"/>
                </a:lnTo>
                <a:lnTo>
                  <a:pt x="5335433" y="994044"/>
                </a:lnTo>
                <a:lnTo>
                  <a:pt x="5332687" y="991298"/>
                </a:lnTo>
                <a:lnTo>
                  <a:pt x="5329941" y="988552"/>
                </a:lnTo>
                <a:close/>
                <a:moveTo>
                  <a:pt x="5211864" y="985806"/>
                </a:moveTo>
                <a:lnTo>
                  <a:pt x="5211864" y="994044"/>
                </a:lnTo>
                <a:lnTo>
                  <a:pt x="5217356" y="991298"/>
                </a:lnTo>
                <a:lnTo>
                  <a:pt x="5220102" y="988552"/>
                </a:lnTo>
                <a:lnTo>
                  <a:pt x="5217356" y="985806"/>
                </a:lnTo>
                <a:lnTo>
                  <a:pt x="5211864" y="985806"/>
                </a:lnTo>
                <a:close/>
                <a:moveTo>
                  <a:pt x="5091041" y="985806"/>
                </a:moveTo>
                <a:lnTo>
                  <a:pt x="5085549" y="988552"/>
                </a:lnTo>
                <a:lnTo>
                  <a:pt x="5077311" y="988552"/>
                </a:lnTo>
                <a:lnTo>
                  <a:pt x="5071819" y="988552"/>
                </a:lnTo>
                <a:lnTo>
                  <a:pt x="5066327" y="991298"/>
                </a:lnTo>
                <a:lnTo>
                  <a:pt x="5069073" y="996790"/>
                </a:lnTo>
                <a:lnTo>
                  <a:pt x="5071819" y="1002282"/>
                </a:lnTo>
                <a:lnTo>
                  <a:pt x="5080057" y="1005028"/>
                </a:lnTo>
                <a:lnTo>
                  <a:pt x="5088295" y="1013266"/>
                </a:lnTo>
                <a:lnTo>
                  <a:pt x="5082803" y="1013266"/>
                </a:lnTo>
                <a:lnTo>
                  <a:pt x="5082803" y="1016012"/>
                </a:lnTo>
                <a:lnTo>
                  <a:pt x="5085549" y="1021504"/>
                </a:lnTo>
                <a:lnTo>
                  <a:pt x="5077311" y="1032487"/>
                </a:lnTo>
                <a:lnTo>
                  <a:pt x="5080057" y="1035233"/>
                </a:lnTo>
                <a:lnTo>
                  <a:pt x="5085549" y="1035233"/>
                </a:lnTo>
                <a:lnTo>
                  <a:pt x="5082803" y="1037979"/>
                </a:lnTo>
                <a:lnTo>
                  <a:pt x="5080057" y="1040725"/>
                </a:lnTo>
                <a:lnTo>
                  <a:pt x="5082803" y="1043471"/>
                </a:lnTo>
                <a:lnTo>
                  <a:pt x="5085549" y="1043471"/>
                </a:lnTo>
                <a:lnTo>
                  <a:pt x="5085549" y="1040725"/>
                </a:lnTo>
                <a:lnTo>
                  <a:pt x="5088295" y="1040725"/>
                </a:lnTo>
                <a:lnTo>
                  <a:pt x="5088295" y="1035233"/>
                </a:lnTo>
                <a:lnTo>
                  <a:pt x="5091041" y="1032487"/>
                </a:lnTo>
                <a:lnTo>
                  <a:pt x="5102025" y="1032487"/>
                </a:lnTo>
                <a:lnTo>
                  <a:pt x="5102025" y="1029741"/>
                </a:lnTo>
                <a:lnTo>
                  <a:pt x="5104771" y="1029741"/>
                </a:lnTo>
                <a:lnTo>
                  <a:pt x="5102025" y="1024250"/>
                </a:lnTo>
                <a:lnTo>
                  <a:pt x="5099279" y="1021504"/>
                </a:lnTo>
                <a:lnTo>
                  <a:pt x="5096533" y="1021504"/>
                </a:lnTo>
                <a:lnTo>
                  <a:pt x="5093787" y="1018758"/>
                </a:lnTo>
                <a:lnTo>
                  <a:pt x="5093787" y="1013266"/>
                </a:lnTo>
                <a:lnTo>
                  <a:pt x="5091041" y="1010520"/>
                </a:lnTo>
                <a:lnTo>
                  <a:pt x="5088295" y="1010520"/>
                </a:lnTo>
                <a:lnTo>
                  <a:pt x="5088295" y="1002282"/>
                </a:lnTo>
                <a:lnTo>
                  <a:pt x="5091041" y="996790"/>
                </a:lnTo>
                <a:lnTo>
                  <a:pt x="5088295" y="994044"/>
                </a:lnTo>
                <a:lnTo>
                  <a:pt x="5088295" y="991298"/>
                </a:lnTo>
                <a:lnTo>
                  <a:pt x="5091041" y="991298"/>
                </a:lnTo>
                <a:lnTo>
                  <a:pt x="5091041" y="988552"/>
                </a:lnTo>
                <a:lnTo>
                  <a:pt x="5091041" y="985806"/>
                </a:lnTo>
                <a:close/>
                <a:moveTo>
                  <a:pt x="1084661" y="983060"/>
                </a:moveTo>
                <a:lnTo>
                  <a:pt x="1090153" y="985806"/>
                </a:lnTo>
                <a:lnTo>
                  <a:pt x="1092898" y="985806"/>
                </a:lnTo>
                <a:lnTo>
                  <a:pt x="1095644" y="985806"/>
                </a:lnTo>
                <a:lnTo>
                  <a:pt x="1101136" y="988552"/>
                </a:lnTo>
                <a:lnTo>
                  <a:pt x="1101137" y="988552"/>
                </a:lnTo>
                <a:lnTo>
                  <a:pt x="1103882" y="991298"/>
                </a:lnTo>
                <a:lnTo>
                  <a:pt x="1102234" y="990748"/>
                </a:lnTo>
                <a:lnTo>
                  <a:pt x="1103882" y="994044"/>
                </a:lnTo>
                <a:lnTo>
                  <a:pt x="1103882" y="997340"/>
                </a:lnTo>
                <a:lnTo>
                  <a:pt x="1106628" y="999536"/>
                </a:lnTo>
                <a:lnTo>
                  <a:pt x="1103882" y="991298"/>
                </a:lnTo>
                <a:lnTo>
                  <a:pt x="1109374" y="996790"/>
                </a:lnTo>
                <a:lnTo>
                  <a:pt x="1114867" y="1005028"/>
                </a:lnTo>
                <a:lnTo>
                  <a:pt x="1114867" y="1016012"/>
                </a:lnTo>
                <a:lnTo>
                  <a:pt x="1112120" y="1024249"/>
                </a:lnTo>
                <a:lnTo>
                  <a:pt x="1103882" y="1035233"/>
                </a:lnTo>
                <a:lnTo>
                  <a:pt x="1106628" y="1026995"/>
                </a:lnTo>
                <a:lnTo>
                  <a:pt x="1092898" y="1037979"/>
                </a:lnTo>
                <a:lnTo>
                  <a:pt x="1103882" y="1035233"/>
                </a:lnTo>
                <a:lnTo>
                  <a:pt x="1095645" y="1037979"/>
                </a:lnTo>
                <a:lnTo>
                  <a:pt x="1090153" y="1040725"/>
                </a:lnTo>
                <a:lnTo>
                  <a:pt x="1081915" y="1043471"/>
                </a:lnTo>
                <a:lnTo>
                  <a:pt x="1076423" y="1040725"/>
                </a:lnTo>
                <a:lnTo>
                  <a:pt x="1065439" y="1040725"/>
                </a:lnTo>
                <a:lnTo>
                  <a:pt x="1057202" y="1032487"/>
                </a:lnTo>
                <a:lnTo>
                  <a:pt x="1048963" y="1024249"/>
                </a:lnTo>
                <a:lnTo>
                  <a:pt x="1048963" y="1013266"/>
                </a:lnTo>
                <a:lnTo>
                  <a:pt x="1048963" y="1002282"/>
                </a:lnTo>
                <a:lnTo>
                  <a:pt x="1057202" y="994044"/>
                </a:lnTo>
                <a:lnTo>
                  <a:pt x="1065439" y="985806"/>
                </a:lnTo>
                <a:lnTo>
                  <a:pt x="1073676" y="985806"/>
                </a:lnTo>
                <a:lnTo>
                  <a:pt x="1084661" y="983060"/>
                </a:lnTo>
                <a:close/>
                <a:moveTo>
                  <a:pt x="5258545" y="983060"/>
                </a:moveTo>
                <a:lnTo>
                  <a:pt x="5258545" y="985806"/>
                </a:lnTo>
                <a:lnTo>
                  <a:pt x="5264037" y="988552"/>
                </a:lnTo>
                <a:lnTo>
                  <a:pt x="5264037" y="991298"/>
                </a:lnTo>
                <a:lnTo>
                  <a:pt x="5269529" y="991298"/>
                </a:lnTo>
                <a:lnTo>
                  <a:pt x="5269529" y="985806"/>
                </a:lnTo>
                <a:lnTo>
                  <a:pt x="5264037" y="985806"/>
                </a:lnTo>
                <a:lnTo>
                  <a:pt x="5258545" y="983060"/>
                </a:lnTo>
                <a:close/>
                <a:moveTo>
                  <a:pt x="5162436" y="980314"/>
                </a:moveTo>
                <a:lnTo>
                  <a:pt x="5162436" y="985806"/>
                </a:lnTo>
                <a:lnTo>
                  <a:pt x="5165182" y="988552"/>
                </a:lnTo>
                <a:lnTo>
                  <a:pt x="5159690" y="988552"/>
                </a:lnTo>
                <a:lnTo>
                  <a:pt x="5162436" y="994044"/>
                </a:lnTo>
                <a:lnTo>
                  <a:pt x="5165182" y="996790"/>
                </a:lnTo>
                <a:lnTo>
                  <a:pt x="5167928" y="994044"/>
                </a:lnTo>
                <a:lnTo>
                  <a:pt x="5167928" y="991298"/>
                </a:lnTo>
                <a:lnTo>
                  <a:pt x="5167928" y="988552"/>
                </a:lnTo>
                <a:lnTo>
                  <a:pt x="5167928" y="985806"/>
                </a:lnTo>
                <a:lnTo>
                  <a:pt x="5170674" y="985806"/>
                </a:lnTo>
                <a:lnTo>
                  <a:pt x="5170674" y="983060"/>
                </a:lnTo>
                <a:lnTo>
                  <a:pt x="5167928" y="983060"/>
                </a:lnTo>
                <a:lnTo>
                  <a:pt x="5167928" y="980314"/>
                </a:lnTo>
                <a:lnTo>
                  <a:pt x="5165182" y="980314"/>
                </a:lnTo>
                <a:lnTo>
                  <a:pt x="5162436" y="980314"/>
                </a:lnTo>
                <a:close/>
                <a:moveTo>
                  <a:pt x="5104771" y="977568"/>
                </a:moveTo>
                <a:lnTo>
                  <a:pt x="5107517" y="980314"/>
                </a:lnTo>
                <a:lnTo>
                  <a:pt x="5113009" y="983060"/>
                </a:lnTo>
                <a:lnTo>
                  <a:pt x="5107517" y="983060"/>
                </a:lnTo>
                <a:lnTo>
                  <a:pt x="5104771" y="985806"/>
                </a:lnTo>
                <a:lnTo>
                  <a:pt x="5104771" y="991298"/>
                </a:lnTo>
                <a:lnTo>
                  <a:pt x="5110263" y="994044"/>
                </a:lnTo>
                <a:lnTo>
                  <a:pt x="5115755" y="994044"/>
                </a:lnTo>
                <a:lnTo>
                  <a:pt x="5118501" y="991298"/>
                </a:lnTo>
                <a:lnTo>
                  <a:pt x="5121247" y="985806"/>
                </a:lnTo>
                <a:lnTo>
                  <a:pt x="5115755" y="983060"/>
                </a:lnTo>
                <a:lnTo>
                  <a:pt x="5113009" y="983060"/>
                </a:lnTo>
                <a:lnTo>
                  <a:pt x="5113009" y="977568"/>
                </a:lnTo>
                <a:lnTo>
                  <a:pt x="5104771" y="977568"/>
                </a:lnTo>
                <a:close/>
                <a:moveTo>
                  <a:pt x="6615058" y="974822"/>
                </a:moveTo>
                <a:lnTo>
                  <a:pt x="6634280" y="994044"/>
                </a:lnTo>
                <a:lnTo>
                  <a:pt x="6436570" y="1016012"/>
                </a:lnTo>
                <a:lnTo>
                  <a:pt x="6447554" y="1007774"/>
                </a:lnTo>
                <a:lnTo>
                  <a:pt x="6458538" y="1002282"/>
                </a:lnTo>
                <a:lnTo>
                  <a:pt x="6475013" y="999536"/>
                </a:lnTo>
                <a:lnTo>
                  <a:pt x="6491489" y="1002282"/>
                </a:lnTo>
                <a:lnTo>
                  <a:pt x="6521695" y="1005028"/>
                </a:lnTo>
                <a:lnTo>
                  <a:pt x="6538171" y="1002282"/>
                </a:lnTo>
                <a:lnTo>
                  <a:pt x="6562885" y="994044"/>
                </a:lnTo>
                <a:lnTo>
                  <a:pt x="6615058" y="974822"/>
                </a:lnTo>
                <a:close/>
                <a:moveTo>
                  <a:pt x="5137722" y="966584"/>
                </a:moveTo>
                <a:lnTo>
                  <a:pt x="5129485" y="969330"/>
                </a:lnTo>
                <a:lnTo>
                  <a:pt x="5126739" y="969330"/>
                </a:lnTo>
                <a:lnTo>
                  <a:pt x="5123993" y="972076"/>
                </a:lnTo>
                <a:lnTo>
                  <a:pt x="5129485" y="977568"/>
                </a:lnTo>
                <a:lnTo>
                  <a:pt x="5137722" y="974822"/>
                </a:lnTo>
                <a:lnTo>
                  <a:pt x="5137722" y="966584"/>
                </a:lnTo>
                <a:close/>
                <a:moveTo>
                  <a:pt x="5102025" y="966584"/>
                </a:moveTo>
                <a:lnTo>
                  <a:pt x="5104771" y="972076"/>
                </a:lnTo>
                <a:lnTo>
                  <a:pt x="5107517" y="972076"/>
                </a:lnTo>
                <a:lnTo>
                  <a:pt x="5110263" y="969330"/>
                </a:lnTo>
                <a:lnTo>
                  <a:pt x="5110263" y="966584"/>
                </a:lnTo>
                <a:lnTo>
                  <a:pt x="5102025" y="966584"/>
                </a:lnTo>
                <a:close/>
                <a:moveTo>
                  <a:pt x="1035233" y="966584"/>
                </a:moveTo>
                <a:lnTo>
                  <a:pt x="1035233" y="969330"/>
                </a:lnTo>
                <a:lnTo>
                  <a:pt x="1043472" y="969330"/>
                </a:lnTo>
                <a:lnTo>
                  <a:pt x="1048964" y="966584"/>
                </a:lnTo>
                <a:lnTo>
                  <a:pt x="1035233" y="966584"/>
                </a:lnTo>
                <a:close/>
                <a:moveTo>
                  <a:pt x="5264037" y="963838"/>
                </a:moveTo>
                <a:lnTo>
                  <a:pt x="5264037" y="969330"/>
                </a:lnTo>
                <a:lnTo>
                  <a:pt x="5264037" y="972076"/>
                </a:lnTo>
                <a:lnTo>
                  <a:pt x="5258545" y="977568"/>
                </a:lnTo>
                <a:lnTo>
                  <a:pt x="5264037" y="980314"/>
                </a:lnTo>
                <a:lnTo>
                  <a:pt x="5269529" y="980314"/>
                </a:lnTo>
                <a:lnTo>
                  <a:pt x="5272275" y="972076"/>
                </a:lnTo>
                <a:lnTo>
                  <a:pt x="5269529" y="963838"/>
                </a:lnTo>
                <a:lnTo>
                  <a:pt x="5264037" y="963838"/>
                </a:lnTo>
                <a:close/>
                <a:moveTo>
                  <a:pt x="5244816" y="961092"/>
                </a:moveTo>
                <a:lnTo>
                  <a:pt x="5242070" y="963838"/>
                </a:lnTo>
                <a:lnTo>
                  <a:pt x="5242070" y="966584"/>
                </a:lnTo>
                <a:lnTo>
                  <a:pt x="5244816" y="966584"/>
                </a:lnTo>
                <a:lnTo>
                  <a:pt x="5247562" y="966584"/>
                </a:lnTo>
                <a:lnTo>
                  <a:pt x="5250308" y="966584"/>
                </a:lnTo>
                <a:lnTo>
                  <a:pt x="5253053" y="966584"/>
                </a:lnTo>
                <a:lnTo>
                  <a:pt x="5253053" y="961092"/>
                </a:lnTo>
                <a:lnTo>
                  <a:pt x="5244816" y="961092"/>
                </a:lnTo>
                <a:close/>
                <a:moveTo>
                  <a:pt x="1169785" y="961092"/>
                </a:moveTo>
                <a:lnTo>
                  <a:pt x="1175277" y="963838"/>
                </a:lnTo>
                <a:lnTo>
                  <a:pt x="1178023" y="969330"/>
                </a:lnTo>
                <a:lnTo>
                  <a:pt x="1178023" y="974822"/>
                </a:lnTo>
                <a:lnTo>
                  <a:pt x="1178023" y="980314"/>
                </a:lnTo>
                <a:lnTo>
                  <a:pt x="1175277" y="983060"/>
                </a:lnTo>
                <a:lnTo>
                  <a:pt x="1169785" y="983060"/>
                </a:lnTo>
                <a:lnTo>
                  <a:pt x="1167039" y="983060"/>
                </a:lnTo>
                <a:lnTo>
                  <a:pt x="1164293" y="980314"/>
                </a:lnTo>
                <a:lnTo>
                  <a:pt x="1161547" y="974822"/>
                </a:lnTo>
                <a:lnTo>
                  <a:pt x="1161547" y="969330"/>
                </a:lnTo>
                <a:lnTo>
                  <a:pt x="1164293" y="963838"/>
                </a:lnTo>
                <a:lnTo>
                  <a:pt x="1169785" y="961092"/>
                </a:lnTo>
                <a:close/>
                <a:moveTo>
                  <a:pt x="6175702" y="955600"/>
                </a:moveTo>
                <a:lnTo>
                  <a:pt x="6167464" y="958346"/>
                </a:lnTo>
                <a:lnTo>
                  <a:pt x="6159226" y="961092"/>
                </a:lnTo>
                <a:lnTo>
                  <a:pt x="6148242" y="963838"/>
                </a:lnTo>
                <a:lnTo>
                  <a:pt x="6137258" y="963838"/>
                </a:lnTo>
                <a:lnTo>
                  <a:pt x="6137258" y="958346"/>
                </a:lnTo>
                <a:lnTo>
                  <a:pt x="6134512" y="958346"/>
                </a:lnTo>
                <a:lnTo>
                  <a:pt x="6129020" y="958346"/>
                </a:lnTo>
                <a:lnTo>
                  <a:pt x="6129020" y="963838"/>
                </a:lnTo>
                <a:lnTo>
                  <a:pt x="6137258" y="963838"/>
                </a:lnTo>
                <a:lnTo>
                  <a:pt x="6145496" y="966584"/>
                </a:lnTo>
                <a:lnTo>
                  <a:pt x="6159226" y="966584"/>
                </a:lnTo>
                <a:lnTo>
                  <a:pt x="6172956" y="963838"/>
                </a:lnTo>
                <a:lnTo>
                  <a:pt x="6175702" y="961092"/>
                </a:lnTo>
                <a:lnTo>
                  <a:pt x="6175702" y="955600"/>
                </a:lnTo>
                <a:close/>
                <a:moveTo>
                  <a:pt x="5225594" y="955600"/>
                </a:moveTo>
                <a:lnTo>
                  <a:pt x="5225594" y="966584"/>
                </a:lnTo>
                <a:lnTo>
                  <a:pt x="5231086" y="963838"/>
                </a:lnTo>
                <a:lnTo>
                  <a:pt x="5233832" y="958346"/>
                </a:lnTo>
                <a:lnTo>
                  <a:pt x="5231086" y="958346"/>
                </a:lnTo>
                <a:lnTo>
                  <a:pt x="5225594" y="955600"/>
                </a:lnTo>
                <a:close/>
                <a:moveTo>
                  <a:pt x="5082803" y="955600"/>
                </a:moveTo>
                <a:lnTo>
                  <a:pt x="5082803" y="961092"/>
                </a:lnTo>
                <a:lnTo>
                  <a:pt x="5088295" y="961092"/>
                </a:lnTo>
                <a:lnTo>
                  <a:pt x="5091041" y="955600"/>
                </a:lnTo>
                <a:lnTo>
                  <a:pt x="5082803" y="955600"/>
                </a:lnTo>
                <a:close/>
                <a:moveTo>
                  <a:pt x="930887" y="955600"/>
                </a:moveTo>
                <a:lnTo>
                  <a:pt x="928141" y="958346"/>
                </a:lnTo>
                <a:lnTo>
                  <a:pt x="928141" y="963838"/>
                </a:lnTo>
                <a:lnTo>
                  <a:pt x="930887" y="963838"/>
                </a:lnTo>
                <a:lnTo>
                  <a:pt x="933632" y="963838"/>
                </a:lnTo>
                <a:lnTo>
                  <a:pt x="935005" y="965211"/>
                </a:lnTo>
                <a:lnTo>
                  <a:pt x="937857" y="965528"/>
                </a:lnTo>
                <a:lnTo>
                  <a:pt x="936378" y="961092"/>
                </a:lnTo>
                <a:lnTo>
                  <a:pt x="930887" y="955600"/>
                </a:lnTo>
                <a:close/>
                <a:moveTo>
                  <a:pt x="5354655" y="952854"/>
                </a:moveTo>
                <a:lnTo>
                  <a:pt x="5354655" y="955600"/>
                </a:lnTo>
                <a:lnTo>
                  <a:pt x="5357401" y="958346"/>
                </a:lnTo>
                <a:lnTo>
                  <a:pt x="5360147" y="955600"/>
                </a:lnTo>
                <a:lnTo>
                  <a:pt x="5360147" y="952854"/>
                </a:lnTo>
                <a:lnTo>
                  <a:pt x="5357401" y="952854"/>
                </a:lnTo>
                <a:lnTo>
                  <a:pt x="5354655" y="952854"/>
                </a:lnTo>
                <a:close/>
                <a:moveTo>
                  <a:pt x="5178912" y="952854"/>
                </a:moveTo>
                <a:lnTo>
                  <a:pt x="5173420" y="958346"/>
                </a:lnTo>
                <a:lnTo>
                  <a:pt x="5167928" y="966584"/>
                </a:lnTo>
                <a:lnTo>
                  <a:pt x="5170674" y="966584"/>
                </a:lnTo>
                <a:lnTo>
                  <a:pt x="5173420" y="969330"/>
                </a:lnTo>
                <a:lnTo>
                  <a:pt x="5176166" y="972076"/>
                </a:lnTo>
                <a:lnTo>
                  <a:pt x="5181658" y="972076"/>
                </a:lnTo>
                <a:lnTo>
                  <a:pt x="5187150" y="974822"/>
                </a:lnTo>
                <a:lnTo>
                  <a:pt x="5187150" y="980314"/>
                </a:lnTo>
                <a:lnTo>
                  <a:pt x="5184404" y="980314"/>
                </a:lnTo>
                <a:lnTo>
                  <a:pt x="5176166" y="983060"/>
                </a:lnTo>
                <a:lnTo>
                  <a:pt x="5178912" y="994044"/>
                </a:lnTo>
                <a:lnTo>
                  <a:pt x="5187150" y="999536"/>
                </a:lnTo>
                <a:lnTo>
                  <a:pt x="5189896" y="996790"/>
                </a:lnTo>
                <a:lnTo>
                  <a:pt x="5192642" y="991298"/>
                </a:lnTo>
                <a:lnTo>
                  <a:pt x="5189896" y="985806"/>
                </a:lnTo>
                <a:lnTo>
                  <a:pt x="5187150" y="983060"/>
                </a:lnTo>
                <a:lnTo>
                  <a:pt x="5198134" y="983060"/>
                </a:lnTo>
                <a:lnTo>
                  <a:pt x="5200880" y="977568"/>
                </a:lnTo>
                <a:lnTo>
                  <a:pt x="5198134" y="974822"/>
                </a:lnTo>
                <a:lnTo>
                  <a:pt x="5195388" y="969330"/>
                </a:lnTo>
                <a:lnTo>
                  <a:pt x="5195388" y="963838"/>
                </a:lnTo>
                <a:lnTo>
                  <a:pt x="5187150" y="958346"/>
                </a:lnTo>
                <a:lnTo>
                  <a:pt x="5181658" y="955600"/>
                </a:lnTo>
                <a:lnTo>
                  <a:pt x="5178912" y="952854"/>
                </a:lnTo>
                <a:close/>
                <a:moveTo>
                  <a:pt x="856745" y="950108"/>
                </a:moveTo>
                <a:lnTo>
                  <a:pt x="853999" y="952854"/>
                </a:lnTo>
                <a:lnTo>
                  <a:pt x="856745" y="952854"/>
                </a:lnTo>
                <a:lnTo>
                  <a:pt x="856745" y="955600"/>
                </a:lnTo>
                <a:lnTo>
                  <a:pt x="859491" y="955600"/>
                </a:lnTo>
                <a:lnTo>
                  <a:pt x="862237" y="952854"/>
                </a:lnTo>
                <a:lnTo>
                  <a:pt x="862237" y="950108"/>
                </a:lnTo>
                <a:lnTo>
                  <a:pt x="856745" y="950108"/>
                </a:lnTo>
                <a:close/>
                <a:moveTo>
                  <a:pt x="6238859" y="950108"/>
                </a:moveTo>
                <a:lnTo>
                  <a:pt x="6222384" y="955600"/>
                </a:lnTo>
                <a:lnTo>
                  <a:pt x="6216892" y="961092"/>
                </a:lnTo>
                <a:lnTo>
                  <a:pt x="6211400" y="963838"/>
                </a:lnTo>
                <a:lnTo>
                  <a:pt x="6238859" y="958346"/>
                </a:lnTo>
                <a:lnTo>
                  <a:pt x="6252589" y="958346"/>
                </a:lnTo>
                <a:lnTo>
                  <a:pt x="6269065" y="958346"/>
                </a:lnTo>
                <a:lnTo>
                  <a:pt x="6263573" y="952854"/>
                </a:lnTo>
                <a:lnTo>
                  <a:pt x="6258081" y="950108"/>
                </a:lnTo>
                <a:lnTo>
                  <a:pt x="6249843" y="950108"/>
                </a:lnTo>
                <a:lnTo>
                  <a:pt x="6238859" y="950108"/>
                </a:lnTo>
                <a:close/>
                <a:moveTo>
                  <a:pt x="5140468" y="950108"/>
                </a:moveTo>
                <a:lnTo>
                  <a:pt x="5140468" y="955600"/>
                </a:lnTo>
                <a:lnTo>
                  <a:pt x="5148706" y="955600"/>
                </a:lnTo>
                <a:lnTo>
                  <a:pt x="5148706" y="952854"/>
                </a:lnTo>
                <a:lnTo>
                  <a:pt x="5145960" y="950108"/>
                </a:lnTo>
                <a:lnTo>
                  <a:pt x="5140468" y="950108"/>
                </a:lnTo>
                <a:close/>
                <a:moveTo>
                  <a:pt x="1062694" y="947362"/>
                </a:moveTo>
                <a:lnTo>
                  <a:pt x="1062694" y="950108"/>
                </a:lnTo>
                <a:lnTo>
                  <a:pt x="1062694" y="952854"/>
                </a:lnTo>
                <a:lnTo>
                  <a:pt x="1065439" y="952854"/>
                </a:lnTo>
                <a:lnTo>
                  <a:pt x="1068185" y="952854"/>
                </a:lnTo>
                <a:lnTo>
                  <a:pt x="1068185" y="950108"/>
                </a:lnTo>
                <a:lnTo>
                  <a:pt x="1065439" y="950108"/>
                </a:lnTo>
                <a:lnTo>
                  <a:pt x="1065439" y="947362"/>
                </a:lnTo>
                <a:lnTo>
                  <a:pt x="1062694" y="947362"/>
                </a:lnTo>
                <a:close/>
                <a:moveTo>
                  <a:pt x="799080" y="947362"/>
                </a:moveTo>
                <a:lnTo>
                  <a:pt x="799080" y="952854"/>
                </a:lnTo>
                <a:lnTo>
                  <a:pt x="804571" y="952854"/>
                </a:lnTo>
                <a:lnTo>
                  <a:pt x="804571" y="950108"/>
                </a:lnTo>
                <a:lnTo>
                  <a:pt x="799080" y="947362"/>
                </a:lnTo>
                <a:close/>
                <a:moveTo>
                  <a:pt x="6065863" y="947362"/>
                </a:moveTo>
                <a:lnTo>
                  <a:pt x="6068609" y="952854"/>
                </a:lnTo>
                <a:lnTo>
                  <a:pt x="6068609" y="958346"/>
                </a:lnTo>
                <a:lnTo>
                  <a:pt x="6076847" y="963838"/>
                </a:lnTo>
                <a:lnTo>
                  <a:pt x="6082339" y="969330"/>
                </a:lnTo>
                <a:lnTo>
                  <a:pt x="6082339" y="974822"/>
                </a:lnTo>
                <a:lnTo>
                  <a:pt x="6082339" y="983060"/>
                </a:lnTo>
                <a:lnTo>
                  <a:pt x="6076847" y="980314"/>
                </a:lnTo>
                <a:lnTo>
                  <a:pt x="6068609" y="980314"/>
                </a:lnTo>
                <a:lnTo>
                  <a:pt x="6060371" y="983060"/>
                </a:lnTo>
                <a:lnTo>
                  <a:pt x="6054879" y="988552"/>
                </a:lnTo>
                <a:lnTo>
                  <a:pt x="6065863" y="991298"/>
                </a:lnTo>
                <a:lnTo>
                  <a:pt x="6074101" y="999536"/>
                </a:lnTo>
                <a:lnTo>
                  <a:pt x="6076847" y="1007774"/>
                </a:lnTo>
                <a:lnTo>
                  <a:pt x="6076847" y="1018758"/>
                </a:lnTo>
                <a:lnTo>
                  <a:pt x="6079593" y="1029741"/>
                </a:lnTo>
                <a:lnTo>
                  <a:pt x="6082339" y="1037979"/>
                </a:lnTo>
                <a:lnTo>
                  <a:pt x="6090577" y="1043471"/>
                </a:lnTo>
                <a:lnTo>
                  <a:pt x="6104306" y="1043471"/>
                </a:lnTo>
                <a:lnTo>
                  <a:pt x="6104306" y="1037979"/>
                </a:lnTo>
                <a:lnTo>
                  <a:pt x="6104306" y="1035233"/>
                </a:lnTo>
                <a:lnTo>
                  <a:pt x="6096069" y="1032487"/>
                </a:lnTo>
                <a:lnTo>
                  <a:pt x="6087831" y="1032487"/>
                </a:lnTo>
                <a:lnTo>
                  <a:pt x="6085085" y="1029741"/>
                </a:lnTo>
                <a:lnTo>
                  <a:pt x="6082339" y="1026996"/>
                </a:lnTo>
                <a:lnTo>
                  <a:pt x="6093323" y="1024250"/>
                </a:lnTo>
                <a:lnTo>
                  <a:pt x="6104306" y="1024250"/>
                </a:lnTo>
                <a:lnTo>
                  <a:pt x="6123528" y="1029741"/>
                </a:lnTo>
                <a:lnTo>
                  <a:pt x="6142750" y="1037979"/>
                </a:lnTo>
                <a:lnTo>
                  <a:pt x="6150988" y="1040725"/>
                </a:lnTo>
                <a:lnTo>
                  <a:pt x="6161972" y="1040725"/>
                </a:lnTo>
                <a:lnTo>
                  <a:pt x="6172956" y="1035233"/>
                </a:lnTo>
                <a:lnTo>
                  <a:pt x="6178448" y="1029741"/>
                </a:lnTo>
                <a:lnTo>
                  <a:pt x="6189432" y="1026996"/>
                </a:lnTo>
                <a:lnTo>
                  <a:pt x="6200416" y="1024250"/>
                </a:lnTo>
                <a:lnTo>
                  <a:pt x="6208654" y="1018758"/>
                </a:lnTo>
                <a:lnTo>
                  <a:pt x="6216892" y="1016012"/>
                </a:lnTo>
                <a:lnTo>
                  <a:pt x="6227875" y="1010520"/>
                </a:lnTo>
                <a:lnTo>
                  <a:pt x="6238859" y="1010520"/>
                </a:lnTo>
                <a:lnTo>
                  <a:pt x="6249843" y="1013266"/>
                </a:lnTo>
                <a:lnTo>
                  <a:pt x="6271811" y="1016012"/>
                </a:lnTo>
                <a:lnTo>
                  <a:pt x="6293779" y="1018758"/>
                </a:lnTo>
                <a:lnTo>
                  <a:pt x="6304763" y="1018758"/>
                </a:lnTo>
                <a:lnTo>
                  <a:pt x="6315747" y="1013266"/>
                </a:lnTo>
                <a:lnTo>
                  <a:pt x="6318493" y="1013266"/>
                </a:lnTo>
                <a:lnTo>
                  <a:pt x="6310255" y="1005028"/>
                </a:lnTo>
                <a:lnTo>
                  <a:pt x="6296525" y="1002282"/>
                </a:lnTo>
                <a:lnTo>
                  <a:pt x="6280049" y="999536"/>
                </a:lnTo>
                <a:lnTo>
                  <a:pt x="6260827" y="999536"/>
                </a:lnTo>
                <a:lnTo>
                  <a:pt x="6216892" y="1005028"/>
                </a:lnTo>
                <a:lnTo>
                  <a:pt x="6175702" y="1010520"/>
                </a:lnTo>
                <a:lnTo>
                  <a:pt x="6137258" y="1013266"/>
                </a:lnTo>
                <a:lnTo>
                  <a:pt x="6120782" y="1013266"/>
                </a:lnTo>
                <a:lnTo>
                  <a:pt x="6109798" y="1007774"/>
                </a:lnTo>
                <a:lnTo>
                  <a:pt x="6101561" y="999536"/>
                </a:lnTo>
                <a:lnTo>
                  <a:pt x="6096069" y="991298"/>
                </a:lnTo>
                <a:lnTo>
                  <a:pt x="6098815" y="974822"/>
                </a:lnTo>
                <a:lnTo>
                  <a:pt x="6107052" y="955600"/>
                </a:lnTo>
                <a:lnTo>
                  <a:pt x="6087831" y="950108"/>
                </a:lnTo>
                <a:lnTo>
                  <a:pt x="6065863" y="947362"/>
                </a:lnTo>
                <a:close/>
                <a:moveTo>
                  <a:pt x="1048964" y="944616"/>
                </a:moveTo>
                <a:lnTo>
                  <a:pt x="1048964" y="947362"/>
                </a:lnTo>
                <a:lnTo>
                  <a:pt x="1048964" y="950108"/>
                </a:lnTo>
                <a:lnTo>
                  <a:pt x="1048964" y="955600"/>
                </a:lnTo>
                <a:lnTo>
                  <a:pt x="1051710" y="955600"/>
                </a:lnTo>
                <a:lnTo>
                  <a:pt x="1051710" y="944616"/>
                </a:lnTo>
                <a:lnTo>
                  <a:pt x="1048964" y="944616"/>
                </a:lnTo>
                <a:close/>
                <a:moveTo>
                  <a:pt x="812809" y="941870"/>
                </a:moveTo>
                <a:lnTo>
                  <a:pt x="812809" y="947362"/>
                </a:lnTo>
                <a:lnTo>
                  <a:pt x="821047" y="947362"/>
                </a:lnTo>
                <a:lnTo>
                  <a:pt x="818301" y="944616"/>
                </a:lnTo>
                <a:lnTo>
                  <a:pt x="812809" y="941870"/>
                </a:lnTo>
                <a:close/>
                <a:moveTo>
                  <a:pt x="994043" y="939124"/>
                </a:moveTo>
                <a:lnTo>
                  <a:pt x="994043" y="941870"/>
                </a:lnTo>
                <a:lnTo>
                  <a:pt x="999536" y="941870"/>
                </a:lnTo>
                <a:lnTo>
                  <a:pt x="996790" y="939124"/>
                </a:lnTo>
                <a:lnTo>
                  <a:pt x="994043" y="939124"/>
                </a:lnTo>
                <a:close/>
                <a:moveTo>
                  <a:pt x="5195388" y="939124"/>
                </a:moveTo>
                <a:lnTo>
                  <a:pt x="5195388" y="944616"/>
                </a:lnTo>
                <a:lnTo>
                  <a:pt x="5200880" y="944616"/>
                </a:lnTo>
                <a:lnTo>
                  <a:pt x="5203626" y="939124"/>
                </a:lnTo>
                <a:lnTo>
                  <a:pt x="5195388" y="939124"/>
                </a:lnTo>
                <a:close/>
                <a:moveTo>
                  <a:pt x="5280513" y="936378"/>
                </a:moveTo>
                <a:lnTo>
                  <a:pt x="5277767" y="941870"/>
                </a:lnTo>
                <a:lnTo>
                  <a:pt x="5275021" y="944616"/>
                </a:lnTo>
                <a:lnTo>
                  <a:pt x="5275021" y="939124"/>
                </a:lnTo>
                <a:lnTo>
                  <a:pt x="5272275" y="939124"/>
                </a:lnTo>
                <a:lnTo>
                  <a:pt x="5269529" y="939124"/>
                </a:lnTo>
                <a:lnTo>
                  <a:pt x="5269529" y="944616"/>
                </a:lnTo>
                <a:lnTo>
                  <a:pt x="5277767" y="947362"/>
                </a:lnTo>
                <a:lnTo>
                  <a:pt x="5283259" y="952854"/>
                </a:lnTo>
                <a:lnTo>
                  <a:pt x="5288751" y="952854"/>
                </a:lnTo>
                <a:lnTo>
                  <a:pt x="5294243" y="950108"/>
                </a:lnTo>
                <a:lnTo>
                  <a:pt x="5294243" y="944616"/>
                </a:lnTo>
                <a:lnTo>
                  <a:pt x="5291497" y="939124"/>
                </a:lnTo>
                <a:lnTo>
                  <a:pt x="5288751" y="936378"/>
                </a:lnTo>
                <a:lnTo>
                  <a:pt x="5280513" y="936378"/>
                </a:lnTo>
                <a:close/>
                <a:moveTo>
                  <a:pt x="5178912" y="936378"/>
                </a:moveTo>
                <a:lnTo>
                  <a:pt x="5176166" y="939124"/>
                </a:lnTo>
                <a:lnTo>
                  <a:pt x="5178912" y="941870"/>
                </a:lnTo>
                <a:lnTo>
                  <a:pt x="5181658" y="944616"/>
                </a:lnTo>
                <a:lnTo>
                  <a:pt x="5184404" y="944616"/>
                </a:lnTo>
                <a:lnTo>
                  <a:pt x="5184404" y="936378"/>
                </a:lnTo>
                <a:lnTo>
                  <a:pt x="5181658" y="936378"/>
                </a:lnTo>
                <a:lnTo>
                  <a:pt x="5178912" y="936378"/>
                </a:lnTo>
                <a:close/>
                <a:moveTo>
                  <a:pt x="1315322" y="933632"/>
                </a:moveTo>
                <a:lnTo>
                  <a:pt x="1315322" y="941870"/>
                </a:lnTo>
                <a:lnTo>
                  <a:pt x="1320814" y="941870"/>
                </a:lnTo>
                <a:lnTo>
                  <a:pt x="1318068" y="939124"/>
                </a:lnTo>
                <a:lnTo>
                  <a:pt x="1315322" y="933632"/>
                </a:lnTo>
                <a:close/>
                <a:moveTo>
                  <a:pt x="1062694" y="933632"/>
                </a:moveTo>
                <a:lnTo>
                  <a:pt x="1062694" y="939124"/>
                </a:lnTo>
                <a:lnTo>
                  <a:pt x="1070932" y="939124"/>
                </a:lnTo>
                <a:lnTo>
                  <a:pt x="1073678" y="939124"/>
                </a:lnTo>
                <a:lnTo>
                  <a:pt x="1073678" y="936378"/>
                </a:lnTo>
                <a:lnTo>
                  <a:pt x="1068185" y="933632"/>
                </a:lnTo>
                <a:lnTo>
                  <a:pt x="1062694" y="933632"/>
                </a:lnTo>
                <a:close/>
                <a:moveTo>
                  <a:pt x="1054456" y="933632"/>
                </a:moveTo>
                <a:lnTo>
                  <a:pt x="1054456" y="936378"/>
                </a:lnTo>
                <a:lnTo>
                  <a:pt x="1057202" y="939124"/>
                </a:lnTo>
                <a:lnTo>
                  <a:pt x="1057202" y="941870"/>
                </a:lnTo>
                <a:lnTo>
                  <a:pt x="1062694" y="941870"/>
                </a:lnTo>
                <a:lnTo>
                  <a:pt x="1059948" y="936378"/>
                </a:lnTo>
                <a:lnTo>
                  <a:pt x="1054456" y="933632"/>
                </a:lnTo>
                <a:close/>
                <a:moveTo>
                  <a:pt x="5956024" y="930886"/>
                </a:moveTo>
                <a:lnTo>
                  <a:pt x="5942294" y="944616"/>
                </a:lnTo>
                <a:lnTo>
                  <a:pt x="5917580" y="963838"/>
                </a:lnTo>
                <a:lnTo>
                  <a:pt x="5909342" y="969330"/>
                </a:lnTo>
                <a:lnTo>
                  <a:pt x="5903850" y="974822"/>
                </a:lnTo>
                <a:lnTo>
                  <a:pt x="5898358" y="983060"/>
                </a:lnTo>
                <a:lnTo>
                  <a:pt x="5892866" y="988552"/>
                </a:lnTo>
                <a:lnTo>
                  <a:pt x="5887374" y="991298"/>
                </a:lnTo>
                <a:lnTo>
                  <a:pt x="5879136" y="994044"/>
                </a:lnTo>
                <a:lnTo>
                  <a:pt x="5873644" y="996790"/>
                </a:lnTo>
                <a:lnTo>
                  <a:pt x="5868152" y="999536"/>
                </a:lnTo>
                <a:lnTo>
                  <a:pt x="5859914" y="1010520"/>
                </a:lnTo>
                <a:lnTo>
                  <a:pt x="5857169" y="1018758"/>
                </a:lnTo>
                <a:lnTo>
                  <a:pt x="5851677" y="1029741"/>
                </a:lnTo>
                <a:lnTo>
                  <a:pt x="5846185" y="1035233"/>
                </a:lnTo>
                <a:lnTo>
                  <a:pt x="5835201" y="1040725"/>
                </a:lnTo>
                <a:lnTo>
                  <a:pt x="5821471" y="1043471"/>
                </a:lnTo>
                <a:lnTo>
                  <a:pt x="5796757" y="1048963"/>
                </a:lnTo>
                <a:lnTo>
                  <a:pt x="5788519" y="1051709"/>
                </a:lnTo>
                <a:lnTo>
                  <a:pt x="5785773" y="1057201"/>
                </a:lnTo>
                <a:lnTo>
                  <a:pt x="5788519" y="1065439"/>
                </a:lnTo>
                <a:lnTo>
                  <a:pt x="5799503" y="1076423"/>
                </a:lnTo>
                <a:lnTo>
                  <a:pt x="5796757" y="1079169"/>
                </a:lnTo>
                <a:lnTo>
                  <a:pt x="5799503" y="1079169"/>
                </a:lnTo>
                <a:lnTo>
                  <a:pt x="5799503" y="1076423"/>
                </a:lnTo>
                <a:lnTo>
                  <a:pt x="5804995" y="1079169"/>
                </a:lnTo>
                <a:lnTo>
                  <a:pt x="5810487" y="1079169"/>
                </a:lnTo>
                <a:lnTo>
                  <a:pt x="5812318" y="1077949"/>
                </a:lnTo>
                <a:lnTo>
                  <a:pt x="5807741" y="1076423"/>
                </a:lnTo>
                <a:lnTo>
                  <a:pt x="5813942" y="1076866"/>
                </a:lnTo>
                <a:lnTo>
                  <a:pt x="5818725" y="1073677"/>
                </a:lnTo>
                <a:lnTo>
                  <a:pt x="5826963" y="1068185"/>
                </a:lnTo>
                <a:lnTo>
                  <a:pt x="5835201" y="1062693"/>
                </a:lnTo>
                <a:lnTo>
                  <a:pt x="5835201" y="1065439"/>
                </a:lnTo>
                <a:lnTo>
                  <a:pt x="5837947" y="1065439"/>
                </a:lnTo>
                <a:lnTo>
                  <a:pt x="5837947" y="1062693"/>
                </a:lnTo>
                <a:lnTo>
                  <a:pt x="5843439" y="1054455"/>
                </a:lnTo>
                <a:lnTo>
                  <a:pt x="5846185" y="1051709"/>
                </a:lnTo>
                <a:lnTo>
                  <a:pt x="5851677" y="1048963"/>
                </a:lnTo>
                <a:lnTo>
                  <a:pt x="5857169" y="1046217"/>
                </a:lnTo>
                <a:lnTo>
                  <a:pt x="5890120" y="1046217"/>
                </a:lnTo>
                <a:lnTo>
                  <a:pt x="5906596" y="1043471"/>
                </a:lnTo>
                <a:lnTo>
                  <a:pt x="5923072" y="1040725"/>
                </a:lnTo>
                <a:lnTo>
                  <a:pt x="5953278" y="1026996"/>
                </a:lnTo>
                <a:lnTo>
                  <a:pt x="5983483" y="1016012"/>
                </a:lnTo>
                <a:lnTo>
                  <a:pt x="6008197" y="1007774"/>
                </a:lnTo>
                <a:lnTo>
                  <a:pt x="6016435" y="1005028"/>
                </a:lnTo>
                <a:lnTo>
                  <a:pt x="6024673" y="1007774"/>
                </a:lnTo>
                <a:lnTo>
                  <a:pt x="6038403" y="1013266"/>
                </a:lnTo>
                <a:lnTo>
                  <a:pt x="6052133" y="1021504"/>
                </a:lnTo>
                <a:lnTo>
                  <a:pt x="6065863" y="1032487"/>
                </a:lnTo>
                <a:lnTo>
                  <a:pt x="6065863" y="1018758"/>
                </a:lnTo>
                <a:lnTo>
                  <a:pt x="6063117" y="1010520"/>
                </a:lnTo>
                <a:lnTo>
                  <a:pt x="6054879" y="1005028"/>
                </a:lnTo>
                <a:lnTo>
                  <a:pt x="6043895" y="999536"/>
                </a:lnTo>
                <a:lnTo>
                  <a:pt x="6019181" y="988552"/>
                </a:lnTo>
                <a:lnTo>
                  <a:pt x="6010943" y="983060"/>
                </a:lnTo>
                <a:lnTo>
                  <a:pt x="6005451" y="977568"/>
                </a:lnTo>
                <a:lnTo>
                  <a:pt x="6005451" y="972076"/>
                </a:lnTo>
                <a:lnTo>
                  <a:pt x="6002705" y="972076"/>
                </a:lnTo>
                <a:lnTo>
                  <a:pt x="5991721" y="969330"/>
                </a:lnTo>
                <a:lnTo>
                  <a:pt x="5986229" y="963838"/>
                </a:lnTo>
                <a:lnTo>
                  <a:pt x="5980738" y="958346"/>
                </a:lnTo>
                <a:lnTo>
                  <a:pt x="5972500" y="944616"/>
                </a:lnTo>
                <a:lnTo>
                  <a:pt x="5967008" y="933632"/>
                </a:lnTo>
                <a:lnTo>
                  <a:pt x="5961516" y="930886"/>
                </a:lnTo>
                <a:lnTo>
                  <a:pt x="5956024" y="930886"/>
                </a:lnTo>
                <a:close/>
                <a:moveTo>
                  <a:pt x="1340038" y="928140"/>
                </a:moveTo>
                <a:lnTo>
                  <a:pt x="1340038" y="936378"/>
                </a:lnTo>
                <a:lnTo>
                  <a:pt x="1345529" y="936378"/>
                </a:lnTo>
                <a:lnTo>
                  <a:pt x="1348275" y="933632"/>
                </a:lnTo>
                <a:lnTo>
                  <a:pt x="1345529" y="930886"/>
                </a:lnTo>
                <a:lnTo>
                  <a:pt x="1340038" y="928140"/>
                </a:lnTo>
                <a:close/>
                <a:moveTo>
                  <a:pt x="6109798" y="925394"/>
                </a:moveTo>
                <a:lnTo>
                  <a:pt x="6109798" y="930886"/>
                </a:lnTo>
                <a:lnTo>
                  <a:pt x="6115290" y="930886"/>
                </a:lnTo>
                <a:lnTo>
                  <a:pt x="6118036" y="925394"/>
                </a:lnTo>
                <a:lnTo>
                  <a:pt x="6109798" y="925394"/>
                </a:lnTo>
                <a:close/>
                <a:moveTo>
                  <a:pt x="5371131" y="925394"/>
                </a:moveTo>
                <a:lnTo>
                  <a:pt x="5371131" y="928140"/>
                </a:lnTo>
                <a:lnTo>
                  <a:pt x="5373876" y="930886"/>
                </a:lnTo>
                <a:lnTo>
                  <a:pt x="5376622" y="933632"/>
                </a:lnTo>
                <a:lnTo>
                  <a:pt x="5382114" y="933632"/>
                </a:lnTo>
                <a:lnTo>
                  <a:pt x="5382114" y="930886"/>
                </a:lnTo>
                <a:lnTo>
                  <a:pt x="5382114" y="928140"/>
                </a:lnTo>
                <a:lnTo>
                  <a:pt x="5379368" y="925394"/>
                </a:lnTo>
                <a:lnTo>
                  <a:pt x="5371131" y="925394"/>
                </a:lnTo>
                <a:close/>
                <a:moveTo>
                  <a:pt x="5121247" y="925394"/>
                </a:moveTo>
                <a:lnTo>
                  <a:pt x="5118501" y="928140"/>
                </a:lnTo>
                <a:lnTo>
                  <a:pt x="5121247" y="930886"/>
                </a:lnTo>
                <a:lnTo>
                  <a:pt x="5123993" y="930886"/>
                </a:lnTo>
                <a:lnTo>
                  <a:pt x="5126739" y="928140"/>
                </a:lnTo>
                <a:lnTo>
                  <a:pt x="5123993" y="925394"/>
                </a:lnTo>
                <a:lnTo>
                  <a:pt x="5121247" y="925394"/>
                </a:lnTo>
                <a:close/>
                <a:moveTo>
                  <a:pt x="966584" y="919902"/>
                </a:moveTo>
                <a:lnTo>
                  <a:pt x="966584" y="922648"/>
                </a:lnTo>
                <a:lnTo>
                  <a:pt x="963838" y="922648"/>
                </a:lnTo>
                <a:lnTo>
                  <a:pt x="963838" y="925394"/>
                </a:lnTo>
                <a:lnTo>
                  <a:pt x="969330" y="925394"/>
                </a:lnTo>
                <a:lnTo>
                  <a:pt x="972076" y="925394"/>
                </a:lnTo>
                <a:lnTo>
                  <a:pt x="974822" y="925394"/>
                </a:lnTo>
                <a:lnTo>
                  <a:pt x="974822" y="922648"/>
                </a:lnTo>
                <a:lnTo>
                  <a:pt x="972076" y="922648"/>
                </a:lnTo>
                <a:lnTo>
                  <a:pt x="966584" y="919902"/>
                </a:lnTo>
                <a:close/>
                <a:moveTo>
                  <a:pt x="6293779" y="917156"/>
                </a:moveTo>
                <a:lnTo>
                  <a:pt x="6293779" y="925394"/>
                </a:lnTo>
                <a:lnTo>
                  <a:pt x="6296525" y="925394"/>
                </a:lnTo>
                <a:lnTo>
                  <a:pt x="6296525" y="919902"/>
                </a:lnTo>
                <a:lnTo>
                  <a:pt x="6293779" y="917156"/>
                </a:lnTo>
                <a:close/>
                <a:moveTo>
                  <a:pt x="5445272" y="917156"/>
                </a:moveTo>
                <a:lnTo>
                  <a:pt x="5445272" y="922648"/>
                </a:lnTo>
                <a:lnTo>
                  <a:pt x="5450764" y="922648"/>
                </a:lnTo>
                <a:lnTo>
                  <a:pt x="5453510" y="925394"/>
                </a:lnTo>
                <a:lnTo>
                  <a:pt x="5450764" y="919902"/>
                </a:lnTo>
                <a:lnTo>
                  <a:pt x="5445272" y="917156"/>
                </a:lnTo>
                <a:close/>
                <a:moveTo>
                  <a:pt x="5239324" y="917156"/>
                </a:moveTo>
                <a:lnTo>
                  <a:pt x="5236578" y="925394"/>
                </a:lnTo>
                <a:lnTo>
                  <a:pt x="5236578" y="930886"/>
                </a:lnTo>
                <a:lnTo>
                  <a:pt x="5239324" y="936378"/>
                </a:lnTo>
                <a:lnTo>
                  <a:pt x="5244816" y="939124"/>
                </a:lnTo>
                <a:lnTo>
                  <a:pt x="5244816" y="930886"/>
                </a:lnTo>
                <a:lnTo>
                  <a:pt x="5242070" y="925394"/>
                </a:lnTo>
                <a:lnTo>
                  <a:pt x="5247562" y="925394"/>
                </a:lnTo>
                <a:lnTo>
                  <a:pt x="5247562" y="917156"/>
                </a:lnTo>
                <a:lnTo>
                  <a:pt x="5239324" y="917156"/>
                </a:lnTo>
                <a:close/>
                <a:moveTo>
                  <a:pt x="5118501" y="917156"/>
                </a:moveTo>
                <a:lnTo>
                  <a:pt x="5118501" y="919902"/>
                </a:lnTo>
                <a:lnTo>
                  <a:pt x="5123993" y="922648"/>
                </a:lnTo>
                <a:lnTo>
                  <a:pt x="5123993" y="917156"/>
                </a:lnTo>
                <a:lnTo>
                  <a:pt x="5118501" y="917156"/>
                </a:lnTo>
                <a:close/>
                <a:moveTo>
                  <a:pt x="5082803" y="917156"/>
                </a:moveTo>
                <a:lnTo>
                  <a:pt x="5085549" y="922648"/>
                </a:lnTo>
                <a:lnTo>
                  <a:pt x="5088295" y="928140"/>
                </a:lnTo>
                <a:lnTo>
                  <a:pt x="5091041" y="930886"/>
                </a:lnTo>
                <a:lnTo>
                  <a:pt x="5093787" y="936378"/>
                </a:lnTo>
                <a:lnTo>
                  <a:pt x="5091041" y="939124"/>
                </a:lnTo>
                <a:lnTo>
                  <a:pt x="5091041" y="941870"/>
                </a:lnTo>
                <a:lnTo>
                  <a:pt x="5093787" y="947362"/>
                </a:lnTo>
                <a:lnTo>
                  <a:pt x="5107517" y="947362"/>
                </a:lnTo>
                <a:lnTo>
                  <a:pt x="5110263" y="955600"/>
                </a:lnTo>
                <a:lnTo>
                  <a:pt x="5113009" y="961092"/>
                </a:lnTo>
                <a:lnTo>
                  <a:pt x="5118501" y="961092"/>
                </a:lnTo>
                <a:lnTo>
                  <a:pt x="5118501" y="955600"/>
                </a:lnTo>
                <a:lnTo>
                  <a:pt x="5118501" y="952854"/>
                </a:lnTo>
                <a:lnTo>
                  <a:pt x="5118501" y="950108"/>
                </a:lnTo>
                <a:lnTo>
                  <a:pt x="5118501" y="944616"/>
                </a:lnTo>
                <a:lnTo>
                  <a:pt x="5115755" y="944616"/>
                </a:lnTo>
                <a:lnTo>
                  <a:pt x="5113009" y="944616"/>
                </a:lnTo>
                <a:lnTo>
                  <a:pt x="5104771" y="944616"/>
                </a:lnTo>
                <a:lnTo>
                  <a:pt x="5104771" y="941870"/>
                </a:lnTo>
                <a:lnTo>
                  <a:pt x="5102025" y="939124"/>
                </a:lnTo>
                <a:lnTo>
                  <a:pt x="5102025" y="936378"/>
                </a:lnTo>
                <a:lnTo>
                  <a:pt x="5102025" y="930886"/>
                </a:lnTo>
                <a:lnTo>
                  <a:pt x="5102025" y="928140"/>
                </a:lnTo>
                <a:lnTo>
                  <a:pt x="5096533" y="925394"/>
                </a:lnTo>
                <a:lnTo>
                  <a:pt x="5091041" y="922648"/>
                </a:lnTo>
                <a:lnTo>
                  <a:pt x="5082803" y="917156"/>
                </a:lnTo>
                <a:close/>
                <a:moveTo>
                  <a:pt x="1263149" y="911664"/>
                </a:moveTo>
                <a:lnTo>
                  <a:pt x="1263149" y="917156"/>
                </a:lnTo>
                <a:lnTo>
                  <a:pt x="1263149" y="922648"/>
                </a:lnTo>
                <a:lnTo>
                  <a:pt x="1271389" y="925394"/>
                </a:lnTo>
                <a:lnTo>
                  <a:pt x="1276880" y="922648"/>
                </a:lnTo>
                <a:lnTo>
                  <a:pt x="1279625" y="922648"/>
                </a:lnTo>
                <a:lnTo>
                  <a:pt x="1282371" y="917156"/>
                </a:lnTo>
                <a:lnTo>
                  <a:pt x="1279625" y="917156"/>
                </a:lnTo>
                <a:lnTo>
                  <a:pt x="1279625" y="914410"/>
                </a:lnTo>
                <a:lnTo>
                  <a:pt x="1279625" y="911664"/>
                </a:lnTo>
                <a:lnTo>
                  <a:pt x="1263149" y="911664"/>
                </a:lnTo>
                <a:close/>
                <a:moveTo>
                  <a:pt x="5102025" y="911664"/>
                </a:moveTo>
                <a:lnTo>
                  <a:pt x="5102025" y="917156"/>
                </a:lnTo>
                <a:lnTo>
                  <a:pt x="5104771" y="919902"/>
                </a:lnTo>
                <a:lnTo>
                  <a:pt x="5115755" y="922648"/>
                </a:lnTo>
                <a:lnTo>
                  <a:pt x="5115755" y="917156"/>
                </a:lnTo>
                <a:lnTo>
                  <a:pt x="5110263" y="917156"/>
                </a:lnTo>
                <a:lnTo>
                  <a:pt x="5107517" y="914410"/>
                </a:lnTo>
                <a:lnTo>
                  <a:pt x="5104771" y="911664"/>
                </a:lnTo>
                <a:lnTo>
                  <a:pt x="5102025" y="911664"/>
                </a:lnTo>
                <a:close/>
                <a:moveTo>
                  <a:pt x="6024673" y="906172"/>
                </a:moveTo>
                <a:lnTo>
                  <a:pt x="6024673" y="908918"/>
                </a:lnTo>
                <a:lnTo>
                  <a:pt x="6030165" y="908918"/>
                </a:lnTo>
                <a:lnTo>
                  <a:pt x="6032911" y="908918"/>
                </a:lnTo>
                <a:lnTo>
                  <a:pt x="6032911" y="906172"/>
                </a:lnTo>
                <a:lnTo>
                  <a:pt x="6030165" y="906172"/>
                </a:lnTo>
                <a:lnTo>
                  <a:pt x="6027419" y="906172"/>
                </a:lnTo>
                <a:lnTo>
                  <a:pt x="6024673" y="906172"/>
                </a:lnTo>
                <a:close/>
                <a:moveTo>
                  <a:pt x="5708886" y="906172"/>
                </a:moveTo>
                <a:lnTo>
                  <a:pt x="5708886" y="914410"/>
                </a:lnTo>
                <a:lnTo>
                  <a:pt x="5714378" y="914410"/>
                </a:lnTo>
                <a:lnTo>
                  <a:pt x="5717124" y="908918"/>
                </a:lnTo>
                <a:lnTo>
                  <a:pt x="5714378" y="908918"/>
                </a:lnTo>
                <a:lnTo>
                  <a:pt x="5708886" y="906172"/>
                </a:lnTo>
                <a:close/>
                <a:moveTo>
                  <a:pt x="5165182" y="906172"/>
                </a:moveTo>
                <a:lnTo>
                  <a:pt x="5162436" y="908918"/>
                </a:lnTo>
                <a:lnTo>
                  <a:pt x="5159690" y="908918"/>
                </a:lnTo>
                <a:lnTo>
                  <a:pt x="5159690" y="917156"/>
                </a:lnTo>
                <a:lnTo>
                  <a:pt x="5165182" y="917156"/>
                </a:lnTo>
                <a:lnTo>
                  <a:pt x="5167928" y="911664"/>
                </a:lnTo>
                <a:lnTo>
                  <a:pt x="5165182" y="906172"/>
                </a:lnTo>
                <a:close/>
                <a:moveTo>
                  <a:pt x="810063" y="906172"/>
                </a:moveTo>
                <a:lnTo>
                  <a:pt x="807317" y="911664"/>
                </a:lnTo>
                <a:lnTo>
                  <a:pt x="804571" y="914410"/>
                </a:lnTo>
                <a:lnTo>
                  <a:pt x="801825" y="917156"/>
                </a:lnTo>
                <a:lnTo>
                  <a:pt x="799080" y="919902"/>
                </a:lnTo>
                <a:lnTo>
                  <a:pt x="804571" y="919902"/>
                </a:lnTo>
                <a:lnTo>
                  <a:pt x="807317" y="917156"/>
                </a:lnTo>
                <a:lnTo>
                  <a:pt x="810063" y="914410"/>
                </a:lnTo>
                <a:lnTo>
                  <a:pt x="812809" y="914410"/>
                </a:lnTo>
                <a:lnTo>
                  <a:pt x="812809" y="908918"/>
                </a:lnTo>
                <a:lnTo>
                  <a:pt x="810063" y="906172"/>
                </a:lnTo>
                <a:close/>
                <a:moveTo>
                  <a:pt x="5791265" y="900680"/>
                </a:moveTo>
                <a:lnTo>
                  <a:pt x="5791265" y="903426"/>
                </a:lnTo>
                <a:lnTo>
                  <a:pt x="5788519" y="906172"/>
                </a:lnTo>
                <a:lnTo>
                  <a:pt x="5791265" y="906172"/>
                </a:lnTo>
                <a:lnTo>
                  <a:pt x="5794011" y="906172"/>
                </a:lnTo>
                <a:lnTo>
                  <a:pt x="5796757" y="903426"/>
                </a:lnTo>
                <a:lnTo>
                  <a:pt x="5794011" y="903426"/>
                </a:lnTo>
                <a:lnTo>
                  <a:pt x="5794011" y="900680"/>
                </a:lnTo>
                <a:lnTo>
                  <a:pt x="5791265" y="900680"/>
                </a:lnTo>
                <a:close/>
                <a:moveTo>
                  <a:pt x="903426" y="900680"/>
                </a:moveTo>
                <a:lnTo>
                  <a:pt x="895189" y="903426"/>
                </a:lnTo>
                <a:lnTo>
                  <a:pt x="895189" y="911664"/>
                </a:lnTo>
                <a:lnTo>
                  <a:pt x="903426" y="911664"/>
                </a:lnTo>
                <a:lnTo>
                  <a:pt x="903426" y="908918"/>
                </a:lnTo>
                <a:lnTo>
                  <a:pt x="908919" y="906172"/>
                </a:lnTo>
                <a:lnTo>
                  <a:pt x="911664" y="906172"/>
                </a:lnTo>
                <a:lnTo>
                  <a:pt x="911664" y="903426"/>
                </a:lnTo>
                <a:lnTo>
                  <a:pt x="903426" y="900680"/>
                </a:lnTo>
                <a:close/>
                <a:moveTo>
                  <a:pt x="1556969" y="895188"/>
                </a:moveTo>
                <a:lnTo>
                  <a:pt x="1565206" y="897934"/>
                </a:lnTo>
                <a:lnTo>
                  <a:pt x="1573445" y="897934"/>
                </a:lnTo>
                <a:lnTo>
                  <a:pt x="1573445" y="914410"/>
                </a:lnTo>
                <a:lnTo>
                  <a:pt x="1559715" y="914410"/>
                </a:lnTo>
                <a:lnTo>
                  <a:pt x="1562461" y="903426"/>
                </a:lnTo>
                <a:lnTo>
                  <a:pt x="1559715" y="903426"/>
                </a:lnTo>
                <a:lnTo>
                  <a:pt x="1556969" y="900680"/>
                </a:lnTo>
                <a:lnTo>
                  <a:pt x="1556969" y="897934"/>
                </a:lnTo>
                <a:lnTo>
                  <a:pt x="1556969" y="895188"/>
                </a:lnTo>
                <a:close/>
                <a:moveTo>
                  <a:pt x="1419670" y="892443"/>
                </a:moveTo>
                <a:lnTo>
                  <a:pt x="1414179" y="900680"/>
                </a:lnTo>
                <a:lnTo>
                  <a:pt x="1419670" y="903426"/>
                </a:lnTo>
                <a:lnTo>
                  <a:pt x="1425162" y="903426"/>
                </a:lnTo>
                <a:lnTo>
                  <a:pt x="1433400" y="897934"/>
                </a:lnTo>
                <a:lnTo>
                  <a:pt x="1433400" y="895188"/>
                </a:lnTo>
                <a:lnTo>
                  <a:pt x="1427907" y="892443"/>
                </a:lnTo>
                <a:lnTo>
                  <a:pt x="1419670" y="892443"/>
                </a:lnTo>
                <a:close/>
                <a:moveTo>
                  <a:pt x="5225594" y="892442"/>
                </a:moveTo>
                <a:lnTo>
                  <a:pt x="5225594" y="895188"/>
                </a:lnTo>
                <a:lnTo>
                  <a:pt x="5222848" y="895188"/>
                </a:lnTo>
                <a:lnTo>
                  <a:pt x="5222848" y="900680"/>
                </a:lnTo>
                <a:lnTo>
                  <a:pt x="5231086" y="900680"/>
                </a:lnTo>
                <a:lnTo>
                  <a:pt x="5239324" y="900680"/>
                </a:lnTo>
                <a:lnTo>
                  <a:pt x="5239324" y="897934"/>
                </a:lnTo>
                <a:lnTo>
                  <a:pt x="5242070" y="895188"/>
                </a:lnTo>
                <a:lnTo>
                  <a:pt x="5231086" y="900680"/>
                </a:lnTo>
                <a:lnTo>
                  <a:pt x="5231086" y="895188"/>
                </a:lnTo>
                <a:lnTo>
                  <a:pt x="5228340" y="892442"/>
                </a:lnTo>
                <a:lnTo>
                  <a:pt x="5225594" y="892442"/>
                </a:lnTo>
                <a:close/>
                <a:moveTo>
                  <a:pt x="1046217" y="889697"/>
                </a:moveTo>
                <a:lnTo>
                  <a:pt x="1040725" y="892443"/>
                </a:lnTo>
                <a:lnTo>
                  <a:pt x="1035233" y="895188"/>
                </a:lnTo>
                <a:lnTo>
                  <a:pt x="1035233" y="900680"/>
                </a:lnTo>
                <a:lnTo>
                  <a:pt x="1032487" y="903426"/>
                </a:lnTo>
                <a:lnTo>
                  <a:pt x="1029742" y="911664"/>
                </a:lnTo>
                <a:lnTo>
                  <a:pt x="1035233" y="903426"/>
                </a:lnTo>
                <a:lnTo>
                  <a:pt x="1040725" y="895188"/>
                </a:lnTo>
                <a:lnTo>
                  <a:pt x="1043472" y="895188"/>
                </a:lnTo>
                <a:lnTo>
                  <a:pt x="1046217" y="897934"/>
                </a:lnTo>
                <a:lnTo>
                  <a:pt x="1048964" y="897934"/>
                </a:lnTo>
                <a:lnTo>
                  <a:pt x="1048964" y="895188"/>
                </a:lnTo>
                <a:lnTo>
                  <a:pt x="1046217" y="895188"/>
                </a:lnTo>
                <a:lnTo>
                  <a:pt x="1046217" y="892443"/>
                </a:lnTo>
                <a:lnTo>
                  <a:pt x="1046217" y="889697"/>
                </a:lnTo>
                <a:close/>
                <a:moveTo>
                  <a:pt x="1002281" y="889697"/>
                </a:moveTo>
                <a:lnTo>
                  <a:pt x="1002281" y="895188"/>
                </a:lnTo>
                <a:lnTo>
                  <a:pt x="999536" y="897934"/>
                </a:lnTo>
                <a:lnTo>
                  <a:pt x="996790" y="900680"/>
                </a:lnTo>
                <a:lnTo>
                  <a:pt x="996790" y="906172"/>
                </a:lnTo>
                <a:lnTo>
                  <a:pt x="1002281" y="906172"/>
                </a:lnTo>
                <a:lnTo>
                  <a:pt x="1002281" y="911664"/>
                </a:lnTo>
                <a:lnTo>
                  <a:pt x="1005028" y="908918"/>
                </a:lnTo>
                <a:lnTo>
                  <a:pt x="1010520" y="906172"/>
                </a:lnTo>
                <a:lnTo>
                  <a:pt x="1013265" y="903426"/>
                </a:lnTo>
                <a:lnTo>
                  <a:pt x="1016011" y="903426"/>
                </a:lnTo>
                <a:lnTo>
                  <a:pt x="1016011" y="895188"/>
                </a:lnTo>
                <a:lnTo>
                  <a:pt x="1010520" y="892443"/>
                </a:lnTo>
                <a:lnTo>
                  <a:pt x="1007773" y="889697"/>
                </a:lnTo>
                <a:lnTo>
                  <a:pt x="1002281" y="889697"/>
                </a:lnTo>
                <a:close/>
                <a:moveTo>
                  <a:pt x="5329941" y="889696"/>
                </a:moveTo>
                <a:lnTo>
                  <a:pt x="5329941" y="895188"/>
                </a:lnTo>
                <a:lnTo>
                  <a:pt x="5332687" y="897934"/>
                </a:lnTo>
                <a:lnTo>
                  <a:pt x="5335433" y="897934"/>
                </a:lnTo>
                <a:lnTo>
                  <a:pt x="5338179" y="897934"/>
                </a:lnTo>
                <a:lnTo>
                  <a:pt x="5338179" y="895188"/>
                </a:lnTo>
                <a:lnTo>
                  <a:pt x="5338179" y="892442"/>
                </a:lnTo>
                <a:lnTo>
                  <a:pt x="5335433" y="889696"/>
                </a:lnTo>
                <a:lnTo>
                  <a:pt x="5329941" y="889696"/>
                </a:lnTo>
                <a:close/>
                <a:moveTo>
                  <a:pt x="5305227" y="889696"/>
                </a:moveTo>
                <a:lnTo>
                  <a:pt x="5305227" y="892442"/>
                </a:lnTo>
                <a:lnTo>
                  <a:pt x="5310719" y="892442"/>
                </a:lnTo>
                <a:lnTo>
                  <a:pt x="5310719" y="889696"/>
                </a:lnTo>
                <a:lnTo>
                  <a:pt x="5305227" y="889696"/>
                </a:lnTo>
                <a:close/>
                <a:moveTo>
                  <a:pt x="983059" y="884205"/>
                </a:moveTo>
                <a:lnTo>
                  <a:pt x="983059" y="889697"/>
                </a:lnTo>
                <a:lnTo>
                  <a:pt x="991298" y="892443"/>
                </a:lnTo>
                <a:lnTo>
                  <a:pt x="994043" y="892443"/>
                </a:lnTo>
                <a:lnTo>
                  <a:pt x="996790" y="892443"/>
                </a:lnTo>
                <a:lnTo>
                  <a:pt x="996790" y="889697"/>
                </a:lnTo>
                <a:lnTo>
                  <a:pt x="996790" y="886951"/>
                </a:lnTo>
                <a:lnTo>
                  <a:pt x="994043" y="884205"/>
                </a:lnTo>
                <a:lnTo>
                  <a:pt x="988551" y="886951"/>
                </a:lnTo>
                <a:lnTo>
                  <a:pt x="983059" y="884205"/>
                </a:lnTo>
                <a:close/>
                <a:moveTo>
                  <a:pt x="5113009" y="884204"/>
                </a:moveTo>
                <a:lnTo>
                  <a:pt x="5113009" y="886950"/>
                </a:lnTo>
                <a:lnTo>
                  <a:pt x="5110263" y="889696"/>
                </a:lnTo>
                <a:lnTo>
                  <a:pt x="5107517" y="889696"/>
                </a:lnTo>
                <a:lnTo>
                  <a:pt x="5104771" y="892442"/>
                </a:lnTo>
                <a:lnTo>
                  <a:pt x="5113009" y="892442"/>
                </a:lnTo>
                <a:lnTo>
                  <a:pt x="5118501" y="897934"/>
                </a:lnTo>
                <a:lnTo>
                  <a:pt x="5123993" y="895188"/>
                </a:lnTo>
                <a:lnTo>
                  <a:pt x="5129485" y="892442"/>
                </a:lnTo>
                <a:lnTo>
                  <a:pt x="5143214" y="889696"/>
                </a:lnTo>
                <a:lnTo>
                  <a:pt x="5143214" y="884204"/>
                </a:lnTo>
                <a:lnTo>
                  <a:pt x="5132230" y="884204"/>
                </a:lnTo>
                <a:lnTo>
                  <a:pt x="5123993" y="889696"/>
                </a:lnTo>
                <a:lnTo>
                  <a:pt x="5121247" y="884204"/>
                </a:lnTo>
                <a:lnTo>
                  <a:pt x="5113009" y="884204"/>
                </a:lnTo>
                <a:close/>
                <a:moveTo>
                  <a:pt x="5167928" y="881458"/>
                </a:moveTo>
                <a:lnTo>
                  <a:pt x="5170674" y="884204"/>
                </a:lnTo>
                <a:lnTo>
                  <a:pt x="5176166" y="884204"/>
                </a:lnTo>
                <a:lnTo>
                  <a:pt x="5176166" y="881458"/>
                </a:lnTo>
                <a:lnTo>
                  <a:pt x="5167928" y="881458"/>
                </a:lnTo>
                <a:close/>
                <a:moveTo>
                  <a:pt x="1032487" y="878713"/>
                </a:moveTo>
                <a:lnTo>
                  <a:pt x="1032487" y="884205"/>
                </a:lnTo>
                <a:lnTo>
                  <a:pt x="1035233" y="884205"/>
                </a:lnTo>
                <a:lnTo>
                  <a:pt x="1035233" y="878713"/>
                </a:lnTo>
                <a:lnTo>
                  <a:pt x="1032487" y="878713"/>
                </a:lnTo>
                <a:close/>
                <a:moveTo>
                  <a:pt x="952854" y="878713"/>
                </a:moveTo>
                <a:lnTo>
                  <a:pt x="950108" y="884205"/>
                </a:lnTo>
                <a:lnTo>
                  <a:pt x="950108" y="886951"/>
                </a:lnTo>
                <a:lnTo>
                  <a:pt x="952854" y="892443"/>
                </a:lnTo>
                <a:lnTo>
                  <a:pt x="955600" y="895188"/>
                </a:lnTo>
                <a:lnTo>
                  <a:pt x="958346" y="895188"/>
                </a:lnTo>
                <a:lnTo>
                  <a:pt x="961092" y="892443"/>
                </a:lnTo>
                <a:lnTo>
                  <a:pt x="961092" y="889697"/>
                </a:lnTo>
                <a:lnTo>
                  <a:pt x="955600" y="886951"/>
                </a:lnTo>
                <a:lnTo>
                  <a:pt x="950108" y="886951"/>
                </a:lnTo>
                <a:lnTo>
                  <a:pt x="952854" y="884205"/>
                </a:lnTo>
                <a:lnTo>
                  <a:pt x="952854" y="878713"/>
                </a:lnTo>
                <a:close/>
                <a:moveTo>
                  <a:pt x="5898358" y="878712"/>
                </a:moveTo>
                <a:lnTo>
                  <a:pt x="5901104" y="881458"/>
                </a:lnTo>
                <a:lnTo>
                  <a:pt x="5903850" y="886950"/>
                </a:lnTo>
                <a:lnTo>
                  <a:pt x="5906596" y="884204"/>
                </a:lnTo>
                <a:lnTo>
                  <a:pt x="5909342" y="881458"/>
                </a:lnTo>
                <a:lnTo>
                  <a:pt x="5903850" y="881458"/>
                </a:lnTo>
                <a:lnTo>
                  <a:pt x="5898358" y="878712"/>
                </a:lnTo>
                <a:close/>
                <a:moveTo>
                  <a:pt x="5275021" y="873220"/>
                </a:moveTo>
                <a:lnTo>
                  <a:pt x="5272275" y="878712"/>
                </a:lnTo>
                <a:lnTo>
                  <a:pt x="5277767" y="878712"/>
                </a:lnTo>
                <a:lnTo>
                  <a:pt x="5277767" y="873220"/>
                </a:lnTo>
                <a:lnTo>
                  <a:pt x="5275021" y="873220"/>
                </a:lnTo>
                <a:close/>
                <a:moveTo>
                  <a:pt x="930887" y="870475"/>
                </a:moveTo>
                <a:lnTo>
                  <a:pt x="928141" y="873221"/>
                </a:lnTo>
                <a:lnTo>
                  <a:pt x="928141" y="878713"/>
                </a:lnTo>
                <a:lnTo>
                  <a:pt x="930887" y="878713"/>
                </a:lnTo>
                <a:lnTo>
                  <a:pt x="933632" y="881459"/>
                </a:lnTo>
                <a:lnTo>
                  <a:pt x="936378" y="884205"/>
                </a:lnTo>
                <a:lnTo>
                  <a:pt x="936378" y="875967"/>
                </a:lnTo>
                <a:lnTo>
                  <a:pt x="930887" y="870475"/>
                </a:lnTo>
                <a:close/>
                <a:moveTo>
                  <a:pt x="5873644" y="870475"/>
                </a:moveTo>
                <a:lnTo>
                  <a:pt x="5873644" y="878712"/>
                </a:lnTo>
                <a:lnTo>
                  <a:pt x="5879136" y="875966"/>
                </a:lnTo>
                <a:lnTo>
                  <a:pt x="5879136" y="870475"/>
                </a:lnTo>
                <a:lnTo>
                  <a:pt x="5873644" y="870475"/>
                </a:lnTo>
                <a:close/>
                <a:moveTo>
                  <a:pt x="5203626" y="870475"/>
                </a:moveTo>
                <a:lnTo>
                  <a:pt x="5206372" y="875966"/>
                </a:lnTo>
                <a:lnTo>
                  <a:pt x="5209118" y="878712"/>
                </a:lnTo>
                <a:lnTo>
                  <a:pt x="5211864" y="878712"/>
                </a:lnTo>
                <a:lnTo>
                  <a:pt x="5211864" y="870475"/>
                </a:lnTo>
                <a:lnTo>
                  <a:pt x="5203626" y="870475"/>
                </a:lnTo>
                <a:close/>
                <a:moveTo>
                  <a:pt x="1013265" y="867729"/>
                </a:moveTo>
                <a:lnTo>
                  <a:pt x="1013265" y="873221"/>
                </a:lnTo>
                <a:lnTo>
                  <a:pt x="1024250" y="873221"/>
                </a:lnTo>
                <a:lnTo>
                  <a:pt x="1018758" y="870475"/>
                </a:lnTo>
                <a:lnTo>
                  <a:pt x="1013265" y="867729"/>
                </a:lnTo>
                <a:close/>
                <a:moveTo>
                  <a:pt x="1414179" y="864983"/>
                </a:moveTo>
                <a:lnTo>
                  <a:pt x="1414179" y="870475"/>
                </a:lnTo>
                <a:lnTo>
                  <a:pt x="1416924" y="870475"/>
                </a:lnTo>
                <a:lnTo>
                  <a:pt x="1419670" y="870475"/>
                </a:lnTo>
                <a:lnTo>
                  <a:pt x="1419670" y="873221"/>
                </a:lnTo>
                <a:lnTo>
                  <a:pt x="1422416" y="873221"/>
                </a:lnTo>
                <a:lnTo>
                  <a:pt x="1422416" y="867729"/>
                </a:lnTo>
                <a:lnTo>
                  <a:pt x="1419670" y="867729"/>
                </a:lnTo>
                <a:lnTo>
                  <a:pt x="1416924" y="864983"/>
                </a:lnTo>
                <a:lnTo>
                  <a:pt x="1414179" y="864983"/>
                </a:lnTo>
                <a:close/>
                <a:moveTo>
                  <a:pt x="5527651" y="864983"/>
                </a:moveTo>
                <a:lnTo>
                  <a:pt x="5522159" y="867729"/>
                </a:lnTo>
                <a:lnTo>
                  <a:pt x="5522159" y="870475"/>
                </a:lnTo>
                <a:lnTo>
                  <a:pt x="5527651" y="870475"/>
                </a:lnTo>
                <a:lnTo>
                  <a:pt x="5530397" y="870475"/>
                </a:lnTo>
                <a:lnTo>
                  <a:pt x="5530397" y="867729"/>
                </a:lnTo>
                <a:lnTo>
                  <a:pt x="5527651" y="864983"/>
                </a:lnTo>
                <a:close/>
                <a:moveTo>
                  <a:pt x="1548731" y="856745"/>
                </a:moveTo>
                <a:lnTo>
                  <a:pt x="1548731" y="862237"/>
                </a:lnTo>
                <a:lnTo>
                  <a:pt x="1554223" y="862237"/>
                </a:lnTo>
                <a:lnTo>
                  <a:pt x="1554223" y="859491"/>
                </a:lnTo>
                <a:lnTo>
                  <a:pt x="1551477" y="856745"/>
                </a:lnTo>
                <a:lnTo>
                  <a:pt x="1548731" y="856745"/>
                </a:lnTo>
                <a:close/>
                <a:moveTo>
                  <a:pt x="1114868" y="856745"/>
                </a:moveTo>
                <a:lnTo>
                  <a:pt x="1114868" y="862237"/>
                </a:lnTo>
                <a:lnTo>
                  <a:pt x="1120359" y="862237"/>
                </a:lnTo>
                <a:lnTo>
                  <a:pt x="1123105" y="856745"/>
                </a:lnTo>
                <a:lnTo>
                  <a:pt x="1114868" y="856745"/>
                </a:lnTo>
                <a:close/>
                <a:moveTo>
                  <a:pt x="958346" y="856745"/>
                </a:moveTo>
                <a:lnTo>
                  <a:pt x="958346" y="862237"/>
                </a:lnTo>
                <a:lnTo>
                  <a:pt x="963838" y="862237"/>
                </a:lnTo>
                <a:lnTo>
                  <a:pt x="963838" y="856745"/>
                </a:lnTo>
                <a:lnTo>
                  <a:pt x="958346" y="856745"/>
                </a:lnTo>
                <a:close/>
                <a:moveTo>
                  <a:pt x="922648" y="856745"/>
                </a:moveTo>
                <a:lnTo>
                  <a:pt x="919902" y="859491"/>
                </a:lnTo>
                <a:lnTo>
                  <a:pt x="919902" y="862237"/>
                </a:lnTo>
                <a:lnTo>
                  <a:pt x="922648" y="862237"/>
                </a:lnTo>
                <a:lnTo>
                  <a:pt x="925395" y="862237"/>
                </a:lnTo>
                <a:lnTo>
                  <a:pt x="925395" y="859491"/>
                </a:lnTo>
                <a:lnTo>
                  <a:pt x="922648" y="856745"/>
                </a:lnTo>
                <a:close/>
                <a:moveTo>
                  <a:pt x="5615523" y="853999"/>
                </a:moveTo>
                <a:lnTo>
                  <a:pt x="5607285" y="856745"/>
                </a:lnTo>
                <a:lnTo>
                  <a:pt x="5604539" y="862237"/>
                </a:lnTo>
                <a:lnTo>
                  <a:pt x="5610031" y="862237"/>
                </a:lnTo>
                <a:lnTo>
                  <a:pt x="5615523" y="867729"/>
                </a:lnTo>
                <a:lnTo>
                  <a:pt x="5615523" y="853999"/>
                </a:lnTo>
                <a:close/>
                <a:moveTo>
                  <a:pt x="5069073" y="853999"/>
                </a:moveTo>
                <a:lnTo>
                  <a:pt x="5069073" y="859491"/>
                </a:lnTo>
                <a:lnTo>
                  <a:pt x="5071819" y="864983"/>
                </a:lnTo>
                <a:lnTo>
                  <a:pt x="5077311" y="867729"/>
                </a:lnTo>
                <a:lnTo>
                  <a:pt x="5080057" y="862237"/>
                </a:lnTo>
                <a:lnTo>
                  <a:pt x="5080057" y="853999"/>
                </a:lnTo>
                <a:lnTo>
                  <a:pt x="5069073" y="853999"/>
                </a:lnTo>
                <a:close/>
                <a:moveTo>
                  <a:pt x="895189" y="851253"/>
                </a:moveTo>
                <a:lnTo>
                  <a:pt x="895189" y="859491"/>
                </a:lnTo>
                <a:lnTo>
                  <a:pt x="895189" y="862237"/>
                </a:lnTo>
                <a:lnTo>
                  <a:pt x="895189" y="864983"/>
                </a:lnTo>
                <a:lnTo>
                  <a:pt x="900680" y="859491"/>
                </a:lnTo>
                <a:lnTo>
                  <a:pt x="911664" y="859491"/>
                </a:lnTo>
                <a:lnTo>
                  <a:pt x="911664" y="856745"/>
                </a:lnTo>
                <a:lnTo>
                  <a:pt x="908919" y="856745"/>
                </a:lnTo>
                <a:lnTo>
                  <a:pt x="908919" y="853999"/>
                </a:lnTo>
                <a:lnTo>
                  <a:pt x="908919" y="851253"/>
                </a:lnTo>
                <a:lnTo>
                  <a:pt x="895189" y="851253"/>
                </a:lnTo>
                <a:close/>
                <a:moveTo>
                  <a:pt x="719446" y="851253"/>
                </a:moveTo>
                <a:lnTo>
                  <a:pt x="722192" y="853999"/>
                </a:lnTo>
                <a:lnTo>
                  <a:pt x="722192" y="856745"/>
                </a:lnTo>
                <a:lnTo>
                  <a:pt x="724938" y="856745"/>
                </a:lnTo>
                <a:lnTo>
                  <a:pt x="724938" y="851253"/>
                </a:lnTo>
                <a:lnTo>
                  <a:pt x="722192" y="851253"/>
                </a:lnTo>
                <a:lnTo>
                  <a:pt x="719446" y="851253"/>
                </a:lnTo>
                <a:close/>
                <a:moveTo>
                  <a:pt x="5307973" y="851253"/>
                </a:moveTo>
                <a:lnTo>
                  <a:pt x="5307973" y="856745"/>
                </a:lnTo>
                <a:lnTo>
                  <a:pt x="5310719" y="859491"/>
                </a:lnTo>
                <a:lnTo>
                  <a:pt x="5316211" y="859491"/>
                </a:lnTo>
                <a:lnTo>
                  <a:pt x="5316211" y="856745"/>
                </a:lnTo>
                <a:lnTo>
                  <a:pt x="5316211" y="853999"/>
                </a:lnTo>
                <a:lnTo>
                  <a:pt x="5313465" y="851253"/>
                </a:lnTo>
                <a:lnTo>
                  <a:pt x="5307973" y="851253"/>
                </a:lnTo>
                <a:close/>
                <a:moveTo>
                  <a:pt x="1449877" y="848507"/>
                </a:moveTo>
                <a:lnTo>
                  <a:pt x="1447130" y="851253"/>
                </a:lnTo>
                <a:lnTo>
                  <a:pt x="1447130" y="856745"/>
                </a:lnTo>
                <a:lnTo>
                  <a:pt x="1447130" y="859491"/>
                </a:lnTo>
                <a:lnTo>
                  <a:pt x="1452622" y="864983"/>
                </a:lnTo>
                <a:lnTo>
                  <a:pt x="1458113" y="867729"/>
                </a:lnTo>
                <a:lnTo>
                  <a:pt x="1458113" y="870475"/>
                </a:lnTo>
                <a:lnTo>
                  <a:pt x="1458113" y="873221"/>
                </a:lnTo>
                <a:lnTo>
                  <a:pt x="1471844" y="873221"/>
                </a:lnTo>
                <a:lnTo>
                  <a:pt x="1474589" y="873221"/>
                </a:lnTo>
                <a:lnTo>
                  <a:pt x="1480081" y="870475"/>
                </a:lnTo>
                <a:lnTo>
                  <a:pt x="1474589" y="864983"/>
                </a:lnTo>
                <a:lnTo>
                  <a:pt x="1474589" y="856745"/>
                </a:lnTo>
                <a:lnTo>
                  <a:pt x="1469098" y="856745"/>
                </a:lnTo>
                <a:lnTo>
                  <a:pt x="1466353" y="853999"/>
                </a:lnTo>
                <a:lnTo>
                  <a:pt x="1466353" y="851253"/>
                </a:lnTo>
                <a:lnTo>
                  <a:pt x="1455368" y="848507"/>
                </a:lnTo>
                <a:lnTo>
                  <a:pt x="1449877" y="848507"/>
                </a:lnTo>
                <a:close/>
                <a:moveTo>
                  <a:pt x="1013265" y="845761"/>
                </a:moveTo>
                <a:lnTo>
                  <a:pt x="1013265" y="851253"/>
                </a:lnTo>
                <a:lnTo>
                  <a:pt x="1018758" y="851253"/>
                </a:lnTo>
                <a:lnTo>
                  <a:pt x="1018758" y="845761"/>
                </a:lnTo>
                <a:lnTo>
                  <a:pt x="1013265" y="845761"/>
                </a:lnTo>
                <a:close/>
                <a:moveTo>
                  <a:pt x="1002281" y="845761"/>
                </a:moveTo>
                <a:lnTo>
                  <a:pt x="1002281" y="851253"/>
                </a:lnTo>
                <a:lnTo>
                  <a:pt x="1005028" y="851253"/>
                </a:lnTo>
                <a:lnTo>
                  <a:pt x="1005028" y="845761"/>
                </a:lnTo>
                <a:lnTo>
                  <a:pt x="1002281" y="845761"/>
                </a:lnTo>
                <a:close/>
                <a:moveTo>
                  <a:pt x="969330" y="845761"/>
                </a:moveTo>
                <a:lnTo>
                  <a:pt x="969330" y="848507"/>
                </a:lnTo>
                <a:lnTo>
                  <a:pt x="974822" y="851253"/>
                </a:lnTo>
                <a:lnTo>
                  <a:pt x="977568" y="848507"/>
                </a:lnTo>
                <a:lnTo>
                  <a:pt x="977568" y="845761"/>
                </a:lnTo>
                <a:lnTo>
                  <a:pt x="972076" y="845761"/>
                </a:lnTo>
                <a:lnTo>
                  <a:pt x="969330" y="845761"/>
                </a:lnTo>
                <a:close/>
                <a:moveTo>
                  <a:pt x="939124" y="845761"/>
                </a:moveTo>
                <a:lnTo>
                  <a:pt x="930887" y="848507"/>
                </a:lnTo>
                <a:lnTo>
                  <a:pt x="928141" y="851253"/>
                </a:lnTo>
                <a:lnTo>
                  <a:pt x="928141" y="856745"/>
                </a:lnTo>
                <a:lnTo>
                  <a:pt x="930887" y="853999"/>
                </a:lnTo>
                <a:lnTo>
                  <a:pt x="933632" y="851253"/>
                </a:lnTo>
                <a:lnTo>
                  <a:pt x="936378" y="851253"/>
                </a:lnTo>
                <a:lnTo>
                  <a:pt x="936378" y="856745"/>
                </a:lnTo>
                <a:lnTo>
                  <a:pt x="939124" y="856745"/>
                </a:lnTo>
                <a:lnTo>
                  <a:pt x="939124" y="845761"/>
                </a:lnTo>
                <a:close/>
                <a:moveTo>
                  <a:pt x="1290611" y="843015"/>
                </a:moveTo>
                <a:lnTo>
                  <a:pt x="1290611" y="845761"/>
                </a:lnTo>
                <a:lnTo>
                  <a:pt x="1287865" y="845761"/>
                </a:lnTo>
                <a:lnTo>
                  <a:pt x="1287865" y="848507"/>
                </a:lnTo>
                <a:lnTo>
                  <a:pt x="1296101" y="848507"/>
                </a:lnTo>
                <a:lnTo>
                  <a:pt x="1296101" y="843015"/>
                </a:lnTo>
                <a:lnTo>
                  <a:pt x="1290611" y="843015"/>
                </a:lnTo>
                <a:close/>
                <a:moveTo>
                  <a:pt x="1035233" y="843015"/>
                </a:moveTo>
                <a:lnTo>
                  <a:pt x="1040725" y="845761"/>
                </a:lnTo>
                <a:lnTo>
                  <a:pt x="1048964" y="845761"/>
                </a:lnTo>
                <a:lnTo>
                  <a:pt x="1054456" y="843015"/>
                </a:lnTo>
                <a:lnTo>
                  <a:pt x="1040725" y="843015"/>
                </a:lnTo>
                <a:lnTo>
                  <a:pt x="1035233" y="843015"/>
                </a:lnTo>
                <a:close/>
                <a:moveTo>
                  <a:pt x="656289" y="840269"/>
                </a:moveTo>
                <a:lnTo>
                  <a:pt x="656289" y="845761"/>
                </a:lnTo>
                <a:lnTo>
                  <a:pt x="656289" y="851253"/>
                </a:lnTo>
                <a:lnTo>
                  <a:pt x="659035" y="851253"/>
                </a:lnTo>
                <a:lnTo>
                  <a:pt x="661780" y="851253"/>
                </a:lnTo>
                <a:lnTo>
                  <a:pt x="661780" y="845761"/>
                </a:lnTo>
                <a:lnTo>
                  <a:pt x="661780" y="843015"/>
                </a:lnTo>
                <a:lnTo>
                  <a:pt x="656289" y="840269"/>
                </a:lnTo>
                <a:close/>
                <a:moveTo>
                  <a:pt x="5091041" y="837523"/>
                </a:moveTo>
                <a:lnTo>
                  <a:pt x="5091041" y="843015"/>
                </a:lnTo>
                <a:lnTo>
                  <a:pt x="5093787" y="845761"/>
                </a:lnTo>
                <a:lnTo>
                  <a:pt x="5099279" y="843015"/>
                </a:lnTo>
                <a:lnTo>
                  <a:pt x="5099279" y="840269"/>
                </a:lnTo>
                <a:lnTo>
                  <a:pt x="5096533" y="837523"/>
                </a:lnTo>
                <a:lnTo>
                  <a:pt x="5091041" y="837523"/>
                </a:lnTo>
                <a:close/>
                <a:moveTo>
                  <a:pt x="906173" y="837523"/>
                </a:moveTo>
                <a:lnTo>
                  <a:pt x="906173" y="840269"/>
                </a:lnTo>
                <a:lnTo>
                  <a:pt x="911664" y="843015"/>
                </a:lnTo>
                <a:lnTo>
                  <a:pt x="911664" y="837523"/>
                </a:lnTo>
                <a:lnTo>
                  <a:pt x="906173" y="837523"/>
                </a:lnTo>
                <a:close/>
                <a:moveTo>
                  <a:pt x="236154" y="837523"/>
                </a:moveTo>
                <a:lnTo>
                  <a:pt x="233408" y="840269"/>
                </a:lnTo>
                <a:lnTo>
                  <a:pt x="233408" y="843015"/>
                </a:lnTo>
                <a:lnTo>
                  <a:pt x="233408" y="845761"/>
                </a:lnTo>
                <a:lnTo>
                  <a:pt x="236154" y="848507"/>
                </a:lnTo>
                <a:lnTo>
                  <a:pt x="241646" y="845761"/>
                </a:lnTo>
                <a:lnTo>
                  <a:pt x="241646" y="843015"/>
                </a:lnTo>
                <a:lnTo>
                  <a:pt x="244392" y="837523"/>
                </a:lnTo>
                <a:lnTo>
                  <a:pt x="236154" y="837523"/>
                </a:lnTo>
                <a:close/>
                <a:moveTo>
                  <a:pt x="214186" y="837523"/>
                </a:moveTo>
                <a:lnTo>
                  <a:pt x="214186" y="843015"/>
                </a:lnTo>
                <a:lnTo>
                  <a:pt x="214186" y="848507"/>
                </a:lnTo>
                <a:lnTo>
                  <a:pt x="219678" y="845761"/>
                </a:lnTo>
                <a:lnTo>
                  <a:pt x="222424" y="843015"/>
                </a:lnTo>
                <a:lnTo>
                  <a:pt x="219678" y="840269"/>
                </a:lnTo>
                <a:lnTo>
                  <a:pt x="219678" y="837523"/>
                </a:lnTo>
                <a:lnTo>
                  <a:pt x="216932" y="837523"/>
                </a:lnTo>
                <a:lnTo>
                  <a:pt x="214186" y="837523"/>
                </a:lnTo>
                <a:close/>
                <a:moveTo>
                  <a:pt x="1518526" y="834777"/>
                </a:moveTo>
                <a:lnTo>
                  <a:pt x="1513033" y="837523"/>
                </a:lnTo>
                <a:lnTo>
                  <a:pt x="1507541" y="840269"/>
                </a:lnTo>
                <a:lnTo>
                  <a:pt x="1507541" y="848507"/>
                </a:lnTo>
                <a:lnTo>
                  <a:pt x="1504796" y="856745"/>
                </a:lnTo>
                <a:lnTo>
                  <a:pt x="1502050" y="853999"/>
                </a:lnTo>
                <a:lnTo>
                  <a:pt x="1496557" y="856745"/>
                </a:lnTo>
                <a:lnTo>
                  <a:pt x="1493811" y="859491"/>
                </a:lnTo>
                <a:lnTo>
                  <a:pt x="1491065" y="864983"/>
                </a:lnTo>
                <a:lnTo>
                  <a:pt x="1493811" y="864983"/>
                </a:lnTo>
                <a:lnTo>
                  <a:pt x="1496557" y="864983"/>
                </a:lnTo>
                <a:lnTo>
                  <a:pt x="1499304" y="862237"/>
                </a:lnTo>
                <a:lnTo>
                  <a:pt x="1504796" y="862237"/>
                </a:lnTo>
                <a:lnTo>
                  <a:pt x="1507541" y="856745"/>
                </a:lnTo>
                <a:lnTo>
                  <a:pt x="1515779" y="856745"/>
                </a:lnTo>
                <a:lnTo>
                  <a:pt x="1515779" y="859491"/>
                </a:lnTo>
                <a:lnTo>
                  <a:pt x="1518526" y="862237"/>
                </a:lnTo>
                <a:lnTo>
                  <a:pt x="1521272" y="862237"/>
                </a:lnTo>
                <a:lnTo>
                  <a:pt x="1521272" y="864983"/>
                </a:lnTo>
                <a:lnTo>
                  <a:pt x="1515779" y="864983"/>
                </a:lnTo>
                <a:lnTo>
                  <a:pt x="1513033" y="864983"/>
                </a:lnTo>
                <a:lnTo>
                  <a:pt x="1502050" y="864983"/>
                </a:lnTo>
                <a:lnTo>
                  <a:pt x="1499304" y="873221"/>
                </a:lnTo>
                <a:lnTo>
                  <a:pt x="1496557" y="881459"/>
                </a:lnTo>
                <a:lnTo>
                  <a:pt x="1502050" y="884205"/>
                </a:lnTo>
                <a:lnTo>
                  <a:pt x="1504796" y="889697"/>
                </a:lnTo>
                <a:lnTo>
                  <a:pt x="1507541" y="889697"/>
                </a:lnTo>
                <a:lnTo>
                  <a:pt x="1510287" y="889697"/>
                </a:lnTo>
                <a:lnTo>
                  <a:pt x="1515779" y="889697"/>
                </a:lnTo>
                <a:lnTo>
                  <a:pt x="1518526" y="889697"/>
                </a:lnTo>
                <a:lnTo>
                  <a:pt x="1521272" y="884205"/>
                </a:lnTo>
                <a:lnTo>
                  <a:pt x="1524017" y="878713"/>
                </a:lnTo>
                <a:lnTo>
                  <a:pt x="1526763" y="873221"/>
                </a:lnTo>
                <a:lnTo>
                  <a:pt x="1526763" y="862237"/>
                </a:lnTo>
                <a:lnTo>
                  <a:pt x="1532255" y="862237"/>
                </a:lnTo>
                <a:lnTo>
                  <a:pt x="1532255" y="856745"/>
                </a:lnTo>
                <a:lnTo>
                  <a:pt x="1535002" y="853999"/>
                </a:lnTo>
                <a:lnTo>
                  <a:pt x="1537748" y="851253"/>
                </a:lnTo>
                <a:lnTo>
                  <a:pt x="1535002" y="845761"/>
                </a:lnTo>
                <a:lnTo>
                  <a:pt x="1535002" y="840269"/>
                </a:lnTo>
                <a:lnTo>
                  <a:pt x="1518526" y="834777"/>
                </a:lnTo>
                <a:close/>
                <a:moveTo>
                  <a:pt x="1016011" y="832031"/>
                </a:moveTo>
                <a:lnTo>
                  <a:pt x="1013265" y="834777"/>
                </a:lnTo>
                <a:lnTo>
                  <a:pt x="1010520" y="834777"/>
                </a:lnTo>
                <a:lnTo>
                  <a:pt x="1013265" y="840269"/>
                </a:lnTo>
                <a:lnTo>
                  <a:pt x="1016011" y="840269"/>
                </a:lnTo>
                <a:lnTo>
                  <a:pt x="1021503" y="837523"/>
                </a:lnTo>
                <a:lnTo>
                  <a:pt x="1024250" y="832031"/>
                </a:lnTo>
                <a:lnTo>
                  <a:pt x="1018758" y="832031"/>
                </a:lnTo>
                <a:lnTo>
                  <a:pt x="1016011" y="832031"/>
                </a:lnTo>
                <a:close/>
                <a:moveTo>
                  <a:pt x="878712" y="832031"/>
                </a:moveTo>
                <a:lnTo>
                  <a:pt x="873221" y="834777"/>
                </a:lnTo>
                <a:lnTo>
                  <a:pt x="870475" y="834777"/>
                </a:lnTo>
                <a:lnTo>
                  <a:pt x="867729" y="837523"/>
                </a:lnTo>
                <a:lnTo>
                  <a:pt x="873221" y="837523"/>
                </a:lnTo>
                <a:lnTo>
                  <a:pt x="878712" y="840269"/>
                </a:lnTo>
                <a:lnTo>
                  <a:pt x="878712" y="832031"/>
                </a:lnTo>
                <a:close/>
                <a:moveTo>
                  <a:pt x="1488320" y="826539"/>
                </a:moveTo>
                <a:lnTo>
                  <a:pt x="1477335" y="829285"/>
                </a:lnTo>
                <a:lnTo>
                  <a:pt x="1477335" y="832031"/>
                </a:lnTo>
                <a:lnTo>
                  <a:pt x="1477335" y="834777"/>
                </a:lnTo>
                <a:lnTo>
                  <a:pt x="1474589" y="840269"/>
                </a:lnTo>
                <a:lnTo>
                  <a:pt x="1482829" y="843015"/>
                </a:lnTo>
                <a:lnTo>
                  <a:pt x="1493811" y="840269"/>
                </a:lnTo>
                <a:lnTo>
                  <a:pt x="1493811" y="829285"/>
                </a:lnTo>
                <a:lnTo>
                  <a:pt x="1496557" y="829285"/>
                </a:lnTo>
                <a:lnTo>
                  <a:pt x="1499304" y="826539"/>
                </a:lnTo>
                <a:lnTo>
                  <a:pt x="1488320" y="826539"/>
                </a:lnTo>
                <a:close/>
                <a:moveTo>
                  <a:pt x="5884628" y="826539"/>
                </a:moveTo>
                <a:lnTo>
                  <a:pt x="5884628" y="829285"/>
                </a:lnTo>
                <a:lnTo>
                  <a:pt x="5887374" y="832031"/>
                </a:lnTo>
                <a:lnTo>
                  <a:pt x="5892866" y="832031"/>
                </a:lnTo>
                <a:lnTo>
                  <a:pt x="5892866" y="829285"/>
                </a:lnTo>
                <a:lnTo>
                  <a:pt x="5887374" y="826539"/>
                </a:lnTo>
                <a:lnTo>
                  <a:pt x="5884628" y="826539"/>
                </a:lnTo>
                <a:close/>
                <a:moveTo>
                  <a:pt x="5250308" y="826539"/>
                </a:moveTo>
                <a:lnTo>
                  <a:pt x="5250308" y="834777"/>
                </a:lnTo>
                <a:lnTo>
                  <a:pt x="5255799" y="834777"/>
                </a:lnTo>
                <a:lnTo>
                  <a:pt x="5255799" y="829285"/>
                </a:lnTo>
                <a:lnTo>
                  <a:pt x="5250308" y="826539"/>
                </a:lnTo>
                <a:close/>
                <a:moveTo>
                  <a:pt x="1005028" y="823793"/>
                </a:moveTo>
                <a:lnTo>
                  <a:pt x="999536" y="826539"/>
                </a:lnTo>
                <a:lnTo>
                  <a:pt x="999536" y="832031"/>
                </a:lnTo>
                <a:lnTo>
                  <a:pt x="1005028" y="832031"/>
                </a:lnTo>
                <a:lnTo>
                  <a:pt x="1005028" y="823793"/>
                </a:lnTo>
                <a:close/>
                <a:moveTo>
                  <a:pt x="686494" y="823793"/>
                </a:moveTo>
                <a:lnTo>
                  <a:pt x="686494" y="832031"/>
                </a:lnTo>
                <a:lnTo>
                  <a:pt x="686494" y="843015"/>
                </a:lnTo>
                <a:lnTo>
                  <a:pt x="689240" y="851253"/>
                </a:lnTo>
                <a:lnTo>
                  <a:pt x="689240" y="853999"/>
                </a:lnTo>
                <a:lnTo>
                  <a:pt x="691986" y="853999"/>
                </a:lnTo>
                <a:lnTo>
                  <a:pt x="694732" y="848507"/>
                </a:lnTo>
                <a:lnTo>
                  <a:pt x="694732" y="837523"/>
                </a:lnTo>
                <a:lnTo>
                  <a:pt x="691986" y="829285"/>
                </a:lnTo>
                <a:lnTo>
                  <a:pt x="686494" y="823793"/>
                </a:lnTo>
                <a:close/>
                <a:moveTo>
                  <a:pt x="977568" y="821047"/>
                </a:moveTo>
                <a:lnTo>
                  <a:pt x="977568" y="823793"/>
                </a:lnTo>
                <a:lnTo>
                  <a:pt x="983059" y="823793"/>
                </a:lnTo>
                <a:lnTo>
                  <a:pt x="983059" y="826539"/>
                </a:lnTo>
                <a:lnTo>
                  <a:pt x="988551" y="829285"/>
                </a:lnTo>
                <a:lnTo>
                  <a:pt x="991298" y="823793"/>
                </a:lnTo>
                <a:lnTo>
                  <a:pt x="988551" y="821047"/>
                </a:lnTo>
                <a:lnTo>
                  <a:pt x="985806" y="821047"/>
                </a:lnTo>
                <a:lnTo>
                  <a:pt x="983059" y="821047"/>
                </a:lnTo>
                <a:lnTo>
                  <a:pt x="977568" y="821047"/>
                </a:lnTo>
                <a:close/>
                <a:moveTo>
                  <a:pt x="1378481" y="818301"/>
                </a:moveTo>
                <a:lnTo>
                  <a:pt x="1378481" y="821047"/>
                </a:lnTo>
                <a:lnTo>
                  <a:pt x="1378481" y="823793"/>
                </a:lnTo>
                <a:lnTo>
                  <a:pt x="1378481" y="826539"/>
                </a:lnTo>
                <a:lnTo>
                  <a:pt x="1381227" y="826539"/>
                </a:lnTo>
                <a:lnTo>
                  <a:pt x="1381227" y="823793"/>
                </a:lnTo>
                <a:lnTo>
                  <a:pt x="1383972" y="823793"/>
                </a:lnTo>
                <a:lnTo>
                  <a:pt x="1383972" y="818301"/>
                </a:lnTo>
                <a:lnTo>
                  <a:pt x="1381227" y="818301"/>
                </a:lnTo>
                <a:lnTo>
                  <a:pt x="1378481" y="818301"/>
                </a:lnTo>
                <a:close/>
                <a:moveTo>
                  <a:pt x="5077311" y="815555"/>
                </a:moveTo>
                <a:lnTo>
                  <a:pt x="5080057" y="818301"/>
                </a:lnTo>
                <a:lnTo>
                  <a:pt x="5082803" y="821047"/>
                </a:lnTo>
                <a:lnTo>
                  <a:pt x="5082803" y="818301"/>
                </a:lnTo>
                <a:lnTo>
                  <a:pt x="5085549" y="815555"/>
                </a:lnTo>
                <a:lnTo>
                  <a:pt x="5077311" y="815555"/>
                </a:lnTo>
                <a:close/>
                <a:moveTo>
                  <a:pt x="5426050" y="812809"/>
                </a:moveTo>
                <a:lnTo>
                  <a:pt x="5426050" y="818301"/>
                </a:lnTo>
                <a:lnTo>
                  <a:pt x="5428796" y="821047"/>
                </a:lnTo>
                <a:lnTo>
                  <a:pt x="5431542" y="818301"/>
                </a:lnTo>
                <a:lnTo>
                  <a:pt x="5431542" y="815555"/>
                </a:lnTo>
                <a:lnTo>
                  <a:pt x="5428796" y="812809"/>
                </a:lnTo>
                <a:lnTo>
                  <a:pt x="5426050" y="812809"/>
                </a:lnTo>
                <a:close/>
                <a:moveTo>
                  <a:pt x="5170674" y="812809"/>
                </a:moveTo>
                <a:lnTo>
                  <a:pt x="5176166" y="812809"/>
                </a:lnTo>
                <a:lnTo>
                  <a:pt x="5178912" y="821047"/>
                </a:lnTo>
                <a:lnTo>
                  <a:pt x="5176166" y="818301"/>
                </a:lnTo>
                <a:lnTo>
                  <a:pt x="5176166" y="815555"/>
                </a:lnTo>
                <a:lnTo>
                  <a:pt x="5170674" y="818301"/>
                </a:lnTo>
                <a:lnTo>
                  <a:pt x="5167928" y="815555"/>
                </a:lnTo>
                <a:lnTo>
                  <a:pt x="5170674" y="812809"/>
                </a:lnTo>
                <a:close/>
                <a:moveTo>
                  <a:pt x="930887" y="810063"/>
                </a:moveTo>
                <a:lnTo>
                  <a:pt x="928141" y="812809"/>
                </a:lnTo>
                <a:lnTo>
                  <a:pt x="930887" y="818301"/>
                </a:lnTo>
                <a:lnTo>
                  <a:pt x="936378" y="821047"/>
                </a:lnTo>
                <a:lnTo>
                  <a:pt x="939124" y="823793"/>
                </a:lnTo>
                <a:lnTo>
                  <a:pt x="936378" y="815555"/>
                </a:lnTo>
                <a:lnTo>
                  <a:pt x="930887" y="810063"/>
                </a:lnTo>
                <a:close/>
                <a:moveTo>
                  <a:pt x="1551477" y="807317"/>
                </a:moveTo>
                <a:lnTo>
                  <a:pt x="1551477" y="812809"/>
                </a:lnTo>
                <a:lnTo>
                  <a:pt x="1556969" y="812809"/>
                </a:lnTo>
                <a:lnTo>
                  <a:pt x="1556969" y="807317"/>
                </a:lnTo>
                <a:lnTo>
                  <a:pt x="1554223" y="807317"/>
                </a:lnTo>
                <a:lnTo>
                  <a:pt x="1551477" y="807317"/>
                </a:lnTo>
                <a:close/>
                <a:moveTo>
                  <a:pt x="5796757" y="807317"/>
                </a:moveTo>
                <a:lnTo>
                  <a:pt x="5796757" y="810063"/>
                </a:lnTo>
                <a:lnTo>
                  <a:pt x="5799503" y="812809"/>
                </a:lnTo>
                <a:lnTo>
                  <a:pt x="5802249" y="812809"/>
                </a:lnTo>
                <a:lnTo>
                  <a:pt x="5802249" y="807317"/>
                </a:lnTo>
                <a:lnTo>
                  <a:pt x="5796757" y="807317"/>
                </a:lnTo>
                <a:close/>
                <a:moveTo>
                  <a:pt x="991298" y="804571"/>
                </a:moveTo>
                <a:lnTo>
                  <a:pt x="988551" y="807317"/>
                </a:lnTo>
                <a:lnTo>
                  <a:pt x="988551" y="812809"/>
                </a:lnTo>
                <a:lnTo>
                  <a:pt x="994043" y="812809"/>
                </a:lnTo>
                <a:lnTo>
                  <a:pt x="994043" y="810063"/>
                </a:lnTo>
                <a:lnTo>
                  <a:pt x="994043" y="807317"/>
                </a:lnTo>
                <a:lnTo>
                  <a:pt x="996790" y="804571"/>
                </a:lnTo>
                <a:lnTo>
                  <a:pt x="991298" y="804571"/>
                </a:lnTo>
                <a:close/>
                <a:moveTo>
                  <a:pt x="5758313" y="804571"/>
                </a:moveTo>
                <a:lnTo>
                  <a:pt x="5755567" y="807317"/>
                </a:lnTo>
                <a:lnTo>
                  <a:pt x="5755567" y="810063"/>
                </a:lnTo>
                <a:lnTo>
                  <a:pt x="5761059" y="810063"/>
                </a:lnTo>
                <a:lnTo>
                  <a:pt x="5763805" y="812809"/>
                </a:lnTo>
                <a:lnTo>
                  <a:pt x="5766551" y="815555"/>
                </a:lnTo>
                <a:lnTo>
                  <a:pt x="5769297" y="812809"/>
                </a:lnTo>
                <a:lnTo>
                  <a:pt x="5766551" y="812809"/>
                </a:lnTo>
                <a:lnTo>
                  <a:pt x="5766551" y="807317"/>
                </a:lnTo>
                <a:lnTo>
                  <a:pt x="5761059" y="807317"/>
                </a:lnTo>
                <a:lnTo>
                  <a:pt x="5758313" y="804571"/>
                </a:lnTo>
                <a:close/>
                <a:moveTo>
                  <a:pt x="1005028" y="801825"/>
                </a:moveTo>
                <a:lnTo>
                  <a:pt x="1002281" y="804571"/>
                </a:lnTo>
                <a:lnTo>
                  <a:pt x="1002281" y="807317"/>
                </a:lnTo>
                <a:lnTo>
                  <a:pt x="1005028" y="807317"/>
                </a:lnTo>
                <a:lnTo>
                  <a:pt x="1005028" y="810063"/>
                </a:lnTo>
                <a:lnTo>
                  <a:pt x="1007773" y="810063"/>
                </a:lnTo>
                <a:lnTo>
                  <a:pt x="1007773" y="807317"/>
                </a:lnTo>
                <a:lnTo>
                  <a:pt x="1010520" y="807317"/>
                </a:lnTo>
                <a:lnTo>
                  <a:pt x="1007773" y="804571"/>
                </a:lnTo>
                <a:lnTo>
                  <a:pt x="1005028" y="801825"/>
                </a:lnTo>
                <a:close/>
                <a:moveTo>
                  <a:pt x="5950532" y="801825"/>
                </a:moveTo>
                <a:lnTo>
                  <a:pt x="5950532" y="804571"/>
                </a:lnTo>
                <a:lnTo>
                  <a:pt x="5956024" y="804571"/>
                </a:lnTo>
                <a:lnTo>
                  <a:pt x="5956024" y="801825"/>
                </a:lnTo>
                <a:lnTo>
                  <a:pt x="5950532" y="801825"/>
                </a:lnTo>
                <a:close/>
                <a:moveTo>
                  <a:pt x="5423304" y="801825"/>
                </a:moveTo>
                <a:lnTo>
                  <a:pt x="5423304" y="807317"/>
                </a:lnTo>
                <a:lnTo>
                  <a:pt x="5423304" y="810063"/>
                </a:lnTo>
                <a:lnTo>
                  <a:pt x="5428796" y="807317"/>
                </a:lnTo>
                <a:lnTo>
                  <a:pt x="5431542" y="801825"/>
                </a:lnTo>
                <a:lnTo>
                  <a:pt x="5423304" y="801825"/>
                </a:lnTo>
                <a:close/>
                <a:moveTo>
                  <a:pt x="659035" y="799079"/>
                </a:moveTo>
                <a:lnTo>
                  <a:pt x="653542" y="810063"/>
                </a:lnTo>
                <a:lnTo>
                  <a:pt x="650797" y="815555"/>
                </a:lnTo>
                <a:lnTo>
                  <a:pt x="653542" y="821047"/>
                </a:lnTo>
                <a:lnTo>
                  <a:pt x="656289" y="821047"/>
                </a:lnTo>
                <a:lnTo>
                  <a:pt x="661780" y="821047"/>
                </a:lnTo>
                <a:lnTo>
                  <a:pt x="664526" y="818301"/>
                </a:lnTo>
                <a:lnTo>
                  <a:pt x="664526" y="810063"/>
                </a:lnTo>
                <a:lnTo>
                  <a:pt x="659035" y="799079"/>
                </a:lnTo>
                <a:close/>
                <a:moveTo>
                  <a:pt x="5395844" y="799079"/>
                </a:moveTo>
                <a:lnTo>
                  <a:pt x="5395844" y="804571"/>
                </a:lnTo>
                <a:lnTo>
                  <a:pt x="5393098" y="807317"/>
                </a:lnTo>
                <a:lnTo>
                  <a:pt x="5393098" y="812809"/>
                </a:lnTo>
                <a:lnTo>
                  <a:pt x="5393098" y="815555"/>
                </a:lnTo>
                <a:lnTo>
                  <a:pt x="5406828" y="821047"/>
                </a:lnTo>
                <a:lnTo>
                  <a:pt x="5412320" y="821047"/>
                </a:lnTo>
                <a:lnTo>
                  <a:pt x="5420558" y="818301"/>
                </a:lnTo>
                <a:lnTo>
                  <a:pt x="5417812" y="810063"/>
                </a:lnTo>
                <a:lnTo>
                  <a:pt x="5415066" y="801825"/>
                </a:lnTo>
                <a:lnTo>
                  <a:pt x="5406828" y="799079"/>
                </a:lnTo>
                <a:lnTo>
                  <a:pt x="5395844" y="799079"/>
                </a:lnTo>
                <a:close/>
                <a:moveTo>
                  <a:pt x="5357401" y="799079"/>
                </a:moveTo>
                <a:lnTo>
                  <a:pt x="5357401" y="804571"/>
                </a:lnTo>
                <a:lnTo>
                  <a:pt x="5362893" y="804571"/>
                </a:lnTo>
                <a:lnTo>
                  <a:pt x="5362893" y="799079"/>
                </a:lnTo>
                <a:lnTo>
                  <a:pt x="5357401" y="799079"/>
                </a:lnTo>
                <a:close/>
                <a:moveTo>
                  <a:pt x="1518526" y="793587"/>
                </a:moveTo>
                <a:lnTo>
                  <a:pt x="1513033" y="799079"/>
                </a:lnTo>
                <a:lnTo>
                  <a:pt x="1510287" y="804571"/>
                </a:lnTo>
                <a:lnTo>
                  <a:pt x="1510287" y="812809"/>
                </a:lnTo>
                <a:lnTo>
                  <a:pt x="1513033" y="821047"/>
                </a:lnTo>
                <a:lnTo>
                  <a:pt x="1526763" y="821047"/>
                </a:lnTo>
                <a:lnTo>
                  <a:pt x="1529509" y="815555"/>
                </a:lnTo>
                <a:lnTo>
                  <a:pt x="1532255" y="810063"/>
                </a:lnTo>
                <a:lnTo>
                  <a:pt x="1526763" y="799079"/>
                </a:lnTo>
                <a:lnTo>
                  <a:pt x="1524017" y="799079"/>
                </a:lnTo>
                <a:lnTo>
                  <a:pt x="1521272" y="796333"/>
                </a:lnTo>
                <a:lnTo>
                  <a:pt x="1521272" y="793587"/>
                </a:lnTo>
                <a:lnTo>
                  <a:pt x="1518526" y="793587"/>
                </a:lnTo>
                <a:close/>
                <a:moveTo>
                  <a:pt x="689240" y="793587"/>
                </a:moveTo>
                <a:lnTo>
                  <a:pt x="686494" y="796333"/>
                </a:lnTo>
                <a:lnTo>
                  <a:pt x="681002" y="799079"/>
                </a:lnTo>
                <a:lnTo>
                  <a:pt x="672764" y="801825"/>
                </a:lnTo>
                <a:lnTo>
                  <a:pt x="670018" y="801825"/>
                </a:lnTo>
                <a:lnTo>
                  <a:pt x="667272" y="807317"/>
                </a:lnTo>
                <a:lnTo>
                  <a:pt x="667272" y="810063"/>
                </a:lnTo>
                <a:lnTo>
                  <a:pt x="667272" y="818301"/>
                </a:lnTo>
                <a:lnTo>
                  <a:pt x="686494" y="807317"/>
                </a:lnTo>
                <a:lnTo>
                  <a:pt x="691986" y="801825"/>
                </a:lnTo>
                <a:lnTo>
                  <a:pt x="691986" y="796333"/>
                </a:lnTo>
                <a:lnTo>
                  <a:pt x="689240" y="793587"/>
                </a:lnTo>
                <a:close/>
                <a:moveTo>
                  <a:pt x="5890120" y="793587"/>
                </a:moveTo>
                <a:lnTo>
                  <a:pt x="5887374" y="799079"/>
                </a:lnTo>
                <a:lnTo>
                  <a:pt x="5892866" y="799079"/>
                </a:lnTo>
                <a:lnTo>
                  <a:pt x="5892866" y="793587"/>
                </a:lnTo>
                <a:lnTo>
                  <a:pt x="5890120" y="793587"/>
                </a:lnTo>
                <a:close/>
                <a:moveTo>
                  <a:pt x="5085549" y="793587"/>
                </a:moveTo>
                <a:lnTo>
                  <a:pt x="5085549" y="799079"/>
                </a:lnTo>
                <a:lnTo>
                  <a:pt x="5091041" y="799079"/>
                </a:lnTo>
                <a:lnTo>
                  <a:pt x="5091041" y="796333"/>
                </a:lnTo>
                <a:lnTo>
                  <a:pt x="5088295" y="793587"/>
                </a:lnTo>
                <a:lnTo>
                  <a:pt x="5085549" y="793587"/>
                </a:lnTo>
                <a:close/>
                <a:moveTo>
                  <a:pt x="1032487" y="790841"/>
                </a:moveTo>
                <a:lnTo>
                  <a:pt x="1032487" y="793587"/>
                </a:lnTo>
                <a:lnTo>
                  <a:pt x="1037980" y="796333"/>
                </a:lnTo>
                <a:lnTo>
                  <a:pt x="1040725" y="793587"/>
                </a:lnTo>
                <a:lnTo>
                  <a:pt x="1040725" y="790841"/>
                </a:lnTo>
                <a:lnTo>
                  <a:pt x="1035233" y="790841"/>
                </a:lnTo>
                <a:lnTo>
                  <a:pt x="1032487" y="790841"/>
                </a:lnTo>
                <a:close/>
                <a:moveTo>
                  <a:pt x="908919" y="790841"/>
                </a:moveTo>
                <a:lnTo>
                  <a:pt x="906173" y="793587"/>
                </a:lnTo>
                <a:lnTo>
                  <a:pt x="917156" y="793587"/>
                </a:lnTo>
                <a:lnTo>
                  <a:pt x="914410" y="790841"/>
                </a:lnTo>
                <a:lnTo>
                  <a:pt x="908919" y="790841"/>
                </a:lnTo>
                <a:close/>
                <a:moveTo>
                  <a:pt x="892443" y="790841"/>
                </a:moveTo>
                <a:lnTo>
                  <a:pt x="892443" y="793587"/>
                </a:lnTo>
                <a:lnTo>
                  <a:pt x="892443" y="799079"/>
                </a:lnTo>
                <a:lnTo>
                  <a:pt x="895189" y="799079"/>
                </a:lnTo>
                <a:lnTo>
                  <a:pt x="895189" y="790841"/>
                </a:lnTo>
                <a:lnTo>
                  <a:pt x="892443" y="790841"/>
                </a:lnTo>
                <a:close/>
                <a:moveTo>
                  <a:pt x="1485574" y="788095"/>
                </a:moveTo>
                <a:lnTo>
                  <a:pt x="1480081" y="793587"/>
                </a:lnTo>
                <a:lnTo>
                  <a:pt x="1477335" y="799079"/>
                </a:lnTo>
                <a:lnTo>
                  <a:pt x="1477335" y="807317"/>
                </a:lnTo>
                <a:lnTo>
                  <a:pt x="1480081" y="815555"/>
                </a:lnTo>
                <a:lnTo>
                  <a:pt x="1488320" y="812809"/>
                </a:lnTo>
                <a:lnTo>
                  <a:pt x="1496557" y="815555"/>
                </a:lnTo>
                <a:lnTo>
                  <a:pt x="1502050" y="807317"/>
                </a:lnTo>
                <a:lnTo>
                  <a:pt x="1502050" y="799079"/>
                </a:lnTo>
                <a:lnTo>
                  <a:pt x="1507541" y="796333"/>
                </a:lnTo>
                <a:lnTo>
                  <a:pt x="1510287" y="793587"/>
                </a:lnTo>
                <a:lnTo>
                  <a:pt x="1502050" y="793587"/>
                </a:lnTo>
                <a:lnTo>
                  <a:pt x="1496557" y="793587"/>
                </a:lnTo>
                <a:lnTo>
                  <a:pt x="1491065" y="790841"/>
                </a:lnTo>
                <a:lnTo>
                  <a:pt x="1485574" y="788095"/>
                </a:lnTo>
                <a:close/>
                <a:moveTo>
                  <a:pt x="5255799" y="785349"/>
                </a:moveTo>
                <a:lnTo>
                  <a:pt x="5244816" y="788095"/>
                </a:lnTo>
                <a:lnTo>
                  <a:pt x="5236578" y="790841"/>
                </a:lnTo>
                <a:lnTo>
                  <a:pt x="5236578" y="799079"/>
                </a:lnTo>
                <a:lnTo>
                  <a:pt x="5236578" y="801825"/>
                </a:lnTo>
                <a:lnTo>
                  <a:pt x="5239324" y="804571"/>
                </a:lnTo>
                <a:lnTo>
                  <a:pt x="5239324" y="812809"/>
                </a:lnTo>
                <a:lnTo>
                  <a:pt x="5247562" y="818301"/>
                </a:lnTo>
                <a:lnTo>
                  <a:pt x="5255799" y="818301"/>
                </a:lnTo>
                <a:lnTo>
                  <a:pt x="5266783" y="818301"/>
                </a:lnTo>
                <a:lnTo>
                  <a:pt x="5269529" y="812809"/>
                </a:lnTo>
                <a:lnTo>
                  <a:pt x="5272275" y="807317"/>
                </a:lnTo>
                <a:lnTo>
                  <a:pt x="5275021" y="790841"/>
                </a:lnTo>
                <a:lnTo>
                  <a:pt x="5266783" y="788095"/>
                </a:lnTo>
                <a:lnTo>
                  <a:pt x="5255799" y="785349"/>
                </a:lnTo>
                <a:close/>
                <a:moveTo>
                  <a:pt x="961092" y="785349"/>
                </a:moveTo>
                <a:lnTo>
                  <a:pt x="958346" y="788095"/>
                </a:lnTo>
                <a:lnTo>
                  <a:pt x="963838" y="790841"/>
                </a:lnTo>
                <a:lnTo>
                  <a:pt x="972076" y="790841"/>
                </a:lnTo>
                <a:lnTo>
                  <a:pt x="963838" y="785349"/>
                </a:lnTo>
                <a:lnTo>
                  <a:pt x="961092" y="785349"/>
                </a:lnTo>
                <a:close/>
                <a:moveTo>
                  <a:pt x="1513033" y="782603"/>
                </a:moveTo>
                <a:lnTo>
                  <a:pt x="1510287" y="785349"/>
                </a:lnTo>
                <a:lnTo>
                  <a:pt x="1510287" y="788095"/>
                </a:lnTo>
                <a:lnTo>
                  <a:pt x="1513033" y="788095"/>
                </a:lnTo>
                <a:lnTo>
                  <a:pt x="1515779" y="788095"/>
                </a:lnTo>
                <a:lnTo>
                  <a:pt x="1515779" y="785349"/>
                </a:lnTo>
                <a:lnTo>
                  <a:pt x="1513033" y="782603"/>
                </a:lnTo>
                <a:close/>
                <a:moveTo>
                  <a:pt x="1449877" y="782603"/>
                </a:moveTo>
                <a:lnTo>
                  <a:pt x="1455368" y="782603"/>
                </a:lnTo>
                <a:lnTo>
                  <a:pt x="1455368" y="788095"/>
                </a:lnTo>
                <a:lnTo>
                  <a:pt x="1449877" y="788095"/>
                </a:lnTo>
                <a:lnTo>
                  <a:pt x="1449877" y="782603"/>
                </a:lnTo>
                <a:close/>
                <a:moveTo>
                  <a:pt x="878712" y="782603"/>
                </a:moveTo>
                <a:lnTo>
                  <a:pt x="878712" y="788095"/>
                </a:lnTo>
                <a:lnTo>
                  <a:pt x="884205" y="788095"/>
                </a:lnTo>
                <a:lnTo>
                  <a:pt x="884205" y="782603"/>
                </a:lnTo>
                <a:lnTo>
                  <a:pt x="878712" y="782603"/>
                </a:lnTo>
                <a:close/>
                <a:moveTo>
                  <a:pt x="5069073" y="774365"/>
                </a:moveTo>
                <a:lnTo>
                  <a:pt x="5066327" y="779857"/>
                </a:lnTo>
                <a:lnTo>
                  <a:pt x="5063581" y="788095"/>
                </a:lnTo>
                <a:lnTo>
                  <a:pt x="5071819" y="785349"/>
                </a:lnTo>
                <a:lnTo>
                  <a:pt x="5074565" y="782603"/>
                </a:lnTo>
                <a:lnTo>
                  <a:pt x="5071819" y="777111"/>
                </a:lnTo>
                <a:lnTo>
                  <a:pt x="5069073" y="774365"/>
                </a:lnTo>
                <a:close/>
                <a:moveTo>
                  <a:pt x="1436146" y="774365"/>
                </a:moveTo>
                <a:lnTo>
                  <a:pt x="1427907" y="777111"/>
                </a:lnTo>
                <a:lnTo>
                  <a:pt x="1422416" y="785349"/>
                </a:lnTo>
                <a:lnTo>
                  <a:pt x="1422416" y="788095"/>
                </a:lnTo>
                <a:lnTo>
                  <a:pt x="1422416" y="793587"/>
                </a:lnTo>
                <a:lnTo>
                  <a:pt x="1419670" y="793587"/>
                </a:lnTo>
                <a:lnTo>
                  <a:pt x="1416924" y="804571"/>
                </a:lnTo>
                <a:lnTo>
                  <a:pt x="1419670" y="815555"/>
                </a:lnTo>
                <a:lnTo>
                  <a:pt x="1441637" y="815555"/>
                </a:lnTo>
                <a:lnTo>
                  <a:pt x="1452622" y="815555"/>
                </a:lnTo>
                <a:lnTo>
                  <a:pt x="1460859" y="812809"/>
                </a:lnTo>
                <a:lnTo>
                  <a:pt x="1460859" y="815555"/>
                </a:lnTo>
                <a:lnTo>
                  <a:pt x="1460859" y="818301"/>
                </a:lnTo>
                <a:lnTo>
                  <a:pt x="1463606" y="815555"/>
                </a:lnTo>
                <a:lnTo>
                  <a:pt x="1466353" y="815555"/>
                </a:lnTo>
                <a:lnTo>
                  <a:pt x="1469098" y="812809"/>
                </a:lnTo>
                <a:lnTo>
                  <a:pt x="1466353" y="807317"/>
                </a:lnTo>
                <a:lnTo>
                  <a:pt x="1466353" y="804571"/>
                </a:lnTo>
                <a:lnTo>
                  <a:pt x="1469098" y="793587"/>
                </a:lnTo>
                <a:lnTo>
                  <a:pt x="1463606" y="788095"/>
                </a:lnTo>
                <a:lnTo>
                  <a:pt x="1460859" y="785349"/>
                </a:lnTo>
                <a:lnTo>
                  <a:pt x="1463606" y="779857"/>
                </a:lnTo>
                <a:lnTo>
                  <a:pt x="1460859" y="779857"/>
                </a:lnTo>
                <a:lnTo>
                  <a:pt x="1458113" y="774365"/>
                </a:lnTo>
                <a:lnTo>
                  <a:pt x="1447130" y="774365"/>
                </a:lnTo>
                <a:lnTo>
                  <a:pt x="1436146" y="774365"/>
                </a:lnTo>
                <a:close/>
                <a:moveTo>
                  <a:pt x="1518526" y="768874"/>
                </a:moveTo>
                <a:lnTo>
                  <a:pt x="1515779" y="771620"/>
                </a:lnTo>
                <a:lnTo>
                  <a:pt x="1515779" y="774365"/>
                </a:lnTo>
                <a:lnTo>
                  <a:pt x="1518526" y="774365"/>
                </a:lnTo>
                <a:lnTo>
                  <a:pt x="1521272" y="777111"/>
                </a:lnTo>
                <a:lnTo>
                  <a:pt x="1524017" y="777111"/>
                </a:lnTo>
                <a:lnTo>
                  <a:pt x="1526763" y="774365"/>
                </a:lnTo>
                <a:lnTo>
                  <a:pt x="1526763" y="771620"/>
                </a:lnTo>
                <a:lnTo>
                  <a:pt x="1524017" y="768874"/>
                </a:lnTo>
                <a:lnTo>
                  <a:pt x="1518526" y="768874"/>
                </a:lnTo>
                <a:close/>
                <a:moveTo>
                  <a:pt x="5857169" y="768873"/>
                </a:moveTo>
                <a:lnTo>
                  <a:pt x="5857169" y="771619"/>
                </a:lnTo>
                <a:lnTo>
                  <a:pt x="5854423" y="774365"/>
                </a:lnTo>
                <a:lnTo>
                  <a:pt x="5854423" y="777111"/>
                </a:lnTo>
                <a:lnTo>
                  <a:pt x="5857169" y="777111"/>
                </a:lnTo>
                <a:lnTo>
                  <a:pt x="5859914" y="777111"/>
                </a:lnTo>
                <a:lnTo>
                  <a:pt x="5859914" y="768873"/>
                </a:lnTo>
                <a:lnTo>
                  <a:pt x="5857169" y="768873"/>
                </a:lnTo>
                <a:close/>
                <a:moveTo>
                  <a:pt x="1532255" y="766128"/>
                </a:moveTo>
                <a:lnTo>
                  <a:pt x="1532255" y="774365"/>
                </a:lnTo>
                <a:lnTo>
                  <a:pt x="1535002" y="774365"/>
                </a:lnTo>
                <a:lnTo>
                  <a:pt x="1537748" y="774365"/>
                </a:lnTo>
                <a:lnTo>
                  <a:pt x="1537748" y="768874"/>
                </a:lnTo>
                <a:lnTo>
                  <a:pt x="1535002" y="766128"/>
                </a:lnTo>
                <a:lnTo>
                  <a:pt x="1532255" y="766128"/>
                </a:lnTo>
                <a:close/>
                <a:moveTo>
                  <a:pt x="966584" y="766128"/>
                </a:moveTo>
                <a:lnTo>
                  <a:pt x="966584" y="771620"/>
                </a:lnTo>
                <a:lnTo>
                  <a:pt x="969330" y="771620"/>
                </a:lnTo>
                <a:lnTo>
                  <a:pt x="969330" y="766128"/>
                </a:lnTo>
                <a:lnTo>
                  <a:pt x="966584" y="766128"/>
                </a:lnTo>
                <a:close/>
                <a:moveTo>
                  <a:pt x="5667696" y="766127"/>
                </a:moveTo>
                <a:lnTo>
                  <a:pt x="5667696" y="771619"/>
                </a:lnTo>
                <a:lnTo>
                  <a:pt x="5673188" y="771619"/>
                </a:lnTo>
                <a:lnTo>
                  <a:pt x="5673188" y="766127"/>
                </a:lnTo>
                <a:lnTo>
                  <a:pt x="5667696" y="766127"/>
                </a:lnTo>
                <a:close/>
                <a:moveTo>
                  <a:pt x="1362005" y="763382"/>
                </a:moveTo>
                <a:lnTo>
                  <a:pt x="1359260" y="768874"/>
                </a:lnTo>
                <a:lnTo>
                  <a:pt x="1359260" y="771620"/>
                </a:lnTo>
                <a:lnTo>
                  <a:pt x="1364751" y="771620"/>
                </a:lnTo>
                <a:lnTo>
                  <a:pt x="1367496" y="768874"/>
                </a:lnTo>
                <a:lnTo>
                  <a:pt x="1364751" y="766128"/>
                </a:lnTo>
                <a:lnTo>
                  <a:pt x="1362005" y="763382"/>
                </a:lnTo>
                <a:close/>
                <a:moveTo>
                  <a:pt x="5118501" y="757889"/>
                </a:moveTo>
                <a:lnTo>
                  <a:pt x="5118501" y="760635"/>
                </a:lnTo>
                <a:lnTo>
                  <a:pt x="5113009" y="766127"/>
                </a:lnTo>
                <a:lnTo>
                  <a:pt x="5107517" y="766127"/>
                </a:lnTo>
                <a:lnTo>
                  <a:pt x="5102025" y="768873"/>
                </a:lnTo>
                <a:lnTo>
                  <a:pt x="5091041" y="774365"/>
                </a:lnTo>
                <a:lnTo>
                  <a:pt x="5091041" y="782603"/>
                </a:lnTo>
                <a:lnTo>
                  <a:pt x="5088295" y="788095"/>
                </a:lnTo>
                <a:lnTo>
                  <a:pt x="5091041" y="793587"/>
                </a:lnTo>
                <a:lnTo>
                  <a:pt x="5096533" y="796333"/>
                </a:lnTo>
                <a:lnTo>
                  <a:pt x="5099279" y="804571"/>
                </a:lnTo>
                <a:lnTo>
                  <a:pt x="5107517" y="810063"/>
                </a:lnTo>
                <a:lnTo>
                  <a:pt x="5121247" y="818301"/>
                </a:lnTo>
                <a:lnTo>
                  <a:pt x="5121247" y="821047"/>
                </a:lnTo>
                <a:lnTo>
                  <a:pt x="5118501" y="821047"/>
                </a:lnTo>
                <a:lnTo>
                  <a:pt x="5118501" y="823793"/>
                </a:lnTo>
                <a:lnTo>
                  <a:pt x="5121247" y="823793"/>
                </a:lnTo>
                <a:lnTo>
                  <a:pt x="5121247" y="826539"/>
                </a:lnTo>
                <a:lnTo>
                  <a:pt x="5123993" y="826539"/>
                </a:lnTo>
                <a:lnTo>
                  <a:pt x="5126739" y="823793"/>
                </a:lnTo>
                <a:lnTo>
                  <a:pt x="5137722" y="823793"/>
                </a:lnTo>
                <a:lnTo>
                  <a:pt x="5148706" y="823793"/>
                </a:lnTo>
                <a:lnTo>
                  <a:pt x="5154198" y="826539"/>
                </a:lnTo>
                <a:lnTo>
                  <a:pt x="5156944" y="829285"/>
                </a:lnTo>
                <a:lnTo>
                  <a:pt x="5159690" y="832031"/>
                </a:lnTo>
                <a:lnTo>
                  <a:pt x="5159690" y="840269"/>
                </a:lnTo>
                <a:lnTo>
                  <a:pt x="5156944" y="840269"/>
                </a:lnTo>
                <a:lnTo>
                  <a:pt x="5154198" y="845761"/>
                </a:lnTo>
                <a:lnTo>
                  <a:pt x="5165182" y="851253"/>
                </a:lnTo>
                <a:lnTo>
                  <a:pt x="5176166" y="856745"/>
                </a:lnTo>
                <a:lnTo>
                  <a:pt x="5181658" y="856745"/>
                </a:lnTo>
                <a:lnTo>
                  <a:pt x="5184404" y="851253"/>
                </a:lnTo>
                <a:lnTo>
                  <a:pt x="5189896" y="848507"/>
                </a:lnTo>
                <a:lnTo>
                  <a:pt x="5189896" y="853999"/>
                </a:lnTo>
                <a:lnTo>
                  <a:pt x="5195388" y="853999"/>
                </a:lnTo>
                <a:lnTo>
                  <a:pt x="5198134" y="853999"/>
                </a:lnTo>
                <a:lnTo>
                  <a:pt x="5198134" y="851253"/>
                </a:lnTo>
                <a:lnTo>
                  <a:pt x="5195388" y="851253"/>
                </a:lnTo>
                <a:lnTo>
                  <a:pt x="5195388" y="848507"/>
                </a:lnTo>
                <a:lnTo>
                  <a:pt x="5192642" y="848507"/>
                </a:lnTo>
                <a:lnTo>
                  <a:pt x="5189896" y="848507"/>
                </a:lnTo>
                <a:lnTo>
                  <a:pt x="5195388" y="845761"/>
                </a:lnTo>
                <a:lnTo>
                  <a:pt x="5195388" y="843015"/>
                </a:lnTo>
                <a:lnTo>
                  <a:pt x="5198134" y="843015"/>
                </a:lnTo>
                <a:lnTo>
                  <a:pt x="5198134" y="845761"/>
                </a:lnTo>
                <a:lnTo>
                  <a:pt x="5203626" y="845761"/>
                </a:lnTo>
                <a:lnTo>
                  <a:pt x="5203626" y="843015"/>
                </a:lnTo>
                <a:lnTo>
                  <a:pt x="5206372" y="843015"/>
                </a:lnTo>
                <a:lnTo>
                  <a:pt x="5206372" y="845761"/>
                </a:lnTo>
                <a:lnTo>
                  <a:pt x="5211864" y="845761"/>
                </a:lnTo>
                <a:lnTo>
                  <a:pt x="5214610" y="843015"/>
                </a:lnTo>
                <a:lnTo>
                  <a:pt x="5211864" y="840269"/>
                </a:lnTo>
                <a:lnTo>
                  <a:pt x="5203626" y="837523"/>
                </a:lnTo>
                <a:lnTo>
                  <a:pt x="5198134" y="837523"/>
                </a:lnTo>
                <a:lnTo>
                  <a:pt x="5195388" y="840269"/>
                </a:lnTo>
                <a:lnTo>
                  <a:pt x="5195388" y="832031"/>
                </a:lnTo>
                <a:lnTo>
                  <a:pt x="5195388" y="829285"/>
                </a:lnTo>
                <a:lnTo>
                  <a:pt x="5189896" y="826539"/>
                </a:lnTo>
                <a:lnTo>
                  <a:pt x="5184404" y="823793"/>
                </a:lnTo>
                <a:lnTo>
                  <a:pt x="5189896" y="821047"/>
                </a:lnTo>
                <a:lnTo>
                  <a:pt x="5189896" y="810063"/>
                </a:lnTo>
                <a:lnTo>
                  <a:pt x="5181658" y="807317"/>
                </a:lnTo>
                <a:lnTo>
                  <a:pt x="5176166" y="801825"/>
                </a:lnTo>
                <a:lnTo>
                  <a:pt x="5178912" y="796333"/>
                </a:lnTo>
                <a:lnTo>
                  <a:pt x="5181658" y="790841"/>
                </a:lnTo>
                <a:lnTo>
                  <a:pt x="5178912" y="788095"/>
                </a:lnTo>
                <a:lnTo>
                  <a:pt x="5176166" y="785349"/>
                </a:lnTo>
                <a:lnTo>
                  <a:pt x="5178912" y="779857"/>
                </a:lnTo>
                <a:lnTo>
                  <a:pt x="5178912" y="771619"/>
                </a:lnTo>
                <a:lnTo>
                  <a:pt x="5176166" y="757889"/>
                </a:lnTo>
                <a:lnTo>
                  <a:pt x="5162436" y="760635"/>
                </a:lnTo>
                <a:lnTo>
                  <a:pt x="5148706" y="757889"/>
                </a:lnTo>
                <a:lnTo>
                  <a:pt x="5134976" y="757889"/>
                </a:lnTo>
                <a:lnTo>
                  <a:pt x="5123993" y="757889"/>
                </a:lnTo>
                <a:lnTo>
                  <a:pt x="5118501" y="757889"/>
                </a:lnTo>
                <a:close/>
                <a:moveTo>
                  <a:pt x="936378" y="749652"/>
                </a:moveTo>
                <a:lnTo>
                  <a:pt x="936378" y="752398"/>
                </a:lnTo>
                <a:lnTo>
                  <a:pt x="939124" y="755144"/>
                </a:lnTo>
                <a:lnTo>
                  <a:pt x="941870" y="752398"/>
                </a:lnTo>
                <a:lnTo>
                  <a:pt x="941870" y="749652"/>
                </a:lnTo>
                <a:lnTo>
                  <a:pt x="939124" y="749652"/>
                </a:lnTo>
                <a:lnTo>
                  <a:pt x="936378" y="749652"/>
                </a:lnTo>
                <a:close/>
                <a:moveTo>
                  <a:pt x="5906596" y="749652"/>
                </a:moveTo>
                <a:lnTo>
                  <a:pt x="5903850" y="752398"/>
                </a:lnTo>
                <a:lnTo>
                  <a:pt x="5901104" y="755143"/>
                </a:lnTo>
                <a:lnTo>
                  <a:pt x="5914834" y="755143"/>
                </a:lnTo>
                <a:lnTo>
                  <a:pt x="5912088" y="752398"/>
                </a:lnTo>
                <a:lnTo>
                  <a:pt x="5906596" y="749652"/>
                </a:lnTo>
                <a:close/>
                <a:moveTo>
                  <a:pt x="1559715" y="746906"/>
                </a:moveTo>
                <a:lnTo>
                  <a:pt x="1556969" y="749652"/>
                </a:lnTo>
                <a:lnTo>
                  <a:pt x="1554223" y="755144"/>
                </a:lnTo>
                <a:lnTo>
                  <a:pt x="1556969" y="757890"/>
                </a:lnTo>
                <a:lnTo>
                  <a:pt x="1562461" y="760636"/>
                </a:lnTo>
                <a:lnTo>
                  <a:pt x="1559715" y="755144"/>
                </a:lnTo>
                <a:lnTo>
                  <a:pt x="1559715" y="752398"/>
                </a:lnTo>
                <a:lnTo>
                  <a:pt x="1559715" y="746906"/>
                </a:lnTo>
                <a:close/>
                <a:moveTo>
                  <a:pt x="958346" y="746906"/>
                </a:moveTo>
                <a:lnTo>
                  <a:pt x="952854" y="749652"/>
                </a:lnTo>
                <a:lnTo>
                  <a:pt x="950108" y="755144"/>
                </a:lnTo>
                <a:lnTo>
                  <a:pt x="955600" y="752398"/>
                </a:lnTo>
                <a:lnTo>
                  <a:pt x="958346" y="746906"/>
                </a:lnTo>
                <a:close/>
                <a:moveTo>
                  <a:pt x="1477335" y="744160"/>
                </a:moveTo>
                <a:lnTo>
                  <a:pt x="1474589" y="749652"/>
                </a:lnTo>
                <a:lnTo>
                  <a:pt x="1471844" y="752398"/>
                </a:lnTo>
                <a:lnTo>
                  <a:pt x="1463606" y="757890"/>
                </a:lnTo>
                <a:lnTo>
                  <a:pt x="1463606" y="763382"/>
                </a:lnTo>
                <a:lnTo>
                  <a:pt x="1466353" y="763382"/>
                </a:lnTo>
                <a:lnTo>
                  <a:pt x="1469098" y="766128"/>
                </a:lnTo>
                <a:lnTo>
                  <a:pt x="1469098" y="771620"/>
                </a:lnTo>
                <a:lnTo>
                  <a:pt x="1474589" y="777111"/>
                </a:lnTo>
                <a:lnTo>
                  <a:pt x="1477335" y="785349"/>
                </a:lnTo>
                <a:lnTo>
                  <a:pt x="1488320" y="782603"/>
                </a:lnTo>
                <a:lnTo>
                  <a:pt x="1499304" y="779857"/>
                </a:lnTo>
                <a:lnTo>
                  <a:pt x="1502050" y="774365"/>
                </a:lnTo>
                <a:lnTo>
                  <a:pt x="1504796" y="771620"/>
                </a:lnTo>
                <a:lnTo>
                  <a:pt x="1507541" y="771620"/>
                </a:lnTo>
                <a:lnTo>
                  <a:pt x="1507541" y="763382"/>
                </a:lnTo>
                <a:lnTo>
                  <a:pt x="1510287" y="760636"/>
                </a:lnTo>
                <a:lnTo>
                  <a:pt x="1504796" y="755144"/>
                </a:lnTo>
                <a:lnTo>
                  <a:pt x="1499304" y="746906"/>
                </a:lnTo>
                <a:lnTo>
                  <a:pt x="1491065" y="746906"/>
                </a:lnTo>
                <a:lnTo>
                  <a:pt x="1485574" y="744160"/>
                </a:lnTo>
                <a:lnTo>
                  <a:pt x="1482829" y="744160"/>
                </a:lnTo>
                <a:lnTo>
                  <a:pt x="1477335" y="744160"/>
                </a:lnTo>
                <a:close/>
                <a:moveTo>
                  <a:pt x="969330" y="744160"/>
                </a:moveTo>
                <a:lnTo>
                  <a:pt x="969330" y="746906"/>
                </a:lnTo>
                <a:lnTo>
                  <a:pt x="969330" y="749652"/>
                </a:lnTo>
                <a:lnTo>
                  <a:pt x="966584" y="752398"/>
                </a:lnTo>
                <a:lnTo>
                  <a:pt x="969330" y="752398"/>
                </a:lnTo>
                <a:lnTo>
                  <a:pt x="972076" y="752398"/>
                </a:lnTo>
                <a:lnTo>
                  <a:pt x="974822" y="749652"/>
                </a:lnTo>
                <a:lnTo>
                  <a:pt x="972076" y="746906"/>
                </a:lnTo>
                <a:lnTo>
                  <a:pt x="969330" y="744160"/>
                </a:lnTo>
                <a:close/>
                <a:moveTo>
                  <a:pt x="527228" y="741414"/>
                </a:moveTo>
                <a:lnTo>
                  <a:pt x="521736" y="744160"/>
                </a:lnTo>
                <a:lnTo>
                  <a:pt x="521736" y="752398"/>
                </a:lnTo>
                <a:lnTo>
                  <a:pt x="524482" y="749652"/>
                </a:lnTo>
                <a:lnTo>
                  <a:pt x="527228" y="749652"/>
                </a:lnTo>
                <a:lnTo>
                  <a:pt x="527228" y="741414"/>
                </a:lnTo>
                <a:close/>
                <a:moveTo>
                  <a:pt x="5733600" y="741414"/>
                </a:moveTo>
                <a:lnTo>
                  <a:pt x="5730854" y="744160"/>
                </a:lnTo>
                <a:lnTo>
                  <a:pt x="5728108" y="744160"/>
                </a:lnTo>
                <a:lnTo>
                  <a:pt x="5725362" y="746906"/>
                </a:lnTo>
                <a:lnTo>
                  <a:pt x="5728108" y="749652"/>
                </a:lnTo>
                <a:lnTo>
                  <a:pt x="5730854" y="752398"/>
                </a:lnTo>
                <a:lnTo>
                  <a:pt x="5736346" y="752398"/>
                </a:lnTo>
                <a:lnTo>
                  <a:pt x="5739091" y="749652"/>
                </a:lnTo>
                <a:lnTo>
                  <a:pt x="5739091" y="744160"/>
                </a:lnTo>
                <a:lnTo>
                  <a:pt x="5736346" y="744160"/>
                </a:lnTo>
                <a:lnTo>
                  <a:pt x="5733600" y="741414"/>
                </a:lnTo>
                <a:close/>
                <a:moveTo>
                  <a:pt x="5203626" y="738668"/>
                </a:moveTo>
                <a:lnTo>
                  <a:pt x="5195388" y="744160"/>
                </a:lnTo>
                <a:lnTo>
                  <a:pt x="5189896" y="752398"/>
                </a:lnTo>
                <a:lnTo>
                  <a:pt x="5184404" y="760635"/>
                </a:lnTo>
                <a:lnTo>
                  <a:pt x="5189896" y="766127"/>
                </a:lnTo>
                <a:lnTo>
                  <a:pt x="5198134" y="768873"/>
                </a:lnTo>
                <a:lnTo>
                  <a:pt x="5206372" y="768873"/>
                </a:lnTo>
                <a:lnTo>
                  <a:pt x="5214610" y="768873"/>
                </a:lnTo>
                <a:lnTo>
                  <a:pt x="5220102" y="763381"/>
                </a:lnTo>
                <a:lnTo>
                  <a:pt x="5225594" y="760635"/>
                </a:lnTo>
                <a:lnTo>
                  <a:pt x="5225594" y="755143"/>
                </a:lnTo>
                <a:lnTo>
                  <a:pt x="5222848" y="755143"/>
                </a:lnTo>
                <a:lnTo>
                  <a:pt x="5220102" y="746906"/>
                </a:lnTo>
                <a:lnTo>
                  <a:pt x="5214610" y="741414"/>
                </a:lnTo>
                <a:lnTo>
                  <a:pt x="5209118" y="738668"/>
                </a:lnTo>
                <a:lnTo>
                  <a:pt x="5203626" y="738668"/>
                </a:lnTo>
                <a:close/>
                <a:moveTo>
                  <a:pt x="6323985" y="735922"/>
                </a:moveTo>
                <a:lnTo>
                  <a:pt x="6323985" y="741414"/>
                </a:lnTo>
                <a:lnTo>
                  <a:pt x="6329477" y="741414"/>
                </a:lnTo>
                <a:lnTo>
                  <a:pt x="6332223" y="735922"/>
                </a:lnTo>
                <a:lnTo>
                  <a:pt x="6323985" y="735922"/>
                </a:lnTo>
                <a:close/>
                <a:moveTo>
                  <a:pt x="917156" y="730430"/>
                </a:moveTo>
                <a:lnTo>
                  <a:pt x="917156" y="733176"/>
                </a:lnTo>
                <a:lnTo>
                  <a:pt x="917156" y="735922"/>
                </a:lnTo>
                <a:lnTo>
                  <a:pt x="919902" y="735922"/>
                </a:lnTo>
                <a:lnTo>
                  <a:pt x="919902" y="738668"/>
                </a:lnTo>
                <a:lnTo>
                  <a:pt x="922648" y="738668"/>
                </a:lnTo>
                <a:lnTo>
                  <a:pt x="922648" y="733176"/>
                </a:lnTo>
                <a:lnTo>
                  <a:pt x="917156" y="730430"/>
                </a:lnTo>
                <a:close/>
                <a:moveTo>
                  <a:pt x="450340" y="724938"/>
                </a:moveTo>
                <a:lnTo>
                  <a:pt x="447594" y="727684"/>
                </a:lnTo>
                <a:lnTo>
                  <a:pt x="444848" y="727684"/>
                </a:lnTo>
                <a:lnTo>
                  <a:pt x="450340" y="730430"/>
                </a:lnTo>
                <a:lnTo>
                  <a:pt x="453086" y="730430"/>
                </a:lnTo>
                <a:lnTo>
                  <a:pt x="455832" y="727684"/>
                </a:lnTo>
                <a:lnTo>
                  <a:pt x="450340" y="724938"/>
                </a:lnTo>
                <a:close/>
                <a:moveTo>
                  <a:pt x="5719870" y="719446"/>
                </a:moveTo>
                <a:lnTo>
                  <a:pt x="5719870" y="724938"/>
                </a:lnTo>
                <a:lnTo>
                  <a:pt x="5725362" y="727684"/>
                </a:lnTo>
                <a:lnTo>
                  <a:pt x="5725362" y="719446"/>
                </a:lnTo>
                <a:lnTo>
                  <a:pt x="5719870" y="719446"/>
                </a:lnTo>
                <a:close/>
                <a:moveTo>
                  <a:pt x="5288751" y="719446"/>
                </a:moveTo>
                <a:lnTo>
                  <a:pt x="5283259" y="722192"/>
                </a:lnTo>
                <a:lnTo>
                  <a:pt x="5283259" y="724938"/>
                </a:lnTo>
                <a:lnTo>
                  <a:pt x="5286005" y="724938"/>
                </a:lnTo>
                <a:lnTo>
                  <a:pt x="5286005" y="730430"/>
                </a:lnTo>
                <a:lnTo>
                  <a:pt x="5288751" y="727684"/>
                </a:lnTo>
                <a:lnTo>
                  <a:pt x="5291497" y="724938"/>
                </a:lnTo>
                <a:lnTo>
                  <a:pt x="5288751" y="722192"/>
                </a:lnTo>
                <a:lnTo>
                  <a:pt x="5288751" y="719446"/>
                </a:lnTo>
                <a:close/>
                <a:moveTo>
                  <a:pt x="5077311" y="719446"/>
                </a:moveTo>
                <a:lnTo>
                  <a:pt x="5077311" y="724938"/>
                </a:lnTo>
                <a:lnTo>
                  <a:pt x="5074565" y="730430"/>
                </a:lnTo>
                <a:lnTo>
                  <a:pt x="5071819" y="735922"/>
                </a:lnTo>
                <a:lnTo>
                  <a:pt x="5069073" y="741414"/>
                </a:lnTo>
                <a:lnTo>
                  <a:pt x="5074565" y="744160"/>
                </a:lnTo>
                <a:lnTo>
                  <a:pt x="5077311" y="746906"/>
                </a:lnTo>
                <a:lnTo>
                  <a:pt x="5096533" y="746906"/>
                </a:lnTo>
                <a:lnTo>
                  <a:pt x="5099279" y="741414"/>
                </a:lnTo>
                <a:lnTo>
                  <a:pt x="5099279" y="738668"/>
                </a:lnTo>
                <a:lnTo>
                  <a:pt x="5099279" y="733176"/>
                </a:lnTo>
                <a:lnTo>
                  <a:pt x="5096533" y="727684"/>
                </a:lnTo>
                <a:lnTo>
                  <a:pt x="5082803" y="727684"/>
                </a:lnTo>
                <a:lnTo>
                  <a:pt x="5080057" y="722192"/>
                </a:lnTo>
                <a:lnTo>
                  <a:pt x="5077311" y="719446"/>
                </a:lnTo>
                <a:close/>
                <a:moveTo>
                  <a:pt x="875967" y="719446"/>
                </a:moveTo>
                <a:lnTo>
                  <a:pt x="873221" y="722192"/>
                </a:lnTo>
                <a:lnTo>
                  <a:pt x="867729" y="730430"/>
                </a:lnTo>
                <a:lnTo>
                  <a:pt x="878712" y="730430"/>
                </a:lnTo>
                <a:lnTo>
                  <a:pt x="884205" y="727684"/>
                </a:lnTo>
                <a:lnTo>
                  <a:pt x="881458" y="724938"/>
                </a:lnTo>
                <a:lnTo>
                  <a:pt x="881458" y="722192"/>
                </a:lnTo>
                <a:lnTo>
                  <a:pt x="881458" y="719446"/>
                </a:lnTo>
                <a:lnTo>
                  <a:pt x="875967" y="719446"/>
                </a:lnTo>
                <a:close/>
                <a:moveTo>
                  <a:pt x="488784" y="719446"/>
                </a:moveTo>
                <a:lnTo>
                  <a:pt x="486038" y="722192"/>
                </a:lnTo>
                <a:lnTo>
                  <a:pt x="483292" y="724938"/>
                </a:lnTo>
                <a:lnTo>
                  <a:pt x="488784" y="724938"/>
                </a:lnTo>
                <a:lnTo>
                  <a:pt x="494276" y="724938"/>
                </a:lnTo>
                <a:lnTo>
                  <a:pt x="491530" y="722192"/>
                </a:lnTo>
                <a:lnTo>
                  <a:pt x="488784" y="719446"/>
                </a:lnTo>
                <a:close/>
                <a:moveTo>
                  <a:pt x="6145496" y="716700"/>
                </a:moveTo>
                <a:lnTo>
                  <a:pt x="6140004" y="719446"/>
                </a:lnTo>
                <a:lnTo>
                  <a:pt x="6142750" y="722192"/>
                </a:lnTo>
                <a:lnTo>
                  <a:pt x="6145496" y="722192"/>
                </a:lnTo>
                <a:lnTo>
                  <a:pt x="6148242" y="722192"/>
                </a:lnTo>
                <a:lnTo>
                  <a:pt x="6150988" y="719446"/>
                </a:lnTo>
                <a:lnTo>
                  <a:pt x="6145496" y="716700"/>
                </a:lnTo>
                <a:close/>
                <a:moveTo>
                  <a:pt x="5275021" y="716700"/>
                </a:moveTo>
                <a:lnTo>
                  <a:pt x="5272275" y="719446"/>
                </a:lnTo>
                <a:lnTo>
                  <a:pt x="5266783" y="719446"/>
                </a:lnTo>
                <a:lnTo>
                  <a:pt x="5266783" y="724938"/>
                </a:lnTo>
                <a:lnTo>
                  <a:pt x="5264037" y="727684"/>
                </a:lnTo>
                <a:lnTo>
                  <a:pt x="5261291" y="727684"/>
                </a:lnTo>
                <a:lnTo>
                  <a:pt x="5261291" y="733176"/>
                </a:lnTo>
                <a:lnTo>
                  <a:pt x="5275021" y="733176"/>
                </a:lnTo>
                <a:lnTo>
                  <a:pt x="5277767" y="724938"/>
                </a:lnTo>
                <a:lnTo>
                  <a:pt x="5277767" y="716700"/>
                </a:lnTo>
                <a:lnTo>
                  <a:pt x="5275021" y="716700"/>
                </a:lnTo>
                <a:close/>
                <a:moveTo>
                  <a:pt x="1485574" y="716700"/>
                </a:moveTo>
                <a:lnTo>
                  <a:pt x="1493811" y="716700"/>
                </a:lnTo>
                <a:lnTo>
                  <a:pt x="1485574" y="733176"/>
                </a:lnTo>
                <a:lnTo>
                  <a:pt x="1485574" y="724938"/>
                </a:lnTo>
                <a:lnTo>
                  <a:pt x="1485574" y="716700"/>
                </a:lnTo>
                <a:close/>
                <a:moveTo>
                  <a:pt x="722192" y="716700"/>
                </a:moveTo>
                <a:lnTo>
                  <a:pt x="719446" y="719446"/>
                </a:lnTo>
                <a:lnTo>
                  <a:pt x="719446" y="722192"/>
                </a:lnTo>
                <a:lnTo>
                  <a:pt x="722192" y="727684"/>
                </a:lnTo>
                <a:lnTo>
                  <a:pt x="727684" y="733176"/>
                </a:lnTo>
                <a:lnTo>
                  <a:pt x="730430" y="733176"/>
                </a:lnTo>
                <a:lnTo>
                  <a:pt x="735922" y="727684"/>
                </a:lnTo>
                <a:lnTo>
                  <a:pt x="735922" y="724938"/>
                </a:lnTo>
                <a:lnTo>
                  <a:pt x="733176" y="719446"/>
                </a:lnTo>
                <a:lnTo>
                  <a:pt x="724938" y="716700"/>
                </a:lnTo>
                <a:lnTo>
                  <a:pt x="722192" y="716700"/>
                </a:lnTo>
                <a:close/>
                <a:moveTo>
                  <a:pt x="5700648" y="713954"/>
                </a:moveTo>
                <a:lnTo>
                  <a:pt x="5700648" y="722192"/>
                </a:lnTo>
                <a:lnTo>
                  <a:pt x="5697902" y="727684"/>
                </a:lnTo>
                <a:lnTo>
                  <a:pt x="5689664" y="733176"/>
                </a:lnTo>
                <a:lnTo>
                  <a:pt x="5678680" y="735922"/>
                </a:lnTo>
                <a:lnTo>
                  <a:pt x="5667696" y="735922"/>
                </a:lnTo>
                <a:lnTo>
                  <a:pt x="5653966" y="738668"/>
                </a:lnTo>
                <a:lnTo>
                  <a:pt x="5642982" y="741414"/>
                </a:lnTo>
                <a:lnTo>
                  <a:pt x="5634744" y="746906"/>
                </a:lnTo>
                <a:lnTo>
                  <a:pt x="5631998" y="752398"/>
                </a:lnTo>
                <a:lnTo>
                  <a:pt x="5629252" y="757889"/>
                </a:lnTo>
                <a:lnTo>
                  <a:pt x="5664950" y="755143"/>
                </a:lnTo>
                <a:lnTo>
                  <a:pt x="5684172" y="752398"/>
                </a:lnTo>
                <a:lnTo>
                  <a:pt x="5700648" y="749652"/>
                </a:lnTo>
                <a:lnTo>
                  <a:pt x="5711632" y="744160"/>
                </a:lnTo>
                <a:lnTo>
                  <a:pt x="5714378" y="738668"/>
                </a:lnTo>
                <a:lnTo>
                  <a:pt x="5717124" y="735922"/>
                </a:lnTo>
                <a:lnTo>
                  <a:pt x="5717124" y="730430"/>
                </a:lnTo>
                <a:lnTo>
                  <a:pt x="5714378" y="724938"/>
                </a:lnTo>
                <a:lnTo>
                  <a:pt x="5700648" y="713954"/>
                </a:lnTo>
                <a:close/>
                <a:moveTo>
                  <a:pt x="1345529" y="713954"/>
                </a:moveTo>
                <a:lnTo>
                  <a:pt x="1342784" y="716700"/>
                </a:lnTo>
                <a:lnTo>
                  <a:pt x="1345529" y="719446"/>
                </a:lnTo>
                <a:lnTo>
                  <a:pt x="1348275" y="722192"/>
                </a:lnTo>
                <a:lnTo>
                  <a:pt x="1351020" y="722192"/>
                </a:lnTo>
                <a:lnTo>
                  <a:pt x="1351020" y="716700"/>
                </a:lnTo>
                <a:lnTo>
                  <a:pt x="1351020" y="713954"/>
                </a:lnTo>
                <a:lnTo>
                  <a:pt x="1345529" y="713954"/>
                </a:lnTo>
                <a:close/>
                <a:moveTo>
                  <a:pt x="911664" y="713954"/>
                </a:moveTo>
                <a:lnTo>
                  <a:pt x="911664" y="724938"/>
                </a:lnTo>
                <a:lnTo>
                  <a:pt x="914410" y="724938"/>
                </a:lnTo>
                <a:lnTo>
                  <a:pt x="914410" y="716700"/>
                </a:lnTo>
                <a:lnTo>
                  <a:pt x="911664" y="713954"/>
                </a:lnTo>
                <a:close/>
                <a:moveTo>
                  <a:pt x="1359260" y="711208"/>
                </a:moveTo>
                <a:lnTo>
                  <a:pt x="1359260" y="716700"/>
                </a:lnTo>
                <a:lnTo>
                  <a:pt x="1356512" y="724938"/>
                </a:lnTo>
                <a:lnTo>
                  <a:pt x="1362005" y="724938"/>
                </a:lnTo>
                <a:lnTo>
                  <a:pt x="1367496" y="722192"/>
                </a:lnTo>
                <a:lnTo>
                  <a:pt x="1370242" y="719446"/>
                </a:lnTo>
                <a:lnTo>
                  <a:pt x="1370242" y="716700"/>
                </a:lnTo>
                <a:lnTo>
                  <a:pt x="1372988" y="713954"/>
                </a:lnTo>
                <a:lnTo>
                  <a:pt x="1372988" y="711208"/>
                </a:lnTo>
                <a:lnTo>
                  <a:pt x="1359260" y="711208"/>
                </a:lnTo>
                <a:close/>
                <a:moveTo>
                  <a:pt x="579401" y="711208"/>
                </a:moveTo>
                <a:lnTo>
                  <a:pt x="565671" y="713954"/>
                </a:lnTo>
                <a:lnTo>
                  <a:pt x="557433" y="719446"/>
                </a:lnTo>
                <a:lnTo>
                  <a:pt x="557433" y="713954"/>
                </a:lnTo>
                <a:lnTo>
                  <a:pt x="549195" y="722192"/>
                </a:lnTo>
                <a:lnTo>
                  <a:pt x="551942" y="724938"/>
                </a:lnTo>
                <a:lnTo>
                  <a:pt x="543703" y="730430"/>
                </a:lnTo>
                <a:lnTo>
                  <a:pt x="535466" y="733176"/>
                </a:lnTo>
                <a:lnTo>
                  <a:pt x="518990" y="733176"/>
                </a:lnTo>
                <a:lnTo>
                  <a:pt x="497022" y="730430"/>
                </a:lnTo>
                <a:lnTo>
                  <a:pt x="486038" y="730430"/>
                </a:lnTo>
                <a:lnTo>
                  <a:pt x="477800" y="733176"/>
                </a:lnTo>
                <a:lnTo>
                  <a:pt x="472308" y="735922"/>
                </a:lnTo>
                <a:lnTo>
                  <a:pt x="469562" y="744160"/>
                </a:lnTo>
                <a:lnTo>
                  <a:pt x="472308" y="746906"/>
                </a:lnTo>
                <a:lnTo>
                  <a:pt x="480546" y="746906"/>
                </a:lnTo>
                <a:lnTo>
                  <a:pt x="502514" y="752398"/>
                </a:lnTo>
                <a:lnTo>
                  <a:pt x="497022" y="755144"/>
                </a:lnTo>
                <a:lnTo>
                  <a:pt x="510751" y="755144"/>
                </a:lnTo>
                <a:lnTo>
                  <a:pt x="502514" y="752398"/>
                </a:lnTo>
                <a:lnTo>
                  <a:pt x="508005" y="744160"/>
                </a:lnTo>
                <a:lnTo>
                  <a:pt x="513498" y="741414"/>
                </a:lnTo>
                <a:lnTo>
                  <a:pt x="521736" y="738668"/>
                </a:lnTo>
                <a:lnTo>
                  <a:pt x="540957" y="744160"/>
                </a:lnTo>
                <a:lnTo>
                  <a:pt x="554687" y="746906"/>
                </a:lnTo>
                <a:lnTo>
                  <a:pt x="571163" y="744160"/>
                </a:lnTo>
                <a:lnTo>
                  <a:pt x="579401" y="735922"/>
                </a:lnTo>
                <a:lnTo>
                  <a:pt x="582147" y="733176"/>
                </a:lnTo>
                <a:lnTo>
                  <a:pt x="587639" y="730430"/>
                </a:lnTo>
                <a:lnTo>
                  <a:pt x="601369" y="730430"/>
                </a:lnTo>
                <a:lnTo>
                  <a:pt x="617845" y="733176"/>
                </a:lnTo>
                <a:lnTo>
                  <a:pt x="642559" y="741414"/>
                </a:lnTo>
                <a:lnTo>
                  <a:pt x="664526" y="752398"/>
                </a:lnTo>
                <a:lnTo>
                  <a:pt x="672764" y="760636"/>
                </a:lnTo>
                <a:lnTo>
                  <a:pt x="672764" y="755144"/>
                </a:lnTo>
                <a:lnTo>
                  <a:pt x="675510" y="749652"/>
                </a:lnTo>
                <a:lnTo>
                  <a:pt x="686494" y="744160"/>
                </a:lnTo>
                <a:lnTo>
                  <a:pt x="713954" y="735922"/>
                </a:lnTo>
                <a:lnTo>
                  <a:pt x="713954" y="722192"/>
                </a:lnTo>
                <a:lnTo>
                  <a:pt x="694732" y="722192"/>
                </a:lnTo>
                <a:lnTo>
                  <a:pt x="672764" y="724938"/>
                </a:lnTo>
                <a:lnTo>
                  <a:pt x="650797" y="727684"/>
                </a:lnTo>
                <a:lnTo>
                  <a:pt x="631574" y="727684"/>
                </a:lnTo>
                <a:lnTo>
                  <a:pt x="628829" y="722192"/>
                </a:lnTo>
                <a:lnTo>
                  <a:pt x="620591" y="713954"/>
                </a:lnTo>
                <a:lnTo>
                  <a:pt x="595877" y="711208"/>
                </a:lnTo>
                <a:lnTo>
                  <a:pt x="579401" y="711208"/>
                </a:lnTo>
                <a:close/>
                <a:moveTo>
                  <a:pt x="6181194" y="711208"/>
                </a:moveTo>
                <a:lnTo>
                  <a:pt x="6181194" y="716700"/>
                </a:lnTo>
                <a:lnTo>
                  <a:pt x="6186686" y="716700"/>
                </a:lnTo>
                <a:lnTo>
                  <a:pt x="6189432" y="716700"/>
                </a:lnTo>
                <a:lnTo>
                  <a:pt x="6189432" y="713954"/>
                </a:lnTo>
                <a:lnTo>
                  <a:pt x="6183940" y="711208"/>
                </a:lnTo>
                <a:lnTo>
                  <a:pt x="6181194" y="711208"/>
                </a:lnTo>
                <a:close/>
                <a:moveTo>
                  <a:pt x="5903850" y="711208"/>
                </a:moveTo>
                <a:lnTo>
                  <a:pt x="5898358" y="713954"/>
                </a:lnTo>
                <a:lnTo>
                  <a:pt x="5898358" y="716700"/>
                </a:lnTo>
                <a:lnTo>
                  <a:pt x="5898358" y="719446"/>
                </a:lnTo>
                <a:lnTo>
                  <a:pt x="5903850" y="722192"/>
                </a:lnTo>
                <a:lnTo>
                  <a:pt x="5909342" y="727684"/>
                </a:lnTo>
                <a:lnTo>
                  <a:pt x="5914834" y="727684"/>
                </a:lnTo>
                <a:lnTo>
                  <a:pt x="5914834" y="724938"/>
                </a:lnTo>
                <a:lnTo>
                  <a:pt x="5914834" y="719446"/>
                </a:lnTo>
                <a:lnTo>
                  <a:pt x="5912088" y="713954"/>
                </a:lnTo>
                <a:lnTo>
                  <a:pt x="5909342" y="711208"/>
                </a:lnTo>
                <a:lnTo>
                  <a:pt x="5903850" y="711208"/>
                </a:lnTo>
                <a:close/>
                <a:moveTo>
                  <a:pt x="5758313" y="711208"/>
                </a:moveTo>
                <a:lnTo>
                  <a:pt x="5750075" y="713954"/>
                </a:lnTo>
                <a:lnTo>
                  <a:pt x="5750075" y="716700"/>
                </a:lnTo>
                <a:lnTo>
                  <a:pt x="5752821" y="719446"/>
                </a:lnTo>
                <a:lnTo>
                  <a:pt x="5755567" y="719446"/>
                </a:lnTo>
                <a:lnTo>
                  <a:pt x="5755567" y="722192"/>
                </a:lnTo>
                <a:lnTo>
                  <a:pt x="5758313" y="722192"/>
                </a:lnTo>
                <a:lnTo>
                  <a:pt x="5763805" y="719446"/>
                </a:lnTo>
                <a:lnTo>
                  <a:pt x="5766551" y="711208"/>
                </a:lnTo>
                <a:lnTo>
                  <a:pt x="5758313" y="711208"/>
                </a:lnTo>
                <a:close/>
                <a:moveTo>
                  <a:pt x="5840693" y="705716"/>
                </a:moveTo>
                <a:lnTo>
                  <a:pt x="5832455" y="708462"/>
                </a:lnTo>
                <a:lnTo>
                  <a:pt x="5829709" y="713954"/>
                </a:lnTo>
                <a:lnTo>
                  <a:pt x="5826963" y="716700"/>
                </a:lnTo>
                <a:lnTo>
                  <a:pt x="5826963" y="727684"/>
                </a:lnTo>
                <a:lnTo>
                  <a:pt x="5829709" y="738668"/>
                </a:lnTo>
                <a:lnTo>
                  <a:pt x="5835201" y="744160"/>
                </a:lnTo>
                <a:lnTo>
                  <a:pt x="5843439" y="746906"/>
                </a:lnTo>
                <a:lnTo>
                  <a:pt x="5848931" y="744160"/>
                </a:lnTo>
                <a:lnTo>
                  <a:pt x="5851677" y="735922"/>
                </a:lnTo>
                <a:lnTo>
                  <a:pt x="5854423" y="727684"/>
                </a:lnTo>
                <a:lnTo>
                  <a:pt x="5851677" y="716700"/>
                </a:lnTo>
                <a:lnTo>
                  <a:pt x="5846185" y="711208"/>
                </a:lnTo>
                <a:lnTo>
                  <a:pt x="5840693" y="705716"/>
                </a:lnTo>
                <a:close/>
                <a:moveTo>
                  <a:pt x="5711632" y="702970"/>
                </a:moveTo>
                <a:lnTo>
                  <a:pt x="5714378" y="708462"/>
                </a:lnTo>
                <a:lnTo>
                  <a:pt x="5717124" y="711208"/>
                </a:lnTo>
                <a:lnTo>
                  <a:pt x="5717124" y="708462"/>
                </a:lnTo>
                <a:lnTo>
                  <a:pt x="5717124" y="705716"/>
                </a:lnTo>
                <a:lnTo>
                  <a:pt x="5717124" y="702970"/>
                </a:lnTo>
                <a:lnTo>
                  <a:pt x="5711632" y="702970"/>
                </a:lnTo>
                <a:close/>
                <a:moveTo>
                  <a:pt x="310295" y="700224"/>
                </a:moveTo>
                <a:lnTo>
                  <a:pt x="304803" y="702970"/>
                </a:lnTo>
                <a:lnTo>
                  <a:pt x="304803" y="708462"/>
                </a:lnTo>
                <a:lnTo>
                  <a:pt x="310295" y="708462"/>
                </a:lnTo>
                <a:lnTo>
                  <a:pt x="310295" y="700224"/>
                </a:lnTo>
                <a:close/>
                <a:moveTo>
                  <a:pt x="1540493" y="694732"/>
                </a:moveTo>
                <a:lnTo>
                  <a:pt x="1535002" y="700224"/>
                </a:lnTo>
                <a:lnTo>
                  <a:pt x="1535002" y="705716"/>
                </a:lnTo>
                <a:lnTo>
                  <a:pt x="1535002" y="711208"/>
                </a:lnTo>
                <a:lnTo>
                  <a:pt x="1540493" y="716700"/>
                </a:lnTo>
                <a:lnTo>
                  <a:pt x="1551477" y="716700"/>
                </a:lnTo>
                <a:lnTo>
                  <a:pt x="1554223" y="719446"/>
                </a:lnTo>
                <a:lnTo>
                  <a:pt x="1554223" y="722192"/>
                </a:lnTo>
                <a:lnTo>
                  <a:pt x="1556969" y="722192"/>
                </a:lnTo>
                <a:lnTo>
                  <a:pt x="1559715" y="716700"/>
                </a:lnTo>
                <a:lnTo>
                  <a:pt x="1562461" y="713954"/>
                </a:lnTo>
                <a:lnTo>
                  <a:pt x="1565206" y="708462"/>
                </a:lnTo>
                <a:lnTo>
                  <a:pt x="1565206" y="702970"/>
                </a:lnTo>
                <a:lnTo>
                  <a:pt x="1559715" y="700224"/>
                </a:lnTo>
                <a:lnTo>
                  <a:pt x="1556969" y="694732"/>
                </a:lnTo>
                <a:lnTo>
                  <a:pt x="1540493" y="694732"/>
                </a:lnTo>
                <a:close/>
                <a:moveTo>
                  <a:pt x="790841" y="694732"/>
                </a:moveTo>
                <a:lnTo>
                  <a:pt x="785349" y="697478"/>
                </a:lnTo>
                <a:lnTo>
                  <a:pt x="782603" y="705716"/>
                </a:lnTo>
                <a:lnTo>
                  <a:pt x="782603" y="716700"/>
                </a:lnTo>
                <a:lnTo>
                  <a:pt x="785349" y="724938"/>
                </a:lnTo>
                <a:lnTo>
                  <a:pt x="788095" y="733176"/>
                </a:lnTo>
                <a:lnTo>
                  <a:pt x="793587" y="735922"/>
                </a:lnTo>
                <a:lnTo>
                  <a:pt x="801825" y="733176"/>
                </a:lnTo>
                <a:lnTo>
                  <a:pt x="804571" y="730430"/>
                </a:lnTo>
                <a:lnTo>
                  <a:pt x="807317" y="724938"/>
                </a:lnTo>
                <a:lnTo>
                  <a:pt x="807317" y="713954"/>
                </a:lnTo>
                <a:lnTo>
                  <a:pt x="804571" y="702970"/>
                </a:lnTo>
                <a:lnTo>
                  <a:pt x="801825" y="697478"/>
                </a:lnTo>
                <a:lnTo>
                  <a:pt x="790841" y="694732"/>
                </a:lnTo>
                <a:close/>
                <a:moveTo>
                  <a:pt x="6109798" y="691986"/>
                </a:moveTo>
                <a:lnTo>
                  <a:pt x="6109798" y="694732"/>
                </a:lnTo>
                <a:lnTo>
                  <a:pt x="6109798" y="700224"/>
                </a:lnTo>
                <a:lnTo>
                  <a:pt x="6112544" y="697478"/>
                </a:lnTo>
                <a:lnTo>
                  <a:pt x="6112544" y="691986"/>
                </a:lnTo>
                <a:lnTo>
                  <a:pt x="6109798" y="691986"/>
                </a:lnTo>
                <a:close/>
                <a:moveTo>
                  <a:pt x="5659458" y="691986"/>
                </a:moveTo>
                <a:lnTo>
                  <a:pt x="5662204" y="697478"/>
                </a:lnTo>
                <a:lnTo>
                  <a:pt x="5664950" y="697478"/>
                </a:lnTo>
                <a:lnTo>
                  <a:pt x="5664950" y="694732"/>
                </a:lnTo>
                <a:lnTo>
                  <a:pt x="5667696" y="691986"/>
                </a:lnTo>
                <a:lnTo>
                  <a:pt x="5664950" y="691986"/>
                </a:lnTo>
                <a:lnTo>
                  <a:pt x="5659458" y="691986"/>
                </a:lnTo>
                <a:close/>
                <a:moveTo>
                  <a:pt x="1471844" y="689240"/>
                </a:moveTo>
                <a:lnTo>
                  <a:pt x="1466353" y="691986"/>
                </a:lnTo>
                <a:lnTo>
                  <a:pt x="1458113" y="691986"/>
                </a:lnTo>
                <a:lnTo>
                  <a:pt x="1458113" y="694732"/>
                </a:lnTo>
                <a:lnTo>
                  <a:pt x="1449877" y="694732"/>
                </a:lnTo>
                <a:lnTo>
                  <a:pt x="1444383" y="697478"/>
                </a:lnTo>
                <a:lnTo>
                  <a:pt x="1441637" y="702970"/>
                </a:lnTo>
                <a:lnTo>
                  <a:pt x="1438891" y="708462"/>
                </a:lnTo>
                <a:lnTo>
                  <a:pt x="1433400" y="708462"/>
                </a:lnTo>
                <a:lnTo>
                  <a:pt x="1427907" y="711208"/>
                </a:lnTo>
                <a:lnTo>
                  <a:pt x="1416924" y="719446"/>
                </a:lnTo>
                <a:lnTo>
                  <a:pt x="1411434" y="724938"/>
                </a:lnTo>
                <a:lnTo>
                  <a:pt x="1411434" y="730430"/>
                </a:lnTo>
                <a:lnTo>
                  <a:pt x="1411434" y="735922"/>
                </a:lnTo>
                <a:lnTo>
                  <a:pt x="1416924" y="741414"/>
                </a:lnTo>
                <a:lnTo>
                  <a:pt x="1419670" y="738668"/>
                </a:lnTo>
                <a:lnTo>
                  <a:pt x="1422416" y="738668"/>
                </a:lnTo>
                <a:lnTo>
                  <a:pt x="1422416" y="744160"/>
                </a:lnTo>
                <a:lnTo>
                  <a:pt x="1427907" y="744160"/>
                </a:lnTo>
                <a:lnTo>
                  <a:pt x="1427907" y="746906"/>
                </a:lnTo>
                <a:lnTo>
                  <a:pt x="1430655" y="752398"/>
                </a:lnTo>
                <a:lnTo>
                  <a:pt x="1444383" y="752398"/>
                </a:lnTo>
                <a:lnTo>
                  <a:pt x="1455368" y="749652"/>
                </a:lnTo>
                <a:lnTo>
                  <a:pt x="1458113" y="735922"/>
                </a:lnTo>
                <a:lnTo>
                  <a:pt x="1460859" y="738668"/>
                </a:lnTo>
                <a:lnTo>
                  <a:pt x="1466353" y="735922"/>
                </a:lnTo>
                <a:lnTo>
                  <a:pt x="1480081" y="735922"/>
                </a:lnTo>
                <a:lnTo>
                  <a:pt x="1477335" y="733176"/>
                </a:lnTo>
                <a:lnTo>
                  <a:pt x="1480081" y="733176"/>
                </a:lnTo>
                <a:lnTo>
                  <a:pt x="1482829" y="733176"/>
                </a:lnTo>
                <a:lnTo>
                  <a:pt x="1485574" y="733176"/>
                </a:lnTo>
                <a:lnTo>
                  <a:pt x="1493811" y="741414"/>
                </a:lnTo>
                <a:lnTo>
                  <a:pt x="1507541" y="744160"/>
                </a:lnTo>
                <a:lnTo>
                  <a:pt x="1515779" y="741414"/>
                </a:lnTo>
                <a:lnTo>
                  <a:pt x="1518526" y="741414"/>
                </a:lnTo>
                <a:lnTo>
                  <a:pt x="1524017" y="738668"/>
                </a:lnTo>
                <a:lnTo>
                  <a:pt x="1524017" y="727684"/>
                </a:lnTo>
                <a:lnTo>
                  <a:pt x="1521272" y="716700"/>
                </a:lnTo>
                <a:lnTo>
                  <a:pt x="1504796" y="711208"/>
                </a:lnTo>
                <a:lnTo>
                  <a:pt x="1507541" y="708462"/>
                </a:lnTo>
                <a:lnTo>
                  <a:pt x="1507541" y="700224"/>
                </a:lnTo>
                <a:lnTo>
                  <a:pt x="1502050" y="697478"/>
                </a:lnTo>
                <a:lnTo>
                  <a:pt x="1499304" y="694732"/>
                </a:lnTo>
                <a:lnTo>
                  <a:pt x="1496557" y="691986"/>
                </a:lnTo>
                <a:lnTo>
                  <a:pt x="1491065" y="691986"/>
                </a:lnTo>
                <a:lnTo>
                  <a:pt x="1491065" y="689240"/>
                </a:lnTo>
                <a:lnTo>
                  <a:pt x="1488320" y="689240"/>
                </a:lnTo>
                <a:lnTo>
                  <a:pt x="1488320" y="691986"/>
                </a:lnTo>
                <a:lnTo>
                  <a:pt x="1485574" y="691986"/>
                </a:lnTo>
                <a:lnTo>
                  <a:pt x="1480081" y="689240"/>
                </a:lnTo>
                <a:lnTo>
                  <a:pt x="1471844" y="689240"/>
                </a:lnTo>
                <a:close/>
                <a:moveTo>
                  <a:pt x="900680" y="689240"/>
                </a:moveTo>
                <a:lnTo>
                  <a:pt x="895189" y="691986"/>
                </a:lnTo>
                <a:lnTo>
                  <a:pt x="895189" y="700224"/>
                </a:lnTo>
                <a:lnTo>
                  <a:pt x="897934" y="697478"/>
                </a:lnTo>
                <a:lnTo>
                  <a:pt x="900680" y="700224"/>
                </a:lnTo>
                <a:lnTo>
                  <a:pt x="903426" y="700224"/>
                </a:lnTo>
                <a:lnTo>
                  <a:pt x="906173" y="697478"/>
                </a:lnTo>
                <a:lnTo>
                  <a:pt x="911664" y="697478"/>
                </a:lnTo>
                <a:lnTo>
                  <a:pt x="908919" y="691986"/>
                </a:lnTo>
                <a:lnTo>
                  <a:pt x="903426" y="689240"/>
                </a:lnTo>
                <a:lnTo>
                  <a:pt x="900680" y="689240"/>
                </a:lnTo>
                <a:close/>
                <a:moveTo>
                  <a:pt x="5692410" y="689240"/>
                </a:moveTo>
                <a:lnTo>
                  <a:pt x="5692410" y="691986"/>
                </a:lnTo>
                <a:lnTo>
                  <a:pt x="5697902" y="694732"/>
                </a:lnTo>
                <a:lnTo>
                  <a:pt x="5700648" y="691986"/>
                </a:lnTo>
                <a:lnTo>
                  <a:pt x="5700648" y="689240"/>
                </a:lnTo>
                <a:lnTo>
                  <a:pt x="5695156" y="689240"/>
                </a:lnTo>
                <a:lnTo>
                  <a:pt x="5692410" y="689240"/>
                </a:lnTo>
                <a:close/>
                <a:moveTo>
                  <a:pt x="5678680" y="689240"/>
                </a:moveTo>
                <a:lnTo>
                  <a:pt x="5678680" y="694732"/>
                </a:lnTo>
                <a:lnTo>
                  <a:pt x="5681426" y="691986"/>
                </a:lnTo>
                <a:lnTo>
                  <a:pt x="5684172" y="689240"/>
                </a:lnTo>
                <a:lnTo>
                  <a:pt x="5678680" y="689240"/>
                </a:lnTo>
                <a:close/>
                <a:moveTo>
                  <a:pt x="5189896" y="689240"/>
                </a:moveTo>
                <a:lnTo>
                  <a:pt x="5181658" y="691986"/>
                </a:lnTo>
                <a:lnTo>
                  <a:pt x="5176166" y="705716"/>
                </a:lnTo>
                <a:lnTo>
                  <a:pt x="5173420" y="705716"/>
                </a:lnTo>
                <a:lnTo>
                  <a:pt x="5167928" y="705716"/>
                </a:lnTo>
                <a:lnTo>
                  <a:pt x="5156944" y="705716"/>
                </a:lnTo>
                <a:lnTo>
                  <a:pt x="5156944" y="708462"/>
                </a:lnTo>
                <a:lnTo>
                  <a:pt x="5156944" y="711208"/>
                </a:lnTo>
                <a:lnTo>
                  <a:pt x="5154198" y="711208"/>
                </a:lnTo>
                <a:lnTo>
                  <a:pt x="5151452" y="711208"/>
                </a:lnTo>
                <a:lnTo>
                  <a:pt x="5148706" y="716700"/>
                </a:lnTo>
                <a:lnTo>
                  <a:pt x="5148706" y="724938"/>
                </a:lnTo>
                <a:lnTo>
                  <a:pt x="5143214" y="724938"/>
                </a:lnTo>
                <a:lnTo>
                  <a:pt x="5148706" y="711208"/>
                </a:lnTo>
                <a:lnTo>
                  <a:pt x="5140468" y="702970"/>
                </a:lnTo>
                <a:lnTo>
                  <a:pt x="5129485" y="697478"/>
                </a:lnTo>
                <a:lnTo>
                  <a:pt x="5121247" y="700224"/>
                </a:lnTo>
                <a:lnTo>
                  <a:pt x="5115755" y="702970"/>
                </a:lnTo>
                <a:lnTo>
                  <a:pt x="5113009" y="705716"/>
                </a:lnTo>
                <a:lnTo>
                  <a:pt x="5113009" y="716700"/>
                </a:lnTo>
                <a:lnTo>
                  <a:pt x="5115755" y="724938"/>
                </a:lnTo>
                <a:lnTo>
                  <a:pt x="5129485" y="730430"/>
                </a:lnTo>
                <a:lnTo>
                  <a:pt x="5129485" y="735922"/>
                </a:lnTo>
                <a:lnTo>
                  <a:pt x="5129485" y="741414"/>
                </a:lnTo>
                <a:lnTo>
                  <a:pt x="5134976" y="744160"/>
                </a:lnTo>
                <a:lnTo>
                  <a:pt x="5137722" y="746906"/>
                </a:lnTo>
                <a:lnTo>
                  <a:pt x="5137722" y="749652"/>
                </a:lnTo>
                <a:lnTo>
                  <a:pt x="5143214" y="749652"/>
                </a:lnTo>
                <a:lnTo>
                  <a:pt x="5143214" y="752398"/>
                </a:lnTo>
                <a:lnTo>
                  <a:pt x="5145960" y="752398"/>
                </a:lnTo>
                <a:lnTo>
                  <a:pt x="5148706" y="752398"/>
                </a:lnTo>
                <a:lnTo>
                  <a:pt x="5151452" y="749652"/>
                </a:lnTo>
                <a:lnTo>
                  <a:pt x="5156944" y="752398"/>
                </a:lnTo>
                <a:lnTo>
                  <a:pt x="5162436" y="752398"/>
                </a:lnTo>
                <a:lnTo>
                  <a:pt x="5170674" y="752398"/>
                </a:lnTo>
                <a:lnTo>
                  <a:pt x="5176166" y="749652"/>
                </a:lnTo>
                <a:lnTo>
                  <a:pt x="5176166" y="746906"/>
                </a:lnTo>
                <a:lnTo>
                  <a:pt x="5184404" y="746906"/>
                </a:lnTo>
                <a:lnTo>
                  <a:pt x="5189896" y="744160"/>
                </a:lnTo>
                <a:lnTo>
                  <a:pt x="5192642" y="741414"/>
                </a:lnTo>
                <a:lnTo>
                  <a:pt x="5195388" y="733176"/>
                </a:lnTo>
                <a:lnTo>
                  <a:pt x="5200880" y="733176"/>
                </a:lnTo>
                <a:lnTo>
                  <a:pt x="5206372" y="730430"/>
                </a:lnTo>
                <a:lnTo>
                  <a:pt x="5220102" y="722192"/>
                </a:lnTo>
                <a:lnTo>
                  <a:pt x="5222848" y="716700"/>
                </a:lnTo>
                <a:lnTo>
                  <a:pt x="5222848" y="711208"/>
                </a:lnTo>
                <a:lnTo>
                  <a:pt x="5222848" y="705716"/>
                </a:lnTo>
                <a:lnTo>
                  <a:pt x="5217356" y="702970"/>
                </a:lnTo>
                <a:lnTo>
                  <a:pt x="5214610" y="702970"/>
                </a:lnTo>
                <a:lnTo>
                  <a:pt x="5214610" y="705716"/>
                </a:lnTo>
                <a:lnTo>
                  <a:pt x="5211864" y="705716"/>
                </a:lnTo>
                <a:lnTo>
                  <a:pt x="5211864" y="697478"/>
                </a:lnTo>
                <a:lnTo>
                  <a:pt x="5206372" y="697478"/>
                </a:lnTo>
                <a:lnTo>
                  <a:pt x="5206372" y="694732"/>
                </a:lnTo>
                <a:lnTo>
                  <a:pt x="5203626" y="689240"/>
                </a:lnTo>
                <a:lnTo>
                  <a:pt x="5189896" y="689240"/>
                </a:lnTo>
                <a:close/>
                <a:moveTo>
                  <a:pt x="722192" y="686494"/>
                </a:moveTo>
                <a:lnTo>
                  <a:pt x="722192" y="691986"/>
                </a:lnTo>
                <a:lnTo>
                  <a:pt x="727684" y="691986"/>
                </a:lnTo>
                <a:lnTo>
                  <a:pt x="730430" y="691986"/>
                </a:lnTo>
                <a:lnTo>
                  <a:pt x="733176" y="686494"/>
                </a:lnTo>
                <a:lnTo>
                  <a:pt x="722192" y="686494"/>
                </a:lnTo>
                <a:close/>
                <a:moveTo>
                  <a:pt x="1005028" y="683748"/>
                </a:moveTo>
                <a:lnTo>
                  <a:pt x="969330" y="686494"/>
                </a:lnTo>
                <a:lnTo>
                  <a:pt x="952854" y="689240"/>
                </a:lnTo>
                <a:lnTo>
                  <a:pt x="936378" y="694732"/>
                </a:lnTo>
                <a:lnTo>
                  <a:pt x="922648" y="700224"/>
                </a:lnTo>
                <a:lnTo>
                  <a:pt x="919902" y="702970"/>
                </a:lnTo>
                <a:lnTo>
                  <a:pt x="917156" y="708462"/>
                </a:lnTo>
                <a:lnTo>
                  <a:pt x="919902" y="711208"/>
                </a:lnTo>
                <a:lnTo>
                  <a:pt x="919902" y="716700"/>
                </a:lnTo>
                <a:lnTo>
                  <a:pt x="933632" y="727684"/>
                </a:lnTo>
                <a:lnTo>
                  <a:pt x="936378" y="722192"/>
                </a:lnTo>
                <a:lnTo>
                  <a:pt x="936378" y="716700"/>
                </a:lnTo>
                <a:lnTo>
                  <a:pt x="944616" y="708462"/>
                </a:lnTo>
                <a:lnTo>
                  <a:pt x="955600" y="705716"/>
                </a:lnTo>
                <a:lnTo>
                  <a:pt x="969330" y="705716"/>
                </a:lnTo>
                <a:lnTo>
                  <a:pt x="980314" y="705716"/>
                </a:lnTo>
                <a:lnTo>
                  <a:pt x="994043" y="702970"/>
                </a:lnTo>
                <a:lnTo>
                  <a:pt x="1002281" y="694732"/>
                </a:lnTo>
                <a:lnTo>
                  <a:pt x="1005028" y="691986"/>
                </a:lnTo>
                <a:lnTo>
                  <a:pt x="1005028" y="683748"/>
                </a:lnTo>
                <a:close/>
                <a:moveTo>
                  <a:pt x="5961516" y="683748"/>
                </a:moveTo>
                <a:lnTo>
                  <a:pt x="5961516" y="689240"/>
                </a:lnTo>
                <a:lnTo>
                  <a:pt x="5958770" y="694732"/>
                </a:lnTo>
                <a:lnTo>
                  <a:pt x="5950532" y="700224"/>
                </a:lnTo>
                <a:lnTo>
                  <a:pt x="5920326" y="708462"/>
                </a:lnTo>
                <a:lnTo>
                  <a:pt x="5920326" y="722192"/>
                </a:lnTo>
                <a:lnTo>
                  <a:pt x="5939548" y="719446"/>
                </a:lnTo>
                <a:lnTo>
                  <a:pt x="5961516" y="716700"/>
                </a:lnTo>
                <a:lnTo>
                  <a:pt x="5983483" y="716700"/>
                </a:lnTo>
                <a:lnTo>
                  <a:pt x="6002705" y="716700"/>
                </a:lnTo>
                <a:lnTo>
                  <a:pt x="6008197" y="722192"/>
                </a:lnTo>
                <a:lnTo>
                  <a:pt x="6013689" y="727684"/>
                </a:lnTo>
                <a:lnTo>
                  <a:pt x="6038403" y="730430"/>
                </a:lnTo>
                <a:lnTo>
                  <a:pt x="6054879" y="730430"/>
                </a:lnTo>
                <a:lnTo>
                  <a:pt x="6071355" y="727684"/>
                </a:lnTo>
                <a:lnTo>
                  <a:pt x="6076847" y="724938"/>
                </a:lnTo>
                <a:lnTo>
                  <a:pt x="6079593" y="727684"/>
                </a:lnTo>
                <a:lnTo>
                  <a:pt x="6085085" y="722192"/>
                </a:lnTo>
                <a:lnTo>
                  <a:pt x="6082339" y="719446"/>
                </a:lnTo>
                <a:lnTo>
                  <a:pt x="6090577" y="713954"/>
                </a:lnTo>
                <a:lnTo>
                  <a:pt x="6098815" y="708462"/>
                </a:lnTo>
                <a:lnTo>
                  <a:pt x="6115290" y="708462"/>
                </a:lnTo>
                <a:lnTo>
                  <a:pt x="6137258" y="711208"/>
                </a:lnTo>
                <a:lnTo>
                  <a:pt x="6148242" y="711208"/>
                </a:lnTo>
                <a:lnTo>
                  <a:pt x="6156480" y="711208"/>
                </a:lnTo>
                <a:lnTo>
                  <a:pt x="6161972" y="705716"/>
                </a:lnTo>
                <a:lnTo>
                  <a:pt x="6164718" y="700224"/>
                </a:lnTo>
                <a:lnTo>
                  <a:pt x="6161972" y="697478"/>
                </a:lnTo>
                <a:lnTo>
                  <a:pt x="6153734" y="694732"/>
                </a:lnTo>
                <a:lnTo>
                  <a:pt x="6134512" y="691986"/>
                </a:lnTo>
                <a:lnTo>
                  <a:pt x="6137258" y="689240"/>
                </a:lnTo>
                <a:lnTo>
                  <a:pt x="6123528" y="689240"/>
                </a:lnTo>
                <a:lnTo>
                  <a:pt x="6134512" y="691986"/>
                </a:lnTo>
                <a:lnTo>
                  <a:pt x="6126274" y="697478"/>
                </a:lnTo>
                <a:lnTo>
                  <a:pt x="6120782" y="702970"/>
                </a:lnTo>
                <a:lnTo>
                  <a:pt x="6112544" y="702970"/>
                </a:lnTo>
                <a:lnTo>
                  <a:pt x="6093323" y="697478"/>
                </a:lnTo>
                <a:lnTo>
                  <a:pt x="6079593" y="694732"/>
                </a:lnTo>
                <a:lnTo>
                  <a:pt x="6063117" y="697478"/>
                </a:lnTo>
                <a:lnTo>
                  <a:pt x="6057625" y="705716"/>
                </a:lnTo>
                <a:lnTo>
                  <a:pt x="6052133" y="711208"/>
                </a:lnTo>
                <a:lnTo>
                  <a:pt x="6046641" y="711208"/>
                </a:lnTo>
                <a:lnTo>
                  <a:pt x="6032911" y="711208"/>
                </a:lnTo>
                <a:lnTo>
                  <a:pt x="6019181" y="708462"/>
                </a:lnTo>
                <a:lnTo>
                  <a:pt x="5991721" y="700224"/>
                </a:lnTo>
                <a:lnTo>
                  <a:pt x="5972500" y="691986"/>
                </a:lnTo>
                <a:lnTo>
                  <a:pt x="5961516" y="683748"/>
                </a:lnTo>
                <a:close/>
                <a:moveTo>
                  <a:pt x="5074565" y="683748"/>
                </a:moveTo>
                <a:lnTo>
                  <a:pt x="5074565" y="689240"/>
                </a:lnTo>
                <a:lnTo>
                  <a:pt x="5074565" y="691986"/>
                </a:lnTo>
                <a:lnTo>
                  <a:pt x="5074565" y="694732"/>
                </a:lnTo>
                <a:lnTo>
                  <a:pt x="5080057" y="691986"/>
                </a:lnTo>
                <a:lnTo>
                  <a:pt x="5080057" y="689240"/>
                </a:lnTo>
                <a:lnTo>
                  <a:pt x="5077311" y="683748"/>
                </a:lnTo>
                <a:lnTo>
                  <a:pt x="5074565" y="683748"/>
                </a:lnTo>
                <a:close/>
                <a:moveTo>
                  <a:pt x="1430655" y="672764"/>
                </a:moveTo>
                <a:lnTo>
                  <a:pt x="1419670" y="675510"/>
                </a:lnTo>
                <a:lnTo>
                  <a:pt x="1416924" y="681002"/>
                </a:lnTo>
                <a:lnTo>
                  <a:pt x="1408686" y="683748"/>
                </a:lnTo>
                <a:lnTo>
                  <a:pt x="1408686" y="689240"/>
                </a:lnTo>
                <a:lnTo>
                  <a:pt x="1414179" y="689240"/>
                </a:lnTo>
                <a:lnTo>
                  <a:pt x="1416924" y="694732"/>
                </a:lnTo>
                <a:lnTo>
                  <a:pt x="1419670" y="702970"/>
                </a:lnTo>
                <a:lnTo>
                  <a:pt x="1425162" y="705716"/>
                </a:lnTo>
                <a:lnTo>
                  <a:pt x="1430655" y="705716"/>
                </a:lnTo>
                <a:lnTo>
                  <a:pt x="1441637" y="700224"/>
                </a:lnTo>
                <a:lnTo>
                  <a:pt x="1447130" y="691986"/>
                </a:lnTo>
                <a:lnTo>
                  <a:pt x="1452622" y="683748"/>
                </a:lnTo>
                <a:lnTo>
                  <a:pt x="1444383" y="678256"/>
                </a:lnTo>
                <a:lnTo>
                  <a:pt x="1438891" y="675510"/>
                </a:lnTo>
                <a:lnTo>
                  <a:pt x="1430655" y="672764"/>
                </a:lnTo>
                <a:close/>
                <a:moveTo>
                  <a:pt x="966584" y="670018"/>
                </a:moveTo>
                <a:lnTo>
                  <a:pt x="963838" y="672764"/>
                </a:lnTo>
                <a:lnTo>
                  <a:pt x="961092" y="675510"/>
                </a:lnTo>
                <a:lnTo>
                  <a:pt x="966584" y="675510"/>
                </a:lnTo>
                <a:lnTo>
                  <a:pt x="966584" y="670018"/>
                </a:lnTo>
                <a:close/>
                <a:moveTo>
                  <a:pt x="5664950" y="670018"/>
                </a:moveTo>
                <a:lnTo>
                  <a:pt x="5664950" y="675510"/>
                </a:lnTo>
                <a:lnTo>
                  <a:pt x="5670442" y="675510"/>
                </a:lnTo>
                <a:lnTo>
                  <a:pt x="5670442" y="670018"/>
                </a:lnTo>
                <a:lnTo>
                  <a:pt x="5664950" y="670018"/>
                </a:lnTo>
                <a:close/>
                <a:moveTo>
                  <a:pt x="5272275" y="670018"/>
                </a:moveTo>
                <a:lnTo>
                  <a:pt x="5269529" y="675510"/>
                </a:lnTo>
                <a:lnTo>
                  <a:pt x="5269529" y="678256"/>
                </a:lnTo>
                <a:lnTo>
                  <a:pt x="5272275" y="678256"/>
                </a:lnTo>
                <a:lnTo>
                  <a:pt x="5275021" y="675510"/>
                </a:lnTo>
                <a:lnTo>
                  <a:pt x="5275021" y="670018"/>
                </a:lnTo>
                <a:lnTo>
                  <a:pt x="5272275" y="670018"/>
                </a:lnTo>
                <a:close/>
                <a:moveTo>
                  <a:pt x="5096533" y="667272"/>
                </a:moveTo>
                <a:lnTo>
                  <a:pt x="5096533" y="675510"/>
                </a:lnTo>
                <a:lnTo>
                  <a:pt x="5099279" y="675510"/>
                </a:lnTo>
                <a:lnTo>
                  <a:pt x="5102025" y="675510"/>
                </a:lnTo>
                <a:lnTo>
                  <a:pt x="5102025" y="670018"/>
                </a:lnTo>
                <a:lnTo>
                  <a:pt x="5099279" y="667272"/>
                </a:lnTo>
                <a:lnTo>
                  <a:pt x="5096533" y="667272"/>
                </a:lnTo>
                <a:close/>
                <a:moveTo>
                  <a:pt x="5110263" y="664526"/>
                </a:moveTo>
                <a:lnTo>
                  <a:pt x="5110263" y="667272"/>
                </a:lnTo>
                <a:lnTo>
                  <a:pt x="5107517" y="670018"/>
                </a:lnTo>
                <a:lnTo>
                  <a:pt x="5110263" y="675510"/>
                </a:lnTo>
                <a:lnTo>
                  <a:pt x="5115755" y="675510"/>
                </a:lnTo>
                <a:lnTo>
                  <a:pt x="5118501" y="672764"/>
                </a:lnTo>
                <a:lnTo>
                  <a:pt x="5118501" y="667272"/>
                </a:lnTo>
                <a:lnTo>
                  <a:pt x="5115755" y="667272"/>
                </a:lnTo>
                <a:lnTo>
                  <a:pt x="5113009" y="664526"/>
                </a:lnTo>
                <a:lnTo>
                  <a:pt x="5110263" y="664526"/>
                </a:lnTo>
                <a:close/>
                <a:moveTo>
                  <a:pt x="777112" y="664526"/>
                </a:moveTo>
                <a:lnTo>
                  <a:pt x="777112" y="667272"/>
                </a:lnTo>
                <a:lnTo>
                  <a:pt x="774366" y="667272"/>
                </a:lnTo>
                <a:lnTo>
                  <a:pt x="774366" y="672764"/>
                </a:lnTo>
                <a:lnTo>
                  <a:pt x="779857" y="672764"/>
                </a:lnTo>
                <a:lnTo>
                  <a:pt x="779857" y="670018"/>
                </a:lnTo>
                <a:lnTo>
                  <a:pt x="782603" y="667272"/>
                </a:lnTo>
                <a:lnTo>
                  <a:pt x="779857" y="667272"/>
                </a:lnTo>
                <a:lnTo>
                  <a:pt x="779857" y="664526"/>
                </a:lnTo>
                <a:lnTo>
                  <a:pt x="777112" y="664526"/>
                </a:lnTo>
                <a:close/>
                <a:moveTo>
                  <a:pt x="5145960" y="659034"/>
                </a:moveTo>
                <a:lnTo>
                  <a:pt x="5134976" y="661780"/>
                </a:lnTo>
                <a:lnTo>
                  <a:pt x="5132230" y="667272"/>
                </a:lnTo>
                <a:lnTo>
                  <a:pt x="5132230" y="670018"/>
                </a:lnTo>
                <a:lnTo>
                  <a:pt x="5129485" y="672764"/>
                </a:lnTo>
                <a:lnTo>
                  <a:pt x="5129485" y="678256"/>
                </a:lnTo>
                <a:lnTo>
                  <a:pt x="5126739" y="683748"/>
                </a:lnTo>
                <a:lnTo>
                  <a:pt x="5132230" y="689240"/>
                </a:lnTo>
                <a:lnTo>
                  <a:pt x="5134976" y="694732"/>
                </a:lnTo>
                <a:lnTo>
                  <a:pt x="5143214" y="697478"/>
                </a:lnTo>
                <a:lnTo>
                  <a:pt x="5148706" y="700224"/>
                </a:lnTo>
                <a:lnTo>
                  <a:pt x="5151452" y="697478"/>
                </a:lnTo>
                <a:lnTo>
                  <a:pt x="5159690" y="697478"/>
                </a:lnTo>
                <a:lnTo>
                  <a:pt x="5159690" y="694732"/>
                </a:lnTo>
                <a:lnTo>
                  <a:pt x="5165182" y="689240"/>
                </a:lnTo>
                <a:lnTo>
                  <a:pt x="5170674" y="686494"/>
                </a:lnTo>
                <a:lnTo>
                  <a:pt x="5170674" y="678256"/>
                </a:lnTo>
                <a:lnTo>
                  <a:pt x="5167928" y="678256"/>
                </a:lnTo>
                <a:lnTo>
                  <a:pt x="5167928" y="675510"/>
                </a:lnTo>
                <a:lnTo>
                  <a:pt x="5167928" y="670018"/>
                </a:lnTo>
                <a:lnTo>
                  <a:pt x="5162436" y="664526"/>
                </a:lnTo>
                <a:lnTo>
                  <a:pt x="5159690" y="659034"/>
                </a:lnTo>
                <a:lnTo>
                  <a:pt x="5145960" y="659034"/>
                </a:lnTo>
                <a:close/>
                <a:moveTo>
                  <a:pt x="1562461" y="656288"/>
                </a:moveTo>
                <a:lnTo>
                  <a:pt x="1559715" y="659034"/>
                </a:lnTo>
                <a:lnTo>
                  <a:pt x="1562461" y="664526"/>
                </a:lnTo>
                <a:lnTo>
                  <a:pt x="1567952" y="667272"/>
                </a:lnTo>
                <a:lnTo>
                  <a:pt x="1570699" y="664526"/>
                </a:lnTo>
                <a:lnTo>
                  <a:pt x="1570699" y="656288"/>
                </a:lnTo>
                <a:lnTo>
                  <a:pt x="1562461" y="656288"/>
                </a:lnTo>
                <a:close/>
                <a:moveTo>
                  <a:pt x="5755567" y="653542"/>
                </a:moveTo>
                <a:lnTo>
                  <a:pt x="5752821" y="656288"/>
                </a:lnTo>
                <a:lnTo>
                  <a:pt x="5750075" y="659034"/>
                </a:lnTo>
                <a:lnTo>
                  <a:pt x="5755567" y="659034"/>
                </a:lnTo>
                <a:lnTo>
                  <a:pt x="5755567" y="653542"/>
                </a:lnTo>
                <a:close/>
                <a:moveTo>
                  <a:pt x="5662204" y="653542"/>
                </a:moveTo>
                <a:lnTo>
                  <a:pt x="5670442" y="656288"/>
                </a:lnTo>
                <a:lnTo>
                  <a:pt x="5673188" y="656288"/>
                </a:lnTo>
                <a:lnTo>
                  <a:pt x="5678680" y="653542"/>
                </a:lnTo>
                <a:lnTo>
                  <a:pt x="5670442" y="653542"/>
                </a:lnTo>
                <a:lnTo>
                  <a:pt x="5662204" y="653542"/>
                </a:lnTo>
                <a:close/>
                <a:moveTo>
                  <a:pt x="5181658" y="653542"/>
                </a:moveTo>
                <a:lnTo>
                  <a:pt x="5187150" y="653542"/>
                </a:lnTo>
                <a:lnTo>
                  <a:pt x="5187150" y="659034"/>
                </a:lnTo>
                <a:lnTo>
                  <a:pt x="5181658" y="659034"/>
                </a:lnTo>
                <a:lnTo>
                  <a:pt x="5181658" y="653542"/>
                </a:lnTo>
                <a:close/>
                <a:moveTo>
                  <a:pt x="5121247" y="653542"/>
                </a:moveTo>
                <a:lnTo>
                  <a:pt x="5121247" y="656288"/>
                </a:lnTo>
                <a:lnTo>
                  <a:pt x="5118501" y="656288"/>
                </a:lnTo>
                <a:lnTo>
                  <a:pt x="5118501" y="659034"/>
                </a:lnTo>
                <a:lnTo>
                  <a:pt x="5121247" y="659034"/>
                </a:lnTo>
                <a:lnTo>
                  <a:pt x="5123993" y="659034"/>
                </a:lnTo>
                <a:lnTo>
                  <a:pt x="5126739" y="659034"/>
                </a:lnTo>
                <a:lnTo>
                  <a:pt x="5126739" y="656288"/>
                </a:lnTo>
                <a:lnTo>
                  <a:pt x="5123993" y="656288"/>
                </a:lnTo>
                <a:lnTo>
                  <a:pt x="5123993" y="653542"/>
                </a:lnTo>
                <a:lnTo>
                  <a:pt x="5121247" y="653542"/>
                </a:lnTo>
                <a:close/>
                <a:moveTo>
                  <a:pt x="5717124" y="648050"/>
                </a:moveTo>
                <a:lnTo>
                  <a:pt x="5719870" y="650796"/>
                </a:lnTo>
                <a:lnTo>
                  <a:pt x="5728108" y="653542"/>
                </a:lnTo>
                <a:lnTo>
                  <a:pt x="5728108" y="650796"/>
                </a:lnTo>
                <a:lnTo>
                  <a:pt x="5728108" y="648050"/>
                </a:lnTo>
                <a:lnTo>
                  <a:pt x="5717124" y="648050"/>
                </a:lnTo>
                <a:close/>
                <a:moveTo>
                  <a:pt x="5596301" y="648050"/>
                </a:moveTo>
                <a:lnTo>
                  <a:pt x="5593555" y="650796"/>
                </a:lnTo>
                <a:lnTo>
                  <a:pt x="5599047" y="653542"/>
                </a:lnTo>
                <a:lnTo>
                  <a:pt x="5601793" y="653542"/>
                </a:lnTo>
                <a:lnTo>
                  <a:pt x="5604539" y="650796"/>
                </a:lnTo>
                <a:lnTo>
                  <a:pt x="5599047" y="648050"/>
                </a:lnTo>
                <a:lnTo>
                  <a:pt x="5596301" y="648050"/>
                </a:lnTo>
                <a:close/>
                <a:moveTo>
                  <a:pt x="1545985" y="642559"/>
                </a:moveTo>
                <a:lnTo>
                  <a:pt x="1543239" y="648051"/>
                </a:lnTo>
                <a:lnTo>
                  <a:pt x="1545985" y="648051"/>
                </a:lnTo>
                <a:lnTo>
                  <a:pt x="1551477" y="650797"/>
                </a:lnTo>
                <a:lnTo>
                  <a:pt x="1551477" y="642559"/>
                </a:lnTo>
                <a:lnTo>
                  <a:pt x="1545985" y="642559"/>
                </a:lnTo>
                <a:close/>
                <a:moveTo>
                  <a:pt x="741414" y="642559"/>
                </a:moveTo>
                <a:lnTo>
                  <a:pt x="741414" y="650797"/>
                </a:lnTo>
                <a:lnTo>
                  <a:pt x="746906" y="648051"/>
                </a:lnTo>
                <a:lnTo>
                  <a:pt x="746906" y="642559"/>
                </a:lnTo>
                <a:lnTo>
                  <a:pt x="741414" y="642559"/>
                </a:lnTo>
                <a:close/>
                <a:moveTo>
                  <a:pt x="5739091" y="642558"/>
                </a:moveTo>
                <a:lnTo>
                  <a:pt x="5739091" y="653542"/>
                </a:lnTo>
                <a:lnTo>
                  <a:pt x="5741837" y="650796"/>
                </a:lnTo>
                <a:lnTo>
                  <a:pt x="5741837" y="648050"/>
                </a:lnTo>
                <a:lnTo>
                  <a:pt x="5744583" y="642558"/>
                </a:lnTo>
                <a:lnTo>
                  <a:pt x="5739091" y="642558"/>
                </a:lnTo>
                <a:close/>
                <a:moveTo>
                  <a:pt x="1271389" y="637067"/>
                </a:moveTo>
                <a:lnTo>
                  <a:pt x="1271389" y="642559"/>
                </a:lnTo>
                <a:lnTo>
                  <a:pt x="1276880" y="642559"/>
                </a:lnTo>
                <a:lnTo>
                  <a:pt x="1276880" y="637067"/>
                </a:lnTo>
                <a:lnTo>
                  <a:pt x="1271389" y="637067"/>
                </a:lnTo>
                <a:close/>
                <a:moveTo>
                  <a:pt x="681002" y="637067"/>
                </a:moveTo>
                <a:lnTo>
                  <a:pt x="681002" y="642559"/>
                </a:lnTo>
                <a:lnTo>
                  <a:pt x="686494" y="642559"/>
                </a:lnTo>
                <a:lnTo>
                  <a:pt x="686494" y="637067"/>
                </a:lnTo>
                <a:lnTo>
                  <a:pt x="681002" y="637067"/>
                </a:lnTo>
                <a:close/>
                <a:moveTo>
                  <a:pt x="5626506" y="634320"/>
                </a:moveTo>
                <a:lnTo>
                  <a:pt x="5623760" y="637066"/>
                </a:lnTo>
                <a:lnTo>
                  <a:pt x="5626506" y="639812"/>
                </a:lnTo>
                <a:lnTo>
                  <a:pt x="5629252" y="639812"/>
                </a:lnTo>
                <a:lnTo>
                  <a:pt x="5631998" y="639812"/>
                </a:lnTo>
                <a:lnTo>
                  <a:pt x="5631998" y="637066"/>
                </a:lnTo>
                <a:lnTo>
                  <a:pt x="5631998" y="634320"/>
                </a:lnTo>
                <a:lnTo>
                  <a:pt x="5629252" y="634320"/>
                </a:lnTo>
                <a:lnTo>
                  <a:pt x="5626506" y="634320"/>
                </a:lnTo>
                <a:close/>
                <a:moveTo>
                  <a:pt x="1213722" y="631575"/>
                </a:moveTo>
                <a:lnTo>
                  <a:pt x="1205484" y="634321"/>
                </a:lnTo>
                <a:lnTo>
                  <a:pt x="1202739" y="639813"/>
                </a:lnTo>
                <a:lnTo>
                  <a:pt x="1210975" y="639813"/>
                </a:lnTo>
                <a:lnTo>
                  <a:pt x="1210975" y="637067"/>
                </a:lnTo>
                <a:lnTo>
                  <a:pt x="1213722" y="631575"/>
                </a:lnTo>
                <a:close/>
                <a:moveTo>
                  <a:pt x="5642982" y="628829"/>
                </a:moveTo>
                <a:lnTo>
                  <a:pt x="5642982" y="634320"/>
                </a:lnTo>
                <a:lnTo>
                  <a:pt x="5640236" y="634320"/>
                </a:lnTo>
                <a:lnTo>
                  <a:pt x="5637490" y="637066"/>
                </a:lnTo>
                <a:lnTo>
                  <a:pt x="5642982" y="637066"/>
                </a:lnTo>
                <a:lnTo>
                  <a:pt x="5645728" y="637066"/>
                </a:lnTo>
                <a:lnTo>
                  <a:pt x="5645728" y="628829"/>
                </a:lnTo>
                <a:lnTo>
                  <a:pt x="5642982" y="628829"/>
                </a:lnTo>
                <a:close/>
                <a:moveTo>
                  <a:pt x="5137722" y="628829"/>
                </a:moveTo>
                <a:lnTo>
                  <a:pt x="5134976" y="634320"/>
                </a:lnTo>
                <a:lnTo>
                  <a:pt x="5132230" y="645304"/>
                </a:lnTo>
                <a:lnTo>
                  <a:pt x="5129485" y="645304"/>
                </a:lnTo>
                <a:lnTo>
                  <a:pt x="5126739" y="648050"/>
                </a:lnTo>
                <a:lnTo>
                  <a:pt x="5132230" y="648050"/>
                </a:lnTo>
                <a:lnTo>
                  <a:pt x="5140468" y="650796"/>
                </a:lnTo>
                <a:lnTo>
                  <a:pt x="5143214" y="653542"/>
                </a:lnTo>
                <a:lnTo>
                  <a:pt x="5151452" y="653542"/>
                </a:lnTo>
                <a:lnTo>
                  <a:pt x="5156944" y="648050"/>
                </a:lnTo>
                <a:lnTo>
                  <a:pt x="5159690" y="642558"/>
                </a:lnTo>
                <a:lnTo>
                  <a:pt x="5159690" y="637066"/>
                </a:lnTo>
                <a:lnTo>
                  <a:pt x="5156944" y="628829"/>
                </a:lnTo>
                <a:lnTo>
                  <a:pt x="5145960" y="628829"/>
                </a:lnTo>
                <a:lnTo>
                  <a:pt x="5137722" y="628829"/>
                </a:lnTo>
                <a:close/>
                <a:moveTo>
                  <a:pt x="5077311" y="628829"/>
                </a:moveTo>
                <a:lnTo>
                  <a:pt x="5077311" y="637066"/>
                </a:lnTo>
                <a:lnTo>
                  <a:pt x="5080057" y="637066"/>
                </a:lnTo>
                <a:lnTo>
                  <a:pt x="5082803" y="634320"/>
                </a:lnTo>
                <a:lnTo>
                  <a:pt x="5085549" y="628829"/>
                </a:lnTo>
                <a:lnTo>
                  <a:pt x="5077311" y="628829"/>
                </a:lnTo>
                <a:close/>
                <a:moveTo>
                  <a:pt x="837523" y="628829"/>
                </a:moveTo>
                <a:lnTo>
                  <a:pt x="832031" y="631575"/>
                </a:lnTo>
                <a:lnTo>
                  <a:pt x="832031" y="634321"/>
                </a:lnTo>
                <a:lnTo>
                  <a:pt x="837523" y="634321"/>
                </a:lnTo>
                <a:lnTo>
                  <a:pt x="840269" y="631575"/>
                </a:lnTo>
                <a:lnTo>
                  <a:pt x="837523" y="631575"/>
                </a:lnTo>
                <a:lnTo>
                  <a:pt x="837523" y="628829"/>
                </a:lnTo>
                <a:close/>
                <a:moveTo>
                  <a:pt x="867729" y="626083"/>
                </a:moveTo>
                <a:lnTo>
                  <a:pt x="864983" y="628829"/>
                </a:lnTo>
                <a:lnTo>
                  <a:pt x="867729" y="628829"/>
                </a:lnTo>
                <a:lnTo>
                  <a:pt x="867729" y="631575"/>
                </a:lnTo>
                <a:lnTo>
                  <a:pt x="867729" y="634321"/>
                </a:lnTo>
                <a:lnTo>
                  <a:pt x="873221" y="634321"/>
                </a:lnTo>
                <a:lnTo>
                  <a:pt x="875967" y="637067"/>
                </a:lnTo>
                <a:lnTo>
                  <a:pt x="878712" y="634321"/>
                </a:lnTo>
                <a:lnTo>
                  <a:pt x="881458" y="631575"/>
                </a:lnTo>
                <a:lnTo>
                  <a:pt x="875967" y="631575"/>
                </a:lnTo>
                <a:lnTo>
                  <a:pt x="873221" y="628829"/>
                </a:lnTo>
                <a:lnTo>
                  <a:pt x="867729" y="626083"/>
                </a:lnTo>
                <a:close/>
                <a:moveTo>
                  <a:pt x="5967008" y="626083"/>
                </a:moveTo>
                <a:lnTo>
                  <a:pt x="5950532" y="637066"/>
                </a:lnTo>
                <a:lnTo>
                  <a:pt x="5942294" y="642558"/>
                </a:lnTo>
                <a:lnTo>
                  <a:pt x="5942294" y="645304"/>
                </a:lnTo>
                <a:lnTo>
                  <a:pt x="5947786" y="648050"/>
                </a:lnTo>
                <a:lnTo>
                  <a:pt x="5950532" y="645304"/>
                </a:lnTo>
                <a:lnTo>
                  <a:pt x="5953278" y="645304"/>
                </a:lnTo>
                <a:lnTo>
                  <a:pt x="5961516" y="642558"/>
                </a:lnTo>
                <a:lnTo>
                  <a:pt x="5964262" y="639812"/>
                </a:lnTo>
                <a:lnTo>
                  <a:pt x="5967008" y="637066"/>
                </a:lnTo>
                <a:lnTo>
                  <a:pt x="5969754" y="631575"/>
                </a:lnTo>
                <a:lnTo>
                  <a:pt x="5967008" y="626083"/>
                </a:lnTo>
                <a:close/>
                <a:moveTo>
                  <a:pt x="5170674" y="626083"/>
                </a:moveTo>
                <a:lnTo>
                  <a:pt x="5167928" y="628829"/>
                </a:lnTo>
                <a:lnTo>
                  <a:pt x="5167928" y="631575"/>
                </a:lnTo>
                <a:lnTo>
                  <a:pt x="5170674" y="634320"/>
                </a:lnTo>
                <a:lnTo>
                  <a:pt x="5167928" y="639812"/>
                </a:lnTo>
                <a:lnTo>
                  <a:pt x="5165182" y="648050"/>
                </a:lnTo>
                <a:lnTo>
                  <a:pt x="5170674" y="653542"/>
                </a:lnTo>
                <a:lnTo>
                  <a:pt x="5173420" y="659034"/>
                </a:lnTo>
                <a:lnTo>
                  <a:pt x="5170674" y="661780"/>
                </a:lnTo>
                <a:lnTo>
                  <a:pt x="5176166" y="664526"/>
                </a:lnTo>
                <a:lnTo>
                  <a:pt x="5176166" y="667272"/>
                </a:lnTo>
                <a:lnTo>
                  <a:pt x="5189896" y="670018"/>
                </a:lnTo>
                <a:lnTo>
                  <a:pt x="5198134" y="667272"/>
                </a:lnTo>
                <a:lnTo>
                  <a:pt x="5206372" y="664526"/>
                </a:lnTo>
                <a:lnTo>
                  <a:pt x="5214610" y="659034"/>
                </a:lnTo>
                <a:lnTo>
                  <a:pt x="5211864" y="653542"/>
                </a:lnTo>
                <a:lnTo>
                  <a:pt x="5211864" y="648050"/>
                </a:lnTo>
                <a:lnTo>
                  <a:pt x="5214610" y="648050"/>
                </a:lnTo>
                <a:lnTo>
                  <a:pt x="5217356" y="639812"/>
                </a:lnTo>
                <a:lnTo>
                  <a:pt x="5214610" y="628829"/>
                </a:lnTo>
                <a:lnTo>
                  <a:pt x="5195388" y="626083"/>
                </a:lnTo>
                <a:lnTo>
                  <a:pt x="5184404" y="628829"/>
                </a:lnTo>
                <a:lnTo>
                  <a:pt x="5173420" y="631575"/>
                </a:lnTo>
                <a:lnTo>
                  <a:pt x="5173420" y="626083"/>
                </a:lnTo>
                <a:lnTo>
                  <a:pt x="5170674" y="626083"/>
                </a:lnTo>
                <a:close/>
                <a:moveTo>
                  <a:pt x="1458113" y="623337"/>
                </a:moveTo>
                <a:lnTo>
                  <a:pt x="1460859" y="623337"/>
                </a:lnTo>
                <a:lnTo>
                  <a:pt x="1460859" y="626083"/>
                </a:lnTo>
                <a:lnTo>
                  <a:pt x="1466353" y="626083"/>
                </a:lnTo>
                <a:lnTo>
                  <a:pt x="1469098" y="626083"/>
                </a:lnTo>
                <a:lnTo>
                  <a:pt x="1466353" y="628829"/>
                </a:lnTo>
                <a:lnTo>
                  <a:pt x="1460859" y="631575"/>
                </a:lnTo>
                <a:lnTo>
                  <a:pt x="1458113" y="623337"/>
                </a:lnTo>
                <a:close/>
                <a:moveTo>
                  <a:pt x="1367496" y="623337"/>
                </a:moveTo>
                <a:lnTo>
                  <a:pt x="1364751" y="628829"/>
                </a:lnTo>
                <a:lnTo>
                  <a:pt x="1362005" y="637067"/>
                </a:lnTo>
                <a:lnTo>
                  <a:pt x="1359260" y="650797"/>
                </a:lnTo>
                <a:lnTo>
                  <a:pt x="1370242" y="656288"/>
                </a:lnTo>
                <a:lnTo>
                  <a:pt x="1378481" y="656288"/>
                </a:lnTo>
                <a:lnTo>
                  <a:pt x="1389464" y="656288"/>
                </a:lnTo>
                <a:lnTo>
                  <a:pt x="1400448" y="650797"/>
                </a:lnTo>
                <a:lnTo>
                  <a:pt x="1400448" y="642559"/>
                </a:lnTo>
                <a:lnTo>
                  <a:pt x="1397703" y="639813"/>
                </a:lnTo>
                <a:lnTo>
                  <a:pt x="1394958" y="639813"/>
                </a:lnTo>
                <a:lnTo>
                  <a:pt x="1394958" y="628829"/>
                </a:lnTo>
                <a:lnTo>
                  <a:pt x="1389464" y="626083"/>
                </a:lnTo>
                <a:lnTo>
                  <a:pt x="1378481" y="623337"/>
                </a:lnTo>
                <a:lnTo>
                  <a:pt x="1367496" y="623337"/>
                </a:lnTo>
                <a:close/>
                <a:moveTo>
                  <a:pt x="1554223" y="620591"/>
                </a:moveTo>
                <a:lnTo>
                  <a:pt x="1551477" y="623337"/>
                </a:lnTo>
                <a:lnTo>
                  <a:pt x="1551477" y="626083"/>
                </a:lnTo>
                <a:lnTo>
                  <a:pt x="1551477" y="628829"/>
                </a:lnTo>
                <a:lnTo>
                  <a:pt x="1556969" y="628829"/>
                </a:lnTo>
                <a:lnTo>
                  <a:pt x="1556969" y="623337"/>
                </a:lnTo>
                <a:lnTo>
                  <a:pt x="1554223" y="620591"/>
                </a:lnTo>
                <a:close/>
                <a:moveTo>
                  <a:pt x="1221961" y="620591"/>
                </a:moveTo>
                <a:lnTo>
                  <a:pt x="1216469" y="623337"/>
                </a:lnTo>
                <a:lnTo>
                  <a:pt x="1216469" y="634321"/>
                </a:lnTo>
                <a:lnTo>
                  <a:pt x="1221961" y="639813"/>
                </a:lnTo>
                <a:lnTo>
                  <a:pt x="1230199" y="642559"/>
                </a:lnTo>
                <a:lnTo>
                  <a:pt x="1241182" y="642559"/>
                </a:lnTo>
                <a:lnTo>
                  <a:pt x="1241182" y="637067"/>
                </a:lnTo>
                <a:lnTo>
                  <a:pt x="1241182" y="634321"/>
                </a:lnTo>
                <a:lnTo>
                  <a:pt x="1243927" y="631575"/>
                </a:lnTo>
                <a:lnTo>
                  <a:pt x="1243927" y="626083"/>
                </a:lnTo>
                <a:lnTo>
                  <a:pt x="1230199" y="620591"/>
                </a:lnTo>
                <a:lnTo>
                  <a:pt x="1221961" y="620591"/>
                </a:lnTo>
                <a:close/>
                <a:moveTo>
                  <a:pt x="1208230" y="620591"/>
                </a:moveTo>
                <a:lnTo>
                  <a:pt x="1205484" y="623337"/>
                </a:lnTo>
                <a:lnTo>
                  <a:pt x="1202739" y="626083"/>
                </a:lnTo>
                <a:lnTo>
                  <a:pt x="1205484" y="628829"/>
                </a:lnTo>
                <a:lnTo>
                  <a:pt x="1210975" y="631575"/>
                </a:lnTo>
                <a:lnTo>
                  <a:pt x="1208230" y="626083"/>
                </a:lnTo>
                <a:lnTo>
                  <a:pt x="1208230" y="620591"/>
                </a:lnTo>
                <a:close/>
                <a:moveTo>
                  <a:pt x="5977992" y="620591"/>
                </a:moveTo>
                <a:lnTo>
                  <a:pt x="5975246" y="623337"/>
                </a:lnTo>
                <a:lnTo>
                  <a:pt x="5972500" y="626083"/>
                </a:lnTo>
                <a:lnTo>
                  <a:pt x="5972500" y="631575"/>
                </a:lnTo>
                <a:lnTo>
                  <a:pt x="5977992" y="642558"/>
                </a:lnTo>
                <a:lnTo>
                  <a:pt x="5983483" y="634320"/>
                </a:lnTo>
                <a:lnTo>
                  <a:pt x="5983483" y="626083"/>
                </a:lnTo>
                <a:lnTo>
                  <a:pt x="5980738" y="623337"/>
                </a:lnTo>
                <a:lnTo>
                  <a:pt x="5977992" y="620591"/>
                </a:lnTo>
                <a:close/>
                <a:moveTo>
                  <a:pt x="5695156" y="620591"/>
                </a:moveTo>
                <a:lnTo>
                  <a:pt x="5697902" y="628829"/>
                </a:lnTo>
                <a:lnTo>
                  <a:pt x="5703394" y="634320"/>
                </a:lnTo>
                <a:lnTo>
                  <a:pt x="5706140" y="628829"/>
                </a:lnTo>
                <a:lnTo>
                  <a:pt x="5703394" y="626083"/>
                </a:lnTo>
                <a:lnTo>
                  <a:pt x="5700648" y="623337"/>
                </a:lnTo>
                <a:lnTo>
                  <a:pt x="5695156" y="620591"/>
                </a:lnTo>
                <a:close/>
                <a:moveTo>
                  <a:pt x="5107517" y="620591"/>
                </a:moveTo>
                <a:lnTo>
                  <a:pt x="5104771" y="626083"/>
                </a:lnTo>
                <a:lnTo>
                  <a:pt x="5104771" y="631575"/>
                </a:lnTo>
                <a:lnTo>
                  <a:pt x="5107517" y="645304"/>
                </a:lnTo>
                <a:lnTo>
                  <a:pt x="5110263" y="645304"/>
                </a:lnTo>
                <a:lnTo>
                  <a:pt x="5113009" y="648050"/>
                </a:lnTo>
                <a:lnTo>
                  <a:pt x="5115755" y="648050"/>
                </a:lnTo>
                <a:lnTo>
                  <a:pt x="5118501" y="648050"/>
                </a:lnTo>
                <a:lnTo>
                  <a:pt x="5121247" y="642558"/>
                </a:lnTo>
                <a:lnTo>
                  <a:pt x="5123993" y="637066"/>
                </a:lnTo>
                <a:lnTo>
                  <a:pt x="5123993" y="628829"/>
                </a:lnTo>
                <a:lnTo>
                  <a:pt x="5123993" y="620591"/>
                </a:lnTo>
                <a:lnTo>
                  <a:pt x="5107517" y="620591"/>
                </a:lnTo>
                <a:close/>
                <a:moveTo>
                  <a:pt x="5250308" y="617845"/>
                </a:moveTo>
                <a:lnTo>
                  <a:pt x="5250308" y="623337"/>
                </a:lnTo>
                <a:lnTo>
                  <a:pt x="5253053" y="623337"/>
                </a:lnTo>
                <a:lnTo>
                  <a:pt x="5253053" y="626083"/>
                </a:lnTo>
                <a:lnTo>
                  <a:pt x="5255799" y="626083"/>
                </a:lnTo>
                <a:lnTo>
                  <a:pt x="5255799" y="623337"/>
                </a:lnTo>
                <a:lnTo>
                  <a:pt x="5258545" y="623337"/>
                </a:lnTo>
                <a:lnTo>
                  <a:pt x="5258545" y="620591"/>
                </a:lnTo>
                <a:lnTo>
                  <a:pt x="5255799" y="620591"/>
                </a:lnTo>
                <a:lnTo>
                  <a:pt x="5255799" y="617845"/>
                </a:lnTo>
                <a:lnTo>
                  <a:pt x="5253053" y="617845"/>
                </a:lnTo>
                <a:lnTo>
                  <a:pt x="5253053" y="620591"/>
                </a:lnTo>
                <a:lnTo>
                  <a:pt x="5250308" y="617845"/>
                </a:lnTo>
                <a:close/>
                <a:moveTo>
                  <a:pt x="5648474" y="615099"/>
                </a:moveTo>
                <a:lnTo>
                  <a:pt x="5642982" y="620591"/>
                </a:lnTo>
                <a:lnTo>
                  <a:pt x="5648474" y="620591"/>
                </a:lnTo>
                <a:lnTo>
                  <a:pt x="5651220" y="620591"/>
                </a:lnTo>
                <a:lnTo>
                  <a:pt x="5653966" y="623337"/>
                </a:lnTo>
                <a:lnTo>
                  <a:pt x="5656712" y="623337"/>
                </a:lnTo>
                <a:lnTo>
                  <a:pt x="5656712" y="617845"/>
                </a:lnTo>
                <a:lnTo>
                  <a:pt x="5653966" y="617845"/>
                </a:lnTo>
                <a:lnTo>
                  <a:pt x="5651220" y="617845"/>
                </a:lnTo>
                <a:lnTo>
                  <a:pt x="5648474" y="615099"/>
                </a:lnTo>
                <a:close/>
                <a:moveTo>
                  <a:pt x="744160" y="612353"/>
                </a:moveTo>
                <a:lnTo>
                  <a:pt x="741414" y="615099"/>
                </a:lnTo>
                <a:lnTo>
                  <a:pt x="746906" y="615099"/>
                </a:lnTo>
                <a:lnTo>
                  <a:pt x="749652" y="615099"/>
                </a:lnTo>
                <a:lnTo>
                  <a:pt x="752397" y="612353"/>
                </a:lnTo>
                <a:lnTo>
                  <a:pt x="746906" y="612353"/>
                </a:lnTo>
                <a:lnTo>
                  <a:pt x="744160" y="612353"/>
                </a:lnTo>
                <a:close/>
                <a:moveTo>
                  <a:pt x="5631998" y="609607"/>
                </a:moveTo>
                <a:lnTo>
                  <a:pt x="5631998" y="617845"/>
                </a:lnTo>
                <a:lnTo>
                  <a:pt x="5634744" y="615099"/>
                </a:lnTo>
                <a:lnTo>
                  <a:pt x="5634744" y="609607"/>
                </a:lnTo>
                <a:lnTo>
                  <a:pt x="5631998" y="609607"/>
                </a:lnTo>
                <a:close/>
                <a:moveTo>
                  <a:pt x="1378481" y="606861"/>
                </a:moveTo>
                <a:lnTo>
                  <a:pt x="1381227" y="612353"/>
                </a:lnTo>
                <a:lnTo>
                  <a:pt x="1383972" y="615099"/>
                </a:lnTo>
                <a:lnTo>
                  <a:pt x="1383972" y="606861"/>
                </a:lnTo>
                <a:lnTo>
                  <a:pt x="1378481" y="606861"/>
                </a:lnTo>
                <a:close/>
                <a:moveTo>
                  <a:pt x="5755567" y="604115"/>
                </a:moveTo>
                <a:lnTo>
                  <a:pt x="5755567" y="609607"/>
                </a:lnTo>
                <a:lnTo>
                  <a:pt x="5761059" y="609607"/>
                </a:lnTo>
                <a:lnTo>
                  <a:pt x="5763805" y="606861"/>
                </a:lnTo>
                <a:lnTo>
                  <a:pt x="5761059" y="606861"/>
                </a:lnTo>
                <a:lnTo>
                  <a:pt x="5755567" y="604115"/>
                </a:lnTo>
                <a:close/>
                <a:moveTo>
                  <a:pt x="5618268" y="601369"/>
                </a:moveTo>
                <a:lnTo>
                  <a:pt x="5612777" y="604115"/>
                </a:lnTo>
                <a:lnTo>
                  <a:pt x="5612777" y="609607"/>
                </a:lnTo>
                <a:lnTo>
                  <a:pt x="5615523" y="609607"/>
                </a:lnTo>
                <a:lnTo>
                  <a:pt x="5618268" y="609607"/>
                </a:lnTo>
                <a:lnTo>
                  <a:pt x="5621014" y="609607"/>
                </a:lnTo>
                <a:lnTo>
                  <a:pt x="5623760" y="609607"/>
                </a:lnTo>
                <a:lnTo>
                  <a:pt x="5623760" y="604115"/>
                </a:lnTo>
                <a:lnTo>
                  <a:pt x="5618268" y="601369"/>
                </a:lnTo>
                <a:close/>
                <a:moveTo>
                  <a:pt x="5151452" y="601369"/>
                </a:moveTo>
                <a:lnTo>
                  <a:pt x="5143214" y="604115"/>
                </a:lnTo>
                <a:lnTo>
                  <a:pt x="5143214" y="612353"/>
                </a:lnTo>
                <a:lnTo>
                  <a:pt x="5137722" y="612353"/>
                </a:lnTo>
                <a:lnTo>
                  <a:pt x="5134976" y="617845"/>
                </a:lnTo>
                <a:lnTo>
                  <a:pt x="5145960" y="615099"/>
                </a:lnTo>
                <a:lnTo>
                  <a:pt x="5159690" y="615099"/>
                </a:lnTo>
                <a:lnTo>
                  <a:pt x="5156944" y="612353"/>
                </a:lnTo>
                <a:lnTo>
                  <a:pt x="5159690" y="609607"/>
                </a:lnTo>
                <a:lnTo>
                  <a:pt x="5159690" y="604115"/>
                </a:lnTo>
                <a:lnTo>
                  <a:pt x="5151452" y="601369"/>
                </a:lnTo>
                <a:close/>
                <a:moveTo>
                  <a:pt x="5725362" y="598623"/>
                </a:moveTo>
                <a:lnTo>
                  <a:pt x="5725362" y="606861"/>
                </a:lnTo>
                <a:lnTo>
                  <a:pt x="5728108" y="606861"/>
                </a:lnTo>
                <a:lnTo>
                  <a:pt x="5728108" y="601369"/>
                </a:lnTo>
                <a:lnTo>
                  <a:pt x="5725362" y="598623"/>
                </a:lnTo>
                <a:close/>
                <a:moveTo>
                  <a:pt x="6395380" y="595877"/>
                </a:moveTo>
                <a:lnTo>
                  <a:pt x="6392634" y="598623"/>
                </a:lnTo>
                <a:lnTo>
                  <a:pt x="6392634" y="604115"/>
                </a:lnTo>
                <a:lnTo>
                  <a:pt x="6398126" y="604115"/>
                </a:lnTo>
                <a:lnTo>
                  <a:pt x="6400872" y="601369"/>
                </a:lnTo>
                <a:lnTo>
                  <a:pt x="6403618" y="598623"/>
                </a:lnTo>
                <a:lnTo>
                  <a:pt x="6400872" y="595877"/>
                </a:lnTo>
                <a:lnTo>
                  <a:pt x="6398126" y="595877"/>
                </a:lnTo>
                <a:lnTo>
                  <a:pt x="6395380" y="595877"/>
                </a:lnTo>
                <a:close/>
                <a:moveTo>
                  <a:pt x="5585317" y="595877"/>
                </a:moveTo>
                <a:lnTo>
                  <a:pt x="5579825" y="598623"/>
                </a:lnTo>
                <a:lnTo>
                  <a:pt x="5593555" y="598623"/>
                </a:lnTo>
                <a:lnTo>
                  <a:pt x="5601793" y="601369"/>
                </a:lnTo>
                <a:lnTo>
                  <a:pt x="5604539" y="604115"/>
                </a:lnTo>
                <a:lnTo>
                  <a:pt x="5601793" y="598623"/>
                </a:lnTo>
                <a:lnTo>
                  <a:pt x="5593555" y="595877"/>
                </a:lnTo>
                <a:lnTo>
                  <a:pt x="5585317" y="595877"/>
                </a:lnTo>
                <a:close/>
                <a:moveTo>
                  <a:pt x="1540493" y="595877"/>
                </a:moveTo>
                <a:lnTo>
                  <a:pt x="1537748" y="598623"/>
                </a:lnTo>
                <a:lnTo>
                  <a:pt x="1537748" y="601369"/>
                </a:lnTo>
                <a:lnTo>
                  <a:pt x="1540493" y="604115"/>
                </a:lnTo>
                <a:lnTo>
                  <a:pt x="1545985" y="604115"/>
                </a:lnTo>
                <a:lnTo>
                  <a:pt x="1545985" y="598623"/>
                </a:lnTo>
                <a:lnTo>
                  <a:pt x="1540493" y="595877"/>
                </a:lnTo>
                <a:close/>
                <a:moveTo>
                  <a:pt x="6422840" y="593131"/>
                </a:moveTo>
                <a:lnTo>
                  <a:pt x="6417348" y="598623"/>
                </a:lnTo>
                <a:lnTo>
                  <a:pt x="6414602" y="601369"/>
                </a:lnTo>
                <a:lnTo>
                  <a:pt x="6414602" y="604115"/>
                </a:lnTo>
                <a:lnTo>
                  <a:pt x="6417348" y="604115"/>
                </a:lnTo>
                <a:lnTo>
                  <a:pt x="6420094" y="606861"/>
                </a:lnTo>
                <a:lnTo>
                  <a:pt x="6420094" y="604115"/>
                </a:lnTo>
                <a:lnTo>
                  <a:pt x="6422840" y="601369"/>
                </a:lnTo>
                <a:lnTo>
                  <a:pt x="6422840" y="593131"/>
                </a:lnTo>
                <a:close/>
                <a:moveTo>
                  <a:pt x="5659458" y="593131"/>
                </a:moveTo>
                <a:lnTo>
                  <a:pt x="5659458" y="595877"/>
                </a:lnTo>
                <a:lnTo>
                  <a:pt x="5662204" y="598623"/>
                </a:lnTo>
                <a:lnTo>
                  <a:pt x="5664950" y="595877"/>
                </a:lnTo>
                <a:lnTo>
                  <a:pt x="5664950" y="593131"/>
                </a:lnTo>
                <a:lnTo>
                  <a:pt x="5662204" y="593131"/>
                </a:lnTo>
                <a:lnTo>
                  <a:pt x="5659458" y="593131"/>
                </a:lnTo>
                <a:close/>
                <a:moveTo>
                  <a:pt x="5615523" y="593131"/>
                </a:moveTo>
                <a:lnTo>
                  <a:pt x="5615523" y="598623"/>
                </a:lnTo>
                <a:lnTo>
                  <a:pt x="5621014" y="598623"/>
                </a:lnTo>
                <a:lnTo>
                  <a:pt x="5621014" y="593131"/>
                </a:lnTo>
                <a:lnTo>
                  <a:pt x="5615523" y="593131"/>
                </a:lnTo>
                <a:close/>
                <a:moveTo>
                  <a:pt x="5338179" y="593131"/>
                </a:moveTo>
                <a:lnTo>
                  <a:pt x="5340925" y="598623"/>
                </a:lnTo>
                <a:lnTo>
                  <a:pt x="5343671" y="601369"/>
                </a:lnTo>
                <a:lnTo>
                  <a:pt x="5346417" y="598623"/>
                </a:lnTo>
                <a:lnTo>
                  <a:pt x="5346417" y="595877"/>
                </a:lnTo>
                <a:lnTo>
                  <a:pt x="5346417" y="593131"/>
                </a:lnTo>
                <a:lnTo>
                  <a:pt x="5338179" y="593131"/>
                </a:lnTo>
                <a:close/>
                <a:moveTo>
                  <a:pt x="5975246" y="590385"/>
                </a:moveTo>
                <a:lnTo>
                  <a:pt x="5975246" y="593131"/>
                </a:lnTo>
                <a:lnTo>
                  <a:pt x="5972500" y="598623"/>
                </a:lnTo>
                <a:lnTo>
                  <a:pt x="5975246" y="601369"/>
                </a:lnTo>
                <a:lnTo>
                  <a:pt x="5977992" y="604115"/>
                </a:lnTo>
                <a:lnTo>
                  <a:pt x="5977992" y="595877"/>
                </a:lnTo>
                <a:lnTo>
                  <a:pt x="5977992" y="593131"/>
                </a:lnTo>
                <a:lnTo>
                  <a:pt x="5975246" y="590385"/>
                </a:lnTo>
                <a:close/>
                <a:moveTo>
                  <a:pt x="5629252" y="590385"/>
                </a:moveTo>
                <a:lnTo>
                  <a:pt x="5629252" y="598623"/>
                </a:lnTo>
                <a:lnTo>
                  <a:pt x="5631998" y="598623"/>
                </a:lnTo>
                <a:lnTo>
                  <a:pt x="5631998" y="593131"/>
                </a:lnTo>
                <a:lnTo>
                  <a:pt x="5629252" y="590385"/>
                </a:lnTo>
                <a:close/>
                <a:moveTo>
                  <a:pt x="5942294" y="587639"/>
                </a:moveTo>
                <a:lnTo>
                  <a:pt x="5939548" y="595877"/>
                </a:lnTo>
                <a:lnTo>
                  <a:pt x="5939548" y="604115"/>
                </a:lnTo>
                <a:lnTo>
                  <a:pt x="5945040" y="612353"/>
                </a:lnTo>
                <a:lnTo>
                  <a:pt x="5947786" y="617845"/>
                </a:lnTo>
                <a:lnTo>
                  <a:pt x="5947786" y="609607"/>
                </a:lnTo>
                <a:lnTo>
                  <a:pt x="5947786" y="601369"/>
                </a:lnTo>
                <a:lnTo>
                  <a:pt x="5947786" y="593131"/>
                </a:lnTo>
                <a:lnTo>
                  <a:pt x="5945040" y="590385"/>
                </a:lnTo>
                <a:lnTo>
                  <a:pt x="5942294" y="587639"/>
                </a:lnTo>
                <a:close/>
                <a:moveTo>
                  <a:pt x="5909342" y="587639"/>
                </a:moveTo>
                <a:lnTo>
                  <a:pt x="5909342" y="593131"/>
                </a:lnTo>
                <a:lnTo>
                  <a:pt x="5914834" y="593131"/>
                </a:lnTo>
                <a:lnTo>
                  <a:pt x="5914834" y="590385"/>
                </a:lnTo>
                <a:lnTo>
                  <a:pt x="5912088" y="587639"/>
                </a:lnTo>
                <a:lnTo>
                  <a:pt x="5909342" y="587639"/>
                </a:lnTo>
                <a:close/>
                <a:moveTo>
                  <a:pt x="1458113" y="584893"/>
                </a:moveTo>
                <a:lnTo>
                  <a:pt x="1452622" y="587639"/>
                </a:lnTo>
                <a:lnTo>
                  <a:pt x="1449877" y="590385"/>
                </a:lnTo>
                <a:lnTo>
                  <a:pt x="1444383" y="593131"/>
                </a:lnTo>
                <a:lnTo>
                  <a:pt x="1444383" y="590385"/>
                </a:lnTo>
                <a:lnTo>
                  <a:pt x="1438891" y="590385"/>
                </a:lnTo>
                <a:lnTo>
                  <a:pt x="1436146" y="593131"/>
                </a:lnTo>
                <a:lnTo>
                  <a:pt x="1438891" y="593131"/>
                </a:lnTo>
                <a:lnTo>
                  <a:pt x="1441637" y="593131"/>
                </a:lnTo>
                <a:lnTo>
                  <a:pt x="1444383" y="593131"/>
                </a:lnTo>
                <a:lnTo>
                  <a:pt x="1438891" y="595877"/>
                </a:lnTo>
                <a:lnTo>
                  <a:pt x="1438891" y="598623"/>
                </a:lnTo>
                <a:lnTo>
                  <a:pt x="1438891" y="601369"/>
                </a:lnTo>
                <a:lnTo>
                  <a:pt x="1436146" y="598623"/>
                </a:lnTo>
                <a:lnTo>
                  <a:pt x="1436146" y="595877"/>
                </a:lnTo>
                <a:lnTo>
                  <a:pt x="1430655" y="595877"/>
                </a:lnTo>
                <a:lnTo>
                  <a:pt x="1430655" y="598623"/>
                </a:lnTo>
                <a:lnTo>
                  <a:pt x="1430655" y="601369"/>
                </a:lnTo>
                <a:lnTo>
                  <a:pt x="1427907" y="598623"/>
                </a:lnTo>
                <a:lnTo>
                  <a:pt x="1427907" y="595877"/>
                </a:lnTo>
                <a:lnTo>
                  <a:pt x="1422416" y="598623"/>
                </a:lnTo>
                <a:lnTo>
                  <a:pt x="1422416" y="601369"/>
                </a:lnTo>
                <a:lnTo>
                  <a:pt x="1425162" y="604115"/>
                </a:lnTo>
                <a:lnTo>
                  <a:pt x="1433400" y="604115"/>
                </a:lnTo>
                <a:lnTo>
                  <a:pt x="1436146" y="604115"/>
                </a:lnTo>
                <a:lnTo>
                  <a:pt x="1438891" y="604115"/>
                </a:lnTo>
                <a:lnTo>
                  <a:pt x="1438891" y="609607"/>
                </a:lnTo>
                <a:lnTo>
                  <a:pt x="1438891" y="615099"/>
                </a:lnTo>
                <a:lnTo>
                  <a:pt x="1444383" y="617845"/>
                </a:lnTo>
                <a:lnTo>
                  <a:pt x="1449877" y="620591"/>
                </a:lnTo>
                <a:lnTo>
                  <a:pt x="1444383" y="620591"/>
                </a:lnTo>
                <a:lnTo>
                  <a:pt x="1444383" y="631575"/>
                </a:lnTo>
                <a:lnTo>
                  <a:pt x="1455368" y="634321"/>
                </a:lnTo>
                <a:lnTo>
                  <a:pt x="1458113" y="642559"/>
                </a:lnTo>
                <a:lnTo>
                  <a:pt x="1455368" y="645305"/>
                </a:lnTo>
                <a:lnTo>
                  <a:pt x="1455368" y="653542"/>
                </a:lnTo>
                <a:lnTo>
                  <a:pt x="1458113" y="653542"/>
                </a:lnTo>
                <a:lnTo>
                  <a:pt x="1458113" y="659034"/>
                </a:lnTo>
                <a:lnTo>
                  <a:pt x="1458113" y="664526"/>
                </a:lnTo>
                <a:lnTo>
                  <a:pt x="1455368" y="672764"/>
                </a:lnTo>
                <a:lnTo>
                  <a:pt x="1458113" y="686494"/>
                </a:lnTo>
                <a:lnTo>
                  <a:pt x="1471844" y="683748"/>
                </a:lnTo>
                <a:lnTo>
                  <a:pt x="1485574" y="683748"/>
                </a:lnTo>
                <a:lnTo>
                  <a:pt x="1499304" y="686494"/>
                </a:lnTo>
                <a:lnTo>
                  <a:pt x="1510287" y="683748"/>
                </a:lnTo>
                <a:lnTo>
                  <a:pt x="1515779" y="686494"/>
                </a:lnTo>
                <a:lnTo>
                  <a:pt x="1518526" y="683748"/>
                </a:lnTo>
                <a:lnTo>
                  <a:pt x="1518526" y="681002"/>
                </a:lnTo>
                <a:lnTo>
                  <a:pt x="1521272" y="675510"/>
                </a:lnTo>
                <a:lnTo>
                  <a:pt x="1529509" y="675510"/>
                </a:lnTo>
                <a:lnTo>
                  <a:pt x="1535002" y="672764"/>
                </a:lnTo>
                <a:lnTo>
                  <a:pt x="1543239" y="667272"/>
                </a:lnTo>
                <a:lnTo>
                  <a:pt x="1543239" y="659034"/>
                </a:lnTo>
                <a:lnTo>
                  <a:pt x="1545985" y="653542"/>
                </a:lnTo>
                <a:lnTo>
                  <a:pt x="1543239" y="650797"/>
                </a:lnTo>
                <a:lnTo>
                  <a:pt x="1540493" y="645305"/>
                </a:lnTo>
                <a:lnTo>
                  <a:pt x="1535002" y="637067"/>
                </a:lnTo>
                <a:lnTo>
                  <a:pt x="1529509" y="631575"/>
                </a:lnTo>
                <a:lnTo>
                  <a:pt x="1513033" y="623337"/>
                </a:lnTo>
                <a:lnTo>
                  <a:pt x="1515779" y="620591"/>
                </a:lnTo>
                <a:lnTo>
                  <a:pt x="1513033" y="620591"/>
                </a:lnTo>
                <a:lnTo>
                  <a:pt x="1513033" y="617845"/>
                </a:lnTo>
                <a:lnTo>
                  <a:pt x="1510287" y="617845"/>
                </a:lnTo>
                <a:lnTo>
                  <a:pt x="1510287" y="620591"/>
                </a:lnTo>
                <a:lnTo>
                  <a:pt x="1496557" y="620591"/>
                </a:lnTo>
                <a:lnTo>
                  <a:pt x="1485574" y="620591"/>
                </a:lnTo>
                <a:lnTo>
                  <a:pt x="1480081" y="617845"/>
                </a:lnTo>
                <a:lnTo>
                  <a:pt x="1477335" y="615099"/>
                </a:lnTo>
                <a:lnTo>
                  <a:pt x="1474589" y="609607"/>
                </a:lnTo>
                <a:lnTo>
                  <a:pt x="1474589" y="604115"/>
                </a:lnTo>
                <a:lnTo>
                  <a:pt x="1480081" y="601369"/>
                </a:lnTo>
                <a:lnTo>
                  <a:pt x="1482829" y="598623"/>
                </a:lnTo>
                <a:lnTo>
                  <a:pt x="1469098" y="593131"/>
                </a:lnTo>
                <a:lnTo>
                  <a:pt x="1458113" y="584893"/>
                </a:lnTo>
                <a:close/>
                <a:moveTo>
                  <a:pt x="5697902" y="584893"/>
                </a:moveTo>
                <a:lnTo>
                  <a:pt x="5697902" y="598623"/>
                </a:lnTo>
                <a:lnTo>
                  <a:pt x="5703394" y="593131"/>
                </a:lnTo>
                <a:lnTo>
                  <a:pt x="5706140" y="590385"/>
                </a:lnTo>
                <a:lnTo>
                  <a:pt x="5706140" y="587639"/>
                </a:lnTo>
                <a:lnTo>
                  <a:pt x="5703394" y="590385"/>
                </a:lnTo>
                <a:lnTo>
                  <a:pt x="5700648" y="590385"/>
                </a:lnTo>
                <a:lnTo>
                  <a:pt x="5700648" y="587639"/>
                </a:lnTo>
                <a:lnTo>
                  <a:pt x="5697902" y="584893"/>
                </a:lnTo>
                <a:close/>
                <a:moveTo>
                  <a:pt x="1318068" y="582147"/>
                </a:moveTo>
                <a:lnTo>
                  <a:pt x="1318068" y="587639"/>
                </a:lnTo>
                <a:lnTo>
                  <a:pt x="1318068" y="590385"/>
                </a:lnTo>
                <a:lnTo>
                  <a:pt x="1320814" y="593131"/>
                </a:lnTo>
                <a:lnTo>
                  <a:pt x="1326308" y="593131"/>
                </a:lnTo>
                <a:lnTo>
                  <a:pt x="1326308" y="587639"/>
                </a:lnTo>
                <a:lnTo>
                  <a:pt x="1323562" y="582147"/>
                </a:lnTo>
                <a:lnTo>
                  <a:pt x="1318068" y="582147"/>
                </a:lnTo>
                <a:close/>
                <a:moveTo>
                  <a:pt x="5673188" y="582147"/>
                </a:moveTo>
                <a:lnTo>
                  <a:pt x="5673188" y="584893"/>
                </a:lnTo>
                <a:lnTo>
                  <a:pt x="5678680" y="584893"/>
                </a:lnTo>
                <a:lnTo>
                  <a:pt x="5678680" y="582147"/>
                </a:lnTo>
                <a:lnTo>
                  <a:pt x="5673188" y="582147"/>
                </a:lnTo>
                <a:close/>
                <a:moveTo>
                  <a:pt x="5516667" y="582147"/>
                </a:moveTo>
                <a:lnTo>
                  <a:pt x="5511175" y="584893"/>
                </a:lnTo>
                <a:lnTo>
                  <a:pt x="5519413" y="584893"/>
                </a:lnTo>
                <a:lnTo>
                  <a:pt x="5519413" y="582147"/>
                </a:lnTo>
                <a:lnTo>
                  <a:pt x="5516667" y="582147"/>
                </a:lnTo>
                <a:close/>
                <a:moveTo>
                  <a:pt x="5739091" y="579401"/>
                </a:moveTo>
                <a:lnTo>
                  <a:pt x="5733600" y="582147"/>
                </a:lnTo>
                <a:lnTo>
                  <a:pt x="5725362" y="582147"/>
                </a:lnTo>
                <a:lnTo>
                  <a:pt x="5725362" y="584893"/>
                </a:lnTo>
                <a:lnTo>
                  <a:pt x="5725362" y="587639"/>
                </a:lnTo>
                <a:lnTo>
                  <a:pt x="5728108" y="587639"/>
                </a:lnTo>
                <a:lnTo>
                  <a:pt x="5728108" y="590385"/>
                </a:lnTo>
                <a:lnTo>
                  <a:pt x="5739091" y="590385"/>
                </a:lnTo>
                <a:lnTo>
                  <a:pt x="5741837" y="584893"/>
                </a:lnTo>
                <a:lnTo>
                  <a:pt x="5741837" y="582147"/>
                </a:lnTo>
                <a:lnTo>
                  <a:pt x="5739091" y="579401"/>
                </a:lnTo>
                <a:close/>
                <a:moveTo>
                  <a:pt x="5711632" y="579401"/>
                </a:moveTo>
                <a:lnTo>
                  <a:pt x="5708886" y="582147"/>
                </a:lnTo>
                <a:lnTo>
                  <a:pt x="5708886" y="584893"/>
                </a:lnTo>
                <a:lnTo>
                  <a:pt x="5714378" y="584893"/>
                </a:lnTo>
                <a:lnTo>
                  <a:pt x="5717124" y="584893"/>
                </a:lnTo>
                <a:lnTo>
                  <a:pt x="5717124" y="582147"/>
                </a:lnTo>
                <a:lnTo>
                  <a:pt x="5711632" y="579401"/>
                </a:lnTo>
                <a:close/>
                <a:moveTo>
                  <a:pt x="5082803" y="579401"/>
                </a:moveTo>
                <a:lnTo>
                  <a:pt x="5080057" y="584893"/>
                </a:lnTo>
                <a:lnTo>
                  <a:pt x="5082803" y="587639"/>
                </a:lnTo>
                <a:lnTo>
                  <a:pt x="5085549" y="587639"/>
                </a:lnTo>
                <a:lnTo>
                  <a:pt x="5085549" y="579401"/>
                </a:lnTo>
                <a:lnTo>
                  <a:pt x="5082803" y="579401"/>
                </a:lnTo>
                <a:close/>
                <a:moveTo>
                  <a:pt x="1556969" y="576655"/>
                </a:moveTo>
                <a:lnTo>
                  <a:pt x="1554223" y="579401"/>
                </a:lnTo>
                <a:lnTo>
                  <a:pt x="1554223" y="587639"/>
                </a:lnTo>
                <a:lnTo>
                  <a:pt x="1565206" y="587639"/>
                </a:lnTo>
                <a:lnTo>
                  <a:pt x="1565206" y="582147"/>
                </a:lnTo>
                <a:lnTo>
                  <a:pt x="1565206" y="579401"/>
                </a:lnTo>
                <a:lnTo>
                  <a:pt x="1556969" y="576655"/>
                </a:lnTo>
                <a:close/>
                <a:moveTo>
                  <a:pt x="1021503" y="576655"/>
                </a:moveTo>
                <a:lnTo>
                  <a:pt x="1021503" y="587639"/>
                </a:lnTo>
                <a:lnTo>
                  <a:pt x="1026995" y="587639"/>
                </a:lnTo>
                <a:lnTo>
                  <a:pt x="1032487" y="582147"/>
                </a:lnTo>
                <a:lnTo>
                  <a:pt x="1026995" y="579401"/>
                </a:lnTo>
                <a:lnTo>
                  <a:pt x="1021503" y="576655"/>
                </a:lnTo>
                <a:close/>
                <a:moveTo>
                  <a:pt x="5211864" y="571163"/>
                </a:moveTo>
                <a:lnTo>
                  <a:pt x="5211864" y="576655"/>
                </a:lnTo>
                <a:lnTo>
                  <a:pt x="5214610" y="573909"/>
                </a:lnTo>
                <a:lnTo>
                  <a:pt x="5214610" y="576655"/>
                </a:lnTo>
                <a:lnTo>
                  <a:pt x="5217356" y="576655"/>
                </a:lnTo>
                <a:lnTo>
                  <a:pt x="5220102" y="576655"/>
                </a:lnTo>
                <a:lnTo>
                  <a:pt x="5220102" y="573909"/>
                </a:lnTo>
                <a:lnTo>
                  <a:pt x="5217356" y="573909"/>
                </a:lnTo>
                <a:lnTo>
                  <a:pt x="5214610" y="571163"/>
                </a:lnTo>
                <a:lnTo>
                  <a:pt x="5211864" y="571163"/>
                </a:lnTo>
                <a:close/>
                <a:moveTo>
                  <a:pt x="1106629" y="571163"/>
                </a:moveTo>
                <a:lnTo>
                  <a:pt x="1103883" y="576655"/>
                </a:lnTo>
                <a:lnTo>
                  <a:pt x="1109376" y="576655"/>
                </a:lnTo>
                <a:lnTo>
                  <a:pt x="1114868" y="576655"/>
                </a:lnTo>
                <a:lnTo>
                  <a:pt x="1112121" y="571163"/>
                </a:lnTo>
                <a:lnTo>
                  <a:pt x="1109376" y="571163"/>
                </a:lnTo>
                <a:lnTo>
                  <a:pt x="1106629" y="571163"/>
                </a:lnTo>
                <a:close/>
                <a:moveTo>
                  <a:pt x="5612777" y="568417"/>
                </a:moveTo>
                <a:lnTo>
                  <a:pt x="5615523" y="573909"/>
                </a:lnTo>
                <a:lnTo>
                  <a:pt x="5621014" y="573909"/>
                </a:lnTo>
                <a:lnTo>
                  <a:pt x="5621014" y="568417"/>
                </a:lnTo>
                <a:lnTo>
                  <a:pt x="5612777" y="568417"/>
                </a:lnTo>
                <a:close/>
                <a:moveTo>
                  <a:pt x="5165182" y="568417"/>
                </a:moveTo>
                <a:lnTo>
                  <a:pt x="5159690" y="571163"/>
                </a:lnTo>
                <a:lnTo>
                  <a:pt x="5156944" y="573909"/>
                </a:lnTo>
                <a:lnTo>
                  <a:pt x="5159690" y="579401"/>
                </a:lnTo>
                <a:lnTo>
                  <a:pt x="5159690" y="584893"/>
                </a:lnTo>
                <a:lnTo>
                  <a:pt x="5167928" y="587639"/>
                </a:lnTo>
                <a:lnTo>
                  <a:pt x="5170674" y="593131"/>
                </a:lnTo>
                <a:lnTo>
                  <a:pt x="5178912" y="593131"/>
                </a:lnTo>
                <a:lnTo>
                  <a:pt x="5184404" y="593131"/>
                </a:lnTo>
                <a:lnTo>
                  <a:pt x="5187150" y="593131"/>
                </a:lnTo>
                <a:lnTo>
                  <a:pt x="5189896" y="587639"/>
                </a:lnTo>
                <a:lnTo>
                  <a:pt x="5187150" y="582147"/>
                </a:lnTo>
                <a:lnTo>
                  <a:pt x="5184404" y="579401"/>
                </a:lnTo>
                <a:lnTo>
                  <a:pt x="5178912" y="576655"/>
                </a:lnTo>
                <a:lnTo>
                  <a:pt x="5176166" y="573909"/>
                </a:lnTo>
                <a:lnTo>
                  <a:pt x="5176166" y="568417"/>
                </a:lnTo>
                <a:lnTo>
                  <a:pt x="5165182" y="568417"/>
                </a:lnTo>
                <a:close/>
                <a:moveTo>
                  <a:pt x="1425162" y="565671"/>
                </a:moveTo>
                <a:lnTo>
                  <a:pt x="1425162" y="573909"/>
                </a:lnTo>
                <a:lnTo>
                  <a:pt x="1430655" y="573909"/>
                </a:lnTo>
                <a:lnTo>
                  <a:pt x="1430655" y="565671"/>
                </a:lnTo>
                <a:lnTo>
                  <a:pt x="1427907" y="565671"/>
                </a:lnTo>
                <a:lnTo>
                  <a:pt x="1425162" y="565671"/>
                </a:lnTo>
                <a:close/>
                <a:moveTo>
                  <a:pt x="1356512" y="562925"/>
                </a:moveTo>
                <a:lnTo>
                  <a:pt x="1356512" y="571163"/>
                </a:lnTo>
                <a:lnTo>
                  <a:pt x="1362005" y="568417"/>
                </a:lnTo>
                <a:lnTo>
                  <a:pt x="1362005" y="562925"/>
                </a:lnTo>
                <a:lnTo>
                  <a:pt x="1356512" y="562925"/>
                </a:lnTo>
                <a:close/>
                <a:moveTo>
                  <a:pt x="760635" y="562925"/>
                </a:moveTo>
                <a:lnTo>
                  <a:pt x="755144" y="565671"/>
                </a:lnTo>
                <a:lnTo>
                  <a:pt x="755144" y="571163"/>
                </a:lnTo>
                <a:lnTo>
                  <a:pt x="760635" y="571163"/>
                </a:lnTo>
                <a:lnTo>
                  <a:pt x="760635" y="562925"/>
                </a:lnTo>
                <a:close/>
                <a:moveTo>
                  <a:pt x="5700648" y="560179"/>
                </a:moveTo>
                <a:lnTo>
                  <a:pt x="5700648" y="568417"/>
                </a:lnTo>
                <a:lnTo>
                  <a:pt x="5703394" y="571163"/>
                </a:lnTo>
                <a:lnTo>
                  <a:pt x="5706140" y="568417"/>
                </a:lnTo>
                <a:lnTo>
                  <a:pt x="5706140" y="562925"/>
                </a:lnTo>
                <a:lnTo>
                  <a:pt x="5703394" y="562925"/>
                </a:lnTo>
                <a:lnTo>
                  <a:pt x="5700648" y="560179"/>
                </a:lnTo>
                <a:close/>
                <a:moveTo>
                  <a:pt x="5599047" y="560179"/>
                </a:moveTo>
                <a:lnTo>
                  <a:pt x="5599047" y="565671"/>
                </a:lnTo>
                <a:lnTo>
                  <a:pt x="5604539" y="565671"/>
                </a:lnTo>
                <a:lnTo>
                  <a:pt x="5604539" y="560179"/>
                </a:lnTo>
                <a:lnTo>
                  <a:pt x="5599047" y="560179"/>
                </a:lnTo>
                <a:close/>
                <a:moveTo>
                  <a:pt x="1460859" y="557433"/>
                </a:moveTo>
                <a:lnTo>
                  <a:pt x="1460859" y="562925"/>
                </a:lnTo>
                <a:lnTo>
                  <a:pt x="1469098" y="562925"/>
                </a:lnTo>
                <a:lnTo>
                  <a:pt x="1466353" y="560179"/>
                </a:lnTo>
                <a:lnTo>
                  <a:pt x="1460859" y="557433"/>
                </a:lnTo>
                <a:close/>
                <a:moveTo>
                  <a:pt x="727684" y="557433"/>
                </a:moveTo>
                <a:lnTo>
                  <a:pt x="724938" y="560179"/>
                </a:lnTo>
                <a:lnTo>
                  <a:pt x="733176" y="562925"/>
                </a:lnTo>
                <a:lnTo>
                  <a:pt x="735922" y="565671"/>
                </a:lnTo>
                <a:lnTo>
                  <a:pt x="733176" y="560179"/>
                </a:lnTo>
                <a:lnTo>
                  <a:pt x="730430" y="557433"/>
                </a:lnTo>
                <a:lnTo>
                  <a:pt x="727684" y="557433"/>
                </a:lnTo>
                <a:close/>
                <a:moveTo>
                  <a:pt x="5637490" y="551941"/>
                </a:moveTo>
                <a:lnTo>
                  <a:pt x="5637490" y="554687"/>
                </a:lnTo>
                <a:lnTo>
                  <a:pt x="5640236" y="557433"/>
                </a:lnTo>
                <a:lnTo>
                  <a:pt x="5645728" y="554687"/>
                </a:lnTo>
                <a:lnTo>
                  <a:pt x="5651220" y="557433"/>
                </a:lnTo>
                <a:lnTo>
                  <a:pt x="5651220" y="551941"/>
                </a:lnTo>
                <a:lnTo>
                  <a:pt x="5645728" y="551941"/>
                </a:lnTo>
                <a:lnTo>
                  <a:pt x="5642982" y="551941"/>
                </a:lnTo>
                <a:lnTo>
                  <a:pt x="5637490" y="551941"/>
                </a:lnTo>
                <a:close/>
                <a:moveTo>
                  <a:pt x="5115755" y="551941"/>
                </a:moveTo>
                <a:lnTo>
                  <a:pt x="5113009" y="557433"/>
                </a:lnTo>
                <a:lnTo>
                  <a:pt x="5110263" y="562925"/>
                </a:lnTo>
                <a:lnTo>
                  <a:pt x="5107517" y="571163"/>
                </a:lnTo>
                <a:lnTo>
                  <a:pt x="5107517" y="579401"/>
                </a:lnTo>
                <a:lnTo>
                  <a:pt x="5104771" y="582147"/>
                </a:lnTo>
                <a:lnTo>
                  <a:pt x="5102025" y="584893"/>
                </a:lnTo>
                <a:lnTo>
                  <a:pt x="5102025" y="590385"/>
                </a:lnTo>
                <a:lnTo>
                  <a:pt x="5096533" y="593131"/>
                </a:lnTo>
                <a:lnTo>
                  <a:pt x="5102025" y="595877"/>
                </a:lnTo>
                <a:lnTo>
                  <a:pt x="5102025" y="604115"/>
                </a:lnTo>
                <a:lnTo>
                  <a:pt x="5115755" y="606861"/>
                </a:lnTo>
                <a:lnTo>
                  <a:pt x="5123993" y="606861"/>
                </a:lnTo>
                <a:lnTo>
                  <a:pt x="5129485" y="604115"/>
                </a:lnTo>
                <a:lnTo>
                  <a:pt x="5129485" y="593131"/>
                </a:lnTo>
                <a:lnTo>
                  <a:pt x="5129485" y="587639"/>
                </a:lnTo>
                <a:lnTo>
                  <a:pt x="5132230" y="587639"/>
                </a:lnTo>
                <a:lnTo>
                  <a:pt x="5137722" y="587639"/>
                </a:lnTo>
                <a:lnTo>
                  <a:pt x="5143214" y="582147"/>
                </a:lnTo>
                <a:lnTo>
                  <a:pt x="5143214" y="576655"/>
                </a:lnTo>
                <a:lnTo>
                  <a:pt x="5140468" y="576655"/>
                </a:lnTo>
                <a:lnTo>
                  <a:pt x="5137722" y="579401"/>
                </a:lnTo>
                <a:lnTo>
                  <a:pt x="5134976" y="579401"/>
                </a:lnTo>
                <a:lnTo>
                  <a:pt x="5132230" y="579401"/>
                </a:lnTo>
                <a:lnTo>
                  <a:pt x="5126739" y="584893"/>
                </a:lnTo>
                <a:lnTo>
                  <a:pt x="5118501" y="584893"/>
                </a:lnTo>
                <a:lnTo>
                  <a:pt x="5118501" y="582147"/>
                </a:lnTo>
                <a:lnTo>
                  <a:pt x="5115755" y="582147"/>
                </a:lnTo>
                <a:lnTo>
                  <a:pt x="5115755" y="579401"/>
                </a:lnTo>
                <a:lnTo>
                  <a:pt x="5115755" y="576655"/>
                </a:lnTo>
                <a:lnTo>
                  <a:pt x="5118501" y="579401"/>
                </a:lnTo>
                <a:lnTo>
                  <a:pt x="5121247" y="579401"/>
                </a:lnTo>
                <a:lnTo>
                  <a:pt x="5132230" y="576655"/>
                </a:lnTo>
                <a:lnTo>
                  <a:pt x="5137722" y="571163"/>
                </a:lnTo>
                <a:lnTo>
                  <a:pt x="5137722" y="562925"/>
                </a:lnTo>
                <a:lnTo>
                  <a:pt x="5132230" y="560179"/>
                </a:lnTo>
                <a:lnTo>
                  <a:pt x="5132230" y="554687"/>
                </a:lnTo>
                <a:lnTo>
                  <a:pt x="5126739" y="554687"/>
                </a:lnTo>
                <a:lnTo>
                  <a:pt x="5123993" y="554687"/>
                </a:lnTo>
                <a:lnTo>
                  <a:pt x="5121247" y="551941"/>
                </a:lnTo>
                <a:lnTo>
                  <a:pt x="5115755" y="551941"/>
                </a:lnTo>
                <a:close/>
                <a:moveTo>
                  <a:pt x="1323562" y="549195"/>
                </a:moveTo>
                <a:lnTo>
                  <a:pt x="1323562" y="554687"/>
                </a:lnTo>
                <a:lnTo>
                  <a:pt x="1329053" y="554687"/>
                </a:lnTo>
                <a:lnTo>
                  <a:pt x="1329053" y="549195"/>
                </a:lnTo>
                <a:lnTo>
                  <a:pt x="1323562" y="549195"/>
                </a:lnTo>
                <a:close/>
                <a:moveTo>
                  <a:pt x="1515779" y="546449"/>
                </a:moveTo>
                <a:lnTo>
                  <a:pt x="1510287" y="549195"/>
                </a:lnTo>
                <a:lnTo>
                  <a:pt x="1504796" y="549195"/>
                </a:lnTo>
                <a:lnTo>
                  <a:pt x="1491065" y="551941"/>
                </a:lnTo>
                <a:lnTo>
                  <a:pt x="1491065" y="560179"/>
                </a:lnTo>
                <a:lnTo>
                  <a:pt x="1502050" y="557433"/>
                </a:lnTo>
                <a:lnTo>
                  <a:pt x="1510287" y="554687"/>
                </a:lnTo>
                <a:lnTo>
                  <a:pt x="1513033" y="560179"/>
                </a:lnTo>
                <a:lnTo>
                  <a:pt x="1524017" y="560179"/>
                </a:lnTo>
                <a:lnTo>
                  <a:pt x="1524017" y="554687"/>
                </a:lnTo>
                <a:lnTo>
                  <a:pt x="1526763" y="551941"/>
                </a:lnTo>
                <a:lnTo>
                  <a:pt x="1529509" y="549195"/>
                </a:lnTo>
                <a:lnTo>
                  <a:pt x="1521272" y="549195"/>
                </a:lnTo>
                <a:lnTo>
                  <a:pt x="1515779" y="546449"/>
                </a:lnTo>
                <a:close/>
                <a:moveTo>
                  <a:pt x="5678680" y="546449"/>
                </a:moveTo>
                <a:lnTo>
                  <a:pt x="5675934" y="549195"/>
                </a:lnTo>
                <a:lnTo>
                  <a:pt x="5673188" y="549195"/>
                </a:lnTo>
                <a:lnTo>
                  <a:pt x="5673188" y="551941"/>
                </a:lnTo>
                <a:lnTo>
                  <a:pt x="5678680" y="554687"/>
                </a:lnTo>
                <a:lnTo>
                  <a:pt x="5684172" y="557433"/>
                </a:lnTo>
                <a:lnTo>
                  <a:pt x="5681426" y="560179"/>
                </a:lnTo>
                <a:lnTo>
                  <a:pt x="5681426" y="562925"/>
                </a:lnTo>
                <a:lnTo>
                  <a:pt x="5684172" y="560179"/>
                </a:lnTo>
                <a:lnTo>
                  <a:pt x="5684172" y="557433"/>
                </a:lnTo>
                <a:lnTo>
                  <a:pt x="5684172" y="554687"/>
                </a:lnTo>
                <a:lnTo>
                  <a:pt x="5684172" y="549195"/>
                </a:lnTo>
                <a:lnTo>
                  <a:pt x="5678680" y="546449"/>
                </a:lnTo>
                <a:close/>
                <a:moveTo>
                  <a:pt x="1298847" y="543703"/>
                </a:moveTo>
                <a:lnTo>
                  <a:pt x="1296101" y="546449"/>
                </a:lnTo>
                <a:lnTo>
                  <a:pt x="1296101" y="549195"/>
                </a:lnTo>
                <a:lnTo>
                  <a:pt x="1298847" y="551941"/>
                </a:lnTo>
                <a:lnTo>
                  <a:pt x="1304341" y="551941"/>
                </a:lnTo>
                <a:lnTo>
                  <a:pt x="1304341" y="546449"/>
                </a:lnTo>
                <a:lnTo>
                  <a:pt x="1301593" y="543703"/>
                </a:lnTo>
                <a:lnTo>
                  <a:pt x="1298847" y="543703"/>
                </a:lnTo>
                <a:close/>
                <a:moveTo>
                  <a:pt x="1394958" y="540957"/>
                </a:moveTo>
                <a:lnTo>
                  <a:pt x="1397703" y="543703"/>
                </a:lnTo>
                <a:lnTo>
                  <a:pt x="1394958" y="546449"/>
                </a:lnTo>
                <a:lnTo>
                  <a:pt x="1394958" y="549195"/>
                </a:lnTo>
                <a:lnTo>
                  <a:pt x="1403194" y="543703"/>
                </a:lnTo>
                <a:lnTo>
                  <a:pt x="1403194" y="549195"/>
                </a:lnTo>
                <a:lnTo>
                  <a:pt x="1408686" y="549195"/>
                </a:lnTo>
                <a:lnTo>
                  <a:pt x="1411434" y="546449"/>
                </a:lnTo>
                <a:lnTo>
                  <a:pt x="1414179" y="549195"/>
                </a:lnTo>
                <a:lnTo>
                  <a:pt x="1414179" y="540957"/>
                </a:lnTo>
                <a:lnTo>
                  <a:pt x="1394958" y="540957"/>
                </a:lnTo>
                <a:close/>
                <a:moveTo>
                  <a:pt x="5209118" y="538211"/>
                </a:moveTo>
                <a:lnTo>
                  <a:pt x="5200880" y="546449"/>
                </a:lnTo>
                <a:lnTo>
                  <a:pt x="5203626" y="549195"/>
                </a:lnTo>
                <a:lnTo>
                  <a:pt x="5206372" y="549195"/>
                </a:lnTo>
                <a:lnTo>
                  <a:pt x="5214610" y="549195"/>
                </a:lnTo>
                <a:lnTo>
                  <a:pt x="5220102" y="540957"/>
                </a:lnTo>
                <a:lnTo>
                  <a:pt x="5214610" y="538211"/>
                </a:lnTo>
                <a:lnTo>
                  <a:pt x="5209118" y="538211"/>
                </a:lnTo>
                <a:close/>
                <a:moveTo>
                  <a:pt x="840269" y="535465"/>
                </a:moveTo>
                <a:lnTo>
                  <a:pt x="837523" y="540957"/>
                </a:lnTo>
                <a:lnTo>
                  <a:pt x="840269" y="540957"/>
                </a:lnTo>
                <a:lnTo>
                  <a:pt x="843015" y="540957"/>
                </a:lnTo>
                <a:lnTo>
                  <a:pt x="845761" y="538211"/>
                </a:lnTo>
                <a:lnTo>
                  <a:pt x="845761" y="535465"/>
                </a:lnTo>
                <a:lnTo>
                  <a:pt x="840269" y="535465"/>
                </a:lnTo>
                <a:close/>
                <a:moveTo>
                  <a:pt x="5733600" y="532719"/>
                </a:moveTo>
                <a:lnTo>
                  <a:pt x="5730854" y="535465"/>
                </a:lnTo>
                <a:lnTo>
                  <a:pt x="5728108" y="535465"/>
                </a:lnTo>
                <a:lnTo>
                  <a:pt x="5722616" y="535465"/>
                </a:lnTo>
                <a:lnTo>
                  <a:pt x="5722616" y="540957"/>
                </a:lnTo>
                <a:lnTo>
                  <a:pt x="5730854" y="540957"/>
                </a:lnTo>
                <a:lnTo>
                  <a:pt x="5739091" y="540957"/>
                </a:lnTo>
                <a:lnTo>
                  <a:pt x="5739091" y="532719"/>
                </a:lnTo>
                <a:lnTo>
                  <a:pt x="5733600" y="532719"/>
                </a:lnTo>
                <a:close/>
                <a:moveTo>
                  <a:pt x="5629252" y="532719"/>
                </a:moveTo>
                <a:lnTo>
                  <a:pt x="5626506" y="535465"/>
                </a:lnTo>
                <a:lnTo>
                  <a:pt x="5623760" y="538211"/>
                </a:lnTo>
                <a:lnTo>
                  <a:pt x="5618268" y="540957"/>
                </a:lnTo>
                <a:lnTo>
                  <a:pt x="5618268" y="546449"/>
                </a:lnTo>
                <a:lnTo>
                  <a:pt x="5626506" y="549195"/>
                </a:lnTo>
                <a:lnTo>
                  <a:pt x="5629252" y="551941"/>
                </a:lnTo>
                <a:lnTo>
                  <a:pt x="5631998" y="551941"/>
                </a:lnTo>
                <a:lnTo>
                  <a:pt x="5634744" y="549195"/>
                </a:lnTo>
                <a:lnTo>
                  <a:pt x="5634744" y="546449"/>
                </a:lnTo>
                <a:lnTo>
                  <a:pt x="5637490" y="543703"/>
                </a:lnTo>
                <a:lnTo>
                  <a:pt x="5637490" y="538211"/>
                </a:lnTo>
                <a:lnTo>
                  <a:pt x="5634744" y="538211"/>
                </a:lnTo>
                <a:lnTo>
                  <a:pt x="5631998" y="532719"/>
                </a:lnTo>
                <a:lnTo>
                  <a:pt x="5629252" y="532719"/>
                </a:lnTo>
                <a:close/>
                <a:moveTo>
                  <a:pt x="5604539" y="532719"/>
                </a:moveTo>
                <a:lnTo>
                  <a:pt x="5599047" y="538211"/>
                </a:lnTo>
                <a:lnTo>
                  <a:pt x="5593555" y="546449"/>
                </a:lnTo>
                <a:lnTo>
                  <a:pt x="5590809" y="546449"/>
                </a:lnTo>
                <a:lnTo>
                  <a:pt x="5588063" y="543703"/>
                </a:lnTo>
                <a:lnTo>
                  <a:pt x="5588063" y="546449"/>
                </a:lnTo>
                <a:lnTo>
                  <a:pt x="5588063" y="549195"/>
                </a:lnTo>
                <a:lnTo>
                  <a:pt x="5588063" y="551941"/>
                </a:lnTo>
                <a:lnTo>
                  <a:pt x="5593555" y="549195"/>
                </a:lnTo>
                <a:lnTo>
                  <a:pt x="5601793" y="549195"/>
                </a:lnTo>
                <a:lnTo>
                  <a:pt x="5601793" y="543703"/>
                </a:lnTo>
                <a:lnTo>
                  <a:pt x="5601793" y="538211"/>
                </a:lnTo>
                <a:lnTo>
                  <a:pt x="5604539" y="532719"/>
                </a:lnTo>
                <a:close/>
                <a:moveTo>
                  <a:pt x="604115" y="532719"/>
                </a:moveTo>
                <a:lnTo>
                  <a:pt x="601369" y="535465"/>
                </a:lnTo>
                <a:lnTo>
                  <a:pt x="604115" y="538211"/>
                </a:lnTo>
                <a:lnTo>
                  <a:pt x="606861" y="538211"/>
                </a:lnTo>
                <a:lnTo>
                  <a:pt x="609607" y="538211"/>
                </a:lnTo>
                <a:lnTo>
                  <a:pt x="609607" y="532719"/>
                </a:lnTo>
                <a:lnTo>
                  <a:pt x="604115" y="532719"/>
                </a:lnTo>
                <a:close/>
                <a:moveTo>
                  <a:pt x="919902" y="529974"/>
                </a:moveTo>
                <a:lnTo>
                  <a:pt x="917156" y="532719"/>
                </a:lnTo>
                <a:lnTo>
                  <a:pt x="919902" y="535465"/>
                </a:lnTo>
                <a:lnTo>
                  <a:pt x="925395" y="535465"/>
                </a:lnTo>
                <a:lnTo>
                  <a:pt x="925395" y="529974"/>
                </a:lnTo>
                <a:lnTo>
                  <a:pt x="919902" y="529974"/>
                </a:lnTo>
                <a:close/>
                <a:moveTo>
                  <a:pt x="1469098" y="527228"/>
                </a:moveTo>
                <a:lnTo>
                  <a:pt x="1469098" y="532719"/>
                </a:lnTo>
                <a:lnTo>
                  <a:pt x="1469098" y="538211"/>
                </a:lnTo>
                <a:lnTo>
                  <a:pt x="1471844" y="535465"/>
                </a:lnTo>
                <a:lnTo>
                  <a:pt x="1474589" y="535465"/>
                </a:lnTo>
                <a:lnTo>
                  <a:pt x="1477335" y="535465"/>
                </a:lnTo>
                <a:lnTo>
                  <a:pt x="1477335" y="527228"/>
                </a:lnTo>
                <a:lnTo>
                  <a:pt x="1469098" y="527228"/>
                </a:lnTo>
                <a:close/>
                <a:moveTo>
                  <a:pt x="5074565" y="527227"/>
                </a:moveTo>
                <a:lnTo>
                  <a:pt x="5074565" y="538211"/>
                </a:lnTo>
                <a:lnTo>
                  <a:pt x="5077311" y="540957"/>
                </a:lnTo>
                <a:lnTo>
                  <a:pt x="5077311" y="546449"/>
                </a:lnTo>
                <a:lnTo>
                  <a:pt x="5069073" y="546449"/>
                </a:lnTo>
                <a:lnTo>
                  <a:pt x="5060835" y="546449"/>
                </a:lnTo>
                <a:lnTo>
                  <a:pt x="5060835" y="529973"/>
                </a:lnTo>
                <a:lnTo>
                  <a:pt x="5074565" y="527227"/>
                </a:lnTo>
                <a:close/>
                <a:moveTo>
                  <a:pt x="5832455" y="524481"/>
                </a:moveTo>
                <a:lnTo>
                  <a:pt x="5829709" y="527227"/>
                </a:lnTo>
                <a:lnTo>
                  <a:pt x="5826963" y="527227"/>
                </a:lnTo>
                <a:lnTo>
                  <a:pt x="5821471" y="527227"/>
                </a:lnTo>
                <a:lnTo>
                  <a:pt x="5824217" y="532719"/>
                </a:lnTo>
                <a:lnTo>
                  <a:pt x="5826963" y="535465"/>
                </a:lnTo>
                <a:lnTo>
                  <a:pt x="5826963" y="529973"/>
                </a:lnTo>
                <a:lnTo>
                  <a:pt x="5829709" y="529973"/>
                </a:lnTo>
                <a:lnTo>
                  <a:pt x="5832455" y="527227"/>
                </a:lnTo>
                <a:lnTo>
                  <a:pt x="5835201" y="524481"/>
                </a:lnTo>
                <a:lnTo>
                  <a:pt x="5832455" y="524481"/>
                </a:lnTo>
                <a:close/>
                <a:moveTo>
                  <a:pt x="1518526" y="521736"/>
                </a:moveTo>
                <a:lnTo>
                  <a:pt x="1518526" y="524482"/>
                </a:lnTo>
                <a:lnTo>
                  <a:pt x="1524017" y="524482"/>
                </a:lnTo>
                <a:lnTo>
                  <a:pt x="1526763" y="527228"/>
                </a:lnTo>
                <a:lnTo>
                  <a:pt x="1529509" y="529974"/>
                </a:lnTo>
                <a:lnTo>
                  <a:pt x="1535002" y="529974"/>
                </a:lnTo>
                <a:lnTo>
                  <a:pt x="1532255" y="524482"/>
                </a:lnTo>
                <a:lnTo>
                  <a:pt x="1529509" y="521736"/>
                </a:lnTo>
                <a:lnTo>
                  <a:pt x="1518526" y="521736"/>
                </a:lnTo>
                <a:close/>
                <a:moveTo>
                  <a:pt x="1510287" y="521736"/>
                </a:moveTo>
                <a:lnTo>
                  <a:pt x="1510287" y="527228"/>
                </a:lnTo>
                <a:lnTo>
                  <a:pt x="1518526" y="527228"/>
                </a:lnTo>
                <a:lnTo>
                  <a:pt x="1515779" y="521736"/>
                </a:lnTo>
                <a:lnTo>
                  <a:pt x="1510287" y="521736"/>
                </a:lnTo>
                <a:close/>
                <a:moveTo>
                  <a:pt x="1183518" y="518990"/>
                </a:moveTo>
                <a:lnTo>
                  <a:pt x="1183518" y="524482"/>
                </a:lnTo>
                <a:lnTo>
                  <a:pt x="1189009" y="524482"/>
                </a:lnTo>
                <a:lnTo>
                  <a:pt x="1189009" y="521736"/>
                </a:lnTo>
                <a:lnTo>
                  <a:pt x="1186263" y="521736"/>
                </a:lnTo>
                <a:lnTo>
                  <a:pt x="1186263" y="518990"/>
                </a:lnTo>
                <a:lnTo>
                  <a:pt x="1183518" y="518990"/>
                </a:lnTo>
                <a:close/>
                <a:moveTo>
                  <a:pt x="5357401" y="518989"/>
                </a:moveTo>
                <a:lnTo>
                  <a:pt x="5354655" y="521735"/>
                </a:lnTo>
                <a:lnTo>
                  <a:pt x="5354655" y="524481"/>
                </a:lnTo>
                <a:lnTo>
                  <a:pt x="5354655" y="527227"/>
                </a:lnTo>
                <a:lnTo>
                  <a:pt x="5357401" y="527227"/>
                </a:lnTo>
                <a:lnTo>
                  <a:pt x="5357401" y="529973"/>
                </a:lnTo>
                <a:lnTo>
                  <a:pt x="5371131" y="529973"/>
                </a:lnTo>
                <a:lnTo>
                  <a:pt x="5371131" y="524481"/>
                </a:lnTo>
                <a:lnTo>
                  <a:pt x="5371131" y="521735"/>
                </a:lnTo>
                <a:lnTo>
                  <a:pt x="5365639" y="518989"/>
                </a:lnTo>
                <a:lnTo>
                  <a:pt x="5357401" y="518989"/>
                </a:lnTo>
                <a:close/>
                <a:moveTo>
                  <a:pt x="337755" y="516244"/>
                </a:moveTo>
                <a:lnTo>
                  <a:pt x="337755" y="521736"/>
                </a:lnTo>
                <a:lnTo>
                  <a:pt x="343247" y="524482"/>
                </a:lnTo>
                <a:lnTo>
                  <a:pt x="343247" y="516244"/>
                </a:lnTo>
                <a:lnTo>
                  <a:pt x="337755" y="516244"/>
                </a:lnTo>
                <a:close/>
                <a:moveTo>
                  <a:pt x="5673188" y="516243"/>
                </a:moveTo>
                <a:lnTo>
                  <a:pt x="5664950" y="518989"/>
                </a:lnTo>
                <a:lnTo>
                  <a:pt x="5662204" y="518989"/>
                </a:lnTo>
                <a:lnTo>
                  <a:pt x="5659458" y="518989"/>
                </a:lnTo>
                <a:lnTo>
                  <a:pt x="5659458" y="521735"/>
                </a:lnTo>
                <a:lnTo>
                  <a:pt x="5664950" y="521735"/>
                </a:lnTo>
                <a:lnTo>
                  <a:pt x="5667696" y="524481"/>
                </a:lnTo>
                <a:lnTo>
                  <a:pt x="5667696" y="521735"/>
                </a:lnTo>
                <a:lnTo>
                  <a:pt x="5673188" y="521735"/>
                </a:lnTo>
                <a:lnTo>
                  <a:pt x="5673188" y="516243"/>
                </a:lnTo>
                <a:close/>
                <a:moveTo>
                  <a:pt x="518990" y="513498"/>
                </a:moveTo>
                <a:lnTo>
                  <a:pt x="516244" y="516244"/>
                </a:lnTo>
                <a:lnTo>
                  <a:pt x="524482" y="516244"/>
                </a:lnTo>
                <a:lnTo>
                  <a:pt x="524482" y="513498"/>
                </a:lnTo>
                <a:lnTo>
                  <a:pt x="518990" y="513498"/>
                </a:lnTo>
                <a:close/>
                <a:moveTo>
                  <a:pt x="1510287" y="510752"/>
                </a:moveTo>
                <a:lnTo>
                  <a:pt x="1510287" y="513498"/>
                </a:lnTo>
                <a:lnTo>
                  <a:pt x="1507541" y="513498"/>
                </a:lnTo>
                <a:lnTo>
                  <a:pt x="1507541" y="516244"/>
                </a:lnTo>
                <a:lnTo>
                  <a:pt x="1510287" y="516244"/>
                </a:lnTo>
                <a:lnTo>
                  <a:pt x="1510287" y="518990"/>
                </a:lnTo>
                <a:lnTo>
                  <a:pt x="1513033" y="518990"/>
                </a:lnTo>
                <a:lnTo>
                  <a:pt x="1513033" y="516244"/>
                </a:lnTo>
                <a:lnTo>
                  <a:pt x="1515779" y="516244"/>
                </a:lnTo>
                <a:lnTo>
                  <a:pt x="1515779" y="513498"/>
                </a:lnTo>
                <a:lnTo>
                  <a:pt x="1513033" y="513498"/>
                </a:lnTo>
                <a:lnTo>
                  <a:pt x="1513033" y="510752"/>
                </a:lnTo>
                <a:lnTo>
                  <a:pt x="1510287" y="510752"/>
                </a:lnTo>
                <a:close/>
                <a:moveTo>
                  <a:pt x="5286005" y="508006"/>
                </a:moveTo>
                <a:lnTo>
                  <a:pt x="5288751" y="513497"/>
                </a:lnTo>
                <a:lnTo>
                  <a:pt x="5294243" y="513497"/>
                </a:lnTo>
                <a:lnTo>
                  <a:pt x="5294243" y="508006"/>
                </a:lnTo>
                <a:lnTo>
                  <a:pt x="5288751" y="508006"/>
                </a:lnTo>
                <a:lnTo>
                  <a:pt x="5286005" y="508006"/>
                </a:lnTo>
                <a:close/>
                <a:moveTo>
                  <a:pt x="1254913" y="508006"/>
                </a:moveTo>
                <a:lnTo>
                  <a:pt x="1254913" y="510752"/>
                </a:lnTo>
                <a:lnTo>
                  <a:pt x="1252167" y="513498"/>
                </a:lnTo>
                <a:lnTo>
                  <a:pt x="1252167" y="516244"/>
                </a:lnTo>
                <a:lnTo>
                  <a:pt x="1257659" y="518990"/>
                </a:lnTo>
                <a:lnTo>
                  <a:pt x="1263149" y="518990"/>
                </a:lnTo>
                <a:lnTo>
                  <a:pt x="1263149" y="513498"/>
                </a:lnTo>
                <a:lnTo>
                  <a:pt x="1260404" y="510752"/>
                </a:lnTo>
                <a:lnTo>
                  <a:pt x="1257659" y="508006"/>
                </a:lnTo>
                <a:lnTo>
                  <a:pt x="1254913" y="508006"/>
                </a:lnTo>
                <a:close/>
                <a:moveTo>
                  <a:pt x="5563349" y="505260"/>
                </a:moveTo>
                <a:lnTo>
                  <a:pt x="5560603" y="508006"/>
                </a:lnTo>
                <a:lnTo>
                  <a:pt x="5566095" y="508006"/>
                </a:lnTo>
                <a:lnTo>
                  <a:pt x="5571587" y="508006"/>
                </a:lnTo>
                <a:lnTo>
                  <a:pt x="5571587" y="505260"/>
                </a:lnTo>
                <a:lnTo>
                  <a:pt x="5566095" y="505260"/>
                </a:lnTo>
                <a:lnTo>
                  <a:pt x="5563349" y="505260"/>
                </a:lnTo>
                <a:close/>
                <a:moveTo>
                  <a:pt x="1389464" y="505260"/>
                </a:moveTo>
                <a:lnTo>
                  <a:pt x="1389464" y="513498"/>
                </a:lnTo>
                <a:lnTo>
                  <a:pt x="1392210" y="518990"/>
                </a:lnTo>
                <a:lnTo>
                  <a:pt x="1386718" y="518990"/>
                </a:lnTo>
                <a:lnTo>
                  <a:pt x="1386718" y="524482"/>
                </a:lnTo>
                <a:lnTo>
                  <a:pt x="1394958" y="524482"/>
                </a:lnTo>
                <a:lnTo>
                  <a:pt x="1397703" y="518990"/>
                </a:lnTo>
                <a:lnTo>
                  <a:pt x="1397703" y="513498"/>
                </a:lnTo>
                <a:lnTo>
                  <a:pt x="1394958" y="508006"/>
                </a:lnTo>
                <a:lnTo>
                  <a:pt x="1389464" y="505260"/>
                </a:lnTo>
                <a:close/>
                <a:moveTo>
                  <a:pt x="1452622" y="499768"/>
                </a:moveTo>
                <a:lnTo>
                  <a:pt x="1452622" y="508006"/>
                </a:lnTo>
                <a:lnTo>
                  <a:pt x="1455368" y="505260"/>
                </a:lnTo>
                <a:lnTo>
                  <a:pt x="1458113" y="505260"/>
                </a:lnTo>
                <a:lnTo>
                  <a:pt x="1455368" y="499768"/>
                </a:lnTo>
                <a:lnTo>
                  <a:pt x="1452622" y="499768"/>
                </a:lnTo>
                <a:close/>
                <a:moveTo>
                  <a:pt x="5634744" y="499768"/>
                </a:moveTo>
                <a:lnTo>
                  <a:pt x="5637490" y="502514"/>
                </a:lnTo>
                <a:lnTo>
                  <a:pt x="5642982" y="505260"/>
                </a:lnTo>
                <a:lnTo>
                  <a:pt x="5642982" y="499768"/>
                </a:lnTo>
                <a:lnTo>
                  <a:pt x="5634744" y="499768"/>
                </a:lnTo>
                <a:close/>
                <a:moveTo>
                  <a:pt x="5574333" y="499768"/>
                </a:moveTo>
                <a:lnTo>
                  <a:pt x="5574333" y="505260"/>
                </a:lnTo>
                <a:lnTo>
                  <a:pt x="5579825" y="510752"/>
                </a:lnTo>
                <a:lnTo>
                  <a:pt x="5579825" y="508006"/>
                </a:lnTo>
                <a:lnTo>
                  <a:pt x="5579825" y="505260"/>
                </a:lnTo>
                <a:lnTo>
                  <a:pt x="5577079" y="502514"/>
                </a:lnTo>
                <a:lnTo>
                  <a:pt x="5577079" y="499768"/>
                </a:lnTo>
                <a:lnTo>
                  <a:pt x="5574333" y="499768"/>
                </a:lnTo>
                <a:close/>
                <a:moveTo>
                  <a:pt x="5316211" y="499768"/>
                </a:moveTo>
                <a:lnTo>
                  <a:pt x="5316211" y="505260"/>
                </a:lnTo>
                <a:lnTo>
                  <a:pt x="5321703" y="508006"/>
                </a:lnTo>
                <a:lnTo>
                  <a:pt x="5321703" y="499768"/>
                </a:lnTo>
                <a:lnTo>
                  <a:pt x="5316211" y="499768"/>
                </a:lnTo>
                <a:close/>
                <a:moveTo>
                  <a:pt x="1433400" y="497022"/>
                </a:moveTo>
                <a:lnTo>
                  <a:pt x="1433400" y="502514"/>
                </a:lnTo>
                <a:lnTo>
                  <a:pt x="1441637" y="502514"/>
                </a:lnTo>
                <a:lnTo>
                  <a:pt x="1441637" y="497022"/>
                </a:lnTo>
                <a:lnTo>
                  <a:pt x="1433400" y="497022"/>
                </a:lnTo>
                <a:close/>
                <a:moveTo>
                  <a:pt x="5815979" y="497022"/>
                </a:moveTo>
                <a:lnTo>
                  <a:pt x="5815979" y="499768"/>
                </a:lnTo>
                <a:lnTo>
                  <a:pt x="5821471" y="499768"/>
                </a:lnTo>
                <a:lnTo>
                  <a:pt x="5821471" y="497022"/>
                </a:lnTo>
                <a:lnTo>
                  <a:pt x="5815979" y="497022"/>
                </a:lnTo>
                <a:close/>
                <a:moveTo>
                  <a:pt x="1340038" y="491530"/>
                </a:moveTo>
                <a:lnTo>
                  <a:pt x="1340038" y="499768"/>
                </a:lnTo>
                <a:lnTo>
                  <a:pt x="1342784" y="505260"/>
                </a:lnTo>
                <a:lnTo>
                  <a:pt x="1348275" y="508006"/>
                </a:lnTo>
                <a:lnTo>
                  <a:pt x="1353766" y="508006"/>
                </a:lnTo>
                <a:lnTo>
                  <a:pt x="1356512" y="502514"/>
                </a:lnTo>
                <a:lnTo>
                  <a:pt x="1359260" y="499768"/>
                </a:lnTo>
                <a:lnTo>
                  <a:pt x="1359260" y="505260"/>
                </a:lnTo>
                <a:lnTo>
                  <a:pt x="1362005" y="502514"/>
                </a:lnTo>
                <a:lnTo>
                  <a:pt x="1364751" y="502514"/>
                </a:lnTo>
                <a:lnTo>
                  <a:pt x="1367496" y="502514"/>
                </a:lnTo>
                <a:lnTo>
                  <a:pt x="1367496" y="497022"/>
                </a:lnTo>
                <a:lnTo>
                  <a:pt x="1356512" y="497022"/>
                </a:lnTo>
                <a:lnTo>
                  <a:pt x="1351020" y="491530"/>
                </a:lnTo>
                <a:lnTo>
                  <a:pt x="1345529" y="491530"/>
                </a:lnTo>
                <a:lnTo>
                  <a:pt x="1340038" y="491530"/>
                </a:lnTo>
                <a:close/>
                <a:moveTo>
                  <a:pt x="5829709" y="488784"/>
                </a:moveTo>
                <a:lnTo>
                  <a:pt x="5832455" y="494276"/>
                </a:lnTo>
                <a:lnTo>
                  <a:pt x="5835201" y="497022"/>
                </a:lnTo>
                <a:lnTo>
                  <a:pt x="5835201" y="488784"/>
                </a:lnTo>
                <a:lnTo>
                  <a:pt x="5829709" y="488784"/>
                </a:lnTo>
                <a:close/>
                <a:moveTo>
                  <a:pt x="5568841" y="488784"/>
                </a:moveTo>
                <a:lnTo>
                  <a:pt x="5568841" y="491530"/>
                </a:lnTo>
                <a:lnTo>
                  <a:pt x="5566095" y="491530"/>
                </a:lnTo>
                <a:lnTo>
                  <a:pt x="5566095" y="494276"/>
                </a:lnTo>
                <a:lnTo>
                  <a:pt x="5568841" y="494276"/>
                </a:lnTo>
                <a:lnTo>
                  <a:pt x="5568841" y="497022"/>
                </a:lnTo>
                <a:lnTo>
                  <a:pt x="5571587" y="497022"/>
                </a:lnTo>
                <a:lnTo>
                  <a:pt x="5571587" y="494276"/>
                </a:lnTo>
                <a:lnTo>
                  <a:pt x="5574333" y="494276"/>
                </a:lnTo>
                <a:lnTo>
                  <a:pt x="5574333" y="491530"/>
                </a:lnTo>
                <a:lnTo>
                  <a:pt x="5571587" y="491530"/>
                </a:lnTo>
                <a:lnTo>
                  <a:pt x="5571587" y="488784"/>
                </a:lnTo>
                <a:lnTo>
                  <a:pt x="5568841" y="488784"/>
                </a:lnTo>
                <a:close/>
                <a:moveTo>
                  <a:pt x="1485574" y="486038"/>
                </a:moveTo>
                <a:lnTo>
                  <a:pt x="1485574" y="488784"/>
                </a:lnTo>
                <a:lnTo>
                  <a:pt x="1488320" y="491530"/>
                </a:lnTo>
                <a:lnTo>
                  <a:pt x="1496557" y="491530"/>
                </a:lnTo>
                <a:lnTo>
                  <a:pt x="1496557" y="486038"/>
                </a:lnTo>
                <a:lnTo>
                  <a:pt x="1485574" y="486038"/>
                </a:lnTo>
                <a:close/>
                <a:moveTo>
                  <a:pt x="1274134" y="486038"/>
                </a:moveTo>
                <a:lnTo>
                  <a:pt x="1274134" y="488784"/>
                </a:lnTo>
                <a:lnTo>
                  <a:pt x="1279625" y="491530"/>
                </a:lnTo>
                <a:lnTo>
                  <a:pt x="1282371" y="488784"/>
                </a:lnTo>
                <a:lnTo>
                  <a:pt x="1282371" y="486038"/>
                </a:lnTo>
                <a:lnTo>
                  <a:pt x="1276880" y="486038"/>
                </a:lnTo>
                <a:lnTo>
                  <a:pt x="1274134" y="486038"/>
                </a:lnTo>
                <a:close/>
                <a:moveTo>
                  <a:pt x="5774789" y="486038"/>
                </a:moveTo>
                <a:lnTo>
                  <a:pt x="5774789" y="488784"/>
                </a:lnTo>
                <a:lnTo>
                  <a:pt x="5772043" y="491530"/>
                </a:lnTo>
                <a:lnTo>
                  <a:pt x="5772043" y="494276"/>
                </a:lnTo>
                <a:lnTo>
                  <a:pt x="5777535" y="491530"/>
                </a:lnTo>
                <a:lnTo>
                  <a:pt x="5780281" y="488784"/>
                </a:lnTo>
                <a:lnTo>
                  <a:pt x="5777535" y="488784"/>
                </a:lnTo>
                <a:lnTo>
                  <a:pt x="5777535" y="486038"/>
                </a:lnTo>
                <a:lnTo>
                  <a:pt x="5774789" y="486038"/>
                </a:lnTo>
                <a:close/>
                <a:moveTo>
                  <a:pt x="5582571" y="486038"/>
                </a:moveTo>
                <a:lnTo>
                  <a:pt x="5582571" y="499768"/>
                </a:lnTo>
                <a:lnTo>
                  <a:pt x="5585317" y="499768"/>
                </a:lnTo>
                <a:lnTo>
                  <a:pt x="5585317" y="497022"/>
                </a:lnTo>
                <a:lnTo>
                  <a:pt x="5588063" y="497022"/>
                </a:lnTo>
                <a:lnTo>
                  <a:pt x="5585317" y="494276"/>
                </a:lnTo>
                <a:lnTo>
                  <a:pt x="5588063" y="486038"/>
                </a:lnTo>
                <a:lnTo>
                  <a:pt x="5582571" y="486038"/>
                </a:lnTo>
                <a:close/>
                <a:moveTo>
                  <a:pt x="1554223" y="480546"/>
                </a:moveTo>
                <a:lnTo>
                  <a:pt x="1545985" y="483292"/>
                </a:lnTo>
                <a:lnTo>
                  <a:pt x="1545985" y="488784"/>
                </a:lnTo>
                <a:lnTo>
                  <a:pt x="1551477" y="486038"/>
                </a:lnTo>
                <a:lnTo>
                  <a:pt x="1554223" y="480546"/>
                </a:lnTo>
                <a:close/>
                <a:moveTo>
                  <a:pt x="1515779" y="480546"/>
                </a:moveTo>
                <a:lnTo>
                  <a:pt x="1515779" y="486038"/>
                </a:lnTo>
                <a:lnTo>
                  <a:pt x="1515779" y="491530"/>
                </a:lnTo>
                <a:lnTo>
                  <a:pt x="1518526" y="494276"/>
                </a:lnTo>
                <a:lnTo>
                  <a:pt x="1515779" y="497022"/>
                </a:lnTo>
                <a:lnTo>
                  <a:pt x="1518526" y="499768"/>
                </a:lnTo>
                <a:lnTo>
                  <a:pt x="1521272" y="499768"/>
                </a:lnTo>
                <a:lnTo>
                  <a:pt x="1529509" y="497022"/>
                </a:lnTo>
                <a:lnTo>
                  <a:pt x="1529509" y="502514"/>
                </a:lnTo>
                <a:lnTo>
                  <a:pt x="1532255" y="505260"/>
                </a:lnTo>
                <a:lnTo>
                  <a:pt x="1535002" y="508006"/>
                </a:lnTo>
                <a:lnTo>
                  <a:pt x="1532255" y="510752"/>
                </a:lnTo>
                <a:lnTo>
                  <a:pt x="1535002" y="510752"/>
                </a:lnTo>
                <a:lnTo>
                  <a:pt x="1535002" y="513498"/>
                </a:lnTo>
                <a:lnTo>
                  <a:pt x="1535002" y="516244"/>
                </a:lnTo>
                <a:lnTo>
                  <a:pt x="1540493" y="516244"/>
                </a:lnTo>
                <a:lnTo>
                  <a:pt x="1543239" y="518990"/>
                </a:lnTo>
                <a:lnTo>
                  <a:pt x="1554223" y="524482"/>
                </a:lnTo>
                <a:lnTo>
                  <a:pt x="1551477" y="518990"/>
                </a:lnTo>
                <a:lnTo>
                  <a:pt x="1545985" y="516244"/>
                </a:lnTo>
                <a:lnTo>
                  <a:pt x="1543239" y="510752"/>
                </a:lnTo>
                <a:lnTo>
                  <a:pt x="1540493" y="505260"/>
                </a:lnTo>
                <a:lnTo>
                  <a:pt x="1543239" y="505260"/>
                </a:lnTo>
                <a:lnTo>
                  <a:pt x="1543239" y="499768"/>
                </a:lnTo>
                <a:lnTo>
                  <a:pt x="1540493" y="494276"/>
                </a:lnTo>
                <a:lnTo>
                  <a:pt x="1526763" y="494276"/>
                </a:lnTo>
                <a:lnTo>
                  <a:pt x="1526763" y="488784"/>
                </a:lnTo>
                <a:lnTo>
                  <a:pt x="1524017" y="480546"/>
                </a:lnTo>
                <a:lnTo>
                  <a:pt x="1515779" y="480546"/>
                </a:lnTo>
                <a:close/>
                <a:moveTo>
                  <a:pt x="1408686" y="477800"/>
                </a:moveTo>
                <a:lnTo>
                  <a:pt x="1403194" y="480546"/>
                </a:lnTo>
                <a:lnTo>
                  <a:pt x="1400448" y="483292"/>
                </a:lnTo>
                <a:lnTo>
                  <a:pt x="1403194" y="486038"/>
                </a:lnTo>
                <a:lnTo>
                  <a:pt x="1408686" y="486038"/>
                </a:lnTo>
                <a:lnTo>
                  <a:pt x="1408686" y="477800"/>
                </a:lnTo>
                <a:close/>
                <a:moveTo>
                  <a:pt x="422880" y="477800"/>
                </a:moveTo>
                <a:lnTo>
                  <a:pt x="395421" y="483292"/>
                </a:lnTo>
                <a:lnTo>
                  <a:pt x="381691" y="486038"/>
                </a:lnTo>
                <a:lnTo>
                  <a:pt x="365215" y="486038"/>
                </a:lnTo>
                <a:lnTo>
                  <a:pt x="370707" y="491530"/>
                </a:lnTo>
                <a:lnTo>
                  <a:pt x="376199" y="494276"/>
                </a:lnTo>
                <a:lnTo>
                  <a:pt x="387183" y="494276"/>
                </a:lnTo>
                <a:lnTo>
                  <a:pt x="395421" y="491530"/>
                </a:lnTo>
                <a:lnTo>
                  <a:pt x="411897" y="486038"/>
                </a:lnTo>
                <a:lnTo>
                  <a:pt x="420134" y="483292"/>
                </a:lnTo>
                <a:lnTo>
                  <a:pt x="422880" y="477800"/>
                </a:lnTo>
                <a:close/>
                <a:moveTo>
                  <a:pt x="5697902" y="475054"/>
                </a:moveTo>
                <a:lnTo>
                  <a:pt x="5697902" y="483292"/>
                </a:lnTo>
                <a:lnTo>
                  <a:pt x="5703394" y="486038"/>
                </a:lnTo>
                <a:lnTo>
                  <a:pt x="5706140" y="483292"/>
                </a:lnTo>
                <a:lnTo>
                  <a:pt x="5706140" y="480546"/>
                </a:lnTo>
                <a:lnTo>
                  <a:pt x="5703394" y="480546"/>
                </a:lnTo>
                <a:lnTo>
                  <a:pt x="5700648" y="477800"/>
                </a:lnTo>
                <a:lnTo>
                  <a:pt x="5700648" y="475054"/>
                </a:lnTo>
                <a:lnTo>
                  <a:pt x="5697902" y="475054"/>
                </a:lnTo>
                <a:close/>
                <a:moveTo>
                  <a:pt x="1386718" y="475054"/>
                </a:moveTo>
                <a:lnTo>
                  <a:pt x="1386718" y="477800"/>
                </a:lnTo>
                <a:lnTo>
                  <a:pt x="1381227" y="477800"/>
                </a:lnTo>
                <a:lnTo>
                  <a:pt x="1381227" y="480546"/>
                </a:lnTo>
                <a:lnTo>
                  <a:pt x="1392210" y="480546"/>
                </a:lnTo>
                <a:lnTo>
                  <a:pt x="1394958" y="475054"/>
                </a:lnTo>
                <a:lnTo>
                  <a:pt x="1389464" y="475054"/>
                </a:lnTo>
                <a:lnTo>
                  <a:pt x="1386718" y="475054"/>
                </a:lnTo>
                <a:close/>
                <a:moveTo>
                  <a:pt x="475054" y="475054"/>
                </a:moveTo>
                <a:lnTo>
                  <a:pt x="461324" y="477800"/>
                </a:lnTo>
                <a:lnTo>
                  <a:pt x="458578" y="480546"/>
                </a:lnTo>
                <a:lnTo>
                  <a:pt x="458578" y="486038"/>
                </a:lnTo>
                <a:lnTo>
                  <a:pt x="469562" y="483292"/>
                </a:lnTo>
                <a:lnTo>
                  <a:pt x="477800" y="483292"/>
                </a:lnTo>
                <a:lnTo>
                  <a:pt x="486038" y="480546"/>
                </a:lnTo>
                <a:lnTo>
                  <a:pt x="497022" y="480546"/>
                </a:lnTo>
                <a:lnTo>
                  <a:pt x="499768" y="483292"/>
                </a:lnTo>
                <a:lnTo>
                  <a:pt x="499768" y="486038"/>
                </a:lnTo>
                <a:lnTo>
                  <a:pt x="505260" y="483292"/>
                </a:lnTo>
                <a:lnTo>
                  <a:pt x="505260" y="480546"/>
                </a:lnTo>
                <a:lnTo>
                  <a:pt x="497022" y="480546"/>
                </a:lnTo>
                <a:lnTo>
                  <a:pt x="488784" y="477800"/>
                </a:lnTo>
                <a:lnTo>
                  <a:pt x="475054" y="475054"/>
                </a:lnTo>
                <a:close/>
                <a:moveTo>
                  <a:pt x="5590809" y="472308"/>
                </a:moveTo>
                <a:lnTo>
                  <a:pt x="5588063" y="477800"/>
                </a:lnTo>
                <a:lnTo>
                  <a:pt x="5599047" y="477800"/>
                </a:lnTo>
                <a:lnTo>
                  <a:pt x="5599047" y="472308"/>
                </a:lnTo>
                <a:lnTo>
                  <a:pt x="5590809" y="472308"/>
                </a:lnTo>
                <a:close/>
                <a:moveTo>
                  <a:pt x="1526763" y="469562"/>
                </a:moveTo>
                <a:lnTo>
                  <a:pt x="1526763" y="472308"/>
                </a:lnTo>
                <a:lnTo>
                  <a:pt x="1524017" y="477800"/>
                </a:lnTo>
                <a:lnTo>
                  <a:pt x="1532255" y="477800"/>
                </a:lnTo>
                <a:lnTo>
                  <a:pt x="1532255" y="472308"/>
                </a:lnTo>
                <a:lnTo>
                  <a:pt x="1526763" y="469562"/>
                </a:lnTo>
                <a:close/>
                <a:moveTo>
                  <a:pt x="1496557" y="466816"/>
                </a:moveTo>
                <a:lnTo>
                  <a:pt x="1496557" y="477800"/>
                </a:lnTo>
                <a:lnTo>
                  <a:pt x="1504796" y="475054"/>
                </a:lnTo>
                <a:lnTo>
                  <a:pt x="1510287" y="472308"/>
                </a:lnTo>
                <a:lnTo>
                  <a:pt x="1510287" y="469562"/>
                </a:lnTo>
                <a:lnTo>
                  <a:pt x="1504796" y="466816"/>
                </a:lnTo>
                <a:lnTo>
                  <a:pt x="1496557" y="466816"/>
                </a:lnTo>
                <a:close/>
                <a:moveTo>
                  <a:pt x="5651220" y="466816"/>
                </a:moveTo>
                <a:lnTo>
                  <a:pt x="5653966" y="472308"/>
                </a:lnTo>
                <a:lnTo>
                  <a:pt x="5653966" y="475054"/>
                </a:lnTo>
                <a:lnTo>
                  <a:pt x="5659458" y="475054"/>
                </a:lnTo>
                <a:lnTo>
                  <a:pt x="5656712" y="466816"/>
                </a:lnTo>
                <a:lnTo>
                  <a:pt x="5651220" y="466816"/>
                </a:lnTo>
                <a:close/>
                <a:moveTo>
                  <a:pt x="1364751" y="464070"/>
                </a:moveTo>
                <a:lnTo>
                  <a:pt x="1362005" y="472308"/>
                </a:lnTo>
                <a:lnTo>
                  <a:pt x="1364751" y="480546"/>
                </a:lnTo>
                <a:lnTo>
                  <a:pt x="1370242" y="480546"/>
                </a:lnTo>
                <a:lnTo>
                  <a:pt x="1370242" y="475054"/>
                </a:lnTo>
                <a:lnTo>
                  <a:pt x="1372988" y="472308"/>
                </a:lnTo>
                <a:lnTo>
                  <a:pt x="1375736" y="464070"/>
                </a:lnTo>
                <a:lnTo>
                  <a:pt x="1370242" y="464070"/>
                </a:lnTo>
                <a:lnTo>
                  <a:pt x="1364751" y="464070"/>
                </a:lnTo>
                <a:close/>
                <a:moveTo>
                  <a:pt x="5741837" y="461324"/>
                </a:moveTo>
                <a:lnTo>
                  <a:pt x="5741837" y="466816"/>
                </a:lnTo>
                <a:lnTo>
                  <a:pt x="5744583" y="464070"/>
                </a:lnTo>
                <a:lnTo>
                  <a:pt x="5747329" y="461324"/>
                </a:lnTo>
                <a:lnTo>
                  <a:pt x="5741837" y="461324"/>
                </a:lnTo>
                <a:close/>
                <a:moveTo>
                  <a:pt x="1367496" y="453086"/>
                </a:moveTo>
                <a:lnTo>
                  <a:pt x="1367496" y="455832"/>
                </a:lnTo>
                <a:lnTo>
                  <a:pt x="1370242" y="455832"/>
                </a:lnTo>
                <a:lnTo>
                  <a:pt x="1372988" y="458578"/>
                </a:lnTo>
                <a:lnTo>
                  <a:pt x="1375736" y="461324"/>
                </a:lnTo>
                <a:lnTo>
                  <a:pt x="1375736" y="455832"/>
                </a:lnTo>
                <a:lnTo>
                  <a:pt x="1372988" y="455832"/>
                </a:lnTo>
                <a:lnTo>
                  <a:pt x="1372988" y="453086"/>
                </a:lnTo>
                <a:lnTo>
                  <a:pt x="1367496" y="453086"/>
                </a:lnTo>
                <a:close/>
                <a:moveTo>
                  <a:pt x="1521272" y="450340"/>
                </a:moveTo>
                <a:lnTo>
                  <a:pt x="1515779" y="453086"/>
                </a:lnTo>
                <a:lnTo>
                  <a:pt x="1513033" y="455832"/>
                </a:lnTo>
                <a:lnTo>
                  <a:pt x="1518526" y="458578"/>
                </a:lnTo>
                <a:lnTo>
                  <a:pt x="1526763" y="461324"/>
                </a:lnTo>
                <a:lnTo>
                  <a:pt x="1524017" y="461324"/>
                </a:lnTo>
                <a:lnTo>
                  <a:pt x="1524017" y="464070"/>
                </a:lnTo>
                <a:lnTo>
                  <a:pt x="1529509" y="464070"/>
                </a:lnTo>
                <a:lnTo>
                  <a:pt x="1526763" y="461324"/>
                </a:lnTo>
                <a:lnTo>
                  <a:pt x="1529509" y="455832"/>
                </a:lnTo>
                <a:lnTo>
                  <a:pt x="1529509" y="453086"/>
                </a:lnTo>
                <a:lnTo>
                  <a:pt x="1524017" y="450340"/>
                </a:lnTo>
                <a:lnTo>
                  <a:pt x="1521272" y="450340"/>
                </a:lnTo>
                <a:close/>
                <a:moveTo>
                  <a:pt x="1416924" y="450340"/>
                </a:moveTo>
                <a:lnTo>
                  <a:pt x="1414179" y="453086"/>
                </a:lnTo>
                <a:lnTo>
                  <a:pt x="1419670" y="455832"/>
                </a:lnTo>
                <a:lnTo>
                  <a:pt x="1425162" y="455832"/>
                </a:lnTo>
                <a:lnTo>
                  <a:pt x="1425162" y="450340"/>
                </a:lnTo>
                <a:lnTo>
                  <a:pt x="1416924" y="450340"/>
                </a:lnTo>
                <a:close/>
                <a:moveTo>
                  <a:pt x="1469098" y="447594"/>
                </a:moveTo>
                <a:lnTo>
                  <a:pt x="1469098" y="450340"/>
                </a:lnTo>
                <a:lnTo>
                  <a:pt x="1466353" y="450340"/>
                </a:lnTo>
                <a:lnTo>
                  <a:pt x="1469098" y="453086"/>
                </a:lnTo>
                <a:lnTo>
                  <a:pt x="1469098" y="455832"/>
                </a:lnTo>
                <a:lnTo>
                  <a:pt x="1466353" y="455832"/>
                </a:lnTo>
                <a:lnTo>
                  <a:pt x="1463606" y="455832"/>
                </a:lnTo>
                <a:lnTo>
                  <a:pt x="1463606" y="461324"/>
                </a:lnTo>
                <a:lnTo>
                  <a:pt x="1466353" y="461324"/>
                </a:lnTo>
                <a:lnTo>
                  <a:pt x="1469098" y="461324"/>
                </a:lnTo>
                <a:lnTo>
                  <a:pt x="1469098" y="464070"/>
                </a:lnTo>
                <a:lnTo>
                  <a:pt x="1471844" y="464070"/>
                </a:lnTo>
                <a:lnTo>
                  <a:pt x="1471844" y="458578"/>
                </a:lnTo>
                <a:lnTo>
                  <a:pt x="1469098" y="453086"/>
                </a:lnTo>
                <a:lnTo>
                  <a:pt x="1474589" y="453086"/>
                </a:lnTo>
                <a:lnTo>
                  <a:pt x="1474589" y="450340"/>
                </a:lnTo>
                <a:lnTo>
                  <a:pt x="1469098" y="447594"/>
                </a:lnTo>
                <a:close/>
                <a:moveTo>
                  <a:pt x="1301593" y="444848"/>
                </a:moveTo>
                <a:lnTo>
                  <a:pt x="1301593" y="447594"/>
                </a:lnTo>
                <a:lnTo>
                  <a:pt x="1298847" y="447594"/>
                </a:lnTo>
                <a:lnTo>
                  <a:pt x="1290611" y="447594"/>
                </a:lnTo>
                <a:lnTo>
                  <a:pt x="1293356" y="453086"/>
                </a:lnTo>
                <a:lnTo>
                  <a:pt x="1296101" y="453086"/>
                </a:lnTo>
                <a:lnTo>
                  <a:pt x="1298847" y="453086"/>
                </a:lnTo>
                <a:lnTo>
                  <a:pt x="1298847" y="450340"/>
                </a:lnTo>
                <a:lnTo>
                  <a:pt x="1301593" y="453086"/>
                </a:lnTo>
                <a:lnTo>
                  <a:pt x="1304341" y="453086"/>
                </a:lnTo>
                <a:lnTo>
                  <a:pt x="1307086" y="453086"/>
                </a:lnTo>
                <a:lnTo>
                  <a:pt x="1309832" y="450340"/>
                </a:lnTo>
                <a:lnTo>
                  <a:pt x="1309832" y="444848"/>
                </a:lnTo>
                <a:lnTo>
                  <a:pt x="1301593" y="444848"/>
                </a:lnTo>
                <a:close/>
                <a:moveTo>
                  <a:pt x="1449877" y="442102"/>
                </a:moveTo>
                <a:lnTo>
                  <a:pt x="1444383" y="444848"/>
                </a:lnTo>
                <a:lnTo>
                  <a:pt x="1444383" y="450340"/>
                </a:lnTo>
                <a:lnTo>
                  <a:pt x="1444383" y="455832"/>
                </a:lnTo>
                <a:lnTo>
                  <a:pt x="1447130" y="461324"/>
                </a:lnTo>
                <a:lnTo>
                  <a:pt x="1436146" y="461324"/>
                </a:lnTo>
                <a:lnTo>
                  <a:pt x="1436146" y="464070"/>
                </a:lnTo>
                <a:lnTo>
                  <a:pt x="1438891" y="469562"/>
                </a:lnTo>
                <a:lnTo>
                  <a:pt x="1441637" y="472308"/>
                </a:lnTo>
                <a:lnTo>
                  <a:pt x="1441637" y="480546"/>
                </a:lnTo>
                <a:lnTo>
                  <a:pt x="1447130" y="486038"/>
                </a:lnTo>
                <a:lnTo>
                  <a:pt x="1452622" y="486038"/>
                </a:lnTo>
                <a:lnTo>
                  <a:pt x="1455368" y="491530"/>
                </a:lnTo>
                <a:lnTo>
                  <a:pt x="1463606" y="486038"/>
                </a:lnTo>
                <a:lnTo>
                  <a:pt x="1469098" y="477800"/>
                </a:lnTo>
                <a:lnTo>
                  <a:pt x="1463606" y="477800"/>
                </a:lnTo>
                <a:lnTo>
                  <a:pt x="1463606" y="475054"/>
                </a:lnTo>
                <a:lnTo>
                  <a:pt x="1460859" y="469562"/>
                </a:lnTo>
                <a:lnTo>
                  <a:pt x="1452622" y="469562"/>
                </a:lnTo>
                <a:lnTo>
                  <a:pt x="1447130" y="469562"/>
                </a:lnTo>
                <a:lnTo>
                  <a:pt x="1447130" y="464070"/>
                </a:lnTo>
                <a:lnTo>
                  <a:pt x="1449877" y="461324"/>
                </a:lnTo>
                <a:lnTo>
                  <a:pt x="1458113" y="458578"/>
                </a:lnTo>
                <a:lnTo>
                  <a:pt x="1455368" y="447594"/>
                </a:lnTo>
                <a:lnTo>
                  <a:pt x="1449877" y="442102"/>
                </a:lnTo>
                <a:close/>
                <a:moveTo>
                  <a:pt x="1532255" y="439356"/>
                </a:moveTo>
                <a:lnTo>
                  <a:pt x="1532255" y="442102"/>
                </a:lnTo>
                <a:lnTo>
                  <a:pt x="1537748" y="442102"/>
                </a:lnTo>
                <a:lnTo>
                  <a:pt x="1540493" y="444848"/>
                </a:lnTo>
                <a:lnTo>
                  <a:pt x="1540493" y="442102"/>
                </a:lnTo>
                <a:lnTo>
                  <a:pt x="1543239" y="442102"/>
                </a:lnTo>
                <a:lnTo>
                  <a:pt x="1543239" y="439356"/>
                </a:lnTo>
                <a:lnTo>
                  <a:pt x="1535002" y="439356"/>
                </a:lnTo>
                <a:lnTo>
                  <a:pt x="1532255" y="439356"/>
                </a:lnTo>
                <a:close/>
                <a:moveTo>
                  <a:pt x="1419670" y="433864"/>
                </a:moveTo>
                <a:lnTo>
                  <a:pt x="1414179" y="436610"/>
                </a:lnTo>
                <a:lnTo>
                  <a:pt x="1414179" y="444848"/>
                </a:lnTo>
                <a:lnTo>
                  <a:pt x="1425162" y="444848"/>
                </a:lnTo>
                <a:lnTo>
                  <a:pt x="1427907" y="439356"/>
                </a:lnTo>
                <a:lnTo>
                  <a:pt x="1427907" y="436610"/>
                </a:lnTo>
                <a:lnTo>
                  <a:pt x="1427907" y="433864"/>
                </a:lnTo>
                <a:lnTo>
                  <a:pt x="1419670" y="433864"/>
                </a:lnTo>
                <a:close/>
                <a:moveTo>
                  <a:pt x="1392210" y="433864"/>
                </a:moveTo>
                <a:lnTo>
                  <a:pt x="1392210" y="442102"/>
                </a:lnTo>
                <a:lnTo>
                  <a:pt x="1400448" y="442102"/>
                </a:lnTo>
                <a:lnTo>
                  <a:pt x="1400448" y="439356"/>
                </a:lnTo>
                <a:lnTo>
                  <a:pt x="1403194" y="436610"/>
                </a:lnTo>
                <a:lnTo>
                  <a:pt x="1403194" y="433864"/>
                </a:lnTo>
                <a:lnTo>
                  <a:pt x="1397703" y="433864"/>
                </a:lnTo>
                <a:lnTo>
                  <a:pt x="1394958" y="436610"/>
                </a:lnTo>
                <a:lnTo>
                  <a:pt x="1392210" y="433864"/>
                </a:lnTo>
                <a:close/>
                <a:moveTo>
                  <a:pt x="6134512" y="431118"/>
                </a:moveTo>
                <a:lnTo>
                  <a:pt x="6134512" y="436610"/>
                </a:lnTo>
                <a:lnTo>
                  <a:pt x="6129020" y="436610"/>
                </a:lnTo>
                <a:lnTo>
                  <a:pt x="6129020" y="439356"/>
                </a:lnTo>
                <a:lnTo>
                  <a:pt x="6137258" y="439356"/>
                </a:lnTo>
                <a:lnTo>
                  <a:pt x="6140004" y="436610"/>
                </a:lnTo>
                <a:lnTo>
                  <a:pt x="6140004" y="433864"/>
                </a:lnTo>
                <a:lnTo>
                  <a:pt x="6137258" y="433864"/>
                </a:lnTo>
                <a:lnTo>
                  <a:pt x="6134512" y="431118"/>
                </a:lnTo>
                <a:close/>
                <a:moveTo>
                  <a:pt x="1471844" y="428372"/>
                </a:moveTo>
                <a:lnTo>
                  <a:pt x="1471844" y="431118"/>
                </a:lnTo>
                <a:lnTo>
                  <a:pt x="1471844" y="433864"/>
                </a:lnTo>
                <a:lnTo>
                  <a:pt x="1469098" y="433864"/>
                </a:lnTo>
                <a:lnTo>
                  <a:pt x="1471844" y="428372"/>
                </a:lnTo>
                <a:close/>
                <a:moveTo>
                  <a:pt x="197710" y="428372"/>
                </a:moveTo>
                <a:lnTo>
                  <a:pt x="186726" y="433864"/>
                </a:lnTo>
                <a:lnTo>
                  <a:pt x="175743" y="439356"/>
                </a:lnTo>
                <a:lnTo>
                  <a:pt x="162012" y="442102"/>
                </a:lnTo>
                <a:lnTo>
                  <a:pt x="145537" y="442102"/>
                </a:lnTo>
                <a:lnTo>
                  <a:pt x="115331" y="439356"/>
                </a:lnTo>
                <a:lnTo>
                  <a:pt x="96109" y="442102"/>
                </a:lnTo>
                <a:lnTo>
                  <a:pt x="71395" y="447594"/>
                </a:lnTo>
                <a:lnTo>
                  <a:pt x="21968" y="466816"/>
                </a:lnTo>
                <a:lnTo>
                  <a:pt x="0" y="447594"/>
                </a:lnTo>
                <a:lnTo>
                  <a:pt x="197710" y="428372"/>
                </a:lnTo>
                <a:close/>
                <a:moveTo>
                  <a:pt x="6161972" y="428372"/>
                </a:moveTo>
                <a:lnTo>
                  <a:pt x="6161972" y="431118"/>
                </a:lnTo>
                <a:lnTo>
                  <a:pt x="6159226" y="433864"/>
                </a:lnTo>
                <a:lnTo>
                  <a:pt x="6161972" y="433864"/>
                </a:lnTo>
                <a:lnTo>
                  <a:pt x="6167464" y="431118"/>
                </a:lnTo>
                <a:lnTo>
                  <a:pt x="6167464" y="428372"/>
                </a:lnTo>
                <a:lnTo>
                  <a:pt x="6161972" y="428372"/>
                </a:lnTo>
                <a:close/>
                <a:moveTo>
                  <a:pt x="1507541" y="425626"/>
                </a:moveTo>
                <a:lnTo>
                  <a:pt x="1507541" y="431118"/>
                </a:lnTo>
                <a:lnTo>
                  <a:pt x="1515779" y="431118"/>
                </a:lnTo>
                <a:lnTo>
                  <a:pt x="1513033" y="428372"/>
                </a:lnTo>
                <a:lnTo>
                  <a:pt x="1507541" y="425626"/>
                </a:lnTo>
                <a:close/>
                <a:moveTo>
                  <a:pt x="1496557" y="425626"/>
                </a:moveTo>
                <a:lnTo>
                  <a:pt x="1491065" y="428372"/>
                </a:lnTo>
                <a:lnTo>
                  <a:pt x="1488320" y="431118"/>
                </a:lnTo>
                <a:lnTo>
                  <a:pt x="1496557" y="431118"/>
                </a:lnTo>
                <a:lnTo>
                  <a:pt x="1496557" y="425626"/>
                </a:lnTo>
                <a:close/>
                <a:moveTo>
                  <a:pt x="304803" y="425626"/>
                </a:moveTo>
                <a:lnTo>
                  <a:pt x="299311" y="428372"/>
                </a:lnTo>
                <a:lnTo>
                  <a:pt x="296565" y="431118"/>
                </a:lnTo>
                <a:lnTo>
                  <a:pt x="293820" y="436610"/>
                </a:lnTo>
                <a:lnTo>
                  <a:pt x="299311" y="436610"/>
                </a:lnTo>
                <a:lnTo>
                  <a:pt x="302057" y="439356"/>
                </a:lnTo>
                <a:lnTo>
                  <a:pt x="307549" y="444848"/>
                </a:lnTo>
                <a:lnTo>
                  <a:pt x="310295" y="439356"/>
                </a:lnTo>
                <a:lnTo>
                  <a:pt x="313041" y="433864"/>
                </a:lnTo>
                <a:lnTo>
                  <a:pt x="310295" y="431118"/>
                </a:lnTo>
                <a:lnTo>
                  <a:pt x="307549" y="428372"/>
                </a:lnTo>
                <a:lnTo>
                  <a:pt x="304803" y="425626"/>
                </a:lnTo>
                <a:close/>
                <a:moveTo>
                  <a:pt x="6450300" y="425626"/>
                </a:moveTo>
                <a:lnTo>
                  <a:pt x="6450300" y="428372"/>
                </a:lnTo>
                <a:lnTo>
                  <a:pt x="6453046" y="431118"/>
                </a:lnTo>
                <a:lnTo>
                  <a:pt x="6458538" y="431118"/>
                </a:lnTo>
                <a:lnTo>
                  <a:pt x="6458538" y="428372"/>
                </a:lnTo>
                <a:lnTo>
                  <a:pt x="6453046" y="425626"/>
                </a:lnTo>
                <a:lnTo>
                  <a:pt x="6450300" y="425626"/>
                </a:lnTo>
                <a:close/>
                <a:moveTo>
                  <a:pt x="6307509" y="422880"/>
                </a:moveTo>
                <a:lnTo>
                  <a:pt x="6307509" y="428372"/>
                </a:lnTo>
                <a:lnTo>
                  <a:pt x="6313001" y="428372"/>
                </a:lnTo>
                <a:lnTo>
                  <a:pt x="6313001" y="422880"/>
                </a:lnTo>
                <a:lnTo>
                  <a:pt x="6307509" y="422880"/>
                </a:lnTo>
                <a:close/>
                <a:moveTo>
                  <a:pt x="6200416" y="422880"/>
                </a:moveTo>
                <a:lnTo>
                  <a:pt x="6200416" y="428372"/>
                </a:lnTo>
                <a:lnTo>
                  <a:pt x="6208654" y="428372"/>
                </a:lnTo>
                <a:lnTo>
                  <a:pt x="6208654" y="431118"/>
                </a:lnTo>
                <a:lnTo>
                  <a:pt x="6211400" y="433864"/>
                </a:lnTo>
                <a:lnTo>
                  <a:pt x="6208654" y="436610"/>
                </a:lnTo>
                <a:lnTo>
                  <a:pt x="6208654" y="439356"/>
                </a:lnTo>
                <a:lnTo>
                  <a:pt x="6214146" y="433864"/>
                </a:lnTo>
                <a:lnTo>
                  <a:pt x="6216892" y="428372"/>
                </a:lnTo>
                <a:lnTo>
                  <a:pt x="6214146" y="425626"/>
                </a:lnTo>
                <a:lnTo>
                  <a:pt x="6211400" y="425626"/>
                </a:lnTo>
                <a:lnTo>
                  <a:pt x="6208654" y="425626"/>
                </a:lnTo>
                <a:lnTo>
                  <a:pt x="6208654" y="422880"/>
                </a:lnTo>
                <a:lnTo>
                  <a:pt x="6205908" y="425626"/>
                </a:lnTo>
                <a:lnTo>
                  <a:pt x="6200416" y="422880"/>
                </a:lnTo>
                <a:close/>
                <a:moveTo>
                  <a:pt x="6156480" y="420134"/>
                </a:moveTo>
                <a:lnTo>
                  <a:pt x="6153734" y="422880"/>
                </a:lnTo>
                <a:lnTo>
                  <a:pt x="6156480" y="425626"/>
                </a:lnTo>
                <a:lnTo>
                  <a:pt x="6159226" y="428372"/>
                </a:lnTo>
                <a:lnTo>
                  <a:pt x="6159226" y="420134"/>
                </a:lnTo>
                <a:lnTo>
                  <a:pt x="6156480" y="420134"/>
                </a:lnTo>
                <a:close/>
                <a:moveTo>
                  <a:pt x="6189432" y="417388"/>
                </a:moveTo>
                <a:lnTo>
                  <a:pt x="6186686" y="420134"/>
                </a:lnTo>
                <a:lnTo>
                  <a:pt x="6186686" y="428372"/>
                </a:lnTo>
                <a:lnTo>
                  <a:pt x="6189432" y="428372"/>
                </a:lnTo>
                <a:lnTo>
                  <a:pt x="6192178" y="425626"/>
                </a:lnTo>
                <a:lnTo>
                  <a:pt x="6192178" y="420134"/>
                </a:lnTo>
                <a:lnTo>
                  <a:pt x="6194924" y="417388"/>
                </a:lnTo>
                <a:lnTo>
                  <a:pt x="6192178" y="417388"/>
                </a:lnTo>
                <a:lnTo>
                  <a:pt x="6189432" y="417388"/>
                </a:lnTo>
                <a:close/>
                <a:moveTo>
                  <a:pt x="1460859" y="417388"/>
                </a:moveTo>
                <a:lnTo>
                  <a:pt x="1452622" y="420134"/>
                </a:lnTo>
                <a:lnTo>
                  <a:pt x="1452622" y="422880"/>
                </a:lnTo>
                <a:lnTo>
                  <a:pt x="1455368" y="425626"/>
                </a:lnTo>
                <a:lnTo>
                  <a:pt x="1455368" y="428372"/>
                </a:lnTo>
                <a:lnTo>
                  <a:pt x="1455368" y="433864"/>
                </a:lnTo>
                <a:lnTo>
                  <a:pt x="1466353" y="436610"/>
                </a:lnTo>
                <a:lnTo>
                  <a:pt x="1480081" y="436610"/>
                </a:lnTo>
                <a:lnTo>
                  <a:pt x="1477335" y="431118"/>
                </a:lnTo>
                <a:lnTo>
                  <a:pt x="1477335" y="428372"/>
                </a:lnTo>
                <a:lnTo>
                  <a:pt x="1474589" y="428372"/>
                </a:lnTo>
                <a:lnTo>
                  <a:pt x="1471844" y="428372"/>
                </a:lnTo>
                <a:lnTo>
                  <a:pt x="1474589" y="425626"/>
                </a:lnTo>
                <a:lnTo>
                  <a:pt x="1471844" y="422880"/>
                </a:lnTo>
                <a:lnTo>
                  <a:pt x="1471844" y="417388"/>
                </a:lnTo>
                <a:lnTo>
                  <a:pt x="1469098" y="417388"/>
                </a:lnTo>
                <a:lnTo>
                  <a:pt x="1460859" y="417388"/>
                </a:lnTo>
                <a:close/>
                <a:moveTo>
                  <a:pt x="6203162" y="411896"/>
                </a:moveTo>
                <a:lnTo>
                  <a:pt x="6203162" y="417388"/>
                </a:lnTo>
                <a:lnTo>
                  <a:pt x="6208654" y="417388"/>
                </a:lnTo>
                <a:lnTo>
                  <a:pt x="6205908" y="411896"/>
                </a:lnTo>
                <a:lnTo>
                  <a:pt x="6203162" y="411896"/>
                </a:lnTo>
                <a:close/>
                <a:moveTo>
                  <a:pt x="6087831" y="411896"/>
                </a:moveTo>
                <a:lnTo>
                  <a:pt x="6093323" y="411896"/>
                </a:lnTo>
                <a:lnTo>
                  <a:pt x="6087831" y="412526"/>
                </a:lnTo>
                <a:lnTo>
                  <a:pt x="6087831" y="411896"/>
                </a:lnTo>
                <a:close/>
                <a:moveTo>
                  <a:pt x="1518526" y="411896"/>
                </a:moveTo>
                <a:lnTo>
                  <a:pt x="1515779" y="414642"/>
                </a:lnTo>
                <a:lnTo>
                  <a:pt x="1515779" y="417388"/>
                </a:lnTo>
                <a:lnTo>
                  <a:pt x="1518526" y="417388"/>
                </a:lnTo>
                <a:lnTo>
                  <a:pt x="1518526" y="420134"/>
                </a:lnTo>
                <a:lnTo>
                  <a:pt x="1521272" y="420134"/>
                </a:lnTo>
                <a:lnTo>
                  <a:pt x="1524017" y="422880"/>
                </a:lnTo>
                <a:lnTo>
                  <a:pt x="1526763" y="422880"/>
                </a:lnTo>
                <a:lnTo>
                  <a:pt x="1529509" y="425626"/>
                </a:lnTo>
                <a:lnTo>
                  <a:pt x="1529509" y="420134"/>
                </a:lnTo>
                <a:lnTo>
                  <a:pt x="1526763" y="417388"/>
                </a:lnTo>
                <a:lnTo>
                  <a:pt x="1526763" y="414642"/>
                </a:lnTo>
                <a:lnTo>
                  <a:pt x="1524017" y="411896"/>
                </a:lnTo>
                <a:lnTo>
                  <a:pt x="1518526" y="411896"/>
                </a:lnTo>
                <a:close/>
                <a:moveTo>
                  <a:pt x="1491065" y="409151"/>
                </a:moveTo>
                <a:lnTo>
                  <a:pt x="1491065" y="411896"/>
                </a:lnTo>
                <a:lnTo>
                  <a:pt x="1488320" y="411896"/>
                </a:lnTo>
                <a:lnTo>
                  <a:pt x="1488320" y="414642"/>
                </a:lnTo>
                <a:lnTo>
                  <a:pt x="1496557" y="414642"/>
                </a:lnTo>
                <a:lnTo>
                  <a:pt x="1499304" y="414642"/>
                </a:lnTo>
                <a:lnTo>
                  <a:pt x="1499304" y="411896"/>
                </a:lnTo>
                <a:lnTo>
                  <a:pt x="1499304" y="409151"/>
                </a:lnTo>
                <a:lnTo>
                  <a:pt x="1496557" y="409151"/>
                </a:lnTo>
                <a:lnTo>
                  <a:pt x="1491065" y="409151"/>
                </a:lnTo>
                <a:close/>
                <a:moveTo>
                  <a:pt x="1452622" y="409151"/>
                </a:moveTo>
                <a:lnTo>
                  <a:pt x="1447130" y="411896"/>
                </a:lnTo>
                <a:lnTo>
                  <a:pt x="1447130" y="417388"/>
                </a:lnTo>
                <a:lnTo>
                  <a:pt x="1452622" y="414642"/>
                </a:lnTo>
                <a:lnTo>
                  <a:pt x="1452622" y="409151"/>
                </a:lnTo>
                <a:close/>
                <a:moveTo>
                  <a:pt x="1378481" y="409151"/>
                </a:moveTo>
                <a:lnTo>
                  <a:pt x="1378481" y="411896"/>
                </a:lnTo>
                <a:lnTo>
                  <a:pt x="1372988" y="414642"/>
                </a:lnTo>
                <a:lnTo>
                  <a:pt x="1372988" y="425626"/>
                </a:lnTo>
                <a:lnTo>
                  <a:pt x="1378481" y="425626"/>
                </a:lnTo>
                <a:lnTo>
                  <a:pt x="1378481" y="417388"/>
                </a:lnTo>
                <a:lnTo>
                  <a:pt x="1383972" y="414642"/>
                </a:lnTo>
                <a:lnTo>
                  <a:pt x="1389464" y="417388"/>
                </a:lnTo>
                <a:lnTo>
                  <a:pt x="1389464" y="411896"/>
                </a:lnTo>
                <a:lnTo>
                  <a:pt x="1386718" y="411896"/>
                </a:lnTo>
                <a:lnTo>
                  <a:pt x="1378481" y="409151"/>
                </a:lnTo>
                <a:close/>
                <a:moveTo>
                  <a:pt x="1345529" y="406405"/>
                </a:moveTo>
                <a:lnTo>
                  <a:pt x="1342784" y="409151"/>
                </a:lnTo>
                <a:lnTo>
                  <a:pt x="1342784" y="411896"/>
                </a:lnTo>
                <a:lnTo>
                  <a:pt x="1342784" y="414642"/>
                </a:lnTo>
                <a:lnTo>
                  <a:pt x="1345529" y="414642"/>
                </a:lnTo>
                <a:lnTo>
                  <a:pt x="1348275" y="411896"/>
                </a:lnTo>
                <a:lnTo>
                  <a:pt x="1351020" y="409151"/>
                </a:lnTo>
                <a:lnTo>
                  <a:pt x="1348275" y="406405"/>
                </a:lnTo>
                <a:lnTo>
                  <a:pt x="1345529" y="406405"/>
                </a:lnTo>
                <a:close/>
                <a:moveTo>
                  <a:pt x="6153734" y="403658"/>
                </a:moveTo>
                <a:lnTo>
                  <a:pt x="6153734" y="403964"/>
                </a:lnTo>
                <a:lnTo>
                  <a:pt x="6152361" y="404116"/>
                </a:lnTo>
                <a:lnTo>
                  <a:pt x="6153734" y="403658"/>
                </a:lnTo>
                <a:close/>
                <a:moveTo>
                  <a:pt x="472308" y="400913"/>
                </a:moveTo>
                <a:lnTo>
                  <a:pt x="464070" y="409151"/>
                </a:lnTo>
                <a:lnTo>
                  <a:pt x="455832" y="414642"/>
                </a:lnTo>
                <a:lnTo>
                  <a:pt x="447594" y="417388"/>
                </a:lnTo>
                <a:lnTo>
                  <a:pt x="436610" y="420134"/>
                </a:lnTo>
                <a:lnTo>
                  <a:pt x="428372" y="422880"/>
                </a:lnTo>
                <a:lnTo>
                  <a:pt x="420134" y="428372"/>
                </a:lnTo>
                <a:lnTo>
                  <a:pt x="409150" y="431118"/>
                </a:lnTo>
                <a:lnTo>
                  <a:pt x="395421" y="431118"/>
                </a:lnTo>
                <a:lnTo>
                  <a:pt x="384437" y="431118"/>
                </a:lnTo>
                <a:lnTo>
                  <a:pt x="362469" y="425626"/>
                </a:lnTo>
                <a:lnTo>
                  <a:pt x="343247" y="422880"/>
                </a:lnTo>
                <a:lnTo>
                  <a:pt x="332263" y="425626"/>
                </a:lnTo>
                <a:lnTo>
                  <a:pt x="321279" y="431118"/>
                </a:lnTo>
                <a:lnTo>
                  <a:pt x="315787" y="431118"/>
                </a:lnTo>
                <a:lnTo>
                  <a:pt x="326771" y="436610"/>
                </a:lnTo>
                <a:lnTo>
                  <a:pt x="340501" y="442102"/>
                </a:lnTo>
                <a:lnTo>
                  <a:pt x="356977" y="442102"/>
                </a:lnTo>
                <a:lnTo>
                  <a:pt x="376199" y="442102"/>
                </a:lnTo>
                <a:lnTo>
                  <a:pt x="417389" y="436610"/>
                </a:lnTo>
                <a:lnTo>
                  <a:pt x="461324" y="431118"/>
                </a:lnTo>
                <a:lnTo>
                  <a:pt x="497022" y="428372"/>
                </a:lnTo>
                <a:lnTo>
                  <a:pt x="513498" y="431118"/>
                </a:lnTo>
                <a:lnTo>
                  <a:pt x="527228" y="433864"/>
                </a:lnTo>
                <a:lnTo>
                  <a:pt x="535466" y="442102"/>
                </a:lnTo>
                <a:lnTo>
                  <a:pt x="538212" y="453086"/>
                </a:lnTo>
                <a:lnTo>
                  <a:pt x="535466" y="466816"/>
                </a:lnTo>
                <a:lnTo>
                  <a:pt x="529974" y="488784"/>
                </a:lnTo>
                <a:lnTo>
                  <a:pt x="546450" y="491530"/>
                </a:lnTo>
                <a:lnTo>
                  <a:pt x="568417" y="494276"/>
                </a:lnTo>
                <a:lnTo>
                  <a:pt x="568417" y="488784"/>
                </a:lnTo>
                <a:lnTo>
                  <a:pt x="565671" y="486038"/>
                </a:lnTo>
                <a:lnTo>
                  <a:pt x="560179" y="480546"/>
                </a:lnTo>
                <a:lnTo>
                  <a:pt x="554687" y="472308"/>
                </a:lnTo>
                <a:lnTo>
                  <a:pt x="551942" y="466816"/>
                </a:lnTo>
                <a:lnTo>
                  <a:pt x="554687" y="461324"/>
                </a:lnTo>
                <a:lnTo>
                  <a:pt x="560179" y="461324"/>
                </a:lnTo>
                <a:lnTo>
                  <a:pt x="565671" y="461324"/>
                </a:lnTo>
                <a:lnTo>
                  <a:pt x="573909" y="458578"/>
                </a:lnTo>
                <a:lnTo>
                  <a:pt x="579401" y="455832"/>
                </a:lnTo>
                <a:lnTo>
                  <a:pt x="568417" y="450340"/>
                </a:lnTo>
                <a:lnTo>
                  <a:pt x="562925" y="444848"/>
                </a:lnTo>
                <a:lnTo>
                  <a:pt x="560179" y="433864"/>
                </a:lnTo>
                <a:lnTo>
                  <a:pt x="557433" y="422880"/>
                </a:lnTo>
                <a:lnTo>
                  <a:pt x="557433" y="414642"/>
                </a:lnTo>
                <a:lnTo>
                  <a:pt x="551942" y="406405"/>
                </a:lnTo>
                <a:lnTo>
                  <a:pt x="543703" y="400913"/>
                </a:lnTo>
                <a:lnTo>
                  <a:pt x="529974" y="400913"/>
                </a:lnTo>
                <a:lnTo>
                  <a:pt x="529974" y="403659"/>
                </a:lnTo>
                <a:lnTo>
                  <a:pt x="532720" y="406405"/>
                </a:lnTo>
                <a:lnTo>
                  <a:pt x="540957" y="409151"/>
                </a:lnTo>
                <a:lnTo>
                  <a:pt x="546450" y="411896"/>
                </a:lnTo>
                <a:lnTo>
                  <a:pt x="551942" y="411896"/>
                </a:lnTo>
                <a:lnTo>
                  <a:pt x="551942" y="417388"/>
                </a:lnTo>
                <a:lnTo>
                  <a:pt x="540957" y="417388"/>
                </a:lnTo>
                <a:lnTo>
                  <a:pt x="529974" y="417388"/>
                </a:lnTo>
                <a:lnTo>
                  <a:pt x="510751" y="411896"/>
                </a:lnTo>
                <a:lnTo>
                  <a:pt x="491530" y="406405"/>
                </a:lnTo>
                <a:lnTo>
                  <a:pt x="483292" y="403659"/>
                </a:lnTo>
                <a:lnTo>
                  <a:pt x="472308" y="400913"/>
                </a:lnTo>
                <a:close/>
                <a:moveTo>
                  <a:pt x="1551477" y="398167"/>
                </a:moveTo>
                <a:lnTo>
                  <a:pt x="1551477" y="400913"/>
                </a:lnTo>
                <a:lnTo>
                  <a:pt x="1548731" y="400913"/>
                </a:lnTo>
                <a:lnTo>
                  <a:pt x="1545985" y="406405"/>
                </a:lnTo>
                <a:lnTo>
                  <a:pt x="1543239" y="409151"/>
                </a:lnTo>
                <a:lnTo>
                  <a:pt x="1532255" y="409151"/>
                </a:lnTo>
                <a:lnTo>
                  <a:pt x="1532255" y="414642"/>
                </a:lnTo>
                <a:lnTo>
                  <a:pt x="1532255" y="420134"/>
                </a:lnTo>
                <a:lnTo>
                  <a:pt x="1535002" y="422880"/>
                </a:lnTo>
                <a:lnTo>
                  <a:pt x="1537748" y="420134"/>
                </a:lnTo>
                <a:lnTo>
                  <a:pt x="1540493" y="425626"/>
                </a:lnTo>
                <a:lnTo>
                  <a:pt x="1540493" y="431118"/>
                </a:lnTo>
                <a:lnTo>
                  <a:pt x="1545985" y="431118"/>
                </a:lnTo>
                <a:lnTo>
                  <a:pt x="1545985" y="433864"/>
                </a:lnTo>
                <a:lnTo>
                  <a:pt x="1545985" y="439356"/>
                </a:lnTo>
                <a:lnTo>
                  <a:pt x="1545985" y="447594"/>
                </a:lnTo>
                <a:lnTo>
                  <a:pt x="1545985" y="450340"/>
                </a:lnTo>
                <a:lnTo>
                  <a:pt x="1548731" y="453086"/>
                </a:lnTo>
                <a:lnTo>
                  <a:pt x="1543239" y="453086"/>
                </a:lnTo>
                <a:lnTo>
                  <a:pt x="1545985" y="455832"/>
                </a:lnTo>
                <a:lnTo>
                  <a:pt x="1551477" y="455832"/>
                </a:lnTo>
                <a:lnTo>
                  <a:pt x="1556969" y="453086"/>
                </a:lnTo>
                <a:lnTo>
                  <a:pt x="1562461" y="453086"/>
                </a:lnTo>
                <a:lnTo>
                  <a:pt x="1567952" y="453086"/>
                </a:lnTo>
                <a:lnTo>
                  <a:pt x="1565206" y="447594"/>
                </a:lnTo>
                <a:lnTo>
                  <a:pt x="1565206" y="439356"/>
                </a:lnTo>
                <a:lnTo>
                  <a:pt x="1554223" y="436610"/>
                </a:lnTo>
                <a:lnTo>
                  <a:pt x="1548731" y="431118"/>
                </a:lnTo>
                <a:lnTo>
                  <a:pt x="1554223" y="431118"/>
                </a:lnTo>
                <a:lnTo>
                  <a:pt x="1551477" y="425626"/>
                </a:lnTo>
                <a:lnTo>
                  <a:pt x="1551477" y="422880"/>
                </a:lnTo>
                <a:lnTo>
                  <a:pt x="1556969" y="411896"/>
                </a:lnTo>
                <a:lnTo>
                  <a:pt x="1554223" y="409151"/>
                </a:lnTo>
                <a:lnTo>
                  <a:pt x="1551477" y="406405"/>
                </a:lnTo>
                <a:lnTo>
                  <a:pt x="1554223" y="403659"/>
                </a:lnTo>
                <a:lnTo>
                  <a:pt x="1554223" y="400913"/>
                </a:lnTo>
                <a:lnTo>
                  <a:pt x="1554223" y="398167"/>
                </a:lnTo>
                <a:lnTo>
                  <a:pt x="1551477" y="398167"/>
                </a:lnTo>
                <a:close/>
                <a:moveTo>
                  <a:pt x="1524017" y="398167"/>
                </a:moveTo>
                <a:lnTo>
                  <a:pt x="1515779" y="400913"/>
                </a:lnTo>
                <a:lnTo>
                  <a:pt x="1510287" y="406405"/>
                </a:lnTo>
                <a:lnTo>
                  <a:pt x="1515779" y="409151"/>
                </a:lnTo>
                <a:lnTo>
                  <a:pt x="1524017" y="409151"/>
                </a:lnTo>
                <a:lnTo>
                  <a:pt x="1524017" y="398167"/>
                </a:lnTo>
                <a:close/>
                <a:moveTo>
                  <a:pt x="1425162" y="398167"/>
                </a:moveTo>
                <a:lnTo>
                  <a:pt x="1422416" y="400913"/>
                </a:lnTo>
                <a:lnTo>
                  <a:pt x="1430655" y="406405"/>
                </a:lnTo>
                <a:lnTo>
                  <a:pt x="1436146" y="403659"/>
                </a:lnTo>
                <a:lnTo>
                  <a:pt x="1441637" y="400913"/>
                </a:lnTo>
                <a:lnTo>
                  <a:pt x="1436146" y="398167"/>
                </a:lnTo>
                <a:lnTo>
                  <a:pt x="1430655" y="398167"/>
                </a:lnTo>
                <a:lnTo>
                  <a:pt x="1425162" y="398167"/>
                </a:lnTo>
                <a:close/>
                <a:moveTo>
                  <a:pt x="1040725" y="398167"/>
                </a:moveTo>
                <a:lnTo>
                  <a:pt x="1040725" y="400913"/>
                </a:lnTo>
                <a:lnTo>
                  <a:pt x="1046217" y="403659"/>
                </a:lnTo>
                <a:lnTo>
                  <a:pt x="1054456" y="403659"/>
                </a:lnTo>
                <a:lnTo>
                  <a:pt x="1054456" y="400913"/>
                </a:lnTo>
                <a:lnTo>
                  <a:pt x="1051710" y="398167"/>
                </a:lnTo>
                <a:lnTo>
                  <a:pt x="1046217" y="398167"/>
                </a:lnTo>
                <a:lnTo>
                  <a:pt x="1040725" y="398167"/>
                </a:lnTo>
                <a:close/>
                <a:moveTo>
                  <a:pt x="1378481" y="395421"/>
                </a:moveTo>
                <a:lnTo>
                  <a:pt x="1375736" y="398167"/>
                </a:lnTo>
                <a:lnTo>
                  <a:pt x="1375736" y="400913"/>
                </a:lnTo>
                <a:lnTo>
                  <a:pt x="1378481" y="403659"/>
                </a:lnTo>
                <a:lnTo>
                  <a:pt x="1381227" y="403659"/>
                </a:lnTo>
                <a:lnTo>
                  <a:pt x="1381227" y="400913"/>
                </a:lnTo>
                <a:lnTo>
                  <a:pt x="1383972" y="400913"/>
                </a:lnTo>
                <a:lnTo>
                  <a:pt x="1383972" y="398167"/>
                </a:lnTo>
                <a:lnTo>
                  <a:pt x="1381227" y="398167"/>
                </a:lnTo>
                <a:lnTo>
                  <a:pt x="1381227" y="395421"/>
                </a:lnTo>
                <a:lnTo>
                  <a:pt x="1378481" y="395421"/>
                </a:lnTo>
                <a:close/>
                <a:moveTo>
                  <a:pt x="6219638" y="395420"/>
                </a:moveTo>
                <a:lnTo>
                  <a:pt x="6236113" y="395420"/>
                </a:lnTo>
                <a:lnTo>
                  <a:pt x="6238859" y="395420"/>
                </a:lnTo>
                <a:lnTo>
                  <a:pt x="6238859" y="398166"/>
                </a:lnTo>
                <a:lnTo>
                  <a:pt x="6227875" y="398166"/>
                </a:lnTo>
                <a:lnTo>
                  <a:pt x="6227875" y="400912"/>
                </a:lnTo>
                <a:lnTo>
                  <a:pt x="6230621" y="403658"/>
                </a:lnTo>
                <a:lnTo>
                  <a:pt x="6233367" y="403658"/>
                </a:lnTo>
                <a:lnTo>
                  <a:pt x="6233367" y="406404"/>
                </a:lnTo>
                <a:lnTo>
                  <a:pt x="6225129" y="409150"/>
                </a:lnTo>
                <a:lnTo>
                  <a:pt x="6219638" y="406404"/>
                </a:lnTo>
                <a:lnTo>
                  <a:pt x="6219638" y="403658"/>
                </a:lnTo>
                <a:lnTo>
                  <a:pt x="6222384" y="403658"/>
                </a:lnTo>
                <a:lnTo>
                  <a:pt x="6225129" y="400912"/>
                </a:lnTo>
                <a:lnTo>
                  <a:pt x="6222384" y="398166"/>
                </a:lnTo>
                <a:lnTo>
                  <a:pt x="6219638" y="395420"/>
                </a:lnTo>
                <a:close/>
                <a:moveTo>
                  <a:pt x="1559715" y="389929"/>
                </a:moveTo>
                <a:lnTo>
                  <a:pt x="1559715" y="392675"/>
                </a:lnTo>
                <a:lnTo>
                  <a:pt x="1559715" y="395421"/>
                </a:lnTo>
                <a:lnTo>
                  <a:pt x="1565206" y="400913"/>
                </a:lnTo>
                <a:lnTo>
                  <a:pt x="1567952" y="400913"/>
                </a:lnTo>
                <a:lnTo>
                  <a:pt x="1567952" y="398167"/>
                </a:lnTo>
                <a:lnTo>
                  <a:pt x="1570699" y="398167"/>
                </a:lnTo>
                <a:lnTo>
                  <a:pt x="1570699" y="392675"/>
                </a:lnTo>
                <a:lnTo>
                  <a:pt x="1567952" y="389929"/>
                </a:lnTo>
                <a:lnTo>
                  <a:pt x="1559715" y="389929"/>
                </a:lnTo>
                <a:close/>
                <a:moveTo>
                  <a:pt x="1537748" y="387183"/>
                </a:moveTo>
                <a:lnTo>
                  <a:pt x="1537748" y="395421"/>
                </a:lnTo>
                <a:lnTo>
                  <a:pt x="1540493" y="398167"/>
                </a:lnTo>
                <a:lnTo>
                  <a:pt x="1543239" y="398167"/>
                </a:lnTo>
                <a:lnTo>
                  <a:pt x="1545985" y="395421"/>
                </a:lnTo>
                <a:lnTo>
                  <a:pt x="1548731" y="389929"/>
                </a:lnTo>
                <a:lnTo>
                  <a:pt x="1543239" y="387183"/>
                </a:lnTo>
                <a:lnTo>
                  <a:pt x="1540493" y="387183"/>
                </a:lnTo>
                <a:lnTo>
                  <a:pt x="1537748" y="387183"/>
                </a:lnTo>
                <a:close/>
                <a:moveTo>
                  <a:pt x="1441637" y="387183"/>
                </a:moveTo>
                <a:lnTo>
                  <a:pt x="1441637" y="392675"/>
                </a:lnTo>
                <a:lnTo>
                  <a:pt x="1447130" y="392675"/>
                </a:lnTo>
                <a:lnTo>
                  <a:pt x="1447130" y="387183"/>
                </a:lnTo>
                <a:lnTo>
                  <a:pt x="1441637" y="387183"/>
                </a:lnTo>
                <a:close/>
                <a:moveTo>
                  <a:pt x="1367496" y="387183"/>
                </a:moveTo>
                <a:lnTo>
                  <a:pt x="1362005" y="389929"/>
                </a:lnTo>
                <a:lnTo>
                  <a:pt x="1362005" y="398167"/>
                </a:lnTo>
                <a:lnTo>
                  <a:pt x="1364751" y="400913"/>
                </a:lnTo>
                <a:lnTo>
                  <a:pt x="1370242" y="400913"/>
                </a:lnTo>
                <a:lnTo>
                  <a:pt x="1372988" y="395421"/>
                </a:lnTo>
                <a:lnTo>
                  <a:pt x="1372988" y="387183"/>
                </a:lnTo>
                <a:lnTo>
                  <a:pt x="1370242" y="387183"/>
                </a:lnTo>
                <a:lnTo>
                  <a:pt x="1367496" y="387183"/>
                </a:lnTo>
                <a:close/>
                <a:moveTo>
                  <a:pt x="1507541" y="384437"/>
                </a:moveTo>
                <a:lnTo>
                  <a:pt x="1510287" y="389929"/>
                </a:lnTo>
                <a:lnTo>
                  <a:pt x="1513033" y="392675"/>
                </a:lnTo>
                <a:lnTo>
                  <a:pt x="1515779" y="392675"/>
                </a:lnTo>
                <a:lnTo>
                  <a:pt x="1513033" y="387183"/>
                </a:lnTo>
                <a:lnTo>
                  <a:pt x="1507541" y="384437"/>
                </a:lnTo>
                <a:close/>
                <a:moveTo>
                  <a:pt x="1150565" y="384437"/>
                </a:moveTo>
                <a:lnTo>
                  <a:pt x="1147820" y="387183"/>
                </a:lnTo>
                <a:lnTo>
                  <a:pt x="1147820" y="389929"/>
                </a:lnTo>
                <a:lnTo>
                  <a:pt x="1150565" y="392675"/>
                </a:lnTo>
                <a:lnTo>
                  <a:pt x="1153311" y="395421"/>
                </a:lnTo>
                <a:lnTo>
                  <a:pt x="1156056" y="392675"/>
                </a:lnTo>
                <a:lnTo>
                  <a:pt x="1156056" y="389929"/>
                </a:lnTo>
                <a:lnTo>
                  <a:pt x="1156056" y="384437"/>
                </a:lnTo>
                <a:lnTo>
                  <a:pt x="1150565" y="384437"/>
                </a:lnTo>
                <a:close/>
                <a:moveTo>
                  <a:pt x="1576191" y="378948"/>
                </a:moveTo>
                <a:lnTo>
                  <a:pt x="1576191" y="414642"/>
                </a:lnTo>
                <a:lnTo>
                  <a:pt x="1576191" y="420135"/>
                </a:lnTo>
                <a:lnTo>
                  <a:pt x="1578936" y="420135"/>
                </a:lnTo>
                <a:lnTo>
                  <a:pt x="1578936" y="414643"/>
                </a:lnTo>
                <a:lnTo>
                  <a:pt x="1578936" y="400913"/>
                </a:lnTo>
                <a:lnTo>
                  <a:pt x="1576191" y="378948"/>
                </a:lnTo>
                <a:close/>
                <a:moveTo>
                  <a:pt x="1425162" y="378945"/>
                </a:moveTo>
                <a:lnTo>
                  <a:pt x="1425162" y="384437"/>
                </a:lnTo>
                <a:lnTo>
                  <a:pt x="1425162" y="392675"/>
                </a:lnTo>
                <a:lnTo>
                  <a:pt x="1430655" y="389929"/>
                </a:lnTo>
                <a:lnTo>
                  <a:pt x="1436146" y="387183"/>
                </a:lnTo>
                <a:lnTo>
                  <a:pt x="1441637" y="384437"/>
                </a:lnTo>
                <a:lnTo>
                  <a:pt x="1441637" y="378945"/>
                </a:lnTo>
                <a:lnTo>
                  <a:pt x="1425162" y="378945"/>
                </a:lnTo>
                <a:close/>
                <a:moveTo>
                  <a:pt x="1414179" y="378945"/>
                </a:moveTo>
                <a:lnTo>
                  <a:pt x="1414179" y="381691"/>
                </a:lnTo>
                <a:lnTo>
                  <a:pt x="1411434" y="381691"/>
                </a:lnTo>
                <a:lnTo>
                  <a:pt x="1408686" y="384437"/>
                </a:lnTo>
                <a:lnTo>
                  <a:pt x="1411434" y="384437"/>
                </a:lnTo>
                <a:lnTo>
                  <a:pt x="1414179" y="387183"/>
                </a:lnTo>
                <a:lnTo>
                  <a:pt x="1416924" y="384437"/>
                </a:lnTo>
                <a:lnTo>
                  <a:pt x="1416924" y="378945"/>
                </a:lnTo>
                <a:lnTo>
                  <a:pt x="1414179" y="378945"/>
                </a:lnTo>
                <a:close/>
                <a:moveTo>
                  <a:pt x="1334544" y="378945"/>
                </a:moveTo>
                <a:lnTo>
                  <a:pt x="1331799" y="384437"/>
                </a:lnTo>
                <a:lnTo>
                  <a:pt x="1337290" y="384437"/>
                </a:lnTo>
                <a:lnTo>
                  <a:pt x="1340038" y="378945"/>
                </a:lnTo>
                <a:lnTo>
                  <a:pt x="1334544" y="378945"/>
                </a:lnTo>
                <a:close/>
                <a:moveTo>
                  <a:pt x="1556969" y="376199"/>
                </a:moveTo>
                <a:lnTo>
                  <a:pt x="1554223" y="378945"/>
                </a:lnTo>
                <a:lnTo>
                  <a:pt x="1554223" y="381691"/>
                </a:lnTo>
                <a:lnTo>
                  <a:pt x="1556969" y="384437"/>
                </a:lnTo>
                <a:lnTo>
                  <a:pt x="1562461" y="384437"/>
                </a:lnTo>
                <a:lnTo>
                  <a:pt x="1565206" y="381691"/>
                </a:lnTo>
                <a:lnTo>
                  <a:pt x="1565206" y="378945"/>
                </a:lnTo>
                <a:lnTo>
                  <a:pt x="1562461" y="376199"/>
                </a:lnTo>
                <a:lnTo>
                  <a:pt x="1556969" y="376199"/>
                </a:lnTo>
                <a:close/>
                <a:moveTo>
                  <a:pt x="1353766" y="362469"/>
                </a:moveTo>
                <a:lnTo>
                  <a:pt x="1356512" y="365215"/>
                </a:lnTo>
                <a:lnTo>
                  <a:pt x="1356512" y="370707"/>
                </a:lnTo>
                <a:lnTo>
                  <a:pt x="1359260" y="373453"/>
                </a:lnTo>
                <a:lnTo>
                  <a:pt x="1359260" y="378945"/>
                </a:lnTo>
                <a:lnTo>
                  <a:pt x="1367496" y="378945"/>
                </a:lnTo>
                <a:lnTo>
                  <a:pt x="1370242" y="373453"/>
                </a:lnTo>
                <a:lnTo>
                  <a:pt x="1367496" y="367961"/>
                </a:lnTo>
                <a:lnTo>
                  <a:pt x="1364751" y="365215"/>
                </a:lnTo>
                <a:lnTo>
                  <a:pt x="1362005" y="362469"/>
                </a:lnTo>
                <a:lnTo>
                  <a:pt x="1353766" y="362469"/>
                </a:lnTo>
                <a:close/>
                <a:moveTo>
                  <a:pt x="834777" y="362469"/>
                </a:moveTo>
                <a:lnTo>
                  <a:pt x="834777" y="365215"/>
                </a:lnTo>
                <a:lnTo>
                  <a:pt x="829285" y="365215"/>
                </a:lnTo>
                <a:lnTo>
                  <a:pt x="823793" y="365215"/>
                </a:lnTo>
                <a:lnTo>
                  <a:pt x="815555" y="367961"/>
                </a:lnTo>
                <a:lnTo>
                  <a:pt x="807317" y="376199"/>
                </a:lnTo>
                <a:lnTo>
                  <a:pt x="801825" y="381691"/>
                </a:lnTo>
                <a:lnTo>
                  <a:pt x="799080" y="378945"/>
                </a:lnTo>
                <a:lnTo>
                  <a:pt x="796334" y="381691"/>
                </a:lnTo>
                <a:lnTo>
                  <a:pt x="793587" y="387183"/>
                </a:lnTo>
                <a:lnTo>
                  <a:pt x="788095" y="392675"/>
                </a:lnTo>
                <a:lnTo>
                  <a:pt x="782603" y="395421"/>
                </a:lnTo>
                <a:lnTo>
                  <a:pt x="777112" y="395421"/>
                </a:lnTo>
                <a:lnTo>
                  <a:pt x="744160" y="395421"/>
                </a:lnTo>
                <a:lnTo>
                  <a:pt x="727684" y="398167"/>
                </a:lnTo>
                <a:lnTo>
                  <a:pt x="711208" y="403659"/>
                </a:lnTo>
                <a:lnTo>
                  <a:pt x="681002" y="414642"/>
                </a:lnTo>
                <a:lnTo>
                  <a:pt x="650797" y="428372"/>
                </a:lnTo>
                <a:lnTo>
                  <a:pt x="628829" y="436610"/>
                </a:lnTo>
                <a:lnTo>
                  <a:pt x="617845" y="436610"/>
                </a:lnTo>
                <a:lnTo>
                  <a:pt x="609607" y="436610"/>
                </a:lnTo>
                <a:lnTo>
                  <a:pt x="595877" y="431118"/>
                </a:lnTo>
                <a:lnTo>
                  <a:pt x="582147" y="420134"/>
                </a:lnTo>
                <a:lnTo>
                  <a:pt x="568417" y="411896"/>
                </a:lnTo>
                <a:lnTo>
                  <a:pt x="568417" y="422880"/>
                </a:lnTo>
                <a:lnTo>
                  <a:pt x="573909" y="431118"/>
                </a:lnTo>
                <a:lnTo>
                  <a:pt x="582147" y="439356"/>
                </a:lnTo>
                <a:lnTo>
                  <a:pt x="593131" y="444848"/>
                </a:lnTo>
                <a:lnTo>
                  <a:pt x="615099" y="453086"/>
                </a:lnTo>
                <a:lnTo>
                  <a:pt x="623337" y="458578"/>
                </a:lnTo>
                <a:lnTo>
                  <a:pt x="628829" y="466816"/>
                </a:lnTo>
                <a:lnTo>
                  <a:pt x="631574" y="472308"/>
                </a:lnTo>
                <a:lnTo>
                  <a:pt x="634321" y="469562"/>
                </a:lnTo>
                <a:lnTo>
                  <a:pt x="642559" y="475054"/>
                </a:lnTo>
                <a:lnTo>
                  <a:pt x="648051" y="480546"/>
                </a:lnTo>
                <a:lnTo>
                  <a:pt x="653542" y="486038"/>
                </a:lnTo>
                <a:lnTo>
                  <a:pt x="661780" y="497022"/>
                </a:lnTo>
                <a:lnTo>
                  <a:pt x="670018" y="508006"/>
                </a:lnTo>
                <a:lnTo>
                  <a:pt x="672764" y="510752"/>
                </a:lnTo>
                <a:lnTo>
                  <a:pt x="678256" y="513498"/>
                </a:lnTo>
                <a:lnTo>
                  <a:pt x="691986" y="499768"/>
                </a:lnTo>
                <a:lnTo>
                  <a:pt x="716700" y="480546"/>
                </a:lnTo>
                <a:lnTo>
                  <a:pt x="724938" y="475054"/>
                </a:lnTo>
                <a:lnTo>
                  <a:pt x="730430" y="466816"/>
                </a:lnTo>
                <a:lnTo>
                  <a:pt x="735922" y="461324"/>
                </a:lnTo>
                <a:lnTo>
                  <a:pt x="741414" y="453086"/>
                </a:lnTo>
                <a:lnTo>
                  <a:pt x="746906" y="450340"/>
                </a:lnTo>
                <a:lnTo>
                  <a:pt x="755144" y="447594"/>
                </a:lnTo>
                <a:lnTo>
                  <a:pt x="763382" y="447594"/>
                </a:lnTo>
                <a:lnTo>
                  <a:pt x="768874" y="442102"/>
                </a:lnTo>
                <a:lnTo>
                  <a:pt x="774366" y="433864"/>
                </a:lnTo>
                <a:lnTo>
                  <a:pt x="779857" y="422880"/>
                </a:lnTo>
                <a:lnTo>
                  <a:pt x="782603" y="414642"/>
                </a:lnTo>
                <a:lnTo>
                  <a:pt x="788095" y="406405"/>
                </a:lnTo>
                <a:lnTo>
                  <a:pt x="799080" y="400913"/>
                </a:lnTo>
                <a:lnTo>
                  <a:pt x="812809" y="398167"/>
                </a:lnTo>
                <a:lnTo>
                  <a:pt x="837523" y="392675"/>
                </a:lnTo>
                <a:lnTo>
                  <a:pt x="845761" y="389929"/>
                </a:lnTo>
                <a:lnTo>
                  <a:pt x="848507" y="384437"/>
                </a:lnTo>
                <a:lnTo>
                  <a:pt x="845761" y="378945"/>
                </a:lnTo>
                <a:lnTo>
                  <a:pt x="834777" y="365215"/>
                </a:lnTo>
                <a:lnTo>
                  <a:pt x="837523" y="365215"/>
                </a:lnTo>
                <a:lnTo>
                  <a:pt x="837523" y="362469"/>
                </a:lnTo>
                <a:lnTo>
                  <a:pt x="834777" y="362469"/>
                </a:lnTo>
                <a:close/>
                <a:moveTo>
                  <a:pt x="1537748" y="359723"/>
                </a:moveTo>
                <a:lnTo>
                  <a:pt x="1537748" y="365215"/>
                </a:lnTo>
                <a:lnTo>
                  <a:pt x="1540493" y="365215"/>
                </a:lnTo>
                <a:lnTo>
                  <a:pt x="1543239" y="362469"/>
                </a:lnTo>
                <a:lnTo>
                  <a:pt x="1545985" y="359723"/>
                </a:lnTo>
                <a:lnTo>
                  <a:pt x="1537748" y="359723"/>
                </a:lnTo>
                <a:close/>
                <a:moveTo>
                  <a:pt x="1458113" y="356977"/>
                </a:moveTo>
                <a:lnTo>
                  <a:pt x="1458113" y="362469"/>
                </a:lnTo>
                <a:lnTo>
                  <a:pt x="1458113" y="365215"/>
                </a:lnTo>
                <a:lnTo>
                  <a:pt x="1452622" y="367961"/>
                </a:lnTo>
                <a:lnTo>
                  <a:pt x="1449877" y="367961"/>
                </a:lnTo>
                <a:lnTo>
                  <a:pt x="1447130" y="373453"/>
                </a:lnTo>
                <a:lnTo>
                  <a:pt x="1447130" y="378945"/>
                </a:lnTo>
                <a:lnTo>
                  <a:pt x="1452622" y="376199"/>
                </a:lnTo>
                <a:lnTo>
                  <a:pt x="1458113" y="376199"/>
                </a:lnTo>
                <a:lnTo>
                  <a:pt x="1469098" y="378945"/>
                </a:lnTo>
                <a:lnTo>
                  <a:pt x="1469098" y="376199"/>
                </a:lnTo>
                <a:lnTo>
                  <a:pt x="1471844" y="376199"/>
                </a:lnTo>
                <a:lnTo>
                  <a:pt x="1474589" y="376199"/>
                </a:lnTo>
                <a:lnTo>
                  <a:pt x="1477335" y="373453"/>
                </a:lnTo>
                <a:lnTo>
                  <a:pt x="1477335" y="376199"/>
                </a:lnTo>
                <a:lnTo>
                  <a:pt x="1480081" y="376199"/>
                </a:lnTo>
                <a:lnTo>
                  <a:pt x="1480081" y="378945"/>
                </a:lnTo>
                <a:lnTo>
                  <a:pt x="1480081" y="381691"/>
                </a:lnTo>
                <a:lnTo>
                  <a:pt x="1474589" y="381691"/>
                </a:lnTo>
                <a:lnTo>
                  <a:pt x="1471844" y="378945"/>
                </a:lnTo>
                <a:lnTo>
                  <a:pt x="1466353" y="384437"/>
                </a:lnTo>
                <a:lnTo>
                  <a:pt x="1460859" y="387183"/>
                </a:lnTo>
                <a:lnTo>
                  <a:pt x="1458113" y="384437"/>
                </a:lnTo>
                <a:lnTo>
                  <a:pt x="1455368" y="389929"/>
                </a:lnTo>
                <a:lnTo>
                  <a:pt x="1455368" y="398167"/>
                </a:lnTo>
                <a:lnTo>
                  <a:pt x="1460859" y="395421"/>
                </a:lnTo>
                <a:lnTo>
                  <a:pt x="1463606" y="395421"/>
                </a:lnTo>
                <a:lnTo>
                  <a:pt x="1466353" y="398167"/>
                </a:lnTo>
                <a:lnTo>
                  <a:pt x="1469098" y="400913"/>
                </a:lnTo>
                <a:lnTo>
                  <a:pt x="1474589" y="400913"/>
                </a:lnTo>
                <a:lnTo>
                  <a:pt x="1480081" y="398167"/>
                </a:lnTo>
                <a:lnTo>
                  <a:pt x="1480081" y="400913"/>
                </a:lnTo>
                <a:lnTo>
                  <a:pt x="1485574" y="403659"/>
                </a:lnTo>
                <a:lnTo>
                  <a:pt x="1488320" y="403659"/>
                </a:lnTo>
                <a:lnTo>
                  <a:pt x="1491065" y="406405"/>
                </a:lnTo>
                <a:lnTo>
                  <a:pt x="1493811" y="403659"/>
                </a:lnTo>
                <a:lnTo>
                  <a:pt x="1499304" y="403659"/>
                </a:lnTo>
                <a:lnTo>
                  <a:pt x="1504796" y="406405"/>
                </a:lnTo>
                <a:lnTo>
                  <a:pt x="1510287" y="403659"/>
                </a:lnTo>
                <a:lnTo>
                  <a:pt x="1510287" y="398167"/>
                </a:lnTo>
                <a:lnTo>
                  <a:pt x="1507541" y="395421"/>
                </a:lnTo>
                <a:lnTo>
                  <a:pt x="1502050" y="395421"/>
                </a:lnTo>
                <a:lnTo>
                  <a:pt x="1496557" y="398167"/>
                </a:lnTo>
                <a:lnTo>
                  <a:pt x="1491065" y="400913"/>
                </a:lnTo>
                <a:lnTo>
                  <a:pt x="1491065" y="395421"/>
                </a:lnTo>
                <a:lnTo>
                  <a:pt x="1491065" y="392675"/>
                </a:lnTo>
                <a:lnTo>
                  <a:pt x="1496557" y="387183"/>
                </a:lnTo>
                <a:lnTo>
                  <a:pt x="1491065" y="384437"/>
                </a:lnTo>
                <a:lnTo>
                  <a:pt x="1488320" y="381691"/>
                </a:lnTo>
                <a:lnTo>
                  <a:pt x="1491065" y="378945"/>
                </a:lnTo>
                <a:lnTo>
                  <a:pt x="1491065" y="370707"/>
                </a:lnTo>
                <a:lnTo>
                  <a:pt x="1488320" y="370707"/>
                </a:lnTo>
                <a:lnTo>
                  <a:pt x="1482829" y="367961"/>
                </a:lnTo>
                <a:lnTo>
                  <a:pt x="1485574" y="367961"/>
                </a:lnTo>
                <a:lnTo>
                  <a:pt x="1485574" y="362469"/>
                </a:lnTo>
                <a:lnTo>
                  <a:pt x="1485574" y="359723"/>
                </a:lnTo>
                <a:lnTo>
                  <a:pt x="1480081" y="359723"/>
                </a:lnTo>
                <a:lnTo>
                  <a:pt x="1477335" y="359723"/>
                </a:lnTo>
                <a:lnTo>
                  <a:pt x="1477335" y="356977"/>
                </a:lnTo>
                <a:lnTo>
                  <a:pt x="1458113" y="356977"/>
                </a:lnTo>
                <a:close/>
                <a:moveTo>
                  <a:pt x="1422416" y="356977"/>
                </a:moveTo>
                <a:lnTo>
                  <a:pt x="1416924" y="359723"/>
                </a:lnTo>
                <a:lnTo>
                  <a:pt x="1416924" y="373453"/>
                </a:lnTo>
                <a:lnTo>
                  <a:pt x="1425162" y="376199"/>
                </a:lnTo>
                <a:lnTo>
                  <a:pt x="1430655" y="376199"/>
                </a:lnTo>
                <a:lnTo>
                  <a:pt x="1436146" y="376199"/>
                </a:lnTo>
                <a:lnTo>
                  <a:pt x="1436146" y="370707"/>
                </a:lnTo>
                <a:lnTo>
                  <a:pt x="1436146" y="367961"/>
                </a:lnTo>
                <a:lnTo>
                  <a:pt x="1433400" y="359723"/>
                </a:lnTo>
                <a:lnTo>
                  <a:pt x="1425162" y="356977"/>
                </a:lnTo>
                <a:lnTo>
                  <a:pt x="1422416" y="356977"/>
                </a:lnTo>
                <a:close/>
                <a:moveTo>
                  <a:pt x="1370242" y="356977"/>
                </a:moveTo>
                <a:lnTo>
                  <a:pt x="1372988" y="356977"/>
                </a:lnTo>
                <a:lnTo>
                  <a:pt x="1375736" y="359723"/>
                </a:lnTo>
                <a:lnTo>
                  <a:pt x="1372988" y="362469"/>
                </a:lnTo>
                <a:lnTo>
                  <a:pt x="1370242" y="356977"/>
                </a:lnTo>
                <a:close/>
                <a:moveTo>
                  <a:pt x="6573869" y="354231"/>
                </a:moveTo>
                <a:lnTo>
                  <a:pt x="6571123" y="356977"/>
                </a:lnTo>
                <a:lnTo>
                  <a:pt x="6565631" y="359723"/>
                </a:lnTo>
                <a:lnTo>
                  <a:pt x="6560139" y="362469"/>
                </a:lnTo>
                <a:lnTo>
                  <a:pt x="6549155" y="367961"/>
                </a:lnTo>
                <a:lnTo>
                  <a:pt x="6549155" y="376199"/>
                </a:lnTo>
                <a:lnTo>
                  <a:pt x="6549155" y="381691"/>
                </a:lnTo>
                <a:lnTo>
                  <a:pt x="6551901" y="384437"/>
                </a:lnTo>
                <a:lnTo>
                  <a:pt x="6554647" y="389929"/>
                </a:lnTo>
                <a:lnTo>
                  <a:pt x="6557393" y="398166"/>
                </a:lnTo>
                <a:lnTo>
                  <a:pt x="6565631" y="403658"/>
                </a:lnTo>
                <a:lnTo>
                  <a:pt x="6573869" y="406404"/>
                </a:lnTo>
                <a:lnTo>
                  <a:pt x="6582107" y="411896"/>
                </a:lnTo>
                <a:lnTo>
                  <a:pt x="6521695" y="486038"/>
                </a:lnTo>
                <a:lnTo>
                  <a:pt x="6516203" y="486038"/>
                </a:lnTo>
                <a:lnTo>
                  <a:pt x="6518949" y="488784"/>
                </a:lnTo>
                <a:lnTo>
                  <a:pt x="6370666" y="670018"/>
                </a:lnTo>
                <a:lnTo>
                  <a:pt x="6354190" y="670018"/>
                </a:lnTo>
                <a:lnTo>
                  <a:pt x="6337715" y="672764"/>
                </a:lnTo>
                <a:lnTo>
                  <a:pt x="6321239" y="678256"/>
                </a:lnTo>
                <a:lnTo>
                  <a:pt x="6304763" y="683748"/>
                </a:lnTo>
                <a:lnTo>
                  <a:pt x="6277303" y="697478"/>
                </a:lnTo>
                <a:lnTo>
                  <a:pt x="6255335" y="711208"/>
                </a:lnTo>
                <a:lnTo>
                  <a:pt x="6263573" y="713954"/>
                </a:lnTo>
                <a:lnTo>
                  <a:pt x="6274557" y="713954"/>
                </a:lnTo>
                <a:lnTo>
                  <a:pt x="6291033" y="711208"/>
                </a:lnTo>
                <a:lnTo>
                  <a:pt x="6307509" y="705716"/>
                </a:lnTo>
                <a:lnTo>
                  <a:pt x="6318493" y="702970"/>
                </a:lnTo>
                <a:lnTo>
                  <a:pt x="6326731" y="702970"/>
                </a:lnTo>
                <a:lnTo>
                  <a:pt x="6329477" y="708462"/>
                </a:lnTo>
                <a:lnTo>
                  <a:pt x="6334969" y="711208"/>
                </a:lnTo>
                <a:lnTo>
                  <a:pt x="6340461" y="708462"/>
                </a:lnTo>
                <a:lnTo>
                  <a:pt x="6345952" y="705716"/>
                </a:lnTo>
                <a:lnTo>
                  <a:pt x="6546409" y="906172"/>
                </a:lnTo>
                <a:lnTo>
                  <a:pt x="6521695" y="917156"/>
                </a:lnTo>
                <a:lnTo>
                  <a:pt x="6513457" y="922648"/>
                </a:lnTo>
                <a:lnTo>
                  <a:pt x="6505219" y="930886"/>
                </a:lnTo>
                <a:lnTo>
                  <a:pt x="6532679" y="936378"/>
                </a:lnTo>
                <a:lnTo>
                  <a:pt x="6543663" y="939124"/>
                </a:lnTo>
                <a:lnTo>
                  <a:pt x="6551901" y="936378"/>
                </a:lnTo>
                <a:lnTo>
                  <a:pt x="6560139" y="933632"/>
                </a:lnTo>
                <a:lnTo>
                  <a:pt x="6565631" y="928140"/>
                </a:lnTo>
                <a:lnTo>
                  <a:pt x="6571123" y="930886"/>
                </a:lnTo>
                <a:lnTo>
                  <a:pt x="6571123" y="933632"/>
                </a:lnTo>
                <a:lnTo>
                  <a:pt x="6571123" y="939124"/>
                </a:lnTo>
                <a:lnTo>
                  <a:pt x="6573869" y="941870"/>
                </a:lnTo>
                <a:lnTo>
                  <a:pt x="6576615" y="941870"/>
                </a:lnTo>
                <a:lnTo>
                  <a:pt x="6579361" y="941870"/>
                </a:lnTo>
                <a:lnTo>
                  <a:pt x="6587599" y="950108"/>
                </a:lnTo>
                <a:lnTo>
                  <a:pt x="6573869" y="950108"/>
                </a:lnTo>
                <a:lnTo>
                  <a:pt x="6562885" y="952854"/>
                </a:lnTo>
                <a:lnTo>
                  <a:pt x="6546409" y="963838"/>
                </a:lnTo>
                <a:lnTo>
                  <a:pt x="6538171" y="966584"/>
                </a:lnTo>
                <a:lnTo>
                  <a:pt x="6532679" y="969330"/>
                </a:lnTo>
                <a:lnTo>
                  <a:pt x="6524441" y="969330"/>
                </a:lnTo>
                <a:lnTo>
                  <a:pt x="6518949" y="966584"/>
                </a:lnTo>
                <a:lnTo>
                  <a:pt x="6516203" y="961092"/>
                </a:lnTo>
                <a:lnTo>
                  <a:pt x="6516203" y="955600"/>
                </a:lnTo>
                <a:lnTo>
                  <a:pt x="6516203" y="947362"/>
                </a:lnTo>
                <a:lnTo>
                  <a:pt x="6513457" y="944616"/>
                </a:lnTo>
                <a:lnTo>
                  <a:pt x="6510711" y="941870"/>
                </a:lnTo>
                <a:lnTo>
                  <a:pt x="6507965" y="944616"/>
                </a:lnTo>
                <a:lnTo>
                  <a:pt x="6505219" y="944616"/>
                </a:lnTo>
                <a:lnTo>
                  <a:pt x="6499727" y="944616"/>
                </a:lnTo>
                <a:lnTo>
                  <a:pt x="6496981" y="936378"/>
                </a:lnTo>
                <a:lnTo>
                  <a:pt x="6494235" y="928140"/>
                </a:lnTo>
                <a:lnTo>
                  <a:pt x="6491489" y="919902"/>
                </a:lnTo>
                <a:lnTo>
                  <a:pt x="6488743" y="917156"/>
                </a:lnTo>
                <a:lnTo>
                  <a:pt x="6483251" y="914410"/>
                </a:lnTo>
                <a:lnTo>
                  <a:pt x="6480505" y="919902"/>
                </a:lnTo>
                <a:lnTo>
                  <a:pt x="6477759" y="922648"/>
                </a:lnTo>
                <a:lnTo>
                  <a:pt x="6483251" y="930886"/>
                </a:lnTo>
                <a:lnTo>
                  <a:pt x="6483251" y="936378"/>
                </a:lnTo>
                <a:lnTo>
                  <a:pt x="6480505" y="941870"/>
                </a:lnTo>
                <a:lnTo>
                  <a:pt x="6477759" y="944616"/>
                </a:lnTo>
                <a:lnTo>
                  <a:pt x="6464030" y="950108"/>
                </a:lnTo>
                <a:lnTo>
                  <a:pt x="6458538" y="955600"/>
                </a:lnTo>
                <a:lnTo>
                  <a:pt x="6464030" y="958346"/>
                </a:lnTo>
                <a:lnTo>
                  <a:pt x="6466776" y="963838"/>
                </a:lnTo>
                <a:lnTo>
                  <a:pt x="6466776" y="966584"/>
                </a:lnTo>
                <a:lnTo>
                  <a:pt x="6461284" y="974822"/>
                </a:lnTo>
                <a:lnTo>
                  <a:pt x="6453046" y="980314"/>
                </a:lnTo>
                <a:lnTo>
                  <a:pt x="6439316" y="985806"/>
                </a:lnTo>
                <a:lnTo>
                  <a:pt x="6425586" y="991298"/>
                </a:lnTo>
                <a:lnTo>
                  <a:pt x="6414602" y="991298"/>
                </a:lnTo>
                <a:lnTo>
                  <a:pt x="6403618" y="988552"/>
                </a:lnTo>
                <a:lnTo>
                  <a:pt x="6398126" y="985806"/>
                </a:lnTo>
                <a:lnTo>
                  <a:pt x="6398126" y="980314"/>
                </a:lnTo>
                <a:lnTo>
                  <a:pt x="6395380" y="977568"/>
                </a:lnTo>
                <a:lnTo>
                  <a:pt x="6395380" y="969330"/>
                </a:lnTo>
                <a:lnTo>
                  <a:pt x="6395380" y="966584"/>
                </a:lnTo>
                <a:lnTo>
                  <a:pt x="6395380" y="963838"/>
                </a:lnTo>
                <a:lnTo>
                  <a:pt x="6384396" y="961092"/>
                </a:lnTo>
                <a:lnTo>
                  <a:pt x="6370666" y="961092"/>
                </a:lnTo>
                <a:lnTo>
                  <a:pt x="6356936" y="963838"/>
                </a:lnTo>
                <a:lnTo>
                  <a:pt x="6365174" y="977568"/>
                </a:lnTo>
                <a:lnTo>
                  <a:pt x="6367920" y="994044"/>
                </a:lnTo>
                <a:lnTo>
                  <a:pt x="6373412" y="1007774"/>
                </a:lnTo>
                <a:lnTo>
                  <a:pt x="6381650" y="1021504"/>
                </a:lnTo>
                <a:lnTo>
                  <a:pt x="6074986" y="1052594"/>
                </a:lnTo>
                <a:lnTo>
                  <a:pt x="6079593" y="1057201"/>
                </a:lnTo>
                <a:lnTo>
                  <a:pt x="6082339" y="1065439"/>
                </a:lnTo>
                <a:lnTo>
                  <a:pt x="6079593" y="1081915"/>
                </a:lnTo>
                <a:lnTo>
                  <a:pt x="6076847" y="1098391"/>
                </a:lnTo>
                <a:lnTo>
                  <a:pt x="6074101" y="1114867"/>
                </a:lnTo>
                <a:lnTo>
                  <a:pt x="6074101" y="1125850"/>
                </a:lnTo>
                <a:lnTo>
                  <a:pt x="6075474" y="1129969"/>
                </a:lnTo>
                <a:lnTo>
                  <a:pt x="6071355" y="1125850"/>
                </a:lnTo>
                <a:lnTo>
                  <a:pt x="6063117" y="1123104"/>
                </a:lnTo>
                <a:lnTo>
                  <a:pt x="6054879" y="1120359"/>
                </a:lnTo>
                <a:lnTo>
                  <a:pt x="6047557" y="1120359"/>
                </a:lnTo>
                <a:lnTo>
                  <a:pt x="6049387" y="1114867"/>
                </a:lnTo>
                <a:lnTo>
                  <a:pt x="6049387" y="1095645"/>
                </a:lnTo>
                <a:lnTo>
                  <a:pt x="6047204" y="1080360"/>
                </a:lnTo>
                <a:lnTo>
                  <a:pt x="6065863" y="1081915"/>
                </a:lnTo>
                <a:lnTo>
                  <a:pt x="6052133" y="1057201"/>
                </a:lnTo>
                <a:lnTo>
                  <a:pt x="6049387" y="1068185"/>
                </a:lnTo>
                <a:lnTo>
                  <a:pt x="6046642" y="1076423"/>
                </a:lnTo>
                <a:lnTo>
                  <a:pt x="6047204" y="1080360"/>
                </a:lnTo>
                <a:lnTo>
                  <a:pt x="6032912" y="1079169"/>
                </a:lnTo>
                <a:lnTo>
                  <a:pt x="5999960" y="1081915"/>
                </a:lnTo>
                <a:lnTo>
                  <a:pt x="5936802" y="1090153"/>
                </a:lnTo>
                <a:lnTo>
                  <a:pt x="5919059" y="1091631"/>
                </a:lnTo>
                <a:lnTo>
                  <a:pt x="5920326" y="1092899"/>
                </a:lnTo>
                <a:lnTo>
                  <a:pt x="5923072" y="1095645"/>
                </a:lnTo>
                <a:lnTo>
                  <a:pt x="5923072" y="1101137"/>
                </a:lnTo>
                <a:lnTo>
                  <a:pt x="5920326" y="1103883"/>
                </a:lnTo>
                <a:lnTo>
                  <a:pt x="5914834" y="1103883"/>
                </a:lnTo>
                <a:lnTo>
                  <a:pt x="5898359" y="1101137"/>
                </a:lnTo>
                <a:lnTo>
                  <a:pt x="5881883" y="1101137"/>
                </a:lnTo>
                <a:lnTo>
                  <a:pt x="5862661" y="1101137"/>
                </a:lnTo>
                <a:lnTo>
                  <a:pt x="5840693" y="1101137"/>
                </a:lnTo>
                <a:lnTo>
                  <a:pt x="5837947" y="1101137"/>
                </a:lnTo>
                <a:lnTo>
                  <a:pt x="5837947" y="1098391"/>
                </a:lnTo>
                <a:lnTo>
                  <a:pt x="5840693" y="1090153"/>
                </a:lnTo>
                <a:lnTo>
                  <a:pt x="5843211" y="1087636"/>
                </a:lnTo>
                <a:lnTo>
                  <a:pt x="5840693" y="1087407"/>
                </a:lnTo>
                <a:lnTo>
                  <a:pt x="5815252" y="1078926"/>
                </a:lnTo>
                <a:lnTo>
                  <a:pt x="5785773" y="1081915"/>
                </a:lnTo>
                <a:lnTo>
                  <a:pt x="5761059" y="1084661"/>
                </a:lnTo>
                <a:lnTo>
                  <a:pt x="5741837" y="1070931"/>
                </a:lnTo>
                <a:lnTo>
                  <a:pt x="5733600" y="1062693"/>
                </a:lnTo>
                <a:lnTo>
                  <a:pt x="5725362" y="1057201"/>
                </a:lnTo>
                <a:lnTo>
                  <a:pt x="5719870" y="1057201"/>
                </a:lnTo>
                <a:lnTo>
                  <a:pt x="5711632" y="1057201"/>
                </a:lnTo>
                <a:lnTo>
                  <a:pt x="5700648" y="1062693"/>
                </a:lnTo>
                <a:lnTo>
                  <a:pt x="5692410" y="1068185"/>
                </a:lnTo>
                <a:lnTo>
                  <a:pt x="5689664" y="1068185"/>
                </a:lnTo>
                <a:lnTo>
                  <a:pt x="5684172" y="1068185"/>
                </a:lnTo>
                <a:lnTo>
                  <a:pt x="5681426" y="1065439"/>
                </a:lnTo>
                <a:lnTo>
                  <a:pt x="5681426" y="1062693"/>
                </a:lnTo>
                <a:lnTo>
                  <a:pt x="5681426" y="1057201"/>
                </a:lnTo>
                <a:lnTo>
                  <a:pt x="5681426" y="1054455"/>
                </a:lnTo>
                <a:lnTo>
                  <a:pt x="5675934" y="1051709"/>
                </a:lnTo>
                <a:lnTo>
                  <a:pt x="5656712" y="1051709"/>
                </a:lnTo>
                <a:lnTo>
                  <a:pt x="5631998" y="1051709"/>
                </a:lnTo>
                <a:lnTo>
                  <a:pt x="5577079" y="1059947"/>
                </a:lnTo>
                <a:lnTo>
                  <a:pt x="5549619" y="1068185"/>
                </a:lnTo>
                <a:lnTo>
                  <a:pt x="5524905" y="1076423"/>
                </a:lnTo>
                <a:lnTo>
                  <a:pt x="5502937" y="1084661"/>
                </a:lnTo>
                <a:lnTo>
                  <a:pt x="5489208" y="1092899"/>
                </a:lnTo>
                <a:lnTo>
                  <a:pt x="5480970" y="1095645"/>
                </a:lnTo>
                <a:lnTo>
                  <a:pt x="5475478" y="1095645"/>
                </a:lnTo>
                <a:lnTo>
                  <a:pt x="5469986" y="1090153"/>
                </a:lnTo>
                <a:lnTo>
                  <a:pt x="5461748" y="1090153"/>
                </a:lnTo>
                <a:lnTo>
                  <a:pt x="5459002" y="1084661"/>
                </a:lnTo>
                <a:lnTo>
                  <a:pt x="5456256" y="1084661"/>
                </a:lnTo>
                <a:lnTo>
                  <a:pt x="5456256" y="1090153"/>
                </a:lnTo>
                <a:lnTo>
                  <a:pt x="5459002" y="1090153"/>
                </a:lnTo>
                <a:lnTo>
                  <a:pt x="5439780" y="1095645"/>
                </a:lnTo>
                <a:lnTo>
                  <a:pt x="5420558" y="1106629"/>
                </a:lnTo>
                <a:lnTo>
                  <a:pt x="5392376" y="1119636"/>
                </a:lnTo>
                <a:lnTo>
                  <a:pt x="5394625" y="1121884"/>
                </a:lnTo>
                <a:lnTo>
                  <a:pt x="5406828" y="1120359"/>
                </a:lnTo>
                <a:lnTo>
                  <a:pt x="5439780" y="1117613"/>
                </a:lnTo>
                <a:lnTo>
                  <a:pt x="5394987" y="1122246"/>
                </a:lnTo>
                <a:lnTo>
                  <a:pt x="5395844" y="1123104"/>
                </a:lnTo>
                <a:lnTo>
                  <a:pt x="5406828" y="1136834"/>
                </a:lnTo>
                <a:lnTo>
                  <a:pt x="5406828" y="1140495"/>
                </a:lnTo>
                <a:lnTo>
                  <a:pt x="5409574" y="1139580"/>
                </a:lnTo>
                <a:lnTo>
                  <a:pt x="5428796" y="1125850"/>
                </a:lnTo>
                <a:lnTo>
                  <a:pt x="5448018" y="1117612"/>
                </a:lnTo>
                <a:lnTo>
                  <a:pt x="5469986" y="1109374"/>
                </a:lnTo>
                <a:lnTo>
                  <a:pt x="5491954" y="1106628"/>
                </a:lnTo>
                <a:lnTo>
                  <a:pt x="5502388" y="1106628"/>
                </a:lnTo>
                <a:lnTo>
                  <a:pt x="5505683" y="1098391"/>
                </a:lnTo>
                <a:lnTo>
                  <a:pt x="5508429" y="1095645"/>
                </a:lnTo>
                <a:lnTo>
                  <a:pt x="5511175" y="1095645"/>
                </a:lnTo>
                <a:lnTo>
                  <a:pt x="5516667" y="1095645"/>
                </a:lnTo>
                <a:lnTo>
                  <a:pt x="5519413" y="1101137"/>
                </a:lnTo>
                <a:lnTo>
                  <a:pt x="5519413" y="1103883"/>
                </a:lnTo>
                <a:lnTo>
                  <a:pt x="5519413" y="1108688"/>
                </a:lnTo>
                <a:lnTo>
                  <a:pt x="5533143" y="1112120"/>
                </a:lnTo>
                <a:lnTo>
                  <a:pt x="5549619" y="1123104"/>
                </a:lnTo>
                <a:lnTo>
                  <a:pt x="5552365" y="1125850"/>
                </a:lnTo>
                <a:lnTo>
                  <a:pt x="5549619" y="1128596"/>
                </a:lnTo>
                <a:lnTo>
                  <a:pt x="5524905" y="1120358"/>
                </a:lnTo>
                <a:lnTo>
                  <a:pt x="5500192" y="1120358"/>
                </a:lnTo>
                <a:lnTo>
                  <a:pt x="5472732" y="1123104"/>
                </a:lnTo>
                <a:lnTo>
                  <a:pt x="5448018" y="1131342"/>
                </a:lnTo>
                <a:lnTo>
                  <a:pt x="5437034" y="1136834"/>
                </a:lnTo>
                <a:lnTo>
                  <a:pt x="5423304" y="1147818"/>
                </a:lnTo>
                <a:lnTo>
                  <a:pt x="5406828" y="1156056"/>
                </a:lnTo>
                <a:lnTo>
                  <a:pt x="5402709" y="1156056"/>
                </a:lnTo>
                <a:lnTo>
                  <a:pt x="5393099" y="1175277"/>
                </a:lnTo>
                <a:lnTo>
                  <a:pt x="5387607" y="1194499"/>
                </a:lnTo>
                <a:lnTo>
                  <a:pt x="5384861" y="1213721"/>
                </a:lnTo>
                <a:lnTo>
                  <a:pt x="5382548" y="1232220"/>
                </a:lnTo>
                <a:lnTo>
                  <a:pt x="5382115" y="1227451"/>
                </a:lnTo>
                <a:lnTo>
                  <a:pt x="5379369" y="1197245"/>
                </a:lnTo>
                <a:lnTo>
                  <a:pt x="5373877" y="1175277"/>
                </a:lnTo>
                <a:lnTo>
                  <a:pt x="5373877" y="1164294"/>
                </a:lnTo>
                <a:lnTo>
                  <a:pt x="5376623" y="1156056"/>
                </a:lnTo>
                <a:lnTo>
                  <a:pt x="5379369" y="1136834"/>
                </a:lnTo>
                <a:lnTo>
                  <a:pt x="5379369" y="1131342"/>
                </a:lnTo>
                <a:lnTo>
                  <a:pt x="5376959" y="1124111"/>
                </a:lnTo>
                <a:lnTo>
                  <a:pt x="5360147" y="1125851"/>
                </a:lnTo>
                <a:lnTo>
                  <a:pt x="5362893" y="1123105"/>
                </a:lnTo>
                <a:lnTo>
                  <a:pt x="5362893" y="1116697"/>
                </a:lnTo>
                <a:lnTo>
                  <a:pt x="5351909" y="1114866"/>
                </a:lnTo>
                <a:lnTo>
                  <a:pt x="5349163" y="1112120"/>
                </a:lnTo>
                <a:lnTo>
                  <a:pt x="5346417" y="1109374"/>
                </a:lnTo>
                <a:lnTo>
                  <a:pt x="5349163" y="1106629"/>
                </a:lnTo>
                <a:lnTo>
                  <a:pt x="5338179" y="1106629"/>
                </a:lnTo>
                <a:lnTo>
                  <a:pt x="5310719" y="1106629"/>
                </a:lnTo>
                <a:lnTo>
                  <a:pt x="5296989" y="1103883"/>
                </a:lnTo>
                <a:lnTo>
                  <a:pt x="5283259" y="1101137"/>
                </a:lnTo>
                <a:lnTo>
                  <a:pt x="5272275" y="1095645"/>
                </a:lnTo>
                <a:lnTo>
                  <a:pt x="5264037" y="1087407"/>
                </a:lnTo>
                <a:lnTo>
                  <a:pt x="5269529" y="1087407"/>
                </a:lnTo>
                <a:lnTo>
                  <a:pt x="5266783" y="1081915"/>
                </a:lnTo>
                <a:lnTo>
                  <a:pt x="5258545" y="1079169"/>
                </a:lnTo>
                <a:lnTo>
                  <a:pt x="5255799" y="1070931"/>
                </a:lnTo>
                <a:lnTo>
                  <a:pt x="5261291" y="1073677"/>
                </a:lnTo>
                <a:lnTo>
                  <a:pt x="5261291" y="1068185"/>
                </a:lnTo>
                <a:lnTo>
                  <a:pt x="5255799" y="1068185"/>
                </a:lnTo>
                <a:lnTo>
                  <a:pt x="5244816" y="1073677"/>
                </a:lnTo>
                <a:lnTo>
                  <a:pt x="5242070" y="1076423"/>
                </a:lnTo>
                <a:lnTo>
                  <a:pt x="5239324" y="1084661"/>
                </a:lnTo>
                <a:lnTo>
                  <a:pt x="5236578" y="1090153"/>
                </a:lnTo>
                <a:lnTo>
                  <a:pt x="5233832" y="1087407"/>
                </a:lnTo>
                <a:lnTo>
                  <a:pt x="5228340" y="1087407"/>
                </a:lnTo>
                <a:lnTo>
                  <a:pt x="5225594" y="1090153"/>
                </a:lnTo>
                <a:lnTo>
                  <a:pt x="5217356" y="1095645"/>
                </a:lnTo>
                <a:lnTo>
                  <a:pt x="5198134" y="1098391"/>
                </a:lnTo>
                <a:lnTo>
                  <a:pt x="5198134" y="1095645"/>
                </a:lnTo>
                <a:lnTo>
                  <a:pt x="5200880" y="1095645"/>
                </a:lnTo>
                <a:lnTo>
                  <a:pt x="5203626" y="1095645"/>
                </a:lnTo>
                <a:lnTo>
                  <a:pt x="5203626" y="1092899"/>
                </a:lnTo>
                <a:lnTo>
                  <a:pt x="5200880" y="1092899"/>
                </a:lnTo>
                <a:lnTo>
                  <a:pt x="5200880" y="1090153"/>
                </a:lnTo>
                <a:lnTo>
                  <a:pt x="5192642" y="1095645"/>
                </a:lnTo>
                <a:lnTo>
                  <a:pt x="5189896" y="1098391"/>
                </a:lnTo>
                <a:lnTo>
                  <a:pt x="5187150" y="1098391"/>
                </a:lnTo>
                <a:lnTo>
                  <a:pt x="5181658" y="1098391"/>
                </a:lnTo>
                <a:lnTo>
                  <a:pt x="5176166" y="1095645"/>
                </a:lnTo>
                <a:lnTo>
                  <a:pt x="5176166" y="1092899"/>
                </a:lnTo>
                <a:lnTo>
                  <a:pt x="5181658" y="1092899"/>
                </a:lnTo>
                <a:lnTo>
                  <a:pt x="5181658" y="1087407"/>
                </a:lnTo>
                <a:lnTo>
                  <a:pt x="5176166" y="1090153"/>
                </a:lnTo>
                <a:lnTo>
                  <a:pt x="5167928" y="1090153"/>
                </a:lnTo>
                <a:lnTo>
                  <a:pt x="5156944" y="1087407"/>
                </a:lnTo>
                <a:lnTo>
                  <a:pt x="5154198" y="1092899"/>
                </a:lnTo>
                <a:lnTo>
                  <a:pt x="5151452" y="1094272"/>
                </a:lnTo>
                <a:lnTo>
                  <a:pt x="5151452" y="1092899"/>
                </a:lnTo>
                <a:lnTo>
                  <a:pt x="5143214" y="1092899"/>
                </a:lnTo>
                <a:lnTo>
                  <a:pt x="5148706" y="1106629"/>
                </a:lnTo>
                <a:lnTo>
                  <a:pt x="5134976" y="1106629"/>
                </a:lnTo>
                <a:lnTo>
                  <a:pt x="5134976" y="1103883"/>
                </a:lnTo>
                <a:lnTo>
                  <a:pt x="5129485" y="1101137"/>
                </a:lnTo>
                <a:lnTo>
                  <a:pt x="5132230" y="1103883"/>
                </a:lnTo>
                <a:lnTo>
                  <a:pt x="5129485" y="1106629"/>
                </a:lnTo>
                <a:lnTo>
                  <a:pt x="5129485" y="1109375"/>
                </a:lnTo>
                <a:lnTo>
                  <a:pt x="5134976" y="1109375"/>
                </a:lnTo>
                <a:lnTo>
                  <a:pt x="5137722" y="1117613"/>
                </a:lnTo>
                <a:lnTo>
                  <a:pt x="5140468" y="1120359"/>
                </a:lnTo>
                <a:lnTo>
                  <a:pt x="5143214" y="1123105"/>
                </a:lnTo>
                <a:lnTo>
                  <a:pt x="5145960" y="1120359"/>
                </a:lnTo>
                <a:lnTo>
                  <a:pt x="5151452" y="1120359"/>
                </a:lnTo>
                <a:lnTo>
                  <a:pt x="5151452" y="1123105"/>
                </a:lnTo>
                <a:lnTo>
                  <a:pt x="5156944" y="1120359"/>
                </a:lnTo>
                <a:lnTo>
                  <a:pt x="5176166" y="1120359"/>
                </a:lnTo>
                <a:lnTo>
                  <a:pt x="5173420" y="1125851"/>
                </a:lnTo>
                <a:lnTo>
                  <a:pt x="5170674" y="1128597"/>
                </a:lnTo>
                <a:lnTo>
                  <a:pt x="5165182" y="1125851"/>
                </a:lnTo>
                <a:lnTo>
                  <a:pt x="5162436" y="1125851"/>
                </a:lnTo>
                <a:lnTo>
                  <a:pt x="5159690" y="1125851"/>
                </a:lnTo>
                <a:lnTo>
                  <a:pt x="5159690" y="1134089"/>
                </a:lnTo>
                <a:lnTo>
                  <a:pt x="5162436" y="1139581"/>
                </a:lnTo>
                <a:lnTo>
                  <a:pt x="5165182" y="1136835"/>
                </a:lnTo>
                <a:lnTo>
                  <a:pt x="5170674" y="1136835"/>
                </a:lnTo>
                <a:lnTo>
                  <a:pt x="5170674" y="1131343"/>
                </a:lnTo>
                <a:lnTo>
                  <a:pt x="5173420" y="1128597"/>
                </a:lnTo>
                <a:lnTo>
                  <a:pt x="5181658" y="1128597"/>
                </a:lnTo>
                <a:lnTo>
                  <a:pt x="5187150" y="1131343"/>
                </a:lnTo>
                <a:lnTo>
                  <a:pt x="5192642" y="1128597"/>
                </a:lnTo>
                <a:lnTo>
                  <a:pt x="5195388" y="1125851"/>
                </a:lnTo>
                <a:lnTo>
                  <a:pt x="5192642" y="1123105"/>
                </a:lnTo>
                <a:lnTo>
                  <a:pt x="5195388" y="1120359"/>
                </a:lnTo>
                <a:lnTo>
                  <a:pt x="5198134" y="1120359"/>
                </a:lnTo>
                <a:lnTo>
                  <a:pt x="5200880" y="1120359"/>
                </a:lnTo>
                <a:lnTo>
                  <a:pt x="5200880" y="1125851"/>
                </a:lnTo>
                <a:lnTo>
                  <a:pt x="5200880" y="1131343"/>
                </a:lnTo>
                <a:lnTo>
                  <a:pt x="5200880" y="1134088"/>
                </a:lnTo>
                <a:lnTo>
                  <a:pt x="5220102" y="1129282"/>
                </a:lnTo>
                <a:lnTo>
                  <a:pt x="5220102" y="1128597"/>
                </a:lnTo>
                <a:lnTo>
                  <a:pt x="5217356" y="1128597"/>
                </a:lnTo>
                <a:lnTo>
                  <a:pt x="5217356" y="1125851"/>
                </a:lnTo>
                <a:lnTo>
                  <a:pt x="5220102" y="1123105"/>
                </a:lnTo>
                <a:lnTo>
                  <a:pt x="5217356" y="1120359"/>
                </a:lnTo>
                <a:lnTo>
                  <a:pt x="5211864" y="1117613"/>
                </a:lnTo>
                <a:lnTo>
                  <a:pt x="5244816" y="1120359"/>
                </a:lnTo>
                <a:lnTo>
                  <a:pt x="5247561" y="1121274"/>
                </a:lnTo>
                <a:lnTo>
                  <a:pt x="5296989" y="1106628"/>
                </a:lnTo>
                <a:lnTo>
                  <a:pt x="5299735" y="1106628"/>
                </a:lnTo>
                <a:lnTo>
                  <a:pt x="5299735" y="1109374"/>
                </a:lnTo>
                <a:lnTo>
                  <a:pt x="5299735" y="1112120"/>
                </a:lnTo>
                <a:lnTo>
                  <a:pt x="5288751" y="1120358"/>
                </a:lnTo>
                <a:lnTo>
                  <a:pt x="5277767" y="1125850"/>
                </a:lnTo>
                <a:lnTo>
                  <a:pt x="5269921" y="1128792"/>
                </a:lnTo>
                <a:lnTo>
                  <a:pt x="5280513" y="1134089"/>
                </a:lnTo>
                <a:lnTo>
                  <a:pt x="5239324" y="1139581"/>
                </a:lnTo>
                <a:lnTo>
                  <a:pt x="5239324" y="1137556"/>
                </a:lnTo>
                <a:lnTo>
                  <a:pt x="5225993" y="1140363"/>
                </a:lnTo>
                <a:lnTo>
                  <a:pt x="5220102" y="1142327"/>
                </a:lnTo>
                <a:lnTo>
                  <a:pt x="5221019" y="1141410"/>
                </a:lnTo>
                <a:lnTo>
                  <a:pt x="5203626" y="1145072"/>
                </a:lnTo>
                <a:lnTo>
                  <a:pt x="5173420" y="1156056"/>
                </a:lnTo>
                <a:lnTo>
                  <a:pt x="5162436" y="1158802"/>
                </a:lnTo>
                <a:lnTo>
                  <a:pt x="5159690" y="1164294"/>
                </a:lnTo>
                <a:lnTo>
                  <a:pt x="5156944" y="1169785"/>
                </a:lnTo>
                <a:lnTo>
                  <a:pt x="5151452" y="1175277"/>
                </a:lnTo>
                <a:lnTo>
                  <a:pt x="5145961" y="1180769"/>
                </a:lnTo>
                <a:lnTo>
                  <a:pt x="5140469" y="1183515"/>
                </a:lnTo>
                <a:lnTo>
                  <a:pt x="5115755" y="1189007"/>
                </a:lnTo>
                <a:lnTo>
                  <a:pt x="5091041" y="1191753"/>
                </a:lnTo>
                <a:lnTo>
                  <a:pt x="5069989" y="1191753"/>
                </a:lnTo>
                <a:lnTo>
                  <a:pt x="5077311" y="1186261"/>
                </a:lnTo>
                <a:lnTo>
                  <a:pt x="5085549" y="1172531"/>
                </a:lnTo>
                <a:lnTo>
                  <a:pt x="5047105" y="1183515"/>
                </a:lnTo>
                <a:lnTo>
                  <a:pt x="5055343" y="1189007"/>
                </a:lnTo>
                <a:lnTo>
                  <a:pt x="5066327" y="1191753"/>
                </a:lnTo>
                <a:lnTo>
                  <a:pt x="5069989" y="1191753"/>
                </a:lnTo>
                <a:lnTo>
                  <a:pt x="5066327" y="1194499"/>
                </a:lnTo>
                <a:lnTo>
                  <a:pt x="5052597" y="1199991"/>
                </a:lnTo>
                <a:lnTo>
                  <a:pt x="5038867" y="1199991"/>
                </a:lnTo>
                <a:lnTo>
                  <a:pt x="5030630" y="1197245"/>
                </a:lnTo>
                <a:lnTo>
                  <a:pt x="5027884" y="1191753"/>
                </a:lnTo>
                <a:lnTo>
                  <a:pt x="5019646" y="1180769"/>
                </a:lnTo>
                <a:lnTo>
                  <a:pt x="5016900" y="1175277"/>
                </a:lnTo>
                <a:lnTo>
                  <a:pt x="5014154" y="1172531"/>
                </a:lnTo>
                <a:lnTo>
                  <a:pt x="5003170" y="1167039"/>
                </a:lnTo>
                <a:lnTo>
                  <a:pt x="4997999" y="1164454"/>
                </a:lnTo>
                <a:lnTo>
                  <a:pt x="4843903" y="1180770"/>
                </a:lnTo>
                <a:lnTo>
                  <a:pt x="4838411" y="1180770"/>
                </a:lnTo>
                <a:lnTo>
                  <a:pt x="4835665" y="1180770"/>
                </a:lnTo>
                <a:lnTo>
                  <a:pt x="4769761" y="1189008"/>
                </a:lnTo>
                <a:lnTo>
                  <a:pt x="4764270" y="1180770"/>
                </a:lnTo>
                <a:lnTo>
                  <a:pt x="4753286" y="1178024"/>
                </a:lnTo>
                <a:lnTo>
                  <a:pt x="4745048" y="1175278"/>
                </a:lnTo>
                <a:lnTo>
                  <a:pt x="4736810" y="1169786"/>
                </a:lnTo>
                <a:lnTo>
                  <a:pt x="4728572" y="1175278"/>
                </a:lnTo>
                <a:lnTo>
                  <a:pt x="4720334" y="1178024"/>
                </a:lnTo>
                <a:lnTo>
                  <a:pt x="4712096" y="1180770"/>
                </a:lnTo>
                <a:lnTo>
                  <a:pt x="4706604" y="1183516"/>
                </a:lnTo>
                <a:lnTo>
                  <a:pt x="4706604" y="1189008"/>
                </a:lnTo>
                <a:lnTo>
                  <a:pt x="4703858" y="1194500"/>
                </a:lnTo>
                <a:lnTo>
                  <a:pt x="4561067" y="1208230"/>
                </a:lnTo>
                <a:lnTo>
                  <a:pt x="4558321" y="1208230"/>
                </a:lnTo>
                <a:lnTo>
                  <a:pt x="4558321" y="1210976"/>
                </a:lnTo>
                <a:lnTo>
                  <a:pt x="4032232" y="1267167"/>
                </a:lnTo>
                <a:lnTo>
                  <a:pt x="4025601" y="1268640"/>
                </a:lnTo>
                <a:lnTo>
                  <a:pt x="4018437" y="1268640"/>
                </a:lnTo>
                <a:lnTo>
                  <a:pt x="3932144" y="1277857"/>
                </a:lnTo>
                <a:lnTo>
                  <a:pt x="3929493" y="1279625"/>
                </a:lnTo>
                <a:lnTo>
                  <a:pt x="3910271" y="1293355"/>
                </a:lnTo>
                <a:lnTo>
                  <a:pt x="3896541" y="1301593"/>
                </a:lnTo>
                <a:lnTo>
                  <a:pt x="3891049" y="1307085"/>
                </a:lnTo>
                <a:lnTo>
                  <a:pt x="3888303" y="1312577"/>
                </a:lnTo>
                <a:lnTo>
                  <a:pt x="3885557" y="1331798"/>
                </a:lnTo>
                <a:lnTo>
                  <a:pt x="3885557" y="1351020"/>
                </a:lnTo>
                <a:lnTo>
                  <a:pt x="3885557" y="1351020"/>
                </a:lnTo>
                <a:lnTo>
                  <a:pt x="3891049" y="1378480"/>
                </a:lnTo>
                <a:lnTo>
                  <a:pt x="3904779" y="1438891"/>
                </a:lnTo>
                <a:lnTo>
                  <a:pt x="3904779" y="1447129"/>
                </a:lnTo>
                <a:lnTo>
                  <a:pt x="3899287" y="1452621"/>
                </a:lnTo>
                <a:lnTo>
                  <a:pt x="3891049" y="1458113"/>
                </a:lnTo>
                <a:lnTo>
                  <a:pt x="3885557" y="1458113"/>
                </a:lnTo>
                <a:lnTo>
                  <a:pt x="3880065" y="1458113"/>
                </a:lnTo>
                <a:lnTo>
                  <a:pt x="3877319" y="1455367"/>
                </a:lnTo>
                <a:lnTo>
                  <a:pt x="3871827" y="1452621"/>
                </a:lnTo>
                <a:lnTo>
                  <a:pt x="3871827" y="1447129"/>
                </a:lnTo>
                <a:lnTo>
                  <a:pt x="3871827" y="1441637"/>
                </a:lnTo>
                <a:lnTo>
                  <a:pt x="3871827" y="1438891"/>
                </a:lnTo>
                <a:lnTo>
                  <a:pt x="3877319" y="1433399"/>
                </a:lnTo>
                <a:lnTo>
                  <a:pt x="3880065" y="1430653"/>
                </a:lnTo>
                <a:lnTo>
                  <a:pt x="3880065" y="1425161"/>
                </a:lnTo>
                <a:lnTo>
                  <a:pt x="3882811" y="1408686"/>
                </a:lnTo>
                <a:lnTo>
                  <a:pt x="3880065" y="1381226"/>
                </a:lnTo>
                <a:lnTo>
                  <a:pt x="3880065" y="1353766"/>
                </a:lnTo>
                <a:lnTo>
                  <a:pt x="3880065" y="1351020"/>
                </a:lnTo>
                <a:lnTo>
                  <a:pt x="3877319" y="1320815"/>
                </a:lnTo>
                <a:lnTo>
                  <a:pt x="3874573" y="1309831"/>
                </a:lnTo>
                <a:lnTo>
                  <a:pt x="3871827" y="1304339"/>
                </a:lnTo>
                <a:lnTo>
                  <a:pt x="3866335" y="1301593"/>
                </a:lnTo>
                <a:lnTo>
                  <a:pt x="3858098" y="1301593"/>
                </a:lnTo>
                <a:lnTo>
                  <a:pt x="3844368" y="1298847"/>
                </a:lnTo>
                <a:lnTo>
                  <a:pt x="3827892" y="1296101"/>
                </a:lnTo>
                <a:lnTo>
                  <a:pt x="3811416" y="1293355"/>
                </a:lnTo>
                <a:lnTo>
                  <a:pt x="3810500" y="1293355"/>
                </a:lnTo>
                <a:lnTo>
                  <a:pt x="3803178" y="1298847"/>
                </a:lnTo>
                <a:lnTo>
                  <a:pt x="3800432" y="1301593"/>
                </a:lnTo>
                <a:lnTo>
                  <a:pt x="3797686" y="1304339"/>
                </a:lnTo>
                <a:lnTo>
                  <a:pt x="3792194" y="1312577"/>
                </a:lnTo>
                <a:lnTo>
                  <a:pt x="3790197" y="1313076"/>
                </a:lnTo>
                <a:lnTo>
                  <a:pt x="3789448" y="1315323"/>
                </a:lnTo>
                <a:lnTo>
                  <a:pt x="3786702" y="1323561"/>
                </a:lnTo>
                <a:lnTo>
                  <a:pt x="3781654" y="1325244"/>
                </a:lnTo>
                <a:lnTo>
                  <a:pt x="3783956" y="1348275"/>
                </a:lnTo>
                <a:lnTo>
                  <a:pt x="3786702" y="1372988"/>
                </a:lnTo>
                <a:lnTo>
                  <a:pt x="3789448" y="1411432"/>
                </a:lnTo>
                <a:lnTo>
                  <a:pt x="3792194" y="1449876"/>
                </a:lnTo>
                <a:lnTo>
                  <a:pt x="3792194" y="1488319"/>
                </a:lnTo>
                <a:lnTo>
                  <a:pt x="3789448" y="1526763"/>
                </a:lnTo>
                <a:lnTo>
                  <a:pt x="3786702" y="1548731"/>
                </a:lnTo>
                <a:lnTo>
                  <a:pt x="3783956" y="1573445"/>
                </a:lnTo>
                <a:lnTo>
                  <a:pt x="3783956" y="1584429"/>
                </a:lnTo>
                <a:lnTo>
                  <a:pt x="3783956" y="1595412"/>
                </a:lnTo>
                <a:lnTo>
                  <a:pt x="3789448" y="1606396"/>
                </a:lnTo>
                <a:lnTo>
                  <a:pt x="3794940" y="1614634"/>
                </a:lnTo>
                <a:lnTo>
                  <a:pt x="3803178" y="1622872"/>
                </a:lnTo>
                <a:lnTo>
                  <a:pt x="3811416" y="1633856"/>
                </a:lnTo>
                <a:lnTo>
                  <a:pt x="3814162" y="1644840"/>
                </a:lnTo>
                <a:lnTo>
                  <a:pt x="3816908" y="1658570"/>
                </a:lnTo>
                <a:lnTo>
                  <a:pt x="3819654" y="1675046"/>
                </a:lnTo>
                <a:lnTo>
                  <a:pt x="3819654" y="1688776"/>
                </a:lnTo>
                <a:lnTo>
                  <a:pt x="3816908" y="1699760"/>
                </a:lnTo>
                <a:lnTo>
                  <a:pt x="3811416" y="1710743"/>
                </a:lnTo>
                <a:lnTo>
                  <a:pt x="3803178" y="1721727"/>
                </a:lnTo>
                <a:lnTo>
                  <a:pt x="3792194" y="1727219"/>
                </a:lnTo>
                <a:lnTo>
                  <a:pt x="3781211" y="1732711"/>
                </a:lnTo>
                <a:lnTo>
                  <a:pt x="3767481" y="1738203"/>
                </a:lnTo>
                <a:lnTo>
                  <a:pt x="3759243" y="1738203"/>
                </a:lnTo>
                <a:lnTo>
                  <a:pt x="3753751" y="1735457"/>
                </a:lnTo>
                <a:lnTo>
                  <a:pt x="3751005" y="1729965"/>
                </a:lnTo>
                <a:lnTo>
                  <a:pt x="3751005" y="1721727"/>
                </a:lnTo>
                <a:lnTo>
                  <a:pt x="3756497" y="1699760"/>
                </a:lnTo>
                <a:lnTo>
                  <a:pt x="3759243" y="1688776"/>
                </a:lnTo>
                <a:lnTo>
                  <a:pt x="3764735" y="1677792"/>
                </a:lnTo>
                <a:lnTo>
                  <a:pt x="3770227" y="1661316"/>
                </a:lnTo>
                <a:lnTo>
                  <a:pt x="3772973" y="1644840"/>
                </a:lnTo>
                <a:lnTo>
                  <a:pt x="3772973" y="1628364"/>
                </a:lnTo>
                <a:lnTo>
                  <a:pt x="3770227" y="1611888"/>
                </a:lnTo>
                <a:lnTo>
                  <a:pt x="3770227" y="1598158"/>
                </a:lnTo>
                <a:lnTo>
                  <a:pt x="3772973" y="1581683"/>
                </a:lnTo>
                <a:lnTo>
                  <a:pt x="3778465" y="1554223"/>
                </a:lnTo>
                <a:lnTo>
                  <a:pt x="3783956" y="1502049"/>
                </a:lnTo>
                <a:lnTo>
                  <a:pt x="3786702" y="1474589"/>
                </a:lnTo>
                <a:lnTo>
                  <a:pt x="3786702" y="1447130"/>
                </a:lnTo>
                <a:lnTo>
                  <a:pt x="3783956" y="1419670"/>
                </a:lnTo>
                <a:lnTo>
                  <a:pt x="3778465" y="1392210"/>
                </a:lnTo>
                <a:lnTo>
                  <a:pt x="3767481" y="1370242"/>
                </a:lnTo>
                <a:lnTo>
                  <a:pt x="3753751" y="1351021"/>
                </a:lnTo>
                <a:lnTo>
                  <a:pt x="3748259" y="1340037"/>
                </a:lnTo>
                <a:lnTo>
                  <a:pt x="3737275" y="1323561"/>
                </a:lnTo>
                <a:lnTo>
                  <a:pt x="3731783" y="1312577"/>
                </a:lnTo>
                <a:lnTo>
                  <a:pt x="3729037" y="1304339"/>
                </a:lnTo>
                <a:lnTo>
                  <a:pt x="3731566" y="1299281"/>
                </a:lnTo>
                <a:lnTo>
                  <a:pt x="3709696" y="1301617"/>
                </a:lnTo>
                <a:lnTo>
                  <a:pt x="3696085" y="1304339"/>
                </a:lnTo>
                <a:lnTo>
                  <a:pt x="3685101" y="1307085"/>
                </a:lnTo>
                <a:lnTo>
                  <a:pt x="3680578" y="1306762"/>
                </a:lnTo>
                <a:lnTo>
                  <a:pt x="3671370" y="1309831"/>
                </a:lnTo>
                <a:lnTo>
                  <a:pt x="3638419" y="1315323"/>
                </a:lnTo>
                <a:lnTo>
                  <a:pt x="3621943" y="1318069"/>
                </a:lnTo>
                <a:lnTo>
                  <a:pt x="3608213" y="1320815"/>
                </a:lnTo>
                <a:lnTo>
                  <a:pt x="3591737" y="1326307"/>
                </a:lnTo>
                <a:lnTo>
                  <a:pt x="3580753" y="1337290"/>
                </a:lnTo>
                <a:lnTo>
                  <a:pt x="3575261" y="1342782"/>
                </a:lnTo>
                <a:lnTo>
                  <a:pt x="3569769" y="1342782"/>
                </a:lnTo>
                <a:lnTo>
                  <a:pt x="3558785" y="1342782"/>
                </a:lnTo>
                <a:lnTo>
                  <a:pt x="3545055" y="1337290"/>
                </a:lnTo>
                <a:lnTo>
                  <a:pt x="3542071" y="1335500"/>
                </a:lnTo>
                <a:lnTo>
                  <a:pt x="3542309" y="1334544"/>
                </a:lnTo>
                <a:lnTo>
                  <a:pt x="3547801" y="1326307"/>
                </a:lnTo>
                <a:lnTo>
                  <a:pt x="3531326" y="1329053"/>
                </a:lnTo>
                <a:lnTo>
                  <a:pt x="3542071" y="1335500"/>
                </a:lnTo>
                <a:lnTo>
                  <a:pt x="3539564" y="1345528"/>
                </a:lnTo>
                <a:lnTo>
                  <a:pt x="3534072" y="1351020"/>
                </a:lnTo>
                <a:lnTo>
                  <a:pt x="3528580" y="1353766"/>
                </a:lnTo>
                <a:lnTo>
                  <a:pt x="3523088" y="1351020"/>
                </a:lnTo>
                <a:lnTo>
                  <a:pt x="3520342" y="1348274"/>
                </a:lnTo>
                <a:lnTo>
                  <a:pt x="3514850" y="1340036"/>
                </a:lnTo>
                <a:lnTo>
                  <a:pt x="3506612" y="1331798"/>
                </a:lnTo>
                <a:lnTo>
                  <a:pt x="3498374" y="1329053"/>
                </a:lnTo>
                <a:lnTo>
                  <a:pt x="3487390" y="1326307"/>
                </a:lnTo>
                <a:lnTo>
                  <a:pt x="3478538" y="1326307"/>
                </a:lnTo>
                <a:lnTo>
                  <a:pt x="3397870" y="1334923"/>
                </a:lnTo>
                <a:lnTo>
                  <a:pt x="3393378" y="1339414"/>
                </a:lnTo>
                <a:lnTo>
                  <a:pt x="3379648" y="1350398"/>
                </a:lnTo>
                <a:lnTo>
                  <a:pt x="3369763" y="1355341"/>
                </a:lnTo>
                <a:lnTo>
                  <a:pt x="3360426" y="1383350"/>
                </a:lnTo>
                <a:lnTo>
                  <a:pt x="3354934" y="1399826"/>
                </a:lnTo>
                <a:lnTo>
                  <a:pt x="3354934" y="1416302"/>
                </a:lnTo>
                <a:lnTo>
                  <a:pt x="3352188" y="1438270"/>
                </a:lnTo>
                <a:lnTo>
                  <a:pt x="3352188" y="1457491"/>
                </a:lnTo>
                <a:lnTo>
                  <a:pt x="3357680" y="1465729"/>
                </a:lnTo>
                <a:lnTo>
                  <a:pt x="3357680" y="1471221"/>
                </a:lnTo>
                <a:lnTo>
                  <a:pt x="3357680" y="1473967"/>
                </a:lnTo>
                <a:lnTo>
                  <a:pt x="3352188" y="1482205"/>
                </a:lnTo>
                <a:lnTo>
                  <a:pt x="3346696" y="1487697"/>
                </a:lnTo>
                <a:lnTo>
                  <a:pt x="3338458" y="1487697"/>
                </a:lnTo>
                <a:lnTo>
                  <a:pt x="3330221" y="1484951"/>
                </a:lnTo>
                <a:lnTo>
                  <a:pt x="3327475" y="1484951"/>
                </a:lnTo>
                <a:lnTo>
                  <a:pt x="3321983" y="1479459"/>
                </a:lnTo>
                <a:lnTo>
                  <a:pt x="3321983" y="1473967"/>
                </a:lnTo>
                <a:lnTo>
                  <a:pt x="3321983" y="1465729"/>
                </a:lnTo>
                <a:lnTo>
                  <a:pt x="3324729" y="1460237"/>
                </a:lnTo>
                <a:lnTo>
                  <a:pt x="3332967" y="1454745"/>
                </a:lnTo>
                <a:lnTo>
                  <a:pt x="3343950" y="1451999"/>
                </a:lnTo>
                <a:lnTo>
                  <a:pt x="3341204" y="1435524"/>
                </a:lnTo>
                <a:lnTo>
                  <a:pt x="3341204" y="1416302"/>
                </a:lnTo>
                <a:lnTo>
                  <a:pt x="3335713" y="1397080"/>
                </a:lnTo>
                <a:lnTo>
                  <a:pt x="3327475" y="1377858"/>
                </a:lnTo>
                <a:lnTo>
                  <a:pt x="3323915" y="1365400"/>
                </a:lnTo>
                <a:lnTo>
                  <a:pt x="3335713" y="1366874"/>
                </a:lnTo>
                <a:lnTo>
                  <a:pt x="3323698" y="1342845"/>
                </a:lnTo>
                <a:lnTo>
                  <a:pt x="3321983" y="1343028"/>
                </a:lnTo>
                <a:lnTo>
                  <a:pt x="3321983" y="1350398"/>
                </a:lnTo>
                <a:lnTo>
                  <a:pt x="3321983" y="1358636"/>
                </a:lnTo>
                <a:lnTo>
                  <a:pt x="3323915" y="1365400"/>
                </a:lnTo>
                <a:lnTo>
                  <a:pt x="3313745" y="1364128"/>
                </a:lnTo>
                <a:lnTo>
                  <a:pt x="3305507" y="1364128"/>
                </a:lnTo>
                <a:lnTo>
                  <a:pt x="3297269" y="1358636"/>
                </a:lnTo>
                <a:lnTo>
                  <a:pt x="3291777" y="1353144"/>
                </a:lnTo>
                <a:lnTo>
                  <a:pt x="3289559" y="1346491"/>
                </a:lnTo>
                <a:lnTo>
                  <a:pt x="2501585" y="1430654"/>
                </a:lnTo>
                <a:lnTo>
                  <a:pt x="3289031" y="1336820"/>
                </a:lnTo>
                <a:lnTo>
                  <a:pt x="3289031" y="1331177"/>
                </a:lnTo>
                <a:lnTo>
                  <a:pt x="3283539" y="1322939"/>
                </a:lnTo>
                <a:lnTo>
                  <a:pt x="3278047" y="1314701"/>
                </a:lnTo>
                <a:lnTo>
                  <a:pt x="3269809" y="1309209"/>
                </a:lnTo>
                <a:lnTo>
                  <a:pt x="3250587" y="1295479"/>
                </a:lnTo>
                <a:lnTo>
                  <a:pt x="3242349" y="1289987"/>
                </a:lnTo>
                <a:lnTo>
                  <a:pt x="3234111" y="1281749"/>
                </a:lnTo>
                <a:lnTo>
                  <a:pt x="3234111" y="1279003"/>
                </a:lnTo>
                <a:lnTo>
                  <a:pt x="3234111" y="1276257"/>
                </a:lnTo>
                <a:lnTo>
                  <a:pt x="3236857" y="1276257"/>
                </a:lnTo>
                <a:lnTo>
                  <a:pt x="3239603" y="1276257"/>
                </a:lnTo>
                <a:lnTo>
                  <a:pt x="3267063" y="1287241"/>
                </a:lnTo>
                <a:lnTo>
                  <a:pt x="3294523" y="1298225"/>
                </a:lnTo>
                <a:lnTo>
                  <a:pt x="3305507" y="1306463"/>
                </a:lnTo>
                <a:lnTo>
                  <a:pt x="3316491" y="1317447"/>
                </a:lnTo>
                <a:lnTo>
                  <a:pt x="3319420" y="1323305"/>
                </a:lnTo>
                <a:lnTo>
                  <a:pt x="3302761" y="1325685"/>
                </a:lnTo>
                <a:lnTo>
                  <a:pt x="3313352" y="1333922"/>
                </a:lnTo>
                <a:lnTo>
                  <a:pt x="3323414" y="1332723"/>
                </a:lnTo>
                <a:lnTo>
                  <a:pt x="3321983" y="1328431"/>
                </a:lnTo>
                <a:lnTo>
                  <a:pt x="3319420" y="1323305"/>
                </a:lnTo>
                <a:lnTo>
                  <a:pt x="3321983" y="1322939"/>
                </a:lnTo>
                <a:lnTo>
                  <a:pt x="3341204" y="1320193"/>
                </a:lnTo>
                <a:lnTo>
                  <a:pt x="3346696" y="1320193"/>
                </a:lnTo>
                <a:lnTo>
                  <a:pt x="3352188" y="1320193"/>
                </a:lnTo>
                <a:lnTo>
                  <a:pt x="3362660" y="1328046"/>
                </a:lnTo>
                <a:lnTo>
                  <a:pt x="3369249" y="1327261"/>
                </a:lnTo>
                <a:lnTo>
                  <a:pt x="3371410" y="1322938"/>
                </a:lnTo>
                <a:lnTo>
                  <a:pt x="3382394" y="1306463"/>
                </a:lnTo>
                <a:lnTo>
                  <a:pt x="3401616" y="1276257"/>
                </a:lnTo>
                <a:lnTo>
                  <a:pt x="3412600" y="1262527"/>
                </a:lnTo>
                <a:lnTo>
                  <a:pt x="3426329" y="1248797"/>
                </a:lnTo>
                <a:lnTo>
                  <a:pt x="3431821" y="1248797"/>
                </a:lnTo>
                <a:lnTo>
                  <a:pt x="3440059" y="1248797"/>
                </a:lnTo>
                <a:lnTo>
                  <a:pt x="3442805" y="1254289"/>
                </a:lnTo>
                <a:lnTo>
                  <a:pt x="3445551" y="1259781"/>
                </a:lnTo>
                <a:lnTo>
                  <a:pt x="3442805" y="1268019"/>
                </a:lnTo>
                <a:lnTo>
                  <a:pt x="3440059" y="1279003"/>
                </a:lnTo>
                <a:lnTo>
                  <a:pt x="3431821" y="1295479"/>
                </a:lnTo>
                <a:lnTo>
                  <a:pt x="3409768" y="1322433"/>
                </a:lnTo>
                <a:lnTo>
                  <a:pt x="3451987" y="1317402"/>
                </a:lnTo>
                <a:lnTo>
                  <a:pt x="3457184" y="1315323"/>
                </a:lnTo>
                <a:lnTo>
                  <a:pt x="3468168" y="1312577"/>
                </a:lnTo>
                <a:lnTo>
                  <a:pt x="3481898" y="1312577"/>
                </a:lnTo>
                <a:lnTo>
                  <a:pt x="3492477" y="1312577"/>
                </a:lnTo>
                <a:lnTo>
                  <a:pt x="3544394" y="1306390"/>
                </a:lnTo>
                <a:lnTo>
                  <a:pt x="3553295" y="1303423"/>
                </a:lnTo>
                <a:lnTo>
                  <a:pt x="3556040" y="1301593"/>
                </a:lnTo>
                <a:lnTo>
                  <a:pt x="3578008" y="1296101"/>
                </a:lnTo>
                <a:lnTo>
                  <a:pt x="3599976" y="1290609"/>
                </a:lnTo>
                <a:lnTo>
                  <a:pt x="3635674" y="1285117"/>
                </a:lnTo>
                <a:lnTo>
                  <a:pt x="3654895" y="1282371"/>
                </a:lnTo>
                <a:lnTo>
                  <a:pt x="3671371" y="1279625"/>
                </a:lnTo>
                <a:lnTo>
                  <a:pt x="3690593" y="1279625"/>
                </a:lnTo>
                <a:lnTo>
                  <a:pt x="3702574" y="1281622"/>
                </a:lnTo>
                <a:lnTo>
                  <a:pt x="3712560" y="1274132"/>
                </a:lnTo>
                <a:lnTo>
                  <a:pt x="3723544" y="1268640"/>
                </a:lnTo>
                <a:lnTo>
                  <a:pt x="3740020" y="1265895"/>
                </a:lnTo>
                <a:lnTo>
                  <a:pt x="3764734" y="1265895"/>
                </a:lnTo>
                <a:lnTo>
                  <a:pt x="3808669" y="1268640"/>
                </a:lnTo>
                <a:lnTo>
                  <a:pt x="3841505" y="1270986"/>
                </a:lnTo>
                <a:lnTo>
                  <a:pt x="3867773" y="1267856"/>
                </a:lnTo>
                <a:lnTo>
                  <a:pt x="3869081" y="1265895"/>
                </a:lnTo>
                <a:lnTo>
                  <a:pt x="3871827" y="1260403"/>
                </a:lnTo>
                <a:lnTo>
                  <a:pt x="3877319" y="1260403"/>
                </a:lnTo>
                <a:lnTo>
                  <a:pt x="3902033" y="1254911"/>
                </a:lnTo>
                <a:lnTo>
                  <a:pt x="3932238" y="1249419"/>
                </a:lnTo>
                <a:lnTo>
                  <a:pt x="3987158" y="1243927"/>
                </a:lnTo>
                <a:lnTo>
                  <a:pt x="4044823" y="1243927"/>
                </a:lnTo>
                <a:lnTo>
                  <a:pt x="4068580" y="1243927"/>
                </a:lnTo>
                <a:lnTo>
                  <a:pt x="4189063" y="1229570"/>
                </a:lnTo>
                <a:lnTo>
                  <a:pt x="4198598" y="1227451"/>
                </a:lnTo>
                <a:lnTo>
                  <a:pt x="4248026" y="1219213"/>
                </a:lnTo>
                <a:lnTo>
                  <a:pt x="4272739" y="1216467"/>
                </a:lnTo>
                <a:lnTo>
                  <a:pt x="4278349" y="1215844"/>
                </a:lnTo>
                <a:lnTo>
                  <a:pt x="4462212" y="1183516"/>
                </a:lnTo>
                <a:lnTo>
                  <a:pt x="4467704" y="1183516"/>
                </a:lnTo>
                <a:lnTo>
                  <a:pt x="4566559" y="1167040"/>
                </a:lnTo>
                <a:lnTo>
                  <a:pt x="4591273" y="1169786"/>
                </a:lnTo>
                <a:lnTo>
                  <a:pt x="4615987" y="1167040"/>
                </a:lnTo>
                <a:lnTo>
                  <a:pt x="4621479" y="1164294"/>
                </a:lnTo>
                <a:lnTo>
                  <a:pt x="4629717" y="1156056"/>
                </a:lnTo>
                <a:lnTo>
                  <a:pt x="4629717" y="1158802"/>
                </a:lnTo>
                <a:lnTo>
                  <a:pt x="4626971" y="1161548"/>
                </a:lnTo>
                <a:lnTo>
                  <a:pt x="4624225" y="1169786"/>
                </a:lnTo>
                <a:lnTo>
                  <a:pt x="4629717" y="1172532"/>
                </a:lnTo>
                <a:lnTo>
                  <a:pt x="4635209" y="1175278"/>
                </a:lnTo>
                <a:lnTo>
                  <a:pt x="4637955" y="1186262"/>
                </a:lnTo>
                <a:lnTo>
                  <a:pt x="4646192" y="1186262"/>
                </a:lnTo>
                <a:lnTo>
                  <a:pt x="4654430" y="1186262"/>
                </a:lnTo>
                <a:lnTo>
                  <a:pt x="4665414" y="1191754"/>
                </a:lnTo>
                <a:lnTo>
                  <a:pt x="4670906" y="1189008"/>
                </a:lnTo>
                <a:lnTo>
                  <a:pt x="4681890" y="1189008"/>
                </a:lnTo>
                <a:lnTo>
                  <a:pt x="4690128" y="1186262"/>
                </a:lnTo>
                <a:lnTo>
                  <a:pt x="4692874" y="1186262"/>
                </a:lnTo>
                <a:lnTo>
                  <a:pt x="4695620" y="1183516"/>
                </a:lnTo>
                <a:lnTo>
                  <a:pt x="4695620" y="1180770"/>
                </a:lnTo>
                <a:lnTo>
                  <a:pt x="4692874" y="1178024"/>
                </a:lnTo>
                <a:lnTo>
                  <a:pt x="4698366" y="1178024"/>
                </a:lnTo>
                <a:lnTo>
                  <a:pt x="4703858" y="1175278"/>
                </a:lnTo>
                <a:lnTo>
                  <a:pt x="4703858" y="1169786"/>
                </a:lnTo>
                <a:lnTo>
                  <a:pt x="4701112" y="1167040"/>
                </a:lnTo>
                <a:lnTo>
                  <a:pt x="4706604" y="1164294"/>
                </a:lnTo>
                <a:lnTo>
                  <a:pt x="4714842" y="1164294"/>
                </a:lnTo>
                <a:lnTo>
                  <a:pt x="4717588" y="1156056"/>
                </a:lnTo>
                <a:lnTo>
                  <a:pt x="4720334" y="1147819"/>
                </a:lnTo>
                <a:lnTo>
                  <a:pt x="4709350" y="1145073"/>
                </a:lnTo>
                <a:lnTo>
                  <a:pt x="4709350" y="1142327"/>
                </a:lnTo>
                <a:lnTo>
                  <a:pt x="4767015" y="1131343"/>
                </a:lnTo>
                <a:lnTo>
                  <a:pt x="4767015" y="1139581"/>
                </a:lnTo>
                <a:lnTo>
                  <a:pt x="4769761" y="1142327"/>
                </a:lnTo>
                <a:lnTo>
                  <a:pt x="4775253" y="1142327"/>
                </a:lnTo>
                <a:lnTo>
                  <a:pt x="4777999" y="1134089"/>
                </a:lnTo>
                <a:lnTo>
                  <a:pt x="4780745" y="1131343"/>
                </a:lnTo>
                <a:lnTo>
                  <a:pt x="4783491" y="1128597"/>
                </a:lnTo>
                <a:lnTo>
                  <a:pt x="4986694" y="1095645"/>
                </a:lnTo>
                <a:lnTo>
                  <a:pt x="4994932" y="1095645"/>
                </a:lnTo>
                <a:lnTo>
                  <a:pt x="4997678" y="1092899"/>
                </a:lnTo>
                <a:lnTo>
                  <a:pt x="5058089" y="1081915"/>
                </a:lnTo>
                <a:lnTo>
                  <a:pt x="5060835" y="1081915"/>
                </a:lnTo>
                <a:lnTo>
                  <a:pt x="5063581" y="1084661"/>
                </a:lnTo>
                <a:lnTo>
                  <a:pt x="5063581" y="1090153"/>
                </a:lnTo>
                <a:lnTo>
                  <a:pt x="5063581" y="1092899"/>
                </a:lnTo>
                <a:lnTo>
                  <a:pt x="5074565" y="1087407"/>
                </a:lnTo>
                <a:lnTo>
                  <a:pt x="5080057" y="1081915"/>
                </a:lnTo>
                <a:lnTo>
                  <a:pt x="5082803" y="1073677"/>
                </a:lnTo>
                <a:lnTo>
                  <a:pt x="5080057" y="1073677"/>
                </a:lnTo>
                <a:lnTo>
                  <a:pt x="5077311" y="1070931"/>
                </a:lnTo>
                <a:lnTo>
                  <a:pt x="5069073" y="1070931"/>
                </a:lnTo>
                <a:lnTo>
                  <a:pt x="5063581" y="1068185"/>
                </a:lnTo>
                <a:lnTo>
                  <a:pt x="5058089" y="1065439"/>
                </a:lnTo>
                <a:lnTo>
                  <a:pt x="5058089" y="1026996"/>
                </a:lnTo>
                <a:lnTo>
                  <a:pt x="5060835" y="1029741"/>
                </a:lnTo>
                <a:lnTo>
                  <a:pt x="5060835" y="1021504"/>
                </a:lnTo>
                <a:lnTo>
                  <a:pt x="5058089" y="1021504"/>
                </a:lnTo>
                <a:lnTo>
                  <a:pt x="5058089" y="985806"/>
                </a:lnTo>
                <a:lnTo>
                  <a:pt x="5063581" y="985806"/>
                </a:lnTo>
                <a:lnTo>
                  <a:pt x="5063581" y="980314"/>
                </a:lnTo>
                <a:lnTo>
                  <a:pt x="5063581" y="974822"/>
                </a:lnTo>
                <a:lnTo>
                  <a:pt x="5058089" y="974822"/>
                </a:lnTo>
                <a:lnTo>
                  <a:pt x="5058089" y="972076"/>
                </a:lnTo>
                <a:lnTo>
                  <a:pt x="5060835" y="972076"/>
                </a:lnTo>
                <a:lnTo>
                  <a:pt x="5060835" y="969330"/>
                </a:lnTo>
                <a:lnTo>
                  <a:pt x="5063581" y="966584"/>
                </a:lnTo>
                <a:lnTo>
                  <a:pt x="5071819" y="980314"/>
                </a:lnTo>
                <a:lnTo>
                  <a:pt x="5077311" y="983060"/>
                </a:lnTo>
                <a:lnTo>
                  <a:pt x="5085549" y="983060"/>
                </a:lnTo>
                <a:lnTo>
                  <a:pt x="5082803" y="980314"/>
                </a:lnTo>
                <a:lnTo>
                  <a:pt x="5082803" y="977568"/>
                </a:lnTo>
                <a:lnTo>
                  <a:pt x="5085549" y="977568"/>
                </a:lnTo>
                <a:lnTo>
                  <a:pt x="5088295" y="974822"/>
                </a:lnTo>
                <a:lnTo>
                  <a:pt x="5091041" y="974822"/>
                </a:lnTo>
                <a:lnTo>
                  <a:pt x="5091041" y="972076"/>
                </a:lnTo>
                <a:lnTo>
                  <a:pt x="5080057" y="966584"/>
                </a:lnTo>
                <a:lnTo>
                  <a:pt x="5074565" y="966584"/>
                </a:lnTo>
                <a:lnTo>
                  <a:pt x="5069073" y="966584"/>
                </a:lnTo>
                <a:lnTo>
                  <a:pt x="5063581" y="966584"/>
                </a:lnTo>
                <a:lnTo>
                  <a:pt x="5058089" y="966584"/>
                </a:lnTo>
                <a:lnTo>
                  <a:pt x="5058089" y="944616"/>
                </a:lnTo>
                <a:lnTo>
                  <a:pt x="5060835" y="944616"/>
                </a:lnTo>
                <a:lnTo>
                  <a:pt x="5063581" y="939124"/>
                </a:lnTo>
                <a:lnTo>
                  <a:pt x="5060835" y="939124"/>
                </a:lnTo>
                <a:lnTo>
                  <a:pt x="5060835" y="930886"/>
                </a:lnTo>
                <a:lnTo>
                  <a:pt x="5058089" y="930886"/>
                </a:lnTo>
                <a:lnTo>
                  <a:pt x="5060835" y="897934"/>
                </a:lnTo>
                <a:lnTo>
                  <a:pt x="5063581" y="897934"/>
                </a:lnTo>
                <a:lnTo>
                  <a:pt x="5063581" y="892442"/>
                </a:lnTo>
                <a:lnTo>
                  <a:pt x="5060835" y="892442"/>
                </a:lnTo>
                <a:lnTo>
                  <a:pt x="5060835" y="873220"/>
                </a:lnTo>
                <a:lnTo>
                  <a:pt x="5063581" y="873220"/>
                </a:lnTo>
                <a:lnTo>
                  <a:pt x="5063581" y="867729"/>
                </a:lnTo>
                <a:lnTo>
                  <a:pt x="5060835" y="864983"/>
                </a:lnTo>
                <a:lnTo>
                  <a:pt x="5060835" y="623337"/>
                </a:lnTo>
                <a:lnTo>
                  <a:pt x="5080057" y="626083"/>
                </a:lnTo>
                <a:lnTo>
                  <a:pt x="5096533" y="623337"/>
                </a:lnTo>
                <a:lnTo>
                  <a:pt x="5096533" y="620591"/>
                </a:lnTo>
                <a:lnTo>
                  <a:pt x="5096533" y="612353"/>
                </a:lnTo>
                <a:lnTo>
                  <a:pt x="5093787" y="612353"/>
                </a:lnTo>
                <a:lnTo>
                  <a:pt x="5093787" y="609607"/>
                </a:lnTo>
                <a:lnTo>
                  <a:pt x="5085549" y="609607"/>
                </a:lnTo>
                <a:lnTo>
                  <a:pt x="5082803" y="606861"/>
                </a:lnTo>
                <a:lnTo>
                  <a:pt x="5080057" y="604115"/>
                </a:lnTo>
                <a:lnTo>
                  <a:pt x="5074565" y="601369"/>
                </a:lnTo>
                <a:lnTo>
                  <a:pt x="5074565" y="590385"/>
                </a:lnTo>
                <a:lnTo>
                  <a:pt x="5066327" y="587639"/>
                </a:lnTo>
                <a:lnTo>
                  <a:pt x="5060835" y="587639"/>
                </a:lnTo>
                <a:lnTo>
                  <a:pt x="5060835" y="576655"/>
                </a:lnTo>
                <a:lnTo>
                  <a:pt x="5074565" y="576655"/>
                </a:lnTo>
                <a:lnTo>
                  <a:pt x="5077311" y="571163"/>
                </a:lnTo>
                <a:lnTo>
                  <a:pt x="5080057" y="568417"/>
                </a:lnTo>
                <a:lnTo>
                  <a:pt x="5080057" y="571163"/>
                </a:lnTo>
                <a:lnTo>
                  <a:pt x="5082803" y="571163"/>
                </a:lnTo>
                <a:lnTo>
                  <a:pt x="5085549" y="568417"/>
                </a:lnTo>
                <a:lnTo>
                  <a:pt x="5088295" y="562925"/>
                </a:lnTo>
                <a:lnTo>
                  <a:pt x="5082803" y="565671"/>
                </a:lnTo>
                <a:lnTo>
                  <a:pt x="5077311" y="565671"/>
                </a:lnTo>
                <a:lnTo>
                  <a:pt x="5080057" y="557433"/>
                </a:lnTo>
                <a:lnTo>
                  <a:pt x="5080057" y="551941"/>
                </a:lnTo>
                <a:lnTo>
                  <a:pt x="5077311" y="546449"/>
                </a:lnTo>
                <a:lnTo>
                  <a:pt x="5085549" y="543703"/>
                </a:lnTo>
                <a:lnTo>
                  <a:pt x="5088295" y="546449"/>
                </a:lnTo>
                <a:lnTo>
                  <a:pt x="5091041" y="549195"/>
                </a:lnTo>
                <a:lnTo>
                  <a:pt x="5091041" y="551941"/>
                </a:lnTo>
                <a:lnTo>
                  <a:pt x="5102025" y="554687"/>
                </a:lnTo>
                <a:lnTo>
                  <a:pt x="5113009" y="551941"/>
                </a:lnTo>
                <a:lnTo>
                  <a:pt x="5115755" y="543703"/>
                </a:lnTo>
                <a:lnTo>
                  <a:pt x="5115755" y="535465"/>
                </a:lnTo>
                <a:lnTo>
                  <a:pt x="5113009" y="532719"/>
                </a:lnTo>
                <a:lnTo>
                  <a:pt x="5110263" y="532719"/>
                </a:lnTo>
                <a:lnTo>
                  <a:pt x="5107517" y="524481"/>
                </a:lnTo>
                <a:lnTo>
                  <a:pt x="5181658" y="516243"/>
                </a:lnTo>
                <a:lnTo>
                  <a:pt x="5181658" y="518989"/>
                </a:lnTo>
                <a:lnTo>
                  <a:pt x="5184404" y="518989"/>
                </a:lnTo>
                <a:lnTo>
                  <a:pt x="5187150" y="518989"/>
                </a:lnTo>
                <a:lnTo>
                  <a:pt x="5187150" y="513497"/>
                </a:lnTo>
                <a:lnTo>
                  <a:pt x="5566095" y="472308"/>
                </a:lnTo>
                <a:lnTo>
                  <a:pt x="5571587" y="475054"/>
                </a:lnTo>
                <a:lnTo>
                  <a:pt x="5579825" y="475054"/>
                </a:lnTo>
                <a:lnTo>
                  <a:pt x="5579825" y="469562"/>
                </a:lnTo>
                <a:lnTo>
                  <a:pt x="5631998" y="464070"/>
                </a:lnTo>
                <a:lnTo>
                  <a:pt x="5634744" y="464070"/>
                </a:lnTo>
                <a:lnTo>
                  <a:pt x="5637490" y="466816"/>
                </a:lnTo>
                <a:lnTo>
                  <a:pt x="5640236" y="469562"/>
                </a:lnTo>
                <a:lnTo>
                  <a:pt x="5642982" y="469562"/>
                </a:lnTo>
                <a:lnTo>
                  <a:pt x="5642982" y="461324"/>
                </a:lnTo>
                <a:lnTo>
                  <a:pt x="5656712" y="461324"/>
                </a:lnTo>
                <a:lnTo>
                  <a:pt x="5659458" y="461324"/>
                </a:lnTo>
                <a:lnTo>
                  <a:pt x="5662204" y="461324"/>
                </a:lnTo>
                <a:lnTo>
                  <a:pt x="6087831" y="412526"/>
                </a:lnTo>
                <a:lnTo>
                  <a:pt x="6087831" y="417388"/>
                </a:lnTo>
                <a:lnTo>
                  <a:pt x="6090577" y="417388"/>
                </a:lnTo>
                <a:lnTo>
                  <a:pt x="6093323" y="417388"/>
                </a:lnTo>
                <a:lnTo>
                  <a:pt x="6096069" y="414642"/>
                </a:lnTo>
                <a:lnTo>
                  <a:pt x="6098815" y="414642"/>
                </a:lnTo>
                <a:lnTo>
                  <a:pt x="6098815" y="409150"/>
                </a:lnTo>
                <a:lnTo>
                  <a:pt x="6120782" y="406404"/>
                </a:lnTo>
                <a:lnTo>
                  <a:pt x="6120782" y="409150"/>
                </a:lnTo>
                <a:lnTo>
                  <a:pt x="6126274" y="409150"/>
                </a:lnTo>
                <a:lnTo>
                  <a:pt x="6131766" y="411896"/>
                </a:lnTo>
                <a:lnTo>
                  <a:pt x="6131766" y="409150"/>
                </a:lnTo>
                <a:lnTo>
                  <a:pt x="6131766" y="406404"/>
                </a:lnTo>
                <a:lnTo>
                  <a:pt x="6152361" y="404116"/>
                </a:lnTo>
                <a:lnTo>
                  <a:pt x="6145496" y="406404"/>
                </a:lnTo>
                <a:lnTo>
                  <a:pt x="6137258" y="409150"/>
                </a:lnTo>
                <a:lnTo>
                  <a:pt x="6137258" y="411896"/>
                </a:lnTo>
                <a:lnTo>
                  <a:pt x="6142750" y="411896"/>
                </a:lnTo>
                <a:lnTo>
                  <a:pt x="6142750" y="417388"/>
                </a:lnTo>
                <a:lnTo>
                  <a:pt x="6145496" y="417388"/>
                </a:lnTo>
                <a:lnTo>
                  <a:pt x="6145496" y="420134"/>
                </a:lnTo>
                <a:lnTo>
                  <a:pt x="6142750" y="420134"/>
                </a:lnTo>
                <a:lnTo>
                  <a:pt x="6142750" y="422880"/>
                </a:lnTo>
                <a:lnTo>
                  <a:pt x="6148242" y="422880"/>
                </a:lnTo>
                <a:lnTo>
                  <a:pt x="6148242" y="417388"/>
                </a:lnTo>
                <a:lnTo>
                  <a:pt x="6150988" y="414642"/>
                </a:lnTo>
                <a:lnTo>
                  <a:pt x="6153734" y="409150"/>
                </a:lnTo>
                <a:lnTo>
                  <a:pt x="6153734" y="403964"/>
                </a:lnTo>
                <a:lnTo>
                  <a:pt x="6156480" y="403658"/>
                </a:lnTo>
                <a:lnTo>
                  <a:pt x="6164718" y="403658"/>
                </a:lnTo>
                <a:lnTo>
                  <a:pt x="6172956" y="400912"/>
                </a:lnTo>
                <a:lnTo>
                  <a:pt x="6175702" y="403658"/>
                </a:lnTo>
                <a:lnTo>
                  <a:pt x="6175702" y="406404"/>
                </a:lnTo>
                <a:lnTo>
                  <a:pt x="6167464" y="406404"/>
                </a:lnTo>
                <a:lnTo>
                  <a:pt x="6167464" y="411896"/>
                </a:lnTo>
                <a:lnTo>
                  <a:pt x="6170210" y="411896"/>
                </a:lnTo>
                <a:lnTo>
                  <a:pt x="6172956" y="411896"/>
                </a:lnTo>
                <a:lnTo>
                  <a:pt x="6175702" y="411896"/>
                </a:lnTo>
                <a:lnTo>
                  <a:pt x="6181194" y="411896"/>
                </a:lnTo>
                <a:lnTo>
                  <a:pt x="6181194" y="406404"/>
                </a:lnTo>
                <a:lnTo>
                  <a:pt x="6186686" y="403658"/>
                </a:lnTo>
                <a:lnTo>
                  <a:pt x="6189432" y="400912"/>
                </a:lnTo>
                <a:lnTo>
                  <a:pt x="6194924" y="398166"/>
                </a:lnTo>
                <a:lnTo>
                  <a:pt x="6194924" y="403658"/>
                </a:lnTo>
                <a:lnTo>
                  <a:pt x="6200416" y="406404"/>
                </a:lnTo>
                <a:lnTo>
                  <a:pt x="6205908" y="406404"/>
                </a:lnTo>
                <a:lnTo>
                  <a:pt x="6211400" y="409150"/>
                </a:lnTo>
                <a:lnTo>
                  <a:pt x="6214146" y="403658"/>
                </a:lnTo>
                <a:lnTo>
                  <a:pt x="6214146" y="409150"/>
                </a:lnTo>
                <a:lnTo>
                  <a:pt x="6216892" y="411896"/>
                </a:lnTo>
                <a:lnTo>
                  <a:pt x="6222384" y="411896"/>
                </a:lnTo>
                <a:lnTo>
                  <a:pt x="6227875" y="414642"/>
                </a:lnTo>
                <a:lnTo>
                  <a:pt x="6233367" y="414642"/>
                </a:lnTo>
                <a:lnTo>
                  <a:pt x="6244351" y="409150"/>
                </a:lnTo>
                <a:lnTo>
                  <a:pt x="6249843" y="409150"/>
                </a:lnTo>
                <a:lnTo>
                  <a:pt x="6252589" y="411896"/>
                </a:lnTo>
                <a:lnTo>
                  <a:pt x="6252589" y="400912"/>
                </a:lnTo>
                <a:lnTo>
                  <a:pt x="6249843" y="403658"/>
                </a:lnTo>
                <a:lnTo>
                  <a:pt x="6249843" y="406404"/>
                </a:lnTo>
                <a:lnTo>
                  <a:pt x="6247097" y="406404"/>
                </a:lnTo>
                <a:lnTo>
                  <a:pt x="6244351" y="403658"/>
                </a:lnTo>
                <a:lnTo>
                  <a:pt x="6238859" y="406404"/>
                </a:lnTo>
                <a:lnTo>
                  <a:pt x="6238859" y="403658"/>
                </a:lnTo>
                <a:lnTo>
                  <a:pt x="6241605" y="400912"/>
                </a:lnTo>
                <a:lnTo>
                  <a:pt x="6244351" y="398166"/>
                </a:lnTo>
                <a:lnTo>
                  <a:pt x="6244351" y="392675"/>
                </a:lnTo>
                <a:lnTo>
                  <a:pt x="6249843" y="392675"/>
                </a:lnTo>
                <a:lnTo>
                  <a:pt x="6249843" y="395420"/>
                </a:lnTo>
                <a:lnTo>
                  <a:pt x="6252589" y="398166"/>
                </a:lnTo>
                <a:lnTo>
                  <a:pt x="6255335" y="395420"/>
                </a:lnTo>
                <a:lnTo>
                  <a:pt x="6258081" y="392675"/>
                </a:lnTo>
                <a:lnTo>
                  <a:pt x="6260827" y="392675"/>
                </a:lnTo>
                <a:lnTo>
                  <a:pt x="6266319" y="395420"/>
                </a:lnTo>
                <a:lnTo>
                  <a:pt x="6266319" y="389929"/>
                </a:lnTo>
                <a:lnTo>
                  <a:pt x="6573869" y="354231"/>
                </a:lnTo>
                <a:close/>
                <a:moveTo>
                  <a:pt x="1235691" y="354231"/>
                </a:moveTo>
                <a:lnTo>
                  <a:pt x="1219215" y="356977"/>
                </a:lnTo>
                <a:lnTo>
                  <a:pt x="1219215" y="367961"/>
                </a:lnTo>
                <a:lnTo>
                  <a:pt x="1224706" y="370707"/>
                </a:lnTo>
                <a:lnTo>
                  <a:pt x="1224706" y="373453"/>
                </a:lnTo>
                <a:lnTo>
                  <a:pt x="1224706" y="378945"/>
                </a:lnTo>
                <a:lnTo>
                  <a:pt x="1227452" y="381691"/>
                </a:lnTo>
                <a:lnTo>
                  <a:pt x="1230199" y="387183"/>
                </a:lnTo>
                <a:lnTo>
                  <a:pt x="1243927" y="387183"/>
                </a:lnTo>
                <a:lnTo>
                  <a:pt x="1254913" y="381691"/>
                </a:lnTo>
                <a:lnTo>
                  <a:pt x="1249421" y="370707"/>
                </a:lnTo>
                <a:lnTo>
                  <a:pt x="1249421" y="365215"/>
                </a:lnTo>
                <a:lnTo>
                  <a:pt x="1246673" y="359723"/>
                </a:lnTo>
                <a:lnTo>
                  <a:pt x="1235691" y="354231"/>
                </a:lnTo>
                <a:close/>
                <a:moveTo>
                  <a:pt x="1573445" y="351485"/>
                </a:moveTo>
                <a:lnTo>
                  <a:pt x="1559715" y="356977"/>
                </a:lnTo>
                <a:lnTo>
                  <a:pt x="1554223" y="362469"/>
                </a:lnTo>
                <a:lnTo>
                  <a:pt x="1554223" y="367961"/>
                </a:lnTo>
                <a:lnTo>
                  <a:pt x="1554223" y="370707"/>
                </a:lnTo>
                <a:lnTo>
                  <a:pt x="1556969" y="370707"/>
                </a:lnTo>
                <a:lnTo>
                  <a:pt x="1565206" y="370707"/>
                </a:lnTo>
                <a:lnTo>
                  <a:pt x="1570699" y="376199"/>
                </a:lnTo>
                <a:lnTo>
                  <a:pt x="1576191" y="378945"/>
                </a:lnTo>
                <a:lnTo>
                  <a:pt x="1576191" y="373453"/>
                </a:lnTo>
                <a:lnTo>
                  <a:pt x="1578936" y="365215"/>
                </a:lnTo>
                <a:lnTo>
                  <a:pt x="1590766" y="357822"/>
                </a:lnTo>
                <a:lnTo>
                  <a:pt x="1576191" y="359723"/>
                </a:lnTo>
                <a:lnTo>
                  <a:pt x="1576191" y="362469"/>
                </a:lnTo>
                <a:lnTo>
                  <a:pt x="1573445" y="359723"/>
                </a:lnTo>
                <a:lnTo>
                  <a:pt x="1570699" y="356977"/>
                </a:lnTo>
                <a:lnTo>
                  <a:pt x="1570699" y="354231"/>
                </a:lnTo>
                <a:lnTo>
                  <a:pt x="1573445" y="351485"/>
                </a:lnTo>
                <a:close/>
                <a:moveTo>
                  <a:pt x="1452622" y="351485"/>
                </a:moveTo>
                <a:lnTo>
                  <a:pt x="1452622" y="354231"/>
                </a:lnTo>
                <a:lnTo>
                  <a:pt x="1458113" y="351485"/>
                </a:lnTo>
                <a:lnTo>
                  <a:pt x="1452622" y="351485"/>
                </a:lnTo>
                <a:close/>
                <a:moveTo>
                  <a:pt x="944616" y="351485"/>
                </a:moveTo>
                <a:lnTo>
                  <a:pt x="939124" y="356977"/>
                </a:lnTo>
                <a:lnTo>
                  <a:pt x="930887" y="356977"/>
                </a:lnTo>
                <a:lnTo>
                  <a:pt x="922648" y="356977"/>
                </a:lnTo>
                <a:lnTo>
                  <a:pt x="914410" y="354231"/>
                </a:lnTo>
                <a:lnTo>
                  <a:pt x="944616" y="351485"/>
                </a:lnTo>
                <a:close/>
                <a:moveTo>
                  <a:pt x="6634280" y="348739"/>
                </a:moveTo>
                <a:lnTo>
                  <a:pt x="6623296" y="351485"/>
                </a:lnTo>
                <a:lnTo>
                  <a:pt x="6612312" y="351485"/>
                </a:lnTo>
                <a:lnTo>
                  <a:pt x="6634280" y="348739"/>
                </a:lnTo>
                <a:close/>
                <a:moveTo>
                  <a:pt x="1507541" y="343247"/>
                </a:moveTo>
                <a:lnTo>
                  <a:pt x="1502050" y="345993"/>
                </a:lnTo>
                <a:lnTo>
                  <a:pt x="1499304" y="345993"/>
                </a:lnTo>
                <a:lnTo>
                  <a:pt x="1499304" y="351485"/>
                </a:lnTo>
                <a:lnTo>
                  <a:pt x="1504796" y="351485"/>
                </a:lnTo>
                <a:lnTo>
                  <a:pt x="1507541" y="354231"/>
                </a:lnTo>
                <a:lnTo>
                  <a:pt x="1499304" y="356977"/>
                </a:lnTo>
                <a:lnTo>
                  <a:pt x="1496557" y="356977"/>
                </a:lnTo>
                <a:lnTo>
                  <a:pt x="1493811" y="354231"/>
                </a:lnTo>
                <a:lnTo>
                  <a:pt x="1491065" y="356977"/>
                </a:lnTo>
                <a:lnTo>
                  <a:pt x="1491065" y="359723"/>
                </a:lnTo>
                <a:lnTo>
                  <a:pt x="1493811" y="362469"/>
                </a:lnTo>
                <a:lnTo>
                  <a:pt x="1491065" y="367961"/>
                </a:lnTo>
                <a:lnTo>
                  <a:pt x="1496557" y="370707"/>
                </a:lnTo>
                <a:lnTo>
                  <a:pt x="1502050" y="373453"/>
                </a:lnTo>
                <a:lnTo>
                  <a:pt x="1504796" y="373453"/>
                </a:lnTo>
                <a:lnTo>
                  <a:pt x="1507541" y="370707"/>
                </a:lnTo>
                <a:lnTo>
                  <a:pt x="1507541" y="365215"/>
                </a:lnTo>
                <a:lnTo>
                  <a:pt x="1510287" y="367961"/>
                </a:lnTo>
                <a:lnTo>
                  <a:pt x="1513033" y="367961"/>
                </a:lnTo>
                <a:lnTo>
                  <a:pt x="1513033" y="362469"/>
                </a:lnTo>
                <a:lnTo>
                  <a:pt x="1515779" y="362469"/>
                </a:lnTo>
                <a:lnTo>
                  <a:pt x="1518526" y="359723"/>
                </a:lnTo>
                <a:lnTo>
                  <a:pt x="1521272" y="359723"/>
                </a:lnTo>
                <a:lnTo>
                  <a:pt x="1524017" y="359723"/>
                </a:lnTo>
                <a:lnTo>
                  <a:pt x="1521272" y="356977"/>
                </a:lnTo>
                <a:lnTo>
                  <a:pt x="1521272" y="354231"/>
                </a:lnTo>
                <a:lnTo>
                  <a:pt x="1518526" y="348739"/>
                </a:lnTo>
                <a:lnTo>
                  <a:pt x="1510287" y="348739"/>
                </a:lnTo>
                <a:lnTo>
                  <a:pt x="1507541" y="343247"/>
                </a:lnTo>
                <a:close/>
                <a:moveTo>
                  <a:pt x="1230199" y="343247"/>
                </a:moveTo>
                <a:lnTo>
                  <a:pt x="1230199" y="345993"/>
                </a:lnTo>
                <a:lnTo>
                  <a:pt x="1232945" y="345993"/>
                </a:lnTo>
                <a:lnTo>
                  <a:pt x="1235691" y="348739"/>
                </a:lnTo>
                <a:lnTo>
                  <a:pt x="1235691" y="345993"/>
                </a:lnTo>
                <a:lnTo>
                  <a:pt x="1232945" y="345993"/>
                </a:lnTo>
                <a:lnTo>
                  <a:pt x="1232945" y="343247"/>
                </a:lnTo>
                <a:lnTo>
                  <a:pt x="1230199" y="343247"/>
                </a:lnTo>
                <a:close/>
                <a:moveTo>
                  <a:pt x="1576191" y="340501"/>
                </a:moveTo>
                <a:lnTo>
                  <a:pt x="1576191" y="343247"/>
                </a:lnTo>
                <a:lnTo>
                  <a:pt x="1573445" y="343247"/>
                </a:lnTo>
                <a:lnTo>
                  <a:pt x="1573445" y="345993"/>
                </a:lnTo>
                <a:lnTo>
                  <a:pt x="1576191" y="345993"/>
                </a:lnTo>
                <a:lnTo>
                  <a:pt x="1578937" y="345993"/>
                </a:lnTo>
                <a:lnTo>
                  <a:pt x="1581682" y="348739"/>
                </a:lnTo>
                <a:lnTo>
                  <a:pt x="1584428" y="345993"/>
                </a:lnTo>
                <a:lnTo>
                  <a:pt x="1584428" y="343247"/>
                </a:lnTo>
                <a:lnTo>
                  <a:pt x="1581682" y="343247"/>
                </a:lnTo>
                <a:lnTo>
                  <a:pt x="1576191" y="340501"/>
                </a:lnTo>
                <a:close/>
                <a:moveTo>
                  <a:pt x="1101137" y="335009"/>
                </a:moveTo>
                <a:lnTo>
                  <a:pt x="1087407" y="340501"/>
                </a:lnTo>
                <a:lnTo>
                  <a:pt x="1070932" y="345993"/>
                </a:lnTo>
                <a:lnTo>
                  <a:pt x="1051710" y="351485"/>
                </a:lnTo>
                <a:lnTo>
                  <a:pt x="1032487" y="351485"/>
                </a:lnTo>
                <a:lnTo>
                  <a:pt x="996790" y="351485"/>
                </a:lnTo>
                <a:lnTo>
                  <a:pt x="963838" y="348739"/>
                </a:lnTo>
                <a:lnTo>
                  <a:pt x="1101137" y="335009"/>
                </a:lnTo>
                <a:close/>
                <a:moveTo>
                  <a:pt x="1620127" y="332263"/>
                </a:moveTo>
                <a:lnTo>
                  <a:pt x="1617380" y="335009"/>
                </a:lnTo>
                <a:lnTo>
                  <a:pt x="1617380" y="337755"/>
                </a:lnTo>
                <a:lnTo>
                  <a:pt x="1620127" y="340501"/>
                </a:lnTo>
                <a:lnTo>
                  <a:pt x="1622873" y="337755"/>
                </a:lnTo>
                <a:lnTo>
                  <a:pt x="1625618" y="335009"/>
                </a:lnTo>
                <a:lnTo>
                  <a:pt x="1622873" y="332263"/>
                </a:lnTo>
                <a:lnTo>
                  <a:pt x="1620127" y="332263"/>
                </a:lnTo>
                <a:close/>
                <a:moveTo>
                  <a:pt x="1134089" y="329517"/>
                </a:moveTo>
                <a:lnTo>
                  <a:pt x="1128598" y="343247"/>
                </a:lnTo>
                <a:lnTo>
                  <a:pt x="1125851" y="348739"/>
                </a:lnTo>
                <a:lnTo>
                  <a:pt x="1123105" y="348739"/>
                </a:lnTo>
                <a:lnTo>
                  <a:pt x="1120359" y="345993"/>
                </a:lnTo>
                <a:lnTo>
                  <a:pt x="1114868" y="343247"/>
                </a:lnTo>
                <a:lnTo>
                  <a:pt x="1114868" y="340501"/>
                </a:lnTo>
                <a:lnTo>
                  <a:pt x="1117613" y="332263"/>
                </a:lnTo>
                <a:lnTo>
                  <a:pt x="1134089" y="329517"/>
                </a:lnTo>
                <a:close/>
                <a:moveTo>
                  <a:pt x="1553356" y="327060"/>
                </a:moveTo>
                <a:lnTo>
                  <a:pt x="1559715" y="328039"/>
                </a:lnTo>
                <a:lnTo>
                  <a:pt x="1559715" y="329517"/>
                </a:lnTo>
                <a:lnTo>
                  <a:pt x="1559715" y="335009"/>
                </a:lnTo>
                <a:lnTo>
                  <a:pt x="1551477" y="337755"/>
                </a:lnTo>
                <a:lnTo>
                  <a:pt x="1543239" y="337755"/>
                </a:lnTo>
                <a:lnTo>
                  <a:pt x="1543239" y="335009"/>
                </a:lnTo>
                <a:lnTo>
                  <a:pt x="1540493" y="332263"/>
                </a:lnTo>
                <a:lnTo>
                  <a:pt x="1545985" y="329517"/>
                </a:lnTo>
                <a:lnTo>
                  <a:pt x="1553356" y="327060"/>
                </a:lnTo>
                <a:close/>
                <a:moveTo>
                  <a:pt x="1559715" y="326771"/>
                </a:moveTo>
                <a:lnTo>
                  <a:pt x="1561213" y="328269"/>
                </a:lnTo>
                <a:lnTo>
                  <a:pt x="1559715" y="328039"/>
                </a:lnTo>
                <a:lnTo>
                  <a:pt x="1559715" y="326771"/>
                </a:lnTo>
                <a:close/>
                <a:moveTo>
                  <a:pt x="1551477" y="326771"/>
                </a:moveTo>
                <a:lnTo>
                  <a:pt x="1554223" y="326771"/>
                </a:lnTo>
                <a:lnTo>
                  <a:pt x="1553356" y="327060"/>
                </a:lnTo>
                <a:lnTo>
                  <a:pt x="1551477" y="326771"/>
                </a:lnTo>
                <a:close/>
                <a:moveTo>
                  <a:pt x="1419121" y="323751"/>
                </a:moveTo>
                <a:lnTo>
                  <a:pt x="1422416" y="324025"/>
                </a:lnTo>
                <a:lnTo>
                  <a:pt x="1419670" y="324025"/>
                </a:lnTo>
                <a:lnTo>
                  <a:pt x="1419121" y="323751"/>
                </a:lnTo>
                <a:close/>
                <a:moveTo>
                  <a:pt x="1248774" y="318695"/>
                </a:moveTo>
                <a:lnTo>
                  <a:pt x="1227452" y="324025"/>
                </a:lnTo>
                <a:lnTo>
                  <a:pt x="1197247" y="324025"/>
                </a:lnTo>
                <a:lnTo>
                  <a:pt x="1248774" y="318695"/>
                </a:lnTo>
                <a:close/>
                <a:moveTo>
                  <a:pt x="1249421" y="318533"/>
                </a:moveTo>
                <a:lnTo>
                  <a:pt x="1249202" y="318650"/>
                </a:lnTo>
                <a:lnTo>
                  <a:pt x="1248774" y="318695"/>
                </a:lnTo>
                <a:lnTo>
                  <a:pt x="1249421" y="318533"/>
                </a:lnTo>
                <a:close/>
                <a:moveTo>
                  <a:pt x="1850788" y="313042"/>
                </a:moveTo>
                <a:lnTo>
                  <a:pt x="1737229" y="333264"/>
                </a:lnTo>
                <a:lnTo>
                  <a:pt x="1754679" y="335009"/>
                </a:lnTo>
                <a:lnTo>
                  <a:pt x="1779393" y="335009"/>
                </a:lnTo>
                <a:lnTo>
                  <a:pt x="1806852" y="332263"/>
                </a:lnTo>
                <a:lnTo>
                  <a:pt x="1828821" y="326772"/>
                </a:lnTo>
                <a:lnTo>
                  <a:pt x="1839804" y="321280"/>
                </a:lnTo>
                <a:lnTo>
                  <a:pt x="1848043" y="315788"/>
                </a:lnTo>
                <a:lnTo>
                  <a:pt x="1850788" y="313042"/>
                </a:lnTo>
                <a:close/>
                <a:moveTo>
                  <a:pt x="1340038" y="310295"/>
                </a:moveTo>
                <a:lnTo>
                  <a:pt x="1318068" y="324025"/>
                </a:lnTo>
                <a:lnTo>
                  <a:pt x="1315322" y="324025"/>
                </a:lnTo>
                <a:lnTo>
                  <a:pt x="1312577" y="326771"/>
                </a:lnTo>
                <a:lnTo>
                  <a:pt x="1304341" y="324025"/>
                </a:lnTo>
                <a:lnTo>
                  <a:pt x="1298847" y="321279"/>
                </a:lnTo>
                <a:lnTo>
                  <a:pt x="1282371" y="315787"/>
                </a:lnTo>
                <a:lnTo>
                  <a:pt x="1340038" y="310295"/>
                </a:lnTo>
                <a:close/>
                <a:moveTo>
                  <a:pt x="1857837" y="305992"/>
                </a:moveTo>
                <a:lnTo>
                  <a:pt x="1856280" y="307549"/>
                </a:lnTo>
                <a:lnTo>
                  <a:pt x="1856280" y="307550"/>
                </a:lnTo>
                <a:lnTo>
                  <a:pt x="1857837" y="305992"/>
                </a:lnTo>
                <a:close/>
                <a:moveTo>
                  <a:pt x="1513033" y="304803"/>
                </a:moveTo>
                <a:lnTo>
                  <a:pt x="1507541" y="307549"/>
                </a:lnTo>
                <a:lnTo>
                  <a:pt x="1507541" y="315787"/>
                </a:lnTo>
                <a:lnTo>
                  <a:pt x="1510287" y="315787"/>
                </a:lnTo>
                <a:lnTo>
                  <a:pt x="1513033" y="318533"/>
                </a:lnTo>
                <a:lnTo>
                  <a:pt x="1513033" y="313041"/>
                </a:lnTo>
                <a:lnTo>
                  <a:pt x="1518526" y="313041"/>
                </a:lnTo>
                <a:lnTo>
                  <a:pt x="1524017" y="313041"/>
                </a:lnTo>
                <a:lnTo>
                  <a:pt x="1529509" y="313041"/>
                </a:lnTo>
                <a:lnTo>
                  <a:pt x="1529509" y="307549"/>
                </a:lnTo>
                <a:lnTo>
                  <a:pt x="1526763" y="304803"/>
                </a:lnTo>
                <a:lnTo>
                  <a:pt x="1524017" y="304803"/>
                </a:lnTo>
                <a:lnTo>
                  <a:pt x="1513033" y="304803"/>
                </a:lnTo>
                <a:close/>
                <a:moveTo>
                  <a:pt x="1408686" y="302057"/>
                </a:moveTo>
                <a:lnTo>
                  <a:pt x="1414179" y="302057"/>
                </a:lnTo>
                <a:lnTo>
                  <a:pt x="1411434" y="304803"/>
                </a:lnTo>
                <a:lnTo>
                  <a:pt x="1408686" y="304803"/>
                </a:lnTo>
                <a:lnTo>
                  <a:pt x="1408686" y="307549"/>
                </a:lnTo>
                <a:lnTo>
                  <a:pt x="1408686" y="310295"/>
                </a:lnTo>
                <a:lnTo>
                  <a:pt x="1405940" y="313041"/>
                </a:lnTo>
                <a:lnTo>
                  <a:pt x="1408686" y="313041"/>
                </a:lnTo>
                <a:lnTo>
                  <a:pt x="1411434" y="313041"/>
                </a:lnTo>
                <a:lnTo>
                  <a:pt x="1414179" y="313041"/>
                </a:lnTo>
                <a:lnTo>
                  <a:pt x="1416924" y="313041"/>
                </a:lnTo>
                <a:lnTo>
                  <a:pt x="1416924" y="315787"/>
                </a:lnTo>
                <a:lnTo>
                  <a:pt x="1416924" y="318533"/>
                </a:lnTo>
                <a:lnTo>
                  <a:pt x="1414179" y="318533"/>
                </a:lnTo>
                <a:lnTo>
                  <a:pt x="1414179" y="321279"/>
                </a:lnTo>
                <a:lnTo>
                  <a:pt x="1419121" y="323751"/>
                </a:lnTo>
                <a:lnTo>
                  <a:pt x="1389464" y="321279"/>
                </a:lnTo>
                <a:lnTo>
                  <a:pt x="1381227" y="321279"/>
                </a:lnTo>
                <a:lnTo>
                  <a:pt x="1386718" y="318533"/>
                </a:lnTo>
                <a:lnTo>
                  <a:pt x="1386718" y="315787"/>
                </a:lnTo>
                <a:lnTo>
                  <a:pt x="1381227" y="321279"/>
                </a:lnTo>
                <a:lnTo>
                  <a:pt x="1367496" y="313041"/>
                </a:lnTo>
                <a:lnTo>
                  <a:pt x="1353766" y="307549"/>
                </a:lnTo>
                <a:lnTo>
                  <a:pt x="1397703" y="304803"/>
                </a:lnTo>
                <a:lnTo>
                  <a:pt x="1394958" y="307549"/>
                </a:lnTo>
                <a:lnTo>
                  <a:pt x="1403194" y="304803"/>
                </a:lnTo>
                <a:lnTo>
                  <a:pt x="1408686" y="302057"/>
                </a:lnTo>
                <a:close/>
                <a:moveTo>
                  <a:pt x="1721728" y="299311"/>
                </a:moveTo>
                <a:lnTo>
                  <a:pt x="1721728" y="302057"/>
                </a:lnTo>
                <a:lnTo>
                  <a:pt x="1721728" y="304803"/>
                </a:lnTo>
                <a:lnTo>
                  <a:pt x="1721728" y="307549"/>
                </a:lnTo>
                <a:lnTo>
                  <a:pt x="1727220" y="307549"/>
                </a:lnTo>
                <a:lnTo>
                  <a:pt x="1727220" y="302057"/>
                </a:lnTo>
                <a:lnTo>
                  <a:pt x="1721728" y="299311"/>
                </a:lnTo>
                <a:close/>
                <a:moveTo>
                  <a:pt x="1600905" y="296565"/>
                </a:moveTo>
                <a:lnTo>
                  <a:pt x="1589921" y="304803"/>
                </a:lnTo>
                <a:lnTo>
                  <a:pt x="1581682" y="310295"/>
                </a:lnTo>
                <a:lnTo>
                  <a:pt x="1581682" y="307549"/>
                </a:lnTo>
                <a:lnTo>
                  <a:pt x="1573445" y="302057"/>
                </a:lnTo>
                <a:lnTo>
                  <a:pt x="1565206" y="302057"/>
                </a:lnTo>
                <a:lnTo>
                  <a:pt x="1562461" y="307549"/>
                </a:lnTo>
                <a:lnTo>
                  <a:pt x="1565206" y="313041"/>
                </a:lnTo>
                <a:lnTo>
                  <a:pt x="1548731" y="313041"/>
                </a:lnTo>
                <a:lnTo>
                  <a:pt x="1529509" y="315787"/>
                </a:lnTo>
                <a:lnTo>
                  <a:pt x="1524017" y="318533"/>
                </a:lnTo>
                <a:lnTo>
                  <a:pt x="1526763" y="318533"/>
                </a:lnTo>
                <a:lnTo>
                  <a:pt x="1518526" y="324025"/>
                </a:lnTo>
                <a:lnTo>
                  <a:pt x="1510287" y="332263"/>
                </a:lnTo>
                <a:lnTo>
                  <a:pt x="1526763" y="326771"/>
                </a:lnTo>
                <a:lnTo>
                  <a:pt x="1529509" y="332263"/>
                </a:lnTo>
                <a:lnTo>
                  <a:pt x="1515779" y="332263"/>
                </a:lnTo>
                <a:lnTo>
                  <a:pt x="1515779" y="337755"/>
                </a:lnTo>
                <a:lnTo>
                  <a:pt x="1518526" y="340501"/>
                </a:lnTo>
                <a:lnTo>
                  <a:pt x="1518526" y="345993"/>
                </a:lnTo>
                <a:lnTo>
                  <a:pt x="1526763" y="351485"/>
                </a:lnTo>
                <a:lnTo>
                  <a:pt x="1529509" y="351485"/>
                </a:lnTo>
                <a:lnTo>
                  <a:pt x="1535002" y="351485"/>
                </a:lnTo>
                <a:lnTo>
                  <a:pt x="1535002" y="340501"/>
                </a:lnTo>
                <a:lnTo>
                  <a:pt x="1532255" y="332263"/>
                </a:lnTo>
                <a:lnTo>
                  <a:pt x="1535002" y="329517"/>
                </a:lnTo>
                <a:lnTo>
                  <a:pt x="1537748" y="329517"/>
                </a:lnTo>
                <a:lnTo>
                  <a:pt x="1537748" y="337755"/>
                </a:lnTo>
                <a:lnTo>
                  <a:pt x="1537748" y="345993"/>
                </a:lnTo>
                <a:lnTo>
                  <a:pt x="1545985" y="348739"/>
                </a:lnTo>
                <a:lnTo>
                  <a:pt x="1554223" y="345993"/>
                </a:lnTo>
                <a:lnTo>
                  <a:pt x="1562461" y="343247"/>
                </a:lnTo>
                <a:lnTo>
                  <a:pt x="1570699" y="340501"/>
                </a:lnTo>
                <a:lnTo>
                  <a:pt x="1565206" y="332263"/>
                </a:lnTo>
                <a:lnTo>
                  <a:pt x="1561213" y="328269"/>
                </a:lnTo>
                <a:lnTo>
                  <a:pt x="1587175" y="332263"/>
                </a:lnTo>
                <a:lnTo>
                  <a:pt x="1603651" y="332263"/>
                </a:lnTo>
                <a:lnTo>
                  <a:pt x="1609143" y="326771"/>
                </a:lnTo>
                <a:lnTo>
                  <a:pt x="1617380" y="321279"/>
                </a:lnTo>
                <a:lnTo>
                  <a:pt x="1609143" y="321279"/>
                </a:lnTo>
                <a:lnTo>
                  <a:pt x="1603651" y="315787"/>
                </a:lnTo>
                <a:lnTo>
                  <a:pt x="1600905" y="307549"/>
                </a:lnTo>
                <a:lnTo>
                  <a:pt x="1600905" y="296565"/>
                </a:lnTo>
                <a:close/>
                <a:moveTo>
                  <a:pt x="1551477" y="296565"/>
                </a:moveTo>
                <a:lnTo>
                  <a:pt x="1543239" y="302057"/>
                </a:lnTo>
                <a:lnTo>
                  <a:pt x="1532255" y="302057"/>
                </a:lnTo>
                <a:lnTo>
                  <a:pt x="1535002" y="310295"/>
                </a:lnTo>
                <a:lnTo>
                  <a:pt x="1540493" y="313041"/>
                </a:lnTo>
                <a:lnTo>
                  <a:pt x="1545985" y="307549"/>
                </a:lnTo>
                <a:lnTo>
                  <a:pt x="1545985" y="304803"/>
                </a:lnTo>
                <a:lnTo>
                  <a:pt x="1551477" y="304803"/>
                </a:lnTo>
                <a:lnTo>
                  <a:pt x="1551477" y="296565"/>
                </a:lnTo>
                <a:close/>
                <a:moveTo>
                  <a:pt x="1688776" y="282836"/>
                </a:moveTo>
                <a:lnTo>
                  <a:pt x="1664062" y="291073"/>
                </a:lnTo>
                <a:lnTo>
                  <a:pt x="1639348" y="296565"/>
                </a:lnTo>
                <a:lnTo>
                  <a:pt x="1625618" y="291073"/>
                </a:lnTo>
                <a:lnTo>
                  <a:pt x="1617380" y="291073"/>
                </a:lnTo>
                <a:lnTo>
                  <a:pt x="1609143" y="291073"/>
                </a:lnTo>
                <a:lnTo>
                  <a:pt x="1609143" y="296565"/>
                </a:lnTo>
                <a:lnTo>
                  <a:pt x="1611889" y="302057"/>
                </a:lnTo>
                <a:lnTo>
                  <a:pt x="1617380" y="302057"/>
                </a:lnTo>
                <a:lnTo>
                  <a:pt x="1620127" y="302057"/>
                </a:lnTo>
                <a:lnTo>
                  <a:pt x="1631111" y="299311"/>
                </a:lnTo>
                <a:lnTo>
                  <a:pt x="1639348" y="296565"/>
                </a:lnTo>
                <a:lnTo>
                  <a:pt x="1661316" y="296565"/>
                </a:lnTo>
                <a:lnTo>
                  <a:pt x="1683284" y="293819"/>
                </a:lnTo>
                <a:lnTo>
                  <a:pt x="1705252" y="293819"/>
                </a:lnTo>
                <a:lnTo>
                  <a:pt x="1732711" y="291073"/>
                </a:lnTo>
                <a:lnTo>
                  <a:pt x="1721728" y="285582"/>
                </a:lnTo>
                <a:lnTo>
                  <a:pt x="1710744" y="282836"/>
                </a:lnTo>
                <a:lnTo>
                  <a:pt x="1699760" y="282836"/>
                </a:lnTo>
                <a:lnTo>
                  <a:pt x="1688776" y="282836"/>
                </a:lnTo>
                <a:close/>
                <a:moveTo>
                  <a:pt x="1817837" y="269106"/>
                </a:moveTo>
                <a:lnTo>
                  <a:pt x="1823329" y="277344"/>
                </a:lnTo>
                <a:lnTo>
                  <a:pt x="1826075" y="280090"/>
                </a:lnTo>
                <a:lnTo>
                  <a:pt x="1826075" y="285582"/>
                </a:lnTo>
                <a:lnTo>
                  <a:pt x="1809599" y="285582"/>
                </a:lnTo>
                <a:lnTo>
                  <a:pt x="1795869" y="288328"/>
                </a:lnTo>
                <a:lnTo>
                  <a:pt x="1782139" y="293819"/>
                </a:lnTo>
                <a:lnTo>
                  <a:pt x="1771156" y="293819"/>
                </a:lnTo>
                <a:lnTo>
                  <a:pt x="1768409" y="293819"/>
                </a:lnTo>
                <a:lnTo>
                  <a:pt x="1765663" y="293819"/>
                </a:lnTo>
                <a:lnTo>
                  <a:pt x="1757425" y="288328"/>
                </a:lnTo>
                <a:lnTo>
                  <a:pt x="1754679" y="285582"/>
                </a:lnTo>
                <a:lnTo>
                  <a:pt x="1749187" y="285582"/>
                </a:lnTo>
                <a:lnTo>
                  <a:pt x="1740950" y="293819"/>
                </a:lnTo>
                <a:lnTo>
                  <a:pt x="1732711" y="307549"/>
                </a:lnTo>
                <a:lnTo>
                  <a:pt x="1724474" y="313041"/>
                </a:lnTo>
                <a:lnTo>
                  <a:pt x="1718982" y="318533"/>
                </a:lnTo>
                <a:lnTo>
                  <a:pt x="1707998" y="321279"/>
                </a:lnTo>
                <a:lnTo>
                  <a:pt x="1716236" y="324025"/>
                </a:lnTo>
                <a:lnTo>
                  <a:pt x="1732711" y="326771"/>
                </a:lnTo>
                <a:lnTo>
                  <a:pt x="1751933" y="324025"/>
                </a:lnTo>
                <a:lnTo>
                  <a:pt x="1768409" y="318533"/>
                </a:lnTo>
                <a:lnTo>
                  <a:pt x="1801361" y="307549"/>
                </a:lnTo>
                <a:lnTo>
                  <a:pt x="1828821" y="291073"/>
                </a:lnTo>
                <a:lnTo>
                  <a:pt x="1837059" y="296565"/>
                </a:lnTo>
                <a:lnTo>
                  <a:pt x="1839805" y="296565"/>
                </a:lnTo>
                <a:lnTo>
                  <a:pt x="1845297" y="296565"/>
                </a:lnTo>
                <a:lnTo>
                  <a:pt x="1856280" y="288328"/>
                </a:lnTo>
                <a:lnTo>
                  <a:pt x="1859026" y="282836"/>
                </a:lnTo>
                <a:lnTo>
                  <a:pt x="1861773" y="274598"/>
                </a:lnTo>
                <a:lnTo>
                  <a:pt x="1856280" y="271852"/>
                </a:lnTo>
                <a:lnTo>
                  <a:pt x="1853535" y="269106"/>
                </a:lnTo>
                <a:lnTo>
                  <a:pt x="1842551" y="269106"/>
                </a:lnTo>
                <a:lnTo>
                  <a:pt x="1831567" y="269106"/>
                </a:lnTo>
                <a:lnTo>
                  <a:pt x="1817837" y="269106"/>
                </a:lnTo>
                <a:close/>
                <a:moveTo>
                  <a:pt x="2233515" y="247993"/>
                </a:moveTo>
                <a:lnTo>
                  <a:pt x="2229733" y="249884"/>
                </a:lnTo>
                <a:lnTo>
                  <a:pt x="2224241" y="249884"/>
                </a:lnTo>
                <a:lnTo>
                  <a:pt x="2224241" y="249522"/>
                </a:lnTo>
                <a:lnTo>
                  <a:pt x="2233515" y="247993"/>
                </a:lnTo>
                <a:close/>
                <a:moveTo>
                  <a:pt x="2202274" y="236154"/>
                </a:moveTo>
                <a:lnTo>
                  <a:pt x="2202274" y="241646"/>
                </a:lnTo>
                <a:lnTo>
                  <a:pt x="2205020" y="238900"/>
                </a:lnTo>
                <a:lnTo>
                  <a:pt x="2205020" y="236154"/>
                </a:lnTo>
                <a:lnTo>
                  <a:pt x="2202274" y="236154"/>
                </a:lnTo>
                <a:close/>
                <a:moveTo>
                  <a:pt x="2139116" y="227916"/>
                </a:moveTo>
                <a:lnTo>
                  <a:pt x="2139116" y="233408"/>
                </a:lnTo>
                <a:lnTo>
                  <a:pt x="2144609" y="233408"/>
                </a:lnTo>
                <a:lnTo>
                  <a:pt x="2144609" y="227916"/>
                </a:lnTo>
                <a:lnTo>
                  <a:pt x="2139116" y="227916"/>
                </a:lnTo>
                <a:close/>
                <a:moveTo>
                  <a:pt x="2292891" y="222424"/>
                </a:moveTo>
                <a:lnTo>
                  <a:pt x="2290144" y="227916"/>
                </a:lnTo>
                <a:lnTo>
                  <a:pt x="2298383" y="227916"/>
                </a:lnTo>
                <a:lnTo>
                  <a:pt x="2298383" y="225170"/>
                </a:lnTo>
                <a:lnTo>
                  <a:pt x="2295637" y="222424"/>
                </a:lnTo>
                <a:lnTo>
                  <a:pt x="2292891" y="222424"/>
                </a:lnTo>
                <a:close/>
                <a:moveTo>
                  <a:pt x="2328589" y="219678"/>
                </a:moveTo>
                <a:lnTo>
                  <a:pt x="2325843" y="222424"/>
                </a:lnTo>
                <a:lnTo>
                  <a:pt x="2328589" y="222424"/>
                </a:lnTo>
                <a:lnTo>
                  <a:pt x="2328589" y="227916"/>
                </a:lnTo>
                <a:lnTo>
                  <a:pt x="2331334" y="227916"/>
                </a:lnTo>
                <a:lnTo>
                  <a:pt x="2336826" y="227916"/>
                </a:lnTo>
                <a:lnTo>
                  <a:pt x="2339572" y="227916"/>
                </a:lnTo>
                <a:lnTo>
                  <a:pt x="2339572" y="222424"/>
                </a:lnTo>
                <a:lnTo>
                  <a:pt x="2334081" y="222424"/>
                </a:lnTo>
                <a:lnTo>
                  <a:pt x="2331334" y="222424"/>
                </a:lnTo>
                <a:lnTo>
                  <a:pt x="2328589" y="219678"/>
                </a:lnTo>
                <a:close/>
                <a:moveTo>
                  <a:pt x="3174349" y="123569"/>
                </a:moveTo>
                <a:lnTo>
                  <a:pt x="2430190" y="214186"/>
                </a:lnTo>
                <a:lnTo>
                  <a:pt x="2424698" y="214186"/>
                </a:lnTo>
                <a:lnTo>
                  <a:pt x="2421952" y="216932"/>
                </a:lnTo>
                <a:lnTo>
                  <a:pt x="2397238" y="221006"/>
                </a:lnTo>
                <a:lnTo>
                  <a:pt x="2397238" y="222424"/>
                </a:lnTo>
                <a:lnTo>
                  <a:pt x="2391745" y="230662"/>
                </a:lnTo>
                <a:lnTo>
                  <a:pt x="2386254" y="233408"/>
                </a:lnTo>
                <a:lnTo>
                  <a:pt x="2375269" y="233408"/>
                </a:lnTo>
                <a:lnTo>
                  <a:pt x="2369778" y="230662"/>
                </a:lnTo>
                <a:lnTo>
                  <a:pt x="2367408" y="225923"/>
                </a:lnTo>
                <a:lnTo>
                  <a:pt x="2233515" y="247993"/>
                </a:lnTo>
                <a:lnTo>
                  <a:pt x="2235225" y="247138"/>
                </a:lnTo>
                <a:lnTo>
                  <a:pt x="2232480" y="244392"/>
                </a:lnTo>
                <a:lnTo>
                  <a:pt x="2232480" y="241646"/>
                </a:lnTo>
                <a:lnTo>
                  <a:pt x="2224241" y="241646"/>
                </a:lnTo>
                <a:lnTo>
                  <a:pt x="2224241" y="249522"/>
                </a:lnTo>
                <a:lnTo>
                  <a:pt x="2172069" y="258122"/>
                </a:lnTo>
                <a:lnTo>
                  <a:pt x="2169322" y="260868"/>
                </a:lnTo>
                <a:lnTo>
                  <a:pt x="2158048" y="262747"/>
                </a:lnTo>
                <a:lnTo>
                  <a:pt x="2158338" y="263614"/>
                </a:lnTo>
                <a:lnTo>
                  <a:pt x="2158338" y="274598"/>
                </a:lnTo>
                <a:lnTo>
                  <a:pt x="2150099" y="280090"/>
                </a:lnTo>
                <a:lnTo>
                  <a:pt x="2141862" y="288328"/>
                </a:lnTo>
                <a:lnTo>
                  <a:pt x="2133624" y="296566"/>
                </a:lnTo>
                <a:lnTo>
                  <a:pt x="2122640" y="299312"/>
                </a:lnTo>
                <a:lnTo>
                  <a:pt x="2111656" y="296566"/>
                </a:lnTo>
                <a:lnTo>
                  <a:pt x="2103418" y="291074"/>
                </a:lnTo>
                <a:lnTo>
                  <a:pt x="2097926" y="282836"/>
                </a:lnTo>
                <a:lnTo>
                  <a:pt x="2097492" y="281102"/>
                </a:lnTo>
                <a:lnTo>
                  <a:pt x="2106164" y="282836"/>
                </a:lnTo>
                <a:lnTo>
                  <a:pt x="2096357" y="273029"/>
                </a:lnTo>
                <a:lnTo>
                  <a:pt x="2095510" y="273170"/>
                </a:lnTo>
                <a:lnTo>
                  <a:pt x="2097492" y="281102"/>
                </a:lnTo>
                <a:lnTo>
                  <a:pt x="2092434" y="280090"/>
                </a:lnTo>
                <a:lnTo>
                  <a:pt x="2078704" y="277344"/>
                </a:lnTo>
                <a:lnTo>
                  <a:pt x="2074960" y="276595"/>
                </a:lnTo>
                <a:lnTo>
                  <a:pt x="2070467" y="277344"/>
                </a:lnTo>
                <a:lnTo>
                  <a:pt x="2045753" y="274598"/>
                </a:lnTo>
                <a:lnTo>
                  <a:pt x="2021039" y="277344"/>
                </a:lnTo>
                <a:lnTo>
                  <a:pt x="2012801" y="280090"/>
                </a:lnTo>
                <a:lnTo>
                  <a:pt x="2007309" y="285582"/>
                </a:lnTo>
                <a:lnTo>
                  <a:pt x="2004563" y="285582"/>
                </a:lnTo>
                <a:lnTo>
                  <a:pt x="2010055" y="280090"/>
                </a:lnTo>
                <a:lnTo>
                  <a:pt x="2010055" y="271852"/>
                </a:lnTo>
                <a:lnTo>
                  <a:pt x="2004563" y="269106"/>
                </a:lnTo>
                <a:lnTo>
                  <a:pt x="2001817" y="266360"/>
                </a:lnTo>
                <a:lnTo>
                  <a:pt x="1996325" y="255376"/>
                </a:lnTo>
                <a:lnTo>
                  <a:pt x="1988087" y="258122"/>
                </a:lnTo>
                <a:lnTo>
                  <a:pt x="1982596" y="255376"/>
                </a:lnTo>
                <a:lnTo>
                  <a:pt x="1968866" y="249884"/>
                </a:lnTo>
                <a:lnTo>
                  <a:pt x="1963374" y="255376"/>
                </a:lnTo>
                <a:lnTo>
                  <a:pt x="1955136" y="255376"/>
                </a:lnTo>
                <a:lnTo>
                  <a:pt x="1944152" y="255376"/>
                </a:lnTo>
                <a:lnTo>
                  <a:pt x="1941406" y="255376"/>
                </a:lnTo>
                <a:lnTo>
                  <a:pt x="1938660" y="258122"/>
                </a:lnTo>
                <a:lnTo>
                  <a:pt x="1938660" y="260868"/>
                </a:lnTo>
                <a:lnTo>
                  <a:pt x="1938660" y="263614"/>
                </a:lnTo>
                <a:lnTo>
                  <a:pt x="1941406" y="266360"/>
                </a:lnTo>
                <a:lnTo>
                  <a:pt x="1935914" y="266360"/>
                </a:lnTo>
                <a:lnTo>
                  <a:pt x="1930422" y="269106"/>
                </a:lnTo>
                <a:lnTo>
                  <a:pt x="1930422" y="271852"/>
                </a:lnTo>
                <a:lnTo>
                  <a:pt x="1933168" y="277344"/>
                </a:lnTo>
                <a:lnTo>
                  <a:pt x="1927676" y="277344"/>
                </a:lnTo>
                <a:lnTo>
                  <a:pt x="1919438" y="280090"/>
                </a:lnTo>
                <a:lnTo>
                  <a:pt x="1916692" y="285582"/>
                </a:lnTo>
                <a:lnTo>
                  <a:pt x="1916692" y="296565"/>
                </a:lnTo>
                <a:lnTo>
                  <a:pt x="1924930" y="299311"/>
                </a:lnTo>
                <a:lnTo>
                  <a:pt x="1924930" y="302057"/>
                </a:lnTo>
                <a:lnTo>
                  <a:pt x="1900163" y="305596"/>
                </a:lnTo>
                <a:lnTo>
                  <a:pt x="1900776" y="307028"/>
                </a:lnTo>
                <a:lnTo>
                  <a:pt x="1949643" y="299312"/>
                </a:lnTo>
                <a:lnTo>
                  <a:pt x="1968865" y="293820"/>
                </a:lnTo>
                <a:lnTo>
                  <a:pt x="1990832" y="285582"/>
                </a:lnTo>
                <a:lnTo>
                  <a:pt x="1993578" y="288328"/>
                </a:lnTo>
                <a:lnTo>
                  <a:pt x="1990832" y="288328"/>
                </a:lnTo>
                <a:lnTo>
                  <a:pt x="1982595" y="296566"/>
                </a:lnTo>
                <a:lnTo>
                  <a:pt x="1971611" y="302058"/>
                </a:lnTo>
                <a:lnTo>
                  <a:pt x="1946897" y="307550"/>
                </a:lnTo>
                <a:lnTo>
                  <a:pt x="1903087" y="312418"/>
                </a:lnTo>
                <a:lnTo>
                  <a:pt x="1905708" y="318534"/>
                </a:lnTo>
                <a:lnTo>
                  <a:pt x="1905708" y="324026"/>
                </a:lnTo>
                <a:lnTo>
                  <a:pt x="1905708" y="329517"/>
                </a:lnTo>
                <a:lnTo>
                  <a:pt x="1900216" y="340501"/>
                </a:lnTo>
                <a:lnTo>
                  <a:pt x="1894723" y="348739"/>
                </a:lnTo>
                <a:lnTo>
                  <a:pt x="1891978" y="356977"/>
                </a:lnTo>
                <a:lnTo>
                  <a:pt x="1889232" y="373453"/>
                </a:lnTo>
                <a:lnTo>
                  <a:pt x="1889232" y="395421"/>
                </a:lnTo>
                <a:lnTo>
                  <a:pt x="1891978" y="414643"/>
                </a:lnTo>
                <a:lnTo>
                  <a:pt x="1902962" y="455832"/>
                </a:lnTo>
                <a:lnTo>
                  <a:pt x="1905708" y="475054"/>
                </a:lnTo>
                <a:lnTo>
                  <a:pt x="1908453" y="491530"/>
                </a:lnTo>
                <a:lnTo>
                  <a:pt x="1905708" y="497022"/>
                </a:lnTo>
                <a:lnTo>
                  <a:pt x="1902962" y="502514"/>
                </a:lnTo>
                <a:lnTo>
                  <a:pt x="1900216" y="505260"/>
                </a:lnTo>
                <a:lnTo>
                  <a:pt x="1894723" y="508006"/>
                </a:lnTo>
                <a:lnTo>
                  <a:pt x="1889232" y="508006"/>
                </a:lnTo>
                <a:lnTo>
                  <a:pt x="1883740" y="505260"/>
                </a:lnTo>
                <a:lnTo>
                  <a:pt x="1878248" y="502514"/>
                </a:lnTo>
                <a:lnTo>
                  <a:pt x="1875502" y="497022"/>
                </a:lnTo>
                <a:lnTo>
                  <a:pt x="1872756" y="477800"/>
                </a:lnTo>
                <a:lnTo>
                  <a:pt x="1867264" y="455832"/>
                </a:lnTo>
                <a:lnTo>
                  <a:pt x="1867264" y="444848"/>
                </a:lnTo>
                <a:lnTo>
                  <a:pt x="1867264" y="433865"/>
                </a:lnTo>
                <a:lnTo>
                  <a:pt x="1870010" y="425627"/>
                </a:lnTo>
                <a:lnTo>
                  <a:pt x="1872756" y="417389"/>
                </a:lnTo>
                <a:lnTo>
                  <a:pt x="1880994" y="409151"/>
                </a:lnTo>
                <a:lnTo>
                  <a:pt x="1883740" y="398167"/>
                </a:lnTo>
                <a:lnTo>
                  <a:pt x="1883740" y="387183"/>
                </a:lnTo>
                <a:lnTo>
                  <a:pt x="1880994" y="376199"/>
                </a:lnTo>
                <a:lnTo>
                  <a:pt x="1872756" y="354231"/>
                </a:lnTo>
                <a:lnTo>
                  <a:pt x="1864518" y="335009"/>
                </a:lnTo>
                <a:lnTo>
                  <a:pt x="1861772" y="326772"/>
                </a:lnTo>
                <a:lnTo>
                  <a:pt x="1861772" y="324483"/>
                </a:lnTo>
                <a:lnTo>
                  <a:pt x="1864518" y="324026"/>
                </a:lnTo>
                <a:lnTo>
                  <a:pt x="1880994" y="324026"/>
                </a:lnTo>
                <a:lnTo>
                  <a:pt x="1871443" y="309699"/>
                </a:lnTo>
                <a:lnTo>
                  <a:pt x="1867265" y="310295"/>
                </a:lnTo>
                <a:lnTo>
                  <a:pt x="1867265" y="303432"/>
                </a:lnTo>
                <a:lnTo>
                  <a:pt x="1866349" y="302057"/>
                </a:lnTo>
                <a:lnTo>
                  <a:pt x="1864519" y="302057"/>
                </a:lnTo>
                <a:lnTo>
                  <a:pt x="1864126" y="302057"/>
                </a:lnTo>
                <a:lnTo>
                  <a:pt x="1861772" y="318534"/>
                </a:lnTo>
                <a:lnTo>
                  <a:pt x="1861772" y="324483"/>
                </a:lnTo>
                <a:lnTo>
                  <a:pt x="1848043" y="326772"/>
                </a:lnTo>
                <a:lnTo>
                  <a:pt x="1815091" y="337755"/>
                </a:lnTo>
                <a:lnTo>
                  <a:pt x="1782139" y="351485"/>
                </a:lnTo>
                <a:lnTo>
                  <a:pt x="1751933" y="365215"/>
                </a:lnTo>
                <a:lnTo>
                  <a:pt x="1735457" y="367961"/>
                </a:lnTo>
                <a:lnTo>
                  <a:pt x="1716235" y="367961"/>
                </a:lnTo>
                <a:lnTo>
                  <a:pt x="1697014" y="367961"/>
                </a:lnTo>
                <a:lnTo>
                  <a:pt x="1677792" y="367961"/>
                </a:lnTo>
                <a:lnTo>
                  <a:pt x="1653078" y="370707"/>
                </a:lnTo>
                <a:lnTo>
                  <a:pt x="1631110" y="376199"/>
                </a:lnTo>
                <a:lnTo>
                  <a:pt x="1620126" y="378945"/>
                </a:lnTo>
                <a:lnTo>
                  <a:pt x="1609143" y="387183"/>
                </a:lnTo>
                <a:lnTo>
                  <a:pt x="1600904" y="395421"/>
                </a:lnTo>
                <a:lnTo>
                  <a:pt x="1595412" y="406405"/>
                </a:lnTo>
                <a:lnTo>
                  <a:pt x="1589921" y="417389"/>
                </a:lnTo>
                <a:lnTo>
                  <a:pt x="1584428" y="422881"/>
                </a:lnTo>
                <a:lnTo>
                  <a:pt x="1578936" y="425627"/>
                </a:lnTo>
                <a:lnTo>
                  <a:pt x="1576191" y="425627"/>
                </a:lnTo>
                <a:lnTo>
                  <a:pt x="1576191" y="431118"/>
                </a:lnTo>
                <a:lnTo>
                  <a:pt x="1573445" y="431118"/>
                </a:lnTo>
                <a:lnTo>
                  <a:pt x="1570699" y="431118"/>
                </a:lnTo>
                <a:lnTo>
                  <a:pt x="1567952" y="428372"/>
                </a:lnTo>
                <a:lnTo>
                  <a:pt x="1565206" y="428372"/>
                </a:lnTo>
                <a:lnTo>
                  <a:pt x="1565206" y="431118"/>
                </a:lnTo>
                <a:lnTo>
                  <a:pt x="1567952" y="433864"/>
                </a:lnTo>
                <a:lnTo>
                  <a:pt x="1567952" y="436610"/>
                </a:lnTo>
                <a:lnTo>
                  <a:pt x="1573445" y="433864"/>
                </a:lnTo>
                <a:lnTo>
                  <a:pt x="1576191" y="431118"/>
                </a:lnTo>
                <a:lnTo>
                  <a:pt x="1576191" y="458578"/>
                </a:lnTo>
                <a:lnTo>
                  <a:pt x="1573445" y="455832"/>
                </a:lnTo>
                <a:lnTo>
                  <a:pt x="1570699" y="461324"/>
                </a:lnTo>
                <a:lnTo>
                  <a:pt x="1573445" y="466816"/>
                </a:lnTo>
                <a:lnTo>
                  <a:pt x="1576191" y="466816"/>
                </a:lnTo>
                <a:lnTo>
                  <a:pt x="1576191" y="472308"/>
                </a:lnTo>
                <a:lnTo>
                  <a:pt x="1573445" y="475054"/>
                </a:lnTo>
                <a:lnTo>
                  <a:pt x="1570699" y="475054"/>
                </a:lnTo>
                <a:lnTo>
                  <a:pt x="1565206" y="464070"/>
                </a:lnTo>
                <a:lnTo>
                  <a:pt x="1559715" y="458578"/>
                </a:lnTo>
                <a:lnTo>
                  <a:pt x="1551477" y="458578"/>
                </a:lnTo>
                <a:lnTo>
                  <a:pt x="1551477" y="461324"/>
                </a:lnTo>
                <a:lnTo>
                  <a:pt x="1554223" y="464070"/>
                </a:lnTo>
                <a:lnTo>
                  <a:pt x="1551477" y="466816"/>
                </a:lnTo>
                <a:lnTo>
                  <a:pt x="1548731" y="466816"/>
                </a:lnTo>
                <a:lnTo>
                  <a:pt x="1545985" y="466816"/>
                </a:lnTo>
                <a:lnTo>
                  <a:pt x="1543239" y="469562"/>
                </a:lnTo>
                <a:lnTo>
                  <a:pt x="1554223" y="475054"/>
                </a:lnTo>
                <a:lnTo>
                  <a:pt x="1559715" y="477800"/>
                </a:lnTo>
                <a:lnTo>
                  <a:pt x="1567952" y="475054"/>
                </a:lnTo>
                <a:lnTo>
                  <a:pt x="1570699" y="477800"/>
                </a:lnTo>
                <a:lnTo>
                  <a:pt x="1576191" y="477800"/>
                </a:lnTo>
                <a:lnTo>
                  <a:pt x="1576191" y="497022"/>
                </a:lnTo>
                <a:lnTo>
                  <a:pt x="1573445" y="499768"/>
                </a:lnTo>
                <a:lnTo>
                  <a:pt x="1573445" y="502514"/>
                </a:lnTo>
                <a:lnTo>
                  <a:pt x="1576191" y="502514"/>
                </a:lnTo>
                <a:lnTo>
                  <a:pt x="1576191" y="505260"/>
                </a:lnTo>
                <a:lnTo>
                  <a:pt x="1576191" y="510752"/>
                </a:lnTo>
                <a:lnTo>
                  <a:pt x="1576191" y="546449"/>
                </a:lnTo>
                <a:lnTo>
                  <a:pt x="1570699" y="546449"/>
                </a:lnTo>
                <a:lnTo>
                  <a:pt x="1570699" y="549195"/>
                </a:lnTo>
                <a:lnTo>
                  <a:pt x="1576191" y="549195"/>
                </a:lnTo>
                <a:lnTo>
                  <a:pt x="1576191" y="568417"/>
                </a:lnTo>
                <a:lnTo>
                  <a:pt x="1570699" y="568417"/>
                </a:lnTo>
                <a:lnTo>
                  <a:pt x="1570699" y="573909"/>
                </a:lnTo>
                <a:lnTo>
                  <a:pt x="1576191" y="576655"/>
                </a:lnTo>
                <a:lnTo>
                  <a:pt x="1573445" y="818301"/>
                </a:lnTo>
                <a:lnTo>
                  <a:pt x="1556969" y="818301"/>
                </a:lnTo>
                <a:lnTo>
                  <a:pt x="1540493" y="818301"/>
                </a:lnTo>
                <a:lnTo>
                  <a:pt x="1537748" y="823793"/>
                </a:lnTo>
                <a:lnTo>
                  <a:pt x="1537748" y="829285"/>
                </a:lnTo>
                <a:lnTo>
                  <a:pt x="1540493" y="829285"/>
                </a:lnTo>
                <a:lnTo>
                  <a:pt x="1540493" y="834777"/>
                </a:lnTo>
                <a:lnTo>
                  <a:pt x="1548731" y="834777"/>
                </a:lnTo>
                <a:lnTo>
                  <a:pt x="1551477" y="837523"/>
                </a:lnTo>
                <a:lnTo>
                  <a:pt x="1556969" y="840269"/>
                </a:lnTo>
                <a:lnTo>
                  <a:pt x="1562461" y="840269"/>
                </a:lnTo>
                <a:lnTo>
                  <a:pt x="1562461" y="853999"/>
                </a:lnTo>
                <a:lnTo>
                  <a:pt x="1567952" y="853999"/>
                </a:lnTo>
                <a:lnTo>
                  <a:pt x="1573445" y="853999"/>
                </a:lnTo>
                <a:lnTo>
                  <a:pt x="1573445" y="867729"/>
                </a:lnTo>
                <a:lnTo>
                  <a:pt x="1562461" y="867729"/>
                </a:lnTo>
                <a:lnTo>
                  <a:pt x="1559715" y="870475"/>
                </a:lnTo>
                <a:lnTo>
                  <a:pt x="1556969" y="873221"/>
                </a:lnTo>
                <a:lnTo>
                  <a:pt x="1554223" y="873221"/>
                </a:lnTo>
                <a:lnTo>
                  <a:pt x="1551477" y="873221"/>
                </a:lnTo>
                <a:lnTo>
                  <a:pt x="1548731" y="875967"/>
                </a:lnTo>
                <a:lnTo>
                  <a:pt x="1545985" y="878713"/>
                </a:lnTo>
                <a:lnTo>
                  <a:pt x="1551477" y="878713"/>
                </a:lnTo>
                <a:lnTo>
                  <a:pt x="1556969" y="875967"/>
                </a:lnTo>
                <a:lnTo>
                  <a:pt x="1554223" y="886951"/>
                </a:lnTo>
                <a:lnTo>
                  <a:pt x="1554223" y="892443"/>
                </a:lnTo>
                <a:lnTo>
                  <a:pt x="1556969" y="895188"/>
                </a:lnTo>
                <a:lnTo>
                  <a:pt x="1548731" y="900680"/>
                </a:lnTo>
                <a:lnTo>
                  <a:pt x="1548731" y="897934"/>
                </a:lnTo>
                <a:lnTo>
                  <a:pt x="1545985" y="895188"/>
                </a:lnTo>
                <a:lnTo>
                  <a:pt x="1543239" y="895188"/>
                </a:lnTo>
                <a:lnTo>
                  <a:pt x="1543239" y="889697"/>
                </a:lnTo>
                <a:lnTo>
                  <a:pt x="1532255" y="889697"/>
                </a:lnTo>
                <a:lnTo>
                  <a:pt x="1524017" y="889697"/>
                </a:lnTo>
                <a:lnTo>
                  <a:pt x="1521272" y="897934"/>
                </a:lnTo>
                <a:lnTo>
                  <a:pt x="1518526" y="908918"/>
                </a:lnTo>
                <a:lnTo>
                  <a:pt x="1524017" y="908918"/>
                </a:lnTo>
                <a:lnTo>
                  <a:pt x="1524017" y="911664"/>
                </a:lnTo>
                <a:lnTo>
                  <a:pt x="1526763" y="919902"/>
                </a:lnTo>
                <a:lnTo>
                  <a:pt x="1455368" y="928140"/>
                </a:lnTo>
                <a:lnTo>
                  <a:pt x="1455368" y="925394"/>
                </a:lnTo>
                <a:lnTo>
                  <a:pt x="1452622" y="925394"/>
                </a:lnTo>
                <a:lnTo>
                  <a:pt x="1447130" y="925394"/>
                </a:lnTo>
                <a:lnTo>
                  <a:pt x="1447130" y="928140"/>
                </a:lnTo>
                <a:lnTo>
                  <a:pt x="1070932" y="972076"/>
                </a:lnTo>
                <a:lnTo>
                  <a:pt x="1062694" y="969330"/>
                </a:lnTo>
                <a:lnTo>
                  <a:pt x="1054456" y="969330"/>
                </a:lnTo>
                <a:lnTo>
                  <a:pt x="1054456" y="972076"/>
                </a:lnTo>
                <a:lnTo>
                  <a:pt x="1018756" y="978026"/>
                </a:lnTo>
                <a:lnTo>
                  <a:pt x="1018756" y="980314"/>
                </a:lnTo>
                <a:lnTo>
                  <a:pt x="1016010" y="985806"/>
                </a:lnTo>
                <a:lnTo>
                  <a:pt x="1010518" y="991298"/>
                </a:lnTo>
                <a:lnTo>
                  <a:pt x="1005026" y="996790"/>
                </a:lnTo>
                <a:lnTo>
                  <a:pt x="991296" y="1002282"/>
                </a:lnTo>
                <a:lnTo>
                  <a:pt x="974820" y="1002282"/>
                </a:lnTo>
                <a:lnTo>
                  <a:pt x="958344" y="999536"/>
                </a:lnTo>
                <a:lnTo>
                  <a:pt x="933631" y="994044"/>
                </a:lnTo>
                <a:lnTo>
                  <a:pt x="911663" y="991298"/>
                </a:lnTo>
                <a:lnTo>
                  <a:pt x="889695" y="994044"/>
                </a:lnTo>
                <a:lnTo>
                  <a:pt x="878712" y="996790"/>
                </a:lnTo>
                <a:lnTo>
                  <a:pt x="867728" y="1002282"/>
                </a:lnTo>
                <a:lnTo>
                  <a:pt x="843014" y="1016011"/>
                </a:lnTo>
                <a:lnTo>
                  <a:pt x="832030" y="1024249"/>
                </a:lnTo>
                <a:lnTo>
                  <a:pt x="818300" y="1026995"/>
                </a:lnTo>
                <a:lnTo>
                  <a:pt x="804570" y="1032487"/>
                </a:lnTo>
                <a:lnTo>
                  <a:pt x="788094" y="1032487"/>
                </a:lnTo>
                <a:lnTo>
                  <a:pt x="757889" y="1032487"/>
                </a:lnTo>
                <a:lnTo>
                  <a:pt x="727683" y="1026995"/>
                </a:lnTo>
                <a:lnTo>
                  <a:pt x="697477" y="1021503"/>
                </a:lnTo>
                <a:lnTo>
                  <a:pt x="680690" y="1016467"/>
                </a:lnTo>
                <a:lnTo>
                  <a:pt x="540957" y="1032488"/>
                </a:lnTo>
                <a:lnTo>
                  <a:pt x="543703" y="1029742"/>
                </a:lnTo>
                <a:lnTo>
                  <a:pt x="546450" y="1029742"/>
                </a:lnTo>
                <a:lnTo>
                  <a:pt x="546450" y="1024250"/>
                </a:lnTo>
                <a:lnTo>
                  <a:pt x="543703" y="1024250"/>
                </a:lnTo>
                <a:lnTo>
                  <a:pt x="540957" y="1026996"/>
                </a:lnTo>
                <a:lnTo>
                  <a:pt x="538212" y="1026996"/>
                </a:lnTo>
                <a:lnTo>
                  <a:pt x="538212" y="1032488"/>
                </a:lnTo>
                <a:lnTo>
                  <a:pt x="513498" y="1035234"/>
                </a:lnTo>
                <a:lnTo>
                  <a:pt x="508005" y="1035234"/>
                </a:lnTo>
                <a:lnTo>
                  <a:pt x="502514" y="1032488"/>
                </a:lnTo>
                <a:lnTo>
                  <a:pt x="502514" y="1035234"/>
                </a:lnTo>
                <a:lnTo>
                  <a:pt x="505260" y="1035234"/>
                </a:lnTo>
                <a:lnTo>
                  <a:pt x="477800" y="1040726"/>
                </a:lnTo>
                <a:lnTo>
                  <a:pt x="469562" y="1037980"/>
                </a:lnTo>
                <a:lnTo>
                  <a:pt x="461324" y="1040726"/>
                </a:lnTo>
                <a:lnTo>
                  <a:pt x="461324" y="1037980"/>
                </a:lnTo>
                <a:lnTo>
                  <a:pt x="458578" y="1035234"/>
                </a:lnTo>
                <a:lnTo>
                  <a:pt x="469562" y="1035234"/>
                </a:lnTo>
                <a:lnTo>
                  <a:pt x="469562" y="1029742"/>
                </a:lnTo>
                <a:lnTo>
                  <a:pt x="464070" y="1029742"/>
                </a:lnTo>
                <a:lnTo>
                  <a:pt x="461324" y="1029742"/>
                </a:lnTo>
                <a:lnTo>
                  <a:pt x="458578" y="1032488"/>
                </a:lnTo>
                <a:lnTo>
                  <a:pt x="455832" y="1032488"/>
                </a:lnTo>
                <a:lnTo>
                  <a:pt x="453086" y="1037980"/>
                </a:lnTo>
                <a:lnTo>
                  <a:pt x="447594" y="1037980"/>
                </a:lnTo>
                <a:lnTo>
                  <a:pt x="447594" y="1043472"/>
                </a:lnTo>
                <a:lnTo>
                  <a:pt x="439356" y="1043472"/>
                </a:lnTo>
                <a:lnTo>
                  <a:pt x="439356" y="1037980"/>
                </a:lnTo>
                <a:lnTo>
                  <a:pt x="433864" y="1037980"/>
                </a:lnTo>
                <a:lnTo>
                  <a:pt x="428372" y="1035234"/>
                </a:lnTo>
                <a:lnTo>
                  <a:pt x="422880" y="1035234"/>
                </a:lnTo>
                <a:lnTo>
                  <a:pt x="420134" y="1037980"/>
                </a:lnTo>
                <a:lnTo>
                  <a:pt x="420134" y="1035234"/>
                </a:lnTo>
                <a:lnTo>
                  <a:pt x="420134" y="1032488"/>
                </a:lnTo>
                <a:lnTo>
                  <a:pt x="414642" y="1029742"/>
                </a:lnTo>
                <a:lnTo>
                  <a:pt x="406404" y="1029742"/>
                </a:lnTo>
                <a:lnTo>
                  <a:pt x="400913" y="1026996"/>
                </a:lnTo>
                <a:lnTo>
                  <a:pt x="392675" y="1032488"/>
                </a:lnTo>
                <a:lnTo>
                  <a:pt x="387183" y="1032488"/>
                </a:lnTo>
                <a:lnTo>
                  <a:pt x="381691" y="1032488"/>
                </a:lnTo>
                <a:lnTo>
                  <a:pt x="381691" y="1043472"/>
                </a:lnTo>
                <a:lnTo>
                  <a:pt x="384437" y="1040726"/>
                </a:lnTo>
                <a:lnTo>
                  <a:pt x="384437" y="1037980"/>
                </a:lnTo>
                <a:lnTo>
                  <a:pt x="387183" y="1035234"/>
                </a:lnTo>
                <a:lnTo>
                  <a:pt x="389929" y="1037980"/>
                </a:lnTo>
                <a:lnTo>
                  <a:pt x="392675" y="1037980"/>
                </a:lnTo>
                <a:lnTo>
                  <a:pt x="398167" y="1035234"/>
                </a:lnTo>
                <a:lnTo>
                  <a:pt x="395421" y="1040726"/>
                </a:lnTo>
                <a:lnTo>
                  <a:pt x="395421" y="1043472"/>
                </a:lnTo>
                <a:lnTo>
                  <a:pt x="392675" y="1046218"/>
                </a:lnTo>
                <a:lnTo>
                  <a:pt x="389929" y="1048964"/>
                </a:lnTo>
                <a:lnTo>
                  <a:pt x="387183" y="1048964"/>
                </a:lnTo>
                <a:lnTo>
                  <a:pt x="384437" y="1046218"/>
                </a:lnTo>
                <a:lnTo>
                  <a:pt x="381691" y="1046218"/>
                </a:lnTo>
                <a:lnTo>
                  <a:pt x="381691" y="1048964"/>
                </a:lnTo>
                <a:lnTo>
                  <a:pt x="378945" y="1051710"/>
                </a:lnTo>
                <a:lnTo>
                  <a:pt x="376199" y="1051710"/>
                </a:lnTo>
                <a:lnTo>
                  <a:pt x="370707" y="1048964"/>
                </a:lnTo>
                <a:lnTo>
                  <a:pt x="370707" y="1051710"/>
                </a:lnTo>
                <a:lnTo>
                  <a:pt x="60411" y="1087407"/>
                </a:lnTo>
                <a:lnTo>
                  <a:pt x="63157" y="1084661"/>
                </a:lnTo>
                <a:lnTo>
                  <a:pt x="68650" y="1084661"/>
                </a:lnTo>
                <a:lnTo>
                  <a:pt x="74141" y="1081915"/>
                </a:lnTo>
                <a:lnTo>
                  <a:pt x="85125" y="1076423"/>
                </a:lnTo>
                <a:lnTo>
                  <a:pt x="85125" y="1068185"/>
                </a:lnTo>
                <a:lnTo>
                  <a:pt x="87871" y="1062693"/>
                </a:lnTo>
                <a:lnTo>
                  <a:pt x="85125" y="1057201"/>
                </a:lnTo>
                <a:lnTo>
                  <a:pt x="79633" y="1054455"/>
                </a:lnTo>
                <a:lnTo>
                  <a:pt x="76887" y="1046218"/>
                </a:lnTo>
                <a:lnTo>
                  <a:pt x="68650" y="1040726"/>
                </a:lnTo>
                <a:lnTo>
                  <a:pt x="60411" y="1035234"/>
                </a:lnTo>
                <a:lnTo>
                  <a:pt x="54920" y="1029742"/>
                </a:lnTo>
                <a:lnTo>
                  <a:pt x="112585" y="958346"/>
                </a:lnTo>
                <a:lnTo>
                  <a:pt x="118077" y="958346"/>
                </a:lnTo>
                <a:lnTo>
                  <a:pt x="115331" y="952854"/>
                </a:lnTo>
                <a:lnTo>
                  <a:pt x="266360" y="771620"/>
                </a:lnTo>
                <a:lnTo>
                  <a:pt x="282836" y="771620"/>
                </a:lnTo>
                <a:lnTo>
                  <a:pt x="296565" y="768874"/>
                </a:lnTo>
                <a:lnTo>
                  <a:pt x="313041" y="766128"/>
                </a:lnTo>
                <a:lnTo>
                  <a:pt x="329517" y="760636"/>
                </a:lnTo>
                <a:lnTo>
                  <a:pt x="356977" y="746906"/>
                </a:lnTo>
                <a:lnTo>
                  <a:pt x="381691" y="730430"/>
                </a:lnTo>
                <a:lnTo>
                  <a:pt x="370707" y="730430"/>
                </a:lnTo>
                <a:lnTo>
                  <a:pt x="362469" y="730430"/>
                </a:lnTo>
                <a:lnTo>
                  <a:pt x="343247" y="733176"/>
                </a:lnTo>
                <a:lnTo>
                  <a:pt x="329517" y="738668"/>
                </a:lnTo>
                <a:lnTo>
                  <a:pt x="315787" y="741414"/>
                </a:lnTo>
                <a:lnTo>
                  <a:pt x="307549" y="738668"/>
                </a:lnTo>
                <a:lnTo>
                  <a:pt x="304803" y="735922"/>
                </a:lnTo>
                <a:lnTo>
                  <a:pt x="299311" y="733176"/>
                </a:lnTo>
                <a:lnTo>
                  <a:pt x="293820" y="733176"/>
                </a:lnTo>
                <a:lnTo>
                  <a:pt x="291074" y="735922"/>
                </a:lnTo>
                <a:lnTo>
                  <a:pt x="90617" y="535465"/>
                </a:lnTo>
                <a:lnTo>
                  <a:pt x="112585" y="527228"/>
                </a:lnTo>
                <a:lnTo>
                  <a:pt x="123569" y="518990"/>
                </a:lnTo>
                <a:lnTo>
                  <a:pt x="131807" y="510752"/>
                </a:lnTo>
                <a:lnTo>
                  <a:pt x="101601" y="505260"/>
                </a:lnTo>
                <a:lnTo>
                  <a:pt x="93363" y="505260"/>
                </a:lnTo>
                <a:lnTo>
                  <a:pt x="85125" y="505260"/>
                </a:lnTo>
                <a:lnTo>
                  <a:pt x="76887" y="508006"/>
                </a:lnTo>
                <a:lnTo>
                  <a:pt x="68650" y="513498"/>
                </a:lnTo>
                <a:lnTo>
                  <a:pt x="68650" y="516244"/>
                </a:lnTo>
                <a:lnTo>
                  <a:pt x="63157" y="510752"/>
                </a:lnTo>
                <a:lnTo>
                  <a:pt x="65904" y="510752"/>
                </a:lnTo>
                <a:lnTo>
                  <a:pt x="63157" y="502514"/>
                </a:lnTo>
                <a:lnTo>
                  <a:pt x="60411" y="499768"/>
                </a:lnTo>
                <a:lnTo>
                  <a:pt x="57665" y="499768"/>
                </a:lnTo>
                <a:lnTo>
                  <a:pt x="54920" y="502514"/>
                </a:lnTo>
                <a:lnTo>
                  <a:pt x="46682" y="494276"/>
                </a:lnTo>
                <a:lnTo>
                  <a:pt x="60411" y="491530"/>
                </a:lnTo>
                <a:lnTo>
                  <a:pt x="71395" y="488784"/>
                </a:lnTo>
                <a:lnTo>
                  <a:pt x="87871" y="480546"/>
                </a:lnTo>
                <a:lnTo>
                  <a:pt x="96109" y="475054"/>
                </a:lnTo>
                <a:lnTo>
                  <a:pt x="104347" y="472308"/>
                </a:lnTo>
                <a:lnTo>
                  <a:pt x="109839" y="472308"/>
                </a:lnTo>
                <a:lnTo>
                  <a:pt x="115331" y="477800"/>
                </a:lnTo>
                <a:lnTo>
                  <a:pt x="118077" y="483292"/>
                </a:lnTo>
                <a:lnTo>
                  <a:pt x="118077" y="488784"/>
                </a:lnTo>
                <a:lnTo>
                  <a:pt x="118077" y="494276"/>
                </a:lnTo>
                <a:lnTo>
                  <a:pt x="120823" y="499768"/>
                </a:lnTo>
                <a:lnTo>
                  <a:pt x="123569" y="499768"/>
                </a:lnTo>
                <a:lnTo>
                  <a:pt x="129061" y="499768"/>
                </a:lnTo>
                <a:lnTo>
                  <a:pt x="131807" y="497022"/>
                </a:lnTo>
                <a:lnTo>
                  <a:pt x="134553" y="499768"/>
                </a:lnTo>
                <a:lnTo>
                  <a:pt x="137299" y="505260"/>
                </a:lnTo>
                <a:lnTo>
                  <a:pt x="140045" y="513498"/>
                </a:lnTo>
                <a:lnTo>
                  <a:pt x="142791" y="521736"/>
                </a:lnTo>
                <a:lnTo>
                  <a:pt x="148283" y="527228"/>
                </a:lnTo>
                <a:lnTo>
                  <a:pt x="153775" y="529974"/>
                </a:lnTo>
                <a:lnTo>
                  <a:pt x="153775" y="521736"/>
                </a:lnTo>
                <a:lnTo>
                  <a:pt x="156521" y="518990"/>
                </a:lnTo>
                <a:lnTo>
                  <a:pt x="151029" y="513498"/>
                </a:lnTo>
                <a:lnTo>
                  <a:pt x="151029" y="505260"/>
                </a:lnTo>
                <a:lnTo>
                  <a:pt x="153775" y="502514"/>
                </a:lnTo>
                <a:lnTo>
                  <a:pt x="159267" y="497022"/>
                </a:lnTo>
                <a:lnTo>
                  <a:pt x="170251" y="494276"/>
                </a:lnTo>
                <a:lnTo>
                  <a:pt x="178488" y="488784"/>
                </a:lnTo>
                <a:lnTo>
                  <a:pt x="175743" y="488784"/>
                </a:lnTo>
                <a:lnTo>
                  <a:pt x="172997" y="483292"/>
                </a:lnTo>
                <a:lnTo>
                  <a:pt x="170251" y="480546"/>
                </a:lnTo>
                <a:lnTo>
                  <a:pt x="167505" y="475054"/>
                </a:lnTo>
                <a:lnTo>
                  <a:pt x="172997" y="469562"/>
                </a:lnTo>
                <a:lnTo>
                  <a:pt x="181234" y="461324"/>
                </a:lnTo>
                <a:lnTo>
                  <a:pt x="194964" y="455832"/>
                </a:lnTo>
                <a:lnTo>
                  <a:pt x="208694" y="453086"/>
                </a:lnTo>
                <a:lnTo>
                  <a:pt x="222424" y="453086"/>
                </a:lnTo>
                <a:lnTo>
                  <a:pt x="230662" y="455832"/>
                </a:lnTo>
                <a:lnTo>
                  <a:pt x="236154" y="458578"/>
                </a:lnTo>
                <a:lnTo>
                  <a:pt x="238900" y="461324"/>
                </a:lnTo>
                <a:lnTo>
                  <a:pt x="238900" y="466816"/>
                </a:lnTo>
                <a:lnTo>
                  <a:pt x="238900" y="472308"/>
                </a:lnTo>
                <a:lnTo>
                  <a:pt x="238900" y="477800"/>
                </a:lnTo>
                <a:lnTo>
                  <a:pt x="241646" y="480546"/>
                </a:lnTo>
                <a:lnTo>
                  <a:pt x="249884" y="480546"/>
                </a:lnTo>
                <a:lnTo>
                  <a:pt x="263614" y="480546"/>
                </a:lnTo>
                <a:lnTo>
                  <a:pt x="277344" y="480546"/>
                </a:lnTo>
                <a:lnTo>
                  <a:pt x="271852" y="464070"/>
                </a:lnTo>
                <a:lnTo>
                  <a:pt x="266360" y="450340"/>
                </a:lnTo>
                <a:lnTo>
                  <a:pt x="260868" y="433864"/>
                </a:lnTo>
                <a:lnTo>
                  <a:pt x="255376" y="422880"/>
                </a:lnTo>
                <a:lnTo>
                  <a:pt x="848507" y="359723"/>
                </a:lnTo>
                <a:lnTo>
                  <a:pt x="873221" y="356977"/>
                </a:lnTo>
                <a:lnTo>
                  <a:pt x="892443" y="373453"/>
                </a:lnTo>
                <a:lnTo>
                  <a:pt x="903426" y="381691"/>
                </a:lnTo>
                <a:lnTo>
                  <a:pt x="911664" y="384437"/>
                </a:lnTo>
                <a:lnTo>
                  <a:pt x="917156" y="384437"/>
                </a:lnTo>
                <a:lnTo>
                  <a:pt x="922648" y="384437"/>
                </a:lnTo>
                <a:lnTo>
                  <a:pt x="933632" y="378945"/>
                </a:lnTo>
                <a:lnTo>
                  <a:pt x="941870" y="376199"/>
                </a:lnTo>
                <a:lnTo>
                  <a:pt x="947362" y="373453"/>
                </a:lnTo>
                <a:lnTo>
                  <a:pt x="950108" y="376199"/>
                </a:lnTo>
                <a:lnTo>
                  <a:pt x="952854" y="376199"/>
                </a:lnTo>
                <a:lnTo>
                  <a:pt x="952854" y="378945"/>
                </a:lnTo>
                <a:lnTo>
                  <a:pt x="952854" y="384437"/>
                </a:lnTo>
                <a:lnTo>
                  <a:pt x="952854" y="389929"/>
                </a:lnTo>
                <a:lnTo>
                  <a:pt x="958346" y="392675"/>
                </a:lnTo>
                <a:lnTo>
                  <a:pt x="980314" y="392675"/>
                </a:lnTo>
                <a:lnTo>
                  <a:pt x="1005028" y="389929"/>
                </a:lnTo>
                <a:lnTo>
                  <a:pt x="1059948" y="381691"/>
                </a:lnTo>
                <a:lnTo>
                  <a:pt x="1087407" y="376199"/>
                </a:lnTo>
                <a:lnTo>
                  <a:pt x="1112121" y="367961"/>
                </a:lnTo>
                <a:lnTo>
                  <a:pt x="1131343" y="359723"/>
                </a:lnTo>
                <a:lnTo>
                  <a:pt x="1145073" y="348739"/>
                </a:lnTo>
                <a:lnTo>
                  <a:pt x="1153311" y="345993"/>
                </a:lnTo>
                <a:lnTo>
                  <a:pt x="1158803" y="348739"/>
                </a:lnTo>
                <a:lnTo>
                  <a:pt x="1164296" y="351485"/>
                </a:lnTo>
                <a:lnTo>
                  <a:pt x="1172532" y="354231"/>
                </a:lnTo>
                <a:lnTo>
                  <a:pt x="1175278" y="356977"/>
                </a:lnTo>
                <a:lnTo>
                  <a:pt x="1180772" y="359723"/>
                </a:lnTo>
                <a:lnTo>
                  <a:pt x="1180772" y="351485"/>
                </a:lnTo>
                <a:lnTo>
                  <a:pt x="1178025" y="351485"/>
                </a:lnTo>
                <a:lnTo>
                  <a:pt x="1194500" y="345993"/>
                </a:lnTo>
                <a:lnTo>
                  <a:pt x="1213722" y="337755"/>
                </a:lnTo>
                <a:lnTo>
                  <a:pt x="1249202" y="318650"/>
                </a:lnTo>
                <a:lnTo>
                  <a:pt x="1276880" y="315787"/>
                </a:lnTo>
                <a:lnTo>
                  <a:pt x="1271389" y="321279"/>
                </a:lnTo>
                <a:lnTo>
                  <a:pt x="1271389" y="332263"/>
                </a:lnTo>
                <a:lnTo>
                  <a:pt x="1282371" y="335009"/>
                </a:lnTo>
                <a:lnTo>
                  <a:pt x="1296101" y="337755"/>
                </a:lnTo>
                <a:lnTo>
                  <a:pt x="1323562" y="337755"/>
                </a:lnTo>
                <a:lnTo>
                  <a:pt x="1337290" y="337755"/>
                </a:lnTo>
                <a:lnTo>
                  <a:pt x="1351020" y="340501"/>
                </a:lnTo>
                <a:lnTo>
                  <a:pt x="1362005" y="345993"/>
                </a:lnTo>
                <a:lnTo>
                  <a:pt x="1372988" y="354231"/>
                </a:lnTo>
                <a:lnTo>
                  <a:pt x="1367496" y="354231"/>
                </a:lnTo>
                <a:lnTo>
                  <a:pt x="1370242" y="362469"/>
                </a:lnTo>
                <a:lnTo>
                  <a:pt x="1375736" y="365215"/>
                </a:lnTo>
                <a:lnTo>
                  <a:pt x="1378481" y="370707"/>
                </a:lnTo>
                <a:lnTo>
                  <a:pt x="1372988" y="367961"/>
                </a:lnTo>
                <a:lnTo>
                  <a:pt x="1375736" y="373453"/>
                </a:lnTo>
                <a:lnTo>
                  <a:pt x="1378481" y="376199"/>
                </a:lnTo>
                <a:lnTo>
                  <a:pt x="1389464" y="370707"/>
                </a:lnTo>
                <a:lnTo>
                  <a:pt x="1392210" y="365215"/>
                </a:lnTo>
                <a:lnTo>
                  <a:pt x="1394958" y="359723"/>
                </a:lnTo>
                <a:lnTo>
                  <a:pt x="1400448" y="354231"/>
                </a:lnTo>
                <a:lnTo>
                  <a:pt x="1405940" y="354231"/>
                </a:lnTo>
                <a:lnTo>
                  <a:pt x="1408686" y="354231"/>
                </a:lnTo>
                <a:lnTo>
                  <a:pt x="1416924" y="345993"/>
                </a:lnTo>
                <a:lnTo>
                  <a:pt x="1436146" y="343247"/>
                </a:lnTo>
                <a:lnTo>
                  <a:pt x="1436146" y="345993"/>
                </a:lnTo>
                <a:lnTo>
                  <a:pt x="1433400" y="345993"/>
                </a:lnTo>
                <a:lnTo>
                  <a:pt x="1433400" y="348739"/>
                </a:lnTo>
                <a:lnTo>
                  <a:pt x="1433400" y="351485"/>
                </a:lnTo>
                <a:lnTo>
                  <a:pt x="1436146" y="351485"/>
                </a:lnTo>
                <a:lnTo>
                  <a:pt x="1441637" y="348739"/>
                </a:lnTo>
                <a:lnTo>
                  <a:pt x="1447130" y="343247"/>
                </a:lnTo>
                <a:lnTo>
                  <a:pt x="1449877" y="343247"/>
                </a:lnTo>
                <a:lnTo>
                  <a:pt x="1455368" y="345993"/>
                </a:lnTo>
                <a:lnTo>
                  <a:pt x="1460859" y="345993"/>
                </a:lnTo>
                <a:lnTo>
                  <a:pt x="1460859" y="351485"/>
                </a:lnTo>
                <a:lnTo>
                  <a:pt x="1466353" y="351485"/>
                </a:lnTo>
                <a:lnTo>
                  <a:pt x="1480081" y="354231"/>
                </a:lnTo>
                <a:lnTo>
                  <a:pt x="1480081" y="348739"/>
                </a:lnTo>
                <a:lnTo>
                  <a:pt x="1485574" y="345993"/>
                </a:lnTo>
                <a:lnTo>
                  <a:pt x="1485574" y="348739"/>
                </a:lnTo>
                <a:lnTo>
                  <a:pt x="1482829" y="348739"/>
                </a:lnTo>
                <a:lnTo>
                  <a:pt x="1482829" y="351485"/>
                </a:lnTo>
                <a:lnTo>
                  <a:pt x="1491065" y="351485"/>
                </a:lnTo>
                <a:lnTo>
                  <a:pt x="1485574" y="337755"/>
                </a:lnTo>
                <a:lnTo>
                  <a:pt x="1499304" y="337755"/>
                </a:lnTo>
                <a:lnTo>
                  <a:pt x="1502050" y="340501"/>
                </a:lnTo>
                <a:lnTo>
                  <a:pt x="1504796" y="340501"/>
                </a:lnTo>
                <a:lnTo>
                  <a:pt x="1504796" y="337755"/>
                </a:lnTo>
                <a:lnTo>
                  <a:pt x="1507541" y="335009"/>
                </a:lnTo>
                <a:lnTo>
                  <a:pt x="1502050" y="335009"/>
                </a:lnTo>
                <a:lnTo>
                  <a:pt x="1499304" y="324025"/>
                </a:lnTo>
                <a:lnTo>
                  <a:pt x="1496557" y="321279"/>
                </a:lnTo>
                <a:lnTo>
                  <a:pt x="1493811" y="321279"/>
                </a:lnTo>
                <a:lnTo>
                  <a:pt x="1499304" y="313041"/>
                </a:lnTo>
                <a:lnTo>
                  <a:pt x="1502050" y="307549"/>
                </a:lnTo>
                <a:lnTo>
                  <a:pt x="1499304" y="307549"/>
                </a:lnTo>
                <a:lnTo>
                  <a:pt x="1496557" y="307549"/>
                </a:lnTo>
                <a:lnTo>
                  <a:pt x="1496557" y="310295"/>
                </a:lnTo>
                <a:lnTo>
                  <a:pt x="1491065" y="310295"/>
                </a:lnTo>
                <a:lnTo>
                  <a:pt x="1493811" y="307549"/>
                </a:lnTo>
                <a:lnTo>
                  <a:pt x="1491065" y="304803"/>
                </a:lnTo>
                <a:lnTo>
                  <a:pt x="1491065" y="302057"/>
                </a:lnTo>
                <a:lnTo>
                  <a:pt x="1491065" y="299311"/>
                </a:lnTo>
                <a:lnTo>
                  <a:pt x="1485574" y="304803"/>
                </a:lnTo>
                <a:lnTo>
                  <a:pt x="1482829" y="313041"/>
                </a:lnTo>
                <a:lnTo>
                  <a:pt x="1488320" y="315787"/>
                </a:lnTo>
                <a:lnTo>
                  <a:pt x="1493811" y="321279"/>
                </a:lnTo>
                <a:lnTo>
                  <a:pt x="1491065" y="321279"/>
                </a:lnTo>
                <a:lnTo>
                  <a:pt x="1488320" y="324025"/>
                </a:lnTo>
                <a:lnTo>
                  <a:pt x="1482829" y="321279"/>
                </a:lnTo>
                <a:lnTo>
                  <a:pt x="1477335" y="321279"/>
                </a:lnTo>
                <a:lnTo>
                  <a:pt x="1460859" y="321279"/>
                </a:lnTo>
                <a:lnTo>
                  <a:pt x="1460859" y="318533"/>
                </a:lnTo>
                <a:lnTo>
                  <a:pt x="1463606" y="313041"/>
                </a:lnTo>
                <a:lnTo>
                  <a:pt x="1469098" y="318533"/>
                </a:lnTo>
                <a:lnTo>
                  <a:pt x="1474589" y="318533"/>
                </a:lnTo>
                <a:lnTo>
                  <a:pt x="1477335" y="315787"/>
                </a:lnTo>
                <a:lnTo>
                  <a:pt x="1474589" y="310295"/>
                </a:lnTo>
                <a:lnTo>
                  <a:pt x="1471844" y="304803"/>
                </a:lnTo>
                <a:lnTo>
                  <a:pt x="1469098" y="304803"/>
                </a:lnTo>
                <a:lnTo>
                  <a:pt x="1463606" y="307549"/>
                </a:lnTo>
                <a:lnTo>
                  <a:pt x="1463606" y="310295"/>
                </a:lnTo>
                <a:lnTo>
                  <a:pt x="1460859" y="313041"/>
                </a:lnTo>
                <a:lnTo>
                  <a:pt x="1460859" y="304803"/>
                </a:lnTo>
                <a:lnTo>
                  <a:pt x="1458113" y="302057"/>
                </a:lnTo>
                <a:lnTo>
                  <a:pt x="1452622" y="299311"/>
                </a:lnTo>
                <a:lnTo>
                  <a:pt x="1447130" y="299311"/>
                </a:lnTo>
                <a:lnTo>
                  <a:pt x="1447130" y="302057"/>
                </a:lnTo>
                <a:lnTo>
                  <a:pt x="1447130" y="304803"/>
                </a:lnTo>
                <a:lnTo>
                  <a:pt x="1444383" y="307549"/>
                </a:lnTo>
                <a:lnTo>
                  <a:pt x="1444383" y="310295"/>
                </a:lnTo>
                <a:lnTo>
                  <a:pt x="1449877" y="310295"/>
                </a:lnTo>
                <a:lnTo>
                  <a:pt x="1452622" y="310295"/>
                </a:lnTo>
                <a:lnTo>
                  <a:pt x="1455368" y="313041"/>
                </a:lnTo>
                <a:lnTo>
                  <a:pt x="1452622" y="313041"/>
                </a:lnTo>
                <a:lnTo>
                  <a:pt x="1447130" y="313041"/>
                </a:lnTo>
                <a:lnTo>
                  <a:pt x="1444383" y="313041"/>
                </a:lnTo>
                <a:lnTo>
                  <a:pt x="1441637" y="315787"/>
                </a:lnTo>
                <a:lnTo>
                  <a:pt x="1441637" y="318533"/>
                </a:lnTo>
                <a:lnTo>
                  <a:pt x="1444383" y="318533"/>
                </a:lnTo>
                <a:lnTo>
                  <a:pt x="1444383" y="321279"/>
                </a:lnTo>
                <a:lnTo>
                  <a:pt x="1441637" y="321279"/>
                </a:lnTo>
                <a:lnTo>
                  <a:pt x="1438891" y="321279"/>
                </a:lnTo>
                <a:lnTo>
                  <a:pt x="1438891" y="324025"/>
                </a:lnTo>
                <a:lnTo>
                  <a:pt x="1436146" y="324025"/>
                </a:lnTo>
                <a:lnTo>
                  <a:pt x="1433400" y="315787"/>
                </a:lnTo>
                <a:lnTo>
                  <a:pt x="1433400" y="313041"/>
                </a:lnTo>
                <a:lnTo>
                  <a:pt x="1436146" y="310295"/>
                </a:lnTo>
                <a:lnTo>
                  <a:pt x="1430655" y="307549"/>
                </a:lnTo>
                <a:lnTo>
                  <a:pt x="1427907" y="304803"/>
                </a:lnTo>
                <a:lnTo>
                  <a:pt x="1427907" y="299311"/>
                </a:lnTo>
                <a:lnTo>
                  <a:pt x="1496557" y="293819"/>
                </a:lnTo>
                <a:lnTo>
                  <a:pt x="1496557" y="299311"/>
                </a:lnTo>
                <a:lnTo>
                  <a:pt x="1507541" y="304803"/>
                </a:lnTo>
                <a:lnTo>
                  <a:pt x="1507541" y="299311"/>
                </a:lnTo>
                <a:lnTo>
                  <a:pt x="1510287" y="299311"/>
                </a:lnTo>
                <a:lnTo>
                  <a:pt x="1510287" y="293819"/>
                </a:lnTo>
                <a:lnTo>
                  <a:pt x="1507541" y="291073"/>
                </a:lnTo>
                <a:lnTo>
                  <a:pt x="1515779" y="291073"/>
                </a:lnTo>
                <a:lnTo>
                  <a:pt x="1513033" y="296565"/>
                </a:lnTo>
                <a:lnTo>
                  <a:pt x="1524017" y="296565"/>
                </a:lnTo>
                <a:lnTo>
                  <a:pt x="1521272" y="291073"/>
                </a:lnTo>
                <a:lnTo>
                  <a:pt x="1529509" y="291073"/>
                </a:lnTo>
                <a:lnTo>
                  <a:pt x="1535002" y="293819"/>
                </a:lnTo>
                <a:lnTo>
                  <a:pt x="1532255" y="288328"/>
                </a:lnTo>
                <a:lnTo>
                  <a:pt x="1548731" y="288328"/>
                </a:lnTo>
                <a:lnTo>
                  <a:pt x="1554223" y="291073"/>
                </a:lnTo>
                <a:lnTo>
                  <a:pt x="1556969" y="291073"/>
                </a:lnTo>
                <a:lnTo>
                  <a:pt x="1559715" y="288328"/>
                </a:lnTo>
                <a:lnTo>
                  <a:pt x="1559715" y="285582"/>
                </a:lnTo>
                <a:lnTo>
                  <a:pt x="1790377" y="263614"/>
                </a:lnTo>
                <a:lnTo>
                  <a:pt x="1795869" y="263614"/>
                </a:lnTo>
                <a:lnTo>
                  <a:pt x="1798615" y="260868"/>
                </a:lnTo>
                <a:lnTo>
                  <a:pt x="1867265" y="255376"/>
                </a:lnTo>
                <a:lnTo>
                  <a:pt x="1872756" y="260868"/>
                </a:lnTo>
                <a:lnTo>
                  <a:pt x="1880995" y="266360"/>
                </a:lnTo>
                <a:lnTo>
                  <a:pt x="1889232" y="269106"/>
                </a:lnTo>
                <a:lnTo>
                  <a:pt x="1900217" y="271852"/>
                </a:lnTo>
                <a:lnTo>
                  <a:pt x="1905708" y="269106"/>
                </a:lnTo>
                <a:lnTo>
                  <a:pt x="1913947" y="266360"/>
                </a:lnTo>
                <a:lnTo>
                  <a:pt x="1922184" y="263614"/>
                </a:lnTo>
                <a:lnTo>
                  <a:pt x="1930422" y="258122"/>
                </a:lnTo>
                <a:lnTo>
                  <a:pt x="1930422" y="252630"/>
                </a:lnTo>
                <a:lnTo>
                  <a:pt x="1930422" y="247138"/>
                </a:lnTo>
                <a:lnTo>
                  <a:pt x="2073213" y="233408"/>
                </a:lnTo>
                <a:lnTo>
                  <a:pt x="2075959" y="233408"/>
                </a:lnTo>
                <a:lnTo>
                  <a:pt x="2378014" y="203202"/>
                </a:lnTo>
                <a:lnTo>
                  <a:pt x="2378015" y="203202"/>
                </a:lnTo>
                <a:lnTo>
                  <a:pt x="2378019" y="203202"/>
                </a:lnTo>
                <a:lnTo>
                  <a:pt x="3174349" y="123569"/>
                </a:lnTo>
                <a:close/>
                <a:moveTo>
                  <a:pt x="3352837" y="98855"/>
                </a:moveTo>
                <a:lnTo>
                  <a:pt x="3358329" y="101601"/>
                </a:lnTo>
                <a:lnTo>
                  <a:pt x="3358329" y="98855"/>
                </a:lnTo>
                <a:lnTo>
                  <a:pt x="3361075" y="101601"/>
                </a:lnTo>
                <a:lnTo>
                  <a:pt x="3350091" y="107093"/>
                </a:lnTo>
                <a:lnTo>
                  <a:pt x="3355583" y="112585"/>
                </a:lnTo>
                <a:lnTo>
                  <a:pt x="3358329" y="118077"/>
                </a:lnTo>
                <a:lnTo>
                  <a:pt x="3355583" y="118077"/>
                </a:lnTo>
                <a:lnTo>
                  <a:pt x="3355583" y="120823"/>
                </a:lnTo>
                <a:lnTo>
                  <a:pt x="3352837" y="123569"/>
                </a:lnTo>
                <a:lnTo>
                  <a:pt x="3350091" y="115331"/>
                </a:lnTo>
                <a:lnTo>
                  <a:pt x="3347345" y="115331"/>
                </a:lnTo>
                <a:lnTo>
                  <a:pt x="3347345" y="118077"/>
                </a:lnTo>
                <a:lnTo>
                  <a:pt x="3347345" y="120823"/>
                </a:lnTo>
                <a:lnTo>
                  <a:pt x="3344599" y="120823"/>
                </a:lnTo>
                <a:lnTo>
                  <a:pt x="3339107" y="115331"/>
                </a:lnTo>
                <a:lnTo>
                  <a:pt x="3339107" y="109839"/>
                </a:lnTo>
                <a:lnTo>
                  <a:pt x="3341853" y="107093"/>
                </a:lnTo>
                <a:lnTo>
                  <a:pt x="3344599" y="112585"/>
                </a:lnTo>
                <a:lnTo>
                  <a:pt x="3347345" y="112585"/>
                </a:lnTo>
                <a:lnTo>
                  <a:pt x="3347345" y="107093"/>
                </a:lnTo>
                <a:lnTo>
                  <a:pt x="3350091" y="104347"/>
                </a:lnTo>
                <a:lnTo>
                  <a:pt x="3352837" y="104347"/>
                </a:lnTo>
                <a:lnTo>
                  <a:pt x="3352837" y="98855"/>
                </a:lnTo>
                <a:close/>
                <a:moveTo>
                  <a:pt x="3374805" y="93363"/>
                </a:moveTo>
                <a:lnTo>
                  <a:pt x="3377551" y="98855"/>
                </a:lnTo>
                <a:lnTo>
                  <a:pt x="3372059" y="101601"/>
                </a:lnTo>
                <a:lnTo>
                  <a:pt x="3372059" y="96109"/>
                </a:lnTo>
                <a:lnTo>
                  <a:pt x="3374805" y="93363"/>
                </a:lnTo>
                <a:close/>
                <a:moveTo>
                  <a:pt x="3372059" y="79633"/>
                </a:moveTo>
                <a:lnTo>
                  <a:pt x="3374805" y="87871"/>
                </a:lnTo>
                <a:lnTo>
                  <a:pt x="3369313" y="90617"/>
                </a:lnTo>
                <a:lnTo>
                  <a:pt x="3366567" y="82379"/>
                </a:lnTo>
                <a:lnTo>
                  <a:pt x="3372059" y="79633"/>
                </a:lnTo>
                <a:close/>
                <a:moveTo>
                  <a:pt x="3377551" y="76887"/>
                </a:moveTo>
                <a:lnTo>
                  <a:pt x="3380297" y="76887"/>
                </a:lnTo>
                <a:lnTo>
                  <a:pt x="3383043" y="76887"/>
                </a:lnTo>
                <a:lnTo>
                  <a:pt x="3388535" y="76887"/>
                </a:lnTo>
                <a:lnTo>
                  <a:pt x="3388535" y="79633"/>
                </a:lnTo>
                <a:lnTo>
                  <a:pt x="3391281" y="82379"/>
                </a:lnTo>
                <a:lnTo>
                  <a:pt x="3399519" y="79633"/>
                </a:lnTo>
                <a:lnTo>
                  <a:pt x="3402265" y="79633"/>
                </a:lnTo>
                <a:lnTo>
                  <a:pt x="3405011" y="85125"/>
                </a:lnTo>
                <a:lnTo>
                  <a:pt x="3396773" y="87871"/>
                </a:lnTo>
                <a:lnTo>
                  <a:pt x="3394027" y="90617"/>
                </a:lnTo>
                <a:lnTo>
                  <a:pt x="3391281" y="85125"/>
                </a:lnTo>
                <a:lnTo>
                  <a:pt x="3385789" y="82379"/>
                </a:lnTo>
                <a:lnTo>
                  <a:pt x="3377551" y="76887"/>
                </a:lnTo>
                <a:close/>
                <a:moveTo>
                  <a:pt x="3888303" y="54919"/>
                </a:moveTo>
                <a:lnTo>
                  <a:pt x="3888303" y="57665"/>
                </a:lnTo>
                <a:lnTo>
                  <a:pt x="3882811" y="57665"/>
                </a:lnTo>
                <a:lnTo>
                  <a:pt x="3888303" y="54919"/>
                </a:lnTo>
                <a:close/>
                <a:moveTo>
                  <a:pt x="3915763" y="52173"/>
                </a:moveTo>
                <a:lnTo>
                  <a:pt x="3918509" y="52173"/>
                </a:lnTo>
                <a:lnTo>
                  <a:pt x="3913017" y="54919"/>
                </a:lnTo>
                <a:lnTo>
                  <a:pt x="3915763" y="52173"/>
                </a:lnTo>
                <a:close/>
                <a:moveTo>
                  <a:pt x="3929492" y="43936"/>
                </a:moveTo>
                <a:lnTo>
                  <a:pt x="3934984" y="49427"/>
                </a:lnTo>
                <a:lnTo>
                  <a:pt x="3940476" y="49427"/>
                </a:lnTo>
                <a:lnTo>
                  <a:pt x="3934984" y="43936"/>
                </a:lnTo>
                <a:lnTo>
                  <a:pt x="3929492" y="43936"/>
                </a:lnTo>
                <a:close/>
                <a:moveTo>
                  <a:pt x="3805923" y="43936"/>
                </a:moveTo>
                <a:lnTo>
                  <a:pt x="3811415" y="49427"/>
                </a:lnTo>
                <a:lnTo>
                  <a:pt x="3805923" y="54919"/>
                </a:lnTo>
                <a:lnTo>
                  <a:pt x="3805923" y="63157"/>
                </a:lnTo>
                <a:lnTo>
                  <a:pt x="3811415" y="63157"/>
                </a:lnTo>
                <a:lnTo>
                  <a:pt x="3808669" y="65903"/>
                </a:lnTo>
                <a:lnTo>
                  <a:pt x="3808669" y="68649"/>
                </a:lnTo>
                <a:lnTo>
                  <a:pt x="3794940" y="68649"/>
                </a:lnTo>
                <a:lnTo>
                  <a:pt x="3792194" y="68649"/>
                </a:lnTo>
                <a:lnTo>
                  <a:pt x="3789448" y="71395"/>
                </a:lnTo>
                <a:lnTo>
                  <a:pt x="3767480" y="74141"/>
                </a:lnTo>
                <a:lnTo>
                  <a:pt x="3764734" y="65903"/>
                </a:lnTo>
                <a:lnTo>
                  <a:pt x="3753750" y="68649"/>
                </a:lnTo>
                <a:lnTo>
                  <a:pt x="3756496" y="74141"/>
                </a:lnTo>
                <a:lnTo>
                  <a:pt x="3753750" y="74141"/>
                </a:lnTo>
                <a:lnTo>
                  <a:pt x="3712560" y="79633"/>
                </a:lnTo>
                <a:lnTo>
                  <a:pt x="3734528" y="49427"/>
                </a:lnTo>
                <a:lnTo>
                  <a:pt x="3805923" y="43936"/>
                </a:lnTo>
                <a:close/>
                <a:moveTo>
                  <a:pt x="3907525" y="32952"/>
                </a:moveTo>
                <a:lnTo>
                  <a:pt x="3915763" y="32952"/>
                </a:lnTo>
                <a:lnTo>
                  <a:pt x="3907525" y="43936"/>
                </a:lnTo>
                <a:lnTo>
                  <a:pt x="3907525" y="49427"/>
                </a:lnTo>
                <a:lnTo>
                  <a:pt x="3910271" y="54919"/>
                </a:lnTo>
                <a:lnTo>
                  <a:pt x="3904779" y="54919"/>
                </a:lnTo>
                <a:lnTo>
                  <a:pt x="3899287" y="43936"/>
                </a:lnTo>
                <a:lnTo>
                  <a:pt x="3899287" y="38444"/>
                </a:lnTo>
                <a:lnTo>
                  <a:pt x="3888303" y="35698"/>
                </a:lnTo>
                <a:lnTo>
                  <a:pt x="3899287" y="35698"/>
                </a:lnTo>
                <a:lnTo>
                  <a:pt x="3907525" y="32952"/>
                </a:lnTo>
                <a:close/>
                <a:moveTo>
                  <a:pt x="4076085" y="31896"/>
                </a:moveTo>
                <a:lnTo>
                  <a:pt x="4075029" y="32952"/>
                </a:lnTo>
                <a:lnTo>
                  <a:pt x="4074222" y="32144"/>
                </a:lnTo>
                <a:lnTo>
                  <a:pt x="4076085" y="31896"/>
                </a:lnTo>
                <a:close/>
                <a:moveTo>
                  <a:pt x="3945968" y="30206"/>
                </a:moveTo>
                <a:lnTo>
                  <a:pt x="3948714" y="32952"/>
                </a:lnTo>
                <a:lnTo>
                  <a:pt x="3954206" y="32952"/>
                </a:lnTo>
                <a:lnTo>
                  <a:pt x="3956952" y="30206"/>
                </a:lnTo>
                <a:lnTo>
                  <a:pt x="3967936" y="30206"/>
                </a:lnTo>
                <a:lnTo>
                  <a:pt x="3962444" y="38444"/>
                </a:lnTo>
                <a:lnTo>
                  <a:pt x="3956952" y="46681"/>
                </a:lnTo>
                <a:lnTo>
                  <a:pt x="3954206" y="46681"/>
                </a:lnTo>
                <a:lnTo>
                  <a:pt x="3951460" y="46681"/>
                </a:lnTo>
                <a:lnTo>
                  <a:pt x="3948714" y="49427"/>
                </a:lnTo>
                <a:lnTo>
                  <a:pt x="3924000" y="52173"/>
                </a:lnTo>
                <a:lnTo>
                  <a:pt x="3924000" y="41190"/>
                </a:lnTo>
                <a:lnTo>
                  <a:pt x="3924000" y="38444"/>
                </a:lnTo>
                <a:lnTo>
                  <a:pt x="3918509" y="32952"/>
                </a:lnTo>
                <a:lnTo>
                  <a:pt x="3945968" y="30206"/>
                </a:lnTo>
                <a:close/>
                <a:moveTo>
                  <a:pt x="4146425" y="13730"/>
                </a:moveTo>
                <a:lnTo>
                  <a:pt x="4149171" y="21968"/>
                </a:lnTo>
                <a:lnTo>
                  <a:pt x="4094251" y="30206"/>
                </a:lnTo>
                <a:lnTo>
                  <a:pt x="4094251" y="27460"/>
                </a:lnTo>
                <a:lnTo>
                  <a:pt x="4088759" y="27460"/>
                </a:lnTo>
                <a:lnTo>
                  <a:pt x="4088759" y="30206"/>
                </a:lnTo>
                <a:lnTo>
                  <a:pt x="4076085" y="31896"/>
                </a:lnTo>
                <a:lnTo>
                  <a:pt x="4077775" y="30206"/>
                </a:lnTo>
                <a:lnTo>
                  <a:pt x="4075029" y="30206"/>
                </a:lnTo>
                <a:lnTo>
                  <a:pt x="4077775" y="27460"/>
                </a:lnTo>
                <a:lnTo>
                  <a:pt x="4075029" y="27460"/>
                </a:lnTo>
                <a:lnTo>
                  <a:pt x="4075029" y="24714"/>
                </a:lnTo>
                <a:lnTo>
                  <a:pt x="4072283" y="24714"/>
                </a:lnTo>
                <a:lnTo>
                  <a:pt x="4072283" y="27460"/>
                </a:lnTo>
                <a:lnTo>
                  <a:pt x="4069537" y="27460"/>
                </a:lnTo>
                <a:lnTo>
                  <a:pt x="4072283" y="30206"/>
                </a:lnTo>
                <a:lnTo>
                  <a:pt x="4074222" y="32144"/>
                </a:lnTo>
                <a:lnTo>
                  <a:pt x="4006380" y="41190"/>
                </a:lnTo>
                <a:lnTo>
                  <a:pt x="4003634" y="38444"/>
                </a:lnTo>
                <a:lnTo>
                  <a:pt x="4003634" y="41190"/>
                </a:lnTo>
                <a:lnTo>
                  <a:pt x="3989904" y="43936"/>
                </a:lnTo>
                <a:lnTo>
                  <a:pt x="3981666" y="38444"/>
                </a:lnTo>
                <a:lnTo>
                  <a:pt x="3976174" y="35698"/>
                </a:lnTo>
                <a:lnTo>
                  <a:pt x="3970682" y="35698"/>
                </a:lnTo>
                <a:lnTo>
                  <a:pt x="3970682" y="30206"/>
                </a:lnTo>
                <a:lnTo>
                  <a:pt x="4146425" y="13730"/>
                </a:lnTo>
                <a:close/>
                <a:moveTo>
                  <a:pt x="4228804" y="8369"/>
                </a:moveTo>
                <a:lnTo>
                  <a:pt x="4228804" y="10984"/>
                </a:lnTo>
                <a:lnTo>
                  <a:pt x="4231550" y="13730"/>
                </a:lnTo>
                <a:lnTo>
                  <a:pt x="4223312" y="13730"/>
                </a:lnTo>
                <a:lnTo>
                  <a:pt x="4217820" y="13730"/>
                </a:lnTo>
                <a:lnTo>
                  <a:pt x="4176630" y="19222"/>
                </a:lnTo>
                <a:lnTo>
                  <a:pt x="4173884" y="10984"/>
                </a:lnTo>
                <a:lnTo>
                  <a:pt x="4228804" y="8369"/>
                </a:lnTo>
                <a:close/>
                <a:moveTo>
                  <a:pt x="4228804" y="8238"/>
                </a:moveTo>
                <a:lnTo>
                  <a:pt x="4231550" y="8238"/>
                </a:lnTo>
                <a:lnTo>
                  <a:pt x="4228804" y="8369"/>
                </a:lnTo>
                <a:lnTo>
                  <a:pt x="4228804" y="8238"/>
                </a:lnTo>
                <a:close/>
                <a:moveTo>
                  <a:pt x="4278232" y="2746"/>
                </a:moveTo>
                <a:lnTo>
                  <a:pt x="4280978" y="2746"/>
                </a:lnTo>
                <a:lnTo>
                  <a:pt x="4280978" y="5492"/>
                </a:lnTo>
                <a:lnTo>
                  <a:pt x="4278232" y="5492"/>
                </a:lnTo>
                <a:lnTo>
                  <a:pt x="4278232" y="2746"/>
                </a:lnTo>
                <a:close/>
                <a:moveTo>
                  <a:pt x="4272740" y="2746"/>
                </a:moveTo>
                <a:lnTo>
                  <a:pt x="4267248" y="5492"/>
                </a:lnTo>
                <a:lnTo>
                  <a:pt x="4261756" y="8238"/>
                </a:lnTo>
                <a:lnTo>
                  <a:pt x="4264502" y="8238"/>
                </a:lnTo>
                <a:lnTo>
                  <a:pt x="4237042" y="10984"/>
                </a:lnTo>
                <a:lnTo>
                  <a:pt x="4237042" y="8238"/>
                </a:lnTo>
                <a:lnTo>
                  <a:pt x="4234296" y="8238"/>
                </a:lnTo>
                <a:lnTo>
                  <a:pt x="4253518" y="5492"/>
                </a:lnTo>
                <a:lnTo>
                  <a:pt x="4256264" y="8238"/>
                </a:lnTo>
                <a:lnTo>
                  <a:pt x="4256264" y="5492"/>
                </a:lnTo>
                <a:lnTo>
                  <a:pt x="4272740" y="2746"/>
                </a:lnTo>
                <a:close/>
                <a:moveTo>
                  <a:pt x="4330405" y="0"/>
                </a:moveTo>
                <a:lnTo>
                  <a:pt x="4286470" y="5492"/>
                </a:lnTo>
                <a:lnTo>
                  <a:pt x="4286470" y="2746"/>
                </a:lnTo>
                <a:lnTo>
                  <a:pt x="4291962" y="2746"/>
                </a:lnTo>
                <a:lnTo>
                  <a:pt x="4300199" y="2746"/>
                </a:lnTo>
                <a:lnTo>
                  <a:pt x="4330405" y="0"/>
                </a:lnTo>
                <a:close/>
              </a:path>
            </a:pathLst>
          </a:cu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文本框 5"/>
          <p:cNvSpPr/>
          <p:nvPr/>
        </p:nvSpPr>
        <p:spPr>
          <a:xfrm rot="21263400">
            <a:off x="4386240" y="1099800"/>
            <a:ext cx="395136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ernard MT Condensed"/>
                <a:ea typeface="华文隶书"/>
              </a:rPr>
              <a:t>Chapter</a:t>
            </a:r>
            <a:r>
              <a:rPr b="0" lang="zh-CN" sz="5400" spc="-1" strike="noStrike">
                <a:solidFill>
                  <a:srgbClr val="000000"/>
                </a:solidFill>
                <a:latin typeface="Bernard MT Condensed"/>
                <a:ea typeface="华文隶书"/>
              </a:rPr>
              <a:t> </a:t>
            </a:r>
            <a:r>
              <a:rPr b="0" lang="en-US" sz="11500" spc="-1" strike="noStrike">
                <a:solidFill>
                  <a:srgbClr val="000000"/>
                </a:solidFill>
                <a:latin typeface="Bernard MT Condensed"/>
                <a:ea typeface="华文隶书"/>
              </a:rPr>
              <a:t>3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文本框 6"/>
          <p:cNvSpPr/>
          <p:nvPr/>
        </p:nvSpPr>
        <p:spPr>
          <a:xfrm rot="21226800">
            <a:off x="7843680" y="1069560"/>
            <a:ext cx="228456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您的内容请写在这里您的内容请写在这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wipe dir="l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5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5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23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5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5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5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5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699A9-F60A-44F6-9A6B-006509561A3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448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449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450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452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Group 63"/>
          <p:cNvGrpSpPr/>
          <p:nvPr/>
        </p:nvGrpSpPr>
        <p:grpSpPr>
          <a:xfrm>
            <a:off x="923760" y="1365120"/>
            <a:ext cx="9724680" cy="4314600"/>
            <a:chOff x="923760" y="1365120"/>
            <a:chExt cx="9724680" cy="4314600"/>
          </a:xfrm>
        </p:grpSpPr>
        <p:sp>
          <p:nvSpPr>
            <p:cNvPr id="455" name="未知"/>
            <p:cNvSpPr/>
            <p:nvPr/>
          </p:nvSpPr>
          <p:spPr>
            <a:xfrm>
              <a:off x="1152000" y="1365120"/>
              <a:ext cx="5645160" cy="2482920"/>
            </a:xfrm>
            <a:custGeom>
              <a:avLst/>
              <a:gdLst/>
              <a:ahLst/>
              <a:rect l="l" t="t" r="r" b="b"/>
              <a:pathLst>
                <a:path w="2842" h="1250">
                  <a:moveTo>
                    <a:pt x="208" y="275"/>
                  </a:moveTo>
                  <a:cubicBezTo>
                    <a:pt x="213" y="291"/>
                    <a:pt x="212" y="310"/>
                    <a:pt x="228" y="315"/>
                  </a:cubicBezTo>
                  <a:cubicBezTo>
                    <a:pt x="235" y="336"/>
                    <a:pt x="253" y="320"/>
                    <a:pt x="273" y="316"/>
                  </a:cubicBezTo>
                  <a:cubicBezTo>
                    <a:pt x="284" y="300"/>
                    <a:pt x="284" y="301"/>
                    <a:pt x="301" y="312"/>
                  </a:cubicBezTo>
                  <a:cubicBezTo>
                    <a:pt x="308" y="315"/>
                    <a:pt x="301" y="331"/>
                    <a:pt x="304" y="336"/>
                  </a:cubicBezTo>
                  <a:cubicBezTo>
                    <a:pt x="307" y="341"/>
                    <a:pt x="319" y="340"/>
                    <a:pt x="322" y="345"/>
                  </a:cubicBezTo>
                  <a:cubicBezTo>
                    <a:pt x="325" y="350"/>
                    <a:pt x="321" y="366"/>
                    <a:pt x="325" y="368"/>
                  </a:cubicBezTo>
                  <a:cubicBezTo>
                    <a:pt x="336" y="367"/>
                    <a:pt x="339" y="362"/>
                    <a:pt x="348" y="356"/>
                  </a:cubicBezTo>
                  <a:cubicBezTo>
                    <a:pt x="354" y="353"/>
                    <a:pt x="362" y="360"/>
                    <a:pt x="366" y="359"/>
                  </a:cubicBezTo>
                  <a:cubicBezTo>
                    <a:pt x="370" y="358"/>
                    <a:pt x="367" y="352"/>
                    <a:pt x="370" y="347"/>
                  </a:cubicBezTo>
                  <a:cubicBezTo>
                    <a:pt x="376" y="339"/>
                    <a:pt x="385" y="328"/>
                    <a:pt x="385" y="328"/>
                  </a:cubicBezTo>
                  <a:cubicBezTo>
                    <a:pt x="390" y="324"/>
                    <a:pt x="381" y="318"/>
                    <a:pt x="384" y="314"/>
                  </a:cubicBezTo>
                  <a:cubicBezTo>
                    <a:pt x="387" y="310"/>
                    <a:pt x="402" y="308"/>
                    <a:pt x="405" y="303"/>
                  </a:cubicBezTo>
                  <a:cubicBezTo>
                    <a:pt x="408" y="298"/>
                    <a:pt x="408" y="288"/>
                    <a:pt x="405" y="285"/>
                  </a:cubicBezTo>
                  <a:cubicBezTo>
                    <a:pt x="402" y="282"/>
                    <a:pt x="391" y="290"/>
                    <a:pt x="387" y="288"/>
                  </a:cubicBezTo>
                  <a:cubicBezTo>
                    <a:pt x="383" y="281"/>
                    <a:pt x="379" y="272"/>
                    <a:pt x="379" y="272"/>
                  </a:cubicBezTo>
                  <a:cubicBezTo>
                    <a:pt x="389" y="257"/>
                    <a:pt x="388" y="260"/>
                    <a:pt x="401" y="248"/>
                  </a:cubicBezTo>
                  <a:cubicBezTo>
                    <a:pt x="434" y="219"/>
                    <a:pt x="412" y="227"/>
                    <a:pt x="441" y="220"/>
                  </a:cubicBezTo>
                  <a:cubicBezTo>
                    <a:pt x="468" y="193"/>
                    <a:pt x="441" y="194"/>
                    <a:pt x="497" y="200"/>
                  </a:cubicBezTo>
                  <a:cubicBezTo>
                    <a:pt x="492" y="208"/>
                    <a:pt x="486" y="216"/>
                    <a:pt x="481" y="224"/>
                  </a:cubicBezTo>
                  <a:cubicBezTo>
                    <a:pt x="476" y="232"/>
                    <a:pt x="450" y="242"/>
                    <a:pt x="450" y="242"/>
                  </a:cubicBezTo>
                  <a:cubicBezTo>
                    <a:pt x="441" y="268"/>
                    <a:pt x="434" y="282"/>
                    <a:pt x="473" y="292"/>
                  </a:cubicBezTo>
                  <a:cubicBezTo>
                    <a:pt x="506" y="287"/>
                    <a:pt x="532" y="284"/>
                    <a:pt x="565" y="288"/>
                  </a:cubicBezTo>
                  <a:cubicBezTo>
                    <a:pt x="556" y="322"/>
                    <a:pt x="520" y="304"/>
                    <a:pt x="483" y="306"/>
                  </a:cubicBezTo>
                  <a:cubicBezTo>
                    <a:pt x="468" y="312"/>
                    <a:pt x="487" y="320"/>
                    <a:pt x="487" y="327"/>
                  </a:cubicBezTo>
                  <a:cubicBezTo>
                    <a:pt x="487" y="334"/>
                    <a:pt x="487" y="347"/>
                    <a:pt x="484" y="348"/>
                  </a:cubicBezTo>
                  <a:cubicBezTo>
                    <a:pt x="481" y="349"/>
                    <a:pt x="476" y="338"/>
                    <a:pt x="471" y="333"/>
                  </a:cubicBezTo>
                  <a:cubicBezTo>
                    <a:pt x="466" y="328"/>
                    <a:pt x="460" y="316"/>
                    <a:pt x="456" y="315"/>
                  </a:cubicBezTo>
                  <a:cubicBezTo>
                    <a:pt x="452" y="314"/>
                    <a:pt x="451" y="324"/>
                    <a:pt x="448" y="329"/>
                  </a:cubicBezTo>
                  <a:cubicBezTo>
                    <a:pt x="442" y="336"/>
                    <a:pt x="437" y="338"/>
                    <a:pt x="436" y="345"/>
                  </a:cubicBezTo>
                  <a:cubicBezTo>
                    <a:pt x="435" y="352"/>
                    <a:pt x="445" y="365"/>
                    <a:pt x="442" y="371"/>
                  </a:cubicBezTo>
                  <a:cubicBezTo>
                    <a:pt x="439" y="377"/>
                    <a:pt x="422" y="383"/>
                    <a:pt x="415" y="384"/>
                  </a:cubicBezTo>
                  <a:cubicBezTo>
                    <a:pt x="408" y="385"/>
                    <a:pt x="406" y="381"/>
                    <a:pt x="401" y="380"/>
                  </a:cubicBezTo>
                  <a:cubicBezTo>
                    <a:pt x="389" y="388"/>
                    <a:pt x="397" y="376"/>
                    <a:pt x="384" y="377"/>
                  </a:cubicBezTo>
                  <a:cubicBezTo>
                    <a:pt x="376" y="378"/>
                    <a:pt x="365" y="388"/>
                    <a:pt x="355" y="389"/>
                  </a:cubicBezTo>
                  <a:cubicBezTo>
                    <a:pt x="345" y="390"/>
                    <a:pt x="334" y="384"/>
                    <a:pt x="324" y="384"/>
                  </a:cubicBezTo>
                  <a:cubicBezTo>
                    <a:pt x="312" y="383"/>
                    <a:pt x="303" y="394"/>
                    <a:pt x="292" y="390"/>
                  </a:cubicBezTo>
                  <a:cubicBezTo>
                    <a:pt x="286" y="382"/>
                    <a:pt x="281" y="378"/>
                    <a:pt x="280" y="368"/>
                  </a:cubicBezTo>
                  <a:cubicBezTo>
                    <a:pt x="279" y="358"/>
                    <a:pt x="293" y="333"/>
                    <a:pt x="288" y="330"/>
                  </a:cubicBezTo>
                  <a:cubicBezTo>
                    <a:pt x="283" y="327"/>
                    <a:pt x="254" y="338"/>
                    <a:pt x="250" y="348"/>
                  </a:cubicBezTo>
                  <a:cubicBezTo>
                    <a:pt x="244" y="356"/>
                    <a:pt x="266" y="380"/>
                    <a:pt x="262" y="388"/>
                  </a:cubicBezTo>
                  <a:cubicBezTo>
                    <a:pt x="258" y="396"/>
                    <a:pt x="236" y="392"/>
                    <a:pt x="224" y="398"/>
                  </a:cubicBezTo>
                  <a:cubicBezTo>
                    <a:pt x="196" y="416"/>
                    <a:pt x="214" y="417"/>
                    <a:pt x="193" y="424"/>
                  </a:cubicBezTo>
                  <a:cubicBezTo>
                    <a:pt x="177" y="440"/>
                    <a:pt x="144" y="462"/>
                    <a:pt x="123" y="455"/>
                  </a:cubicBezTo>
                  <a:cubicBezTo>
                    <a:pt x="109" y="463"/>
                    <a:pt x="121" y="474"/>
                    <a:pt x="114" y="477"/>
                  </a:cubicBezTo>
                  <a:cubicBezTo>
                    <a:pt x="107" y="480"/>
                    <a:pt x="87" y="468"/>
                    <a:pt x="81" y="470"/>
                  </a:cubicBezTo>
                  <a:cubicBezTo>
                    <a:pt x="75" y="472"/>
                    <a:pt x="71" y="479"/>
                    <a:pt x="77" y="488"/>
                  </a:cubicBezTo>
                  <a:cubicBezTo>
                    <a:pt x="97" y="501"/>
                    <a:pt x="109" y="499"/>
                    <a:pt x="117" y="524"/>
                  </a:cubicBezTo>
                  <a:cubicBezTo>
                    <a:pt x="122" y="533"/>
                    <a:pt x="118" y="553"/>
                    <a:pt x="114" y="558"/>
                  </a:cubicBezTo>
                  <a:cubicBezTo>
                    <a:pt x="110" y="563"/>
                    <a:pt x="101" y="555"/>
                    <a:pt x="94" y="555"/>
                  </a:cubicBezTo>
                  <a:cubicBezTo>
                    <a:pt x="87" y="555"/>
                    <a:pt x="82" y="555"/>
                    <a:pt x="69" y="555"/>
                  </a:cubicBezTo>
                  <a:cubicBezTo>
                    <a:pt x="53" y="561"/>
                    <a:pt x="24" y="548"/>
                    <a:pt x="15" y="554"/>
                  </a:cubicBezTo>
                  <a:cubicBezTo>
                    <a:pt x="6" y="560"/>
                    <a:pt x="13" y="582"/>
                    <a:pt x="13" y="590"/>
                  </a:cubicBezTo>
                  <a:cubicBezTo>
                    <a:pt x="12" y="598"/>
                    <a:pt x="16" y="592"/>
                    <a:pt x="18" y="605"/>
                  </a:cubicBezTo>
                  <a:cubicBezTo>
                    <a:pt x="16" y="611"/>
                    <a:pt x="2" y="615"/>
                    <a:pt x="1" y="624"/>
                  </a:cubicBezTo>
                  <a:cubicBezTo>
                    <a:pt x="0" y="633"/>
                    <a:pt x="9" y="651"/>
                    <a:pt x="13" y="659"/>
                  </a:cubicBezTo>
                  <a:cubicBezTo>
                    <a:pt x="17" y="667"/>
                    <a:pt x="20" y="671"/>
                    <a:pt x="24" y="672"/>
                  </a:cubicBezTo>
                  <a:cubicBezTo>
                    <a:pt x="28" y="675"/>
                    <a:pt x="28" y="665"/>
                    <a:pt x="37" y="665"/>
                  </a:cubicBezTo>
                  <a:cubicBezTo>
                    <a:pt x="41" y="665"/>
                    <a:pt x="42" y="671"/>
                    <a:pt x="49" y="672"/>
                  </a:cubicBezTo>
                  <a:cubicBezTo>
                    <a:pt x="56" y="673"/>
                    <a:pt x="65" y="674"/>
                    <a:pt x="78" y="671"/>
                  </a:cubicBezTo>
                  <a:cubicBezTo>
                    <a:pt x="91" y="668"/>
                    <a:pt x="120" y="664"/>
                    <a:pt x="130" y="656"/>
                  </a:cubicBezTo>
                  <a:cubicBezTo>
                    <a:pt x="142" y="641"/>
                    <a:pt x="137" y="633"/>
                    <a:pt x="139" y="624"/>
                  </a:cubicBezTo>
                  <a:cubicBezTo>
                    <a:pt x="141" y="615"/>
                    <a:pt x="141" y="607"/>
                    <a:pt x="144" y="603"/>
                  </a:cubicBezTo>
                  <a:cubicBezTo>
                    <a:pt x="147" y="599"/>
                    <a:pt x="153" y="605"/>
                    <a:pt x="160" y="602"/>
                  </a:cubicBezTo>
                  <a:cubicBezTo>
                    <a:pt x="167" y="599"/>
                    <a:pt x="183" y="589"/>
                    <a:pt x="187" y="582"/>
                  </a:cubicBezTo>
                  <a:cubicBezTo>
                    <a:pt x="193" y="578"/>
                    <a:pt x="180" y="567"/>
                    <a:pt x="183" y="563"/>
                  </a:cubicBezTo>
                  <a:cubicBezTo>
                    <a:pt x="186" y="559"/>
                    <a:pt x="200" y="556"/>
                    <a:pt x="205" y="557"/>
                  </a:cubicBezTo>
                  <a:cubicBezTo>
                    <a:pt x="210" y="558"/>
                    <a:pt x="210" y="566"/>
                    <a:pt x="213" y="568"/>
                  </a:cubicBezTo>
                  <a:cubicBezTo>
                    <a:pt x="216" y="569"/>
                    <a:pt x="220" y="573"/>
                    <a:pt x="226" y="570"/>
                  </a:cubicBezTo>
                  <a:cubicBezTo>
                    <a:pt x="232" y="567"/>
                    <a:pt x="243" y="557"/>
                    <a:pt x="250" y="552"/>
                  </a:cubicBezTo>
                  <a:cubicBezTo>
                    <a:pt x="259" y="552"/>
                    <a:pt x="262" y="538"/>
                    <a:pt x="270" y="542"/>
                  </a:cubicBezTo>
                  <a:cubicBezTo>
                    <a:pt x="276" y="543"/>
                    <a:pt x="282" y="553"/>
                    <a:pt x="286" y="558"/>
                  </a:cubicBezTo>
                  <a:cubicBezTo>
                    <a:pt x="290" y="563"/>
                    <a:pt x="283" y="567"/>
                    <a:pt x="295" y="575"/>
                  </a:cubicBezTo>
                  <a:cubicBezTo>
                    <a:pt x="315" y="596"/>
                    <a:pt x="324" y="597"/>
                    <a:pt x="357" y="604"/>
                  </a:cubicBezTo>
                  <a:cubicBezTo>
                    <a:pt x="371" y="625"/>
                    <a:pt x="379" y="633"/>
                    <a:pt x="354" y="639"/>
                  </a:cubicBezTo>
                  <a:cubicBezTo>
                    <a:pt x="351" y="646"/>
                    <a:pt x="332" y="636"/>
                    <a:pt x="327" y="639"/>
                  </a:cubicBezTo>
                  <a:cubicBezTo>
                    <a:pt x="322" y="642"/>
                    <a:pt x="321" y="654"/>
                    <a:pt x="325" y="659"/>
                  </a:cubicBezTo>
                  <a:cubicBezTo>
                    <a:pt x="329" y="664"/>
                    <a:pt x="347" y="672"/>
                    <a:pt x="354" y="671"/>
                  </a:cubicBezTo>
                  <a:cubicBezTo>
                    <a:pt x="361" y="670"/>
                    <a:pt x="364" y="662"/>
                    <a:pt x="369" y="656"/>
                  </a:cubicBezTo>
                  <a:cubicBezTo>
                    <a:pt x="376" y="649"/>
                    <a:pt x="380" y="640"/>
                    <a:pt x="385" y="632"/>
                  </a:cubicBezTo>
                  <a:cubicBezTo>
                    <a:pt x="389" y="626"/>
                    <a:pt x="384" y="623"/>
                    <a:pt x="387" y="620"/>
                  </a:cubicBezTo>
                  <a:cubicBezTo>
                    <a:pt x="390" y="617"/>
                    <a:pt x="411" y="620"/>
                    <a:pt x="405" y="614"/>
                  </a:cubicBezTo>
                  <a:cubicBezTo>
                    <a:pt x="398" y="592"/>
                    <a:pt x="371" y="596"/>
                    <a:pt x="353" y="584"/>
                  </a:cubicBezTo>
                  <a:cubicBezTo>
                    <a:pt x="350" y="580"/>
                    <a:pt x="348" y="575"/>
                    <a:pt x="345" y="572"/>
                  </a:cubicBezTo>
                  <a:cubicBezTo>
                    <a:pt x="342" y="569"/>
                    <a:pt x="336" y="568"/>
                    <a:pt x="333" y="564"/>
                  </a:cubicBezTo>
                  <a:cubicBezTo>
                    <a:pt x="327" y="557"/>
                    <a:pt x="317" y="540"/>
                    <a:pt x="317" y="540"/>
                  </a:cubicBezTo>
                  <a:cubicBezTo>
                    <a:pt x="318" y="535"/>
                    <a:pt x="328" y="524"/>
                    <a:pt x="334" y="524"/>
                  </a:cubicBezTo>
                  <a:cubicBezTo>
                    <a:pt x="340" y="524"/>
                    <a:pt x="349" y="535"/>
                    <a:pt x="353" y="540"/>
                  </a:cubicBezTo>
                  <a:cubicBezTo>
                    <a:pt x="357" y="542"/>
                    <a:pt x="354" y="549"/>
                    <a:pt x="357" y="552"/>
                  </a:cubicBezTo>
                  <a:cubicBezTo>
                    <a:pt x="363" y="555"/>
                    <a:pt x="383" y="571"/>
                    <a:pt x="390" y="572"/>
                  </a:cubicBezTo>
                  <a:cubicBezTo>
                    <a:pt x="397" y="573"/>
                    <a:pt x="398" y="558"/>
                    <a:pt x="401" y="560"/>
                  </a:cubicBezTo>
                  <a:cubicBezTo>
                    <a:pt x="404" y="568"/>
                    <a:pt x="401" y="581"/>
                    <a:pt x="409" y="584"/>
                  </a:cubicBezTo>
                  <a:cubicBezTo>
                    <a:pt x="417" y="587"/>
                    <a:pt x="433" y="592"/>
                    <a:pt x="433" y="592"/>
                  </a:cubicBezTo>
                  <a:cubicBezTo>
                    <a:pt x="437" y="597"/>
                    <a:pt x="416" y="601"/>
                    <a:pt x="415" y="608"/>
                  </a:cubicBezTo>
                  <a:cubicBezTo>
                    <a:pt x="414" y="615"/>
                    <a:pt x="423" y="628"/>
                    <a:pt x="429" y="636"/>
                  </a:cubicBezTo>
                  <a:cubicBezTo>
                    <a:pt x="433" y="644"/>
                    <a:pt x="450" y="649"/>
                    <a:pt x="453" y="654"/>
                  </a:cubicBezTo>
                  <a:cubicBezTo>
                    <a:pt x="456" y="659"/>
                    <a:pt x="447" y="667"/>
                    <a:pt x="450" y="669"/>
                  </a:cubicBezTo>
                  <a:cubicBezTo>
                    <a:pt x="453" y="671"/>
                    <a:pt x="471" y="671"/>
                    <a:pt x="474" y="669"/>
                  </a:cubicBezTo>
                  <a:cubicBezTo>
                    <a:pt x="479" y="667"/>
                    <a:pt x="466" y="660"/>
                    <a:pt x="466" y="656"/>
                  </a:cubicBezTo>
                  <a:cubicBezTo>
                    <a:pt x="468" y="652"/>
                    <a:pt x="484" y="647"/>
                    <a:pt x="484" y="642"/>
                  </a:cubicBezTo>
                  <a:cubicBezTo>
                    <a:pt x="484" y="637"/>
                    <a:pt x="471" y="631"/>
                    <a:pt x="469" y="626"/>
                  </a:cubicBezTo>
                  <a:cubicBezTo>
                    <a:pt x="467" y="621"/>
                    <a:pt x="466" y="618"/>
                    <a:pt x="472" y="614"/>
                  </a:cubicBezTo>
                  <a:cubicBezTo>
                    <a:pt x="478" y="610"/>
                    <a:pt x="497" y="603"/>
                    <a:pt x="504" y="603"/>
                  </a:cubicBezTo>
                  <a:cubicBezTo>
                    <a:pt x="510" y="603"/>
                    <a:pt x="512" y="610"/>
                    <a:pt x="513" y="614"/>
                  </a:cubicBezTo>
                  <a:cubicBezTo>
                    <a:pt x="514" y="618"/>
                    <a:pt x="507" y="625"/>
                    <a:pt x="510" y="629"/>
                  </a:cubicBezTo>
                  <a:cubicBezTo>
                    <a:pt x="513" y="633"/>
                    <a:pt x="528" y="635"/>
                    <a:pt x="529" y="638"/>
                  </a:cubicBezTo>
                  <a:cubicBezTo>
                    <a:pt x="532" y="642"/>
                    <a:pt x="517" y="645"/>
                    <a:pt x="517" y="650"/>
                  </a:cubicBezTo>
                  <a:cubicBezTo>
                    <a:pt x="518" y="655"/>
                    <a:pt x="525" y="661"/>
                    <a:pt x="532" y="666"/>
                  </a:cubicBezTo>
                  <a:cubicBezTo>
                    <a:pt x="542" y="669"/>
                    <a:pt x="547" y="679"/>
                    <a:pt x="558" y="680"/>
                  </a:cubicBezTo>
                  <a:cubicBezTo>
                    <a:pt x="567" y="683"/>
                    <a:pt x="567" y="668"/>
                    <a:pt x="582" y="666"/>
                  </a:cubicBezTo>
                  <a:cubicBezTo>
                    <a:pt x="589" y="666"/>
                    <a:pt x="597" y="674"/>
                    <a:pt x="600" y="678"/>
                  </a:cubicBezTo>
                  <a:cubicBezTo>
                    <a:pt x="603" y="682"/>
                    <a:pt x="602" y="683"/>
                    <a:pt x="601" y="687"/>
                  </a:cubicBezTo>
                  <a:cubicBezTo>
                    <a:pt x="600" y="691"/>
                    <a:pt x="590" y="698"/>
                    <a:pt x="592" y="701"/>
                  </a:cubicBezTo>
                  <a:cubicBezTo>
                    <a:pt x="594" y="704"/>
                    <a:pt x="608" y="708"/>
                    <a:pt x="613" y="707"/>
                  </a:cubicBezTo>
                  <a:cubicBezTo>
                    <a:pt x="618" y="706"/>
                    <a:pt x="621" y="699"/>
                    <a:pt x="621" y="695"/>
                  </a:cubicBezTo>
                  <a:cubicBezTo>
                    <a:pt x="621" y="691"/>
                    <a:pt x="612" y="688"/>
                    <a:pt x="613" y="684"/>
                  </a:cubicBezTo>
                  <a:cubicBezTo>
                    <a:pt x="614" y="680"/>
                    <a:pt x="622" y="674"/>
                    <a:pt x="628" y="672"/>
                  </a:cubicBezTo>
                  <a:cubicBezTo>
                    <a:pt x="634" y="670"/>
                    <a:pt x="647" y="664"/>
                    <a:pt x="648" y="674"/>
                  </a:cubicBezTo>
                  <a:cubicBezTo>
                    <a:pt x="647" y="695"/>
                    <a:pt x="651" y="705"/>
                    <a:pt x="637" y="731"/>
                  </a:cubicBezTo>
                  <a:cubicBezTo>
                    <a:pt x="634" y="745"/>
                    <a:pt x="630" y="747"/>
                    <a:pt x="622" y="759"/>
                  </a:cubicBezTo>
                  <a:cubicBezTo>
                    <a:pt x="619" y="763"/>
                    <a:pt x="613" y="780"/>
                    <a:pt x="613" y="780"/>
                  </a:cubicBezTo>
                  <a:cubicBezTo>
                    <a:pt x="615" y="789"/>
                    <a:pt x="623" y="812"/>
                    <a:pt x="628" y="813"/>
                  </a:cubicBezTo>
                  <a:cubicBezTo>
                    <a:pt x="633" y="814"/>
                    <a:pt x="638" y="786"/>
                    <a:pt x="642" y="789"/>
                  </a:cubicBezTo>
                  <a:cubicBezTo>
                    <a:pt x="646" y="792"/>
                    <a:pt x="649" y="823"/>
                    <a:pt x="651" y="833"/>
                  </a:cubicBezTo>
                  <a:cubicBezTo>
                    <a:pt x="653" y="843"/>
                    <a:pt x="650" y="845"/>
                    <a:pt x="653" y="848"/>
                  </a:cubicBezTo>
                  <a:cubicBezTo>
                    <a:pt x="655" y="855"/>
                    <a:pt x="660" y="847"/>
                    <a:pt x="667" y="851"/>
                  </a:cubicBezTo>
                  <a:cubicBezTo>
                    <a:pt x="674" y="855"/>
                    <a:pt x="668" y="873"/>
                    <a:pt x="676" y="876"/>
                  </a:cubicBezTo>
                  <a:cubicBezTo>
                    <a:pt x="680" y="877"/>
                    <a:pt x="696" y="890"/>
                    <a:pt x="696" y="890"/>
                  </a:cubicBezTo>
                  <a:cubicBezTo>
                    <a:pt x="702" y="898"/>
                    <a:pt x="684" y="904"/>
                    <a:pt x="691" y="917"/>
                  </a:cubicBezTo>
                  <a:cubicBezTo>
                    <a:pt x="696" y="929"/>
                    <a:pt x="721" y="950"/>
                    <a:pt x="727" y="960"/>
                  </a:cubicBezTo>
                  <a:cubicBezTo>
                    <a:pt x="735" y="970"/>
                    <a:pt x="721" y="969"/>
                    <a:pt x="727" y="978"/>
                  </a:cubicBezTo>
                  <a:cubicBezTo>
                    <a:pt x="731" y="981"/>
                    <a:pt x="746" y="977"/>
                    <a:pt x="751" y="981"/>
                  </a:cubicBezTo>
                  <a:cubicBezTo>
                    <a:pt x="756" y="985"/>
                    <a:pt x="757" y="993"/>
                    <a:pt x="759" y="1005"/>
                  </a:cubicBezTo>
                  <a:cubicBezTo>
                    <a:pt x="739" y="1019"/>
                    <a:pt x="755" y="1045"/>
                    <a:pt x="765" y="1056"/>
                  </a:cubicBezTo>
                  <a:cubicBezTo>
                    <a:pt x="771" y="1064"/>
                    <a:pt x="787" y="1046"/>
                    <a:pt x="796" y="1044"/>
                  </a:cubicBezTo>
                  <a:cubicBezTo>
                    <a:pt x="805" y="1042"/>
                    <a:pt x="811" y="1047"/>
                    <a:pt x="821" y="1044"/>
                  </a:cubicBezTo>
                  <a:cubicBezTo>
                    <a:pt x="840" y="1031"/>
                    <a:pt x="828" y="1038"/>
                    <a:pt x="857" y="1028"/>
                  </a:cubicBezTo>
                  <a:cubicBezTo>
                    <a:pt x="907" y="1011"/>
                    <a:pt x="862" y="1017"/>
                    <a:pt x="893" y="1000"/>
                  </a:cubicBezTo>
                  <a:cubicBezTo>
                    <a:pt x="902" y="993"/>
                    <a:pt x="901" y="1001"/>
                    <a:pt x="913" y="993"/>
                  </a:cubicBezTo>
                  <a:cubicBezTo>
                    <a:pt x="919" y="988"/>
                    <a:pt x="922" y="979"/>
                    <a:pt x="930" y="972"/>
                  </a:cubicBezTo>
                  <a:cubicBezTo>
                    <a:pt x="938" y="965"/>
                    <a:pt x="958" y="960"/>
                    <a:pt x="964" y="953"/>
                  </a:cubicBezTo>
                  <a:cubicBezTo>
                    <a:pt x="970" y="946"/>
                    <a:pt x="962" y="940"/>
                    <a:pt x="967" y="932"/>
                  </a:cubicBezTo>
                  <a:cubicBezTo>
                    <a:pt x="979" y="919"/>
                    <a:pt x="996" y="910"/>
                    <a:pt x="993" y="903"/>
                  </a:cubicBezTo>
                  <a:cubicBezTo>
                    <a:pt x="993" y="894"/>
                    <a:pt x="975" y="884"/>
                    <a:pt x="967" y="879"/>
                  </a:cubicBezTo>
                  <a:cubicBezTo>
                    <a:pt x="960" y="872"/>
                    <a:pt x="952" y="877"/>
                    <a:pt x="946" y="872"/>
                  </a:cubicBezTo>
                  <a:cubicBezTo>
                    <a:pt x="940" y="867"/>
                    <a:pt x="938" y="849"/>
                    <a:pt x="933" y="848"/>
                  </a:cubicBezTo>
                  <a:cubicBezTo>
                    <a:pt x="928" y="847"/>
                    <a:pt x="926" y="861"/>
                    <a:pt x="917" y="864"/>
                  </a:cubicBezTo>
                  <a:cubicBezTo>
                    <a:pt x="907" y="867"/>
                    <a:pt x="887" y="869"/>
                    <a:pt x="876" y="864"/>
                  </a:cubicBezTo>
                  <a:cubicBezTo>
                    <a:pt x="870" y="862"/>
                    <a:pt x="884" y="855"/>
                    <a:pt x="883" y="851"/>
                  </a:cubicBezTo>
                  <a:cubicBezTo>
                    <a:pt x="882" y="847"/>
                    <a:pt x="874" y="840"/>
                    <a:pt x="870" y="840"/>
                  </a:cubicBezTo>
                  <a:cubicBezTo>
                    <a:pt x="866" y="840"/>
                    <a:pt x="864" y="852"/>
                    <a:pt x="861" y="851"/>
                  </a:cubicBezTo>
                  <a:cubicBezTo>
                    <a:pt x="858" y="850"/>
                    <a:pt x="854" y="842"/>
                    <a:pt x="849" y="836"/>
                  </a:cubicBezTo>
                  <a:cubicBezTo>
                    <a:pt x="844" y="828"/>
                    <a:pt x="834" y="824"/>
                    <a:pt x="829" y="816"/>
                  </a:cubicBezTo>
                  <a:cubicBezTo>
                    <a:pt x="825" y="809"/>
                    <a:pt x="821" y="792"/>
                    <a:pt x="821" y="792"/>
                  </a:cubicBezTo>
                  <a:cubicBezTo>
                    <a:pt x="832" y="776"/>
                    <a:pt x="836" y="773"/>
                    <a:pt x="853" y="784"/>
                  </a:cubicBezTo>
                  <a:cubicBezTo>
                    <a:pt x="862" y="798"/>
                    <a:pt x="867" y="811"/>
                    <a:pt x="883" y="816"/>
                  </a:cubicBezTo>
                  <a:cubicBezTo>
                    <a:pt x="891" y="819"/>
                    <a:pt x="907" y="836"/>
                    <a:pt x="919" y="837"/>
                  </a:cubicBezTo>
                  <a:cubicBezTo>
                    <a:pt x="928" y="838"/>
                    <a:pt x="931" y="823"/>
                    <a:pt x="937" y="821"/>
                  </a:cubicBezTo>
                  <a:cubicBezTo>
                    <a:pt x="943" y="819"/>
                    <a:pt x="950" y="820"/>
                    <a:pt x="953" y="824"/>
                  </a:cubicBezTo>
                  <a:cubicBezTo>
                    <a:pt x="960" y="827"/>
                    <a:pt x="949" y="846"/>
                    <a:pt x="957" y="848"/>
                  </a:cubicBezTo>
                  <a:cubicBezTo>
                    <a:pt x="966" y="853"/>
                    <a:pt x="995" y="859"/>
                    <a:pt x="1012" y="860"/>
                  </a:cubicBezTo>
                  <a:cubicBezTo>
                    <a:pt x="1029" y="861"/>
                    <a:pt x="1046" y="853"/>
                    <a:pt x="1057" y="852"/>
                  </a:cubicBezTo>
                  <a:cubicBezTo>
                    <a:pt x="1064" y="853"/>
                    <a:pt x="1071" y="853"/>
                    <a:pt x="1077" y="856"/>
                  </a:cubicBezTo>
                  <a:cubicBezTo>
                    <a:pt x="1082" y="859"/>
                    <a:pt x="1081" y="836"/>
                    <a:pt x="1086" y="843"/>
                  </a:cubicBezTo>
                  <a:cubicBezTo>
                    <a:pt x="1090" y="848"/>
                    <a:pt x="1092" y="873"/>
                    <a:pt x="1102" y="888"/>
                  </a:cubicBezTo>
                  <a:cubicBezTo>
                    <a:pt x="1113" y="904"/>
                    <a:pt x="1128" y="927"/>
                    <a:pt x="1146" y="932"/>
                  </a:cubicBezTo>
                  <a:cubicBezTo>
                    <a:pt x="1157" y="939"/>
                    <a:pt x="1163" y="913"/>
                    <a:pt x="1168" y="914"/>
                  </a:cubicBezTo>
                  <a:cubicBezTo>
                    <a:pt x="1173" y="915"/>
                    <a:pt x="1172" y="924"/>
                    <a:pt x="1174" y="939"/>
                  </a:cubicBezTo>
                  <a:cubicBezTo>
                    <a:pt x="1176" y="954"/>
                    <a:pt x="1175" y="983"/>
                    <a:pt x="1181" y="1004"/>
                  </a:cubicBezTo>
                  <a:cubicBezTo>
                    <a:pt x="1187" y="1023"/>
                    <a:pt x="1202" y="1053"/>
                    <a:pt x="1209" y="1067"/>
                  </a:cubicBezTo>
                  <a:cubicBezTo>
                    <a:pt x="1216" y="1083"/>
                    <a:pt x="1218" y="1092"/>
                    <a:pt x="1221" y="1100"/>
                  </a:cubicBezTo>
                  <a:cubicBezTo>
                    <a:pt x="1234" y="1140"/>
                    <a:pt x="1212" y="1068"/>
                    <a:pt x="1227" y="1118"/>
                  </a:cubicBezTo>
                  <a:cubicBezTo>
                    <a:pt x="1229" y="1126"/>
                    <a:pt x="1241" y="1140"/>
                    <a:pt x="1241" y="1140"/>
                  </a:cubicBezTo>
                  <a:cubicBezTo>
                    <a:pt x="1249" y="1132"/>
                    <a:pt x="1244" y="1124"/>
                    <a:pt x="1252" y="1116"/>
                  </a:cubicBezTo>
                  <a:cubicBezTo>
                    <a:pt x="1256" y="1115"/>
                    <a:pt x="1268" y="1094"/>
                    <a:pt x="1270" y="1097"/>
                  </a:cubicBezTo>
                  <a:cubicBezTo>
                    <a:pt x="1272" y="1100"/>
                    <a:pt x="1265" y="1124"/>
                    <a:pt x="1266" y="1136"/>
                  </a:cubicBezTo>
                  <a:cubicBezTo>
                    <a:pt x="1267" y="1148"/>
                    <a:pt x="1269" y="1166"/>
                    <a:pt x="1276" y="1170"/>
                  </a:cubicBezTo>
                  <a:cubicBezTo>
                    <a:pt x="1283" y="1174"/>
                    <a:pt x="1302" y="1170"/>
                    <a:pt x="1306" y="1161"/>
                  </a:cubicBezTo>
                  <a:cubicBezTo>
                    <a:pt x="1308" y="1151"/>
                    <a:pt x="1304" y="1126"/>
                    <a:pt x="1299" y="1113"/>
                  </a:cubicBezTo>
                  <a:cubicBezTo>
                    <a:pt x="1295" y="1104"/>
                    <a:pt x="1286" y="1108"/>
                    <a:pt x="1282" y="1103"/>
                  </a:cubicBezTo>
                  <a:cubicBezTo>
                    <a:pt x="1278" y="1098"/>
                    <a:pt x="1277" y="1088"/>
                    <a:pt x="1277" y="1080"/>
                  </a:cubicBezTo>
                  <a:cubicBezTo>
                    <a:pt x="1272" y="1063"/>
                    <a:pt x="1284" y="1063"/>
                    <a:pt x="1285" y="1056"/>
                  </a:cubicBezTo>
                  <a:cubicBezTo>
                    <a:pt x="1285" y="1046"/>
                    <a:pt x="1275" y="1028"/>
                    <a:pt x="1279" y="1019"/>
                  </a:cubicBezTo>
                  <a:cubicBezTo>
                    <a:pt x="1281" y="1010"/>
                    <a:pt x="1304" y="1005"/>
                    <a:pt x="1309" y="999"/>
                  </a:cubicBezTo>
                  <a:cubicBezTo>
                    <a:pt x="1323" y="981"/>
                    <a:pt x="1319" y="984"/>
                    <a:pt x="1337" y="972"/>
                  </a:cubicBezTo>
                  <a:cubicBezTo>
                    <a:pt x="1356" y="944"/>
                    <a:pt x="1345" y="953"/>
                    <a:pt x="1365" y="940"/>
                  </a:cubicBezTo>
                  <a:cubicBezTo>
                    <a:pt x="1374" y="931"/>
                    <a:pt x="1376" y="922"/>
                    <a:pt x="1383" y="917"/>
                  </a:cubicBezTo>
                  <a:cubicBezTo>
                    <a:pt x="1391" y="913"/>
                    <a:pt x="1401" y="918"/>
                    <a:pt x="1411" y="917"/>
                  </a:cubicBezTo>
                  <a:cubicBezTo>
                    <a:pt x="1421" y="916"/>
                    <a:pt x="1436" y="904"/>
                    <a:pt x="1443" y="909"/>
                  </a:cubicBezTo>
                  <a:cubicBezTo>
                    <a:pt x="1449" y="914"/>
                    <a:pt x="1454" y="939"/>
                    <a:pt x="1455" y="947"/>
                  </a:cubicBezTo>
                  <a:cubicBezTo>
                    <a:pt x="1459" y="955"/>
                    <a:pt x="1460" y="955"/>
                    <a:pt x="1465" y="959"/>
                  </a:cubicBezTo>
                  <a:cubicBezTo>
                    <a:pt x="1469" y="971"/>
                    <a:pt x="1485" y="972"/>
                    <a:pt x="1485" y="972"/>
                  </a:cubicBezTo>
                  <a:cubicBezTo>
                    <a:pt x="1488" y="979"/>
                    <a:pt x="1470" y="998"/>
                    <a:pt x="1473" y="1007"/>
                  </a:cubicBezTo>
                  <a:cubicBezTo>
                    <a:pt x="1474" y="1015"/>
                    <a:pt x="1484" y="1022"/>
                    <a:pt x="1491" y="1020"/>
                  </a:cubicBezTo>
                  <a:cubicBezTo>
                    <a:pt x="1498" y="1020"/>
                    <a:pt x="1507" y="997"/>
                    <a:pt x="1515" y="996"/>
                  </a:cubicBezTo>
                  <a:cubicBezTo>
                    <a:pt x="1522" y="996"/>
                    <a:pt x="1527" y="1012"/>
                    <a:pt x="1531" y="1023"/>
                  </a:cubicBezTo>
                  <a:cubicBezTo>
                    <a:pt x="1533" y="1034"/>
                    <a:pt x="1538" y="1046"/>
                    <a:pt x="1539" y="1062"/>
                  </a:cubicBezTo>
                  <a:cubicBezTo>
                    <a:pt x="1539" y="1075"/>
                    <a:pt x="1532" y="1093"/>
                    <a:pt x="1531" y="1104"/>
                  </a:cubicBezTo>
                  <a:cubicBezTo>
                    <a:pt x="1530" y="1115"/>
                    <a:pt x="1530" y="1121"/>
                    <a:pt x="1534" y="1130"/>
                  </a:cubicBezTo>
                  <a:cubicBezTo>
                    <a:pt x="1537" y="1143"/>
                    <a:pt x="1557" y="1156"/>
                    <a:pt x="1557" y="1156"/>
                  </a:cubicBezTo>
                  <a:cubicBezTo>
                    <a:pt x="1563" y="1165"/>
                    <a:pt x="1564" y="1198"/>
                    <a:pt x="1573" y="1209"/>
                  </a:cubicBezTo>
                  <a:cubicBezTo>
                    <a:pt x="1584" y="1225"/>
                    <a:pt x="1615" y="1250"/>
                    <a:pt x="1621" y="1250"/>
                  </a:cubicBezTo>
                  <a:cubicBezTo>
                    <a:pt x="1627" y="1250"/>
                    <a:pt x="1617" y="1230"/>
                    <a:pt x="1608" y="1212"/>
                  </a:cubicBezTo>
                  <a:cubicBezTo>
                    <a:pt x="1614" y="1184"/>
                    <a:pt x="1588" y="1155"/>
                    <a:pt x="1565" y="1140"/>
                  </a:cubicBezTo>
                  <a:cubicBezTo>
                    <a:pt x="1550" y="1117"/>
                    <a:pt x="1548" y="1074"/>
                    <a:pt x="1575" y="1056"/>
                  </a:cubicBezTo>
                  <a:cubicBezTo>
                    <a:pt x="1582" y="1043"/>
                    <a:pt x="1593" y="1060"/>
                    <a:pt x="1602" y="1070"/>
                  </a:cubicBezTo>
                  <a:cubicBezTo>
                    <a:pt x="1606" y="1076"/>
                    <a:pt x="1598" y="1087"/>
                    <a:pt x="1602" y="1092"/>
                  </a:cubicBezTo>
                  <a:cubicBezTo>
                    <a:pt x="1606" y="1097"/>
                    <a:pt x="1620" y="1098"/>
                    <a:pt x="1624" y="1103"/>
                  </a:cubicBezTo>
                  <a:cubicBezTo>
                    <a:pt x="1628" y="1108"/>
                    <a:pt x="1620" y="1124"/>
                    <a:pt x="1626" y="1124"/>
                  </a:cubicBezTo>
                  <a:cubicBezTo>
                    <a:pt x="1649" y="1119"/>
                    <a:pt x="1652" y="1124"/>
                    <a:pt x="1659" y="1103"/>
                  </a:cubicBezTo>
                  <a:cubicBezTo>
                    <a:pt x="1665" y="1094"/>
                    <a:pt x="1682" y="1083"/>
                    <a:pt x="1687" y="1073"/>
                  </a:cubicBezTo>
                  <a:cubicBezTo>
                    <a:pt x="1692" y="1063"/>
                    <a:pt x="1692" y="1050"/>
                    <a:pt x="1692" y="1040"/>
                  </a:cubicBezTo>
                  <a:cubicBezTo>
                    <a:pt x="1692" y="1030"/>
                    <a:pt x="1691" y="1025"/>
                    <a:pt x="1684" y="1014"/>
                  </a:cubicBezTo>
                  <a:cubicBezTo>
                    <a:pt x="1677" y="1003"/>
                    <a:pt x="1656" y="982"/>
                    <a:pt x="1649" y="972"/>
                  </a:cubicBezTo>
                  <a:cubicBezTo>
                    <a:pt x="1644" y="962"/>
                    <a:pt x="1638" y="964"/>
                    <a:pt x="1642" y="954"/>
                  </a:cubicBezTo>
                  <a:cubicBezTo>
                    <a:pt x="1645" y="945"/>
                    <a:pt x="1658" y="927"/>
                    <a:pt x="1668" y="920"/>
                  </a:cubicBezTo>
                  <a:cubicBezTo>
                    <a:pt x="1668" y="910"/>
                    <a:pt x="1699" y="900"/>
                    <a:pt x="1701" y="909"/>
                  </a:cubicBezTo>
                  <a:cubicBezTo>
                    <a:pt x="1705" y="911"/>
                    <a:pt x="1710" y="921"/>
                    <a:pt x="1708" y="929"/>
                  </a:cubicBezTo>
                  <a:cubicBezTo>
                    <a:pt x="1708" y="936"/>
                    <a:pt x="1699" y="946"/>
                    <a:pt x="1698" y="951"/>
                  </a:cubicBezTo>
                  <a:cubicBezTo>
                    <a:pt x="1698" y="956"/>
                    <a:pt x="1699" y="959"/>
                    <a:pt x="1702" y="959"/>
                  </a:cubicBezTo>
                  <a:cubicBezTo>
                    <a:pt x="1705" y="959"/>
                    <a:pt x="1716" y="953"/>
                    <a:pt x="1716" y="950"/>
                  </a:cubicBezTo>
                  <a:cubicBezTo>
                    <a:pt x="1716" y="947"/>
                    <a:pt x="1705" y="948"/>
                    <a:pt x="1705" y="942"/>
                  </a:cubicBezTo>
                  <a:cubicBezTo>
                    <a:pt x="1705" y="936"/>
                    <a:pt x="1714" y="917"/>
                    <a:pt x="1719" y="911"/>
                  </a:cubicBezTo>
                  <a:cubicBezTo>
                    <a:pt x="1724" y="905"/>
                    <a:pt x="1732" y="909"/>
                    <a:pt x="1737" y="908"/>
                  </a:cubicBezTo>
                  <a:cubicBezTo>
                    <a:pt x="1741" y="907"/>
                    <a:pt x="1746" y="907"/>
                    <a:pt x="1750" y="906"/>
                  </a:cubicBezTo>
                  <a:cubicBezTo>
                    <a:pt x="1754" y="903"/>
                    <a:pt x="1758" y="893"/>
                    <a:pt x="1764" y="891"/>
                  </a:cubicBezTo>
                  <a:cubicBezTo>
                    <a:pt x="1770" y="889"/>
                    <a:pt x="1779" y="896"/>
                    <a:pt x="1788" y="893"/>
                  </a:cubicBezTo>
                  <a:cubicBezTo>
                    <a:pt x="1797" y="890"/>
                    <a:pt x="1811" y="879"/>
                    <a:pt x="1816" y="873"/>
                  </a:cubicBezTo>
                  <a:cubicBezTo>
                    <a:pt x="1822" y="868"/>
                    <a:pt x="1816" y="862"/>
                    <a:pt x="1818" y="859"/>
                  </a:cubicBezTo>
                  <a:cubicBezTo>
                    <a:pt x="1820" y="856"/>
                    <a:pt x="1827" y="860"/>
                    <a:pt x="1830" y="855"/>
                  </a:cubicBezTo>
                  <a:cubicBezTo>
                    <a:pt x="1833" y="850"/>
                    <a:pt x="1832" y="840"/>
                    <a:pt x="1837" y="830"/>
                  </a:cubicBezTo>
                  <a:cubicBezTo>
                    <a:pt x="1842" y="820"/>
                    <a:pt x="1859" y="803"/>
                    <a:pt x="1861" y="794"/>
                  </a:cubicBezTo>
                  <a:cubicBezTo>
                    <a:pt x="1866" y="784"/>
                    <a:pt x="1849" y="781"/>
                    <a:pt x="1849" y="776"/>
                  </a:cubicBezTo>
                  <a:cubicBezTo>
                    <a:pt x="1847" y="768"/>
                    <a:pt x="1845" y="751"/>
                    <a:pt x="1846" y="745"/>
                  </a:cubicBezTo>
                  <a:cubicBezTo>
                    <a:pt x="1847" y="739"/>
                    <a:pt x="1857" y="741"/>
                    <a:pt x="1858" y="741"/>
                  </a:cubicBezTo>
                  <a:cubicBezTo>
                    <a:pt x="1859" y="741"/>
                    <a:pt x="1853" y="748"/>
                    <a:pt x="1851" y="744"/>
                  </a:cubicBezTo>
                  <a:cubicBezTo>
                    <a:pt x="1849" y="740"/>
                    <a:pt x="1846" y="726"/>
                    <a:pt x="1843" y="719"/>
                  </a:cubicBezTo>
                  <a:cubicBezTo>
                    <a:pt x="1841" y="713"/>
                    <a:pt x="1832" y="706"/>
                    <a:pt x="1834" y="699"/>
                  </a:cubicBezTo>
                  <a:cubicBezTo>
                    <a:pt x="1835" y="692"/>
                    <a:pt x="1843" y="681"/>
                    <a:pt x="1851" y="675"/>
                  </a:cubicBezTo>
                  <a:cubicBezTo>
                    <a:pt x="1859" y="669"/>
                    <a:pt x="1881" y="664"/>
                    <a:pt x="1882" y="662"/>
                  </a:cubicBezTo>
                  <a:cubicBezTo>
                    <a:pt x="1882" y="658"/>
                    <a:pt x="1866" y="660"/>
                    <a:pt x="1858" y="660"/>
                  </a:cubicBezTo>
                  <a:cubicBezTo>
                    <a:pt x="1851" y="661"/>
                    <a:pt x="1845" y="666"/>
                    <a:pt x="1840" y="667"/>
                  </a:cubicBezTo>
                  <a:cubicBezTo>
                    <a:pt x="1835" y="668"/>
                    <a:pt x="1833" y="667"/>
                    <a:pt x="1828" y="663"/>
                  </a:cubicBezTo>
                  <a:cubicBezTo>
                    <a:pt x="1823" y="659"/>
                    <a:pt x="1811" y="650"/>
                    <a:pt x="1809" y="644"/>
                  </a:cubicBezTo>
                  <a:cubicBezTo>
                    <a:pt x="1810" y="640"/>
                    <a:pt x="1813" y="628"/>
                    <a:pt x="1816" y="626"/>
                  </a:cubicBezTo>
                  <a:cubicBezTo>
                    <a:pt x="1820" y="623"/>
                    <a:pt x="1828" y="628"/>
                    <a:pt x="1833" y="626"/>
                  </a:cubicBezTo>
                  <a:cubicBezTo>
                    <a:pt x="1838" y="624"/>
                    <a:pt x="1840" y="616"/>
                    <a:pt x="1846" y="612"/>
                  </a:cubicBezTo>
                  <a:cubicBezTo>
                    <a:pt x="1852" y="608"/>
                    <a:pt x="1862" y="602"/>
                    <a:pt x="1867" y="602"/>
                  </a:cubicBezTo>
                  <a:cubicBezTo>
                    <a:pt x="1870" y="602"/>
                    <a:pt x="1876" y="608"/>
                    <a:pt x="1875" y="612"/>
                  </a:cubicBezTo>
                  <a:cubicBezTo>
                    <a:pt x="1875" y="616"/>
                    <a:pt x="1866" y="625"/>
                    <a:pt x="1866" y="627"/>
                  </a:cubicBezTo>
                  <a:cubicBezTo>
                    <a:pt x="1866" y="629"/>
                    <a:pt x="1872" y="624"/>
                    <a:pt x="1875" y="622"/>
                  </a:cubicBezTo>
                  <a:cubicBezTo>
                    <a:pt x="1878" y="620"/>
                    <a:pt x="1880" y="617"/>
                    <a:pt x="1884" y="617"/>
                  </a:cubicBezTo>
                  <a:cubicBezTo>
                    <a:pt x="1888" y="617"/>
                    <a:pt x="1896" y="618"/>
                    <a:pt x="1902" y="620"/>
                  </a:cubicBezTo>
                  <a:cubicBezTo>
                    <a:pt x="1908" y="622"/>
                    <a:pt x="1920" y="624"/>
                    <a:pt x="1921" y="627"/>
                  </a:cubicBezTo>
                  <a:cubicBezTo>
                    <a:pt x="1923" y="631"/>
                    <a:pt x="1911" y="637"/>
                    <a:pt x="1909" y="641"/>
                  </a:cubicBezTo>
                  <a:cubicBezTo>
                    <a:pt x="1907" y="645"/>
                    <a:pt x="1906" y="650"/>
                    <a:pt x="1911" y="653"/>
                  </a:cubicBezTo>
                  <a:cubicBezTo>
                    <a:pt x="1916" y="656"/>
                    <a:pt x="1935" y="649"/>
                    <a:pt x="1938" y="659"/>
                  </a:cubicBezTo>
                  <a:cubicBezTo>
                    <a:pt x="1943" y="669"/>
                    <a:pt x="1921" y="707"/>
                    <a:pt x="1927" y="714"/>
                  </a:cubicBezTo>
                  <a:cubicBezTo>
                    <a:pt x="1928" y="725"/>
                    <a:pt x="1940" y="727"/>
                    <a:pt x="1944" y="726"/>
                  </a:cubicBezTo>
                  <a:cubicBezTo>
                    <a:pt x="1948" y="725"/>
                    <a:pt x="1945" y="712"/>
                    <a:pt x="1951" y="707"/>
                  </a:cubicBezTo>
                  <a:cubicBezTo>
                    <a:pt x="1957" y="702"/>
                    <a:pt x="1975" y="704"/>
                    <a:pt x="1981" y="698"/>
                  </a:cubicBezTo>
                  <a:cubicBezTo>
                    <a:pt x="1986" y="692"/>
                    <a:pt x="1991" y="680"/>
                    <a:pt x="1987" y="671"/>
                  </a:cubicBezTo>
                  <a:cubicBezTo>
                    <a:pt x="1987" y="665"/>
                    <a:pt x="1985" y="667"/>
                    <a:pt x="1980" y="659"/>
                  </a:cubicBezTo>
                  <a:cubicBezTo>
                    <a:pt x="1975" y="651"/>
                    <a:pt x="1959" y="632"/>
                    <a:pt x="1959" y="624"/>
                  </a:cubicBezTo>
                  <a:cubicBezTo>
                    <a:pt x="1958" y="613"/>
                    <a:pt x="1967" y="616"/>
                    <a:pt x="1981" y="608"/>
                  </a:cubicBezTo>
                  <a:cubicBezTo>
                    <a:pt x="1987" y="601"/>
                    <a:pt x="1989" y="589"/>
                    <a:pt x="1995" y="582"/>
                  </a:cubicBezTo>
                  <a:cubicBezTo>
                    <a:pt x="2001" y="575"/>
                    <a:pt x="2011" y="567"/>
                    <a:pt x="2017" y="567"/>
                  </a:cubicBezTo>
                  <a:cubicBezTo>
                    <a:pt x="2023" y="567"/>
                    <a:pt x="2026" y="580"/>
                    <a:pt x="2032" y="581"/>
                  </a:cubicBezTo>
                  <a:cubicBezTo>
                    <a:pt x="2038" y="582"/>
                    <a:pt x="2043" y="584"/>
                    <a:pt x="2052" y="576"/>
                  </a:cubicBezTo>
                  <a:cubicBezTo>
                    <a:pt x="2067" y="561"/>
                    <a:pt x="2067" y="544"/>
                    <a:pt x="2085" y="532"/>
                  </a:cubicBezTo>
                  <a:cubicBezTo>
                    <a:pt x="2091" y="524"/>
                    <a:pt x="2103" y="514"/>
                    <a:pt x="2109" y="506"/>
                  </a:cubicBezTo>
                  <a:cubicBezTo>
                    <a:pt x="2115" y="497"/>
                    <a:pt x="2117" y="488"/>
                    <a:pt x="2125" y="480"/>
                  </a:cubicBezTo>
                  <a:cubicBezTo>
                    <a:pt x="2128" y="477"/>
                    <a:pt x="2137" y="462"/>
                    <a:pt x="2140" y="458"/>
                  </a:cubicBezTo>
                  <a:cubicBezTo>
                    <a:pt x="2142" y="446"/>
                    <a:pt x="2137" y="444"/>
                    <a:pt x="2137" y="432"/>
                  </a:cubicBezTo>
                  <a:cubicBezTo>
                    <a:pt x="2136" y="426"/>
                    <a:pt x="2165" y="420"/>
                    <a:pt x="2155" y="411"/>
                  </a:cubicBezTo>
                  <a:cubicBezTo>
                    <a:pt x="2153" y="403"/>
                    <a:pt x="2136" y="386"/>
                    <a:pt x="2127" y="383"/>
                  </a:cubicBezTo>
                  <a:cubicBezTo>
                    <a:pt x="2118" y="380"/>
                    <a:pt x="2109" y="396"/>
                    <a:pt x="2101" y="395"/>
                  </a:cubicBezTo>
                  <a:cubicBezTo>
                    <a:pt x="2093" y="394"/>
                    <a:pt x="2078" y="386"/>
                    <a:pt x="2077" y="380"/>
                  </a:cubicBezTo>
                  <a:cubicBezTo>
                    <a:pt x="2083" y="371"/>
                    <a:pt x="2092" y="365"/>
                    <a:pt x="2097" y="356"/>
                  </a:cubicBezTo>
                  <a:cubicBezTo>
                    <a:pt x="2100" y="350"/>
                    <a:pt x="2112" y="341"/>
                    <a:pt x="2116" y="335"/>
                  </a:cubicBezTo>
                  <a:cubicBezTo>
                    <a:pt x="2122" y="327"/>
                    <a:pt x="2136" y="328"/>
                    <a:pt x="2145" y="323"/>
                  </a:cubicBezTo>
                  <a:cubicBezTo>
                    <a:pt x="2155" y="320"/>
                    <a:pt x="2156" y="304"/>
                    <a:pt x="2172" y="302"/>
                  </a:cubicBezTo>
                  <a:cubicBezTo>
                    <a:pt x="2188" y="300"/>
                    <a:pt x="2222" y="309"/>
                    <a:pt x="2239" y="308"/>
                  </a:cubicBezTo>
                  <a:cubicBezTo>
                    <a:pt x="2256" y="307"/>
                    <a:pt x="2265" y="296"/>
                    <a:pt x="2275" y="297"/>
                  </a:cubicBezTo>
                  <a:cubicBezTo>
                    <a:pt x="2285" y="298"/>
                    <a:pt x="2293" y="312"/>
                    <a:pt x="2302" y="314"/>
                  </a:cubicBezTo>
                  <a:cubicBezTo>
                    <a:pt x="2311" y="316"/>
                    <a:pt x="2322" y="308"/>
                    <a:pt x="2328" y="306"/>
                  </a:cubicBezTo>
                  <a:cubicBezTo>
                    <a:pt x="2334" y="304"/>
                    <a:pt x="2336" y="307"/>
                    <a:pt x="2340" y="303"/>
                  </a:cubicBezTo>
                  <a:cubicBezTo>
                    <a:pt x="2344" y="299"/>
                    <a:pt x="2345" y="288"/>
                    <a:pt x="2350" y="282"/>
                  </a:cubicBezTo>
                  <a:cubicBezTo>
                    <a:pt x="2354" y="277"/>
                    <a:pt x="2361" y="272"/>
                    <a:pt x="2370" y="269"/>
                  </a:cubicBezTo>
                  <a:cubicBezTo>
                    <a:pt x="2379" y="266"/>
                    <a:pt x="2399" y="261"/>
                    <a:pt x="2406" y="263"/>
                  </a:cubicBezTo>
                  <a:cubicBezTo>
                    <a:pt x="2413" y="265"/>
                    <a:pt x="2407" y="276"/>
                    <a:pt x="2410" y="279"/>
                  </a:cubicBezTo>
                  <a:cubicBezTo>
                    <a:pt x="2413" y="282"/>
                    <a:pt x="2421" y="283"/>
                    <a:pt x="2425" y="281"/>
                  </a:cubicBezTo>
                  <a:cubicBezTo>
                    <a:pt x="2429" y="279"/>
                    <a:pt x="2431" y="272"/>
                    <a:pt x="2437" y="268"/>
                  </a:cubicBezTo>
                  <a:cubicBezTo>
                    <a:pt x="2445" y="265"/>
                    <a:pt x="2453" y="252"/>
                    <a:pt x="2461" y="256"/>
                  </a:cubicBezTo>
                  <a:cubicBezTo>
                    <a:pt x="2473" y="262"/>
                    <a:pt x="2452" y="270"/>
                    <a:pt x="2445" y="276"/>
                  </a:cubicBezTo>
                  <a:cubicBezTo>
                    <a:pt x="2437" y="284"/>
                    <a:pt x="2429" y="292"/>
                    <a:pt x="2421" y="300"/>
                  </a:cubicBezTo>
                  <a:cubicBezTo>
                    <a:pt x="2412" y="309"/>
                    <a:pt x="2396" y="316"/>
                    <a:pt x="2388" y="320"/>
                  </a:cubicBezTo>
                  <a:cubicBezTo>
                    <a:pt x="2380" y="324"/>
                    <a:pt x="2377" y="323"/>
                    <a:pt x="2373" y="326"/>
                  </a:cubicBezTo>
                  <a:cubicBezTo>
                    <a:pt x="2369" y="329"/>
                    <a:pt x="2369" y="335"/>
                    <a:pt x="2365" y="341"/>
                  </a:cubicBezTo>
                  <a:cubicBezTo>
                    <a:pt x="2361" y="347"/>
                    <a:pt x="2349" y="350"/>
                    <a:pt x="2347" y="359"/>
                  </a:cubicBezTo>
                  <a:cubicBezTo>
                    <a:pt x="2345" y="368"/>
                    <a:pt x="2352" y="383"/>
                    <a:pt x="2355" y="396"/>
                  </a:cubicBezTo>
                  <a:cubicBezTo>
                    <a:pt x="2360" y="404"/>
                    <a:pt x="2360" y="435"/>
                    <a:pt x="2368" y="437"/>
                  </a:cubicBezTo>
                  <a:cubicBezTo>
                    <a:pt x="2376" y="439"/>
                    <a:pt x="2396" y="416"/>
                    <a:pt x="2405" y="408"/>
                  </a:cubicBezTo>
                  <a:cubicBezTo>
                    <a:pt x="2413" y="398"/>
                    <a:pt x="2417" y="397"/>
                    <a:pt x="2424" y="386"/>
                  </a:cubicBezTo>
                  <a:cubicBezTo>
                    <a:pt x="2431" y="382"/>
                    <a:pt x="2443" y="387"/>
                    <a:pt x="2446" y="381"/>
                  </a:cubicBezTo>
                  <a:cubicBezTo>
                    <a:pt x="2449" y="375"/>
                    <a:pt x="2440" y="356"/>
                    <a:pt x="2443" y="351"/>
                  </a:cubicBezTo>
                  <a:cubicBezTo>
                    <a:pt x="2443" y="343"/>
                    <a:pt x="2460" y="355"/>
                    <a:pt x="2463" y="351"/>
                  </a:cubicBezTo>
                  <a:cubicBezTo>
                    <a:pt x="2466" y="347"/>
                    <a:pt x="2457" y="334"/>
                    <a:pt x="2461" y="326"/>
                  </a:cubicBezTo>
                  <a:cubicBezTo>
                    <a:pt x="2465" y="318"/>
                    <a:pt x="2474" y="310"/>
                    <a:pt x="2487" y="303"/>
                  </a:cubicBezTo>
                  <a:cubicBezTo>
                    <a:pt x="2500" y="296"/>
                    <a:pt x="2530" y="284"/>
                    <a:pt x="2541" y="282"/>
                  </a:cubicBezTo>
                  <a:cubicBezTo>
                    <a:pt x="2552" y="280"/>
                    <a:pt x="2548" y="290"/>
                    <a:pt x="2553" y="293"/>
                  </a:cubicBezTo>
                  <a:cubicBezTo>
                    <a:pt x="2558" y="296"/>
                    <a:pt x="2564" y="302"/>
                    <a:pt x="2569" y="300"/>
                  </a:cubicBezTo>
                  <a:cubicBezTo>
                    <a:pt x="2574" y="300"/>
                    <a:pt x="2574" y="287"/>
                    <a:pt x="2581" y="282"/>
                  </a:cubicBezTo>
                  <a:cubicBezTo>
                    <a:pt x="2588" y="277"/>
                    <a:pt x="2604" y="270"/>
                    <a:pt x="2613" y="267"/>
                  </a:cubicBezTo>
                  <a:cubicBezTo>
                    <a:pt x="2622" y="264"/>
                    <a:pt x="2624" y="266"/>
                    <a:pt x="2637" y="263"/>
                  </a:cubicBezTo>
                  <a:cubicBezTo>
                    <a:pt x="2650" y="260"/>
                    <a:pt x="2685" y="257"/>
                    <a:pt x="2693" y="248"/>
                  </a:cubicBezTo>
                  <a:cubicBezTo>
                    <a:pt x="2683" y="234"/>
                    <a:pt x="2679" y="229"/>
                    <a:pt x="2685" y="212"/>
                  </a:cubicBezTo>
                  <a:cubicBezTo>
                    <a:pt x="2687" y="204"/>
                    <a:pt x="2697" y="219"/>
                    <a:pt x="2704" y="216"/>
                  </a:cubicBezTo>
                  <a:cubicBezTo>
                    <a:pt x="2709" y="213"/>
                    <a:pt x="2711" y="196"/>
                    <a:pt x="2715" y="195"/>
                  </a:cubicBezTo>
                  <a:cubicBezTo>
                    <a:pt x="2719" y="194"/>
                    <a:pt x="2724" y="209"/>
                    <a:pt x="2730" y="210"/>
                  </a:cubicBezTo>
                  <a:cubicBezTo>
                    <a:pt x="2736" y="211"/>
                    <a:pt x="2746" y="201"/>
                    <a:pt x="2752" y="203"/>
                  </a:cubicBezTo>
                  <a:cubicBezTo>
                    <a:pt x="2758" y="205"/>
                    <a:pt x="2758" y="219"/>
                    <a:pt x="2766" y="222"/>
                  </a:cubicBezTo>
                  <a:cubicBezTo>
                    <a:pt x="2774" y="225"/>
                    <a:pt x="2793" y="223"/>
                    <a:pt x="2801" y="220"/>
                  </a:cubicBezTo>
                  <a:cubicBezTo>
                    <a:pt x="2810" y="218"/>
                    <a:pt x="2807" y="211"/>
                    <a:pt x="2814" y="206"/>
                  </a:cubicBezTo>
                  <a:cubicBezTo>
                    <a:pt x="2821" y="201"/>
                    <a:pt x="2842" y="197"/>
                    <a:pt x="2842" y="192"/>
                  </a:cubicBezTo>
                  <a:cubicBezTo>
                    <a:pt x="2842" y="189"/>
                    <a:pt x="2828" y="175"/>
                    <a:pt x="2815" y="174"/>
                  </a:cubicBezTo>
                  <a:cubicBezTo>
                    <a:pt x="2808" y="170"/>
                    <a:pt x="2801" y="166"/>
                    <a:pt x="2797" y="168"/>
                  </a:cubicBezTo>
                  <a:cubicBezTo>
                    <a:pt x="2793" y="170"/>
                    <a:pt x="2791" y="184"/>
                    <a:pt x="2788" y="185"/>
                  </a:cubicBezTo>
                  <a:cubicBezTo>
                    <a:pt x="2785" y="186"/>
                    <a:pt x="2781" y="181"/>
                    <a:pt x="2776" y="177"/>
                  </a:cubicBezTo>
                  <a:cubicBezTo>
                    <a:pt x="2771" y="174"/>
                    <a:pt x="2766" y="164"/>
                    <a:pt x="2761" y="161"/>
                  </a:cubicBezTo>
                  <a:cubicBezTo>
                    <a:pt x="2756" y="158"/>
                    <a:pt x="2741" y="159"/>
                    <a:pt x="2736" y="156"/>
                  </a:cubicBezTo>
                  <a:cubicBezTo>
                    <a:pt x="2728" y="155"/>
                    <a:pt x="2720" y="144"/>
                    <a:pt x="2716" y="144"/>
                  </a:cubicBezTo>
                  <a:cubicBezTo>
                    <a:pt x="2707" y="140"/>
                    <a:pt x="2694" y="135"/>
                    <a:pt x="2682" y="132"/>
                  </a:cubicBezTo>
                  <a:cubicBezTo>
                    <a:pt x="2671" y="130"/>
                    <a:pt x="2676" y="123"/>
                    <a:pt x="2641" y="125"/>
                  </a:cubicBezTo>
                  <a:cubicBezTo>
                    <a:pt x="2632" y="125"/>
                    <a:pt x="2635" y="132"/>
                    <a:pt x="2625" y="132"/>
                  </a:cubicBezTo>
                  <a:cubicBezTo>
                    <a:pt x="2615" y="132"/>
                    <a:pt x="2591" y="123"/>
                    <a:pt x="2581" y="123"/>
                  </a:cubicBezTo>
                  <a:cubicBezTo>
                    <a:pt x="2571" y="123"/>
                    <a:pt x="2568" y="127"/>
                    <a:pt x="2566" y="131"/>
                  </a:cubicBezTo>
                  <a:cubicBezTo>
                    <a:pt x="2564" y="135"/>
                    <a:pt x="2569" y="144"/>
                    <a:pt x="2566" y="146"/>
                  </a:cubicBezTo>
                  <a:cubicBezTo>
                    <a:pt x="2563" y="148"/>
                    <a:pt x="2553" y="144"/>
                    <a:pt x="2548" y="141"/>
                  </a:cubicBezTo>
                  <a:cubicBezTo>
                    <a:pt x="2543" y="138"/>
                    <a:pt x="2546" y="127"/>
                    <a:pt x="2536" y="126"/>
                  </a:cubicBezTo>
                  <a:cubicBezTo>
                    <a:pt x="2526" y="125"/>
                    <a:pt x="2499" y="135"/>
                    <a:pt x="2488" y="135"/>
                  </a:cubicBezTo>
                  <a:cubicBezTo>
                    <a:pt x="2477" y="135"/>
                    <a:pt x="2479" y="128"/>
                    <a:pt x="2469" y="128"/>
                  </a:cubicBezTo>
                  <a:cubicBezTo>
                    <a:pt x="2460" y="126"/>
                    <a:pt x="2434" y="138"/>
                    <a:pt x="2425" y="137"/>
                  </a:cubicBezTo>
                  <a:cubicBezTo>
                    <a:pt x="2416" y="136"/>
                    <a:pt x="2419" y="124"/>
                    <a:pt x="2412" y="119"/>
                  </a:cubicBezTo>
                  <a:cubicBezTo>
                    <a:pt x="2405" y="114"/>
                    <a:pt x="2402" y="106"/>
                    <a:pt x="2383" y="105"/>
                  </a:cubicBezTo>
                  <a:cubicBezTo>
                    <a:pt x="2335" y="109"/>
                    <a:pt x="2340" y="117"/>
                    <a:pt x="2296" y="110"/>
                  </a:cubicBezTo>
                  <a:cubicBezTo>
                    <a:pt x="2279" y="107"/>
                    <a:pt x="2278" y="97"/>
                    <a:pt x="2262" y="90"/>
                  </a:cubicBezTo>
                  <a:cubicBezTo>
                    <a:pt x="2236" y="78"/>
                    <a:pt x="2232" y="89"/>
                    <a:pt x="2200" y="86"/>
                  </a:cubicBezTo>
                  <a:cubicBezTo>
                    <a:pt x="2188" y="84"/>
                    <a:pt x="2175" y="81"/>
                    <a:pt x="2172" y="78"/>
                  </a:cubicBezTo>
                  <a:cubicBezTo>
                    <a:pt x="2169" y="75"/>
                    <a:pt x="2183" y="72"/>
                    <a:pt x="2182" y="68"/>
                  </a:cubicBezTo>
                  <a:cubicBezTo>
                    <a:pt x="2181" y="64"/>
                    <a:pt x="2165" y="58"/>
                    <a:pt x="2163" y="53"/>
                  </a:cubicBezTo>
                  <a:cubicBezTo>
                    <a:pt x="2161" y="48"/>
                    <a:pt x="2175" y="38"/>
                    <a:pt x="2167" y="35"/>
                  </a:cubicBezTo>
                  <a:cubicBezTo>
                    <a:pt x="2159" y="32"/>
                    <a:pt x="2122" y="32"/>
                    <a:pt x="2112" y="36"/>
                  </a:cubicBezTo>
                  <a:cubicBezTo>
                    <a:pt x="2102" y="40"/>
                    <a:pt x="2104" y="53"/>
                    <a:pt x="2109" y="57"/>
                  </a:cubicBezTo>
                  <a:cubicBezTo>
                    <a:pt x="2114" y="61"/>
                    <a:pt x="2133" y="57"/>
                    <a:pt x="2139" y="59"/>
                  </a:cubicBezTo>
                  <a:cubicBezTo>
                    <a:pt x="2145" y="61"/>
                    <a:pt x="2146" y="68"/>
                    <a:pt x="2148" y="72"/>
                  </a:cubicBezTo>
                  <a:cubicBezTo>
                    <a:pt x="2150" y="76"/>
                    <a:pt x="2156" y="82"/>
                    <a:pt x="2152" y="84"/>
                  </a:cubicBezTo>
                  <a:cubicBezTo>
                    <a:pt x="2148" y="86"/>
                    <a:pt x="2132" y="83"/>
                    <a:pt x="2127" y="86"/>
                  </a:cubicBezTo>
                  <a:cubicBezTo>
                    <a:pt x="2122" y="89"/>
                    <a:pt x="2129" y="100"/>
                    <a:pt x="2124" y="102"/>
                  </a:cubicBezTo>
                  <a:cubicBezTo>
                    <a:pt x="2119" y="104"/>
                    <a:pt x="2106" y="101"/>
                    <a:pt x="2094" y="101"/>
                  </a:cubicBezTo>
                  <a:cubicBezTo>
                    <a:pt x="2081" y="101"/>
                    <a:pt x="2077" y="106"/>
                    <a:pt x="2053" y="104"/>
                  </a:cubicBezTo>
                  <a:cubicBezTo>
                    <a:pt x="2043" y="102"/>
                    <a:pt x="2040" y="90"/>
                    <a:pt x="2032" y="92"/>
                  </a:cubicBezTo>
                  <a:cubicBezTo>
                    <a:pt x="2024" y="94"/>
                    <a:pt x="2015" y="112"/>
                    <a:pt x="2007" y="114"/>
                  </a:cubicBezTo>
                  <a:cubicBezTo>
                    <a:pt x="1999" y="116"/>
                    <a:pt x="1988" y="111"/>
                    <a:pt x="1984" y="104"/>
                  </a:cubicBezTo>
                  <a:cubicBezTo>
                    <a:pt x="1980" y="97"/>
                    <a:pt x="1989" y="76"/>
                    <a:pt x="1983" y="72"/>
                  </a:cubicBezTo>
                  <a:cubicBezTo>
                    <a:pt x="1977" y="68"/>
                    <a:pt x="1961" y="76"/>
                    <a:pt x="1950" y="77"/>
                  </a:cubicBezTo>
                  <a:cubicBezTo>
                    <a:pt x="1942" y="72"/>
                    <a:pt x="1926" y="75"/>
                    <a:pt x="1917" y="75"/>
                  </a:cubicBezTo>
                  <a:cubicBezTo>
                    <a:pt x="1905" y="73"/>
                    <a:pt x="1859" y="80"/>
                    <a:pt x="1848" y="78"/>
                  </a:cubicBezTo>
                  <a:cubicBezTo>
                    <a:pt x="1834" y="76"/>
                    <a:pt x="1846" y="66"/>
                    <a:pt x="1831" y="65"/>
                  </a:cubicBezTo>
                  <a:cubicBezTo>
                    <a:pt x="1816" y="64"/>
                    <a:pt x="1769" y="73"/>
                    <a:pt x="1755" y="71"/>
                  </a:cubicBezTo>
                  <a:cubicBezTo>
                    <a:pt x="1743" y="68"/>
                    <a:pt x="1747" y="61"/>
                    <a:pt x="1747" y="54"/>
                  </a:cubicBezTo>
                  <a:cubicBezTo>
                    <a:pt x="1747" y="47"/>
                    <a:pt x="1753" y="36"/>
                    <a:pt x="1753" y="29"/>
                  </a:cubicBezTo>
                  <a:cubicBezTo>
                    <a:pt x="1753" y="22"/>
                    <a:pt x="1755" y="13"/>
                    <a:pt x="1750" y="11"/>
                  </a:cubicBezTo>
                  <a:cubicBezTo>
                    <a:pt x="1745" y="0"/>
                    <a:pt x="1729" y="18"/>
                    <a:pt x="1720" y="18"/>
                  </a:cubicBezTo>
                  <a:cubicBezTo>
                    <a:pt x="1711" y="18"/>
                    <a:pt x="1705" y="9"/>
                    <a:pt x="1695" y="11"/>
                  </a:cubicBezTo>
                  <a:cubicBezTo>
                    <a:pt x="1685" y="13"/>
                    <a:pt x="1665" y="28"/>
                    <a:pt x="1660" y="29"/>
                  </a:cubicBezTo>
                  <a:cubicBezTo>
                    <a:pt x="1655" y="30"/>
                    <a:pt x="1682" y="16"/>
                    <a:pt x="1663" y="14"/>
                  </a:cubicBezTo>
                  <a:cubicBezTo>
                    <a:pt x="1644" y="12"/>
                    <a:pt x="1571" y="15"/>
                    <a:pt x="1548" y="18"/>
                  </a:cubicBezTo>
                  <a:cubicBezTo>
                    <a:pt x="1525" y="21"/>
                    <a:pt x="1530" y="31"/>
                    <a:pt x="1522" y="32"/>
                  </a:cubicBezTo>
                  <a:cubicBezTo>
                    <a:pt x="1514" y="33"/>
                    <a:pt x="1506" y="26"/>
                    <a:pt x="1498" y="26"/>
                  </a:cubicBezTo>
                  <a:cubicBezTo>
                    <a:pt x="1490" y="26"/>
                    <a:pt x="1488" y="31"/>
                    <a:pt x="1474" y="33"/>
                  </a:cubicBezTo>
                  <a:cubicBezTo>
                    <a:pt x="1460" y="35"/>
                    <a:pt x="1433" y="33"/>
                    <a:pt x="1414" y="36"/>
                  </a:cubicBezTo>
                  <a:cubicBezTo>
                    <a:pt x="1389" y="53"/>
                    <a:pt x="1397" y="47"/>
                    <a:pt x="1362" y="50"/>
                  </a:cubicBezTo>
                  <a:cubicBezTo>
                    <a:pt x="1350" y="54"/>
                    <a:pt x="1372" y="62"/>
                    <a:pt x="1366" y="65"/>
                  </a:cubicBezTo>
                  <a:cubicBezTo>
                    <a:pt x="1360" y="68"/>
                    <a:pt x="1337" y="68"/>
                    <a:pt x="1324" y="69"/>
                  </a:cubicBezTo>
                  <a:cubicBezTo>
                    <a:pt x="1311" y="70"/>
                    <a:pt x="1293" y="63"/>
                    <a:pt x="1290" y="68"/>
                  </a:cubicBezTo>
                  <a:cubicBezTo>
                    <a:pt x="1280" y="73"/>
                    <a:pt x="1308" y="99"/>
                    <a:pt x="1305" y="101"/>
                  </a:cubicBezTo>
                  <a:cubicBezTo>
                    <a:pt x="1302" y="103"/>
                    <a:pt x="1280" y="84"/>
                    <a:pt x="1269" y="83"/>
                  </a:cubicBezTo>
                  <a:cubicBezTo>
                    <a:pt x="1258" y="82"/>
                    <a:pt x="1246" y="91"/>
                    <a:pt x="1237" y="96"/>
                  </a:cubicBezTo>
                  <a:cubicBezTo>
                    <a:pt x="1228" y="99"/>
                    <a:pt x="1213" y="112"/>
                    <a:pt x="1213" y="112"/>
                  </a:cubicBezTo>
                  <a:cubicBezTo>
                    <a:pt x="1206" y="112"/>
                    <a:pt x="1222" y="84"/>
                    <a:pt x="1216" y="80"/>
                  </a:cubicBezTo>
                  <a:cubicBezTo>
                    <a:pt x="1214" y="77"/>
                    <a:pt x="1208" y="88"/>
                    <a:pt x="1203" y="93"/>
                  </a:cubicBezTo>
                  <a:cubicBezTo>
                    <a:pt x="1198" y="98"/>
                    <a:pt x="1191" y="103"/>
                    <a:pt x="1188" y="108"/>
                  </a:cubicBezTo>
                  <a:cubicBezTo>
                    <a:pt x="1185" y="113"/>
                    <a:pt x="1183" y="117"/>
                    <a:pt x="1183" y="125"/>
                  </a:cubicBezTo>
                  <a:cubicBezTo>
                    <a:pt x="1183" y="133"/>
                    <a:pt x="1188" y="160"/>
                    <a:pt x="1186" y="159"/>
                  </a:cubicBezTo>
                  <a:cubicBezTo>
                    <a:pt x="1184" y="158"/>
                    <a:pt x="1171" y="131"/>
                    <a:pt x="1170" y="120"/>
                  </a:cubicBezTo>
                  <a:cubicBezTo>
                    <a:pt x="1169" y="109"/>
                    <a:pt x="1183" y="97"/>
                    <a:pt x="1177" y="90"/>
                  </a:cubicBezTo>
                  <a:cubicBezTo>
                    <a:pt x="1167" y="93"/>
                    <a:pt x="1153" y="75"/>
                    <a:pt x="1134" y="78"/>
                  </a:cubicBezTo>
                  <a:cubicBezTo>
                    <a:pt x="1123" y="78"/>
                    <a:pt x="1118" y="97"/>
                    <a:pt x="1111" y="102"/>
                  </a:cubicBezTo>
                  <a:cubicBezTo>
                    <a:pt x="1104" y="107"/>
                    <a:pt x="1088" y="101"/>
                    <a:pt x="1090" y="111"/>
                  </a:cubicBezTo>
                  <a:cubicBezTo>
                    <a:pt x="1091" y="123"/>
                    <a:pt x="1124" y="150"/>
                    <a:pt x="1122" y="162"/>
                  </a:cubicBezTo>
                  <a:cubicBezTo>
                    <a:pt x="1120" y="172"/>
                    <a:pt x="1098" y="152"/>
                    <a:pt x="1096" y="152"/>
                  </a:cubicBezTo>
                  <a:cubicBezTo>
                    <a:pt x="1090" y="150"/>
                    <a:pt x="1088" y="147"/>
                    <a:pt x="1080" y="143"/>
                  </a:cubicBezTo>
                  <a:cubicBezTo>
                    <a:pt x="1072" y="139"/>
                    <a:pt x="1059" y="129"/>
                    <a:pt x="1047" y="128"/>
                  </a:cubicBezTo>
                  <a:cubicBezTo>
                    <a:pt x="1035" y="127"/>
                    <a:pt x="1016" y="136"/>
                    <a:pt x="1009" y="134"/>
                  </a:cubicBezTo>
                  <a:cubicBezTo>
                    <a:pt x="1001" y="132"/>
                    <a:pt x="1001" y="122"/>
                    <a:pt x="1003" y="117"/>
                  </a:cubicBezTo>
                  <a:cubicBezTo>
                    <a:pt x="1004" y="113"/>
                    <a:pt x="1011" y="109"/>
                    <a:pt x="1018" y="108"/>
                  </a:cubicBezTo>
                  <a:cubicBezTo>
                    <a:pt x="1025" y="107"/>
                    <a:pt x="1044" y="115"/>
                    <a:pt x="1044" y="113"/>
                  </a:cubicBezTo>
                  <a:cubicBezTo>
                    <a:pt x="1044" y="111"/>
                    <a:pt x="1030" y="100"/>
                    <a:pt x="1021" y="98"/>
                  </a:cubicBezTo>
                  <a:cubicBezTo>
                    <a:pt x="1012" y="96"/>
                    <a:pt x="999" y="93"/>
                    <a:pt x="991" y="98"/>
                  </a:cubicBezTo>
                  <a:cubicBezTo>
                    <a:pt x="983" y="103"/>
                    <a:pt x="974" y="118"/>
                    <a:pt x="975" y="126"/>
                  </a:cubicBezTo>
                  <a:cubicBezTo>
                    <a:pt x="976" y="134"/>
                    <a:pt x="992" y="142"/>
                    <a:pt x="994" y="146"/>
                  </a:cubicBezTo>
                  <a:cubicBezTo>
                    <a:pt x="996" y="150"/>
                    <a:pt x="991" y="150"/>
                    <a:pt x="985" y="150"/>
                  </a:cubicBezTo>
                  <a:cubicBezTo>
                    <a:pt x="979" y="150"/>
                    <a:pt x="968" y="144"/>
                    <a:pt x="960" y="143"/>
                  </a:cubicBezTo>
                  <a:cubicBezTo>
                    <a:pt x="952" y="142"/>
                    <a:pt x="944" y="141"/>
                    <a:pt x="936" y="143"/>
                  </a:cubicBezTo>
                  <a:cubicBezTo>
                    <a:pt x="928" y="145"/>
                    <a:pt x="920" y="156"/>
                    <a:pt x="913" y="156"/>
                  </a:cubicBezTo>
                  <a:cubicBezTo>
                    <a:pt x="906" y="156"/>
                    <a:pt x="903" y="143"/>
                    <a:pt x="892" y="144"/>
                  </a:cubicBezTo>
                  <a:cubicBezTo>
                    <a:pt x="881" y="145"/>
                    <a:pt x="865" y="157"/>
                    <a:pt x="849" y="162"/>
                  </a:cubicBezTo>
                  <a:cubicBezTo>
                    <a:pt x="815" y="162"/>
                    <a:pt x="808" y="177"/>
                    <a:pt x="798" y="174"/>
                  </a:cubicBezTo>
                  <a:cubicBezTo>
                    <a:pt x="788" y="171"/>
                    <a:pt x="792" y="149"/>
                    <a:pt x="786" y="144"/>
                  </a:cubicBezTo>
                  <a:cubicBezTo>
                    <a:pt x="780" y="139"/>
                    <a:pt x="766" y="136"/>
                    <a:pt x="763" y="143"/>
                  </a:cubicBezTo>
                  <a:cubicBezTo>
                    <a:pt x="760" y="150"/>
                    <a:pt x="768" y="179"/>
                    <a:pt x="765" y="185"/>
                  </a:cubicBezTo>
                  <a:cubicBezTo>
                    <a:pt x="749" y="188"/>
                    <a:pt x="752" y="181"/>
                    <a:pt x="745" y="182"/>
                  </a:cubicBezTo>
                  <a:cubicBezTo>
                    <a:pt x="738" y="183"/>
                    <a:pt x="726" y="188"/>
                    <a:pt x="720" y="194"/>
                  </a:cubicBezTo>
                  <a:cubicBezTo>
                    <a:pt x="714" y="200"/>
                    <a:pt x="719" y="216"/>
                    <a:pt x="711" y="218"/>
                  </a:cubicBezTo>
                  <a:cubicBezTo>
                    <a:pt x="699" y="225"/>
                    <a:pt x="680" y="204"/>
                    <a:pt x="672" y="204"/>
                  </a:cubicBezTo>
                  <a:cubicBezTo>
                    <a:pt x="664" y="204"/>
                    <a:pt x="662" y="210"/>
                    <a:pt x="663" y="215"/>
                  </a:cubicBezTo>
                  <a:cubicBezTo>
                    <a:pt x="664" y="220"/>
                    <a:pt x="682" y="230"/>
                    <a:pt x="681" y="232"/>
                  </a:cubicBezTo>
                  <a:cubicBezTo>
                    <a:pt x="673" y="235"/>
                    <a:pt x="655" y="230"/>
                    <a:pt x="655" y="230"/>
                  </a:cubicBezTo>
                  <a:cubicBezTo>
                    <a:pt x="622" y="208"/>
                    <a:pt x="658" y="229"/>
                    <a:pt x="627" y="198"/>
                  </a:cubicBezTo>
                  <a:cubicBezTo>
                    <a:pt x="623" y="194"/>
                    <a:pt x="606" y="185"/>
                    <a:pt x="606" y="185"/>
                  </a:cubicBezTo>
                  <a:cubicBezTo>
                    <a:pt x="629" y="170"/>
                    <a:pt x="644" y="180"/>
                    <a:pt x="669" y="188"/>
                  </a:cubicBezTo>
                  <a:cubicBezTo>
                    <a:pt x="682" y="187"/>
                    <a:pt x="696" y="187"/>
                    <a:pt x="709" y="184"/>
                  </a:cubicBezTo>
                  <a:cubicBezTo>
                    <a:pt x="720" y="182"/>
                    <a:pt x="739" y="175"/>
                    <a:pt x="729" y="165"/>
                  </a:cubicBezTo>
                  <a:cubicBezTo>
                    <a:pt x="711" y="147"/>
                    <a:pt x="662" y="137"/>
                    <a:pt x="637" y="135"/>
                  </a:cubicBezTo>
                  <a:cubicBezTo>
                    <a:pt x="615" y="128"/>
                    <a:pt x="592" y="132"/>
                    <a:pt x="580" y="129"/>
                  </a:cubicBezTo>
                  <a:cubicBezTo>
                    <a:pt x="568" y="126"/>
                    <a:pt x="573" y="115"/>
                    <a:pt x="567" y="114"/>
                  </a:cubicBezTo>
                  <a:cubicBezTo>
                    <a:pt x="559" y="111"/>
                    <a:pt x="545" y="120"/>
                    <a:pt x="545" y="120"/>
                  </a:cubicBezTo>
                  <a:cubicBezTo>
                    <a:pt x="536" y="118"/>
                    <a:pt x="531" y="114"/>
                    <a:pt x="519" y="114"/>
                  </a:cubicBezTo>
                  <a:cubicBezTo>
                    <a:pt x="512" y="112"/>
                    <a:pt x="508" y="104"/>
                    <a:pt x="501" y="105"/>
                  </a:cubicBezTo>
                  <a:cubicBezTo>
                    <a:pt x="494" y="106"/>
                    <a:pt x="486" y="115"/>
                    <a:pt x="475" y="119"/>
                  </a:cubicBezTo>
                  <a:cubicBezTo>
                    <a:pt x="464" y="123"/>
                    <a:pt x="446" y="132"/>
                    <a:pt x="435" y="132"/>
                  </a:cubicBezTo>
                  <a:cubicBezTo>
                    <a:pt x="415" y="136"/>
                    <a:pt x="417" y="111"/>
                    <a:pt x="411" y="116"/>
                  </a:cubicBezTo>
                  <a:cubicBezTo>
                    <a:pt x="406" y="116"/>
                    <a:pt x="404" y="124"/>
                    <a:pt x="402" y="131"/>
                  </a:cubicBezTo>
                  <a:cubicBezTo>
                    <a:pt x="400" y="138"/>
                    <a:pt x="406" y="153"/>
                    <a:pt x="400" y="156"/>
                  </a:cubicBezTo>
                  <a:cubicBezTo>
                    <a:pt x="395" y="162"/>
                    <a:pt x="376" y="142"/>
                    <a:pt x="366" y="147"/>
                  </a:cubicBezTo>
                  <a:cubicBezTo>
                    <a:pt x="351" y="148"/>
                    <a:pt x="322" y="156"/>
                    <a:pt x="309" y="165"/>
                  </a:cubicBezTo>
                  <a:cubicBezTo>
                    <a:pt x="296" y="174"/>
                    <a:pt x="286" y="196"/>
                    <a:pt x="289" y="198"/>
                  </a:cubicBezTo>
                  <a:cubicBezTo>
                    <a:pt x="292" y="200"/>
                    <a:pt x="316" y="182"/>
                    <a:pt x="325" y="177"/>
                  </a:cubicBezTo>
                  <a:cubicBezTo>
                    <a:pt x="334" y="172"/>
                    <a:pt x="343" y="167"/>
                    <a:pt x="346" y="168"/>
                  </a:cubicBezTo>
                  <a:cubicBezTo>
                    <a:pt x="349" y="169"/>
                    <a:pt x="345" y="180"/>
                    <a:pt x="341" y="184"/>
                  </a:cubicBezTo>
                  <a:cubicBezTo>
                    <a:pt x="337" y="189"/>
                    <a:pt x="327" y="190"/>
                    <a:pt x="321" y="194"/>
                  </a:cubicBezTo>
                  <a:cubicBezTo>
                    <a:pt x="315" y="198"/>
                    <a:pt x="312" y="205"/>
                    <a:pt x="304" y="210"/>
                  </a:cubicBezTo>
                  <a:cubicBezTo>
                    <a:pt x="297" y="214"/>
                    <a:pt x="274" y="222"/>
                    <a:pt x="274" y="222"/>
                  </a:cubicBezTo>
                  <a:cubicBezTo>
                    <a:pt x="265" y="227"/>
                    <a:pt x="247" y="233"/>
                    <a:pt x="238" y="237"/>
                  </a:cubicBezTo>
                  <a:cubicBezTo>
                    <a:pt x="229" y="241"/>
                    <a:pt x="227" y="242"/>
                    <a:pt x="222" y="248"/>
                  </a:cubicBezTo>
                  <a:cubicBezTo>
                    <a:pt x="208" y="255"/>
                    <a:pt x="214" y="263"/>
                    <a:pt x="208" y="275"/>
                  </a:cubicBez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未知"/>
            <p:cNvSpPr/>
            <p:nvPr/>
          </p:nvSpPr>
          <p:spPr>
            <a:xfrm>
              <a:off x="5084640" y="2127600"/>
              <a:ext cx="651600" cy="760680"/>
            </a:xfrm>
            <a:custGeom>
              <a:avLst/>
              <a:gdLst/>
              <a:ahLst/>
              <a:rect l="l" t="t" r="r" b="b"/>
              <a:pathLst>
                <a:path w="328" h="383">
                  <a:moveTo>
                    <a:pt x="15" y="380"/>
                  </a:moveTo>
                  <a:cubicBezTo>
                    <a:pt x="18" y="383"/>
                    <a:pt x="23" y="381"/>
                    <a:pt x="28" y="377"/>
                  </a:cubicBezTo>
                  <a:cubicBezTo>
                    <a:pt x="31" y="372"/>
                    <a:pt x="33" y="354"/>
                    <a:pt x="36" y="350"/>
                  </a:cubicBezTo>
                  <a:cubicBezTo>
                    <a:pt x="39" y="346"/>
                    <a:pt x="42" y="356"/>
                    <a:pt x="46" y="356"/>
                  </a:cubicBezTo>
                  <a:cubicBezTo>
                    <a:pt x="50" y="353"/>
                    <a:pt x="58" y="355"/>
                    <a:pt x="61" y="351"/>
                  </a:cubicBezTo>
                  <a:cubicBezTo>
                    <a:pt x="64" y="347"/>
                    <a:pt x="64" y="337"/>
                    <a:pt x="66" y="332"/>
                  </a:cubicBezTo>
                  <a:cubicBezTo>
                    <a:pt x="68" y="327"/>
                    <a:pt x="73" y="321"/>
                    <a:pt x="76" y="323"/>
                  </a:cubicBezTo>
                  <a:cubicBezTo>
                    <a:pt x="79" y="325"/>
                    <a:pt x="81" y="339"/>
                    <a:pt x="84" y="342"/>
                  </a:cubicBezTo>
                  <a:cubicBezTo>
                    <a:pt x="87" y="345"/>
                    <a:pt x="93" y="349"/>
                    <a:pt x="96" y="344"/>
                  </a:cubicBezTo>
                  <a:cubicBezTo>
                    <a:pt x="116" y="331"/>
                    <a:pt x="90" y="344"/>
                    <a:pt x="103" y="314"/>
                  </a:cubicBezTo>
                  <a:cubicBezTo>
                    <a:pt x="109" y="305"/>
                    <a:pt x="110" y="328"/>
                    <a:pt x="121" y="326"/>
                  </a:cubicBezTo>
                  <a:cubicBezTo>
                    <a:pt x="128" y="326"/>
                    <a:pt x="137" y="313"/>
                    <a:pt x="145" y="312"/>
                  </a:cubicBezTo>
                  <a:cubicBezTo>
                    <a:pt x="153" y="311"/>
                    <a:pt x="165" y="326"/>
                    <a:pt x="168" y="321"/>
                  </a:cubicBezTo>
                  <a:cubicBezTo>
                    <a:pt x="171" y="316"/>
                    <a:pt x="162" y="291"/>
                    <a:pt x="162" y="281"/>
                  </a:cubicBezTo>
                  <a:cubicBezTo>
                    <a:pt x="166" y="273"/>
                    <a:pt x="167" y="267"/>
                    <a:pt x="171" y="260"/>
                  </a:cubicBezTo>
                  <a:cubicBezTo>
                    <a:pt x="175" y="253"/>
                    <a:pt x="188" y="248"/>
                    <a:pt x="187" y="239"/>
                  </a:cubicBezTo>
                  <a:cubicBezTo>
                    <a:pt x="186" y="230"/>
                    <a:pt x="166" y="211"/>
                    <a:pt x="163" y="204"/>
                  </a:cubicBezTo>
                  <a:cubicBezTo>
                    <a:pt x="164" y="191"/>
                    <a:pt x="167" y="196"/>
                    <a:pt x="171" y="194"/>
                  </a:cubicBezTo>
                  <a:cubicBezTo>
                    <a:pt x="175" y="192"/>
                    <a:pt x="183" y="187"/>
                    <a:pt x="187" y="189"/>
                  </a:cubicBezTo>
                  <a:cubicBezTo>
                    <a:pt x="191" y="191"/>
                    <a:pt x="196" y="206"/>
                    <a:pt x="199" y="207"/>
                  </a:cubicBezTo>
                  <a:cubicBezTo>
                    <a:pt x="202" y="208"/>
                    <a:pt x="200" y="195"/>
                    <a:pt x="205" y="192"/>
                  </a:cubicBezTo>
                  <a:cubicBezTo>
                    <a:pt x="210" y="189"/>
                    <a:pt x="224" y="191"/>
                    <a:pt x="229" y="188"/>
                  </a:cubicBezTo>
                  <a:cubicBezTo>
                    <a:pt x="234" y="185"/>
                    <a:pt x="230" y="178"/>
                    <a:pt x="234" y="174"/>
                  </a:cubicBezTo>
                  <a:cubicBezTo>
                    <a:pt x="238" y="170"/>
                    <a:pt x="252" y="167"/>
                    <a:pt x="256" y="165"/>
                  </a:cubicBezTo>
                  <a:cubicBezTo>
                    <a:pt x="260" y="163"/>
                    <a:pt x="256" y="161"/>
                    <a:pt x="261" y="159"/>
                  </a:cubicBezTo>
                  <a:cubicBezTo>
                    <a:pt x="266" y="157"/>
                    <a:pt x="281" y="158"/>
                    <a:pt x="288" y="155"/>
                  </a:cubicBezTo>
                  <a:cubicBezTo>
                    <a:pt x="295" y="152"/>
                    <a:pt x="301" y="146"/>
                    <a:pt x="303" y="141"/>
                  </a:cubicBezTo>
                  <a:cubicBezTo>
                    <a:pt x="328" y="131"/>
                    <a:pt x="299" y="125"/>
                    <a:pt x="300" y="125"/>
                  </a:cubicBezTo>
                  <a:cubicBezTo>
                    <a:pt x="301" y="125"/>
                    <a:pt x="300" y="140"/>
                    <a:pt x="297" y="141"/>
                  </a:cubicBezTo>
                  <a:cubicBezTo>
                    <a:pt x="294" y="142"/>
                    <a:pt x="285" y="129"/>
                    <a:pt x="280" y="131"/>
                  </a:cubicBezTo>
                  <a:cubicBezTo>
                    <a:pt x="275" y="133"/>
                    <a:pt x="272" y="151"/>
                    <a:pt x="268" y="153"/>
                  </a:cubicBezTo>
                  <a:cubicBezTo>
                    <a:pt x="264" y="155"/>
                    <a:pt x="263" y="141"/>
                    <a:pt x="258" y="143"/>
                  </a:cubicBezTo>
                  <a:cubicBezTo>
                    <a:pt x="253" y="145"/>
                    <a:pt x="245" y="162"/>
                    <a:pt x="237" y="165"/>
                  </a:cubicBezTo>
                  <a:cubicBezTo>
                    <a:pt x="229" y="168"/>
                    <a:pt x="218" y="164"/>
                    <a:pt x="210" y="159"/>
                  </a:cubicBezTo>
                  <a:cubicBezTo>
                    <a:pt x="202" y="154"/>
                    <a:pt x="191" y="141"/>
                    <a:pt x="189" y="136"/>
                  </a:cubicBezTo>
                  <a:cubicBezTo>
                    <a:pt x="184" y="130"/>
                    <a:pt x="194" y="138"/>
                    <a:pt x="198" y="128"/>
                  </a:cubicBezTo>
                  <a:cubicBezTo>
                    <a:pt x="199" y="122"/>
                    <a:pt x="196" y="107"/>
                    <a:pt x="198" y="98"/>
                  </a:cubicBezTo>
                  <a:cubicBezTo>
                    <a:pt x="200" y="89"/>
                    <a:pt x="212" y="83"/>
                    <a:pt x="213" y="76"/>
                  </a:cubicBezTo>
                  <a:cubicBezTo>
                    <a:pt x="216" y="62"/>
                    <a:pt x="206" y="68"/>
                    <a:pt x="204" y="57"/>
                  </a:cubicBezTo>
                  <a:cubicBezTo>
                    <a:pt x="202" y="46"/>
                    <a:pt x="201" y="20"/>
                    <a:pt x="198" y="12"/>
                  </a:cubicBezTo>
                  <a:cubicBezTo>
                    <a:pt x="195" y="4"/>
                    <a:pt x="188" y="3"/>
                    <a:pt x="186" y="6"/>
                  </a:cubicBezTo>
                  <a:cubicBezTo>
                    <a:pt x="182" y="0"/>
                    <a:pt x="183" y="21"/>
                    <a:pt x="183" y="33"/>
                  </a:cubicBezTo>
                  <a:cubicBezTo>
                    <a:pt x="183" y="45"/>
                    <a:pt x="187" y="65"/>
                    <a:pt x="185" y="76"/>
                  </a:cubicBezTo>
                  <a:cubicBezTo>
                    <a:pt x="183" y="85"/>
                    <a:pt x="176" y="92"/>
                    <a:pt x="173" y="100"/>
                  </a:cubicBezTo>
                  <a:cubicBezTo>
                    <a:pt x="179" y="117"/>
                    <a:pt x="182" y="120"/>
                    <a:pt x="173" y="144"/>
                  </a:cubicBezTo>
                  <a:cubicBezTo>
                    <a:pt x="170" y="153"/>
                    <a:pt x="162" y="160"/>
                    <a:pt x="157" y="168"/>
                  </a:cubicBezTo>
                  <a:cubicBezTo>
                    <a:pt x="154" y="172"/>
                    <a:pt x="149" y="180"/>
                    <a:pt x="149" y="180"/>
                  </a:cubicBezTo>
                  <a:cubicBezTo>
                    <a:pt x="144" y="199"/>
                    <a:pt x="157" y="199"/>
                    <a:pt x="141" y="210"/>
                  </a:cubicBezTo>
                  <a:cubicBezTo>
                    <a:pt x="139" y="216"/>
                    <a:pt x="143" y="215"/>
                    <a:pt x="145" y="219"/>
                  </a:cubicBezTo>
                  <a:cubicBezTo>
                    <a:pt x="147" y="223"/>
                    <a:pt x="152" y="230"/>
                    <a:pt x="151" y="236"/>
                  </a:cubicBezTo>
                  <a:cubicBezTo>
                    <a:pt x="150" y="242"/>
                    <a:pt x="142" y="247"/>
                    <a:pt x="138" y="254"/>
                  </a:cubicBezTo>
                  <a:cubicBezTo>
                    <a:pt x="133" y="258"/>
                    <a:pt x="130" y="276"/>
                    <a:pt x="124" y="279"/>
                  </a:cubicBezTo>
                  <a:cubicBezTo>
                    <a:pt x="118" y="283"/>
                    <a:pt x="105" y="275"/>
                    <a:pt x="99" y="278"/>
                  </a:cubicBezTo>
                  <a:cubicBezTo>
                    <a:pt x="92" y="281"/>
                    <a:pt x="91" y="296"/>
                    <a:pt x="85" y="299"/>
                  </a:cubicBezTo>
                  <a:cubicBezTo>
                    <a:pt x="79" y="302"/>
                    <a:pt x="69" y="295"/>
                    <a:pt x="61" y="296"/>
                  </a:cubicBezTo>
                  <a:cubicBezTo>
                    <a:pt x="51" y="306"/>
                    <a:pt x="43" y="301"/>
                    <a:pt x="37" y="306"/>
                  </a:cubicBezTo>
                  <a:cubicBezTo>
                    <a:pt x="31" y="311"/>
                    <a:pt x="32" y="322"/>
                    <a:pt x="27" y="326"/>
                  </a:cubicBezTo>
                  <a:cubicBezTo>
                    <a:pt x="22" y="330"/>
                    <a:pt x="14" y="326"/>
                    <a:pt x="10" y="330"/>
                  </a:cubicBezTo>
                  <a:cubicBezTo>
                    <a:pt x="7" y="334"/>
                    <a:pt x="0" y="345"/>
                    <a:pt x="3" y="348"/>
                  </a:cubicBezTo>
                  <a:cubicBezTo>
                    <a:pt x="5" y="351"/>
                    <a:pt x="9" y="379"/>
                    <a:pt x="15" y="380"/>
                  </a:cubicBez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未知"/>
            <p:cNvSpPr/>
            <p:nvPr/>
          </p:nvSpPr>
          <p:spPr>
            <a:xfrm>
              <a:off x="923760" y="2679840"/>
              <a:ext cx="1960200" cy="2350080"/>
            </a:xfrm>
            <a:custGeom>
              <a:avLst/>
              <a:gdLst/>
              <a:ahLst/>
              <a:rect l="l" t="t" r="r" b="b"/>
              <a:pathLst>
                <a:path w="987" h="1183">
                  <a:moveTo>
                    <a:pt x="401" y="3"/>
                  </a:moveTo>
                  <a:cubicBezTo>
                    <a:pt x="393" y="0"/>
                    <a:pt x="388" y="7"/>
                    <a:pt x="380" y="4"/>
                  </a:cubicBezTo>
                  <a:cubicBezTo>
                    <a:pt x="376" y="3"/>
                    <a:pt x="361" y="0"/>
                    <a:pt x="361" y="0"/>
                  </a:cubicBezTo>
                  <a:cubicBezTo>
                    <a:pt x="342" y="1"/>
                    <a:pt x="324" y="2"/>
                    <a:pt x="305" y="4"/>
                  </a:cubicBezTo>
                  <a:cubicBezTo>
                    <a:pt x="296" y="5"/>
                    <a:pt x="284" y="6"/>
                    <a:pt x="275" y="7"/>
                  </a:cubicBezTo>
                  <a:cubicBezTo>
                    <a:pt x="262" y="9"/>
                    <a:pt x="241" y="26"/>
                    <a:pt x="229" y="28"/>
                  </a:cubicBezTo>
                  <a:cubicBezTo>
                    <a:pt x="217" y="30"/>
                    <a:pt x="214" y="20"/>
                    <a:pt x="205" y="19"/>
                  </a:cubicBezTo>
                  <a:cubicBezTo>
                    <a:pt x="196" y="18"/>
                    <a:pt x="180" y="16"/>
                    <a:pt x="173" y="20"/>
                  </a:cubicBezTo>
                  <a:cubicBezTo>
                    <a:pt x="171" y="32"/>
                    <a:pt x="171" y="37"/>
                    <a:pt x="161" y="46"/>
                  </a:cubicBezTo>
                  <a:cubicBezTo>
                    <a:pt x="154" y="52"/>
                    <a:pt x="136" y="58"/>
                    <a:pt x="136" y="58"/>
                  </a:cubicBezTo>
                  <a:cubicBezTo>
                    <a:pt x="125" y="75"/>
                    <a:pt x="115" y="98"/>
                    <a:pt x="109" y="116"/>
                  </a:cubicBezTo>
                  <a:cubicBezTo>
                    <a:pt x="108" y="129"/>
                    <a:pt x="99" y="128"/>
                    <a:pt x="95" y="141"/>
                  </a:cubicBezTo>
                  <a:cubicBezTo>
                    <a:pt x="89" y="148"/>
                    <a:pt x="79" y="144"/>
                    <a:pt x="71" y="150"/>
                  </a:cubicBezTo>
                  <a:cubicBezTo>
                    <a:pt x="63" y="156"/>
                    <a:pt x="54" y="164"/>
                    <a:pt x="47" y="177"/>
                  </a:cubicBezTo>
                  <a:cubicBezTo>
                    <a:pt x="47" y="177"/>
                    <a:pt x="32" y="220"/>
                    <a:pt x="28" y="226"/>
                  </a:cubicBezTo>
                  <a:cubicBezTo>
                    <a:pt x="23" y="233"/>
                    <a:pt x="0" y="253"/>
                    <a:pt x="10" y="252"/>
                  </a:cubicBezTo>
                  <a:cubicBezTo>
                    <a:pt x="7" y="267"/>
                    <a:pt x="25" y="303"/>
                    <a:pt x="25" y="319"/>
                  </a:cubicBezTo>
                  <a:cubicBezTo>
                    <a:pt x="25" y="335"/>
                    <a:pt x="13" y="333"/>
                    <a:pt x="11" y="346"/>
                  </a:cubicBezTo>
                  <a:cubicBezTo>
                    <a:pt x="9" y="359"/>
                    <a:pt x="5" y="378"/>
                    <a:pt x="13" y="396"/>
                  </a:cubicBezTo>
                  <a:cubicBezTo>
                    <a:pt x="34" y="426"/>
                    <a:pt x="44" y="436"/>
                    <a:pt x="58" y="453"/>
                  </a:cubicBezTo>
                  <a:cubicBezTo>
                    <a:pt x="72" y="470"/>
                    <a:pt x="88" y="489"/>
                    <a:pt x="97" y="499"/>
                  </a:cubicBezTo>
                  <a:cubicBezTo>
                    <a:pt x="105" y="504"/>
                    <a:pt x="115" y="513"/>
                    <a:pt x="115" y="513"/>
                  </a:cubicBezTo>
                  <a:cubicBezTo>
                    <a:pt x="123" y="516"/>
                    <a:pt x="136" y="531"/>
                    <a:pt x="148" y="531"/>
                  </a:cubicBezTo>
                  <a:cubicBezTo>
                    <a:pt x="160" y="531"/>
                    <a:pt x="176" y="514"/>
                    <a:pt x="188" y="514"/>
                  </a:cubicBezTo>
                  <a:cubicBezTo>
                    <a:pt x="200" y="514"/>
                    <a:pt x="213" y="530"/>
                    <a:pt x="221" y="531"/>
                  </a:cubicBezTo>
                  <a:cubicBezTo>
                    <a:pt x="229" y="532"/>
                    <a:pt x="229" y="524"/>
                    <a:pt x="238" y="519"/>
                  </a:cubicBezTo>
                  <a:cubicBezTo>
                    <a:pt x="251" y="510"/>
                    <a:pt x="260" y="507"/>
                    <a:pt x="275" y="502"/>
                  </a:cubicBezTo>
                  <a:cubicBezTo>
                    <a:pt x="291" y="504"/>
                    <a:pt x="308" y="486"/>
                    <a:pt x="321" y="496"/>
                  </a:cubicBezTo>
                  <a:cubicBezTo>
                    <a:pt x="330" y="503"/>
                    <a:pt x="332" y="533"/>
                    <a:pt x="343" y="537"/>
                  </a:cubicBezTo>
                  <a:cubicBezTo>
                    <a:pt x="354" y="541"/>
                    <a:pt x="362" y="530"/>
                    <a:pt x="374" y="531"/>
                  </a:cubicBezTo>
                  <a:cubicBezTo>
                    <a:pt x="381" y="533"/>
                    <a:pt x="395" y="542"/>
                    <a:pt x="397" y="549"/>
                  </a:cubicBezTo>
                  <a:cubicBezTo>
                    <a:pt x="399" y="556"/>
                    <a:pt x="391" y="563"/>
                    <a:pt x="388" y="574"/>
                  </a:cubicBezTo>
                  <a:cubicBezTo>
                    <a:pt x="385" y="585"/>
                    <a:pt x="377" y="604"/>
                    <a:pt x="379" y="618"/>
                  </a:cubicBezTo>
                  <a:cubicBezTo>
                    <a:pt x="384" y="644"/>
                    <a:pt x="383" y="630"/>
                    <a:pt x="403" y="657"/>
                  </a:cubicBezTo>
                  <a:cubicBezTo>
                    <a:pt x="410" y="669"/>
                    <a:pt x="423" y="673"/>
                    <a:pt x="427" y="681"/>
                  </a:cubicBezTo>
                  <a:cubicBezTo>
                    <a:pt x="431" y="689"/>
                    <a:pt x="423" y="696"/>
                    <a:pt x="425" y="704"/>
                  </a:cubicBezTo>
                  <a:cubicBezTo>
                    <a:pt x="428" y="712"/>
                    <a:pt x="440" y="722"/>
                    <a:pt x="442" y="730"/>
                  </a:cubicBezTo>
                  <a:cubicBezTo>
                    <a:pt x="444" y="738"/>
                    <a:pt x="434" y="744"/>
                    <a:pt x="436" y="753"/>
                  </a:cubicBezTo>
                  <a:cubicBezTo>
                    <a:pt x="436" y="768"/>
                    <a:pt x="456" y="774"/>
                    <a:pt x="454" y="787"/>
                  </a:cubicBezTo>
                  <a:cubicBezTo>
                    <a:pt x="452" y="800"/>
                    <a:pt x="431" y="820"/>
                    <a:pt x="425" y="832"/>
                  </a:cubicBezTo>
                  <a:cubicBezTo>
                    <a:pt x="424" y="840"/>
                    <a:pt x="417" y="856"/>
                    <a:pt x="417" y="856"/>
                  </a:cubicBezTo>
                  <a:cubicBezTo>
                    <a:pt x="420" y="894"/>
                    <a:pt x="418" y="915"/>
                    <a:pt x="449" y="936"/>
                  </a:cubicBezTo>
                  <a:cubicBezTo>
                    <a:pt x="455" y="955"/>
                    <a:pt x="459" y="951"/>
                    <a:pt x="463" y="970"/>
                  </a:cubicBezTo>
                  <a:cubicBezTo>
                    <a:pt x="464" y="979"/>
                    <a:pt x="453" y="975"/>
                    <a:pt x="455" y="988"/>
                  </a:cubicBezTo>
                  <a:cubicBezTo>
                    <a:pt x="457" y="1001"/>
                    <a:pt x="466" y="1034"/>
                    <a:pt x="473" y="1051"/>
                  </a:cubicBezTo>
                  <a:cubicBezTo>
                    <a:pt x="482" y="1067"/>
                    <a:pt x="490" y="1072"/>
                    <a:pt x="497" y="1092"/>
                  </a:cubicBezTo>
                  <a:cubicBezTo>
                    <a:pt x="498" y="1096"/>
                    <a:pt x="501" y="1104"/>
                    <a:pt x="501" y="1104"/>
                  </a:cubicBezTo>
                  <a:cubicBezTo>
                    <a:pt x="502" y="1109"/>
                    <a:pt x="512" y="1117"/>
                    <a:pt x="514" y="1123"/>
                  </a:cubicBezTo>
                  <a:cubicBezTo>
                    <a:pt x="516" y="1129"/>
                    <a:pt x="509" y="1135"/>
                    <a:pt x="511" y="1143"/>
                  </a:cubicBezTo>
                  <a:cubicBezTo>
                    <a:pt x="513" y="1151"/>
                    <a:pt x="522" y="1169"/>
                    <a:pt x="529" y="1172"/>
                  </a:cubicBezTo>
                  <a:cubicBezTo>
                    <a:pt x="538" y="1183"/>
                    <a:pt x="538" y="1164"/>
                    <a:pt x="551" y="1162"/>
                  </a:cubicBezTo>
                  <a:cubicBezTo>
                    <a:pt x="564" y="1160"/>
                    <a:pt x="591" y="1164"/>
                    <a:pt x="607" y="1161"/>
                  </a:cubicBezTo>
                  <a:cubicBezTo>
                    <a:pt x="615" y="1157"/>
                    <a:pt x="636" y="1149"/>
                    <a:pt x="646" y="1146"/>
                  </a:cubicBezTo>
                  <a:cubicBezTo>
                    <a:pt x="665" y="1133"/>
                    <a:pt x="668" y="1120"/>
                    <a:pt x="688" y="1101"/>
                  </a:cubicBezTo>
                  <a:cubicBezTo>
                    <a:pt x="698" y="1089"/>
                    <a:pt x="717" y="1057"/>
                    <a:pt x="722" y="1044"/>
                  </a:cubicBezTo>
                  <a:cubicBezTo>
                    <a:pt x="727" y="1031"/>
                    <a:pt x="713" y="1030"/>
                    <a:pt x="718" y="1023"/>
                  </a:cubicBezTo>
                  <a:cubicBezTo>
                    <a:pt x="725" y="1006"/>
                    <a:pt x="747" y="1012"/>
                    <a:pt x="754" y="1003"/>
                  </a:cubicBezTo>
                  <a:cubicBezTo>
                    <a:pt x="761" y="994"/>
                    <a:pt x="760" y="977"/>
                    <a:pt x="758" y="966"/>
                  </a:cubicBezTo>
                  <a:cubicBezTo>
                    <a:pt x="756" y="955"/>
                    <a:pt x="740" y="946"/>
                    <a:pt x="740" y="939"/>
                  </a:cubicBezTo>
                  <a:cubicBezTo>
                    <a:pt x="740" y="932"/>
                    <a:pt x="751" y="928"/>
                    <a:pt x="758" y="921"/>
                  </a:cubicBezTo>
                  <a:cubicBezTo>
                    <a:pt x="762" y="907"/>
                    <a:pt x="774" y="905"/>
                    <a:pt x="784" y="894"/>
                  </a:cubicBezTo>
                  <a:cubicBezTo>
                    <a:pt x="792" y="886"/>
                    <a:pt x="805" y="882"/>
                    <a:pt x="805" y="882"/>
                  </a:cubicBezTo>
                  <a:cubicBezTo>
                    <a:pt x="810" y="877"/>
                    <a:pt x="815" y="870"/>
                    <a:pt x="820" y="864"/>
                  </a:cubicBezTo>
                  <a:cubicBezTo>
                    <a:pt x="825" y="858"/>
                    <a:pt x="831" y="858"/>
                    <a:pt x="832" y="844"/>
                  </a:cubicBezTo>
                  <a:cubicBezTo>
                    <a:pt x="833" y="830"/>
                    <a:pt x="829" y="796"/>
                    <a:pt x="826" y="780"/>
                  </a:cubicBezTo>
                  <a:cubicBezTo>
                    <a:pt x="823" y="764"/>
                    <a:pt x="812" y="760"/>
                    <a:pt x="811" y="750"/>
                  </a:cubicBezTo>
                  <a:cubicBezTo>
                    <a:pt x="810" y="740"/>
                    <a:pt x="819" y="728"/>
                    <a:pt x="818" y="721"/>
                  </a:cubicBezTo>
                  <a:cubicBezTo>
                    <a:pt x="817" y="714"/>
                    <a:pt x="802" y="714"/>
                    <a:pt x="802" y="706"/>
                  </a:cubicBezTo>
                  <a:cubicBezTo>
                    <a:pt x="803" y="675"/>
                    <a:pt x="810" y="683"/>
                    <a:pt x="815" y="672"/>
                  </a:cubicBezTo>
                  <a:cubicBezTo>
                    <a:pt x="820" y="661"/>
                    <a:pt x="827" y="654"/>
                    <a:pt x="835" y="642"/>
                  </a:cubicBezTo>
                  <a:cubicBezTo>
                    <a:pt x="846" y="626"/>
                    <a:pt x="860" y="616"/>
                    <a:pt x="866" y="597"/>
                  </a:cubicBezTo>
                  <a:cubicBezTo>
                    <a:pt x="875" y="584"/>
                    <a:pt x="888" y="578"/>
                    <a:pt x="899" y="568"/>
                  </a:cubicBezTo>
                  <a:cubicBezTo>
                    <a:pt x="910" y="558"/>
                    <a:pt x="926" y="546"/>
                    <a:pt x="934" y="537"/>
                  </a:cubicBezTo>
                  <a:cubicBezTo>
                    <a:pt x="944" y="524"/>
                    <a:pt x="943" y="522"/>
                    <a:pt x="947" y="513"/>
                  </a:cubicBezTo>
                  <a:cubicBezTo>
                    <a:pt x="951" y="504"/>
                    <a:pt x="955" y="492"/>
                    <a:pt x="959" y="483"/>
                  </a:cubicBezTo>
                  <a:cubicBezTo>
                    <a:pt x="963" y="480"/>
                    <a:pt x="973" y="459"/>
                    <a:pt x="973" y="459"/>
                  </a:cubicBezTo>
                  <a:cubicBezTo>
                    <a:pt x="976" y="453"/>
                    <a:pt x="985" y="435"/>
                    <a:pt x="986" y="426"/>
                  </a:cubicBezTo>
                  <a:cubicBezTo>
                    <a:pt x="987" y="417"/>
                    <a:pt x="983" y="406"/>
                    <a:pt x="979" y="406"/>
                  </a:cubicBezTo>
                  <a:cubicBezTo>
                    <a:pt x="975" y="406"/>
                    <a:pt x="969" y="422"/>
                    <a:pt x="964" y="424"/>
                  </a:cubicBezTo>
                  <a:cubicBezTo>
                    <a:pt x="959" y="426"/>
                    <a:pt x="955" y="417"/>
                    <a:pt x="947" y="418"/>
                  </a:cubicBezTo>
                  <a:cubicBezTo>
                    <a:pt x="939" y="419"/>
                    <a:pt x="927" y="426"/>
                    <a:pt x="917" y="429"/>
                  </a:cubicBezTo>
                  <a:cubicBezTo>
                    <a:pt x="907" y="432"/>
                    <a:pt x="893" y="437"/>
                    <a:pt x="887" y="435"/>
                  </a:cubicBezTo>
                  <a:cubicBezTo>
                    <a:pt x="881" y="433"/>
                    <a:pt x="881" y="420"/>
                    <a:pt x="880" y="417"/>
                  </a:cubicBezTo>
                  <a:cubicBezTo>
                    <a:pt x="879" y="414"/>
                    <a:pt x="886" y="423"/>
                    <a:pt x="883" y="418"/>
                  </a:cubicBezTo>
                  <a:cubicBezTo>
                    <a:pt x="863" y="407"/>
                    <a:pt x="867" y="396"/>
                    <a:pt x="860" y="388"/>
                  </a:cubicBezTo>
                  <a:cubicBezTo>
                    <a:pt x="853" y="380"/>
                    <a:pt x="850" y="379"/>
                    <a:pt x="842" y="372"/>
                  </a:cubicBezTo>
                  <a:cubicBezTo>
                    <a:pt x="836" y="359"/>
                    <a:pt x="817" y="352"/>
                    <a:pt x="812" y="343"/>
                  </a:cubicBezTo>
                  <a:cubicBezTo>
                    <a:pt x="807" y="334"/>
                    <a:pt x="817" y="321"/>
                    <a:pt x="814" y="315"/>
                  </a:cubicBezTo>
                  <a:cubicBezTo>
                    <a:pt x="811" y="309"/>
                    <a:pt x="799" y="309"/>
                    <a:pt x="793" y="304"/>
                  </a:cubicBezTo>
                  <a:cubicBezTo>
                    <a:pt x="785" y="296"/>
                    <a:pt x="779" y="286"/>
                    <a:pt x="779" y="286"/>
                  </a:cubicBezTo>
                  <a:cubicBezTo>
                    <a:pt x="775" y="277"/>
                    <a:pt x="784" y="267"/>
                    <a:pt x="779" y="253"/>
                  </a:cubicBezTo>
                  <a:cubicBezTo>
                    <a:pt x="774" y="239"/>
                    <a:pt x="762" y="224"/>
                    <a:pt x="751" y="202"/>
                  </a:cubicBezTo>
                  <a:cubicBezTo>
                    <a:pt x="752" y="174"/>
                    <a:pt x="710" y="148"/>
                    <a:pt x="713" y="120"/>
                  </a:cubicBezTo>
                  <a:cubicBezTo>
                    <a:pt x="714" y="115"/>
                    <a:pt x="722" y="113"/>
                    <a:pt x="721" y="108"/>
                  </a:cubicBezTo>
                  <a:cubicBezTo>
                    <a:pt x="719" y="100"/>
                    <a:pt x="696" y="88"/>
                    <a:pt x="694" y="88"/>
                  </a:cubicBezTo>
                  <a:cubicBezTo>
                    <a:pt x="684" y="85"/>
                    <a:pt x="680" y="96"/>
                    <a:pt x="668" y="97"/>
                  </a:cubicBezTo>
                  <a:cubicBezTo>
                    <a:pt x="658" y="97"/>
                    <a:pt x="641" y="89"/>
                    <a:pt x="632" y="87"/>
                  </a:cubicBezTo>
                  <a:cubicBezTo>
                    <a:pt x="623" y="85"/>
                    <a:pt x="622" y="87"/>
                    <a:pt x="614" y="85"/>
                  </a:cubicBezTo>
                  <a:cubicBezTo>
                    <a:pt x="596" y="82"/>
                    <a:pt x="592" y="75"/>
                    <a:pt x="583" y="72"/>
                  </a:cubicBezTo>
                  <a:cubicBezTo>
                    <a:pt x="574" y="69"/>
                    <a:pt x="568" y="64"/>
                    <a:pt x="561" y="64"/>
                  </a:cubicBezTo>
                  <a:cubicBezTo>
                    <a:pt x="547" y="61"/>
                    <a:pt x="546" y="71"/>
                    <a:pt x="542" y="75"/>
                  </a:cubicBezTo>
                  <a:cubicBezTo>
                    <a:pt x="540" y="77"/>
                    <a:pt x="541" y="82"/>
                    <a:pt x="539" y="88"/>
                  </a:cubicBezTo>
                  <a:cubicBezTo>
                    <a:pt x="537" y="94"/>
                    <a:pt x="535" y="108"/>
                    <a:pt x="530" y="109"/>
                  </a:cubicBezTo>
                  <a:cubicBezTo>
                    <a:pt x="525" y="110"/>
                    <a:pt x="514" y="99"/>
                    <a:pt x="508" y="96"/>
                  </a:cubicBezTo>
                  <a:cubicBezTo>
                    <a:pt x="502" y="93"/>
                    <a:pt x="500" y="98"/>
                    <a:pt x="491" y="93"/>
                  </a:cubicBezTo>
                  <a:cubicBezTo>
                    <a:pt x="477" y="94"/>
                    <a:pt x="468" y="69"/>
                    <a:pt x="454" y="64"/>
                  </a:cubicBezTo>
                  <a:cubicBezTo>
                    <a:pt x="440" y="59"/>
                    <a:pt x="416" y="66"/>
                    <a:pt x="409" y="61"/>
                  </a:cubicBezTo>
                  <a:cubicBezTo>
                    <a:pt x="390" y="51"/>
                    <a:pt x="411" y="41"/>
                    <a:pt x="410" y="31"/>
                  </a:cubicBezTo>
                  <a:cubicBezTo>
                    <a:pt x="409" y="21"/>
                    <a:pt x="403" y="9"/>
                    <a:pt x="401" y="3"/>
                  </a:cubicBez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未知"/>
            <p:cNvSpPr/>
            <p:nvPr/>
          </p:nvSpPr>
          <p:spPr>
            <a:xfrm>
              <a:off x="4592520" y="4213800"/>
              <a:ext cx="1179360" cy="925200"/>
            </a:xfrm>
            <a:custGeom>
              <a:avLst/>
              <a:gdLst/>
              <a:ahLst/>
              <a:rect l="l" t="t" r="r" b="b"/>
              <a:pathLst>
                <a:path w="594" h="466">
                  <a:moveTo>
                    <a:pt x="353" y="30"/>
                  </a:moveTo>
                  <a:cubicBezTo>
                    <a:pt x="352" y="25"/>
                    <a:pt x="337" y="27"/>
                    <a:pt x="327" y="30"/>
                  </a:cubicBezTo>
                  <a:cubicBezTo>
                    <a:pt x="318" y="26"/>
                    <a:pt x="301" y="9"/>
                    <a:pt x="296" y="9"/>
                  </a:cubicBezTo>
                  <a:cubicBezTo>
                    <a:pt x="291" y="9"/>
                    <a:pt x="296" y="30"/>
                    <a:pt x="294" y="33"/>
                  </a:cubicBezTo>
                  <a:cubicBezTo>
                    <a:pt x="291" y="40"/>
                    <a:pt x="289" y="21"/>
                    <a:pt x="281" y="29"/>
                  </a:cubicBezTo>
                  <a:cubicBezTo>
                    <a:pt x="277" y="28"/>
                    <a:pt x="273" y="30"/>
                    <a:pt x="272" y="27"/>
                  </a:cubicBezTo>
                  <a:cubicBezTo>
                    <a:pt x="271" y="24"/>
                    <a:pt x="278" y="13"/>
                    <a:pt x="276" y="9"/>
                  </a:cubicBezTo>
                  <a:cubicBezTo>
                    <a:pt x="274" y="5"/>
                    <a:pt x="260" y="0"/>
                    <a:pt x="258" y="5"/>
                  </a:cubicBezTo>
                  <a:cubicBezTo>
                    <a:pt x="256" y="10"/>
                    <a:pt x="267" y="32"/>
                    <a:pt x="266" y="38"/>
                  </a:cubicBezTo>
                  <a:cubicBezTo>
                    <a:pt x="265" y="44"/>
                    <a:pt x="252" y="38"/>
                    <a:pt x="249" y="44"/>
                  </a:cubicBezTo>
                  <a:cubicBezTo>
                    <a:pt x="246" y="50"/>
                    <a:pt x="251" y="74"/>
                    <a:pt x="245" y="75"/>
                  </a:cubicBezTo>
                  <a:cubicBezTo>
                    <a:pt x="240" y="80"/>
                    <a:pt x="219" y="50"/>
                    <a:pt x="213" y="51"/>
                  </a:cubicBezTo>
                  <a:cubicBezTo>
                    <a:pt x="204" y="50"/>
                    <a:pt x="196" y="61"/>
                    <a:pt x="189" y="68"/>
                  </a:cubicBezTo>
                  <a:cubicBezTo>
                    <a:pt x="182" y="78"/>
                    <a:pt x="182" y="85"/>
                    <a:pt x="173" y="93"/>
                  </a:cubicBezTo>
                  <a:cubicBezTo>
                    <a:pt x="169" y="100"/>
                    <a:pt x="171" y="118"/>
                    <a:pt x="167" y="120"/>
                  </a:cubicBezTo>
                  <a:cubicBezTo>
                    <a:pt x="163" y="122"/>
                    <a:pt x="154" y="103"/>
                    <a:pt x="150" y="102"/>
                  </a:cubicBezTo>
                  <a:cubicBezTo>
                    <a:pt x="146" y="101"/>
                    <a:pt x="141" y="107"/>
                    <a:pt x="140" y="111"/>
                  </a:cubicBezTo>
                  <a:cubicBezTo>
                    <a:pt x="139" y="115"/>
                    <a:pt x="145" y="123"/>
                    <a:pt x="143" y="129"/>
                  </a:cubicBezTo>
                  <a:cubicBezTo>
                    <a:pt x="133" y="132"/>
                    <a:pt x="134" y="144"/>
                    <a:pt x="126" y="150"/>
                  </a:cubicBezTo>
                  <a:cubicBezTo>
                    <a:pt x="117" y="155"/>
                    <a:pt x="100" y="159"/>
                    <a:pt x="89" y="161"/>
                  </a:cubicBezTo>
                  <a:cubicBezTo>
                    <a:pt x="79" y="164"/>
                    <a:pt x="67" y="161"/>
                    <a:pt x="60" y="164"/>
                  </a:cubicBezTo>
                  <a:cubicBezTo>
                    <a:pt x="53" y="167"/>
                    <a:pt x="53" y="174"/>
                    <a:pt x="48" y="179"/>
                  </a:cubicBezTo>
                  <a:cubicBezTo>
                    <a:pt x="43" y="184"/>
                    <a:pt x="31" y="179"/>
                    <a:pt x="29" y="192"/>
                  </a:cubicBezTo>
                  <a:cubicBezTo>
                    <a:pt x="0" y="212"/>
                    <a:pt x="15" y="231"/>
                    <a:pt x="33" y="258"/>
                  </a:cubicBezTo>
                  <a:cubicBezTo>
                    <a:pt x="38" y="266"/>
                    <a:pt x="18" y="266"/>
                    <a:pt x="18" y="266"/>
                  </a:cubicBezTo>
                  <a:cubicBezTo>
                    <a:pt x="18" y="274"/>
                    <a:pt x="34" y="292"/>
                    <a:pt x="38" y="302"/>
                  </a:cubicBezTo>
                  <a:cubicBezTo>
                    <a:pt x="42" y="312"/>
                    <a:pt x="38" y="317"/>
                    <a:pt x="41" y="326"/>
                  </a:cubicBezTo>
                  <a:cubicBezTo>
                    <a:pt x="44" y="335"/>
                    <a:pt x="56" y="349"/>
                    <a:pt x="56" y="359"/>
                  </a:cubicBezTo>
                  <a:cubicBezTo>
                    <a:pt x="56" y="369"/>
                    <a:pt x="38" y="378"/>
                    <a:pt x="41" y="386"/>
                  </a:cubicBezTo>
                  <a:cubicBezTo>
                    <a:pt x="44" y="394"/>
                    <a:pt x="59" y="406"/>
                    <a:pt x="72" y="406"/>
                  </a:cubicBezTo>
                  <a:cubicBezTo>
                    <a:pt x="86" y="405"/>
                    <a:pt x="102" y="389"/>
                    <a:pt x="117" y="384"/>
                  </a:cubicBezTo>
                  <a:cubicBezTo>
                    <a:pt x="131" y="382"/>
                    <a:pt x="146" y="392"/>
                    <a:pt x="155" y="392"/>
                  </a:cubicBezTo>
                  <a:cubicBezTo>
                    <a:pt x="164" y="392"/>
                    <a:pt x="167" y="388"/>
                    <a:pt x="171" y="384"/>
                  </a:cubicBezTo>
                  <a:cubicBezTo>
                    <a:pt x="175" y="380"/>
                    <a:pt x="174" y="374"/>
                    <a:pt x="179" y="369"/>
                  </a:cubicBezTo>
                  <a:cubicBezTo>
                    <a:pt x="184" y="366"/>
                    <a:pt x="185" y="356"/>
                    <a:pt x="201" y="356"/>
                  </a:cubicBezTo>
                  <a:cubicBezTo>
                    <a:pt x="208" y="355"/>
                    <a:pt x="216" y="363"/>
                    <a:pt x="222" y="362"/>
                  </a:cubicBezTo>
                  <a:cubicBezTo>
                    <a:pt x="228" y="361"/>
                    <a:pt x="228" y="351"/>
                    <a:pt x="236" y="348"/>
                  </a:cubicBezTo>
                  <a:cubicBezTo>
                    <a:pt x="244" y="345"/>
                    <a:pt x="256" y="340"/>
                    <a:pt x="270" y="344"/>
                  </a:cubicBezTo>
                  <a:cubicBezTo>
                    <a:pt x="311" y="356"/>
                    <a:pt x="295" y="356"/>
                    <a:pt x="318" y="374"/>
                  </a:cubicBezTo>
                  <a:cubicBezTo>
                    <a:pt x="328" y="381"/>
                    <a:pt x="323" y="394"/>
                    <a:pt x="326" y="398"/>
                  </a:cubicBezTo>
                  <a:cubicBezTo>
                    <a:pt x="330" y="402"/>
                    <a:pt x="338" y="400"/>
                    <a:pt x="342" y="398"/>
                  </a:cubicBezTo>
                  <a:cubicBezTo>
                    <a:pt x="345" y="396"/>
                    <a:pt x="346" y="393"/>
                    <a:pt x="350" y="387"/>
                  </a:cubicBezTo>
                  <a:cubicBezTo>
                    <a:pt x="354" y="381"/>
                    <a:pt x="362" y="365"/>
                    <a:pt x="366" y="362"/>
                  </a:cubicBezTo>
                  <a:cubicBezTo>
                    <a:pt x="370" y="359"/>
                    <a:pt x="373" y="364"/>
                    <a:pt x="372" y="369"/>
                  </a:cubicBezTo>
                  <a:cubicBezTo>
                    <a:pt x="371" y="374"/>
                    <a:pt x="366" y="386"/>
                    <a:pt x="362" y="393"/>
                  </a:cubicBezTo>
                  <a:cubicBezTo>
                    <a:pt x="358" y="400"/>
                    <a:pt x="349" y="408"/>
                    <a:pt x="348" y="413"/>
                  </a:cubicBezTo>
                  <a:cubicBezTo>
                    <a:pt x="347" y="418"/>
                    <a:pt x="354" y="424"/>
                    <a:pt x="357" y="425"/>
                  </a:cubicBezTo>
                  <a:cubicBezTo>
                    <a:pt x="360" y="426"/>
                    <a:pt x="366" y="422"/>
                    <a:pt x="368" y="417"/>
                  </a:cubicBezTo>
                  <a:cubicBezTo>
                    <a:pt x="370" y="412"/>
                    <a:pt x="369" y="394"/>
                    <a:pt x="371" y="393"/>
                  </a:cubicBezTo>
                  <a:cubicBezTo>
                    <a:pt x="373" y="392"/>
                    <a:pt x="374" y="407"/>
                    <a:pt x="378" y="414"/>
                  </a:cubicBezTo>
                  <a:cubicBezTo>
                    <a:pt x="382" y="426"/>
                    <a:pt x="390" y="414"/>
                    <a:pt x="393" y="435"/>
                  </a:cubicBezTo>
                  <a:cubicBezTo>
                    <a:pt x="397" y="443"/>
                    <a:pt x="400" y="450"/>
                    <a:pt x="407" y="455"/>
                  </a:cubicBezTo>
                  <a:cubicBezTo>
                    <a:pt x="418" y="461"/>
                    <a:pt x="438" y="466"/>
                    <a:pt x="447" y="465"/>
                  </a:cubicBezTo>
                  <a:cubicBezTo>
                    <a:pt x="456" y="464"/>
                    <a:pt x="457" y="449"/>
                    <a:pt x="464" y="449"/>
                  </a:cubicBezTo>
                  <a:cubicBezTo>
                    <a:pt x="471" y="449"/>
                    <a:pt x="482" y="465"/>
                    <a:pt x="489" y="465"/>
                  </a:cubicBezTo>
                  <a:cubicBezTo>
                    <a:pt x="496" y="465"/>
                    <a:pt x="500" y="450"/>
                    <a:pt x="507" y="447"/>
                  </a:cubicBezTo>
                  <a:cubicBezTo>
                    <a:pt x="514" y="444"/>
                    <a:pt x="527" y="450"/>
                    <a:pt x="533" y="449"/>
                  </a:cubicBezTo>
                  <a:cubicBezTo>
                    <a:pt x="538" y="447"/>
                    <a:pt x="544" y="445"/>
                    <a:pt x="545" y="440"/>
                  </a:cubicBezTo>
                  <a:cubicBezTo>
                    <a:pt x="546" y="435"/>
                    <a:pt x="541" y="427"/>
                    <a:pt x="542" y="419"/>
                  </a:cubicBezTo>
                  <a:cubicBezTo>
                    <a:pt x="543" y="411"/>
                    <a:pt x="549" y="402"/>
                    <a:pt x="552" y="394"/>
                  </a:cubicBezTo>
                  <a:cubicBezTo>
                    <a:pt x="555" y="386"/>
                    <a:pt x="556" y="374"/>
                    <a:pt x="560" y="368"/>
                  </a:cubicBezTo>
                  <a:cubicBezTo>
                    <a:pt x="564" y="362"/>
                    <a:pt x="571" y="361"/>
                    <a:pt x="575" y="356"/>
                  </a:cubicBezTo>
                  <a:cubicBezTo>
                    <a:pt x="578" y="350"/>
                    <a:pt x="585" y="343"/>
                    <a:pt x="587" y="335"/>
                  </a:cubicBezTo>
                  <a:cubicBezTo>
                    <a:pt x="589" y="327"/>
                    <a:pt x="587" y="312"/>
                    <a:pt x="588" y="306"/>
                  </a:cubicBezTo>
                  <a:cubicBezTo>
                    <a:pt x="588" y="299"/>
                    <a:pt x="594" y="304"/>
                    <a:pt x="593" y="296"/>
                  </a:cubicBezTo>
                  <a:cubicBezTo>
                    <a:pt x="593" y="287"/>
                    <a:pt x="590" y="260"/>
                    <a:pt x="585" y="249"/>
                  </a:cubicBezTo>
                  <a:cubicBezTo>
                    <a:pt x="578" y="242"/>
                    <a:pt x="563" y="228"/>
                    <a:pt x="563" y="228"/>
                  </a:cubicBezTo>
                  <a:cubicBezTo>
                    <a:pt x="556" y="222"/>
                    <a:pt x="556" y="204"/>
                    <a:pt x="546" y="197"/>
                  </a:cubicBezTo>
                  <a:cubicBezTo>
                    <a:pt x="542" y="192"/>
                    <a:pt x="541" y="204"/>
                    <a:pt x="537" y="200"/>
                  </a:cubicBezTo>
                  <a:cubicBezTo>
                    <a:pt x="533" y="196"/>
                    <a:pt x="532" y="184"/>
                    <a:pt x="524" y="174"/>
                  </a:cubicBezTo>
                  <a:cubicBezTo>
                    <a:pt x="505" y="146"/>
                    <a:pt x="521" y="156"/>
                    <a:pt x="491" y="143"/>
                  </a:cubicBezTo>
                  <a:cubicBezTo>
                    <a:pt x="482" y="129"/>
                    <a:pt x="491" y="119"/>
                    <a:pt x="479" y="107"/>
                  </a:cubicBezTo>
                  <a:cubicBezTo>
                    <a:pt x="475" y="97"/>
                    <a:pt x="479" y="76"/>
                    <a:pt x="474" y="69"/>
                  </a:cubicBezTo>
                  <a:cubicBezTo>
                    <a:pt x="469" y="62"/>
                    <a:pt x="456" y="72"/>
                    <a:pt x="450" y="62"/>
                  </a:cubicBezTo>
                  <a:cubicBezTo>
                    <a:pt x="444" y="52"/>
                    <a:pt x="446" y="0"/>
                    <a:pt x="438" y="9"/>
                  </a:cubicBezTo>
                  <a:cubicBezTo>
                    <a:pt x="404" y="20"/>
                    <a:pt x="433" y="89"/>
                    <a:pt x="404" y="118"/>
                  </a:cubicBezTo>
                  <a:cubicBezTo>
                    <a:pt x="394" y="134"/>
                    <a:pt x="392" y="104"/>
                    <a:pt x="383" y="98"/>
                  </a:cubicBezTo>
                  <a:cubicBezTo>
                    <a:pt x="377" y="95"/>
                    <a:pt x="374" y="102"/>
                    <a:pt x="368" y="99"/>
                  </a:cubicBezTo>
                  <a:cubicBezTo>
                    <a:pt x="362" y="96"/>
                    <a:pt x="353" y="87"/>
                    <a:pt x="348" y="82"/>
                  </a:cubicBezTo>
                  <a:cubicBezTo>
                    <a:pt x="346" y="79"/>
                    <a:pt x="334" y="74"/>
                    <a:pt x="336" y="68"/>
                  </a:cubicBezTo>
                  <a:cubicBezTo>
                    <a:pt x="340" y="55"/>
                    <a:pt x="366" y="17"/>
                    <a:pt x="353" y="30"/>
                  </a:cubicBez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未知"/>
            <p:cNvSpPr/>
            <p:nvPr/>
          </p:nvSpPr>
          <p:spPr>
            <a:xfrm>
              <a:off x="6831000" y="1468080"/>
              <a:ext cx="3817440" cy="4211640"/>
            </a:xfrm>
            <a:custGeom>
              <a:avLst/>
              <a:gdLst/>
              <a:ahLst/>
              <a:rect l="l" t="t" r="r" b="b"/>
              <a:pathLst>
                <a:path w="1922" h="2120">
                  <a:moveTo>
                    <a:pt x="33" y="92"/>
                  </a:moveTo>
                  <a:cubicBezTo>
                    <a:pt x="28" y="96"/>
                    <a:pt x="33" y="104"/>
                    <a:pt x="35" y="112"/>
                  </a:cubicBezTo>
                  <a:cubicBezTo>
                    <a:pt x="40" y="117"/>
                    <a:pt x="55" y="117"/>
                    <a:pt x="65" y="120"/>
                  </a:cubicBezTo>
                  <a:cubicBezTo>
                    <a:pt x="69" y="122"/>
                    <a:pt x="107" y="123"/>
                    <a:pt x="95" y="130"/>
                  </a:cubicBezTo>
                  <a:cubicBezTo>
                    <a:pt x="98" y="133"/>
                    <a:pt x="92" y="139"/>
                    <a:pt x="85" y="140"/>
                  </a:cubicBezTo>
                  <a:cubicBezTo>
                    <a:pt x="78" y="141"/>
                    <a:pt x="65" y="133"/>
                    <a:pt x="53" y="134"/>
                  </a:cubicBezTo>
                  <a:cubicBezTo>
                    <a:pt x="41" y="135"/>
                    <a:pt x="14" y="137"/>
                    <a:pt x="11" y="144"/>
                  </a:cubicBezTo>
                  <a:cubicBezTo>
                    <a:pt x="0" y="150"/>
                    <a:pt x="40" y="170"/>
                    <a:pt x="35" y="178"/>
                  </a:cubicBezTo>
                  <a:cubicBezTo>
                    <a:pt x="52" y="181"/>
                    <a:pt x="101" y="163"/>
                    <a:pt x="111" y="164"/>
                  </a:cubicBezTo>
                  <a:cubicBezTo>
                    <a:pt x="121" y="165"/>
                    <a:pt x="107" y="177"/>
                    <a:pt x="95" y="182"/>
                  </a:cubicBezTo>
                  <a:cubicBezTo>
                    <a:pt x="83" y="187"/>
                    <a:pt x="48" y="190"/>
                    <a:pt x="37" y="196"/>
                  </a:cubicBezTo>
                  <a:cubicBezTo>
                    <a:pt x="55" y="190"/>
                    <a:pt x="14" y="207"/>
                    <a:pt x="29" y="218"/>
                  </a:cubicBezTo>
                  <a:cubicBezTo>
                    <a:pt x="38" y="232"/>
                    <a:pt x="9" y="229"/>
                    <a:pt x="21" y="242"/>
                  </a:cubicBezTo>
                  <a:cubicBezTo>
                    <a:pt x="23" y="246"/>
                    <a:pt x="17" y="254"/>
                    <a:pt x="43" y="250"/>
                  </a:cubicBezTo>
                  <a:cubicBezTo>
                    <a:pt x="47" y="248"/>
                    <a:pt x="42" y="233"/>
                    <a:pt x="47" y="232"/>
                  </a:cubicBezTo>
                  <a:cubicBezTo>
                    <a:pt x="52" y="231"/>
                    <a:pt x="63" y="243"/>
                    <a:pt x="71" y="244"/>
                  </a:cubicBezTo>
                  <a:cubicBezTo>
                    <a:pt x="79" y="245"/>
                    <a:pt x="88" y="237"/>
                    <a:pt x="93" y="240"/>
                  </a:cubicBezTo>
                  <a:cubicBezTo>
                    <a:pt x="98" y="243"/>
                    <a:pt x="92" y="262"/>
                    <a:pt x="99" y="264"/>
                  </a:cubicBezTo>
                  <a:cubicBezTo>
                    <a:pt x="106" y="266"/>
                    <a:pt x="125" y="255"/>
                    <a:pt x="133" y="254"/>
                  </a:cubicBezTo>
                  <a:cubicBezTo>
                    <a:pt x="141" y="253"/>
                    <a:pt x="145" y="256"/>
                    <a:pt x="147" y="260"/>
                  </a:cubicBezTo>
                  <a:cubicBezTo>
                    <a:pt x="149" y="264"/>
                    <a:pt x="150" y="270"/>
                    <a:pt x="145" y="276"/>
                  </a:cubicBezTo>
                  <a:cubicBezTo>
                    <a:pt x="140" y="282"/>
                    <a:pt x="127" y="293"/>
                    <a:pt x="117" y="298"/>
                  </a:cubicBezTo>
                  <a:cubicBezTo>
                    <a:pt x="107" y="303"/>
                    <a:pt x="93" y="300"/>
                    <a:pt x="83" y="304"/>
                  </a:cubicBezTo>
                  <a:cubicBezTo>
                    <a:pt x="73" y="308"/>
                    <a:pt x="59" y="315"/>
                    <a:pt x="57" y="320"/>
                  </a:cubicBezTo>
                  <a:cubicBezTo>
                    <a:pt x="55" y="325"/>
                    <a:pt x="65" y="332"/>
                    <a:pt x="71" y="332"/>
                  </a:cubicBezTo>
                  <a:cubicBezTo>
                    <a:pt x="77" y="332"/>
                    <a:pt x="85" y="322"/>
                    <a:pt x="93" y="320"/>
                  </a:cubicBezTo>
                  <a:cubicBezTo>
                    <a:pt x="101" y="318"/>
                    <a:pt x="108" y="323"/>
                    <a:pt x="117" y="322"/>
                  </a:cubicBezTo>
                  <a:cubicBezTo>
                    <a:pt x="126" y="321"/>
                    <a:pt x="143" y="316"/>
                    <a:pt x="149" y="312"/>
                  </a:cubicBezTo>
                  <a:cubicBezTo>
                    <a:pt x="155" y="308"/>
                    <a:pt x="144" y="301"/>
                    <a:pt x="151" y="296"/>
                  </a:cubicBezTo>
                  <a:cubicBezTo>
                    <a:pt x="158" y="291"/>
                    <a:pt x="180" y="284"/>
                    <a:pt x="189" y="280"/>
                  </a:cubicBezTo>
                  <a:cubicBezTo>
                    <a:pt x="198" y="276"/>
                    <a:pt x="202" y="271"/>
                    <a:pt x="205" y="274"/>
                  </a:cubicBezTo>
                  <a:cubicBezTo>
                    <a:pt x="208" y="277"/>
                    <a:pt x="201" y="298"/>
                    <a:pt x="207" y="298"/>
                  </a:cubicBezTo>
                  <a:cubicBezTo>
                    <a:pt x="213" y="298"/>
                    <a:pt x="237" y="277"/>
                    <a:pt x="239" y="272"/>
                  </a:cubicBezTo>
                  <a:cubicBezTo>
                    <a:pt x="241" y="267"/>
                    <a:pt x="223" y="273"/>
                    <a:pt x="219" y="270"/>
                  </a:cubicBezTo>
                  <a:cubicBezTo>
                    <a:pt x="215" y="267"/>
                    <a:pt x="211" y="258"/>
                    <a:pt x="213" y="254"/>
                  </a:cubicBezTo>
                  <a:cubicBezTo>
                    <a:pt x="222" y="250"/>
                    <a:pt x="224" y="251"/>
                    <a:pt x="233" y="248"/>
                  </a:cubicBezTo>
                  <a:cubicBezTo>
                    <a:pt x="245" y="245"/>
                    <a:pt x="253" y="254"/>
                    <a:pt x="253" y="254"/>
                  </a:cubicBezTo>
                  <a:cubicBezTo>
                    <a:pt x="259" y="250"/>
                    <a:pt x="288" y="248"/>
                    <a:pt x="293" y="240"/>
                  </a:cubicBezTo>
                  <a:cubicBezTo>
                    <a:pt x="301" y="235"/>
                    <a:pt x="296" y="223"/>
                    <a:pt x="303" y="224"/>
                  </a:cubicBezTo>
                  <a:cubicBezTo>
                    <a:pt x="321" y="228"/>
                    <a:pt x="314" y="243"/>
                    <a:pt x="333" y="244"/>
                  </a:cubicBezTo>
                  <a:cubicBezTo>
                    <a:pt x="344" y="247"/>
                    <a:pt x="352" y="247"/>
                    <a:pt x="367" y="246"/>
                  </a:cubicBezTo>
                  <a:cubicBezTo>
                    <a:pt x="378" y="247"/>
                    <a:pt x="388" y="250"/>
                    <a:pt x="399" y="252"/>
                  </a:cubicBezTo>
                  <a:cubicBezTo>
                    <a:pt x="410" y="254"/>
                    <a:pt x="419" y="253"/>
                    <a:pt x="431" y="258"/>
                  </a:cubicBezTo>
                  <a:cubicBezTo>
                    <a:pt x="447" y="261"/>
                    <a:pt x="456" y="276"/>
                    <a:pt x="471" y="284"/>
                  </a:cubicBezTo>
                  <a:cubicBezTo>
                    <a:pt x="479" y="289"/>
                    <a:pt x="503" y="314"/>
                    <a:pt x="503" y="314"/>
                  </a:cubicBezTo>
                  <a:cubicBezTo>
                    <a:pt x="513" y="322"/>
                    <a:pt x="492" y="341"/>
                    <a:pt x="501" y="346"/>
                  </a:cubicBezTo>
                  <a:cubicBezTo>
                    <a:pt x="506" y="356"/>
                    <a:pt x="526" y="373"/>
                    <a:pt x="531" y="372"/>
                  </a:cubicBezTo>
                  <a:cubicBezTo>
                    <a:pt x="536" y="371"/>
                    <a:pt x="528" y="346"/>
                    <a:pt x="529" y="340"/>
                  </a:cubicBezTo>
                  <a:cubicBezTo>
                    <a:pt x="530" y="334"/>
                    <a:pt x="535" y="334"/>
                    <a:pt x="539" y="336"/>
                  </a:cubicBezTo>
                  <a:cubicBezTo>
                    <a:pt x="543" y="338"/>
                    <a:pt x="548" y="343"/>
                    <a:pt x="555" y="354"/>
                  </a:cubicBezTo>
                  <a:cubicBezTo>
                    <a:pt x="577" y="364"/>
                    <a:pt x="567" y="384"/>
                    <a:pt x="581" y="404"/>
                  </a:cubicBezTo>
                  <a:cubicBezTo>
                    <a:pt x="591" y="417"/>
                    <a:pt x="613" y="414"/>
                    <a:pt x="623" y="428"/>
                  </a:cubicBezTo>
                  <a:cubicBezTo>
                    <a:pt x="629" y="438"/>
                    <a:pt x="626" y="440"/>
                    <a:pt x="633" y="474"/>
                  </a:cubicBezTo>
                  <a:cubicBezTo>
                    <a:pt x="635" y="488"/>
                    <a:pt x="634" y="504"/>
                    <a:pt x="633" y="512"/>
                  </a:cubicBezTo>
                  <a:cubicBezTo>
                    <a:pt x="632" y="520"/>
                    <a:pt x="625" y="516"/>
                    <a:pt x="625" y="522"/>
                  </a:cubicBezTo>
                  <a:cubicBezTo>
                    <a:pt x="625" y="528"/>
                    <a:pt x="635" y="542"/>
                    <a:pt x="635" y="550"/>
                  </a:cubicBezTo>
                  <a:cubicBezTo>
                    <a:pt x="635" y="558"/>
                    <a:pt x="621" y="557"/>
                    <a:pt x="625" y="568"/>
                  </a:cubicBezTo>
                  <a:cubicBezTo>
                    <a:pt x="629" y="579"/>
                    <a:pt x="651" y="599"/>
                    <a:pt x="661" y="614"/>
                  </a:cubicBezTo>
                  <a:cubicBezTo>
                    <a:pt x="671" y="628"/>
                    <a:pt x="678" y="648"/>
                    <a:pt x="685" y="656"/>
                  </a:cubicBezTo>
                  <a:cubicBezTo>
                    <a:pt x="692" y="664"/>
                    <a:pt x="694" y="657"/>
                    <a:pt x="702" y="661"/>
                  </a:cubicBezTo>
                  <a:cubicBezTo>
                    <a:pt x="706" y="669"/>
                    <a:pt x="728" y="673"/>
                    <a:pt x="733" y="680"/>
                  </a:cubicBezTo>
                  <a:cubicBezTo>
                    <a:pt x="738" y="688"/>
                    <a:pt x="751" y="736"/>
                    <a:pt x="751" y="736"/>
                  </a:cubicBezTo>
                  <a:cubicBezTo>
                    <a:pt x="755" y="749"/>
                    <a:pt x="762" y="744"/>
                    <a:pt x="763" y="750"/>
                  </a:cubicBezTo>
                  <a:cubicBezTo>
                    <a:pt x="764" y="756"/>
                    <a:pt x="755" y="765"/>
                    <a:pt x="757" y="772"/>
                  </a:cubicBezTo>
                  <a:cubicBezTo>
                    <a:pt x="759" y="779"/>
                    <a:pt x="771" y="786"/>
                    <a:pt x="777" y="790"/>
                  </a:cubicBezTo>
                  <a:cubicBezTo>
                    <a:pt x="783" y="794"/>
                    <a:pt x="787" y="788"/>
                    <a:pt x="793" y="794"/>
                  </a:cubicBezTo>
                  <a:cubicBezTo>
                    <a:pt x="804" y="808"/>
                    <a:pt x="805" y="819"/>
                    <a:pt x="813" y="828"/>
                  </a:cubicBezTo>
                  <a:cubicBezTo>
                    <a:pt x="821" y="837"/>
                    <a:pt x="842" y="852"/>
                    <a:pt x="843" y="846"/>
                  </a:cubicBezTo>
                  <a:cubicBezTo>
                    <a:pt x="845" y="832"/>
                    <a:pt x="826" y="820"/>
                    <a:pt x="817" y="794"/>
                  </a:cubicBezTo>
                  <a:cubicBezTo>
                    <a:pt x="806" y="776"/>
                    <a:pt x="798" y="755"/>
                    <a:pt x="791" y="742"/>
                  </a:cubicBezTo>
                  <a:cubicBezTo>
                    <a:pt x="784" y="729"/>
                    <a:pt x="777" y="724"/>
                    <a:pt x="775" y="718"/>
                  </a:cubicBezTo>
                  <a:cubicBezTo>
                    <a:pt x="781" y="721"/>
                    <a:pt x="775" y="705"/>
                    <a:pt x="779" y="706"/>
                  </a:cubicBezTo>
                  <a:cubicBezTo>
                    <a:pt x="783" y="707"/>
                    <a:pt x="793" y="717"/>
                    <a:pt x="797" y="724"/>
                  </a:cubicBezTo>
                  <a:cubicBezTo>
                    <a:pt x="801" y="731"/>
                    <a:pt x="799" y="741"/>
                    <a:pt x="805" y="750"/>
                  </a:cubicBezTo>
                  <a:cubicBezTo>
                    <a:pt x="811" y="759"/>
                    <a:pt x="822" y="767"/>
                    <a:pt x="831" y="776"/>
                  </a:cubicBezTo>
                  <a:cubicBezTo>
                    <a:pt x="840" y="789"/>
                    <a:pt x="856" y="791"/>
                    <a:pt x="861" y="806"/>
                  </a:cubicBezTo>
                  <a:cubicBezTo>
                    <a:pt x="872" y="836"/>
                    <a:pt x="875" y="824"/>
                    <a:pt x="889" y="844"/>
                  </a:cubicBezTo>
                  <a:cubicBezTo>
                    <a:pt x="892" y="857"/>
                    <a:pt x="901" y="859"/>
                    <a:pt x="899" y="870"/>
                  </a:cubicBezTo>
                  <a:cubicBezTo>
                    <a:pt x="899" y="879"/>
                    <a:pt x="886" y="887"/>
                    <a:pt x="891" y="896"/>
                  </a:cubicBezTo>
                  <a:cubicBezTo>
                    <a:pt x="895" y="905"/>
                    <a:pt x="920" y="920"/>
                    <a:pt x="929" y="922"/>
                  </a:cubicBezTo>
                  <a:cubicBezTo>
                    <a:pt x="939" y="928"/>
                    <a:pt x="938" y="923"/>
                    <a:pt x="949" y="928"/>
                  </a:cubicBezTo>
                  <a:cubicBezTo>
                    <a:pt x="960" y="933"/>
                    <a:pt x="979" y="943"/>
                    <a:pt x="993" y="950"/>
                  </a:cubicBezTo>
                  <a:cubicBezTo>
                    <a:pt x="1007" y="957"/>
                    <a:pt x="1024" y="967"/>
                    <a:pt x="1035" y="968"/>
                  </a:cubicBezTo>
                  <a:cubicBezTo>
                    <a:pt x="1046" y="974"/>
                    <a:pt x="1045" y="953"/>
                    <a:pt x="1061" y="958"/>
                  </a:cubicBezTo>
                  <a:cubicBezTo>
                    <a:pt x="1071" y="962"/>
                    <a:pt x="1080" y="979"/>
                    <a:pt x="1097" y="990"/>
                  </a:cubicBezTo>
                  <a:cubicBezTo>
                    <a:pt x="1127" y="994"/>
                    <a:pt x="1133" y="1005"/>
                    <a:pt x="1162" y="1024"/>
                  </a:cubicBezTo>
                  <a:cubicBezTo>
                    <a:pt x="1166" y="1028"/>
                    <a:pt x="1175" y="1033"/>
                    <a:pt x="1175" y="1033"/>
                  </a:cubicBezTo>
                  <a:cubicBezTo>
                    <a:pt x="1178" y="1037"/>
                    <a:pt x="1182" y="1040"/>
                    <a:pt x="1183" y="1045"/>
                  </a:cubicBezTo>
                  <a:cubicBezTo>
                    <a:pt x="1186" y="1054"/>
                    <a:pt x="1197" y="1048"/>
                    <a:pt x="1201" y="1056"/>
                  </a:cubicBezTo>
                  <a:cubicBezTo>
                    <a:pt x="1202" y="1058"/>
                    <a:pt x="1226" y="1089"/>
                    <a:pt x="1229" y="1091"/>
                  </a:cubicBezTo>
                  <a:cubicBezTo>
                    <a:pt x="1258" y="1081"/>
                    <a:pt x="1252" y="1075"/>
                    <a:pt x="1273" y="1082"/>
                  </a:cubicBezTo>
                  <a:cubicBezTo>
                    <a:pt x="1304" y="1113"/>
                    <a:pt x="1310" y="1163"/>
                    <a:pt x="1271" y="1188"/>
                  </a:cubicBezTo>
                  <a:cubicBezTo>
                    <a:pt x="1265" y="1207"/>
                    <a:pt x="1249" y="1213"/>
                    <a:pt x="1243" y="1232"/>
                  </a:cubicBezTo>
                  <a:cubicBezTo>
                    <a:pt x="1238" y="1243"/>
                    <a:pt x="1251" y="1244"/>
                    <a:pt x="1253" y="1262"/>
                  </a:cubicBezTo>
                  <a:cubicBezTo>
                    <a:pt x="1252" y="1271"/>
                    <a:pt x="1236" y="1275"/>
                    <a:pt x="1237" y="1288"/>
                  </a:cubicBezTo>
                  <a:cubicBezTo>
                    <a:pt x="1238" y="1301"/>
                    <a:pt x="1252" y="1326"/>
                    <a:pt x="1258" y="1338"/>
                  </a:cubicBezTo>
                  <a:cubicBezTo>
                    <a:pt x="1263" y="1347"/>
                    <a:pt x="1275" y="1363"/>
                    <a:pt x="1275" y="1363"/>
                  </a:cubicBezTo>
                  <a:cubicBezTo>
                    <a:pt x="1279" y="1374"/>
                    <a:pt x="1298" y="1395"/>
                    <a:pt x="1301" y="1406"/>
                  </a:cubicBezTo>
                  <a:cubicBezTo>
                    <a:pt x="1307" y="1419"/>
                    <a:pt x="1308" y="1427"/>
                    <a:pt x="1311" y="1438"/>
                  </a:cubicBezTo>
                  <a:cubicBezTo>
                    <a:pt x="1315" y="1446"/>
                    <a:pt x="1313" y="1460"/>
                    <a:pt x="1321" y="1470"/>
                  </a:cubicBezTo>
                  <a:cubicBezTo>
                    <a:pt x="1332" y="1481"/>
                    <a:pt x="1363" y="1491"/>
                    <a:pt x="1375" y="1502"/>
                  </a:cubicBezTo>
                  <a:cubicBezTo>
                    <a:pt x="1382" y="1514"/>
                    <a:pt x="1386" y="1526"/>
                    <a:pt x="1391" y="1538"/>
                  </a:cubicBezTo>
                  <a:cubicBezTo>
                    <a:pt x="1394" y="1547"/>
                    <a:pt x="1393" y="1582"/>
                    <a:pt x="1393" y="1582"/>
                  </a:cubicBezTo>
                  <a:cubicBezTo>
                    <a:pt x="1393" y="1595"/>
                    <a:pt x="1395" y="1590"/>
                    <a:pt x="1389" y="1626"/>
                  </a:cubicBezTo>
                  <a:cubicBezTo>
                    <a:pt x="1386" y="1642"/>
                    <a:pt x="1376" y="1664"/>
                    <a:pt x="1375" y="1676"/>
                  </a:cubicBezTo>
                  <a:cubicBezTo>
                    <a:pt x="1374" y="1688"/>
                    <a:pt x="1382" y="1693"/>
                    <a:pt x="1381" y="1700"/>
                  </a:cubicBezTo>
                  <a:cubicBezTo>
                    <a:pt x="1380" y="1707"/>
                    <a:pt x="1371" y="1708"/>
                    <a:pt x="1371" y="1716"/>
                  </a:cubicBezTo>
                  <a:cubicBezTo>
                    <a:pt x="1371" y="1724"/>
                    <a:pt x="1380" y="1738"/>
                    <a:pt x="1379" y="1750"/>
                  </a:cubicBezTo>
                  <a:cubicBezTo>
                    <a:pt x="1378" y="1762"/>
                    <a:pt x="1371" y="1776"/>
                    <a:pt x="1365" y="1790"/>
                  </a:cubicBezTo>
                  <a:cubicBezTo>
                    <a:pt x="1360" y="1805"/>
                    <a:pt x="1347" y="1816"/>
                    <a:pt x="1343" y="1832"/>
                  </a:cubicBezTo>
                  <a:cubicBezTo>
                    <a:pt x="1338" y="1841"/>
                    <a:pt x="1354" y="1819"/>
                    <a:pt x="1353" y="1858"/>
                  </a:cubicBezTo>
                  <a:cubicBezTo>
                    <a:pt x="1353" y="1867"/>
                    <a:pt x="1345" y="1875"/>
                    <a:pt x="1341" y="1884"/>
                  </a:cubicBezTo>
                  <a:cubicBezTo>
                    <a:pt x="1337" y="1893"/>
                    <a:pt x="1331" y="1903"/>
                    <a:pt x="1331" y="1910"/>
                  </a:cubicBezTo>
                  <a:cubicBezTo>
                    <a:pt x="1331" y="1917"/>
                    <a:pt x="1340" y="1921"/>
                    <a:pt x="1339" y="1928"/>
                  </a:cubicBezTo>
                  <a:cubicBezTo>
                    <a:pt x="1338" y="1935"/>
                    <a:pt x="1330" y="1942"/>
                    <a:pt x="1327" y="1950"/>
                  </a:cubicBezTo>
                  <a:cubicBezTo>
                    <a:pt x="1324" y="1958"/>
                    <a:pt x="1317" y="1972"/>
                    <a:pt x="1321" y="1976"/>
                  </a:cubicBezTo>
                  <a:cubicBezTo>
                    <a:pt x="1325" y="1980"/>
                    <a:pt x="1345" y="1974"/>
                    <a:pt x="1349" y="1976"/>
                  </a:cubicBezTo>
                  <a:cubicBezTo>
                    <a:pt x="1353" y="1978"/>
                    <a:pt x="1348" y="1985"/>
                    <a:pt x="1343" y="1988"/>
                  </a:cubicBezTo>
                  <a:cubicBezTo>
                    <a:pt x="1338" y="1991"/>
                    <a:pt x="1320" y="1981"/>
                    <a:pt x="1319" y="1994"/>
                  </a:cubicBezTo>
                  <a:cubicBezTo>
                    <a:pt x="1318" y="2007"/>
                    <a:pt x="1326" y="2051"/>
                    <a:pt x="1334" y="2069"/>
                  </a:cubicBezTo>
                  <a:cubicBezTo>
                    <a:pt x="1334" y="2089"/>
                    <a:pt x="1353" y="2089"/>
                    <a:pt x="1369" y="2100"/>
                  </a:cubicBezTo>
                  <a:cubicBezTo>
                    <a:pt x="1391" y="2115"/>
                    <a:pt x="1434" y="2112"/>
                    <a:pt x="1459" y="2120"/>
                  </a:cubicBezTo>
                  <a:cubicBezTo>
                    <a:pt x="1469" y="2120"/>
                    <a:pt x="1467" y="2102"/>
                    <a:pt x="1461" y="2096"/>
                  </a:cubicBezTo>
                  <a:cubicBezTo>
                    <a:pt x="1455" y="2090"/>
                    <a:pt x="1432" y="2091"/>
                    <a:pt x="1425" y="2082"/>
                  </a:cubicBezTo>
                  <a:cubicBezTo>
                    <a:pt x="1418" y="2073"/>
                    <a:pt x="1415" y="2054"/>
                    <a:pt x="1417" y="2044"/>
                  </a:cubicBezTo>
                  <a:cubicBezTo>
                    <a:pt x="1419" y="2034"/>
                    <a:pt x="1431" y="2034"/>
                    <a:pt x="1439" y="2024"/>
                  </a:cubicBezTo>
                  <a:cubicBezTo>
                    <a:pt x="1442" y="2020"/>
                    <a:pt x="1463" y="1986"/>
                    <a:pt x="1463" y="1986"/>
                  </a:cubicBezTo>
                  <a:cubicBezTo>
                    <a:pt x="1455" y="1974"/>
                    <a:pt x="1445" y="1980"/>
                    <a:pt x="1445" y="1980"/>
                  </a:cubicBezTo>
                  <a:cubicBezTo>
                    <a:pt x="1443" y="1975"/>
                    <a:pt x="1439" y="1958"/>
                    <a:pt x="1445" y="1952"/>
                  </a:cubicBezTo>
                  <a:cubicBezTo>
                    <a:pt x="1448" y="1946"/>
                    <a:pt x="1460" y="1950"/>
                    <a:pt x="1465" y="1946"/>
                  </a:cubicBezTo>
                  <a:cubicBezTo>
                    <a:pt x="1471" y="1942"/>
                    <a:pt x="1466" y="1935"/>
                    <a:pt x="1477" y="1926"/>
                  </a:cubicBezTo>
                  <a:cubicBezTo>
                    <a:pt x="1480" y="1921"/>
                    <a:pt x="1485" y="1918"/>
                    <a:pt x="1485" y="1914"/>
                  </a:cubicBezTo>
                  <a:cubicBezTo>
                    <a:pt x="1485" y="1910"/>
                    <a:pt x="1479" y="1908"/>
                    <a:pt x="1477" y="1902"/>
                  </a:cubicBezTo>
                  <a:cubicBezTo>
                    <a:pt x="1475" y="1896"/>
                    <a:pt x="1470" y="1880"/>
                    <a:pt x="1475" y="1878"/>
                  </a:cubicBezTo>
                  <a:cubicBezTo>
                    <a:pt x="1480" y="1876"/>
                    <a:pt x="1497" y="1892"/>
                    <a:pt x="1505" y="1888"/>
                  </a:cubicBezTo>
                  <a:cubicBezTo>
                    <a:pt x="1513" y="1884"/>
                    <a:pt x="1511" y="1860"/>
                    <a:pt x="1521" y="1854"/>
                  </a:cubicBezTo>
                  <a:cubicBezTo>
                    <a:pt x="1526" y="1852"/>
                    <a:pt x="1559" y="1855"/>
                    <a:pt x="1563" y="1850"/>
                  </a:cubicBezTo>
                  <a:cubicBezTo>
                    <a:pt x="1571" y="1845"/>
                    <a:pt x="1588" y="1824"/>
                    <a:pt x="1591" y="1816"/>
                  </a:cubicBezTo>
                  <a:cubicBezTo>
                    <a:pt x="1594" y="1808"/>
                    <a:pt x="1583" y="1807"/>
                    <a:pt x="1580" y="1801"/>
                  </a:cubicBezTo>
                  <a:cubicBezTo>
                    <a:pt x="1580" y="1798"/>
                    <a:pt x="1565" y="1781"/>
                    <a:pt x="1575" y="1778"/>
                  </a:cubicBezTo>
                  <a:cubicBezTo>
                    <a:pt x="1580" y="1776"/>
                    <a:pt x="1602" y="1790"/>
                    <a:pt x="1613" y="1788"/>
                  </a:cubicBezTo>
                  <a:cubicBezTo>
                    <a:pt x="1624" y="1786"/>
                    <a:pt x="1633" y="1779"/>
                    <a:pt x="1643" y="1768"/>
                  </a:cubicBezTo>
                  <a:cubicBezTo>
                    <a:pt x="1651" y="1762"/>
                    <a:pt x="1663" y="1725"/>
                    <a:pt x="1671" y="1720"/>
                  </a:cubicBezTo>
                  <a:cubicBezTo>
                    <a:pt x="1675" y="1716"/>
                    <a:pt x="1697" y="1688"/>
                    <a:pt x="1697" y="1688"/>
                  </a:cubicBezTo>
                  <a:cubicBezTo>
                    <a:pt x="1708" y="1673"/>
                    <a:pt x="1700" y="1678"/>
                    <a:pt x="1713" y="1666"/>
                  </a:cubicBezTo>
                  <a:cubicBezTo>
                    <a:pt x="1715" y="1631"/>
                    <a:pt x="1702" y="1629"/>
                    <a:pt x="1737" y="1618"/>
                  </a:cubicBezTo>
                  <a:cubicBezTo>
                    <a:pt x="1748" y="1607"/>
                    <a:pt x="1761" y="1597"/>
                    <a:pt x="1773" y="1592"/>
                  </a:cubicBezTo>
                  <a:cubicBezTo>
                    <a:pt x="1785" y="1587"/>
                    <a:pt x="1800" y="1593"/>
                    <a:pt x="1810" y="1586"/>
                  </a:cubicBezTo>
                  <a:cubicBezTo>
                    <a:pt x="1818" y="1578"/>
                    <a:pt x="1823" y="1557"/>
                    <a:pt x="1831" y="1548"/>
                  </a:cubicBezTo>
                  <a:cubicBezTo>
                    <a:pt x="1835" y="1544"/>
                    <a:pt x="1839" y="1502"/>
                    <a:pt x="1839" y="1502"/>
                  </a:cubicBezTo>
                  <a:cubicBezTo>
                    <a:pt x="1843" y="1484"/>
                    <a:pt x="1842" y="1442"/>
                    <a:pt x="1847" y="1428"/>
                  </a:cubicBezTo>
                  <a:cubicBezTo>
                    <a:pt x="1851" y="1412"/>
                    <a:pt x="1859" y="1411"/>
                    <a:pt x="1865" y="1404"/>
                  </a:cubicBezTo>
                  <a:cubicBezTo>
                    <a:pt x="1871" y="1397"/>
                    <a:pt x="1878" y="1405"/>
                    <a:pt x="1883" y="1388"/>
                  </a:cubicBezTo>
                  <a:cubicBezTo>
                    <a:pt x="1893" y="1360"/>
                    <a:pt x="1922" y="1321"/>
                    <a:pt x="1895" y="1304"/>
                  </a:cubicBezTo>
                  <a:cubicBezTo>
                    <a:pt x="1891" y="1285"/>
                    <a:pt x="1876" y="1296"/>
                    <a:pt x="1865" y="1288"/>
                  </a:cubicBezTo>
                  <a:cubicBezTo>
                    <a:pt x="1854" y="1280"/>
                    <a:pt x="1838" y="1260"/>
                    <a:pt x="1829" y="1258"/>
                  </a:cubicBezTo>
                  <a:cubicBezTo>
                    <a:pt x="1820" y="1256"/>
                    <a:pt x="1815" y="1278"/>
                    <a:pt x="1809" y="1278"/>
                  </a:cubicBezTo>
                  <a:cubicBezTo>
                    <a:pt x="1802" y="1280"/>
                    <a:pt x="1799" y="1258"/>
                    <a:pt x="1791" y="1256"/>
                  </a:cubicBezTo>
                  <a:cubicBezTo>
                    <a:pt x="1783" y="1254"/>
                    <a:pt x="1764" y="1267"/>
                    <a:pt x="1760" y="1264"/>
                  </a:cubicBezTo>
                  <a:cubicBezTo>
                    <a:pt x="1752" y="1261"/>
                    <a:pt x="1780" y="1248"/>
                    <a:pt x="1767" y="1240"/>
                  </a:cubicBezTo>
                  <a:cubicBezTo>
                    <a:pt x="1762" y="1233"/>
                    <a:pt x="1738" y="1222"/>
                    <a:pt x="1729" y="1220"/>
                  </a:cubicBezTo>
                  <a:cubicBezTo>
                    <a:pt x="1720" y="1218"/>
                    <a:pt x="1720" y="1231"/>
                    <a:pt x="1713" y="1230"/>
                  </a:cubicBezTo>
                  <a:cubicBezTo>
                    <a:pt x="1706" y="1229"/>
                    <a:pt x="1689" y="1222"/>
                    <a:pt x="1685" y="1214"/>
                  </a:cubicBezTo>
                  <a:cubicBezTo>
                    <a:pt x="1678" y="1206"/>
                    <a:pt x="1692" y="1191"/>
                    <a:pt x="1687" y="1182"/>
                  </a:cubicBezTo>
                  <a:cubicBezTo>
                    <a:pt x="1683" y="1170"/>
                    <a:pt x="1671" y="1156"/>
                    <a:pt x="1663" y="1144"/>
                  </a:cubicBezTo>
                  <a:cubicBezTo>
                    <a:pt x="1651" y="1133"/>
                    <a:pt x="1648" y="1117"/>
                    <a:pt x="1637" y="1112"/>
                  </a:cubicBezTo>
                  <a:cubicBezTo>
                    <a:pt x="1629" y="1107"/>
                    <a:pt x="1626" y="1115"/>
                    <a:pt x="1617" y="1116"/>
                  </a:cubicBezTo>
                  <a:cubicBezTo>
                    <a:pt x="1613" y="1119"/>
                    <a:pt x="1589" y="1118"/>
                    <a:pt x="1584" y="1119"/>
                  </a:cubicBezTo>
                  <a:cubicBezTo>
                    <a:pt x="1573" y="1121"/>
                    <a:pt x="1587" y="1115"/>
                    <a:pt x="1581" y="1110"/>
                  </a:cubicBezTo>
                  <a:cubicBezTo>
                    <a:pt x="1575" y="1106"/>
                    <a:pt x="1581" y="1095"/>
                    <a:pt x="1569" y="1088"/>
                  </a:cubicBezTo>
                  <a:cubicBezTo>
                    <a:pt x="1561" y="1083"/>
                    <a:pt x="1540" y="1087"/>
                    <a:pt x="1533" y="1078"/>
                  </a:cubicBezTo>
                  <a:cubicBezTo>
                    <a:pt x="1526" y="1069"/>
                    <a:pt x="1532" y="1039"/>
                    <a:pt x="1529" y="1032"/>
                  </a:cubicBezTo>
                  <a:cubicBezTo>
                    <a:pt x="1526" y="1025"/>
                    <a:pt x="1516" y="1032"/>
                    <a:pt x="1513" y="1038"/>
                  </a:cubicBezTo>
                  <a:cubicBezTo>
                    <a:pt x="1510" y="1044"/>
                    <a:pt x="1512" y="1067"/>
                    <a:pt x="1509" y="1066"/>
                  </a:cubicBezTo>
                  <a:cubicBezTo>
                    <a:pt x="1505" y="1068"/>
                    <a:pt x="1503" y="1038"/>
                    <a:pt x="1497" y="1034"/>
                  </a:cubicBezTo>
                  <a:cubicBezTo>
                    <a:pt x="1491" y="1030"/>
                    <a:pt x="1477" y="1044"/>
                    <a:pt x="1471" y="1045"/>
                  </a:cubicBezTo>
                  <a:cubicBezTo>
                    <a:pt x="1467" y="1042"/>
                    <a:pt x="1459" y="1037"/>
                    <a:pt x="1459" y="1037"/>
                  </a:cubicBezTo>
                  <a:cubicBezTo>
                    <a:pt x="1453" y="1034"/>
                    <a:pt x="1443" y="1041"/>
                    <a:pt x="1435" y="1038"/>
                  </a:cubicBezTo>
                  <a:cubicBezTo>
                    <a:pt x="1427" y="1035"/>
                    <a:pt x="1420" y="1020"/>
                    <a:pt x="1411" y="1020"/>
                  </a:cubicBezTo>
                  <a:cubicBezTo>
                    <a:pt x="1402" y="1020"/>
                    <a:pt x="1387" y="1039"/>
                    <a:pt x="1383" y="1038"/>
                  </a:cubicBezTo>
                  <a:cubicBezTo>
                    <a:pt x="1379" y="1037"/>
                    <a:pt x="1396" y="1013"/>
                    <a:pt x="1389" y="1012"/>
                  </a:cubicBezTo>
                  <a:cubicBezTo>
                    <a:pt x="1365" y="1016"/>
                    <a:pt x="1361" y="1034"/>
                    <a:pt x="1339" y="1032"/>
                  </a:cubicBezTo>
                  <a:cubicBezTo>
                    <a:pt x="1323" y="1041"/>
                    <a:pt x="1327" y="1053"/>
                    <a:pt x="1321" y="1060"/>
                  </a:cubicBezTo>
                  <a:cubicBezTo>
                    <a:pt x="1315" y="1067"/>
                    <a:pt x="1313" y="1073"/>
                    <a:pt x="1305" y="1072"/>
                  </a:cubicBezTo>
                  <a:cubicBezTo>
                    <a:pt x="1297" y="1071"/>
                    <a:pt x="1283" y="1055"/>
                    <a:pt x="1273" y="1054"/>
                  </a:cubicBezTo>
                  <a:cubicBezTo>
                    <a:pt x="1263" y="1056"/>
                    <a:pt x="1265" y="1060"/>
                    <a:pt x="1243" y="1068"/>
                  </a:cubicBezTo>
                  <a:cubicBezTo>
                    <a:pt x="1234" y="1065"/>
                    <a:pt x="1221" y="1052"/>
                    <a:pt x="1215" y="1044"/>
                  </a:cubicBezTo>
                  <a:cubicBezTo>
                    <a:pt x="1209" y="1036"/>
                    <a:pt x="1209" y="1031"/>
                    <a:pt x="1209" y="1020"/>
                  </a:cubicBezTo>
                  <a:cubicBezTo>
                    <a:pt x="1209" y="1009"/>
                    <a:pt x="1216" y="988"/>
                    <a:pt x="1215" y="978"/>
                  </a:cubicBezTo>
                  <a:cubicBezTo>
                    <a:pt x="1214" y="968"/>
                    <a:pt x="1213" y="961"/>
                    <a:pt x="1201" y="958"/>
                  </a:cubicBezTo>
                  <a:cubicBezTo>
                    <a:pt x="1189" y="955"/>
                    <a:pt x="1150" y="962"/>
                    <a:pt x="1141" y="958"/>
                  </a:cubicBezTo>
                  <a:cubicBezTo>
                    <a:pt x="1136" y="959"/>
                    <a:pt x="1152" y="942"/>
                    <a:pt x="1147" y="932"/>
                  </a:cubicBezTo>
                  <a:cubicBezTo>
                    <a:pt x="1135" y="910"/>
                    <a:pt x="1158" y="899"/>
                    <a:pt x="1165" y="880"/>
                  </a:cubicBezTo>
                  <a:cubicBezTo>
                    <a:pt x="1164" y="876"/>
                    <a:pt x="1161" y="864"/>
                    <a:pt x="1157" y="862"/>
                  </a:cubicBezTo>
                  <a:cubicBezTo>
                    <a:pt x="1151" y="860"/>
                    <a:pt x="1126" y="870"/>
                    <a:pt x="1121" y="872"/>
                  </a:cubicBezTo>
                  <a:cubicBezTo>
                    <a:pt x="1107" y="877"/>
                    <a:pt x="1110" y="906"/>
                    <a:pt x="1097" y="912"/>
                  </a:cubicBezTo>
                  <a:cubicBezTo>
                    <a:pt x="1084" y="918"/>
                    <a:pt x="1057" y="918"/>
                    <a:pt x="1043" y="910"/>
                  </a:cubicBezTo>
                  <a:cubicBezTo>
                    <a:pt x="1028" y="901"/>
                    <a:pt x="1019" y="877"/>
                    <a:pt x="1011" y="864"/>
                  </a:cubicBezTo>
                  <a:cubicBezTo>
                    <a:pt x="1005" y="856"/>
                    <a:pt x="1018" y="840"/>
                    <a:pt x="1013" y="832"/>
                  </a:cubicBezTo>
                  <a:cubicBezTo>
                    <a:pt x="1010" y="827"/>
                    <a:pt x="1013" y="800"/>
                    <a:pt x="1013" y="800"/>
                  </a:cubicBezTo>
                  <a:cubicBezTo>
                    <a:pt x="1014" y="787"/>
                    <a:pt x="1008" y="773"/>
                    <a:pt x="1013" y="764"/>
                  </a:cubicBezTo>
                  <a:cubicBezTo>
                    <a:pt x="1018" y="755"/>
                    <a:pt x="1033" y="750"/>
                    <a:pt x="1045" y="744"/>
                  </a:cubicBezTo>
                  <a:cubicBezTo>
                    <a:pt x="1065" y="738"/>
                    <a:pt x="1066" y="738"/>
                    <a:pt x="1083" y="728"/>
                  </a:cubicBezTo>
                  <a:cubicBezTo>
                    <a:pt x="1096" y="726"/>
                    <a:pt x="1103" y="744"/>
                    <a:pt x="1111" y="744"/>
                  </a:cubicBezTo>
                  <a:cubicBezTo>
                    <a:pt x="1119" y="744"/>
                    <a:pt x="1123" y="730"/>
                    <a:pt x="1131" y="726"/>
                  </a:cubicBezTo>
                  <a:cubicBezTo>
                    <a:pt x="1143" y="726"/>
                    <a:pt x="1148" y="723"/>
                    <a:pt x="1159" y="718"/>
                  </a:cubicBezTo>
                  <a:cubicBezTo>
                    <a:pt x="1175" y="721"/>
                    <a:pt x="1176" y="724"/>
                    <a:pt x="1187" y="738"/>
                  </a:cubicBezTo>
                  <a:cubicBezTo>
                    <a:pt x="1194" y="745"/>
                    <a:pt x="1206" y="723"/>
                    <a:pt x="1211" y="732"/>
                  </a:cubicBezTo>
                  <a:cubicBezTo>
                    <a:pt x="1216" y="735"/>
                    <a:pt x="1224" y="744"/>
                    <a:pt x="1227" y="752"/>
                  </a:cubicBezTo>
                  <a:cubicBezTo>
                    <a:pt x="1230" y="760"/>
                    <a:pt x="1226" y="774"/>
                    <a:pt x="1227" y="782"/>
                  </a:cubicBezTo>
                  <a:cubicBezTo>
                    <a:pt x="1229" y="787"/>
                    <a:pt x="1232" y="807"/>
                    <a:pt x="1233" y="801"/>
                  </a:cubicBezTo>
                  <a:cubicBezTo>
                    <a:pt x="1237" y="799"/>
                    <a:pt x="1257" y="814"/>
                    <a:pt x="1261" y="806"/>
                  </a:cubicBezTo>
                  <a:cubicBezTo>
                    <a:pt x="1265" y="798"/>
                    <a:pt x="1261" y="769"/>
                    <a:pt x="1257" y="754"/>
                  </a:cubicBezTo>
                  <a:cubicBezTo>
                    <a:pt x="1253" y="739"/>
                    <a:pt x="1234" y="732"/>
                    <a:pt x="1237" y="718"/>
                  </a:cubicBezTo>
                  <a:cubicBezTo>
                    <a:pt x="1240" y="704"/>
                    <a:pt x="1260" y="684"/>
                    <a:pt x="1273" y="672"/>
                  </a:cubicBezTo>
                  <a:cubicBezTo>
                    <a:pt x="1282" y="658"/>
                    <a:pt x="1308" y="659"/>
                    <a:pt x="1313" y="644"/>
                  </a:cubicBezTo>
                  <a:cubicBezTo>
                    <a:pt x="1320" y="636"/>
                    <a:pt x="1305" y="613"/>
                    <a:pt x="1305" y="604"/>
                  </a:cubicBezTo>
                  <a:cubicBezTo>
                    <a:pt x="1305" y="595"/>
                    <a:pt x="1309" y="589"/>
                    <a:pt x="1313" y="588"/>
                  </a:cubicBezTo>
                  <a:cubicBezTo>
                    <a:pt x="1317" y="587"/>
                    <a:pt x="1326" y="602"/>
                    <a:pt x="1331" y="600"/>
                  </a:cubicBezTo>
                  <a:cubicBezTo>
                    <a:pt x="1336" y="598"/>
                    <a:pt x="1338" y="585"/>
                    <a:pt x="1343" y="578"/>
                  </a:cubicBezTo>
                  <a:cubicBezTo>
                    <a:pt x="1348" y="571"/>
                    <a:pt x="1354" y="563"/>
                    <a:pt x="1363" y="556"/>
                  </a:cubicBezTo>
                  <a:cubicBezTo>
                    <a:pt x="1377" y="542"/>
                    <a:pt x="1393" y="544"/>
                    <a:pt x="1399" y="538"/>
                  </a:cubicBezTo>
                  <a:cubicBezTo>
                    <a:pt x="1405" y="532"/>
                    <a:pt x="1393" y="525"/>
                    <a:pt x="1399" y="518"/>
                  </a:cubicBezTo>
                  <a:cubicBezTo>
                    <a:pt x="1405" y="503"/>
                    <a:pt x="1424" y="508"/>
                    <a:pt x="1435" y="496"/>
                  </a:cubicBezTo>
                  <a:cubicBezTo>
                    <a:pt x="1448" y="484"/>
                    <a:pt x="1455" y="480"/>
                    <a:pt x="1471" y="476"/>
                  </a:cubicBezTo>
                  <a:cubicBezTo>
                    <a:pt x="1483" y="478"/>
                    <a:pt x="1477" y="484"/>
                    <a:pt x="1475" y="490"/>
                  </a:cubicBezTo>
                  <a:cubicBezTo>
                    <a:pt x="1473" y="496"/>
                    <a:pt x="1458" y="512"/>
                    <a:pt x="1461" y="514"/>
                  </a:cubicBezTo>
                  <a:cubicBezTo>
                    <a:pt x="1464" y="516"/>
                    <a:pt x="1482" y="507"/>
                    <a:pt x="1491" y="502"/>
                  </a:cubicBezTo>
                  <a:cubicBezTo>
                    <a:pt x="1501" y="498"/>
                    <a:pt x="1507" y="492"/>
                    <a:pt x="1517" y="486"/>
                  </a:cubicBezTo>
                  <a:cubicBezTo>
                    <a:pt x="1527" y="480"/>
                    <a:pt x="1548" y="473"/>
                    <a:pt x="1553" y="468"/>
                  </a:cubicBezTo>
                  <a:cubicBezTo>
                    <a:pt x="1563" y="466"/>
                    <a:pt x="1549" y="454"/>
                    <a:pt x="1545" y="454"/>
                  </a:cubicBezTo>
                  <a:cubicBezTo>
                    <a:pt x="1541" y="454"/>
                    <a:pt x="1535" y="468"/>
                    <a:pt x="1527" y="470"/>
                  </a:cubicBezTo>
                  <a:cubicBezTo>
                    <a:pt x="1519" y="472"/>
                    <a:pt x="1505" y="472"/>
                    <a:pt x="1497" y="468"/>
                  </a:cubicBezTo>
                  <a:cubicBezTo>
                    <a:pt x="1489" y="464"/>
                    <a:pt x="1479" y="450"/>
                    <a:pt x="1479" y="444"/>
                  </a:cubicBezTo>
                  <a:cubicBezTo>
                    <a:pt x="1479" y="438"/>
                    <a:pt x="1497" y="437"/>
                    <a:pt x="1497" y="432"/>
                  </a:cubicBezTo>
                  <a:cubicBezTo>
                    <a:pt x="1471" y="429"/>
                    <a:pt x="1494" y="410"/>
                    <a:pt x="1477" y="414"/>
                  </a:cubicBezTo>
                  <a:cubicBezTo>
                    <a:pt x="1460" y="418"/>
                    <a:pt x="1405" y="453"/>
                    <a:pt x="1397" y="454"/>
                  </a:cubicBezTo>
                  <a:cubicBezTo>
                    <a:pt x="1389" y="455"/>
                    <a:pt x="1415" y="428"/>
                    <a:pt x="1429" y="418"/>
                  </a:cubicBezTo>
                  <a:cubicBezTo>
                    <a:pt x="1443" y="408"/>
                    <a:pt x="1460" y="396"/>
                    <a:pt x="1480" y="393"/>
                  </a:cubicBezTo>
                  <a:cubicBezTo>
                    <a:pt x="1487" y="386"/>
                    <a:pt x="1531" y="402"/>
                    <a:pt x="1551" y="400"/>
                  </a:cubicBezTo>
                  <a:cubicBezTo>
                    <a:pt x="1567" y="398"/>
                    <a:pt x="1568" y="381"/>
                    <a:pt x="1575" y="378"/>
                  </a:cubicBezTo>
                  <a:cubicBezTo>
                    <a:pt x="1582" y="375"/>
                    <a:pt x="1594" y="374"/>
                    <a:pt x="1591" y="384"/>
                  </a:cubicBezTo>
                  <a:cubicBezTo>
                    <a:pt x="1599" y="389"/>
                    <a:pt x="1548" y="424"/>
                    <a:pt x="1559" y="438"/>
                  </a:cubicBezTo>
                  <a:cubicBezTo>
                    <a:pt x="1561" y="448"/>
                    <a:pt x="1591" y="444"/>
                    <a:pt x="1603" y="446"/>
                  </a:cubicBezTo>
                  <a:cubicBezTo>
                    <a:pt x="1615" y="448"/>
                    <a:pt x="1623" y="448"/>
                    <a:pt x="1631" y="450"/>
                  </a:cubicBezTo>
                  <a:cubicBezTo>
                    <a:pt x="1639" y="452"/>
                    <a:pt x="1645" y="457"/>
                    <a:pt x="1649" y="456"/>
                  </a:cubicBezTo>
                  <a:cubicBezTo>
                    <a:pt x="1653" y="455"/>
                    <a:pt x="1657" y="448"/>
                    <a:pt x="1657" y="442"/>
                  </a:cubicBezTo>
                  <a:cubicBezTo>
                    <a:pt x="1657" y="436"/>
                    <a:pt x="1652" y="428"/>
                    <a:pt x="1647" y="422"/>
                  </a:cubicBezTo>
                  <a:cubicBezTo>
                    <a:pt x="1642" y="416"/>
                    <a:pt x="1634" y="411"/>
                    <a:pt x="1627" y="408"/>
                  </a:cubicBezTo>
                  <a:cubicBezTo>
                    <a:pt x="1620" y="405"/>
                    <a:pt x="1611" y="411"/>
                    <a:pt x="1607" y="406"/>
                  </a:cubicBezTo>
                  <a:cubicBezTo>
                    <a:pt x="1603" y="401"/>
                    <a:pt x="1601" y="386"/>
                    <a:pt x="1601" y="376"/>
                  </a:cubicBezTo>
                  <a:cubicBezTo>
                    <a:pt x="1601" y="366"/>
                    <a:pt x="1612" y="354"/>
                    <a:pt x="1607" y="346"/>
                  </a:cubicBezTo>
                  <a:cubicBezTo>
                    <a:pt x="1602" y="338"/>
                    <a:pt x="1580" y="332"/>
                    <a:pt x="1568" y="327"/>
                  </a:cubicBezTo>
                  <a:cubicBezTo>
                    <a:pt x="1563" y="320"/>
                    <a:pt x="1542" y="326"/>
                    <a:pt x="1535" y="318"/>
                  </a:cubicBezTo>
                  <a:cubicBezTo>
                    <a:pt x="1528" y="310"/>
                    <a:pt x="1531" y="290"/>
                    <a:pt x="1523" y="276"/>
                  </a:cubicBezTo>
                  <a:cubicBezTo>
                    <a:pt x="1512" y="260"/>
                    <a:pt x="1495" y="252"/>
                    <a:pt x="1484" y="236"/>
                  </a:cubicBezTo>
                  <a:cubicBezTo>
                    <a:pt x="1476" y="229"/>
                    <a:pt x="1476" y="237"/>
                    <a:pt x="1471" y="242"/>
                  </a:cubicBezTo>
                  <a:cubicBezTo>
                    <a:pt x="1466" y="247"/>
                    <a:pt x="1460" y="266"/>
                    <a:pt x="1451" y="268"/>
                  </a:cubicBezTo>
                  <a:cubicBezTo>
                    <a:pt x="1442" y="270"/>
                    <a:pt x="1426" y="261"/>
                    <a:pt x="1419" y="254"/>
                  </a:cubicBezTo>
                  <a:cubicBezTo>
                    <a:pt x="1408" y="258"/>
                    <a:pt x="1415" y="230"/>
                    <a:pt x="1409" y="224"/>
                  </a:cubicBezTo>
                  <a:cubicBezTo>
                    <a:pt x="1403" y="218"/>
                    <a:pt x="1391" y="222"/>
                    <a:pt x="1383" y="218"/>
                  </a:cubicBezTo>
                  <a:cubicBezTo>
                    <a:pt x="1375" y="214"/>
                    <a:pt x="1368" y="200"/>
                    <a:pt x="1361" y="198"/>
                  </a:cubicBezTo>
                  <a:cubicBezTo>
                    <a:pt x="1354" y="196"/>
                    <a:pt x="1351" y="206"/>
                    <a:pt x="1339" y="206"/>
                  </a:cubicBezTo>
                  <a:cubicBezTo>
                    <a:pt x="1314" y="197"/>
                    <a:pt x="1296" y="194"/>
                    <a:pt x="1289" y="200"/>
                  </a:cubicBezTo>
                  <a:cubicBezTo>
                    <a:pt x="1282" y="206"/>
                    <a:pt x="1294" y="231"/>
                    <a:pt x="1295" y="240"/>
                  </a:cubicBezTo>
                  <a:cubicBezTo>
                    <a:pt x="1296" y="245"/>
                    <a:pt x="1292" y="253"/>
                    <a:pt x="1296" y="256"/>
                  </a:cubicBezTo>
                  <a:cubicBezTo>
                    <a:pt x="1296" y="260"/>
                    <a:pt x="1285" y="260"/>
                    <a:pt x="1283" y="266"/>
                  </a:cubicBezTo>
                  <a:cubicBezTo>
                    <a:pt x="1286" y="274"/>
                    <a:pt x="1314" y="293"/>
                    <a:pt x="1315" y="302"/>
                  </a:cubicBezTo>
                  <a:cubicBezTo>
                    <a:pt x="1316" y="309"/>
                    <a:pt x="1298" y="317"/>
                    <a:pt x="1289" y="320"/>
                  </a:cubicBezTo>
                  <a:cubicBezTo>
                    <a:pt x="1282" y="324"/>
                    <a:pt x="1273" y="318"/>
                    <a:pt x="1273" y="324"/>
                  </a:cubicBezTo>
                  <a:cubicBezTo>
                    <a:pt x="1278" y="339"/>
                    <a:pt x="1288" y="355"/>
                    <a:pt x="1288" y="355"/>
                  </a:cubicBezTo>
                  <a:cubicBezTo>
                    <a:pt x="1288" y="362"/>
                    <a:pt x="1281" y="381"/>
                    <a:pt x="1273" y="382"/>
                  </a:cubicBezTo>
                  <a:cubicBezTo>
                    <a:pt x="1265" y="383"/>
                    <a:pt x="1245" y="370"/>
                    <a:pt x="1237" y="360"/>
                  </a:cubicBezTo>
                  <a:cubicBezTo>
                    <a:pt x="1223" y="348"/>
                    <a:pt x="1239" y="334"/>
                    <a:pt x="1225" y="324"/>
                  </a:cubicBezTo>
                  <a:cubicBezTo>
                    <a:pt x="1218" y="315"/>
                    <a:pt x="1212" y="325"/>
                    <a:pt x="1197" y="318"/>
                  </a:cubicBezTo>
                  <a:cubicBezTo>
                    <a:pt x="1187" y="315"/>
                    <a:pt x="1178" y="314"/>
                    <a:pt x="1167" y="308"/>
                  </a:cubicBezTo>
                  <a:cubicBezTo>
                    <a:pt x="1156" y="302"/>
                    <a:pt x="1145" y="288"/>
                    <a:pt x="1133" y="284"/>
                  </a:cubicBezTo>
                  <a:cubicBezTo>
                    <a:pt x="1115" y="275"/>
                    <a:pt x="1101" y="289"/>
                    <a:pt x="1093" y="286"/>
                  </a:cubicBezTo>
                  <a:cubicBezTo>
                    <a:pt x="1085" y="283"/>
                    <a:pt x="1090" y="268"/>
                    <a:pt x="1085" y="264"/>
                  </a:cubicBezTo>
                  <a:cubicBezTo>
                    <a:pt x="1080" y="260"/>
                    <a:pt x="1066" y="264"/>
                    <a:pt x="1061" y="260"/>
                  </a:cubicBezTo>
                  <a:cubicBezTo>
                    <a:pt x="1056" y="256"/>
                    <a:pt x="1053" y="249"/>
                    <a:pt x="1055" y="240"/>
                  </a:cubicBezTo>
                  <a:cubicBezTo>
                    <a:pt x="1046" y="227"/>
                    <a:pt x="1076" y="223"/>
                    <a:pt x="1071" y="208"/>
                  </a:cubicBezTo>
                  <a:cubicBezTo>
                    <a:pt x="1076" y="197"/>
                    <a:pt x="1104" y="198"/>
                    <a:pt x="1113" y="192"/>
                  </a:cubicBezTo>
                  <a:cubicBezTo>
                    <a:pt x="1122" y="186"/>
                    <a:pt x="1113" y="177"/>
                    <a:pt x="1123" y="174"/>
                  </a:cubicBezTo>
                  <a:cubicBezTo>
                    <a:pt x="1133" y="171"/>
                    <a:pt x="1162" y="169"/>
                    <a:pt x="1171" y="172"/>
                  </a:cubicBezTo>
                  <a:cubicBezTo>
                    <a:pt x="1180" y="175"/>
                    <a:pt x="1171" y="188"/>
                    <a:pt x="1177" y="190"/>
                  </a:cubicBezTo>
                  <a:cubicBezTo>
                    <a:pt x="1183" y="192"/>
                    <a:pt x="1199" y="181"/>
                    <a:pt x="1205" y="184"/>
                  </a:cubicBezTo>
                  <a:cubicBezTo>
                    <a:pt x="1211" y="187"/>
                    <a:pt x="1211" y="207"/>
                    <a:pt x="1215" y="208"/>
                  </a:cubicBezTo>
                  <a:cubicBezTo>
                    <a:pt x="1219" y="209"/>
                    <a:pt x="1221" y="192"/>
                    <a:pt x="1227" y="190"/>
                  </a:cubicBezTo>
                  <a:cubicBezTo>
                    <a:pt x="1233" y="188"/>
                    <a:pt x="1253" y="199"/>
                    <a:pt x="1253" y="194"/>
                  </a:cubicBezTo>
                  <a:cubicBezTo>
                    <a:pt x="1267" y="192"/>
                    <a:pt x="1238" y="165"/>
                    <a:pt x="1227" y="158"/>
                  </a:cubicBezTo>
                  <a:cubicBezTo>
                    <a:pt x="1219" y="152"/>
                    <a:pt x="1211" y="161"/>
                    <a:pt x="1205" y="160"/>
                  </a:cubicBezTo>
                  <a:cubicBezTo>
                    <a:pt x="1199" y="159"/>
                    <a:pt x="1196" y="150"/>
                    <a:pt x="1189" y="150"/>
                  </a:cubicBezTo>
                  <a:cubicBezTo>
                    <a:pt x="1182" y="150"/>
                    <a:pt x="1164" y="164"/>
                    <a:pt x="1161" y="162"/>
                  </a:cubicBezTo>
                  <a:cubicBezTo>
                    <a:pt x="1158" y="160"/>
                    <a:pt x="1173" y="147"/>
                    <a:pt x="1171" y="138"/>
                  </a:cubicBezTo>
                  <a:cubicBezTo>
                    <a:pt x="1169" y="129"/>
                    <a:pt x="1151" y="119"/>
                    <a:pt x="1149" y="110"/>
                  </a:cubicBezTo>
                  <a:cubicBezTo>
                    <a:pt x="1147" y="101"/>
                    <a:pt x="1153" y="87"/>
                    <a:pt x="1159" y="82"/>
                  </a:cubicBezTo>
                  <a:cubicBezTo>
                    <a:pt x="1164" y="82"/>
                    <a:pt x="1177" y="74"/>
                    <a:pt x="1183" y="82"/>
                  </a:cubicBezTo>
                  <a:cubicBezTo>
                    <a:pt x="1187" y="89"/>
                    <a:pt x="1172" y="118"/>
                    <a:pt x="1181" y="126"/>
                  </a:cubicBezTo>
                  <a:cubicBezTo>
                    <a:pt x="1190" y="134"/>
                    <a:pt x="1226" y="135"/>
                    <a:pt x="1235" y="128"/>
                  </a:cubicBezTo>
                  <a:cubicBezTo>
                    <a:pt x="1251" y="132"/>
                    <a:pt x="1232" y="92"/>
                    <a:pt x="1237" y="84"/>
                  </a:cubicBezTo>
                  <a:cubicBezTo>
                    <a:pt x="1242" y="76"/>
                    <a:pt x="1259" y="79"/>
                    <a:pt x="1267" y="80"/>
                  </a:cubicBezTo>
                  <a:cubicBezTo>
                    <a:pt x="1275" y="81"/>
                    <a:pt x="1283" y="93"/>
                    <a:pt x="1287" y="92"/>
                  </a:cubicBezTo>
                  <a:cubicBezTo>
                    <a:pt x="1291" y="91"/>
                    <a:pt x="1283" y="75"/>
                    <a:pt x="1289" y="76"/>
                  </a:cubicBezTo>
                  <a:cubicBezTo>
                    <a:pt x="1295" y="77"/>
                    <a:pt x="1319" y="93"/>
                    <a:pt x="1321" y="100"/>
                  </a:cubicBezTo>
                  <a:cubicBezTo>
                    <a:pt x="1323" y="107"/>
                    <a:pt x="1301" y="115"/>
                    <a:pt x="1301" y="120"/>
                  </a:cubicBezTo>
                  <a:cubicBezTo>
                    <a:pt x="1301" y="125"/>
                    <a:pt x="1314" y="135"/>
                    <a:pt x="1323" y="132"/>
                  </a:cubicBezTo>
                  <a:cubicBezTo>
                    <a:pt x="1332" y="129"/>
                    <a:pt x="1344" y="102"/>
                    <a:pt x="1353" y="100"/>
                  </a:cubicBezTo>
                  <a:cubicBezTo>
                    <a:pt x="1362" y="98"/>
                    <a:pt x="1376" y="111"/>
                    <a:pt x="1375" y="118"/>
                  </a:cubicBezTo>
                  <a:cubicBezTo>
                    <a:pt x="1374" y="125"/>
                    <a:pt x="1356" y="137"/>
                    <a:pt x="1349" y="144"/>
                  </a:cubicBezTo>
                  <a:cubicBezTo>
                    <a:pt x="1342" y="151"/>
                    <a:pt x="1345" y="156"/>
                    <a:pt x="1335" y="158"/>
                  </a:cubicBezTo>
                  <a:cubicBezTo>
                    <a:pt x="1325" y="160"/>
                    <a:pt x="1293" y="150"/>
                    <a:pt x="1287" y="154"/>
                  </a:cubicBezTo>
                  <a:cubicBezTo>
                    <a:pt x="1281" y="158"/>
                    <a:pt x="1290" y="179"/>
                    <a:pt x="1301" y="182"/>
                  </a:cubicBezTo>
                  <a:cubicBezTo>
                    <a:pt x="1312" y="185"/>
                    <a:pt x="1336" y="168"/>
                    <a:pt x="1353" y="172"/>
                  </a:cubicBezTo>
                  <a:cubicBezTo>
                    <a:pt x="1370" y="176"/>
                    <a:pt x="1386" y="197"/>
                    <a:pt x="1403" y="204"/>
                  </a:cubicBezTo>
                  <a:cubicBezTo>
                    <a:pt x="1420" y="211"/>
                    <a:pt x="1449" y="216"/>
                    <a:pt x="1457" y="214"/>
                  </a:cubicBezTo>
                  <a:cubicBezTo>
                    <a:pt x="1465" y="212"/>
                    <a:pt x="1446" y="196"/>
                    <a:pt x="1451" y="192"/>
                  </a:cubicBezTo>
                  <a:cubicBezTo>
                    <a:pt x="1456" y="188"/>
                    <a:pt x="1490" y="197"/>
                    <a:pt x="1489" y="188"/>
                  </a:cubicBezTo>
                  <a:cubicBezTo>
                    <a:pt x="1488" y="179"/>
                    <a:pt x="1446" y="148"/>
                    <a:pt x="1443" y="140"/>
                  </a:cubicBezTo>
                  <a:cubicBezTo>
                    <a:pt x="1440" y="132"/>
                    <a:pt x="1463" y="136"/>
                    <a:pt x="1469" y="138"/>
                  </a:cubicBezTo>
                  <a:cubicBezTo>
                    <a:pt x="1475" y="140"/>
                    <a:pt x="1475" y="151"/>
                    <a:pt x="1479" y="154"/>
                  </a:cubicBezTo>
                  <a:cubicBezTo>
                    <a:pt x="1483" y="157"/>
                    <a:pt x="1489" y="159"/>
                    <a:pt x="1495" y="158"/>
                  </a:cubicBezTo>
                  <a:cubicBezTo>
                    <a:pt x="1501" y="157"/>
                    <a:pt x="1508" y="151"/>
                    <a:pt x="1513" y="146"/>
                  </a:cubicBezTo>
                  <a:cubicBezTo>
                    <a:pt x="1518" y="141"/>
                    <a:pt x="1530" y="130"/>
                    <a:pt x="1527" y="128"/>
                  </a:cubicBezTo>
                  <a:cubicBezTo>
                    <a:pt x="1524" y="126"/>
                    <a:pt x="1503" y="136"/>
                    <a:pt x="1495" y="134"/>
                  </a:cubicBezTo>
                  <a:cubicBezTo>
                    <a:pt x="1487" y="132"/>
                    <a:pt x="1485" y="117"/>
                    <a:pt x="1479" y="114"/>
                  </a:cubicBezTo>
                  <a:cubicBezTo>
                    <a:pt x="1473" y="111"/>
                    <a:pt x="1466" y="119"/>
                    <a:pt x="1457" y="116"/>
                  </a:cubicBezTo>
                  <a:cubicBezTo>
                    <a:pt x="1448" y="113"/>
                    <a:pt x="1433" y="97"/>
                    <a:pt x="1423" y="94"/>
                  </a:cubicBezTo>
                  <a:cubicBezTo>
                    <a:pt x="1413" y="91"/>
                    <a:pt x="1404" y="101"/>
                    <a:pt x="1395" y="98"/>
                  </a:cubicBezTo>
                  <a:cubicBezTo>
                    <a:pt x="1386" y="95"/>
                    <a:pt x="1376" y="81"/>
                    <a:pt x="1367" y="78"/>
                  </a:cubicBezTo>
                  <a:cubicBezTo>
                    <a:pt x="1358" y="75"/>
                    <a:pt x="1351" y="85"/>
                    <a:pt x="1341" y="82"/>
                  </a:cubicBezTo>
                  <a:cubicBezTo>
                    <a:pt x="1331" y="79"/>
                    <a:pt x="1319" y="61"/>
                    <a:pt x="1307" y="58"/>
                  </a:cubicBezTo>
                  <a:cubicBezTo>
                    <a:pt x="1295" y="55"/>
                    <a:pt x="1277" y="64"/>
                    <a:pt x="1267" y="64"/>
                  </a:cubicBezTo>
                  <a:cubicBezTo>
                    <a:pt x="1257" y="64"/>
                    <a:pt x="1249" y="64"/>
                    <a:pt x="1247" y="58"/>
                  </a:cubicBezTo>
                  <a:cubicBezTo>
                    <a:pt x="1245" y="52"/>
                    <a:pt x="1260" y="32"/>
                    <a:pt x="1257" y="26"/>
                  </a:cubicBezTo>
                  <a:cubicBezTo>
                    <a:pt x="1254" y="20"/>
                    <a:pt x="1236" y="18"/>
                    <a:pt x="1227" y="24"/>
                  </a:cubicBezTo>
                  <a:cubicBezTo>
                    <a:pt x="1218" y="30"/>
                    <a:pt x="1211" y="56"/>
                    <a:pt x="1203" y="60"/>
                  </a:cubicBezTo>
                  <a:cubicBezTo>
                    <a:pt x="1195" y="64"/>
                    <a:pt x="1183" y="57"/>
                    <a:pt x="1179" y="50"/>
                  </a:cubicBezTo>
                  <a:cubicBezTo>
                    <a:pt x="1175" y="43"/>
                    <a:pt x="1182" y="26"/>
                    <a:pt x="1179" y="20"/>
                  </a:cubicBezTo>
                  <a:cubicBezTo>
                    <a:pt x="1176" y="14"/>
                    <a:pt x="1167" y="10"/>
                    <a:pt x="1161" y="12"/>
                  </a:cubicBezTo>
                  <a:cubicBezTo>
                    <a:pt x="1155" y="14"/>
                    <a:pt x="1147" y="26"/>
                    <a:pt x="1141" y="32"/>
                  </a:cubicBezTo>
                  <a:cubicBezTo>
                    <a:pt x="1129" y="25"/>
                    <a:pt x="1122" y="41"/>
                    <a:pt x="1123" y="48"/>
                  </a:cubicBezTo>
                  <a:cubicBezTo>
                    <a:pt x="1124" y="55"/>
                    <a:pt x="1145" y="65"/>
                    <a:pt x="1145" y="74"/>
                  </a:cubicBezTo>
                  <a:cubicBezTo>
                    <a:pt x="1145" y="83"/>
                    <a:pt x="1128" y="100"/>
                    <a:pt x="1123" y="102"/>
                  </a:cubicBezTo>
                  <a:cubicBezTo>
                    <a:pt x="1117" y="106"/>
                    <a:pt x="1122" y="89"/>
                    <a:pt x="1117" y="86"/>
                  </a:cubicBezTo>
                  <a:cubicBezTo>
                    <a:pt x="1112" y="83"/>
                    <a:pt x="1097" y="89"/>
                    <a:pt x="1093" y="86"/>
                  </a:cubicBezTo>
                  <a:cubicBezTo>
                    <a:pt x="1089" y="83"/>
                    <a:pt x="1099" y="77"/>
                    <a:pt x="1095" y="70"/>
                  </a:cubicBezTo>
                  <a:cubicBezTo>
                    <a:pt x="1088" y="65"/>
                    <a:pt x="1073" y="50"/>
                    <a:pt x="1071" y="46"/>
                  </a:cubicBezTo>
                  <a:cubicBezTo>
                    <a:pt x="1069" y="42"/>
                    <a:pt x="1077" y="48"/>
                    <a:pt x="1083" y="44"/>
                  </a:cubicBezTo>
                  <a:cubicBezTo>
                    <a:pt x="1089" y="40"/>
                    <a:pt x="1107" y="28"/>
                    <a:pt x="1105" y="24"/>
                  </a:cubicBezTo>
                  <a:cubicBezTo>
                    <a:pt x="1103" y="20"/>
                    <a:pt x="1078" y="18"/>
                    <a:pt x="1069" y="18"/>
                  </a:cubicBezTo>
                  <a:cubicBezTo>
                    <a:pt x="1060" y="18"/>
                    <a:pt x="1055" y="22"/>
                    <a:pt x="1053" y="26"/>
                  </a:cubicBezTo>
                  <a:cubicBezTo>
                    <a:pt x="1051" y="30"/>
                    <a:pt x="1058" y="38"/>
                    <a:pt x="1055" y="42"/>
                  </a:cubicBezTo>
                  <a:cubicBezTo>
                    <a:pt x="1052" y="46"/>
                    <a:pt x="1037" y="43"/>
                    <a:pt x="1033" y="48"/>
                  </a:cubicBezTo>
                  <a:cubicBezTo>
                    <a:pt x="1029" y="53"/>
                    <a:pt x="1029" y="62"/>
                    <a:pt x="1033" y="70"/>
                  </a:cubicBezTo>
                  <a:cubicBezTo>
                    <a:pt x="1037" y="78"/>
                    <a:pt x="1053" y="86"/>
                    <a:pt x="1055" y="96"/>
                  </a:cubicBezTo>
                  <a:cubicBezTo>
                    <a:pt x="1057" y="106"/>
                    <a:pt x="1047" y="128"/>
                    <a:pt x="1043" y="130"/>
                  </a:cubicBezTo>
                  <a:cubicBezTo>
                    <a:pt x="1039" y="132"/>
                    <a:pt x="1034" y="113"/>
                    <a:pt x="1033" y="106"/>
                  </a:cubicBezTo>
                  <a:cubicBezTo>
                    <a:pt x="1032" y="99"/>
                    <a:pt x="1043" y="91"/>
                    <a:pt x="1039" y="86"/>
                  </a:cubicBezTo>
                  <a:cubicBezTo>
                    <a:pt x="1035" y="81"/>
                    <a:pt x="1015" y="75"/>
                    <a:pt x="1007" y="76"/>
                  </a:cubicBezTo>
                  <a:cubicBezTo>
                    <a:pt x="999" y="77"/>
                    <a:pt x="993" y="84"/>
                    <a:pt x="991" y="90"/>
                  </a:cubicBezTo>
                  <a:cubicBezTo>
                    <a:pt x="989" y="96"/>
                    <a:pt x="998" y="108"/>
                    <a:pt x="993" y="112"/>
                  </a:cubicBezTo>
                  <a:cubicBezTo>
                    <a:pt x="988" y="116"/>
                    <a:pt x="970" y="114"/>
                    <a:pt x="959" y="114"/>
                  </a:cubicBezTo>
                  <a:cubicBezTo>
                    <a:pt x="948" y="114"/>
                    <a:pt x="934" y="114"/>
                    <a:pt x="925" y="112"/>
                  </a:cubicBezTo>
                  <a:cubicBezTo>
                    <a:pt x="916" y="110"/>
                    <a:pt x="902" y="104"/>
                    <a:pt x="907" y="100"/>
                  </a:cubicBezTo>
                  <a:cubicBezTo>
                    <a:pt x="912" y="96"/>
                    <a:pt x="945" y="95"/>
                    <a:pt x="955" y="90"/>
                  </a:cubicBezTo>
                  <a:cubicBezTo>
                    <a:pt x="965" y="85"/>
                    <a:pt x="972" y="78"/>
                    <a:pt x="965" y="70"/>
                  </a:cubicBezTo>
                  <a:cubicBezTo>
                    <a:pt x="939" y="65"/>
                    <a:pt x="920" y="50"/>
                    <a:pt x="911" y="42"/>
                  </a:cubicBezTo>
                  <a:cubicBezTo>
                    <a:pt x="902" y="34"/>
                    <a:pt x="916" y="23"/>
                    <a:pt x="913" y="20"/>
                  </a:cubicBezTo>
                  <a:cubicBezTo>
                    <a:pt x="910" y="17"/>
                    <a:pt x="900" y="27"/>
                    <a:pt x="893" y="26"/>
                  </a:cubicBezTo>
                  <a:cubicBezTo>
                    <a:pt x="886" y="25"/>
                    <a:pt x="876" y="7"/>
                    <a:pt x="873" y="12"/>
                  </a:cubicBezTo>
                  <a:cubicBezTo>
                    <a:pt x="870" y="17"/>
                    <a:pt x="878" y="49"/>
                    <a:pt x="875" y="54"/>
                  </a:cubicBezTo>
                  <a:cubicBezTo>
                    <a:pt x="866" y="59"/>
                    <a:pt x="866" y="35"/>
                    <a:pt x="857" y="40"/>
                  </a:cubicBezTo>
                  <a:cubicBezTo>
                    <a:pt x="853" y="42"/>
                    <a:pt x="841" y="37"/>
                    <a:pt x="837" y="36"/>
                  </a:cubicBezTo>
                  <a:cubicBezTo>
                    <a:pt x="833" y="24"/>
                    <a:pt x="802" y="37"/>
                    <a:pt x="793" y="36"/>
                  </a:cubicBezTo>
                  <a:cubicBezTo>
                    <a:pt x="784" y="35"/>
                    <a:pt x="786" y="31"/>
                    <a:pt x="781" y="30"/>
                  </a:cubicBezTo>
                  <a:cubicBezTo>
                    <a:pt x="776" y="29"/>
                    <a:pt x="768" y="31"/>
                    <a:pt x="761" y="28"/>
                  </a:cubicBezTo>
                  <a:cubicBezTo>
                    <a:pt x="754" y="25"/>
                    <a:pt x="747" y="14"/>
                    <a:pt x="739" y="12"/>
                  </a:cubicBezTo>
                  <a:cubicBezTo>
                    <a:pt x="731" y="10"/>
                    <a:pt x="721" y="18"/>
                    <a:pt x="711" y="16"/>
                  </a:cubicBezTo>
                  <a:cubicBezTo>
                    <a:pt x="701" y="14"/>
                    <a:pt x="689" y="4"/>
                    <a:pt x="677" y="2"/>
                  </a:cubicBezTo>
                  <a:cubicBezTo>
                    <a:pt x="665" y="0"/>
                    <a:pt x="648" y="0"/>
                    <a:pt x="641" y="4"/>
                  </a:cubicBezTo>
                  <a:cubicBezTo>
                    <a:pt x="634" y="8"/>
                    <a:pt x="641" y="18"/>
                    <a:pt x="637" y="24"/>
                  </a:cubicBezTo>
                  <a:cubicBezTo>
                    <a:pt x="633" y="30"/>
                    <a:pt x="614" y="36"/>
                    <a:pt x="619" y="42"/>
                  </a:cubicBezTo>
                  <a:cubicBezTo>
                    <a:pt x="624" y="48"/>
                    <a:pt x="653" y="60"/>
                    <a:pt x="665" y="62"/>
                  </a:cubicBezTo>
                  <a:cubicBezTo>
                    <a:pt x="677" y="64"/>
                    <a:pt x="685" y="58"/>
                    <a:pt x="693" y="54"/>
                  </a:cubicBezTo>
                  <a:cubicBezTo>
                    <a:pt x="701" y="50"/>
                    <a:pt x="711" y="38"/>
                    <a:pt x="715" y="40"/>
                  </a:cubicBezTo>
                  <a:cubicBezTo>
                    <a:pt x="719" y="42"/>
                    <a:pt x="713" y="57"/>
                    <a:pt x="717" y="66"/>
                  </a:cubicBezTo>
                  <a:cubicBezTo>
                    <a:pt x="721" y="75"/>
                    <a:pt x="751" y="91"/>
                    <a:pt x="739" y="94"/>
                  </a:cubicBezTo>
                  <a:cubicBezTo>
                    <a:pt x="695" y="86"/>
                    <a:pt x="693" y="84"/>
                    <a:pt x="643" y="84"/>
                  </a:cubicBezTo>
                  <a:cubicBezTo>
                    <a:pt x="626" y="79"/>
                    <a:pt x="624" y="85"/>
                    <a:pt x="615" y="82"/>
                  </a:cubicBezTo>
                  <a:cubicBezTo>
                    <a:pt x="606" y="79"/>
                    <a:pt x="597" y="65"/>
                    <a:pt x="589" y="64"/>
                  </a:cubicBezTo>
                  <a:cubicBezTo>
                    <a:pt x="581" y="63"/>
                    <a:pt x="578" y="75"/>
                    <a:pt x="565" y="78"/>
                  </a:cubicBezTo>
                  <a:cubicBezTo>
                    <a:pt x="552" y="81"/>
                    <a:pt x="525" y="77"/>
                    <a:pt x="509" y="80"/>
                  </a:cubicBezTo>
                  <a:cubicBezTo>
                    <a:pt x="491" y="78"/>
                    <a:pt x="471" y="94"/>
                    <a:pt x="471" y="94"/>
                  </a:cubicBezTo>
                  <a:cubicBezTo>
                    <a:pt x="437" y="98"/>
                    <a:pt x="445" y="80"/>
                    <a:pt x="411" y="84"/>
                  </a:cubicBezTo>
                  <a:cubicBezTo>
                    <a:pt x="389" y="88"/>
                    <a:pt x="357" y="80"/>
                    <a:pt x="331" y="78"/>
                  </a:cubicBezTo>
                  <a:cubicBezTo>
                    <a:pt x="305" y="76"/>
                    <a:pt x="277" y="72"/>
                    <a:pt x="257" y="70"/>
                  </a:cubicBezTo>
                  <a:cubicBezTo>
                    <a:pt x="237" y="68"/>
                    <a:pt x="220" y="67"/>
                    <a:pt x="209" y="64"/>
                  </a:cubicBezTo>
                  <a:cubicBezTo>
                    <a:pt x="198" y="61"/>
                    <a:pt x="207" y="54"/>
                    <a:pt x="193" y="54"/>
                  </a:cubicBezTo>
                  <a:cubicBezTo>
                    <a:pt x="175" y="43"/>
                    <a:pt x="145" y="71"/>
                    <a:pt x="123" y="64"/>
                  </a:cubicBezTo>
                  <a:cubicBezTo>
                    <a:pt x="101" y="65"/>
                    <a:pt x="93" y="90"/>
                    <a:pt x="71" y="92"/>
                  </a:cubicBezTo>
                  <a:cubicBezTo>
                    <a:pt x="56" y="100"/>
                    <a:pt x="50" y="86"/>
                    <a:pt x="33" y="92"/>
                  </a:cubicBez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未知"/>
            <p:cNvSpPr/>
            <p:nvPr/>
          </p:nvSpPr>
          <p:spPr>
            <a:xfrm>
              <a:off x="1132200" y="1966680"/>
              <a:ext cx="349200" cy="303840"/>
            </a:xfrm>
            <a:custGeom>
              <a:avLst/>
              <a:gdLst/>
              <a:ahLst/>
              <a:rect l="l" t="t" r="r" b="b"/>
              <a:pathLst>
                <a:path w="176" h="153">
                  <a:moveTo>
                    <a:pt x="116" y="47"/>
                  </a:moveTo>
                  <a:cubicBezTo>
                    <a:pt x="122" y="53"/>
                    <a:pt x="125" y="58"/>
                    <a:pt x="132" y="63"/>
                  </a:cubicBezTo>
                  <a:cubicBezTo>
                    <a:pt x="134" y="70"/>
                    <a:pt x="144" y="77"/>
                    <a:pt x="150" y="83"/>
                  </a:cubicBezTo>
                  <a:cubicBezTo>
                    <a:pt x="157" y="104"/>
                    <a:pt x="147" y="100"/>
                    <a:pt x="176" y="103"/>
                  </a:cubicBezTo>
                  <a:cubicBezTo>
                    <a:pt x="168" y="133"/>
                    <a:pt x="160" y="134"/>
                    <a:pt x="128" y="137"/>
                  </a:cubicBezTo>
                  <a:cubicBezTo>
                    <a:pt x="124" y="140"/>
                    <a:pt x="120" y="142"/>
                    <a:pt x="116" y="145"/>
                  </a:cubicBezTo>
                  <a:cubicBezTo>
                    <a:pt x="112" y="147"/>
                    <a:pt x="104" y="141"/>
                    <a:pt x="104" y="141"/>
                  </a:cubicBezTo>
                  <a:cubicBezTo>
                    <a:pt x="97" y="146"/>
                    <a:pt x="93" y="146"/>
                    <a:pt x="88" y="153"/>
                  </a:cubicBezTo>
                  <a:cubicBezTo>
                    <a:pt x="72" y="151"/>
                    <a:pt x="60" y="147"/>
                    <a:pt x="78" y="135"/>
                  </a:cubicBezTo>
                  <a:cubicBezTo>
                    <a:pt x="84" y="126"/>
                    <a:pt x="80" y="124"/>
                    <a:pt x="72" y="119"/>
                  </a:cubicBezTo>
                  <a:cubicBezTo>
                    <a:pt x="78" y="109"/>
                    <a:pt x="86" y="116"/>
                    <a:pt x="90" y="105"/>
                  </a:cubicBezTo>
                  <a:cubicBezTo>
                    <a:pt x="86" y="94"/>
                    <a:pt x="96" y="95"/>
                    <a:pt x="106" y="93"/>
                  </a:cubicBezTo>
                  <a:cubicBezTo>
                    <a:pt x="105" y="88"/>
                    <a:pt x="106" y="82"/>
                    <a:pt x="102" y="79"/>
                  </a:cubicBezTo>
                  <a:cubicBezTo>
                    <a:pt x="102" y="79"/>
                    <a:pt x="87" y="74"/>
                    <a:pt x="84" y="73"/>
                  </a:cubicBezTo>
                  <a:cubicBezTo>
                    <a:pt x="82" y="72"/>
                    <a:pt x="78" y="71"/>
                    <a:pt x="78" y="71"/>
                  </a:cubicBezTo>
                  <a:cubicBezTo>
                    <a:pt x="77" y="66"/>
                    <a:pt x="79" y="59"/>
                    <a:pt x="76" y="55"/>
                  </a:cubicBezTo>
                  <a:cubicBezTo>
                    <a:pt x="74" y="52"/>
                    <a:pt x="67" y="59"/>
                    <a:pt x="66" y="63"/>
                  </a:cubicBezTo>
                  <a:cubicBezTo>
                    <a:pt x="64" y="72"/>
                    <a:pt x="69" y="91"/>
                    <a:pt x="64" y="101"/>
                  </a:cubicBezTo>
                  <a:cubicBezTo>
                    <a:pt x="59" y="111"/>
                    <a:pt x="47" y="116"/>
                    <a:pt x="38" y="121"/>
                  </a:cubicBezTo>
                  <a:cubicBezTo>
                    <a:pt x="34" y="125"/>
                    <a:pt x="17" y="132"/>
                    <a:pt x="12" y="129"/>
                  </a:cubicBezTo>
                  <a:cubicBezTo>
                    <a:pt x="8" y="126"/>
                    <a:pt x="0" y="121"/>
                    <a:pt x="0" y="121"/>
                  </a:cubicBezTo>
                  <a:cubicBezTo>
                    <a:pt x="3" y="113"/>
                    <a:pt x="1" y="108"/>
                    <a:pt x="10" y="105"/>
                  </a:cubicBezTo>
                  <a:cubicBezTo>
                    <a:pt x="6" y="85"/>
                    <a:pt x="7" y="78"/>
                    <a:pt x="28" y="73"/>
                  </a:cubicBezTo>
                  <a:cubicBezTo>
                    <a:pt x="37" y="60"/>
                    <a:pt x="41" y="63"/>
                    <a:pt x="58" y="61"/>
                  </a:cubicBezTo>
                  <a:cubicBezTo>
                    <a:pt x="68" y="54"/>
                    <a:pt x="71" y="49"/>
                    <a:pt x="60" y="41"/>
                  </a:cubicBezTo>
                  <a:cubicBezTo>
                    <a:pt x="57" y="32"/>
                    <a:pt x="53" y="33"/>
                    <a:pt x="44" y="31"/>
                  </a:cubicBezTo>
                  <a:cubicBezTo>
                    <a:pt x="40" y="26"/>
                    <a:pt x="35" y="21"/>
                    <a:pt x="42" y="13"/>
                  </a:cubicBezTo>
                  <a:cubicBezTo>
                    <a:pt x="45" y="10"/>
                    <a:pt x="54" y="9"/>
                    <a:pt x="54" y="9"/>
                  </a:cubicBezTo>
                  <a:cubicBezTo>
                    <a:pt x="62" y="17"/>
                    <a:pt x="57" y="24"/>
                    <a:pt x="70" y="21"/>
                  </a:cubicBezTo>
                  <a:cubicBezTo>
                    <a:pt x="76" y="15"/>
                    <a:pt x="77" y="8"/>
                    <a:pt x="84" y="5"/>
                  </a:cubicBezTo>
                  <a:cubicBezTo>
                    <a:pt x="88" y="3"/>
                    <a:pt x="96" y="1"/>
                    <a:pt x="96" y="1"/>
                  </a:cubicBezTo>
                  <a:cubicBezTo>
                    <a:pt x="101" y="2"/>
                    <a:pt x="106" y="0"/>
                    <a:pt x="110" y="3"/>
                  </a:cubicBezTo>
                  <a:cubicBezTo>
                    <a:pt x="117" y="8"/>
                    <a:pt x="98" y="16"/>
                    <a:pt x="96" y="17"/>
                  </a:cubicBezTo>
                  <a:cubicBezTo>
                    <a:pt x="87" y="31"/>
                    <a:pt x="104" y="26"/>
                    <a:pt x="112" y="23"/>
                  </a:cubicBezTo>
                  <a:cubicBezTo>
                    <a:pt x="122" y="25"/>
                    <a:pt x="129" y="28"/>
                    <a:pt x="118" y="35"/>
                  </a:cubicBezTo>
                  <a:cubicBezTo>
                    <a:pt x="114" y="48"/>
                    <a:pt x="110" y="47"/>
                    <a:pt x="116" y="47"/>
                  </a:cubicBez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未知"/>
            <p:cNvSpPr/>
            <p:nvPr/>
          </p:nvSpPr>
          <p:spPr>
            <a:xfrm>
              <a:off x="2638080" y="4269240"/>
              <a:ext cx="218160" cy="436680"/>
            </a:xfrm>
            <a:custGeom>
              <a:avLst/>
              <a:gdLst/>
              <a:ahLst/>
              <a:rect l="l" t="t" r="r" b="b"/>
              <a:pathLst>
                <a:path w="110" h="220">
                  <a:moveTo>
                    <a:pt x="92" y="0"/>
                  </a:moveTo>
                  <a:cubicBezTo>
                    <a:pt x="110" y="6"/>
                    <a:pt x="103" y="23"/>
                    <a:pt x="106" y="36"/>
                  </a:cubicBezTo>
                  <a:cubicBezTo>
                    <a:pt x="107" y="41"/>
                    <a:pt x="110" y="60"/>
                    <a:pt x="110" y="60"/>
                  </a:cubicBezTo>
                  <a:cubicBezTo>
                    <a:pt x="108" y="66"/>
                    <a:pt x="104" y="78"/>
                    <a:pt x="104" y="78"/>
                  </a:cubicBezTo>
                  <a:cubicBezTo>
                    <a:pt x="101" y="90"/>
                    <a:pt x="85" y="114"/>
                    <a:pt x="80" y="130"/>
                  </a:cubicBezTo>
                  <a:cubicBezTo>
                    <a:pt x="75" y="146"/>
                    <a:pt x="80" y="159"/>
                    <a:pt x="74" y="174"/>
                  </a:cubicBezTo>
                  <a:cubicBezTo>
                    <a:pt x="67" y="191"/>
                    <a:pt x="62" y="211"/>
                    <a:pt x="42" y="218"/>
                  </a:cubicBezTo>
                  <a:cubicBezTo>
                    <a:pt x="25" y="215"/>
                    <a:pt x="10" y="220"/>
                    <a:pt x="4" y="202"/>
                  </a:cubicBezTo>
                  <a:cubicBezTo>
                    <a:pt x="6" y="155"/>
                    <a:pt x="0" y="155"/>
                    <a:pt x="18" y="128"/>
                  </a:cubicBezTo>
                  <a:cubicBezTo>
                    <a:pt x="19" y="110"/>
                    <a:pt x="19" y="106"/>
                    <a:pt x="20" y="96"/>
                  </a:cubicBezTo>
                  <a:cubicBezTo>
                    <a:pt x="21" y="86"/>
                    <a:pt x="16" y="73"/>
                    <a:pt x="22" y="66"/>
                  </a:cubicBezTo>
                  <a:cubicBezTo>
                    <a:pt x="33" y="55"/>
                    <a:pt x="37" y="58"/>
                    <a:pt x="54" y="56"/>
                  </a:cubicBezTo>
                  <a:cubicBezTo>
                    <a:pt x="64" y="42"/>
                    <a:pt x="63" y="17"/>
                    <a:pt x="76" y="4"/>
                  </a:cubicBezTo>
                  <a:cubicBezTo>
                    <a:pt x="80" y="0"/>
                    <a:pt x="87" y="1"/>
                    <a:pt x="92" y="0"/>
                  </a:cubicBez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未知"/>
            <p:cNvSpPr/>
            <p:nvPr/>
          </p:nvSpPr>
          <p:spPr>
            <a:xfrm>
              <a:off x="4097880" y="3693240"/>
              <a:ext cx="915480" cy="546120"/>
            </a:xfrm>
            <a:custGeom>
              <a:avLst/>
              <a:gdLst/>
              <a:ahLst/>
              <a:rect l="l" t="t" r="r" b="b"/>
              <a:pathLst>
                <a:path w="461" h="275">
                  <a:moveTo>
                    <a:pt x="25" y="2"/>
                  </a:moveTo>
                  <a:cubicBezTo>
                    <a:pt x="18" y="3"/>
                    <a:pt x="9" y="0"/>
                    <a:pt x="3" y="4"/>
                  </a:cubicBezTo>
                  <a:cubicBezTo>
                    <a:pt x="0" y="6"/>
                    <a:pt x="3" y="12"/>
                    <a:pt x="5" y="16"/>
                  </a:cubicBezTo>
                  <a:cubicBezTo>
                    <a:pt x="13" y="30"/>
                    <a:pt x="21" y="30"/>
                    <a:pt x="35" y="32"/>
                  </a:cubicBezTo>
                  <a:cubicBezTo>
                    <a:pt x="40" y="50"/>
                    <a:pt x="34" y="45"/>
                    <a:pt x="45" y="52"/>
                  </a:cubicBezTo>
                  <a:cubicBezTo>
                    <a:pt x="51" y="60"/>
                    <a:pt x="56" y="67"/>
                    <a:pt x="59" y="76"/>
                  </a:cubicBezTo>
                  <a:cubicBezTo>
                    <a:pt x="61" y="89"/>
                    <a:pt x="66" y="99"/>
                    <a:pt x="75" y="108"/>
                  </a:cubicBezTo>
                  <a:cubicBezTo>
                    <a:pt x="80" y="124"/>
                    <a:pt x="81" y="126"/>
                    <a:pt x="93" y="136"/>
                  </a:cubicBezTo>
                  <a:cubicBezTo>
                    <a:pt x="98" y="140"/>
                    <a:pt x="111" y="144"/>
                    <a:pt x="111" y="144"/>
                  </a:cubicBezTo>
                  <a:cubicBezTo>
                    <a:pt x="130" y="163"/>
                    <a:pt x="125" y="185"/>
                    <a:pt x="153" y="194"/>
                  </a:cubicBezTo>
                  <a:cubicBezTo>
                    <a:pt x="156" y="199"/>
                    <a:pt x="156" y="205"/>
                    <a:pt x="159" y="210"/>
                  </a:cubicBezTo>
                  <a:cubicBezTo>
                    <a:pt x="161" y="214"/>
                    <a:pt x="167" y="214"/>
                    <a:pt x="171" y="216"/>
                  </a:cubicBezTo>
                  <a:cubicBezTo>
                    <a:pt x="184" y="235"/>
                    <a:pt x="216" y="225"/>
                    <a:pt x="235" y="226"/>
                  </a:cubicBezTo>
                  <a:cubicBezTo>
                    <a:pt x="257" y="230"/>
                    <a:pt x="268" y="233"/>
                    <a:pt x="293" y="234"/>
                  </a:cubicBezTo>
                  <a:cubicBezTo>
                    <a:pt x="309" y="250"/>
                    <a:pt x="310" y="244"/>
                    <a:pt x="339" y="246"/>
                  </a:cubicBezTo>
                  <a:cubicBezTo>
                    <a:pt x="344" y="248"/>
                    <a:pt x="350" y="246"/>
                    <a:pt x="353" y="250"/>
                  </a:cubicBezTo>
                  <a:cubicBezTo>
                    <a:pt x="369" y="275"/>
                    <a:pt x="344" y="257"/>
                    <a:pt x="361" y="268"/>
                  </a:cubicBezTo>
                  <a:cubicBezTo>
                    <a:pt x="378" y="264"/>
                    <a:pt x="362" y="270"/>
                    <a:pt x="371" y="254"/>
                  </a:cubicBezTo>
                  <a:cubicBezTo>
                    <a:pt x="372" y="253"/>
                    <a:pt x="397" y="246"/>
                    <a:pt x="403" y="242"/>
                  </a:cubicBezTo>
                  <a:cubicBezTo>
                    <a:pt x="405" y="247"/>
                    <a:pt x="402" y="255"/>
                    <a:pt x="407" y="258"/>
                  </a:cubicBezTo>
                  <a:cubicBezTo>
                    <a:pt x="410" y="260"/>
                    <a:pt x="414" y="257"/>
                    <a:pt x="417" y="256"/>
                  </a:cubicBezTo>
                  <a:cubicBezTo>
                    <a:pt x="434" y="253"/>
                    <a:pt x="445" y="244"/>
                    <a:pt x="461" y="240"/>
                  </a:cubicBezTo>
                  <a:cubicBezTo>
                    <a:pt x="458" y="230"/>
                    <a:pt x="459" y="221"/>
                    <a:pt x="449" y="218"/>
                  </a:cubicBezTo>
                  <a:cubicBezTo>
                    <a:pt x="445" y="230"/>
                    <a:pt x="441" y="231"/>
                    <a:pt x="429" y="234"/>
                  </a:cubicBezTo>
                  <a:cubicBezTo>
                    <a:pt x="417" y="242"/>
                    <a:pt x="410" y="235"/>
                    <a:pt x="423" y="226"/>
                  </a:cubicBezTo>
                  <a:cubicBezTo>
                    <a:pt x="418" y="222"/>
                    <a:pt x="405" y="218"/>
                    <a:pt x="405" y="218"/>
                  </a:cubicBezTo>
                  <a:cubicBezTo>
                    <a:pt x="394" y="221"/>
                    <a:pt x="392" y="230"/>
                    <a:pt x="381" y="234"/>
                  </a:cubicBezTo>
                  <a:cubicBezTo>
                    <a:pt x="367" y="224"/>
                    <a:pt x="382" y="223"/>
                    <a:pt x="357" y="226"/>
                  </a:cubicBezTo>
                  <a:cubicBezTo>
                    <a:pt x="360" y="234"/>
                    <a:pt x="367" y="237"/>
                    <a:pt x="357" y="240"/>
                  </a:cubicBezTo>
                  <a:cubicBezTo>
                    <a:pt x="348" y="234"/>
                    <a:pt x="344" y="228"/>
                    <a:pt x="335" y="222"/>
                  </a:cubicBezTo>
                  <a:cubicBezTo>
                    <a:pt x="308" y="225"/>
                    <a:pt x="290" y="214"/>
                    <a:pt x="263" y="212"/>
                  </a:cubicBezTo>
                  <a:cubicBezTo>
                    <a:pt x="267" y="198"/>
                    <a:pt x="258" y="200"/>
                    <a:pt x="245" y="198"/>
                  </a:cubicBezTo>
                  <a:cubicBezTo>
                    <a:pt x="237" y="193"/>
                    <a:pt x="235" y="192"/>
                    <a:pt x="225" y="194"/>
                  </a:cubicBezTo>
                  <a:cubicBezTo>
                    <a:pt x="217" y="202"/>
                    <a:pt x="215" y="202"/>
                    <a:pt x="203" y="200"/>
                  </a:cubicBezTo>
                  <a:cubicBezTo>
                    <a:pt x="191" y="183"/>
                    <a:pt x="193" y="184"/>
                    <a:pt x="169" y="182"/>
                  </a:cubicBezTo>
                  <a:cubicBezTo>
                    <a:pt x="161" y="179"/>
                    <a:pt x="160" y="176"/>
                    <a:pt x="157" y="168"/>
                  </a:cubicBezTo>
                  <a:cubicBezTo>
                    <a:pt x="159" y="148"/>
                    <a:pt x="162" y="143"/>
                    <a:pt x="183" y="150"/>
                  </a:cubicBezTo>
                  <a:cubicBezTo>
                    <a:pt x="188" y="149"/>
                    <a:pt x="194" y="152"/>
                    <a:pt x="197" y="148"/>
                  </a:cubicBezTo>
                  <a:cubicBezTo>
                    <a:pt x="200" y="144"/>
                    <a:pt x="198" y="138"/>
                    <a:pt x="195" y="134"/>
                  </a:cubicBezTo>
                  <a:cubicBezTo>
                    <a:pt x="192" y="131"/>
                    <a:pt x="183" y="130"/>
                    <a:pt x="183" y="130"/>
                  </a:cubicBezTo>
                  <a:cubicBezTo>
                    <a:pt x="174" y="133"/>
                    <a:pt x="176" y="142"/>
                    <a:pt x="169" y="132"/>
                  </a:cubicBezTo>
                  <a:cubicBezTo>
                    <a:pt x="166" y="116"/>
                    <a:pt x="159" y="119"/>
                    <a:pt x="145" y="124"/>
                  </a:cubicBezTo>
                  <a:cubicBezTo>
                    <a:pt x="140" y="117"/>
                    <a:pt x="141" y="113"/>
                    <a:pt x="133" y="110"/>
                  </a:cubicBezTo>
                  <a:cubicBezTo>
                    <a:pt x="123" y="95"/>
                    <a:pt x="127" y="77"/>
                    <a:pt x="105" y="70"/>
                  </a:cubicBezTo>
                  <a:cubicBezTo>
                    <a:pt x="101" y="59"/>
                    <a:pt x="93" y="59"/>
                    <a:pt x="83" y="56"/>
                  </a:cubicBezTo>
                  <a:cubicBezTo>
                    <a:pt x="77" y="39"/>
                    <a:pt x="83" y="46"/>
                    <a:pt x="67" y="36"/>
                  </a:cubicBezTo>
                  <a:cubicBezTo>
                    <a:pt x="65" y="35"/>
                    <a:pt x="61" y="32"/>
                    <a:pt x="61" y="32"/>
                  </a:cubicBezTo>
                  <a:cubicBezTo>
                    <a:pt x="50" y="15"/>
                    <a:pt x="47" y="2"/>
                    <a:pt x="25" y="2"/>
                  </a:cubicBez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未知"/>
            <p:cNvSpPr/>
            <p:nvPr/>
          </p:nvSpPr>
          <p:spPr>
            <a:xfrm>
              <a:off x="4499280" y="3657600"/>
              <a:ext cx="486360" cy="423000"/>
            </a:xfrm>
            <a:custGeom>
              <a:avLst/>
              <a:gdLst/>
              <a:ahLst/>
              <a:rect l="l" t="t" r="r" b="b"/>
              <a:pathLst>
                <a:path w="245" h="213">
                  <a:moveTo>
                    <a:pt x="121" y="0"/>
                  </a:moveTo>
                  <a:cubicBezTo>
                    <a:pt x="130" y="3"/>
                    <a:pt x="130" y="13"/>
                    <a:pt x="137" y="20"/>
                  </a:cubicBezTo>
                  <a:cubicBezTo>
                    <a:pt x="143" y="38"/>
                    <a:pt x="130" y="43"/>
                    <a:pt x="125" y="58"/>
                  </a:cubicBezTo>
                  <a:cubicBezTo>
                    <a:pt x="130" y="73"/>
                    <a:pt x="130" y="77"/>
                    <a:pt x="143" y="86"/>
                  </a:cubicBezTo>
                  <a:cubicBezTo>
                    <a:pt x="149" y="95"/>
                    <a:pt x="152" y="94"/>
                    <a:pt x="163" y="92"/>
                  </a:cubicBezTo>
                  <a:cubicBezTo>
                    <a:pt x="168" y="77"/>
                    <a:pt x="176" y="82"/>
                    <a:pt x="191" y="84"/>
                  </a:cubicBezTo>
                  <a:cubicBezTo>
                    <a:pt x="201" y="100"/>
                    <a:pt x="218" y="86"/>
                    <a:pt x="231" y="82"/>
                  </a:cubicBezTo>
                  <a:cubicBezTo>
                    <a:pt x="245" y="92"/>
                    <a:pt x="237" y="103"/>
                    <a:pt x="223" y="106"/>
                  </a:cubicBezTo>
                  <a:cubicBezTo>
                    <a:pt x="217" y="115"/>
                    <a:pt x="210" y="110"/>
                    <a:pt x="207" y="120"/>
                  </a:cubicBezTo>
                  <a:cubicBezTo>
                    <a:pt x="204" y="142"/>
                    <a:pt x="205" y="133"/>
                    <a:pt x="191" y="142"/>
                  </a:cubicBezTo>
                  <a:cubicBezTo>
                    <a:pt x="185" y="152"/>
                    <a:pt x="189" y="152"/>
                    <a:pt x="195" y="160"/>
                  </a:cubicBezTo>
                  <a:cubicBezTo>
                    <a:pt x="198" y="164"/>
                    <a:pt x="203" y="172"/>
                    <a:pt x="203" y="172"/>
                  </a:cubicBezTo>
                  <a:cubicBezTo>
                    <a:pt x="200" y="213"/>
                    <a:pt x="200" y="209"/>
                    <a:pt x="179" y="188"/>
                  </a:cubicBezTo>
                  <a:cubicBezTo>
                    <a:pt x="177" y="181"/>
                    <a:pt x="175" y="175"/>
                    <a:pt x="173" y="168"/>
                  </a:cubicBezTo>
                  <a:cubicBezTo>
                    <a:pt x="158" y="173"/>
                    <a:pt x="164" y="195"/>
                    <a:pt x="163" y="208"/>
                  </a:cubicBezTo>
                  <a:cubicBezTo>
                    <a:pt x="121" y="203"/>
                    <a:pt x="169" y="187"/>
                    <a:pt x="137" y="166"/>
                  </a:cubicBezTo>
                  <a:cubicBezTo>
                    <a:pt x="134" y="161"/>
                    <a:pt x="129" y="156"/>
                    <a:pt x="135" y="150"/>
                  </a:cubicBezTo>
                  <a:cubicBezTo>
                    <a:pt x="138" y="147"/>
                    <a:pt x="147" y="146"/>
                    <a:pt x="147" y="146"/>
                  </a:cubicBezTo>
                  <a:cubicBezTo>
                    <a:pt x="158" y="130"/>
                    <a:pt x="143" y="123"/>
                    <a:pt x="167" y="126"/>
                  </a:cubicBezTo>
                  <a:cubicBezTo>
                    <a:pt x="173" y="132"/>
                    <a:pt x="172" y="134"/>
                    <a:pt x="179" y="130"/>
                  </a:cubicBezTo>
                  <a:cubicBezTo>
                    <a:pt x="183" y="128"/>
                    <a:pt x="191" y="122"/>
                    <a:pt x="191" y="122"/>
                  </a:cubicBezTo>
                  <a:cubicBezTo>
                    <a:pt x="194" y="114"/>
                    <a:pt x="198" y="115"/>
                    <a:pt x="205" y="110"/>
                  </a:cubicBezTo>
                  <a:cubicBezTo>
                    <a:pt x="188" y="104"/>
                    <a:pt x="197" y="105"/>
                    <a:pt x="177" y="108"/>
                  </a:cubicBezTo>
                  <a:cubicBezTo>
                    <a:pt x="170" y="110"/>
                    <a:pt x="166" y="108"/>
                    <a:pt x="159" y="110"/>
                  </a:cubicBezTo>
                  <a:cubicBezTo>
                    <a:pt x="151" y="98"/>
                    <a:pt x="149" y="100"/>
                    <a:pt x="133" y="102"/>
                  </a:cubicBezTo>
                  <a:cubicBezTo>
                    <a:pt x="130" y="106"/>
                    <a:pt x="125" y="108"/>
                    <a:pt x="123" y="112"/>
                  </a:cubicBezTo>
                  <a:cubicBezTo>
                    <a:pt x="115" y="133"/>
                    <a:pt x="126" y="129"/>
                    <a:pt x="107" y="134"/>
                  </a:cubicBezTo>
                  <a:cubicBezTo>
                    <a:pt x="94" y="154"/>
                    <a:pt x="111" y="175"/>
                    <a:pt x="85" y="184"/>
                  </a:cubicBezTo>
                  <a:cubicBezTo>
                    <a:pt x="77" y="181"/>
                    <a:pt x="76" y="176"/>
                    <a:pt x="69" y="172"/>
                  </a:cubicBezTo>
                  <a:cubicBezTo>
                    <a:pt x="48" y="176"/>
                    <a:pt x="43" y="163"/>
                    <a:pt x="23" y="160"/>
                  </a:cubicBezTo>
                  <a:cubicBezTo>
                    <a:pt x="22" y="153"/>
                    <a:pt x="24" y="146"/>
                    <a:pt x="21" y="140"/>
                  </a:cubicBezTo>
                  <a:cubicBezTo>
                    <a:pt x="16" y="129"/>
                    <a:pt x="7" y="128"/>
                    <a:pt x="3" y="116"/>
                  </a:cubicBezTo>
                  <a:cubicBezTo>
                    <a:pt x="5" y="82"/>
                    <a:pt x="0" y="85"/>
                    <a:pt x="31" y="82"/>
                  </a:cubicBezTo>
                  <a:cubicBezTo>
                    <a:pt x="36" y="74"/>
                    <a:pt x="32" y="64"/>
                    <a:pt x="43" y="68"/>
                  </a:cubicBezTo>
                  <a:cubicBezTo>
                    <a:pt x="58" y="63"/>
                    <a:pt x="56" y="51"/>
                    <a:pt x="65" y="42"/>
                  </a:cubicBezTo>
                  <a:cubicBezTo>
                    <a:pt x="72" y="35"/>
                    <a:pt x="82" y="34"/>
                    <a:pt x="91" y="32"/>
                  </a:cubicBezTo>
                  <a:cubicBezTo>
                    <a:pt x="113" y="17"/>
                    <a:pt x="92" y="0"/>
                    <a:pt x="121" y="0"/>
                  </a:cubicBez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未知"/>
            <p:cNvSpPr/>
            <p:nvPr/>
          </p:nvSpPr>
          <p:spPr>
            <a:xfrm>
              <a:off x="4977360" y="3806640"/>
              <a:ext cx="782640" cy="436680"/>
            </a:xfrm>
            <a:custGeom>
              <a:avLst/>
              <a:gdLst/>
              <a:ahLst/>
              <a:rect l="l" t="t" r="r" b="b"/>
              <a:pathLst>
                <a:path w="394" h="220">
                  <a:moveTo>
                    <a:pt x="42" y="5"/>
                  </a:moveTo>
                  <a:cubicBezTo>
                    <a:pt x="44" y="8"/>
                    <a:pt x="46" y="17"/>
                    <a:pt x="46" y="17"/>
                  </a:cubicBezTo>
                  <a:cubicBezTo>
                    <a:pt x="41" y="41"/>
                    <a:pt x="47" y="16"/>
                    <a:pt x="40" y="33"/>
                  </a:cubicBezTo>
                  <a:cubicBezTo>
                    <a:pt x="37" y="39"/>
                    <a:pt x="34" y="51"/>
                    <a:pt x="34" y="51"/>
                  </a:cubicBezTo>
                  <a:cubicBezTo>
                    <a:pt x="32" y="65"/>
                    <a:pt x="27" y="72"/>
                    <a:pt x="30" y="85"/>
                  </a:cubicBezTo>
                  <a:cubicBezTo>
                    <a:pt x="71" y="83"/>
                    <a:pt x="72" y="93"/>
                    <a:pt x="64" y="69"/>
                  </a:cubicBezTo>
                  <a:cubicBezTo>
                    <a:pt x="65" y="67"/>
                    <a:pt x="65" y="64"/>
                    <a:pt x="66" y="63"/>
                  </a:cubicBezTo>
                  <a:cubicBezTo>
                    <a:pt x="67" y="62"/>
                    <a:pt x="72" y="63"/>
                    <a:pt x="72" y="61"/>
                  </a:cubicBezTo>
                  <a:cubicBezTo>
                    <a:pt x="73" y="55"/>
                    <a:pt x="66" y="43"/>
                    <a:pt x="66" y="43"/>
                  </a:cubicBezTo>
                  <a:cubicBezTo>
                    <a:pt x="69" y="33"/>
                    <a:pt x="71" y="31"/>
                    <a:pt x="80" y="37"/>
                  </a:cubicBezTo>
                  <a:cubicBezTo>
                    <a:pt x="89" y="51"/>
                    <a:pt x="90" y="43"/>
                    <a:pt x="102" y="39"/>
                  </a:cubicBezTo>
                  <a:cubicBezTo>
                    <a:pt x="113" y="43"/>
                    <a:pt x="116" y="49"/>
                    <a:pt x="124" y="57"/>
                  </a:cubicBezTo>
                  <a:cubicBezTo>
                    <a:pt x="126" y="89"/>
                    <a:pt x="120" y="93"/>
                    <a:pt x="148" y="89"/>
                  </a:cubicBezTo>
                  <a:cubicBezTo>
                    <a:pt x="160" y="81"/>
                    <a:pt x="166" y="66"/>
                    <a:pt x="180" y="61"/>
                  </a:cubicBezTo>
                  <a:cubicBezTo>
                    <a:pt x="212" y="64"/>
                    <a:pt x="203" y="75"/>
                    <a:pt x="234" y="79"/>
                  </a:cubicBezTo>
                  <a:cubicBezTo>
                    <a:pt x="242" y="82"/>
                    <a:pt x="251" y="86"/>
                    <a:pt x="258" y="91"/>
                  </a:cubicBezTo>
                  <a:cubicBezTo>
                    <a:pt x="263" y="98"/>
                    <a:pt x="271" y="103"/>
                    <a:pt x="278" y="107"/>
                  </a:cubicBezTo>
                  <a:cubicBezTo>
                    <a:pt x="284" y="111"/>
                    <a:pt x="296" y="119"/>
                    <a:pt x="296" y="119"/>
                  </a:cubicBezTo>
                  <a:cubicBezTo>
                    <a:pt x="297" y="122"/>
                    <a:pt x="295" y="128"/>
                    <a:pt x="298" y="129"/>
                  </a:cubicBezTo>
                  <a:cubicBezTo>
                    <a:pt x="299" y="129"/>
                    <a:pt x="344" y="117"/>
                    <a:pt x="348" y="117"/>
                  </a:cubicBezTo>
                  <a:cubicBezTo>
                    <a:pt x="355" y="112"/>
                    <a:pt x="354" y="108"/>
                    <a:pt x="362" y="105"/>
                  </a:cubicBezTo>
                  <a:cubicBezTo>
                    <a:pt x="361" y="101"/>
                    <a:pt x="358" y="84"/>
                    <a:pt x="352" y="81"/>
                  </a:cubicBezTo>
                  <a:cubicBezTo>
                    <a:pt x="348" y="79"/>
                    <a:pt x="340" y="77"/>
                    <a:pt x="340" y="77"/>
                  </a:cubicBezTo>
                  <a:cubicBezTo>
                    <a:pt x="344" y="62"/>
                    <a:pt x="356" y="69"/>
                    <a:pt x="364" y="77"/>
                  </a:cubicBezTo>
                  <a:cubicBezTo>
                    <a:pt x="367" y="93"/>
                    <a:pt x="374" y="86"/>
                    <a:pt x="388" y="91"/>
                  </a:cubicBezTo>
                  <a:cubicBezTo>
                    <a:pt x="382" y="109"/>
                    <a:pt x="378" y="98"/>
                    <a:pt x="394" y="109"/>
                  </a:cubicBezTo>
                  <a:cubicBezTo>
                    <a:pt x="391" y="118"/>
                    <a:pt x="387" y="121"/>
                    <a:pt x="378" y="123"/>
                  </a:cubicBezTo>
                  <a:cubicBezTo>
                    <a:pt x="371" y="133"/>
                    <a:pt x="368" y="138"/>
                    <a:pt x="358" y="145"/>
                  </a:cubicBezTo>
                  <a:cubicBezTo>
                    <a:pt x="352" y="143"/>
                    <a:pt x="340" y="139"/>
                    <a:pt x="340" y="139"/>
                  </a:cubicBezTo>
                  <a:cubicBezTo>
                    <a:pt x="331" y="140"/>
                    <a:pt x="320" y="137"/>
                    <a:pt x="314" y="143"/>
                  </a:cubicBezTo>
                  <a:cubicBezTo>
                    <a:pt x="311" y="146"/>
                    <a:pt x="306" y="155"/>
                    <a:pt x="306" y="155"/>
                  </a:cubicBezTo>
                  <a:cubicBezTo>
                    <a:pt x="311" y="157"/>
                    <a:pt x="318" y="155"/>
                    <a:pt x="320" y="159"/>
                  </a:cubicBezTo>
                  <a:cubicBezTo>
                    <a:pt x="329" y="175"/>
                    <a:pt x="317" y="175"/>
                    <a:pt x="334" y="181"/>
                  </a:cubicBezTo>
                  <a:cubicBezTo>
                    <a:pt x="340" y="190"/>
                    <a:pt x="342" y="192"/>
                    <a:pt x="352" y="189"/>
                  </a:cubicBezTo>
                  <a:cubicBezTo>
                    <a:pt x="357" y="175"/>
                    <a:pt x="356" y="192"/>
                    <a:pt x="358" y="197"/>
                  </a:cubicBezTo>
                  <a:cubicBezTo>
                    <a:pt x="354" y="220"/>
                    <a:pt x="346" y="211"/>
                    <a:pt x="320" y="209"/>
                  </a:cubicBezTo>
                  <a:cubicBezTo>
                    <a:pt x="311" y="203"/>
                    <a:pt x="307" y="194"/>
                    <a:pt x="300" y="187"/>
                  </a:cubicBezTo>
                  <a:cubicBezTo>
                    <a:pt x="297" y="177"/>
                    <a:pt x="290" y="172"/>
                    <a:pt x="280" y="169"/>
                  </a:cubicBezTo>
                  <a:cubicBezTo>
                    <a:pt x="274" y="170"/>
                    <a:pt x="268" y="169"/>
                    <a:pt x="262" y="171"/>
                  </a:cubicBezTo>
                  <a:cubicBezTo>
                    <a:pt x="255" y="174"/>
                    <a:pt x="259" y="182"/>
                    <a:pt x="250" y="185"/>
                  </a:cubicBezTo>
                  <a:cubicBezTo>
                    <a:pt x="226" y="183"/>
                    <a:pt x="230" y="182"/>
                    <a:pt x="214" y="177"/>
                  </a:cubicBezTo>
                  <a:cubicBezTo>
                    <a:pt x="206" y="169"/>
                    <a:pt x="205" y="166"/>
                    <a:pt x="194" y="169"/>
                  </a:cubicBezTo>
                  <a:cubicBezTo>
                    <a:pt x="184" y="179"/>
                    <a:pt x="168" y="180"/>
                    <a:pt x="160" y="167"/>
                  </a:cubicBezTo>
                  <a:cubicBezTo>
                    <a:pt x="161" y="164"/>
                    <a:pt x="160" y="161"/>
                    <a:pt x="162" y="159"/>
                  </a:cubicBezTo>
                  <a:cubicBezTo>
                    <a:pt x="165" y="156"/>
                    <a:pt x="174" y="155"/>
                    <a:pt x="174" y="155"/>
                  </a:cubicBezTo>
                  <a:cubicBezTo>
                    <a:pt x="183" y="146"/>
                    <a:pt x="181" y="152"/>
                    <a:pt x="176" y="137"/>
                  </a:cubicBezTo>
                  <a:cubicBezTo>
                    <a:pt x="171" y="122"/>
                    <a:pt x="158" y="119"/>
                    <a:pt x="144" y="115"/>
                  </a:cubicBezTo>
                  <a:cubicBezTo>
                    <a:pt x="132" y="117"/>
                    <a:pt x="128" y="117"/>
                    <a:pt x="132" y="129"/>
                  </a:cubicBezTo>
                  <a:cubicBezTo>
                    <a:pt x="130" y="146"/>
                    <a:pt x="132" y="149"/>
                    <a:pt x="116" y="145"/>
                  </a:cubicBezTo>
                  <a:cubicBezTo>
                    <a:pt x="109" y="138"/>
                    <a:pt x="105" y="135"/>
                    <a:pt x="114" y="129"/>
                  </a:cubicBezTo>
                  <a:cubicBezTo>
                    <a:pt x="119" y="122"/>
                    <a:pt x="117" y="116"/>
                    <a:pt x="126" y="113"/>
                  </a:cubicBezTo>
                  <a:cubicBezTo>
                    <a:pt x="127" y="111"/>
                    <a:pt x="129" y="108"/>
                    <a:pt x="128" y="107"/>
                  </a:cubicBezTo>
                  <a:cubicBezTo>
                    <a:pt x="125" y="104"/>
                    <a:pt x="116" y="103"/>
                    <a:pt x="116" y="103"/>
                  </a:cubicBezTo>
                  <a:cubicBezTo>
                    <a:pt x="106" y="106"/>
                    <a:pt x="96" y="108"/>
                    <a:pt x="92" y="97"/>
                  </a:cubicBezTo>
                  <a:cubicBezTo>
                    <a:pt x="93" y="93"/>
                    <a:pt x="92" y="89"/>
                    <a:pt x="94" y="85"/>
                  </a:cubicBezTo>
                  <a:cubicBezTo>
                    <a:pt x="95" y="83"/>
                    <a:pt x="99" y="83"/>
                    <a:pt x="100" y="81"/>
                  </a:cubicBezTo>
                  <a:cubicBezTo>
                    <a:pt x="102" y="74"/>
                    <a:pt x="86" y="65"/>
                    <a:pt x="86" y="65"/>
                  </a:cubicBezTo>
                  <a:cubicBezTo>
                    <a:pt x="52" y="71"/>
                    <a:pt x="91" y="98"/>
                    <a:pt x="64" y="107"/>
                  </a:cubicBezTo>
                  <a:cubicBezTo>
                    <a:pt x="50" y="102"/>
                    <a:pt x="58" y="96"/>
                    <a:pt x="38" y="103"/>
                  </a:cubicBezTo>
                  <a:cubicBezTo>
                    <a:pt x="35" y="102"/>
                    <a:pt x="32" y="103"/>
                    <a:pt x="30" y="101"/>
                  </a:cubicBezTo>
                  <a:cubicBezTo>
                    <a:pt x="28" y="100"/>
                    <a:pt x="28" y="94"/>
                    <a:pt x="26" y="95"/>
                  </a:cubicBezTo>
                  <a:cubicBezTo>
                    <a:pt x="23" y="96"/>
                    <a:pt x="26" y="101"/>
                    <a:pt x="24" y="103"/>
                  </a:cubicBezTo>
                  <a:cubicBezTo>
                    <a:pt x="23" y="105"/>
                    <a:pt x="20" y="106"/>
                    <a:pt x="18" y="107"/>
                  </a:cubicBezTo>
                  <a:cubicBezTo>
                    <a:pt x="13" y="106"/>
                    <a:pt x="8" y="108"/>
                    <a:pt x="4" y="105"/>
                  </a:cubicBezTo>
                  <a:cubicBezTo>
                    <a:pt x="1" y="102"/>
                    <a:pt x="0" y="93"/>
                    <a:pt x="0" y="93"/>
                  </a:cubicBezTo>
                  <a:cubicBezTo>
                    <a:pt x="3" y="73"/>
                    <a:pt x="12" y="85"/>
                    <a:pt x="24" y="73"/>
                  </a:cubicBezTo>
                  <a:cubicBezTo>
                    <a:pt x="22" y="59"/>
                    <a:pt x="20" y="57"/>
                    <a:pt x="16" y="45"/>
                  </a:cubicBezTo>
                  <a:cubicBezTo>
                    <a:pt x="19" y="31"/>
                    <a:pt x="24" y="19"/>
                    <a:pt x="16" y="7"/>
                  </a:cubicBezTo>
                  <a:cubicBezTo>
                    <a:pt x="20" y="0"/>
                    <a:pt x="37" y="3"/>
                    <a:pt x="42" y="5"/>
                  </a:cubicBez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未知"/>
            <p:cNvSpPr/>
            <p:nvPr/>
          </p:nvSpPr>
          <p:spPr>
            <a:xfrm>
              <a:off x="4721400" y="3258000"/>
              <a:ext cx="278280" cy="454680"/>
            </a:xfrm>
            <a:custGeom>
              <a:avLst/>
              <a:gdLst/>
              <a:ahLst/>
              <a:rect l="l" t="t" r="r" b="b"/>
              <a:pathLst>
                <a:path w="140" h="229">
                  <a:moveTo>
                    <a:pt x="63" y="5"/>
                  </a:moveTo>
                  <a:cubicBezTo>
                    <a:pt x="74" y="8"/>
                    <a:pt x="72" y="11"/>
                    <a:pt x="75" y="21"/>
                  </a:cubicBezTo>
                  <a:cubicBezTo>
                    <a:pt x="74" y="39"/>
                    <a:pt x="74" y="49"/>
                    <a:pt x="69" y="65"/>
                  </a:cubicBezTo>
                  <a:cubicBezTo>
                    <a:pt x="76" y="86"/>
                    <a:pt x="78" y="79"/>
                    <a:pt x="105" y="81"/>
                  </a:cubicBezTo>
                  <a:cubicBezTo>
                    <a:pt x="110" y="89"/>
                    <a:pt x="108" y="92"/>
                    <a:pt x="105" y="101"/>
                  </a:cubicBezTo>
                  <a:cubicBezTo>
                    <a:pt x="110" y="115"/>
                    <a:pt x="103" y="100"/>
                    <a:pt x="119" y="109"/>
                  </a:cubicBezTo>
                  <a:cubicBezTo>
                    <a:pt x="121" y="110"/>
                    <a:pt x="126" y="124"/>
                    <a:pt x="127" y="127"/>
                  </a:cubicBezTo>
                  <a:cubicBezTo>
                    <a:pt x="125" y="148"/>
                    <a:pt x="127" y="149"/>
                    <a:pt x="115" y="161"/>
                  </a:cubicBezTo>
                  <a:cubicBezTo>
                    <a:pt x="114" y="164"/>
                    <a:pt x="116" y="173"/>
                    <a:pt x="119" y="171"/>
                  </a:cubicBezTo>
                  <a:cubicBezTo>
                    <a:pt x="123" y="169"/>
                    <a:pt x="127" y="159"/>
                    <a:pt x="127" y="159"/>
                  </a:cubicBezTo>
                  <a:cubicBezTo>
                    <a:pt x="135" y="164"/>
                    <a:pt x="134" y="170"/>
                    <a:pt x="137" y="179"/>
                  </a:cubicBezTo>
                  <a:cubicBezTo>
                    <a:pt x="135" y="206"/>
                    <a:pt x="140" y="210"/>
                    <a:pt x="123" y="199"/>
                  </a:cubicBezTo>
                  <a:cubicBezTo>
                    <a:pt x="122" y="217"/>
                    <a:pt x="126" y="229"/>
                    <a:pt x="109" y="223"/>
                  </a:cubicBezTo>
                  <a:cubicBezTo>
                    <a:pt x="102" y="213"/>
                    <a:pt x="105" y="200"/>
                    <a:pt x="95" y="193"/>
                  </a:cubicBezTo>
                  <a:cubicBezTo>
                    <a:pt x="87" y="199"/>
                    <a:pt x="86" y="208"/>
                    <a:pt x="77" y="211"/>
                  </a:cubicBezTo>
                  <a:cubicBezTo>
                    <a:pt x="69" y="205"/>
                    <a:pt x="64" y="198"/>
                    <a:pt x="61" y="189"/>
                  </a:cubicBezTo>
                  <a:cubicBezTo>
                    <a:pt x="65" y="176"/>
                    <a:pt x="91" y="175"/>
                    <a:pt x="103" y="173"/>
                  </a:cubicBezTo>
                  <a:cubicBezTo>
                    <a:pt x="101" y="161"/>
                    <a:pt x="98" y="146"/>
                    <a:pt x="91" y="167"/>
                  </a:cubicBezTo>
                  <a:cubicBezTo>
                    <a:pt x="77" y="162"/>
                    <a:pt x="82" y="148"/>
                    <a:pt x="71" y="141"/>
                  </a:cubicBezTo>
                  <a:cubicBezTo>
                    <a:pt x="66" y="133"/>
                    <a:pt x="66" y="130"/>
                    <a:pt x="75" y="127"/>
                  </a:cubicBezTo>
                  <a:cubicBezTo>
                    <a:pt x="89" y="129"/>
                    <a:pt x="94" y="128"/>
                    <a:pt x="103" y="137"/>
                  </a:cubicBezTo>
                  <a:cubicBezTo>
                    <a:pt x="106" y="128"/>
                    <a:pt x="105" y="124"/>
                    <a:pt x="97" y="119"/>
                  </a:cubicBezTo>
                  <a:cubicBezTo>
                    <a:pt x="88" y="106"/>
                    <a:pt x="96" y="97"/>
                    <a:pt x="79" y="91"/>
                  </a:cubicBezTo>
                  <a:cubicBezTo>
                    <a:pt x="75" y="92"/>
                    <a:pt x="69" y="90"/>
                    <a:pt x="67" y="93"/>
                  </a:cubicBezTo>
                  <a:cubicBezTo>
                    <a:pt x="60" y="104"/>
                    <a:pt x="77" y="112"/>
                    <a:pt x="61" y="117"/>
                  </a:cubicBezTo>
                  <a:cubicBezTo>
                    <a:pt x="57" y="129"/>
                    <a:pt x="51" y="140"/>
                    <a:pt x="47" y="153"/>
                  </a:cubicBezTo>
                  <a:cubicBezTo>
                    <a:pt x="45" y="159"/>
                    <a:pt x="35" y="159"/>
                    <a:pt x="29" y="161"/>
                  </a:cubicBezTo>
                  <a:cubicBezTo>
                    <a:pt x="27" y="162"/>
                    <a:pt x="9" y="179"/>
                    <a:pt x="9" y="179"/>
                  </a:cubicBezTo>
                  <a:cubicBezTo>
                    <a:pt x="0" y="178"/>
                    <a:pt x="1" y="166"/>
                    <a:pt x="9" y="153"/>
                  </a:cubicBezTo>
                  <a:cubicBezTo>
                    <a:pt x="15" y="144"/>
                    <a:pt x="31" y="142"/>
                    <a:pt x="39" y="133"/>
                  </a:cubicBezTo>
                  <a:cubicBezTo>
                    <a:pt x="44" y="128"/>
                    <a:pt x="55" y="119"/>
                    <a:pt x="55" y="119"/>
                  </a:cubicBezTo>
                  <a:cubicBezTo>
                    <a:pt x="58" y="110"/>
                    <a:pt x="57" y="108"/>
                    <a:pt x="49" y="103"/>
                  </a:cubicBezTo>
                  <a:cubicBezTo>
                    <a:pt x="40" y="90"/>
                    <a:pt x="49" y="105"/>
                    <a:pt x="47" y="79"/>
                  </a:cubicBezTo>
                  <a:cubicBezTo>
                    <a:pt x="47" y="75"/>
                    <a:pt x="43" y="67"/>
                    <a:pt x="43" y="67"/>
                  </a:cubicBezTo>
                  <a:cubicBezTo>
                    <a:pt x="46" y="52"/>
                    <a:pt x="47" y="49"/>
                    <a:pt x="45" y="33"/>
                  </a:cubicBezTo>
                  <a:cubicBezTo>
                    <a:pt x="46" y="28"/>
                    <a:pt x="44" y="22"/>
                    <a:pt x="47" y="17"/>
                  </a:cubicBezTo>
                  <a:cubicBezTo>
                    <a:pt x="50" y="11"/>
                    <a:pt x="68" y="0"/>
                    <a:pt x="63" y="5"/>
                  </a:cubicBez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未知"/>
            <p:cNvSpPr/>
            <p:nvPr/>
          </p:nvSpPr>
          <p:spPr>
            <a:xfrm>
              <a:off x="5498280" y="5163120"/>
              <a:ext cx="131040" cy="135000"/>
            </a:xfrm>
            <a:custGeom>
              <a:avLst/>
              <a:gdLst/>
              <a:ahLst/>
              <a:rect l="l" t="t" r="r" b="b"/>
              <a:pathLst>
                <a:path w="66" h="68">
                  <a:moveTo>
                    <a:pt x="4" y="24"/>
                  </a:moveTo>
                  <a:cubicBezTo>
                    <a:pt x="13" y="37"/>
                    <a:pt x="11" y="54"/>
                    <a:pt x="20" y="68"/>
                  </a:cubicBezTo>
                  <a:cubicBezTo>
                    <a:pt x="41" y="66"/>
                    <a:pt x="46" y="63"/>
                    <a:pt x="58" y="46"/>
                  </a:cubicBezTo>
                  <a:cubicBezTo>
                    <a:pt x="59" y="35"/>
                    <a:pt x="66" y="10"/>
                    <a:pt x="64" y="0"/>
                  </a:cubicBezTo>
                  <a:cubicBezTo>
                    <a:pt x="50" y="3"/>
                    <a:pt x="49" y="12"/>
                    <a:pt x="32" y="14"/>
                  </a:cubicBezTo>
                  <a:cubicBezTo>
                    <a:pt x="23" y="20"/>
                    <a:pt x="21" y="17"/>
                    <a:pt x="14" y="10"/>
                  </a:cubicBezTo>
                  <a:cubicBezTo>
                    <a:pt x="10" y="11"/>
                    <a:pt x="0" y="10"/>
                    <a:pt x="0" y="18"/>
                  </a:cubicBezTo>
                  <a:cubicBezTo>
                    <a:pt x="0" y="20"/>
                    <a:pt x="4" y="24"/>
                    <a:pt x="4" y="24"/>
                  </a:cubicBez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未知"/>
            <p:cNvSpPr/>
            <p:nvPr/>
          </p:nvSpPr>
          <p:spPr>
            <a:xfrm>
              <a:off x="6099840" y="4984560"/>
              <a:ext cx="371160" cy="420480"/>
            </a:xfrm>
            <a:custGeom>
              <a:avLst/>
              <a:gdLst/>
              <a:ahLst/>
              <a:rect l="l" t="t" r="r" b="b"/>
              <a:pathLst>
                <a:path w="187" h="212">
                  <a:moveTo>
                    <a:pt x="109" y="0"/>
                  </a:moveTo>
                  <a:cubicBezTo>
                    <a:pt x="98" y="11"/>
                    <a:pt x="103" y="24"/>
                    <a:pt x="115" y="32"/>
                  </a:cubicBezTo>
                  <a:cubicBezTo>
                    <a:pt x="118" y="41"/>
                    <a:pt x="120" y="48"/>
                    <a:pt x="125" y="56"/>
                  </a:cubicBezTo>
                  <a:cubicBezTo>
                    <a:pt x="123" y="73"/>
                    <a:pt x="119" y="71"/>
                    <a:pt x="115" y="84"/>
                  </a:cubicBezTo>
                  <a:cubicBezTo>
                    <a:pt x="117" y="101"/>
                    <a:pt x="116" y="98"/>
                    <a:pt x="131" y="102"/>
                  </a:cubicBezTo>
                  <a:cubicBezTo>
                    <a:pt x="136" y="116"/>
                    <a:pt x="118" y="109"/>
                    <a:pt x="109" y="108"/>
                  </a:cubicBezTo>
                  <a:cubicBezTo>
                    <a:pt x="102" y="101"/>
                    <a:pt x="100" y="97"/>
                    <a:pt x="91" y="100"/>
                  </a:cubicBezTo>
                  <a:cubicBezTo>
                    <a:pt x="90" y="102"/>
                    <a:pt x="89" y="104"/>
                    <a:pt x="89" y="106"/>
                  </a:cubicBezTo>
                  <a:cubicBezTo>
                    <a:pt x="88" y="112"/>
                    <a:pt x="88" y="118"/>
                    <a:pt x="87" y="124"/>
                  </a:cubicBezTo>
                  <a:cubicBezTo>
                    <a:pt x="85" y="132"/>
                    <a:pt x="51" y="147"/>
                    <a:pt x="41" y="150"/>
                  </a:cubicBezTo>
                  <a:cubicBezTo>
                    <a:pt x="34" y="160"/>
                    <a:pt x="23" y="172"/>
                    <a:pt x="11" y="174"/>
                  </a:cubicBezTo>
                  <a:cubicBezTo>
                    <a:pt x="0" y="190"/>
                    <a:pt x="13" y="196"/>
                    <a:pt x="27" y="198"/>
                  </a:cubicBezTo>
                  <a:cubicBezTo>
                    <a:pt x="29" y="199"/>
                    <a:pt x="31" y="201"/>
                    <a:pt x="33" y="202"/>
                  </a:cubicBezTo>
                  <a:cubicBezTo>
                    <a:pt x="35" y="203"/>
                    <a:pt x="37" y="203"/>
                    <a:pt x="39" y="204"/>
                  </a:cubicBezTo>
                  <a:cubicBezTo>
                    <a:pt x="43" y="206"/>
                    <a:pt x="51" y="212"/>
                    <a:pt x="51" y="212"/>
                  </a:cubicBezTo>
                  <a:cubicBezTo>
                    <a:pt x="55" y="208"/>
                    <a:pt x="59" y="204"/>
                    <a:pt x="63" y="200"/>
                  </a:cubicBezTo>
                  <a:cubicBezTo>
                    <a:pt x="65" y="198"/>
                    <a:pt x="69" y="194"/>
                    <a:pt x="69" y="194"/>
                  </a:cubicBezTo>
                  <a:cubicBezTo>
                    <a:pt x="72" y="184"/>
                    <a:pt x="70" y="174"/>
                    <a:pt x="77" y="166"/>
                  </a:cubicBezTo>
                  <a:cubicBezTo>
                    <a:pt x="81" y="161"/>
                    <a:pt x="95" y="156"/>
                    <a:pt x="95" y="156"/>
                  </a:cubicBezTo>
                  <a:cubicBezTo>
                    <a:pt x="103" y="148"/>
                    <a:pt x="103" y="142"/>
                    <a:pt x="115" y="138"/>
                  </a:cubicBezTo>
                  <a:cubicBezTo>
                    <a:pt x="120" y="131"/>
                    <a:pt x="120" y="127"/>
                    <a:pt x="127" y="122"/>
                  </a:cubicBezTo>
                  <a:cubicBezTo>
                    <a:pt x="168" y="128"/>
                    <a:pt x="144" y="105"/>
                    <a:pt x="169" y="88"/>
                  </a:cubicBezTo>
                  <a:cubicBezTo>
                    <a:pt x="173" y="82"/>
                    <a:pt x="180" y="79"/>
                    <a:pt x="183" y="72"/>
                  </a:cubicBezTo>
                  <a:cubicBezTo>
                    <a:pt x="185" y="68"/>
                    <a:pt x="187" y="60"/>
                    <a:pt x="187" y="60"/>
                  </a:cubicBezTo>
                  <a:cubicBezTo>
                    <a:pt x="184" y="50"/>
                    <a:pt x="164" y="55"/>
                    <a:pt x="153" y="54"/>
                  </a:cubicBezTo>
                  <a:cubicBezTo>
                    <a:pt x="144" y="40"/>
                    <a:pt x="149" y="45"/>
                    <a:pt x="139" y="38"/>
                  </a:cubicBezTo>
                  <a:cubicBezTo>
                    <a:pt x="135" y="27"/>
                    <a:pt x="127" y="18"/>
                    <a:pt x="121" y="8"/>
                  </a:cubicBezTo>
                  <a:cubicBezTo>
                    <a:pt x="118" y="4"/>
                    <a:pt x="109" y="0"/>
                    <a:pt x="109" y="0"/>
                  </a:cubicBez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未知"/>
            <p:cNvSpPr/>
            <p:nvPr/>
          </p:nvSpPr>
          <p:spPr>
            <a:xfrm>
              <a:off x="9204480" y="3129120"/>
              <a:ext cx="532080" cy="202680"/>
            </a:xfrm>
            <a:custGeom>
              <a:avLst/>
              <a:gdLst/>
              <a:ahLst/>
              <a:rect l="l" t="t" r="r" b="b"/>
              <a:pathLst>
                <a:path w="268" h="102">
                  <a:moveTo>
                    <a:pt x="18" y="2"/>
                  </a:moveTo>
                  <a:cubicBezTo>
                    <a:pt x="17" y="4"/>
                    <a:pt x="16" y="6"/>
                    <a:pt x="14" y="8"/>
                  </a:cubicBezTo>
                  <a:cubicBezTo>
                    <a:pt x="12" y="10"/>
                    <a:pt x="10" y="10"/>
                    <a:pt x="8" y="12"/>
                  </a:cubicBezTo>
                  <a:cubicBezTo>
                    <a:pt x="5" y="16"/>
                    <a:pt x="0" y="24"/>
                    <a:pt x="0" y="24"/>
                  </a:cubicBezTo>
                  <a:cubicBezTo>
                    <a:pt x="3" y="34"/>
                    <a:pt x="7" y="32"/>
                    <a:pt x="16" y="30"/>
                  </a:cubicBezTo>
                  <a:cubicBezTo>
                    <a:pt x="31" y="20"/>
                    <a:pt x="49" y="26"/>
                    <a:pt x="66" y="28"/>
                  </a:cubicBezTo>
                  <a:cubicBezTo>
                    <a:pt x="74" y="36"/>
                    <a:pt x="78" y="36"/>
                    <a:pt x="90" y="38"/>
                  </a:cubicBezTo>
                  <a:cubicBezTo>
                    <a:pt x="93" y="47"/>
                    <a:pt x="101" y="54"/>
                    <a:pt x="106" y="62"/>
                  </a:cubicBezTo>
                  <a:cubicBezTo>
                    <a:pt x="107" y="64"/>
                    <a:pt x="110" y="68"/>
                    <a:pt x="110" y="68"/>
                  </a:cubicBezTo>
                  <a:cubicBezTo>
                    <a:pt x="106" y="70"/>
                    <a:pt x="101" y="70"/>
                    <a:pt x="98" y="74"/>
                  </a:cubicBezTo>
                  <a:cubicBezTo>
                    <a:pt x="96" y="77"/>
                    <a:pt x="94" y="86"/>
                    <a:pt x="94" y="86"/>
                  </a:cubicBezTo>
                  <a:cubicBezTo>
                    <a:pt x="99" y="100"/>
                    <a:pt x="94" y="96"/>
                    <a:pt x="104" y="102"/>
                  </a:cubicBezTo>
                  <a:cubicBezTo>
                    <a:pt x="126" y="98"/>
                    <a:pt x="109" y="93"/>
                    <a:pt x="120" y="76"/>
                  </a:cubicBezTo>
                  <a:cubicBezTo>
                    <a:pt x="123" y="56"/>
                    <a:pt x="124" y="60"/>
                    <a:pt x="144" y="62"/>
                  </a:cubicBezTo>
                  <a:cubicBezTo>
                    <a:pt x="146" y="71"/>
                    <a:pt x="139" y="87"/>
                    <a:pt x="148" y="90"/>
                  </a:cubicBezTo>
                  <a:cubicBezTo>
                    <a:pt x="166" y="95"/>
                    <a:pt x="204" y="86"/>
                    <a:pt x="204" y="86"/>
                  </a:cubicBezTo>
                  <a:cubicBezTo>
                    <a:pt x="218" y="88"/>
                    <a:pt x="232" y="90"/>
                    <a:pt x="246" y="92"/>
                  </a:cubicBezTo>
                  <a:cubicBezTo>
                    <a:pt x="251" y="100"/>
                    <a:pt x="253" y="101"/>
                    <a:pt x="262" y="98"/>
                  </a:cubicBezTo>
                  <a:cubicBezTo>
                    <a:pt x="265" y="88"/>
                    <a:pt x="268" y="76"/>
                    <a:pt x="256" y="72"/>
                  </a:cubicBezTo>
                  <a:cubicBezTo>
                    <a:pt x="239" y="75"/>
                    <a:pt x="248" y="76"/>
                    <a:pt x="236" y="84"/>
                  </a:cubicBezTo>
                  <a:cubicBezTo>
                    <a:pt x="226" y="81"/>
                    <a:pt x="229" y="72"/>
                    <a:pt x="220" y="66"/>
                  </a:cubicBezTo>
                  <a:cubicBezTo>
                    <a:pt x="218" y="62"/>
                    <a:pt x="214" y="56"/>
                    <a:pt x="210" y="54"/>
                  </a:cubicBezTo>
                  <a:cubicBezTo>
                    <a:pt x="204" y="51"/>
                    <a:pt x="192" y="48"/>
                    <a:pt x="192" y="48"/>
                  </a:cubicBezTo>
                  <a:cubicBezTo>
                    <a:pt x="187" y="49"/>
                    <a:pt x="182" y="48"/>
                    <a:pt x="178" y="50"/>
                  </a:cubicBezTo>
                  <a:cubicBezTo>
                    <a:pt x="167" y="55"/>
                    <a:pt x="186" y="59"/>
                    <a:pt x="170" y="54"/>
                  </a:cubicBezTo>
                  <a:cubicBezTo>
                    <a:pt x="161" y="57"/>
                    <a:pt x="163" y="63"/>
                    <a:pt x="154" y="60"/>
                  </a:cubicBezTo>
                  <a:cubicBezTo>
                    <a:pt x="151" y="57"/>
                    <a:pt x="142" y="40"/>
                    <a:pt x="142" y="40"/>
                  </a:cubicBezTo>
                  <a:cubicBezTo>
                    <a:pt x="142" y="40"/>
                    <a:pt x="127" y="35"/>
                    <a:pt x="124" y="34"/>
                  </a:cubicBezTo>
                  <a:cubicBezTo>
                    <a:pt x="116" y="31"/>
                    <a:pt x="100" y="22"/>
                    <a:pt x="100" y="22"/>
                  </a:cubicBezTo>
                  <a:cubicBezTo>
                    <a:pt x="87" y="2"/>
                    <a:pt x="70" y="2"/>
                    <a:pt x="48" y="0"/>
                  </a:cubicBezTo>
                  <a:cubicBezTo>
                    <a:pt x="38" y="1"/>
                    <a:pt x="18" y="2"/>
                    <a:pt x="18" y="2"/>
                  </a:cubicBez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78"/>
            <p:cNvSpPr/>
            <p:nvPr/>
          </p:nvSpPr>
          <p:spPr>
            <a:xfrm>
              <a:off x="4609800" y="3113280"/>
              <a:ext cx="45720" cy="453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Group 79"/>
          <p:cNvGrpSpPr/>
          <p:nvPr/>
        </p:nvGrpSpPr>
        <p:grpSpPr>
          <a:xfrm>
            <a:off x="3040200" y="2530440"/>
            <a:ext cx="1633320" cy="1242720"/>
            <a:chOff x="3040200" y="2530440"/>
            <a:chExt cx="1633320" cy="1242720"/>
          </a:xfrm>
        </p:grpSpPr>
        <p:sp>
          <p:nvSpPr>
            <p:cNvPr id="471" name="未知"/>
            <p:cNvSpPr/>
            <p:nvPr/>
          </p:nvSpPr>
          <p:spPr>
            <a:xfrm>
              <a:off x="3040200" y="2530440"/>
              <a:ext cx="1633320" cy="1175760"/>
            </a:xfrm>
            <a:custGeom>
              <a:avLst/>
              <a:gdLst/>
              <a:ahLst/>
              <a:rect l="l" t="t" r="r" b="b"/>
              <a:pathLst>
                <a:path w="822" h="592">
                  <a:moveTo>
                    <a:pt x="177" y="96"/>
                  </a:moveTo>
                  <a:cubicBezTo>
                    <a:pt x="175" y="99"/>
                    <a:pt x="172" y="99"/>
                    <a:pt x="171" y="102"/>
                  </a:cubicBezTo>
                  <a:cubicBezTo>
                    <a:pt x="171" y="105"/>
                    <a:pt x="171" y="107"/>
                    <a:pt x="170" y="109"/>
                  </a:cubicBezTo>
                  <a:cubicBezTo>
                    <a:pt x="170" y="110"/>
                    <a:pt x="168" y="110"/>
                    <a:pt x="167" y="111"/>
                  </a:cubicBezTo>
                  <a:cubicBezTo>
                    <a:pt x="163" y="111"/>
                    <a:pt x="162" y="112"/>
                    <a:pt x="158" y="112"/>
                  </a:cubicBezTo>
                  <a:cubicBezTo>
                    <a:pt x="155" y="122"/>
                    <a:pt x="160" y="129"/>
                    <a:pt x="162" y="139"/>
                  </a:cubicBezTo>
                  <a:cubicBezTo>
                    <a:pt x="161" y="139"/>
                    <a:pt x="151" y="144"/>
                    <a:pt x="150" y="144"/>
                  </a:cubicBezTo>
                  <a:cubicBezTo>
                    <a:pt x="147" y="144"/>
                    <a:pt x="145" y="140"/>
                    <a:pt x="145" y="140"/>
                  </a:cubicBezTo>
                  <a:cubicBezTo>
                    <a:pt x="139" y="141"/>
                    <a:pt x="141" y="141"/>
                    <a:pt x="135" y="140"/>
                  </a:cubicBezTo>
                  <a:cubicBezTo>
                    <a:pt x="133" y="139"/>
                    <a:pt x="128" y="137"/>
                    <a:pt x="128" y="137"/>
                  </a:cubicBezTo>
                  <a:cubicBezTo>
                    <a:pt x="122" y="139"/>
                    <a:pt x="126" y="142"/>
                    <a:pt x="125" y="144"/>
                  </a:cubicBezTo>
                  <a:lnTo>
                    <a:pt x="120" y="149"/>
                  </a:lnTo>
                  <a:lnTo>
                    <a:pt x="116" y="161"/>
                  </a:lnTo>
                  <a:lnTo>
                    <a:pt x="114" y="172"/>
                  </a:lnTo>
                  <a:cubicBezTo>
                    <a:pt x="126" y="183"/>
                    <a:pt x="108" y="175"/>
                    <a:pt x="85" y="182"/>
                  </a:cubicBezTo>
                  <a:cubicBezTo>
                    <a:pt x="84" y="182"/>
                    <a:pt x="83" y="186"/>
                    <a:pt x="82" y="187"/>
                  </a:cubicBezTo>
                  <a:cubicBezTo>
                    <a:pt x="85" y="191"/>
                    <a:pt x="84" y="188"/>
                    <a:pt x="87" y="190"/>
                  </a:cubicBezTo>
                  <a:cubicBezTo>
                    <a:pt x="86" y="194"/>
                    <a:pt x="85" y="194"/>
                    <a:pt x="85" y="198"/>
                  </a:cubicBezTo>
                  <a:cubicBezTo>
                    <a:pt x="85" y="200"/>
                    <a:pt x="90" y="207"/>
                    <a:pt x="90" y="208"/>
                  </a:cubicBezTo>
                  <a:cubicBezTo>
                    <a:pt x="91" y="226"/>
                    <a:pt x="90" y="221"/>
                    <a:pt x="82" y="226"/>
                  </a:cubicBezTo>
                  <a:cubicBezTo>
                    <a:pt x="82" y="228"/>
                    <a:pt x="85" y="230"/>
                    <a:pt x="85" y="231"/>
                  </a:cubicBezTo>
                  <a:cubicBezTo>
                    <a:pt x="85" y="235"/>
                    <a:pt x="83" y="237"/>
                    <a:pt x="82" y="241"/>
                  </a:cubicBezTo>
                  <a:cubicBezTo>
                    <a:pt x="81" y="244"/>
                    <a:pt x="78" y="244"/>
                    <a:pt x="74" y="246"/>
                  </a:cubicBezTo>
                  <a:cubicBezTo>
                    <a:pt x="70" y="248"/>
                    <a:pt x="63" y="249"/>
                    <a:pt x="60" y="252"/>
                  </a:cubicBezTo>
                  <a:cubicBezTo>
                    <a:pt x="56" y="253"/>
                    <a:pt x="59" y="258"/>
                    <a:pt x="56" y="259"/>
                  </a:cubicBezTo>
                  <a:cubicBezTo>
                    <a:pt x="52" y="260"/>
                    <a:pt x="41" y="257"/>
                    <a:pt x="38" y="258"/>
                  </a:cubicBezTo>
                  <a:cubicBezTo>
                    <a:pt x="33" y="259"/>
                    <a:pt x="35" y="265"/>
                    <a:pt x="33" y="267"/>
                  </a:cubicBezTo>
                  <a:cubicBezTo>
                    <a:pt x="32" y="269"/>
                    <a:pt x="29" y="272"/>
                    <a:pt x="27" y="272"/>
                  </a:cubicBezTo>
                  <a:cubicBezTo>
                    <a:pt x="26" y="272"/>
                    <a:pt x="27" y="269"/>
                    <a:pt x="24" y="269"/>
                  </a:cubicBezTo>
                  <a:cubicBezTo>
                    <a:pt x="19" y="270"/>
                    <a:pt x="17" y="268"/>
                    <a:pt x="12" y="270"/>
                  </a:cubicBezTo>
                  <a:cubicBezTo>
                    <a:pt x="11" y="270"/>
                    <a:pt x="11" y="273"/>
                    <a:pt x="10" y="273"/>
                  </a:cubicBezTo>
                  <a:cubicBezTo>
                    <a:pt x="9" y="274"/>
                    <a:pt x="7" y="274"/>
                    <a:pt x="5" y="275"/>
                  </a:cubicBezTo>
                  <a:cubicBezTo>
                    <a:pt x="4" y="279"/>
                    <a:pt x="2" y="282"/>
                    <a:pt x="0" y="287"/>
                  </a:cubicBezTo>
                  <a:cubicBezTo>
                    <a:pt x="0" y="290"/>
                    <a:pt x="3" y="289"/>
                    <a:pt x="4" y="292"/>
                  </a:cubicBezTo>
                  <a:cubicBezTo>
                    <a:pt x="5" y="294"/>
                    <a:pt x="3" y="297"/>
                    <a:pt x="4" y="299"/>
                  </a:cubicBezTo>
                  <a:cubicBezTo>
                    <a:pt x="4" y="301"/>
                    <a:pt x="3" y="302"/>
                    <a:pt x="4" y="303"/>
                  </a:cubicBezTo>
                  <a:cubicBezTo>
                    <a:pt x="4" y="304"/>
                    <a:pt x="5" y="304"/>
                    <a:pt x="6" y="304"/>
                  </a:cubicBezTo>
                  <a:cubicBezTo>
                    <a:pt x="7" y="305"/>
                    <a:pt x="8" y="301"/>
                    <a:pt x="10" y="302"/>
                  </a:cubicBezTo>
                  <a:cubicBezTo>
                    <a:pt x="13" y="303"/>
                    <a:pt x="17" y="307"/>
                    <a:pt x="18" y="310"/>
                  </a:cubicBezTo>
                  <a:cubicBezTo>
                    <a:pt x="18" y="312"/>
                    <a:pt x="21" y="315"/>
                    <a:pt x="20" y="318"/>
                  </a:cubicBezTo>
                  <a:cubicBezTo>
                    <a:pt x="19" y="319"/>
                    <a:pt x="20" y="322"/>
                    <a:pt x="20" y="323"/>
                  </a:cubicBezTo>
                  <a:cubicBezTo>
                    <a:pt x="20" y="324"/>
                    <a:pt x="13" y="326"/>
                    <a:pt x="14" y="328"/>
                  </a:cubicBezTo>
                  <a:cubicBezTo>
                    <a:pt x="15" y="329"/>
                    <a:pt x="22" y="329"/>
                    <a:pt x="24" y="329"/>
                  </a:cubicBezTo>
                  <a:cubicBezTo>
                    <a:pt x="27" y="330"/>
                    <a:pt x="28" y="331"/>
                    <a:pt x="29" y="333"/>
                  </a:cubicBezTo>
                  <a:cubicBezTo>
                    <a:pt x="31" y="346"/>
                    <a:pt x="25" y="333"/>
                    <a:pt x="32" y="344"/>
                  </a:cubicBezTo>
                  <a:cubicBezTo>
                    <a:pt x="34" y="349"/>
                    <a:pt x="36" y="348"/>
                    <a:pt x="39" y="350"/>
                  </a:cubicBezTo>
                  <a:lnTo>
                    <a:pt x="48" y="350"/>
                  </a:lnTo>
                  <a:lnTo>
                    <a:pt x="55" y="360"/>
                  </a:lnTo>
                  <a:lnTo>
                    <a:pt x="55" y="367"/>
                  </a:lnTo>
                  <a:cubicBezTo>
                    <a:pt x="56" y="372"/>
                    <a:pt x="55" y="373"/>
                    <a:pt x="58" y="377"/>
                  </a:cubicBezTo>
                  <a:cubicBezTo>
                    <a:pt x="59" y="379"/>
                    <a:pt x="61" y="379"/>
                    <a:pt x="61" y="379"/>
                  </a:cubicBezTo>
                  <a:cubicBezTo>
                    <a:pt x="62" y="381"/>
                    <a:pt x="60" y="384"/>
                    <a:pt x="61" y="386"/>
                  </a:cubicBezTo>
                  <a:cubicBezTo>
                    <a:pt x="61" y="389"/>
                    <a:pt x="66" y="393"/>
                    <a:pt x="67" y="395"/>
                  </a:cubicBezTo>
                  <a:cubicBezTo>
                    <a:pt x="68" y="398"/>
                    <a:pt x="70" y="401"/>
                    <a:pt x="68" y="403"/>
                  </a:cubicBezTo>
                  <a:cubicBezTo>
                    <a:pt x="66" y="411"/>
                    <a:pt x="65" y="405"/>
                    <a:pt x="59" y="406"/>
                  </a:cubicBezTo>
                  <a:cubicBezTo>
                    <a:pt x="57" y="406"/>
                    <a:pt x="60" y="411"/>
                    <a:pt x="59" y="412"/>
                  </a:cubicBezTo>
                  <a:cubicBezTo>
                    <a:pt x="59" y="413"/>
                    <a:pt x="62" y="410"/>
                    <a:pt x="62" y="411"/>
                  </a:cubicBezTo>
                  <a:cubicBezTo>
                    <a:pt x="63" y="413"/>
                    <a:pt x="64" y="414"/>
                    <a:pt x="65" y="415"/>
                  </a:cubicBezTo>
                  <a:cubicBezTo>
                    <a:pt x="65" y="416"/>
                    <a:pt x="60" y="422"/>
                    <a:pt x="60" y="423"/>
                  </a:cubicBezTo>
                  <a:cubicBezTo>
                    <a:pt x="62" y="426"/>
                    <a:pt x="66" y="430"/>
                    <a:pt x="68" y="430"/>
                  </a:cubicBezTo>
                  <a:lnTo>
                    <a:pt x="71" y="427"/>
                  </a:lnTo>
                  <a:cubicBezTo>
                    <a:pt x="72" y="426"/>
                    <a:pt x="69" y="425"/>
                    <a:pt x="75" y="428"/>
                  </a:cubicBezTo>
                  <a:cubicBezTo>
                    <a:pt x="78" y="430"/>
                    <a:pt x="85" y="437"/>
                    <a:pt x="90" y="440"/>
                  </a:cubicBezTo>
                  <a:cubicBezTo>
                    <a:pt x="94" y="442"/>
                    <a:pt x="99" y="441"/>
                    <a:pt x="102" y="441"/>
                  </a:cubicBezTo>
                  <a:cubicBezTo>
                    <a:pt x="105" y="442"/>
                    <a:pt x="105" y="439"/>
                    <a:pt x="108" y="440"/>
                  </a:cubicBezTo>
                  <a:cubicBezTo>
                    <a:pt x="111" y="441"/>
                    <a:pt x="118" y="447"/>
                    <a:pt x="122" y="450"/>
                  </a:cubicBezTo>
                  <a:cubicBezTo>
                    <a:pt x="126" y="454"/>
                    <a:pt x="126" y="458"/>
                    <a:pt x="127" y="459"/>
                  </a:cubicBezTo>
                  <a:cubicBezTo>
                    <a:pt x="129" y="461"/>
                    <a:pt x="130" y="460"/>
                    <a:pt x="131" y="460"/>
                  </a:cubicBezTo>
                  <a:cubicBezTo>
                    <a:pt x="132" y="460"/>
                    <a:pt x="132" y="457"/>
                    <a:pt x="133" y="456"/>
                  </a:cubicBezTo>
                  <a:cubicBezTo>
                    <a:pt x="134" y="456"/>
                    <a:pt x="136" y="455"/>
                    <a:pt x="138" y="456"/>
                  </a:cubicBezTo>
                  <a:cubicBezTo>
                    <a:pt x="140" y="457"/>
                    <a:pt x="141" y="460"/>
                    <a:pt x="142" y="461"/>
                  </a:cubicBezTo>
                  <a:cubicBezTo>
                    <a:pt x="144" y="462"/>
                    <a:pt x="145" y="463"/>
                    <a:pt x="146" y="463"/>
                  </a:cubicBezTo>
                  <a:cubicBezTo>
                    <a:pt x="147" y="463"/>
                    <a:pt x="149" y="459"/>
                    <a:pt x="150" y="461"/>
                  </a:cubicBezTo>
                  <a:cubicBezTo>
                    <a:pt x="152" y="463"/>
                    <a:pt x="151" y="470"/>
                    <a:pt x="154" y="472"/>
                  </a:cubicBezTo>
                  <a:cubicBezTo>
                    <a:pt x="155" y="474"/>
                    <a:pt x="163" y="470"/>
                    <a:pt x="165" y="470"/>
                  </a:cubicBezTo>
                  <a:cubicBezTo>
                    <a:pt x="168" y="471"/>
                    <a:pt x="169" y="474"/>
                    <a:pt x="171" y="475"/>
                  </a:cubicBezTo>
                  <a:cubicBezTo>
                    <a:pt x="172" y="475"/>
                    <a:pt x="176" y="478"/>
                    <a:pt x="177" y="479"/>
                  </a:cubicBezTo>
                  <a:cubicBezTo>
                    <a:pt x="186" y="480"/>
                    <a:pt x="186" y="479"/>
                    <a:pt x="194" y="477"/>
                  </a:cubicBezTo>
                  <a:cubicBezTo>
                    <a:pt x="200" y="478"/>
                    <a:pt x="197" y="482"/>
                    <a:pt x="202" y="483"/>
                  </a:cubicBezTo>
                  <a:cubicBezTo>
                    <a:pt x="206" y="484"/>
                    <a:pt x="205" y="475"/>
                    <a:pt x="212" y="475"/>
                  </a:cubicBezTo>
                  <a:cubicBezTo>
                    <a:pt x="219" y="474"/>
                    <a:pt x="237" y="481"/>
                    <a:pt x="243" y="481"/>
                  </a:cubicBezTo>
                  <a:cubicBezTo>
                    <a:pt x="249" y="482"/>
                    <a:pt x="246" y="479"/>
                    <a:pt x="247" y="478"/>
                  </a:cubicBezTo>
                  <a:cubicBezTo>
                    <a:pt x="248" y="477"/>
                    <a:pt x="250" y="477"/>
                    <a:pt x="253" y="475"/>
                  </a:cubicBezTo>
                  <a:cubicBezTo>
                    <a:pt x="256" y="473"/>
                    <a:pt x="263" y="468"/>
                    <a:pt x="267" y="466"/>
                  </a:cubicBezTo>
                  <a:cubicBezTo>
                    <a:pt x="269" y="465"/>
                    <a:pt x="272" y="463"/>
                    <a:pt x="272" y="463"/>
                  </a:cubicBezTo>
                  <a:cubicBezTo>
                    <a:pt x="274" y="462"/>
                    <a:pt x="277" y="457"/>
                    <a:pt x="278" y="456"/>
                  </a:cubicBezTo>
                  <a:cubicBezTo>
                    <a:pt x="281" y="455"/>
                    <a:pt x="285" y="457"/>
                    <a:pt x="287" y="457"/>
                  </a:cubicBezTo>
                  <a:cubicBezTo>
                    <a:pt x="290" y="456"/>
                    <a:pt x="291" y="458"/>
                    <a:pt x="291" y="458"/>
                  </a:cubicBezTo>
                  <a:cubicBezTo>
                    <a:pt x="292" y="458"/>
                    <a:pt x="294" y="452"/>
                    <a:pt x="295" y="454"/>
                  </a:cubicBezTo>
                  <a:cubicBezTo>
                    <a:pt x="297" y="454"/>
                    <a:pt x="299" y="456"/>
                    <a:pt x="299" y="457"/>
                  </a:cubicBezTo>
                  <a:cubicBezTo>
                    <a:pt x="299" y="458"/>
                    <a:pt x="297" y="458"/>
                    <a:pt x="298" y="459"/>
                  </a:cubicBezTo>
                  <a:cubicBezTo>
                    <a:pt x="298" y="460"/>
                    <a:pt x="301" y="461"/>
                    <a:pt x="301" y="462"/>
                  </a:cubicBezTo>
                  <a:cubicBezTo>
                    <a:pt x="301" y="463"/>
                    <a:pt x="299" y="465"/>
                    <a:pt x="299" y="466"/>
                  </a:cubicBezTo>
                  <a:cubicBezTo>
                    <a:pt x="298" y="468"/>
                    <a:pt x="299" y="469"/>
                    <a:pt x="300" y="470"/>
                  </a:cubicBezTo>
                  <a:cubicBezTo>
                    <a:pt x="301" y="471"/>
                    <a:pt x="303" y="471"/>
                    <a:pt x="304" y="471"/>
                  </a:cubicBezTo>
                  <a:cubicBezTo>
                    <a:pt x="306" y="471"/>
                    <a:pt x="311" y="471"/>
                    <a:pt x="314" y="471"/>
                  </a:cubicBezTo>
                  <a:cubicBezTo>
                    <a:pt x="318" y="471"/>
                    <a:pt x="321" y="471"/>
                    <a:pt x="323" y="472"/>
                  </a:cubicBezTo>
                  <a:cubicBezTo>
                    <a:pt x="325" y="473"/>
                    <a:pt x="325" y="476"/>
                    <a:pt x="325" y="478"/>
                  </a:cubicBezTo>
                  <a:cubicBezTo>
                    <a:pt x="325" y="480"/>
                    <a:pt x="324" y="482"/>
                    <a:pt x="324" y="483"/>
                  </a:cubicBezTo>
                  <a:cubicBezTo>
                    <a:pt x="325" y="485"/>
                    <a:pt x="325" y="485"/>
                    <a:pt x="326" y="485"/>
                  </a:cubicBezTo>
                  <a:cubicBezTo>
                    <a:pt x="327" y="486"/>
                    <a:pt x="328" y="482"/>
                    <a:pt x="329" y="486"/>
                  </a:cubicBezTo>
                  <a:lnTo>
                    <a:pt x="335" y="506"/>
                  </a:lnTo>
                  <a:cubicBezTo>
                    <a:pt x="330" y="514"/>
                    <a:pt x="321" y="518"/>
                    <a:pt x="317" y="527"/>
                  </a:cubicBezTo>
                  <a:cubicBezTo>
                    <a:pt x="318" y="526"/>
                    <a:pt x="320" y="529"/>
                    <a:pt x="321" y="530"/>
                  </a:cubicBezTo>
                  <a:cubicBezTo>
                    <a:pt x="322" y="531"/>
                    <a:pt x="320" y="533"/>
                    <a:pt x="321" y="534"/>
                  </a:cubicBezTo>
                  <a:cubicBezTo>
                    <a:pt x="320" y="535"/>
                    <a:pt x="318" y="535"/>
                    <a:pt x="318" y="536"/>
                  </a:cubicBezTo>
                  <a:cubicBezTo>
                    <a:pt x="318" y="537"/>
                    <a:pt x="319" y="539"/>
                    <a:pt x="321" y="539"/>
                  </a:cubicBezTo>
                  <a:cubicBezTo>
                    <a:pt x="322" y="538"/>
                    <a:pt x="332" y="533"/>
                    <a:pt x="333" y="533"/>
                  </a:cubicBezTo>
                  <a:cubicBezTo>
                    <a:pt x="334" y="532"/>
                    <a:pt x="335" y="532"/>
                    <a:pt x="337" y="533"/>
                  </a:cubicBezTo>
                  <a:cubicBezTo>
                    <a:pt x="338" y="533"/>
                    <a:pt x="335" y="537"/>
                    <a:pt x="335" y="538"/>
                  </a:cubicBezTo>
                  <a:cubicBezTo>
                    <a:pt x="336" y="540"/>
                    <a:pt x="336" y="544"/>
                    <a:pt x="337" y="545"/>
                  </a:cubicBezTo>
                  <a:cubicBezTo>
                    <a:pt x="338" y="549"/>
                    <a:pt x="338" y="549"/>
                    <a:pt x="342" y="550"/>
                  </a:cubicBezTo>
                  <a:cubicBezTo>
                    <a:pt x="342" y="552"/>
                    <a:pt x="344" y="549"/>
                    <a:pt x="344" y="552"/>
                  </a:cubicBezTo>
                  <a:cubicBezTo>
                    <a:pt x="344" y="552"/>
                    <a:pt x="342" y="552"/>
                    <a:pt x="342" y="554"/>
                  </a:cubicBezTo>
                  <a:cubicBezTo>
                    <a:pt x="342" y="556"/>
                    <a:pt x="341" y="563"/>
                    <a:pt x="342" y="564"/>
                  </a:cubicBezTo>
                  <a:cubicBezTo>
                    <a:pt x="343" y="566"/>
                    <a:pt x="346" y="563"/>
                    <a:pt x="348" y="565"/>
                  </a:cubicBezTo>
                  <a:cubicBezTo>
                    <a:pt x="350" y="566"/>
                    <a:pt x="350" y="573"/>
                    <a:pt x="353" y="574"/>
                  </a:cubicBezTo>
                  <a:cubicBezTo>
                    <a:pt x="355" y="576"/>
                    <a:pt x="361" y="573"/>
                    <a:pt x="363" y="573"/>
                  </a:cubicBezTo>
                  <a:cubicBezTo>
                    <a:pt x="366" y="574"/>
                    <a:pt x="365" y="575"/>
                    <a:pt x="367" y="576"/>
                  </a:cubicBezTo>
                  <a:cubicBezTo>
                    <a:pt x="369" y="577"/>
                    <a:pt x="371" y="578"/>
                    <a:pt x="374" y="578"/>
                  </a:cubicBezTo>
                  <a:cubicBezTo>
                    <a:pt x="375" y="579"/>
                    <a:pt x="377" y="579"/>
                    <a:pt x="377" y="579"/>
                  </a:cubicBezTo>
                  <a:cubicBezTo>
                    <a:pt x="374" y="575"/>
                    <a:pt x="375" y="578"/>
                    <a:pt x="375" y="574"/>
                  </a:cubicBezTo>
                  <a:cubicBezTo>
                    <a:pt x="375" y="572"/>
                    <a:pt x="371" y="572"/>
                    <a:pt x="373" y="570"/>
                  </a:cubicBezTo>
                  <a:cubicBezTo>
                    <a:pt x="373" y="568"/>
                    <a:pt x="373" y="564"/>
                    <a:pt x="375" y="563"/>
                  </a:cubicBezTo>
                  <a:cubicBezTo>
                    <a:pt x="376" y="562"/>
                    <a:pt x="380" y="563"/>
                    <a:pt x="382" y="562"/>
                  </a:cubicBezTo>
                  <a:cubicBezTo>
                    <a:pt x="383" y="561"/>
                    <a:pt x="383" y="556"/>
                    <a:pt x="386" y="557"/>
                  </a:cubicBezTo>
                  <a:cubicBezTo>
                    <a:pt x="389" y="558"/>
                    <a:pt x="394" y="560"/>
                    <a:pt x="394" y="560"/>
                  </a:cubicBezTo>
                  <a:cubicBezTo>
                    <a:pt x="395" y="560"/>
                    <a:pt x="396" y="557"/>
                    <a:pt x="397" y="557"/>
                  </a:cubicBezTo>
                  <a:cubicBezTo>
                    <a:pt x="398" y="557"/>
                    <a:pt x="399" y="556"/>
                    <a:pt x="400" y="557"/>
                  </a:cubicBezTo>
                  <a:cubicBezTo>
                    <a:pt x="401" y="557"/>
                    <a:pt x="402" y="561"/>
                    <a:pt x="403" y="562"/>
                  </a:cubicBezTo>
                  <a:cubicBezTo>
                    <a:pt x="404" y="561"/>
                    <a:pt x="403" y="559"/>
                    <a:pt x="404" y="558"/>
                  </a:cubicBezTo>
                  <a:cubicBezTo>
                    <a:pt x="405" y="557"/>
                    <a:pt x="404" y="554"/>
                    <a:pt x="405" y="554"/>
                  </a:cubicBezTo>
                  <a:cubicBezTo>
                    <a:pt x="407" y="554"/>
                    <a:pt x="412" y="556"/>
                    <a:pt x="414" y="556"/>
                  </a:cubicBezTo>
                  <a:cubicBezTo>
                    <a:pt x="416" y="556"/>
                    <a:pt x="413" y="552"/>
                    <a:pt x="415" y="551"/>
                  </a:cubicBezTo>
                  <a:cubicBezTo>
                    <a:pt x="416" y="549"/>
                    <a:pt x="421" y="548"/>
                    <a:pt x="422" y="547"/>
                  </a:cubicBezTo>
                  <a:cubicBezTo>
                    <a:pt x="424" y="547"/>
                    <a:pt x="425" y="548"/>
                    <a:pt x="426" y="549"/>
                  </a:cubicBezTo>
                  <a:cubicBezTo>
                    <a:pt x="427" y="549"/>
                    <a:pt x="428" y="552"/>
                    <a:pt x="429" y="553"/>
                  </a:cubicBezTo>
                  <a:cubicBezTo>
                    <a:pt x="430" y="553"/>
                    <a:pt x="430" y="553"/>
                    <a:pt x="432" y="553"/>
                  </a:cubicBezTo>
                  <a:cubicBezTo>
                    <a:pt x="433" y="554"/>
                    <a:pt x="436" y="553"/>
                    <a:pt x="437" y="554"/>
                  </a:cubicBezTo>
                  <a:cubicBezTo>
                    <a:pt x="442" y="558"/>
                    <a:pt x="439" y="560"/>
                    <a:pt x="441" y="560"/>
                  </a:cubicBezTo>
                  <a:cubicBezTo>
                    <a:pt x="442" y="564"/>
                    <a:pt x="440" y="568"/>
                    <a:pt x="443" y="570"/>
                  </a:cubicBezTo>
                  <a:cubicBezTo>
                    <a:pt x="447" y="573"/>
                    <a:pt x="447" y="573"/>
                    <a:pt x="451" y="574"/>
                  </a:cubicBezTo>
                  <a:cubicBezTo>
                    <a:pt x="453" y="574"/>
                    <a:pt x="451" y="575"/>
                    <a:pt x="455" y="575"/>
                  </a:cubicBezTo>
                  <a:cubicBezTo>
                    <a:pt x="456" y="575"/>
                    <a:pt x="459" y="574"/>
                    <a:pt x="460" y="574"/>
                  </a:cubicBezTo>
                  <a:cubicBezTo>
                    <a:pt x="461" y="574"/>
                    <a:pt x="461" y="575"/>
                    <a:pt x="462" y="575"/>
                  </a:cubicBezTo>
                  <a:cubicBezTo>
                    <a:pt x="463" y="575"/>
                    <a:pt x="464" y="573"/>
                    <a:pt x="466" y="573"/>
                  </a:cubicBezTo>
                  <a:cubicBezTo>
                    <a:pt x="468" y="573"/>
                    <a:pt x="474" y="574"/>
                    <a:pt x="476" y="575"/>
                  </a:cubicBezTo>
                  <a:cubicBezTo>
                    <a:pt x="477" y="576"/>
                    <a:pt x="478" y="577"/>
                    <a:pt x="479" y="578"/>
                  </a:cubicBezTo>
                  <a:cubicBezTo>
                    <a:pt x="480" y="582"/>
                    <a:pt x="478" y="587"/>
                    <a:pt x="479" y="590"/>
                  </a:cubicBezTo>
                  <a:cubicBezTo>
                    <a:pt x="480" y="592"/>
                    <a:pt x="486" y="591"/>
                    <a:pt x="487" y="592"/>
                  </a:cubicBezTo>
                  <a:cubicBezTo>
                    <a:pt x="498" y="589"/>
                    <a:pt x="487" y="587"/>
                    <a:pt x="490" y="580"/>
                  </a:cubicBezTo>
                  <a:cubicBezTo>
                    <a:pt x="492" y="578"/>
                    <a:pt x="497" y="579"/>
                    <a:pt x="500" y="579"/>
                  </a:cubicBezTo>
                  <a:cubicBezTo>
                    <a:pt x="502" y="579"/>
                    <a:pt x="500" y="583"/>
                    <a:pt x="505" y="582"/>
                  </a:cubicBezTo>
                  <a:cubicBezTo>
                    <a:pt x="509" y="571"/>
                    <a:pt x="515" y="575"/>
                    <a:pt x="528" y="574"/>
                  </a:cubicBezTo>
                  <a:cubicBezTo>
                    <a:pt x="532" y="571"/>
                    <a:pt x="532" y="567"/>
                    <a:pt x="532" y="565"/>
                  </a:cubicBezTo>
                  <a:cubicBezTo>
                    <a:pt x="533" y="562"/>
                    <a:pt x="531" y="559"/>
                    <a:pt x="532" y="558"/>
                  </a:cubicBezTo>
                  <a:cubicBezTo>
                    <a:pt x="532" y="557"/>
                    <a:pt x="534" y="557"/>
                    <a:pt x="535" y="557"/>
                  </a:cubicBezTo>
                  <a:cubicBezTo>
                    <a:pt x="567" y="554"/>
                    <a:pt x="555" y="560"/>
                    <a:pt x="567" y="554"/>
                  </a:cubicBezTo>
                  <a:cubicBezTo>
                    <a:pt x="577" y="551"/>
                    <a:pt x="589" y="541"/>
                    <a:pt x="594" y="536"/>
                  </a:cubicBezTo>
                  <a:cubicBezTo>
                    <a:pt x="598" y="531"/>
                    <a:pt x="592" y="528"/>
                    <a:pt x="594" y="525"/>
                  </a:cubicBezTo>
                  <a:cubicBezTo>
                    <a:pt x="598" y="524"/>
                    <a:pt x="602" y="525"/>
                    <a:pt x="605" y="523"/>
                  </a:cubicBezTo>
                  <a:cubicBezTo>
                    <a:pt x="606" y="522"/>
                    <a:pt x="605" y="520"/>
                    <a:pt x="606" y="519"/>
                  </a:cubicBezTo>
                  <a:cubicBezTo>
                    <a:pt x="607" y="518"/>
                    <a:pt x="609" y="519"/>
                    <a:pt x="610" y="518"/>
                  </a:cubicBezTo>
                  <a:cubicBezTo>
                    <a:pt x="615" y="510"/>
                    <a:pt x="611" y="502"/>
                    <a:pt x="615" y="496"/>
                  </a:cubicBezTo>
                  <a:cubicBezTo>
                    <a:pt x="616" y="494"/>
                    <a:pt x="620" y="496"/>
                    <a:pt x="623" y="495"/>
                  </a:cubicBezTo>
                  <a:cubicBezTo>
                    <a:pt x="625" y="491"/>
                    <a:pt x="624" y="486"/>
                    <a:pt x="626" y="482"/>
                  </a:cubicBezTo>
                  <a:cubicBezTo>
                    <a:pt x="627" y="479"/>
                    <a:pt x="630" y="478"/>
                    <a:pt x="632" y="477"/>
                  </a:cubicBezTo>
                  <a:cubicBezTo>
                    <a:pt x="633" y="475"/>
                    <a:pt x="633" y="472"/>
                    <a:pt x="634" y="472"/>
                  </a:cubicBezTo>
                  <a:cubicBezTo>
                    <a:pt x="635" y="471"/>
                    <a:pt x="638" y="477"/>
                    <a:pt x="639" y="475"/>
                  </a:cubicBezTo>
                  <a:cubicBezTo>
                    <a:pt x="648" y="469"/>
                    <a:pt x="637" y="469"/>
                    <a:pt x="641" y="458"/>
                  </a:cubicBezTo>
                  <a:cubicBezTo>
                    <a:pt x="642" y="455"/>
                    <a:pt x="641" y="463"/>
                    <a:pt x="645" y="456"/>
                  </a:cubicBezTo>
                  <a:cubicBezTo>
                    <a:pt x="645" y="451"/>
                    <a:pt x="643" y="452"/>
                    <a:pt x="640" y="448"/>
                  </a:cubicBezTo>
                  <a:cubicBezTo>
                    <a:pt x="649" y="445"/>
                    <a:pt x="647" y="448"/>
                    <a:pt x="649" y="442"/>
                  </a:cubicBezTo>
                  <a:cubicBezTo>
                    <a:pt x="649" y="441"/>
                    <a:pt x="647" y="442"/>
                    <a:pt x="643" y="442"/>
                  </a:cubicBezTo>
                  <a:cubicBezTo>
                    <a:pt x="641" y="441"/>
                    <a:pt x="640" y="439"/>
                    <a:pt x="638" y="439"/>
                  </a:cubicBezTo>
                  <a:cubicBezTo>
                    <a:pt x="636" y="438"/>
                    <a:pt x="632" y="440"/>
                    <a:pt x="630" y="440"/>
                  </a:cubicBezTo>
                  <a:cubicBezTo>
                    <a:pt x="628" y="440"/>
                    <a:pt x="626" y="440"/>
                    <a:pt x="627" y="439"/>
                  </a:cubicBezTo>
                  <a:cubicBezTo>
                    <a:pt x="625" y="437"/>
                    <a:pt x="634" y="434"/>
                    <a:pt x="636" y="433"/>
                  </a:cubicBezTo>
                  <a:cubicBezTo>
                    <a:pt x="639" y="432"/>
                    <a:pt x="642" y="434"/>
                    <a:pt x="642" y="433"/>
                  </a:cubicBezTo>
                  <a:cubicBezTo>
                    <a:pt x="644" y="427"/>
                    <a:pt x="645" y="425"/>
                    <a:pt x="639" y="423"/>
                  </a:cubicBezTo>
                  <a:cubicBezTo>
                    <a:pt x="638" y="422"/>
                    <a:pt x="637" y="420"/>
                    <a:pt x="635" y="419"/>
                  </a:cubicBezTo>
                  <a:cubicBezTo>
                    <a:pt x="632" y="417"/>
                    <a:pt x="620" y="416"/>
                    <a:pt x="627" y="412"/>
                  </a:cubicBezTo>
                  <a:cubicBezTo>
                    <a:pt x="632" y="413"/>
                    <a:pt x="637" y="416"/>
                    <a:pt x="641" y="413"/>
                  </a:cubicBezTo>
                  <a:cubicBezTo>
                    <a:pt x="644" y="413"/>
                    <a:pt x="648" y="418"/>
                    <a:pt x="646" y="415"/>
                  </a:cubicBezTo>
                  <a:cubicBezTo>
                    <a:pt x="644" y="412"/>
                    <a:pt x="636" y="403"/>
                    <a:pt x="630" y="395"/>
                  </a:cubicBezTo>
                  <a:cubicBezTo>
                    <a:pt x="627" y="383"/>
                    <a:pt x="624" y="376"/>
                    <a:pt x="614" y="369"/>
                  </a:cubicBezTo>
                  <a:cubicBezTo>
                    <a:pt x="611" y="365"/>
                    <a:pt x="608" y="361"/>
                    <a:pt x="613" y="356"/>
                  </a:cubicBezTo>
                  <a:cubicBezTo>
                    <a:pt x="615" y="354"/>
                    <a:pt x="617" y="352"/>
                    <a:pt x="617" y="352"/>
                  </a:cubicBezTo>
                  <a:cubicBezTo>
                    <a:pt x="619" y="351"/>
                    <a:pt x="623" y="349"/>
                    <a:pt x="624" y="348"/>
                  </a:cubicBezTo>
                  <a:cubicBezTo>
                    <a:pt x="625" y="346"/>
                    <a:pt x="623" y="342"/>
                    <a:pt x="623" y="341"/>
                  </a:cubicBezTo>
                  <a:cubicBezTo>
                    <a:pt x="625" y="339"/>
                    <a:pt x="625" y="343"/>
                    <a:pt x="627" y="342"/>
                  </a:cubicBezTo>
                  <a:cubicBezTo>
                    <a:pt x="629" y="341"/>
                    <a:pt x="632" y="337"/>
                    <a:pt x="634" y="335"/>
                  </a:cubicBezTo>
                  <a:cubicBezTo>
                    <a:pt x="637" y="333"/>
                    <a:pt x="636" y="333"/>
                    <a:pt x="639" y="332"/>
                  </a:cubicBezTo>
                  <a:cubicBezTo>
                    <a:pt x="643" y="331"/>
                    <a:pt x="651" y="331"/>
                    <a:pt x="653" y="329"/>
                  </a:cubicBezTo>
                  <a:cubicBezTo>
                    <a:pt x="656" y="327"/>
                    <a:pt x="656" y="324"/>
                    <a:pt x="655" y="322"/>
                  </a:cubicBezTo>
                  <a:cubicBezTo>
                    <a:pt x="654" y="321"/>
                    <a:pt x="650" y="321"/>
                    <a:pt x="648" y="321"/>
                  </a:cubicBezTo>
                  <a:cubicBezTo>
                    <a:pt x="646" y="321"/>
                    <a:pt x="645" y="322"/>
                    <a:pt x="642" y="322"/>
                  </a:cubicBezTo>
                  <a:cubicBezTo>
                    <a:pt x="640" y="321"/>
                    <a:pt x="637" y="316"/>
                    <a:pt x="633" y="316"/>
                  </a:cubicBezTo>
                  <a:cubicBezTo>
                    <a:pt x="629" y="315"/>
                    <a:pt x="625" y="318"/>
                    <a:pt x="622" y="320"/>
                  </a:cubicBezTo>
                  <a:cubicBezTo>
                    <a:pt x="619" y="323"/>
                    <a:pt x="620" y="329"/>
                    <a:pt x="617" y="330"/>
                  </a:cubicBezTo>
                  <a:cubicBezTo>
                    <a:pt x="613" y="329"/>
                    <a:pt x="610" y="327"/>
                    <a:pt x="606" y="325"/>
                  </a:cubicBezTo>
                  <a:cubicBezTo>
                    <a:pt x="605" y="323"/>
                    <a:pt x="602" y="314"/>
                    <a:pt x="600" y="313"/>
                  </a:cubicBezTo>
                  <a:cubicBezTo>
                    <a:pt x="597" y="311"/>
                    <a:pt x="593" y="316"/>
                    <a:pt x="593" y="316"/>
                  </a:cubicBezTo>
                  <a:cubicBezTo>
                    <a:pt x="591" y="312"/>
                    <a:pt x="591" y="309"/>
                    <a:pt x="589" y="305"/>
                  </a:cubicBezTo>
                  <a:cubicBezTo>
                    <a:pt x="588" y="302"/>
                    <a:pt x="590" y="298"/>
                    <a:pt x="590" y="298"/>
                  </a:cubicBezTo>
                  <a:cubicBezTo>
                    <a:pt x="591" y="296"/>
                    <a:pt x="591" y="291"/>
                    <a:pt x="593" y="290"/>
                  </a:cubicBezTo>
                  <a:cubicBezTo>
                    <a:pt x="595" y="289"/>
                    <a:pt x="601" y="291"/>
                    <a:pt x="603" y="291"/>
                  </a:cubicBezTo>
                  <a:cubicBezTo>
                    <a:pt x="605" y="290"/>
                    <a:pt x="603" y="290"/>
                    <a:pt x="605" y="288"/>
                  </a:cubicBezTo>
                  <a:cubicBezTo>
                    <a:pt x="609" y="285"/>
                    <a:pt x="612" y="282"/>
                    <a:pt x="615" y="278"/>
                  </a:cubicBezTo>
                  <a:cubicBezTo>
                    <a:pt x="617" y="275"/>
                    <a:pt x="617" y="276"/>
                    <a:pt x="621" y="273"/>
                  </a:cubicBezTo>
                  <a:cubicBezTo>
                    <a:pt x="624" y="271"/>
                    <a:pt x="634" y="266"/>
                    <a:pt x="636" y="264"/>
                  </a:cubicBezTo>
                  <a:cubicBezTo>
                    <a:pt x="639" y="262"/>
                    <a:pt x="635" y="261"/>
                    <a:pt x="636" y="261"/>
                  </a:cubicBezTo>
                  <a:cubicBezTo>
                    <a:pt x="638" y="262"/>
                    <a:pt x="647" y="263"/>
                    <a:pt x="647" y="266"/>
                  </a:cubicBezTo>
                  <a:cubicBezTo>
                    <a:pt x="650" y="273"/>
                    <a:pt x="645" y="276"/>
                    <a:pt x="641" y="282"/>
                  </a:cubicBezTo>
                  <a:cubicBezTo>
                    <a:pt x="640" y="286"/>
                    <a:pt x="643" y="288"/>
                    <a:pt x="642" y="290"/>
                  </a:cubicBezTo>
                  <a:cubicBezTo>
                    <a:pt x="642" y="293"/>
                    <a:pt x="637" y="295"/>
                    <a:pt x="637" y="296"/>
                  </a:cubicBezTo>
                  <a:cubicBezTo>
                    <a:pt x="638" y="298"/>
                    <a:pt x="643" y="297"/>
                    <a:pt x="645" y="296"/>
                  </a:cubicBezTo>
                  <a:cubicBezTo>
                    <a:pt x="647" y="296"/>
                    <a:pt x="651" y="288"/>
                    <a:pt x="651" y="288"/>
                  </a:cubicBezTo>
                  <a:cubicBezTo>
                    <a:pt x="652" y="285"/>
                    <a:pt x="653" y="287"/>
                    <a:pt x="655" y="284"/>
                  </a:cubicBezTo>
                  <a:cubicBezTo>
                    <a:pt x="655" y="283"/>
                    <a:pt x="664" y="282"/>
                    <a:pt x="665" y="282"/>
                  </a:cubicBezTo>
                  <a:cubicBezTo>
                    <a:pt x="667" y="280"/>
                    <a:pt x="671" y="280"/>
                    <a:pt x="674" y="279"/>
                  </a:cubicBezTo>
                  <a:cubicBezTo>
                    <a:pt x="678" y="277"/>
                    <a:pt x="691" y="267"/>
                    <a:pt x="691" y="267"/>
                  </a:cubicBezTo>
                  <a:cubicBezTo>
                    <a:pt x="696" y="264"/>
                    <a:pt x="695" y="263"/>
                    <a:pt x="699" y="259"/>
                  </a:cubicBezTo>
                  <a:cubicBezTo>
                    <a:pt x="702" y="252"/>
                    <a:pt x="699" y="258"/>
                    <a:pt x="704" y="253"/>
                  </a:cubicBezTo>
                  <a:cubicBezTo>
                    <a:pt x="708" y="249"/>
                    <a:pt x="708" y="246"/>
                    <a:pt x="714" y="244"/>
                  </a:cubicBezTo>
                  <a:cubicBezTo>
                    <a:pt x="715" y="243"/>
                    <a:pt x="716" y="241"/>
                    <a:pt x="717" y="241"/>
                  </a:cubicBezTo>
                  <a:cubicBezTo>
                    <a:pt x="720" y="241"/>
                    <a:pt x="721" y="246"/>
                    <a:pt x="722" y="248"/>
                  </a:cubicBezTo>
                  <a:cubicBezTo>
                    <a:pt x="728" y="248"/>
                    <a:pt x="729" y="250"/>
                    <a:pt x="734" y="249"/>
                  </a:cubicBezTo>
                  <a:cubicBezTo>
                    <a:pt x="735" y="248"/>
                    <a:pt x="736" y="245"/>
                    <a:pt x="736" y="243"/>
                  </a:cubicBezTo>
                  <a:cubicBezTo>
                    <a:pt x="737" y="242"/>
                    <a:pt x="740" y="242"/>
                    <a:pt x="741" y="242"/>
                  </a:cubicBezTo>
                  <a:cubicBezTo>
                    <a:pt x="744" y="242"/>
                    <a:pt x="744" y="235"/>
                    <a:pt x="747" y="235"/>
                  </a:cubicBezTo>
                  <a:cubicBezTo>
                    <a:pt x="748" y="234"/>
                    <a:pt x="752" y="239"/>
                    <a:pt x="752" y="237"/>
                  </a:cubicBezTo>
                  <a:cubicBezTo>
                    <a:pt x="753" y="235"/>
                    <a:pt x="752" y="232"/>
                    <a:pt x="753" y="230"/>
                  </a:cubicBezTo>
                  <a:cubicBezTo>
                    <a:pt x="754" y="229"/>
                    <a:pt x="756" y="225"/>
                    <a:pt x="757" y="225"/>
                  </a:cubicBezTo>
                  <a:cubicBezTo>
                    <a:pt x="758" y="224"/>
                    <a:pt x="759" y="230"/>
                    <a:pt x="762" y="229"/>
                  </a:cubicBezTo>
                  <a:cubicBezTo>
                    <a:pt x="766" y="223"/>
                    <a:pt x="766" y="221"/>
                    <a:pt x="773" y="220"/>
                  </a:cubicBezTo>
                  <a:cubicBezTo>
                    <a:pt x="771" y="213"/>
                    <a:pt x="775" y="208"/>
                    <a:pt x="773" y="201"/>
                  </a:cubicBezTo>
                  <a:cubicBezTo>
                    <a:pt x="772" y="199"/>
                    <a:pt x="770" y="194"/>
                    <a:pt x="770" y="194"/>
                  </a:cubicBezTo>
                  <a:cubicBezTo>
                    <a:pt x="771" y="191"/>
                    <a:pt x="770" y="187"/>
                    <a:pt x="771" y="184"/>
                  </a:cubicBezTo>
                  <a:cubicBezTo>
                    <a:pt x="772" y="183"/>
                    <a:pt x="774" y="183"/>
                    <a:pt x="775" y="183"/>
                  </a:cubicBezTo>
                  <a:cubicBezTo>
                    <a:pt x="777" y="183"/>
                    <a:pt x="780" y="178"/>
                    <a:pt x="783" y="178"/>
                  </a:cubicBezTo>
                  <a:cubicBezTo>
                    <a:pt x="787" y="178"/>
                    <a:pt x="794" y="182"/>
                    <a:pt x="797" y="181"/>
                  </a:cubicBezTo>
                  <a:cubicBezTo>
                    <a:pt x="800" y="180"/>
                    <a:pt x="798" y="179"/>
                    <a:pt x="799" y="173"/>
                  </a:cubicBezTo>
                  <a:cubicBezTo>
                    <a:pt x="802" y="168"/>
                    <a:pt x="809" y="156"/>
                    <a:pt x="811" y="151"/>
                  </a:cubicBezTo>
                  <a:cubicBezTo>
                    <a:pt x="812" y="149"/>
                    <a:pt x="808" y="145"/>
                    <a:pt x="810" y="144"/>
                  </a:cubicBezTo>
                  <a:cubicBezTo>
                    <a:pt x="811" y="144"/>
                    <a:pt x="815" y="137"/>
                    <a:pt x="815" y="137"/>
                  </a:cubicBezTo>
                  <a:cubicBezTo>
                    <a:pt x="817" y="134"/>
                    <a:pt x="819" y="133"/>
                    <a:pt x="820" y="130"/>
                  </a:cubicBezTo>
                  <a:cubicBezTo>
                    <a:pt x="820" y="127"/>
                    <a:pt x="822" y="118"/>
                    <a:pt x="817" y="118"/>
                  </a:cubicBezTo>
                  <a:cubicBezTo>
                    <a:pt x="812" y="117"/>
                    <a:pt x="797" y="125"/>
                    <a:pt x="791" y="126"/>
                  </a:cubicBezTo>
                  <a:cubicBezTo>
                    <a:pt x="784" y="128"/>
                    <a:pt x="782" y="127"/>
                    <a:pt x="779" y="127"/>
                  </a:cubicBezTo>
                  <a:cubicBezTo>
                    <a:pt x="777" y="126"/>
                    <a:pt x="770" y="128"/>
                    <a:pt x="768" y="126"/>
                  </a:cubicBezTo>
                  <a:cubicBezTo>
                    <a:pt x="766" y="123"/>
                    <a:pt x="764" y="113"/>
                    <a:pt x="763" y="109"/>
                  </a:cubicBezTo>
                  <a:cubicBezTo>
                    <a:pt x="762" y="105"/>
                    <a:pt x="762" y="104"/>
                    <a:pt x="761" y="102"/>
                  </a:cubicBezTo>
                  <a:cubicBezTo>
                    <a:pt x="759" y="100"/>
                    <a:pt x="758" y="102"/>
                    <a:pt x="756" y="100"/>
                  </a:cubicBezTo>
                  <a:cubicBezTo>
                    <a:pt x="754" y="98"/>
                    <a:pt x="752" y="93"/>
                    <a:pt x="749" y="91"/>
                  </a:cubicBezTo>
                  <a:cubicBezTo>
                    <a:pt x="745" y="89"/>
                    <a:pt x="740" y="88"/>
                    <a:pt x="736" y="88"/>
                  </a:cubicBezTo>
                  <a:cubicBezTo>
                    <a:pt x="735" y="85"/>
                    <a:pt x="730" y="90"/>
                    <a:pt x="728" y="88"/>
                  </a:cubicBezTo>
                  <a:cubicBezTo>
                    <a:pt x="727" y="87"/>
                    <a:pt x="727" y="85"/>
                    <a:pt x="727" y="84"/>
                  </a:cubicBezTo>
                  <a:cubicBezTo>
                    <a:pt x="727" y="84"/>
                    <a:pt x="721" y="75"/>
                    <a:pt x="720" y="73"/>
                  </a:cubicBezTo>
                  <a:cubicBezTo>
                    <a:pt x="716" y="68"/>
                    <a:pt x="716" y="62"/>
                    <a:pt x="714" y="56"/>
                  </a:cubicBezTo>
                  <a:cubicBezTo>
                    <a:pt x="711" y="52"/>
                    <a:pt x="709" y="47"/>
                    <a:pt x="708" y="42"/>
                  </a:cubicBezTo>
                  <a:cubicBezTo>
                    <a:pt x="707" y="39"/>
                    <a:pt x="707" y="35"/>
                    <a:pt x="706" y="32"/>
                  </a:cubicBezTo>
                  <a:cubicBezTo>
                    <a:pt x="701" y="16"/>
                    <a:pt x="705" y="33"/>
                    <a:pt x="705" y="25"/>
                  </a:cubicBezTo>
                  <a:cubicBezTo>
                    <a:pt x="703" y="23"/>
                    <a:pt x="699" y="14"/>
                    <a:pt x="697" y="12"/>
                  </a:cubicBezTo>
                  <a:cubicBezTo>
                    <a:pt x="696" y="11"/>
                    <a:pt x="691" y="11"/>
                    <a:pt x="689" y="10"/>
                  </a:cubicBezTo>
                  <a:cubicBezTo>
                    <a:pt x="687" y="8"/>
                    <a:pt x="685" y="8"/>
                    <a:pt x="682" y="7"/>
                  </a:cubicBezTo>
                  <a:cubicBezTo>
                    <a:pt x="678" y="6"/>
                    <a:pt x="673" y="2"/>
                    <a:pt x="668" y="2"/>
                  </a:cubicBezTo>
                  <a:cubicBezTo>
                    <a:pt x="661" y="0"/>
                    <a:pt x="654" y="3"/>
                    <a:pt x="649" y="5"/>
                  </a:cubicBezTo>
                  <a:cubicBezTo>
                    <a:pt x="643" y="6"/>
                    <a:pt x="636" y="9"/>
                    <a:pt x="633" y="11"/>
                  </a:cubicBezTo>
                  <a:cubicBezTo>
                    <a:pt x="626" y="12"/>
                    <a:pt x="631" y="9"/>
                    <a:pt x="630" y="11"/>
                  </a:cubicBezTo>
                  <a:cubicBezTo>
                    <a:pt x="628" y="12"/>
                    <a:pt x="624" y="17"/>
                    <a:pt x="623" y="19"/>
                  </a:cubicBezTo>
                  <a:cubicBezTo>
                    <a:pt x="621" y="26"/>
                    <a:pt x="622" y="20"/>
                    <a:pt x="626" y="24"/>
                  </a:cubicBezTo>
                  <a:cubicBezTo>
                    <a:pt x="627" y="25"/>
                    <a:pt x="631" y="26"/>
                    <a:pt x="631" y="27"/>
                  </a:cubicBezTo>
                  <a:cubicBezTo>
                    <a:pt x="628" y="38"/>
                    <a:pt x="629" y="44"/>
                    <a:pt x="617" y="47"/>
                  </a:cubicBezTo>
                  <a:cubicBezTo>
                    <a:pt x="614" y="56"/>
                    <a:pt x="616" y="46"/>
                    <a:pt x="613" y="65"/>
                  </a:cubicBezTo>
                  <a:cubicBezTo>
                    <a:pt x="612" y="70"/>
                    <a:pt x="608" y="69"/>
                    <a:pt x="606" y="73"/>
                  </a:cubicBezTo>
                  <a:cubicBezTo>
                    <a:pt x="604" y="79"/>
                    <a:pt x="606" y="81"/>
                    <a:pt x="600" y="82"/>
                  </a:cubicBezTo>
                  <a:cubicBezTo>
                    <a:pt x="598" y="83"/>
                    <a:pt x="598" y="89"/>
                    <a:pt x="594" y="89"/>
                  </a:cubicBezTo>
                  <a:cubicBezTo>
                    <a:pt x="591" y="89"/>
                    <a:pt x="583" y="82"/>
                    <a:pt x="580" y="83"/>
                  </a:cubicBezTo>
                  <a:cubicBezTo>
                    <a:pt x="575" y="87"/>
                    <a:pt x="575" y="97"/>
                    <a:pt x="574" y="101"/>
                  </a:cubicBezTo>
                  <a:cubicBezTo>
                    <a:pt x="572" y="105"/>
                    <a:pt x="572" y="105"/>
                    <a:pt x="570" y="108"/>
                  </a:cubicBezTo>
                  <a:cubicBezTo>
                    <a:pt x="568" y="113"/>
                    <a:pt x="567" y="113"/>
                    <a:pt x="565" y="116"/>
                  </a:cubicBezTo>
                  <a:cubicBezTo>
                    <a:pt x="564" y="119"/>
                    <a:pt x="562" y="125"/>
                    <a:pt x="563" y="127"/>
                  </a:cubicBezTo>
                  <a:cubicBezTo>
                    <a:pt x="563" y="128"/>
                    <a:pt x="569" y="128"/>
                    <a:pt x="570" y="129"/>
                  </a:cubicBezTo>
                  <a:cubicBezTo>
                    <a:pt x="572" y="129"/>
                    <a:pt x="577" y="125"/>
                    <a:pt x="579" y="126"/>
                  </a:cubicBezTo>
                  <a:cubicBezTo>
                    <a:pt x="583" y="125"/>
                    <a:pt x="584" y="126"/>
                    <a:pt x="588" y="125"/>
                  </a:cubicBezTo>
                  <a:cubicBezTo>
                    <a:pt x="590" y="125"/>
                    <a:pt x="597" y="124"/>
                    <a:pt x="597" y="124"/>
                  </a:cubicBezTo>
                  <a:cubicBezTo>
                    <a:pt x="601" y="124"/>
                    <a:pt x="601" y="128"/>
                    <a:pt x="605" y="129"/>
                  </a:cubicBezTo>
                  <a:cubicBezTo>
                    <a:pt x="608" y="130"/>
                    <a:pt x="612" y="134"/>
                    <a:pt x="612" y="134"/>
                  </a:cubicBezTo>
                  <a:cubicBezTo>
                    <a:pt x="616" y="139"/>
                    <a:pt x="620" y="143"/>
                    <a:pt x="614" y="150"/>
                  </a:cubicBezTo>
                  <a:cubicBezTo>
                    <a:pt x="612" y="152"/>
                    <a:pt x="606" y="152"/>
                    <a:pt x="604" y="151"/>
                  </a:cubicBezTo>
                  <a:cubicBezTo>
                    <a:pt x="602" y="150"/>
                    <a:pt x="595" y="149"/>
                    <a:pt x="595" y="149"/>
                  </a:cubicBezTo>
                  <a:cubicBezTo>
                    <a:pt x="588" y="150"/>
                    <a:pt x="590" y="153"/>
                    <a:pt x="585" y="158"/>
                  </a:cubicBezTo>
                  <a:cubicBezTo>
                    <a:pt x="581" y="160"/>
                    <a:pt x="579" y="156"/>
                    <a:pt x="576" y="158"/>
                  </a:cubicBezTo>
                  <a:cubicBezTo>
                    <a:pt x="573" y="159"/>
                    <a:pt x="573" y="163"/>
                    <a:pt x="570" y="167"/>
                  </a:cubicBezTo>
                  <a:cubicBezTo>
                    <a:pt x="567" y="170"/>
                    <a:pt x="561" y="176"/>
                    <a:pt x="557" y="178"/>
                  </a:cubicBezTo>
                  <a:cubicBezTo>
                    <a:pt x="555" y="180"/>
                    <a:pt x="553" y="174"/>
                    <a:pt x="550" y="176"/>
                  </a:cubicBezTo>
                  <a:cubicBezTo>
                    <a:pt x="547" y="177"/>
                    <a:pt x="541" y="185"/>
                    <a:pt x="538" y="187"/>
                  </a:cubicBezTo>
                  <a:cubicBezTo>
                    <a:pt x="524" y="182"/>
                    <a:pt x="542" y="192"/>
                    <a:pt x="528" y="186"/>
                  </a:cubicBezTo>
                  <a:cubicBezTo>
                    <a:pt x="522" y="183"/>
                    <a:pt x="522" y="180"/>
                    <a:pt x="516" y="179"/>
                  </a:cubicBezTo>
                  <a:cubicBezTo>
                    <a:pt x="513" y="180"/>
                    <a:pt x="509" y="178"/>
                    <a:pt x="506" y="181"/>
                  </a:cubicBezTo>
                  <a:cubicBezTo>
                    <a:pt x="504" y="183"/>
                    <a:pt x="505" y="186"/>
                    <a:pt x="505" y="189"/>
                  </a:cubicBezTo>
                  <a:cubicBezTo>
                    <a:pt x="506" y="192"/>
                    <a:pt x="510" y="197"/>
                    <a:pt x="511" y="200"/>
                  </a:cubicBezTo>
                  <a:cubicBezTo>
                    <a:pt x="511" y="204"/>
                    <a:pt x="512" y="206"/>
                    <a:pt x="509" y="209"/>
                  </a:cubicBezTo>
                  <a:cubicBezTo>
                    <a:pt x="500" y="213"/>
                    <a:pt x="496" y="220"/>
                    <a:pt x="492" y="223"/>
                  </a:cubicBezTo>
                  <a:cubicBezTo>
                    <a:pt x="491" y="225"/>
                    <a:pt x="481" y="228"/>
                    <a:pt x="479" y="228"/>
                  </a:cubicBezTo>
                  <a:cubicBezTo>
                    <a:pt x="467" y="232"/>
                    <a:pt x="472" y="228"/>
                    <a:pt x="458" y="229"/>
                  </a:cubicBezTo>
                  <a:cubicBezTo>
                    <a:pt x="446" y="231"/>
                    <a:pt x="441" y="236"/>
                    <a:pt x="430" y="239"/>
                  </a:cubicBezTo>
                  <a:cubicBezTo>
                    <a:pt x="423" y="241"/>
                    <a:pt x="428" y="240"/>
                    <a:pt x="420" y="243"/>
                  </a:cubicBezTo>
                  <a:cubicBezTo>
                    <a:pt x="418" y="244"/>
                    <a:pt x="409" y="240"/>
                    <a:pt x="409" y="240"/>
                  </a:cubicBezTo>
                  <a:cubicBezTo>
                    <a:pt x="398" y="238"/>
                    <a:pt x="403" y="239"/>
                    <a:pt x="393" y="236"/>
                  </a:cubicBezTo>
                  <a:cubicBezTo>
                    <a:pt x="386" y="234"/>
                    <a:pt x="380" y="227"/>
                    <a:pt x="370" y="226"/>
                  </a:cubicBezTo>
                  <a:cubicBezTo>
                    <a:pt x="356" y="226"/>
                    <a:pt x="343" y="226"/>
                    <a:pt x="329" y="225"/>
                  </a:cubicBezTo>
                  <a:cubicBezTo>
                    <a:pt x="322" y="223"/>
                    <a:pt x="314" y="221"/>
                    <a:pt x="306" y="219"/>
                  </a:cubicBezTo>
                  <a:cubicBezTo>
                    <a:pt x="304" y="219"/>
                    <a:pt x="299" y="217"/>
                    <a:pt x="299" y="217"/>
                  </a:cubicBezTo>
                  <a:cubicBezTo>
                    <a:pt x="293" y="210"/>
                    <a:pt x="297" y="210"/>
                    <a:pt x="293" y="201"/>
                  </a:cubicBezTo>
                  <a:cubicBezTo>
                    <a:pt x="292" y="199"/>
                    <a:pt x="279" y="191"/>
                    <a:pt x="279" y="190"/>
                  </a:cubicBezTo>
                  <a:cubicBezTo>
                    <a:pt x="264" y="176"/>
                    <a:pt x="263" y="179"/>
                    <a:pt x="238" y="178"/>
                  </a:cubicBezTo>
                  <a:cubicBezTo>
                    <a:pt x="236" y="177"/>
                    <a:pt x="235" y="176"/>
                    <a:pt x="234" y="176"/>
                  </a:cubicBezTo>
                  <a:cubicBezTo>
                    <a:pt x="233" y="175"/>
                    <a:pt x="231" y="176"/>
                    <a:pt x="230" y="175"/>
                  </a:cubicBezTo>
                  <a:cubicBezTo>
                    <a:pt x="229" y="170"/>
                    <a:pt x="233" y="169"/>
                    <a:pt x="235" y="167"/>
                  </a:cubicBezTo>
                  <a:cubicBezTo>
                    <a:pt x="240" y="160"/>
                    <a:pt x="235" y="158"/>
                    <a:pt x="233" y="152"/>
                  </a:cubicBezTo>
                  <a:cubicBezTo>
                    <a:pt x="232" y="142"/>
                    <a:pt x="234" y="136"/>
                    <a:pt x="227" y="131"/>
                  </a:cubicBezTo>
                  <a:cubicBezTo>
                    <a:pt x="225" y="129"/>
                    <a:pt x="223" y="127"/>
                    <a:pt x="222" y="124"/>
                  </a:cubicBezTo>
                  <a:cubicBezTo>
                    <a:pt x="222" y="123"/>
                    <a:pt x="222" y="121"/>
                    <a:pt x="221" y="120"/>
                  </a:cubicBezTo>
                  <a:cubicBezTo>
                    <a:pt x="216" y="116"/>
                    <a:pt x="208" y="118"/>
                    <a:pt x="202" y="118"/>
                  </a:cubicBezTo>
                  <a:cubicBezTo>
                    <a:pt x="196" y="114"/>
                    <a:pt x="195" y="111"/>
                    <a:pt x="193" y="105"/>
                  </a:cubicBezTo>
                  <a:cubicBezTo>
                    <a:pt x="193" y="103"/>
                    <a:pt x="193" y="101"/>
                    <a:pt x="192" y="100"/>
                  </a:cubicBezTo>
                  <a:cubicBezTo>
                    <a:pt x="190" y="98"/>
                    <a:pt x="188" y="98"/>
                    <a:pt x="185" y="97"/>
                  </a:cubicBezTo>
                  <a:cubicBezTo>
                    <a:pt x="182" y="95"/>
                    <a:pt x="180" y="98"/>
                    <a:pt x="234" y="153"/>
                  </a:cubicBezTo>
                  <a:cubicBezTo>
                    <a:pt x="234" y="153"/>
                    <a:pt x="177" y="96"/>
                    <a:pt x="177" y="96"/>
                  </a:cubicBezTo>
                  <a:close/>
                </a:path>
              </a:pathLst>
            </a:custGeom>
            <a:solidFill>
              <a:srgbClr val="bc000d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未知"/>
            <p:cNvSpPr/>
            <p:nvPr/>
          </p:nvSpPr>
          <p:spPr>
            <a:xfrm>
              <a:off x="4268880" y="3561840"/>
              <a:ext cx="53280" cy="101880"/>
            </a:xfrm>
            <a:custGeom>
              <a:avLst/>
              <a:gdLst/>
              <a:ahLst/>
              <a:rect l="l" t="t" r="r" b="b"/>
              <a:pathLst>
                <a:path w="179" h="341">
                  <a:moveTo>
                    <a:pt x="112" y="10"/>
                  </a:moveTo>
                  <a:cubicBezTo>
                    <a:pt x="98" y="30"/>
                    <a:pt x="79" y="66"/>
                    <a:pt x="56" y="74"/>
                  </a:cubicBezTo>
                  <a:cubicBezTo>
                    <a:pt x="49" y="85"/>
                    <a:pt x="40" y="110"/>
                    <a:pt x="40" y="110"/>
                  </a:cubicBezTo>
                  <a:cubicBezTo>
                    <a:pt x="39" y="119"/>
                    <a:pt x="40" y="130"/>
                    <a:pt x="36" y="138"/>
                  </a:cubicBezTo>
                  <a:cubicBezTo>
                    <a:pt x="34" y="142"/>
                    <a:pt x="25" y="138"/>
                    <a:pt x="24" y="142"/>
                  </a:cubicBezTo>
                  <a:cubicBezTo>
                    <a:pt x="0" y="232"/>
                    <a:pt x="35" y="175"/>
                    <a:pt x="12" y="210"/>
                  </a:cubicBezTo>
                  <a:cubicBezTo>
                    <a:pt x="21" y="248"/>
                    <a:pt x="16" y="258"/>
                    <a:pt x="44" y="286"/>
                  </a:cubicBezTo>
                  <a:cubicBezTo>
                    <a:pt x="57" y="324"/>
                    <a:pt x="50" y="341"/>
                    <a:pt x="96" y="334"/>
                  </a:cubicBezTo>
                  <a:cubicBezTo>
                    <a:pt x="97" y="307"/>
                    <a:pt x="93" y="296"/>
                    <a:pt x="100" y="270"/>
                  </a:cubicBezTo>
                  <a:cubicBezTo>
                    <a:pt x="104" y="256"/>
                    <a:pt x="136" y="230"/>
                    <a:pt x="136" y="230"/>
                  </a:cubicBezTo>
                  <a:cubicBezTo>
                    <a:pt x="137" y="211"/>
                    <a:pt x="135" y="192"/>
                    <a:pt x="140" y="174"/>
                  </a:cubicBezTo>
                  <a:cubicBezTo>
                    <a:pt x="141" y="169"/>
                    <a:pt x="151" y="171"/>
                    <a:pt x="152" y="166"/>
                  </a:cubicBezTo>
                  <a:cubicBezTo>
                    <a:pt x="155" y="149"/>
                    <a:pt x="149" y="133"/>
                    <a:pt x="144" y="118"/>
                  </a:cubicBezTo>
                  <a:cubicBezTo>
                    <a:pt x="145" y="111"/>
                    <a:pt x="145" y="104"/>
                    <a:pt x="148" y="98"/>
                  </a:cubicBezTo>
                  <a:cubicBezTo>
                    <a:pt x="152" y="89"/>
                    <a:pt x="164" y="74"/>
                    <a:pt x="164" y="74"/>
                  </a:cubicBezTo>
                  <a:cubicBezTo>
                    <a:pt x="165" y="69"/>
                    <a:pt x="179" y="20"/>
                    <a:pt x="172" y="14"/>
                  </a:cubicBezTo>
                  <a:cubicBezTo>
                    <a:pt x="163" y="3"/>
                    <a:pt x="131" y="0"/>
                    <a:pt x="112" y="10"/>
                  </a:cubicBezTo>
                  <a:close/>
                </a:path>
              </a:pathLst>
            </a:custGeom>
            <a:solidFill>
              <a:srgbClr val="bc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未知"/>
            <p:cNvSpPr/>
            <p:nvPr/>
          </p:nvSpPr>
          <p:spPr>
            <a:xfrm>
              <a:off x="3966120" y="3712680"/>
              <a:ext cx="62640" cy="60480"/>
            </a:xfrm>
            <a:custGeom>
              <a:avLst/>
              <a:gdLst/>
              <a:ahLst/>
              <a:rect l="l" t="t" r="r" b="b"/>
              <a:pathLst>
                <a:path w="210" h="203">
                  <a:moveTo>
                    <a:pt x="44" y="30"/>
                  </a:moveTo>
                  <a:cubicBezTo>
                    <a:pt x="37" y="35"/>
                    <a:pt x="45" y="48"/>
                    <a:pt x="40" y="54"/>
                  </a:cubicBezTo>
                  <a:cubicBezTo>
                    <a:pt x="32" y="63"/>
                    <a:pt x="16" y="59"/>
                    <a:pt x="4" y="62"/>
                  </a:cubicBezTo>
                  <a:cubicBezTo>
                    <a:pt x="5" y="93"/>
                    <a:pt x="0" y="124"/>
                    <a:pt x="8" y="154"/>
                  </a:cubicBezTo>
                  <a:cubicBezTo>
                    <a:pt x="10" y="161"/>
                    <a:pt x="21" y="148"/>
                    <a:pt x="28" y="150"/>
                  </a:cubicBezTo>
                  <a:cubicBezTo>
                    <a:pt x="41" y="154"/>
                    <a:pt x="32" y="168"/>
                    <a:pt x="40" y="174"/>
                  </a:cubicBezTo>
                  <a:cubicBezTo>
                    <a:pt x="48" y="180"/>
                    <a:pt x="59" y="179"/>
                    <a:pt x="68" y="182"/>
                  </a:cubicBezTo>
                  <a:cubicBezTo>
                    <a:pt x="81" y="202"/>
                    <a:pt x="84" y="203"/>
                    <a:pt x="108" y="198"/>
                  </a:cubicBezTo>
                  <a:cubicBezTo>
                    <a:pt x="109" y="193"/>
                    <a:pt x="108" y="186"/>
                    <a:pt x="112" y="182"/>
                  </a:cubicBezTo>
                  <a:cubicBezTo>
                    <a:pt x="116" y="178"/>
                    <a:pt x="124" y="182"/>
                    <a:pt x="128" y="178"/>
                  </a:cubicBezTo>
                  <a:cubicBezTo>
                    <a:pt x="132" y="173"/>
                    <a:pt x="127" y="163"/>
                    <a:pt x="132" y="158"/>
                  </a:cubicBezTo>
                  <a:cubicBezTo>
                    <a:pt x="138" y="152"/>
                    <a:pt x="148" y="153"/>
                    <a:pt x="156" y="150"/>
                  </a:cubicBezTo>
                  <a:cubicBezTo>
                    <a:pt x="169" y="141"/>
                    <a:pt x="192" y="118"/>
                    <a:pt x="192" y="118"/>
                  </a:cubicBezTo>
                  <a:cubicBezTo>
                    <a:pt x="193" y="101"/>
                    <a:pt x="192" y="83"/>
                    <a:pt x="196" y="66"/>
                  </a:cubicBezTo>
                  <a:cubicBezTo>
                    <a:pt x="197" y="61"/>
                    <a:pt x="207" y="63"/>
                    <a:pt x="208" y="58"/>
                  </a:cubicBezTo>
                  <a:cubicBezTo>
                    <a:pt x="210" y="47"/>
                    <a:pt x="208" y="36"/>
                    <a:pt x="204" y="26"/>
                  </a:cubicBezTo>
                  <a:cubicBezTo>
                    <a:pt x="200" y="16"/>
                    <a:pt x="190" y="11"/>
                    <a:pt x="184" y="2"/>
                  </a:cubicBezTo>
                  <a:cubicBezTo>
                    <a:pt x="164" y="3"/>
                    <a:pt x="143" y="0"/>
                    <a:pt x="124" y="6"/>
                  </a:cubicBezTo>
                  <a:cubicBezTo>
                    <a:pt x="101" y="11"/>
                    <a:pt x="58" y="22"/>
                    <a:pt x="44" y="30"/>
                  </a:cubicBezTo>
                  <a:close/>
                </a:path>
              </a:pathLst>
            </a:custGeom>
            <a:solidFill>
              <a:srgbClr val="bc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4" name="Picture 83" descr="Icon_08"/>
          <p:cNvPicPr/>
          <p:nvPr/>
        </p:nvPicPr>
        <p:blipFill>
          <a:blip r:embed="rId6"/>
          <a:stretch/>
        </p:blipFill>
        <p:spPr>
          <a:xfrm>
            <a:off x="3851280" y="303372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475" name="AutoShape 84"/>
          <p:cNvSpPr/>
          <p:nvPr/>
        </p:nvSpPr>
        <p:spPr>
          <a:xfrm>
            <a:off x="5683320" y="3387600"/>
            <a:ext cx="3473280" cy="650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418" y="-4810"/>
                </a:moveTo>
                <a:lnTo>
                  <a:pt x="-1132" y="4740"/>
                </a:lnTo>
              </a:path>
              <a:path w="21600" h="21600">
                <a:moveTo>
                  <a:pt x="-1132" y="0"/>
                </a:moveTo>
                <a:lnTo>
                  <a:pt x="-1132" y="21600"/>
                </a:lnTo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B3068-0CEA-4B14-971D-57207059838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14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3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50" name="图片 12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51" name="任意多边形 17"/>
          <p:cNvSpPr/>
          <p:nvPr/>
        </p:nvSpPr>
        <p:spPr>
          <a:xfrm>
            <a:off x="0" y="0"/>
            <a:ext cx="5437080" cy="6858000"/>
          </a:xfrm>
          <a:custGeom>
            <a:avLst/>
            <a:gdLst/>
            <a:ahLst/>
            <a:rect l="l" t="t" r="r" b="b"/>
            <a:pathLst>
              <a:path w="5437991" h="6858000">
                <a:moveTo>
                  <a:pt x="0" y="0"/>
                </a:moveTo>
                <a:lnTo>
                  <a:pt x="5437991" y="0"/>
                </a:lnTo>
                <a:lnTo>
                  <a:pt x="1633127" y="6858000"/>
                </a:lnTo>
                <a:lnTo>
                  <a:pt x="0" y="6858000"/>
                </a:lnTo>
                <a:lnTo>
                  <a:pt x="0" y="0"/>
                </a:lnTo>
                <a:close/>
              </a:path>
            </a:pathLst>
          </a:custGeom>
          <a:solidFill>
            <a:srgbClr val="8e1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1308240" y="1206360"/>
            <a:ext cx="18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 Black"/>
                <a:ea typeface="华文新魏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20"/>
          <p:cNvSpPr/>
          <p:nvPr/>
        </p:nvSpPr>
        <p:spPr>
          <a:xfrm>
            <a:off x="279360" y="828720"/>
            <a:ext cx="134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直接连接符 22"/>
          <p:cNvSpPr/>
          <p:nvPr/>
        </p:nvSpPr>
        <p:spPr>
          <a:xfrm>
            <a:off x="573120" y="1628640"/>
            <a:ext cx="2430360" cy="0"/>
          </a:xfrm>
          <a:prstGeom prst="line">
            <a:avLst/>
          </a:prstGeom>
          <a:ln w="9360">
            <a:solidFill>
              <a:srgbClr val="ffffff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接连接符 24"/>
          <p:cNvSpPr/>
          <p:nvPr/>
        </p:nvSpPr>
        <p:spPr>
          <a:xfrm>
            <a:off x="1322280" y="534960"/>
            <a:ext cx="1800" cy="2124000"/>
          </a:xfrm>
          <a:prstGeom prst="line">
            <a:avLst/>
          </a:prstGeom>
          <a:ln w="9360">
            <a:solidFill>
              <a:srgbClr val="ffffff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25"/>
          <p:cNvSpPr/>
          <p:nvPr/>
        </p:nvSpPr>
        <p:spPr>
          <a:xfrm>
            <a:off x="3933720" y="1579680"/>
            <a:ext cx="736560" cy="734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28"/>
          <p:cNvSpPr/>
          <p:nvPr/>
        </p:nvSpPr>
        <p:spPr>
          <a:xfrm>
            <a:off x="3451320" y="2436840"/>
            <a:ext cx="736560" cy="736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29"/>
          <p:cNvSpPr/>
          <p:nvPr/>
        </p:nvSpPr>
        <p:spPr>
          <a:xfrm>
            <a:off x="2987640" y="3314880"/>
            <a:ext cx="735120" cy="736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椭圆 30"/>
          <p:cNvSpPr/>
          <p:nvPr/>
        </p:nvSpPr>
        <p:spPr>
          <a:xfrm>
            <a:off x="2514600" y="4183200"/>
            <a:ext cx="735120" cy="734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椭圆 31"/>
          <p:cNvSpPr/>
          <p:nvPr/>
        </p:nvSpPr>
        <p:spPr>
          <a:xfrm>
            <a:off x="3987720" y="1631880"/>
            <a:ext cx="628560" cy="630360"/>
          </a:xfrm>
          <a:prstGeom prst="ellipse">
            <a:avLst/>
          </a:prstGeom>
          <a:solidFill>
            <a:srgbClr val="ea9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 Black"/>
                <a:ea typeface="微软雅黑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椭圆 32"/>
          <p:cNvSpPr/>
          <p:nvPr/>
        </p:nvSpPr>
        <p:spPr>
          <a:xfrm>
            <a:off x="3503520" y="2490840"/>
            <a:ext cx="630360" cy="628560"/>
          </a:xfrm>
          <a:prstGeom prst="ellipse">
            <a:avLst/>
          </a:prstGeom>
          <a:solidFill>
            <a:srgbClr val="ea9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 Black"/>
                <a:ea typeface="微软雅黑"/>
              </a:rPr>
              <a:t>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椭圆 33"/>
          <p:cNvSpPr/>
          <p:nvPr/>
        </p:nvSpPr>
        <p:spPr>
          <a:xfrm>
            <a:off x="3040200" y="3367080"/>
            <a:ext cx="630000" cy="630360"/>
          </a:xfrm>
          <a:prstGeom prst="ellipse">
            <a:avLst/>
          </a:prstGeom>
          <a:solidFill>
            <a:srgbClr val="ea9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 Black"/>
                <a:ea typeface="微软雅黑"/>
              </a:rPr>
              <a:t>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椭圆 34"/>
          <p:cNvSpPr/>
          <p:nvPr/>
        </p:nvSpPr>
        <p:spPr>
          <a:xfrm>
            <a:off x="2567160" y="4227480"/>
            <a:ext cx="630000" cy="630360"/>
          </a:xfrm>
          <a:prstGeom prst="ellipse">
            <a:avLst/>
          </a:prstGeom>
          <a:solidFill>
            <a:srgbClr val="ea9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 Black"/>
                <a:ea typeface="微软雅黑"/>
              </a:rPr>
              <a:t>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35"/>
          <p:cNvSpPr/>
          <p:nvPr/>
        </p:nvSpPr>
        <p:spPr>
          <a:xfrm>
            <a:off x="4670280" y="1762200"/>
            <a:ext cx="53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36"/>
          <p:cNvSpPr/>
          <p:nvPr/>
        </p:nvSpPr>
        <p:spPr>
          <a:xfrm>
            <a:off x="4219560" y="2602080"/>
            <a:ext cx="535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37"/>
          <p:cNvSpPr/>
          <p:nvPr/>
        </p:nvSpPr>
        <p:spPr>
          <a:xfrm>
            <a:off x="3716280" y="3541680"/>
            <a:ext cx="53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38"/>
          <p:cNvSpPr/>
          <p:nvPr/>
        </p:nvSpPr>
        <p:spPr>
          <a:xfrm>
            <a:off x="3235320" y="4383000"/>
            <a:ext cx="535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图片 53" descr=""/>
          <p:cNvPicPr/>
          <p:nvPr/>
        </p:nvPicPr>
        <p:blipFill>
          <a:blip r:embed="rId5"/>
          <a:srcRect l="10434" t="0" r="56809" b="54697"/>
          <a:stretch/>
        </p:blipFill>
        <p:spPr>
          <a:xfrm>
            <a:off x="9380520" y="5089680"/>
            <a:ext cx="2671920" cy="16239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wipe dir="l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5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5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50"/>
                            </p:stCondLst>
                            <p:childTnLst>
                              <p:par>
                                <p:cTn id="4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5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5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5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5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750"/>
                            </p:stCondLst>
                            <p:childTnLst>
                              <p:par>
                                <p:cTn id="5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5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5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5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5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250"/>
                            </p:stCondLst>
                            <p:childTnLst>
                              <p:par>
                                <p:cTn id="6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5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5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5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5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750"/>
                            </p:stCondLst>
                            <p:childTnLst>
                              <p:par>
                                <p:cTn id="7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5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5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5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5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250"/>
                            </p:stCondLst>
                            <p:childTnLst>
                              <p:par>
                                <p:cTn id="8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5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5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500"/>
                            </p:stCondLst>
                            <p:childTnLst>
                              <p:par>
                                <p:cTn id="8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5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5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750"/>
                            </p:stCondLst>
                            <p:childTnLst>
                              <p:par>
                                <p:cTn id="9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5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5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5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5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250"/>
                            </p:stCondLst>
                            <p:childTnLst>
                              <p:par>
                                <p:cTn id="10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5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5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500"/>
                            </p:stCondLst>
                            <p:childTnLst>
                              <p:par>
                                <p:cTn id="10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5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5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750"/>
                            </p:stCondLst>
                            <p:childTnLst>
                              <p:par>
                                <p:cTn id="11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5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5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5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5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4250"/>
                            </p:stCondLst>
                            <p:childTnLst>
                              <p:par>
                                <p:cTn id="12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368A6-981A-4C0F-B98D-67F1D8BE6E5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479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480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482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矩形 1"/>
          <p:cNvSpPr/>
          <p:nvPr/>
        </p:nvSpPr>
        <p:spPr>
          <a:xfrm>
            <a:off x="1093680" y="1384200"/>
            <a:ext cx="3768840" cy="1882800"/>
          </a:xfrm>
          <a:custGeom>
            <a:avLst/>
            <a:gdLst/>
            <a:ahLst/>
            <a:rect l="l" t="t" r="r" b="b"/>
            <a:pathLst>
              <a:path w="3168352" h="1584176">
                <a:moveTo>
                  <a:pt x="0" y="0"/>
                </a:moveTo>
                <a:lnTo>
                  <a:pt x="3168352" y="0"/>
                </a:lnTo>
                <a:lnTo>
                  <a:pt x="3168352" y="3841"/>
                </a:lnTo>
                <a:cubicBezTo>
                  <a:pt x="2588276" y="310525"/>
                  <a:pt x="2179467" y="897330"/>
                  <a:pt x="2122331" y="1584176"/>
                </a:cubicBezTo>
                <a:lnTo>
                  <a:pt x="0" y="1584176"/>
                </a:lnTo>
                <a:lnTo>
                  <a:pt x="0" y="0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矩形 7"/>
          <p:cNvSpPr/>
          <p:nvPr/>
        </p:nvSpPr>
        <p:spPr>
          <a:xfrm>
            <a:off x="7054920" y="1384200"/>
            <a:ext cx="3765600" cy="1882800"/>
          </a:xfrm>
          <a:custGeom>
            <a:avLst/>
            <a:gdLst/>
            <a:ahLst/>
            <a:rect l="l" t="t" r="r" b="b"/>
            <a:pathLst>
              <a:path w="3166201" h="1584176">
                <a:moveTo>
                  <a:pt x="0" y="0"/>
                </a:moveTo>
                <a:lnTo>
                  <a:pt x="3166201" y="0"/>
                </a:lnTo>
                <a:lnTo>
                  <a:pt x="3166201" y="1584176"/>
                </a:lnTo>
                <a:lnTo>
                  <a:pt x="1053993" y="1584176"/>
                </a:lnTo>
                <a:cubicBezTo>
                  <a:pt x="996594" y="894244"/>
                  <a:pt x="584367" y="305252"/>
                  <a:pt x="0" y="0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矩形 8"/>
          <p:cNvSpPr/>
          <p:nvPr/>
        </p:nvSpPr>
        <p:spPr>
          <a:xfrm>
            <a:off x="1093680" y="3657600"/>
            <a:ext cx="3746520" cy="1882800"/>
          </a:xfrm>
          <a:custGeom>
            <a:avLst/>
            <a:gdLst/>
            <a:ahLst/>
            <a:rect l="l" t="t" r="r" b="b"/>
            <a:pathLst>
              <a:path w="3149815" h="1584176">
                <a:moveTo>
                  <a:pt x="0" y="0"/>
                </a:moveTo>
                <a:lnTo>
                  <a:pt x="2121681" y="0"/>
                </a:lnTo>
                <a:cubicBezTo>
                  <a:pt x="2173814" y="685187"/>
                  <a:pt x="2576164" y="1272266"/>
                  <a:pt x="3149815" y="1584176"/>
                </a:cubicBezTo>
                <a:lnTo>
                  <a:pt x="0" y="1584176"/>
                </a:lnTo>
                <a:lnTo>
                  <a:pt x="0" y="0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矩形 9"/>
          <p:cNvSpPr/>
          <p:nvPr/>
        </p:nvSpPr>
        <p:spPr>
          <a:xfrm>
            <a:off x="7086600" y="3657600"/>
            <a:ext cx="3733920" cy="1882800"/>
          </a:xfrm>
          <a:custGeom>
            <a:avLst/>
            <a:gdLst/>
            <a:ahLst/>
            <a:rect l="l" t="t" r="r" b="b"/>
            <a:pathLst>
              <a:path w="3139691" h="1584176">
                <a:moveTo>
                  <a:pt x="1028133" y="0"/>
                </a:moveTo>
                <a:lnTo>
                  <a:pt x="3139691" y="0"/>
                </a:lnTo>
                <a:lnTo>
                  <a:pt x="3139691" y="1584176"/>
                </a:lnTo>
                <a:lnTo>
                  <a:pt x="0" y="1584176"/>
                </a:lnTo>
                <a:cubicBezTo>
                  <a:pt x="573650" y="1272266"/>
                  <a:pt x="976000" y="685187"/>
                  <a:pt x="1028133" y="0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椭圆 5"/>
          <p:cNvSpPr/>
          <p:nvPr/>
        </p:nvSpPr>
        <p:spPr>
          <a:xfrm>
            <a:off x="3890880" y="1397160"/>
            <a:ext cx="4145040" cy="4146480"/>
          </a:xfrm>
          <a:prstGeom prst="ellipse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信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文本框 7"/>
          <p:cNvSpPr/>
          <p:nvPr/>
        </p:nvSpPr>
        <p:spPr>
          <a:xfrm>
            <a:off x="1605960" y="17146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文本框 8"/>
          <p:cNvSpPr/>
          <p:nvPr/>
        </p:nvSpPr>
        <p:spPr>
          <a:xfrm>
            <a:off x="1605960" y="21416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文本框 9"/>
          <p:cNvSpPr/>
          <p:nvPr/>
        </p:nvSpPr>
        <p:spPr>
          <a:xfrm>
            <a:off x="1605960" y="25686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文本框 10"/>
          <p:cNvSpPr/>
          <p:nvPr/>
        </p:nvSpPr>
        <p:spPr>
          <a:xfrm>
            <a:off x="1619640" y="39816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文本框 11"/>
          <p:cNvSpPr/>
          <p:nvPr/>
        </p:nvSpPr>
        <p:spPr>
          <a:xfrm>
            <a:off x="1619640" y="440856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文本框 12"/>
          <p:cNvSpPr/>
          <p:nvPr/>
        </p:nvSpPr>
        <p:spPr>
          <a:xfrm>
            <a:off x="1619640" y="48355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文本框 13"/>
          <p:cNvSpPr/>
          <p:nvPr/>
        </p:nvSpPr>
        <p:spPr>
          <a:xfrm>
            <a:off x="8890920" y="40384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文本框 14"/>
          <p:cNvSpPr/>
          <p:nvPr/>
        </p:nvSpPr>
        <p:spPr>
          <a:xfrm>
            <a:off x="8890920" y="44672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文本框 15"/>
          <p:cNvSpPr/>
          <p:nvPr/>
        </p:nvSpPr>
        <p:spPr>
          <a:xfrm>
            <a:off x="8890920" y="4894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文本框 16"/>
          <p:cNvSpPr/>
          <p:nvPr/>
        </p:nvSpPr>
        <p:spPr>
          <a:xfrm>
            <a:off x="8851320" y="17146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文本框 17"/>
          <p:cNvSpPr/>
          <p:nvPr/>
        </p:nvSpPr>
        <p:spPr>
          <a:xfrm>
            <a:off x="8851320" y="21416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文本框 18"/>
          <p:cNvSpPr/>
          <p:nvPr/>
        </p:nvSpPr>
        <p:spPr>
          <a:xfrm>
            <a:off x="8851320" y="25686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FE74-EED7-41B0-9234-CF909C158E0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503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504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505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507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组合 22"/>
          <p:cNvGrpSpPr/>
          <p:nvPr/>
        </p:nvGrpSpPr>
        <p:grpSpPr>
          <a:xfrm>
            <a:off x="1065240" y="689040"/>
            <a:ext cx="9374040" cy="5413320"/>
            <a:chOff x="1065240" y="689040"/>
            <a:chExt cx="9374040" cy="5413320"/>
          </a:xfrm>
        </p:grpSpPr>
        <p:sp>
          <p:nvSpPr>
            <p:cNvPr id="510" name="AutoShape 8"/>
            <p:cNvSpPr/>
            <p:nvPr/>
          </p:nvSpPr>
          <p:spPr>
            <a:xfrm>
              <a:off x="1065240" y="1368720"/>
              <a:ext cx="9374040" cy="4733640"/>
            </a:xfrm>
            <a:prstGeom prst="roundRect">
              <a:avLst>
                <a:gd name="adj" fmla="val 2028"/>
              </a:avLst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"/>
                <a:tabLst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矩形 3"/>
            <p:cNvSpPr/>
            <p:nvPr/>
          </p:nvSpPr>
          <p:spPr>
            <a:xfrm>
              <a:off x="1428480" y="731520"/>
              <a:ext cx="277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AutoShape 3"/>
            <p:cNvSpPr/>
            <p:nvPr/>
          </p:nvSpPr>
          <p:spPr>
            <a:xfrm>
              <a:off x="2112840" y="2060640"/>
              <a:ext cx="4551480" cy="3661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c00000"/>
                </a:gs>
              </a:gsLst>
              <a:lin ang="30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矩形 19"/>
            <p:cNvSpPr/>
            <p:nvPr/>
          </p:nvSpPr>
          <p:spPr>
            <a:xfrm>
              <a:off x="1167480" y="2034360"/>
              <a:ext cx="80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北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AutoShape 3"/>
            <p:cNvSpPr/>
            <p:nvPr/>
          </p:nvSpPr>
          <p:spPr>
            <a:xfrm>
              <a:off x="2112840" y="2813040"/>
              <a:ext cx="3807000" cy="3661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595959"/>
                </a:gs>
              </a:gsLst>
              <a:lin ang="30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tabLst>
                  <a:tab algn="l" pos="0"/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AutoShape 3"/>
            <p:cNvSpPr/>
            <p:nvPr/>
          </p:nvSpPr>
          <p:spPr>
            <a:xfrm>
              <a:off x="2112840" y="3565800"/>
              <a:ext cx="2431440" cy="3679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c00000"/>
                </a:gs>
              </a:gsLst>
              <a:lin ang="30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AutoShape 3"/>
            <p:cNvSpPr/>
            <p:nvPr/>
          </p:nvSpPr>
          <p:spPr>
            <a:xfrm>
              <a:off x="2112840" y="4320360"/>
              <a:ext cx="2981520" cy="3661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595959"/>
                </a:gs>
              </a:gsLst>
              <a:lin ang="30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tabLst>
                  <a:tab algn="l" pos="0"/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直接连接符 9"/>
            <p:cNvSpPr/>
            <p:nvPr/>
          </p:nvSpPr>
          <p:spPr>
            <a:xfrm>
              <a:off x="7324200" y="1483920"/>
              <a:ext cx="0" cy="4494960"/>
            </a:xfrm>
            <a:prstGeom prst="line">
              <a:avLst/>
            </a:prstGeom>
            <a:ln w="19080">
              <a:solidFill>
                <a:srgbClr val="595959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矩形 10"/>
            <p:cNvSpPr/>
            <p:nvPr/>
          </p:nvSpPr>
          <p:spPr>
            <a:xfrm>
              <a:off x="7344360" y="689040"/>
              <a:ext cx="277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AutoShape 3"/>
            <p:cNvSpPr/>
            <p:nvPr/>
          </p:nvSpPr>
          <p:spPr>
            <a:xfrm>
              <a:off x="2112840" y="5072760"/>
              <a:ext cx="1055880" cy="3679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c00000"/>
                </a:gs>
              </a:gsLst>
              <a:lin ang="30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矩形 19"/>
            <p:cNvSpPr/>
            <p:nvPr/>
          </p:nvSpPr>
          <p:spPr>
            <a:xfrm>
              <a:off x="1167480" y="2786760"/>
              <a:ext cx="80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上海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矩形 19"/>
            <p:cNvSpPr/>
            <p:nvPr/>
          </p:nvSpPr>
          <p:spPr>
            <a:xfrm>
              <a:off x="1167480" y="3537360"/>
              <a:ext cx="80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广州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矩形 19"/>
            <p:cNvSpPr/>
            <p:nvPr/>
          </p:nvSpPr>
          <p:spPr>
            <a:xfrm>
              <a:off x="1167480" y="4287960"/>
              <a:ext cx="80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天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矩形 19"/>
            <p:cNvSpPr/>
            <p:nvPr/>
          </p:nvSpPr>
          <p:spPr>
            <a:xfrm>
              <a:off x="1167480" y="5038560"/>
              <a:ext cx="80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重庆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矩形 19"/>
            <p:cNvSpPr/>
            <p:nvPr/>
          </p:nvSpPr>
          <p:spPr>
            <a:xfrm>
              <a:off x="7955640" y="2066400"/>
              <a:ext cx="193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矩形 19"/>
            <p:cNvSpPr/>
            <p:nvPr/>
          </p:nvSpPr>
          <p:spPr>
            <a:xfrm>
              <a:off x="7955640" y="2831400"/>
              <a:ext cx="193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矩形 19"/>
            <p:cNvSpPr/>
            <p:nvPr/>
          </p:nvSpPr>
          <p:spPr>
            <a:xfrm>
              <a:off x="7955640" y="3597840"/>
              <a:ext cx="193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矩形 20"/>
            <p:cNvSpPr/>
            <p:nvPr/>
          </p:nvSpPr>
          <p:spPr>
            <a:xfrm>
              <a:off x="7955640" y="4364640"/>
              <a:ext cx="193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矩形 19"/>
            <p:cNvSpPr/>
            <p:nvPr/>
          </p:nvSpPr>
          <p:spPr>
            <a:xfrm>
              <a:off x="7955640" y="5129280"/>
              <a:ext cx="193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F8A61-4F7B-42D4-B55C-E26BA74B8DF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531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532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533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535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矩形 54"/>
          <p:cNvSpPr/>
          <p:nvPr/>
        </p:nvSpPr>
        <p:spPr>
          <a:xfrm>
            <a:off x="1695600" y="3457440"/>
            <a:ext cx="1645920" cy="2705400"/>
          </a:xfrm>
          <a:prstGeom prst="rect">
            <a:avLst/>
          </a:prstGeom>
          <a:gradFill rotWithShape="0">
            <a:gsLst>
              <a:gs pos="0">
                <a:srgbClr val="d8d8d8"/>
              </a:gs>
              <a:gs pos="100000">
                <a:srgbClr val="bfbfbf"/>
              </a:gs>
            </a:gsLst>
            <a:lin ang="4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矩形 55"/>
          <p:cNvSpPr/>
          <p:nvPr/>
        </p:nvSpPr>
        <p:spPr>
          <a:xfrm>
            <a:off x="4232160" y="2257560"/>
            <a:ext cx="1644840" cy="3919320"/>
          </a:xfrm>
          <a:prstGeom prst="rect">
            <a:avLst/>
          </a:prstGeom>
          <a:gradFill rotWithShape="0">
            <a:gsLst>
              <a:gs pos="0">
                <a:srgbClr val="d8d8d8"/>
              </a:gs>
              <a:gs pos="100000">
                <a:srgbClr val="bfbfbf"/>
              </a:gs>
            </a:gsLst>
            <a:lin ang="4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组合 56"/>
          <p:cNvGrpSpPr/>
          <p:nvPr/>
        </p:nvGrpSpPr>
        <p:grpSpPr>
          <a:xfrm>
            <a:off x="3073320" y="5718240"/>
            <a:ext cx="7877160" cy="498960"/>
            <a:chOff x="3073320" y="5718240"/>
            <a:chExt cx="7877160" cy="498960"/>
          </a:xfrm>
        </p:grpSpPr>
        <p:sp>
          <p:nvSpPr>
            <p:cNvPr id="540" name="平行四边形 57"/>
            <p:cNvSpPr/>
            <p:nvPr/>
          </p:nvSpPr>
          <p:spPr>
            <a:xfrm>
              <a:off x="3073320" y="5837400"/>
              <a:ext cx="7877160" cy="379800"/>
            </a:xfrm>
            <a:prstGeom prst="parallelogram">
              <a:avLst>
                <a:gd name="adj" fmla="val -23946"/>
              </a:avLst>
            </a:prstGeom>
            <a:gradFill rotWithShape="0">
              <a:gsLst>
                <a:gs pos="0">
                  <a:srgbClr val="59595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Box 11"/>
            <p:cNvSpPr/>
            <p:nvPr/>
          </p:nvSpPr>
          <p:spPr>
            <a:xfrm flipH="1">
              <a:off x="5315760" y="5718240"/>
              <a:ext cx="339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组合 6"/>
          <p:cNvGrpSpPr/>
          <p:nvPr/>
        </p:nvGrpSpPr>
        <p:grpSpPr>
          <a:xfrm>
            <a:off x="1346040" y="5837400"/>
            <a:ext cx="1995480" cy="374400"/>
            <a:chOff x="1346040" y="5837400"/>
            <a:chExt cx="1995480" cy="374400"/>
          </a:xfrm>
        </p:grpSpPr>
        <p:sp>
          <p:nvSpPr>
            <p:cNvPr id="543" name="任意多边形 60"/>
            <p:cNvSpPr/>
            <p:nvPr/>
          </p:nvSpPr>
          <p:spPr>
            <a:xfrm>
              <a:off x="1346040" y="5837400"/>
              <a:ext cx="1995480" cy="307440"/>
            </a:xfrm>
            <a:custGeom>
              <a:avLst/>
              <a:gdLst/>
              <a:ahLst/>
              <a:rect l="l" t="t" r="r" b="b"/>
              <a:pathLst>
                <a:path w="1828800" h="282222">
                  <a:moveTo>
                    <a:pt x="0" y="282222"/>
                  </a:moveTo>
                  <a:lnTo>
                    <a:pt x="1648178" y="282222"/>
                  </a:lnTo>
                  <a:lnTo>
                    <a:pt x="1828800" y="0"/>
                  </a:lnTo>
                  <a:lnTo>
                    <a:pt x="203200" y="0"/>
                  </a:lnTo>
                  <a:lnTo>
                    <a:pt x="0" y="282222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a5a5a5"/>
                </a:gs>
              </a:gsLst>
              <a:lin ang="108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矩形 61"/>
            <p:cNvSpPr/>
            <p:nvPr/>
          </p:nvSpPr>
          <p:spPr>
            <a:xfrm>
              <a:off x="1346040" y="6144840"/>
              <a:ext cx="1802160" cy="6696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a5a5a5"/>
                </a:gs>
              </a:gsLst>
              <a:lin ang="108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组合 12"/>
          <p:cNvGrpSpPr/>
          <p:nvPr/>
        </p:nvGrpSpPr>
        <p:grpSpPr>
          <a:xfrm>
            <a:off x="3073320" y="4803840"/>
            <a:ext cx="1174680" cy="1409760"/>
            <a:chOff x="3073320" y="4803840"/>
            <a:chExt cx="1174680" cy="1409760"/>
          </a:xfrm>
        </p:grpSpPr>
        <p:sp>
          <p:nvSpPr>
            <p:cNvPr id="546" name="任意多边形 63"/>
            <p:cNvSpPr/>
            <p:nvPr/>
          </p:nvSpPr>
          <p:spPr>
            <a:xfrm>
              <a:off x="3139920" y="4803840"/>
              <a:ext cx="1108080" cy="1405080"/>
            </a:xfrm>
            <a:custGeom>
              <a:avLst/>
              <a:gdLst/>
              <a:ahLst/>
              <a:rect l="l" t="t" r="r" b="b"/>
              <a:pathLst>
                <a:path w="1002808" h="1592748">
                  <a:moveTo>
                    <a:pt x="0" y="1592748"/>
                  </a:moveTo>
                  <a:lnTo>
                    <a:pt x="433465" y="1040921"/>
                  </a:lnTo>
                  <a:lnTo>
                    <a:pt x="1002808" y="0"/>
                  </a:lnTo>
                  <a:lnTo>
                    <a:pt x="686507" y="322053"/>
                  </a:lnTo>
                  <a:lnTo>
                    <a:pt x="0" y="1592748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a5a5a5"/>
                </a:gs>
              </a:gsLst>
              <a:lin ang="108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平行四边形 64"/>
            <p:cNvSpPr/>
            <p:nvPr/>
          </p:nvSpPr>
          <p:spPr>
            <a:xfrm>
              <a:off x="3073320" y="5021640"/>
              <a:ext cx="879840" cy="1191960"/>
            </a:xfrm>
            <a:prstGeom prst="parallelogram">
              <a:avLst>
                <a:gd name="adj" fmla="val 93014"/>
              </a:avLst>
            </a:prstGeom>
            <a:gradFill rotWithShape="0">
              <a:gsLst>
                <a:gs pos="0">
                  <a:srgbClr val="262626"/>
                </a:gs>
                <a:gs pos="100000">
                  <a:srgbClr val="a5a5a5"/>
                </a:gs>
              </a:gsLst>
              <a:lin ang="108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组合 20"/>
          <p:cNvGrpSpPr/>
          <p:nvPr/>
        </p:nvGrpSpPr>
        <p:grpSpPr>
          <a:xfrm>
            <a:off x="3906720" y="4711680"/>
            <a:ext cx="1992600" cy="372960"/>
            <a:chOff x="3906720" y="4711680"/>
            <a:chExt cx="1992600" cy="372960"/>
          </a:xfrm>
        </p:grpSpPr>
        <p:sp>
          <p:nvSpPr>
            <p:cNvPr id="549" name="任意多边形 66"/>
            <p:cNvSpPr/>
            <p:nvPr/>
          </p:nvSpPr>
          <p:spPr>
            <a:xfrm>
              <a:off x="3906720" y="4711680"/>
              <a:ext cx="1992600" cy="308520"/>
            </a:xfrm>
            <a:custGeom>
              <a:avLst/>
              <a:gdLst/>
              <a:ahLst/>
              <a:rect l="l" t="t" r="r" b="b"/>
              <a:pathLst>
                <a:path w="1828800" h="282222">
                  <a:moveTo>
                    <a:pt x="0" y="282222"/>
                  </a:moveTo>
                  <a:lnTo>
                    <a:pt x="1648178" y="282222"/>
                  </a:lnTo>
                  <a:lnTo>
                    <a:pt x="1828800" y="0"/>
                  </a:lnTo>
                  <a:lnTo>
                    <a:pt x="203200" y="0"/>
                  </a:lnTo>
                  <a:lnTo>
                    <a:pt x="0" y="282222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a5a5a5"/>
                </a:gs>
              </a:gsLst>
              <a:lin ang="108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矩形 67"/>
            <p:cNvSpPr/>
            <p:nvPr/>
          </p:nvSpPr>
          <p:spPr>
            <a:xfrm>
              <a:off x="3906720" y="5020200"/>
              <a:ext cx="1799280" cy="6444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a5a5a5"/>
                </a:gs>
              </a:gsLst>
              <a:lin ang="108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组合 23"/>
          <p:cNvGrpSpPr/>
          <p:nvPr/>
        </p:nvGrpSpPr>
        <p:grpSpPr>
          <a:xfrm>
            <a:off x="5632560" y="3676680"/>
            <a:ext cx="1174680" cy="1413000"/>
            <a:chOff x="5632560" y="3676680"/>
            <a:chExt cx="1174680" cy="1413000"/>
          </a:xfrm>
        </p:grpSpPr>
        <p:sp>
          <p:nvSpPr>
            <p:cNvPr id="552" name="任意多边形 69"/>
            <p:cNvSpPr/>
            <p:nvPr/>
          </p:nvSpPr>
          <p:spPr>
            <a:xfrm>
              <a:off x="5704200" y="3676680"/>
              <a:ext cx="1103040" cy="1413000"/>
            </a:xfrm>
            <a:custGeom>
              <a:avLst/>
              <a:gdLst/>
              <a:ahLst/>
              <a:rect l="l" t="t" r="r" b="b"/>
              <a:pathLst>
                <a:path w="997364" h="1599569">
                  <a:moveTo>
                    <a:pt x="0" y="1599569"/>
                  </a:moveTo>
                  <a:lnTo>
                    <a:pt x="428021" y="1040921"/>
                  </a:lnTo>
                  <a:lnTo>
                    <a:pt x="997364" y="0"/>
                  </a:lnTo>
                  <a:lnTo>
                    <a:pt x="681063" y="322053"/>
                  </a:lnTo>
                  <a:lnTo>
                    <a:pt x="0" y="1599569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a5a5a5"/>
                </a:gs>
              </a:gsLst>
              <a:lin ang="108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平行四边形 70"/>
            <p:cNvSpPr/>
            <p:nvPr/>
          </p:nvSpPr>
          <p:spPr>
            <a:xfrm>
              <a:off x="5632560" y="3894840"/>
              <a:ext cx="879840" cy="1194840"/>
            </a:xfrm>
            <a:prstGeom prst="parallelogram">
              <a:avLst>
                <a:gd name="adj" fmla="val 93014"/>
              </a:avLst>
            </a:prstGeom>
            <a:gradFill rotWithShape="0">
              <a:gsLst>
                <a:gs pos="0">
                  <a:srgbClr val="262626"/>
                </a:gs>
                <a:gs pos="100000">
                  <a:srgbClr val="a5a5a5"/>
                </a:gs>
              </a:gsLst>
              <a:lin ang="108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组合 27"/>
          <p:cNvGrpSpPr/>
          <p:nvPr/>
        </p:nvGrpSpPr>
        <p:grpSpPr>
          <a:xfrm>
            <a:off x="6477120" y="3540240"/>
            <a:ext cx="1995480" cy="374400"/>
            <a:chOff x="6477120" y="3540240"/>
            <a:chExt cx="1995480" cy="374400"/>
          </a:xfrm>
        </p:grpSpPr>
        <p:sp>
          <p:nvSpPr>
            <p:cNvPr id="555" name="任意多边形 72"/>
            <p:cNvSpPr/>
            <p:nvPr/>
          </p:nvSpPr>
          <p:spPr>
            <a:xfrm>
              <a:off x="6477120" y="3540240"/>
              <a:ext cx="1995480" cy="307440"/>
            </a:xfrm>
            <a:custGeom>
              <a:avLst/>
              <a:gdLst/>
              <a:ahLst/>
              <a:rect l="l" t="t" r="r" b="b"/>
              <a:pathLst>
                <a:path w="1828800" h="282222">
                  <a:moveTo>
                    <a:pt x="0" y="282222"/>
                  </a:moveTo>
                  <a:lnTo>
                    <a:pt x="1648178" y="282222"/>
                  </a:lnTo>
                  <a:lnTo>
                    <a:pt x="1828800" y="0"/>
                  </a:lnTo>
                  <a:lnTo>
                    <a:pt x="203200" y="0"/>
                  </a:lnTo>
                  <a:lnTo>
                    <a:pt x="0" y="282222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a5a5a5"/>
                </a:gs>
              </a:gsLst>
              <a:lin ang="108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矩形 73"/>
            <p:cNvSpPr/>
            <p:nvPr/>
          </p:nvSpPr>
          <p:spPr>
            <a:xfrm>
              <a:off x="6477120" y="3847680"/>
              <a:ext cx="1802160" cy="6696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a5a5a5"/>
                </a:gs>
              </a:gsLst>
              <a:lin ang="108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组合 30"/>
          <p:cNvGrpSpPr/>
          <p:nvPr/>
        </p:nvGrpSpPr>
        <p:grpSpPr>
          <a:xfrm>
            <a:off x="8205840" y="2503440"/>
            <a:ext cx="1174680" cy="1413000"/>
            <a:chOff x="8205840" y="2503440"/>
            <a:chExt cx="1174680" cy="1413000"/>
          </a:xfrm>
        </p:grpSpPr>
        <p:sp>
          <p:nvSpPr>
            <p:cNvPr id="558" name="任意多边形 75"/>
            <p:cNvSpPr/>
            <p:nvPr/>
          </p:nvSpPr>
          <p:spPr>
            <a:xfrm>
              <a:off x="8272440" y="2503440"/>
              <a:ext cx="1108080" cy="1403280"/>
            </a:xfrm>
            <a:custGeom>
              <a:avLst/>
              <a:gdLst/>
              <a:ahLst/>
              <a:rect l="l" t="t" r="r" b="b"/>
              <a:pathLst>
                <a:path w="1002809" h="1585928">
                  <a:moveTo>
                    <a:pt x="0" y="1585928"/>
                  </a:moveTo>
                  <a:lnTo>
                    <a:pt x="433466" y="1040921"/>
                  </a:lnTo>
                  <a:lnTo>
                    <a:pt x="1002809" y="0"/>
                  </a:lnTo>
                  <a:lnTo>
                    <a:pt x="686508" y="322053"/>
                  </a:lnTo>
                  <a:lnTo>
                    <a:pt x="0" y="1585928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a5a5a5"/>
                </a:gs>
              </a:gsLst>
              <a:lin ang="108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平行四边形 76"/>
            <p:cNvSpPr/>
            <p:nvPr/>
          </p:nvSpPr>
          <p:spPr>
            <a:xfrm>
              <a:off x="8205840" y="2721600"/>
              <a:ext cx="879840" cy="1194840"/>
            </a:xfrm>
            <a:prstGeom prst="parallelogram">
              <a:avLst>
                <a:gd name="adj" fmla="val 93014"/>
              </a:avLst>
            </a:prstGeom>
            <a:gradFill rotWithShape="0">
              <a:gsLst>
                <a:gs pos="0">
                  <a:srgbClr val="262626"/>
                </a:gs>
                <a:gs pos="100000">
                  <a:srgbClr val="a5a5a5"/>
                </a:gs>
              </a:gsLst>
              <a:lin ang="108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组合 77"/>
          <p:cNvGrpSpPr/>
          <p:nvPr/>
        </p:nvGrpSpPr>
        <p:grpSpPr>
          <a:xfrm>
            <a:off x="9032760" y="2397240"/>
            <a:ext cx="2005200" cy="384120"/>
            <a:chOff x="9032760" y="2397240"/>
            <a:chExt cx="2005200" cy="384120"/>
          </a:xfrm>
        </p:grpSpPr>
        <p:sp>
          <p:nvSpPr>
            <p:cNvPr id="561" name="任意多边形 78"/>
            <p:cNvSpPr/>
            <p:nvPr/>
          </p:nvSpPr>
          <p:spPr>
            <a:xfrm>
              <a:off x="10834920" y="2397240"/>
              <a:ext cx="203040" cy="384120"/>
            </a:xfrm>
            <a:custGeom>
              <a:avLst/>
              <a:gdLst/>
              <a:ahLst/>
              <a:rect l="l" t="t" r="r" b="b"/>
              <a:pathLst>
                <a:path w="160544" h="302420">
                  <a:moveTo>
                    <a:pt x="154363" y="0"/>
                  </a:moveTo>
                  <a:lnTo>
                    <a:pt x="160544" y="0"/>
                  </a:lnTo>
                  <a:cubicBezTo>
                    <a:pt x="159121" y="15119"/>
                    <a:pt x="155515" y="30181"/>
                    <a:pt x="154887" y="45244"/>
                  </a:cubicBezTo>
                  <a:lnTo>
                    <a:pt x="105" y="302420"/>
                  </a:lnTo>
                  <a:cubicBezTo>
                    <a:pt x="-689" y="280195"/>
                    <a:pt x="3281" y="257970"/>
                    <a:pt x="2487" y="235745"/>
                  </a:cubicBezTo>
                  <a:lnTo>
                    <a:pt x="154363" y="0"/>
                  </a:lnTo>
                  <a:close/>
                </a:path>
              </a:pathLst>
            </a:custGeom>
            <a:gradFill rotWithShape="0">
              <a:gsLst>
                <a:gs pos="0">
                  <a:srgbClr val="6c0000"/>
                </a:gs>
                <a:gs pos="100000">
                  <a:srgbClr val="ff0000"/>
                </a:gs>
              </a:gsLst>
              <a:lin ang="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2" name="组合 33"/>
            <p:cNvGrpSpPr/>
            <p:nvPr/>
          </p:nvGrpSpPr>
          <p:grpSpPr>
            <a:xfrm>
              <a:off x="9032760" y="2400840"/>
              <a:ext cx="1994400" cy="375480"/>
              <a:chOff x="9032760" y="2400840"/>
              <a:chExt cx="1994400" cy="375480"/>
            </a:xfrm>
          </p:grpSpPr>
          <p:sp>
            <p:nvSpPr>
              <p:cNvPr id="563" name="任意多边形 80"/>
              <p:cNvSpPr/>
              <p:nvPr/>
            </p:nvSpPr>
            <p:spPr>
              <a:xfrm>
                <a:off x="9032760" y="2400840"/>
                <a:ext cx="1994400" cy="308520"/>
              </a:xfrm>
              <a:custGeom>
                <a:avLst/>
                <a:gdLst/>
                <a:ahLst/>
                <a:rect l="l" t="t" r="r" b="b"/>
                <a:pathLst>
                  <a:path w="1828800" h="282222">
                    <a:moveTo>
                      <a:pt x="0" y="282222"/>
                    </a:moveTo>
                    <a:lnTo>
                      <a:pt x="1648178" y="282222"/>
                    </a:lnTo>
                    <a:lnTo>
                      <a:pt x="1828800" y="0"/>
                    </a:lnTo>
                    <a:lnTo>
                      <a:pt x="203200" y="0"/>
                    </a:lnTo>
                    <a:lnTo>
                      <a:pt x="0" y="2822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c0000"/>
                  </a:gs>
                  <a:gs pos="100000">
                    <a:srgbClr val="ff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矩形 81"/>
              <p:cNvSpPr/>
              <p:nvPr/>
            </p:nvSpPr>
            <p:spPr>
              <a:xfrm>
                <a:off x="9032760" y="2709360"/>
                <a:ext cx="1801440" cy="66960"/>
              </a:xfrm>
              <a:prstGeom prst="rect">
                <a:avLst/>
              </a:prstGeom>
              <a:gradFill rotWithShape="0">
                <a:gsLst>
                  <a:gs pos="0">
                    <a:srgbClr val="6c0000"/>
                  </a:gs>
                  <a:gs pos="100000">
                    <a:srgbClr val="ff0000"/>
                  </a:gs>
                </a:gsLst>
                <a:lin ang="0"/>
              </a:gradFill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5" name="组合 82"/>
          <p:cNvGrpSpPr/>
          <p:nvPr/>
        </p:nvGrpSpPr>
        <p:grpSpPr>
          <a:xfrm>
            <a:off x="9483840" y="1536840"/>
            <a:ext cx="1093680" cy="1093680"/>
            <a:chOff x="9483840" y="1536840"/>
            <a:chExt cx="1093680" cy="1093680"/>
          </a:xfrm>
        </p:grpSpPr>
        <p:grpSp>
          <p:nvGrpSpPr>
            <p:cNvPr id="566" name="组合 38"/>
            <p:cNvGrpSpPr/>
            <p:nvPr/>
          </p:nvGrpSpPr>
          <p:grpSpPr>
            <a:xfrm>
              <a:off x="9483840" y="1536840"/>
              <a:ext cx="1093680" cy="1093680"/>
              <a:chOff x="9483840" y="1536840"/>
              <a:chExt cx="1093680" cy="1093680"/>
            </a:xfrm>
          </p:grpSpPr>
          <p:sp>
            <p:nvSpPr>
              <p:cNvPr id="567" name="椭圆 85"/>
              <p:cNvSpPr/>
              <p:nvPr/>
            </p:nvSpPr>
            <p:spPr>
              <a:xfrm>
                <a:off x="9483840" y="1536840"/>
                <a:ext cx="1093680" cy="1093680"/>
              </a:xfrm>
              <a:prstGeom prst="ellipse">
                <a:avLst/>
              </a:prstGeom>
              <a:gradFill rotWithShape="0">
                <a:gsLst>
                  <a:gs pos="0">
                    <a:srgbClr val="6c0000"/>
                  </a:gs>
                  <a:gs pos="100000">
                    <a:srgbClr val="ff0000"/>
                  </a:gs>
                </a:gsLst>
                <a:lin ang="10800000"/>
              </a:gradFill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椭圆 86"/>
              <p:cNvSpPr/>
              <p:nvPr/>
            </p:nvSpPr>
            <p:spPr>
              <a:xfrm>
                <a:off x="9802800" y="1576440"/>
                <a:ext cx="455760" cy="225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9" name="TextBox 11"/>
            <p:cNvSpPr/>
            <p:nvPr/>
          </p:nvSpPr>
          <p:spPr>
            <a:xfrm flipH="1">
              <a:off x="9528480" y="1693080"/>
              <a:ext cx="101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本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组合 87"/>
          <p:cNvGrpSpPr/>
          <p:nvPr/>
        </p:nvGrpSpPr>
        <p:grpSpPr>
          <a:xfrm>
            <a:off x="7102440" y="2635200"/>
            <a:ext cx="1092240" cy="1092240"/>
            <a:chOff x="7102440" y="2635200"/>
            <a:chExt cx="1092240" cy="1092240"/>
          </a:xfrm>
        </p:grpSpPr>
        <p:grpSp>
          <p:nvGrpSpPr>
            <p:cNvPr id="571" name="组合 41"/>
            <p:cNvGrpSpPr/>
            <p:nvPr/>
          </p:nvGrpSpPr>
          <p:grpSpPr>
            <a:xfrm>
              <a:off x="7102440" y="2635200"/>
              <a:ext cx="1092240" cy="1092240"/>
              <a:chOff x="7102440" y="2635200"/>
              <a:chExt cx="1092240" cy="1092240"/>
            </a:xfrm>
          </p:grpSpPr>
          <p:sp>
            <p:nvSpPr>
              <p:cNvPr id="572" name="椭圆 90"/>
              <p:cNvSpPr/>
              <p:nvPr/>
            </p:nvSpPr>
            <p:spPr>
              <a:xfrm>
                <a:off x="7102440" y="2635200"/>
                <a:ext cx="1092240" cy="1092240"/>
              </a:xfrm>
              <a:prstGeom prst="ellipse">
                <a:avLst/>
              </a:prstGeom>
              <a:gradFill rotWithShape="0">
                <a:gsLst>
                  <a:gs pos="0">
                    <a:srgbClr val="262626"/>
                  </a:gs>
                  <a:gs pos="100000">
                    <a:srgbClr val="a5a5a5"/>
                  </a:gs>
                </a:gsLst>
                <a:lin ang="10800000"/>
              </a:gradFill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椭圆 91"/>
              <p:cNvSpPr/>
              <p:nvPr/>
            </p:nvSpPr>
            <p:spPr>
              <a:xfrm>
                <a:off x="7421040" y="2674800"/>
                <a:ext cx="455040" cy="225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4" name="TextBox 11"/>
            <p:cNvSpPr/>
            <p:nvPr/>
          </p:nvSpPr>
          <p:spPr>
            <a:xfrm flipH="1">
              <a:off x="7139520" y="2748960"/>
              <a:ext cx="101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本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组合 92"/>
          <p:cNvGrpSpPr/>
          <p:nvPr/>
        </p:nvGrpSpPr>
        <p:grpSpPr>
          <a:xfrm>
            <a:off x="4357800" y="3805200"/>
            <a:ext cx="1090440" cy="1092240"/>
            <a:chOff x="4357800" y="3805200"/>
            <a:chExt cx="1090440" cy="1092240"/>
          </a:xfrm>
        </p:grpSpPr>
        <p:grpSp>
          <p:nvGrpSpPr>
            <p:cNvPr id="576" name="组合 44"/>
            <p:cNvGrpSpPr/>
            <p:nvPr/>
          </p:nvGrpSpPr>
          <p:grpSpPr>
            <a:xfrm>
              <a:off x="4357800" y="3805200"/>
              <a:ext cx="1090440" cy="1092240"/>
              <a:chOff x="4357800" y="3805200"/>
              <a:chExt cx="1090440" cy="1092240"/>
            </a:xfrm>
          </p:grpSpPr>
          <p:sp>
            <p:nvSpPr>
              <p:cNvPr id="577" name="椭圆 95"/>
              <p:cNvSpPr/>
              <p:nvPr/>
            </p:nvSpPr>
            <p:spPr>
              <a:xfrm>
                <a:off x="4357800" y="38052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262626"/>
                  </a:gs>
                  <a:gs pos="100000">
                    <a:srgbClr val="a5a5a5"/>
                  </a:gs>
                </a:gsLst>
                <a:lin ang="10800000"/>
              </a:gradFill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椭圆 96"/>
              <p:cNvSpPr/>
              <p:nvPr/>
            </p:nvSpPr>
            <p:spPr>
              <a:xfrm>
                <a:off x="4675680" y="3844800"/>
                <a:ext cx="454320" cy="225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9" name="TextBox 11"/>
            <p:cNvSpPr/>
            <p:nvPr/>
          </p:nvSpPr>
          <p:spPr>
            <a:xfrm flipH="1">
              <a:off x="4399200" y="3943800"/>
              <a:ext cx="101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本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组合 97"/>
          <p:cNvGrpSpPr/>
          <p:nvPr/>
        </p:nvGrpSpPr>
        <p:grpSpPr>
          <a:xfrm>
            <a:off x="1797120" y="4948200"/>
            <a:ext cx="1093680" cy="1092240"/>
            <a:chOff x="1797120" y="4948200"/>
            <a:chExt cx="1093680" cy="1092240"/>
          </a:xfrm>
        </p:grpSpPr>
        <p:grpSp>
          <p:nvGrpSpPr>
            <p:cNvPr id="581" name="组合 47"/>
            <p:cNvGrpSpPr/>
            <p:nvPr/>
          </p:nvGrpSpPr>
          <p:grpSpPr>
            <a:xfrm>
              <a:off x="1797120" y="4948200"/>
              <a:ext cx="1093680" cy="1092240"/>
              <a:chOff x="1797120" y="4948200"/>
              <a:chExt cx="1093680" cy="1092240"/>
            </a:xfrm>
          </p:grpSpPr>
          <p:sp>
            <p:nvSpPr>
              <p:cNvPr id="582" name="椭圆 100"/>
              <p:cNvSpPr/>
              <p:nvPr/>
            </p:nvSpPr>
            <p:spPr>
              <a:xfrm>
                <a:off x="1797120" y="4948200"/>
                <a:ext cx="1093680" cy="1092240"/>
              </a:xfrm>
              <a:prstGeom prst="ellipse">
                <a:avLst/>
              </a:prstGeom>
              <a:gradFill rotWithShape="0">
                <a:gsLst>
                  <a:gs pos="0">
                    <a:srgbClr val="262626"/>
                  </a:gs>
                  <a:gs pos="100000">
                    <a:srgbClr val="a5a5a5"/>
                  </a:gs>
                </a:gsLst>
                <a:lin ang="10800000"/>
              </a:gradFill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椭圆 101"/>
              <p:cNvSpPr/>
              <p:nvPr/>
            </p:nvSpPr>
            <p:spPr>
              <a:xfrm>
                <a:off x="2116080" y="4987800"/>
                <a:ext cx="455760" cy="225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4" name="TextBox 11"/>
            <p:cNvSpPr/>
            <p:nvPr/>
          </p:nvSpPr>
          <p:spPr>
            <a:xfrm flipH="1">
              <a:off x="1834200" y="5133960"/>
              <a:ext cx="101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本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TextBox 11"/>
          <p:cNvSpPr/>
          <p:nvPr/>
        </p:nvSpPr>
        <p:spPr>
          <a:xfrm flipH="1">
            <a:off x="1708200" y="4008600"/>
            <a:ext cx="17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Box 11"/>
          <p:cNvSpPr/>
          <p:nvPr/>
        </p:nvSpPr>
        <p:spPr>
          <a:xfrm flipH="1">
            <a:off x="4271400" y="2970360"/>
            <a:ext cx="177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Box 11"/>
          <p:cNvSpPr/>
          <p:nvPr/>
        </p:nvSpPr>
        <p:spPr>
          <a:xfrm flipH="1">
            <a:off x="6744600" y="1784520"/>
            <a:ext cx="177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11"/>
          <p:cNvSpPr/>
          <p:nvPr/>
        </p:nvSpPr>
        <p:spPr>
          <a:xfrm flipH="1">
            <a:off x="9288360" y="657360"/>
            <a:ext cx="177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circl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414BF-184A-4776-A7B6-44CBF285A3E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图片 14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591" name="图片 13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592" name="图片 12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593" name="任意多边形 4"/>
          <p:cNvSpPr/>
          <p:nvPr/>
        </p:nvSpPr>
        <p:spPr>
          <a:xfrm>
            <a:off x="1844640" y="1343160"/>
            <a:ext cx="8170920" cy="2139840"/>
          </a:xfrm>
          <a:custGeom>
            <a:avLst/>
            <a:gdLst/>
            <a:ahLst/>
            <a:rect l="l" t="t" r="r" b="b"/>
            <a:pathLst>
              <a:path w="6634280" h="1738203">
                <a:moveTo>
                  <a:pt x="3326681" y="1342526"/>
                </a:moveTo>
                <a:lnTo>
                  <a:pt x="3324688" y="1342739"/>
                </a:lnTo>
                <a:lnTo>
                  <a:pt x="3327475" y="1344906"/>
                </a:lnTo>
                <a:lnTo>
                  <a:pt x="3326681" y="1342526"/>
                </a:lnTo>
                <a:close/>
                <a:moveTo>
                  <a:pt x="3526967" y="1321134"/>
                </a:moveTo>
                <a:lnTo>
                  <a:pt x="3519137" y="1321970"/>
                </a:lnTo>
                <a:lnTo>
                  <a:pt x="3523747" y="1325428"/>
                </a:lnTo>
                <a:lnTo>
                  <a:pt x="3523088" y="1326307"/>
                </a:lnTo>
                <a:lnTo>
                  <a:pt x="3517596" y="1340036"/>
                </a:lnTo>
                <a:lnTo>
                  <a:pt x="3536818" y="1337290"/>
                </a:lnTo>
                <a:lnTo>
                  <a:pt x="3529679" y="1330151"/>
                </a:lnTo>
                <a:lnTo>
                  <a:pt x="3528580" y="1331799"/>
                </a:lnTo>
                <a:lnTo>
                  <a:pt x="3529129" y="1329602"/>
                </a:lnTo>
                <a:lnTo>
                  <a:pt x="3528580" y="1329053"/>
                </a:lnTo>
                <a:lnTo>
                  <a:pt x="3523747" y="1325428"/>
                </a:lnTo>
                <a:lnTo>
                  <a:pt x="3526967" y="1321134"/>
                </a:lnTo>
                <a:close/>
                <a:moveTo>
                  <a:pt x="3599976" y="1298847"/>
                </a:moveTo>
                <a:lnTo>
                  <a:pt x="3575262" y="1301593"/>
                </a:lnTo>
                <a:lnTo>
                  <a:pt x="3574250" y="1301882"/>
                </a:lnTo>
                <a:lnTo>
                  <a:pt x="3577576" y="1302436"/>
                </a:lnTo>
                <a:lnTo>
                  <a:pt x="3603861" y="1299304"/>
                </a:lnTo>
                <a:lnTo>
                  <a:pt x="3599976" y="1298847"/>
                </a:lnTo>
                <a:close/>
                <a:moveTo>
                  <a:pt x="3767126" y="1295483"/>
                </a:moveTo>
                <a:lnTo>
                  <a:pt x="3755086" y="1296769"/>
                </a:lnTo>
                <a:lnTo>
                  <a:pt x="3764735" y="1301593"/>
                </a:lnTo>
                <a:lnTo>
                  <a:pt x="3765911" y="1302769"/>
                </a:lnTo>
                <a:lnTo>
                  <a:pt x="3767126" y="1295483"/>
                </a:lnTo>
                <a:close/>
                <a:moveTo>
                  <a:pt x="5384650" y="1258502"/>
                </a:moveTo>
                <a:lnTo>
                  <a:pt x="5387607" y="1265895"/>
                </a:lnTo>
                <a:lnTo>
                  <a:pt x="5393099" y="1268641"/>
                </a:lnTo>
                <a:lnTo>
                  <a:pt x="5398590" y="1271387"/>
                </a:lnTo>
                <a:lnTo>
                  <a:pt x="5404082" y="1274132"/>
                </a:lnTo>
                <a:lnTo>
                  <a:pt x="5409574" y="1279624"/>
                </a:lnTo>
                <a:lnTo>
                  <a:pt x="5412320" y="1287862"/>
                </a:lnTo>
                <a:lnTo>
                  <a:pt x="5412320" y="1296100"/>
                </a:lnTo>
                <a:lnTo>
                  <a:pt x="5409574" y="1298846"/>
                </a:lnTo>
                <a:lnTo>
                  <a:pt x="5404082" y="1307084"/>
                </a:lnTo>
                <a:lnTo>
                  <a:pt x="5401336" y="1309830"/>
                </a:lnTo>
                <a:lnTo>
                  <a:pt x="5395844" y="1309830"/>
                </a:lnTo>
                <a:lnTo>
                  <a:pt x="5393099" y="1309830"/>
                </a:lnTo>
                <a:lnTo>
                  <a:pt x="5382115" y="1307084"/>
                </a:lnTo>
                <a:lnTo>
                  <a:pt x="5373877" y="1298846"/>
                </a:lnTo>
                <a:lnTo>
                  <a:pt x="5373877" y="1287862"/>
                </a:lnTo>
                <a:lnTo>
                  <a:pt x="5376623" y="1282370"/>
                </a:lnTo>
                <a:lnTo>
                  <a:pt x="5379369" y="1276878"/>
                </a:lnTo>
                <a:lnTo>
                  <a:pt x="5382115" y="1268641"/>
                </a:lnTo>
                <a:lnTo>
                  <a:pt x="5384650" y="1258502"/>
                </a:lnTo>
                <a:close/>
                <a:moveTo>
                  <a:pt x="5382548" y="1232220"/>
                </a:moveTo>
                <a:lnTo>
                  <a:pt x="5384861" y="1257657"/>
                </a:lnTo>
                <a:lnTo>
                  <a:pt x="5384650" y="1258502"/>
                </a:lnTo>
                <a:lnTo>
                  <a:pt x="5382115" y="1252165"/>
                </a:lnTo>
                <a:lnTo>
                  <a:pt x="5382115" y="1235689"/>
                </a:lnTo>
                <a:lnTo>
                  <a:pt x="5382548" y="1232220"/>
                </a:lnTo>
                <a:close/>
                <a:moveTo>
                  <a:pt x="4338643" y="1216468"/>
                </a:moveTo>
                <a:lnTo>
                  <a:pt x="4338643" y="1219214"/>
                </a:lnTo>
                <a:lnTo>
                  <a:pt x="4338643" y="1221960"/>
                </a:lnTo>
                <a:lnTo>
                  <a:pt x="4344135" y="1219214"/>
                </a:lnTo>
                <a:lnTo>
                  <a:pt x="4344135" y="1216468"/>
                </a:lnTo>
                <a:lnTo>
                  <a:pt x="4338643" y="1216468"/>
                </a:lnTo>
                <a:close/>
                <a:moveTo>
                  <a:pt x="4300199" y="1213722"/>
                </a:moveTo>
                <a:lnTo>
                  <a:pt x="4298827" y="1215095"/>
                </a:lnTo>
                <a:lnTo>
                  <a:pt x="4300199" y="1216467"/>
                </a:lnTo>
                <a:lnTo>
                  <a:pt x="4297453" y="1219213"/>
                </a:lnTo>
                <a:lnTo>
                  <a:pt x="4297449" y="1219214"/>
                </a:lnTo>
                <a:lnTo>
                  <a:pt x="4300199" y="1219214"/>
                </a:lnTo>
                <a:lnTo>
                  <a:pt x="4305691" y="1221960"/>
                </a:lnTo>
                <a:lnTo>
                  <a:pt x="4308437" y="1224706"/>
                </a:lnTo>
                <a:lnTo>
                  <a:pt x="4311183" y="1221960"/>
                </a:lnTo>
                <a:lnTo>
                  <a:pt x="4308437" y="1221960"/>
                </a:lnTo>
                <a:lnTo>
                  <a:pt x="4308437" y="1219214"/>
                </a:lnTo>
                <a:lnTo>
                  <a:pt x="4308437" y="1216468"/>
                </a:lnTo>
                <a:lnTo>
                  <a:pt x="4302945" y="1216468"/>
                </a:lnTo>
                <a:lnTo>
                  <a:pt x="4300199" y="1213722"/>
                </a:lnTo>
                <a:close/>
                <a:moveTo>
                  <a:pt x="4492418" y="1210976"/>
                </a:moveTo>
                <a:lnTo>
                  <a:pt x="4492418" y="1213722"/>
                </a:lnTo>
                <a:lnTo>
                  <a:pt x="4497910" y="1213722"/>
                </a:lnTo>
                <a:lnTo>
                  <a:pt x="4497910" y="1210976"/>
                </a:lnTo>
                <a:lnTo>
                  <a:pt x="4492418" y="1210976"/>
                </a:lnTo>
                <a:close/>
                <a:moveTo>
                  <a:pt x="4434752" y="1199992"/>
                </a:moveTo>
                <a:lnTo>
                  <a:pt x="4429260" y="1202738"/>
                </a:lnTo>
                <a:lnTo>
                  <a:pt x="4429260" y="1208230"/>
                </a:lnTo>
                <a:lnTo>
                  <a:pt x="4434752" y="1208230"/>
                </a:lnTo>
                <a:lnTo>
                  <a:pt x="4434752" y="1199992"/>
                </a:lnTo>
                <a:close/>
                <a:moveTo>
                  <a:pt x="4404547" y="1194500"/>
                </a:moveTo>
                <a:lnTo>
                  <a:pt x="4401801" y="1197246"/>
                </a:lnTo>
                <a:lnTo>
                  <a:pt x="4401801" y="1199992"/>
                </a:lnTo>
                <a:lnTo>
                  <a:pt x="4404547" y="1199992"/>
                </a:lnTo>
                <a:lnTo>
                  <a:pt x="4412784" y="1199992"/>
                </a:lnTo>
                <a:lnTo>
                  <a:pt x="4412784" y="1194500"/>
                </a:lnTo>
                <a:lnTo>
                  <a:pt x="4404547" y="1194500"/>
                </a:lnTo>
                <a:close/>
                <a:moveTo>
                  <a:pt x="6049387" y="1158802"/>
                </a:moveTo>
                <a:lnTo>
                  <a:pt x="6054021" y="1160347"/>
                </a:lnTo>
                <a:lnTo>
                  <a:pt x="6054879" y="1161548"/>
                </a:lnTo>
                <a:lnTo>
                  <a:pt x="6049387" y="1158802"/>
                </a:lnTo>
                <a:close/>
                <a:moveTo>
                  <a:pt x="5062413" y="1157634"/>
                </a:moveTo>
                <a:lnTo>
                  <a:pt x="5057771" y="1158125"/>
                </a:lnTo>
                <a:lnTo>
                  <a:pt x="5066327" y="1161548"/>
                </a:lnTo>
                <a:lnTo>
                  <a:pt x="5062413" y="1157634"/>
                </a:lnTo>
                <a:close/>
                <a:moveTo>
                  <a:pt x="4945951" y="1148115"/>
                </a:moveTo>
                <a:lnTo>
                  <a:pt x="4904314" y="1150564"/>
                </a:lnTo>
                <a:lnTo>
                  <a:pt x="4912552" y="1156056"/>
                </a:lnTo>
                <a:lnTo>
                  <a:pt x="4923536" y="1161548"/>
                </a:lnTo>
                <a:lnTo>
                  <a:pt x="4934520" y="1161548"/>
                </a:lnTo>
                <a:lnTo>
                  <a:pt x="4945504" y="1158802"/>
                </a:lnTo>
                <a:lnTo>
                  <a:pt x="4958813" y="1155845"/>
                </a:lnTo>
                <a:lnTo>
                  <a:pt x="4953742" y="1153310"/>
                </a:lnTo>
                <a:lnTo>
                  <a:pt x="4945951" y="1148115"/>
                </a:lnTo>
                <a:close/>
                <a:moveTo>
                  <a:pt x="5014153" y="1139581"/>
                </a:moveTo>
                <a:lnTo>
                  <a:pt x="5010164" y="1140578"/>
                </a:lnTo>
                <a:lnTo>
                  <a:pt x="5019988" y="1139923"/>
                </a:lnTo>
                <a:lnTo>
                  <a:pt x="5019645" y="1139581"/>
                </a:lnTo>
                <a:lnTo>
                  <a:pt x="5014153" y="1139581"/>
                </a:lnTo>
                <a:close/>
                <a:moveTo>
                  <a:pt x="4907060" y="1136835"/>
                </a:moveTo>
                <a:lnTo>
                  <a:pt x="4909806" y="1142327"/>
                </a:lnTo>
                <a:lnTo>
                  <a:pt x="4912552" y="1142327"/>
                </a:lnTo>
                <a:lnTo>
                  <a:pt x="4915298" y="1139581"/>
                </a:lnTo>
                <a:lnTo>
                  <a:pt x="4915298" y="1136835"/>
                </a:lnTo>
                <a:lnTo>
                  <a:pt x="4907060" y="1136835"/>
                </a:lnTo>
                <a:close/>
                <a:moveTo>
                  <a:pt x="5176166" y="1131343"/>
                </a:moveTo>
                <a:lnTo>
                  <a:pt x="5176166" y="1136835"/>
                </a:lnTo>
                <a:lnTo>
                  <a:pt x="5177645" y="1139791"/>
                </a:lnTo>
                <a:lnTo>
                  <a:pt x="5178912" y="1139580"/>
                </a:lnTo>
                <a:lnTo>
                  <a:pt x="5189896" y="1136834"/>
                </a:lnTo>
                <a:lnTo>
                  <a:pt x="5189896" y="1134089"/>
                </a:lnTo>
                <a:lnTo>
                  <a:pt x="5187150" y="1134089"/>
                </a:lnTo>
                <a:lnTo>
                  <a:pt x="5181658" y="1131343"/>
                </a:lnTo>
                <a:lnTo>
                  <a:pt x="5178912" y="1131343"/>
                </a:lnTo>
                <a:lnTo>
                  <a:pt x="5176166" y="1131343"/>
                </a:lnTo>
                <a:close/>
                <a:moveTo>
                  <a:pt x="6075474" y="1129969"/>
                </a:moveTo>
                <a:lnTo>
                  <a:pt x="6076847" y="1131342"/>
                </a:lnTo>
                <a:lnTo>
                  <a:pt x="6079593" y="1136834"/>
                </a:lnTo>
                <a:lnTo>
                  <a:pt x="6079593" y="1142326"/>
                </a:lnTo>
                <a:lnTo>
                  <a:pt x="6076847" y="1134088"/>
                </a:lnTo>
                <a:lnTo>
                  <a:pt x="6075474" y="1129969"/>
                </a:lnTo>
                <a:close/>
                <a:moveTo>
                  <a:pt x="5104771" y="1128597"/>
                </a:moveTo>
                <a:lnTo>
                  <a:pt x="5104771" y="1130884"/>
                </a:lnTo>
                <a:lnTo>
                  <a:pt x="5115753" y="1129969"/>
                </a:lnTo>
                <a:lnTo>
                  <a:pt x="5113009" y="1128597"/>
                </a:lnTo>
                <a:lnTo>
                  <a:pt x="5104771" y="1128597"/>
                </a:lnTo>
                <a:close/>
                <a:moveTo>
                  <a:pt x="5093787" y="1128597"/>
                </a:moveTo>
                <a:lnTo>
                  <a:pt x="5092011" y="1132149"/>
                </a:lnTo>
                <a:lnTo>
                  <a:pt x="5096807" y="1131617"/>
                </a:lnTo>
                <a:lnTo>
                  <a:pt x="5093787" y="1128597"/>
                </a:lnTo>
                <a:close/>
                <a:moveTo>
                  <a:pt x="5140468" y="1123105"/>
                </a:moveTo>
                <a:lnTo>
                  <a:pt x="5137723" y="1128596"/>
                </a:lnTo>
                <a:lnTo>
                  <a:pt x="5145961" y="1131342"/>
                </a:lnTo>
                <a:lnTo>
                  <a:pt x="5151452" y="1136833"/>
                </a:lnTo>
                <a:lnTo>
                  <a:pt x="5151452" y="1128597"/>
                </a:lnTo>
                <a:lnTo>
                  <a:pt x="5145960" y="1125851"/>
                </a:lnTo>
                <a:lnTo>
                  <a:pt x="5140468" y="1123105"/>
                </a:lnTo>
                <a:close/>
                <a:moveTo>
                  <a:pt x="5121247" y="1123105"/>
                </a:moveTo>
                <a:lnTo>
                  <a:pt x="5121247" y="1128597"/>
                </a:lnTo>
                <a:lnTo>
                  <a:pt x="5120249" y="1129594"/>
                </a:lnTo>
                <a:lnTo>
                  <a:pt x="5128465" y="1128910"/>
                </a:lnTo>
                <a:lnTo>
                  <a:pt x="5129485" y="1125851"/>
                </a:lnTo>
                <a:lnTo>
                  <a:pt x="5126739" y="1125851"/>
                </a:lnTo>
                <a:lnTo>
                  <a:pt x="5123993" y="1125851"/>
                </a:lnTo>
                <a:lnTo>
                  <a:pt x="5121247" y="1123105"/>
                </a:lnTo>
                <a:close/>
                <a:moveTo>
                  <a:pt x="6046642" y="1120359"/>
                </a:moveTo>
                <a:lnTo>
                  <a:pt x="6047557" y="1120359"/>
                </a:lnTo>
                <a:lnTo>
                  <a:pt x="6046642" y="1123104"/>
                </a:lnTo>
                <a:lnTo>
                  <a:pt x="6043896" y="1134088"/>
                </a:lnTo>
                <a:lnTo>
                  <a:pt x="6079593" y="1142326"/>
                </a:lnTo>
                <a:lnTo>
                  <a:pt x="6076847" y="1150564"/>
                </a:lnTo>
                <a:lnTo>
                  <a:pt x="6071355" y="1156056"/>
                </a:lnTo>
                <a:lnTo>
                  <a:pt x="6065863" y="1161548"/>
                </a:lnTo>
                <a:lnTo>
                  <a:pt x="6057625" y="1161548"/>
                </a:lnTo>
                <a:lnTo>
                  <a:pt x="6054021" y="1160347"/>
                </a:lnTo>
                <a:lnTo>
                  <a:pt x="6041150" y="1142326"/>
                </a:lnTo>
                <a:lnTo>
                  <a:pt x="6043896" y="1153310"/>
                </a:lnTo>
                <a:lnTo>
                  <a:pt x="6049387" y="1158802"/>
                </a:lnTo>
                <a:lnTo>
                  <a:pt x="6041150" y="1156056"/>
                </a:lnTo>
                <a:lnTo>
                  <a:pt x="6035658" y="1147818"/>
                </a:lnTo>
                <a:lnTo>
                  <a:pt x="6032912" y="1142326"/>
                </a:lnTo>
                <a:lnTo>
                  <a:pt x="6035658" y="1134088"/>
                </a:lnTo>
                <a:lnTo>
                  <a:pt x="6041150" y="1125850"/>
                </a:lnTo>
                <a:lnTo>
                  <a:pt x="6046642" y="1120359"/>
                </a:lnTo>
                <a:close/>
                <a:moveTo>
                  <a:pt x="5318957" y="1117613"/>
                </a:moveTo>
                <a:lnTo>
                  <a:pt x="5324449" y="1117613"/>
                </a:lnTo>
                <a:lnTo>
                  <a:pt x="5329941" y="1117613"/>
                </a:lnTo>
                <a:lnTo>
                  <a:pt x="5338179" y="1120359"/>
                </a:lnTo>
                <a:lnTo>
                  <a:pt x="5354655" y="1128597"/>
                </a:lnTo>
                <a:lnTo>
                  <a:pt x="5294243" y="1134089"/>
                </a:lnTo>
                <a:lnTo>
                  <a:pt x="5318957" y="1120359"/>
                </a:lnTo>
                <a:lnTo>
                  <a:pt x="5318957" y="1117613"/>
                </a:lnTo>
                <a:close/>
                <a:moveTo>
                  <a:pt x="4901568" y="1117613"/>
                </a:moveTo>
                <a:lnTo>
                  <a:pt x="4885093" y="1120359"/>
                </a:lnTo>
                <a:lnTo>
                  <a:pt x="4868617" y="1123105"/>
                </a:lnTo>
                <a:lnTo>
                  <a:pt x="4835665" y="1136835"/>
                </a:lnTo>
                <a:lnTo>
                  <a:pt x="4805459" y="1150564"/>
                </a:lnTo>
                <a:lnTo>
                  <a:pt x="4799967" y="1147819"/>
                </a:lnTo>
                <a:lnTo>
                  <a:pt x="4794475" y="1145073"/>
                </a:lnTo>
                <a:lnTo>
                  <a:pt x="4788983" y="1145073"/>
                </a:lnTo>
                <a:lnTo>
                  <a:pt x="4780745" y="1153310"/>
                </a:lnTo>
                <a:lnTo>
                  <a:pt x="4775253" y="1158802"/>
                </a:lnTo>
                <a:lnTo>
                  <a:pt x="4775253" y="1167040"/>
                </a:lnTo>
                <a:lnTo>
                  <a:pt x="4777999" y="1172532"/>
                </a:lnTo>
                <a:lnTo>
                  <a:pt x="4783491" y="1172532"/>
                </a:lnTo>
                <a:lnTo>
                  <a:pt x="4791729" y="1175278"/>
                </a:lnTo>
                <a:lnTo>
                  <a:pt x="4805459" y="1175278"/>
                </a:lnTo>
                <a:lnTo>
                  <a:pt x="4816443" y="1175278"/>
                </a:lnTo>
                <a:lnTo>
                  <a:pt x="4810951" y="1167040"/>
                </a:lnTo>
                <a:lnTo>
                  <a:pt x="4810951" y="1161548"/>
                </a:lnTo>
                <a:lnTo>
                  <a:pt x="4810951" y="1158802"/>
                </a:lnTo>
                <a:lnTo>
                  <a:pt x="4827427" y="1156056"/>
                </a:lnTo>
                <a:lnTo>
                  <a:pt x="4841157" y="1153310"/>
                </a:lnTo>
                <a:lnTo>
                  <a:pt x="4852141" y="1150564"/>
                </a:lnTo>
                <a:lnTo>
                  <a:pt x="4863125" y="1147819"/>
                </a:lnTo>
                <a:lnTo>
                  <a:pt x="4865871" y="1147819"/>
                </a:lnTo>
                <a:lnTo>
                  <a:pt x="4865871" y="1150564"/>
                </a:lnTo>
                <a:lnTo>
                  <a:pt x="4868617" y="1150564"/>
                </a:lnTo>
                <a:lnTo>
                  <a:pt x="4876855" y="1156056"/>
                </a:lnTo>
                <a:lnTo>
                  <a:pt x="4879601" y="1156056"/>
                </a:lnTo>
                <a:lnTo>
                  <a:pt x="4885093" y="1156056"/>
                </a:lnTo>
                <a:lnTo>
                  <a:pt x="4893330" y="1147819"/>
                </a:lnTo>
                <a:lnTo>
                  <a:pt x="4904314" y="1134089"/>
                </a:lnTo>
                <a:lnTo>
                  <a:pt x="4909806" y="1128597"/>
                </a:lnTo>
                <a:lnTo>
                  <a:pt x="4918044" y="1123105"/>
                </a:lnTo>
                <a:lnTo>
                  <a:pt x="4926282" y="1123105"/>
                </a:lnTo>
                <a:lnTo>
                  <a:pt x="4918044" y="1120359"/>
                </a:lnTo>
                <a:lnTo>
                  <a:pt x="4901568" y="1117613"/>
                </a:lnTo>
                <a:close/>
                <a:moveTo>
                  <a:pt x="5011407" y="1103883"/>
                </a:moveTo>
                <a:lnTo>
                  <a:pt x="5008661" y="1106629"/>
                </a:lnTo>
                <a:lnTo>
                  <a:pt x="5011407" y="1109375"/>
                </a:lnTo>
                <a:lnTo>
                  <a:pt x="5011407" y="1112121"/>
                </a:lnTo>
                <a:lnTo>
                  <a:pt x="5014153" y="1109375"/>
                </a:lnTo>
                <a:lnTo>
                  <a:pt x="5016899" y="1109375"/>
                </a:lnTo>
                <a:lnTo>
                  <a:pt x="5016899" y="1106629"/>
                </a:lnTo>
                <a:lnTo>
                  <a:pt x="5016899" y="1103883"/>
                </a:lnTo>
                <a:lnTo>
                  <a:pt x="5011407" y="1103883"/>
                </a:lnTo>
                <a:close/>
                <a:moveTo>
                  <a:pt x="5052597" y="1095645"/>
                </a:moveTo>
                <a:lnTo>
                  <a:pt x="5049851" y="1098391"/>
                </a:lnTo>
                <a:lnTo>
                  <a:pt x="5055343" y="1101137"/>
                </a:lnTo>
                <a:lnTo>
                  <a:pt x="5060835" y="1101137"/>
                </a:lnTo>
                <a:lnTo>
                  <a:pt x="5060835" y="1098391"/>
                </a:lnTo>
                <a:lnTo>
                  <a:pt x="5063581" y="1098391"/>
                </a:lnTo>
                <a:lnTo>
                  <a:pt x="5063581" y="1095645"/>
                </a:lnTo>
                <a:lnTo>
                  <a:pt x="5058089" y="1098391"/>
                </a:lnTo>
                <a:lnTo>
                  <a:pt x="5058089" y="1095645"/>
                </a:lnTo>
                <a:lnTo>
                  <a:pt x="5052597" y="1095645"/>
                </a:lnTo>
                <a:close/>
                <a:moveTo>
                  <a:pt x="5151452" y="1094272"/>
                </a:moveTo>
                <a:lnTo>
                  <a:pt x="5151452" y="1095645"/>
                </a:lnTo>
                <a:lnTo>
                  <a:pt x="5148706" y="1095645"/>
                </a:lnTo>
                <a:lnTo>
                  <a:pt x="5151452" y="1094272"/>
                </a:lnTo>
                <a:close/>
                <a:moveTo>
                  <a:pt x="2746" y="1092899"/>
                </a:moveTo>
                <a:lnTo>
                  <a:pt x="10984" y="1092899"/>
                </a:lnTo>
                <a:lnTo>
                  <a:pt x="21968" y="1092899"/>
                </a:lnTo>
                <a:lnTo>
                  <a:pt x="0" y="1095645"/>
                </a:lnTo>
                <a:lnTo>
                  <a:pt x="2746" y="1092899"/>
                </a:lnTo>
                <a:close/>
                <a:moveTo>
                  <a:pt x="5398590" y="1092899"/>
                </a:moveTo>
                <a:lnTo>
                  <a:pt x="5398590" y="1095645"/>
                </a:lnTo>
                <a:lnTo>
                  <a:pt x="5401336" y="1095645"/>
                </a:lnTo>
                <a:lnTo>
                  <a:pt x="5398590" y="1092899"/>
                </a:lnTo>
                <a:close/>
                <a:moveTo>
                  <a:pt x="5601793" y="1090153"/>
                </a:moveTo>
                <a:lnTo>
                  <a:pt x="5640236" y="1090153"/>
                </a:lnTo>
                <a:lnTo>
                  <a:pt x="5670442" y="1095645"/>
                </a:lnTo>
                <a:lnTo>
                  <a:pt x="5535889" y="1109375"/>
                </a:lnTo>
                <a:lnTo>
                  <a:pt x="5549619" y="1101137"/>
                </a:lnTo>
                <a:lnTo>
                  <a:pt x="5566095" y="1095645"/>
                </a:lnTo>
                <a:lnTo>
                  <a:pt x="5582571" y="1092899"/>
                </a:lnTo>
                <a:lnTo>
                  <a:pt x="5601793" y="1090153"/>
                </a:lnTo>
                <a:close/>
                <a:moveTo>
                  <a:pt x="5848573" y="1088123"/>
                </a:moveTo>
                <a:lnTo>
                  <a:pt x="5846185" y="1092899"/>
                </a:lnTo>
                <a:lnTo>
                  <a:pt x="5845636" y="1093997"/>
                </a:lnTo>
                <a:lnTo>
                  <a:pt x="5840693" y="1095645"/>
                </a:lnTo>
                <a:lnTo>
                  <a:pt x="5843439" y="1098391"/>
                </a:lnTo>
                <a:lnTo>
                  <a:pt x="5845636" y="1093997"/>
                </a:lnTo>
                <a:lnTo>
                  <a:pt x="5860112" y="1089172"/>
                </a:lnTo>
                <a:lnTo>
                  <a:pt x="5848573" y="1088123"/>
                </a:lnTo>
                <a:close/>
                <a:moveTo>
                  <a:pt x="5703394" y="1084661"/>
                </a:moveTo>
                <a:lnTo>
                  <a:pt x="5711632" y="1087407"/>
                </a:lnTo>
                <a:lnTo>
                  <a:pt x="5722616" y="1090153"/>
                </a:lnTo>
                <a:lnTo>
                  <a:pt x="5689664" y="1092899"/>
                </a:lnTo>
                <a:lnTo>
                  <a:pt x="5695156" y="1087407"/>
                </a:lnTo>
                <a:lnTo>
                  <a:pt x="5703394" y="1084661"/>
                </a:lnTo>
                <a:close/>
                <a:moveTo>
                  <a:pt x="5261291" y="1081915"/>
                </a:moveTo>
                <a:lnTo>
                  <a:pt x="5264037" y="1084661"/>
                </a:lnTo>
                <a:lnTo>
                  <a:pt x="5261291" y="1087407"/>
                </a:lnTo>
                <a:lnTo>
                  <a:pt x="5261291" y="1081915"/>
                </a:lnTo>
                <a:close/>
                <a:moveTo>
                  <a:pt x="5091041" y="1079169"/>
                </a:moveTo>
                <a:lnTo>
                  <a:pt x="5091041" y="1084661"/>
                </a:lnTo>
                <a:lnTo>
                  <a:pt x="5096533" y="1084661"/>
                </a:lnTo>
                <a:lnTo>
                  <a:pt x="5096533" y="1079169"/>
                </a:lnTo>
                <a:lnTo>
                  <a:pt x="5093787" y="1079169"/>
                </a:lnTo>
                <a:lnTo>
                  <a:pt x="5091041" y="1079169"/>
                </a:lnTo>
                <a:close/>
                <a:moveTo>
                  <a:pt x="5132230" y="1068185"/>
                </a:moveTo>
                <a:lnTo>
                  <a:pt x="5129485" y="1070931"/>
                </a:lnTo>
                <a:lnTo>
                  <a:pt x="5129485" y="1073677"/>
                </a:lnTo>
                <a:lnTo>
                  <a:pt x="5126739" y="1079169"/>
                </a:lnTo>
                <a:lnTo>
                  <a:pt x="5126739" y="1076423"/>
                </a:lnTo>
                <a:lnTo>
                  <a:pt x="5121247" y="1076423"/>
                </a:lnTo>
                <a:lnTo>
                  <a:pt x="5121247" y="1081915"/>
                </a:lnTo>
                <a:lnTo>
                  <a:pt x="5118501" y="1081915"/>
                </a:lnTo>
                <a:lnTo>
                  <a:pt x="5115755" y="1084661"/>
                </a:lnTo>
                <a:lnTo>
                  <a:pt x="5113009" y="1084661"/>
                </a:lnTo>
                <a:lnTo>
                  <a:pt x="5113009" y="1087407"/>
                </a:lnTo>
                <a:lnTo>
                  <a:pt x="5115755" y="1090153"/>
                </a:lnTo>
                <a:lnTo>
                  <a:pt x="5118501" y="1095645"/>
                </a:lnTo>
                <a:lnTo>
                  <a:pt x="5110263" y="1092899"/>
                </a:lnTo>
                <a:lnTo>
                  <a:pt x="5104771" y="1090153"/>
                </a:lnTo>
                <a:lnTo>
                  <a:pt x="5102025" y="1092899"/>
                </a:lnTo>
                <a:lnTo>
                  <a:pt x="5102025" y="1103883"/>
                </a:lnTo>
                <a:lnTo>
                  <a:pt x="5102025" y="1112121"/>
                </a:lnTo>
                <a:lnTo>
                  <a:pt x="5099279" y="1112121"/>
                </a:lnTo>
                <a:lnTo>
                  <a:pt x="5099279" y="1114867"/>
                </a:lnTo>
                <a:lnTo>
                  <a:pt x="5096533" y="1112121"/>
                </a:lnTo>
                <a:lnTo>
                  <a:pt x="5096533" y="1103883"/>
                </a:lnTo>
                <a:lnTo>
                  <a:pt x="5099279" y="1095645"/>
                </a:lnTo>
                <a:lnTo>
                  <a:pt x="5088295" y="1095645"/>
                </a:lnTo>
                <a:lnTo>
                  <a:pt x="5080057" y="1095645"/>
                </a:lnTo>
                <a:lnTo>
                  <a:pt x="5071819" y="1101137"/>
                </a:lnTo>
                <a:lnTo>
                  <a:pt x="5063581" y="1103883"/>
                </a:lnTo>
                <a:lnTo>
                  <a:pt x="5069073" y="1109375"/>
                </a:lnTo>
                <a:lnTo>
                  <a:pt x="5074565" y="1114867"/>
                </a:lnTo>
                <a:lnTo>
                  <a:pt x="5074565" y="1112121"/>
                </a:lnTo>
                <a:lnTo>
                  <a:pt x="5074565" y="1109375"/>
                </a:lnTo>
                <a:lnTo>
                  <a:pt x="5082803" y="1106629"/>
                </a:lnTo>
                <a:lnTo>
                  <a:pt x="5091041" y="1106629"/>
                </a:lnTo>
                <a:lnTo>
                  <a:pt x="5093787" y="1109375"/>
                </a:lnTo>
                <a:lnTo>
                  <a:pt x="5093787" y="1112121"/>
                </a:lnTo>
                <a:lnTo>
                  <a:pt x="5088295" y="1112121"/>
                </a:lnTo>
                <a:lnTo>
                  <a:pt x="5082803" y="1114867"/>
                </a:lnTo>
                <a:lnTo>
                  <a:pt x="5082803" y="1117613"/>
                </a:lnTo>
                <a:lnTo>
                  <a:pt x="5049851" y="1112121"/>
                </a:lnTo>
                <a:lnTo>
                  <a:pt x="5033375" y="1112121"/>
                </a:lnTo>
                <a:lnTo>
                  <a:pt x="5025137" y="1114867"/>
                </a:lnTo>
                <a:lnTo>
                  <a:pt x="5016899" y="1120359"/>
                </a:lnTo>
                <a:lnTo>
                  <a:pt x="5025137" y="1123105"/>
                </a:lnTo>
                <a:lnTo>
                  <a:pt x="5030629" y="1125851"/>
                </a:lnTo>
                <a:lnTo>
                  <a:pt x="5033375" y="1134089"/>
                </a:lnTo>
                <a:lnTo>
                  <a:pt x="5034748" y="1139580"/>
                </a:lnTo>
                <a:lnTo>
                  <a:pt x="5038867" y="1139580"/>
                </a:lnTo>
                <a:lnTo>
                  <a:pt x="5036121" y="1145072"/>
                </a:lnTo>
                <a:lnTo>
                  <a:pt x="5036121" y="1145072"/>
                </a:lnTo>
                <a:lnTo>
                  <a:pt x="5036121" y="1145073"/>
                </a:lnTo>
                <a:lnTo>
                  <a:pt x="5042006" y="1141149"/>
                </a:lnTo>
                <a:lnTo>
                  <a:pt x="5038867" y="1139580"/>
                </a:lnTo>
                <a:lnTo>
                  <a:pt x="5049851" y="1131342"/>
                </a:lnTo>
                <a:lnTo>
                  <a:pt x="5063581" y="1128596"/>
                </a:lnTo>
                <a:lnTo>
                  <a:pt x="5069073" y="1131342"/>
                </a:lnTo>
                <a:lnTo>
                  <a:pt x="5069074" y="1131342"/>
                </a:lnTo>
                <a:lnTo>
                  <a:pt x="5088295" y="1128597"/>
                </a:lnTo>
                <a:lnTo>
                  <a:pt x="5104771" y="1125851"/>
                </a:lnTo>
                <a:lnTo>
                  <a:pt x="5110263" y="1123105"/>
                </a:lnTo>
                <a:lnTo>
                  <a:pt x="5118501" y="1117613"/>
                </a:lnTo>
                <a:lnTo>
                  <a:pt x="5126739" y="1112121"/>
                </a:lnTo>
                <a:lnTo>
                  <a:pt x="5107517" y="1117613"/>
                </a:lnTo>
                <a:lnTo>
                  <a:pt x="5104771" y="1112121"/>
                </a:lnTo>
                <a:lnTo>
                  <a:pt x="5118501" y="1112121"/>
                </a:lnTo>
                <a:lnTo>
                  <a:pt x="5118501" y="1103883"/>
                </a:lnTo>
                <a:lnTo>
                  <a:pt x="5118501" y="1101137"/>
                </a:lnTo>
                <a:lnTo>
                  <a:pt x="5118501" y="1095645"/>
                </a:lnTo>
                <a:lnTo>
                  <a:pt x="5123993" y="1095645"/>
                </a:lnTo>
                <a:lnTo>
                  <a:pt x="5126739" y="1098391"/>
                </a:lnTo>
                <a:lnTo>
                  <a:pt x="5132230" y="1098391"/>
                </a:lnTo>
                <a:lnTo>
                  <a:pt x="5134976" y="1095645"/>
                </a:lnTo>
                <a:lnTo>
                  <a:pt x="5134976" y="1092899"/>
                </a:lnTo>
                <a:lnTo>
                  <a:pt x="5129485" y="1092899"/>
                </a:lnTo>
                <a:lnTo>
                  <a:pt x="5129485" y="1087407"/>
                </a:lnTo>
                <a:lnTo>
                  <a:pt x="5134976" y="1087407"/>
                </a:lnTo>
                <a:lnTo>
                  <a:pt x="5137722" y="1087407"/>
                </a:lnTo>
                <a:lnTo>
                  <a:pt x="5140468" y="1087407"/>
                </a:lnTo>
                <a:lnTo>
                  <a:pt x="5143214" y="1087407"/>
                </a:lnTo>
                <a:lnTo>
                  <a:pt x="5145960" y="1084661"/>
                </a:lnTo>
                <a:lnTo>
                  <a:pt x="5143214" y="1081915"/>
                </a:lnTo>
                <a:lnTo>
                  <a:pt x="5143214" y="1079169"/>
                </a:lnTo>
                <a:lnTo>
                  <a:pt x="5143214" y="1073677"/>
                </a:lnTo>
                <a:lnTo>
                  <a:pt x="5137722" y="1070931"/>
                </a:lnTo>
                <a:lnTo>
                  <a:pt x="5132230" y="1068185"/>
                </a:lnTo>
                <a:close/>
                <a:moveTo>
                  <a:pt x="5266783" y="1065439"/>
                </a:moveTo>
                <a:lnTo>
                  <a:pt x="5266783" y="1070931"/>
                </a:lnTo>
                <a:lnTo>
                  <a:pt x="5269529" y="1073677"/>
                </a:lnTo>
                <a:lnTo>
                  <a:pt x="5272275" y="1076423"/>
                </a:lnTo>
                <a:lnTo>
                  <a:pt x="5272275" y="1081915"/>
                </a:lnTo>
                <a:lnTo>
                  <a:pt x="5280513" y="1081915"/>
                </a:lnTo>
                <a:lnTo>
                  <a:pt x="5280513" y="1076423"/>
                </a:lnTo>
                <a:lnTo>
                  <a:pt x="5277767" y="1073677"/>
                </a:lnTo>
                <a:lnTo>
                  <a:pt x="5275021" y="1070931"/>
                </a:lnTo>
                <a:lnTo>
                  <a:pt x="5275021" y="1065439"/>
                </a:lnTo>
                <a:lnTo>
                  <a:pt x="5266783" y="1065439"/>
                </a:lnTo>
                <a:close/>
                <a:moveTo>
                  <a:pt x="5206372" y="1065439"/>
                </a:moveTo>
                <a:lnTo>
                  <a:pt x="5200880" y="1068185"/>
                </a:lnTo>
                <a:lnTo>
                  <a:pt x="5198134" y="1070931"/>
                </a:lnTo>
                <a:lnTo>
                  <a:pt x="5198134" y="1076423"/>
                </a:lnTo>
                <a:lnTo>
                  <a:pt x="5203626" y="1081915"/>
                </a:lnTo>
                <a:lnTo>
                  <a:pt x="5209118" y="1084661"/>
                </a:lnTo>
                <a:lnTo>
                  <a:pt x="5214610" y="1084661"/>
                </a:lnTo>
                <a:lnTo>
                  <a:pt x="5217356" y="1084661"/>
                </a:lnTo>
                <a:lnTo>
                  <a:pt x="5217356" y="1068185"/>
                </a:lnTo>
                <a:lnTo>
                  <a:pt x="5209118" y="1068185"/>
                </a:lnTo>
                <a:lnTo>
                  <a:pt x="5206372" y="1065439"/>
                </a:lnTo>
                <a:close/>
                <a:moveTo>
                  <a:pt x="5069073" y="1059947"/>
                </a:moveTo>
                <a:lnTo>
                  <a:pt x="5069073" y="1062693"/>
                </a:lnTo>
                <a:lnTo>
                  <a:pt x="5071819" y="1065439"/>
                </a:lnTo>
                <a:lnTo>
                  <a:pt x="5077311" y="1068185"/>
                </a:lnTo>
                <a:lnTo>
                  <a:pt x="5080057" y="1065439"/>
                </a:lnTo>
                <a:lnTo>
                  <a:pt x="5080057" y="1062693"/>
                </a:lnTo>
                <a:lnTo>
                  <a:pt x="5077311" y="1059947"/>
                </a:lnTo>
                <a:lnTo>
                  <a:pt x="5071819" y="1059947"/>
                </a:lnTo>
                <a:lnTo>
                  <a:pt x="5069073" y="1059947"/>
                </a:lnTo>
                <a:close/>
                <a:moveTo>
                  <a:pt x="5390352" y="1057201"/>
                </a:moveTo>
                <a:lnTo>
                  <a:pt x="5382114" y="1059947"/>
                </a:lnTo>
                <a:lnTo>
                  <a:pt x="5384860" y="1070931"/>
                </a:lnTo>
                <a:lnTo>
                  <a:pt x="5387606" y="1076423"/>
                </a:lnTo>
                <a:lnTo>
                  <a:pt x="5387606" y="1084661"/>
                </a:lnTo>
                <a:lnTo>
                  <a:pt x="5401336" y="1087407"/>
                </a:lnTo>
                <a:lnTo>
                  <a:pt x="5415066" y="1084661"/>
                </a:lnTo>
                <a:lnTo>
                  <a:pt x="5415066" y="1073677"/>
                </a:lnTo>
                <a:lnTo>
                  <a:pt x="5412320" y="1073677"/>
                </a:lnTo>
                <a:lnTo>
                  <a:pt x="5409574" y="1070931"/>
                </a:lnTo>
                <a:lnTo>
                  <a:pt x="5412320" y="1062693"/>
                </a:lnTo>
                <a:lnTo>
                  <a:pt x="5406828" y="1059947"/>
                </a:lnTo>
                <a:lnTo>
                  <a:pt x="5404082" y="1057201"/>
                </a:lnTo>
                <a:lnTo>
                  <a:pt x="5390352" y="1057201"/>
                </a:lnTo>
                <a:close/>
                <a:moveTo>
                  <a:pt x="5302481" y="1057201"/>
                </a:moveTo>
                <a:lnTo>
                  <a:pt x="5296989" y="1059947"/>
                </a:lnTo>
                <a:lnTo>
                  <a:pt x="5296989" y="1065439"/>
                </a:lnTo>
                <a:lnTo>
                  <a:pt x="5302481" y="1062693"/>
                </a:lnTo>
                <a:lnTo>
                  <a:pt x="5302481" y="1057201"/>
                </a:lnTo>
                <a:close/>
                <a:moveTo>
                  <a:pt x="5220102" y="1057201"/>
                </a:moveTo>
                <a:lnTo>
                  <a:pt x="5217356" y="1059947"/>
                </a:lnTo>
                <a:lnTo>
                  <a:pt x="5217356" y="1065439"/>
                </a:lnTo>
                <a:lnTo>
                  <a:pt x="5222848" y="1065439"/>
                </a:lnTo>
                <a:lnTo>
                  <a:pt x="5222848" y="1059947"/>
                </a:lnTo>
                <a:lnTo>
                  <a:pt x="5225594" y="1059947"/>
                </a:lnTo>
                <a:lnTo>
                  <a:pt x="5225594" y="1057201"/>
                </a:lnTo>
                <a:lnTo>
                  <a:pt x="5222848" y="1057201"/>
                </a:lnTo>
                <a:lnTo>
                  <a:pt x="5220102" y="1057201"/>
                </a:lnTo>
                <a:close/>
                <a:moveTo>
                  <a:pt x="6050990" y="1055027"/>
                </a:moveTo>
                <a:lnTo>
                  <a:pt x="5826635" y="1077772"/>
                </a:lnTo>
                <a:lnTo>
                  <a:pt x="5846185" y="1079169"/>
                </a:lnTo>
                <a:lnTo>
                  <a:pt x="5881883" y="1076423"/>
                </a:lnTo>
                <a:lnTo>
                  <a:pt x="5917580" y="1070931"/>
                </a:lnTo>
                <a:lnTo>
                  <a:pt x="5956024" y="1065439"/>
                </a:lnTo>
                <a:lnTo>
                  <a:pt x="5983484" y="1062693"/>
                </a:lnTo>
                <a:lnTo>
                  <a:pt x="6008198" y="1062693"/>
                </a:lnTo>
                <a:lnTo>
                  <a:pt x="6032912" y="1059947"/>
                </a:lnTo>
                <a:lnTo>
                  <a:pt x="6046642" y="1057201"/>
                </a:lnTo>
                <a:lnTo>
                  <a:pt x="6050990" y="1055027"/>
                </a:lnTo>
                <a:close/>
                <a:moveTo>
                  <a:pt x="5209118" y="1051709"/>
                </a:moveTo>
                <a:lnTo>
                  <a:pt x="5206372" y="1054455"/>
                </a:lnTo>
                <a:lnTo>
                  <a:pt x="5200880" y="1054455"/>
                </a:lnTo>
                <a:lnTo>
                  <a:pt x="5195388" y="1057201"/>
                </a:lnTo>
                <a:lnTo>
                  <a:pt x="5192642" y="1062693"/>
                </a:lnTo>
                <a:lnTo>
                  <a:pt x="5209118" y="1062693"/>
                </a:lnTo>
                <a:lnTo>
                  <a:pt x="5211864" y="1059947"/>
                </a:lnTo>
                <a:lnTo>
                  <a:pt x="5211864" y="1057201"/>
                </a:lnTo>
                <a:lnTo>
                  <a:pt x="5209118" y="1051709"/>
                </a:lnTo>
                <a:close/>
                <a:moveTo>
                  <a:pt x="5187150" y="1051709"/>
                </a:moveTo>
                <a:lnTo>
                  <a:pt x="5187150" y="1057201"/>
                </a:lnTo>
                <a:lnTo>
                  <a:pt x="5192642" y="1057201"/>
                </a:lnTo>
                <a:lnTo>
                  <a:pt x="5192642" y="1051709"/>
                </a:lnTo>
                <a:lnTo>
                  <a:pt x="5187150" y="1051709"/>
                </a:lnTo>
                <a:close/>
                <a:moveTo>
                  <a:pt x="5118501" y="1051709"/>
                </a:moveTo>
                <a:lnTo>
                  <a:pt x="5121247" y="1057201"/>
                </a:lnTo>
                <a:lnTo>
                  <a:pt x="5126739" y="1057201"/>
                </a:lnTo>
                <a:lnTo>
                  <a:pt x="5123993" y="1051709"/>
                </a:lnTo>
                <a:lnTo>
                  <a:pt x="5118501" y="1051709"/>
                </a:lnTo>
                <a:close/>
                <a:moveTo>
                  <a:pt x="5480970" y="1048963"/>
                </a:moveTo>
                <a:lnTo>
                  <a:pt x="5478224" y="1051709"/>
                </a:lnTo>
                <a:lnTo>
                  <a:pt x="5478224" y="1054455"/>
                </a:lnTo>
                <a:lnTo>
                  <a:pt x="5480970" y="1057201"/>
                </a:lnTo>
                <a:lnTo>
                  <a:pt x="5483716" y="1057201"/>
                </a:lnTo>
                <a:lnTo>
                  <a:pt x="5486462" y="1057201"/>
                </a:lnTo>
                <a:lnTo>
                  <a:pt x="5486462" y="1051709"/>
                </a:lnTo>
                <a:lnTo>
                  <a:pt x="5486462" y="1048963"/>
                </a:lnTo>
                <a:lnTo>
                  <a:pt x="5480970" y="1048963"/>
                </a:lnTo>
                <a:close/>
                <a:moveTo>
                  <a:pt x="5091041" y="1043471"/>
                </a:moveTo>
                <a:lnTo>
                  <a:pt x="5088295" y="1046217"/>
                </a:lnTo>
                <a:lnTo>
                  <a:pt x="5088295" y="1054455"/>
                </a:lnTo>
                <a:lnTo>
                  <a:pt x="5093787" y="1054455"/>
                </a:lnTo>
                <a:lnTo>
                  <a:pt x="5096533" y="1057201"/>
                </a:lnTo>
                <a:lnTo>
                  <a:pt x="5099279" y="1057201"/>
                </a:lnTo>
                <a:lnTo>
                  <a:pt x="5099279" y="1046217"/>
                </a:lnTo>
                <a:lnTo>
                  <a:pt x="5096533" y="1046217"/>
                </a:lnTo>
                <a:lnTo>
                  <a:pt x="5093787" y="1046217"/>
                </a:lnTo>
                <a:lnTo>
                  <a:pt x="5093787" y="1043471"/>
                </a:lnTo>
                <a:lnTo>
                  <a:pt x="5091041" y="1043471"/>
                </a:lnTo>
                <a:close/>
                <a:moveTo>
                  <a:pt x="5264037" y="1040725"/>
                </a:moveTo>
                <a:lnTo>
                  <a:pt x="5261291" y="1048963"/>
                </a:lnTo>
                <a:lnTo>
                  <a:pt x="5261291" y="1057201"/>
                </a:lnTo>
                <a:lnTo>
                  <a:pt x="5266783" y="1057201"/>
                </a:lnTo>
                <a:lnTo>
                  <a:pt x="5266783" y="1054455"/>
                </a:lnTo>
                <a:lnTo>
                  <a:pt x="5272275" y="1054455"/>
                </a:lnTo>
                <a:lnTo>
                  <a:pt x="5272275" y="1043471"/>
                </a:lnTo>
                <a:lnTo>
                  <a:pt x="5269529" y="1040725"/>
                </a:lnTo>
                <a:lnTo>
                  <a:pt x="5264037" y="1040725"/>
                </a:lnTo>
                <a:close/>
                <a:moveTo>
                  <a:pt x="5250308" y="1040725"/>
                </a:moveTo>
                <a:lnTo>
                  <a:pt x="5250308" y="1043471"/>
                </a:lnTo>
                <a:lnTo>
                  <a:pt x="5253053" y="1043471"/>
                </a:lnTo>
                <a:lnTo>
                  <a:pt x="5253053" y="1046217"/>
                </a:lnTo>
                <a:lnTo>
                  <a:pt x="5253053" y="1048963"/>
                </a:lnTo>
                <a:lnTo>
                  <a:pt x="5258545" y="1048963"/>
                </a:lnTo>
                <a:lnTo>
                  <a:pt x="5258545" y="1043471"/>
                </a:lnTo>
                <a:lnTo>
                  <a:pt x="5258545" y="1040725"/>
                </a:lnTo>
                <a:lnTo>
                  <a:pt x="5255799" y="1040725"/>
                </a:lnTo>
                <a:lnTo>
                  <a:pt x="5253053" y="1040725"/>
                </a:lnTo>
                <a:lnTo>
                  <a:pt x="5250308" y="1040725"/>
                </a:lnTo>
                <a:close/>
                <a:moveTo>
                  <a:pt x="5071819" y="1040725"/>
                </a:moveTo>
                <a:lnTo>
                  <a:pt x="5069073" y="1043471"/>
                </a:lnTo>
                <a:lnTo>
                  <a:pt x="5066327" y="1043471"/>
                </a:lnTo>
                <a:lnTo>
                  <a:pt x="5063581" y="1043471"/>
                </a:lnTo>
                <a:lnTo>
                  <a:pt x="5066327" y="1048963"/>
                </a:lnTo>
                <a:lnTo>
                  <a:pt x="5066327" y="1054455"/>
                </a:lnTo>
                <a:lnTo>
                  <a:pt x="5074565" y="1054455"/>
                </a:lnTo>
                <a:lnTo>
                  <a:pt x="5074565" y="1048963"/>
                </a:lnTo>
                <a:lnTo>
                  <a:pt x="5074565" y="1046217"/>
                </a:lnTo>
                <a:lnTo>
                  <a:pt x="5071819" y="1040725"/>
                </a:lnTo>
                <a:close/>
                <a:moveTo>
                  <a:pt x="5579825" y="1037979"/>
                </a:moveTo>
                <a:lnTo>
                  <a:pt x="5579825" y="1040725"/>
                </a:lnTo>
                <a:lnTo>
                  <a:pt x="5582571" y="1046217"/>
                </a:lnTo>
                <a:lnTo>
                  <a:pt x="5588063" y="1046217"/>
                </a:lnTo>
                <a:lnTo>
                  <a:pt x="5593555" y="1043471"/>
                </a:lnTo>
                <a:lnTo>
                  <a:pt x="5588063" y="1040725"/>
                </a:lnTo>
                <a:lnTo>
                  <a:pt x="5579825" y="1037979"/>
                </a:lnTo>
                <a:close/>
                <a:moveTo>
                  <a:pt x="5198134" y="1037979"/>
                </a:moveTo>
                <a:lnTo>
                  <a:pt x="5195388" y="1040725"/>
                </a:lnTo>
                <a:lnTo>
                  <a:pt x="5198134" y="1046217"/>
                </a:lnTo>
                <a:lnTo>
                  <a:pt x="5203626" y="1046217"/>
                </a:lnTo>
                <a:lnTo>
                  <a:pt x="5209118" y="1043471"/>
                </a:lnTo>
                <a:lnTo>
                  <a:pt x="5214610" y="1040725"/>
                </a:lnTo>
                <a:lnTo>
                  <a:pt x="5203626" y="1037979"/>
                </a:lnTo>
                <a:lnTo>
                  <a:pt x="5198134" y="1037979"/>
                </a:lnTo>
                <a:close/>
                <a:moveTo>
                  <a:pt x="5129485" y="1037979"/>
                </a:moveTo>
                <a:lnTo>
                  <a:pt x="5126739" y="1040725"/>
                </a:lnTo>
                <a:lnTo>
                  <a:pt x="5123993" y="1046217"/>
                </a:lnTo>
                <a:lnTo>
                  <a:pt x="5126739" y="1048963"/>
                </a:lnTo>
                <a:lnTo>
                  <a:pt x="5132230" y="1048963"/>
                </a:lnTo>
                <a:lnTo>
                  <a:pt x="5137722" y="1043471"/>
                </a:lnTo>
                <a:lnTo>
                  <a:pt x="5145960" y="1040725"/>
                </a:lnTo>
                <a:lnTo>
                  <a:pt x="5145960" y="1046217"/>
                </a:lnTo>
                <a:lnTo>
                  <a:pt x="5143214" y="1051709"/>
                </a:lnTo>
                <a:lnTo>
                  <a:pt x="5140468" y="1057201"/>
                </a:lnTo>
                <a:lnTo>
                  <a:pt x="5143214" y="1057201"/>
                </a:lnTo>
                <a:lnTo>
                  <a:pt x="5148706" y="1062693"/>
                </a:lnTo>
                <a:lnTo>
                  <a:pt x="5143214" y="1065439"/>
                </a:lnTo>
                <a:lnTo>
                  <a:pt x="5143214" y="1070931"/>
                </a:lnTo>
                <a:lnTo>
                  <a:pt x="5145960" y="1070931"/>
                </a:lnTo>
                <a:lnTo>
                  <a:pt x="5148706" y="1073677"/>
                </a:lnTo>
                <a:lnTo>
                  <a:pt x="5151452" y="1076423"/>
                </a:lnTo>
                <a:lnTo>
                  <a:pt x="5148706" y="1076423"/>
                </a:lnTo>
                <a:lnTo>
                  <a:pt x="5151452" y="1079169"/>
                </a:lnTo>
                <a:lnTo>
                  <a:pt x="5151452" y="1084661"/>
                </a:lnTo>
                <a:lnTo>
                  <a:pt x="5154198" y="1084661"/>
                </a:lnTo>
                <a:lnTo>
                  <a:pt x="5156944" y="1081915"/>
                </a:lnTo>
                <a:lnTo>
                  <a:pt x="5159690" y="1084661"/>
                </a:lnTo>
                <a:lnTo>
                  <a:pt x="5176166" y="1084661"/>
                </a:lnTo>
                <a:lnTo>
                  <a:pt x="5176166" y="1081915"/>
                </a:lnTo>
                <a:lnTo>
                  <a:pt x="5178912" y="1076423"/>
                </a:lnTo>
                <a:lnTo>
                  <a:pt x="5181658" y="1076423"/>
                </a:lnTo>
                <a:lnTo>
                  <a:pt x="5187150" y="1076423"/>
                </a:lnTo>
                <a:lnTo>
                  <a:pt x="5187150" y="1070931"/>
                </a:lnTo>
                <a:lnTo>
                  <a:pt x="5187150" y="1068185"/>
                </a:lnTo>
                <a:lnTo>
                  <a:pt x="5187150" y="1065439"/>
                </a:lnTo>
                <a:lnTo>
                  <a:pt x="5181658" y="1065439"/>
                </a:lnTo>
                <a:lnTo>
                  <a:pt x="5178912" y="1065439"/>
                </a:lnTo>
                <a:lnTo>
                  <a:pt x="5167928" y="1062693"/>
                </a:lnTo>
                <a:lnTo>
                  <a:pt x="5167928" y="1065439"/>
                </a:lnTo>
                <a:lnTo>
                  <a:pt x="5165182" y="1068185"/>
                </a:lnTo>
                <a:lnTo>
                  <a:pt x="5159690" y="1068185"/>
                </a:lnTo>
                <a:lnTo>
                  <a:pt x="5156944" y="1068185"/>
                </a:lnTo>
                <a:lnTo>
                  <a:pt x="5154198" y="1065439"/>
                </a:lnTo>
                <a:lnTo>
                  <a:pt x="5154198" y="1062693"/>
                </a:lnTo>
                <a:lnTo>
                  <a:pt x="5154198" y="1059947"/>
                </a:lnTo>
                <a:lnTo>
                  <a:pt x="5159690" y="1059947"/>
                </a:lnTo>
                <a:lnTo>
                  <a:pt x="5165182" y="1062693"/>
                </a:lnTo>
                <a:lnTo>
                  <a:pt x="5170674" y="1057201"/>
                </a:lnTo>
                <a:lnTo>
                  <a:pt x="5173420" y="1057201"/>
                </a:lnTo>
                <a:lnTo>
                  <a:pt x="5176166" y="1057201"/>
                </a:lnTo>
                <a:lnTo>
                  <a:pt x="5178912" y="1054455"/>
                </a:lnTo>
                <a:lnTo>
                  <a:pt x="5178912" y="1046217"/>
                </a:lnTo>
                <a:lnTo>
                  <a:pt x="5173420" y="1046217"/>
                </a:lnTo>
                <a:lnTo>
                  <a:pt x="5170674" y="1048963"/>
                </a:lnTo>
                <a:lnTo>
                  <a:pt x="5167928" y="1046217"/>
                </a:lnTo>
                <a:lnTo>
                  <a:pt x="5165182" y="1043471"/>
                </a:lnTo>
                <a:lnTo>
                  <a:pt x="5165182" y="1040725"/>
                </a:lnTo>
                <a:lnTo>
                  <a:pt x="5159690" y="1040725"/>
                </a:lnTo>
                <a:lnTo>
                  <a:pt x="5156944" y="1043471"/>
                </a:lnTo>
                <a:lnTo>
                  <a:pt x="5154198" y="1040725"/>
                </a:lnTo>
                <a:lnTo>
                  <a:pt x="5151452" y="1040725"/>
                </a:lnTo>
                <a:lnTo>
                  <a:pt x="5145960" y="1037979"/>
                </a:lnTo>
                <a:lnTo>
                  <a:pt x="5143214" y="1037979"/>
                </a:lnTo>
                <a:lnTo>
                  <a:pt x="5140468" y="1040725"/>
                </a:lnTo>
                <a:lnTo>
                  <a:pt x="5137722" y="1040725"/>
                </a:lnTo>
                <a:lnTo>
                  <a:pt x="5129485" y="1037979"/>
                </a:lnTo>
                <a:close/>
                <a:moveTo>
                  <a:pt x="400913" y="1035234"/>
                </a:moveTo>
                <a:lnTo>
                  <a:pt x="409150" y="1035234"/>
                </a:lnTo>
                <a:lnTo>
                  <a:pt x="414642" y="1035234"/>
                </a:lnTo>
                <a:lnTo>
                  <a:pt x="417389" y="1037980"/>
                </a:lnTo>
                <a:lnTo>
                  <a:pt x="411897" y="1040726"/>
                </a:lnTo>
                <a:lnTo>
                  <a:pt x="409150" y="1043472"/>
                </a:lnTo>
                <a:lnTo>
                  <a:pt x="411897" y="1043472"/>
                </a:lnTo>
                <a:lnTo>
                  <a:pt x="414642" y="1046218"/>
                </a:lnTo>
                <a:lnTo>
                  <a:pt x="398167" y="1048964"/>
                </a:lnTo>
                <a:lnTo>
                  <a:pt x="398167" y="1046218"/>
                </a:lnTo>
                <a:lnTo>
                  <a:pt x="406404" y="1046218"/>
                </a:lnTo>
                <a:lnTo>
                  <a:pt x="406404" y="1040726"/>
                </a:lnTo>
                <a:lnTo>
                  <a:pt x="403658" y="1040726"/>
                </a:lnTo>
                <a:lnTo>
                  <a:pt x="403658" y="1037980"/>
                </a:lnTo>
                <a:lnTo>
                  <a:pt x="400913" y="1035234"/>
                </a:lnTo>
                <a:close/>
                <a:moveTo>
                  <a:pt x="5110263" y="1032487"/>
                </a:moveTo>
                <a:lnTo>
                  <a:pt x="5110263" y="1043471"/>
                </a:lnTo>
                <a:lnTo>
                  <a:pt x="5118501" y="1043471"/>
                </a:lnTo>
                <a:lnTo>
                  <a:pt x="5123993" y="1037979"/>
                </a:lnTo>
                <a:lnTo>
                  <a:pt x="5118501" y="1032487"/>
                </a:lnTo>
                <a:lnTo>
                  <a:pt x="5110263" y="1032487"/>
                </a:lnTo>
                <a:close/>
                <a:moveTo>
                  <a:pt x="5286005" y="1029741"/>
                </a:moveTo>
                <a:lnTo>
                  <a:pt x="5286005" y="1032487"/>
                </a:lnTo>
                <a:lnTo>
                  <a:pt x="5286005" y="1035233"/>
                </a:lnTo>
                <a:lnTo>
                  <a:pt x="5291497" y="1037979"/>
                </a:lnTo>
                <a:lnTo>
                  <a:pt x="5294243" y="1035233"/>
                </a:lnTo>
                <a:lnTo>
                  <a:pt x="5294243" y="1032487"/>
                </a:lnTo>
                <a:lnTo>
                  <a:pt x="5291497" y="1029741"/>
                </a:lnTo>
                <a:lnTo>
                  <a:pt x="5288751" y="1029741"/>
                </a:lnTo>
                <a:lnTo>
                  <a:pt x="5286005" y="1029741"/>
                </a:lnTo>
                <a:close/>
                <a:moveTo>
                  <a:pt x="5181658" y="1026996"/>
                </a:moveTo>
                <a:lnTo>
                  <a:pt x="5181658" y="1032487"/>
                </a:lnTo>
                <a:lnTo>
                  <a:pt x="5187150" y="1032487"/>
                </a:lnTo>
                <a:lnTo>
                  <a:pt x="5187150" y="1026996"/>
                </a:lnTo>
                <a:lnTo>
                  <a:pt x="5181658" y="1026996"/>
                </a:lnTo>
                <a:close/>
                <a:moveTo>
                  <a:pt x="5140468" y="1026996"/>
                </a:moveTo>
                <a:lnTo>
                  <a:pt x="5137722" y="1029741"/>
                </a:lnTo>
                <a:lnTo>
                  <a:pt x="5134976" y="1029741"/>
                </a:lnTo>
                <a:lnTo>
                  <a:pt x="5134976" y="1032487"/>
                </a:lnTo>
                <a:lnTo>
                  <a:pt x="5137722" y="1032487"/>
                </a:lnTo>
                <a:lnTo>
                  <a:pt x="5145960" y="1032487"/>
                </a:lnTo>
                <a:lnTo>
                  <a:pt x="5145960" y="1029741"/>
                </a:lnTo>
                <a:lnTo>
                  <a:pt x="5148706" y="1029741"/>
                </a:lnTo>
                <a:lnTo>
                  <a:pt x="5140468" y="1026996"/>
                </a:lnTo>
                <a:close/>
                <a:moveTo>
                  <a:pt x="428372" y="1024250"/>
                </a:moveTo>
                <a:lnTo>
                  <a:pt x="428372" y="1029742"/>
                </a:lnTo>
                <a:lnTo>
                  <a:pt x="431118" y="1032488"/>
                </a:lnTo>
                <a:lnTo>
                  <a:pt x="431118" y="1024250"/>
                </a:lnTo>
                <a:lnTo>
                  <a:pt x="428372" y="1024250"/>
                </a:lnTo>
                <a:close/>
                <a:moveTo>
                  <a:pt x="486038" y="1021504"/>
                </a:moveTo>
                <a:lnTo>
                  <a:pt x="486038" y="1026996"/>
                </a:lnTo>
                <a:lnTo>
                  <a:pt x="483292" y="1029742"/>
                </a:lnTo>
                <a:lnTo>
                  <a:pt x="483292" y="1032488"/>
                </a:lnTo>
                <a:lnTo>
                  <a:pt x="483292" y="1037980"/>
                </a:lnTo>
                <a:lnTo>
                  <a:pt x="488784" y="1035234"/>
                </a:lnTo>
                <a:lnTo>
                  <a:pt x="499768" y="1035234"/>
                </a:lnTo>
                <a:lnTo>
                  <a:pt x="499768" y="1029742"/>
                </a:lnTo>
                <a:lnTo>
                  <a:pt x="491530" y="1029742"/>
                </a:lnTo>
                <a:lnTo>
                  <a:pt x="491530" y="1026996"/>
                </a:lnTo>
                <a:lnTo>
                  <a:pt x="488784" y="1024250"/>
                </a:lnTo>
                <a:lnTo>
                  <a:pt x="491530" y="1024250"/>
                </a:lnTo>
                <a:lnTo>
                  <a:pt x="491530" y="1021504"/>
                </a:lnTo>
                <a:lnTo>
                  <a:pt x="486038" y="1021504"/>
                </a:lnTo>
                <a:close/>
                <a:moveTo>
                  <a:pt x="5258545" y="1018758"/>
                </a:moveTo>
                <a:lnTo>
                  <a:pt x="5258545" y="1026996"/>
                </a:lnTo>
                <a:lnTo>
                  <a:pt x="5250308" y="1026996"/>
                </a:lnTo>
                <a:lnTo>
                  <a:pt x="5244816" y="1026996"/>
                </a:lnTo>
                <a:lnTo>
                  <a:pt x="5244816" y="1029741"/>
                </a:lnTo>
                <a:lnTo>
                  <a:pt x="5247562" y="1032487"/>
                </a:lnTo>
                <a:lnTo>
                  <a:pt x="5255799" y="1035233"/>
                </a:lnTo>
                <a:lnTo>
                  <a:pt x="5258545" y="1029741"/>
                </a:lnTo>
                <a:lnTo>
                  <a:pt x="5261291" y="1029741"/>
                </a:lnTo>
                <a:lnTo>
                  <a:pt x="5261291" y="1018758"/>
                </a:lnTo>
                <a:lnTo>
                  <a:pt x="5258545" y="1018758"/>
                </a:lnTo>
                <a:close/>
                <a:moveTo>
                  <a:pt x="5104771" y="1018758"/>
                </a:moveTo>
                <a:lnTo>
                  <a:pt x="5104771" y="1021504"/>
                </a:lnTo>
                <a:lnTo>
                  <a:pt x="5107517" y="1024250"/>
                </a:lnTo>
                <a:lnTo>
                  <a:pt x="5110263" y="1026996"/>
                </a:lnTo>
                <a:lnTo>
                  <a:pt x="5110263" y="1029741"/>
                </a:lnTo>
                <a:lnTo>
                  <a:pt x="5115755" y="1029741"/>
                </a:lnTo>
                <a:lnTo>
                  <a:pt x="5118501" y="1029741"/>
                </a:lnTo>
                <a:lnTo>
                  <a:pt x="5118501" y="1026996"/>
                </a:lnTo>
                <a:lnTo>
                  <a:pt x="5118501" y="1024250"/>
                </a:lnTo>
                <a:lnTo>
                  <a:pt x="5113009" y="1024250"/>
                </a:lnTo>
                <a:lnTo>
                  <a:pt x="5110263" y="1021504"/>
                </a:lnTo>
                <a:lnTo>
                  <a:pt x="5110263" y="1018758"/>
                </a:lnTo>
                <a:lnTo>
                  <a:pt x="5104771" y="1018758"/>
                </a:lnTo>
                <a:close/>
                <a:moveTo>
                  <a:pt x="475054" y="1016012"/>
                </a:moveTo>
                <a:lnTo>
                  <a:pt x="475054" y="1024250"/>
                </a:lnTo>
                <a:lnTo>
                  <a:pt x="477800" y="1021504"/>
                </a:lnTo>
                <a:lnTo>
                  <a:pt x="480546" y="1018758"/>
                </a:lnTo>
                <a:lnTo>
                  <a:pt x="477800" y="1016012"/>
                </a:lnTo>
                <a:lnTo>
                  <a:pt x="475054" y="1016012"/>
                </a:lnTo>
                <a:close/>
                <a:moveTo>
                  <a:pt x="321279" y="1016012"/>
                </a:moveTo>
                <a:lnTo>
                  <a:pt x="321279" y="1021504"/>
                </a:lnTo>
                <a:lnTo>
                  <a:pt x="326771" y="1021504"/>
                </a:lnTo>
                <a:lnTo>
                  <a:pt x="326771" y="1016012"/>
                </a:lnTo>
                <a:lnTo>
                  <a:pt x="321279" y="1016012"/>
                </a:lnTo>
                <a:close/>
                <a:moveTo>
                  <a:pt x="447594" y="1013266"/>
                </a:moveTo>
                <a:lnTo>
                  <a:pt x="444848" y="1016012"/>
                </a:lnTo>
                <a:lnTo>
                  <a:pt x="444848" y="1018758"/>
                </a:lnTo>
                <a:lnTo>
                  <a:pt x="442102" y="1021504"/>
                </a:lnTo>
                <a:lnTo>
                  <a:pt x="442102" y="1024250"/>
                </a:lnTo>
                <a:lnTo>
                  <a:pt x="444848" y="1026996"/>
                </a:lnTo>
                <a:lnTo>
                  <a:pt x="444848" y="1024250"/>
                </a:lnTo>
                <a:lnTo>
                  <a:pt x="447594" y="1024250"/>
                </a:lnTo>
                <a:lnTo>
                  <a:pt x="447594" y="1013266"/>
                </a:lnTo>
                <a:close/>
                <a:moveTo>
                  <a:pt x="5140468" y="1013266"/>
                </a:moveTo>
                <a:lnTo>
                  <a:pt x="5140468" y="1016012"/>
                </a:lnTo>
                <a:lnTo>
                  <a:pt x="5143214" y="1016012"/>
                </a:lnTo>
                <a:lnTo>
                  <a:pt x="5145960" y="1013266"/>
                </a:lnTo>
                <a:lnTo>
                  <a:pt x="5140468" y="1013266"/>
                </a:lnTo>
                <a:close/>
                <a:moveTo>
                  <a:pt x="5118501" y="1013266"/>
                </a:moveTo>
                <a:lnTo>
                  <a:pt x="5121247" y="1016012"/>
                </a:lnTo>
                <a:lnTo>
                  <a:pt x="5126739" y="1016012"/>
                </a:lnTo>
                <a:lnTo>
                  <a:pt x="5126739" y="1013266"/>
                </a:lnTo>
                <a:lnTo>
                  <a:pt x="5118501" y="1013266"/>
                </a:lnTo>
                <a:close/>
                <a:moveTo>
                  <a:pt x="175743" y="1010520"/>
                </a:moveTo>
                <a:lnTo>
                  <a:pt x="178488" y="1016012"/>
                </a:lnTo>
                <a:lnTo>
                  <a:pt x="181234" y="1018758"/>
                </a:lnTo>
                <a:lnTo>
                  <a:pt x="183980" y="1016012"/>
                </a:lnTo>
                <a:lnTo>
                  <a:pt x="186726" y="1013266"/>
                </a:lnTo>
                <a:lnTo>
                  <a:pt x="181234" y="1010520"/>
                </a:lnTo>
                <a:lnTo>
                  <a:pt x="175743" y="1010520"/>
                </a:lnTo>
                <a:close/>
                <a:moveTo>
                  <a:pt x="1062693" y="1010520"/>
                </a:moveTo>
                <a:lnTo>
                  <a:pt x="1065439" y="1015096"/>
                </a:lnTo>
                <a:lnTo>
                  <a:pt x="1065439" y="1018758"/>
                </a:lnTo>
                <a:lnTo>
                  <a:pt x="1062693" y="1010520"/>
                </a:lnTo>
                <a:close/>
                <a:moveTo>
                  <a:pt x="472308" y="1007774"/>
                </a:moveTo>
                <a:lnTo>
                  <a:pt x="472308" y="1010520"/>
                </a:lnTo>
                <a:lnTo>
                  <a:pt x="469562" y="1010520"/>
                </a:lnTo>
                <a:lnTo>
                  <a:pt x="469562" y="1016012"/>
                </a:lnTo>
                <a:lnTo>
                  <a:pt x="472308" y="1016012"/>
                </a:lnTo>
                <a:lnTo>
                  <a:pt x="475054" y="1010520"/>
                </a:lnTo>
                <a:lnTo>
                  <a:pt x="475054" y="1007774"/>
                </a:lnTo>
                <a:lnTo>
                  <a:pt x="472308" y="1007774"/>
                </a:lnTo>
                <a:close/>
                <a:moveTo>
                  <a:pt x="5060835" y="1007774"/>
                </a:moveTo>
                <a:lnTo>
                  <a:pt x="5060835" y="1013266"/>
                </a:lnTo>
                <a:lnTo>
                  <a:pt x="5063581" y="1010520"/>
                </a:lnTo>
                <a:lnTo>
                  <a:pt x="5063581" y="1013266"/>
                </a:lnTo>
                <a:lnTo>
                  <a:pt x="5066327" y="1013266"/>
                </a:lnTo>
                <a:lnTo>
                  <a:pt x="5069073" y="1013266"/>
                </a:lnTo>
                <a:lnTo>
                  <a:pt x="5069073" y="1010520"/>
                </a:lnTo>
                <a:lnTo>
                  <a:pt x="5066327" y="1007774"/>
                </a:lnTo>
                <a:lnTo>
                  <a:pt x="5060835" y="1007774"/>
                </a:lnTo>
                <a:close/>
                <a:moveTo>
                  <a:pt x="5156944" y="1005028"/>
                </a:moveTo>
                <a:lnTo>
                  <a:pt x="5156944" y="1010520"/>
                </a:lnTo>
                <a:lnTo>
                  <a:pt x="5159690" y="1013266"/>
                </a:lnTo>
                <a:lnTo>
                  <a:pt x="5162436" y="1013266"/>
                </a:lnTo>
                <a:lnTo>
                  <a:pt x="5162436" y="1010520"/>
                </a:lnTo>
                <a:lnTo>
                  <a:pt x="5165182" y="1010520"/>
                </a:lnTo>
                <a:lnTo>
                  <a:pt x="5165182" y="1013266"/>
                </a:lnTo>
                <a:lnTo>
                  <a:pt x="5159690" y="1016012"/>
                </a:lnTo>
                <a:lnTo>
                  <a:pt x="5162436" y="1021504"/>
                </a:lnTo>
                <a:lnTo>
                  <a:pt x="5162436" y="1026996"/>
                </a:lnTo>
                <a:lnTo>
                  <a:pt x="5165182" y="1026996"/>
                </a:lnTo>
                <a:lnTo>
                  <a:pt x="5173420" y="1024250"/>
                </a:lnTo>
                <a:lnTo>
                  <a:pt x="5181658" y="1024250"/>
                </a:lnTo>
                <a:lnTo>
                  <a:pt x="5181658" y="1018758"/>
                </a:lnTo>
                <a:lnTo>
                  <a:pt x="5181658" y="1016012"/>
                </a:lnTo>
                <a:lnTo>
                  <a:pt x="5178912" y="1013266"/>
                </a:lnTo>
                <a:lnTo>
                  <a:pt x="5178912" y="1010520"/>
                </a:lnTo>
                <a:lnTo>
                  <a:pt x="5167928" y="1007774"/>
                </a:lnTo>
                <a:lnTo>
                  <a:pt x="5156944" y="1005028"/>
                </a:lnTo>
                <a:close/>
                <a:moveTo>
                  <a:pt x="505260" y="1002282"/>
                </a:moveTo>
                <a:lnTo>
                  <a:pt x="499768" y="1005028"/>
                </a:lnTo>
                <a:lnTo>
                  <a:pt x="497022" y="1005028"/>
                </a:lnTo>
                <a:lnTo>
                  <a:pt x="494276" y="1007774"/>
                </a:lnTo>
                <a:lnTo>
                  <a:pt x="497022" y="1007774"/>
                </a:lnTo>
                <a:lnTo>
                  <a:pt x="497022" y="1010520"/>
                </a:lnTo>
                <a:lnTo>
                  <a:pt x="499768" y="1010520"/>
                </a:lnTo>
                <a:lnTo>
                  <a:pt x="502514" y="1007774"/>
                </a:lnTo>
                <a:lnTo>
                  <a:pt x="505260" y="1007774"/>
                </a:lnTo>
                <a:lnTo>
                  <a:pt x="505260" y="1002282"/>
                </a:lnTo>
                <a:close/>
                <a:moveTo>
                  <a:pt x="428372" y="1002282"/>
                </a:moveTo>
                <a:lnTo>
                  <a:pt x="422880" y="1007774"/>
                </a:lnTo>
                <a:lnTo>
                  <a:pt x="417389" y="1016012"/>
                </a:lnTo>
                <a:lnTo>
                  <a:pt x="420134" y="1016012"/>
                </a:lnTo>
                <a:lnTo>
                  <a:pt x="422880" y="1016012"/>
                </a:lnTo>
                <a:lnTo>
                  <a:pt x="425626" y="1018758"/>
                </a:lnTo>
                <a:lnTo>
                  <a:pt x="428372" y="1021504"/>
                </a:lnTo>
                <a:lnTo>
                  <a:pt x="431118" y="1018758"/>
                </a:lnTo>
                <a:lnTo>
                  <a:pt x="433864" y="1021504"/>
                </a:lnTo>
                <a:lnTo>
                  <a:pt x="433864" y="1016012"/>
                </a:lnTo>
                <a:lnTo>
                  <a:pt x="428372" y="1016012"/>
                </a:lnTo>
                <a:lnTo>
                  <a:pt x="425626" y="1013266"/>
                </a:lnTo>
                <a:lnTo>
                  <a:pt x="425626" y="1010520"/>
                </a:lnTo>
                <a:lnTo>
                  <a:pt x="428372" y="1007774"/>
                </a:lnTo>
                <a:lnTo>
                  <a:pt x="428372" y="1002282"/>
                </a:lnTo>
                <a:close/>
                <a:moveTo>
                  <a:pt x="5233832" y="1002282"/>
                </a:moveTo>
                <a:lnTo>
                  <a:pt x="5233832" y="1005028"/>
                </a:lnTo>
                <a:lnTo>
                  <a:pt x="5231086" y="1007774"/>
                </a:lnTo>
                <a:lnTo>
                  <a:pt x="5231086" y="1010520"/>
                </a:lnTo>
                <a:lnTo>
                  <a:pt x="5236578" y="1007774"/>
                </a:lnTo>
                <a:lnTo>
                  <a:pt x="5239324" y="1007774"/>
                </a:lnTo>
                <a:lnTo>
                  <a:pt x="5244816" y="1007774"/>
                </a:lnTo>
                <a:lnTo>
                  <a:pt x="5244816" y="1002282"/>
                </a:lnTo>
                <a:lnTo>
                  <a:pt x="5233832" y="1002282"/>
                </a:lnTo>
                <a:close/>
                <a:moveTo>
                  <a:pt x="6326731" y="999536"/>
                </a:moveTo>
                <a:lnTo>
                  <a:pt x="6323985" y="1005028"/>
                </a:lnTo>
                <a:lnTo>
                  <a:pt x="6323985" y="1007774"/>
                </a:lnTo>
                <a:lnTo>
                  <a:pt x="6323985" y="1013266"/>
                </a:lnTo>
                <a:lnTo>
                  <a:pt x="6326731" y="1016012"/>
                </a:lnTo>
                <a:lnTo>
                  <a:pt x="6332223" y="1016012"/>
                </a:lnTo>
                <a:lnTo>
                  <a:pt x="6334969" y="1016012"/>
                </a:lnTo>
                <a:lnTo>
                  <a:pt x="6337715" y="1013266"/>
                </a:lnTo>
                <a:lnTo>
                  <a:pt x="6340461" y="1007774"/>
                </a:lnTo>
                <a:lnTo>
                  <a:pt x="6337715" y="1005028"/>
                </a:lnTo>
                <a:lnTo>
                  <a:pt x="6334969" y="1002282"/>
                </a:lnTo>
                <a:lnTo>
                  <a:pt x="6326731" y="999536"/>
                </a:lnTo>
                <a:close/>
                <a:moveTo>
                  <a:pt x="5209118" y="999536"/>
                </a:moveTo>
                <a:lnTo>
                  <a:pt x="5206372" y="1005028"/>
                </a:lnTo>
                <a:lnTo>
                  <a:pt x="5206372" y="1010520"/>
                </a:lnTo>
                <a:lnTo>
                  <a:pt x="5214610" y="1010520"/>
                </a:lnTo>
                <a:lnTo>
                  <a:pt x="5220102" y="1007774"/>
                </a:lnTo>
                <a:lnTo>
                  <a:pt x="5220102" y="999536"/>
                </a:lnTo>
                <a:lnTo>
                  <a:pt x="5209118" y="999536"/>
                </a:lnTo>
                <a:close/>
                <a:moveTo>
                  <a:pt x="5093787" y="999536"/>
                </a:moveTo>
                <a:lnTo>
                  <a:pt x="5091041" y="1002282"/>
                </a:lnTo>
                <a:lnTo>
                  <a:pt x="5099279" y="1002282"/>
                </a:lnTo>
                <a:lnTo>
                  <a:pt x="5102025" y="1002282"/>
                </a:lnTo>
                <a:lnTo>
                  <a:pt x="5102025" y="999536"/>
                </a:lnTo>
                <a:lnTo>
                  <a:pt x="5099279" y="999536"/>
                </a:lnTo>
                <a:lnTo>
                  <a:pt x="5093787" y="999536"/>
                </a:lnTo>
                <a:close/>
                <a:moveTo>
                  <a:pt x="1079168" y="988552"/>
                </a:moveTo>
                <a:lnTo>
                  <a:pt x="1073676" y="991298"/>
                </a:lnTo>
                <a:lnTo>
                  <a:pt x="1068185" y="996790"/>
                </a:lnTo>
                <a:lnTo>
                  <a:pt x="1065439" y="1002282"/>
                </a:lnTo>
                <a:lnTo>
                  <a:pt x="1062693" y="1007774"/>
                </a:lnTo>
                <a:lnTo>
                  <a:pt x="1062693" y="1010520"/>
                </a:lnTo>
                <a:lnTo>
                  <a:pt x="1062693" y="1013266"/>
                </a:lnTo>
                <a:lnTo>
                  <a:pt x="1065439" y="1018758"/>
                </a:lnTo>
                <a:lnTo>
                  <a:pt x="1068185" y="1024249"/>
                </a:lnTo>
                <a:lnTo>
                  <a:pt x="1070931" y="1024249"/>
                </a:lnTo>
                <a:lnTo>
                  <a:pt x="1065439" y="1015096"/>
                </a:lnTo>
                <a:lnTo>
                  <a:pt x="1065439" y="1005028"/>
                </a:lnTo>
                <a:lnTo>
                  <a:pt x="1070931" y="994044"/>
                </a:lnTo>
                <a:lnTo>
                  <a:pt x="1077795" y="991298"/>
                </a:lnTo>
                <a:lnTo>
                  <a:pt x="1078253" y="990383"/>
                </a:lnTo>
                <a:lnTo>
                  <a:pt x="1070931" y="994044"/>
                </a:lnTo>
                <a:lnTo>
                  <a:pt x="1079168" y="988553"/>
                </a:lnTo>
                <a:lnTo>
                  <a:pt x="1079168" y="988552"/>
                </a:lnTo>
                <a:close/>
                <a:moveTo>
                  <a:pt x="5329941" y="988552"/>
                </a:moveTo>
                <a:lnTo>
                  <a:pt x="5327195" y="991298"/>
                </a:lnTo>
                <a:lnTo>
                  <a:pt x="5327195" y="999536"/>
                </a:lnTo>
                <a:lnTo>
                  <a:pt x="5332687" y="999536"/>
                </a:lnTo>
                <a:lnTo>
                  <a:pt x="5332687" y="996790"/>
                </a:lnTo>
                <a:lnTo>
                  <a:pt x="5335433" y="994044"/>
                </a:lnTo>
                <a:lnTo>
                  <a:pt x="5343671" y="996790"/>
                </a:lnTo>
                <a:lnTo>
                  <a:pt x="5343671" y="991298"/>
                </a:lnTo>
                <a:lnTo>
                  <a:pt x="5338179" y="988552"/>
                </a:lnTo>
                <a:lnTo>
                  <a:pt x="5338179" y="991298"/>
                </a:lnTo>
                <a:lnTo>
                  <a:pt x="5338179" y="994044"/>
                </a:lnTo>
                <a:lnTo>
                  <a:pt x="5335433" y="994044"/>
                </a:lnTo>
                <a:lnTo>
                  <a:pt x="5332687" y="991298"/>
                </a:lnTo>
                <a:lnTo>
                  <a:pt x="5329941" y="988552"/>
                </a:lnTo>
                <a:close/>
                <a:moveTo>
                  <a:pt x="5211864" y="985806"/>
                </a:moveTo>
                <a:lnTo>
                  <a:pt x="5211864" y="994044"/>
                </a:lnTo>
                <a:lnTo>
                  <a:pt x="5217356" y="991298"/>
                </a:lnTo>
                <a:lnTo>
                  <a:pt x="5220102" y="988552"/>
                </a:lnTo>
                <a:lnTo>
                  <a:pt x="5217356" y="985806"/>
                </a:lnTo>
                <a:lnTo>
                  <a:pt x="5211864" y="985806"/>
                </a:lnTo>
                <a:close/>
                <a:moveTo>
                  <a:pt x="5091041" y="985806"/>
                </a:moveTo>
                <a:lnTo>
                  <a:pt x="5085549" y="988552"/>
                </a:lnTo>
                <a:lnTo>
                  <a:pt x="5077311" y="988552"/>
                </a:lnTo>
                <a:lnTo>
                  <a:pt x="5071819" y="988552"/>
                </a:lnTo>
                <a:lnTo>
                  <a:pt x="5066327" y="991298"/>
                </a:lnTo>
                <a:lnTo>
                  <a:pt x="5069073" y="996790"/>
                </a:lnTo>
                <a:lnTo>
                  <a:pt x="5071819" y="1002282"/>
                </a:lnTo>
                <a:lnTo>
                  <a:pt x="5080057" y="1005028"/>
                </a:lnTo>
                <a:lnTo>
                  <a:pt x="5088295" y="1013266"/>
                </a:lnTo>
                <a:lnTo>
                  <a:pt x="5082803" y="1013266"/>
                </a:lnTo>
                <a:lnTo>
                  <a:pt x="5082803" y="1016012"/>
                </a:lnTo>
                <a:lnTo>
                  <a:pt x="5085549" y="1021504"/>
                </a:lnTo>
                <a:lnTo>
                  <a:pt x="5077311" y="1032487"/>
                </a:lnTo>
                <a:lnTo>
                  <a:pt x="5080057" y="1035233"/>
                </a:lnTo>
                <a:lnTo>
                  <a:pt x="5085549" y="1035233"/>
                </a:lnTo>
                <a:lnTo>
                  <a:pt x="5082803" y="1037979"/>
                </a:lnTo>
                <a:lnTo>
                  <a:pt x="5080057" y="1040725"/>
                </a:lnTo>
                <a:lnTo>
                  <a:pt x="5082803" y="1043471"/>
                </a:lnTo>
                <a:lnTo>
                  <a:pt x="5085549" y="1043471"/>
                </a:lnTo>
                <a:lnTo>
                  <a:pt x="5085549" y="1040725"/>
                </a:lnTo>
                <a:lnTo>
                  <a:pt x="5088295" y="1040725"/>
                </a:lnTo>
                <a:lnTo>
                  <a:pt x="5088295" y="1035233"/>
                </a:lnTo>
                <a:lnTo>
                  <a:pt x="5091041" y="1032487"/>
                </a:lnTo>
                <a:lnTo>
                  <a:pt x="5102025" y="1032487"/>
                </a:lnTo>
                <a:lnTo>
                  <a:pt x="5102025" y="1029741"/>
                </a:lnTo>
                <a:lnTo>
                  <a:pt x="5104771" y="1029741"/>
                </a:lnTo>
                <a:lnTo>
                  <a:pt x="5102025" y="1024250"/>
                </a:lnTo>
                <a:lnTo>
                  <a:pt x="5099279" y="1021504"/>
                </a:lnTo>
                <a:lnTo>
                  <a:pt x="5096533" y="1021504"/>
                </a:lnTo>
                <a:lnTo>
                  <a:pt x="5093787" y="1018758"/>
                </a:lnTo>
                <a:lnTo>
                  <a:pt x="5093787" y="1013266"/>
                </a:lnTo>
                <a:lnTo>
                  <a:pt x="5091041" y="1010520"/>
                </a:lnTo>
                <a:lnTo>
                  <a:pt x="5088295" y="1010520"/>
                </a:lnTo>
                <a:lnTo>
                  <a:pt x="5088295" y="1002282"/>
                </a:lnTo>
                <a:lnTo>
                  <a:pt x="5091041" y="996790"/>
                </a:lnTo>
                <a:lnTo>
                  <a:pt x="5088295" y="994044"/>
                </a:lnTo>
                <a:lnTo>
                  <a:pt x="5088295" y="991298"/>
                </a:lnTo>
                <a:lnTo>
                  <a:pt x="5091041" y="991298"/>
                </a:lnTo>
                <a:lnTo>
                  <a:pt x="5091041" y="988552"/>
                </a:lnTo>
                <a:lnTo>
                  <a:pt x="5091041" y="985806"/>
                </a:lnTo>
                <a:close/>
                <a:moveTo>
                  <a:pt x="1084661" y="983060"/>
                </a:moveTo>
                <a:lnTo>
                  <a:pt x="1090153" y="985806"/>
                </a:lnTo>
                <a:lnTo>
                  <a:pt x="1092898" y="985806"/>
                </a:lnTo>
                <a:lnTo>
                  <a:pt x="1095644" y="985806"/>
                </a:lnTo>
                <a:lnTo>
                  <a:pt x="1101136" y="988552"/>
                </a:lnTo>
                <a:lnTo>
                  <a:pt x="1101137" y="988552"/>
                </a:lnTo>
                <a:lnTo>
                  <a:pt x="1103882" y="991298"/>
                </a:lnTo>
                <a:lnTo>
                  <a:pt x="1102234" y="990748"/>
                </a:lnTo>
                <a:lnTo>
                  <a:pt x="1103882" y="994044"/>
                </a:lnTo>
                <a:lnTo>
                  <a:pt x="1103882" y="997340"/>
                </a:lnTo>
                <a:lnTo>
                  <a:pt x="1106628" y="999536"/>
                </a:lnTo>
                <a:lnTo>
                  <a:pt x="1103882" y="991298"/>
                </a:lnTo>
                <a:lnTo>
                  <a:pt x="1109374" y="996790"/>
                </a:lnTo>
                <a:lnTo>
                  <a:pt x="1114867" y="1005028"/>
                </a:lnTo>
                <a:lnTo>
                  <a:pt x="1114867" y="1016012"/>
                </a:lnTo>
                <a:lnTo>
                  <a:pt x="1112120" y="1024249"/>
                </a:lnTo>
                <a:lnTo>
                  <a:pt x="1103882" y="1035233"/>
                </a:lnTo>
                <a:lnTo>
                  <a:pt x="1106628" y="1026995"/>
                </a:lnTo>
                <a:lnTo>
                  <a:pt x="1092898" y="1037979"/>
                </a:lnTo>
                <a:lnTo>
                  <a:pt x="1103882" y="1035233"/>
                </a:lnTo>
                <a:lnTo>
                  <a:pt x="1095645" y="1037979"/>
                </a:lnTo>
                <a:lnTo>
                  <a:pt x="1090153" y="1040725"/>
                </a:lnTo>
                <a:lnTo>
                  <a:pt x="1081915" y="1043471"/>
                </a:lnTo>
                <a:lnTo>
                  <a:pt x="1076423" y="1040725"/>
                </a:lnTo>
                <a:lnTo>
                  <a:pt x="1065439" y="1040725"/>
                </a:lnTo>
                <a:lnTo>
                  <a:pt x="1057202" y="1032487"/>
                </a:lnTo>
                <a:lnTo>
                  <a:pt x="1048963" y="1024249"/>
                </a:lnTo>
                <a:lnTo>
                  <a:pt x="1048963" y="1013266"/>
                </a:lnTo>
                <a:lnTo>
                  <a:pt x="1048963" y="1002282"/>
                </a:lnTo>
                <a:lnTo>
                  <a:pt x="1057202" y="994044"/>
                </a:lnTo>
                <a:lnTo>
                  <a:pt x="1065439" y="985806"/>
                </a:lnTo>
                <a:lnTo>
                  <a:pt x="1073676" y="985806"/>
                </a:lnTo>
                <a:lnTo>
                  <a:pt x="1084661" y="983060"/>
                </a:lnTo>
                <a:close/>
                <a:moveTo>
                  <a:pt x="5258545" y="983060"/>
                </a:moveTo>
                <a:lnTo>
                  <a:pt x="5258545" y="985806"/>
                </a:lnTo>
                <a:lnTo>
                  <a:pt x="5264037" y="988552"/>
                </a:lnTo>
                <a:lnTo>
                  <a:pt x="5264037" y="991298"/>
                </a:lnTo>
                <a:lnTo>
                  <a:pt x="5269529" y="991298"/>
                </a:lnTo>
                <a:lnTo>
                  <a:pt x="5269529" y="985806"/>
                </a:lnTo>
                <a:lnTo>
                  <a:pt x="5264037" y="985806"/>
                </a:lnTo>
                <a:lnTo>
                  <a:pt x="5258545" y="983060"/>
                </a:lnTo>
                <a:close/>
                <a:moveTo>
                  <a:pt x="5162436" y="980314"/>
                </a:moveTo>
                <a:lnTo>
                  <a:pt x="5162436" y="985806"/>
                </a:lnTo>
                <a:lnTo>
                  <a:pt x="5165182" y="988552"/>
                </a:lnTo>
                <a:lnTo>
                  <a:pt x="5159690" y="988552"/>
                </a:lnTo>
                <a:lnTo>
                  <a:pt x="5162436" y="994044"/>
                </a:lnTo>
                <a:lnTo>
                  <a:pt x="5165182" y="996790"/>
                </a:lnTo>
                <a:lnTo>
                  <a:pt x="5167928" y="994044"/>
                </a:lnTo>
                <a:lnTo>
                  <a:pt x="5167928" y="991298"/>
                </a:lnTo>
                <a:lnTo>
                  <a:pt x="5167928" y="988552"/>
                </a:lnTo>
                <a:lnTo>
                  <a:pt x="5167928" y="985806"/>
                </a:lnTo>
                <a:lnTo>
                  <a:pt x="5170674" y="985806"/>
                </a:lnTo>
                <a:lnTo>
                  <a:pt x="5170674" y="983060"/>
                </a:lnTo>
                <a:lnTo>
                  <a:pt x="5167928" y="983060"/>
                </a:lnTo>
                <a:lnTo>
                  <a:pt x="5167928" y="980314"/>
                </a:lnTo>
                <a:lnTo>
                  <a:pt x="5165182" y="980314"/>
                </a:lnTo>
                <a:lnTo>
                  <a:pt x="5162436" y="980314"/>
                </a:lnTo>
                <a:close/>
                <a:moveTo>
                  <a:pt x="5104771" y="977568"/>
                </a:moveTo>
                <a:lnTo>
                  <a:pt x="5107517" y="980314"/>
                </a:lnTo>
                <a:lnTo>
                  <a:pt x="5113009" y="983060"/>
                </a:lnTo>
                <a:lnTo>
                  <a:pt x="5107517" y="983060"/>
                </a:lnTo>
                <a:lnTo>
                  <a:pt x="5104771" y="985806"/>
                </a:lnTo>
                <a:lnTo>
                  <a:pt x="5104771" y="991298"/>
                </a:lnTo>
                <a:lnTo>
                  <a:pt x="5110263" y="994044"/>
                </a:lnTo>
                <a:lnTo>
                  <a:pt x="5115755" y="994044"/>
                </a:lnTo>
                <a:lnTo>
                  <a:pt x="5118501" y="991298"/>
                </a:lnTo>
                <a:lnTo>
                  <a:pt x="5121247" y="985806"/>
                </a:lnTo>
                <a:lnTo>
                  <a:pt x="5115755" y="983060"/>
                </a:lnTo>
                <a:lnTo>
                  <a:pt x="5113009" y="983060"/>
                </a:lnTo>
                <a:lnTo>
                  <a:pt x="5113009" y="977568"/>
                </a:lnTo>
                <a:lnTo>
                  <a:pt x="5104771" y="977568"/>
                </a:lnTo>
                <a:close/>
                <a:moveTo>
                  <a:pt x="6615058" y="974822"/>
                </a:moveTo>
                <a:lnTo>
                  <a:pt x="6634280" y="994044"/>
                </a:lnTo>
                <a:lnTo>
                  <a:pt x="6436570" y="1016012"/>
                </a:lnTo>
                <a:lnTo>
                  <a:pt x="6447554" y="1007774"/>
                </a:lnTo>
                <a:lnTo>
                  <a:pt x="6458538" y="1002282"/>
                </a:lnTo>
                <a:lnTo>
                  <a:pt x="6475013" y="999536"/>
                </a:lnTo>
                <a:lnTo>
                  <a:pt x="6491489" y="1002282"/>
                </a:lnTo>
                <a:lnTo>
                  <a:pt x="6521695" y="1005028"/>
                </a:lnTo>
                <a:lnTo>
                  <a:pt x="6538171" y="1002282"/>
                </a:lnTo>
                <a:lnTo>
                  <a:pt x="6562885" y="994044"/>
                </a:lnTo>
                <a:lnTo>
                  <a:pt x="6615058" y="974822"/>
                </a:lnTo>
                <a:close/>
                <a:moveTo>
                  <a:pt x="5137722" y="966584"/>
                </a:moveTo>
                <a:lnTo>
                  <a:pt x="5129485" y="969330"/>
                </a:lnTo>
                <a:lnTo>
                  <a:pt x="5126739" y="969330"/>
                </a:lnTo>
                <a:lnTo>
                  <a:pt x="5123993" y="972076"/>
                </a:lnTo>
                <a:lnTo>
                  <a:pt x="5129485" y="977568"/>
                </a:lnTo>
                <a:lnTo>
                  <a:pt x="5137722" y="974822"/>
                </a:lnTo>
                <a:lnTo>
                  <a:pt x="5137722" y="966584"/>
                </a:lnTo>
                <a:close/>
                <a:moveTo>
                  <a:pt x="5102025" y="966584"/>
                </a:moveTo>
                <a:lnTo>
                  <a:pt x="5104771" y="972076"/>
                </a:lnTo>
                <a:lnTo>
                  <a:pt x="5107517" y="972076"/>
                </a:lnTo>
                <a:lnTo>
                  <a:pt x="5110263" y="969330"/>
                </a:lnTo>
                <a:lnTo>
                  <a:pt x="5110263" y="966584"/>
                </a:lnTo>
                <a:lnTo>
                  <a:pt x="5102025" y="966584"/>
                </a:lnTo>
                <a:close/>
                <a:moveTo>
                  <a:pt x="1035233" y="966584"/>
                </a:moveTo>
                <a:lnTo>
                  <a:pt x="1035233" y="969330"/>
                </a:lnTo>
                <a:lnTo>
                  <a:pt x="1043472" y="969330"/>
                </a:lnTo>
                <a:lnTo>
                  <a:pt x="1048964" y="966584"/>
                </a:lnTo>
                <a:lnTo>
                  <a:pt x="1035233" y="966584"/>
                </a:lnTo>
                <a:close/>
                <a:moveTo>
                  <a:pt x="5264037" y="963838"/>
                </a:moveTo>
                <a:lnTo>
                  <a:pt x="5264037" y="969330"/>
                </a:lnTo>
                <a:lnTo>
                  <a:pt x="5264037" y="972076"/>
                </a:lnTo>
                <a:lnTo>
                  <a:pt x="5258545" y="977568"/>
                </a:lnTo>
                <a:lnTo>
                  <a:pt x="5264037" y="980314"/>
                </a:lnTo>
                <a:lnTo>
                  <a:pt x="5269529" y="980314"/>
                </a:lnTo>
                <a:lnTo>
                  <a:pt x="5272275" y="972076"/>
                </a:lnTo>
                <a:lnTo>
                  <a:pt x="5269529" y="963838"/>
                </a:lnTo>
                <a:lnTo>
                  <a:pt x="5264037" y="963838"/>
                </a:lnTo>
                <a:close/>
                <a:moveTo>
                  <a:pt x="5244816" y="961092"/>
                </a:moveTo>
                <a:lnTo>
                  <a:pt x="5242070" y="963838"/>
                </a:lnTo>
                <a:lnTo>
                  <a:pt x="5242070" y="966584"/>
                </a:lnTo>
                <a:lnTo>
                  <a:pt x="5244816" y="966584"/>
                </a:lnTo>
                <a:lnTo>
                  <a:pt x="5247562" y="966584"/>
                </a:lnTo>
                <a:lnTo>
                  <a:pt x="5250308" y="966584"/>
                </a:lnTo>
                <a:lnTo>
                  <a:pt x="5253053" y="966584"/>
                </a:lnTo>
                <a:lnTo>
                  <a:pt x="5253053" y="961092"/>
                </a:lnTo>
                <a:lnTo>
                  <a:pt x="5244816" y="961092"/>
                </a:lnTo>
                <a:close/>
                <a:moveTo>
                  <a:pt x="1169785" y="961092"/>
                </a:moveTo>
                <a:lnTo>
                  <a:pt x="1175277" y="963838"/>
                </a:lnTo>
                <a:lnTo>
                  <a:pt x="1178023" y="969330"/>
                </a:lnTo>
                <a:lnTo>
                  <a:pt x="1178023" y="974822"/>
                </a:lnTo>
                <a:lnTo>
                  <a:pt x="1178023" y="980314"/>
                </a:lnTo>
                <a:lnTo>
                  <a:pt x="1175277" y="983060"/>
                </a:lnTo>
                <a:lnTo>
                  <a:pt x="1169785" y="983060"/>
                </a:lnTo>
                <a:lnTo>
                  <a:pt x="1167039" y="983060"/>
                </a:lnTo>
                <a:lnTo>
                  <a:pt x="1164293" y="980314"/>
                </a:lnTo>
                <a:lnTo>
                  <a:pt x="1161547" y="974822"/>
                </a:lnTo>
                <a:lnTo>
                  <a:pt x="1161547" y="969330"/>
                </a:lnTo>
                <a:lnTo>
                  <a:pt x="1164293" y="963838"/>
                </a:lnTo>
                <a:lnTo>
                  <a:pt x="1169785" y="961092"/>
                </a:lnTo>
                <a:close/>
                <a:moveTo>
                  <a:pt x="6175702" y="955600"/>
                </a:moveTo>
                <a:lnTo>
                  <a:pt x="6167464" y="958346"/>
                </a:lnTo>
                <a:lnTo>
                  <a:pt x="6159226" y="961092"/>
                </a:lnTo>
                <a:lnTo>
                  <a:pt x="6148242" y="963838"/>
                </a:lnTo>
                <a:lnTo>
                  <a:pt x="6137258" y="963838"/>
                </a:lnTo>
                <a:lnTo>
                  <a:pt x="6137258" y="958346"/>
                </a:lnTo>
                <a:lnTo>
                  <a:pt x="6134512" y="958346"/>
                </a:lnTo>
                <a:lnTo>
                  <a:pt x="6129020" y="958346"/>
                </a:lnTo>
                <a:lnTo>
                  <a:pt x="6129020" y="963838"/>
                </a:lnTo>
                <a:lnTo>
                  <a:pt x="6137258" y="963838"/>
                </a:lnTo>
                <a:lnTo>
                  <a:pt x="6145496" y="966584"/>
                </a:lnTo>
                <a:lnTo>
                  <a:pt x="6159226" y="966584"/>
                </a:lnTo>
                <a:lnTo>
                  <a:pt x="6172956" y="963838"/>
                </a:lnTo>
                <a:lnTo>
                  <a:pt x="6175702" y="961092"/>
                </a:lnTo>
                <a:lnTo>
                  <a:pt x="6175702" y="955600"/>
                </a:lnTo>
                <a:close/>
                <a:moveTo>
                  <a:pt x="5225594" y="955600"/>
                </a:moveTo>
                <a:lnTo>
                  <a:pt x="5225594" y="966584"/>
                </a:lnTo>
                <a:lnTo>
                  <a:pt x="5231086" y="963838"/>
                </a:lnTo>
                <a:lnTo>
                  <a:pt x="5233832" y="958346"/>
                </a:lnTo>
                <a:lnTo>
                  <a:pt x="5231086" y="958346"/>
                </a:lnTo>
                <a:lnTo>
                  <a:pt x="5225594" y="955600"/>
                </a:lnTo>
                <a:close/>
                <a:moveTo>
                  <a:pt x="5082803" y="955600"/>
                </a:moveTo>
                <a:lnTo>
                  <a:pt x="5082803" y="961092"/>
                </a:lnTo>
                <a:lnTo>
                  <a:pt x="5088295" y="961092"/>
                </a:lnTo>
                <a:lnTo>
                  <a:pt x="5091041" y="955600"/>
                </a:lnTo>
                <a:lnTo>
                  <a:pt x="5082803" y="955600"/>
                </a:lnTo>
                <a:close/>
                <a:moveTo>
                  <a:pt x="930887" y="955600"/>
                </a:moveTo>
                <a:lnTo>
                  <a:pt x="928141" y="958346"/>
                </a:lnTo>
                <a:lnTo>
                  <a:pt x="928141" y="963838"/>
                </a:lnTo>
                <a:lnTo>
                  <a:pt x="930887" y="963838"/>
                </a:lnTo>
                <a:lnTo>
                  <a:pt x="933632" y="963838"/>
                </a:lnTo>
                <a:lnTo>
                  <a:pt x="935005" y="965211"/>
                </a:lnTo>
                <a:lnTo>
                  <a:pt x="937857" y="965528"/>
                </a:lnTo>
                <a:lnTo>
                  <a:pt x="936378" y="961092"/>
                </a:lnTo>
                <a:lnTo>
                  <a:pt x="930887" y="955600"/>
                </a:lnTo>
                <a:close/>
                <a:moveTo>
                  <a:pt x="5354655" y="952854"/>
                </a:moveTo>
                <a:lnTo>
                  <a:pt x="5354655" y="955600"/>
                </a:lnTo>
                <a:lnTo>
                  <a:pt x="5357401" y="958346"/>
                </a:lnTo>
                <a:lnTo>
                  <a:pt x="5360147" y="955600"/>
                </a:lnTo>
                <a:lnTo>
                  <a:pt x="5360147" y="952854"/>
                </a:lnTo>
                <a:lnTo>
                  <a:pt x="5357401" y="952854"/>
                </a:lnTo>
                <a:lnTo>
                  <a:pt x="5354655" y="952854"/>
                </a:lnTo>
                <a:close/>
                <a:moveTo>
                  <a:pt x="5178912" y="952854"/>
                </a:moveTo>
                <a:lnTo>
                  <a:pt x="5173420" y="958346"/>
                </a:lnTo>
                <a:lnTo>
                  <a:pt x="5167928" y="966584"/>
                </a:lnTo>
                <a:lnTo>
                  <a:pt x="5170674" y="966584"/>
                </a:lnTo>
                <a:lnTo>
                  <a:pt x="5173420" y="969330"/>
                </a:lnTo>
                <a:lnTo>
                  <a:pt x="5176166" y="972076"/>
                </a:lnTo>
                <a:lnTo>
                  <a:pt x="5181658" y="972076"/>
                </a:lnTo>
                <a:lnTo>
                  <a:pt x="5187150" y="974822"/>
                </a:lnTo>
                <a:lnTo>
                  <a:pt x="5187150" y="980314"/>
                </a:lnTo>
                <a:lnTo>
                  <a:pt x="5184404" y="980314"/>
                </a:lnTo>
                <a:lnTo>
                  <a:pt x="5176166" y="983060"/>
                </a:lnTo>
                <a:lnTo>
                  <a:pt x="5178912" y="994044"/>
                </a:lnTo>
                <a:lnTo>
                  <a:pt x="5187150" y="999536"/>
                </a:lnTo>
                <a:lnTo>
                  <a:pt x="5189896" y="996790"/>
                </a:lnTo>
                <a:lnTo>
                  <a:pt x="5192642" y="991298"/>
                </a:lnTo>
                <a:lnTo>
                  <a:pt x="5189896" y="985806"/>
                </a:lnTo>
                <a:lnTo>
                  <a:pt x="5187150" y="983060"/>
                </a:lnTo>
                <a:lnTo>
                  <a:pt x="5198134" y="983060"/>
                </a:lnTo>
                <a:lnTo>
                  <a:pt x="5200880" y="977568"/>
                </a:lnTo>
                <a:lnTo>
                  <a:pt x="5198134" y="974822"/>
                </a:lnTo>
                <a:lnTo>
                  <a:pt x="5195388" y="969330"/>
                </a:lnTo>
                <a:lnTo>
                  <a:pt x="5195388" y="963838"/>
                </a:lnTo>
                <a:lnTo>
                  <a:pt x="5187150" y="958346"/>
                </a:lnTo>
                <a:lnTo>
                  <a:pt x="5181658" y="955600"/>
                </a:lnTo>
                <a:lnTo>
                  <a:pt x="5178912" y="952854"/>
                </a:lnTo>
                <a:close/>
                <a:moveTo>
                  <a:pt x="856745" y="950108"/>
                </a:moveTo>
                <a:lnTo>
                  <a:pt x="853999" y="952854"/>
                </a:lnTo>
                <a:lnTo>
                  <a:pt x="856745" y="952854"/>
                </a:lnTo>
                <a:lnTo>
                  <a:pt x="856745" y="955600"/>
                </a:lnTo>
                <a:lnTo>
                  <a:pt x="859491" y="955600"/>
                </a:lnTo>
                <a:lnTo>
                  <a:pt x="862237" y="952854"/>
                </a:lnTo>
                <a:lnTo>
                  <a:pt x="862237" y="950108"/>
                </a:lnTo>
                <a:lnTo>
                  <a:pt x="856745" y="950108"/>
                </a:lnTo>
                <a:close/>
                <a:moveTo>
                  <a:pt x="6238859" y="950108"/>
                </a:moveTo>
                <a:lnTo>
                  <a:pt x="6222384" y="955600"/>
                </a:lnTo>
                <a:lnTo>
                  <a:pt x="6216892" y="961092"/>
                </a:lnTo>
                <a:lnTo>
                  <a:pt x="6211400" y="963838"/>
                </a:lnTo>
                <a:lnTo>
                  <a:pt x="6238859" y="958346"/>
                </a:lnTo>
                <a:lnTo>
                  <a:pt x="6252589" y="958346"/>
                </a:lnTo>
                <a:lnTo>
                  <a:pt x="6269065" y="958346"/>
                </a:lnTo>
                <a:lnTo>
                  <a:pt x="6263573" y="952854"/>
                </a:lnTo>
                <a:lnTo>
                  <a:pt x="6258081" y="950108"/>
                </a:lnTo>
                <a:lnTo>
                  <a:pt x="6249843" y="950108"/>
                </a:lnTo>
                <a:lnTo>
                  <a:pt x="6238859" y="950108"/>
                </a:lnTo>
                <a:close/>
                <a:moveTo>
                  <a:pt x="5140468" y="950108"/>
                </a:moveTo>
                <a:lnTo>
                  <a:pt x="5140468" y="955600"/>
                </a:lnTo>
                <a:lnTo>
                  <a:pt x="5148706" y="955600"/>
                </a:lnTo>
                <a:lnTo>
                  <a:pt x="5148706" y="952854"/>
                </a:lnTo>
                <a:lnTo>
                  <a:pt x="5145960" y="950108"/>
                </a:lnTo>
                <a:lnTo>
                  <a:pt x="5140468" y="950108"/>
                </a:lnTo>
                <a:close/>
                <a:moveTo>
                  <a:pt x="1062694" y="947362"/>
                </a:moveTo>
                <a:lnTo>
                  <a:pt x="1062694" y="950108"/>
                </a:lnTo>
                <a:lnTo>
                  <a:pt x="1062694" y="952854"/>
                </a:lnTo>
                <a:lnTo>
                  <a:pt x="1065439" y="952854"/>
                </a:lnTo>
                <a:lnTo>
                  <a:pt x="1068185" y="952854"/>
                </a:lnTo>
                <a:lnTo>
                  <a:pt x="1068185" y="950108"/>
                </a:lnTo>
                <a:lnTo>
                  <a:pt x="1065439" y="950108"/>
                </a:lnTo>
                <a:lnTo>
                  <a:pt x="1065439" y="947362"/>
                </a:lnTo>
                <a:lnTo>
                  <a:pt x="1062694" y="947362"/>
                </a:lnTo>
                <a:close/>
                <a:moveTo>
                  <a:pt x="799080" y="947362"/>
                </a:moveTo>
                <a:lnTo>
                  <a:pt x="799080" y="952854"/>
                </a:lnTo>
                <a:lnTo>
                  <a:pt x="804571" y="952854"/>
                </a:lnTo>
                <a:lnTo>
                  <a:pt x="804571" y="950108"/>
                </a:lnTo>
                <a:lnTo>
                  <a:pt x="799080" y="947362"/>
                </a:lnTo>
                <a:close/>
                <a:moveTo>
                  <a:pt x="6065863" y="947362"/>
                </a:moveTo>
                <a:lnTo>
                  <a:pt x="6068609" y="952854"/>
                </a:lnTo>
                <a:lnTo>
                  <a:pt x="6068609" y="958346"/>
                </a:lnTo>
                <a:lnTo>
                  <a:pt x="6076847" y="963838"/>
                </a:lnTo>
                <a:lnTo>
                  <a:pt x="6082339" y="969330"/>
                </a:lnTo>
                <a:lnTo>
                  <a:pt x="6082339" y="974822"/>
                </a:lnTo>
                <a:lnTo>
                  <a:pt x="6082339" y="983060"/>
                </a:lnTo>
                <a:lnTo>
                  <a:pt x="6076847" y="980314"/>
                </a:lnTo>
                <a:lnTo>
                  <a:pt x="6068609" y="980314"/>
                </a:lnTo>
                <a:lnTo>
                  <a:pt x="6060371" y="983060"/>
                </a:lnTo>
                <a:lnTo>
                  <a:pt x="6054879" y="988552"/>
                </a:lnTo>
                <a:lnTo>
                  <a:pt x="6065863" y="991298"/>
                </a:lnTo>
                <a:lnTo>
                  <a:pt x="6074101" y="999536"/>
                </a:lnTo>
                <a:lnTo>
                  <a:pt x="6076847" y="1007774"/>
                </a:lnTo>
                <a:lnTo>
                  <a:pt x="6076847" y="1018758"/>
                </a:lnTo>
                <a:lnTo>
                  <a:pt x="6079593" y="1029741"/>
                </a:lnTo>
                <a:lnTo>
                  <a:pt x="6082339" y="1037979"/>
                </a:lnTo>
                <a:lnTo>
                  <a:pt x="6090577" y="1043471"/>
                </a:lnTo>
                <a:lnTo>
                  <a:pt x="6104306" y="1043471"/>
                </a:lnTo>
                <a:lnTo>
                  <a:pt x="6104306" y="1037979"/>
                </a:lnTo>
                <a:lnTo>
                  <a:pt x="6104306" y="1035233"/>
                </a:lnTo>
                <a:lnTo>
                  <a:pt x="6096069" y="1032487"/>
                </a:lnTo>
                <a:lnTo>
                  <a:pt x="6087831" y="1032487"/>
                </a:lnTo>
                <a:lnTo>
                  <a:pt x="6085085" y="1029741"/>
                </a:lnTo>
                <a:lnTo>
                  <a:pt x="6082339" y="1026996"/>
                </a:lnTo>
                <a:lnTo>
                  <a:pt x="6093323" y="1024250"/>
                </a:lnTo>
                <a:lnTo>
                  <a:pt x="6104306" y="1024250"/>
                </a:lnTo>
                <a:lnTo>
                  <a:pt x="6123528" y="1029741"/>
                </a:lnTo>
                <a:lnTo>
                  <a:pt x="6142750" y="1037979"/>
                </a:lnTo>
                <a:lnTo>
                  <a:pt x="6150988" y="1040725"/>
                </a:lnTo>
                <a:lnTo>
                  <a:pt x="6161972" y="1040725"/>
                </a:lnTo>
                <a:lnTo>
                  <a:pt x="6172956" y="1035233"/>
                </a:lnTo>
                <a:lnTo>
                  <a:pt x="6178448" y="1029741"/>
                </a:lnTo>
                <a:lnTo>
                  <a:pt x="6189432" y="1026996"/>
                </a:lnTo>
                <a:lnTo>
                  <a:pt x="6200416" y="1024250"/>
                </a:lnTo>
                <a:lnTo>
                  <a:pt x="6208654" y="1018758"/>
                </a:lnTo>
                <a:lnTo>
                  <a:pt x="6216892" y="1016012"/>
                </a:lnTo>
                <a:lnTo>
                  <a:pt x="6227875" y="1010520"/>
                </a:lnTo>
                <a:lnTo>
                  <a:pt x="6238859" y="1010520"/>
                </a:lnTo>
                <a:lnTo>
                  <a:pt x="6249843" y="1013266"/>
                </a:lnTo>
                <a:lnTo>
                  <a:pt x="6271811" y="1016012"/>
                </a:lnTo>
                <a:lnTo>
                  <a:pt x="6293779" y="1018758"/>
                </a:lnTo>
                <a:lnTo>
                  <a:pt x="6304763" y="1018758"/>
                </a:lnTo>
                <a:lnTo>
                  <a:pt x="6315747" y="1013266"/>
                </a:lnTo>
                <a:lnTo>
                  <a:pt x="6318493" y="1013266"/>
                </a:lnTo>
                <a:lnTo>
                  <a:pt x="6310255" y="1005028"/>
                </a:lnTo>
                <a:lnTo>
                  <a:pt x="6296525" y="1002282"/>
                </a:lnTo>
                <a:lnTo>
                  <a:pt x="6280049" y="999536"/>
                </a:lnTo>
                <a:lnTo>
                  <a:pt x="6260827" y="999536"/>
                </a:lnTo>
                <a:lnTo>
                  <a:pt x="6216892" y="1005028"/>
                </a:lnTo>
                <a:lnTo>
                  <a:pt x="6175702" y="1010520"/>
                </a:lnTo>
                <a:lnTo>
                  <a:pt x="6137258" y="1013266"/>
                </a:lnTo>
                <a:lnTo>
                  <a:pt x="6120782" y="1013266"/>
                </a:lnTo>
                <a:lnTo>
                  <a:pt x="6109798" y="1007774"/>
                </a:lnTo>
                <a:lnTo>
                  <a:pt x="6101561" y="999536"/>
                </a:lnTo>
                <a:lnTo>
                  <a:pt x="6096069" y="991298"/>
                </a:lnTo>
                <a:lnTo>
                  <a:pt x="6098815" y="974822"/>
                </a:lnTo>
                <a:lnTo>
                  <a:pt x="6107052" y="955600"/>
                </a:lnTo>
                <a:lnTo>
                  <a:pt x="6087831" y="950108"/>
                </a:lnTo>
                <a:lnTo>
                  <a:pt x="6065863" y="947362"/>
                </a:lnTo>
                <a:close/>
                <a:moveTo>
                  <a:pt x="1048964" y="944616"/>
                </a:moveTo>
                <a:lnTo>
                  <a:pt x="1048964" y="947362"/>
                </a:lnTo>
                <a:lnTo>
                  <a:pt x="1048964" y="950108"/>
                </a:lnTo>
                <a:lnTo>
                  <a:pt x="1048964" y="955600"/>
                </a:lnTo>
                <a:lnTo>
                  <a:pt x="1051710" y="955600"/>
                </a:lnTo>
                <a:lnTo>
                  <a:pt x="1051710" y="944616"/>
                </a:lnTo>
                <a:lnTo>
                  <a:pt x="1048964" y="944616"/>
                </a:lnTo>
                <a:close/>
                <a:moveTo>
                  <a:pt x="812809" y="941870"/>
                </a:moveTo>
                <a:lnTo>
                  <a:pt x="812809" y="947362"/>
                </a:lnTo>
                <a:lnTo>
                  <a:pt x="821047" y="947362"/>
                </a:lnTo>
                <a:lnTo>
                  <a:pt x="818301" y="944616"/>
                </a:lnTo>
                <a:lnTo>
                  <a:pt x="812809" y="941870"/>
                </a:lnTo>
                <a:close/>
                <a:moveTo>
                  <a:pt x="994043" y="939124"/>
                </a:moveTo>
                <a:lnTo>
                  <a:pt x="994043" y="941870"/>
                </a:lnTo>
                <a:lnTo>
                  <a:pt x="999536" y="941870"/>
                </a:lnTo>
                <a:lnTo>
                  <a:pt x="996790" y="939124"/>
                </a:lnTo>
                <a:lnTo>
                  <a:pt x="994043" y="939124"/>
                </a:lnTo>
                <a:close/>
                <a:moveTo>
                  <a:pt x="5195388" y="939124"/>
                </a:moveTo>
                <a:lnTo>
                  <a:pt x="5195388" y="944616"/>
                </a:lnTo>
                <a:lnTo>
                  <a:pt x="5200880" y="944616"/>
                </a:lnTo>
                <a:lnTo>
                  <a:pt x="5203626" y="939124"/>
                </a:lnTo>
                <a:lnTo>
                  <a:pt x="5195388" y="939124"/>
                </a:lnTo>
                <a:close/>
                <a:moveTo>
                  <a:pt x="5280513" y="936378"/>
                </a:moveTo>
                <a:lnTo>
                  <a:pt x="5277767" y="941870"/>
                </a:lnTo>
                <a:lnTo>
                  <a:pt x="5275021" y="944616"/>
                </a:lnTo>
                <a:lnTo>
                  <a:pt x="5275021" y="939124"/>
                </a:lnTo>
                <a:lnTo>
                  <a:pt x="5272275" y="939124"/>
                </a:lnTo>
                <a:lnTo>
                  <a:pt x="5269529" y="939124"/>
                </a:lnTo>
                <a:lnTo>
                  <a:pt x="5269529" y="944616"/>
                </a:lnTo>
                <a:lnTo>
                  <a:pt x="5277767" y="947362"/>
                </a:lnTo>
                <a:lnTo>
                  <a:pt x="5283259" y="952854"/>
                </a:lnTo>
                <a:lnTo>
                  <a:pt x="5288751" y="952854"/>
                </a:lnTo>
                <a:lnTo>
                  <a:pt x="5294243" y="950108"/>
                </a:lnTo>
                <a:lnTo>
                  <a:pt x="5294243" y="944616"/>
                </a:lnTo>
                <a:lnTo>
                  <a:pt x="5291497" y="939124"/>
                </a:lnTo>
                <a:lnTo>
                  <a:pt x="5288751" y="936378"/>
                </a:lnTo>
                <a:lnTo>
                  <a:pt x="5280513" y="936378"/>
                </a:lnTo>
                <a:close/>
                <a:moveTo>
                  <a:pt x="5178912" y="936378"/>
                </a:moveTo>
                <a:lnTo>
                  <a:pt x="5176166" y="939124"/>
                </a:lnTo>
                <a:lnTo>
                  <a:pt x="5178912" y="941870"/>
                </a:lnTo>
                <a:lnTo>
                  <a:pt x="5181658" y="944616"/>
                </a:lnTo>
                <a:lnTo>
                  <a:pt x="5184404" y="944616"/>
                </a:lnTo>
                <a:lnTo>
                  <a:pt x="5184404" y="936378"/>
                </a:lnTo>
                <a:lnTo>
                  <a:pt x="5181658" y="936378"/>
                </a:lnTo>
                <a:lnTo>
                  <a:pt x="5178912" y="936378"/>
                </a:lnTo>
                <a:close/>
                <a:moveTo>
                  <a:pt x="1315322" y="933632"/>
                </a:moveTo>
                <a:lnTo>
                  <a:pt x="1315322" y="941870"/>
                </a:lnTo>
                <a:lnTo>
                  <a:pt x="1320814" y="941870"/>
                </a:lnTo>
                <a:lnTo>
                  <a:pt x="1318068" y="939124"/>
                </a:lnTo>
                <a:lnTo>
                  <a:pt x="1315322" y="933632"/>
                </a:lnTo>
                <a:close/>
                <a:moveTo>
                  <a:pt x="1062694" y="933632"/>
                </a:moveTo>
                <a:lnTo>
                  <a:pt x="1062694" y="939124"/>
                </a:lnTo>
                <a:lnTo>
                  <a:pt x="1070932" y="939124"/>
                </a:lnTo>
                <a:lnTo>
                  <a:pt x="1073678" y="939124"/>
                </a:lnTo>
                <a:lnTo>
                  <a:pt x="1073678" y="936378"/>
                </a:lnTo>
                <a:lnTo>
                  <a:pt x="1068185" y="933632"/>
                </a:lnTo>
                <a:lnTo>
                  <a:pt x="1062694" y="933632"/>
                </a:lnTo>
                <a:close/>
                <a:moveTo>
                  <a:pt x="1054456" y="933632"/>
                </a:moveTo>
                <a:lnTo>
                  <a:pt x="1054456" y="936378"/>
                </a:lnTo>
                <a:lnTo>
                  <a:pt x="1057202" y="939124"/>
                </a:lnTo>
                <a:lnTo>
                  <a:pt x="1057202" y="941870"/>
                </a:lnTo>
                <a:lnTo>
                  <a:pt x="1062694" y="941870"/>
                </a:lnTo>
                <a:lnTo>
                  <a:pt x="1059948" y="936378"/>
                </a:lnTo>
                <a:lnTo>
                  <a:pt x="1054456" y="933632"/>
                </a:lnTo>
                <a:close/>
                <a:moveTo>
                  <a:pt x="5956024" y="930886"/>
                </a:moveTo>
                <a:lnTo>
                  <a:pt x="5942294" y="944616"/>
                </a:lnTo>
                <a:lnTo>
                  <a:pt x="5917580" y="963838"/>
                </a:lnTo>
                <a:lnTo>
                  <a:pt x="5909342" y="969330"/>
                </a:lnTo>
                <a:lnTo>
                  <a:pt x="5903850" y="974822"/>
                </a:lnTo>
                <a:lnTo>
                  <a:pt x="5898358" y="983060"/>
                </a:lnTo>
                <a:lnTo>
                  <a:pt x="5892866" y="988552"/>
                </a:lnTo>
                <a:lnTo>
                  <a:pt x="5887374" y="991298"/>
                </a:lnTo>
                <a:lnTo>
                  <a:pt x="5879136" y="994044"/>
                </a:lnTo>
                <a:lnTo>
                  <a:pt x="5873644" y="996790"/>
                </a:lnTo>
                <a:lnTo>
                  <a:pt x="5868152" y="999536"/>
                </a:lnTo>
                <a:lnTo>
                  <a:pt x="5859914" y="1010520"/>
                </a:lnTo>
                <a:lnTo>
                  <a:pt x="5857169" y="1018758"/>
                </a:lnTo>
                <a:lnTo>
                  <a:pt x="5851677" y="1029741"/>
                </a:lnTo>
                <a:lnTo>
                  <a:pt x="5846185" y="1035233"/>
                </a:lnTo>
                <a:lnTo>
                  <a:pt x="5835201" y="1040725"/>
                </a:lnTo>
                <a:lnTo>
                  <a:pt x="5821471" y="1043471"/>
                </a:lnTo>
                <a:lnTo>
                  <a:pt x="5796757" y="1048963"/>
                </a:lnTo>
                <a:lnTo>
                  <a:pt x="5788519" y="1051709"/>
                </a:lnTo>
                <a:lnTo>
                  <a:pt x="5785773" y="1057201"/>
                </a:lnTo>
                <a:lnTo>
                  <a:pt x="5788519" y="1065439"/>
                </a:lnTo>
                <a:lnTo>
                  <a:pt x="5799503" y="1076423"/>
                </a:lnTo>
                <a:lnTo>
                  <a:pt x="5796757" y="1079169"/>
                </a:lnTo>
                <a:lnTo>
                  <a:pt x="5799503" y="1079169"/>
                </a:lnTo>
                <a:lnTo>
                  <a:pt x="5799503" y="1076423"/>
                </a:lnTo>
                <a:lnTo>
                  <a:pt x="5804995" y="1079169"/>
                </a:lnTo>
                <a:lnTo>
                  <a:pt x="5810487" y="1079169"/>
                </a:lnTo>
                <a:lnTo>
                  <a:pt x="5812318" y="1077949"/>
                </a:lnTo>
                <a:lnTo>
                  <a:pt x="5807741" y="1076423"/>
                </a:lnTo>
                <a:lnTo>
                  <a:pt x="5813942" y="1076866"/>
                </a:lnTo>
                <a:lnTo>
                  <a:pt x="5818725" y="1073677"/>
                </a:lnTo>
                <a:lnTo>
                  <a:pt x="5826963" y="1068185"/>
                </a:lnTo>
                <a:lnTo>
                  <a:pt x="5835201" y="1062693"/>
                </a:lnTo>
                <a:lnTo>
                  <a:pt x="5835201" y="1065439"/>
                </a:lnTo>
                <a:lnTo>
                  <a:pt x="5837947" y="1065439"/>
                </a:lnTo>
                <a:lnTo>
                  <a:pt x="5837947" y="1062693"/>
                </a:lnTo>
                <a:lnTo>
                  <a:pt x="5843439" y="1054455"/>
                </a:lnTo>
                <a:lnTo>
                  <a:pt x="5846185" y="1051709"/>
                </a:lnTo>
                <a:lnTo>
                  <a:pt x="5851677" y="1048963"/>
                </a:lnTo>
                <a:lnTo>
                  <a:pt x="5857169" y="1046217"/>
                </a:lnTo>
                <a:lnTo>
                  <a:pt x="5890120" y="1046217"/>
                </a:lnTo>
                <a:lnTo>
                  <a:pt x="5906596" y="1043471"/>
                </a:lnTo>
                <a:lnTo>
                  <a:pt x="5923072" y="1040725"/>
                </a:lnTo>
                <a:lnTo>
                  <a:pt x="5953278" y="1026996"/>
                </a:lnTo>
                <a:lnTo>
                  <a:pt x="5983483" y="1016012"/>
                </a:lnTo>
                <a:lnTo>
                  <a:pt x="6008197" y="1007774"/>
                </a:lnTo>
                <a:lnTo>
                  <a:pt x="6016435" y="1005028"/>
                </a:lnTo>
                <a:lnTo>
                  <a:pt x="6024673" y="1007774"/>
                </a:lnTo>
                <a:lnTo>
                  <a:pt x="6038403" y="1013266"/>
                </a:lnTo>
                <a:lnTo>
                  <a:pt x="6052133" y="1021504"/>
                </a:lnTo>
                <a:lnTo>
                  <a:pt x="6065863" y="1032487"/>
                </a:lnTo>
                <a:lnTo>
                  <a:pt x="6065863" y="1018758"/>
                </a:lnTo>
                <a:lnTo>
                  <a:pt x="6063117" y="1010520"/>
                </a:lnTo>
                <a:lnTo>
                  <a:pt x="6054879" y="1005028"/>
                </a:lnTo>
                <a:lnTo>
                  <a:pt x="6043895" y="999536"/>
                </a:lnTo>
                <a:lnTo>
                  <a:pt x="6019181" y="988552"/>
                </a:lnTo>
                <a:lnTo>
                  <a:pt x="6010943" y="983060"/>
                </a:lnTo>
                <a:lnTo>
                  <a:pt x="6005451" y="977568"/>
                </a:lnTo>
                <a:lnTo>
                  <a:pt x="6005451" y="972076"/>
                </a:lnTo>
                <a:lnTo>
                  <a:pt x="6002705" y="972076"/>
                </a:lnTo>
                <a:lnTo>
                  <a:pt x="5991721" y="969330"/>
                </a:lnTo>
                <a:lnTo>
                  <a:pt x="5986229" y="963838"/>
                </a:lnTo>
                <a:lnTo>
                  <a:pt x="5980738" y="958346"/>
                </a:lnTo>
                <a:lnTo>
                  <a:pt x="5972500" y="944616"/>
                </a:lnTo>
                <a:lnTo>
                  <a:pt x="5967008" y="933632"/>
                </a:lnTo>
                <a:lnTo>
                  <a:pt x="5961516" y="930886"/>
                </a:lnTo>
                <a:lnTo>
                  <a:pt x="5956024" y="930886"/>
                </a:lnTo>
                <a:close/>
                <a:moveTo>
                  <a:pt x="1340038" y="928140"/>
                </a:moveTo>
                <a:lnTo>
                  <a:pt x="1340038" y="936378"/>
                </a:lnTo>
                <a:lnTo>
                  <a:pt x="1345529" y="936378"/>
                </a:lnTo>
                <a:lnTo>
                  <a:pt x="1348275" y="933632"/>
                </a:lnTo>
                <a:lnTo>
                  <a:pt x="1345529" y="930886"/>
                </a:lnTo>
                <a:lnTo>
                  <a:pt x="1340038" y="928140"/>
                </a:lnTo>
                <a:close/>
                <a:moveTo>
                  <a:pt x="6109798" y="925394"/>
                </a:moveTo>
                <a:lnTo>
                  <a:pt x="6109798" y="930886"/>
                </a:lnTo>
                <a:lnTo>
                  <a:pt x="6115290" y="930886"/>
                </a:lnTo>
                <a:lnTo>
                  <a:pt x="6118036" y="925394"/>
                </a:lnTo>
                <a:lnTo>
                  <a:pt x="6109798" y="925394"/>
                </a:lnTo>
                <a:close/>
                <a:moveTo>
                  <a:pt x="5371131" y="925394"/>
                </a:moveTo>
                <a:lnTo>
                  <a:pt x="5371131" y="928140"/>
                </a:lnTo>
                <a:lnTo>
                  <a:pt x="5373876" y="930886"/>
                </a:lnTo>
                <a:lnTo>
                  <a:pt x="5376622" y="933632"/>
                </a:lnTo>
                <a:lnTo>
                  <a:pt x="5382114" y="933632"/>
                </a:lnTo>
                <a:lnTo>
                  <a:pt x="5382114" y="930886"/>
                </a:lnTo>
                <a:lnTo>
                  <a:pt x="5382114" y="928140"/>
                </a:lnTo>
                <a:lnTo>
                  <a:pt x="5379368" y="925394"/>
                </a:lnTo>
                <a:lnTo>
                  <a:pt x="5371131" y="925394"/>
                </a:lnTo>
                <a:close/>
                <a:moveTo>
                  <a:pt x="5121247" y="925394"/>
                </a:moveTo>
                <a:lnTo>
                  <a:pt x="5118501" y="928140"/>
                </a:lnTo>
                <a:lnTo>
                  <a:pt x="5121247" y="930886"/>
                </a:lnTo>
                <a:lnTo>
                  <a:pt x="5123993" y="930886"/>
                </a:lnTo>
                <a:lnTo>
                  <a:pt x="5126739" y="928140"/>
                </a:lnTo>
                <a:lnTo>
                  <a:pt x="5123993" y="925394"/>
                </a:lnTo>
                <a:lnTo>
                  <a:pt x="5121247" y="925394"/>
                </a:lnTo>
                <a:close/>
                <a:moveTo>
                  <a:pt x="966584" y="919902"/>
                </a:moveTo>
                <a:lnTo>
                  <a:pt x="966584" y="922648"/>
                </a:lnTo>
                <a:lnTo>
                  <a:pt x="963838" y="922648"/>
                </a:lnTo>
                <a:lnTo>
                  <a:pt x="963838" y="925394"/>
                </a:lnTo>
                <a:lnTo>
                  <a:pt x="969330" y="925394"/>
                </a:lnTo>
                <a:lnTo>
                  <a:pt x="972076" y="925394"/>
                </a:lnTo>
                <a:lnTo>
                  <a:pt x="974822" y="925394"/>
                </a:lnTo>
                <a:lnTo>
                  <a:pt x="974822" y="922648"/>
                </a:lnTo>
                <a:lnTo>
                  <a:pt x="972076" y="922648"/>
                </a:lnTo>
                <a:lnTo>
                  <a:pt x="966584" y="919902"/>
                </a:lnTo>
                <a:close/>
                <a:moveTo>
                  <a:pt x="6293779" y="917156"/>
                </a:moveTo>
                <a:lnTo>
                  <a:pt x="6293779" y="925394"/>
                </a:lnTo>
                <a:lnTo>
                  <a:pt x="6296525" y="925394"/>
                </a:lnTo>
                <a:lnTo>
                  <a:pt x="6296525" y="919902"/>
                </a:lnTo>
                <a:lnTo>
                  <a:pt x="6293779" y="917156"/>
                </a:lnTo>
                <a:close/>
                <a:moveTo>
                  <a:pt x="5445272" y="917156"/>
                </a:moveTo>
                <a:lnTo>
                  <a:pt x="5445272" y="922648"/>
                </a:lnTo>
                <a:lnTo>
                  <a:pt x="5450764" y="922648"/>
                </a:lnTo>
                <a:lnTo>
                  <a:pt x="5453510" y="925394"/>
                </a:lnTo>
                <a:lnTo>
                  <a:pt x="5450764" y="919902"/>
                </a:lnTo>
                <a:lnTo>
                  <a:pt x="5445272" y="917156"/>
                </a:lnTo>
                <a:close/>
                <a:moveTo>
                  <a:pt x="5239324" y="917156"/>
                </a:moveTo>
                <a:lnTo>
                  <a:pt x="5236578" y="925394"/>
                </a:lnTo>
                <a:lnTo>
                  <a:pt x="5236578" y="930886"/>
                </a:lnTo>
                <a:lnTo>
                  <a:pt x="5239324" y="936378"/>
                </a:lnTo>
                <a:lnTo>
                  <a:pt x="5244816" y="939124"/>
                </a:lnTo>
                <a:lnTo>
                  <a:pt x="5244816" y="930886"/>
                </a:lnTo>
                <a:lnTo>
                  <a:pt x="5242070" y="925394"/>
                </a:lnTo>
                <a:lnTo>
                  <a:pt x="5247562" y="925394"/>
                </a:lnTo>
                <a:lnTo>
                  <a:pt x="5247562" y="917156"/>
                </a:lnTo>
                <a:lnTo>
                  <a:pt x="5239324" y="917156"/>
                </a:lnTo>
                <a:close/>
                <a:moveTo>
                  <a:pt x="5118501" y="917156"/>
                </a:moveTo>
                <a:lnTo>
                  <a:pt x="5118501" y="919902"/>
                </a:lnTo>
                <a:lnTo>
                  <a:pt x="5123993" y="922648"/>
                </a:lnTo>
                <a:lnTo>
                  <a:pt x="5123993" y="917156"/>
                </a:lnTo>
                <a:lnTo>
                  <a:pt x="5118501" y="917156"/>
                </a:lnTo>
                <a:close/>
                <a:moveTo>
                  <a:pt x="5082803" y="917156"/>
                </a:moveTo>
                <a:lnTo>
                  <a:pt x="5085549" y="922648"/>
                </a:lnTo>
                <a:lnTo>
                  <a:pt x="5088295" y="928140"/>
                </a:lnTo>
                <a:lnTo>
                  <a:pt x="5091041" y="930886"/>
                </a:lnTo>
                <a:lnTo>
                  <a:pt x="5093787" y="936378"/>
                </a:lnTo>
                <a:lnTo>
                  <a:pt x="5091041" y="939124"/>
                </a:lnTo>
                <a:lnTo>
                  <a:pt x="5091041" y="941870"/>
                </a:lnTo>
                <a:lnTo>
                  <a:pt x="5093787" y="947362"/>
                </a:lnTo>
                <a:lnTo>
                  <a:pt x="5107517" y="947362"/>
                </a:lnTo>
                <a:lnTo>
                  <a:pt x="5110263" y="955600"/>
                </a:lnTo>
                <a:lnTo>
                  <a:pt x="5113009" y="961092"/>
                </a:lnTo>
                <a:lnTo>
                  <a:pt x="5118501" y="961092"/>
                </a:lnTo>
                <a:lnTo>
                  <a:pt x="5118501" y="955600"/>
                </a:lnTo>
                <a:lnTo>
                  <a:pt x="5118501" y="952854"/>
                </a:lnTo>
                <a:lnTo>
                  <a:pt x="5118501" y="950108"/>
                </a:lnTo>
                <a:lnTo>
                  <a:pt x="5118501" y="944616"/>
                </a:lnTo>
                <a:lnTo>
                  <a:pt x="5115755" y="944616"/>
                </a:lnTo>
                <a:lnTo>
                  <a:pt x="5113009" y="944616"/>
                </a:lnTo>
                <a:lnTo>
                  <a:pt x="5104771" y="944616"/>
                </a:lnTo>
                <a:lnTo>
                  <a:pt x="5104771" y="941870"/>
                </a:lnTo>
                <a:lnTo>
                  <a:pt x="5102025" y="939124"/>
                </a:lnTo>
                <a:lnTo>
                  <a:pt x="5102025" y="936378"/>
                </a:lnTo>
                <a:lnTo>
                  <a:pt x="5102025" y="930886"/>
                </a:lnTo>
                <a:lnTo>
                  <a:pt x="5102025" y="928140"/>
                </a:lnTo>
                <a:lnTo>
                  <a:pt x="5096533" y="925394"/>
                </a:lnTo>
                <a:lnTo>
                  <a:pt x="5091041" y="922648"/>
                </a:lnTo>
                <a:lnTo>
                  <a:pt x="5082803" y="917156"/>
                </a:lnTo>
                <a:close/>
                <a:moveTo>
                  <a:pt x="1263149" y="911664"/>
                </a:moveTo>
                <a:lnTo>
                  <a:pt x="1263149" y="917156"/>
                </a:lnTo>
                <a:lnTo>
                  <a:pt x="1263149" y="922648"/>
                </a:lnTo>
                <a:lnTo>
                  <a:pt x="1271389" y="925394"/>
                </a:lnTo>
                <a:lnTo>
                  <a:pt x="1276880" y="922648"/>
                </a:lnTo>
                <a:lnTo>
                  <a:pt x="1279625" y="922648"/>
                </a:lnTo>
                <a:lnTo>
                  <a:pt x="1282371" y="917156"/>
                </a:lnTo>
                <a:lnTo>
                  <a:pt x="1279625" y="917156"/>
                </a:lnTo>
                <a:lnTo>
                  <a:pt x="1279625" y="914410"/>
                </a:lnTo>
                <a:lnTo>
                  <a:pt x="1279625" y="911664"/>
                </a:lnTo>
                <a:lnTo>
                  <a:pt x="1263149" y="911664"/>
                </a:lnTo>
                <a:close/>
                <a:moveTo>
                  <a:pt x="5102025" y="911664"/>
                </a:moveTo>
                <a:lnTo>
                  <a:pt x="5102025" y="917156"/>
                </a:lnTo>
                <a:lnTo>
                  <a:pt x="5104771" y="919902"/>
                </a:lnTo>
                <a:lnTo>
                  <a:pt x="5115755" y="922648"/>
                </a:lnTo>
                <a:lnTo>
                  <a:pt x="5115755" y="917156"/>
                </a:lnTo>
                <a:lnTo>
                  <a:pt x="5110263" y="917156"/>
                </a:lnTo>
                <a:lnTo>
                  <a:pt x="5107517" y="914410"/>
                </a:lnTo>
                <a:lnTo>
                  <a:pt x="5104771" y="911664"/>
                </a:lnTo>
                <a:lnTo>
                  <a:pt x="5102025" y="911664"/>
                </a:lnTo>
                <a:close/>
                <a:moveTo>
                  <a:pt x="6024673" y="906172"/>
                </a:moveTo>
                <a:lnTo>
                  <a:pt x="6024673" y="908918"/>
                </a:lnTo>
                <a:lnTo>
                  <a:pt x="6030165" y="908918"/>
                </a:lnTo>
                <a:lnTo>
                  <a:pt x="6032911" y="908918"/>
                </a:lnTo>
                <a:lnTo>
                  <a:pt x="6032911" y="906172"/>
                </a:lnTo>
                <a:lnTo>
                  <a:pt x="6030165" y="906172"/>
                </a:lnTo>
                <a:lnTo>
                  <a:pt x="6027419" y="906172"/>
                </a:lnTo>
                <a:lnTo>
                  <a:pt x="6024673" y="906172"/>
                </a:lnTo>
                <a:close/>
                <a:moveTo>
                  <a:pt x="5708886" y="906172"/>
                </a:moveTo>
                <a:lnTo>
                  <a:pt x="5708886" y="914410"/>
                </a:lnTo>
                <a:lnTo>
                  <a:pt x="5714378" y="914410"/>
                </a:lnTo>
                <a:lnTo>
                  <a:pt x="5717124" y="908918"/>
                </a:lnTo>
                <a:lnTo>
                  <a:pt x="5714378" y="908918"/>
                </a:lnTo>
                <a:lnTo>
                  <a:pt x="5708886" y="906172"/>
                </a:lnTo>
                <a:close/>
                <a:moveTo>
                  <a:pt x="5165182" y="906172"/>
                </a:moveTo>
                <a:lnTo>
                  <a:pt x="5162436" y="908918"/>
                </a:lnTo>
                <a:lnTo>
                  <a:pt x="5159690" y="908918"/>
                </a:lnTo>
                <a:lnTo>
                  <a:pt x="5159690" y="917156"/>
                </a:lnTo>
                <a:lnTo>
                  <a:pt x="5165182" y="917156"/>
                </a:lnTo>
                <a:lnTo>
                  <a:pt x="5167928" y="911664"/>
                </a:lnTo>
                <a:lnTo>
                  <a:pt x="5165182" y="906172"/>
                </a:lnTo>
                <a:close/>
                <a:moveTo>
                  <a:pt x="810063" y="906172"/>
                </a:moveTo>
                <a:lnTo>
                  <a:pt x="807317" y="911664"/>
                </a:lnTo>
                <a:lnTo>
                  <a:pt x="804571" y="914410"/>
                </a:lnTo>
                <a:lnTo>
                  <a:pt x="801825" y="917156"/>
                </a:lnTo>
                <a:lnTo>
                  <a:pt x="799080" y="919902"/>
                </a:lnTo>
                <a:lnTo>
                  <a:pt x="804571" y="919902"/>
                </a:lnTo>
                <a:lnTo>
                  <a:pt x="807317" y="917156"/>
                </a:lnTo>
                <a:lnTo>
                  <a:pt x="810063" y="914410"/>
                </a:lnTo>
                <a:lnTo>
                  <a:pt x="812809" y="914410"/>
                </a:lnTo>
                <a:lnTo>
                  <a:pt x="812809" y="908918"/>
                </a:lnTo>
                <a:lnTo>
                  <a:pt x="810063" y="906172"/>
                </a:lnTo>
                <a:close/>
                <a:moveTo>
                  <a:pt x="5791265" y="900680"/>
                </a:moveTo>
                <a:lnTo>
                  <a:pt x="5791265" y="903426"/>
                </a:lnTo>
                <a:lnTo>
                  <a:pt x="5788519" y="906172"/>
                </a:lnTo>
                <a:lnTo>
                  <a:pt x="5791265" y="906172"/>
                </a:lnTo>
                <a:lnTo>
                  <a:pt x="5794011" y="906172"/>
                </a:lnTo>
                <a:lnTo>
                  <a:pt x="5796757" y="903426"/>
                </a:lnTo>
                <a:lnTo>
                  <a:pt x="5794011" y="903426"/>
                </a:lnTo>
                <a:lnTo>
                  <a:pt x="5794011" y="900680"/>
                </a:lnTo>
                <a:lnTo>
                  <a:pt x="5791265" y="900680"/>
                </a:lnTo>
                <a:close/>
                <a:moveTo>
                  <a:pt x="903426" y="900680"/>
                </a:moveTo>
                <a:lnTo>
                  <a:pt x="895189" y="903426"/>
                </a:lnTo>
                <a:lnTo>
                  <a:pt x="895189" y="911664"/>
                </a:lnTo>
                <a:lnTo>
                  <a:pt x="903426" y="911664"/>
                </a:lnTo>
                <a:lnTo>
                  <a:pt x="903426" y="908918"/>
                </a:lnTo>
                <a:lnTo>
                  <a:pt x="908919" y="906172"/>
                </a:lnTo>
                <a:lnTo>
                  <a:pt x="911664" y="906172"/>
                </a:lnTo>
                <a:lnTo>
                  <a:pt x="911664" y="903426"/>
                </a:lnTo>
                <a:lnTo>
                  <a:pt x="903426" y="900680"/>
                </a:lnTo>
                <a:close/>
                <a:moveTo>
                  <a:pt x="1556969" y="895188"/>
                </a:moveTo>
                <a:lnTo>
                  <a:pt x="1565206" y="897934"/>
                </a:lnTo>
                <a:lnTo>
                  <a:pt x="1573445" y="897934"/>
                </a:lnTo>
                <a:lnTo>
                  <a:pt x="1573445" y="914410"/>
                </a:lnTo>
                <a:lnTo>
                  <a:pt x="1559715" y="914410"/>
                </a:lnTo>
                <a:lnTo>
                  <a:pt x="1562461" y="903426"/>
                </a:lnTo>
                <a:lnTo>
                  <a:pt x="1559715" y="903426"/>
                </a:lnTo>
                <a:lnTo>
                  <a:pt x="1556969" y="900680"/>
                </a:lnTo>
                <a:lnTo>
                  <a:pt x="1556969" y="897934"/>
                </a:lnTo>
                <a:lnTo>
                  <a:pt x="1556969" y="895188"/>
                </a:lnTo>
                <a:close/>
                <a:moveTo>
                  <a:pt x="1419670" y="892443"/>
                </a:moveTo>
                <a:lnTo>
                  <a:pt x="1414179" y="900680"/>
                </a:lnTo>
                <a:lnTo>
                  <a:pt x="1419670" y="903426"/>
                </a:lnTo>
                <a:lnTo>
                  <a:pt x="1425162" y="903426"/>
                </a:lnTo>
                <a:lnTo>
                  <a:pt x="1433400" y="897934"/>
                </a:lnTo>
                <a:lnTo>
                  <a:pt x="1433400" y="895188"/>
                </a:lnTo>
                <a:lnTo>
                  <a:pt x="1427907" y="892443"/>
                </a:lnTo>
                <a:lnTo>
                  <a:pt x="1419670" y="892443"/>
                </a:lnTo>
                <a:close/>
                <a:moveTo>
                  <a:pt x="5225594" y="892442"/>
                </a:moveTo>
                <a:lnTo>
                  <a:pt x="5225594" y="895188"/>
                </a:lnTo>
                <a:lnTo>
                  <a:pt x="5222848" y="895188"/>
                </a:lnTo>
                <a:lnTo>
                  <a:pt x="5222848" y="900680"/>
                </a:lnTo>
                <a:lnTo>
                  <a:pt x="5231086" y="900680"/>
                </a:lnTo>
                <a:lnTo>
                  <a:pt x="5239324" y="900680"/>
                </a:lnTo>
                <a:lnTo>
                  <a:pt x="5239324" y="897934"/>
                </a:lnTo>
                <a:lnTo>
                  <a:pt x="5242070" y="895188"/>
                </a:lnTo>
                <a:lnTo>
                  <a:pt x="5231086" y="900680"/>
                </a:lnTo>
                <a:lnTo>
                  <a:pt x="5231086" y="895188"/>
                </a:lnTo>
                <a:lnTo>
                  <a:pt x="5228340" y="892442"/>
                </a:lnTo>
                <a:lnTo>
                  <a:pt x="5225594" y="892442"/>
                </a:lnTo>
                <a:close/>
                <a:moveTo>
                  <a:pt x="1046217" y="889697"/>
                </a:moveTo>
                <a:lnTo>
                  <a:pt x="1040725" y="892443"/>
                </a:lnTo>
                <a:lnTo>
                  <a:pt x="1035233" y="895188"/>
                </a:lnTo>
                <a:lnTo>
                  <a:pt x="1035233" y="900680"/>
                </a:lnTo>
                <a:lnTo>
                  <a:pt x="1032487" y="903426"/>
                </a:lnTo>
                <a:lnTo>
                  <a:pt x="1029742" y="911664"/>
                </a:lnTo>
                <a:lnTo>
                  <a:pt x="1035233" y="903426"/>
                </a:lnTo>
                <a:lnTo>
                  <a:pt x="1040725" y="895188"/>
                </a:lnTo>
                <a:lnTo>
                  <a:pt x="1043472" y="895188"/>
                </a:lnTo>
                <a:lnTo>
                  <a:pt x="1046217" y="897934"/>
                </a:lnTo>
                <a:lnTo>
                  <a:pt x="1048964" y="897934"/>
                </a:lnTo>
                <a:lnTo>
                  <a:pt x="1048964" y="895188"/>
                </a:lnTo>
                <a:lnTo>
                  <a:pt x="1046217" y="895188"/>
                </a:lnTo>
                <a:lnTo>
                  <a:pt x="1046217" y="892443"/>
                </a:lnTo>
                <a:lnTo>
                  <a:pt x="1046217" y="889697"/>
                </a:lnTo>
                <a:close/>
                <a:moveTo>
                  <a:pt x="1002281" y="889697"/>
                </a:moveTo>
                <a:lnTo>
                  <a:pt x="1002281" y="895188"/>
                </a:lnTo>
                <a:lnTo>
                  <a:pt x="999536" y="897934"/>
                </a:lnTo>
                <a:lnTo>
                  <a:pt x="996790" y="900680"/>
                </a:lnTo>
                <a:lnTo>
                  <a:pt x="996790" y="906172"/>
                </a:lnTo>
                <a:lnTo>
                  <a:pt x="1002281" y="906172"/>
                </a:lnTo>
                <a:lnTo>
                  <a:pt x="1002281" y="911664"/>
                </a:lnTo>
                <a:lnTo>
                  <a:pt x="1005028" y="908918"/>
                </a:lnTo>
                <a:lnTo>
                  <a:pt x="1010520" y="906172"/>
                </a:lnTo>
                <a:lnTo>
                  <a:pt x="1013265" y="903426"/>
                </a:lnTo>
                <a:lnTo>
                  <a:pt x="1016011" y="903426"/>
                </a:lnTo>
                <a:lnTo>
                  <a:pt x="1016011" y="895188"/>
                </a:lnTo>
                <a:lnTo>
                  <a:pt x="1010520" y="892443"/>
                </a:lnTo>
                <a:lnTo>
                  <a:pt x="1007773" y="889697"/>
                </a:lnTo>
                <a:lnTo>
                  <a:pt x="1002281" y="889697"/>
                </a:lnTo>
                <a:close/>
                <a:moveTo>
                  <a:pt x="5329941" y="889696"/>
                </a:moveTo>
                <a:lnTo>
                  <a:pt x="5329941" y="895188"/>
                </a:lnTo>
                <a:lnTo>
                  <a:pt x="5332687" y="897934"/>
                </a:lnTo>
                <a:lnTo>
                  <a:pt x="5335433" y="897934"/>
                </a:lnTo>
                <a:lnTo>
                  <a:pt x="5338179" y="897934"/>
                </a:lnTo>
                <a:lnTo>
                  <a:pt x="5338179" y="895188"/>
                </a:lnTo>
                <a:lnTo>
                  <a:pt x="5338179" y="892442"/>
                </a:lnTo>
                <a:lnTo>
                  <a:pt x="5335433" y="889696"/>
                </a:lnTo>
                <a:lnTo>
                  <a:pt x="5329941" y="889696"/>
                </a:lnTo>
                <a:close/>
                <a:moveTo>
                  <a:pt x="5305227" y="889696"/>
                </a:moveTo>
                <a:lnTo>
                  <a:pt x="5305227" y="892442"/>
                </a:lnTo>
                <a:lnTo>
                  <a:pt x="5310719" y="892442"/>
                </a:lnTo>
                <a:lnTo>
                  <a:pt x="5310719" y="889696"/>
                </a:lnTo>
                <a:lnTo>
                  <a:pt x="5305227" y="889696"/>
                </a:lnTo>
                <a:close/>
                <a:moveTo>
                  <a:pt x="983059" y="884205"/>
                </a:moveTo>
                <a:lnTo>
                  <a:pt x="983059" y="889697"/>
                </a:lnTo>
                <a:lnTo>
                  <a:pt x="991298" y="892443"/>
                </a:lnTo>
                <a:lnTo>
                  <a:pt x="994043" y="892443"/>
                </a:lnTo>
                <a:lnTo>
                  <a:pt x="996790" y="892443"/>
                </a:lnTo>
                <a:lnTo>
                  <a:pt x="996790" y="889697"/>
                </a:lnTo>
                <a:lnTo>
                  <a:pt x="996790" y="886951"/>
                </a:lnTo>
                <a:lnTo>
                  <a:pt x="994043" y="884205"/>
                </a:lnTo>
                <a:lnTo>
                  <a:pt x="988551" y="886951"/>
                </a:lnTo>
                <a:lnTo>
                  <a:pt x="983059" y="884205"/>
                </a:lnTo>
                <a:close/>
                <a:moveTo>
                  <a:pt x="5113009" y="884204"/>
                </a:moveTo>
                <a:lnTo>
                  <a:pt x="5113009" y="886950"/>
                </a:lnTo>
                <a:lnTo>
                  <a:pt x="5110263" y="889696"/>
                </a:lnTo>
                <a:lnTo>
                  <a:pt x="5107517" y="889696"/>
                </a:lnTo>
                <a:lnTo>
                  <a:pt x="5104771" y="892442"/>
                </a:lnTo>
                <a:lnTo>
                  <a:pt x="5113009" y="892442"/>
                </a:lnTo>
                <a:lnTo>
                  <a:pt x="5118501" y="897934"/>
                </a:lnTo>
                <a:lnTo>
                  <a:pt x="5123993" y="895188"/>
                </a:lnTo>
                <a:lnTo>
                  <a:pt x="5129485" y="892442"/>
                </a:lnTo>
                <a:lnTo>
                  <a:pt x="5143214" y="889696"/>
                </a:lnTo>
                <a:lnTo>
                  <a:pt x="5143214" y="884204"/>
                </a:lnTo>
                <a:lnTo>
                  <a:pt x="5132230" y="884204"/>
                </a:lnTo>
                <a:lnTo>
                  <a:pt x="5123993" y="889696"/>
                </a:lnTo>
                <a:lnTo>
                  <a:pt x="5121247" y="884204"/>
                </a:lnTo>
                <a:lnTo>
                  <a:pt x="5113009" y="884204"/>
                </a:lnTo>
                <a:close/>
                <a:moveTo>
                  <a:pt x="5167928" y="881458"/>
                </a:moveTo>
                <a:lnTo>
                  <a:pt x="5170674" y="884204"/>
                </a:lnTo>
                <a:lnTo>
                  <a:pt x="5176166" y="884204"/>
                </a:lnTo>
                <a:lnTo>
                  <a:pt x="5176166" y="881458"/>
                </a:lnTo>
                <a:lnTo>
                  <a:pt x="5167928" y="881458"/>
                </a:lnTo>
                <a:close/>
                <a:moveTo>
                  <a:pt x="1032487" y="878713"/>
                </a:moveTo>
                <a:lnTo>
                  <a:pt x="1032487" y="884205"/>
                </a:lnTo>
                <a:lnTo>
                  <a:pt x="1035233" y="884205"/>
                </a:lnTo>
                <a:lnTo>
                  <a:pt x="1035233" y="878713"/>
                </a:lnTo>
                <a:lnTo>
                  <a:pt x="1032487" y="878713"/>
                </a:lnTo>
                <a:close/>
                <a:moveTo>
                  <a:pt x="952854" y="878713"/>
                </a:moveTo>
                <a:lnTo>
                  <a:pt x="950108" y="884205"/>
                </a:lnTo>
                <a:lnTo>
                  <a:pt x="950108" y="886951"/>
                </a:lnTo>
                <a:lnTo>
                  <a:pt x="952854" y="892443"/>
                </a:lnTo>
                <a:lnTo>
                  <a:pt x="955600" y="895188"/>
                </a:lnTo>
                <a:lnTo>
                  <a:pt x="958346" y="895188"/>
                </a:lnTo>
                <a:lnTo>
                  <a:pt x="961092" y="892443"/>
                </a:lnTo>
                <a:lnTo>
                  <a:pt x="961092" y="889697"/>
                </a:lnTo>
                <a:lnTo>
                  <a:pt x="955600" y="886951"/>
                </a:lnTo>
                <a:lnTo>
                  <a:pt x="950108" y="886951"/>
                </a:lnTo>
                <a:lnTo>
                  <a:pt x="952854" y="884205"/>
                </a:lnTo>
                <a:lnTo>
                  <a:pt x="952854" y="878713"/>
                </a:lnTo>
                <a:close/>
                <a:moveTo>
                  <a:pt x="5898358" y="878712"/>
                </a:moveTo>
                <a:lnTo>
                  <a:pt x="5901104" y="881458"/>
                </a:lnTo>
                <a:lnTo>
                  <a:pt x="5903850" y="886950"/>
                </a:lnTo>
                <a:lnTo>
                  <a:pt x="5906596" y="884204"/>
                </a:lnTo>
                <a:lnTo>
                  <a:pt x="5909342" y="881458"/>
                </a:lnTo>
                <a:lnTo>
                  <a:pt x="5903850" y="881458"/>
                </a:lnTo>
                <a:lnTo>
                  <a:pt x="5898358" y="878712"/>
                </a:lnTo>
                <a:close/>
                <a:moveTo>
                  <a:pt x="5275021" y="873220"/>
                </a:moveTo>
                <a:lnTo>
                  <a:pt x="5272275" y="878712"/>
                </a:lnTo>
                <a:lnTo>
                  <a:pt x="5277767" y="878712"/>
                </a:lnTo>
                <a:lnTo>
                  <a:pt x="5277767" y="873220"/>
                </a:lnTo>
                <a:lnTo>
                  <a:pt x="5275021" y="873220"/>
                </a:lnTo>
                <a:close/>
                <a:moveTo>
                  <a:pt x="930887" y="870475"/>
                </a:moveTo>
                <a:lnTo>
                  <a:pt x="928141" y="873221"/>
                </a:lnTo>
                <a:lnTo>
                  <a:pt x="928141" y="878713"/>
                </a:lnTo>
                <a:lnTo>
                  <a:pt x="930887" y="878713"/>
                </a:lnTo>
                <a:lnTo>
                  <a:pt x="933632" y="881459"/>
                </a:lnTo>
                <a:lnTo>
                  <a:pt x="936378" y="884205"/>
                </a:lnTo>
                <a:lnTo>
                  <a:pt x="936378" y="875967"/>
                </a:lnTo>
                <a:lnTo>
                  <a:pt x="930887" y="870475"/>
                </a:lnTo>
                <a:close/>
                <a:moveTo>
                  <a:pt x="5873644" y="870475"/>
                </a:moveTo>
                <a:lnTo>
                  <a:pt x="5873644" y="878712"/>
                </a:lnTo>
                <a:lnTo>
                  <a:pt x="5879136" y="875966"/>
                </a:lnTo>
                <a:lnTo>
                  <a:pt x="5879136" y="870475"/>
                </a:lnTo>
                <a:lnTo>
                  <a:pt x="5873644" y="870475"/>
                </a:lnTo>
                <a:close/>
                <a:moveTo>
                  <a:pt x="5203626" y="870475"/>
                </a:moveTo>
                <a:lnTo>
                  <a:pt x="5206372" y="875966"/>
                </a:lnTo>
                <a:lnTo>
                  <a:pt x="5209118" y="878712"/>
                </a:lnTo>
                <a:lnTo>
                  <a:pt x="5211864" y="878712"/>
                </a:lnTo>
                <a:lnTo>
                  <a:pt x="5211864" y="870475"/>
                </a:lnTo>
                <a:lnTo>
                  <a:pt x="5203626" y="870475"/>
                </a:lnTo>
                <a:close/>
                <a:moveTo>
                  <a:pt x="1013265" y="867729"/>
                </a:moveTo>
                <a:lnTo>
                  <a:pt x="1013265" y="873221"/>
                </a:lnTo>
                <a:lnTo>
                  <a:pt x="1024250" y="873221"/>
                </a:lnTo>
                <a:lnTo>
                  <a:pt x="1018758" y="870475"/>
                </a:lnTo>
                <a:lnTo>
                  <a:pt x="1013265" y="867729"/>
                </a:lnTo>
                <a:close/>
                <a:moveTo>
                  <a:pt x="1414179" y="864983"/>
                </a:moveTo>
                <a:lnTo>
                  <a:pt x="1414179" y="870475"/>
                </a:lnTo>
                <a:lnTo>
                  <a:pt x="1416924" y="870475"/>
                </a:lnTo>
                <a:lnTo>
                  <a:pt x="1419670" y="870475"/>
                </a:lnTo>
                <a:lnTo>
                  <a:pt x="1419670" y="873221"/>
                </a:lnTo>
                <a:lnTo>
                  <a:pt x="1422416" y="873221"/>
                </a:lnTo>
                <a:lnTo>
                  <a:pt x="1422416" y="867729"/>
                </a:lnTo>
                <a:lnTo>
                  <a:pt x="1419670" y="867729"/>
                </a:lnTo>
                <a:lnTo>
                  <a:pt x="1416924" y="864983"/>
                </a:lnTo>
                <a:lnTo>
                  <a:pt x="1414179" y="864983"/>
                </a:lnTo>
                <a:close/>
                <a:moveTo>
                  <a:pt x="5527651" y="864983"/>
                </a:moveTo>
                <a:lnTo>
                  <a:pt x="5522159" y="867729"/>
                </a:lnTo>
                <a:lnTo>
                  <a:pt x="5522159" y="870475"/>
                </a:lnTo>
                <a:lnTo>
                  <a:pt x="5527651" y="870475"/>
                </a:lnTo>
                <a:lnTo>
                  <a:pt x="5530397" y="870475"/>
                </a:lnTo>
                <a:lnTo>
                  <a:pt x="5530397" y="867729"/>
                </a:lnTo>
                <a:lnTo>
                  <a:pt x="5527651" y="864983"/>
                </a:lnTo>
                <a:close/>
                <a:moveTo>
                  <a:pt x="1548731" y="856745"/>
                </a:moveTo>
                <a:lnTo>
                  <a:pt x="1548731" y="862237"/>
                </a:lnTo>
                <a:lnTo>
                  <a:pt x="1554223" y="862237"/>
                </a:lnTo>
                <a:lnTo>
                  <a:pt x="1554223" y="859491"/>
                </a:lnTo>
                <a:lnTo>
                  <a:pt x="1551477" y="856745"/>
                </a:lnTo>
                <a:lnTo>
                  <a:pt x="1548731" y="856745"/>
                </a:lnTo>
                <a:close/>
                <a:moveTo>
                  <a:pt x="1114868" y="856745"/>
                </a:moveTo>
                <a:lnTo>
                  <a:pt x="1114868" y="862237"/>
                </a:lnTo>
                <a:lnTo>
                  <a:pt x="1120359" y="862237"/>
                </a:lnTo>
                <a:lnTo>
                  <a:pt x="1123105" y="856745"/>
                </a:lnTo>
                <a:lnTo>
                  <a:pt x="1114868" y="856745"/>
                </a:lnTo>
                <a:close/>
                <a:moveTo>
                  <a:pt x="958346" y="856745"/>
                </a:moveTo>
                <a:lnTo>
                  <a:pt x="958346" y="862237"/>
                </a:lnTo>
                <a:lnTo>
                  <a:pt x="963838" y="862237"/>
                </a:lnTo>
                <a:lnTo>
                  <a:pt x="963838" y="856745"/>
                </a:lnTo>
                <a:lnTo>
                  <a:pt x="958346" y="856745"/>
                </a:lnTo>
                <a:close/>
                <a:moveTo>
                  <a:pt x="922648" y="856745"/>
                </a:moveTo>
                <a:lnTo>
                  <a:pt x="919902" y="859491"/>
                </a:lnTo>
                <a:lnTo>
                  <a:pt x="919902" y="862237"/>
                </a:lnTo>
                <a:lnTo>
                  <a:pt x="922648" y="862237"/>
                </a:lnTo>
                <a:lnTo>
                  <a:pt x="925395" y="862237"/>
                </a:lnTo>
                <a:lnTo>
                  <a:pt x="925395" y="859491"/>
                </a:lnTo>
                <a:lnTo>
                  <a:pt x="922648" y="856745"/>
                </a:lnTo>
                <a:close/>
                <a:moveTo>
                  <a:pt x="5615523" y="853999"/>
                </a:moveTo>
                <a:lnTo>
                  <a:pt x="5607285" y="856745"/>
                </a:lnTo>
                <a:lnTo>
                  <a:pt x="5604539" y="862237"/>
                </a:lnTo>
                <a:lnTo>
                  <a:pt x="5610031" y="862237"/>
                </a:lnTo>
                <a:lnTo>
                  <a:pt x="5615523" y="867729"/>
                </a:lnTo>
                <a:lnTo>
                  <a:pt x="5615523" y="853999"/>
                </a:lnTo>
                <a:close/>
                <a:moveTo>
                  <a:pt x="5069073" y="853999"/>
                </a:moveTo>
                <a:lnTo>
                  <a:pt x="5069073" y="859491"/>
                </a:lnTo>
                <a:lnTo>
                  <a:pt x="5071819" y="864983"/>
                </a:lnTo>
                <a:lnTo>
                  <a:pt x="5077311" y="867729"/>
                </a:lnTo>
                <a:lnTo>
                  <a:pt x="5080057" y="862237"/>
                </a:lnTo>
                <a:lnTo>
                  <a:pt x="5080057" y="853999"/>
                </a:lnTo>
                <a:lnTo>
                  <a:pt x="5069073" y="853999"/>
                </a:lnTo>
                <a:close/>
                <a:moveTo>
                  <a:pt x="895189" y="851253"/>
                </a:moveTo>
                <a:lnTo>
                  <a:pt x="895189" y="859491"/>
                </a:lnTo>
                <a:lnTo>
                  <a:pt x="895189" y="862237"/>
                </a:lnTo>
                <a:lnTo>
                  <a:pt x="895189" y="864983"/>
                </a:lnTo>
                <a:lnTo>
                  <a:pt x="900680" y="859491"/>
                </a:lnTo>
                <a:lnTo>
                  <a:pt x="911664" y="859491"/>
                </a:lnTo>
                <a:lnTo>
                  <a:pt x="911664" y="856745"/>
                </a:lnTo>
                <a:lnTo>
                  <a:pt x="908919" y="856745"/>
                </a:lnTo>
                <a:lnTo>
                  <a:pt x="908919" y="853999"/>
                </a:lnTo>
                <a:lnTo>
                  <a:pt x="908919" y="851253"/>
                </a:lnTo>
                <a:lnTo>
                  <a:pt x="895189" y="851253"/>
                </a:lnTo>
                <a:close/>
                <a:moveTo>
                  <a:pt x="719446" y="851253"/>
                </a:moveTo>
                <a:lnTo>
                  <a:pt x="722192" y="853999"/>
                </a:lnTo>
                <a:lnTo>
                  <a:pt x="722192" y="856745"/>
                </a:lnTo>
                <a:lnTo>
                  <a:pt x="724938" y="856745"/>
                </a:lnTo>
                <a:lnTo>
                  <a:pt x="724938" y="851253"/>
                </a:lnTo>
                <a:lnTo>
                  <a:pt x="722192" y="851253"/>
                </a:lnTo>
                <a:lnTo>
                  <a:pt x="719446" y="851253"/>
                </a:lnTo>
                <a:close/>
                <a:moveTo>
                  <a:pt x="5307973" y="851253"/>
                </a:moveTo>
                <a:lnTo>
                  <a:pt x="5307973" y="856745"/>
                </a:lnTo>
                <a:lnTo>
                  <a:pt x="5310719" y="859491"/>
                </a:lnTo>
                <a:lnTo>
                  <a:pt x="5316211" y="859491"/>
                </a:lnTo>
                <a:lnTo>
                  <a:pt x="5316211" y="856745"/>
                </a:lnTo>
                <a:lnTo>
                  <a:pt x="5316211" y="853999"/>
                </a:lnTo>
                <a:lnTo>
                  <a:pt x="5313465" y="851253"/>
                </a:lnTo>
                <a:lnTo>
                  <a:pt x="5307973" y="851253"/>
                </a:lnTo>
                <a:close/>
                <a:moveTo>
                  <a:pt x="1449877" y="848507"/>
                </a:moveTo>
                <a:lnTo>
                  <a:pt x="1447130" y="851253"/>
                </a:lnTo>
                <a:lnTo>
                  <a:pt x="1447130" y="856745"/>
                </a:lnTo>
                <a:lnTo>
                  <a:pt x="1447130" y="859491"/>
                </a:lnTo>
                <a:lnTo>
                  <a:pt x="1452622" y="864983"/>
                </a:lnTo>
                <a:lnTo>
                  <a:pt x="1458113" y="867729"/>
                </a:lnTo>
                <a:lnTo>
                  <a:pt x="1458113" y="870475"/>
                </a:lnTo>
                <a:lnTo>
                  <a:pt x="1458113" y="873221"/>
                </a:lnTo>
                <a:lnTo>
                  <a:pt x="1471844" y="873221"/>
                </a:lnTo>
                <a:lnTo>
                  <a:pt x="1474589" y="873221"/>
                </a:lnTo>
                <a:lnTo>
                  <a:pt x="1480081" y="870475"/>
                </a:lnTo>
                <a:lnTo>
                  <a:pt x="1474589" y="864983"/>
                </a:lnTo>
                <a:lnTo>
                  <a:pt x="1474589" y="856745"/>
                </a:lnTo>
                <a:lnTo>
                  <a:pt x="1469098" y="856745"/>
                </a:lnTo>
                <a:lnTo>
                  <a:pt x="1466353" y="853999"/>
                </a:lnTo>
                <a:lnTo>
                  <a:pt x="1466353" y="851253"/>
                </a:lnTo>
                <a:lnTo>
                  <a:pt x="1455368" y="848507"/>
                </a:lnTo>
                <a:lnTo>
                  <a:pt x="1449877" y="848507"/>
                </a:lnTo>
                <a:close/>
                <a:moveTo>
                  <a:pt x="1013265" y="845761"/>
                </a:moveTo>
                <a:lnTo>
                  <a:pt x="1013265" y="851253"/>
                </a:lnTo>
                <a:lnTo>
                  <a:pt x="1018758" y="851253"/>
                </a:lnTo>
                <a:lnTo>
                  <a:pt x="1018758" y="845761"/>
                </a:lnTo>
                <a:lnTo>
                  <a:pt x="1013265" y="845761"/>
                </a:lnTo>
                <a:close/>
                <a:moveTo>
                  <a:pt x="1002281" y="845761"/>
                </a:moveTo>
                <a:lnTo>
                  <a:pt x="1002281" y="851253"/>
                </a:lnTo>
                <a:lnTo>
                  <a:pt x="1005028" y="851253"/>
                </a:lnTo>
                <a:lnTo>
                  <a:pt x="1005028" y="845761"/>
                </a:lnTo>
                <a:lnTo>
                  <a:pt x="1002281" y="845761"/>
                </a:lnTo>
                <a:close/>
                <a:moveTo>
                  <a:pt x="969330" y="845761"/>
                </a:moveTo>
                <a:lnTo>
                  <a:pt x="969330" y="848507"/>
                </a:lnTo>
                <a:lnTo>
                  <a:pt x="974822" y="851253"/>
                </a:lnTo>
                <a:lnTo>
                  <a:pt x="977568" y="848507"/>
                </a:lnTo>
                <a:lnTo>
                  <a:pt x="977568" y="845761"/>
                </a:lnTo>
                <a:lnTo>
                  <a:pt x="972076" y="845761"/>
                </a:lnTo>
                <a:lnTo>
                  <a:pt x="969330" y="845761"/>
                </a:lnTo>
                <a:close/>
                <a:moveTo>
                  <a:pt x="939124" y="845761"/>
                </a:moveTo>
                <a:lnTo>
                  <a:pt x="930887" y="848507"/>
                </a:lnTo>
                <a:lnTo>
                  <a:pt x="928141" y="851253"/>
                </a:lnTo>
                <a:lnTo>
                  <a:pt x="928141" y="856745"/>
                </a:lnTo>
                <a:lnTo>
                  <a:pt x="930887" y="853999"/>
                </a:lnTo>
                <a:lnTo>
                  <a:pt x="933632" y="851253"/>
                </a:lnTo>
                <a:lnTo>
                  <a:pt x="936378" y="851253"/>
                </a:lnTo>
                <a:lnTo>
                  <a:pt x="936378" y="856745"/>
                </a:lnTo>
                <a:lnTo>
                  <a:pt x="939124" y="856745"/>
                </a:lnTo>
                <a:lnTo>
                  <a:pt x="939124" y="845761"/>
                </a:lnTo>
                <a:close/>
                <a:moveTo>
                  <a:pt x="1290611" y="843015"/>
                </a:moveTo>
                <a:lnTo>
                  <a:pt x="1290611" y="845761"/>
                </a:lnTo>
                <a:lnTo>
                  <a:pt x="1287865" y="845761"/>
                </a:lnTo>
                <a:lnTo>
                  <a:pt x="1287865" y="848507"/>
                </a:lnTo>
                <a:lnTo>
                  <a:pt x="1296101" y="848507"/>
                </a:lnTo>
                <a:lnTo>
                  <a:pt x="1296101" y="843015"/>
                </a:lnTo>
                <a:lnTo>
                  <a:pt x="1290611" y="843015"/>
                </a:lnTo>
                <a:close/>
                <a:moveTo>
                  <a:pt x="1035233" y="843015"/>
                </a:moveTo>
                <a:lnTo>
                  <a:pt x="1040725" y="845761"/>
                </a:lnTo>
                <a:lnTo>
                  <a:pt x="1048964" y="845761"/>
                </a:lnTo>
                <a:lnTo>
                  <a:pt x="1054456" y="843015"/>
                </a:lnTo>
                <a:lnTo>
                  <a:pt x="1040725" y="843015"/>
                </a:lnTo>
                <a:lnTo>
                  <a:pt x="1035233" y="843015"/>
                </a:lnTo>
                <a:close/>
                <a:moveTo>
                  <a:pt x="656289" y="840269"/>
                </a:moveTo>
                <a:lnTo>
                  <a:pt x="656289" y="845761"/>
                </a:lnTo>
                <a:lnTo>
                  <a:pt x="656289" y="851253"/>
                </a:lnTo>
                <a:lnTo>
                  <a:pt x="659035" y="851253"/>
                </a:lnTo>
                <a:lnTo>
                  <a:pt x="661780" y="851253"/>
                </a:lnTo>
                <a:lnTo>
                  <a:pt x="661780" y="845761"/>
                </a:lnTo>
                <a:lnTo>
                  <a:pt x="661780" y="843015"/>
                </a:lnTo>
                <a:lnTo>
                  <a:pt x="656289" y="840269"/>
                </a:lnTo>
                <a:close/>
                <a:moveTo>
                  <a:pt x="5091041" y="837523"/>
                </a:moveTo>
                <a:lnTo>
                  <a:pt x="5091041" y="843015"/>
                </a:lnTo>
                <a:lnTo>
                  <a:pt x="5093787" y="845761"/>
                </a:lnTo>
                <a:lnTo>
                  <a:pt x="5099279" y="843015"/>
                </a:lnTo>
                <a:lnTo>
                  <a:pt x="5099279" y="840269"/>
                </a:lnTo>
                <a:lnTo>
                  <a:pt x="5096533" y="837523"/>
                </a:lnTo>
                <a:lnTo>
                  <a:pt x="5091041" y="837523"/>
                </a:lnTo>
                <a:close/>
                <a:moveTo>
                  <a:pt x="906173" y="837523"/>
                </a:moveTo>
                <a:lnTo>
                  <a:pt x="906173" y="840269"/>
                </a:lnTo>
                <a:lnTo>
                  <a:pt x="911664" y="843015"/>
                </a:lnTo>
                <a:lnTo>
                  <a:pt x="911664" y="837523"/>
                </a:lnTo>
                <a:lnTo>
                  <a:pt x="906173" y="837523"/>
                </a:lnTo>
                <a:close/>
                <a:moveTo>
                  <a:pt x="236154" y="837523"/>
                </a:moveTo>
                <a:lnTo>
                  <a:pt x="233408" y="840269"/>
                </a:lnTo>
                <a:lnTo>
                  <a:pt x="233408" y="843015"/>
                </a:lnTo>
                <a:lnTo>
                  <a:pt x="233408" y="845761"/>
                </a:lnTo>
                <a:lnTo>
                  <a:pt x="236154" y="848507"/>
                </a:lnTo>
                <a:lnTo>
                  <a:pt x="241646" y="845761"/>
                </a:lnTo>
                <a:lnTo>
                  <a:pt x="241646" y="843015"/>
                </a:lnTo>
                <a:lnTo>
                  <a:pt x="244392" y="837523"/>
                </a:lnTo>
                <a:lnTo>
                  <a:pt x="236154" y="837523"/>
                </a:lnTo>
                <a:close/>
                <a:moveTo>
                  <a:pt x="214186" y="837523"/>
                </a:moveTo>
                <a:lnTo>
                  <a:pt x="214186" y="843015"/>
                </a:lnTo>
                <a:lnTo>
                  <a:pt x="214186" y="848507"/>
                </a:lnTo>
                <a:lnTo>
                  <a:pt x="219678" y="845761"/>
                </a:lnTo>
                <a:lnTo>
                  <a:pt x="222424" y="843015"/>
                </a:lnTo>
                <a:lnTo>
                  <a:pt x="219678" y="840269"/>
                </a:lnTo>
                <a:lnTo>
                  <a:pt x="219678" y="837523"/>
                </a:lnTo>
                <a:lnTo>
                  <a:pt x="216932" y="837523"/>
                </a:lnTo>
                <a:lnTo>
                  <a:pt x="214186" y="837523"/>
                </a:lnTo>
                <a:close/>
                <a:moveTo>
                  <a:pt x="1518526" y="834777"/>
                </a:moveTo>
                <a:lnTo>
                  <a:pt x="1513033" y="837523"/>
                </a:lnTo>
                <a:lnTo>
                  <a:pt x="1507541" y="840269"/>
                </a:lnTo>
                <a:lnTo>
                  <a:pt x="1507541" y="848507"/>
                </a:lnTo>
                <a:lnTo>
                  <a:pt x="1504796" y="856745"/>
                </a:lnTo>
                <a:lnTo>
                  <a:pt x="1502050" y="853999"/>
                </a:lnTo>
                <a:lnTo>
                  <a:pt x="1496557" y="856745"/>
                </a:lnTo>
                <a:lnTo>
                  <a:pt x="1493811" y="859491"/>
                </a:lnTo>
                <a:lnTo>
                  <a:pt x="1491065" y="864983"/>
                </a:lnTo>
                <a:lnTo>
                  <a:pt x="1493811" y="864983"/>
                </a:lnTo>
                <a:lnTo>
                  <a:pt x="1496557" y="864983"/>
                </a:lnTo>
                <a:lnTo>
                  <a:pt x="1499304" y="862237"/>
                </a:lnTo>
                <a:lnTo>
                  <a:pt x="1504796" y="862237"/>
                </a:lnTo>
                <a:lnTo>
                  <a:pt x="1507541" y="856745"/>
                </a:lnTo>
                <a:lnTo>
                  <a:pt x="1515779" y="856745"/>
                </a:lnTo>
                <a:lnTo>
                  <a:pt x="1515779" y="859491"/>
                </a:lnTo>
                <a:lnTo>
                  <a:pt x="1518526" y="862237"/>
                </a:lnTo>
                <a:lnTo>
                  <a:pt x="1521272" y="862237"/>
                </a:lnTo>
                <a:lnTo>
                  <a:pt x="1521272" y="864983"/>
                </a:lnTo>
                <a:lnTo>
                  <a:pt x="1515779" y="864983"/>
                </a:lnTo>
                <a:lnTo>
                  <a:pt x="1513033" y="864983"/>
                </a:lnTo>
                <a:lnTo>
                  <a:pt x="1502050" y="864983"/>
                </a:lnTo>
                <a:lnTo>
                  <a:pt x="1499304" y="873221"/>
                </a:lnTo>
                <a:lnTo>
                  <a:pt x="1496557" y="881459"/>
                </a:lnTo>
                <a:lnTo>
                  <a:pt x="1502050" y="884205"/>
                </a:lnTo>
                <a:lnTo>
                  <a:pt x="1504796" y="889697"/>
                </a:lnTo>
                <a:lnTo>
                  <a:pt x="1507541" y="889697"/>
                </a:lnTo>
                <a:lnTo>
                  <a:pt x="1510287" y="889697"/>
                </a:lnTo>
                <a:lnTo>
                  <a:pt x="1515779" y="889697"/>
                </a:lnTo>
                <a:lnTo>
                  <a:pt x="1518526" y="889697"/>
                </a:lnTo>
                <a:lnTo>
                  <a:pt x="1521272" y="884205"/>
                </a:lnTo>
                <a:lnTo>
                  <a:pt x="1524017" y="878713"/>
                </a:lnTo>
                <a:lnTo>
                  <a:pt x="1526763" y="873221"/>
                </a:lnTo>
                <a:lnTo>
                  <a:pt x="1526763" y="862237"/>
                </a:lnTo>
                <a:lnTo>
                  <a:pt x="1532255" y="862237"/>
                </a:lnTo>
                <a:lnTo>
                  <a:pt x="1532255" y="856745"/>
                </a:lnTo>
                <a:lnTo>
                  <a:pt x="1535002" y="853999"/>
                </a:lnTo>
                <a:lnTo>
                  <a:pt x="1537748" y="851253"/>
                </a:lnTo>
                <a:lnTo>
                  <a:pt x="1535002" y="845761"/>
                </a:lnTo>
                <a:lnTo>
                  <a:pt x="1535002" y="840269"/>
                </a:lnTo>
                <a:lnTo>
                  <a:pt x="1518526" y="834777"/>
                </a:lnTo>
                <a:close/>
                <a:moveTo>
                  <a:pt x="1016011" y="832031"/>
                </a:moveTo>
                <a:lnTo>
                  <a:pt x="1013265" y="834777"/>
                </a:lnTo>
                <a:lnTo>
                  <a:pt x="1010520" y="834777"/>
                </a:lnTo>
                <a:lnTo>
                  <a:pt x="1013265" y="840269"/>
                </a:lnTo>
                <a:lnTo>
                  <a:pt x="1016011" y="840269"/>
                </a:lnTo>
                <a:lnTo>
                  <a:pt x="1021503" y="837523"/>
                </a:lnTo>
                <a:lnTo>
                  <a:pt x="1024250" y="832031"/>
                </a:lnTo>
                <a:lnTo>
                  <a:pt x="1018758" y="832031"/>
                </a:lnTo>
                <a:lnTo>
                  <a:pt x="1016011" y="832031"/>
                </a:lnTo>
                <a:close/>
                <a:moveTo>
                  <a:pt x="878712" y="832031"/>
                </a:moveTo>
                <a:lnTo>
                  <a:pt x="873221" y="834777"/>
                </a:lnTo>
                <a:lnTo>
                  <a:pt x="870475" y="834777"/>
                </a:lnTo>
                <a:lnTo>
                  <a:pt x="867729" y="837523"/>
                </a:lnTo>
                <a:lnTo>
                  <a:pt x="873221" y="837523"/>
                </a:lnTo>
                <a:lnTo>
                  <a:pt x="878712" y="840269"/>
                </a:lnTo>
                <a:lnTo>
                  <a:pt x="878712" y="832031"/>
                </a:lnTo>
                <a:close/>
                <a:moveTo>
                  <a:pt x="1488320" y="826539"/>
                </a:moveTo>
                <a:lnTo>
                  <a:pt x="1477335" y="829285"/>
                </a:lnTo>
                <a:lnTo>
                  <a:pt x="1477335" y="832031"/>
                </a:lnTo>
                <a:lnTo>
                  <a:pt x="1477335" y="834777"/>
                </a:lnTo>
                <a:lnTo>
                  <a:pt x="1474589" y="840269"/>
                </a:lnTo>
                <a:lnTo>
                  <a:pt x="1482829" y="843015"/>
                </a:lnTo>
                <a:lnTo>
                  <a:pt x="1493811" y="840269"/>
                </a:lnTo>
                <a:lnTo>
                  <a:pt x="1493811" y="829285"/>
                </a:lnTo>
                <a:lnTo>
                  <a:pt x="1496557" y="829285"/>
                </a:lnTo>
                <a:lnTo>
                  <a:pt x="1499304" y="826539"/>
                </a:lnTo>
                <a:lnTo>
                  <a:pt x="1488320" y="826539"/>
                </a:lnTo>
                <a:close/>
                <a:moveTo>
                  <a:pt x="5884628" y="826539"/>
                </a:moveTo>
                <a:lnTo>
                  <a:pt x="5884628" y="829285"/>
                </a:lnTo>
                <a:lnTo>
                  <a:pt x="5887374" y="832031"/>
                </a:lnTo>
                <a:lnTo>
                  <a:pt x="5892866" y="832031"/>
                </a:lnTo>
                <a:lnTo>
                  <a:pt x="5892866" y="829285"/>
                </a:lnTo>
                <a:lnTo>
                  <a:pt x="5887374" y="826539"/>
                </a:lnTo>
                <a:lnTo>
                  <a:pt x="5884628" y="826539"/>
                </a:lnTo>
                <a:close/>
                <a:moveTo>
                  <a:pt x="5250308" y="826539"/>
                </a:moveTo>
                <a:lnTo>
                  <a:pt x="5250308" y="834777"/>
                </a:lnTo>
                <a:lnTo>
                  <a:pt x="5255799" y="834777"/>
                </a:lnTo>
                <a:lnTo>
                  <a:pt x="5255799" y="829285"/>
                </a:lnTo>
                <a:lnTo>
                  <a:pt x="5250308" y="826539"/>
                </a:lnTo>
                <a:close/>
                <a:moveTo>
                  <a:pt x="1005028" y="823793"/>
                </a:moveTo>
                <a:lnTo>
                  <a:pt x="999536" y="826539"/>
                </a:lnTo>
                <a:lnTo>
                  <a:pt x="999536" y="832031"/>
                </a:lnTo>
                <a:lnTo>
                  <a:pt x="1005028" y="832031"/>
                </a:lnTo>
                <a:lnTo>
                  <a:pt x="1005028" y="823793"/>
                </a:lnTo>
                <a:close/>
                <a:moveTo>
                  <a:pt x="686494" y="823793"/>
                </a:moveTo>
                <a:lnTo>
                  <a:pt x="686494" y="832031"/>
                </a:lnTo>
                <a:lnTo>
                  <a:pt x="686494" y="843015"/>
                </a:lnTo>
                <a:lnTo>
                  <a:pt x="689240" y="851253"/>
                </a:lnTo>
                <a:lnTo>
                  <a:pt x="689240" y="853999"/>
                </a:lnTo>
                <a:lnTo>
                  <a:pt x="691986" y="853999"/>
                </a:lnTo>
                <a:lnTo>
                  <a:pt x="694732" y="848507"/>
                </a:lnTo>
                <a:lnTo>
                  <a:pt x="694732" y="837523"/>
                </a:lnTo>
                <a:lnTo>
                  <a:pt x="691986" y="829285"/>
                </a:lnTo>
                <a:lnTo>
                  <a:pt x="686494" y="823793"/>
                </a:lnTo>
                <a:close/>
                <a:moveTo>
                  <a:pt x="977568" y="821047"/>
                </a:moveTo>
                <a:lnTo>
                  <a:pt x="977568" y="823793"/>
                </a:lnTo>
                <a:lnTo>
                  <a:pt x="983059" y="823793"/>
                </a:lnTo>
                <a:lnTo>
                  <a:pt x="983059" y="826539"/>
                </a:lnTo>
                <a:lnTo>
                  <a:pt x="988551" y="829285"/>
                </a:lnTo>
                <a:lnTo>
                  <a:pt x="991298" y="823793"/>
                </a:lnTo>
                <a:lnTo>
                  <a:pt x="988551" y="821047"/>
                </a:lnTo>
                <a:lnTo>
                  <a:pt x="985806" y="821047"/>
                </a:lnTo>
                <a:lnTo>
                  <a:pt x="983059" y="821047"/>
                </a:lnTo>
                <a:lnTo>
                  <a:pt x="977568" y="821047"/>
                </a:lnTo>
                <a:close/>
                <a:moveTo>
                  <a:pt x="1378481" y="818301"/>
                </a:moveTo>
                <a:lnTo>
                  <a:pt x="1378481" y="821047"/>
                </a:lnTo>
                <a:lnTo>
                  <a:pt x="1378481" y="823793"/>
                </a:lnTo>
                <a:lnTo>
                  <a:pt x="1378481" y="826539"/>
                </a:lnTo>
                <a:lnTo>
                  <a:pt x="1381227" y="826539"/>
                </a:lnTo>
                <a:lnTo>
                  <a:pt x="1381227" y="823793"/>
                </a:lnTo>
                <a:lnTo>
                  <a:pt x="1383972" y="823793"/>
                </a:lnTo>
                <a:lnTo>
                  <a:pt x="1383972" y="818301"/>
                </a:lnTo>
                <a:lnTo>
                  <a:pt x="1381227" y="818301"/>
                </a:lnTo>
                <a:lnTo>
                  <a:pt x="1378481" y="818301"/>
                </a:lnTo>
                <a:close/>
                <a:moveTo>
                  <a:pt x="5077311" y="815555"/>
                </a:moveTo>
                <a:lnTo>
                  <a:pt x="5080057" y="818301"/>
                </a:lnTo>
                <a:lnTo>
                  <a:pt x="5082803" y="821047"/>
                </a:lnTo>
                <a:lnTo>
                  <a:pt x="5082803" y="818301"/>
                </a:lnTo>
                <a:lnTo>
                  <a:pt x="5085549" y="815555"/>
                </a:lnTo>
                <a:lnTo>
                  <a:pt x="5077311" y="815555"/>
                </a:lnTo>
                <a:close/>
                <a:moveTo>
                  <a:pt x="5426050" y="812809"/>
                </a:moveTo>
                <a:lnTo>
                  <a:pt x="5426050" y="818301"/>
                </a:lnTo>
                <a:lnTo>
                  <a:pt x="5428796" y="821047"/>
                </a:lnTo>
                <a:lnTo>
                  <a:pt x="5431542" y="818301"/>
                </a:lnTo>
                <a:lnTo>
                  <a:pt x="5431542" y="815555"/>
                </a:lnTo>
                <a:lnTo>
                  <a:pt x="5428796" y="812809"/>
                </a:lnTo>
                <a:lnTo>
                  <a:pt x="5426050" y="812809"/>
                </a:lnTo>
                <a:close/>
                <a:moveTo>
                  <a:pt x="5170674" y="812809"/>
                </a:moveTo>
                <a:lnTo>
                  <a:pt x="5176166" y="812809"/>
                </a:lnTo>
                <a:lnTo>
                  <a:pt x="5178912" y="821047"/>
                </a:lnTo>
                <a:lnTo>
                  <a:pt x="5176166" y="818301"/>
                </a:lnTo>
                <a:lnTo>
                  <a:pt x="5176166" y="815555"/>
                </a:lnTo>
                <a:lnTo>
                  <a:pt x="5170674" y="818301"/>
                </a:lnTo>
                <a:lnTo>
                  <a:pt x="5167928" y="815555"/>
                </a:lnTo>
                <a:lnTo>
                  <a:pt x="5170674" y="812809"/>
                </a:lnTo>
                <a:close/>
                <a:moveTo>
                  <a:pt x="930887" y="810063"/>
                </a:moveTo>
                <a:lnTo>
                  <a:pt x="928141" y="812809"/>
                </a:lnTo>
                <a:lnTo>
                  <a:pt x="930887" y="818301"/>
                </a:lnTo>
                <a:lnTo>
                  <a:pt x="936378" y="821047"/>
                </a:lnTo>
                <a:lnTo>
                  <a:pt x="939124" y="823793"/>
                </a:lnTo>
                <a:lnTo>
                  <a:pt x="936378" y="815555"/>
                </a:lnTo>
                <a:lnTo>
                  <a:pt x="930887" y="810063"/>
                </a:lnTo>
                <a:close/>
                <a:moveTo>
                  <a:pt x="1551477" y="807317"/>
                </a:moveTo>
                <a:lnTo>
                  <a:pt x="1551477" y="812809"/>
                </a:lnTo>
                <a:lnTo>
                  <a:pt x="1556969" y="812809"/>
                </a:lnTo>
                <a:lnTo>
                  <a:pt x="1556969" y="807317"/>
                </a:lnTo>
                <a:lnTo>
                  <a:pt x="1554223" y="807317"/>
                </a:lnTo>
                <a:lnTo>
                  <a:pt x="1551477" y="807317"/>
                </a:lnTo>
                <a:close/>
                <a:moveTo>
                  <a:pt x="5796757" y="807317"/>
                </a:moveTo>
                <a:lnTo>
                  <a:pt x="5796757" y="810063"/>
                </a:lnTo>
                <a:lnTo>
                  <a:pt x="5799503" y="812809"/>
                </a:lnTo>
                <a:lnTo>
                  <a:pt x="5802249" y="812809"/>
                </a:lnTo>
                <a:lnTo>
                  <a:pt x="5802249" y="807317"/>
                </a:lnTo>
                <a:lnTo>
                  <a:pt x="5796757" y="807317"/>
                </a:lnTo>
                <a:close/>
                <a:moveTo>
                  <a:pt x="991298" y="804571"/>
                </a:moveTo>
                <a:lnTo>
                  <a:pt x="988551" y="807317"/>
                </a:lnTo>
                <a:lnTo>
                  <a:pt x="988551" y="812809"/>
                </a:lnTo>
                <a:lnTo>
                  <a:pt x="994043" y="812809"/>
                </a:lnTo>
                <a:lnTo>
                  <a:pt x="994043" y="810063"/>
                </a:lnTo>
                <a:lnTo>
                  <a:pt x="994043" y="807317"/>
                </a:lnTo>
                <a:lnTo>
                  <a:pt x="996790" y="804571"/>
                </a:lnTo>
                <a:lnTo>
                  <a:pt x="991298" y="804571"/>
                </a:lnTo>
                <a:close/>
                <a:moveTo>
                  <a:pt x="5758313" y="804571"/>
                </a:moveTo>
                <a:lnTo>
                  <a:pt x="5755567" y="807317"/>
                </a:lnTo>
                <a:lnTo>
                  <a:pt x="5755567" y="810063"/>
                </a:lnTo>
                <a:lnTo>
                  <a:pt x="5761059" y="810063"/>
                </a:lnTo>
                <a:lnTo>
                  <a:pt x="5763805" y="812809"/>
                </a:lnTo>
                <a:lnTo>
                  <a:pt x="5766551" y="815555"/>
                </a:lnTo>
                <a:lnTo>
                  <a:pt x="5769297" y="812809"/>
                </a:lnTo>
                <a:lnTo>
                  <a:pt x="5766551" y="812809"/>
                </a:lnTo>
                <a:lnTo>
                  <a:pt x="5766551" y="807317"/>
                </a:lnTo>
                <a:lnTo>
                  <a:pt x="5761059" y="807317"/>
                </a:lnTo>
                <a:lnTo>
                  <a:pt x="5758313" y="804571"/>
                </a:lnTo>
                <a:close/>
                <a:moveTo>
                  <a:pt x="1005028" y="801825"/>
                </a:moveTo>
                <a:lnTo>
                  <a:pt x="1002281" y="804571"/>
                </a:lnTo>
                <a:lnTo>
                  <a:pt x="1002281" y="807317"/>
                </a:lnTo>
                <a:lnTo>
                  <a:pt x="1005028" y="807317"/>
                </a:lnTo>
                <a:lnTo>
                  <a:pt x="1005028" y="810063"/>
                </a:lnTo>
                <a:lnTo>
                  <a:pt x="1007773" y="810063"/>
                </a:lnTo>
                <a:lnTo>
                  <a:pt x="1007773" y="807317"/>
                </a:lnTo>
                <a:lnTo>
                  <a:pt x="1010520" y="807317"/>
                </a:lnTo>
                <a:lnTo>
                  <a:pt x="1007773" y="804571"/>
                </a:lnTo>
                <a:lnTo>
                  <a:pt x="1005028" y="801825"/>
                </a:lnTo>
                <a:close/>
                <a:moveTo>
                  <a:pt x="5950532" y="801825"/>
                </a:moveTo>
                <a:lnTo>
                  <a:pt x="5950532" y="804571"/>
                </a:lnTo>
                <a:lnTo>
                  <a:pt x="5956024" y="804571"/>
                </a:lnTo>
                <a:lnTo>
                  <a:pt x="5956024" y="801825"/>
                </a:lnTo>
                <a:lnTo>
                  <a:pt x="5950532" y="801825"/>
                </a:lnTo>
                <a:close/>
                <a:moveTo>
                  <a:pt x="5423304" y="801825"/>
                </a:moveTo>
                <a:lnTo>
                  <a:pt x="5423304" y="807317"/>
                </a:lnTo>
                <a:lnTo>
                  <a:pt x="5423304" y="810063"/>
                </a:lnTo>
                <a:lnTo>
                  <a:pt x="5428796" y="807317"/>
                </a:lnTo>
                <a:lnTo>
                  <a:pt x="5431542" y="801825"/>
                </a:lnTo>
                <a:lnTo>
                  <a:pt x="5423304" y="801825"/>
                </a:lnTo>
                <a:close/>
                <a:moveTo>
                  <a:pt x="659035" y="799079"/>
                </a:moveTo>
                <a:lnTo>
                  <a:pt x="653542" y="810063"/>
                </a:lnTo>
                <a:lnTo>
                  <a:pt x="650797" y="815555"/>
                </a:lnTo>
                <a:lnTo>
                  <a:pt x="653542" y="821047"/>
                </a:lnTo>
                <a:lnTo>
                  <a:pt x="656289" y="821047"/>
                </a:lnTo>
                <a:lnTo>
                  <a:pt x="661780" y="821047"/>
                </a:lnTo>
                <a:lnTo>
                  <a:pt x="664526" y="818301"/>
                </a:lnTo>
                <a:lnTo>
                  <a:pt x="664526" y="810063"/>
                </a:lnTo>
                <a:lnTo>
                  <a:pt x="659035" y="799079"/>
                </a:lnTo>
                <a:close/>
                <a:moveTo>
                  <a:pt x="5395844" y="799079"/>
                </a:moveTo>
                <a:lnTo>
                  <a:pt x="5395844" y="804571"/>
                </a:lnTo>
                <a:lnTo>
                  <a:pt x="5393098" y="807317"/>
                </a:lnTo>
                <a:lnTo>
                  <a:pt x="5393098" y="812809"/>
                </a:lnTo>
                <a:lnTo>
                  <a:pt x="5393098" y="815555"/>
                </a:lnTo>
                <a:lnTo>
                  <a:pt x="5406828" y="821047"/>
                </a:lnTo>
                <a:lnTo>
                  <a:pt x="5412320" y="821047"/>
                </a:lnTo>
                <a:lnTo>
                  <a:pt x="5420558" y="818301"/>
                </a:lnTo>
                <a:lnTo>
                  <a:pt x="5417812" y="810063"/>
                </a:lnTo>
                <a:lnTo>
                  <a:pt x="5415066" y="801825"/>
                </a:lnTo>
                <a:lnTo>
                  <a:pt x="5406828" y="799079"/>
                </a:lnTo>
                <a:lnTo>
                  <a:pt x="5395844" y="799079"/>
                </a:lnTo>
                <a:close/>
                <a:moveTo>
                  <a:pt x="5357401" y="799079"/>
                </a:moveTo>
                <a:lnTo>
                  <a:pt x="5357401" y="804571"/>
                </a:lnTo>
                <a:lnTo>
                  <a:pt x="5362893" y="804571"/>
                </a:lnTo>
                <a:lnTo>
                  <a:pt x="5362893" y="799079"/>
                </a:lnTo>
                <a:lnTo>
                  <a:pt x="5357401" y="799079"/>
                </a:lnTo>
                <a:close/>
                <a:moveTo>
                  <a:pt x="1518526" y="793587"/>
                </a:moveTo>
                <a:lnTo>
                  <a:pt x="1513033" y="799079"/>
                </a:lnTo>
                <a:lnTo>
                  <a:pt x="1510287" y="804571"/>
                </a:lnTo>
                <a:lnTo>
                  <a:pt x="1510287" y="812809"/>
                </a:lnTo>
                <a:lnTo>
                  <a:pt x="1513033" y="821047"/>
                </a:lnTo>
                <a:lnTo>
                  <a:pt x="1526763" y="821047"/>
                </a:lnTo>
                <a:lnTo>
                  <a:pt x="1529509" y="815555"/>
                </a:lnTo>
                <a:lnTo>
                  <a:pt x="1532255" y="810063"/>
                </a:lnTo>
                <a:lnTo>
                  <a:pt x="1526763" y="799079"/>
                </a:lnTo>
                <a:lnTo>
                  <a:pt x="1524017" y="799079"/>
                </a:lnTo>
                <a:lnTo>
                  <a:pt x="1521272" y="796333"/>
                </a:lnTo>
                <a:lnTo>
                  <a:pt x="1521272" y="793587"/>
                </a:lnTo>
                <a:lnTo>
                  <a:pt x="1518526" y="793587"/>
                </a:lnTo>
                <a:close/>
                <a:moveTo>
                  <a:pt x="689240" y="793587"/>
                </a:moveTo>
                <a:lnTo>
                  <a:pt x="686494" y="796333"/>
                </a:lnTo>
                <a:lnTo>
                  <a:pt x="681002" y="799079"/>
                </a:lnTo>
                <a:lnTo>
                  <a:pt x="672764" y="801825"/>
                </a:lnTo>
                <a:lnTo>
                  <a:pt x="670018" y="801825"/>
                </a:lnTo>
                <a:lnTo>
                  <a:pt x="667272" y="807317"/>
                </a:lnTo>
                <a:lnTo>
                  <a:pt x="667272" y="810063"/>
                </a:lnTo>
                <a:lnTo>
                  <a:pt x="667272" y="818301"/>
                </a:lnTo>
                <a:lnTo>
                  <a:pt x="686494" y="807317"/>
                </a:lnTo>
                <a:lnTo>
                  <a:pt x="691986" y="801825"/>
                </a:lnTo>
                <a:lnTo>
                  <a:pt x="691986" y="796333"/>
                </a:lnTo>
                <a:lnTo>
                  <a:pt x="689240" y="793587"/>
                </a:lnTo>
                <a:close/>
                <a:moveTo>
                  <a:pt x="5890120" y="793587"/>
                </a:moveTo>
                <a:lnTo>
                  <a:pt x="5887374" y="799079"/>
                </a:lnTo>
                <a:lnTo>
                  <a:pt x="5892866" y="799079"/>
                </a:lnTo>
                <a:lnTo>
                  <a:pt x="5892866" y="793587"/>
                </a:lnTo>
                <a:lnTo>
                  <a:pt x="5890120" y="793587"/>
                </a:lnTo>
                <a:close/>
                <a:moveTo>
                  <a:pt x="5085549" y="793587"/>
                </a:moveTo>
                <a:lnTo>
                  <a:pt x="5085549" y="799079"/>
                </a:lnTo>
                <a:lnTo>
                  <a:pt x="5091041" y="799079"/>
                </a:lnTo>
                <a:lnTo>
                  <a:pt x="5091041" y="796333"/>
                </a:lnTo>
                <a:lnTo>
                  <a:pt x="5088295" y="793587"/>
                </a:lnTo>
                <a:lnTo>
                  <a:pt x="5085549" y="793587"/>
                </a:lnTo>
                <a:close/>
                <a:moveTo>
                  <a:pt x="1032487" y="790841"/>
                </a:moveTo>
                <a:lnTo>
                  <a:pt x="1032487" y="793587"/>
                </a:lnTo>
                <a:lnTo>
                  <a:pt x="1037980" y="796333"/>
                </a:lnTo>
                <a:lnTo>
                  <a:pt x="1040725" y="793587"/>
                </a:lnTo>
                <a:lnTo>
                  <a:pt x="1040725" y="790841"/>
                </a:lnTo>
                <a:lnTo>
                  <a:pt x="1035233" y="790841"/>
                </a:lnTo>
                <a:lnTo>
                  <a:pt x="1032487" y="790841"/>
                </a:lnTo>
                <a:close/>
                <a:moveTo>
                  <a:pt x="908919" y="790841"/>
                </a:moveTo>
                <a:lnTo>
                  <a:pt x="906173" y="793587"/>
                </a:lnTo>
                <a:lnTo>
                  <a:pt x="917156" y="793587"/>
                </a:lnTo>
                <a:lnTo>
                  <a:pt x="914410" y="790841"/>
                </a:lnTo>
                <a:lnTo>
                  <a:pt x="908919" y="790841"/>
                </a:lnTo>
                <a:close/>
                <a:moveTo>
                  <a:pt x="892443" y="790841"/>
                </a:moveTo>
                <a:lnTo>
                  <a:pt x="892443" y="793587"/>
                </a:lnTo>
                <a:lnTo>
                  <a:pt x="892443" y="799079"/>
                </a:lnTo>
                <a:lnTo>
                  <a:pt x="895189" y="799079"/>
                </a:lnTo>
                <a:lnTo>
                  <a:pt x="895189" y="790841"/>
                </a:lnTo>
                <a:lnTo>
                  <a:pt x="892443" y="790841"/>
                </a:lnTo>
                <a:close/>
                <a:moveTo>
                  <a:pt x="1485574" y="788095"/>
                </a:moveTo>
                <a:lnTo>
                  <a:pt x="1480081" y="793587"/>
                </a:lnTo>
                <a:lnTo>
                  <a:pt x="1477335" y="799079"/>
                </a:lnTo>
                <a:lnTo>
                  <a:pt x="1477335" y="807317"/>
                </a:lnTo>
                <a:lnTo>
                  <a:pt x="1480081" y="815555"/>
                </a:lnTo>
                <a:lnTo>
                  <a:pt x="1488320" y="812809"/>
                </a:lnTo>
                <a:lnTo>
                  <a:pt x="1496557" y="815555"/>
                </a:lnTo>
                <a:lnTo>
                  <a:pt x="1502050" y="807317"/>
                </a:lnTo>
                <a:lnTo>
                  <a:pt x="1502050" y="799079"/>
                </a:lnTo>
                <a:lnTo>
                  <a:pt x="1507541" y="796333"/>
                </a:lnTo>
                <a:lnTo>
                  <a:pt x="1510287" y="793587"/>
                </a:lnTo>
                <a:lnTo>
                  <a:pt x="1502050" y="793587"/>
                </a:lnTo>
                <a:lnTo>
                  <a:pt x="1496557" y="793587"/>
                </a:lnTo>
                <a:lnTo>
                  <a:pt x="1491065" y="790841"/>
                </a:lnTo>
                <a:lnTo>
                  <a:pt x="1485574" y="788095"/>
                </a:lnTo>
                <a:close/>
                <a:moveTo>
                  <a:pt x="5255799" y="785349"/>
                </a:moveTo>
                <a:lnTo>
                  <a:pt x="5244816" y="788095"/>
                </a:lnTo>
                <a:lnTo>
                  <a:pt x="5236578" y="790841"/>
                </a:lnTo>
                <a:lnTo>
                  <a:pt x="5236578" y="799079"/>
                </a:lnTo>
                <a:lnTo>
                  <a:pt x="5236578" y="801825"/>
                </a:lnTo>
                <a:lnTo>
                  <a:pt x="5239324" y="804571"/>
                </a:lnTo>
                <a:lnTo>
                  <a:pt x="5239324" y="812809"/>
                </a:lnTo>
                <a:lnTo>
                  <a:pt x="5247562" y="818301"/>
                </a:lnTo>
                <a:lnTo>
                  <a:pt x="5255799" y="818301"/>
                </a:lnTo>
                <a:lnTo>
                  <a:pt x="5266783" y="818301"/>
                </a:lnTo>
                <a:lnTo>
                  <a:pt x="5269529" y="812809"/>
                </a:lnTo>
                <a:lnTo>
                  <a:pt x="5272275" y="807317"/>
                </a:lnTo>
                <a:lnTo>
                  <a:pt x="5275021" y="790841"/>
                </a:lnTo>
                <a:lnTo>
                  <a:pt x="5266783" y="788095"/>
                </a:lnTo>
                <a:lnTo>
                  <a:pt x="5255799" y="785349"/>
                </a:lnTo>
                <a:close/>
                <a:moveTo>
                  <a:pt x="961092" y="785349"/>
                </a:moveTo>
                <a:lnTo>
                  <a:pt x="958346" y="788095"/>
                </a:lnTo>
                <a:lnTo>
                  <a:pt x="963838" y="790841"/>
                </a:lnTo>
                <a:lnTo>
                  <a:pt x="972076" y="790841"/>
                </a:lnTo>
                <a:lnTo>
                  <a:pt x="963838" y="785349"/>
                </a:lnTo>
                <a:lnTo>
                  <a:pt x="961092" y="785349"/>
                </a:lnTo>
                <a:close/>
                <a:moveTo>
                  <a:pt x="1513033" y="782603"/>
                </a:moveTo>
                <a:lnTo>
                  <a:pt x="1510287" y="785349"/>
                </a:lnTo>
                <a:lnTo>
                  <a:pt x="1510287" y="788095"/>
                </a:lnTo>
                <a:lnTo>
                  <a:pt x="1513033" y="788095"/>
                </a:lnTo>
                <a:lnTo>
                  <a:pt x="1515779" y="788095"/>
                </a:lnTo>
                <a:lnTo>
                  <a:pt x="1515779" y="785349"/>
                </a:lnTo>
                <a:lnTo>
                  <a:pt x="1513033" y="782603"/>
                </a:lnTo>
                <a:close/>
                <a:moveTo>
                  <a:pt x="1449877" y="782603"/>
                </a:moveTo>
                <a:lnTo>
                  <a:pt x="1455368" y="782603"/>
                </a:lnTo>
                <a:lnTo>
                  <a:pt x="1455368" y="788095"/>
                </a:lnTo>
                <a:lnTo>
                  <a:pt x="1449877" y="788095"/>
                </a:lnTo>
                <a:lnTo>
                  <a:pt x="1449877" y="782603"/>
                </a:lnTo>
                <a:close/>
                <a:moveTo>
                  <a:pt x="878712" y="782603"/>
                </a:moveTo>
                <a:lnTo>
                  <a:pt x="878712" y="788095"/>
                </a:lnTo>
                <a:lnTo>
                  <a:pt x="884205" y="788095"/>
                </a:lnTo>
                <a:lnTo>
                  <a:pt x="884205" y="782603"/>
                </a:lnTo>
                <a:lnTo>
                  <a:pt x="878712" y="782603"/>
                </a:lnTo>
                <a:close/>
                <a:moveTo>
                  <a:pt x="5069073" y="774365"/>
                </a:moveTo>
                <a:lnTo>
                  <a:pt x="5066327" y="779857"/>
                </a:lnTo>
                <a:lnTo>
                  <a:pt x="5063581" y="788095"/>
                </a:lnTo>
                <a:lnTo>
                  <a:pt x="5071819" y="785349"/>
                </a:lnTo>
                <a:lnTo>
                  <a:pt x="5074565" y="782603"/>
                </a:lnTo>
                <a:lnTo>
                  <a:pt x="5071819" y="777111"/>
                </a:lnTo>
                <a:lnTo>
                  <a:pt x="5069073" y="774365"/>
                </a:lnTo>
                <a:close/>
                <a:moveTo>
                  <a:pt x="1436146" y="774365"/>
                </a:moveTo>
                <a:lnTo>
                  <a:pt x="1427907" y="777111"/>
                </a:lnTo>
                <a:lnTo>
                  <a:pt x="1422416" y="785349"/>
                </a:lnTo>
                <a:lnTo>
                  <a:pt x="1422416" y="788095"/>
                </a:lnTo>
                <a:lnTo>
                  <a:pt x="1422416" y="793587"/>
                </a:lnTo>
                <a:lnTo>
                  <a:pt x="1419670" y="793587"/>
                </a:lnTo>
                <a:lnTo>
                  <a:pt x="1416924" y="804571"/>
                </a:lnTo>
                <a:lnTo>
                  <a:pt x="1419670" y="815555"/>
                </a:lnTo>
                <a:lnTo>
                  <a:pt x="1441637" y="815555"/>
                </a:lnTo>
                <a:lnTo>
                  <a:pt x="1452622" y="815555"/>
                </a:lnTo>
                <a:lnTo>
                  <a:pt x="1460859" y="812809"/>
                </a:lnTo>
                <a:lnTo>
                  <a:pt x="1460859" y="815555"/>
                </a:lnTo>
                <a:lnTo>
                  <a:pt x="1460859" y="818301"/>
                </a:lnTo>
                <a:lnTo>
                  <a:pt x="1463606" y="815555"/>
                </a:lnTo>
                <a:lnTo>
                  <a:pt x="1466353" y="815555"/>
                </a:lnTo>
                <a:lnTo>
                  <a:pt x="1469098" y="812809"/>
                </a:lnTo>
                <a:lnTo>
                  <a:pt x="1466353" y="807317"/>
                </a:lnTo>
                <a:lnTo>
                  <a:pt x="1466353" y="804571"/>
                </a:lnTo>
                <a:lnTo>
                  <a:pt x="1469098" y="793587"/>
                </a:lnTo>
                <a:lnTo>
                  <a:pt x="1463606" y="788095"/>
                </a:lnTo>
                <a:lnTo>
                  <a:pt x="1460859" y="785349"/>
                </a:lnTo>
                <a:lnTo>
                  <a:pt x="1463606" y="779857"/>
                </a:lnTo>
                <a:lnTo>
                  <a:pt x="1460859" y="779857"/>
                </a:lnTo>
                <a:lnTo>
                  <a:pt x="1458113" y="774365"/>
                </a:lnTo>
                <a:lnTo>
                  <a:pt x="1447130" y="774365"/>
                </a:lnTo>
                <a:lnTo>
                  <a:pt x="1436146" y="774365"/>
                </a:lnTo>
                <a:close/>
                <a:moveTo>
                  <a:pt x="1518526" y="768874"/>
                </a:moveTo>
                <a:lnTo>
                  <a:pt x="1515779" y="771620"/>
                </a:lnTo>
                <a:lnTo>
                  <a:pt x="1515779" y="774365"/>
                </a:lnTo>
                <a:lnTo>
                  <a:pt x="1518526" y="774365"/>
                </a:lnTo>
                <a:lnTo>
                  <a:pt x="1521272" y="777111"/>
                </a:lnTo>
                <a:lnTo>
                  <a:pt x="1524017" y="777111"/>
                </a:lnTo>
                <a:lnTo>
                  <a:pt x="1526763" y="774365"/>
                </a:lnTo>
                <a:lnTo>
                  <a:pt x="1526763" y="771620"/>
                </a:lnTo>
                <a:lnTo>
                  <a:pt x="1524017" y="768874"/>
                </a:lnTo>
                <a:lnTo>
                  <a:pt x="1518526" y="768874"/>
                </a:lnTo>
                <a:close/>
                <a:moveTo>
                  <a:pt x="5857169" y="768873"/>
                </a:moveTo>
                <a:lnTo>
                  <a:pt x="5857169" y="771619"/>
                </a:lnTo>
                <a:lnTo>
                  <a:pt x="5854423" y="774365"/>
                </a:lnTo>
                <a:lnTo>
                  <a:pt x="5854423" y="777111"/>
                </a:lnTo>
                <a:lnTo>
                  <a:pt x="5857169" y="777111"/>
                </a:lnTo>
                <a:lnTo>
                  <a:pt x="5859914" y="777111"/>
                </a:lnTo>
                <a:lnTo>
                  <a:pt x="5859914" y="768873"/>
                </a:lnTo>
                <a:lnTo>
                  <a:pt x="5857169" y="768873"/>
                </a:lnTo>
                <a:close/>
                <a:moveTo>
                  <a:pt x="1532255" y="766128"/>
                </a:moveTo>
                <a:lnTo>
                  <a:pt x="1532255" y="774365"/>
                </a:lnTo>
                <a:lnTo>
                  <a:pt x="1535002" y="774365"/>
                </a:lnTo>
                <a:lnTo>
                  <a:pt x="1537748" y="774365"/>
                </a:lnTo>
                <a:lnTo>
                  <a:pt x="1537748" y="768874"/>
                </a:lnTo>
                <a:lnTo>
                  <a:pt x="1535002" y="766128"/>
                </a:lnTo>
                <a:lnTo>
                  <a:pt x="1532255" y="766128"/>
                </a:lnTo>
                <a:close/>
                <a:moveTo>
                  <a:pt x="966584" y="766128"/>
                </a:moveTo>
                <a:lnTo>
                  <a:pt x="966584" y="771620"/>
                </a:lnTo>
                <a:lnTo>
                  <a:pt x="969330" y="771620"/>
                </a:lnTo>
                <a:lnTo>
                  <a:pt x="969330" y="766128"/>
                </a:lnTo>
                <a:lnTo>
                  <a:pt x="966584" y="766128"/>
                </a:lnTo>
                <a:close/>
                <a:moveTo>
                  <a:pt x="5667696" y="766127"/>
                </a:moveTo>
                <a:lnTo>
                  <a:pt x="5667696" y="771619"/>
                </a:lnTo>
                <a:lnTo>
                  <a:pt x="5673188" y="771619"/>
                </a:lnTo>
                <a:lnTo>
                  <a:pt x="5673188" y="766127"/>
                </a:lnTo>
                <a:lnTo>
                  <a:pt x="5667696" y="766127"/>
                </a:lnTo>
                <a:close/>
                <a:moveTo>
                  <a:pt x="1362005" y="763382"/>
                </a:moveTo>
                <a:lnTo>
                  <a:pt x="1359260" y="768874"/>
                </a:lnTo>
                <a:lnTo>
                  <a:pt x="1359260" y="771620"/>
                </a:lnTo>
                <a:lnTo>
                  <a:pt x="1364751" y="771620"/>
                </a:lnTo>
                <a:lnTo>
                  <a:pt x="1367496" y="768874"/>
                </a:lnTo>
                <a:lnTo>
                  <a:pt x="1364751" y="766128"/>
                </a:lnTo>
                <a:lnTo>
                  <a:pt x="1362005" y="763382"/>
                </a:lnTo>
                <a:close/>
                <a:moveTo>
                  <a:pt x="5118501" y="757889"/>
                </a:moveTo>
                <a:lnTo>
                  <a:pt x="5118501" y="760635"/>
                </a:lnTo>
                <a:lnTo>
                  <a:pt x="5113009" y="766127"/>
                </a:lnTo>
                <a:lnTo>
                  <a:pt x="5107517" y="766127"/>
                </a:lnTo>
                <a:lnTo>
                  <a:pt x="5102025" y="768873"/>
                </a:lnTo>
                <a:lnTo>
                  <a:pt x="5091041" y="774365"/>
                </a:lnTo>
                <a:lnTo>
                  <a:pt x="5091041" y="782603"/>
                </a:lnTo>
                <a:lnTo>
                  <a:pt x="5088295" y="788095"/>
                </a:lnTo>
                <a:lnTo>
                  <a:pt x="5091041" y="793587"/>
                </a:lnTo>
                <a:lnTo>
                  <a:pt x="5096533" y="796333"/>
                </a:lnTo>
                <a:lnTo>
                  <a:pt x="5099279" y="804571"/>
                </a:lnTo>
                <a:lnTo>
                  <a:pt x="5107517" y="810063"/>
                </a:lnTo>
                <a:lnTo>
                  <a:pt x="5121247" y="818301"/>
                </a:lnTo>
                <a:lnTo>
                  <a:pt x="5121247" y="821047"/>
                </a:lnTo>
                <a:lnTo>
                  <a:pt x="5118501" y="821047"/>
                </a:lnTo>
                <a:lnTo>
                  <a:pt x="5118501" y="823793"/>
                </a:lnTo>
                <a:lnTo>
                  <a:pt x="5121247" y="823793"/>
                </a:lnTo>
                <a:lnTo>
                  <a:pt x="5121247" y="826539"/>
                </a:lnTo>
                <a:lnTo>
                  <a:pt x="5123993" y="826539"/>
                </a:lnTo>
                <a:lnTo>
                  <a:pt x="5126739" y="823793"/>
                </a:lnTo>
                <a:lnTo>
                  <a:pt x="5137722" y="823793"/>
                </a:lnTo>
                <a:lnTo>
                  <a:pt x="5148706" y="823793"/>
                </a:lnTo>
                <a:lnTo>
                  <a:pt x="5154198" y="826539"/>
                </a:lnTo>
                <a:lnTo>
                  <a:pt x="5156944" y="829285"/>
                </a:lnTo>
                <a:lnTo>
                  <a:pt x="5159690" y="832031"/>
                </a:lnTo>
                <a:lnTo>
                  <a:pt x="5159690" y="840269"/>
                </a:lnTo>
                <a:lnTo>
                  <a:pt x="5156944" y="840269"/>
                </a:lnTo>
                <a:lnTo>
                  <a:pt x="5154198" y="845761"/>
                </a:lnTo>
                <a:lnTo>
                  <a:pt x="5165182" y="851253"/>
                </a:lnTo>
                <a:lnTo>
                  <a:pt x="5176166" y="856745"/>
                </a:lnTo>
                <a:lnTo>
                  <a:pt x="5181658" y="856745"/>
                </a:lnTo>
                <a:lnTo>
                  <a:pt x="5184404" y="851253"/>
                </a:lnTo>
                <a:lnTo>
                  <a:pt x="5189896" y="848507"/>
                </a:lnTo>
                <a:lnTo>
                  <a:pt x="5189896" y="853999"/>
                </a:lnTo>
                <a:lnTo>
                  <a:pt x="5195388" y="853999"/>
                </a:lnTo>
                <a:lnTo>
                  <a:pt x="5198134" y="853999"/>
                </a:lnTo>
                <a:lnTo>
                  <a:pt x="5198134" y="851253"/>
                </a:lnTo>
                <a:lnTo>
                  <a:pt x="5195388" y="851253"/>
                </a:lnTo>
                <a:lnTo>
                  <a:pt x="5195388" y="848507"/>
                </a:lnTo>
                <a:lnTo>
                  <a:pt x="5192642" y="848507"/>
                </a:lnTo>
                <a:lnTo>
                  <a:pt x="5189896" y="848507"/>
                </a:lnTo>
                <a:lnTo>
                  <a:pt x="5195388" y="845761"/>
                </a:lnTo>
                <a:lnTo>
                  <a:pt x="5195388" y="843015"/>
                </a:lnTo>
                <a:lnTo>
                  <a:pt x="5198134" y="843015"/>
                </a:lnTo>
                <a:lnTo>
                  <a:pt x="5198134" y="845761"/>
                </a:lnTo>
                <a:lnTo>
                  <a:pt x="5203626" y="845761"/>
                </a:lnTo>
                <a:lnTo>
                  <a:pt x="5203626" y="843015"/>
                </a:lnTo>
                <a:lnTo>
                  <a:pt x="5206372" y="843015"/>
                </a:lnTo>
                <a:lnTo>
                  <a:pt x="5206372" y="845761"/>
                </a:lnTo>
                <a:lnTo>
                  <a:pt x="5211864" y="845761"/>
                </a:lnTo>
                <a:lnTo>
                  <a:pt x="5214610" y="843015"/>
                </a:lnTo>
                <a:lnTo>
                  <a:pt x="5211864" y="840269"/>
                </a:lnTo>
                <a:lnTo>
                  <a:pt x="5203626" y="837523"/>
                </a:lnTo>
                <a:lnTo>
                  <a:pt x="5198134" y="837523"/>
                </a:lnTo>
                <a:lnTo>
                  <a:pt x="5195388" y="840269"/>
                </a:lnTo>
                <a:lnTo>
                  <a:pt x="5195388" y="832031"/>
                </a:lnTo>
                <a:lnTo>
                  <a:pt x="5195388" y="829285"/>
                </a:lnTo>
                <a:lnTo>
                  <a:pt x="5189896" y="826539"/>
                </a:lnTo>
                <a:lnTo>
                  <a:pt x="5184404" y="823793"/>
                </a:lnTo>
                <a:lnTo>
                  <a:pt x="5189896" y="821047"/>
                </a:lnTo>
                <a:lnTo>
                  <a:pt x="5189896" y="810063"/>
                </a:lnTo>
                <a:lnTo>
                  <a:pt x="5181658" y="807317"/>
                </a:lnTo>
                <a:lnTo>
                  <a:pt x="5176166" y="801825"/>
                </a:lnTo>
                <a:lnTo>
                  <a:pt x="5178912" y="796333"/>
                </a:lnTo>
                <a:lnTo>
                  <a:pt x="5181658" y="790841"/>
                </a:lnTo>
                <a:lnTo>
                  <a:pt x="5178912" y="788095"/>
                </a:lnTo>
                <a:lnTo>
                  <a:pt x="5176166" y="785349"/>
                </a:lnTo>
                <a:lnTo>
                  <a:pt x="5178912" y="779857"/>
                </a:lnTo>
                <a:lnTo>
                  <a:pt x="5178912" y="771619"/>
                </a:lnTo>
                <a:lnTo>
                  <a:pt x="5176166" y="757889"/>
                </a:lnTo>
                <a:lnTo>
                  <a:pt x="5162436" y="760635"/>
                </a:lnTo>
                <a:lnTo>
                  <a:pt x="5148706" y="757889"/>
                </a:lnTo>
                <a:lnTo>
                  <a:pt x="5134976" y="757889"/>
                </a:lnTo>
                <a:lnTo>
                  <a:pt x="5123993" y="757889"/>
                </a:lnTo>
                <a:lnTo>
                  <a:pt x="5118501" y="757889"/>
                </a:lnTo>
                <a:close/>
                <a:moveTo>
                  <a:pt x="936378" y="749652"/>
                </a:moveTo>
                <a:lnTo>
                  <a:pt x="936378" y="752398"/>
                </a:lnTo>
                <a:lnTo>
                  <a:pt x="939124" y="755144"/>
                </a:lnTo>
                <a:lnTo>
                  <a:pt x="941870" y="752398"/>
                </a:lnTo>
                <a:lnTo>
                  <a:pt x="941870" y="749652"/>
                </a:lnTo>
                <a:lnTo>
                  <a:pt x="939124" y="749652"/>
                </a:lnTo>
                <a:lnTo>
                  <a:pt x="936378" y="749652"/>
                </a:lnTo>
                <a:close/>
                <a:moveTo>
                  <a:pt x="5906596" y="749652"/>
                </a:moveTo>
                <a:lnTo>
                  <a:pt x="5903850" y="752398"/>
                </a:lnTo>
                <a:lnTo>
                  <a:pt x="5901104" y="755143"/>
                </a:lnTo>
                <a:lnTo>
                  <a:pt x="5914834" y="755143"/>
                </a:lnTo>
                <a:lnTo>
                  <a:pt x="5912088" y="752398"/>
                </a:lnTo>
                <a:lnTo>
                  <a:pt x="5906596" y="749652"/>
                </a:lnTo>
                <a:close/>
                <a:moveTo>
                  <a:pt x="1559715" y="746906"/>
                </a:moveTo>
                <a:lnTo>
                  <a:pt x="1556969" y="749652"/>
                </a:lnTo>
                <a:lnTo>
                  <a:pt x="1554223" y="755144"/>
                </a:lnTo>
                <a:lnTo>
                  <a:pt x="1556969" y="757890"/>
                </a:lnTo>
                <a:lnTo>
                  <a:pt x="1562461" y="760636"/>
                </a:lnTo>
                <a:lnTo>
                  <a:pt x="1559715" y="755144"/>
                </a:lnTo>
                <a:lnTo>
                  <a:pt x="1559715" y="752398"/>
                </a:lnTo>
                <a:lnTo>
                  <a:pt x="1559715" y="746906"/>
                </a:lnTo>
                <a:close/>
                <a:moveTo>
                  <a:pt x="958346" y="746906"/>
                </a:moveTo>
                <a:lnTo>
                  <a:pt x="952854" y="749652"/>
                </a:lnTo>
                <a:lnTo>
                  <a:pt x="950108" y="755144"/>
                </a:lnTo>
                <a:lnTo>
                  <a:pt x="955600" y="752398"/>
                </a:lnTo>
                <a:lnTo>
                  <a:pt x="958346" y="746906"/>
                </a:lnTo>
                <a:close/>
                <a:moveTo>
                  <a:pt x="1477335" y="744160"/>
                </a:moveTo>
                <a:lnTo>
                  <a:pt x="1474589" y="749652"/>
                </a:lnTo>
                <a:lnTo>
                  <a:pt x="1471844" y="752398"/>
                </a:lnTo>
                <a:lnTo>
                  <a:pt x="1463606" y="757890"/>
                </a:lnTo>
                <a:lnTo>
                  <a:pt x="1463606" y="763382"/>
                </a:lnTo>
                <a:lnTo>
                  <a:pt x="1466353" y="763382"/>
                </a:lnTo>
                <a:lnTo>
                  <a:pt x="1469098" y="766128"/>
                </a:lnTo>
                <a:lnTo>
                  <a:pt x="1469098" y="771620"/>
                </a:lnTo>
                <a:lnTo>
                  <a:pt x="1474589" y="777111"/>
                </a:lnTo>
                <a:lnTo>
                  <a:pt x="1477335" y="785349"/>
                </a:lnTo>
                <a:lnTo>
                  <a:pt x="1488320" y="782603"/>
                </a:lnTo>
                <a:lnTo>
                  <a:pt x="1499304" y="779857"/>
                </a:lnTo>
                <a:lnTo>
                  <a:pt x="1502050" y="774365"/>
                </a:lnTo>
                <a:lnTo>
                  <a:pt x="1504796" y="771620"/>
                </a:lnTo>
                <a:lnTo>
                  <a:pt x="1507541" y="771620"/>
                </a:lnTo>
                <a:lnTo>
                  <a:pt x="1507541" y="763382"/>
                </a:lnTo>
                <a:lnTo>
                  <a:pt x="1510287" y="760636"/>
                </a:lnTo>
                <a:lnTo>
                  <a:pt x="1504796" y="755144"/>
                </a:lnTo>
                <a:lnTo>
                  <a:pt x="1499304" y="746906"/>
                </a:lnTo>
                <a:lnTo>
                  <a:pt x="1491065" y="746906"/>
                </a:lnTo>
                <a:lnTo>
                  <a:pt x="1485574" y="744160"/>
                </a:lnTo>
                <a:lnTo>
                  <a:pt x="1482829" y="744160"/>
                </a:lnTo>
                <a:lnTo>
                  <a:pt x="1477335" y="744160"/>
                </a:lnTo>
                <a:close/>
                <a:moveTo>
                  <a:pt x="969330" y="744160"/>
                </a:moveTo>
                <a:lnTo>
                  <a:pt x="969330" y="746906"/>
                </a:lnTo>
                <a:lnTo>
                  <a:pt x="969330" y="749652"/>
                </a:lnTo>
                <a:lnTo>
                  <a:pt x="966584" y="752398"/>
                </a:lnTo>
                <a:lnTo>
                  <a:pt x="969330" y="752398"/>
                </a:lnTo>
                <a:lnTo>
                  <a:pt x="972076" y="752398"/>
                </a:lnTo>
                <a:lnTo>
                  <a:pt x="974822" y="749652"/>
                </a:lnTo>
                <a:lnTo>
                  <a:pt x="972076" y="746906"/>
                </a:lnTo>
                <a:lnTo>
                  <a:pt x="969330" y="744160"/>
                </a:lnTo>
                <a:close/>
                <a:moveTo>
                  <a:pt x="527228" y="741414"/>
                </a:moveTo>
                <a:lnTo>
                  <a:pt x="521736" y="744160"/>
                </a:lnTo>
                <a:lnTo>
                  <a:pt x="521736" y="752398"/>
                </a:lnTo>
                <a:lnTo>
                  <a:pt x="524482" y="749652"/>
                </a:lnTo>
                <a:lnTo>
                  <a:pt x="527228" y="749652"/>
                </a:lnTo>
                <a:lnTo>
                  <a:pt x="527228" y="741414"/>
                </a:lnTo>
                <a:close/>
                <a:moveTo>
                  <a:pt x="5733600" y="741414"/>
                </a:moveTo>
                <a:lnTo>
                  <a:pt x="5730854" y="744160"/>
                </a:lnTo>
                <a:lnTo>
                  <a:pt x="5728108" y="744160"/>
                </a:lnTo>
                <a:lnTo>
                  <a:pt x="5725362" y="746906"/>
                </a:lnTo>
                <a:lnTo>
                  <a:pt x="5728108" y="749652"/>
                </a:lnTo>
                <a:lnTo>
                  <a:pt x="5730854" y="752398"/>
                </a:lnTo>
                <a:lnTo>
                  <a:pt x="5736346" y="752398"/>
                </a:lnTo>
                <a:lnTo>
                  <a:pt x="5739091" y="749652"/>
                </a:lnTo>
                <a:lnTo>
                  <a:pt x="5739091" y="744160"/>
                </a:lnTo>
                <a:lnTo>
                  <a:pt x="5736346" y="744160"/>
                </a:lnTo>
                <a:lnTo>
                  <a:pt x="5733600" y="741414"/>
                </a:lnTo>
                <a:close/>
                <a:moveTo>
                  <a:pt x="5203626" y="738668"/>
                </a:moveTo>
                <a:lnTo>
                  <a:pt x="5195388" y="744160"/>
                </a:lnTo>
                <a:lnTo>
                  <a:pt x="5189896" y="752398"/>
                </a:lnTo>
                <a:lnTo>
                  <a:pt x="5184404" y="760635"/>
                </a:lnTo>
                <a:lnTo>
                  <a:pt x="5189896" y="766127"/>
                </a:lnTo>
                <a:lnTo>
                  <a:pt x="5198134" y="768873"/>
                </a:lnTo>
                <a:lnTo>
                  <a:pt x="5206372" y="768873"/>
                </a:lnTo>
                <a:lnTo>
                  <a:pt x="5214610" y="768873"/>
                </a:lnTo>
                <a:lnTo>
                  <a:pt x="5220102" y="763381"/>
                </a:lnTo>
                <a:lnTo>
                  <a:pt x="5225594" y="760635"/>
                </a:lnTo>
                <a:lnTo>
                  <a:pt x="5225594" y="755143"/>
                </a:lnTo>
                <a:lnTo>
                  <a:pt x="5222848" y="755143"/>
                </a:lnTo>
                <a:lnTo>
                  <a:pt x="5220102" y="746906"/>
                </a:lnTo>
                <a:lnTo>
                  <a:pt x="5214610" y="741414"/>
                </a:lnTo>
                <a:lnTo>
                  <a:pt x="5209118" y="738668"/>
                </a:lnTo>
                <a:lnTo>
                  <a:pt x="5203626" y="738668"/>
                </a:lnTo>
                <a:close/>
                <a:moveTo>
                  <a:pt x="6323985" y="735922"/>
                </a:moveTo>
                <a:lnTo>
                  <a:pt x="6323985" y="741414"/>
                </a:lnTo>
                <a:lnTo>
                  <a:pt x="6329477" y="741414"/>
                </a:lnTo>
                <a:lnTo>
                  <a:pt x="6332223" y="735922"/>
                </a:lnTo>
                <a:lnTo>
                  <a:pt x="6323985" y="735922"/>
                </a:lnTo>
                <a:close/>
                <a:moveTo>
                  <a:pt x="917156" y="730430"/>
                </a:moveTo>
                <a:lnTo>
                  <a:pt x="917156" y="733176"/>
                </a:lnTo>
                <a:lnTo>
                  <a:pt x="917156" y="735922"/>
                </a:lnTo>
                <a:lnTo>
                  <a:pt x="919902" y="735922"/>
                </a:lnTo>
                <a:lnTo>
                  <a:pt x="919902" y="738668"/>
                </a:lnTo>
                <a:lnTo>
                  <a:pt x="922648" y="738668"/>
                </a:lnTo>
                <a:lnTo>
                  <a:pt x="922648" y="733176"/>
                </a:lnTo>
                <a:lnTo>
                  <a:pt x="917156" y="730430"/>
                </a:lnTo>
                <a:close/>
                <a:moveTo>
                  <a:pt x="450340" y="724938"/>
                </a:moveTo>
                <a:lnTo>
                  <a:pt x="447594" y="727684"/>
                </a:lnTo>
                <a:lnTo>
                  <a:pt x="444848" y="727684"/>
                </a:lnTo>
                <a:lnTo>
                  <a:pt x="450340" y="730430"/>
                </a:lnTo>
                <a:lnTo>
                  <a:pt x="453086" y="730430"/>
                </a:lnTo>
                <a:lnTo>
                  <a:pt x="455832" y="727684"/>
                </a:lnTo>
                <a:lnTo>
                  <a:pt x="450340" y="724938"/>
                </a:lnTo>
                <a:close/>
                <a:moveTo>
                  <a:pt x="5719870" y="719446"/>
                </a:moveTo>
                <a:lnTo>
                  <a:pt x="5719870" y="724938"/>
                </a:lnTo>
                <a:lnTo>
                  <a:pt x="5725362" y="727684"/>
                </a:lnTo>
                <a:lnTo>
                  <a:pt x="5725362" y="719446"/>
                </a:lnTo>
                <a:lnTo>
                  <a:pt x="5719870" y="719446"/>
                </a:lnTo>
                <a:close/>
                <a:moveTo>
                  <a:pt x="5288751" y="719446"/>
                </a:moveTo>
                <a:lnTo>
                  <a:pt x="5283259" y="722192"/>
                </a:lnTo>
                <a:lnTo>
                  <a:pt x="5283259" y="724938"/>
                </a:lnTo>
                <a:lnTo>
                  <a:pt x="5286005" y="724938"/>
                </a:lnTo>
                <a:lnTo>
                  <a:pt x="5286005" y="730430"/>
                </a:lnTo>
                <a:lnTo>
                  <a:pt x="5288751" y="727684"/>
                </a:lnTo>
                <a:lnTo>
                  <a:pt x="5291497" y="724938"/>
                </a:lnTo>
                <a:lnTo>
                  <a:pt x="5288751" y="722192"/>
                </a:lnTo>
                <a:lnTo>
                  <a:pt x="5288751" y="719446"/>
                </a:lnTo>
                <a:close/>
                <a:moveTo>
                  <a:pt x="5077311" y="719446"/>
                </a:moveTo>
                <a:lnTo>
                  <a:pt x="5077311" y="724938"/>
                </a:lnTo>
                <a:lnTo>
                  <a:pt x="5074565" y="730430"/>
                </a:lnTo>
                <a:lnTo>
                  <a:pt x="5071819" y="735922"/>
                </a:lnTo>
                <a:lnTo>
                  <a:pt x="5069073" y="741414"/>
                </a:lnTo>
                <a:lnTo>
                  <a:pt x="5074565" y="744160"/>
                </a:lnTo>
                <a:lnTo>
                  <a:pt x="5077311" y="746906"/>
                </a:lnTo>
                <a:lnTo>
                  <a:pt x="5096533" y="746906"/>
                </a:lnTo>
                <a:lnTo>
                  <a:pt x="5099279" y="741414"/>
                </a:lnTo>
                <a:lnTo>
                  <a:pt x="5099279" y="738668"/>
                </a:lnTo>
                <a:lnTo>
                  <a:pt x="5099279" y="733176"/>
                </a:lnTo>
                <a:lnTo>
                  <a:pt x="5096533" y="727684"/>
                </a:lnTo>
                <a:lnTo>
                  <a:pt x="5082803" y="727684"/>
                </a:lnTo>
                <a:lnTo>
                  <a:pt x="5080057" y="722192"/>
                </a:lnTo>
                <a:lnTo>
                  <a:pt x="5077311" y="719446"/>
                </a:lnTo>
                <a:close/>
                <a:moveTo>
                  <a:pt x="875967" y="719446"/>
                </a:moveTo>
                <a:lnTo>
                  <a:pt x="873221" y="722192"/>
                </a:lnTo>
                <a:lnTo>
                  <a:pt x="867729" y="730430"/>
                </a:lnTo>
                <a:lnTo>
                  <a:pt x="878712" y="730430"/>
                </a:lnTo>
                <a:lnTo>
                  <a:pt x="884205" y="727684"/>
                </a:lnTo>
                <a:lnTo>
                  <a:pt x="881458" y="724938"/>
                </a:lnTo>
                <a:lnTo>
                  <a:pt x="881458" y="722192"/>
                </a:lnTo>
                <a:lnTo>
                  <a:pt x="881458" y="719446"/>
                </a:lnTo>
                <a:lnTo>
                  <a:pt x="875967" y="719446"/>
                </a:lnTo>
                <a:close/>
                <a:moveTo>
                  <a:pt x="488784" y="719446"/>
                </a:moveTo>
                <a:lnTo>
                  <a:pt x="486038" y="722192"/>
                </a:lnTo>
                <a:lnTo>
                  <a:pt x="483292" y="724938"/>
                </a:lnTo>
                <a:lnTo>
                  <a:pt x="488784" y="724938"/>
                </a:lnTo>
                <a:lnTo>
                  <a:pt x="494276" y="724938"/>
                </a:lnTo>
                <a:lnTo>
                  <a:pt x="491530" y="722192"/>
                </a:lnTo>
                <a:lnTo>
                  <a:pt x="488784" y="719446"/>
                </a:lnTo>
                <a:close/>
                <a:moveTo>
                  <a:pt x="6145496" y="716700"/>
                </a:moveTo>
                <a:lnTo>
                  <a:pt x="6140004" y="719446"/>
                </a:lnTo>
                <a:lnTo>
                  <a:pt x="6142750" y="722192"/>
                </a:lnTo>
                <a:lnTo>
                  <a:pt x="6145496" y="722192"/>
                </a:lnTo>
                <a:lnTo>
                  <a:pt x="6148242" y="722192"/>
                </a:lnTo>
                <a:lnTo>
                  <a:pt x="6150988" y="719446"/>
                </a:lnTo>
                <a:lnTo>
                  <a:pt x="6145496" y="716700"/>
                </a:lnTo>
                <a:close/>
                <a:moveTo>
                  <a:pt x="5275021" y="716700"/>
                </a:moveTo>
                <a:lnTo>
                  <a:pt x="5272275" y="719446"/>
                </a:lnTo>
                <a:lnTo>
                  <a:pt x="5266783" y="719446"/>
                </a:lnTo>
                <a:lnTo>
                  <a:pt x="5266783" y="724938"/>
                </a:lnTo>
                <a:lnTo>
                  <a:pt x="5264037" y="727684"/>
                </a:lnTo>
                <a:lnTo>
                  <a:pt x="5261291" y="727684"/>
                </a:lnTo>
                <a:lnTo>
                  <a:pt x="5261291" y="733176"/>
                </a:lnTo>
                <a:lnTo>
                  <a:pt x="5275021" y="733176"/>
                </a:lnTo>
                <a:lnTo>
                  <a:pt x="5277767" y="724938"/>
                </a:lnTo>
                <a:lnTo>
                  <a:pt x="5277767" y="716700"/>
                </a:lnTo>
                <a:lnTo>
                  <a:pt x="5275021" y="716700"/>
                </a:lnTo>
                <a:close/>
                <a:moveTo>
                  <a:pt x="1485574" y="716700"/>
                </a:moveTo>
                <a:lnTo>
                  <a:pt x="1493811" y="716700"/>
                </a:lnTo>
                <a:lnTo>
                  <a:pt x="1485574" y="733176"/>
                </a:lnTo>
                <a:lnTo>
                  <a:pt x="1485574" y="724938"/>
                </a:lnTo>
                <a:lnTo>
                  <a:pt x="1485574" y="716700"/>
                </a:lnTo>
                <a:close/>
                <a:moveTo>
                  <a:pt x="722192" y="716700"/>
                </a:moveTo>
                <a:lnTo>
                  <a:pt x="719446" y="719446"/>
                </a:lnTo>
                <a:lnTo>
                  <a:pt x="719446" y="722192"/>
                </a:lnTo>
                <a:lnTo>
                  <a:pt x="722192" y="727684"/>
                </a:lnTo>
                <a:lnTo>
                  <a:pt x="727684" y="733176"/>
                </a:lnTo>
                <a:lnTo>
                  <a:pt x="730430" y="733176"/>
                </a:lnTo>
                <a:lnTo>
                  <a:pt x="735922" y="727684"/>
                </a:lnTo>
                <a:lnTo>
                  <a:pt x="735922" y="724938"/>
                </a:lnTo>
                <a:lnTo>
                  <a:pt x="733176" y="719446"/>
                </a:lnTo>
                <a:lnTo>
                  <a:pt x="724938" y="716700"/>
                </a:lnTo>
                <a:lnTo>
                  <a:pt x="722192" y="716700"/>
                </a:lnTo>
                <a:close/>
                <a:moveTo>
                  <a:pt x="5700648" y="713954"/>
                </a:moveTo>
                <a:lnTo>
                  <a:pt x="5700648" y="722192"/>
                </a:lnTo>
                <a:lnTo>
                  <a:pt x="5697902" y="727684"/>
                </a:lnTo>
                <a:lnTo>
                  <a:pt x="5689664" y="733176"/>
                </a:lnTo>
                <a:lnTo>
                  <a:pt x="5678680" y="735922"/>
                </a:lnTo>
                <a:lnTo>
                  <a:pt x="5667696" y="735922"/>
                </a:lnTo>
                <a:lnTo>
                  <a:pt x="5653966" y="738668"/>
                </a:lnTo>
                <a:lnTo>
                  <a:pt x="5642982" y="741414"/>
                </a:lnTo>
                <a:lnTo>
                  <a:pt x="5634744" y="746906"/>
                </a:lnTo>
                <a:lnTo>
                  <a:pt x="5631998" y="752398"/>
                </a:lnTo>
                <a:lnTo>
                  <a:pt x="5629252" y="757889"/>
                </a:lnTo>
                <a:lnTo>
                  <a:pt x="5664950" y="755143"/>
                </a:lnTo>
                <a:lnTo>
                  <a:pt x="5684172" y="752398"/>
                </a:lnTo>
                <a:lnTo>
                  <a:pt x="5700648" y="749652"/>
                </a:lnTo>
                <a:lnTo>
                  <a:pt x="5711632" y="744160"/>
                </a:lnTo>
                <a:lnTo>
                  <a:pt x="5714378" y="738668"/>
                </a:lnTo>
                <a:lnTo>
                  <a:pt x="5717124" y="735922"/>
                </a:lnTo>
                <a:lnTo>
                  <a:pt x="5717124" y="730430"/>
                </a:lnTo>
                <a:lnTo>
                  <a:pt x="5714378" y="724938"/>
                </a:lnTo>
                <a:lnTo>
                  <a:pt x="5700648" y="713954"/>
                </a:lnTo>
                <a:close/>
                <a:moveTo>
                  <a:pt x="1345529" y="713954"/>
                </a:moveTo>
                <a:lnTo>
                  <a:pt x="1342784" y="716700"/>
                </a:lnTo>
                <a:lnTo>
                  <a:pt x="1345529" y="719446"/>
                </a:lnTo>
                <a:lnTo>
                  <a:pt x="1348275" y="722192"/>
                </a:lnTo>
                <a:lnTo>
                  <a:pt x="1351020" y="722192"/>
                </a:lnTo>
                <a:lnTo>
                  <a:pt x="1351020" y="716700"/>
                </a:lnTo>
                <a:lnTo>
                  <a:pt x="1351020" y="713954"/>
                </a:lnTo>
                <a:lnTo>
                  <a:pt x="1345529" y="713954"/>
                </a:lnTo>
                <a:close/>
                <a:moveTo>
                  <a:pt x="911664" y="713954"/>
                </a:moveTo>
                <a:lnTo>
                  <a:pt x="911664" y="724938"/>
                </a:lnTo>
                <a:lnTo>
                  <a:pt x="914410" y="724938"/>
                </a:lnTo>
                <a:lnTo>
                  <a:pt x="914410" y="716700"/>
                </a:lnTo>
                <a:lnTo>
                  <a:pt x="911664" y="713954"/>
                </a:lnTo>
                <a:close/>
                <a:moveTo>
                  <a:pt x="1359260" y="711208"/>
                </a:moveTo>
                <a:lnTo>
                  <a:pt x="1359260" y="716700"/>
                </a:lnTo>
                <a:lnTo>
                  <a:pt x="1356512" y="724938"/>
                </a:lnTo>
                <a:lnTo>
                  <a:pt x="1362005" y="724938"/>
                </a:lnTo>
                <a:lnTo>
                  <a:pt x="1367496" y="722192"/>
                </a:lnTo>
                <a:lnTo>
                  <a:pt x="1370242" y="719446"/>
                </a:lnTo>
                <a:lnTo>
                  <a:pt x="1370242" y="716700"/>
                </a:lnTo>
                <a:lnTo>
                  <a:pt x="1372988" y="713954"/>
                </a:lnTo>
                <a:lnTo>
                  <a:pt x="1372988" y="711208"/>
                </a:lnTo>
                <a:lnTo>
                  <a:pt x="1359260" y="711208"/>
                </a:lnTo>
                <a:close/>
                <a:moveTo>
                  <a:pt x="579401" y="711208"/>
                </a:moveTo>
                <a:lnTo>
                  <a:pt x="565671" y="713954"/>
                </a:lnTo>
                <a:lnTo>
                  <a:pt x="557433" y="719446"/>
                </a:lnTo>
                <a:lnTo>
                  <a:pt x="557433" y="713954"/>
                </a:lnTo>
                <a:lnTo>
                  <a:pt x="549195" y="722192"/>
                </a:lnTo>
                <a:lnTo>
                  <a:pt x="551942" y="724938"/>
                </a:lnTo>
                <a:lnTo>
                  <a:pt x="543703" y="730430"/>
                </a:lnTo>
                <a:lnTo>
                  <a:pt x="535466" y="733176"/>
                </a:lnTo>
                <a:lnTo>
                  <a:pt x="518990" y="733176"/>
                </a:lnTo>
                <a:lnTo>
                  <a:pt x="497022" y="730430"/>
                </a:lnTo>
                <a:lnTo>
                  <a:pt x="486038" y="730430"/>
                </a:lnTo>
                <a:lnTo>
                  <a:pt x="477800" y="733176"/>
                </a:lnTo>
                <a:lnTo>
                  <a:pt x="472308" y="735922"/>
                </a:lnTo>
                <a:lnTo>
                  <a:pt x="469562" y="744160"/>
                </a:lnTo>
                <a:lnTo>
                  <a:pt x="472308" y="746906"/>
                </a:lnTo>
                <a:lnTo>
                  <a:pt x="480546" y="746906"/>
                </a:lnTo>
                <a:lnTo>
                  <a:pt x="502514" y="752398"/>
                </a:lnTo>
                <a:lnTo>
                  <a:pt x="497022" y="755144"/>
                </a:lnTo>
                <a:lnTo>
                  <a:pt x="510751" y="755144"/>
                </a:lnTo>
                <a:lnTo>
                  <a:pt x="502514" y="752398"/>
                </a:lnTo>
                <a:lnTo>
                  <a:pt x="508005" y="744160"/>
                </a:lnTo>
                <a:lnTo>
                  <a:pt x="513498" y="741414"/>
                </a:lnTo>
                <a:lnTo>
                  <a:pt x="521736" y="738668"/>
                </a:lnTo>
                <a:lnTo>
                  <a:pt x="540957" y="744160"/>
                </a:lnTo>
                <a:lnTo>
                  <a:pt x="554687" y="746906"/>
                </a:lnTo>
                <a:lnTo>
                  <a:pt x="571163" y="744160"/>
                </a:lnTo>
                <a:lnTo>
                  <a:pt x="579401" y="735922"/>
                </a:lnTo>
                <a:lnTo>
                  <a:pt x="582147" y="733176"/>
                </a:lnTo>
                <a:lnTo>
                  <a:pt x="587639" y="730430"/>
                </a:lnTo>
                <a:lnTo>
                  <a:pt x="601369" y="730430"/>
                </a:lnTo>
                <a:lnTo>
                  <a:pt x="617845" y="733176"/>
                </a:lnTo>
                <a:lnTo>
                  <a:pt x="642559" y="741414"/>
                </a:lnTo>
                <a:lnTo>
                  <a:pt x="664526" y="752398"/>
                </a:lnTo>
                <a:lnTo>
                  <a:pt x="672764" y="760636"/>
                </a:lnTo>
                <a:lnTo>
                  <a:pt x="672764" y="755144"/>
                </a:lnTo>
                <a:lnTo>
                  <a:pt x="675510" y="749652"/>
                </a:lnTo>
                <a:lnTo>
                  <a:pt x="686494" y="744160"/>
                </a:lnTo>
                <a:lnTo>
                  <a:pt x="713954" y="735922"/>
                </a:lnTo>
                <a:lnTo>
                  <a:pt x="713954" y="722192"/>
                </a:lnTo>
                <a:lnTo>
                  <a:pt x="694732" y="722192"/>
                </a:lnTo>
                <a:lnTo>
                  <a:pt x="672764" y="724938"/>
                </a:lnTo>
                <a:lnTo>
                  <a:pt x="650797" y="727684"/>
                </a:lnTo>
                <a:lnTo>
                  <a:pt x="631574" y="727684"/>
                </a:lnTo>
                <a:lnTo>
                  <a:pt x="628829" y="722192"/>
                </a:lnTo>
                <a:lnTo>
                  <a:pt x="620591" y="713954"/>
                </a:lnTo>
                <a:lnTo>
                  <a:pt x="595877" y="711208"/>
                </a:lnTo>
                <a:lnTo>
                  <a:pt x="579401" y="711208"/>
                </a:lnTo>
                <a:close/>
                <a:moveTo>
                  <a:pt x="6181194" y="711208"/>
                </a:moveTo>
                <a:lnTo>
                  <a:pt x="6181194" y="716700"/>
                </a:lnTo>
                <a:lnTo>
                  <a:pt x="6186686" y="716700"/>
                </a:lnTo>
                <a:lnTo>
                  <a:pt x="6189432" y="716700"/>
                </a:lnTo>
                <a:lnTo>
                  <a:pt x="6189432" y="713954"/>
                </a:lnTo>
                <a:lnTo>
                  <a:pt x="6183940" y="711208"/>
                </a:lnTo>
                <a:lnTo>
                  <a:pt x="6181194" y="711208"/>
                </a:lnTo>
                <a:close/>
                <a:moveTo>
                  <a:pt x="5903850" y="711208"/>
                </a:moveTo>
                <a:lnTo>
                  <a:pt x="5898358" y="713954"/>
                </a:lnTo>
                <a:lnTo>
                  <a:pt x="5898358" y="716700"/>
                </a:lnTo>
                <a:lnTo>
                  <a:pt x="5898358" y="719446"/>
                </a:lnTo>
                <a:lnTo>
                  <a:pt x="5903850" y="722192"/>
                </a:lnTo>
                <a:lnTo>
                  <a:pt x="5909342" y="727684"/>
                </a:lnTo>
                <a:lnTo>
                  <a:pt x="5914834" y="727684"/>
                </a:lnTo>
                <a:lnTo>
                  <a:pt x="5914834" y="724938"/>
                </a:lnTo>
                <a:lnTo>
                  <a:pt x="5914834" y="719446"/>
                </a:lnTo>
                <a:lnTo>
                  <a:pt x="5912088" y="713954"/>
                </a:lnTo>
                <a:lnTo>
                  <a:pt x="5909342" y="711208"/>
                </a:lnTo>
                <a:lnTo>
                  <a:pt x="5903850" y="711208"/>
                </a:lnTo>
                <a:close/>
                <a:moveTo>
                  <a:pt x="5758313" y="711208"/>
                </a:moveTo>
                <a:lnTo>
                  <a:pt x="5750075" y="713954"/>
                </a:lnTo>
                <a:lnTo>
                  <a:pt x="5750075" y="716700"/>
                </a:lnTo>
                <a:lnTo>
                  <a:pt x="5752821" y="719446"/>
                </a:lnTo>
                <a:lnTo>
                  <a:pt x="5755567" y="719446"/>
                </a:lnTo>
                <a:lnTo>
                  <a:pt x="5755567" y="722192"/>
                </a:lnTo>
                <a:lnTo>
                  <a:pt x="5758313" y="722192"/>
                </a:lnTo>
                <a:lnTo>
                  <a:pt x="5763805" y="719446"/>
                </a:lnTo>
                <a:lnTo>
                  <a:pt x="5766551" y="711208"/>
                </a:lnTo>
                <a:lnTo>
                  <a:pt x="5758313" y="711208"/>
                </a:lnTo>
                <a:close/>
                <a:moveTo>
                  <a:pt x="5840693" y="705716"/>
                </a:moveTo>
                <a:lnTo>
                  <a:pt x="5832455" y="708462"/>
                </a:lnTo>
                <a:lnTo>
                  <a:pt x="5829709" y="713954"/>
                </a:lnTo>
                <a:lnTo>
                  <a:pt x="5826963" y="716700"/>
                </a:lnTo>
                <a:lnTo>
                  <a:pt x="5826963" y="727684"/>
                </a:lnTo>
                <a:lnTo>
                  <a:pt x="5829709" y="738668"/>
                </a:lnTo>
                <a:lnTo>
                  <a:pt x="5835201" y="744160"/>
                </a:lnTo>
                <a:lnTo>
                  <a:pt x="5843439" y="746906"/>
                </a:lnTo>
                <a:lnTo>
                  <a:pt x="5848931" y="744160"/>
                </a:lnTo>
                <a:lnTo>
                  <a:pt x="5851677" y="735922"/>
                </a:lnTo>
                <a:lnTo>
                  <a:pt x="5854423" y="727684"/>
                </a:lnTo>
                <a:lnTo>
                  <a:pt x="5851677" y="716700"/>
                </a:lnTo>
                <a:lnTo>
                  <a:pt x="5846185" y="711208"/>
                </a:lnTo>
                <a:lnTo>
                  <a:pt x="5840693" y="705716"/>
                </a:lnTo>
                <a:close/>
                <a:moveTo>
                  <a:pt x="5711632" y="702970"/>
                </a:moveTo>
                <a:lnTo>
                  <a:pt x="5714378" y="708462"/>
                </a:lnTo>
                <a:lnTo>
                  <a:pt x="5717124" y="711208"/>
                </a:lnTo>
                <a:lnTo>
                  <a:pt x="5717124" y="708462"/>
                </a:lnTo>
                <a:lnTo>
                  <a:pt x="5717124" y="705716"/>
                </a:lnTo>
                <a:lnTo>
                  <a:pt x="5717124" y="702970"/>
                </a:lnTo>
                <a:lnTo>
                  <a:pt x="5711632" y="702970"/>
                </a:lnTo>
                <a:close/>
                <a:moveTo>
                  <a:pt x="310295" y="700224"/>
                </a:moveTo>
                <a:lnTo>
                  <a:pt x="304803" y="702970"/>
                </a:lnTo>
                <a:lnTo>
                  <a:pt x="304803" y="708462"/>
                </a:lnTo>
                <a:lnTo>
                  <a:pt x="310295" y="708462"/>
                </a:lnTo>
                <a:lnTo>
                  <a:pt x="310295" y="700224"/>
                </a:lnTo>
                <a:close/>
                <a:moveTo>
                  <a:pt x="1540493" y="694732"/>
                </a:moveTo>
                <a:lnTo>
                  <a:pt x="1535002" y="700224"/>
                </a:lnTo>
                <a:lnTo>
                  <a:pt x="1535002" y="705716"/>
                </a:lnTo>
                <a:lnTo>
                  <a:pt x="1535002" y="711208"/>
                </a:lnTo>
                <a:lnTo>
                  <a:pt x="1540493" y="716700"/>
                </a:lnTo>
                <a:lnTo>
                  <a:pt x="1551477" y="716700"/>
                </a:lnTo>
                <a:lnTo>
                  <a:pt x="1554223" y="719446"/>
                </a:lnTo>
                <a:lnTo>
                  <a:pt x="1554223" y="722192"/>
                </a:lnTo>
                <a:lnTo>
                  <a:pt x="1556969" y="722192"/>
                </a:lnTo>
                <a:lnTo>
                  <a:pt x="1559715" y="716700"/>
                </a:lnTo>
                <a:lnTo>
                  <a:pt x="1562461" y="713954"/>
                </a:lnTo>
                <a:lnTo>
                  <a:pt x="1565206" y="708462"/>
                </a:lnTo>
                <a:lnTo>
                  <a:pt x="1565206" y="702970"/>
                </a:lnTo>
                <a:lnTo>
                  <a:pt x="1559715" y="700224"/>
                </a:lnTo>
                <a:lnTo>
                  <a:pt x="1556969" y="694732"/>
                </a:lnTo>
                <a:lnTo>
                  <a:pt x="1540493" y="694732"/>
                </a:lnTo>
                <a:close/>
                <a:moveTo>
                  <a:pt x="790841" y="694732"/>
                </a:moveTo>
                <a:lnTo>
                  <a:pt x="785349" y="697478"/>
                </a:lnTo>
                <a:lnTo>
                  <a:pt x="782603" y="705716"/>
                </a:lnTo>
                <a:lnTo>
                  <a:pt x="782603" y="716700"/>
                </a:lnTo>
                <a:lnTo>
                  <a:pt x="785349" y="724938"/>
                </a:lnTo>
                <a:lnTo>
                  <a:pt x="788095" y="733176"/>
                </a:lnTo>
                <a:lnTo>
                  <a:pt x="793587" y="735922"/>
                </a:lnTo>
                <a:lnTo>
                  <a:pt x="801825" y="733176"/>
                </a:lnTo>
                <a:lnTo>
                  <a:pt x="804571" y="730430"/>
                </a:lnTo>
                <a:lnTo>
                  <a:pt x="807317" y="724938"/>
                </a:lnTo>
                <a:lnTo>
                  <a:pt x="807317" y="713954"/>
                </a:lnTo>
                <a:lnTo>
                  <a:pt x="804571" y="702970"/>
                </a:lnTo>
                <a:lnTo>
                  <a:pt x="801825" y="697478"/>
                </a:lnTo>
                <a:lnTo>
                  <a:pt x="790841" y="694732"/>
                </a:lnTo>
                <a:close/>
                <a:moveTo>
                  <a:pt x="6109798" y="691986"/>
                </a:moveTo>
                <a:lnTo>
                  <a:pt x="6109798" y="694732"/>
                </a:lnTo>
                <a:lnTo>
                  <a:pt x="6109798" y="700224"/>
                </a:lnTo>
                <a:lnTo>
                  <a:pt x="6112544" y="697478"/>
                </a:lnTo>
                <a:lnTo>
                  <a:pt x="6112544" y="691986"/>
                </a:lnTo>
                <a:lnTo>
                  <a:pt x="6109798" y="691986"/>
                </a:lnTo>
                <a:close/>
                <a:moveTo>
                  <a:pt x="5659458" y="691986"/>
                </a:moveTo>
                <a:lnTo>
                  <a:pt x="5662204" y="697478"/>
                </a:lnTo>
                <a:lnTo>
                  <a:pt x="5664950" y="697478"/>
                </a:lnTo>
                <a:lnTo>
                  <a:pt x="5664950" y="694732"/>
                </a:lnTo>
                <a:lnTo>
                  <a:pt x="5667696" y="691986"/>
                </a:lnTo>
                <a:lnTo>
                  <a:pt x="5664950" y="691986"/>
                </a:lnTo>
                <a:lnTo>
                  <a:pt x="5659458" y="691986"/>
                </a:lnTo>
                <a:close/>
                <a:moveTo>
                  <a:pt x="1471844" y="689240"/>
                </a:moveTo>
                <a:lnTo>
                  <a:pt x="1466353" y="691986"/>
                </a:lnTo>
                <a:lnTo>
                  <a:pt x="1458113" y="691986"/>
                </a:lnTo>
                <a:lnTo>
                  <a:pt x="1458113" y="694732"/>
                </a:lnTo>
                <a:lnTo>
                  <a:pt x="1449877" y="694732"/>
                </a:lnTo>
                <a:lnTo>
                  <a:pt x="1444383" y="697478"/>
                </a:lnTo>
                <a:lnTo>
                  <a:pt x="1441637" y="702970"/>
                </a:lnTo>
                <a:lnTo>
                  <a:pt x="1438891" y="708462"/>
                </a:lnTo>
                <a:lnTo>
                  <a:pt x="1433400" y="708462"/>
                </a:lnTo>
                <a:lnTo>
                  <a:pt x="1427907" y="711208"/>
                </a:lnTo>
                <a:lnTo>
                  <a:pt x="1416924" y="719446"/>
                </a:lnTo>
                <a:lnTo>
                  <a:pt x="1411434" y="724938"/>
                </a:lnTo>
                <a:lnTo>
                  <a:pt x="1411434" y="730430"/>
                </a:lnTo>
                <a:lnTo>
                  <a:pt x="1411434" y="735922"/>
                </a:lnTo>
                <a:lnTo>
                  <a:pt x="1416924" y="741414"/>
                </a:lnTo>
                <a:lnTo>
                  <a:pt x="1419670" y="738668"/>
                </a:lnTo>
                <a:lnTo>
                  <a:pt x="1422416" y="738668"/>
                </a:lnTo>
                <a:lnTo>
                  <a:pt x="1422416" y="744160"/>
                </a:lnTo>
                <a:lnTo>
                  <a:pt x="1427907" y="744160"/>
                </a:lnTo>
                <a:lnTo>
                  <a:pt x="1427907" y="746906"/>
                </a:lnTo>
                <a:lnTo>
                  <a:pt x="1430655" y="752398"/>
                </a:lnTo>
                <a:lnTo>
                  <a:pt x="1444383" y="752398"/>
                </a:lnTo>
                <a:lnTo>
                  <a:pt x="1455368" y="749652"/>
                </a:lnTo>
                <a:lnTo>
                  <a:pt x="1458113" y="735922"/>
                </a:lnTo>
                <a:lnTo>
                  <a:pt x="1460859" y="738668"/>
                </a:lnTo>
                <a:lnTo>
                  <a:pt x="1466353" y="735922"/>
                </a:lnTo>
                <a:lnTo>
                  <a:pt x="1480081" y="735922"/>
                </a:lnTo>
                <a:lnTo>
                  <a:pt x="1477335" y="733176"/>
                </a:lnTo>
                <a:lnTo>
                  <a:pt x="1480081" y="733176"/>
                </a:lnTo>
                <a:lnTo>
                  <a:pt x="1482829" y="733176"/>
                </a:lnTo>
                <a:lnTo>
                  <a:pt x="1485574" y="733176"/>
                </a:lnTo>
                <a:lnTo>
                  <a:pt x="1493811" y="741414"/>
                </a:lnTo>
                <a:lnTo>
                  <a:pt x="1507541" y="744160"/>
                </a:lnTo>
                <a:lnTo>
                  <a:pt x="1515779" y="741414"/>
                </a:lnTo>
                <a:lnTo>
                  <a:pt x="1518526" y="741414"/>
                </a:lnTo>
                <a:lnTo>
                  <a:pt x="1524017" y="738668"/>
                </a:lnTo>
                <a:lnTo>
                  <a:pt x="1524017" y="727684"/>
                </a:lnTo>
                <a:lnTo>
                  <a:pt x="1521272" y="716700"/>
                </a:lnTo>
                <a:lnTo>
                  <a:pt x="1504796" y="711208"/>
                </a:lnTo>
                <a:lnTo>
                  <a:pt x="1507541" y="708462"/>
                </a:lnTo>
                <a:lnTo>
                  <a:pt x="1507541" y="700224"/>
                </a:lnTo>
                <a:lnTo>
                  <a:pt x="1502050" y="697478"/>
                </a:lnTo>
                <a:lnTo>
                  <a:pt x="1499304" y="694732"/>
                </a:lnTo>
                <a:lnTo>
                  <a:pt x="1496557" y="691986"/>
                </a:lnTo>
                <a:lnTo>
                  <a:pt x="1491065" y="691986"/>
                </a:lnTo>
                <a:lnTo>
                  <a:pt x="1491065" y="689240"/>
                </a:lnTo>
                <a:lnTo>
                  <a:pt x="1488320" y="689240"/>
                </a:lnTo>
                <a:lnTo>
                  <a:pt x="1488320" y="691986"/>
                </a:lnTo>
                <a:lnTo>
                  <a:pt x="1485574" y="691986"/>
                </a:lnTo>
                <a:lnTo>
                  <a:pt x="1480081" y="689240"/>
                </a:lnTo>
                <a:lnTo>
                  <a:pt x="1471844" y="689240"/>
                </a:lnTo>
                <a:close/>
                <a:moveTo>
                  <a:pt x="900680" y="689240"/>
                </a:moveTo>
                <a:lnTo>
                  <a:pt x="895189" y="691986"/>
                </a:lnTo>
                <a:lnTo>
                  <a:pt x="895189" y="700224"/>
                </a:lnTo>
                <a:lnTo>
                  <a:pt x="897934" y="697478"/>
                </a:lnTo>
                <a:lnTo>
                  <a:pt x="900680" y="700224"/>
                </a:lnTo>
                <a:lnTo>
                  <a:pt x="903426" y="700224"/>
                </a:lnTo>
                <a:lnTo>
                  <a:pt x="906173" y="697478"/>
                </a:lnTo>
                <a:lnTo>
                  <a:pt x="911664" y="697478"/>
                </a:lnTo>
                <a:lnTo>
                  <a:pt x="908919" y="691986"/>
                </a:lnTo>
                <a:lnTo>
                  <a:pt x="903426" y="689240"/>
                </a:lnTo>
                <a:lnTo>
                  <a:pt x="900680" y="689240"/>
                </a:lnTo>
                <a:close/>
                <a:moveTo>
                  <a:pt x="5692410" y="689240"/>
                </a:moveTo>
                <a:lnTo>
                  <a:pt x="5692410" y="691986"/>
                </a:lnTo>
                <a:lnTo>
                  <a:pt x="5697902" y="694732"/>
                </a:lnTo>
                <a:lnTo>
                  <a:pt x="5700648" y="691986"/>
                </a:lnTo>
                <a:lnTo>
                  <a:pt x="5700648" y="689240"/>
                </a:lnTo>
                <a:lnTo>
                  <a:pt x="5695156" y="689240"/>
                </a:lnTo>
                <a:lnTo>
                  <a:pt x="5692410" y="689240"/>
                </a:lnTo>
                <a:close/>
                <a:moveTo>
                  <a:pt x="5678680" y="689240"/>
                </a:moveTo>
                <a:lnTo>
                  <a:pt x="5678680" y="694732"/>
                </a:lnTo>
                <a:lnTo>
                  <a:pt x="5681426" y="691986"/>
                </a:lnTo>
                <a:lnTo>
                  <a:pt x="5684172" y="689240"/>
                </a:lnTo>
                <a:lnTo>
                  <a:pt x="5678680" y="689240"/>
                </a:lnTo>
                <a:close/>
                <a:moveTo>
                  <a:pt x="5189896" y="689240"/>
                </a:moveTo>
                <a:lnTo>
                  <a:pt x="5181658" y="691986"/>
                </a:lnTo>
                <a:lnTo>
                  <a:pt x="5176166" y="705716"/>
                </a:lnTo>
                <a:lnTo>
                  <a:pt x="5173420" y="705716"/>
                </a:lnTo>
                <a:lnTo>
                  <a:pt x="5167928" y="705716"/>
                </a:lnTo>
                <a:lnTo>
                  <a:pt x="5156944" y="705716"/>
                </a:lnTo>
                <a:lnTo>
                  <a:pt x="5156944" y="708462"/>
                </a:lnTo>
                <a:lnTo>
                  <a:pt x="5156944" y="711208"/>
                </a:lnTo>
                <a:lnTo>
                  <a:pt x="5154198" y="711208"/>
                </a:lnTo>
                <a:lnTo>
                  <a:pt x="5151452" y="711208"/>
                </a:lnTo>
                <a:lnTo>
                  <a:pt x="5148706" y="716700"/>
                </a:lnTo>
                <a:lnTo>
                  <a:pt x="5148706" y="724938"/>
                </a:lnTo>
                <a:lnTo>
                  <a:pt x="5143214" y="724938"/>
                </a:lnTo>
                <a:lnTo>
                  <a:pt x="5148706" y="711208"/>
                </a:lnTo>
                <a:lnTo>
                  <a:pt x="5140468" y="702970"/>
                </a:lnTo>
                <a:lnTo>
                  <a:pt x="5129485" y="697478"/>
                </a:lnTo>
                <a:lnTo>
                  <a:pt x="5121247" y="700224"/>
                </a:lnTo>
                <a:lnTo>
                  <a:pt x="5115755" y="702970"/>
                </a:lnTo>
                <a:lnTo>
                  <a:pt x="5113009" y="705716"/>
                </a:lnTo>
                <a:lnTo>
                  <a:pt x="5113009" y="716700"/>
                </a:lnTo>
                <a:lnTo>
                  <a:pt x="5115755" y="724938"/>
                </a:lnTo>
                <a:lnTo>
                  <a:pt x="5129485" y="730430"/>
                </a:lnTo>
                <a:lnTo>
                  <a:pt x="5129485" y="735922"/>
                </a:lnTo>
                <a:lnTo>
                  <a:pt x="5129485" y="741414"/>
                </a:lnTo>
                <a:lnTo>
                  <a:pt x="5134976" y="744160"/>
                </a:lnTo>
                <a:lnTo>
                  <a:pt x="5137722" y="746906"/>
                </a:lnTo>
                <a:lnTo>
                  <a:pt x="5137722" y="749652"/>
                </a:lnTo>
                <a:lnTo>
                  <a:pt x="5143214" y="749652"/>
                </a:lnTo>
                <a:lnTo>
                  <a:pt x="5143214" y="752398"/>
                </a:lnTo>
                <a:lnTo>
                  <a:pt x="5145960" y="752398"/>
                </a:lnTo>
                <a:lnTo>
                  <a:pt x="5148706" y="752398"/>
                </a:lnTo>
                <a:lnTo>
                  <a:pt x="5151452" y="749652"/>
                </a:lnTo>
                <a:lnTo>
                  <a:pt x="5156944" y="752398"/>
                </a:lnTo>
                <a:lnTo>
                  <a:pt x="5162436" y="752398"/>
                </a:lnTo>
                <a:lnTo>
                  <a:pt x="5170674" y="752398"/>
                </a:lnTo>
                <a:lnTo>
                  <a:pt x="5176166" y="749652"/>
                </a:lnTo>
                <a:lnTo>
                  <a:pt x="5176166" y="746906"/>
                </a:lnTo>
                <a:lnTo>
                  <a:pt x="5184404" y="746906"/>
                </a:lnTo>
                <a:lnTo>
                  <a:pt x="5189896" y="744160"/>
                </a:lnTo>
                <a:lnTo>
                  <a:pt x="5192642" y="741414"/>
                </a:lnTo>
                <a:lnTo>
                  <a:pt x="5195388" y="733176"/>
                </a:lnTo>
                <a:lnTo>
                  <a:pt x="5200880" y="733176"/>
                </a:lnTo>
                <a:lnTo>
                  <a:pt x="5206372" y="730430"/>
                </a:lnTo>
                <a:lnTo>
                  <a:pt x="5220102" y="722192"/>
                </a:lnTo>
                <a:lnTo>
                  <a:pt x="5222848" y="716700"/>
                </a:lnTo>
                <a:lnTo>
                  <a:pt x="5222848" y="711208"/>
                </a:lnTo>
                <a:lnTo>
                  <a:pt x="5222848" y="705716"/>
                </a:lnTo>
                <a:lnTo>
                  <a:pt x="5217356" y="702970"/>
                </a:lnTo>
                <a:lnTo>
                  <a:pt x="5214610" y="702970"/>
                </a:lnTo>
                <a:lnTo>
                  <a:pt x="5214610" y="705716"/>
                </a:lnTo>
                <a:lnTo>
                  <a:pt x="5211864" y="705716"/>
                </a:lnTo>
                <a:lnTo>
                  <a:pt x="5211864" y="697478"/>
                </a:lnTo>
                <a:lnTo>
                  <a:pt x="5206372" y="697478"/>
                </a:lnTo>
                <a:lnTo>
                  <a:pt x="5206372" y="694732"/>
                </a:lnTo>
                <a:lnTo>
                  <a:pt x="5203626" y="689240"/>
                </a:lnTo>
                <a:lnTo>
                  <a:pt x="5189896" y="689240"/>
                </a:lnTo>
                <a:close/>
                <a:moveTo>
                  <a:pt x="722192" y="686494"/>
                </a:moveTo>
                <a:lnTo>
                  <a:pt x="722192" y="691986"/>
                </a:lnTo>
                <a:lnTo>
                  <a:pt x="727684" y="691986"/>
                </a:lnTo>
                <a:lnTo>
                  <a:pt x="730430" y="691986"/>
                </a:lnTo>
                <a:lnTo>
                  <a:pt x="733176" y="686494"/>
                </a:lnTo>
                <a:lnTo>
                  <a:pt x="722192" y="686494"/>
                </a:lnTo>
                <a:close/>
                <a:moveTo>
                  <a:pt x="1005028" y="683748"/>
                </a:moveTo>
                <a:lnTo>
                  <a:pt x="969330" y="686494"/>
                </a:lnTo>
                <a:lnTo>
                  <a:pt x="952854" y="689240"/>
                </a:lnTo>
                <a:lnTo>
                  <a:pt x="936378" y="694732"/>
                </a:lnTo>
                <a:lnTo>
                  <a:pt x="922648" y="700224"/>
                </a:lnTo>
                <a:lnTo>
                  <a:pt x="919902" y="702970"/>
                </a:lnTo>
                <a:lnTo>
                  <a:pt x="917156" y="708462"/>
                </a:lnTo>
                <a:lnTo>
                  <a:pt x="919902" y="711208"/>
                </a:lnTo>
                <a:lnTo>
                  <a:pt x="919902" y="716700"/>
                </a:lnTo>
                <a:lnTo>
                  <a:pt x="933632" y="727684"/>
                </a:lnTo>
                <a:lnTo>
                  <a:pt x="936378" y="722192"/>
                </a:lnTo>
                <a:lnTo>
                  <a:pt x="936378" y="716700"/>
                </a:lnTo>
                <a:lnTo>
                  <a:pt x="944616" y="708462"/>
                </a:lnTo>
                <a:lnTo>
                  <a:pt x="955600" y="705716"/>
                </a:lnTo>
                <a:lnTo>
                  <a:pt x="969330" y="705716"/>
                </a:lnTo>
                <a:lnTo>
                  <a:pt x="980314" y="705716"/>
                </a:lnTo>
                <a:lnTo>
                  <a:pt x="994043" y="702970"/>
                </a:lnTo>
                <a:lnTo>
                  <a:pt x="1002281" y="694732"/>
                </a:lnTo>
                <a:lnTo>
                  <a:pt x="1005028" y="691986"/>
                </a:lnTo>
                <a:lnTo>
                  <a:pt x="1005028" y="683748"/>
                </a:lnTo>
                <a:close/>
                <a:moveTo>
                  <a:pt x="5961516" y="683748"/>
                </a:moveTo>
                <a:lnTo>
                  <a:pt x="5961516" y="689240"/>
                </a:lnTo>
                <a:lnTo>
                  <a:pt x="5958770" y="694732"/>
                </a:lnTo>
                <a:lnTo>
                  <a:pt x="5950532" y="700224"/>
                </a:lnTo>
                <a:lnTo>
                  <a:pt x="5920326" y="708462"/>
                </a:lnTo>
                <a:lnTo>
                  <a:pt x="5920326" y="722192"/>
                </a:lnTo>
                <a:lnTo>
                  <a:pt x="5939548" y="719446"/>
                </a:lnTo>
                <a:lnTo>
                  <a:pt x="5961516" y="716700"/>
                </a:lnTo>
                <a:lnTo>
                  <a:pt x="5983483" y="716700"/>
                </a:lnTo>
                <a:lnTo>
                  <a:pt x="6002705" y="716700"/>
                </a:lnTo>
                <a:lnTo>
                  <a:pt x="6008197" y="722192"/>
                </a:lnTo>
                <a:lnTo>
                  <a:pt x="6013689" y="727684"/>
                </a:lnTo>
                <a:lnTo>
                  <a:pt x="6038403" y="730430"/>
                </a:lnTo>
                <a:lnTo>
                  <a:pt x="6054879" y="730430"/>
                </a:lnTo>
                <a:lnTo>
                  <a:pt x="6071355" y="727684"/>
                </a:lnTo>
                <a:lnTo>
                  <a:pt x="6076847" y="724938"/>
                </a:lnTo>
                <a:lnTo>
                  <a:pt x="6079593" y="727684"/>
                </a:lnTo>
                <a:lnTo>
                  <a:pt x="6085085" y="722192"/>
                </a:lnTo>
                <a:lnTo>
                  <a:pt x="6082339" y="719446"/>
                </a:lnTo>
                <a:lnTo>
                  <a:pt x="6090577" y="713954"/>
                </a:lnTo>
                <a:lnTo>
                  <a:pt x="6098815" y="708462"/>
                </a:lnTo>
                <a:lnTo>
                  <a:pt x="6115290" y="708462"/>
                </a:lnTo>
                <a:lnTo>
                  <a:pt x="6137258" y="711208"/>
                </a:lnTo>
                <a:lnTo>
                  <a:pt x="6148242" y="711208"/>
                </a:lnTo>
                <a:lnTo>
                  <a:pt x="6156480" y="711208"/>
                </a:lnTo>
                <a:lnTo>
                  <a:pt x="6161972" y="705716"/>
                </a:lnTo>
                <a:lnTo>
                  <a:pt x="6164718" y="700224"/>
                </a:lnTo>
                <a:lnTo>
                  <a:pt x="6161972" y="697478"/>
                </a:lnTo>
                <a:lnTo>
                  <a:pt x="6153734" y="694732"/>
                </a:lnTo>
                <a:lnTo>
                  <a:pt x="6134512" y="691986"/>
                </a:lnTo>
                <a:lnTo>
                  <a:pt x="6137258" y="689240"/>
                </a:lnTo>
                <a:lnTo>
                  <a:pt x="6123528" y="689240"/>
                </a:lnTo>
                <a:lnTo>
                  <a:pt x="6134512" y="691986"/>
                </a:lnTo>
                <a:lnTo>
                  <a:pt x="6126274" y="697478"/>
                </a:lnTo>
                <a:lnTo>
                  <a:pt x="6120782" y="702970"/>
                </a:lnTo>
                <a:lnTo>
                  <a:pt x="6112544" y="702970"/>
                </a:lnTo>
                <a:lnTo>
                  <a:pt x="6093323" y="697478"/>
                </a:lnTo>
                <a:lnTo>
                  <a:pt x="6079593" y="694732"/>
                </a:lnTo>
                <a:lnTo>
                  <a:pt x="6063117" y="697478"/>
                </a:lnTo>
                <a:lnTo>
                  <a:pt x="6057625" y="705716"/>
                </a:lnTo>
                <a:lnTo>
                  <a:pt x="6052133" y="711208"/>
                </a:lnTo>
                <a:lnTo>
                  <a:pt x="6046641" y="711208"/>
                </a:lnTo>
                <a:lnTo>
                  <a:pt x="6032911" y="711208"/>
                </a:lnTo>
                <a:lnTo>
                  <a:pt x="6019181" y="708462"/>
                </a:lnTo>
                <a:lnTo>
                  <a:pt x="5991721" y="700224"/>
                </a:lnTo>
                <a:lnTo>
                  <a:pt x="5972500" y="691986"/>
                </a:lnTo>
                <a:lnTo>
                  <a:pt x="5961516" y="683748"/>
                </a:lnTo>
                <a:close/>
                <a:moveTo>
                  <a:pt x="5074565" y="683748"/>
                </a:moveTo>
                <a:lnTo>
                  <a:pt x="5074565" y="689240"/>
                </a:lnTo>
                <a:lnTo>
                  <a:pt x="5074565" y="691986"/>
                </a:lnTo>
                <a:lnTo>
                  <a:pt x="5074565" y="694732"/>
                </a:lnTo>
                <a:lnTo>
                  <a:pt x="5080057" y="691986"/>
                </a:lnTo>
                <a:lnTo>
                  <a:pt x="5080057" y="689240"/>
                </a:lnTo>
                <a:lnTo>
                  <a:pt x="5077311" y="683748"/>
                </a:lnTo>
                <a:lnTo>
                  <a:pt x="5074565" y="683748"/>
                </a:lnTo>
                <a:close/>
                <a:moveTo>
                  <a:pt x="1430655" y="672764"/>
                </a:moveTo>
                <a:lnTo>
                  <a:pt x="1419670" y="675510"/>
                </a:lnTo>
                <a:lnTo>
                  <a:pt x="1416924" y="681002"/>
                </a:lnTo>
                <a:lnTo>
                  <a:pt x="1408686" y="683748"/>
                </a:lnTo>
                <a:lnTo>
                  <a:pt x="1408686" y="689240"/>
                </a:lnTo>
                <a:lnTo>
                  <a:pt x="1414179" y="689240"/>
                </a:lnTo>
                <a:lnTo>
                  <a:pt x="1416924" y="694732"/>
                </a:lnTo>
                <a:lnTo>
                  <a:pt x="1419670" y="702970"/>
                </a:lnTo>
                <a:lnTo>
                  <a:pt x="1425162" y="705716"/>
                </a:lnTo>
                <a:lnTo>
                  <a:pt x="1430655" y="705716"/>
                </a:lnTo>
                <a:lnTo>
                  <a:pt x="1441637" y="700224"/>
                </a:lnTo>
                <a:lnTo>
                  <a:pt x="1447130" y="691986"/>
                </a:lnTo>
                <a:lnTo>
                  <a:pt x="1452622" y="683748"/>
                </a:lnTo>
                <a:lnTo>
                  <a:pt x="1444383" y="678256"/>
                </a:lnTo>
                <a:lnTo>
                  <a:pt x="1438891" y="675510"/>
                </a:lnTo>
                <a:lnTo>
                  <a:pt x="1430655" y="672764"/>
                </a:lnTo>
                <a:close/>
                <a:moveTo>
                  <a:pt x="966584" y="670018"/>
                </a:moveTo>
                <a:lnTo>
                  <a:pt x="963838" y="672764"/>
                </a:lnTo>
                <a:lnTo>
                  <a:pt x="961092" y="675510"/>
                </a:lnTo>
                <a:lnTo>
                  <a:pt x="966584" y="675510"/>
                </a:lnTo>
                <a:lnTo>
                  <a:pt x="966584" y="670018"/>
                </a:lnTo>
                <a:close/>
                <a:moveTo>
                  <a:pt x="5664950" y="670018"/>
                </a:moveTo>
                <a:lnTo>
                  <a:pt x="5664950" y="675510"/>
                </a:lnTo>
                <a:lnTo>
                  <a:pt x="5670442" y="675510"/>
                </a:lnTo>
                <a:lnTo>
                  <a:pt x="5670442" y="670018"/>
                </a:lnTo>
                <a:lnTo>
                  <a:pt x="5664950" y="670018"/>
                </a:lnTo>
                <a:close/>
                <a:moveTo>
                  <a:pt x="5272275" y="670018"/>
                </a:moveTo>
                <a:lnTo>
                  <a:pt x="5269529" y="675510"/>
                </a:lnTo>
                <a:lnTo>
                  <a:pt x="5269529" y="678256"/>
                </a:lnTo>
                <a:lnTo>
                  <a:pt x="5272275" y="678256"/>
                </a:lnTo>
                <a:lnTo>
                  <a:pt x="5275021" y="675510"/>
                </a:lnTo>
                <a:lnTo>
                  <a:pt x="5275021" y="670018"/>
                </a:lnTo>
                <a:lnTo>
                  <a:pt x="5272275" y="670018"/>
                </a:lnTo>
                <a:close/>
                <a:moveTo>
                  <a:pt x="5096533" y="667272"/>
                </a:moveTo>
                <a:lnTo>
                  <a:pt x="5096533" y="675510"/>
                </a:lnTo>
                <a:lnTo>
                  <a:pt x="5099279" y="675510"/>
                </a:lnTo>
                <a:lnTo>
                  <a:pt x="5102025" y="675510"/>
                </a:lnTo>
                <a:lnTo>
                  <a:pt x="5102025" y="670018"/>
                </a:lnTo>
                <a:lnTo>
                  <a:pt x="5099279" y="667272"/>
                </a:lnTo>
                <a:lnTo>
                  <a:pt x="5096533" y="667272"/>
                </a:lnTo>
                <a:close/>
                <a:moveTo>
                  <a:pt x="5110263" y="664526"/>
                </a:moveTo>
                <a:lnTo>
                  <a:pt x="5110263" y="667272"/>
                </a:lnTo>
                <a:lnTo>
                  <a:pt x="5107517" y="670018"/>
                </a:lnTo>
                <a:lnTo>
                  <a:pt x="5110263" y="675510"/>
                </a:lnTo>
                <a:lnTo>
                  <a:pt x="5115755" y="675510"/>
                </a:lnTo>
                <a:lnTo>
                  <a:pt x="5118501" y="672764"/>
                </a:lnTo>
                <a:lnTo>
                  <a:pt x="5118501" y="667272"/>
                </a:lnTo>
                <a:lnTo>
                  <a:pt x="5115755" y="667272"/>
                </a:lnTo>
                <a:lnTo>
                  <a:pt x="5113009" y="664526"/>
                </a:lnTo>
                <a:lnTo>
                  <a:pt x="5110263" y="664526"/>
                </a:lnTo>
                <a:close/>
                <a:moveTo>
                  <a:pt x="777112" y="664526"/>
                </a:moveTo>
                <a:lnTo>
                  <a:pt x="777112" y="667272"/>
                </a:lnTo>
                <a:lnTo>
                  <a:pt x="774366" y="667272"/>
                </a:lnTo>
                <a:lnTo>
                  <a:pt x="774366" y="672764"/>
                </a:lnTo>
                <a:lnTo>
                  <a:pt x="779857" y="672764"/>
                </a:lnTo>
                <a:lnTo>
                  <a:pt x="779857" y="670018"/>
                </a:lnTo>
                <a:lnTo>
                  <a:pt x="782603" y="667272"/>
                </a:lnTo>
                <a:lnTo>
                  <a:pt x="779857" y="667272"/>
                </a:lnTo>
                <a:lnTo>
                  <a:pt x="779857" y="664526"/>
                </a:lnTo>
                <a:lnTo>
                  <a:pt x="777112" y="664526"/>
                </a:lnTo>
                <a:close/>
                <a:moveTo>
                  <a:pt x="5145960" y="659034"/>
                </a:moveTo>
                <a:lnTo>
                  <a:pt x="5134976" y="661780"/>
                </a:lnTo>
                <a:lnTo>
                  <a:pt x="5132230" y="667272"/>
                </a:lnTo>
                <a:lnTo>
                  <a:pt x="5132230" y="670018"/>
                </a:lnTo>
                <a:lnTo>
                  <a:pt x="5129485" y="672764"/>
                </a:lnTo>
                <a:lnTo>
                  <a:pt x="5129485" y="678256"/>
                </a:lnTo>
                <a:lnTo>
                  <a:pt x="5126739" y="683748"/>
                </a:lnTo>
                <a:lnTo>
                  <a:pt x="5132230" y="689240"/>
                </a:lnTo>
                <a:lnTo>
                  <a:pt x="5134976" y="694732"/>
                </a:lnTo>
                <a:lnTo>
                  <a:pt x="5143214" y="697478"/>
                </a:lnTo>
                <a:lnTo>
                  <a:pt x="5148706" y="700224"/>
                </a:lnTo>
                <a:lnTo>
                  <a:pt x="5151452" y="697478"/>
                </a:lnTo>
                <a:lnTo>
                  <a:pt x="5159690" y="697478"/>
                </a:lnTo>
                <a:lnTo>
                  <a:pt x="5159690" y="694732"/>
                </a:lnTo>
                <a:lnTo>
                  <a:pt x="5165182" y="689240"/>
                </a:lnTo>
                <a:lnTo>
                  <a:pt x="5170674" y="686494"/>
                </a:lnTo>
                <a:lnTo>
                  <a:pt x="5170674" y="678256"/>
                </a:lnTo>
                <a:lnTo>
                  <a:pt x="5167928" y="678256"/>
                </a:lnTo>
                <a:lnTo>
                  <a:pt x="5167928" y="675510"/>
                </a:lnTo>
                <a:lnTo>
                  <a:pt x="5167928" y="670018"/>
                </a:lnTo>
                <a:lnTo>
                  <a:pt x="5162436" y="664526"/>
                </a:lnTo>
                <a:lnTo>
                  <a:pt x="5159690" y="659034"/>
                </a:lnTo>
                <a:lnTo>
                  <a:pt x="5145960" y="659034"/>
                </a:lnTo>
                <a:close/>
                <a:moveTo>
                  <a:pt x="1562461" y="656288"/>
                </a:moveTo>
                <a:lnTo>
                  <a:pt x="1559715" y="659034"/>
                </a:lnTo>
                <a:lnTo>
                  <a:pt x="1562461" y="664526"/>
                </a:lnTo>
                <a:lnTo>
                  <a:pt x="1567952" y="667272"/>
                </a:lnTo>
                <a:lnTo>
                  <a:pt x="1570699" y="664526"/>
                </a:lnTo>
                <a:lnTo>
                  <a:pt x="1570699" y="656288"/>
                </a:lnTo>
                <a:lnTo>
                  <a:pt x="1562461" y="656288"/>
                </a:lnTo>
                <a:close/>
                <a:moveTo>
                  <a:pt x="5755567" y="653542"/>
                </a:moveTo>
                <a:lnTo>
                  <a:pt x="5752821" y="656288"/>
                </a:lnTo>
                <a:lnTo>
                  <a:pt x="5750075" y="659034"/>
                </a:lnTo>
                <a:lnTo>
                  <a:pt x="5755567" y="659034"/>
                </a:lnTo>
                <a:lnTo>
                  <a:pt x="5755567" y="653542"/>
                </a:lnTo>
                <a:close/>
                <a:moveTo>
                  <a:pt x="5662204" y="653542"/>
                </a:moveTo>
                <a:lnTo>
                  <a:pt x="5670442" y="656288"/>
                </a:lnTo>
                <a:lnTo>
                  <a:pt x="5673188" y="656288"/>
                </a:lnTo>
                <a:lnTo>
                  <a:pt x="5678680" y="653542"/>
                </a:lnTo>
                <a:lnTo>
                  <a:pt x="5670442" y="653542"/>
                </a:lnTo>
                <a:lnTo>
                  <a:pt x="5662204" y="653542"/>
                </a:lnTo>
                <a:close/>
                <a:moveTo>
                  <a:pt x="5181658" y="653542"/>
                </a:moveTo>
                <a:lnTo>
                  <a:pt x="5187150" y="653542"/>
                </a:lnTo>
                <a:lnTo>
                  <a:pt x="5187150" y="659034"/>
                </a:lnTo>
                <a:lnTo>
                  <a:pt x="5181658" y="659034"/>
                </a:lnTo>
                <a:lnTo>
                  <a:pt x="5181658" y="653542"/>
                </a:lnTo>
                <a:close/>
                <a:moveTo>
                  <a:pt x="5121247" y="653542"/>
                </a:moveTo>
                <a:lnTo>
                  <a:pt x="5121247" y="656288"/>
                </a:lnTo>
                <a:lnTo>
                  <a:pt x="5118501" y="656288"/>
                </a:lnTo>
                <a:lnTo>
                  <a:pt x="5118501" y="659034"/>
                </a:lnTo>
                <a:lnTo>
                  <a:pt x="5121247" y="659034"/>
                </a:lnTo>
                <a:lnTo>
                  <a:pt x="5123993" y="659034"/>
                </a:lnTo>
                <a:lnTo>
                  <a:pt x="5126739" y="659034"/>
                </a:lnTo>
                <a:lnTo>
                  <a:pt x="5126739" y="656288"/>
                </a:lnTo>
                <a:lnTo>
                  <a:pt x="5123993" y="656288"/>
                </a:lnTo>
                <a:lnTo>
                  <a:pt x="5123993" y="653542"/>
                </a:lnTo>
                <a:lnTo>
                  <a:pt x="5121247" y="653542"/>
                </a:lnTo>
                <a:close/>
                <a:moveTo>
                  <a:pt x="5717124" y="648050"/>
                </a:moveTo>
                <a:lnTo>
                  <a:pt x="5719870" y="650796"/>
                </a:lnTo>
                <a:lnTo>
                  <a:pt x="5728108" y="653542"/>
                </a:lnTo>
                <a:lnTo>
                  <a:pt x="5728108" y="650796"/>
                </a:lnTo>
                <a:lnTo>
                  <a:pt x="5728108" y="648050"/>
                </a:lnTo>
                <a:lnTo>
                  <a:pt x="5717124" y="648050"/>
                </a:lnTo>
                <a:close/>
                <a:moveTo>
                  <a:pt x="5596301" y="648050"/>
                </a:moveTo>
                <a:lnTo>
                  <a:pt x="5593555" y="650796"/>
                </a:lnTo>
                <a:lnTo>
                  <a:pt x="5599047" y="653542"/>
                </a:lnTo>
                <a:lnTo>
                  <a:pt x="5601793" y="653542"/>
                </a:lnTo>
                <a:lnTo>
                  <a:pt x="5604539" y="650796"/>
                </a:lnTo>
                <a:lnTo>
                  <a:pt x="5599047" y="648050"/>
                </a:lnTo>
                <a:lnTo>
                  <a:pt x="5596301" y="648050"/>
                </a:lnTo>
                <a:close/>
                <a:moveTo>
                  <a:pt x="1545985" y="642559"/>
                </a:moveTo>
                <a:lnTo>
                  <a:pt x="1543239" y="648051"/>
                </a:lnTo>
                <a:lnTo>
                  <a:pt x="1545985" y="648051"/>
                </a:lnTo>
                <a:lnTo>
                  <a:pt x="1551477" y="650797"/>
                </a:lnTo>
                <a:lnTo>
                  <a:pt x="1551477" y="642559"/>
                </a:lnTo>
                <a:lnTo>
                  <a:pt x="1545985" y="642559"/>
                </a:lnTo>
                <a:close/>
                <a:moveTo>
                  <a:pt x="741414" y="642559"/>
                </a:moveTo>
                <a:lnTo>
                  <a:pt x="741414" y="650797"/>
                </a:lnTo>
                <a:lnTo>
                  <a:pt x="746906" y="648051"/>
                </a:lnTo>
                <a:lnTo>
                  <a:pt x="746906" y="642559"/>
                </a:lnTo>
                <a:lnTo>
                  <a:pt x="741414" y="642559"/>
                </a:lnTo>
                <a:close/>
                <a:moveTo>
                  <a:pt x="5739091" y="642558"/>
                </a:moveTo>
                <a:lnTo>
                  <a:pt x="5739091" y="653542"/>
                </a:lnTo>
                <a:lnTo>
                  <a:pt x="5741837" y="650796"/>
                </a:lnTo>
                <a:lnTo>
                  <a:pt x="5741837" y="648050"/>
                </a:lnTo>
                <a:lnTo>
                  <a:pt x="5744583" y="642558"/>
                </a:lnTo>
                <a:lnTo>
                  <a:pt x="5739091" y="642558"/>
                </a:lnTo>
                <a:close/>
                <a:moveTo>
                  <a:pt x="1271389" y="637067"/>
                </a:moveTo>
                <a:lnTo>
                  <a:pt x="1271389" y="642559"/>
                </a:lnTo>
                <a:lnTo>
                  <a:pt x="1276880" y="642559"/>
                </a:lnTo>
                <a:lnTo>
                  <a:pt x="1276880" y="637067"/>
                </a:lnTo>
                <a:lnTo>
                  <a:pt x="1271389" y="637067"/>
                </a:lnTo>
                <a:close/>
                <a:moveTo>
                  <a:pt x="681002" y="637067"/>
                </a:moveTo>
                <a:lnTo>
                  <a:pt x="681002" y="642559"/>
                </a:lnTo>
                <a:lnTo>
                  <a:pt x="686494" y="642559"/>
                </a:lnTo>
                <a:lnTo>
                  <a:pt x="686494" y="637067"/>
                </a:lnTo>
                <a:lnTo>
                  <a:pt x="681002" y="637067"/>
                </a:lnTo>
                <a:close/>
                <a:moveTo>
                  <a:pt x="5626506" y="634320"/>
                </a:moveTo>
                <a:lnTo>
                  <a:pt x="5623760" y="637066"/>
                </a:lnTo>
                <a:lnTo>
                  <a:pt x="5626506" y="639812"/>
                </a:lnTo>
                <a:lnTo>
                  <a:pt x="5629252" y="639812"/>
                </a:lnTo>
                <a:lnTo>
                  <a:pt x="5631998" y="639812"/>
                </a:lnTo>
                <a:lnTo>
                  <a:pt x="5631998" y="637066"/>
                </a:lnTo>
                <a:lnTo>
                  <a:pt x="5631998" y="634320"/>
                </a:lnTo>
                <a:lnTo>
                  <a:pt x="5629252" y="634320"/>
                </a:lnTo>
                <a:lnTo>
                  <a:pt x="5626506" y="634320"/>
                </a:lnTo>
                <a:close/>
                <a:moveTo>
                  <a:pt x="1213722" y="631575"/>
                </a:moveTo>
                <a:lnTo>
                  <a:pt x="1205484" y="634321"/>
                </a:lnTo>
                <a:lnTo>
                  <a:pt x="1202739" y="639813"/>
                </a:lnTo>
                <a:lnTo>
                  <a:pt x="1210975" y="639813"/>
                </a:lnTo>
                <a:lnTo>
                  <a:pt x="1210975" y="637067"/>
                </a:lnTo>
                <a:lnTo>
                  <a:pt x="1213722" y="631575"/>
                </a:lnTo>
                <a:close/>
                <a:moveTo>
                  <a:pt x="5642982" y="628829"/>
                </a:moveTo>
                <a:lnTo>
                  <a:pt x="5642982" y="634320"/>
                </a:lnTo>
                <a:lnTo>
                  <a:pt x="5640236" y="634320"/>
                </a:lnTo>
                <a:lnTo>
                  <a:pt x="5637490" y="637066"/>
                </a:lnTo>
                <a:lnTo>
                  <a:pt x="5642982" y="637066"/>
                </a:lnTo>
                <a:lnTo>
                  <a:pt x="5645728" y="637066"/>
                </a:lnTo>
                <a:lnTo>
                  <a:pt x="5645728" y="628829"/>
                </a:lnTo>
                <a:lnTo>
                  <a:pt x="5642982" y="628829"/>
                </a:lnTo>
                <a:close/>
                <a:moveTo>
                  <a:pt x="5137722" y="628829"/>
                </a:moveTo>
                <a:lnTo>
                  <a:pt x="5134976" y="634320"/>
                </a:lnTo>
                <a:lnTo>
                  <a:pt x="5132230" y="645304"/>
                </a:lnTo>
                <a:lnTo>
                  <a:pt x="5129485" y="645304"/>
                </a:lnTo>
                <a:lnTo>
                  <a:pt x="5126739" y="648050"/>
                </a:lnTo>
                <a:lnTo>
                  <a:pt x="5132230" y="648050"/>
                </a:lnTo>
                <a:lnTo>
                  <a:pt x="5140468" y="650796"/>
                </a:lnTo>
                <a:lnTo>
                  <a:pt x="5143214" y="653542"/>
                </a:lnTo>
                <a:lnTo>
                  <a:pt x="5151452" y="653542"/>
                </a:lnTo>
                <a:lnTo>
                  <a:pt x="5156944" y="648050"/>
                </a:lnTo>
                <a:lnTo>
                  <a:pt x="5159690" y="642558"/>
                </a:lnTo>
                <a:lnTo>
                  <a:pt x="5159690" y="637066"/>
                </a:lnTo>
                <a:lnTo>
                  <a:pt x="5156944" y="628829"/>
                </a:lnTo>
                <a:lnTo>
                  <a:pt x="5145960" y="628829"/>
                </a:lnTo>
                <a:lnTo>
                  <a:pt x="5137722" y="628829"/>
                </a:lnTo>
                <a:close/>
                <a:moveTo>
                  <a:pt x="5077311" y="628829"/>
                </a:moveTo>
                <a:lnTo>
                  <a:pt x="5077311" y="637066"/>
                </a:lnTo>
                <a:lnTo>
                  <a:pt x="5080057" y="637066"/>
                </a:lnTo>
                <a:lnTo>
                  <a:pt x="5082803" y="634320"/>
                </a:lnTo>
                <a:lnTo>
                  <a:pt x="5085549" y="628829"/>
                </a:lnTo>
                <a:lnTo>
                  <a:pt x="5077311" y="628829"/>
                </a:lnTo>
                <a:close/>
                <a:moveTo>
                  <a:pt x="837523" y="628829"/>
                </a:moveTo>
                <a:lnTo>
                  <a:pt x="832031" y="631575"/>
                </a:lnTo>
                <a:lnTo>
                  <a:pt x="832031" y="634321"/>
                </a:lnTo>
                <a:lnTo>
                  <a:pt x="837523" y="634321"/>
                </a:lnTo>
                <a:lnTo>
                  <a:pt x="840269" y="631575"/>
                </a:lnTo>
                <a:lnTo>
                  <a:pt x="837523" y="631575"/>
                </a:lnTo>
                <a:lnTo>
                  <a:pt x="837523" y="628829"/>
                </a:lnTo>
                <a:close/>
                <a:moveTo>
                  <a:pt x="867729" y="626083"/>
                </a:moveTo>
                <a:lnTo>
                  <a:pt x="864983" y="628829"/>
                </a:lnTo>
                <a:lnTo>
                  <a:pt x="867729" y="628829"/>
                </a:lnTo>
                <a:lnTo>
                  <a:pt x="867729" y="631575"/>
                </a:lnTo>
                <a:lnTo>
                  <a:pt x="867729" y="634321"/>
                </a:lnTo>
                <a:lnTo>
                  <a:pt x="873221" y="634321"/>
                </a:lnTo>
                <a:lnTo>
                  <a:pt x="875967" y="637067"/>
                </a:lnTo>
                <a:lnTo>
                  <a:pt x="878712" y="634321"/>
                </a:lnTo>
                <a:lnTo>
                  <a:pt x="881458" y="631575"/>
                </a:lnTo>
                <a:lnTo>
                  <a:pt x="875967" y="631575"/>
                </a:lnTo>
                <a:lnTo>
                  <a:pt x="873221" y="628829"/>
                </a:lnTo>
                <a:lnTo>
                  <a:pt x="867729" y="626083"/>
                </a:lnTo>
                <a:close/>
                <a:moveTo>
                  <a:pt x="5967008" y="626083"/>
                </a:moveTo>
                <a:lnTo>
                  <a:pt x="5950532" y="637066"/>
                </a:lnTo>
                <a:lnTo>
                  <a:pt x="5942294" y="642558"/>
                </a:lnTo>
                <a:lnTo>
                  <a:pt x="5942294" y="645304"/>
                </a:lnTo>
                <a:lnTo>
                  <a:pt x="5947786" y="648050"/>
                </a:lnTo>
                <a:lnTo>
                  <a:pt x="5950532" y="645304"/>
                </a:lnTo>
                <a:lnTo>
                  <a:pt x="5953278" y="645304"/>
                </a:lnTo>
                <a:lnTo>
                  <a:pt x="5961516" y="642558"/>
                </a:lnTo>
                <a:lnTo>
                  <a:pt x="5964262" y="639812"/>
                </a:lnTo>
                <a:lnTo>
                  <a:pt x="5967008" y="637066"/>
                </a:lnTo>
                <a:lnTo>
                  <a:pt x="5969754" y="631575"/>
                </a:lnTo>
                <a:lnTo>
                  <a:pt x="5967008" y="626083"/>
                </a:lnTo>
                <a:close/>
                <a:moveTo>
                  <a:pt x="5170674" y="626083"/>
                </a:moveTo>
                <a:lnTo>
                  <a:pt x="5167928" y="628829"/>
                </a:lnTo>
                <a:lnTo>
                  <a:pt x="5167928" y="631575"/>
                </a:lnTo>
                <a:lnTo>
                  <a:pt x="5170674" y="634320"/>
                </a:lnTo>
                <a:lnTo>
                  <a:pt x="5167928" y="639812"/>
                </a:lnTo>
                <a:lnTo>
                  <a:pt x="5165182" y="648050"/>
                </a:lnTo>
                <a:lnTo>
                  <a:pt x="5170674" y="653542"/>
                </a:lnTo>
                <a:lnTo>
                  <a:pt x="5173420" y="659034"/>
                </a:lnTo>
                <a:lnTo>
                  <a:pt x="5170674" y="661780"/>
                </a:lnTo>
                <a:lnTo>
                  <a:pt x="5176166" y="664526"/>
                </a:lnTo>
                <a:lnTo>
                  <a:pt x="5176166" y="667272"/>
                </a:lnTo>
                <a:lnTo>
                  <a:pt x="5189896" y="670018"/>
                </a:lnTo>
                <a:lnTo>
                  <a:pt x="5198134" y="667272"/>
                </a:lnTo>
                <a:lnTo>
                  <a:pt x="5206372" y="664526"/>
                </a:lnTo>
                <a:lnTo>
                  <a:pt x="5214610" y="659034"/>
                </a:lnTo>
                <a:lnTo>
                  <a:pt x="5211864" y="653542"/>
                </a:lnTo>
                <a:lnTo>
                  <a:pt x="5211864" y="648050"/>
                </a:lnTo>
                <a:lnTo>
                  <a:pt x="5214610" y="648050"/>
                </a:lnTo>
                <a:lnTo>
                  <a:pt x="5217356" y="639812"/>
                </a:lnTo>
                <a:lnTo>
                  <a:pt x="5214610" y="628829"/>
                </a:lnTo>
                <a:lnTo>
                  <a:pt x="5195388" y="626083"/>
                </a:lnTo>
                <a:lnTo>
                  <a:pt x="5184404" y="628829"/>
                </a:lnTo>
                <a:lnTo>
                  <a:pt x="5173420" y="631575"/>
                </a:lnTo>
                <a:lnTo>
                  <a:pt x="5173420" y="626083"/>
                </a:lnTo>
                <a:lnTo>
                  <a:pt x="5170674" y="626083"/>
                </a:lnTo>
                <a:close/>
                <a:moveTo>
                  <a:pt x="1458113" y="623337"/>
                </a:moveTo>
                <a:lnTo>
                  <a:pt x="1460859" y="623337"/>
                </a:lnTo>
                <a:lnTo>
                  <a:pt x="1460859" y="626083"/>
                </a:lnTo>
                <a:lnTo>
                  <a:pt x="1466353" y="626083"/>
                </a:lnTo>
                <a:lnTo>
                  <a:pt x="1469098" y="626083"/>
                </a:lnTo>
                <a:lnTo>
                  <a:pt x="1466353" y="628829"/>
                </a:lnTo>
                <a:lnTo>
                  <a:pt x="1460859" y="631575"/>
                </a:lnTo>
                <a:lnTo>
                  <a:pt x="1458113" y="623337"/>
                </a:lnTo>
                <a:close/>
                <a:moveTo>
                  <a:pt x="1367496" y="623337"/>
                </a:moveTo>
                <a:lnTo>
                  <a:pt x="1364751" y="628829"/>
                </a:lnTo>
                <a:lnTo>
                  <a:pt x="1362005" y="637067"/>
                </a:lnTo>
                <a:lnTo>
                  <a:pt x="1359260" y="650797"/>
                </a:lnTo>
                <a:lnTo>
                  <a:pt x="1370242" y="656288"/>
                </a:lnTo>
                <a:lnTo>
                  <a:pt x="1378481" y="656288"/>
                </a:lnTo>
                <a:lnTo>
                  <a:pt x="1389464" y="656288"/>
                </a:lnTo>
                <a:lnTo>
                  <a:pt x="1400448" y="650797"/>
                </a:lnTo>
                <a:lnTo>
                  <a:pt x="1400448" y="642559"/>
                </a:lnTo>
                <a:lnTo>
                  <a:pt x="1397703" y="639813"/>
                </a:lnTo>
                <a:lnTo>
                  <a:pt x="1394958" y="639813"/>
                </a:lnTo>
                <a:lnTo>
                  <a:pt x="1394958" y="628829"/>
                </a:lnTo>
                <a:lnTo>
                  <a:pt x="1389464" y="626083"/>
                </a:lnTo>
                <a:lnTo>
                  <a:pt x="1378481" y="623337"/>
                </a:lnTo>
                <a:lnTo>
                  <a:pt x="1367496" y="623337"/>
                </a:lnTo>
                <a:close/>
                <a:moveTo>
                  <a:pt x="1554223" y="620591"/>
                </a:moveTo>
                <a:lnTo>
                  <a:pt x="1551477" y="623337"/>
                </a:lnTo>
                <a:lnTo>
                  <a:pt x="1551477" y="626083"/>
                </a:lnTo>
                <a:lnTo>
                  <a:pt x="1551477" y="628829"/>
                </a:lnTo>
                <a:lnTo>
                  <a:pt x="1556969" y="628829"/>
                </a:lnTo>
                <a:lnTo>
                  <a:pt x="1556969" y="623337"/>
                </a:lnTo>
                <a:lnTo>
                  <a:pt x="1554223" y="620591"/>
                </a:lnTo>
                <a:close/>
                <a:moveTo>
                  <a:pt x="1221961" y="620591"/>
                </a:moveTo>
                <a:lnTo>
                  <a:pt x="1216469" y="623337"/>
                </a:lnTo>
                <a:lnTo>
                  <a:pt x="1216469" y="634321"/>
                </a:lnTo>
                <a:lnTo>
                  <a:pt x="1221961" y="639813"/>
                </a:lnTo>
                <a:lnTo>
                  <a:pt x="1230199" y="642559"/>
                </a:lnTo>
                <a:lnTo>
                  <a:pt x="1241182" y="642559"/>
                </a:lnTo>
                <a:lnTo>
                  <a:pt x="1241182" y="637067"/>
                </a:lnTo>
                <a:lnTo>
                  <a:pt x="1241182" y="634321"/>
                </a:lnTo>
                <a:lnTo>
                  <a:pt x="1243927" y="631575"/>
                </a:lnTo>
                <a:lnTo>
                  <a:pt x="1243927" y="626083"/>
                </a:lnTo>
                <a:lnTo>
                  <a:pt x="1230199" y="620591"/>
                </a:lnTo>
                <a:lnTo>
                  <a:pt x="1221961" y="620591"/>
                </a:lnTo>
                <a:close/>
                <a:moveTo>
                  <a:pt x="1208230" y="620591"/>
                </a:moveTo>
                <a:lnTo>
                  <a:pt x="1205484" y="623337"/>
                </a:lnTo>
                <a:lnTo>
                  <a:pt x="1202739" y="626083"/>
                </a:lnTo>
                <a:lnTo>
                  <a:pt x="1205484" y="628829"/>
                </a:lnTo>
                <a:lnTo>
                  <a:pt x="1210975" y="631575"/>
                </a:lnTo>
                <a:lnTo>
                  <a:pt x="1208230" y="626083"/>
                </a:lnTo>
                <a:lnTo>
                  <a:pt x="1208230" y="620591"/>
                </a:lnTo>
                <a:close/>
                <a:moveTo>
                  <a:pt x="5977992" y="620591"/>
                </a:moveTo>
                <a:lnTo>
                  <a:pt x="5975246" y="623337"/>
                </a:lnTo>
                <a:lnTo>
                  <a:pt x="5972500" y="626083"/>
                </a:lnTo>
                <a:lnTo>
                  <a:pt x="5972500" y="631575"/>
                </a:lnTo>
                <a:lnTo>
                  <a:pt x="5977992" y="642558"/>
                </a:lnTo>
                <a:lnTo>
                  <a:pt x="5983483" y="634320"/>
                </a:lnTo>
                <a:lnTo>
                  <a:pt x="5983483" y="626083"/>
                </a:lnTo>
                <a:lnTo>
                  <a:pt x="5980738" y="623337"/>
                </a:lnTo>
                <a:lnTo>
                  <a:pt x="5977992" y="620591"/>
                </a:lnTo>
                <a:close/>
                <a:moveTo>
                  <a:pt x="5695156" y="620591"/>
                </a:moveTo>
                <a:lnTo>
                  <a:pt x="5697902" y="628829"/>
                </a:lnTo>
                <a:lnTo>
                  <a:pt x="5703394" y="634320"/>
                </a:lnTo>
                <a:lnTo>
                  <a:pt x="5706140" y="628829"/>
                </a:lnTo>
                <a:lnTo>
                  <a:pt x="5703394" y="626083"/>
                </a:lnTo>
                <a:lnTo>
                  <a:pt x="5700648" y="623337"/>
                </a:lnTo>
                <a:lnTo>
                  <a:pt x="5695156" y="620591"/>
                </a:lnTo>
                <a:close/>
                <a:moveTo>
                  <a:pt x="5107517" y="620591"/>
                </a:moveTo>
                <a:lnTo>
                  <a:pt x="5104771" y="626083"/>
                </a:lnTo>
                <a:lnTo>
                  <a:pt x="5104771" y="631575"/>
                </a:lnTo>
                <a:lnTo>
                  <a:pt x="5107517" y="645304"/>
                </a:lnTo>
                <a:lnTo>
                  <a:pt x="5110263" y="645304"/>
                </a:lnTo>
                <a:lnTo>
                  <a:pt x="5113009" y="648050"/>
                </a:lnTo>
                <a:lnTo>
                  <a:pt x="5115755" y="648050"/>
                </a:lnTo>
                <a:lnTo>
                  <a:pt x="5118501" y="648050"/>
                </a:lnTo>
                <a:lnTo>
                  <a:pt x="5121247" y="642558"/>
                </a:lnTo>
                <a:lnTo>
                  <a:pt x="5123993" y="637066"/>
                </a:lnTo>
                <a:lnTo>
                  <a:pt x="5123993" y="628829"/>
                </a:lnTo>
                <a:lnTo>
                  <a:pt x="5123993" y="620591"/>
                </a:lnTo>
                <a:lnTo>
                  <a:pt x="5107517" y="620591"/>
                </a:lnTo>
                <a:close/>
                <a:moveTo>
                  <a:pt x="5250308" y="617845"/>
                </a:moveTo>
                <a:lnTo>
                  <a:pt x="5250308" y="623337"/>
                </a:lnTo>
                <a:lnTo>
                  <a:pt x="5253053" y="623337"/>
                </a:lnTo>
                <a:lnTo>
                  <a:pt x="5253053" y="626083"/>
                </a:lnTo>
                <a:lnTo>
                  <a:pt x="5255799" y="626083"/>
                </a:lnTo>
                <a:lnTo>
                  <a:pt x="5255799" y="623337"/>
                </a:lnTo>
                <a:lnTo>
                  <a:pt x="5258545" y="623337"/>
                </a:lnTo>
                <a:lnTo>
                  <a:pt x="5258545" y="620591"/>
                </a:lnTo>
                <a:lnTo>
                  <a:pt x="5255799" y="620591"/>
                </a:lnTo>
                <a:lnTo>
                  <a:pt x="5255799" y="617845"/>
                </a:lnTo>
                <a:lnTo>
                  <a:pt x="5253053" y="617845"/>
                </a:lnTo>
                <a:lnTo>
                  <a:pt x="5253053" y="620591"/>
                </a:lnTo>
                <a:lnTo>
                  <a:pt x="5250308" y="617845"/>
                </a:lnTo>
                <a:close/>
                <a:moveTo>
                  <a:pt x="5648474" y="615099"/>
                </a:moveTo>
                <a:lnTo>
                  <a:pt x="5642982" y="620591"/>
                </a:lnTo>
                <a:lnTo>
                  <a:pt x="5648474" y="620591"/>
                </a:lnTo>
                <a:lnTo>
                  <a:pt x="5651220" y="620591"/>
                </a:lnTo>
                <a:lnTo>
                  <a:pt x="5653966" y="623337"/>
                </a:lnTo>
                <a:lnTo>
                  <a:pt x="5656712" y="623337"/>
                </a:lnTo>
                <a:lnTo>
                  <a:pt x="5656712" y="617845"/>
                </a:lnTo>
                <a:lnTo>
                  <a:pt x="5653966" y="617845"/>
                </a:lnTo>
                <a:lnTo>
                  <a:pt x="5651220" y="617845"/>
                </a:lnTo>
                <a:lnTo>
                  <a:pt x="5648474" y="615099"/>
                </a:lnTo>
                <a:close/>
                <a:moveTo>
                  <a:pt x="744160" y="612353"/>
                </a:moveTo>
                <a:lnTo>
                  <a:pt x="741414" y="615099"/>
                </a:lnTo>
                <a:lnTo>
                  <a:pt x="746906" y="615099"/>
                </a:lnTo>
                <a:lnTo>
                  <a:pt x="749652" y="615099"/>
                </a:lnTo>
                <a:lnTo>
                  <a:pt x="752397" y="612353"/>
                </a:lnTo>
                <a:lnTo>
                  <a:pt x="746906" y="612353"/>
                </a:lnTo>
                <a:lnTo>
                  <a:pt x="744160" y="612353"/>
                </a:lnTo>
                <a:close/>
                <a:moveTo>
                  <a:pt x="5631998" y="609607"/>
                </a:moveTo>
                <a:lnTo>
                  <a:pt x="5631998" y="617845"/>
                </a:lnTo>
                <a:lnTo>
                  <a:pt x="5634744" y="615099"/>
                </a:lnTo>
                <a:lnTo>
                  <a:pt x="5634744" y="609607"/>
                </a:lnTo>
                <a:lnTo>
                  <a:pt x="5631998" y="609607"/>
                </a:lnTo>
                <a:close/>
                <a:moveTo>
                  <a:pt x="1378481" y="606861"/>
                </a:moveTo>
                <a:lnTo>
                  <a:pt x="1381227" y="612353"/>
                </a:lnTo>
                <a:lnTo>
                  <a:pt x="1383972" y="615099"/>
                </a:lnTo>
                <a:lnTo>
                  <a:pt x="1383972" y="606861"/>
                </a:lnTo>
                <a:lnTo>
                  <a:pt x="1378481" y="606861"/>
                </a:lnTo>
                <a:close/>
                <a:moveTo>
                  <a:pt x="5755567" y="604115"/>
                </a:moveTo>
                <a:lnTo>
                  <a:pt x="5755567" y="609607"/>
                </a:lnTo>
                <a:lnTo>
                  <a:pt x="5761059" y="609607"/>
                </a:lnTo>
                <a:lnTo>
                  <a:pt x="5763805" y="606861"/>
                </a:lnTo>
                <a:lnTo>
                  <a:pt x="5761059" y="606861"/>
                </a:lnTo>
                <a:lnTo>
                  <a:pt x="5755567" y="604115"/>
                </a:lnTo>
                <a:close/>
                <a:moveTo>
                  <a:pt x="5618268" y="601369"/>
                </a:moveTo>
                <a:lnTo>
                  <a:pt x="5612777" y="604115"/>
                </a:lnTo>
                <a:lnTo>
                  <a:pt x="5612777" y="609607"/>
                </a:lnTo>
                <a:lnTo>
                  <a:pt x="5615523" y="609607"/>
                </a:lnTo>
                <a:lnTo>
                  <a:pt x="5618268" y="609607"/>
                </a:lnTo>
                <a:lnTo>
                  <a:pt x="5621014" y="609607"/>
                </a:lnTo>
                <a:lnTo>
                  <a:pt x="5623760" y="609607"/>
                </a:lnTo>
                <a:lnTo>
                  <a:pt x="5623760" y="604115"/>
                </a:lnTo>
                <a:lnTo>
                  <a:pt x="5618268" y="601369"/>
                </a:lnTo>
                <a:close/>
                <a:moveTo>
                  <a:pt x="5151452" y="601369"/>
                </a:moveTo>
                <a:lnTo>
                  <a:pt x="5143214" y="604115"/>
                </a:lnTo>
                <a:lnTo>
                  <a:pt x="5143214" y="612353"/>
                </a:lnTo>
                <a:lnTo>
                  <a:pt x="5137722" y="612353"/>
                </a:lnTo>
                <a:lnTo>
                  <a:pt x="5134976" y="617845"/>
                </a:lnTo>
                <a:lnTo>
                  <a:pt x="5145960" y="615099"/>
                </a:lnTo>
                <a:lnTo>
                  <a:pt x="5159690" y="615099"/>
                </a:lnTo>
                <a:lnTo>
                  <a:pt x="5156944" y="612353"/>
                </a:lnTo>
                <a:lnTo>
                  <a:pt x="5159690" y="609607"/>
                </a:lnTo>
                <a:lnTo>
                  <a:pt x="5159690" y="604115"/>
                </a:lnTo>
                <a:lnTo>
                  <a:pt x="5151452" y="601369"/>
                </a:lnTo>
                <a:close/>
                <a:moveTo>
                  <a:pt x="5725362" y="598623"/>
                </a:moveTo>
                <a:lnTo>
                  <a:pt x="5725362" y="606861"/>
                </a:lnTo>
                <a:lnTo>
                  <a:pt x="5728108" y="606861"/>
                </a:lnTo>
                <a:lnTo>
                  <a:pt x="5728108" y="601369"/>
                </a:lnTo>
                <a:lnTo>
                  <a:pt x="5725362" y="598623"/>
                </a:lnTo>
                <a:close/>
                <a:moveTo>
                  <a:pt x="6395380" y="595877"/>
                </a:moveTo>
                <a:lnTo>
                  <a:pt x="6392634" y="598623"/>
                </a:lnTo>
                <a:lnTo>
                  <a:pt x="6392634" y="604115"/>
                </a:lnTo>
                <a:lnTo>
                  <a:pt x="6398126" y="604115"/>
                </a:lnTo>
                <a:lnTo>
                  <a:pt x="6400872" y="601369"/>
                </a:lnTo>
                <a:lnTo>
                  <a:pt x="6403618" y="598623"/>
                </a:lnTo>
                <a:lnTo>
                  <a:pt x="6400872" y="595877"/>
                </a:lnTo>
                <a:lnTo>
                  <a:pt x="6398126" y="595877"/>
                </a:lnTo>
                <a:lnTo>
                  <a:pt x="6395380" y="595877"/>
                </a:lnTo>
                <a:close/>
                <a:moveTo>
                  <a:pt x="5585317" y="595877"/>
                </a:moveTo>
                <a:lnTo>
                  <a:pt x="5579825" y="598623"/>
                </a:lnTo>
                <a:lnTo>
                  <a:pt x="5593555" y="598623"/>
                </a:lnTo>
                <a:lnTo>
                  <a:pt x="5601793" y="601369"/>
                </a:lnTo>
                <a:lnTo>
                  <a:pt x="5604539" y="604115"/>
                </a:lnTo>
                <a:lnTo>
                  <a:pt x="5601793" y="598623"/>
                </a:lnTo>
                <a:lnTo>
                  <a:pt x="5593555" y="595877"/>
                </a:lnTo>
                <a:lnTo>
                  <a:pt x="5585317" y="595877"/>
                </a:lnTo>
                <a:close/>
                <a:moveTo>
                  <a:pt x="1540493" y="595877"/>
                </a:moveTo>
                <a:lnTo>
                  <a:pt x="1537748" y="598623"/>
                </a:lnTo>
                <a:lnTo>
                  <a:pt x="1537748" y="601369"/>
                </a:lnTo>
                <a:lnTo>
                  <a:pt x="1540493" y="604115"/>
                </a:lnTo>
                <a:lnTo>
                  <a:pt x="1545985" y="604115"/>
                </a:lnTo>
                <a:lnTo>
                  <a:pt x="1545985" y="598623"/>
                </a:lnTo>
                <a:lnTo>
                  <a:pt x="1540493" y="595877"/>
                </a:lnTo>
                <a:close/>
                <a:moveTo>
                  <a:pt x="6422840" y="593131"/>
                </a:moveTo>
                <a:lnTo>
                  <a:pt x="6417348" y="598623"/>
                </a:lnTo>
                <a:lnTo>
                  <a:pt x="6414602" y="601369"/>
                </a:lnTo>
                <a:lnTo>
                  <a:pt x="6414602" y="604115"/>
                </a:lnTo>
                <a:lnTo>
                  <a:pt x="6417348" y="604115"/>
                </a:lnTo>
                <a:lnTo>
                  <a:pt x="6420094" y="606861"/>
                </a:lnTo>
                <a:lnTo>
                  <a:pt x="6420094" y="604115"/>
                </a:lnTo>
                <a:lnTo>
                  <a:pt x="6422840" y="601369"/>
                </a:lnTo>
                <a:lnTo>
                  <a:pt x="6422840" y="593131"/>
                </a:lnTo>
                <a:close/>
                <a:moveTo>
                  <a:pt x="5659458" y="593131"/>
                </a:moveTo>
                <a:lnTo>
                  <a:pt x="5659458" y="595877"/>
                </a:lnTo>
                <a:lnTo>
                  <a:pt x="5662204" y="598623"/>
                </a:lnTo>
                <a:lnTo>
                  <a:pt x="5664950" y="595877"/>
                </a:lnTo>
                <a:lnTo>
                  <a:pt x="5664950" y="593131"/>
                </a:lnTo>
                <a:lnTo>
                  <a:pt x="5662204" y="593131"/>
                </a:lnTo>
                <a:lnTo>
                  <a:pt x="5659458" y="593131"/>
                </a:lnTo>
                <a:close/>
                <a:moveTo>
                  <a:pt x="5615523" y="593131"/>
                </a:moveTo>
                <a:lnTo>
                  <a:pt x="5615523" y="598623"/>
                </a:lnTo>
                <a:lnTo>
                  <a:pt x="5621014" y="598623"/>
                </a:lnTo>
                <a:lnTo>
                  <a:pt x="5621014" y="593131"/>
                </a:lnTo>
                <a:lnTo>
                  <a:pt x="5615523" y="593131"/>
                </a:lnTo>
                <a:close/>
                <a:moveTo>
                  <a:pt x="5338179" y="593131"/>
                </a:moveTo>
                <a:lnTo>
                  <a:pt x="5340925" y="598623"/>
                </a:lnTo>
                <a:lnTo>
                  <a:pt x="5343671" y="601369"/>
                </a:lnTo>
                <a:lnTo>
                  <a:pt x="5346417" y="598623"/>
                </a:lnTo>
                <a:lnTo>
                  <a:pt x="5346417" y="595877"/>
                </a:lnTo>
                <a:lnTo>
                  <a:pt x="5346417" y="593131"/>
                </a:lnTo>
                <a:lnTo>
                  <a:pt x="5338179" y="593131"/>
                </a:lnTo>
                <a:close/>
                <a:moveTo>
                  <a:pt x="5975246" y="590385"/>
                </a:moveTo>
                <a:lnTo>
                  <a:pt x="5975246" y="593131"/>
                </a:lnTo>
                <a:lnTo>
                  <a:pt x="5972500" y="598623"/>
                </a:lnTo>
                <a:lnTo>
                  <a:pt x="5975246" y="601369"/>
                </a:lnTo>
                <a:lnTo>
                  <a:pt x="5977992" y="604115"/>
                </a:lnTo>
                <a:lnTo>
                  <a:pt x="5977992" y="595877"/>
                </a:lnTo>
                <a:lnTo>
                  <a:pt x="5977992" y="593131"/>
                </a:lnTo>
                <a:lnTo>
                  <a:pt x="5975246" y="590385"/>
                </a:lnTo>
                <a:close/>
                <a:moveTo>
                  <a:pt x="5629252" y="590385"/>
                </a:moveTo>
                <a:lnTo>
                  <a:pt x="5629252" y="598623"/>
                </a:lnTo>
                <a:lnTo>
                  <a:pt x="5631998" y="598623"/>
                </a:lnTo>
                <a:lnTo>
                  <a:pt x="5631998" y="593131"/>
                </a:lnTo>
                <a:lnTo>
                  <a:pt x="5629252" y="590385"/>
                </a:lnTo>
                <a:close/>
                <a:moveTo>
                  <a:pt x="5942294" y="587639"/>
                </a:moveTo>
                <a:lnTo>
                  <a:pt x="5939548" y="595877"/>
                </a:lnTo>
                <a:lnTo>
                  <a:pt x="5939548" y="604115"/>
                </a:lnTo>
                <a:lnTo>
                  <a:pt x="5945040" y="612353"/>
                </a:lnTo>
                <a:lnTo>
                  <a:pt x="5947786" y="617845"/>
                </a:lnTo>
                <a:lnTo>
                  <a:pt x="5947786" y="609607"/>
                </a:lnTo>
                <a:lnTo>
                  <a:pt x="5947786" y="601369"/>
                </a:lnTo>
                <a:lnTo>
                  <a:pt x="5947786" y="593131"/>
                </a:lnTo>
                <a:lnTo>
                  <a:pt x="5945040" y="590385"/>
                </a:lnTo>
                <a:lnTo>
                  <a:pt x="5942294" y="587639"/>
                </a:lnTo>
                <a:close/>
                <a:moveTo>
                  <a:pt x="5909342" y="587639"/>
                </a:moveTo>
                <a:lnTo>
                  <a:pt x="5909342" y="593131"/>
                </a:lnTo>
                <a:lnTo>
                  <a:pt x="5914834" y="593131"/>
                </a:lnTo>
                <a:lnTo>
                  <a:pt x="5914834" y="590385"/>
                </a:lnTo>
                <a:lnTo>
                  <a:pt x="5912088" y="587639"/>
                </a:lnTo>
                <a:lnTo>
                  <a:pt x="5909342" y="587639"/>
                </a:lnTo>
                <a:close/>
                <a:moveTo>
                  <a:pt x="1458113" y="584893"/>
                </a:moveTo>
                <a:lnTo>
                  <a:pt x="1452622" y="587639"/>
                </a:lnTo>
                <a:lnTo>
                  <a:pt x="1449877" y="590385"/>
                </a:lnTo>
                <a:lnTo>
                  <a:pt x="1444383" y="593131"/>
                </a:lnTo>
                <a:lnTo>
                  <a:pt x="1444383" y="590385"/>
                </a:lnTo>
                <a:lnTo>
                  <a:pt x="1438891" y="590385"/>
                </a:lnTo>
                <a:lnTo>
                  <a:pt x="1436146" y="593131"/>
                </a:lnTo>
                <a:lnTo>
                  <a:pt x="1438891" y="593131"/>
                </a:lnTo>
                <a:lnTo>
                  <a:pt x="1441637" y="593131"/>
                </a:lnTo>
                <a:lnTo>
                  <a:pt x="1444383" y="593131"/>
                </a:lnTo>
                <a:lnTo>
                  <a:pt x="1438891" y="595877"/>
                </a:lnTo>
                <a:lnTo>
                  <a:pt x="1438891" y="598623"/>
                </a:lnTo>
                <a:lnTo>
                  <a:pt x="1438891" y="601369"/>
                </a:lnTo>
                <a:lnTo>
                  <a:pt x="1436146" y="598623"/>
                </a:lnTo>
                <a:lnTo>
                  <a:pt x="1436146" y="595877"/>
                </a:lnTo>
                <a:lnTo>
                  <a:pt x="1430655" y="595877"/>
                </a:lnTo>
                <a:lnTo>
                  <a:pt x="1430655" y="598623"/>
                </a:lnTo>
                <a:lnTo>
                  <a:pt x="1430655" y="601369"/>
                </a:lnTo>
                <a:lnTo>
                  <a:pt x="1427907" y="598623"/>
                </a:lnTo>
                <a:lnTo>
                  <a:pt x="1427907" y="595877"/>
                </a:lnTo>
                <a:lnTo>
                  <a:pt x="1422416" y="598623"/>
                </a:lnTo>
                <a:lnTo>
                  <a:pt x="1422416" y="601369"/>
                </a:lnTo>
                <a:lnTo>
                  <a:pt x="1425162" y="604115"/>
                </a:lnTo>
                <a:lnTo>
                  <a:pt x="1433400" y="604115"/>
                </a:lnTo>
                <a:lnTo>
                  <a:pt x="1436146" y="604115"/>
                </a:lnTo>
                <a:lnTo>
                  <a:pt x="1438891" y="604115"/>
                </a:lnTo>
                <a:lnTo>
                  <a:pt x="1438891" y="609607"/>
                </a:lnTo>
                <a:lnTo>
                  <a:pt x="1438891" y="615099"/>
                </a:lnTo>
                <a:lnTo>
                  <a:pt x="1444383" y="617845"/>
                </a:lnTo>
                <a:lnTo>
                  <a:pt x="1449877" y="620591"/>
                </a:lnTo>
                <a:lnTo>
                  <a:pt x="1444383" y="620591"/>
                </a:lnTo>
                <a:lnTo>
                  <a:pt x="1444383" y="631575"/>
                </a:lnTo>
                <a:lnTo>
                  <a:pt x="1455368" y="634321"/>
                </a:lnTo>
                <a:lnTo>
                  <a:pt x="1458113" y="642559"/>
                </a:lnTo>
                <a:lnTo>
                  <a:pt x="1455368" y="645305"/>
                </a:lnTo>
                <a:lnTo>
                  <a:pt x="1455368" y="653542"/>
                </a:lnTo>
                <a:lnTo>
                  <a:pt x="1458113" y="653542"/>
                </a:lnTo>
                <a:lnTo>
                  <a:pt x="1458113" y="659034"/>
                </a:lnTo>
                <a:lnTo>
                  <a:pt x="1458113" y="664526"/>
                </a:lnTo>
                <a:lnTo>
                  <a:pt x="1455368" y="672764"/>
                </a:lnTo>
                <a:lnTo>
                  <a:pt x="1458113" y="686494"/>
                </a:lnTo>
                <a:lnTo>
                  <a:pt x="1471844" y="683748"/>
                </a:lnTo>
                <a:lnTo>
                  <a:pt x="1485574" y="683748"/>
                </a:lnTo>
                <a:lnTo>
                  <a:pt x="1499304" y="686494"/>
                </a:lnTo>
                <a:lnTo>
                  <a:pt x="1510287" y="683748"/>
                </a:lnTo>
                <a:lnTo>
                  <a:pt x="1515779" y="686494"/>
                </a:lnTo>
                <a:lnTo>
                  <a:pt x="1518526" y="683748"/>
                </a:lnTo>
                <a:lnTo>
                  <a:pt x="1518526" y="681002"/>
                </a:lnTo>
                <a:lnTo>
                  <a:pt x="1521272" y="675510"/>
                </a:lnTo>
                <a:lnTo>
                  <a:pt x="1529509" y="675510"/>
                </a:lnTo>
                <a:lnTo>
                  <a:pt x="1535002" y="672764"/>
                </a:lnTo>
                <a:lnTo>
                  <a:pt x="1543239" y="667272"/>
                </a:lnTo>
                <a:lnTo>
                  <a:pt x="1543239" y="659034"/>
                </a:lnTo>
                <a:lnTo>
                  <a:pt x="1545985" y="653542"/>
                </a:lnTo>
                <a:lnTo>
                  <a:pt x="1543239" y="650797"/>
                </a:lnTo>
                <a:lnTo>
                  <a:pt x="1540493" y="645305"/>
                </a:lnTo>
                <a:lnTo>
                  <a:pt x="1535002" y="637067"/>
                </a:lnTo>
                <a:lnTo>
                  <a:pt x="1529509" y="631575"/>
                </a:lnTo>
                <a:lnTo>
                  <a:pt x="1513033" y="623337"/>
                </a:lnTo>
                <a:lnTo>
                  <a:pt x="1515779" y="620591"/>
                </a:lnTo>
                <a:lnTo>
                  <a:pt x="1513033" y="620591"/>
                </a:lnTo>
                <a:lnTo>
                  <a:pt x="1513033" y="617845"/>
                </a:lnTo>
                <a:lnTo>
                  <a:pt x="1510287" y="617845"/>
                </a:lnTo>
                <a:lnTo>
                  <a:pt x="1510287" y="620591"/>
                </a:lnTo>
                <a:lnTo>
                  <a:pt x="1496557" y="620591"/>
                </a:lnTo>
                <a:lnTo>
                  <a:pt x="1485574" y="620591"/>
                </a:lnTo>
                <a:lnTo>
                  <a:pt x="1480081" y="617845"/>
                </a:lnTo>
                <a:lnTo>
                  <a:pt x="1477335" y="615099"/>
                </a:lnTo>
                <a:lnTo>
                  <a:pt x="1474589" y="609607"/>
                </a:lnTo>
                <a:lnTo>
                  <a:pt x="1474589" y="604115"/>
                </a:lnTo>
                <a:lnTo>
                  <a:pt x="1480081" y="601369"/>
                </a:lnTo>
                <a:lnTo>
                  <a:pt x="1482829" y="598623"/>
                </a:lnTo>
                <a:lnTo>
                  <a:pt x="1469098" y="593131"/>
                </a:lnTo>
                <a:lnTo>
                  <a:pt x="1458113" y="584893"/>
                </a:lnTo>
                <a:close/>
                <a:moveTo>
                  <a:pt x="5697902" y="584893"/>
                </a:moveTo>
                <a:lnTo>
                  <a:pt x="5697902" y="598623"/>
                </a:lnTo>
                <a:lnTo>
                  <a:pt x="5703394" y="593131"/>
                </a:lnTo>
                <a:lnTo>
                  <a:pt x="5706140" y="590385"/>
                </a:lnTo>
                <a:lnTo>
                  <a:pt x="5706140" y="587639"/>
                </a:lnTo>
                <a:lnTo>
                  <a:pt x="5703394" y="590385"/>
                </a:lnTo>
                <a:lnTo>
                  <a:pt x="5700648" y="590385"/>
                </a:lnTo>
                <a:lnTo>
                  <a:pt x="5700648" y="587639"/>
                </a:lnTo>
                <a:lnTo>
                  <a:pt x="5697902" y="584893"/>
                </a:lnTo>
                <a:close/>
                <a:moveTo>
                  <a:pt x="1318068" y="582147"/>
                </a:moveTo>
                <a:lnTo>
                  <a:pt x="1318068" y="587639"/>
                </a:lnTo>
                <a:lnTo>
                  <a:pt x="1318068" y="590385"/>
                </a:lnTo>
                <a:lnTo>
                  <a:pt x="1320814" y="593131"/>
                </a:lnTo>
                <a:lnTo>
                  <a:pt x="1326308" y="593131"/>
                </a:lnTo>
                <a:lnTo>
                  <a:pt x="1326308" y="587639"/>
                </a:lnTo>
                <a:lnTo>
                  <a:pt x="1323562" y="582147"/>
                </a:lnTo>
                <a:lnTo>
                  <a:pt x="1318068" y="582147"/>
                </a:lnTo>
                <a:close/>
                <a:moveTo>
                  <a:pt x="5673188" y="582147"/>
                </a:moveTo>
                <a:lnTo>
                  <a:pt x="5673188" y="584893"/>
                </a:lnTo>
                <a:lnTo>
                  <a:pt x="5678680" y="584893"/>
                </a:lnTo>
                <a:lnTo>
                  <a:pt x="5678680" y="582147"/>
                </a:lnTo>
                <a:lnTo>
                  <a:pt x="5673188" y="582147"/>
                </a:lnTo>
                <a:close/>
                <a:moveTo>
                  <a:pt x="5516667" y="582147"/>
                </a:moveTo>
                <a:lnTo>
                  <a:pt x="5511175" y="584893"/>
                </a:lnTo>
                <a:lnTo>
                  <a:pt x="5519413" y="584893"/>
                </a:lnTo>
                <a:lnTo>
                  <a:pt x="5519413" y="582147"/>
                </a:lnTo>
                <a:lnTo>
                  <a:pt x="5516667" y="582147"/>
                </a:lnTo>
                <a:close/>
                <a:moveTo>
                  <a:pt x="5739091" y="579401"/>
                </a:moveTo>
                <a:lnTo>
                  <a:pt x="5733600" y="582147"/>
                </a:lnTo>
                <a:lnTo>
                  <a:pt x="5725362" y="582147"/>
                </a:lnTo>
                <a:lnTo>
                  <a:pt x="5725362" y="584893"/>
                </a:lnTo>
                <a:lnTo>
                  <a:pt x="5725362" y="587639"/>
                </a:lnTo>
                <a:lnTo>
                  <a:pt x="5728108" y="587639"/>
                </a:lnTo>
                <a:lnTo>
                  <a:pt x="5728108" y="590385"/>
                </a:lnTo>
                <a:lnTo>
                  <a:pt x="5739091" y="590385"/>
                </a:lnTo>
                <a:lnTo>
                  <a:pt x="5741837" y="584893"/>
                </a:lnTo>
                <a:lnTo>
                  <a:pt x="5741837" y="582147"/>
                </a:lnTo>
                <a:lnTo>
                  <a:pt x="5739091" y="579401"/>
                </a:lnTo>
                <a:close/>
                <a:moveTo>
                  <a:pt x="5711632" y="579401"/>
                </a:moveTo>
                <a:lnTo>
                  <a:pt x="5708886" y="582147"/>
                </a:lnTo>
                <a:lnTo>
                  <a:pt x="5708886" y="584893"/>
                </a:lnTo>
                <a:lnTo>
                  <a:pt x="5714378" y="584893"/>
                </a:lnTo>
                <a:lnTo>
                  <a:pt x="5717124" y="584893"/>
                </a:lnTo>
                <a:lnTo>
                  <a:pt x="5717124" y="582147"/>
                </a:lnTo>
                <a:lnTo>
                  <a:pt x="5711632" y="579401"/>
                </a:lnTo>
                <a:close/>
                <a:moveTo>
                  <a:pt x="5082803" y="579401"/>
                </a:moveTo>
                <a:lnTo>
                  <a:pt x="5080057" y="584893"/>
                </a:lnTo>
                <a:lnTo>
                  <a:pt x="5082803" y="587639"/>
                </a:lnTo>
                <a:lnTo>
                  <a:pt x="5085549" y="587639"/>
                </a:lnTo>
                <a:lnTo>
                  <a:pt x="5085549" y="579401"/>
                </a:lnTo>
                <a:lnTo>
                  <a:pt x="5082803" y="579401"/>
                </a:lnTo>
                <a:close/>
                <a:moveTo>
                  <a:pt x="1556969" y="576655"/>
                </a:moveTo>
                <a:lnTo>
                  <a:pt x="1554223" y="579401"/>
                </a:lnTo>
                <a:lnTo>
                  <a:pt x="1554223" y="587639"/>
                </a:lnTo>
                <a:lnTo>
                  <a:pt x="1565206" y="587639"/>
                </a:lnTo>
                <a:lnTo>
                  <a:pt x="1565206" y="582147"/>
                </a:lnTo>
                <a:lnTo>
                  <a:pt x="1565206" y="579401"/>
                </a:lnTo>
                <a:lnTo>
                  <a:pt x="1556969" y="576655"/>
                </a:lnTo>
                <a:close/>
                <a:moveTo>
                  <a:pt x="1021503" y="576655"/>
                </a:moveTo>
                <a:lnTo>
                  <a:pt x="1021503" y="587639"/>
                </a:lnTo>
                <a:lnTo>
                  <a:pt x="1026995" y="587639"/>
                </a:lnTo>
                <a:lnTo>
                  <a:pt x="1032487" y="582147"/>
                </a:lnTo>
                <a:lnTo>
                  <a:pt x="1026995" y="579401"/>
                </a:lnTo>
                <a:lnTo>
                  <a:pt x="1021503" y="576655"/>
                </a:lnTo>
                <a:close/>
                <a:moveTo>
                  <a:pt x="5211864" y="571163"/>
                </a:moveTo>
                <a:lnTo>
                  <a:pt x="5211864" y="576655"/>
                </a:lnTo>
                <a:lnTo>
                  <a:pt x="5214610" y="573909"/>
                </a:lnTo>
                <a:lnTo>
                  <a:pt x="5214610" y="576655"/>
                </a:lnTo>
                <a:lnTo>
                  <a:pt x="5217356" y="576655"/>
                </a:lnTo>
                <a:lnTo>
                  <a:pt x="5220102" y="576655"/>
                </a:lnTo>
                <a:lnTo>
                  <a:pt x="5220102" y="573909"/>
                </a:lnTo>
                <a:lnTo>
                  <a:pt x="5217356" y="573909"/>
                </a:lnTo>
                <a:lnTo>
                  <a:pt x="5214610" y="571163"/>
                </a:lnTo>
                <a:lnTo>
                  <a:pt x="5211864" y="571163"/>
                </a:lnTo>
                <a:close/>
                <a:moveTo>
                  <a:pt x="1106629" y="571163"/>
                </a:moveTo>
                <a:lnTo>
                  <a:pt x="1103883" y="576655"/>
                </a:lnTo>
                <a:lnTo>
                  <a:pt x="1109376" y="576655"/>
                </a:lnTo>
                <a:lnTo>
                  <a:pt x="1114868" y="576655"/>
                </a:lnTo>
                <a:lnTo>
                  <a:pt x="1112121" y="571163"/>
                </a:lnTo>
                <a:lnTo>
                  <a:pt x="1109376" y="571163"/>
                </a:lnTo>
                <a:lnTo>
                  <a:pt x="1106629" y="571163"/>
                </a:lnTo>
                <a:close/>
                <a:moveTo>
                  <a:pt x="5612777" y="568417"/>
                </a:moveTo>
                <a:lnTo>
                  <a:pt x="5615523" y="573909"/>
                </a:lnTo>
                <a:lnTo>
                  <a:pt x="5621014" y="573909"/>
                </a:lnTo>
                <a:lnTo>
                  <a:pt x="5621014" y="568417"/>
                </a:lnTo>
                <a:lnTo>
                  <a:pt x="5612777" y="568417"/>
                </a:lnTo>
                <a:close/>
                <a:moveTo>
                  <a:pt x="5165182" y="568417"/>
                </a:moveTo>
                <a:lnTo>
                  <a:pt x="5159690" y="571163"/>
                </a:lnTo>
                <a:lnTo>
                  <a:pt x="5156944" y="573909"/>
                </a:lnTo>
                <a:lnTo>
                  <a:pt x="5159690" y="579401"/>
                </a:lnTo>
                <a:lnTo>
                  <a:pt x="5159690" y="584893"/>
                </a:lnTo>
                <a:lnTo>
                  <a:pt x="5167928" y="587639"/>
                </a:lnTo>
                <a:lnTo>
                  <a:pt x="5170674" y="593131"/>
                </a:lnTo>
                <a:lnTo>
                  <a:pt x="5178912" y="593131"/>
                </a:lnTo>
                <a:lnTo>
                  <a:pt x="5184404" y="593131"/>
                </a:lnTo>
                <a:lnTo>
                  <a:pt x="5187150" y="593131"/>
                </a:lnTo>
                <a:lnTo>
                  <a:pt x="5189896" y="587639"/>
                </a:lnTo>
                <a:lnTo>
                  <a:pt x="5187150" y="582147"/>
                </a:lnTo>
                <a:lnTo>
                  <a:pt x="5184404" y="579401"/>
                </a:lnTo>
                <a:lnTo>
                  <a:pt x="5178912" y="576655"/>
                </a:lnTo>
                <a:lnTo>
                  <a:pt x="5176166" y="573909"/>
                </a:lnTo>
                <a:lnTo>
                  <a:pt x="5176166" y="568417"/>
                </a:lnTo>
                <a:lnTo>
                  <a:pt x="5165182" y="568417"/>
                </a:lnTo>
                <a:close/>
                <a:moveTo>
                  <a:pt x="1425162" y="565671"/>
                </a:moveTo>
                <a:lnTo>
                  <a:pt x="1425162" y="573909"/>
                </a:lnTo>
                <a:lnTo>
                  <a:pt x="1430655" y="573909"/>
                </a:lnTo>
                <a:lnTo>
                  <a:pt x="1430655" y="565671"/>
                </a:lnTo>
                <a:lnTo>
                  <a:pt x="1427907" y="565671"/>
                </a:lnTo>
                <a:lnTo>
                  <a:pt x="1425162" y="565671"/>
                </a:lnTo>
                <a:close/>
                <a:moveTo>
                  <a:pt x="1356512" y="562925"/>
                </a:moveTo>
                <a:lnTo>
                  <a:pt x="1356512" y="571163"/>
                </a:lnTo>
                <a:lnTo>
                  <a:pt x="1362005" y="568417"/>
                </a:lnTo>
                <a:lnTo>
                  <a:pt x="1362005" y="562925"/>
                </a:lnTo>
                <a:lnTo>
                  <a:pt x="1356512" y="562925"/>
                </a:lnTo>
                <a:close/>
                <a:moveTo>
                  <a:pt x="760635" y="562925"/>
                </a:moveTo>
                <a:lnTo>
                  <a:pt x="755144" y="565671"/>
                </a:lnTo>
                <a:lnTo>
                  <a:pt x="755144" y="571163"/>
                </a:lnTo>
                <a:lnTo>
                  <a:pt x="760635" y="571163"/>
                </a:lnTo>
                <a:lnTo>
                  <a:pt x="760635" y="562925"/>
                </a:lnTo>
                <a:close/>
                <a:moveTo>
                  <a:pt x="5700648" y="560179"/>
                </a:moveTo>
                <a:lnTo>
                  <a:pt x="5700648" y="568417"/>
                </a:lnTo>
                <a:lnTo>
                  <a:pt x="5703394" y="571163"/>
                </a:lnTo>
                <a:lnTo>
                  <a:pt x="5706140" y="568417"/>
                </a:lnTo>
                <a:lnTo>
                  <a:pt x="5706140" y="562925"/>
                </a:lnTo>
                <a:lnTo>
                  <a:pt x="5703394" y="562925"/>
                </a:lnTo>
                <a:lnTo>
                  <a:pt x="5700648" y="560179"/>
                </a:lnTo>
                <a:close/>
                <a:moveTo>
                  <a:pt x="5599047" y="560179"/>
                </a:moveTo>
                <a:lnTo>
                  <a:pt x="5599047" y="565671"/>
                </a:lnTo>
                <a:lnTo>
                  <a:pt x="5604539" y="565671"/>
                </a:lnTo>
                <a:lnTo>
                  <a:pt x="5604539" y="560179"/>
                </a:lnTo>
                <a:lnTo>
                  <a:pt x="5599047" y="560179"/>
                </a:lnTo>
                <a:close/>
                <a:moveTo>
                  <a:pt x="1460859" y="557433"/>
                </a:moveTo>
                <a:lnTo>
                  <a:pt x="1460859" y="562925"/>
                </a:lnTo>
                <a:lnTo>
                  <a:pt x="1469098" y="562925"/>
                </a:lnTo>
                <a:lnTo>
                  <a:pt x="1466353" y="560179"/>
                </a:lnTo>
                <a:lnTo>
                  <a:pt x="1460859" y="557433"/>
                </a:lnTo>
                <a:close/>
                <a:moveTo>
                  <a:pt x="727684" y="557433"/>
                </a:moveTo>
                <a:lnTo>
                  <a:pt x="724938" y="560179"/>
                </a:lnTo>
                <a:lnTo>
                  <a:pt x="733176" y="562925"/>
                </a:lnTo>
                <a:lnTo>
                  <a:pt x="735922" y="565671"/>
                </a:lnTo>
                <a:lnTo>
                  <a:pt x="733176" y="560179"/>
                </a:lnTo>
                <a:lnTo>
                  <a:pt x="730430" y="557433"/>
                </a:lnTo>
                <a:lnTo>
                  <a:pt x="727684" y="557433"/>
                </a:lnTo>
                <a:close/>
                <a:moveTo>
                  <a:pt x="5637490" y="551941"/>
                </a:moveTo>
                <a:lnTo>
                  <a:pt x="5637490" y="554687"/>
                </a:lnTo>
                <a:lnTo>
                  <a:pt x="5640236" y="557433"/>
                </a:lnTo>
                <a:lnTo>
                  <a:pt x="5645728" y="554687"/>
                </a:lnTo>
                <a:lnTo>
                  <a:pt x="5651220" y="557433"/>
                </a:lnTo>
                <a:lnTo>
                  <a:pt x="5651220" y="551941"/>
                </a:lnTo>
                <a:lnTo>
                  <a:pt x="5645728" y="551941"/>
                </a:lnTo>
                <a:lnTo>
                  <a:pt x="5642982" y="551941"/>
                </a:lnTo>
                <a:lnTo>
                  <a:pt x="5637490" y="551941"/>
                </a:lnTo>
                <a:close/>
                <a:moveTo>
                  <a:pt x="5115755" y="551941"/>
                </a:moveTo>
                <a:lnTo>
                  <a:pt x="5113009" y="557433"/>
                </a:lnTo>
                <a:lnTo>
                  <a:pt x="5110263" y="562925"/>
                </a:lnTo>
                <a:lnTo>
                  <a:pt x="5107517" y="571163"/>
                </a:lnTo>
                <a:lnTo>
                  <a:pt x="5107517" y="579401"/>
                </a:lnTo>
                <a:lnTo>
                  <a:pt x="5104771" y="582147"/>
                </a:lnTo>
                <a:lnTo>
                  <a:pt x="5102025" y="584893"/>
                </a:lnTo>
                <a:lnTo>
                  <a:pt x="5102025" y="590385"/>
                </a:lnTo>
                <a:lnTo>
                  <a:pt x="5096533" y="593131"/>
                </a:lnTo>
                <a:lnTo>
                  <a:pt x="5102025" y="595877"/>
                </a:lnTo>
                <a:lnTo>
                  <a:pt x="5102025" y="604115"/>
                </a:lnTo>
                <a:lnTo>
                  <a:pt x="5115755" y="606861"/>
                </a:lnTo>
                <a:lnTo>
                  <a:pt x="5123993" y="606861"/>
                </a:lnTo>
                <a:lnTo>
                  <a:pt x="5129485" y="604115"/>
                </a:lnTo>
                <a:lnTo>
                  <a:pt x="5129485" y="593131"/>
                </a:lnTo>
                <a:lnTo>
                  <a:pt x="5129485" y="587639"/>
                </a:lnTo>
                <a:lnTo>
                  <a:pt x="5132230" y="587639"/>
                </a:lnTo>
                <a:lnTo>
                  <a:pt x="5137722" y="587639"/>
                </a:lnTo>
                <a:lnTo>
                  <a:pt x="5143214" y="582147"/>
                </a:lnTo>
                <a:lnTo>
                  <a:pt x="5143214" y="576655"/>
                </a:lnTo>
                <a:lnTo>
                  <a:pt x="5140468" y="576655"/>
                </a:lnTo>
                <a:lnTo>
                  <a:pt x="5137722" y="579401"/>
                </a:lnTo>
                <a:lnTo>
                  <a:pt x="5134976" y="579401"/>
                </a:lnTo>
                <a:lnTo>
                  <a:pt x="5132230" y="579401"/>
                </a:lnTo>
                <a:lnTo>
                  <a:pt x="5126739" y="584893"/>
                </a:lnTo>
                <a:lnTo>
                  <a:pt x="5118501" y="584893"/>
                </a:lnTo>
                <a:lnTo>
                  <a:pt x="5118501" y="582147"/>
                </a:lnTo>
                <a:lnTo>
                  <a:pt x="5115755" y="582147"/>
                </a:lnTo>
                <a:lnTo>
                  <a:pt x="5115755" y="579401"/>
                </a:lnTo>
                <a:lnTo>
                  <a:pt x="5115755" y="576655"/>
                </a:lnTo>
                <a:lnTo>
                  <a:pt x="5118501" y="579401"/>
                </a:lnTo>
                <a:lnTo>
                  <a:pt x="5121247" y="579401"/>
                </a:lnTo>
                <a:lnTo>
                  <a:pt x="5132230" y="576655"/>
                </a:lnTo>
                <a:lnTo>
                  <a:pt x="5137722" y="571163"/>
                </a:lnTo>
                <a:lnTo>
                  <a:pt x="5137722" y="562925"/>
                </a:lnTo>
                <a:lnTo>
                  <a:pt x="5132230" y="560179"/>
                </a:lnTo>
                <a:lnTo>
                  <a:pt x="5132230" y="554687"/>
                </a:lnTo>
                <a:lnTo>
                  <a:pt x="5126739" y="554687"/>
                </a:lnTo>
                <a:lnTo>
                  <a:pt x="5123993" y="554687"/>
                </a:lnTo>
                <a:lnTo>
                  <a:pt x="5121247" y="551941"/>
                </a:lnTo>
                <a:lnTo>
                  <a:pt x="5115755" y="551941"/>
                </a:lnTo>
                <a:close/>
                <a:moveTo>
                  <a:pt x="1323562" y="549195"/>
                </a:moveTo>
                <a:lnTo>
                  <a:pt x="1323562" y="554687"/>
                </a:lnTo>
                <a:lnTo>
                  <a:pt x="1329053" y="554687"/>
                </a:lnTo>
                <a:lnTo>
                  <a:pt x="1329053" y="549195"/>
                </a:lnTo>
                <a:lnTo>
                  <a:pt x="1323562" y="549195"/>
                </a:lnTo>
                <a:close/>
                <a:moveTo>
                  <a:pt x="1515779" y="546449"/>
                </a:moveTo>
                <a:lnTo>
                  <a:pt x="1510287" y="549195"/>
                </a:lnTo>
                <a:lnTo>
                  <a:pt x="1504796" y="549195"/>
                </a:lnTo>
                <a:lnTo>
                  <a:pt x="1491065" y="551941"/>
                </a:lnTo>
                <a:lnTo>
                  <a:pt x="1491065" y="560179"/>
                </a:lnTo>
                <a:lnTo>
                  <a:pt x="1502050" y="557433"/>
                </a:lnTo>
                <a:lnTo>
                  <a:pt x="1510287" y="554687"/>
                </a:lnTo>
                <a:lnTo>
                  <a:pt x="1513033" y="560179"/>
                </a:lnTo>
                <a:lnTo>
                  <a:pt x="1524017" y="560179"/>
                </a:lnTo>
                <a:lnTo>
                  <a:pt x="1524017" y="554687"/>
                </a:lnTo>
                <a:lnTo>
                  <a:pt x="1526763" y="551941"/>
                </a:lnTo>
                <a:lnTo>
                  <a:pt x="1529509" y="549195"/>
                </a:lnTo>
                <a:lnTo>
                  <a:pt x="1521272" y="549195"/>
                </a:lnTo>
                <a:lnTo>
                  <a:pt x="1515779" y="546449"/>
                </a:lnTo>
                <a:close/>
                <a:moveTo>
                  <a:pt x="5678680" y="546449"/>
                </a:moveTo>
                <a:lnTo>
                  <a:pt x="5675934" y="549195"/>
                </a:lnTo>
                <a:lnTo>
                  <a:pt x="5673188" y="549195"/>
                </a:lnTo>
                <a:lnTo>
                  <a:pt x="5673188" y="551941"/>
                </a:lnTo>
                <a:lnTo>
                  <a:pt x="5678680" y="554687"/>
                </a:lnTo>
                <a:lnTo>
                  <a:pt x="5684172" y="557433"/>
                </a:lnTo>
                <a:lnTo>
                  <a:pt x="5681426" y="560179"/>
                </a:lnTo>
                <a:lnTo>
                  <a:pt x="5681426" y="562925"/>
                </a:lnTo>
                <a:lnTo>
                  <a:pt x="5684172" y="560179"/>
                </a:lnTo>
                <a:lnTo>
                  <a:pt x="5684172" y="557433"/>
                </a:lnTo>
                <a:lnTo>
                  <a:pt x="5684172" y="554687"/>
                </a:lnTo>
                <a:lnTo>
                  <a:pt x="5684172" y="549195"/>
                </a:lnTo>
                <a:lnTo>
                  <a:pt x="5678680" y="546449"/>
                </a:lnTo>
                <a:close/>
                <a:moveTo>
                  <a:pt x="1298847" y="543703"/>
                </a:moveTo>
                <a:lnTo>
                  <a:pt x="1296101" y="546449"/>
                </a:lnTo>
                <a:lnTo>
                  <a:pt x="1296101" y="549195"/>
                </a:lnTo>
                <a:lnTo>
                  <a:pt x="1298847" y="551941"/>
                </a:lnTo>
                <a:lnTo>
                  <a:pt x="1304341" y="551941"/>
                </a:lnTo>
                <a:lnTo>
                  <a:pt x="1304341" y="546449"/>
                </a:lnTo>
                <a:lnTo>
                  <a:pt x="1301593" y="543703"/>
                </a:lnTo>
                <a:lnTo>
                  <a:pt x="1298847" y="543703"/>
                </a:lnTo>
                <a:close/>
                <a:moveTo>
                  <a:pt x="1394958" y="540957"/>
                </a:moveTo>
                <a:lnTo>
                  <a:pt x="1397703" y="543703"/>
                </a:lnTo>
                <a:lnTo>
                  <a:pt x="1394958" y="546449"/>
                </a:lnTo>
                <a:lnTo>
                  <a:pt x="1394958" y="549195"/>
                </a:lnTo>
                <a:lnTo>
                  <a:pt x="1403194" y="543703"/>
                </a:lnTo>
                <a:lnTo>
                  <a:pt x="1403194" y="549195"/>
                </a:lnTo>
                <a:lnTo>
                  <a:pt x="1408686" y="549195"/>
                </a:lnTo>
                <a:lnTo>
                  <a:pt x="1411434" y="546449"/>
                </a:lnTo>
                <a:lnTo>
                  <a:pt x="1414179" y="549195"/>
                </a:lnTo>
                <a:lnTo>
                  <a:pt x="1414179" y="540957"/>
                </a:lnTo>
                <a:lnTo>
                  <a:pt x="1394958" y="540957"/>
                </a:lnTo>
                <a:close/>
                <a:moveTo>
                  <a:pt x="5209118" y="538211"/>
                </a:moveTo>
                <a:lnTo>
                  <a:pt x="5200880" y="546449"/>
                </a:lnTo>
                <a:lnTo>
                  <a:pt x="5203626" y="549195"/>
                </a:lnTo>
                <a:lnTo>
                  <a:pt x="5206372" y="549195"/>
                </a:lnTo>
                <a:lnTo>
                  <a:pt x="5214610" y="549195"/>
                </a:lnTo>
                <a:lnTo>
                  <a:pt x="5220102" y="540957"/>
                </a:lnTo>
                <a:lnTo>
                  <a:pt x="5214610" y="538211"/>
                </a:lnTo>
                <a:lnTo>
                  <a:pt x="5209118" y="538211"/>
                </a:lnTo>
                <a:close/>
                <a:moveTo>
                  <a:pt x="840269" y="535465"/>
                </a:moveTo>
                <a:lnTo>
                  <a:pt x="837523" y="540957"/>
                </a:lnTo>
                <a:lnTo>
                  <a:pt x="840269" y="540957"/>
                </a:lnTo>
                <a:lnTo>
                  <a:pt x="843015" y="540957"/>
                </a:lnTo>
                <a:lnTo>
                  <a:pt x="845761" y="538211"/>
                </a:lnTo>
                <a:lnTo>
                  <a:pt x="845761" y="535465"/>
                </a:lnTo>
                <a:lnTo>
                  <a:pt x="840269" y="535465"/>
                </a:lnTo>
                <a:close/>
                <a:moveTo>
                  <a:pt x="5733600" y="532719"/>
                </a:moveTo>
                <a:lnTo>
                  <a:pt x="5730854" y="535465"/>
                </a:lnTo>
                <a:lnTo>
                  <a:pt x="5728108" y="535465"/>
                </a:lnTo>
                <a:lnTo>
                  <a:pt x="5722616" y="535465"/>
                </a:lnTo>
                <a:lnTo>
                  <a:pt x="5722616" y="540957"/>
                </a:lnTo>
                <a:lnTo>
                  <a:pt x="5730854" y="540957"/>
                </a:lnTo>
                <a:lnTo>
                  <a:pt x="5739091" y="540957"/>
                </a:lnTo>
                <a:lnTo>
                  <a:pt x="5739091" y="532719"/>
                </a:lnTo>
                <a:lnTo>
                  <a:pt x="5733600" y="532719"/>
                </a:lnTo>
                <a:close/>
                <a:moveTo>
                  <a:pt x="5629252" y="532719"/>
                </a:moveTo>
                <a:lnTo>
                  <a:pt x="5626506" y="535465"/>
                </a:lnTo>
                <a:lnTo>
                  <a:pt x="5623760" y="538211"/>
                </a:lnTo>
                <a:lnTo>
                  <a:pt x="5618268" y="540957"/>
                </a:lnTo>
                <a:lnTo>
                  <a:pt x="5618268" y="546449"/>
                </a:lnTo>
                <a:lnTo>
                  <a:pt x="5626506" y="549195"/>
                </a:lnTo>
                <a:lnTo>
                  <a:pt x="5629252" y="551941"/>
                </a:lnTo>
                <a:lnTo>
                  <a:pt x="5631998" y="551941"/>
                </a:lnTo>
                <a:lnTo>
                  <a:pt x="5634744" y="549195"/>
                </a:lnTo>
                <a:lnTo>
                  <a:pt x="5634744" y="546449"/>
                </a:lnTo>
                <a:lnTo>
                  <a:pt x="5637490" y="543703"/>
                </a:lnTo>
                <a:lnTo>
                  <a:pt x="5637490" y="538211"/>
                </a:lnTo>
                <a:lnTo>
                  <a:pt x="5634744" y="538211"/>
                </a:lnTo>
                <a:lnTo>
                  <a:pt x="5631998" y="532719"/>
                </a:lnTo>
                <a:lnTo>
                  <a:pt x="5629252" y="532719"/>
                </a:lnTo>
                <a:close/>
                <a:moveTo>
                  <a:pt x="5604539" y="532719"/>
                </a:moveTo>
                <a:lnTo>
                  <a:pt x="5599047" y="538211"/>
                </a:lnTo>
                <a:lnTo>
                  <a:pt x="5593555" y="546449"/>
                </a:lnTo>
                <a:lnTo>
                  <a:pt x="5590809" y="546449"/>
                </a:lnTo>
                <a:lnTo>
                  <a:pt x="5588063" y="543703"/>
                </a:lnTo>
                <a:lnTo>
                  <a:pt x="5588063" y="546449"/>
                </a:lnTo>
                <a:lnTo>
                  <a:pt x="5588063" y="549195"/>
                </a:lnTo>
                <a:lnTo>
                  <a:pt x="5588063" y="551941"/>
                </a:lnTo>
                <a:lnTo>
                  <a:pt x="5593555" y="549195"/>
                </a:lnTo>
                <a:lnTo>
                  <a:pt x="5601793" y="549195"/>
                </a:lnTo>
                <a:lnTo>
                  <a:pt x="5601793" y="543703"/>
                </a:lnTo>
                <a:lnTo>
                  <a:pt x="5601793" y="538211"/>
                </a:lnTo>
                <a:lnTo>
                  <a:pt x="5604539" y="532719"/>
                </a:lnTo>
                <a:close/>
                <a:moveTo>
                  <a:pt x="604115" y="532719"/>
                </a:moveTo>
                <a:lnTo>
                  <a:pt x="601369" y="535465"/>
                </a:lnTo>
                <a:lnTo>
                  <a:pt x="604115" y="538211"/>
                </a:lnTo>
                <a:lnTo>
                  <a:pt x="606861" y="538211"/>
                </a:lnTo>
                <a:lnTo>
                  <a:pt x="609607" y="538211"/>
                </a:lnTo>
                <a:lnTo>
                  <a:pt x="609607" y="532719"/>
                </a:lnTo>
                <a:lnTo>
                  <a:pt x="604115" y="532719"/>
                </a:lnTo>
                <a:close/>
                <a:moveTo>
                  <a:pt x="919902" y="529974"/>
                </a:moveTo>
                <a:lnTo>
                  <a:pt x="917156" y="532719"/>
                </a:lnTo>
                <a:lnTo>
                  <a:pt x="919902" y="535465"/>
                </a:lnTo>
                <a:lnTo>
                  <a:pt x="925395" y="535465"/>
                </a:lnTo>
                <a:lnTo>
                  <a:pt x="925395" y="529974"/>
                </a:lnTo>
                <a:lnTo>
                  <a:pt x="919902" y="529974"/>
                </a:lnTo>
                <a:close/>
                <a:moveTo>
                  <a:pt x="1469098" y="527228"/>
                </a:moveTo>
                <a:lnTo>
                  <a:pt x="1469098" y="532719"/>
                </a:lnTo>
                <a:lnTo>
                  <a:pt x="1469098" y="538211"/>
                </a:lnTo>
                <a:lnTo>
                  <a:pt x="1471844" y="535465"/>
                </a:lnTo>
                <a:lnTo>
                  <a:pt x="1474589" y="535465"/>
                </a:lnTo>
                <a:lnTo>
                  <a:pt x="1477335" y="535465"/>
                </a:lnTo>
                <a:lnTo>
                  <a:pt x="1477335" y="527228"/>
                </a:lnTo>
                <a:lnTo>
                  <a:pt x="1469098" y="527228"/>
                </a:lnTo>
                <a:close/>
                <a:moveTo>
                  <a:pt x="5074565" y="527227"/>
                </a:moveTo>
                <a:lnTo>
                  <a:pt x="5074565" y="538211"/>
                </a:lnTo>
                <a:lnTo>
                  <a:pt x="5077311" y="540957"/>
                </a:lnTo>
                <a:lnTo>
                  <a:pt x="5077311" y="546449"/>
                </a:lnTo>
                <a:lnTo>
                  <a:pt x="5069073" y="546449"/>
                </a:lnTo>
                <a:lnTo>
                  <a:pt x="5060835" y="546449"/>
                </a:lnTo>
                <a:lnTo>
                  <a:pt x="5060835" y="529973"/>
                </a:lnTo>
                <a:lnTo>
                  <a:pt x="5074565" y="527227"/>
                </a:lnTo>
                <a:close/>
                <a:moveTo>
                  <a:pt x="5832455" y="524481"/>
                </a:moveTo>
                <a:lnTo>
                  <a:pt x="5829709" y="527227"/>
                </a:lnTo>
                <a:lnTo>
                  <a:pt x="5826963" y="527227"/>
                </a:lnTo>
                <a:lnTo>
                  <a:pt x="5821471" y="527227"/>
                </a:lnTo>
                <a:lnTo>
                  <a:pt x="5824217" y="532719"/>
                </a:lnTo>
                <a:lnTo>
                  <a:pt x="5826963" y="535465"/>
                </a:lnTo>
                <a:lnTo>
                  <a:pt x="5826963" y="529973"/>
                </a:lnTo>
                <a:lnTo>
                  <a:pt x="5829709" y="529973"/>
                </a:lnTo>
                <a:lnTo>
                  <a:pt x="5832455" y="527227"/>
                </a:lnTo>
                <a:lnTo>
                  <a:pt x="5835201" y="524481"/>
                </a:lnTo>
                <a:lnTo>
                  <a:pt x="5832455" y="524481"/>
                </a:lnTo>
                <a:close/>
                <a:moveTo>
                  <a:pt x="1518526" y="521736"/>
                </a:moveTo>
                <a:lnTo>
                  <a:pt x="1518526" y="524482"/>
                </a:lnTo>
                <a:lnTo>
                  <a:pt x="1524017" y="524482"/>
                </a:lnTo>
                <a:lnTo>
                  <a:pt x="1526763" y="527228"/>
                </a:lnTo>
                <a:lnTo>
                  <a:pt x="1529509" y="529974"/>
                </a:lnTo>
                <a:lnTo>
                  <a:pt x="1535002" y="529974"/>
                </a:lnTo>
                <a:lnTo>
                  <a:pt x="1532255" y="524482"/>
                </a:lnTo>
                <a:lnTo>
                  <a:pt x="1529509" y="521736"/>
                </a:lnTo>
                <a:lnTo>
                  <a:pt x="1518526" y="521736"/>
                </a:lnTo>
                <a:close/>
                <a:moveTo>
                  <a:pt x="1510287" y="521736"/>
                </a:moveTo>
                <a:lnTo>
                  <a:pt x="1510287" y="527228"/>
                </a:lnTo>
                <a:lnTo>
                  <a:pt x="1518526" y="527228"/>
                </a:lnTo>
                <a:lnTo>
                  <a:pt x="1515779" y="521736"/>
                </a:lnTo>
                <a:lnTo>
                  <a:pt x="1510287" y="521736"/>
                </a:lnTo>
                <a:close/>
                <a:moveTo>
                  <a:pt x="1183518" y="518990"/>
                </a:moveTo>
                <a:lnTo>
                  <a:pt x="1183518" y="524482"/>
                </a:lnTo>
                <a:lnTo>
                  <a:pt x="1189009" y="524482"/>
                </a:lnTo>
                <a:lnTo>
                  <a:pt x="1189009" y="521736"/>
                </a:lnTo>
                <a:lnTo>
                  <a:pt x="1186263" y="521736"/>
                </a:lnTo>
                <a:lnTo>
                  <a:pt x="1186263" y="518990"/>
                </a:lnTo>
                <a:lnTo>
                  <a:pt x="1183518" y="518990"/>
                </a:lnTo>
                <a:close/>
                <a:moveTo>
                  <a:pt x="5357401" y="518989"/>
                </a:moveTo>
                <a:lnTo>
                  <a:pt x="5354655" y="521735"/>
                </a:lnTo>
                <a:lnTo>
                  <a:pt x="5354655" y="524481"/>
                </a:lnTo>
                <a:lnTo>
                  <a:pt x="5354655" y="527227"/>
                </a:lnTo>
                <a:lnTo>
                  <a:pt x="5357401" y="527227"/>
                </a:lnTo>
                <a:lnTo>
                  <a:pt x="5357401" y="529973"/>
                </a:lnTo>
                <a:lnTo>
                  <a:pt x="5371131" y="529973"/>
                </a:lnTo>
                <a:lnTo>
                  <a:pt x="5371131" y="524481"/>
                </a:lnTo>
                <a:lnTo>
                  <a:pt x="5371131" y="521735"/>
                </a:lnTo>
                <a:lnTo>
                  <a:pt x="5365639" y="518989"/>
                </a:lnTo>
                <a:lnTo>
                  <a:pt x="5357401" y="518989"/>
                </a:lnTo>
                <a:close/>
                <a:moveTo>
                  <a:pt x="337755" y="516244"/>
                </a:moveTo>
                <a:lnTo>
                  <a:pt x="337755" y="521736"/>
                </a:lnTo>
                <a:lnTo>
                  <a:pt x="343247" y="524482"/>
                </a:lnTo>
                <a:lnTo>
                  <a:pt x="343247" y="516244"/>
                </a:lnTo>
                <a:lnTo>
                  <a:pt x="337755" y="516244"/>
                </a:lnTo>
                <a:close/>
                <a:moveTo>
                  <a:pt x="5673188" y="516243"/>
                </a:moveTo>
                <a:lnTo>
                  <a:pt x="5664950" y="518989"/>
                </a:lnTo>
                <a:lnTo>
                  <a:pt x="5662204" y="518989"/>
                </a:lnTo>
                <a:lnTo>
                  <a:pt x="5659458" y="518989"/>
                </a:lnTo>
                <a:lnTo>
                  <a:pt x="5659458" y="521735"/>
                </a:lnTo>
                <a:lnTo>
                  <a:pt x="5664950" y="521735"/>
                </a:lnTo>
                <a:lnTo>
                  <a:pt x="5667696" y="524481"/>
                </a:lnTo>
                <a:lnTo>
                  <a:pt x="5667696" y="521735"/>
                </a:lnTo>
                <a:lnTo>
                  <a:pt x="5673188" y="521735"/>
                </a:lnTo>
                <a:lnTo>
                  <a:pt x="5673188" y="516243"/>
                </a:lnTo>
                <a:close/>
                <a:moveTo>
                  <a:pt x="518990" y="513498"/>
                </a:moveTo>
                <a:lnTo>
                  <a:pt x="516244" y="516244"/>
                </a:lnTo>
                <a:lnTo>
                  <a:pt x="524482" y="516244"/>
                </a:lnTo>
                <a:lnTo>
                  <a:pt x="524482" y="513498"/>
                </a:lnTo>
                <a:lnTo>
                  <a:pt x="518990" y="513498"/>
                </a:lnTo>
                <a:close/>
                <a:moveTo>
                  <a:pt x="1510287" y="510752"/>
                </a:moveTo>
                <a:lnTo>
                  <a:pt x="1510287" y="513498"/>
                </a:lnTo>
                <a:lnTo>
                  <a:pt x="1507541" y="513498"/>
                </a:lnTo>
                <a:lnTo>
                  <a:pt x="1507541" y="516244"/>
                </a:lnTo>
                <a:lnTo>
                  <a:pt x="1510287" y="516244"/>
                </a:lnTo>
                <a:lnTo>
                  <a:pt x="1510287" y="518990"/>
                </a:lnTo>
                <a:lnTo>
                  <a:pt x="1513033" y="518990"/>
                </a:lnTo>
                <a:lnTo>
                  <a:pt x="1513033" y="516244"/>
                </a:lnTo>
                <a:lnTo>
                  <a:pt x="1515779" y="516244"/>
                </a:lnTo>
                <a:lnTo>
                  <a:pt x="1515779" y="513498"/>
                </a:lnTo>
                <a:lnTo>
                  <a:pt x="1513033" y="513498"/>
                </a:lnTo>
                <a:lnTo>
                  <a:pt x="1513033" y="510752"/>
                </a:lnTo>
                <a:lnTo>
                  <a:pt x="1510287" y="510752"/>
                </a:lnTo>
                <a:close/>
                <a:moveTo>
                  <a:pt x="5286005" y="508006"/>
                </a:moveTo>
                <a:lnTo>
                  <a:pt x="5288751" y="513497"/>
                </a:lnTo>
                <a:lnTo>
                  <a:pt x="5294243" y="513497"/>
                </a:lnTo>
                <a:lnTo>
                  <a:pt x="5294243" y="508006"/>
                </a:lnTo>
                <a:lnTo>
                  <a:pt x="5288751" y="508006"/>
                </a:lnTo>
                <a:lnTo>
                  <a:pt x="5286005" y="508006"/>
                </a:lnTo>
                <a:close/>
                <a:moveTo>
                  <a:pt x="1254913" y="508006"/>
                </a:moveTo>
                <a:lnTo>
                  <a:pt x="1254913" y="510752"/>
                </a:lnTo>
                <a:lnTo>
                  <a:pt x="1252167" y="513498"/>
                </a:lnTo>
                <a:lnTo>
                  <a:pt x="1252167" y="516244"/>
                </a:lnTo>
                <a:lnTo>
                  <a:pt x="1257659" y="518990"/>
                </a:lnTo>
                <a:lnTo>
                  <a:pt x="1263149" y="518990"/>
                </a:lnTo>
                <a:lnTo>
                  <a:pt x="1263149" y="513498"/>
                </a:lnTo>
                <a:lnTo>
                  <a:pt x="1260404" y="510752"/>
                </a:lnTo>
                <a:lnTo>
                  <a:pt x="1257659" y="508006"/>
                </a:lnTo>
                <a:lnTo>
                  <a:pt x="1254913" y="508006"/>
                </a:lnTo>
                <a:close/>
                <a:moveTo>
                  <a:pt x="5563349" y="505260"/>
                </a:moveTo>
                <a:lnTo>
                  <a:pt x="5560603" y="508006"/>
                </a:lnTo>
                <a:lnTo>
                  <a:pt x="5566095" y="508006"/>
                </a:lnTo>
                <a:lnTo>
                  <a:pt x="5571587" y="508006"/>
                </a:lnTo>
                <a:lnTo>
                  <a:pt x="5571587" y="505260"/>
                </a:lnTo>
                <a:lnTo>
                  <a:pt x="5566095" y="505260"/>
                </a:lnTo>
                <a:lnTo>
                  <a:pt x="5563349" y="505260"/>
                </a:lnTo>
                <a:close/>
                <a:moveTo>
                  <a:pt x="1389464" y="505260"/>
                </a:moveTo>
                <a:lnTo>
                  <a:pt x="1389464" y="513498"/>
                </a:lnTo>
                <a:lnTo>
                  <a:pt x="1392210" y="518990"/>
                </a:lnTo>
                <a:lnTo>
                  <a:pt x="1386718" y="518990"/>
                </a:lnTo>
                <a:lnTo>
                  <a:pt x="1386718" y="524482"/>
                </a:lnTo>
                <a:lnTo>
                  <a:pt x="1394958" y="524482"/>
                </a:lnTo>
                <a:lnTo>
                  <a:pt x="1397703" y="518990"/>
                </a:lnTo>
                <a:lnTo>
                  <a:pt x="1397703" y="513498"/>
                </a:lnTo>
                <a:lnTo>
                  <a:pt x="1394958" y="508006"/>
                </a:lnTo>
                <a:lnTo>
                  <a:pt x="1389464" y="505260"/>
                </a:lnTo>
                <a:close/>
                <a:moveTo>
                  <a:pt x="1452622" y="499768"/>
                </a:moveTo>
                <a:lnTo>
                  <a:pt x="1452622" y="508006"/>
                </a:lnTo>
                <a:lnTo>
                  <a:pt x="1455368" y="505260"/>
                </a:lnTo>
                <a:lnTo>
                  <a:pt x="1458113" y="505260"/>
                </a:lnTo>
                <a:lnTo>
                  <a:pt x="1455368" y="499768"/>
                </a:lnTo>
                <a:lnTo>
                  <a:pt x="1452622" y="499768"/>
                </a:lnTo>
                <a:close/>
                <a:moveTo>
                  <a:pt x="5634744" y="499768"/>
                </a:moveTo>
                <a:lnTo>
                  <a:pt x="5637490" y="502514"/>
                </a:lnTo>
                <a:lnTo>
                  <a:pt x="5642982" y="505260"/>
                </a:lnTo>
                <a:lnTo>
                  <a:pt x="5642982" y="499768"/>
                </a:lnTo>
                <a:lnTo>
                  <a:pt x="5634744" y="499768"/>
                </a:lnTo>
                <a:close/>
                <a:moveTo>
                  <a:pt x="5574333" y="499768"/>
                </a:moveTo>
                <a:lnTo>
                  <a:pt x="5574333" y="505260"/>
                </a:lnTo>
                <a:lnTo>
                  <a:pt x="5579825" y="510752"/>
                </a:lnTo>
                <a:lnTo>
                  <a:pt x="5579825" y="508006"/>
                </a:lnTo>
                <a:lnTo>
                  <a:pt x="5579825" y="505260"/>
                </a:lnTo>
                <a:lnTo>
                  <a:pt x="5577079" y="502514"/>
                </a:lnTo>
                <a:lnTo>
                  <a:pt x="5577079" y="499768"/>
                </a:lnTo>
                <a:lnTo>
                  <a:pt x="5574333" y="499768"/>
                </a:lnTo>
                <a:close/>
                <a:moveTo>
                  <a:pt x="5316211" y="499768"/>
                </a:moveTo>
                <a:lnTo>
                  <a:pt x="5316211" y="505260"/>
                </a:lnTo>
                <a:lnTo>
                  <a:pt x="5321703" y="508006"/>
                </a:lnTo>
                <a:lnTo>
                  <a:pt x="5321703" y="499768"/>
                </a:lnTo>
                <a:lnTo>
                  <a:pt x="5316211" y="499768"/>
                </a:lnTo>
                <a:close/>
                <a:moveTo>
                  <a:pt x="1433400" y="497022"/>
                </a:moveTo>
                <a:lnTo>
                  <a:pt x="1433400" y="502514"/>
                </a:lnTo>
                <a:lnTo>
                  <a:pt x="1441637" y="502514"/>
                </a:lnTo>
                <a:lnTo>
                  <a:pt x="1441637" y="497022"/>
                </a:lnTo>
                <a:lnTo>
                  <a:pt x="1433400" y="497022"/>
                </a:lnTo>
                <a:close/>
                <a:moveTo>
                  <a:pt x="5815979" y="497022"/>
                </a:moveTo>
                <a:lnTo>
                  <a:pt x="5815979" y="499768"/>
                </a:lnTo>
                <a:lnTo>
                  <a:pt x="5821471" y="499768"/>
                </a:lnTo>
                <a:lnTo>
                  <a:pt x="5821471" y="497022"/>
                </a:lnTo>
                <a:lnTo>
                  <a:pt x="5815979" y="497022"/>
                </a:lnTo>
                <a:close/>
                <a:moveTo>
                  <a:pt x="1340038" y="491530"/>
                </a:moveTo>
                <a:lnTo>
                  <a:pt x="1340038" y="499768"/>
                </a:lnTo>
                <a:lnTo>
                  <a:pt x="1342784" y="505260"/>
                </a:lnTo>
                <a:lnTo>
                  <a:pt x="1348275" y="508006"/>
                </a:lnTo>
                <a:lnTo>
                  <a:pt x="1353766" y="508006"/>
                </a:lnTo>
                <a:lnTo>
                  <a:pt x="1356512" y="502514"/>
                </a:lnTo>
                <a:lnTo>
                  <a:pt x="1359260" y="499768"/>
                </a:lnTo>
                <a:lnTo>
                  <a:pt x="1359260" y="505260"/>
                </a:lnTo>
                <a:lnTo>
                  <a:pt x="1362005" y="502514"/>
                </a:lnTo>
                <a:lnTo>
                  <a:pt x="1364751" y="502514"/>
                </a:lnTo>
                <a:lnTo>
                  <a:pt x="1367496" y="502514"/>
                </a:lnTo>
                <a:lnTo>
                  <a:pt x="1367496" y="497022"/>
                </a:lnTo>
                <a:lnTo>
                  <a:pt x="1356512" y="497022"/>
                </a:lnTo>
                <a:lnTo>
                  <a:pt x="1351020" y="491530"/>
                </a:lnTo>
                <a:lnTo>
                  <a:pt x="1345529" y="491530"/>
                </a:lnTo>
                <a:lnTo>
                  <a:pt x="1340038" y="491530"/>
                </a:lnTo>
                <a:close/>
                <a:moveTo>
                  <a:pt x="5829709" y="488784"/>
                </a:moveTo>
                <a:lnTo>
                  <a:pt x="5832455" y="494276"/>
                </a:lnTo>
                <a:lnTo>
                  <a:pt x="5835201" y="497022"/>
                </a:lnTo>
                <a:lnTo>
                  <a:pt x="5835201" y="488784"/>
                </a:lnTo>
                <a:lnTo>
                  <a:pt x="5829709" y="488784"/>
                </a:lnTo>
                <a:close/>
                <a:moveTo>
                  <a:pt x="5568841" y="488784"/>
                </a:moveTo>
                <a:lnTo>
                  <a:pt x="5568841" y="491530"/>
                </a:lnTo>
                <a:lnTo>
                  <a:pt x="5566095" y="491530"/>
                </a:lnTo>
                <a:lnTo>
                  <a:pt x="5566095" y="494276"/>
                </a:lnTo>
                <a:lnTo>
                  <a:pt x="5568841" y="494276"/>
                </a:lnTo>
                <a:lnTo>
                  <a:pt x="5568841" y="497022"/>
                </a:lnTo>
                <a:lnTo>
                  <a:pt x="5571587" y="497022"/>
                </a:lnTo>
                <a:lnTo>
                  <a:pt x="5571587" y="494276"/>
                </a:lnTo>
                <a:lnTo>
                  <a:pt x="5574333" y="494276"/>
                </a:lnTo>
                <a:lnTo>
                  <a:pt x="5574333" y="491530"/>
                </a:lnTo>
                <a:lnTo>
                  <a:pt x="5571587" y="491530"/>
                </a:lnTo>
                <a:lnTo>
                  <a:pt x="5571587" y="488784"/>
                </a:lnTo>
                <a:lnTo>
                  <a:pt x="5568841" y="488784"/>
                </a:lnTo>
                <a:close/>
                <a:moveTo>
                  <a:pt x="1485574" y="486038"/>
                </a:moveTo>
                <a:lnTo>
                  <a:pt x="1485574" y="488784"/>
                </a:lnTo>
                <a:lnTo>
                  <a:pt x="1488320" y="491530"/>
                </a:lnTo>
                <a:lnTo>
                  <a:pt x="1496557" y="491530"/>
                </a:lnTo>
                <a:lnTo>
                  <a:pt x="1496557" y="486038"/>
                </a:lnTo>
                <a:lnTo>
                  <a:pt x="1485574" y="486038"/>
                </a:lnTo>
                <a:close/>
                <a:moveTo>
                  <a:pt x="1274134" y="486038"/>
                </a:moveTo>
                <a:lnTo>
                  <a:pt x="1274134" y="488784"/>
                </a:lnTo>
                <a:lnTo>
                  <a:pt x="1279625" y="491530"/>
                </a:lnTo>
                <a:lnTo>
                  <a:pt x="1282371" y="488784"/>
                </a:lnTo>
                <a:lnTo>
                  <a:pt x="1282371" y="486038"/>
                </a:lnTo>
                <a:lnTo>
                  <a:pt x="1276880" y="486038"/>
                </a:lnTo>
                <a:lnTo>
                  <a:pt x="1274134" y="486038"/>
                </a:lnTo>
                <a:close/>
                <a:moveTo>
                  <a:pt x="5774789" y="486038"/>
                </a:moveTo>
                <a:lnTo>
                  <a:pt x="5774789" y="488784"/>
                </a:lnTo>
                <a:lnTo>
                  <a:pt x="5772043" y="491530"/>
                </a:lnTo>
                <a:lnTo>
                  <a:pt x="5772043" y="494276"/>
                </a:lnTo>
                <a:lnTo>
                  <a:pt x="5777535" y="491530"/>
                </a:lnTo>
                <a:lnTo>
                  <a:pt x="5780281" y="488784"/>
                </a:lnTo>
                <a:lnTo>
                  <a:pt x="5777535" y="488784"/>
                </a:lnTo>
                <a:lnTo>
                  <a:pt x="5777535" y="486038"/>
                </a:lnTo>
                <a:lnTo>
                  <a:pt x="5774789" y="486038"/>
                </a:lnTo>
                <a:close/>
                <a:moveTo>
                  <a:pt x="5582571" y="486038"/>
                </a:moveTo>
                <a:lnTo>
                  <a:pt x="5582571" y="499768"/>
                </a:lnTo>
                <a:lnTo>
                  <a:pt x="5585317" y="499768"/>
                </a:lnTo>
                <a:lnTo>
                  <a:pt x="5585317" y="497022"/>
                </a:lnTo>
                <a:lnTo>
                  <a:pt x="5588063" y="497022"/>
                </a:lnTo>
                <a:lnTo>
                  <a:pt x="5585317" y="494276"/>
                </a:lnTo>
                <a:lnTo>
                  <a:pt x="5588063" y="486038"/>
                </a:lnTo>
                <a:lnTo>
                  <a:pt x="5582571" y="486038"/>
                </a:lnTo>
                <a:close/>
                <a:moveTo>
                  <a:pt x="1554223" y="480546"/>
                </a:moveTo>
                <a:lnTo>
                  <a:pt x="1545985" y="483292"/>
                </a:lnTo>
                <a:lnTo>
                  <a:pt x="1545985" y="488784"/>
                </a:lnTo>
                <a:lnTo>
                  <a:pt x="1551477" y="486038"/>
                </a:lnTo>
                <a:lnTo>
                  <a:pt x="1554223" y="480546"/>
                </a:lnTo>
                <a:close/>
                <a:moveTo>
                  <a:pt x="1515779" y="480546"/>
                </a:moveTo>
                <a:lnTo>
                  <a:pt x="1515779" y="486038"/>
                </a:lnTo>
                <a:lnTo>
                  <a:pt x="1515779" y="491530"/>
                </a:lnTo>
                <a:lnTo>
                  <a:pt x="1518526" y="494276"/>
                </a:lnTo>
                <a:lnTo>
                  <a:pt x="1515779" y="497022"/>
                </a:lnTo>
                <a:lnTo>
                  <a:pt x="1518526" y="499768"/>
                </a:lnTo>
                <a:lnTo>
                  <a:pt x="1521272" y="499768"/>
                </a:lnTo>
                <a:lnTo>
                  <a:pt x="1529509" y="497022"/>
                </a:lnTo>
                <a:lnTo>
                  <a:pt x="1529509" y="502514"/>
                </a:lnTo>
                <a:lnTo>
                  <a:pt x="1532255" y="505260"/>
                </a:lnTo>
                <a:lnTo>
                  <a:pt x="1535002" y="508006"/>
                </a:lnTo>
                <a:lnTo>
                  <a:pt x="1532255" y="510752"/>
                </a:lnTo>
                <a:lnTo>
                  <a:pt x="1535002" y="510752"/>
                </a:lnTo>
                <a:lnTo>
                  <a:pt x="1535002" y="513498"/>
                </a:lnTo>
                <a:lnTo>
                  <a:pt x="1535002" y="516244"/>
                </a:lnTo>
                <a:lnTo>
                  <a:pt x="1540493" y="516244"/>
                </a:lnTo>
                <a:lnTo>
                  <a:pt x="1543239" y="518990"/>
                </a:lnTo>
                <a:lnTo>
                  <a:pt x="1554223" y="524482"/>
                </a:lnTo>
                <a:lnTo>
                  <a:pt x="1551477" y="518990"/>
                </a:lnTo>
                <a:lnTo>
                  <a:pt x="1545985" y="516244"/>
                </a:lnTo>
                <a:lnTo>
                  <a:pt x="1543239" y="510752"/>
                </a:lnTo>
                <a:lnTo>
                  <a:pt x="1540493" y="505260"/>
                </a:lnTo>
                <a:lnTo>
                  <a:pt x="1543239" y="505260"/>
                </a:lnTo>
                <a:lnTo>
                  <a:pt x="1543239" y="499768"/>
                </a:lnTo>
                <a:lnTo>
                  <a:pt x="1540493" y="494276"/>
                </a:lnTo>
                <a:lnTo>
                  <a:pt x="1526763" y="494276"/>
                </a:lnTo>
                <a:lnTo>
                  <a:pt x="1526763" y="488784"/>
                </a:lnTo>
                <a:lnTo>
                  <a:pt x="1524017" y="480546"/>
                </a:lnTo>
                <a:lnTo>
                  <a:pt x="1515779" y="480546"/>
                </a:lnTo>
                <a:close/>
                <a:moveTo>
                  <a:pt x="1408686" y="477800"/>
                </a:moveTo>
                <a:lnTo>
                  <a:pt x="1403194" y="480546"/>
                </a:lnTo>
                <a:lnTo>
                  <a:pt x="1400448" y="483292"/>
                </a:lnTo>
                <a:lnTo>
                  <a:pt x="1403194" y="486038"/>
                </a:lnTo>
                <a:lnTo>
                  <a:pt x="1408686" y="486038"/>
                </a:lnTo>
                <a:lnTo>
                  <a:pt x="1408686" y="477800"/>
                </a:lnTo>
                <a:close/>
                <a:moveTo>
                  <a:pt x="422880" y="477800"/>
                </a:moveTo>
                <a:lnTo>
                  <a:pt x="395421" y="483292"/>
                </a:lnTo>
                <a:lnTo>
                  <a:pt x="381691" y="486038"/>
                </a:lnTo>
                <a:lnTo>
                  <a:pt x="365215" y="486038"/>
                </a:lnTo>
                <a:lnTo>
                  <a:pt x="370707" y="491530"/>
                </a:lnTo>
                <a:lnTo>
                  <a:pt x="376199" y="494276"/>
                </a:lnTo>
                <a:lnTo>
                  <a:pt x="387183" y="494276"/>
                </a:lnTo>
                <a:lnTo>
                  <a:pt x="395421" y="491530"/>
                </a:lnTo>
                <a:lnTo>
                  <a:pt x="411897" y="486038"/>
                </a:lnTo>
                <a:lnTo>
                  <a:pt x="420134" y="483292"/>
                </a:lnTo>
                <a:lnTo>
                  <a:pt x="422880" y="477800"/>
                </a:lnTo>
                <a:close/>
                <a:moveTo>
                  <a:pt x="5697902" y="475054"/>
                </a:moveTo>
                <a:lnTo>
                  <a:pt x="5697902" y="483292"/>
                </a:lnTo>
                <a:lnTo>
                  <a:pt x="5703394" y="486038"/>
                </a:lnTo>
                <a:lnTo>
                  <a:pt x="5706140" y="483292"/>
                </a:lnTo>
                <a:lnTo>
                  <a:pt x="5706140" y="480546"/>
                </a:lnTo>
                <a:lnTo>
                  <a:pt x="5703394" y="480546"/>
                </a:lnTo>
                <a:lnTo>
                  <a:pt x="5700648" y="477800"/>
                </a:lnTo>
                <a:lnTo>
                  <a:pt x="5700648" y="475054"/>
                </a:lnTo>
                <a:lnTo>
                  <a:pt x="5697902" y="475054"/>
                </a:lnTo>
                <a:close/>
                <a:moveTo>
                  <a:pt x="1386718" y="475054"/>
                </a:moveTo>
                <a:lnTo>
                  <a:pt x="1386718" y="477800"/>
                </a:lnTo>
                <a:lnTo>
                  <a:pt x="1381227" y="477800"/>
                </a:lnTo>
                <a:lnTo>
                  <a:pt x="1381227" y="480546"/>
                </a:lnTo>
                <a:lnTo>
                  <a:pt x="1392210" y="480546"/>
                </a:lnTo>
                <a:lnTo>
                  <a:pt x="1394958" y="475054"/>
                </a:lnTo>
                <a:lnTo>
                  <a:pt x="1389464" y="475054"/>
                </a:lnTo>
                <a:lnTo>
                  <a:pt x="1386718" y="475054"/>
                </a:lnTo>
                <a:close/>
                <a:moveTo>
                  <a:pt x="475054" y="475054"/>
                </a:moveTo>
                <a:lnTo>
                  <a:pt x="461324" y="477800"/>
                </a:lnTo>
                <a:lnTo>
                  <a:pt x="458578" y="480546"/>
                </a:lnTo>
                <a:lnTo>
                  <a:pt x="458578" y="486038"/>
                </a:lnTo>
                <a:lnTo>
                  <a:pt x="469562" y="483292"/>
                </a:lnTo>
                <a:lnTo>
                  <a:pt x="477800" y="483292"/>
                </a:lnTo>
                <a:lnTo>
                  <a:pt x="486038" y="480546"/>
                </a:lnTo>
                <a:lnTo>
                  <a:pt x="497022" y="480546"/>
                </a:lnTo>
                <a:lnTo>
                  <a:pt x="499768" y="483292"/>
                </a:lnTo>
                <a:lnTo>
                  <a:pt x="499768" y="486038"/>
                </a:lnTo>
                <a:lnTo>
                  <a:pt x="505260" y="483292"/>
                </a:lnTo>
                <a:lnTo>
                  <a:pt x="505260" y="480546"/>
                </a:lnTo>
                <a:lnTo>
                  <a:pt x="497022" y="480546"/>
                </a:lnTo>
                <a:lnTo>
                  <a:pt x="488784" y="477800"/>
                </a:lnTo>
                <a:lnTo>
                  <a:pt x="475054" y="475054"/>
                </a:lnTo>
                <a:close/>
                <a:moveTo>
                  <a:pt x="5590809" y="472308"/>
                </a:moveTo>
                <a:lnTo>
                  <a:pt x="5588063" y="477800"/>
                </a:lnTo>
                <a:lnTo>
                  <a:pt x="5599047" y="477800"/>
                </a:lnTo>
                <a:lnTo>
                  <a:pt x="5599047" y="472308"/>
                </a:lnTo>
                <a:lnTo>
                  <a:pt x="5590809" y="472308"/>
                </a:lnTo>
                <a:close/>
                <a:moveTo>
                  <a:pt x="1526763" y="469562"/>
                </a:moveTo>
                <a:lnTo>
                  <a:pt x="1526763" y="472308"/>
                </a:lnTo>
                <a:lnTo>
                  <a:pt x="1524017" y="477800"/>
                </a:lnTo>
                <a:lnTo>
                  <a:pt x="1532255" y="477800"/>
                </a:lnTo>
                <a:lnTo>
                  <a:pt x="1532255" y="472308"/>
                </a:lnTo>
                <a:lnTo>
                  <a:pt x="1526763" y="469562"/>
                </a:lnTo>
                <a:close/>
                <a:moveTo>
                  <a:pt x="1496557" y="466816"/>
                </a:moveTo>
                <a:lnTo>
                  <a:pt x="1496557" y="477800"/>
                </a:lnTo>
                <a:lnTo>
                  <a:pt x="1504796" y="475054"/>
                </a:lnTo>
                <a:lnTo>
                  <a:pt x="1510287" y="472308"/>
                </a:lnTo>
                <a:lnTo>
                  <a:pt x="1510287" y="469562"/>
                </a:lnTo>
                <a:lnTo>
                  <a:pt x="1504796" y="466816"/>
                </a:lnTo>
                <a:lnTo>
                  <a:pt x="1496557" y="466816"/>
                </a:lnTo>
                <a:close/>
                <a:moveTo>
                  <a:pt x="5651220" y="466816"/>
                </a:moveTo>
                <a:lnTo>
                  <a:pt x="5653966" y="472308"/>
                </a:lnTo>
                <a:lnTo>
                  <a:pt x="5653966" y="475054"/>
                </a:lnTo>
                <a:lnTo>
                  <a:pt x="5659458" y="475054"/>
                </a:lnTo>
                <a:lnTo>
                  <a:pt x="5656712" y="466816"/>
                </a:lnTo>
                <a:lnTo>
                  <a:pt x="5651220" y="466816"/>
                </a:lnTo>
                <a:close/>
                <a:moveTo>
                  <a:pt x="1364751" y="464070"/>
                </a:moveTo>
                <a:lnTo>
                  <a:pt x="1362005" y="472308"/>
                </a:lnTo>
                <a:lnTo>
                  <a:pt x="1364751" y="480546"/>
                </a:lnTo>
                <a:lnTo>
                  <a:pt x="1370242" y="480546"/>
                </a:lnTo>
                <a:lnTo>
                  <a:pt x="1370242" y="475054"/>
                </a:lnTo>
                <a:lnTo>
                  <a:pt x="1372988" y="472308"/>
                </a:lnTo>
                <a:lnTo>
                  <a:pt x="1375736" y="464070"/>
                </a:lnTo>
                <a:lnTo>
                  <a:pt x="1370242" y="464070"/>
                </a:lnTo>
                <a:lnTo>
                  <a:pt x="1364751" y="464070"/>
                </a:lnTo>
                <a:close/>
                <a:moveTo>
                  <a:pt x="5741837" y="461324"/>
                </a:moveTo>
                <a:lnTo>
                  <a:pt x="5741837" y="466816"/>
                </a:lnTo>
                <a:lnTo>
                  <a:pt x="5744583" y="464070"/>
                </a:lnTo>
                <a:lnTo>
                  <a:pt x="5747329" y="461324"/>
                </a:lnTo>
                <a:lnTo>
                  <a:pt x="5741837" y="461324"/>
                </a:lnTo>
                <a:close/>
                <a:moveTo>
                  <a:pt x="1367496" y="453086"/>
                </a:moveTo>
                <a:lnTo>
                  <a:pt x="1367496" y="455832"/>
                </a:lnTo>
                <a:lnTo>
                  <a:pt x="1370242" y="455832"/>
                </a:lnTo>
                <a:lnTo>
                  <a:pt x="1372988" y="458578"/>
                </a:lnTo>
                <a:lnTo>
                  <a:pt x="1375736" y="461324"/>
                </a:lnTo>
                <a:lnTo>
                  <a:pt x="1375736" y="455832"/>
                </a:lnTo>
                <a:lnTo>
                  <a:pt x="1372988" y="455832"/>
                </a:lnTo>
                <a:lnTo>
                  <a:pt x="1372988" y="453086"/>
                </a:lnTo>
                <a:lnTo>
                  <a:pt x="1367496" y="453086"/>
                </a:lnTo>
                <a:close/>
                <a:moveTo>
                  <a:pt x="1521272" y="450340"/>
                </a:moveTo>
                <a:lnTo>
                  <a:pt x="1515779" y="453086"/>
                </a:lnTo>
                <a:lnTo>
                  <a:pt x="1513033" y="455832"/>
                </a:lnTo>
                <a:lnTo>
                  <a:pt x="1518526" y="458578"/>
                </a:lnTo>
                <a:lnTo>
                  <a:pt x="1526763" y="461324"/>
                </a:lnTo>
                <a:lnTo>
                  <a:pt x="1524017" y="461324"/>
                </a:lnTo>
                <a:lnTo>
                  <a:pt x="1524017" y="464070"/>
                </a:lnTo>
                <a:lnTo>
                  <a:pt x="1529509" y="464070"/>
                </a:lnTo>
                <a:lnTo>
                  <a:pt x="1526763" y="461324"/>
                </a:lnTo>
                <a:lnTo>
                  <a:pt x="1529509" y="455832"/>
                </a:lnTo>
                <a:lnTo>
                  <a:pt x="1529509" y="453086"/>
                </a:lnTo>
                <a:lnTo>
                  <a:pt x="1524017" y="450340"/>
                </a:lnTo>
                <a:lnTo>
                  <a:pt x="1521272" y="450340"/>
                </a:lnTo>
                <a:close/>
                <a:moveTo>
                  <a:pt x="1416924" y="450340"/>
                </a:moveTo>
                <a:lnTo>
                  <a:pt x="1414179" y="453086"/>
                </a:lnTo>
                <a:lnTo>
                  <a:pt x="1419670" y="455832"/>
                </a:lnTo>
                <a:lnTo>
                  <a:pt x="1425162" y="455832"/>
                </a:lnTo>
                <a:lnTo>
                  <a:pt x="1425162" y="450340"/>
                </a:lnTo>
                <a:lnTo>
                  <a:pt x="1416924" y="450340"/>
                </a:lnTo>
                <a:close/>
                <a:moveTo>
                  <a:pt x="1469098" y="447594"/>
                </a:moveTo>
                <a:lnTo>
                  <a:pt x="1469098" y="450340"/>
                </a:lnTo>
                <a:lnTo>
                  <a:pt x="1466353" y="450340"/>
                </a:lnTo>
                <a:lnTo>
                  <a:pt x="1469098" y="453086"/>
                </a:lnTo>
                <a:lnTo>
                  <a:pt x="1469098" y="455832"/>
                </a:lnTo>
                <a:lnTo>
                  <a:pt x="1466353" y="455832"/>
                </a:lnTo>
                <a:lnTo>
                  <a:pt x="1463606" y="455832"/>
                </a:lnTo>
                <a:lnTo>
                  <a:pt x="1463606" y="461324"/>
                </a:lnTo>
                <a:lnTo>
                  <a:pt x="1466353" y="461324"/>
                </a:lnTo>
                <a:lnTo>
                  <a:pt x="1469098" y="461324"/>
                </a:lnTo>
                <a:lnTo>
                  <a:pt x="1469098" y="464070"/>
                </a:lnTo>
                <a:lnTo>
                  <a:pt x="1471844" y="464070"/>
                </a:lnTo>
                <a:lnTo>
                  <a:pt x="1471844" y="458578"/>
                </a:lnTo>
                <a:lnTo>
                  <a:pt x="1469098" y="453086"/>
                </a:lnTo>
                <a:lnTo>
                  <a:pt x="1474589" y="453086"/>
                </a:lnTo>
                <a:lnTo>
                  <a:pt x="1474589" y="450340"/>
                </a:lnTo>
                <a:lnTo>
                  <a:pt x="1469098" y="447594"/>
                </a:lnTo>
                <a:close/>
                <a:moveTo>
                  <a:pt x="1301593" y="444848"/>
                </a:moveTo>
                <a:lnTo>
                  <a:pt x="1301593" y="447594"/>
                </a:lnTo>
                <a:lnTo>
                  <a:pt x="1298847" y="447594"/>
                </a:lnTo>
                <a:lnTo>
                  <a:pt x="1290611" y="447594"/>
                </a:lnTo>
                <a:lnTo>
                  <a:pt x="1293356" y="453086"/>
                </a:lnTo>
                <a:lnTo>
                  <a:pt x="1296101" y="453086"/>
                </a:lnTo>
                <a:lnTo>
                  <a:pt x="1298847" y="453086"/>
                </a:lnTo>
                <a:lnTo>
                  <a:pt x="1298847" y="450340"/>
                </a:lnTo>
                <a:lnTo>
                  <a:pt x="1301593" y="453086"/>
                </a:lnTo>
                <a:lnTo>
                  <a:pt x="1304341" y="453086"/>
                </a:lnTo>
                <a:lnTo>
                  <a:pt x="1307086" y="453086"/>
                </a:lnTo>
                <a:lnTo>
                  <a:pt x="1309832" y="450340"/>
                </a:lnTo>
                <a:lnTo>
                  <a:pt x="1309832" y="444848"/>
                </a:lnTo>
                <a:lnTo>
                  <a:pt x="1301593" y="444848"/>
                </a:lnTo>
                <a:close/>
                <a:moveTo>
                  <a:pt x="1449877" y="442102"/>
                </a:moveTo>
                <a:lnTo>
                  <a:pt x="1444383" y="444848"/>
                </a:lnTo>
                <a:lnTo>
                  <a:pt x="1444383" y="450340"/>
                </a:lnTo>
                <a:lnTo>
                  <a:pt x="1444383" y="455832"/>
                </a:lnTo>
                <a:lnTo>
                  <a:pt x="1447130" y="461324"/>
                </a:lnTo>
                <a:lnTo>
                  <a:pt x="1436146" y="461324"/>
                </a:lnTo>
                <a:lnTo>
                  <a:pt x="1436146" y="464070"/>
                </a:lnTo>
                <a:lnTo>
                  <a:pt x="1438891" y="469562"/>
                </a:lnTo>
                <a:lnTo>
                  <a:pt x="1441637" y="472308"/>
                </a:lnTo>
                <a:lnTo>
                  <a:pt x="1441637" y="480546"/>
                </a:lnTo>
                <a:lnTo>
                  <a:pt x="1447130" y="486038"/>
                </a:lnTo>
                <a:lnTo>
                  <a:pt x="1452622" y="486038"/>
                </a:lnTo>
                <a:lnTo>
                  <a:pt x="1455368" y="491530"/>
                </a:lnTo>
                <a:lnTo>
                  <a:pt x="1463606" y="486038"/>
                </a:lnTo>
                <a:lnTo>
                  <a:pt x="1469098" y="477800"/>
                </a:lnTo>
                <a:lnTo>
                  <a:pt x="1463606" y="477800"/>
                </a:lnTo>
                <a:lnTo>
                  <a:pt x="1463606" y="475054"/>
                </a:lnTo>
                <a:lnTo>
                  <a:pt x="1460859" y="469562"/>
                </a:lnTo>
                <a:lnTo>
                  <a:pt x="1452622" y="469562"/>
                </a:lnTo>
                <a:lnTo>
                  <a:pt x="1447130" y="469562"/>
                </a:lnTo>
                <a:lnTo>
                  <a:pt x="1447130" y="464070"/>
                </a:lnTo>
                <a:lnTo>
                  <a:pt x="1449877" y="461324"/>
                </a:lnTo>
                <a:lnTo>
                  <a:pt x="1458113" y="458578"/>
                </a:lnTo>
                <a:lnTo>
                  <a:pt x="1455368" y="447594"/>
                </a:lnTo>
                <a:lnTo>
                  <a:pt x="1449877" y="442102"/>
                </a:lnTo>
                <a:close/>
                <a:moveTo>
                  <a:pt x="1532255" y="439356"/>
                </a:moveTo>
                <a:lnTo>
                  <a:pt x="1532255" y="442102"/>
                </a:lnTo>
                <a:lnTo>
                  <a:pt x="1537748" y="442102"/>
                </a:lnTo>
                <a:lnTo>
                  <a:pt x="1540493" y="444848"/>
                </a:lnTo>
                <a:lnTo>
                  <a:pt x="1540493" y="442102"/>
                </a:lnTo>
                <a:lnTo>
                  <a:pt x="1543239" y="442102"/>
                </a:lnTo>
                <a:lnTo>
                  <a:pt x="1543239" y="439356"/>
                </a:lnTo>
                <a:lnTo>
                  <a:pt x="1535002" y="439356"/>
                </a:lnTo>
                <a:lnTo>
                  <a:pt x="1532255" y="439356"/>
                </a:lnTo>
                <a:close/>
                <a:moveTo>
                  <a:pt x="1419670" y="433864"/>
                </a:moveTo>
                <a:lnTo>
                  <a:pt x="1414179" y="436610"/>
                </a:lnTo>
                <a:lnTo>
                  <a:pt x="1414179" y="444848"/>
                </a:lnTo>
                <a:lnTo>
                  <a:pt x="1425162" y="444848"/>
                </a:lnTo>
                <a:lnTo>
                  <a:pt x="1427907" y="439356"/>
                </a:lnTo>
                <a:lnTo>
                  <a:pt x="1427907" y="436610"/>
                </a:lnTo>
                <a:lnTo>
                  <a:pt x="1427907" y="433864"/>
                </a:lnTo>
                <a:lnTo>
                  <a:pt x="1419670" y="433864"/>
                </a:lnTo>
                <a:close/>
                <a:moveTo>
                  <a:pt x="1392210" y="433864"/>
                </a:moveTo>
                <a:lnTo>
                  <a:pt x="1392210" y="442102"/>
                </a:lnTo>
                <a:lnTo>
                  <a:pt x="1400448" y="442102"/>
                </a:lnTo>
                <a:lnTo>
                  <a:pt x="1400448" y="439356"/>
                </a:lnTo>
                <a:lnTo>
                  <a:pt x="1403194" y="436610"/>
                </a:lnTo>
                <a:lnTo>
                  <a:pt x="1403194" y="433864"/>
                </a:lnTo>
                <a:lnTo>
                  <a:pt x="1397703" y="433864"/>
                </a:lnTo>
                <a:lnTo>
                  <a:pt x="1394958" y="436610"/>
                </a:lnTo>
                <a:lnTo>
                  <a:pt x="1392210" y="433864"/>
                </a:lnTo>
                <a:close/>
                <a:moveTo>
                  <a:pt x="6134512" y="431118"/>
                </a:moveTo>
                <a:lnTo>
                  <a:pt x="6134512" y="436610"/>
                </a:lnTo>
                <a:lnTo>
                  <a:pt x="6129020" y="436610"/>
                </a:lnTo>
                <a:lnTo>
                  <a:pt x="6129020" y="439356"/>
                </a:lnTo>
                <a:lnTo>
                  <a:pt x="6137258" y="439356"/>
                </a:lnTo>
                <a:lnTo>
                  <a:pt x="6140004" y="436610"/>
                </a:lnTo>
                <a:lnTo>
                  <a:pt x="6140004" y="433864"/>
                </a:lnTo>
                <a:lnTo>
                  <a:pt x="6137258" y="433864"/>
                </a:lnTo>
                <a:lnTo>
                  <a:pt x="6134512" y="431118"/>
                </a:lnTo>
                <a:close/>
                <a:moveTo>
                  <a:pt x="1471844" y="428372"/>
                </a:moveTo>
                <a:lnTo>
                  <a:pt x="1471844" y="431118"/>
                </a:lnTo>
                <a:lnTo>
                  <a:pt x="1471844" y="433864"/>
                </a:lnTo>
                <a:lnTo>
                  <a:pt x="1469098" y="433864"/>
                </a:lnTo>
                <a:lnTo>
                  <a:pt x="1471844" y="428372"/>
                </a:lnTo>
                <a:close/>
                <a:moveTo>
                  <a:pt x="197710" y="428372"/>
                </a:moveTo>
                <a:lnTo>
                  <a:pt x="186726" y="433864"/>
                </a:lnTo>
                <a:lnTo>
                  <a:pt x="175743" y="439356"/>
                </a:lnTo>
                <a:lnTo>
                  <a:pt x="162012" y="442102"/>
                </a:lnTo>
                <a:lnTo>
                  <a:pt x="145537" y="442102"/>
                </a:lnTo>
                <a:lnTo>
                  <a:pt x="115331" y="439356"/>
                </a:lnTo>
                <a:lnTo>
                  <a:pt x="96109" y="442102"/>
                </a:lnTo>
                <a:lnTo>
                  <a:pt x="71395" y="447594"/>
                </a:lnTo>
                <a:lnTo>
                  <a:pt x="21968" y="466816"/>
                </a:lnTo>
                <a:lnTo>
                  <a:pt x="0" y="447594"/>
                </a:lnTo>
                <a:lnTo>
                  <a:pt x="197710" y="428372"/>
                </a:lnTo>
                <a:close/>
                <a:moveTo>
                  <a:pt x="6161972" y="428372"/>
                </a:moveTo>
                <a:lnTo>
                  <a:pt x="6161972" y="431118"/>
                </a:lnTo>
                <a:lnTo>
                  <a:pt x="6159226" y="433864"/>
                </a:lnTo>
                <a:lnTo>
                  <a:pt x="6161972" y="433864"/>
                </a:lnTo>
                <a:lnTo>
                  <a:pt x="6167464" y="431118"/>
                </a:lnTo>
                <a:lnTo>
                  <a:pt x="6167464" y="428372"/>
                </a:lnTo>
                <a:lnTo>
                  <a:pt x="6161972" y="428372"/>
                </a:lnTo>
                <a:close/>
                <a:moveTo>
                  <a:pt x="1507541" y="425626"/>
                </a:moveTo>
                <a:lnTo>
                  <a:pt x="1507541" y="431118"/>
                </a:lnTo>
                <a:lnTo>
                  <a:pt x="1515779" y="431118"/>
                </a:lnTo>
                <a:lnTo>
                  <a:pt x="1513033" y="428372"/>
                </a:lnTo>
                <a:lnTo>
                  <a:pt x="1507541" y="425626"/>
                </a:lnTo>
                <a:close/>
                <a:moveTo>
                  <a:pt x="1496557" y="425626"/>
                </a:moveTo>
                <a:lnTo>
                  <a:pt x="1491065" y="428372"/>
                </a:lnTo>
                <a:lnTo>
                  <a:pt x="1488320" y="431118"/>
                </a:lnTo>
                <a:lnTo>
                  <a:pt x="1496557" y="431118"/>
                </a:lnTo>
                <a:lnTo>
                  <a:pt x="1496557" y="425626"/>
                </a:lnTo>
                <a:close/>
                <a:moveTo>
                  <a:pt x="304803" y="425626"/>
                </a:moveTo>
                <a:lnTo>
                  <a:pt x="299311" y="428372"/>
                </a:lnTo>
                <a:lnTo>
                  <a:pt x="296565" y="431118"/>
                </a:lnTo>
                <a:lnTo>
                  <a:pt x="293820" y="436610"/>
                </a:lnTo>
                <a:lnTo>
                  <a:pt x="299311" y="436610"/>
                </a:lnTo>
                <a:lnTo>
                  <a:pt x="302057" y="439356"/>
                </a:lnTo>
                <a:lnTo>
                  <a:pt x="307549" y="444848"/>
                </a:lnTo>
                <a:lnTo>
                  <a:pt x="310295" y="439356"/>
                </a:lnTo>
                <a:lnTo>
                  <a:pt x="313041" y="433864"/>
                </a:lnTo>
                <a:lnTo>
                  <a:pt x="310295" y="431118"/>
                </a:lnTo>
                <a:lnTo>
                  <a:pt x="307549" y="428372"/>
                </a:lnTo>
                <a:lnTo>
                  <a:pt x="304803" y="425626"/>
                </a:lnTo>
                <a:close/>
                <a:moveTo>
                  <a:pt x="6450300" y="425626"/>
                </a:moveTo>
                <a:lnTo>
                  <a:pt x="6450300" y="428372"/>
                </a:lnTo>
                <a:lnTo>
                  <a:pt x="6453046" y="431118"/>
                </a:lnTo>
                <a:lnTo>
                  <a:pt x="6458538" y="431118"/>
                </a:lnTo>
                <a:lnTo>
                  <a:pt x="6458538" y="428372"/>
                </a:lnTo>
                <a:lnTo>
                  <a:pt x="6453046" y="425626"/>
                </a:lnTo>
                <a:lnTo>
                  <a:pt x="6450300" y="425626"/>
                </a:lnTo>
                <a:close/>
                <a:moveTo>
                  <a:pt x="6307509" y="422880"/>
                </a:moveTo>
                <a:lnTo>
                  <a:pt x="6307509" y="428372"/>
                </a:lnTo>
                <a:lnTo>
                  <a:pt x="6313001" y="428372"/>
                </a:lnTo>
                <a:lnTo>
                  <a:pt x="6313001" y="422880"/>
                </a:lnTo>
                <a:lnTo>
                  <a:pt x="6307509" y="422880"/>
                </a:lnTo>
                <a:close/>
                <a:moveTo>
                  <a:pt x="6200416" y="422880"/>
                </a:moveTo>
                <a:lnTo>
                  <a:pt x="6200416" y="428372"/>
                </a:lnTo>
                <a:lnTo>
                  <a:pt x="6208654" y="428372"/>
                </a:lnTo>
                <a:lnTo>
                  <a:pt x="6208654" y="431118"/>
                </a:lnTo>
                <a:lnTo>
                  <a:pt x="6211400" y="433864"/>
                </a:lnTo>
                <a:lnTo>
                  <a:pt x="6208654" y="436610"/>
                </a:lnTo>
                <a:lnTo>
                  <a:pt x="6208654" y="439356"/>
                </a:lnTo>
                <a:lnTo>
                  <a:pt x="6214146" y="433864"/>
                </a:lnTo>
                <a:lnTo>
                  <a:pt x="6216892" y="428372"/>
                </a:lnTo>
                <a:lnTo>
                  <a:pt x="6214146" y="425626"/>
                </a:lnTo>
                <a:lnTo>
                  <a:pt x="6211400" y="425626"/>
                </a:lnTo>
                <a:lnTo>
                  <a:pt x="6208654" y="425626"/>
                </a:lnTo>
                <a:lnTo>
                  <a:pt x="6208654" y="422880"/>
                </a:lnTo>
                <a:lnTo>
                  <a:pt x="6205908" y="425626"/>
                </a:lnTo>
                <a:lnTo>
                  <a:pt x="6200416" y="422880"/>
                </a:lnTo>
                <a:close/>
                <a:moveTo>
                  <a:pt x="6156480" y="420134"/>
                </a:moveTo>
                <a:lnTo>
                  <a:pt x="6153734" y="422880"/>
                </a:lnTo>
                <a:lnTo>
                  <a:pt x="6156480" y="425626"/>
                </a:lnTo>
                <a:lnTo>
                  <a:pt x="6159226" y="428372"/>
                </a:lnTo>
                <a:lnTo>
                  <a:pt x="6159226" y="420134"/>
                </a:lnTo>
                <a:lnTo>
                  <a:pt x="6156480" y="420134"/>
                </a:lnTo>
                <a:close/>
                <a:moveTo>
                  <a:pt x="6189432" y="417388"/>
                </a:moveTo>
                <a:lnTo>
                  <a:pt x="6186686" y="420134"/>
                </a:lnTo>
                <a:lnTo>
                  <a:pt x="6186686" y="428372"/>
                </a:lnTo>
                <a:lnTo>
                  <a:pt x="6189432" y="428372"/>
                </a:lnTo>
                <a:lnTo>
                  <a:pt x="6192178" y="425626"/>
                </a:lnTo>
                <a:lnTo>
                  <a:pt x="6192178" y="420134"/>
                </a:lnTo>
                <a:lnTo>
                  <a:pt x="6194924" y="417388"/>
                </a:lnTo>
                <a:lnTo>
                  <a:pt x="6192178" y="417388"/>
                </a:lnTo>
                <a:lnTo>
                  <a:pt x="6189432" y="417388"/>
                </a:lnTo>
                <a:close/>
                <a:moveTo>
                  <a:pt x="1460859" y="417388"/>
                </a:moveTo>
                <a:lnTo>
                  <a:pt x="1452622" y="420134"/>
                </a:lnTo>
                <a:lnTo>
                  <a:pt x="1452622" y="422880"/>
                </a:lnTo>
                <a:lnTo>
                  <a:pt x="1455368" y="425626"/>
                </a:lnTo>
                <a:lnTo>
                  <a:pt x="1455368" y="428372"/>
                </a:lnTo>
                <a:lnTo>
                  <a:pt x="1455368" y="433864"/>
                </a:lnTo>
                <a:lnTo>
                  <a:pt x="1466353" y="436610"/>
                </a:lnTo>
                <a:lnTo>
                  <a:pt x="1480081" y="436610"/>
                </a:lnTo>
                <a:lnTo>
                  <a:pt x="1477335" y="431118"/>
                </a:lnTo>
                <a:lnTo>
                  <a:pt x="1477335" y="428372"/>
                </a:lnTo>
                <a:lnTo>
                  <a:pt x="1474589" y="428372"/>
                </a:lnTo>
                <a:lnTo>
                  <a:pt x="1471844" y="428372"/>
                </a:lnTo>
                <a:lnTo>
                  <a:pt x="1474589" y="425626"/>
                </a:lnTo>
                <a:lnTo>
                  <a:pt x="1471844" y="422880"/>
                </a:lnTo>
                <a:lnTo>
                  <a:pt x="1471844" y="417388"/>
                </a:lnTo>
                <a:lnTo>
                  <a:pt x="1469098" y="417388"/>
                </a:lnTo>
                <a:lnTo>
                  <a:pt x="1460859" y="417388"/>
                </a:lnTo>
                <a:close/>
                <a:moveTo>
                  <a:pt x="6203162" y="411896"/>
                </a:moveTo>
                <a:lnTo>
                  <a:pt x="6203162" y="417388"/>
                </a:lnTo>
                <a:lnTo>
                  <a:pt x="6208654" y="417388"/>
                </a:lnTo>
                <a:lnTo>
                  <a:pt x="6205908" y="411896"/>
                </a:lnTo>
                <a:lnTo>
                  <a:pt x="6203162" y="411896"/>
                </a:lnTo>
                <a:close/>
                <a:moveTo>
                  <a:pt x="6087831" y="411896"/>
                </a:moveTo>
                <a:lnTo>
                  <a:pt x="6093323" y="411896"/>
                </a:lnTo>
                <a:lnTo>
                  <a:pt x="6087831" y="412526"/>
                </a:lnTo>
                <a:lnTo>
                  <a:pt x="6087831" y="411896"/>
                </a:lnTo>
                <a:close/>
                <a:moveTo>
                  <a:pt x="1518526" y="411896"/>
                </a:moveTo>
                <a:lnTo>
                  <a:pt x="1515779" y="414642"/>
                </a:lnTo>
                <a:lnTo>
                  <a:pt x="1515779" y="417388"/>
                </a:lnTo>
                <a:lnTo>
                  <a:pt x="1518526" y="417388"/>
                </a:lnTo>
                <a:lnTo>
                  <a:pt x="1518526" y="420134"/>
                </a:lnTo>
                <a:lnTo>
                  <a:pt x="1521272" y="420134"/>
                </a:lnTo>
                <a:lnTo>
                  <a:pt x="1524017" y="422880"/>
                </a:lnTo>
                <a:lnTo>
                  <a:pt x="1526763" y="422880"/>
                </a:lnTo>
                <a:lnTo>
                  <a:pt x="1529509" y="425626"/>
                </a:lnTo>
                <a:lnTo>
                  <a:pt x="1529509" y="420134"/>
                </a:lnTo>
                <a:lnTo>
                  <a:pt x="1526763" y="417388"/>
                </a:lnTo>
                <a:lnTo>
                  <a:pt x="1526763" y="414642"/>
                </a:lnTo>
                <a:lnTo>
                  <a:pt x="1524017" y="411896"/>
                </a:lnTo>
                <a:lnTo>
                  <a:pt x="1518526" y="411896"/>
                </a:lnTo>
                <a:close/>
                <a:moveTo>
                  <a:pt x="1491065" y="409151"/>
                </a:moveTo>
                <a:lnTo>
                  <a:pt x="1491065" y="411896"/>
                </a:lnTo>
                <a:lnTo>
                  <a:pt x="1488320" y="411896"/>
                </a:lnTo>
                <a:lnTo>
                  <a:pt x="1488320" y="414642"/>
                </a:lnTo>
                <a:lnTo>
                  <a:pt x="1496557" y="414642"/>
                </a:lnTo>
                <a:lnTo>
                  <a:pt x="1499304" y="414642"/>
                </a:lnTo>
                <a:lnTo>
                  <a:pt x="1499304" y="411896"/>
                </a:lnTo>
                <a:lnTo>
                  <a:pt x="1499304" y="409151"/>
                </a:lnTo>
                <a:lnTo>
                  <a:pt x="1496557" y="409151"/>
                </a:lnTo>
                <a:lnTo>
                  <a:pt x="1491065" y="409151"/>
                </a:lnTo>
                <a:close/>
                <a:moveTo>
                  <a:pt x="1452622" y="409151"/>
                </a:moveTo>
                <a:lnTo>
                  <a:pt x="1447130" y="411896"/>
                </a:lnTo>
                <a:lnTo>
                  <a:pt x="1447130" y="417388"/>
                </a:lnTo>
                <a:lnTo>
                  <a:pt x="1452622" y="414642"/>
                </a:lnTo>
                <a:lnTo>
                  <a:pt x="1452622" y="409151"/>
                </a:lnTo>
                <a:close/>
                <a:moveTo>
                  <a:pt x="1378481" y="409151"/>
                </a:moveTo>
                <a:lnTo>
                  <a:pt x="1378481" y="411896"/>
                </a:lnTo>
                <a:lnTo>
                  <a:pt x="1372988" y="414642"/>
                </a:lnTo>
                <a:lnTo>
                  <a:pt x="1372988" y="425626"/>
                </a:lnTo>
                <a:lnTo>
                  <a:pt x="1378481" y="425626"/>
                </a:lnTo>
                <a:lnTo>
                  <a:pt x="1378481" y="417388"/>
                </a:lnTo>
                <a:lnTo>
                  <a:pt x="1383972" y="414642"/>
                </a:lnTo>
                <a:lnTo>
                  <a:pt x="1389464" y="417388"/>
                </a:lnTo>
                <a:lnTo>
                  <a:pt x="1389464" y="411896"/>
                </a:lnTo>
                <a:lnTo>
                  <a:pt x="1386718" y="411896"/>
                </a:lnTo>
                <a:lnTo>
                  <a:pt x="1378481" y="409151"/>
                </a:lnTo>
                <a:close/>
                <a:moveTo>
                  <a:pt x="1345529" y="406405"/>
                </a:moveTo>
                <a:lnTo>
                  <a:pt x="1342784" y="409151"/>
                </a:lnTo>
                <a:lnTo>
                  <a:pt x="1342784" y="411896"/>
                </a:lnTo>
                <a:lnTo>
                  <a:pt x="1342784" y="414642"/>
                </a:lnTo>
                <a:lnTo>
                  <a:pt x="1345529" y="414642"/>
                </a:lnTo>
                <a:lnTo>
                  <a:pt x="1348275" y="411896"/>
                </a:lnTo>
                <a:lnTo>
                  <a:pt x="1351020" y="409151"/>
                </a:lnTo>
                <a:lnTo>
                  <a:pt x="1348275" y="406405"/>
                </a:lnTo>
                <a:lnTo>
                  <a:pt x="1345529" y="406405"/>
                </a:lnTo>
                <a:close/>
                <a:moveTo>
                  <a:pt x="6153734" y="403658"/>
                </a:moveTo>
                <a:lnTo>
                  <a:pt x="6153734" y="403964"/>
                </a:lnTo>
                <a:lnTo>
                  <a:pt x="6152361" y="404116"/>
                </a:lnTo>
                <a:lnTo>
                  <a:pt x="6153734" y="403658"/>
                </a:lnTo>
                <a:close/>
                <a:moveTo>
                  <a:pt x="472308" y="400913"/>
                </a:moveTo>
                <a:lnTo>
                  <a:pt x="464070" y="409151"/>
                </a:lnTo>
                <a:lnTo>
                  <a:pt x="455832" y="414642"/>
                </a:lnTo>
                <a:lnTo>
                  <a:pt x="447594" y="417388"/>
                </a:lnTo>
                <a:lnTo>
                  <a:pt x="436610" y="420134"/>
                </a:lnTo>
                <a:lnTo>
                  <a:pt x="428372" y="422880"/>
                </a:lnTo>
                <a:lnTo>
                  <a:pt x="420134" y="428372"/>
                </a:lnTo>
                <a:lnTo>
                  <a:pt x="409150" y="431118"/>
                </a:lnTo>
                <a:lnTo>
                  <a:pt x="395421" y="431118"/>
                </a:lnTo>
                <a:lnTo>
                  <a:pt x="384437" y="431118"/>
                </a:lnTo>
                <a:lnTo>
                  <a:pt x="362469" y="425626"/>
                </a:lnTo>
                <a:lnTo>
                  <a:pt x="343247" y="422880"/>
                </a:lnTo>
                <a:lnTo>
                  <a:pt x="332263" y="425626"/>
                </a:lnTo>
                <a:lnTo>
                  <a:pt x="321279" y="431118"/>
                </a:lnTo>
                <a:lnTo>
                  <a:pt x="315787" y="431118"/>
                </a:lnTo>
                <a:lnTo>
                  <a:pt x="326771" y="436610"/>
                </a:lnTo>
                <a:lnTo>
                  <a:pt x="340501" y="442102"/>
                </a:lnTo>
                <a:lnTo>
                  <a:pt x="356977" y="442102"/>
                </a:lnTo>
                <a:lnTo>
                  <a:pt x="376199" y="442102"/>
                </a:lnTo>
                <a:lnTo>
                  <a:pt x="417389" y="436610"/>
                </a:lnTo>
                <a:lnTo>
                  <a:pt x="461324" y="431118"/>
                </a:lnTo>
                <a:lnTo>
                  <a:pt x="497022" y="428372"/>
                </a:lnTo>
                <a:lnTo>
                  <a:pt x="513498" y="431118"/>
                </a:lnTo>
                <a:lnTo>
                  <a:pt x="527228" y="433864"/>
                </a:lnTo>
                <a:lnTo>
                  <a:pt x="535466" y="442102"/>
                </a:lnTo>
                <a:lnTo>
                  <a:pt x="538212" y="453086"/>
                </a:lnTo>
                <a:lnTo>
                  <a:pt x="535466" y="466816"/>
                </a:lnTo>
                <a:lnTo>
                  <a:pt x="529974" y="488784"/>
                </a:lnTo>
                <a:lnTo>
                  <a:pt x="546450" y="491530"/>
                </a:lnTo>
                <a:lnTo>
                  <a:pt x="568417" y="494276"/>
                </a:lnTo>
                <a:lnTo>
                  <a:pt x="568417" y="488784"/>
                </a:lnTo>
                <a:lnTo>
                  <a:pt x="565671" y="486038"/>
                </a:lnTo>
                <a:lnTo>
                  <a:pt x="560179" y="480546"/>
                </a:lnTo>
                <a:lnTo>
                  <a:pt x="554687" y="472308"/>
                </a:lnTo>
                <a:lnTo>
                  <a:pt x="551942" y="466816"/>
                </a:lnTo>
                <a:lnTo>
                  <a:pt x="554687" y="461324"/>
                </a:lnTo>
                <a:lnTo>
                  <a:pt x="560179" y="461324"/>
                </a:lnTo>
                <a:lnTo>
                  <a:pt x="565671" y="461324"/>
                </a:lnTo>
                <a:lnTo>
                  <a:pt x="573909" y="458578"/>
                </a:lnTo>
                <a:lnTo>
                  <a:pt x="579401" y="455832"/>
                </a:lnTo>
                <a:lnTo>
                  <a:pt x="568417" y="450340"/>
                </a:lnTo>
                <a:lnTo>
                  <a:pt x="562925" y="444848"/>
                </a:lnTo>
                <a:lnTo>
                  <a:pt x="560179" y="433864"/>
                </a:lnTo>
                <a:lnTo>
                  <a:pt x="557433" y="422880"/>
                </a:lnTo>
                <a:lnTo>
                  <a:pt x="557433" y="414642"/>
                </a:lnTo>
                <a:lnTo>
                  <a:pt x="551942" y="406405"/>
                </a:lnTo>
                <a:lnTo>
                  <a:pt x="543703" y="400913"/>
                </a:lnTo>
                <a:lnTo>
                  <a:pt x="529974" y="400913"/>
                </a:lnTo>
                <a:lnTo>
                  <a:pt x="529974" y="403659"/>
                </a:lnTo>
                <a:lnTo>
                  <a:pt x="532720" y="406405"/>
                </a:lnTo>
                <a:lnTo>
                  <a:pt x="540957" y="409151"/>
                </a:lnTo>
                <a:lnTo>
                  <a:pt x="546450" y="411896"/>
                </a:lnTo>
                <a:lnTo>
                  <a:pt x="551942" y="411896"/>
                </a:lnTo>
                <a:lnTo>
                  <a:pt x="551942" y="417388"/>
                </a:lnTo>
                <a:lnTo>
                  <a:pt x="540957" y="417388"/>
                </a:lnTo>
                <a:lnTo>
                  <a:pt x="529974" y="417388"/>
                </a:lnTo>
                <a:lnTo>
                  <a:pt x="510751" y="411896"/>
                </a:lnTo>
                <a:lnTo>
                  <a:pt x="491530" y="406405"/>
                </a:lnTo>
                <a:lnTo>
                  <a:pt x="483292" y="403659"/>
                </a:lnTo>
                <a:lnTo>
                  <a:pt x="472308" y="400913"/>
                </a:lnTo>
                <a:close/>
                <a:moveTo>
                  <a:pt x="1551477" y="398167"/>
                </a:moveTo>
                <a:lnTo>
                  <a:pt x="1551477" y="400913"/>
                </a:lnTo>
                <a:lnTo>
                  <a:pt x="1548731" y="400913"/>
                </a:lnTo>
                <a:lnTo>
                  <a:pt x="1545985" y="406405"/>
                </a:lnTo>
                <a:lnTo>
                  <a:pt x="1543239" y="409151"/>
                </a:lnTo>
                <a:lnTo>
                  <a:pt x="1532255" y="409151"/>
                </a:lnTo>
                <a:lnTo>
                  <a:pt x="1532255" y="414642"/>
                </a:lnTo>
                <a:lnTo>
                  <a:pt x="1532255" y="420134"/>
                </a:lnTo>
                <a:lnTo>
                  <a:pt x="1535002" y="422880"/>
                </a:lnTo>
                <a:lnTo>
                  <a:pt x="1537748" y="420134"/>
                </a:lnTo>
                <a:lnTo>
                  <a:pt x="1540493" y="425626"/>
                </a:lnTo>
                <a:lnTo>
                  <a:pt x="1540493" y="431118"/>
                </a:lnTo>
                <a:lnTo>
                  <a:pt x="1545985" y="431118"/>
                </a:lnTo>
                <a:lnTo>
                  <a:pt x="1545985" y="433864"/>
                </a:lnTo>
                <a:lnTo>
                  <a:pt x="1545985" y="439356"/>
                </a:lnTo>
                <a:lnTo>
                  <a:pt x="1545985" y="447594"/>
                </a:lnTo>
                <a:lnTo>
                  <a:pt x="1545985" y="450340"/>
                </a:lnTo>
                <a:lnTo>
                  <a:pt x="1548731" y="453086"/>
                </a:lnTo>
                <a:lnTo>
                  <a:pt x="1543239" y="453086"/>
                </a:lnTo>
                <a:lnTo>
                  <a:pt x="1545985" y="455832"/>
                </a:lnTo>
                <a:lnTo>
                  <a:pt x="1551477" y="455832"/>
                </a:lnTo>
                <a:lnTo>
                  <a:pt x="1556969" y="453086"/>
                </a:lnTo>
                <a:lnTo>
                  <a:pt x="1562461" y="453086"/>
                </a:lnTo>
                <a:lnTo>
                  <a:pt x="1567952" y="453086"/>
                </a:lnTo>
                <a:lnTo>
                  <a:pt x="1565206" y="447594"/>
                </a:lnTo>
                <a:lnTo>
                  <a:pt x="1565206" y="439356"/>
                </a:lnTo>
                <a:lnTo>
                  <a:pt x="1554223" y="436610"/>
                </a:lnTo>
                <a:lnTo>
                  <a:pt x="1548731" y="431118"/>
                </a:lnTo>
                <a:lnTo>
                  <a:pt x="1554223" y="431118"/>
                </a:lnTo>
                <a:lnTo>
                  <a:pt x="1551477" y="425626"/>
                </a:lnTo>
                <a:lnTo>
                  <a:pt x="1551477" y="422880"/>
                </a:lnTo>
                <a:lnTo>
                  <a:pt x="1556969" y="411896"/>
                </a:lnTo>
                <a:lnTo>
                  <a:pt x="1554223" y="409151"/>
                </a:lnTo>
                <a:lnTo>
                  <a:pt x="1551477" y="406405"/>
                </a:lnTo>
                <a:lnTo>
                  <a:pt x="1554223" y="403659"/>
                </a:lnTo>
                <a:lnTo>
                  <a:pt x="1554223" y="400913"/>
                </a:lnTo>
                <a:lnTo>
                  <a:pt x="1554223" y="398167"/>
                </a:lnTo>
                <a:lnTo>
                  <a:pt x="1551477" y="398167"/>
                </a:lnTo>
                <a:close/>
                <a:moveTo>
                  <a:pt x="1524017" y="398167"/>
                </a:moveTo>
                <a:lnTo>
                  <a:pt x="1515779" y="400913"/>
                </a:lnTo>
                <a:lnTo>
                  <a:pt x="1510287" y="406405"/>
                </a:lnTo>
                <a:lnTo>
                  <a:pt x="1515779" y="409151"/>
                </a:lnTo>
                <a:lnTo>
                  <a:pt x="1524017" y="409151"/>
                </a:lnTo>
                <a:lnTo>
                  <a:pt x="1524017" y="398167"/>
                </a:lnTo>
                <a:close/>
                <a:moveTo>
                  <a:pt x="1425162" y="398167"/>
                </a:moveTo>
                <a:lnTo>
                  <a:pt x="1422416" y="400913"/>
                </a:lnTo>
                <a:lnTo>
                  <a:pt x="1430655" y="406405"/>
                </a:lnTo>
                <a:lnTo>
                  <a:pt x="1436146" y="403659"/>
                </a:lnTo>
                <a:lnTo>
                  <a:pt x="1441637" y="400913"/>
                </a:lnTo>
                <a:lnTo>
                  <a:pt x="1436146" y="398167"/>
                </a:lnTo>
                <a:lnTo>
                  <a:pt x="1430655" y="398167"/>
                </a:lnTo>
                <a:lnTo>
                  <a:pt x="1425162" y="398167"/>
                </a:lnTo>
                <a:close/>
                <a:moveTo>
                  <a:pt x="1040725" y="398167"/>
                </a:moveTo>
                <a:lnTo>
                  <a:pt x="1040725" y="400913"/>
                </a:lnTo>
                <a:lnTo>
                  <a:pt x="1046217" y="403659"/>
                </a:lnTo>
                <a:lnTo>
                  <a:pt x="1054456" y="403659"/>
                </a:lnTo>
                <a:lnTo>
                  <a:pt x="1054456" y="400913"/>
                </a:lnTo>
                <a:lnTo>
                  <a:pt x="1051710" y="398167"/>
                </a:lnTo>
                <a:lnTo>
                  <a:pt x="1046217" y="398167"/>
                </a:lnTo>
                <a:lnTo>
                  <a:pt x="1040725" y="398167"/>
                </a:lnTo>
                <a:close/>
                <a:moveTo>
                  <a:pt x="1378481" y="395421"/>
                </a:moveTo>
                <a:lnTo>
                  <a:pt x="1375736" y="398167"/>
                </a:lnTo>
                <a:lnTo>
                  <a:pt x="1375736" y="400913"/>
                </a:lnTo>
                <a:lnTo>
                  <a:pt x="1378481" y="403659"/>
                </a:lnTo>
                <a:lnTo>
                  <a:pt x="1381227" y="403659"/>
                </a:lnTo>
                <a:lnTo>
                  <a:pt x="1381227" y="400913"/>
                </a:lnTo>
                <a:lnTo>
                  <a:pt x="1383972" y="400913"/>
                </a:lnTo>
                <a:lnTo>
                  <a:pt x="1383972" y="398167"/>
                </a:lnTo>
                <a:lnTo>
                  <a:pt x="1381227" y="398167"/>
                </a:lnTo>
                <a:lnTo>
                  <a:pt x="1381227" y="395421"/>
                </a:lnTo>
                <a:lnTo>
                  <a:pt x="1378481" y="395421"/>
                </a:lnTo>
                <a:close/>
                <a:moveTo>
                  <a:pt x="6219638" y="395420"/>
                </a:moveTo>
                <a:lnTo>
                  <a:pt x="6236113" y="395420"/>
                </a:lnTo>
                <a:lnTo>
                  <a:pt x="6238859" y="395420"/>
                </a:lnTo>
                <a:lnTo>
                  <a:pt x="6238859" y="398166"/>
                </a:lnTo>
                <a:lnTo>
                  <a:pt x="6227875" y="398166"/>
                </a:lnTo>
                <a:lnTo>
                  <a:pt x="6227875" y="400912"/>
                </a:lnTo>
                <a:lnTo>
                  <a:pt x="6230621" y="403658"/>
                </a:lnTo>
                <a:lnTo>
                  <a:pt x="6233367" y="403658"/>
                </a:lnTo>
                <a:lnTo>
                  <a:pt x="6233367" y="406404"/>
                </a:lnTo>
                <a:lnTo>
                  <a:pt x="6225129" y="409150"/>
                </a:lnTo>
                <a:lnTo>
                  <a:pt x="6219638" y="406404"/>
                </a:lnTo>
                <a:lnTo>
                  <a:pt x="6219638" y="403658"/>
                </a:lnTo>
                <a:lnTo>
                  <a:pt x="6222384" y="403658"/>
                </a:lnTo>
                <a:lnTo>
                  <a:pt x="6225129" y="400912"/>
                </a:lnTo>
                <a:lnTo>
                  <a:pt x="6222384" y="398166"/>
                </a:lnTo>
                <a:lnTo>
                  <a:pt x="6219638" y="395420"/>
                </a:lnTo>
                <a:close/>
                <a:moveTo>
                  <a:pt x="1559715" y="389929"/>
                </a:moveTo>
                <a:lnTo>
                  <a:pt x="1559715" y="392675"/>
                </a:lnTo>
                <a:lnTo>
                  <a:pt x="1559715" y="395421"/>
                </a:lnTo>
                <a:lnTo>
                  <a:pt x="1565206" y="400913"/>
                </a:lnTo>
                <a:lnTo>
                  <a:pt x="1567952" y="400913"/>
                </a:lnTo>
                <a:lnTo>
                  <a:pt x="1567952" y="398167"/>
                </a:lnTo>
                <a:lnTo>
                  <a:pt x="1570699" y="398167"/>
                </a:lnTo>
                <a:lnTo>
                  <a:pt x="1570699" y="392675"/>
                </a:lnTo>
                <a:lnTo>
                  <a:pt x="1567952" y="389929"/>
                </a:lnTo>
                <a:lnTo>
                  <a:pt x="1559715" y="389929"/>
                </a:lnTo>
                <a:close/>
                <a:moveTo>
                  <a:pt x="1537748" y="387183"/>
                </a:moveTo>
                <a:lnTo>
                  <a:pt x="1537748" y="395421"/>
                </a:lnTo>
                <a:lnTo>
                  <a:pt x="1540493" y="398167"/>
                </a:lnTo>
                <a:lnTo>
                  <a:pt x="1543239" y="398167"/>
                </a:lnTo>
                <a:lnTo>
                  <a:pt x="1545985" y="395421"/>
                </a:lnTo>
                <a:lnTo>
                  <a:pt x="1548731" y="389929"/>
                </a:lnTo>
                <a:lnTo>
                  <a:pt x="1543239" y="387183"/>
                </a:lnTo>
                <a:lnTo>
                  <a:pt x="1540493" y="387183"/>
                </a:lnTo>
                <a:lnTo>
                  <a:pt x="1537748" y="387183"/>
                </a:lnTo>
                <a:close/>
                <a:moveTo>
                  <a:pt x="1441637" y="387183"/>
                </a:moveTo>
                <a:lnTo>
                  <a:pt x="1441637" y="392675"/>
                </a:lnTo>
                <a:lnTo>
                  <a:pt x="1447130" y="392675"/>
                </a:lnTo>
                <a:lnTo>
                  <a:pt x="1447130" y="387183"/>
                </a:lnTo>
                <a:lnTo>
                  <a:pt x="1441637" y="387183"/>
                </a:lnTo>
                <a:close/>
                <a:moveTo>
                  <a:pt x="1367496" y="387183"/>
                </a:moveTo>
                <a:lnTo>
                  <a:pt x="1362005" y="389929"/>
                </a:lnTo>
                <a:lnTo>
                  <a:pt x="1362005" y="398167"/>
                </a:lnTo>
                <a:lnTo>
                  <a:pt x="1364751" y="400913"/>
                </a:lnTo>
                <a:lnTo>
                  <a:pt x="1370242" y="400913"/>
                </a:lnTo>
                <a:lnTo>
                  <a:pt x="1372988" y="395421"/>
                </a:lnTo>
                <a:lnTo>
                  <a:pt x="1372988" y="387183"/>
                </a:lnTo>
                <a:lnTo>
                  <a:pt x="1370242" y="387183"/>
                </a:lnTo>
                <a:lnTo>
                  <a:pt x="1367496" y="387183"/>
                </a:lnTo>
                <a:close/>
                <a:moveTo>
                  <a:pt x="1507541" y="384437"/>
                </a:moveTo>
                <a:lnTo>
                  <a:pt x="1510287" y="389929"/>
                </a:lnTo>
                <a:lnTo>
                  <a:pt x="1513033" y="392675"/>
                </a:lnTo>
                <a:lnTo>
                  <a:pt x="1515779" y="392675"/>
                </a:lnTo>
                <a:lnTo>
                  <a:pt x="1513033" y="387183"/>
                </a:lnTo>
                <a:lnTo>
                  <a:pt x="1507541" y="384437"/>
                </a:lnTo>
                <a:close/>
                <a:moveTo>
                  <a:pt x="1150565" y="384437"/>
                </a:moveTo>
                <a:lnTo>
                  <a:pt x="1147820" y="387183"/>
                </a:lnTo>
                <a:lnTo>
                  <a:pt x="1147820" y="389929"/>
                </a:lnTo>
                <a:lnTo>
                  <a:pt x="1150565" y="392675"/>
                </a:lnTo>
                <a:lnTo>
                  <a:pt x="1153311" y="395421"/>
                </a:lnTo>
                <a:lnTo>
                  <a:pt x="1156056" y="392675"/>
                </a:lnTo>
                <a:lnTo>
                  <a:pt x="1156056" y="389929"/>
                </a:lnTo>
                <a:lnTo>
                  <a:pt x="1156056" y="384437"/>
                </a:lnTo>
                <a:lnTo>
                  <a:pt x="1150565" y="384437"/>
                </a:lnTo>
                <a:close/>
                <a:moveTo>
                  <a:pt x="1576191" y="378948"/>
                </a:moveTo>
                <a:lnTo>
                  <a:pt x="1576191" y="414642"/>
                </a:lnTo>
                <a:lnTo>
                  <a:pt x="1576191" y="420135"/>
                </a:lnTo>
                <a:lnTo>
                  <a:pt x="1578936" y="420135"/>
                </a:lnTo>
                <a:lnTo>
                  <a:pt x="1578936" y="414643"/>
                </a:lnTo>
                <a:lnTo>
                  <a:pt x="1578936" y="400913"/>
                </a:lnTo>
                <a:lnTo>
                  <a:pt x="1576191" y="378948"/>
                </a:lnTo>
                <a:close/>
                <a:moveTo>
                  <a:pt x="1425162" y="378945"/>
                </a:moveTo>
                <a:lnTo>
                  <a:pt x="1425162" y="384437"/>
                </a:lnTo>
                <a:lnTo>
                  <a:pt x="1425162" y="392675"/>
                </a:lnTo>
                <a:lnTo>
                  <a:pt x="1430655" y="389929"/>
                </a:lnTo>
                <a:lnTo>
                  <a:pt x="1436146" y="387183"/>
                </a:lnTo>
                <a:lnTo>
                  <a:pt x="1441637" y="384437"/>
                </a:lnTo>
                <a:lnTo>
                  <a:pt x="1441637" y="378945"/>
                </a:lnTo>
                <a:lnTo>
                  <a:pt x="1425162" y="378945"/>
                </a:lnTo>
                <a:close/>
                <a:moveTo>
                  <a:pt x="1414179" y="378945"/>
                </a:moveTo>
                <a:lnTo>
                  <a:pt x="1414179" y="381691"/>
                </a:lnTo>
                <a:lnTo>
                  <a:pt x="1411434" y="381691"/>
                </a:lnTo>
                <a:lnTo>
                  <a:pt x="1408686" y="384437"/>
                </a:lnTo>
                <a:lnTo>
                  <a:pt x="1411434" y="384437"/>
                </a:lnTo>
                <a:lnTo>
                  <a:pt x="1414179" y="387183"/>
                </a:lnTo>
                <a:lnTo>
                  <a:pt x="1416924" y="384437"/>
                </a:lnTo>
                <a:lnTo>
                  <a:pt x="1416924" y="378945"/>
                </a:lnTo>
                <a:lnTo>
                  <a:pt x="1414179" y="378945"/>
                </a:lnTo>
                <a:close/>
                <a:moveTo>
                  <a:pt x="1334544" y="378945"/>
                </a:moveTo>
                <a:lnTo>
                  <a:pt x="1331799" y="384437"/>
                </a:lnTo>
                <a:lnTo>
                  <a:pt x="1337290" y="384437"/>
                </a:lnTo>
                <a:lnTo>
                  <a:pt x="1340038" y="378945"/>
                </a:lnTo>
                <a:lnTo>
                  <a:pt x="1334544" y="378945"/>
                </a:lnTo>
                <a:close/>
                <a:moveTo>
                  <a:pt x="1556969" y="376199"/>
                </a:moveTo>
                <a:lnTo>
                  <a:pt x="1554223" y="378945"/>
                </a:lnTo>
                <a:lnTo>
                  <a:pt x="1554223" y="381691"/>
                </a:lnTo>
                <a:lnTo>
                  <a:pt x="1556969" y="384437"/>
                </a:lnTo>
                <a:lnTo>
                  <a:pt x="1562461" y="384437"/>
                </a:lnTo>
                <a:lnTo>
                  <a:pt x="1565206" y="381691"/>
                </a:lnTo>
                <a:lnTo>
                  <a:pt x="1565206" y="378945"/>
                </a:lnTo>
                <a:lnTo>
                  <a:pt x="1562461" y="376199"/>
                </a:lnTo>
                <a:lnTo>
                  <a:pt x="1556969" y="376199"/>
                </a:lnTo>
                <a:close/>
                <a:moveTo>
                  <a:pt x="1353766" y="362469"/>
                </a:moveTo>
                <a:lnTo>
                  <a:pt x="1356512" y="365215"/>
                </a:lnTo>
                <a:lnTo>
                  <a:pt x="1356512" y="370707"/>
                </a:lnTo>
                <a:lnTo>
                  <a:pt x="1359260" y="373453"/>
                </a:lnTo>
                <a:lnTo>
                  <a:pt x="1359260" y="378945"/>
                </a:lnTo>
                <a:lnTo>
                  <a:pt x="1367496" y="378945"/>
                </a:lnTo>
                <a:lnTo>
                  <a:pt x="1370242" y="373453"/>
                </a:lnTo>
                <a:lnTo>
                  <a:pt x="1367496" y="367961"/>
                </a:lnTo>
                <a:lnTo>
                  <a:pt x="1364751" y="365215"/>
                </a:lnTo>
                <a:lnTo>
                  <a:pt x="1362005" y="362469"/>
                </a:lnTo>
                <a:lnTo>
                  <a:pt x="1353766" y="362469"/>
                </a:lnTo>
                <a:close/>
                <a:moveTo>
                  <a:pt x="834777" y="362469"/>
                </a:moveTo>
                <a:lnTo>
                  <a:pt x="834777" y="365215"/>
                </a:lnTo>
                <a:lnTo>
                  <a:pt x="829285" y="365215"/>
                </a:lnTo>
                <a:lnTo>
                  <a:pt x="823793" y="365215"/>
                </a:lnTo>
                <a:lnTo>
                  <a:pt x="815555" y="367961"/>
                </a:lnTo>
                <a:lnTo>
                  <a:pt x="807317" y="376199"/>
                </a:lnTo>
                <a:lnTo>
                  <a:pt x="801825" y="381691"/>
                </a:lnTo>
                <a:lnTo>
                  <a:pt x="799080" y="378945"/>
                </a:lnTo>
                <a:lnTo>
                  <a:pt x="796334" y="381691"/>
                </a:lnTo>
                <a:lnTo>
                  <a:pt x="793587" y="387183"/>
                </a:lnTo>
                <a:lnTo>
                  <a:pt x="788095" y="392675"/>
                </a:lnTo>
                <a:lnTo>
                  <a:pt x="782603" y="395421"/>
                </a:lnTo>
                <a:lnTo>
                  <a:pt x="777112" y="395421"/>
                </a:lnTo>
                <a:lnTo>
                  <a:pt x="744160" y="395421"/>
                </a:lnTo>
                <a:lnTo>
                  <a:pt x="727684" y="398167"/>
                </a:lnTo>
                <a:lnTo>
                  <a:pt x="711208" y="403659"/>
                </a:lnTo>
                <a:lnTo>
                  <a:pt x="681002" y="414642"/>
                </a:lnTo>
                <a:lnTo>
                  <a:pt x="650797" y="428372"/>
                </a:lnTo>
                <a:lnTo>
                  <a:pt x="628829" y="436610"/>
                </a:lnTo>
                <a:lnTo>
                  <a:pt x="617845" y="436610"/>
                </a:lnTo>
                <a:lnTo>
                  <a:pt x="609607" y="436610"/>
                </a:lnTo>
                <a:lnTo>
                  <a:pt x="595877" y="431118"/>
                </a:lnTo>
                <a:lnTo>
                  <a:pt x="582147" y="420134"/>
                </a:lnTo>
                <a:lnTo>
                  <a:pt x="568417" y="411896"/>
                </a:lnTo>
                <a:lnTo>
                  <a:pt x="568417" y="422880"/>
                </a:lnTo>
                <a:lnTo>
                  <a:pt x="573909" y="431118"/>
                </a:lnTo>
                <a:lnTo>
                  <a:pt x="582147" y="439356"/>
                </a:lnTo>
                <a:lnTo>
                  <a:pt x="593131" y="444848"/>
                </a:lnTo>
                <a:lnTo>
                  <a:pt x="615099" y="453086"/>
                </a:lnTo>
                <a:lnTo>
                  <a:pt x="623337" y="458578"/>
                </a:lnTo>
                <a:lnTo>
                  <a:pt x="628829" y="466816"/>
                </a:lnTo>
                <a:lnTo>
                  <a:pt x="631574" y="472308"/>
                </a:lnTo>
                <a:lnTo>
                  <a:pt x="634321" y="469562"/>
                </a:lnTo>
                <a:lnTo>
                  <a:pt x="642559" y="475054"/>
                </a:lnTo>
                <a:lnTo>
                  <a:pt x="648051" y="480546"/>
                </a:lnTo>
                <a:lnTo>
                  <a:pt x="653542" y="486038"/>
                </a:lnTo>
                <a:lnTo>
                  <a:pt x="661780" y="497022"/>
                </a:lnTo>
                <a:lnTo>
                  <a:pt x="670018" y="508006"/>
                </a:lnTo>
                <a:lnTo>
                  <a:pt x="672764" y="510752"/>
                </a:lnTo>
                <a:lnTo>
                  <a:pt x="678256" y="513498"/>
                </a:lnTo>
                <a:lnTo>
                  <a:pt x="691986" y="499768"/>
                </a:lnTo>
                <a:lnTo>
                  <a:pt x="716700" y="480546"/>
                </a:lnTo>
                <a:lnTo>
                  <a:pt x="724938" y="475054"/>
                </a:lnTo>
                <a:lnTo>
                  <a:pt x="730430" y="466816"/>
                </a:lnTo>
                <a:lnTo>
                  <a:pt x="735922" y="461324"/>
                </a:lnTo>
                <a:lnTo>
                  <a:pt x="741414" y="453086"/>
                </a:lnTo>
                <a:lnTo>
                  <a:pt x="746906" y="450340"/>
                </a:lnTo>
                <a:lnTo>
                  <a:pt x="755144" y="447594"/>
                </a:lnTo>
                <a:lnTo>
                  <a:pt x="763382" y="447594"/>
                </a:lnTo>
                <a:lnTo>
                  <a:pt x="768874" y="442102"/>
                </a:lnTo>
                <a:lnTo>
                  <a:pt x="774366" y="433864"/>
                </a:lnTo>
                <a:lnTo>
                  <a:pt x="779857" y="422880"/>
                </a:lnTo>
                <a:lnTo>
                  <a:pt x="782603" y="414642"/>
                </a:lnTo>
                <a:lnTo>
                  <a:pt x="788095" y="406405"/>
                </a:lnTo>
                <a:lnTo>
                  <a:pt x="799080" y="400913"/>
                </a:lnTo>
                <a:lnTo>
                  <a:pt x="812809" y="398167"/>
                </a:lnTo>
                <a:lnTo>
                  <a:pt x="837523" y="392675"/>
                </a:lnTo>
                <a:lnTo>
                  <a:pt x="845761" y="389929"/>
                </a:lnTo>
                <a:lnTo>
                  <a:pt x="848507" y="384437"/>
                </a:lnTo>
                <a:lnTo>
                  <a:pt x="845761" y="378945"/>
                </a:lnTo>
                <a:lnTo>
                  <a:pt x="834777" y="365215"/>
                </a:lnTo>
                <a:lnTo>
                  <a:pt x="837523" y="365215"/>
                </a:lnTo>
                <a:lnTo>
                  <a:pt x="837523" y="362469"/>
                </a:lnTo>
                <a:lnTo>
                  <a:pt x="834777" y="362469"/>
                </a:lnTo>
                <a:close/>
                <a:moveTo>
                  <a:pt x="1537748" y="359723"/>
                </a:moveTo>
                <a:lnTo>
                  <a:pt x="1537748" y="365215"/>
                </a:lnTo>
                <a:lnTo>
                  <a:pt x="1540493" y="365215"/>
                </a:lnTo>
                <a:lnTo>
                  <a:pt x="1543239" y="362469"/>
                </a:lnTo>
                <a:lnTo>
                  <a:pt x="1545985" y="359723"/>
                </a:lnTo>
                <a:lnTo>
                  <a:pt x="1537748" y="359723"/>
                </a:lnTo>
                <a:close/>
                <a:moveTo>
                  <a:pt x="1458113" y="356977"/>
                </a:moveTo>
                <a:lnTo>
                  <a:pt x="1458113" y="362469"/>
                </a:lnTo>
                <a:lnTo>
                  <a:pt x="1458113" y="365215"/>
                </a:lnTo>
                <a:lnTo>
                  <a:pt x="1452622" y="367961"/>
                </a:lnTo>
                <a:lnTo>
                  <a:pt x="1449877" y="367961"/>
                </a:lnTo>
                <a:lnTo>
                  <a:pt x="1447130" y="373453"/>
                </a:lnTo>
                <a:lnTo>
                  <a:pt x="1447130" y="378945"/>
                </a:lnTo>
                <a:lnTo>
                  <a:pt x="1452622" y="376199"/>
                </a:lnTo>
                <a:lnTo>
                  <a:pt x="1458113" y="376199"/>
                </a:lnTo>
                <a:lnTo>
                  <a:pt x="1469098" y="378945"/>
                </a:lnTo>
                <a:lnTo>
                  <a:pt x="1469098" y="376199"/>
                </a:lnTo>
                <a:lnTo>
                  <a:pt x="1471844" y="376199"/>
                </a:lnTo>
                <a:lnTo>
                  <a:pt x="1474589" y="376199"/>
                </a:lnTo>
                <a:lnTo>
                  <a:pt x="1477335" y="373453"/>
                </a:lnTo>
                <a:lnTo>
                  <a:pt x="1477335" y="376199"/>
                </a:lnTo>
                <a:lnTo>
                  <a:pt x="1480081" y="376199"/>
                </a:lnTo>
                <a:lnTo>
                  <a:pt x="1480081" y="378945"/>
                </a:lnTo>
                <a:lnTo>
                  <a:pt x="1480081" y="381691"/>
                </a:lnTo>
                <a:lnTo>
                  <a:pt x="1474589" y="381691"/>
                </a:lnTo>
                <a:lnTo>
                  <a:pt x="1471844" y="378945"/>
                </a:lnTo>
                <a:lnTo>
                  <a:pt x="1466353" y="384437"/>
                </a:lnTo>
                <a:lnTo>
                  <a:pt x="1460859" y="387183"/>
                </a:lnTo>
                <a:lnTo>
                  <a:pt x="1458113" y="384437"/>
                </a:lnTo>
                <a:lnTo>
                  <a:pt x="1455368" y="389929"/>
                </a:lnTo>
                <a:lnTo>
                  <a:pt x="1455368" y="398167"/>
                </a:lnTo>
                <a:lnTo>
                  <a:pt x="1460859" y="395421"/>
                </a:lnTo>
                <a:lnTo>
                  <a:pt x="1463606" y="395421"/>
                </a:lnTo>
                <a:lnTo>
                  <a:pt x="1466353" y="398167"/>
                </a:lnTo>
                <a:lnTo>
                  <a:pt x="1469098" y="400913"/>
                </a:lnTo>
                <a:lnTo>
                  <a:pt x="1474589" y="400913"/>
                </a:lnTo>
                <a:lnTo>
                  <a:pt x="1480081" y="398167"/>
                </a:lnTo>
                <a:lnTo>
                  <a:pt x="1480081" y="400913"/>
                </a:lnTo>
                <a:lnTo>
                  <a:pt x="1485574" y="403659"/>
                </a:lnTo>
                <a:lnTo>
                  <a:pt x="1488320" y="403659"/>
                </a:lnTo>
                <a:lnTo>
                  <a:pt x="1491065" y="406405"/>
                </a:lnTo>
                <a:lnTo>
                  <a:pt x="1493811" y="403659"/>
                </a:lnTo>
                <a:lnTo>
                  <a:pt x="1499304" y="403659"/>
                </a:lnTo>
                <a:lnTo>
                  <a:pt x="1504796" y="406405"/>
                </a:lnTo>
                <a:lnTo>
                  <a:pt x="1510287" y="403659"/>
                </a:lnTo>
                <a:lnTo>
                  <a:pt x="1510287" y="398167"/>
                </a:lnTo>
                <a:lnTo>
                  <a:pt x="1507541" y="395421"/>
                </a:lnTo>
                <a:lnTo>
                  <a:pt x="1502050" y="395421"/>
                </a:lnTo>
                <a:lnTo>
                  <a:pt x="1496557" y="398167"/>
                </a:lnTo>
                <a:lnTo>
                  <a:pt x="1491065" y="400913"/>
                </a:lnTo>
                <a:lnTo>
                  <a:pt x="1491065" y="395421"/>
                </a:lnTo>
                <a:lnTo>
                  <a:pt x="1491065" y="392675"/>
                </a:lnTo>
                <a:lnTo>
                  <a:pt x="1496557" y="387183"/>
                </a:lnTo>
                <a:lnTo>
                  <a:pt x="1491065" y="384437"/>
                </a:lnTo>
                <a:lnTo>
                  <a:pt x="1488320" y="381691"/>
                </a:lnTo>
                <a:lnTo>
                  <a:pt x="1491065" y="378945"/>
                </a:lnTo>
                <a:lnTo>
                  <a:pt x="1491065" y="370707"/>
                </a:lnTo>
                <a:lnTo>
                  <a:pt x="1488320" y="370707"/>
                </a:lnTo>
                <a:lnTo>
                  <a:pt x="1482829" y="367961"/>
                </a:lnTo>
                <a:lnTo>
                  <a:pt x="1485574" y="367961"/>
                </a:lnTo>
                <a:lnTo>
                  <a:pt x="1485574" y="362469"/>
                </a:lnTo>
                <a:lnTo>
                  <a:pt x="1485574" y="359723"/>
                </a:lnTo>
                <a:lnTo>
                  <a:pt x="1480081" y="359723"/>
                </a:lnTo>
                <a:lnTo>
                  <a:pt x="1477335" y="359723"/>
                </a:lnTo>
                <a:lnTo>
                  <a:pt x="1477335" y="356977"/>
                </a:lnTo>
                <a:lnTo>
                  <a:pt x="1458113" y="356977"/>
                </a:lnTo>
                <a:close/>
                <a:moveTo>
                  <a:pt x="1422416" y="356977"/>
                </a:moveTo>
                <a:lnTo>
                  <a:pt x="1416924" y="359723"/>
                </a:lnTo>
                <a:lnTo>
                  <a:pt x="1416924" y="373453"/>
                </a:lnTo>
                <a:lnTo>
                  <a:pt x="1425162" y="376199"/>
                </a:lnTo>
                <a:lnTo>
                  <a:pt x="1430655" y="376199"/>
                </a:lnTo>
                <a:lnTo>
                  <a:pt x="1436146" y="376199"/>
                </a:lnTo>
                <a:lnTo>
                  <a:pt x="1436146" y="370707"/>
                </a:lnTo>
                <a:lnTo>
                  <a:pt x="1436146" y="367961"/>
                </a:lnTo>
                <a:lnTo>
                  <a:pt x="1433400" y="359723"/>
                </a:lnTo>
                <a:lnTo>
                  <a:pt x="1425162" y="356977"/>
                </a:lnTo>
                <a:lnTo>
                  <a:pt x="1422416" y="356977"/>
                </a:lnTo>
                <a:close/>
                <a:moveTo>
                  <a:pt x="1370242" y="356977"/>
                </a:moveTo>
                <a:lnTo>
                  <a:pt x="1372988" y="356977"/>
                </a:lnTo>
                <a:lnTo>
                  <a:pt x="1375736" y="359723"/>
                </a:lnTo>
                <a:lnTo>
                  <a:pt x="1372988" y="362469"/>
                </a:lnTo>
                <a:lnTo>
                  <a:pt x="1370242" y="356977"/>
                </a:lnTo>
                <a:close/>
                <a:moveTo>
                  <a:pt x="6573869" y="354231"/>
                </a:moveTo>
                <a:lnTo>
                  <a:pt x="6571123" y="356977"/>
                </a:lnTo>
                <a:lnTo>
                  <a:pt x="6565631" y="359723"/>
                </a:lnTo>
                <a:lnTo>
                  <a:pt x="6560139" y="362469"/>
                </a:lnTo>
                <a:lnTo>
                  <a:pt x="6549155" y="367961"/>
                </a:lnTo>
                <a:lnTo>
                  <a:pt x="6549155" y="376199"/>
                </a:lnTo>
                <a:lnTo>
                  <a:pt x="6549155" y="381691"/>
                </a:lnTo>
                <a:lnTo>
                  <a:pt x="6551901" y="384437"/>
                </a:lnTo>
                <a:lnTo>
                  <a:pt x="6554647" y="389929"/>
                </a:lnTo>
                <a:lnTo>
                  <a:pt x="6557393" y="398166"/>
                </a:lnTo>
                <a:lnTo>
                  <a:pt x="6565631" y="403658"/>
                </a:lnTo>
                <a:lnTo>
                  <a:pt x="6573869" y="406404"/>
                </a:lnTo>
                <a:lnTo>
                  <a:pt x="6582107" y="411896"/>
                </a:lnTo>
                <a:lnTo>
                  <a:pt x="6521695" y="486038"/>
                </a:lnTo>
                <a:lnTo>
                  <a:pt x="6516203" y="486038"/>
                </a:lnTo>
                <a:lnTo>
                  <a:pt x="6518949" y="488784"/>
                </a:lnTo>
                <a:lnTo>
                  <a:pt x="6370666" y="670018"/>
                </a:lnTo>
                <a:lnTo>
                  <a:pt x="6354190" y="670018"/>
                </a:lnTo>
                <a:lnTo>
                  <a:pt x="6337715" y="672764"/>
                </a:lnTo>
                <a:lnTo>
                  <a:pt x="6321239" y="678256"/>
                </a:lnTo>
                <a:lnTo>
                  <a:pt x="6304763" y="683748"/>
                </a:lnTo>
                <a:lnTo>
                  <a:pt x="6277303" y="697478"/>
                </a:lnTo>
                <a:lnTo>
                  <a:pt x="6255335" y="711208"/>
                </a:lnTo>
                <a:lnTo>
                  <a:pt x="6263573" y="713954"/>
                </a:lnTo>
                <a:lnTo>
                  <a:pt x="6274557" y="713954"/>
                </a:lnTo>
                <a:lnTo>
                  <a:pt x="6291033" y="711208"/>
                </a:lnTo>
                <a:lnTo>
                  <a:pt x="6307509" y="705716"/>
                </a:lnTo>
                <a:lnTo>
                  <a:pt x="6318493" y="702970"/>
                </a:lnTo>
                <a:lnTo>
                  <a:pt x="6326731" y="702970"/>
                </a:lnTo>
                <a:lnTo>
                  <a:pt x="6329477" y="708462"/>
                </a:lnTo>
                <a:lnTo>
                  <a:pt x="6334969" y="711208"/>
                </a:lnTo>
                <a:lnTo>
                  <a:pt x="6340461" y="708462"/>
                </a:lnTo>
                <a:lnTo>
                  <a:pt x="6345952" y="705716"/>
                </a:lnTo>
                <a:lnTo>
                  <a:pt x="6546409" y="906172"/>
                </a:lnTo>
                <a:lnTo>
                  <a:pt x="6521695" y="917156"/>
                </a:lnTo>
                <a:lnTo>
                  <a:pt x="6513457" y="922648"/>
                </a:lnTo>
                <a:lnTo>
                  <a:pt x="6505219" y="930886"/>
                </a:lnTo>
                <a:lnTo>
                  <a:pt x="6532679" y="936378"/>
                </a:lnTo>
                <a:lnTo>
                  <a:pt x="6543663" y="939124"/>
                </a:lnTo>
                <a:lnTo>
                  <a:pt x="6551901" y="936378"/>
                </a:lnTo>
                <a:lnTo>
                  <a:pt x="6560139" y="933632"/>
                </a:lnTo>
                <a:lnTo>
                  <a:pt x="6565631" y="928140"/>
                </a:lnTo>
                <a:lnTo>
                  <a:pt x="6571123" y="930886"/>
                </a:lnTo>
                <a:lnTo>
                  <a:pt x="6571123" y="933632"/>
                </a:lnTo>
                <a:lnTo>
                  <a:pt x="6571123" y="939124"/>
                </a:lnTo>
                <a:lnTo>
                  <a:pt x="6573869" y="941870"/>
                </a:lnTo>
                <a:lnTo>
                  <a:pt x="6576615" y="941870"/>
                </a:lnTo>
                <a:lnTo>
                  <a:pt x="6579361" y="941870"/>
                </a:lnTo>
                <a:lnTo>
                  <a:pt x="6587599" y="950108"/>
                </a:lnTo>
                <a:lnTo>
                  <a:pt x="6573869" y="950108"/>
                </a:lnTo>
                <a:lnTo>
                  <a:pt x="6562885" y="952854"/>
                </a:lnTo>
                <a:lnTo>
                  <a:pt x="6546409" y="963838"/>
                </a:lnTo>
                <a:lnTo>
                  <a:pt x="6538171" y="966584"/>
                </a:lnTo>
                <a:lnTo>
                  <a:pt x="6532679" y="969330"/>
                </a:lnTo>
                <a:lnTo>
                  <a:pt x="6524441" y="969330"/>
                </a:lnTo>
                <a:lnTo>
                  <a:pt x="6518949" y="966584"/>
                </a:lnTo>
                <a:lnTo>
                  <a:pt x="6516203" y="961092"/>
                </a:lnTo>
                <a:lnTo>
                  <a:pt x="6516203" y="955600"/>
                </a:lnTo>
                <a:lnTo>
                  <a:pt x="6516203" y="947362"/>
                </a:lnTo>
                <a:lnTo>
                  <a:pt x="6513457" y="944616"/>
                </a:lnTo>
                <a:lnTo>
                  <a:pt x="6510711" y="941870"/>
                </a:lnTo>
                <a:lnTo>
                  <a:pt x="6507965" y="944616"/>
                </a:lnTo>
                <a:lnTo>
                  <a:pt x="6505219" y="944616"/>
                </a:lnTo>
                <a:lnTo>
                  <a:pt x="6499727" y="944616"/>
                </a:lnTo>
                <a:lnTo>
                  <a:pt x="6496981" y="936378"/>
                </a:lnTo>
                <a:lnTo>
                  <a:pt x="6494235" y="928140"/>
                </a:lnTo>
                <a:lnTo>
                  <a:pt x="6491489" y="919902"/>
                </a:lnTo>
                <a:lnTo>
                  <a:pt x="6488743" y="917156"/>
                </a:lnTo>
                <a:lnTo>
                  <a:pt x="6483251" y="914410"/>
                </a:lnTo>
                <a:lnTo>
                  <a:pt x="6480505" y="919902"/>
                </a:lnTo>
                <a:lnTo>
                  <a:pt x="6477759" y="922648"/>
                </a:lnTo>
                <a:lnTo>
                  <a:pt x="6483251" y="930886"/>
                </a:lnTo>
                <a:lnTo>
                  <a:pt x="6483251" y="936378"/>
                </a:lnTo>
                <a:lnTo>
                  <a:pt x="6480505" y="941870"/>
                </a:lnTo>
                <a:lnTo>
                  <a:pt x="6477759" y="944616"/>
                </a:lnTo>
                <a:lnTo>
                  <a:pt x="6464030" y="950108"/>
                </a:lnTo>
                <a:lnTo>
                  <a:pt x="6458538" y="955600"/>
                </a:lnTo>
                <a:lnTo>
                  <a:pt x="6464030" y="958346"/>
                </a:lnTo>
                <a:lnTo>
                  <a:pt x="6466776" y="963838"/>
                </a:lnTo>
                <a:lnTo>
                  <a:pt x="6466776" y="966584"/>
                </a:lnTo>
                <a:lnTo>
                  <a:pt x="6461284" y="974822"/>
                </a:lnTo>
                <a:lnTo>
                  <a:pt x="6453046" y="980314"/>
                </a:lnTo>
                <a:lnTo>
                  <a:pt x="6439316" y="985806"/>
                </a:lnTo>
                <a:lnTo>
                  <a:pt x="6425586" y="991298"/>
                </a:lnTo>
                <a:lnTo>
                  <a:pt x="6414602" y="991298"/>
                </a:lnTo>
                <a:lnTo>
                  <a:pt x="6403618" y="988552"/>
                </a:lnTo>
                <a:lnTo>
                  <a:pt x="6398126" y="985806"/>
                </a:lnTo>
                <a:lnTo>
                  <a:pt x="6398126" y="980314"/>
                </a:lnTo>
                <a:lnTo>
                  <a:pt x="6395380" y="977568"/>
                </a:lnTo>
                <a:lnTo>
                  <a:pt x="6395380" y="969330"/>
                </a:lnTo>
                <a:lnTo>
                  <a:pt x="6395380" y="966584"/>
                </a:lnTo>
                <a:lnTo>
                  <a:pt x="6395380" y="963838"/>
                </a:lnTo>
                <a:lnTo>
                  <a:pt x="6384396" y="961092"/>
                </a:lnTo>
                <a:lnTo>
                  <a:pt x="6370666" y="961092"/>
                </a:lnTo>
                <a:lnTo>
                  <a:pt x="6356936" y="963838"/>
                </a:lnTo>
                <a:lnTo>
                  <a:pt x="6365174" y="977568"/>
                </a:lnTo>
                <a:lnTo>
                  <a:pt x="6367920" y="994044"/>
                </a:lnTo>
                <a:lnTo>
                  <a:pt x="6373412" y="1007774"/>
                </a:lnTo>
                <a:lnTo>
                  <a:pt x="6381650" y="1021504"/>
                </a:lnTo>
                <a:lnTo>
                  <a:pt x="6074986" y="1052594"/>
                </a:lnTo>
                <a:lnTo>
                  <a:pt x="6079593" y="1057201"/>
                </a:lnTo>
                <a:lnTo>
                  <a:pt x="6082339" y="1065439"/>
                </a:lnTo>
                <a:lnTo>
                  <a:pt x="6079593" y="1081915"/>
                </a:lnTo>
                <a:lnTo>
                  <a:pt x="6076847" y="1098391"/>
                </a:lnTo>
                <a:lnTo>
                  <a:pt x="6074101" y="1114867"/>
                </a:lnTo>
                <a:lnTo>
                  <a:pt x="6074101" y="1125850"/>
                </a:lnTo>
                <a:lnTo>
                  <a:pt x="6075474" y="1129969"/>
                </a:lnTo>
                <a:lnTo>
                  <a:pt x="6071355" y="1125850"/>
                </a:lnTo>
                <a:lnTo>
                  <a:pt x="6063117" y="1123104"/>
                </a:lnTo>
                <a:lnTo>
                  <a:pt x="6054879" y="1120359"/>
                </a:lnTo>
                <a:lnTo>
                  <a:pt x="6047557" y="1120359"/>
                </a:lnTo>
                <a:lnTo>
                  <a:pt x="6049387" y="1114867"/>
                </a:lnTo>
                <a:lnTo>
                  <a:pt x="6049387" y="1095645"/>
                </a:lnTo>
                <a:lnTo>
                  <a:pt x="6047204" y="1080360"/>
                </a:lnTo>
                <a:lnTo>
                  <a:pt x="6065863" y="1081915"/>
                </a:lnTo>
                <a:lnTo>
                  <a:pt x="6052133" y="1057201"/>
                </a:lnTo>
                <a:lnTo>
                  <a:pt x="6049387" y="1068185"/>
                </a:lnTo>
                <a:lnTo>
                  <a:pt x="6046642" y="1076423"/>
                </a:lnTo>
                <a:lnTo>
                  <a:pt x="6047204" y="1080360"/>
                </a:lnTo>
                <a:lnTo>
                  <a:pt x="6032912" y="1079169"/>
                </a:lnTo>
                <a:lnTo>
                  <a:pt x="5999960" y="1081915"/>
                </a:lnTo>
                <a:lnTo>
                  <a:pt x="5936802" y="1090153"/>
                </a:lnTo>
                <a:lnTo>
                  <a:pt x="5919059" y="1091631"/>
                </a:lnTo>
                <a:lnTo>
                  <a:pt x="5920326" y="1092899"/>
                </a:lnTo>
                <a:lnTo>
                  <a:pt x="5923072" y="1095645"/>
                </a:lnTo>
                <a:lnTo>
                  <a:pt x="5923072" y="1101137"/>
                </a:lnTo>
                <a:lnTo>
                  <a:pt x="5920326" y="1103883"/>
                </a:lnTo>
                <a:lnTo>
                  <a:pt x="5914834" y="1103883"/>
                </a:lnTo>
                <a:lnTo>
                  <a:pt x="5898359" y="1101137"/>
                </a:lnTo>
                <a:lnTo>
                  <a:pt x="5881883" y="1101137"/>
                </a:lnTo>
                <a:lnTo>
                  <a:pt x="5862661" y="1101137"/>
                </a:lnTo>
                <a:lnTo>
                  <a:pt x="5840693" y="1101137"/>
                </a:lnTo>
                <a:lnTo>
                  <a:pt x="5837947" y="1101137"/>
                </a:lnTo>
                <a:lnTo>
                  <a:pt x="5837947" y="1098391"/>
                </a:lnTo>
                <a:lnTo>
                  <a:pt x="5840693" y="1090153"/>
                </a:lnTo>
                <a:lnTo>
                  <a:pt x="5843211" y="1087636"/>
                </a:lnTo>
                <a:lnTo>
                  <a:pt x="5840693" y="1087407"/>
                </a:lnTo>
                <a:lnTo>
                  <a:pt x="5815252" y="1078926"/>
                </a:lnTo>
                <a:lnTo>
                  <a:pt x="5785773" y="1081915"/>
                </a:lnTo>
                <a:lnTo>
                  <a:pt x="5761059" y="1084661"/>
                </a:lnTo>
                <a:lnTo>
                  <a:pt x="5741837" y="1070931"/>
                </a:lnTo>
                <a:lnTo>
                  <a:pt x="5733600" y="1062693"/>
                </a:lnTo>
                <a:lnTo>
                  <a:pt x="5725362" y="1057201"/>
                </a:lnTo>
                <a:lnTo>
                  <a:pt x="5719870" y="1057201"/>
                </a:lnTo>
                <a:lnTo>
                  <a:pt x="5711632" y="1057201"/>
                </a:lnTo>
                <a:lnTo>
                  <a:pt x="5700648" y="1062693"/>
                </a:lnTo>
                <a:lnTo>
                  <a:pt x="5692410" y="1068185"/>
                </a:lnTo>
                <a:lnTo>
                  <a:pt x="5689664" y="1068185"/>
                </a:lnTo>
                <a:lnTo>
                  <a:pt x="5684172" y="1068185"/>
                </a:lnTo>
                <a:lnTo>
                  <a:pt x="5681426" y="1065439"/>
                </a:lnTo>
                <a:lnTo>
                  <a:pt x="5681426" y="1062693"/>
                </a:lnTo>
                <a:lnTo>
                  <a:pt x="5681426" y="1057201"/>
                </a:lnTo>
                <a:lnTo>
                  <a:pt x="5681426" y="1054455"/>
                </a:lnTo>
                <a:lnTo>
                  <a:pt x="5675934" y="1051709"/>
                </a:lnTo>
                <a:lnTo>
                  <a:pt x="5656712" y="1051709"/>
                </a:lnTo>
                <a:lnTo>
                  <a:pt x="5631998" y="1051709"/>
                </a:lnTo>
                <a:lnTo>
                  <a:pt x="5577079" y="1059947"/>
                </a:lnTo>
                <a:lnTo>
                  <a:pt x="5549619" y="1068185"/>
                </a:lnTo>
                <a:lnTo>
                  <a:pt x="5524905" y="1076423"/>
                </a:lnTo>
                <a:lnTo>
                  <a:pt x="5502937" y="1084661"/>
                </a:lnTo>
                <a:lnTo>
                  <a:pt x="5489208" y="1092899"/>
                </a:lnTo>
                <a:lnTo>
                  <a:pt x="5480970" y="1095645"/>
                </a:lnTo>
                <a:lnTo>
                  <a:pt x="5475478" y="1095645"/>
                </a:lnTo>
                <a:lnTo>
                  <a:pt x="5469986" y="1090153"/>
                </a:lnTo>
                <a:lnTo>
                  <a:pt x="5461748" y="1090153"/>
                </a:lnTo>
                <a:lnTo>
                  <a:pt x="5459002" y="1084661"/>
                </a:lnTo>
                <a:lnTo>
                  <a:pt x="5456256" y="1084661"/>
                </a:lnTo>
                <a:lnTo>
                  <a:pt x="5456256" y="1090153"/>
                </a:lnTo>
                <a:lnTo>
                  <a:pt x="5459002" y="1090153"/>
                </a:lnTo>
                <a:lnTo>
                  <a:pt x="5439780" y="1095645"/>
                </a:lnTo>
                <a:lnTo>
                  <a:pt x="5420558" y="1106629"/>
                </a:lnTo>
                <a:lnTo>
                  <a:pt x="5392376" y="1119636"/>
                </a:lnTo>
                <a:lnTo>
                  <a:pt x="5394625" y="1121884"/>
                </a:lnTo>
                <a:lnTo>
                  <a:pt x="5406828" y="1120359"/>
                </a:lnTo>
                <a:lnTo>
                  <a:pt x="5439780" y="1117613"/>
                </a:lnTo>
                <a:lnTo>
                  <a:pt x="5394987" y="1122246"/>
                </a:lnTo>
                <a:lnTo>
                  <a:pt x="5395844" y="1123104"/>
                </a:lnTo>
                <a:lnTo>
                  <a:pt x="5406828" y="1136834"/>
                </a:lnTo>
                <a:lnTo>
                  <a:pt x="5406828" y="1140495"/>
                </a:lnTo>
                <a:lnTo>
                  <a:pt x="5409574" y="1139580"/>
                </a:lnTo>
                <a:lnTo>
                  <a:pt x="5428796" y="1125850"/>
                </a:lnTo>
                <a:lnTo>
                  <a:pt x="5448018" y="1117612"/>
                </a:lnTo>
                <a:lnTo>
                  <a:pt x="5469986" y="1109374"/>
                </a:lnTo>
                <a:lnTo>
                  <a:pt x="5491954" y="1106628"/>
                </a:lnTo>
                <a:lnTo>
                  <a:pt x="5502388" y="1106628"/>
                </a:lnTo>
                <a:lnTo>
                  <a:pt x="5505683" y="1098391"/>
                </a:lnTo>
                <a:lnTo>
                  <a:pt x="5508429" y="1095645"/>
                </a:lnTo>
                <a:lnTo>
                  <a:pt x="5511175" y="1095645"/>
                </a:lnTo>
                <a:lnTo>
                  <a:pt x="5516667" y="1095645"/>
                </a:lnTo>
                <a:lnTo>
                  <a:pt x="5519413" y="1101137"/>
                </a:lnTo>
                <a:lnTo>
                  <a:pt x="5519413" y="1103883"/>
                </a:lnTo>
                <a:lnTo>
                  <a:pt x="5519413" y="1108688"/>
                </a:lnTo>
                <a:lnTo>
                  <a:pt x="5533143" y="1112120"/>
                </a:lnTo>
                <a:lnTo>
                  <a:pt x="5549619" y="1123104"/>
                </a:lnTo>
                <a:lnTo>
                  <a:pt x="5552365" y="1125850"/>
                </a:lnTo>
                <a:lnTo>
                  <a:pt x="5549619" y="1128596"/>
                </a:lnTo>
                <a:lnTo>
                  <a:pt x="5524905" y="1120358"/>
                </a:lnTo>
                <a:lnTo>
                  <a:pt x="5500192" y="1120358"/>
                </a:lnTo>
                <a:lnTo>
                  <a:pt x="5472732" y="1123104"/>
                </a:lnTo>
                <a:lnTo>
                  <a:pt x="5448018" y="1131342"/>
                </a:lnTo>
                <a:lnTo>
                  <a:pt x="5437034" y="1136834"/>
                </a:lnTo>
                <a:lnTo>
                  <a:pt x="5423304" y="1147818"/>
                </a:lnTo>
                <a:lnTo>
                  <a:pt x="5406828" y="1156056"/>
                </a:lnTo>
                <a:lnTo>
                  <a:pt x="5402709" y="1156056"/>
                </a:lnTo>
                <a:lnTo>
                  <a:pt x="5393099" y="1175277"/>
                </a:lnTo>
                <a:lnTo>
                  <a:pt x="5387607" y="1194499"/>
                </a:lnTo>
                <a:lnTo>
                  <a:pt x="5384861" y="1213721"/>
                </a:lnTo>
                <a:lnTo>
                  <a:pt x="5382548" y="1232220"/>
                </a:lnTo>
                <a:lnTo>
                  <a:pt x="5382115" y="1227451"/>
                </a:lnTo>
                <a:lnTo>
                  <a:pt x="5379369" y="1197245"/>
                </a:lnTo>
                <a:lnTo>
                  <a:pt x="5373877" y="1175277"/>
                </a:lnTo>
                <a:lnTo>
                  <a:pt x="5373877" y="1164294"/>
                </a:lnTo>
                <a:lnTo>
                  <a:pt x="5376623" y="1156056"/>
                </a:lnTo>
                <a:lnTo>
                  <a:pt x="5379369" y="1136834"/>
                </a:lnTo>
                <a:lnTo>
                  <a:pt x="5379369" y="1131342"/>
                </a:lnTo>
                <a:lnTo>
                  <a:pt x="5376959" y="1124111"/>
                </a:lnTo>
                <a:lnTo>
                  <a:pt x="5360147" y="1125851"/>
                </a:lnTo>
                <a:lnTo>
                  <a:pt x="5362893" y="1123105"/>
                </a:lnTo>
                <a:lnTo>
                  <a:pt x="5362893" y="1116697"/>
                </a:lnTo>
                <a:lnTo>
                  <a:pt x="5351909" y="1114866"/>
                </a:lnTo>
                <a:lnTo>
                  <a:pt x="5349163" y="1112120"/>
                </a:lnTo>
                <a:lnTo>
                  <a:pt x="5346417" y="1109374"/>
                </a:lnTo>
                <a:lnTo>
                  <a:pt x="5349163" y="1106629"/>
                </a:lnTo>
                <a:lnTo>
                  <a:pt x="5338179" y="1106629"/>
                </a:lnTo>
                <a:lnTo>
                  <a:pt x="5310719" y="1106629"/>
                </a:lnTo>
                <a:lnTo>
                  <a:pt x="5296989" y="1103883"/>
                </a:lnTo>
                <a:lnTo>
                  <a:pt x="5283259" y="1101137"/>
                </a:lnTo>
                <a:lnTo>
                  <a:pt x="5272275" y="1095645"/>
                </a:lnTo>
                <a:lnTo>
                  <a:pt x="5264037" y="1087407"/>
                </a:lnTo>
                <a:lnTo>
                  <a:pt x="5269529" y="1087407"/>
                </a:lnTo>
                <a:lnTo>
                  <a:pt x="5266783" y="1081915"/>
                </a:lnTo>
                <a:lnTo>
                  <a:pt x="5258545" y="1079169"/>
                </a:lnTo>
                <a:lnTo>
                  <a:pt x="5255799" y="1070931"/>
                </a:lnTo>
                <a:lnTo>
                  <a:pt x="5261291" y="1073677"/>
                </a:lnTo>
                <a:lnTo>
                  <a:pt x="5261291" y="1068185"/>
                </a:lnTo>
                <a:lnTo>
                  <a:pt x="5255799" y="1068185"/>
                </a:lnTo>
                <a:lnTo>
                  <a:pt x="5244816" y="1073677"/>
                </a:lnTo>
                <a:lnTo>
                  <a:pt x="5242070" y="1076423"/>
                </a:lnTo>
                <a:lnTo>
                  <a:pt x="5239324" y="1084661"/>
                </a:lnTo>
                <a:lnTo>
                  <a:pt x="5236578" y="1090153"/>
                </a:lnTo>
                <a:lnTo>
                  <a:pt x="5233832" y="1087407"/>
                </a:lnTo>
                <a:lnTo>
                  <a:pt x="5228340" y="1087407"/>
                </a:lnTo>
                <a:lnTo>
                  <a:pt x="5225594" y="1090153"/>
                </a:lnTo>
                <a:lnTo>
                  <a:pt x="5217356" y="1095645"/>
                </a:lnTo>
                <a:lnTo>
                  <a:pt x="5198134" y="1098391"/>
                </a:lnTo>
                <a:lnTo>
                  <a:pt x="5198134" y="1095645"/>
                </a:lnTo>
                <a:lnTo>
                  <a:pt x="5200880" y="1095645"/>
                </a:lnTo>
                <a:lnTo>
                  <a:pt x="5203626" y="1095645"/>
                </a:lnTo>
                <a:lnTo>
                  <a:pt x="5203626" y="1092899"/>
                </a:lnTo>
                <a:lnTo>
                  <a:pt x="5200880" y="1092899"/>
                </a:lnTo>
                <a:lnTo>
                  <a:pt x="5200880" y="1090153"/>
                </a:lnTo>
                <a:lnTo>
                  <a:pt x="5192642" y="1095645"/>
                </a:lnTo>
                <a:lnTo>
                  <a:pt x="5189896" y="1098391"/>
                </a:lnTo>
                <a:lnTo>
                  <a:pt x="5187150" y="1098391"/>
                </a:lnTo>
                <a:lnTo>
                  <a:pt x="5181658" y="1098391"/>
                </a:lnTo>
                <a:lnTo>
                  <a:pt x="5176166" y="1095645"/>
                </a:lnTo>
                <a:lnTo>
                  <a:pt x="5176166" y="1092899"/>
                </a:lnTo>
                <a:lnTo>
                  <a:pt x="5181658" y="1092899"/>
                </a:lnTo>
                <a:lnTo>
                  <a:pt x="5181658" y="1087407"/>
                </a:lnTo>
                <a:lnTo>
                  <a:pt x="5176166" y="1090153"/>
                </a:lnTo>
                <a:lnTo>
                  <a:pt x="5167928" y="1090153"/>
                </a:lnTo>
                <a:lnTo>
                  <a:pt x="5156944" y="1087407"/>
                </a:lnTo>
                <a:lnTo>
                  <a:pt x="5154198" y="1092899"/>
                </a:lnTo>
                <a:lnTo>
                  <a:pt x="5151452" y="1094272"/>
                </a:lnTo>
                <a:lnTo>
                  <a:pt x="5151452" y="1092899"/>
                </a:lnTo>
                <a:lnTo>
                  <a:pt x="5143214" y="1092899"/>
                </a:lnTo>
                <a:lnTo>
                  <a:pt x="5148706" y="1106629"/>
                </a:lnTo>
                <a:lnTo>
                  <a:pt x="5134976" y="1106629"/>
                </a:lnTo>
                <a:lnTo>
                  <a:pt x="5134976" y="1103883"/>
                </a:lnTo>
                <a:lnTo>
                  <a:pt x="5129485" y="1101137"/>
                </a:lnTo>
                <a:lnTo>
                  <a:pt x="5132230" y="1103883"/>
                </a:lnTo>
                <a:lnTo>
                  <a:pt x="5129485" y="1106629"/>
                </a:lnTo>
                <a:lnTo>
                  <a:pt x="5129485" y="1109375"/>
                </a:lnTo>
                <a:lnTo>
                  <a:pt x="5134976" y="1109375"/>
                </a:lnTo>
                <a:lnTo>
                  <a:pt x="5137722" y="1117613"/>
                </a:lnTo>
                <a:lnTo>
                  <a:pt x="5140468" y="1120359"/>
                </a:lnTo>
                <a:lnTo>
                  <a:pt x="5143214" y="1123105"/>
                </a:lnTo>
                <a:lnTo>
                  <a:pt x="5145960" y="1120359"/>
                </a:lnTo>
                <a:lnTo>
                  <a:pt x="5151452" y="1120359"/>
                </a:lnTo>
                <a:lnTo>
                  <a:pt x="5151452" y="1123105"/>
                </a:lnTo>
                <a:lnTo>
                  <a:pt x="5156944" y="1120359"/>
                </a:lnTo>
                <a:lnTo>
                  <a:pt x="5176166" y="1120359"/>
                </a:lnTo>
                <a:lnTo>
                  <a:pt x="5173420" y="1125851"/>
                </a:lnTo>
                <a:lnTo>
                  <a:pt x="5170674" y="1128597"/>
                </a:lnTo>
                <a:lnTo>
                  <a:pt x="5165182" y="1125851"/>
                </a:lnTo>
                <a:lnTo>
                  <a:pt x="5162436" y="1125851"/>
                </a:lnTo>
                <a:lnTo>
                  <a:pt x="5159690" y="1125851"/>
                </a:lnTo>
                <a:lnTo>
                  <a:pt x="5159690" y="1134089"/>
                </a:lnTo>
                <a:lnTo>
                  <a:pt x="5162436" y="1139581"/>
                </a:lnTo>
                <a:lnTo>
                  <a:pt x="5165182" y="1136835"/>
                </a:lnTo>
                <a:lnTo>
                  <a:pt x="5170674" y="1136835"/>
                </a:lnTo>
                <a:lnTo>
                  <a:pt x="5170674" y="1131343"/>
                </a:lnTo>
                <a:lnTo>
                  <a:pt x="5173420" y="1128597"/>
                </a:lnTo>
                <a:lnTo>
                  <a:pt x="5181658" y="1128597"/>
                </a:lnTo>
                <a:lnTo>
                  <a:pt x="5187150" y="1131343"/>
                </a:lnTo>
                <a:lnTo>
                  <a:pt x="5192642" y="1128597"/>
                </a:lnTo>
                <a:lnTo>
                  <a:pt x="5195388" y="1125851"/>
                </a:lnTo>
                <a:lnTo>
                  <a:pt x="5192642" y="1123105"/>
                </a:lnTo>
                <a:lnTo>
                  <a:pt x="5195388" y="1120359"/>
                </a:lnTo>
                <a:lnTo>
                  <a:pt x="5198134" y="1120359"/>
                </a:lnTo>
                <a:lnTo>
                  <a:pt x="5200880" y="1120359"/>
                </a:lnTo>
                <a:lnTo>
                  <a:pt x="5200880" y="1125851"/>
                </a:lnTo>
                <a:lnTo>
                  <a:pt x="5200880" y="1131343"/>
                </a:lnTo>
                <a:lnTo>
                  <a:pt x="5200880" y="1134088"/>
                </a:lnTo>
                <a:lnTo>
                  <a:pt x="5220102" y="1129282"/>
                </a:lnTo>
                <a:lnTo>
                  <a:pt x="5220102" y="1128597"/>
                </a:lnTo>
                <a:lnTo>
                  <a:pt x="5217356" y="1128597"/>
                </a:lnTo>
                <a:lnTo>
                  <a:pt x="5217356" y="1125851"/>
                </a:lnTo>
                <a:lnTo>
                  <a:pt x="5220102" y="1123105"/>
                </a:lnTo>
                <a:lnTo>
                  <a:pt x="5217356" y="1120359"/>
                </a:lnTo>
                <a:lnTo>
                  <a:pt x="5211864" y="1117613"/>
                </a:lnTo>
                <a:lnTo>
                  <a:pt x="5244816" y="1120359"/>
                </a:lnTo>
                <a:lnTo>
                  <a:pt x="5247561" y="1121274"/>
                </a:lnTo>
                <a:lnTo>
                  <a:pt x="5296989" y="1106628"/>
                </a:lnTo>
                <a:lnTo>
                  <a:pt x="5299735" y="1106628"/>
                </a:lnTo>
                <a:lnTo>
                  <a:pt x="5299735" y="1109374"/>
                </a:lnTo>
                <a:lnTo>
                  <a:pt x="5299735" y="1112120"/>
                </a:lnTo>
                <a:lnTo>
                  <a:pt x="5288751" y="1120358"/>
                </a:lnTo>
                <a:lnTo>
                  <a:pt x="5277767" y="1125850"/>
                </a:lnTo>
                <a:lnTo>
                  <a:pt x="5269921" y="1128792"/>
                </a:lnTo>
                <a:lnTo>
                  <a:pt x="5280513" y="1134089"/>
                </a:lnTo>
                <a:lnTo>
                  <a:pt x="5239324" y="1139581"/>
                </a:lnTo>
                <a:lnTo>
                  <a:pt x="5239324" y="1137556"/>
                </a:lnTo>
                <a:lnTo>
                  <a:pt x="5225993" y="1140363"/>
                </a:lnTo>
                <a:lnTo>
                  <a:pt x="5220102" y="1142327"/>
                </a:lnTo>
                <a:lnTo>
                  <a:pt x="5221019" y="1141410"/>
                </a:lnTo>
                <a:lnTo>
                  <a:pt x="5203626" y="1145072"/>
                </a:lnTo>
                <a:lnTo>
                  <a:pt x="5173420" y="1156056"/>
                </a:lnTo>
                <a:lnTo>
                  <a:pt x="5162436" y="1158802"/>
                </a:lnTo>
                <a:lnTo>
                  <a:pt x="5159690" y="1164294"/>
                </a:lnTo>
                <a:lnTo>
                  <a:pt x="5156944" y="1169785"/>
                </a:lnTo>
                <a:lnTo>
                  <a:pt x="5151452" y="1175277"/>
                </a:lnTo>
                <a:lnTo>
                  <a:pt x="5145961" y="1180769"/>
                </a:lnTo>
                <a:lnTo>
                  <a:pt x="5140469" y="1183515"/>
                </a:lnTo>
                <a:lnTo>
                  <a:pt x="5115755" y="1189007"/>
                </a:lnTo>
                <a:lnTo>
                  <a:pt x="5091041" y="1191753"/>
                </a:lnTo>
                <a:lnTo>
                  <a:pt x="5069989" y="1191753"/>
                </a:lnTo>
                <a:lnTo>
                  <a:pt x="5077311" y="1186261"/>
                </a:lnTo>
                <a:lnTo>
                  <a:pt x="5085549" y="1172531"/>
                </a:lnTo>
                <a:lnTo>
                  <a:pt x="5047105" y="1183515"/>
                </a:lnTo>
                <a:lnTo>
                  <a:pt x="5055343" y="1189007"/>
                </a:lnTo>
                <a:lnTo>
                  <a:pt x="5066327" y="1191753"/>
                </a:lnTo>
                <a:lnTo>
                  <a:pt x="5069989" y="1191753"/>
                </a:lnTo>
                <a:lnTo>
                  <a:pt x="5066327" y="1194499"/>
                </a:lnTo>
                <a:lnTo>
                  <a:pt x="5052597" y="1199991"/>
                </a:lnTo>
                <a:lnTo>
                  <a:pt x="5038867" y="1199991"/>
                </a:lnTo>
                <a:lnTo>
                  <a:pt x="5030630" y="1197245"/>
                </a:lnTo>
                <a:lnTo>
                  <a:pt x="5027884" y="1191753"/>
                </a:lnTo>
                <a:lnTo>
                  <a:pt x="5019646" y="1180769"/>
                </a:lnTo>
                <a:lnTo>
                  <a:pt x="5016900" y="1175277"/>
                </a:lnTo>
                <a:lnTo>
                  <a:pt x="5014154" y="1172531"/>
                </a:lnTo>
                <a:lnTo>
                  <a:pt x="5003170" y="1167039"/>
                </a:lnTo>
                <a:lnTo>
                  <a:pt x="4997999" y="1164454"/>
                </a:lnTo>
                <a:lnTo>
                  <a:pt x="4843903" y="1180770"/>
                </a:lnTo>
                <a:lnTo>
                  <a:pt x="4838411" y="1180770"/>
                </a:lnTo>
                <a:lnTo>
                  <a:pt x="4835665" y="1180770"/>
                </a:lnTo>
                <a:lnTo>
                  <a:pt x="4769761" y="1189008"/>
                </a:lnTo>
                <a:lnTo>
                  <a:pt x="4764270" y="1180770"/>
                </a:lnTo>
                <a:lnTo>
                  <a:pt x="4753286" y="1178024"/>
                </a:lnTo>
                <a:lnTo>
                  <a:pt x="4745048" y="1175278"/>
                </a:lnTo>
                <a:lnTo>
                  <a:pt x="4736810" y="1169786"/>
                </a:lnTo>
                <a:lnTo>
                  <a:pt x="4728572" y="1175278"/>
                </a:lnTo>
                <a:lnTo>
                  <a:pt x="4720334" y="1178024"/>
                </a:lnTo>
                <a:lnTo>
                  <a:pt x="4712096" y="1180770"/>
                </a:lnTo>
                <a:lnTo>
                  <a:pt x="4706604" y="1183516"/>
                </a:lnTo>
                <a:lnTo>
                  <a:pt x="4706604" y="1189008"/>
                </a:lnTo>
                <a:lnTo>
                  <a:pt x="4703858" y="1194500"/>
                </a:lnTo>
                <a:lnTo>
                  <a:pt x="4561067" y="1208230"/>
                </a:lnTo>
                <a:lnTo>
                  <a:pt x="4558321" y="1208230"/>
                </a:lnTo>
                <a:lnTo>
                  <a:pt x="4558321" y="1210976"/>
                </a:lnTo>
                <a:lnTo>
                  <a:pt x="4032232" y="1267167"/>
                </a:lnTo>
                <a:lnTo>
                  <a:pt x="4025601" y="1268640"/>
                </a:lnTo>
                <a:lnTo>
                  <a:pt x="4018437" y="1268640"/>
                </a:lnTo>
                <a:lnTo>
                  <a:pt x="3932144" y="1277857"/>
                </a:lnTo>
                <a:lnTo>
                  <a:pt x="3929493" y="1279625"/>
                </a:lnTo>
                <a:lnTo>
                  <a:pt x="3910271" y="1293355"/>
                </a:lnTo>
                <a:lnTo>
                  <a:pt x="3896541" y="1301593"/>
                </a:lnTo>
                <a:lnTo>
                  <a:pt x="3891049" y="1307085"/>
                </a:lnTo>
                <a:lnTo>
                  <a:pt x="3888303" y="1312577"/>
                </a:lnTo>
                <a:lnTo>
                  <a:pt x="3885557" y="1331798"/>
                </a:lnTo>
                <a:lnTo>
                  <a:pt x="3885557" y="1351020"/>
                </a:lnTo>
                <a:lnTo>
                  <a:pt x="3885557" y="1351020"/>
                </a:lnTo>
                <a:lnTo>
                  <a:pt x="3891049" y="1378480"/>
                </a:lnTo>
                <a:lnTo>
                  <a:pt x="3904779" y="1438891"/>
                </a:lnTo>
                <a:lnTo>
                  <a:pt x="3904779" y="1447129"/>
                </a:lnTo>
                <a:lnTo>
                  <a:pt x="3899287" y="1452621"/>
                </a:lnTo>
                <a:lnTo>
                  <a:pt x="3891049" y="1458113"/>
                </a:lnTo>
                <a:lnTo>
                  <a:pt x="3885557" y="1458113"/>
                </a:lnTo>
                <a:lnTo>
                  <a:pt x="3880065" y="1458113"/>
                </a:lnTo>
                <a:lnTo>
                  <a:pt x="3877319" y="1455367"/>
                </a:lnTo>
                <a:lnTo>
                  <a:pt x="3871827" y="1452621"/>
                </a:lnTo>
                <a:lnTo>
                  <a:pt x="3871827" y="1447129"/>
                </a:lnTo>
                <a:lnTo>
                  <a:pt x="3871827" y="1441637"/>
                </a:lnTo>
                <a:lnTo>
                  <a:pt x="3871827" y="1438891"/>
                </a:lnTo>
                <a:lnTo>
                  <a:pt x="3877319" y="1433399"/>
                </a:lnTo>
                <a:lnTo>
                  <a:pt x="3880065" y="1430653"/>
                </a:lnTo>
                <a:lnTo>
                  <a:pt x="3880065" y="1425161"/>
                </a:lnTo>
                <a:lnTo>
                  <a:pt x="3882811" y="1408686"/>
                </a:lnTo>
                <a:lnTo>
                  <a:pt x="3880065" y="1381226"/>
                </a:lnTo>
                <a:lnTo>
                  <a:pt x="3880065" y="1353766"/>
                </a:lnTo>
                <a:lnTo>
                  <a:pt x="3880065" y="1351020"/>
                </a:lnTo>
                <a:lnTo>
                  <a:pt x="3877319" y="1320815"/>
                </a:lnTo>
                <a:lnTo>
                  <a:pt x="3874573" y="1309831"/>
                </a:lnTo>
                <a:lnTo>
                  <a:pt x="3871827" y="1304339"/>
                </a:lnTo>
                <a:lnTo>
                  <a:pt x="3866335" y="1301593"/>
                </a:lnTo>
                <a:lnTo>
                  <a:pt x="3858098" y="1301593"/>
                </a:lnTo>
                <a:lnTo>
                  <a:pt x="3844368" y="1298847"/>
                </a:lnTo>
                <a:lnTo>
                  <a:pt x="3827892" y="1296101"/>
                </a:lnTo>
                <a:lnTo>
                  <a:pt x="3811416" y="1293355"/>
                </a:lnTo>
                <a:lnTo>
                  <a:pt x="3810500" y="1293355"/>
                </a:lnTo>
                <a:lnTo>
                  <a:pt x="3803178" y="1298847"/>
                </a:lnTo>
                <a:lnTo>
                  <a:pt x="3800432" y="1301593"/>
                </a:lnTo>
                <a:lnTo>
                  <a:pt x="3797686" y="1304339"/>
                </a:lnTo>
                <a:lnTo>
                  <a:pt x="3792194" y="1312577"/>
                </a:lnTo>
                <a:lnTo>
                  <a:pt x="3790197" y="1313076"/>
                </a:lnTo>
                <a:lnTo>
                  <a:pt x="3789448" y="1315323"/>
                </a:lnTo>
                <a:lnTo>
                  <a:pt x="3786702" y="1323561"/>
                </a:lnTo>
                <a:lnTo>
                  <a:pt x="3781654" y="1325244"/>
                </a:lnTo>
                <a:lnTo>
                  <a:pt x="3783956" y="1348275"/>
                </a:lnTo>
                <a:lnTo>
                  <a:pt x="3786702" y="1372988"/>
                </a:lnTo>
                <a:lnTo>
                  <a:pt x="3789448" y="1411432"/>
                </a:lnTo>
                <a:lnTo>
                  <a:pt x="3792194" y="1449876"/>
                </a:lnTo>
                <a:lnTo>
                  <a:pt x="3792194" y="1488319"/>
                </a:lnTo>
                <a:lnTo>
                  <a:pt x="3789448" y="1526763"/>
                </a:lnTo>
                <a:lnTo>
                  <a:pt x="3786702" y="1548731"/>
                </a:lnTo>
                <a:lnTo>
                  <a:pt x="3783956" y="1573445"/>
                </a:lnTo>
                <a:lnTo>
                  <a:pt x="3783956" y="1584429"/>
                </a:lnTo>
                <a:lnTo>
                  <a:pt x="3783956" y="1595412"/>
                </a:lnTo>
                <a:lnTo>
                  <a:pt x="3789448" y="1606396"/>
                </a:lnTo>
                <a:lnTo>
                  <a:pt x="3794940" y="1614634"/>
                </a:lnTo>
                <a:lnTo>
                  <a:pt x="3803178" y="1622872"/>
                </a:lnTo>
                <a:lnTo>
                  <a:pt x="3811416" y="1633856"/>
                </a:lnTo>
                <a:lnTo>
                  <a:pt x="3814162" y="1644840"/>
                </a:lnTo>
                <a:lnTo>
                  <a:pt x="3816908" y="1658570"/>
                </a:lnTo>
                <a:lnTo>
                  <a:pt x="3819654" y="1675046"/>
                </a:lnTo>
                <a:lnTo>
                  <a:pt x="3819654" y="1688776"/>
                </a:lnTo>
                <a:lnTo>
                  <a:pt x="3816908" y="1699760"/>
                </a:lnTo>
                <a:lnTo>
                  <a:pt x="3811416" y="1710743"/>
                </a:lnTo>
                <a:lnTo>
                  <a:pt x="3803178" y="1721727"/>
                </a:lnTo>
                <a:lnTo>
                  <a:pt x="3792194" y="1727219"/>
                </a:lnTo>
                <a:lnTo>
                  <a:pt x="3781211" y="1732711"/>
                </a:lnTo>
                <a:lnTo>
                  <a:pt x="3767481" y="1738203"/>
                </a:lnTo>
                <a:lnTo>
                  <a:pt x="3759243" y="1738203"/>
                </a:lnTo>
                <a:lnTo>
                  <a:pt x="3753751" y="1735457"/>
                </a:lnTo>
                <a:lnTo>
                  <a:pt x="3751005" y="1729965"/>
                </a:lnTo>
                <a:lnTo>
                  <a:pt x="3751005" y="1721727"/>
                </a:lnTo>
                <a:lnTo>
                  <a:pt x="3756497" y="1699760"/>
                </a:lnTo>
                <a:lnTo>
                  <a:pt x="3759243" y="1688776"/>
                </a:lnTo>
                <a:lnTo>
                  <a:pt x="3764735" y="1677792"/>
                </a:lnTo>
                <a:lnTo>
                  <a:pt x="3770227" y="1661316"/>
                </a:lnTo>
                <a:lnTo>
                  <a:pt x="3772973" y="1644840"/>
                </a:lnTo>
                <a:lnTo>
                  <a:pt x="3772973" y="1628364"/>
                </a:lnTo>
                <a:lnTo>
                  <a:pt x="3770227" y="1611888"/>
                </a:lnTo>
                <a:lnTo>
                  <a:pt x="3770227" y="1598158"/>
                </a:lnTo>
                <a:lnTo>
                  <a:pt x="3772973" y="1581683"/>
                </a:lnTo>
                <a:lnTo>
                  <a:pt x="3778465" y="1554223"/>
                </a:lnTo>
                <a:lnTo>
                  <a:pt x="3783956" y="1502049"/>
                </a:lnTo>
                <a:lnTo>
                  <a:pt x="3786702" y="1474589"/>
                </a:lnTo>
                <a:lnTo>
                  <a:pt x="3786702" y="1447130"/>
                </a:lnTo>
                <a:lnTo>
                  <a:pt x="3783956" y="1419670"/>
                </a:lnTo>
                <a:lnTo>
                  <a:pt x="3778465" y="1392210"/>
                </a:lnTo>
                <a:lnTo>
                  <a:pt x="3767481" y="1370242"/>
                </a:lnTo>
                <a:lnTo>
                  <a:pt x="3753751" y="1351021"/>
                </a:lnTo>
                <a:lnTo>
                  <a:pt x="3748259" y="1340037"/>
                </a:lnTo>
                <a:lnTo>
                  <a:pt x="3737275" y="1323561"/>
                </a:lnTo>
                <a:lnTo>
                  <a:pt x="3731783" y="1312577"/>
                </a:lnTo>
                <a:lnTo>
                  <a:pt x="3729037" y="1304339"/>
                </a:lnTo>
                <a:lnTo>
                  <a:pt x="3731566" y="1299281"/>
                </a:lnTo>
                <a:lnTo>
                  <a:pt x="3709696" y="1301617"/>
                </a:lnTo>
                <a:lnTo>
                  <a:pt x="3696085" y="1304339"/>
                </a:lnTo>
                <a:lnTo>
                  <a:pt x="3685101" y="1307085"/>
                </a:lnTo>
                <a:lnTo>
                  <a:pt x="3680578" y="1306762"/>
                </a:lnTo>
                <a:lnTo>
                  <a:pt x="3671370" y="1309831"/>
                </a:lnTo>
                <a:lnTo>
                  <a:pt x="3638419" y="1315323"/>
                </a:lnTo>
                <a:lnTo>
                  <a:pt x="3621943" y="1318069"/>
                </a:lnTo>
                <a:lnTo>
                  <a:pt x="3608213" y="1320815"/>
                </a:lnTo>
                <a:lnTo>
                  <a:pt x="3591737" y="1326307"/>
                </a:lnTo>
                <a:lnTo>
                  <a:pt x="3580753" y="1337290"/>
                </a:lnTo>
                <a:lnTo>
                  <a:pt x="3575261" y="1342782"/>
                </a:lnTo>
                <a:lnTo>
                  <a:pt x="3569769" y="1342782"/>
                </a:lnTo>
                <a:lnTo>
                  <a:pt x="3558785" y="1342782"/>
                </a:lnTo>
                <a:lnTo>
                  <a:pt x="3545055" y="1337290"/>
                </a:lnTo>
                <a:lnTo>
                  <a:pt x="3542071" y="1335500"/>
                </a:lnTo>
                <a:lnTo>
                  <a:pt x="3542309" y="1334544"/>
                </a:lnTo>
                <a:lnTo>
                  <a:pt x="3547801" y="1326307"/>
                </a:lnTo>
                <a:lnTo>
                  <a:pt x="3531326" y="1329053"/>
                </a:lnTo>
                <a:lnTo>
                  <a:pt x="3542071" y="1335500"/>
                </a:lnTo>
                <a:lnTo>
                  <a:pt x="3539564" y="1345528"/>
                </a:lnTo>
                <a:lnTo>
                  <a:pt x="3534072" y="1351020"/>
                </a:lnTo>
                <a:lnTo>
                  <a:pt x="3528580" y="1353766"/>
                </a:lnTo>
                <a:lnTo>
                  <a:pt x="3523088" y="1351020"/>
                </a:lnTo>
                <a:lnTo>
                  <a:pt x="3520342" y="1348274"/>
                </a:lnTo>
                <a:lnTo>
                  <a:pt x="3514850" y="1340036"/>
                </a:lnTo>
                <a:lnTo>
                  <a:pt x="3506612" y="1331798"/>
                </a:lnTo>
                <a:lnTo>
                  <a:pt x="3498374" y="1329053"/>
                </a:lnTo>
                <a:lnTo>
                  <a:pt x="3487390" y="1326307"/>
                </a:lnTo>
                <a:lnTo>
                  <a:pt x="3478538" y="1326307"/>
                </a:lnTo>
                <a:lnTo>
                  <a:pt x="3397870" y="1334923"/>
                </a:lnTo>
                <a:lnTo>
                  <a:pt x="3393378" y="1339414"/>
                </a:lnTo>
                <a:lnTo>
                  <a:pt x="3379648" y="1350398"/>
                </a:lnTo>
                <a:lnTo>
                  <a:pt x="3369763" y="1355341"/>
                </a:lnTo>
                <a:lnTo>
                  <a:pt x="3360426" y="1383350"/>
                </a:lnTo>
                <a:lnTo>
                  <a:pt x="3354934" y="1399826"/>
                </a:lnTo>
                <a:lnTo>
                  <a:pt x="3354934" y="1416302"/>
                </a:lnTo>
                <a:lnTo>
                  <a:pt x="3352188" y="1438270"/>
                </a:lnTo>
                <a:lnTo>
                  <a:pt x="3352188" y="1457491"/>
                </a:lnTo>
                <a:lnTo>
                  <a:pt x="3357680" y="1465729"/>
                </a:lnTo>
                <a:lnTo>
                  <a:pt x="3357680" y="1471221"/>
                </a:lnTo>
                <a:lnTo>
                  <a:pt x="3357680" y="1473967"/>
                </a:lnTo>
                <a:lnTo>
                  <a:pt x="3352188" y="1482205"/>
                </a:lnTo>
                <a:lnTo>
                  <a:pt x="3346696" y="1487697"/>
                </a:lnTo>
                <a:lnTo>
                  <a:pt x="3338458" y="1487697"/>
                </a:lnTo>
                <a:lnTo>
                  <a:pt x="3330221" y="1484951"/>
                </a:lnTo>
                <a:lnTo>
                  <a:pt x="3327475" y="1484951"/>
                </a:lnTo>
                <a:lnTo>
                  <a:pt x="3321983" y="1479459"/>
                </a:lnTo>
                <a:lnTo>
                  <a:pt x="3321983" y="1473967"/>
                </a:lnTo>
                <a:lnTo>
                  <a:pt x="3321983" y="1465729"/>
                </a:lnTo>
                <a:lnTo>
                  <a:pt x="3324729" y="1460237"/>
                </a:lnTo>
                <a:lnTo>
                  <a:pt x="3332967" y="1454745"/>
                </a:lnTo>
                <a:lnTo>
                  <a:pt x="3343950" y="1451999"/>
                </a:lnTo>
                <a:lnTo>
                  <a:pt x="3341204" y="1435524"/>
                </a:lnTo>
                <a:lnTo>
                  <a:pt x="3341204" y="1416302"/>
                </a:lnTo>
                <a:lnTo>
                  <a:pt x="3335713" y="1397080"/>
                </a:lnTo>
                <a:lnTo>
                  <a:pt x="3327475" y="1377858"/>
                </a:lnTo>
                <a:lnTo>
                  <a:pt x="3323915" y="1365400"/>
                </a:lnTo>
                <a:lnTo>
                  <a:pt x="3335713" y="1366874"/>
                </a:lnTo>
                <a:lnTo>
                  <a:pt x="3323698" y="1342845"/>
                </a:lnTo>
                <a:lnTo>
                  <a:pt x="3321983" y="1343028"/>
                </a:lnTo>
                <a:lnTo>
                  <a:pt x="3321983" y="1350398"/>
                </a:lnTo>
                <a:lnTo>
                  <a:pt x="3321983" y="1358636"/>
                </a:lnTo>
                <a:lnTo>
                  <a:pt x="3323915" y="1365400"/>
                </a:lnTo>
                <a:lnTo>
                  <a:pt x="3313745" y="1364128"/>
                </a:lnTo>
                <a:lnTo>
                  <a:pt x="3305507" y="1364128"/>
                </a:lnTo>
                <a:lnTo>
                  <a:pt x="3297269" y="1358636"/>
                </a:lnTo>
                <a:lnTo>
                  <a:pt x="3291777" y="1353144"/>
                </a:lnTo>
                <a:lnTo>
                  <a:pt x="3289559" y="1346491"/>
                </a:lnTo>
                <a:lnTo>
                  <a:pt x="2501585" y="1430654"/>
                </a:lnTo>
                <a:lnTo>
                  <a:pt x="3289031" y="1336820"/>
                </a:lnTo>
                <a:lnTo>
                  <a:pt x="3289031" y="1331177"/>
                </a:lnTo>
                <a:lnTo>
                  <a:pt x="3283539" y="1322939"/>
                </a:lnTo>
                <a:lnTo>
                  <a:pt x="3278047" y="1314701"/>
                </a:lnTo>
                <a:lnTo>
                  <a:pt x="3269809" y="1309209"/>
                </a:lnTo>
                <a:lnTo>
                  <a:pt x="3250587" y="1295479"/>
                </a:lnTo>
                <a:lnTo>
                  <a:pt x="3242349" y="1289987"/>
                </a:lnTo>
                <a:lnTo>
                  <a:pt x="3234111" y="1281749"/>
                </a:lnTo>
                <a:lnTo>
                  <a:pt x="3234111" y="1279003"/>
                </a:lnTo>
                <a:lnTo>
                  <a:pt x="3234111" y="1276257"/>
                </a:lnTo>
                <a:lnTo>
                  <a:pt x="3236857" y="1276257"/>
                </a:lnTo>
                <a:lnTo>
                  <a:pt x="3239603" y="1276257"/>
                </a:lnTo>
                <a:lnTo>
                  <a:pt x="3267063" y="1287241"/>
                </a:lnTo>
                <a:lnTo>
                  <a:pt x="3294523" y="1298225"/>
                </a:lnTo>
                <a:lnTo>
                  <a:pt x="3305507" y="1306463"/>
                </a:lnTo>
                <a:lnTo>
                  <a:pt x="3316491" y="1317447"/>
                </a:lnTo>
                <a:lnTo>
                  <a:pt x="3319420" y="1323305"/>
                </a:lnTo>
                <a:lnTo>
                  <a:pt x="3302761" y="1325685"/>
                </a:lnTo>
                <a:lnTo>
                  <a:pt x="3313352" y="1333922"/>
                </a:lnTo>
                <a:lnTo>
                  <a:pt x="3323414" y="1332723"/>
                </a:lnTo>
                <a:lnTo>
                  <a:pt x="3321983" y="1328431"/>
                </a:lnTo>
                <a:lnTo>
                  <a:pt x="3319420" y="1323305"/>
                </a:lnTo>
                <a:lnTo>
                  <a:pt x="3321983" y="1322939"/>
                </a:lnTo>
                <a:lnTo>
                  <a:pt x="3341204" y="1320193"/>
                </a:lnTo>
                <a:lnTo>
                  <a:pt x="3346696" y="1320193"/>
                </a:lnTo>
                <a:lnTo>
                  <a:pt x="3352188" y="1320193"/>
                </a:lnTo>
                <a:lnTo>
                  <a:pt x="3362660" y="1328046"/>
                </a:lnTo>
                <a:lnTo>
                  <a:pt x="3369249" y="1327261"/>
                </a:lnTo>
                <a:lnTo>
                  <a:pt x="3371410" y="1322938"/>
                </a:lnTo>
                <a:lnTo>
                  <a:pt x="3382394" y="1306463"/>
                </a:lnTo>
                <a:lnTo>
                  <a:pt x="3401616" y="1276257"/>
                </a:lnTo>
                <a:lnTo>
                  <a:pt x="3412600" y="1262527"/>
                </a:lnTo>
                <a:lnTo>
                  <a:pt x="3426329" y="1248797"/>
                </a:lnTo>
                <a:lnTo>
                  <a:pt x="3431821" y="1248797"/>
                </a:lnTo>
                <a:lnTo>
                  <a:pt x="3440059" y="1248797"/>
                </a:lnTo>
                <a:lnTo>
                  <a:pt x="3442805" y="1254289"/>
                </a:lnTo>
                <a:lnTo>
                  <a:pt x="3445551" y="1259781"/>
                </a:lnTo>
                <a:lnTo>
                  <a:pt x="3442805" y="1268019"/>
                </a:lnTo>
                <a:lnTo>
                  <a:pt x="3440059" y="1279003"/>
                </a:lnTo>
                <a:lnTo>
                  <a:pt x="3431821" y="1295479"/>
                </a:lnTo>
                <a:lnTo>
                  <a:pt x="3409768" y="1322433"/>
                </a:lnTo>
                <a:lnTo>
                  <a:pt x="3451987" y="1317402"/>
                </a:lnTo>
                <a:lnTo>
                  <a:pt x="3457184" y="1315323"/>
                </a:lnTo>
                <a:lnTo>
                  <a:pt x="3468168" y="1312577"/>
                </a:lnTo>
                <a:lnTo>
                  <a:pt x="3481898" y="1312577"/>
                </a:lnTo>
                <a:lnTo>
                  <a:pt x="3492477" y="1312577"/>
                </a:lnTo>
                <a:lnTo>
                  <a:pt x="3544394" y="1306390"/>
                </a:lnTo>
                <a:lnTo>
                  <a:pt x="3553295" y="1303423"/>
                </a:lnTo>
                <a:lnTo>
                  <a:pt x="3556040" y="1301593"/>
                </a:lnTo>
                <a:lnTo>
                  <a:pt x="3578008" y="1296101"/>
                </a:lnTo>
                <a:lnTo>
                  <a:pt x="3599976" y="1290609"/>
                </a:lnTo>
                <a:lnTo>
                  <a:pt x="3635674" y="1285117"/>
                </a:lnTo>
                <a:lnTo>
                  <a:pt x="3654895" y="1282371"/>
                </a:lnTo>
                <a:lnTo>
                  <a:pt x="3671371" y="1279625"/>
                </a:lnTo>
                <a:lnTo>
                  <a:pt x="3690593" y="1279625"/>
                </a:lnTo>
                <a:lnTo>
                  <a:pt x="3702574" y="1281622"/>
                </a:lnTo>
                <a:lnTo>
                  <a:pt x="3712560" y="1274132"/>
                </a:lnTo>
                <a:lnTo>
                  <a:pt x="3723544" y="1268640"/>
                </a:lnTo>
                <a:lnTo>
                  <a:pt x="3740020" y="1265895"/>
                </a:lnTo>
                <a:lnTo>
                  <a:pt x="3764734" y="1265895"/>
                </a:lnTo>
                <a:lnTo>
                  <a:pt x="3808669" y="1268640"/>
                </a:lnTo>
                <a:lnTo>
                  <a:pt x="3841505" y="1270986"/>
                </a:lnTo>
                <a:lnTo>
                  <a:pt x="3867773" y="1267856"/>
                </a:lnTo>
                <a:lnTo>
                  <a:pt x="3869081" y="1265895"/>
                </a:lnTo>
                <a:lnTo>
                  <a:pt x="3871827" y="1260403"/>
                </a:lnTo>
                <a:lnTo>
                  <a:pt x="3877319" y="1260403"/>
                </a:lnTo>
                <a:lnTo>
                  <a:pt x="3902033" y="1254911"/>
                </a:lnTo>
                <a:lnTo>
                  <a:pt x="3932238" y="1249419"/>
                </a:lnTo>
                <a:lnTo>
                  <a:pt x="3987158" y="1243927"/>
                </a:lnTo>
                <a:lnTo>
                  <a:pt x="4044823" y="1243927"/>
                </a:lnTo>
                <a:lnTo>
                  <a:pt x="4068580" y="1243927"/>
                </a:lnTo>
                <a:lnTo>
                  <a:pt x="4189063" y="1229570"/>
                </a:lnTo>
                <a:lnTo>
                  <a:pt x="4198598" y="1227451"/>
                </a:lnTo>
                <a:lnTo>
                  <a:pt x="4248026" y="1219213"/>
                </a:lnTo>
                <a:lnTo>
                  <a:pt x="4272739" y="1216467"/>
                </a:lnTo>
                <a:lnTo>
                  <a:pt x="4278349" y="1215844"/>
                </a:lnTo>
                <a:lnTo>
                  <a:pt x="4462212" y="1183516"/>
                </a:lnTo>
                <a:lnTo>
                  <a:pt x="4467704" y="1183516"/>
                </a:lnTo>
                <a:lnTo>
                  <a:pt x="4566559" y="1167040"/>
                </a:lnTo>
                <a:lnTo>
                  <a:pt x="4591273" y="1169786"/>
                </a:lnTo>
                <a:lnTo>
                  <a:pt x="4615987" y="1167040"/>
                </a:lnTo>
                <a:lnTo>
                  <a:pt x="4621479" y="1164294"/>
                </a:lnTo>
                <a:lnTo>
                  <a:pt x="4629717" y="1156056"/>
                </a:lnTo>
                <a:lnTo>
                  <a:pt x="4629717" y="1158802"/>
                </a:lnTo>
                <a:lnTo>
                  <a:pt x="4626971" y="1161548"/>
                </a:lnTo>
                <a:lnTo>
                  <a:pt x="4624225" y="1169786"/>
                </a:lnTo>
                <a:lnTo>
                  <a:pt x="4629717" y="1172532"/>
                </a:lnTo>
                <a:lnTo>
                  <a:pt x="4635209" y="1175278"/>
                </a:lnTo>
                <a:lnTo>
                  <a:pt x="4637955" y="1186262"/>
                </a:lnTo>
                <a:lnTo>
                  <a:pt x="4646192" y="1186262"/>
                </a:lnTo>
                <a:lnTo>
                  <a:pt x="4654430" y="1186262"/>
                </a:lnTo>
                <a:lnTo>
                  <a:pt x="4665414" y="1191754"/>
                </a:lnTo>
                <a:lnTo>
                  <a:pt x="4670906" y="1189008"/>
                </a:lnTo>
                <a:lnTo>
                  <a:pt x="4681890" y="1189008"/>
                </a:lnTo>
                <a:lnTo>
                  <a:pt x="4690128" y="1186262"/>
                </a:lnTo>
                <a:lnTo>
                  <a:pt x="4692874" y="1186262"/>
                </a:lnTo>
                <a:lnTo>
                  <a:pt x="4695620" y="1183516"/>
                </a:lnTo>
                <a:lnTo>
                  <a:pt x="4695620" y="1180770"/>
                </a:lnTo>
                <a:lnTo>
                  <a:pt x="4692874" y="1178024"/>
                </a:lnTo>
                <a:lnTo>
                  <a:pt x="4698366" y="1178024"/>
                </a:lnTo>
                <a:lnTo>
                  <a:pt x="4703858" y="1175278"/>
                </a:lnTo>
                <a:lnTo>
                  <a:pt x="4703858" y="1169786"/>
                </a:lnTo>
                <a:lnTo>
                  <a:pt x="4701112" y="1167040"/>
                </a:lnTo>
                <a:lnTo>
                  <a:pt x="4706604" y="1164294"/>
                </a:lnTo>
                <a:lnTo>
                  <a:pt x="4714842" y="1164294"/>
                </a:lnTo>
                <a:lnTo>
                  <a:pt x="4717588" y="1156056"/>
                </a:lnTo>
                <a:lnTo>
                  <a:pt x="4720334" y="1147819"/>
                </a:lnTo>
                <a:lnTo>
                  <a:pt x="4709350" y="1145073"/>
                </a:lnTo>
                <a:lnTo>
                  <a:pt x="4709350" y="1142327"/>
                </a:lnTo>
                <a:lnTo>
                  <a:pt x="4767015" y="1131343"/>
                </a:lnTo>
                <a:lnTo>
                  <a:pt x="4767015" y="1139581"/>
                </a:lnTo>
                <a:lnTo>
                  <a:pt x="4769761" y="1142327"/>
                </a:lnTo>
                <a:lnTo>
                  <a:pt x="4775253" y="1142327"/>
                </a:lnTo>
                <a:lnTo>
                  <a:pt x="4777999" y="1134089"/>
                </a:lnTo>
                <a:lnTo>
                  <a:pt x="4780745" y="1131343"/>
                </a:lnTo>
                <a:lnTo>
                  <a:pt x="4783491" y="1128597"/>
                </a:lnTo>
                <a:lnTo>
                  <a:pt x="4986694" y="1095645"/>
                </a:lnTo>
                <a:lnTo>
                  <a:pt x="4994932" y="1095645"/>
                </a:lnTo>
                <a:lnTo>
                  <a:pt x="4997678" y="1092899"/>
                </a:lnTo>
                <a:lnTo>
                  <a:pt x="5058089" y="1081915"/>
                </a:lnTo>
                <a:lnTo>
                  <a:pt x="5060835" y="1081915"/>
                </a:lnTo>
                <a:lnTo>
                  <a:pt x="5063581" y="1084661"/>
                </a:lnTo>
                <a:lnTo>
                  <a:pt x="5063581" y="1090153"/>
                </a:lnTo>
                <a:lnTo>
                  <a:pt x="5063581" y="1092899"/>
                </a:lnTo>
                <a:lnTo>
                  <a:pt x="5074565" y="1087407"/>
                </a:lnTo>
                <a:lnTo>
                  <a:pt x="5080057" y="1081915"/>
                </a:lnTo>
                <a:lnTo>
                  <a:pt x="5082803" y="1073677"/>
                </a:lnTo>
                <a:lnTo>
                  <a:pt x="5080057" y="1073677"/>
                </a:lnTo>
                <a:lnTo>
                  <a:pt x="5077311" y="1070931"/>
                </a:lnTo>
                <a:lnTo>
                  <a:pt x="5069073" y="1070931"/>
                </a:lnTo>
                <a:lnTo>
                  <a:pt x="5063581" y="1068185"/>
                </a:lnTo>
                <a:lnTo>
                  <a:pt x="5058089" y="1065439"/>
                </a:lnTo>
                <a:lnTo>
                  <a:pt x="5058089" y="1026996"/>
                </a:lnTo>
                <a:lnTo>
                  <a:pt x="5060835" y="1029741"/>
                </a:lnTo>
                <a:lnTo>
                  <a:pt x="5060835" y="1021504"/>
                </a:lnTo>
                <a:lnTo>
                  <a:pt x="5058089" y="1021504"/>
                </a:lnTo>
                <a:lnTo>
                  <a:pt x="5058089" y="985806"/>
                </a:lnTo>
                <a:lnTo>
                  <a:pt x="5063581" y="985806"/>
                </a:lnTo>
                <a:lnTo>
                  <a:pt x="5063581" y="980314"/>
                </a:lnTo>
                <a:lnTo>
                  <a:pt x="5063581" y="974822"/>
                </a:lnTo>
                <a:lnTo>
                  <a:pt x="5058089" y="974822"/>
                </a:lnTo>
                <a:lnTo>
                  <a:pt x="5058089" y="972076"/>
                </a:lnTo>
                <a:lnTo>
                  <a:pt x="5060835" y="972076"/>
                </a:lnTo>
                <a:lnTo>
                  <a:pt x="5060835" y="969330"/>
                </a:lnTo>
                <a:lnTo>
                  <a:pt x="5063581" y="966584"/>
                </a:lnTo>
                <a:lnTo>
                  <a:pt x="5071819" y="980314"/>
                </a:lnTo>
                <a:lnTo>
                  <a:pt x="5077311" y="983060"/>
                </a:lnTo>
                <a:lnTo>
                  <a:pt x="5085549" y="983060"/>
                </a:lnTo>
                <a:lnTo>
                  <a:pt x="5082803" y="980314"/>
                </a:lnTo>
                <a:lnTo>
                  <a:pt x="5082803" y="977568"/>
                </a:lnTo>
                <a:lnTo>
                  <a:pt x="5085549" y="977568"/>
                </a:lnTo>
                <a:lnTo>
                  <a:pt x="5088295" y="974822"/>
                </a:lnTo>
                <a:lnTo>
                  <a:pt x="5091041" y="974822"/>
                </a:lnTo>
                <a:lnTo>
                  <a:pt x="5091041" y="972076"/>
                </a:lnTo>
                <a:lnTo>
                  <a:pt x="5080057" y="966584"/>
                </a:lnTo>
                <a:lnTo>
                  <a:pt x="5074565" y="966584"/>
                </a:lnTo>
                <a:lnTo>
                  <a:pt x="5069073" y="966584"/>
                </a:lnTo>
                <a:lnTo>
                  <a:pt x="5063581" y="966584"/>
                </a:lnTo>
                <a:lnTo>
                  <a:pt x="5058089" y="966584"/>
                </a:lnTo>
                <a:lnTo>
                  <a:pt x="5058089" y="944616"/>
                </a:lnTo>
                <a:lnTo>
                  <a:pt x="5060835" y="944616"/>
                </a:lnTo>
                <a:lnTo>
                  <a:pt x="5063581" y="939124"/>
                </a:lnTo>
                <a:lnTo>
                  <a:pt x="5060835" y="939124"/>
                </a:lnTo>
                <a:lnTo>
                  <a:pt x="5060835" y="930886"/>
                </a:lnTo>
                <a:lnTo>
                  <a:pt x="5058089" y="930886"/>
                </a:lnTo>
                <a:lnTo>
                  <a:pt x="5060835" y="897934"/>
                </a:lnTo>
                <a:lnTo>
                  <a:pt x="5063581" y="897934"/>
                </a:lnTo>
                <a:lnTo>
                  <a:pt x="5063581" y="892442"/>
                </a:lnTo>
                <a:lnTo>
                  <a:pt x="5060835" y="892442"/>
                </a:lnTo>
                <a:lnTo>
                  <a:pt x="5060835" y="873220"/>
                </a:lnTo>
                <a:lnTo>
                  <a:pt x="5063581" y="873220"/>
                </a:lnTo>
                <a:lnTo>
                  <a:pt x="5063581" y="867729"/>
                </a:lnTo>
                <a:lnTo>
                  <a:pt x="5060835" y="864983"/>
                </a:lnTo>
                <a:lnTo>
                  <a:pt x="5060835" y="623337"/>
                </a:lnTo>
                <a:lnTo>
                  <a:pt x="5080057" y="626083"/>
                </a:lnTo>
                <a:lnTo>
                  <a:pt x="5096533" y="623337"/>
                </a:lnTo>
                <a:lnTo>
                  <a:pt x="5096533" y="620591"/>
                </a:lnTo>
                <a:lnTo>
                  <a:pt x="5096533" y="612353"/>
                </a:lnTo>
                <a:lnTo>
                  <a:pt x="5093787" y="612353"/>
                </a:lnTo>
                <a:lnTo>
                  <a:pt x="5093787" y="609607"/>
                </a:lnTo>
                <a:lnTo>
                  <a:pt x="5085549" y="609607"/>
                </a:lnTo>
                <a:lnTo>
                  <a:pt x="5082803" y="606861"/>
                </a:lnTo>
                <a:lnTo>
                  <a:pt x="5080057" y="604115"/>
                </a:lnTo>
                <a:lnTo>
                  <a:pt x="5074565" y="601369"/>
                </a:lnTo>
                <a:lnTo>
                  <a:pt x="5074565" y="590385"/>
                </a:lnTo>
                <a:lnTo>
                  <a:pt x="5066327" y="587639"/>
                </a:lnTo>
                <a:lnTo>
                  <a:pt x="5060835" y="587639"/>
                </a:lnTo>
                <a:lnTo>
                  <a:pt x="5060835" y="576655"/>
                </a:lnTo>
                <a:lnTo>
                  <a:pt x="5074565" y="576655"/>
                </a:lnTo>
                <a:lnTo>
                  <a:pt x="5077311" y="571163"/>
                </a:lnTo>
                <a:lnTo>
                  <a:pt x="5080057" y="568417"/>
                </a:lnTo>
                <a:lnTo>
                  <a:pt x="5080057" y="571163"/>
                </a:lnTo>
                <a:lnTo>
                  <a:pt x="5082803" y="571163"/>
                </a:lnTo>
                <a:lnTo>
                  <a:pt x="5085549" y="568417"/>
                </a:lnTo>
                <a:lnTo>
                  <a:pt x="5088295" y="562925"/>
                </a:lnTo>
                <a:lnTo>
                  <a:pt x="5082803" y="565671"/>
                </a:lnTo>
                <a:lnTo>
                  <a:pt x="5077311" y="565671"/>
                </a:lnTo>
                <a:lnTo>
                  <a:pt x="5080057" y="557433"/>
                </a:lnTo>
                <a:lnTo>
                  <a:pt x="5080057" y="551941"/>
                </a:lnTo>
                <a:lnTo>
                  <a:pt x="5077311" y="546449"/>
                </a:lnTo>
                <a:lnTo>
                  <a:pt x="5085549" y="543703"/>
                </a:lnTo>
                <a:lnTo>
                  <a:pt x="5088295" y="546449"/>
                </a:lnTo>
                <a:lnTo>
                  <a:pt x="5091041" y="549195"/>
                </a:lnTo>
                <a:lnTo>
                  <a:pt x="5091041" y="551941"/>
                </a:lnTo>
                <a:lnTo>
                  <a:pt x="5102025" y="554687"/>
                </a:lnTo>
                <a:lnTo>
                  <a:pt x="5113009" y="551941"/>
                </a:lnTo>
                <a:lnTo>
                  <a:pt x="5115755" y="543703"/>
                </a:lnTo>
                <a:lnTo>
                  <a:pt x="5115755" y="535465"/>
                </a:lnTo>
                <a:lnTo>
                  <a:pt x="5113009" y="532719"/>
                </a:lnTo>
                <a:lnTo>
                  <a:pt x="5110263" y="532719"/>
                </a:lnTo>
                <a:lnTo>
                  <a:pt x="5107517" y="524481"/>
                </a:lnTo>
                <a:lnTo>
                  <a:pt x="5181658" y="516243"/>
                </a:lnTo>
                <a:lnTo>
                  <a:pt x="5181658" y="518989"/>
                </a:lnTo>
                <a:lnTo>
                  <a:pt x="5184404" y="518989"/>
                </a:lnTo>
                <a:lnTo>
                  <a:pt x="5187150" y="518989"/>
                </a:lnTo>
                <a:lnTo>
                  <a:pt x="5187150" y="513497"/>
                </a:lnTo>
                <a:lnTo>
                  <a:pt x="5566095" y="472308"/>
                </a:lnTo>
                <a:lnTo>
                  <a:pt x="5571587" y="475054"/>
                </a:lnTo>
                <a:lnTo>
                  <a:pt x="5579825" y="475054"/>
                </a:lnTo>
                <a:lnTo>
                  <a:pt x="5579825" y="469562"/>
                </a:lnTo>
                <a:lnTo>
                  <a:pt x="5631998" y="464070"/>
                </a:lnTo>
                <a:lnTo>
                  <a:pt x="5634744" y="464070"/>
                </a:lnTo>
                <a:lnTo>
                  <a:pt x="5637490" y="466816"/>
                </a:lnTo>
                <a:lnTo>
                  <a:pt x="5640236" y="469562"/>
                </a:lnTo>
                <a:lnTo>
                  <a:pt x="5642982" y="469562"/>
                </a:lnTo>
                <a:lnTo>
                  <a:pt x="5642982" y="461324"/>
                </a:lnTo>
                <a:lnTo>
                  <a:pt x="5656712" y="461324"/>
                </a:lnTo>
                <a:lnTo>
                  <a:pt x="5659458" y="461324"/>
                </a:lnTo>
                <a:lnTo>
                  <a:pt x="5662204" y="461324"/>
                </a:lnTo>
                <a:lnTo>
                  <a:pt x="6087831" y="412526"/>
                </a:lnTo>
                <a:lnTo>
                  <a:pt x="6087831" y="417388"/>
                </a:lnTo>
                <a:lnTo>
                  <a:pt x="6090577" y="417388"/>
                </a:lnTo>
                <a:lnTo>
                  <a:pt x="6093323" y="417388"/>
                </a:lnTo>
                <a:lnTo>
                  <a:pt x="6096069" y="414642"/>
                </a:lnTo>
                <a:lnTo>
                  <a:pt x="6098815" y="414642"/>
                </a:lnTo>
                <a:lnTo>
                  <a:pt x="6098815" y="409150"/>
                </a:lnTo>
                <a:lnTo>
                  <a:pt x="6120782" y="406404"/>
                </a:lnTo>
                <a:lnTo>
                  <a:pt x="6120782" y="409150"/>
                </a:lnTo>
                <a:lnTo>
                  <a:pt x="6126274" y="409150"/>
                </a:lnTo>
                <a:lnTo>
                  <a:pt x="6131766" y="411896"/>
                </a:lnTo>
                <a:lnTo>
                  <a:pt x="6131766" y="409150"/>
                </a:lnTo>
                <a:lnTo>
                  <a:pt x="6131766" y="406404"/>
                </a:lnTo>
                <a:lnTo>
                  <a:pt x="6152361" y="404116"/>
                </a:lnTo>
                <a:lnTo>
                  <a:pt x="6145496" y="406404"/>
                </a:lnTo>
                <a:lnTo>
                  <a:pt x="6137258" y="409150"/>
                </a:lnTo>
                <a:lnTo>
                  <a:pt x="6137258" y="411896"/>
                </a:lnTo>
                <a:lnTo>
                  <a:pt x="6142750" y="411896"/>
                </a:lnTo>
                <a:lnTo>
                  <a:pt x="6142750" y="417388"/>
                </a:lnTo>
                <a:lnTo>
                  <a:pt x="6145496" y="417388"/>
                </a:lnTo>
                <a:lnTo>
                  <a:pt x="6145496" y="420134"/>
                </a:lnTo>
                <a:lnTo>
                  <a:pt x="6142750" y="420134"/>
                </a:lnTo>
                <a:lnTo>
                  <a:pt x="6142750" y="422880"/>
                </a:lnTo>
                <a:lnTo>
                  <a:pt x="6148242" y="422880"/>
                </a:lnTo>
                <a:lnTo>
                  <a:pt x="6148242" y="417388"/>
                </a:lnTo>
                <a:lnTo>
                  <a:pt x="6150988" y="414642"/>
                </a:lnTo>
                <a:lnTo>
                  <a:pt x="6153734" y="409150"/>
                </a:lnTo>
                <a:lnTo>
                  <a:pt x="6153734" y="403964"/>
                </a:lnTo>
                <a:lnTo>
                  <a:pt x="6156480" y="403658"/>
                </a:lnTo>
                <a:lnTo>
                  <a:pt x="6164718" y="403658"/>
                </a:lnTo>
                <a:lnTo>
                  <a:pt x="6172956" y="400912"/>
                </a:lnTo>
                <a:lnTo>
                  <a:pt x="6175702" y="403658"/>
                </a:lnTo>
                <a:lnTo>
                  <a:pt x="6175702" y="406404"/>
                </a:lnTo>
                <a:lnTo>
                  <a:pt x="6167464" y="406404"/>
                </a:lnTo>
                <a:lnTo>
                  <a:pt x="6167464" y="411896"/>
                </a:lnTo>
                <a:lnTo>
                  <a:pt x="6170210" y="411896"/>
                </a:lnTo>
                <a:lnTo>
                  <a:pt x="6172956" y="411896"/>
                </a:lnTo>
                <a:lnTo>
                  <a:pt x="6175702" y="411896"/>
                </a:lnTo>
                <a:lnTo>
                  <a:pt x="6181194" y="411896"/>
                </a:lnTo>
                <a:lnTo>
                  <a:pt x="6181194" y="406404"/>
                </a:lnTo>
                <a:lnTo>
                  <a:pt x="6186686" y="403658"/>
                </a:lnTo>
                <a:lnTo>
                  <a:pt x="6189432" y="400912"/>
                </a:lnTo>
                <a:lnTo>
                  <a:pt x="6194924" y="398166"/>
                </a:lnTo>
                <a:lnTo>
                  <a:pt x="6194924" y="403658"/>
                </a:lnTo>
                <a:lnTo>
                  <a:pt x="6200416" y="406404"/>
                </a:lnTo>
                <a:lnTo>
                  <a:pt x="6205908" y="406404"/>
                </a:lnTo>
                <a:lnTo>
                  <a:pt x="6211400" y="409150"/>
                </a:lnTo>
                <a:lnTo>
                  <a:pt x="6214146" y="403658"/>
                </a:lnTo>
                <a:lnTo>
                  <a:pt x="6214146" y="409150"/>
                </a:lnTo>
                <a:lnTo>
                  <a:pt x="6216892" y="411896"/>
                </a:lnTo>
                <a:lnTo>
                  <a:pt x="6222384" y="411896"/>
                </a:lnTo>
                <a:lnTo>
                  <a:pt x="6227875" y="414642"/>
                </a:lnTo>
                <a:lnTo>
                  <a:pt x="6233367" y="414642"/>
                </a:lnTo>
                <a:lnTo>
                  <a:pt x="6244351" y="409150"/>
                </a:lnTo>
                <a:lnTo>
                  <a:pt x="6249843" y="409150"/>
                </a:lnTo>
                <a:lnTo>
                  <a:pt x="6252589" y="411896"/>
                </a:lnTo>
                <a:lnTo>
                  <a:pt x="6252589" y="400912"/>
                </a:lnTo>
                <a:lnTo>
                  <a:pt x="6249843" y="403658"/>
                </a:lnTo>
                <a:lnTo>
                  <a:pt x="6249843" y="406404"/>
                </a:lnTo>
                <a:lnTo>
                  <a:pt x="6247097" y="406404"/>
                </a:lnTo>
                <a:lnTo>
                  <a:pt x="6244351" y="403658"/>
                </a:lnTo>
                <a:lnTo>
                  <a:pt x="6238859" y="406404"/>
                </a:lnTo>
                <a:lnTo>
                  <a:pt x="6238859" y="403658"/>
                </a:lnTo>
                <a:lnTo>
                  <a:pt x="6241605" y="400912"/>
                </a:lnTo>
                <a:lnTo>
                  <a:pt x="6244351" y="398166"/>
                </a:lnTo>
                <a:lnTo>
                  <a:pt x="6244351" y="392675"/>
                </a:lnTo>
                <a:lnTo>
                  <a:pt x="6249843" y="392675"/>
                </a:lnTo>
                <a:lnTo>
                  <a:pt x="6249843" y="395420"/>
                </a:lnTo>
                <a:lnTo>
                  <a:pt x="6252589" y="398166"/>
                </a:lnTo>
                <a:lnTo>
                  <a:pt x="6255335" y="395420"/>
                </a:lnTo>
                <a:lnTo>
                  <a:pt x="6258081" y="392675"/>
                </a:lnTo>
                <a:lnTo>
                  <a:pt x="6260827" y="392675"/>
                </a:lnTo>
                <a:lnTo>
                  <a:pt x="6266319" y="395420"/>
                </a:lnTo>
                <a:lnTo>
                  <a:pt x="6266319" y="389929"/>
                </a:lnTo>
                <a:lnTo>
                  <a:pt x="6573869" y="354231"/>
                </a:lnTo>
                <a:close/>
                <a:moveTo>
                  <a:pt x="1235691" y="354231"/>
                </a:moveTo>
                <a:lnTo>
                  <a:pt x="1219215" y="356977"/>
                </a:lnTo>
                <a:lnTo>
                  <a:pt x="1219215" y="367961"/>
                </a:lnTo>
                <a:lnTo>
                  <a:pt x="1224706" y="370707"/>
                </a:lnTo>
                <a:lnTo>
                  <a:pt x="1224706" y="373453"/>
                </a:lnTo>
                <a:lnTo>
                  <a:pt x="1224706" y="378945"/>
                </a:lnTo>
                <a:lnTo>
                  <a:pt x="1227452" y="381691"/>
                </a:lnTo>
                <a:lnTo>
                  <a:pt x="1230199" y="387183"/>
                </a:lnTo>
                <a:lnTo>
                  <a:pt x="1243927" y="387183"/>
                </a:lnTo>
                <a:lnTo>
                  <a:pt x="1254913" y="381691"/>
                </a:lnTo>
                <a:lnTo>
                  <a:pt x="1249421" y="370707"/>
                </a:lnTo>
                <a:lnTo>
                  <a:pt x="1249421" y="365215"/>
                </a:lnTo>
                <a:lnTo>
                  <a:pt x="1246673" y="359723"/>
                </a:lnTo>
                <a:lnTo>
                  <a:pt x="1235691" y="354231"/>
                </a:lnTo>
                <a:close/>
                <a:moveTo>
                  <a:pt x="1573445" y="351485"/>
                </a:moveTo>
                <a:lnTo>
                  <a:pt x="1559715" y="356977"/>
                </a:lnTo>
                <a:lnTo>
                  <a:pt x="1554223" y="362469"/>
                </a:lnTo>
                <a:lnTo>
                  <a:pt x="1554223" y="367961"/>
                </a:lnTo>
                <a:lnTo>
                  <a:pt x="1554223" y="370707"/>
                </a:lnTo>
                <a:lnTo>
                  <a:pt x="1556969" y="370707"/>
                </a:lnTo>
                <a:lnTo>
                  <a:pt x="1565206" y="370707"/>
                </a:lnTo>
                <a:lnTo>
                  <a:pt x="1570699" y="376199"/>
                </a:lnTo>
                <a:lnTo>
                  <a:pt x="1576191" y="378945"/>
                </a:lnTo>
                <a:lnTo>
                  <a:pt x="1576191" y="373453"/>
                </a:lnTo>
                <a:lnTo>
                  <a:pt x="1578936" y="365215"/>
                </a:lnTo>
                <a:lnTo>
                  <a:pt x="1590766" y="357822"/>
                </a:lnTo>
                <a:lnTo>
                  <a:pt x="1576191" y="359723"/>
                </a:lnTo>
                <a:lnTo>
                  <a:pt x="1576191" y="362469"/>
                </a:lnTo>
                <a:lnTo>
                  <a:pt x="1573445" y="359723"/>
                </a:lnTo>
                <a:lnTo>
                  <a:pt x="1570699" y="356977"/>
                </a:lnTo>
                <a:lnTo>
                  <a:pt x="1570699" y="354231"/>
                </a:lnTo>
                <a:lnTo>
                  <a:pt x="1573445" y="351485"/>
                </a:lnTo>
                <a:close/>
                <a:moveTo>
                  <a:pt x="1452622" y="351485"/>
                </a:moveTo>
                <a:lnTo>
                  <a:pt x="1452622" y="354231"/>
                </a:lnTo>
                <a:lnTo>
                  <a:pt x="1458113" y="351485"/>
                </a:lnTo>
                <a:lnTo>
                  <a:pt x="1452622" y="351485"/>
                </a:lnTo>
                <a:close/>
                <a:moveTo>
                  <a:pt x="944616" y="351485"/>
                </a:moveTo>
                <a:lnTo>
                  <a:pt x="939124" y="356977"/>
                </a:lnTo>
                <a:lnTo>
                  <a:pt x="930887" y="356977"/>
                </a:lnTo>
                <a:lnTo>
                  <a:pt x="922648" y="356977"/>
                </a:lnTo>
                <a:lnTo>
                  <a:pt x="914410" y="354231"/>
                </a:lnTo>
                <a:lnTo>
                  <a:pt x="944616" y="351485"/>
                </a:lnTo>
                <a:close/>
                <a:moveTo>
                  <a:pt x="6634280" y="348739"/>
                </a:moveTo>
                <a:lnTo>
                  <a:pt x="6623296" y="351485"/>
                </a:lnTo>
                <a:lnTo>
                  <a:pt x="6612312" y="351485"/>
                </a:lnTo>
                <a:lnTo>
                  <a:pt x="6634280" y="348739"/>
                </a:lnTo>
                <a:close/>
                <a:moveTo>
                  <a:pt x="1507541" y="343247"/>
                </a:moveTo>
                <a:lnTo>
                  <a:pt x="1502050" y="345993"/>
                </a:lnTo>
                <a:lnTo>
                  <a:pt x="1499304" y="345993"/>
                </a:lnTo>
                <a:lnTo>
                  <a:pt x="1499304" y="351485"/>
                </a:lnTo>
                <a:lnTo>
                  <a:pt x="1504796" y="351485"/>
                </a:lnTo>
                <a:lnTo>
                  <a:pt x="1507541" y="354231"/>
                </a:lnTo>
                <a:lnTo>
                  <a:pt x="1499304" y="356977"/>
                </a:lnTo>
                <a:lnTo>
                  <a:pt x="1496557" y="356977"/>
                </a:lnTo>
                <a:lnTo>
                  <a:pt x="1493811" y="354231"/>
                </a:lnTo>
                <a:lnTo>
                  <a:pt x="1491065" y="356977"/>
                </a:lnTo>
                <a:lnTo>
                  <a:pt x="1491065" y="359723"/>
                </a:lnTo>
                <a:lnTo>
                  <a:pt x="1493811" y="362469"/>
                </a:lnTo>
                <a:lnTo>
                  <a:pt x="1491065" y="367961"/>
                </a:lnTo>
                <a:lnTo>
                  <a:pt x="1496557" y="370707"/>
                </a:lnTo>
                <a:lnTo>
                  <a:pt x="1502050" y="373453"/>
                </a:lnTo>
                <a:lnTo>
                  <a:pt x="1504796" y="373453"/>
                </a:lnTo>
                <a:lnTo>
                  <a:pt x="1507541" y="370707"/>
                </a:lnTo>
                <a:lnTo>
                  <a:pt x="1507541" y="365215"/>
                </a:lnTo>
                <a:lnTo>
                  <a:pt x="1510287" y="367961"/>
                </a:lnTo>
                <a:lnTo>
                  <a:pt x="1513033" y="367961"/>
                </a:lnTo>
                <a:lnTo>
                  <a:pt x="1513033" y="362469"/>
                </a:lnTo>
                <a:lnTo>
                  <a:pt x="1515779" y="362469"/>
                </a:lnTo>
                <a:lnTo>
                  <a:pt x="1518526" y="359723"/>
                </a:lnTo>
                <a:lnTo>
                  <a:pt x="1521272" y="359723"/>
                </a:lnTo>
                <a:lnTo>
                  <a:pt x="1524017" y="359723"/>
                </a:lnTo>
                <a:lnTo>
                  <a:pt x="1521272" y="356977"/>
                </a:lnTo>
                <a:lnTo>
                  <a:pt x="1521272" y="354231"/>
                </a:lnTo>
                <a:lnTo>
                  <a:pt x="1518526" y="348739"/>
                </a:lnTo>
                <a:lnTo>
                  <a:pt x="1510287" y="348739"/>
                </a:lnTo>
                <a:lnTo>
                  <a:pt x="1507541" y="343247"/>
                </a:lnTo>
                <a:close/>
                <a:moveTo>
                  <a:pt x="1230199" y="343247"/>
                </a:moveTo>
                <a:lnTo>
                  <a:pt x="1230199" y="345993"/>
                </a:lnTo>
                <a:lnTo>
                  <a:pt x="1232945" y="345993"/>
                </a:lnTo>
                <a:lnTo>
                  <a:pt x="1235691" y="348739"/>
                </a:lnTo>
                <a:lnTo>
                  <a:pt x="1235691" y="345993"/>
                </a:lnTo>
                <a:lnTo>
                  <a:pt x="1232945" y="345993"/>
                </a:lnTo>
                <a:lnTo>
                  <a:pt x="1232945" y="343247"/>
                </a:lnTo>
                <a:lnTo>
                  <a:pt x="1230199" y="343247"/>
                </a:lnTo>
                <a:close/>
                <a:moveTo>
                  <a:pt x="1576191" y="340501"/>
                </a:moveTo>
                <a:lnTo>
                  <a:pt x="1576191" y="343247"/>
                </a:lnTo>
                <a:lnTo>
                  <a:pt x="1573445" y="343247"/>
                </a:lnTo>
                <a:lnTo>
                  <a:pt x="1573445" y="345993"/>
                </a:lnTo>
                <a:lnTo>
                  <a:pt x="1576191" y="345993"/>
                </a:lnTo>
                <a:lnTo>
                  <a:pt x="1578937" y="345993"/>
                </a:lnTo>
                <a:lnTo>
                  <a:pt x="1581682" y="348739"/>
                </a:lnTo>
                <a:lnTo>
                  <a:pt x="1584428" y="345993"/>
                </a:lnTo>
                <a:lnTo>
                  <a:pt x="1584428" y="343247"/>
                </a:lnTo>
                <a:lnTo>
                  <a:pt x="1581682" y="343247"/>
                </a:lnTo>
                <a:lnTo>
                  <a:pt x="1576191" y="340501"/>
                </a:lnTo>
                <a:close/>
                <a:moveTo>
                  <a:pt x="1101137" y="335009"/>
                </a:moveTo>
                <a:lnTo>
                  <a:pt x="1087407" y="340501"/>
                </a:lnTo>
                <a:lnTo>
                  <a:pt x="1070932" y="345993"/>
                </a:lnTo>
                <a:lnTo>
                  <a:pt x="1051710" y="351485"/>
                </a:lnTo>
                <a:lnTo>
                  <a:pt x="1032487" y="351485"/>
                </a:lnTo>
                <a:lnTo>
                  <a:pt x="996790" y="351485"/>
                </a:lnTo>
                <a:lnTo>
                  <a:pt x="963838" y="348739"/>
                </a:lnTo>
                <a:lnTo>
                  <a:pt x="1101137" y="335009"/>
                </a:lnTo>
                <a:close/>
                <a:moveTo>
                  <a:pt x="1620127" y="332263"/>
                </a:moveTo>
                <a:lnTo>
                  <a:pt x="1617380" y="335009"/>
                </a:lnTo>
                <a:lnTo>
                  <a:pt x="1617380" y="337755"/>
                </a:lnTo>
                <a:lnTo>
                  <a:pt x="1620127" y="340501"/>
                </a:lnTo>
                <a:lnTo>
                  <a:pt x="1622873" y="337755"/>
                </a:lnTo>
                <a:lnTo>
                  <a:pt x="1625618" y="335009"/>
                </a:lnTo>
                <a:lnTo>
                  <a:pt x="1622873" y="332263"/>
                </a:lnTo>
                <a:lnTo>
                  <a:pt x="1620127" y="332263"/>
                </a:lnTo>
                <a:close/>
                <a:moveTo>
                  <a:pt x="1134089" y="329517"/>
                </a:moveTo>
                <a:lnTo>
                  <a:pt x="1128598" y="343247"/>
                </a:lnTo>
                <a:lnTo>
                  <a:pt x="1125851" y="348739"/>
                </a:lnTo>
                <a:lnTo>
                  <a:pt x="1123105" y="348739"/>
                </a:lnTo>
                <a:lnTo>
                  <a:pt x="1120359" y="345993"/>
                </a:lnTo>
                <a:lnTo>
                  <a:pt x="1114868" y="343247"/>
                </a:lnTo>
                <a:lnTo>
                  <a:pt x="1114868" y="340501"/>
                </a:lnTo>
                <a:lnTo>
                  <a:pt x="1117613" y="332263"/>
                </a:lnTo>
                <a:lnTo>
                  <a:pt x="1134089" y="329517"/>
                </a:lnTo>
                <a:close/>
                <a:moveTo>
                  <a:pt x="1553356" y="327060"/>
                </a:moveTo>
                <a:lnTo>
                  <a:pt x="1559715" y="328039"/>
                </a:lnTo>
                <a:lnTo>
                  <a:pt x="1559715" y="329517"/>
                </a:lnTo>
                <a:lnTo>
                  <a:pt x="1559715" y="335009"/>
                </a:lnTo>
                <a:lnTo>
                  <a:pt x="1551477" y="337755"/>
                </a:lnTo>
                <a:lnTo>
                  <a:pt x="1543239" y="337755"/>
                </a:lnTo>
                <a:lnTo>
                  <a:pt x="1543239" y="335009"/>
                </a:lnTo>
                <a:lnTo>
                  <a:pt x="1540493" y="332263"/>
                </a:lnTo>
                <a:lnTo>
                  <a:pt x="1545985" y="329517"/>
                </a:lnTo>
                <a:lnTo>
                  <a:pt x="1553356" y="327060"/>
                </a:lnTo>
                <a:close/>
                <a:moveTo>
                  <a:pt x="1559715" y="326771"/>
                </a:moveTo>
                <a:lnTo>
                  <a:pt x="1561213" y="328269"/>
                </a:lnTo>
                <a:lnTo>
                  <a:pt x="1559715" y="328039"/>
                </a:lnTo>
                <a:lnTo>
                  <a:pt x="1559715" y="326771"/>
                </a:lnTo>
                <a:close/>
                <a:moveTo>
                  <a:pt x="1551477" y="326771"/>
                </a:moveTo>
                <a:lnTo>
                  <a:pt x="1554223" y="326771"/>
                </a:lnTo>
                <a:lnTo>
                  <a:pt x="1553356" y="327060"/>
                </a:lnTo>
                <a:lnTo>
                  <a:pt x="1551477" y="326771"/>
                </a:lnTo>
                <a:close/>
                <a:moveTo>
                  <a:pt x="1419121" y="323751"/>
                </a:moveTo>
                <a:lnTo>
                  <a:pt x="1422416" y="324025"/>
                </a:lnTo>
                <a:lnTo>
                  <a:pt x="1419670" y="324025"/>
                </a:lnTo>
                <a:lnTo>
                  <a:pt x="1419121" y="323751"/>
                </a:lnTo>
                <a:close/>
                <a:moveTo>
                  <a:pt x="1248774" y="318695"/>
                </a:moveTo>
                <a:lnTo>
                  <a:pt x="1227452" y="324025"/>
                </a:lnTo>
                <a:lnTo>
                  <a:pt x="1197247" y="324025"/>
                </a:lnTo>
                <a:lnTo>
                  <a:pt x="1248774" y="318695"/>
                </a:lnTo>
                <a:close/>
                <a:moveTo>
                  <a:pt x="1249421" y="318533"/>
                </a:moveTo>
                <a:lnTo>
                  <a:pt x="1249202" y="318650"/>
                </a:lnTo>
                <a:lnTo>
                  <a:pt x="1248774" y="318695"/>
                </a:lnTo>
                <a:lnTo>
                  <a:pt x="1249421" y="318533"/>
                </a:lnTo>
                <a:close/>
                <a:moveTo>
                  <a:pt x="1850788" y="313042"/>
                </a:moveTo>
                <a:lnTo>
                  <a:pt x="1737229" y="333264"/>
                </a:lnTo>
                <a:lnTo>
                  <a:pt x="1754679" y="335009"/>
                </a:lnTo>
                <a:lnTo>
                  <a:pt x="1779393" y="335009"/>
                </a:lnTo>
                <a:lnTo>
                  <a:pt x="1806852" y="332263"/>
                </a:lnTo>
                <a:lnTo>
                  <a:pt x="1828821" y="326772"/>
                </a:lnTo>
                <a:lnTo>
                  <a:pt x="1839804" y="321280"/>
                </a:lnTo>
                <a:lnTo>
                  <a:pt x="1848043" y="315788"/>
                </a:lnTo>
                <a:lnTo>
                  <a:pt x="1850788" y="313042"/>
                </a:lnTo>
                <a:close/>
                <a:moveTo>
                  <a:pt x="1340038" y="310295"/>
                </a:moveTo>
                <a:lnTo>
                  <a:pt x="1318068" y="324025"/>
                </a:lnTo>
                <a:lnTo>
                  <a:pt x="1315322" y="324025"/>
                </a:lnTo>
                <a:lnTo>
                  <a:pt x="1312577" y="326771"/>
                </a:lnTo>
                <a:lnTo>
                  <a:pt x="1304341" y="324025"/>
                </a:lnTo>
                <a:lnTo>
                  <a:pt x="1298847" y="321279"/>
                </a:lnTo>
                <a:lnTo>
                  <a:pt x="1282371" y="315787"/>
                </a:lnTo>
                <a:lnTo>
                  <a:pt x="1340038" y="310295"/>
                </a:lnTo>
                <a:close/>
                <a:moveTo>
                  <a:pt x="1857837" y="305992"/>
                </a:moveTo>
                <a:lnTo>
                  <a:pt x="1856280" y="307549"/>
                </a:lnTo>
                <a:lnTo>
                  <a:pt x="1856280" y="307550"/>
                </a:lnTo>
                <a:lnTo>
                  <a:pt x="1857837" y="305992"/>
                </a:lnTo>
                <a:close/>
                <a:moveTo>
                  <a:pt x="1513033" y="304803"/>
                </a:moveTo>
                <a:lnTo>
                  <a:pt x="1507541" y="307549"/>
                </a:lnTo>
                <a:lnTo>
                  <a:pt x="1507541" y="315787"/>
                </a:lnTo>
                <a:lnTo>
                  <a:pt x="1510287" y="315787"/>
                </a:lnTo>
                <a:lnTo>
                  <a:pt x="1513033" y="318533"/>
                </a:lnTo>
                <a:lnTo>
                  <a:pt x="1513033" y="313041"/>
                </a:lnTo>
                <a:lnTo>
                  <a:pt x="1518526" y="313041"/>
                </a:lnTo>
                <a:lnTo>
                  <a:pt x="1524017" y="313041"/>
                </a:lnTo>
                <a:lnTo>
                  <a:pt x="1529509" y="313041"/>
                </a:lnTo>
                <a:lnTo>
                  <a:pt x="1529509" y="307549"/>
                </a:lnTo>
                <a:lnTo>
                  <a:pt x="1526763" y="304803"/>
                </a:lnTo>
                <a:lnTo>
                  <a:pt x="1524017" y="304803"/>
                </a:lnTo>
                <a:lnTo>
                  <a:pt x="1513033" y="304803"/>
                </a:lnTo>
                <a:close/>
                <a:moveTo>
                  <a:pt x="1408686" y="302057"/>
                </a:moveTo>
                <a:lnTo>
                  <a:pt x="1414179" y="302057"/>
                </a:lnTo>
                <a:lnTo>
                  <a:pt x="1411434" y="304803"/>
                </a:lnTo>
                <a:lnTo>
                  <a:pt x="1408686" y="304803"/>
                </a:lnTo>
                <a:lnTo>
                  <a:pt x="1408686" y="307549"/>
                </a:lnTo>
                <a:lnTo>
                  <a:pt x="1408686" y="310295"/>
                </a:lnTo>
                <a:lnTo>
                  <a:pt x="1405940" y="313041"/>
                </a:lnTo>
                <a:lnTo>
                  <a:pt x="1408686" y="313041"/>
                </a:lnTo>
                <a:lnTo>
                  <a:pt x="1411434" y="313041"/>
                </a:lnTo>
                <a:lnTo>
                  <a:pt x="1414179" y="313041"/>
                </a:lnTo>
                <a:lnTo>
                  <a:pt x="1416924" y="313041"/>
                </a:lnTo>
                <a:lnTo>
                  <a:pt x="1416924" y="315787"/>
                </a:lnTo>
                <a:lnTo>
                  <a:pt x="1416924" y="318533"/>
                </a:lnTo>
                <a:lnTo>
                  <a:pt x="1414179" y="318533"/>
                </a:lnTo>
                <a:lnTo>
                  <a:pt x="1414179" y="321279"/>
                </a:lnTo>
                <a:lnTo>
                  <a:pt x="1419121" y="323751"/>
                </a:lnTo>
                <a:lnTo>
                  <a:pt x="1389464" y="321279"/>
                </a:lnTo>
                <a:lnTo>
                  <a:pt x="1381227" y="321279"/>
                </a:lnTo>
                <a:lnTo>
                  <a:pt x="1386718" y="318533"/>
                </a:lnTo>
                <a:lnTo>
                  <a:pt x="1386718" y="315787"/>
                </a:lnTo>
                <a:lnTo>
                  <a:pt x="1381227" y="321279"/>
                </a:lnTo>
                <a:lnTo>
                  <a:pt x="1367496" y="313041"/>
                </a:lnTo>
                <a:lnTo>
                  <a:pt x="1353766" y="307549"/>
                </a:lnTo>
                <a:lnTo>
                  <a:pt x="1397703" y="304803"/>
                </a:lnTo>
                <a:lnTo>
                  <a:pt x="1394958" y="307549"/>
                </a:lnTo>
                <a:lnTo>
                  <a:pt x="1403194" y="304803"/>
                </a:lnTo>
                <a:lnTo>
                  <a:pt x="1408686" y="302057"/>
                </a:lnTo>
                <a:close/>
                <a:moveTo>
                  <a:pt x="1721728" y="299311"/>
                </a:moveTo>
                <a:lnTo>
                  <a:pt x="1721728" y="302057"/>
                </a:lnTo>
                <a:lnTo>
                  <a:pt x="1721728" y="304803"/>
                </a:lnTo>
                <a:lnTo>
                  <a:pt x="1721728" y="307549"/>
                </a:lnTo>
                <a:lnTo>
                  <a:pt x="1727220" y="307549"/>
                </a:lnTo>
                <a:lnTo>
                  <a:pt x="1727220" y="302057"/>
                </a:lnTo>
                <a:lnTo>
                  <a:pt x="1721728" y="299311"/>
                </a:lnTo>
                <a:close/>
                <a:moveTo>
                  <a:pt x="1600905" y="296565"/>
                </a:moveTo>
                <a:lnTo>
                  <a:pt x="1589921" y="304803"/>
                </a:lnTo>
                <a:lnTo>
                  <a:pt x="1581682" y="310295"/>
                </a:lnTo>
                <a:lnTo>
                  <a:pt x="1581682" y="307549"/>
                </a:lnTo>
                <a:lnTo>
                  <a:pt x="1573445" y="302057"/>
                </a:lnTo>
                <a:lnTo>
                  <a:pt x="1565206" y="302057"/>
                </a:lnTo>
                <a:lnTo>
                  <a:pt x="1562461" y="307549"/>
                </a:lnTo>
                <a:lnTo>
                  <a:pt x="1565206" y="313041"/>
                </a:lnTo>
                <a:lnTo>
                  <a:pt x="1548731" y="313041"/>
                </a:lnTo>
                <a:lnTo>
                  <a:pt x="1529509" y="315787"/>
                </a:lnTo>
                <a:lnTo>
                  <a:pt x="1524017" y="318533"/>
                </a:lnTo>
                <a:lnTo>
                  <a:pt x="1526763" y="318533"/>
                </a:lnTo>
                <a:lnTo>
                  <a:pt x="1518526" y="324025"/>
                </a:lnTo>
                <a:lnTo>
                  <a:pt x="1510287" y="332263"/>
                </a:lnTo>
                <a:lnTo>
                  <a:pt x="1526763" y="326771"/>
                </a:lnTo>
                <a:lnTo>
                  <a:pt x="1529509" y="332263"/>
                </a:lnTo>
                <a:lnTo>
                  <a:pt x="1515779" y="332263"/>
                </a:lnTo>
                <a:lnTo>
                  <a:pt x="1515779" y="337755"/>
                </a:lnTo>
                <a:lnTo>
                  <a:pt x="1518526" y="340501"/>
                </a:lnTo>
                <a:lnTo>
                  <a:pt x="1518526" y="345993"/>
                </a:lnTo>
                <a:lnTo>
                  <a:pt x="1526763" y="351485"/>
                </a:lnTo>
                <a:lnTo>
                  <a:pt x="1529509" y="351485"/>
                </a:lnTo>
                <a:lnTo>
                  <a:pt x="1535002" y="351485"/>
                </a:lnTo>
                <a:lnTo>
                  <a:pt x="1535002" y="340501"/>
                </a:lnTo>
                <a:lnTo>
                  <a:pt x="1532255" y="332263"/>
                </a:lnTo>
                <a:lnTo>
                  <a:pt x="1535002" y="329517"/>
                </a:lnTo>
                <a:lnTo>
                  <a:pt x="1537748" y="329517"/>
                </a:lnTo>
                <a:lnTo>
                  <a:pt x="1537748" y="337755"/>
                </a:lnTo>
                <a:lnTo>
                  <a:pt x="1537748" y="345993"/>
                </a:lnTo>
                <a:lnTo>
                  <a:pt x="1545985" y="348739"/>
                </a:lnTo>
                <a:lnTo>
                  <a:pt x="1554223" y="345993"/>
                </a:lnTo>
                <a:lnTo>
                  <a:pt x="1562461" y="343247"/>
                </a:lnTo>
                <a:lnTo>
                  <a:pt x="1570699" y="340501"/>
                </a:lnTo>
                <a:lnTo>
                  <a:pt x="1565206" y="332263"/>
                </a:lnTo>
                <a:lnTo>
                  <a:pt x="1561213" y="328269"/>
                </a:lnTo>
                <a:lnTo>
                  <a:pt x="1587175" y="332263"/>
                </a:lnTo>
                <a:lnTo>
                  <a:pt x="1603651" y="332263"/>
                </a:lnTo>
                <a:lnTo>
                  <a:pt x="1609143" y="326771"/>
                </a:lnTo>
                <a:lnTo>
                  <a:pt x="1617380" y="321279"/>
                </a:lnTo>
                <a:lnTo>
                  <a:pt x="1609143" y="321279"/>
                </a:lnTo>
                <a:lnTo>
                  <a:pt x="1603651" y="315787"/>
                </a:lnTo>
                <a:lnTo>
                  <a:pt x="1600905" y="307549"/>
                </a:lnTo>
                <a:lnTo>
                  <a:pt x="1600905" y="296565"/>
                </a:lnTo>
                <a:close/>
                <a:moveTo>
                  <a:pt x="1551477" y="296565"/>
                </a:moveTo>
                <a:lnTo>
                  <a:pt x="1543239" y="302057"/>
                </a:lnTo>
                <a:lnTo>
                  <a:pt x="1532255" y="302057"/>
                </a:lnTo>
                <a:lnTo>
                  <a:pt x="1535002" y="310295"/>
                </a:lnTo>
                <a:lnTo>
                  <a:pt x="1540493" y="313041"/>
                </a:lnTo>
                <a:lnTo>
                  <a:pt x="1545985" y="307549"/>
                </a:lnTo>
                <a:lnTo>
                  <a:pt x="1545985" y="304803"/>
                </a:lnTo>
                <a:lnTo>
                  <a:pt x="1551477" y="304803"/>
                </a:lnTo>
                <a:lnTo>
                  <a:pt x="1551477" y="296565"/>
                </a:lnTo>
                <a:close/>
                <a:moveTo>
                  <a:pt x="1688776" y="282836"/>
                </a:moveTo>
                <a:lnTo>
                  <a:pt x="1664062" y="291073"/>
                </a:lnTo>
                <a:lnTo>
                  <a:pt x="1639348" y="296565"/>
                </a:lnTo>
                <a:lnTo>
                  <a:pt x="1625618" y="291073"/>
                </a:lnTo>
                <a:lnTo>
                  <a:pt x="1617380" y="291073"/>
                </a:lnTo>
                <a:lnTo>
                  <a:pt x="1609143" y="291073"/>
                </a:lnTo>
                <a:lnTo>
                  <a:pt x="1609143" y="296565"/>
                </a:lnTo>
                <a:lnTo>
                  <a:pt x="1611889" y="302057"/>
                </a:lnTo>
                <a:lnTo>
                  <a:pt x="1617380" y="302057"/>
                </a:lnTo>
                <a:lnTo>
                  <a:pt x="1620127" y="302057"/>
                </a:lnTo>
                <a:lnTo>
                  <a:pt x="1631111" y="299311"/>
                </a:lnTo>
                <a:lnTo>
                  <a:pt x="1639348" y="296565"/>
                </a:lnTo>
                <a:lnTo>
                  <a:pt x="1661316" y="296565"/>
                </a:lnTo>
                <a:lnTo>
                  <a:pt x="1683284" y="293819"/>
                </a:lnTo>
                <a:lnTo>
                  <a:pt x="1705252" y="293819"/>
                </a:lnTo>
                <a:lnTo>
                  <a:pt x="1732711" y="291073"/>
                </a:lnTo>
                <a:lnTo>
                  <a:pt x="1721728" y="285582"/>
                </a:lnTo>
                <a:lnTo>
                  <a:pt x="1710744" y="282836"/>
                </a:lnTo>
                <a:lnTo>
                  <a:pt x="1699760" y="282836"/>
                </a:lnTo>
                <a:lnTo>
                  <a:pt x="1688776" y="282836"/>
                </a:lnTo>
                <a:close/>
                <a:moveTo>
                  <a:pt x="1817837" y="269106"/>
                </a:moveTo>
                <a:lnTo>
                  <a:pt x="1823329" y="277344"/>
                </a:lnTo>
                <a:lnTo>
                  <a:pt x="1826075" y="280090"/>
                </a:lnTo>
                <a:lnTo>
                  <a:pt x="1826075" y="285582"/>
                </a:lnTo>
                <a:lnTo>
                  <a:pt x="1809599" y="285582"/>
                </a:lnTo>
                <a:lnTo>
                  <a:pt x="1795869" y="288328"/>
                </a:lnTo>
                <a:lnTo>
                  <a:pt x="1782139" y="293819"/>
                </a:lnTo>
                <a:lnTo>
                  <a:pt x="1771156" y="293819"/>
                </a:lnTo>
                <a:lnTo>
                  <a:pt x="1768409" y="293819"/>
                </a:lnTo>
                <a:lnTo>
                  <a:pt x="1765663" y="293819"/>
                </a:lnTo>
                <a:lnTo>
                  <a:pt x="1757425" y="288328"/>
                </a:lnTo>
                <a:lnTo>
                  <a:pt x="1754679" y="285582"/>
                </a:lnTo>
                <a:lnTo>
                  <a:pt x="1749187" y="285582"/>
                </a:lnTo>
                <a:lnTo>
                  <a:pt x="1740950" y="293819"/>
                </a:lnTo>
                <a:lnTo>
                  <a:pt x="1732711" y="307549"/>
                </a:lnTo>
                <a:lnTo>
                  <a:pt x="1724474" y="313041"/>
                </a:lnTo>
                <a:lnTo>
                  <a:pt x="1718982" y="318533"/>
                </a:lnTo>
                <a:lnTo>
                  <a:pt x="1707998" y="321279"/>
                </a:lnTo>
                <a:lnTo>
                  <a:pt x="1716236" y="324025"/>
                </a:lnTo>
                <a:lnTo>
                  <a:pt x="1732711" y="326771"/>
                </a:lnTo>
                <a:lnTo>
                  <a:pt x="1751933" y="324025"/>
                </a:lnTo>
                <a:lnTo>
                  <a:pt x="1768409" y="318533"/>
                </a:lnTo>
                <a:lnTo>
                  <a:pt x="1801361" y="307549"/>
                </a:lnTo>
                <a:lnTo>
                  <a:pt x="1828821" y="291073"/>
                </a:lnTo>
                <a:lnTo>
                  <a:pt x="1837059" y="296565"/>
                </a:lnTo>
                <a:lnTo>
                  <a:pt x="1839805" y="296565"/>
                </a:lnTo>
                <a:lnTo>
                  <a:pt x="1845297" y="296565"/>
                </a:lnTo>
                <a:lnTo>
                  <a:pt x="1856280" y="288328"/>
                </a:lnTo>
                <a:lnTo>
                  <a:pt x="1859026" y="282836"/>
                </a:lnTo>
                <a:lnTo>
                  <a:pt x="1861773" y="274598"/>
                </a:lnTo>
                <a:lnTo>
                  <a:pt x="1856280" y="271852"/>
                </a:lnTo>
                <a:lnTo>
                  <a:pt x="1853535" y="269106"/>
                </a:lnTo>
                <a:lnTo>
                  <a:pt x="1842551" y="269106"/>
                </a:lnTo>
                <a:lnTo>
                  <a:pt x="1831567" y="269106"/>
                </a:lnTo>
                <a:lnTo>
                  <a:pt x="1817837" y="269106"/>
                </a:lnTo>
                <a:close/>
                <a:moveTo>
                  <a:pt x="2233515" y="247993"/>
                </a:moveTo>
                <a:lnTo>
                  <a:pt x="2229733" y="249884"/>
                </a:lnTo>
                <a:lnTo>
                  <a:pt x="2224241" y="249884"/>
                </a:lnTo>
                <a:lnTo>
                  <a:pt x="2224241" y="249522"/>
                </a:lnTo>
                <a:lnTo>
                  <a:pt x="2233515" y="247993"/>
                </a:lnTo>
                <a:close/>
                <a:moveTo>
                  <a:pt x="2202274" y="236154"/>
                </a:moveTo>
                <a:lnTo>
                  <a:pt x="2202274" y="241646"/>
                </a:lnTo>
                <a:lnTo>
                  <a:pt x="2205020" y="238900"/>
                </a:lnTo>
                <a:lnTo>
                  <a:pt x="2205020" y="236154"/>
                </a:lnTo>
                <a:lnTo>
                  <a:pt x="2202274" y="236154"/>
                </a:lnTo>
                <a:close/>
                <a:moveTo>
                  <a:pt x="2139116" y="227916"/>
                </a:moveTo>
                <a:lnTo>
                  <a:pt x="2139116" y="233408"/>
                </a:lnTo>
                <a:lnTo>
                  <a:pt x="2144609" y="233408"/>
                </a:lnTo>
                <a:lnTo>
                  <a:pt x="2144609" y="227916"/>
                </a:lnTo>
                <a:lnTo>
                  <a:pt x="2139116" y="227916"/>
                </a:lnTo>
                <a:close/>
                <a:moveTo>
                  <a:pt x="2292891" y="222424"/>
                </a:moveTo>
                <a:lnTo>
                  <a:pt x="2290144" y="227916"/>
                </a:lnTo>
                <a:lnTo>
                  <a:pt x="2298383" y="227916"/>
                </a:lnTo>
                <a:lnTo>
                  <a:pt x="2298383" y="225170"/>
                </a:lnTo>
                <a:lnTo>
                  <a:pt x="2295637" y="222424"/>
                </a:lnTo>
                <a:lnTo>
                  <a:pt x="2292891" y="222424"/>
                </a:lnTo>
                <a:close/>
                <a:moveTo>
                  <a:pt x="2328589" y="219678"/>
                </a:moveTo>
                <a:lnTo>
                  <a:pt x="2325843" y="222424"/>
                </a:lnTo>
                <a:lnTo>
                  <a:pt x="2328589" y="222424"/>
                </a:lnTo>
                <a:lnTo>
                  <a:pt x="2328589" y="227916"/>
                </a:lnTo>
                <a:lnTo>
                  <a:pt x="2331334" y="227916"/>
                </a:lnTo>
                <a:lnTo>
                  <a:pt x="2336826" y="227916"/>
                </a:lnTo>
                <a:lnTo>
                  <a:pt x="2339572" y="227916"/>
                </a:lnTo>
                <a:lnTo>
                  <a:pt x="2339572" y="222424"/>
                </a:lnTo>
                <a:lnTo>
                  <a:pt x="2334081" y="222424"/>
                </a:lnTo>
                <a:lnTo>
                  <a:pt x="2331334" y="222424"/>
                </a:lnTo>
                <a:lnTo>
                  <a:pt x="2328589" y="219678"/>
                </a:lnTo>
                <a:close/>
                <a:moveTo>
                  <a:pt x="3174349" y="123569"/>
                </a:moveTo>
                <a:lnTo>
                  <a:pt x="2430190" y="214186"/>
                </a:lnTo>
                <a:lnTo>
                  <a:pt x="2424698" y="214186"/>
                </a:lnTo>
                <a:lnTo>
                  <a:pt x="2421952" y="216932"/>
                </a:lnTo>
                <a:lnTo>
                  <a:pt x="2397238" y="221006"/>
                </a:lnTo>
                <a:lnTo>
                  <a:pt x="2397238" y="222424"/>
                </a:lnTo>
                <a:lnTo>
                  <a:pt x="2391745" y="230662"/>
                </a:lnTo>
                <a:lnTo>
                  <a:pt x="2386254" y="233408"/>
                </a:lnTo>
                <a:lnTo>
                  <a:pt x="2375269" y="233408"/>
                </a:lnTo>
                <a:lnTo>
                  <a:pt x="2369778" y="230662"/>
                </a:lnTo>
                <a:lnTo>
                  <a:pt x="2367408" y="225923"/>
                </a:lnTo>
                <a:lnTo>
                  <a:pt x="2233515" y="247993"/>
                </a:lnTo>
                <a:lnTo>
                  <a:pt x="2235225" y="247138"/>
                </a:lnTo>
                <a:lnTo>
                  <a:pt x="2232480" y="244392"/>
                </a:lnTo>
                <a:lnTo>
                  <a:pt x="2232480" y="241646"/>
                </a:lnTo>
                <a:lnTo>
                  <a:pt x="2224241" y="241646"/>
                </a:lnTo>
                <a:lnTo>
                  <a:pt x="2224241" y="249522"/>
                </a:lnTo>
                <a:lnTo>
                  <a:pt x="2172069" y="258122"/>
                </a:lnTo>
                <a:lnTo>
                  <a:pt x="2169322" y="260868"/>
                </a:lnTo>
                <a:lnTo>
                  <a:pt x="2158048" y="262747"/>
                </a:lnTo>
                <a:lnTo>
                  <a:pt x="2158338" y="263614"/>
                </a:lnTo>
                <a:lnTo>
                  <a:pt x="2158338" y="274598"/>
                </a:lnTo>
                <a:lnTo>
                  <a:pt x="2150099" y="280090"/>
                </a:lnTo>
                <a:lnTo>
                  <a:pt x="2141862" y="288328"/>
                </a:lnTo>
                <a:lnTo>
                  <a:pt x="2133624" y="296566"/>
                </a:lnTo>
                <a:lnTo>
                  <a:pt x="2122640" y="299312"/>
                </a:lnTo>
                <a:lnTo>
                  <a:pt x="2111656" y="296566"/>
                </a:lnTo>
                <a:lnTo>
                  <a:pt x="2103418" y="291074"/>
                </a:lnTo>
                <a:lnTo>
                  <a:pt x="2097926" y="282836"/>
                </a:lnTo>
                <a:lnTo>
                  <a:pt x="2097492" y="281102"/>
                </a:lnTo>
                <a:lnTo>
                  <a:pt x="2106164" y="282836"/>
                </a:lnTo>
                <a:lnTo>
                  <a:pt x="2096357" y="273029"/>
                </a:lnTo>
                <a:lnTo>
                  <a:pt x="2095510" y="273170"/>
                </a:lnTo>
                <a:lnTo>
                  <a:pt x="2097492" y="281102"/>
                </a:lnTo>
                <a:lnTo>
                  <a:pt x="2092434" y="280090"/>
                </a:lnTo>
                <a:lnTo>
                  <a:pt x="2078704" y="277344"/>
                </a:lnTo>
                <a:lnTo>
                  <a:pt x="2074960" y="276595"/>
                </a:lnTo>
                <a:lnTo>
                  <a:pt x="2070467" y="277344"/>
                </a:lnTo>
                <a:lnTo>
                  <a:pt x="2045753" y="274598"/>
                </a:lnTo>
                <a:lnTo>
                  <a:pt x="2021039" y="277344"/>
                </a:lnTo>
                <a:lnTo>
                  <a:pt x="2012801" y="280090"/>
                </a:lnTo>
                <a:lnTo>
                  <a:pt x="2007309" y="285582"/>
                </a:lnTo>
                <a:lnTo>
                  <a:pt x="2004563" y="285582"/>
                </a:lnTo>
                <a:lnTo>
                  <a:pt x="2010055" y="280090"/>
                </a:lnTo>
                <a:lnTo>
                  <a:pt x="2010055" y="271852"/>
                </a:lnTo>
                <a:lnTo>
                  <a:pt x="2004563" y="269106"/>
                </a:lnTo>
                <a:lnTo>
                  <a:pt x="2001817" y="266360"/>
                </a:lnTo>
                <a:lnTo>
                  <a:pt x="1996325" y="255376"/>
                </a:lnTo>
                <a:lnTo>
                  <a:pt x="1988087" y="258122"/>
                </a:lnTo>
                <a:lnTo>
                  <a:pt x="1982596" y="255376"/>
                </a:lnTo>
                <a:lnTo>
                  <a:pt x="1968866" y="249884"/>
                </a:lnTo>
                <a:lnTo>
                  <a:pt x="1963374" y="255376"/>
                </a:lnTo>
                <a:lnTo>
                  <a:pt x="1955136" y="255376"/>
                </a:lnTo>
                <a:lnTo>
                  <a:pt x="1944152" y="255376"/>
                </a:lnTo>
                <a:lnTo>
                  <a:pt x="1941406" y="255376"/>
                </a:lnTo>
                <a:lnTo>
                  <a:pt x="1938660" y="258122"/>
                </a:lnTo>
                <a:lnTo>
                  <a:pt x="1938660" y="260868"/>
                </a:lnTo>
                <a:lnTo>
                  <a:pt x="1938660" y="263614"/>
                </a:lnTo>
                <a:lnTo>
                  <a:pt x="1941406" y="266360"/>
                </a:lnTo>
                <a:lnTo>
                  <a:pt x="1935914" y="266360"/>
                </a:lnTo>
                <a:lnTo>
                  <a:pt x="1930422" y="269106"/>
                </a:lnTo>
                <a:lnTo>
                  <a:pt x="1930422" y="271852"/>
                </a:lnTo>
                <a:lnTo>
                  <a:pt x="1933168" y="277344"/>
                </a:lnTo>
                <a:lnTo>
                  <a:pt x="1927676" y="277344"/>
                </a:lnTo>
                <a:lnTo>
                  <a:pt x="1919438" y="280090"/>
                </a:lnTo>
                <a:lnTo>
                  <a:pt x="1916692" y="285582"/>
                </a:lnTo>
                <a:lnTo>
                  <a:pt x="1916692" y="296565"/>
                </a:lnTo>
                <a:lnTo>
                  <a:pt x="1924930" y="299311"/>
                </a:lnTo>
                <a:lnTo>
                  <a:pt x="1924930" y="302057"/>
                </a:lnTo>
                <a:lnTo>
                  <a:pt x="1900163" y="305596"/>
                </a:lnTo>
                <a:lnTo>
                  <a:pt x="1900776" y="307028"/>
                </a:lnTo>
                <a:lnTo>
                  <a:pt x="1949643" y="299312"/>
                </a:lnTo>
                <a:lnTo>
                  <a:pt x="1968865" y="293820"/>
                </a:lnTo>
                <a:lnTo>
                  <a:pt x="1990832" y="285582"/>
                </a:lnTo>
                <a:lnTo>
                  <a:pt x="1993578" y="288328"/>
                </a:lnTo>
                <a:lnTo>
                  <a:pt x="1990832" y="288328"/>
                </a:lnTo>
                <a:lnTo>
                  <a:pt x="1982595" y="296566"/>
                </a:lnTo>
                <a:lnTo>
                  <a:pt x="1971611" y="302058"/>
                </a:lnTo>
                <a:lnTo>
                  <a:pt x="1946897" y="307550"/>
                </a:lnTo>
                <a:lnTo>
                  <a:pt x="1903087" y="312418"/>
                </a:lnTo>
                <a:lnTo>
                  <a:pt x="1905708" y="318534"/>
                </a:lnTo>
                <a:lnTo>
                  <a:pt x="1905708" y="324026"/>
                </a:lnTo>
                <a:lnTo>
                  <a:pt x="1905708" y="329517"/>
                </a:lnTo>
                <a:lnTo>
                  <a:pt x="1900216" y="340501"/>
                </a:lnTo>
                <a:lnTo>
                  <a:pt x="1894723" y="348739"/>
                </a:lnTo>
                <a:lnTo>
                  <a:pt x="1891978" y="356977"/>
                </a:lnTo>
                <a:lnTo>
                  <a:pt x="1889232" y="373453"/>
                </a:lnTo>
                <a:lnTo>
                  <a:pt x="1889232" y="395421"/>
                </a:lnTo>
                <a:lnTo>
                  <a:pt x="1891978" y="414643"/>
                </a:lnTo>
                <a:lnTo>
                  <a:pt x="1902962" y="455832"/>
                </a:lnTo>
                <a:lnTo>
                  <a:pt x="1905708" y="475054"/>
                </a:lnTo>
                <a:lnTo>
                  <a:pt x="1908453" y="491530"/>
                </a:lnTo>
                <a:lnTo>
                  <a:pt x="1905708" y="497022"/>
                </a:lnTo>
                <a:lnTo>
                  <a:pt x="1902962" y="502514"/>
                </a:lnTo>
                <a:lnTo>
                  <a:pt x="1900216" y="505260"/>
                </a:lnTo>
                <a:lnTo>
                  <a:pt x="1894723" y="508006"/>
                </a:lnTo>
                <a:lnTo>
                  <a:pt x="1889232" y="508006"/>
                </a:lnTo>
                <a:lnTo>
                  <a:pt x="1883740" y="505260"/>
                </a:lnTo>
                <a:lnTo>
                  <a:pt x="1878248" y="502514"/>
                </a:lnTo>
                <a:lnTo>
                  <a:pt x="1875502" y="497022"/>
                </a:lnTo>
                <a:lnTo>
                  <a:pt x="1872756" y="477800"/>
                </a:lnTo>
                <a:lnTo>
                  <a:pt x="1867264" y="455832"/>
                </a:lnTo>
                <a:lnTo>
                  <a:pt x="1867264" y="444848"/>
                </a:lnTo>
                <a:lnTo>
                  <a:pt x="1867264" y="433865"/>
                </a:lnTo>
                <a:lnTo>
                  <a:pt x="1870010" y="425627"/>
                </a:lnTo>
                <a:lnTo>
                  <a:pt x="1872756" y="417389"/>
                </a:lnTo>
                <a:lnTo>
                  <a:pt x="1880994" y="409151"/>
                </a:lnTo>
                <a:lnTo>
                  <a:pt x="1883740" y="398167"/>
                </a:lnTo>
                <a:lnTo>
                  <a:pt x="1883740" y="387183"/>
                </a:lnTo>
                <a:lnTo>
                  <a:pt x="1880994" y="376199"/>
                </a:lnTo>
                <a:lnTo>
                  <a:pt x="1872756" y="354231"/>
                </a:lnTo>
                <a:lnTo>
                  <a:pt x="1864518" y="335009"/>
                </a:lnTo>
                <a:lnTo>
                  <a:pt x="1861772" y="326772"/>
                </a:lnTo>
                <a:lnTo>
                  <a:pt x="1861772" y="324483"/>
                </a:lnTo>
                <a:lnTo>
                  <a:pt x="1864518" y="324026"/>
                </a:lnTo>
                <a:lnTo>
                  <a:pt x="1880994" y="324026"/>
                </a:lnTo>
                <a:lnTo>
                  <a:pt x="1871443" y="309699"/>
                </a:lnTo>
                <a:lnTo>
                  <a:pt x="1867265" y="310295"/>
                </a:lnTo>
                <a:lnTo>
                  <a:pt x="1867265" y="303432"/>
                </a:lnTo>
                <a:lnTo>
                  <a:pt x="1866349" y="302057"/>
                </a:lnTo>
                <a:lnTo>
                  <a:pt x="1864519" y="302057"/>
                </a:lnTo>
                <a:lnTo>
                  <a:pt x="1864126" y="302057"/>
                </a:lnTo>
                <a:lnTo>
                  <a:pt x="1861772" y="318534"/>
                </a:lnTo>
                <a:lnTo>
                  <a:pt x="1861772" y="324483"/>
                </a:lnTo>
                <a:lnTo>
                  <a:pt x="1848043" y="326772"/>
                </a:lnTo>
                <a:lnTo>
                  <a:pt x="1815091" y="337755"/>
                </a:lnTo>
                <a:lnTo>
                  <a:pt x="1782139" y="351485"/>
                </a:lnTo>
                <a:lnTo>
                  <a:pt x="1751933" y="365215"/>
                </a:lnTo>
                <a:lnTo>
                  <a:pt x="1735457" y="367961"/>
                </a:lnTo>
                <a:lnTo>
                  <a:pt x="1716235" y="367961"/>
                </a:lnTo>
                <a:lnTo>
                  <a:pt x="1697014" y="367961"/>
                </a:lnTo>
                <a:lnTo>
                  <a:pt x="1677792" y="367961"/>
                </a:lnTo>
                <a:lnTo>
                  <a:pt x="1653078" y="370707"/>
                </a:lnTo>
                <a:lnTo>
                  <a:pt x="1631110" y="376199"/>
                </a:lnTo>
                <a:lnTo>
                  <a:pt x="1620126" y="378945"/>
                </a:lnTo>
                <a:lnTo>
                  <a:pt x="1609143" y="387183"/>
                </a:lnTo>
                <a:lnTo>
                  <a:pt x="1600904" y="395421"/>
                </a:lnTo>
                <a:lnTo>
                  <a:pt x="1595412" y="406405"/>
                </a:lnTo>
                <a:lnTo>
                  <a:pt x="1589921" y="417389"/>
                </a:lnTo>
                <a:lnTo>
                  <a:pt x="1584428" y="422881"/>
                </a:lnTo>
                <a:lnTo>
                  <a:pt x="1578936" y="425627"/>
                </a:lnTo>
                <a:lnTo>
                  <a:pt x="1576191" y="425627"/>
                </a:lnTo>
                <a:lnTo>
                  <a:pt x="1576191" y="431118"/>
                </a:lnTo>
                <a:lnTo>
                  <a:pt x="1573445" y="431118"/>
                </a:lnTo>
                <a:lnTo>
                  <a:pt x="1570699" y="431118"/>
                </a:lnTo>
                <a:lnTo>
                  <a:pt x="1567952" y="428372"/>
                </a:lnTo>
                <a:lnTo>
                  <a:pt x="1565206" y="428372"/>
                </a:lnTo>
                <a:lnTo>
                  <a:pt x="1565206" y="431118"/>
                </a:lnTo>
                <a:lnTo>
                  <a:pt x="1567952" y="433864"/>
                </a:lnTo>
                <a:lnTo>
                  <a:pt x="1567952" y="436610"/>
                </a:lnTo>
                <a:lnTo>
                  <a:pt x="1573445" y="433864"/>
                </a:lnTo>
                <a:lnTo>
                  <a:pt x="1576191" y="431118"/>
                </a:lnTo>
                <a:lnTo>
                  <a:pt x="1576191" y="458578"/>
                </a:lnTo>
                <a:lnTo>
                  <a:pt x="1573445" y="455832"/>
                </a:lnTo>
                <a:lnTo>
                  <a:pt x="1570699" y="461324"/>
                </a:lnTo>
                <a:lnTo>
                  <a:pt x="1573445" y="466816"/>
                </a:lnTo>
                <a:lnTo>
                  <a:pt x="1576191" y="466816"/>
                </a:lnTo>
                <a:lnTo>
                  <a:pt x="1576191" y="472308"/>
                </a:lnTo>
                <a:lnTo>
                  <a:pt x="1573445" y="475054"/>
                </a:lnTo>
                <a:lnTo>
                  <a:pt x="1570699" y="475054"/>
                </a:lnTo>
                <a:lnTo>
                  <a:pt x="1565206" y="464070"/>
                </a:lnTo>
                <a:lnTo>
                  <a:pt x="1559715" y="458578"/>
                </a:lnTo>
                <a:lnTo>
                  <a:pt x="1551477" y="458578"/>
                </a:lnTo>
                <a:lnTo>
                  <a:pt x="1551477" y="461324"/>
                </a:lnTo>
                <a:lnTo>
                  <a:pt x="1554223" y="464070"/>
                </a:lnTo>
                <a:lnTo>
                  <a:pt x="1551477" y="466816"/>
                </a:lnTo>
                <a:lnTo>
                  <a:pt x="1548731" y="466816"/>
                </a:lnTo>
                <a:lnTo>
                  <a:pt x="1545985" y="466816"/>
                </a:lnTo>
                <a:lnTo>
                  <a:pt x="1543239" y="469562"/>
                </a:lnTo>
                <a:lnTo>
                  <a:pt x="1554223" y="475054"/>
                </a:lnTo>
                <a:lnTo>
                  <a:pt x="1559715" y="477800"/>
                </a:lnTo>
                <a:lnTo>
                  <a:pt x="1567952" y="475054"/>
                </a:lnTo>
                <a:lnTo>
                  <a:pt x="1570699" y="477800"/>
                </a:lnTo>
                <a:lnTo>
                  <a:pt x="1576191" y="477800"/>
                </a:lnTo>
                <a:lnTo>
                  <a:pt x="1576191" y="497022"/>
                </a:lnTo>
                <a:lnTo>
                  <a:pt x="1573445" y="499768"/>
                </a:lnTo>
                <a:lnTo>
                  <a:pt x="1573445" y="502514"/>
                </a:lnTo>
                <a:lnTo>
                  <a:pt x="1576191" y="502514"/>
                </a:lnTo>
                <a:lnTo>
                  <a:pt x="1576191" y="505260"/>
                </a:lnTo>
                <a:lnTo>
                  <a:pt x="1576191" y="510752"/>
                </a:lnTo>
                <a:lnTo>
                  <a:pt x="1576191" y="546449"/>
                </a:lnTo>
                <a:lnTo>
                  <a:pt x="1570699" y="546449"/>
                </a:lnTo>
                <a:lnTo>
                  <a:pt x="1570699" y="549195"/>
                </a:lnTo>
                <a:lnTo>
                  <a:pt x="1576191" y="549195"/>
                </a:lnTo>
                <a:lnTo>
                  <a:pt x="1576191" y="568417"/>
                </a:lnTo>
                <a:lnTo>
                  <a:pt x="1570699" y="568417"/>
                </a:lnTo>
                <a:lnTo>
                  <a:pt x="1570699" y="573909"/>
                </a:lnTo>
                <a:lnTo>
                  <a:pt x="1576191" y="576655"/>
                </a:lnTo>
                <a:lnTo>
                  <a:pt x="1573445" y="818301"/>
                </a:lnTo>
                <a:lnTo>
                  <a:pt x="1556969" y="818301"/>
                </a:lnTo>
                <a:lnTo>
                  <a:pt x="1540493" y="818301"/>
                </a:lnTo>
                <a:lnTo>
                  <a:pt x="1537748" y="823793"/>
                </a:lnTo>
                <a:lnTo>
                  <a:pt x="1537748" y="829285"/>
                </a:lnTo>
                <a:lnTo>
                  <a:pt x="1540493" y="829285"/>
                </a:lnTo>
                <a:lnTo>
                  <a:pt x="1540493" y="834777"/>
                </a:lnTo>
                <a:lnTo>
                  <a:pt x="1548731" y="834777"/>
                </a:lnTo>
                <a:lnTo>
                  <a:pt x="1551477" y="837523"/>
                </a:lnTo>
                <a:lnTo>
                  <a:pt x="1556969" y="840269"/>
                </a:lnTo>
                <a:lnTo>
                  <a:pt x="1562461" y="840269"/>
                </a:lnTo>
                <a:lnTo>
                  <a:pt x="1562461" y="853999"/>
                </a:lnTo>
                <a:lnTo>
                  <a:pt x="1567952" y="853999"/>
                </a:lnTo>
                <a:lnTo>
                  <a:pt x="1573445" y="853999"/>
                </a:lnTo>
                <a:lnTo>
                  <a:pt x="1573445" y="867729"/>
                </a:lnTo>
                <a:lnTo>
                  <a:pt x="1562461" y="867729"/>
                </a:lnTo>
                <a:lnTo>
                  <a:pt x="1559715" y="870475"/>
                </a:lnTo>
                <a:lnTo>
                  <a:pt x="1556969" y="873221"/>
                </a:lnTo>
                <a:lnTo>
                  <a:pt x="1554223" y="873221"/>
                </a:lnTo>
                <a:lnTo>
                  <a:pt x="1551477" y="873221"/>
                </a:lnTo>
                <a:lnTo>
                  <a:pt x="1548731" y="875967"/>
                </a:lnTo>
                <a:lnTo>
                  <a:pt x="1545985" y="878713"/>
                </a:lnTo>
                <a:lnTo>
                  <a:pt x="1551477" y="878713"/>
                </a:lnTo>
                <a:lnTo>
                  <a:pt x="1556969" y="875967"/>
                </a:lnTo>
                <a:lnTo>
                  <a:pt x="1554223" y="886951"/>
                </a:lnTo>
                <a:lnTo>
                  <a:pt x="1554223" y="892443"/>
                </a:lnTo>
                <a:lnTo>
                  <a:pt x="1556969" y="895188"/>
                </a:lnTo>
                <a:lnTo>
                  <a:pt x="1548731" y="900680"/>
                </a:lnTo>
                <a:lnTo>
                  <a:pt x="1548731" y="897934"/>
                </a:lnTo>
                <a:lnTo>
                  <a:pt x="1545985" y="895188"/>
                </a:lnTo>
                <a:lnTo>
                  <a:pt x="1543239" y="895188"/>
                </a:lnTo>
                <a:lnTo>
                  <a:pt x="1543239" y="889697"/>
                </a:lnTo>
                <a:lnTo>
                  <a:pt x="1532255" y="889697"/>
                </a:lnTo>
                <a:lnTo>
                  <a:pt x="1524017" y="889697"/>
                </a:lnTo>
                <a:lnTo>
                  <a:pt x="1521272" y="897934"/>
                </a:lnTo>
                <a:lnTo>
                  <a:pt x="1518526" y="908918"/>
                </a:lnTo>
                <a:lnTo>
                  <a:pt x="1524017" y="908918"/>
                </a:lnTo>
                <a:lnTo>
                  <a:pt x="1524017" y="911664"/>
                </a:lnTo>
                <a:lnTo>
                  <a:pt x="1526763" y="919902"/>
                </a:lnTo>
                <a:lnTo>
                  <a:pt x="1455368" y="928140"/>
                </a:lnTo>
                <a:lnTo>
                  <a:pt x="1455368" y="925394"/>
                </a:lnTo>
                <a:lnTo>
                  <a:pt x="1452622" y="925394"/>
                </a:lnTo>
                <a:lnTo>
                  <a:pt x="1447130" y="925394"/>
                </a:lnTo>
                <a:lnTo>
                  <a:pt x="1447130" y="928140"/>
                </a:lnTo>
                <a:lnTo>
                  <a:pt x="1070932" y="972076"/>
                </a:lnTo>
                <a:lnTo>
                  <a:pt x="1062694" y="969330"/>
                </a:lnTo>
                <a:lnTo>
                  <a:pt x="1054456" y="969330"/>
                </a:lnTo>
                <a:lnTo>
                  <a:pt x="1054456" y="972076"/>
                </a:lnTo>
                <a:lnTo>
                  <a:pt x="1018756" y="978026"/>
                </a:lnTo>
                <a:lnTo>
                  <a:pt x="1018756" y="980314"/>
                </a:lnTo>
                <a:lnTo>
                  <a:pt x="1016010" y="985806"/>
                </a:lnTo>
                <a:lnTo>
                  <a:pt x="1010518" y="991298"/>
                </a:lnTo>
                <a:lnTo>
                  <a:pt x="1005026" y="996790"/>
                </a:lnTo>
                <a:lnTo>
                  <a:pt x="991296" y="1002282"/>
                </a:lnTo>
                <a:lnTo>
                  <a:pt x="974820" y="1002282"/>
                </a:lnTo>
                <a:lnTo>
                  <a:pt x="958344" y="999536"/>
                </a:lnTo>
                <a:lnTo>
                  <a:pt x="933631" y="994044"/>
                </a:lnTo>
                <a:lnTo>
                  <a:pt x="911663" y="991298"/>
                </a:lnTo>
                <a:lnTo>
                  <a:pt x="889695" y="994044"/>
                </a:lnTo>
                <a:lnTo>
                  <a:pt x="878712" y="996790"/>
                </a:lnTo>
                <a:lnTo>
                  <a:pt x="867728" y="1002282"/>
                </a:lnTo>
                <a:lnTo>
                  <a:pt x="843014" y="1016011"/>
                </a:lnTo>
                <a:lnTo>
                  <a:pt x="832030" y="1024249"/>
                </a:lnTo>
                <a:lnTo>
                  <a:pt x="818300" y="1026995"/>
                </a:lnTo>
                <a:lnTo>
                  <a:pt x="804570" y="1032487"/>
                </a:lnTo>
                <a:lnTo>
                  <a:pt x="788094" y="1032487"/>
                </a:lnTo>
                <a:lnTo>
                  <a:pt x="757889" y="1032487"/>
                </a:lnTo>
                <a:lnTo>
                  <a:pt x="727683" y="1026995"/>
                </a:lnTo>
                <a:lnTo>
                  <a:pt x="697477" y="1021503"/>
                </a:lnTo>
                <a:lnTo>
                  <a:pt x="680690" y="1016467"/>
                </a:lnTo>
                <a:lnTo>
                  <a:pt x="540957" y="1032488"/>
                </a:lnTo>
                <a:lnTo>
                  <a:pt x="543703" y="1029742"/>
                </a:lnTo>
                <a:lnTo>
                  <a:pt x="546450" y="1029742"/>
                </a:lnTo>
                <a:lnTo>
                  <a:pt x="546450" y="1024250"/>
                </a:lnTo>
                <a:lnTo>
                  <a:pt x="543703" y="1024250"/>
                </a:lnTo>
                <a:lnTo>
                  <a:pt x="540957" y="1026996"/>
                </a:lnTo>
                <a:lnTo>
                  <a:pt x="538212" y="1026996"/>
                </a:lnTo>
                <a:lnTo>
                  <a:pt x="538212" y="1032488"/>
                </a:lnTo>
                <a:lnTo>
                  <a:pt x="513498" y="1035234"/>
                </a:lnTo>
                <a:lnTo>
                  <a:pt x="508005" y="1035234"/>
                </a:lnTo>
                <a:lnTo>
                  <a:pt x="502514" y="1032488"/>
                </a:lnTo>
                <a:lnTo>
                  <a:pt x="502514" y="1035234"/>
                </a:lnTo>
                <a:lnTo>
                  <a:pt x="505260" y="1035234"/>
                </a:lnTo>
                <a:lnTo>
                  <a:pt x="477800" y="1040726"/>
                </a:lnTo>
                <a:lnTo>
                  <a:pt x="469562" y="1037980"/>
                </a:lnTo>
                <a:lnTo>
                  <a:pt x="461324" y="1040726"/>
                </a:lnTo>
                <a:lnTo>
                  <a:pt x="461324" y="1037980"/>
                </a:lnTo>
                <a:lnTo>
                  <a:pt x="458578" y="1035234"/>
                </a:lnTo>
                <a:lnTo>
                  <a:pt x="469562" y="1035234"/>
                </a:lnTo>
                <a:lnTo>
                  <a:pt x="469562" y="1029742"/>
                </a:lnTo>
                <a:lnTo>
                  <a:pt x="464070" y="1029742"/>
                </a:lnTo>
                <a:lnTo>
                  <a:pt x="461324" y="1029742"/>
                </a:lnTo>
                <a:lnTo>
                  <a:pt x="458578" y="1032488"/>
                </a:lnTo>
                <a:lnTo>
                  <a:pt x="455832" y="1032488"/>
                </a:lnTo>
                <a:lnTo>
                  <a:pt x="453086" y="1037980"/>
                </a:lnTo>
                <a:lnTo>
                  <a:pt x="447594" y="1037980"/>
                </a:lnTo>
                <a:lnTo>
                  <a:pt x="447594" y="1043472"/>
                </a:lnTo>
                <a:lnTo>
                  <a:pt x="439356" y="1043472"/>
                </a:lnTo>
                <a:lnTo>
                  <a:pt x="439356" y="1037980"/>
                </a:lnTo>
                <a:lnTo>
                  <a:pt x="433864" y="1037980"/>
                </a:lnTo>
                <a:lnTo>
                  <a:pt x="428372" y="1035234"/>
                </a:lnTo>
                <a:lnTo>
                  <a:pt x="422880" y="1035234"/>
                </a:lnTo>
                <a:lnTo>
                  <a:pt x="420134" y="1037980"/>
                </a:lnTo>
                <a:lnTo>
                  <a:pt x="420134" y="1035234"/>
                </a:lnTo>
                <a:lnTo>
                  <a:pt x="420134" y="1032488"/>
                </a:lnTo>
                <a:lnTo>
                  <a:pt x="414642" y="1029742"/>
                </a:lnTo>
                <a:lnTo>
                  <a:pt x="406404" y="1029742"/>
                </a:lnTo>
                <a:lnTo>
                  <a:pt x="400913" y="1026996"/>
                </a:lnTo>
                <a:lnTo>
                  <a:pt x="392675" y="1032488"/>
                </a:lnTo>
                <a:lnTo>
                  <a:pt x="387183" y="1032488"/>
                </a:lnTo>
                <a:lnTo>
                  <a:pt x="381691" y="1032488"/>
                </a:lnTo>
                <a:lnTo>
                  <a:pt x="381691" y="1043472"/>
                </a:lnTo>
                <a:lnTo>
                  <a:pt x="384437" y="1040726"/>
                </a:lnTo>
                <a:lnTo>
                  <a:pt x="384437" y="1037980"/>
                </a:lnTo>
                <a:lnTo>
                  <a:pt x="387183" y="1035234"/>
                </a:lnTo>
                <a:lnTo>
                  <a:pt x="389929" y="1037980"/>
                </a:lnTo>
                <a:lnTo>
                  <a:pt x="392675" y="1037980"/>
                </a:lnTo>
                <a:lnTo>
                  <a:pt x="398167" y="1035234"/>
                </a:lnTo>
                <a:lnTo>
                  <a:pt x="395421" y="1040726"/>
                </a:lnTo>
                <a:lnTo>
                  <a:pt x="395421" y="1043472"/>
                </a:lnTo>
                <a:lnTo>
                  <a:pt x="392675" y="1046218"/>
                </a:lnTo>
                <a:lnTo>
                  <a:pt x="389929" y="1048964"/>
                </a:lnTo>
                <a:lnTo>
                  <a:pt x="387183" y="1048964"/>
                </a:lnTo>
                <a:lnTo>
                  <a:pt x="384437" y="1046218"/>
                </a:lnTo>
                <a:lnTo>
                  <a:pt x="381691" y="1046218"/>
                </a:lnTo>
                <a:lnTo>
                  <a:pt x="381691" y="1048964"/>
                </a:lnTo>
                <a:lnTo>
                  <a:pt x="378945" y="1051710"/>
                </a:lnTo>
                <a:lnTo>
                  <a:pt x="376199" y="1051710"/>
                </a:lnTo>
                <a:lnTo>
                  <a:pt x="370707" y="1048964"/>
                </a:lnTo>
                <a:lnTo>
                  <a:pt x="370707" y="1051710"/>
                </a:lnTo>
                <a:lnTo>
                  <a:pt x="60411" y="1087407"/>
                </a:lnTo>
                <a:lnTo>
                  <a:pt x="63157" y="1084661"/>
                </a:lnTo>
                <a:lnTo>
                  <a:pt x="68650" y="1084661"/>
                </a:lnTo>
                <a:lnTo>
                  <a:pt x="74141" y="1081915"/>
                </a:lnTo>
                <a:lnTo>
                  <a:pt x="85125" y="1076423"/>
                </a:lnTo>
                <a:lnTo>
                  <a:pt x="85125" y="1068185"/>
                </a:lnTo>
                <a:lnTo>
                  <a:pt x="87871" y="1062693"/>
                </a:lnTo>
                <a:lnTo>
                  <a:pt x="85125" y="1057201"/>
                </a:lnTo>
                <a:lnTo>
                  <a:pt x="79633" y="1054455"/>
                </a:lnTo>
                <a:lnTo>
                  <a:pt x="76887" y="1046218"/>
                </a:lnTo>
                <a:lnTo>
                  <a:pt x="68650" y="1040726"/>
                </a:lnTo>
                <a:lnTo>
                  <a:pt x="60411" y="1035234"/>
                </a:lnTo>
                <a:lnTo>
                  <a:pt x="54920" y="1029742"/>
                </a:lnTo>
                <a:lnTo>
                  <a:pt x="112585" y="958346"/>
                </a:lnTo>
                <a:lnTo>
                  <a:pt x="118077" y="958346"/>
                </a:lnTo>
                <a:lnTo>
                  <a:pt x="115331" y="952854"/>
                </a:lnTo>
                <a:lnTo>
                  <a:pt x="266360" y="771620"/>
                </a:lnTo>
                <a:lnTo>
                  <a:pt x="282836" y="771620"/>
                </a:lnTo>
                <a:lnTo>
                  <a:pt x="296565" y="768874"/>
                </a:lnTo>
                <a:lnTo>
                  <a:pt x="313041" y="766128"/>
                </a:lnTo>
                <a:lnTo>
                  <a:pt x="329517" y="760636"/>
                </a:lnTo>
                <a:lnTo>
                  <a:pt x="356977" y="746906"/>
                </a:lnTo>
                <a:lnTo>
                  <a:pt x="381691" y="730430"/>
                </a:lnTo>
                <a:lnTo>
                  <a:pt x="370707" y="730430"/>
                </a:lnTo>
                <a:lnTo>
                  <a:pt x="362469" y="730430"/>
                </a:lnTo>
                <a:lnTo>
                  <a:pt x="343247" y="733176"/>
                </a:lnTo>
                <a:lnTo>
                  <a:pt x="329517" y="738668"/>
                </a:lnTo>
                <a:lnTo>
                  <a:pt x="315787" y="741414"/>
                </a:lnTo>
                <a:lnTo>
                  <a:pt x="307549" y="738668"/>
                </a:lnTo>
                <a:lnTo>
                  <a:pt x="304803" y="735922"/>
                </a:lnTo>
                <a:lnTo>
                  <a:pt x="299311" y="733176"/>
                </a:lnTo>
                <a:lnTo>
                  <a:pt x="293820" y="733176"/>
                </a:lnTo>
                <a:lnTo>
                  <a:pt x="291074" y="735922"/>
                </a:lnTo>
                <a:lnTo>
                  <a:pt x="90617" y="535465"/>
                </a:lnTo>
                <a:lnTo>
                  <a:pt x="112585" y="527228"/>
                </a:lnTo>
                <a:lnTo>
                  <a:pt x="123569" y="518990"/>
                </a:lnTo>
                <a:lnTo>
                  <a:pt x="131807" y="510752"/>
                </a:lnTo>
                <a:lnTo>
                  <a:pt x="101601" y="505260"/>
                </a:lnTo>
                <a:lnTo>
                  <a:pt x="93363" y="505260"/>
                </a:lnTo>
                <a:lnTo>
                  <a:pt x="85125" y="505260"/>
                </a:lnTo>
                <a:lnTo>
                  <a:pt x="76887" y="508006"/>
                </a:lnTo>
                <a:lnTo>
                  <a:pt x="68650" y="513498"/>
                </a:lnTo>
                <a:lnTo>
                  <a:pt x="68650" y="516244"/>
                </a:lnTo>
                <a:lnTo>
                  <a:pt x="63157" y="510752"/>
                </a:lnTo>
                <a:lnTo>
                  <a:pt x="65904" y="510752"/>
                </a:lnTo>
                <a:lnTo>
                  <a:pt x="63157" y="502514"/>
                </a:lnTo>
                <a:lnTo>
                  <a:pt x="60411" y="499768"/>
                </a:lnTo>
                <a:lnTo>
                  <a:pt x="57665" y="499768"/>
                </a:lnTo>
                <a:lnTo>
                  <a:pt x="54920" y="502514"/>
                </a:lnTo>
                <a:lnTo>
                  <a:pt x="46682" y="494276"/>
                </a:lnTo>
                <a:lnTo>
                  <a:pt x="60411" y="491530"/>
                </a:lnTo>
                <a:lnTo>
                  <a:pt x="71395" y="488784"/>
                </a:lnTo>
                <a:lnTo>
                  <a:pt x="87871" y="480546"/>
                </a:lnTo>
                <a:lnTo>
                  <a:pt x="96109" y="475054"/>
                </a:lnTo>
                <a:lnTo>
                  <a:pt x="104347" y="472308"/>
                </a:lnTo>
                <a:lnTo>
                  <a:pt x="109839" y="472308"/>
                </a:lnTo>
                <a:lnTo>
                  <a:pt x="115331" y="477800"/>
                </a:lnTo>
                <a:lnTo>
                  <a:pt x="118077" y="483292"/>
                </a:lnTo>
                <a:lnTo>
                  <a:pt x="118077" y="488784"/>
                </a:lnTo>
                <a:lnTo>
                  <a:pt x="118077" y="494276"/>
                </a:lnTo>
                <a:lnTo>
                  <a:pt x="120823" y="499768"/>
                </a:lnTo>
                <a:lnTo>
                  <a:pt x="123569" y="499768"/>
                </a:lnTo>
                <a:lnTo>
                  <a:pt x="129061" y="499768"/>
                </a:lnTo>
                <a:lnTo>
                  <a:pt x="131807" y="497022"/>
                </a:lnTo>
                <a:lnTo>
                  <a:pt x="134553" y="499768"/>
                </a:lnTo>
                <a:lnTo>
                  <a:pt x="137299" y="505260"/>
                </a:lnTo>
                <a:lnTo>
                  <a:pt x="140045" y="513498"/>
                </a:lnTo>
                <a:lnTo>
                  <a:pt x="142791" y="521736"/>
                </a:lnTo>
                <a:lnTo>
                  <a:pt x="148283" y="527228"/>
                </a:lnTo>
                <a:lnTo>
                  <a:pt x="153775" y="529974"/>
                </a:lnTo>
                <a:lnTo>
                  <a:pt x="153775" y="521736"/>
                </a:lnTo>
                <a:lnTo>
                  <a:pt x="156521" y="518990"/>
                </a:lnTo>
                <a:lnTo>
                  <a:pt x="151029" y="513498"/>
                </a:lnTo>
                <a:lnTo>
                  <a:pt x="151029" y="505260"/>
                </a:lnTo>
                <a:lnTo>
                  <a:pt x="153775" y="502514"/>
                </a:lnTo>
                <a:lnTo>
                  <a:pt x="159267" y="497022"/>
                </a:lnTo>
                <a:lnTo>
                  <a:pt x="170251" y="494276"/>
                </a:lnTo>
                <a:lnTo>
                  <a:pt x="178488" y="488784"/>
                </a:lnTo>
                <a:lnTo>
                  <a:pt x="175743" y="488784"/>
                </a:lnTo>
                <a:lnTo>
                  <a:pt x="172997" y="483292"/>
                </a:lnTo>
                <a:lnTo>
                  <a:pt x="170251" y="480546"/>
                </a:lnTo>
                <a:lnTo>
                  <a:pt x="167505" y="475054"/>
                </a:lnTo>
                <a:lnTo>
                  <a:pt x="172997" y="469562"/>
                </a:lnTo>
                <a:lnTo>
                  <a:pt x="181234" y="461324"/>
                </a:lnTo>
                <a:lnTo>
                  <a:pt x="194964" y="455832"/>
                </a:lnTo>
                <a:lnTo>
                  <a:pt x="208694" y="453086"/>
                </a:lnTo>
                <a:lnTo>
                  <a:pt x="222424" y="453086"/>
                </a:lnTo>
                <a:lnTo>
                  <a:pt x="230662" y="455832"/>
                </a:lnTo>
                <a:lnTo>
                  <a:pt x="236154" y="458578"/>
                </a:lnTo>
                <a:lnTo>
                  <a:pt x="238900" y="461324"/>
                </a:lnTo>
                <a:lnTo>
                  <a:pt x="238900" y="466816"/>
                </a:lnTo>
                <a:lnTo>
                  <a:pt x="238900" y="472308"/>
                </a:lnTo>
                <a:lnTo>
                  <a:pt x="238900" y="477800"/>
                </a:lnTo>
                <a:lnTo>
                  <a:pt x="241646" y="480546"/>
                </a:lnTo>
                <a:lnTo>
                  <a:pt x="249884" y="480546"/>
                </a:lnTo>
                <a:lnTo>
                  <a:pt x="263614" y="480546"/>
                </a:lnTo>
                <a:lnTo>
                  <a:pt x="277344" y="480546"/>
                </a:lnTo>
                <a:lnTo>
                  <a:pt x="271852" y="464070"/>
                </a:lnTo>
                <a:lnTo>
                  <a:pt x="266360" y="450340"/>
                </a:lnTo>
                <a:lnTo>
                  <a:pt x="260868" y="433864"/>
                </a:lnTo>
                <a:lnTo>
                  <a:pt x="255376" y="422880"/>
                </a:lnTo>
                <a:lnTo>
                  <a:pt x="848507" y="359723"/>
                </a:lnTo>
                <a:lnTo>
                  <a:pt x="873221" y="356977"/>
                </a:lnTo>
                <a:lnTo>
                  <a:pt x="892443" y="373453"/>
                </a:lnTo>
                <a:lnTo>
                  <a:pt x="903426" y="381691"/>
                </a:lnTo>
                <a:lnTo>
                  <a:pt x="911664" y="384437"/>
                </a:lnTo>
                <a:lnTo>
                  <a:pt x="917156" y="384437"/>
                </a:lnTo>
                <a:lnTo>
                  <a:pt x="922648" y="384437"/>
                </a:lnTo>
                <a:lnTo>
                  <a:pt x="933632" y="378945"/>
                </a:lnTo>
                <a:lnTo>
                  <a:pt x="941870" y="376199"/>
                </a:lnTo>
                <a:lnTo>
                  <a:pt x="947362" y="373453"/>
                </a:lnTo>
                <a:lnTo>
                  <a:pt x="950108" y="376199"/>
                </a:lnTo>
                <a:lnTo>
                  <a:pt x="952854" y="376199"/>
                </a:lnTo>
                <a:lnTo>
                  <a:pt x="952854" y="378945"/>
                </a:lnTo>
                <a:lnTo>
                  <a:pt x="952854" y="384437"/>
                </a:lnTo>
                <a:lnTo>
                  <a:pt x="952854" y="389929"/>
                </a:lnTo>
                <a:lnTo>
                  <a:pt x="958346" y="392675"/>
                </a:lnTo>
                <a:lnTo>
                  <a:pt x="980314" y="392675"/>
                </a:lnTo>
                <a:lnTo>
                  <a:pt x="1005028" y="389929"/>
                </a:lnTo>
                <a:lnTo>
                  <a:pt x="1059948" y="381691"/>
                </a:lnTo>
                <a:lnTo>
                  <a:pt x="1087407" y="376199"/>
                </a:lnTo>
                <a:lnTo>
                  <a:pt x="1112121" y="367961"/>
                </a:lnTo>
                <a:lnTo>
                  <a:pt x="1131343" y="359723"/>
                </a:lnTo>
                <a:lnTo>
                  <a:pt x="1145073" y="348739"/>
                </a:lnTo>
                <a:lnTo>
                  <a:pt x="1153311" y="345993"/>
                </a:lnTo>
                <a:lnTo>
                  <a:pt x="1158803" y="348739"/>
                </a:lnTo>
                <a:lnTo>
                  <a:pt x="1164296" y="351485"/>
                </a:lnTo>
                <a:lnTo>
                  <a:pt x="1172532" y="354231"/>
                </a:lnTo>
                <a:lnTo>
                  <a:pt x="1175278" y="356977"/>
                </a:lnTo>
                <a:lnTo>
                  <a:pt x="1180772" y="359723"/>
                </a:lnTo>
                <a:lnTo>
                  <a:pt x="1180772" y="351485"/>
                </a:lnTo>
                <a:lnTo>
                  <a:pt x="1178025" y="351485"/>
                </a:lnTo>
                <a:lnTo>
                  <a:pt x="1194500" y="345993"/>
                </a:lnTo>
                <a:lnTo>
                  <a:pt x="1213722" y="337755"/>
                </a:lnTo>
                <a:lnTo>
                  <a:pt x="1249202" y="318650"/>
                </a:lnTo>
                <a:lnTo>
                  <a:pt x="1276880" y="315787"/>
                </a:lnTo>
                <a:lnTo>
                  <a:pt x="1271389" y="321279"/>
                </a:lnTo>
                <a:lnTo>
                  <a:pt x="1271389" y="332263"/>
                </a:lnTo>
                <a:lnTo>
                  <a:pt x="1282371" y="335009"/>
                </a:lnTo>
                <a:lnTo>
                  <a:pt x="1296101" y="337755"/>
                </a:lnTo>
                <a:lnTo>
                  <a:pt x="1323562" y="337755"/>
                </a:lnTo>
                <a:lnTo>
                  <a:pt x="1337290" y="337755"/>
                </a:lnTo>
                <a:lnTo>
                  <a:pt x="1351020" y="340501"/>
                </a:lnTo>
                <a:lnTo>
                  <a:pt x="1362005" y="345993"/>
                </a:lnTo>
                <a:lnTo>
                  <a:pt x="1372988" y="354231"/>
                </a:lnTo>
                <a:lnTo>
                  <a:pt x="1367496" y="354231"/>
                </a:lnTo>
                <a:lnTo>
                  <a:pt x="1370242" y="362469"/>
                </a:lnTo>
                <a:lnTo>
                  <a:pt x="1375736" y="365215"/>
                </a:lnTo>
                <a:lnTo>
                  <a:pt x="1378481" y="370707"/>
                </a:lnTo>
                <a:lnTo>
                  <a:pt x="1372988" y="367961"/>
                </a:lnTo>
                <a:lnTo>
                  <a:pt x="1375736" y="373453"/>
                </a:lnTo>
                <a:lnTo>
                  <a:pt x="1378481" y="376199"/>
                </a:lnTo>
                <a:lnTo>
                  <a:pt x="1389464" y="370707"/>
                </a:lnTo>
                <a:lnTo>
                  <a:pt x="1392210" y="365215"/>
                </a:lnTo>
                <a:lnTo>
                  <a:pt x="1394958" y="359723"/>
                </a:lnTo>
                <a:lnTo>
                  <a:pt x="1400448" y="354231"/>
                </a:lnTo>
                <a:lnTo>
                  <a:pt x="1405940" y="354231"/>
                </a:lnTo>
                <a:lnTo>
                  <a:pt x="1408686" y="354231"/>
                </a:lnTo>
                <a:lnTo>
                  <a:pt x="1416924" y="345993"/>
                </a:lnTo>
                <a:lnTo>
                  <a:pt x="1436146" y="343247"/>
                </a:lnTo>
                <a:lnTo>
                  <a:pt x="1436146" y="345993"/>
                </a:lnTo>
                <a:lnTo>
                  <a:pt x="1433400" y="345993"/>
                </a:lnTo>
                <a:lnTo>
                  <a:pt x="1433400" y="348739"/>
                </a:lnTo>
                <a:lnTo>
                  <a:pt x="1433400" y="351485"/>
                </a:lnTo>
                <a:lnTo>
                  <a:pt x="1436146" y="351485"/>
                </a:lnTo>
                <a:lnTo>
                  <a:pt x="1441637" y="348739"/>
                </a:lnTo>
                <a:lnTo>
                  <a:pt x="1447130" y="343247"/>
                </a:lnTo>
                <a:lnTo>
                  <a:pt x="1449877" y="343247"/>
                </a:lnTo>
                <a:lnTo>
                  <a:pt x="1455368" y="345993"/>
                </a:lnTo>
                <a:lnTo>
                  <a:pt x="1460859" y="345993"/>
                </a:lnTo>
                <a:lnTo>
                  <a:pt x="1460859" y="351485"/>
                </a:lnTo>
                <a:lnTo>
                  <a:pt x="1466353" y="351485"/>
                </a:lnTo>
                <a:lnTo>
                  <a:pt x="1480081" y="354231"/>
                </a:lnTo>
                <a:lnTo>
                  <a:pt x="1480081" y="348739"/>
                </a:lnTo>
                <a:lnTo>
                  <a:pt x="1485574" y="345993"/>
                </a:lnTo>
                <a:lnTo>
                  <a:pt x="1485574" y="348739"/>
                </a:lnTo>
                <a:lnTo>
                  <a:pt x="1482829" y="348739"/>
                </a:lnTo>
                <a:lnTo>
                  <a:pt x="1482829" y="351485"/>
                </a:lnTo>
                <a:lnTo>
                  <a:pt x="1491065" y="351485"/>
                </a:lnTo>
                <a:lnTo>
                  <a:pt x="1485574" y="337755"/>
                </a:lnTo>
                <a:lnTo>
                  <a:pt x="1499304" y="337755"/>
                </a:lnTo>
                <a:lnTo>
                  <a:pt x="1502050" y="340501"/>
                </a:lnTo>
                <a:lnTo>
                  <a:pt x="1504796" y="340501"/>
                </a:lnTo>
                <a:lnTo>
                  <a:pt x="1504796" y="337755"/>
                </a:lnTo>
                <a:lnTo>
                  <a:pt x="1507541" y="335009"/>
                </a:lnTo>
                <a:lnTo>
                  <a:pt x="1502050" y="335009"/>
                </a:lnTo>
                <a:lnTo>
                  <a:pt x="1499304" y="324025"/>
                </a:lnTo>
                <a:lnTo>
                  <a:pt x="1496557" y="321279"/>
                </a:lnTo>
                <a:lnTo>
                  <a:pt x="1493811" y="321279"/>
                </a:lnTo>
                <a:lnTo>
                  <a:pt x="1499304" y="313041"/>
                </a:lnTo>
                <a:lnTo>
                  <a:pt x="1502050" y="307549"/>
                </a:lnTo>
                <a:lnTo>
                  <a:pt x="1499304" y="307549"/>
                </a:lnTo>
                <a:lnTo>
                  <a:pt x="1496557" y="307549"/>
                </a:lnTo>
                <a:lnTo>
                  <a:pt x="1496557" y="310295"/>
                </a:lnTo>
                <a:lnTo>
                  <a:pt x="1491065" y="310295"/>
                </a:lnTo>
                <a:lnTo>
                  <a:pt x="1493811" y="307549"/>
                </a:lnTo>
                <a:lnTo>
                  <a:pt x="1491065" y="304803"/>
                </a:lnTo>
                <a:lnTo>
                  <a:pt x="1491065" y="302057"/>
                </a:lnTo>
                <a:lnTo>
                  <a:pt x="1491065" y="299311"/>
                </a:lnTo>
                <a:lnTo>
                  <a:pt x="1485574" y="304803"/>
                </a:lnTo>
                <a:lnTo>
                  <a:pt x="1482829" y="313041"/>
                </a:lnTo>
                <a:lnTo>
                  <a:pt x="1488320" y="315787"/>
                </a:lnTo>
                <a:lnTo>
                  <a:pt x="1493811" y="321279"/>
                </a:lnTo>
                <a:lnTo>
                  <a:pt x="1491065" y="321279"/>
                </a:lnTo>
                <a:lnTo>
                  <a:pt x="1488320" y="324025"/>
                </a:lnTo>
                <a:lnTo>
                  <a:pt x="1482829" y="321279"/>
                </a:lnTo>
                <a:lnTo>
                  <a:pt x="1477335" y="321279"/>
                </a:lnTo>
                <a:lnTo>
                  <a:pt x="1460859" y="321279"/>
                </a:lnTo>
                <a:lnTo>
                  <a:pt x="1460859" y="318533"/>
                </a:lnTo>
                <a:lnTo>
                  <a:pt x="1463606" y="313041"/>
                </a:lnTo>
                <a:lnTo>
                  <a:pt x="1469098" y="318533"/>
                </a:lnTo>
                <a:lnTo>
                  <a:pt x="1474589" y="318533"/>
                </a:lnTo>
                <a:lnTo>
                  <a:pt x="1477335" y="315787"/>
                </a:lnTo>
                <a:lnTo>
                  <a:pt x="1474589" y="310295"/>
                </a:lnTo>
                <a:lnTo>
                  <a:pt x="1471844" y="304803"/>
                </a:lnTo>
                <a:lnTo>
                  <a:pt x="1469098" y="304803"/>
                </a:lnTo>
                <a:lnTo>
                  <a:pt x="1463606" y="307549"/>
                </a:lnTo>
                <a:lnTo>
                  <a:pt x="1463606" y="310295"/>
                </a:lnTo>
                <a:lnTo>
                  <a:pt x="1460859" y="313041"/>
                </a:lnTo>
                <a:lnTo>
                  <a:pt x="1460859" y="304803"/>
                </a:lnTo>
                <a:lnTo>
                  <a:pt x="1458113" y="302057"/>
                </a:lnTo>
                <a:lnTo>
                  <a:pt x="1452622" y="299311"/>
                </a:lnTo>
                <a:lnTo>
                  <a:pt x="1447130" y="299311"/>
                </a:lnTo>
                <a:lnTo>
                  <a:pt x="1447130" y="302057"/>
                </a:lnTo>
                <a:lnTo>
                  <a:pt x="1447130" y="304803"/>
                </a:lnTo>
                <a:lnTo>
                  <a:pt x="1444383" y="307549"/>
                </a:lnTo>
                <a:lnTo>
                  <a:pt x="1444383" y="310295"/>
                </a:lnTo>
                <a:lnTo>
                  <a:pt x="1449877" y="310295"/>
                </a:lnTo>
                <a:lnTo>
                  <a:pt x="1452622" y="310295"/>
                </a:lnTo>
                <a:lnTo>
                  <a:pt x="1455368" y="313041"/>
                </a:lnTo>
                <a:lnTo>
                  <a:pt x="1452622" y="313041"/>
                </a:lnTo>
                <a:lnTo>
                  <a:pt x="1447130" y="313041"/>
                </a:lnTo>
                <a:lnTo>
                  <a:pt x="1444383" y="313041"/>
                </a:lnTo>
                <a:lnTo>
                  <a:pt x="1441637" y="315787"/>
                </a:lnTo>
                <a:lnTo>
                  <a:pt x="1441637" y="318533"/>
                </a:lnTo>
                <a:lnTo>
                  <a:pt x="1444383" y="318533"/>
                </a:lnTo>
                <a:lnTo>
                  <a:pt x="1444383" y="321279"/>
                </a:lnTo>
                <a:lnTo>
                  <a:pt x="1441637" y="321279"/>
                </a:lnTo>
                <a:lnTo>
                  <a:pt x="1438891" y="321279"/>
                </a:lnTo>
                <a:lnTo>
                  <a:pt x="1438891" y="324025"/>
                </a:lnTo>
                <a:lnTo>
                  <a:pt x="1436146" y="324025"/>
                </a:lnTo>
                <a:lnTo>
                  <a:pt x="1433400" y="315787"/>
                </a:lnTo>
                <a:lnTo>
                  <a:pt x="1433400" y="313041"/>
                </a:lnTo>
                <a:lnTo>
                  <a:pt x="1436146" y="310295"/>
                </a:lnTo>
                <a:lnTo>
                  <a:pt x="1430655" y="307549"/>
                </a:lnTo>
                <a:lnTo>
                  <a:pt x="1427907" y="304803"/>
                </a:lnTo>
                <a:lnTo>
                  <a:pt x="1427907" y="299311"/>
                </a:lnTo>
                <a:lnTo>
                  <a:pt x="1496557" y="293819"/>
                </a:lnTo>
                <a:lnTo>
                  <a:pt x="1496557" y="299311"/>
                </a:lnTo>
                <a:lnTo>
                  <a:pt x="1507541" y="304803"/>
                </a:lnTo>
                <a:lnTo>
                  <a:pt x="1507541" y="299311"/>
                </a:lnTo>
                <a:lnTo>
                  <a:pt x="1510287" y="299311"/>
                </a:lnTo>
                <a:lnTo>
                  <a:pt x="1510287" y="293819"/>
                </a:lnTo>
                <a:lnTo>
                  <a:pt x="1507541" y="291073"/>
                </a:lnTo>
                <a:lnTo>
                  <a:pt x="1515779" y="291073"/>
                </a:lnTo>
                <a:lnTo>
                  <a:pt x="1513033" y="296565"/>
                </a:lnTo>
                <a:lnTo>
                  <a:pt x="1524017" y="296565"/>
                </a:lnTo>
                <a:lnTo>
                  <a:pt x="1521272" y="291073"/>
                </a:lnTo>
                <a:lnTo>
                  <a:pt x="1529509" y="291073"/>
                </a:lnTo>
                <a:lnTo>
                  <a:pt x="1535002" y="293819"/>
                </a:lnTo>
                <a:lnTo>
                  <a:pt x="1532255" y="288328"/>
                </a:lnTo>
                <a:lnTo>
                  <a:pt x="1548731" y="288328"/>
                </a:lnTo>
                <a:lnTo>
                  <a:pt x="1554223" y="291073"/>
                </a:lnTo>
                <a:lnTo>
                  <a:pt x="1556969" y="291073"/>
                </a:lnTo>
                <a:lnTo>
                  <a:pt x="1559715" y="288328"/>
                </a:lnTo>
                <a:lnTo>
                  <a:pt x="1559715" y="285582"/>
                </a:lnTo>
                <a:lnTo>
                  <a:pt x="1790377" y="263614"/>
                </a:lnTo>
                <a:lnTo>
                  <a:pt x="1795869" y="263614"/>
                </a:lnTo>
                <a:lnTo>
                  <a:pt x="1798615" y="260868"/>
                </a:lnTo>
                <a:lnTo>
                  <a:pt x="1867265" y="255376"/>
                </a:lnTo>
                <a:lnTo>
                  <a:pt x="1872756" y="260868"/>
                </a:lnTo>
                <a:lnTo>
                  <a:pt x="1880995" y="266360"/>
                </a:lnTo>
                <a:lnTo>
                  <a:pt x="1889232" y="269106"/>
                </a:lnTo>
                <a:lnTo>
                  <a:pt x="1900217" y="271852"/>
                </a:lnTo>
                <a:lnTo>
                  <a:pt x="1905708" y="269106"/>
                </a:lnTo>
                <a:lnTo>
                  <a:pt x="1913947" y="266360"/>
                </a:lnTo>
                <a:lnTo>
                  <a:pt x="1922184" y="263614"/>
                </a:lnTo>
                <a:lnTo>
                  <a:pt x="1930422" y="258122"/>
                </a:lnTo>
                <a:lnTo>
                  <a:pt x="1930422" y="252630"/>
                </a:lnTo>
                <a:lnTo>
                  <a:pt x="1930422" y="247138"/>
                </a:lnTo>
                <a:lnTo>
                  <a:pt x="2073213" y="233408"/>
                </a:lnTo>
                <a:lnTo>
                  <a:pt x="2075959" y="233408"/>
                </a:lnTo>
                <a:lnTo>
                  <a:pt x="2378014" y="203202"/>
                </a:lnTo>
                <a:lnTo>
                  <a:pt x="2378015" y="203202"/>
                </a:lnTo>
                <a:lnTo>
                  <a:pt x="2378019" y="203202"/>
                </a:lnTo>
                <a:lnTo>
                  <a:pt x="3174349" y="123569"/>
                </a:lnTo>
                <a:close/>
                <a:moveTo>
                  <a:pt x="3352837" y="98855"/>
                </a:moveTo>
                <a:lnTo>
                  <a:pt x="3358329" y="101601"/>
                </a:lnTo>
                <a:lnTo>
                  <a:pt x="3358329" y="98855"/>
                </a:lnTo>
                <a:lnTo>
                  <a:pt x="3361075" y="101601"/>
                </a:lnTo>
                <a:lnTo>
                  <a:pt x="3350091" y="107093"/>
                </a:lnTo>
                <a:lnTo>
                  <a:pt x="3355583" y="112585"/>
                </a:lnTo>
                <a:lnTo>
                  <a:pt x="3358329" y="118077"/>
                </a:lnTo>
                <a:lnTo>
                  <a:pt x="3355583" y="118077"/>
                </a:lnTo>
                <a:lnTo>
                  <a:pt x="3355583" y="120823"/>
                </a:lnTo>
                <a:lnTo>
                  <a:pt x="3352837" y="123569"/>
                </a:lnTo>
                <a:lnTo>
                  <a:pt x="3350091" y="115331"/>
                </a:lnTo>
                <a:lnTo>
                  <a:pt x="3347345" y="115331"/>
                </a:lnTo>
                <a:lnTo>
                  <a:pt x="3347345" y="118077"/>
                </a:lnTo>
                <a:lnTo>
                  <a:pt x="3347345" y="120823"/>
                </a:lnTo>
                <a:lnTo>
                  <a:pt x="3344599" y="120823"/>
                </a:lnTo>
                <a:lnTo>
                  <a:pt x="3339107" y="115331"/>
                </a:lnTo>
                <a:lnTo>
                  <a:pt x="3339107" y="109839"/>
                </a:lnTo>
                <a:lnTo>
                  <a:pt x="3341853" y="107093"/>
                </a:lnTo>
                <a:lnTo>
                  <a:pt x="3344599" y="112585"/>
                </a:lnTo>
                <a:lnTo>
                  <a:pt x="3347345" y="112585"/>
                </a:lnTo>
                <a:lnTo>
                  <a:pt x="3347345" y="107093"/>
                </a:lnTo>
                <a:lnTo>
                  <a:pt x="3350091" y="104347"/>
                </a:lnTo>
                <a:lnTo>
                  <a:pt x="3352837" y="104347"/>
                </a:lnTo>
                <a:lnTo>
                  <a:pt x="3352837" y="98855"/>
                </a:lnTo>
                <a:close/>
                <a:moveTo>
                  <a:pt x="3374805" y="93363"/>
                </a:moveTo>
                <a:lnTo>
                  <a:pt x="3377551" y="98855"/>
                </a:lnTo>
                <a:lnTo>
                  <a:pt x="3372059" y="101601"/>
                </a:lnTo>
                <a:lnTo>
                  <a:pt x="3372059" y="96109"/>
                </a:lnTo>
                <a:lnTo>
                  <a:pt x="3374805" y="93363"/>
                </a:lnTo>
                <a:close/>
                <a:moveTo>
                  <a:pt x="3372059" y="79633"/>
                </a:moveTo>
                <a:lnTo>
                  <a:pt x="3374805" y="87871"/>
                </a:lnTo>
                <a:lnTo>
                  <a:pt x="3369313" y="90617"/>
                </a:lnTo>
                <a:lnTo>
                  <a:pt x="3366567" y="82379"/>
                </a:lnTo>
                <a:lnTo>
                  <a:pt x="3372059" y="79633"/>
                </a:lnTo>
                <a:close/>
                <a:moveTo>
                  <a:pt x="3377551" y="76887"/>
                </a:moveTo>
                <a:lnTo>
                  <a:pt x="3380297" y="76887"/>
                </a:lnTo>
                <a:lnTo>
                  <a:pt x="3383043" y="76887"/>
                </a:lnTo>
                <a:lnTo>
                  <a:pt x="3388535" y="76887"/>
                </a:lnTo>
                <a:lnTo>
                  <a:pt x="3388535" y="79633"/>
                </a:lnTo>
                <a:lnTo>
                  <a:pt x="3391281" y="82379"/>
                </a:lnTo>
                <a:lnTo>
                  <a:pt x="3399519" y="79633"/>
                </a:lnTo>
                <a:lnTo>
                  <a:pt x="3402265" y="79633"/>
                </a:lnTo>
                <a:lnTo>
                  <a:pt x="3405011" y="85125"/>
                </a:lnTo>
                <a:lnTo>
                  <a:pt x="3396773" y="87871"/>
                </a:lnTo>
                <a:lnTo>
                  <a:pt x="3394027" y="90617"/>
                </a:lnTo>
                <a:lnTo>
                  <a:pt x="3391281" y="85125"/>
                </a:lnTo>
                <a:lnTo>
                  <a:pt x="3385789" y="82379"/>
                </a:lnTo>
                <a:lnTo>
                  <a:pt x="3377551" y="76887"/>
                </a:lnTo>
                <a:close/>
                <a:moveTo>
                  <a:pt x="3888303" y="54919"/>
                </a:moveTo>
                <a:lnTo>
                  <a:pt x="3888303" y="57665"/>
                </a:lnTo>
                <a:lnTo>
                  <a:pt x="3882811" y="57665"/>
                </a:lnTo>
                <a:lnTo>
                  <a:pt x="3888303" y="54919"/>
                </a:lnTo>
                <a:close/>
                <a:moveTo>
                  <a:pt x="3915763" y="52173"/>
                </a:moveTo>
                <a:lnTo>
                  <a:pt x="3918509" y="52173"/>
                </a:lnTo>
                <a:lnTo>
                  <a:pt x="3913017" y="54919"/>
                </a:lnTo>
                <a:lnTo>
                  <a:pt x="3915763" y="52173"/>
                </a:lnTo>
                <a:close/>
                <a:moveTo>
                  <a:pt x="3929492" y="43936"/>
                </a:moveTo>
                <a:lnTo>
                  <a:pt x="3934984" y="49427"/>
                </a:lnTo>
                <a:lnTo>
                  <a:pt x="3940476" y="49427"/>
                </a:lnTo>
                <a:lnTo>
                  <a:pt x="3934984" y="43936"/>
                </a:lnTo>
                <a:lnTo>
                  <a:pt x="3929492" y="43936"/>
                </a:lnTo>
                <a:close/>
                <a:moveTo>
                  <a:pt x="3805923" y="43936"/>
                </a:moveTo>
                <a:lnTo>
                  <a:pt x="3811415" y="49427"/>
                </a:lnTo>
                <a:lnTo>
                  <a:pt x="3805923" y="54919"/>
                </a:lnTo>
                <a:lnTo>
                  <a:pt x="3805923" y="63157"/>
                </a:lnTo>
                <a:lnTo>
                  <a:pt x="3811415" y="63157"/>
                </a:lnTo>
                <a:lnTo>
                  <a:pt x="3808669" y="65903"/>
                </a:lnTo>
                <a:lnTo>
                  <a:pt x="3808669" y="68649"/>
                </a:lnTo>
                <a:lnTo>
                  <a:pt x="3794940" y="68649"/>
                </a:lnTo>
                <a:lnTo>
                  <a:pt x="3792194" y="68649"/>
                </a:lnTo>
                <a:lnTo>
                  <a:pt x="3789448" y="71395"/>
                </a:lnTo>
                <a:lnTo>
                  <a:pt x="3767480" y="74141"/>
                </a:lnTo>
                <a:lnTo>
                  <a:pt x="3764734" y="65903"/>
                </a:lnTo>
                <a:lnTo>
                  <a:pt x="3753750" y="68649"/>
                </a:lnTo>
                <a:lnTo>
                  <a:pt x="3756496" y="74141"/>
                </a:lnTo>
                <a:lnTo>
                  <a:pt x="3753750" y="74141"/>
                </a:lnTo>
                <a:lnTo>
                  <a:pt x="3712560" y="79633"/>
                </a:lnTo>
                <a:lnTo>
                  <a:pt x="3734528" y="49427"/>
                </a:lnTo>
                <a:lnTo>
                  <a:pt x="3805923" y="43936"/>
                </a:lnTo>
                <a:close/>
                <a:moveTo>
                  <a:pt x="3907525" y="32952"/>
                </a:moveTo>
                <a:lnTo>
                  <a:pt x="3915763" y="32952"/>
                </a:lnTo>
                <a:lnTo>
                  <a:pt x="3907525" y="43936"/>
                </a:lnTo>
                <a:lnTo>
                  <a:pt x="3907525" y="49427"/>
                </a:lnTo>
                <a:lnTo>
                  <a:pt x="3910271" y="54919"/>
                </a:lnTo>
                <a:lnTo>
                  <a:pt x="3904779" y="54919"/>
                </a:lnTo>
                <a:lnTo>
                  <a:pt x="3899287" y="43936"/>
                </a:lnTo>
                <a:lnTo>
                  <a:pt x="3899287" y="38444"/>
                </a:lnTo>
                <a:lnTo>
                  <a:pt x="3888303" y="35698"/>
                </a:lnTo>
                <a:lnTo>
                  <a:pt x="3899287" y="35698"/>
                </a:lnTo>
                <a:lnTo>
                  <a:pt x="3907525" y="32952"/>
                </a:lnTo>
                <a:close/>
                <a:moveTo>
                  <a:pt x="4076085" y="31896"/>
                </a:moveTo>
                <a:lnTo>
                  <a:pt x="4075029" y="32952"/>
                </a:lnTo>
                <a:lnTo>
                  <a:pt x="4074222" y="32144"/>
                </a:lnTo>
                <a:lnTo>
                  <a:pt x="4076085" y="31896"/>
                </a:lnTo>
                <a:close/>
                <a:moveTo>
                  <a:pt x="3945968" y="30206"/>
                </a:moveTo>
                <a:lnTo>
                  <a:pt x="3948714" y="32952"/>
                </a:lnTo>
                <a:lnTo>
                  <a:pt x="3954206" y="32952"/>
                </a:lnTo>
                <a:lnTo>
                  <a:pt x="3956952" y="30206"/>
                </a:lnTo>
                <a:lnTo>
                  <a:pt x="3967936" y="30206"/>
                </a:lnTo>
                <a:lnTo>
                  <a:pt x="3962444" y="38444"/>
                </a:lnTo>
                <a:lnTo>
                  <a:pt x="3956952" y="46681"/>
                </a:lnTo>
                <a:lnTo>
                  <a:pt x="3954206" y="46681"/>
                </a:lnTo>
                <a:lnTo>
                  <a:pt x="3951460" y="46681"/>
                </a:lnTo>
                <a:lnTo>
                  <a:pt x="3948714" y="49427"/>
                </a:lnTo>
                <a:lnTo>
                  <a:pt x="3924000" y="52173"/>
                </a:lnTo>
                <a:lnTo>
                  <a:pt x="3924000" y="41190"/>
                </a:lnTo>
                <a:lnTo>
                  <a:pt x="3924000" y="38444"/>
                </a:lnTo>
                <a:lnTo>
                  <a:pt x="3918509" y="32952"/>
                </a:lnTo>
                <a:lnTo>
                  <a:pt x="3945968" y="30206"/>
                </a:lnTo>
                <a:close/>
                <a:moveTo>
                  <a:pt x="4146425" y="13730"/>
                </a:moveTo>
                <a:lnTo>
                  <a:pt x="4149171" y="21968"/>
                </a:lnTo>
                <a:lnTo>
                  <a:pt x="4094251" y="30206"/>
                </a:lnTo>
                <a:lnTo>
                  <a:pt x="4094251" y="27460"/>
                </a:lnTo>
                <a:lnTo>
                  <a:pt x="4088759" y="27460"/>
                </a:lnTo>
                <a:lnTo>
                  <a:pt x="4088759" y="30206"/>
                </a:lnTo>
                <a:lnTo>
                  <a:pt x="4076085" y="31896"/>
                </a:lnTo>
                <a:lnTo>
                  <a:pt x="4077775" y="30206"/>
                </a:lnTo>
                <a:lnTo>
                  <a:pt x="4075029" y="30206"/>
                </a:lnTo>
                <a:lnTo>
                  <a:pt x="4077775" y="27460"/>
                </a:lnTo>
                <a:lnTo>
                  <a:pt x="4075029" y="27460"/>
                </a:lnTo>
                <a:lnTo>
                  <a:pt x="4075029" y="24714"/>
                </a:lnTo>
                <a:lnTo>
                  <a:pt x="4072283" y="24714"/>
                </a:lnTo>
                <a:lnTo>
                  <a:pt x="4072283" y="27460"/>
                </a:lnTo>
                <a:lnTo>
                  <a:pt x="4069537" y="27460"/>
                </a:lnTo>
                <a:lnTo>
                  <a:pt x="4072283" y="30206"/>
                </a:lnTo>
                <a:lnTo>
                  <a:pt x="4074222" y="32144"/>
                </a:lnTo>
                <a:lnTo>
                  <a:pt x="4006380" y="41190"/>
                </a:lnTo>
                <a:lnTo>
                  <a:pt x="4003634" y="38444"/>
                </a:lnTo>
                <a:lnTo>
                  <a:pt x="4003634" y="41190"/>
                </a:lnTo>
                <a:lnTo>
                  <a:pt x="3989904" y="43936"/>
                </a:lnTo>
                <a:lnTo>
                  <a:pt x="3981666" y="38444"/>
                </a:lnTo>
                <a:lnTo>
                  <a:pt x="3976174" y="35698"/>
                </a:lnTo>
                <a:lnTo>
                  <a:pt x="3970682" y="35698"/>
                </a:lnTo>
                <a:lnTo>
                  <a:pt x="3970682" y="30206"/>
                </a:lnTo>
                <a:lnTo>
                  <a:pt x="4146425" y="13730"/>
                </a:lnTo>
                <a:close/>
                <a:moveTo>
                  <a:pt x="4228804" y="8369"/>
                </a:moveTo>
                <a:lnTo>
                  <a:pt x="4228804" y="10984"/>
                </a:lnTo>
                <a:lnTo>
                  <a:pt x="4231550" y="13730"/>
                </a:lnTo>
                <a:lnTo>
                  <a:pt x="4223312" y="13730"/>
                </a:lnTo>
                <a:lnTo>
                  <a:pt x="4217820" y="13730"/>
                </a:lnTo>
                <a:lnTo>
                  <a:pt x="4176630" y="19222"/>
                </a:lnTo>
                <a:lnTo>
                  <a:pt x="4173884" y="10984"/>
                </a:lnTo>
                <a:lnTo>
                  <a:pt x="4228804" y="8369"/>
                </a:lnTo>
                <a:close/>
                <a:moveTo>
                  <a:pt x="4228804" y="8238"/>
                </a:moveTo>
                <a:lnTo>
                  <a:pt x="4231550" y="8238"/>
                </a:lnTo>
                <a:lnTo>
                  <a:pt x="4228804" y="8369"/>
                </a:lnTo>
                <a:lnTo>
                  <a:pt x="4228804" y="8238"/>
                </a:lnTo>
                <a:close/>
                <a:moveTo>
                  <a:pt x="4278232" y="2746"/>
                </a:moveTo>
                <a:lnTo>
                  <a:pt x="4280978" y="2746"/>
                </a:lnTo>
                <a:lnTo>
                  <a:pt x="4280978" y="5492"/>
                </a:lnTo>
                <a:lnTo>
                  <a:pt x="4278232" y="5492"/>
                </a:lnTo>
                <a:lnTo>
                  <a:pt x="4278232" y="2746"/>
                </a:lnTo>
                <a:close/>
                <a:moveTo>
                  <a:pt x="4272740" y="2746"/>
                </a:moveTo>
                <a:lnTo>
                  <a:pt x="4267248" y="5492"/>
                </a:lnTo>
                <a:lnTo>
                  <a:pt x="4261756" y="8238"/>
                </a:lnTo>
                <a:lnTo>
                  <a:pt x="4264502" y="8238"/>
                </a:lnTo>
                <a:lnTo>
                  <a:pt x="4237042" y="10984"/>
                </a:lnTo>
                <a:lnTo>
                  <a:pt x="4237042" y="8238"/>
                </a:lnTo>
                <a:lnTo>
                  <a:pt x="4234296" y="8238"/>
                </a:lnTo>
                <a:lnTo>
                  <a:pt x="4253518" y="5492"/>
                </a:lnTo>
                <a:lnTo>
                  <a:pt x="4256264" y="8238"/>
                </a:lnTo>
                <a:lnTo>
                  <a:pt x="4256264" y="5492"/>
                </a:lnTo>
                <a:lnTo>
                  <a:pt x="4272740" y="2746"/>
                </a:lnTo>
                <a:close/>
                <a:moveTo>
                  <a:pt x="4330405" y="0"/>
                </a:moveTo>
                <a:lnTo>
                  <a:pt x="4286470" y="5492"/>
                </a:lnTo>
                <a:lnTo>
                  <a:pt x="4286470" y="2746"/>
                </a:lnTo>
                <a:lnTo>
                  <a:pt x="4291962" y="2746"/>
                </a:lnTo>
                <a:lnTo>
                  <a:pt x="4300199" y="2746"/>
                </a:lnTo>
                <a:lnTo>
                  <a:pt x="4330405" y="0"/>
                </a:lnTo>
                <a:close/>
              </a:path>
            </a:pathLst>
          </a:cu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文本框 5"/>
          <p:cNvSpPr/>
          <p:nvPr/>
        </p:nvSpPr>
        <p:spPr>
          <a:xfrm rot="21263400">
            <a:off x="4386240" y="1099800"/>
            <a:ext cx="395136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ernard MT Condensed"/>
                <a:ea typeface="华文隶书"/>
              </a:rPr>
              <a:t>Chapter</a:t>
            </a:r>
            <a:r>
              <a:rPr b="0" lang="zh-CN" sz="5400" spc="-1" strike="noStrike">
                <a:solidFill>
                  <a:srgbClr val="000000"/>
                </a:solidFill>
                <a:latin typeface="Bernard MT Condensed"/>
                <a:ea typeface="华文隶书"/>
              </a:rPr>
              <a:t> </a:t>
            </a:r>
            <a:r>
              <a:rPr b="0" lang="en-US" sz="11500" spc="-1" strike="noStrike">
                <a:solidFill>
                  <a:srgbClr val="000000"/>
                </a:solidFill>
                <a:latin typeface="Bernard MT Condensed"/>
                <a:ea typeface="华文隶书"/>
              </a:rPr>
              <a:t>4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文本框 6"/>
          <p:cNvSpPr/>
          <p:nvPr/>
        </p:nvSpPr>
        <p:spPr>
          <a:xfrm rot="21226800">
            <a:off x="7843680" y="1069560"/>
            <a:ext cx="228456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您的内容请写在这里您的内容请写在这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wipe dir="l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5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5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ntr" presetID="23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5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5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5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5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6BB64-B32B-44D8-893A-15CFCD61C00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598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599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600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602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Group 3"/>
          <p:cNvGrpSpPr/>
          <p:nvPr/>
        </p:nvGrpSpPr>
        <p:grpSpPr>
          <a:xfrm>
            <a:off x="981000" y="4552920"/>
            <a:ext cx="4797360" cy="1504800"/>
            <a:chOff x="981000" y="4552920"/>
            <a:chExt cx="4797360" cy="1504800"/>
          </a:xfrm>
        </p:grpSpPr>
        <p:sp>
          <p:nvSpPr>
            <p:cNvPr id="605" name="Rectangle 4"/>
            <p:cNvSpPr/>
            <p:nvPr/>
          </p:nvSpPr>
          <p:spPr>
            <a:xfrm>
              <a:off x="981000" y="4552920"/>
              <a:ext cx="4797360" cy="122724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Line 5"/>
            <p:cNvSpPr/>
            <p:nvPr/>
          </p:nvSpPr>
          <p:spPr>
            <a:xfrm>
              <a:off x="981000" y="5780160"/>
              <a:ext cx="4797360" cy="1440"/>
            </a:xfrm>
            <a:prstGeom prst="line">
              <a:avLst/>
            </a:prstGeom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AutoShape 6"/>
            <p:cNvSpPr/>
            <p:nvPr/>
          </p:nvSpPr>
          <p:spPr>
            <a:xfrm>
              <a:off x="981000" y="5783400"/>
              <a:ext cx="4797360" cy="274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Group 7"/>
          <p:cNvGrpSpPr/>
          <p:nvPr/>
        </p:nvGrpSpPr>
        <p:grpSpPr>
          <a:xfrm>
            <a:off x="981000" y="3816360"/>
            <a:ext cx="4796640" cy="736560"/>
            <a:chOff x="981000" y="3816360"/>
            <a:chExt cx="4796640" cy="736560"/>
          </a:xfrm>
        </p:grpSpPr>
        <p:sp>
          <p:nvSpPr>
            <p:cNvPr id="609" name="Rectangle 8"/>
            <p:cNvSpPr/>
            <p:nvPr/>
          </p:nvSpPr>
          <p:spPr>
            <a:xfrm>
              <a:off x="981000" y="3816360"/>
              <a:ext cx="4796640" cy="596880"/>
            </a:xfrm>
            <a:prstGeom prst="rect">
              <a:avLst/>
            </a:prstGeom>
            <a:gradFill rotWithShape="0">
              <a:gsLst>
                <a:gs pos="0">
                  <a:srgbClr val="bc000d"/>
                </a:gs>
                <a:gs pos="100000">
                  <a:srgbClr val="ff05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AutoShape 9"/>
            <p:cNvSpPr/>
            <p:nvPr/>
          </p:nvSpPr>
          <p:spPr>
            <a:xfrm>
              <a:off x="981000" y="4419360"/>
              <a:ext cx="4796640" cy="133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051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Group 10"/>
          <p:cNvGrpSpPr/>
          <p:nvPr/>
        </p:nvGrpSpPr>
        <p:grpSpPr>
          <a:xfrm>
            <a:off x="5965920" y="4552920"/>
            <a:ext cx="4797360" cy="1504800"/>
            <a:chOff x="5965920" y="4552920"/>
            <a:chExt cx="4797360" cy="1504800"/>
          </a:xfrm>
        </p:grpSpPr>
        <p:sp>
          <p:nvSpPr>
            <p:cNvPr id="612" name="Rectangle 11"/>
            <p:cNvSpPr/>
            <p:nvPr/>
          </p:nvSpPr>
          <p:spPr>
            <a:xfrm>
              <a:off x="5965920" y="4552920"/>
              <a:ext cx="4797360" cy="122724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12"/>
            <p:cNvSpPr/>
            <p:nvPr/>
          </p:nvSpPr>
          <p:spPr>
            <a:xfrm>
              <a:off x="5965920" y="5780160"/>
              <a:ext cx="4797360" cy="1440"/>
            </a:xfrm>
            <a:prstGeom prst="line">
              <a:avLst/>
            </a:prstGeom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AutoShape 13"/>
            <p:cNvSpPr/>
            <p:nvPr/>
          </p:nvSpPr>
          <p:spPr>
            <a:xfrm>
              <a:off x="5965920" y="5783400"/>
              <a:ext cx="4797360" cy="274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Group 14"/>
          <p:cNvGrpSpPr/>
          <p:nvPr/>
        </p:nvGrpSpPr>
        <p:grpSpPr>
          <a:xfrm>
            <a:off x="5965920" y="3816360"/>
            <a:ext cx="4796640" cy="736560"/>
            <a:chOff x="5965920" y="3816360"/>
            <a:chExt cx="4796640" cy="736560"/>
          </a:xfrm>
        </p:grpSpPr>
        <p:sp>
          <p:nvSpPr>
            <p:cNvPr id="616" name="Rectangle 15"/>
            <p:cNvSpPr/>
            <p:nvPr/>
          </p:nvSpPr>
          <p:spPr>
            <a:xfrm>
              <a:off x="5965920" y="3816360"/>
              <a:ext cx="4796640" cy="596880"/>
            </a:xfrm>
            <a:prstGeom prst="rect">
              <a:avLst/>
            </a:prstGeom>
            <a:gradFill rotWithShape="0">
              <a:gsLst>
                <a:gs pos="0">
                  <a:srgbClr val="bc000d"/>
                </a:gs>
                <a:gs pos="100000">
                  <a:srgbClr val="ff05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AutoShape 16"/>
            <p:cNvSpPr/>
            <p:nvPr/>
          </p:nvSpPr>
          <p:spPr>
            <a:xfrm>
              <a:off x="5965920" y="4419360"/>
              <a:ext cx="4796640" cy="133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051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Group 17"/>
          <p:cNvGrpSpPr/>
          <p:nvPr/>
        </p:nvGrpSpPr>
        <p:grpSpPr>
          <a:xfrm>
            <a:off x="979560" y="2011320"/>
            <a:ext cx="4797360" cy="1506240"/>
            <a:chOff x="979560" y="2011320"/>
            <a:chExt cx="4797360" cy="1506240"/>
          </a:xfrm>
        </p:grpSpPr>
        <p:sp>
          <p:nvSpPr>
            <p:cNvPr id="619" name="Rectangle 18"/>
            <p:cNvSpPr/>
            <p:nvPr/>
          </p:nvSpPr>
          <p:spPr>
            <a:xfrm>
              <a:off x="979560" y="2011320"/>
              <a:ext cx="4797360" cy="12283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19"/>
            <p:cNvSpPr/>
            <p:nvPr/>
          </p:nvSpPr>
          <p:spPr>
            <a:xfrm>
              <a:off x="979560" y="3239640"/>
              <a:ext cx="4797360" cy="1440"/>
            </a:xfrm>
            <a:prstGeom prst="line">
              <a:avLst/>
            </a:prstGeom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AutoShape 20"/>
            <p:cNvSpPr/>
            <p:nvPr/>
          </p:nvSpPr>
          <p:spPr>
            <a:xfrm>
              <a:off x="979560" y="3242880"/>
              <a:ext cx="4797360" cy="274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Group 21"/>
          <p:cNvGrpSpPr/>
          <p:nvPr/>
        </p:nvGrpSpPr>
        <p:grpSpPr>
          <a:xfrm>
            <a:off x="981000" y="1274760"/>
            <a:ext cx="4796640" cy="736560"/>
            <a:chOff x="981000" y="1274760"/>
            <a:chExt cx="4796640" cy="736560"/>
          </a:xfrm>
        </p:grpSpPr>
        <p:sp>
          <p:nvSpPr>
            <p:cNvPr id="623" name="Rectangle 22"/>
            <p:cNvSpPr/>
            <p:nvPr/>
          </p:nvSpPr>
          <p:spPr>
            <a:xfrm>
              <a:off x="981000" y="1274760"/>
              <a:ext cx="4796640" cy="596880"/>
            </a:xfrm>
            <a:prstGeom prst="rect">
              <a:avLst/>
            </a:prstGeom>
            <a:gradFill rotWithShape="0">
              <a:gsLst>
                <a:gs pos="0">
                  <a:srgbClr val="bc000d"/>
                </a:gs>
                <a:gs pos="100000">
                  <a:srgbClr val="ff05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AutoShape 23"/>
            <p:cNvSpPr/>
            <p:nvPr/>
          </p:nvSpPr>
          <p:spPr>
            <a:xfrm>
              <a:off x="981000" y="1877760"/>
              <a:ext cx="4796640" cy="133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051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5" name="Group 24"/>
          <p:cNvGrpSpPr/>
          <p:nvPr/>
        </p:nvGrpSpPr>
        <p:grpSpPr>
          <a:xfrm>
            <a:off x="5965920" y="2011320"/>
            <a:ext cx="4797360" cy="1506240"/>
            <a:chOff x="5965920" y="2011320"/>
            <a:chExt cx="4797360" cy="1506240"/>
          </a:xfrm>
        </p:grpSpPr>
        <p:sp>
          <p:nvSpPr>
            <p:cNvPr id="626" name="Rectangle 25"/>
            <p:cNvSpPr/>
            <p:nvPr/>
          </p:nvSpPr>
          <p:spPr>
            <a:xfrm>
              <a:off x="5965920" y="2011320"/>
              <a:ext cx="4797360" cy="12283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26"/>
            <p:cNvSpPr/>
            <p:nvPr/>
          </p:nvSpPr>
          <p:spPr>
            <a:xfrm>
              <a:off x="5965920" y="3239640"/>
              <a:ext cx="4797360" cy="1440"/>
            </a:xfrm>
            <a:prstGeom prst="line">
              <a:avLst/>
            </a:prstGeom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AutoShape 27"/>
            <p:cNvSpPr/>
            <p:nvPr/>
          </p:nvSpPr>
          <p:spPr>
            <a:xfrm>
              <a:off x="5965920" y="3242880"/>
              <a:ext cx="4797360" cy="274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Group 28"/>
          <p:cNvGrpSpPr/>
          <p:nvPr/>
        </p:nvGrpSpPr>
        <p:grpSpPr>
          <a:xfrm>
            <a:off x="5965920" y="1274760"/>
            <a:ext cx="4796640" cy="736560"/>
            <a:chOff x="5965920" y="1274760"/>
            <a:chExt cx="4796640" cy="736560"/>
          </a:xfrm>
        </p:grpSpPr>
        <p:sp>
          <p:nvSpPr>
            <p:cNvPr id="630" name="Rectangle 29"/>
            <p:cNvSpPr/>
            <p:nvPr/>
          </p:nvSpPr>
          <p:spPr>
            <a:xfrm>
              <a:off x="5965920" y="1274760"/>
              <a:ext cx="4796640" cy="596880"/>
            </a:xfrm>
            <a:prstGeom prst="rect">
              <a:avLst/>
            </a:prstGeom>
            <a:gradFill rotWithShape="0">
              <a:gsLst>
                <a:gs pos="0">
                  <a:srgbClr val="bc000d"/>
                </a:gs>
                <a:gs pos="100000">
                  <a:srgbClr val="ff05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AutoShape 30"/>
            <p:cNvSpPr/>
            <p:nvPr/>
          </p:nvSpPr>
          <p:spPr>
            <a:xfrm>
              <a:off x="5965920" y="1877760"/>
              <a:ext cx="4796640" cy="133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051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2" name="WordArt 31"/>
          <p:cNvSpPr txBox="1"/>
          <p:nvPr/>
        </p:nvSpPr>
        <p:spPr>
          <a:xfrm>
            <a:off x="1920960" y="1382760"/>
            <a:ext cx="2822400" cy="34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ff"/>
                  </a:solidFill>
                  <a:bevel/>
                </a:ln>
                <a:solidFill>
                  <a:srgbClr val="ffffff"/>
                </a:solidFill>
                <a:latin typeface="微软雅黑"/>
              </a:rPr>
              <a:t>双击添加标题文字</a:t>
            </a:r>
            <a:endParaRPr b="0" lang="en-US" sz="2400" spc="1" strike="noStrike">
              <a:ln w="9360">
                <a:solidFill>
                  <a:srgbClr val="ffffff"/>
                </a:solidFill>
                <a:beve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633" name="WordArt 32"/>
          <p:cNvSpPr txBox="1"/>
          <p:nvPr/>
        </p:nvSpPr>
        <p:spPr>
          <a:xfrm>
            <a:off x="6986520" y="1382760"/>
            <a:ext cx="2822760" cy="34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ff"/>
                  </a:solidFill>
                  <a:bevel/>
                </a:ln>
                <a:solidFill>
                  <a:srgbClr val="ffffff"/>
                </a:solidFill>
                <a:latin typeface="微软雅黑"/>
              </a:rPr>
              <a:t>双击添加标题文字</a:t>
            </a:r>
            <a:endParaRPr b="0" lang="en-US" sz="2400" spc="1" strike="noStrike">
              <a:ln w="9360">
                <a:solidFill>
                  <a:srgbClr val="ffffff"/>
                </a:solidFill>
                <a:beve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634" name="WordArt 33"/>
          <p:cNvSpPr txBox="1"/>
          <p:nvPr/>
        </p:nvSpPr>
        <p:spPr>
          <a:xfrm>
            <a:off x="1920960" y="3908520"/>
            <a:ext cx="2822400" cy="34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ff"/>
                  </a:solidFill>
                  <a:bevel/>
                </a:ln>
                <a:solidFill>
                  <a:srgbClr val="ffffff"/>
                </a:solidFill>
                <a:latin typeface="微软雅黑"/>
              </a:rPr>
              <a:t>双击添加标题文字</a:t>
            </a:r>
            <a:endParaRPr b="0" lang="en-US" sz="2400" spc="1" strike="noStrike">
              <a:ln w="9360">
                <a:solidFill>
                  <a:srgbClr val="ffffff"/>
                </a:solidFill>
                <a:beve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635" name="WordArt 34"/>
          <p:cNvSpPr txBox="1"/>
          <p:nvPr/>
        </p:nvSpPr>
        <p:spPr>
          <a:xfrm>
            <a:off x="6986520" y="3908520"/>
            <a:ext cx="2822760" cy="34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ff"/>
                  </a:solidFill>
                  <a:bevel/>
                </a:ln>
                <a:solidFill>
                  <a:srgbClr val="ffffff"/>
                </a:solidFill>
                <a:latin typeface="微软雅黑"/>
              </a:rPr>
              <a:t>双击添加标题文字</a:t>
            </a:r>
            <a:endParaRPr b="0" lang="en-US" sz="2400" spc="1" strike="noStrike">
              <a:ln w="9360">
                <a:solidFill>
                  <a:srgbClr val="ffffff"/>
                </a:solidFill>
                <a:beve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636" name="Rectangle 35"/>
          <p:cNvSpPr/>
          <p:nvPr/>
        </p:nvSpPr>
        <p:spPr>
          <a:xfrm>
            <a:off x="979560" y="2242440"/>
            <a:ext cx="4797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36"/>
          <p:cNvSpPr/>
          <p:nvPr/>
        </p:nvSpPr>
        <p:spPr>
          <a:xfrm>
            <a:off x="5952960" y="2242440"/>
            <a:ext cx="4802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37"/>
          <p:cNvSpPr/>
          <p:nvPr/>
        </p:nvSpPr>
        <p:spPr>
          <a:xfrm>
            <a:off x="971640" y="4803120"/>
            <a:ext cx="4797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38"/>
          <p:cNvSpPr/>
          <p:nvPr/>
        </p:nvSpPr>
        <p:spPr>
          <a:xfrm>
            <a:off x="5958000" y="4803120"/>
            <a:ext cx="477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ED306-31D9-4427-8F98-3F874DFEACB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642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643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644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646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直接连接符 35"/>
          <p:cNvSpPr/>
          <p:nvPr/>
        </p:nvSpPr>
        <p:spPr>
          <a:xfrm>
            <a:off x="1295280" y="3483000"/>
            <a:ext cx="8994960" cy="1440"/>
          </a:xfrm>
          <a:prstGeom prst="line">
            <a:avLst/>
          </a:prstGeom>
          <a:ln w="31680">
            <a:solidFill>
              <a:srgbClr val="dadbdc"/>
            </a:solidFill>
            <a:round/>
            <a:headEnd len="med" type="triangle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直接连接符 42"/>
          <p:cNvSpPr/>
          <p:nvPr/>
        </p:nvSpPr>
        <p:spPr>
          <a:xfrm flipV="1">
            <a:off x="7512120" y="3603240"/>
            <a:ext cx="0" cy="800280"/>
          </a:xfrm>
          <a:prstGeom prst="line">
            <a:avLst/>
          </a:prstGeom>
          <a:ln w="6480">
            <a:solidFill>
              <a:srgbClr val="ddc8c5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椭圆 3"/>
          <p:cNvSpPr/>
          <p:nvPr/>
        </p:nvSpPr>
        <p:spPr>
          <a:xfrm>
            <a:off x="7023240" y="4390920"/>
            <a:ext cx="976320" cy="976320"/>
          </a:xfrm>
          <a:prstGeom prst="ellipse">
            <a:avLst/>
          </a:prstGeom>
          <a:solidFill>
            <a:srgbClr val="9e0000"/>
          </a:solidFill>
          <a:ln w="57240">
            <a:solidFill>
              <a:srgbClr val="ede2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dffff"/>
                </a:solidFill>
                <a:latin typeface="幼圆"/>
                <a:ea typeface="幼圆"/>
              </a:rPr>
              <a:t>蜕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任意多边形 4"/>
          <p:cNvSpPr/>
          <p:nvPr/>
        </p:nvSpPr>
        <p:spPr>
          <a:xfrm>
            <a:off x="7112160" y="3162240"/>
            <a:ext cx="795240" cy="509760"/>
          </a:xfrm>
          <a:prstGeom prst="pie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44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ffff"/>
                </a:solidFill>
                <a:latin typeface="Bell MT"/>
                <a:ea typeface="幼圆"/>
              </a:rPr>
              <a:t>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直接连接符 38"/>
          <p:cNvSpPr/>
          <p:nvPr/>
        </p:nvSpPr>
        <p:spPr>
          <a:xfrm flipV="1">
            <a:off x="3994200" y="3603240"/>
            <a:ext cx="0" cy="800280"/>
          </a:xfrm>
          <a:prstGeom prst="line">
            <a:avLst/>
          </a:prstGeom>
          <a:ln w="6480">
            <a:solidFill>
              <a:srgbClr val="ddc8c5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椭圆 6"/>
          <p:cNvSpPr/>
          <p:nvPr/>
        </p:nvSpPr>
        <p:spPr>
          <a:xfrm>
            <a:off x="3505320" y="4390920"/>
            <a:ext cx="976320" cy="976320"/>
          </a:xfrm>
          <a:prstGeom prst="ellipse">
            <a:avLst/>
          </a:prstGeom>
          <a:solidFill>
            <a:srgbClr val="9e0000"/>
          </a:solidFill>
          <a:ln w="57240">
            <a:solidFill>
              <a:srgbClr val="ede2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dffff"/>
                </a:solidFill>
                <a:latin typeface="幼圆"/>
                <a:ea typeface="幼圆"/>
              </a:rPr>
              <a:t>坚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任意多边形 7"/>
          <p:cNvSpPr/>
          <p:nvPr/>
        </p:nvSpPr>
        <p:spPr>
          <a:xfrm>
            <a:off x="3597120" y="3162240"/>
            <a:ext cx="793800" cy="509760"/>
          </a:xfrm>
          <a:prstGeom prst="pie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44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ffff"/>
                </a:solidFill>
                <a:latin typeface="Bell MT"/>
                <a:ea typeface="幼圆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直接连接符 36"/>
          <p:cNvSpPr/>
          <p:nvPr/>
        </p:nvSpPr>
        <p:spPr>
          <a:xfrm flipV="1">
            <a:off x="2235240" y="2571840"/>
            <a:ext cx="0" cy="799920"/>
          </a:xfrm>
          <a:prstGeom prst="line">
            <a:avLst/>
          </a:prstGeom>
          <a:ln w="6480">
            <a:solidFill>
              <a:srgbClr val="f9cfb5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椭圆 9"/>
          <p:cNvSpPr/>
          <p:nvPr/>
        </p:nvSpPr>
        <p:spPr>
          <a:xfrm>
            <a:off x="1746360" y="1600200"/>
            <a:ext cx="977760" cy="979560"/>
          </a:xfrm>
          <a:prstGeom prst="ellipse">
            <a:avLst/>
          </a:prstGeom>
          <a:solidFill>
            <a:srgbClr val="f4b183"/>
          </a:solidFill>
          <a:ln w="57240">
            <a:solidFill>
              <a:srgbClr val="fdef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dffff"/>
                </a:solidFill>
                <a:latin typeface="幼圆"/>
                <a:ea typeface="幼圆"/>
              </a:rPr>
              <a:t>起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任意多边形 10"/>
          <p:cNvSpPr/>
          <p:nvPr/>
        </p:nvSpPr>
        <p:spPr>
          <a:xfrm>
            <a:off x="1836720" y="3306600"/>
            <a:ext cx="795240" cy="508320"/>
          </a:xfrm>
          <a:prstGeom prst="pie">
            <a:avLst/>
          </a:prstGeom>
          <a:solidFill>
            <a:srgbClr val="f7be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40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ffff"/>
                </a:solidFill>
                <a:latin typeface="Bell MT"/>
                <a:ea typeface="幼圆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直接连接符 40"/>
          <p:cNvSpPr/>
          <p:nvPr/>
        </p:nvSpPr>
        <p:spPr>
          <a:xfrm flipV="1">
            <a:off x="5751360" y="2571840"/>
            <a:ext cx="0" cy="799920"/>
          </a:xfrm>
          <a:prstGeom prst="line">
            <a:avLst/>
          </a:prstGeom>
          <a:ln w="6480">
            <a:solidFill>
              <a:srgbClr val="f9cfb5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椭圆 12"/>
          <p:cNvSpPr/>
          <p:nvPr/>
        </p:nvSpPr>
        <p:spPr>
          <a:xfrm>
            <a:off x="5262480" y="1600200"/>
            <a:ext cx="979560" cy="979560"/>
          </a:xfrm>
          <a:prstGeom prst="ellipse">
            <a:avLst/>
          </a:prstGeom>
          <a:solidFill>
            <a:srgbClr val="f4b183"/>
          </a:solidFill>
          <a:ln w="57240">
            <a:solidFill>
              <a:srgbClr val="fdef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dffff"/>
                </a:solidFill>
                <a:latin typeface="幼圆"/>
                <a:ea typeface="幼圆"/>
              </a:rPr>
              <a:t>拼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任意多边形 13"/>
          <p:cNvSpPr/>
          <p:nvPr/>
        </p:nvSpPr>
        <p:spPr>
          <a:xfrm>
            <a:off x="5354640" y="3306600"/>
            <a:ext cx="795240" cy="508320"/>
          </a:xfrm>
          <a:prstGeom prst="pie">
            <a:avLst/>
          </a:prstGeom>
          <a:solidFill>
            <a:srgbClr val="f7be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40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ffff"/>
                </a:solidFill>
                <a:latin typeface="Bell MT"/>
                <a:ea typeface="幼圆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直接连接符 45"/>
          <p:cNvSpPr/>
          <p:nvPr/>
        </p:nvSpPr>
        <p:spPr>
          <a:xfrm flipV="1">
            <a:off x="9269280" y="2571840"/>
            <a:ext cx="0" cy="799920"/>
          </a:xfrm>
          <a:prstGeom prst="line">
            <a:avLst/>
          </a:prstGeom>
          <a:ln w="6480">
            <a:solidFill>
              <a:srgbClr val="f9cfb5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椭圆 15"/>
          <p:cNvSpPr/>
          <p:nvPr/>
        </p:nvSpPr>
        <p:spPr>
          <a:xfrm>
            <a:off x="8780400" y="1600200"/>
            <a:ext cx="978120" cy="979560"/>
          </a:xfrm>
          <a:prstGeom prst="ellipse">
            <a:avLst/>
          </a:prstGeom>
          <a:solidFill>
            <a:srgbClr val="f4b183"/>
          </a:solidFill>
          <a:ln w="57240">
            <a:solidFill>
              <a:srgbClr val="fdef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dffff"/>
                </a:solidFill>
                <a:latin typeface="幼圆"/>
                <a:ea typeface="幼圆"/>
              </a:rPr>
              <a:t>腾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任意多边形 16"/>
          <p:cNvSpPr/>
          <p:nvPr/>
        </p:nvSpPr>
        <p:spPr>
          <a:xfrm>
            <a:off x="8871120" y="3306600"/>
            <a:ext cx="793440" cy="508320"/>
          </a:xfrm>
          <a:prstGeom prst="pie">
            <a:avLst/>
          </a:prstGeom>
          <a:solidFill>
            <a:srgbClr val="f7be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40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ffff"/>
                </a:solidFill>
                <a:latin typeface="Bell MT"/>
                <a:ea typeface="幼圆"/>
              </a:rPr>
              <a:t>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文本框 18"/>
          <p:cNvSpPr/>
          <p:nvPr/>
        </p:nvSpPr>
        <p:spPr>
          <a:xfrm>
            <a:off x="3509280" y="1662120"/>
            <a:ext cx="11408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文本框 19"/>
          <p:cNvSpPr/>
          <p:nvPr/>
        </p:nvSpPr>
        <p:spPr>
          <a:xfrm>
            <a:off x="6940080" y="1701720"/>
            <a:ext cx="11408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文本框 20"/>
          <p:cNvSpPr/>
          <p:nvPr/>
        </p:nvSpPr>
        <p:spPr>
          <a:xfrm>
            <a:off x="5222160" y="4029120"/>
            <a:ext cx="11408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文本框 21"/>
          <p:cNvSpPr/>
          <p:nvPr/>
        </p:nvSpPr>
        <p:spPr>
          <a:xfrm>
            <a:off x="1658520" y="4051440"/>
            <a:ext cx="11408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文本框 22"/>
          <p:cNvSpPr/>
          <p:nvPr/>
        </p:nvSpPr>
        <p:spPr>
          <a:xfrm>
            <a:off x="8664120" y="4051440"/>
            <a:ext cx="11408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BE216-2516-4414-B14C-1EE99201705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671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672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673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4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675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矩形 1"/>
          <p:cNvSpPr/>
          <p:nvPr/>
        </p:nvSpPr>
        <p:spPr>
          <a:xfrm>
            <a:off x="1076400" y="1330200"/>
            <a:ext cx="2176560" cy="171468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文本框 3"/>
          <p:cNvSpPr/>
          <p:nvPr/>
        </p:nvSpPr>
        <p:spPr>
          <a:xfrm>
            <a:off x="3268800" y="1330200"/>
            <a:ext cx="227952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4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标题框及正文框中的文字可直接改为您所需的文字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矩形 4"/>
          <p:cNvSpPr/>
          <p:nvPr/>
        </p:nvSpPr>
        <p:spPr>
          <a:xfrm>
            <a:off x="6137280" y="1330200"/>
            <a:ext cx="2178000" cy="171468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文本框 6"/>
          <p:cNvSpPr/>
          <p:nvPr/>
        </p:nvSpPr>
        <p:spPr>
          <a:xfrm>
            <a:off x="8331120" y="1330200"/>
            <a:ext cx="22798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4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点中图片</a:t>
            </a:r>
            <a:r>
              <a:rPr b="0" lang="en-US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&gt;</a:t>
            </a: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绘图工具</a:t>
            </a:r>
            <a:r>
              <a:rPr b="0" lang="en-US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&gt;</a:t>
            </a: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格式</a:t>
            </a:r>
            <a:r>
              <a:rPr b="0" lang="en-US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&gt;</a:t>
            </a: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填充</a:t>
            </a:r>
            <a:r>
              <a:rPr b="0" lang="en-US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&gt;</a:t>
            </a: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图片</a:t>
            </a:r>
            <a:r>
              <a:rPr b="0" lang="en-US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&gt;</a:t>
            </a: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选择您需要展示的图片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矩形 7"/>
          <p:cNvSpPr/>
          <p:nvPr/>
        </p:nvSpPr>
        <p:spPr>
          <a:xfrm>
            <a:off x="1076400" y="3902040"/>
            <a:ext cx="2176560" cy="171468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文本框 9"/>
          <p:cNvSpPr/>
          <p:nvPr/>
        </p:nvSpPr>
        <p:spPr>
          <a:xfrm>
            <a:off x="3268800" y="3902040"/>
            <a:ext cx="227952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4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直接复制粘贴图片来增加图片数，复制后更改方法见“更改图片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矩形 10"/>
          <p:cNvSpPr/>
          <p:nvPr/>
        </p:nvSpPr>
        <p:spPr>
          <a:xfrm>
            <a:off x="6137280" y="3902040"/>
            <a:ext cx="2178000" cy="171468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文本框 12"/>
          <p:cNvSpPr/>
          <p:nvPr/>
        </p:nvSpPr>
        <p:spPr>
          <a:xfrm>
            <a:off x="8331120" y="3902040"/>
            <a:ext cx="22798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4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点中图片</a:t>
            </a:r>
            <a:r>
              <a:rPr b="0" lang="en-US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&gt;</a:t>
            </a: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图片工具</a:t>
            </a:r>
            <a:r>
              <a:rPr b="0" lang="en-US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&gt;</a:t>
            </a: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格式</a:t>
            </a:r>
            <a:r>
              <a:rPr b="0" lang="en-US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&gt;</a:t>
            </a: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色彩（重新着色）</a:t>
            </a:r>
            <a:r>
              <a:rPr b="0" lang="en-US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&gt;</a:t>
            </a: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选择您喜欢的色彩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矩形 16"/>
          <p:cNvSpPr/>
          <p:nvPr/>
        </p:nvSpPr>
        <p:spPr>
          <a:xfrm>
            <a:off x="1076400" y="2790720"/>
            <a:ext cx="2176560" cy="254160"/>
          </a:xfrm>
          <a:prstGeom prst="rect">
            <a:avLst/>
          </a:prstGeom>
          <a:solidFill>
            <a:srgbClr val="fc7b5c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改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矩形 17"/>
          <p:cNvSpPr/>
          <p:nvPr/>
        </p:nvSpPr>
        <p:spPr>
          <a:xfrm>
            <a:off x="6137280" y="2790720"/>
            <a:ext cx="2178000" cy="254160"/>
          </a:xfrm>
          <a:prstGeom prst="rect">
            <a:avLst/>
          </a:prstGeom>
          <a:solidFill>
            <a:srgbClr val="fc7b5c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改图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矩形 18"/>
          <p:cNvSpPr/>
          <p:nvPr/>
        </p:nvSpPr>
        <p:spPr>
          <a:xfrm>
            <a:off x="1076400" y="5359320"/>
            <a:ext cx="2176560" cy="255600"/>
          </a:xfrm>
          <a:prstGeom prst="rect">
            <a:avLst/>
          </a:prstGeom>
          <a:solidFill>
            <a:srgbClr val="fc7b5c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增加图片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矩形 19"/>
          <p:cNvSpPr/>
          <p:nvPr/>
        </p:nvSpPr>
        <p:spPr>
          <a:xfrm>
            <a:off x="6137280" y="5359320"/>
            <a:ext cx="2178000" cy="255600"/>
          </a:xfrm>
          <a:prstGeom prst="rect">
            <a:avLst/>
          </a:prstGeom>
          <a:solidFill>
            <a:srgbClr val="fc7b5c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改图片色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0B7FD-4C92-46DF-AE0A-A4F84033164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691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692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693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695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椭圆 1"/>
          <p:cNvSpPr/>
          <p:nvPr/>
        </p:nvSpPr>
        <p:spPr>
          <a:xfrm>
            <a:off x="1441440" y="3181320"/>
            <a:ext cx="1243080" cy="1244520"/>
          </a:xfrm>
          <a:prstGeom prst="ellipse">
            <a:avLst/>
          </a:prstGeom>
          <a:solidFill>
            <a:srgbClr val="e84c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椭圆 1"/>
          <p:cNvSpPr/>
          <p:nvPr/>
        </p:nvSpPr>
        <p:spPr>
          <a:xfrm>
            <a:off x="880920" y="3954600"/>
            <a:ext cx="2335320" cy="1166760"/>
          </a:xfrm>
          <a:custGeom>
            <a:avLst/>
            <a:gdLst/>
            <a:ahLst/>
            <a:rect l="l" t="t" r="r" b="b"/>
            <a:pathLst>
              <a:path w="3240360" h="1620180">
                <a:moveTo>
                  <a:pt x="0" y="0"/>
                </a:moveTo>
                <a:lnTo>
                  <a:pt x="671900" y="0"/>
                </a:lnTo>
                <a:cubicBezTo>
                  <a:pt x="671900" y="523721"/>
                  <a:pt x="1096459" y="948280"/>
                  <a:pt x="1620180" y="948280"/>
                </a:cubicBezTo>
                <a:cubicBezTo>
                  <a:pt x="2143901" y="948280"/>
                  <a:pt x="2568460" y="523721"/>
                  <a:pt x="2568460" y="0"/>
                </a:cubicBezTo>
                <a:lnTo>
                  <a:pt x="3240360" y="0"/>
                </a:lnTo>
                <a:cubicBezTo>
                  <a:pt x="3240360" y="894801"/>
                  <a:pt x="2514981" y="1620180"/>
                  <a:pt x="1620180" y="1620180"/>
                </a:cubicBezTo>
                <a:cubicBezTo>
                  <a:pt x="725379" y="1620180"/>
                  <a:pt x="0" y="894801"/>
                  <a:pt x="0" y="0"/>
                </a:cubicBezTo>
                <a:close/>
              </a:path>
            </a:pathLst>
          </a:custGeom>
          <a:solidFill>
            <a:srgbClr val="e84c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Box 31"/>
          <p:cNvSpPr/>
          <p:nvPr/>
        </p:nvSpPr>
        <p:spPr>
          <a:xfrm>
            <a:off x="868320" y="1809720"/>
            <a:ext cx="2314440" cy="8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直接连接符 58"/>
          <p:cNvSpPr/>
          <p:nvPr/>
        </p:nvSpPr>
        <p:spPr>
          <a:xfrm>
            <a:off x="1044720" y="2973240"/>
            <a:ext cx="2055600" cy="1800"/>
          </a:xfrm>
          <a:prstGeom prst="line">
            <a:avLst/>
          </a:prstGeom>
          <a:ln w="6480">
            <a:solidFill>
              <a:srgbClr val="f194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直接连接符 59"/>
          <p:cNvSpPr/>
          <p:nvPr/>
        </p:nvSpPr>
        <p:spPr>
          <a:xfrm>
            <a:off x="2049480" y="2971800"/>
            <a:ext cx="0" cy="174600"/>
          </a:xfrm>
          <a:prstGeom prst="line">
            <a:avLst/>
          </a:prstGeom>
          <a:ln w="6480">
            <a:solidFill>
              <a:srgbClr val="f194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椭圆 6"/>
          <p:cNvSpPr/>
          <p:nvPr/>
        </p:nvSpPr>
        <p:spPr>
          <a:xfrm>
            <a:off x="4232160" y="3181320"/>
            <a:ext cx="1244880" cy="1244520"/>
          </a:xfrm>
          <a:prstGeom prst="ellipse">
            <a:avLst/>
          </a:prstGeom>
          <a:solidFill>
            <a:srgbClr val="ffb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椭圆 1"/>
          <p:cNvSpPr/>
          <p:nvPr/>
        </p:nvSpPr>
        <p:spPr>
          <a:xfrm>
            <a:off x="3673440" y="3954600"/>
            <a:ext cx="2335320" cy="1166760"/>
          </a:xfrm>
          <a:custGeom>
            <a:avLst/>
            <a:gdLst/>
            <a:ahLst/>
            <a:rect l="l" t="t" r="r" b="b"/>
            <a:pathLst>
              <a:path w="3240360" h="1620180">
                <a:moveTo>
                  <a:pt x="0" y="0"/>
                </a:moveTo>
                <a:lnTo>
                  <a:pt x="671900" y="0"/>
                </a:lnTo>
                <a:cubicBezTo>
                  <a:pt x="671900" y="523721"/>
                  <a:pt x="1096459" y="948280"/>
                  <a:pt x="1620180" y="948280"/>
                </a:cubicBezTo>
                <a:cubicBezTo>
                  <a:pt x="2143901" y="948280"/>
                  <a:pt x="2568460" y="523721"/>
                  <a:pt x="2568460" y="0"/>
                </a:cubicBezTo>
                <a:lnTo>
                  <a:pt x="3240360" y="0"/>
                </a:lnTo>
                <a:cubicBezTo>
                  <a:pt x="3240360" y="894801"/>
                  <a:pt x="2514981" y="1620180"/>
                  <a:pt x="1620180" y="1620180"/>
                </a:cubicBezTo>
                <a:cubicBezTo>
                  <a:pt x="725379" y="1620180"/>
                  <a:pt x="0" y="894801"/>
                  <a:pt x="0" y="0"/>
                </a:cubicBezTo>
                <a:close/>
              </a:path>
            </a:pathLst>
          </a:custGeom>
          <a:solidFill>
            <a:srgbClr val="ffb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Box 31"/>
          <p:cNvSpPr/>
          <p:nvPr/>
        </p:nvSpPr>
        <p:spPr>
          <a:xfrm>
            <a:off x="3660840" y="1809720"/>
            <a:ext cx="2313000" cy="8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直接连接符 63"/>
          <p:cNvSpPr/>
          <p:nvPr/>
        </p:nvSpPr>
        <p:spPr>
          <a:xfrm>
            <a:off x="3836880" y="2973240"/>
            <a:ext cx="2055960" cy="1800"/>
          </a:xfrm>
          <a:prstGeom prst="line">
            <a:avLst/>
          </a:prstGeom>
          <a:ln w="6480">
            <a:solidFill>
              <a:srgbClr val="ffd7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直接连接符 64"/>
          <p:cNvSpPr/>
          <p:nvPr/>
        </p:nvSpPr>
        <p:spPr>
          <a:xfrm>
            <a:off x="4842000" y="2971800"/>
            <a:ext cx="0" cy="174600"/>
          </a:xfrm>
          <a:prstGeom prst="line">
            <a:avLst/>
          </a:prstGeom>
          <a:ln w="6480">
            <a:solidFill>
              <a:srgbClr val="ffd7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椭圆 11"/>
          <p:cNvSpPr/>
          <p:nvPr/>
        </p:nvSpPr>
        <p:spPr>
          <a:xfrm>
            <a:off x="7024680" y="3181320"/>
            <a:ext cx="1244520" cy="1244520"/>
          </a:xfrm>
          <a:prstGeom prst="ellipse">
            <a:avLst/>
          </a:prstGeom>
          <a:solidFill>
            <a:srgbClr val="e84c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椭圆 1"/>
          <p:cNvSpPr/>
          <p:nvPr/>
        </p:nvSpPr>
        <p:spPr>
          <a:xfrm>
            <a:off x="6465960" y="3954600"/>
            <a:ext cx="2335320" cy="1166760"/>
          </a:xfrm>
          <a:custGeom>
            <a:avLst/>
            <a:gdLst/>
            <a:ahLst/>
            <a:rect l="l" t="t" r="r" b="b"/>
            <a:pathLst>
              <a:path w="3240360" h="1620180">
                <a:moveTo>
                  <a:pt x="0" y="0"/>
                </a:moveTo>
                <a:lnTo>
                  <a:pt x="671900" y="0"/>
                </a:lnTo>
                <a:cubicBezTo>
                  <a:pt x="671900" y="523721"/>
                  <a:pt x="1096459" y="948280"/>
                  <a:pt x="1620180" y="948280"/>
                </a:cubicBezTo>
                <a:cubicBezTo>
                  <a:pt x="2143901" y="948280"/>
                  <a:pt x="2568460" y="523721"/>
                  <a:pt x="2568460" y="0"/>
                </a:cubicBezTo>
                <a:lnTo>
                  <a:pt x="3240360" y="0"/>
                </a:lnTo>
                <a:cubicBezTo>
                  <a:pt x="3240360" y="894801"/>
                  <a:pt x="2514981" y="1620180"/>
                  <a:pt x="1620180" y="1620180"/>
                </a:cubicBezTo>
                <a:cubicBezTo>
                  <a:pt x="725379" y="1620180"/>
                  <a:pt x="0" y="894801"/>
                  <a:pt x="0" y="0"/>
                </a:cubicBezTo>
                <a:close/>
              </a:path>
            </a:pathLst>
          </a:custGeom>
          <a:solidFill>
            <a:srgbClr val="e84c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Box 31"/>
          <p:cNvSpPr/>
          <p:nvPr/>
        </p:nvSpPr>
        <p:spPr>
          <a:xfrm>
            <a:off x="6451560" y="1809720"/>
            <a:ext cx="2314440" cy="8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直接连接符 68"/>
          <p:cNvSpPr/>
          <p:nvPr/>
        </p:nvSpPr>
        <p:spPr>
          <a:xfrm>
            <a:off x="6629400" y="2973240"/>
            <a:ext cx="2054160" cy="1800"/>
          </a:xfrm>
          <a:prstGeom prst="line">
            <a:avLst/>
          </a:prstGeom>
          <a:ln w="6480">
            <a:solidFill>
              <a:srgbClr val="f194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直接连接符 69"/>
          <p:cNvSpPr/>
          <p:nvPr/>
        </p:nvSpPr>
        <p:spPr>
          <a:xfrm>
            <a:off x="7632720" y="2971800"/>
            <a:ext cx="1440" cy="174600"/>
          </a:xfrm>
          <a:prstGeom prst="line">
            <a:avLst/>
          </a:prstGeom>
          <a:ln w="6480">
            <a:solidFill>
              <a:srgbClr val="f194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椭圆 16"/>
          <p:cNvSpPr/>
          <p:nvPr/>
        </p:nvSpPr>
        <p:spPr>
          <a:xfrm>
            <a:off x="9817200" y="3181320"/>
            <a:ext cx="1244520" cy="1244520"/>
          </a:xfrm>
          <a:prstGeom prst="ellipse">
            <a:avLst/>
          </a:prstGeom>
          <a:solidFill>
            <a:srgbClr val="ffb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椭圆 1"/>
          <p:cNvSpPr/>
          <p:nvPr/>
        </p:nvSpPr>
        <p:spPr>
          <a:xfrm>
            <a:off x="9258480" y="3954600"/>
            <a:ext cx="2333520" cy="1166760"/>
          </a:xfrm>
          <a:custGeom>
            <a:avLst/>
            <a:gdLst/>
            <a:ahLst/>
            <a:rect l="l" t="t" r="r" b="b"/>
            <a:pathLst>
              <a:path w="3240360" h="1620180">
                <a:moveTo>
                  <a:pt x="0" y="0"/>
                </a:moveTo>
                <a:lnTo>
                  <a:pt x="671900" y="0"/>
                </a:lnTo>
                <a:cubicBezTo>
                  <a:pt x="671900" y="523721"/>
                  <a:pt x="1096459" y="948280"/>
                  <a:pt x="1620180" y="948280"/>
                </a:cubicBezTo>
                <a:cubicBezTo>
                  <a:pt x="2143901" y="948280"/>
                  <a:pt x="2568460" y="523721"/>
                  <a:pt x="2568460" y="0"/>
                </a:cubicBezTo>
                <a:lnTo>
                  <a:pt x="3240360" y="0"/>
                </a:lnTo>
                <a:cubicBezTo>
                  <a:pt x="3240360" y="894801"/>
                  <a:pt x="2514981" y="1620180"/>
                  <a:pt x="1620180" y="1620180"/>
                </a:cubicBezTo>
                <a:cubicBezTo>
                  <a:pt x="725379" y="1620180"/>
                  <a:pt x="0" y="894801"/>
                  <a:pt x="0" y="0"/>
                </a:cubicBezTo>
                <a:close/>
              </a:path>
            </a:pathLst>
          </a:custGeom>
          <a:solidFill>
            <a:srgbClr val="ffb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Box 31"/>
          <p:cNvSpPr/>
          <p:nvPr/>
        </p:nvSpPr>
        <p:spPr>
          <a:xfrm>
            <a:off x="9244080" y="1809720"/>
            <a:ext cx="2314440" cy="8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直接连接符 73"/>
          <p:cNvSpPr/>
          <p:nvPr/>
        </p:nvSpPr>
        <p:spPr>
          <a:xfrm>
            <a:off x="9420120" y="2973240"/>
            <a:ext cx="2055960" cy="1800"/>
          </a:xfrm>
          <a:prstGeom prst="line">
            <a:avLst/>
          </a:prstGeom>
          <a:ln w="6480">
            <a:solidFill>
              <a:srgbClr val="ffd7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直接连接符 74"/>
          <p:cNvSpPr/>
          <p:nvPr/>
        </p:nvSpPr>
        <p:spPr>
          <a:xfrm>
            <a:off x="10425240" y="2971800"/>
            <a:ext cx="1440" cy="174600"/>
          </a:xfrm>
          <a:prstGeom prst="line">
            <a:avLst/>
          </a:prstGeom>
          <a:ln w="6480">
            <a:solidFill>
              <a:srgbClr val="ffd7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comb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E8709-747D-46EE-ACF4-9653303ECC4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719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720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721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723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Ellipse 98"/>
          <p:cNvSpPr/>
          <p:nvPr/>
        </p:nvSpPr>
        <p:spPr>
          <a:xfrm>
            <a:off x="822240" y="3036960"/>
            <a:ext cx="2495520" cy="436320"/>
          </a:xfrm>
          <a:prstGeom prst="ellipse">
            <a:avLst/>
          </a:prstGeom>
          <a:gradFill rotWithShape="0">
            <a:gsLst>
              <a:gs pos="0">
                <a:srgbClr val="171717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Ellipse 44"/>
          <p:cNvSpPr/>
          <p:nvPr/>
        </p:nvSpPr>
        <p:spPr>
          <a:xfrm>
            <a:off x="1230480" y="1574640"/>
            <a:ext cx="1680840" cy="1678320"/>
          </a:xfrm>
          <a:prstGeom prst="ellipse">
            <a:avLst/>
          </a:prstGeom>
          <a:solidFill>
            <a:srgbClr val="e84c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Ellipse 45"/>
          <p:cNvSpPr/>
          <p:nvPr/>
        </p:nvSpPr>
        <p:spPr>
          <a:xfrm>
            <a:off x="1468440" y="1608120"/>
            <a:ext cx="1219320" cy="770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cf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AutoShape 7"/>
          <p:cNvSpPr/>
          <p:nvPr/>
        </p:nvSpPr>
        <p:spPr>
          <a:xfrm>
            <a:off x="3321000" y="2212920"/>
            <a:ext cx="476280" cy="542880"/>
          </a:xfrm>
          <a:custGeom>
            <a:avLst/>
            <a:gdLst>
              <a:gd name="textAreaLeft" fmla="*/ 0 w 476280"/>
              <a:gd name="textAreaRight" fmla="*/ 476640 w 47628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8" y="0"/>
                </a:lnTo>
                <a:lnTo>
                  <a:pt x="21600" y="10800"/>
                </a:lnTo>
                <a:lnTo>
                  <a:pt x="10258" y="21600"/>
                </a:lnTo>
                <a:lnTo>
                  <a:pt x="0" y="21600"/>
                </a:lnTo>
                <a:lnTo>
                  <a:pt x="11342" y="1080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矩形 5"/>
          <p:cNvSpPr/>
          <p:nvPr/>
        </p:nvSpPr>
        <p:spPr>
          <a:xfrm>
            <a:off x="666720" y="3809880"/>
            <a:ext cx="11188800" cy="795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文本框 19"/>
          <p:cNvSpPr/>
          <p:nvPr/>
        </p:nvSpPr>
        <p:spPr>
          <a:xfrm>
            <a:off x="666720" y="4278240"/>
            <a:ext cx="111888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94949"/>
                </a:solidFill>
                <a:latin typeface="微软雅黑"/>
                <a:ea typeface="微软雅黑"/>
              </a:rPr>
              <a:t>请在此处输入您的文本，或者将您的文本粘贴到此处。请在此处输入您的文本，或者将您的文本粘贴到此处。请在此处输入您的文本，或者将您的文本粘贴到此处。请在此处输入您的文本，或者将您的文本粘贴到此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Ellipse 98"/>
          <p:cNvSpPr/>
          <p:nvPr/>
        </p:nvSpPr>
        <p:spPr>
          <a:xfrm>
            <a:off x="3643200" y="3036960"/>
            <a:ext cx="2495520" cy="436320"/>
          </a:xfrm>
          <a:prstGeom prst="ellipse">
            <a:avLst/>
          </a:prstGeom>
          <a:gradFill rotWithShape="0">
            <a:gsLst>
              <a:gs pos="0">
                <a:srgbClr val="171717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Ellipse 44"/>
          <p:cNvSpPr/>
          <p:nvPr/>
        </p:nvSpPr>
        <p:spPr>
          <a:xfrm>
            <a:off x="4051440" y="1574640"/>
            <a:ext cx="1679400" cy="1678320"/>
          </a:xfrm>
          <a:prstGeom prst="ellipse">
            <a:avLst/>
          </a:prstGeom>
          <a:solidFill>
            <a:srgbClr val="e84c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Ellipse 45"/>
          <p:cNvSpPr/>
          <p:nvPr/>
        </p:nvSpPr>
        <p:spPr>
          <a:xfrm>
            <a:off x="4289400" y="1608120"/>
            <a:ext cx="1219320" cy="770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cf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7"/>
          <p:cNvSpPr/>
          <p:nvPr/>
        </p:nvSpPr>
        <p:spPr>
          <a:xfrm>
            <a:off x="6140520" y="2212920"/>
            <a:ext cx="474480" cy="542880"/>
          </a:xfrm>
          <a:custGeom>
            <a:avLst/>
            <a:gdLst>
              <a:gd name="textAreaLeft" fmla="*/ 0 w 474480"/>
              <a:gd name="textAreaRight" fmla="*/ 474840 w 47448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8" y="0"/>
                </a:lnTo>
                <a:lnTo>
                  <a:pt x="21600" y="10800"/>
                </a:lnTo>
                <a:lnTo>
                  <a:pt x="10258" y="21600"/>
                </a:lnTo>
                <a:lnTo>
                  <a:pt x="0" y="21600"/>
                </a:lnTo>
                <a:lnTo>
                  <a:pt x="11342" y="1080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Ellipse 98"/>
          <p:cNvSpPr/>
          <p:nvPr/>
        </p:nvSpPr>
        <p:spPr>
          <a:xfrm>
            <a:off x="6462720" y="3036960"/>
            <a:ext cx="2496960" cy="436320"/>
          </a:xfrm>
          <a:prstGeom prst="ellipse">
            <a:avLst/>
          </a:prstGeom>
          <a:gradFill rotWithShape="0">
            <a:gsLst>
              <a:gs pos="0">
                <a:srgbClr val="171717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Ellipse 44"/>
          <p:cNvSpPr/>
          <p:nvPr/>
        </p:nvSpPr>
        <p:spPr>
          <a:xfrm>
            <a:off x="6872400" y="1574640"/>
            <a:ext cx="1677960" cy="1678320"/>
          </a:xfrm>
          <a:prstGeom prst="ellipse">
            <a:avLst/>
          </a:prstGeom>
          <a:solidFill>
            <a:srgbClr val="e84c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Ellipse 45"/>
          <p:cNvSpPr/>
          <p:nvPr/>
        </p:nvSpPr>
        <p:spPr>
          <a:xfrm>
            <a:off x="7110360" y="1608120"/>
            <a:ext cx="1217520" cy="770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cf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AutoShape 7"/>
          <p:cNvSpPr/>
          <p:nvPr/>
        </p:nvSpPr>
        <p:spPr>
          <a:xfrm>
            <a:off x="8961480" y="2212920"/>
            <a:ext cx="474480" cy="542880"/>
          </a:xfrm>
          <a:custGeom>
            <a:avLst/>
            <a:gdLst>
              <a:gd name="textAreaLeft" fmla="*/ 0 w 474480"/>
              <a:gd name="textAreaRight" fmla="*/ 474840 w 47448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8" y="0"/>
                </a:lnTo>
                <a:lnTo>
                  <a:pt x="21600" y="10800"/>
                </a:lnTo>
                <a:lnTo>
                  <a:pt x="10258" y="21600"/>
                </a:lnTo>
                <a:lnTo>
                  <a:pt x="0" y="21600"/>
                </a:lnTo>
                <a:lnTo>
                  <a:pt x="11342" y="1080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Ellipse 98"/>
          <p:cNvSpPr/>
          <p:nvPr/>
        </p:nvSpPr>
        <p:spPr>
          <a:xfrm>
            <a:off x="9283680" y="3036960"/>
            <a:ext cx="2495520" cy="436320"/>
          </a:xfrm>
          <a:prstGeom prst="ellipse">
            <a:avLst/>
          </a:prstGeom>
          <a:gradFill rotWithShape="0">
            <a:gsLst>
              <a:gs pos="0">
                <a:srgbClr val="171717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Ellipse 44"/>
          <p:cNvSpPr/>
          <p:nvPr/>
        </p:nvSpPr>
        <p:spPr>
          <a:xfrm>
            <a:off x="9693360" y="1574640"/>
            <a:ext cx="1677960" cy="1678320"/>
          </a:xfrm>
          <a:prstGeom prst="ellipse">
            <a:avLst/>
          </a:prstGeom>
          <a:solidFill>
            <a:srgbClr val="e84c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Ellipse 45"/>
          <p:cNvSpPr/>
          <p:nvPr/>
        </p:nvSpPr>
        <p:spPr>
          <a:xfrm>
            <a:off x="9929880" y="1608120"/>
            <a:ext cx="1218960" cy="770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cf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comb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8E585-F32D-4B87-BC8A-63D80B46A61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745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746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748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圆角矩形 1"/>
          <p:cNvSpPr/>
          <p:nvPr/>
        </p:nvSpPr>
        <p:spPr>
          <a:xfrm>
            <a:off x="1754280" y="1108080"/>
            <a:ext cx="3624120" cy="2185920"/>
          </a:xfrm>
          <a:prstGeom prst="roundRect">
            <a:avLst>
              <a:gd name="adj" fmla="val 16667"/>
            </a:avLst>
          </a:prstGeom>
          <a:solidFill>
            <a:srgbClr val="ea6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0" bIns="6120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圆角矩形 2"/>
          <p:cNvSpPr/>
          <p:nvPr/>
        </p:nvSpPr>
        <p:spPr>
          <a:xfrm>
            <a:off x="1754280" y="4000680"/>
            <a:ext cx="3624120" cy="2185920"/>
          </a:xfrm>
          <a:prstGeom prst="roundRect">
            <a:avLst>
              <a:gd name="adj" fmla="val 16667"/>
            </a:avLst>
          </a:prstGeom>
          <a:solidFill>
            <a:srgbClr val="ea6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61200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圆角矩形 7"/>
          <p:cNvSpPr/>
          <p:nvPr/>
        </p:nvSpPr>
        <p:spPr>
          <a:xfrm>
            <a:off x="2114640" y="2475000"/>
            <a:ext cx="2903400" cy="819000"/>
          </a:xfrm>
          <a:prstGeom prst="pie">
            <a:avLst/>
          </a:prstGeom>
          <a:solidFill>
            <a:srgbClr val="f194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圆角矩形 4"/>
          <p:cNvSpPr/>
          <p:nvPr/>
        </p:nvSpPr>
        <p:spPr>
          <a:xfrm>
            <a:off x="6072120" y="1108080"/>
            <a:ext cx="3624480" cy="2185920"/>
          </a:xfrm>
          <a:prstGeom prst="roundRect">
            <a:avLst>
              <a:gd name="adj" fmla="val 16667"/>
            </a:avLst>
          </a:prstGeom>
          <a:solidFill>
            <a:srgbClr val="ea6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0" bIns="6120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圆角矩形 5"/>
          <p:cNvSpPr/>
          <p:nvPr/>
        </p:nvSpPr>
        <p:spPr>
          <a:xfrm>
            <a:off x="6072120" y="4000680"/>
            <a:ext cx="3624480" cy="2185920"/>
          </a:xfrm>
          <a:prstGeom prst="roundRect">
            <a:avLst>
              <a:gd name="adj" fmla="val 16667"/>
            </a:avLst>
          </a:prstGeom>
          <a:solidFill>
            <a:srgbClr val="ea6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61200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圆角矩形 7"/>
          <p:cNvSpPr/>
          <p:nvPr/>
        </p:nvSpPr>
        <p:spPr>
          <a:xfrm>
            <a:off x="6505560" y="2475000"/>
            <a:ext cx="2905200" cy="819000"/>
          </a:xfrm>
          <a:prstGeom prst="pie">
            <a:avLst/>
          </a:prstGeom>
          <a:solidFill>
            <a:srgbClr val="f194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38F54-7938-488C-AF98-0474CCE8065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图片 14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71" name="图片 13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72" name="图片 12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73" name="任意多边形 4"/>
          <p:cNvSpPr/>
          <p:nvPr/>
        </p:nvSpPr>
        <p:spPr>
          <a:xfrm>
            <a:off x="1844640" y="1343160"/>
            <a:ext cx="8170920" cy="2139840"/>
          </a:xfrm>
          <a:custGeom>
            <a:avLst/>
            <a:gdLst/>
            <a:ahLst/>
            <a:rect l="l" t="t" r="r" b="b"/>
            <a:pathLst>
              <a:path w="6634280" h="1738203">
                <a:moveTo>
                  <a:pt x="3326681" y="1342526"/>
                </a:moveTo>
                <a:lnTo>
                  <a:pt x="3324688" y="1342739"/>
                </a:lnTo>
                <a:lnTo>
                  <a:pt x="3327475" y="1344906"/>
                </a:lnTo>
                <a:lnTo>
                  <a:pt x="3326681" y="1342526"/>
                </a:lnTo>
                <a:close/>
                <a:moveTo>
                  <a:pt x="3526967" y="1321134"/>
                </a:moveTo>
                <a:lnTo>
                  <a:pt x="3519137" y="1321970"/>
                </a:lnTo>
                <a:lnTo>
                  <a:pt x="3523747" y="1325428"/>
                </a:lnTo>
                <a:lnTo>
                  <a:pt x="3523088" y="1326307"/>
                </a:lnTo>
                <a:lnTo>
                  <a:pt x="3517596" y="1340036"/>
                </a:lnTo>
                <a:lnTo>
                  <a:pt x="3536818" y="1337290"/>
                </a:lnTo>
                <a:lnTo>
                  <a:pt x="3529679" y="1330151"/>
                </a:lnTo>
                <a:lnTo>
                  <a:pt x="3528580" y="1331799"/>
                </a:lnTo>
                <a:lnTo>
                  <a:pt x="3529129" y="1329602"/>
                </a:lnTo>
                <a:lnTo>
                  <a:pt x="3528580" y="1329053"/>
                </a:lnTo>
                <a:lnTo>
                  <a:pt x="3523747" y="1325428"/>
                </a:lnTo>
                <a:lnTo>
                  <a:pt x="3526967" y="1321134"/>
                </a:lnTo>
                <a:close/>
                <a:moveTo>
                  <a:pt x="3599976" y="1298847"/>
                </a:moveTo>
                <a:lnTo>
                  <a:pt x="3575262" y="1301593"/>
                </a:lnTo>
                <a:lnTo>
                  <a:pt x="3574250" y="1301882"/>
                </a:lnTo>
                <a:lnTo>
                  <a:pt x="3577576" y="1302436"/>
                </a:lnTo>
                <a:lnTo>
                  <a:pt x="3603861" y="1299304"/>
                </a:lnTo>
                <a:lnTo>
                  <a:pt x="3599976" y="1298847"/>
                </a:lnTo>
                <a:close/>
                <a:moveTo>
                  <a:pt x="3767126" y="1295483"/>
                </a:moveTo>
                <a:lnTo>
                  <a:pt x="3755086" y="1296769"/>
                </a:lnTo>
                <a:lnTo>
                  <a:pt x="3764735" y="1301593"/>
                </a:lnTo>
                <a:lnTo>
                  <a:pt x="3765911" y="1302769"/>
                </a:lnTo>
                <a:lnTo>
                  <a:pt x="3767126" y="1295483"/>
                </a:lnTo>
                <a:close/>
                <a:moveTo>
                  <a:pt x="5384650" y="1258502"/>
                </a:moveTo>
                <a:lnTo>
                  <a:pt x="5387607" y="1265895"/>
                </a:lnTo>
                <a:lnTo>
                  <a:pt x="5393099" y="1268641"/>
                </a:lnTo>
                <a:lnTo>
                  <a:pt x="5398590" y="1271387"/>
                </a:lnTo>
                <a:lnTo>
                  <a:pt x="5404082" y="1274132"/>
                </a:lnTo>
                <a:lnTo>
                  <a:pt x="5409574" y="1279624"/>
                </a:lnTo>
                <a:lnTo>
                  <a:pt x="5412320" y="1287862"/>
                </a:lnTo>
                <a:lnTo>
                  <a:pt x="5412320" y="1296100"/>
                </a:lnTo>
                <a:lnTo>
                  <a:pt x="5409574" y="1298846"/>
                </a:lnTo>
                <a:lnTo>
                  <a:pt x="5404082" y="1307084"/>
                </a:lnTo>
                <a:lnTo>
                  <a:pt x="5401336" y="1309830"/>
                </a:lnTo>
                <a:lnTo>
                  <a:pt x="5395844" y="1309830"/>
                </a:lnTo>
                <a:lnTo>
                  <a:pt x="5393099" y="1309830"/>
                </a:lnTo>
                <a:lnTo>
                  <a:pt x="5382115" y="1307084"/>
                </a:lnTo>
                <a:lnTo>
                  <a:pt x="5373877" y="1298846"/>
                </a:lnTo>
                <a:lnTo>
                  <a:pt x="5373877" y="1287862"/>
                </a:lnTo>
                <a:lnTo>
                  <a:pt x="5376623" y="1282370"/>
                </a:lnTo>
                <a:lnTo>
                  <a:pt x="5379369" y="1276878"/>
                </a:lnTo>
                <a:lnTo>
                  <a:pt x="5382115" y="1268641"/>
                </a:lnTo>
                <a:lnTo>
                  <a:pt x="5384650" y="1258502"/>
                </a:lnTo>
                <a:close/>
                <a:moveTo>
                  <a:pt x="5382548" y="1232220"/>
                </a:moveTo>
                <a:lnTo>
                  <a:pt x="5384861" y="1257657"/>
                </a:lnTo>
                <a:lnTo>
                  <a:pt x="5384650" y="1258502"/>
                </a:lnTo>
                <a:lnTo>
                  <a:pt x="5382115" y="1252165"/>
                </a:lnTo>
                <a:lnTo>
                  <a:pt x="5382115" y="1235689"/>
                </a:lnTo>
                <a:lnTo>
                  <a:pt x="5382548" y="1232220"/>
                </a:lnTo>
                <a:close/>
                <a:moveTo>
                  <a:pt x="4338643" y="1216468"/>
                </a:moveTo>
                <a:lnTo>
                  <a:pt x="4338643" y="1219214"/>
                </a:lnTo>
                <a:lnTo>
                  <a:pt x="4338643" y="1221960"/>
                </a:lnTo>
                <a:lnTo>
                  <a:pt x="4344135" y="1219214"/>
                </a:lnTo>
                <a:lnTo>
                  <a:pt x="4344135" y="1216468"/>
                </a:lnTo>
                <a:lnTo>
                  <a:pt x="4338643" y="1216468"/>
                </a:lnTo>
                <a:close/>
                <a:moveTo>
                  <a:pt x="4300199" y="1213722"/>
                </a:moveTo>
                <a:lnTo>
                  <a:pt x="4298827" y="1215095"/>
                </a:lnTo>
                <a:lnTo>
                  <a:pt x="4300199" y="1216467"/>
                </a:lnTo>
                <a:lnTo>
                  <a:pt x="4297453" y="1219213"/>
                </a:lnTo>
                <a:lnTo>
                  <a:pt x="4297449" y="1219214"/>
                </a:lnTo>
                <a:lnTo>
                  <a:pt x="4300199" y="1219214"/>
                </a:lnTo>
                <a:lnTo>
                  <a:pt x="4305691" y="1221960"/>
                </a:lnTo>
                <a:lnTo>
                  <a:pt x="4308437" y="1224706"/>
                </a:lnTo>
                <a:lnTo>
                  <a:pt x="4311183" y="1221960"/>
                </a:lnTo>
                <a:lnTo>
                  <a:pt x="4308437" y="1221960"/>
                </a:lnTo>
                <a:lnTo>
                  <a:pt x="4308437" y="1219214"/>
                </a:lnTo>
                <a:lnTo>
                  <a:pt x="4308437" y="1216468"/>
                </a:lnTo>
                <a:lnTo>
                  <a:pt x="4302945" y="1216468"/>
                </a:lnTo>
                <a:lnTo>
                  <a:pt x="4300199" y="1213722"/>
                </a:lnTo>
                <a:close/>
                <a:moveTo>
                  <a:pt x="4492418" y="1210976"/>
                </a:moveTo>
                <a:lnTo>
                  <a:pt x="4492418" y="1213722"/>
                </a:lnTo>
                <a:lnTo>
                  <a:pt x="4497910" y="1213722"/>
                </a:lnTo>
                <a:lnTo>
                  <a:pt x="4497910" y="1210976"/>
                </a:lnTo>
                <a:lnTo>
                  <a:pt x="4492418" y="1210976"/>
                </a:lnTo>
                <a:close/>
                <a:moveTo>
                  <a:pt x="4434752" y="1199992"/>
                </a:moveTo>
                <a:lnTo>
                  <a:pt x="4429260" y="1202738"/>
                </a:lnTo>
                <a:lnTo>
                  <a:pt x="4429260" y="1208230"/>
                </a:lnTo>
                <a:lnTo>
                  <a:pt x="4434752" y="1208230"/>
                </a:lnTo>
                <a:lnTo>
                  <a:pt x="4434752" y="1199992"/>
                </a:lnTo>
                <a:close/>
                <a:moveTo>
                  <a:pt x="4404547" y="1194500"/>
                </a:moveTo>
                <a:lnTo>
                  <a:pt x="4401801" y="1197246"/>
                </a:lnTo>
                <a:lnTo>
                  <a:pt x="4401801" y="1199992"/>
                </a:lnTo>
                <a:lnTo>
                  <a:pt x="4404547" y="1199992"/>
                </a:lnTo>
                <a:lnTo>
                  <a:pt x="4412784" y="1199992"/>
                </a:lnTo>
                <a:lnTo>
                  <a:pt x="4412784" y="1194500"/>
                </a:lnTo>
                <a:lnTo>
                  <a:pt x="4404547" y="1194500"/>
                </a:lnTo>
                <a:close/>
                <a:moveTo>
                  <a:pt x="6049387" y="1158802"/>
                </a:moveTo>
                <a:lnTo>
                  <a:pt x="6054021" y="1160347"/>
                </a:lnTo>
                <a:lnTo>
                  <a:pt x="6054879" y="1161548"/>
                </a:lnTo>
                <a:lnTo>
                  <a:pt x="6049387" y="1158802"/>
                </a:lnTo>
                <a:close/>
                <a:moveTo>
                  <a:pt x="5062413" y="1157634"/>
                </a:moveTo>
                <a:lnTo>
                  <a:pt x="5057771" y="1158125"/>
                </a:lnTo>
                <a:lnTo>
                  <a:pt x="5066327" y="1161548"/>
                </a:lnTo>
                <a:lnTo>
                  <a:pt x="5062413" y="1157634"/>
                </a:lnTo>
                <a:close/>
                <a:moveTo>
                  <a:pt x="4945951" y="1148115"/>
                </a:moveTo>
                <a:lnTo>
                  <a:pt x="4904314" y="1150564"/>
                </a:lnTo>
                <a:lnTo>
                  <a:pt x="4912552" y="1156056"/>
                </a:lnTo>
                <a:lnTo>
                  <a:pt x="4923536" y="1161548"/>
                </a:lnTo>
                <a:lnTo>
                  <a:pt x="4934520" y="1161548"/>
                </a:lnTo>
                <a:lnTo>
                  <a:pt x="4945504" y="1158802"/>
                </a:lnTo>
                <a:lnTo>
                  <a:pt x="4958813" y="1155845"/>
                </a:lnTo>
                <a:lnTo>
                  <a:pt x="4953742" y="1153310"/>
                </a:lnTo>
                <a:lnTo>
                  <a:pt x="4945951" y="1148115"/>
                </a:lnTo>
                <a:close/>
                <a:moveTo>
                  <a:pt x="5014153" y="1139581"/>
                </a:moveTo>
                <a:lnTo>
                  <a:pt x="5010164" y="1140578"/>
                </a:lnTo>
                <a:lnTo>
                  <a:pt x="5019988" y="1139923"/>
                </a:lnTo>
                <a:lnTo>
                  <a:pt x="5019645" y="1139581"/>
                </a:lnTo>
                <a:lnTo>
                  <a:pt x="5014153" y="1139581"/>
                </a:lnTo>
                <a:close/>
                <a:moveTo>
                  <a:pt x="4907060" y="1136835"/>
                </a:moveTo>
                <a:lnTo>
                  <a:pt x="4909806" y="1142327"/>
                </a:lnTo>
                <a:lnTo>
                  <a:pt x="4912552" y="1142327"/>
                </a:lnTo>
                <a:lnTo>
                  <a:pt x="4915298" y="1139581"/>
                </a:lnTo>
                <a:lnTo>
                  <a:pt x="4915298" y="1136835"/>
                </a:lnTo>
                <a:lnTo>
                  <a:pt x="4907060" y="1136835"/>
                </a:lnTo>
                <a:close/>
                <a:moveTo>
                  <a:pt x="5176166" y="1131343"/>
                </a:moveTo>
                <a:lnTo>
                  <a:pt x="5176166" y="1136835"/>
                </a:lnTo>
                <a:lnTo>
                  <a:pt x="5177645" y="1139791"/>
                </a:lnTo>
                <a:lnTo>
                  <a:pt x="5178912" y="1139580"/>
                </a:lnTo>
                <a:lnTo>
                  <a:pt x="5189896" y="1136834"/>
                </a:lnTo>
                <a:lnTo>
                  <a:pt x="5189896" y="1134089"/>
                </a:lnTo>
                <a:lnTo>
                  <a:pt x="5187150" y="1134089"/>
                </a:lnTo>
                <a:lnTo>
                  <a:pt x="5181658" y="1131343"/>
                </a:lnTo>
                <a:lnTo>
                  <a:pt x="5178912" y="1131343"/>
                </a:lnTo>
                <a:lnTo>
                  <a:pt x="5176166" y="1131343"/>
                </a:lnTo>
                <a:close/>
                <a:moveTo>
                  <a:pt x="6075474" y="1129969"/>
                </a:moveTo>
                <a:lnTo>
                  <a:pt x="6076847" y="1131342"/>
                </a:lnTo>
                <a:lnTo>
                  <a:pt x="6079593" y="1136834"/>
                </a:lnTo>
                <a:lnTo>
                  <a:pt x="6079593" y="1142326"/>
                </a:lnTo>
                <a:lnTo>
                  <a:pt x="6076847" y="1134088"/>
                </a:lnTo>
                <a:lnTo>
                  <a:pt x="6075474" y="1129969"/>
                </a:lnTo>
                <a:close/>
                <a:moveTo>
                  <a:pt x="5104771" y="1128597"/>
                </a:moveTo>
                <a:lnTo>
                  <a:pt x="5104771" y="1130884"/>
                </a:lnTo>
                <a:lnTo>
                  <a:pt x="5115753" y="1129969"/>
                </a:lnTo>
                <a:lnTo>
                  <a:pt x="5113009" y="1128597"/>
                </a:lnTo>
                <a:lnTo>
                  <a:pt x="5104771" y="1128597"/>
                </a:lnTo>
                <a:close/>
                <a:moveTo>
                  <a:pt x="5093787" y="1128597"/>
                </a:moveTo>
                <a:lnTo>
                  <a:pt x="5092011" y="1132149"/>
                </a:lnTo>
                <a:lnTo>
                  <a:pt x="5096807" y="1131617"/>
                </a:lnTo>
                <a:lnTo>
                  <a:pt x="5093787" y="1128597"/>
                </a:lnTo>
                <a:close/>
                <a:moveTo>
                  <a:pt x="5140468" y="1123105"/>
                </a:moveTo>
                <a:lnTo>
                  <a:pt x="5137723" y="1128596"/>
                </a:lnTo>
                <a:lnTo>
                  <a:pt x="5145961" y="1131342"/>
                </a:lnTo>
                <a:lnTo>
                  <a:pt x="5151452" y="1136833"/>
                </a:lnTo>
                <a:lnTo>
                  <a:pt x="5151452" y="1128597"/>
                </a:lnTo>
                <a:lnTo>
                  <a:pt x="5145960" y="1125851"/>
                </a:lnTo>
                <a:lnTo>
                  <a:pt x="5140468" y="1123105"/>
                </a:lnTo>
                <a:close/>
                <a:moveTo>
                  <a:pt x="5121247" y="1123105"/>
                </a:moveTo>
                <a:lnTo>
                  <a:pt x="5121247" y="1128597"/>
                </a:lnTo>
                <a:lnTo>
                  <a:pt x="5120249" y="1129594"/>
                </a:lnTo>
                <a:lnTo>
                  <a:pt x="5128465" y="1128910"/>
                </a:lnTo>
                <a:lnTo>
                  <a:pt x="5129485" y="1125851"/>
                </a:lnTo>
                <a:lnTo>
                  <a:pt x="5126739" y="1125851"/>
                </a:lnTo>
                <a:lnTo>
                  <a:pt x="5123993" y="1125851"/>
                </a:lnTo>
                <a:lnTo>
                  <a:pt x="5121247" y="1123105"/>
                </a:lnTo>
                <a:close/>
                <a:moveTo>
                  <a:pt x="6046642" y="1120359"/>
                </a:moveTo>
                <a:lnTo>
                  <a:pt x="6047557" y="1120359"/>
                </a:lnTo>
                <a:lnTo>
                  <a:pt x="6046642" y="1123104"/>
                </a:lnTo>
                <a:lnTo>
                  <a:pt x="6043896" y="1134088"/>
                </a:lnTo>
                <a:lnTo>
                  <a:pt x="6079593" y="1142326"/>
                </a:lnTo>
                <a:lnTo>
                  <a:pt x="6076847" y="1150564"/>
                </a:lnTo>
                <a:lnTo>
                  <a:pt x="6071355" y="1156056"/>
                </a:lnTo>
                <a:lnTo>
                  <a:pt x="6065863" y="1161548"/>
                </a:lnTo>
                <a:lnTo>
                  <a:pt x="6057625" y="1161548"/>
                </a:lnTo>
                <a:lnTo>
                  <a:pt x="6054021" y="1160347"/>
                </a:lnTo>
                <a:lnTo>
                  <a:pt x="6041150" y="1142326"/>
                </a:lnTo>
                <a:lnTo>
                  <a:pt x="6043896" y="1153310"/>
                </a:lnTo>
                <a:lnTo>
                  <a:pt x="6049387" y="1158802"/>
                </a:lnTo>
                <a:lnTo>
                  <a:pt x="6041150" y="1156056"/>
                </a:lnTo>
                <a:lnTo>
                  <a:pt x="6035658" y="1147818"/>
                </a:lnTo>
                <a:lnTo>
                  <a:pt x="6032912" y="1142326"/>
                </a:lnTo>
                <a:lnTo>
                  <a:pt x="6035658" y="1134088"/>
                </a:lnTo>
                <a:lnTo>
                  <a:pt x="6041150" y="1125850"/>
                </a:lnTo>
                <a:lnTo>
                  <a:pt x="6046642" y="1120359"/>
                </a:lnTo>
                <a:close/>
                <a:moveTo>
                  <a:pt x="5318957" y="1117613"/>
                </a:moveTo>
                <a:lnTo>
                  <a:pt x="5324449" y="1117613"/>
                </a:lnTo>
                <a:lnTo>
                  <a:pt x="5329941" y="1117613"/>
                </a:lnTo>
                <a:lnTo>
                  <a:pt x="5338179" y="1120359"/>
                </a:lnTo>
                <a:lnTo>
                  <a:pt x="5354655" y="1128597"/>
                </a:lnTo>
                <a:lnTo>
                  <a:pt x="5294243" y="1134089"/>
                </a:lnTo>
                <a:lnTo>
                  <a:pt x="5318957" y="1120359"/>
                </a:lnTo>
                <a:lnTo>
                  <a:pt x="5318957" y="1117613"/>
                </a:lnTo>
                <a:close/>
                <a:moveTo>
                  <a:pt x="4901568" y="1117613"/>
                </a:moveTo>
                <a:lnTo>
                  <a:pt x="4885093" y="1120359"/>
                </a:lnTo>
                <a:lnTo>
                  <a:pt x="4868617" y="1123105"/>
                </a:lnTo>
                <a:lnTo>
                  <a:pt x="4835665" y="1136835"/>
                </a:lnTo>
                <a:lnTo>
                  <a:pt x="4805459" y="1150564"/>
                </a:lnTo>
                <a:lnTo>
                  <a:pt x="4799967" y="1147819"/>
                </a:lnTo>
                <a:lnTo>
                  <a:pt x="4794475" y="1145073"/>
                </a:lnTo>
                <a:lnTo>
                  <a:pt x="4788983" y="1145073"/>
                </a:lnTo>
                <a:lnTo>
                  <a:pt x="4780745" y="1153310"/>
                </a:lnTo>
                <a:lnTo>
                  <a:pt x="4775253" y="1158802"/>
                </a:lnTo>
                <a:lnTo>
                  <a:pt x="4775253" y="1167040"/>
                </a:lnTo>
                <a:lnTo>
                  <a:pt x="4777999" y="1172532"/>
                </a:lnTo>
                <a:lnTo>
                  <a:pt x="4783491" y="1172532"/>
                </a:lnTo>
                <a:lnTo>
                  <a:pt x="4791729" y="1175278"/>
                </a:lnTo>
                <a:lnTo>
                  <a:pt x="4805459" y="1175278"/>
                </a:lnTo>
                <a:lnTo>
                  <a:pt x="4816443" y="1175278"/>
                </a:lnTo>
                <a:lnTo>
                  <a:pt x="4810951" y="1167040"/>
                </a:lnTo>
                <a:lnTo>
                  <a:pt x="4810951" y="1161548"/>
                </a:lnTo>
                <a:lnTo>
                  <a:pt x="4810951" y="1158802"/>
                </a:lnTo>
                <a:lnTo>
                  <a:pt x="4827427" y="1156056"/>
                </a:lnTo>
                <a:lnTo>
                  <a:pt x="4841157" y="1153310"/>
                </a:lnTo>
                <a:lnTo>
                  <a:pt x="4852141" y="1150564"/>
                </a:lnTo>
                <a:lnTo>
                  <a:pt x="4863125" y="1147819"/>
                </a:lnTo>
                <a:lnTo>
                  <a:pt x="4865871" y="1147819"/>
                </a:lnTo>
                <a:lnTo>
                  <a:pt x="4865871" y="1150564"/>
                </a:lnTo>
                <a:lnTo>
                  <a:pt x="4868617" y="1150564"/>
                </a:lnTo>
                <a:lnTo>
                  <a:pt x="4876855" y="1156056"/>
                </a:lnTo>
                <a:lnTo>
                  <a:pt x="4879601" y="1156056"/>
                </a:lnTo>
                <a:lnTo>
                  <a:pt x="4885093" y="1156056"/>
                </a:lnTo>
                <a:lnTo>
                  <a:pt x="4893330" y="1147819"/>
                </a:lnTo>
                <a:lnTo>
                  <a:pt x="4904314" y="1134089"/>
                </a:lnTo>
                <a:lnTo>
                  <a:pt x="4909806" y="1128597"/>
                </a:lnTo>
                <a:lnTo>
                  <a:pt x="4918044" y="1123105"/>
                </a:lnTo>
                <a:lnTo>
                  <a:pt x="4926282" y="1123105"/>
                </a:lnTo>
                <a:lnTo>
                  <a:pt x="4918044" y="1120359"/>
                </a:lnTo>
                <a:lnTo>
                  <a:pt x="4901568" y="1117613"/>
                </a:lnTo>
                <a:close/>
                <a:moveTo>
                  <a:pt x="5011407" y="1103883"/>
                </a:moveTo>
                <a:lnTo>
                  <a:pt x="5008661" y="1106629"/>
                </a:lnTo>
                <a:lnTo>
                  <a:pt x="5011407" y="1109375"/>
                </a:lnTo>
                <a:lnTo>
                  <a:pt x="5011407" y="1112121"/>
                </a:lnTo>
                <a:lnTo>
                  <a:pt x="5014153" y="1109375"/>
                </a:lnTo>
                <a:lnTo>
                  <a:pt x="5016899" y="1109375"/>
                </a:lnTo>
                <a:lnTo>
                  <a:pt x="5016899" y="1106629"/>
                </a:lnTo>
                <a:lnTo>
                  <a:pt x="5016899" y="1103883"/>
                </a:lnTo>
                <a:lnTo>
                  <a:pt x="5011407" y="1103883"/>
                </a:lnTo>
                <a:close/>
                <a:moveTo>
                  <a:pt x="5052597" y="1095645"/>
                </a:moveTo>
                <a:lnTo>
                  <a:pt x="5049851" y="1098391"/>
                </a:lnTo>
                <a:lnTo>
                  <a:pt x="5055343" y="1101137"/>
                </a:lnTo>
                <a:lnTo>
                  <a:pt x="5060835" y="1101137"/>
                </a:lnTo>
                <a:lnTo>
                  <a:pt x="5060835" y="1098391"/>
                </a:lnTo>
                <a:lnTo>
                  <a:pt x="5063581" y="1098391"/>
                </a:lnTo>
                <a:lnTo>
                  <a:pt x="5063581" y="1095645"/>
                </a:lnTo>
                <a:lnTo>
                  <a:pt x="5058089" y="1098391"/>
                </a:lnTo>
                <a:lnTo>
                  <a:pt x="5058089" y="1095645"/>
                </a:lnTo>
                <a:lnTo>
                  <a:pt x="5052597" y="1095645"/>
                </a:lnTo>
                <a:close/>
                <a:moveTo>
                  <a:pt x="5151452" y="1094272"/>
                </a:moveTo>
                <a:lnTo>
                  <a:pt x="5151452" y="1095645"/>
                </a:lnTo>
                <a:lnTo>
                  <a:pt x="5148706" y="1095645"/>
                </a:lnTo>
                <a:lnTo>
                  <a:pt x="5151452" y="1094272"/>
                </a:lnTo>
                <a:close/>
                <a:moveTo>
                  <a:pt x="2746" y="1092899"/>
                </a:moveTo>
                <a:lnTo>
                  <a:pt x="10984" y="1092899"/>
                </a:lnTo>
                <a:lnTo>
                  <a:pt x="21968" y="1092899"/>
                </a:lnTo>
                <a:lnTo>
                  <a:pt x="0" y="1095645"/>
                </a:lnTo>
                <a:lnTo>
                  <a:pt x="2746" y="1092899"/>
                </a:lnTo>
                <a:close/>
                <a:moveTo>
                  <a:pt x="5398590" y="1092899"/>
                </a:moveTo>
                <a:lnTo>
                  <a:pt x="5398590" y="1095645"/>
                </a:lnTo>
                <a:lnTo>
                  <a:pt x="5401336" y="1095645"/>
                </a:lnTo>
                <a:lnTo>
                  <a:pt x="5398590" y="1092899"/>
                </a:lnTo>
                <a:close/>
                <a:moveTo>
                  <a:pt x="5601793" y="1090153"/>
                </a:moveTo>
                <a:lnTo>
                  <a:pt x="5640236" y="1090153"/>
                </a:lnTo>
                <a:lnTo>
                  <a:pt x="5670442" y="1095645"/>
                </a:lnTo>
                <a:lnTo>
                  <a:pt x="5535889" y="1109375"/>
                </a:lnTo>
                <a:lnTo>
                  <a:pt x="5549619" y="1101137"/>
                </a:lnTo>
                <a:lnTo>
                  <a:pt x="5566095" y="1095645"/>
                </a:lnTo>
                <a:lnTo>
                  <a:pt x="5582571" y="1092899"/>
                </a:lnTo>
                <a:lnTo>
                  <a:pt x="5601793" y="1090153"/>
                </a:lnTo>
                <a:close/>
                <a:moveTo>
                  <a:pt x="5848573" y="1088123"/>
                </a:moveTo>
                <a:lnTo>
                  <a:pt x="5846185" y="1092899"/>
                </a:lnTo>
                <a:lnTo>
                  <a:pt x="5845636" y="1093997"/>
                </a:lnTo>
                <a:lnTo>
                  <a:pt x="5840693" y="1095645"/>
                </a:lnTo>
                <a:lnTo>
                  <a:pt x="5843439" y="1098391"/>
                </a:lnTo>
                <a:lnTo>
                  <a:pt x="5845636" y="1093997"/>
                </a:lnTo>
                <a:lnTo>
                  <a:pt x="5860112" y="1089172"/>
                </a:lnTo>
                <a:lnTo>
                  <a:pt x="5848573" y="1088123"/>
                </a:lnTo>
                <a:close/>
                <a:moveTo>
                  <a:pt x="5703394" y="1084661"/>
                </a:moveTo>
                <a:lnTo>
                  <a:pt x="5711632" y="1087407"/>
                </a:lnTo>
                <a:lnTo>
                  <a:pt x="5722616" y="1090153"/>
                </a:lnTo>
                <a:lnTo>
                  <a:pt x="5689664" y="1092899"/>
                </a:lnTo>
                <a:lnTo>
                  <a:pt x="5695156" y="1087407"/>
                </a:lnTo>
                <a:lnTo>
                  <a:pt x="5703394" y="1084661"/>
                </a:lnTo>
                <a:close/>
                <a:moveTo>
                  <a:pt x="5261291" y="1081915"/>
                </a:moveTo>
                <a:lnTo>
                  <a:pt x="5264037" y="1084661"/>
                </a:lnTo>
                <a:lnTo>
                  <a:pt x="5261291" y="1087407"/>
                </a:lnTo>
                <a:lnTo>
                  <a:pt x="5261291" y="1081915"/>
                </a:lnTo>
                <a:close/>
                <a:moveTo>
                  <a:pt x="5091041" y="1079169"/>
                </a:moveTo>
                <a:lnTo>
                  <a:pt x="5091041" y="1084661"/>
                </a:lnTo>
                <a:lnTo>
                  <a:pt x="5096533" y="1084661"/>
                </a:lnTo>
                <a:lnTo>
                  <a:pt x="5096533" y="1079169"/>
                </a:lnTo>
                <a:lnTo>
                  <a:pt x="5093787" y="1079169"/>
                </a:lnTo>
                <a:lnTo>
                  <a:pt x="5091041" y="1079169"/>
                </a:lnTo>
                <a:close/>
                <a:moveTo>
                  <a:pt x="5132230" y="1068185"/>
                </a:moveTo>
                <a:lnTo>
                  <a:pt x="5129485" y="1070931"/>
                </a:lnTo>
                <a:lnTo>
                  <a:pt x="5129485" y="1073677"/>
                </a:lnTo>
                <a:lnTo>
                  <a:pt x="5126739" y="1079169"/>
                </a:lnTo>
                <a:lnTo>
                  <a:pt x="5126739" y="1076423"/>
                </a:lnTo>
                <a:lnTo>
                  <a:pt x="5121247" y="1076423"/>
                </a:lnTo>
                <a:lnTo>
                  <a:pt x="5121247" y="1081915"/>
                </a:lnTo>
                <a:lnTo>
                  <a:pt x="5118501" y="1081915"/>
                </a:lnTo>
                <a:lnTo>
                  <a:pt x="5115755" y="1084661"/>
                </a:lnTo>
                <a:lnTo>
                  <a:pt x="5113009" y="1084661"/>
                </a:lnTo>
                <a:lnTo>
                  <a:pt x="5113009" y="1087407"/>
                </a:lnTo>
                <a:lnTo>
                  <a:pt x="5115755" y="1090153"/>
                </a:lnTo>
                <a:lnTo>
                  <a:pt x="5118501" y="1095645"/>
                </a:lnTo>
                <a:lnTo>
                  <a:pt x="5110263" y="1092899"/>
                </a:lnTo>
                <a:lnTo>
                  <a:pt x="5104771" y="1090153"/>
                </a:lnTo>
                <a:lnTo>
                  <a:pt x="5102025" y="1092899"/>
                </a:lnTo>
                <a:lnTo>
                  <a:pt x="5102025" y="1103883"/>
                </a:lnTo>
                <a:lnTo>
                  <a:pt x="5102025" y="1112121"/>
                </a:lnTo>
                <a:lnTo>
                  <a:pt x="5099279" y="1112121"/>
                </a:lnTo>
                <a:lnTo>
                  <a:pt x="5099279" y="1114867"/>
                </a:lnTo>
                <a:lnTo>
                  <a:pt x="5096533" y="1112121"/>
                </a:lnTo>
                <a:lnTo>
                  <a:pt x="5096533" y="1103883"/>
                </a:lnTo>
                <a:lnTo>
                  <a:pt x="5099279" y="1095645"/>
                </a:lnTo>
                <a:lnTo>
                  <a:pt x="5088295" y="1095645"/>
                </a:lnTo>
                <a:lnTo>
                  <a:pt x="5080057" y="1095645"/>
                </a:lnTo>
                <a:lnTo>
                  <a:pt x="5071819" y="1101137"/>
                </a:lnTo>
                <a:lnTo>
                  <a:pt x="5063581" y="1103883"/>
                </a:lnTo>
                <a:lnTo>
                  <a:pt x="5069073" y="1109375"/>
                </a:lnTo>
                <a:lnTo>
                  <a:pt x="5074565" y="1114867"/>
                </a:lnTo>
                <a:lnTo>
                  <a:pt x="5074565" y="1112121"/>
                </a:lnTo>
                <a:lnTo>
                  <a:pt x="5074565" y="1109375"/>
                </a:lnTo>
                <a:lnTo>
                  <a:pt x="5082803" y="1106629"/>
                </a:lnTo>
                <a:lnTo>
                  <a:pt x="5091041" y="1106629"/>
                </a:lnTo>
                <a:lnTo>
                  <a:pt x="5093787" y="1109375"/>
                </a:lnTo>
                <a:lnTo>
                  <a:pt x="5093787" y="1112121"/>
                </a:lnTo>
                <a:lnTo>
                  <a:pt x="5088295" y="1112121"/>
                </a:lnTo>
                <a:lnTo>
                  <a:pt x="5082803" y="1114867"/>
                </a:lnTo>
                <a:lnTo>
                  <a:pt x="5082803" y="1117613"/>
                </a:lnTo>
                <a:lnTo>
                  <a:pt x="5049851" y="1112121"/>
                </a:lnTo>
                <a:lnTo>
                  <a:pt x="5033375" y="1112121"/>
                </a:lnTo>
                <a:lnTo>
                  <a:pt x="5025137" y="1114867"/>
                </a:lnTo>
                <a:lnTo>
                  <a:pt x="5016899" y="1120359"/>
                </a:lnTo>
                <a:lnTo>
                  <a:pt x="5025137" y="1123105"/>
                </a:lnTo>
                <a:lnTo>
                  <a:pt x="5030629" y="1125851"/>
                </a:lnTo>
                <a:lnTo>
                  <a:pt x="5033375" y="1134089"/>
                </a:lnTo>
                <a:lnTo>
                  <a:pt x="5034748" y="1139580"/>
                </a:lnTo>
                <a:lnTo>
                  <a:pt x="5038867" y="1139580"/>
                </a:lnTo>
                <a:lnTo>
                  <a:pt x="5036121" y="1145072"/>
                </a:lnTo>
                <a:lnTo>
                  <a:pt x="5036121" y="1145072"/>
                </a:lnTo>
                <a:lnTo>
                  <a:pt x="5036121" y="1145073"/>
                </a:lnTo>
                <a:lnTo>
                  <a:pt x="5042006" y="1141149"/>
                </a:lnTo>
                <a:lnTo>
                  <a:pt x="5038867" y="1139580"/>
                </a:lnTo>
                <a:lnTo>
                  <a:pt x="5049851" y="1131342"/>
                </a:lnTo>
                <a:lnTo>
                  <a:pt x="5063581" y="1128596"/>
                </a:lnTo>
                <a:lnTo>
                  <a:pt x="5069073" y="1131342"/>
                </a:lnTo>
                <a:lnTo>
                  <a:pt x="5069074" y="1131342"/>
                </a:lnTo>
                <a:lnTo>
                  <a:pt x="5088295" y="1128597"/>
                </a:lnTo>
                <a:lnTo>
                  <a:pt x="5104771" y="1125851"/>
                </a:lnTo>
                <a:lnTo>
                  <a:pt x="5110263" y="1123105"/>
                </a:lnTo>
                <a:lnTo>
                  <a:pt x="5118501" y="1117613"/>
                </a:lnTo>
                <a:lnTo>
                  <a:pt x="5126739" y="1112121"/>
                </a:lnTo>
                <a:lnTo>
                  <a:pt x="5107517" y="1117613"/>
                </a:lnTo>
                <a:lnTo>
                  <a:pt x="5104771" y="1112121"/>
                </a:lnTo>
                <a:lnTo>
                  <a:pt x="5118501" y="1112121"/>
                </a:lnTo>
                <a:lnTo>
                  <a:pt x="5118501" y="1103883"/>
                </a:lnTo>
                <a:lnTo>
                  <a:pt x="5118501" y="1101137"/>
                </a:lnTo>
                <a:lnTo>
                  <a:pt x="5118501" y="1095645"/>
                </a:lnTo>
                <a:lnTo>
                  <a:pt x="5123993" y="1095645"/>
                </a:lnTo>
                <a:lnTo>
                  <a:pt x="5126739" y="1098391"/>
                </a:lnTo>
                <a:lnTo>
                  <a:pt x="5132230" y="1098391"/>
                </a:lnTo>
                <a:lnTo>
                  <a:pt x="5134976" y="1095645"/>
                </a:lnTo>
                <a:lnTo>
                  <a:pt x="5134976" y="1092899"/>
                </a:lnTo>
                <a:lnTo>
                  <a:pt x="5129485" y="1092899"/>
                </a:lnTo>
                <a:lnTo>
                  <a:pt x="5129485" y="1087407"/>
                </a:lnTo>
                <a:lnTo>
                  <a:pt x="5134976" y="1087407"/>
                </a:lnTo>
                <a:lnTo>
                  <a:pt x="5137722" y="1087407"/>
                </a:lnTo>
                <a:lnTo>
                  <a:pt x="5140468" y="1087407"/>
                </a:lnTo>
                <a:lnTo>
                  <a:pt x="5143214" y="1087407"/>
                </a:lnTo>
                <a:lnTo>
                  <a:pt x="5145960" y="1084661"/>
                </a:lnTo>
                <a:lnTo>
                  <a:pt x="5143214" y="1081915"/>
                </a:lnTo>
                <a:lnTo>
                  <a:pt x="5143214" y="1079169"/>
                </a:lnTo>
                <a:lnTo>
                  <a:pt x="5143214" y="1073677"/>
                </a:lnTo>
                <a:lnTo>
                  <a:pt x="5137722" y="1070931"/>
                </a:lnTo>
                <a:lnTo>
                  <a:pt x="5132230" y="1068185"/>
                </a:lnTo>
                <a:close/>
                <a:moveTo>
                  <a:pt x="5266783" y="1065439"/>
                </a:moveTo>
                <a:lnTo>
                  <a:pt x="5266783" y="1070931"/>
                </a:lnTo>
                <a:lnTo>
                  <a:pt x="5269529" y="1073677"/>
                </a:lnTo>
                <a:lnTo>
                  <a:pt x="5272275" y="1076423"/>
                </a:lnTo>
                <a:lnTo>
                  <a:pt x="5272275" y="1081915"/>
                </a:lnTo>
                <a:lnTo>
                  <a:pt x="5280513" y="1081915"/>
                </a:lnTo>
                <a:lnTo>
                  <a:pt x="5280513" y="1076423"/>
                </a:lnTo>
                <a:lnTo>
                  <a:pt x="5277767" y="1073677"/>
                </a:lnTo>
                <a:lnTo>
                  <a:pt x="5275021" y="1070931"/>
                </a:lnTo>
                <a:lnTo>
                  <a:pt x="5275021" y="1065439"/>
                </a:lnTo>
                <a:lnTo>
                  <a:pt x="5266783" y="1065439"/>
                </a:lnTo>
                <a:close/>
                <a:moveTo>
                  <a:pt x="5206372" y="1065439"/>
                </a:moveTo>
                <a:lnTo>
                  <a:pt x="5200880" y="1068185"/>
                </a:lnTo>
                <a:lnTo>
                  <a:pt x="5198134" y="1070931"/>
                </a:lnTo>
                <a:lnTo>
                  <a:pt x="5198134" y="1076423"/>
                </a:lnTo>
                <a:lnTo>
                  <a:pt x="5203626" y="1081915"/>
                </a:lnTo>
                <a:lnTo>
                  <a:pt x="5209118" y="1084661"/>
                </a:lnTo>
                <a:lnTo>
                  <a:pt x="5214610" y="1084661"/>
                </a:lnTo>
                <a:lnTo>
                  <a:pt x="5217356" y="1084661"/>
                </a:lnTo>
                <a:lnTo>
                  <a:pt x="5217356" y="1068185"/>
                </a:lnTo>
                <a:lnTo>
                  <a:pt x="5209118" y="1068185"/>
                </a:lnTo>
                <a:lnTo>
                  <a:pt x="5206372" y="1065439"/>
                </a:lnTo>
                <a:close/>
                <a:moveTo>
                  <a:pt x="5069073" y="1059947"/>
                </a:moveTo>
                <a:lnTo>
                  <a:pt x="5069073" y="1062693"/>
                </a:lnTo>
                <a:lnTo>
                  <a:pt x="5071819" y="1065439"/>
                </a:lnTo>
                <a:lnTo>
                  <a:pt x="5077311" y="1068185"/>
                </a:lnTo>
                <a:lnTo>
                  <a:pt x="5080057" y="1065439"/>
                </a:lnTo>
                <a:lnTo>
                  <a:pt x="5080057" y="1062693"/>
                </a:lnTo>
                <a:lnTo>
                  <a:pt x="5077311" y="1059947"/>
                </a:lnTo>
                <a:lnTo>
                  <a:pt x="5071819" y="1059947"/>
                </a:lnTo>
                <a:lnTo>
                  <a:pt x="5069073" y="1059947"/>
                </a:lnTo>
                <a:close/>
                <a:moveTo>
                  <a:pt x="5390352" y="1057201"/>
                </a:moveTo>
                <a:lnTo>
                  <a:pt x="5382114" y="1059947"/>
                </a:lnTo>
                <a:lnTo>
                  <a:pt x="5384860" y="1070931"/>
                </a:lnTo>
                <a:lnTo>
                  <a:pt x="5387606" y="1076423"/>
                </a:lnTo>
                <a:lnTo>
                  <a:pt x="5387606" y="1084661"/>
                </a:lnTo>
                <a:lnTo>
                  <a:pt x="5401336" y="1087407"/>
                </a:lnTo>
                <a:lnTo>
                  <a:pt x="5415066" y="1084661"/>
                </a:lnTo>
                <a:lnTo>
                  <a:pt x="5415066" y="1073677"/>
                </a:lnTo>
                <a:lnTo>
                  <a:pt x="5412320" y="1073677"/>
                </a:lnTo>
                <a:lnTo>
                  <a:pt x="5409574" y="1070931"/>
                </a:lnTo>
                <a:lnTo>
                  <a:pt x="5412320" y="1062693"/>
                </a:lnTo>
                <a:lnTo>
                  <a:pt x="5406828" y="1059947"/>
                </a:lnTo>
                <a:lnTo>
                  <a:pt x="5404082" y="1057201"/>
                </a:lnTo>
                <a:lnTo>
                  <a:pt x="5390352" y="1057201"/>
                </a:lnTo>
                <a:close/>
                <a:moveTo>
                  <a:pt x="5302481" y="1057201"/>
                </a:moveTo>
                <a:lnTo>
                  <a:pt x="5296989" y="1059947"/>
                </a:lnTo>
                <a:lnTo>
                  <a:pt x="5296989" y="1065439"/>
                </a:lnTo>
                <a:lnTo>
                  <a:pt x="5302481" y="1062693"/>
                </a:lnTo>
                <a:lnTo>
                  <a:pt x="5302481" y="1057201"/>
                </a:lnTo>
                <a:close/>
                <a:moveTo>
                  <a:pt x="5220102" y="1057201"/>
                </a:moveTo>
                <a:lnTo>
                  <a:pt x="5217356" y="1059947"/>
                </a:lnTo>
                <a:lnTo>
                  <a:pt x="5217356" y="1065439"/>
                </a:lnTo>
                <a:lnTo>
                  <a:pt x="5222848" y="1065439"/>
                </a:lnTo>
                <a:lnTo>
                  <a:pt x="5222848" y="1059947"/>
                </a:lnTo>
                <a:lnTo>
                  <a:pt x="5225594" y="1059947"/>
                </a:lnTo>
                <a:lnTo>
                  <a:pt x="5225594" y="1057201"/>
                </a:lnTo>
                <a:lnTo>
                  <a:pt x="5222848" y="1057201"/>
                </a:lnTo>
                <a:lnTo>
                  <a:pt x="5220102" y="1057201"/>
                </a:lnTo>
                <a:close/>
                <a:moveTo>
                  <a:pt x="6050990" y="1055027"/>
                </a:moveTo>
                <a:lnTo>
                  <a:pt x="5826635" y="1077772"/>
                </a:lnTo>
                <a:lnTo>
                  <a:pt x="5846185" y="1079169"/>
                </a:lnTo>
                <a:lnTo>
                  <a:pt x="5881883" y="1076423"/>
                </a:lnTo>
                <a:lnTo>
                  <a:pt x="5917580" y="1070931"/>
                </a:lnTo>
                <a:lnTo>
                  <a:pt x="5956024" y="1065439"/>
                </a:lnTo>
                <a:lnTo>
                  <a:pt x="5983484" y="1062693"/>
                </a:lnTo>
                <a:lnTo>
                  <a:pt x="6008198" y="1062693"/>
                </a:lnTo>
                <a:lnTo>
                  <a:pt x="6032912" y="1059947"/>
                </a:lnTo>
                <a:lnTo>
                  <a:pt x="6046642" y="1057201"/>
                </a:lnTo>
                <a:lnTo>
                  <a:pt x="6050990" y="1055027"/>
                </a:lnTo>
                <a:close/>
                <a:moveTo>
                  <a:pt x="5209118" y="1051709"/>
                </a:moveTo>
                <a:lnTo>
                  <a:pt x="5206372" y="1054455"/>
                </a:lnTo>
                <a:lnTo>
                  <a:pt x="5200880" y="1054455"/>
                </a:lnTo>
                <a:lnTo>
                  <a:pt x="5195388" y="1057201"/>
                </a:lnTo>
                <a:lnTo>
                  <a:pt x="5192642" y="1062693"/>
                </a:lnTo>
                <a:lnTo>
                  <a:pt x="5209118" y="1062693"/>
                </a:lnTo>
                <a:lnTo>
                  <a:pt x="5211864" y="1059947"/>
                </a:lnTo>
                <a:lnTo>
                  <a:pt x="5211864" y="1057201"/>
                </a:lnTo>
                <a:lnTo>
                  <a:pt x="5209118" y="1051709"/>
                </a:lnTo>
                <a:close/>
                <a:moveTo>
                  <a:pt x="5187150" y="1051709"/>
                </a:moveTo>
                <a:lnTo>
                  <a:pt x="5187150" y="1057201"/>
                </a:lnTo>
                <a:lnTo>
                  <a:pt x="5192642" y="1057201"/>
                </a:lnTo>
                <a:lnTo>
                  <a:pt x="5192642" y="1051709"/>
                </a:lnTo>
                <a:lnTo>
                  <a:pt x="5187150" y="1051709"/>
                </a:lnTo>
                <a:close/>
                <a:moveTo>
                  <a:pt x="5118501" y="1051709"/>
                </a:moveTo>
                <a:lnTo>
                  <a:pt x="5121247" y="1057201"/>
                </a:lnTo>
                <a:lnTo>
                  <a:pt x="5126739" y="1057201"/>
                </a:lnTo>
                <a:lnTo>
                  <a:pt x="5123993" y="1051709"/>
                </a:lnTo>
                <a:lnTo>
                  <a:pt x="5118501" y="1051709"/>
                </a:lnTo>
                <a:close/>
                <a:moveTo>
                  <a:pt x="5480970" y="1048963"/>
                </a:moveTo>
                <a:lnTo>
                  <a:pt x="5478224" y="1051709"/>
                </a:lnTo>
                <a:lnTo>
                  <a:pt x="5478224" y="1054455"/>
                </a:lnTo>
                <a:lnTo>
                  <a:pt x="5480970" y="1057201"/>
                </a:lnTo>
                <a:lnTo>
                  <a:pt x="5483716" y="1057201"/>
                </a:lnTo>
                <a:lnTo>
                  <a:pt x="5486462" y="1057201"/>
                </a:lnTo>
                <a:lnTo>
                  <a:pt x="5486462" y="1051709"/>
                </a:lnTo>
                <a:lnTo>
                  <a:pt x="5486462" y="1048963"/>
                </a:lnTo>
                <a:lnTo>
                  <a:pt x="5480970" y="1048963"/>
                </a:lnTo>
                <a:close/>
                <a:moveTo>
                  <a:pt x="5091041" y="1043471"/>
                </a:moveTo>
                <a:lnTo>
                  <a:pt x="5088295" y="1046217"/>
                </a:lnTo>
                <a:lnTo>
                  <a:pt x="5088295" y="1054455"/>
                </a:lnTo>
                <a:lnTo>
                  <a:pt x="5093787" y="1054455"/>
                </a:lnTo>
                <a:lnTo>
                  <a:pt x="5096533" y="1057201"/>
                </a:lnTo>
                <a:lnTo>
                  <a:pt x="5099279" y="1057201"/>
                </a:lnTo>
                <a:lnTo>
                  <a:pt x="5099279" y="1046217"/>
                </a:lnTo>
                <a:lnTo>
                  <a:pt x="5096533" y="1046217"/>
                </a:lnTo>
                <a:lnTo>
                  <a:pt x="5093787" y="1046217"/>
                </a:lnTo>
                <a:lnTo>
                  <a:pt x="5093787" y="1043471"/>
                </a:lnTo>
                <a:lnTo>
                  <a:pt x="5091041" y="1043471"/>
                </a:lnTo>
                <a:close/>
                <a:moveTo>
                  <a:pt x="5264037" y="1040725"/>
                </a:moveTo>
                <a:lnTo>
                  <a:pt x="5261291" y="1048963"/>
                </a:lnTo>
                <a:lnTo>
                  <a:pt x="5261291" y="1057201"/>
                </a:lnTo>
                <a:lnTo>
                  <a:pt x="5266783" y="1057201"/>
                </a:lnTo>
                <a:lnTo>
                  <a:pt x="5266783" y="1054455"/>
                </a:lnTo>
                <a:lnTo>
                  <a:pt x="5272275" y="1054455"/>
                </a:lnTo>
                <a:lnTo>
                  <a:pt x="5272275" y="1043471"/>
                </a:lnTo>
                <a:lnTo>
                  <a:pt x="5269529" y="1040725"/>
                </a:lnTo>
                <a:lnTo>
                  <a:pt x="5264037" y="1040725"/>
                </a:lnTo>
                <a:close/>
                <a:moveTo>
                  <a:pt x="5250308" y="1040725"/>
                </a:moveTo>
                <a:lnTo>
                  <a:pt x="5250308" y="1043471"/>
                </a:lnTo>
                <a:lnTo>
                  <a:pt x="5253053" y="1043471"/>
                </a:lnTo>
                <a:lnTo>
                  <a:pt x="5253053" y="1046217"/>
                </a:lnTo>
                <a:lnTo>
                  <a:pt x="5253053" y="1048963"/>
                </a:lnTo>
                <a:lnTo>
                  <a:pt x="5258545" y="1048963"/>
                </a:lnTo>
                <a:lnTo>
                  <a:pt x="5258545" y="1043471"/>
                </a:lnTo>
                <a:lnTo>
                  <a:pt x="5258545" y="1040725"/>
                </a:lnTo>
                <a:lnTo>
                  <a:pt x="5255799" y="1040725"/>
                </a:lnTo>
                <a:lnTo>
                  <a:pt x="5253053" y="1040725"/>
                </a:lnTo>
                <a:lnTo>
                  <a:pt x="5250308" y="1040725"/>
                </a:lnTo>
                <a:close/>
                <a:moveTo>
                  <a:pt x="5071819" y="1040725"/>
                </a:moveTo>
                <a:lnTo>
                  <a:pt x="5069073" y="1043471"/>
                </a:lnTo>
                <a:lnTo>
                  <a:pt x="5066327" y="1043471"/>
                </a:lnTo>
                <a:lnTo>
                  <a:pt x="5063581" y="1043471"/>
                </a:lnTo>
                <a:lnTo>
                  <a:pt x="5066327" y="1048963"/>
                </a:lnTo>
                <a:lnTo>
                  <a:pt x="5066327" y="1054455"/>
                </a:lnTo>
                <a:lnTo>
                  <a:pt x="5074565" y="1054455"/>
                </a:lnTo>
                <a:lnTo>
                  <a:pt x="5074565" y="1048963"/>
                </a:lnTo>
                <a:lnTo>
                  <a:pt x="5074565" y="1046217"/>
                </a:lnTo>
                <a:lnTo>
                  <a:pt x="5071819" y="1040725"/>
                </a:lnTo>
                <a:close/>
                <a:moveTo>
                  <a:pt x="5579825" y="1037979"/>
                </a:moveTo>
                <a:lnTo>
                  <a:pt x="5579825" y="1040725"/>
                </a:lnTo>
                <a:lnTo>
                  <a:pt x="5582571" y="1046217"/>
                </a:lnTo>
                <a:lnTo>
                  <a:pt x="5588063" y="1046217"/>
                </a:lnTo>
                <a:lnTo>
                  <a:pt x="5593555" y="1043471"/>
                </a:lnTo>
                <a:lnTo>
                  <a:pt x="5588063" y="1040725"/>
                </a:lnTo>
                <a:lnTo>
                  <a:pt x="5579825" y="1037979"/>
                </a:lnTo>
                <a:close/>
                <a:moveTo>
                  <a:pt x="5198134" y="1037979"/>
                </a:moveTo>
                <a:lnTo>
                  <a:pt x="5195388" y="1040725"/>
                </a:lnTo>
                <a:lnTo>
                  <a:pt x="5198134" y="1046217"/>
                </a:lnTo>
                <a:lnTo>
                  <a:pt x="5203626" y="1046217"/>
                </a:lnTo>
                <a:lnTo>
                  <a:pt x="5209118" y="1043471"/>
                </a:lnTo>
                <a:lnTo>
                  <a:pt x="5214610" y="1040725"/>
                </a:lnTo>
                <a:lnTo>
                  <a:pt x="5203626" y="1037979"/>
                </a:lnTo>
                <a:lnTo>
                  <a:pt x="5198134" y="1037979"/>
                </a:lnTo>
                <a:close/>
                <a:moveTo>
                  <a:pt x="5129485" y="1037979"/>
                </a:moveTo>
                <a:lnTo>
                  <a:pt x="5126739" y="1040725"/>
                </a:lnTo>
                <a:lnTo>
                  <a:pt x="5123993" y="1046217"/>
                </a:lnTo>
                <a:lnTo>
                  <a:pt x="5126739" y="1048963"/>
                </a:lnTo>
                <a:lnTo>
                  <a:pt x="5132230" y="1048963"/>
                </a:lnTo>
                <a:lnTo>
                  <a:pt x="5137722" y="1043471"/>
                </a:lnTo>
                <a:lnTo>
                  <a:pt x="5145960" y="1040725"/>
                </a:lnTo>
                <a:lnTo>
                  <a:pt x="5145960" y="1046217"/>
                </a:lnTo>
                <a:lnTo>
                  <a:pt x="5143214" y="1051709"/>
                </a:lnTo>
                <a:lnTo>
                  <a:pt x="5140468" y="1057201"/>
                </a:lnTo>
                <a:lnTo>
                  <a:pt x="5143214" y="1057201"/>
                </a:lnTo>
                <a:lnTo>
                  <a:pt x="5148706" y="1062693"/>
                </a:lnTo>
                <a:lnTo>
                  <a:pt x="5143214" y="1065439"/>
                </a:lnTo>
                <a:lnTo>
                  <a:pt x="5143214" y="1070931"/>
                </a:lnTo>
                <a:lnTo>
                  <a:pt x="5145960" y="1070931"/>
                </a:lnTo>
                <a:lnTo>
                  <a:pt x="5148706" y="1073677"/>
                </a:lnTo>
                <a:lnTo>
                  <a:pt x="5151452" y="1076423"/>
                </a:lnTo>
                <a:lnTo>
                  <a:pt x="5148706" y="1076423"/>
                </a:lnTo>
                <a:lnTo>
                  <a:pt x="5151452" y="1079169"/>
                </a:lnTo>
                <a:lnTo>
                  <a:pt x="5151452" y="1084661"/>
                </a:lnTo>
                <a:lnTo>
                  <a:pt x="5154198" y="1084661"/>
                </a:lnTo>
                <a:lnTo>
                  <a:pt x="5156944" y="1081915"/>
                </a:lnTo>
                <a:lnTo>
                  <a:pt x="5159690" y="1084661"/>
                </a:lnTo>
                <a:lnTo>
                  <a:pt x="5176166" y="1084661"/>
                </a:lnTo>
                <a:lnTo>
                  <a:pt x="5176166" y="1081915"/>
                </a:lnTo>
                <a:lnTo>
                  <a:pt x="5178912" y="1076423"/>
                </a:lnTo>
                <a:lnTo>
                  <a:pt x="5181658" y="1076423"/>
                </a:lnTo>
                <a:lnTo>
                  <a:pt x="5187150" y="1076423"/>
                </a:lnTo>
                <a:lnTo>
                  <a:pt x="5187150" y="1070931"/>
                </a:lnTo>
                <a:lnTo>
                  <a:pt x="5187150" y="1068185"/>
                </a:lnTo>
                <a:lnTo>
                  <a:pt x="5187150" y="1065439"/>
                </a:lnTo>
                <a:lnTo>
                  <a:pt x="5181658" y="1065439"/>
                </a:lnTo>
                <a:lnTo>
                  <a:pt x="5178912" y="1065439"/>
                </a:lnTo>
                <a:lnTo>
                  <a:pt x="5167928" y="1062693"/>
                </a:lnTo>
                <a:lnTo>
                  <a:pt x="5167928" y="1065439"/>
                </a:lnTo>
                <a:lnTo>
                  <a:pt x="5165182" y="1068185"/>
                </a:lnTo>
                <a:lnTo>
                  <a:pt x="5159690" y="1068185"/>
                </a:lnTo>
                <a:lnTo>
                  <a:pt x="5156944" y="1068185"/>
                </a:lnTo>
                <a:lnTo>
                  <a:pt x="5154198" y="1065439"/>
                </a:lnTo>
                <a:lnTo>
                  <a:pt x="5154198" y="1062693"/>
                </a:lnTo>
                <a:lnTo>
                  <a:pt x="5154198" y="1059947"/>
                </a:lnTo>
                <a:lnTo>
                  <a:pt x="5159690" y="1059947"/>
                </a:lnTo>
                <a:lnTo>
                  <a:pt x="5165182" y="1062693"/>
                </a:lnTo>
                <a:lnTo>
                  <a:pt x="5170674" y="1057201"/>
                </a:lnTo>
                <a:lnTo>
                  <a:pt x="5173420" y="1057201"/>
                </a:lnTo>
                <a:lnTo>
                  <a:pt x="5176166" y="1057201"/>
                </a:lnTo>
                <a:lnTo>
                  <a:pt x="5178912" y="1054455"/>
                </a:lnTo>
                <a:lnTo>
                  <a:pt x="5178912" y="1046217"/>
                </a:lnTo>
                <a:lnTo>
                  <a:pt x="5173420" y="1046217"/>
                </a:lnTo>
                <a:lnTo>
                  <a:pt x="5170674" y="1048963"/>
                </a:lnTo>
                <a:lnTo>
                  <a:pt x="5167928" y="1046217"/>
                </a:lnTo>
                <a:lnTo>
                  <a:pt x="5165182" y="1043471"/>
                </a:lnTo>
                <a:lnTo>
                  <a:pt x="5165182" y="1040725"/>
                </a:lnTo>
                <a:lnTo>
                  <a:pt x="5159690" y="1040725"/>
                </a:lnTo>
                <a:lnTo>
                  <a:pt x="5156944" y="1043471"/>
                </a:lnTo>
                <a:lnTo>
                  <a:pt x="5154198" y="1040725"/>
                </a:lnTo>
                <a:lnTo>
                  <a:pt x="5151452" y="1040725"/>
                </a:lnTo>
                <a:lnTo>
                  <a:pt x="5145960" y="1037979"/>
                </a:lnTo>
                <a:lnTo>
                  <a:pt x="5143214" y="1037979"/>
                </a:lnTo>
                <a:lnTo>
                  <a:pt x="5140468" y="1040725"/>
                </a:lnTo>
                <a:lnTo>
                  <a:pt x="5137722" y="1040725"/>
                </a:lnTo>
                <a:lnTo>
                  <a:pt x="5129485" y="1037979"/>
                </a:lnTo>
                <a:close/>
                <a:moveTo>
                  <a:pt x="400913" y="1035234"/>
                </a:moveTo>
                <a:lnTo>
                  <a:pt x="409150" y="1035234"/>
                </a:lnTo>
                <a:lnTo>
                  <a:pt x="414642" y="1035234"/>
                </a:lnTo>
                <a:lnTo>
                  <a:pt x="417389" y="1037980"/>
                </a:lnTo>
                <a:lnTo>
                  <a:pt x="411897" y="1040726"/>
                </a:lnTo>
                <a:lnTo>
                  <a:pt x="409150" y="1043472"/>
                </a:lnTo>
                <a:lnTo>
                  <a:pt x="411897" y="1043472"/>
                </a:lnTo>
                <a:lnTo>
                  <a:pt x="414642" y="1046218"/>
                </a:lnTo>
                <a:lnTo>
                  <a:pt x="398167" y="1048964"/>
                </a:lnTo>
                <a:lnTo>
                  <a:pt x="398167" y="1046218"/>
                </a:lnTo>
                <a:lnTo>
                  <a:pt x="406404" y="1046218"/>
                </a:lnTo>
                <a:lnTo>
                  <a:pt x="406404" y="1040726"/>
                </a:lnTo>
                <a:lnTo>
                  <a:pt x="403658" y="1040726"/>
                </a:lnTo>
                <a:lnTo>
                  <a:pt x="403658" y="1037980"/>
                </a:lnTo>
                <a:lnTo>
                  <a:pt x="400913" y="1035234"/>
                </a:lnTo>
                <a:close/>
                <a:moveTo>
                  <a:pt x="5110263" y="1032487"/>
                </a:moveTo>
                <a:lnTo>
                  <a:pt x="5110263" y="1043471"/>
                </a:lnTo>
                <a:lnTo>
                  <a:pt x="5118501" y="1043471"/>
                </a:lnTo>
                <a:lnTo>
                  <a:pt x="5123993" y="1037979"/>
                </a:lnTo>
                <a:lnTo>
                  <a:pt x="5118501" y="1032487"/>
                </a:lnTo>
                <a:lnTo>
                  <a:pt x="5110263" y="1032487"/>
                </a:lnTo>
                <a:close/>
                <a:moveTo>
                  <a:pt x="5286005" y="1029741"/>
                </a:moveTo>
                <a:lnTo>
                  <a:pt x="5286005" y="1032487"/>
                </a:lnTo>
                <a:lnTo>
                  <a:pt x="5286005" y="1035233"/>
                </a:lnTo>
                <a:lnTo>
                  <a:pt x="5291497" y="1037979"/>
                </a:lnTo>
                <a:lnTo>
                  <a:pt x="5294243" y="1035233"/>
                </a:lnTo>
                <a:lnTo>
                  <a:pt x="5294243" y="1032487"/>
                </a:lnTo>
                <a:lnTo>
                  <a:pt x="5291497" y="1029741"/>
                </a:lnTo>
                <a:lnTo>
                  <a:pt x="5288751" y="1029741"/>
                </a:lnTo>
                <a:lnTo>
                  <a:pt x="5286005" y="1029741"/>
                </a:lnTo>
                <a:close/>
                <a:moveTo>
                  <a:pt x="5181658" y="1026996"/>
                </a:moveTo>
                <a:lnTo>
                  <a:pt x="5181658" y="1032487"/>
                </a:lnTo>
                <a:lnTo>
                  <a:pt x="5187150" y="1032487"/>
                </a:lnTo>
                <a:lnTo>
                  <a:pt x="5187150" y="1026996"/>
                </a:lnTo>
                <a:lnTo>
                  <a:pt x="5181658" y="1026996"/>
                </a:lnTo>
                <a:close/>
                <a:moveTo>
                  <a:pt x="5140468" y="1026996"/>
                </a:moveTo>
                <a:lnTo>
                  <a:pt x="5137722" y="1029741"/>
                </a:lnTo>
                <a:lnTo>
                  <a:pt x="5134976" y="1029741"/>
                </a:lnTo>
                <a:lnTo>
                  <a:pt x="5134976" y="1032487"/>
                </a:lnTo>
                <a:lnTo>
                  <a:pt x="5137722" y="1032487"/>
                </a:lnTo>
                <a:lnTo>
                  <a:pt x="5145960" y="1032487"/>
                </a:lnTo>
                <a:lnTo>
                  <a:pt x="5145960" y="1029741"/>
                </a:lnTo>
                <a:lnTo>
                  <a:pt x="5148706" y="1029741"/>
                </a:lnTo>
                <a:lnTo>
                  <a:pt x="5140468" y="1026996"/>
                </a:lnTo>
                <a:close/>
                <a:moveTo>
                  <a:pt x="428372" y="1024250"/>
                </a:moveTo>
                <a:lnTo>
                  <a:pt x="428372" y="1029742"/>
                </a:lnTo>
                <a:lnTo>
                  <a:pt x="431118" y="1032488"/>
                </a:lnTo>
                <a:lnTo>
                  <a:pt x="431118" y="1024250"/>
                </a:lnTo>
                <a:lnTo>
                  <a:pt x="428372" y="1024250"/>
                </a:lnTo>
                <a:close/>
                <a:moveTo>
                  <a:pt x="486038" y="1021504"/>
                </a:moveTo>
                <a:lnTo>
                  <a:pt x="486038" y="1026996"/>
                </a:lnTo>
                <a:lnTo>
                  <a:pt x="483292" y="1029742"/>
                </a:lnTo>
                <a:lnTo>
                  <a:pt x="483292" y="1032488"/>
                </a:lnTo>
                <a:lnTo>
                  <a:pt x="483292" y="1037980"/>
                </a:lnTo>
                <a:lnTo>
                  <a:pt x="488784" y="1035234"/>
                </a:lnTo>
                <a:lnTo>
                  <a:pt x="499768" y="1035234"/>
                </a:lnTo>
                <a:lnTo>
                  <a:pt x="499768" y="1029742"/>
                </a:lnTo>
                <a:lnTo>
                  <a:pt x="491530" y="1029742"/>
                </a:lnTo>
                <a:lnTo>
                  <a:pt x="491530" y="1026996"/>
                </a:lnTo>
                <a:lnTo>
                  <a:pt x="488784" y="1024250"/>
                </a:lnTo>
                <a:lnTo>
                  <a:pt x="491530" y="1024250"/>
                </a:lnTo>
                <a:lnTo>
                  <a:pt x="491530" y="1021504"/>
                </a:lnTo>
                <a:lnTo>
                  <a:pt x="486038" y="1021504"/>
                </a:lnTo>
                <a:close/>
                <a:moveTo>
                  <a:pt x="5258545" y="1018758"/>
                </a:moveTo>
                <a:lnTo>
                  <a:pt x="5258545" y="1026996"/>
                </a:lnTo>
                <a:lnTo>
                  <a:pt x="5250308" y="1026996"/>
                </a:lnTo>
                <a:lnTo>
                  <a:pt x="5244816" y="1026996"/>
                </a:lnTo>
                <a:lnTo>
                  <a:pt x="5244816" y="1029741"/>
                </a:lnTo>
                <a:lnTo>
                  <a:pt x="5247562" y="1032487"/>
                </a:lnTo>
                <a:lnTo>
                  <a:pt x="5255799" y="1035233"/>
                </a:lnTo>
                <a:lnTo>
                  <a:pt x="5258545" y="1029741"/>
                </a:lnTo>
                <a:lnTo>
                  <a:pt x="5261291" y="1029741"/>
                </a:lnTo>
                <a:lnTo>
                  <a:pt x="5261291" y="1018758"/>
                </a:lnTo>
                <a:lnTo>
                  <a:pt x="5258545" y="1018758"/>
                </a:lnTo>
                <a:close/>
                <a:moveTo>
                  <a:pt x="5104771" y="1018758"/>
                </a:moveTo>
                <a:lnTo>
                  <a:pt x="5104771" y="1021504"/>
                </a:lnTo>
                <a:lnTo>
                  <a:pt x="5107517" y="1024250"/>
                </a:lnTo>
                <a:lnTo>
                  <a:pt x="5110263" y="1026996"/>
                </a:lnTo>
                <a:lnTo>
                  <a:pt x="5110263" y="1029741"/>
                </a:lnTo>
                <a:lnTo>
                  <a:pt x="5115755" y="1029741"/>
                </a:lnTo>
                <a:lnTo>
                  <a:pt x="5118501" y="1029741"/>
                </a:lnTo>
                <a:lnTo>
                  <a:pt x="5118501" y="1026996"/>
                </a:lnTo>
                <a:lnTo>
                  <a:pt x="5118501" y="1024250"/>
                </a:lnTo>
                <a:lnTo>
                  <a:pt x="5113009" y="1024250"/>
                </a:lnTo>
                <a:lnTo>
                  <a:pt x="5110263" y="1021504"/>
                </a:lnTo>
                <a:lnTo>
                  <a:pt x="5110263" y="1018758"/>
                </a:lnTo>
                <a:lnTo>
                  <a:pt x="5104771" y="1018758"/>
                </a:lnTo>
                <a:close/>
                <a:moveTo>
                  <a:pt x="475054" y="1016012"/>
                </a:moveTo>
                <a:lnTo>
                  <a:pt x="475054" y="1024250"/>
                </a:lnTo>
                <a:lnTo>
                  <a:pt x="477800" y="1021504"/>
                </a:lnTo>
                <a:lnTo>
                  <a:pt x="480546" y="1018758"/>
                </a:lnTo>
                <a:lnTo>
                  <a:pt x="477800" y="1016012"/>
                </a:lnTo>
                <a:lnTo>
                  <a:pt x="475054" y="1016012"/>
                </a:lnTo>
                <a:close/>
                <a:moveTo>
                  <a:pt x="321279" y="1016012"/>
                </a:moveTo>
                <a:lnTo>
                  <a:pt x="321279" y="1021504"/>
                </a:lnTo>
                <a:lnTo>
                  <a:pt x="326771" y="1021504"/>
                </a:lnTo>
                <a:lnTo>
                  <a:pt x="326771" y="1016012"/>
                </a:lnTo>
                <a:lnTo>
                  <a:pt x="321279" y="1016012"/>
                </a:lnTo>
                <a:close/>
                <a:moveTo>
                  <a:pt x="447594" y="1013266"/>
                </a:moveTo>
                <a:lnTo>
                  <a:pt x="444848" y="1016012"/>
                </a:lnTo>
                <a:lnTo>
                  <a:pt x="444848" y="1018758"/>
                </a:lnTo>
                <a:lnTo>
                  <a:pt x="442102" y="1021504"/>
                </a:lnTo>
                <a:lnTo>
                  <a:pt x="442102" y="1024250"/>
                </a:lnTo>
                <a:lnTo>
                  <a:pt x="444848" y="1026996"/>
                </a:lnTo>
                <a:lnTo>
                  <a:pt x="444848" y="1024250"/>
                </a:lnTo>
                <a:lnTo>
                  <a:pt x="447594" y="1024250"/>
                </a:lnTo>
                <a:lnTo>
                  <a:pt x="447594" y="1013266"/>
                </a:lnTo>
                <a:close/>
                <a:moveTo>
                  <a:pt x="5140468" y="1013266"/>
                </a:moveTo>
                <a:lnTo>
                  <a:pt x="5140468" y="1016012"/>
                </a:lnTo>
                <a:lnTo>
                  <a:pt x="5143214" y="1016012"/>
                </a:lnTo>
                <a:lnTo>
                  <a:pt x="5145960" y="1013266"/>
                </a:lnTo>
                <a:lnTo>
                  <a:pt x="5140468" y="1013266"/>
                </a:lnTo>
                <a:close/>
                <a:moveTo>
                  <a:pt x="5118501" y="1013266"/>
                </a:moveTo>
                <a:lnTo>
                  <a:pt x="5121247" y="1016012"/>
                </a:lnTo>
                <a:lnTo>
                  <a:pt x="5126739" y="1016012"/>
                </a:lnTo>
                <a:lnTo>
                  <a:pt x="5126739" y="1013266"/>
                </a:lnTo>
                <a:lnTo>
                  <a:pt x="5118501" y="1013266"/>
                </a:lnTo>
                <a:close/>
                <a:moveTo>
                  <a:pt x="175743" y="1010520"/>
                </a:moveTo>
                <a:lnTo>
                  <a:pt x="178488" y="1016012"/>
                </a:lnTo>
                <a:lnTo>
                  <a:pt x="181234" y="1018758"/>
                </a:lnTo>
                <a:lnTo>
                  <a:pt x="183980" y="1016012"/>
                </a:lnTo>
                <a:lnTo>
                  <a:pt x="186726" y="1013266"/>
                </a:lnTo>
                <a:lnTo>
                  <a:pt x="181234" y="1010520"/>
                </a:lnTo>
                <a:lnTo>
                  <a:pt x="175743" y="1010520"/>
                </a:lnTo>
                <a:close/>
                <a:moveTo>
                  <a:pt x="1062693" y="1010520"/>
                </a:moveTo>
                <a:lnTo>
                  <a:pt x="1065439" y="1015096"/>
                </a:lnTo>
                <a:lnTo>
                  <a:pt x="1065439" y="1018758"/>
                </a:lnTo>
                <a:lnTo>
                  <a:pt x="1062693" y="1010520"/>
                </a:lnTo>
                <a:close/>
                <a:moveTo>
                  <a:pt x="472308" y="1007774"/>
                </a:moveTo>
                <a:lnTo>
                  <a:pt x="472308" y="1010520"/>
                </a:lnTo>
                <a:lnTo>
                  <a:pt x="469562" y="1010520"/>
                </a:lnTo>
                <a:lnTo>
                  <a:pt x="469562" y="1016012"/>
                </a:lnTo>
                <a:lnTo>
                  <a:pt x="472308" y="1016012"/>
                </a:lnTo>
                <a:lnTo>
                  <a:pt x="475054" y="1010520"/>
                </a:lnTo>
                <a:lnTo>
                  <a:pt x="475054" y="1007774"/>
                </a:lnTo>
                <a:lnTo>
                  <a:pt x="472308" y="1007774"/>
                </a:lnTo>
                <a:close/>
                <a:moveTo>
                  <a:pt x="5060835" y="1007774"/>
                </a:moveTo>
                <a:lnTo>
                  <a:pt x="5060835" y="1013266"/>
                </a:lnTo>
                <a:lnTo>
                  <a:pt x="5063581" y="1010520"/>
                </a:lnTo>
                <a:lnTo>
                  <a:pt x="5063581" y="1013266"/>
                </a:lnTo>
                <a:lnTo>
                  <a:pt x="5066327" y="1013266"/>
                </a:lnTo>
                <a:lnTo>
                  <a:pt x="5069073" y="1013266"/>
                </a:lnTo>
                <a:lnTo>
                  <a:pt x="5069073" y="1010520"/>
                </a:lnTo>
                <a:lnTo>
                  <a:pt x="5066327" y="1007774"/>
                </a:lnTo>
                <a:lnTo>
                  <a:pt x="5060835" y="1007774"/>
                </a:lnTo>
                <a:close/>
                <a:moveTo>
                  <a:pt x="5156944" y="1005028"/>
                </a:moveTo>
                <a:lnTo>
                  <a:pt x="5156944" y="1010520"/>
                </a:lnTo>
                <a:lnTo>
                  <a:pt x="5159690" y="1013266"/>
                </a:lnTo>
                <a:lnTo>
                  <a:pt x="5162436" y="1013266"/>
                </a:lnTo>
                <a:lnTo>
                  <a:pt x="5162436" y="1010520"/>
                </a:lnTo>
                <a:lnTo>
                  <a:pt x="5165182" y="1010520"/>
                </a:lnTo>
                <a:lnTo>
                  <a:pt x="5165182" y="1013266"/>
                </a:lnTo>
                <a:lnTo>
                  <a:pt x="5159690" y="1016012"/>
                </a:lnTo>
                <a:lnTo>
                  <a:pt x="5162436" y="1021504"/>
                </a:lnTo>
                <a:lnTo>
                  <a:pt x="5162436" y="1026996"/>
                </a:lnTo>
                <a:lnTo>
                  <a:pt x="5165182" y="1026996"/>
                </a:lnTo>
                <a:lnTo>
                  <a:pt x="5173420" y="1024250"/>
                </a:lnTo>
                <a:lnTo>
                  <a:pt x="5181658" y="1024250"/>
                </a:lnTo>
                <a:lnTo>
                  <a:pt x="5181658" y="1018758"/>
                </a:lnTo>
                <a:lnTo>
                  <a:pt x="5181658" y="1016012"/>
                </a:lnTo>
                <a:lnTo>
                  <a:pt x="5178912" y="1013266"/>
                </a:lnTo>
                <a:lnTo>
                  <a:pt x="5178912" y="1010520"/>
                </a:lnTo>
                <a:lnTo>
                  <a:pt x="5167928" y="1007774"/>
                </a:lnTo>
                <a:lnTo>
                  <a:pt x="5156944" y="1005028"/>
                </a:lnTo>
                <a:close/>
                <a:moveTo>
                  <a:pt x="505260" y="1002282"/>
                </a:moveTo>
                <a:lnTo>
                  <a:pt x="499768" y="1005028"/>
                </a:lnTo>
                <a:lnTo>
                  <a:pt x="497022" y="1005028"/>
                </a:lnTo>
                <a:lnTo>
                  <a:pt x="494276" y="1007774"/>
                </a:lnTo>
                <a:lnTo>
                  <a:pt x="497022" y="1007774"/>
                </a:lnTo>
                <a:lnTo>
                  <a:pt x="497022" y="1010520"/>
                </a:lnTo>
                <a:lnTo>
                  <a:pt x="499768" y="1010520"/>
                </a:lnTo>
                <a:lnTo>
                  <a:pt x="502514" y="1007774"/>
                </a:lnTo>
                <a:lnTo>
                  <a:pt x="505260" y="1007774"/>
                </a:lnTo>
                <a:lnTo>
                  <a:pt x="505260" y="1002282"/>
                </a:lnTo>
                <a:close/>
                <a:moveTo>
                  <a:pt x="428372" y="1002282"/>
                </a:moveTo>
                <a:lnTo>
                  <a:pt x="422880" y="1007774"/>
                </a:lnTo>
                <a:lnTo>
                  <a:pt x="417389" y="1016012"/>
                </a:lnTo>
                <a:lnTo>
                  <a:pt x="420134" y="1016012"/>
                </a:lnTo>
                <a:lnTo>
                  <a:pt x="422880" y="1016012"/>
                </a:lnTo>
                <a:lnTo>
                  <a:pt x="425626" y="1018758"/>
                </a:lnTo>
                <a:lnTo>
                  <a:pt x="428372" y="1021504"/>
                </a:lnTo>
                <a:lnTo>
                  <a:pt x="431118" y="1018758"/>
                </a:lnTo>
                <a:lnTo>
                  <a:pt x="433864" y="1021504"/>
                </a:lnTo>
                <a:lnTo>
                  <a:pt x="433864" y="1016012"/>
                </a:lnTo>
                <a:lnTo>
                  <a:pt x="428372" y="1016012"/>
                </a:lnTo>
                <a:lnTo>
                  <a:pt x="425626" y="1013266"/>
                </a:lnTo>
                <a:lnTo>
                  <a:pt x="425626" y="1010520"/>
                </a:lnTo>
                <a:lnTo>
                  <a:pt x="428372" y="1007774"/>
                </a:lnTo>
                <a:lnTo>
                  <a:pt x="428372" y="1002282"/>
                </a:lnTo>
                <a:close/>
                <a:moveTo>
                  <a:pt x="5233832" y="1002282"/>
                </a:moveTo>
                <a:lnTo>
                  <a:pt x="5233832" y="1005028"/>
                </a:lnTo>
                <a:lnTo>
                  <a:pt x="5231086" y="1007774"/>
                </a:lnTo>
                <a:lnTo>
                  <a:pt x="5231086" y="1010520"/>
                </a:lnTo>
                <a:lnTo>
                  <a:pt x="5236578" y="1007774"/>
                </a:lnTo>
                <a:lnTo>
                  <a:pt x="5239324" y="1007774"/>
                </a:lnTo>
                <a:lnTo>
                  <a:pt x="5244816" y="1007774"/>
                </a:lnTo>
                <a:lnTo>
                  <a:pt x="5244816" y="1002282"/>
                </a:lnTo>
                <a:lnTo>
                  <a:pt x="5233832" y="1002282"/>
                </a:lnTo>
                <a:close/>
                <a:moveTo>
                  <a:pt x="6326731" y="999536"/>
                </a:moveTo>
                <a:lnTo>
                  <a:pt x="6323985" y="1005028"/>
                </a:lnTo>
                <a:lnTo>
                  <a:pt x="6323985" y="1007774"/>
                </a:lnTo>
                <a:lnTo>
                  <a:pt x="6323985" y="1013266"/>
                </a:lnTo>
                <a:lnTo>
                  <a:pt x="6326731" y="1016012"/>
                </a:lnTo>
                <a:lnTo>
                  <a:pt x="6332223" y="1016012"/>
                </a:lnTo>
                <a:lnTo>
                  <a:pt x="6334969" y="1016012"/>
                </a:lnTo>
                <a:lnTo>
                  <a:pt x="6337715" y="1013266"/>
                </a:lnTo>
                <a:lnTo>
                  <a:pt x="6340461" y="1007774"/>
                </a:lnTo>
                <a:lnTo>
                  <a:pt x="6337715" y="1005028"/>
                </a:lnTo>
                <a:lnTo>
                  <a:pt x="6334969" y="1002282"/>
                </a:lnTo>
                <a:lnTo>
                  <a:pt x="6326731" y="999536"/>
                </a:lnTo>
                <a:close/>
                <a:moveTo>
                  <a:pt x="5209118" y="999536"/>
                </a:moveTo>
                <a:lnTo>
                  <a:pt x="5206372" y="1005028"/>
                </a:lnTo>
                <a:lnTo>
                  <a:pt x="5206372" y="1010520"/>
                </a:lnTo>
                <a:lnTo>
                  <a:pt x="5214610" y="1010520"/>
                </a:lnTo>
                <a:lnTo>
                  <a:pt x="5220102" y="1007774"/>
                </a:lnTo>
                <a:lnTo>
                  <a:pt x="5220102" y="999536"/>
                </a:lnTo>
                <a:lnTo>
                  <a:pt x="5209118" y="999536"/>
                </a:lnTo>
                <a:close/>
                <a:moveTo>
                  <a:pt x="5093787" y="999536"/>
                </a:moveTo>
                <a:lnTo>
                  <a:pt x="5091041" y="1002282"/>
                </a:lnTo>
                <a:lnTo>
                  <a:pt x="5099279" y="1002282"/>
                </a:lnTo>
                <a:lnTo>
                  <a:pt x="5102025" y="1002282"/>
                </a:lnTo>
                <a:lnTo>
                  <a:pt x="5102025" y="999536"/>
                </a:lnTo>
                <a:lnTo>
                  <a:pt x="5099279" y="999536"/>
                </a:lnTo>
                <a:lnTo>
                  <a:pt x="5093787" y="999536"/>
                </a:lnTo>
                <a:close/>
                <a:moveTo>
                  <a:pt x="1079168" y="988552"/>
                </a:moveTo>
                <a:lnTo>
                  <a:pt x="1073676" y="991298"/>
                </a:lnTo>
                <a:lnTo>
                  <a:pt x="1068185" y="996790"/>
                </a:lnTo>
                <a:lnTo>
                  <a:pt x="1065439" y="1002282"/>
                </a:lnTo>
                <a:lnTo>
                  <a:pt x="1062693" y="1007774"/>
                </a:lnTo>
                <a:lnTo>
                  <a:pt x="1062693" y="1010520"/>
                </a:lnTo>
                <a:lnTo>
                  <a:pt x="1062693" y="1013266"/>
                </a:lnTo>
                <a:lnTo>
                  <a:pt x="1065439" y="1018758"/>
                </a:lnTo>
                <a:lnTo>
                  <a:pt x="1068185" y="1024249"/>
                </a:lnTo>
                <a:lnTo>
                  <a:pt x="1070931" y="1024249"/>
                </a:lnTo>
                <a:lnTo>
                  <a:pt x="1065439" y="1015096"/>
                </a:lnTo>
                <a:lnTo>
                  <a:pt x="1065439" y="1005028"/>
                </a:lnTo>
                <a:lnTo>
                  <a:pt x="1070931" y="994044"/>
                </a:lnTo>
                <a:lnTo>
                  <a:pt x="1077795" y="991298"/>
                </a:lnTo>
                <a:lnTo>
                  <a:pt x="1078253" y="990383"/>
                </a:lnTo>
                <a:lnTo>
                  <a:pt x="1070931" y="994044"/>
                </a:lnTo>
                <a:lnTo>
                  <a:pt x="1079168" y="988553"/>
                </a:lnTo>
                <a:lnTo>
                  <a:pt x="1079168" y="988552"/>
                </a:lnTo>
                <a:close/>
                <a:moveTo>
                  <a:pt x="5329941" y="988552"/>
                </a:moveTo>
                <a:lnTo>
                  <a:pt x="5327195" y="991298"/>
                </a:lnTo>
                <a:lnTo>
                  <a:pt x="5327195" y="999536"/>
                </a:lnTo>
                <a:lnTo>
                  <a:pt x="5332687" y="999536"/>
                </a:lnTo>
                <a:lnTo>
                  <a:pt x="5332687" y="996790"/>
                </a:lnTo>
                <a:lnTo>
                  <a:pt x="5335433" y="994044"/>
                </a:lnTo>
                <a:lnTo>
                  <a:pt x="5343671" y="996790"/>
                </a:lnTo>
                <a:lnTo>
                  <a:pt x="5343671" y="991298"/>
                </a:lnTo>
                <a:lnTo>
                  <a:pt x="5338179" y="988552"/>
                </a:lnTo>
                <a:lnTo>
                  <a:pt x="5338179" y="991298"/>
                </a:lnTo>
                <a:lnTo>
                  <a:pt x="5338179" y="994044"/>
                </a:lnTo>
                <a:lnTo>
                  <a:pt x="5335433" y="994044"/>
                </a:lnTo>
                <a:lnTo>
                  <a:pt x="5332687" y="991298"/>
                </a:lnTo>
                <a:lnTo>
                  <a:pt x="5329941" y="988552"/>
                </a:lnTo>
                <a:close/>
                <a:moveTo>
                  <a:pt x="5211864" y="985806"/>
                </a:moveTo>
                <a:lnTo>
                  <a:pt x="5211864" y="994044"/>
                </a:lnTo>
                <a:lnTo>
                  <a:pt x="5217356" y="991298"/>
                </a:lnTo>
                <a:lnTo>
                  <a:pt x="5220102" y="988552"/>
                </a:lnTo>
                <a:lnTo>
                  <a:pt x="5217356" y="985806"/>
                </a:lnTo>
                <a:lnTo>
                  <a:pt x="5211864" y="985806"/>
                </a:lnTo>
                <a:close/>
                <a:moveTo>
                  <a:pt x="5091041" y="985806"/>
                </a:moveTo>
                <a:lnTo>
                  <a:pt x="5085549" y="988552"/>
                </a:lnTo>
                <a:lnTo>
                  <a:pt x="5077311" y="988552"/>
                </a:lnTo>
                <a:lnTo>
                  <a:pt x="5071819" y="988552"/>
                </a:lnTo>
                <a:lnTo>
                  <a:pt x="5066327" y="991298"/>
                </a:lnTo>
                <a:lnTo>
                  <a:pt x="5069073" y="996790"/>
                </a:lnTo>
                <a:lnTo>
                  <a:pt x="5071819" y="1002282"/>
                </a:lnTo>
                <a:lnTo>
                  <a:pt x="5080057" y="1005028"/>
                </a:lnTo>
                <a:lnTo>
                  <a:pt x="5088295" y="1013266"/>
                </a:lnTo>
                <a:lnTo>
                  <a:pt x="5082803" y="1013266"/>
                </a:lnTo>
                <a:lnTo>
                  <a:pt x="5082803" y="1016012"/>
                </a:lnTo>
                <a:lnTo>
                  <a:pt x="5085549" y="1021504"/>
                </a:lnTo>
                <a:lnTo>
                  <a:pt x="5077311" y="1032487"/>
                </a:lnTo>
                <a:lnTo>
                  <a:pt x="5080057" y="1035233"/>
                </a:lnTo>
                <a:lnTo>
                  <a:pt x="5085549" y="1035233"/>
                </a:lnTo>
                <a:lnTo>
                  <a:pt x="5082803" y="1037979"/>
                </a:lnTo>
                <a:lnTo>
                  <a:pt x="5080057" y="1040725"/>
                </a:lnTo>
                <a:lnTo>
                  <a:pt x="5082803" y="1043471"/>
                </a:lnTo>
                <a:lnTo>
                  <a:pt x="5085549" y="1043471"/>
                </a:lnTo>
                <a:lnTo>
                  <a:pt x="5085549" y="1040725"/>
                </a:lnTo>
                <a:lnTo>
                  <a:pt x="5088295" y="1040725"/>
                </a:lnTo>
                <a:lnTo>
                  <a:pt x="5088295" y="1035233"/>
                </a:lnTo>
                <a:lnTo>
                  <a:pt x="5091041" y="1032487"/>
                </a:lnTo>
                <a:lnTo>
                  <a:pt x="5102025" y="1032487"/>
                </a:lnTo>
                <a:lnTo>
                  <a:pt x="5102025" y="1029741"/>
                </a:lnTo>
                <a:lnTo>
                  <a:pt x="5104771" y="1029741"/>
                </a:lnTo>
                <a:lnTo>
                  <a:pt x="5102025" y="1024250"/>
                </a:lnTo>
                <a:lnTo>
                  <a:pt x="5099279" y="1021504"/>
                </a:lnTo>
                <a:lnTo>
                  <a:pt x="5096533" y="1021504"/>
                </a:lnTo>
                <a:lnTo>
                  <a:pt x="5093787" y="1018758"/>
                </a:lnTo>
                <a:lnTo>
                  <a:pt x="5093787" y="1013266"/>
                </a:lnTo>
                <a:lnTo>
                  <a:pt x="5091041" y="1010520"/>
                </a:lnTo>
                <a:lnTo>
                  <a:pt x="5088295" y="1010520"/>
                </a:lnTo>
                <a:lnTo>
                  <a:pt x="5088295" y="1002282"/>
                </a:lnTo>
                <a:lnTo>
                  <a:pt x="5091041" y="996790"/>
                </a:lnTo>
                <a:lnTo>
                  <a:pt x="5088295" y="994044"/>
                </a:lnTo>
                <a:lnTo>
                  <a:pt x="5088295" y="991298"/>
                </a:lnTo>
                <a:lnTo>
                  <a:pt x="5091041" y="991298"/>
                </a:lnTo>
                <a:lnTo>
                  <a:pt x="5091041" y="988552"/>
                </a:lnTo>
                <a:lnTo>
                  <a:pt x="5091041" y="985806"/>
                </a:lnTo>
                <a:close/>
                <a:moveTo>
                  <a:pt x="1084661" y="983060"/>
                </a:moveTo>
                <a:lnTo>
                  <a:pt x="1090153" y="985806"/>
                </a:lnTo>
                <a:lnTo>
                  <a:pt x="1092898" y="985806"/>
                </a:lnTo>
                <a:lnTo>
                  <a:pt x="1095644" y="985806"/>
                </a:lnTo>
                <a:lnTo>
                  <a:pt x="1101136" y="988552"/>
                </a:lnTo>
                <a:lnTo>
                  <a:pt x="1101137" y="988552"/>
                </a:lnTo>
                <a:lnTo>
                  <a:pt x="1103882" y="991298"/>
                </a:lnTo>
                <a:lnTo>
                  <a:pt x="1102234" y="990748"/>
                </a:lnTo>
                <a:lnTo>
                  <a:pt x="1103882" y="994044"/>
                </a:lnTo>
                <a:lnTo>
                  <a:pt x="1103882" y="997340"/>
                </a:lnTo>
                <a:lnTo>
                  <a:pt x="1106628" y="999536"/>
                </a:lnTo>
                <a:lnTo>
                  <a:pt x="1103882" y="991298"/>
                </a:lnTo>
                <a:lnTo>
                  <a:pt x="1109374" y="996790"/>
                </a:lnTo>
                <a:lnTo>
                  <a:pt x="1114867" y="1005028"/>
                </a:lnTo>
                <a:lnTo>
                  <a:pt x="1114867" y="1016012"/>
                </a:lnTo>
                <a:lnTo>
                  <a:pt x="1112120" y="1024249"/>
                </a:lnTo>
                <a:lnTo>
                  <a:pt x="1103882" y="1035233"/>
                </a:lnTo>
                <a:lnTo>
                  <a:pt x="1106628" y="1026995"/>
                </a:lnTo>
                <a:lnTo>
                  <a:pt x="1092898" y="1037979"/>
                </a:lnTo>
                <a:lnTo>
                  <a:pt x="1103882" y="1035233"/>
                </a:lnTo>
                <a:lnTo>
                  <a:pt x="1095645" y="1037979"/>
                </a:lnTo>
                <a:lnTo>
                  <a:pt x="1090153" y="1040725"/>
                </a:lnTo>
                <a:lnTo>
                  <a:pt x="1081915" y="1043471"/>
                </a:lnTo>
                <a:lnTo>
                  <a:pt x="1076423" y="1040725"/>
                </a:lnTo>
                <a:lnTo>
                  <a:pt x="1065439" y="1040725"/>
                </a:lnTo>
                <a:lnTo>
                  <a:pt x="1057202" y="1032487"/>
                </a:lnTo>
                <a:lnTo>
                  <a:pt x="1048963" y="1024249"/>
                </a:lnTo>
                <a:lnTo>
                  <a:pt x="1048963" y="1013266"/>
                </a:lnTo>
                <a:lnTo>
                  <a:pt x="1048963" y="1002282"/>
                </a:lnTo>
                <a:lnTo>
                  <a:pt x="1057202" y="994044"/>
                </a:lnTo>
                <a:lnTo>
                  <a:pt x="1065439" y="985806"/>
                </a:lnTo>
                <a:lnTo>
                  <a:pt x="1073676" y="985806"/>
                </a:lnTo>
                <a:lnTo>
                  <a:pt x="1084661" y="983060"/>
                </a:lnTo>
                <a:close/>
                <a:moveTo>
                  <a:pt x="5258545" y="983060"/>
                </a:moveTo>
                <a:lnTo>
                  <a:pt x="5258545" y="985806"/>
                </a:lnTo>
                <a:lnTo>
                  <a:pt x="5264037" y="988552"/>
                </a:lnTo>
                <a:lnTo>
                  <a:pt x="5264037" y="991298"/>
                </a:lnTo>
                <a:lnTo>
                  <a:pt x="5269529" y="991298"/>
                </a:lnTo>
                <a:lnTo>
                  <a:pt x="5269529" y="985806"/>
                </a:lnTo>
                <a:lnTo>
                  <a:pt x="5264037" y="985806"/>
                </a:lnTo>
                <a:lnTo>
                  <a:pt x="5258545" y="983060"/>
                </a:lnTo>
                <a:close/>
                <a:moveTo>
                  <a:pt x="5162436" y="980314"/>
                </a:moveTo>
                <a:lnTo>
                  <a:pt x="5162436" y="985806"/>
                </a:lnTo>
                <a:lnTo>
                  <a:pt x="5165182" y="988552"/>
                </a:lnTo>
                <a:lnTo>
                  <a:pt x="5159690" y="988552"/>
                </a:lnTo>
                <a:lnTo>
                  <a:pt x="5162436" y="994044"/>
                </a:lnTo>
                <a:lnTo>
                  <a:pt x="5165182" y="996790"/>
                </a:lnTo>
                <a:lnTo>
                  <a:pt x="5167928" y="994044"/>
                </a:lnTo>
                <a:lnTo>
                  <a:pt x="5167928" y="991298"/>
                </a:lnTo>
                <a:lnTo>
                  <a:pt x="5167928" y="988552"/>
                </a:lnTo>
                <a:lnTo>
                  <a:pt x="5167928" y="985806"/>
                </a:lnTo>
                <a:lnTo>
                  <a:pt x="5170674" y="985806"/>
                </a:lnTo>
                <a:lnTo>
                  <a:pt x="5170674" y="983060"/>
                </a:lnTo>
                <a:lnTo>
                  <a:pt x="5167928" y="983060"/>
                </a:lnTo>
                <a:lnTo>
                  <a:pt x="5167928" y="980314"/>
                </a:lnTo>
                <a:lnTo>
                  <a:pt x="5165182" y="980314"/>
                </a:lnTo>
                <a:lnTo>
                  <a:pt x="5162436" y="980314"/>
                </a:lnTo>
                <a:close/>
                <a:moveTo>
                  <a:pt x="5104771" y="977568"/>
                </a:moveTo>
                <a:lnTo>
                  <a:pt x="5107517" y="980314"/>
                </a:lnTo>
                <a:lnTo>
                  <a:pt x="5113009" y="983060"/>
                </a:lnTo>
                <a:lnTo>
                  <a:pt x="5107517" y="983060"/>
                </a:lnTo>
                <a:lnTo>
                  <a:pt x="5104771" y="985806"/>
                </a:lnTo>
                <a:lnTo>
                  <a:pt x="5104771" y="991298"/>
                </a:lnTo>
                <a:lnTo>
                  <a:pt x="5110263" y="994044"/>
                </a:lnTo>
                <a:lnTo>
                  <a:pt x="5115755" y="994044"/>
                </a:lnTo>
                <a:lnTo>
                  <a:pt x="5118501" y="991298"/>
                </a:lnTo>
                <a:lnTo>
                  <a:pt x="5121247" y="985806"/>
                </a:lnTo>
                <a:lnTo>
                  <a:pt x="5115755" y="983060"/>
                </a:lnTo>
                <a:lnTo>
                  <a:pt x="5113009" y="983060"/>
                </a:lnTo>
                <a:lnTo>
                  <a:pt x="5113009" y="977568"/>
                </a:lnTo>
                <a:lnTo>
                  <a:pt x="5104771" y="977568"/>
                </a:lnTo>
                <a:close/>
                <a:moveTo>
                  <a:pt x="6615058" y="974822"/>
                </a:moveTo>
                <a:lnTo>
                  <a:pt x="6634280" y="994044"/>
                </a:lnTo>
                <a:lnTo>
                  <a:pt x="6436570" y="1016012"/>
                </a:lnTo>
                <a:lnTo>
                  <a:pt x="6447554" y="1007774"/>
                </a:lnTo>
                <a:lnTo>
                  <a:pt x="6458538" y="1002282"/>
                </a:lnTo>
                <a:lnTo>
                  <a:pt x="6475013" y="999536"/>
                </a:lnTo>
                <a:lnTo>
                  <a:pt x="6491489" y="1002282"/>
                </a:lnTo>
                <a:lnTo>
                  <a:pt x="6521695" y="1005028"/>
                </a:lnTo>
                <a:lnTo>
                  <a:pt x="6538171" y="1002282"/>
                </a:lnTo>
                <a:lnTo>
                  <a:pt x="6562885" y="994044"/>
                </a:lnTo>
                <a:lnTo>
                  <a:pt x="6615058" y="974822"/>
                </a:lnTo>
                <a:close/>
                <a:moveTo>
                  <a:pt x="5137722" y="966584"/>
                </a:moveTo>
                <a:lnTo>
                  <a:pt x="5129485" y="969330"/>
                </a:lnTo>
                <a:lnTo>
                  <a:pt x="5126739" y="969330"/>
                </a:lnTo>
                <a:lnTo>
                  <a:pt x="5123993" y="972076"/>
                </a:lnTo>
                <a:lnTo>
                  <a:pt x="5129485" y="977568"/>
                </a:lnTo>
                <a:lnTo>
                  <a:pt x="5137722" y="974822"/>
                </a:lnTo>
                <a:lnTo>
                  <a:pt x="5137722" y="966584"/>
                </a:lnTo>
                <a:close/>
                <a:moveTo>
                  <a:pt x="5102025" y="966584"/>
                </a:moveTo>
                <a:lnTo>
                  <a:pt x="5104771" y="972076"/>
                </a:lnTo>
                <a:lnTo>
                  <a:pt x="5107517" y="972076"/>
                </a:lnTo>
                <a:lnTo>
                  <a:pt x="5110263" y="969330"/>
                </a:lnTo>
                <a:lnTo>
                  <a:pt x="5110263" y="966584"/>
                </a:lnTo>
                <a:lnTo>
                  <a:pt x="5102025" y="966584"/>
                </a:lnTo>
                <a:close/>
                <a:moveTo>
                  <a:pt x="1035233" y="966584"/>
                </a:moveTo>
                <a:lnTo>
                  <a:pt x="1035233" y="969330"/>
                </a:lnTo>
                <a:lnTo>
                  <a:pt x="1043472" y="969330"/>
                </a:lnTo>
                <a:lnTo>
                  <a:pt x="1048964" y="966584"/>
                </a:lnTo>
                <a:lnTo>
                  <a:pt x="1035233" y="966584"/>
                </a:lnTo>
                <a:close/>
                <a:moveTo>
                  <a:pt x="5264037" y="963838"/>
                </a:moveTo>
                <a:lnTo>
                  <a:pt x="5264037" y="969330"/>
                </a:lnTo>
                <a:lnTo>
                  <a:pt x="5264037" y="972076"/>
                </a:lnTo>
                <a:lnTo>
                  <a:pt x="5258545" y="977568"/>
                </a:lnTo>
                <a:lnTo>
                  <a:pt x="5264037" y="980314"/>
                </a:lnTo>
                <a:lnTo>
                  <a:pt x="5269529" y="980314"/>
                </a:lnTo>
                <a:lnTo>
                  <a:pt x="5272275" y="972076"/>
                </a:lnTo>
                <a:lnTo>
                  <a:pt x="5269529" y="963838"/>
                </a:lnTo>
                <a:lnTo>
                  <a:pt x="5264037" y="963838"/>
                </a:lnTo>
                <a:close/>
                <a:moveTo>
                  <a:pt x="5244816" y="961092"/>
                </a:moveTo>
                <a:lnTo>
                  <a:pt x="5242070" y="963838"/>
                </a:lnTo>
                <a:lnTo>
                  <a:pt x="5242070" y="966584"/>
                </a:lnTo>
                <a:lnTo>
                  <a:pt x="5244816" y="966584"/>
                </a:lnTo>
                <a:lnTo>
                  <a:pt x="5247562" y="966584"/>
                </a:lnTo>
                <a:lnTo>
                  <a:pt x="5250308" y="966584"/>
                </a:lnTo>
                <a:lnTo>
                  <a:pt x="5253053" y="966584"/>
                </a:lnTo>
                <a:lnTo>
                  <a:pt x="5253053" y="961092"/>
                </a:lnTo>
                <a:lnTo>
                  <a:pt x="5244816" y="961092"/>
                </a:lnTo>
                <a:close/>
                <a:moveTo>
                  <a:pt x="1169785" y="961092"/>
                </a:moveTo>
                <a:lnTo>
                  <a:pt x="1175277" y="963838"/>
                </a:lnTo>
                <a:lnTo>
                  <a:pt x="1178023" y="969330"/>
                </a:lnTo>
                <a:lnTo>
                  <a:pt x="1178023" y="974822"/>
                </a:lnTo>
                <a:lnTo>
                  <a:pt x="1178023" y="980314"/>
                </a:lnTo>
                <a:lnTo>
                  <a:pt x="1175277" y="983060"/>
                </a:lnTo>
                <a:lnTo>
                  <a:pt x="1169785" y="983060"/>
                </a:lnTo>
                <a:lnTo>
                  <a:pt x="1167039" y="983060"/>
                </a:lnTo>
                <a:lnTo>
                  <a:pt x="1164293" y="980314"/>
                </a:lnTo>
                <a:lnTo>
                  <a:pt x="1161547" y="974822"/>
                </a:lnTo>
                <a:lnTo>
                  <a:pt x="1161547" y="969330"/>
                </a:lnTo>
                <a:lnTo>
                  <a:pt x="1164293" y="963838"/>
                </a:lnTo>
                <a:lnTo>
                  <a:pt x="1169785" y="961092"/>
                </a:lnTo>
                <a:close/>
                <a:moveTo>
                  <a:pt x="6175702" y="955600"/>
                </a:moveTo>
                <a:lnTo>
                  <a:pt x="6167464" y="958346"/>
                </a:lnTo>
                <a:lnTo>
                  <a:pt x="6159226" y="961092"/>
                </a:lnTo>
                <a:lnTo>
                  <a:pt x="6148242" y="963838"/>
                </a:lnTo>
                <a:lnTo>
                  <a:pt x="6137258" y="963838"/>
                </a:lnTo>
                <a:lnTo>
                  <a:pt x="6137258" y="958346"/>
                </a:lnTo>
                <a:lnTo>
                  <a:pt x="6134512" y="958346"/>
                </a:lnTo>
                <a:lnTo>
                  <a:pt x="6129020" y="958346"/>
                </a:lnTo>
                <a:lnTo>
                  <a:pt x="6129020" y="963838"/>
                </a:lnTo>
                <a:lnTo>
                  <a:pt x="6137258" y="963838"/>
                </a:lnTo>
                <a:lnTo>
                  <a:pt x="6145496" y="966584"/>
                </a:lnTo>
                <a:lnTo>
                  <a:pt x="6159226" y="966584"/>
                </a:lnTo>
                <a:lnTo>
                  <a:pt x="6172956" y="963838"/>
                </a:lnTo>
                <a:lnTo>
                  <a:pt x="6175702" y="961092"/>
                </a:lnTo>
                <a:lnTo>
                  <a:pt x="6175702" y="955600"/>
                </a:lnTo>
                <a:close/>
                <a:moveTo>
                  <a:pt x="5225594" y="955600"/>
                </a:moveTo>
                <a:lnTo>
                  <a:pt x="5225594" y="966584"/>
                </a:lnTo>
                <a:lnTo>
                  <a:pt x="5231086" y="963838"/>
                </a:lnTo>
                <a:lnTo>
                  <a:pt x="5233832" y="958346"/>
                </a:lnTo>
                <a:lnTo>
                  <a:pt x="5231086" y="958346"/>
                </a:lnTo>
                <a:lnTo>
                  <a:pt x="5225594" y="955600"/>
                </a:lnTo>
                <a:close/>
                <a:moveTo>
                  <a:pt x="5082803" y="955600"/>
                </a:moveTo>
                <a:lnTo>
                  <a:pt x="5082803" y="961092"/>
                </a:lnTo>
                <a:lnTo>
                  <a:pt x="5088295" y="961092"/>
                </a:lnTo>
                <a:lnTo>
                  <a:pt x="5091041" y="955600"/>
                </a:lnTo>
                <a:lnTo>
                  <a:pt x="5082803" y="955600"/>
                </a:lnTo>
                <a:close/>
                <a:moveTo>
                  <a:pt x="930887" y="955600"/>
                </a:moveTo>
                <a:lnTo>
                  <a:pt x="928141" y="958346"/>
                </a:lnTo>
                <a:lnTo>
                  <a:pt x="928141" y="963838"/>
                </a:lnTo>
                <a:lnTo>
                  <a:pt x="930887" y="963838"/>
                </a:lnTo>
                <a:lnTo>
                  <a:pt x="933632" y="963838"/>
                </a:lnTo>
                <a:lnTo>
                  <a:pt x="935005" y="965211"/>
                </a:lnTo>
                <a:lnTo>
                  <a:pt x="937857" y="965528"/>
                </a:lnTo>
                <a:lnTo>
                  <a:pt x="936378" y="961092"/>
                </a:lnTo>
                <a:lnTo>
                  <a:pt x="930887" y="955600"/>
                </a:lnTo>
                <a:close/>
                <a:moveTo>
                  <a:pt x="5354655" y="952854"/>
                </a:moveTo>
                <a:lnTo>
                  <a:pt x="5354655" y="955600"/>
                </a:lnTo>
                <a:lnTo>
                  <a:pt x="5357401" y="958346"/>
                </a:lnTo>
                <a:lnTo>
                  <a:pt x="5360147" y="955600"/>
                </a:lnTo>
                <a:lnTo>
                  <a:pt x="5360147" y="952854"/>
                </a:lnTo>
                <a:lnTo>
                  <a:pt x="5357401" y="952854"/>
                </a:lnTo>
                <a:lnTo>
                  <a:pt x="5354655" y="952854"/>
                </a:lnTo>
                <a:close/>
                <a:moveTo>
                  <a:pt x="5178912" y="952854"/>
                </a:moveTo>
                <a:lnTo>
                  <a:pt x="5173420" y="958346"/>
                </a:lnTo>
                <a:lnTo>
                  <a:pt x="5167928" y="966584"/>
                </a:lnTo>
                <a:lnTo>
                  <a:pt x="5170674" y="966584"/>
                </a:lnTo>
                <a:lnTo>
                  <a:pt x="5173420" y="969330"/>
                </a:lnTo>
                <a:lnTo>
                  <a:pt x="5176166" y="972076"/>
                </a:lnTo>
                <a:lnTo>
                  <a:pt x="5181658" y="972076"/>
                </a:lnTo>
                <a:lnTo>
                  <a:pt x="5187150" y="974822"/>
                </a:lnTo>
                <a:lnTo>
                  <a:pt x="5187150" y="980314"/>
                </a:lnTo>
                <a:lnTo>
                  <a:pt x="5184404" y="980314"/>
                </a:lnTo>
                <a:lnTo>
                  <a:pt x="5176166" y="983060"/>
                </a:lnTo>
                <a:lnTo>
                  <a:pt x="5178912" y="994044"/>
                </a:lnTo>
                <a:lnTo>
                  <a:pt x="5187150" y="999536"/>
                </a:lnTo>
                <a:lnTo>
                  <a:pt x="5189896" y="996790"/>
                </a:lnTo>
                <a:lnTo>
                  <a:pt x="5192642" y="991298"/>
                </a:lnTo>
                <a:lnTo>
                  <a:pt x="5189896" y="985806"/>
                </a:lnTo>
                <a:lnTo>
                  <a:pt x="5187150" y="983060"/>
                </a:lnTo>
                <a:lnTo>
                  <a:pt x="5198134" y="983060"/>
                </a:lnTo>
                <a:lnTo>
                  <a:pt x="5200880" y="977568"/>
                </a:lnTo>
                <a:lnTo>
                  <a:pt x="5198134" y="974822"/>
                </a:lnTo>
                <a:lnTo>
                  <a:pt x="5195388" y="969330"/>
                </a:lnTo>
                <a:lnTo>
                  <a:pt x="5195388" y="963838"/>
                </a:lnTo>
                <a:lnTo>
                  <a:pt x="5187150" y="958346"/>
                </a:lnTo>
                <a:lnTo>
                  <a:pt x="5181658" y="955600"/>
                </a:lnTo>
                <a:lnTo>
                  <a:pt x="5178912" y="952854"/>
                </a:lnTo>
                <a:close/>
                <a:moveTo>
                  <a:pt x="856745" y="950108"/>
                </a:moveTo>
                <a:lnTo>
                  <a:pt x="853999" y="952854"/>
                </a:lnTo>
                <a:lnTo>
                  <a:pt x="856745" y="952854"/>
                </a:lnTo>
                <a:lnTo>
                  <a:pt x="856745" y="955600"/>
                </a:lnTo>
                <a:lnTo>
                  <a:pt x="859491" y="955600"/>
                </a:lnTo>
                <a:lnTo>
                  <a:pt x="862237" y="952854"/>
                </a:lnTo>
                <a:lnTo>
                  <a:pt x="862237" y="950108"/>
                </a:lnTo>
                <a:lnTo>
                  <a:pt x="856745" y="950108"/>
                </a:lnTo>
                <a:close/>
                <a:moveTo>
                  <a:pt x="6238859" y="950108"/>
                </a:moveTo>
                <a:lnTo>
                  <a:pt x="6222384" y="955600"/>
                </a:lnTo>
                <a:lnTo>
                  <a:pt x="6216892" y="961092"/>
                </a:lnTo>
                <a:lnTo>
                  <a:pt x="6211400" y="963838"/>
                </a:lnTo>
                <a:lnTo>
                  <a:pt x="6238859" y="958346"/>
                </a:lnTo>
                <a:lnTo>
                  <a:pt x="6252589" y="958346"/>
                </a:lnTo>
                <a:lnTo>
                  <a:pt x="6269065" y="958346"/>
                </a:lnTo>
                <a:lnTo>
                  <a:pt x="6263573" y="952854"/>
                </a:lnTo>
                <a:lnTo>
                  <a:pt x="6258081" y="950108"/>
                </a:lnTo>
                <a:lnTo>
                  <a:pt x="6249843" y="950108"/>
                </a:lnTo>
                <a:lnTo>
                  <a:pt x="6238859" y="950108"/>
                </a:lnTo>
                <a:close/>
                <a:moveTo>
                  <a:pt x="5140468" y="950108"/>
                </a:moveTo>
                <a:lnTo>
                  <a:pt x="5140468" y="955600"/>
                </a:lnTo>
                <a:lnTo>
                  <a:pt x="5148706" y="955600"/>
                </a:lnTo>
                <a:lnTo>
                  <a:pt x="5148706" y="952854"/>
                </a:lnTo>
                <a:lnTo>
                  <a:pt x="5145960" y="950108"/>
                </a:lnTo>
                <a:lnTo>
                  <a:pt x="5140468" y="950108"/>
                </a:lnTo>
                <a:close/>
                <a:moveTo>
                  <a:pt x="1062694" y="947362"/>
                </a:moveTo>
                <a:lnTo>
                  <a:pt x="1062694" y="950108"/>
                </a:lnTo>
                <a:lnTo>
                  <a:pt x="1062694" y="952854"/>
                </a:lnTo>
                <a:lnTo>
                  <a:pt x="1065439" y="952854"/>
                </a:lnTo>
                <a:lnTo>
                  <a:pt x="1068185" y="952854"/>
                </a:lnTo>
                <a:lnTo>
                  <a:pt x="1068185" y="950108"/>
                </a:lnTo>
                <a:lnTo>
                  <a:pt x="1065439" y="950108"/>
                </a:lnTo>
                <a:lnTo>
                  <a:pt x="1065439" y="947362"/>
                </a:lnTo>
                <a:lnTo>
                  <a:pt x="1062694" y="947362"/>
                </a:lnTo>
                <a:close/>
                <a:moveTo>
                  <a:pt x="799080" y="947362"/>
                </a:moveTo>
                <a:lnTo>
                  <a:pt x="799080" y="952854"/>
                </a:lnTo>
                <a:lnTo>
                  <a:pt x="804571" y="952854"/>
                </a:lnTo>
                <a:lnTo>
                  <a:pt x="804571" y="950108"/>
                </a:lnTo>
                <a:lnTo>
                  <a:pt x="799080" y="947362"/>
                </a:lnTo>
                <a:close/>
                <a:moveTo>
                  <a:pt x="6065863" y="947362"/>
                </a:moveTo>
                <a:lnTo>
                  <a:pt x="6068609" y="952854"/>
                </a:lnTo>
                <a:lnTo>
                  <a:pt x="6068609" y="958346"/>
                </a:lnTo>
                <a:lnTo>
                  <a:pt x="6076847" y="963838"/>
                </a:lnTo>
                <a:lnTo>
                  <a:pt x="6082339" y="969330"/>
                </a:lnTo>
                <a:lnTo>
                  <a:pt x="6082339" y="974822"/>
                </a:lnTo>
                <a:lnTo>
                  <a:pt x="6082339" y="983060"/>
                </a:lnTo>
                <a:lnTo>
                  <a:pt x="6076847" y="980314"/>
                </a:lnTo>
                <a:lnTo>
                  <a:pt x="6068609" y="980314"/>
                </a:lnTo>
                <a:lnTo>
                  <a:pt x="6060371" y="983060"/>
                </a:lnTo>
                <a:lnTo>
                  <a:pt x="6054879" y="988552"/>
                </a:lnTo>
                <a:lnTo>
                  <a:pt x="6065863" y="991298"/>
                </a:lnTo>
                <a:lnTo>
                  <a:pt x="6074101" y="999536"/>
                </a:lnTo>
                <a:lnTo>
                  <a:pt x="6076847" y="1007774"/>
                </a:lnTo>
                <a:lnTo>
                  <a:pt x="6076847" y="1018758"/>
                </a:lnTo>
                <a:lnTo>
                  <a:pt x="6079593" y="1029741"/>
                </a:lnTo>
                <a:lnTo>
                  <a:pt x="6082339" y="1037979"/>
                </a:lnTo>
                <a:lnTo>
                  <a:pt x="6090577" y="1043471"/>
                </a:lnTo>
                <a:lnTo>
                  <a:pt x="6104306" y="1043471"/>
                </a:lnTo>
                <a:lnTo>
                  <a:pt x="6104306" y="1037979"/>
                </a:lnTo>
                <a:lnTo>
                  <a:pt x="6104306" y="1035233"/>
                </a:lnTo>
                <a:lnTo>
                  <a:pt x="6096069" y="1032487"/>
                </a:lnTo>
                <a:lnTo>
                  <a:pt x="6087831" y="1032487"/>
                </a:lnTo>
                <a:lnTo>
                  <a:pt x="6085085" y="1029741"/>
                </a:lnTo>
                <a:lnTo>
                  <a:pt x="6082339" y="1026996"/>
                </a:lnTo>
                <a:lnTo>
                  <a:pt x="6093323" y="1024250"/>
                </a:lnTo>
                <a:lnTo>
                  <a:pt x="6104306" y="1024250"/>
                </a:lnTo>
                <a:lnTo>
                  <a:pt x="6123528" y="1029741"/>
                </a:lnTo>
                <a:lnTo>
                  <a:pt x="6142750" y="1037979"/>
                </a:lnTo>
                <a:lnTo>
                  <a:pt x="6150988" y="1040725"/>
                </a:lnTo>
                <a:lnTo>
                  <a:pt x="6161972" y="1040725"/>
                </a:lnTo>
                <a:lnTo>
                  <a:pt x="6172956" y="1035233"/>
                </a:lnTo>
                <a:lnTo>
                  <a:pt x="6178448" y="1029741"/>
                </a:lnTo>
                <a:lnTo>
                  <a:pt x="6189432" y="1026996"/>
                </a:lnTo>
                <a:lnTo>
                  <a:pt x="6200416" y="1024250"/>
                </a:lnTo>
                <a:lnTo>
                  <a:pt x="6208654" y="1018758"/>
                </a:lnTo>
                <a:lnTo>
                  <a:pt x="6216892" y="1016012"/>
                </a:lnTo>
                <a:lnTo>
                  <a:pt x="6227875" y="1010520"/>
                </a:lnTo>
                <a:lnTo>
                  <a:pt x="6238859" y="1010520"/>
                </a:lnTo>
                <a:lnTo>
                  <a:pt x="6249843" y="1013266"/>
                </a:lnTo>
                <a:lnTo>
                  <a:pt x="6271811" y="1016012"/>
                </a:lnTo>
                <a:lnTo>
                  <a:pt x="6293779" y="1018758"/>
                </a:lnTo>
                <a:lnTo>
                  <a:pt x="6304763" y="1018758"/>
                </a:lnTo>
                <a:lnTo>
                  <a:pt x="6315747" y="1013266"/>
                </a:lnTo>
                <a:lnTo>
                  <a:pt x="6318493" y="1013266"/>
                </a:lnTo>
                <a:lnTo>
                  <a:pt x="6310255" y="1005028"/>
                </a:lnTo>
                <a:lnTo>
                  <a:pt x="6296525" y="1002282"/>
                </a:lnTo>
                <a:lnTo>
                  <a:pt x="6280049" y="999536"/>
                </a:lnTo>
                <a:lnTo>
                  <a:pt x="6260827" y="999536"/>
                </a:lnTo>
                <a:lnTo>
                  <a:pt x="6216892" y="1005028"/>
                </a:lnTo>
                <a:lnTo>
                  <a:pt x="6175702" y="1010520"/>
                </a:lnTo>
                <a:lnTo>
                  <a:pt x="6137258" y="1013266"/>
                </a:lnTo>
                <a:lnTo>
                  <a:pt x="6120782" y="1013266"/>
                </a:lnTo>
                <a:lnTo>
                  <a:pt x="6109798" y="1007774"/>
                </a:lnTo>
                <a:lnTo>
                  <a:pt x="6101561" y="999536"/>
                </a:lnTo>
                <a:lnTo>
                  <a:pt x="6096069" y="991298"/>
                </a:lnTo>
                <a:lnTo>
                  <a:pt x="6098815" y="974822"/>
                </a:lnTo>
                <a:lnTo>
                  <a:pt x="6107052" y="955600"/>
                </a:lnTo>
                <a:lnTo>
                  <a:pt x="6087831" y="950108"/>
                </a:lnTo>
                <a:lnTo>
                  <a:pt x="6065863" y="947362"/>
                </a:lnTo>
                <a:close/>
                <a:moveTo>
                  <a:pt x="1048964" y="944616"/>
                </a:moveTo>
                <a:lnTo>
                  <a:pt x="1048964" y="947362"/>
                </a:lnTo>
                <a:lnTo>
                  <a:pt x="1048964" y="950108"/>
                </a:lnTo>
                <a:lnTo>
                  <a:pt x="1048964" y="955600"/>
                </a:lnTo>
                <a:lnTo>
                  <a:pt x="1051710" y="955600"/>
                </a:lnTo>
                <a:lnTo>
                  <a:pt x="1051710" y="944616"/>
                </a:lnTo>
                <a:lnTo>
                  <a:pt x="1048964" y="944616"/>
                </a:lnTo>
                <a:close/>
                <a:moveTo>
                  <a:pt x="812809" y="941870"/>
                </a:moveTo>
                <a:lnTo>
                  <a:pt x="812809" y="947362"/>
                </a:lnTo>
                <a:lnTo>
                  <a:pt x="821047" y="947362"/>
                </a:lnTo>
                <a:lnTo>
                  <a:pt x="818301" y="944616"/>
                </a:lnTo>
                <a:lnTo>
                  <a:pt x="812809" y="941870"/>
                </a:lnTo>
                <a:close/>
                <a:moveTo>
                  <a:pt x="994043" y="939124"/>
                </a:moveTo>
                <a:lnTo>
                  <a:pt x="994043" y="941870"/>
                </a:lnTo>
                <a:lnTo>
                  <a:pt x="999536" y="941870"/>
                </a:lnTo>
                <a:lnTo>
                  <a:pt x="996790" y="939124"/>
                </a:lnTo>
                <a:lnTo>
                  <a:pt x="994043" y="939124"/>
                </a:lnTo>
                <a:close/>
                <a:moveTo>
                  <a:pt x="5195388" y="939124"/>
                </a:moveTo>
                <a:lnTo>
                  <a:pt x="5195388" y="944616"/>
                </a:lnTo>
                <a:lnTo>
                  <a:pt x="5200880" y="944616"/>
                </a:lnTo>
                <a:lnTo>
                  <a:pt x="5203626" y="939124"/>
                </a:lnTo>
                <a:lnTo>
                  <a:pt x="5195388" y="939124"/>
                </a:lnTo>
                <a:close/>
                <a:moveTo>
                  <a:pt x="5280513" y="936378"/>
                </a:moveTo>
                <a:lnTo>
                  <a:pt x="5277767" y="941870"/>
                </a:lnTo>
                <a:lnTo>
                  <a:pt x="5275021" y="944616"/>
                </a:lnTo>
                <a:lnTo>
                  <a:pt x="5275021" y="939124"/>
                </a:lnTo>
                <a:lnTo>
                  <a:pt x="5272275" y="939124"/>
                </a:lnTo>
                <a:lnTo>
                  <a:pt x="5269529" y="939124"/>
                </a:lnTo>
                <a:lnTo>
                  <a:pt x="5269529" y="944616"/>
                </a:lnTo>
                <a:lnTo>
                  <a:pt x="5277767" y="947362"/>
                </a:lnTo>
                <a:lnTo>
                  <a:pt x="5283259" y="952854"/>
                </a:lnTo>
                <a:lnTo>
                  <a:pt x="5288751" y="952854"/>
                </a:lnTo>
                <a:lnTo>
                  <a:pt x="5294243" y="950108"/>
                </a:lnTo>
                <a:lnTo>
                  <a:pt x="5294243" y="944616"/>
                </a:lnTo>
                <a:lnTo>
                  <a:pt x="5291497" y="939124"/>
                </a:lnTo>
                <a:lnTo>
                  <a:pt x="5288751" y="936378"/>
                </a:lnTo>
                <a:lnTo>
                  <a:pt x="5280513" y="936378"/>
                </a:lnTo>
                <a:close/>
                <a:moveTo>
                  <a:pt x="5178912" y="936378"/>
                </a:moveTo>
                <a:lnTo>
                  <a:pt x="5176166" y="939124"/>
                </a:lnTo>
                <a:lnTo>
                  <a:pt x="5178912" y="941870"/>
                </a:lnTo>
                <a:lnTo>
                  <a:pt x="5181658" y="944616"/>
                </a:lnTo>
                <a:lnTo>
                  <a:pt x="5184404" y="944616"/>
                </a:lnTo>
                <a:lnTo>
                  <a:pt x="5184404" y="936378"/>
                </a:lnTo>
                <a:lnTo>
                  <a:pt x="5181658" y="936378"/>
                </a:lnTo>
                <a:lnTo>
                  <a:pt x="5178912" y="936378"/>
                </a:lnTo>
                <a:close/>
                <a:moveTo>
                  <a:pt x="1315322" y="933632"/>
                </a:moveTo>
                <a:lnTo>
                  <a:pt x="1315322" y="941870"/>
                </a:lnTo>
                <a:lnTo>
                  <a:pt x="1320814" y="941870"/>
                </a:lnTo>
                <a:lnTo>
                  <a:pt x="1318068" y="939124"/>
                </a:lnTo>
                <a:lnTo>
                  <a:pt x="1315322" y="933632"/>
                </a:lnTo>
                <a:close/>
                <a:moveTo>
                  <a:pt x="1062694" y="933632"/>
                </a:moveTo>
                <a:lnTo>
                  <a:pt x="1062694" y="939124"/>
                </a:lnTo>
                <a:lnTo>
                  <a:pt x="1070932" y="939124"/>
                </a:lnTo>
                <a:lnTo>
                  <a:pt x="1073678" y="939124"/>
                </a:lnTo>
                <a:lnTo>
                  <a:pt x="1073678" y="936378"/>
                </a:lnTo>
                <a:lnTo>
                  <a:pt x="1068185" y="933632"/>
                </a:lnTo>
                <a:lnTo>
                  <a:pt x="1062694" y="933632"/>
                </a:lnTo>
                <a:close/>
                <a:moveTo>
                  <a:pt x="1054456" y="933632"/>
                </a:moveTo>
                <a:lnTo>
                  <a:pt x="1054456" y="936378"/>
                </a:lnTo>
                <a:lnTo>
                  <a:pt x="1057202" y="939124"/>
                </a:lnTo>
                <a:lnTo>
                  <a:pt x="1057202" y="941870"/>
                </a:lnTo>
                <a:lnTo>
                  <a:pt x="1062694" y="941870"/>
                </a:lnTo>
                <a:lnTo>
                  <a:pt x="1059948" y="936378"/>
                </a:lnTo>
                <a:lnTo>
                  <a:pt x="1054456" y="933632"/>
                </a:lnTo>
                <a:close/>
                <a:moveTo>
                  <a:pt x="5956024" y="930886"/>
                </a:moveTo>
                <a:lnTo>
                  <a:pt x="5942294" y="944616"/>
                </a:lnTo>
                <a:lnTo>
                  <a:pt x="5917580" y="963838"/>
                </a:lnTo>
                <a:lnTo>
                  <a:pt x="5909342" y="969330"/>
                </a:lnTo>
                <a:lnTo>
                  <a:pt x="5903850" y="974822"/>
                </a:lnTo>
                <a:lnTo>
                  <a:pt x="5898358" y="983060"/>
                </a:lnTo>
                <a:lnTo>
                  <a:pt x="5892866" y="988552"/>
                </a:lnTo>
                <a:lnTo>
                  <a:pt x="5887374" y="991298"/>
                </a:lnTo>
                <a:lnTo>
                  <a:pt x="5879136" y="994044"/>
                </a:lnTo>
                <a:lnTo>
                  <a:pt x="5873644" y="996790"/>
                </a:lnTo>
                <a:lnTo>
                  <a:pt x="5868152" y="999536"/>
                </a:lnTo>
                <a:lnTo>
                  <a:pt x="5859914" y="1010520"/>
                </a:lnTo>
                <a:lnTo>
                  <a:pt x="5857169" y="1018758"/>
                </a:lnTo>
                <a:lnTo>
                  <a:pt x="5851677" y="1029741"/>
                </a:lnTo>
                <a:lnTo>
                  <a:pt x="5846185" y="1035233"/>
                </a:lnTo>
                <a:lnTo>
                  <a:pt x="5835201" y="1040725"/>
                </a:lnTo>
                <a:lnTo>
                  <a:pt x="5821471" y="1043471"/>
                </a:lnTo>
                <a:lnTo>
                  <a:pt x="5796757" y="1048963"/>
                </a:lnTo>
                <a:lnTo>
                  <a:pt x="5788519" y="1051709"/>
                </a:lnTo>
                <a:lnTo>
                  <a:pt x="5785773" y="1057201"/>
                </a:lnTo>
                <a:lnTo>
                  <a:pt x="5788519" y="1065439"/>
                </a:lnTo>
                <a:lnTo>
                  <a:pt x="5799503" y="1076423"/>
                </a:lnTo>
                <a:lnTo>
                  <a:pt x="5796757" y="1079169"/>
                </a:lnTo>
                <a:lnTo>
                  <a:pt x="5799503" y="1079169"/>
                </a:lnTo>
                <a:lnTo>
                  <a:pt x="5799503" y="1076423"/>
                </a:lnTo>
                <a:lnTo>
                  <a:pt x="5804995" y="1079169"/>
                </a:lnTo>
                <a:lnTo>
                  <a:pt x="5810487" y="1079169"/>
                </a:lnTo>
                <a:lnTo>
                  <a:pt x="5812318" y="1077949"/>
                </a:lnTo>
                <a:lnTo>
                  <a:pt x="5807741" y="1076423"/>
                </a:lnTo>
                <a:lnTo>
                  <a:pt x="5813942" y="1076866"/>
                </a:lnTo>
                <a:lnTo>
                  <a:pt x="5818725" y="1073677"/>
                </a:lnTo>
                <a:lnTo>
                  <a:pt x="5826963" y="1068185"/>
                </a:lnTo>
                <a:lnTo>
                  <a:pt x="5835201" y="1062693"/>
                </a:lnTo>
                <a:lnTo>
                  <a:pt x="5835201" y="1065439"/>
                </a:lnTo>
                <a:lnTo>
                  <a:pt x="5837947" y="1065439"/>
                </a:lnTo>
                <a:lnTo>
                  <a:pt x="5837947" y="1062693"/>
                </a:lnTo>
                <a:lnTo>
                  <a:pt x="5843439" y="1054455"/>
                </a:lnTo>
                <a:lnTo>
                  <a:pt x="5846185" y="1051709"/>
                </a:lnTo>
                <a:lnTo>
                  <a:pt x="5851677" y="1048963"/>
                </a:lnTo>
                <a:lnTo>
                  <a:pt x="5857169" y="1046217"/>
                </a:lnTo>
                <a:lnTo>
                  <a:pt x="5890120" y="1046217"/>
                </a:lnTo>
                <a:lnTo>
                  <a:pt x="5906596" y="1043471"/>
                </a:lnTo>
                <a:lnTo>
                  <a:pt x="5923072" y="1040725"/>
                </a:lnTo>
                <a:lnTo>
                  <a:pt x="5953278" y="1026996"/>
                </a:lnTo>
                <a:lnTo>
                  <a:pt x="5983483" y="1016012"/>
                </a:lnTo>
                <a:lnTo>
                  <a:pt x="6008197" y="1007774"/>
                </a:lnTo>
                <a:lnTo>
                  <a:pt x="6016435" y="1005028"/>
                </a:lnTo>
                <a:lnTo>
                  <a:pt x="6024673" y="1007774"/>
                </a:lnTo>
                <a:lnTo>
                  <a:pt x="6038403" y="1013266"/>
                </a:lnTo>
                <a:lnTo>
                  <a:pt x="6052133" y="1021504"/>
                </a:lnTo>
                <a:lnTo>
                  <a:pt x="6065863" y="1032487"/>
                </a:lnTo>
                <a:lnTo>
                  <a:pt x="6065863" y="1018758"/>
                </a:lnTo>
                <a:lnTo>
                  <a:pt x="6063117" y="1010520"/>
                </a:lnTo>
                <a:lnTo>
                  <a:pt x="6054879" y="1005028"/>
                </a:lnTo>
                <a:lnTo>
                  <a:pt x="6043895" y="999536"/>
                </a:lnTo>
                <a:lnTo>
                  <a:pt x="6019181" y="988552"/>
                </a:lnTo>
                <a:lnTo>
                  <a:pt x="6010943" y="983060"/>
                </a:lnTo>
                <a:lnTo>
                  <a:pt x="6005451" y="977568"/>
                </a:lnTo>
                <a:lnTo>
                  <a:pt x="6005451" y="972076"/>
                </a:lnTo>
                <a:lnTo>
                  <a:pt x="6002705" y="972076"/>
                </a:lnTo>
                <a:lnTo>
                  <a:pt x="5991721" y="969330"/>
                </a:lnTo>
                <a:lnTo>
                  <a:pt x="5986229" y="963838"/>
                </a:lnTo>
                <a:lnTo>
                  <a:pt x="5980738" y="958346"/>
                </a:lnTo>
                <a:lnTo>
                  <a:pt x="5972500" y="944616"/>
                </a:lnTo>
                <a:lnTo>
                  <a:pt x="5967008" y="933632"/>
                </a:lnTo>
                <a:lnTo>
                  <a:pt x="5961516" y="930886"/>
                </a:lnTo>
                <a:lnTo>
                  <a:pt x="5956024" y="930886"/>
                </a:lnTo>
                <a:close/>
                <a:moveTo>
                  <a:pt x="1340038" y="928140"/>
                </a:moveTo>
                <a:lnTo>
                  <a:pt x="1340038" y="936378"/>
                </a:lnTo>
                <a:lnTo>
                  <a:pt x="1345529" y="936378"/>
                </a:lnTo>
                <a:lnTo>
                  <a:pt x="1348275" y="933632"/>
                </a:lnTo>
                <a:lnTo>
                  <a:pt x="1345529" y="930886"/>
                </a:lnTo>
                <a:lnTo>
                  <a:pt x="1340038" y="928140"/>
                </a:lnTo>
                <a:close/>
                <a:moveTo>
                  <a:pt x="6109798" y="925394"/>
                </a:moveTo>
                <a:lnTo>
                  <a:pt x="6109798" y="930886"/>
                </a:lnTo>
                <a:lnTo>
                  <a:pt x="6115290" y="930886"/>
                </a:lnTo>
                <a:lnTo>
                  <a:pt x="6118036" y="925394"/>
                </a:lnTo>
                <a:lnTo>
                  <a:pt x="6109798" y="925394"/>
                </a:lnTo>
                <a:close/>
                <a:moveTo>
                  <a:pt x="5371131" y="925394"/>
                </a:moveTo>
                <a:lnTo>
                  <a:pt x="5371131" y="928140"/>
                </a:lnTo>
                <a:lnTo>
                  <a:pt x="5373876" y="930886"/>
                </a:lnTo>
                <a:lnTo>
                  <a:pt x="5376622" y="933632"/>
                </a:lnTo>
                <a:lnTo>
                  <a:pt x="5382114" y="933632"/>
                </a:lnTo>
                <a:lnTo>
                  <a:pt x="5382114" y="930886"/>
                </a:lnTo>
                <a:lnTo>
                  <a:pt x="5382114" y="928140"/>
                </a:lnTo>
                <a:lnTo>
                  <a:pt x="5379368" y="925394"/>
                </a:lnTo>
                <a:lnTo>
                  <a:pt x="5371131" y="925394"/>
                </a:lnTo>
                <a:close/>
                <a:moveTo>
                  <a:pt x="5121247" y="925394"/>
                </a:moveTo>
                <a:lnTo>
                  <a:pt x="5118501" y="928140"/>
                </a:lnTo>
                <a:lnTo>
                  <a:pt x="5121247" y="930886"/>
                </a:lnTo>
                <a:lnTo>
                  <a:pt x="5123993" y="930886"/>
                </a:lnTo>
                <a:lnTo>
                  <a:pt x="5126739" y="928140"/>
                </a:lnTo>
                <a:lnTo>
                  <a:pt x="5123993" y="925394"/>
                </a:lnTo>
                <a:lnTo>
                  <a:pt x="5121247" y="925394"/>
                </a:lnTo>
                <a:close/>
                <a:moveTo>
                  <a:pt x="966584" y="919902"/>
                </a:moveTo>
                <a:lnTo>
                  <a:pt x="966584" y="922648"/>
                </a:lnTo>
                <a:lnTo>
                  <a:pt x="963838" y="922648"/>
                </a:lnTo>
                <a:lnTo>
                  <a:pt x="963838" y="925394"/>
                </a:lnTo>
                <a:lnTo>
                  <a:pt x="969330" y="925394"/>
                </a:lnTo>
                <a:lnTo>
                  <a:pt x="972076" y="925394"/>
                </a:lnTo>
                <a:lnTo>
                  <a:pt x="974822" y="925394"/>
                </a:lnTo>
                <a:lnTo>
                  <a:pt x="974822" y="922648"/>
                </a:lnTo>
                <a:lnTo>
                  <a:pt x="972076" y="922648"/>
                </a:lnTo>
                <a:lnTo>
                  <a:pt x="966584" y="919902"/>
                </a:lnTo>
                <a:close/>
                <a:moveTo>
                  <a:pt x="6293779" y="917156"/>
                </a:moveTo>
                <a:lnTo>
                  <a:pt x="6293779" y="925394"/>
                </a:lnTo>
                <a:lnTo>
                  <a:pt x="6296525" y="925394"/>
                </a:lnTo>
                <a:lnTo>
                  <a:pt x="6296525" y="919902"/>
                </a:lnTo>
                <a:lnTo>
                  <a:pt x="6293779" y="917156"/>
                </a:lnTo>
                <a:close/>
                <a:moveTo>
                  <a:pt x="5445272" y="917156"/>
                </a:moveTo>
                <a:lnTo>
                  <a:pt x="5445272" y="922648"/>
                </a:lnTo>
                <a:lnTo>
                  <a:pt x="5450764" y="922648"/>
                </a:lnTo>
                <a:lnTo>
                  <a:pt x="5453510" y="925394"/>
                </a:lnTo>
                <a:lnTo>
                  <a:pt x="5450764" y="919902"/>
                </a:lnTo>
                <a:lnTo>
                  <a:pt x="5445272" y="917156"/>
                </a:lnTo>
                <a:close/>
                <a:moveTo>
                  <a:pt x="5239324" y="917156"/>
                </a:moveTo>
                <a:lnTo>
                  <a:pt x="5236578" y="925394"/>
                </a:lnTo>
                <a:lnTo>
                  <a:pt x="5236578" y="930886"/>
                </a:lnTo>
                <a:lnTo>
                  <a:pt x="5239324" y="936378"/>
                </a:lnTo>
                <a:lnTo>
                  <a:pt x="5244816" y="939124"/>
                </a:lnTo>
                <a:lnTo>
                  <a:pt x="5244816" y="930886"/>
                </a:lnTo>
                <a:lnTo>
                  <a:pt x="5242070" y="925394"/>
                </a:lnTo>
                <a:lnTo>
                  <a:pt x="5247562" y="925394"/>
                </a:lnTo>
                <a:lnTo>
                  <a:pt x="5247562" y="917156"/>
                </a:lnTo>
                <a:lnTo>
                  <a:pt x="5239324" y="917156"/>
                </a:lnTo>
                <a:close/>
                <a:moveTo>
                  <a:pt x="5118501" y="917156"/>
                </a:moveTo>
                <a:lnTo>
                  <a:pt x="5118501" y="919902"/>
                </a:lnTo>
                <a:lnTo>
                  <a:pt x="5123993" y="922648"/>
                </a:lnTo>
                <a:lnTo>
                  <a:pt x="5123993" y="917156"/>
                </a:lnTo>
                <a:lnTo>
                  <a:pt x="5118501" y="917156"/>
                </a:lnTo>
                <a:close/>
                <a:moveTo>
                  <a:pt x="5082803" y="917156"/>
                </a:moveTo>
                <a:lnTo>
                  <a:pt x="5085549" y="922648"/>
                </a:lnTo>
                <a:lnTo>
                  <a:pt x="5088295" y="928140"/>
                </a:lnTo>
                <a:lnTo>
                  <a:pt x="5091041" y="930886"/>
                </a:lnTo>
                <a:lnTo>
                  <a:pt x="5093787" y="936378"/>
                </a:lnTo>
                <a:lnTo>
                  <a:pt x="5091041" y="939124"/>
                </a:lnTo>
                <a:lnTo>
                  <a:pt x="5091041" y="941870"/>
                </a:lnTo>
                <a:lnTo>
                  <a:pt x="5093787" y="947362"/>
                </a:lnTo>
                <a:lnTo>
                  <a:pt x="5107517" y="947362"/>
                </a:lnTo>
                <a:lnTo>
                  <a:pt x="5110263" y="955600"/>
                </a:lnTo>
                <a:lnTo>
                  <a:pt x="5113009" y="961092"/>
                </a:lnTo>
                <a:lnTo>
                  <a:pt x="5118501" y="961092"/>
                </a:lnTo>
                <a:lnTo>
                  <a:pt x="5118501" y="955600"/>
                </a:lnTo>
                <a:lnTo>
                  <a:pt x="5118501" y="952854"/>
                </a:lnTo>
                <a:lnTo>
                  <a:pt x="5118501" y="950108"/>
                </a:lnTo>
                <a:lnTo>
                  <a:pt x="5118501" y="944616"/>
                </a:lnTo>
                <a:lnTo>
                  <a:pt x="5115755" y="944616"/>
                </a:lnTo>
                <a:lnTo>
                  <a:pt x="5113009" y="944616"/>
                </a:lnTo>
                <a:lnTo>
                  <a:pt x="5104771" y="944616"/>
                </a:lnTo>
                <a:lnTo>
                  <a:pt x="5104771" y="941870"/>
                </a:lnTo>
                <a:lnTo>
                  <a:pt x="5102025" y="939124"/>
                </a:lnTo>
                <a:lnTo>
                  <a:pt x="5102025" y="936378"/>
                </a:lnTo>
                <a:lnTo>
                  <a:pt x="5102025" y="930886"/>
                </a:lnTo>
                <a:lnTo>
                  <a:pt x="5102025" y="928140"/>
                </a:lnTo>
                <a:lnTo>
                  <a:pt x="5096533" y="925394"/>
                </a:lnTo>
                <a:lnTo>
                  <a:pt x="5091041" y="922648"/>
                </a:lnTo>
                <a:lnTo>
                  <a:pt x="5082803" y="917156"/>
                </a:lnTo>
                <a:close/>
                <a:moveTo>
                  <a:pt x="1263149" y="911664"/>
                </a:moveTo>
                <a:lnTo>
                  <a:pt x="1263149" y="917156"/>
                </a:lnTo>
                <a:lnTo>
                  <a:pt x="1263149" y="922648"/>
                </a:lnTo>
                <a:lnTo>
                  <a:pt x="1271389" y="925394"/>
                </a:lnTo>
                <a:lnTo>
                  <a:pt x="1276880" y="922648"/>
                </a:lnTo>
                <a:lnTo>
                  <a:pt x="1279625" y="922648"/>
                </a:lnTo>
                <a:lnTo>
                  <a:pt x="1282371" y="917156"/>
                </a:lnTo>
                <a:lnTo>
                  <a:pt x="1279625" y="917156"/>
                </a:lnTo>
                <a:lnTo>
                  <a:pt x="1279625" y="914410"/>
                </a:lnTo>
                <a:lnTo>
                  <a:pt x="1279625" y="911664"/>
                </a:lnTo>
                <a:lnTo>
                  <a:pt x="1263149" y="911664"/>
                </a:lnTo>
                <a:close/>
                <a:moveTo>
                  <a:pt x="5102025" y="911664"/>
                </a:moveTo>
                <a:lnTo>
                  <a:pt x="5102025" y="917156"/>
                </a:lnTo>
                <a:lnTo>
                  <a:pt x="5104771" y="919902"/>
                </a:lnTo>
                <a:lnTo>
                  <a:pt x="5115755" y="922648"/>
                </a:lnTo>
                <a:lnTo>
                  <a:pt x="5115755" y="917156"/>
                </a:lnTo>
                <a:lnTo>
                  <a:pt x="5110263" y="917156"/>
                </a:lnTo>
                <a:lnTo>
                  <a:pt x="5107517" y="914410"/>
                </a:lnTo>
                <a:lnTo>
                  <a:pt x="5104771" y="911664"/>
                </a:lnTo>
                <a:lnTo>
                  <a:pt x="5102025" y="911664"/>
                </a:lnTo>
                <a:close/>
                <a:moveTo>
                  <a:pt x="6024673" y="906172"/>
                </a:moveTo>
                <a:lnTo>
                  <a:pt x="6024673" y="908918"/>
                </a:lnTo>
                <a:lnTo>
                  <a:pt x="6030165" y="908918"/>
                </a:lnTo>
                <a:lnTo>
                  <a:pt x="6032911" y="908918"/>
                </a:lnTo>
                <a:lnTo>
                  <a:pt x="6032911" y="906172"/>
                </a:lnTo>
                <a:lnTo>
                  <a:pt x="6030165" y="906172"/>
                </a:lnTo>
                <a:lnTo>
                  <a:pt x="6027419" y="906172"/>
                </a:lnTo>
                <a:lnTo>
                  <a:pt x="6024673" y="906172"/>
                </a:lnTo>
                <a:close/>
                <a:moveTo>
                  <a:pt x="5708886" y="906172"/>
                </a:moveTo>
                <a:lnTo>
                  <a:pt x="5708886" y="914410"/>
                </a:lnTo>
                <a:lnTo>
                  <a:pt x="5714378" y="914410"/>
                </a:lnTo>
                <a:lnTo>
                  <a:pt x="5717124" y="908918"/>
                </a:lnTo>
                <a:lnTo>
                  <a:pt x="5714378" y="908918"/>
                </a:lnTo>
                <a:lnTo>
                  <a:pt x="5708886" y="906172"/>
                </a:lnTo>
                <a:close/>
                <a:moveTo>
                  <a:pt x="5165182" y="906172"/>
                </a:moveTo>
                <a:lnTo>
                  <a:pt x="5162436" y="908918"/>
                </a:lnTo>
                <a:lnTo>
                  <a:pt x="5159690" y="908918"/>
                </a:lnTo>
                <a:lnTo>
                  <a:pt x="5159690" y="917156"/>
                </a:lnTo>
                <a:lnTo>
                  <a:pt x="5165182" y="917156"/>
                </a:lnTo>
                <a:lnTo>
                  <a:pt x="5167928" y="911664"/>
                </a:lnTo>
                <a:lnTo>
                  <a:pt x="5165182" y="906172"/>
                </a:lnTo>
                <a:close/>
                <a:moveTo>
                  <a:pt x="810063" y="906172"/>
                </a:moveTo>
                <a:lnTo>
                  <a:pt x="807317" y="911664"/>
                </a:lnTo>
                <a:lnTo>
                  <a:pt x="804571" y="914410"/>
                </a:lnTo>
                <a:lnTo>
                  <a:pt x="801825" y="917156"/>
                </a:lnTo>
                <a:lnTo>
                  <a:pt x="799080" y="919902"/>
                </a:lnTo>
                <a:lnTo>
                  <a:pt x="804571" y="919902"/>
                </a:lnTo>
                <a:lnTo>
                  <a:pt x="807317" y="917156"/>
                </a:lnTo>
                <a:lnTo>
                  <a:pt x="810063" y="914410"/>
                </a:lnTo>
                <a:lnTo>
                  <a:pt x="812809" y="914410"/>
                </a:lnTo>
                <a:lnTo>
                  <a:pt x="812809" y="908918"/>
                </a:lnTo>
                <a:lnTo>
                  <a:pt x="810063" y="906172"/>
                </a:lnTo>
                <a:close/>
                <a:moveTo>
                  <a:pt x="5791265" y="900680"/>
                </a:moveTo>
                <a:lnTo>
                  <a:pt x="5791265" y="903426"/>
                </a:lnTo>
                <a:lnTo>
                  <a:pt x="5788519" y="906172"/>
                </a:lnTo>
                <a:lnTo>
                  <a:pt x="5791265" y="906172"/>
                </a:lnTo>
                <a:lnTo>
                  <a:pt x="5794011" y="906172"/>
                </a:lnTo>
                <a:lnTo>
                  <a:pt x="5796757" y="903426"/>
                </a:lnTo>
                <a:lnTo>
                  <a:pt x="5794011" y="903426"/>
                </a:lnTo>
                <a:lnTo>
                  <a:pt x="5794011" y="900680"/>
                </a:lnTo>
                <a:lnTo>
                  <a:pt x="5791265" y="900680"/>
                </a:lnTo>
                <a:close/>
                <a:moveTo>
                  <a:pt x="903426" y="900680"/>
                </a:moveTo>
                <a:lnTo>
                  <a:pt x="895189" y="903426"/>
                </a:lnTo>
                <a:lnTo>
                  <a:pt x="895189" y="911664"/>
                </a:lnTo>
                <a:lnTo>
                  <a:pt x="903426" y="911664"/>
                </a:lnTo>
                <a:lnTo>
                  <a:pt x="903426" y="908918"/>
                </a:lnTo>
                <a:lnTo>
                  <a:pt x="908919" y="906172"/>
                </a:lnTo>
                <a:lnTo>
                  <a:pt x="911664" y="906172"/>
                </a:lnTo>
                <a:lnTo>
                  <a:pt x="911664" y="903426"/>
                </a:lnTo>
                <a:lnTo>
                  <a:pt x="903426" y="900680"/>
                </a:lnTo>
                <a:close/>
                <a:moveTo>
                  <a:pt x="1556969" y="895188"/>
                </a:moveTo>
                <a:lnTo>
                  <a:pt x="1565206" y="897934"/>
                </a:lnTo>
                <a:lnTo>
                  <a:pt x="1573445" y="897934"/>
                </a:lnTo>
                <a:lnTo>
                  <a:pt x="1573445" y="914410"/>
                </a:lnTo>
                <a:lnTo>
                  <a:pt x="1559715" y="914410"/>
                </a:lnTo>
                <a:lnTo>
                  <a:pt x="1562461" y="903426"/>
                </a:lnTo>
                <a:lnTo>
                  <a:pt x="1559715" y="903426"/>
                </a:lnTo>
                <a:lnTo>
                  <a:pt x="1556969" y="900680"/>
                </a:lnTo>
                <a:lnTo>
                  <a:pt x="1556969" y="897934"/>
                </a:lnTo>
                <a:lnTo>
                  <a:pt x="1556969" y="895188"/>
                </a:lnTo>
                <a:close/>
                <a:moveTo>
                  <a:pt x="1419670" y="892443"/>
                </a:moveTo>
                <a:lnTo>
                  <a:pt x="1414179" y="900680"/>
                </a:lnTo>
                <a:lnTo>
                  <a:pt x="1419670" y="903426"/>
                </a:lnTo>
                <a:lnTo>
                  <a:pt x="1425162" y="903426"/>
                </a:lnTo>
                <a:lnTo>
                  <a:pt x="1433400" y="897934"/>
                </a:lnTo>
                <a:lnTo>
                  <a:pt x="1433400" y="895188"/>
                </a:lnTo>
                <a:lnTo>
                  <a:pt x="1427907" y="892443"/>
                </a:lnTo>
                <a:lnTo>
                  <a:pt x="1419670" y="892443"/>
                </a:lnTo>
                <a:close/>
                <a:moveTo>
                  <a:pt x="5225594" y="892442"/>
                </a:moveTo>
                <a:lnTo>
                  <a:pt x="5225594" y="895188"/>
                </a:lnTo>
                <a:lnTo>
                  <a:pt x="5222848" y="895188"/>
                </a:lnTo>
                <a:lnTo>
                  <a:pt x="5222848" y="900680"/>
                </a:lnTo>
                <a:lnTo>
                  <a:pt x="5231086" y="900680"/>
                </a:lnTo>
                <a:lnTo>
                  <a:pt x="5239324" y="900680"/>
                </a:lnTo>
                <a:lnTo>
                  <a:pt x="5239324" y="897934"/>
                </a:lnTo>
                <a:lnTo>
                  <a:pt x="5242070" y="895188"/>
                </a:lnTo>
                <a:lnTo>
                  <a:pt x="5231086" y="900680"/>
                </a:lnTo>
                <a:lnTo>
                  <a:pt x="5231086" y="895188"/>
                </a:lnTo>
                <a:lnTo>
                  <a:pt x="5228340" y="892442"/>
                </a:lnTo>
                <a:lnTo>
                  <a:pt x="5225594" y="892442"/>
                </a:lnTo>
                <a:close/>
                <a:moveTo>
                  <a:pt x="1046217" y="889697"/>
                </a:moveTo>
                <a:lnTo>
                  <a:pt x="1040725" y="892443"/>
                </a:lnTo>
                <a:lnTo>
                  <a:pt x="1035233" y="895188"/>
                </a:lnTo>
                <a:lnTo>
                  <a:pt x="1035233" y="900680"/>
                </a:lnTo>
                <a:lnTo>
                  <a:pt x="1032487" y="903426"/>
                </a:lnTo>
                <a:lnTo>
                  <a:pt x="1029742" y="911664"/>
                </a:lnTo>
                <a:lnTo>
                  <a:pt x="1035233" y="903426"/>
                </a:lnTo>
                <a:lnTo>
                  <a:pt x="1040725" y="895188"/>
                </a:lnTo>
                <a:lnTo>
                  <a:pt x="1043472" y="895188"/>
                </a:lnTo>
                <a:lnTo>
                  <a:pt x="1046217" y="897934"/>
                </a:lnTo>
                <a:lnTo>
                  <a:pt x="1048964" y="897934"/>
                </a:lnTo>
                <a:lnTo>
                  <a:pt x="1048964" y="895188"/>
                </a:lnTo>
                <a:lnTo>
                  <a:pt x="1046217" y="895188"/>
                </a:lnTo>
                <a:lnTo>
                  <a:pt x="1046217" y="892443"/>
                </a:lnTo>
                <a:lnTo>
                  <a:pt x="1046217" y="889697"/>
                </a:lnTo>
                <a:close/>
                <a:moveTo>
                  <a:pt x="1002281" y="889697"/>
                </a:moveTo>
                <a:lnTo>
                  <a:pt x="1002281" y="895188"/>
                </a:lnTo>
                <a:lnTo>
                  <a:pt x="999536" y="897934"/>
                </a:lnTo>
                <a:lnTo>
                  <a:pt x="996790" y="900680"/>
                </a:lnTo>
                <a:lnTo>
                  <a:pt x="996790" y="906172"/>
                </a:lnTo>
                <a:lnTo>
                  <a:pt x="1002281" y="906172"/>
                </a:lnTo>
                <a:lnTo>
                  <a:pt x="1002281" y="911664"/>
                </a:lnTo>
                <a:lnTo>
                  <a:pt x="1005028" y="908918"/>
                </a:lnTo>
                <a:lnTo>
                  <a:pt x="1010520" y="906172"/>
                </a:lnTo>
                <a:lnTo>
                  <a:pt x="1013265" y="903426"/>
                </a:lnTo>
                <a:lnTo>
                  <a:pt x="1016011" y="903426"/>
                </a:lnTo>
                <a:lnTo>
                  <a:pt x="1016011" y="895188"/>
                </a:lnTo>
                <a:lnTo>
                  <a:pt x="1010520" y="892443"/>
                </a:lnTo>
                <a:lnTo>
                  <a:pt x="1007773" y="889697"/>
                </a:lnTo>
                <a:lnTo>
                  <a:pt x="1002281" y="889697"/>
                </a:lnTo>
                <a:close/>
                <a:moveTo>
                  <a:pt x="5329941" y="889696"/>
                </a:moveTo>
                <a:lnTo>
                  <a:pt x="5329941" y="895188"/>
                </a:lnTo>
                <a:lnTo>
                  <a:pt x="5332687" y="897934"/>
                </a:lnTo>
                <a:lnTo>
                  <a:pt x="5335433" y="897934"/>
                </a:lnTo>
                <a:lnTo>
                  <a:pt x="5338179" y="897934"/>
                </a:lnTo>
                <a:lnTo>
                  <a:pt x="5338179" y="895188"/>
                </a:lnTo>
                <a:lnTo>
                  <a:pt x="5338179" y="892442"/>
                </a:lnTo>
                <a:lnTo>
                  <a:pt x="5335433" y="889696"/>
                </a:lnTo>
                <a:lnTo>
                  <a:pt x="5329941" y="889696"/>
                </a:lnTo>
                <a:close/>
                <a:moveTo>
                  <a:pt x="5305227" y="889696"/>
                </a:moveTo>
                <a:lnTo>
                  <a:pt x="5305227" y="892442"/>
                </a:lnTo>
                <a:lnTo>
                  <a:pt x="5310719" y="892442"/>
                </a:lnTo>
                <a:lnTo>
                  <a:pt x="5310719" y="889696"/>
                </a:lnTo>
                <a:lnTo>
                  <a:pt x="5305227" y="889696"/>
                </a:lnTo>
                <a:close/>
                <a:moveTo>
                  <a:pt x="983059" y="884205"/>
                </a:moveTo>
                <a:lnTo>
                  <a:pt x="983059" y="889697"/>
                </a:lnTo>
                <a:lnTo>
                  <a:pt x="991298" y="892443"/>
                </a:lnTo>
                <a:lnTo>
                  <a:pt x="994043" y="892443"/>
                </a:lnTo>
                <a:lnTo>
                  <a:pt x="996790" y="892443"/>
                </a:lnTo>
                <a:lnTo>
                  <a:pt x="996790" y="889697"/>
                </a:lnTo>
                <a:lnTo>
                  <a:pt x="996790" y="886951"/>
                </a:lnTo>
                <a:lnTo>
                  <a:pt x="994043" y="884205"/>
                </a:lnTo>
                <a:lnTo>
                  <a:pt x="988551" y="886951"/>
                </a:lnTo>
                <a:lnTo>
                  <a:pt x="983059" y="884205"/>
                </a:lnTo>
                <a:close/>
                <a:moveTo>
                  <a:pt x="5113009" y="884204"/>
                </a:moveTo>
                <a:lnTo>
                  <a:pt x="5113009" y="886950"/>
                </a:lnTo>
                <a:lnTo>
                  <a:pt x="5110263" y="889696"/>
                </a:lnTo>
                <a:lnTo>
                  <a:pt x="5107517" y="889696"/>
                </a:lnTo>
                <a:lnTo>
                  <a:pt x="5104771" y="892442"/>
                </a:lnTo>
                <a:lnTo>
                  <a:pt x="5113009" y="892442"/>
                </a:lnTo>
                <a:lnTo>
                  <a:pt x="5118501" y="897934"/>
                </a:lnTo>
                <a:lnTo>
                  <a:pt x="5123993" y="895188"/>
                </a:lnTo>
                <a:lnTo>
                  <a:pt x="5129485" y="892442"/>
                </a:lnTo>
                <a:lnTo>
                  <a:pt x="5143214" y="889696"/>
                </a:lnTo>
                <a:lnTo>
                  <a:pt x="5143214" y="884204"/>
                </a:lnTo>
                <a:lnTo>
                  <a:pt x="5132230" y="884204"/>
                </a:lnTo>
                <a:lnTo>
                  <a:pt x="5123993" y="889696"/>
                </a:lnTo>
                <a:lnTo>
                  <a:pt x="5121247" y="884204"/>
                </a:lnTo>
                <a:lnTo>
                  <a:pt x="5113009" y="884204"/>
                </a:lnTo>
                <a:close/>
                <a:moveTo>
                  <a:pt x="5167928" y="881458"/>
                </a:moveTo>
                <a:lnTo>
                  <a:pt x="5170674" y="884204"/>
                </a:lnTo>
                <a:lnTo>
                  <a:pt x="5176166" y="884204"/>
                </a:lnTo>
                <a:lnTo>
                  <a:pt x="5176166" y="881458"/>
                </a:lnTo>
                <a:lnTo>
                  <a:pt x="5167928" y="881458"/>
                </a:lnTo>
                <a:close/>
                <a:moveTo>
                  <a:pt x="1032487" y="878713"/>
                </a:moveTo>
                <a:lnTo>
                  <a:pt x="1032487" y="884205"/>
                </a:lnTo>
                <a:lnTo>
                  <a:pt x="1035233" y="884205"/>
                </a:lnTo>
                <a:lnTo>
                  <a:pt x="1035233" y="878713"/>
                </a:lnTo>
                <a:lnTo>
                  <a:pt x="1032487" y="878713"/>
                </a:lnTo>
                <a:close/>
                <a:moveTo>
                  <a:pt x="952854" y="878713"/>
                </a:moveTo>
                <a:lnTo>
                  <a:pt x="950108" y="884205"/>
                </a:lnTo>
                <a:lnTo>
                  <a:pt x="950108" y="886951"/>
                </a:lnTo>
                <a:lnTo>
                  <a:pt x="952854" y="892443"/>
                </a:lnTo>
                <a:lnTo>
                  <a:pt x="955600" y="895188"/>
                </a:lnTo>
                <a:lnTo>
                  <a:pt x="958346" y="895188"/>
                </a:lnTo>
                <a:lnTo>
                  <a:pt x="961092" y="892443"/>
                </a:lnTo>
                <a:lnTo>
                  <a:pt x="961092" y="889697"/>
                </a:lnTo>
                <a:lnTo>
                  <a:pt x="955600" y="886951"/>
                </a:lnTo>
                <a:lnTo>
                  <a:pt x="950108" y="886951"/>
                </a:lnTo>
                <a:lnTo>
                  <a:pt x="952854" y="884205"/>
                </a:lnTo>
                <a:lnTo>
                  <a:pt x="952854" y="878713"/>
                </a:lnTo>
                <a:close/>
                <a:moveTo>
                  <a:pt x="5898358" y="878712"/>
                </a:moveTo>
                <a:lnTo>
                  <a:pt x="5901104" y="881458"/>
                </a:lnTo>
                <a:lnTo>
                  <a:pt x="5903850" y="886950"/>
                </a:lnTo>
                <a:lnTo>
                  <a:pt x="5906596" y="884204"/>
                </a:lnTo>
                <a:lnTo>
                  <a:pt x="5909342" y="881458"/>
                </a:lnTo>
                <a:lnTo>
                  <a:pt x="5903850" y="881458"/>
                </a:lnTo>
                <a:lnTo>
                  <a:pt x="5898358" y="878712"/>
                </a:lnTo>
                <a:close/>
                <a:moveTo>
                  <a:pt x="5275021" y="873220"/>
                </a:moveTo>
                <a:lnTo>
                  <a:pt x="5272275" y="878712"/>
                </a:lnTo>
                <a:lnTo>
                  <a:pt x="5277767" y="878712"/>
                </a:lnTo>
                <a:lnTo>
                  <a:pt x="5277767" y="873220"/>
                </a:lnTo>
                <a:lnTo>
                  <a:pt x="5275021" y="873220"/>
                </a:lnTo>
                <a:close/>
                <a:moveTo>
                  <a:pt x="930887" y="870475"/>
                </a:moveTo>
                <a:lnTo>
                  <a:pt x="928141" y="873221"/>
                </a:lnTo>
                <a:lnTo>
                  <a:pt x="928141" y="878713"/>
                </a:lnTo>
                <a:lnTo>
                  <a:pt x="930887" y="878713"/>
                </a:lnTo>
                <a:lnTo>
                  <a:pt x="933632" y="881459"/>
                </a:lnTo>
                <a:lnTo>
                  <a:pt x="936378" y="884205"/>
                </a:lnTo>
                <a:lnTo>
                  <a:pt x="936378" y="875967"/>
                </a:lnTo>
                <a:lnTo>
                  <a:pt x="930887" y="870475"/>
                </a:lnTo>
                <a:close/>
                <a:moveTo>
                  <a:pt x="5873644" y="870475"/>
                </a:moveTo>
                <a:lnTo>
                  <a:pt x="5873644" y="878712"/>
                </a:lnTo>
                <a:lnTo>
                  <a:pt x="5879136" y="875966"/>
                </a:lnTo>
                <a:lnTo>
                  <a:pt x="5879136" y="870475"/>
                </a:lnTo>
                <a:lnTo>
                  <a:pt x="5873644" y="870475"/>
                </a:lnTo>
                <a:close/>
                <a:moveTo>
                  <a:pt x="5203626" y="870475"/>
                </a:moveTo>
                <a:lnTo>
                  <a:pt x="5206372" y="875966"/>
                </a:lnTo>
                <a:lnTo>
                  <a:pt x="5209118" y="878712"/>
                </a:lnTo>
                <a:lnTo>
                  <a:pt x="5211864" y="878712"/>
                </a:lnTo>
                <a:lnTo>
                  <a:pt x="5211864" y="870475"/>
                </a:lnTo>
                <a:lnTo>
                  <a:pt x="5203626" y="870475"/>
                </a:lnTo>
                <a:close/>
                <a:moveTo>
                  <a:pt x="1013265" y="867729"/>
                </a:moveTo>
                <a:lnTo>
                  <a:pt x="1013265" y="873221"/>
                </a:lnTo>
                <a:lnTo>
                  <a:pt x="1024250" y="873221"/>
                </a:lnTo>
                <a:lnTo>
                  <a:pt x="1018758" y="870475"/>
                </a:lnTo>
                <a:lnTo>
                  <a:pt x="1013265" y="867729"/>
                </a:lnTo>
                <a:close/>
                <a:moveTo>
                  <a:pt x="1414179" y="864983"/>
                </a:moveTo>
                <a:lnTo>
                  <a:pt x="1414179" y="870475"/>
                </a:lnTo>
                <a:lnTo>
                  <a:pt x="1416924" y="870475"/>
                </a:lnTo>
                <a:lnTo>
                  <a:pt x="1419670" y="870475"/>
                </a:lnTo>
                <a:lnTo>
                  <a:pt x="1419670" y="873221"/>
                </a:lnTo>
                <a:lnTo>
                  <a:pt x="1422416" y="873221"/>
                </a:lnTo>
                <a:lnTo>
                  <a:pt x="1422416" y="867729"/>
                </a:lnTo>
                <a:lnTo>
                  <a:pt x="1419670" y="867729"/>
                </a:lnTo>
                <a:lnTo>
                  <a:pt x="1416924" y="864983"/>
                </a:lnTo>
                <a:lnTo>
                  <a:pt x="1414179" y="864983"/>
                </a:lnTo>
                <a:close/>
                <a:moveTo>
                  <a:pt x="5527651" y="864983"/>
                </a:moveTo>
                <a:lnTo>
                  <a:pt x="5522159" y="867729"/>
                </a:lnTo>
                <a:lnTo>
                  <a:pt x="5522159" y="870475"/>
                </a:lnTo>
                <a:lnTo>
                  <a:pt x="5527651" y="870475"/>
                </a:lnTo>
                <a:lnTo>
                  <a:pt x="5530397" y="870475"/>
                </a:lnTo>
                <a:lnTo>
                  <a:pt x="5530397" y="867729"/>
                </a:lnTo>
                <a:lnTo>
                  <a:pt x="5527651" y="864983"/>
                </a:lnTo>
                <a:close/>
                <a:moveTo>
                  <a:pt x="1548731" y="856745"/>
                </a:moveTo>
                <a:lnTo>
                  <a:pt x="1548731" y="862237"/>
                </a:lnTo>
                <a:lnTo>
                  <a:pt x="1554223" y="862237"/>
                </a:lnTo>
                <a:lnTo>
                  <a:pt x="1554223" y="859491"/>
                </a:lnTo>
                <a:lnTo>
                  <a:pt x="1551477" y="856745"/>
                </a:lnTo>
                <a:lnTo>
                  <a:pt x="1548731" y="856745"/>
                </a:lnTo>
                <a:close/>
                <a:moveTo>
                  <a:pt x="1114868" y="856745"/>
                </a:moveTo>
                <a:lnTo>
                  <a:pt x="1114868" y="862237"/>
                </a:lnTo>
                <a:lnTo>
                  <a:pt x="1120359" y="862237"/>
                </a:lnTo>
                <a:lnTo>
                  <a:pt x="1123105" y="856745"/>
                </a:lnTo>
                <a:lnTo>
                  <a:pt x="1114868" y="856745"/>
                </a:lnTo>
                <a:close/>
                <a:moveTo>
                  <a:pt x="958346" y="856745"/>
                </a:moveTo>
                <a:lnTo>
                  <a:pt x="958346" y="862237"/>
                </a:lnTo>
                <a:lnTo>
                  <a:pt x="963838" y="862237"/>
                </a:lnTo>
                <a:lnTo>
                  <a:pt x="963838" y="856745"/>
                </a:lnTo>
                <a:lnTo>
                  <a:pt x="958346" y="856745"/>
                </a:lnTo>
                <a:close/>
                <a:moveTo>
                  <a:pt x="922648" y="856745"/>
                </a:moveTo>
                <a:lnTo>
                  <a:pt x="919902" y="859491"/>
                </a:lnTo>
                <a:lnTo>
                  <a:pt x="919902" y="862237"/>
                </a:lnTo>
                <a:lnTo>
                  <a:pt x="922648" y="862237"/>
                </a:lnTo>
                <a:lnTo>
                  <a:pt x="925395" y="862237"/>
                </a:lnTo>
                <a:lnTo>
                  <a:pt x="925395" y="859491"/>
                </a:lnTo>
                <a:lnTo>
                  <a:pt x="922648" y="856745"/>
                </a:lnTo>
                <a:close/>
                <a:moveTo>
                  <a:pt x="5615523" y="853999"/>
                </a:moveTo>
                <a:lnTo>
                  <a:pt x="5607285" y="856745"/>
                </a:lnTo>
                <a:lnTo>
                  <a:pt x="5604539" y="862237"/>
                </a:lnTo>
                <a:lnTo>
                  <a:pt x="5610031" y="862237"/>
                </a:lnTo>
                <a:lnTo>
                  <a:pt x="5615523" y="867729"/>
                </a:lnTo>
                <a:lnTo>
                  <a:pt x="5615523" y="853999"/>
                </a:lnTo>
                <a:close/>
                <a:moveTo>
                  <a:pt x="5069073" y="853999"/>
                </a:moveTo>
                <a:lnTo>
                  <a:pt x="5069073" y="859491"/>
                </a:lnTo>
                <a:lnTo>
                  <a:pt x="5071819" y="864983"/>
                </a:lnTo>
                <a:lnTo>
                  <a:pt x="5077311" y="867729"/>
                </a:lnTo>
                <a:lnTo>
                  <a:pt x="5080057" y="862237"/>
                </a:lnTo>
                <a:lnTo>
                  <a:pt x="5080057" y="853999"/>
                </a:lnTo>
                <a:lnTo>
                  <a:pt x="5069073" y="853999"/>
                </a:lnTo>
                <a:close/>
                <a:moveTo>
                  <a:pt x="895189" y="851253"/>
                </a:moveTo>
                <a:lnTo>
                  <a:pt x="895189" y="859491"/>
                </a:lnTo>
                <a:lnTo>
                  <a:pt x="895189" y="862237"/>
                </a:lnTo>
                <a:lnTo>
                  <a:pt x="895189" y="864983"/>
                </a:lnTo>
                <a:lnTo>
                  <a:pt x="900680" y="859491"/>
                </a:lnTo>
                <a:lnTo>
                  <a:pt x="911664" y="859491"/>
                </a:lnTo>
                <a:lnTo>
                  <a:pt x="911664" y="856745"/>
                </a:lnTo>
                <a:lnTo>
                  <a:pt x="908919" y="856745"/>
                </a:lnTo>
                <a:lnTo>
                  <a:pt x="908919" y="853999"/>
                </a:lnTo>
                <a:lnTo>
                  <a:pt x="908919" y="851253"/>
                </a:lnTo>
                <a:lnTo>
                  <a:pt x="895189" y="851253"/>
                </a:lnTo>
                <a:close/>
                <a:moveTo>
                  <a:pt x="719446" y="851253"/>
                </a:moveTo>
                <a:lnTo>
                  <a:pt x="722192" y="853999"/>
                </a:lnTo>
                <a:lnTo>
                  <a:pt x="722192" y="856745"/>
                </a:lnTo>
                <a:lnTo>
                  <a:pt x="724938" y="856745"/>
                </a:lnTo>
                <a:lnTo>
                  <a:pt x="724938" y="851253"/>
                </a:lnTo>
                <a:lnTo>
                  <a:pt x="722192" y="851253"/>
                </a:lnTo>
                <a:lnTo>
                  <a:pt x="719446" y="851253"/>
                </a:lnTo>
                <a:close/>
                <a:moveTo>
                  <a:pt x="5307973" y="851253"/>
                </a:moveTo>
                <a:lnTo>
                  <a:pt x="5307973" y="856745"/>
                </a:lnTo>
                <a:lnTo>
                  <a:pt x="5310719" y="859491"/>
                </a:lnTo>
                <a:lnTo>
                  <a:pt x="5316211" y="859491"/>
                </a:lnTo>
                <a:lnTo>
                  <a:pt x="5316211" y="856745"/>
                </a:lnTo>
                <a:lnTo>
                  <a:pt x="5316211" y="853999"/>
                </a:lnTo>
                <a:lnTo>
                  <a:pt x="5313465" y="851253"/>
                </a:lnTo>
                <a:lnTo>
                  <a:pt x="5307973" y="851253"/>
                </a:lnTo>
                <a:close/>
                <a:moveTo>
                  <a:pt x="1449877" y="848507"/>
                </a:moveTo>
                <a:lnTo>
                  <a:pt x="1447130" y="851253"/>
                </a:lnTo>
                <a:lnTo>
                  <a:pt x="1447130" y="856745"/>
                </a:lnTo>
                <a:lnTo>
                  <a:pt x="1447130" y="859491"/>
                </a:lnTo>
                <a:lnTo>
                  <a:pt x="1452622" y="864983"/>
                </a:lnTo>
                <a:lnTo>
                  <a:pt x="1458113" y="867729"/>
                </a:lnTo>
                <a:lnTo>
                  <a:pt x="1458113" y="870475"/>
                </a:lnTo>
                <a:lnTo>
                  <a:pt x="1458113" y="873221"/>
                </a:lnTo>
                <a:lnTo>
                  <a:pt x="1471844" y="873221"/>
                </a:lnTo>
                <a:lnTo>
                  <a:pt x="1474589" y="873221"/>
                </a:lnTo>
                <a:lnTo>
                  <a:pt x="1480081" y="870475"/>
                </a:lnTo>
                <a:lnTo>
                  <a:pt x="1474589" y="864983"/>
                </a:lnTo>
                <a:lnTo>
                  <a:pt x="1474589" y="856745"/>
                </a:lnTo>
                <a:lnTo>
                  <a:pt x="1469098" y="856745"/>
                </a:lnTo>
                <a:lnTo>
                  <a:pt x="1466353" y="853999"/>
                </a:lnTo>
                <a:lnTo>
                  <a:pt x="1466353" y="851253"/>
                </a:lnTo>
                <a:lnTo>
                  <a:pt x="1455368" y="848507"/>
                </a:lnTo>
                <a:lnTo>
                  <a:pt x="1449877" y="848507"/>
                </a:lnTo>
                <a:close/>
                <a:moveTo>
                  <a:pt x="1013265" y="845761"/>
                </a:moveTo>
                <a:lnTo>
                  <a:pt x="1013265" y="851253"/>
                </a:lnTo>
                <a:lnTo>
                  <a:pt x="1018758" y="851253"/>
                </a:lnTo>
                <a:lnTo>
                  <a:pt x="1018758" y="845761"/>
                </a:lnTo>
                <a:lnTo>
                  <a:pt x="1013265" y="845761"/>
                </a:lnTo>
                <a:close/>
                <a:moveTo>
                  <a:pt x="1002281" y="845761"/>
                </a:moveTo>
                <a:lnTo>
                  <a:pt x="1002281" y="851253"/>
                </a:lnTo>
                <a:lnTo>
                  <a:pt x="1005028" y="851253"/>
                </a:lnTo>
                <a:lnTo>
                  <a:pt x="1005028" y="845761"/>
                </a:lnTo>
                <a:lnTo>
                  <a:pt x="1002281" y="845761"/>
                </a:lnTo>
                <a:close/>
                <a:moveTo>
                  <a:pt x="969330" y="845761"/>
                </a:moveTo>
                <a:lnTo>
                  <a:pt x="969330" y="848507"/>
                </a:lnTo>
                <a:lnTo>
                  <a:pt x="974822" y="851253"/>
                </a:lnTo>
                <a:lnTo>
                  <a:pt x="977568" y="848507"/>
                </a:lnTo>
                <a:lnTo>
                  <a:pt x="977568" y="845761"/>
                </a:lnTo>
                <a:lnTo>
                  <a:pt x="972076" y="845761"/>
                </a:lnTo>
                <a:lnTo>
                  <a:pt x="969330" y="845761"/>
                </a:lnTo>
                <a:close/>
                <a:moveTo>
                  <a:pt x="939124" y="845761"/>
                </a:moveTo>
                <a:lnTo>
                  <a:pt x="930887" y="848507"/>
                </a:lnTo>
                <a:lnTo>
                  <a:pt x="928141" y="851253"/>
                </a:lnTo>
                <a:lnTo>
                  <a:pt x="928141" y="856745"/>
                </a:lnTo>
                <a:lnTo>
                  <a:pt x="930887" y="853999"/>
                </a:lnTo>
                <a:lnTo>
                  <a:pt x="933632" y="851253"/>
                </a:lnTo>
                <a:lnTo>
                  <a:pt x="936378" y="851253"/>
                </a:lnTo>
                <a:lnTo>
                  <a:pt x="936378" y="856745"/>
                </a:lnTo>
                <a:lnTo>
                  <a:pt x="939124" y="856745"/>
                </a:lnTo>
                <a:lnTo>
                  <a:pt x="939124" y="845761"/>
                </a:lnTo>
                <a:close/>
                <a:moveTo>
                  <a:pt x="1290611" y="843015"/>
                </a:moveTo>
                <a:lnTo>
                  <a:pt x="1290611" y="845761"/>
                </a:lnTo>
                <a:lnTo>
                  <a:pt x="1287865" y="845761"/>
                </a:lnTo>
                <a:lnTo>
                  <a:pt x="1287865" y="848507"/>
                </a:lnTo>
                <a:lnTo>
                  <a:pt x="1296101" y="848507"/>
                </a:lnTo>
                <a:lnTo>
                  <a:pt x="1296101" y="843015"/>
                </a:lnTo>
                <a:lnTo>
                  <a:pt x="1290611" y="843015"/>
                </a:lnTo>
                <a:close/>
                <a:moveTo>
                  <a:pt x="1035233" y="843015"/>
                </a:moveTo>
                <a:lnTo>
                  <a:pt x="1040725" y="845761"/>
                </a:lnTo>
                <a:lnTo>
                  <a:pt x="1048964" y="845761"/>
                </a:lnTo>
                <a:lnTo>
                  <a:pt x="1054456" y="843015"/>
                </a:lnTo>
                <a:lnTo>
                  <a:pt x="1040725" y="843015"/>
                </a:lnTo>
                <a:lnTo>
                  <a:pt x="1035233" y="843015"/>
                </a:lnTo>
                <a:close/>
                <a:moveTo>
                  <a:pt x="656289" y="840269"/>
                </a:moveTo>
                <a:lnTo>
                  <a:pt x="656289" y="845761"/>
                </a:lnTo>
                <a:lnTo>
                  <a:pt x="656289" y="851253"/>
                </a:lnTo>
                <a:lnTo>
                  <a:pt x="659035" y="851253"/>
                </a:lnTo>
                <a:lnTo>
                  <a:pt x="661780" y="851253"/>
                </a:lnTo>
                <a:lnTo>
                  <a:pt x="661780" y="845761"/>
                </a:lnTo>
                <a:lnTo>
                  <a:pt x="661780" y="843015"/>
                </a:lnTo>
                <a:lnTo>
                  <a:pt x="656289" y="840269"/>
                </a:lnTo>
                <a:close/>
                <a:moveTo>
                  <a:pt x="5091041" y="837523"/>
                </a:moveTo>
                <a:lnTo>
                  <a:pt x="5091041" y="843015"/>
                </a:lnTo>
                <a:lnTo>
                  <a:pt x="5093787" y="845761"/>
                </a:lnTo>
                <a:lnTo>
                  <a:pt x="5099279" y="843015"/>
                </a:lnTo>
                <a:lnTo>
                  <a:pt x="5099279" y="840269"/>
                </a:lnTo>
                <a:lnTo>
                  <a:pt x="5096533" y="837523"/>
                </a:lnTo>
                <a:lnTo>
                  <a:pt x="5091041" y="837523"/>
                </a:lnTo>
                <a:close/>
                <a:moveTo>
                  <a:pt x="906173" y="837523"/>
                </a:moveTo>
                <a:lnTo>
                  <a:pt x="906173" y="840269"/>
                </a:lnTo>
                <a:lnTo>
                  <a:pt x="911664" y="843015"/>
                </a:lnTo>
                <a:lnTo>
                  <a:pt x="911664" y="837523"/>
                </a:lnTo>
                <a:lnTo>
                  <a:pt x="906173" y="837523"/>
                </a:lnTo>
                <a:close/>
                <a:moveTo>
                  <a:pt x="236154" y="837523"/>
                </a:moveTo>
                <a:lnTo>
                  <a:pt x="233408" y="840269"/>
                </a:lnTo>
                <a:lnTo>
                  <a:pt x="233408" y="843015"/>
                </a:lnTo>
                <a:lnTo>
                  <a:pt x="233408" y="845761"/>
                </a:lnTo>
                <a:lnTo>
                  <a:pt x="236154" y="848507"/>
                </a:lnTo>
                <a:lnTo>
                  <a:pt x="241646" y="845761"/>
                </a:lnTo>
                <a:lnTo>
                  <a:pt x="241646" y="843015"/>
                </a:lnTo>
                <a:lnTo>
                  <a:pt x="244392" y="837523"/>
                </a:lnTo>
                <a:lnTo>
                  <a:pt x="236154" y="837523"/>
                </a:lnTo>
                <a:close/>
                <a:moveTo>
                  <a:pt x="214186" y="837523"/>
                </a:moveTo>
                <a:lnTo>
                  <a:pt x="214186" y="843015"/>
                </a:lnTo>
                <a:lnTo>
                  <a:pt x="214186" y="848507"/>
                </a:lnTo>
                <a:lnTo>
                  <a:pt x="219678" y="845761"/>
                </a:lnTo>
                <a:lnTo>
                  <a:pt x="222424" y="843015"/>
                </a:lnTo>
                <a:lnTo>
                  <a:pt x="219678" y="840269"/>
                </a:lnTo>
                <a:lnTo>
                  <a:pt x="219678" y="837523"/>
                </a:lnTo>
                <a:lnTo>
                  <a:pt x="216932" y="837523"/>
                </a:lnTo>
                <a:lnTo>
                  <a:pt x="214186" y="837523"/>
                </a:lnTo>
                <a:close/>
                <a:moveTo>
                  <a:pt x="1518526" y="834777"/>
                </a:moveTo>
                <a:lnTo>
                  <a:pt x="1513033" y="837523"/>
                </a:lnTo>
                <a:lnTo>
                  <a:pt x="1507541" y="840269"/>
                </a:lnTo>
                <a:lnTo>
                  <a:pt x="1507541" y="848507"/>
                </a:lnTo>
                <a:lnTo>
                  <a:pt x="1504796" y="856745"/>
                </a:lnTo>
                <a:lnTo>
                  <a:pt x="1502050" y="853999"/>
                </a:lnTo>
                <a:lnTo>
                  <a:pt x="1496557" y="856745"/>
                </a:lnTo>
                <a:lnTo>
                  <a:pt x="1493811" y="859491"/>
                </a:lnTo>
                <a:lnTo>
                  <a:pt x="1491065" y="864983"/>
                </a:lnTo>
                <a:lnTo>
                  <a:pt x="1493811" y="864983"/>
                </a:lnTo>
                <a:lnTo>
                  <a:pt x="1496557" y="864983"/>
                </a:lnTo>
                <a:lnTo>
                  <a:pt x="1499304" y="862237"/>
                </a:lnTo>
                <a:lnTo>
                  <a:pt x="1504796" y="862237"/>
                </a:lnTo>
                <a:lnTo>
                  <a:pt x="1507541" y="856745"/>
                </a:lnTo>
                <a:lnTo>
                  <a:pt x="1515779" y="856745"/>
                </a:lnTo>
                <a:lnTo>
                  <a:pt x="1515779" y="859491"/>
                </a:lnTo>
                <a:lnTo>
                  <a:pt x="1518526" y="862237"/>
                </a:lnTo>
                <a:lnTo>
                  <a:pt x="1521272" y="862237"/>
                </a:lnTo>
                <a:lnTo>
                  <a:pt x="1521272" y="864983"/>
                </a:lnTo>
                <a:lnTo>
                  <a:pt x="1515779" y="864983"/>
                </a:lnTo>
                <a:lnTo>
                  <a:pt x="1513033" y="864983"/>
                </a:lnTo>
                <a:lnTo>
                  <a:pt x="1502050" y="864983"/>
                </a:lnTo>
                <a:lnTo>
                  <a:pt x="1499304" y="873221"/>
                </a:lnTo>
                <a:lnTo>
                  <a:pt x="1496557" y="881459"/>
                </a:lnTo>
                <a:lnTo>
                  <a:pt x="1502050" y="884205"/>
                </a:lnTo>
                <a:lnTo>
                  <a:pt x="1504796" y="889697"/>
                </a:lnTo>
                <a:lnTo>
                  <a:pt x="1507541" y="889697"/>
                </a:lnTo>
                <a:lnTo>
                  <a:pt x="1510287" y="889697"/>
                </a:lnTo>
                <a:lnTo>
                  <a:pt x="1515779" y="889697"/>
                </a:lnTo>
                <a:lnTo>
                  <a:pt x="1518526" y="889697"/>
                </a:lnTo>
                <a:lnTo>
                  <a:pt x="1521272" y="884205"/>
                </a:lnTo>
                <a:lnTo>
                  <a:pt x="1524017" y="878713"/>
                </a:lnTo>
                <a:lnTo>
                  <a:pt x="1526763" y="873221"/>
                </a:lnTo>
                <a:lnTo>
                  <a:pt x="1526763" y="862237"/>
                </a:lnTo>
                <a:lnTo>
                  <a:pt x="1532255" y="862237"/>
                </a:lnTo>
                <a:lnTo>
                  <a:pt x="1532255" y="856745"/>
                </a:lnTo>
                <a:lnTo>
                  <a:pt x="1535002" y="853999"/>
                </a:lnTo>
                <a:lnTo>
                  <a:pt x="1537748" y="851253"/>
                </a:lnTo>
                <a:lnTo>
                  <a:pt x="1535002" y="845761"/>
                </a:lnTo>
                <a:lnTo>
                  <a:pt x="1535002" y="840269"/>
                </a:lnTo>
                <a:lnTo>
                  <a:pt x="1518526" y="834777"/>
                </a:lnTo>
                <a:close/>
                <a:moveTo>
                  <a:pt x="1016011" y="832031"/>
                </a:moveTo>
                <a:lnTo>
                  <a:pt x="1013265" y="834777"/>
                </a:lnTo>
                <a:lnTo>
                  <a:pt x="1010520" y="834777"/>
                </a:lnTo>
                <a:lnTo>
                  <a:pt x="1013265" y="840269"/>
                </a:lnTo>
                <a:lnTo>
                  <a:pt x="1016011" y="840269"/>
                </a:lnTo>
                <a:lnTo>
                  <a:pt x="1021503" y="837523"/>
                </a:lnTo>
                <a:lnTo>
                  <a:pt x="1024250" y="832031"/>
                </a:lnTo>
                <a:lnTo>
                  <a:pt x="1018758" y="832031"/>
                </a:lnTo>
                <a:lnTo>
                  <a:pt x="1016011" y="832031"/>
                </a:lnTo>
                <a:close/>
                <a:moveTo>
                  <a:pt x="878712" y="832031"/>
                </a:moveTo>
                <a:lnTo>
                  <a:pt x="873221" y="834777"/>
                </a:lnTo>
                <a:lnTo>
                  <a:pt x="870475" y="834777"/>
                </a:lnTo>
                <a:lnTo>
                  <a:pt x="867729" y="837523"/>
                </a:lnTo>
                <a:lnTo>
                  <a:pt x="873221" y="837523"/>
                </a:lnTo>
                <a:lnTo>
                  <a:pt x="878712" y="840269"/>
                </a:lnTo>
                <a:lnTo>
                  <a:pt x="878712" y="832031"/>
                </a:lnTo>
                <a:close/>
                <a:moveTo>
                  <a:pt x="1488320" y="826539"/>
                </a:moveTo>
                <a:lnTo>
                  <a:pt x="1477335" y="829285"/>
                </a:lnTo>
                <a:lnTo>
                  <a:pt x="1477335" y="832031"/>
                </a:lnTo>
                <a:lnTo>
                  <a:pt x="1477335" y="834777"/>
                </a:lnTo>
                <a:lnTo>
                  <a:pt x="1474589" y="840269"/>
                </a:lnTo>
                <a:lnTo>
                  <a:pt x="1482829" y="843015"/>
                </a:lnTo>
                <a:lnTo>
                  <a:pt x="1493811" y="840269"/>
                </a:lnTo>
                <a:lnTo>
                  <a:pt x="1493811" y="829285"/>
                </a:lnTo>
                <a:lnTo>
                  <a:pt x="1496557" y="829285"/>
                </a:lnTo>
                <a:lnTo>
                  <a:pt x="1499304" y="826539"/>
                </a:lnTo>
                <a:lnTo>
                  <a:pt x="1488320" y="826539"/>
                </a:lnTo>
                <a:close/>
                <a:moveTo>
                  <a:pt x="5884628" y="826539"/>
                </a:moveTo>
                <a:lnTo>
                  <a:pt x="5884628" y="829285"/>
                </a:lnTo>
                <a:lnTo>
                  <a:pt x="5887374" y="832031"/>
                </a:lnTo>
                <a:lnTo>
                  <a:pt x="5892866" y="832031"/>
                </a:lnTo>
                <a:lnTo>
                  <a:pt x="5892866" y="829285"/>
                </a:lnTo>
                <a:lnTo>
                  <a:pt x="5887374" y="826539"/>
                </a:lnTo>
                <a:lnTo>
                  <a:pt x="5884628" y="826539"/>
                </a:lnTo>
                <a:close/>
                <a:moveTo>
                  <a:pt x="5250308" y="826539"/>
                </a:moveTo>
                <a:lnTo>
                  <a:pt x="5250308" y="834777"/>
                </a:lnTo>
                <a:lnTo>
                  <a:pt x="5255799" y="834777"/>
                </a:lnTo>
                <a:lnTo>
                  <a:pt x="5255799" y="829285"/>
                </a:lnTo>
                <a:lnTo>
                  <a:pt x="5250308" y="826539"/>
                </a:lnTo>
                <a:close/>
                <a:moveTo>
                  <a:pt x="1005028" y="823793"/>
                </a:moveTo>
                <a:lnTo>
                  <a:pt x="999536" y="826539"/>
                </a:lnTo>
                <a:lnTo>
                  <a:pt x="999536" y="832031"/>
                </a:lnTo>
                <a:lnTo>
                  <a:pt x="1005028" y="832031"/>
                </a:lnTo>
                <a:lnTo>
                  <a:pt x="1005028" y="823793"/>
                </a:lnTo>
                <a:close/>
                <a:moveTo>
                  <a:pt x="686494" y="823793"/>
                </a:moveTo>
                <a:lnTo>
                  <a:pt x="686494" y="832031"/>
                </a:lnTo>
                <a:lnTo>
                  <a:pt x="686494" y="843015"/>
                </a:lnTo>
                <a:lnTo>
                  <a:pt x="689240" y="851253"/>
                </a:lnTo>
                <a:lnTo>
                  <a:pt x="689240" y="853999"/>
                </a:lnTo>
                <a:lnTo>
                  <a:pt x="691986" y="853999"/>
                </a:lnTo>
                <a:lnTo>
                  <a:pt x="694732" y="848507"/>
                </a:lnTo>
                <a:lnTo>
                  <a:pt x="694732" y="837523"/>
                </a:lnTo>
                <a:lnTo>
                  <a:pt x="691986" y="829285"/>
                </a:lnTo>
                <a:lnTo>
                  <a:pt x="686494" y="823793"/>
                </a:lnTo>
                <a:close/>
                <a:moveTo>
                  <a:pt x="977568" y="821047"/>
                </a:moveTo>
                <a:lnTo>
                  <a:pt x="977568" y="823793"/>
                </a:lnTo>
                <a:lnTo>
                  <a:pt x="983059" y="823793"/>
                </a:lnTo>
                <a:lnTo>
                  <a:pt x="983059" y="826539"/>
                </a:lnTo>
                <a:lnTo>
                  <a:pt x="988551" y="829285"/>
                </a:lnTo>
                <a:lnTo>
                  <a:pt x="991298" y="823793"/>
                </a:lnTo>
                <a:lnTo>
                  <a:pt x="988551" y="821047"/>
                </a:lnTo>
                <a:lnTo>
                  <a:pt x="985806" y="821047"/>
                </a:lnTo>
                <a:lnTo>
                  <a:pt x="983059" y="821047"/>
                </a:lnTo>
                <a:lnTo>
                  <a:pt x="977568" y="821047"/>
                </a:lnTo>
                <a:close/>
                <a:moveTo>
                  <a:pt x="1378481" y="818301"/>
                </a:moveTo>
                <a:lnTo>
                  <a:pt x="1378481" y="821047"/>
                </a:lnTo>
                <a:lnTo>
                  <a:pt x="1378481" y="823793"/>
                </a:lnTo>
                <a:lnTo>
                  <a:pt x="1378481" y="826539"/>
                </a:lnTo>
                <a:lnTo>
                  <a:pt x="1381227" y="826539"/>
                </a:lnTo>
                <a:lnTo>
                  <a:pt x="1381227" y="823793"/>
                </a:lnTo>
                <a:lnTo>
                  <a:pt x="1383972" y="823793"/>
                </a:lnTo>
                <a:lnTo>
                  <a:pt x="1383972" y="818301"/>
                </a:lnTo>
                <a:lnTo>
                  <a:pt x="1381227" y="818301"/>
                </a:lnTo>
                <a:lnTo>
                  <a:pt x="1378481" y="818301"/>
                </a:lnTo>
                <a:close/>
                <a:moveTo>
                  <a:pt x="5077311" y="815555"/>
                </a:moveTo>
                <a:lnTo>
                  <a:pt x="5080057" y="818301"/>
                </a:lnTo>
                <a:lnTo>
                  <a:pt x="5082803" y="821047"/>
                </a:lnTo>
                <a:lnTo>
                  <a:pt x="5082803" y="818301"/>
                </a:lnTo>
                <a:lnTo>
                  <a:pt x="5085549" y="815555"/>
                </a:lnTo>
                <a:lnTo>
                  <a:pt x="5077311" y="815555"/>
                </a:lnTo>
                <a:close/>
                <a:moveTo>
                  <a:pt x="5426050" y="812809"/>
                </a:moveTo>
                <a:lnTo>
                  <a:pt x="5426050" y="818301"/>
                </a:lnTo>
                <a:lnTo>
                  <a:pt x="5428796" y="821047"/>
                </a:lnTo>
                <a:lnTo>
                  <a:pt x="5431542" y="818301"/>
                </a:lnTo>
                <a:lnTo>
                  <a:pt x="5431542" y="815555"/>
                </a:lnTo>
                <a:lnTo>
                  <a:pt x="5428796" y="812809"/>
                </a:lnTo>
                <a:lnTo>
                  <a:pt x="5426050" y="812809"/>
                </a:lnTo>
                <a:close/>
                <a:moveTo>
                  <a:pt x="5170674" y="812809"/>
                </a:moveTo>
                <a:lnTo>
                  <a:pt x="5176166" y="812809"/>
                </a:lnTo>
                <a:lnTo>
                  <a:pt x="5178912" y="821047"/>
                </a:lnTo>
                <a:lnTo>
                  <a:pt x="5176166" y="818301"/>
                </a:lnTo>
                <a:lnTo>
                  <a:pt x="5176166" y="815555"/>
                </a:lnTo>
                <a:lnTo>
                  <a:pt x="5170674" y="818301"/>
                </a:lnTo>
                <a:lnTo>
                  <a:pt x="5167928" y="815555"/>
                </a:lnTo>
                <a:lnTo>
                  <a:pt x="5170674" y="812809"/>
                </a:lnTo>
                <a:close/>
                <a:moveTo>
                  <a:pt x="930887" y="810063"/>
                </a:moveTo>
                <a:lnTo>
                  <a:pt x="928141" y="812809"/>
                </a:lnTo>
                <a:lnTo>
                  <a:pt x="930887" y="818301"/>
                </a:lnTo>
                <a:lnTo>
                  <a:pt x="936378" y="821047"/>
                </a:lnTo>
                <a:lnTo>
                  <a:pt x="939124" y="823793"/>
                </a:lnTo>
                <a:lnTo>
                  <a:pt x="936378" y="815555"/>
                </a:lnTo>
                <a:lnTo>
                  <a:pt x="930887" y="810063"/>
                </a:lnTo>
                <a:close/>
                <a:moveTo>
                  <a:pt x="1551477" y="807317"/>
                </a:moveTo>
                <a:lnTo>
                  <a:pt x="1551477" y="812809"/>
                </a:lnTo>
                <a:lnTo>
                  <a:pt x="1556969" y="812809"/>
                </a:lnTo>
                <a:lnTo>
                  <a:pt x="1556969" y="807317"/>
                </a:lnTo>
                <a:lnTo>
                  <a:pt x="1554223" y="807317"/>
                </a:lnTo>
                <a:lnTo>
                  <a:pt x="1551477" y="807317"/>
                </a:lnTo>
                <a:close/>
                <a:moveTo>
                  <a:pt x="5796757" y="807317"/>
                </a:moveTo>
                <a:lnTo>
                  <a:pt x="5796757" y="810063"/>
                </a:lnTo>
                <a:lnTo>
                  <a:pt x="5799503" y="812809"/>
                </a:lnTo>
                <a:lnTo>
                  <a:pt x="5802249" y="812809"/>
                </a:lnTo>
                <a:lnTo>
                  <a:pt x="5802249" y="807317"/>
                </a:lnTo>
                <a:lnTo>
                  <a:pt x="5796757" y="807317"/>
                </a:lnTo>
                <a:close/>
                <a:moveTo>
                  <a:pt x="991298" y="804571"/>
                </a:moveTo>
                <a:lnTo>
                  <a:pt x="988551" y="807317"/>
                </a:lnTo>
                <a:lnTo>
                  <a:pt x="988551" y="812809"/>
                </a:lnTo>
                <a:lnTo>
                  <a:pt x="994043" y="812809"/>
                </a:lnTo>
                <a:lnTo>
                  <a:pt x="994043" y="810063"/>
                </a:lnTo>
                <a:lnTo>
                  <a:pt x="994043" y="807317"/>
                </a:lnTo>
                <a:lnTo>
                  <a:pt x="996790" y="804571"/>
                </a:lnTo>
                <a:lnTo>
                  <a:pt x="991298" y="804571"/>
                </a:lnTo>
                <a:close/>
                <a:moveTo>
                  <a:pt x="5758313" y="804571"/>
                </a:moveTo>
                <a:lnTo>
                  <a:pt x="5755567" y="807317"/>
                </a:lnTo>
                <a:lnTo>
                  <a:pt x="5755567" y="810063"/>
                </a:lnTo>
                <a:lnTo>
                  <a:pt x="5761059" y="810063"/>
                </a:lnTo>
                <a:lnTo>
                  <a:pt x="5763805" y="812809"/>
                </a:lnTo>
                <a:lnTo>
                  <a:pt x="5766551" y="815555"/>
                </a:lnTo>
                <a:lnTo>
                  <a:pt x="5769297" y="812809"/>
                </a:lnTo>
                <a:lnTo>
                  <a:pt x="5766551" y="812809"/>
                </a:lnTo>
                <a:lnTo>
                  <a:pt x="5766551" y="807317"/>
                </a:lnTo>
                <a:lnTo>
                  <a:pt x="5761059" y="807317"/>
                </a:lnTo>
                <a:lnTo>
                  <a:pt x="5758313" y="804571"/>
                </a:lnTo>
                <a:close/>
                <a:moveTo>
                  <a:pt x="1005028" y="801825"/>
                </a:moveTo>
                <a:lnTo>
                  <a:pt x="1002281" y="804571"/>
                </a:lnTo>
                <a:lnTo>
                  <a:pt x="1002281" y="807317"/>
                </a:lnTo>
                <a:lnTo>
                  <a:pt x="1005028" y="807317"/>
                </a:lnTo>
                <a:lnTo>
                  <a:pt x="1005028" y="810063"/>
                </a:lnTo>
                <a:lnTo>
                  <a:pt x="1007773" y="810063"/>
                </a:lnTo>
                <a:lnTo>
                  <a:pt x="1007773" y="807317"/>
                </a:lnTo>
                <a:lnTo>
                  <a:pt x="1010520" y="807317"/>
                </a:lnTo>
                <a:lnTo>
                  <a:pt x="1007773" y="804571"/>
                </a:lnTo>
                <a:lnTo>
                  <a:pt x="1005028" y="801825"/>
                </a:lnTo>
                <a:close/>
                <a:moveTo>
                  <a:pt x="5950532" y="801825"/>
                </a:moveTo>
                <a:lnTo>
                  <a:pt x="5950532" y="804571"/>
                </a:lnTo>
                <a:lnTo>
                  <a:pt x="5956024" y="804571"/>
                </a:lnTo>
                <a:lnTo>
                  <a:pt x="5956024" y="801825"/>
                </a:lnTo>
                <a:lnTo>
                  <a:pt x="5950532" y="801825"/>
                </a:lnTo>
                <a:close/>
                <a:moveTo>
                  <a:pt x="5423304" y="801825"/>
                </a:moveTo>
                <a:lnTo>
                  <a:pt x="5423304" y="807317"/>
                </a:lnTo>
                <a:lnTo>
                  <a:pt x="5423304" y="810063"/>
                </a:lnTo>
                <a:lnTo>
                  <a:pt x="5428796" y="807317"/>
                </a:lnTo>
                <a:lnTo>
                  <a:pt x="5431542" y="801825"/>
                </a:lnTo>
                <a:lnTo>
                  <a:pt x="5423304" y="801825"/>
                </a:lnTo>
                <a:close/>
                <a:moveTo>
                  <a:pt x="659035" y="799079"/>
                </a:moveTo>
                <a:lnTo>
                  <a:pt x="653542" y="810063"/>
                </a:lnTo>
                <a:lnTo>
                  <a:pt x="650797" y="815555"/>
                </a:lnTo>
                <a:lnTo>
                  <a:pt x="653542" y="821047"/>
                </a:lnTo>
                <a:lnTo>
                  <a:pt x="656289" y="821047"/>
                </a:lnTo>
                <a:lnTo>
                  <a:pt x="661780" y="821047"/>
                </a:lnTo>
                <a:lnTo>
                  <a:pt x="664526" y="818301"/>
                </a:lnTo>
                <a:lnTo>
                  <a:pt x="664526" y="810063"/>
                </a:lnTo>
                <a:lnTo>
                  <a:pt x="659035" y="799079"/>
                </a:lnTo>
                <a:close/>
                <a:moveTo>
                  <a:pt x="5395844" y="799079"/>
                </a:moveTo>
                <a:lnTo>
                  <a:pt x="5395844" y="804571"/>
                </a:lnTo>
                <a:lnTo>
                  <a:pt x="5393098" y="807317"/>
                </a:lnTo>
                <a:lnTo>
                  <a:pt x="5393098" y="812809"/>
                </a:lnTo>
                <a:lnTo>
                  <a:pt x="5393098" y="815555"/>
                </a:lnTo>
                <a:lnTo>
                  <a:pt x="5406828" y="821047"/>
                </a:lnTo>
                <a:lnTo>
                  <a:pt x="5412320" y="821047"/>
                </a:lnTo>
                <a:lnTo>
                  <a:pt x="5420558" y="818301"/>
                </a:lnTo>
                <a:lnTo>
                  <a:pt x="5417812" y="810063"/>
                </a:lnTo>
                <a:lnTo>
                  <a:pt x="5415066" y="801825"/>
                </a:lnTo>
                <a:lnTo>
                  <a:pt x="5406828" y="799079"/>
                </a:lnTo>
                <a:lnTo>
                  <a:pt x="5395844" y="799079"/>
                </a:lnTo>
                <a:close/>
                <a:moveTo>
                  <a:pt x="5357401" y="799079"/>
                </a:moveTo>
                <a:lnTo>
                  <a:pt x="5357401" y="804571"/>
                </a:lnTo>
                <a:lnTo>
                  <a:pt x="5362893" y="804571"/>
                </a:lnTo>
                <a:lnTo>
                  <a:pt x="5362893" y="799079"/>
                </a:lnTo>
                <a:lnTo>
                  <a:pt x="5357401" y="799079"/>
                </a:lnTo>
                <a:close/>
                <a:moveTo>
                  <a:pt x="1518526" y="793587"/>
                </a:moveTo>
                <a:lnTo>
                  <a:pt x="1513033" y="799079"/>
                </a:lnTo>
                <a:lnTo>
                  <a:pt x="1510287" y="804571"/>
                </a:lnTo>
                <a:lnTo>
                  <a:pt x="1510287" y="812809"/>
                </a:lnTo>
                <a:lnTo>
                  <a:pt x="1513033" y="821047"/>
                </a:lnTo>
                <a:lnTo>
                  <a:pt x="1526763" y="821047"/>
                </a:lnTo>
                <a:lnTo>
                  <a:pt x="1529509" y="815555"/>
                </a:lnTo>
                <a:lnTo>
                  <a:pt x="1532255" y="810063"/>
                </a:lnTo>
                <a:lnTo>
                  <a:pt x="1526763" y="799079"/>
                </a:lnTo>
                <a:lnTo>
                  <a:pt x="1524017" y="799079"/>
                </a:lnTo>
                <a:lnTo>
                  <a:pt x="1521272" y="796333"/>
                </a:lnTo>
                <a:lnTo>
                  <a:pt x="1521272" y="793587"/>
                </a:lnTo>
                <a:lnTo>
                  <a:pt x="1518526" y="793587"/>
                </a:lnTo>
                <a:close/>
                <a:moveTo>
                  <a:pt x="689240" y="793587"/>
                </a:moveTo>
                <a:lnTo>
                  <a:pt x="686494" y="796333"/>
                </a:lnTo>
                <a:lnTo>
                  <a:pt x="681002" y="799079"/>
                </a:lnTo>
                <a:lnTo>
                  <a:pt x="672764" y="801825"/>
                </a:lnTo>
                <a:lnTo>
                  <a:pt x="670018" y="801825"/>
                </a:lnTo>
                <a:lnTo>
                  <a:pt x="667272" y="807317"/>
                </a:lnTo>
                <a:lnTo>
                  <a:pt x="667272" y="810063"/>
                </a:lnTo>
                <a:lnTo>
                  <a:pt x="667272" y="818301"/>
                </a:lnTo>
                <a:lnTo>
                  <a:pt x="686494" y="807317"/>
                </a:lnTo>
                <a:lnTo>
                  <a:pt x="691986" y="801825"/>
                </a:lnTo>
                <a:lnTo>
                  <a:pt x="691986" y="796333"/>
                </a:lnTo>
                <a:lnTo>
                  <a:pt x="689240" y="793587"/>
                </a:lnTo>
                <a:close/>
                <a:moveTo>
                  <a:pt x="5890120" y="793587"/>
                </a:moveTo>
                <a:lnTo>
                  <a:pt x="5887374" y="799079"/>
                </a:lnTo>
                <a:lnTo>
                  <a:pt x="5892866" y="799079"/>
                </a:lnTo>
                <a:lnTo>
                  <a:pt x="5892866" y="793587"/>
                </a:lnTo>
                <a:lnTo>
                  <a:pt x="5890120" y="793587"/>
                </a:lnTo>
                <a:close/>
                <a:moveTo>
                  <a:pt x="5085549" y="793587"/>
                </a:moveTo>
                <a:lnTo>
                  <a:pt x="5085549" y="799079"/>
                </a:lnTo>
                <a:lnTo>
                  <a:pt x="5091041" y="799079"/>
                </a:lnTo>
                <a:lnTo>
                  <a:pt x="5091041" y="796333"/>
                </a:lnTo>
                <a:lnTo>
                  <a:pt x="5088295" y="793587"/>
                </a:lnTo>
                <a:lnTo>
                  <a:pt x="5085549" y="793587"/>
                </a:lnTo>
                <a:close/>
                <a:moveTo>
                  <a:pt x="1032487" y="790841"/>
                </a:moveTo>
                <a:lnTo>
                  <a:pt x="1032487" y="793587"/>
                </a:lnTo>
                <a:lnTo>
                  <a:pt x="1037980" y="796333"/>
                </a:lnTo>
                <a:lnTo>
                  <a:pt x="1040725" y="793587"/>
                </a:lnTo>
                <a:lnTo>
                  <a:pt x="1040725" y="790841"/>
                </a:lnTo>
                <a:lnTo>
                  <a:pt x="1035233" y="790841"/>
                </a:lnTo>
                <a:lnTo>
                  <a:pt x="1032487" y="790841"/>
                </a:lnTo>
                <a:close/>
                <a:moveTo>
                  <a:pt x="908919" y="790841"/>
                </a:moveTo>
                <a:lnTo>
                  <a:pt x="906173" y="793587"/>
                </a:lnTo>
                <a:lnTo>
                  <a:pt x="917156" y="793587"/>
                </a:lnTo>
                <a:lnTo>
                  <a:pt x="914410" y="790841"/>
                </a:lnTo>
                <a:lnTo>
                  <a:pt x="908919" y="790841"/>
                </a:lnTo>
                <a:close/>
                <a:moveTo>
                  <a:pt x="892443" y="790841"/>
                </a:moveTo>
                <a:lnTo>
                  <a:pt x="892443" y="793587"/>
                </a:lnTo>
                <a:lnTo>
                  <a:pt x="892443" y="799079"/>
                </a:lnTo>
                <a:lnTo>
                  <a:pt x="895189" y="799079"/>
                </a:lnTo>
                <a:lnTo>
                  <a:pt x="895189" y="790841"/>
                </a:lnTo>
                <a:lnTo>
                  <a:pt x="892443" y="790841"/>
                </a:lnTo>
                <a:close/>
                <a:moveTo>
                  <a:pt x="1485574" y="788095"/>
                </a:moveTo>
                <a:lnTo>
                  <a:pt x="1480081" y="793587"/>
                </a:lnTo>
                <a:lnTo>
                  <a:pt x="1477335" y="799079"/>
                </a:lnTo>
                <a:lnTo>
                  <a:pt x="1477335" y="807317"/>
                </a:lnTo>
                <a:lnTo>
                  <a:pt x="1480081" y="815555"/>
                </a:lnTo>
                <a:lnTo>
                  <a:pt x="1488320" y="812809"/>
                </a:lnTo>
                <a:lnTo>
                  <a:pt x="1496557" y="815555"/>
                </a:lnTo>
                <a:lnTo>
                  <a:pt x="1502050" y="807317"/>
                </a:lnTo>
                <a:lnTo>
                  <a:pt x="1502050" y="799079"/>
                </a:lnTo>
                <a:lnTo>
                  <a:pt x="1507541" y="796333"/>
                </a:lnTo>
                <a:lnTo>
                  <a:pt x="1510287" y="793587"/>
                </a:lnTo>
                <a:lnTo>
                  <a:pt x="1502050" y="793587"/>
                </a:lnTo>
                <a:lnTo>
                  <a:pt x="1496557" y="793587"/>
                </a:lnTo>
                <a:lnTo>
                  <a:pt x="1491065" y="790841"/>
                </a:lnTo>
                <a:lnTo>
                  <a:pt x="1485574" y="788095"/>
                </a:lnTo>
                <a:close/>
                <a:moveTo>
                  <a:pt x="5255799" y="785349"/>
                </a:moveTo>
                <a:lnTo>
                  <a:pt x="5244816" y="788095"/>
                </a:lnTo>
                <a:lnTo>
                  <a:pt x="5236578" y="790841"/>
                </a:lnTo>
                <a:lnTo>
                  <a:pt x="5236578" y="799079"/>
                </a:lnTo>
                <a:lnTo>
                  <a:pt x="5236578" y="801825"/>
                </a:lnTo>
                <a:lnTo>
                  <a:pt x="5239324" y="804571"/>
                </a:lnTo>
                <a:lnTo>
                  <a:pt x="5239324" y="812809"/>
                </a:lnTo>
                <a:lnTo>
                  <a:pt x="5247562" y="818301"/>
                </a:lnTo>
                <a:lnTo>
                  <a:pt x="5255799" y="818301"/>
                </a:lnTo>
                <a:lnTo>
                  <a:pt x="5266783" y="818301"/>
                </a:lnTo>
                <a:lnTo>
                  <a:pt x="5269529" y="812809"/>
                </a:lnTo>
                <a:lnTo>
                  <a:pt x="5272275" y="807317"/>
                </a:lnTo>
                <a:lnTo>
                  <a:pt x="5275021" y="790841"/>
                </a:lnTo>
                <a:lnTo>
                  <a:pt x="5266783" y="788095"/>
                </a:lnTo>
                <a:lnTo>
                  <a:pt x="5255799" y="785349"/>
                </a:lnTo>
                <a:close/>
                <a:moveTo>
                  <a:pt x="961092" y="785349"/>
                </a:moveTo>
                <a:lnTo>
                  <a:pt x="958346" y="788095"/>
                </a:lnTo>
                <a:lnTo>
                  <a:pt x="963838" y="790841"/>
                </a:lnTo>
                <a:lnTo>
                  <a:pt x="972076" y="790841"/>
                </a:lnTo>
                <a:lnTo>
                  <a:pt x="963838" y="785349"/>
                </a:lnTo>
                <a:lnTo>
                  <a:pt x="961092" y="785349"/>
                </a:lnTo>
                <a:close/>
                <a:moveTo>
                  <a:pt x="1513033" y="782603"/>
                </a:moveTo>
                <a:lnTo>
                  <a:pt x="1510287" y="785349"/>
                </a:lnTo>
                <a:lnTo>
                  <a:pt x="1510287" y="788095"/>
                </a:lnTo>
                <a:lnTo>
                  <a:pt x="1513033" y="788095"/>
                </a:lnTo>
                <a:lnTo>
                  <a:pt x="1515779" y="788095"/>
                </a:lnTo>
                <a:lnTo>
                  <a:pt x="1515779" y="785349"/>
                </a:lnTo>
                <a:lnTo>
                  <a:pt x="1513033" y="782603"/>
                </a:lnTo>
                <a:close/>
                <a:moveTo>
                  <a:pt x="1449877" y="782603"/>
                </a:moveTo>
                <a:lnTo>
                  <a:pt x="1455368" y="782603"/>
                </a:lnTo>
                <a:lnTo>
                  <a:pt x="1455368" y="788095"/>
                </a:lnTo>
                <a:lnTo>
                  <a:pt x="1449877" y="788095"/>
                </a:lnTo>
                <a:lnTo>
                  <a:pt x="1449877" y="782603"/>
                </a:lnTo>
                <a:close/>
                <a:moveTo>
                  <a:pt x="878712" y="782603"/>
                </a:moveTo>
                <a:lnTo>
                  <a:pt x="878712" y="788095"/>
                </a:lnTo>
                <a:lnTo>
                  <a:pt x="884205" y="788095"/>
                </a:lnTo>
                <a:lnTo>
                  <a:pt x="884205" y="782603"/>
                </a:lnTo>
                <a:lnTo>
                  <a:pt x="878712" y="782603"/>
                </a:lnTo>
                <a:close/>
                <a:moveTo>
                  <a:pt x="5069073" y="774365"/>
                </a:moveTo>
                <a:lnTo>
                  <a:pt x="5066327" y="779857"/>
                </a:lnTo>
                <a:lnTo>
                  <a:pt x="5063581" y="788095"/>
                </a:lnTo>
                <a:lnTo>
                  <a:pt x="5071819" y="785349"/>
                </a:lnTo>
                <a:lnTo>
                  <a:pt x="5074565" y="782603"/>
                </a:lnTo>
                <a:lnTo>
                  <a:pt x="5071819" y="777111"/>
                </a:lnTo>
                <a:lnTo>
                  <a:pt x="5069073" y="774365"/>
                </a:lnTo>
                <a:close/>
                <a:moveTo>
                  <a:pt x="1436146" y="774365"/>
                </a:moveTo>
                <a:lnTo>
                  <a:pt x="1427907" y="777111"/>
                </a:lnTo>
                <a:lnTo>
                  <a:pt x="1422416" y="785349"/>
                </a:lnTo>
                <a:lnTo>
                  <a:pt x="1422416" y="788095"/>
                </a:lnTo>
                <a:lnTo>
                  <a:pt x="1422416" y="793587"/>
                </a:lnTo>
                <a:lnTo>
                  <a:pt x="1419670" y="793587"/>
                </a:lnTo>
                <a:lnTo>
                  <a:pt x="1416924" y="804571"/>
                </a:lnTo>
                <a:lnTo>
                  <a:pt x="1419670" y="815555"/>
                </a:lnTo>
                <a:lnTo>
                  <a:pt x="1441637" y="815555"/>
                </a:lnTo>
                <a:lnTo>
                  <a:pt x="1452622" y="815555"/>
                </a:lnTo>
                <a:lnTo>
                  <a:pt x="1460859" y="812809"/>
                </a:lnTo>
                <a:lnTo>
                  <a:pt x="1460859" y="815555"/>
                </a:lnTo>
                <a:lnTo>
                  <a:pt x="1460859" y="818301"/>
                </a:lnTo>
                <a:lnTo>
                  <a:pt x="1463606" y="815555"/>
                </a:lnTo>
                <a:lnTo>
                  <a:pt x="1466353" y="815555"/>
                </a:lnTo>
                <a:lnTo>
                  <a:pt x="1469098" y="812809"/>
                </a:lnTo>
                <a:lnTo>
                  <a:pt x="1466353" y="807317"/>
                </a:lnTo>
                <a:lnTo>
                  <a:pt x="1466353" y="804571"/>
                </a:lnTo>
                <a:lnTo>
                  <a:pt x="1469098" y="793587"/>
                </a:lnTo>
                <a:lnTo>
                  <a:pt x="1463606" y="788095"/>
                </a:lnTo>
                <a:lnTo>
                  <a:pt x="1460859" y="785349"/>
                </a:lnTo>
                <a:lnTo>
                  <a:pt x="1463606" y="779857"/>
                </a:lnTo>
                <a:lnTo>
                  <a:pt x="1460859" y="779857"/>
                </a:lnTo>
                <a:lnTo>
                  <a:pt x="1458113" y="774365"/>
                </a:lnTo>
                <a:lnTo>
                  <a:pt x="1447130" y="774365"/>
                </a:lnTo>
                <a:lnTo>
                  <a:pt x="1436146" y="774365"/>
                </a:lnTo>
                <a:close/>
                <a:moveTo>
                  <a:pt x="1518526" y="768874"/>
                </a:moveTo>
                <a:lnTo>
                  <a:pt x="1515779" y="771620"/>
                </a:lnTo>
                <a:lnTo>
                  <a:pt x="1515779" y="774365"/>
                </a:lnTo>
                <a:lnTo>
                  <a:pt x="1518526" y="774365"/>
                </a:lnTo>
                <a:lnTo>
                  <a:pt x="1521272" y="777111"/>
                </a:lnTo>
                <a:lnTo>
                  <a:pt x="1524017" y="777111"/>
                </a:lnTo>
                <a:lnTo>
                  <a:pt x="1526763" y="774365"/>
                </a:lnTo>
                <a:lnTo>
                  <a:pt x="1526763" y="771620"/>
                </a:lnTo>
                <a:lnTo>
                  <a:pt x="1524017" y="768874"/>
                </a:lnTo>
                <a:lnTo>
                  <a:pt x="1518526" y="768874"/>
                </a:lnTo>
                <a:close/>
                <a:moveTo>
                  <a:pt x="5857169" y="768873"/>
                </a:moveTo>
                <a:lnTo>
                  <a:pt x="5857169" y="771619"/>
                </a:lnTo>
                <a:lnTo>
                  <a:pt x="5854423" y="774365"/>
                </a:lnTo>
                <a:lnTo>
                  <a:pt x="5854423" y="777111"/>
                </a:lnTo>
                <a:lnTo>
                  <a:pt x="5857169" y="777111"/>
                </a:lnTo>
                <a:lnTo>
                  <a:pt x="5859914" y="777111"/>
                </a:lnTo>
                <a:lnTo>
                  <a:pt x="5859914" y="768873"/>
                </a:lnTo>
                <a:lnTo>
                  <a:pt x="5857169" y="768873"/>
                </a:lnTo>
                <a:close/>
                <a:moveTo>
                  <a:pt x="1532255" y="766128"/>
                </a:moveTo>
                <a:lnTo>
                  <a:pt x="1532255" y="774365"/>
                </a:lnTo>
                <a:lnTo>
                  <a:pt x="1535002" y="774365"/>
                </a:lnTo>
                <a:lnTo>
                  <a:pt x="1537748" y="774365"/>
                </a:lnTo>
                <a:lnTo>
                  <a:pt x="1537748" y="768874"/>
                </a:lnTo>
                <a:lnTo>
                  <a:pt x="1535002" y="766128"/>
                </a:lnTo>
                <a:lnTo>
                  <a:pt x="1532255" y="766128"/>
                </a:lnTo>
                <a:close/>
                <a:moveTo>
                  <a:pt x="966584" y="766128"/>
                </a:moveTo>
                <a:lnTo>
                  <a:pt x="966584" y="771620"/>
                </a:lnTo>
                <a:lnTo>
                  <a:pt x="969330" y="771620"/>
                </a:lnTo>
                <a:lnTo>
                  <a:pt x="969330" y="766128"/>
                </a:lnTo>
                <a:lnTo>
                  <a:pt x="966584" y="766128"/>
                </a:lnTo>
                <a:close/>
                <a:moveTo>
                  <a:pt x="5667696" y="766127"/>
                </a:moveTo>
                <a:lnTo>
                  <a:pt x="5667696" y="771619"/>
                </a:lnTo>
                <a:lnTo>
                  <a:pt x="5673188" y="771619"/>
                </a:lnTo>
                <a:lnTo>
                  <a:pt x="5673188" y="766127"/>
                </a:lnTo>
                <a:lnTo>
                  <a:pt x="5667696" y="766127"/>
                </a:lnTo>
                <a:close/>
                <a:moveTo>
                  <a:pt x="1362005" y="763382"/>
                </a:moveTo>
                <a:lnTo>
                  <a:pt x="1359260" y="768874"/>
                </a:lnTo>
                <a:lnTo>
                  <a:pt x="1359260" y="771620"/>
                </a:lnTo>
                <a:lnTo>
                  <a:pt x="1364751" y="771620"/>
                </a:lnTo>
                <a:lnTo>
                  <a:pt x="1367496" y="768874"/>
                </a:lnTo>
                <a:lnTo>
                  <a:pt x="1364751" y="766128"/>
                </a:lnTo>
                <a:lnTo>
                  <a:pt x="1362005" y="763382"/>
                </a:lnTo>
                <a:close/>
                <a:moveTo>
                  <a:pt x="5118501" y="757889"/>
                </a:moveTo>
                <a:lnTo>
                  <a:pt x="5118501" y="760635"/>
                </a:lnTo>
                <a:lnTo>
                  <a:pt x="5113009" y="766127"/>
                </a:lnTo>
                <a:lnTo>
                  <a:pt x="5107517" y="766127"/>
                </a:lnTo>
                <a:lnTo>
                  <a:pt x="5102025" y="768873"/>
                </a:lnTo>
                <a:lnTo>
                  <a:pt x="5091041" y="774365"/>
                </a:lnTo>
                <a:lnTo>
                  <a:pt x="5091041" y="782603"/>
                </a:lnTo>
                <a:lnTo>
                  <a:pt x="5088295" y="788095"/>
                </a:lnTo>
                <a:lnTo>
                  <a:pt x="5091041" y="793587"/>
                </a:lnTo>
                <a:lnTo>
                  <a:pt x="5096533" y="796333"/>
                </a:lnTo>
                <a:lnTo>
                  <a:pt x="5099279" y="804571"/>
                </a:lnTo>
                <a:lnTo>
                  <a:pt x="5107517" y="810063"/>
                </a:lnTo>
                <a:lnTo>
                  <a:pt x="5121247" y="818301"/>
                </a:lnTo>
                <a:lnTo>
                  <a:pt x="5121247" y="821047"/>
                </a:lnTo>
                <a:lnTo>
                  <a:pt x="5118501" y="821047"/>
                </a:lnTo>
                <a:lnTo>
                  <a:pt x="5118501" y="823793"/>
                </a:lnTo>
                <a:lnTo>
                  <a:pt x="5121247" y="823793"/>
                </a:lnTo>
                <a:lnTo>
                  <a:pt x="5121247" y="826539"/>
                </a:lnTo>
                <a:lnTo>
                  <a:pt x="5123993" y="826539"/>
                </a:lnTo>
                <a:lnTo>
                  <a:pt x="5126739" y="823793"/>
                </a:lnTo>
                <a:lnTo>
                  <a:pt x="5137722" y="823793"/>
                </a:lnTo>
                <a:lnTo>
                  <a:pt x="5148706" y="823793"/>
                </a:lnTo>
                <a:lnTo>
                  <a:pt x="5154198" y="826539"/>
                </a:lnTo>
                <a:lnTo>
                  <a:pt x="5156944" y="829285"/>
                </a:lnTo>
                <a:lnTo>
                  <a:pt x="5159690" y="832031"/>
                </a:lnTo>
                <a:lnTo>
                  <a:pt x="5159690" y="840269"/>
                </a:lnTo>
                <a:lnTo>
                  <a:pt x="5156944" y="840269"/>
                </a:lnTo>
                <a:lnTo>
                  <a:pt x="5154198" y="845761"/>
                </a:lnTo>
                <a:lnTo>
                  <a:pt x="5165182" y="851253"/>
                </a:lnTo>
                <a:lnTo>
                  <a:pt x="5176166" y="856745"/>
                </a:lnTo>
                <a:lnTo>
                  <a:pt x="5181658" y="856745"/>
                </a:lnTo>
                <a:lnTo>
                  <a:pt x="5184404" y="851253"/>
                </a:lnTo>
                <a:lnTo>
                  <a:pt x="5189896" y="848507"/>
                </a:lnTo>
                <a:lnTo>
                  <a:pt x="5189896" y="853999"/>
                </a:lnTo>
                <a:lnTo>
                  <a:pt x="5195388" y="853999"/>
                </a:lnTo>
                <a:lnTo>
                  <a:pt x="5198134" y="853999"/>
                </a:lnTo>
                <a:lnTo>
                  <a:pt x="5198134" y="851253"/>
                </a:lnTo>
                <a:lnTo>
                  <a:pt x="5195388" y="851253"/>
                </a:lnTo>
                <a:lnTo>
                  <a:pt x="5195388" y="848507"/>
                </a:lnTo>
                <a:lnTo>
                  <a:pt x="5192642" y="848507"/>
                </a:lnTo>
                <a:lnTo>
                  <a:pt x="5189896" y="848507"/>
                </a:lnTo>
                <a:lnTo>
                  <a:pt x="5195388" y="845761"/>
                </a:lnTo>
                <a:lnTo>
                  <a:pt x="5195388" y="843015"/>
                </a:lnTo>
                <a:lnTo>
                  <a:pt x="5198134" y="843015"/>
                </a:lnTo>
                <a:lnTo>
                  <a:pt x="5198134" y="845761"/>
                </a:lnTo>
                <a:lnTo>
                  <a:pt x="5203626" y="845761"/>
                </a:lnTo>
                <a:lnTo>
                  <a:pt x="5203626" y="843015"/>
                </a:lnTo>
                <a:lnTo>
                  <a:pt x="5206372" y="843015"/>
                </a:lnTo>
                <a:lnTo>
                  <a:pt x="5206372" y="845761"/>
                </a:lnTo>
                <a:lnTo>
                  <a:pt x="5211864" y="845761"/>
                </a:lnTo>
                <a:lnTo>
                  <a:pt x="5214610" y="843015"/>
                </a:lnTo>
                <a:lnTo>
                  <a:pt x="5211864" y="840269"/>
                </a:lnTo>
                <a:lnTo>
                  <a:pt x="5203626" y="837523"/>
                </a:lnTo>
                <a:lnTo>
                  <a:pt x="5198134" y="837523"/>
                </a:lnTo>
                <a:lnTo>
                  <a:pt x="5195388" y="840269"/>
                </a:lnTo>
                <a:lnTo>
                  <a:pt x="5195388" y="832031"/>
                </a:lnTo>
                <a:lnTo>
                  <a:pt x="5195388" y="829285"/>
                </a:lnTo>
                <a:lnTo>
                  <a:pt x="5189896" y="826539"/>
                </a:lnTo>
                <a:lnTo>
                  <a:pt x="5184404" y="823793"/>
                </a:lnTo>
                <a:lnTo>
                  <a:pt x="5189896" y="821047"/>
                </a:lnTo>
                <a:lnTo>
                  <a:pt x="5189896" y="810063"/>
                </a:lnTo>
                <a:lnTo>
                  <a:pt x="5181658" y="807317"/>
                </a:lnTo>
                <a:lnTo>
                  <a:pt x="5176166" y="801825"/>
                </a:lnTo>
                <a:lnTo>
                  <a:pt x="5178912" y="796333"/>
                </a:lnTo>
                <a:lnTo>
                  <a:pt x="5181658" y="790841"/>
                </a:lnTo>
                <a:lnTo>
                  <a:pt x="5178912" y="788095"/>
                </a:lnTo>
                <a:lnTo>
                  <a:pt x="5176166" y="785349"/>
                </a:lnTo>
                <a:lnTo>
                  <a:pt x="5178912" y="779857"/>
                </a:lnTo>
                <a:lnTo>
                  <a:pt x="5178912" y="771619"/>
                </a:lnTo>
                <a:lnTo>
                  <a:pt x="5176166" y="757889"/>
                </a:lnTo>
                <a:lnTo>
                  <a:pt x="5162436" y="760635"/>
                </a:lnTo>
                <a:lnTo>
                  <a:pt x="5148706" y="757889"/>
                </a:lnTo>
                <a:lnTo>
                  <a:pt x="5134976" y="757889"/>
                </a:lnTo>
                <a:lnTo>
                  <a:pt x="5123993" y="757889"/>
                </a:lnTo>
                <a:lnTo>
                  <a:pt x="5118501" y="757889"/>
                </a:lnTo>
                <a:close/>
                <a:moveTo>
                  <a:pt x="936378" y="749652"/>
                </a:moveTo>
                <a:lnTo>
                  <a:pt x="936378" y="752398"/>
                </a:lnTo>
                <a:lnTo>
                  <a:pt x="939124" y="755144"/>
                </a:lnTo>
                <a:lnTo>
                  <a:pt x="941870" y="752398"/>
                </a:lnTo>
                <a:lnTo>
                  <a:pt x="941870" y="749652"/>
                </a:lnTo>
                <a:lnTo>
                  <a:pt x="939124" y="749652"/>
                </a:lnTo>
                <a:lnTo>
                  <a:pt x="936378" y="749652"/>
                </a:lnTo>
                <a:close/>
                <a:moveTo>
                  <a:pt x="5906596" y="749652"/>
                </a:moveTo>
                <a:lnTo>
                  <a:pt x="5903850" y="752398"/>
                </a:lnTo>
                <a:lnTo>
                  <a:pt x="5901104" y="755143"/>
                </a:lnTo>
                <a:lnTo>
                  <a:pt x="5914834" y="755143"/>
                </a:lnTo>
                <a:lnTo>
                  <a:pt x="5912088" y="752398"/>
                </a:lnTo>
                <a:lnTo>
                  <a:pt x="5906596" y="749652"/>
                </a:lnTo>
                <a:close/>
                <a:moveTo>
                  <a:pt x="1559715" y="746906"/>
                </a:moveTo>
                <a:lnTo>
                  <a:pt x="1556969" y="749652"/>
                </a:lnTo>
                <a:lnTo>
                  <a:pt x="1554223" y="755144"/>
                </a:lnTo>
                <a:lnTo>
                  <a:pt x="1556969" y="757890"/>
                </a:lnTo>
                <a:lnTo>
                  <a:pt x="1562461" y="760636"/>
                </a:lnTo>
                <a:lnTo>
                  <a:pt x="1559715" y="755144"/>
                </a:lnTo>
                <a:lnTo>
                  <a:pt x="1559715" y="752398"/>
                </a:lnTo>
                <a:lnTo>
                  <a:pt x="1559715" y="746906"/>
                </a:lnTo>
                <a:close/>
                <a:moveTo>
                  <a:pt x="958346" y="746906"/>
                </a:moveTo>
                <a:lnTo>
                  <a:pt x="952854" y="749652"/>
                </a:lnTo>
                <a:lnTo>
                  <a:pt x="950108" y="755144"/>
                </a:lnTo>
                <a:lnTo>
                  <a:pt x="955600" y="752398"/>
                </a:lnTo>
                <a:lnTo>
                  <a:pt x="958346" y="746906"/>
                </a:lnTo>
                <a:close/>
                <a:moveTo>
                  <a:pt x="1477335" y="744160"/>
                </a:moveTo>
                <a:lnTo>
                  <a:pt x="1474589" y="749652"/>
                </a:lnTo>
                <a:lnTo>
                  <a:pt x="1471844" y="752398"/>
                </a:lnTo>
                <a:lnTo>
                  <a:pt x="1463606" y="757890"/>
                </a:lnTo>
                <a:lnTo>
                  <a:pt x="1463606" y="763382"/>
                </a:lnTo>
                <a:lnTo>
                  <a:pt x="1466353" y="763382"/>
                </a:lnTo>
                <a:lnTo>
                  <a:pt x="1469098" y="766128"/>
                </a:lnTo>
                <a:lnTo>
                  <a:pt x="1469098" y="771620"/>
                </a:lnTo>
                <a:lnTo>
                  <a:pt x="1474589" y="777111"/>
                </a:lnTo>
                <a:lnTo>
                  <a:pt x="1477335" y="785349"/>
                </a:lnTo>
                <a:lnTo>
                  <a:pt x="1488320" y="782603"/>
                </a:lnTo>
                <a:lnTo>
                  <a:pt x="1499304" y="779857"/>
                </a:lnTo>
                <a:lnTo>
                  <a:pt x="1502050" y="774365"/>
                </a:lnTo>
                <a:lnTo>
                  <a:pt x="1504796" y="771620"/>
                </a:lnTo>
                <a:lnTo>
                  <a:pt x="1507541" y="771620"/>
                </a:lnTo>
                <a:lnTo>
                  <a:pt x="1507541" y="763382"/>
                </a:lnTo>
                <a:lnTo>
                  <a:pt x="1510287" y="760636"/>
                </a:lnTo>
                <a:lnTo>
                  <a:pt x="1504796" y="755144"/>
                </a:lnTo>
                <a:lnTo>
                  <a:pt x="1499304" y="746906"/>
                </a:lnTo>
                <a:lnTo>
                  <a:pt x="1491065" y="746906"/>
                </a:lnTo>
                <a:lnTo>
                  <a:pt x="1485574" y="744160"/>
                </a:lnTo>
                <a:lnTo>
                  <a:pt x="1482829" y="744160"/>
                </a:lnTo>
                <a:lnTo>
                  <a:pt x="1477335" y="744160"/>
                </a:lnTo>
                <a:close/>
                <a:moveTo>
                  <a:pt x="969330" y="744160"/>
                </a:moveTo>
                <a:lnTo>
                  <a:pt x="969330" y="746906"/>
                </a:lnTo>
                <a:lnTo>
                  <a:pt x="969330" y="749652"/>
                </a:lnTo>
                <a:lnTo>
                  <a:pt x="966584" y="752398"/>
                </a:lnTo>
                <a:lnTo>
                  <a:pt x="969330" y="752398"/>
                </a:lnTo>
                <a:lnTo>
                  <a:pt x="972076" y="752398"/>
                </a:lnTo>
                <a:lnTo>
                  <a:pt x="974822" y="749652"/>
                </a:lnTo>
                <a:lnTo>
                  <a:pt x="972076" y="746906"/>
                </a:lnTo>
                <a:lnTo>
                  <a:pt x="969330" y="744160"/>
                </a:lnTo>
                <a:close/>
                <a:moveTo>
                  <a:pt x="527228" y="741414"/>
                </a:moveTo>
                <a:lnTo>
                  <a:pt x="521736" y="744160"/>
                </a:lnTo>
                <a:lnTo>
                  <a:pt x="521736" y="752398"/>
                </a:lnTo>
                <a:lnTo>
                  <a:pt x="524482" y="749652"/>
                </a:lnTo>
                <a:lnTo>
                  <a:pt x="527228" y="749652"/>
                </a:lnTo>
                <a:lnTo>
                  <a:pt x="527228" y="741414"/>
                </a:lnTo>
                <a:close/>
                <a:moveTo>
                  <a:pt x="5733600" y="741414"/>
                </a:moveTo>
                <a:lnTo>
                  <a:pt x="5730854" y="744160"/>
                </a:lnTo>
                <a:lnTo>
                  <a:pt x="5728108" y="744160"/>
                </a:lnTo>
                <a:lnTo>
                  <a:pt x="5725362" y="746906"/>
                </a:lnTo>
                <a:lnTo>
                  <a:pt x="5728108" y="749652"/>
                </a:lnTo>
                <a:lnTo>
                  <a:pt x="5730854" y="752398"/>
                </a:lnTo>
                <a:lnTo>
                  <a:pt x="5736346" y="752398"/>
                </a:lnTo>
                <a:lnTo>
                  <a:pt x="5739091" y="749652"/>
                </a:lnTo>
                <a:lnTo>
                  <a:pt x="5739091" y="744160"/>
                </a:lnTo>
                <a:lnTo>
                  <a:pt x="5736346" y="744160"/>
                </a:lnTo>
                <a:lnTo>
                  <a:pt x="5733600" y="741414"/>
                </a:lnTo>
                <a:close/>
                <a:moveTo>
                  <a:pt x="5203626" y="738668"/>
                </a:moveTo>
                <a:lnTo>
                  <a:pt x="5195388" y="744160"/>
                </a:lnTo>
                <a:lnTo>
                  <a:pt x="5189896" y="752398"/>
                </a:lnTo>
                <a:lnTo>
                  <a:pt x="5184404" y="760635"/>
                </a:lnTo>
                <a:lnTo>
                  <a:pt x="5189896" y="766127"/>
                </a:lnTo>
                <a:lnTo>
                  <a:pt x="5198134" y="768873"/>
                </a:lnTo>
                <a:lnTo>
                  <a:pt x="5206372" y="768873"/>
                </a:lnTo>
                <a:lnTo>
                  <a:pt x="5214610" y="768873"/>
                </a:lnTo>
                <a:lnTo>
                  <a:pt x="5220102" y="763381"/>
                </a:lnTo>
                <a:lnTo>
                  <a:pt x="5225594" y="760635"/>
                </a:lnTo>
                <a:lnTo>
                  <a:pt x="5225594" y="755143"/>
                </a:lnTo>
                <a:lnTo>
                  <a:pt x="5222848" y="755143"/>
                </a:lnTo>
                <a:lnTo>
                  <a:pt x="5220102" y="746906"/>
                </a:lnTo>
                <a:lnTo>
                  <a:pt x="5214610" y="741414"/>
                </a:lnTo>
                <a:lnTo>
                  <a:pt x="5209118" y="738668"/>
                </a:lnTo>
                <a:lnTo>
                  <a:pt x="5203626" y="738668"/>
                </a:lnTo>
                <a:close/>
                <a:moveTo>
                  <a:pt x="6323985" y="735922"/>
                </a:moveTo>
                <a:lnTo>
                  <a:pt x="6323985" y="741414"/>
                </a:lnTo>
                <a:lnTo>
                  <a:pt x="6329477" y="741414"/>
                </a:lnTo>
                <a:lnTo>
                  <a:pt x="6332223" y="735922"/>
                </a:lnTo>
                <a:lnTo>
                  <a:pt x="6323985" y="735922"/>
                </a:lnTo>
                <a:close/>
                <a:moveTo>
                  <a:pt x="917156" y="730430"/>
                </a:moveTo>
                <a:lnTo>
                  <a:pt x="917156" y="733176"/>
                </a:lnTo>
                <a:lnTo>
                  <a:pt x="917156" y="735922"/>
                </a:lnTo>
                <a:lnTo>
                  <a:pt x="919902" y="735922"/>
                </a:lnTo>
                <a:lnTo>
                  <a:pt x="919902" y="738668"/>
                </a:lnTo>
                <a:lnTo>
                  <a:pt x="922648" y="738668"/>
                </a:lnTo>
                <a:lnTo>
                  <a:pt x="922648" y="733176"/>
                </a:lnTo>
                <a:lnTo>
                  <a:pt x="917156" y="730430"/>
                </a:lnTo>
                <a:close/>
                <a:moveTo>
                  <a:pt x="450340" y="724938"/>
                </a:moveTo>
                <a:lnTo>
                  <a:pt x="447594" y="727684"/>
                </a:lnTo>
                <a:lnTo>
                  <a:pt x="444848" y="727684"/>
                </a:lnTo>
                <a:lnTo>
                  <a:pt x="450340" y="730430"/>
                </a:lnTo>
                <a:lnTo>
                  <a:pt x="453086" y="730430"/>
                </a:lnTo>
                <a:lnTo>
                  <a:pt x="455832" y="727684"/>
                </a:lnTo>
                <a:lnTo>
                  <a:pt x="450340" y="724938"/>
                </a:lnTo>
                <a:close/>
                <a:moveTo>
                  <a:pt x="5719870" y="719446"/>
                </a:moveTo>
                <a:lnTo>
                  <a:pt x="5719870" y="724938"/>
                </a:lnTo>
                <a:lnTo>
                  <a:pt x="5725362" y="727684"/>
                </a:lnTo>
                <a:lnTo>
                  <a:pt x="5725362" y="719446"/>
                </a:lnTo>
                <a:lnTo>
                  <a:pt x="5719870" y="719446"/>
                </a:lnTo>
                <a:close/>
                <a:moveTo>
                  <a:pt x="5288751" y="719446"/>
                </a:moveTo>
                <a:lnTo>
                  <a:pt x="5283259" y="722192"/>
                </a:lnTo>
                <a:lnTo>
                  <a:pt x="5283259" y="724938"/>
                </a:lnTo>
                <a:lnTo>
                  <a:pt x="5286005" y="724938"/>
                </a:lnTo>
                <a:lnTo>
                  <a:pt x="5286005" y="730430"/>
                </a:lnTo>
                <a:lnTo>
                  <a:pt x="5288751" y="727684"/>
                </a:lnTo>
                <a:lnTo>
                  <a:pt x="5291497" y="724938"/>
                </a:lnTo>
                <a:lnTo>
                  <a:pt x="5288751" y="722192"/>
                </a:lnTo>
                <a:lnTo>
                  <a:pt x="5288751" y="719446"/>
                </a:lnTo>
                <a:close/>
                <a:moveTo>
                  <a:pt x="5077311" y="719446"/>
                </a:moveTo>
                <a:lnTo>
                  <a:pt x="5077311" y="724938"/>
                </a:lnTo>
                <a:lnTo>
                  <a:pt x="5074565" y="730430"/>
                </a:lnTo>
                <a:lnTo>
                  <a:pt x="5071819" y="735922"/>
                </a:lnTo>
                <a:lnTo>
                  <a:pt x="5069073" y="741414"/>
                </a:lnTo>
                <a:lnTo>
                  <a:pt x="5074565" y="744160"/>
                </a:lnTo>
                <a:lnTo>
                  <a:pt x="5077311" y="746906"/>
                </a:lnTo>
                <a:lnTo>
                  <a:pt x="5096533" y="746906"/>
                </a:lnTo>
                <a:lnTo>
                  <a:pt x="5099279" y="741414"/>
                </a:lnTo>
                <a:lnTo>
                  <a:pt x="5099279" y="738668"/>
                </a:lnTo>
                <a:lnTo>
                  <a:pt x="5099279" y="733176"/>
                </a:lnTo>
                <a:lnTo>
                  <a:pt x="5096533" y="727684"/>
                </a:lnTo>
                <a:lnTo>
                  <a:pt x="5082803" y="727684"/>
                </a:lnTo>
                <a:lnTo>
                  <a:pt x="5080057" y="722192"/>
                </a:lnTo>
                <a:lnTo>
                  <a:pt x="5077311" y="719446"/>
                </a:lnTo>
                <a:close/>
                <a:moveTo>
                  <a:pt x="875967" y="719446"/>
                </a:moveTo>
                <a:lnTo>
                  <a:pt x="873221" y="722192"/>
                </a:lnTo>
                <a:lnTo>
                  <a:pt x="867729" y="730430"/>
                </a:lnTo>
                <a:lnTo>
                  <a:pt x="878712" y="730430"/>
                </a:lnTo>
                <a:lnTo>
                  <a:pt x="884205" y="727684"/>
                </a:lnTo>
                <a:lnTo>
                  <a:pt x="881458" y="724938"/>
                </a:lnTo>
                <a:lnTo>
                  <a:pt x="881458" y="722192"/>
                </a:lnTo>
                <a:lnTo>
                  <a:pt x="881458" y="719446"/>
                </a:lnTo>
                <a:lnTo>
                  <a:pt x="875967" y="719446"/>
                </a:lnTo>
                <a:close/>
                <a:moveTo>
                  <a:pt x="488784" y="719446"/>
                </a:moveTo>
                <a:lnTo>
                  <a:pt x="486038" y="722192"/>
                </a:lnTo>
                <a:lnTo>
                  <a:pt x="483292" y="724938"/>
                </a:lnTo>
                <a:lnTo>
                  <a:pt x="488784" y="724938"/>
                </a:lnTo>
                <a:lnTo>
                  <a:pt x="494276" y="724938"/>
                </a:lnTo>
                <a:lnTo>
                  <a:pt x="491530" y="722192"/>
                </a:lnTo>
                <a:lnTo>
                  <a:pt x="488784" y="719446"/>
                </a:lnTo>
                <a:close/>
                <a:moveTo>
                  <a:pt x="6145496" y="716700"/>
                </a:moveTo>
                <a:lnTo>
                  <a:pt x="6140004" y="719446"/>
                </a:lnTo>
                <a:lnTo>
                  <a:pt x="6142750" y="722192"/>
                </a:lnTo>
                <a:lnTo>
                  <a:pt x="6145496" y="722192"/>
                </a:lnTo>
                <a:lnTo>
                  <a:pt x="6148242" y="722192"/>
                </a:lnTo>
                <a:lnTo>
                  <a:pt x="6150988" y="719446"/>
                </a:lnTo>
                <a:lnTo>
                  <a:pt x="6145496" y="716700"/>
                </a:lnTo>
                <a:close/>
                <a:moveTo>
                  <a:pt x="5275021" y="716700"/>
                </a:moveTo>
                <a:lnTo>
                  <a:pt x="5272275" y="719446"/>
                </a:lnTo>
                <a:lnTo>
                  <a:pt x="5266783" y="719446"/>
                </a:lnTo>
                <a:lnTo>
                  <a:pt x="5266783" y="724938"/>
                </a:lnTo>
                <a:lnTo>
                  <a:pt x="5264037" y="727684"/>
                </a:lnTo>
                <a:lnTo>
                  <a:pt x="5261291" y="727684"/>
                </a:lnTo>
                <a:lnTo>
                  <a:pt x="5261291" y="733176"/>
                </a:lnTo>
                <a:lnTo>
                  <a:pt x="5275021" y="733176"/>
                </a:lnTo>
                <a:lnTo>
                  <a:pt x="5277767" y="724938"/>
                </a:lnTo>
                <a:lnTo>
                  <a:pt x="5277767" y="716700"/>
                </a:lnTo>
                <a:lnTo>
                  <a:pt x="5275021" y="716700"/>
                </a:lnTo>
                <a:close/>
                <a:moveTo>
                  <a:pt x="1485574" y="716700"/>
                </a:moveTo>
                <a:lnTo>
                  <a:pt x="1493811" y="716700"/>
                </a:lnTo>
                <a:lnTo>
                  <a:pt x="1485574" y="733176"/>
                </a:lnTo>
                <a:lnTo>
                  <a:pt x="1485574" y="724938"/>
                </a:lnTo>
                <a:lnTo>
                  <a:pt x="1485574" y="716700"/>
                </a:lnTo>
                <a:close/>
                <a:moveTo>
                  <a:pt x="722192" y="716700"/>
                </a:moveTo>
                <a:lnTo>
                  <a:pt x="719446" y="719446"/>
                </a:lnTo>
                <a:lnTo>
                  <a:pt x="719446" y="722192"/>
                </a:lnTo>
                <a:lnTo>
                  <a:pt x="722192" y="727684"/>
                </a:lnTo>
                <a:lnTo>
                  <a:pt x="727684" y="733176"/>
                </a:lnTo>
                <a:lnTo>
                  <a:pt x="730430" y="733176"/>
                </a:lnTo>
                <a:lnTo>
                  <a:pt x="735922" y="727684"/>
                </a:lnTo>
                <a:lnTo>
                  <a:pt x="735922" y="724938"/>
                </a:lnTo>
                <a:lnTo>
                  <a:pt x="733176" y="719446"/>
                </a:lnTo>
                <a:lnTo>
                  <a:pt x="724938" y="716700"/>
                </a:lnTo>
                <a:lnTo>
                  <a:pt x="722192" y="716700"/>
                </a:lnTo>
                <a:close/>
                <a:moveTo>
                  <a:pt x="5700648" y="713954"/>
                </a:moveTo>
                <a:lnTo>
                  <a:pt x="5700648" y="722192"/>
                </a:lnTo>
                <a:lnTo>
                  <a:pt x="5697902" y="727684"/>
                </a:lnTo>
                <a:lnTo>
                  <a:pt x="5689664" y="733176"/>
                </a:lnTo>
                <a:lnTo>
                  <a:pt x="5678680" y="735922"/>
                </a:lnTo>
                <a:lnTo>
                  <a:pt x="5667696" y="735922"/>
                </a:lnTo>
                <a:lnTo>
                  <a:pt x="5653966" y="738668"/>
                </a:lnTo>
                <a:lnTo>
                  <a:pt x="5642982" y="741414"/>
                </a:lnTo>
                <a:lnTo>
                  <a:pt x="5634744" y="746906"/>
                </a:lnTo>
                <a:lnTo>
                  <a:pt x="5631998" y="752398"/>
                </a:lnTo>
                <a:lnTo>
                  <a:pt x="5629252" y="757889"/>
                </a:lnTo>
                <a:lnTo>
                  <a:pt x="5664950" y="755143"/>
                </a:lnTo>
                <a:lnTo>
                  <a:pt x="5684172" y="752398"/>
                </a:lnTo>
                <a:lnTo>
                  <a:pt x="5700648" y="749652"/>
                </a:lnTo>
                <a:lnTo>
                  <a:pt x="5711632" y="744160"/>
                </a:lnTo>
                <a:lnTo>
                  <a:pt x="5714378" y="738668"/>
                </a:lnTo>
                <a:lnTo>
                  <a:pt x="5717124" y="735922"/>
                </a:lnTo>
                <a:lnTo>
                  <a:pt x="5717124" y="730430"/>
                </a:lnTo>
                <a:lnTo>
                  <a:pt x="5714378" y="724938"/>
                </a:lnTo>
                <a:lnTo>
                  <a:pt x="5700648" y="713954"/>
                </a:lnTo>
                <a:close/>
                <a:moveTo>
                  <a:pt x="1345529" y="713954"/>
                </a:moveTo>
                <a:lnTo>
                  <a:pt x="1342784" y="716700"/>
                </a:lnTo>
                <a:lnTo>
                  <a:pt x="1345529" y="719446"/>
                </a:lnTo>
                <a:lnTo>
                  <a:pt x="1348275" y="722192"/>
                </a:lnTo>
                <a:lnTo>
                  <a:pt x="1351020" y="722192"/>
                </a:lnTo>
                <a:lnTo>
                  <a:pt x="1351020" y="716700"/>
                </a:lnTo>
                <a:lnTo>
                  <a:pt x="1351020" y="713954"/>
                </a:lnTo>
                <a:lnTo>
                  <a:pt x="1345529" y="713954"/>
                </a:lnTo>
                <a:close/>
                <a:moveTo>
                  <a:pt x="911664" y="713954"/>
                </a:moveTo>
                <a:lnTo>
                  <a:pt x="911664" y="724938"/>
                </a:lnTo>
                <a:lnTo>
                  <a:pt x="914410" y="724938"/>
                </a:lnTo>
                <a:lnTo>
                  <a:pt x="914410" y="716700"/>
                </a:lnTo>
                <a:lnTo>
                  <a:pt x="911664" y="713954"/>
                </a:lnTo>
                <a:close/>
                <a:moveTo>
                  <a:pt x="1359260" y="711208"/>
                </a:moveTo>
                <a:lnTo>
                  <a:pt x="1359260" y="716700"/>
                </a:lnTo>
                <a:lnTo>
                  <a:pt x="1356512" y="724938"/>
                </a:lnTo>
                <a:lnTo>
                  <a:pt x="1362005" y="724938"/>
                </a:lnTo>
                <a:lnTo>
                  <a:pt x="1367496" y="722192"/>
                </a:lnTo>
                <a:lnTo>
                  <a:pt x="1370242" y="719446"/>
                </a:lnTo>
                <a:lnTo>
                  <a:pt x="1370242" y="716700"/>
                </a:lnTo>
                <a:lnTo>
                  <a:pt x="1372988" y="713954"/>
                </a:lnTo>
                <a:lnTo>
                  <a:pt x="1372988" y="711208"/>
                </a:lnTo>
                <a:lnTo>
                  <a:pt x="1359260" y="711208"/>
                </a:lnTo>
                <a:close/>
                <a:moveTo>
                  <a:pt x="579401" y="711208"/>
                </a:moveTo>
                <a:lnTo>
                  <a:pt x="565671" y="713954"/>
                </a:lnTo>
                <a:lnTo>
                  <a:pt x="557433" y="719446"/>
                </a:lnTo>
                <a:lnTo>
                  <a:pt x="557433" y="713954"/>
                </a:lnTo>
                <a:lnTo>
                  <a:pt x="549195" y="722192"/>
                </a:lnTo>
                <a:lnTo>
                  <a:pt x="551942" y="724938"/>
                </a:lnTo>
                <a:lnTo>
                  <a:pt x="543703" y="730430"/>
                </a:lnTo>
                <a:lnTo>
                  <a:pt x="535466" y="733176"/>
                </a:lnTo>
                <a:lnTo>
                  <a:pt x="518990" y="733176"/>
                </a:lnTo>
                <a:lnTo>
                  <a:pt x="497022" y="730430"/>
                </a:lnTo>
                <a:lnTo>
                  <a:pt x="486038" y="730430"/>
                </a:lnTo>
                <a:lnTo>
                  <a:pt x="477800" y="733176"/>
                </a:lnTo>
                <a:lnTo>
                  <a:pt x="472308" y="735922"/>
                </a:lnTo>
                <a:lnTo>
                  <a:pt x="469562" y="744160"/>
                </a:lnTo>
                <a:lnTo>
                  <a:pt x="472308" y="746906"/>
                </a:lnTo>
                <a:lnTo>
                  <a:pt x="480546" y="746906"/>
                </a:lnTo>
                <a:lnTo>
                  <a:pt x="502514" y="752398"/>
                </a:lnTo>
                <a:lnTo>
                  <a:pt x="497022" y="755144"/>
                </a:lnTo>
                <a:lnTo>
                  <a:pt x="510751" y="755144"/>
                </a:lnTo>
                <a:lnTo>
                  <a:pt x="502514" y="752398"/>
                </a:lnTo>
                <a:lnTo>
                  <a:pt x="508005" y="744160"/>
                </a:lnTo>
                <a:lnTo>
                  <a:pt x="513498" y="741414"/>
                </a:lnTo>
                <a:lnTo>
                  <a:pt x="521736" y="738668"/>
                </a:lnTo>
                <a:lnTo>
                  <a:pt x="540957" y="744160"/>
                </a:lnTo>
                <a:lnTo>
                  <a:pt x="554687" y="746906"/>
                </a:lnTo>
                <a:lnTo>
                  <a:pt x="571163" y="744160"/>
                </a:lnTo>
                <a:lnTo>
                  <a:pt x="579401" y="735922"/>
                </a:lnTo>
                <a:lnTo>
                  <a:pt x="582147" y="733176"/>
                </a:lnTo>
                <a:lnTo>
                  <a:pt x="587639" y="730430"/>
                </a:lnTo>
                <a:lnTo>
                  <a:pt x="601369" y="730430"/>
                </a:lnTo>
                <a:lnTo>
                  <a:pt x="617845" y="733176"/>
                </a:lnTo>
                <a:lnTo>
                  <a:pt x="642559" y="741414"/>
                </a:lnTo>
                <a:lnTo>
                  <a:pt x="664526" y="752398"/>
                </a:lnTo>
                <a:lnTo>
                  <a:pt x="672764" y="760636"/>
                </a:lnTo>
                <a:lnTo>
                  <a:pt x="672764" y="755144"/>
                </a:lnTo>
                <a:lnTo>
                  <a:pt x="675510" y="749652"/>
                </a:lnTo>
                <a:lnTo>
                  <a:pt x="686494" y="744160"/>
                </a:lnTo>
                <a:lnTo>
                  <a:pt x="713954" y="735922"/>
                </a:lnTo>
                <a:lnTo>
                  <a:pt x="713954" y="722192"/>
                </a:lnTo>
                <a:lnTo>
                  <a:pt x="694732" y="722192"/>
                </a:lnTo>
                <a:lnTo>
                  <a:pt x="672764" y="724938"/>
                </a:lnTo>
                <a:lnTo>
                  <a:pt x="650797" y="727684"/>
                </a:lnTo>
                <a:lnTo>
                  <a:pt x="631574" y="727684"/>
                </a:lnTo>
                <a:lnTo>
                  <a:pt x="628829" y="722192"/>
                </a:lnTo>
                <a:lnTo>
                  <a:pt x="620591" y="713954"/>
                </a:lnTo>
                <a:lnTo>
                  <a:pt x="595877" y="711208"/>
                </a:lnTo>
                <a:lnTo>
                  <a:pt x="579401" y="711208"/>
                </a:lnTo>
                <a:close/>
                <a:moveTo>
                  <a:pt x="6181194" y="711208"/>
                </a:moveTo>
                <a:lnTo>
                  <a:pt x="6181194" y="716700"/>
                </a:lnTo>
                <a:lnTo>
                  <a:pt x="6186686" y="716700"/>
                </a:lnTo>
                <a:lnTo>
                  <a:pt x="6189432" y="716700"/>
                </a:lnTo>
                <a:lnTo>
                  <a:pt x="6189432" y="713954"/>
                </a:lnTo>
                <a:lnTo>
                  <a:pt x="6183940" y="711208"/>
                </a:lnTo>
                <a:lnTo>
                  <a:pt x="6181194" y="711208"/>
                </a:lnTo>
                <a:close/>
                <a:moveTo>
                  <a:pt x="5903850" y="711208"/>
                </a:moveTo>
                <a:lnTo>
                  <a:pt x="5898358" y="713954"/>
                </a:lnTo>
                <a:lnTo>
                  <a:pt x="5898358" y="716700"/>
                </a:lnTo>
                <a:lnTo>
                  <a:pt x="5898358" y="719446"/>
                </a:lnTo>
                <a:lnTo>
                  <a:pt x="5903850" y="722192"/>
                </a:lnTo>
                <a:lnTo>
                  <a:pt x="5909342" y="727684"/>
                </a:lnTo>
                <a:lnTo>
                  <a:pt x="5914834" y="727684"/>
                </a:lnTo>
                <a:lnTo>
                  <a:pt x="5914834" y="724938"/>
                </a:lnTo>
                <a:lnTo>
                  <a:pt x="5914834" y="719446"/>
                </a:lnTo>
                <a:lnTo>
                  <a:pt x="5912088" y="713954"/>
                </a:lnTo>
                <a:lnTo>
                  <a:pt x="5909342" y="711208"/>
                </a:lnTo>
                <a:lnTo>
                  <a:pt x="5903850" y="711208"/>
                </a:lnTo>
                <a:close/>
                <a:moveTo>
                  <a:pt x="5758313" y="711208"/>
                </a:moveTo>
                <a:lnTo>
                  <a:pt x="5750075" y="713954"/>
                </a:lnTo>
                <a:lnTo>
                  <a:pt x="5750075" y="716700"/>
                </a:lnTo>
                <a:lnTo>
                  <a:pt x="5752821" y="719446"/>
                </a:lnTo>
                <a:lnTo>
                  <a:pt x="5755567" y="719446"/>
                </a:lnTo>
                <a:lnTo>
                  <a:pt x="5755567" y="722192"/>
                </a:lnTo>
                <a:lnTo>
                  <a:pt x="5758313" y="722192"/>
                </a:lnTo>
                <a:lnTo>
                  <a:pt x="5763805" y="719446"/>
                </a:lnTo>
                <a:lnTo>
                  <a:pt x="5766551" y="711208"/>
                </a:lnTo>
                <a:lnTo>
                  <a:pt x="5758313" y="711208"/>
                </a:lnTo>
                <a:close/>
                <a:moveTo>
                  <a:pt x="5840693" y="705716"/>
                </a:moveTo>
                <a:lnTo>
                  <a:pt x="5832455" y="708462"/>
                </a:lnTo>
                <a:lnTo>
                  <a:pt x="5829709" y="713954"/>
                </a:lnTo>
                <a:lnTo>
                  <a:pt x="5826963" y="716700"/>
                </a:lnTo>
                <a:lnTo>
                  <a:pt x="5826963" y="727684"/>
                </a:lnTo>
                <a:lnTo>
                  <a:pt x="5829709" y="738668"/>
                </a:lnTo>
                <a:lnTo>
                  <a:pt x="5835201" y="744160"/>
                </a:lnTo>
                <a:lnTo>
                  <a:pt x="5843439" y="746906"/>
                </a:lnTo>
                <a:lnTo>
                  <a:pt x="5848931" y="744160"/>
                </a:lnTo>
                <a:lnTo>
                  <a:pt x="5851677" y="735922"/>
                </a:lnTo>
                <a:lnTo>
                  <a:pt x="5854423" y="727684"/>
                </a:lnTo>
                <a:lnTo>
                  <a:pt x="5851677" y="716700"/>
                </a:lnTo>
                <a:lnTo>
                  <a:pt x="5846185" y="711208"/>
                </a:lnTo>
                <a:lnTo>
                  <a:pt x="5840693" y="705716"/>
                </a:lnTo>
                <a:close/>
                <a:moveTo>
                  <a:pt x="5711632" y="702970"/>
                </a:moveTo>
                <a:lnTo>
                  <a:pt x="5714378" y="708462"/>
                </a:lnTo>
                <a:lnTo>
                  <a:pt x="5717124" y="711208"/>
                </a:lnTo>
                <a:lnTo>
                  <a:pt x="5717124" y="708462"/>
                </a:lnTo>
                <a:lnTo>
                  <a:pt x="5717124" y="705716"/>
                </a:lnTo>
                <a:lnTo>
                  <a:pt x="5717124" y="702970"/>
                </a:lnTo>
                <a:lnTo>
                  <a:pt x="5711632" y="702970"/>
                </a:lnTo>
                <a:close/>
                <a:moveTo>
                  <a:pt x="310295" y="700224"/>
                </a:moveTo>
                <a:lnTo>
                  <a:pt x="304803" y="702970"/>
                </a:lnTo>
                <a:lnTo>
                  <a:pt x="304803" y="708462"/>
                </a:lnTo>
                <a:lnTo>
                  <a:pt x="310295" y="708462"/>
                </a:lnTo>
                <a:lnTo>
                  <a:pt x="310295" y="700224"/>
                </a:lnTo>
                <a:close/>
                <a:moveTo>
                  <a:pt x="1540493" y="694732"/>
                </a:moveTo>
                <a:lnTo>
                  <a:pt x="1535002" y="700224"/>
                </a:lnTo>
                <a:lnTo>
                  <a:pt x="1535002" y="705716"/>
                </a:lnTo>
                <a:lnTo>
                  <a:pt x="1535002" y="711208"/>
                </a:lnTo>
                <a:lnTo>
                  <a:pt x="1540493" y="716700"/>
                </a:lnTo>
                <a:lnTo>
                  <a:pt x="1551477" y="716700"/>
                </a:lnTo>
                <a:lnTo>
                  <a:pt x="1554223" y="719446"/>
                </a:lnTo>
                <a:lnTo>
                  <a:pt x="1554223" y="722192"/>
                </a:lnTo>
                <a:lnTo>
                  <a:pt x="1556969" y="722192"/>
                </a:lnTo>
                <a:lnTo>
                  <a:pt x="1559715" y="716700"/>
                </a:lnTo>
                <a:lnTo>
                  <a:pt x="1562461" y="713954"/>
                </a:lnTo>
                <a:lnTo>
                  <a:pt x="1565206" y="708462"/>
                </a:lnTo>
                <a:lnTo>
                  <a:pt x="1565206" y="702970"/>
                </a:lnTo>
                <a:lnTo>
                  <a:pt x="1559715" y="700224"/>
                </a:lnTo>
                <a:lnTo>
                  <a:pt x="1556969" y="694732"/>
                </a:lnTo>
                <a:lnTo>
                  <a:pt x="1540493" y="694732"/>
                </a:lnTo>
                <a:close/>
                <a:moveTo>
                  <a:pt x="790841" y="694732"/>
                </a:moveTo>
                <a:lnTo>
                  <a:pt x="785349" y="697478"/>
                </a:lnTo>
                <a:lnTo>
                  <a:pt x="782603" y="705716"/>
                </a:lnTo>
                <a:lnTo>
                  <a:pt x="782603" y="716700"/>
                </a:lnTo>
                <a:lnTo>
                  <a:pt x="785349" y="724938"/>
                </a:lnTo>
                <a:lnTo>
                  <a:pt x="788095" y="733176"/>
                </a:lnTo>
                <a:lnTo>
                  <a:pt x="793587" y="735922"/>
                </a:lnTo>
                <a:lnTo>
                  <a:pt x="801825" y="733176"/>
                </a:lnTo>
                <a:lnTo>
                  <a:pt x="804571" y="730430"/>
                </a:lnTo>
                <a:lnTo>
                  <a:pt x="807317" y="724938"/>
                </a:lnTo>
                <a:lnTo>
                  <a:pt x="807317" y="713954"/>
                </a:lnTo>
                <a:lnTo>
                  <a:pt x="804571" y="702970"/>
                </a:lnTo>
                <a:lnTo>
                  <a:pt x="801825" y="697478"/>
                </a:lnTo>
                <a:lnTo>
                  <a:pt x="790841" y="694732"/>
                </a:lnTo>
                <a:close/>
                <a:moveTo>
                  <a:pt x="6109798" y="691986"/>
                </a:moveTo>
                <a:lnTo>
                  <a:pt x="6109798" y="694732"/>
                </a:lnTo>
                <a:lnTo>
                  <a:pt x="6109798" y="700224"/>
                </a:lnTo>
                <a:lnTo>
                  <a:pt x="6112544" y="697478"/>
                </a:lnTo>
                <a:lnTo>
                  <a:pt x="6112544" y="691986"/>
                </a:lnTo>
                <a:lnTo>
                  <a:pt x="6109798" y="691986"/>
                </a:lnTo>
                <a:close/>
                <a:moveTo>
                  <a:pt x="5659458" y="691986"/>
                </a:moveTo>
                <a:lnTo>
                  <a:pt x="5662204" y="697478"/>
                </a:lnTo>
                <a:lnTo>
                  <a:pt x="5664950" y="697478"/>
                </a:lnTo>
                <a:lnTo>
                  <a:pt x="5664950" y="694732"/>
                </a:lnTo>
                <a:lnTo>
                  <a:pt x="5667696" y="691986"/>
                </a:lnTo>
                <a:lnTo>
                  <a:pt x="5664950" y="691986"/>
                </a:lnTo>
                <a:lnTo>
                  <a:pt x="5659458" y="691986"/>
                </a:lnTo>
                <a:close/>
                <a:moveTo>
                  <a:pt x="1471844" y="689240"/>
                </a:moveTo>
                <a:lnTo>
                  <a:pt x="1466353" y="691986"/>
                </a:lnTo>
                <a:lnTo>
                  <a:pt x="1458113" y="691986"/>
                </a:lnTo>
                <a:lnTo>
                  <a:pt x="1458113" y="694732"/>
                </a:lnTo>
                <a:lnTo>
                  <a:pt x="1449877" y="694732"/>
                </a:lnTo>
                <a:lnTo>
                  <a:pt x="1444383" y="697478"/>
                </a:lnTo>
                <a:lnTo>
                  <a:pt x="1441637" y="702970"/>
                </a:lnTo>
                <a:lnTo>
                  <a:pt x="1438891" y="708462"/>
                </a:lnTo>
                <a:lnTo>
                  <a:pt x="1433400" y="708462"/>
                </a:lnTo>
                <a:lnTo>
                  <a:pt x="1427907" y="711208"/>
                </a:lnTo>
                <a:lnTo>
                  <a:pt x="1416924" y="719446"/>
                </a:lnTo>
                <a:lnTo>
                  <a:pt x="1411434" y="724938"/>
                </a:lnTo>
                <a:lnTo>
                  <a:pt x="1411434" y="730430"/>
                </a:lnTo>
                <a:lnTo>
                  <a:pt x="1411434" y="735922"/>
                </a:lnTo>
                <a:lnTo>
                  <a:pt x="1416924" y="741414"/>
                </a:lnTo>
                <a:lnTo>
                  <a:pt x="1419670" y="738668"/>
                </a:lnTo>
                <a:lnTo>
                  <a:pt x="1422416" y="738668"/>
                </a:lnTo>
                <a:lnTo>
                  <a:pt x="1422416" y="744160"/>
                </a:lnTo>
                <a:lnTo>
                  <a:pt x="1427907" y="744160"/>
                </a:lnTo>
                <a:lnTo>
                  <a:pt x="1427907" y="746906"/>
                </a:lnTo>
                <a:lnTo>
                  <a:pt x="1430655" y="752398"/>
                </a:lnTo>
                <a:lnTo>
                  <a:pt x="1444383" y="752398"/>
                </a:lnTo>
                <a:lnTo>
                  <a:pt x="1455368" y="749652"/>
                </a:lnTo>
                <a:lnTo>
                  <a:pt x="1458113" y="735922"/>
                </a:lnTo>
                <a:lnTo>
                  <a:pt x="1460859" y="738668"/>
                </a:lnTo>
                <a:lnTo>
                  <a:pt x="1466353" y="735922"/>
                </a:lnTo>
                <a:lnTo>
                  <a:pt x="1480081" y="735922"/>
                </a:lnTo>
                <a:lnTo>
                  <a:pt x="1477335" y="733176"/>
                </a:lnTo>
                <a:lnTo>
                  <a:pt x="1480081" y="733176"/>
                </a:lnTo>
                <a:lnTo>
                  <a:pt x="1482829" y="733176"/>
                </a:lnTo>
                <a:lnTo>
                  <a:pt x="1485574" y="733176"/>
                </a:lnTo>
                <a:lnTo>
                  <a:pt x="1493811" y="741414"/>
                </a:lnTo>
                <a:lnTo>
                  <a:pt x="1507541" y="744160"/>
                </a:lnTo>
                <a:lnTo>
                  <a:pt x="1515779" y="741414"/>
                </a:lnTo>
                <a:lnTo>
                  <a:pt x="1518526" y="741414"/>
                </a:lnTo>
                <a:lnTo>
                  <a:pt x="1524017" y="738668"/>
                </a:lnTo>
                <a:lnTo>
                  <a:pt x="1524017" y="727684"/>
                </a:lnTo>
                <a:lnTo>
                  <a:pt x="1521272" y="716700"/>
                </a:lnTo>
                <a:lnTo>
                  <a:pt x="1504796" y="711208"/>
                </a:lnTo>
                <a:lnTo>
                  <a:pt x="1507541" y="708462"/>
                </a:lnTo>
                <a:lnTo>
                  <a:pt x="1507541" y="700224"/>
                </a:lnTo>
                <a:lnTo>
                  <a:pt x="1502050" y="697478"/>
                </a:lnTo>
                <a:lnTo>
                  <a:pt x="1499304" y="694732"/>
                </a:lnTo>
                <a:lnTo>
                  <a:pt x="1496557" y="691986"/>
                </a:lnTo>
                <a:lnTo>
                  <a:pt x="1491065" y="691986"/>
                </a:lnTo>
                <a:lnTo>
                  <a:pt x="1491065" y="689240"/>
                </a:lnTo>
                <a:lnTo>
                  <a:pt x="1488320" y="689240"/>
                </a:lnTo>
                <a:lnTo>
                  <a:pt x="1488320" y="691986"/>
                </a:lnTo>
                <a:lnTo>
                  <a:pt x="1485574" y="691986"/>
                </a:lnTo>
                <a:lnTo>
                  <a:pt x="1480081" y="689240"/>
                </a:lnTo>
                <a:lnTo>
                  <a:pt x="1471844" y="689240"/>
                </a:lnTo>
                <a:close/>
                <a:moveTo>
                  <a:pt x="900680" y="689240"/>
                </a:moveTo>
                <a:lnTo>
                  <a:pt x="895189" y="691986"/>
                </a:lnTo>
                <a:lnTo>
                  <a:pt x="895189" y="700224"/>
                </a:lnTo>
                <a:lnTo>
                  <a:pt x="897934" y="697478"/>
                </a:lnTo>
                <a:lnTo>
                  <a:pt x="900680" y="700224"/>
                </a:lnTo>
                <a:lnTo>
                  <a:pt x="903426" y="700224"/>
                </a:lnTo>
                <a:lnTo>
                  <a:pt x="906173" y="697478"/>
                </a:lnTo>
                <a:lnTo>
                  <a:pt x="911664" y="697478"/>
                </a:lnTo>
                <a:lnTo>
                  <a:pt x="908919" y="691986"/>
                </a:lnTo>
                <a:lnTo>
                  <a:pt x="903426" y="689240"/>
                </a:lnTo>
                <a:lnTo>
                  <a:pt x="900680" y="689240"/>
                </a:lnTo>
                <a:close/>
                <a:moveTo>
                  <a:pt x="5692410" y="689240"/>
                </a:moveTo>
                <a:lnTo>
                  <a:pt x="5692410" y="691986"/>
                </a:lnTo>
                <a:lnTo>
                  <a:pt x="5697902" y="694732"/>
                </a:lnTo>
                <a:lnTo>
                  <a:pt x="5700648" y="691986"/>
                </a:lnTo>
                <a:lnTo>
                  <a:pt x="5700648" y="689240"/>
                </a:lnTo>
                <a:lnTo>
                  <a:pt x="5695156" y="689240"/>
                </a:lnTo>
                <a:lnTo>
                  <a:pt x="5692410" y="689240"/>
                </a:lnTo>
                <a:close/>
                <a:moveTo>
                  <a:pt x="5678680" y="689240"/>
                </a:moveTo>
                <a:lnTo>
                  <a:pt x="5678680" y="694732"/>
                </a:lnTo>
                <a:lnTo>
                  <a:pt x="5681426" y="691986"/>
                </a:lnTo>
                <a:lnTo>
                  <a:pt x="5684172" y="689240"/>
                </a:lnTo>
                <a:lnTo>
                  <a:pt x="5678680" y="689240"/>
                </a:lnTo>
                <a:close/>
                <a:moveTo>
                  <a:pt x="5189896" y="689240"/>
                </a:moveTo>
                <a:lnTo>
                  <a:pt x="5181658" y="691986"/>
                </a:lnTo>
                <a:lnTo>
                  <a:pt x="5176166" y="705716"/>
                </a:lnTo>
                <a:lnTo>
                  <a:pt x="5173420" y="705716"/>
                </a:lnTo>
                <a:lnTo>
                  <a:pt x="5167928" y="705716"/>
                </a:lnTo>
                <a:lnTo>
                  <a:pt x="5156944" y="705716"/>
                </a:lnTo>
                <a:lnTo>
                  <a:pt x="5156944" y="708462"/>
                </a:lnTo>
                <a:lnTo>
                  <a:pt x="5156944" y="711208"/>
                </a:lnTo>
                <a:lnTo>
                  <a:pt x="5154198" y="711208"/>
                </a:lnTo>
                <a:lnTo>
                  <a:pt x="5151452" y="711208"/>
                </a:lnTo>
                <a:lnTo>
                  <a:pt x="5148706" y="716700"/>
                </a:lnTo>
                <a:lnTo>
                  <a:pt x="5148706" y="724938"/>
                </a:lnTo>
                <a:lnTo>
                  <a:pt x="5143214" y="724938"/>
                </a:lnTo>
                <a:lnTo>
                  <a:pt x="5148706" y="711208"/>
                </a:lnTo>
                <a:lnTo>
                  <a:pt x="5140468" y="702970"/>
                </a:lnTo>
                <a:lnTo>
                  <a:pt x="5129485" y="697478"/>
                </a:lnTo>
                <a:lnTo>
                  <a:pt x="5121247" y="700224"/>
                </a:lnTo>
                <a:lnTo>
                  <a:pt x="5115755" y="702970"/>
                </a:lnTo>
                <a:lnTo>
                  <a:pt x="5113009" y="705716"/>
                </a:lnTo>
                <a:lnTo>
                  <a:pt x="5113009" y="716700"/>
                </a:lnTo>
                <a:lnTo>
                  <a:pt x="5115755" y="724938"/>
                </a:lnTo>
                <a:lnTo>
                  <a:pt x="5129485" y="730430"/>
                </a:lnTo>
                <a:lnTo>
                  <a:pt x="5129485" y="735922"/>
                </a:lnTo>
                <a:lnTo>
                  <a:pt x="5129485" y="741414"/>
                </a:lnTo>
                <a:lnTo>
                  <a:pt x="5134976" y="744160"/>
                </a:lnTo>
                <a:lnTo>
                  <a:pt x="5137722" y="746906"/>
                </a:lnTo>
                <a:lnTo>
                  <a:pt x="5137722" y="749652"/>
                </a:lnTo>
                <a:lnTo>
                  <a:pt x="5143214" y="749652"/>
                </a:lnTo>
                <a:lnTo>
                  <a:pt x="5143214" y="752398"/>
                </a:lnTo>
                <a:lnTo>
                  <a:pt x="5145960" y="752398"/>
                </a:lnTo>
                <a:lnTo>
                  <a:pt x="5148706" y="752398"/>
                </a:lnTo>
                <a:lnTo>
                  <a:pt x="5151452" y="749652"/>
                </a:lnTo>
                <a:lnTo>
                  <a:pt x="5156944" y="752398"/>
                </a:lnTo>
                <a:lnTo>
                  <a:pt x="5162436" y="752398"/>
                </a:lnTo>
                <a:lnTo>
                  <a:pt x="5170674" y="752398"/>
                </a:lnTo>
                <a:lnTo>
                  <a:pt x="5176166" y="749652"/>
                </a:lnTo>
                <a:lnTo>
                  <a:pt x="5176166" y="746906"/>
                </a:lnTo>
                <a:lnTo>
                  <a:pt x="5184404" y="746906"/>
                </a:lnTo>
                <a:lnTo>
                  <a:pt x="5189896" y="744160"/>
                </a:lnTo>
                <a:lnTo>
                  <a:pt x="5192642" y="741414"/>
                </a:lnTo>
                <a:lnTo>
                  <a:pt x="5195388" y="733176"/>
                </a:lnTo>
                <a:lnTo>
                  <a:pt x="5200880" y="733176"/>
                </a:lnTo>
                <a:lnTo>
                  <a:pt x="5206372" y="730430"/>
                </a:lnTo>
                <a:lnTo>
                  <a:pt x="5220102" y="722192"/>
                </a:lnTo>
                <a:lnTo>
                  <a:pt x="5222848" y="716700"/>
                </a:lnTo>
                <a:lnTo>
                  <a:pt x="5222848" y="711208"/>
                </a:lnTo>
                <a:lnTo>
                  <a:pt x="5222848" y="705716"/>
                </a:lnTo>
                <a:lnTo>
                  <a:pt x="5217356" y="702970"/>
                </a:lnTo>
                <a:lnTo>
                  <a:pt x="5214610" y="702970"/>
                </a:lnTo>
                <a:lnTo>
                  <a:pt x="5214610" y="705716"/>
                </a:lnTo>
                <a:lnTo>
                  <a:pt x="5211864" y="705716"/>
                </a:lnTo>
                <a:lnTo>
                  <a:pt x="5211864" y="697478"/>
                </a:lnTo>
                <a:lnTo>
                  <a:pt x="5206372" y="697478"/>
                </a:lnTo>
                <a:lnTo>
                  <a:pt x="5206372" y="694732"/>
                </a:lnTo>
                <a:lnTo>
                  <a:pt x="5203626" y="689240"/>
                </a:lnTo>
                <a:lnTo>
                  <a:pt x="5189896" y="689240"/>
                </a:lnTo>
                <a:close/>
                <a:moveTo>
                  <a:pt x="722192" y="686494"/>
                </a:moveTo>
                <a:lnTo>
                  <a:pt x="722192" y="691986"/>
                </a:lnTo>
                <a:lnTo>
                  <a:pt x="727684" y="691986"/>
                </a:lnTo>
                <a:lnTo>
                  <a:pt x="730430" y="691986"/>
                </a:lnTo>
                <a:lnTo>
                  <a:pt x="733176" y="686494"/>
                </a:lnTo>
                <a:lnTo>
                  <a:pt x="722192" y="686494"/>
                </a:lnTo>
                <a:close/>
                <a:moveTo>
                  <a:pt x="1005028" y="683748"/>
                </a:moveTo>
                <a:lnTo>
                  <a:pt x="969330" y="686494"/>
                </a:lnTo>
                <a:lnTo>
                  <a:pt x="952854" y="689240"/>
                </a:lnTo>
                <a:lnTo>
                  <a:pt x="936378" y="694732"/>
                </a:lnTo>
                <a:lnTo>
                  <a:pt x="922648" y="700224"/>
                </a:lnTo>
                <a:lnTo>
                  <a:pt x="919902" y="702970"/>
                </a:lnTo>
                <a:lnTo>
                  <a:pt x="917156" y="708462"/>
                </a:lnTo>
                <a:lnTo>
                  <a:pt x="919902" y="711208"/>
                </a:lnTo>
                <a:lnTo>
                  <a:pt x="919902" y="716700"/>
                </a:lnTo>
                <a:lnTo>
                  <a:pt x="933632" y="727684"/>
                </a:lnTo>
                <a:lnTo>
                  <a:pt x="936378" y="722192"/>
                </a:lnTo>
                <a:lnTo>
                  <a:pt x="936378" y="716700"/>
                </a:lnTo>
                <a:lnTo>
                  <a:pt x="944616" y="708462"/>
                </a:lnTo>
                <a:lnTo>
                  <a:pt x="955600" y="705716"/>
                </a:lnTo>
                <a:lnTo>
                  <a:pt x="969330" y="705716"/>
                </a:lnTo>
                <a:lnTo>
                  <a:pt x="980314" y="705716"/>
                </a:lnTo>
                <a:lnTo>
                  <a:pt x="994043" y="702970"/>
                </a:lnTo>
                <a:lnTo>
                  <a:pt x="1002281" y="694732"/>
                </a:lnTo>
                <a:lnTo>
                  <a:pt x="1005028" y="691986"/>
                </a:lnTo>
                <a:lnTo>
                  <a:pt x="1005028" y="683748"/>
                </a:lnTo>
                <a:close/>
                <a:moveTo>
                  <a:pt x="5961516" y="683748"/>
                </a:moveTo>
                <a:lnTo>
                  <a:pt x="5961516" y="689240"/>
                </a:lnTo>
                <a:lnTo>
                  <a:pt x="5958770" y="694732"/>
                </a:lnTo>
                <a:lnTo>
                  <a:pt x="5950532" y="700224"/>
                </a:lnTo>
                <a:lnTo>
                  <a:pt x="5920326" y="708462"/>
                </a:lnTo>
                <a:lnTo>
                  <a:pt x="5920326" y="722192"/>
                </a:lnTo>
                <a:lnTo>
                  <a:pt x="5939548" y="719446"/>
                </a:lnTo>
                <a:lnTo>
                  <a:pt x="5961516" y="716700"/>
                </a:lnTo>
                <a:lnTo>
                  <a:pt x="5983483" y="716700"/>
                </a:lnTo>
                <a:lnTo>
                  <a:pt x="6002705" y="716700"/>
                </a:lnTo>
                <a:lnTo>
                  <a:pt x="6008197" y="722192"/>
                </a:lnTo>
                <a:lnTo>
                  <a:pt x="6013689" y="727684"/>
                </a:lnTo>
                <a:lnTo>
                  <a:pt x="6038403" y="730430"/>
                </a:lnTo>
                <a:lnTo>
                  <a:pt x="6054879" y="730430"/>
                </a:lnTo>
                <a:lnTo>
                  <a:pt x="6071355" y="727684"/>
                </a:lnTo>
                <a:lnTo>
                  <a:pt x="6076847" y="724938"/>
                </a:lnTo>
                <a:lnTo>
                  <a:pt x="6079593" y="727684"/>
                </a:lnTo>
                <a:lnTo>
                  <a:pt x="6085085" y="722192"/>
                </a:lnTo>
                <a:lnTo>
                  <a:pt x="6082339" y="719446"/>
                </a:lnTo>
                <a:lnTo>
                  <a:pt x="6090577" y="713954"/>
                </a:lnTo>
                <a:lnTo>
                  <a:pt x="6098815" y="708462"/>
                </a:lnTo>
                <a:lnTo>
                  <a:pt x="6115290" y="708462"/>
                </a:lnTo>
                <a:lnTo>
                  <a:pt x="6137258" y="711208"/>
                </a:lnTo>
                <a:lnTo>
                  <a:pt x="6148242" y="711208"/>
                </a:lnTo>
                <a:lnTo>
                  <a:pt x="6156480" y="711208"/>
                </a:lnTo>
                <a:lnTo>
                  <a:pt x="6161972" y="705716"/>
                </a:lnTo>
                <a:lnTo>
                  <a:pt x="6164718" y="700224"/>
                </a:lnTo>
                <a:lnTo>
                  <a:pt x="6161972" y="697478"/>
                </a:lnTo>
                <a:lnTo>
                  <a:pt x="6153734" y="694732"/>
                </a:lnTo>
                <a:lnTo>
                  <a:pt x="6134512" y="691986"/>
                </a:lnTo>
                <a:lnTo>
                  <a:pt x="6137258" y="689240"/>
                </a:lnTo>
                <a:lnTo>
                  <a:pt x="6123528" y="689240"/>
                </a:lnTo>
                <a:lnTo>
                  <a:pt x="6134512" y="691986"/>
                </a:lnTo>
                <a:lnTo>
                  <a:pt x="6126274" y="697478"/>
                </a:lnTo>
                <a:lnTo>
                  <a:pt x="6120782" y="702970"/>
                </a:lnTo>
                <a:lnTo>
                  <a:pt x="6112544" y="702970"/>
                </a:lnTo>
                <a:lnTo>
                  <a:pt x="6093323" y="697478"/>
                </a:lnTo>
                <a:lnTo>
                  <a:pt x="6079593" y="694732"/>
                </a:lnTo>
                <a:lnTo>
                  <a:pt x="6063117" y="697478"/>
                </a:lnTo>
                <a:lnTo>
                  <a:pt x="6057625" y="705716"/>
                </a:lnTo>
                <a:lnTo>
                  <a:pt x="6052133" y="711208"/>
                </a:lnTo>
                <a:lnTo>
                  <a:pt x="6046641" y="711208"/>
                </a:lnTo>
                <a:lnTo>
                  <a:pt x="6032911" y="711208"/>
                </a:lnTo>
                <a:lnTo>
                  <a:pt x="6019181" y="708462"/>
                </a:lnTo>
                <a:lnTo>
                  <a:pt x="5991721" y="700224"/>
                </a:lnTo>
                <a:lnTo>
                  <a:pt x="5972500" y="691986"/>
                </a:lnTo>
                <a:lnTo>
                  <a:pt x="5961516" y="683748"/>
                </a:lnTo>
                <a:close/>
                <a:moveTo>
                  <a:pt x="5074565" y="683748"/>
                </a:moveTo>
                <a:lnTo>
                  <a:pt x="5074565" y="689240"/>
                </a:lnTo>
                <a:lnTo>
                  <a:pt x="5074565" y="691986"/>
                </a:lnTo>
                <a:lnTo>
                  <a:pt x="5074565" y="694732"/>
                </a:lnTo>
                <a:lnTo>
                  <a:pt x="5080057" y="691986"/>
                </a:lnTo>
                <a:lnTo>
                  <a:pt x="5080057" y="689240"/>
                </a:lnTo>
                <a:lnTo>
                  <a:pt x="5077311" y="683748"/>
                </a:lnTo>
                <a:lnTo>
                  <a:pt x="5074565" y="683748"/>
                </a:lnTo>
                <a:close/>
                <a:moveTo>
                  <a:pt x="1430655" y="672764"/>
                </a:moveTo>
                <a:lnTo>
                  <a:pt x="1419670" y="675510"/>
                </a:lnTo>
                <a:lnTo>
                  <a:pt x="1416924" y="681002"/>
                </a:lnTo>
                <a:lnTo>
                  <a:pt x="1408686" y="683748"/>
                </a:lnTo>
                <a:lnTo>
                  <a:pt x="1408686" y="689240"/>
                </a:lnTo>
                <a:lnTo>
                  <a:pt x="1414179" y="689240"/>
                </a:lnTo>
                <a:lnTo>
                  <a:pt x="1416924" y="694732"/>
                </a:lnTo>
                <a:lnTo>
                  <a:pt x="1419670" y="702970"/>
                </a:lnTo>
                <a:lnTo>
                  <a:pt x="1425162" y="705716"/>
                </a:lnTo>
                <a:lnTo>
                  <a:pt x="1430655" y="705716"/>
                </a:lnTo>
                <a:lnTo>
                  <a:pt x="1441637" y="700224"/>
                </a:lnTo>
                <a:lnTo>
                  <a:pt x="1447130" y="691986"/>
                </a:lnTo>
                <a:lnTo>
                  <a:pt x="1452622" y="683748"/>
                </a:lnTo>
                <a:lnTo>
                  <a:pt x="1444383" y="678256"/>
                </a:lnTo>
                <a:lnTo>
                  <a:pt x="1438891" y="675510"/>
                </a:lnTo>
                <a:lnTo>
                  <a:pt x="1430655" y="672764"/>
                </a:lnTo>
                <a:close/>
                <a:moveTo>
                  <a:pt x="966584" y="670018"/>
                </a:moveTo>
                <a:lnTo>
                  <a:pt x="963838" y="672764"/>
                </a:lnTo>
                <a:lnTo>
                  <a:pt x="961092" y="675510"/>
                </a:lnTo>
                <a:lnTo>
                  <a:pt x="966584" y="675510"/>
                </a:lnTo>
                <a:lnTo>
                  <a:pt x="966584" y="670018"/>
                </a:lnTo>
                <a:close/>
                <a:moveTo>
                  <a:pt x="5664950" y="670018"/>
                </a:moveTo>
                <a:lnTo>
                  <a:pt x="5664950" y="675510"/>
                </a:lnTo>
                <a:lnTo>
                  <a:pt x="5670442" y="675510"/>
                </a:lnTo>
                <a:lnTo>
                  <a:pt x="5670442" y="670018"/>
                </a:lnTo>
                <a:lnTo>
                  <a:pt x="5664950" y="670018"/>
                </a:lnTo>
                <a:close/>
                <a:moveTo>
                  <a:pt x="5272275" y="670018"/>
                </a:moveTo>
                <a:lnTo>
                  <a:pt x="5269529" y="675510"/>
                </a:lnTo>
                <a:lnTo>
                  <a:pt x="5269529" y="678256"/>
                </a:lnTo>
                <a:lnTo>
                  <a:pt x="5272275" y="678256"/>
                </a:lnTo>
                <a:lnTo>
                  <a:pt x="5275021" y="675510"/>
                </a:lnTo>
                <a:lnTo>
                  <a:pt x="5275021" y="670018"/>
                </a:lnTo>
                <a:lnTo>
                  <a:pt x="5272275" y="670018"/>
                </a:lnTo>
                <a:close/>
                <a:moveTo>
                  <a:pt x="5096533" y="667272"/>
                </a:moveTo>
                <a:lnTo>
                  <a:pt x="5096533" y="675510"/>
                </a:lnTo>
                <a:lnTo>
                  <a:pt x="5099279" y="675510"/>
                </a:lnTo>
                <a:lnTo>
                  <a:pt x="5102025" y="675510"/>
                </a:lnTo>
                <a:lnTo>
                  <a:pt x="5102025" y="670018"/>
                </a:lnTo>
                <a:lnTo>
                  <a:pt x="5099279" y="667272"/>
                </a:lnTo>
                <a:lnTo>
                  <a:pt x="5096533" y="667272"/>
                </a:lnTo>
                <a:close/>
                <a:moveTo>
                  <a:pt x="5110263" y="664526"/>
                </a:moveTo>
                <a:lnTo>
                  <a:pt x="5110263" y="667272"/>
                </a:lnTo>
                <a:lnTo>
                  <a:pt x="5107517" y="670018"/>
                </a:lnTo>
                <a:lnTo>
                  <a:pt x="5110263" y="675510"/>
                </a:lnTo>
                <a:lnTo>
                  <a:pt x="5115755" y="675510"/>
                </a:lnTo>
                <a:lnTo>
                  <a:pt x="5118501" y="672764"/>
                </a:lnTo>
                <a:lnTo>
                  <a:pt x="5118501" y="667272"/>
                </a:lnTo>
                <a:lnTo>
                  <a:pt x="5115755" y="667272"/>
                </a:lnTo>
                <a:lnTo>
                  <a:pt x="5113009" y="664526"/>
                </a:lnTo>
                <a:lnTo>
                  <a:pt x="5110263" y="664526"/>
                </a:lnTo>
                <a:close/>
                <a:moveTo>
                  <a:pt x="777112" y="664526"/>
                </a:moveTo>
                <a:lnTo>
                  <a:pt x="777112" y="667272"/>
                </a:lnTo>
                <a:lnTo>
                  <a:pt x="774366" y="667272"/>
                </a:lnTo>
                <a:lnTo>
                  <a:pt x="774366" y="672764"/>
                </a:lnTo>
                <a:lnTo>
                  <a:pt x="779857" y="672764"/>
                </a:lnTo>
                <a:lnTo>
                  <a:pt x="779857" y="670018"/>
                </a:lnTo>
                <a:lnTo>
                  <a:pt x="782603" y="667272"/>
                </a:lnTo>
                <a:lnTo>
                  <a:pt x="779857" y="667272"/>
                </a:lnTo>
                <a:lnTo>
                  <a:pt x="779857" y="664526"/>
                </a:lnTo>
                <a:lnTo>
                  <a:pt x="777112" y="664526"/>
                </a:lnTo>
                <a:close/>
                <a:moveTo>
                  <a:pt x="5145960" y="659034"/>
                </a:moveTo>
                <a:lnTo>
                  <a:pt x="5134976" y="661780"/>
                </a:lnTo>
                <a:lnTo>
                  <a:pt x="5132230" y="667272"/>
                </a:lnTo>
                <a:lnTo>
                  <a:pt x="5132230" y="670018"/>
                </a:lnTo>
                <a:lnTo>
                  <a:pt x="5129485" y="672764"/>
                </a:lnTo>
                <a:lnTo>
                  <a:pt x="5129485" y="678256"/>
                </a:lnTo>
                <a:lnTo>
                  <a:pt x="5126739" y="683748"/>
                </a:lnTo>
                <a:lnTo>
                  <a:pt x="5132230" y="689240"/>
                </a:lnTo>
                <a:lnTo>
                  <a:pt x="5134976" y="694732"/>
                </a:lnTo>
                <a:lnTo>
                  <a:pt x="5143214" y="697478"/>
                </a:lnTo>
                <a:lnTo>
                  <a:pt x="5148706" y="700224"/>
                </a:lnTo>
                <a:lnTo>
                  <a:pt x="5151452" y="697478"/>
                </a:lnTo>
                <a:lnTo>
                  <a:pt x="5159690" y="697478"/>
                </a:lnTo>
                <a:lnTo>
                  <a:pt x="5159690" y="694732"/>
                </a:lnTo>
                <a:lnTo>
                  <a:pt x="5165182" y="689240"/>
                </a:lnTo>
                <a:lnTo>
                  <a:pt x="5170674" y="686494"/>
                </a:lnTo>
                <a:lnTo>
                  <a:pt x="5170674" y="678256"/>
                </a:lnTo>
                <a:lnTo>
                  <a:pt x="5167928" y="678256"/>
                </a:lnTo>
                <a:lnTo>
                  <a:pt x="5167928" y="675510"/>
                </a:lnTo>
                <a:lnTo>
                  <a:pt x="5167928" y="670018"/>
                </a:lnTo>
                <a:lnTo>
                  <a:pt x="5162436" y="664526"/>
                </a:lnTo>
                <a:lnTo>
                  <a:pt x="5159690" y="659034"/>
                </a:lnTo>
                <a:lnTo>
                  <a:pt x="5145960" y="659034"/>
                </a:lnTo>
                <a:close/>
                <a:moveTo>
                  <a:pt x="1562461" y="656288"/>
                </a:moveTo>
                <a:lnTo>
                  <a:pt x="1559715" y="659034"/>
                </a:lnTo>
                <a:lnTo>
                  <a:pt x="1562461" y="664526"/>
                </a:lnTo>
                <a:lnTo>
                  <a:pt x="1567952" y="667272"/>
                </a:lnTo>
                <a:lnTo>
                  <a:pt x="1570699" y="664526"/>
                </a:lnTo>
                <a:lnTo>
                  <a:pt x="1570699" y="656288"/>
                </a:lnTo>
                <a:lnTo>
                  <a:pt x="1562461" y="656288"/>
                </a:lnTo>
                <a:close/>
                <a:moveTo>
                  <a:pt x="5755567" y="653542"/>
                </a:moveTo>
                <a:lnTo>
                  <a:pt x="5752821" y="656288"/>
                </a:lnTo>
                <a:lnTo>
                  <a:pt x="5750075" y="659034"/>
                </a:lnTo>
                <a:lnTo>
                  <a:pt x="5755567" y="659034"/>
                </a:lnTo>
                <a:lnTo>
                  <a:pt x="5755567" y="653542"/>
                </a:lnTo>
                <a:close/>
                <a:moveTo>
                  <a:pt x="5662204" y="653542"/>
                </a:moveTo>
                <a:lnTo>
                  <a:pt x="5670442" y="656288"/>
                </a:lnTo>
                <a:lnTo>
                  <a:pt x="5673188" y="656288"/>
                </a:lnTo>
                <a:lnTo>
                  <a:pt x="5678680" y="653542"/>
                </a:lnTo>
                <a:lnTo>
                  <a:pt x="5670442" y="653542"/>
                </a:lnTo>
                <a:lnTo>
                  <a:pt x="5662204" y="653542"/>
                </a:lnTo>
                <a:close/>
                <a:moveTo>
                  <a:pt x="5181658" y="653542"/>
                </a:moveTo>
                <a:lnTo>
                  <a:pt x="5187150" y="653542"/>
                </a:lnTo>
                <a:lnTo>
                  <a:pt x="5187150" y="659034"/>
                </a:lnTo>
                <a:lnTo>
                  <a:pt x="5181658" y="659034"/>
                </a:lnTo>
                <a:lnTo>
                  <a:pt x="5181658" y="653542"/>
                </a:lnTo>
                <a:close/>
                <a:moveTo>
                  <a:pt x="5121247" y="653542"/>
                </a:moveTo>
                <a:lnTo>
                  <a:pt x="5121247" y="656288"/>
                </a:lnTo>
                <a:lnTo>
                  <a:pt x="5118501" y="656288"/>
                </a:lnTo>
                <a:lnTo>
                  <a:pt x="5118501" y="659034"/>
                </a:lnTo>
                <a:lnTo>
                  <a:pt x="5121247" y="659034"/>
                </a:lnTo>
                <a:lnTo>
                  <a:pt x="5123993" y="659034"/>
                </a:lnTo>
                <a:lnTo>
                  <a:pt x="5126739" y="659034"/>
                </a:lnTo>
                <a:lnTo>
                  <a:pt x="5126739" y="656288"/>
                </a:lnTo>
                <a:lnTo>
                  <a:pt x="5123993" y="656288"/>
                </a:lnTo>
                <a:lnTo>
                  <a:pt x="5123993" y="653542"/>
                </a:lnTo>
                <a:lnTo>
                  <a:pt x="5121247" y="653542"/>
                </a:lnTo>
                <a:close/>
                <a:moveTo>
                  <a:pt x="5717124" y="648050"/>
                </a:moveTo>
                <a:lnTo>
                  <a:pt x="5719870" y="650796"/>
                </a:lnTo>
                <a:lnTo>
                  <a:pt x="5728108" y="653542"/>
                </a:lnTo>
                <a:lnTo>
                  <a:pt x="5728108" y="650796"/>
                </a:lnTo>
                <a:lnTo>
                  <a:pt x="5728108" y="648050"/>
                </a:lnTo>
                <a:lnTo>
                  <a:pt x="5717124" y="648050"/>
                </a:lnTo>
                <a:close/>
                <a:moveTo>
                  <a:pt x="5596301" y="648050"/>
                </a:moveTo>
                <a:lnTo>
                  <a:pt x="5593555" y="650796"/>
                </a:lnTo>
                <a:lnTo>
                  <a:pt x="5599047" y="653542"/>
                </a:lnTo>
                <a:lnTo>
                  <a:pt x="5601793" y="653542"/>
                </a:lnTo>
                <a:lnTo>
                  <a:pt x="5604539" y="650796"/>
                </a:lnTo>
                <a:lnTo>
                  <a:pt x="5599047" y="648050"/>
                </a:lnTo>
                <a:lnTo>
                  <a:pt x="5596301" y="648050"/>
                </a:lnTo>
                <a:close/>
                <a:moveTo>
                  <a:pt x="1545985" y="642559"/>
                </a:moveTo>
                <a:lnTo>
                  <a:pt x="1543239" y="648051"/>
                </a:lnTo>
                <a:lnTo>
                  <a:pt x="1545985" y="648051"/>
                </a:lnTo>
                <a:lnTo>
                  <a:pt x="1551477" y="650797"/>
                </a:lnTo>
                <a:lnTo>
                  <a:pt x="1551477" y="642559"/>
                </a:lnTo>
                <a:lnTo>
                  <a:pt x="1545985" y="642559"/>
                </a:lnTo>
                <a:close/>
                <a:moveTo>
                  <a:pt x="741414" y="642559"/>
                </a:moveTo>
                <a:lnTo>
                  <a:pt x="741414" y="650797"/>
                </a:lnTo>
                <a:lnTo>
                  <a:pt x="746906" y="648051"/>
                </a:lnTo>
                <a:lnTo>
                  <a:pt x="746906" y="642559"/>
                </a:lnTo>
                <a:lnTo>
                  <a:pt x="741414" y="642559"/>
                </a:lnTo>
                <a:close/>
                <a:moveTo>
                  <a:pt x="5739091" y="642558"/>
                </a:moveTo>
                <a:lnTo>
                  <a:pt x="5739091" y="653542"/>
                </a:lnTo>
                <a:lnTo>
                  <a:pt x="5741837" y="650796"/>
                </a:lnTo>
                <a:lnTo>
                  <a:pt x="5741837" y="648050"/>
                </a:lnTo>
                <a:lnTo>
                  <a:pt x="5744583" y="642558"/>
                </a:lnTo>
                <a:lnTo>
                  <a:pt x="5739091" y="642558"/>
                </a:lnTo>
                <a:close/>
                <a:moveTo>
                  <a:pt x="1271389" y="637067"/>
                </a:moveTo>
                <a:lnTo>
                  <a:pt x="1271389" y="642559"/>
                </a:lnTo>
                <a:lnTo>
                  <a:pt x="1276880" y="642559"/>
                </a:lnTo>
                <a:lnTo>
                  <a:pt x="1276880" y="637067"/>
                </a:lnTo>
                <a:lnTo>
                  <a:pt x="1271389" y="637067"/>
                </a:lnTo>
                <a:close/>
                <a:moveTo>
                  <a:pt x="681002" y="637067"/>
                </a:moveTo>
                <a:lnTo>
                  <a:pt x="681002" y="642559"/>
                </a:lnTo>
                <a:lnTo>
                  <a:pt x="686494" y="642559"/>
                </a:lnTo>
                <a:lnTo>
                  <a:pt x="686494" y="637067"/>
                </a:lnTo>
                <a:lnTo>
                  <a:pt x="681002" y="637067"/>
                </a:lnTo>
                <a:close/>
                <a:moveTo>
                  <a:pt x="5626506" y="634320"/>
                </a:moveTo>
                <a:lnTo>
                  <a:pt x="5623760" y="637066"/>
                </a:lnTo>
                <a:lnTo>
                  <a:pt x="5626506" y="639812"/>
                </a:lnTo>
                <a:lnTo>
                  <a:pt x="5629252" y="639812"/>
                </a:lnTo>
                <a:lnTo>
                  <a:pt x="5631998" y="639812"/>
                </a:lnTo>
                <a:lnTo>
                  <a:pt x="5631998" y="637066"/>
                </a:lnTo>
                <a:lnTo>
                  <a:pt x="5631998" y="634320"/>
                </a:lnTo>
                <a:lnTo>
                  <a:pt x="5629252" y="634320"/>
                </a:lnTo>
                <a:lnTo>
                  <a:pt x="5626506" y="634320"/>
                </a:lnTo>
                <a:close/>
                <a:moveTo>
                  <a:pt x="1213722" y="631575"/>
                </a:moveTo>
                <a:lnTo>
                  <a:pt x="1205484" y="634321"/>
                </a:lnTo>
                <a:lnTo>
                  <a:pt x="1202739" y="639813"/>
                </a:lnTo>
                <a:lnTo>
                  <a:pt x="1210975" y="639813"/>
                </a:lnTo>
                <a:lnTo>
                  <a:pt x="1210975" y="637067"/>
                </a:lnTo>
                <a:lnTo>
                  <a:pt x="1213722" y="631575"/>
                </a:lnTo>
                <a:close/>
                <a:moveTo>
                  <a:pt x="5642982" y="628829"/>
                </a:moveTo>
                <a:lnTo>
                  <a:pt x="5642982" y="634320"/>
                </a:lnTo>
                <a:lnTo>
                  <a:pt x="5640236" y="634320"/>
                </a:lnTo>
                <a:lnTo>
                  <a:pt x="5637490" y="637066"/>
                </a:lnTo>
                <a:lnTo>
                  <a:pt x="5642982" y="637066"/>
                </a:lnTo>
                <a:lnTo>
                  <a:pt x="5645728" y="637066"/>
                </a:lnTo>
                <a:lnTo>
                  <a:pt x="5645728" y="628829"/>
                </a:lnTo>
                <a:lnTo>
                  <a:pt x="5642982" y="628829"/>
                </a:lnTo>
                <a:close/>
                <a:moveTo>
                  <a:pt x="5137722" y="628829"/>
                </a:moveTo>
                <a:lnTo>
                  <a:pt x="5134976" y="634320"/>
                </a:lnTo>
                <a:lnTo>
                  <a:pt x="5132230" y="645304"/>
                </a:lnTo>
                <a:lnTo>
                  <a:pt x="5129485" y="645304"/>
                </a:lnTo>
                <a:lnTo>
                  <a:pt x="5126739" y="648050"/>
                </a:lnTo>
                <a:lnTo>
                  <a:pt x="5132230" y="648050"/>
                </a:lnTo>
                <a:lnTo>
                  <a:pt x="5140468" y="650796"/>
                </a:lnTo>
                <a:lnTo>
                  <a:pt x="5143214" y="653542"/>
                </a:lnTo>
                <a:lnTo>
                  <a:pt x="5151452" y="653542"/>
                </a:lnTo>
                <a:lnTo>
                  <a:pt x="5156944" y="648050"/>
                </a:lnTo>
                <a:lnTo>
                  <a:pt x="5159690" y="642558"/>
                </a:lnTo>
                <a:lnTo>
                  <a:pt x="5159690" y="637066"/>
                </a:lnTo>
                <a:lnTo>
                  <a:pt x="5156944" y="628829"/>
                </a:lnTo>
                <a:lnTo>
                  <a:pt x="5145960" y="628829"/>
                </a:lnTo>
                <a:lnTo>
                  <a:pt x="5137722" y="628829"/>
                </a:lnTo>
                <a:close/>
                <a:moveTo>
                  <a:pt x="5077311" y="628829"/>
                </a:moveTo>
                <a:lnTo>
                  <a:pt x="5077311" y="637066"/>
                </a:lnTo>
                <a:lnTo>
                  <a:pt x="5080057" y="637066"/>
                </a:lnTo>
                <a:lnTo>
                  <a:pt x="5082803" y="634320"/>
                </a:lnTo>
                <a:lnTo>
                  <a:pt x="5085549" y="628829"/>
                </a:lnTo>
                <a:lnTo>
                  <a:pt x="5077311" y="628829"/>
                </a:lnTo>
                <a:close/>
                <a:moveTo>
                  <a:pt x="837523" y="628829"/>
                </a:moveTo>
                <a:lnTo>
                  <a:pt x="832031" y="631575"/>
                </a:lnTo>
                <a:lnTo>
                  <a:pt x="832031" y="634321"/>
                </a:lnTo>
                <a:lnTo>
                  <a:pt x="837523" y="634321"/>
                </a:lnTo>
                <a:lnTo>
                  <a:pt x="840269" y="631575"/>
                </a:lnTo>
                <a:lnTo>
                  <a:pt x="837523" y="631575"/>
                </a:lnTo>
                <a:lnTo>
                  <a:pt x="837523" y="628829"/>
                </a:lnTo>
                <a:close/>
                <a:moveTo>
                  <a:pt x="867729" y="626083"/>
                </a:moveTo>
                <a:lnTo>
                  <a:pt x="864983" y="628829"/>
                </a:lnTo>
                <a:lnTo>
                  <a:pt x="867729" y="628829"/>
                </a:lnTo>
                <a:lnTo>
                  <a:pt x="867729" y="631575"/>
                </a:lnTo>
                <a:lnTo>
                  <a:pt x="867729" y="634321"/>
                </a:lnTo>
                <a:lnTo>
                  <a:pt x="873221" y="634321"/>
                </a:lnTo>
                <a:lnTo>
                  <a:pt x="875967" y="637067"/>
                </a:lnTo>
                <a:lnTo>
                  <a:pt x="878712" y="634321"/>
                </a:lnTo>
                <a:lnTo>
                  <a:pt x="881458" y="631575"/>
                </a:lnTo>
                <a:lnTo>
                  <a:pt x="875967" y="631575"/>
                </a:lnTo>
                <a:lnTo>
                  <a:pt x="873221" y="628829"/>
                </a:lnTo>
                <a:lnTo>
                  <a:pt x="867729" y="626083"/>
                </a:lnTo>
                <a:close/>
                <a:moveTo>
                  <a:pt x="5967008" y="626083"/>
                </a:moveTo>
                <a:lnTo>
                  <a:pt x="5950532" y="637066"/>
                </a:lnTo>
                <a:lnTo>
                  <a:pt x="5942294" y="642558"/>
                </a:lnTo>
                <a:lnTo>
                  <a:pt x="5942294" y="645304"/>
                </a:lnTo>
                <a:lnTo>
                  <a:pt x="5947786" y="648050"/>
                </a:lnTo>
                <a:lnTo>
                  <a:pt x="5950532" y="645304"/>
                </a:lnTo>
                <a:lnTo>
                  <a:pt x="5953278" y="645304"/>
                </a:lnTo>
                <a:lnTo>
                  <a:pt x="5961516" y="642558"/>
                </a:lnTo>
                <a:lnTo>
                  <a:pt x="5964262" y="639812"/>
                </a:lnTo>
                <a:lnTo>
                  <a:pt x="5967008" y="637066"/>
                </a:lnTo>
                <a:lnTo>
                  <a:pt x="5969754" y="631575"/>
                </a:lnTo>
                <a:lnTo>
                  <a:pt x="5967008" y="626083"/>
                </a:lnTo>
                <a:close/>
                <a:moveTo>
                  <a:pt x="5170674" y="626083"/>
                </a:moveTo>
                <a:lnTo>
                  <a:pt x="5167928" y="628829"/>
                </a:lnTo>
                <a:lnTo>
                  <a:pt x="5167928" y="631575"/>
                </a:lnTo>
                <a:lnTo>
                  <a:pt x="5170674" y="634320"/>
                </a:lnTo>
                <a:lnTo>
                  <a:pt x="5167928" y="639812"/>
                </a:lnTo>
                <a:lnTo>
                  <a:pt x="5165182" y="648050"/>
                </a:lnTo>
                <a:lnTo>
                  <a:pt x="5170674" y="653542"/>
                </a:lnTo>
                <a:lnTo>
                  <a:pt x="5173420" y="659034"/>
                </a:lnTo>
                <a:lnTo>
                  <a:pt x="5170674" y="661780"/>
                </a:lnTo>
                <a:lnTo>
                  <a:pt x="5176166" y="664526"/>
                </a:lnTo>
                <a:lnTo>
                  <a:pt x="5176166" y="667272"/>
                </a:lnTo>
                <a:lnTo>
                  <a:pt x="5189896" y="670018"/>
                </a:lnTo>
                <a:lnTo>
                  <a:pt x="5198134" y="667272"/>
                </a:lnTo>
                <a:lnTo>
                  <a:pt x="5206372" y="664526"/>
                </a:lnTo>
                <a:lnTo>
                  <a:pt x="5214610" y="659034"/>
                </a:lnTo>
                <a:lnTo>
                  <a:pt x="5211864" y="653542"/>
                </a:lnTo>
                <a:lnTo>
                  <a:pt x="5211864" y="648050"/>
                </a:lnTo>
                <a:lnTo>
                  <a:pt x="5214610" y="648050"/>
                </a:lnTo>
                <a:lnTo>
                  <a:pt x="5217356" y="639812"/>
                </a:lnTo>
                <a:lnTo>
                  <a:pt x="5214610" y="628829"/>
                </a:lnTo>
                <a:lnTo>
                  <a:pt x="5195388" y="626083"/>
                </a:lnTo>
                <a:lnTo>
                  <a:pt x="5184404" y="628829"/>
                </a:lnTo>
                <a:lnTo>
                  <a:pt x="5173420" y="631575"/>
                </a:lnTo>
                <a:lnTo>
                  <a:pt x="5173420" y="626083"/>
                </a:lnTo>
                <a:lnTo>
                  <a:pt x="5170674" y="626083"/>
                </a:lnTo>
                <a:close/>
                <a:moveTo>
                  <a:pt x="1458113" y="623337"/>
                </a:moveTo>
                <a:lnTo>
                  <a:pt x="1460859" y="623337"/>
                </a:lnTo>
                <a:lnTo>
                  <a:pt x="1460859" y="626083"/>
                </a:lnTo>
                <a:lnTo>
                  <a:pt x="1466353" y="626083"/>
                </a:lnTo>
                <a:lnTo>
                  <a:pt x="1469098" y="626083"/>
                </a:lnTo>
                <a:lnTo>
                  <a:pt x="1466353" y="628829"/>
                </a:lnTo>
                <a:lnTo>
                  <a:pt x="1460859" y="631575"/>
                </a:lnTo>
                <a:lnTo>
                  <a:pt x="1458113" y="623337"/>
                </a:lnTo>
                <a:close/>
                <a:moveTo>
                  <a:pt x="1367496" y="623337"/>
                </a:moveTo>
                <a:lnTo>
                  <a:pt x="1364751" y="628829"/>
                </a:lnTo>
                <a:lnTo>
                  <a:pt x="1362005" y="637067"/>
                </a:lnTo>
                <a:lnTo>
                  <a:pt x="1359260" y="650797"/>
                </a:lnTo>
                <a:lnTo>
                  <a:pt x="1370242" y="656288"/>
                </a:lnTo>
                <a:lnTo>
                  <a:pt x="1378481" y="656288"/>
                </a:lnTo>
                <a:lnTo>
                  <a:pt x="1389464" y="656288"/>
                </a:lnTo>
                <a:lnTo>
                  <a:pt x="1400448" y="650797"/>
                </a:lnTo>
                <a:lnTo>
                  <a:pt x="1400448" y="642559"/>
                </a:lnTo>
                <a:lnTo>
                  <a:pt x="1397703" y="639813"/>
                </a:lnTo>
                <a:lnTo>
                  <a:pt x="1394958" y="639813"/>
                </a:lnTo>
                <a:lnTo>
                  <a:pt x="1394958" y="628829"/>
                </a:lnTo>
                <a:lnTo>
                  <a:pt x="1389464" y="626083"/>
                </a:lnTo>
                <a:lnTo>
                  <a:pt x="1378481" y="623337"/>
                </a:lnTo>
                <a:lnTo>
                  <a:pt x="1367496" y="623337"/>
                </a:lnTo>
                <a:close/>
                <a:moveTo>
                  <a:pt x="1554223" y="620591"/>
                </a:moveTo>
                <a:lnTo>
                  <a:pt x="1551477" y="623337"/>
                </a:lnTo>
                <a:lnTo>
                  <a:pt x="1551477" y="626083"/>
                </a:lnTo>
                <a:lnTo>
                  <a:pt x="1551477" y="628829"/>
                </a:lnTo>
                <a:lnTo>
                  <a:pt x="1556969" y="628829"/>
                </a:lnTo>
                <a:lnTo>
                  <a:pt x="1556969" y="623337"/>
                </a:lnTo>
                <a:lnTo>
                  <a:pt x="1554223" y="620591"/>
                </a:lnTo>
                <a:close/>
                <a:moveTo>
                  <a:pt x="1221961" y="620591"/>
                </a:moveTo>
                <a:lnTo>
                  <a:pt x="1216469" y="623337"/>
                </a:lnTo>
                <a:lnTo>
                  <a:pt x="1216469" y="634321"/>
                </a:lnTo>
                <a:lnTo>
                  <a:pt x="1221961" y="639813"/>
                </a:lnTo>
                <a:lnTo>
                  <a:pt x="1230199" y="642559"/>
                </a:lnTo>
                <a:lnTo>
                  <a:pt x="1241182" y="642559"/>
                </a:lnTo>
                <a:lnTo>
                  <a:pt x="1241182" y="637067"/>
                </a:lnTo>
                <a:lnTo>
                  <a:pt x="1241182" y="634321"/>
                </a:lnTo>
                <a:lnTo>
                  <a:pt x="1243927" y="631575"/>
                </a:lnTo>
                <a:lnTo>
                  <a:pt x="1243927" y="626083"/>
                </a:lnTo>
                <a:lnTo>
                  <a:pt x="1230199" y="620591"/>
                </a:lnTo>
                <a:lnTo>
                  <a:pt x="1221961" y="620591"/>
                </a:lnTo>
                <a:close/>
                <a:moveTo>
                  <a:pt x="1208230" y="620591"/>
                </a:moveTo>
                <a:lnTo>
                  <a:pt x="1205484" y="623337"/>
                </a:lnTo>
                <a:lnTo>
                  <a:pt x="1202739" y="626083"/>
                </a:lnTo>
                <a:lnTo>
                  <a:pt x="1205484" y="628829"/>
                </a:lnTo>
                <a:lnTo>
                  <a:pt x="1210975" y="631575"/>
                </a:lnTo>
                <a:lnTo>
                  <a:pt x="1208230" y="626083"/>
                </a:lnTo>
                <a:lnTo>
                  <a:pt x="1208230" y="620591"/>
                </a:lnTo>
                <a:close/>
                <a:moveTo>
                  <a:pt x="5977992" y="620591"/>
                </a:moveTo>
                <a:lnTo>
                  <a:pt x="5975246" y="623337"/>
                </a:lnTo>
                <a:lnTo>
                  <a:pt x="5972500" y="626083"/>
                </a:lnTo>
                <a:lnTo>
                  <a:pt x="5972500" y="631575"/>
                </a:lnTo>
                <a:lnTo>
                  <a:pt x="5977992" y="642558"/>
                </a:lnTo>
                <a:lnTo>
                  <a:pt x="5983483" y="634320"/>
                </a:lnTo>
                <a:lnTo>
                  <a:pt x="5983483" y="626083"/>
                </a:lnTo>
                <a:lnTo>
                  <a:pt x="5980738" y="623337"/>
                </a:lnTo>
                <a:lnTo>
                  <a:pt x="5977992" y="620591"/>
                </a:lnTo>
                <a:close/>
                <a:moveTo>
                  <a:pt x="5695156" y="620591"/>
                </a:moveTo>
                <a:lnTo>
                  <a:pt x="5697902" y="628829"/>
                </a:lnTo>
                <a:lnTo>
                  <a:pt x="5703394" y="634320"/>
                </a:lnTo>
                <a:lnTo>
                  <a:pt x="5706140" y="628829"/>
                </a:lnTo>
                <a:lnTo>
                  <a:pt x="5703394" y="626083"/>
                </a:lnTo>
                <a:lnTo>
                  <a:pt x="5700648" y="623337"/>
                </a:lnTo>
                <a:lnTo>
                  <a:pt x="5695156" y="620591"/>
                </a:lnTo>
                <a:close/>
                <a:moveTo>
                  <a:pt x="5107517" y="620591"/>
                </a:moveTo>
                <a:lnTo>
                  <a:pt x="5104771" y="626083"/>
                </a:lnTo>
                <a:lnTo>
                  <a:pt x="5104771" y="631575"/>
                </a:lnTo>
                <a:lnTo>
                  <a:pt x="5107517" y="645304"/>
                </a:lnTo>
                <a:lnTo>
                  <a:pt x="5110263" y="645304"/>
                </a:lnTo>
                <a:lnTo>
                  <a:pt x="5113009" y="648050"/>
                </a:lnTo>
                <a:lnTo>
                  <a:pt x="5115755" y="648050"/>
                </a:lnTo>
                <a:lnTo>
                  <a:pt x="5118501" y="648050"/>
                </a:lnTo>
                <a:lnTo>
                  <a:pt x="5121247" y="642558"/>
                </a:lnTo>
                <a:lnTo>
                  <a:pt x="5123993" y="637066"/>
                </a:lnTo>
                <a:lnTo>
                  <a:pt x="5123993" y="628829"/>
                </a:lnTo>
                <a:lnTo>
                  <a:pt x="5123993" y="620591"/>
                </a:lnTo>
                <a:lnTo>
                  <a:pt x="5107517" y="620591"/>
                </a:lnTo>
                <a:close/>
                <a:moveTo>
                  <a:pt x="5250308" y="617845"/>
                </a:moveTo>
                <a:lnTo>
                  <a:pt x="5250308" y="623337"/>
                </a:lnTo>
                <a:lnTo>
                  <a:pt x="5253053" y="623337"/>
                </a:lnTo>
                <a:lnTo>
                  <a:pt x="5253053" y="626083"/>
                </a:lnTo>
                <a:lnTo>
                  <a:pt x="5255799" y="626083"/>
                </a:lnTo>
                <a:lnTo>
                  <a:pt x="5255799" y="623337"/>
                </a:lnTo>
                <a:lnTo>
                  <a:pt x="5258545" y="623337"/>
                </a:lnTo>
                <a:lnTo>
                  <a:pt x="5258545" y="620591"/>
                </a:lnTo>
                <a:lnTo>
                  <a:pt x="5255799" y="620591"/>
                </a:lnTo>
                <a:lnTo>
                  <a:pt x="5255799" y="617845"/>
                </a:lnTo>
                <a:lnTo>
                  <a:pt x="5253053" y="617845"/>
                </a:lnTo>
                <a:lnTo>
                  <a:pt x="5253053" y="620591"/>
                </a:lnTo>
                <a:lnTo>
                  <a:pt x="5250308" y="617845"/>
                </a:lnTo>
                <a:close/>
                <a:moveTo>
                  <a:pt x="5648474" y="615099"/>
                </a:moveTo>
                <a:lnTo>
                  <a:pt x="5642982" y="620591"/>
                </a:lnTo>
                <a:lnTo>
                  <a:pt x="5648474" y="620591"/>
                </a:lnTo>
                <a:lnTo>
                  <a:pt x="5651220" y="620591"/>
                </a:lnTo>
                <a:lnTo>
                  <a:pt x="5653966" y="623337"/>
                </a:lnTo>
                <a:lnTo>
                  <a:pt x="5656712" y="623337"/>
                </a:lnTo>
                <a:lnTo>
                  <a:pt x="5656712" y="617845"/>
                </a:lnTo>
                <a:lnTo>
                  <a:pt x="5653966" y="617845"/>
                </a:lnTo>
                <a:lnTo>
                  <a:pt x="5651220" y="617845"/>
                </a:lnTo>
                <a:lnTo>
                  <a:pt x="5648474" y="615099"/>
                </a:lnTo>
                <a:close/>
                <a:moveTo>
                  <a:pt x="744160" y="612353"/>
                </a:moveTo>
                <a:lnTo>
                  <a:pt x="741414" y="615099"/>
                </a:lnTo>
                <a:lnTo>
                  <a:pt x="746906" y="615099"/>
                </a:lnTo>
                <a:lnTo>
                  <a:pt x="749652" y="615099"/>
                </a:lnTo>
                <a:lnTo>
                  <a:pt x="752397" y="612353"/>
                </a:lnTo>
                <a:lnTo>
                  <a:pt x="746906" y="612353"/>
                </a:lnTo>
                <a:lnTo>
                  <a:pt x="744160" y="612353"/>
                </a:lnTo>
                <a:close/>
                <a:moveTo>
                  <a:pt x="5631998" y="609607"/>
                </a:moveTo>
                <a:lnTo>
                  <a:pt x="5631998" y="617845"/>
                </a:lnTo>
                <a:lnTo>
                  <a:pt x="5634744" y="615099"/>
                </a:lnTo>
                <a:lnTo>
                  <a:pt x="5634744" y="609607"/>
                </a:lnTo>
                <a:lnTo>
                  <a:pt x="5631998" y="609607"/>
                </a:lnTo>
                <a:close/>
                <a:moveTo>
                  <a:pt x="1378481" y="606861"/>
                </a:moveTo>
                <a:lnTo>
                  <a:pt x="1381227" y="612353"/>
                </a:lnTo>
                <a:lnTo>
                  <a:pt x="1383972" y="615099"/>
                </a:lnTo>
                <a:lnTo>
                  <a:pt x="1383972" y="606861"/>
                </a:lnTo>
                <a:lnTo>
                  <a:pt x="1378481" y="606861"/>
                </a:lnTo>
                <a:close/>
                <a:moveTo>
                  <a:pt x="5755567" y="604115"/>
                </a:moveTo>
                <a:lnTo>
                  <a:pt x="5755567" y="609607"/>
                </a:lnTo>
                <a:lnTo>
                  <a:pt x="5761059" y="609607"/>
                </a:lnTo>
                <a:lnTo>
                  <a:pt x="5763805" y="606861"/>
                </a:lnTo>
                <a:lnTo>
                  <a:pt x="5761059" y="606861"/>
                </a:lnTo>
                <a:lnTo>
                  <a:pt x="5755567" y="604115"/>
                </a:lnTo>
                <a:close/>
                <a:moveTo>
                  <a:pt x="5618268" y="601369"/>
                </a:moveTo>
                <a:lnTo>
                  <a:pt x="5612777" y="604115"/>
                </a:lnTo>
                <a:lnTo>
                  <a:pt x="5612777" y="609607"/>
                </a:lnTo>
                <a:lnTo>
                  <a:pt x="5615523" y="609607"/>
                </a:lnTo>
                <a:lnTo>
                  <a:pt x="5618268" y="609607"/>
                </a:lnTo>
                <a:lnTo>
                  <a:pt x="5621014" y="609607"/>
                </a:lnTo>
                <a:lnTo>
                  <a:pt x="5623760" y="609607"/>
                </a:lnTo>
                <a:lnTo>
                  <a:pt x="5623760" y="604115"/>
                </a:lnTo>
                <a:lnTo>
                  <a:pt x="5618268" y="601369"/>
                </a:lnTo>
                <a:close/>
                <a:moveTo>
                  <a:pt x="5151452" y="601369"/>
                </a:moveTo>
                <a:lnTo>
                  <a:pt x="5143214" y="604115"/>
                </a:lnTo>
                <a:lnTo>
                  <a:pt x="5143214" y="612353"/>
                </a:lnTo>
                <a:lnTo>
                  <a:pt x="5137722" y="612353"/>
                </a:lnTo>
                <a:lnTo>
                  <a:pt x="5134976" y="617845"/>
                </a:lnTo>
                <a:lnTo>
                  <a:pt x="5145960" y="615099"/>
                </a:lnTo>
                <a:lnTo>
                  <a:pt x="5159690" y="615099"/>
                </a:lnTo>
                <a:lnTo>
                  <a:pt x="5156944" y="612353"/>
                </a:lnTo>
                <a:lnTo>
                  <a:pt x="5159690" y="609607"/>
                </a:lnTo>
                <a:lnTo>
                  <a:pt x="5159690" y="604115"/>
                </a:lnTo>
                <a:lnTo>
                  <a:pt x="5151452" y="601369"/>
                </a:lnTo>
                <a:close/>
                <a:moveTo>
                  <a:pt x="5725362" y="598623"/>
                </a:moveTo>
                <a:lnTo>
                  <a:pt x="5725362" y="606861"/>
                </a:lnTo>
                <a:lnTo>
                  <a:pt x="5728108" y="606861"/>
                </a:lnTo>
                <a:lnTo>
                  <a:pt x="5728108" y="601369"/>
                </a:lnTo>
                <a:lnTo>
                  <a:pt x="5725362" y="598623"/>
                </a:lnTo>
                <a:close/>
                <a:moveTo>
                  <a:pt x="6395380" y="595877"/>
                </a:moveTo>
                <a:lnTo>
                  <a:pt x="6392634" y="598623"/>
                </a:lnTo>
                <a:lnTo>
                  <a:pt x="6392634" y="604115"/>
                </a:lnTo>
                <a:lnTo>
                  <a:pt x="6398126" y="604115"/>
                </a:lnTo>
                <a:lnTo>
                  <a:pt x="6400872" y="601369"/>
                </a:lnTo>
                <a:lnTo>
                  <a:pt x="6403618" y="598623"/>
                </a:lnTo>
                <a:lnTo>
                  <a:pt x="6400872" y="595877"/>
                </a:lnTo>
                <a:lnTo>
                  <a:pt x="6398126" y="595877"/>
                </a:lnTo>
                <a:lnTo>
                  <a:pt x="6395380" y="595877"/>
                </a:lnTo>
                <a:close/>
                <a:moveTo>
                  <a:pt x="5585317" y="595877"/>
                </a:moveTo>
                <a:lnTo>
                  <a:pt x="5579825" y="598623"/>
                </a:lnTo>
                <a:lnTo>
                  <a:pt x="5593555" y="598623"/>
                </a:lnTo>
                <a:lnTo>
                  <a:pt x="5601793" y="601369"/>
                </a:lnTo>
                <a:lnTo>
                  <a:pt x="5604539" y="604115"/>
                </a:lnTo>
                <a:lnTo>
                  <a:pt x="5601793" y="598623"/>
                </a:lnTo>
                <a:lnTo>
                  <a:pt x="5593555" y="595877"/>
                </a:lnTo>
                <a:lnTo>
                  <a:pt x="5585317" y="595877"/>
                </a:lnTo>
                <a:close/>
                <a:moveTo>
                  <a:pt x="1540493" y="595877"/>
                </a:moveTo>
                <a:lnTo>
                  <a:pt x="1537748" y="598623"/>
                </a:lnTo>
                <a:lnTo>
                  <a:pt x="1537748" y="601369"/>
                </a:lnTo>
                <a:lnTo>
                  <a:pt x="1540493" y="604115"/>
                </a:lnTo>
                <a:lnTo>
                  <a:pt x="1545985" y="604115"/>
                </a:lnTo>
                <a:lnTo>
                  <a:pt x="1545985" y="598623"/>
                </a:lnTo>
                <a:lnTo>
                  <a:pt x="1540493" y="595877"/>
                </a:lnTo>
                <a:close/>
                <a:moveTo>
                  <a:pt x="6422840" y="593131"/>
                </a:moveTo>
                <a:lnTo>
                  <a:pt x="6417348" y="598623"/>
                </a:lnTo>
                <a:lnTo>
                  <a:pt x="6414602" y="601369"/>
                </a:lnTo>
                <a:lnTo>
                  <a:pt x="6414602" y="604115"/>
                </a:lnTo>
                <a:lnTo>
                  <a:pt x="6417348" y="604115"/>
                </a:lnTo>
                <a:lnTo>
                  <a:pt x="6420094" y="606861"/>
                </a:lnTo>
                <a:lnTo>
                  <a:pt x="6420094" y="604115"/>
                </a:lnTo>
                <a:lnTo>
                  <a:pt x="6422840" y="601369"/>
                </a:lnTo>
                <a:lnTo>
                  <a:pt x="6422840" y="593131"/>
                </a:lnTo>
                <a:close/>
                <a:moveTo>
                  <a:pt x="5659458" y="593131"/>
                </a:moveTo>
                <a:lnTo>
                  <a:pt x="5659458" y="595877"/>
                </a:lnTo>
                <a:lnTo>
                  <a:pt x="5662204" y="598623"/>
                </a:lnTo>
                <a:lnTo>
                  <a:pt x="5664950" y="595877"/>
                </a:lnTo>
                <a:lnTo>
                  <a:pt x="5664950" y="593131"/>
                </a:lnTo>
                <a:lnTo>
                  <a:pt x="5662204" y="593131"/>
                </a:lnTo>
                <a:lnTo>
                  <a:pt x="5659458" y="593131"/>
                </a:lnTo>
                <a:close/>
                <a:moveTo>
                  <a:pt x="5615523" y="593131"/>
                </a:moveTo>
                <a:lnTo>
                  <a:pt x="5615523" y="598623"/>
                </a:lnTo>
                <a:lnTo>
                  <a:pt x="5621014" y="598623"/>
                </a:lnTo>
                <a:lnTo>
                  <a:pt x="5621014" y="593131"/>
                </a:lnTo>
                <a:lnTo>
                  <a:pt x="5615523" y="593131"/>
                </a:lnTo>
                <a:close/>
                <a:moveTo>
                  <a:pt x="5338179" y="593131"/>
                </a:moveTo>
                <a:lnTo>
                  <a:pt x="5340925" y="598623"/>
                </a:lnTo>
                <a:lnTo>
                  <a:pt x="5343671" y="601369"/>
                </a:lnTo>
                <a:lnTo>
                  <a:pt x="5346417" y="598623"/>
                </a:lnTo>
                <a:lnTo>
                  <a:pt x="5346417" y="595877"/>
                </a:lnTo>
                <a:lnTo>
                  <a:pt x="5346417" y="593131"/>
                </a:lnTo>
                <a:lnTo>
                  <a:pt x="5338179" y="593131"/>
                </a:lnTo>
                <a:close/>
                <a:moveTo>
                  <a:pt x="5975246" y="590385"/>
                </a:moveTo>
                <a:lnTo>
                  <a:pt x="5975246" y="593131"/>
                </a:lnTo>
                <a:lnTo>
                  <a:pt x="5972500" y="598623"/>
                </a:lnTo>
                <a:lnTo>
                  <a:pt x="5975246" y="601369"/>
                </a:lnTo>
                <a:lnTo>
                  <a:pt x="5977992" y="604115"/>
                </a:lnTo>
                <a:lnTo>
                  <a:pt x="5977992" y="595877"/>
                </a:lnTo>
                <a:lnTo>
                  <a:pt x="5977992" y="593131"/>
                </a:lnTo>
                <a:lnTo>
                  <a:pt x="5975246" y="590385"/>
                </a:lnTo>
                <a:close/>
                <a:moveTo>
                  <a:pt x="5629252" y="590385"/>
                </a:moveTo>
                <a:lnTo>
                  <a:pt x="5629252" y="598623"/>
                </a:lnTo>
                <a:lnTo>
                  <a:pt x="5631998" y="598623"/>
                </a:lnTo>
                <a:lnTo>
                  <a:pt x="5631998" y="593131"/>
                </a:lnTo>
                <a:lnTo>
                  <a:pt x="5629252" y="590385"/>
                </a:lnTo>
                <a:close/>
                <a:moveTo>
                  <a:pt x="5942294" y="587639"/>
                </a:moveTo>
                <a:lnTo>
                  <a:pt x="5939548" y="595877"/>
                </a:lnTo>
                <a:lnTo>
                  <a:pt x="5939548" y="604115"/>
                </a:lnTo>
                <a:lnTo>
                  <a:pt x="5945040" y="612353"/>
                </a:lnTo>
                <a:lnTo>
                  <a:pt x="5947786" y="617845"/>
                </a:lnTo>
                <a:lnTo>
                  <a:pt x="5947786" y="609607"/>
                </a:lnTo>
                <a:lnTo>
                  <a:pt x="5947786" y="601369"/>
                </a:lnTo>
                <a:lnTo>
                  <a:pt x="5947786" y="593131"/>
                </a:lnTo>
                <a:lnTo>
                  <a:pt x="5945040" y="590385"/>
                </a:lnTo>
                <a:lnTo>
                  <a:pt x="5942294" y="587639"/>
                </a:lnTo>
                <a:close/>
                <a:moveTo>
                  <a:pt x="5909342" y="587639"/>
                </a:moveTo>
                <a:lnTo>
                  <a:pt x="5909342" y="593131"/>
                </a:lnTo>
                <a:lnTo>
                  <a:pt x="5914834" y="593131"/>
                </a:lnTo>
                <a:lnTo>
                  <a:pt x="5914834" y="590385"/>
                </a:lnTo>
                <a:lnTo>
                  <a:pt x="5912088" y="587639"/>
                </a:lnTo>
                <a:lnTo>
                  <a:pt x="5909342" y="587639"/>
                </a:lnTo>
                <a:close/>
                <a:moveTo>
                  <a:pt x="1458113" y="584893"/>
                </a:moveTo>
                <a:lnTo>
                  <a:pt x="1452622" y="587639"/>
                </a:lnTo>
                <a:lnTo>
                  <a:pt x="1449877" y="590385"/>
                </a:lnTo>
                <a:lnTo>
                  <a:pt x="1444383" y="593131"/>
                </a:lnTo>
                <a:lnTo>
                  <a:pt x="1444383" y="590385"/>
                </a:lnTo>
                <a:lnTo>
                  <a:pt x="1438891" y="590385"/>
                </a:lnTo>
                <a:lnTo>
                  <a:pt x="1436146" y="593131"/>
                </a:lnTo>
                <a:lnTo>
                  <a:pt x="1438891" y="593131"/>
                </a:lnTo>
                <a:lnTo>
                  <a:pt x="1441637" y="593131"/>
                </a:lnTo>
                <a:lnTo>
                  <a:pt x="1444383" y="593131"/>
                </a:lnTo>
                <a:lnTo>
                  <a:pt x="1438891" y="595877"/>
                </a:lnTo>
                <a:lnTo>
                  <a:pt x="1438891" y="598623"/>
                </a:lnTo>
                <a:lnTo>
                  <a:pt x="1438891" y="601369"/>
                </a:lnTo>
                <a:lnTo>
                  <a:pt x="1436146" y="598623"/>
                </a:lnTo>
                <a:lnTo>
                  <a:pt x="1436146" y="595877"/>
                </a:lnTo>
                <a:lnTo>
                  <a:pt x="1430655" y="595877"/>
                </a:lnTo>
                <a:lnTo>
                  <a:pt x="1430655" y="598623"/>
                </a:lnTo>
                <a:lnTo>
                  <a:pt x="1430655" y="601369"/>
                </a:lnTo>
                <a:lnTo>
                  <a:pt x="1427907" y="598623"/>
                </a:lnTo>
                <a:lnTo>
                  <a:pt x="1427907" y="595877"/>
                </a:lnTo>
                <a:lnTo>
                  <a:pt x="1422416" y="598623"/>
                </a:lnTo>
                <a:lnTo>
                  <a:pt x="1422416" y="601369"/>
                </a:lnTo>
                <a:lnTo>
                  <a:pt x="1425162" y="604115"/>
                </a:lnTo>
                <a:lnTo>
                  <a:pt x="1433400" y="604115"/>
                </a:lnTo>
                <a:lnTo>
                  <a:pt x="1436146" y="604115"/>
                </a:lnTo>
                <a:lnTo>
                  <a:pt x="1438891" y="604115"/>
                </a:lnTo>
                <a:lnTo>
                  <a:pt x="1438891" y="609607"/>
                </a:lnTo>
                <a:lnTo>
                  <a:pt x="1438891" y="615099"/>
                </a:lnTo>
                <a:lnTo>
                  <a:pt x="1444383" y="617845"/>
                </a:lnTo>
                <a:lnTo>
                  <a:pt x="1449877" y="620591"/>
                </a:lnTo>
                <a:lnTo>
                  <a:pt x="1444383" y="620591"/>
                </a:lnTo>
                <a:lnTo>
                  <a:pt x="1444383" y="631575"/>
                </a:lnTo>
                <a:lnTo>
                  <a:pt x="1455368" y="634321"/>
                </a:lnTo>
                <a:lnTo>
                  <a:pt x="1458113" y="642559"/>
                </a:lnTo>
                <a:lnTo>
                  <a:pt x="1455368" y="645305"/>
                </a:lnTo>
                <a:lnTo>
                  <a:pt x="1455368" y="653542"/>
                </a:lnTo>
                <a:lnTo>
                  <a:pt x="1458113" y="653542"/>
                </a:lnTo>
                <a:lnTo>
                  <a:pt x="1458113" y="659034"/>
                </a:lnTo>
                <a:lnTo>
                  <a:pt x="1458113" y="664526"/>
                </a:lnTo>
                <a:lnTo>
                  <a:pt x="1455368" y="672764"/>
                </a:lnTo>
                <a:lnTo>
                  <a:pt x="1458113" y="686494"/>
                </a:lnTo>
                <a:lnTo>
                  <a:pt x="1471844" y="683748"/>
                </a:lnTo>
                <a:lnTo>
                  <a:pt x="1485574" y="683748"/>
                </a:lnTo>
                <a:lnTo>
                  <a:pt x="1499304" y="686494"/>
                </a:lnTo>
                <a:lnTo>
                  <a:pt x="1510287" y="683748"/>
                </a:lnTo>
                <a:lnTo>
                  <a:pt x="1515779" y="686494"/>
                </a:lnTo>
                <a:lnTo>
                  <a:pt x="1518526" y="683748"/>
                </a:lnTo>
                <a:lnTo>
                  <a:pt x="1518526" y="681002"/>
                </a:lnTo>
                <a:lnTo>
                  <a:pt x="1521272" y="675510"/>
                </a:lnTo>
                <a:lnTo>
                  <a:pt x="1529509" y="675510"/>
                </a:lnTo>
                <a:lnTo>
                  <a:pt x="1535002" y="672764"/>
                </a:lnTo>
                <a:lnTo>
                  <a:pt x="1543239" y="667272"/>
                </a:lnTo>
                <a:lnTo>
                  <a:pt x="1543239" y="659034"/>
                </a:lnTo>
                <a:lnTo>
                  <a:pt x="1545985" y="653542"/>
                </a:lnTo>
                <a:lnTo>
                  <a:pt x="1543239" y="650797"/>
                </a:lnTo>
                <a:lnTo>
                  <a:pt x="1540493" y="645305"/>
                </a:lnTo>
                <a:lnTo>
                  <a:pt x="1535002" y="637067"/>
                </a:lnTo>
                <a:lnTo>
                  <a:pt x="1529509" y="631575"/>
                </a:lnTo>
                <a:lnTo>
                  <a:pt x="1513033" y="623337"/>
                </a:lnTo>
                <a:lnTo>
                  <a:pt x="1515779" y="620591"/>
                </a:lnTo>
                <a:lnTo>
                  <a:pt x="1513033" y="620591"/>
                </a:lnTo>
                <a:lnTo>
                  <a:pt x="1513033" y="617845"/>
                </a:lnTo>
                <a:lnTo>
                  <a:pt x="1510287" y="617845"/>
                </a:lnTo>
                <a:lnTo>
                  <a:pt x="1510287" y="620591"/>
                </a:lnTo>
                <a:lnTo>
                  <a:pt x="1496557" y="620591"/>
                </a:lnTo>
                <a:lnTo>
                  <a:pt x="1485574" y="620591"/>
                </a:lnTo>
                <a:lnTo>
                  <a:pt x="1480081" y="617845"/>
                </a:lnTo>
                <a:lnTo>
                  <a:pt x="1477335" y="615099"/>
                </a:lnTo>
                <a:lnTo>
                  <a:pt x="1474589" y="609607"/>
                </a:lnTo>
                <a:lnTo>
                  <a:pt x="1474589" y="604115"/>
                </a:lnTo>
                <a:lnTo>
                  <a:pt x="1480081" y="601369"/>
                </a:lnTo>
                <a:lnTo>
                  <a:pt x="1482829" y="598623"/>
                </a:lnTo>
                <a:lnTo>
                  <a:pt x="1469098" y="593131"/>
                </a:lnTo>
                <a:lnTo>
                  <a:pt x="1458113" y="584893"/>
                </a:lnTo>
                <a:close/>
                <a:moveTo>
                  <a:pt x="5697902" y="584893"/>
                </a:moveTo>
                <a:lnTo>
                  <a:pt x="5697902" y="598623"/>
                </a:lnTo>
                <a:lnTo>
                  <a:pt x="5703394" y="593131"/>
                </a:lnTo>
                <a:lnTo>
                  <a:pt x="5706140" y="590385"/>
                </a:lnTo>
                <a:lnTo>
                  <a:pt x="5706140" y="587639"/>
                </a:lnTo>
                <a:lnTo>
                  <a:pt x="5703394" y="590385"/>
                </a:lnTo>
                <a:lnTo>
                  <a:pt x="5700648" y="590385"/>
                </a:lnTo>
                <a:lnTo>
                  <a:pt x="5700648" y="587639"/>
                </a:lnTo>
                <a:lnTo>
                  <a:pt x="5697902" y="584893"/>
                </a:lnTo>
                <a:close/>
                <a:moveTo>
                  <a:pt x="1318068" y="582147"/>
                </a:moveTo>
                <a:lnTo>
                  <a:pt x="1318068" y="587639"/>
                </a:lnTo>
                <a:lnTo>
                  <a:pt x="1318068" y="590385"/>
                </a:lnTo>
                <a:lnTo>
                  <a:pt x="1320814" y="593131"/>
                </a:lnTo>
                <a:lnTo>
                  <a:pt x="1326308" y="593131"/>
                </a:lnTo>
                <a:lnTo>
                  <a:pt x="1326308" y="587639"/>
                </a:lnTo>
                <a:lnTo>
                  <a:pt x="1323562" y="582147"/>
                </a:lnTo>
                <a:lnTo>
                  <a:pt x="1318068" y="582147"/>
                </a:lnTo>
                <a:close/>
                <a:moveTo>
                  <a:pt x="5673188" y="582147"/>
                </a:moveTo>
                <a:lnTo>
                  <a:pt x="5673188" y="584893"/>
                </a:lnTo>
                <a:lnTo>
                  <a:pt x="5678680" y="584893"/>
                </a:lnTo>
                <a:lnTo>
                  <a:pt x="5678680" y="582147"/>
                </a:lnTo>
                <a:lnTo>
                  <a:pt x="5673188" y="582147"/>
                </a:lnTo>
                <a:close/>
                <a:moveTo>
                  <a:pt x="5516667" y="582147"/>
                </a:moveTo>
                <a:lnTo>
                  <a:pt x="5511175" y="584893"/>
                </a:lnTo>
                <a:lnTo>
                  <a:pt x="5519413" y="584893"/>
                </a:lnTo>
                <a:lnTo>
                  <a:pt x="5519413" y="582147"/>
                </a:lnTo>
                <a:lnTo>
                  <a:pt x="5516667" y="582147"/>
                </a:lnTo>
                <a:close/>
                <a:moveTo>
                  <a:pt x="5739091" y="579401"/>
                </a:moveTo>
                <a:lnTo>
                  <a:pt x="5733600" y="582147"/>
                </a:lnTo>
                <a:lnTo>
                  <a:pt x="5725362" y="582147"/>
                </a:lnTo>
                <a:lnTo>
                  <a:pt x="5725362" y="584893"/>
                </a:lnTo>
                <a:lnTo>
                  <a:pt x="5725362" y="587639"/>
                </a:lnTo>
                <a:lnTo>
                  <a:pt x="5728108" y="587639"/>
                </a:lnTo>
                <a:lnTo>
                  <a:pt x="5728108" y="590385"/>
                </a:lnTo>
                <a:lnTo>
                  <a:pt x="5739091" y="590385"/>
                </a:lnTo>
                <a:lnTo>
                  <a:pt x="5741837" y="584893"/>
                </a:lnTo>
                <a:lnTo>
                  <a:pt x="5741837" y="582147"/>
                </a:lnTo>
                <a:lnTo>
                  <a:pt x="5739091" y="579401"/>
                </a:lnTo>
                <a:close/>
                <a:moveTo>
                  <a:pt x="5711632" y="579401"/>
                </a:moveTo>
                <a:lnTo>
                  <a:pt x="5708886" y="582147"/>
                </a:lnTo>
                <a:lnTo>
                  <a:pt x="5708886" y="584893"/>
                </a:lnTo>
                <a:lnTo>
                  <a:pt x="5714378" y="584893"/>
                </a:lnTo>
                <a:lnTo>
                  <a:pt x="5717124" y="584893"/>
                </a:lnTo>
                <a:lnTo>
                  <a:pt x="5717124" y="582147"/>
                </a:lnTo>
                <a:lnTo>
                  <a:pt x="5711632" y="579401"/>
                </a:lnTo>
                <a:close/>
                <a:moveTo>
                  <a:pt x="5082803" y="579401"/>
                </a:moveTo>
                <a:lnTo>
                  <a:pt x="5080057" y="584893"/>
                </a:lnTo>
                <a:lnTo>
                  <a:pt x="5082803" y="587639"/>
                </a:lnTo>
                <a:lnTo>
                  <a:pt x="5085549" y="587639"/>
                </a:lnTo>
                <a:lnTo>
                  <a:pt x="5085549" y="579401"/>
                </a:lnTo>
                <a:lnTo>
                  <a:pt x="5082803" y="579401"/>
                </a:lnTo>
                <a:close/>
                <a:moveTo>
                  <a:pt x="1556969" y="576655"/>
                </a:moveTo>
                <a:lnTo>
                  <a:pt x="1554223" y="579401"/>
                </a:lnTo>
                <a:lnTo>
                  <a:pt x="1554223" y="587639"/>
                </a:lnTo>
                <a:lnTo>
                  <a:pt x="1565206" y="587639"/>
                </a:lnTo>
                <a:lnTo>
                  <a:pt x="1565206" y="582147"/>
                </a:lnTo>
                <a:lnTo>
                  <a:pt x="1565206" y="579401"/>
                </a:lnTo>
                <a:lnTo>
                  <a:pt x="1556969" y="576655"/>
                </a:lnTo>
                <a:close/>
                <a:moveTo>
                  <a:pt x="1021503" y="576655"/>
                </a:moveTo>
                <a:lnTo>
                  <a:pt x="1021503" y="587639"/>
                </a:lnTo>
                <a:lnTo>
                  <a:pt x="1026995" y="587639"/>
                </a:lnTo>
                <a:lnTo>
                  <a:pt x="1032487" y="582147"/>
                </a:lnTo>
                <a:lnTo>
                  <a:pt x="1026995" y="579401"/>
                </a:lnTo>
                <a:lnTo>
                  <a:pt x="1021503" y="576655"/>
                </a:lnTo>
                <a:close/>
                <a:moveTo>
                  <a:pt x="5211864" y="571163"/>
                </a:moveTo>
                <a:lnTo>
                  <a:pt x="5211864" y="576655"/>
                </a:lnTo>
                <a:lnTo>
                  <a:pt x="5214610" y="573909"/>
                </a:lnTo>
                <a:lnTo>
                  <a:pt x="5214610" y="576655"/>
                </a:lnTo>
                <a:lnTo>
                  <a:pt x="5217356" y="576655"/>
                </a:lnTo>
                <a:lnTo>
                  <a:pt x="5220102" y="576655"/>
                </a:lnTo>
                <a:lnTo>
                  <a:pt x="5220102" y="573909"/>
                </a:lnTo>
                <a:lnTo>
                  <a:pt x="5217356" y="573909"/>
                </a:lnTo>
                <a:lnTo>
                  <a:pt x="5214610" y="571163"/>
                </a:lnTo>
                <a:lnTo>
                  <a:pt x="5211864" y="571163"/>
                </a:lnTo>
                <a:close/>
                <a:moveTo>
                  <a:pt x="1106629" y="571163"/>
                </a:moveTo>
                <a:lnTo>
                  <a:pt x="1103883" y="576655"/>
                </a:lnTo>
                <a:lnTo>
                  <a:pt x="1109376" y="576655"/>
                </a:lnTo>
                <a:lnTo>
                  <a:pt x="1114868" y="576655"/>
                </a:lnTo>
                <a:lnTo>
                  <a:pt x="1112121" y="571163"/>
                </a:lnTo>
                <a:lnTo>
                  <a:pt x="1109376" y="571163"/>
                </a:lnTo>
                <a:lnTo>
                  <a:pt x="1106629" y="571163"/>
                </a:lnTo>
                <a:close/>
                <a:moveTo>
                  <a:pt x="5612777" y="568417"/>
                </a:moveTo>
                <a:lnTo>
                  <a:pt x="5615523" y="573909"/>
                </a:lnTo>
                <a:lnTo>
                  <a:pt x="5621014" y="573909"/>
                </a:lnTo>
                <a:lnTo>
                  <a:pt x="5621014" y="568417"/>
                </a:lnTo>
                <a:lnTo>
                  <a:pt x="5612777" y="568417"/>
                </a:lnTo>
                <a:close/>
                <a:moveTo>
                  <a:pt x="5165182" y="568417"/>
                </a:moveTo>
                <a:lnTo>
                  <a:pt x="5159690" y="571163"/>
                </a:lnTo>
                <a:lnTo>
                  <a:pt x="5156944" y="573909"/>
                </a:lnTo>
                <a:lnTo>
                  <a:pt x="5159690" y="579401"/>
                </a:lnTo>
                <a:lnTo>
                  <a:pt x="5159690" y="584893"/>
                </a:lnTo>
                <a:lnTo>
                  <a:pt x="5167928" y="587639"/>
                </a:lnTo>
                <a:lnTo>
                  <a:pt x="5170674" y="593131"/>
                </a:lnTo>
                <a:lnTo>
                  <a:pt x="5178912" y="593131"/>
                </a:lnTo>
                <a:lnTo>
                  <a:pt x="5184404" y="593131"/>
                </a:lnTo>
                <a:lnTo>
                  <a:pt x="5187150" y="593131"/>
                </a:lnTo>
                <a:lnTo>
                  <a:pt x="5189896" y="587639"/>
                </a:lnTo>
                <a:lnTo>
                  <a:pt x="5187150" y="582147"/>
                </a:lnTo>
                <a:lnTo>
                  <a:pt x="5184404" y="579401"/>
                </a:lnTo>
                <a:lnTo>
                  <a:pt x="5178912" y="576655"/>
                </a:lnTo>
                <a:lnTo>
                  <a:pt x="5176166" y="573909"/>
                </a:lnTo>
                <a:lnTo>
                  <a:pt x="5176166" y="568417"/>
                </a:lnTo>
                <a:lnTo>
                  <a:pt x="5165182" y="568417"/>
                </a:lnTo>
                <a:close/>
                <a:moveTo>
                  <a:pt x="1425162" y="565671"/>
                </a:moveTo>
                <a:lnTo>
                  <a:pt x="1425162" y="573909"/>
                </a:lnTo>
                <a:lnTo>
                  <a:pt x="1430655" y="573909"/>
                </a:lnTo>
                <a:lnTo>
                  <a:pt x="1430655" y="565671"/>
                </a:lnTo>
                <a:lnTo>
                  <a:pt x="1427907" y="565671"/>
                </a:lnTo>
                <a:lnTo>
                  <a:pt x="1425162" y="565671"/>
                </a:lnTo>
                <a:close/>
                <a:moveTo>
                  <a:pt x="1356512" y="562925"/>
                </a:moveTo>
                <a:lnTo>
                  <a:pt x="1356512" y="571163"/>
                </a:lnTo>
                <a:lnTo>
                  <a:pt x="1362005" y="568417"/>
                </a:lnTo>
                <a:lnTo>
                  <a:pt x="1362005" y="562925"/>
                </a:lnTo>
                <a:lnTo>
                  <a:pt x="1356512" y="562925"/>
                </a:lnTo>
                <a:close/>
                <a:moveTo>
                  <a:pt x="760635" y="562925"/>
                </a:moveTo>
                <a:lnTo>
                  <a:pt x="755144" y="565671"/>
                </a:lnTo>
                <a:lnTo>
                  <a:pt x="755144" y="571163"/>
                </a:lnTo>
                <a:lnTo>
                  <a:pt x="760635" y="571163"/>
                </a:lnTo>
                <a:lnTo>
                  <a:pt x="760635" y="562925"/>
                </a:lnTo>
                <a:close/>
                <a:moveTo>
                  <a:pt x="5700648" y="560179"/>
                </a:moveTo>
                <a:lnTo>
                  <a:pt x="5700648" y="568417"/>
                </a:lnTo>
                <a:lnTo>
                  <a:pt x="5703394" y="571163"/>
                </a:lnTo>
                <a:lnTo>
                  <a:pt x="5706140" y="568417"/>
                </a:lnTo>
                <a:lnTo>
                  <a:pt x="5706140" y="562925"/>
                </a:lnTo>
                <a:lnTo>
                  <a:pt x="5703394" y="562925"/>
                </a:lnTo>
                <a:lnTo>
                  <a:pt x="5700648" y="560179"/>
                </a:lnTo>
                <a:close/>
                <a:moveTo>
                  <a:pt x="5599047" y="560179"/>
                </a:moveTo>
                <a:lnTo>
                  <a:pt x="5599047" y="565671"/>
                </a:lnTo>
                <a:lnTo>
                  <a:pt x="5604539" y="565671"/>
                </a:lnTo>
                <a:lnTo>
                  <a:pt x="5604539" y="560179"/>
                </a:lnTo>
                <a:lnTo>
                  <a:pt x="5599047" y="560179"/>
                </a:lnTo>
                <a:close/>
                <a:moveTo>
                  <a:pt x="1460859" y="557433"/>
                </a:moveTo>
                <a:lnTo>
                  <a:pt x="1460859" y="562925"/>
                </a:lnTo>
                <a:lnTo>
                  <a:pt x="1469098" y="562925"/>
                </a:lnTo>
                <a:lnTo>
                  <a:pt x="1466353" y="560179"/>
                </a:lnTo>
                <a:lnTo>
                  <a:pt x="1460859" y="557433"/>
                </a:lnTo>
                <a:close/>
                <a:moveTo>
                  <a:pt x="727684" y="557433"/>
                </a:moveTo>
                <a:lnTo>
                  <a:pt x="724938" y="560179"/>
                </a:lnTo>
                <a:lnTo>
                  <a:pt x="733176" y="562925"/>
                </a:lnTo>
                <a:lnTo>
                  <a:pt x="735922" y="565671"/>
                </a:lnTo>
                <a:lnTo>
                  <a:pt x="733176" y="560179"/>
                </a:lnTo>
                <a:lnTo>
                  <a:pt x="730430" y="557433"/>
                </a:lnTo>
                <a:lnTo>
                  <a:pt x="727684" y="557433"/>
                </a:lnTo>
                <a:close/>
                <a:moveTo>
                  <a:pt x="5637490" y="551941"/>
                </a:moveTo>
                <a:lnTo>
                  <a:pt x="5637490" y="554687"/>
                </a:lnTo>
                <a:lnTo>
                  <a:pt x="5640236" y="557433"/>
                </a:lnTo>
                <a:lnTo>
                  <a:pt x="5645728" y="554687"/>
                </a:lnTo>
                <a:lnTo>
                  <a:pt x="5651220" y="557433"/>
                </a:lnTo>
                <a:lnTo>
                  <a:pt x="5651220" y="551941"/>
                </a:lnTo>
                <a:lnTo>
                  <a:pt x="5645728" y="551941"/>
                </a:lnTo>
                <a:lnTo>
                  <a:pt x="5642982" y="551941"/>
                </a:lnTo>
                <a:lnTo>
                  <a:pt x="5637490" y="551941"/>
                </a:lnTo>
                <a:close/>
                <a:moveTo>
                  <a:pt x="5115755" y="551941"/>
                </a:moveTo>
                <a:lnTo>
                  <a:pt x="5113009" y="557433"/>
                </a:lnTo>
                <a:lnTo>
                  <a:pt x="5110263" y="562925"/>
                </a:lnTo>
                <a:lnTo>
                  <a:pt x="5107517" y="571163"/>
                </a:lnTo>
                <a:lnTo>
                  <a:pt x="5107517" y="579401"/>
                </a:lnTo>
                <a:lnTo>
                  <a:pt x="5104771" y="582147"/>
                </a:lnTo>
                <a:lnTo>
                  <a:pt x="5102025" y="584893"/>
                </a:lnTo>
                <a:lnTo>
                  <a:pt x="5102025" y="590385"/>
                </a:lnTo>
                <a:lnTo>
                  <a:pt x="5096533" y="593131"/>
                </a:lnTo>
                <a:lnTo>
                  <a:pt x="5102025" y="595877"/>
                </a:lnTo>
                <a:lnTo>
                  <a:pt x="5102025" y="604115"/>
                </a:lnTo>
                <a:lnTo>
                  <a:pt x="5115755" y="606861"/>
                </a:lnTo>
                <a:lnTo>
                  <a:pt x="5123993" y="606861"/>
                </a:lnTo>
                <a:lnTo>
                  <a:pt x="5129485" y="604115"/>
                </a:lnTo>
                <a:lnTo>
                  <a:pt x="5129485" y="593131"/>
                </a:lnTo>
                <a:lnTo>
                  <a:pt x="5129485" y="587639"/>
                </a:lnTo>
                <a:lnTo>
                  <a:pt x="5132230" y="587639"/>
                </a:lnTo>
                <a:lnTo>
                  <a:pt x="5137722" y="587639"/>
                </a:lnTo>
                <a:lnTo>
                  <a:pt x="5143214" y="582147"/>
                </a:lnTo>
                <a:lnTo>
                  <a:pt x="5143214" y="576655"/>
                </a:lnTo>
                <a:lnTo>
                  <a:pt x="5140468" y="576655"/>
                </a:lnTo>
                <a:lnTo>
                  <a:pt x="5137722" y="579401"/>
                </a:lnTo>
                <a:lnTo>
                  <a:pt x="5134976" y="579401"/>
                </a:lnTo>
                <a:lnTo>
                  <a:pt x="5132230" y="579401"/>
                </a:lnTo>
                <a:lnTo>
                  <a:pt x="5126739" y="584893"/>
                </a:lnTo>
                <a:lnTo>
                  <a:pt x="5118501" y="584893"/>
                </a:lnTo>
                <a:lnTo>
                  <a:pt x="5118501" y="582147"/>
                </a:lnTo>
                <a:lnTo>
                  <a:pt x="5115755" y="582147"/>
                </a:lnTo>
                <a:lnTo>
                  <a:pt x="5115755" y="579401"/>
                </a:lnTo>
                <a:lnTo>
                  <a:pt x="5115755" y="576655"/>
                </a:lnTo>
                <a:lnTo>
                  <a:pt x="5118501" y="579401"/>
                </a:lnTo>
                <a:lnTo>
                  <a:pt x="5121247" y="579401"/>
                </a:lnTo>
                <a:lnTo>
                  <a:pt x="5132230" y="576655"/>
                </a:lnTo>
                <a:lnTo>
                  <a:pt x="5137722" y="571163"/>
                </a:lnTo>
                <a:lnTo>
                  <a:pt x="5137722" y="562925"/>
                </a:lnTo>
                <a:lnTo>
                  <a:pt x="5132230" y="560179"/>
                </a:lnTo>
                <a:lnTo>
                  <a:pt x="5132230" y="554687"/>
                </a:lnTo>
                <a:lnTo>
                  <a:pt x="5126739" y="554687"/>
                </a:lnTo>
                <a:lnTo>
                  <a:pt x="5123993" y="554687"/>
                </a:lnTo>
                <a:lnTo>
                  <a:pt x="5121247" y="551941"/>
                </a:lnTo>
                <a:lnTo>
                  <a:pt x="5115755" y="551941"/>
                </a:lnTo>
                <a:close/>
                <a:moveTo>
                  <a:pt x="1323562" y="549195"/>
                </a:moveTo>
                <a:lnTo>
                  <a:pt x="1323562" y="554687"/>
                </a:lnTo>
                <a:lnTo>
                  <a:pt x="1329053" y="554687"/>
                </a:lnTo>
                <a:lnTo>
                  <a:pt x="1329053" y="549195"/>
                </a:lnTo>
                <a:lnTo>
                  <a:pt x="1323562" y="549195"/>
                </a:lnTo>
                <a:close/>
                <a:moveTo>
                  <a:pt x="1515779" y="546449"/>
                </a:moveTo>
                <a:lnTo>
                  <a:pt x="1510287" y="549195"/>
                </a:lnTo>
                <a:lnTo>
                  <a:pt x="1504796" y="549195"/>
                </a:lnTo>
                <a:lnTo>
                  <a:pt x="1491065" y="551941"/>
                </a:lnTo>
                <a:lnTo>
                  <a:pt x="1491065" y="560179"/>
                </a:lnTo>
                <a:lnTo>
                  <a:pt x="1502050" y="557433"/>
                </a:lnTo>
                <a:lnTo>
                  <a:pt x="1510287" y="554687"/>
                </a:lnTo>
                <a:lnTo>
                  <a:pt x="1513033" y="560179"/>
                </a:lnTo>
                <a:lnTo>
                  <a:pt x="1524017" y="560179"/>
                </a:lnTo>
                <a:lnTo>
                  <a:pt x="1524017" y="554687"/>
                </a:lnTo>
                <a:lnTo>
                  <a:pt x="1526763" y="551941"/>
                </a:lnTo>
                <a:lnTo>
                  <a:pt x="1529509" y="549195"/>
                </a:lnTo>
                <a:lnTo>
                  <a:pt x="1521272" y="549195"/>
                </a:lnTo>
                <a:lnTo>
                  <a:pt x="1515779" y="546449"/>
                </a:lnTo>
                <a:close/>
                <a:moveTo>
                  <a:pt x="5678680" y="546449"/>
                </a:moveTo>
                <a:lnTo>
                  <a:pt x="5675934" y="549195"/>
                </a:lnTo>
                <a:lnTo>
                  <a:pt x="5673188" y="549195"/>
                </a:lnTo>
                <a:lnTo>
                  <a:pt x="5673188" y="551941"/>
                </a:lnTo>
                <a:lnTo>
                  <a:pt x="5678680" y="554687"/>
                </a:lnTo>
                <a:lnTo>
                  <a:pt x="5684172" y="557433"/>
                </a:lnTo>
                <a:lnTo>
                  <a:pt x="5681426" y="560179"/>
                </a:lnTo>
                <a:lnTo>
                  <a:pt x="5681426" y="562925"/>
                </a:lnTo>
                <a:lnTo>
                  <a:pt x="5684172" y="560179"/>
                </a:lnTo>
                <a:lnTo>
                  <a:pt x="5684172" y="557433"/>
                </a:lnTo>
                <a:lnTo>
                  <a:pt x="5684172" y="554687"/>
                </a:lnTo>
                <a:lnTo>
                  <a:pt x="5684172" y="549195"/>
                </a:lnTo>
                <a:lnTo>
                  <a:pt x="5678680" y="546449"/>
                </a:lnTo>
                <a:close/>
                <a:moveTo>
                  <a:pt x="1298847" y="543703"/>
                </a:moveTo>
                <a:lnTo>
                  <a:pt x="1296101" y="546449"/>
                </a:lnTo>
                <a:lnTo>
                  <a:pt x="1296101" y="549195"/>
                </a:lnTo>
                <a:lnTo>
                  <a:pt x="1298847" y="551941"/>
                </a:lnTo>
                <a:lnTo>
                  <a:pt x="1304341" y="551941"/>
                </a:lnTo>
                <a:lnTo>
                  <a:pt x="1304341" y="546449"/>
                </a:lnTo>
                <a:lnTo>
                  <a:pt x="1301593" y="543703"/>
                </a:lnTo>
                <a:lnTo>
                  <a:pt x="1298847" y="543703"/>
                </a:lnTo>
                <a:close/>
                <a:moveTo>
                  <a:pt x="1394958" y="540957"/>
                </a:moveTo>
                <a:lnTo>
                  <a:pt x="1397703" y="543703"/>
                </a:lnTo>
                <a:lnTo>
                  <a:pt x="1394958" y="546449"/>
                </a:lnTo>
                <a:lnTo>
                  <a:pt x="1394958" y="549195"/>
                </a:lnTo>
                <a:lnTo>
                  <a:pt x="1403194" y="543703"/>
                </a:lnTo>
                <a:lnTo>
                  <a:pt x="1403194" y="549195"/>
                </a:lnTo>
                <a:lnTo>
                  <a:pt x="1408686" y="549195"/>
                </a:lnTo>
                <a:lnTo>
                  <a:pt x="1411434" y="546449"/>
                </a:lnTo>
                <a:lnTo>
                  <a:pt x="1414179" y="549195"/>
                </a:lnTo>
                <a:lnTo>
                  <a:pt x="1414179" y="540957"/>
                </a:lnTo>
                <a:lnTo>
                  <a:pt x="1394958" y="540957"/>
                </a:lnTo>
                <a:close/>
                <a:moveTo>
                  <a:pt x="5209118" y="538211"/>
                </a:moveTo>
                <a:lnTo>
                  <a:pt x="5200880" y="546449"/>
                </a:lnTo>
                <a:lnTo>
                  <a:pt x="5203626" y="549195"/>
                </a:lnTo>
                <a:lnTo>
                  <a:pt x="5206372" y="549195"/>
                </a:lnTo>
                <a:lnTo>
                  <a:pt x="5214610" y="549195"/>
                </a:lnTo>
                <a:lnTo>
                  <a:pt x="5220102" y="540957"/>
                </a:lnTo>
                <a:lnTo>
                  <a:pt x="5214610" y="538211"/>
                </a:lnTo>
                <a:lnTo>
                  <a:pt x="5209118" y="538211"/>
                </a:lnTo>
                <a:close/>
                <a:moveTo>
                  <a:pt x="840269" y="535465"/>
                </a:moveTo>
                <a:lnTo>
                  <a:pt x="837523" y="540957"/>
                </a:lnTo>
                <a:lnTo>
                  <a:pt x="840269" y="540957"/>
                </a:lnTo>
                <a:lnTo>
                  <a:pt x="843015" y="540957"/>
                </a:lnTo>
                <a:lnTo>
                  <a:pt x="845761" y="538211"/>
                </a:lnTo>
                <a:lnTo>
                  <a:pt x="845761" y="535465"/>
                </a:lnTo>
                <a:lnTo>
                  <a:pt x="840269" y="535465"/>
                </a:lnTo>
                <a:close/>
                <a:moveTo>
                  <a:pt x="5733600" y="532719"/>
                </a:moveTo>
                <a:lnTo>
                  <a:pt x="5730854" y="535465"/>
                </a:lnTo>
                <a:lnTo>
                  <a:pt x="5728108" y="535465"/>
                </a:lnTo>
                <a:lnTo>
                  <a:pt x="5722616" y="535465"/>
                </a:lnTo>
                <a:lnTo>
                  <a:pt x="5722616" y="540957"/>
                </a:lnTo>
                <a:lnTo>
                  <a:pt x="5730854" y="540957"/>
                </a:lnTo>
                <a:lnTo>
                  <a:pt x="5739091" y="540957"/>
                </a:lnTo>
                <a:lnTo>
                  <a:pt x="5739091" y="532719"/>
                </a:lnTo>
                <a:lnTo>
                  <a:pt x="5733600" y="532719"/>
                </a:lnTo>
                <a:close/>
                <a:moveTo>
                  <a:pt x="5629252" y="532719"/>
                </a:moveTo>
                <a:lnTo>
                  <a:pt x="5626506" y="535465"/>
                </a:lnTo>
                <a:lnTo>
                  <a:pt x="5623760" y="538211"/>
                </a:lnTo>
                <a:lnTo>
                  <a:pt x="5618268" y="540957"/>
                </a:lnTo>
                <a:lnTo>
                  <a:pt x="5618268" y="546449"/>
                </a:lnTo>
                <a:lnTo>
                  <a:pt x="5626506" y="549195"/>
                </a:lnTo>
                <a:lnTo>
                  <a:pt x="5629252" y="551941"/>
                </a:lnTo>
                <a:lnTo>
                  <a:pt x="5631998" y="551941"/>
                </a:lnTo>
                <a:lnTo>
                  <a:pt x="5634744" y="549195"/>
                </a:lnTo>
                <a:lnTo>
                  <a:pt x="5634744" y="546449"/>
                </a:lnTo>
                <a:lnTo>
                  <a:pt x="5637490" y="543703"/>
                </a:lnTo>
                <a:lnTo>
                  <a:pt x="5637490" y="538211"/>
                </a:lnTo>
                <a:lnTo>
                  <a:pt x="5634744" y="538211"/>
                </a:lnTo>
                <a:lnTo>
                  <a:pt x="5631998" y="532719"/>
                </a:lnTo>
                <a:lnTo>
                  <a:pt x="5629252" y="532719"/>
                </a:lnTo>
                <a:close/>
                <a:moveTo>
                  <a:pt x="5604539" y="532719"/>
                </a:moveTo>
                <a:lnTo>
                  <a:pt x="5599047" y="538211"/>
                </a:lnTo>
                <a:lnTo>
                  <a:pt x="5593555" y="546449"/>
                </a:lnTo>
                <a:lnTo>
                  <a:pt x="5590809" y="546449"/>
                </a:lnTo>
                <a:lnTo>
                  <a:pt x="5588063" y="543703"/>
                </a:lnTo>
                <a:lnTo>
                  <a:pt x="5588063" y="546449"/>
                </a:lnTo>
                <a:lnTo>
                  <a:pt x="5588063" y="549195"/>
                </a:lnTo>
                <a:lnTo>
                  <a:pt x="5588063" y="551941"/>
                </a:lnTo>
                <a:lnTo>
                  <a:pt x="5593555" y="549195"/>
                </a:lnTo>
                <a:lnTo>
                  <a:pt x="5601793" y="549195"/>
                </a:lnTo>
                <a:lnTo>
                  <a:pt x="5601793" y="543703"/>
                </a:lnTo>
                <a:lnTo>
                  <a:pt x="5601793" y="538211"/>
                </a:lnTo>
                <a:lnTo>
                  <a:pt x="5604539" y="532719"/>
                </a:lnTo>
                <a:close/>
                <a:moveTo>
                  <a:pt x="604115" y="532719"/>
                </a:moveTo>
                <a:lnTo>
                  <a:pt x="601369" y="535465"/>
                </a:lnTo>
                <a:lnTo>
                  <a:pt x="604115" y="538211"/>
                </a:lnTo>
                <a:lnTo>
                  <a:pt x="606861" y="538211"/>
                </a:lnTo>
                <a:lnTo>
                  <a:pt x="609607" y="538211"/>
                </a:lnTo>
                <a:lnTo>
                  <a:pt x="609607" y="532719"/>
                </a:lnTo>
                <a:lnTo>
                  <a:pt x="604115" y="532719"/>
                </a:lnTo>
                <a:close/>
                <a:moveTo>
                  <a:pt x="919902" y="529974"/>
                </a:moveTo>
                <a:lnTo>
                  <a:pt x="917156" y="532719"/>
                </a:lnTo>
                <a:lnTo>
                  <a:pt x="919902" y="535465"/>
                </a:lnTo>
                <a:lnTo>
                  <a:pt x="925395" y="535465"/>
                </a:lnTo>
                <a:lnTo>
                  <a:pt x="925395" y="529974"/>
                </a:lnTo>
                <a:lnTo>
                  <a:pt x="919902" y="529974"/>
                </a:lnTo>
                <a:close/>
                <a:moveTo>
                  <a:pt x="1469098" y="527228"/>
                </a:moveTo>
                <a:lnTo>
                  <a:pt x="1469098" y="532719"/>
                </a:lnTo>
                <a:lnTo>
                  <a:pt x="1469098" y="538211"/>
                </a:lnTo>
                <a:lnTo>
                  <a:pt x="1471844" y="535465"/>
                </a:lnTo>
                <a:lnTo>
                  <a:pt x="1474589" y="535465"/>
                </a:lnTo>
                <a:lnTo>
                  <a:pt x="1477335" y="535465"/>
                </a:lnTo>
                <a:lnTo>
                  <a:pt x="1477335" y="527228"/>
                </a:lnTo>
                <a:lnTo>
                  <a:pt x="1469098" y="527228"/>
                </a:lnTo>
                <a:close/>
                <a:moveTo>
                  <a:pt x="5074565" y="527227"/>
                </a:moveTo>
                <a:lnTo>
                  <a:pt x="5074565" y="538211"/>
                </a:lnTo>
                <a:lnTo>
                  <a:pt x="5077311" y="540957"/>
                </a:lnTo>
                <a:lnTo>
                  <a:pt x="5077311" y="546449"/>
                </a:lnTo>
                <a:lnTo>
                  <a:pt x="5069073" y="546449"/>
                </a:lnTo>
                <a:lnTo>
                  <a:pt x="5060835" y="546449"/>
                </a:lnTo>
                <a:lnTo>
                  <a:pt x="5060835" y="529973"/>
                </a:lnTo>
                <a:lnTo>
                  <a:pt x="5074565" y="527227"/>
                </a:lnTo>
                <a:close/>
                <a:moveTo>
                  <a:pt x="5832455" y="524481"/>
                </a:moveTo>
                <a:lnTo>
                  <a:pt x="5829709" y="527227"/>
                </a:lnTo>
                <a:lnTo>
                  <a:pt x="5826963" y="527227"/>
                </a:lnTo>
                <a:lnTo>
                  <a:pt x="5821471" y="527227"/>
                </a:lnTo>
                <a:lnTo>
                  <a:pt x="5824217" y="532719"/>
                </a:lnTo>
                <a:lnTo>
                  <a:pt x="5826963" y="535465"/>
                </a:lnTo>
                <a:lnTo>
                  <a:pt x="5826963" y="529973"/>
                </a:lnTo>
                <a:lnTo>
                  <a:pt x="5829709" y="529973"/>
                </a:lnTo>
                <a:lnTo>
                  <a:pt x="5832455" y="527227"/>
                </a:lnTo>
                <a:lnTo>
                  <a:pt x="5835201" y="524481"/>
                </a:lnTo>
                <a:lnTo>
                  <a:pt x="5832455" y="524481"/>
                </a:lnTo>
                <a:close/>
                <a:moveTo>
                  <a:pt x="1518526" y="521736"/>
                </a:moveTo>
                <a:lnTo>
                  <a:pt x="1518526" y="524482"/>
                </a:lnTo>
                <a:lnTo>
                  <a:pt x="1524017" y="524482"/>
                </a:lnTo>
                <a:lnTo>
                  <a:pt x="1526763" y="527228"/>
                </a:lnTo>
                <a:lnTo>
                  <a:pt x="1529509" y="529974"/>
                </a:lnTo>
                <a:lnTo>
                  <a:pt x="1535002" y="529974"/>
                </a:lnTo>
                <a:lnTo>
                  <a:pt x="1532255" y="524482"/>
                </a:lnTo>
                <a:lnTo>
                  <a:pt x="1529509" y="521736"/>
                </a:lnTo>
                <a:lnTo>
                  <a:pt x="1518526" y="521736"/>
                </a:lnTo>
                <a:close/>
                <a:moveTo>
                  <a:pt x="1510287" y="521736"/>
                </a:moveTo>
                <a:lnTo>
                  <a:pt x="1510287" y="527228"/>
                </a:lnTo>
                <a:lnTo>
                  <a:pt x="1518526" y="527228"/>
                </a:lnTo>
                <a:lnTo>
                  <a:pt x="1515779" y="521736"/>
                </a:lnTo>
                <a:lnTo>
                  <a:pt x="1510287" y="521736"/>
                </a:lnTo>
                <a:close/>
                <a:moveTo>
                  <a:pt x="1183518" y="518990"/>
                </a:moveTo>
                <a:lnTo>
                  <a:pt x="1183518" y="524482"/>
                </a:lnTo>
                <a:lnTo>
                  <a:pt x="1189009" y="524482"/>
                </a:lnTo>
                <a:lnTo>
                  <a:pt x="1189009" y="521736"/>
                </a:lnTo>
                <a:lnTo>
                  <a:pt x="1186263" y="521736"/>
                </a:lnTo>
                <a:lnTo>
                  <a:pt x="1186263" y="518990"/>
                </a:lnTo>
                <a:lnTo>
                  <a:pt x="1183518" y="518990"/>
                </a:lnTo>
                <a:close/>
                <a:moveTo>
                  <a:pt x="5357401" y="518989"/>
                </a:moveTo>
                <a:lnTo>
                  <a:pt x="5354655" y="521735"/>
                </a:lnTo>
                <a:lnTo>
                  <a:pt x="5354655" y="524481"/>
                </a:lnTo>
                <a:lnTo>
                  <a:pt x="5354655" y="527227"/>
                </a:lnTo>
                <a:lnTo>
                  <a:pt x="5357401" y="527227"/>
                </a:lnTo>
                <a:lnTo>
                  <a:pt x="5357401" y="529973"/>
                </a:lnTo>
                <a:lnTo>
                  <a:pt x="5371131" y="529973"/>
                </a:lnTo>
                <a:lnTo>
                  <a:pt x="5371131" y="524481"/>
                </a:lnTo>
                <a:lnTo>
                  <a:pt x="5371131" y="521735"/>
                </a:lnTo>
                <a:lnTo>
                  <a:pt x="5365639" y="518989"/>
                </a:lnTo>
                <a:lnTo>
                  <a:pt x="5357401" y="518989"/>
                </a:lnTo>
                <a:close/>
                <a:moveTo>
                  <a:pt x="337755" y="516244"/>
                </a:moveTo>
                <a:lnTo>
                  <a:pt x="337755" y="521736"/>
                </a:lnTo>
                <a:lnTo>
                  <a:pt x="343247" y="524482"/>
                </a:lnTo>
                <a:lnTo>
                  <a:pt x="343247" y="516244"/>
                </a:lnTo>
                <a:lnTo>
                  <a:pt x="337755" y="516244"/>
                </a:lnTo>
                <a:close/>
                <a:moveTo>
                  <a:pt x="5673188" y="516243"/>
                </a:moveTo>
                <a:lnTo>
                  <a:pt x="5664950" y="518989"/>
                </a:lnTo>
                <a:lnTo>
                  <a:pt x="5662204" y="518989"/>
                </a:lnTo>
                <a:lnTo>
                  <a:pt x="5659458" y="518989"/>
                </a:lnTo>
                <a:lnTo>
                  <a:pt x="5659458" y="521735"/>
                </a:lnTo>
                <a:lnTo>
                  <a:pt x="5664950" y="521735"/>
                </a:lnTo>
                <a:lnTo>
                  <a:pt x="5667696" y="524481"/>
                </a:lnTo>
                <a:lnTo>
                  <a:pt x="5667696" y="521735"/>
                </a:lnTo>
                <a:lnTo>
                  <a:pt x="5673188" y="521735"/>
                </a:lnTo>
                <a:lnTo>
                  <a:pt x="5673188" y="516243"/>
                </a:lnTo>
                <a:close/>
                <a:moveTo>
                  <a:pt x="518990" y="513498"/>
                </a:moveTo>
                <a:lnTo>
                  <a:pt x="516244" y="516244"/>
                </a:lnTo>
                <a:lnTo>
                  <a:pt x="524482" y="516244"/>
                </a:lnTo>
                <a:lnTo>
                  <a:pt x="524482" y="513498"/>
                </a:lnTo>
                <a:lnTo>
                  <a:pt x="518990" y="513498"/>
                </a:lnTo>
                <a:close/>
                <a:moveTo>
                  <a:pt x="1510287" y="510752"/>
                </a:moveTo>
                <a:lnTo>
                  <a:pt x="1510287" y="513498"/>
                </a:lnTo>
                <a:lnTo>
                  <a:pt x="1507541" y="513498"/>
                </a:lnTo>
                <a:lnTo>
                  <a:pt x="1507541" y="516244"/>
                </a:lnTo>
                <a:lnTo>
                  <a:pt x="1510287" y="516244"/>
                </a:lnTo>
                <a:lnTo>
                  <a:pt x="1510287" y="518990"/>
                </a:lnTo>
                <a:lnTo>
                  <a:pt x="1513033" y="518990"/>
                </a:lnTo>
                <a:lnTo>
                  <a:pt x="1513033" y="516244"/>
                </a:lnTo>
                <a:lnTo>
                  <a:pt x="1515779" y="516244"/>
                </a:lnTo>
                <a:lnTo>
                  <a:pt x="1515779" y="513498"/>
                </a:lnTo>
                <a:lnTo>
                  <a:pt x="1513033" y="513498"/>
                </a:lnTo>
                <a:lnTo>
                  <a:pt x="1513033" y="510752"/>
                </a:lnTo>
                <a:lnTo>
                  <a:pt x="1510287" y="510752"/>
                </a:lnTo>
                <a:close/>
                <a:moveTo>
                  <a:pt x="5286005" y="508006"/>
                </a:moveTo>
                <a:lnTo>
                  <a:pt x="5288751" y="513497"/>
                </a:lnTo>
                <a:lnTo>
                  <a:pt x="5294243" y="513497"/>
                </a:lnTo>
                <a:lnTo>
                  <a:pt x="5294243" y="508006"/>
                </a:lnTo>
                <a:lnTo>
                  <a:pt x="5288751" y="508006"/>
                </a:lnTo>
                <a:lnTo>
                  <a:pt x="5286005" y="508006"/>
                </a:lnTo>
                <a:close/>
                <a:moveTo>
                  <a:pt x="1254913" y="508006"/>
                </a:moveTo>
                <a:lnTo>
                  <a:pt x="1254913" y="510752"/>
                </a:lnTo>
                <a:lnTo>
                  <a:pt x="1252167" y="513498"/>
                </a:lnTo>
                <a:lnTo>
                  <a:pt x="1252167" y="516244"/>
                </a:lnTo>
                <a:lnTo>
                  <a:pt x="1257659" y="518990"/>
                </a:lnTo>
                <a:lnTo>
                  <a:pt x="1263149" y="518990"/>
                </a:lnTo>
                <a:lnTo>
                  <a:pt x="1263149" y="513498"/>
                </a:lnTo>
                <a:lnTo>
                  <a:pt x="1260404" y="510752"/>
                </a:lnTo>
                <a:lnTo>
                  <a:pt x="1257659" y="508006"/>
                </a:lnTo>
                <a:lnTo>
                  <a:pt x="1254913" y="508006"/>
                </a:lnTo>
                <a:close/>
                <a:moveTo>
                  <a:pt x="5563349" y="505260"/>
                </a:moveTo>
                <a:lnTo>
                  <a:pt x="5560603" y="508006"/>
                </a:lnTo>
                <a:lnTo>
                  <a:pt x="5566095" y="508006"/>
                </a:lnTo>
                <a:lnTo>
                  <a:pt x="5571587" y="508006"/>
                </a:lnTo>
                <a:lnTo>
                  <a:pt x="5571587" y="505260"/>
                </a:lnTo>
                <a:lnTo>
                  <a:pt x="5566095" y="505260"/>
                </a:lnTo>
                <a:lnTo>
                  <a:pt x="5563349" y="505260"/>
                </a:lnTo>
                <a:close/>
                <a:moveTo>
                  <a:pt x="1389464" y="505260"/>
                </a:moveTo>
                <a:lnTo>
                  <a:pt x="1389464" y="513498"/>
                </a:lnTo>
                <a:lnTo>
                  <a:pt x="1392210" y="518990"/>
                </a:lnTo>
                <a:lnTo>
                  <a:pt x="1386718" y="518990"/>
                </a:lnTo>
                <a:lnTo>
                  <a:pt x="1386718" y="524482"/>
                </a:lnTo>
                <a:lnTo>
                  <a:pt x="1394958" y="524482"/>
                </a:lnTo>
                <a:lnTo>
                  <a:pt x="1397703" y="518990"/>
                </a:lnTo>
                <a:lnTo>
                  <a:pt x="1397703" y="513498"/>
                </a:lnTo>
                <a:lnTo>
                  <a:pt x="1394958" y="508006"/>
                </a:lnTo>
                <a:lnTo>
                  <a:pt x="1389464" y="505260"/>
                </a:lnTo>
                <a:close/>
                <a:moveTo>
                  <a:pt x="1452622" y="499768"/>
                </a:moveTo>
                <a:lnTo>
                  <a:pt x="1452622" y="508006"/>
                </a:lnTo>
                <a:lnTo>
                  <a:pt x="1455368" y="505260"/>
                </a:lnTo>
                <a:lnTo>
                  <a:pt x="1458113" y="505260"/>
                </a:lnTo>
                <a:lnTo>
                  <a:pt x="1455368" y="499768"/>
                </a:lnTo>
                <a:lnTo>
                  <a:pt x="1452622" y="499768"/>
                </a:lnTo>
                <a:close/>
                <a:moveTo>
                  <a:pt x="5634744" y="499768"/>
                </a:moveTo>
                <a:lnTo>
                  <a:pt x="5637490" y="502514"/>
                </a:lnTo>
                <a:lnTo>
                  <a:pt x="5642982" y="505260"/>
                </a:lnTo>
                <a:lnTo>
                  <a:pt x="5642982" y="499768"/>
                </a:lnTo>
                <a:lnTo>
                  <a:pt x="5634744" y="499768"/>
                </a:lnTo>
                <a:close/>
                <a:moveTo>
                  <a:pt x="5574333" y="499768"/>
                </a:moveTo>
                <a:lnTo>
                  <a:pt x="5574333" y="505260"/>
                </a:lnTo>
                <a:lnTo>
                  <a:pt x="5579825" y="510752"/>
                </a:lnTo>
                <a:lnTo>
                  <a:pt x="5579825" y="508006"/>
                </a:lnTo>
                <a:lnTo>
                  <a:pt x="5579825" y="505260"/>
                </a:lnTo>
                <a:lnTo>
                  <a:pt x="5577079" y="502514"/>
                </a:lnTo>
                <a:lnTo>
                  <a:pt x="5577079" y="499768"/>
                </a:lnTo>
                <a:lnTo>
                  <a:pt x="5574333" y="499768"/>
                </a:lnTo>
                <a:close/>
                <a:moveTo>
                  <a:pt x="5316211" y="499768"/>
                </a:moveTo>
                <a:lnTo>
                  <a:pt x="5316211" y="505260"/>
                </a:lnTo>
                <a:lnTo>
                  <a:pt x="5321703" y="508006"/>
                </a:lnTo>
                <a:lnTo>
                  <a:pt x="5321703" y="499768"/>
                </a:lnTo>
                <a:lnTo>
                  <a:pt x="5316211" y="499768"/>
                </a:lnTo>
                <a:close/>
                <a:moveTo>
                  <a:pt x="1433400" y="497022"/>
                </a:moveTo>
                <a:lnTo>
                  <a:pt x="1433400" y="502514"/>
                </a:lnTo>
                <a:lnTo>
                  <a:pt x="1441637" y="502514"/>
                </a:lnTo>
                <a:lnTo>
                  <a:pt x="1441637" y="497022"/>
                </a:lnTo>
                <a:lnTo>
                  <a:pt x="1433400" y="497022"/>
                </a:lnTo>
                <a:close/>
                <a:moveTo>
                  <a:pt x="5815979" y="497022"/>
                </a:moveTo>
                <a:lnTo>
                  <a:pt x="5815979" y="499768"/>
                </a:lnTo>
                <a:lnTo>
                  <a:pt x="5821471" y="499768"/>
                </a:lnTo>
                <a:lnTo>
                  <a:pt x="5821471" y="497022"/>
                </a:lnTo>
                <a:lnTo>
                  <a:pt x="5815979" y="497022"/>
                </a:lnTo>
                <a:close/>
                <a:moveTo>
                  <a:pt x="1340038" y="491530"/>
                </a:moveTo>
                <a:lnTo>
                  <a:pt x="1340038" y="499768"/>
                </a:lnTo>
                <a:lnTo>
                  <a:pt x="1342784" y="505260"/>
                </a:lnTo>
                <a:lnTo>
                  <a:pt x="1348275" y="508006"/>
                </a:lnTo>
                <a:lnTo>
                  <a:pt x="1353766" y="508006"/>
                </a:lnTo>
                <a:lnTo>
                  <a:pt x="1356512" y="502514"/>
                </a:lnTo>
                <a:lnTo>
                  <a:pt x="1359260" y="499768"/>
                </a:lnTo>
                <a:lnTo>
                  <a:pt x="1359260" y="505260"/>
                </a:lnTo>
                <a:lnTo>
                  <a:pt x="1362005" y="502514"/>
                </a:lnTo>
                <a:lnTo>
                  <a:pt x="1364751" y="502514"/>
                </a:lnTo>
                <a:lnTo>
                  <a:pt x="1367496" y="502514"/>
                </a:lnTo>
                <a:lnTo>
                  <a:pt x="1367496" y="497022"/>
                </a:lnTo>
                <a:lnTo>
                  <a:pt x="1356512" y="497022"/>
                </a:lnTo>
                <a:lnTo>
                  <a:pt x="1351020" y="491530"/>
                </a:lnTo>
                <a:lnTo>
                  <a:pt x="1345529" y="491530"/>
                </a:lnTo>
                <a:lnTo>
                  <a:pt x="1340038" y="491530"/>
                </a:lnTo>
                <a:close/>
                <a:moveTo>
                  <a:pt x="5829709" y="488784"/>
                </a:moveTo>
                <a:lnTo>
                  <a:pt x="5832455" y="494276"/>
                </a:lnTo>
                <a:lnTo>
                  <a:pt x="5835201" y="497022"/>
                </a:lnTo>
                <a:lnTo>
                  <a:pt x="5835201" y="488784"/>
                </a:lnTo>
                <a:lnTo>
                  <a:pt x="5829709" y="488784"/>
                </a:lnTo>
                <a:close/>
                <a:moveTo>
                  <a:pt x="5568841" y="488784"/>
                </a:moveTo>
                <a:lnTo>
                  <a:pt x="5568841" y="491530"/>
                </a:lnTo>
                <a:lnTo>
                  <a:pt x="5566095" y="491530"/>
                </a:lnTo>
                <a:lnTo>
                  <a:pt x="5566095" y="494276"/>
                </a:lnTo>
                <a:lnTo>
                  <a:pt x="5568841" y="494276"/>
                </a:lnTo>
                <a:lnTo>
                  <a:pt x="5568841" y="497022"/>
                </a:lnTo>
                <a:lnTo>
                  <a:pt x="5571587" y="497022"/>
                </a:lnTo>
                <a:lnTo>
                  <a:pt x="5571587" y="494276"/>
                </a:lnTo>
                <a:lnTo>
                  <a:pt x="5574333" y="494276"/>
                </a:lnTo>
                <a:lnTo>
                  <a:pt x="5574333" y="491530"/>
                </a:lnTo>
                <a:lnTo>
                  <a:pt x="5571587" y="491530"/>
                </a:lnTo>
                <a:lnTo>
                  <a:pt x="5571587" y="488784"/>
                </a:lnTo>
                <a:lnTo>
                  <a:pt x="5568841" y="488784"/>
                </a:lnTo>
                <a:close/>
                <a:moveTo>
                  <a:pt x="1485574" y="486038"/>
                </a:moveTo>
                <a:lnTo>
                  <a:pt x="1485574" y="488784"/>
                </a:lnTo>
                <a:lnTo>
                  <a:pt x="1488320" y="491530"/>
                </a:lnTo>
                <a:lnTo>
                  <a:pt x="1496557" y="491530"/>
                </a:lnTo>
                <a:lnTo>
                  <a:pt x="1496557" y="486038"/>
                </a:lnTo>
                <a:lnTo>
                  <a:pt x="1485574" y="486038"/>
                </a:lnTo>
                <a:close/>
                <a:moveTo>
                  <a:pt x="1274134" y="486038"/>
                </a:moveTo>
                <a:lnTo>
                  <a:pt x="1274134" y="488784"/>
                </a:lnTo>
                <a:lnTo>
                  <a:pt x="1279625" y="491530"/>
                </a:lnTo>
                <a:lnTo>
                  <a:pt x="1282371" y="488784"/>
                </a:lnTo>
                <a:lnTo>
                  <a:pt x="1282371" y="486038"/>
                </a:lnTo>
                <a:lnTo>
                  <a:pt x="1276880" y="486038"/>
                </a:lnTo>
                <a:lnTo>
                  <a:pt x="1274134" y="486038"/>
                </a:lnTo>
                <a:close/>
                <a:moveTo>
                  <a:pt x="5774789" y="486038"/>
                </a:moveTo>
                <a:lnTo>
                  <a:pt x="5774789" y="488784"/>
                </a:lnTo>
                <a:lnTo>
                  <a:pt x="5772043" y="491530"/>
                </a:lnTo>
                <a:lnTo>
                  <a:pt x="5772043" y="494276"/>
                </a:lnTo>
                <a:lnTo>
                  <a:pt x="5777535" y="491530"/>
                </a:lnTo>
                <a:lnTo>
                  <a:pt x="5780281" y="488784"/>
                </a:lnTo>
                <a:lnTo>
                  <a:pt x="5777535" y="488784"/>
                </a:lnTo>
                <a:lnTo>
                  <a:pt x="5777535" y="486038"/>
                </a:lnTo>
                <a:lnTo>
                  <a:pt x="5774789" y="486038"/>
                </a:lnTo>
                <a:close/>
                <a:moveTo>
                  <a:pt x="5582571" y="486038"/>
                </a:moveTo>
                <a:lnTo>
                  <a:pt x="5582571" y="499768"/>
                </a:lnTo>
                <a:lnTo>
                  <a:pt x="5585317" y="499768"/>
                </a:lnTo>
                <a:lnTo>
                  <a:pt x="5585317" y="497022"/>
                </a:lnTo>
                <a:lnTo>
                  <a:pt x="5588063" y="497022"/>
                </a:lnTo>
                <a:lnTo>
                  <a:pt x="5585317" y="494276"/>
                </a:lnTo>
                <a:lnTo>
                  <a:pt x="5588063" y="486038"/>
                </a:lnTo>
                <a:lnTo>
                  <a:pt x="5582571" y="486038"/>
                </a:lnTo>
                <a:close/>
                <a:moveTo>
                  <a:pt x="1554223" y="480546"/>
                </a:moveTo>
                <a:lnTo>
                  <a:pt x="1545985" y="483292"/>
                </a:lnTo>
                <a:lnTo>
                  <a:pt x="1545985" y="488784"/>
                </a:lnTo>
                <a:lnTo>
                  <a:pt x="1551477" y="486038"/>
                </a:lnTo>
                <a:lnTo>
                  <a:pt x="1554223" y="480546"/>
                </a:lnTo>
                <a:close/>
                <a:moveTo>
                  <a:pt x="1515779" y="480546"/>
                </a:moveTo>
                <a:lnTo>
                  <a:pt x="1515779" y="486038"/>
                </a:lnTo>
                <a:lnTo>
                  <a:pt x="1515779" y="491530"/>
                </a:lnTo>
                <a:lnTo>
                  <a:pt x="1518526" y="494276"/>
                </a:lnTo>
                <a:lnTo>
                  <a:pt x="1515779" y="497022"/>
                </a:lnTo>
                <a:lnTo>
                  <a:pt x="1518526" y="499768"/>
                </a:lnTo>
                <a:lnTo>
                  <a:pt x="1521272" y="499768"/>
                </a:lnTo>
                <a:lnTo>
                  <a:pt x="1529509" y="497022"/>
                </a:lnTo>
                <a:lnTo>
                  <a:pt x="1529509" y="502514"/>
                </a:lnTo>
                <a:lnTo>
                  <a:pt x="1532255" y="505260"/>
                </a:lnTo>
                <a:lnTo>
                  <a:pt x="1535002" y="508006"/>
                </a:lnTo>
                <a:lnTo>
                  <a:pt x="1532255" y="510752"/>
                </a:lnTo>
                <a:lnTo>
                  <a:pt x="1535002" y="510752"/>
                </a:lnTo>
                <a:lnTo>
                  <a:pt x="1535002" y="513498"/>
                </a:lnTo>
                <a:lnTo>
                  <a:pt x="1535002" y="516244"/>
                </a:lnTo>
                <a:lnTo>
                  <a:pt x="1540493" y="516244"/>
                </a:lnTo>
                <a:lnTo>
                  <a:pt x="1543239" y="518990"/>
                </a:lnTo>
                <a:lnTo>
                  <a:pt x="1554223" y="524482"/>
                </a:lnTo>
                <a:lnTo>
                  <a:pt x="1551477" y="518990"/>
                </a:lnTo>
                <a:lnTo>
                  <a:pt x="1545985" y="516244"/>
                </a:lnTo>
                <a:lnTo>
                  <a:pt x="1543239" y="510752"/>
                </a:lnTo>
                <a:lnTo>
                  <a:pt x="1540493" y="505260"/>
                </a:lnTo>
                <a:lnTo>
                  <a:pt x="1543239" y="505260"/>
                </a:lnTo>
                <a:lnTo>
                  <a:pt x="1543239" y="499768"/>
                </a:lnTo>
                <a:lnTo>
                  <a:pt x="1540493" y="494276"/>
                </a:lnTo>
                <a:lnTo>
                  <a:pt x="1526763" y="494276"/>
                </a:lnTo>
                <a:lnTo>
                  <a:pt x="1526763" y="488784"/>
                </a:lnTo>
                <a:lnTo>
                  <a:pt x="1524017" y="480546"/>
                </a:lnTo>
                <a:lnTo>
                  <a:pt x="1515779" y="480546"/>
                </a:lnTo>
                <a:close/>
                <a:moveTo>
                  <a:pt x="1408686" y="477800"/>
                </a:moveTo>
                <a:lnTo>
                  <a:pt x="1403194" y="480546"/>
                </a:lnTo>
                <a:lnTo>
                  <a:pt x="1400448" y="483292"/>
                </a:lnTo>
                <a:lnTo>
                  <a:pt x="1403194" y="486038"/>
                </a:lnTo>
                <a:lnTo>
                  <a:pt x="1408686" y="486038"/>
                </a:lnTo>
                <a:lnTo>
                  <a:pt x="1408686" y="477800"/>
                </a:lnTo>
                <a:close/>
                <a:moveTo>
                  <a:pt x="422880" y="477800"/>
                </a:moveTo>
                <a:lnTo>
                  <a:pt x="395421" y="483292"/>
                </a:lnTo>
                <a:lnTo>
                  <a:pt x="381691" y="486038"/>
                </a:lnTo>
                <a:lnTo>
                  <a:pt x="365215" y="486038"/>
                </a:lnTo>
                <a:lnTo>
                  <a:pt x="370707" y="491530"/>
                </a:lnTo>
                <a:lnTo>
                  <a:pt x="376199" y="494276"/>
                </a:lnTo>
                <a:lnTo>
                  <a:pt x="387183" y="494276"/>
                </a:lnTo>
                <a:lnTo>
                  <a:pt x="395421" y="491530"/>
                </a:lnTo>
                <a:lnTo>
                  <a:pt x="411897" y="486038"/>
                </a:lnTo>
                <a:lnTo>
                  <a:pt x="420134" y="483292"/>
                </a:lnTo>
                <a:lnTo>
                  <a:pt x="422880" y="477800"/>
                </a:lnTo>
                <a:close/>
                <a:moveTo>
                  <a:pt x="5697902" y="475054"/>
                </a:moveTo>
                <a:lnTo>
                  <a:pt x="5697902" y="483292"/>
                </a:lnTo>
                <a:lnTo>
                  <a:pt x="5703394" y="486038"/>
                </a:lnTo>
                <a:lnTo>
                  <a:pt x="5706140" y="483292"/>
                </a:lnTo>
                <a:lnTo>
                  <a:pt x="5706140" y="480546"/>
                </a:lnTo>
                <a:lnTo>
                  <a:pt x="5703394" y="480546"/>
                </a:lnTo>
                <a:lnTo>
                  <a:pt x="5700648" y="477800"/>
                </a:lnTo>
                <a:lnTo>
                  <a:pt x="5700648" y="475054"/>
                </a:lnTo>
                <a:lnTo>
                  <a:pt x="5697902" y="475054"/>
                </a:lnTo>
                <a:close/>
                <a:moveTo>
                  <a:pt x="1386718" y="475054"/>
                </a:moveTo>
                <a:lnTo>
                  <a:pt x="1386718" y="477800"/>
                </a:lnTo>
                <a:lnTo>
                  <a:pt x="1381227" y="477800"/>
                </a:lnTo>
                <a:lnTo>
                  <a:pt x="1381227" y="480546"/>
                </a:lnTo>
                <a:lnTo>
                  <a:pt x="1392210" y="480546"/>
                </a:lnTo>
                <a:lnTo>
                  <a:pt x="1394958" y="475054"/>
                </a:lnTo>
                <a:lnTo>
                  <a:pt x="1389464" y="475054"/>
                </a:lnTo>
                <a:lnTo>
                  <a:pt x="1386718" y="475054"/>
                </a:lnTo>
                <a:close/>
                <a:moveTo>
                  <a:pt x="475054" y="475054"/>
                </a:moveTo>
                <a:lnTo>
                  <a:pt x="461324" y="477800"/>
                </a:lnTo>
                <a:lnTo>
                  <a:pt x="458578" y="480546"/>
                </a:lnTo>
                <a:lnTo>
                  <a:pt x="458578" y="486038"/>
                </a:lnTo>
                <a:lnTo>
                  <a:pt x="469562" y="483292"/>
                </a:lnTo>
                <a:lnTo>
                  <a:pt x="477800" y="483292"/>
                </a:lnTo>
                <a:lnTo>
                  <a:pt x="486038" y="480546"/>
                </a:lnTo>
                <a:lnTo>
                  <a:pt x="497022" y="480546"/>
                </a:lnTo>
                <a:lnTo>
                  <a:pt x="499768" y="483292"/>
                </a:lnTo>
                <a:lnTo>
                  <a:pt x="499768" y="486038"/>
                </a:lnTo>
                <a:lnTo>
                  <a:pt x="505260" y="483292"/>
                </a:lnTo>
                <a:lnTo>
                  <a:pt x="505260" y="480546"/>
                </a:lnTo>
                <a:lnTo>
                  <a:pt x="497022" y="480546"/>
                </a:lnTo>
                <a:lnTo>
                  <a:pt x="488784" y="477800"/>
                </a:lnTo>
                <a:lnTo>
                  <a:pt x="475054" y="475054"/>
                </a:lnTo>
                <a:close/>
                <a:moveTo>
                  <a:pt x="5590809" y="472308"/>
                </a:moveTo>
                <a:lnTo>
                  <a:pt x="5588063" y="477800"/>
                </a:lnTo>
                <a:lnTo>
                  <a:pt x="5599047" y="477800"/>
                </a:lnTo>
                <a:lnTo>
                  <a:pt x="5599047" y="472308"/>
                </a:lnTo>
                <a:lnTo>
                  <a:pt x="5590809" y="472308"/>
                </a:lnTo>
                <a:close/>
                <a:moveTo>
                  <a:pt x="1526763" y="469562"/>
                </a:moveTo>
                <a:lnTo>
                  <a:pt x="1526763" y="472308"/>
                </a:lnTo>
                <a:lnTo>
                  <a:pt x="1524017" y="477800"/>
                </a:lnTo>
                <a:lnTo>
                  <a:pt x="1532255" y="477800"/>
                </a:lnTo>
                <a:lnTo>
                  <a:pt x="1532255" y="472308"/>
                </a:lnTo>
                <a:lnTo>
                  <a:pt x="1526763" y="469562"/>
                </a:lnTo>
                <a:close/>
                <a:moveTo>
                  <a:pt x="1496557" y="466816"/>
                </a:moveTo>
                <a:lnTo>
                  <a:pt x="1496557" y="477800"/>
                </a:lnTo>
                <a:lnTo>
                  <a:pt x="1504796" y="475054"/>
                </a:lnTo>
                <a:lnTo>
                  <a:pt x="1510287" y="472308"/>
                </a:lnTo>
                <a:lnTo>
                  <a:pt x="1510287" y="469562"/>
                </a:lnTo>
                <a:lnTo>
                  <a:pt x="1504796" y="466816"/>
                </a:lnTo>
                <a:lnTo>
                  <a:pt x="1496557" y="466816"/>
                </a:lnTo>
                <a:close/>
                <a:moveTo>
                  <a:pt x="5651220" y="466816"/>
                </a:moveTo>
                <a:lnTo>
                  <a:pt x="5653966" y="472308"/>
                </a:lnTo>
                <a:lnTo>
                  <a:pt x="5653966" y="475054"/>
                </a:lnTo>
                <a:lnTo>
                  <a:pt x="5659458" y="475054"/>
                </a:lnTo>
                <a:lnTo>
                  <a:pt x="5656712" y="466816"/>
                </a:lnTo>
                <a:lnTo>
                  <a:pt x="5651220" y="466816"/>
                </a:lnTo>
                <a:close/>
                <a:moveTo>
                  <a:pt x="1364751" y="464070"/>
                </a:moveTo>
                <a:lnTo>
                  <a:pt x="1362005" y="472308"/>
                </a:lnTo>
                <a:lnTo>
                  <a:pt x="1364751" y="480546"/>
                </a:lnTo>
                <a:lnTo>
                  <a:pt x="1370242" y="480546"/>
                </a:lnTo>
                <a:lnTo>
                  <a:pt x="1370242" y="475054"/>
                </a:lnTo>
                <a:lnTo>
                  <a:pt x="1372988" y="472308"/>
                </a:lnTo>
                <a:lnTo>
                  <a:pt x="1375736" y="464070"/>
                </a:lnTo>
                <a:lnTo>
                  <a:pt x="1370242" y="464070"/>
                </a:lnTo>
                <a:lnTo>
                  <a:pt x="1364751" y="464070"/>
                </a:lnTo>
                <a:close/>
                <a:moveTo>
                  <a:pt x="5741837" y="461324"/>
                </a:moveTo>
                <a:lnTo>
                  <a:pt x="5741837" y="466816"/>
                </a:lnTo>
                <a:lnTo>
                  <a:pt x="5744583" y="464070"/>
                </a:lnTo>
                <a:lnTo>
                  <a:pt x="5747329" y="461324"/>
                </a:lnTo>
                <a:lnTo>
                  <a:pt x="5741837" y="461324"/>
                </a:lnTo>
                <a:close/>
                <a:moveTo>
                  <a:pt x="1367496" y="453086"/>
                </a:moveTo>
                <a:lnTo>
                  <a:pt x="1367496" y="455832"/>
                </a:lnTo>
                <a:lnTo>
                  <a:pt x="1370242" y="455832"/>
                </a:lnTo>
                <a:lnTo>
                  <a:pt x="1372988" y="458578"/>
                </a:lnTo>
                <a:lnTo>
                  <a:pt x="1375736" y="461324"/>
                </a:lnTo>
                <a:lnTo>
                  <a:pt x="1375736" y="455832"/>
                </a:lnTo>
                <a:lnTo>
                  <a:pt x="1372988" y="455832"/>
                </a:lnTo>
                <a:lnTo>
                  <a:pt x="1372988" y="453086"/>
                </a:lnTo>
                <a:lnTo>
                  <a:pt x="1367496" y="453086"/>
                </a:lnTo>
                <a:close/>
                <a:moveTo>
                  <a:pt x="1521272" y="450340"/>
                </a:moveTo>
                <a:lnTo>
                  <a:pt x="1515779" y="453086"/>
                </a:lnTo>
                <a:lnTo>
                  <a:pt x="1513033" y="455832"/>
                </a:lnTo>
                <a:lnTo>
                  <a:pt x="1518526" y="458578"/>
                </a:lnTo>
                <a:lnTo>
                  <a:pt x="1526763" y="461324"/>
                </a:lnTo>
                <a:lnTo>
                  <a:pt x="1524017" y="461324"/>
                </a:lnTo>
                <a:lnTo>
                  <a:pt x="1524017" y="464070"/>
                </a:lnTo>
                <a:lnTo>
                  <a:pt x="1529509" y="464070"/>
                </a:lnTo>
                <a:lnTo>
                  <a:pt x="1526763" y="461324"/>
                </a:lnTo>
                <a:lnTo>
                  <a:pt x="1529509" y="455832"/>
                </a:lnTo>
                <a:lnTo>
                  <a:pt x="1529509" y="453086"/>
                </a:lnTo>
                <a:lnTo>
                  <a:pt x="1524017" y="450340"/>
                </a:lnTo>
                <a:lnTo>
                  <a:pt x="1521272" y="450340"/>
                </a:lnTo>
                <a:close/>
                <a:moveTo>
                  <a:pt x="1416924" y="450340"/>
                </a:moveTo>
                <a:lnTo>
                  <a:pt x="1414179" y="453086"/>
                </a:lnTo>
                <a:lnTo>
                  <a:pt x="1419670" y="455832"/>
                </a:lnTo>
                <a:lnTo>
                  <a:pt x="1425162" y="455832"/>
                </a:lnTo>
                <a:lnTo>
                  <a:pt x="1425162" y="450340"/>
                </a:lnTo>
                <a:lnTo>
                  <a:pt x="1416924" y="450340"/>
                </a:lnTo>
                <a:close/>
                <a:moveTo>
                  <a:pt x="1469098" y="447594"/>
                </a:moveTo>
                <a:lnTo>
                  <a:pt x="1469098" y="450340"/>
                </a:lnTo>
                <a:lnTo>
                  <a:pt x="1466353" y="450340"/>
                </a:lnTo>
                <a:lnTo>
                  <a:pt x="1469098" y="453086"/>
                </a:lnTo>
                <a:lnTo>
                  <a:pt x="1469098" y="455832"/>
                </a:lnTo>
                <a:lnTo>
                  <a:pt x="1466353" y="455832"/>
                </a:lnTo>
                <a:lnTo>
                  <a:pt x="1463606" y="455832"/>
                </a:lnTo>
                <a:lnTo>
                  <a:pt x="1463606" y="461324"/>
                </a:lnTo>
                <a:lnTo>
                  <a:pt x="1466353" y="461324"/>
                </a:lnTo>
                <a:lnTo>
                  <a:pt x="1469098" y="461324"/>
                </a:lnTo>
                <a:lnTo>
                  <a:pt x="1469098" y="464070"/>
                </a:lnTo>
                <a:lnTo>
                  <a:pt x="1471844" y="464070"/>
                </a:lnTo>
                <a:lnTo>
                  <a:pt x="1471844" y="458578"/>
                </a:lnTo>
                <a:lnTo>
                  <a:pt x="1469098" y="453086"/>
                </a:lnTo>
                <a:lnTo>
                  <a:pt x="1474589" y="453086"/>
                </a:lnTo>
                <a:lnTo>
                  <a:pt x="1474589" y="450340"/>
                </a:lnTo>
                <a:lnTo>
                  <a:pt x="1469098" y="447594"/>
                </a:lnTo>
                <a:close/>
                <a:moveTo>
                  <a:pt x="1301593" y="444848"/>
                </a:moveTo>
                <a:lnTo>
                  <a:pt x="1301593" y="447594"/>
                </a:lnTo>
                <a:lnTo>
                  <a:pt x="1298847" y="447594"/>
                </a:lnTo>
                <a:lnTo>
                  <a:pt x="1290611" y="447594"/>
                </a:lnTo>
                <a:lnTo>
                  <a:pt x="1293356" y="453086"/>
                </a:lnTo>
                <a:lnTo>
                  <a:pt x="1296101" y="453086"/>
                </a:lnTo>
                <a:lnTo>
                  <a:pt x="1298847" y="453086"/>
                </a:lnTo>
                <a:lnTo>
                  <a:pt x="1298847" y="450340"/>
                </a:lnTo>
                <a:lnTo>
                  <a:pt x="1301593" y="453086"/>
                </a:lnTo>
                <a:lnTo>
                  <a:pt x="1304341" y="453086"/>
                </a:lnTo>
                <a:lnTo>
                  <a:pt x="1307086" y="453086"/>
                </a:lnTo>
                <a:lnTo>
                  <a:pt x="1309832" y="450340"/>
                </a:lnTo>
                <a:lnTo>
                  <a:pt x="1309832" y="444848"/>
                </a:lnTo>
                <a:lnTo>
                  <a:pt x="1301593" y="444848"/>
                </a:lnTo>
                <a:close/>
                <a:moveTo>
                  <a:pt x="1449877" y="442102"/>
                </a:moveTo>
                <a:lnTo>
                  <a:pt x="1444383" y="444848"/>
                </a:lnTo>
                <a:lnTo>
                  <a:pt x="1444383" y="450340"/>
                </a:lnTo>
                <a:lnTo>
                  <a:pt x="1444383" y="455832"/>
                </a:lnTo>
                <a:lnTo>
                  <a:pt x="1447130" y="461324"/>
                </a:lnTo>
                <a:lnTo>
                  <a:pt x="1436146" y="461324"/>
                </a:lnTo>
                <a:lnTo>
                  <a:pt x="1436146" y="464070"/>
                </a:lnTo>
                <a:lnTo>
                  <a:pt x="1438891" y="469562"/>
                </a:lnTo>
                <a:lnTo>
                  <a:pt x="1441637" y="472308"/>
                </a:lnTo>
                <a:lnTo>
                  <a:pt x="1441637" y="480546"/>
                </a:lnTo>
                <a:lnTo>
                  <a:pt x="1447130" y="486038"/>
                </a:lnTo>
                <a:lnTo>
                  <a:pt x="1452622" y="486038"/>
                </a:lnTo>
                <a:lnTo>
                  <a:pt x="1455368" y="491530"/>
                </a:lnTo>
                <a:lnTo>
                  <a:pt x="1463606" y="486038"/>
                </a:lnTo>
                <a:lnTo>
                  <a:pt x="1469098" y="477800"/>
                </a:lnTo>
                <a:lnTo>
                  <a:pt x="1463606" y="477800"/>
                </a:lnTo>
                <a:lnTo>
                  <a:pt x="1463606" y="475054"/>
                </a:lnTo>
                <a:lnTo>
                  <a:pt x="1460859" y="469562"/>
                </a:lnTo>
                <a:lnTo>
                  <a:pt x="1452622" y="469562"/>
                </a:lnTo>
                <a:lnTo>
                  <a:pt x="1447130" y="469562"/>
                </a:lnTo>
                <a:lnTo>
                  <a:pt x="1447130" y="464070"/>
                </a:lnTo>
                <a:lnTo>
                  <a:pt x="1449877" y="461324"/>
                </a:lnTo>
                <a:lnTo>
                  <a:pt x="1458113" y="458578"/>
                </a:lnTo>
                <a:lnTo>
                  <a:pt x="1455368" y="447594"/>
                </a:lnTo>
                <a:lnTo>
                  <a:pt x="1449877" y="442102"/>
                </a:lnTo>
                <a:close/>
                <a:moveTo>
                  <a:pt x="1532255" y="439356"/>
                </a:moveTo>
                <a:lnTo>
                  <a:pt x="1532255" y="442102"/>
                </a:lnTo>
                <a:lnTo>
                  <a:pt x="1537748" y="442102"/>
                </a:lnTo>
                <a:lnTo>
                  <a:pt x="1540493" y="444848"/>
                </a:lnTo>
                <a:lnTo>
                  <a:pt x="1540493" y="442102"/>
                </a:lnTo>
                <a:lnTo>
                  <a:pt x="1543239" y="442102"/>
                </a:lnTo>
                <a:lnTo>
                  <a:pt x="1543239" y="439356"/>
                </a:lnTo>
                <a:lnTo>
                  <a:pt x="1535002" y="439356"/>
                </a:lnTo>
                <a:lnTo>
                  <a:pt x="1532255" y="439356"/>
                </a:lnTo>
                <a:close/>
                <a:moveTo>
                  <a:pt x="1419670" y="433864"/>
                </a:moveTo>
                <a:lnTo>
                  <a:pt x="1414179" y="436610"/>
                </a:lnTo>
                <a:lnTo>
                  <a:pt x="1414179" y="444848"/>
                </a:lnTo>
                <a:lnTo>
                  <a:pt x="1425162" y="444848"/>
                </a:lnTo>
                <a:lnTo>
                  <a:pt x="1427907" y="439356"/>
                </a:lnTo>
                <a:lnTo>
                  <a:pt x="1427907" y="436610"/>
                </a:lnTo>
                <a:lnTo>
                  <a:pt x="1427907" y="433864"/>
                </a:lnTo>
                <a:lnTo>
                  <a:pt x="1419670" y="433864"/>
                </a:lnTo>
                <a:close/>
                <a:moveTo>
                  <a:pt x="1392210" y="433864"/>
                </a:moveTo>
                <a:lnTo>
                  <a:pt x="1392210" y="442102"/>
                </a:lnTo>
                <a:lnTo>
                  <a:pt x="1400448" y="442102"/>
                </a:lnTo>
                <a:lnTo>
                  <a:pt x="1400448" y="439356"/>
                </a:lnTo>
                <a:lnTo>
                  <a:pt x="1403194" y="436610"/>
                </a:lnTo>
                <a:lnTo>
                  <a:pt x="1403194" y="433864"/>
                </a:lnTo>
                <a:lnTo>
                  <a:pt x="1397703" y="433864"/>
                </a:lnTo>
                <a:lnTo>
                  <a:pt x="1394958" y="436610"/>
                </a:lnTo>
                <a:lnTo>
                  <a:pt x="1392210" y="433864"/>
                </a:lnTo>
                <a:close/>
                <a:moveTo>
                  <a:pt x="6134512" y="431118"/>
                </a:moveTo>
                <a:lnTo>
                  <a:pt x="6134512" y="436610"/>
                </a:lnTo>
                <a:lnTo>
                  <a:pt x="6129020" y="436610"/>
                </a:lnTo>
                <a:lnTo>
                  <a:pt x="6129020" y="439356"/>
                </a:lnTo>
                <a:lnTo>
                  <a:pt x="6137258" y="439356"/>
                </a:lnTo>
                <a:lnTo>
                  <a:pt x="6140004" y="436610"/>
                </a:lnTo>
                <a:lnTo>
                  <a:pt x="6140004" y="433864"/>
                </a:lnTo>
                <a:lnTo>
                  <a:pt x="6137258" y="433864"/>
                </a:lnTo>
                <a:lnTo>
                  <a:pt x="6134512" y="431118"/>
                </a:lnTo>
                <a:close/>
                <a:moveTo>
                  <a:pt x="1471844" y="428372"/>
                </a:moveTo>
                <a:lnTo>
                  <a:pt x="1471844" y="431118"/>
                </a:lnTo>
                <a:lnTo>
                  <a:pt x="1471844" y="433864"/>
                </a:lnTo>
                <a:lnTo>
                  <a:pt x="1469098" y="433864"/>
                </a:lnTo>
                <a:lnTo>
                  <a:pt x="1471844" y="428372"/>
                </a:lnTo>
                <a:close/>
                <a:moveTo>
                  <a:pt x="197710" y="428372"/>
                </a:moveTo>
                <a:lnTo>
                  <a:pt x="186726" y="433864"/>
                </a:lnTo>
                <a:lnTo>
                  <a:pt x="175743" y="439356"/>
                </a:lnTo>
                <a:lnTo>
                  <a:pt x="162012" y="442102"/>
                </a:lnTo>
                <a:lnTo>
                  <a:pt x="145537" y="442102"/>
                </a:lnTo>
                <a:lnTo>
                  <a:pt x="115331" y="439356"/>
                </a:lnTo>
                <a:lnTo>
                  <a:pt x="96109" y="442102"/>
                </a:lnTo>
                <a:lnTo>
                  <a:pt x="71395" y="447594"/>
                </a:lnTo>
                <a:lnTo>
                  <a:pt x="21968" y="466816"/>
                </a:lnTo>
                <a:lnTo>
                  <a:pt x="0" y="447594"/>
                </a:lnTo>
                <a:lnTo>
                  <a:pt x="197710" y="428372"/>
                </a:lnTo>
                <a:close/>
                <a:moveTo>
                  <a:pt x="6161972" y="428372"/>
                </a:moveTo>
                <a:lnTo>
                  <a:pt x="6161972" y="431118"/>
                </a:lnTo>
                <a:lnTo>
                  <a:pt x="6159226" y="433864"/>
                </a:lnTo>
                <a:lnTo>
                  <a:pt x="6161972" y="433864"/>
                </a:lnTo>
                <a:lnTo>
                  <a:pt x="6167464" y="431118"/>
                </a:lnTo>
                <a:lnTo>
                  <a:pt x="6167464" y="428372"/>
                </a:lnTo>
                <a:lnTo>
                  <a:pt x="6161972" y="428372"/>
                </a:lnTo>
                <a:close/>
                <a:moveTo>
                  <a:pt x="1507541" y="425626"/>
                </a:moveTo>
                <a:lnTo>
                  <a:pt x="1507541" y="431118"/>
                </a:lnTo>
                <a:lnTo>
                  <a:pt x="1515779" y="431118"/>
                </a:lnTo>
                <a:lnTo>
                  <a:pt x="1513033" y="428372"/>
                </a:lnTo>
                <a:lnTo>
                  <a:pt x="1507541" y="425626"/>
                </a:lnTo>
                <a:close/>
                <a:moveTo>
                  <a:pt x="1496557" y="425626"/>
                </a:moveTo>
                <a:lnTo>
                  <a:pt x="1491065" y="428372"/>
                </a:lnTo>
                <a:lnTo>
                  <a:pt x="1488320" y="431118"/>
                </a:lnTo>
                <a:lnTo>
                  <a:pt x="1496557" y="431118"/>
                </a:lnTo>
                <a:lnTo>
                  <a:pt x="1496557" y="425626"/>
                </a:lnTo>
                <a:close/>
                <a:moveTo>
                  <a:pt x="304803" y="425626"/>
                </a:moveTo>
                <a:lnTo>
                  <a:pt x="299311" y="428372"/>
                </a:lnTo>
                <a:lnTo>
                  <a:pt x="296565" y="431118"/>
                </a:lnTo>
                <a:lnTo>
                  <a:pt x="293820" y="436610"/>
                </a:lnTo>
                <a:lnTo>
                  <a:pt x="299311" y="436610"/>
                </a:lnTo>
                <a:lnTo>
                  <a:pt x="302057" y="439356"/>
                </a:lnTo>
                <a:lnTo>
                  <a:pt x="307549" y="444848"/>
                </a:lnTo>
                <a:lnTo>
                  <a:pt x="310295" y="439356"/>
                </a:lnTo>
                <a:lnTo>
                  <a:pt x="313041" y="433864"/>
                </a:lnTo>
                <a:lnTo>
                  <a:pt x="310295" y="431118"/>
                </a:lnTo>
                <a:lnTo>
                  <a:pt x="307549" y="428372"/>
                </a:lnTo>
                <a:lnTo>
                  <a:pt x="304803" y="425626"/>
                </a:lnTo>
                <a:close/>
                <a:moveTo>
                  <a:pt x="6450300" y="425626"/>
                </a:moveTo>
                <a:lnTo>
                  <a:pt x="6450300" y="428372"/>
                </a:lnTo>
                <a:lnTo>
                  <a:pt x="6453046" y="431118"/>
                </a:lnTo>
                <a:lnTo>
                  <a:pt x="6458538" y="431118"/>
                </a:lnTo>
                <a:lnTo>
                  <a:pt x="6458538" y="428372"/>
                </a:lnTo>
                <a:lnTo>
                  <a:pt x="6453046" y="425626"/>
                </a:lnTo>
                <a:lnTo>
                  <a:pt x="6450300" y="425626"/>
                </a:lnTo>
                <a:close/>
                <a:moveTo>
                  <a:pt x="6307509" y="422880"/>
                </a:moveTo>
                <a:lnTo>
                  <a:pt x="6307509" y="428372"/>
                </a:lnTo>
                <a:lnTo>
                  <a:pt x="6313001" y="428372"/>
                </a:lnTo>
                <a:lnTo>
                  <a:pt x="6313001" y="422880"/>
                </a:lnTo>
                <a:lnTo>
                  <a:pt x="6307509" y="422880"/>
                </a:lnTo>
                <a:close/>
                <a:moveTo>
                  <a:pt x="6200416" y="422880"/>
                </a:moveTo>
                <a:lnTo>
                  <a:pt x="6200416" y="428372"/>
                </a:lnTo>
                <a:lnTo>
                  <a:pt x="6208654" y="428372"/>
                </a:lnTo>
                <a:lnTo>
                  <a:pt x="6208654" y="431118"/>
                </a:lnTo>
                <a:lnTo>
                  <a:pt x="6211400" y="433864"/>
                </a:lnTo>
                <a:lnTo>
                  <a:pt x="6208654" y="436610"/>
                </a:lnTo>
                <a:lnTo>
                  <a:pt x="6208654" y="439356"/>
                </a:lnTo>
                <a:lnTo>
                  <a:pt x="6214146" y="433864"/>
                </a:lnTo>
                <a:lnTo>
                  <a:pt x="6216892" y="428372"/>
                </a:lnTo>
                <a:lnTo>
                  <a:pt x="6214146" y="425626"/>
                </a:lnTo>
                <a:lnTo>
                  <a:pt x="6211400" y="425626"/>
                </a:lnTo>
                <a:lnTo>
                  <a:pt x="6208654" y="425626"/>
                </a:lnTo>
                <a:lnTo>
                  <a:pt x="6208654" y="422880"/>
                </a:lnTo>
                <a:lnTo>
                  <a:pt x="6205908" y="425626"/>
                </a:lnTo>
                <a:lnTo>
                  <a:pt x="6200416" y="422880"/>
                </a:lnTo>
                <a:close/>
                <a:moveTo>
                  <a:pt x="6156480" y="420134"/>
                </a:moveTo>
                <a:lnTo>
                  <a:pt x="6153734" y="422880"/>
                </a:lnTo>
                <a:lnTo>
                  <a:pt x="6156480" y="425626"/>
                </a:lnTo>
                <a:lnTo>
                  <a:pt x="6159226" y="428372"/>
                </a:lnTo>
                <a:lnTo>
                  <a:pt x="6159226" y="420134"/>
                </a:lnTo>
                <a:lnTo>
                  <a:pt x="6156480" y="420134"/>
                </a:lnTo>
                <a:close/>
                <a:moveTo>
                  <a:pt x="6189432" y="417388"/>
                </a:moveTo>
                <a:lnTo>
                  <a:pt x="6186686" y="420134"/>
                </a:lnTo>
                <a:lnTo>
                  <a:pt x="6186686" y="428372"/>
                </a:lnTo>
                <a:lnTo>
                  <a:pt x="6189432" y="428372"/>
                </a:lnTo>
                <a:lnTo>
                  <a:pt x="6192178" y="425626"/>
                </a:lnTo>
                <a:lnTo>
                  <a:pt x="6192178" y="420134"/>
                </a:lnTo>
                <a:lnTo>
                  <a:pt x="6194924" y="417388"/>
                </a:lnTo>
                <a:lnTo>
                  <a:pt x="6192178" y="417388"/>
                </a:lnTo>
                <a:lnTo>
                  <a:pt x="6189432" y="417388"/>
                </a:lnTo>
                <a:close/>
                <a:moveTo>
                  <a:pt x="1460859" y="417388"/>
                </a:moveTo>
                <a:lnTo>
                  <a:pt x="1452622" y="420134"/>
                </a:lnTo>
                <a:lnTo>
                  <a:pt x="1452622" y="422880"/>
                </a:lnTo>
                <a:lnTo>
                  <a:pt x="1455368" y="425626"/>
                </a:lnTo>
                <a:lnTo>
                  <a:pt x="1455368" y="428372"/>
                </a:lnTo>
                <a:lnTo>
                  <a:pt x="1455368" y="433864"/>
                </a:lnTo>
                <a:lnTo>
                  <a:pt x="1466353" y="436610"/>
                </a:lnTo>
                <a:lnTo>
                  <a:pt x="1480081" y="436610"/>
                </a:lnTo>
                <a:lnTo>
                  <a:pt x="1477335" y="431118"/>
                </a:lnTo>
                <a:lnTo>
                  <a:pt x="1477335" y="428372"/>
                </a:lnTo>
                <a:lnTo>
                  <a:pt x="1474589" y="428372"/>
                </a:lnTo>
                <a:lnTo>
                  <a:pt x="1471844" y="428372"/>
                </a:lnTo>
                <a:lnTo>
                  <a:pt x="1474589" y="425626"/>
                </a:lnTo>
                <a:lnTo>
                  <a:pt x="1471844" y="422880"/>
                </a:lnTo>
                <a:lnTo>
                  <a:pt x="1471844" y="417388"/>
                </a:lnTo>
                <a:lnTo>
                  <a:pt x="1469098" y="417388"/>
                </a:lnTo>
                <a:lnTo>
                  <a:pt x="1460859" y="417388"/>
                </a:lnTo>
                <a:close/>
                <a:moveTo>
                  <a:pt x="6203162" y="411896"/>
                </a:moveTo>
                <a:lnTo>
                  <a:pt x="6203162" y="417388"/>
                </a:lnTo>
                <a:lnTo>
                  <a:pt x="6208654" y="417388"/>
                </a:lnTo>
                <a:lnTo>
                  <a:pt x="6205908" y="411896"/>
                </a:lnTo>
                <a:lnTo>
                  <a:pt x="6203162" y="411896"/>
                </a:lnTo>
                <a:close/>
                <a:moveTo>
                  <a:pt x="6087831" y="411896"/>
                </a:moveTo>
                <a:lnTo>
                  <a:pt x="6093323" y="411896"/>
                </a:lnTo>
                <a:lnTo>
                  <a:pt x="6087831" y="412526"/>
                </a:lnTo>
                <a:lnTo>
                  <a:pt x="6087831" y="411896"/>
                </a:lnTo>
                <a:close/>
                <a:moveTo>
                  <a:pt x="1518526" y="411896"/>
                </a:moveTo>
                <a:lnTo>
                  <a:pt x="1515779" y="414642"/>
                </a:lnTo>
                <a:lnTo>
                  <a:pt x="1515779" y="417388"/>
                </a:lnTo>
                <a:lnTo>
                  <a:pt x="1518526" y="417388"/>
                </a:lnTo>
                <a:lnTo>
                  <a:pt x="1518526" y="420134"/>
                </a:lnTo>
                <a:lnTo>
                  <a:pt x="1521272" y="420134"/>
                </a:lnTo>
                <a:lnTo>
                  <a:pt x="1524017" y="422880"/>
                </a:lnTo>
                <a:lnTo>
                  <a:pt x="1526763" y="422880"/>
                </a:lnTo>
                <a:lnTo>
                  <a:pt x="1529509" y="425626"/>
                </a:lnTo>
                <a:lnTo>
                  <a:pt x="1529509" y="420134"/>
                </a:lnTo>
                <a:lnTo>
                  <a:pt x="1526763" y="417388"/>
                </a:lnTo>
                <a:lnTo>
                  <a:pt x="1526763" y="414642"/>
                </a:lnTo>
                <a:lnTo>
                  <a:pt x="1524017" y="411896"/>
                </a:lnTo>
                <a:lnTo>
                  <a:pt x="1518526" y="411896"/>
                </a:lnTo>
                <a:close/>
                <a:moveTo>
                  <a:pt x="1491065" y="409151"/>
                </a:moveTo>
                <a:lnTo>
                  <a:pt x="1491065" y="411896"/>
                </a:lnTo>
                <a:lnTo>
                  <a:pt x="1488320" y="411896"/>
                </a:lnTo>
                <a:lnTo>
                  <a:pt x="1488320" y="414642"/>
                </a:lnTo>
                <a:lnTo>
                  <a:pt x="1496557" y="414642"/>
                </a:lnTo>
                <a:lnTo>
                  <a:pt x="1499304" y="414642"/>
                </a:lnTo>
                <a:lnTo>
                  <a:pt x="1499304" y="411896"/>
                </a:lnTo>
                <a:lnTo>
                  <a:pt x="1499304" y="409151"/>
                </a:lnTo>
                <a:lnTo>
                  <a:pt x="1496557" y="409151"/>
                </a:lnTo>
                <a:lnTo>
                  <a:pt x="1491065" y="409151"/>
                </a:lnTo>
                <a:close/>
                <a:moveTo>
                  <a:pt x="1452622" y="409151"/>
                </a:moveTo>
                <a:lnTo>
                  <a:pt x="1447130" y="411896"/>
                </a:lnTo>
                <a:lnTo>
                  <a:pt x="1447130" y="417388"/>
                </a:lnTo>
                <a:lnTo>
                  <a:pt x="1452622" y="414642"/>
                </a:lnTo>
                <a:lnTo>
                  <a:pt x="1452622" y="409151"/>
                </a:lnTo>
                <a:close/>
                <a:moveTo>
                  <a:pt x="1378481" y="409151"/>
                </a:moveTo>
                <a:lnTo>
                  <a:pt x="1378481" y="411896"/>
                </a:lnTo>
                <a:lnTo>
                  <a:pt x="1372988" y="414642"/>
                </a:lnTo>
                <a:lnTo>
                  <a:pt x="1372988" y="425626"/>
                </a:lnTo>
                <a:lnTo>
                  <a:pt x="1378481" y="425626"/>
                </a:lnTo>
                <a:lnTo>
                  <a:pt x="1378481" y="417388"/>
                </a:lnTo>
                <a:lnTo>
                  <a:pt x="1383972" y="414642"/>
                </a:lnTo>
                <a:lnTo>
                  <a:pt x="1389464" y="417388"/>
                </a:lnTo>
                <a:lnTo>
                  <a:pt x="1389464" y="411896"/>
                </a:lnTo>
                <a:lnTo>
                  <a:pt x="1386718" y="411896"/>
                </a:lnTo>
                <a:lnTo>
                  <a:pt x="1378481" y="409151"/>
                </a:lnTo>
                <a:close/>
                <a:moveTo>
                  <a:pt x="1345529" y="406405"/>
                </a:moveTo>
                <a:lnTo>
                  <a:pt x="1342784" y="409151"/>
                </a:lnTo>
                <a:lnTo>
                  <a:pt x="1342784" y="411896"/>
                </a:lnTo>
                <a:lnTo>
                  <a:pt x="1342784" y="414642"/>
                </a:lnTo>
                <a:lnTo>
                  <a:pt x="1345529" y="414642"/>
                </a:lnTo>
                <a:lnTo>
                  <a:pt x="1348275" y="411896"/>
                </a:lnTo>
                <a:lnTo>
                  <a:pt x="1351020" y="409151"/>
                </a:lnTo>
                <a:lnTo>
                  <a:pt x="1348275" y="406405"/>
                </a:lnTo>
                <a:lnTo>
                  <a:pt x="1345529" y="406405"/>
                </a:lnTo>
                <a:close/>
                <a:moveTo>
                  <a:pt x="6153734" y="403658"/>
                </a:moveTo>
                <a:lnTo>
                  <a:pt x="6153734" y="403964"/>
                </a:lnTo>
                <a:lnTo>
                  <a:pt x="6152361" y="404116"/>
                </a:lnTo>
                <a:lnTo>
                  <a:pt x="6153734" y="403658"/>
                </a:lnTo>
                <a:close/>
                <a:moveTo>
                  <a:pt x="472308" y="400913"/>
                </a:moveTo>
                <a:lnTo>
                  <a:pt x="464070" y="409151"/>
                </a:lnTo>
                <a:lnTo>
                  <a:pt x="455832" y="414642"/>
                </a:lnTo>
                <a:lnTo>
                  <a:pt x="447594" y="417388"/>
                </a:lnTo>
                <a:lnTo>
                  <a:pt x="436610" y="420134"/>
                </a:lnTo>
                <a:lnTo>
                  <a:pt x="428372" y="422880"/>
                </a:lnTo>
                <a:lnTo>
                  <a:pt x="420134" y="428372"/>
                </a:lnTo>
                <a:lnTo>
                  <a:pt x="409150" y="431118"/>
                </a:lnTo>
                <a:lnTo>
                  <a:pt x="395421" y="431118"/>
                </a:lnTo>
                <a:lnTo>
                  <a:pt x="384437" y="431118"/>
                </a:lnTo>
                <a:lnTo>
                  <a:pt x="362469" y="425626"/>
                </a:lnTo>
                <a:lnTo>
                  <a:pt x="343247" y="422880"/>
                </a:lnTo>
                <a:lnTo>
                  <a:pt x="332263" y="425626"/>
                </a:lnTo>
                <a:lnTo>
                  <a:pt x="321279" y="431118"/>
                </a:lnTo>
                <a:lnTo>
                  <a:pt x="315787" y="431118"/>
                </a:lnTo>
                <a:lnTo>
                  <a:pt x="326771" y="436610"/>
                </a:lnTo>
                <a:lnTo>
                  <a:pt x="340501" y="442102"/>
                </a:lnTo>
                <a:lnTo>
                  <a:pt x="356977" y="442102"/>
                </a:lnTo>
                <a:lnTo>
                  <a:pt x="376199" y="442102"/>
                </a:lnTo>
                <a:lnTo>
                  <a:pt x="417389" y="436610"/>
                </a:lnTo>
                <a:lnTo>
                  <a:pt x="461324" y="431118"/>
                </a:lnTo>
                <a:lnTo>
                  <a:pt x="497022" y="428372"/>
                </a:lnTo>
                <a:lnTo>
                  <a:pt x="513498" y="431118"/>
                </a:lnTo>
                <a:lnTo>
                  <a:pt x="527228" y="433864"/>
                </a:lnTo>
                <a:lnTo>
                  <a:pt x="535466" y="442102"/>
                </a:lnTo>
                <a:lnTo>
                  <a:pt x="538212" y="453086"/>
                </a:lnTo>
                <a:lnTo>
                  <a:pt x="535466" y="466816"/>
                </a:lnTo>
                <a:lnTo>
                  <a:pt x="529974" y="488784"/>
                </a:lnTo>
                <a:lnTo>
                  <a:pt x="546450" y="491530"/>
                </a:lnTo>
                <a:lnTo>
                  <a:pt x="568417" y="494276"/>
                </a:lnTo>
                <a:lnTo>
                  <a:pt x="568417" y="488784"/>
                </a:lnTo>
                <a:lnTo>
                  <a:pt x="565671" y="486038"/>
                </a:lnTo>
                <a:lnTo>
                  <a:pt x="560179" y="480546"/>
                </a:lnTo>
                <a:lnTo>
                  <a:pt x="554687" y="472308"/>
                </a:lnTo>
                <a:lnTo>
                  <a:pt x="551942" y="466816"/>
                </a:lnTo>
                <a:lnTo>
                  <a:pt x="554687" y="461324"/>
                </a:lnTo>
                <a:lnTo>
                  <a:pt x="560179" y="461324"/>
                </a:lnTo>
                <a:lnTo>
                  <a:pt x="565671" y="461324"/>
                </a:lnTo>
                <a:lnTo>
                  <a:pt x="573909" y="458578"/>
                </a:lnTo>
                <a:lnTo>
                  <a:pt x="579401" y="455832"/>
                </a:lnTo>
                <a:lnTo>
                  <a:pt x="568417" y="450340"/>
                </a:lnTo>
                <a:lnTo>
                  <a:pt x="562925" y="444848"/>
                </a:lnTo>
                <a:lnTo>
                  <a:pt x="560179" y="433864"/>
                </a:lnTo>
                <a:lnTo>
                  <a:pt x="557433" y="422880"/>
                </a:lnTo>
                <a:lnTo>
                  <a:pt x="557433" y="414642"/>
                </a:lnTo>
                <a:lnTo>
                  <a:pt x="551942" y="406405"/>
                </a:lnTo>
                <a:lnTo>
                  <a:pt x="543703" y="400913"/>
                </a:lnTo>
                <a:lnTo>
                  <a:pt x="529974" y="400913"/>
                </a:lnTo>
                <a:lnTo>
                  <a:pt x="529974" y="403659"/>
                </a:lnTo>
                <a:lnTo>
                  <a:pt x="532720" y="406405"/>
                </a:lnTo>
                <a:lnTo>
                  <a:pt x="540957" y="409151"/>
                </a:lnTo>
                <a:lnTo>
                  <a:pt x="546450" y="411896"/>
                </a:lnTo>
                <a:lnTo>
                  <a:pt x="551942" y="411896"/>
                </a:lnTo>
                <a:lnTo>
                  <a:pt x="551942" y="417388"/>
                </a:lnTo>
                <a:lnTo>
                  <a:pt x="540957" y="417388"/>
                </a:lnTo>
                <a:lnTo>
                  <a:pt x="529974" y="417388"/>
                </a:lnTo>
                <a:lnTo>
                  <a:pt x="510751" y="411896"/>
                </a:lnTo>
                <a:lnTo>
                  <a:pt x="491530" y="406405"/>
                </a:lnTo>
                <a:lnTo>
                  <a:pt x="483292" y="403659"/>
                </a:lnTo>
                <a:lnTo>
                  <a:pt x="472308" y="400913"/>
                </a:lnTo>
                <a:close/>
                <a:moveTo>
                  <a:pt x="1551477" y="398167"/>
                </a:moveTo>
                <a:lnTo>
                  <a:pt x="1551477" y="400913"/>
                </a:lnTo>
                <a:lnTo>
                  <a:pt x="1548731" y="400913"/>
                </a:lnTo>
                <a:lnTo>
                  <a:pt x="1545985" y="406405"/>
                </a:lnTo>
                <a:lnTo>
                  <a:pt x="1543239" y="409151"/>
                </a:lnTo>
                <a:lnTo>
                  <a:pt x="1532255" y="409151"/>
                </a:lnTo>
                <a:lnTo>
                  <a:pt x="1532255" y="414642"/>
                </a:lnTo>
                <a:lnTo>
                  <a:pt x="1532255" y="420134"/>
                </a:lnTo>
                <a:lnTo>
                  <a:pt x="1535002" y="422880"/>
                </a:lnTo>
                <a:lnTo>
                  <a:pt x="1537748" y="420134"/>
                </a:lnTo>
                <a:lnTo>
                  <a:pt x="1540493" y="425626"/>
                </a:lnTo>
                <a:lnTo>
                  <a:pt x="1540493" y="431118"/>
                </a:lnTo>
                <a:lnTo>
                  <a:pt x="1545985" y="431118"/>
                </a:lnTo>
                <a:lnTo>
                  <a:pt x="1545985" y="433864"/>
                </a:lnTo>
                <a:lnTo>
                  <a:pt x="1545985" y="439356"/>
                </a:lnTo>
                <a:lnTo>
                  <a:pt x="1545985" y="447594"/>
                </a:lnTo>
                <a:lnTo>
                  <a:pt x="1545985" y="450340"/>
                </a:lnTo>
                <a:lnTo>
                  <a:pt x="1548731" y="453086"/>
                </a:lnTo>
                <a:lnTo>
                  <a:pt x="1543239" y="453086"/>
                </a:lnTo>
                <a:lnTo>
                  <a:pt x="1545985" y="455832"/>
                </a:lnTo>
                <a:lnTo>
                  <a:pt x="1551477" y="455832"/>
                </a:lnTo>
                <a:lnTo>
                  <a:pt x="1556969" y="453086"/>
                </a:lnTo>
                <a:lnTo>
                  <a:pt x="1562461" y="453086"/>
                </a:lnTo>
                <a:lnTo>
                  <a:pt x="1567952" y="453086"/>
                </a:lnTo>
                <a:lnTo>
                  <a:pt x="1565206" y="447594"/>
                </a:lnTo>
                <a:lnTo>
                  <a:pt x="1565206" y="439356"/>
                </a:lnTo>
                <a:lnTo>
                  <a:pt x="1554223" y="436610"/>
                </a:lnTo>
                <a:lnTo>
                  <a:pt x="1548731" y="431118"/>
                </a:lnTo>
                <a:lnTo>
                  <a:pt x="1554223" y="431118"/>
                </a:lnTo>
                <a:lnTo>
                  <a:pt x="1551477" y="425626"/>
                </a:lnTo>
                <a:lnTo>
                  <a:pt x="1551477" y="422880"/>
                </a:lnTo>
                <a:lnTo>
                  <a:pt x="1556969" y="411896"/>
                </a:lnTo>
                <a:lnTo>
                  <a:pt x="1554223" y="409151"/>
                </a:lnTo>
                <a:lnTo>
                  <a:pt x="1551477" y="406405"/>
                </a:lnTo>
                <a:lnTo>
                  <a:pt x="1554223" y="403659"/>
                </a:lnTo>
                <a:lnTo>
                  <a:pt x="1554223" y="400913"/>
                </a:lnTo>
                <a:lnTo>
                  <a:pt x="1554223" y="398167"/>
                </a:lnTo>
                <a:lnTo>
                  <a:pt x="1551477" y="398167"/>
                </a:lnTo>
                <a:close/>
                <a:moveTo>
                  <a:pt x="1524017" y="398167"/>
                </a:moveTo>
                <a:lnTo>
                  <a:pt x="1515779" y="400913"/>
                </a:lnTo>
                <a:lnTo>
                  <a:pt x="1510287" y="406405"/>
                </a:lnTo>
                <a:lnTo>
                  <a:pt x="1515779" y="409151"/>
                </a:lnTo>
                <a:lnTo>
                  <a:pt x="1524017" y="409151"/>
                </a:lnTo>
                <a:lnTo>
                  <a:pt x="1524017" y="398167"/>
                </a:lnTo>
                <a:close/>
                <a:moveTo>
                  <a:pt x="1425162" y="398167"/>
                </a:moveTo>
                <a:lnTo>
                  <a:pt x="1422416" y="400913"/>
                </a:lnTo>
                <a:lnTo>
                  <a:pt x="1430655" y="406405"/>
                </a:lnTo>
                <a:lnTo>
                  <a:pt x="1436146" y="403659"/>
                </a:lnTo>
                <a:lnTo>
                  <a:pt x="1441637" y="400913"/>
                </a:lnTo>
                <a:lnTo>
                  <a:pt x="1436146" y="398167"/>
                </a:lnTo>
                <a:lnTo>
                  <a:pt x="1430655" y="398167"/>
                </a:lnTo>
                <a:lnTo>
                  <a:pt x="1425162" y="398167"/>
                </a:lnTo>
                <a:close/>
                <a:moveTo>
                  <a:pt x="1040725" y="398167"/>
                </a:moveTo>
                <a:lnTo>
                  <a:pt x="1040725" y="400913"/>
                </a:lnTo>
                <a:lnTo>
                  <a:pt x="1046217" y="403659"/>
                </a:lnTo>
                <a:lnTo>
                  <a:pt x="1054456" y="403659"/>
                </a:lnTo>
                <a:lnTo>
                  <a:pt x="1054456" y="400913"/>
                </a:lnTo>
                <a:lnTo>
                  <a:pt x="1051710" y="398167"/>
                </a:lnTo>
                <a:lnTo>
                  <a:pt x="1046217" y="398167"/>
                </a:lnTo>
                <a:lnTo>
                  <a:pt x="1040725" y="398167"/>
                </a:lnTo>
                <a:close/>
                <a:moveTo>
                  <a:pt x="1378481" y="395421"/>
                </a:moveTo>
                <a:lnTo>
                  <a:pt x="1375736" y="398167"/>
                </a:lnTo>
                <a:lnTo>
                  <a:pt x="1375736" y="400913"/>
                </a:lnTo>
                <a:lnTo>
                  <a:pt x="1378481" y="403659"/>
                </a:lnTo>
                <a:lnTo>
                  <a:pt x="1381227" y="403659"/>
                </a:lnTo>
                <a:lnTo>
                  <a:pt x="1381227" y="400913"/>
                </a:lnTo>
                <a:lnTo>
                  <a:pt x="1383972" y="400913"/>
                </a:lnTo>
                <a:lnTo>
                  <a:pt x="1383972" y="398167"/>
                </a:lnTo>
                <a:lnTo>
                  <a:pt x="1381227" y="398167"/>
                </a:lnTo>
                <a:lnTo>
                  <a:pt x="1381227" y="395421"/>
                </a:lnTo>
                <a:lnTo>
                  <a:pt x="1378481" y="395421"/>
                </a:lnTo>
                <a:close/>
                <a:moveTo>
                  <a:pt x="6219638" y="395420"/>
                </a:moveTo>
                <a:lnTo>
                  <a:pt x="6236113" y="395420"/>
                </a:lnTo>
                <a:lnTo>
                  <a:pt x="6238859" y="395420"/>
                </a:lnTo>
                <a:lnTo>
                  <a:pt x="6238859" y="398166"/>
                </a:lnTo>
                <a:lnTo>
                  <a:pt x="6227875" y="398166"/>
                </a:lnTo>
                <a:lnTo>
                  <a:pt x="6227875" y="400912"/>
                </a:lnTo>
                <a:lnTo>
                  <a:pt x="6230621" y="403658"/>
                </a:lnTo>
                <a:lnTo>
                  <a:pt x="6233367" y="403658"/>
                </a:lnTo>
                <a:lnTo>
                  <a:pt x="6233367" y="406404"/>
                </a:lnTo>
                <a:lnTo>
                  <a:pt x="6225129" y="409150"/>
                </a:lnTo>
                <a:lnTo>
                  <a:pt x="6219638" y="406404"/>
                </a:lnTo>
                <a:lnTo>
                  <a:pt x="6219638" y="403658"/>
                </a:lnTo>
                <a:lnTo>
                  <a:pt x="6222384" y="403658"/>
                </a:lnTo>
                <a:lnTo>
                  <a:pt x="6225129" y="400912"/>
                </a:lnTo>
                <a:lnTo>
                  <a:pt x="6222384" y="398166"/>
                </a:lnTo>
                <a:lnTo>
                  <a:pt x="6219638" y="395420"/>
                </a:lnTo>
                <a:close/>
                <a:moveTo>
                  <a:pt x="1559715" y="389929"/>
                </a:moveTo>
                <a:lnTo>
                  <a:pt x="1559715" y="392675"/>
                </a:lnTo>
                <a:lnTo>
                  <a:pt x="1559715" y="395421"/>
                </a:lnTo>
                <a:lnTo>
                  <a:pt x="1565206" y="400913"/>
                </a:lnTo>
                <a:lnTo>
                  <a:pt x="1567952" y="400913"/>
                </a:lnTo>
                <a:lnTo>
                  <a:pt x="1567952" y="398167"/>
                </a:lnTo>
                <a:lnTo>
                  <a:pt x="1570699" y="398167"/>
                </a:lnTo>
                <a:lnTo>
                  <a:pt x="1570699" y="392675"/>
                </a:lnTo>
                <a:lnTo>
                  <a:pt x="1567952" y="389929"/>
                </a:lnTo>
                <a:lnTo>
                  <a:pt x="1559715" y="389929"/>
                </a:lnTo>
                <a:close/>
                <a:moveTo>
                  <a:pt x="1537748" y="387183"/>
                </a:moveTo>
                <a:lnTo>
                  <a:pt x="1537748" y="395421"/>
                </a:lnTo>
                <a:lnTo>
                  <a:pt x="1540493" y="398167"/>
                </a:lnTo>
                <a:lnTo>
                  <a:pt x="1543239" y="398167"/>
                </a:lnTo>
                <a:lnTo>
                  <a:pt x="1545985" y="395421"/>
                </a:lnTo>
                <a:lnTo>
                  <a:pt x="1548731" y="389929"/>
                </a:lnTo>
                <a:lnTo>
                  <a:pt x="1543239" y="387183"/>
                </a:lnTo>
                <a:lnTo>
                  <a:pt x="1540493" y="387183"/>
                </a:lnTo>
                <a:lnTo>
                  <a:pt x="1537748" y="387183"/>
                </a:lnTo>
                <a:close/>
                <a:moveTo>
                  <a:pt x="1441637" y="387183"/>
                </a:moveTo>
                <a:lnTo>
                  <a:pt x="1441637" y="392675"/>
                </a:lnTo>
                <a:lnTo>
                  <a:pt x="1447130" y="392675"/>
                </a:lnTo>
                <a:lnTo>
                  <a:pt x="1447130" y="387183"/>
                </a:lnTo>
                <a:lnTo>
                  <a:pt x="1441637" y="387183"/>
                </a:lnTo>
                <a:close/>
                <a:moveTo>
                  <a:pt x="1367496" y="387183"/>
                </a:moveTo>
                <a:lnTo>
                  <a:pt x="1362005" y="389929"/>
                </a:lnTo>
                <a:lnTo>
                  <a:pt x="1362005" y="398167"/>
                </a:lnTo>
                <a:lnTo>
                  <a:pt x="1364751" y="400913"/>
                </a:lnTo>
                <a:lnTo>
                  <a:pt x="1370242" y="400913"/>
                </a:lnTo>
                <a:lnTo>
                  <a:pt x="1372988" y="395421"/>
                </a:lnTo>
                <a:lnTo>
                  <a:pt x="1372988" y="387183"/>
                </a:lnTo>
                <a:lnTo>
                  <a:pt x="1370242" y="387183"/>
                </a:lnTo>
                <a:lnTo>
                  <a:pt x="1367496" y="387183"/>
                </a:lnTo>
                <a:close/>
                <a:moveTo>
                  <a:pt x="1507541" y="384437"/>
                </a:moveTo>
                <a:lnTo>
                  <a:pt x="1510287" y="389929"/>
                </a:lnTo>
                <a:lnTo>
                  <a:pt x="1513033" y="392675"/>
                </a:lnTo>
                <a:lnTo>
                  <a:pt x="1515779" y="392675"/>
                </a:lnTo>
                <a:lnTo>
                  <a:pt x="1513033" y="387183"/>
                </a:lnTo>
                <a:lnTo>
                  <a:pt x="1507541" y="384437"/>
                </a:lnTo>
                <a:close/>
                <a:moveTo>
                  <a:pt x="1150565" y="384437"/>
                </a:moveTo>
                <a:lnTo>
                  <a:pt x="1147820" y="387183"/>
                </a:lnTo>
                <a:lnTo>
                  <a:pt x="1147820" y="389929"/>
                </a:lnTo>
                <a:lnTo>
                  <a:pt x="1150565" y="392675"/>
                </a:lnTo>
                <a:lnTo>
                  <a:pt x="1153311" y="395421"/>
                </a:lnTo>
                <a:lnTo>
                  <a:pt x="1156056" y="392675"/>
                </a:lnTo>
                <a:lnTo>
                  <a:pt x="1156056" y="389929"/>
                </a:lnTo>
                <a:lnTo>
                  <a:pt x="1156056" y="384437"/>
                </a:lnTo>
                <a:lnTo>
                  <a:pt x="1150565" y="384437"/>
                </a:lnTo>
                <a:close/>
                <a:moveTo>
                  <a:pt x="1576191" y="378948"/>
                </a:moveTo>
                <a:lnTo>
                  <a:pt x="1576191" y="414642"/>
                </a:lnTo>
                <a:lnTo>
                  <a:pt x="1576191" y="420135"/>
                </a:lnTo>
                <a:lnTo>
                  <a:pt x="1578936" y="420135"/>
                </a:lnTo>
                <a:lnTo>
                  <a:pt x="1578936" y="414643"/>
                </a:lnTo>
                <a:lnTo>
                  <a:pt x="1578936" y="400913"/>
                </a:lnTo>
                <a:lnTo>
                  <a:pt x="1576191" y="378948"/>
                </a:lnTo>
                <a:close/>
                <a:moveTo>
                  <a:pt x="1425162" y="378945"/>
                </a:moveTo>
                <a:lnTo>
                  <a:pt x="1425162" y="384437"/>
                </a:lnTo>
                <a:lnTo>
                  <a:pt x="1425162" y="392675"/>
                </a:lnTo>
                <a:lnTo>
                  <a:pt x="1430655" y="389929"/>
                </a:lnTo>
                <a:lnTo>
                  <a:pt x="1436146" y="387183"/>
                </a:lnTo>
                <a:lnTo>
                  <a:pt x="1441637" y="384437"/>
                </a:lnTo>
                <a:lnTo>
                  <a:pt x="1441637" y="378945"/>
                </a:lnTo>
                <a:lnTo>
                  <a:pt x="1425162" y="378945"/>
                </a:lnTo>
                <a:close/>
                <a:moveTo>
                  <a:pt x="1414179" y="378945"/>
                </a:moveTo>
                <a:lnTo>
                  <a:pt x="1414179" y="381691"/>
                </a:lnTo>
                <a:lnTo>
                  <a:pt x="1411434" y="381691"/>
                </a:lnTo>
                <a:lnTo>
                  <a:pt x="1408686" y="384437"/>
                </a:lnTo>
                <a:lnTo>
                  <a:pt x="1411434" y="384437"/>
                </a:lnTo>
                <a:lnTo>
                  <a:pt x="1414179" y="387183"/>
                </a:lnTo>
                <a:lnTo>
                  <a:pt x="1416924" y="384437"/>
                </a:lnTo>
                <a:lnTo>
                  <a:pt x="1416924" y="378945"/>
                </a:lnTo>
                <a:lnTo>
                  <a:pt x="1414179" y="378945"/>
                </a:lnTo>
                <a:close/>
                <a:moveTo>
                  <a:pt x="1334544" y="378945"/>
                </a:moveTo>
                <a:lnTo>
                  <a:pt x="1331799" y="384437"/>
                </a:lnTo>
                <a:lnTo>
                  <a:pt x="1337290" y="384437"/>
                </a:lnTo>
                <a:lnTo>
                  <a:pt x="1340038" y="378945"/>
                </a:lnTo>
                <a:lnTo>
                  <a:pt x="1334544" y="378945"/>
                </a:lnTo>
                <a:close/>
                <a:moveTo>
                  <a:pt x="1556969" y="376199"/>
                </a:moveTo>
                <a:lnTo>
                  <a:pt x="1554223" y="378945"/>
                </a:lnTo>
                <a:lnTo>
                  <a:pt x="1554223" y="381691"/>
                </a:lnTo>
                <a:lnTo>
                  <a:pt x="1556969" y="384437"/>
                </a:lnTo>
                <a:lnTo>
                  <a:pt x="1562461" y="384437"/>
                </a:lnTo>
                <a:lnTo>
                  <a:pt x="1565206" y="381691"/>
                </a:lnTo>
                <a:lnTo>
                  <a:pt x="1565206" y="378945"/>
                </a:lnTo>
                <a:lnTo>
                  <a:pt x="1562461" y="376199"/>
                </a:lnTo>
                <a:lnTo>
                  <a:pt x="1556969" y="376199"/>
                </a:lnTo>
                <a:close/>
                <a:moveTo>
                  <a:pt x="1353766" y="362469"/>
                </a:moveTo>
                <a:lnTo>
                  <a:pt x="1356512" y="365215"/>
                </a:lnTo>
                <a:lnTo>
                  <a:pt x="1356512" y="370707"/>
                </a:lnTo>
                <a:lnTo>
                  <a:pt x="1359260" y="373453"/>
                </a:lnTo>
                <a:lnTo>
                  <a:pt x="1359260" y="378945"/>
                </a:lnTo>
                <a:lnTo>
                  <a:pt x="1367496" y="378945"/>
                </a:lnTo>
                <a:lnTo>
                  <a:pt x="1370242" y="373453"/>
                </a:lnTo>
                <a:lnTo>
                  <a:pt x="1367496" y="367961"/>
                </a:lnTo>
                <a:lnTo>
                  <a:pt x="1364751" y="365215"/>
                </a:lnTo>
                <a:lnTo>
                  <a:pt x="1362005" y="362469"/>
                </a:lnTo>
                <a:lnTo>
                  <a:pt x="1353766" y="362469"/>
                </a:lnTo>
                <a:close/>
                <a:moveTo>
                  <a:pt x="834777" y="362469"/>
                </a:moveTo>
                <a:lnTo>
                  <a:pt x="834777" y="365215"/>
                </a:lnTo>
                <a:lnTo>
                  <a:pt x="829285" y="365215"/>
                </a:lnTo>
                <a:lnTo>
                  <a:pt x="823793" y="365215"/>
                </a:lnTo>
                <a:lnTo>
                  <a:pt x="815555" y="367961"/>
                </a:lnTo>
                <a:lnTo>
                  <a:pt x="807317" y="376199"/>
                </a:lnTo>
                <a:lnTo>
                  <a:pt x="801825" y="381691"/>
                </a:lnTo>
                <a:lnTo>
                  <a:pt x="799080" y="378945"/>
                </a:lnTo>
                <a:lnTo>
                  <a:pt x="796334" y="381691"/>
                </a:lnTo>
                <a:lnTo>
                  <a:pt x="793587" y="387183"/>
                </a:lnTo>
                <a:lnTo>
                  <a:pt x="788095" y="392675"/>
                </a:lnTo>
                <a:lnTo>
                  <a:pt x="782603" y="395421"/>
                </a:lnTo>
                <a:lnTo>
                  <a:pt x="777112" y="395421"/>
                </a:lnTo>
                <a:lnTo>
                  <a:pt x="744160" y="395421"/>
                </a:lnTo>
                <a:lnTo>
                  <a:pt x="727684" y="398167"/>
                </a:lnTo>
                <a:lnTo>
                  <a:pt x="711208" y="403659"/>
                </a:lnTo>
                <a:lnTo>
                  <a:pt x="681002" y="414642"/>
                </a:lnTo>
                <a:lnTo>
                  <a:pt x="650797" y="428372"/>
                </a:lnTo>
                <a:lnTo>
                  <a:pt x="628829" y="436610"/>
                </a:lnTo>
                <a:lnTo>
                  <a:pt x="617845" y="436610"/>
                </a:lnTo>
                <a:lnTo>
                  <a:pt x="609607" y="436610"/>
                </a:lnTo>
                <a:lnTo>
                  <a:pt x="595877" y="431118"/>
                </a:lnTo>
                <a:lnTo>
                  <a:pt x="582147" y="420134"/>
                </a:lnTo>
                <a:lnTo>
                  <a:pt x="568417" y="411896"/>
                </a:lnTo>
                <a:lnTo>
                  <a:pt x="568417" y="422880"/>
                </a:lnTo>
                <a:lnTo>
                  <a:pt x="573909" y="431118"/>
                </a:lnTo>
                <a:lnTo>
                  <a:pt x="582147" y="439356"/>
                </a:lnTo>
                <a:lnTo>
                  <a:pt x="593131" y="444848"/>
                </a:lnTo>
                <a:lnTo>
                  <a:pt x="615099" y="453086"/>
                </a:lnTo>
                <a:lnTo>
                  <a:pt x="623337" y="458578"/>
                </a:lnTo>
                <a:lnTo>
                  <a:pt x="628829" y="466816"/>
                </a:lnTo>
                <a:lnTo>
                  <a:pt x="631574" y="472308"/>
                </a:lnTo>
                <a:lnTo>
                  <a:pt x="634321" y="469562"/>
                </a:lnTo>
                <a:lnTo>
                  <a:pt x="642559" y="475054"/>
                </a:lnTo>
                <a:lnTo>
                  <a:pt x="648051" y="480546"/>
                </a:lnTo>
                <a:lnTo>
                  <a:pt x="653542" y="486038"/>
                </a:lnTo>
                <a:lnTo>
                  <a:pt x="661780" y="497022"/>
                </a:lnTo>
                <a:lnTo>
                  <a:pt x="670018" y="508006"/>
                </a:lnTo>
                <a:lnTo>
                  <a:pt x="672764" y="510752"/>
                </a:lnTo>
                <a:lnTo>
                  <a:pt x="678256" y="513498"/>
                </a:lnTo>
                <a:lnTo>
                  <a:pt x="691986" y="499768"/>
                </a:lnTo>
                <a:lnTo>
                  <a:pt x="716700" y="480546"/>
                </a:lnTo>
                <a:lnTo>
                  <a:pt x="724938" y="475054"/>
                </a:lnTo>
                <a:lnTo>
                  <a:pt x="730430" y="466816"/>
                </a:lnTo>
                <a:lnTo>
                  <a:pt x="735922" y="461324"/>
                </a:lnTo>
                <a:lnTo>
                  <a:pt x="741414" y="453086"/>
                </a:lnTo>
                <a:lnTo>
                  <a:pt x="746906" y="450340"/>
                </a:lnTo>
                <a:lnTo>
                  <a:pt x="755144" y="447594"/>
                </a:lnTo>
                <a:lnTo>
                  <a:pt x="763382" y="447594"/>
                </a:lnTo>
                <a:lnTo>
                  <a:pt x="768874" y="442102"/>
                </a:lnTo>
                <a:lnTo>
                  <a:pt x="774366" y="433864"/>
                </a:lnTo>
                <a:lnTo>
                  <a:pt x="779857" y="422880"/>
                </a:lnTo>
                <a:lnTo>
                  <a:pt x="782603" y="414642"/>
                </a:lnTo>
                <a:lnTo>
                  <a:pt x="788095" y="406405"/>
                </a:lnTo>
                <a:lnTo>
                  <a:pt x="799080" y="400913"/>
                </a:lnTo>
                <a:lnTo>
                  <a:pt x="812809" y="398167"/>
                </a:lnTo>
                <a:lnTo>
                  <a:pt x="837523" y="392675"/>
                </a:lnTo>
                <a:lnTo>
                  <a:pt x="845761" y="389929"/>
                </a:lnTo>
                <a:lnTo>
                  <a:pt x="848507" y="384437"/>
                </a:lnTo>
                <a:lnTo>
                  <a:pt x="845761" y="378945"/>
                </a:lnTo>
                <a:lnTo>
                  <a:pt x="834777" y="365215"/>
                </a:lnTo>
                <a:lnTo>
                  <a:pt x="837523" y="365215"/>
                </a:lnTo>
                <a:lnTo>
                  <a:pt x="837523" y="362469"/>
                </a:lnTo>
                <a:lnTo>
                  <a:pt x="834777" y="362469"/>
                </a:lnTo>
                <a:close/>
                <a:moveTo>
                  <a:pt x="1537748" y="359723"/>
                </a:moveTo>
                <a:lnTo>
                  <a:pt x="1537748" y="365215"/>
                </a:lnTo>
                <a:lnTo>
                  <a:pt x="1540493" y="365215"/>
                </a:lnTo>
                <a:lnTo>
                  <a:pt x="1543239" y="362469"/>
                </a:lnTo>
                <a:lnTo>
                  <a:pt x="1545985" y="359723"/>
                </a:lnTo>
                <a:lnTo>
                  <a:pt x="1537748" y="359723"/>
                </a:lnTo>
                <a:close/>
                <a:moveTo>
                  <a:pt x="1458113" y="356977"/>
                </a:moveTo>
                <a:lnTo>
                  <a:pt x="1458113" y="362469"/>
                </a:lnTo>
                <a:lnTo>
                  <a:pt x="1458113" y="365215"/>
                </a:lnTo>
                <a:lnTo>
                  <a:pt x="1452622" y="367961"/>
                </a:lnTo>
                <a:lnTo>
                  <a:pt x="1449877" y="367961"/>
                </a:lnTo>
                <a:lnTo>
                  <a:pt x="1447130" y="373453"/>
                </a:lnTo>
                <a:lnTo>
                  <a:pt x="1447130" y="378945"/>
                </a:lnTo>
                <a:lnTo>
                  <a:pt x="1452622" y="376199"/>
                </a:lnTo>
                <a:lnTo>
                  <a:pt x="1458113" y="376199"/>
                </a:lnTo>
                <a:lnTo>
                  <a:pt x="1469098" y="378945"/>
                </a:lnTo>
                <a:lnTo>
                  <a:pt x="1469098" y="376199"/>
                </a:lnTo>
                <a:lnTo>
                  <a:pt x="1471844" y="376199"/>
                </a:lnTo>
                <a:lnTo>
                  <a:pt x="1474589" y="376199"/>
                </a:lnTo>
                <a:lnTo>
                  <a:pt x="1477335" y="373453"/>
                </a:lnTo>
                <a:lnTo>
                  <a:pt x="1477335" y="376199"/>
                </a:lnTo>
                <a:lnTo>
                  <a:pt x="1480081" y="376199"/>
                </a:lnTo>
                <a:lnTo>
                  <a:pt x="1480081" y="378945"/>
                </a:lnTo>
                <a:lnTo>
                  <a:pt x="1480081" y="381691"/>
                </a:lnTo>
                <a:lnTo>
                  <a:pt x="1474589" y="381691"/>
                </a:lnTo>
                <a:lnTo>
                  <a:pt x="1471844" y="378945"/>
                </a:lnTo>
                <a:lnTo>
                  <a:pt x="1466353" y="384437"/>
                </a:lnTo>
                <a:lnTo>
                  <a:pt x="1460859" y="387183"/>
                </a:lnTo>
                <a:lnTo>
                  <a:pt x="1458113" y="384437"/>
                </a:lnTo>
                <a:lnTo>
                  <a:pt x="1455368" y="389929"/>
                </a:lnTo>
                <a:lnTo>
                  <a:pt x="1455368" y="398167"/>
                </a:lnTo>
                <a:lnTo>
                  <a:pt x="1460859" y="395421"/>
                </a:lnTo>
                <a:lnTo>
                  <a:pt x="1463606" y="395421"/>
                </a:lnTo>
                <a:lnTo>
                  <a:pt x="1466353" y="398167"/>
                </a:lnTo>
                <a:lnTo>
                  <a:pt x="1469098" y="400913"/>
                </a:lnTo>
                <a:lnTo>
                  <a:pt x="1474589" y="400913"/>
                </a:lnTo>
                <a:lnTo>
                  <a:pt x="1480081" y="398167"/>
                </a:lnTo>
                <a:lnTo>
                  <a:pt x="1480081" y="400913"/>
                </a:lnTo>
                <a:lnTo>
                  <a:pt x="1485574" y="403659"/>
                </a:lnTo>
                <a:lnTo>
                  <a:pt x="1488320" y="403659"/>
                </a:lnTo>
                <a:lnTo>
                  <a:pt x="1491065" y="406405"/>
                </a:lnTo>
                <a:lnTo>
                  <a:pt x="1493811" y="403659"/>
                </a:lnTo>
                <a:lnTo>
                  <a:pt x="1499304" y="403659"/>
                </a:lnTo>
                <a:lnTo>
                  <a:pt x="1504796" y="406405"/>
                </a:lnTo>
                <a:lnTo>
                  <a:pt x="1510287" y="403659"/>
                </a:lnTo>
                <a:lnTo>
                  <a:pt x="1510287" y="398167"/>
                </a:lnTo>
                <a:lnTo>
                  <a:pt x="1507541" y="395421"/>
                </a:lnTo>
                <a:lnTo>
                  <a:pt x="1502050" y="395421"/>
                </a:lnTo>
                <a:lnTo>
                  <a:pt x="1496557" y="398167"/>
                </a:lnTo>
                <a:lnTo>
                  <a:pt x="1491065" y="400913"/>
                </a:lnTo>
                <a:lnTo>
                  <a:pt x="1491065" y="395421"/>
                </a:lnTo>
                <a:lnTo>
                  <a:pt x="1491065" y="392675"/>
                </a:lnTo>
                <a:lnTo>
                  <a:pt x="1496557" y="387183"/>
                </a:lnTo>
                <a:lnTo>
                  <a:pt x="1491065" y="384437"/>
                </a:lnTo>
                <a:lnTo>
                  <a:pt x="1488320" y="381691"/>
                </a:lnTo>
                <a:lnTo>
                  <a:pt x="1491065" y="378945"/>
                </a:lnTo>
                <a:lnTo>
                  <a:pt x="1491065" y="370707"/>
                </a:lnTo>
                <a:lnTo>
                  <a:pt x="1488320" y="370707"/>
                </a:lnTo>
                <a:lnTo>
                  <a:pt x="1482829" y="367961"/>
                </a:lnTo>
                <a:lnTo>
                  <a:pt x="1485574" y="367961"/>
                </a:lnTo>
                <a:lnTo>
                  <a:pt x="1485574" y="362469"/>
                </a:lnTo>
                <a:lnTo>
                  <a:pt x="1485574" y="359723"/>
                </a:lnTo>
                <a:lnTo>
                  <a:pt x="1480081" y="359723"/>
                </a:lnTo>
                <a:lnTo>
                  <a:pt x="1477335" y="359723"/>
                </a:lnTo>
                <a:lnTo>
                  <a:pt x="1477335" y="356977"/>
                </a:lnTo>
                <a:lnTo>
                  <a:pt x="1458113" y="356977"/>
                </a:lnTo>
                <a:close/>
                <a:moveTo>
                  <a:pt x="1422416" y="356977"/>
                </a:moveTo>
                <a:lnTo>
                  <a:pt x="1416924" y="359723"/>
                </a:lnTo>
                <a:lnTo>
                  <a:pt x="1416924" y="373453"/>
                </a:lnTo>
                <a:lnTo>
                  <a:pt x="1425162" y="376199"/>
                </a:lnTo>
                <a:lnTo>
                  <a:pt x="1430655" y="376199"/>
                </a:lnTo>
                <a:lnTo>
                  <a:pt x="1436146" y="376199"/>
                </a:lnTo>
                <a:lnTo>
                  <a:pt x="1436146" y="370707"/>
                </a:lnTo>
                <a:lnTo>
                  <a:pt x="1436146" y="367961"/>
                </a:lnTo>
                <a:lnTo>
                  <a:pt x="1433400" y="359723"/>
                </a:lnTo>
                <a:lnTo>
                  <a:pt x="1425162" y="356977"/>
                </a:lnTo>
                <a:lnTo>
                  <a:pt x="1422416" y="356977"/>
                </a:lnTo>
                <a:close/>
                <a:moveTo>
                  <a:pt x="1370242" y="356977"/>
                </a:moveTo>
                <a:lnTo>
                  <a:pt x="1372988" y="356977"/>
                </a:lnTo>
                <a:lnTo>
                  <a:pt x="1375736" y="359723"/>
                </a:lnTo>
                <a:lnTo>
                  <a:pt x="1372988" y="362469"/>
                </a:lnTo>
                <a:lnTo>
                  <a:pt x="1370242" y="356977"/>
                </a:lnTo>
                <a:close/>
                <a:moveTo>
                  <a:pt x="6573869" y="354231"/>
                </a:moveTo>
                <a:lnTo>
                  <a:pt x="6571123" y="356977"/>
                </a:lnTo>
                <a:lnTo>
                  <a:pt x="6565631" y="359723"/>
                </a:lnTo>
                <a:lnTo>
                  <a:pt x="6560139" y="362469"/>
                </a:lnTo>
                <a:lnTo>
                  <a:pt x="6549155" y="367961"/>
                </a:lnTo>
                <a:lnTo>
                  <a:pt x="6549155" y="376199"/>
                </a:lnTo>
                <a:lnTo>
                  <a:pt x="6549155" y="381691"/>
                </a:lnTo>
                <a:lnTo>
                  <a:pt x="6551901" y="384437"/>
                </a:lnTo>
                <a:lnTo>
                  <a:pt x="6554647" y="389929"/>
                </a:lnTo>
                <a:lnTo>
                  <a:pt x="6557393" y="398166"/>
                </a:lnTo>
                <a:lnTo>
                  <a:pt x="6565631" y="403658"/>
                </a:lnTo>
                <a:lnTo>
                  <a:pt x="6573869" y="406404"/>
                </a:lnTo>
                <a:lnTo>
                  <a:pt x="6582107" y="411896"/>
                </a:lnTo>
                <a:lnTo>
                  <a:pt x="6521695" y="486038"/>
                </a:lnTo>
                <a:lnTo>
                  <a:pt x="6516203" y="486038"/>
                </a:lnTo>
                <a:lnTo>
                  <a:pt x="6518949" y="488784"/>
                </a:lnTo>
                <a:lnTo>
                  <a:pt x="6370666" y="670018"/>
                </a:lnTo>
                <a:lnTo>
                  <a:pt x="6354190" y="670018"/>
                </a:lnTo>
                <a:lnTo>
                  <a:pt x="6337715" y="672764"/>
                </a:lnTo>
                <a:lnTo>
                  <a:pt x="6321239" y="678256"/>
                </a:lnTo>
                <a:lnTo>
                  <a:pt x="6304763" y="683748"/>
                </a:lnTo>
                <a:lnTo>
                  <a:pt x="6277303" y="697478"/>
                </a:lnTo>
                <a:lnTo>
                  <a:pt x="6255335" y="711208"/>
                </a:lnTo>
                <a:lnTo>
                  <a:pt x="6263573" y="713954"/>
                </a:lnTo>
                <a:lnTo>
                  <a:pt x="6274557" y="713954"/>
                </a:lnTo>
                <a:lnTo>
                  <a:pt x="6291033" y="711208"/>
                </a:lnTo>
                <a:lnTo>
                  <a:pt x="6307509" y="705716"/>
                </a:lnTo>
                <a:lnTo>
                  <a:pt x="6318493" y="702970"/>
                </a:lnTo>
                <a:lnTo>
                  <a:pt x="6326731" y="702970"/>
                </a:lnTo>
                <a:lnTo>
                  <a:pt x="6329477" y="708462"/>
                </a:lnTo>
                <a:lnTo>
                  <a:pt x="6334969" y="711208"/>
                </a:lnTo>
                <a:lnTo>
                  <a:pt x="6340461" y="708462"/>
                </a:lnTo>
                <a:lnTo>
                  <a:pt x="6345952" y="705716"/>
                </a:lnTo>
                <a:lnTo>
                  <a:pt x="6546409" y="906172"/>
                </a:lnTo>
                <a:lnTo>
                  <a:pt x="6521695" y="917156"/>
                </a:lnTo>
                <a:lnTo>
                  <a:pt x="6513457" y="922648"/>
                </a:lnTo>
                <a:lnTo>
                  <a:pt x="6505219" y="930886"/>
                </a:lnTo>
                <a:lnTo>
                  <a:pt x="6532679" y="936378"/>
                </a:lnTo>
                <a:lnTo>
                  <a:pt x="6543663" y="939124"/>
                </a:lnTo>
                <a:lnTo>
                  <a:pt x="6551901" y="936378"/>
                </a:lnTo>
                <a:lnTo>
                  <a:pt x="6560139" y="933632"/>
                </a:lnTo>
                <a:lnTo>
                  <a:pt x="6565631" y="928140"/>
                </a:lnTo>
                <a:lnTo>
                  <a:pt x="6571123" y="930886"/>
                </a:lnTo>
                <a:lnTo>
                  <a:pt x="6571123" y="933632"/>
                </a:lnTo>
                <a:lnTo>
                  <a:pt x="6571123" y="939124"/>
                </a:lnTo>
                <a:lnTo>
                  <a:pt x="6573869" y="941870"/>
                </a:lnTo>
                <a:lnTo>
                  <a:pt x="6576615" y="941870"/>
                </a:lnTo>
                <a:lnTo>
                  <a:pt x="6579361" y="941870"/>
                </a:lnTo>
                <a:lnTo>
                  <a:pt x="6587599" y="950108"/>
                </a:lnTo>
                <a:lnTo>
                  <a:pt x="6573869" y="950108"/>
                </a:lnTo>
                <a:lnTo>
                  <a:pt x="6562885" y="952854"/>
                </a:lnTo>
                <a:lnTo>
                  <a:pt x="6546409" y="963838"/>
                </a:lnTo>
                <a:lnTo>
                  <a:pt x="6538171" y="966584"/>
                </a:lnTo>
                <a:lnTo>
                  <a:pt x="6532679" y="969330"/>
                </a:lnTo>
                <a:lnTo>
                  <a:pt x="6524441" y="969330"/>
                </a:lnTo>
                <a:lnTo>
                  <a:pt x="6518949" y="966584"/>
                </a:lnTo>
                <a:lnTo>
                  <a:pt x="6516203" y="961092"/>
                </a:lnTo>
                <a:lnTo>
                  <a:pt x="6516203" y="955600"/>
                </a:lnTo>
                <a:lnTo>
                  <a:pt x="6516203" y="947362"/>
                </a:lnTo>
                <a:lnTo>
                  <a:pt x="6513457" y="944616"/>
                </a:lnTo>
                <a:lnTo>
                  <a:pt x="6510711" y="941870"/>
                </a:lnTo>
                <a:lnTo>
                  <a:pt x="6507965" y="944616"/>
                </a:lnTo>
                <a:lnTo>
                  <a:pt x="6505219" y="944616"/>
                </a:lnTo>
                <a:lnTo>
                  <a:pt x="6499727" y="944616"/>
                </a:lnTo>
                <a:lnTo>
                  <a:pt x="6496981" y="936378"/>
                </a:lnTo>
                <a:lnTo>
                  <a:pt x="6494235" y="928140"/>
                </a:lnTo>
                <a:lnTo>
                  <a:pt x="6491489" y="919902"/>
                </a:lnTo>
                <a:lnTo>
                  <a:pt x="6488743" y="917156"/>
                </a:lnTo>
                <a:lnTo>
                  <a:pt x="6483251" y="914410"/>
                </a:lnTo>
                <a:lnTo>
                  <a:pt x="6480505" y="919902"/>
                </a:lnTo>
                <a:lnTo>
                  <a:pt x="6477759" y="922648"/>
                </a:lnTo>
                <a:lnTo>
                  <a:pt x="6483251" y="930886"/>
                </a:lnTo>
                <a:lnTo>
                  <a:pt x="6483251" y="936378"/>
                </a:lnTo>
                <a:lnTo>
                  <a:pt x="6480505" y="941870"/>
                </a:lnTo>
                <a:lnTo>
                  <a:pt x="6477759" y="944616"/>
                </a:lnTo>
                <a:lnTo>
                  <a:pt x="6464030" y="950108"/>
                </a:lnTo>
                <a:lnTo>
                  <a:pt x="6458538" y="955600"/>
                </a:lnTo>
                <a:lnTo>
                  <a:pt x="6464030" y="958346"/>
                </a:lnTo>
                <a:lnTo>
                  <a:pt x="6466776" y="963838"/>
                </a:lnTo>
                <a:lnTo>
                  <a:pt x="6466776" y="966584"/>
                </a:lnTo>
                <a:lnTo>
                  <a:pt x="6461284" y="974822"/>
                </a:lnTo>
                <a:lnTo>
                  <a:pt x="6453046" y="980314"/>
                </a:lnTo>
                <a:lnTo>
                  <a:pt x="6439316" y="985806"/>
                </a:lnTo>
                <a:lnTo>
                  <a:pt x="6425586" y="991298"/>
                </a:lnTo>
                <a:lnTo>
                  <a:pt x="6414602" y="991298"/>
                </a:lnTo>
                <a:lnTo>
                  <a:pt x="6403618" y="988552"/>
                </a:lnTo>
                <a:lnTo>
                  <a:pt x="6398126" y="985806"/>
                </a:lnTo>
                <a:lnTo>
                  <a:pt x="6398126" y="980314"/>
                </a:lnTo>
                <a:lnTo>
                  <a:pt x="6395380" y="977568"/>
                </a:lnTo>
                <a:lnTo>
                  <a:pt x="6395380" y="969330"/>
                </a:lnTo>
                <a:lnTo>
                  <a:pt x="6395380" y="966584"/>
                </a:lnTo>
                <a:lnTo>
                  <a:pt x="6395380" y="963838"/>
                </a:lnTo>
                <a:lnTo>
                  <a:pt x="6384396" y="961092"/>
                </a:lnTo>
                <a:lnTo>
                  <a:pt x="6370666" y="961092"/>
                </a:lnTo>
                <a:lnTo>
                  <a:pt x="6356936" y="963838"/>
                </a:lnTo>
                <a:lnTo>
                  <a:pt x="6365174" y="977568"/>
                </a:lnTo>
                <a:lnTo>
                  <a:pt x="6367920" y="994044"/>
                </a:lnTo>
                <a:lnTo>
                  <a:pt x="6373412" y="1007774"/>
                </a:lnTo>
                <a:lnTo>
                  <a:pt x="6381650" y="1021504"/>
                </a:lnTo>
                <a:lnTo>
                  <a:pt x="6074986" y="1052594"/>
                </a:lnTo>
                <a:lnTo>
                  <a:pt x="6079593" y="1057201"/>
                </a:lnTo>
                <a:lnTo>
                  <a:pt x="6082339" y="1065439"/>
                </a:lnTo>
                <a:lnTo>
                  <a:pt x="6079593" y="1081915"/>
                </a:lnTo>
                <a:lnTo>
                  <a:pt x="6076847" y="1098391"/>
                </a:lnTo>
                <a:lnTo>
                  <a:pt x="6074101" y="1114867"/>
                </a:lnTo>
                <a:lnTo>
                  <a:pt x="6074101" y="1125850"/>
                </a:lnTo>
                <a:lnTo>
                  <a:pt x="6075474" y="1129969"/>
                </a:lnTo>
                <a:lnTo>
                  <a:pt x="6071355" y="1125850"/>
                </a:lnTo>
                <a:lnTo>
                  <a:pt x="6063117" y="1123104"/>
                </a:lnTo>
                <a:lnTo>
                  <a:pt x="6054879" y="1120359"/>
                </a:lnTo>
                <a:lnTo>
                  <a:pt x="6047557" y="1120359"/>
                </a:lnTo>
                <a:lnTo>
                  <a:pt x="6049387" y="1114867"/>
                </a:lnTo>
                <a:lnTo>
                  <a:pt x="6049387" y="1095645"/>
                </a:lnTo>
                <a:lnTo>
                  <a:pt x="6047204" y="1080360"/>
                </a:lnTo>
                <a:lnTo>
                  <a:pt x="6065863" y="1081915"/>
                </a:lnTo>
                <a:lnTo>
                  <a:pt x="6052133" y="1057201"/>
                </a:lnTo>
                <a:lnTo>
                  <a:pt x="6049387" y="1068185"/>
                </a:lnTo>
                <a:lnTo>
                  <a:pt x="6046642" y="1076423"/>
                </a:lnTo>
                <a:lnTo>
                  <a:pt x="6047204" y="1080360"/>
                </a:lnTo>
                <a:lnTo>
                  <a:pt x="6032912" y="1079169"/>
                </a:lnTo>
                <a:lnTo>
                  <a:pt x="5999960" y="1081915"/>
                </a:lnTo>
                <a:lnTo>
                  <a:pt x="5936802" y="1090153"/>
                </a:lnTo>
                <a:lnTo>
                  <a:pt x="5919059" y="1091631"/>
                </a:lnTo>
                <a:lnTo>
                  <a:pt x="5920326" y="1092899"/>
                </a:lnTo>
                <a:lnTo>
                  <a:pt x="5923072" y="1095645"/>
                </a:lnTo>
                <a:lnTo>
                  <a:pt x="5923072" y="1101137"/>
                </a:lnTo>
                <a:lnTo>
                  <a:pt x="5920326" y="1103883"/>
                </a:lnTo>
                <a:lnTo>
                  <a:pt x="5914834" y="1103883"/>
                </a:lnTo>
                <a:lnTo>
                  <a:pt x="5898359" y="1101137"/>
                </a:lnTo>
                <a:lnTo>
                  <a:pt x="5881883" y="1101137"/>
                </a:lnTo>
                <a:lnTo>
                  <a:pt x="5862661" y="1101137"/>
                </a:lnTo>
                <a:lnTo>
                  <a:pt x="5840693" y="1101137"/>
                </a:lnTo>
                <a:lnTo>
                  <a:pt x="5837947" y="1101137"/>
                </a:lnTo>
                <a:lnTo>
                  <a:pt x="5837947" y="1098391"/>
                </a:lnTo>
                <a:lnTo>
                  <a:pt x="5840693" y="1090153"/>
                </a:lnTo>
                <a:lnTo>
                  <a:pt x="5843211" y="1087636"/>
                </a:lnTo>
                <a:lnTo>
                  <a:pt x="5840693" y="1087407"/>
                </a:lnTo>
                <a:lnTo>
                  <a:pt x="5815252" y="1078926"/>
                </a:lnTo>
                <a:lnTo>
                  <a:pt x="5785773" y="1081915"/>
                </a:lnTo>
                <a:lnTo>
                  <a:pt x="5761059" y="1084661"/>
                </a:lnTo>
                <a:lnTo>
                  <a:pt x="5741837" y="1070931"/>
                </a:lnTo>
                <a:lnTo>
                  <a:pt x="5733600" y="1062693"/>
                </a:lnTo>
                <a:lnTo>
                  <a:pt x="5725362" y="1057201"/>
                </a:lnTo>
                <a:lnTo>
                  <a:pt x="5719870" y="1057201"/>
                </a:lnTo>
                <a:lnTo>
                  <a:pt x="5711632" y="1057201"/>
                </a:lnTo>
                <a:lnTo>
                  <a:pt x="5700648" y="1062693"/>
                </a:lnTo>
                <a:lnTo>
                  <a:pt x="5692410" y="1068185"/>
                </a:lnTo>
                <a:lnTo>
                  <a:pt x="5689664" y="1068185"/>
                </a:lnTo>
                <a:lnTo>
                  <a:pt x="5684172" y="1068185"/>
                </a:lnTo>
                <a:lnTo>
                  <a:pt x="5681426" y="1065439"/>
                </a:lnTo>
                <a:lnTo>
                  <a:pt x="5681426" y="1062693"/>
                </a:lnTo>
                <a:lnTo>
                  <a:pt x="5681426" y="1057201"/>
                </a:lnTo>
                <a:lnTo>
                  <a:pt x="5681426" y="1054455"/>
                </a:lnTo>
                <a:lnTo>
                  <a:pt x="5675934" y="1051709"/>
                </a:lnTo>
                <a:lnTo>
                  <a:pt x="5656712" y="1051709"/>
                </a:lnTo>
                <a:lnTo>
                  <a:pt x="5631998" y="1051709"/>
                </a:lnTo>
                <a:lnTo>
                  <a:pt x="5577079" y="1059947"/>
                </a:lnTo>
                <a:lnTo>
                  <a:pt x="5549619" y="1068185"/>
                </a:lnTo>
                <a:lnTo>
                  <a:pt x="5524905" y="1076423"/>
                </a:lnTo>
                <a:lnTo>
                  <a:pt x="5502937" y="1084661"/>
                </a:lnTo>
                <a:lnTo>
                  <a:pt x="5489208" y="1092899"/>
                </a:lnTo>
                <a:lnTo>
                  <a:pt x="5480970" y="1095645"/>
                </a:lnTo>
                <a:lnTo>
                  <a:pt x="5475478" y="1095645"/>
                </a:lnTo>
                <a:lnTo>
                  <a:pt x="5469986" y="1090153"/>
                </a:lnTo>
                <a:lnTo>
                  <a:pt x="5461748" y="1090153"/>
                </a:lnTo>
                <a:lnTo>
                  <a:pt x="5459002" y="1084661"/>
                </a:lnTo>
                <a:lnTo>
                  <a:pt x="5456256" y="1084661"/>
                </a:lnTo>
                <a:lnTo>
                  <a:pt x="5456256" y="1090153"/>
                </a:lnTo>
                <a:lnTo>
                  <a:pt x="5459002" y="1090153"/>
                </a:lnTo>
                <a:lnTo>
                  <a:pt x="5439780" y="1095645"/>
                </a:lnTo>
                <a:lnTo>
                  <a:pt x="5420558" y="1106629"/>
                </a:lnTo>
                <a:lnTo>
                  <a:pt x="5392376" y="1119636"/>
                </a:lnTo>
                <a:lnTo>
                  <a:pt x="5394625" y="1121884"/>
                </a:lnTo>
                <a:lnTo>
                  <a:pt x="5406828" y="1120359"/>
                </a:lnTo>
                <a:lnTo>
                  <a:pt x="5439780" y="1117613"/>
                </a:lnTo>
                <a:lnTo>
                  <a:pt x="5394987" y="1122246"/>
                </a:lnTo>
                <a:lnTo>
                  <a:pt x="5395844" y="1123104"/>
                </a:lnTo>
                <a:lnTo>
                  <a:pt x="5406828" y="1136834"/>
                </a:lnTo>
                <a:lnTo>
                  <a:pt x="5406828" y="1140495"/>
                </a:lnTo>
                <a:lnTo>
                  <a:pt x="5409574" y="1139580"/>
                </a:lnTo>
                <a:lnTo>
                  <a:pt x="5428796" y="1125850"/>
                </a:lnTo>
                <a:lnTo>
                  <a:pt x="5448018" y="1117612"/>
                </a:lnTo>
                <a:lnTo>
                  <a:pt x="5469986" y="1109374"/>
                </a:lnTo>
                <a:lnTo>
                  <a:pt x="5491954" y="1106628"/>
                </a:lnTo>
                <a:lnTo>
                  <a:pt x="5502388" y="1106628"/>
                </a:lnTo>
                <a:lnTo>
                  <a:pt x="5505683" y="1098391"/>
                </a:lnTo>
                <a:lnTo>
                  <a:pt x="5508429" y="1095645"/>
                </a:lnTo>
                <a:lnTo>
                  <a:pt x="5511175" y="1095645"/>
                </a:lnTo>
                <a:lnTo>
                  <a:pt x="5516667" y="1095645"/>
                </a:lnTo>
                <a:lnTo>
                  <a:pt x="5519413" y="1101137"/>
                </a:lnTo>
                <a:lnTo>
                  <a:pt x="5519413" y="1103883"/>
                </a:lnTo>
                <a:lnTo>
                  <a:pt x="5519413" y="1108688"/>
                </a:lnTo>
                <a:lnTo>
                  <a:pt x="5533143" y="1112120"/>
                </a:lnTo>
                <a:lnTo>
                  <a:pt x="5549619" y="1123104"/>
                </a:lnTo>
                <a:lnTo>
                  <a:pt x="5552365" y="1125850"/>
                </a:lnTo>
                <a:lnTo>
                  <a:pt x="5549619" y="1128596"/>
                </a:lnTo>
                <a:lnTo>
                  <a:pt x="5524905" y="1120358"/>
                </a:lnTo>
                <a:lnTo>
                  <a:pt x="5500192" y="1120358"/>
                </a:lnTo>
                <a:lnTo>
                  <a:pt x="5472732" y="1123104"/>
                </a:lnTo>
                <a:lnTo>
                  <a:pt x="5448018" y="1131342"/>
                </a:lnTo>
                <a:lnTo>
                  <a:pt x="5437034" y="1136834"/>
                </a:lnTo>
                <a:lnTo>
                  <a:pt x="5423304" y="1147818"/>
                </a:lnTo>
                <a:lnTo>
                  <a:pt x="5406828" y="1156056"/>
                </a:lnTo>
                <a:lnTo>
                  <a:pt x="5402709" y="1156056"/>
                </a:lnTo>
                <a:lnTo>
                  <a:pt x="5393099" y="1175277"/>
                </a:lnTo>
                <a:lnTo>
                  <a:pt x="5387607" y="1194499"/>
                </a:lnTo>
                <a:lnTo>
                  <a:pt x="5384861" y="1213721"/>
                </a:lnTo>
                <a:lnTo>
                  <a:pt x="5382548" y="1232220"/>
                </a:lnTo>
                <a:lnTo>
                  <a:pt x="5382115" y="1227451"/>
                </a:lnTo>
                <a:lnTo>
                  <a:pt x="5379369" y="1197245"/>
                </a:lnTo>
                <a:lnTo>
                  <a:pt x="5373877" y="1175277"/>
                </a:lnTo>
                <a:lnTo>
                  <a:pt x="5373877" y="1164294"/>
                </a:lnTo>
                <a:lnTo>
                  <a:pt x="5376623" y="1156056"/>
                </a:lnTo>
                <a:lnTo>
                  <a:pt x="5379369" y="1136834"/>
                </a:lnTo>
                <a:lnTo>
                  <a:pt x="5379369" y="1131342"/>
                </a:lnTo>
                <a:lnTo>
                  <a:pt x="5376959" y="1124111"/>
                </a:lnTo>
                <a:lnTo>
                  <a:pt x="5360147" y="1125851"/>
                </a:lnTo>
                <a:lnTo>
                  <a:pt x="5362893" y="1123105"/>
                </a:lnTo>
                <a:lnTo>
                  <a:pt x="5362893" y="1116697"/>
                </a:lnTo>
                <a:lnTo>
                  <a:pt x="5351909" y="1114866"/>
                </a:lnTo>
                <a:lnTo>
                  <a:pt x="5349163" y="1112120"/>
                </a:lnTo>
                <a:lnTo>
                  <a:pt x="5346417" y="1109374"/>
                </a:lnTo>
                <a:lnTo>
                  <a:pt x="5349163" y="1106629"/>
                </a:lnTo>
                <a:lnTo>
                  <a:pt x="5338179" y="1106629"/>
                </a:lnTo>
                <a:lnTo>
                  <a:pt x="5310719" y="1106629"/>
                </a:lnTo>
                <a:lnTo>
                  <a:pt x="5296989" y="1103883"/>
                </a:lnTo>
                <a:lnTo>
                  <a:pt x="5283259" y="1101137"/>
                </a:lnTo>
                <a:lnTo>
                  <a:pt x="5272275" y="1095645"/>
                </a:lnTo>
                <a:lnTo>
                  <a:pt x="5264037" y="1087407"/>
                </a:lnTo>
                <a:lnTo>
                  <a:pt x="5269529" y="1087407"/>
                </a:lnTo>
                <a:lnTo>
                  <a:pt x="5266783" y="1081915"/>
                </a:lnTo>
                <a:lnTo>
                  <a:pt x="5258545" y="1079169"/>
                </a:lnTo>
                <a:lnTo>
                  <a:pt x="5255799" y="1070931"/>
                </a:lnTo>
                <a:lnTo>
                  <a:pt x="5261291" y="1073677"/>
                </a:lnTo>
                <a:lnTo>
                  <a:pt x="5261291" y="1068185"/>
                </a:lnTo>
                <a:lnTo>
                  <a:pt x="5255799" y="1068185"/>
                </a:lnTo>
                <a:lnTo>
                  <a:pt x="5244816" y="1073677"/>
                </a:lnTo>
                <a:lnTo>
                  <a:pt x="5242070" y="1076423"/>
                </a:lnTo>
                <a:lnTo>
                  <a:pt x="5239324" y="1084661"/>
                </a:lnTo>
                <a:lnTo>
                  <a:pt x="5236578" y="1090153"/>
                </a:lnTo>
                <a:lnTo>
                  <a:pt x="5233832" y="1087407"/>
                </a:lnTo>
                <a:lnTo>
                  <a:pt x="5228340" y="1087407"/>
                </a:lnTo>
                <a:lnTo>
                  <a:pt x="5225594" y="1090153"/>
                </a:lnTo>
                <a:lnTo>
                  <a:pt x="5217356" y="1095645"/>
                </a:lnTo>
                <a:lnTo>
                  <a:pt x="5198134" y="1098391"/>
                </a:lnTo>
                <a:lnTo>
                  <a:pt x="5198134" y="1095645"/>
                </a:lnTo>
                <a:lnTo>
                  <a:pt x="5200880" y="1095645"/>
                </a:lnTo>
                <a:lnTo>
                  <a:pt x="5203626" y="1095645"/>
                </a:lnTo>
                <a:lnTo>
                  <a:pt x="5203626" y="1092899"/>
                </a:lnTo>
                <a:lnTo>
                  <a:pt x="5200880" y="1092899"/>
                </a:lnTo>
                <a:lnTo>
                  <a:pt x="5200880" y="1090153"/>
                </a:lnTo>
                <a:lnTo>
                  <a:pt x="5192642" y="1095645"/>
                </a:lnTo>
                <a:lnTo>
                  <a:pt x="5189896" y="1098391"/>
                </a:lnTo>
                <a:lnTo>
                  <a:pt x="5187150" y="1098391"/>
                </a:lnTo>
                <a:lnTo>
                  <a:pt x="5181658" y="1098391"/>
                </a:lnTo>
                <a:lnTo>
                  <a:pt x="5176166" y="1095645"/>
                </a:lnTo>
                <a:lnTo>
                  <a:pt x="5176166" y="1092899"/>
                </a:lnTo>
                <a:lnTo>
                  <a:pt x="5181658" y="1092899"/>
                </a:lnTo>
                <a:lnTo>
                  <a:pt x="5181658" y="1087407"/>
                </a:lnTo>
                <a:lnTo>
                  <a:pt x="5176166" y="1090153"/>
                </a:lnTo>
                <a:lnTo>
                  <a:pt x="5167928" y="1090153"/>
                </a:lnTo>
                <a:lnTo>
                  <a:pt x="5156944" y="1087407"/>
                </a:lnTo>
                <a:lnTo>
                  <a:pt x="5154198" y="1092899"/>
                </a:lnTo>
                <a:lnTo>
                  <a:pt x="5151452" y="1094272"/>
                </a:lnTo>
                <a:lnTo>
                  <a:pt x="5151452" y="1092899"/>
                </a:lnTo>
                <a:lnTo>
                  <a:pt x="5143214" y="1092899"/>
                </a:lnTo>
                <a:lnTo>
                  <a:pt x="5148706" y="1106629"/>
                </a:lnTo>
                <a:lnTo>
                  <a:pt x="5134976" y="1106629"/>
                </a:lnTo>
                <a:lnTo>
                  <a:pt x="5134976" y="1103883"/>
                </a:lnTo>
                <a:lnTo>
                  <a:pt x="5129485" y="1101137"/>
                </a:lnTo>
                <a:lnTo>
                  <a:pt x="5132230" y="1103883"/>
                </a:lnTo>
                <a:lnTo>
                  <a:pt x="5129485" y="1106629"/>
                </a:lnTo>
                <a:lnTo>
                  <a:pt x="5129485" y="1109375"/>
                </a:lnTo>
                <a:lnTo>
                  <a:pt x="5134976" y="1109375"/>
                </a:lnTo>
                <a:lnTo>
                  <a:pt x="5137722" y="1117613"/>
                </a:lnTo>
                <a:lnTo>
                  <a:pt x="5140468" y="1120359"/>
                </a:lnTo>
                <a:lnTo>
                  <a:pt x="5143214" y="1123105"/>
                </a:lnTo>
                <a:lnTo>
                  <a:pt x="5145960" y="1120359"/>
                </a:lnTo>
                <a:lnTo>
                  <a:pt x="5151452" y="1120359"/>
                </a:lnTo>
                <a:lnTo>
                  <a:pt x="5151452" y="1123105"/>
                </a:lnTo>
                <a:lnTo>
                  <a:pt x="5156944" y="1120359"/>
                </a:lnTo>
                <a:lnTo>
                  <a:pt x="5176166" y="1120359"/>
                </a:lnTo>
                <a:lnTo>
                  <a:pt x="5173420" y="1125851"/>
                </a:lnTo>
                <a:lnTo>
                  <a:pt x="5170674" y="1128597"/>
                </a:lnTo>
                <a:lnTo>
                  <a:pt x="5165182" y="1125851"/>
                </a:lnTo>
                <a:lnTo>
                  <a:pt x="5162436" y="1125851"/>
                </a:lnTo>
                <a:lnTo>
                  <a:pt x="5159690" y="1125851"/>
                </a:lnTo>
                <a:lnTo>
                  <a:pt x="5159690" y="1134089"/>
                </a:lnTo>
                <a:lnTo>
                  <a:pt x="5162436" y="1139581"/>
                </a:lnTo>
                <a:lnTo>
                  <a:pt x="5165182" y="1136835"/>
                </a:lnTo>
                <a:lnTo>
                  <a:pt x="5170674" y="1136835"/>
                </a:lnTo>
                <a:lnTo>
                  <a:pt x="5170674" y="1131343"/>
                </a:lnTo>
                <a:lnTo>
                  <a:pt x="5173420" y="1128597"/>
                </a:lnTo>
                <a:lnTo>
                  <a:pt x="5181658" y="1128597"/>
                </a:lnTo>
                <a:lnTo>
                  <a:pt x="5187150" y="1131343"/>
                </a:lnTo>
                <a:lnTo>
                  <a:pt x="5192642" y="1128597"/>
                </a:lnTo>
                <a:lnTo>
                  <a:pt x="5195388" y="1125851"/>
                </a:lnTo>
                <a:lnTo>
                  <a:pt x="5192642" y="1123105"/>
                </a:lnTo>
                <a:lnTo>
                  <a:pt x="5195388" y="1120359"/>
                </a:lnTo>
                <a:lnTo>
                  <a:pt x="5198134" y="1120359"/>
                </a:lnTo>
                <a:lnTo>
                  <a:pt x="5200880" y="1120359"/>
                </a:lnTo>
                <a:lnTo>
                  <a:pt x="5200880" y="1125851"/>
                </a:lnTo>
                <a:lnTo>
                  <a:pt x="5200880" y="1131343"/>
                </a:lnTo>
                <a:lnTo>
                  <a:pt x="5200880" y="1134088"/>
                </a:lnTo>
                <a:lnTo>
                  <a:pt x="5220102" y="1129282"/>
                </a:lnTo>
                <a:lnTo>
                  <a:pt x="5220102" y="1128597"/>
                </a:lnTo>
                <a:lnTo>
                  <a:pt x="5217356" y="1128597"/>
                </a:lnTo>
                <a:lnTo>
                  <a:pt x="5217356" y="1125851"/>
                </a:lnTo>
                <a:lnTo>
                  <a:pt x="5220102" y="1123105"/>
                </a:lnTo>
                <a:lnTo>
                  <a:pt x="5217356" y="1120359"/>
                </a:lnTo>
                <a:lnTo>
                  <a:pt x="5211864" y="1117613"/>
                </a:lnTo>
                <a:lnTo>
                  <a:pt x="5244816" y="1120359"/>
                </a:lnTo>
                <a:lnTo>
                  <a:pt x="5247561" y="1121274"/>
                </a:lnTo>
                <a:lnTo>
                  <a:pt x="5296989" y="1106628"/>
                </a:lnTo>
                <a:lnTo>
                  <a:pt x="5299735" y="1106628"/>
                </a:lnTo>
                <a:lnTo>
                  <a:pt x="5299735" y="1109374"/>
                </a:lnTo>
                <a:lnTo>
                  <a:pt x="5299735" y="1112120"/>
                </a:lnTo>
                <a:lnTo>
                  <a:pt x="5288751" y="1120358"/>
                </a:lnTo>
                <a:lnTo>
                  <a:pt x="5277767" y="1125850"/>
                </a:lnTo>
                <a:lnTo>
                  <a:pt x="5269921" y="1128792"/>
                </a:lnTo>
                <a:lnTo>
                  <a:pt x="5280513" y="1134089"/>
                </a:lnTo>
                <a:lnTo>
                  <a:pt x="5239324" y="1139581"/>
                </a:lnTo>
                <a:lnTo>
                  <a:pt x="5239324" y="1137556"/>
                </a:lnTo>
                <a:lnTo>
                  <a:pt x="5225993" y="1140363"/>
                </a:lnTo>
                <a:lnTo>
                  <a:pt x="5220102" y="1142327"/>
                </a:lnTo>
                <a:lnTo>
                  <a:pt x="5221019" y="1141410"/>
                </a:lnTo>
                <a:lnTo>
                  <a:pt x="5203626" y="1145072"/>
                </a:lnTo>
                <a:lnTo>
                  <a:pt x="5173420" y="1156056"/>
                </a:lnTo>
                <a:lnTo>
                  <a:pt x="5162436" y="1158802"/>
                </a:lnTo>
                <a:lnTo>
                  <a:pt x="5159690" y="1164294"/>
                </a:lnTo>
                <a:lnTo>
                  <a:pt x="5156944" y="1169785"/>
                </a:lnTo>
                <a:lnTo>
                  <a:pt x="5151452" y="1175277"/>
                </a:lnTo>
                <a:lnTo>
                  <a:pt x="5145961" y="1180769"/>
                </a:lnTo>
                <a:lnTo>
                  <a:pt x="5140469" y="1183515"/>
                </a:lnTo>
                <a:lnTo>
                  <a:pt x="5115755" y="1189007"/>
                </a:lnTo>
                <a:lnTo>
                  <a:pt x="5091041" y="1191753"/>
                </a:lnTo>
                <a:lnTo>
                  <a:pt x="5069989" y="1191753"/>
                </a:lnTo>
                <a:lnTo>
                  <a:pt x="5077311" y="1186261"/>
                </a:lnTo>
                <a:lnTo>
                  <a:pt x="5085549" y="1172531"/>
                </a:lnTo>
                <a:lnTo>
                  <a:pt x="5047105" y="1183515"/>
                </a:lnTo>
                <a:lnTo>
                  <a:pt x="5055343" y="1189007"/>
                </a:lnTo>
                <a:lnTo>
                  <a:pt x="5066327" y="1191753"/>
                </a:lnTo>
                <a:lnTo>
                  <a:pt x="5069989" y="1191753"/>
                </a:lnTo>
                <a:lnTo>
                  <a:pt x="5066327" y="1194499"/>
                </a:lnTo>
                <a:lnTo>
                  <a:pt x="5052597" y="1199991"/>
                </a:lnTo>
                <a:lnTo>
                  <a:pt x="5038867" y="1199991"/>
                </a:lnTo>
                <a:lnTo>
                  <a:pt x="5030630" y="1197245"/>
                </a:lnTo>
                <a:lnTo>
                  <a:pt x="5027884" y="1191753"/>
                </a:lnTo>
                <a:lnTo>
                  <a:pt x="5019646" y="1180769"/>
                </a:lnTo>
                <a:lnTo>
                  <a:pt x="5016900" y="1175277"/>
                </a:lnTo>
                <a:lnTo>
                  <a:pt x="5014154" y="1172531"/>
                </a:lnTo>
                <a:lnTo>
                  <a:pt x="5003170" y="1167039"/>
                </a:lnTo>
                <a:lnTo>
                  <a:pt x="4997999" y="1164454"/>
                </a:lnTo>
                <a:lnTo>
                  <a:pt x="4843903" y="1180770"/>
                </a:lnTo>
                <a:lnTo>
                  <a:pt x="4838411" y="1180770"/>
                </a:lnTo>
                <a:lnTo>
                  <a:pt x="4835665" y="1180770"/>
                </a:lnTo>
                <a:lnTo>
                  <a:pt x="4769761" y="1189008"/>
                </a:lnTo>
                <a:lnTo>
                  <a:pt x="4764270" y="1180770"/>
                </a:lnTo>
                <a:lnTo>
                  <a:pt x="4753286" y="1178024"/>
                </a:lnTo>
                <a:lnTo>
                  <a:pt x="4745048" y="1175278"/>
                </a:lnTo>
                <a:lnTo>
                  <a:pt x="4736810" y="1169786"/>
                </a:lnTo>
                <a:lnTo>
                  <a:pt x="4728572" y="1175278"/>
                </a:lnTo>
                <a:lnTo>
                  <a:pt x="4720334" y="1178024"/>
                </a:lnTo>
                <a:lnTo>
                  <a:pt x="4712096" y="1180770"/>
                </a:lnTo>
                <a:lnTo>
                  <a:pt x="4706604" y="1183516"/>
                </a:lnTo>
                <a:lnTo>
                  <a:pt x="4706604" y="1189008"/>
                </a:lnTo>
                <a:lnTo>
                  <a:pt x="4703858" y="1194500"/>
                </a:lnTo>
                <a:lnTo>
                  <a:pt x="4561067" y="1208230"/>
                </a:lnTo>
                <a:lnTo>
                  <a:pt x="4558321" y="1208230"/>
                </a:lnTo>
                <a:lnTo>
                  <a:pt x="4558321" y="1210976"/>
                </a:lnTo>
                <a:lnTo>
                  <a:pt x="4032232" y="1267167"/>
                </a:lnTo>
                <a:lnTo>
                  <a:pt x="4025601" y="1268640"/>
                </a:lnTo>
                <a:lnTo>
                  <a:pt x="4018437" y="1268640"/>
                </a:lnTo>
                <a:lnTo>
                  <a:pt x="3932144" y="1277857"/>
                </a:lnTo>
                <a:lnTo>
                  <a:pt x="3929493" y="1279625"/>
                </a:lnTo>
                <a:lnTo>
                  <a:pt x="3910271" y="1293355"/>
                </a:lnTo>
                <a:lnTo>
                  <a:pt x="3896541" y="1301593"/>
                </a:lnTo>
                <a:lnTo>
                  <a:pt x="3891049" y="1307085"/>
                </a:lnTo>
                <a:lnTo>
                  <a:pt x="3888303" y="1312577"/>
                </a:lnTo>
                <a:lnTo>
                  <a:pt x="3885557" y="1331798"/>
                </a:lnTo>
                <a:lnTo>
                  <a:pt x="3885557" y="1351020"/>
                </a:lnTo>
                <a:lnTo>
                  <a:pt x="3885557" y="1351020"/>
                </a:lnTo>
                <a:lnTo>
                  <a:pt x="3891049" y="1378480"/>
                </a:lnTo>
                <a:lnTo>
                  <a:pt x="3904779" y="1438891"/>
                </a:lnTo>
                <a:lnTo>
                  <a:pt x="3904779" y="1447129"/>
                </a:lnTo>
                <a:lnTo>
                  <a:pt x="3899287" y="1452621"/>
                </a:lnTo>
                <a:lnTo>
                  <a:pt x="3891049" y="1458113"/>
                </a:lnTo>
                <a:lnTo>
                  <a:pt x="3885557" y="1458113"/>
                </a:lnTo>
                <a:lnTo>
                  <a:pt x="3880065" y="1458113"/>
                </a:lnTo>
                <a:lnTo>
                  <a:pt x="3877319" y="1455367"/>
                </a:lnTo>
                <a:lnTo>
                  <a:pt x="3871827" y="1452621"/>
                </a:lnTo>
                <a:lnTo>
                  <a:pt x="3871827" y="1447129"/>
                </a:lnTo>
                <a:lnTo>
                  <a:pt x="3871827" y="1441637"/>
                </a:lnTo>
                <a:lnTo>
                  <a:pt x="3871827" y="1438891"/>
                </a:lnTo>
                <a:lnTo>
                  <a:pt x="3877319" y="1433399"/>
                </a:lnTo>
                <a:lnTo>
                  <a:pt x="3880065" y="1430653"/>
                </a:lnTo>
                <a:lnTo>
                  <a:pt x="3880065" y="1425161"/>
                </a:lnTo>
                <a:lnTo>
                  <a:pt x="3882811" y="1408686"/>
                </a:lnTo>
                <a:lnTo>
                  <a:pt x="3880065" y="1381226"/>
                </a:lnTo>
                <a:lnTo>
                  <a:pt x="3880065" y="1353766"/>
                </a:lnTo>
                <a:lnTo>
                  <a:pt x="3880065" y="1351020"/>
                </a:lnTo>
                <a:lnTo>
                  <a:pt x="3877319" y="1320815"/>
                </a:lnTo>
                <a:lnTo>
                  <a:pt x="3874573" y="1309831"/>
                </a:lnTo>
                <a:lnTo>
                  <a:pt x="3871827" y="1304339"/>
                </a:lnTo>
                <a:lnTo>
                  <a:pt x="3866335" y="1301593"/>
                </a:lnTo>
                <a:lnTo>
                  <a:pt x="3858098" y="1301593"/>
                </a:lnTo>
                <a:lnTo>
                  <a:pt x="3844368" y="1298847"/>
                </a:lnTo>
                <a:lnTo>
                  <a:pt x="3827892" y="1296101"/>
                </a:lnTo>
                <a:lnTo>
                  <a:pt x="3811416" y="1293355"/>
                </a:lnTo>
                <a:lnTo>
                  <a:pt x="3810500" y="1293355"/>
                </a:lnTo>
                <a:lnTo>
                  <a:pt x="3803178" y="1298847"/>
                </a:lnTo>
                <a:lnTo>
                  <a:pt x="3800432" y="1301593"/>
                </a:lnTo>
                <a:lnTo>
                  <a:pt x="3797686" y="1304339"/>
                </a:lnTo>
                <a:lnTo>
                  <a:pt x="3792194" y="1312577"/>
                </a:lnTo>
                <a:lnTo>
                  <a:pt x="3790197" y="1313076"/>
                </a:lnTo>
                <a:lnTo>
                  <a:pt x="3789448" y="1315323"/>
                </a:lnTo>
                <a:lnTo>
                  <a:pt x="3786702" y="1323561"/>
                </a:lnTo>
                <a:lnTo>
                  <a:pt x="3781654" y="1325244"/>
                </a:lnTo>
                <a:lnTo>
                  <a:pt x="3783956" y="1348275"/>
                </a:lnTo>
                <a:lnTo>
                  <a:pt x="3786702" y="1372988"/>
                </a:lnTo>
                <a:lnTo>
                  <a:pt x="3789448" y="1411432"/>
                </a:lnTo>
                <a:lnTo>
                  <a:pt x="3792194" y="1449876"/>
                </a:lnTo>
                <a:lnTo>
                  <a:pt x="3792194" y="1488319"/>
                </a:lnTo>
                <a:lnTo>
                  <a:pt x="3789448" y="1526763"/>
                </a:lnTo>
                <a:lnTo>
                  <a:pt x="3786702" y="1548731"/>
                </a:lnTo>
                <a:lnTo>
                  <a:pt x="3783956" y="1573445"/>
                </a:lnTo>
                <a:lnTo>
                  <a:pt x="3783956" y="1584429"/>
                </a:lnTo>
                <a:lnTo>
                  <a:pt x="3783956" y="1595412"/>
                </a:lnTo>
                <a:lnTo>
                  <a:pt x="3789448" y="1606396"/>
                </a:lnTo>
                <a:lnTo>
                  <a:pt x="3794940" y="1614634"/>
                </a:lnTo>
                <a:lnTo>
                  <a:pt x="3803178" y="1622872"/>
                </a:lnTo>
                <a:lnTo>
                  <a:pt x="3811416" y="1633856"/>
                </a:lnTo>
                <a:lnTo>
                  <a:pt x="3814162" y="1644840"/>
                </a:lnTo>
                <a:lnTo>
                  <a:pt x="3816908" y="1658570"/>
                </a:lnTo>
                <a:lnTo>
                  <a:pt x="3819654" y="1675046"/>
                </a:lnTo>
                <a:lnTo>
                  <a:pt x="3819654" y="1688776"/>
                </a:lnTo>
                <a:lnTo>
                  <a:pt x="3816908" y="1699760"/>
                </a:lnTo>
                <a:lnTo>
                  <a:pt x="3811416" y="1710743"/>
                </a:lnTo>
                <a:lnTo>
                  <a:pt x="3803178" y="1721727"/>
                </a:lnTo>
                <a:lnTo>
                  <a:pt x="3792194" y="1727219"/>
                </a:lnTo>
                <a:lnTo>
                  <a:pt x="3781211" y="1732711"/>
                </a:lnTo>
                <a:lnTo>
                  <a:pt x="3767481" y="1738203"/>
                </a:lnTo>
                <a:lnTo>
                  <a:pt x="3759243" y="1738203"/>
                </a:lnTo>
                <a:lnTo>
                  <a:pt x="3753751" y="1735457"/>
                </a:lnTo>
                <a:lnTo>
                  <a:pt x="3751005" y="1729965"/>
                </a:lnTo>
                <a:lnTo>
                  <a:pt x="3751005" y="1721727"/>
                </a:lnTo>
                <a:lnTo>
                  <a:pt x="3756497" y="1699760"/>
                </a:lnTo>
                <a:lnTo>
                  <a:pt x="3759243" y="1688776"/>
                </a:lnTo>
                <a:lnTo>
                  <a:pt x="3764735" y="1677792"/>
                </a:lnTo>
                <a:lnTo>
                  <a:pt x="3770227" y="1661316"/>
                </a:lnTo>
                <a:lnTo>
                  <a:pt x="3772973" y="1644840"/>
                </a:lnTo>
                <a:lnTo>
                  <a:pt x="3772973" y="1628364"/>
                </a:lnTo>
                <a:lnTo>
                  <a:pt x="3770227" y="1611888"/>
                </a:lnTo>
                <a:lnTo>
                  <a:pt x="3770227" y="1598158"/>
                </a:lnTo>
                <a:lnTo>
                  <a:pt x="3772973" y="1581683"/>
                </a:lnTo>
                <a:lnTo>
                  <a:pt x="3778465" y="1554223"/>
                </a:lnTo>
                <a:lnTo>
                  <a:pt x="3783956" y="1502049"/>
                </a:lnTo>
                <a:lnTo>
                  <a:pt x="3786702" y="1474589"/>
                </a:lnTo>
                <a:lnTo>
                  <a:pt x="3786702" y="1447130"/>
                </a:lnTo>
                <a:lnTo>
                  <a:pt x="3783956" y="1419670"/>
                </a:lnTo>
                <a:lnTo>
                  <a:pt x="3778465" y="1392210"/>
                </a:lnTo>
                <a:lnTo>
                  <a:pt x="3767481" y="1370242"/>
                </a:lnTo>
                <a:lnTo>
                  <a:pt x="3753751" y="1351021"/>
                </a:lnTo>
                <a:lnTo>
                  <a:pt x="3748259" y="1340037"/>
                </a:lnTo>
                <a:lnTo>
                  <a:pt x="3737275" y="1323561"/>
                </a:lnTo>
                <a:lnTo>
                  <a:pt x="3731783" y="1312577"/>
                </a:lnTo>
                <a:lnTo>
                  <a:pt x="3729037" y="1304339"/>
                </a:lnTo>
                <a:lnTo>
                  <a:pt x="3731566" y="1299281"/>
                </a:lnTo>
                <a:lnTo>
                  <a:pt x="3709696" y="1301617"/>
                </a:lnTo>
                <a:lnTo>
                  <a:pt x="3696085" y="1304339"/>
                </a:lnTo>
                <a:lnTo>
                  <a:pt x="3685101" y="1307085"/>
                </a:lnTo>
                <a:lnTo>
                  <a:pt x="3680578" y="1306762"/>
                </a:lnTo>
                <a:lnTo>
                  <a:pt x="3671370" y="1309831"/>
                </a:lnTo>
                <a:lnTo>
                  <a:pt x="3638419" y="1315323"/>
                </a:lnTo>
                <a:lnTo>
                  <a:pt x="3621943" y="1318069"/>
                </a:lnTo>
                <a:lnTo>
                  <a:pt x="3608213" y="1320815"/>
                </a:lnTo>
                <a:lnTo>
                  <a:pt x="3591737" y="1326307"/>
                </a:lnTo>
                <a:lnTo>
                  <a:pt x="3580753" y="1337290"/>
                </a:lnTo>
                <a:lnTo>
                  <a:pt x="3575261" y="1342782"/>
                </a:lnTo>
                <a:lnTo>
                  <a:pt x="3569769" y="1342782"/>
                </a:lnTo>
                <a:lnTo>
                  <a:pt x="3558785" y="1342782"/>
                </a:lnTo>
                <a:lnTo>
                  <a:pt x="3545055" y="1337290"/>
                </a:lnTo>
                <a:lnTo>
                  <a:pt x="3542071" y="1335500"/>
                </a:lnTo>
                <a:lnTo>
                  <a:pt x="3542309" y="1334544"/>
                </a:lnTo>
                <a:lnTo>
                  <a:pt x="3547801" y="1326307"/>
                </a:lnTo>
                <a:lnTo>
                  <a:pt x="3531326" y="1329053"/>
                </a:lnTo>
                <a:lnTo>
                  <a:pt x="3542071" y="1335500"/>
                </a:lnTo>
                <a:lnTo>
                  <a:pt x="3539564" y="1345528"/>
                </a:lnTo>
                <a:lnTo>
                  <a:pt x="3534072" y="1351020"/>
                </a:lnTo>
                <a:lnTo>
                  <a:pt x="3528580" y="1353766"/>
                </a:lnTo>
                <a:lnTo>
                  <a:pt x="3523088" y="1351020"/>
                </a:lnTo>
                <a:lnTo>
                  <a:pt x="3520342" y="1348274"/>
                </a:lnTo>
                <a:lnTo>
                  <a:pt x="3514850" y="1340036"/>
                </a:lnTo>
                <a:lnTo>
                  <a:pt x="3506612" y="1331798"/>
                </a:lnTo>
                <a:lnTo>
                  <a:pt x="3498374" y="1329053"/>
                </a:lnTo>
                <a:lnTo>
                  <a:pt x="3487390" y="1326307"/>
                </a:lnTo>
                <a:lnTo>
                  <a:pt x="3478538" y="1326307"/>
                </a:lnTo>
                <a:lnTo>
                  <a:pt x="3397870" y="1334923"/>
                </a:lnTo>
                <a:lnTo>
                  <a:pt x="3393378" y="1339414"/>
                </a:lnTo>
                <a:lnTo>
                  <a:pt x="3379648" y="1350398"/>
                </a:lnTo>
                <a:lnTo>
                  <a:pt x="3369763" y="1355341"/>
                </a:lnTo>
                <a:lnTo>
                  <a:pt x="3360426" y="1383350"/>
                </a:lnTo>
                <a:lnTo>
                  <a:pt x="3354934" y="1399826"/>
                </a:lnTo>
                <a:lnTo>
                  <a:pt x="3354934" y="1416302"/>
                </a:lnTo>
                <a:lnTo>
                  <a:pt x="3352188" y="1438270"/>
                </a:lnTo>
                <a:lnTo>
                  <a:pt x="3352188" y="1457491"/>
                </a:lnTo>
                <a:lnTo>
                  <a:pt x="3357680" y="1465729"/>
                </a:lnTo>
                <a:lnTo>
                  <a:pt x="3357680" y="1471221"/>
                </a:lnTo>
                <a:lnTo>
                  <a:pt x="3357680" y="1473967"/>
                </a:lnTo>
                <a:lnTo>
                  <a:pt x="3352188" y="1482205"/>
                </a:lnTo>
                <a:lnTo>
                  <a:pt x="3346696" y="1487697"/>
                </a:lnTo>
                <a:lnTo>
                  <a:pt x="3338458" y="1487697"/>
                </a:lnTo>
                <a:lnTo>
                  <a:pt x="3330221" y="1484951"/>
                </a:lnTo>
                <a:lnTo>
                  <a:pt x="3327475" y="1484951"/>
                </a:lnTo>
                <a:lnTo>
                  <a:pt x="3321983" y="1479459"/>
                </a:lnTo>
                <a:lnTo>
                  <a:pt x="3321983" y="1473967"/>
                </a:lnTo>
                <a:lnTo>
                  <a:pt x="3321983" y="1465729"/>
                </a:lnTo>
                <a:lnTo>
                  <a:pt x="3324729" y="1460237"/>
                </a:lnTo>
                <a:lnTo>
                  <a:pt x="3332967" y="1454745"/>
                </a:lnTo>
                <a:lnTo>
                  <a:pt x="3343950" y="1451999"/>
                </a:lnTo>
                <a:lnTo>
                  <a:pt x="3341204" y="1435524"/>
                </a:lnTo>
                <a:lnTo>
                  <a:pt x="3341204" y="1416302"/>
                </a:lnTo>
                <a:lnTo>
                  <a:pt x="3335713" y="1397080"/>
                </a:lnTo>
                <a:lnTo>
                  <a:pt x="3327475" y="1377858"/>
                </a:lnTo>
                <a:lnTo>
                  <a:pt x="3323915" y="1365400"/>
                </a:lnTo>
                <a:lnTo>
                  <a:pt x="3335713" y="1366874"/>
                </a:lnTo>
                <a:lnTo>
                  <a:pt x="3323698" y="1342845"/>
                </a:lnTo>
                <a:lnTo>
                  <a:pt x="3321983" y="1343028"/>
                </a:lnTo>
                <a:lnTo>
                  <a:pt x="3321983" y="1350398"/>
                </a:lnTo>
                <a:lnTo>
                  <a:pt x="3321983" y="1358636"/>
                </a:lnTo>
                <a:lnTo>
                  <a:pt x="3323915" y="1365400"/>
                </a:lnTo>
                <a:lnTo>
                  <a:pt x="3313745" y="1364128"/>
                </a:lnTo>
                <a:lnTo>
                  <a:pt x="3305507" y="1364128"/>
                </a:lnTo>
                <a:lnTo>
                  <a:pt x="3297269" y="1358636"/>
                </a:lnTo>
                <a:lnTo>
                  <a:pt x="3291777" y="1353144"/>
                </a:lnTo>
                <a:lnTo>
                  <a:pt x="3289559" y="1346491"/>
                </a:lnTo>
                <a:lnTo>
                  <a:pt x="2501585" y="1430654"/>
                </a:lnTo>
                <a:lnTo>
                  <a:pt x="3289031" y="1336820"/>
                </a:lnTo>
                <a:lnTo>
                  <a:pt x="3289031" y="1331177"/>
                </a:lnTo>
                <a:lnTo>
                  <a:pt x="3283539" y="1322939"/>
                </a:lnTo>
                <a:lnTo>
                  <a:pt x="3278047" y="1314701"/>
                </a:lnTo>
                <a:lnTo>
                  <a:pt x="3269809" y="1309209"/>
                </a:lnTo>
                <a:lnTo>
                  <a:pt x="3250587" y="1295479"/>
                </a:lnTo>
                <a:lnTo>
                  <a:pt x="3242349" y="1289987"/>
                </a:lnTo>
                <a:lnTo>
                  <a:pt x="3234111" y="1281749"/>
                </a:lnTo>
                <a:lnTo>
                  <a:pt x="3234111" y="1279003"/>
                </a:lnTo>
                <a:lnTo>
                  <a:pt x="3234111" y="1276257"/>
                </a:lnTo>
                <a:lnTo>
                  <a:pt x="3236857" y="1276257"/>
                </a:lnTo>
                <a:lnTo>
                  <a:pt x="3239603" y="1276257"/>
                </a:lnTo>
                <a:lnTo>
                  <a:pt x="3267063" y="1287241"/>
                </a:lnTo>
                <a:lnTo>
                  <a:pt x="3294523" y="1298225"/>
                </a:lnTo>
                <a:lnTo>
                  <a:pt x="3305507" y="1306463"/>
                </a:lnTo>
                <a:lnTo>
                  <a:pt x="3316491" y="1317447"/>
                </a:lnTo>
                <a:lnTo>
                  <a:pt x="3319420" y="1323305"/>
                </a:lnTo>
                <a:lnTo>
                  <a:pt x="3302761" y="1325685"/>
                </a:lnTo>
                <a:lnTo>
                  <a:pt x="3313352" y="1333922"/>
                </a:lnTo>
                <a:lnTo>
                  <a:pt x="3323414" y="1332723"/>
                </a:lnTo>
                <a:lnTo>
                  <a:pt x="3321983" y="1328431"/>
                </a:lnTo>
                <a:lnTo>
                  <a:pt x="3319420" y="1323305"/>
                </a:lnTo>
                <a:lnTo>
                  <a:pt x="3321983" y="1322939"/>
                </a:lnTo>
                <a:lnTo>
                  <a:pt x="3341204" y="1320193"/>
                </a:lnTo>
                <a:lnTo>
                  <a:pt x="3346696" y="1320193"/>
                </a:lnTo>
                <a:lnTo>
                  <a:pt x="3352188" y="1320193"/>
                </a:lnTo>
                <a:lnTo>
                  <a:pt x="3362660" y="1328046"/>
                </a:lnTo>
                <a:lnTo>
                  <a:pt x="3369249" y="1327261"/>
                </a:lnTo>
                <a:lnTo>
                  <a:pt x="3371410" y="1322938"/>
                </a:lnTo>
                <a:lnTo>
                  <a:pt x="3382394" y="1306463"/>
                </a:lnTo>
                <a:lnTo>
                  <a:pt x="3401616" y="1276257"/>
                </a:lnTo>
                <a:lnTo>
                  <a:pt x="3412600" y="1262527"/>
                </a:lnTo>
                <a:lnTo>
                  <a:pt x="3426329" y="1248797"/>
                </a:lnTo>
                <a:lnTo>
                  <a:pt x="3431821" y="1248797"/>
                </a:lnTo>
                <a:lnTo>
                  <a:pt x="3440059" y="1248797"/>
                </a:lnTo>
                <a:lnTo>
                  <a:pt x="3442805" y="1254289"/>
                </a:lnTo>
                <a:lnTo>
                  <a:pt x="3445551" y="1259781"/>
                </a:lnTo>
                <a:lnTo>
                  <a:pt x="3442805" y="1268019"/>
                </a:lnTo>
                <a:lnTo>
                  <a:pt x="3440059" y="1279003"/>
                </a:lnTo>
                <a:lnTo>
                  <a:pt x="3431821" y="1295479"/>
                </a:lnTo>
                <a:lnTo>
                  <a:pt x="3409768" y="1322433"/>
                </a:lnTo>
                <a:lnTo>
                  <a:pt x="3451987" y="1317402"/>
                </a:lnTo>
                <a:lnTo>
                  <a:pt x="3457184" y="1315323"/>
                </a:lnTo>
                <a:lnTo>
                  <a:pt x="3468168" y="1312577"/>
                </a:lnTo>
                <a:lnTo>
                  <a:pt x="3481898" y="1312577"/>
                </a:lnTo>
                <a:lnTo>
                  <a:pt x="3492477" y="1312577"/>
                </a:lnTo>
                <a:lnTo>
                  <a:pt x="3544394" y="1306390"/>
                </a:lnTo>
                <a:lnTo>
                  <a:pt x="3553295" y="1303423"/>
                </a:lnTo>
                <a:lnTo>
                  <a:pt x="3556040" y="1301593"/>
                </a:lnTo>
                <a:lnTo>
                  <a:pt x="3578008" y="1296101"/>
                </a:lnTo>
                <a:lnTo>
                  <a:pt x="3599976" y="1290609"/>
                </a:lnTo>
                <a:lnTo>
                  <a:pt x="3635674" y="1285117"/>
                </a:lnTo>
                <a:lnTo>
                  <a:pt x="3654895" y="1282371"/>
                </a:lnTo>
                <a:lnTo>
                  <a:pt x="3671371" y="1279625"/>
                </a:lnTo>
                <a:lnTo>
                  <a:pt x="3690593" y="1279625"/>
                </a:lnTo>
                <a:lnTo>
                  <a:pt x="3702574" y="1281622"/>
                </a:lnTo>
                <a:lnTo>
                  <a:pt x="3712560" y="1274132"/>
                </a:lnTo>
                <a:lnTo>
                  <a:pt x="3723544" y="1268640"/>
                </a:lnTo>
                <a:lnTo>
                  <a:pt x="3740020" y="1265895"/>
                </a:lnTo>
                <a:lnTo>
                  <a:pt x="3764734" y="1265895"/>
                </a:lnTo>
                <a:lnTo>
                  <a:pt x="3808669" y="1268640"/>
                </a:lnTo>
                <a:lnTo>
                  <a:pt x="3841505" y="1270986"/>
                </a:lnTo>
                <a:lnTo>
                  <a:pt x="3867773" y="1267856"/>
                </a:lnTo>
                <a:lnTo>
                  <a:pt x="3869081" y="1265895"/>
                </a:lnTo>
                <a:lnTo>
                  <a:pt x="3871827" y="1260403"/>
                </a:lnTo>
                <a:lnTo>
                  <a:pt x="3877319" y="1260403"/>
                </a:lnTo>
                <a:lnTo>
                  <a:pt x="3902033" y="1254911"/>
                </a:lnTo>
                <a:lnTo>
                  <a:pt x="3932238" y="1249419"/>
                </a:lnTo>
                <a:lnTo>
                  <a:pt x="3987158" y="1243927"/>
                </a:lnTo>
                <a:lnTo>
                  <a:pt x="4044823" y="1243927"/>
                </a:lnTo>
                <a:lnTo>
                  <a:pt x="4068580" y="1243927"/>
                </a:lnTo>
                <a:lnTo>
                  <a:pt x="4189063" y="1229570"/>
                </a:lnTo>
                <a:lnTo>
                  <a:pt x="4198598" y="1227451"/>
                </a:lnTo>
                <a:lnTo>
                  <a:pt x="4248026" y="1219213"/>
                </a:lnTo>
                <a:lnTo>
                  <a:pt x="4272739" y="1216467"/>
                </a:lnTo>
                <a:lnTo>
                  <a:pt x="4278349" y="1215844"/>
                </a:lnTo>
                <a:lnTo>
                  <a:pt x="4462212" y="1183516"/>
                </a:lnTo>
                <a:lnTo>
                  <a:pt x="4467704" y="1183516"/>
                </a:lnTo>
                <a:lnTo>
                  <a:pt x="4566559" y="1167040"/>
                </a:lnTo>
                <a:lnTo>
                  <a:pt x="4591273" y="1169786"/>
                </a:lnTo>
                <a:lnTo>
                  <a:pt x="4615987" y="1167040"/>
                </a:lnTo>
                <a:lnTo>
                  <a:pt x="4621479" y="1164294"/>
                </a:lnTo>
                <a:lnTo>
                  <a:pt x="4629717" y="1156056"/>
                </a:lnTo>
                <a:lnTo>
                  <a:pt x="4629717" y="1158802"/>
                </a:lnTo>
                <a:lnTo>
                  <a:pt x="4626971" y="1161548"/>
                </a:lnTo>
                <a:lnTo>
                  <a:pt x="4624225" y="1169786"/>
                </a:lnTo>
                <a:lnTo>
                  <a:pt x="4629717" y="1172532"/>
                </a:lnTo>
                <a:lnTo>
                  <a:pt x="4635209" y="1175278"/>
                </a:lnTo>
                <a:lnTo>
                  <a:pt x="4637955" y="1186262"/>
                </a:lnTo>
                <a:lnTo>
                  <a:pt x="4646192" y="1186262"/>
                </a:lnTo>
                <a:lnTo>
                  <a:pt x="4654430" y="1186262"/>
                </a:lnTo>
                <a:lnTo>
                  <a:pt x="4665414" y="1191754"/>
                </a:lnTo>
                <a:lnTo>
                  <a:pt x="4670906" y="1189008"/>
                </a:lnTo>
                <a:lnTo>
                  <a:pt x="4681890" y="1189008"/>
                </a:lnTo>
                <a:lnTo>
                  <a:pt x="4690128" y="1186262"/>
                </a:lnTo>
                <a:lnTo>
                  <a:pt x="4692874" y="1186262"/>
                </a:lnTo>
                <a:lnTo>
                  <a:pt x="4695620" y="1183516"/>
                </a:lnTo>
                <a:lnTo>
                  <a:pt x="4695620" y="1180770"/>
                </a:lnTo>
                <a:lnTo>
                  <a:pt x="4692874" y="1178024"/>
                </a:lnTo>
                <a:lnTo>
                  <a:pt x="4698366" y="1178024"/>
                </a:lnTo>
                <a:lnTo>
                  <a:pt x="4703858" y="1175278"/>
                </a:lnTo>
                <a:lnTo>
                  <a:pt x="4703858" y="1169786"/>
                </a:lnTo>
                <a:lnTo>
                  <a:pt x="4701112" y="1167040"/>
                </a:lnTo>
                <a:lnTo>
                  <a:pt x="4706604" y="1164294"/>
                </a:lnTo>
                <a:lnTo>
                  <a:pt x="4714842" y="1164294"/>
                </a:lnTo>
                <a:lnTo>
                  <a:pt x="4717588" y="1156056"/>
                </a:lnTo>
                <a:lnTo>
                  <a:pt x="4720334" y="1147819"/>
                </a:lnTo>
                <a:lnTo>
                  <a:pt x="4709350" y="1145073"/>
                </a:lnTo>
                <a:lnTo>
                  <a:pt x="4709350" y="1142327"/>
                </a:lnTo>
                <a:lnTo>
                  <a:pt x="4767015" y="1131343"/>
                </a:lnTo>
                <a:lnTo>
                  <a:pt x="4767015" y="1139581"/>
                </a:lnTo>
                <a:lnTo>
                  <a:pt x="4769761" y="1142327"/>
                </a:lnTo>
                <a:lnTo>
                  <a:pt x="4775253" y="1142327"/>
                </a:lnTo>
                <a:lnTo>
                  <a:pt x="4777999" y="1134089"/>
                </a:lnTo>
                <a:lnTo>
                  <a:pt x="4780745" y="1131343"/>
                </a:lnTo>
                <a:lnTo>
                  <a:pt x="4783491" y="1128597"/>
                </a:lnTo>
                <a:lnTo>
                  <a:pt x="4986694" y="1095645"/>
                </a:lnTo>
                <a:lnTo>
                  <a:pt x="4994932" y="1095645"/>
                </a:lnTo>
                <a:lnTo>
                  <a:pt x="4997678" y="1092899"/>
                </a:lnTo>
                <a:lnTo>
                  <a:pt x="5058089" y="1081915"/>
                </a:lnTo>
                <a:lnTo>
                  <a:pt x="5060835" y="1081915"/>
                </a:lnTo>
                <a:lnTo>
                  <a:pt x="5063581" y="1084661"/>
                </a:lnTo>
                <a:lnTo>
                  <a:pt x="5063581" y="1090153"/>
                </a:lnTo>
                <a:lnTo>
                  <a:pt x="5063581" y="1092899"/>
                </a:lnTo>
                <a:lnTo>
                  <a:pt x="5074565" y="1087407"/>
                </a:lnTo>
                <a:lnTo>
                  <a:pt x="5080057" y="1081915"/>
                </a:lnTo>
                <a:lnTo>
                  <a:pt x="5082803" y="1073677"/>
                </a:lnTo>
                <a:lnTo>
                  <a:pt x="5080057" y="1073677"/>
                </a:lnTo>
                <a:lnTo>
                  <a:pt x="5077311" y="1070931"/>
                </a:lnTo>
                <a:lnTo>
                  <a:pt x="5069073" y="1070931"/>
                </a:lnTo>
                <a:lnTo>
                  <a:pt x="5063581" y="1068185"/>
                </a:lnTo>
                <a:lnTo>
                  <a:pt x="5058089" y="1065439"/>
                </a:lnTo>
                <a:lnTo>
                  <a:pt x="5058089" y="1026996"/>
                </a:lnTo>
                <a:lnTo>
                  <a:pt x="5060835" y="1029741"/>
                </a:lnTo>
                <a:lnTo>
                  <a:pt x="5060835" y="1021504"/>
                </a:lnTo>
                <a:lnTo>
                  <a:pt x="5058089" y="1021504"/>
                </a:lnTo>
                <a:lnTo>
                  <a:pt x="5058089" y="985806"/>
                </a:lnTo>
                <a:lnTo>
                  <a:pt x="5063581" y="985806"/>
                </a:lnTo>
                <a:lnTo>
                  <a:pt x="5063581" y="980314"/>
                </a:lnTo>
                <a:lnTo>
                  <a:pt x="5063581" y="974822"/>
                </a:lnTo>
                <a:lnTo>
                  <a:pt x="5058089" y="974822"/>
                </a:lnTo>
                <a:lnTo>
                  <a:pt x="5058089" y="972076"/>
                </a:lnTo>
                <a:lnTo>
                  <a:pt x="5060835" y="972076"/>
                </a:lnTo>
                <a:lnTo>
                  <a:pt x="5060835" y="969330"/>
                </a:lnTo>
                <a:lnTo>
                  <a:pt x="5063581" y="966584"/>
                </a:lnTo>
                <a:lnTo>
                  <a:pt x="5071819" y="980314"/>
                </a:lnTo>
                <a:lnTo>
                  <a:pt x="5077311" y="983060"/>
                </a:lnTo>
                <a:lnTo>
                  <a:pt x="5085549" y="983060"/>
                </a:lnTo>
                <a:lnTo>
                  <a:pt x="5082803" y="980314"/>
                </a:lnTo>
                <a:lnTo>
                  <a:pt x="5082803" y="977568"/>
                </a:lnTo>
                <a:lnTo>
                  <a:pt x="5085549" y="977568"/>
                </a:lnTo>
                <a:lnTo>
                  <a:pt x="5088295" y="974822"/>
                </a:lnTo>
                <a:lnTo>
                  <a:pt x="5091041" y="974822"/>
                </a:lnTo>
                <a:lnTo>
                  <a:pt x="5091041" y="972076"/>
                </a:lnTo>
                <a:lnTo>
                  <a:pt x="5080057" y="966584"/>
                </a:lnTo>
                <a:lnTo>
                  <a:pt x="5074565" y="966584"/>
                </a:lnTo>
                <a:lnTo>
                  <a:pt x="5069073" y="966584"/>
                </a:lnTo>
                <a:lnTo>
                  <a:pt x="5063581" y="966584"/>
                </a:lnTo>
                <a:lnTo>
                  <a:pt x="5058089" y="966584"/>
                </a:lnTo>
                <a:lnTo>
                  <a:pt x="5058089" y="944616"/>
                </a:lnTo>
                <a:lnTo>
                  <a:pt x="5060835" y="944616"/>
                </a:lnTo>
                <a:lnTo>
                  <a:pt x="5063581" y="939124"/>
                </a:lnTo>
                <a:lnTo>
                  <a:pt x="5060835" y="939124"/>
                </a:lnTo>
                <a:lnTo>
                  <a:pt x="5060835" y="930886"/>
                </a:lnTo>
                <a:lnTo>
                  <a:pt x="5058089" y="930886"/>
                </a:lnTo>
                <a:lnTo>
                  <a:pt x="5060835" y="897934"/>
                </a:lnTo>
                <a:lnTo>
                  <a:pt x="5063581" y="897934"/>
                </a:lnTo>
                <a:lnTo>
                  <a:pt x="5063581" y="892442"/>
                </a:lnTo>
                <a:lnTo>
                  <a:pt x="5060835" y="892442"/>
                </a:lnTo>
                <a:lnTo>
                  <a:pt x="5060835" y="873220"/>
                </a:lnTo>
                <a:lnTo>
                  <a:pt x="5063581" y="873220"/>
                </a:lnTo>
                <a:lnTo>
                  <a:pt x="5063581" y="867729"/>
                </a:lnTo>
                <a:lnTo>
                  <a:pt x="5060835" y="864983"/>
                </a:lnTo>
                <a:lnTo>
                  <a:pt x="5060835" y="623337"/>
                </a:lnTo>
                <a:lnTo>
                  <a:pt x="5080057" y="626083"/>
                </a:lnTo>
                <a:lnTo>
                  <a:pt x="5096533" y="623337"/>
                </a:lnTo>
                <a:lnTo>
                  <a:pt x="5096533" y="620591"/>
                </a:lnTo>
                <a:lnTo>
                  <a:pt x="5096533" y="612353"/>
                </a:lnTo>
                <a:lnTo>
                  <a:pt x="5093787" y="612353"/>
                </a:lnTo>
                <a:lnTo>
                  <a:pt x="5093787" y="609607"/>
                </a:lnTo>
                <a:lnTo>
                  <a:pt x="5085549" y="609607"/>
                </a:lnTo>
                <a:lnTo>
                  <a:pt x="5082803" y="606861"/>
                </a:lnTo>
                <a:lnTo>
                  <a:pt x="5080057" y="604115"/>
                </a:lnTo>
                <a:lnTo>
                  <a:pt x="5074565" y="601369"/>
                </a:lnTo>
                <a:lnTo>
                  <a:pt x="5074565" y="590385"/>
                </a:lnTo>
                <a:lnTo>
                  <a:pt x="5066327" y="587639"/>
                </a:lnTo>
                <a:lnTo>
                  <a:pt x="5060835" y="587639"/>
                </a:lnTo>
                <a:lnTo>
                  <a:pt x="5060835" y="576655"/>
                </a:lnTo>
                <a:lnTo>
                  <a:pt x="5074565" y="576655"/>
                </a:lnTo>
                <a:lnTo>
                  <a:pt x="5077311" y="571163"/>
                </a:lnTo>
                <a:lnTo>
                  <a:pt x="5080057" y="568417"/>
                </a:lnTo>
                <a:lnTo>
                  <a:pt x="5080057" y="571163"/>
                </a:lnTo>
                <a:lnTo>
                  <a:pt x="5082803" y="571163"/>
                </a:lnTo>
                <a:lnTo>
                  <a:pt x="5085549" y="568417"/>
                </a:lnTo>
                <a:lnTo>
                  <a:pt x="5088295" y="562925"/>
                </a:lnTo>
                <a:lnTo>
                  <a:pt x="5082803" y="565671"/>
                </a:lnTo>
                <a:lnTo>
                  <a:pt x="5077311" y="565671"/>
                </a:lnTo>
                <a:lnTo>
                  <a:pt x="5080057" y="557433"/>
                </a:lnTo>
                <a:lnTo>
                  <a:pt x="5080057" y="551941"/>
                </a:lnTo>
                <a:lnTo>
                  <a:pt x="5077311" y="546449"/>
                </a:lnTo>
                <a:lnTo>
                  <a:pt x="5085549" y="543703"/>
                </a:lnTo>
                <a:lnTo>
                  <a:pt x="5088295" y="546449"/>
                </a:lnTo>
                <a:lnTo>
                  <a:pt x="5091041" y="549195"/>
                </a:lnTo>
                <a:lnTo>
                  <a:pt x="5091041" y="551941"/>
                </a:lnTo>
                <a:lnTo>
                  <a:pt x="5102025" y="554687"/>
                </a:lnTo>
                <a:lnTo>
                  <a:pt x="5113009" y="551941"/>
                </a:lnTo>
                <a:lnTo>
                  <a:pt x="5115755" y="543703"/>
                </a:lnTo>
                <a:lnTo>
                  <a:pt x="5115755" y="535465"/>
                </a:lnTo>
                <a:lnTo>
                  <a:pt x="5113009" y="532719"/>
                </a:lnTo>
                <a:lnTo>
                  <a:pt x="5110263" y="532719"/>
                </a:lnTo>
                <a:lnTo>
                  <a:pt x="5107517" y="524481"/>
                </a:lnTo>
                <a:lnTo>
                  <a:pt x="5181658" y="516243"/>
                </a:lnTo>
                <a:lnTo>
                  <a:pt x="5181658" y="518989"/>
                </a:lnTo>
                <a:lnTo>
                  <a:pt x="5184404" y="518989"/>
                </a:lnTo>
                <a:lnTo>
                  <a:pt x="5187150" y="518989"/>
                </a:lnTo>
                <a:lnTo>
                  <a:pt x="5187150" y="513497"/>
                </a:lnTo>
                <a:lnTo>
                  <a:pt x="5566095" y="472308"/>
                </a:lnTo>
                <a:lnTo>
                  <a:pt x="5571587" y="475054"/>
                </a:lnTo>
                <a:lnTo>
                  <a:pt x="5579825" y="475054"/>
                </a:lnTo>
                <a:lnTo>
                  <a:pt x="5579825" y="469562"/>
                </a:lnTo>
                <a:lnTo>
                  <a:pt x="5631998" y="464070"/>
                </a:lnTo>
                <a:lnTo>
                  <a:pt x="5634744" y="464070"/>
                </a:lnTo>
                <a:lnTo>
                  <a:pt x="5637490" y="466816"/>
                </a:lnTo>
                <a:lnTo>
                  <a:pt x="5640236" y="469562"/>
                </a:lnTo>
                <a:lnTo>
                  <a:pt x="5642982" y="469562"/>
                </a:lnTo>
                <a:lnTo>
                  <a:pt x="5642982" y="461324"/>
                </a:lnTo>
                <a:lnTo>
                  <a:pt x="5656712" y="461324"/>
                </a:lnTo>
                <a:lnTo>
                  <a:pt x="5659458" y="461324"/>
                </a:lnTo>
                <a:lnTo>
                  <a:pt x="5662204" y="461324"/>
                </a:lnTo>
                <a:lnTo>
                  <a:pt x="6087831" y="412526"/>
                </a:lnTo>
                <a:lnTo>
                  <a:pt x="6087831" y="417388"/>
                </a:lnTo>
                <a:lnTo>
                  <a:pt x="6090577" y="417388"/>
                </a:lnTo>
                <a:lnTo>
                  <a:pt x="6093323" y="417388"/>
                </a:lnTo>
                <a:lnTo>
                  <a:pt x="6096069" y="414642"/>
                </a:lnTo>
                <a:lnTo>
                  <a:pt x="6098815" y="414642"/>
                </a:lnTo>
                <a:lnTo>
                  <a:pt x="6098815" y="409150"/>
                </a:lnTo>
                <a:lnTo>
                  <a:pt x="6120782" y="406404"/>
                </a:lnTo>
                <a:lnTo>
                  <a:pt x="6120782" y="409150"/>
                </a:lnTo>
                <a:lnTo>
                  <a:pt x="6126274" y="409150"/>
                </a:lnTo>
                <a:lnTo>
                  <a:pt x="6131766" y="411896"/>
                </a:lnTo>
                <a:lnTo>
                  <a:pt x="6131766" y="409150"/>
                </a:lnTo>
                <a:lnTo>
                  <a:pt x="6131766" y="406404"/>
                </a:lnTo>
                <a:lnTo>
                  <a:pt x="6152361" y="404116"/>
                </a:lnTo>
                <a:lnTo>
                  <a:pt x="6145496" y="406404"/>
                </a:lnTo>
                <a:lnTo>
                  <a:pt x="6137258" y="409150"/>
                </a:lnTo>
                <a:lnTo>
                  <a:pt x="6137258" y="411896"/>
                </a:lnTo>
                <a:lnTo>
                  <a:pt x="6142750" y="411896"/>
                </a:lnTo>
                <a:lnTo>
                  <a:pt x="6142750" y="417388"/>
                </a:lnTo>
                <a:lnTo>
                  <a:pt x="6145496" y="417388"/>
                </a:lnTo>
                <a:lnTo>
                  <a:pt x="6145496" y="420134"/>
                </a:lnTo>
                <a:lnTo>
                  <a:pt x="6142750" y="420134"/>
                </a:lnTo>
                <a:lnTo>
                  <a:pt x="6142750" y="422880"/>
                </a:lnTo>
                <a:lnTo>
                  <a:pt x="6148242" y="422880"/>
                </a:lnTo>
                <a:lnTo>
                  <a:pt x="6148242" y="417388"/>
                </a:lnTo>
                <a:lnTo>
                  <a:pt x="6150988" y="414642"/>
                </a:lnTo>
                <a:lnTo>
                  <a:pt x="6153734" y="409150"/>
                </a:lnTo>
                <a:lnTo>
                  <a:pt x="6153734" y="403964"/>
                </a:lnTo>
                <a:lnTo>
                  <a:pt x="6156480" y="403658"/>
                </a:lnTo>
                <a:lnTo>
                  <a:pt x="6164718" y="403658"/>
                </a:lnTo>
                <a:lnTo>
                  <a:pt x="6172956" y="400912"/>
                </a:lnTo>
                <a:lnTo>
                  <a:pt x="6175702" y="403658"/>
                </a:lnTo>
                <a:lnTo>
                  <a:pt x="6175702" y="406404"/>
                </a:lnTo>
                <a:lnTo>
                  <a:pt x="6167464" y="406404"/>
                </a:lnTo>
                <a:lnTo>
                  <a:pt x="6167464" y="411896"/>
                </a:lnTo>
                <a:lnTo>
                  <a:pt x="6170210" y="411896"/>
                </a:lnTo>
                <a:lnTo>
                  <a:pt x="6172956" y="411896"/>
                </a:lnTo>
                <a:lnTo>
                  <a:pt x="6175702" y="411896"/>
                </a:lnTo>
                <a:lnTo>
                  <a:pt x="6181194" y="411896"/>
                </a:lnTo>
                <a:lnTo>
                  <a:pt x="6181194" y="406404"/>
                </a:lnTo>
                <a:lnTo>
                  <a:pt x="6186686" y="403658"/>
                </a:lnTo>
                <a:lnTo>
                  <a:pt x="6189432" y="400912"/>
                </a:lnTo>
                <a:lnTo>
                  <a:pt x="6194924" y="398166"/>
                </a:lnTo>
                <a:lnTo>
                  <a:pt x="6194924" y="403658"/>
                </a:lnTo>
                <a:lnTo>
                  <a:pt x="6200416" y="406404"/>
                </a:lnTo>
                <a:lnTo>
                  <a:pt x="6205908" y="406404"/>
                </a:lnTo>
                <a:lnTo>
                  <a:pt x="6211400" y="409150"/>
                </a:lnTo>
                <a:lnTo>
                  <a:pt x="6214146" y="403658"/>
                </a:lnTo>
                <a:lnTo>
                  <a:pt x="6214146" y="409150"/>
                </a:lnTo>
                <a:lnTo>
                  <a:pt x="6216892" y="411896"/>
                </a:lnTo>
                <a:lnTo>
                  <a:pt x="6222384" y="411896"/>
                </a:lnTo>
                <a:lnTo>
                  <a:pt x="6227875" y="414642"/>
                </a:lnTo>
                <a:lnTo>
                  <a:pt x="6233367" y="414642"/>
                </a:lnTo>
                <a:lnTo>
                  <a:pt x="6244351" y="409150"/>
                </a:lnTo>
                <a:lnTo>
                  <a:pt x="6249843" y="409150"/>
                </a:lnTo>
                <a:lnTo>
                  <a:pt x="6252589" y="411896"/>
                </a:lnTo>
                <a:lnTo>
                  <a:pt x="6252589" y="400912"/>
                </a:lnTo>
                <a:lnTo>
                  <a:pt x="6249843" y="403658"/>
                </a:lnTo>
                <a:lnTo>
                  <a:pt x="6249843" y="406404"/>
                </a:lnTo>
                <a:lnTo>
                  <a:pt x="6247097" y="406404"/>
                </a:lnTo>
                <a:lnTo>
                  <a:pt x="6244351" y="403658"/>
                </a:lnTo>
                <a:lnTo>
                  <a:pt x="6238859" y="406404"/>
                </a:lnTo>
                <a:lnTo>
                  <a:pt x="6238859" y="403658"/>
                </a:lnTo>
                <a:lnTo>
                  <a:pt x="6241605" y="400912"/>
                </a:lnTo>
                <a:lnTo>
                  <a:pt x="6244351" y="398166"/>
                </a:lnTo>
                <a:lnTo>
                  <a:pt x="6244351" y="392675"/>
                </a:lnTo>
                <a:lnTo>
                  <a:pt x="6249843" y="392675"/>
                </a:lnTo>
                <a:lnTo>
                  <a:pt x="6249843" y="395420"/>
                </a:lnTo>
                <a:lnTo>
                  <a:pt x="6252589" y="398166"/>
                </a:lnTo>
                <a:lnTo>
                  <a:pt x="6255335" y="395420"/>
                </a:lnTo>
                <a:lnTo>
                  <a:pt x="6258081" y="392675"/>
                </a:lnTo>
                <a:lnTo>
                  <a:pt x="6260827" y="392675"/>
                </a:lnTo>
                <a:lnTo>
                  <a:pt x="6266319" y="395420"/>
                </a:lnTo>
                <a:lnTo>
                  <a:pt x="6266319" y="389929"/>
                </a:lnTo>
                <a:lnTo>
                  <a:pt x="6573869" y="354231"/>
                </a:lnTo>
                <a:close/>
                <a:moveTo>
                  <a:pt x="1235691" y="354231"/>
                </a:moveTo>
                <a:lnTo>
                  <a:pt x="1219215" y="356977"/>
                </a:lnTo>
                <a:lnTo>
                  <a:pt x="1219215" y="367961"/>
                </a:lnTo>
                <a:lnTo>
                  <a:pt x="1224706" y="370707"/>
                </a:lnTo>
                <a:lnTo>
                  <a:pt x="1224706" y="373453"/>
                </a:lnTo>
                <a:lnTo>
                  <a:pt x="1224706" y="378945"/>
                </a:lnTo>
                <a:lnTo>
                  <a:pt x="1227452" y="381691"/>
                </a:lnTo>
                <a:lnTo>
                  <a:pt x="1230199" y="387183"/>
                </a:lnTo>
                <a:lnTo>
                  <a:pt x="1243927" y="387183"/>
                </a:lnTo>
                <a:lnTo>
                  <a:pt x="1254913" y="381691"/>
                </a:lnTo>
                <a:lnTo>
                  <a:pt x="1249421" y="370707"/>
                </a:lnTo>
                <a:lnTo>
                  <a:pt x="1249421" y="365215"/>
                </a:lnTo>
                <a:lnTo>
                  <a:pt x="1246673" y="359723"/>
                </a:lnTo>
                <a:lnTo>
                  <a:pt x="1235691" y="354231"/>
                </a:lnTo>
                <a:close/>
                <a:moveTo>
                  <a:pt x="1573445" y="351485"/>
                </a:moveTo>
                <a:lnTo>
                  <a:pt x="1559715" y="356977"/>
                </a:lnTo>
                <a:lnTo>
                  <a:pt x="1554223" y="362469"/>
                </a:lnTo>
                <a:lnTo>
                  <a:pt x="1554223" y="367961"/>
                </a:lnTo>
                <a:lnTo>
                  <a:pt x="1554223" y="370707"/>
                </a:lnTo>
                <a:lnTo>
                  <a:pt x="1556969" y="370707"/>
                </a:lnTo>
                <a:lnTo>
                  <a:pt x="1565206" y="370707"/>
                </a:lnTo>
                <a:lnTo>
                  <a:pt x="1570699" y="376199"/>
                </a:lnTo>
                <a:lnTo>
                  <a:pt x="1576191" y="378945"/>
                </a:lnTo>
                <a:lnTo>
                  <a:pt x="1576191" y="373453"/>
                </a:lnTo>
                <a:lnTo>
                  <a:pt x="1578936" y="365215"/>
                </a:lnTo>
                <a:lnTo>
                  <a:pt x="1590766" y="357822"/>
                </a:lnTo>
                <a:lnTo>
                  <a:pt x="1576191" y="359723"/>
                </a:lnTo>
                <a:lnTo>
                  <a:pt x="1576191" y="362469"/>
                </a:lnTo>
                <a:lnTo>
                  <a:pt x="1573445" y="359723"/>
                </a:lnTo>
                <a:lnTo>
                  <a:pt x="1570699" y="356977"/>
                </a:lnTo>
                <a:lnTo>
                  <a:pt x="1570699" y="354231"/>
                </a:lnTo>
                <a:lnTo>
                  <a:pt x="1573445" y="351485"/>
                </a:lnTo>
                <a:close/>
                <a:moveTo>
                  <a:pt x="1452622" y="351485"/>
                </a:moveTo>
                <a:lnTo>
                  <a:pt x="1452622" y="354231"/>
                </a:lnTo>
                <a:lnTo>
                  <a:pt x="1458113" y="351485"/>
                </a:lnTo>
                <a:lnTo>
                  <a:pt x="1452622" y="351485"/>
                </a:lnTo>
                <a:close/>
                <a:moveTo>
                  <a:pt x="944616" y="351485"/>
                </a:moveTo>
                <a:lnTo>
                  <a:pt x="939124" y="356977"/>
                </a:lnTo>
                <a:lnTo>
                  <a:pt x="930887" y="356977"/>
                </a:lnTo>
                <a:lnTo>
                  <a:pt x="922648" y="356977"/>
                </a:lnTo>
                <a:lnTo>
                  <a:pt x="914410" y="354231"/>
                </a:lnTo>
                <a:lnTo>
                  <a:pt x="944616" y="351485"/>
                </a:lnTo>
                <a:close/>
                <a:moveTo>
                  <a:pt x="6634280" y="348739"/>
                </a:moveTo>
                <a:lnTo>
                  <a:pt x="6623296" y="351485"/>
                </a:lnTo>
                <a:lnTo>
                  <a:pt x="6612312" y="351485"/>
                </a:lnTo>
                <a:lnTo>
                  <a:pt x="6634280" y="348739"/>
                </a:lnTo>
                <a:close/>
                <a:moveTo>
                  <a:pt x="1507541" y="343247"/>
                </a:moveTo>
                <a:lnTo>
                  <a:pt x="1502050" y="345993"/>
                </a:lnTo>
                <a:lnTo>
                  <a:pt x="1499304" y="345993"/>
                </a:lnTo>
                <a:lnTo>
                  <a:pt x="1499304" y="351485"/>
                </a:lnTo>
                <a:lnTo>
                  <a:pt x="1504796" y="351485"/>
                </a:lnTo>
                <a:lnTo>
                  <a:pt x="1507541" y="354231"/>
                </a:lnTo>
                <a:lnTo>
                  <a:pt x="1499304" y="356977"/>
                </a:lnTo>
                <a:lnTo>
                  <a:pt x="1496557" y="356977"/>
                </a:lnTo>
                <a:lnTo>
                  <a:pt x="1493811" y="354231"/>
                </a:lnTo>
                <a:lnTo>
                  <a:pt x="1491065" y="356977"/>
                </a:lnTo>
                <a:lnTo>
                  <a:pt x="1491065" y="359723"/>
                </a:lnTo>
                <a:lnTo>
                  <a:pt x="1493811" y="362469"/>
                </a:lnTo>
                <a:lnTo>
                  <a:pt x="1491065" y="367961"/>
                </a:lnTo>
                <a:lnTo>
                  <a:pt x="1496557" y="370707"/>
                </a:lnTo>
                <a:lnTo>
                  <a:pt x="1502050" y="373453"/>
                </a:lnTo>
                <a:lnTo>
                  <a:pt x="1504796" y="373453"/>
                </a:lnTo>
                <a:lnTo>
                  <a:pt x="1507541" y="370707"/>
                </a:lnTo>
                <a:lnTo>
                  <a:pt x="1507541" y="365215"/>
                </a:lnTo>
                <a:lnTo>
                  <a:pt x="1510287" y="367961"/>
                </a:lnTo>
                <a:lnTo>
                  <a:pt x="1513033" y="367961"/>
                </a:lnTo>
                <a:lnTo>
                  <a:pt x="1513033" y="362469"/>
                </a:lnTo>
                <a:lnTo>
                  <a:pt x="1515779" y="362469"/>
                </a:lnTo>
                <a:lnTo>
                  <a:pt x="1518526" y="359723"/>
                </a:lnTo>
                <a:lnTo>
                  <a:pt x="1521272" y="359723"/>
                </a:lnTo>
                <a:lnTo>
                  <a:pt x="1524017" y="359723"/>
                </a:lnTo>
                <a:lnTo>
                  <a:pt x="1521272" y="356977"/>
                </a:lnTo>
                <a:lnTo>
                  <a:pt x="1521272" y="354231"/>
                </a:lnTo>
                <a:lnTo>
                  <a:pt x="1518526" y="348739"/>
                </a:lnTo>
                <a:lnTo>
                  <a:pt x="1510287" y="348739"/>
                </a:lnTo>
                <a:lnTo>
                  <a:pt x="1507541" y="343247"/>
                </a:lnTo>
                <a:close/>
                <a:moveTo>
                  <a:pt x="1230199" y="343247"/>
                </a:moveTo>
                <a:lnTo>
                  <a:pt x="1230199" y="345993"/>
                </a:lnTo>
                <a:lnTo>
                  <a:pt x="1232945" y="345993"/>
                </a:lnTo>
                <a:lnTo>
                  <a:pt x="1235691" y="348739"/>
                </a:lnTo>
                <a:lnTo>
                  <a:pt x="1235691" y="345993"/>
                </a:lnTo>
                <a:lnTo>
                  <a:pt x="1232945" y="345993"/>
                </a:lnTo>
                <a:lnTo>
                  <a:pt x="1232945" y="343247"/>
                </a:lnTo>
                <a:lnTo>
                  <a:pt x="1230199" y="343247"/>
                </a:lnTo>
                <a:close/>
                <a:moveTo>
                  <a:pt x="1576191" y="340501"/>
                </a:moveTo>
                <a:lnTo>
                  <a:pt x="1576191" y="343247"/>
                </a:lnTo>
                <a:lnTo>
                  <a:pt x="1573445" y="343247"/>
                </a:lnTo>
                <a:lnTo>
                  <a:pt x="1573445" y="345993"/>
                </a:lnTo>
                <a:lnTo>
                  <a:pt x="1576191" y="345993"/>
                </a:lnTo>
                <a:lnTo>
                  <a:pt x="1578937" y="345993"/>
                </a:lnTo>
                <a:lnTo>
                  <a:pt x="1581682" y="348739"/>
                </a:lnTo>
                <a:lnTo>
                  <a:pt x="1584428" y="345993"/>
                </a:lnTo>
                <a:lnTo>
                  <a:pt x="1584428" y="343247"/>
                </a:lnTo>
                <a:lnTo>
                  <a:pt x="1581682" y="343247"/>
                </a:lnTo>
                <a:lnTo>
                  <a:pt x="1576191" y="340501"/>
                </a:lnTo>
                <a:close/>
                <a:moveTo>
                  <a:pt x="1101137" y="335009"/>
                </a:moveTo>
                <a:lnTo>
                  <a:pt x="1087407" y="340501"/>
                </a:lnTo>
                <a:lnTo>
                  <a:pt x="1070932" y="345993"/>
                </a:lnTo>
                <a:lnTo>
                  <a:pt x="1051710" y="351485"/>
                </a:lnTo>
                <a:lnTo>
                  <a:pt x="1032487" y="351485"/>
                </a:lnTo>
                <a:lnTo>
                  <a:pt x="996790" y="351485"/>
                </a:lnTo>
                <a:lnTo>
                  <a:pt x="963838" y="348739"/>
                </a:lnTo>
                <a:lnTo>
                  <a:pt x="1101137" y="335009"/>
                </a:lnTo>
                <a:close/>
                <a:moveTo>
                  <a:pt x="1620127" y="332263"/>
                </a:moveTo>
                <a:lnTo>
                  <a:pt x="1617380" y="335009"/>
                </a:lnTo>
                <a:lnTo>
                  <a:pt x="1617380" y="337755"/>
                </a:lnTo>
                <a:lnTo>
                  <a:pt x="1620127" y="340501"/>
                </a:lnTo>
                <a:lnTo>
                  <a:pt x="1622873" y="337755"/>
                </a:lnTo>
                <a:lnTo>
                  <a:pt x="1625618" y="335009"/>
                </a:lnTo>
                <a:lnTo>
                  <a:pt x="1622873" y="332263"/>
                </a:lnTo>
                <a:lnTo>
                  <a:pt x="1620127" y="332263"/>
                </a:lnTo>
                <a:close/>
                <a:moveTo>
                  <a:pt x="1134089" y="329517"/>
                </a:moveTo>
                <a:lnTo>
                  <a:pt x="1128598" y="343247"/>
                </a:lnTo>
                <a:lnTo>
                  <a:pt x="1125851" y="348739"/>
                </a:lnTo>
                <a:lnTo>
                  <a:pt x="1123105" y="348739"/>
                </a:lnTo>
                <a:lnTo>
                  <a:pt x="1120359" y="345993"/>
                </a:lnTo>
                <a:lnTo>
                  <a:pt x="1114868" y="343247"/>
                </a:lnTo>
                <a:lnTo>
                  <a:pt x="1114868" y="340501"/>
                </a:lnTo>
                <a:lnTo>
                  <a:pt x="1117613" y="332263"/>
                </a:lnTo>
                <a:lnTo>
                  <a:pt x="1134089" y="329517"/>
                </a:lnTo>
                <a:close/>
                <a:moveTo>
                  <a:pt x="1553356" y="327060"/>
                </a:moveTo>
                <a:lnTo>
                  <a:pt x="1559715" y="328039"/>
                </a:lnTo>
                <a:lnTo>
                  <a:pt x="1559715" y="329517"/>
                </a:lnTo>
                <a:lnTo>
                  <a:pt x="1559715" y="335009"/>
                </a:lnTo>
                <a:lnTo>
                  <a:pt x="1551477" y="337755"/>
                </a:lnTo>
                <a:lnTo>
                  <a:pt x="1543239" y="337755"/>
                </a:lnTo>
                <a:lnTo>
                  <a:pt x="1543239" y="335009"/>
                </a:lnTo>
                <a:lnTo>
                  <a:pt x="1540493" y="332263"/>
                </a:lnTo>
                <a:lnTo>
                  <a:pt x="1545985" y="329517"/>
                </a:lnTo>
                <a:lnTo>
                  <a:pt x="1553356" y="327060"/>
                </a:lnTo>
                <a:close/>
                <a:moveTo>
                  <a:pt x="1559715" y="326771"/>
                </a:moveTo>
                <a:lnTo>
                  <a:pt x="1561213" y="328269"/>
                </a:lnTo>
                <a:lnTo>
                  <a:pt x="1559715" y="328039"/>
                </a:lnTo>
                <a:lnTo>
                  <a:pt x="1559715" y="326771"/>
                </a:lnTo>
                <a:close/>
                <a:moveTo>
                  <a:pt x="1551477" y="326771"/>
                </a:moveTo>
                <a:lnTo>
                  <a:pt x="1554223" y="326771"/>
                </a:lnTo>
                <a:lnTo>
                  <a:pt x="1553356" y="327060"/>
                </a:lnTo>
                <a:lnTo>
                  <a:pt x="1551477" y="326771"/>
                </a:lnTo>
                <a:close/>
                <a:moveTo>
                  <a:pt x="1419121" y="323751"/>
                </a:moveTo>
                <a:lnTo>
                  <a:pt x="1422416" y="324025"/>
                </a:lnTo>
                <a:lnTo>
                  <a:pt x="1419670" y="324025"/>
                </a:lnTo>
                <a:lnTo>
                  <a:pt x="1419121" y="323751"/>
                </a:lnTo>
                <a:close/>
                <a:moveTo>
                  <a:pt x="1248774" y="318695"/>
                </a:moveTo>
                <a:lnTo>
                  <a:pt x="1227452" y="324025"/>
                </a:lnTo>
                <a:lnTo>
                  <a:pt x="1197247" y="324025"/>
                </a:lnTo>
                <a:lnTo>
                  <a:pt x="1248774" y="318695"/>
                </a:lnTo>
                <a:close/>
                <a:moveTo>
                  <a:pt x="1249421" y="318533"/>
                </a:moveTo>
                <a:lnTo>
                  <a:pt x="1249202" y="318650"/>
                </a:lnTo>
                <a:lnTo>
                  <a:pt x="1248774" y="318695"/>
                </a:lnTo>
                <a:lnTo>
                  <a:pt x="1249421" y="318533"/>
                </a:lnTo>
                <a:close/>
                <a:moveTo>
                  <a:pt x="1850788" y="313042"/>
                </a:moveTo>
                <a:lnTo>
                  <a:pt x="1737229" y="333264"/>
                </a:lnTo>
                <a:lnTo>
                  <a:pt x="1754679" y="335009"/>
                </a:lnTo>
                <a:lnTo>
                  <a:pt x="1779393" y="335009"/>
                </a:lnTo>
                <a:lnTo>
                  <a:pt x="1806852" y="332263"/>
                </a:lnTo>
                <a:lnTo>
                  <a:pt x="1828821" y="326772"/>
                </a:lnTo>
                <a:lnTo>
                  <a:pt x="1839804" y="321280"/>
                </a:lnTo>
                <a:lnTo>
                  <a:pt x="1848043" y="315788"/>
                </a:lnTo>
                <a:lnTo>
                  <a:pt x="1850788" y="313042"/>
                </a:lnTo>
                <a:close/>
                <a:moveTo>
                  <a:pt x="1340038" y="310295"/>
                </a:moveTo>
                <a:lnTo>
                  <a:pt x="1318068" y="324025"/>
                </a:lnTo>
                <a:lnTo>
                  <a:pt x="1315322" y="324025"/>
                </a:lnTo>
                <a:lnTo>
                  <a:pt x="1312577" y="326771"/>
                </a:lnTo>
                <a:lnTo>
                  <a:pt x="1304341" y="324025"/>
                </a:lnTo>
                <a:lnTo>
                  <a:pt x="1298847" y="321279"/>
                </a:lnTo>
                <a:lnTo>
                  <a:pt x="1282371" y="315787"/>
                </a:lnTo>
                <a:lnTo>
                  <a:pt x="1340038" y="310295"/>
                </a:lnTo>
                <a:close/>
                <a:moveTo>
                  <a:pt x="1857837" y="305992"/>
                </a:moveTo>
                <a:lnTo>
                  <a:pt x="1856280" y="307549"/>
                </a:lnTo>
                <a:lnTo>
                  <a:pt x="1856280" y="307550"/>
                </a:lnTo>
                <a:lnTo>
                  <a:pt x="1857837" y="305992"/>
                </a:lnTo>
                <a:close/>
                <a:moveTo>
                  <a:pt x="1513033" y="304803"/>
                </a:moveTo>
                <a:lnTo>
                  <a:pt x="1507541" y="307549"/>
                </a:lnTo>
                <a:lnTo>
                  <a:pt x="1507541" y="315787"/>
                </a:lnTo>
                <a:lnTo>
                  <a:pt x="1510287" y="315787"/>
                </a:lnTo>
                <a:lnTo>
                  <a:pt x="1513033" y="318533"/>
                </a:lnTo>
                <a:lnTo>
                  <a:pt x="1513033" y="313041"/>
                </a:lnTo>
                <a:lnTo>
                  <a:pt x="1518526" y="313041"/>
                </a:lnTo>
                <a:lnTo>
                  <a:pt x="1524017" y="313041"/>
                </a:lnTo>
                <a:lnTo>
                  <a:pt x="1529509" y="313041"/>
                </a:lnTo>
                <a:lnTo>
                  <a:pt x="1529509" y="307549"/>
                </a:lnTo>
                <a:lnTo>
                  <a:pt x="1526763" y="304803"/>
                </a:lnTo>
                <a:lnTo>
                  <a:pt x="1524017" y="304803"/>
                </a:lnTo>
                <a:lnTo>
                  <a:pt x="1513033" y="304803"/>
                </a:lnTo>
                <a:close/>
                <a:moveTo>
                  <a:pt x="1408686" y="302057"/>
                </a:moveTo>
                <a:lnTo>
                  <a:pt x="1414179" y="302057"/>
                </a:lnTo>
                <a:lnTo>
                  <a:pt x="1411434" y="304803"/>
                </a:lnTo>
                <a:lnTo>
                  <a:pt x="1408686" y="304803"/>
                </a:lnTo>
                <a:lnTo>
                  <a:pt x="1408686" y="307549"/>
                </a:lnTo>
                <a:lnTo>
                  <a:pt x="1408686" y="310295"/>
                </a:lnTo>
                <a:lnTo>
                  <a:pt x="1405940" y="313041"/>
                </a:lnTo>
                <a:lnTo>
                  <a:pt x="1408686" y="313041"/>
                </a:lnTo>
                <a:lnTo>
                  <a:pt x="1411434" y="313041"/>
                </a:lnTo>
                <a:lnTo>
                  <a:pt x="1414179" y="313041"/>
                </a:lnTo>
                <a:lnTo>
                  <a:pt x="1416924" y="313041"/>
                </a:lnTo>
                <a:lnTo>
                  <a:pt x="1416924" y="315787"/>
                </a:lnTo>
                <a:lnTo>
                  <a:pt x="1416924" y="318533"/>
                </a:lnTo>
                <a:lnTo>
                  <a:pt x="1414179" y="318533"/>
                </a:lnTo>
                <a:lnTo>
                  <a:pt x="1414179" y="321279"/>
                </a:lnTo>
                <a:lnTo>
                  <a:pt x="1419121" y="323751"/>
                </a:lnTo>
                <a:lnTo>
                  <a:pt x="1389464" y="321279"/>
                </a:lnTo>
                <a:lnTo>
                  <a:pt x="1381227" y="321279"/>
                </a:lnTo>
                <a:lnTo>
                  <a:pt x="1386718" y="318533"/>
                </a:lnTo>
                <a:lnTo>
                  <a:pt x="1386718" y="315787"/>
                </a:lnTo>
                <a:lnTo>
                  <a:pt x="1381227" y="321279"/>
                </a:lnTo>
                <a:lnTo>
                  <a:pt x="1367496" y="313041"/>
                </a:lnTo>
                <a:lnTo>
                  <a:pt x="1353766" y="307549"/>
                </a:lnTo>
                <a:lnTo>
                  <a:pt x="1397703" y="304803"/>
                </a:lnTo>
                <a:lnTo>
                  <a:pt x="1394958" y="307549"/>
                </a:lnTo>
                <a:lnTo>
                  <a:pt x="1403194" y="304803"/>
                </a:lnTo>
                <a:lnTo>
                  <a:pt x="1408686" y="302057"/>
                </a:lnTo>
                <a:close/>
                <a:moveTo>
                  <a:pt x="1721728" y="299311"/>
                </a:moveTo>
                <a:lnTo>
                  <a:pt x="1721728" y="302057"/>
                </a:lnTo>
                <a:lnTo>
                  <a:pt x="1721728" y="304803"/>
                </a:lnTo>
                <a:lnTo>
                  <a:pt x="1721728" y="307549"/>
                </a:lnTo>
                <a:lnTo>
                  <a:pt x="1727220" y="307549"/>
                </a:lnTo>
                <a:lnTo>
                  <a:pt x="1727220" y="302057"/>
                </a:lnTo>
                <a:lnTo>
                  <a:pt x="1721728" y="299311"/>
                </a:lnTo>
                <a:close/>
                <a:moveTo>
                  <a:pt x="1600905" y="296565"/>
                </a:moveTo>
                <a:lnTo>
                  <a:pt x="1589921" y="304803"/>
                </a:lnTo>
                <a:lnTo>
                  <a:pt x="1581682" y="310295"/>
                </a:lnTo>
                <a:lnTo>
                  <a:pt x="1581682" y="307549"/>
                </a:lnTo>
                <a:lnTo>
                  <a:pt x="1573445" y="302057"/>
                </a:lnTo>
                <a:lnTo>
                  <a:pt x="1565206" y="302057"/>
                </a:lnTo>
                <a:lnTo>
                  <a:pt x="1562461" y="307549"/>
                </a:lnTo>
                <a:lnTo>
                  <a:pt x="1565206" y="313041"/>
                </a:lnTo>
                <a:lnTo>
                  <a:pt x="1548731" y="313041"/>
                </a:lnTo>
                <a:lnTo>
                  <a:pt x="1529509" y="315787"/>
                </a:lnTo>
                <a:lnTo>
                  <a:pt x="1524017" y="318533"/>
                </a:lnTo>
                <a:lnTo>
                  <a:pt x="1526763" y="318533"/>
                </a:lnTo>
                <a:lnTo>
                  <a:pt x="1518526" y="324025"/>
                </a:lnTo>
                <a:lnTo>
                  <a:pt x="1510287" y="332263"/>
                </a:lnTo>
                <a:lnTo>
                  <a:pt x="1526763" y="326771"/>
                </a:lnTo>
                <a:lnTo>
                  <a:pt x="1529509" y="332263"/>
                </a:lnTo>
                <a:lnTo>
                  <a:pt x="1515779" y="332263"/>
                </a:lnTo>
                <a:lnTo>
                  <a:pt x="1515779" y="337755"/>
                </a:lnTo>
                <a:lnTo>
                  <a:pt x="1518526" y="340501"/>
                </a:lnTo>
                <a:lnTo>
                  <a:pt x="1518526" y="345993"/>
                </a:lnTo>
                <a:lnTo>
                  <a:pt x="1526763" y="351485"/>
                </a:lnTo>
                <a:lnTo>
                  <a:pt x="1529509" y="351485"/>
                </a:lnTo>
                <a:lnTo>
                  <a:pt x="1535002" y="351485"/>
                </a:lnTo>
                <a:lnTo>
                  <a:pt x="1535002" y="340501"/>
                </a:lnTo>
                <a:lnTo>
                  <a:pt x="1532255" y="332263"/>
                </a:lnTo>
                <a:lnTo>
                  <a:pt x="1535002" y="329517"/>
                </a:lnTo>
                <a:lnTo>
                  <a:pt x="1537748" y="329517"/>
                </a:lnTo>
                <a:lnTo>
                  <a:pt x="1537748" y="337755"/>
                </a:lnTo>
                <a:lnTo>
                  <a:pt x="1537748" y="345993"/>
                </a:lnTo>
                <a:lnTo>
                  <a:pt x="1545985" y="348739"/>
                </a:lnTo>
                <a:lnTo>
                  <a:pt x="1554223" y="345993"/>
                </a:lnTo>
                <a:lnTo>
                  <a:pt x="1562461" y="343247"/>
                </a:lnTo>
                <a:lnTo>
                  <a:pt x="1570699" y="340501"/>
                </a:lnTo>
                <a:lnTo>
                  <a:pt x="1565206" y="332263"/>
                </a:lnTo>
                <a:lnTo>
                  <a:pt x="1561213" y="328269"/>
                </a:lnTo>
                <a:lnTo>
                  <a:pt x="1587175" y="332263"/>
                </a:lnTo>
                <a:lnTo>
                  <a:pt x="1603651" y="332263"/>
                </a:lnTo>
                <a:lnTo>
                  <a:pt x="1609143" y="326771"/>
                </a:lnTo>
                <a:lnTo>
                  <a:pt x="1617380" y="321279"/>
                </a:lnTo>
                <a:lnTo>
                  <a:pt x="1609143" y="321279"/>
                </a:lnTo>
                <a:lnTo>
                  <a:pt x="1603651" y="315787"/>
                </a:lnTo>
                <a:lnTo>
                  <a:pt x="1600905" y="307549"/>
                </a:lnTo>
                <a:lnTo>
                  <a:pt x="1600905" y="296565"/>
                </a:lnTo>
                <a:close/>
                <a:moveTo>
                  <a:pt x="1551477" y="296565"/>
                </a:moveTo>
                <a:lnTo>
                  <a:pt x="1543239" y="302057"/>
                </a:lnTo>
                <a:lnTo>
                  <a:pt x="1532255" y="302057"/>
                </a:lnTo>
                <a:lnTo>
                  <a:pt x="1535002" y="310295"/>
                </a:lnTo>
                <a:lnTo>
                  <a:pt x="1540493" y="313041"/>
                </a:lnTo>
                <a:lnTo>
                  <a:pt x="1545985" y="307549"/>
                </a:lnTo>
                <a:lnTo>
                  <a:pt x="1545985" y="304803"/>
                </a:lnTo>
                <a:lnTo>
                  <a:pt x="1551477" y="304803"/>
                </a:lnTo>
                <a:lnTo>
                  <a:pt x="1551477" y="296565"/>
                </a:lnTo>
                <a:close/>
                <a:moveTo>
                  <a:pt x="1688776" y="282836"/>
                </a:moveTo>
                <a:lnTo>
                  <a:pt x="1664062" y="291073"/>
                </a:lnTo>
                <a:lnTo>
                  <a:pt x="1639348" y="296565"/>
                </a:lnTo>
                <a:lnTo>
                  <a:pt x="1625618" y="291073"/>
                </a:lnTo>
                <a:lnTo>
                  <a:pt x="1617380" y="291073"/>
                </a:lnTo>
                <a:lnTo>
                  <a:pt x="1609143" y="291073"/>
                </a:lnTo>
                <a:lnTo>
                  <a:pt x="1609143" y="296565"/>
                </a:lnTo>
                <a:lnTo>
                  <a:pt x="1611889" y="302057"/>
                </a:lnTo>
                <a:lnTo>
                  <a:pt x="1617380" y="302057"/>
                </a:lnTo>
                <a:lnTo>
                  <a:pt x="1620127" y="302057"/>
                </a:lnTo>
                <a:lnTo>
                  <a:pt x="1631111" y="299311"/>
                </a:lnTo>
                <a:lnTo>
                  <a:pt x="1639348" y="296565"/>
                </a:lnTo>
                <a:lnTo>
                  <a:pt x="1661316" y="296565"/>
                </a:lnTo>
                <a:lnTo>
                  <a:pt x="1683284" y="293819"/>
                </a:lnTo>
                <a:lnTo>
                  <a:pt x="1705252" y="293819"/>
                </a:lnTo>
                <a:lnTo>
                  <a:pt x="1732711" y="291073"/>
                </a:lnTo>
                <a:lnTo>
                  <a:pt x="1721728" y="285582"/>
                </a:lnTo>
                <a:lnTo>
                  <a:pt x="1710744" y="282836"/>
                </a:lnTo>
                <a:lnTo>
                  <a:pt x="1699760" y="282836"/>
                </a:lnTo>
                <a:lnTo>
                  <a:pt x="1688776" y="282836"/>
                </a:lnTo>
                <a:close/>
                <a:moveTo>
                  <a:pt x="1817837" y="269106"/>
                </a:moveTo>
                <a:lnTo>
                  <a:pt x="1823329" y="277344"/>
                </a:lnTo>
                <a:lnTo>
                  <a:pt x="1826075" y="280090"/>
                </a:lnTo>
                <a:lnTo>
                  <a:pt x="1826075" y="285582"/>
                </a:lnTo>
                <a:lnTo>
                  <a:pt x="1809599" y="285582"/>
                </a:lnTo>
                <a:lnTo>
                  <a:pt x="1795869" y="288328"/>
                </a:lnTo>
                <a:lnTo>
                  <a:pt x="1782139" y="293819"/>
                </a:lnTo>
                <a:lnTo>
                  <a:pt x="1771156" y="293819"/>
                </a:lnTo>
                <a:lnTo>
                  <a:pt x="1768409" y="293819"/>
                </a:lnTo>
                <a:lnTo>
                  <a:pt x="1765663" y="293819"/>
                </a:lnTo>
                <a:lnTo>
                  <a:pt x="1757425" y="288328"/>
                </a:lnTo>
                <a:lnTo>
                  <a:pt x="1754679" y="285582"/>
                </a:lnTo>
                <a:lnTo>
                  <a:pt x="1749187" y="285582"/>
                </a:lnTo>
                <a:lnTo>
                  <a:pt x="1740950" y="293819"/>
                </a:lnTo>
                <a:lnTo>
                  <a:pt x="1732711" y="307549"/>
                </a:lnTo>
                <a:lnTo>
                  <a:pt x="1724474" y="313041"/>
                </a:lnTo>
                <a:lnTo>
                  <a:pt x="1718982" y="318533"/>
                </a:lnTo>
                <a:lnTo>
                  <a:pt x="1707998" y="321279"/>
                </a:lnTo>
                <a:lnTo>
                  <a:pt x="1716236" y="324025"/>
                </a:lnTo>
                <a:lnTo>
                  <a:pt x="1732711" y="326771"/>
                </a:lnTo>
                <a:lnTo>
                  <a:pt x="1751933" y="324025"/>
                </a:lnTo>
                <a:lnTo>
                  <a:pt x="1768409" y="318533"/>
                </a:lnTo>
                <a:lnTo>
                  <a:pt x="1801361" y="307549"/>
                </a:lnTo>
                <a:lnTo>
                  <a:pt x="1828821" y="291073"/>
                </a:lnTo>
                <a:lnTo>
                  <a:pt x="1837059" y="296565"/>
                </a:lnTo>
                <a:lnTo>
                  <a:pt x="1839805" y="296565"/>
                </a:lnTo>
                <a:lnTo>
                  <a:pt x="1845297" y="296565"/>
                </a:lnTo>
                <a:lnTo>
                  <a:pt x="1856280" y="288328"/>
                </a:lnTo>
                <a:lnTo>
                  <a:pt x="1859026" y="282836"/>
                </a:lnTo>
                <a:lnTo>
                  <a:pt x="1861773" y="274598"/>
                </a:lnTo>
                <a:lnTo>
                  <a:pt x="1856280" y="271852"/>
                </a:lnTo>
                <a:lnTo>
                  <a:pt x="1853535" y="269106"/>
                </a:lnTo>
                <a:lnTo>
                  <a:pt x="1842551" y="269106"/>
                </a:lnTo>
                <a:lnTo>
                  <a:pt x="1831567" y="269106"/>
                </a:lnTo>
                <a:lnTo>
                  <a:pt x="1817837" y="269106"/>
                </a:lnTo>
                <a:close/>
                <a:moveTo>
                  <a:pt x="2233515" y="247993"/>
                </a:moveTo>
                <a:lnTo>
                  <a:pt x="2229733" y="249884"/>
                </a:lnTo>
                <a:lnTo>
                  <a:pt x="2224241" y="249884"/>
                </a:lnTo>
                <a:lnTo>
                  <a:pt x="2224241" y="249522"/>
                </a:lnTo>
                <a:lnTo>
                  <a:pt x="2233515" y="247993"/>
                </a:lnTo>
                <a:close/>
                <a:moveTo>
                  <a:pt x="2202274" y="236154"/>
                </a:moveTo>
                <a:lnTo>
                  <a:pt x="2202274" y="241646"/>
                </a:lnTo>
                <a:lnTo>
                  <a:pt x="2205020" y="238900"/>
                </a:lnTo>
                <a:lnTo>
                  <a:pt x="2205020" y="236154"/>
                </a:lnTo>
                <a:lnTo>
                  <a:pt x="2202274" y="236154"/>
                </a:lnTo>
                <a:close/>
                <a:moveTo>
                  <a:pt x="2139116" y="227916"/>
                </a:moveTo>
                <a:lnTo>
                  <a:pt x="2139116" y="233408"/>
                </a:lnTo>
                <a:lnTo>
                  <a:pt x="2144609" y="233408"/>
                </a:lnTo>
                <a:lnTo>
                  <a:pt x="2144609" y="227916"/>
                </a:lnTo>
                <a:lnTo>
                  <a:pt x="2139116" y="227916"/>
                </a:lnTo>
                <a:close/>
                <a:moveTo>
                  <a:pt x="2292891" y="222424"/>
                </a:moveTo>
                <a:lnTo>
                  <a:pt x="2290144" y="227916"/>
                </a:lnTo>
                <a:lnTo>
                  <a:pt x="2298383" y="227916"/>
                </a:lnTo>
                <a:lnTo>
                  <a:pt x="2298383" y="225170"/>
                </a:lnTo>
                <a:lnTo>
                  <a:pt x="2295637" y="222424"/>
                </a:lnTo>
                <a:lnTo>
                  <a:pt x="2292891" y="222424"/>
                </a:lnTo>
                <a:close/>
                <a:moveTo>
                  <a:pt x="2328589" y="219678"/>
                </a:moveTo>
                <a:lnTo>
                  <a:pt x="2325843" y="222424"/>
                </a:lnTo>
                <a:lnTo>
                  <a:pt x="2328589" y="222424"/>
                </a:lnTo>
                <a:lnTo>
                  <a:pt x="2328589" y="227916"/>
                </a:lnTo>
                <a:lnTo>
                  <a:pt x="2331334" y="227916"/>
                </a:lnTo>
                <a:lnTo>
                  <a:pt x="2336826" y="227916"/>
                </a:lnTo>
                <a:lnTo>
                  <a:pt x="2339572" y="227916"/>
                </a:lnTo>
                <a:lnTo>
                  <a:pt x="2339572" y="222424"/>
                </a:lnTo>
                <a:lnTo>
                  <a:pt x="2334081" y="222424"/>
                </a:lnTo>
                <a:lnTo>
                  <a:pt x="2331334" y="222424"/>
                </a:lnTo>
                <a:lnTo>
                  <a:pt x="2328589" y="219678"/>
                </a:lnTo>
                <a:close/>
                <a:moveTo>
                  <a:pt x="3174349" y="123569"/>
                </a:moveTo>
                <a:lnTo>
                  <a:pt x="2430190" y="214186"/>
                </a:lnTo>
                <a:lnTo>
                  <a:pt x="2424698" y="214186"/>
                </a:lnTo>
                <a:lnTo>
                  <a:pt x="2421952" y="216932"/>
                </a:lnTo>
                <a:lnTo>
                  <a:pt x="2397238" y="221006"/>
                </a:lnTo>
                <a:lnTo>
                  <a:pt x="2397238" y="222424"/>
                </a:lnTo>
                <a:lnTo>
                  <a:pt x="2391745" y="230662"/>
                </a:lnTo>
                <a:lnTo>
                  <a:pt x="2386254" y="233408"/>
                </a:lnTo>
                <a:lnTo>
                  <a:pt x="2375269" y="233408"/>
                </a:lnTo>
                <a:lnTo>
                  <a:pt x="2369778" y="230662"/>
                </a:lnTo>
                <a:lnTo>
                  <a:pt x="2367408" y="225923"/>
                </a:lnTo>
                <a:lnTo>
                  <a:pt x="2233515" y="247993"/>
                </a:lnTo>
                <a:lnTo>
                  <a:pt x="2235225" y="247138"/>
                </a:lnTo>
                <a:lnTo>
                  <a:pt x="2232480" y="244392"/>
                </a:lnTo>
                <a:lnTo>
                  <a:pt x="2232480" y="241646"/>
                </a:lnTo>
                <a:lnTo>
                  <a:pt x="2224241" y="241646"/>
                </a:lnTo>
                <a:lnTo>
                  <a:pt x="2224241" y="249522"/>
                </a:lnTo>
                <a:lnTo>
                  <a:pt x="2172069" y="258122"/>
                </a:lnTo>
                <a:lnTo>
                  <a:pt x="2169322" y="260868"/>
                </a:lnTo>
                <a:lnTo>
                  <a:pt x="2158048" y="262747"/>
                </a:lnTo>
                <a:lnTo>
                  <a:pt x="2158338" y="263614"/>
                </a:lnTo>
                <a:lnTo>
                  <a:pt x="2158338" y="274598"/>
                </a:lnTo>
                <a:lnTo>
                  <a:pt x="2150099" y="280090"/>
                </a:lnTo>
                <a:lnTo>
                  <a:pt x="2141862" y="288328"/>
                </a:lnTo>
                <a:lnTo>
                  <a:pt x="2133624" y="296566"/>
                </a:lnTo>
                <a:lnTo>
                  <a:pt x="2122640" y="299312"/>
                </a:lnTo>
                <a:lnTo>
                  <a:pt x="2111656" y="296566"/>
                </a:lnTo>
                <a:lnTo>
                  <a:pt x="2103418" y="291074"/>
                </a:lnTo>
                <a:lnTo>
                  <a:pt x="2097926" y="282836"/>
                </a:lnTo>
                <a:lnTo>
                  <a:pt x="2097492" y="281102"/>
                </a:lnTo>
                <a:lnTo>
                  <a:pt x="2106164" y="282836"/>
                </a:lnTo>
                <a:lnTo>
                  <a:pt x="2096357" y="273029"/>
                </a:lnTo>
                <a:lnTo>
                  <a:pt x="2095510" y="273170"/>
                </a:lnTo>
                <a:lnTo>
                  <a:pt x="2097492" y="281102"/>
                </a:lnTo>
                <a:lnTo>
                  <a:pt x="2092434" y="280090"/>
                </a:lnTo>
                <a:lnTo>
                  <a:pt x="2078704" y="277344"/>
                </a:lnTo>
                <a:lnTo>
                  <a:pt x="2074960" y="276595"/>
                </a:lnTo>
                <a:lnTo>
                  <a:pt x="2070467" y="277344"/>
                </a:lnTo>
                <a:lnTo>
                  <a:pt x="2045753" y="274598"/>
                </a:lnTo>
                <a:lnTo>
                  <a:pt x="2021039" y="277344"/>
                </a:lnTo>
                <a:lnTo>
                  <a:pt x="2012801" y="280090"/>
                </a:lnTo>
                <a:lnTo>
                  <a:pt x="2007309" y="285582"/>
                </a:lnTo>
                <a:lnTo>
                  <a:pt x="2004563" y="285582"/>
                </a:lnTo>
                <a:lnTo>
                  <a:pt x="2010055" y="280090"/>
                </a:lnTo>
                <a:lnTo>
                  <a:pt x="2010055" y="271852"/>
                </a:lnTo>
                <a:lnTo>
                  <a:pt x="2004563" y="269106"/>
                </a:lnTo>
                <a:lnTo>
                  <a:pt x="2001817" y="266360"/>
                </a:lnTo>
                <a:lnTo>
                  <a:pt x="1996325" y="255376"/>
                </a:lnTo>
                <a:lnTo>
                  <a:pt x="1988087" y="258122"/>
                </a:lnTo>
                <a:lnTo>
                  <a:pt x="1982596" y="255376"/>
                </a:lnTo>
                <a:lnTo>
                  <a:pt x="1968866" y="249884"/>
                </a:lnTo>
                <a:lnTo>
                  <a:pt x="1963374" y="255376"/>
                </a:lnTo>
                <a:lnTo>
                  <a:pt x="1955136" y="255376"/>
                </a:lnTo>
                <a:lnTo>
                  <a:pt x="1944152" y="255376"/>
                </a:lnTo>
                <a:lnTo>
                  <a:pt x="1941406" y="255376"/>
                </a:lnTo>
                <a:lnTo>
                  <a:pt x="1938660" y="258122"/>
                </a:lnTo>
                <a:lnTo>
                  <a:pt x="1938660" y="260868"/>
                </a:lnTo>
                <a:lnTo>
                  <a:pt x="1938660" y="263614"/>
                </a:lnTo>
                <a:lnTo>
                  <a:pt x="1941406" y="266360"/>
                </a:lnTo>
                <a:lnTo>
                  <a:pt x="1935914" y="266360"/>
                </a:lnTo>
                <a:lnTo>
                  <a:pt x="1930422" y="269106"/>
                </a:lnTo>
                <a:lnTo>
                  <a:pt x="1930422" y="271852"/>
                </a:lnTo>
                <a:lnTo>
                  <a:pt x="1933168" y="277344"/>
                </a:lnTo>
                <a:lnTo>
                  <a:pt x="1927676" y="277344"/>
                </a:lnTo>
                <a:lnTo>
                  <a:pt x="1919438" y="280090"/>
                </a:lnTo>
                <a:lnTo>
                  <a:pt x="1916692" y="285582"/>
                </a:lnTo>
                <a:lnTo>
                  <a:pt x="1916692" y="296565"/>
                </a:lnTo>
                <a:lnTo>
                  <a:pt x="1924930" y="299311"/>
                </a:lnTo>
                <a:lnTo>
                  <a:pt x="1924930" y="302057"/>
                </a:lnTo>
                <a:lnTo>
                  <a:pt x="1900163" y="305596"/>
                </a:lnTo>
                <a:lnTo>
                  <a:pt x="1900776" y="307028"/>
                </a:lnTo>
                <a:lnTo>
                  <a:pt x="1949643" y="299312"/>
                </a:lnTo>
                <a:lnTo>
                  <a:pt x="1968865" y="293820"/>
                </a:lnTo>
                <a:lnTo>
                  <a:pt x="1990832" y="285582"/>
                </a:lnTo>
                <a:lnTo>
                  <a:pt x="1993578" y="288328"/>
                </a:lnTo>
                <a:lnTo>
                  <a:pt x="1990832" y="288328"/>
                </a:lnTo>
                <a:lnTo>
                  <a:pt x="1982595" y="296566"/>
                </a:lnTo>
                <a:lnTo>
                  <a:pt x="1971611" y="302058"/>
                </a:lnTo>
                <a:lnTo>
                  <a:pt x="1946897" y="307550"/>
                </a:lnTo>
                <a:lnTo>
                  <a:pt x="1903087" y="312418"/>
                </a:lnTo>
                <a:lnTo>
                  <a:pt x="1905708" y="318534"/>
                </a:lnTo>
                <a:lnTo>
                  <a:pt x="1905708" y="324026"/>
                </a:lnTo>
                <a:lnTo>
                  <a:pt x="1905708" y="329517"/>
                </a:lnTo>
                <a:lnTo>
                  <a:pt x="1900216" y="340501"/>
                </a:lnTo>
                <a:lnTo>
                  <a:pt x="1894723" y="348739"/>
                </a:lnTo>
                <a:lnTo>
                  <a:pt x="1891978" y="356977"/>
                </a:lnTo>
                <a:lnTo>
                  <a:pt x="1889232" y="373453"/>
                </a:lnTo>
                <a:lnTo>
                  <a:pt x="1889232" y="395421"/>
                </a:lnTo>
                <a:lnTo>
                  <a:pt x="1891978" y="414643"/>
                </a:lnTo>
                <a:lnTo>
                  <a:pt x="1902962" y="455832"/>
                </a:lnTo>
                <a:lnTo>
                  <a:pt x="1905708" y="475054"/>
                </a:lnTo>
                <a:lnTo>
                  <a:pt x="1908453" y="491530"/>
                </a:lnTo>
                <a:lnTo>
                  <a:pt x="1905708" y="497022"/>
                </a:lnTo>
                <a:lnTo>
                  <a:pt x="1902962" y="502514"/>
                </a:lnTo>
                <a:lnTo>
                  <a:pt x="1900216" y="505260"/>
                </a:lnTo>
                <a:lnTo>
                  <a:pt x="1894723" y="508006"/>
                </a:lnTo>
                <a:lnTo>
                  <a:pt x="1889232" y="508006"/>
                </a:lnTo>
                <a:lnTo>
                  <a:pt x="1883740" y="505260"/>
                </a:lnTo>
                <a:lnTo>
                  <a:pt x="1878248" y="502514"/>
                </a:lnTo>
                <a:lnTo>
                  <a:pt x="1875502" y="497022"/>
                </a:lnTo>
                <a:lnTo>
                  <a:pt x="1872756" y="477800"/>
                </a:lnTo>
                <a:lnTo>
                  <a:pt x="1867264" y="455832"/>
                </a:lnTo>
                <a:lnTo>
                  <a:pt x="1867264" y="444848"/>
                </a:lnTo>
                <a:lnTo>
                  <a:pt x="1867264" y="433865"/>
                </a:lnTo>
                <a:lnTo>
                  <a:pt x="1870010" y="425627"/>
                </a:lnTo>
                <a:lnTo>
                  <a:pt x="1872756" y="417389"/>
                </a:lnTo>
                <a:lnTo>
                  <a:pt x="1880994" y="409151"/>
                </a:lnTo>
                <a:lnTo>
                  <a:pt x="1883740" y="398167"/>
                </a:lnTo>
                <a:lnTo>
                  <a:pt x="1883740" y="387183"/>
                </a:lnTo>
                <a:lnTo>
                  <a:pt x="1880994" y="376199"/>
                </a:lnTo>
                <a:lnTo>
                  <a:pt x="1872756" y="354231"/>
                </a:lnTo>
                <a:lnTo>
                  <a:pt x="1864518" y="335009"/>
                </a:lnTo>
                <a:lnTo>
                  <a:pt x="1861772" y="326772"/>
                </a:lnTo>
                <a:lnTo>
                  <a:pt x="1861772" y="324483"/>
                </a:lnTo>
                <a:lnTo>
                  <a:pt x="1864518" y="324026"/>
                </a:lnTo>
                <a:lnTo>
                  <a:pt x="1880994" y="324026"/>
                </a:lnTo>
                <a:lnTo>
                  <a:pt x="1871443" y="309699"/>
                </a:lnTo>
                <a:lnTo>
                  <a:pt x="1867265" y="310295"/>
                </a:lnTo>
                <a:lnTo>
                  <a:pt x="1867265" y="303432"/>
                </a:lnTo>
                <a:lnTo>
                  <a:pt x="1866349" y="302057"/>
                </a:lnTo>
                <a:lnTo>
                  <a:pt x="1864519" y="302057"/>
                </a:lnTo>
                <a:lnTo>
                  <a:pt x="1864126" y="302057"/>
                </a:lnTo>
                <a:lnTo>
                  <a:pt x="1861772" y="318534"/>
                </a:lnTo>
                <a:lnTo>
                  <a:pt x="1861772" y="324483"/>
                </a:lnTo>
                <a:lnTo>
                  <a:pt x="1848043" y="326772"/>
                </a:lnTo>
                <a:lnTo>
                  <a:pt x="1815091" y="337755"/>
                </a:lnTo>
                <a:lnTo>
                  <a:pt x="1782139" y="351485"/>
                </a:lnTo>
                <a:lnTo>
                  <a:pt x="1751933" y="365215"/>
                </a:lnTo>
                <a:lnTo>
                  <a:pt x="1735457" y="367961"/>
                </a:lnTo>
                <a:lnTo>
                  <a:pt x="1716235" y="367961"/>
                </a:lnTo>
                <a:lnTo>
                  <a:pt x="1697014" y="367961"/>
                </a:lnTo>
                <a:lnTo>
                  <a:pt x="1677792" y="367961"/>
                </a:lnTo>
                <a:lnTo>
                  <a:pt x="1653078" y="370707"/>
                </a:lnTo>
                <a:lnTo>
                  <a:pt x="1631110" y="376199"/>
                </a:lnTo>
                <a:lnTo>
                  <a:pt x="1620126" y="378945"/>
                </a:lnTo>
                <a:lnTo>
                  <a:pt x="1609143" y="387183"/>
                </a:lnTo>
                <a:lnTo>
                  <a:pt x="1600904" y="395421"/>
                </a:lnTo>
                <a:lnTo>
                  <a:pt x="1595412" y="406405"/>
                </a:lnTo>
                <a:lnTo>
                  <a:pt x="1589921" y="417389"/>
                </a:lnTo>
                <a:lnTo>
                  <a:pt x="1584428" y="422881"/>
                </a:lnTo>
                <a:lnTo>
                  <a:pt x="1578936" y="425627"/>
                </a:lnTo>
                <a:lnTo>
                  <a:pt x="1576191" y="425627"/>
                </a:lnTo>
                <a:lnTo>
                  <a:pt x="1576191" y="431118"/>
                </a:lnTo>
                <a:lnTo>
                  <a:pt x="1573445" y="431118"/>
                </a:lnTo>
                <a:lnTo>
                  <a:pt x="1570699" y="431118"/>
                </a:lnTo>
                <a:lnTo>
                  <a:pt x="1567952" y="428372"/>
                </a:lnTo>
                <a:lnTo>
                  <a:pt x="1565206" y="428372"/>
                </a:lnTo>
                <a:lnTo>
                  <a:pt x="1565206" y="431118"/>
                </a:lnTo>
                <a:lnTo>
                  <a:pt x="1567952" y="433864"/>
                </a:lnTo>
                <a:lnTo>
                  <a:pt x="1567952" y="436610"/>
                </a:lnTo>
                <a:lnTo>
                  <a:pt x="1573445" y="433864"/>
                </a:lnTo>
                <a:lnTo>
                  <a:pt x="1576191" y="431118"/>
                </a:lnTo>
                <a:lnTo>
                  <a:pt x="1576191" y="458578"/>
                </a:lnTo>
                <a:lnTo>
                  <a:pt x="1573445" y="455832"/>
                </a:lnTo>
                <a:lnTo>
                  <a:pt x="1570699" y="461324"/>
                </a:lnTo>
                <a:lnTo>
                  <a:pt x="1573445" y="466816"/>
                </a:lnTo>
                <a:lnTo>
                  <a:pt x="1576191" y="466816"/>
                </a:lnTo>
                <a:lnTo>
                  <a:pt x="1576191" y="472308"/>
                </a:lnTo>
                <a:lnTo>
                  <a:pt x="1573445" y="475054"/>
                </a:lnTo>
                <a:lnTo>
                  <a:pt x="1570699" y="475054"/>
                </a:lnTo>
                <a:lnTo>
                  <a:pt x="1565206" y="464070"/>
                </a:lnTo>
                <a:lnTo>
                  <a:pt x="1559715" y="458578"/>
                </a:lnTo>
                <a:lnTo>
                  <a:pt x="1551477" y="458578"/>
                </a:lnTo>
                <a:lnTo>
                  <a:pt x="1551477" y="461324"/>
                </a:lnTo>
                <a:lnTo>
                  <a:pt x="1554223" y="464070"/>
                </a:lnTo>
                <a:lnTo>
                  <a:pt x="1551477" y="466816"/>
                </a:lnTo>
                <a:lnTo>
                  <a:pt x="1548731" y="466816"/>
                </a:lnTo>
                <a:lnTo>
                  <a:pt x="1545985" y="466816"/>
                </a:lnTo>
                <a:lnTo>
                  <a:pt x="1543239" y="469562"/>
                </a:lnTo>
                <a:lnTo>
                  <a:pt x="1554223" y="475054"/>
                </a:lnTo>
                <a:lnTo>
                  <a:pt x="1559715" y="477800"/>
                </a:lnTo>
                <a:lnTo>
                  <a:pt x="1567952" y="475054"/>
                </a:lnTo>
                <a:lnTo>
                  <a:pt x="1570699" y="477800"/>
                </a:lnTo>
                <a:lnTo>
                  <a:pt x="1576191" y="477800"/>
                </a:lnTo>
                <a:lnTo>
                  <a:pt x="1576191" y="497022"/>
                </a:lnTo>
                <a:lnTo>
                  <a:pt x="1573445" y="499768"/>
                </a:lnTo>
                <a:lnTo>
                  <a:pt x="1573445" y="502514"/>
                </a:lnTo>
                <a:lnTo>
                  <a:pt x="1576191" y="502514"/>
                </a:lnTo>
                <a:lnTo>
                  <a:pt x="1576191" y="505260"/>
                </a:lnTo>
                <a:lnTo>
                  <a:pt x="1576191" y="510752"/>
                </a:lnTo>
                <a:lnTo>
                  <a:pt x="1576191" y="546449"/>
                </a:lnTo>
                <a:lnTo>
                  <a:pt x="1570699" y="546449"/>
                </a:lnTo>
                <a:lnTo>
                  <a:pt x="1570699" y="549195"/>
                </a:lnTo>
                <a:lnTo>
                  <a:pt x="1576191" y="549195"/>
                </a:lnTo>
                <a:lnTo>
                  <a:pt x="1576191" y="568417"/>
                </a:lnTo>
                <a:lnTo>
                  <a:pt x="1570699" y="568417"/>
                </a:lnTo>
                <a:lnTo>
                  <a:pt x="1570699" y="573909"/>
                </a:lnTo>
                <a:lnTo>
                  <a:pt x="1576191" y="576655"/>
                </a:lnTo>
                <a:lnTo>
                  <a:pt x="1573445" y="818301"/>
                </a:lnTo>
                <a:lnTo>
                  <a:pt x="1556969" y="818301"/>
                </a:lnTo>
                <a:lnTo>
                  <a:pt x="1540493" y="818301"/>
                </a:lnTo>
                <a:lnTo>
                  <a:pt x="1537748" y="823793"/>
                </a:lnTo>
                <a:lnTo>
                  <a:pt x="1537748" y="829285"/>
                </a:lnTo>
                <a:lnTo>
                  <a:pt x="1540493" y="829285"/>
                </a:lnTo>
                <a:lnTo>
                  <a:pt x="1540493" y="834777"/>
                </a:lnTo>
                <a:lnTo>
                  <a:pt x="1548731" y="834777"/>
                </a:lnTo>
                <a:lnTo>
                  <a:pt x="1551477" y="837523"/>
                </a:lnTo>
                <a:lnTo>
                  <a:pt x="1556969" y="840269"/>
                </a:lnTo>
                <a:lnTo>
                  <a:pt x="1562461" y="840269"/>
                </a:lnTo>
                <a:lnTo>
                  <a:pt x="1562461" y="853999"/>
                </a:lnTo>
                <a:lnTo>
                  <a:pt x="1567952" y="853999"/>
                </a:lnTo>
                <a:lnTo>
                  <a:pt x="1573445" y="853999"/>
                </a:lnTo>
                <a:lnTo>
                  <a:pt x="1573445" y="867729"/>
                </a:lnTo>
                <a:lnTo>
                  <a:pt x="1562461" y="867729"/>
                </a:lnTo>
                <a:lnTo>
                  <a:pt x="1559715" y="870475"/>
                </a:lnTo>
                <a:lnTo>
                  <a:pt x="1556969" y="873221"/>
                </a:lnTo>
                <a:lnTo>
                  <a:pt x="1554223" y="873221"/>
                </a:lnTo>
                <a:lnTo>
                  <a:pt x="1551477" y="873221"/>
                </a:lnTo>
                <a:lnTo>
                  <a:pt x="1548731" y="875967"/>
                </a:lnTo>
                <a:lnTo>
                  <a:pt x="1545985" y="878713"/>
                </a:lnTo>
                <a:lnTo>
                  <a:pt x="1551477" y="878713"/>
                </a:lnTo>
                <a:lnTo>
                  <a:pt x="1556969" y="875967"/>
                </a:lnTo>
                <a:lnTo>
                  <a:pt x="1554223" y="886951"/>
                </a:lnTo>
                <a:lnTo>
                  <a:pt x="1554223" y="892443"/>
                </a:lnTo>
                <a:lnTo>
                  <a:pt x="1556969" y="895188"/>
                </a:lnTo>
                <a:lnTo>
                  <a:pt x="1548731" y="900680"/>
                </a:lnTo>
                <a:lnTo>
                  <a:pt x="1548731" y="897934"/>
                </a:lnTo>
                <a:lnTo>
                  <a:pt x="1545985" y="895188"/>
                </a:lnTo>
                <a:lnTo>
                  <a:pt x="1543239" y="895188"/>
                </a:lnTo>
                <a:lnTo>
                  <a:pt x="1543239" y="889697"/>
                </a:lnTo>
                <a:lnTo>
                  <a:pt x="1532255" y="889697"/>
                </a:lnTo>
                <a:lnTo>
                  <a:pt x="1524017" y="889697"/>
                </a:lnTo>
                <a:lnTo>
                  <a:pt x="1521272" y="897934"/>
                </a:lnTo>
                <a:lnTo>
                  <a:pt x="1518526" y="908918"/>
                </a:lnTo>
                <a:lnTo>
                  <a:pt x="1524017" y="908918"/>
                </a:lnTo>
                <a:lnTo>
                  <a:pt x="1524017" y="911664"/>
                </a:lnTo>
                <a:lnTo>
                  <a:pt x="1526763" y="919902"/>
                </a:lnTo>
                <a:lnTo>
                  <a:pt x="1455368" y="928140"/>
                </a:lnTo>
                <a:lnTo>
                  <a:pt x="1455368" y="925394"/>
                </a:lnTo>
                <a:lnTo>
                  <a:pt x="1452622" y="925394"/>
                </a:lnTo>
                <a:lnTo>
                  <a:pt x="1447130" y="925394"/>
                </a:lnTo>
                <a:lnTo>
                  <a:pt x="1447130" y="928140"/>
                </a:lnTo>
                <a:lnTo>
                  <a:pt x="1070932" y="972076"/>
                </a:lnTo>
                <a:lnTo>
                  <a:pt x="1062694" y="969330"/>
                </a:lnTo>
                <a:lnTo>
                  <a:pt x="1054456" y="969330"/>
                </a:lnTo>
                <a:lnTo>
                  <a:pt x="1054456" y="972076"/>
                </a:lnTo>
                <a:lnTo>
                  <a:pt x="1018756" y="978026"/>
                </a:lnTo>
                <a:lnTo>
                  <a:pt x="1018756" y="980314"/>
                </a:lnTo>
                <a:lnTo>
                  <a:pt x="1016010" y="985806"/>
                </a:lnTo>
                <a:lnTo>
                  <a:pt x="1010518" y="991298"/>
                </a:lnTo>
                <a:lnTo>
                  <a:pt x="1005026" y="996790"/>
                </a:lnTo>
                <a:lnTo>
                  <a:pt x="991296" y="1002282"/>
                </a:lnTo>
                <a:lnTo>
                  <a:pt x="974820" y="1002282"/>
                </a:lnTo>
                <a:lnTo>
                  <a:pt x="958344" y="999536"/>
                </a:lnTo>
                <a:lnTo>
                  <a:pt x="933631" y="994044"/>
                </a:lnTo>
                <a:lnTo>
                  <a:pt x="911663" y="991298"/>
                </a:lnTo>
                <a:lnTo>
                  <a:pt x="889695" y="994044"/>
                </a:lnTo>
                <a:lnTo>
                  <a:pt x="878712" y="996790"/>
                </a:lnTo>
                <a:lnTo>
                  <a:pt x="867728" y="1002282"/>
                </a:lnTo>
                <a:lnTo>
                  <a:pt x="843014" y="1016011"/>
                </a:lnTo>
                <a:lnTo>
                  <a:pt x="832030" y="1024249"/>
                </a:lnTo>
                <a:lnTo>
                  <a:pt x="818300" y="1026995"/>
                </a:lnTo>
                <a:lnTo>
                  <a:pt x="804570" y="1032487"/>
                </a:lnTo>
                <a:lnTo>
                  <a:pt x="788094" y="1032487"/>
                </a:lnTo>
                <a:lnTo>
                  <a:pt x="757889" y="1032487"/>
                </a:lnTo>
                <a:lnTo>
                  <a:pt x="727683" y="1026995"/>
                </a:lnTo>
                <a:lnTo>
                  <a:pt x="697477" y="1021503"/>
                </a:lnTo>
                <a:lnTo>
                  <a:pt x="680690" y="1016467"/>
                </a:lnTo>
                <a:lnTo>
                  <a:pt x="540957" y="1032488"/>
                </a:lnTo>
                <a:lnTo>
                  <a:pt x="543703" y="1029742"/>
                </a:lnTo>
                <a:lnTo>
                  <a:pt x="546450" y="1029742"/>
                </a:lnTo>
                <a:lnTo>
                  <a:pt x="546450" y="1024250"/>
                </a:lnTo>
                <a:lnTo>
                  <a:pt x="543703" y="1024250"/>
                </a:lnTo>
                <a:lnTo>
                  <a:pt x="540957" y="1026996"/>
                </a:lnTo>
                <a:lnTo>
                  <a:pt x="538212" y="1026996"/>
                </a:lnTo>
                <a:lnTo>
                  <a:pt x="538212" y="1032488"/>
                </a:lnTo>
                <a:lnTo>
                  <a:pt x="513498" y="1035234"/>
                </a:lnTo>
                <a:lnTo>
                  <a:pt x="508005" y="1035234"/>
                </a:lnTo>
                <a:lnTo>
                  <a:pt x="502514" y="1032488"/>
                </a:lnTo>
                <a:lnTo>
                  <a:pt x="502514" y="1035234"/>
                </a:lnTo>
                <a:lnTo>
                  <a:pt x="505260" y="1035234"/>
                </a:lnTo>
                <a:lnTo>
                  <a:pt x="477800" y="1040726"/>
                </a:lnTo>
                <a:lnTo>
                  <a:pt x="469562" y="1037980"/>
                </a:lnTo>
                <a:lnTo>
                  <a:pt x="461324" y="1040726"/>
                </a:lnTo>
                <a:lnTo>
                  <a:pt x="461324" y="1037980"/>
                </a:lnTo>
                <a:lnTo>
                  <a:pt x="458578" y="1035234"/>
                </a:lnTo>
                <a:lnTo>
                  <a:pt x="469562" y="1035234"/>
                </a:lnTo>
                <a:lnTo>
                  <a:pt x="469562" y="1029742"/>
                </a:lnTo>
                <a:lnTo>
                  <a:pt x="464070" y="1029742"/>
                </a:lnTo>
                <a:lnTo>
                  <a:pt x="461324" y="1029742"/>
                </a:lnTo>
                <a:lnTo>
                  <a:pt x="458578" y="1032488"/>
                </a:lnTo>
                <a:lnTo>
                  <a:pt x="455832" y="1032488"/>
                </a:lnTo>
                <a:lnTo>
                  <a:pt x="453086" y="1037980"/>
                </a:lnTo>
                <a:lnTo>
                  <a:pt x="447594" y="1037980"/>
                </a:lnTo>
                <a:lnTo>
                  <a:pt x="447594" y="1043472"/>
                </a:lnTo>
                <a:lnTo>
                  <a:pt x="439356" y="1043472"/>
                </a:lnTo>
                <a:lnTo>
                  <a:pt x="439356" y="1037980"/>
                </a:lnTo>
                <a:lnTo>
                  <a:pt x="433864" y="1037980"/>
                </a:lnTo>
                <a:lnTo>
                  <a:pt x="428372" y="1035234"/>
                </a:lnTo>
                <a:lnTo>
                  <a:pt x="422880" y="1035234"/>
                </a:lnTo>
                <a:lnTo>
                  <a:pt x="420134" y="1037980"/>
                </a:lnTo>
                <a:lnTo>
                  <a:pt x="420134" y="1035234"/>
                </a:lnTo>
                <a:lnTo>
                  <a:pt x="420134" y="1032488"/>
                </a:lnTo>
                <a:lnTo>
                  <a:pt x="414642" y="1029742"/>
                </a:lnTo>
                <a:lnTo>
                  <a:pt x="406404" y="1029742"/>
                </a:lnTo>
                <a:lnTo>
                  <a:pt x="400913" y="1026996"/>
                </a:lnTo>
                <a:lnTo>
                  <a:pt x="392675" y="1032488"/>
                </a:lnTo>
                <a:lnTo>
                  <a:pt x="387183" y="1032488"/>
                </a:lnTo>
                <a:lnTo>
                  <a:pt x="381691" y="1032488"/>
                </a:lnTo>
                <a:lnTo>
                  <a:pt x="381691" y="1043472"/>
                </a:lnTo>
                <a:lnTo>
                  <a:pt x="384437" y="1040726"/>
                </a:lnTo>
                <a:lnTo>
                  <a:pt x="384437" y="1037980"/>
                </a:lnTo>
                <a:lnTo>
                  <a:pt x="387183" y="1035234"/>
                </a:lnTo>
                <a:lnTo>
                  <a:pt x="389929" y="1037980"/>
                </a:lnTo>
                <a:lnTo>
                  <a:pt x="392675" y="1037980"/>
                </a:lnTo>
                <a:lnTo>
                  <a:pt x="398167" y="1035234"/>
                </a:lnTo>
                <a:lnTo>
                  <a:pt x="395421" y="1040726"/>
                </a:lnTo>
                <a:lnTo>
                  <a:pt x="395421" y="1043472"/>
                </a:lnTo>
                <a:lnTo>
                  <a:pt x="392675" y="1046218"/>
                </a:lnTo>
                <a:lnTo>
                  <a:pt x="389929" y="1048964"/>
                </a:lnTo>
                <a:lnTo>
                  <a:pt x="387183" y="1048964"/>
                </a:lnTo>
                <a:lnTo>
                  <a:pt x="384437" y="1046218"/>
                </a:lnTo>
                <a:lnTo>
                  <a:pt x="381691" y="1046218"/>
                </a:lnTo>
                <a:lnTo>
                  <a:pt x="381691" y="1048964"/>
                </a:lnTo>
                <a:lnTo>
                  <a:pt x="378945" y="1051710"/>
                </a:lnTo>
                <a:lnTo>
                  <a:pt x="376199" y="1051710"/>
                </a:lnTo>
                <a:lnTo>
                  <a:pt x="370707" y="1048964"/>
                </a:lnTo>
                <a:lnTo>
                  <a:pt x="370707" y="1051710"/>
                </a:lnTo>
                <a:lnTo>
                  <a:pt x="60411" y="1087407"/>
                </a:lnTo>
                <a:lnTo>
                  <a:pt x="63157" y="1084661"/>
                </a:lnTo>
                <a:lnTo>
                  <a:pt x="68650" y="1084661"/>
                </a:lnTo>
                <a:lnTo>
                  <a:pt x="74141" y="1081915"/>
                </a:lnTo>
                <a:lnTo>
                  <a:pt x="85125" y="1076423"/>
                </a:lnTo>
                <a:lnTo>
                  <a:pt x="85125" y="1068185"/>
                </a:lnTo>
                <a:lnTo>
                  <a:pt x="87871" y="1062693"/>
                </a:lnTo>
                <a:lnTo>
                  <a:pt x="85125" y="1057201"/>
                </a:lnTo>
                <a:lnTo>
                  <a:pt x="79633" y="1054455"/>
                </a:lnTo>
                <a:lnTo>
                  <a:pt x="76887" y="1046218"/>
                </a:lnTo>
                <a:lnTo>
                  <a:pt x="68650" y="1040726"/>
                </a:lnTo>
                <a:lnTo>
                  <a:pt x="60411" y="1035234"/>
                </a:lnTo>
                <a:lnTo>
                  <a:pt x="54920" y="1029742"/>
                </a:lnTo>
                <a:lnTo>
                  <a:pt x="112585" y="958346"/>
                </a:lnTo>
                <a:lnTo>
                  <a:pt x="118077" y="958346"/>
                </a:lnTo>
                <a:lnTo>
                  <a:pt x="115331" y="952854"/>
                </a:lnTo>
                <a:lnTo>
                  <a:pt x="266360" y="771620"/>
                </a:lnTo>
                <a:lnTo>
                  <a:pt x="282836" y="771620"/>
                </a:lnTo>
                <a:lnTo>
                  <a:pt x="296565" y="768874"/>
                </a:lnTo>
                <a:lnTo>
                  <a:pt x="313041" y="766128"/>
                </a:lnTo>
                <a:lnTo>
                  <a:pt x="329517" y="760636"/>
                </a:lnTo>
                <a:lnTo>
                  <a:pt x="356977" y="746906"/>
                </a:lnTo>
                <a:lnTo>
                  <a:pt x="381691" y="730430"/>
                </a:lnTo>
                <a:lnTo>
                  <a:pt x="370707" y="730430"/>
                </a:lnTo>
                <a:lnTo>
                  <a:pt x="362469" y="730430"/>
                </a:lnTo>
                <a:lnTo>
                  <a:pt x="343247" y="733176"/>
                </a:lnTo>
                <a:lnTo>
                  <a:pt x="329517" y="738668"/>
                </a:lnTo>
                <a:lnTo>
                  <a:pt x="315787" y="741414"/>
                </a:lnTo>
                <a:lnTo>
                  <a:pt x="307549" y="738668"/>
                </a:lnTo>
                <a:lnTo>
                  <a:pt x="304803" y="735922"/>
                </a:lnTo>
                <a:lnTo>
                  <a:pt x="299311" y="733176"/>
                </a:lnTo>
                <a:lnTo>
                  <a:pt x="293820" y="733176"/>
                </a:lnTo>
                <a:lnTo>
                  <a:pt x="291074" y="735922"/>
                </a:lnTo>
                <a:lnTo>
                  <a:pt x="90617" y="535465"/>
                </a:lnTo>
                <a:lnTo>
                  <a:pt x="112585" y="527228"/>
                </a:lnTo>
                <a:lnTo>
                  <a:pt x="123569" y="518990"/>
                </a:lnTo>
                <a:lnTo>
                  <a:pt x="131807" y="510752"/>
                </a:lnTo>
                <a:lnTo>
                  <a:pt x="101601" y="505260"/>
                </a:lnTo>
                <a:lnTo>
                  <a:pt x="93363" y="505260"/>
                </a:lnTo>
                <a:lnTo>
                  <a:pt x="85125" y="505260"/>
                </a:lnTo>
                <a:lnTo>
                  <a:pt x="76887" y="508006"/>
                </a:lnTo>
                <a:lnTo>
                  <a:pt x="68650" y="513498"/>
                </a:lnTo>
                <a:lnTo>
                  <a:pt x="68650" y="516244"/>
                </a:lnTo>
                <a:lnTo>
                  <a:pt x="63157" y="510752"/>
                </a:lnTo>
                <a:lnTo>
                  <a:pt x="65904" y="510752"/>
                </a:lnTo>
                <a:lnTo>
                  <a:pt x="63157" y="502514"/>
                </a:lnTo>
                <a:lnTo>
                  <a:pt x="60411" y="499768"/>
                </a:lnTo>
                <a:lnTo>
                  <a:pt x="57665" y="499768"/>
                </a:lnTo>
                <a:lnTo>
                  <a:pt x="54920" y="502514"/>
                </a:lnTo>
                <a:lnTo>
                  <a:pt x="46682" y="494276"/>
                </a:lnTo>
                <a:lnTo>
                  <a:pt x="60411" y="491530"/>
                </a:lnTo>
                <a:lnTo>
                  <a:pt x="71395" y="488784"/>
                </a:lnTo>
                <a:lnTo>
                  <a:pt x="87871" y="480546"/>
                </a:lnTo>
                <a:lnTo>
                  <a:pt x="96109" y="475054"/>
                </a:lnTo>
                <a:lnTo>
                  <a:pt x="104347" y="472308"/>
                </a:lnTo>
                <a:lnTo>
                  <a:pt x="109839" y="472308"/>
                </a:lnTo>
                <a:lnTo>
                  <a:pt x="115331" y="477800"/>
                </a:lnTo>
                <a:lnTo>
                  <a:pt x="118077" y="483292"/>
                </a:lnTo>
                <a:lnTo>
                  <a:pt x="118077" y="488784"/>
                </a:lnTo>
                <a:lnTo>
                  <a:pt x="118077" y="494276"/>
                </a:lnTo>
                <a:lnTo>
                  <a:pt x="120823" y="499768"/>
                </a:lnTo>
                <a:lnTo>
                  <a:pt x="123569" y="499768"/>
                </a:lnTo>
                <a:lnTo>
                  <a:pt x="129061" y="499768"/>
                </a:lnTo>
                <a:lnTo>
                  <a:pt x="131807" y="497022"/>
                </a:lnTo>
                <a:lnTo>
                  <a:pt x="134553" y="499768"/>
                </a:lnTo>
                <a:lnTo>
                  <a:pt x="137299" y="505260"/>
                </a:lnTo>
                <a:lnTo>
                  <a:pt x="140045" y="513498"/>
                </a:lnTo>
                <a:lnTo>
                  <a:pt x="142791" y="521736"/>
                </a:lnTo>
                <a:lnTo>
                  <a:pt x="148283" y="527228"/>
                </a:lnTo>
                <a:lnTo>
                  <a:pt x="153775" y="529974"/>
                </a:lnTo>
                <a:lnTo>
                  <a:pt x="153775" y="521736"/>
                </a:lnTo>
                <a:lnTo>
                  <a:pt x="156521" y="518990"/>
                </a:lnTo>
                <a:lnTo>
                  <a:pt x="151029" y="513498"/>
                </a:lnTo>
                <a:lnTo>
                  <a:pt x="151029" y="505260"/>
                </a:lnTo>
                <a:lnTo>
                  <a:pt x="153775" y="502514"/>
                </a:lnTo>
                <a:lnTo>
                  <a:pt x="159267" y="497022"/>
                </a:lnTo>
                <a:lnTo>
                  <a:pt x="170251" y="494276"/>
                </a:lnTo>
                <a:lnTo>
                  <a:pt x="178488" y="488784"/>
                </a:lnTo>
                <a:lnTo>
                  <a:pt x="175743" y="488784"/>
                </a:lnTo>
                <a:lnTo>
                  <a:pt x="172997" y="483292"/>
                </a:lnTo>
                <a:lnTo>
                  <a:pt x="170251" y="480546"/>
                </a:lnTo>
                <a:lnTo>
                  <a:pt x="167505" y="475054"/>
                </a:lnTo>
                <a:lnTo>
                  <a:pt x="172997" y="469562"/>
                </a:lnTo>
                <a:lnTo>
                  <a:pt x="181234" y="461324"/>
                </a:lnTo>
                <a:lnTo>
                  <a:pt x="194964" y="455832"/>
                </a:lnTo>
                <a:lnTo>
                  <a:pt x="208694" y="453086"/>
                </a:lnTo>
                <a:lnTo>
                  <a:pt x="222424" y="453086"/>
                </a:lnTo>
                <a:lnTo>
                  <a:pt x="230662" y="455832"/>
                </a:lnTo>
                <a:lnTo>
                  <a:pt x="236154" y="458578"/>
                </a:lnTo>
                <a:lnTo>
                  <a:pt x="238900" y="461324"/>
                </a:lnTo>
                <a:lnTo>
                  <a:pt x="238900" y="466816"/>
                </a:lnTo>
                <a:lnTo>
                  <a:pt x="238900" y="472308"/>
                </a:lnTo>
                <a:lnTo>
                  <a:pt x="238900" y="477800"/>
                </a:lnTo>
                <a:lnTo>
                  <a:pt x="241646" y="480546"/>
                </a:lnTo>
                <a:lnTo>
                  <a:pt x="249884" y="480546"/>
                </a:lnTo>
                <a:lnTo>
                  <a:pt x="263614" y="480546"/>
                </a:lnTo>
                <a:lnTo>
                  <a:pt x="277344" y="480546"/>
                </a:lnTo>
                <a:lnTo>
                  <a:pt x="271852" y="464070"/>
                </a:lnTo>
                <a:lnTo>
                  <a:pt x="266360" y="450340"/>
                </a:lnTo>
                <a:lnTo>
                  <a:pt x="260868" y="433864"/>
                </a:lnTo>
                <a:lnTo>
                  <a:pt x="255376" y="422880"/>
                </a:lnTo>
                <a:lnTo>
                  <a:pt x="848507" y="359723"/>
                </a:lnTo>
                <a:lnTo>
                  <a:pt x="873221" y="356977"/>
                </a:lnTo>
                <a:lnTo>
                  <a:pt x="892443" y="373453"/>
                </a:lnTo>
                <a:lnTo>
                  <a:pt x="903426" y="381691"/>
                </a:lnTo>
                <a:lnTo>
                  <a:pt x="911664" y="384437"/>
                </a:lnTo>
                <a:lnTo>
                  <a:pt x="917156" y="384437"/>
                </a:lnTo>
                <a:lnTo>
                  <a:pt x="922648" y="384437"/>
                </a:lnTo>
                <a:lnTo>
                  <a:pt x="933632" y="378945"/>
                </a:lnTo>
                <a:lnTo>
                  <a:pt x="941870" y="376199"/>
                </a:lnTo>
                <a:lnTo>
                  <a:pt x="947362" y="373453"/>
                </a:lnTo>
                <a:lnTo>
                  <a:pt x="950108" y="376199"/>
                </a:lnTo>
                <a:lnTo>
                  <a:pt x="952854" y="376199"/>
                </a:lnTo>
                <a:lnTo>
                  <a:pt x="952854" y="378945"/>
                </a:lnTo>
                <a:lnTo>
                  <a:pt x="952854" y="384437"/>
                </a:lnTo>
                <a:lnTo>
                  <a:pt x="952854" y="389929"/>
                </a:lnTo>
                <a:lnTo>
                  <a:pt x="958346" y="392675"/>
                </a:lnTo>
                <a:lnTo>
                  <a:pt x="980314" y="392675"/>
                </a:lnTo>
                <a:lnTo>
                  <a:pt x="1005028" y="389929"/>
                </a:lnTo>
                <a:lnTo>
                  <a:pt x="1059948" y="381691"/>
                </a:lnTo>
                <a:lnTo>
                  <a:pt x="1087407" y="376199"/>
                </a:lnTo>
                <a:lnTo>
                  <a:pt x="1112121" y="367961"/>
                </a:lnTo>
                <a:lnTo>
                  <a:pt x="1131343" y="359723"/>
                </a:lnTo>
                <a:lnTo>
                  <a:pt x="1145073" y="348739"/>
                </a:lnTo>
                <a:lnTo>
                  <a:pt x="1153311" y="345993"/>
                </a:lnTo>
                <a:lnTo>
                  <a:pt x="1158803" y="348739"/>
                </a:lnTo>
                <a:lnTo>
                  <a:pt x="1164296" y="351485"/>
                </a:lnTo>
                <a:lnTo>
                  <a:pt x="1172532" y="354231"/>
                </a:lnTo>
                <a:lnTo>
                  <a:pt x="1175278" y="356977"/>
                </a:lnTo>
                <a:lnTo>
                  <a:pt x="1180772" y="359723"/>
                </a:lnTo>
                <a:lnTo>
                  <a:pt x="1180772" y="351485"/>
                </a:lnTo>
                <a:lnTo>
                  <a:pt x="1178025" y="351485"/>
                </a:lnTo>
                <a:lnTo>
                  <a:pt x="1194500" y="345993"/>
                </a:lnTo>
                <a:lnTo>
                  <a:pt x="1213722" y="337755"/>
                </a:lnTo>
                <a:lnTo>
                  <a:pt x="1249202" y="318650"/>
                </a:lnTo>
                <a:lnTo>
                  <a:pt x="1276880" y="315787"/>
                </a:lnTo>
                <a:lnTo>
                  <a:pt x="1271389" y="321279"/>
                </a:lnTo>
                <a:lnTo>
                  <a:pt x="1271389" y="332263"/>
                </a:lnTo>
                <a:lnTo>
                  <a:pt x="1282371" y="335009"/>
                </a:lnTo>
                <a:lnTo>
                  <a:pt x="1296101" y="337755"/>
                </a:lnTo>
                <a:lnTo>
                  <a:pt x="1323562" y="337755"/>
                </a:lnTo>
                <a:lnTo>
                  <a:pt x="1337290" y="337755"/>
                </a:lnTo>
                <a:lnTo>
                  <a:pt x="1351020" y="340501"/>
                </a:lnTo>
                <a:lnTo>
                  <a:pt x="1362005" y="345993"/>
                </a:lnTo>
                <a:lnTo>
                  <a:pt x="1372988" y="354231"/>
                </a:lnTo>
                <a:lnTo>
                  <a:pt x="1367496" y="354231"/>
                </a:lnTo>
                <a:lnTo>
                  <a:pt x="1370242" y="362469"/>
                </a:lnTo>
                <a:lnTo>
                  <a:pt x="1375736" y="365215"/>
                </a:lnTo>
                <a:lnTo>
                  <a:pt x="1378481" y="370707"/>
                </a:lnTo>
                <a:lnTo>
                  <a:pt x="1372988" y="367961"/>
                </a:lnTo>
                <a:lnTo>
                  <a:pt x="1375736" y="373453"/>
                </a:lnTo>
                <a:lnTo>
                  <a:pt x="1378481" y="376199"/>
                </a:lnTo>
                <a:lnTo>
                  <a:pt x="1389464" y="370707"/>
                </a:lnTo>
                <a:lnTo>
                  <a:pt x="1392210" y="365215"/>
                </a:lnTo>
                <a:lnTo>
                  <a:pt x="1394958" y="359723"/>
                </a:lnTo>
                <a:lnTo>
                  <a:pt x="1400448" y="354231"/>
                </a:lnTo>
                <a:lnTo>
                  <a:pt x="1405940" y="354231"/>
                </a:lnTo>
                <a:lnTo>
                  <a:pt x="1408686" y="354231"/>
                </a:lnTo>
                <a:lnTo>
                  <a:pt x="1416924" y="345993"/>
                </a:lnTo>
                <a:lnTo>
                  <a:pt x="1436146" y="343247"/>
                </a:lnTo>
                <a:lnTo>
                  <a:pt x="1436146" y="345993"/>
                </a:lnTo>
                <a:lnTo>
                  <a:pt x="1433400" y="345993"/>
                </a:lnTo>
                <a:lnTo>
                  <a:pt x="1433400" y="348739"/>
                </a:lnTo>
                <a:lnTo>
                  <a:pt x="1433400" y="351485"/>
                </a:lnTo>
                <a:lnTo>
                  <a:pt x="1436146" y="351485"/>
                </a:lnTo>
                <a:lnTo>
                  <a:pt x="1441637" y="348739"/>
                </a:lnTo>
                <a:lnTo>
                  <a:pt x="1447130" y="343247"/>
                </a:lnTo>
                <a:lnTo>
                  <a:pt x="1449877" y="343247"/>
                </a:lnTo>
                <a:lnTo>
                  <a:pt x="1455368" y="345993"/>
                </a:lnTo>
                <a:lnTo>
                  <a:pt x="1460859" y="345993"/>
                </a:lnTo>
                <a:lnTo>
                  <a:pt x="1460859" y="351485"/>
                </a:lnTo>
                <a:lnTo>
                  <a:pt x="1466353" y="351485"/>
                </a:lnTo>
                <a:lnTo>
                  <a:pt x="1480081" y="354231"/>
                </a:lnTo>
                <a:lnTo>
                  <a:pt x="1480081" y="348739"/>
                </a:lnTo>
                <a:lnTo>
                  <a:pt x="1485574" y="345993"/>
                </a:lnTo>
                <a:lnTo>
                  <a:pt x="1485574" y="348739"/>
                </a:lnTo>
                <a:lnTo>
                  <a:pt x="1482829" y="348739"/>
                </a:lnTo>
                <a:lnTo>
                  <a:pt x="1482829" y="351485"/>
                </a:lnTo>
                <a:lnTo>
                  <a:pt x="1491065" y="351485"/>
                </a:lnTo>
                <a:lnTo>
                  <a:pt x="1485574" y="337755"/>
                </a:lnTo>
                <a:lnTo>
                  <a:pt x="1499304" y="337755"/>
                </a:lnTo>
                <a:lnTo>
                  <a:pt x="1502050" y="340501"/>
                </a:lnTo>
                <a:lnTo>
                  <a:pt x="1504796" y="340501"/>
                </a:lnTo>
                <a:lnTo>
                  <a:pt x="1504796" y="337755"/>
                </a:lnTo>
                <a:lnTo>
                  <a:pt x="1507541" y="335009"/>
                </a:lnTo>
                <a:lnTo>
                  <a:pt x="1502050" y="335009"/>
                </a:lnTo>
                <a:lnTo>
                  <a:pt x="1499304" y="324025"/>
                </a:lnTo>
                <a:lnTo>
                  <a:pt x="1496557" y="321279"/>
                </a:lnTo>
                <a:lnTo>
                  <a:pt x="1493811" y="321279"/>
                </a:lnTo>
                <a:lnTo>
                  <a:pt x="1499304" y="313041"/>
                </a:lnTo>
                <a:lnTo>
                  <a:pt x="1502050" y="307549"/>
                </a:lnTo>
                <a:lnTo>
                  <a:pt x="1499304" y="307549"/>
                </a:lnTo>
                <a:lnTo>
                  <a:pt x="1496557" y="307549"/>
                </a:lnTo>
                <a:lnTo>
                  <a:pt x="1496557" y="310295"/>
                </a:lnTo>
                <a:lnTo>
                  <a:pt x="1491065" y="310295"/>
                </a:lnTo>
                <a:lnTo>
                  <a:pt x="1493811" y="307549"/>
                </a:lnTo>
                <a:lnTo>
                  <a:pt x="1491065" y="304803"/>
                </a:lnTo>
                <a:lnTo>
                  <a:pt x="1491065" y="302057"/>
                </a:lnTo>
                <a:lnTo>
                  <a:pt x="1491065" y="299311"/>
                </a:lnTo>
                <a:lnTo>
                  <a:pt x="1485574" y="304803"/>
                </a:lnTo>
                <a:lnTo>
                  <a:pt x="1482829" y="313041"/>
                </a:lnTo>
                <a:lnTo>
                  <a:pt x="1488320" y="315787"/>
                </a:lnTo>
                <a:lnTo>
                  <a:pt x="1493811" y="321279"/>
                </a:lnTo>
                <a:lnTo>
                  <a:pt x="1491065" y="321279"/>
                </a:lnTo>
                <a:lnTo>
                  <a:pt x="1488320" y="324025"/>
                </a:lnTo>
                <a:lnTo>
                  <a:pt x="1482829" y="321279"/>
                </a:lnTo>
                <a:lnTo>
                  <a:pt x="1477335" y="321279"/>
                </a:lnTo>
                <a:lnTo>
                  <a:pt x="1460859" y="321279"/>
                </a:lnTo>
                <a:lnTo>
                  <a:pt x="1460859" y="318533"/>
                </a:lnTo>
                <a:lnTo>
                  <a:pt x="1463606" y="313041"/>
                </a:lnTo>
                <a:lnTo>
                  <a:pt x="1469098" y="318533"/>
                </a:lnTo>
                <a:lnTo>
                  <a:pt x="1474589" y="318533"/>
                </a:lnTo>
                <a:lnTo>
                  <a:pt x="1477335" y="315787"/>
                </a:lnTo>
                <a:lnTo>
                  <a:pt x="1474589" y="310295"/>
                </a:lnTo>
                <a:lnTo>
                  <a:pt x="1471844" y="304803"/>
                </a:lnTo>
                <a:lnTo>
                  <a:pt x="1469098" y="304803"/>
                </a:lnTo>
                <a:lnTo>
                  <a:pt x="1463606" y="307549"/>
                </a:lnTo>
                <a:lnTo>
                  <a:pt x="1463606" y="310295"/>
                </a:lnTo>
                <a:lnTo>
                  <a:pt x="1460859" y="313041"/>
                </a:lnTo>
                <a:lnTo>
                  <a:pt x="1460859" y="304803"/>
                </a:lnTo>
                <a:lnTo>
                  <a:pt x="1458113" y="302057"/>
                </a:lnTo>
                <a:lnTo>
                  <a:pt x="1452622" y="299311"/>
                </a:lnTo>
                <a:lnTo>
                  <a:pt x="1447130" y="299311"/>
                </a:lnTo>
                <a:lnTo>
                  <a:pt x="1447130" y="302057"/>
                </a:lnTo>
                <a:lnTo>
                  <a:pt x="1447130" y="304803"/>
                </a:lnTo>
                <a:lnTo>
                  <a:pt x="1444383" y="307549"/>
                </a:lnTo>
                <a:lnTo>
                  <a:pt x="1444383" y="310295"/>
                </a:lnTo>
                <a:lnTo>
                  <a:pt x="1449877" y="310295"/>
                </a:lnTo>
                <a:lnTo>
                  <a:pt x="1452622" y="310295"/>
                </a:lnTo>
                <a:lnTo>
                  <a:pt x="1455368" y="313041"/>
                </a:lnTo>
                <a:lnTo>
                  <a:pt x="1452622" y="313041"/>
                </a:lnTo>
                <a:lnTo>
                  <a:pt x="1447130" y="313041"/>
                </a:lnTo>
                <a:lnTo>
                  <a:pt x="1444383" y="313041"/>
                </a:lnTo>
                <a:lnTo>
                  <a:pt x="1441637" y="315787"/>
                </a:lnTo>
                <a:lnTo>
                  <a:pt x="1441637" y="318533"/>
                </a:lnTo>
                <a:lnTo>
                  <a:pt x="1444383" y="318533"/>
                </a:lnTo>
                <a:lnTo>
                  <a:pt x="1444383" y="321279"/>
                </a:lnTo>
                <a:lnTo>
                  <a:pt x="1441637" y="321279"/>
                </a:lnTo>
                <a:lnTo>
                  <a:pt x="1438891" y="321279"/>
                </a:lnTo>
                <a:lnTo>
                  <a:pt x="1438891" y="324025"/>
                </a:lnTo>
                <a:lnTo>
                  <a:pt x="1436146" y="324025"/>
                </a:lnTo>
                <a:lnTo>
                  <a:pt x="1433400" y="315787"/>
                </a:lnTo>
                <a:lnTo>
                  <a:pt x="1433400" y="313041"/>
                </a:lnTo>
                <a:lnTo>
                  <a:pt x="1436146" y="310295"/>
                </a:lnTo>
                <a:lnTo>
                  <a:pt x="1430655" y="307549"/>
                </a:lnTo>
                <a:lnTo>
                  <a:pt x="1427907" y="304803"/>
                </a:lnTo>
                <a:lnTo>
                  <a:pt x="1427907" y="299311"/>
                </a:lnTo>
                <a:lnTo>
                  <a:pt x="1496557" y="293819"/>
                </a:lnTo>
                <a:lnTo>
                  <a:pt x="1496557" y="299311"/>
                </a:lnTo>
                <a:lnTo>
                  <a:pt x="1507541" y="304803"/>
                </a:lnTo>
                <a:lnTo>
                  <a:pt x="1507541" y="299311"/>
                </a:lnTo>
                <a:lnTo>
                  <a:pt x="1510287" y="299311"/>
                </a:lnTo>
                <a:lnTo>
                  <a:pt x="1510287" y="293819"/>
                </a:lnTo>
                <a:lnTo>
                  <a:pt x="1507541" y="291073"/>
                </a:lnTo>
                <a:lnTo>
                  <a:pt x="1515779" y="291073"/>
                </a:lnTo>
                <a:lnTo>
                  <a:pt x="1513033" y="296565"/>
                </a:lnTo>
                <a:lnTo>
                  <a:pt x="1524017" y="296565"/>
                </a:lnTo>
                <a:lnTo>
                  <a:pt x="1521272" y="291073"/>
                </a:lnTo>
                <a:lnTo>
                  <a:pt x="1529509" y="291073"/>
                </a:lnTo>
                <a:lnTo>
                  <a:pt x="1535002" y="293819"/>
                </a:lnTo>
                <a:lnTo>
                  <a:pt x="1532255" y="288328"/>
                </a:lnTo>
                <a:lnTo>
                  <a:pt x="1548731" y="288328"/>
                </a:lnTo>
                <a:lnTo>
                  <a:pt x="1554223" y="291073"/>
                </a:lnTo>
                <a:lnTo>
                  <a:pt x="1556969" y="291073"/>
                </a:lnTo>
                <a:lnTo>
                  <a:pt x="1559715" y="288328"/>
                </a:lnTo>
                <a:lnTo>
                  <a:pt x="1559715" y="285582"/>
                </a:lnTo>
                <a:lnTo>
                  <a:pt x="1790377" y="263614"/>
                </a:lnTo>
                <a:lnTo>
                  <a:pt x="1795869" y="263614"/>
                </a:lnTo>
                <a:lnTo>
                  <a:pt x="1798615" y="260868"/>
                </a:lnTo>
                <a:lnTo>
                  <a:pt x="1867265" y="255376"/>
                </a:lnTo>
                <a:lnTo>
                  <a:pt x="1872756" y="260868"/>
                </a:lnTo>
                <a:lnTo>
                  <a:pt x="1880995" y="266360"/>
                </a:lnTo>
                <a:lnTo>
                  <a:pt x="1889232" y="269106"/>
                </a:lnTo>
                <a:lnTo>
                  <a:pt x="1900217" y="271852"/>
                </a:lnTo>
                <a:lnTo>
                  <a:pt x="1905708" y="269106"/>
                </a:lnTo>
                <a:lnTo>
                  <a:pt x="1913947" y="266360"/>
                </a:lnTo>
                <a:lnTo>
                  <a:pt x="1922184" y="263614"/>
                </a:lnTo>
                <a:lnTo>
                  <a:pt x="1930422" y="258122"/>
                </a:lnTo>
                <a:lnTo>
                  <a:pt x="1930422" y="252630"/>
                </a:lnTo>
                <a:lnTo>
                  <a:pt x="1930422" y="247138"/>
                </a:lnTo>
                <a:lnTo>
                  <a:pt x="2073213" y="233408"/>
                </a:lnTo>
                <a:lnTo>
                  <a:pt x="2075959" y="233408"/>
                </a:lnTo>
                <a:lnTo>
                  <a:pt x="2378014" y="203202"/>
                </a:lnTo>
                <a:lnTo>
                  <a:pt x="2378015" y="203202"/>
                </a:lnTo>
                <a:lnTo>
                  <a:pt x="2378019" y="203202"/>
                </a:lnTo>
                <a:lnTo>
                  <a:pt x="3174349" y="123569"/>
                </a:lnTo>
                <a:close/>
                <a:moveTo>
                  <a:pt x="3352837" y="98855"/>
                </a:moveTo>
                <a:lnTo>
                  <a:pt x="3358329" y="101601"/>
                </a:lnTo>
                <a:lnTo>
                  <a:pt x="3358329" y="98855"/>
                </a:lnTo>
                <a:lnTo>
                  <a:pt x="3361075" y="101601"/>
                </a:lnTo>
                <a:lnTo>
                  <a:pt x="3350091" y="107093"/>
                </a:lnTo>
                <a:lnTo>
                  <a:pt x="3355583" y="112585"/>
                </a:lnTo>
                <a:lnTo>
                  <a:pt x="3358329" y="118077"/>
                </a:lnTo>
                <a:lnTo>
                  <a:pt x="3355583" y="118077"/>
                </a:lnTo>
                <a:lnTo>
                  <a:pt x="3355583" y="120823"/>
                </a:lnTo>
                <a:lnTo>
                  <a:pt x="3352837" y="123569"/>
                </a:lnTo>
                <a:lnTo>
                  <a:pt x="3350091" y="115331"/>
                </a:lnTo>
                <a:lnTo>
                  <a:pt x="3347345" y="115331"/>
                </a:lnTo>
                <a:lnTo>
                  <a:pt x="3347345" y="118077"/>
                </a:lnTo>
                <a:lnTo>
                  <a:pt x="3347345" y="120823"/>
                </a:lnTo>
                <a:lnTo>
                  <a:pt x="3344599" y="120823"/>
                </a:lnTo>
                <a:lnTo>
                  <a:pt x="3339107" y="115331"/>
                </a:lnTo>
                <a:lnTo>
                  <a:pt x="3339107" y="109839"/>
                </a:lnTo>
                <a:lnTo>
                  <a:pt x="3341853" y="107093"/>
                </a:lnTo>
                <a:lnTo>
                  <a:pt x="3344599" y="112585"/>
                </a:lnTo>
                <a:lnTo>
                  <a:pt x="3347345" y="112585"/>
                </a:lnTo>
                <a:lnTo>
                  <a:pt x="3347345" y="107093"/>
                </a:lnTo>
                <a:lnTo>
                  <a:pt x="3350091" y="104347"/>
                </a:lnTo>
                <a:lnTo>
                  <a:pt x="3352837" y="104347"/>
                </a:lnTo>
                <a:lnTo>
                  <a:pt x="3352837" y="98855"/>
                </a:lnTo>
                <a:close/>
                <a:moveTo>
                  <a:pt x="3374805" y="93363"/>
                </a:moveTo>
                <a:lnTo>
                  <a:pt x="3377551" y="98855"/>
                </a:lnTo>
                <a:lnTo>
                  <a:pt x="3372059" y="101601"/>
                </a:lnTo>
                <a:lnTo>
                  <a:pt x="3372059" y="96109"/>
                </a:lnTo>
                <a:lnTo>
                  <a:pt x="3374805" y="93363"/>
                </a:lnTo>
                <a:close/>
                <a:moveTo>
                  <a:pt x="3372059" y="79633"/>
                </a:moveTo>
                <a:lnTo>
                  <a:pt x="3374805" y="87871"/>
                </a:lnTo>
                <a:lnTo>
                  <a:pt x="3369313" y="90617"/>
                </a:lnTo>
                <a:lnTo>
                  <a:pt x="3366567" y="82379"/>
                </a:lnTo>
                <a:lnTo>
                  <a:pt x="3372059" y="79633"/>
                </a:lnTo>
                <a:close/>
                <a:moveTo>
                  <a:pt x="3377551" y="76887"/>
                </a:moveTo>
                <a:lnTo>
                  <a:pt x="3380297" y="76887"/>
                </a:lnTo>
                <a:lnTo>
                  <a:pt x="3383043" y="76887"/>
                </a:lnTo>
                <a:lnTo>
                  <a:pt x="3388535" y="76887"/>
                </a:lnTo>
                <a:lnTo>
                  <a:pt x="3388535" y="79633"/>
                </a:lnTo>
                <a:lnTo>
                  <a:pt x="3391281" y="82379"/>
                </a:lnTo>
                <a:lnTo>
                  <a:pt x="3399519" y="79633"/>
                </a:lnTo>
                <a:lnTo>
                  <a:pt x="3402265" y="79633"/>
                </a:lnTo>
                <a:lnTo>
                  <a:pt x="3405011" y="85125"/>
                </a:lnTo>
                <a:lnTo>
                  <a:pt x="3396773" y="87871"/>
                </a:lnTo>
                <a:lnTo>
                  <a:pt x="3394027" y="90617"/>
                </a:lnTo>
                <a:lnTo>
                  <a:pt x="3391281" y="85125"/>
                </a:lnTo>
                <a:lnTo>
                  <a:pt x="3385789" y="82379"/>
                </a:lnTo>
                <a:lnTo>
                  <a:pt x="3377551" y="76887"/>
                </a:lnTo>
                <a:close/>
                <a:moveTo>
                  <a:pt x="3888303" y="54919"/>
                </a:moveTo>
                <a:lnTo>
                  <a:pt x="3888303" y="57665"/>
                </a:lnTo>
                <a:lnTo>
                  <a:pt x="3882811" y="57665"/>
                </a:lnTo>
                <a:lnTo>
                  <a:pt x="3888303" y="54919"/>
                </a:lnTo>
                <a:close/>
                <a:moveTo>
                  <a:pt x="3915763" y="52173"/>
                </a:moveTo>
                <a:lnTo>
                  <a:pt x="3918509" y="52173"/>
                </a:lnTo>
                <a:lnTo>
                  <a:pt x="3913017" y="54919"/>
                </a:lnTo>
                <a:lnTo>
                  <a:pt x="3915763" y="52173"/>
                </a:lnTo>
                <a:close/>
                <a:moveTo>
                  <a:pt x="3929492" y="43936"/>
                </a:moveTo>
                <a:lnTo>
                  <a:pt x="3934984" y="49427"/>
                </a:lnTo>
                <a:lnTo>
                  <a:pt x="3940476" y="49427"/>
                </a:lnTo>
                <a:lnTo>
                  <a:pt x="3934984" y="43936"/>
                </a:lnTo>
                <a:lnTo>
                  <a:pt x="3929492" y="43936"/>
                </a:lnTo>
                <a:close/>
                <a:moveTo>
                  <a:pt x="3805923" y="43936"/>
                </a:moveTo>
                <a:lnTo>
                  <a:pt x="3811415" y="49427"/>
                </a:lnTo>
                <a:lnTo>
                  <a:pt x="3805923" y="54919"/>
                </a:lnTo>
                <a:lnTo>
                  <a:pt x="3805923" y="63157"/>
                </a:lnTo>
                <a:lnTo>
                  <a:pt x="3811415" y="63157"/>
                </a:lnTo>
                <a:lnTo>
                  <a:pt x="3808669" y="65903"/>
                </a:lnTo>
                <a:lnTo>
                  <a:pt x="3808669" y="68649"/>
                </a:lnTo>
                <a:lnTo>
                  <a:pt x="3794940" y="68649"/>
                </a:lnTo>
                <a:lnTo>
                  <a:pt x="3792194" y="68649"/>
                </a:lnTo>
                <a:lnTo>
                  <a:pt x="3789448" y="71395"/>
                </a:lnTo>
                <a:lnTo>
                  <a:pt x="3767480" y="74141"/>
                </a:lnTo>
                <a:lnTo>
                  <a:pt x="3764734" y="65903"/>
                </a:lnTo>
                <a:lnTo>
                  <a:pt x="3753750" y="68649"/>
                </a:lnTo>
                <a:lnTo>
                  <a:pt x="3756496" y="74141"/>
                </a:lnTo>
                <a:lnTo>
                  <a:pt x="3753750" y="74141"/>
                </a:lnTo>
                <a:lnTo>
                  <a:pt x="3712560" y="79633"/>
                </a:lnTo>
                <a:lnTo>
                  <a:pt x="3734528" y="49427"/>
                </a:lnTo>
                <a:lnTo>
                  <a:pt x="3805923" y="43936"/>
                </a:lnTo>
                <a:close/>
                <a:moveTo>
                  <a:pt x="3907525" y="32952"/>
                </a:moveTo>
                <a:lnTo>
                  <a:pt x="3915763" y="32952"/>
                </a:lnTo>
                <a:lnTo>
                  <a:pt x="3907525" y="43936"/>
                </a:lnTo>
                <a:lnTo>
                  <a:pt x="3907525" y="49427"/>
                </a:lnTo>
                <a:lnTo>
                  <a:pt x="3910271" y="54919"/>
                </a:lnTo>
                <a:lnTo>
                  <a:pt x="3904779" y="54919"/>
                </a:lnTo>
                <a:lnTo>
                  <a:pt x="3899287" y="43936"/>
                </a:lnTo>
                <a:lnTo>
                  <a:pt x="3899287" y="38444"/>
                </a:lnTo>
                <a:lnTo>
                  <a:pt x="3888303" y="35698"/>
                </a:lnTo>
                <a:lnTo>
                  <a:pt x="3899287" y="35698"/>
                </a:lnTo>
                <a:lnTo>
                  <a:pt x="3907525" y="32952"/>
                </a:lnTo>
                <a:close/>
                <a:moveTo>
                  <a:pt x="4076085" y="31896"/>
                </a:moveTo>
                <a:lnTo>
                  <a:pt x="4075029" y="32952"/>
                </a:lnTo>
                <a:lnTo>
                  <a:pt x="4074222" y="32144"/>
                </a:lnTo>
                <a:lnTo>
                  <a:pt x="4076085" y="31896"/>
                </a:lnTo>
                <a:close/>
                <a:moveTo>
                  <a:pt x="3945968" y="30206"/>
                </a:moveTo>
                <a:lnTo>
                  <a:pt x="3948714" y="32952"/>
                </a:lnTo>
                <a:lnTo>
                  <a:pt x="3954206" y="32952"/>
                </a:lnTo>
                <a:lnTo>
                  <a:pt x="3956952" y="30206"/>
                </a:lnTo>
                <a:lnTo>
                  <a:pt x="3967936" y="30206"/>
                </a:lnTo>
                <a:lnTo>
                  <a:pt x="3962444" y="38444"/>
                </a:lnTo>
                <a:lnTo>
                  <a:pt x="3956952" y="46681"/>
                </a:lnTo>
                <a:lnTo>
                  <a:pt x="3954206" y="46681"/>
                </a:lnTo>
                <a:lnTo>
                  <a:pt x="3951460" y="46681"/>
                </a:lnTo>
                <a:lnTo>
                  <a:pt x="3948714" y="49427"/>
                </a:lnTo>
                <a:lnTo>
                  <a:pt x="3924000" y="52173"/>
                </a:lnTo>
                <a:lnTo>
                  <a:pt x="3924000" y="41190"/>
                </a:lnTo>
                <a:lnTo>
                  <a:pt x="3924000" y="38444"/>
                </a:lnTo>
                <a:lnTo>
                  <a:pt x="3918509" y="32952"/>
                </a:lnTo>
                <a:lnTo>
                  <a:pt x="3945968" y="30206"/>
                </a:lnTo>
                <a:close/>
                <a:moveTo>
                  <a:pt x="4146425" y="13730"/>
                </a:moveTo>
                <a:lnTo>
                  <a:pt x="4149171" y="21968"/>
                </a:lnTo>
                <a:lnTo>
                  <a:pt x="4094251" y="30206"/>
                </a:lnTo>
                <a:lnTo>
                  <a:pt x="4094251" y="27460"/>
                </a:lnTo>
                <a:lnTo>
                  <a:pt x="4088759" y="27460"/>
                </a:lnTo>
                <a:lnTo>
                  <a:pt x="4088759" y="30206"/>
                </a:lnTo>
                <a:lnTo>
                  <a:pt x="4076085" y="31896"/>
                </a:lnTo>
                <a:lnTo>
                  <a:pt x="4077775" y="30206"/>
                </a:lnTo>
                <a:lnTo>
                  <a:pt x="4075029" y="30206"/>
                </a:lnTo>
                <a:lnTo>
                  <a:pt x="4077775" y="27460"/>
                </a:lnTo>
                <a:lnTo>
                  <a:pt x="4075029" y="27460"/>
                </a:lnTo>
                <a:lnTo>
                  <a:pt x="4075029" y="24714"/>
                </a:lnTo>
                <a:lnTo>
                  <a:pt x="4072283" y="24714"/>
                </a:lnTo>
                <a:lnTo>
                  <a:pt x="4072283" y="27460"/>
                </a:lnTo>
                <a:lnTo>
                  <a:pt x="4069537" y="27460"/>
                </a:lnTo>
                <a:lnTo>
                  <a:pt x="4072283" y="30206"/>
                </a:lnTo>
                <a:lnTo>
                  <a:pt x="4074222" y="32144"/>
                </a:lnTo>
                <a:lnTo>
                  <a:pt x="4006380" y="41190"/>
                </a:lnTo>
                <a:lnTo>
                  <a:pt x="4003634" y="38444"/>
                </a:lnTo>
                <a:lnTo>
                  <a:pt x="4003634" y="41190"/>
                </a:lnTo>
                <a:lnTo>
                  <a:pt x="3989904" y="43936"/>
                </a:lnTo>
                <a:lnTo>
                  <a:pt x="3981666" y="38444"/>
                </a:lnTo>
                <a:lnTo>
                  <a:pt x="3976174" y="35698"/>
                </a:lnTo>
                <a:lnTo>
                  <a:pt x="3970682" y="35698"/>
                </a:lnTo>
                <a:lnTo>
                  <a:pt x="3970682" y="30206"/>
                </a:lnTo>
                <a:lnTo>
                  <a:pt x="4146425" y="13730"/>
                </a:lnTo>
                <a:close/>
                <a:moveTo>
                  <a:pt x="4228804" y="8369"/>
                </a:moveTo>
                <a:lnTo>
                  <a:pt x="4228804" y="10984"/>
                </a:lnTo>
                <a:lnTo>
                  <a:pt x="4231550" y="13730"/>
                </a:lnTo>
                <a:lnTo>
                  <a:pt x="4223312" y="13730"/>
                </a:lnTo>
                <a:lnTo>
                  <a:pt x="4217820" y="13730"/>
                </a:lnTo>
                <a:lnTo>
                  <a:pt x="4176630" y="19222"/>
                </a:lnTo>
                <a:lnTo>
                  <a:pt x="4173884" y="10984"/>
                </a:lnTo>
                <a:lnTo>
                  <a:pt x="4228804" y="8369"/>
                </a:lnTo>
                <a:close/>
                <a:moveTo>
                  <a:pt x="4228804" y="8238"/>
                </a:moveTo>
                <a:lnTo>
                  <a:pt x="4231550" y="8238"/>
                </a:lnTo>
                <a:lnTo>
                  <a:pt x="4228804" y="8369"/>
                </a:lnTo>
                <a:lnTo>
                  <a:pt x="4228804" y="8238"/>
                </a:lnTo>
                <a:close/>
                <a:moveTo>
                  <a:pt x="4278232" y="2746"/>
                </a:moveTo>
                <a:lnTo>
                  <a:pt x="4280978" y="2746"/>
                </a:lnTo>
                <a:lnTo>
                  <a:pt x="4280978" y="5492"/>
                </a:lnTo>
                <a:lnTo>
                  <a:pt x="4278232" y="5492"/>
                </a:lnTo>
                <a:lnTo>
                  <a:pt x="4278232" y="2746"/>
                </a:lnTo>
                <a:close/>
                <a:moveTo>
                  <a:pt x="4272740" y="2746"/>
                </a:moveTo>
                <a:lnTo>
                  <a:pt x="4267248" y="5492"/>
                </a:lnTo>
                <a:lnTo>
                  <a:pt x="4261756" y="8238"/>
                </a:lnTo>
                <a:lnTo>
                  <a:pt x="4264502" y="8238"/>
                </a:lnTo>
                <a:lnTo>
                  <a:pt x="4237042" y="10984"/>
                </a:lnTo>
                <a:lnTo>
                  <a:pt x="4237042" y="8238"/>
                </a:lnTo>
                <a:lnTo>
                  <a:pt x="4234296" y="8238"/>
                </a:lnTo>
                <a:lnTo>
                  <a:pt x="4253518" y="5492"/>
                </a:lnTo>
                <a:lnTo>
                  <a:pt x="4256264" y="8238"/>
                </a:lnTo>
                <a:lnTo>
                  <a:pt x="4256264" y="5492"/>
                </a:lnTo>
                <a:lnTo>
                  <a:pt x="4272740" y="2746"/>
                </a:lnTo>
                <a:close/>
                <a:moveTo>
                  <a:pt x="4330405" y="0"/>
                </a:moveTo>
                <a:lnTo>
                  <a:pt x="4286470" y="5492"/>
                </a:lnTo>
                <a:lnTo>
                  <a:pt x="4286470" y="2746"/>
                </a:lnTo>
                <a:lnTo>
                  <a:pt x="4291962" y="2746"/>
                </a:lnTo>
                <a:lnTo>
                  <a:pt x="4300199" y="2746"/>
                </a:lnTo>
                <a:lnTo>
                  <a:pt x="4330405" y="0"/>
                </a:lnTo>
                <a:close/>
              </a:path>
            </a:pathLst>
          </a:cu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5"/>
          <p:cNvSpPr/>
          <p:nvPr/>
        </p:nvSpPr>
        <p:spPr>
          <a:xfrm rot="21263400">
            <a:off x="4386240" y="1099800"/>
            <a:ext cx="395136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ernard MT Condensed"/>
                <a:ea typeface="华文隶书"/>
              </a:rPr>
              <a:t>Chapter</a:t>
            </a:r>
            <a:r>
              <a:rPr b="0" lang="zh-CN" sz="5400" spc="-1" strike="noStrike">
                <a:solidFill>
                  <a:srgbClr val="000000"/>
                </a:solidFill>
                <a:latin typeface="Bernard MT Condensed"/>
                <a:ea typeface="华文隶书"/>
              </a:rPr>
              <a:t> </a:t>
            </a:r>
            <a:r>
              <a:rPr b="0" lang="en-US" sz="11500" spc="-1" strike="noStrike">
                <a:solidFill>
                  <a:srgbClr val="000000"/>
                </a:solidFill>
                <a:latin typeface="Bernard MT Condensed"/>
                <a:ea typeface="华文隶书"/>
              </a:rPr>
              <a:t>1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6"/>
          <p:cNvSpPr/>
          <p:nvPr/>
        </p:nvSpPr>
        <p:spPr>
          <a:xfrm rot="21226800">
            <a:off x="7843680" y="1069560"/>
            <a:ext cx="228456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您的内容请写在这里您的内容请写在这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split dir="out" orient="ver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5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5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ntr" presetID="23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5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5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5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5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CB619-D89D-4B52-8BA1-54FA6093192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758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759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760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762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未知"/>
          <p:cNvSpPr/>
          <p:nvPr/>
        </p:nvSpPr>
        <p:spPr>
          <a:xfrm>
            <a:off x="3181320" y="4251240"/>
            <a:ext cx="5908680" cy="1997280"/>
          </a:xfrm>
          <a:custGeom>
            <a:avLst/>
            <a:gdLst/>
            <a:ahLst/>
            <a:rect l="l" t="t" r="r" b="b"/>
            <a:pathLst>
              <a:path w="2281" h="770">
                <a:moveTo>
                  <a:pt x="2281" y="770"/>
                </a:moveTo>
                <a:lnTo>
                  <a:pt x="1009" y="553"/>
                </a:lnTo>
                <a:lnTo>
                  <a:pt x="1406" y="464"/>
                </a:lnTo>
                <a:lnTo>
                  <a:pt x="74" y="179"/>
                </a:lnTo>
                <a:lnTo>
                  <a:pt x="0" y="7"/>
                </a:lnTo>
                <a:lnTo>
                  <a:pt x="209" y="0"/>
                </a:lnTo>
                <a:lnTo>
                  <a:pt x="1586" y="270"/>
                </a:lnTo>
                <a:lnTo>
                  <a:pt x="2260" y="210"/>
                </a:lnTo>
                <a:lnTo>
                  <a:pt x="2281" y="77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未知"/>
          <p:cNvSpPr/>
          <p:nvPr/>
        </p:nvSpPr>
        <p:spPr>
          <a:xfrm>
            <a:off x="3681360" y="1081080"/>
            <a:ext cx="5726160" cy="5178600"/>
          </a:xfrm>
          <a:custGeom>
            <a:avLst/>
            <a:gdLst/>
            <a:ahLst/>
            <a:rect l="l" t="t" r="r" b="b"/>
            <a:pathLst>
              <a:path w="2211" h="1999">
                <a:moveTo>
                  <a:pt x="1275" y="1073"/>
                </a:moveTo>
                <a:cubicBezTo>
                  <a:pt x="1212" y="914"/>
                  <a:pt x="765" y="395"/>
                  <a:pt x="563" y="244"/>
                </a:cubicBezTo>
                <a:cubicBezTo>
                  <a:pt x="351" y="72"/>
                  <a:pt x="0" y="187"/>
                  <a:pt x="65" y="164"/>
                </a:cubicBezTo>
                <a:cubicBezTo>
                  <a:pt x="130" y="141"/>
                  <a:pt x="650" y="0"/>
                  <a:pt x="952" y="109"/>
                </a:cubicBezTo>
                <a:cubicBezTo>
                  <a:pt x="1270" y="262"/>
                  <a:pt x="1876" y="816"/>
                  <a:pt x="1876" y="816"/>
                </a:cubicBezTo>
                <a:lnTo>
                  <a:pt x="2211" y="705"/>
                </a:lnTo>
                <a:lnTo>
                  <a:pt x="2107" y="1957"/>
                </a:lnTo>
                <a:lnTo>
                  <a:pt x="2102" y="1999"/>
                </a:lnTo>
                <a:lnTo>
                  <a:pt x="917" y="1221"/>
                </a:lnTo>
                <a:lnTo>
                  <a:pt x="914" y="1173"/>
                </a:lnTo>
                <a:lnTo>
                  <a:pt x="1275" y="1073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未知"/>
          <p:cNvSpPr/>
          <p:nvPr/>
        </p:nvSpPr>
        <p:spPr>
          <a:xfrm>
            <a:off x="3137040" y="1333440"/>
            <a:ext cx="1681200" cy="650880"/>
          </a:xfrm>
          <a:custGeom>
            <a:avLst/>
            <a:gdLst/>
            <a:ahLst/>
            <a:rect l="l" t="t" r="r" b="b"/>
            <a:pathLst>
              <a:path w="821" h="318">
                <a:moveTo>
                  <a:pt x="821" y="44"/>
                </a:moveTo>
                <a:cubicBezTo>
                  <a:pt x="769" y="24"/>
                  <a:pt x="540" y="0"/>
                  <a:pt x="404" y="37"/>
                </a:cubicBezTo>
                <a:cubicBezTo>
                  <a:pt x="267" y="73"/>
                  <a:pt x="68" y="215"/>
                  <a:pt x="0" y="261"/>
                </a:cubicBezTo>
                <a:lnTo>
                  <a:pt x="0" y="318"/>
                </a:lnTo>
                <a:lnTo>
                  <a:pt x="611" y="244"/>
                </a:lnTo>
                <a:lnTo>
                  <a:pt x="716" y="159"/>
                </a:lnTo>
                <a:lnTo>
                  <a:pt x="821" y="44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未知"/>
          <p:cNvSpPr/>
          <p:nvPr/>
        </p:nvSpPr>
        <p:spPr>
          <a:xfrm>
            <a:off x="3124080" y="1434960"/>
            <a:ext cx="1614600" cy="559080"/>
          </a:xfrm>
          <a:custGeom>
            <a:avLst/>
            <a:gdLst/>
            <a:ahLst/>
            <a:rect l="l" t="t" r="r" b="b"/>
            <a:pathLst>
              <a:path w="620" h="208">
                <a:moveTo>
                  <a:pt x="620" y="30"/>
                </a:moveTo>
                <a:cubicBezTo>
                  <a:pt x="582" y="15"/>
                  <a:pt x="406" y="0"/>
                  <a:pt x="303" y="29"/>
                </a:cubicBezTo>
                <a:cubicBezTo>
                  <a:pt x="200" y="58"/>
                  <a:pt x="50" y="172"/>
                  <a:pt x="0" y="202"/>
                </a:cubicBezTo>
                <a:lnTo>
                  <a:pt x="2" y="208"/>
                </a:lnTo>
                <a:lnTo>
                  <a:pt x="465" y="203"/>
                </a:lnTo>
                <a:lnTo>
                  <a:pt x="534" y="118"/>
                </a:lnTo>
                <a:lnTo>
                  <a:pt x="620" y="3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8"/>
          <p:cNvSpPr/>
          <p:nvPr/>
        </p:nvSpPr>
        <p:spPr>
          <a:xfrm>
            <a:off x="2743200" y="2009880"/>
            <a:ext cx="26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9"/>
          <p:cNvSpPr/>
          <p:nvPr/>
        </p:nvSpPr>
        <p:spPr>
          <a:xfrm>
            <a:off x="7315200" y="1349280"/>
            <a:ext cx="24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10"/>
          <p:cNvSpPr/>
          <p:nvPr/>
        </p:nvSpPr>
        <p:spPr>
          <a:xfrm>
            <a:off x="6261120" y="700200"/>
            <a:ext cx="20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11"/>
          <p:cNvSpPr/>
          <p:nvPr/>
        </p:nvSpPr>
        <p:spPr>
          <a:xfrm>
            <a:off x="8237520" y="1994040"/>
            <a:ext cx="281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12"/>
          <p:cNvSpPr/>
          <p:nvPr/>
        </p:nvSpPr>
        <p:spPr>
          <a:xfrm>
            <a:off x="2962440" y="5977080"/>
            <a:ext cx="28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13"/>
          <p:cNvSpPr/>
          <p:nvPr/>
        </p:nvSpPr>
        <p:spPr>
          <a:xfrm>
            <a:off x="2962440" y="5584680"/>
            <a:ext cx="28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未知"/>
          <p:cNvSpPr/>
          <p:nvPr/>
        </p:nvSpPr>
        <p:spPr>
          <a:xfrm>
            <a:off x="3773520" y="990720"/>
            <a:ext cx="5727600" cy="5143320"/>
          </a:xfrm>
          <a:custGeom>
            <a:avLst/>
            <a:gdLst/>
            <a:ahLst/>
            <a:rect l="l" t="t" r="r" b="b"/>
            <a:pathLst>
              <a:path w="2830" h="2542">
                <a:moveTo>
                  <a:pt x="1632" y="1374"/>
                </a:moveTo>
                <a:cubicBezTo>
                  <a:pt x="1565" y="1169"/>
                  <a:pt x="979" y="506"/>
                  <a:pt x="721" y="312"/>
                </a:cubicBezTo>
                <a:cubicBezTo>
                  <a:pt x="449" y="92"/>
                  <a:pt x="0" y="239"/>
                  <a:pt x="83" y="210"/>
                </a:cubicBezTo>
                <a:cubicBezTo>
                  <a:pt x="166" y="181"/>
                  <a:pt x="832" y="0"/>
                  <a:pt x="1218" y="139"/>
                </a:cubicBezTo>
                <a:cubicBezTo>
                  <a:pt x="1626" y="335"/>
                  <a:pt x="2401" y="1044"/>
                  <a:pt x="2401" y="1044"/>
                </a:cubicBezTo>
                <a:lnTo>
                  <a:pt x="2830" y="902"/>
                </a:lnTo>
                <a:lnTo>
                  <a:pt x="2652" y="2542"/>
                </a:lnTo>
                <a:lnTo>
                  <a:pt x="1126" y="1544"/>
                </a:lnTo>
                <a:lnTo>
                  <a:pt x="1632" y="1374"/>
                </a:lnTo>
                <a:close/>
              </a:path>
            </a:pathLst>
          </a:custGeom>
          <a:gradFill rotWithShape="0">
            <a:gsLst>
              <a:gs pos="0">
                <a:srgbClr val="ff0517"/>
              </a:gs>
              <a:gs pos="100000">
                <a:srgbClr val="bc00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Picture 14" descr="57"/>
          <p:cNvPicPr/>
          <p:nvPr/>
        </p:nvPicPr>
        <p:blipFill>
          <a:blip r:embed="rId6"/>
          <a:stretch/>
        </p:blipFill>
        <p:spPr>
          <a:xfrm>
            <a:off x="1130400" y="2685960"/>
            <a:ext cx="1735200" cy="4896000"/>
          </a:xfrm>
          <a:prstGeom prst="rect">
            <a:avLst/>
          </a:prstGeom>
          <a:ln w="0">
            <a:noFill/>
          </a:ln>
        </p:spPr>
      </p:pic>
    </p:spTree>
  </p:cSld>
  <p:transition spd="slow" advTm="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BF120-F53A-4F24-9A63-A3CA9420E15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78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79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80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82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2"/>
          <p:cNvSpPr/>
          <p:nvPr/>
        </p:nvSpPr>
        <p:spPr>
          <a:xfrm>
            <a:off x="674640" y="1181160"/>
            <a:ext cx="1960560" cy="2689200"/>
          </a:xfrm>
          <a:prstGeom prst="downArrowCallout">
            <a:avLst>
              <a:gd name="adj1" fmla="val 49894"/>
              <a:gd name="adj2" fmla="val 24944"/>
              <a:gd name="adj3" fmla="val 15240"/>
              <a:gd name="adj4" fmla="val 88880"/>
            </a:avLst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3"/>
          <p:cNvSpPr/>
          <p:nvPr/>
        </p:nvSpPr>
        <p:spPr>
          <a:xfrm>
            <a:off x="2868480" y="1181160"/>
            <a:ext cx="1960560" cy="2689200"/>
          </a:xfrm>
          <a:prstGeom prst="downArrowCallout">
            <a:avLst>
              <a:gd name="adj1" fmla="val 49894"/>
              <a:gd name="adj2" fmla="val 24944"/>
              <a:gd name="adj3" fmla="val 15240"/>
              <a:gd name="adj4" fmla="val 88880"/>
            </a:avLst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5064120" y="1181160"/>
            <a:ext cx="1959120" cy="2689200"/>
          </a:xfrm>
          <a:prstGeom prst="downArrowCallout">
            <a:avLst>
              <a:gd name="adj1" fmla="val 49894"/>
              <a:gd name="adj2" fmla="val 24944"/>
              <a:gd name="adj3" fmla="val 15258"/>
              <a:gd name="adj4" fmla="val 88880"/>
            </a:avLst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7254720" y="1181160"/>
            <a:ext cx="1960560" cy="2689200"/>
          </a:xfrm>
          <a:prstGeom prst="downArrowCallout">
            <a:avLst>
              <a:gd name="adj1" fmla="val 49894"/>
              <a:gd name="adj2" fmla="val 24944"/>
              <a:gd name="adj3" fmla="val 15240"/>
              <a:gd name="adj4" fmla="val 88880"/>
            </a:avLst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9450360" y="1181160"/>
            <a:ext cx="1960560" cy="2689200"/>
          </a:xfrm>
          <a:prstGeom prst="downArrowCallout">
            <a:avLst>
              <a:gd name="adj1" fmla="val 49894"/>
              <a:gd name="adj2" fmla="val 24944"/>
              <a:gd name="adj3" fmla="val 15240"/>
              <a:gd name="adj4" fmla="val 88880"/>
            </a:avLst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7"/>
          <p:cNvSpPr/>
          <p:nvPr/>
        </p:nvSpPr>
        <p:spPr>
          <a:xfrm>
            <a:off x="863640" y="5603760"/>
            <a:ext cx="1550880" cy="451080"/>
          </a:xfrm>
          <a:custGeom>
            <a:avLst/>
            <a:gdLst/>
            <a:ahLst/>
            <a:rect l="l" t="t" r="r" b="b"/>
            <a:pathLst>
              <a:path w="1126" h="327">
                <a:moveTo>
                  <a:pt x="563" y="0"/>
                </a:moveTo>
                <a:cubicBezTo>
                  <a:pt x="322" y="0"/>
                  <a:pt x="112" y="132"/>
                  <a:pt x="0" y="327"/>
                </a:cubicBezTo>
                <a:cubicBezTo>
                  <a:pt x="1126" y="327"/>
                  <a:pt x="1126" y="327"/>
                  <a:pt x="1126" y="327"/>
                </a:cubicBezTo>
                <a:cubicBezTo>
                  <a:pt x="1014" y="132"/>
                  <a:pt x="804" y="0"/>
                  <a:pt x="563" y="0"/>
                </a:cubicBezTo>
                <a:close/>
              </a:path>
            </a:pathLst>
          </a:custGeom>
          <a:gradFill rotWithShape="0">
            <a:gsLst>
              <a:gs pos="0">
                <a:srgbClr val="800000"/>
              </a:gs>
              <a:gs pos="100000">
                <a:srgbClr val="8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8"/>
          <p:cNvSpPr/>
          <p:nvPr/>
        </p:nvSpPr>
        <p:spPr>
          <a:xfrm>
            <a:off x="861840" y="4025880"/>
            <a:ext cx="1543320" cy="154944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80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9"/>
          <p:cNvSpPr/>
          <p:nvPr/>
        </p:nvSpPr>
        <p:spPr>
          <a:xfrm>
            <a:off x="917640" y="4067280"/>
            <a:ext cx="1428840" cy="689040"/>
          </a:xfrm>
          <a:custGeom>
            <a:avLst/>
            <a:gdLst/>
            <a:ahLst/>
            <a:rect l="l" t="t" r="r" b="b"/>
            <a:pathLst>
              <a:path w="1038" h="499">
                <a:moveTo>
                  <a:pt x="1038" y="499"/>
                </a:moveTo>
                <a:cubicBezTo>
                  <a:pt x="1037" y="223"/>
                  <a:pt x="805" y="0"/>
                  <a:pt x="519" y="0"/>
                </a:cubicBezTo>
                <a:cubicBezTo>
                  <a:pt x="233" y="0"/>
                  <a:pt x="1" y="223"/>
                  <a:pt x="0" y="499"/>
                </a:cubicBezTo>
                <a:cubicBezTo>
                  <a:pt x="132" y="413"/>
                  <a:pt x="315" y="360"/>
                  <a:pt x="519" y="360"/>
                </a:cubicBezTo>
                <a:cubicBezTo>
                  <a:pt x="723" y="360"/>
                  <a:pt x="907" y="413"/>
                  <a:pt x="1038" y="499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10"/>
          <p:cNvSpPr/>
          <p:nvPr/>
        </p:nvSpPr>
        <p:spPr>
          <a:xfrm>
            <a:off x="3084480" y="5603760"/>
            <a:ext cx="1550880" cy="451080"/>
          </a:xfrm>
          <a:custGeom>
            <a:avLst/>
            <a:gdLst/>
            <a:ahLst/>
            <a:rect l="l" t="t" r="r" b="b"/>
            <a:pathLst>
              <a:path w="1126" h="327">
                <a:moveTo>
                  <a:pt x="563" y="0"/>
                </a:moveTo>
                <a:cubicBezTo>
                  <a:pt x="322" y="0"/>
                  <a:pt x="112" y="132"/>
                  <a:pt x="0" y="327"/>
                </a:cubicBezTo>
                <a:cubicBezTo>
                  <a:pt x="1126" y="327"/>
                  <a:pt x="1126" y="327"/>
                  <a:pt x="1126" y="327"/>
                </a:cubicBezTo>
                <a:cubicBezTo>
                  <a:pt x="1014" y="132"/>
                  <a:pt x="804" y="0"/>
                  <a:pt x="563" y="0"/>
                </a:cubicBezTo>
                <a:close/>
              </a:path>
            </a:pathLst>
          </a:custGeom>
          <a:gradFill rotWithShape="0">
            <a:gsLst>
              <a:gs pos="0">
                <a:srgbClr val="800000"/>
              </a:gs>
              <a:gs pos="100000">
                <a:srgbClr val="8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11"/>
          <p:cNvSpPr/>
          <p:nvPr/>
        </p:nvSpPr>
        <p:spPr>
          <a:xfrm>
            <a:off x="3083040" y="4025880"/>
            <a:ext cx="1542960" cy="154944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80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12"/>
          <p:cNvSpPr/>
          <p:nvPr/>
        </p:nvSpPr>
        <p:spPr>
          <a:xfrm>
            <a:off x="3139920" y="4067280"/>
            <a:ext cx="1428840" cy="689040"/>
          </a:xfrm>
          <a:custGeom>
            <a:avLst/>
            <a:gdLst/>
            <a:ahLst/>
            <a:rect l="l" t="t" r="r" b="b"/>
            <a:pathLst>
              <a:path w="1038" h="499">
                <a:moveTo>
                  <a:pt x="1038" y="499"/>
                </a:moveTo>
                <a:cubicBezTo>
                  <a:pt x="1037" y="223"/>
                  <a:pt x="805" y="0"/>
                  <a:pt x="519" y="0"/>
                </a:cubicBezTo>
                <a:cubicBezTo>
                  <a:pt x="233" y="0"/>
                  <a:pt x="1" y="223"/>
                  <a:pt x="0" y="499"/>
                </a:cubicBezTo>
                <a:cubicBezTo>
                  <a:pt x="132" y="413"/>
                  <a:pt x="315" y="360"/>
                  <a:pt x="519" y="360"/>
                </a:cubicBezTo>
                <a:cubicBezTo>
                  <a:pt x="723" y="360"/>
                  <a:pt x="907" y="413"/>
                  <a:pt x="1038" y="499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13"/>
          <p:cNvSpPr/>
          <p:nvPr/>
        </p:nvSpPr>
        <p:spPr>
          <a:xfrm>
            <a:off x="5272200" y="5603760"/>
            <a:ext cx="1550880" cy="451080"/>
          </a:xfrm>
          <a:custGeom>
            <a:avLst/>
            <a:gdLst/>
            <a:ahLst/>
            <a:rect l="l" t="t" r="r" b="b"/>
            <a:pathLst>
              <a:path w="1126" h="327">
                <a:moveTo>
                  <a:pt x="563" y="0"/>
                </a:moveTo>
                <a:cubicBezTo>
                  <a:pt x="322" y="0"/>
                  <a:pt x="112" y="132"/>
                  <a:pt x="0" y="327"/>
                </a:cubicBezTo>
                <a:cubicBezTo>
                  <a:pt x="1126" y="327"/>
                  <a:pt x="1126" y="327"/>
                  <a:pt x="1126" y="327"/>
                </a:cubicBezTo>
                <a:cubicBezTo>
                  <a:pt x="1014" y="132"/>
                  <a:pt x="804" y="0"/>
                  <a:pt x="563" y="0"/>
                </a:cubicBezTo>
                <a:close/>
              </a:path>
            </a:pathLst>
          </a:custGeom>
          <a:gradFill rotWithShape="0">
            <a:gsLst>
              <a:gs pos="0">
                <a:srgbClr val="800000"/>
              </a:gs>
              <a:gs pos="100000">
                <a:srgbClr val="8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14"/>
          <p:cNvSpPr/>
          <p:nvPr/>
        </p:nvSpPr>
        <p:spPr>
          <a:xfrm>
            <a:off x="5270400" y="4025880"/>
            <a:ext cx="1543320" cy="154944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80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5"/>
          <p:cNvSpPr/>
          <p:nvPr/>
        </p:nvSpPr>
        <p:spPr>
          <a:xfrm>
            <a:off x="5326200" y="4067280"/>
            <a:ext cx="1428480" cy="689040"/>
          </a:xfrm>
          <a:custGeom>
            <a:avLst/>
            <a:gdLst/>
            <a:ahLst/>
            <a:rect l="l" t="t" r="r" b="b"/>
            <a:pathLst>
              <a:path w="1038" h="499">
                <a:moveTo>
                  <a:pt x="1038" y="499"/>
                </a:moveTo>
                <a:cubicBezTo>
                  <a:pt x="1037" y="223"/>
                  <a:pt x="805" y="0"/>
                  <a:pt x="519" y="0"/>
                </a:cubicBezTo>
                <a:cubicBezTo>
                  <a:pt x="233" y="0"/>
                  <a:pt x="1" y="223"/>
                  <a:pt x="0" y="499"/>
                </a:cubicBezTo>
                <a:cubicBezTo>
                  <a:pt x="132" y="413"/>
                  <a:pt x="315" y="360"/>
                  <a:pt x="519" y="360"/>
                </a:cubicBezTo>
                <a:cubicBezTo>
                  <a:pt x="723" y="360"/>
                  <a:pt x="907" y="413"/>
                  <a:pt x="1038" y="499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6"/>
          <p:cNvSpPr/>
          <p:nvPr/>
        </p:nvSpPr>
        <p:spPr>
          <a:xfrm>
            <a:off x="7462800" y="5603760"/>
            <a:ext cx="1550880" cy="451080"/>
          </a:xfrm>
          <a:custGeom>
            <a:avLst/>
            <a:gdLst/>
            <a:ahLst/>
            <a:rect l="l" t="t" r="r" b="b"/>
            <a:pathLst>
              <a:path w="1126" h="327">
                <a:moveTo>
                  <a:pt x="563" y="0"/>
                </a:moveTo>
                <a:cubicBezTo>
                  <a:pt x="322" y="0"/>
                  <a:pt x="112" y="132"/>
                  <a:pt x="0" y="327"/>
                </a:cubicBezTo>
                <a:cubicBezTo>
                  <a:pt x="1126" y="327"/>
                  <a:pt x="1126" y="327"/>
                  <a:pt x="1126" y="327"/>
                </a:cubicBezTo>
                <a:cubicBezTo>
                  <a:pt x="1014" y="132"/>
                  <a:pt x="804" y="0"/>
                  <a:pt x="563" y="0"/>
                </a:cubicBezTo>
                <a:close/>
              </a:path>
            </a:pathLst>
          </a:custGeom>
          <a:gradFill rotWithShape="0">
            <a:gsLst>
              <a:gs pos="0">
                <a:srgbClr val="800000"/>
              </a:gs>
              <a:gs pos="100000">
                <a:srgbClr val="8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7"/>
          <p:cNvSpPr/>
          <p:nvPr/>
        </p:nvSpPr>
        <p:spPr>
          <a:xfrm>
            <a:off x="7461360" y="4025880"/>
            <a:ext cx="1542960" cy="154944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80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18"/>
          <p:cNvSpPr/>
          <p:nvPr/>
        </p:nvSpPr>
        <p:spPr>
          <a:xfrm>
            <a:off x="7516800" y="4067280"/>
            <a:ext cx="1428840" cy="689040"/>
          </a:xfrm>
          <a:custGeom>
            <a:avLst/>
            <a:gdLst/>
            <a:ahLst/>
            <a:rect l="l" t="t" r="r" b="b"/>
            <a:pathLst>
              <a:path w="1038" h="499">
                <a:moveTo>
                  <a:pt x="1038" y="499"/>
                </a:moveTo>
                <a:cubicBezTo>
                  <a:pt x="1037" y="223"/>
                  <a:pt x="805" y="0"/>
                  <a:pt x="519" y="0"/>
                </a:cubicBezTo>
                <a:cubicBezTo>
                  <a:pt x="233" y="0"/>
                  <a:pt x="1" y="223"/>
                  <a:pt x="0" y="499"/>
                </a:cubicBezTo>
                <a:cubicBezTo>
                  <a:pt x="132" y="413"/>
                  <a:pt x="315" y="360"/>
                  <a:pt x="519" y="360"/>
                </a:cubicBezTo>
                <a:cubicBezTo>
                  <a:pt x="723" y="360"/>
                  <a:pt x="907" y="413"/>
                  <a:pt x="1038" y="499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20"/>
          <p:cNvSpPr/>
          <p:nvPr/>
        </p:nvSpPr>
        <p:spPr>
          <a:xfrm>
            <a:off x="9629640" y="5603760"/>
            <a:ext cx="1551240" cy="451080"/>
          </a:xfrm>
          <a:custGeom>
            <a:avLst/>
            <a:gdLst/>
            <a:ahLst/>
            <a:rect l="l" t="t" r="r" b="b"/>
            <a:pathLst>
              <a:path w="1126" h="327">
                <a:moveTo>
                  <a:pt x="563" y="0"/>
                </a:moveTo>
                <a:cubicBezTo>
                  <a:pt x="322" y="0"/>
                  <a:pt x="112" y="132"/>
                  <a:pt x="0" y="327"/>
                </a:cubicBezTo>
                <a:cubicBezTo>
                  <a:pt x="1126" y="327"/>
                  <a:pt x="1126" y="327"/>
                  <a:pt x="1126" y="327"/>
                </a:cubicBezTo>
                <a:cubicBezTo>
                  <a:pt x="1014" y="132"/>
                  <a:pt x="804" y="0"/>
                  <a:pt x="563" y="0"/>
                </a:cubicBezTo>
                <a:close/>
              </a:path>
            </a:pathLst>
          </a:custGeom>
          <a:gradFill rotWithShape="0">
            <a:gsLst>
              <a:gs pos="0">
                <a:srgbClr val="800000"/>
              </a:gs>
              <a:gs pos="100000">
                <a:srgbClr val="8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21"/>
          <p:cNvSpPr/>
          <p:nvPr/>
        </p:nvSpPr>
        <p:spPr>
          <a:xfrm>
            <a:off x="9628200" y="4025880"/>
            <a:ext cx="1542960" cy="154944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80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22"/>
          <p:cNvSpPr/>
          <p:nvPr/>
        </p:nvSpPr>
        <p:spPr>
          <a:xfrm>
            <a:off x="9683640" y="4067280"/>
            <a:ext cx="1428840" cy="689040"/>
          </a:xfrm>
          <a:custGeom>
            <a:avLst/>
            <a:gdLst/>
            <a:ahLst/>
            <a:rect l="l" t="t" r="r" b="b"/>
            <a:pathLst>
              <a:path w="1038" h="499">
                <a:moveTo>
                  <a:pt x="1038" y="499"/>
                </a:moveTo>
                <a:cubicBezTo>
                  <a:pt x="1037" y="223"/>
                  <a:pt x="805" y="0"/>
                  <a:pt x="519" y="0"/>
                </a:cubicBezTo>
                <a:cubicBezTo>
                  <a:pt x="233" y="0"/>
                  <a:pt x="1" y="223"/>
                  <a:pt x="0" y="499"/>
                </a:cubicBezTo>
                <a:cubicBezTo>
                  <a:pt x="132" y="413"/>
                  <a:pt x="315" y="360"/>
                  <a:pt x="519" y="360"/>
                </a:cubicBezTo>
                <a:cubicBezTo>
                  <a:pt x="723" y="360"/>
                  <a:pt x="907" y="413"/>
                  <a:pt x="1038" y="499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4"/>
          <p:cNvSpPr/>
          <p:nvPr/>
        </p:nvSpPr>
        <p:spPr>
          <a:xfrm>
            <a:off x="1250640" y="4525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5"/>
          <p:cNvSpPr/>
          <p:nvPr/>
        </p:nvSpPr>
        <p:spPr>
          <a:xfrm>
            <a:off x="3478680" y="4525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6"/>
          <p:cNvSpPr/>
          <p:nvPr/>
        </p:nvSpPr>
        <p:spPr>
          <a:xfrm>
            <a:off x="5679720" y="4525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7"/>
          <p:cNvSpPr/>
          <p:nvPr/>
        </p:nvSpPr>
        <p:spPr>
          <a:xfrm>
            <a:off x="7856280" y="4525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8"/>
          <p:cNvSpPr/>
          <p:nvPr/>
        </p:nvSpPr>
        <p:spPr>
          <a:xfrm>
            <a:off x="10045440" y="4525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A33A1-C1AB-422A-B7DB-D775E7D5906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113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115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2"/>
          <p:cNvSpPr/>
          <p:nvPr/>
        </p:nvSpPr>
        <p:spPr>
          <a:xfrm>
            <a:off x="5938920" y="2225520"/>
            <a:ext cx="871560" cy="596880"/>
          </a:xfrm>
          <a:custGeom>
            <a:avLst/>
            <a:gdLst/>
            <a:ahLst/>
            <a:rect l="l" t="t" r="r" b="b"/>
            <a:pathLst>
              <a:path w="481" h="330">
                <a:moveTo>
                  <a:pt x="78" y="278"/>
                </a:moveTo>
                <a:cubicBezTo>
                  <a:pt x="81" y="278"/>
                  <a:pt x="84" y="278"/>
                  <a:pt x="87" y="277"/>
                </a:cubicBezTo>
                <a:cubicBezTo>
                  <a:pt x="93" y="277"/>
                  <a:pt x="99" y="277"/>
                  <a:pt x="106" y="277"/>
                </a:cubicBezTo>
                <a:cubicBezTo>
                  <a:pt x="107" y="277"/>
                  <a:pt x="107" y="277"/>
                  <a:pt x="107" y="277"/>
                </a:cubicBezTo>
                <a:cubicBezTo>
                  <a:pt x="113" y="277"/>
                  <a:pt x="120" y="277"/>
                  <a:pt x="127" y="277"/>
                </a:cubicBezTo>
                <a:cubicBezTo>
                  <a:pt x="130" y="276"/>
                  <a:pt x="134" y="276"/>
                  <a:pt x="137" y="276"/>
                </a:cubicBezTo>
                <a:cubicBezTo>
                  <a:pt x="138" y="276"/>
                  <a:pt x="138" y="276"/>
                  <a:pt x="138" y="276"/>
                </a:cubicBezTo>
                <a:cubicBezTo>
                  <a:pt x="141" y="276"/>
                  <a:pt x="144" y="276"/>
                  <a:pt x="147" y="276"/>
                </a:cubicBezTo>
                <a:cubicBezTo>
                  <a:pt x="148" y="276"/>
                  <a:pt x="148" y="276"/>
                  <a:pt x="148" y="276"/>
                </a:cubicBezTo>
                <a:cubicBezTo>
                  <a:pt x="149" y="276"/>
                  <a:pt x="151" y="276"/>
                  <a:pt x="152" y="277"/>
                </a:cubicBezTo>
                <a:cubicBezTo>
                  <a:pt x="153" y="277"/>
                  <a:pt x="153" y="277"/>
                  <a:pt x="153" y="277"/>
                </a:cubicBezTo>
                <a:cubicBezTo>
                  <a:pt x="154" y="277"/>
                  <a:pt x="156" y="277"/>
                  <a:pt x="157" y="277"/>
                </a:cubicBezTo>
                <a:cubicBezTo>
                  <a:pt x="157" y="277"/>
                  <a:pt x="157" y="277"/>
                  <a:pt x="157" y="277"/>
                </a:cubicBezTo>
                <a:cubicBezTo>
                  <a:pt x="159" y="277"/>
                  <a:pt x="160" y="277"/>
                  <a:pt x="161" y="277"/>
                </a:cubicBezTo>
                <a:cubicBezTo>
                  <a:pt x="162" y="277"/>
                  <a:pt x="162" y="277"/>
                  <a:pt x="162" y="277"/>
                </a:cubicBezTo>
                <a:cubicBezTo>
                  <a:pt x="163" y="277"/>
                  <a:pt x="164" y="277"/>
                  <a:pt x="166" y="277"/>
                </a:cubicBezTo>
                <a:cubicBezTo>
                  <a:pt x="166" y="277"/>
                  <a:pt x="166" y="277"/>
                  <a:pt x="166" y="277"/>
                </a:cubicBezTo>
                <a:cubicBezTo>
                  <a:pt x="167" y="277"/>
                  <a:pt x="168" y="277"/>
                  <a:pt x="170" y="277"/>
                </a:cubicBezTo>
                <a:cubicBezTo>
                  <a:pt x="170" y="277"/>
                  <a:pt x="170" y="277"/>
                  <a:pt x="170" y="277"/>
                </a:cubicBezTo>
                <a:cubicBezTo>
                  <a:pt x="171" y="277"/>
                  <a:pt x="172" y="277"/>
                  <a:pt x="173" y="278"/>
                </a:cubicBezTo>
                <a:cubicBezTo>
                  <a:pt x="173" y="278"/>
                  <a:pt x="173" y="278"/>
                  <a:pt x="173" y="278"/>
                </a:cubicBezTo>
                <a:cubicBezTo>
                  <a:pt x="173" y="278"/>
                  <a:pt x="173" y="278"/>
                  <a:pt x="173" y="278"/>
                </a:cubicBezTo>
                <a:cubicBezTo>
                  <a:pt x="175" y="278"/>
                  <a:pt x="176" y="278"/>
                  <a:pt x="177" y="278"/>
                </a:cubicBezTo>
                <a:cubicBezTo>
                  <a:pt x="177" y="288"/>
                  <a:pt x="177" y="297"/>
                  <a:pt x="177" y="307"/>
                </a:cubicBezTo>
                <a:cubicBezTo>
                  <a:pt x="177" y="308"/>
                  <a:pt x="177" y="308"/>
                  <a:pt x="178" y="309"/>
                </a:cubicBezTo>
                <a:cubicBezTo>
                  <a:pt x="178" y="310"/>
                  <a:pt x="178" y="310"/>
                  <a:pt x="178" y="310"/>
                </a:cubicBezTo>
                <a:cubicBezTo>
                  <a:pt x="178" y="310"/>
                  <a:pt x="178" y="311"/>
                  <a:pt x="178" y="311"/>
                </a:cubicBezTo>
                <a:cubicBezTo>
                  <a:pt x="178" y="312"/>
                  <a:pt x="178" y="312"/>
                  <a:pt x="178" y="312"/>
                </a:cubicBezTo>
                <a:cubicBezTo>
                  <a:pt x="179" y="312"/>
                  <a:pt x="179" y="312"/>
                  <a:pt x="179" y="312"/>
                </a:cubicBezTo>
                <a:cubicBezTo>
                  <a:pt x="179" y="313"/>
                  <a:pt x="179" y="313"/>
                  <a:pt x="179" y="313"/>
                </a:cubicBezTo>
                <a:cubicBezTo>
                  <a:pt x="179" y="313"/>
                  <a:pt x="180" y="314"/>
                  <a:pt x="180" y="314"/>
                </a:cubicBezTo>
                <a:cubicBezTo>
                  <a:pt x="181" y="315"/>
                  <a:pt x="181" y="315"/>
                  <a:pt x="181" y="315"/>
                </a:cubicBezTo>
                <a:cubicBezTo>
                  <a:pt x="181" y="316"/>
                  <a:pt x="181" y="316"/>
                  <a:pt x="181" y="316"/>
                </a:cubicBezTo>
                <a:cubicBezTo>
                  <a:pt x="182" y="316"/>
                  <a:pt x="182" y="316"/>
                  <a:pt x="182" y="316"/>
                </a:cubicBezTo>
                <a:cubicBezTo>
                  <a:pt x="182" y="317"/>
                  <a:pt x="182" y="317"/>
                  <a:pt x="182" y="317"/>
                </a:cubicBezTo>
                <a:cubicBezTo>
                  <a:pt x="183" y="317"/>
                  <a:pt x="183" y="317"/>
                  <a:pt x="183" y="317"/>
                </a:cubicBezTo>
                <a:cubicBezTo>
                  <a:pt x="184" y="318"/>
                  <a:pt x="184" y="318"/>
                  <a:pt x="185" y="319"/>
                </a:cubicBezTo>
                <a:cubicBezTo>
                  <a:pt x="185" y="319"/>
                  <a:pt x="186" y="319"/>
                  <a:pt x="186" y="320"/>
                </a:cubicBezTo>
                <a:cubicBezTo>
                  <a:pt x="187" y="320"/>
                  <a:pt x="187" y="320"/>
                  <a:pt x="187" y="320"/>
                </a:cubicBezTo>
                <a:cubicBezTo>
                  <a:pt x="187" y="320"/>
                  <a:pt x="188" y="321"/>
                  <a:pt x="188" y="321"/>
                </a:cubicBezTo>
                <a:cubicBezTo>
                  <a:pt x="189" y="321"/>
                  <a:pt x="189" y="321"/>
                  <a:pt x="189" y="321"/>
                </a:cubicBezTo>
                <a:cubicBezTo>
                  <a:pt x="191" y="322"/>
                  <a:pt x="191" y="322"/>
                  <a:pt x="191" y="322"/>
                </a:cubicBezTo>
                <a:cubicBezTo>
                  <a:pt x="191" y="322"/>
                  <a:pt x="191" y="322"/>
                  <a:pt x="191" y="322"/>
                </a:cubicBezTo>
                <a:cubicBezTo>
                  <a:pt x="192" y="323"/>
                  <a:pt x="194" y="323"/>
                  <a:pt x="195" y="324"/>
                </a:cubicBezTo>
                <a:cubicBezTo>
                  <a:pt x="196" y="324"/>
                  <a:pt x="196" y="324"/>
                  <a:pt x="196" y="324"/>
                </a:cubicBezTo>
                <a:cubicBezTo>
                  <a:pt x="196" y="324"/>
                  <a:pt x="196" y="324"/>
                  <a:pt x="196" y="324"/>
                </a:cubicBezTo>
                <a:cubicBezTo>
                  <a:pt x="197" y="324"/>
                  <a:pt x="197" y="324"/>
                  <a:pt x="197" y="324"/>
                </a:cubicBezTo>
                <a:cubicBezTo>
                  <a:pt x="198" y="324"/>
                  <a:pt x="198" y="324"/>
                  <a:pt x="198" y="324"/>
                </a:cubicBezTo>
                <a:cubicBezTo>
                  <a:pt x="199" y="325"/>
                  <a:pt x="199" y="325"/>
                  <a:pt x="199" y="325"/>
                </a:cubicBezTo>
                <a:cubicBezTo>
                  <a:pt x="199" y="325"/>
                  <a:pt x="199" y="325"/>
                  <a:pt x="199" y="325"/>
                </a:cubicBezTo>
                <a:cubicBezTo>
                  <a:pt x="200" y="325"/>
                  <a:pt x="200" y="325"/>
                  <a:pt x="200" y="325"/>
                </a:cubicBezTo>
                <a:cubicBezTo>
                  <a:pt x="200" y="325"/>
                  <a:pt x="200" y="325"/>
                  <a:pt x="200" y="325"/>
                </a:cubicBezTo>
                <a:cubicBezTo>
                  <a:pt x="200" y="325"/>
                  <a:pt x="200" y="325"/>
                  <a:pt x="200" y="325"/>
                </a:cubicBezTo>
                <a:cubicBezTo>
                  <a:pt x="201" y="325"/>
                  <a:pt x="201" y="325"/>
                  <a:pt x="201" y="325"/>
                </a:cubicBezTo>
                <a:cubicBezTo>
                  <a:pt x="202" y="325"/>
                  <a:pt x="202" y="325"/>
                  <a:pt x="202" y="325"/>
                </a:cubicBezTo>
                <a:cubicBezTo>
                  <a:pt x="203" y="325"/>
                  <a:pt x="203" y="325"/>
                  <a:pt x="203" y="325"/>
                </a:cubicBezTo>
                <a:cubicBezTo>
                  <a:pt x="204" y="326"/>
                  <a:pt x="204" y="326"/>
                  <a:pt x="204" y="326"/>
                </a:cubicBezTo>
                <a:cubicBezTo>
                  <a:pt x="204" y="326"/>
                  <a:pt x="205" y="326"/>
                  <a:pt x="205" y="326"/>
                </a:cubicBezTo>
                <a:cubicBezTo>
                  <a:pt x="205" y="326"/>
                  <a:pt x="206" y="326"/>
                  <a:pt x="206" y="326"/>
                </a:cubicBezTo>
                <a:cubicBezTo>
                  <a:pt x="206" y="326"/>
                  <a:pt x="206" y="326"/>
                  <a:pt x="206" y="326"/>
                </a:cubicBezTo>
                <a:cubicBezTo>
                  <a:pt x="207" y="326"/>
                  <a:pt x="207" y="326"/>
                  <a:pt x="207" y="326"/>
                </a:cubicBezTo>
                <a:cubicBezTo>
                  <a:pt x="207" y="326"/>
                  <a:pt x="208" y="326"/>
                  <a:pt x="208" y="326"/>
                </a:cubicBezTo>
                <a:cubicBezTo>
                  <a:pt x="209" y="327"/>
                  <a:pt x="209" y="327"/>
                  <a:pt x="210" y="327"/>
                </a:cubicBezTo>
                <a:cubicBezTo>
                  <a:pt x="210" y="327"/>
                  <a:pt x="211" y="327"/>
                  <a:pt x="211" y="327"/>
                </a:cubicBezTo>
                <a:cubicBezTo>
                  <a:pt x="212" y="327"/>
                  <a:pt x="212" y="327"/>
                  <a:pt x="213" y="327"/>
                </a:cubicBezTo>
                <a:cubicBezTo>
                  <a:pt x="213" y="327"/>
                  <a:pt x="214" y="327"/>
                  <a:pt x="214" y="327"/>
                </a:cubicBezTo>
                <a:cubicBezTo>
                  <a:pt x="215" y="328"/>
                  <a:pt x="215" y="328"/>
                  <a:pt x="216" y="328"/>
                </a:cubicBezTo>
                <a:cubicBezTo>
                  <a:pt x="216" y="328"/>
                  <a:pt x="217" y="328"/>
                  <a:pt x="218" y="328"/>
                </a:cubicBezTo>
                <a:cubicBezTo>
                  <a:pt x="218" y="328"/>
                  <a:pt x="219" y="328"/>
                  <a:pt x="219" y="328"/>
                </a:cubicBezTo>
                <a:cubicBezTo>
                  <a:pt x="220" y="328"/>
                  <a:pt x="220" y="328"/>
                  <a:pt x="220" y="328"/>
                </a:cubicBezTo>
                <a:cubicBezTo>
                  <a:pt x="220" y="328"/>
                  <a:pt x="220" y="328"/>
                  <a:pt x="220" y="328"/>
                </a:cubicBezTo>
                <a:cubicBezTo>
                  <a:pt x="220" y="328"/>
                  <a:pt x="221" y="328"/>
                  <a:pt x="221" y="328"/>
                </a:cubicBezTo>
                <a:cubicBezTo>
                  <a:pt x="221" y="328"/>
                  <a:pt x="222" y="328"/>
                  <a:pt x="223" y="329"/>
                </a:cubicBezTo>
                <a:cubicBezTo>
                  <a:pt x="223" y="329"/>
                  <a:pt x="224" y="329"/>
                  <a:pt x="224" y="329"/>
                </a:cubicBezTo>
                <a:cubicBezTo>
                  <a:pt x="225" y="329"/>
                  <a:pt x="225" y="329"/>
                  <a:pt x="226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8" y="329"/>
                  <a:pt x="228" y="329"/>
                  <a:pt x="228" y="329"/>
                </a:cubicBezTo>
                <a:cubicBezTo>
                  <a:pt x="228" y="329"/>
                  <a:pt x="229" y="329"/>
                  <a:pt x="229" y="329"/>
                </a:cubicBezTo>
                <a:cubicBezTo>
                  <a:pt x="230" y="329"/>
                  <a:pt x="230" y="329"/>
                  <a:pt x="231" y="329"/>
                </a:cubicBezTo>
                <a:cubicBezTo>
                  <a:pt x="232" y="329"/>
                  <a:pt x="232" y="329"/>
                  <a:pt x="233" y="329"/>
                </a:cubicBezTo>
                <a:cubicBezTo>
                  <a:pt x="233" y="329"/>
                  <a:pt x="234" y="330"/>
                  <a:pt x="234" y="330"/>
                </a:cubicBezTo>
                <a:cubicBezTo>
                  <a:pt x="235" y="330"/>
                  <a:pt x="235" y="330"/>
                  <a:pt x="236" y="330"/>
                </a:cubicBezTo>
                <a:cubicBezTo>
                  <a:pt x="237" y="330"/>
                  <a:pt x="237" y="330"/>
                  <a:pt x="238" y="330"/>
                </a:cubicBezTo>
                <a:cubicBezTo>
                  <a:pt x="238" y="330"/>
                  <a:pt x="239" y="330"/>
                  <a:pt x="239" y="330"/>
                </a:cubicBezTo>
                <a:cubicBezTo>
                  <a:pt x="240" y="330"/>
                  <a:pt x="240" y="330"/>
                  <a:pt x="241" y="330"/>
                </a:cubicBezTo>
                <a:cubicBezTo>
                  <a:pt x="241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3" y="330"/>
                  <a:pt x="243" y="330"/>
                  <a:pt x="243" y="330"/>
                </a:cubicBezTo>
                <a:cubicBezTo>
                  <a:pt x="243" y="330"/>
                  <a:pt x="244" y="330"/>
                  <a:pt x="244" y="330"/>
                </a:cubicBezTo>
                <a:cubicBezTo>
                  <a:pt x="245" y="330"/>
                  <a:pt x="245" y="330"/>
                  <a:pt x="246" y="330"/>
                </a:cubicBezTo>
                <a:cubicBezTo>
                  <a:pt x="246" y="330"/>
                  <a:pt x="247" y="330"/>
                  <a:pt x="247" y="330"/>
                </a:cubicBezTo>
                <a:cubicBezTo>
                  <a:pt x="248" y="330"/>
                  <a:pt x="248" y="330"/>
                  <a:pt x="249" y="330"/>
                </a:cubicBezTo>
                <a:cubicBezTo>
                  <a:pt x="249" y="330"/>
                  <a:pt x="250" y="330"/>
                  <a:pt x="250" y="330"/>
                </a:cubicBezTo>
                <a:cubicBezTo>
                  <a:pt x="250" y="330"/>
                  <a:pt x="250" y="330"/>
                  <a:pt x="250" y="330"/>
                </a:cubicBezTo>
                <a:cubicBezTo>
                  <a:pt x="250" y="330"/>
                  <a:pt x="250" y="330"/>
                  <a:pt x="250" y="330"/>
                </a:cubicBezTo>
                <a:cubicBezTo>
                  <a:pt x="251" y="330"/>
                  <a:pt x="251" y="330"/>
                  <a:pt x="252" y="330"/>
                </a:cubicBezTo>
                <a:cubicBezTo>
                  <a:pt x="252" y="330"/>
                  <a:pt x="253" y="330"/>
                  <a:pt x="253" y="330"/>
                </a:cubicBezTo>
                <a:cubicBezTo>
                  <a:pt x="254" y="330"/>
                  <a:pt x="254" y="330"/>
                  <a:pt x="255" y="330"/>
                </a:cubicBezTo>
                <a:cubicBezTo>
                  <a:pt x="255" y="330"/>
                  <a:pt x="255" y="330"/>
                  <a:pt x="255" y="330"/>
                </a:cubicBezTo>
                <a:cubicBezTo>
                  <a:pt x="256" y="330"/>
                  <a:pt x="256" y="330"/>
                  <a:pt x="256" y="330"/>
                </a:cubicBezTo>
                <a:cubicBezTo>
                  <a:pt x="257" y="330"/>
                  <a:pt x="257" y="330"/>
                  <a:pt x="257" y="330"/>
                </a:cubicBezTo>
                <a:cubicBezTo>
                  <a:pt x="258" y="330"/>
                  <a:pt x="258" y="330"/>
                  <a:pt x="258" y="330"/>
                </a:cubicBezTo>
                <a:cubicBezTo>
                  <a:pt x="258" y="330"/>
                  <a:pt x="258" y="330"/>
                  <a:pt x="258" y="330"/>
                </a:cubicBezTo>
                <a:cubicBezTo>
                  <a:pt x="259" y="330"/>
                  <a:pt x="259" y="330"/>
                  <a:pt x="259" y="330"/>
                </a:cubicBezTo>
                <a:cubicBezTo>
                  <a:pt x="260" y="330"/>
                  <a:pt x="260" y="330"/>
                  <a:pt x="260" y="330"/>
                </a:cubicBezTo>
                <a:cubicBezTo>
                  <a:pt x="260" y="330"/>
                  <a:pt x="260" y="330"/>
                  <a:pt x="260" y="330"/>
                </a:cubicBezTo>
                <a:cubicBezTo>
                  <a:pt x="261" y="330"/>
                  <a:pt x="261" y="330"/>
                  <a:pt x="261" y="330"/>
                </a:cubicBezTo>
                <a:cubicBezTo>
                  <a:pt x="262" y="330"/>
                  <a:pt x="262" y="330"/>
                  <a:pt x="263" y="330"/>
                </a:cubicBezTo>
                <a:cubicBezTo>
                  <a:pt x="263" y="330"/>
                  <a:pt x="264" y="330"/>
                  <a:pt x="264" y="330"/>
                </a:cubicBezTo>
                <a:cubicBezTo>
                  <a:pt x="264" y="330"/>
                  <a:pt x="265" y="330"/>
                  <a:pt x="265" y="330"/>
                </a:cubicBezTo>
                <a:cubicBezTo>
                  <a:pt x="266" y="330"/>
                  <a:pt x="266" y="330"/>
                  <a:pt x="267" y="330"/>
                </a:cubicBezTo>
                <a:cubicBezTo>
                  <a:pt x="267" y="330"/>
                  <a:pt x="267" y="330"/>
                  <a:pt x="268" y="330"/>
                </a:cubicBezTo>
                <a:cubicBezTo>
                  <a:pt x="268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70" y="330"/>
                  <a:pt x="270" y="330"/>
                  <a:pt x="270" y="330"/>
                </a:cubicBezTo>
                <a:cubicBezTo>
                  <a:pt x="271" y="330"/>
                  <a:pt x="271" y="330"/>
                  <a:pt x="272" y="330"/>
                </a:cubicBezTo>
                <a:cubicBezTo>
                  <a:pt x="272" y="330"/>
                  <a:pt x="273" y="330"/>
                  <a:pt x="273" y="330"/>
                </a:cubicBezTo>
                <a:cubicBezTo>
                  <a:pt x="274" y="330"/>
                  <a:pt x="274" y="329"/>
                  <a:pt x="274" y="329"/>
                </a:cubicBezTo>
                <a:cubicBezTo>
                  <a:pt x="274" y="329"/>
                  <a:pt x="274" y="329"/>
                  <a:pt x="274" y="329"/>
                </a:cubicBezTo>
                <a:cubicBezTo>
                  <a:pt x="274" y="329"/>
                  <a:pt x="274" y="329"/>
                  <a:pt x="274" y="329"/>
                </a:cubicBezTo>
                <a:cubicBezTo>
                  <a:pt x="275" y="329"/>
                  <a:pt x="275" y="329"/>
                  <a:pt x="276" y="329"/>
                </a:cubicBezTo>
                <a:cubicBezTo>
                  <a:pt x="276" y="329"/>
                  <a:pt x="277" y="329"/>
                  <a:pt x="277" y="329"/>
                </a:cubicBezTo>
                <a:cubicBezTo>
                  <a:pt x="278" y="329"/>
                  <a:pt x="279" y="329"/>
                  <a:pt x="279" y="329"/>
                </a:cubicBezTo>
                <a:cubicBezTo>
                  <a:pt x="279" y="329"/>
                  <a:pt x="279" y="329"/>
                  <a:pt x="279" y="329"/>
                </a:cubicBezTo>
                <a:cubicBezTo>
                  <a:pt x="280" y="329"/>
                  <a:pt x="280" y="329"/>
                  <a:pt x="280" y="329"/>
                </a:cubicBezTo>
                <a:cubicBezTo>
                  <a:pt x="280" y="329"/>
                  <a:pt x="280" y="329"/>
                  <a:pt x="280" y="329"/>
                </a:cubicBezTo>
                <a:cubicBezTo>
                  <a:pt x="281" y="329"/>
                  <a:pt x="281" y="329"/>
                  <a:pt x="281" y="329"/>
                </a:cubicBezTo>
                <a:cubicBezTo>
                  <a:pt x="281" y="329"/>
                  <a:pt x="282" y="329"/>
                  <a:pt x="282" y="328"/>
                </a:cubicBezTo>
                <a:cubicBezTo>
                  <a:pt x="283" y="328"/>
                  <a:pt x="283" y="328"/>
                  <a:pt x="284" y="328"/>
                </a:cubicBezTo>
                <a:cubicBezTo>
                  <a:pt x="284" y="328"/>
                  <a:pt x="285" y="328"/>
                  <a:pt x="285" y="328"/>
                </a:cubicBezTo>
                <a:cubicBezTo>
                  <a:pt x="286" y="328"/>
                  <a:pt x="286" y="328"/>
                  <a:pt x="286" y="328"/>
                </a:cubicBezTo>
                <a:cubicBezTo>
                  <a:pt x="287" y="328"/>
                  <a:pt x="288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90" y="327"/>
                  <a:pt x="291" y="327"/>
                  <a:pt x="293" y="326"/>
                </a:cubicBezTo>
                <a:cubicBezTo>
                  <a:pt x="293" y="326"/>
                  <a:pt x="293" y="326"/>
                  <a:pt x="293" y="326"/>
                </a:cubicBezTo>
                <a:cubicBezTo>
                  <a:pt x="293" y="326"/>
                  <a:pt x="294" y="326"/>
                  <a:pt x="294" y="326"/>
                </a:cubicBezTo>
                <a:cubicBezTo>
                  <a:pt x="295" y="326"/>
                  <a:pt x="295" y="326"/>
                  <a:pt x="296" y="326"/>
                </a:cubicBezTo>
                <a:cubicBezTo>
                  <a:pt x="296" y="325"/>
                  <a:pt x="296" y="325"/>
                  <a:pt x="296" y="325"/>
                </a:cubicBezTo>
                <a:cubicBezTo>
                  <a:pt x="297" y="325"/>
                  <a:pt x="297" y="325"/>
                  <a:pt x="297" y="325"/>
                </a:cubicBezTo>
                <a:cubicBezTo>
                  <a:pt x="297" y="325"/>
                  <a:pt x="297" y="325"/>
                  <a:pt x="297" y="325"/>
                </a:cubicBezTo>
                <a:cubicBezTo>
                  <a:pt x="297" y="325"/>
                  <a:pt x="297" y="325"/>
                  <a:pt x="297" y="325"/>
                </a:cubicBezTo>
                <a:cubicBezTo>
                  <a:pt x="299" y="324"/>
                  <a:pt x="300" y="324"/>
                  <a:pt x="301" y="324"/>
                </a:cubicBezTo>
                <a:cubicBezTo>
                  <a:pt x="301" y="323"/>
                  <a:pt x="302" y="323"/>
                  <a:pt x="303" y="323"/>
                </a:cubicBezTo>
                <a:cubicBezTo>
                  <a:pt x="303" y="323"/>
                  <a:pt x="303" y="323"/>
                  <a:pt x="303" y="323"/>
                </a:cubicBezTo>
                <a:cubicBezTo>
                  <a:pt x="304" y="323"/>
                  <a:pt x="304" y="323"/>
                  <a:pt x="304" y="323"/>
                </a:cubicBezTo>
                <a:cubicBezTo>
                  <a:pt x="305" y="322"/>
                  <a:pt x="306" y="322"/>
                  <a:pt x="307" y="321"/>
                </a:cubicBezTo>
                <a:cubicBezTo>
                  <a:pt x="308" y="321"/>
                  <a:pt x="308" y="321"/>
                  <a:pt x="308" y="321"/>
                </a:cubicBezTo>
                <a:cubicBezTo>
                  <a:pt x="308" y="321"/>
                  <a:pt x="308" y="321"/>
                  <a:pt x="308" y="321"/>
                </a:cubicBezTo>
                <a:cubicBezTo>
                  <a:pt x="308" y="321"/>
                  <a:pt x="308" y="321"/>
                  <a:pt x="308" y="321"/>
                </a:cubicBezTo>
                <a:cubicBezTo>
                  <a:pt x="309" y="320"/>
                  <a:pt x="309" y="320"/>
                  <a:pt x="309" y="320"/>
                </a:cubicBezTo>
                <a:cubicBezTo>
                  <a:pt x="310" y="320"/>
                  <a:pt x="310" y="320"/>
                  <a:pt x="311" y="320"/>
                </a:cubicBezTo>
                <a:cubicBezTo>
                  <a:pt x="311" y="319"/>
                  <a:pt x="312" y="319"/>
                  <a:pt x="312" y="319"/>
                </a:cubicBezTo>
                <a:cubicBezTo>
                  <a:pt x="312" y="319"/>
                  <a:pt x="312" y="319"/>
                  <a:pt x="312" y="319"/>
                </a:cubicBezTo>
                <a:cubicBezTo>
                  <a:pt x="312" y="319"/>
                  <a:pt x="312" y="319"/>
                  <a:pt x="312" y="319"/>
                </a:cubicBezTo>
                <a:cubicBezTo>
                  <a:pt x="313" y="319"/>
                  <a:pt x="313" y="319"/>
                  <a:pt x="313" y="318"/>
                </a:cubicBezTo>
                <a:cubicBezTo>
                  <a:pt x="314" y="318"/>
                  <a:pt x="314" y="318"/>
                  <a:pt x="315" y="318"/>
                </a:cubicBezTo>
                <a:cubicBezTo>
                  <a:pt x="315" y="317"/>
                  <a:pt x="315" y="317"/>
                  <a:pt x="315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7" y="317"/>
                  <a:pt x="317" y="317"/>
                  <a:pt x="317" y="317"/>
                </a:cubicBezTo>
                <a:cubicBezTo>
                  <a:pt x="317" y="316"/>
                  <a:pt x="317" y="316"/>
                  <a:pt x="317" y="316"/>
                </a:cubicBezTo>
                <a:cubicBezTo>
                  <a:pt x="318" y="316"/>
                  <a:pt x="318" y="316"/>
                  <a:pt x="318" y="316"/>
                </a:cubicBezTo>
                <a:cubicBezTo>
                  <a:pt x="318" y="316"/>
                  <a:pt x="318" y="316"/>
                  <a:pt x="318" y="316"/>
                </a:cubicBezTo>
                <a:cubicBezTo>
                  <a:pt x="319" y="315"/>
                  <a:pt x="319" y="315"/>
                  <a:pt x="319" y="315"/>
                </a:cubicBezTo>
                <a:cubicBezTo>
                  <a:pt x="319" y="315"/>
                  <a:pt x="319" y="315"/>
                  <a:pt x="319" y="315"/>
                </a:cubicBezTo>
                <a:cubicBezTo>
                  <a:pt x="319" y="315"/>
                  <a:pt x="319" y="315"/>
                  <a:pt x="319" y="315"/>
                </a:cubicBezTo>
                <a:cubicBezTo>
                  <a:pt x="319" y="315"/>
                  <a:pt x="319" y="315"/>
                  <a:pt x="319" y="315"/>
                </a:cubicBezTo>
                <a:cubicBezTo>
                  <a:pt x="319" y="315"/>
                  <a:pt x="319" y="315"/>
                  <a:pt x="319" y="315"/>
                </a:cubicBezTo>
                <a:cubicBezTo>
                  <a:pt x="320" y="314"/>
                  <a:pt x="320" y="314"/>
                  <a:pt x="320" y="314"/>
                </a:cubicBezTo>
                <a:cubicBezTo>
                  <a:pt x="320" y="314"/>
                  <a:pt x="320" y="314"/>
                  <a:pt x="320" y="314"/>
                </a:cubicBezTo>
                <a:cubicBezTo>
                  <a:pt x="320" y="314"/>
                  <a:pt x="320" y="314"/>
                  <a:pt x="320" y="314"/>
                </a:cubicBezTo>
                <a:cubicBezTo>
                  <a:pt x="320" y="314"/>
                  <a:pt x="320" y="314"/>
                  <a:pt x="320" y="314"/>
                </a:cubicBezTo>
                <a:cubicBezTo>
                  <a:pt x="320" y="313"/>
                  <a:pt x="320" y="313"/>
                  <a:pt x="320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2" y="312"/>
                  <a:pt x="322" y="312"/>
                  <a:pt x="322" y="312"/>
                </a:cubicBezTo>
                <a:cubicBezTo>
                  <a:pt x="322" y="312"/>
                  <a:pt x="322" y="312"/>
                  <a:pt x="322" y="312"/>
                </a:cubicBezTo>
                <a:cubicBezTo>
                  <a:pt x="322" y="312"/>
                  <a:pt x="322" y="312"/>
                  <a:pt x="322" y="312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298"/>
                  <a:pt x="323" y="287"/>
                  <a:pt x="323" y="276"/>
                </a:cubicBezTo>
                <a:cubicBezTo>
                  <a:pt x="323" y="276"/>
                  <a:pt x="323" y="276"/>
                  <a:pt x="323" y="276"/>
                </a:cubicBezTo>
                <a:cubicBezTo>
                  <a:pt x="324" y="276"/>
                  <a:pt x="325" y="276"/>
                  <a:pt x="326" y="276"/>
                </a:cubicBezTo>
                <a:cubicBezTo>
                  <a:pt x="328" y="276"/>
                  <a:pt x="329" y="276"/>
                  <a:pt x="331" y="276"/>
                </a:cubicBezTo>
                <a:cubicBezTo>
                  <a:pt x="333" y="276"/>
                  <a:pt x="334" y="276"/>
                  <a:pt x="336" y="276"/>
                </a:cubicBezTo>
                <a:cubicBezTo>
                  <a:pt x="338" y="275"/>
                  <a:pt x="341" y="275"/>
                  <a:pt x="343" y="275"/>
                </a:cubicBezTo>
                <a:cubicBezTo>
                  <a:pt x="344" y="275"/>
                  <a:pt x="344" y="275"/>
                  <a:pt x="345" y="275"/>
                </a:cubicBezTo>
                <a:cubicBezTo>
                  <a:pt x="347" y="275"/>
                  <a:pt x="349" y="275"/>
                  <a:pt x="352" y="275"/>
                </a:cubicBezTo>
                <a:cubicBezTo>
                  <a:pt x="352" y="275"/>
                  <a:pt x="353" y="275"/>
                  <a:pt x="353" y="275"/>
                </a:cubicBezTo>
                <a:cubicBezTo>
                  <a:pt x="354" y="275"/>
                  <a:pt x="355" y="275"/>
                  <a:pt x="356" y="275"/>
                </a:cubicBezTo>
                <a:cubicBezTo>
                  <a:pt x="359" y="275"/>
                  <a:pt x="362" y="275"/>
                  <a:pt x="365" y="275"/>
                </a:cubicBezTo>
                <a:cubicBezTo>
                  <a:pt x="366" y="275"/>
                  <a:pt x="367" y="275"/>
                  <a:pt x="369" y="275"/>
                </a:cubicBezTo>
                <a:cubicBezTo>
                  <a:pt x="372" y="275"/>
                  <a:pt x="374" y="275"/>
                  <a:pt x="377" y="276"/>
                </a:cubicBezTo>
                <a:cubicBezTo>
                  <a:pt x="379" y="276"/>
                  <a:pt x="380" y="276"/>
                  <a:pt x="381" y="276"/>
                </a:cubicBezTo>
                <a:cubicBezTo>
                  <a:pt x="384" y="276"/>
                  <a:pt x="388" y="276"/>
                  <a:pt x="392" y="276"/>
                </a:cubicBezTo>
                <a:cubicBezTo>
                  <a:pt x="393" y="276"/>
                  <a:pt x="394" y="276"/>
                  <a:pt x="395" y="276"/>
                </a:cubicBezTo>
                <a:cubicBezTo>
                  <a:pt x="398" y="276"/>
                  <a:pt x="401" y="276"/>
                  <a:pt x="403" y="276"/>
                </a:cubicBezTo>
                <a:cubicBezTo>
                  <a:pt x="405" y="276"/>
                  <a:pt x="407" y="276"/>
                  <a:pt x="408" y="276"/>
                </a:cubicBezTo>
                <a:cubicBezTo>
                  <a:pt x="409" y="276"/>
                  <a:pt x="410" y="276"/>
                  <a:pt x="410" y="276"/>
                </a:cubicBezTo>
                <a:cubicBezTo>
                  <a:pt x="414" y="276"/>
                  <a:pt x="418" y="276"/>
                  <a:pt x="422" y="276"/>
                </a:cubicBezTo>
                <a:cubicBezTo>
                  <a:pt x="422" y="276"/>
                  <a:pt x="422" y="276"/>
                  <a:pt x="422" y="276"/>
                </a:cubicBezTo>
                <a:cubicBezTo>
                  <a:pt x="423" y="276"/>
                  <a:pt x="424" y="276"/>
                  <a:pt x="426" y="276"/>
                </a:cubicBezTo>
                <a:cubicBezTo>
                  <a:pt x="426" y="276"/>
                  <a:pt x="426" y="276"/>
                  <a:pt x="426" y="276"/>
                </a:cubicBezTo>
                <a:cubicBezTo>
                  <a:pt x="428" y="276"/>
                  <a:pt x="430" y="276"/>
                  <a:pt x="432" y="276"/>
                </a:cubicBezTo>
                <a:cubicBezTo>
                  <a:pt x="432" y="276"/>
                  <a:pt x="433" y="276"/>
                  <a:pt x="433" y="276"/>
                </a:cubicBezTo>
                <a:cubicBezTo>
                  <a:pt x="434" y="276"/>
                  <a:pt x="434" y="276"/>
                  <a:pt x="434" y="276"/>
                </a:cubicBezTo>
                <a:cubicBezTo>
                  <a:pt x="439" y="276"/>
                  <a:pt x="443" y="276"/>
                  <a:pt x="446" y="276"/>
                </a:cubicBezTo>
                <a:cubicBezTo>
                  <a:pt x="446" y="277"/>
                  <a:pt x="446" y="277"/>
                  <a:pt x="446" y="277"/>
                </a:cubicBezTo>
                <a:cubicBezTo>
                  <a:pt x="447" y="277"/>
                  <a:pt x="448" y="277"/>
                  <a:pt x="449" y="277"/>
                </a:cubicBezTo>
                <a:cubicBezTo>
                  <a:pt x="450" y="277"/>
                  <a:pt x="450" y="277"/>
                  <a:pt x="451" y="277"/>
                </a:cubicBezTo>
                <a:cubicBezTo>
                  <a:pt x="452" y="277"/>
                  <a:pt x="452" y="277"/>
                  <a:pt x="452" y="277"/>
                </a:cubicBezTo>
                <a:cubicBezTo>
                  <a:pt x="452" y="277"/>
                  <a:pt x="453" y="277"/>
                  <a:pt x="453" y="277"/>
                </a:cubicBezTo>
                <a:cubicBezTo>
                  <a:pt x="454" y="277"/>
                  <a:pt x="454" y="277"/>
                  <a:pt x="454" y="277"/>
                </a:cubicBezTo>
                <a:cubicBezTo>
                  <a:pt x="454" y="277"/>
                  <a:pt x="454" y="277"/>
                  <a:pt x="454" y="277"/>
                </a:cubicBezTo>
                <a:cubicBezTo>
                  <a:pt x="454" y="277"/>
                  <a:pt x="454" y="277"/>
                  <a:pt x="454" y="277"/>
                </a:cubicBezTo>
                <a:cubicBezTo>
                  <a:pt x="454" y="277"/>
                  <a:pt x="454" y="277"/>
                  <a:pt x="454" y="277"/>
                </a:cubicBezTo>
                <a:cubicBezTo>
                  <a:pt x="454" y="277"/>
                  <a:pt x="454" y="277"/>
                  <a:pt x="454" y="277"/>
                </a:cubicBezTo>
                <a:cubicBezTo>
                  <a:pt x="454" y="277"/>
                  <a:pt x="454" y="277"/>
                  <a:pt x="454" y="277"/>
                </a:cubicBezTo>
                <a:cubicBezTo>
                  <a:pt x="454" y="277"/>
                  <a:pt x="454" y="277"/>
                  <a:pt x="454" y="277"/>
                </a:cubicBezTo>
                <a:cubicBezTo>
                  <a:pt x="454" y="277"/>
                  <a:pt x="454" y="277"/>
                  <a:pt x="454" y="277"/>
                </a:cubicBezTo>
                <a:cubicBezTo>
                  <a:pt x="454" y="277"/>
                  <a:pt x="454" y="277"/>
                  <a:pt x="454" y="277"/>
                </a:cubicBezTo>
                <a:cubicBezTo>
                  <a:pt x="454" y="277"/>
                  <a:pt x="454" y="277"/>
                  <a:pt x="454" y="277"/>
                </a:cubicBezTo>
                <a:cubicBezTo>
                  <a:pt x="454" y="277"/>
                  <a:pt x="454" y="277"/>
                  <a:pt x="454" y="277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60" y="277"/>
                  <a:pt x="460" y="277"/>
                  <a:pt x="460" y="277"/>
                </a:cubicBezTo>
                <a:cubicBezTo>
                  <a:pt x="460" y="277"/>
                  <a:pt x="460" y="277"/>
                  <a:pt x="460" y="277"/>
                </a:cubicBezTo>
                <a:cubicBezTo>
                  <a:pt x="460" y="277"/>
                  <a:pt x="460" y="277"/>
                  <a:pt x="460" y="277"/>
                </a:cubicBezTo>
                <a:cubicBezTo>
                  <a:pt x="460" y="277"/>
                  <a:pt x="460" y="277"/>
                  <a:pt x="460" y="277"/>
                </a:cubicBezTo>
                <a:cubicBezTo>
                  <a:pt x="460" y="277"/>
                  <a:pt x="460" y="277"/>
                  <a:pt x="460" y="277"/>
                </a:cubicBezTo>
                <a:cubicBezTo>
                  <a:pt x="460" y="277"/>
                  <a:pt x="460" y="277"/>
                  <a:pt x="460" y="277"/>
                </a:cubicBezTo>
                <a:cubicBezTo>
                  <a:pt x="461" y="277"/>
                  <a:pt x="461" y="277"/>
                  <a:pt x="461" y="277"/>
                </a:cubicBezTo>
                <a:cubicBezTo>
                  <a:pt x="461" y="277"/>
                  <a:pt x="461" y="277"/>
                  <a:pt x="461" y="277"/>
                </a:cubicBezTo>
                <a:cubicBezTo>
                  <a:pt x="461" y="277"/>
                  <a:pt x="461" y="277"/>
                  <a:pt x="461" y="277"/>
                </a:cubicBezTo>
                <a:cubicBezTo>
                  <a:pt x="461" y="277"/>
                  <a:pt x="461" y="277"/>
                  <a:pt x="461" y="277"/>
                </a:cubicBezTo>
                <a:cubicBezTo>
                  <a:pt x="462" y="277"/>
                  <a:pt x="462" y="277"/>
                  <a:pt x="462" y="277"/>
                </a:cubicBezTo>
                <a:cubicBezTo>
                  <a:pt x="462" y="277"/>
                  <a:pt x="462" y="277"/>
                  <a:pt x="462" y="277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4" y="276"/>
                  <a:pt x="464" y="276"/>
                  <a:pt x="464" y="276"/>
                </a:cubicBezTo>
                <a:cubicBezTo>
                  <a:pt x="465" y="276"/>
                  <a:pt x="465" y="276"/>
                  <a:pt x="465" y="276"/>
                </a:cubicBezTo>
                <a:cubicBezTo>
                  <a:pt x="465" y="276"/>
                  <a:pt x="465" y="276"/>
                  <a:pt x="465" y="276"/>
                </a:cubicBezTo>
                <a:cubicBezTo>
                  <a:pt x="466" y="276"/>
                  <a:pt x="466" y="276"/>
                  <a:pt x="466" y="276"/>
                </a:cubicBezTo>
                <a:cubicBezTo>
                  <a:pt x="466" y="276"/>
                  <a:pt x="466" y="276"/>
                  <a:pt x="466" y="276"/>
                </a:cubicBezTo>
                <a:cubicBezTo>
                  <a:pt x="466" y="275"/>
                  <a:pt x="466" y="275"/>
                  <a:pt x="466" y="275"/>
                </a:cubicBezTo>
                <a:cubicBezTo>
                  <a:pt x="467" y="275"/>
                  <a:pt x="467" y="275"/>
                  <a:pt x="467" y="275"/>
                </a:cubicBezTo>
                <a:cubicBezTo>
                  <a:pt x="467" y="275"/>
                  <a:pt x="467" y="275"/>
                  <a:pt x="467" y="275"/>
                </a:cubicBezTo>
                <a:cubicBezTo>
                  <a:pt x="468" y="275"/>
                  <a:pt x="468" y="275"/>
                  <a:pt x="468" y="275"/>
                </a:cubicBezTo>
                <a:cubicBezTo>
                  <a:pt x="468" y="275"/>
                  <a:pt x="468" y="275"/>
                  <a:pt x="468" y="275"/>
                </a:cubicBezTo>
                <a:cubicBezTo>
                  <a:pt x="469" y="275"/>
                  <a:pt x="469" y="275"/>
                  <a:pt x="469" y="275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70" y="274"/>
                  <a:pt x="470" y="274"/>
                  <a:pt x="470" y="274"/>
                </a:cubicBezTo>
                <a:cubicBezTo>
                  <a:pt x="470" y="274"/>
                  <a:pt x="470" y="274"/>
                  <a:pt x="470" y="274"/>
                </a:cubicBezTo>
                <a:cubicBezTo>
                  <a:pt x="470" y="274"/>
                  <a:pt x="470" y="274"/>
                  <a:pt x="470" y="274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2" y="273"/>
                  <a:pt x="472" y="273"/>
                  <a:pt x="472" y="273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3" y="272"/>
                  <a:pt x="473" y="272"/>
                  <a:pt x="473" y="272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4" y="270"/>
                  <a:pt x="474" y="270"/>
                  <a:pt x="474" y="270"/>
                </a:cubicBezTo>
                <a:cubicBezTo>
                  <a:pt x="474" y="270"/>
                  <a:pt x="474" y="270"/>
                  <a:pt x="474" y="270"/>
                </a:cubicBezTo>
                <a:cubicBezTo>
                  <a:pt x="474" y="270"/>
                  <a:pt x="474" y="270"/>
                  <a:pt x="474" y="270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5" y="269"/>
                  <a:pt x="475" y="269"/>
                  <a:pt x="475" y="269"/>
                </a:cubicBezTo>
                <a:cubicBezTo>
                  <a:pt x="475" y="269"/>
                  <a:pt x="475" y="269"/>
                  <a:pt x="475" y="269"/>
                </a:cubicBezTo>
                <a:cubicBezTo>
                  <a:pt x="475" y="268"/>
                  <a:pt x="475" y="268"/>
                  <a:pt x="475" y="268"/>
                </a:cubicBezTo>
                <a:cubicBezTo>
                  <a:pt x="475" y="268"/>
                  <a:pt x="475" y="268"/>
                  <a:pt x="475" y="268"/>
                </a:cubicBezTo>
                <a:cubicBezTo>
                  <a:pt x="475" y="267"/>
                  <a:pt x="475" y="267"/>
                  <a:pt x="475" y="267"/>
                </a:cubicBezTo>
                <a:cubicBezTo>
                  <a:pt x="475" y="267"/>
                  <a:pt x="475" y="267"/>
                  <a:pt x="475" y="267"/>
                </a:cubicBezTo>
                <a:cubicBezTo>
                  <a:pt x="475" y="266"/>
                  <a:pt x="475" y="266"/>
                  <a:pt x="475" y="266"/>
                </a:cubicBezTo>
                <a:cubicBezTo>
                  <a:pt x="475" y="266"/>
                  <a:pt x="475" y="266"/>
                  <a:pt x="475" y="266"/>
                </a:cubicBezTo>
                <a:cubicBezTo>
                  <a:pt x="476" y="265"/>
                  <a:pt x="476" y="265"/>
                  <a:pt x="476" y="265"/>
                </a:cubicBezTo>
                <a:cubicBezTo>
                  <a:pt x="476" y="265"/>
                  <a:pt x="476" y="265"/>
                  <a:pt x="476" y="265"/>
                </a:cubicBezTo>
                <a:cubicBezTo>
                  <a:pt x="476" y="265"/>
                  <a:pt x="476" y="265"/>
                  <a:pt x="476" y="265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3"/>
                  <a:pt x="476" y="263"/>
                  <a:pt x="476" y="263"/>
                </a:cubicBezTo>
                <a:cubicBezTo>
                  <a:pt x="476" y="262"/>
                  <a:pt x="476" y="261"/>
                  <a:pt x="476" y="261"/>
                </a:cubicBezTo>
                <a:cubicBezTo>
                  <a:pt x="476" y="260"/>
                  <a:pt x="476" y="259"/>
                  <a:pt x="476" y="258"/>
                </a:cubicBezTo>
                <a:cubicBezTo>
                  <a:pt x="476" y="258"/>
                  <a:pt x="476" y="258"/>
                  <a:pt x="476" y="257"/>
                </a:cubicBezTo>
                <a:cubicBezTo>
                  <a:pt x="477" y="257"/>
                  <a:pt x="477" y="257"/>
                  <a:pt x="477" y="257"/>
                </a:cubicBezTo>
                <a:cubicBezTo>
                  <a:pt x="477" y="256"/>
                  <a:pt x="477" y="256"/>
                  <a:pt x="477" y="256"/>
                </a:cubicBezTo>
                <a:cubicBezTo>
                  <a:pt x="477" y="255"/>
                  <a:pt x="477" y="255"/>
                  <a:pt x="477" y="254"/>
                </a:cubicBezTo>
                <a:cubicBezTo>
                  <a:pt x="477" y="253"/>
                  <a:pt x="477" y="253"/>
                  <a:pt x="477" y="252"/>
                </a:cubicBezTo>
                <a:cubicBezTo>
                  <a:pt x="477" y="251"/>
                  <a:pt x="477" y="250"/>
                  <a:pt x="477" y="249"/>
                </a:cubicBezTo>
                <a:cubicBezTo>
                  <a:pt x="477" y="248"/>
                  <a:pt x="477" y="248"/>
                  <a:pt x="477" y="248"/>
                </a:cubicBezTo>
                <a:cubicBezTo>
                  <a:pt x="477" y="247"/>
                  <a:pt x="477" y="247"/>
                  <a:pt x="477" y="247"/>
                </a:cubicBezTo>
                <a:cubicBezTo>
                  <a:pt x="477" y="246"/>
                  <a:pt x="477" y="246"/>
                  <a:pt x="477" y="246"/>
                </a:cubicBezTo>
                <a:cubicBezTo>
                  <a:pt x="477" y="244"/>
                  <a:pt x="477" y="242"/>
                  <a:pt x="478" y="240"/>
                </a:cubicBezTo>
                <a:cubicBezTo>
                  <a:pt x="478" y="239"/>
                  <a:pt x="478" y="238"/>
                  <a:pt x="478" y="237"/>
                </a:cubicBezTo>
                <a:cubicBezTo>
                  <a:pt x="478" y="237"/>
                  <a:pt x="478" y="237"/>
                  <a:pt x="478" y="237"/>
                </a:cubicBezTo>
                <a:cubicBezTo>
                  <a:pt x="478" y="237"/>
                  <a:pt x="478" y="237"/>
                  <a:pt x="478" y="237"/>
                </a:cubicBezTo>
                <a:cubicBezTo>
                  <a:pt x="478" y="236"/>
                  <a:pt x="478" y="235"/>
                  <a:pt x="478" y="234"/>
                </a:cubicBezTo>
                <a:cubicBezTo>
                  <a:pt x="478" y="234"/>
                  <a:pt x="478" y="233"/>
                  <a:pt x="478" y="232"/>
                </a:cubicBezTo>
                <a:cubicBezTo>
                  <a:pt x="478" y="231"/>
                  <a:pt x="478" y="229"/>
                  <a:pt x="478" y="228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9" y="174"/>
                  <a:pt x="480" y="132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1"/>
                  <a:pt x="481" y="91"/>
                  <a:pt x="481" y="91"/>
                </a:cubicBezTo>
                <a:cubicBezTo>
                  <a:pt x="481" y="91"/>
                  <a:pt x="481" y="91"/>
                  <a:pt x="481" y="91"/>
                </a:cubicBezTo>
                <a:cubicBezTo>
                  <a:pt x="481" y="91"/>
                  <a:pt x="481" y="91"/>
                  <a:pt x="481" y="91"/>
                </a:cubicBezTo>
                <a:cubicBezTo>
                  <a:pt x="481" y="91"/>
                  <a:pt x="481" y="91"/>
                  <a:pt x="481" y="91"/>
                </a:cubicBezTo>
                <a:cubicBezTo>
                  <a:pt x="481" y="91"/>
                  <a:pt x="481" y="91"/>
                  <a:pt x="481" y="91"/>
                </a:cubicBezTo>
                <a:cubicBezTo>
                  <a:pt x="481" y="91"/>
                  <a:pt x="481" y="91"/>
                  <a:pt x="481" y="91"/>
                </a:cubicBezTo>
                <a:cubicBezTo>
                  <a:pt x="481" y="91"/>
                  <a:pt x="481" y="91"/>
                  <a:pt x="481" y="91"/>
                </a:cubicBezTo>
                <a:cubicBezTo>
                  <a:pt x="481" y="91"/>
                  <a:pt x="481" y="91"/>
                  <a:pt x="481" y="91"/>
                </a:cubicBezTo>
                <a:cubicBezTo>
                  <a:pt x="481" y="110"/>
                  <a:pt x="481" y="110"/>
                  <a:pt x="481" y="110"/>
                </a:cubicBezTo>
                <a:cubicBezTo>
                  <a:pt x="481" y="111"/>
                  <a:pt x="481" y="111"/>
                  <a:pt x="481" y="111"/>
                </a:cubicBezTo>
                <a:cubicBezTo>
                  <a:pt x="481" y="114"/>
                  <a:pt x="481" y="116"/>
                  <a:pt x="480" y="119"/>
                </a:cubicBezTo>
                <a:cubicBezTo>
                  <a:pt x="480" y="119"/>
                  <a:pt x="480" y="120"/>
                  <a:pt x="480" y="121"/>
                </a:cubicBezTo>
                <a:cubicBezTo>
                  <a:pt x="480" y="121"/>
                  <a:pt x="480" y="122"/>
                  <a:pt x="480" y="123"/>
                </a:cubicBezTo>
                <a:cubicBezTo>
                  <a:pt x="480" y="124"/>
                  <a:pt x="480" y="124"/>
                  <a:pt x="480" y="125"/>
                </a:cubicBezTo>
                <a:cubicBezTo>
                  <a:pt x="480" y="126"/>
                  <a:pt x="480" y="127"/>
                  <a:pt x="480" y="127"/>
                </a:cubicBezTo>
                <a:cubicBezTo>
                  <a:pt x="480" y="128"/>
                  <a:pt x="480" y="129"/>
                  <a:pt x="480" y="129"/>
                </a:cubicBezTo>
                <a:cubicBezTo>
                  <a:pt x="480" y="130"/>
                  <a:pt x="479" y="131"/>
                  <a:pt x="479" y="131"/>
                </a:cubicBezTo>
                <a:cubicBezTo>
                  <a:pt x="479" y="132"/>
                  <a:pt x="479" y="132"/>
                  <a:pt x="479" y="133"/>
                </a:cubicBezTo>
                <a:cubicBezTo>
                  <a:pt x="479" y="134"/>
                  <a:pt x="479" y="135"/>
                  <a:pt x="479" y="135"/>
                </a:cubicBezTo>
                <a:cubicBezTo>
                  <a:pt x="479" y="137"/>
                  <a:pt x="478" y="138"/>
                  <a:pt x="478" y="139"/>
                </a:cubicBezTo>
                <a:cubicBezTo>
                  <a:pt x="478" y="139"/>
                  <a:pt x="478" y="139"/>
                  <a:pt x="478" y="139"/>
                </a:cubicBezTo>
                <a:cubicBezTo>
                  <a:pt x="477" y="139"/>
                  <a:pt x="477" y="140"/>
                  <a:pt x="476" y="141"/>
                </a:cubicBezTo>
                <a:cubicBezTo>
                  <a:pt x="476" y="141"/>
                  <a:pt x="476" y="141"/>
                  <a:pt x="476" y="141"/>
                </a:cubicBezTo>
                <a:cubicBezTo>
                  <a:pt x="475" y="142"/>
                  <a:pt x="475" y="142"/>
                  <a:pt x="474" y="143"/>
                </a:cubicBezTo>
                <a:cubicBezTo>
                  <a:pt x="474" y="143"/>
                  <a:pt x="474" y="143"/>
                  <a:pt x="474" y="143"/>
                </a:cubicBezTo>
                <a:cubicBezTo>
                  <a:pt x="473" y="143"/>
                  <a:pt x="472" y="144"/>
                  <a:pt x="471" y="144"/>
                </a:cubicBezTo>
                <a:cubicBezTo>
                  <a:pt x="471" y="144"/>
                  <a:pt x="471" y="144"/>
                  <a:pt x="471" y="144"/>
                </a:cubicBezTo>
                <a:cubicBezTo>
                  <a:pt x="471" y="145"/>
                  <a:pt x="470" y="145"/>
                  <a:pt x="469" y="145"/>
                </a:cubicBezTo>
                <a:cubicBezTo>
                  <a:pt x="469" y="145"/>
                  <a:pt x="469" y="145"/>
                  <a:pt x="469" y="145"/>
                </a:cubicBezTo>
                <a:cubicBezTo>
                  <a:pt x="468" y="145"/>
                  <a:pt x="467" y="146"/>
                  <a:pt x="466" y="146"/>
                </a:cubicBezTo>
                <a:cubicBezTo>
                  <a:pt x="466" y="146"/>
                  <a:pt x="466" y="146"/>
                  <a:pt x="466" y="146"/>
                </a:cubicBezTo>
                <a:cubicBezTo>
                  <a:pt x="465" y="146"/>
                  <a:pt x="464" y="146"/>
                  <a:pt x="463" y="146"/>
                </a:cubicBezTo>
                <a:cubicBezTo>
                  <a:pt x="463" y="146"/>
                  <a:pt x="463" y="146"/>
                  <a:pt x="463" y="146"/>
                </a:cubicBezTo>
                <a:cubicBezTo>
                  <a:pt x="462" y="146"/>
                  <a:pt x="462" y="146"/>
                  <a:pt x="461" y="146"/>
                </a:cubicBezTo>
                <a:cubicBezTo>
                  <a:pt x="460" y="146"/>
                  <a:pt x="460" y="146"/>
                  <a:pt x="460" y="146"/>
                </a:cubicBezTo>
                <a:cubicBezTo>
                  <a:pt x="460" y="112"/>
                  <a:pt x="461" y="79"/>
                  <a:pt x="462" y="45"/>
                </a:cubicBezTo>
                <a:cubicBezTo>
                  <a:pt x="462" y="46"/>
                  <a:pt x="462" y="46"/>
                  <a:pt x="462" y="46"/>
                </a:cubicBezTo>
                <a:cubicBezTo>
                  <a:pt x="462" y="46"/>
                  <a:pt x="462" y="46"/>
                  <a:pt x="462" y="46"/>
                </a:cubicBezTo>
                <a:cubicBezTo>
                  <a:pt x="461" y="46"/>
                  <a:pt x="461" y="46"/>
                  <a:pt x="461" y="46"/>
                </a:cubicBezTo>
                <a:cubicBezTo>
                  <a:pt x="461" y="46"/>
                  <a:pt x="461" y="46"/>
                  <a:pt x="461" y="46"/>
                </a:cubicBezTo>
                <a:cubicBezTo>
                  <a:pt x="461" y="47"/>
                  <a:pt x="461" y="47"/>
                  <a:pt x="460" y="47"/>
                </a:cubicBezTo>
                <a:cubicBezTo>
                  <a:pt x="460" y="47"/>
                  <a:pt x="460" y="47"/>
                  <a:pt x="460" y="47"/>
                </a:cubicBezTo>
                <a:cubicBezTo>
                  <a:pt x="460" y="47"/>
                  <a:pt x="459" y="48"/>
                  <a:pt x="459" y="48"/>
                </a:cubicBezTo>
                <a:cubicBezTo>
                  <a:pt x="459" y="48"/>
                  <a:pt x="459" y="48"/>
                  <a:pt x="459" y="48"/>
                </a:cubicBezTo>
                <a:cubicBezTo>
                  <a:pt x="458" y="48"/>
                  <a:pt x="458" y="48"/>
                  <a:pt x="457" y="49"/>
                </a:cubicBezTo>
                <a:cubicBezTo>
                  <a:pt x="457" y="49"/>
                  <a:pt x="457" y="49"/>
                  <a:pt x="457" y="49"/>
                </a:cubicBezTo>
                <a:cubicBezTo>
                  <a:pt x="457" y="49"/>
                  <a:pt x="456" y="49"/>
                  <a:pt x="455" y="49"/>
                </a:cubicBezTo>
                <a:cubicBezTo>
                  <a:pt x="455" y="49"/>
                  <a:pt x="455" y="49"/>
                  <a:pt x="455" y="49"/>
                </a:cubicBezTo>
                <a:cubicBezTo>
                  <a:pt x="455" y="49"/>
                  <a:pt x="454" y="49"/>
                  <a:pt x="454" y="50"/>
                </a:cubicBezTo>
                <a:cubicBezTo>
                  <a:pt x="453" y="50"/>
                  <a:pt x="453" y="50"/>
                  <a:pt x="453" y="50"/>
                </a:cubicBezTo>
                <a:cubicBezTo>
                  <a:pt x="452" y="50"/>
                  <a:pt x="452" y="50"/>
                  <a:pt x="451" y="50"/>
                </a:cubicBezTo>
                <a:cubicBezTo>
                  <a:pt x="451" y="50"/>
                  <a:pt x="451" y="50"/>
                  <a:pt x="450" y="50"/>
                </a:cubicBezTo>
                <a:cubicBezTo>
                  <a:pt x="449" y="51"/>
                  <a:pt x="447" y="51"/>
                  <a:pt x="445" y="51"/>
                </a:cubicBezTo>
                <a:cubicBezTo>
                  <a:pt x="445" y="51"/>
                  <a:pt x="445" y="51"/>
                  <a:pt x="445" y="51"/>
                </a:cubicBezTo>
                <a:cubicBezTo>
                  <a:pt x="443" y="52"/>
                  <a:pt x="441" y="52"/>
                  <a:pt x="439" y="52"/>
                </a:cubicBezTo>
                <a:cubicBezTo>
                  <a:pt x="439" y="52"/>
                  <a:pt x="439" y="52"/>
                  <a:pt x="439" y="52"/>
                </a:cubicBezTo>
                <a:cubicBezTo>
                  <a:pt x="436" y="52"/>
                  <a:pt x="434" y="52"/>
                  <a:pt x="432" y="52"/>
                </a:cubicBezTo>
                <a:cubicBezTo>
                  <a:pt x="432" y="52"/>
                  <a:pt x="432" y="52"/>
                  <a:pt x="432" y="52"/>
                </a:cubicBezTo>
                <a:cubicBezTo>
                  <a:pt x="429" y="53"/>
                  <a:pt x="427" y="53"/>
                  <a:pt x="425" y="53"/>
                </a:cubicBezTo>
                <a:cubicBezTo>
                  <a:pt x="424" y="53"/>
                  <a:pt x="424" y="53"/>
                  <a:pt x="424" y="53"/>
                </a:cubicBezTo>
                <a:cubicBezTo>
                  <a:pt x="424" y="35"/>
                  <a:pt x="425" y="17"/>
                  <a:pt x="425" y="0"/>
                </a:cubicBezTo>
                <a:cubicBezTo>
                  <a:pt x="425" y="0"/>
                  <a:pt x="425" y="0"/>
                  <a:pt x="425" y="0"/>
                </a:cubicBezTo>
                <a:cubicBezTo>
                  <a:pt x="425" y="0"/>
                  <a:pt x="425" y="0"/>
                  <a:pt x="425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1"/>
                  <a:pt x="424" y="1"/>
                  <a:pt x="424" y="1"/>
                </a:cubicBezTo>
                <a:cubicBezTo>
                  <a:pt x="424" y="1"/>
                  <a:pt x="424" y="1"/>
                  <a:pt x="424" y="1"/>
                </a:cubicBezTo>
                <a:cubicBezTo>
                  <a:pt x="423" y="53"/>
                  <a:pt x="423" y="53"/>
                  <a:pt x="423" y="53"/>
                </a:cubicBezTo>
                <a:cubicBezTo>
                  <a:pt x="422" y="53"/>
                  <a:pt x="421" y="53"/>
                  <a:pt x="421" y="53"/>
                </a:cubicBezTo>
                <a:cubicBezTo>
                  <a:pt x="419" y="53"/>
                  <a:pt x="418" y="53"/>
                  <a:pt x="416" y="53"/>
                </a:cubicBezTo>
                <a:cubicBezTo>
                  <a:pt x="415" y="53"/>
                  <a:pt x="414" y="53"/>
                  <a:pt x="412" y="52"/>
                </a:cubicBezTo>
                <a:cubicBezTo>
                  <a:pt x="412" y="52"/>
                  <a:pt x="412" y="52"/>
                  <a:pt x="412" y="52"/>
                </a:cubicBezTo>
                <a:cubicBezTo>
                  <a:pt x="411" y="52"/>
                  <a:pt x="410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7" y="52"/>
                  <a:pt x="407" y="52"/>
                  <a:pt x="406" y="52"/>
                </a:cubicBezTo>
                <a:cubicBezTo>
                  <a:pt x="406" y="52"/>
                  <a:pt x="405" y="52"/>
                  <a:pt x="405" y="52"/>
                </a:cubicBezTo>
                <a:cubicBezTo>
                  <a:pt x="404" y="52"/>
                  <a:pt x="404" y="52"/>
                  <a:pt x="403" y="52"/>
                </a:cubicBezTo>
                <a:cubicBezTo>
                  <a:pt x="403" y="52"/>
                  <a:pt x="403" y="52"/>
                  <a:pt x="402" y="52"/>
                </a:cubicBezTo>
                <a:cubicBezTo>
                  <a:pt x="402" y="52"/>
                  <a:pt x="401" y="52"/>
                  <a:pt x="401" y="52"/>
                </a:cubicBezTo>
                <a:cubicBezTo>
                  <a:pt x="401" y="52"/>
                  <a:pt x="400" y="52"/>
                  <a:pt x="400" y="52"/>
                </a:cubicBezTo>
                <a:cubicBezTo>
                  <a:pt x="399" y="52"/>
                  <a:pt x="399" y="52"/>
                  <a:pt x="399" y="52"/>
                </a:cubicBezTo>
                <a:cubicBezTo>
                  <a:pt x="398" y="52"/>
                  <a:pt x="398" y="52"/>
                  <a:pt x="397" y="52"/>
                </a:cubicBezTo>
                <a:cubicBezTo>
                  <a:pt x="397" y="52"/>
                  <a:pt x="397" y="52"/>
                  <a:pt x="397" y="52"/>
                </a:cubicBezTo>
                <a:cubicBezTo>
                  <a:pt x="396" y="52"/>
                  <a:pt x="396" y="52"/>
                  <a:pt x="396" y="52"/>
                </a:cubicBezTo>
                <a:cubicBezTo>
                  <a:pt x="395" y="52"/>
                  <a:pt x="395" y="52"/>
                  <a:pt x="395" y="52"/>
                </a:cubicBezTo>
                <a:cubicBezTo>
                  <a:pt x="394" y="52"/>
                  <a:pt x="394" y="52"/>
                  <a:pt x="394" y="52"/>
                </a:cubicBezTo>
                <a:cubicBezTo>
                  <a:pt x="393" y="52"/>
                  <a:pt x="393" y="52"/>
                  <a:pt x="393" y="52"/>
                </a:cubicBezTo>
                <a:cubicBezTo>
                  <a:pt x="392" y="52"/>
                  <a:pt x="392" y="52"/>
                  <a:pt x="392" y="52"/>
                </a:cubicBezTo>
                <a:cubicBezTo>
                  <a:pt x="391" y="52"/>
                  <a:pt x="391" y="52"/>
                  <a:pt x="391" y="52"/>
                </a:cubicBezTo>
                <a:cubicBezTo>
                  <a:pt x="390" y="52"/>
                  <a:pt x="390" y="52"/>
                  <a:pt x="390" y="52"/>
                </a:cubicBezTo>
                <a:cubicBezTo>
                  <a:pt x="389" y="52"/>
                  <a:pt x="389" y="52"/>
                  <a:pt x="389" y="52"/>
                </a:cubicBezTo>
                <a:cubicBezTo>
                  <a:pt x="389" y="52"/>
                  <a:pt x="389" y="52"/>
                  <a:pt x="389" y="52"/>
                </a:cubicBezTo>
                <a:cubicBezTo>
                  <a:pt x="388" y="52"/>
                  <a:pt x="388" y="52"/>
                  <a:pt x="388" y="52"/>
                </a:cubicBezTo>
                <a:cubicBezTo>
                  <a:pt x="388" y="52"/>
                  <a:pt x="388" y="52"/>
                  <a:pt x="388" y="52"/>
                </a:cubicBezTo>
                <a:cubicBezTo>
                  <a:pt x="387" y="52"/>
                  <a:pt x="387" y="52"/>
                  <a:pt x="387" y="52"/>
                </a:cubicBezTo>
                <a:cubicBezTo>
                  <a:pt x="387" y="52"/>
                  <a:pt x="387" y="52"/>
                  <a:pt x="387" y="52"/>
                </a:cubicBezTo>
                <a:cubicBezTo>
                  <a:pt x="387" y="52"/>
                  <a:pt x="387" y="52"/>
                  <a:pt x="387" y="52"/>
                </a:cubicBezTo>
                <a:cubicBezTo>
                  <a:pt x="386" y="52"/>
                  <a:pt x="386" y="52"/>
                  <a:pt x="386" y="52"/>
                </a:cubicBezTo>
                <a:cubicBezTo>
                  <a:pt x="386" y="52"/>
                  <a:pt x="386" y="52"/>
                  <a:pt x="386" y="52"/>
                </a:cubicBezTo>
                <a:cubicBezTo>
                  <a:pt x="385" y="52"/>
                  <a:pt x="385" y="52"/>
                  <a:pt x="385" y="52"/>
                </a:cubicBezTo>
                <a:cubicBezTo>
                  <a:pt x="384" y="52"/>
                  <a:pt x="384" y="52"/>
                  <a:pt x="384" y="52"/>
                </a:cubicBezTo>
                <a:cubicBezTo>
                  <a:pt x="383" y="52"/>
                  <a:pt x="383" y="52"/>
                  <a:pt x="383" y="52"/>
                </a:cubicBezTo>
                <a:cubicBezTo>
                  <a:pt x="382" y="52"/>
                  <a:pt x="382" y="52"/>
                  <a:pt x="382" y="52"/>
                </a:cubicBezTo>
                <a:cubicBezTo>
                  <a:pt x="381" y="52"/>
                  <a:pt x="381" y="52"/>
                  <a:pt x="381" y="52"/>
                </a:cubicBezTo>
                <a:cubicBezTo>
                  <a:pt x="381" y="52"/>
                  <a:pt x="381" y="52"/>
                  <a:pt x="381" y="52"/>
                </a:cubicBezTo>
                <a:cubicBezTo>
                  <a:pt x="380" y="52"/>
                  <a:pt x="380" y="52"/>
                  <a:pt x="380" y="52"/>
                </a:cubicBezTo>
                <a:cubicBezTo>
                  <a:pt x="379" y="52"/>
                  <a:pt x="379" y="52"/>
                  <a:pt x="379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7" y="52"/>
                  <a:pt x="377" y="52"/>
                  <a:pt x="377" y="52"/>
                </a:cubicBezTo>
                <a:cubicBezTo>
                  <a:pt x="376" y="52"/>
                  <a:pt x="376" y="52"/>
                  <a:pt x="376" y="52"/>
                </a:cubicBezTo>
                <a:cubicBezTo>
                  <a:pt x="375" y="52"/>
                  <a:pt x="375" y="52"/>
                  <a:pt x="375" y="52"/>
                </a:cubicBezTo>
                <a:cubicBezTo>
                  <a:pt x="374" y="52"/>
                  <a:pt x="374" y="52"/>
                  <a:pt x="374" y="52"/>
                </a:cubicBezTo>
                <a:cubicBezTo>
                  <a:pt x="373" y="52"/>
                  <a:pt x="373" y="52"/>
                  <a:pt x="373" y="52"/>
                </a:cubicBezTo>
                <a:cubicBezTo>
                  <a:pt x="373" y="52"/>
                  <a:pt x="373" y="52"/>
                  <a:pt x="373" y="52"/>
                </a:cubicBezTo>
                <a:cubicBezTo>
                  <a:pt x="373" y="52"/>
                  <a:pt x="372" y="52"/>
                  <a:pt x="372" y="53"/>
                </a:cubicBezTo>
                <a:cubicBezTo>
                  <a:pt x="371" y="53"/>
                  <a:pt x="371" y="53"/>
                  <a:pt x="370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7" y="53"/>
                  <a:pt x="366" y="53"/>
                  <a:pt x="365" y="53"/>
                </a:cubicBezTo>
                <a:cubicBezTo>
                  <a:pt x="364" y="54"/>
                  <a:pt x="363" y="54"/>
                  <a:pt x="362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0" y="54"/>
                  <a:pt x="359" y="54"/>
                  <a:pt x="358" y="55"/>
                </a:cubicBezTo>
                <a:cubicBezTo>
                  <a:pt x="356" y="55"/>
                  <a:pt x="355" y="55"/>
                  <a:pt x="354" y="55"/>
                </a:cubicBezTo>
                <a:cubicBezTo>
                  <a:pt x="354" y="56"/>
                  <a:pt x="354" y="56"/>
                  <a:pt x="354" y="56"/>
                </a:cubicBezTo>
                <a:cubicBezTo>
                  <a:pt x="353" y="56"/>
                  <a:pt x="353" y="56"/>
                  <a:pt x="353" y="56"/>
                </a:cubicBezTo>
                <a:cubicBezTo>
                  <a:pt x="353" y="56"/>
                  <a:pt x="353" y="56"/>
                  <a:pt x="353" y="56"/>
                </a:cubicBezTo>
                <a:cubicBezTo>
                  <a:pt x="353" y="56"/>
                  <a:pt x="353" y="56"/>
                  <a:pt x="353" y="56"/>
                </a:cubicBezTo>
                <a:cubicBezTo>
                  <a:pt x="352" y="56"/>
                  <a:pt x="352" y="56"/>
                  <a:pt x="352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0" y="57"/>
                  <a:pt x="350" y="57"/>
                  <a:pt x="350" y="57"/>
                </a:cubicBezTo>
                <a:cubicBezTo>
                  <a:pt x="350" y="57"/>
                  <a:pt x="350" y="57"/>
                  <a:pt x="350" y="57"/>
                </a:cubicBezTo>
                <a:cubicBezTo>
                  <a:pt x="349" y="57"/>
                  <a:pt x="349" y="57"/>
                  <a:pt x="349" y="57"/>
                </a:cubicBezTo>
                <a:cubicBezTo>
                  <a:pt x="349" y="57"/>
                  <a:pt x="349" y="57"/>
                  <a:pt x="349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8"/>
                  <a:pt x="348" y="58"/>
                  <a:pt x="348" y="58"/>
                </a:cubicBezTo>
                <a:cubicBezTo>
                  <a:pt x="347" y="58"/>
                  <a:pt x="347" y="58"/>
                  <a:pt x="347" y="58"/>
                </a:cubicBezTo>
                <a:cubicBezTo>
                  <a:pt x="347" y="58"/>
                  <a:pt x="347" y="58"/>
                  <a:pt x="347" y="58"/>
                </a:cubicBezTo>
                <a:cubicBezTo>
                  <a:pt x="347" y="58"/>
                  <a:pt x="347" y="58"/>
                  <a:pt x="347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9"/>
                  <a:pt x="346" y="59"/>
                  <a:pt x="346" y="59"/>
                </a:cubicBezTo>
                <a:cubicBezTo>
                  <a:pt x="346" y="59"/>
                  <a:pt x="346" y="59"/>
                  <a:pt x="346" y="59"/>
                </a:cubicBezTo>
                <a:cubicBezTo>
                  <a:pt x="346" y="59"/>
                  <a:pt x="346" y="59"/>
                  <a:pt x="346" y="59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5" y="60"/>
                  <a:pt x="345" y="60"/>
                  <a:pt x="345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3" y="61"/>
                  <a:pt x="343" y="61"/>
                  <a:pt x="343" y="61"/>
                </a:cubicBezTo>
                <a:cubicBezTo>
                  <a:pt x="343" y="61"/>
                  <a:pt x="343" y="61"/>
                  <a:pt x="343" y="61"/>
                </a:cubicBezTo>
                <a:cubicBezTo>
                  <a:pt x="343" y="61"/>
                  <a:pt x="343" y="61"/>
                  <a:pt x="343" y="61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2" y="63"/>
                  <a:pt x="342" y="63"/>
                  <a:pt x="342" y="63"/>
                </a:cubicBezTo>
                <a:cubicBezTo>
                  <a:pt x="342" y="63"/>
                  <a:pt x="342" y="63"/>
                  <a:pt x="342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4"/>
                  <a:pt x="341" y="64"/>
                  <a:pt x="341" y="64"/>
                </a:cubicBezTo>
                <a:cubicBezTo>
                  <a:pt x="341" y="64"/>
                  <a:pt x="341" y="64"/>
                  <a:pt x="341" y="64"/>
                </a:cubicBezTo>
                <a:cubicBezTo>
                  <a:pt x="341" y="64"/>
                  <a:pt x="341" y="64"/>
                  <a:pt x="341" y="64"/>
                </a:cubicBezTo>
                <a:cubicBezTo>
                  <a:pt x="341" y="65"/>
                  <a:pt x="341" y="65"/>
                  <a:pt x="341" y="65"/>
                </a:cubicBezTo>
                <a:cubicBezTo>
                  <a:pt x="341" y="65"/>
                  <a:pt x="341" y="65"/>
                  <a:pt x="341" y="65"/>
                </a:cubicBezTo>
                <a:cubicBezTo>
                  <a:pt x="341" y="65"/>
                  <a:pt x="341" y="65"/>
                  <a:pt x="341" y="65"/>
                </a:cubicBezTo>
                <a:cubicBezTo>
                  <a:pt x="341" y="65"/>
                  <a:pt x="341" y="65"/>
                  <a:pt x="341" y="65"/>
                </a:cubicBezTo>
                <a:cubicBezTo>
                  <a:pt x="340" y="66"/>
                  <a:pt x="340" y="66"/>
                  <a:pt x="340" y="66"/>
                </a:cubicBezTo>
                <a:cubicBezTo>
                  <a:pt x="340" y="66"/>
                  <a:pt x="340" y="66"/>
                  <a:pt x="340" y="66"/>
                </a:cubicBezTo>
                <a:cubicBezTo>
                  <a:pt x="340" y="66"/>
                  <a:pt x="340" y="66"/>
                  <a:pt x="340" y="66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93"/>
                  <a:pt x="340" y="119"/>
                  <a:pt x="339" y="145"/>
                </a:cubicBezTo>
                <a:cubicBezTo>
                  <a:pt x="339" y="145"/>
                  <a:pt x="338" y="145"/>
                  <a:pt x="338" y="145"/>
                </a:cubicBezTo>
                <a:cubicBezTo>
                  <a:pt x="337" y="145"/>
                  <a:pt x="336" y="145"/>
                  <a:pt x="336" y="145"/>
                </a:cubicBezTo>
                <a:cubicBezTo>
                  <a:pt x="335" y="145"/>
                  <a:pt x="335" y="145"/>
                  <a:pt x="334" y="145"/>
                </a:cubicBezTo>
                <a:cubicBezTo>
                  <a:pt x="333" y="145"/>
                  <a:pt x="333" y="145"/>
                  <a:pt x="332" y="145"/>
                </a:cubicBezTo>
                <a:cubicBezTo>
                  <a:pt x="332" y="145"/>
                  <a:pt x="331" y="145"/>
                  <a:pt x="331" y="145"/>
                </a:cubicBezTo>
                <a:cubicBezTo>
                  <a:pt x="330" y="145"/>
                  <a:pt x="329" y="145"/>
                  <a:pt x="328" y="145"/>
                </a:cubicBezTo>
                <a:cubicBezTo>
                  <a:pt x="328" y="145"/>
                  <a:pt x="328" y="145"/>
                  <a:pt x="328" y="145"/>
                </a:cubicBezTo>
                <a:cubicBezTo>
                  <a:pt x="327" y="145"/>
                  <a:pt x="327" y="145"/>
                  <a:pt x="327" y="145"/>
                </a:cubicBezTo>
                <a:cubicBezTo>
                  <a:pt x="327" y="145"/>
                  <a:pt x="326" y="145"/>
                  <a:pt x="326" y="145"/>
                </a:cubicBezTo>
                <a:cubicBezTo>
                  <a:pt x="325" y="145"/>
                  <a:pt x="324" y="146"/>
                  <a:pt x="324" y="146"/>
                </a:cubicBezTo>
                <a:cubicBezTo>
                  <a:pt x="323" y="146"/>
                  <a:pt x="322" y="146"/>
                  <a:pt x="322" y="146"/>
                </a:cubicBezTo>
                <a:cubicBezTo>
                  <a:pt x="321" y="146"/>
                  <a:pt x="321" y="146"/>
                  <a:pt x="321" y="146"/>
                </a:cubicBezTo>
                <a:cubicBezTo>
                  <a:pt x="321" y="146"/>
                  <a:pt x="321" y="146"/>
                  <a:pt x="321" y="146"/>
                </a:cubicBezTo>
                <a:cubicBezTo>
                  <a:pt x="321" y="146"/>
                  <a:pt x="321" y="146"/>
                  <a:pt x="321" y="146"/>
                </a:cubicBezTo>
                <a:cubicBezTo>
                  <a:pt x="320" y="146"/>
                  <a:pt x="320" y="146"/>
                  <a:pt x="320" y="146"/>
                </a:cubicBezTo>
                <a:cubicBezTo>
                  <a:pt x="320" y="146"/>
                  <a:pt x="320" y="146"/>
                  <a:pt x="320" y="146"/>
                </a:cubicBezTo>
                <a:cubicBezTo>
                  <a:pt x="319" y="146"/>
                  <a:pt x="319" y="146"/>
                  <a:pt x="319" y="146"/>
                </a:cubicBezTo>
                <a:cubicBezTo>
                  <a:pt x="319" y="146"/>
                  <a:pt x="319" y="146"/>
                  <a:pt x="319" y="146"/>
                </a:cubicBezTo>
                <a:cubicBezTo>
                  <a:pt x="318" y="146"/>
                  <a:pt x="318" y="146"/>
                  <a:pt x="318" y="146"/>
                </a:cubicBezTo>
                <a:cubicBezTo>
                  <a:pt x="318" y="146"/>
                  <a:pt x="318" y="146"/>
                  <a:pt x="318" y="146"/>
                </a:cubicBezTo>
                <a:cubicBezTo>
                  <a:pt x="317" y="146"/>
                  <a:pt x="317" y="146"/>
                  <a:pt x="317" y="146"/>
                </a:cubicBezTo>
                <a:cubicBezTo>
                  <a:pt x="316" y="146"/>
                  <a:pt x="316" y="146"/>
                  <a:pt x="316" y="146"/>
                </a:cubicBezTo>
                <a:cubicBezTo>
                  <a:pt x="316" y="146"/>
                  <a:pt x="316" y="146"/>
                  <a:pt x="316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4" y="146"/>
                  <a:pt x="314" y="146"/>
                  <a:pt x="314" y="146"/>
                </a:cubicBezTo>
                <a:cubicBezTo>
                  <a:pt x="313" y="146"/>
                  <a:pt x="313" y="146"/>
                  <a:pt x="313" y="146"/>
                </a:cubicBezTo>
                <a:cubicBezTo>
                  <a:pt x="313" y="146"/>
                  <a:pt x="313" y="146"/>
                  <a:pt x="313" y="146"/>
                </a:cubicBezTo>
                <a:cubicBezTo>
                  <a:pt x="312" y="146"/>
                  <a:pt x="312" y="146"/>
                  <a:pt x="312" y="147"/>
                </a:cubicBezTo>
                <a:cubicBezTo>
                  <a:pt x="311" y="147"/>
                  <a:pt x="311" y="147"/>
                  <a:pt x="311" y="147"/>
                </a:cubicBezTo>
                <a:cubicBezTo>
                  <a:pt x="311" y="147"/>
                  <a:pt x="311" y="147"/>
                  <a:pt x="311" y="147"/>
                </a:cubicBezTo>
                <a:cubicBezTo>
                  <a:pt x="311" y="147"/>
                  <a:pt x="311" y="147"/>
                  <a:pt x="311" y="147"/>
                </a:cubicBezTo>
                <a:cubicBezTo>
                  <a:pt x="311" y="147"/>
                  <a:pt x="310" y="147"/>
                  <a:pt x="310" y="147"/>
                </a:cubicBezTo>
                <a:cubicBezTo>
                  <a:pt x="310" y="147"/>
                  <a:pt x="309" y="147"/>
                  <a:pt x="309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7" y="147"/>
                  <a:pt x="307" y="147"/>
                  <a:pt x="307" y="147"/>
                </a:cubicBezTo>
                <a:cubicBezTo>
                  <a:pt x="307" y="148"/>
                  <a:pt x="307" y="148"/>
                  <a:pt x="307" y="148"/>
                </a:cubicBezTo>
                <a:cubicBezTo>
                  <a:pt x="306" y="148"/>
                  <a:pt x="306" y="148"/>
                  <a:pt x="306" y="148"/>
                </a:cubicBezTo>
                <a:cubicBezTo>
                  <a:pt x="306" y="148"/>
                  <a:pt x="306" y="148"/>
                  <a:pt x="306" y="148"/>
                </a:cubicBezTo>
                <a:cubicBezTo>
                  <a:pt x="306" y="148"/>
                  <a:pt x="306" y="148"/>
                  <a:pt x="306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50"/>
                  <a:pt x="303" y="150"/>
                  <a:pt x="303" y="150"/>
                </a:cubicBezTo>
                <a:cubicBezTo>
                  <a:pt x="303" y="150"/>
                  <a:pt x="303" y="150"/>
                  <a:pt x="303" y="150"/>
                </a:cubicBezTo>
                <a:cubicBezTo>
                  <a:pt x="303" y="150"/>
                  <a:pt x="303" y="150"/>
                  <a:pt x="303" y="150"/>
                </a:cubicBezTo>
                <a:cubicBezTo>
                  <a:pt x="303" y="150"/>
                  <a:pt x="303" y="150"/>
                  <a:pt x="303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2"/>
                  <a:pt x="302" y="152"/>
                  <a:pt x="302" y="152"/>
                </a:cubicBezTo>
                <a:cubicBezTo>
                  <a:pt x="302" y="152"/>
                  <a:pt x="302" y="152"/>
                  <a:pt x="302" y="152"/>
                </a:cubicBezTo>
                <a:cubicBezTo>
                  <a:pt x="302" y="152"/>
                  <a:pt x="302" y="152"/>
                  <a:pt x="302" y="152"/>
                </a:cubicBezTo>
                <a:cubicBezTo>
                  <a:pt x="302" y="152"/>
                  <a:pt x="302" y="152"/>
                  <a:pt x="302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65"/>
                  <a:pt x="301" y="177"/>
                  <a:pt x="301" y="190"/>
                </a:cubicBezTo>
                <a:cubicBezTo>
                  <a:pt x="300" y="190"/>
                  <a:pt x="300" y="191"/>
                  <a:pt x="299" y="191"/>
                </a:cubicBezTo>
                <a:cubicBezTo>
                  <a:pt x="298" y="191"/>
                  <a:pt x="296" y="192"/>
                  <a:pt x="295" y="192"/>
                </a:cubicBezTo>
                <a:cubicBezTo>
                  <a:pt x="295" y="192"/>
                  <a:pt x="295" y="192"/>
                  <a:pt x="294" y="192"/>
                </a:cubicBezTo>
                <a:cubicBezTo>
                  <a:pt x="293" y="192"/>
                  <a:pt x="292" y="193"/>
                  <a:pt x="290" y="193"/>
                </a:cubicBezTo>
                <a:cubicBezTo>
                  <a:pt x="290" y="193"/>
                  <a:pt x="290" y="193"/>
                  <a:pt x="290" y="193"/>
                </a:cubicBezTo>
                <a:cubicBezTo>
                  <a:pt x="289" y="193"/>
                  <a:pt x="287" y="194"/>
                  <a:pt x="286" y="194"/>
                </a:cubicBezTo>
                <a:cubicBezTo>
                  <a:pt x="286" y="194"/>
                  <a:pt x="285" y="194"/>
                  <a:pt x="285" y="194"/>
                </a:cubicBezTo>
                <a:cubicBezTo>
                  <a:pt x="283" y="194"/>
                  <a:pt x="282" y="194"/>
                  <a:pt x="281" y="195"/>
                </a:cubicBezTo>
                <a:cubicBezTo>
                  <a:pt x="281" y="195"/>
                  <a:pt x="281" y="195"/>
                  <a:pt x="281" y="195"/>
                </a:cubicBezTo>
                <a:cubicBezTo>
                  <a:pt x="279" y="195"/>
                  <a:pt x="277" y="195"/>
                  <a:pt x="275" y="195"/>
                </a:cubicBezTo>
                <a:cubicBezTo>
                  <a:pt x="275" y="195"/>
                  <a:pt x="275" y="195"/>
                  <a:pt x="275" y="195"/>
                </a:cubicBezTo>
                <a:cubicBezTo>
                  <a:pt x="274" y="195"/>
                  <a:pt x="272" y="195"/>
                  <a:pt x="270" y="196"/>
                </a:cubicBezTo>
                <a:cubicBezTo>
                  <a:pt x="270" y="196"/>
                  <a:pt x="270" y="196"/>
                  <a:pt x="270" y="196"/>
                </a:cubicBezTo>
                <a:cubicBezTo>
                  <a:pt x="266" y="196"/>
                  <a:pt x="262" y="196"/>
                  <a:pt x="259" y="196"/>
                </a:cubicBezTo>
                <a:cubicBezTo>
                  <a:pt x="253" y="196"/>
                  <a:pt x="248" y="196"/>
                  <a:pt x="243" y="196"/>
                </a:cubicBezTo>
                <a:cubicBezTo>
                  <a:pt x="243" y="196"/>
                  <a:pt x="243" y="196"/>
                  <a:pt x="243" y="196"/>
                </a:cubicBezTo>
                <a:cubicBezTo>
                  <a:pt x="240" y="196"/>
                  <a:pt x="238" y="195"/>
                  <a:pt x="235" y="195"/>
                </a:cubicBezTo>
                <a:cubicBezTo>
                  <a:pt x="235" y="195"/>
                  <a:pt x="235" y="195"/>
                  <a:pt x="235" y="195"/>
                </a:cubicBezTo>
                <a:cubicBezTo>
                  <a:pt x="232" y="195"/>
                  <a:pt x="230" y="195"/>
                  <a:pt x="227" y="195"/>
                </a:cubicBezTo>
                <a:cubicBezTo>
                  <a:pt x="227" y="195"/>
                  <a:pt x="227" y="195"/>
                  <a:pt x="227" y="195"/>
                </a:cubicBezTo>
                <a:cubicBezTo>
                  <a:pt x="225" y="195"/>
                  <a:pt x="222" y="194"/>
                  <a:pt x="220" y="194"/>
                </a:cubicBezTo>
                <a:cubicBezTo>
                  <a:pt x="220" y="194"/>
                  <a:pt x="220" y="194"/>
                  <a:pt x="220" y="194"/>
                </a:cubicBezTo>
                <a:cubicBezTo>
                  <a:pt x="217" y="194"/>
                  <a:pt x="215" y="193"/>
                  <a:pt x="213" y="193"/>
                </a:cubicBezTo>
                <a:cubicBezTo>
                  <a:pt x="213" y="193"/>
                  <a:pt x="213" y="193"/>
                  <a:pt x="213" y="193"/>
                </a:cubicBezTo>
                <a:cubicBezTo>
                  <a:pt x="211" y="193"/>
                  <a:pt x="208" y="193"/>
                  <a:pt x="206" y="192"/>
                </a:cubicBezTo>
                <a:cubicBezTo>
                  <a:pt x="206" y="192"/>
                  <a:pt x="206" y="192"/>
                  <a:pt x="206" y="192"/>
                </a:cubicBezTo>
                <a:cubicBezTo>
                  <a:pt x="204" y="192"/>
                  <a:pt x="202" y="191"/>
                  <a:pt x="200" y="191"/>
                </a:cubicBezTo>
                <a:cubicBezTo>
                  <a:pt x="199" y="191"/>
                  <a:pt x="198" y="191"/>
                  <a:pt x="197" y="190"/>
                </a:cubicBezTo>
                <a:cubicBezTo>
                  <a:pt x="197" y="190"/>
                  <a:pt x="197" y="190"/>
                  <a:pt x="197" y="190"/>
                </a:cubicBezTo>
                <a:cubicBezTo>
                  <a:pt x="196" y="190"/>
                  <a:pt x="196" y="190"/>
                  <a:pt x="195" y="190"/>
                </a:cubicBezTo>
                <a:cubicBezTo>
                  <a:pt x="194" y="189"/>
                  <a:pt x="192" y="189"/>
                  <a:pt x="191" y="189"/>
                </a:cubicBezTo>
                <a:cubicBezTo>
                  <a:pt x="190" y="188"/>
                  <a:pt x="190" y="188"/>
                  <a:pt x="190" y="188"/>
                </a:cubicBezTo>
                <a:cubicBezTo>
                  <a:pt x="190" y="188"/>
                  <a:pt x="190" y="188"/>
                  <a:pt x="190" y="188"/>
                </a:cubicBezTo>
                <a:cubicBezTo>
                  <a:pt x="190" y="178"/>
                  <a:pt x="190" y="167"/>
                  <a:pt x="190" y="157"/>
                </a:cubicBezTo>
                <a:cubicBezTo>
                  <a:pt x="190" y="156"/>
                  <a:pt x="190" y="156"/>
                  <a:pt x="190" y="155"/>
                </a:cubicBezTo>
                <a:cubicBezTo>
                  <a:pt x="190" y="155"/>
                  <a:pt x="189" y="154"/>
                  <a:pt x="189" y="154"/>
                </a:cubicBezTo>
                <a:cubicBezTo>
                  <a:pt x="189" y="153"/>
                  <a:pt x="188" y="153"/>
                  <a:pt x="188" y="152"/>
                </a:cubicBezTo>
                <a:cubicBezTo>
                  <a:pt x="187" y="151"/>
                  <a:pt x="187" y="151"/>
                  <a:pt x="186" y="150"/>
                </a:cubicBezTo>
                <a:cubicBezTo>
                  <a:pt x="185" y="150"/>
                  <a:pt x="185" y="150"/>
                  <a:pt x="185" y="150"/>
                </a:cubicBezTo>
                <a:cubicBezTo>
                  <a:pt x="185" y="150"/>
                  <a:pt x="185" y="150"/>
                  <a:pt x="185" y="150"/>
                </a:cubicBezTo>
                <a:cubicBezTo>
                  <a:pt x="185" y="150"/>
                  <a:pt x="185" y="150"/>
                  <a:pt x="185" y="150"/>
                </a:cubicBezTo>
                <a:cubicBezTo>
                  <a:pt x="185" y="150"/>
                  <a:pt x="185" y="150"/>
                  <a:pt x="185" y="150"/>
                </a:cubicBezTo>
                <a:cubicBezTo>
                  <a:pt x="184" y="149"/>
                  <a:pt x="184" y="149"/>
                  <a:pt x="184" y="149"/>
                </a:cubicBezTo>
                <a:cubicBezTo>
                  <a:pt x="184" y="149"/>
                  <a:pt x="184" y="149"/>
                  <a:pt x="184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2" y="149"/>
                  <a:pt x="182" y="149"/>
                  <a:pt x="182" y="149"/>
                </a:cubicBezTo>
                <a:cubicBezTo>
                  <a:pt x="182" y="149"/>
                  <a:pt x="182" y="149"/>
                  <a:pt x="182" y="149"/>
                </a:cubicBezTo>
                <a:cubicBezTo>
                  <a:pt x="182" y="149"/>
                  <a:pt x="182" y="149"/>
                  <a:pt x="182" y="149"/>
                </a:cubicBezTo>
                <a:cubicBezTo>
                  <a:pt x="181" y="149"/>
                  <a:pt x="181" y="149"/>
                  <a:pt x="181" y="149"/>
                </a:cubicBezTo>
                <a:cubicBezTo>
                  <a:pt x="181" y="149"/>
                  <a:pt x="181" y="149"/>
                  <a:pt x="181" y="149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8" y="148"/>
                  <a:pt x="178" y="148"/>
                  <a:pt x="178" y="148"/>
                </a:cubicBezTo>
                <a:cubicBezTo>
                  <a:pt x="178" y="148"/>
                  <a:pt x="178" y="148"/>
                  <a:pt x="178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5" y="148"/>
                  <a:pt x="175" y="148"/>
                  <a:pt x="175" y="148"/>
                </a:cubicBezTo>
                <a:cubicBezTo>
                  <a:pt x="175" y="148"/>
                  <a:pt x="175" y="148"/>
                  <a:pt x="175" y="148"/>
                </a:cubicBezTo>
                <a:cubicBezTo>
                  <a:pt x="174" y="148"/>
                  <a:pt x="174" y="148"/>
                  <a:pt x="174" y="148"/>
                </a:cubicBezTo>
                <a:cubicBezTo>
                  <a:pt x="174" y="147"/>
                  <a:pt x="174" y="147"/>
                  <a:pt x="174" y="147"/>
                </a:cubicBezTo>
                <a:cubicBezTo>
                  <a:pt x="173" y="147"/>
                  <a:pt x="173" y="147"/>
                  <a:pt x="173" y="147"/>
                </a:cubicBezTo>
                <a:cubicBezTo>
                  <a:pt x="172" y="147"/>
                  <a:pt x="172" y="147"/>
                  <a:pt x="172" y="147"/>
                </a:cubicBezTo>
                <a:cubicBezTo>
                  <a:pt x="171" y="147"/>
                  <a:pt x="171" y="147"/>
                  <a:pt x="171" y="147"/>
                </a:cubicBezTo>
                <a:cubicBezTo>
                  <a:pt x="171" y="147"/>
                  <a:pt x="171" y="147"/>
                  <a:pt x="171" y="147"/>
                </a:cubicBezTo>
                <a:cubicBezTo>
                  <a:pt x="170" y="147"/>
                  <a:pt x="170" y="147"/>
                  <a:pt x="170" y="147"/>
                </a:cubicBezTo>
                <a:cubicBezTo>
                  <a:pt x="169" y="147"/>
                  <a:pt x="169" y="147"/>
                  <a:pt x="169" y="147"/>
                </a:cubicBezTo>
                <a:cubicBezTo>
                  <a:pt x="168" y="147"/>
                  <a:pt x="168" y="147"/>
                  <a:pt x="168" y="147"/>
                </a:cubicBezTo>
                <a:cubicBezTo>
                  <a:pt x="167" y="147"/>
                  <a:pt x="167" y="147"/>
                  <a:pt x="167" y="147"/>
                </a:cubicBezTo>
                <a:cubicBezTo>
                  <a:pt x="167" y="147"/>
                  <a:pt x="166" y="147"/>
                  <a:pt x="166" y="147"/>
                </a:cubicBezTo>
                <a:cubicBezTo>
                  <a:pt x="165" y="147"/>
                  <a:pt x="165" y="147"/>
                  <a:pt x="164" y="147"/>
                </a:cubicBezTo>
                <a:cubicBezTo>
                  <a:pt x="164" y="147"/>
                  <a:pt x="163" y="147"/>
                  <a:pt x="163" y="147"/>
                </a:cubicBezTo>
                <a:cubicBezTo>
                  <a:pt x="163" y="147"/>
                  <a:pt x="162" y="147"/>
                  <a:pt x="162" y="147"/>
                </a:cubicBezTo>
                <a:cubicBezTo>
                  <a:pt x="161" y="147"/>
                  <a:pt x="161" y="147"/>
                  <a:pt x="161" y="147"/>
                </a:cubicBezTo>
                <a:cubicBezTo>
                  <a:pt x="161" y="147"/>
                  <a:pt x="161" y="147"/>
                  <a:pt x="161" y="147"/>
                </a:cubicBezTo>
                <a:cubicBezTo>
                  <a:pt x="160" y="147"/>
                  <a:pt x="160" y="147"/>
                  <a:pt x="159" y="147"/>
                </a:cubicBezTo>
                <a:cubicBezTo>
                  <a:pt x="159" y="147"/>
                  <a:pt x="158" y="147"/>
                  <a:pt x="157" y="147"/>
                </a:cubicBezTo>
                <a:cubicBezTo>
                  <a:pt x="157" y="147"/>
                  <a:pt x="157" y="147"/>
                  <a:pt x="157" y="147"/>
                </a:cubicBezTo>
                <a:cubicBezTo>
                  <a:pt x="156" y="147"/>
                  <a:pt x="156" y="147"/>
                  <a:pt x="156" y="147"/>
                </a:cubicBezTo>
                <a:cubicBezTo>
                  <a:pt x="155" y="147"/>
                  <a:pt x="155" y="147"/>
                  <a:pt x="155" y="147"/>
                </a:cubicBezTo>
                <a:cubicBezTo>
                  <a:pt x="154" y="147"/>
                  <a:pt x="154" y="147"/>
                  <a:pt x="153" y="147"/>
                </a:cubicBezTo>
                <a:cubicBezTo>
                  <a:pt x="152" y="147"/>
                  <a:pt x="152" y="147"/>
                  <a:pt x="152" y="147"/>
                </a:cubicBezTo>
                <a:cubicBezTo>
                  <a:pt x="152" y="147"/>
                  <a:pt x="151" y="147"/>
                  <a:pt x="151" y="147"/>
                </a:cubicBezTo>
                <a:cubicBezTo>
                  <a:pt x="150" y="147"/>
                  <a:pt x="150" y="147"/>
                  <a:pt x="150" y="147"/>
                </a:cubicBezTo>
                <a:cubicBezTo>
                  <a:pt x="149" y="147"/>
                  <a:pt x="149" y="146"/>
                  <a:pt x="148" y="146"/>
                </a:cubicBezTo>
                <a:cubicBezTo>
                  <a:pt x="148" y="146"/>
                  <a:pt x="147" y="146"/>
                  <a:pt x="147" y="146"/>
                </a:cubicBezTo>
                <a:cubicBezTo>
                  <a:pt x="147" y="146"/>
                  <a:pt x="147" y="146"/>
                  <a:pt x="147" y="146"/>
                </a:cubicBezTo>
                <a:cubicBezTo>
                  <a:pt x="146" y="146"/>
                  <a:pt x="146" y="146"/>
                  <a:pt x="146" y="146"/>
                </a:cubicBezTo>
                <a:cubicBezTo>
                  <a:pt x="145" y="146"/>
                  <a:pt x="144" y="146"/>
                  <a:pt x="143" y="146"/>
                </a:cubicBezTo>
                <a:cubicBezTo>
                  <a:pt x="141" y="146"/>
                  <a:pt x="140" y="146"/>
                  <a:pt x="139" y="146"/>
                </a:cubicBezTo>
                <a:cubicBezTo>
                  <a:pt x="138" y="146"/>
                  <a:pt x="138" y="146"/>
                  <a:pt x="137" y="146"/>
                </a:cubicBezTo>
                <a:cubicBezTo>
                  <a:pt x="136" y="146"/>
                  <a:pt x="136" y="146"/>
                  <a:pt x="136" y="146"/>
                </a:cubicBezTo>
                <a:cubicBezTo>
                  <a:pt x="136" y="146"/>
                  <a:pt x="136" y="146"/>
                  <a:pt x="136" y="146"/>
                </a:cubicBezTo>
                <a:cubicBezTo>
                  <a:pt x="135" y="146"/>
                  <a:pt x="134" y="147"/>
                  <a:pt x="132" y="147"/>
                </a:cubicBezTo>
                <a:cubicBezTo>
                  <a:pt x="131" y="147"/>
                  <a:pt x="130" y="147"/>
                  <a:pt x="129" y="147"/>
                </a:cubicBezTo>
                <a:cubicBezTo>
                  <a:pt x="129" y="147"/>
                  <a:pt x="128" y="147"/>
                  <a:pt x="128" y="147"/>
                </a:cubicBezTo>
                <a:cubicBezTo>
                  <a:pt x="127" y="83"/>
                  <a:pt x="127" y="83"/>
                  <a:pt x="127" y="83"/>
                </a:cubicBezTo>
                <a:cubicBezTo>
                  <a:pt x="127" y="81"/>
                  <a:pt x="127" y="80"/>
                  <a:pt x="126" y="79"/>
                </a:cubicBezTo>
                <a:cubicBezTo>
                  <a:pt x="126" y="77"/>
                  <a:pt x="125" y="76"/>
                  <a:pt x="123" y="74"/>
                </a:cubicBezTo>
                <a:cubicBezTo>
                  <a:pt x="122" y="73"/>
                  <a:pt x="121" y="72"/>
                  <a:pt x="119" y="71"/>
                </a:cubicBezTo>
                <a:cubicBezTo>
                  <a:pt x="118" y="69"/>
                  <a:pt x="116" y="68"/>
                  <a:pt x="114" y="67"/>
                </a:cubicBezTo>
                <a:cubicBezTo>
                  <a:pt x="114" y="67"/>
                  <a:pt x="114" y="67"/>
                  <a:pt x="113" y="67"/>
                </a:cubicBezTo>
                <a:cubicBezTo>
                  <a:pt x="113" y="66"/>
                  <a:pt x="112" y="66"/>
                  <a:pt x="112" y="66"/>
                </a:cubicBezTo>
                <a:cubicBezTo>
                  <a:pt x="112" y="66"/>
                  <a:pt x="112" y="66"/>
                  <a:pt x="112" y="66"/>
                </a:cubicBezTo>
                <a:cubicBezTo>
                  <a:pt x="112" y="66"/>
                  <a:pt x="112" y="66"/>
                  <a:pt x="112" y="66"/>
                </a:cubicBezTo>
                <a:cubicBezTo>
                  <a:pt x="111" y="66"/>
                  <a:pt x="111" y="66"/>
                  <a:pt x="110" y="65"/>
                </a:cubicBezTo>
                <a:cubicBezTo>
                  <a:pt x="110" y="65"/>
                  <a:pt x="109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7" y="65"/>
                  <a:pt x="107" y="65"/>
                  <a:pt x="107" y="65"/>
                </a:cubicBezTo>
                <a:cubicBezTo>
                  <a:pt x="107" y="65"/>
                  <a:pt x="107" y="65"/>
                  <a:pt x="107" y="65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5" y="64"/>
                  <a:pt x="105" y="64"/>
                  <a:pt x="105" y="64"/>
                </a:cubicBezTo>
                <a:cubicBezTo>
                  <a:pt x="105" y="64"/>
                  <a:pt x="105" y="64"/>
                  <a:pt x="105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3" y="64"/>
                  <a:pt x="103" y="64"/>
                  <a:pt x="103" y="64"/>
                </a:cubicBezTo>
                <a:cubicBezTo>
                  <a:pt x="103" y="64"/>
                  <a:pt x="103" y="64"/>
                  <a:pt x="103" y="64"/>
                </a:cubicBezTo>
                <a:cubicBezTo>
                  <a:pt x="102" y="64"/>
                  <a:pt x="102" y="64"/>
                  <a:pt x="102" y="64"/>
                </a:cubicBezTo>
                <a:cubicBezTo>
                  <a:pt x="102" y="64"/>
                  <a:pt x="102" y="64"/>
                  <a:pt x="102" y="64"/>
                </a:cubicBezTo>
                <a:cubicBezTo>
                  <a:pt x="101" y="64"/>
                  <a:pt x="101" y="64"/>
                  <a:pt x="101" y="64"/>
                </a:cubicBezTo>
                <a:cubicBezTo>
                  <a:pt x="101" y="64"/>
                  <a:pt x="101" y="64"/>
                  <a:pt x="101" y="64"/>
                </a:cubicBezTo>
                <a:cubicBezTo>
                  <a:pt x="100" y="64"/>
                  <a:pt x="100" y="64"/>
                  <a:pt x="100" y="64"/>
                </a:cubicBezTo>
                <a:cubicBezTo>
                  <a:pt x="100" y="64"/>
                  <a:pt x="100" y="64"/>
                  <a:pt x="100" y="64"/>
                </a:cubicBezTo>
                <a:cubicBezTo>
                  <a:pt x="99" y="63"/>
                  <a:pt x="99" y="63"/>
                  <a:pt x="99" y="63"/>
                </a:cubicBezTo>
                <a:cubicBezTo>
                  <a:pt x="99" y="63"/>
                  <a:pt x="99" y="63"/>
                  <a:pt x="99" y="63"/>
                </a:cubicBezTo>
                <a:cubicBezTo>
                  <a:pt x="98" y="63"/>
                  <a:pt x="98" y="63"/>
                  <a:pt x="98" y="63"/>
                </a:cubicBezTo>
                <a:cubicBezTo>
                  <a:pt x="98" y="63"/>
                  <a:pt x="98" y="63"/>
                  <a:pt x="98" y="63"/>
                </a:cubicBezTo>
                <a:cubicBezTo>
                  <a:pt x="97" y="63"/>
                  <a:pt x="97" y="63"/>
                  <a:pt x="97" y="63"/>
                </a:cubicBezTo>
                <a:cubicBezTo>
                  <a:pt x="96" y="63"/>
                  <a:pt x="96" y="63"/>
                  <a:pt x="96" y="63"/>
                </a:cubicBezTo>
                <a:cubicBezTo>
                  <a:pt x="96" y="63"/>
                  <a:pt x="96" y="63"/>
                  <a:pt x="96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4" y="63"/>
                  <a:pt x="94" y="63"/>
                  <a:pt x="94" y="63"/>
                </a:cubicBezTo>
                <a:cubicBezTo>
                  <a:pt x="93" y="63"/>
                  <a:pt x="93" y="63"/>
                  <a:pt x="93" y="63"/>
                </a:cubicBezTo>
                <a:cubicBezTo>
                  <a:pt x="92" y="63"/>
                  <a:pt x="92" y="63"/>
                  <a:pt x="92" y="63"/>
                </a:cubicBezTo>
                <a:cubicBezTo>
                  <a:pt x="92" y="63"/>
                  <a:pt x="92" y="63"/>
                  <a:pt x="92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0" y="63"/>
                  <a:pt x="90" y="63"/>
                  <a:pt x="90" y="63"/>
                </a:cubicBezTo>
                <a:cubicBezTo>
                  <a:pt x="89" y="63"/>
                  <a:pt x="89" y="63"/>
                  <a:pt x="89" y="63"/>
                </a:cubicBezTo>
                <a:cubicBezTo>
                  <a:pt x="88" y="63"/>
                  <a:pt x="88" y="63"/>
                  <a:pt x="88" y="63"/>
                </a:cubicBezTo>
                <a:cubicBezTo>
                  <a:pt x="87" y="63"/>
                  <a:pt x="87" y="63"/>
                  <a:pt x="87" y="63"/>
                </a:cubicBezTo>
                <a:cubicBezTo>
                  <a:pt x="86" y="63"/>
                  <a:pt x="86" y="63"/>
                  <a:pt x="86" y="63"/>
                </a:cubicBezTo>
                <a:cubicBezTo>
                  <a:pt x="86" y="63"/>
                  <a:pt x="86" y="63"/>
                  <a:pt x="85" y="63"/>
                </a:cubicBezTo>
                <a:cubicBezTo>
                  <a:pt x="84" y="63"/>
                  <a:pt x="84" y="63"/>
                  <a:pt x="84" y="63"/>
                </a:cubicBezTo>
                <a:cubicBezTo>
                  <a:pt x="84" y="63"/>
                  <a:pt x="84" y="63"/>
                  <a:pt x="84" y="63"/>
                </a:cubicBezTo>
                <a:cubicBezTo>
                  <a:pt x="84" y="63"/>
                  <a:pt x="84" y="63"/>
                  <a:pt x="84" y="63"/>
                </a:cubicBezTo>
                <a:cubicBezTo>
                  <a:pt x="84" y="63"/>
                  <a:pt x="83" y="63"/>
                  <a:pt x="83" y="63"/>
                </a:cubicBezTo>
                <a:cubicBezTo>
                  <a:pt x="82" y="63"/>
                  <a:pt x="82" y="63"/>
                  <a:pt x="82" y="63"/>
                </a:cubicBezTo>
                <a:cubicBezTo>
                  <a:pt x="81" y="63"/>
                  <a:pt x="81" y="63"/>
                  <a:pt x="81" y="63"/>
                </a:cubicBezTo>
                <a:cubicBezTo>
                  <a:pt x="80" y="63"/>
                  <a:pt x="80" y="63"/>
                  <a:pt x="80" y="63"/>
                </a:cubicBezTo>
                <a:cubicBezTo>
                  <a:pt x="79" y="63"/>
                  <a:pt x="79" y="63"/>
                  <a:pt x="79" y="63"/>
                </a:cubicBezTo>
                <a:cubicBezTo>
                  <a:pt x="79" y="63"/>
                  <a:pt x="79" y="63"/>
                  <a:pt x="79" y="63"/>
                </a:cubicBezTo>
                <a:cubicBezTo>
                  <a:pt x="78" y="63"/>
                  <a:pt x="78" y="63"/>
                  <a:pt x="78" y="63"/>
                </a:cubicBezTo>
                <a:cubicBezTo>
                  <a:pt x="77" y="63"/>
                  <a:pt x="77" y="63"/>
                  <a:pt x="77" y="63"/>
                </a:cubicBezTo>
                <a:cubicBezTo>
                  <a:pt x="77" y="63"/>
                  <a:pt x="77" y="63"/>
                  <a:pt x="77" y="63"/>
                </a:cubicBezTo>
                <a:cubicBezTo>
                  <a:pt x="76" y="63"/>
                  <a:pt x="76" y="63"/>
                  <a:pt x="76" y="63"/>
                </a:cubicBezTo>
                <a:cubicBezTo>
                  <a:pt x="75" y="63"/>
                  <a:pt x="74" y="63"/>
                  <a:pt x="74" y="63"/>
                </a:cubicBezTo>
                <a:cubicBezTo>
                  <a:pt x="73" y="63"/>
                  <a:pt x="72" y="63"/>
                  <a:pt x="72" y="63"/>
                </a:cubicBezTo>
                <a:cubicBezTo>
                  <a:pt x="71" y="63"/>
                  <a:pt x="70" y="63"/>
                  <a:pt x="70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8" y="63"/>
                  <a:pt x="68" y="63"/>
                  <a:pt x="68" y="63"/>
                </a:cubicBezTo>
                <a:cubicBezTo>
                  <a:pt x="66" y="63"/>
                  <a:pt x="65" y="63"/>
                  <a:pt x="64" y="63"/>
                </a:cubicBezTo>
                <a:cubicBezTo>
                  <a:pt x="62" y="63"/>
                  <a:pt x="61" y="63"/>
                  <a:pt x="60" y="64"/>
                </a:cubicBezTo>
                <a:cubicBezTo>
                  <a:pt x="60" y="64"/>
                  <a:pt x="60" y="64"/>
                  <a:pt x="60" y="64"/>
                </a:cubicBezTo>
                <a:cubicBezTo>
                  <a:pt x="60" y="64"/>
                  <a:pt x="60" y="64"/>
                  <a:pt x="60" y="64"/>
                </a:cubicBezTo>
                <a:cubicBezTo>
                  <a:pt x="59" y="64"/>
                  <a:pt x="59" y="64"/>
                  <a:pt x="58" y="64"/>
                </a:cubicBezTo>
                <a:cubicBezTo>
                  <a:pt x="57" y="64"/>
                  <a:pt x="57" y="64"/>
                  <a:pt x="56" y="64"/>
                </a:cubicBezTo>
                <a:cubicBezTo>
                  <a:pt x="56" y="64"/>
                  <a:pt x="56" y="64"/>
                  <a:pt x="56" y="64"/>
                </a:cubicBezTo>
                <a:cubicBezTo>
                  <a:pt x="55" y="64"/>
                  <a:pt x="55" y="64"/>
                  <a:pt x="54" y="64"/>
                </a:cubicBezTo>
                <a:cubicBezTo>
                  <a:pt x="54" y="64"/>
                  <a:pt x="53" y="64"/>
                  <a:pt x="53" y="64"/>
                </a:cubicBezTo>
                <a:cubicBezTo>
                  <a:pt x="52" y="64"/>
                  <a:pt x="51" y="64"/>
                  <a:pt x="50" y="64"/>
                </a:cubicBezTo>
                <a:cubicBezTo>
                  <a:pt x="49" y="64"/>
                  <a:pt x="49" y="64"/>
                  <a:pt x="48" y="64"/>
                </a:cubicBezTo>
                <a:cubicBezTo>
                  <a:pt x="46" y="64"/>
                  <a:pt x="45" y="64"/>
                  <a:pt x="44" y="65"/>
                </a:cubicBezTo>
                <a:cubicBezTo>
                  <a:pt x="44" y="65"/>
                  <a:pt x="44" y="65"/>
                  <a:pt x="44" y="65"/>
                </a:cubicBezTo>
                <a:cubicBezTo>
                  <a:pt x="44" y="65"/>
                  <a:pt x="44" y="65"/>
                  <a:pt x="44" y="65"/>
                </a:cubicBezTo>
                <a:cubicBezTo>
                  <a:pt x="43" y="65"/>
                  <a:pt x="43" y="65"/>
                  <a:pt x="43" y="65"/>
                </a:cubicBezTo>
                <a:cubicBezTo>
                  <a:pt x="43" y="65"/>
                  <a:pt x="43" y="65"/>
                  <a:pt x="43" y="65"/>
                </a:cubicBezTo>
                <a:cubicBezTo>
                  <a:pt x="42" y="65"/>
                  <a:pt x="42" y="65"/>
                  <a:pt x="41" y="65"/>
                </a:cubicBezTo>
                <a:cubicBezTo>
                  <a:pt x="40" y="65"/>
                  <a:pt x="40" y="65"/>
                  <a:pt x="40" y="65"/>
                </a:cubicBezTo>
                <a:cubicBezTo>
                  <a:pt x="39" y="65"/>
                  <a:pt x="38" y="65"/>
                  <a:pt x="37" y="65"/>
                </a:cubicBezTo>
                <a:cubicBezTo>
                  <a:pt x="37" y="65"/>
                  <a:pt x="37" y="65"/>
                  <a:pt x="37" y="65"/>
                </a:cubicBezTo>
                <a:cubicBezTo>
                  <a:pt x="36" y="65"/>
                  <a:pt x="35" y="65"/>
                  <a:pt x="34" y="65"/>
                </a:cubicBezTo>
                <a:cubicBezTo>
                  <a:pt x="33" y="65"/>
                  <a:pt x="31" y="65"/>
                  <a:pt x="30" y="65"/>
                </a:cubicBezTo>
                <a:cubicBezTo>
                  <a:pt x="27" y="65"/>
                  <a:pt x="24" y="65"/>
                  <a:pt x="21" y="65"/>
                </a:cubicBezTo>
                <a:cubicBezTo>
                  <a:pt x="21" y="65"/>
                  <a:pt x="21" y="65"/>
                  <a:pt x="21" y="65"/>
                </a:cubicBezTo>
                <a:cubicBezTo>
                  <a:pt x="20" y="65"/>
                  <a:pt x="18" y="65"/>
                  <a:pt x="17" y="65"/>
                </a:cubicBezTo>
                <a:cubicBezTo>
                  <a:pt x="17" y="65"/>
                  <a:pt x="17" y="65"/>
                  <a:pt x="17" y="65"/>
                </a:cubicBezTo>
                <a:cubicBezTo>
                  <a:pt x="16" y="65"/>
                  <a:pt x="14" y="64"/>
                  <a:pt x="13" y="64"/>
                </a:cubicBezTo>
                <a:cubicBezTo>
                  <a:pt x="12" y="64"/>
                  <a:pt x="11" y="64"/>
                  <a:pt x="10" y="64"/>
                </a:cubicBezTo>
                <a:cubicBezTo>
                  <a:pt x="10" y="64"/>
                  <a:pt x="10" y="64"/>
                  <a:pt x="10" y="64"/>
                </a:cubicBezTo>
                <a:cubicBezTo>
                  <a:pt x="9" y="63"/>
                  <a:pt x="8" y="63"/>
                  <a:pt x="7" y="63"/>
                </a:cubicBezTo>
                <a:cubicBezTo>
                  <a:pt x="6" y="63"/>
                  <a:pt x="6" y="63"/>
                  <a:pt x="6" y="63"/>
                </a:cubicBezTo>
                <a:cubicBezTo>
                  <a:pt x="6" y="62"/>
                  <a:pt x="5" y="62"/>
                  <a:pt x="4" y="62"/>
                </a:cubicBezTo>
                <a:cubicBezTo>
                  <a:pt x="3" y="62"/>
                  <a:pt x="3" y="62"/>
                  <a:pt x="3" y="62"/>
                </a:cubicBezTo>
                <a:cubicBezTo>
                  <a:pt x="3" y="61"/>
                  <a:pt x="2" y="61"/>
                  <a:pt x="1" y="60"/>
                </a:cubicBezTo>
                <a:cubicBezTo>
                  <a:pt x="1" y="60"/>
                  <a:pt x="1" y="60"/>
                  <a:pt x="1" y="60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59"/>
                  <a:pt x="0" y="58"/>
                  <a:pt x="0" y="58"/>
                </a:cubicBezTo>
                <a:cubicBezTo>
                  <a:pt x="0" y="57"/>
                  <a:pt x="0" y="57"/>
                  <a:pt x="0" y="57"/>
                </a:cubicBezTo>
                <a:cubicBezTo>
                  <a:pt x="1" y="97"/>
                  <a:pt x="1" y="138"/>
                  <a:pt x="2" y="179"/>
                </a:cubicBezTo>
                <a:cubicBezTo>
                  <a:pt x="2" y="179"/>
                  <a:pt x="2" y="179"/>
                  <a:pt x="2" y="180"/>
                </a:cubicBezTo>
                <a:cubicBezTo>
                  <a:pt x="2" y="180"/>
                  <a:pt x="2" y="181"/>
                  <a:pt x="3" y="181"/>
                </a:cubicBezTo>
                <a:cubicBezTo>
                  <a:pt x="3" y="182"/>
                  <a:pt x="3" y="182"/>
                  <a:pt x="3" y="182"/>
                </a:cubicBezTo>
                <a:cubicBezTo>
                  <a:pt x="4" y="183"/>
                  <a:pt x="4" y="183"/>
                  <a:pt x="4" y="183"/>
                </a:cubicBezTo>
                <a:cubicBezTo>
                  <a:pt x="4" y="183"/>
                  <a:pt x="4" y="183"/>
                  <a:pt x="4" y="183"/>
                </a:cubicBezTo>
                <a:cubicBezTo>
                  <a:pt x="5" y="200"/>
                  <a:pt x="5" y="218"/>
                  <a:pt x="5" y="235"/>
                </a:cubicBezTo>
                <a:cubicBezTo>
                  <a:pt x="5" y="236"/>
                  <a:pt x="5" y="237"/>
                  <a:pt x="6" y="238"/>
                </a:cubicBezTo>
                <a:cubicBezTo>
                  <a:pt x="6" y="240"/>
                  <a:pt x="6" y="241"/>
                  <a:pt x="7" y="242"/>
                </a:cubicBezTo>
                <a:cubicBezTo>
                  <a:pt x="7" y="243"/>
                  <a:pt x="8" y="245"/>
                  <a:pt x="9" y="246"/>
                </a:cubicBezTo>
                <a:cubicBezTo>
                  <a:pt x="9" y="248"/>
                  <a:pt x="10" y="249"/>
                  <a:pt x="11" y="251"/>
                </a:cubicBezTo>
                <a:cubicBezTo>
                  <a:pt x="12" y="254"/>
                  <a:pt x="14" y="257"/>
                  <a:pt x="15" y="260"/>
                </a:cubicBezTo>
                <a:cubicBezTo>
                  <a:pt x="17" y="263"/>
                  <a:pt x="19" y="265"/>
                  <a:pt x="20" y="267"/>
                </a:cubicBezTo>
                <a:cubicBezTo>
                  <a:pt x="22" y="269"/>
                  <a:pt x="23" y="271"/>
                  <a:pt x="24" y="272"/>
                </a:cubicBezTo>
                <a:cubicBezTo>
                  <a:pt x="25" y="273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8" y="276"/>
                  <a:pt x="28" y="276"/>
                  <a:pt x="28" y="276"/>
                </a:cubicBezTo>
                <a:cubicBezTo>
                  <a:pt x="28" y="276"/>
                  <a:pt x="28" y="276"/>
                  <a:pt x="28" y="276"/>
                </a:cubicBezTo>
                <a:cubicBezTo>
                  <a:pt x="29" y="276"/>
                  <a:pt x="29" y="276"/>
                  <a:pt x="29" y="276"/>
                </a:cubicBezTo>
                <a:cubicBezTo>
                  <a:pt x="29" y="276"/>
                  <a:pt x="29" y="276"/>
                  <a:pt x="29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1" y="276"/>
                  <a:pt x="31" y="276"/>
                  <a:pt x="31" y="276"/>
                </a:cubicBezTo>
                <a:cubicBezTo>
                  <a:pt x="31" y="277"/>
                  <a:pt x="31" y="277"/>
                  <a:pt x="31" y="277"/>
                </a:cubicBezTo>
                <a:cubicBezTo>
                  <a:pt x="31" y="277"/>
                  <a:pt x="31" y="277"/>
                  <a:pt x="31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5" y="277"/>
                  <a:pt x="35" y="277"/>
                  <a:pt x="35" y="277"/>
                </a:cubicBezTo>
                <a:cubicBezTo>
                  <a:pt x="35" y="277"/>
                  <a:pt x="35" y="277"/>
                  <a:pt x="35" y="277"/>
                </a:cubicBezTo>
                <a:cubicBezTo>
                  <a:pt x="35" y="277"/>
                  <a:pt x="35" y="277"/>
                  <a:pt x="35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6" y="278"/>
                  <a:pt x="36" y="278"/>
                  <a:pt x="36" y="278"/>
                </a:cubicBezTo>
                <a:cubicBezTo>
                  <a:pt x="37" y="278"/>
                  <a:pt x="37" y="278"/>
                  <a:pt x="37" y="278"/>
                </a:cubicBezTo>
                <a:cubicBezTo>
                  <a:pt x="37" y="278"/>
                  <a:pt x="37" y="278"/>
                  <a:pt x="37" y="278"/>
                </a:cubicBezTo>
                <a:cubicBezTo>
                  <a:pt x="37" y="278"/>
                  <a:pt x="37" y="278"/>
                  <a:pt x="37" y="278"/>
                </a:cubicBezTo>
                <a:cubicBezTo>
                  <a:pt x="37" y="278"/>
                  <a:pt x="37" y="278"/>
                  <a:pt x="37" y="278"/>
                </a:cubicBezTo>
                <a:cubicBezTo>
                  <a:pt x="38" y="278"/>
                  <a:pt x="38" y="278"/>
                  <a:pt x="38" y="278"/>
                </a:cubicBezTo>
                <a:cubicBezTo>
                  <a:pt x="38" y="278"/>
                  <a:pt x="38" y="278"/>
                  <a:pt x="38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40" y="278"/>
                  <a:pt x="40" y="278"/>
                  <a:pt x="40" y="278"/>
                </a:cubicBezTo>
                <a:cubicBezTo>
                  <a:pt x="40" y="278"/>
                  <a:pt x="40" y="278"/>
                  <a:pt x="40" y="278"/>
                </a:cubicBezTo>
                <a:cubicBezTo>
                  <a:pt x="40" y="278"/>
                  <a:pt x="40" y="278"/>
                  <a:pt x="40" y="278"/>
                </a:cubicBezTo>
                <a:cubicBezTo>
                  <a:pt x="40" y="278"/>
                  <a:pt x="40" y="278"/>
                  <a:pt x="40" y="278"/>
                </a:cubicBezTo>
                <a:cubicBezTo>
                  <a:pt x="41" y="278"/>
                  <a:pt x="41" y="278"/>
                  <a:pt x="41" y="278"/>
                </a:cubicBezTo>
                <a:cubicBezTo>
                  <a:pt x="42" y="278"/>
                  <a:pt x="42" y="278"/>
                  <a:pt x="42" y="278"/>
                </a:cubicBezTo>
                <a:cubicBezTo>
                  <a:pt x="42" y="278"/>
                  <a:pt x="42" y="278"/>
                  <a:pt x="42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4" y="278"/>
                  <a:pt x="44" y="278"/>
                  <a:pt x="44" y="278"/>
                </a:cubicBezTo>
                <a:cubicBezTo>
                  <a:pt x="44" y="278"/>
                  <a:pt x="44" y="278"/>
                  <a:pt x="44" y="278"/>
                </a:cubicBezTo>
                <a:cubicBezTo>
                  <a:pt x="45" y="278"/>
                  <a:pt x="45" y="278"/>
                  <a:pt x="45" y="278"/>
                </a:cubicBezTo>
                <a:cubicBezTo>
                  <a:pt x="46" y="278"/>
                  <a:pt x="46" y="278"/>
                  <a:pt x="46" y="278"/>
                </a:cubicBezTo>
                <a:cubicBezTo>
                  <a:pt x="47" y="278"/>
                  <a:pt x="47" y="278"/>
                  <a:pt x="47" y="278"/>
                </a:cubicBezTo>
                <a:cubicBezTo>
                  <a:pt x="48" y="278"/>
                  <a:pt x="48" y="278"/>
                  <a:pt x="48" y="278"/>
                </a:cubicBezTo>
                <a:cubicBezTo>
                  <a:pt x="49" y="278"/>
                  <a:pt x="49" y="278"/>
                  <a:pt x="49" y="278"/>
                </a:cubicBezTo>
                <a:cubicBezTo>
                  <a:pt x="49" y="278"/>
                  <a:pt x="50" y="278"/>
                  <a:pt x="50" y="278"/>
                </a:cubicBezTo>
                <a:cubicBezTo>
                  <a:pt x="50" y="278"/>
                  <a:pt x="51" y="278"/>
                  <a:pt x="51" y="278"/>
                </a:cubicBezTo>
                <a:cubicBezTo>
                  <a:pt x="52" y="278"/>
                  <a:pt x="52" y="278"/>
                  <a:pt x="52" y="278"/>
                </a:cubicBezTo>
                <a:cubicBezTo>
                  <a:pt x="52" y="278"/>
                  <a:pt x="52" y="278"/>
                  <a:pt x="52" y="278"/>
                </a:cubicBezTo>
                <a:cubicBezTo>
                  <a:pt x="52" y="278"/>
                  <a:pt x="52" y="278"/>
                  <a:pt x="52" y="278"/>
                </a:cubicBezTo>
                <a:cubicBezTo>
                  <a:pt x="53" y="278"/>
                  <a:pt x="53" y="278"/>
                  <a:pt x="54" y="278"/>
                </a:cubicBezTo>
                <a:cubicBezTo>
                  <a:pt x="54" y="278"/>
                  <a:pt x="54" y="278"/>
                  <a:pt x="54" y="278"/>
                </a:cubicBezTo>
                <a:cubicBezTo>
                  <a:pt x="55" y="278"/>
                  <a:pt x="55" y="278"/>
                  <a:pt x="55" y="278"/>
                </a:cubicBezTo>
                <a:cubicBezTo>
                  <a:pt x="56" y="278"/>
                  <a:pt x="56" y="278"/>
                  <a:pt x="56" y="278"/>
                </a:cubicBezTo>
                <a:cubicBezTo>
                  <a:pt x="57" y="278"/>
                  <a:pt x="57" y="278"/>
                  <a:pt x="57" y="278"/>
                </a:cubicBezTo>
                <a:cubicBezTo>
                  <a:pt x="57" y="278"/>
                  <a:pt x="57" y="278"/>
                  <a:pt x="57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9" y="278"/>
                  <a:pt x="59" y="278"/>
                  <a:pt x="59" y="278"/>
                </a:cubicBezTo>
                <a:cubicBezTo>
                  <a:pt x="59" y="278"/>
                  <a:pt x="59" y="278"/>
                  <a:pt x="59" y="278"/>
                </a:cubicBezTo>
                <a:cubicBezTo>
                  <a:pt x="60" y="278"/>
                  <a:pt x="62" y="278"/>
                  <a:pt x="63" y="278"/>
                </a:cubicBezTo>
                <a:cubicBezTo>
                  <a:pt x="64" y="278"/>
                  <a:pt x="64" y="278"/>
                  <a:pt x="64" y="278"/>
                </a:cubicBezTo>
                <a:cubicBezTo>
                  <a:pt x="65" y="278"/>
                  <a:pt x="66" y="278"/>
                  <a:pt x="67" y="278"/>
                </a:cubicBezTo>
                <a:cubicBezTo>
                  <a:pt x="68" y="278"/>
                  <a:pt x="68" y="278"/>
                  <a:pt x="69" y="278"/>
                </a:cubicBezTo>
                <a:cubicBezTo>
                  <a:pt x="72" y="278"/>
                  <a:pt x="75" y="278"/>
                  <a:pt x="78" y="278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3"/>
          <p:cNvSpPr/>
          <p:nvPr/>
        </p:nvSpPr>
        <p:spPr>
          <a:xfrm>
            <a:off x="6039000" y="2819520"/>
            <a:ext cx="1498320" cy="717480"/>
          </a:xfrm>
          <a:custGeom>
            <a:avLst/>
            <a:gdLst/>
            <a:ahLst/>
            <a:rect l="l" t="t" r="r" b="b"/>
            <a:pathLst>
              <a:path w="826" h="396">
                <a:moveTo>
                  <a:pt x="66" y="210"/>
                </a:moveTo>
                <a:cubicBezTo>
                  <a:pt x="67" y="210"/>
                  <a:pt x="67" y="210"/>
                  <a:pt x="67" y="210"/>
                </a:cubicBezTo>
                <a:cubicBezTo>
                  <a:pt x="67" y="210"/>
                  <a:pt x="67" y="210"/>
                  <a:pt x="67" y="210"/>
                </a:cubicBezTo>
                <a:cubicBezTo>
                  <a:pt x="68" y="210"/>
                  <a:pt x="68" y="210"/>
                  <a:pt x="68" y="210"/>
                </a:cubicBezTo>
                <a:cubicBezTo>
                  <a:pt x="68" y="210"/>
                  <a:pt x="68" y="210"/>
                  <a:pt x="68" y="210"/>
                </a:cubicBezTo>
                <a:cubicBezTo>
                  <a:pt x="68" y="210"/>
                  <a:pt x="68" y="210"/>
                  <a:pt x="68" y="210"/>
                </a:cubicBezTo>
                <a:cubicBezTo>
                  <a:pt x="69" y="210"/>
                  <a:pt x="69" y="210"/>
                  <a:pt x="69" y="210"/>
                </a:cubicBezTo>
                <a:cubicBezTo>
                  <a:pt x="69" y="210"/>
                  <a:pt x="69" y="210"/>
                  <a:pt x="69" y="210"/>
                </a:cubicBezTo>
                <a:cubicBezTo>
                  <a:pt x="70" y="210"/>
                  <a:pt x="70" y="210"/>
                  <a:pt x="70" y="210"/>
                </a:cubicBezTo>
                <a:cubicBezTo>
                  <a:pt x="71" y="210"/>
                  <a:pt x="71" y="210"/>
                  <a:pt x="71" y="210"/>
                </a:cubicBezTo>
                <a:cubicBezTo>
                  <a:pt x="72" y="210"/>
                  <a:pt x="72" y="210"/>
                  <a:pt x="72" y="210"/>
                </a:cubicBezTo>
                <a:cubicBezTo>
                  <a:pt x="72" y="210"/>
                  <a:pt x="72" y="210"/>
                  <a:pt x="72" y="210"/>
                </a:cubicBezTo>
                <a:cubicBezTo>
                  <a:pt x="72" y="210"/>
                  <a:pt x="72" y="210"/>
                  <a:pt x="72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4" y="210"/>
                  <a:pt x="74" y="210"/>
                  <a:pt x="74" y="210"/>
                </a:cubicBezTo>
                <a:cubicBezTo>
                  <a:pt x="74" y="210"/>
                  <a:pt x="74" y="210"/>
                  <a:pt x="74" y="210"/>
                </a:cubicBezTo>
                <a:cubicBezTo>
                  <a:pt x="75" y="210"/>
                  <a:pt x="75" y="210"/>
                  <a:pt x="75" y="210"/>
                </a:cubicBezTo>
                <a:cubicBezTo>
                  <a:pt x="76" y="210"/>
                  <a:pt x="76" y="210"/>
                  <a:pt x="76" y="210"/>
                </a:cubicBezTo>
                <a:cubicBezTo>
                  <a:pt x="77" y="210"/>
                  <a:pt x="77" y="210"/>
                  <a:pt x="77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9" y="210"/>
                  <a:pt x="79" y="210"/>
                  <a:pt x="79" y="210"/>
                </a:cubicBezTo>
                <a:cubicBezTo>
                  <a:pt x="79" y="210"/>
                  <a:pt x="80" y="210"/>
                  <a:pt x="80" y="210"/>
                </a:cubicBezTo>
                <a:cubicBezTo>
                  <a:pt x="81" y="209"/>
                  <a:pt x="81" y="209"/>
                  <a:pt x="82" y="209"/>
                </a:cubicBezTo>
                <a:cubicBezTo>
                  <a:pt x="82" y="209"/>
                  <a:pt x="82" y="209"/>
                  <a:pt x="83" y="209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3" y="209"/>
                  <a:pt x="84" y="209"/>
                  <a:pt x="84" y="209"/>
                </a:cubicBezTo>
                <a:cubicBezTo>
                  <a:pt x="85" y="209"/>
                  <a:pt x="85" y="209"/>
                  <a:pt x="86" y="209"/>
                </a:cubicBezTo>
                <a:cubicBezTo>
                  <a:pt x="86" y="285"/>
                  <a:pt x="86" y="285"/>
                  <a:pt x="86" y="285"/>
                </a:cubicBezTo>
                <a:cubicBezTo>
                  <a:pt x="86" y="288"/>
                  <a:pt x="87" y="291"/>
                  <a:pt x="87" y="294"/>
                </a:cubicBezTo>
                <a:cubicBezTo>
                  <a:pt x="88" y="295"/>
                  <a:pt x="88" y="296"/>
                  <a:pt x="88" y="297"/>
                </a:cubicBezTo>
                <a:cubicBezTo>
                  <a:pt x="90" y="301"/>
                  <a:pt x="92" y="305"/>
                  <a:pt x="94" y="309"/>
                </a:cubicBezTo>
                <a:cubicBezTo>
                  <a:pt x="97" y="314"/>
                  <a:pt x="100" y="318"/>
                  <a:pt x="103" y="322"/>
                </a:cubicBezTo>
                <a:cubicBezTo>
                  <a:pt x="106" y="325"/>
                  <a:pt x="109" y="329"/>
                  <a:pt x="112" y="332"/>
                </a:cubicBezTo>
                <a:cubicBezTo>
                  <a:pt x="115" y="336"/>
                  <a:pt x="119" y="340"/>
                  <a:pt x="122" y="343"/>
                </a:cubicBezTo>
                <a:cubicBezTo>
                  <a:pt x="125" y="346"/>
                  <a:pt x="128" y="348"/>
                  <a:pt x="130" y="350"/>
                </a:cubicBezTo>
                <a:cubicBezTo>
                  <a:pt x="132" y="352"/>
                  <a:pt x="134" y="354"/>
                  <a:pt x="135" y="355"/>
                </a:cubicBezTo>
                <a:cubicBezTo>
                  <a:pt x="137" y="356"/>
                  <a:pt x="138" y="356"/>
                  <a:pt x="138" y="357"/>
                </a:cubicBezTo>
                <a:cubicBezTo>
                  <a:pt x="139" y="356"/>
                  <a:pt x="143" y="355"/>
                  <a:pt x="149" y="354"/>
                </a:cubicBezTo>
                <a:cubicBezTo>
                  <a:pt x="155" y="353"/>
                  <a:pt x="164" y="351"/>
                  <a:pt x="174" y="350"/>
                </a:cubicBezTo>
                <a:cubicBezTo>
                  <a:pt x="179" y="349"/>
                  <a:pt x="184" y="348"/>
                  <a:pt x="189" y="347"/>
                </a:cubicBezTo>
                <a:cubicBezTo>
                  <a:pt x="190" y="346"/>
                  <a:pt x="190" y="346"/>
                  <a:pt x="190" y="346"/>
                </a:cubicBezTo>
                <a:cubicBezTo>
                  <a:pt x="192" y="346"/>
                  <a:pt x="195" y="345"/>
                  <a:pt x="198" y="345"/>
                </a:cubicBezTo>
                <a:cubicBezTo>
                  <a:pt x="198" y="345"/>
                  <a:pt x="198" y="345"/>
                  <a:pt x="198" y="345"/>
                </a:cubicBezTo>
                <a:cubicBezTo>
                  <a:pt x="201" y="344"/>
                  <a:pt x="204" y="344"/>
                  <a:pt x="207" y="343"/>
                </a:cubicBezTo>
                <a:cubicBezTo>
                  <a:pt x="207" y="343"/>
                  <a:pt x="207" y="343"/>
                  <a:pt x="207" y="343"/>
                </a:cubicBezTo>
                <a:cubicBezTo>
                  <a:pt x="208" y="343"/>
                  <a:pt x="209" y="343"/>
                  <a:pt x="211" y="343"/>
                </a:cubicBezTo>
                <a:cubicBezTo>
                  <a:pt x="218" y="341"/>
                  <a:pt x="226" y="340"/>
                  <a:pt x="233" y="338"/>
                </a:cubicBezTo>
                <a:cubicBezTo>
                  <a:pt x="236" y="338"/>
                  <a:pt x="238" y="338"/>
                  <a:pt x="240" y="337"/>
                </a:cubicBezTo>
                <a:cubicBezTo>
                  <a:pt x="241" y="337"/>
                  <a:pt x="242" y="337"/>
                  <a:pt x="243" y="337"/>
                </a:cubicBezTo>
                <a:cubicBezTo>
                  <a:pt x="244" y="337"/>
                  <a:pt x="245" y="336"/>
                  <a:pt x="246" y="336"/>
                </a:cubicBezTo>
                <a:cubicBezTo>
                  <a:pt x="253" y="335"/>
                  <a:pt x="260" y="334"/>
                  <a:pt x="267" y="333"/>
                </a:cubicBezTo>
                <a:cubicBezTo>
                  <a:pt x="268" y="332"/>
                  <a:pt x="268" y="332"/>
                  <a:pt x="268" y="332"/>
                </a:cubicBezTo>
                <a:cubicBezTo>
                  <a:pt x="271" y="332"/>
                  <a:pt x="275" y="331"/>
                  <a:pt x="278" y="331"/>
                </a:cubicBezTo>
                <a:cubicBezTo>
                  <a:pt x="279" y="331"/>
                  <a:pt x="279" y="331"/>
                  <a:pt x="279" y="331"/>
                </a:cubicBezTo>
                <a:cubicBezTo>
                  <a:pt x="282" y="330"/>
                  <a:pt x="285" y="330"/>
                  <a:pt x="288" y="329"/>
                </a:cubicBezTo>
                <a:cubicBezTo>
                  <a:pt x="289" y="329"/>
                  <a:pt x="290" y="329"/>
                  <a:pt x="291" y="329"/>
                </a:cubicBezTo>
                <a:cubicBezTo>
                  <a:pt x="293" y="328"/>
                  <a:pt x="296" y="328"/>
                  <a:pt x="298" y="328"/>
                </a:cubicBezTo>
                <a:cubicBezTo>
                  <a:pt x="299" y="327"/>
                  <a:pt x="300" y="327"/>
                  <a:pt x="301" y="327"/>
                </a:cubicBezTo>
                <a:cubicBezTo>
                  <a:pt x="304" y="327"/>
                  <a:pt x="306" y="326"/>
                  <a:pt x="309" y="326"/>
                </a:cubicBezTo>
                <a:cubicBezTo>
                  <a:pt x="310" y="326"/>
                  <a:pt x="310" y="326"/>
                  <a:pt x="310" y="326"/>
                </a:cubicBezTo>
                <a:cubicBezTo>
                  <a:pt x="313" y="325"/>
                  <a:pt x="316" y="325"/>
                  <a:pt x="319" y="325"/>
                </a:cubicBezTo>
                <a:cubicBezTo>
                  <a:pt x="320" y="324"/>
                  <a:pt x="320" y="324"/>
                  <a:pt x="320" y="324"/>
                </a:cubicBezTo>
                <a:cubicBezTo>
                  <a:pt x="322" y="324"/>
                  <a:pt x="324" y="324"/>
                  <a:pt x="327" y="324"/>
                </a:cubicBezTo>
                <a:cubicBezTo>
                  <a:pt x="328" y="323"/>
                  <a:pt x="329" y="323"/>
                  <a:pt x="330" y="323"/>
                </a:cubicBezTo>
                <a:cubicBezTo>
                  <a:pt x="330" y="323"/>
                  <a:pt x="331" y="323"/>
                  <a:pt x="331" y="323"/>
                </a:cubicBezTo>
                <a:cubicBezTo>
                  <a:pt x="332" y="323"/>
                  <a:pt x="332" y="323"/>
                  <a:pt x="332" y="323"/>
                </a:cubicBezTo>
                <a:cubicBezTo>
                  <a:pt x="334" y="323"/>
                  <a:pt x="335" y="323"/>
                  <a:pt x="337" y="322"/>
                </a:cubicBezTo>
                <a:cubicBezTo>
                  <a:pt x="337" y="322"/>
                  <a:pt x="337" y="322"/>
                  <a:pt x="337" y="322"/>
                </a:cubicBezTo>
                <a:cubicBezTo>
                  <a:pt x="341" y="322"/>
                  <a:pt x="344" y="322"/>
                  <a:pt x="347" y="322"/>
                </a:cubicBezTo>
                <a:cubicBezTo>
                  <a:pt x="347" y="322"/>
                  <a:pt x="347" y="322"/>
                  <a:pt x="347" y="322"/>
                </a:cubicBezTo>
                <a:cubicBezTo>
                  <a:pt x="349" y="322"/>
                  <a:pt x="350" y="322"/>
                  <a:pt x="352" y="322"/>
                </a:cubicBezTo>
                <a:cubicBezTo>
                  <a:pt x="352" y="322"/>
                  <a:pt x="352" y="322"/>
                  <a:pt x="353" y="322"/>
                </a:cubicBezTo>
                <a:cubicBezTo>
                  <a:pt x="353" y="322"/>
                  <a:pt x="353" y="322"/>
                  <a:pt x="353" y="322"/>
                </a:cubicBezTo>
                <a:cubicBezTo>
                  <a:pt x="353" y="322"/>
                  <a:pt x="353" y="322"/>
                  <a:pt x="353" y="322"/>
                </a:cubicBezTo>
                <a:cubicBezTo>
                  <a:pt x="354" y="322"/>
                  <a:pt x="354" y="322"/>
                  <a:pt x="354" y="322"/>
                </a:cubicBezTo>
                <a:cubicBezTo>
                  <a:pt x="354" y="322"/>
                  <a:pt x="354" y="322"/>
                  <a:pt x="354" y="322"/>
                </a:cubicBezTo>
                <a:cubicBezTo>
                  <a:pt x="355" y="322"/>
                  <a:pt x="355" y="322"/>
                  <a:pt x="355" y="322"/>
                </a:cubicBezTo>
                <a:cubicBezTo>
                  <a:pt x="356" y="322"/>
                  <a:pt x="356" y="322"/>
                  <a:pt x="356" y="322"/>
                </a:cubicBezTo>
                <a:cubicBezTo>
                  <a:pt x="359" y="322"/>
                  <a:pt x="363" y="322"/>
                  <a:pt x="366" y="323"/>
                </a:cubicBezTo>
                <a:cubicBezTo>
                  <a:pt x="366" y="323"/>
                  <a:pt x="366" y="323"/>
                  <a:pt x="366" y="323"/>
                </a:cubicBezTo>
                <a:cubicBezTo>
                  <a:pt x="369" y="323"/>
                  <a:pt x="373" y="324"/>
                  <a:pt x="376" y="324"/>
                </a:cubicBezTo>
                <a:cubicBezTo>
                  <a:pt x="376" y="324"/>
                  <a:pt x="376" y="324"/>
                  <a:pt x="376" y="324"/>
                </a:cubicBezTo>
                <a:cubicBezTo>
                  <a:pt x="377" y="325"/>
                  <a:pt x="379" y="325"/>
                  <a:pt x="380" y="325"/>
                </a:cubicBezTo>
                <a:cubicBezTo>
                  <a:pt x="380" y="325"/>
                  <a:pt x="380" y="325"/>
                  <a:pt x="380" y="325"/>
                </a:cubicBezTo>
                <a:cubicBezTo>
                  <a:pt x="382" y="326"/>
                  <a:pt x="383" y="326"/>
                  <a:pt x="384" y="326"/>
                </a:cubicBezTo>
                <a:cubicBezTo>
                  <a:pt x="385" y="326"/>
                  <a:pt x="385" y="326"/>
                  <a:pt x="385" y="326"/>
                </a:cubicBezTo>
                <a:cubicBezTo>
                  <a:pt x="386" y="327"/>
                  <a:pt x="387" y="327"/>
                  <a:pt x="388" y="327"/>
                </a:cubicBezTo>
                <a:cubicBezTo>
                  <a:pt x="389" y="328"/>
                  <a:pt x="389" y="328"/>
                  <a:pt x="389" y="328"/>
                </a:cubicBezTo>
                <a:cubicBezTo>
                  <a:pt x="390" y="328"/>
                  <a:pt x="390" y="328"/>
                  <a:pt x="391" y="328"/>
                </a:cubicBezTo>
                <a:cubicBezTo>
                  <a:pt x="392" y="329"/>
                  <a:pt x="393" y="329"/>
                  <a:pt x="393" y="329"/>
                </a:cubicBezTo>
                <a:cubicBezTo>
                  <a:pt x="394" y="329"/>
                  <a:pt x="394" y="330"/>
                  <a:pt x="395" y="330"/>
                </a:cubicBezTo>
                <a:cubicBezTo>
                  <a:pt x="395" y="330"/>
                  <a:pt x="395" y="330"/>
                  <a:pt x="395" y="330"/>
                </a:cubicBezTo>
                <a:cubicBezTo>
                  <a:pt x="394" y="369"/>
                  <a:pt x="394" y="369"/>
                  <a:pt x="394" y="369"/>
                </a:cubicBezTo>
                <a:cubicBezTo>
                  <a:pt x="394" y="370"/>
                  <a:pt x="394" y="371"/>
                  <a:pt x="394" y="372"/>
                </a:cubicBezTo>
                <a:cubicBezTo>
                  <a:pt x="394" y="372"/>
                  <a:pt x="394" y="372"/>
                  <a:pt x="394" y="372"/>
                </a:cubicBezTo>
                <a:cubicBezTo>
                  <a:pt x="394" y="373"/>
                  <a:pt x="394" y="373"/>
                  <a:pt x="395" y="374"/>
                </a:cubicBezTo>
                <a:cubicBezTo>
                  <a:pt x="395" y="374"/>
                  <a:pt x="395" y="374"/>
                  <a:pt x="395" y="374"/>
                </a:cubicBezTo>
                <a:cubicBezTo>
                  <a:pt x="395" y="375"/>
                  <a:pt x="395" y="375"/>
                  <a:pt x="395" y="375"/>
                </a:cubicBezTo>
                <a:cubicBezTo>
                  <a:pt x="395" y="375"/>
                  <a:pt x="395" y="376"/>
                  <a:pt x="396" y="376"/>
                </a:cubicBezTo>
                <a:cubicBezTo>
                  <a:pt x="396" y="376"/>
                  <a:pt x="396" y="376"/>
                  <a:pt x="396" y="376"/>
                </a:cubicBezTo>
                <a:cubicBezTo>
                  <a:pt x="396" y="377"/>
                  <a:pt x="397" y="378"/>
                  <a:pt x="397" y="378"/>
                </a:cubicBezTo>
                <a:cubicBezTo>
                  <a:pt x="398" y="379"/>
                  <a:pt x="398" y="379"/>
                  <a:pt x="398" y="379"/>
                </a:cubicBezTo>
                <a:cubicBezTo>
                  <a:pt x="398" y="379"/>
                  <a:pt x="398" y="379"/>
                  <a:pt x="398" y="379"/>
                </a:cubicBezTo>
                <a:cubicBezTo>
                  <a:pt x="398" y="379"/>
                  <a:pt x="399" y="380"/>
                  <a:pt x="399" y="380"/>
                </a:cubicBezTo>
                <a:cubicBezTo>
                  <a:pt x="400" y="381"/>
                  <a:pt x="400" y="381"/>
                  <a:pt x="400" y="381"/>
                </a:cubicBezTo>
                <a:cubicBezTo>
                  <a:pt x="400" y="381"/>
                  <a:pt x="400" y="381"/>
                  <a:pt x="400" y="381"/>
                </a:cubicBezTo>
                <a:cubicBezTo>
                  <a:pt x="401" y="382"/>
                  <a:pt x="402" y="382"/>
                  <a:pt x="403" y="383"/>
                </a:cubicBezTo>
                <a:cubicBezTo>
                  <a:pt x="403" y="383"/>
                  <a:pt x="403" y="383"/>
                  <a:pt x="403" y="383"/>
                </a:cubicBezTo>
                <a:cubicBezTo>
                  <a:pt x="404" y="383"/>
                  <a:pt x="404" y="384"/>
                  <a:pt x="405" y="384"/>
                </a:cubicBezTo>
                <a:cubicBezTo>
                  <a:pt x="405" y="384"/>
                  <a:pt x="405" y="384"/>
                  <a:pt x="405" y="384"/>
                </a:cubicBezTo>
                <a:cubicBezTo>
                  <a:pt x="407" y="385"/>
                  <a:pt x="408" y="386"/>
                  <a:pt x="410" y="386"/>
                </a:cubicBezTo>
                <a:cubicBezTo>
                  <a:pt x="411" y="387"/>
                  <a:pt x="411" y="387"/>
                  <a:pt x="411" y="387"/>
                </a:cubicBezTo>
                <a:cubicBezTo>
                  <a:pt x="411" y="387"/>
                  <a:pt x="412" y="387"/>
                  <a:pt x="412" y="387"/>
                </a:cubicBezTo>
                <a:cubicBezTo>
                  <a:pt x="413" y="388"/>
                  <a:pt x="413" y="388"/>
                  <a:pt x="413" y="388"/>
                </a:cubicBezTo>
                <a:cubicBezTo>
                  <a:pt x="413" y="388"/>
                  <a:pt x="413" y="388"/>
                  <a:pt x="413" y="388"/>
                </a:cubicBezTo>
                <a:cubicBezTo>
                  <a:pt x="413" y="388"/>
                  <a:pt x="413" y="388"/>
                  <a:pt x="413" y="388"/>
                </a:cubicBezTo>
                <a:cubicBezTo>
                  <a:pt x="414" y="388"/>
                  <a:pt x="414" y="388"/>
                  <a:pt x="415" y="388"/>
                </a:cubicBezTo>
                <a:cubicBezTo>
                  <a:pt x="415" y="388"/>
                  <a:pt x="416" y="388"/>
                  <a:pt x="416" y="389"/>
                </a:cubicBezTo>
                <a:cubicBezTo>
                  <a:pt x="417" y="389"/>
                  <a:pt x="417" y="389"/>
                  <a:pt x="417" y="389"/>
                </a:cubicBezTo>
                <a:cubicBezTo>
                  <a:pt x="417" y="389"/>
                  <a:pt x="417" y="389"/>
                  <a:pt x="417" y="389"/>
                </a:cubicBezTo>
                <a:cubicBezTo>
                  <a:pt x="417" y="389"/>
                  <a:pt x="417" y="389"/>
                  <a:pt x="417" y="389"/>
                </a:cubicBezTo>
                <a:cubicBezTo>
                  <a:pt x="418" y="389"/>
                  <a:pt x="418" y="389"/>
                  <a:pt x="418" y="389"/>
                </a:cubicBezTo>
                <a:cubicBezTo>
                  <a:pt x="419" y="389"/>
                  <a:pt x="419" y="389"/>
                  <a:pt x="419" y="389"/>
                </a:cubicBezTo>
                <a:cubicBezTo>
                  <a:pt x="420" y="390"/>
                  <a:pt x="420" y="390"/>
                  <a:pt x="420" y="390"/>
                </a:cubicBezTo>
                <a:cubicBezTo>
                  <a:pt x="420" y="390"/>
                  <a:pt x="420" y="390"/>
                  <a:pt x="420" y="390"/>
                </a:cubicBezTo>
                <a:cubicBezTo>
                  <a:pt x="421" y="390"/>
                  <a:pt x="421" y="390"/>
                  <a:pt x="421" y="390"/>
                </a:cubicBezTo>
                <a:cubicBezTo>
                  <a:pt x="421" y="390"/>
                  <a:pt x="421" y="390"/>
                  <a:pt x="421" y="390"/>
                </a:cubicBezTo>
                <a:cubicBezTo>
                  <a:pt x="422" y="390"/>
                  <a:pt x="422" y="390"/>
                  <a:pt x="422" y="390"/>
                </a:cubicBezTo>
                <a:cubicBezTo>
                  <a:pt x="422" y="390"/>
                  <a:pt x="422" y="390"/>
                  <a:pt x="422" y="390"/>
                </a:cubicBezTo>
                <a:cubicBezTo>
                  <a:pt x="423" y="390"/>
                  <a:pt x="423" y="390"/>
                  <a:pt x="423" y="390"/>
                </a:cubicBezTo>
                <a:cubicBezTo>
                  <a:pt x="424" y="391"/>
                  <a:pt x="424" y="391"/>
                  <a:pt x="425" y="391"/>
                </a:cubicBezTo>
                <a:cubicBezTo>
                  <a:pt x="425" y="391"/>
                  <a:pt x="425" y="391"/>
                  <a:pt x="426" y="391"/>
                </a:cubicBezTo>
                <a:cubicBezTo>
                  <a:pt x="427" y="391"/>
                  <a:pt x="427" y="391"/>
                  <a:pt x="427" y="391"/>
                </a:cubicBezTo>
                <a:cubicBezTo>
                  <a:pt x="427" y="391"/>
                  <a:pt x="427" y="391"/>
                  <a:pt x="427" y="391"/>
                </a:cubicBezTo>
                <a:cubicBezTo>
                  <a:pt x="427" y="391"/>
                  <a:pt x="427" y="391"/>
                  <a:pt x="427" y="391"/>
                </a:cubicBezTo>
                <a:cubicBezTo>
                  <a:pt x="427" y="391"/>
                  <a:pt x="428" y="391"/>
                  <a:pt x="428" y="392"/>
                </a:cubicBezTo>
                <a:cubicBezTo>
                  <a:pt x="429" y="392"/>
                  <a:pt x="429" y="392"/>
                  <a:pt x="430" y="392"/>
                </a:cubicBezTo>
                <a:cubicBezTo>
                  <a:pt x="430" y="392"/>
                  <a:pt x="430" y="392"/>
                  <a:pt x="431" y="392"/>
                </a:cubicBezTo>
                <a:cubicBezTo>
                  <a:pt x="431" y="392"/>
                  <a:pt x="432" y="392"/>
                  <a:pt x="432" y="392"/>
                </a:cubicBezTo>
                <a:cubicBezTo>
                  <a:pt x="433" y="392"/>
                  <a:pt x="433" y="392"/>
                  <a:pt x="433" y="392"/>
                </a:cubicBezTo>
                <a:cubicBezTo>
                  <a:pt x="434" y="392"/>
                  <a:pt x="434" y="393"/>
                  <a:pt x="435" y="393"/>
                </a:cubicBezTo>
                <a:cubicBezTo>
                  <a:pt x="435" y="393"/>
                  <a:pt x="436" y="393"/>
                  <a:pt x="436" y="393"/>
                </a:cubicBezTo>
                <a:cubicBezTo>
                  <a:pt x="437" y="393"/>
                  <a:pt x="437" y="393"/>
                  <a:pt x="438" y="393"/>
                </a:cubicBezTo>
                <a:cubicBezTo>
                  <a:pt x="438" y="393"/>
                  <a:pt x="439" y="393"/>
                  <a:pt x="439" y="393"/>
                </a:cubicBezTo>
                <a:cubicBezTo>
                  <a:pt x="440" y="393"/>
                  <a:pt x="440" y="393"/>
                  <a:pt x="441" y="393"/>
                </a:cubicBezTo>
                <a:cubicBezTo>
                  <a:pt x="441" y="394"/>
                  <a:pt x="442" y="394"/>
                  <a:pt x="442" y="394"/>
                </a:cubicBezTo>
                <a:cubicBezTo>
                  <a:pt x="443" y="394"/>
                  <a:pt x="443" y="394"/>
                  <a:pt x="444" y="394"/>
                </a:cubicBezTo>
                <a:cubicBezTo>
                  <a:pt x="444" y="394"/>
                  <a:pt x="445" y="394"/>
                  <a:pt x="445" y="394"/>
                </a:cubicBezTo>
                <a:cubicBezTo>
                  <a:pt x="446" y="394"/>
                  <a:pt x="447" y="394"/>
                  <a:pt x="447" y="394"/>
                </a:cubicBezTo>
                <a:cubicBezTo>
                  <a:pt x="447" y="394"/>
                  <a:pt x="448" y="394"/>
                  <a:pt x="448" y="394"/>
                </a:cubicBezTo>
                <a:cubicBezTo>
                  <a:pt x="448" y="394"/>
                  <a:pt x="448" y="394"/>
                  <a:pt x="448" y="394"/>
                </a:cubicBezTo>
                <a:cubicBezTo>
                  <a:pt x="448" y="394"/>
                  <a:pt x="448" y="394"/>
                  <a:pt x="448" y="394"/>
                </a:cubicBezTo>
                <a:cubicBezTo>
                  <a:pt x="449" y="394"/>
                  <a:pt x="449" y="394"/>
                  <a:pt x="449" y="394"/>
                </a:cubicBezTo>
                <a:cubicBezTo>
                  <a:pt x="449" y="394"/>
                  <a:pt x="450" y="394"/>
                  <a:pt x="450" y="394"/>
                </a:cubicBezTo>
                <a:cubicBezTo>
                  <a:pt x="451" y="395"/>
                  <a:pt x="452" y="395"/>
                  <a:pt x="452" y="395"/>
                </a:cubicBezTo>
                <a:cubicBezTo>
                  <a:pt x="453" y="395"/>
                  <a:pt x="454" y="395"/>
                  <a:pt x="454" y="395"/>
                </a:cubicBezTo>
                <a:cubicBezTo>
                  <a:pt x="455" y="395"/>
                  <a:pt x="455" y="395"/>
                  <a:pt x="456" y="395"/>
                </a:cubicBezTo>
                <a:cubicBezTo>
                  <a:pt x="456" y="395"/>
                  <a:pt x="456" y="395"/>
                  <a:pt x="456" y="395"/>
                </a:cubicBezTo>
                <a:cubicBezTo>
                  <a:pt x="456" y="395"/>
                  <a:pt x="456" y="395"/>
                  <a:pt x="456" y="395"/>
                </a:cubicBezTo>
                <a:cubicBezTo>
                  <a:pt x="457" y="395"/>
                  <a:pt x="457" y="395"/>
                  <a:pt x="458" y="395"/>
                </a:cubicBezTo>
                <a:cubicBezTo>
                  <a:pt x="459" y="395"/>
                  <a:pt x="459" y="395"/>
                  <a:pt x="460" y="395"/>
                </a:cubicBezTo>
                <a:cubicBezTo>
                  <a:pt x="461" y="395"/>
                  <a:pt x="461" y="395"/>
                  <a:pt x="462" y="395"/>
                </a:cubicBezTo>
                <a:cubicBezTo>
                  <a:pt x="464" y="395"/>
                  <a:pt x="464" y="395"/>
                  <a:pt x="464" y="395"/>
                </a:cubicBezTo>
                <a:cubicBezTo>
                  <a:pt x="465" y="395"/>
                  <a:pt x="466" y="395"/>
                  <a:pt x="466" y="395"/>
                </a:cubicBezTo>
                <a:cubicBezTo>
                  <a:pt x="469" y="395"/>
                  <a:pt x="469" y="395"/>
                  <a:pt x="469" y="395"/>
                </a:cubicBezTo>
                <a:cubicBezTo>
                  <a:pt x="469" y="395"/>
                  <a:pt x="470" y="395"/>
                  <a:pt x="471" y="396"/>
                </a:cubicBezTo>
                <a:cubicBezTo>
                  <a:pt x="472" y="396"/>
                  <a:pt x="472" y="396"/>
                  <a:pt x="473" y="396"/>
                </a:cubicBezTo>
                <a:cubicBezTo>
                  <a:pt x="474" y="396"/>
                  <a:pt x="475" y="396"/>
                  <a:pt x="475" y="396"/>
                </a:cubicBezTo>
                <a:cubicBezTo>
                  <a:pt x="476" y="396"/>
                  <a:pt x="476" y="396"/>
                  <a:pt x="477" y="396"/>
                </a:cubicBezTo>
                <a:cubicBezTo>
                  <a:pt x="477" y="396"/>
                  <a:pt x="478" y="396"/>
                  <a:pt x="478" y="396"/>
                </a:cubicBezTo>
                <a:cubicBezTo>
                  <a:pt x="480" y="396"/>
                  <a:pt x="480" y="396"/>
                  <a:pt x="480" y="396"/>
                </a:cubicBezTo>
                <a:cubicBezTo>
                  <a:pt x="480" y="396"/>
                  <a:pt x="480" y="396"/>
                  <a:pt x="481" y="396"/>
                </a:cubicBezTo>
                <a:cubicBezTo>
                  <a:pt x="482" y="396"/>
                  <a:pt x="482" y="396"/>
                  <a:pt x="482" y="396"/>
                </a:cubicBezTo>
                <a:cubicBezTo>
                  <a:pt x="483" y="396"/>
                  <a:pt x="483" y="396"/>
                  <a:pt x="483" y="396"/>
                </a:cubicBezTo>
                <a:cubicBezTo>
                  <a:pt x="484" y="396"/>
                  <a:pt x="484" y="396"/>
                  <a:pt x="484" y="396"/>
                </a:cubicBezTo>
                <a:cubicBezTo>
                  <a:pt x="485" y="395"/>
                  <a:pt x="485" y="395"/>
                  <a:pt x="485" y="395"/>
                </a:cubicBezTo>
                <a:cubicBezTo>
                  <a:pt x="486" y="395"/>
                  <a:pt x="487" y="395"/>
                  <a:pt x="488" y="395"/>
                </a:cubicBezTo>
                <a:cubicBezTo>
                  <a:pt x="488" y="395"/>
                  <a:pt x="488" y="395"/>
                  <a:pt x="489" y="395"/>
                </a:cubicBezTo>
                <a:cubicBezTo>
                  <a:pt x="489" y="395"/>
                  <a:pt x="489" y="395"/>
                  <a:pt x="489" y="395"/>
                </a:cubicBezTo>
                <a:cubicBezTo>
                  <a:pt x="489" y="395"/>
                  <a:pt x="490" y="395"/>
                  <a:pt x="490" y="395"/>
                </a:cubicBezTo>
                <a:cubicBezTo>
                  <a:pt x="491" y="395"/>
                  <a:pt x="492" y="395"/>
                  <a:pt x="493" y="395"/>
                </a:cubicBezTo>
                <a:cubicBezTo>
                  <a:pt x="494" y="395"/>
                  <a:pt x="495" y="395"/>
                  <a:pt x="495" y="395"/>
                </a:cubicBezTo>
                <a:cubicBezTo>
                  <a:pt x="496" y="395"/>
                  <a:pt x="496" y="395"/>
                  <a:pt x="497" y="395"/>
                </a:cubicBezTo>
                <a:cubicBezTo>
                  <a:pt x="497" y="395"/>
                  <a:pt x="497" y="395"/>
                  <a:pt x="497" y="395"/>
                </a:cubicBezTo>
                <a:cubicBezTo>
                  <a:pt x="497" y="395"/>
                  <a:pt x="498" y="395"/>
                  <a:pt x="498" y="395"/>
                </a:cubicBezTo>
                <a:cubicBezTo>
                  <a:pt x="499" y="395"/>
                  <a:pt x="500" y="395"/>
                  <a:pt x="501" y="395"/>
                </a:cubicBezTo>
                <a:cubicBezTo>
                  <a:pt x="502" y="395"/>
                  <a:pt x="503" y="395"/>
                  <a:pt x="504" y="395"/>
                </a:cubicBezTo>
                <a:cubicBezTo>
                  <a:pt x="504" y="395"/>
                  <a:pt x="504" y="395"/>
                  <a:pt x="504" y="395"/>
                </a:cubicBezTo>
                <a:cubicBezTo>
                  <a:pt x="505" y="395"/>
                  <a:pt x="505" y="395"/>
                  <a:pt x="505" y="395"/>
                </a:cubicBezTo>
                <a:cubicBezTo>
                  <a:pt x="505" y="394"/>
                  <a:pt x="506" y="394"/>
                  <a:pt x="506" y="394"/>
                </a:cubicBezTo>
                <a:cubicBezTo>
                  <a:pt x="507" y="394"/>
                  <a:pt x="508" y="394"/>
                  <a:pt x="509" y="394"/>
                </a:cubicBezTo>
                <a:cubicBezTo>
                  <a:pt x="510" y="394"/>
                  <a:pt x="511" y="394"/>
                  <a:pt x="512" y="394"/>
                </a:cubicBezTo>
                <a:cubicBezTo>
                  <a:pt x="512" y="394"/>
                  <a:pt x="512" y="394"/>
                  <a:pt x="512" y="394"/>
                </a:cubicBezTo>
                <a:cubicBezTo>
                  <a:pt x="512" y="394"/>
                  <a:pt x="512" y="394"/>
                  <a:pt x="512" y="394"/>
                </a:cubicBezTo>
                <a:cubicBezTo>
                  <a:pt x="512" y="394"/>
                  <a:pt x="512" y="394"/>
                  <a:pt x="512" y="394"/>
                </a:cubicBezTo>
                <a:cubicBezTo>
                  <a:pt x="513" y="394"/>
                  <a:pt x="514" y="394"/>
                  <a:pt x="515" y="394"/>
                </a:cubicBezTo>
                <a:cubicBezTo>
                  <a:pt x="516" y="393"/>
                  <a:pt x="517" y="393"/>
                  <a:pt x="518" y="393"/>
                </a:cubicBezTo>
                <a:cubicBezTo>
                  <a:pt x="518" y="393"/>
                  <a:pt x="519" y="393"/>
                  <a:pt x="519" y="393"/>
                </a:cubicBezTo>
                <a:cubicBezTo>
                  <a:pt x="520" y="393"/>
                  <a:pt x="520" y="393"/>
                  <a:pt x="520" y="393"/>
                </a:cubicBezTo>
                <a:cubicBezTo>
                  <a:pt x="520" y="393"/>
                  <a:pt x="521" y="393"/>
                  <a:pt x="521" y="393"/>
                </a:cubicBezTo>
                <a:cubicBezTo>
                  <a:pt x="523" y="393"/>
                  <a:pt x="524" y="392"/>
                  <a:pt x="525" y="392"/>
                </a:cubicBezTo>
                <a:cubicBezTo>
                  <a:pt x="526" y="392"/>
                  <a:pt x="526" y="392"/>
                  <a:pt x="526" y="392"/>
                </a:cubicBezTo>
                <a:cubicBezTo>
                  <a:pt x="527" y="392"/>
                  <a:pt x="527" y="392"/>
                  <a:pt x="527" y="392"/>
                </a:cubicBezTo>
                <a:cubicBezTo>
                  <a:pt x="528" y="392"/>
                  <a:pt x="528" y="392"/>
                  <a:pt x="529" y="392"/>
                </a:cubicBezTo>
                <a:cubicBezTo>
                  <a:pt x="530" y="391"/>
                  <a:pt x="531" y="391"/>
                  <a:pt x="532" y="391"/>
                </a:cubicBezTo>
                <a:cubicBezTo>
                  <a:pt x="533" y="391"/>
                  <a:pt x="533" y="391"/>
                  <a:pt x="533" y="391"/>
                </a:cubicBezTo>
                <a:cubicBezTo>
                  <a:pt x="534" y="391"/>
                  <a:pt x="535" y="390"/>
                  <a:pt x="536" y="390"/>
                </a:cubicBezTo>
                <a:cubicBezTo>
                  <a:pt x="537" y="390"/>
                  <a:pt x="538" y="390"/>
                  <a:pt x="539" y="390"/>
                </a:cubicBezTo>
                <a:cubicBezTo>
                  <a:pt x="539" y="390"/>
                  <a:pt x="539" y="390"/>
                  <a:pt x="539" y="390"/>
                </a:cubicBezTo>
                <a:cubicBezTo>
                  <a:pt x="540" y="389"/>
                  <a:pt x="540" y="389"/>
                  <a:pt x="540" y="389"/>
                </a:cubicBezTo>
                <a:cubicBezTo>
                  <a:pt x="541" y="389"/>
                  <a:pt x="542" y="389"/>
                  <a:pt x="542" y="389"/>
                </a:cubicBezTo>
                <a:cubicBezTo>
                  <a:pt x="543" y="389"/>
                  <a:pt x="544" y="388"/>
                  <a:pt x="545" y="388"/>
                </a:cubicBezTo>
                <a:cubicBezTo>
                  <a:pt x="545" y="388"/>
                  <a:pt x="545" y="388"/>
                  <a:pt x="545" y="388"/>
                </a:cubicBezTo>
                <a:cubicBezTo>
                  <a:pt x="546" y="388"/>
                  <a:pt x="547" y="388"/>
                  <a:pt x="548" y="387"/>
                </a:cubicBezTo>
                <a:cubicBezTo>
                  <a:pt x="549" y="387"/>
                  <a:pt x="549" y="387"/>
                  <a:pt x="550" y="387"/>
                </a:cubicBezTo>
                <a:cubicBezTo>
                  <a:pt x="550" y="386"/>
                  <a:pt x="550" y="386"/>
                  <a:pt x="550" y="386"/>
                </a:cubicBezTo>
                <a:cubicBezTo>
                  <a:pt x="551" y="386"/>
                  <a:pt x="552" y="386"/>
                  <a:pt x="553" y="385"/>
                </a:cubicBezTo>
                <a:cubicBezTo>
                  <a:pt x="554" y="385"/>
                  <a:pt x="554" y="385"/>
                  <a:pt x="555" y="385"/>
                </a:cubicBezTo>
                <a:cubicBezTo>
                  <a:pt x="555" y="385"/>
                  <a:pt x="555" y="385"/>
                  <a:pt x="555" y="385"/>
                </a:cubicBezTo>
                <a:cubicBezTo>
                  <a:pt x="556" y="384"/>
                  <a:pt x="556" y="384"/>
                  <a:pt x="556" y="384"/>
                </a:cubicBezTo>
                <a:cubicBezTo>
                  <a:pt x="557" y="384"/>
                  <a:pt x="557" y="384"/>
                  <a:pt x="557" y="384"/>
                </a:cubicBezTo>
                <a:cubicBezTo>
                  <a:pt x="557" y="384"/>
                  <a:pt x="558" y="384"/>
                  <a:pt x="558" y="383"/>
                </a:cubicBezTo>
                <a:cubicBezTo>
                  <a:pt x="559" y="383"/>
                  <a:pt x="559" y="383"/>
                  <a:pt x="559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0" y="382"/>
                  <a:pt x="560" y="382"/>
                  <a:pt x="560" y="382"/>
                </a:cubicBezTo>
                <a:cubicBezTo>
                  <a:pt x="561" y="382"/>
                  <a:pt x="561" y="382"/>
                  <a:pt x="561" y="382"/>
                </a:cubicBezTo>
                <a:cubicBezTo>
                  <a:pt x="561" y="382"/>
                  <a:pt x="561" y="382"/>
                  <a:pt x="561" y="382"/>
                </a:cubicBezTo>
                <a:cubicBezTo>
                  <a:pt x="562" y="381"/>
                  <a:pt x="562" y="381"/>
                  <a:pt x="562" y="381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3" y="380"/>
                  <a:pt x="563" y="380"/>
                  <a:pt x="563" y="380"/>
                </a:cubicBezTo>
                <a:cubicBezTo>
                  <a:pt x="563" y="380"/>
                  <a:pt x="563" y="380"/>
                  <a:pt x="563" y="380"/>
                </a:cubicBezTo>
                <a:cubicBezTo>
                  <a:pt x="564" y="380"/>
                  <a:pt x="564" y="380"/>
                  <a:pt x="564" y="380"/>
                </a:cubicBezTo>
                <a:cubicBezTo>
                  <a:pt x="564" y="380"/>
                  <a:pt x="564" y="380"/>
                  <a:pt x="564" y="380"/>
                </a:cubicBezTo>
                <a:cubicBezTo>
                  <a:pt x="565" y="379"/>
                  <a:pt x="565" y="379"/>
                  <a:pt x="565" y="379"/>
                </a:cubicBezTo>
                <a:cubicBezTo>
                  <a:pt x="565" y="379"/>
                  <a:pt x="565" y="379"/>
                  <a:pt x="565" y="379"/>
                </a:cubicBezTo>
                <a:cubicBezTo>
                  <a:pt x="565" y="379"/>
                  <a:pt x="565" y="379"/>
                  <a:pt x="565" y="379"/>
                </a:cubicBezTo>
                <a:cubicBezTo>
                  <a:pt x="565" y="379"/>
                  <a:pt x="565" y="379"/>
                  <a:pt x="565" y="379"/>
                </a:cubicBezTo>
                <a:cubicBezTo>
                  <a:pt x="566" y="378"/>
                  <a:pt x="566" y="378"/>
                  <a:pt x="566" y="378"/>
                </a:cubicBezTo>
                <a:cubicBezTo>
                  <a:pt x="566" y="378"/>
                  <a:pt x="566" y="378"/>
                  <a:pt x="566" y="378"/>
                </a:cubicBezTo>
                <a:cubicBezTo>
                  <a:pt x="566" y="378"/>
                  <a:pt x="566" y="378"/>
                  <a:pt x="566" y="378"/>
                </a:cubicBezTo>
                <a:cubicBezTo>
                  <a:pt x="566" y="378"/>
                  <a:pt x="566" y="378"/>
                  <a:pt x="566" y="378"/>
                </a:cubicBezTo>
                <a:cubicBezTo>
                  <a:pt x="566" y="378"/>
                  <a:pt x="566" y="378"/>
                  <a:pt x="566" y="378"/>
                </a:cubicBezTo>
                <a:cubicBezTo>
                  <a:pt x="566" y="378"/>
                  <a:pt x="566" y="378"/>
                  <a:pt x="566" y="378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7" y="376"/>
                  <a:pt x="567" y="376"/>
                  <a:pt x="567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4"/>
                  <a:pt x="568" y="374"/>
                  <a:pt x="568" y="374"/>
                </a:cubicBezTo>
                <a:cubicBezTo>
                  <a:pt x="568" y="374"/>
                  <a:pt x="568" y="374"/>
                  <a:pt x="568" y="374"/>
                </a:cubicBezTo>
                <a:cubicBezTo>
                  <a:pt x="568" y="374"/>
                  <a:pt x="568" y="374"/>
                  <a:pt x="568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3"/>
                  <a:pt x="569" y="373"/>
                  <a:pt x="569" y="373"/>
                </a:cubicBezTo>
                <a:cubicBezTo>
                  <a:pt x="569" y="373"/>
                  <a:pt x="569" y="373"/>
                  <a:pt x="569" y="373"/>
                </a:cubicBezTo>
                <a:cubicBezTo>
                  <a:pt x="569" y="372"/>
                  <a:pt x="569" y="372"/>
                  <a:pt x="569" y="372"/>
                </a:cubicBezTo>
                <a:cubicBezTo>
                  <a:pt x="569" y="372"/>
                  <a:pt x="569" y="372"/>
                  <a:pt x="569" y="372"/>
                </a:cubicBezTo>
                <a:cubicBezTo>
                  <a:pt x="569" y="371"/>
                  <a:pt x="569" y="371"/>
                  <a:pt x="569" y="371"/>
                </a:cubicBezTo>
                <a:cubicBezTo>
                  <a:pt x="569" y="371"/>
                  <a:pt x="569" y="371"/>
                  <a:pt x="569" y="371"/>
                </a:cubicBezTo>
                <a:cubicBezTo>
                  <a:pt x="569" y="371"/>
                  <a:pt x="569" y="371"/>
                  <a:pt x="569" y="371"/>
                </a:cubicBezTo>
                <a:cubicBezTo>
                  <a:pt x="569" y="371"/>
                  <a:pt x="569" y="371"/>
                  <a:pt x="569" y="371"/>
                </a:cubicBezTo>
                <a:cubicBezTo>
                  <a:pt x="569" y="370"/>
                  <a:pt x="569" y="370"/>
                  <a:pt x="569" y="370"/>
                </a:cubicBezTo>
                <a:cubicBezTo>
                  <a:pt x="569" y="369"/>
                  <a:pt x="569" y="369"/>
                  <a:pt x="569" y="369"/>
                </a:cubicBezTo>
                <a:cubicBezTo>
                  <a:pt x="569" y="369"/>
                  <a:pt x="569" y="369"/>
                  <a:pt x="569" y="369"/>
                </a:cubicBezTo>
                <a:cubicBezTo>
                  <a:pt x="569" y="369"/>
                  <a:pt x="569" y="369"/>
                  <a:pt x="569" y="369"/>
                </a:cubicBezTo>
                <a:cubicBezTo>
                  <a:pt x="570" y="368"/>
                  <a:pt x="570" y="368"/>
                  <a:pt x="570" y="368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6"/>
                  <a:pt x="570" y="366"/>
                  <a:pt x="570" y="366"/>
                </a:cubicBezTo>
                <a:cubicBezTo>
                  <a:pt x="570" y="366"/>
                  <a:pt x="570" y="365"/>
                  <a:pt x="570" y="365"/>
                </a:cubicBezTo>
                <a:cubicBezTo>
                  <a:pt x="571" y="345"/>
                  <a:pt x="571" y="325"/>
                  <a:pt x="572" y="305"/>
                </a:cubicBezTo>
                <a:cubicBezTo>
                  <a:pt x="573" y="305"/>
                  <a:pt x="574" y="305"/>
                  <a:pt x="575" y="305"/>
                </a:cubicBezTo>
                <a:cubicBezTo>
                  <a:pt x="576" y="305"/>
                  <a:pt x="576" y="305"/>
                  <a:pt x="576" y="305"/>
                </a:cubicBezTo>
                <a:cubicBezTo>
                  <a:pt x="577" y="305"/>
                  <a:pt x="578" y="305"/>
                  <a:pt x="580" y="305"/>
                </a:cubicBezTo>
                <a:cubicBezTo>
                  <a:pt x="583" y="305"/>
                  <a:pt x="586" y="305"/>
                  <a:pt x="589" y="305"/>
                </a:cubicBezTo>
                <a:cubicBezTo>
                  <a:pt x="589" y="305"/>
                  <a:pt x="589" y="305"/>
                  <a:pt x="589" y="305"/>
                </a:cubicBezTo>
                <a:cubicBezTo>
                  <a:pt x="591" y="305"/>
                  <a:pt x="594" y="305"/>
                  <a:pt x="596" y="304"/>
                </a:cubicBezTo>
                <a:cubicBezTo>
                  <a:pt x="597" y="304"/>
                  <a:pt x="598" y="304"/>
                  <a:pt x="599" y="304"/>
                </a:cubicBezTo>
                <a:cubicBezTo>
                  <a:pt x="600" y="304"/>
                  <a:pt x="601" y="304"/>
                  <a:pt x="602" y="304"/>
                </a:cubicBezTo>
                <a:cubicBezTo>
                  <a:pt x="604" y="304"/>
                  <a:pt x="606" y="304"/>
                  <a:pt x="607" y="304"/>
                </a:cubicBezTo>
                <a:cubicBezTo>
                  <a:pt x="613" y="304"/>
                  <a:pt x="619" y="304"/>
                  <a:pt x="625" y="304"/>
                </a:cubicBezTo>
                <a:cubicBezTo>
                  <a:pt x="630" y="304"/>
                  <a:pt x="635" y="304"/>
                  <a:pt x="640" y="304"/>
                </a:cubicBezTo>
                <a:cubicBezTo>
                  <a:pt x="645" y="304"/>
                  <a:pt x="650" y="304"/>
                  <a:pt x="656" y="304"/>
                </a:cubicBezTo>
                <a:cubicBezTo>
                  <a:pt x="661" y="304"/>
                  <a:pt x="666" y="304"/>
                  <a:pt x="672" y="304"/>
                </a:cubicBezTo>
                <a:cubicBezTo>
                  <a:pt x="677" y="304"/>
                  <a:pt x="683" y="304"/>
                  <a:pt x="688" y="304"/>
                </a:cubicBezTo>
                <a:cubicBezTo>
                  <a:pt x="694" y="304"/>
                  <a:pt x="699" y="303"/>
                  <a:pt x="704" y="303"/>
                </a:cubicBezTo>
                <a:cubicBezTo>
                  <a:pt x="709" y="303"/>
                  <a:pt x="714" y="303"/>
                  <a:pt x="719" y="303"/>
                </a:cubicBezTo>
                <a:cubicBezTo>
                  <a:pt x="724" y="303"/>
                  <a:pt x="729" y="303"/>
                  <a:pt x="734" y="303"/>
                </a:cubicBezTo>
                <a:cubicBezTo>
                  <a:pt x="739" y="303"/>
                  <a:pt x="744" y="303"/>
                  <a:pt x="748" y="303"/>
                </a:cubicBezTo>
                <a:cubicBezTo>
                  <a:pt x="753" y="303"/>
                  <a:pt x="757" y="303"/>
                  <a:pt x="760" y="303"/>
                </a:cubicBezTo>
                <a:cubicBezTo>
                  <a:pt x="764" y="303"/>
                  <a:pt x="768" y="303"/>
                  <a:pt x="771" y="303"/>
                </a:cubicBezTo>
                <a:cubicBezTo>
                  <a:pt x="775" y="303"/>
                  <a:pt x="778" y="303"/>
                  <a:pt x="781" y="303"/>
                </a:cubicBezTo>
                <a:cubicBezTo>
                  <a:pt x="783" y="303"/>
                  <a:pt x="785" y="303"/>
                  <a:pt x="786" y="302"/>
                </a:cubicBezTo>
                <a:cubicBezTo>
                  <a:pt x="787" y="302"/>
                  <a:pt x="787" y="302"/>
                  <a:pt x="787" y="302"/>
                </a:cubicBezTo>
                <a:cubicBezTo>
                  <a:pt x="791" y="302"/>
                  <a:pt x="794" y="302"/>
                  <a:pt x="797" y="302"/>
                </a:cubicBezTo>
                <a:cubicBezTo>
                  <a:pt x="797" y="302"/>
                  <a:pt x="797" y="302"/>
                  <a:pt x="797" y="302"/>
                </a:cubicBezTo>
                <a:cubicBezTo>
                  <a:pt x="798" y="302"/>
                  <a:pt x="798" y="302"/>
                  <a:pt x="798" y="302"/>
                </a:cubicBezTo>
                <a:cubicBezTo>
                  <a:pt x="799" y="302"/>
                  <a:pt x="799" y="302"/>
                  <a:pt x="799" y="302"/>
                </a:cubicBezTo>
                <a:cubicBezTo>
                  <a:pt x="800" y="302"/>
                  <a:pt x="800" y="302"/>
                  <a:pt x="800" y="302"/>
                </a:cubicBezTo>
                <a:cubicBezTo>
                  <a:pt x="801" y="302"/>
                  <a:pt x="801" y="302"/>
                  <a:pt x="801" y="302"/>
                </a:cubicBezTo>
                <a:cubicBezTo>
                  <a:pt x="801" y="302"/>
                  <a:pt x="801" y="302"/>
                  <a:pt x="801" y="302"/>
                </a:cubicBezTo>
                <a:cubicBezTo>
                  <a:pt x="802" y="302"/>
                  <a:pt x="802" y="302"/>
                  <a:pt x="803" y="302"/>
                </a:cubicBezTo>
                <a:cubicBezTo>
                  <a:pt x="803" y="302"/>
                  <a:pt x="803" y="302"/>
                  <a:pt x="803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5" y="302"/>
                  <a:pt x="805" y="302"/>
                  <a:pt x="805" y="302"/>
                </a:cubicBezTo>
                <a:cubicBezTo>
                  <a:pt x="805" y="302"/>
                  <a:pt x="805" y="302"/>
                  <a:pt x="805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8" y="302"/>
                  <a:pt x="808" y="302"/>
                  <a:pt x="808" y="302"/>
                </a:cubicBezTo>
                <a:cubicBezTo>
                  <a:pt x="808" y="302"/>
                  <a:pt x="808" y="302"/>
                  <a:pt x="808" y="302"/>
                </a:cubicBezTo>
                <a:cubicBezTo>
                  <a:pt x="809" y="301"/>
                  <a:pt x="809" y="301"/>
                  <a:pt x="809" y="301"/>
                </a:cubicBezTo>
                <a:cubicBezTo>
                  <a:pt x="809" y="301"/>
                  <a:pt x="809" y="301"/>
                  <a:pt x="809" y="301"/>
                </a:cubicBezTo>
                <a:cubicBezTo>
                  <a:pt x="809" y="301"/>
                  <a:pt x="809" y="301"/>
                  <a:pt x="809" y="301"/>
                </a:cubicBezTo>
                <a:cubicBezTo>
                  <a:pt x="810" y="301"/>
                  <a:pt x="810" y="301"/>
                  <a:pt x="810" y="301"/>
                </a:cubicBezTo>
                <a:cubicBezTo>
                  <a:pt x="810" y="301"/>
                  <a:pt x="810" y="301"/>
                  <a:pt x="810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2" y="301"/>
                  <a:pt x="812" y="301"/>
                  <a:pt x="812" y="301"/>
                </a:cubicBezTo>
                <a:cubicBezTo>
                  <a:pt x="812" y="300"/>
                  <a:pt x="812" y="300"/>
                  <a:pt x="812" y="300"/>
                </a:cubicBezTo>
                <a:cubicBezTo>
                  <a:pt x="812" y="300"/>
                  <a:pt x="812" y="300"/>
                  <a:pt x="812" y="300"/>
                </a:cubicBezTo>
                <a:cubicBezTo>
                  <a:pt x="812" y="300"/>
                  <a:pt x="812" y="300"/>
                  <a:pt x="812" y="300"/>
                </a:cubicBezTo>
                <a:cubicBezTo>
                  <a:pt x="813" y="300"/>
                  <a:pt x="813" y="300"/>
                  <a:pt x="813" y="300"/>
                </a:cubicBezTo>
                <a:cubicBezTo>
                  <a:pt x="813" y="300"/>
                  <a:pt x="813" y="300"/>
                  <a:pt x="813" y="300"/>
                </a:cubicBezTo>
                <a:cubicBezTo>
                  <a:pt x="813" y="300"/>
                  <a:pt x="813" y="300"/>
                  <a:pt x="813" y="300"/>
                </a:cubicBezTo>
                <a:cubicBezTo>
                  <a:pt x="813" y="300"/>
                  <a:pt x="813" y="300"/>
                  <a:pt x="813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299"/>
                  <a:pt x="814" y="299"/>
                  <a:pt x="814" y="299"/>
                </a:cubicBezTo>
                <a:cubicBezTo>
                  <a:pt x="814" y="299"/>
                  <a:pt x="814" y="299"/>
                  <a:pt x="814" y="299"/>
                </a:cubicBezTo>
                <a:cubicBezTo>
                  <a:pt x="814" y="299"/>
                  <a:pt x="814" y="299"/>
                  <a:pt x="814" y="299"/>
                </a:cubicBezTo>
                <a:cubicBezTo>
                  <a:pt x="814" y="299"/>
                  <a:pt x="814" y="299"/>
                  <a:pt x="814" y="299"/>
                </a:cubicBezTo>
                <a:cubicBezTo>
                  <a:pt x="814" y="299"/>
                  <a:pt x="814" y="299"/>
                  <a:pt x="814" y="299"/>
                </a:cubicBezTo>
                <a:cubicBezTo>
                  <a:pt x="814" y="299"/>
                  <a:pt x="814" y="299"/>
                  <a:pt x="814" y="299"/>
                </a:cubicBezTo>
                <a:cubicBezTo>
                  <a:pt x="814" y="299"/>
                  <a:pt x="814" y="299"/>
                  <a:pt x="814" y="299"/>
                </a:cubicBezTo>
                <a:cubicBezTo>
                  <a:pt x="814" y="299"/>
                  <a:pt x="814" y="299"/>
                  <a:pt x="814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7"/>
                  <a:pt x="815" y="297"/>
                  <a:pt x="815" y="297"/>
                </a:cubicBezTo>
                <a:cubicBezTo>
                  <a:pt x="815" y="297"/>
                  <a:pt x="815" y="297"/>
                  <a:pt x="815" y="297"/>
                </a:cubicBezTo>
                <a:cubicBezTo>
                  <a:pt x="815" y="297"/>
                  <a:pt x="815" y="297"/>
                  <a:pt x="815" y="297"/>
                </a:cubicBezTo>
                <a:cubicBezTo>
                  <a:pt x="815" y="297"/>
                  <a:pt x="815" y="297"/>
                  <a:pt x="815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6"/>
                  <a:pt x="816" y="296"/>
                  <a:pt x="816" y="296"/>
                </a:cubicBezTo>
                <a:cubicBezTo>
                  <a:pt x="816" y="296"/>
                  <a:pt x="816" y="296"/>
                  <a:pt x="816" y="296"/>
                </a:cubicBezTo>
                <a:cubicBezTo>
                  <a:pt x="819" y="245"/>
                  <a:pt x="822" y="193"/>
                  <a:pt x="826" y="142"/>
                </a:cubicBezTo>
                <a:cubicBezTo>
                  <a:pt x="825" y="143"/>
                  <a:pt x="825" y="143"/>
                  <a:pt x="825" y="143"/>
                </a:cubicBezTo>
                <a:cubicBezTo>
                  <a:pt x="825" y="143"/>
                  <a:pt x="825" y="143"/>
                  <a:pt x="825" y="143"/>
                </a:cubicBezTo>
                <a:cubicBezTo>
                  <a:pt x="825" y="143"/>
                  <a:pt x="825" y="143"/>
                  <a:pt x="825" y="143"/>
                </a:cubicBezTo>
                <a:cubicBezTo>
                  <a:pt x="825" y="143"/>
                  <a:pt x="825" y="143"/>
                  <a:pt x="825" y="143"/>
                </a:cubicBezTo>
                <a:cubicBezTo>
                  <a:pt x="824" y="144"/>
                  <a:pt x="824" y="144"/>
                  <a:pt x="824" y="144"/>
                </a:cubicBezTo>
                <a:cubicBezTo>
                  <a:pt x="824" y="144"/>
                  <a:pt x="824" y="144"/>
                  <a:pt x="824" y="144"/>
                </a:cubicBezTo>
                <a:cubicBezTo>
                  <a:pt x="824" y="145"/>
                  <a:pt x="824" y="145"/>
                  <a:pt x="824" y="145"/>
                </a:cubicBezTo>
                <a:cubicBezTo>
                  <a:pt x="823" y="145"/>
                  <a:pt x="823" y="145"/>
                  <a:pt x="823" y="145"/>
                </a:cubicBezTo>
                <a:cubicBezTo>
                  <a:pt x="823" y="145"/>
                  <a:pt x="823" y="145"/>
                  <a:pt x="822" y="145"/>
                </a:cubicBezTo>
                <a:cubicBezTo>
                  <a:pt x="822" y="145"/>
                  <a:pt x="822" y="145"/>
                  <a:pt x="822" y="145"/>
                </a:cubicBezTo>
                <a:cubicBezTo>
                  <a:pt x="822" y="146"/>
                  <a:pt x="821" y="146"/>
                  <a:pt x="821" y="146"/>
                </a:cubicBezTo>
                <a:cubicBezTo>
                  <a:pt x="821" y="146"/>
                  <a:pt x="821" y="146"/>
                  <a:pt x="821" y="146"/>
                </a:cubicBezTo>
                <a:cubicBezTo>
                  <a:pt x="820" y="146"/>
                  <a:pt x="819" y="146"/>
                  <a:pt x="819" y="146"/>
                </a:cubicBezTo>
                <a:cubicBezTo>
                  <a:pt x="819" y="146"/>
                  <a:pt x="819" y="146"/>
                  <a:pt x="819" y="146"/>
                </a:cubicBezTo>
                <a:cubicBezTo>
                  <a:pt x="818" y="147"/>
                  <a:pt x="817" y="147"/>
                  <a:pt x="816" y="147"/>
                </a:cubicBezTo>
                <a:cubicBezTo>
                  <a:pt x="816" y="147"/>
                  <a:pt x="814" y="147"/>
                  <a:pt x="813" y="147"/>
                </a:cubicBezTo>
                <a:cubicBezTo>
                  <a:pt x="812" y="147"/>
                  <a:pt x="812" y="147"/>
                  <a:pt x="811" y="147"/>
                </a:cubicBezTo>
                <a:cubicBezTo>
                  <a:pt x="811" y="147"/>
                  <a:pt x="810" y="147"/>
                  <a:pt x="810" y="147"/>
                </a:cubicBezTo>
                <a:cubicBezTo>
                  <a:pt x="809" y="147"/>
                  <a:pt x="809" y="147"/>
                  <a:pt x="808" y="147"/>
                </a:cubicBezTo>
                <a:cubicBezTo>
                  <a:pt x="807" y="147"/>
                  <a:pt x="807" y="147"/>
                  <a:pt x="807" y="147"/>
                </a:cubicBezTo>
                <a:cubicBezTo>
                  <a:pt x="806" y="147"/>
                  <a:pt x="806" y="147"/>
                  <a:pt x="805" y="147"/>
                </a:cubicBezTo>
                <a:cubicBezTo>
                  <a:pt x="804" y="147"/>
                  <a:pt x="803" y="147"/>
                  <a:pt x="802" y="147"/>
                </a:cubicBezTo>
                <a:cubicBezTo>
                  <a:pt x="801" y="147"/>
                  <a:pt x="800" y="147"/>
                  <a:pt x="799" y="147"/>
                </a:cubicBezTo>
                <a:cubicBezTo>
                  <a:pt x="797" y="147"/>
                  <a:pt x="794" y="148"/>
                  <a:pt x="792" y="148"/>
                </a:cubicBezTo>
                <a:cubicBezTo>
                  <a:pt x="791" y="148"/>
                  <a:pt x="790" y="148"/>
                  <a:pt x="789" y="148"/>
                </a:cubicBezTo>
                <a:cubicBezTo>
                  <a:pt x="788" y="148"/>
                  <a:pt x="788" y="148"/>
                  <a:pt x="787" y="148"/>
                </a:cubicBezTo>
                <a:cubicBezTo>
                  <a:pt x="786" y="148"/>
                  <a:pt x="786" y="148"/>
                  <a:pt x="785" y="148"/>
                </a:cubicBezTo>
                <a:cubicBezTo>
                  <a:pt x="784" y="148"/>
                  <a:pt x="782" y="148"/>
                  <a:pt x="781" y="148"/>
                </a:cubicBezTo>
                <a:cubicBezTo>
                  <a:pt x="777" y="148"/>
                  <a:pt x="773" y="148"/>
                  <a:pt x="770" y="148"/>
                </a:cubicBezTo>
                <a:cubicBezTo>
                  <a:pt x="766" y="148"/>
                  <a:pt x="762" y="148"/>
                  <a:pt x="757" y="148"/>
                </a:cubicBezTo>
                <a:cubicBezTo>
                  <a:pt x="753" y="148"/>
                  <a:pt x="748" y="148"/>
                  <a:pt x="743" y="148"/>
                </a:cubicBezTo>
                <a:cubicBezTo>
                  <a:pt x="738" y="148"/>
                  <a:pt x="733" y="148"/>
                  <a:pt x="728" y="148"/>
                </a:cubicBezTo>
                <a:cubicBezTo>
                  <a:pt x="723" y="148"/>
                  <a:pt x="718" y="148"/>
                  <a:pt x="712" y="149"/>
                </a:cubicBezTo>
                <a:cubicBezTo>
                  <a:pt x="707" y="149"/>
                  <a:pt x="702" y="149"/>
                  <a:pt x="696" y="149"/>
                </a:cubicBezTo>
                <a:cubicBezTo>
                  <a:pt x="691" y="149"/>
                  <a:pt x="685" y="149"/>
                  <a:pt x="680" y="149"/>
                </a:cubicBezTo>
                <a:cubicBezTo>
                  <a:pt x="674" y="149"/>
                  <a:pt x="669" y="149"/>
                  <a:pt x="663" y="149"/>
                </a:cubicBezTo>
                <a:cubicBezTo>
                  <a:pt x="658" y="149"/>
                  <a:pt x="653" y="149"/>
                  <a:pt x="647" y="149"/>
                </a:cubicBezTo>
                <a:cubicBezTo>
                  <a:pt x="642" y="149"/>
                  <a:pt x="637" y="149"/>
                  <a:pt x="632" y="149"/>
                </a:cubicBezTo>
                <a:cubicBezTo>
                  <a:pt x="628" y="149"/>
                  <a:pt x="625" y="149"/>
                  <a:pt x="621" y="149"/>
                </a:cubicBezTo>
                <a:cubicBezTo>
                  <a:pt x="621" y="149"/>
                  <a:pt x="620" y="149"/>
                  <a:pt x="619" y="150"/>
                </a:cubicBezTo>
                <a:cubicBezTo>
                  <a:pt x="615" y="150"/>
                  <a:pt x="611" y="150"/>
                  <a:pt x="607" y="150"/>
                </a:cubicBezTo>
                <a:cubicBezTo>
                  <a:pt x="603" y="150"/>
                  <a:pt x="600" y="150"/>
                  <a:pt x="596" y="150"/>
                </a:cubicBezTo>
                <a:cubicBezTo>
                  <a:pt x="596" y="150"/>
                  <a:pt x="596" y="150"/>
                  <a:pt x="596" y="150"/>
                </a:cubicBezTo>
                <a:cubicBezTo>
                  <a:pt x="594" y="150"/>
                  <a:pt x="593" y="150"/>
                  <a:pt x="591" y="150"/>
                </a:cubicBezTo>
                <a:cubicBezTo>
                  <a:pt x="591" y="150"/>
                  <a:pt x="590" y="150"/>
                  <a:pt x="590" y="150"/>
                </a:cubicBezTo>
                <a:cubicBezTo>
                  <a:pt x="589" y="150"/>
                  <a:pt x="588" y="150"/>
                  <a:pt x="587" y="150"/>
                </a:cubicBezTo>
                <a:cubicBezTo>
                  <a:pt x="586" y="150"/>
                  <a:pt x="586" y="150"/>
                  <a:pt x="586" y="150"/>
                </a:cubicBezTo>
                <a:cubicBezTo>
                  <a:pt x="586" y="150"/>
                  <a:pt x="586" y="150"/>
                  <a:pt x="586" y="150"/>
                </a:cubicBezTo>
                <a:cubicBezTo>
                  <a:pt x="585" y="150"/>
                  <a:pt x="584" y="150"/>
                  <a:pt x="583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79" y="150"/>
                  <a:pt x="577" y="150"/>
                  <a:pt x="575" y="150"/>
                </a:cubicBezTo>
                <a:cubicBezTo>
                  <a:pt x="574" y="150"/>
                  <a:pt x="574" y="150"/>
                  <a:pt x="574" y="150"/>
                </a:cubicBezTo>
                <a:cubicBezTo>
                  <a:pt x="574" y="150"/>
                  <a:pt x="574" y="150"/>
                  <a:pt x="574" y="150"/>
                </a:cubicBezTo>
                <a:cubicBezTo>
                  <a:pt x="573" y="150"/>
                  <a:pt x="572" y="150"/>
                  <a:pt x="571" y="150"/>
                </a:cubicBezTo>
                <a:cubicBezTo>
                  <a:pt x="571" y="150"/>
                  <a:pt x="571" y="150"/>
                  <a:pt x="571" y="150"/>
                </a:cubicBezTo>
                <a:cubicBezTo>
                  <a:pt x="571" y="150"/>
                  <a:pt x="571" y="150"/>
                  <a:pt x="571" y="150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69" y="151"/>
                  <a:pt x="569" y="151"/>
                  <a:pt x="569" y="151"/>
                </a:cubicBezTo>
                <a:cubicBezTo>
                  <a:pt x="568" y="151"/>
                  <a:pt x="568" y="151"/>
                  <a:pt x="568" y="151"/>
                </a:cubicBezTo>
                <a:cubicBezTo>
                  <a:pt x="568" y="151"/>
                  <a:pt x="568" y="151"/>
                  <a:pt x="568" y="151"/>
                </a:cubicBezTo>
                <a:cubicBezTo>
                  <a:pt x="567" y="151"/>
                  <a:pt x="567" y="151"/>
                  <a:pt x="567" y="151"/>
                </a:cubicBezTo>
                <a:cubicBezTo>
                  <a:pt x="566" y="151"/>
                  <a:pt x="566" y="151"/>
                  <a:pt x="566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4" y="151"/>
                  <a:pt x="564" y="151"/>
                  <a:pt x="564" y="151"/>
                </a:cubicBezTo>
                <a:cubicBezTo>
                  <a:pt x="564" y="151"/>
                  <a:pt x="564" y="151"/>
                  <a:pt x="564" y="151"/>
                </a:cubicBezTo>
                <a:cubicBezTo>
                  <a:pt x="564" y="151"/>
                  <a:pt x="564" y="151"/>
                  <a:pt x="564" y="151"/>
                </a:cubicBezTo>
                <a:cubicBezTo>
                  <a:pt x="563" y="151"/>
                  <a:pt x="563" y="151"/>
                  <a:pt x="563" y="151"/>
                </a:cubicBezTo>
                <a:cubicBezTo>
                  <a:pt x="563" y="151"/>
                  <a:pt x="563" y="151"/>
                  <a:pt x="563" y="151"/>
                </a:cubicBezTo>
                <a:cubicBezTo>
                  <a:pt x="562" y="151"/>
                  <a:pt x="562" y="151"/>
                  <a:pt x="562" y="151"/>
                </a:cubicBezTo>
                <a:cubicBezTo>
                  <a:pt x="561" y="151"/>
                  <a:pt x="561" y="151"/>
                  <a:pt x="561" y="151"/>
                </a:cubicBezTo>
                <a:cubicBezTo>
                  <a:pt x="561" y="151"/>
                  <a:pt x="561" y="151"/>
                  <a:pt x="560" y="151"/>
                </a:cubicBezTo>
                <a:cubicBezTo>
                  <a:pt x="560" y="151"/>
                  <a:pt x="559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8" y="152"/>
                  <a:pt x="558" y="152"/>
                  <a:pt x="558" y="152"/>
                </a:cubicBezTo>
                <a:cubicBezTo>
                  <a:pt x="558" y="152"/>
                  <a:pt x="558" y="152"/>
                  <a:pt x="558" y="152"/>
                </a:cubicBezTo>
                <a:cubicBezTo>
                  <a:pt x="558" y="152"/>
                  <a:pt x="557" y="152"/>
                  <a:pt x="557" y="152"/>
                </a:cubicBezTo>
                <a:cubicBezTo>
                  <a:pt x="556" y="152"/>
                  <a:pt x="556" y="152"/>
                  <a:pt x="556" y="152"/>
                </a:cubicBezTo>
                <a:cubicBezTo>
                  <a:pt x="556" y="152"/>
                  <a:pt x="556" y="152"/>
                  <a:pt x="556" y="152"/>
                </a:cubicBezTo>
                <a:cubicBezTo>
                  <a:pt x="555" y="152"/>
                  <a:pt x="555" y="152"/>
                  <a:pt x="554" y="153"/>
                </a:cubicBezTo>
                <a:cubicBezTo>
                  <a:pt x="554" y="153"/>
                  <a:pt x="554" y="153"/>
                  <a:pt x="554" y="153"/>
                </a:cubicBezTo>
                <a:cubicBezTo>
                  <a:pt x="553" y="153"/>
                  <a:pt x="553" y="153"/>
                  <a:pt x="553" y="153"/>
                </a:cubicBezTo>
                <a:cubicBezTo>
                  <a:pt x="552" y="153"/>
                  <a:pt x="552" y="153"/>
                  <a:pt x="552" y="153"/>
                </a:cubicBezTo>
                <a:cubicBezTo>
                  <a:pt x="552" y="153"/>
                  <a:pt x="552" y="153"/>
                  <a:pt x="552" y="153"/>
                </a:cubicBezTo>
                <a:cubicBezTo>
                  <a:pt x="551" y="153"/>
                  <a:pt x="551" y="153"/>
                  <a:pt x="551" y="153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49" y="154"/>
                  <a:pt x="549" y="154"/>
                  <a:pt x="549" y="154"/>
                </a:cubicBezTo>
                <a:cubicBezTo>
                  <a:pt x="549" y="154"/>
                  <a:pt x="549" y="154"/>
                  <a:pt x="549" y="154"/>
                </a:cubicBezTo>
                <a:cubicBezTo>
                  <a:pt x="549" y="154"/>
                  <a:pt x="549" y="154"/>
                  <a:pt x="549" y="154"/>
                </a:cubicBezTo>
                <a:cubicBezTo>
                  <a:pt x="549" y="154"/>
                  <a:pt x="549" y="154"/>
                  <a:pt x="549" y="154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7" y="155"/>
                  <a:pt x="547" y="155"/>
                  <a:pt x="547" y="155"/>
                </a:cubicBezTo>
                <a:cubicBezTo>
                  <a:pt x="547" y="155"/>
                  <a:pt x="547" y="155"/>
                  <a:pt x="547" y="155"/>
                </a:cubicBezTo>
                <a:cubicBezTo>
                  <a:pt x="547" y="155"/>
                  <a:pt x="547" y="155"/>
                  <a:pt x="547" y="155"/>
                </a:cubicBezTo>
                <a:cubicBezTo>
                  <a:pt x="547" y="155"/>
                  <a:pt x="547" y="155"/>
                  <a:pt x="547" y="155"/>
                </a:cubicBezTo>
                <a:cubicBezTo>
                  <a:pt x="547" y="155"/>
                  <a:pt x="547" y="155"/>
                  <a:pt x="547" y="155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6" y="156"/>
                  <a:pt x="546" y="156"/>
                  <a:pt x="546" y="156"/>
                </a:cubicBezTo>
                <a:cubicBezTo>
                  <a:pt x="546" y="156"/>
                  <a:pt x="546" y="156"/>
                  <a:pt x="546" y="156"/>
                </a:cubicBezTo>
                <a:cubicBezTo>
                  <a:pt x="546" y="156"/>
                  <a:pt x="546" y="156"/>
                  <a:pt x="546" y="156"/>
                </a:cubicBezTo>
                <a:cubicBezTo>
                  <a:pt x="546" y="156"/>
                  <a:pt x="546" y="156"/>
                  <a:pt x="546" y="156"/>
                </a:cubicBezTo>
                <a:cubicBezTo>
                  <a:pt x="546" y="156"/>
                  <a:pt x="546" y="156"/>
                  <a:pt x="546" y="156"/>
                </a:cubicBezTo>
                <a:cubicBezTo>
                  <a:pt x="546" y="156"/>
                  <a:pt x="546" y="156"/>
                  <a:pt x="546" y="156"/>
                </a:cubicBezTo>
                <a:cubicBezTo>
                  <a:pt x="546" y="156"/>
                  <a:pt x="546" y="156"/>
                  <a:pt x="546" y="156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5" y="157"/>
                  <a:pt x="545" y="157"/>
                  <a:pt x="545" y="157"/>
                </a:cubicBezTo>
                <a:cubicBezTo>
                  <a:pt x="545" y="157"/>
                  <a:pt x="545" y="157"/>
                  <a:pt x="545" y="157"/>
                </a:cubicBezTo>
                <a:cubicBezTo>
                  <a:pt x="545" y="157"/>
                  <a:pt x="545" y="157"/>
                  <a:pt x="545" y="157"/>
                </a:cubicBezTo>
                <a:cubicBezTo>
                  <a:pt x="545" y="157"/>
                  <a:pt x="545" y="157"/>
                  <a:pt x="545" y="157"/>
                </a:cubicBezTo>
                <a:cubicBezTo>
                  <a:pt x="545" y="157"/>
                  <a:pt x="545" y="157"/>
                  <a:pt x="545" y="157"/>
                </a:cubicBezTo>
                <a:cubicBezTo>
                  <a:pt x="545" y="157"/>
                  <a:pt x="545" y="157"/>
                  <a:pt x="545" y="157"/>
                </a:cubicBezTo>
                <a:cubicBezTo>
                  <a:pt x="545" y="157"/>
                  <a:pt x="545" y="157"/>
                  <a:pt x="545" y="157"/>
                </a:cubicBezTo>
                <a:cubicBezTo>
                  <a:pt x="545" y="157"/>
                  <a:pt x="545" y="157"/>
                  <a:pt x="545" y="157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4" y="158"/>
                  <a:pt x="544" y="158"/>
                  <a:pt x="544" y="158"/>
                </a:cubicBezTo>
                <a:cubicBezTo>
                  <a:pt x="544" y="158"/>
                  <a:pt x="544" y="158"/>
                  <a:pt x="544" y="158"/>
                </a:cubicBezTo>
                <a:cubicBezTo>
                  <a:pt x="544" y="158"/>
                  <a:pt x="544" y="158"/>
                  <a:pt x="544" y="158"/>
                </a:cubicBezTo>
                <a:cubicBezTo>
                  <a:pt x="544" y="159"/>
                  <a:pt x="544" y="159"/>
                  <a:pt x="544" y="159"/>
                </a:cubicBezTo>
                <a:cubicBezTo>
                  <a:pt x="544" y="159"/>
                  <a:pt x="544" y="159"/>
                  <a:pt x="544" y="159"/>
                </a:cubicBezTo>
                <a:cubicBezTo>
                  <a:pt x="544" y="159"/>
                  <a:pt x="544" y="159"/>
                  <a:pt x="544" y="159"/>
                </a:cubicBezTo>
                <a:cubicBezTo>
                  <a:pt x="544" y="159"/>
                  <a:pt x="544" y="159"/>
                  <a:pt x="544" y="159"/>
                </a:cubicBezTo>
                <a:cubicBezTo>
                  <a:pt x="544" y="159"/>
                  <a:pt x="544" y="159"/>
                  <a:pt x="544" y="159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1" y="230"/>
                  <a:pt x="541" y="230"/>
                  <a:pt x="541" y="230"/>
                </a:cubicBezTo>
                <a:cubicBezTo>
                  <a:pt x="540" y="230"/>
                  <a:pt x="540" y="230"/>
                  <a:pt x="539" y="230"/>
                </a:cubicBezTo>
                <a:cubicBezTo>
                  <a:pt x="537" y="230"/>
                  <a:pt x="535" y="231"/>
                  <a:pt x="533" y="231"/>
                </a:cubicBezTo>
                <a:cubicBezTo>
                  <a:pt x="532" y="231"/>
                  <a:pt x="532" y="231"/>
                  <a:pt x="532" y="231"/>
                </a:cubicBezTo>
                <a:cubicBezTo>
                  <a:pt x="530" y="231"/>
                  <a:pt x="528" y="232"/>
                  <a:pt x="526" y="232"/>
                </a:cubicBezTo>
                <a:cubicBezTo>
                  <a:pt x="525" y="232"/>
                  <a:pt x="525" y="232"/>
                  <a:pt x="525" y="232"/>
                </a:cubicBezTo>
                <a:cubicBezTo>
                  <a:pt x="523" y="232"/>
                  <a:pt x="520" y="233"/>
                  <a:pt x="518" y="233"/>
                </a:cubicBezTo>
                <a:cubicBezTo>
                  <a:pt x="513" y="233"/>
                  <a:pt x="508" y="234"/>
                  <a:pt x="502" y="234"/>
                </a:cubicBezTo>
                <a:cubicBezTo>
                  <a:pt x="502" y="234"/>
                  <a:pt x="502" y="234"/>
                  <a:pt x="502" y="234"/>
                </a:cubicBezTo>
                <a:cubicBezTo>
                  <a:pt x="500" y="234"/>
                  <a:pt x="497" y="234"/>
                  <a:pt x="494" y="234"/>
                </a:cubicBezTo>
                <a:cubicBezTo>
                  <a:pt x="494" y="234"/>
                  <a:pt x="494" y="234"/>
                  <a:pt x="494" y="234"/>
                </a:cubicBezTo>
                <a:cubicBezTo>
                  <a:pt x="492" y="234"/>
                  <a:pt x="489" y="234"/>
                  <a:pt x="486" y="235"/>
                </a:cubicBezTo>
                <a:cubicBezTo>
                  <a:pt x="481" y="235"/>
                  <a:pt x="475" y="235"/>
                  <a:pt x="469" y="234"/>
                </a:cubicBezTo>
                <a:cubicBezTo>
                  <a:pt x="467" y="234"/>
                  <a:pt x="464" y="234"/>
                  <a:pt x="461" y="234"/>
                </a:cubicBezTo>
                <a:cubicBezTo>
                  <a:pt x="461" y="234"/>
                  <a:pt x="461" y="234"/>
                  <a:pt x="461" y="234"/>
                </a:cubicBezTo>
                <a:cubicBezTo>
                  <a:pt x="458" y="234"/>
                  <a:pt x="456" y="234"/>
                  <a:pt x="453" y="233"/>
                </a:cubicBezTo>
                <a:cubicBezTo>
                  <a:pt x="451" y="233"/>
                  <a:pt x="448" y="233"/>
                  <a:pt x="446" y="233"/>
                </a:cubicBezTo>
                <a:cubicBezTo>
                  <a:pt x="445" y="233"/>
                  <a:pt x="445" y="233"/>
                  <a:pt x="445" y="233"/>
                </a:cubicBezTo>
                <a:cubicBezTo>
                  <a:pt x="443" y="232"/>
                  <a:pt x="440" y="232"/>
                  <a:pt x="438" y="232"/>
                </a:cubicBezTo>
                <a:cubicBezTo>
                  <a:pt x="438" y="232"/>
                  <a:pt x="438" y="232"/>
                  <a:pt x="438" y="232"/>
                </a:cubicBezTo>
                <a:cubicBezTo>
                  <a:pt x="438" y="232"/>
                  <a:pt x="438" y="232"/>
                  <a:pt x="438" y="232"/>
                </a:cubicBezTo>
                <a:cubicBezTo>
                  <a:pt x="433" y="231"/>
                  <a:pt x="429" y="230"/>
                  <a:pt x="425" y="229"/>
                </a:cubicBezTo>
                <a:cubicBezTo>
                  <a:pt x="423" y="229"/>
                  <a:pt x="422" y="229"/>
                  <a:pt x="421" y="228"/>
                </a:cubicBezTo>
                <a:cubicBezTo>
                  <a:pt x="421" y="228"/>
                  <a:pt x="421" y="228"/>
                  <a:pt x="421" y="228"/>
                </a:cubicBezTo>
                <a:cubicBezTo>
                  <a:pt x="420" y="228"/>
                  <a:pt x="419" y="228"/>
                  <a:pt x="418" y="227"/>
                </a:cubicBezTo>
                <a:cubicBezTo>
                  <a:pt x="418" y="227"/>
                  <a:pt x="418" y="227"/>
                  <a:pt x="418" y="227"/>
                </a:cubicBezTo>
                <a:cubicBezTo>
                  <a:pt x="417" y="227"/>
                  <a:pt x="416" y="227"/>
                  <a:pt x="415" y="227"/>
                </a:cubicBezTo>
                <a:cubicBezTo>
                  <a:pt x="414" y="226"/>
                  <a:pt x="414" y="226"/>
                  <a:pt x="414" y="226"/>
                </a:cubicBezTo>
                <a:cubicBezTo>
                  <a:pt x="413" y="226"/>
                  <a:pt x="412" y="226"/>
                  <a:pt x="412" y="225"/>
                </a:cubicBezTo>
                <a:cubicBezTo>
                  <a:pt x="411" y="225"/>
                  <a:pt x="410" y="225"/>
                  <a:pt x="410" y="224"/>
                </a:cubicBezTo>
                <a:cubicBezTo>
                  <a:pt x="410" y="211"/>
                  <a:pt x="411" y="198"/>
                  <a:pt x="411" y="184"/>
                </a:cubicBezTo>
                <a:cubicBezTo>
                  <a:pt x="411" y="184"/>
                  <a:pt x="411" y="183"/>
                  <a:pt x="411" y="183"/>
                </a:cubicBezTo>
                <a:cubicBezTo>
                  <a:pt x="410" y="182"/>
                  <a:pt x="410" y="182"/>
                  <a:pt x="410" y="182"/>
                </a:cubicBezTo>
                <a:cubicBezTo>
                  <a:pt x="410" y="182"/>
                  <a:pt x="410" y="181"/>
                  <a:pt x="410" y="181"/>
                </a:cubicBezTo>
                <a:cubicBezTo>
                  <a:pt x="410" y="181"/>
                  <a:pt x="410" y="181"/>
                  <a:pt x="410" y="181"/>
                </a:cubicBezTo>
                <a:cubicBezTo>
                  <a:pt x="409" y="180"/>
                  <a:pt x="409" y="180"/>
                  <a:pt x="409" y="180"/>
                </a:cubicBezTo>
                <a:cubicBezTo>
                  <a:pt x="409" y="179"/>
                  <a:pt x="409" y="179"/>
                  <a:pt x="409" y="179"/>
                </a:cubicBezTo>
                <a:cubicBezTo>
                  <a:pt x="408" y="179"/>
                  <a:pt x="408" y="179"/>
                  <a:pt x="408" y="179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6" y="177"/>
                  <a:pt x="406" y="177"/>
                  <a:pt x="406" y="177"/>
                </a:cubicBezTo>
                <a:cubicBezTo>
                  <a:pt x="405" y="177"/>
                  <a:pt x="405" y="177"/>
                  <a:pt x="404" y="176"/>
                </a:cubicBezTo>
                <a:cubicBezTo>
                  <a:pt x="404" y="176"/>
                  <a:pt x="404" y="176"/>
                  <a:pt x="403" y="176"/>
                </a:cubicBezTo>
                <a:cubicBezTo>
                  <a:pt x="403" y="175"/>
                  <a:pt x="402" y="175"/>
                  <a:pt x="402" y="175"/>
                </a:cubicBezTo>
                <a:cubicBezTo>
                  <a:pt x="401" y="175"/>
                  <a:pt x="401" y="175"/>
                  <a:pt x="401" y="175"/>
                </a:cubicBezTo>
                <a:cubicBezTo>
                  <a:pt x="400" y="174"/>
                  <a:pt x="400" y="174"/>
                  <a:pt x="400" y="174"/>
                </a:cubicBezTo>
                <a:cubicBezTo>
                  <a:pt x="400" y="174"/>
                  <a:pt x="399" y="174"/>
                  <a:pt x="399" y="174"/>
                </a:cubicBezTo>
                <a:cubicBezTo>
                  <a:pt x="398" y="173"/>
                  <a:pt x="398" y="173"/>
                  <a:pt x="397" y="173"/>
                </a:cubicBezTo>
                <a:cubicBezTo>
                  <a:pt x="397" y="173"/>
                  <a:pt x="396" y="173"/>
                  <a:pt x="396" y="173"/>
                </a:cubicBezTo>
                <a:cubicBezTo>
                  <a:pt x="395" y="172"/>
                  <a:pt x="395" y="172"/>
                  <a:pt x="395" y="172"/>
                </a:cubicBezTo>
                <a:cubicBezTo>
                  <a:pt x="394" y="172"/>
                  <a:pt x="394" y="172"/>
                  <a:pt x="394" y="172"/>
                </a:cubicBezTo>
                <a:cubicBezTo>
                  <a:pt x="394" y="172"/>
                  <a:pt x="393" y="172"/>
                  <a:pt x="393" y="172"/>
                </a:cubicBezTo>
                <a:cubicBezTo>
                  <a:pt x="392" y="172"/>
                  <a:pt x="392" y="172"/>
                  <a:pt x="392" y="172"/>
                </a:cubicBezTo>
                <a:cubicBezTo>
                  <a:pt x="392" y="171"/>
                  <a:pt x="392" y="171"/>
                  <a:pt x="392" y="171"/>
                </a:cubicBezTo>
                <a:cubicBezTo>
                  <a:pt x="392" y="171"/>
                  <a:pt x="392" y="171"/>
                  <a:pt x="392" y="171"/>
                </a:cubicBezTo>
                <a:cubicBezTo>
                  <a:pt x="391" y="171"/>
                  <a:pt x="391" y="171"/>
                  <a:pt x="390" y="171"/>
                </a:cubicBezTo>
                <a:cubicBezTo>
                  <a:pt x="390" y="171"/>
                  <a:pt x="389" y="171"/>
                  <a:pt x="389" y="171"/>
                </a:cubicBezTo>
                <a:cubicBezTo>
                  <a:pt x="388" y="170"/>
                  <a:pt x="388" y="170"/>
                  <a:pt x="388" y="170"/>
                </a:cubicBezTo>
                <a:cubicBezTo>
                  <a:pt x="388" y="170"/>
                  <a:pt x="388" y="170"/>
                  <a:pt x="388" y="170"/>
                </a:cubicBezTo>
                <a:cubicBezTo>
                  <a:pt x="388" y="170"/>
                  <a:pt x="388" y="170"/>
                  <a:pt x="388" y="170"/>
                </a:cubicBezTo>
                <a:cubicBezTo>
                  <a:pt x="388" y="170"/>
                  <a:pt x="387" y="170"/>
                  <a:pt x="387" y="170"/>
                </a:cubicBezTo>
                <a:cubicBezTo>
                  <a:pt x="386" y="170"/>
                  <a:pt x="386" y="170"/>
                  <a:pt x="386" y="170"/>
                </a:cubicBezTo>
                <a:cubicBezTo>
                  <a:pt x="385" y="170"/>
                  <a:pt x="385" y="170"/>
                  <a:pt x="384" y="170"/>
                </a:cubicBezTo>
                <a:cubicBezTo>
                  <a:pt x="384" y="169"/>
                  <a:pt x="384" y="169"/>
                  <a:pt x="384" y="169"/>
                </a:cubicBezTo>
                <a:cubicBezTo>
                  <a:pt x="384" y="169"/>
                  <a:pt x="384" y="169"/>
                  <a:pt x="384" y="169"/>
                </a:cubicBezTo>
                <a:cubicBezTo>
                  <a:pt x="383" y="169"/>
                  <a:pt x="383" y="169"/>
                  <a:pt x="383" y="169"/>
                </a:cubicBezTo>
                <a:cubicBezTo>
                  <a:pt x="383" y="169"/>
                  <a:pt x="382" y="169"/>
                  <a:pt x="382" y="169"/>
                </a:cubicBezTo>
                <a:cubicBezTo>
                  <a:pt x="382" y="169"/>
                  <a:pt x="381" y="169"/>
                  <a:pt x="381" y="169"/>
                </a:cubicBezTo>
                <a:cubicBezTo>
                  <a:pt x="381" y="169"/>
                  <a:pt x="380" y="169"/>
                  <a:pt x="380" y="169"/>
                </a:cubicBezTo>
                <a:cubicBezTo>
                  <a:pt x="379" y="169"/>
                  <a:pt x="379" y="169"/>
                  <a:pt x="379" y="169"/>
                </a:cubicBezTo>
                <a:cubicBezTo>
                  <a:pt x="379" y="169"/>
                  <a:pt x="379" y="169"/>
                  <a:pt x="379" y="169"/>
                </a:cubicBezTo>
                <a:cubicBezTo>
                  <a:pt x="379" y="169"/>
                  <a:pt x="379" y="169"/>
                  <a:pt x="379" y="169"/>
                </a:cubicBezTo>
                <a:cubicBezTo>
                  <a:pt x="379" y="168"/>
                  <a:pt x="379" y="168"/>
                  <a:pt x="379" y="168"/>
                </a:cubicBezTo>
                <a:cubicBezTo>
                  <a:pt x="378" y="168"/>
                  <a:pt x="378" y="168"/>
                  <a:pt x="377" y="168"/>
                </a:cubicBezTo>
                <a:cubicBezTo>
                  <a:pt x="377" y="168"/>
                  <a:pt x="377" y="168"/>
                  <a:pt x="376" y="168"/>
                </a:cubicBezTo>
                <a:cubicBezTo>
                  <a:pt x="376" y="168"/>
                  <a:pt x="375" y="168"/>
                  <a:pt x="375" y="168"/>
                </a:cubicBezTo>
                <a:cubicBezTo>
                  <a:pt x="375" y="168"/>
                  <a:pt x="374" y="168"/>
                  <a:pt x="374" y="168"/>
                </a:cubicBezTo>
                <a:cubicBezTo>
                  <a:pt x="374" y="168"/>
                  <a:pt x="373" y="168"/>
                  <a:pt x="373" y="168"/>
                </a:cubicBezTo>
                <a:cubicBezTo>
                  <a:pt x="372" y="168"/>
                  <a:pt x="372" y="167"/>
                  <a:pt x="372" y="167"/>
                </a:cubicBezTo>
                <a:cubicBezTo>
                  <a:pt x="371" y="167"/>
                  <a:pt x="371" y="167"/>
                  <a:pt x="370" y="167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69" y="167"/>
                  <a:pt x="369" y="167"/>
                  <a:pt x="369" y="167"/>
                </a:cubicBezTo>
                <a:cubicBezTo>
                  <a:pt x="369" y="167"/>
                  <a:pt x="369" y="167"/>
                  <a:pt x="369" y="167"/>
                </a:cubicBezTo>
                <a:cubicBezTo>
                  <a:pt x="369" y="167"/>
                  <a:pt x="368" y="167"/>
                  <a:pt x="368" y="167"/>
                </a:cubicBezTo>
                <a:cubicBezTo>
                  <a:pt x="368" y="167"/>
                  <a:pt x="367" y="167"/>
                  <a:pt x="367" y="167"/>
                </a:cubicBezTo>
                <a:cubicBezTo>
                  <a:pt x="366" y="167"/>
                  <a:pt x="366" y="167"/>
                  <a:pt x="366" y="167"/>
                </a:cubicBezTo>
                <a:cubicBezTo>
                  <a:pt x="365" y="167"/>
                  <a:pt x="365" y="167"/>
                  <a:pt x="364" y="167"/>
                </a:cubicBezTo>
                <a:cubicBezTo>
                  <a:pt x="364" y="167"/>
                  <a:pt x="364" y="167"/>
                  <a:pt x="364" y="167"/>
                </a:cubicBezTo>
                <a:cubicBezTo>
                  <a:pt x="363" y="167"/>
                  <a:pt x="363" y="167"/>
                  <a:pt x="363" y="167"/>
                </a:cubicBezTo>
                <a:cubicBezTo>
                  <a:pt x="363" y="166"/>
                  <a:pt x="362" y="166"/>
                  <a:pt x="362" y="166"/>
                </a:cubicBezTo>
                <a:cubicBezTo>
                  <a:pt x="361" y="166"/>
                  <a:pt x="361" y="166"/>
                  <a:pt x="361" y="166"/>
                </a:cubicBezTo>
                <a:cubicBezTo>
                  <a:pt x="360" y="166"/>
                  <a:pt x="360" y="166"/>
                  <a:pt x="360" y="166"/>
                </a:cubicBezTo>
                <a:cubicBezTo>
                  <a:pt x="360" y="166"/>
                  <a:pt x="360" y="166"/>
                  <a:pt x="360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3" y="166"/>
                  <a:pt x="353" y="166"/>
                  <a:pt x="353" y="166"/>
                </a:cubicBezTo>
                <a:cubicBezTo>
                  <a:pt x="353" y="166"/>
                  <a:pt x="353" y="166"/>
                  <a:pt x="353" y="166"/>
                </a:cubicBezTo>
                <a:cubicBezTo>
                  <a:pt x="352" y="166"/>
                  <a:pt x="352" y="166"/>
                  <a:pt x="352" y="166"/>
                </a:cubicBezTo>
                <a:cubicBezTo>
                  <a:pt x="351" y="166"/>
                  <a:pt x="351" y="166"/>
                  <a:pt x="351" y="166"/>
                </a:cubicBezTo>
                <a:cubicBezTo>
                  <a:pt x="351" y="166"/>
                  <a:pt x="351" y="166"/>
                  <a:pt x="351" y="166"/>
                </a:cubicBezTo>
                <a:cubicBezTo>
                  <a:pt x="350" y="166"/>
                  <a:pt x="350" y="166"/>
                  <a:pt x="350" y="166"/>
                </a:cubicBezTo>
                <a:cubicBezTo>
                  <a:pt x="350" y="166"/>
                  <a:pt x="350" y="166"/>
                  <a:pt x="350" y="166"/>
                </a:cubicBezTo>
                <a:cubicBezTo>
                  <a:pt x="349" y="166"/>
                  <a:pt x="349" y="166"/>
                  <a:pt x="348" y="166"/>
                </a:cubicBezTo>
                <a:cubicBezTo>
                  <a:pt x="348" y="166"/>
                  <a:pt x="348" y="166"/>
                  <a:pt x="347" y="166"/>
                </a:cubicBezTo>
                <a:cubicBezTo>
                  <a:pt x="347" y="166"/>
                  <a:pt x="346" y="167"/>
                  <a:pt x="346" y="167"/>
                </a:cubicBezTo>
                <a:cubicBezTo>
                  <a:pt x="345" y="167"/>
                  <a:pt x="345" y="167"/>
                  <a:pt x="344" y="167"/>
                </a:cubicBezTo>
                <a:cubicBezTo>
                  <a:pt x="343" y="167"/>
                  <a:pt x="342" y="167"/>
                  <a:pt x="341" y="167"/>
                </a:cubicBezTo>
                <a:cubicBezTo>
                  <a:pt x="340" y="167"/>
                  <a:pt x="340" y="167"/>
                  <a:pt x="340" y="167"/>
                </a:cubicBezTo>
                <a:cubicBezTo>
                  <a:pt x="340" y="167"/>
                  <a:pt x="340" y="167"/>
                  <a:pt x="340" y="167"/>
                </a:cubicBezTo>
                <a:cubicBezTo>
                  <a:pt x="339" y="167"/>
                  <a:pt x="338" y="167"/>
                  <a:pt x="338" y="167"/>
                </a:cubicBezTo>
                <a:cubicBezTo>
                  <a:pt x="336" y="167"/>
                  <a:pt x="335" y="167"/>
                  <a:pt x="334" y="168"/>
                </a:cubicBezTo>
                <a:cubicBezTo>
                  <a:pt x="333" y="168"/>
                  <a:pt x="332" y="168"/>
                  <a:pt x="331" y="168"/>
                </a:cubicBezTo>
                <a:cubicBezTo>
                  <a:pt x="330" y="168"/>
                  <a:pt x="330" y="168"/>
                  <a:pt x="329" y="168"/>
                </a:cubicBezTo>
                <a:cubicBezTo>
                  <a:pt x="327" y="168"/>
                  <a:pt x="325" y="169"/>
                  <a:pt x="323" y="169"/>
                </a:cubicBezTo>
                <a:cubicBezTo>
                  <a:pt x="323" y="169"/>
                  <a:pt x="322" y="169"/>
                  <a:pt x="321" y="169"/>
                </a:cubicBezTo>
                <a:cubicBezTo>
                  <a:pt x="318" y="169"/>
                  <a:pt x="315" y="170"/>
                  <a:pt x="312" y="170"/>
                </a:cubicBezTo>
                <a:cubicBezTo>
                  <a:pt x="312" y="170"/>
                  <a:pt x="312" y="170"/>
                  <a:pt x="312" y="170"/>
                </a:cubicBezTo>
                <a:cubicBezTo>
                  <a:pt x="312" y="170"/>
                  <a:pt x="311" y="170"/>
                  <a:pt x="311" y="170"/>
                </a:cubicBezTo>
                <a:cubicBezTo>
                  <a:pt x="309" y="171"/>
                  <a:pt x="307" y="171"/>
                  <a:pt x="305" y="171"/>
                </a:cubicBezTo>
                <a:cubicBezTo>
                  <a:pt x="305" y="171"/>
                  <a:pt x="304" y="171"/>
                  <a:pt x="303" y="171"/>
                </a:cubicBezTo>
                <a:cubicBezTo>
                  <a:pt x="302" y="172"/>
                  <a:pt x="301" y="172"/>
                  <a:pt x="300" y="172"/>
                </a:cubicBezTo>
                <a:cubicBezTo>
                  <a:pt x="298" y="172"/>
                  <a:pt x="296" y="173"/>
                  <a:pt x="293" y="173"/>
                </a:cubicBezTo>
                <a:cubicBezTo>
                  <a:pt x="293" y="173"/>
                  <a:pt x="292" y="173"/>
                  <a:pt x="292" y="173"/>
                </a:cubicBezTo>
                <a:cubicBezTo>
                  <a:pt x="291" y="173"/>
                  <a:pt x="291" y="173"/>
                  <a:pt x="290" y="173"/>
                </a:cubicBezTo>
                <a:cubicBezTo>
                  <a:pt x="287" y="174"/>
                  <a:pt x="284" y="174"/>
                  <a:pt x="281" y="175"/>
                </a:cubicBezTo>
                <a:cubicBezTo>
                  <a:pt x="280" y="175"/>
                  <a:pt x="280" y="175"/>
                  <a:pt x="280" y="175"/>
                </a:cubicBezTo>
                <a:cubicBezTo>
                  <a:pt x="277" y="175"/>
                  <a:pt x="273" y="176"/>
                  <a:pt x="269" y="176"/>
                </a:cubicBezTo>
                <a:cubicBezTo>
                  <a:pt x="269" y="176"/>
                  <a:pt x="269" y="176"/>
                  <a:pt x="269" y="176"/>
                </a:cubicBezTo>
                <a:cubicBezTo>
                  <a:pt x="269" y="176"/>
                  <a:pt x="269" y="176"/>
                  <a:pt x="269" y="176"/>
                </a:cubicBezTo>
                <a:cubicBezTo>
                  <a:pt x="262" y="178"/>
                  <a:pt x="254" y="179"/>
                  <a:pt x="247" y="180"/>
                </a:cubicBezTo>
                <a:cubicBezTo>
                  <a:pt x="246" y="180"/>
                  <a:pt x="246" y="180"/>
                  <a:pt x="246" y="180"/>
                </a:cubicBezTo>
                <a:cubicBezTo>
                  <a:pt x="245" y="180"/>
                  <a:pt x="245" y="180"/>
                  <a:pt x="245" y="180"/>
                </a:cubicBezTo>
                <a:cubicBezTo>
                  <a:pt x="243" y="181"/>
                  <a:pt x="241" y="181"/>
                  <a:pt x="238" y="182"/>
                </a:cubicBezTo>
                <a:cubicBezTo>
                  <a:pt x="237" y="182"/>
                  <a:pt x="237" y="182"/>
                  <a:pt x="236" y="182"/>
                </a:cubicBezTo>
                <a:cubicBezTo>
                  <a:pt x="236" y="182"/>
                  <a:pt x="235" y="182"/>
                  <a:pt x="235" y="182"/>
                </a:cubicBezTo>
                <a:cubicBezTo>
                  <a:pt x="234" y="182"/>
                  <a:pt x="233" y="182"/>
                  <a:pt x="232" y="182"/>
                </a:cubicBezTo>
                <a:cubicBezTo>
                  <a:pt x="233" y="85"/>
                  <a:pt x="233" y="85"/>
                  <a:pt x="233" y="85"/>
                </a:cubicBezTo>
                <a:cubicBezTo>
                  <a:pt x="233" y="83"/>
                  <a:pt x="233" y="80"/>
                  <a:pt x="232" y="78"/>
                </a:cubicBezTo>
                <a:cubicBezTo>
                  <a:pt x="231" y="76"/>
                  <a:pt x="230" y="74"/>
                  <a:pt x="229" y="72"/>
                </a:cubicBezTo>
                <a:cubicBezTo>
                  <a:pt x="227" y="69"/>
                  <a:pt x="226" y="67"/>
                  <a:pt x="224" y="65"/>
                </a:cubicBezTo>
                <a:cubicBezTo>
                  <a:pt x="221" y="63"/>
                  <a:pt x="219" y="61"/>
                  <a:pt x="217" y="59"/>
                </a:cubicBezTo>
                <a:cubicBezTo>
                  <a:pt x="216" y="58"/>
                  <a:pt x="215" y="58"/>
                  <a:pt x="214" y="57"/>
                </a:cubicBezTo>
                <a:cubicBezTo>
                  <a:pt x="214" y="57"/>
                  <a:pt x="214" y="57"/>
                  <a:pt x="214" y="57"/>
                </a:cubicBezTo>
                <a:cubicBezTo>
                  <a:pt x="213" y="57"/>
                  <a:pt x="213" y="57"/>
                  <a:pt x="213" y="57"/>
                </a:cubicBezTo>
                <a:cubicBezTo>
                  <a:pt x="212" y="56"/>
                  <a:pt x="211" y="56"/>
                  <a:pt x="211" y="56"/>
                </a:cubicBezTo>
                <a:cubicBezTo>
                  <a:pt x="210" y="55"/>
                  <a:pt x="210" y="55"/>
                  <a:pt x="210" y="55"/>
                </a:cubicBezTo>
                <a:cubicBezTo>
                  <a:pt x="210" y="55"/>
                  <a:pt x="210" y="55"/>
                  <a:pt x="210" y="55"/>
                </a:cubicBezTo>
                <a:cubicBezTo>
                  <a:pt x="209" y="55"/>
                  <a:pt x="208" y="55"/>
                  <a:pt x="207" y="54"/>
                </a:cubicBezTo>
                <a:cubicBezTo>
                  <a:pt x="207" y="54"/>
                  <a:pt x="207" y="54"/>
                  <a:pt x="207" y="54"/>
                </a:cubicBezTo>
                <a:cubicBezTo>
                  <a:pt x="206" y="54"/>
                  <a:pt x="206" y="54"/>
                  <a:pt x="206" y="54"/>
                </a:cubicBezTo>
                <a:cubicBezTo>
                  <a:pt x="205" y="53"/>
                  <a:pt x="205" y="53"/>
                  <a:pt x="205" y="53"/>
                </a:cubicBezTo>
                <a:cubicBezTo>
                  <a:pt x="205" y="53"/>
                  <a:pt x="205" y="53"/>
                  <a:pt x="205" y="53"/>
                </a:cubicBezTo>
                <a:cubicBezTo>
                  <a:pt x="204" y="53"/>
                  <a:pt x="203" y="53"/>
                  <a:pt x="202" y="53"/>
                </a:cubicBezTo>
                <a:cubicBezTo>
                  <a:pt x="202" y="52"/>
                  <a:pt x="202" y="52"/>
                  <a:pt x="201" y="52"/>
                </a:cubicBezTo>
                <a:cubicBezTo>
                  <a:pt x="201" y="52"/>
                  <a:pt x="201" y="52"/>
                  <a:pt x="200" y="52"/>
                </a:cubicBezTo>
                <a:cubicBezTo>
                  <a:pt x="200" y="52"/>
                  <a:pt x="199" y="52"/>
                  <a:pt x="199" y="52"/>
                </a:cubicBezTo>
                <a:cubicBezTo>
                  <a:pt x="198" y="51"/>
                  <a:pt x="198" y="51"/>
                  <a:pt x="198" y="51"/>
                </a:cubicBezTo>
                <a:cubicBezTo>
                  <a:pt x="198" y="51"/>
                  <a:pt x="198" y="51"/>
                  <a:pt x="198" y="51"/>
                </a:cubicBezTo>
                <a:cubicBezTo>
                  <a:pt x="198" y="51"/>
                  <a:pt x="198" y="51"/>
                  <a:pt x="198" y="51"/>
                </a:cubicBezTo>
                <a:cubicBezTo>
                  <a:pt x="197" y="51"/>
                  <a:pt x="197" y="51"/>
                  <a:pt x="197" y="51"/>
                </a:cubicBezTo>
                <a:cubicBezTo>
                  <a:pt x="196" y="51"/>
                  <a:pt x="196" y="51"/>
                  <a:pt x="196" y="51"/>
                </a:cubicBezTo>
                <a:cubicBezTo>
                  <a:pt x="195" y="51"/>
                  <a:pt x="195" y="51"/>
                  <a:pt x="195" y="51"/>
                </a:cubicBezTo>
                <a:cubicBezTo>
                  <a:pt x="194" y="50"/>
                  <a:pt x="194" y="50"/>
                  <a:pt x="194" y="50"/>
                </a:cubicBezTo>
                <a:cubicBezTo>
                  <a:pt x="193" y="50"/>
                  <a:pt x="193" y="50"/>
                  <a:pt x="193" y="50"/>
                </a:cubicBezTo>
                <a:cubicBezTo>
                  <a:pt x="192" y="50"/>
                  <a:pt x="192" y="50"/>
                  <a:pt x="192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0" y="50"/>
                  <a:pt x="190" y="50"/>
                  <a:pt x="190" y="50"/>
                </a:cubicBezTo>
                <a:cubicBezTo>
                  <a:pt x="190" y="50"/>
                  <a:pt x="190" y="50"/>
                  <a:pt x="190" y="50"/>
                </a:cubicBezTo>
                <a:cubicBezTo>
                  <a:pt x="190" y="50"/>
                  <a:pt x="190" y="50"/>
                  <a:pt x="190" y="50"/>
                </a:cubicBezTo>
                <a:cubicBezTo>
                  <a:pt x="190" y="50"/>
                  <a:pt x="190" y="50"/>
                  <a:pt x="190" y="50"/>
                </a:cubicBezTo>
                <a:cubicBezTo>
                  <a:pt x="189" y="50"/>
                  <a:pt x="189" y="50"/>
                  <a:pt x="189" y="50"/>
                </a:cubicBezTo>
                <a:cubicBezTo>
                  <a:pt x="188" y="49"/>
                  <a:pt x="188" y="49"/>
                  <a:pt x="188" y="49"/>
                </a:cubicBezTo>
                <a:cubicBezTo>
                  <a:pt x="187" y="49"/>
                  <a:pt x="187" y="49"/>
                  <a:pt x="187" y="49"/>
                </a:cubicBezTo>
                <a:cubicBezTo>
                  <a:pt x="186" y="49"/>
                  <a:pt x="186" y="49"/>
                  <a:pt x="186" y="49"/>
                </a:cubicBezTo>
                <a:cubicBezTo>
                  <a:pt x="185" y="49"/>
                  <a:pt x="185" y="49"/>
                  <a:pt x="185" y="49"/>
                </a:cubicBezTo>
                <a:cubicBezTo>
                  <a:pt x="184" y="49"/>
                  <a:pt x="184" y="49"/>
                  <a:pt x="184" y="49"/>
                </a:cubicBezTo>
                <a:cubicBezTo>
                  <a:pt x="183" y="49"/>
                  <a:pt x="183" y="49"/>
                  <a:pt x="183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1" y="49"/>
                  <a:pt x="181" y="49"/>
                  <a:pt x="181" y="49"/>
                </a:cubicBezTo>
                <a:cubicBezTo>
                  <a:pt x="180" y="48"/>
                  <a:pt x="180" y="48"/>
                  <a:pt x="180" y="48"/>
                </a:cubicBezTo>
                <a:cubicBezTo>
                  <a:pt x="179" y="48"/>
                  <a:pt x="179" y="48"/>
                  <a:pt x="179" y="48"/>
                </a:cubicBezTo>
                <a:cubicBezTo>
                  <a:pt x="178" y="48"/>
                  <a:pt x="178" y="48"/>
                  <a:pt x="178" y="48"/>
                </a:cubicBezTo>
                <a:cubicBezTo>
                  <a:pt x="177" y="48"/>
                  <a:pt x="177" y="48"/>
                  <a:pt x="177" y="48"/>
                </a:cubicBezTo>
                <a:cubicBezTo>
                  <a:pt x="176" y="48"/>
                  <a:pt x="176" y="48"/>
                  <a:pt x="176" y="48"/>
                </a:cubicBezTo>
                <a:cubicBezTo>
                  <a:pt x="175" y="48"/>
                  <a:pt x="175" y="48"/>
                  <a:pt x="174" y="48"/>
                </a:cubicBezTo>
                <a:cubicBezTo>
                  <a:pt x="174" y="48"/>
                  <a:pt x="174" y="48"/>
                  <a:pt x="173" y="48"/>
                </a:cubicBezTo>
                <a:cubicBezTo>
                  <a:pt x="173" y="48"/>
                  <a:pt x="173" y="48"/>
                  <a:pt x="172" y="48"/>
                </a:cubicBezTo>
                <a:cubicBezTo>
                  <a:pt x="172" y="48"/>
                  <a:pt x="171" y="48"/>
                  <a:pt x="171" y="48"/>
                </a:cubicBezTo>
                <a:cubicBezTo>
                  <a:pt x="171" y="48"/>
                  <a:pt x="170" y="48"/>
                  <a:pt x="170" y="48"/>
                </a:cubicBezTo>
                <a:cubicBezTo>
                  <a:pt x="170" y="48"/>
                  <a:pt x="169" y="48"/>
                  <a:pt x="169" y="48"/>
                </a:cubicBezTo>
                <a:cubicBezTo>
                  <a:pt x="168" y="48"/>
                  <a:pt x="168" y="48"/>
                  <a:pt x="168" y="48"/>
                </a:cubicBezTo>
                <a:cubicBezTo>
                  <a:pt x="167" y="48"/>
                  <a:pt x="167" y="48"/>
                  <a:pt x="166" y="48"/>
                </a:cubicBezTo>
                <a:cubicBezTo>
                  <a:pt x="166" y="48"/>
                  <a:pt x="166" y="48"/>
                  <a:pt x="165" y="47"/>
                </a:cubicBezTo>
                <a:cubicBezTo>
                  <a:pt x="165" y="47"/>
                  <a:pt x="165" y="47"/>
                  <a:pt x="165" y="47"/>
                </a:cubicBezTo>
                <a:cubicBezTo>
                  <a:pt x="164" y="47"/>
                  <a:pt x="164" y="47"/>
                  <a:pt x="164" y="47"/>
                </a:cubicBezTo>
                <a:cubicBezTo>
                  <a:pt x="164" y="47"/>
                  <a:pt x="164" y="47"/>
                  <a:pt x="164" y="47"/>
                </a:cubicBezTo>
                <a:cubicBezTo>
                  <a:pt x="163" y="47"/>
                  <a:pt x="163" y="47"/>
                  <a:pt x="163" y="47"/>
                </a:cubicBezTo>
                <a:cubicBezTo>
                  <a:pt x="162" y="47"/>
                  <a:pt x="162" y="47"/>
                  <a:pt x="161" y="47"/>
                </a:cubicBezTo>
                <a:cubicBezTo>
                  <a:pt x="161" y="47"/>
                  <a:pt x="160" y="47"/>
                  <a:pt x="160" y="47"/>
                </a:cubicBezTo>
                <a:cubicBezTo>
                  <a:pt x="160" y="47"/>
                  <a:pt x="159" y="47"/>
                  <a:pt x="159" y="47"/>
                </a:cubicBezTo>
                <a:cubicBezTo>
                  <a:pt x="158" y="47"/>
                  <a:pt x="158" y="47"/>
                  <a:pt x="158" y="47"/>
                </a:cubicBezTo>
                <a:cubicBezTo>
                  <a:pt x="157" y="47"/>
                  <a:pt x="157" y="47"/>
                  <a:pt x="157" y="47"/>
                </a:cubicBezTo>
                <a:cubicBezTo>
                  <a:pt x="156" y="47"/>
                  <a:pt x="156" y="47"/>
                  <a:pt x="156" y="47"/>
                </a:cubicBezTo>
                <a:cubicBezTo>
                  <a:pt x="156" y="47"/>
                  <a:pt x="156" y="47"/>
                  <a:pt x="156" y="47"/>
                </a:cubicBezTo>
                <a:cubicBezTo>
                  <a:pt x="155" y="47"/>
                  <a:pt x="155" y="47"/>
                  <a:pt x="155" y="47"/>
                </a:cubicBezTo>
                <a:cubicBezTo>
                  <a:pt x="154" y="47"/>
                  <a:pt x="154" y="47"/>
                  <a:pt x="154" y="47"/>
                </a:cubicBezTo>
                <a:cubicBezTo>
                  <a:pt x="154" y="47"/>
                  <a:pt x="154" y="47"/>
                  <a:pt x="154" y="47"/>
                </a:cubicBezTo>
                <a:cubicBezTo>
                  <a:pt x="153" y="47"/>
                  <a:pt x="153" y="47"/>
                  <a:pt x="153" y="47"/>
                </a:cubicBezTo>
                <a:cubicBezTo>
                  <a:pt x="153" y="47"/>
                  <a:pt x="152" y="47"/>
                  <a:pt x="152" y="47"/>
                </a:cubicBezTo>
                <a:cubicBezTo>
                  <a:pt x="151" y="48"/>
                  <a:pt x="151" y="48"/>
                  <a:pt x="150" y="48"/>
                </a:cubicBezTo>
                <a:cubicBezTo>
                  <a:pt x="150" y="48"/>
                  <a:pt x="149" y="48"/>
                  <a:pt x="149" y="48"/>
                </a:cubicBezTo>
                <a:cubicBezTo>
                  <a:pt x="148" y="48"/>
                  <a:pt x="148" y="48"/>
                  <a:pt x="147" y="48"/>
                </a:cubicBezTo>
                <a:cubicBezTo>
                  <a:pt x="147" y="48"/>
                  <a:pt x="147" y="48"/>
                  <a:pt x="147" y="48"/>
                </a:cubicBezTo>
                <a:cubicBezTo>
                  <a:pt x="147" y="48"/>
                  <a:pt x="147" y="48"/>
                  <a:pt x="147" y="48"/>
                </a:cubicBezTo>
                <a:cubicBezTo>
                  <a:pt x="147" y="48"/>
                  <a:pt x="146" y="48"/>
                  <a:pt x="146" y="48"/>
                </a:cubicBezTo>
                <a:cubicBezTo>
                  <a:pt x="145" y="48"/>
                  <a:pt x="145" y="48"/>
                  <a:pt x="144" y="48"/>
                </a:cubicBezTo>
                <a:cubicBezTo>
                  <a:pt x="144" y="48"/>
                  <a:pt x="143" y="48"/>
                  <a:pt x="143" y="48"/>
                </a:cubicBezTo>
                <a:cubicBezTo>
                  <a:pt x="142" y="48"/>
                  <a:pt x="142" y="48"/>
                  <a:pt x="141" y="48"/>
                </a:cubicBezTo>
                <a:cubicBezTo>
                  <a:pt x="141" y="48"/>
                  <a:pt x="140" y="48"/>
                  <a:pt x="140" y="48"/>
                </a:cubicBezTo>
                <a:cubicBezTo>
                  <a:pt x="139" y="48"/>
                  <a:pt x="138" y="48"/>
                  <a:pt x="138" y="48"/>
                </a:cubicBezTo>
                <a:cubicBezTo>
                  <a:pt x="137" y="48"/>
                  <a:pt x="137" y="48"/>
                  <a:pt x="136" y="48"/>
                </a:cubicBezTo>
                <a:cubicBezTo>
                  <a:pt x="136" y="49"/>
                  <a:pt x="135" y="49"/>
                  <a:pt x="134" y="49"/>
                </a:cubicBezTo>
                <a:cubicBezTo>
                  <a:pt x="134" y="49"/>
                  <a:pt x="133" y="49"/>
                  <a:pt x="132" y="49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31" y="49"/>
                  <a:pt x="130" y="49"/>
                  <a:pt x="130" y="49"/>
                </a:cubicBezTo>
                <a:cubicBezTo>
                  <a:pt x="129" y="49"/>
                  <a:pt x="129" y="49"/>
                  <a:pt x="128" y="49"/>
                </a:cubicBezTo>
                <a:cubicBezTo>
                  <a:pt x="127" y="50"/>
                  <a:pt x="126" y="50"/>
                  <a:pt x="126" y="50"/>
                </a:cubicBezTo>
                <a:cubicBezTo>
                  <a:pt x="125" y="50"/>
                  <a:pt x="125" y="50"/>
                  <a:pt x="125" y="50"/>
                </a:cubicBezTo>
                <a:cubicBezTo>
                  <a:pt x="125" y="50"/>
                  <a:pt x="125" y="50"/>
                  <a:pt x="125" y="50"/>
                </a:cubicBezTo>
                <a:cubicBezTo>
                  <a:pt x="124" y="50"/>
                  <a:pt x="123" y="50"/>
                  <a:pt x="122" y="50"/>
                </a:cubicBezTo>
                <a:cubicBezTo>
                  <a:pt x="121" y="50"/>
                  <a:pt x="121" y="50"/>
                  <a:pt x="121" y="50"/>
                </a:cubicBezTo>
                <a:cubicBezTo>
                  <a:pt x="121" y="50"/>
                  <a:pt x="121" y="50"/>
                  <a:pt x="121" y="50"/>
                </a:cubicBezTo>
                <a:cubicBezTo>
                  <a:pt x="120" y="51"/>
                  <a:pt x="119" y="51"/>
                  <a:pt x="118" y="51"/>
                </a:cubicBezTo>
                <a:cubicBezTo>
                  <a:pt x="118" y="51"/>
                  <a:pt x="118" y="51"/>
                  <a:pt x="118" y="51"/>
                </a:cubicBezTo>
                <a:cubicBezTo>
                  <a:pt x="117" y="51"/>
                  <a:pt x="117" y="51"/>
                  <a:pt x="117" y="51"/>
                </a:cubicBezTo>
                <a:cubicBezTo>
                  <a:pt x="116" y="52"/>
                  <a:pt x="115" y="52"/>
                  <a:pt x="115" y="52"/>
                </a:cubicBezTo>
                <a:cubicBezTo>
                  <a:pt x="114" y="52"/>
                  <a:pt x="114" y="52"/>
                  <a:pt x="114" y="52"/>
                </a:cubicBezTo>
                <a:cubicBezTo>
                  <a:pt x="114" y="52"/>
                  <a:pt x="114" y="52"/>
                  <a:pt x="114" y="52"/>
                </a:cubicBezTo>
                <a:cubicBezTo>
                  <a:pt x="113" y="52"/>
                  <a:pt x="113" y="52"/>
                  <a:pt x="113" y="52"/>
                </a:cubicBezTo>
                <a:cubicBezTo>
                  <a:pt x="112" y="53"/>
                  <a:pt x="112" y="53"/>
                  <a:pt x="111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0" y="53"/>
                  <a:pt x="110" y="53"/>
                  <a:pt x="110" y="53"/>
                </a:cubicBezTo>
                <a:cubicBezTo>
                  <a:pt x="110" y="53"/>
                  <a:pt x="110" y="53"/>
                  <a:pt x="110" y="53"/>
                </a:cubicBezTo>
                <a:cubicBezTo>
                  <a:pt x="110" y="53"/>
                  <a:pt x="110" y="53"/>
                  <a:pt x="110" y="53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8" y="54"/>
                  <a:pt x="108" y="54"/>
                  <a:pt x="108" y="54"/>
                </a:cubicBezTo>
                <a:cubicBezTo>
                  <a:pt x="108" y="54"/>
                  <a:pt x="108" y="54"/>
                  <a:pt x="108" y="54"/>
                </a:cubicBezTo>
                <a:cubicBezTo>
                  <a:pt x="108" y="54"/>
                  <a:pt x="108" y="54"/>
                  <a:pt x="108" y="54"/>
                </a:cubicBezTo>
                <a:cubicBezTo>
                  <a:pt x="107" y="54"/>
                  <a:pt x="107" y="54"/>
                  <a:pt x="107" y="54"/>
                </a:cubicBezTo>
                <a:cubicBezTo>
                  <a:pt x="107" y="54"/>
                  <a:pt x="107" y="54"/>
                  <a:pt x="107" y="54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5" y="55"/>
                  <a:pt x="105" y="55"/>
                  <a:pt x="105" y="55"/>
                </a:cubicBezTo>
                <a:cubicBezTo>
                  <a:pt x="105" y="55"/>
                  <a:pt x="105" y="55"/>
                  <a:pt x="105" y="55"/>
                </a:cubicBezTo>
                <a:cubicBezTo>
                  <a:pt x="105" y="55"/>
                  <a:pt x="105" y="55"/>
                  <a:pt x="105" y="55"/>
                </a:cubicBezTo>
                <a:cubicBezTo>
                  <a:pt x="105" y="56"/>
                  <a:pt x="105" y="56"/>
                  <a:pt x="105" y="56"/>
                </a:cubicBezTo>
                <a:cubicBezTo>
                  <a:pt x="104" y="56"/>
                  <a:pt x="102" y="57"/>
                  <a:pt x="101" y="58"/>
                </a:cubicBezTo>
                <a:cubicBezTo>
                  <a:pt x="101" y="58"/>
                  <a:pt x="101" y="58"/>
                  <a:pt x="101" y="58"/>
                </a:cubicBezTo>
                <a:cubicBezTo>
                  <a:pt x="100" y="58"/>
                  <a:pt x="98" y="59"/>
                  <a:pt x="97" y="59"/>
                </a:cubicBezTo>
                <a:cubicBezTo>
                  <a:pt x="97" y="59"/>
                  <a:pt x="97" y="59"/>
                  <a:pt x="97" y="59"/>
                </a:cubicBezTo>
                <a:cubicBezTo>
                  <a:pt x="95" y="60"/>
                  <a:pt x="94" y="60"/>
                  <a:pt x="92" y="61"/>
                </a:cubicBezTo>
                <a:cubicBezTo>
                  <a:pt x="92" y="61"/>
                  <a:pt x="92" y="61"/>
                  <a:pt x="92" y="61"/>
                </a:cubicBezTo>
                <a:cubicBezTo>
                  <a:pt x="90" y="61"/>
                  <a:pt x="89" y="61"/>
                  <a:pt x="88" y="62"/>
                </a:cubicBezTo>
                <a:cubicBezTo>
                  <a:pt x="87" y="62"/>
                  <a:pt x="87" y="62"/>
                  <a:pt x="87" y="62"/>
                </a:cubicBezTo>
                <a:cubicBezTo>
                  <a:pt x="85" y="62"/>
                  <a:pt x="84" y="62"/>
                  <a:pt x="82" y="63"/>
                </a:cubicBezTo>
                <a:cubicBezTo>
                  <a:pt x="82" y="63"/>
                  <a:pt x="82" y="63"/>
                  <a:pt x="82" y="63"/>
                </a:cubicBezTo>
                <a:cubicBezTo>
                  <a:pt x="80" y="63"/>
                  <a:pt x="79" y="63"/>
                  <a:pt x="77" y="63"/>
                </a:cubicBezTo>
                <a:cubicBezTo>
                  <a:pt x="77" y="63"/>
                  <a:pt x="77" y="63"/>
                  <a:pt x="77" y="63"/>
                </a:cubicBezTo>
                <a:cubicBezTo>
                  <a:pt x="75" y="63"/>
                  <a:pt x="73" y="63"/>
                  <a:pt x="72" y="64"/>
                </a:cubicBezTo>
                <a:cubicBezTo>
                  <a:pt x="72" y="64"/>
                  <a:pt x="72" y="64"/>
                  <a:pt x="72" y="64"/>
                </a:cubicBezTo>
                <a:cubicBezTo>
                  <a:pt x="70" y="64"/>
                  <a:pt x="68" y="64"/>
                  <a:pt x="66" y="64"/>
                </a:cubicBezTo>
                <a:cubicBezTo>
                  <a:pt x="64" y="64"/>
                  <a:pt x="62" y="64"/>
                  <a:pt x="60" y="64"/>
                </a:cubicBezTo>
                <a:cubicBezTo>
                  <a:pt x="60" y="64"/>
                  <a:pt x="60" y="64"/>
                  <a:pt x="60" y="64"/>
                </a:cubicBezTo>
                <a:cubicBezTo>
                  <a:pt x="58" y="64"/>
                  <a:pt x="56" y="63"/>
                  <a:pt x="54" y="63"/>
                </a:cubicBezTo>
                <a:cubicBezTo>
                  <a:pt x="54" y="63"/>
                  <a:pt x="54" y="63"/>
                  <a:pt x="54" y="63"/>
                </a:cubicBezTo>
                <a:cubicBezTo>
                  <a:pt x="52" y="63"/>
                  <a:pt x="50" y="63"/>
                  <a:pt x="48" y="63"/>
                </a:cubicBezTo>
                <a:cubicBezTo>
                  <a:pt x="48" y="63"/>
                  <a:pt x="48" y="63"/>
                  <a:pt x="48" y="63"/>
                </a:cubicBezTo>
                <a:cubicBezTo>
                  <a:pt x="48" y="63"/>
                  <a:pt x="48" y="63"/>
                  <a:pt x="48" y="63"/>
                </a:cubicBezTo>
                <a:cubicBezTo>
                  <a:pt x="46" y="63"/>
                  <a:pt x="44" y="62"/>
                  <a:pt x="43" y="62"/>
                </a:cubicBezTo>
                <a:cubicBezTo>
                  <a:pt x="42" y="62"/>
                  <a:pt x="41" y="62"/>
                  <a:pt x="40" y="61"/>
                </a:cubicBezTo>
                <a:cubicBezTo>
                  <a:pt x="40" y="61"/>
                  <a:pt x="39" y="61"/>
                  <a:pt x="39" y="61"/>
                </a:cubicBezTo>
                <a:cubicBezTo>
                  <a:pt x="38" y="60"/>
                  <a:pt x="37" y="60"/>
                  <a:pt x="37" y="60"/>
                </a:cubicBezTo>
                <a:cubicBezTo>
                  <a:pt x="36" y="60"/>
                  <a:pt x="36" y="59"/>
                  <a:pt x="36" y="59"/>
                </a:cubicBezTo>
                <a:cubicBezTo>
                  <a:pt x="35" y="59"/>
                  <a:pt x="34" y="58"/>
                  <a:pt x="34" y="58"/>
                </a:cubicBezTo>
                <a:cubicBezTo>
                  <a:pt x="33" y="57"/>
                  <a:pt x="33" y="57"/>
                  <a:pt x="33" y="57"/>
                </a:cubicBezTo>
                <a:cubicBezTo>
                  <a:pt x="32" y="56"/>
                  <a:pt x="31" y="56"/>
                  <a:pt x="31" y="55"/>
                </a:cubicBezTo>
                <a:cubicBezTo>
                  <a:pt x="31" y="55"/>
                  <a:pt x="30" y="54"/>
                  <a:pt x="30" y="54"/>
                </a:cubicBezTo>
                <a:cubicBezTo>
                  <a:pt x="29" y="53"/>
                  <a:pt x="29" y="53"/>
                  <a:pt x="28" y="52"/>
                </a:cubicBezTo>
                <a:cubicBezTo>
                  <a:pt x="28" y="52"/>
                  <a:pt x="27" y="51"/>
                  <a:pt x="27" y="51"/>
                </a:cubicBezTo>
                <a:cubicBezTo>
                  <a:pt x="26" y="50"/>
                  <a:pt x="26" y="49"/>
                  <a:pt x="25" y="49"/>
                </a:cubicBezTo>
                <a:cubicBezTo>
                  <a:pt x="25" y="48"/>
                  <a:pt x="25" y="48"/>
                  <a:pt x="24" y="47"/>
                </a:cubicBezTo>
                <a:cubicBezTo>
                  <a:pt x="24" y="46"/>
                  <a:pt x="23" y="46"/>
                  <a:pt x="23" y="45"/>
                </a:cubicBezTo>
                <a:cubicBezTo>
                  <a:pt x="22" y="44"/>
                  <a:pt x="22" y="44"/>
                  <a:pt x="21" y="43"/>
                </a:cubicBezTo>
                <a:cubicBezTo>
                  <a:pt x="21" y="43"/>
                  <a:pt x="21" y="42"/>
                  <a:pt x="20" y="41"/>
                </a:cubicBezTo>
                <a:cubicBezTo>
                  <a:pt x="20" y="41"/>
                  <a:pt x="19" y="40"/>
                  <a:pt x="19" y="39"/>
                </a:cubicBezTo>
                <a:cubicBezTo>
                  <a:pt x="18" y="38"/>
                  <a:pt x="17" y="36"/>
                  <a:pt x="16" y="34"/>
                </a:cubicBezTo>
                <a:cubicBezTo>
                  <a:pt x="15" y="33"/>
                  <a:pt x="15" y="32"/>
                  <a:pt x="14" y="31"/>
                </a:cubicBezTo>
                <a:cubicBezTo>
                  <a:pt x="13" y="29"/>
                  <a:pt x="12" y="27"/>
                  <a:pt x="11" y="25"/>
                </a:cubicBezTo>
                <a:cubicBezTo>
                  <a:pt x="11" y="24"/>
                  <a:pt x="10" y="23"/>
                  <a:pt x="10" y="22"/>
                </a:cubicBezTo>
                <a:cubicBezTo>
                  <a:pt x="9" y="22"/>
                  <a:pt x="9" y="21"/>
                  <a:pt x="9" y="20"/>
                </a:cubicBezTo>
                <a:cubicBezTo>
                  <a:pt x="7" y="17"/>
                  <a:pt x="6" y="14"/>
                  <a:pt x="4" y="12"/>
                </a:cubicBezTo>
                <a:cubicBezTo>
                  <a:pt x="4" y="11"/>
                  <a:pt x="4" y="11"/>
                  <a:pt x="4" y="11"/>
                </a:cubicBezTo>
                <a:cubicBezTo>
                  <a:pt x="3" y="10"/>
                  <a:pt x="3" y="9"/>
                  <a:pt x="2" y="7"/>
                </a:cubicBezTo>
                <a:cubicBezTo>
                  <a:pt x="2" y="7"/>
                  <a:pt x="2" y="6"/>
                  <a:pt x="1" y="5"/>
                </a:cubicBezTo>
                <a:cubicBezTo>
                  <a:pt x="1" y="5"/>
                  <a:pt x="1" y="4"/>
                  <a:pt x="0" y="3"/>
                </a:cubicBezTo>
                <a:cubicBezTo>
                  <a:pt x="0" y="3"/>
                  <a:pt x="0" y="2"/>
                  <a:pt x="0" y="1"/>
                </a:cubicBezTo>
                <a:cubicBezTo>
                  <a:pt x="0" y="1"/>
                  <a:pt x="0" y="0"/>
                  <a:pt x="0" y="0"/>
                </a:cubicBezTo>
                <a:cubicBezTo>
                  <a:pt x="2" y="141"/>
                  <a:pt x="2" y="141"/>
                  <a:pt x="2" y="141"/>
                </a:cubicBezTo>
                <a:cubicBezTo>
                  <a:pt x="2" y="142"/>
                  <a:pt x="2" y="142"/>
                  <a:pt x="2" y="143"/>
                </a:cubicBezTo>
                <a:cubicBezTo>
                  <a:pt x="2" y="143"/>
                  <a:pt x="2" y="144"/>
                  <a:pt x="2" y="145"/>
                </a:cubicBezTo>
                <a:cubicBezTo>
                  <a:pt x="2" y="146"/>
                  <a:pt x="3" y="146"/>
                  <a:pt x="3" y="147"/>
                </a:cubicBezTo>
                <a:cubicBezTo>
                  <a:pt x="3" y="148"/>
                  <a:pt x="4" y="149"/>
                  <a:pt x="4" y="149"/>
                </a:cubicBezTo>
                <a:cubicBezTo>
                  <a:pt x="5" y="151"/>
                  <a:pt x="5" y="152"/>
                  <a:pt x="6" y="153"/>
                </a:cubicBezTo>
                <a:cubicBezTo>
                  <a:pt x="6" y="154"/>
                  <a:pt x="6" y="154"/>
                  <a:pt x="6" y="154"/>
                </a:cubicBezTo>
                <a:cubicBezTo>
                  <a:pt x="8" y="158"/>
                  <a:pt x="10" y="162"/>
                  <a:pt x="12" y="166"/>
                </a:cubicBezTo>
                <a:cubicBezTo>
                  <a:pt x="12" y="167"/>
                  <a:pt x="13" y="168"/>
                  <a:pt x="13" y="169"/>
                </a:cubicBezTo>
                <a:cubicBezTo>
                  <a:pt x="14" y="171"/>
                  <a:pt x="15" y="173"/>
                  <a:pt x="16" y="175"/>
                </a:cubicBezTo>
                <a:cubicBezTo>
                  <a:pt x="16" y="176"/>
                  <a:pt x="17" y="177"/>
                  <a:pt x="18" y="178"/>
                </a:cubicBezTo>
                <a:cubicBezTo>
                  <a:pt x="18" y="180"/>
                  <a:pt x="19" y="181"/>
                  <a:pt x="20" y="183"/>
                </a:cubicBezTo>
                <a:cubicBezTo>
                  <a:pt x="20" y="183"/>
                  <a:pt x="20" y="184"/>
                  <a:pt x="21" y="184"/>
                </a:cubicBezTo>
                <a:cubicBezTo>
                  <a:pt x="21" y="185"/>
                  <a:pt x="21" y="185"/>
                  <a:pt x="21" y="185"/>
                </a:cubicBezTo>
                <a:cubicBezTo>
                  <a:pt x="21" y="185"/>
                  <a:pt x="21" y="185"/>
                  <a:pt x="22" y="186"/>
                </a:cubicBezTo>
                <a:cubicBezTo>
                  <a:pt x="22" y="187"/>
                  <a:pt x="23" y="187"/>
                  <a:pt x="23" y="188"/>
                </a:cubicBezTo>
                <a:cubicBezTo>
                  <a:pt x="23" y="189"/>
                  <a:pt x="24" y="189"/>
                  <a:pt x="24" y="190"/>
                </a:cubicBezTo>
                <a:cubicBezTo>
                  <a:pt x="25" y="191"/>
                  <a:pt x="25" y="192"/>
                  <a:pt x="26" y="192"/>
                </a:cubicBezTo>
                <a:cubicBezTo>
                  <a:pt x="26" y="193"/>
                  <a:pt x="26" y="194"/>
                  <a:pt x="27" y="194"/>
                </a:cubicBezTo>
                <a:cubicBezTo>
                  <a:pt x="27" y="195"/>
                  <a:pt x="28" y="195"/>
                  <a:pt x="28" y="196"/>
                </a:cubicBezTo>
                <a:cubicBezTo>
                  <a:pt x="29" y="197"/>
                  <a:pt x="29" y="197"/>
                  <a:pt x="30" y="198"/>
                </a:cubicBezTo>
                <a:cubicBezTo>
                  <a:pt x="30" y="199"/>
                  <a:pt x="30" y="199"/>
                  <a:pt x="30" y="199"/>
                </a:cubicBezTo>
                <a:cubicBezTo>
                  <a:pt x="31" y="200"/>
                  <a:pt x="31" y="200"/>
                  <a:pt x="31" y="200"/>
                </a:cubicBezTo>
                <a:cubicBezTo>
                  <a:pt x="32" y="201"/>
                  <a:pt x="32" y="201"/>
                  <a:pt x="32" y="201"/>
                </a:cubicBezTo>
                <a:cubicBezTo>
                  <a:pt x="32" y="201"/>
                  <a:pt x="32" y="201"/>
                  <a:pt x="32" y="201"/>
                </a:cubicBezTo>
                <a:cubicBezTo>
                  <a:pt x="33" y="202"/>
                  <a:pt x="33" y="202"/>
                  <a:pt x="34" y="203"/>
                </a:cubicBezTo>
                <a:cubicBezTo>
                  <a:pt x="34" y="203"/>
                  <a:pt x="35" y="203"/>
                  <a:pt x="35" y="204"/>
                </a:cubicBezTo>
                <a:cubicBezTo>
                  <a:pt x="36" y="204"/>
                  <a:pt x="36" y="205"/>
                  <a:pt x="37" y="205"/>
                </a:cubicBezTo>
                <a:cubicBezTo>
                  <a:pt x="37" y="205"/>
                  <a:pt x="38" y="206"/>
                  <a:pt x="38" y="206"/>
                </a:cubicBezTo>
                <a:cubicBezTo>
                  <a:pt x="39" y="206"/>
                  <a:pt x="39" y="207"/>
                  <a:pt x="40" y="207"/>
                </a:cubicBezTo>
                <a:cubicBezTo>
                  <a:pt x="40" y="207"/>
                  <a:pt x="41" y="208"/>
                  <a:pt x="41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3" y="208"/>
                  <a:pt x="43" y="208"/>
                  <a:pt x="43" y="208"/>
                </a:cubicBezTo>
                <a:cubicBezTo>
                  <a:pt x="43" y="208"/>
                  <a:pt x="43" y="208"/>
                  <a:pt x="43" y="208"/>
                </a:cubicBezTo>
                <a:cubicBezTo>
                  <a:pt x="43" y="208"/>
                  <a:pt x="43" y="208"/>
                  <a:pt x="43" y="208"/>
                </a:cubicBezTo>
                <a:cubicBezTo>
                  <a:pt x="43" y="208"/>
                  <a:pt x="43" y="208"/>
                  <a:pt x="43" y="208"/>
                </a:cubicBezTo>
                <a:cubicBezTo>
                  <a:pt x="43" y="208"/>
                  <a:pt x="43" y="208"/>
                  <a:pt x="43" y="208"/>
                </a:cubicBezTo>
                <a:cubicBezTo>
                  <a:pt x="44" y="208"/>
                  <a:pt x="44" y="208"/>
                  <a:pt x="44" y="208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5" y="209"/>
                  <a:pt x="45" y="209"/>
                  <a:pt x="45" y="209"/>
                </a:cubicBezTo>
                <a:cubicBezTo>
                  <a:pt x="45" y="209"/>
                  <a:pt x="45" y="209"/>
                  <a:pt x="45" y="209"/>
                </a:cubicBezTo>
                <a:cubicBezTo>
                  <a:pt x="46" y="209"/>
                  <a:pt x="46" y="209"/>
                  <a:pt x="46" y="209"/>
                </a:cubicBezTo>
                <a:cubicBezTo>
                  <a:pt x="46" y="209"/>
                  <a:pt x="46" y="209"/>
                  <a:pt x="46" y="209"/>
                </a:cubicBezTo>
                <a:cubicBezTo>
                  <a:pt x="47" y="209"/>
                  <a:pt x="47" y="209"/>
                  <a:pt x="47" y="209"/>
                </a:cubicBezTo>
                <a:cubicBezTo>
                  <a:pt x="48" y="209"/>
                  <a:pt x="48" y="209"/>
                  <a:pt x="48" y="209"/>
                </a:cubicBezTo>
                <a:cubicBezTo>
                  <a:pt x="48" y="209"/>
                  <a:pt x="48" y="209"/>
                  <a:pt x="48" y="209"/>
                </a:cubicBezTo>
                <a:cubicBezTo>
                  <a:pt x="49" y="209"/>
                  <a:pt x="49" y="209"/>
                  <a:pt x="49" y="209"/>
                </a:cubicBezTo>
                <a:cubicBezTo>
                  <a:pt x="50" y="209"/>
                  <a:pt x="50" y="209"/>
                  <a:pt x="50" y="209"/>
                </a:cubicBezTo>
                <a:cubicBezTo>
                  <a:pt x="51" y="210"/>
                  <a:pt x="51" y="210"/>
                  <a:pt x="51" y="210"/>
                </a:cubicBezTo>
                <a:cubicBezTo>
                  <a:pt x="52" y="210"/>
                  <a:pt x="52" y="210"/>
                  <a:pt x="52" y="210"/>
                </a:cubicBezTo>
                <a:cubicBezTo>
                  <a:pt x="52" y="210"/>
                  <a:pt x="52" y="210"/>
                  <a:pt x="52" y="210"/>
                </a:cubicBezTo>
                <a:cubicBezTo>
                  <a:pt x="53" y="210"/>
                  <a:pt x="53" y="210"/>
                  <a:pt x="53" y="210"/>
                </a:cubicBezTo>
                <a:cubicBezTo>
                  <a:pt x="54" y="210"/>
                  <a:pt x="54" y="210"/>
                  <a:pt x="54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6" y="210"/>
                  <a:pt x="56" y="210"/>
                  <a:pt x="56" y="210"/>
                </a:cubicBezTo>
                <a:cubicBezTo>
                  <a:pt x="56" y="210"/>
                  <a:pt x="56" y="210"/>
                  <a:pt x="56" y="210"/>
                </a:cubicBezTo>
                <a:cubicBezTo>
                  <a:pt x="57" y="210"/>
                  <a:pt x="57" y="210"/>
                  <a:pt x="57" y="210"/>
                </a:cubicBezTo>
                <a:cubicBezTo>
                  <a:pt x="58" y="210"/>
                  <a:pt x="58" y="210"/>
                  <a:pt x="58" y="210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60" y="210"/>
                  <a:pt x="60" y="210"/>
                  <a:pt x="60" y="210"/>
                </a:cubicBezTo>
                <a:cubicBezTo>
                  <a:pt x="60" y="210"/>
                  <a:pt x="60" y="210"/>
                  <a:pt x="60" y="210"/>
                </a:cubicBezTo>
                <a:cubicBezTo>
                  <a:pt x="61" y="210"/>
                  <a:pt x="61" y="210"/>
                  <a:pt x="61" y="210"/>
                </a:cubicBezTo>
                <a:cubicBezTo>
                  <a:pt x="61" y="210"/>
                  <a:pt x="61" y="210"/>
                  <a:pt x="61" y="210"/>
                </a:cubicBezTo>
                <a:cubicBezTo>
                  <a:pt x="62" y="210"/>
                  <a:pt x="62" y="210"/>
                  <a:pt x="62" y="210"/>
                </a:cubicBezTo>
                <a:cubicBezTo>
                  <a:pt x="63" y="210"/>
                  <a:pt x="63" y="210"/>
                  <a:pt x="63" y="210"/>
                </a:cubicBezTo>
                <a:cubicBezTo>
                  <a:pt x="64" y="210"/>
                  <a:pt x="64" y="210"/>
                  <a:pt x="64" y="210"/>
                </a:cubicBezTo>
                <a:cubicBezTo>
                  <a:pt x="65" y="210"/>
                  <a:pt x="65" y="210"/>
                  <a:pt x="65" y="210"/>
                </a:cubicBezTo>
                <a:cubicBezTo>
                  <a:pt x="65" y="210"/>
                  <a:pt x="65" y="210"/>
                  <a:pt x="65" y="210"/>
                </a:cubicBezTo>
                <a:cubicBezTo>
                  <a:pt x="66" y="210"/>
                  <a:pt x="66" y="210"/>
                  <a:pt x="66" y="210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4"/>
          <p:cNvSpPr/>
          <p:nvPr/>
        </p:nvSpPr>
        <p:spPr>
          <a:xfrm>
            <a:off x="6037200" y="2770200"/>
            <a:ext cx="1500120" cy="474480"/>
          </a:xfrm>
          <a:custGeom>
            <a:avLst/>
            <a:gdLst/>
            <a:ahLst/>
            <a:rect l="l" t="t" r="r" b="b"/>
            <a:pathLst>
              <a:path w="827" h="262">
                <a:moveTo>
                  <a:pt x="88" y="89"/>
                </a:moveTo>
                <a:cubicBezTo>
                  <a:pt x="92" y="88"/>
                  <a:pt x="95" y="87"/>
                  <a:pt x="98" y="86"/>
                </a:cubicBezTo>
                <a:cubicBezTo>
                  <a:pt x="101" y="85"/>
                  <a:pt x="103" y="84"/>
                  <a:pt x="106" y="83"/>
                </a:cubicBezTo>
                <a:cubicBezTo>
                  <a:pt x="108" y="81"/>
                  <a:pt x="110" y="80"/>
                  <a:pt x="114" y="79"/>
                </a:cubicBezTo>
                <a:cubicBezTo>
                  <a:pt x="117" y="78"/>
                  <a:pt x="121" y="78"/>
                  <a:pt x="126" y="77"/>
                </a:cubicBezTo>
                <a:cubicBezTo>
                  <a:pt x="130" y="76"/>
                  <a:pt x="135" y="76"/>
                  <a:pt x="140" y="75"/>
                </a:cubicBezTo>
                <a:cubicBezTo>
                  <a:pt x="146" y="75"/>
                  <a:pt x="151" y="74"/>
                  <a:pt x="157" y="74"/>
                </a:cubicBezTo>
                <a:cubicBezTo>
                  <a:pt x="163" y="74"/>
                  <a:pt x="169" y="74"/>
                  <a:pt x="174" y="75"/>
                </a:cubicBezTo>
                <a:cubicBezTo>
                  <a:pt x="180" y="75"/>
                  <a:pt x="186" y="76"/>
                  <a:pt x="191" y="77"/>
                </a:cubicBezTo>
                <a:cubicBezTo>
                  <a:pt x="197" y="78"/>
                  <a:pt x="202" y="79"/>
                  <a:pt x="206" y="80"/>
                </a:cubicBezTo>
                <a:cubicBezTo>
                  <a:pt x="211" y="82"/>
                  <a:pt x="215" y="84"/>
                  <a:pt x="218" y="86"/>
                </a:cubicBezTo>
                <a:cubicBezTo>
                  <a:pt x="223" y="90"/>
                  <a:pt x="228" y="95"/>
                  <a:pt x="231" y="100"/>
                </a:cubicBezTo>
                <a:cubicBezTo>
                  <a:pt x="234" y="105"/>
                  <a:pt x="235" y="110"/>
                  <a:pt x="234" y="115"/>
                </a:cubicBezTo>
                <a:cubicBezTo>
                  <a:pt x="233" y="119"/>
                  <a:pt x="230" y="124"/>
                  <a:pt x="224" y="127"/>
                </a:cubicBezTo>
                <a:cubicBezTo>
                  <a:pt x="219" y="131"/>
                  <a:pt x="211" y="134"/>
                  <a:pt x="200" y="135"/>
                </a:cubicBezTo>
                <a:cubicBezTo>
                  <a:pt x="189" y="137"/>
                  <a:pt x="177" y="138"/>
                  <a:pt x="166" y="139"/>
                </a:cubicBezTo>
                <a:cubicBezTo>
                  <a:pt x="154" y="140"/>
                  <a:pt x="142" y="140"/>
                  <a:pt x="132" y="141"/>
                </a:cubicBezTo>
                <a:cubicBezTo>
                  <a:pt x="121" y="142"/>
                  <a:pt x="112" y="143"/>
                  <a:pt x="104" y="145"/>
                </a:cubicBezTo>
                <a:cubicBezTo>
                  <a:pt x="97" y="147"/>
                  <a:pt x="92" y="149"/>
                  <a:pt x="89" y="152"/>
                </a:cubicBezTo>
                <a:cubicBezTo>
                  <a:pt x="87" y="155"/>
                  <a:pt x="86" y="158"/>
                  <a:pt x="87" y="163"/>
                </a:cubicBezTo>
                <a:cubicBezTo>
                  <a:pt x="87" y="167"/>
                  <a:pt x="89" y="172"/>
                  <a:pt x="91" y="176"/>
                </a:cubicBezTo>
                <a:cubicBezTo>
                  <a:pt x="94" y="181"/>
                  <a:pt x="97" y="186"/>
                  <a:pt x="101" y="191"/>
                </a:cubicBezTo>
                <a:cubicBezTo>
                  <a:pt x="105" y="196"/>
                  <a:pt x="108" y="200"/>
                  <a:pt x="112" y="204"/>
                </a:cubicBezTo>
                <a:cubicBezTo>
                  <a:pt x="116" y="207"/>
                  <a:pt x="119" y="210"/>
                  <a:pt x="123" y="213"/>
                </a:cubicBezTo>
                <a:cubicBezTo>
                  <a:pt x="126" y="216"/>
                  <a:pt x="129" y="218"/>
                  <a:pt x="131" y="220"/>
                </a:cubicBezTo>
                <a:cubicBezTo>
                  <a:pt x="133" y="222"/>
                  <a:pt x="135" y="223"/>
                  <a:pt x="136" y="224"/>
                </a:cubicBezTo>
                <a:cubicBezTo>
                  <a:pt x="138" y="225"/>
                  <a:pt x="139" y="226"/>
                  <a:pt x="139" y="226"/>
                </a:cubicBezTo>
                <a:cubicBezTo>
                  <a:pt x="141" y="226"/>
                  <a:pt x="153" y="223"/>
                  <a:pt x="171" y="220"/>
                </a:cubicBezTo>
                <a:cubicBezTo>
                  <a:pt x="189" y="217"/>
                  <a:pt x="212" y="213"/>
                  <a:pt x="236" y="209"/>
                </a:cubicBezTo>
                <a:cubicBezTo>
                  <a:pt x="260" y="205"/>
                  <a:pt x="285" y="201"/>
                  <a:pt x="306" y="198"/>
                </a:cubicBezTo>
                <a:cubicBezTo>
                  <a:pt x="327" y="195"/>
                  <a:pt x="345" y="193"/>
                  <a:pt x="356" y="193"/>
                </a:cubicBezTo>
                <a:cubicBezTo>
                  <a:pt x="356" y="193"/>
                  <a:pt x="356" y="193"/>
                  <a:pt x="357" y="193"/>
                </a:cubicBezTo>
                <a:cubicBezTo>
                  <a:pt x="357" y="193"/>
                  <a:pt x="358" y="193"/>
                  <a:pt x="358" y="193"/>
                </a:cubicBezTo>
                <a:cubicBezTo>
                  <a:pt x="359" y="193"/>
                  <a:pt x="359" y="193"/>
                  <a:pt x="359" y="193"/>
                </a:cubicBezTo>
                <a:cubicBezTo>
                  <a:pt x="360" y="193"/>
                  <a:pt x="360" y="193"/>
                  <a:pt x="360" y="193"/>
                </a:cubicBezTo>
                <a:cubicBezTo>
                  <a:pt x="368" y="194"/>
                  <a:pt x="375" y="195"/>
                  <a:pt x="382" y="196"/>
                </a:cubicBezTo>
                <a:cubicBezTo>
                  <a:pt x="389" y="197"/>
                  <a:pt x="395" y="199"/>
                  <a:pt x="399" y="201"/>
                </a:cubicBezTo>
                <a:cubicBezTo>
                  <a:pt x="404" y="202"/>
                  <a:pt x="408" y="204"/>
                  <a:pt x="410" y="207"/>
                </a:cubicBezTo>
                <a:cubicBezTo>
                  <a:pt x="412" y="209"/>
                  <a:pt x="413" y="211"/>
                  <a:pt x="411" y="214"/>
                </a:cubicBezTo>
                <a:cubicBezTo>
                  <a:pt x="410" y="216"/>
                  <a:pt x="408" y="219"/>
                  <a:pt x="405" y="223"/>
                </a:cubicBezTo>
                <a:cubicBezTo>
                  <a:pt x="402" y="226"/>
                  <a:pt x="400" y="230"/>
                  <a:pt x="399" y="234"/>
                </a:cubicBezTo>
                <a:cubicBezTo>
                  <a:pt x="398" y="238"/>
                  <a:pt x="399" y="243"/>
                  <a:pt x="403" y="246"/>
                </a:cubicBezTo>
                <a:cubicBezTo>
                  <a:pt x="407" y="250"/>
                  <a:pt x="414" y="253"/>
                  <a:pt x="426" y="256"/>
                </a:cubicBezTo>
                <a:cubicBezTo>
                  <a:pt x="430" y="257"/>
                  <a:pt x="434" y="258"/>
                  <a:pt x="439" y="259"/>
                </a:cubicBezTo>
                <a:cubicBezTo>
                  <a:pt x="444" y="259"/>
                  <a:pt x="449" y="260"/>
                  <a:pt x="454" y="260"/>
                </a:cubicBezTo>
                <a:cubicBezTo>
                  <a:pt x="459" y="261"/>
                  <a:pt x="465" y="261"/>
                  <a:pt x="470" y="261"/>
                </a:cubicBezTo>
                <a:cubicBezTo>
                  <a:pt x="476" y="262"/>
                  <a:pt x="482" y="262"/>
                  <a:pt x="487" y="262"/>
                </a:cubicBezTo>
                <a:cubicBezTo>
                  <a:pt x="498" y="261"/>
                  <a:pt x="509" y="261"/>
                  <a:pt x="519" y="260"/>
                </a:cubicBezTo>
                <a:cubicBezTo>
                  <a:pt x="529" y="259"/>
                  <a:pt x="539" y="258"/>
                  <a:pt x="547" y="256"/>
                </a:cubicBezTo>
                <a:cubicBezTo>
                  <a:pt x="555" y="254"/>
                  <a:pt x="562" y="252"/>
                  <a:pt x="567" y="249"/>
                </a:cubicBezTo>
                <a:cubicBezTo>
                  <a:pt x="572" y="247"/>
                  <a:pt x="576" y="244"/>
                  <a:pt x="576" y="241"/>
                </a:cubicBezTo>
                <a:cubicBezTo>
                  <a:pt x="577" y="236"/>
                  <a:pt x="578" y="232"/>
                  <a:pt x="577" y="228"/>
                </a:cubicBezTo>
                <a:cubicBezTo>
                  <a:pt x="577" y="224"/>
                  <a:pt x="576" y="221"/>
                  <a:pt x="574" y="218"/>
                </a:cubicBezTo>
                <a:cubicBezTo>
                  <a:pt x="572" y="215"/>
                  <a:pt x="570" y="212"/>
                  <a:pt x="567" y="210"/>
                </a:cubicBezTo>
                <a:cubicBezTo>
                  <a:pt x="564" y="207"/>
                  <a:pt x="561" y="205"/>
                  <a:pt x="558" y="202"/>
                </a:cubicBezTo>
                <a:cubicBezTo>
                  <a:pt x="554" y="200"/>
                  <a:pt x="551" y="197"/>
                  <a:pt x="548" y="194"/>
                </a:cubicBezTo>
                <a:cubicBezTo>
                  <a:pt x="546" y="192"/>
                  <a:pt x="545" y="189"/>
                  <a:pt x="545" y="187"/>
                </a:cubicBezTo>
                <a:cubicBezTo>
                  <a:pt x="545" y="184"/>
                  <a:pt x="547" y="182"/>
                  <a:pt x="552" y="181"/>
                </a:cubicBezTo>
                <a:cubicBezTo>
                  <a:pt x="556" y="179"/>
                  <a:pt x="563" y="178"/>
                  <a:pt x="572" y="177"/>
                </a:cubicBezTo>
                <a:cubicBezTo>
                  <a:pt x="575" y="177"/>
                  <a:pt x="579" y="177"/>
                  <a:pt x="583" y="177"/>
                </a:cubicBezTo>
                <a:cubicBezTo>
                  <a:pt x="587" y="177"/>
                  <a:pt x="591" y="177"/>
                  <a:pt x="597" y="177"/>
                </a:cubicBezTo>
                <a:cubicBezTo>
                  <a:pt x="602" y="177"/>
                  <a:pt x="608" y="177"/>
                  <a:pt x="614" y="177"/>
                </a:cubicBezTo>
                <a:cubicBezTo>
                  <a:pt x="620" y="177"/>
                  <a:pt x="626" y="176"/>
                  <a:pt x="633" y="176"/>
                </a:cubicBezTo>
                <a:cubicBezTo>
                  <a:pt x="638" y="176"/>
                  <a:pt x="643" y="176"/>
                  <a:pt x="648" y="176"/>
                </a:cubicBezTo>
                <a:cubicBezTo>
                  <a:pt x="654" y="176"/>
                  <a:pt x="659" y="176"/>
                  <a:pt x="664" y="176"/>
                </a:cubicBezTo>
                <a:cubicBezTo>
                  <a:pt x="670" y="176"/>
                  <a:pt x="675" y="176"/>
                  <a:pt x="681" y="176"/>
                </a:cubicBezTo>
                <a:cubicBezTo>
                  <a:pt x="686" y="176"/>
                  <a:pt x="692" y="176"/>
                  <a:pt x="697" y="176"/>
                </a:cubicBezTo>
                <a:cubicBezTo>
                  <a:pt x="703" y="176"/>
                  <a:pt x="708" y="176"/>
                  <a:pt x="713" y="176"/>
                </a:cubicBezTo>
                <a:cubicBezTo>
                  <a:pt x="719" y="175"/>
                  <a:pt x="724" y="175"/>
                  <a:pt x="729" y="175"/>
                </a:cubicBezTo>
                <a:cubicBezTo>
                  <a:pt x="734" y="175"/>
                  <a:pt x="739" y="175"/>
                  <a:pt x="744" y="175"/>
                </a:cubicBezTo>
                <a:cubicBezTo>
                  <a:pt x="749" y="175"/>
                  <a:pt x="754" y="175"/>
                  <a:pt x="758" y="175"/>
                </a:cubicBezTo>
                <a:cubicBezTo>
                  <a:pt x="766" y="175"/>
                  <a:pt x="773" y="175"/>
                  <a:pt x="780" y="175"/>
                </a:cubicBezTo>
                <a:cubicBezTo>
                  <a:pt x="786" y="175"/>
                  <a:pt x="792" y="175"/>
                  <a:pt x="797" y="174"/>
                </a:cubicBezTo>
                <a:cubicBezTo>
                  <a:pt x="803" y="174"/>
                  <a:pt x="807" y="174"/>
                  <a:pt x="810" y="174"/>
                </a:cubicBezTo>
                <a:cubicBezTo>
                  <a:pt x="814" y="174"/>
                  <a:pt x="816" y="174"/>
                  <a:pt x="817" y="174"/>
                </a:cubicBezTo>
                <a:cubicBezTo>
                  <a:pt x="821" y="173"/>
                  <a:pt x="824" y="173"/>
                  <a:pt x="825" y="171"/>
                </a:cubicBezTo>
                <a:cubicBezTo>
                  <a:pt x="826" y="170"/>
                  <a:pt x="827" y="169"/>
                  <a:pt x="827" y="168"/>
                </a:cubicBezTo>
                <a:cubicBezTo>
                  <a:pt x="826" y="167"/>
                  <a:pt x="826" y="165"/>
                  <a:pt x="825" y="164"/>
                </a:cubicBezTo>
                <a:cubicBezTo>
                  <a:pt x="824" y="163"/>
                  <a:pt x="824" y="163"/>
                  <a:pt x="824" y="163"/>
                </a:cubicBezTo>
                <a:cubicBezTo>
                  <a:pt x="818" y="156"/>
                  <a:pt x="818" y="156"/>
                  <a:pt x="818" y="156"/>
                </a:cubicBezTo>
                <a:cubicBezTo>
                  <a:pt x="706" y="8"/>
                  <a:pt x="706" y="8"/>
                  <a:pt x="706" y="8"/>
                </a:cubicBezTo>
                <a:cubicBezTo>
                  <a:pt x="706" y="8"/>
                  <a:pt x="706" y="7"/>
                  <a:pt x="704" y="6"/>
                </a:cubicBezTo>
                <a:cubicBezTo>
                  <a:pt x="703" y="6"/>
                  <a:pt x="701" y="5"/>
                  <a:pt x="696" y="4"/>
                </a:cubicBezTo>
                <a:cubicBezTo>
                  <a:pt x="692" y="3"/>
                  <a:pt x="686" y="2"/>
                  <a:pt x="677" y="1"/>
                </a:cubicBezTo>
                <a:cubicBezTo>
                  <a:pt x="668" y="0"/>
                  <a:pt x="657" y="0"/>
                  <a:pt x="642" y="0"/>
                </a:cubicBezTo>
                <a:cubicBezTo>
                  <a:pt x="641" y="0"/>
                  <a:pt x="639" y="0"/>
                  <a:pt x="638" y="0"/>
                </a:cubicBezTo>
                <a:cubicBezTo>
                  <a:pt x="637" y="0"/>
                  <a:pt x="636" y="0"/>
                  <a:pt x="635" y="0"/>
                </a:cubicBezTo>
                <a:cubicBezTo>
                  <a:pt x="634" y="0"/>
                  <a:pt x="633" y="0"/>
                  <a:pt x="632" y="0"/>
                </a:cubicBezTo>
                <a:cubicBezTo>
                  <a:pt x="631" y="1"/>
                  <a:pt x="630" y="1"/>
                  <a:pt x="628" y="1"/>
                </a:cubicBezTo>
                <a:cubicBezTo>
                  <a:pt x="610" y="1"/>
                  <a:pt x="566" y="2"/>
                  <a:pt x="509" y="4"/>
                </a:cubicBezTo>
                <a:cubicBezTo>
                  <a:pt x="452" y="5"/>
                  <a:pt x="383" y="7"/>
                  <a:pt x="315" y="9"/>
                </a:cubicBezTo>
                <a:cubicBezTo>
                  <a:pt x="247" y="11"/>
                  <a:pt x="181" y="12"/>
                  <a:pt x="130" y="14"/>
                </a:cubicBezTo>
                <a:cubicBezTo>
                  <a:pt x="79" y="15"/>
                  <a:pt x="43" y="16"/>
                  <a:pt x="37" y="16"/>
                </a:cubicBezTo>
                <a:cubicBezTo>
                  <a:pt x="30" y="16"/>
                  <a:pt x="25" y="16"/>
                  <a:pt x="20" y="17"/>
                </a:cubicBezTo>
                <a:cubicBezTo>
                  <a:pt x="15" y="17"/>
                  <a:pt x="10" y="18"/>
                  <a:pt x="7" y="19"/>
                </a:cubicBezTo>
                <a:cubicBezTo>
                  <a:pt x="4" y="20"/>
                  <a:pt x="2" y="22"/>
                  <a:pt x="1" y="24"/>
                </a:cubicBezTo>
                <a:cubicBezTo>
                  <a:pt x="0" y="27"/>
                  <a:pt x="1" y="30"/>
                  <a:pt x="3" y="34"/>
                </a:cubicBezTo>
                <a:cubicBezTo>
                  <a:pt x="6" y="39"/>
                  <a:pt x="8" y="44"/>
                  <a:pt x="11" y="50"/>
                </a:cubicBezTo>
                <a:cubicBezTo>
                  <a:pt x="14" y="55"/>
                  <a:pt x="17" y="61"/>
                  <a:pt x="20" y="67"/>
                </a:cubicBezTo>
                <a:cubicBezTo>
                  <a:pt x="24" y="73"/>
                  <a:pt x="27" y="78"/>
                  <a:pt x="31" y="82"/>
                </a:cubicBezTo>
                <a:cubicBezTo>
                  <a:pt x="35" y="86"/>
                  <a:pt x="39" y="88"/>
                  <a:pt x="44" y="89"/>
                </a:cubicBezTo>
                <a:cubicBezTo>
                  <a:pt x="45" y="89"/>
                  <a:pt x="47" y="90"/>
                  <a:pt x="49" y="90"/>
                </a:cubicBezTo>
                <a:cubicBezTo>
                  <a:pt x="51" y="90"/>
                  <a:pt x="53" y="90"/>
                  <a:pt x="55" y="90"/>
                </a:cubicBezTo>
                <a:cubicBezTo>
                  <a:pt x="57" y="90"/>
                  <a:pt x="59" y="91"/>
                  <a:pt x="61" y="91"/>
                </a:cubicBezTo>
                <a:cubicBezTo>
                  <a:pt x="63" y="91"/>
                  <a:pt x="65" y="91"/>
                  <a:pt x="67" y="91"/>
                </a:cubicBezTo>
                <a:cubicBezTo>
                  <a:pt x="71" y="91"/>
                  <a:pt x="74" y="90"/>
                  <a:pt x="78" y="90"/>
                </a:cubicBezTo>
                <a:cubicBezTo>
                  <a:pt x="81" y="90"/>
                  <a:pt x="85" y="89"/>
                  <a:pt x="88" y="89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5"/>
          <p:cNvSpPr/>
          <p:nvPr/>
        </p:nvSpPr>
        <p:spPr>
          <a:xfrm>
            <a:off x="4092480" y="2206800"/>
            <a:ext cx="81000" cy="99720"/>
          </a:xfrm>
          <a:custGeom>
            <a:avLst/>
            <a:gdLst/>
            <a:ahLst/>
            <a:rect l="l" t="t" r="r" b="b"/>
            <a:pathLst>
              <a:path w="45" h="54">
                <a:moveTo>
                  <a:pt x="0" y="47"/>
                </a:moveTo>
                <a:cubicBezTo>
                  <a:pt x="0" y="7"/>
                  <a:pt x="0" y="7"/>
                  <a:pt x="0" y="7"/>
                </a:cubicBezTo>
                <a:cubicBezTo>
                  <a:pt x="0" y="7"/>
                  <a:pt x="20" y="0"/>
                  <a:pt x="32" y="4"/>
                </a:cubicBezTo>
                <a:cubicBezTo>
                  <a:pt x="44" y="9"/>
                  <a:pt x="45" y="47"/>
                  <a:pt x="45" y="47"/>
                </a:cubicBezTo>
                <a:cubicBezTo>
                  <a:pt x="45" y="47"/>
                  <a:pt x="8" y="54"/>
                  <a:pt x="0" y="4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6"/>
          <p:cNvSpPr/>
          <p:nvPr/>
        </p:nvSpPr>
        <p:spPr>
          <a:xfrm>
            <a:off x="3852720" y="2198520"/>
            <a:ext cx="84240" cy="92160"/>
          </a:xfrm>
          <a:custGeom>
            <a:avLst/>
            <a:gdLst/>
            <a:ahLst/>
            <a:rect l="l" t="t" r="r" b="b"/>
            <a:pathLst>
              <a:path w="46" h="53">
                <a:moveTo>
                  <a:pt x="46" y="46"/>
                </a:moveTo>
                <a:cubicBezTo>
                  <a:pt x="43" y="6"/>
                  <a:pt x="43" y="6"/>
                  <a:pt x="43" y="6"/>
                </a:cubicBezTo>
                <a:cubicBezTo>
                  <a:pt x="43" y="6"/>
                  <a:pt x="23" y="0"/>
                  <a:pt x="12" y="5"/>
                </a:cubicBezTo>
                <a:cubicBezTo>
                  <a:pt x="0" y="10"/>
                  <a:pt x="1" y="49"/>
                  <a:pt x="1" y="49"/>
                </a:cubicBezTo>
                <a:cubicBezTo>
                  <a:pt x="1" y="49"/>
                  <a:pt x="38" y="53"/>
                  <a:pt x="46" y="4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7"/>
          <p:cNvSpPr/>
          <p:nvPr/>
        </p:nvSpPr>
        <p:spPr>
          <a:xfrm>
            <a:off x="4282920" y="2214720"/>
            <a:ext cx="84240" cy="95040"/>
          </a:xfrm>
          <a:custGeom>
            <a:avLst/>
            <a:gdLst/>
            <a:ahLst/>
            <a:rect l="l" t="t" r="r" b="b"/>
            <a:pathLst>
              <a:path w="46" h="53">
                <a:moveTo>
                  <a:pt x="46" y="45"/>
                </a:moveTo>
                <a:cubicBezTo>
                  <a:pt x="44" y="6"/>
                  <a:pt x="44" y="6"/>
                  <a:pt x="44" y="6"/>
                </a:cubicBezTo>
                <a:cubicBezTo>
                  <a:pt x="44" y="6"/>
                  <a:pt x="24" y="0"/>
                  <a:pt x="12" y="5"/>
                </a:cubicBezTo>
                <a:cubicBezTo>
                  <a:pt x="0" y="10"/>
                  <a:pt x="1" y="48"/>
                  <a:pt x="1" y="48"/>
                </a:cubicBezTo>
                <a:cubicBezTo>
                  <a:pt x="1" y="48"/>
                  <a:pt x="39" y="53"/>
                  <a:pt x="46" y="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8"/>
          <p:cNvSpPr/>
          <p:nvPr/>
        </p:nvSpPr>
        <p:spPr>
          <a:xfrm>
            <a:off x="5273640" y="2554200"/>
            <a:ext cx="19080" cy="274680"/>
          </a:xfrm>
          <a:custGeom>
            <a:avLst/>
            <a:gdLst/>
            <a:ahLst/>
            <a:rect l="l" t="t" r="r" b="b"/>
            <a:pathLst>
              <a:path w="10" h="152">
                <a:moveTo>
                  <a:pt x="2" y="15"/>
                </a:moveTo>
                <a:cubicBezTo>
                  <a:pt x="2" y="13"/>
                  <a:pt x="2" y="12"/>
                  <a:pt x="1" y="10"/>
                </a:cubicBezTo>
                <a:cubicBezTo>
                  <a:pt x="1" y="8"/>
                  <a:pt x="1" y="7"/>
                  <a:pt x="0" y="5"/>
                </a:cubicBezTo>
                <a:cubicBezTo>
                  <a:pt x="0" y="3"/>
                  <a:pt x="0" y="2"/>
                  <a:pt x="0" y="0"/>
                </a:cubicBezTo>
                <a:cubicBezTo>
                  <a:pt x="7" y="132"/>
                  <a:pt x="7" y="132"/>
                  <a:pt x="7" y="132"/>
                </a:cubicBezTo>
                <a:cubicBezTo>
                  <a:pt x="7" y="134"/>
                  <a:pt x="7" y="135"/>
                  <a:pt x="7" y="137"/>
                </a:cubicBezTo>
                <a:cubicBezTo>
                  <a:pt x="7" y="139"/>
                  <a:pt x="8" y="141"/>
                  <a:pt x="8" y="142"/>
                </a:cubicBezTo>
                <a:cubicBezTo>
                  <a:pt x="9" y="144"/>
                  <a:pt x="9" y="146"/>
                  <a:pt x="9" y="147"/>
                </a:cubicBezTo>
                <a:cubicBezTo>
                  <a:pt x="10" y="149"/>
                  <a:pt x="10" y="151"/>
                  <a:pt x="10" y="152"/>
                </a:cubicBezTo>
                <a:cubicBezTo>
                  <a:pt x="8" y="108"/>
                  <a:pt x="5" y="63"/>
                  <a:pt x="3" y="19"/>
                </a:cubicBezTo>
                <a:cubicBezTo>
                  <a:pt x="3" y="17"/>
                  <a:pt x="3" y="16"/>
                  <a:pt x="2" y="1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9"/>
          <p:cNvSpPr/>
          <p:nvPr/>
        </p:nvSpPr>
        <p:spPr>
          <a:xfrm>
            <a:off x="4465800" y="2525760"/>
            <a:ext cx="1419120" cy="612720"/>
          </a:xfrm>
          <a:custGeom>
            <a:avLst/>
            <a:gdLst/>
            <a:ahLst/>
            <a:rect l="l" t="t" r="r" b="b"/>
            <a:pathLst>
              <a:path w="781" h="337">
                <a:moveTo>
                  <a:pt x="781" y="217"/>
                </a:moveTo>
                <a:cubicBezTo>
                  <a:pt x="778" y="79"/>
                  <a:pt x="778" y="79"/>
                  <a:pt x="778" y="79"/>
                </a:cubicBezTo>
                <a:cubicBezTo>
                  <a:pt x="778" y="80"/>
                  <a:pt x="778" y="81"/>
                  <a:pt x="778" y="82"/>
                </a:cubicBezTo>
                <a:cubicBezTo>
                  <a:pt x="778" y="82"/>
                  <a:pt x="778" y="82"/>
                  <a:pt x="778" y="82"/>
                </a:cubicBezTo>
                <a:cubicBezTo>
                  <a:pt x="777" y="82"/>
                  <a:pt x="777" y="83"/>
                  <a:pt x="777" y="84"/>
                </a:cubicBezTo>
                <a:cubicBezTo>
                  <a:pt x="776" y="85"/>
                  <a:pt x="776" y="85"/>
                  <a:pt x="775" y="86"/>
                </a:cubicBezTo>
                <a:cubicBezTo>
                  <a:pt x="775" y="86"/>
                  <a:pt x="775" y="86"/>
                  <a:pt x="775" y="86"/>
                </a:cubicBezTo>
                <a:cubicBezTo>
                  <a:pt x="775" y="87"/>
                  <a:pt x="774" y="87"/>
                  <a:pt x="773" y="88"/>
                </a:cubicBezTo>
                <a:cubicBezTo>
                  <a:pt x="773" y="88"/>
                  <a:pt x="773" y="88"/>
                  <a:pt x="773" y="88"/>
                </a:cubicBezTo>
                <a:cubicBezTo>
                  <a:pt x="772" y="89"/>
                  <a:pt x="771" y="90"/>
                  <a:pt x="770" y="90"/>
                </a:cubicBezTo>
                <a:cubicBezTo>
                  <a:pt x="770" y="90"/>
                  <a:pt x="770" y="90"/>
                  <a:pt x="770" y="90"/>
                </a:cubicBezTo>
                <a:cubicBezTo>
                  <a:pt x="769" y="91"/>
                  <a:pt x="768" y="92"/>
                  <a:pt x="766" y="92"/>
                </a:cubicBezTo>
                <a:cubicBezTo>
                  <a:pt x="766" y="92"/>
                  <a:pt x="766" y="92"/>
                  <a:pt x="766" y="92"/>
                </a:cubicBezTo>
                <a:cubicBezTo>
                  <a:pt x="765" y="93"/>
                  <a:pt x="765" y="93"/>
                  <a:pt x="764" y="93"/>
                </a:cubicBezTo>
                <a:cubicBezTo>
                  <a:pt x="764" y="93"/>
                  <a:pt x="764" y="93"/>
                  <a:pt x="764" y="93"/>
                </a:cubicBezTo>
                <a:cubicBezTo>
                  <a:pt x="763" y="94"/>
                  <a:pt x="762" y="94"/>
                  <a:pt x="762" y="94"/>
                </a:cubicBezTo>
                <a:cubicBezTo>
                  <a:pt x="761" y="94"/>
                  <a:pt x="761" y="94"/>
                  <a:pt x="761" y="94"/>
                </a:cubicBezTo>
                <a:cubicBezTo>
                  <a:pt x="761" y="95"/>
                  <a:pt x="760" y="95"/>
                  <a:pt x="759" y="95"/>
                </a:cubicBezTo>
                <a:cubicBezTo>
                  <a:pt x="759" y="95"/>
                  <a:pt x="759" y="95"/>
                  <a:pt x="759" y="95"/>
                </a:cubicBezTo>
                <a:cubicBezTo>
                  <a:pt x="758" y="96"/>
                  <a:pt x="757" y="96"/>
                  <a:pt x="756" y="96"/>
                </a:cubicBezTo>
                <a:cubicBezTo>
                  <a:pt x="754" y="97"/>
                  <a:pt x="752" y="97"/>
                  <a:pt x="750" y="98"/>
                </a:cubicBezTo>
                <a:cubicBezTo>
                  <a:pt x="748" y="98"/>
                  <a:pt x="747" y="99"/>
                  <a:pt x="745" y="99"/>
                </a:cubicBezTo>
                <a:cubicBezTo>
                  <a:pt x="744" y="99"/>
                  <a:pt x="743" y="100"/>
                  <a:pt x="741" y="100"/>
                </a:cubicBezTo>
                <a:cubicBezTo>
                  <a:pt x="740" y="100"/>
                  <a:pt x="738" y="101"/>
                  <a:pt x="737" y="101"/>
                </a:cubicBezTo>
                <a:cubicBezTo>
                  <a:pt x="736" y="101"/>
                  <a:pt x="734" y="102"/>
                  <a:pt x="733" y="102"/>
                </a:cubicBezTo>
                <a:cubicBezTo>
                  <a:pt x="732" y="102"/>
                  <a:pt x="730" y="103"/>
                  <a:pt x="729" y="103"/>
                </a:cubicBezTo>
                <a:cubicBezTo>
                  <a:pt x="728" y="103"/>
                  <a:pt x="727" y="103"/>
                  <a:pt x="726" y="103"/>
                </a:cubicBezTo>
                <a:cubicBezTo>
                  <a:pt x="724" y="104"/>
                  <a:pt x="723" y="104"/>
                  <a:pt x="722" y="104"/>
                </a:cubicBezTo>
                <a:cubicBezTo>
                  <a:pt x="720" y="104"/>
                  <a:pt x="719" y="104"/>
                  <a:pt x="717" y="105"/>
                </a:cubicBezTo>
                <a:cubicBezTo>
                  <a:pt x="717" y="105"/>
                  <a:pt x="717" y="105"/>
                  <a:pt x="717" y="105"/>
                </a:cubicBezTo>
                <a:cubicBezTo>
                  <a:pt x="715" y="105"/>
                  <a:pt x="713" y="105"/>
                  <a:pt x="711" y="105"/>
                </a:cubicBezTo>
                <a:cubicBezTo>
                  <a:pt x="711" y="105"/>
                  <a:pt x="711" y="105"/>
                  <a:pt x="711" y="105"/>
                </a:cubicBezTo>
                <a:cubicBezTo>
                  <a:pt x="709" y="106"/>
                  <a:pt x="707" y="106"/>
                  <a:pt x="705" y="106"/>
                </a:cubicBezTo>
                <a:cubicBezTo>
                  <a:pt x="705" y="106"/>
                  <a:pt x="705" y="106"/>
                  <a:pt x="705" y="106"/>
                </a:cubicBezTo>
                <a:cubicBezTo>
                  <a:pt x="703" y="106"/>
                  <a:pt x="701" y="106"/>
                  <a:pt x="700" y="106"/>
                </a:cubicBezTo>
                <a:cubicBezTo>
                  <a:pt x="697" y="106"/>
                  <a:pt x="695" y="106"/>
                  <a:pt x="693" y="106"/>
                </a:cubicBezTo>
                <a:cubicBezTo>
                  <a:pt x="690" y="106"/>
                  <a:pt x="688" y="106"/>
                  <a:pt x="686" y="106"/>
                </a:cubicBezTo>
                <a:cubicBezTo>
                  <a:pt x="686" y="106"/>
                  <a:pt x="686" y="106"/>
                  <a:pt x="686" y="106"/>
                </a:cubicBezTo>
                <a:cubicBezTo>
                  <a:pt x="684" y="105"/>
                  <a:pt x="682" y="105"/>
                  <a:pt x="680" y="105"/>
                </a:cubicBezTo>
                <a:cubicBezTo>
                  <a:pt x="679" y="105"/>
                  <a:pt x="679" y="105"/>
                  <a:pt x="679" y="105"/>
                </a:cubicBezTo>
                <a:cubicBezTo>
                  <a:pt x="677" y="105"/>
                  <a:pt x="675" y="105"/>
                  <a:pt x="673" y="105"/>
                </a:cubicBezTo>
                <a:cubicBezTo>
                  <a:pt x="673" y="105"/>
                  <a:pt x="673" y="105"/>
                  <a:pt x="673" y="105"/>
                </a:cubicBezTo>
                <a:cubicBezTo>
                  <a:pt x="673" y="105"/>
                  <a:pt x="673" y="105"/>
                  <a:pt x="673" y="105"/>
                </a:cubicBezTo>
                <a:cubicBezTo>
                  <a:pt x="672" y="105"/>
                  <a:pt x="672" y="105"/>
                  <a:pt x="672" y="105"/>
                </a:cubicBezTo>
                <a:cubicBezTo>
                  <a:pt x="672" y="105"/>
                  <a:pt x="672" y="105"/>
                  <a:pt x="672" y="105"/>
                </a:cubicBezTo>
                <a:cubicBezTo>
                  <a:pt x="671" y="105"/>
                  <a:pt x="671" y="105"/>
                  <a:pt x="671" y="105"/>
                </a:cubicBezTo>
                <a:cubicBezTo>
                  <a:pt x="670" y="105"/>
                  <a:pt x="670" y="105"/>
                  <a:pt x="670" y="105"/>
                </a:cubicBezTo>
                <a:cubicBezTo>
                  <a:pt x="670" y="105"/>
                  <a:pt x="670" y="105"/>
                  <a:pt x="670" y="105"/>
                </a:cubicBezTo>
                <a:cubicBezTo>
                  <a:pt x="670" y="105"/>
                  <a:pt x="670" y="105"/>
                  <a:pt x="670" y="105"/>
                </a:cubicBezTo>
                <a:cubicBezTo>
                  <a:pt x="670" y="105"/>
                  <a:pt x="670" y="105"/>
                  <a:pt x="670" y="105"/>
                </a:cubicBezTo>
                <a:cubicBezTo>
                  <a:pt x="670" y="105"/>
                  <a:pt x="670" y="105"/>
                  <a:pt x="670" y="105"/>
                </a:cubicBezTo>
                <a:cubicBezTo>
                  <a:pt x="669" y="104"/>
                  <a:pt x="669" y="104"/>
                  <a:pt x="669" y="104"/>
                </a:cubicBezTo>
                <a:cubicBezTo>
                  <a:pt x="668" y="104"/>
                  <a:pt x="668" y="104"/>
                  <a:pt x="668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6" y="104"/>
                  <a:pt x="666" y="104"/>
                  <a:pt x="666" y="104"/>
                </a:cubicBezTo>
                <a:cubicBezTo>
                  <a:pt x="665" y="104"/>
                  <a:pt x="665" y="104"/>
                  <a:pt x="665" y="104"/>
                </a:cubicBezTo>
                <a:cubicBezTo>
                  <a:pt x="665" y="104"/>
                  <a:pt x="665" y="104"/>
                  <a:pt x="665" y="104"/>
                </a:cubicBezTo>
                <a:cubicBezTo>
                  <a:pt x="664" y="104"/>
                  <a:pt x="664" y="104"/>
                  <a:pt x="664" y="104"/>
                </a:cubicBezTo>
                <a:cubicBezTo>
                  <a:pt x="663" y="104"/>
                  <a:pt x="663" y="104"/>
                  <a:pt x="663" y="104"/>
                </a:cubicBezTo>
                <a:cubicBezTo>
                  <a:pt x="662" y="104"/>
                  <a:pt x="662" y="104"/>
                  <a:pt x="662" y="104"/>
                </a:cubicBezTo>
                <a:cubicBezTo>
                  <a:pt x="662" y="104"/>
                  <a:pt x="662" y="104"/>
                  <a:pt x="662" y="104"/>
                </a:cubicBezTo>
                <a:cubicBezTo>
                  <a:pt x="661" y="104"/>
                  <a:pt x="661" y="104"/>
                  <a:pt x="661" y="104"/>
                </a:cubicBezTo>
                <a:cubicBezTo>
                  <a:pt x="661" y="104"/>
                  <a:pt x="661" y="104"/>
                  <a:pt x="661" y="104"/>
                </a:cubicBezTo>
                <a:cubicBezTo>
                  <a:pt x="661" y="104"/>
                  <a:pt x="661" y="104"/>
                  <a:pt x="661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59" y="104"/>
                  <a:pt x="659" y="104"/>
                  <a:pt x="659" y="104"/>
                </a:cubicBezTo>
                <a:cubicBezTo>
                  <a:pt x="659" y="104"/>
                  <a:pt x="659" y="104"/>
                  <a:pt x="659" y="104"/>
                </a:cubicBezTo>
                <a:cubicBezTo>
                  <a:pt x="658" y="104"/>
                  <a:pt x="658" y="104"/>
                  <a:pt x="658" y="104"/>
                </a:cubicBezTo>
                <a:cubicBezTo>
                  <a:pt x="657" y="104"/>
                  <a:pt x="657" y="104"/>
                  <a:pt x="657" y="104"/>
                </a:cubicBezTo>
                <a:cubicBezTo>
                  <a:pt x="657" y="104"/>
                  <a:pt x="657" y="104"/>
                  <a:pt x="657" y="104"/>
                </a:cubicBezTo>
                <a:cubicBezTo>
                  <a:pt x="656" y="104"/>
                  <a:pt x="656" y="104"/>
                  <a:pt x="656" y="104"/>
                </a:cubicBezTo>
                <a:cubicBezTo>
                  <a:pt x="655" y="105"/>
                  <a:pt x="655" y="105"/>
                  <a:pt x="655" y="105"/>
                </a:cubicBezTo>
                <a:cubicBezTo>
                  <a:pt x="655" y="105"/>
                  <a:pt x="655" y="105"/>
                  <a:pt x="655" y="105"/>
                </a:cubicBezTo>
                <a:cubicBezTo>
                  <a:pt x="654" y="105"/>
                  <a:pt x="654" y="105"/>
                  <a:pt x="654" y="105"/>
                </a:cubicBezTo>
                <a:cubicBezTo>
                  <a:pt x="654" y="105"/>
                  <a:pt x="654" y="105"/>
                  <a:pt x="654" y="105"/>
                </a:cubicBezTo>
                <a:cubicBezTo>
                  <a:pt x="653" y="105"/>
                  <a:pt x="653" y="105"/>
                  <a:pt x="653" y="105"/>
                </a:cubicBezTo>
                <a:cubicBezTo>
                  <a:pt x="652" y="105"/>
                  <a:pt x="652" y="105"/>
                  <a:pt x="652" y="105"/>
                </a:cubicBezTo>
                <a:cubicBezTo>
                  <a:pt x="652" y="105"/>
                  <a:pt x="652" y="105"/>
                  <a:pt x="652" y="105"/>
                </a:cubicBezTo>
                <a:cubicBezTo>
                  <a:pt x="651" y="105"/>
                  <a:pt x="651" y="105"/>
                  <a:pt x="651" y="105"/>
                </a:cubicBezTo>
                <a:cubicBezTo>
                  <a:pt x="648" y="0"/>
                  <a:pt x="648" y="0"/>
                  <a:pt x="648" y="0"/>
                </a:cubicBezTo>
                <a:cubicBezTo>
                  <a:pt x="629" y="51"/>
                  <a:pt x="629" y="51"/>
                  <a:pt x="629" y="5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1" y="112"/>
                  <a:pt x="631" y="112"/>
                  <a:pt x="631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3"/>
                  <a:pt x="630" y="113"/>
                  <a:pt x="630" y="113"/>
                </a:cubicBezTo>
                <a:cubicBezTo>
                  <a:pt x="630" y="113"/>
                  <a:pt x="630" y="113"/>
                  <a:pt x="630" y="113"/>
                </a:cubicBezTo>
                <a:cubicBezTo>
                  <a:pt x="630" y="113"/>
                  <a:pt x="630" y="113"/>
                  <a:pt x="630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31" y="186"/>
                  <a:pt x="631" y="186"/>
                  <a:pt x="631" y="186"/>
                </a:cubicBezTo>
                <a:cubicBezTo>
                  <a:pt x="631" y="186"/>
                  <a:pt x="631" y="186"/>
                  <a:pt x="631" y="186"/>
                </a:cubicBezTo>
                <a:cubicBezTo>
                  <a:pt x="631" y="186"/>
                  <a:pt x="631" y="186"/>
                  <a:pt x="631" y="186"/>
                </a:cubicBezTo>
                <a:cubicBezTo>
                  <a:pt x="630" y="186"/>
                  <a:pt x="630" y="186"/>
                  <a:pt x="630" y="186"/>
                </a:cubicBezTo>
                <a:cubicBezTo>
                  <a:pt x="630" y="186"/>
                  <a:pt x="629" y="186"/>
                  <a:pt x="629" y="186"/>
                </a:cubicBezTo>
                <a:cubicBezTo>
                  <a:pt x="628" y="186"/>
                  <a:pt x="628" y="186"/>
                  <a:pt x="628" y="186"/>
                </a:cubicBezTo>
                <a:cubicBezTo>
                  <a:pt x="626" y="187"/>
                  <a:pt x="625" y="187"/>
                  <a:pt x="623" y="187"/>
                </a:cubicBezTo>
                <a:cubicBezTo>
                  <a:pt x="623" y="187"/>
                  <a:pt x="623" y="187"/>
                  <a:pt x="623" y="187"/>
                </a:cubicBezTo>
                <a:cubicBezTo>
                  <a:pt x="622" y="187"/>
                  <a:pt x="621" y="187"/>
                  <a:pt x="620" y="187"/>
                </a:cubicBezTo>
                <a:cubicBezTo>
                  <a:pt x="619" y="187"/>
                  <a:pt x="618" y="187"/>
                  <a:pt x="617" y="187"/>
                </a:cubicBezTo>
                <a:cubicBezTo>
                  <a:pt x="617" y="187"/>
                  <a:pt x="617" y="187"/>
                  <a:pt x="617" y="187"/>
                </a:cubicBezTo>
                <a:cubicBezTo>
                  <a:pt x="615" y="187"/>
                  <a:pt x="612" y="188"/>
                  <a:pt x="610" y="188"/>
                </a:cubicBezTo>
                <a:cubicBezTo>
                  <a:pt x="610" y="188"/>
                  <a:pt x="609" y="188"/>
                  <a:pt x="608" y="188"/>
                </a:cubicBezTo>
                <a:cubicBezTo>
                  <a:pt x="608" y="188"/>
                  <a:pt x="607" y="188"/>
                  <a:pt x="606" y="188"/>
                </a:cubicBezTo>
                <a:cubicBezTo>
                  <a:pt x="606" y="188"/>
                  <a:pt x="605" y="188"/>
                  <a:pt x="605" y="188"/>
                </a:cubicBezTo>
                <a:cubicBezTo>
                  <a:pt x="604" y="188"/>
                  <a:pt x="603" y="188"/>
                  <a:pt x="602" y="188"/>
                </a:cubicBezTo>
                <a:cubicBezTo>
                  <a:pt x="602" y="188"/>
                  <a:pt x="601" y="188"/>
                  <a:pt x="600" y="188"/>
                </a:cubicBezTo>
                <a:cubicBezTo>
                  <a:pt x="600" y="188"/>
                  <a:pt x="599" y="188"/>
                  <a:pt x="598" y="188"/>
                </a:cubicBezTo>
                <a:cubicBezTo>
                  <a:pt x="598" y="188"/>
                  <a:pt x="597" y="188"/>
                  <a:pt x="596" y="188"/>
                </a:cubicBezTo>
                <a:cubicBezTo>
                  <a:pt x="595" y="188"/>
                  <a:pt x="594" y="188"/>
                  <a:pt x="593" y="188"/>
                </a:cubicBezTo>
                <a:cubicBezTo>
                  <a:pt x="592" y="188"/>
                  <a:pt x="592" y="188"/>
                  <a:pt x="591" y="188"/>
                </a:cubicBezTo>
                <a:cubicBezTo>
                  <a:pt x="589" y="188"/>
                  <a:pt x="588" y="188"/>
                  <a:pt x="586" y="188"/>
                </a:cubicBezTo>
                <a:cubicBezTo>
                  <a:pt x="585" y="188"/>
                  <a:pt x="585" y="188"/>
                  <a:pt x="584" y="188"/>
                </a:cubicBezTo>
                <a:cubicBezTo>
                  <a:pt x="583" y="188"/>
                  <a:pt x="583" y="188"/>
                  <a:pt x="582" y="188"/>
                </a:cubicBezTo>
                <a:cubicBezTo>
                  <a:pt x="581" y="188"/>
                  <a:pt x="580" y="188"/>
                  <a:pt x="580" y="188"/>
                </a:cubicBezTo>
                <a:cubicBezTo>
                  <a:pt x="579" y="188"/>
                  <a:pt x="578" y="188"/>
                  <a:pt x="577" y="188"/>
                </a:cubicBezTo>
                <a:cubicBezTo>
                  <a:pt x="560" y="188"/>
                  <a:pt x="536" y="189"/>
                  <a:pt x="508" y="189"/>
                </a:cubicBezTo>
                <a:cubicBezTo>
                  <a:pt x="481" y="189"/>
                  <a:pt x="451" y="190"/>
                  <a:pt x="422" y="190"/>
                </a:cubicBezTo>
                <a:cubicBezTo>
                  <a:pt x="394" y="190"/>
                  <a:pt x="367" y="191"/>
                  <a:pt x="347" y="191"/>
                </a:cubicBezTo>
                <a:cubicBezTo>
                  <a:pt x="327" y="191"/>
                  <a:pt x="313" y="191"/>
                  <a:pt x="310" y="191"/>
                </a:cubicBezTo>
                <a:cubicBezTo>
                  <a:pt x="186" y="191"/>
                  <a:pt x="186" y="191"/>
                  <a:pt x="186" y="191"/>
                </a:cubicBezTo>
                <a:cubicBezTo>
                  <a:pt x="176" y="59"/>
                  <a:pt x="176" y="59"/>
                  <a:pt x="176" y="59"/>
                </a:cubicBezTo>
                <a:cubicBezTo>
                  <a:pt x="176" y="59"/>
                  <a:pt x="176" y="59"/>
                  <a:pt x="176" y="59"/>
                </a:cubicBezTo>
                <a:cubicBezTo>
                  <a:pt x="176" y="58"/>
                  <a:pt x="176" y="58"/>
                  <a:pt x="176" y="58"/>
                </a:cubicBezTo>
                <a:cubicBezTo>
                  <a:pt x="176" y="58"/>
                  <a:pt x="176" y="58"/>
                  <a:pt x="176" y="58"/>
                </a:cubicBezTo>
                <a:cubicBezTo>
                  <a:pt x="176" y="58"/>
                  <a:pt x="176" y="58"/>
                  <a:pt x="176" y="58"/>
                </a:cubicBezTo>
                <a:cubicBezTo>
                  <a:pt x="175" y="55"/>
                  <a:pt x="173" y="51"/>
                  <a:pt x="172" y="46"/>
                </a:cubicBezTo>
                <a:cubicBezTo>
                  <a:pt x="170" y="41"/>
                  <a:pt x="169" y="35"/>
                  <a:pt x="168" y="30"/>
                </a:cubicBezTo>
                <a:cubicBezTo>
                  <a:pt x="166" y="25"/>
                  <a:pt x="165" y="20"/>
                  <a:pt x="164" y="17"/>
                </a:cubicBezTo>
                <a:cubicBezTo>
                  <a:pt x="163" y="13"/>
                  <a:pt x="163" y="11"/>
                  <a:pt x="163" y="10"/>
                </a:cubicBezTo>
                <a:cubicBezTo>
                  <a:pt x="163" y="10"/>
                  <a:pt x="163" y="10"/>
                  <a:pt x="163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6" y="53"/>
                  <a:pt x="169" y="97"/>
                  <a:pt x="173" y="140"/>
                </a:cubicBezTo>
                <a:cubicBezTo>
                  <a:pt x="173" y="140"/>
                  <a:pt x="173" y="140"/>
                  <a:pt x="173" y="140"/>
                </a:cubicBezTo>
                <a:cubicBezTo>
                  <a:pt x="173" y="141"/>
                  <a:pt x="173" y="141"/>
                  <a:pt x="173" y="141"/>
                </a:cubicBezTo>
                <a:cubicBezTo>
                  <a:pt x="173" y="141"/>
                  <a:pt x="173" y="141"/>
                  <a:pt x="173" y="141"/>
                </a:cubicBezTo>
                <a:cubicBezTo>
                  <a:pt x="173" y="141"/>
                  <a:pt x="173" y="141"/>
                  <a:pt x="173" y="141"/>
                </a:cubicBezTo>
                <a:cubicBezTo>
                  <a:pt x="173" y="141"/>
                  <a:pt x="173" y="144"/>
                  <a:pt x="174" y="148"/>
                </a:cubicBezTo>
                <a:cubicBezTo>
                  <a:pt x="175" y="152"/>
                  <a:pt x="176" y="157"/>
                  <a:pt x="178" y="162"/>
                </a:cubicBezTo>
                <a:cubicBezTo>
                  <a:pt x="179" y="168"/>
                  <a:pt x="181" y="174"/>
                  <a:pt x="182" y="179"/>
                </a:cubicBezTo>
                <a:cubicBezTo>
                  <a:pt x="183" y="184"/>
                  <a:pt x="185" y="188"/>
                  <a:pt x="186" y="191"/>
                </a:cubicBezTo>
                <a:cubicBezTo>
                  <a:pt x="172" y="191"/>
                  <a:pt x="172" y="191"/>
                  <a:pt x="172" y="191"/>
                </a:cubicBezTo>
                <a:cubicBezTo>
                  <a:pt x="170" y="168"/>
                  <a:pt x="168" y="145"/>
                  <a:pt x="166" y="122"/>
                </a:cubicBezTo>
                <a:cubicBezTo>
                  <a:pt x="166" y="121"/>
                  <a:pt x="166" y="121"/>
                  <a:pt x="166" y="121"/>
                </a:cubicBezTo>
                <a:cubicBezTo>
                  <a:pt x="166" y="120"/>
                  <a:pt x="166" y="120"/>
                  <a:pt x="166" y="120"/>
                </a:cubicBezTo>
                <a:cubicBezTo>
                  <a:pt x="165" y="119"/>
                  <a:pt x="165" y="119"/>
                  <a:pt x="165" y="119"/>
                </a:cubicBezTo>
                <a:cubicBezTo>
                  <a:pt x="164" y="119"/>
                  <a:pt x="164" y="119"/>
                  <a:pt x="164" y="119"/>
                </a:cubicBezTo>
                <a:cubicBezTo>
                  <a:pt x="163" y="118"/>
                  <a:pt x="162" y="118"/>
                  <a:pt x="161" y="117"/>
                </a:cubicBezTo>
                <a:cubicBezTo>
                  <a:pt x="161" y="117"/>
                  <a:pt x="161" y="117"/>
                  <a:pt x="161" y="117"/>
                </a:cubicBezTo>
                <a:cubicBezTo>
                  <a:pt x="160" y="117"/>
                  <a:pt x="159" y="116"/>
                  <a:pt x="158" y="116"/>
                </a:cubicBezTo>
                <a:cubicBezTo>
                  <a:pt x="157" y="115"/>
                  <a:pt x="157" y="115"/>
                  <a:pt x="157" y="115"/>
                </a:cubicBezTo>
                <a:cubicBezTo>
                  <a:pt x="157" y="115"/>
                  <a:pt x="156" y="115"/>
                  <a:pt x="156" y="114"/>
                </a:cubicBezTo>
                <a:cubicBezTo>
                  <a:pt x="155" y="114"/>
                  <a:pt x="155" y="114"/>
                  <a:pt x="155" y="114"/>
                </a:cubicBezTo>
                <a:cubicBezTo>
                  <a:pt x="155" y="114"/>
                  <a:pt x="155" y="114"/>
                  <a:pt x="154" y="114"/>
                </a:cubicBezTo>
                <a:cubicBezTo>
                  <a:pt x="154" y="114"/>
                  <a:pt x="153" y="113"/>
                  <a:pt x="153" y="113"/>
                </a:cubicBezTo>
                <a:cubicBezTo>
                  <a:pt x="152" y="113"/>
                  <a:pt x="152" y="113"/>
                  <a:pt x="152" y="113"/>
                </a:cubicBezTo>
                <a:cubicBezTo>
                  <a:pt x="152" y="113"/>
                  <a:pt x="152" y="113"/>
                  <a:pt x="152" y="113"/>
                </a:cubicBezTo>
                <a:cubicBezTo>
                  <a:pt x="152" y="113"/>
                  <a:pt x="152" y="113"/>
                  <a:pt x="152" y="113"/>
                </a:cubicBezTo>
                <a:cubicBezTo>
                  <a:pt x="151" y="113"/>
                  <a:pt x="151" y="113"/>
                  <a:pt x="151" y="113"/>
                </a:cubicBezTo>
                <a:cubicBezTo>
                  <a:pt x="151" y="113"/>
                  <a:pt x="151" y="113"/>
                  <a:pt x="151" y="113"/>
                </a:cubicBezTo>
                <a:cubicBezTo>
                  <a:pt x="150" y="112"/>
                  <a:pt x="150" y="112"/>
                  <a:pt x="150" y="112"/>
                </a:cubicBezTo>
                <a:cubicBezTo>
                  <a:pt x="150" y="112"/>
                  <a:pt x="150" y="112"/>
                  <a:pt x="150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8" y="112"/>
                  <a:pt x="148" y="112"/>
                  <a:pt x="148" y="112"/>
                </a:cubicBezTo>
                <a:cubicBezTo>
                  <a:pt x="148" y="112"/>
                  <a:pt x="148" y="112"/>
                  <a:pt x="148" y="112"/>
                </a:cubicBezTo>
                <a:cubicBezTo>
                  <a:pt x="147" y="112"/>
                  <a:pt x="147" y="112"/>
                  <a:pt x="147" y="112"/>
                </a:cubicBezTo>
                <a:cubicBezTo>
                  <a:pt x="147" y="112"/>
                  <a:pt x="147" y="112"/>
                  <a:pt x="147" y="112"/>
                </a:cubicBezTo>
                <a:cubicBezTo>
                  <a:pt x="147" y="112"/>
                  <a:pt x="147" y="112"/>
                  <a:pt x="147" y="112"/>
                </a:cubicBezTo>
                <a:cubicBezTo>
                  <a:pt x="147" y="112"/>
                  <a:pt x="147" y="112"/>
                  <a:pt x="147" y="112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1" y="111"/>
                  <a:pt x="141" y="111"/>
                  <a:pt x="141" y="111"/>
                </a:cubicBezTo>
                <a:cubicBezTo>
                  <a:pt x="141" y="111"/>
                  <a:pt x="141" y="111"/>
                  <a:pt x="141" y="111"/>
                </a:cubicBezTo>
                <a:cubicBezTo>
                  <a:pt x="140" y="111"/>
                  <a:pt x="140" y="111"/>
                  <a:pt x="140" y="111"/>
                </a:cubicBezTo>
                <a:cubicBezTo>
                  <a:pt x="140" y="111"/>
                  <a:pt x="140" y="111"/>
                  <a:pt x="140" y="111"/>
                </a:cubicBezTo>
                <a:cubicBezTo>
                  <a:pt x="140" y="111"/>
                  <a:pt x="140" y="111"/>
                  <a:pt x="140" y="111"/>
                </a:cubicBezTo>
                <a:cubicBezTo>
                  <a:pt x="139" y="111"/>
                  <a:pt x="139" y="111"/>
                  <a:pt x="139" y="111"/>
                </a:cubicBezTo>
                <a:cubicBezTo>
                  <a:pt x="139" y="111"/>
                  <a:pt x="139" y="111"/>
                  <a:pt x="139" y="111"/>
                </a:cubicBezTo>
                <a:cubicBezTo>
                  <a:pt x="138" y="111"/>
                  <a:pt x="138" y="111"/>
                  <a:pt x="138" y="111"/>
                </a:cubicBezTo>
                <a:cubicBezTo>
                  <a:pt x="138" y="111"/>
                  <a:pt x="138" y="111"/>
                  <a:pt x="138" y="111"/>
                </a:cubicBezTo>
                <a:cubicBezTo>
                  <a:pt x="137" y="111"/>
                  <a:pt x="137" y="111"/>
                  <a:pt x="137" y="111"/>
                </a:cubicBezTo>
                <a:cubicBezTo>
                  <a:pt x="137" y="111"/>
                  <a:pt x="137" y="111"/>
                  <a:pt x="137" y="111"/>
                </a:cubicBezTo>
                <a:cubicBezTo>
                  <a:pt x="137" y="110"/>
                  <a:pt x="137" y="110"/>
                  <a:pt x="137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5" y="110"/>
                  <a:pt x="135" y="110"/>
                  <a:pt x="135" y="110"/>
                </a:cubicBezTo>
                <a:cubicBezTo>
                  <a:pt x="135" y="110"/>
                  <a:pt x="135" y="110"/>
                  <a:pt x="135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1" y="111"/>
                  <a:pt x="131" y="111"/>
                  <a:pt x="131" y="111"/>
                </a:cubicBezTo>
                <a:cubicBezTo>
                  <a:pt x="131" y="111"/>
                  <a:pt x="131" y="111"/>
                  <a:pt x="131" y="111"/>
                </a:cubicBezTo>
                <a:cubicBezTo>
                  <a:pt x="130" y="111"/>
                  <a:pt x="130" y="111"/>
                  <a:pt x="130" y="111"/>
                </a:cubicBezTo>
                <a:cubicBezTo>
                  <a:pt x="130" y="111"/>
                  <a:pt x="130" y="111"/>
                  <a:pt x="130" y="111"/>
                </a:cubicBezTo>
                <a:cubicBezTo>
                  <a:pt x="130" y="111"/>
                  <a:pt x="130" y="111"/>
                  <a:pt x="130" y="111"/>
                </a:cubicBezTo>
                <a:cubicBezTo>
                  <a:pt x="129" y="111"/>
                  <a:pt x="129" y="111"/>
                  <a:pt x="129" y="111"/>
                </a:cubicBezTo>
                <a:cubicBezTo>
                  <a:pt x="128" y="111"/>
                  <a:pt x="128" y="111"/>
                  <a:pt x="128" y="111"/>
                </a:cubicBezTo>
                <a:cubicBezTo>
                  <a:pt x="127" y="111"/>
                  <a:pt x="127" y="111"/>
                  <a:pt x="127" y="111"/>
                </a:cubicBezTo>
                <a:cubicBezTo>
                  <a:pt x="127" y="111"/>
                  <a:pt x="127" y="111"/>
                  <a:pt x="127" y="111"/>
                </a:cubicBezTo>
                <a:cubicBezTo>
                  <a:pt x="127" y="111"/>
                  <a:pt x="127" y="111"/>
                  <a:pt x="127" y="111"/>
                </a:cubicBezTo>
                <a:cubicBezTo>
                  <a:pt x="127" y="111"/>
                  <a:pt x="127" y="111"/>
                  <a:pt x="127" y="111"/>
                </a:cubicBezTo>
                <a:cubicBezTo>
                  <a:pt x="126" y="111"/>
                  <a:pt x="126" y="111"/>
                  <a:pt x="126" y="111"/>
                </a:cubicBezTo>
                <a:cubicBezTo>
                  <a:pt x="125" y="111"/>
                  <a:pt x="125" y="111"/>
                  <a:pt x="125" y="111"/>
                </a:cubicBezTo>
                <a:cubicBezTo>
                  <a:pt x="125" y="111"/>
                  <a:pt x="125" y="111"/>
                  <a:pt x="124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2" y="111"/>
                  <a:pt x="122" y="111"/>
                  <a:pt x="121" y="111"/>
                </a:cubicBezTo>
                <a:cubicBezTo>
                  <a:pt x="121" y="111"/>
                  <a:pt x="121" y="111"/>
                  <a:pt x="120" y="111"/>
                </a:cubicBezTo>
                <a:cubicBezTo>
                  <a:pt x="120" y="111"/>
                  <a:pt x="120" y="111"/>
                  <a:pt x="120" y="111"/>
                </a:cubicBezTo>
                <a:cubicBezTo>
                  <a:pt x="119" y="111"/>
                  <a:pt x="119" y="111"/>
                  <a:pt x="119" y="111"/>
                </a:cubicBezTo>
                <a:cubicBezTo>
                  <a:pt x="119" y="111"/>
                  <a:pt x="119" y="111"/>
                  <a:pt x="119" y="111"/>
                </a:cubicBezTo>
                <a:cubicBezTo>
                  <a:pt x="118" y="111"/>
                  <a:pt x="118" y="111"/>
                  <a:pt x="117" y="112"/>
                </a:cubicBezTo>
                <a:cubicBezTo>
                  <a:pt x="117" y="112"/>
                  <a:pt x="116" y="112"/>
                  <a:pt x="115" y="112"/>
                </a:cubicBezTo>
                <a:cubicBezTo>
                  <a:pt x="115" y="112"/>
                  <a:pt x="115" y="112"/>
                  <a:pt x="115" y="112"/>
                </a:cubicBezTo>
                <a:cubicBezTo>
                  <a:pt x="115" y="112"/>
                  <a:pt x="115" y="112"/>
                  <a:pt x="115" y="112"/>
                </a:cubicBezTo>
                <a:cubicBezTo>
                  <a:pt x="114" y="112"/>
                  <a:pt x="113" y="112"/>
                  <a:pt x="112" y="112"/>
                </a:cubicBezTo>
                <a:cubicBezTo>
                  <a:pt x="111" y="112"/>
                  <a:pt x="111" y="112"/>
                  <a:pt x="111" y="112"/>
                </a:cubicBezTo>
                <a:cubicBezTo>
                  <a:pt x="110" y="112"/>
                  <a:pt x="110" y="112"/>
                  <a:pt x="110" y="112"/>
                </a:cubicBezTo>
                <a:cubicBezTo>
                  <a:pt x="110" y="112"/>
                  <a:pt x="110" y="112"/>
                  <a:pt x="110" y="112"/>
                </a:cubicBezTo>
                <a:cubicBezTo>
                  <a:pt x="110" y="112"/>
                  <a:pt x="109" y="113"/>
                  <a:pt x="108" y="113"/>
                </a:cubicBezTo>
                <a:cubicBezTo>
                  <a:pt x="108" y="113"/>
                  <a:pt x="107" y="113"/>
                  <a:pt x="107" y="113"/>
                </a:cubicBezTo>
                <a:cubicBezTo>
                  <a:pt x="106" y="113"/>
                  <a:pt x="106" y="113"/>
                  <a:pt x="106" y="113"/>
                </a:cubicBezTo>
                <a:cubicBezTo>
                  <a:pt x="105" y="113"/>
                  <a:pt x="105" y="113"/>
                  <a:pt x="105" y="113"/>
                </a:cubicBezTo>
                <a:cubicBezTo>
                  <a:pt x="105" y="113"/>
                  <a:pt x="105" y="113"/>
                  <a:pt x="105" y="113"/>
                </a:cubicBezTo>
                <a:cubicBezTo>
                  <a:pt x="104" y="113"/>
                  <a:pt x="103" y="113"/>
                  <a:pt x="102" y="113"/>
                </a:cubicBezTo>
                <a:cubicBezTo>
                  <a:pt x="102" y="114"/>
                  <a:pt x="101" y="114"/>
                  <a:pt x="100" y="114"/>
                </a:cubicBezTo>
                <a:cubicBezTo>
                  <a:pt x="97" y="114"/>
                  <a:pt x="94" y="115"/>
                  <a:pt x="91" y="115"/>
                </a:cubicBezTo>
                <a:cubicBezTo>
                  <a:pt x="90" y="115"/>
                  <a:pt x="90" y="115"/>
                  <a:pt x="90" y="115"/>
                </a:cubicBezTo>
                <a:cubicBezTo>
                  <a:pt x="87" y="116"/>
                  <a:pt x="84" y="116"/>
                  <a:pt x="81" y="116"/>
                </a:cubicBezTo>
                <a:cubicBezTo>
                  <a:pt x="81" y="116"/>
                  <a:pt x="81" y="116"/>
                  <a:pt x="81" y="116"/>
                </a:cubicBezTo>
                <a:cubicBezTo>
                  <a:pt x="78" y="116"/>
                  <a:pt x="75" y="117"/>
                  <a:pt x="72" y="117"/>
                </a:cubicBezTo>
                <a:cubicBezTo>
                  <a:pt x="72" y="117"/>
                  <a:pt x="72" y="117"/>
                  <a:pt x="72" y="117"/>
                </a:cubicBezTo>
                <a:cubicBezTo>
                  <a:pt x="69" y="117"/>
                  <a:pt x="66" y="117"/>
                  <a:pt x="63" y="117"/>
                </a:cubicBezTo>
                <a:cubicBezTo>
                  <a:pt x="59" y="117"/>
                  <a:pt x="55" y="117"/>
                  <a:pt x="52" y="117"/>
                </a:cubicBezTo>
                <a:cubicBezTo>
                  <a:pt x="52" y="117"/>
                  <a:pt x="52" y="117"/>
                  <a:pt x="52" y="117"/>
                </a:cubicBezTo>
                <a:cubicBezTo>
                  <a:pt x="50" y="117"/>
                  <a:pt x="48" y="117"/>
                  <a:pt x="46" y="117"/>
                </a:cubicBezTo>
                <a:cubicBezTo>
                  <a:pt x="46" y="117"/>
                  <a:pt x="46" y="117"/>
                  <a:pt x="46" y="117"/>
                </a:cubicBezTo>
                <a:cubicBezTo>
                  <a:pt x="45" y="117"/>
                  <a:pt x="43" y="116"/>
                  <a:pt x="41" y="116"/>
                </a:cubicBezTo>
                <a:cubicBezTo>
                  <a:pt x="37" y="116"/>
                  <a:pt x="32" y="115"/>
                  <a:pt x="28" y="114"/>
                </a:cubicBezTo>
                <a:cubicBezTo>
                  <a:pt x="28" y="114"/>
                  <a:pt x="28" y="114"/>
                  <a:pt x="28" y="114"/>
                </a:cubicBezTo>
                <a:cubicBezTo>
                  <a:pt x="26" y="114"/>
                  <a:pt x="25" y="114"/>
                  <a:pt x="24" y="114"/>
                </a:cubicBezTo>
                <a:cubicBezTo>
                  <a:pt x="24" y="114"/>
                  <a:pt x="24" y="114"/>
                  <a:pt x="24" y="114"/>
                </a:cubicBezTo>
                <a:cubicBezTo>
                  <a:pt x="22" y="113"/>
                  <a:pt x="21" y="113"/>
                  <a:pt x="20" y="113"/>
                </a:cubicBezTo>
                <a:cubicBezTo>
                  <a:pt x="20" y="113"/>
                  <a:pt x="20" y="113"/>
                  <a:pt x="20" y="113"/>
                </a:cubicBezTo>
                <a:cubicBezTo>
                  <a:pt x="19" y="112"/>
                  <a:pt x="18" y="112"/>
                  <a:pt x="17" y="112"/>
                </a:cubicBezTo>
                <a:cubicBezTo>
                  <a:pt x="17" y="112"/>
                  <a:pt x="17" y="112"/>
                  <a:pt x="17" y="112"/>
                </a:cubicBezTo>
                <a:cubicBezTo>
                  <a:pt x="16" y="111"/>
                  <a:pt x="15" y="111"/>
                  <a:pt x="14" y="111"/>
                </a:cubicBezTo>
                <a:cubicBezTo>
                  <a:pt x="14" y="111"/>
                  <a:pt x="14" y="111"/>
                  <a:pt x="14" y="111"/>
                </a:cubicBezTo>
                <a:cubicBezTo>
                  <a:pt x="13" y="110"/>
                  <a:pt x="13" y="110"/>
                  <a:pt x="13" y="110"/>
                </a:cubicBezTo>
                <a:cubicBezTo>
                  <a:pt x="12" y="110"/>
                  <a:pt x="11" y="110"/>
                  <a:pt x="10" y="109"/>
                </a:cubicBezTo>
                <a:cubicBezTo>
                  <a:pt x="10" y="109"/>
                  <a:pt x="10" y="109"/>
                  <a:pt x="10" y="109"/>
                </a:cubicBezTo>
                <a:cubicBezTo>
                  <a:pt x="9" y="109"/>
                  <a:pt x="8" y="108"/>
                  <a:pt x="8" y="108"/>
                </a:cubicBezTo>
                <a:cubicBezTo>
                  <a:pt x="7" y="108"/>
                  <a:pt x="7" y="108"/>
                  <a:pt x="7" y="108"/>
                </a:cubicBezTo>
                <a:cubicBezTo>
                  <a:pt x="7" y="107"/>
                  <a:pt x="6" y="107"/>
                  <a:pt x="6" y="107"/>
                </a:cubicBezTo>
                <a:cubicBezTo>
                  <a:pt x="5" y="106"/>
                  <a:pt x="5" y="106"/>
                  <a:pt x="5" y="106"/>
                </a:cubicBezTo>
                <a:cubicBezTo>
                  <a:pt x="4" y="106"/>
                  <a:pt x="4" y="105"/>
                  <a:pt x="3" y="105"/>
                </a:cubicBezTo>
                <a:cubicBezTo>
                  <a:pt x="3" y="104"/>
                  <a:pt x="2" y="104"/>
                  <a:pt x="2" y="103"/>
                </a:cubicBezTo>
                <a:cubicBezTo>
                  <a:pt x="2" y="102"/>
                  <a:pt x="1" y="102"/>
                  <a:pt x="1" y="101"/>
                </a:cubicBezTo>
                <a:cubicBezTo>
                  <a:pt x="1" y="100"/>
                  <a:pt x="0" y="100"/>
                  <a:pt x="0" y="99"/>
                </a:cubicBezTo>
                <a:cubicBezTo>
                  <a:pt x="0" y="98"/>
                  <a:pt x="0" y="98"/>
                  <a:pt x="0" y="97"/>
                </a:cubicBezTo>
                <a:cubicBezTo>
                  <a:pt x="4" y="143"/>
                  <a:pt x="8" y="188"/>
                  <a:pt x="13" y="234"/>
                </a:cubicBezTo>
                <a:cubicBezTo>
                  <a:pt x="13" y="235"/>
                  <a:pt x="13" y="236"/>
                  <a:pt x="13" y="236"/>
                </a:cubicBezTo>
                <a:cubicBezTo>
                  <a:pt x="13" y="237"/>
                  <a:pt x="13" y="238"/>
                  <a:pt x="14" y="239"/>
                </a:cubicBezTo>
                <a:cubicBezTo>
                  <a:pt x="14" y="239"/>
                  <a:pt x="14" y="240"/>
                  <a:pt x="15" y="241"/>
                </a:cubicBezTo>
                <a:cubicBezTo>
                  <a:pt x="15" y="241"/>
                  <a:pt x="16" y="242"/>
                  <a:pt x="16" y="243"/>
                </a:cubicBezTo>
                <a:cubicBezTo>
                  <a:pt x="17" y="243"/>
                  <a:pt x="17" y="244"/>
                  <a:pt x="18" y="244"/>
                </a:cubicBezTo>
                <a:cubicBezTo>
                  <a:pt x="18" y="244"/>
                  <a:pt x="18" y="244"/>
                  <a:pt x="18" y="244"/>
                </a:cubicBezTo>
                <a:cubicBezTo>
                  <a:pt x="18" y="245"/>
                  <a:pt x="18" y="245"/>
                  <a:pt x="18" y="245"/>
                </a:cubicBezTo>
                <a:cubicBezTo>
                  <a:pt x="19" y="245"/>
                  <a:pt x="19" y="245"/>
                  <a:pt x="20" y="246"/>
                </a:cubicBezTo>
                <a:cubicBezTo>
                  <a:pt x="20" y="246"/>
                  <a:pt x="20" y="246"/>
                  <a:pt x="20" y="246"/>
                </a:cubicBezTo>
                <a:cubicBezTo>
                  <a:pt x="21" y="246"/>
                  <a:pt x="21" y="246"/>
                  <a:pt x="21" y="246"/>
                </a:cubicBezTo>
                <a:cubicBezTo>
                  <a:pt x="21" y="247"/>
                  <a:pt x="22" y="247"/>
                  <a:pt x="22" y="247"/>
                </a:cubicBezTo>
                <a:cubicBezTo>
                  <a:pt x="23" y="248"/>
                  <a:pt x="23" y="248"/>
                  <a:pt x="23" y="248"/>
                </a:cubicBezTo>
                <a:cubicBezTo>
                  <a:pt x="23" y="248"/>
                  <a:pt x="23" y="248"/>
                  <a:pt x="23" y="248"/>
                </a:cubicBezTo>
                <a:cubicBezTo>
                  <a:pt x="24" y="248"/>
                  <a:pt x="24" y="248"/>
                  <a:pt x="24" y="248"/>
                </a:cubicBezTo>
                <a:cubicBezTo>
                  <a:pt x="24" y="248"/>
                  <a:pt x="25" y="249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7" y="249"/>
                  <a:pt x="27" y="249"/>
                  <a:pt x="27" y="249"/>
                </a:cubicBezTo>
                <a:cubicBezTo>
                  <a:pt x="27" y="250"/>
                  <a:pt x="27" y="250"/>
                  <a:pt x="27" y="250"/>
                </a:cubicBezTo>
                <a:cubicBezTo>
                  <a:pt x="28" y="250"/>
                  <a:pt x="28" y="250"/>
                  <a:pt x="28" y="250"/>
                </a:cubicBezTo>
                <a:cubicBezTo>
                  <a:pt x="29" y="250"/>
                  <a:pt x="29" y="250"/>
                  <a:pt x="29" y="250"/>
                </a:cubicBezTo>
                <a:cubicBezTo>
                  <a:pt x="29" y="250"/>
                  <a:pt x="29" y="250"/>
                  <a:pt x="29" y="250"/>
                </a:cubicBezTo>
                <a:cubicBezTo>
                  <a:pt x="30" y="250"/>
                  <a:pt x="30" y="250"/>
                  <a:pt x="30" y="250"/>
                </a:cubicBezTo>
                <a:cubicBezTo>
                  <a:pt x="30" y="251"/>
                  <a:pt x="31" y="251"/>
                  <a:pt x="31" y="251"/>
                </a:cubicBezTo>
                <a:cubicBezTo>
                  <a:pt x="31" y="251"/>
                  <a:pt x="32" y="251"/>
                  <a:pt x="32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3" y="252"/>
                  <a:pt x="33" y="252"/>
                  <a:pt x="33" y="252"/>
                </a:cubicBezTo>
                <a:cubicBezTo>
                  <a:pt x="34" y="252"/>
                  <a:pt x="34" y="252"/>
                  <a:pt x="35" y="252"/>
                </a:cubicBezTo>
                <a:cubicBezTo>
                  <a:pt x="35" y="252"/>
                  <a:pt x="35" y="252"/>
                  <a:pt x="36" y="252"/>
                </a:cubicBezTo>
                <a:cubicBezTo>
                  <a:pt x="36" y="252"/>
                  <a:pt x="36" y="252"/>
                  <a:pt x="37" y="252"/>
                </a:cubicBezTo>
                <a:cubicBezTo>
                  <a:pt x="37" y="252"/>
                  <a:pt x="38" y="253"/>
                  <a:pt x="38" y="253"/>
                </a:cubicBezTo>
                <a:cubicBezTo>
                  <a:pt x="38" y="253"/>
                  <a:pt x="39" y="253"/>
                  <a:pt x="39" y="253"/>
                </a:cubicBezTo>
                <a:cubicBezTo>
                  <a:pt x="39" y="253"/>
                  <a:pt x="40" y="253"/>
                  <a:pt x="40" y="253"/>
                </a:cubicBezTo>
                <a:cubicBezTo>
                  <a:pt x="41" y="253"/>
                  <a:pt x="41" y="253"/>
                  <a:pt x="41" y="253"/>
                </a:cubicBezTo>
                <a:cubicBezTo>
                  <a:pt x="42" y="253"/>
                  <a:pt x="42" y="254"/>
                  <a:pt x="42" y="254"/>
                </a:cubicBezTo>
                <a:cubicBezTo>
                  <a:pt x="43" y="254"/>
                  <a:pt x="43" y="254"/>
                  <a:pt x="44" y="254"/>
                </a:cubicBezTo>
                <a:cubicBezTo>
                  <a:pt x="44" y="254"/>
                  <a:pt x="44" y="254"/>
                  <a:pt x="44" y="254"/>
                </a:cubicBezTo>
                <a:cubicBezTo>
                  <a:pt x="45" y="254"/>
                  <a:pt x="45" y="254"/>
                  <a:pt x="45" y="254"/>
                </a:cubicBezTo>
                <a:cubicBezTo>
                  <a:pt x="46" y="254"/>
                  <a:pt x="46" y="254"/>
                  <a:pt x="46" y="254"/>
                </a:cubicBezTo>
                <a:cubicBezTo>
                  <a:pt x="46" y="254"/>
                  <a:pt x="46" y="254"/>
                  <a:pt x="47" y="254"/>
                </a:cubicBezTo>
                <a:cubicBezTo>
                  <a:pt x="47" y="254"/>
                  <a:pt x="48" y="254"/>
                  <a:pt x="48" y="254"/>
                </a:cubicBezTo>
                <a:cubicBezTo>
                  <a:pt x="49" y="255"/>
                  <a:pt x="49" y="255"/>
                  <a:pt x="49" y="255"/>
                </a:cubicBezTo>
                <a:cubicBezTo>
                  <a:pt x="49" y="255"/>
                  <a:pt x="49" y="255"/>
                  <a:pt x="49" y="255"/>
                </a:cubicBezTo>
                <a:cubicBezTo>
                  <a:pt x="50" y="255"/>
                  <a:pt x="50" y="255"/>
                  <a:pt x="50" y="255"/>
                </a:cubicBezTo>
                <a:cubicBezTo>
                  <a:pt x="50" y="255"/>
                  <a:pt x="51" y="255"/>
                  <a:pt x="51" y="255"/>
                </a:cubicBezTo>
                <a:cubicBezTo>
                  <a:pt x="52" y="255"/>
                  <a:pt x="52" y="255"/>
                  <a:pt x="52" y="255"/>
                </a:cubicBezTo>
                <a:cubicBezTo>
                  <a:pt x="53" y="255"/>
                  <a:pt x="53" y="255"/>
                  <a:pt x="53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5" y="255"/>
                  <a:pt x="55" y="255"/>
                  <a:pt x="55" y="255"/>
                </a:cubicBezTo>
                <a:cubicBezTo>
                  <a:pt x="55" y="255"/>
                  <a:pt x="55" y="255"/>
                  <a:pt x="56" y="255"/>
                </a:cubicBezTo>
                <a:cubicBezTo>
                  <a:pt x="56" y="255"/>
                  <a:pt x="56" y="255"/>
                  <a:pt x="57" y="255"/>
                </a:cubicBezTo>
                <a:cubicBezTo>
                  <a:pt x="57" y="255"/>
                  <a:pt x="58" y="255"/>
                  <a:pt x="58" y="256"/>
                </a:cubicBezTo>
                <a:cubicBezTo>
                  <a:pt x="58" y="256"/>
                  <a:pt x="58" y="256"/>
                  <a:pt x="58" y="256"/>
                </a:cubicBezTo>
                <a:cubicBezTo>
                  <a:pt x="58" y="256"/>
                  <a:pt x="58" y="256"/>
                  <a:pt x="58" y="256"/>
                </a:cubicBezTo>
                <a:cubicBezTo>
                  <a:pt x="58" y="256"/>
                  <a:pt x="59" y="256"/>
                  <a:pt x="59" y="256"/>
                </a:cubicBezTo>
                <a:cubicBezTo>
                  <a:pt x="59" y="256"/>
                  <a:pt x="60" y="256"/>
                  <a:pt x="60" y="256"/>
                </a:cubicBezTo>
                <a:cubicBezTo>
                  <a:pt x="61" y="256"/>
                  <a:pt x="61" y="256"/>
                  <a:pt x="61" y="256"/>
                </a:cubicBezTo>
                <a:cubicBezTo>
                  <a:pt x="62" y="256"/>
                  <a:pt x="62" y="256"/>
                  <a:pt x="63" y="256"/>
                </a:cubicBezTo>
                <a:cubicBezTo>
                  <a:pt x="63" y="256"/>
                  <a:pt x="63" y="256"/>
                  <a:pt x="64" y="256"/>
                </a:cubicBezTo>
                <a:cubicBezTo>
                  <a:pt x="64" y="256"/>
                  <a:pt x="65" y="256"/>
                  <a:pt x="65" y="256"/>
                </a:cubicBezTo>
                <a:cubicBezTo>
                  <a:pt x="65" y="256"/>
                  <a:pt x="66" y="256"/>
                  <a:pt x="66" y="256"/>
                </a:cubicBezTo>
                <a:cubicBezTo>
                  <a:pt x="66" y="256"/>
                  <a:pt x="67" y="256"/>
                  <a:pt x="67" y="256"/>
                </a:cubicBezTo>
                <a:cubicBezTo>
                  <a:pt x="68" y="256"/>
                  <a:pt x="68" y="256"/>
                  <a:pt x="69" y="256"/>
                </a:cubicBezTo>
                <a:cubicBezTo>
                  <a:pt x="69" y="256"/>
                  <a:pt x="69" y="256"/>
                  <a:pt x="69" y="256"/>
                </a:cubicBezTo>
                <a:cubicBezTo>
                  <a:pt x="69" y="256"/>
                  <a:pt x="69" y="256"/>
                  <a:pt x="69" y="256"/>
                </a:cubicBezTo>
                <a:cubicBezTo>
                  <a:pt x="70" y="256"/>
                  <a:pt x="70" y="256"/>
                  <a:pt x="70" y="256"/>
                </a:cubicBezTo>
                <a:cubicBezTo>
                  <a:pt x="70" y="256"/>
                  <a:pt x="71" y="256"/>
                  <a:pt x="71" y="256"/>
                </a:cubicBezTo>
                <a:cubicBezTo>
                  <a:pt x="71" y="256"/>
                  <a:pt x="72" y="256"/>
                  <a:pt x="72" y="256"/>
                </a:cubicBezTo>
                <a:cubicBezTo>
                  <a:pt x="73" y="256"/>
                  <a:pt x="73" y="256"/>
                  <a:pt x="73" y="256"/>
                </a:cubicBezTo>
                <a:cubicBezTo>
                  <a:pt x="74" y="256"/>
                  <a:pt x="74" y="256"/>
                  <a:pt x="74" y="256"/>
                </a:cubicBezTo>
                <a:cubicBezTo>
                  <a:pt x="74" y="256"/>
                  <a:pt x="74" y="256"/>
                  <a:pt x="74" y="256"/>
                </a:cubicBezTo>
                <a:cubicBezTo>
                  <a:pt x="75" y="256"/>
                  <a:pt x="75" y="256"/>
                  <a:pt x="75" y="256"/>
                </a:cubicBezTo>
                <a:cubicBezTo>
                  <a:pt x="76" y="256"/>
                  <a:pt x="76" y="256"/>
                  <a:pt x="76" y="256"/>
                </a:cubicBezTo>
                <a:cubicBezTo>
                  <a:pt x="76" y="256"/>
                  <a:pt x="76" y="256"/>
                  <a:pt x="76" y="256"/>
                </a:cubicBezTo>
                <a:cubicBezTo>
                  <a:pt x="77" y="256"/>
                  <a:pt x="77" y="256"/>
                  <a:pt x="77" y="256"/>
                </a:cubicBezTo>
                <a:cubicBezTo>
                  <a:pt x="77" y="256"/>
                  <a:pt x="77" y="256"/>
                  <a:pt x="77" y="256"/>
                </a:cubicBezTo>
                <a:cubicBezTo>
                  <a:pt x="78" y="256"/>
                  <a:pt x="78" y="256"/>
                  <a:pt x="79" y="256"/>
                </a:cubicBezTo>
                <a:cubicBezTo>
                  <a:pt x="79" y="256"/>
                  <a:pt x="80" y="256"/>
                  <a:pt x="80" y="256"/>
                </a:cubicBezTo>
                <a:cubicBezTo>
                  <a:pt x="80" y="256"/>
                  <a:pt x="81" y="256"/>
                  <a:pt x="81" y="256"/>
                </a:cubicBezTo>
                <a:cubicBezTo>
                  <a:pt x="82" y="256"/>
                  <a:pt x="82" y="256"/>
                  <a:pt x="83" y="256"/>
                </a:cubicBezTo>
                <a:cubicBezTo>
                  <a:pt x="84" y="256"/>
                  <a:pt x="84" y="256"/>
                  <a:pt x="84" y="256"/>
                </a:cubicBezTo>
                <a:cubicBezTo>
                  <a:pt x="84" y="256"/>
                  <a:pt x="84" y="256"/>
                  <a:pt x="84" y="256"/>
                </a:cubicBezTo>
                <a:cubicBezTo>
                  <a:pt x="84" y="256"/>
                  <a:pt x="84" y="256"/>
                  <a:pt x="84" y="256"/>
                </a:cubicBezTo>
                <a:cubicBezTo>
                  <a:pt x="84" y="256"/>
                  <a:pt x="84" y="256"/>
                  <a:pt x="84" y="256"/>
                </a:cubicBezTo>
                <a:cubicBezTo>
                  <a:pt x="85" y="256"/>
                  <a:pt x="85" y="256"/>
                  <a:pt x="86" y="256"/>
                </a:cubicBezTo>
                <a:cubicBezTo>
                  <a:pt x="86" y="256"/>
                  <a:pt x="87" y="256"/>
                  <a:pt x="87" y="256"/>
                </a:cubicBezTo>
                <a:cubicBezTo>
                  <a:pt x="88" y="256"/>
                  <a:pt x="88" y="256"/>
                  <a:pt x="89" y="255"/>
                </a:cubicBezTo>
                <a:cubicBezTo>
                  <a:pt x="89" y="255"/>
                  <a:pt x="90" y="255"/>
                  <a:pt x="91" y="255"/>
                </a:cubicBezTo>
                <a:cubicBezTo>
                  <a:pt x="91" y="255"/>
                  <a:pt x="92" y="255"/>
                  <a:pt x="92" y="255"/>
                </a:cubicBezTo>
                <a:cubicBezTo>
                  <a:pt x="93" y="255"/>
                  <a:pt x="94" y="255"/>
                  <a:pt x="94" y="255"/>
                </a:cubicBezTo>
                <a:cubicBezTo>
                  <a:pt x="95" y="255"/>
                  <a:pt x="95" y="255"/>
                  <a:pt x="96" y="255"/>
                </a:cubicBezTo>
                <a:cubicBezTo>
                  <a:pt x="97" y="255"/>
                  <a:pt x="98" y="255"/>
                  <a:pt x="99" y="255"/>
                </a:cubicBezTo>
                <a:cubicBezTo>
                  <a:pt x="100" y="254"/>
                  <a:pt x="100" y="254"/>
                  <a:pt x="101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3" y="254"/>
                  <a:pt x="103" y="254"/>
                  <a:pt x="103" y="254"/>
                </a:cubicBezTo>
                <a:cubicBezTo>
                  <a:pt x="103" y="254"/>
                  <a:pt x="104" y="254"/>
                  <a:pt x="104" y="254"/>
                </a:cubicBezTo>
                <a:cubicBezTo>
                  <a:pt x="105" y="254"/>
                  <a:pt x="106" y="254"/>
                  <a:pt x="107" y="253"/>
                </a:cubicBezTo>
                <a:cubicBezTo>
                  <a:pt x="107" y="253"/>
                  <a:pt x="108" y="253"/>
                  <a:pt x="108" y="253"/>
                </a:cubicBezTo>
                <a:cubicBezTo>
                  <a:pt x="109" y="253"/>
                  <a:pt x="109" y="253"/>
                  <a:pt x="109" y="253"/>
                </a:cubicBezTo>
                <a:cubicBezTo>
                  <a:pt x="110" y="253"/>
                  <a:pt x="110" y="253"/>
                  <a:pt x="111" y="253"/>
                </a:cubicBezTo>
                <a:cubicBezTo>
                  <a:pt x="111" y="253"/>
                  <a:pt x="112" y="253"/>
                  <a:pt x="112" y="253"/>
                </a:cubicBezTo>
                <a:cubicBezTo>
                  <a:pt x="114" y="252"/>
                  <a:pt x="115" y="252"/>
                  <a:pt x="117" y="252"/>
                </a:cubicBezTo>
                <a:cubicBezTo>
                  <a:pt x="117" y="252"/>
                  <a:pt x="117" y="252"/>
                  <a:pt x="117" y="252"/>
                </a:cubicBezTo>
                <a:cubicBezTo>
                  <a:pt x="119" y="252"/>
                  <a:pt x="120" y="251"/>
                  <a:pt x="122" y="251"/>
                </a:cubicBezTo>
                <a:cubicBezTo>
                  <a:pt x="122" y="251"/>
                  <a:pt x="122" y="251"/>
                  <a:pt x="122" y="251"/>
                </a:cubicBezTo>
                <a:cubicBezTo>
                  <a:pt x="124" y="251"/>
                  <a:pt x="125" y="251"/>
                  <a:pt x="126" y="251"/>
                </a:cubicBezTo>
                <a:cubicBezTo>
                  <a:pt x="133" y="337"/>
                  <a:pt x="133" y="337"/>
                  <a:pt x="133" y="337"/>
                </a:cubicBezTo>
                <a:cubicBezTo>
                  <a:pt x="320" y="337"/>
                  <a:pt x="320" y="337"/>
                  <a:pt x="320" y="337"/>
                </a:cubicBezTo>
                <a:cubicBezTo>
                  <a:pt x="322" y="337"/>
                  <a:pt x="336" y="337"/>
                  <a:pt x="356" y="337"/>
                </a:cubicBezTo>
                <a:cubicBezTo>
                  <a:pt x="376" y="336"/>
                  <a:pt x="402" y="336"/>
                  <a:pt x="430" y="336"/>
                </a:cubicBezTo>
                <a:cubicBezTo>
                  <a:pt x="458" y="335"/>
                  <a:pt x="488" y="335"/>
                  <a:pt x="515" y="335"/>
                </a:cubicBezTo>
                <a:cubicBezTo>
                  <a:pt x="542" y="335"/>
                  <a:pt x="566" y="335"/>
                  <a:pt x="583" y="334"/>
                </a:cubicBezTo>
                <a:cubicBezTo>
                  <a:pt x="584" y="334"/>
                  <a:pt x="585" y="334"/>
                  <a:pt x="585" y="334"/>
                </a:cubicBezTo>
                <a:cubicBezTo>
                  <a:pt x="586" y="334"/>
                  <a:pt x="587" y="334"/>
                  <a:pt x="588" y="334"/>
                </a:cubicBezTo>
                <a:cubicBezTo>
                  <a:pt x="588" y="334"/>
                  <a:pt x="589" y="334"/>
                  <a:pt x="590" y="334"/>
                </a:cubicBezTo>
                <a:cubicBezTo>
                  <a:pt x="591" y="334"/>
                  <a:pt x="591" y="334"/>
                  <a:pt x="592" y="334"/>
                </a:cubicBezTo>
                <a:cubicBezTo>
                  <a:pt x="593" y="334"/>
                  <a:pt x="594" y="334"/>
                  <a:pt x="594" y="334"/>
                </a:cubicBezTo>
                <a:cubicBezTo>
                  <a:pt x="595" y="334"/>
                  <a:pt x="596" y="334"/>
                  <a:pt x="597" y="334"/>
                </a:cubicBezTo>
                <a:cubicBezTo>
                  <a:pt x="597" y="334"/>
                  <a:pt x="597" y="334"/>
                  <a:pt x="597" y="334"/>
                </a:cubicBezTo>
                <a:cubicBezTo>
                  <a:pt x="598" y="334"/>
                  <a:pt x="598" y="334"/>
                  <a:pt x="599" y="334"/>
                </a:cubicBezTo>
                <a:cubicBezTo>
                  <a:pt x="600" y="334"/>
                  <a:pt x="600" y="334"/>
                  <a:pt x="601" y="334"/>
                </a:cubicBezTo>
                <a:cubicBezTo>
                  <a:pt x="602" y="334"/>
                  <a:pt x="602" y="334"/>
                  <a:pt x="602" y="334"/>
                </a:cubicBezTo>
                <a:cubicBezTo>
                  <a:pt x="602" y="334"/>
                  <a:pt x="603" y="334"/>
                  <a:pt x="603" y="334"/>
                </a:cubicBezTo>
                <a:cubicBezTo>
                  <a:pt x="604" y="334"/>
                  <a:pt x="604" y="334"/>
                  <a:pt x="605" y="334"/>
                </a:cubicBezTo>
                <a:cubicBezTo>
                  <a:pt x="606" y="334"/>
                  <a:pt x="606" y="334"/>
                  <a:pt x="606" y="334"/>
                </a:cubicBezTo>
                <a:cubicBezTo>
                  <a:pt x="607" y="334"/>
                  <a:pt x="607" y="334"/>
                  <a:pt x="607" y="334"/>
                </a:cubicBezTo>
                <a:cubicBezTo>
                  <a:pt x="608" y="334"/>
                  <a:pt x="608" y="334"/>
                  <a:pt x="609" y="334"/>
                </a:cubicBezTo>
                <a:cubicBezTo>
                  <a:pt x="610" y="334"/>
                  <a:pt x="610" y="334"/>
                  <a:pt x="611" y="334"/>
                </a:cubicBezTo>
                <a:cubicBezTo>
                  <a:pt x="611" y="334"/>
                  <a:pt x="611" y="334"/>
                  <a:pt x="611" y="334"/>
                </a:cubicBezTo>
                <a:cubicBezTo>
                  <a:pt x="612" y="334"/>
                  <a:pt x="612" y="334"/>
                  <a:pt x="613" y="334"/>
                </a:cubicBezTo>
                <a:cubicBezTo>
                  <a:pt x="614" y="334"/>
                  <a:pt x="615" y="334"/>
                  <a:pt x="616" y="334"/>
                </a:cubicBezTo>
                <a:cubicBezTo>
                  <a:pt x="617" y="334"/>
                  <a:pt x="618" y="334"/>
                  <a:pt x="619" y="334"/>
                </a:cubicBezTo>
                <a:cubicBezTo>
                  <a:pt x="619" y="334"/>
                  <a:pt x="620" y="334"/>
                  <a:pt x="621" y="333"/>
                </a:cubicBezTo>
                <a:cubicBezTo>
                  <a:pt x="621" y="333"/>
                  <a:pt x="622" y="333"/>
                  <a:pt x="622" y="333"/>
                </a:cubicBezTo>
                <a:cubicBezTo>
                  <a:pt x="622" y="333"/>
                  <a:pt x="622" y="333"/>
                  <a:pt x="622" y="333"/>
                </a:cubicBezTo>
                <a:cubicBezTo>
                  <a:pt x="623" y="333"/>
                  <a:pt x="623" y="333"/>
                  <a:pt x="623" y="333"/>
                </a:cubicBezTo>
                <a:cubicBezTo>
                  <a:pt x="624" y="333"/>
                  <a:pt x="624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6" y="333"/>
                  <a:pt x="627" y="333"/>
                  <a:pt x="627" y="333"/>
                </a:cubicBezTo>
                <a:cubicBezTo>
                  <a:pt x="628" y="333"/>
                  <a:pt x="628" y="333"/>
                  <a:pt x="628" y="333"/>
                </a:cubicBezTo>
                <a:cubicBezTo>
                  <a:pt x="628" y="333"/>
                  <a:pt x="628" y="333"/>
                  <a:pt x="628" y="333"/>
                </a:cubicBezTo>
                <a:cubicBezTo>
                  <a:pt x="629" y="333"/>
                  <a:pt x="629" y="333"/>
                  <a:pt x="629" y="333"/>
                </a:cubicBezTo>
                <a:cubicBezTo>
                  <a:pt x="630" y="333"/>
                  <a:pt x="630" y="333"/>
                  <a:pt x="631" y="333"/>
                </a:cubicBezTo>
                <a:cubicBezTo>
                  <a:pt x="631" y="333"/>
                  <a:pt x="632" y="333"/>
                  <a:pt x="632" y="333"/>
                </a:cubicBezTo>
                <a:cubicBezTo>
                  <a:pt x="633" y="332"/>
                  <a:pt x="633" y="332"/>
                  <a:pt x="633" y="332"/>
                </a:cubicBezTo>
                <a:cubicBezTo>
                  <a:pt x="634" y="332"/>
                  <a:pt x="634" y="332"/>
                  <a:pt x="634" y="332"/>
                </a:cubicBezTo>
                <a:cubicBezTo>
                  <a:pt x="634" y="332"/>
                  <a:pt x="634" y="332"/>
                  <a:pt x="634" y="332"/>
                </a:cubicBezTo>
                <a:cubicBezTo>
                  <a:pt x="635" y="332"/>
                  <a:pt x="635" y="332"/>
                  <a:pt x="636" y="332"/>
                </a:cubicBezTo>
                <a:cubicBezTo>
                  <a:pt x="636" y="332"/>
                  <a:pt x="636" y="332"/>
                  <a:pt x="636" y="332"/>
                </a:cubicBezTo>
                <a:cubicBezTo>
                  <a:pt x="636" y="332"/>
                  <a:pt x="636" y="332"/>
                  <a:pt x="636" y="332"/>
                </a:cubicBezTo>
                <a:cubicBezTo>
                  <a:pt x="636" y="332"/>
                  <a:pt x="637" y="332"/>
                  <a:pt x="637" y="332"/>
                </a:cubicBezTo>
                <a:cubicBezTo>
                  <a:pt x="638" y="332"/>
                  <a:pt x="638" y="332"/>
                  <a:pt x="638" y="332"/>
                </a:cubicBezTo>
                <a:cubicBezTo>
                  <a:pt x="638" y="332"/>
                  <a:pt x="638" y="332"/>
                  <a:pt x="638" y="332"/>
                </a:cubicBezTo>
                <a:cubicBezTo>
                  <a:pt x="639" y="332"/>
                  <a:pt x="639" y="332"/>
                  <a:pt x="639" y="332"/>
                </a:cubicBezTo>
                <a:cubicBezTo>
                  <a:pt x="639" y="332"/>
                  <a:pt x="639" y="332"/>
                  <a:pt x="639" y="332"/>
                </a:cubicBezTo>
                <a:cubicBezTo>
                  <a:pt x="640" y="331"/>
                  <a:pt x="642" y="331"/>
                  <a:pt x="643" y="331"/>
                </a:cubicBezTo>
                <a:cubicBezTo>
                  <a:pt x="643" y="331"/>
                  <a:pt x="643" y="331"/>
                  <a:pt x="643" y="331"/>
                </a:cubicBezTo>
                <a:cubicBezTo>
                  <a:pt x="643" y="331"/>
                  <a:pt x="643" y="331"/>
                  <a:pt x="643" y="331"/>
                </a:cubicBezTo>
                <a:cubicBezTo>
                  <a:pt x="644" y="331"/>
                  <a:pt x="645" y="330"/>
                  <a:pt x="645" y="330"/>
                </a:cubicBezTo>
                <a:cubicBezTo>
                  <a:pt x="645" y="330"/>
                  <a:pt x="645" y="330"/>
                  <a:pt x="645" y="330"/>
                </a:cubicBezTo>
                <a:cubicBezTo>
                  <a:pt x="646" y="330"/>
                  <a:pt x="646" y="330"/>
                  <a:pt x="646" y="330"/>
                </a:cubicBezTo>
                <a:cubicBezTo>
                  <a:pt x="646" y="330"/>
                  <a:pt x="647" y="330"/>
                  <a:pt x="647" y="330"/>
                </a:cubicBezTo>
                <a:cubicBezTo>
                  <a:pt x="648" y="330"/>
                  <a:pt x="648" y="330"/>
                  <a:pt x="648" y="330"/>
                </a:cubicBezTo>
                <a:cubicBezTo>
                  <a:pt x="648" y="330"/>
                  <a:pt x="648" y="330"/>
                  <a:pt x="648" y="330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9" y="329"/>
                  <a:pt x="649" y="329"/>
                  <a:pt x="649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1" y="328"/>
                  <a:pt x="651" y="328"/>
                  <a:pt x="651" y="328"/>
                </a:cubicBezTo>
                <a:cubicBezTo>
                  <a:pt x="651" y="328"/>
                  <a:pt x="651" y="328"/>
                  <a:pt x="651" y="328"/>
                </a:cubicBezTo>
                <a:cubicBezTo>
                  <a:pt x="652" y="328"/>
                  <a:pt x="652" y="328"/>
                  <a:pt x="652" y="328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4" y="327"/>
                  <a:pt x="654" y="326"/>
                  <a:pt x="655" y="326"/>
                </a:cubicBezTo>
                <a:cubicBezTo>
                  <a:pt x="655" y="326"/>
                  <a:pt x="655" y="326"/>
                  <a:pt x="655" y="326"/>
                </a:cubicBezTo>
                <a:cubicBezTo>
                  <a:pt x="656" y="326"/>
                  <a:pt x="656" y="326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8" y="325"/>
                  <a:pt x="658" y="325"/>
                  <a:pt x="658" y="325"/>
                </a:cubicBezTo>
                <a:cubicBezTo>
                  <a:pt x="658" y="325"/>
                  <a:pt x="658" y="325"/>
                  <a:pt x="658" y="325"/>
                </a:cubicBezTo>
                <a:cubicBezTo>
                  <a:pt x="658" y="325"/>
                  <a:pt x="658" y="325"/>
                  <a:pt x="658" y="325"/>
                </a:cubicBezTo>
                <a:cubicBezTo>
                  <a:pt x="658" y="325"/>
                  <a:pt x="658" y="325"/>
                  <a:pt x="658" y="325"/>
                </a:cubicBezTo>
                <a:cubicBezTo>
                  <a:pt x="658" y="325"/>
                  <a:pt x="658" y="325"/>
                  <a:pt x="658" y="325"/>
                </a:cubicBezTo>
                <a:cubicBezTo>
                  <a:pt x="658" y="325"/>
                  <a:pt x="658" y="325"/>
                  <a:pt x="658" y="325"/>
                </a:cubicBezTo>
                <a:cubicBezTo>
                  <a:pt x="658" y="325"/>
                  <a:pt x="658" y="325"/>
                  <a:pt x="658" y="325"/>
                </a:cubicBezTo>
                <a:cubicBezTo>
                  <a:pt x="658" y="325"/>
                  <a:pt x="658" y="325"/>
                  <a:pt x="658" y="325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7" y="287"/>
                  <a:pt x="657" y="287"/>
                  <a:pt x="657" y="287"/>
                </a:cubicBezTo>
                <a:cubicBezTo>
                  <a:pt x="656" y="244"/>
                  <a:pt x="656" y="244"/>
                  <a:pt x="656" y="244"/>
                </a:cubicBezTo>
                <a:cubicBezTo>
                  <a:pt x="657" y="244"/>
                  <a:pt x="658" y="244"/>
                  <a:pt x="659" y="244"/>
                </a:cubicBezTo>
                <a:cubicBezTo>
                  <a:pt x="659" y="244"/>
                  <a:pt x="659" y="244"/>
                  <a:pt x="659" y="244"/>
                </a:cubicBezTo>
                <a:cubicBezTo>
                  <a:pt x="661" y="244"/>
                  <a:pt x="663" y="244"/>
                  <a:pt x="665" y="244"/>
                </a:cubicBezTo>
                <a:cubicBezTo>
                  <a:pt x="666" y="244"/>
                  <a:pt x="667" y="244"/>
                  <a:pt x="668" y="244"/>
                </a:cubicBezTo>
                <a:cubicBezTo>
                  <a:pt x="669" y="244"/>
                  <a:pt x="670" y="244"/>
                  <a:pt x="671" y="244"/>
                </a:cubicBezTo>
                <a:cubicBezTo>
                  <a:pt x="671" y="244"/>
                  <a:pt x="671" y="244"/>
                  <a:pt x="671" y="244"/>
                </a:cubicBezTo>
                <a:cubicBezTo>
                  <a:pt x="672" y="244"/>
                  <a:pt x="673" y="244"/>
                  <a:pt x="674" y="244"/>
                </a:cubicBezTo>
                <a:cubicBezTo>
                  <a:pt x="675" y="244"/>
                  <a:pt x="675" y="244"/>
                  <a:pt x="675" y="244"/>
                </a:cubicBezTo>
                <a:cubicBezTo>
                  <a:pt x="675" y="244"/>
                  <a:pt x="675" y="244"/>
                  <a:pt x="675" y="244"/>
                </a:cubicBezTo>
                <a:cubicBezTo>
                  <a:pt x="676" y="244"/>
                  <a:pt x="677" y="244"/>
                  <a:pt x="678" y="244"/>
                </a:cubicBezTo>
                <a:cubicBezTo>
                  <a:pt x="678" y="244"/>
                  <a:pt x="679" y="244"/>
                  <a:pt x="680" y="244"/>
                </a:cubicBezTo>
                <a:cubicBezTo>
                  <a:pt x="681" y="244"/>
                  <a:pt x="682" y="245"/>
                  <a:pt x="683" y="245"/>
                </a:cubicBezTo>
                <a:cubicBezTo>
                  <a:pt x="683" y="245"/>
                  <a:pt x="683" y="245"/>
                  <a:pt x="683" y="245"/>
                </a:cubicBezTo>
                <a:cubicBezTo>
                  <a:pt x="684" y="245"/>
                  <a:pt x="684" y="245"/>
                  <a:pt x="684" y="245"/>
                </a:cubicBezTo>
                <a:cubicBezTo>
                  <a:pt x="684" y="245"/>
                  <a:pt x="684" y="245"/>
                  <a:pt x="684" y="245"/>
                </a:cubicBezTo>
                <a:cubicBezTo>
                  <a:pt x="685" y="245"/>
                  <a:pt x="685" y="245"/>
                  <a:pt x="685" y="245"/>
                </a:cubicBezTo>
                <a:cubicBezTo>
                  <a:pt x="686" y="245"/>
                  <a:pt x="687" y="245"/>
                  <a:pt x="688" y="245"/>
                </a:cubicBezTo>
                <a:cubicBezTo>
                  <a:pt x="688" y="245"/>
                  <a:pt x="689" y="245"/>
                  <a:pt x="689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1" y="245"/>
                  <a:pt x="691" y="245"/>
                  <a:pt x="691" y="245"/>
                </a:cubicBezTo>
                <a:cubicBezTo>
                  <a:pt x="691" y="245"/>
                  <a:pt x="692" y="245"/>
                  <a:pt x="692" y="245"/>
                </a:cubicBezTo>
                <a:cubicBezTo>
                  <a:pt x="693" y="245"/>
                  <a:pt x="693" y="245"/>
                  <a:pt x="694" y="245"/>
                </a:cubicBezTo>
                <a:cubicBezTo>
                  <a:pt x="695" y="245"/>
                  <a:pt x="695" y="245"/>
                  <a:pt x="695" y="245"/>
                </a:cubicBezTo>
                <a:cubicBezTo>
                  <a:pt x="696" y="245"/>
                  <a:pt x="696" y="245"/>
                  <a:pt x="696" y="245"/>
                </a:cubicBezTo>
                <a:cubicBezTo>
                  <a:pt x="697" y="246"/>
                  <a:pt x="697" y="246"/>
                  <a:pt x="697" y="246"/>
                </a:cubicBezTo>
                <a:cubicBezTo>
                  <a:pt x="698" y="246"/>
                  <a:pt x="698" y="246"/>
                  <a:pt x="698" y="246"/>
                </a:cubicBezTo>
                <a:cubicBezTo>
                  <a:pt x="699" y="246"/>
                  <a:pt x="699" y="246"/>
                  <a:pt x="699" y="246"/>
                </a:cubicBezTo>
                <a:cubicBezTo>
                  <a:pt x="700" y="246"/>
                  <a:pt x="700" y="246"/>
                  <a:pt x="700" y="246"/>
                </a:cubicBezTo>
                <a:cubicBezTo>
                  <a:pt x="701" y="246"/>
                  <a:pt x="701" y="246"/>
                  <a:pt x="701" y="246"/>
                </a:cubicBezTo>
                <a:cubicBezTo>
                  <a:pt x="702" y="246"/>
                  <a:pt x="702" y="246"/>
                  <a:pt x="702" y="246"/>
                </a:cubicBezTo>
                <a:cubicBezTo>
                  <a:pt x="702" y="246"/>
                  <a:pt x="702" y="246"/>
                  <a:pt x="702" y="246"/>
                </a:cubicBezTo>
                <a:cubicBezTo>
                  <a:pt x="703" y="246"/>
                  <a:pt x="703" y="246"/>
                  <a:pt x="703" y="246"/>
                </a:cubicBezTo>
                <a:cubicBezTo>
                  <a:pt x="703" y="246"/>
                  <a:pt x="703" y="246"/>
                  <a:pt x="703" y="246"/>
                </a:cubicBezTo>
                <a:cubicBezTo>
                  <a:pt x="704" y="246"/>
                  <a:pt x="704" y="246"/>
                  <a:pt x="704" y="246"/>
                </a:cubicBezTo>
                <a:cubicBezTo>
                  <a:pt x="704" y="246"/>
                  <a:pt x="704" y="246"/>
                  <a:pt x="704" y="246"/>
                </a:cubicBezTo>
                <a:cubicBezTo>
                  <a:pt x="704" y="246"/>
                  <a:pt x="704" y="246"/>
                  <a:pt x="704" y="246"/>
                </a:cubicBezTo>
                <a:cubicBezTo>
                  <a:pt x="705" y="246"/>
                  <a:pt x="705" y="246"/>
                  <a:pt x="705" y="246"/>
                </a:cubicBezTo>
                <a:cubicBezTo>
                  <a:pt x="705" y="246"/>
                  <a:pt x="705" y="246"/>
                  <a:pt x="705" y="246"/>
                </a:cubicBezTo>
                <a:cubicBezTo>
                  <a:pt x="706" y="246"/>
                  <a:pt x="706" y="246"/>
                  <a:pt x="706" y="246"/>
                </a:cubicBezTo>
                <a:cubicBezTo>
                  <a:pt x="707" y="246"/>
                  <a:pt x="707" y="246"/>
                  <a:pt x="707" y="246"/>
                </a:cubicBezTo>
                <a:cubicBezTo>
                  <a:pt x="708" y="245"/>
                  <a:pt x="708" y="245"/>
                  <a:pt x="708" y="245"/>
                </a:cubicBezTo>
                <a:cubicBezTo>
                  <a:pt x="708" y="245"/>
                  <a:pt x="708" y="245"/>
                  <a:pt x="708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10" y="245"/>
                  <a:pt x="710" y="245"/>
                  <a:pt x="710" y="245"/>
                </a:cubicBezTo>
                <a:cubicBezTo>
                  <a:pt x="711" y="245"/>
                  <a:pt x="711" y="245"/>
                  <a:pt x="711" y="245"/>
                </a:cubicBezTo>
                <a:cubicBezTo>
                  <a:pt x="712" y="245"/>
                  <a:pt x="712" y="245"/>
                  <a:pt x="712" y="245"/>
                </a:cubicBezTo>
                <a:cubicBezTo>
                  <a:pt x="713" y="245"/>
                  <a:pt x="713" y="245"/>
                  <a:pt x="713" y="245"/>
                </a:cubicBezTo>
                <a:cubicBezTo>
                  <a:pt x="714" y="245"/>
                  <a:pt x="714" y="245"/>
                  <a:pt x="714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6" y="245"/>
                  <a:pt x="716" y="245"/>
                  <a:pt x="716" y="245"/>
                </a:cubicBezTo>
                <a:cubicBezTo>
                  <a:pt x="716" y="245"/>
                  <a:pt x="716" y="245"/>
                  <a:pt x="717" y="245"/>
                </a:cubicBezTo>
                <a:cubicBezTo>
                  <a:pt x="717" y="245"/>
                  <a:pt x="718" y="245"/>
                  <a:pt x="719" y="245"/>
                </a:cubicBezTo>
                <a:cubicBezTo>
                  <a:pt x="719" y="245"/>
                  <a:pt x="720" y="244"/>
                  <a:pt x="720" y="244"/>
                </a:cubicBezTo>
                <a:cubicBezTo>
                  <a:pt x="721" y="244"/>
                  <a:pt x="721" y="244"/>
                  <a:pt x="721" y="244"/>
                </a:cubicBezTo>
                <a:cubicBezTo>
                  <a:pt x="721" y="244"/>
                  <a:pt x="721" y="244"/>
                  <a:pt x="721" y="244"/>
                </a:cubicBezTo>
                <a:cubicBezTo>
                  <a:pt x="722" y="244"/>
                  <a:pt x="722" y="244"/>
                  <a:pt x="722" y="244"/>
                </a:cubicBezTo>
                <a:cubicBezTo>
                  <a:pt x="723" y="244"/>
                  <a:pt x="723" y="244"/>
                  <a:pt x="724" y="244"/>
                </a:cubicBezTo>
                <a:cubicBezTo>
                  <a:pt x="725" y="244"/>
                  <a:pt x="725" y="244"/>
                  <a:pt x="726" y="244"/>
                </a:cubicBezTo>
                <a:cubicBezTo>
                  <a:pt x="726" y="243"/>
                  <a:pt x="727" y="243"/>
                  <a:pt x="728" y="243"/>
                </a:cubicBezTo>
                <a:cubicBezTo>
                  <a:pt x="728" y="243"/>
                  <a:pt x="729" y="243"/>
                  <a:pt x="729" y="243"/>
                </a:cubicBezTo>
                <a:cubicBezTo>
                  <a:pt x="730" y="243"/>
                  <a:pt x="731" y="243"/>
                  <a:pt x="731" y="243"/>
                </a:cubicBezTo>
                <a:cubicBezTo>
                  <a:pt x="732" y="243"/>
                  <a:pt x="732" y="242"/>
                  <a:pt x="733" y="242"/>
                </a:cubicBezTo>
                <a:cubicBezTo>
                  <a:pt x="734" y="242"/>
                  <a:pt x="735" y="242"/>
                  <a:pt x="737" y="241"/>
                </a:cubicBezTo>
                <a:cubicBezTo>
                  <a:pt x="737" y="241"/>
                  <a:pt x="738" y="241"/>
                  <a:pt x="739" y="241"/>
                </a:cubicBezTo>
                <a:cubicBezTo>
                  <a:pt x="739" y="241"/>
                  <a:pt x="740" y="241"/>
                  <a:pt x="740" y="241"/>
                </a:cubicBezTo>
                <a:cubicBezTo>
                  <a:pt x="741" y="240"/>
                  <a:pt x="742" y="240"/>
                  <a:pt x="742" y="240"/>
                </a:cubicBezTo>
                <a:cubicBezTo>
                  <a:pt x="743" y="240"/>
                  <a:pt x="744" y="240"/>
                  <a:pt x="745" y="239"/>
                </a:cubicBezTo>
                <a:cubicBezTo>
                  <a:pt x="745" y="239"/>
                  <a:pt x="746" y="239"/>
                  <a:pt x="747" y="239"/>
                </a:cubicBezTo>
                <a:cubicBezTo>
                  <a:pt x="747" y="239"/>
                  <a:pt x="748" y="239"/>
                  <a:pt x="749" y="238"/>
                </a:cubicBezTo>
                <a:cubicBezTo>
                  <a:pt x="750" y="238"/>
                  <a:pt x="752" y="237"/>
                  <a:pt x="753" y="237"/>
                </a:cubicBezTo>
                <a:cubicBezTo>
                  <a:pt x="754" y="237"/>
                  <a:pt x="755" y="236"/>
                  <a:pt x="756" y="236"/>
                </a:cubicBezTo>
                <a:cubicBezTo>
                  <a:pt x="757" y="236"/>
                  <a:pt x="757" y="236"/>
                  <a:pt x="757" y="236"/>
                </a:cubicBezTo>
                <a:cubicBezTo>
                  <a:pt x="758" y="236"/>
                  <a:pt x="758" y="236"/>
                  <a:pt x="758" y="236"/>
                </a:cubicBezTo>
                <a:cubicBezTo>
                  <a:pt x="758" y="235"/>
                  <a:pt x="758" y="235"/>
                  <a:pt x="758" y="235"/>
                </a:cubicBezTo>
                <a:cubicBezTo>
                  <a:pt x="759" y="235"/>
                  <a:pt x="759" y="235"/>
                  <a:pt x="759" y="235"/>
                </a:cubicBezTo>
                <a:cubicBezTo>
                  <a:pt x="760" y="235"/>
                  <a:pt x="760" y="235"/>
                  <a:pt x="761" y="235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3" y="234"/>
                  <a:pt x="763" y="234"/>
                  <a:pt x="764" y="233"/>
                </a:cubicBezTo>
                <a:cubicBezTo>
                  <a:pt x="765" y="233"/>
                  <a:pt x="765" y="233"/>
                  <a:pt x="765" y="233"/>
                </a:cubicBezTo>
                <a:cubicBezTo>
                  <a:pt x="765" y="233"/>
                  <a:pt x="765" y="233"/>
                  <a:pt x="765" y="233"/>
                </a:cubicBezTo>
                <a:cubicBezTo>
                  <a:pt x="765" y="233"/>
                  <a:pt x="765" y="233"/>
                  <a:pt x="765" y="233"/>
                </a:cubicBezTo>
                <a:cubicBezTo>
                  <a:pt x="766" y="232"/>
                  <a:pt x="766" y="232"/>
                  <a:pt x="766" y="232"/>
                </a:cubicBezTo>
                <a:cubicBezTo>
                  <a:pt x="767" y="232"/>
                  <a:pt x="767" y="232"/>
                  <a:pt x="767" y="232"/>
                </a:cubicBezTo>
                <a:cubicBezTo>
                  <a:pt x="768" y="232"/>
                  <a:pt x="768" y="232"/>
                  <a:pt x="768" y="232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70" y="231"/>
                  <a:pt x="770" y="231"/>
                  <a:pt x="770" y="231"/>
                </a:cubicBezTo>
                <a:cubicBezTo>
                  <a:pt x="770" y="230"/>
                  <a:pt x="770" y="230"/>
                  <a:pt x="770" y="230"/>
                </a:cubicBezTo>
                <a:cubicBezTo>
                  <a:pt x="771" y="230"/>
                  <a:pt x="771" y="230"/>
                  <a:pt x="771" y="230"/>
                </a:cubicBezTo>
                <a:cubicBezTo>
                  <a:pt x="772" y="230"/>
                  <a:pt x="772" y="230"/>
                  <a:pt x="772" y="230"/>
                </a:cubicBezTo>
                <a:cubicBezTo>
                  <a:pt x="772" y="229"/>
                  <a:pt x="772" y="229"/>
                  <a:pt x="772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4" y="228"/>
                  <a:pt x="774" y="228"/>
                  <a:pt x="774" y="228"/>
                </a:cubicBezTo>
                <a:cubicBezTo>
                  <a:pt x="774" y="228"/>
                  <a:pt x="774" y="228"/>
                  <a:pt x="774" y="228"/>
                </a:cubicBezTo>
                <a:cubicBezTo>
                  <a:pt x="775" y="228"/>
                  <a:pt x="775" y="228"/>
                  <a:pt x="775" y="228"/>
                </a:cubicBezTo>
                <a:cubicBezTo>
                  <a:pt x="775" y="227"/>
                  <a:pt x="775" y="227"/>
                  <a:pt x="775" y="227"/>
                </a:cubicBezTo>
                <a:cubicBezTo>
                  <a:pt x="776" y="227"/>
                  <a:pt x="776" y="227"/>
                  <a:pt x="776" y="227"/>
                </a:cubicBezTo>
                <a:cubicBezTo>
                  <a:pt x="776" y="227"/>
                  <a:pt x="776" y="227"/>
                  <a:pt x="776" y="227"/>
                </a:cubicBezTo>
                <a:cubicBezTo>
                  <a:pt x="776" y="226"/>
                  <a:pt x="776" y="226"/>
                  <a:pt x="776" y="226"/>
                </a:cubicBezTo>
                <a:cubicBezTo>
                  <a:pt x="777" y="226"/>
                  <a:pt x="777" y="226"/>
                  <a:pt x="777" y="226"/>
                </a:cubicBezTo>
                <a:cubicBezTo>
                  <a:pt x="777" y="226"/>
                  <a:pt x="777" y="226"/>
                  <a:pt x="777" y="226"/>
                </a:cubicBezTo>
                <a:cubicBezTo>
                  <a:pt x="777" y="225"/>
                  <a:pt x="777" y="225"/>
                  <a:pt x="777" y="225"/>
                </a:cubicBezTo>
                <a:cubicBezTo>
                  <a:pt x="778" y="225"/>
                  <a:pt x="778" y="225"/>
                  <a:pt x="778" y="225"/>
                </a:cubicBezTo>
                <a:cubicBezTo>
                  <a:pt x="778" y="225"/>
                  <a:pt x="778" y="225"/>
                  <a:pt x="778" y="225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9" y="224"/>
                  <a:pt x="779" y="224"/>
                  <a:pt x="779" y="224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80" y="222"/>
                  <a:pt x="780" y="222"/>
                  <a:pt x="780" y="222"/>
                </a:cubicBezTo>
                <a:cubicBezTo>
                  <a:pt x="780" y="222"/>
                  <a:pt x="780" y="222"/>
                  <a:pt x="780" y="222"/>
                </a:cubicBezTo>
                <a:cubicBezTo>
                  <a:pt x="780" y="222"/>
                  <a:pt x="780" y="222"/>
                  <a:pt x="780" y="222"/>
                </a:cubicBezTo>
                <a:cubicBezTo>
                  <a:pt x="780" y="221"/>
                  <a:pt x="780" y="221"/>
                  <a:pt x="780" y="221"/>
                </a:cubicBezTo>
                <a:cubicBezTo>
                  <a:pt x="780" y="221"/>
                  <a:pt x="780" y="221"/>
                  <a:pt x="780" y="221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1" y="220"/>
                  <a:pt x="781" y="220"/>
                  <a:pt x="781" y="220"/>
                </a:cubicBezTo>
                <a:cubicBezTo>
                  <a:pt x="781" y="219"/>
                  <a:pt x="781" y="219"/>
                  <a:pt x="781" y="219"/>
                </a:cubicBezTo>
                <a:cubicBezTo>
                  <a:pt x="781" y="219"/>
                  <a:pt x="781" y="219"/>
                  <a:pt x="781" y="219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7"/>
                  <a:pt x="781" y="217"/>
                  <a:pt x="781" y="217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10"/>
          <p:cNvSpPr/>
          <p:nvPr/>
        </p:nvSpPr>
        <p:spPr>
          <a:xfrm>
            <a:off x="7024680" y="3662280"/>
            <a:ext cx="20520" cy="379440"/>
          </a:xfrm>
          <a:custGeom>
            <a:avLst/>
            <a:gdLst/>
            <a:ahLst/>
            <a:rect l="l" t="t" r="r" b="b"/>
            <a:pathLst>
              <a:path w="10" h="210">
                <a:moveTo>
                  <a:pt x="9" y="13"/>
                </a:moveTo>
                <a:cubicBezTo>
                  <a:pt x="8" y="16"/>
                  <a:pt x="8" y="18"/>
                  <a:pt x="8" y="20"/>
                </a:cubicBezTo>
                <a:cubicBezTo>
                  <a:pt x="8" y="20"/>
                  <a:pt x="8" y="20"/>
                  <a:pt x="8" y="20"/>
                </a:cubicBezTo>
                <a:cubicBezTo>
                  <a:pt x="8" y="20"/>
                  <a:pt x="8" y="20"/>
                  <a:pt x="8" y="20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3"/>
                  <a:pt x="8" y="24"/>
                  <a:pt x="8" y="26"/>
                </a:cubicBezTo>
                <a:cubicBezTo>
                  <a:pt x="8" y="26"/>
                  <a:pt x="8" y="26"/>
                  <a:pt x="8" y="26"/>
                </a:cubicBezTo>
                <a:cubicBezTo>
                  <a:pt x="8" y="26"/>
                  <a:pt x="8" y="26"/>
                  <a:pt x="8" y="26"/>
                </a:cubicBezTo>
                <a:cubicBezTo>
                  <a:pt x="8" y="27"/>
                  <a:pt x="8" y="27"/>
                  <a:pt x="8" y="27"/>
                </a:cubicBezTo>
                <a:cubicBezTo>
                  <a:pt x="7" y="51"/>
                  <a:pt x="6" y="76"/>
                  <a:pt x="5" y="101"/>
                </a:cubicBezTo>
                <a:cubicBezTo>
                  <a:pt x="0" y="209"/>
                  <a:pt x="0" y="209"/>
                  <a:pt x="0" y="209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08"/>
                  <a:pt x="1" y="206"/>
                  <a:pt x="1" y="205"/>
                </a:cubicBezTo>
                <a:cubicBezTo>
                  <a:pt x="1" y="204"/>
                  <a:pt x="1" y="203"/>
                  <a:pt x="1" y="203"/>
                </a:cubicBezTo>
                <a:cubicBezTo>
                  <a:pt x="1" y="202"/>
                  <a:pt x="1" y="202"/>
                  <a:pt x="1" y="202"/>
                </a:cubicBezTo>
                <a:cubicBezTo>
                  <a:pt x="1" y="200"/>
                  <a:pt x="1" y="198"/>
                  <a:pt x="1" y="196"/>
                </a:cubicBezTo>
                <a:cubicBezTo>
                  <a:pt x="2" y="193"/>
                  <a:pt x="2" y="191"/>
                  <a:pt x="2" y="188"/>
                </a:cubicBezTo>
                <a:cubicBezTo>
                  <a:pt x="2" y="188"/>
                  <a:pt x="2" y="188"/>
                  <a:pt x="2" y="188"/>
                </a:cubicBezTo>
                <a:cubicBezTo>
                  <a:pt x="2" y="188"/>
                  <a:pt x="2" y="188"/>
                  <a:pt x="2" y="188"/>
                </a:cubicBezTo>
                <a:cubicBezTo>
                  <a:pt x="2" y="187"/>
                  <a:pt x="2" y="187"/>
                  <a:pt x="2" y="187"/>
                </a:cubicBezTo>
                <a:cubicBezTo>
                  <a:pt x="2" y="185"/>
                  <a:pt x="2" y="183"/>
                  <a:pt x="3" y="181"/>
                </a:cubicBezTo>
                <a:cubicBezTo>
                  <a:pt x="3" y="181"/>
                  <a:pt x="3" y="181"/>
                  <a:pt x="3" y="181"/>
                </a:cubicBezTo>
                <a:cubicBezTo>
                  <a:pt x="3" y="181"/>
                  <a:pt x="3" y="181"/>
                  <a:pt x="3" y="181"/>
                </a:cubicBezTo>
                <a:cubicBezTo>
                  <a:pt x="3" y="181"/>
                  <a:pt x="3" y="181"/>
                  <a:pt x="3" y="181"/>
                </a:cubicBezTo>
                <a:cubicBezTo>
                  <a:pt x="5" y="121"/>
                  <a:pt x="7" y="60"/>
                  <a:pt x="1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1"/>
                  <a:pt x="9" y="2"/>
                  <a:pt x="9" y="3"/>
                </a:cubicBezTo>
                <a:cubicBezTo>
                  <a:pt x="9" y="4"/>
                  <a:pt x="9" y="6"/>
                  <a:pt x="9" y="7"/>
                </a:cubicBezTo>
                <a:cubicBezTo>
                  <a:pt x="9" y="9"/>
                  <a:pt x="9" y="11"/>
                  <a:pt x="9" y="1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11"/>
          <p:cNvSpPr/>
          <p:nvPr/>
        </p:nvSpPr>
        <p:spPr>
          <a:xfrm>
            <a:off x="7251840" y="3597120"/>
            <a:ext cx="125280" cy="454320"/>
          </a:xfrm>
          <a:custGeom>
            <a:avLst/>
            <a:gdLst/>
            <a:ahLst/>
            <a:rect l="l" t="t" r="r" b="b"/>
            <a:pathLst>
              <a:path w="70" h="251">
                <a:moveTo>
                  <a:pt x="46" y="34"/>
                </a:moveTo>
                <a:cubicBezTo>
                  <a:pt x="39" y="28"/>
                  <a:pt x="33" y="23"/>
                  <a:pt x="26" y="18"/>
                </a:cubicBezTo>
                <a:cubicBezTo>
                  <a:pt x="20" y="13"/>
                  <a:pt x="15" y="9"/>
                  <a:pt x="12" y="5"/>
                </a:cubicBezTo>
                <a:cubicBezTo>
                  <a:pt x="12" y="5"/>
                  <a:pt x="11" y="4"/>
                  <a:pt x="11" y="4"/>
                </a:cubicBezTo>
                <a:cubicBezTo>
                  <a:pt x="10" y="3"/>
                  <a:pt x="10" y="3"/>
                  <a:pt x="10" y="2"/>
                </a:cubicBezTo>
                <a:cubicBezTo>
                  <a:pt x="10" y="2"/>
                  <a:pt x="10" y="1"/>
                  <a:pt x="9" y="1"/>
                </a:cubicBezTo>
                <a:cubicBezTo>
                  <a:pt x="9" y="1"/>
                  <a:pt x="9" y="0"/>
                  <a:pt x="9" y="0"/>
                </a:cubicBezTo>
                <a:cubicBezTo>
                  <a:pt x="6" y="59"/>
                  <a:pt x="3" y="119"/>
                  <a:pt x="0" y="178"/>
                </a:cubicBezTo>
                <a:cubicBezTo>
                  <a:pt x="0" y="179"/>
                  <a:pt x="0" y="179"/>
                  <a:pt x="0" y="180"/>
                </a:cubicBezTo>
                <a:cubicBezTo>
                  <a:pt x="0" y="180"/>
                  <a:pt x="1" y="181"/>
                  <a:pt x="1" y="181"/>
                </a:cubicBezTo>
                <a:cubicBezTo>
                  <a:pt x="1" y="182"/>
                  <a:pt x="1" y="183"/>
                  <a:pt x="2" y="183"/>
                </a:cubicBezTo>
                <a:cubicBezTo>
                  <a:pt x="2" y="184"/>
                  <a:pt x="2" y="184"/>
                  <a:pt x="3" y="185"/>
                </a:cubicBezTo>
                <a:cubicBezTo>
                  <a:pt x="6" y="189"/>
                  <a:pt x="11" y="193"/>
                  <a:pt x="17" y="198"/>
                </a:cubicBezTo>
                <a:cubicBezTo>
                  <a:pt x="23" y="203"/>
                  <a:pt x="30" y="209"/>
                  <a:pt x="36" y="215"/>
                </a:cubicBezTo>
                <a:cubicBezTo>
                  <a:pt x="42" y="221"/>
                  <a:pt x="48" y="227"/>
                  <a:pt x="53" y="233"/>
                </a:cubicBezTo>
                <a:cubicBezTo>
                  <a:pt x="57" y="239"/>
                  <a:pt x="59" y="245"/>
                  <a:pt x="59" y="251"/>
                </a:cubicBezTo>
                <a:cubicBezTo>
                  <a:pt x="63" y="189"/>
                  <a:pt x="66" y="128"/>
                  <a:pt x="70" y="67"/>
                </a:cubicBezTo>
                <a:cubicBezTo>
                  <a:pt x="70" y="62"/>
                  <a:pt x="67" y="56"/>
                  <a:pt x="63" y="51"/>
                </a:cubicBezTo>
                <a:cubicBezTo>
                  <a:pt x="58" y="45"/>
                  <a:pt x="52" y="39"/>
                  <a:pt x="46" y="3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12"/>
          <p:cNvSpPr/>
          <p:nvPr/>
        </p:nvSpPr>
        <p:spPr>
          <a:xfrm>
            <a:off x="6157800" y="3592440"/>
            <a:ext cx="2135160" cy="1141560"/>
          </a:xfrm>
          <a:custGeom>
            <a:avLst/>
            <a:gdLst/>
            <a:ahLst/>
            <a:rect l="l" t="t" r="r" b="b"/>
            <a:pathLst>
              <a:path w="1177" h="622">
                <a:moveTo>
                  <a:pt x="1177" y="192"/>
                </a:moveTo>
                <a:cubicBezTo>
                  <a:pt x="1177" y="193"/>
                  <a:pt x="1176" y="193"/>
                  <a:pt x="1176" y="194"/>
                </a:cubicBezTo>
                <a:cubicBezTo>
                  <a:pt x="1176" y="194"/>
                  <a:pt x="1176" y="194"/>
                  <a:pt x="1176" y="194"/>
                </a:cubicBezTo>
                <a:cubicBezTo>
                  <a:pt x="1176" y="195"/>
                  <a:pt x="1176" y="196"/>
                  <a:pt x="1175" y="197"/>
                </a:cubicBezTo>
                <a:cubicBezTo>
                  <a:pt x="1175" y="197"/>
                  <a:pt x="1175" y="197"/>
                  <a:pt x="1175" y="197"/>
                </a:cubicBezTo>
                <a:cubicBezTo>
                  <a:pt x="1175" y="197"/>
                  <a:pt x="1175" y="198"/>
                  <a:pt x="1175" y="199"/>
                </a:cubicBezTo>
                <a:cubicBezTo>
                  <a:pt x="1174" y="200"/>
                  <a:pt x="1174" y="201"/>
                  <a:pt x="1173" y="202"/>
                </a:cubicBezTo>
                <a:cubicBezTo>
                  <a:pt x="1173" y="202"/>
                  <a:pt x="1173" y="202"/>
                  <a:pt x="1173" y="202"/>
                </a:cubicBezTo>
                <a:cubicBezTo>
                  <a:pt x="1172" y="203"/>
                  <a:pt x="1172" y="204"/>
                  <a:pt x="1171" y="205"/>
                </a:cubicBezTo>
                <a:cubicBezTo>
                  <a:pt x="1171" y="205"/>
                  <a:pt x="1171" y="205"/>
                  <a:pt x="1171" y="205"/>
                </a:cubicBezTo>
                <a:cubicBezTo>
                  <a:pt x="1170" y="206"/>
                  <a:pt x="1169" y="206"/>
                  <a:pt x="1168" y="207"/>
                </a:cubicBezTo>
                <a:cubicBezTo>
                  <a:pt x="1168" y="208"/>
                  <a:pt x="1168" y="208"/>
                  <a:pt x="1168" y="208"/>
                </a:cubicBezTo>
                <a:cubicBezTo>
                  <a:pt x="1167" y="208"/>
                  <a:pt x="1166" y="209"/>
                  <a:pt x="1165" y="210"/>
                </a:cubicBezTo>
                <a:cubicBezTo>
                  <a:pt x="1165" y="210"/>
                  <a:pt x="1165" y="210"/>
                  <a:pt x="1165" y="210"/>
                </a:cubicBezTo>
                <a:cubicBezTo>
                  <a:pt x="1164" y="211"/>
                  <a:pt x="1163" y="212"/>
                  <a:pt x="1161" y="213"/>
                </a:cubicBezTo>
                <a:cubicBezTo>
                  <a:pt x="1161" y="213"/>
                  <a:pt x="1161" y="213"/>
                  <a:pt x="1161" y="213"/>
                </a:cubicBezTo>
                <a:cubicBezTo>
                  <a:pt x="1160" y="213"/>
                  <a:pt x="1159" y="214"/>
                  <a:pt x="1158" y="215"/>
                </a:cubicBezTo>
                <a:cubicBezTo>
                  <a:pt x="1156" y="215"/>
                  <a:pt x="1155" y="216"/>
                  <a:pt x="1154" y="217"/>
                </a:cubicBezTo>
                <a:cubicBezTo>
                  <a:pt x="1153" y="217"/>
                  <a:pt x="1153" y="217"/>
                  <a:pt x="1152" y="217"/>
                </a:cubicBezTo>
                <a:cubicBezTo>
                  <a:pt x="1150" y="218"/>
                  <a:pt x="1148" y="219"/>
                  <a:pt x="1146" y="220"/>
                </a:cubicBezTo>
                <a:cubicBezTo>
                  <a:pt x="1146" y="220"/>
                  <a:pt x="1145" y="220"/>
                  <a:pt x="1144" y="220"/>
                </a:cubicBezTo>
                <a:cubicBezTo>
                  <a:pt x="1143" y="221"/>
                  <a:pt x="1141" y="221"/>
                  <a:pt x="1140" y="222"/>
                </a:cubicBezTo>
                <a:cubicBezTo>
                  <a:pt x="1139" y="222"/>
                  <a:pt x="1138" y="222"/>
                  <a:pt x="1137" y="223"/>
                </a:cubicBezTo>
                <a:cubicBezTo>
                  <a:pt x="1135" y="223"/>
                  <a:pt x="1134" y="224"/>
                  <a:pt x="1132" y="224"/>
                </a:cubicBezTo>
                <a:cubicBezTo>
                  <a:pt x="1131" y="224"/>
                  <a:pt x="1129" y="225"/>
                  <a:pt x="1128" y="225"/>
                </a:cubicBezTo>
                <a:cubicBezTo>
                  <a:pt x="1128" y="225"/>
                  <a:pt x="1128" y="225"/>
                  <a:pt x="1128" y="225"/>
                </a:cubicBezTo>
                <a:cubicBezTo>
                  <a:pt x="1125" y="225"/>
                  <a:pt x="1123" y="226"/>
                  <a:pt x="1121" y="226"/>
                </a:cubicBezTo>
                <a:cubicBezTo>
                  <a:pt x="1121" y="226"/>
                  <a:pt x="1121" y="226"/>
                  <a:pt x="1121" y="226"/>
                </a:cubicBezTo>
                <a:cubicBezTo>
                  <a:pt x="1118" y="227"/>
                  <a:pt x="1116" y="227"/>
                  <a:pt x="1113" y="227"/>
                </a:cubicBezTo>
                <a:cubicBezTo>
                  <a:pt x="1113" y="227"/>
                  <a:pt x="1113" y="227"/>
                  <a:pt x="1113" y="227"/>
                </a:cubicBezTo>
                <a:cubicBezTo>
                  <a:pt x="1110" y="228"/>
                  <a:pt x="1108" y="228"/>
                  <a:pt x="1105" y="228"/>
                </a:cubicBezTo>
                <a:cubicBezTo>
                  <a:pt x="1105" y="228"/>
                  <a:pt x="1105" y="228"/>
                  <a:pt x="1105" y="228"/>
                </a:cubicBezTo>
                <a:cubicBezTo>
                  <a:pt x="1102" y="228"/>
                  <a:pt x="1099" y="228"/>
                  <a:pt x="1097" y="229"/>
                </a:cubicBezTo>
                <a:cubicBezTo>
                  <a:pt x="1096" y="229"/>
                  <a:pt x="1096" y="229"/>
                  <a:pt x="1096" y="229"/>
                </a:cubicBezTo>
                <a:cubicBezTo>
                  <a:pt x="1094" y="229"/>
                  <a:pt x="1091" y="229"/>
                  <a:pt x="1088" y="229"/>
                </a:cubicBezTo>
                <a:cubicBezTo>
                  <a:pt x="1083" y="229"/>
                  <a:pt x="1079" y="229"/>
                  <a:pt x="1074" y="229"/>
                </a:cubicBezTo>
                <a:cubicBezTo>
                  <a:pt x="1074" y="229"/>
                  <a:pt x="1074" y="229"/>
                  <a:pt x="1074" y="229"/>
                </a:cubicBezTo>
                <a:cubicBezTo>
                  <a:pt x="1069" y="228"/>
                  <a:pt x="1065" y="228"/>
                  <a:pt x="1060" y="228"/>
                </a:cubicBezTo>
                <a:cubicBezTo>
                  <a:pt x="1060" y="228"/>
                  <a:pt x="1060" y="228"/>
                  <a:pt x="1060" y="228"/>
                </a:cubicBezTo>
                <a:cubicBezTo>
                  <a:pt x="1055" y="227"/>
                  <a:pt x="1050" y="226"/>
                  <a:pt x="1045" y="226"/>
                </a:cubicBezTo>
                <a:cubicBezTo>
                  <a:pt x="1045" y="226"/>
                  <a:pt x="1045" y="226"/>
                  <a:pt x="1045" y="226"/>
                </a:cubicBezTo>
                <a:cubicBezTo>
                  <a:pt x="1040" y="225"/>
                  <a:pt x="1034" y="224"/>
                  <a:pt x="1029" y="223"/>
                </a:cubicBezTo>
                <a:cubicBezTo>
                  <a:pt x="1028" y="223"/>
                  <a:pt x="1028" y="223"/>
                  <a:pt x="1028" y="223"/>
                </a:cubicBezTo>
                <a:cubicBezTo>
                  <a:pt x="1027" y="223"/>
                  <a:pt x="1027" y="223"/>
                  <a:pt x="1027" y="223"/>
                </a:cubicBezTo>
                <a:cubicBezTo>
                  <a:pt x="1027" y="223"/>
                  <a:pt x="1027" y="223"/>
                  <a:pt x="1027" y="223"/>
                </a:cubicBezTo>
                <a:cubicBezTo>
                  <a:pt x="1026" y="222"/>
                  <a:pt x="1026" y="222"/>
                  <a:pt x="1026" y="222"/>
                </a:cubicBezTo>
                <a:cubicBezTo>
                  <a:pt x="1025" y="222"/>
                  <a:pt x="1023" y="222"/>
                  <a:pt x="1022" y="222"/>
                </a:cubicBezTo>
                <a:cubicBezTo>
                  <a:pt x="1022" y="222"/>
                  <a:pt x="1021" y="222"/>
                  <a:pt x="1021" y="222"/>
                </a:cubicBezTo>
                <a:cubicBezTo>
                  <a:pt x="1021" y="221"/>
                  <a:pt x="1021" y="221"/>
                  <a:pt x="1021" y="221"/>
                </a:cubicBezTo>
                <a:cubicBezTo>
                  <a:pt x="1020" y="221"/>
                  <a:pt x="1019" y="221"/>
                  <a:pt x="1019" y="221"/>
                </a:cubicBezTo>
                <a:cubicBezTo>
                  <a:pt x="1018" y="221"/>
                  <a:pt x="1017" y="221"/>
                  <a:pt x="1015" y="221"/>
                </a:cubicBezTo>
                <a:cubicBezTo>
                  <a:pt x="1015" y="221"/>
                  <a:pt x="1014" y="220"/>
                  <a:pt x="1013" y="220"/>
                </a:cubicBezTo>
                <a:cubicBezTo>
                  <a:pt x="1013" y="220"/>
                  <a:pt x="1013" y="220"/>
                  <a:pt x="1013" y="220"/>
                </a:cubicBezTo>
                <a:cubicBezTo>
                  <a:pt x="1013" y="220"/>
                  <a:pt x="1013" y="220"/>
                  <a:pt x="1013" y="220"/>
                </a:cubicBezTo>
                <a:cubicBezTo>
                  <a:pt x="1012" y="220"/>
                  <a:pt x="1012" y="220"/>
                  <a:pt x="1012" y="220"/>
                </a:cubicBezTo>
                <a:cubicBezTo>
                  <a:pt x="1011" y="220"/>
                  <a:pt x="1011" y="220"/>
                  <a:pt x="1010" y="220"/>
                </a:cubicBezTo>
                <a:cubicBezTo>
                  <a:pt x="1009" y="220"/>
                  <a:pt x="1008" y="219"/>
                  <a:pt x="1007" y="219"/>
                </a:cubicBezTo>
                <a:cubicBezTo>
                  <a:pt x="1006" y="219"/>
                  <a:pt x="1006" y="219"/>
                  <a:pt x="1006" y="219"/>
                </a:cubicBezTo>
                <a:cubicBezTo>
                  <a:pt x="1006" y="219"/>
                  <a:pt x="1006" y="219"/>
                  <a:pt x="1006" y="219"/>
                </a:cubicBezTo>
                <a:cubicBezTo>
                  <a:pt x="1005" y="219"/>
                  <a:pt x="1005" y="219"/>
                  <a:pt x="1005" y="219"/>
                </a:cubicBezTo>
                <a:cubicBezTo>
                  <a:pt x="1004" y="219"/>
                  <a:pt x="1003" y="219"/>
                  <a:pt x="1002" y="219"/>
                </a:cubicBezTo>
                <a:cubicBezTo>
                  <a:pt x="1002" y="219"/>
                  <a:pt x="1001" y="219"/>
                  <a:pt x="1001" y="218"/>
                </a:cubicBezTo>
                <a:cubicBezTo>
                  <a:pt x="1000" y="218"/>
                  <a:pt x="1000" y="218"/>
                  <a:pt x="1000" y="218"/>
                </a:cubicBezTo>
                <a:cubicBezTo>
                  <a:pt x="999" y="218"/>
                  <a:pt x="999" y="218"/>
                  <a:pt x="999" y="218"/>
                </a:cubicBezTo>
                <a:cubicBezTo>
                  <a:pt x="999" y="218"/>
                  <a:pt x="999" y="218"/>
                  <a:pt x="999" y="218"/>
                </a:cubicBezTo>
                <a:cubicBezTo>
                  <a:pt x="999" y="218"/>
                  <a:pt x="999" y="218"/>
                  <a:pt x="999" y="218"/>
                </a:cubicBezTo>
                <a:cubicBezTo>
                  <a:pt x="998" y="218"/>
                  <a:pt x="998" y="218"/>
                  <a:pt x="997" y="218"/>
                </a:cubicBezTo>
                <a:cubicBezTo>
                  <a:pt x="996" y="218"/>
                  <a:pt x="996" y="218"/>
                  <a:pt x="995" y="218"/>
                </a:cubicBezTo>
                <a:cubicBezTo>
                  <a:pt x="995" y="218"/>
                  <a:pt x="994" y="218"/>
                  <a:pt x="994" y="218"/>
                </a:cubicBezTo>
                <a:cubicBezTo>
                  <a:pt x="993" y="218"/>
                  <a:pt x="993" y="218"/>
                  <a:pt x="993" y="218"/>
                </a:cubicBezTo>
                <a:cubicBezTo>
                  <a:pt x="993" y="218"/>
                  <a:pt x="993" y="218"/>
                  <a:pt x="993" y="218"/>
                </a:cubicBezTo>
                <a:cubicBezTo>
                  <a:pt x="992" y="218"/>
                  <a:pt x="992" y="218"/>
                  <a:pt x="992" y="218"/>
                </a:cubicBezTo>
                <a:cubicBezTo>
                  <a:pt x="992" y="218"/>
                  <a:pt x="991" y="218"/>
                  <a:pt x="991" y="217"/>
                </a:cubicBezTo>
                <a:cubicBezTo>
                  <a:pt x="990" y="217"/>
                  <a:pt x="990" y="217"/>
                  <a:pt x="989" y="217"/>
                </a:cubicBezTo>
                <a:cubicBezTo>
                  <a:pt x="989" y="217"/>
                  <a:pt x="988" y="217"/>
                  <a:pt x="988" y="217"/>
                </a:cubicBezTo>
                <a:cubicBezTo>
                  <a:pt x="988" y="217"/>
                  <a:pt x="987" y="217"/>
                  <a:pt x="987" y="217"/>
                </a:cubicBezTo>
                <a:cubicBezTo>
                  <a:pt x="986" y="217"/>
                  <a:pt x="986" y="217"/>
                  <a:pt x="985" y="217"/>
                </a:cubicBezTo>
                <a:cubicBezTo>
                  <a:pt x="985" y="217"/>
                  <a:pt x="985" y="217"/>
                  <a:pt x="984" y="217"/>
                </a:cubicBezTo>
                <a:cubicBezTo>
                  <a:pt x="984" y="217"/>
                  <a:pt x="984" y="217"/>
                  <a:pt x="983" y="217"/>
                </a:cubicBezTo>
                <a:cubicBezTo>
                  <a:pt x="983" y="217"/>
                  <a:pt x="983" y="217"/>
                  <a:pt x="983" y="217"/>
                </a:cubicBezTo>
                <a:cubicBezTo>
                  <a:pt x="982" y="217"/>
                  <a:pt x="982" y="217"/>
                  <a:pt x="982" y="217"/>
                </a:cubicBezTo>
                <a:cubicBezTo>
                  <a:pt x="981" y="217"/>
                  <a:pt x="981" y="217"/>
                  <a:pt x="981" y="217"/>
                </a:cubicBezTo>
                <a:cubicBezTo>
                  <a:pt x="980" y="217"/>
                  <a:pt x="980" y="217"/>
                  <a:pt x="980" y="217"/>
                </a:cubicBezTo>
                <a:cubicBezTo>
                  <a:pt x="979" y="217"/>
                  <a:pt x="979" y="217"/>
                  <a:pt x="979" y="217"/>
                </a:cubicBezTo>
                <a:cubicBezTo>
                  <a:pt x="979" y="217"/>
                  <a:pt x="979" y="217"/>
                  <a:pt x="979" y="217"/>
                </a:cubicBezTo>
                <a:cubicBezTo>
                  <a:pt x="978" y="217"/>
                  <a:pt x="978" y="217"/>
                  <a:pt x="978" y="217"/>
                </a:cubicBezTo>
                <a:cubicBezTo>
                  <a:pt x="978" y="217"/>
                  <a:pt x="978" y="217"/>
                  <a:pt x="978" y="217"/>
                </a:cubicBezTo>
                <a:cubicBezTo>
                  <a:pt x="977" y="217"/>
                  <a:pt x="977" y="217"/>
                  <a:pt x="977" y="217"/>
                </a:cubicBezTo>
                <a:cubicBezTo>
                  <a:pt x="977" y="217"/>
                  <a:pt x="977" y="217"/>
                  <a:pt x="977" y="217"/>
                </a:cubicBezTo>
                <a:cubicBezTo>
                  <a:pt x="977" y="217"/>
                  <a:pt x="977" y="217"/>
                  <a:pt x="977" y="217"/>
                </a:cubicBezTo>
                <a:cubicBezTo>
                  <a:pt x="976" y="217"/>
                  <a:pt x="976" y="217"/>
                  <a:pt x="976" y="217"/>
                </a:cubicBezTo>
                <a:cubicBezTo>
                  <a:pt x="975" y="217"/>
                  <a:pt x="975" y="217"/>
                  <a:pt x="975" y="217"/>
                </a:cubicBezTo>
                <a:cubicBezTo>
                  <a:pt x="975" y="217"/>
                  <a:pt x="975" y="217"/>
                  <a:pt x="975" y="217"/>
                </a:cubicBezTo>
                <a:cubicBezTo>
                  <a:pt x="974" y="217"/>
                  <a:pt x="974" y="217"/>
                  <a:pt x="974" y="217"/>
                </a:cubicBezTo>
                <a:cubicBezTo>
                  <a:pt x="973" y="217"/>
                  <a:pt x="973" y="217"/>
                  <a:pt x="973" y="217"/>
                </a:cubicBezTo>
                <a:cubicBezTo>
                  <a:pt x="972" y="217"/>
                  <a:pt x="972" y="217"/>
                  <a:pt x="972" y="217"/>
                </a:cubicBezTo>
                <a:cubicBezTo>
                  <a:pt x="971" y="217"/>
                  <a:pt x="971" y="217"/>
                  <a:pt x="971" y="217"/>
                </a:cubicBezTo>
                <a:cubicBezTo>
                  <a:pt x="970" y="217"/>
                  <a:pt x="970" y="217"/>
                  <a:pt x="970" y="217"/>
                </a:cubicBezTo>
                <a:cubicBezTo>
                  <a:pt x="970" y="217"/>
                  <a:pt x="970" y="217"/>
                  <a:pt x="970" y="217"/>
                </a:cubicBezTo>
                <a:cubicBezTo>
                  <a:pt x="969" y="217"/>
                  <a:pt x="969" y="217"/>
                  <a:pt x="969" y="217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7" y="218"/>
                  <a:pt x="967" y="218"/>
                  <a:pt x="967" y="218"/>
                </a:cubicBezTo>
                <a:cubicBezTo>
                  <a:pt x="966" y="218"/>
                  <a:pt x="966" y="218"/>
                  <a:pt x="966" y="218"/>
                </a:cubicBezTo>
                <a:cubicBezTo>
                  <a:pt x="966" y="218"/>
                  <a:pt x="965" y="218"/>
                  <a:pt x="965" y="218"/>
                </a:cubicBezTo>
                <a:cubicBezTo>
                  <a:pt x="965" y="218"/>
                  <a:pt x="964" y="218"/>
                  <a:pt x="964" y="218"/>
                </a:cubicBezTo>
                <a:cubicBezTo>
                  <a:pt x="963" y="218"/>
                  <a:pt x="963" y="218"/>
                  <a:pt x="963" y="218"/>
                </a:cubicBezTo>
                <a:cubicBezTo>
                  <a:pt x="962" y="218"/>
                  <a:pt x="962" y="219"/>
                  <a:pt x="962" y="219"/>
                </a:cubicBezTo>
                <a:cubicBezTo>
                  <a:pt x="961" y="219"/>
                  <a:pt x="961" y="219"/>
                  <a:pt x="961" y="219"/>
                </a:cubicBezTo>
                <a:cubicBezTo>
                  <a:pt x="960" y="219"/>
                  <a:pt x="960" y="219"/>
                  <a:pt x="960" y="219"/>
                </a:cubicBezTo>
                <a:cubicBezTo>
                  <a:pt x="960" y="219"/>
                  <a:pt x="960" y="219"/>
                  <a:pt x="960" y="219"/>
                </a:cubicBezTo>
                <a:cubicBezTo>
                  <a:pt x="959" y="219"/>
                  <a:pt x="959" y="219"/>
                  <a:pt x="959" y="219"/>
                </a:cubicBezTo>
                <a:cubicBezTo>
                  <a:pt x="958" y="219"/>
                  <a:pt x="958" y="220"/>
                  <a:pt x="958" y="220"/>
                </a:cubicBezTo>
                <a:cubicBezTo>
                  <a:pt x="957" y="220"/>
                  <a:pt x="957" y="220"/>
                  <a:pt x="956" y="220"/>
                </a:cubicBezTo>
                <a:cubicBezTo>
                  <a:pt x="956" y="220"/>
                  <a:pt x="956" y="220"/>
                  <a:pt x="956" y="220"/>
                </a:cubicBezTo>
                <a:cubicBezTo>
                  <a:pt x="955" y="220"/>
                  <a:pt x="955" y="221"/>
                  <a:pt x="955" y="221"/>
                </a:cubicBezTo>
                <a:cubicBezTo>
                  <a:pt x="954" y="221"/>
                  <a:pt x="954" y="221"/>
                  <a:pt x="954" y="221"/>
                </a:cubicBezTo>
                <a:cubicBezTo>
                  <a:pt x="953" y="221"/>
                  <a:pt x="953" y="221"/>
                  <a:pt x="953" y="221"/>
                </a:cubicBezTo>
                <a:cubicBezTo>
                  <a:pt x="953" y="222"/>
                  <a:pt x="952" y="222"/>
                  <a:pt x="951" y="222"/>
                </a:cubicBezTo>
                <a:cubicBezTo>
                  <a:pt x="951" y="223"/>
                  <a:pt x="950" y="223"/>
                  <a:pt x="950" y="223"/>
                </a:cubicBezTo>
                <a:cubicBezTo>
                  <a:pt x="949" y="224"/>
                  <a:pt x="949" y="224"/>
                  <a:pt x="949" y="224"/>
                </a:cubicBezTo>
                <a:cubicBezTo>
                  <a:pt x="949" y="224"/>
                  <a:pt x="949" y="224"/>
                  <a:pt x="949" y="224"/>
                </a:cubicBezTo>
                <a:cubicBezTo>
                  <a:pt x="949" y="224"/>
                  <a:pt x="949" y="224"/>
                  <a:pt x="949" y="224"/>
                </a:cubicBezTo>
                <a:cubicBezTo>
                  <a:pt x="948" y="224"/>
                  <a:pt x="948" y="224"/>
                  <a:pt x="948" y="224"/>
                </a:cubicBezTo>
                <a:cubicBezTo>
                  <a:pt x="948" y="224"/>
                  <a:pt x="947" y="225"/>
                  <a:pt x="947" y="225"/>
                </a:cubicBezTo>
                <a:cubicBezTo>
                  <a:pt x="946" y="225"/>
                  <a:pt x="946" y="226"/>
                  <a:pt x="945" y="226"/>
                </a:cubicBezTo>
                <a:cubicBezTo>
                  <a:pt x="945" y="227"/>
                  <a:pt x="945" y="227"/>
                  <a:pt x="945" y="227"/>
                </a:cubicBezTo>
                <a:cubicBezTo>
                  <a:pt x="944" y="227"/>
                  <a:pt x="944" y="227"/>
                  <a:pt x="943" y="228"/>
                </a:cubicBezTo>
                <a:cubicBezTo>
                  <a:pt x="943" y="228"/>
                  <a:pt x="943" y="228"/>
                  <a:pt x="942" y="229"/>
                </a:cubicBezTo>
                <a:cubicBezTo>
                  <a:pt x="942" y="229"/>
                  <a:pt x="941" y="230"/>
                  <a:pt x="941" y="230"/>
                </a:cubicBezTo>
                <a:cubicBezTo>
                  <a:pt x="941" y="230"/>
                  <a:pt x="941" y="230"/>
                  <a:pt x="941" y="230"/>
                </a:cubicBezTo>
                <a:cubicBezTo>
                  <a:pt x="940" y="231"/>
                  <a:pt x="939" y="232"/>
                  <a:pt x="938" y="232"/>
                </a:cubicBezTo>
                <a:cubicBezTo>
                  <a:pt x="938" y="233"/>
                  <a:pt x="937" y="233"/>
                  <a:pt x="937" y="234"/>
                </a:cubicBezTo>
                <a:cubicBezTo>
                  <a:pt x="935" y="235"/>
                  <a:pt x="934" y="236"/>
                  <a:pt x="933" y="237"/>
                </a:cubicBezTo>
                <a:cubicBezTo>
                  <a:pt x="933" y="238"/>
                  <a:pt x="933" y="238"/>
                  <a:pt x="933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1" y="239"/>
                  <a:pt x="931" y="239"/>
                  <a:pt x="931" y="239"/>
                </a:cubicBezTo>
                <a:cubicBezTo>
                  <a:pt x="931" y="239"/>
                  <a:pt x="931" y="239"/>
                  <a:pt x="931" y="239"/>
                </a:cubicBezTo>
                <a:cubicBezTo>
                  <a:pt x="931" y="239"/>
                  <a:pt x="931" y="239"/>
                  <a:pt x="931" y="239"/>
                </a:cubicBezTo>
                <a:cubicBezTo>
                  <a:pt x="931" y="239"/>
                  <a:pt x="931" y="239"/>
                  <a:pt x="931" y="239"/>
                </a:cubicBezTo>
                <a:cubicBezTo>
                  <a:pt x="931" y="239"/>
                  <a:pt x="931" y="239"/>
                  <a:pt x="931" y="239"/>
                </a:cubicBezTo>
                <a:cubicBezTo>
                  <a:pt x="931" y="239"/>
                  <a:pt x="931" y="239"/>
                  <a:pt x="931" y="239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17" y="407"/>
                  <a:pt x="917" y="407"/>
                  <a:pt x="917" y="407"/>
                </a:cubicBezTo>
                <a:cubicBezTo>
                  <a:pt x="726" y="411"/>
                  <a:pt x="726" y="411"/>
                  <a:pt x="726" y="411"/>
                </a:cubicBezTo>
                <a:cubicBezTo>
                  <a:pt x="723" y="411"/>
                  <a:pt x="701" y="412"/>
                  <a:pt x="670" y="412"/>
                </a:cubicBezTo>
                <a:cubicBezTo>
                  <a:pt x="638" y="412"/>
                  <a:pt x="596" y="412"/>
                  <a:pt x="552" y="413"/>
                </a:cubicBezTo>
                <a:cubicBezTo>
                  <a:pt x="507" y="413"/>
                  <a:pt x="460" y="413"/>
                  <a:pt x="417" y="414"/>
                </a:cubicBezTo>
                <a:cubicBezTo>
                  <a:pt x="375" y="414"/>
                  <a:pt x="336" y="415"/>
                  <a:pt x="310" y="415"/>
                </a:cubicBezTo>
                <a:cubicBezTo>
                  <a:pt x="309" y="415"/>
                  <a:pt x="308" y="415"/>
                  <a:pt x="307" y="415"/>
                </a:cubicBezTo>
                <a:cubicBezTo>
                  <a:pt x="305" y="415"/>
                  <a:pt x="304" y="415"/>
                  <a:pt x="303" y="415"/>
                </a:cubicBezTo>
                <a:cubicBezTo>
                  <a:pt x="302" y="415"/>
                  <a:pt x="301" y="415"/>
                  <a:pt x="300" y="415"/>
                </a:cubicBezTo>
                <a:cubicBezTo>
                  <a:pt x="299" y="415"/>
                  <a:pt x="297" y="415"/>
                  <a:pt x="296" y="415"/>
                </a:cubicBezTo>
                <a:cubicBezTo>
                  <a:pt x="294" y="415"/>
                  <a:pt x="291" y="415"/>
                  <a:pt x="289" y="415"/>
                </a:cubicBezTo>
                <a:cubicBezTo>
                  <a:pt x="288" y="415"/>
                  <a:pt x="288" y="415"/>
                  <a:pt x="288" y="415"/>
                </a:cubicBezTo>
                <a:cubicBezTo>
                  <a:pt x="285" y="415"/>
                  <a:pt x="283" y="415"/>
                  <a:pt x="281" y="415"/>
                </a:cubicBezTo>
                <a:cubicBezTo>
                  <a:pt x="281" y="415"/>
                  <a:pt x="280" y="415"/>
                  <a:pt x="279" y="415"/>
                </a:cubicBezTo>
                <a:cubicBezTo>
                  <a:pt x="278" y="415"/>
                  <a:pt x="276" y="415"/>
                  <a:pt x="275" y="415"/>
                </a:cubicBezTo>
                <a:cubicBezTo>
                  <a:pt x="274" y="415"/>
                  <a:pt x="273" y="415"/>
                  <a:pt x="273" y="415"/>
                </a:cubicBezTo>
                <a:cubicBezTo>
                  <a:pt x="271" y="415"/>
                  <a:pt x="268" y="415"/>
                  <a:pt x="266" y="415"/>
                </a:cubicBezTo>
                <a:cubicBezTo>
                  <a:pt x="266" y="415"/>
                  <a:pt x="266" y="415"/>
                  <a:pt x="266" y="415"/>
                </a:cubicBezTo>
                <a:cubicBezTo>
                  <a:pt x="264" y="415"/>
                  <a:pt x="262" y="415"/>
                  <a:pt x="261" y="415"/>
                </a:cubicBezTo>
                <a:cubicBezTo>
                  <a:pt x="260" y="415"/>
                  <a:pt x="260" y="415"/>
                  <a:pt x="259" y="415"/>
                </a:cubicBezTo>
                <a:cubicBezTo>
                  <a:pt x="257" y="415"/>
                  <a:pt x="256" y="414"/>
                  <a:pt x="254" y="414"/>
                </a:cubicBezTo>
                <a:cubicBezTo>
                  <a:pt x="254" y="414"/>
                  <a:pt x="254" y="414"/>
                  <a:pt x="254" y="414"/>
                </a:cubicBezTo>
                <a:cubicBezTo>
                  <a:pt x="252" y="414"/>
                  <a:pt x="251" y="414"/>
                  <a:pt x="249" y="414"/>
                </a:cubicBezTo>
                <a:cubicBezTo>
                  <a:pt x="248" y="414"/>
                  <a:pt x="248" y="414"/>
                  <a:pt x="248" y="414"/>
                </a:cubicBezTo>
                <a:cubicBezTo>
                  <a:pt x="247" y="414"/>
                  <a:pt x="245" y="414"/>
                  <a:pt x="244" y="414"/>
                </a:cubicBezTo>
                <a:cubicBezTo>
                  <a:pt x="242" y="414"/>
                  <a:pt x="241" y="413"/>
                  <a:pt x="239" y="413"/>
                </a:cubicBezTo>
                <a:cubicBezTo>
                  <a:pt x="239" y="413"/>
                  <a:pt x="239" y="413"/>
                  <a:pt x="239" y="413"/>
                </a:cubicBezTo>
                <a:cubicBezTo>
                  <a:pt x="238" y="413"/>
                  <a:pt x="236" y="413"/>
                  <a:pt x="235" y="413"/>
                </a:cubicBezTo>
                <a:cubicBezTo>
                  <a:pt x="235" y="413"/>
                  <a:pt x="235" y="413"/>
                  <a:pt x="235" y="413"/>
                </a:cubicBezTo>
                <a:cubicBezTo>
                  <a:pt x="232" y="412"/>
                  <a:pt x="230" y="412"/>
                  <a:pt x="228" y="412"/>
                </a:cubicBezTo>
                <a:cubicBezTo>
                  <a:pt x="227" y="412"/>
                  <a:pt x="227" y="412"/>
                  <a:pt x="227" y="412"/>
                </a:cubicBezTo>
                <a:cubicBezTo>
                  <a:pt x="226" y="412"/>
                  <a:pt x="225" y="411"/>
                  <a:pt x="224" y="411"/>
                </a:cubicBezTo>
                <a:cubicBezTo>
                  <a:pt x="224" y="411"/>
                  <a:pt x="224" y="411"/>
                  <a:pt x="224" y="411"/>
                </a:cubicBezTo>
                <a:cubicBezTo>
                  <a:pt x="224" y="411"/>
                  <a:pt x="223" y="411"/>
                  <a:pt x="223" y="411"/>
                </a:cubicBezTo>
                <a:cubicBezTo>
                  <a:pt x="224" y="358"/>
                  <a:pt x="224" y="305"/>
                  <a:pt x="225" y="252"/>
                </a:cubicBezTo>
                <a:cubicBezTo>
                  <a:pt x="225" y="251"/>
                  <a:pt x="225" y="250"/>
                  <a:pt x="225" y="249"/>
                </a:cubicBezTo>
                <a:cubicBezTo>
                  <a:pt x="225" y="248"/>
                  <a:pt x="225" y="248"/>
                  <a:pt x="225" y="247"/>
                </a:cubicBezTo>
                <a:cubicBezTo>
                  <a:pt x="225" y="246"/>
                  <a:pt x="224" y="246"/>
                  <a:pt x="224" y="245"/>
                </a:cubicBezTo>
                <a:cubicBezTo>
                  <a:pt x="224" y="245"/>
                  <a:pt x="224" y="245"/>
                  <a:pt x="224" y="245"/>
                </a:cubicBezTo>
                <a:cubicBezTo>
                  <a:pt x="224" y="244"/>
                  <a:pt x="224" y="244"/>
                  <a:pt x="224" y="244"/>
                </a:cubicBezTo>
                <a:cubicBezTo>
                  <a:pt x="223" y="243"/>
                  <a:pt x="223" y="242"/>
                  <a:pt x="223" y="242"/>
                </a:cubicBezTo>
                <a:cubicBezTo>
                  <a:pt x="223" y="241"/>
                  <a:pt x="222" y="241"/>
                  <a:pt x="222" y="240"/>
                </a:cubicBezTo>
                <a:cubicBezTo>
                  <a:pt x="222" y="240"/>
                  <a:pt x="221" y="240"/>
                  <a:pt x="221" y="239"/>
                </a:cubicBezTo>
                <a:cubicBezTo>
                  <a:pt x="221" y="239"/>
                  <a:pt x="221" y="239"/>
                  <a:pt x="221" y="239"/>
                </a:cubicBezTo>
                <a:cubicBezTo>
                  <a:pt x="221" y="239"/>
                  <a:pt x="221" y="239"/>
                  <a:pt x="221" y="239"/>
                </a:cubicBezTo>
                <a:cubicBezTo>
                  <a:pt x="220" y="238"/>
                  <a:pt x="220" y="238"/>
                  <a:pt x="220" y="238"/>
                </a:cubicBezTo>
                <a:cubicBezTo>
                  <a:pt x="220" y="237"/>
                  <a:pt x="219" y="237"/>
                  <a:pt x="219" y="236"/>
                </a:cubicBezTo>
                <a:cubicBezTo>
                  <a:pt x="218" y="236"/>
                  <a:pt x="218" y="236"/>
                  <a:pt x="218" y="236"/>
                </a:cubicBezTo>
                <a:cubicBezTo>
                  <a:pt x="220" y="107"/>
                  <a:pt x="220" y="107"/>
                  <a:pt x="220" y="107"/>
                </a:cubicBezTo>
                <a:cubicBezTo>
                  <a:pt x="190" y="0"/>
                  <a:pt x="190" y="0"/>
                  <a:pt x="190" y="0"/>
                </a:cubicBezTo>
                <a:cubicBezTo>
                  <a:pt x="188" y="178"/>
                  <a:pt x="188" y="178"/>
                  <a:pt x="188" y="178"/>
                </a:cubicBezTo>
                <a:cubicBezTo>
                  <a:pt x="201" y="227"/>
                  <a:pt x="201" y="227"/>
                  <a:pt x="201" y="227"/>
                </a:cubicBezTo>
                <a:cubicBezTo>
                  <a:pt x="201" y="227"/>
                  <a:pt x="201" y="227"/>
                  <a:pt x="201" y="227"/>
                </a:cubicBezTo>
                <a:cubicBezTo>
                  <a:pt x="200" y="227"/>
                  <a:pt x="200" y="227"/>
                  <a:pt x="200" y="227"/>
                </a:cubicBezTo>
                <a:cubicBezTo>
                  <a:pt x="199" y="227"/>
                  <a:pt x="199" y="227"/>
                  <a:pt x="199" y="227"/>
                </a:cubicBezTo>
                <a:cubicBezTo>
                  <a:pt x="199" y="227"/>
                  <a:pt x="199" y="227"/>
                  <a:pt x="199" y="227"/>
                </a:cubicBezTo>
                <a:cubicBezTo>
                  <a:pt x="199" y="227"/>
                  <a:pt x="199" y="227"/>
                  <a:pt x="199" y="227"/>
                </a:cubicBezTo>
                <a:cubicBezTo>
                  <a:pt x="199" y="227"/>
                  <a:pt x="199" y="227"/>
                  <a:pt x="199" y="227"/>
                </a:cubicBezTo>
                <a:cubicBezTo>
                  <a:pt x="198" y="227"/>
                  <a:pt x="198" y="227"/>
                  <a:pt x="198" y="227"/>
                </a:cubicBezTo>
                <a:cubicBezTo>
                  <a:pt x="197" y="227"/>
                  <a:pt x="197" y="227"/>
                  <a:pt x="197" y="227"/>
                </a:cubicBezTo>
                <a:cubicBezTo>
                  <a:pt x="197" y="226"/>
                  <a:pt x="197" y="226"/>
                  <a:pt x="197" y="226"/>
                </a:cubicBezTo>
                <a:cubicBezTo>
                  <a:pt x="196" y="226"/>
                  <a:pt x="196" y="226"/>
                  <a:pt x="196" y="226"/>
                </a:cubicBezTo>
                <a:cubicBezTo>
                  <a:pt x="195" y="226"/>
                  <a:pt x="195" y="226"/>
                  <a:pt x="195" y="226"/>
                </a:cubicBezTo>
                <a:cubicBezTo>
                  <a:pt x="195" y="226"/>
                  <a:pt x="195" y="226"/>
                  <a:pt x="195" y="226"/>
                </a:cubicBezTo>
                <a:cubicBezTo>
                  <a:pt x="195" y="226"/>
                  <a:pt x="195" y="226"/>
                  <a:pt x="195" y="226"/>
                </a:cubicBezTo>
                <a:cubicBezTo>
                  <a:pt x="195" y="226"/>
                  <a:pt x="195" y="226"/>
                  <a:pt x="195" y="226"/>
                </a:cubicBezTo>
                <a:cubicBezTo>
                  <a:pt x="195" y="226"/>
                  <a:pt x="195" y="226"/>
                  <a:pt x="195" y="226"/>
                </a:cubicBezTo>
                <a:cubicBezTo>
                  <a:pt x="194" y="226"/>
                  <a:pt x="194" y="226"/>
                  <a:pt x="194" y="226"/>
                </a:cubicBezTo>
                <a:cubicBezTo>
                  <a:pt x="193" y="226"/>
                  <a:pt x="193" y="226"/>
                  <a:pt x="193" y="226"/>
                </a:cubicBezTo>
                <a:cubicBezTo>
                  <a:pt x="192" y="226"/>
                  <a:pt x="192" y="226"/>
                  <a:pt x="192" y="226"/>
                </a:cubicBezTo>
                <a:cubicBezTo>
                  <a:pt x="192" y="226"/>
                  <a:pt x="192" y="226"/>
                  <a:pt x="192" y="226"/>
                </a:cubicBezTo>
                <a:cubicBezTo>
                  <a:pt x="191" y="226"/>
                  <a:pt x="191" y="226"/>
                  <a:pt x="191" y="226"/>
                </a:cubicBezTo>
                <a:cubicBezTo>
                  <a:pt x="190" y="225"/>
                  <a:pt x="190" y="225"/>
                  <a:pt x="190" y="225"/>
                </a:cubicBezTo>
                <a:cubicBezTo>
                  <a:pt x="189" y="225"/>
                  <a:pt x="189" y="225"/>
                  <a:pt x="189" y="225"/>
                </a:cubicBezTo>
                <a:cubicBezTo>
                  <a:pt x="189" y="225"/>
                  <a:pt x="189" y="225"/>
                  <a:pt x="189" y="225"/>
                </a:cubicBezTo>
                <a:cubicBezTo>
                  <a:pt x="188" y="225"/>
                  <a:pt x="188" y="225"/>
                  <a:pt x="188" y="225"/>
                </a:cubicBezTo>
                <a:cubicBezTo>
                  <a:pt x="187" y="225"/>
                  <a:pt x="187" y="225"/>
                  <a:pt x="187" y="225"/>
                </a:cubicBezTo>
                <a:cubicBezTo>
                  <a:pt x="186" y="225"/>
                  <a:pt x="186" y="225"/>
                  <a:pt x="186" y="225"/>
                </a:cubicBezTo>
                <a:cubicBezTo>
                  <a:pt x="186" y="225"/>
                  <a:pt x="186" y="225"/>
                  <a:pt x="186" y="225"/>
                </a:cubicBezTo>
                <a:cubicBezTo>
                  <a:pt x="186" y="225"/>
                  <a:pt x="186" y="225"/>
                  <a:pt x="186" y="225"/>
                </a:cubicBezTo>
                <a:cubicBezTo>
                  <a:pt x="185" y="225"/>
                  <a:pt x="185" y="225"/>
                  <a:pt x="185" y="225"/>
                </a:cubicBezTo>
                <a:cubicBezTo>
                  <a:pt x="184" y="225"/>
                  <a:pt x="184" y="225"/>
                  <a:pt x="184" y="225"/>
                </a:cubicBezTo>
                <a:cubicBezTo>
                  <a:pt x="183" y="225"/>
                  <a:pt x="183" y="225"/>
                  <a:pt x="183" y="225"/>
                </a:cubicBezTo>
                <a:cubicBezTo>
                  <a:pt x="183" y="225"/>
                  <a:pt x="183" y="225"/>
                  <a:pt x="183" y="225"/>
                </a:cubicBezTo>
                <a:cubicBezTo>
                  <a:pt x="182" y="225"/>
                  <a:pt x="182" y="225"/>
                  <a:pt x="182" y="225"/>
                </a:cubicBezTo>
                <a:cubicBezTo>
                  <a:pt x="181" y="225"/>
                  <a:pt x="181" y="225"/>
                  <a:pt x="181" y="225"/>
                </a:cubicBezTo>
                <a:cubicBezTo>
                  <a:pt x="180" y="225"/>
                  <a:pt x="180" y="225"/>
                  <a:pt x="180" y="225"/>
                </a:cubicBezTo>
                <a:cubicBezTo>
                  <a:pt x="179" y="225"/>
                  <a:pt x="179" y="225"/>
                  <a:pt x="179" y="225"/>
                </a:cubicBezTo>
                <a:cubicBezTo>
                  <a:pt x="178" y="225"/>
                  <a:pt x="178" y="225"/>
                  <a:pt x="178" y="225"/>
                </a:cubicBezTo>
                <a:cubicBezTo>
                  <a:pt x="177" y="225"/>
                  <a:pt x="177" y="225"/>
                  <a:pt x="177" y="225"/>
                </a:cubicBezTo>
                <a:cubicBezTo>
                  <a:pt x="177" y="225"/>
                  <a:pt x="177" y="225"/>
                  <a:pt x="177" y="225"/>
                </a:cubicBezTo>
                <a:cubicBezTo>
                  <a:pt x="176" y="225"/>
                  <a:pt x="176" y="225"/>
                  <a:pt x="176" y="225"/>
                </a:cubicBezTo>
                <a:cubicBezTo>
                  <a:pt x="176" y="225"/>
                  <a:pt x="176" y="225"/>
                  <a:pt x="176" y="225"/>
                </a:cubicBezTo>
                <a:cubicBezTo>
                  <a:pt x="175" y="225"/>
                  <a:pt x="175" y="225"/>
                  <a:pt x="175" y="225"/>
                </a:cubicBezTo>
                <a:cubicBezTo>
                  <a:pt x="175" y="225"/>
                  <a:pt x="175" y="225"/>
                  <a:pt x="175" y="225"/>
                </a:cubicBezTo>
                <a:cubicBezTo>
                  <a:pt x="174" y="225"/>
                  <a:pt x="174" y="225"/>
                  <a:pt x="174" y="225"/>
                </a:cubicBezTo>
                <a:cubicBezTo>
                  <a:pt x="174" y="225"/>
                  <a:pt x="174" y="225"/>
                  <a:pt x="173" y="225"/>
                </a:cubicBezTo>
                <a:cubicBezTo>
                  <a:pt x="173" y="225"/>
                  <a:pt x="172" y="225"/>
                  <a:pt x="172" y="225"/>
                </a:cubicBezTo>
                <a:cubicBezTo>
                  <a:pt x="172" y="225"/>
                  <a:pt x="171" y="225"/>
                  <a:pt x="171" y="225"/>
                </a:cubicBezTo>
                <a:cubicBezTo>
                  <a:pt x="170" y="225"/>
                  <a:pt x="170" y="225"/>
                  <a:pt x="170" y="225"/>
                </a:cubicBezTo>
                <a:cubicBezTo>
                  <a:pt x="169" y="225"/>
                  <a:pt x="169" y="225"/>
                  <a:pt x="168" y="225"/>
                </a:cubicBezTo>
                <a:cubicBezTo>
                  <a:pt x="168" y="225"/>
                  <a:pt x="167" y="225"/>
                  <a:pt x="167" y="225"/>
                </a:cubicBezTo>
                <a:cubicBezTo>
                  <a:pt x="167" y="225"/>
                  <a:pt x="167" y="225"/>
                  <a:pt x="167" y="225"/>
                </a:cubicBezTo>
                <a:cubicBezTo>
                  <a:pt x="167" y="225"/>
                  <a:pt x="167" y="225"/>
                  <a:pt x="167" y="225"/>
                </a:cubicBezTo>
                <a:cubicBezTo>
                  <a:pt x="166" y="225"/>
                  <a:pt x="166" y="225"/>
                  <a:pt x="165" y="225"/>
                </a:cubicBezTo>
                <a:cubicBezTo>
                  <a:pt x="165" y="225"/>
                  <a:pt x="164" y="225"/>
                  <a:pt x="164" y="225"/>
                </a:cubicBezTo>
                <a:cubicBezTo>
                  <a:pt x="163" y="225"/>
                  <a:pt x="163" y="225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1" y="226"/>
                  <a:pt x="161" y="226"/>
                  <a:pt x="161" y="226"/>
                </a:cubicBezTo>
                <a:cubicBezTo>
                  <a:pt x="160" y="226"/>
                  <a:pt x="159" y="226"/>
                  <a:pt x="159" y="226"/>
                </a:cubicBezTo>
                <a:cubicBezTo>
                  <a:pt x="158" y="226"/>
                  <a:pt x="158" y="226"/>
                  <a:pt x="157" y="226"/>
                </a:cubicBezTo>
                <a:cubicBezTo>
                  <a:pt x="155" y="226"/>
                  <a:pt x="153" y="227"/>
                  <a:pt x="151" y="227"/>
                </a:cubicBezTo>
                <a:cubicBezTo>
                  <a:pt x="150" y="227"/>
                  <a:pt x="148" y="227"/>
                  <a:pt x="147" y="227"/>
                </a:cubicBezTo>
                <a:cubicBezTo>
                  <a:pt x="144" y="228"/>
                  <a:pt x="142" y="228"/>
                  <a:pt x="139" y="229"/>
                </a:cubicBezTo>
                <a:cubicBezTo>
                  <a:pt x="138" y="229"/>
                  <a:pt x="138" y="229"/>
                  <a:pt x="137" y="229"/>
                </a:cubicBezTo>
                <a:cubicBezTo>
                  <a:pt x="134" y="229"/>
                  <a:pt x="131" y="229"/>
                  <a:pt x="128" y="229"/>
                </a:cubicBezTo>
                <a:cubicBezTo>
                  <a:pt x="128" y="229"/>
                  <a:pt x="128" y="229"/>
                  <a:pt x="128" y="229"/>
                </a:cubicBezTo>
                <a:cubicBezTo>
                  <a:pt x="125" y="230"/>
                  <a:pt x="121" y="230"/>
                  <a:pt x="118" y="230"/>
                </a:cubicBezTo>
                <a:cubicBezTo>
                  <a:pt x="115" y="230"/>
                  <a:pt x="112" y="230"/>
                  <a:pt x="110" y="230"/>
                </a:cubicBezTo>
                <a:cubicBezTo>
                  <a:pt x="109" y="230"/>
                  <a:pt x="109" y="230"/>
                  <a:pt x="109" y="230"/>
                </a:cubicBezTo>
                <a:cubicBezTo>
                  <a:pt x="107" y="230"/>
                  <a:pt x="104" y="229"/>
                  <a:pt x="101" y="229"/>
                </a:cubicBezTo>
                <a:cubicBezTo>
                  <a:pt x="101" y="229"/>
                  <a:pt x="101" y="229"/>
                  <a:pt x="101" y="229"/>
                </a:cubicBezTo>
                <a:cubicBezTo>
                  <a:pt x="98" y="229"/>
                  <a:pt x="94" y="228"/>
                  <a:pt x="91" y="228"/>
                </a:cubicBezTo>
                <a:cubicBezTo>
                  <a:pt x="91" y="228"/>
                  <a:pt x="91" y="228"/>
                  <a:pt x="91" y="228"/>
                </a:cubicBezTo>
                <a:cubicBezTo>
                  <a:pt x="88" y="227"/>
                  <a:pt x="85" y="227"/>
                  <a:pt x="81" y="226"/>
                </a:cubicBezTo>
                <a:cubicBezTo>
                  <a:pt x="81" y="226"/>
                  <a:pt x="81" y="226"/>
                  <a:pt x="81" y="226"/>
                </a:cubicBezTo>
                <a:cubicBezTo>
                  <a:pt x="79" y="226"/>
                  <a:pt x="78" y="225"/>
                  <a:pt x="76" y="225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74" y="224"/>
                  <a:pt x="72" y="224"/>
                  <a:pt x="71" y="223"/>
                </a:cubicBezTo>
                <a:cubicBezTo>
                  <a:pt x="70" y="223"/>
                  <a:pt x="70" y="223"/>
                  <a:pt x="70" y="223"/>
                </a:cubicBezTo>
                <a:cubicBezTo>
                  <a:pt x="67" y="222"/>
                  <a:pt x="63" y="221"/>
                  <a:pt x="59" y="220"/>
                </a:cubicBezTo>
                <a:cubicBezTo>
                  <a:pt x="59" y="220"/>
                  <a:pt x="59" y="220"/>
                  <a:pt x="59" y="220"/>
                </a:cubicBezTo>
                <a:cubicBezTo>
                  <a:pt x="57" y="219"/>
                  <a:pt x="55" y="219"/>
                  <a:pt x="53" y="218"/>
                </a:cubicBezTo>
                <a:cubicBezTo>
                  <a:pt x="52" y="218"/>
                  <a:pt x="52" y="218"/>
                  <a:pt x="52" y="218"/>
                </a:cubicBezTo>
                <a:cubicBezTo>
                  <a:pt x="50" y="217"/>
                  <a:pt x="48" y="216"/>
                  <a:pt x="47" y="216"/>
                </a:cubicBezTo>
                <a:cubicBezTo>
                  <a:pt x="46" y="216"/>
                  <a:pt x="46" y="216"/>
                  <a:pt x="46" y="216"/>
                </a:cubicBezTo>
                <a:cubicBezTo>
                  <a:pt x="44" y="215"/>
                  <a:pt x="43" y="214"/>
                  <a:pt x="41" y="213"/>
                </a:cubicBezTo>
                <a:cubicBezTo>
                  <a:pt x="40" y="213"/>
                  <a:pt x="40" y="213"/>
                  <a:pt x="39" y="213"/>
                </a:cubicBezTo>
                <a:cubicBezTo>
                  <a:pt x="37" y="212"/>
                  <a:pt x="35" y="211"/>
                  <a:pt x="33" y="210"/>
                </a:cubicBezTo>
                <a:cubicBezTo>
                  <a:pt x="32" y="210"/>
                  <a:pt x="31" y="209"/>
                  <a:pt x="30" y="209"/>
                </a:cubicBezTo>
                <a:cubicBezTo>
                  <a:pt x="29" y="209"/>
                  <a:pt x="28" y="208"/>
                  <a:pt x="28" y="208"/>
                </a:cubicBezTo>
                <a:cubicBezTo>
                  <a:pt x="27" y="208"/>
                  <a:pt x="26" y="207"/>
                  <a:pt x="26" y="207"/>
                </a:cubicBezTo>
                <a:cubicBezTo>
                  <a:pt x="25" y="207"/>
                  <a:pt x="25" y="206"/>
                  <a:pt x="24" y="206"/>
                </a:cubicBezTo>
                <a:cubicBezTo>
                  <a:pt x="23" y="206"/>
                  <a:pt x="23" y="205"/>
                  <a:pt x="22" y="205"/>
                </a:cubicBezTo>
                <a:cubicBezTo>
                  <a:pt x="22" y="205"/>
                  <a:pt x="21" y="204"/>
                  <a:pt x="21" y="204"/>
                </a:cubicBezTo>
                <a:cubicBezTo>
                  <a:pt x="20" y="204"/>
                  <a:pt x="19" y="203"/>
                  <a:pt x="19" y="203"/>
                </a:cubicBezTo>
                <a:cubicBezTo>
                  <a:pt x="18" y="203"/>
                  <a:pt x="18" y="202"/>
                  <a:pt x="17" y="202"/>
                </a:cubicBezTo>
                <a:cubicBezTo>
                  <a:pt x="17" y="202"/>
                  <a:pt x="16" y="201"/>
                  <a:pt x="16" y="201"/>
                </a:cubicBezTo>
                <a:cubicBezTo>
                  <a:pt x="15" y="201"/>
                  <a:pt x="15" y="200"/>
                  <a:pt x="15" y="200"/>
                </a:cubicBezTo>
                <a:cubicBezTo>
                  <a:pt x="14" y="200"/>
                  <a:pt x="14" y="199"/>
                  <a:pt x="13" y="199"/>
                </a:cubicBezTo>
                <a:cubicBezTo>
                  <a:pt x="13" y="198"/>
                  <a:pt x="12" y="198"/>
                  <a:pt x="12" y="198"/>
                </a:cubicBezTo>
                <a:cubicBezTo>
                  <a:pt x="12" y="197"/>
                  <a:pt x="11" y="197"/>
                  <a:pt x="11" y="197"/>
                </a:cubicBezTo>
                <a:cubicBezTo>
                  <a:pt x="10" y="196"/>
                  <a:pt x="10" y="196"/>
                  <a:pt x="10" y="196"/>
                </a:cubicBezTo>
                <a:cubicBezTo>
                  <a:pt x="9" y="195"/>
                  <a:pt x="9" y="195"/>
                  <a:pt x="9" y="194"/>
                </a:cubicBezTo>
                <a:cubicBezTo>
                  <a:pt x="8" y="193"/>
                  <a:pt x="8" y="193"/>
                  <a:pt x="8" y="193"/>
                </a:cubicBezTo>
                <a:cubicBezTo>
                  <a:pt x="7" y="193"/>
                  <a:pt x="7" y="193"/>
                  <a:pt x="7" y="192"/>
                </a:cubicBezTo>
                <a:cubicBezTo>
                  <a:pt x="6" y="191"/>
                  <a:pt x="6" y="191"/>
                  <a:pt x="6" y="191"/>
                </a:cubicBezTo>
                <a:cubicBezTo>
                  <a:pt x="6" y="191"/>
                  <a:pt x="5" y="190"/>
                  <a:pt x="5" y="190"/>
                </a:cubicBezTo>
                <a:cubicBezTo>
                  <a:pt x="4" y="189"/>
                  <a:pt x="4" y="189"/>
                  <a:pt x="4" y="189"/>
                </a:cubicBezTo>
                <a:cubicBezTo>
                  <a:pt x="4" y="189"/>
                  <a:pt x="4" y="188"/>
                  <a:pt x="4" y="188"/>
                </a:cubicBezTo>
                <a:cubicBezTo>
                  <a:pt x="3" y="187"/>
                  <a:pt x="3" y="187"/>
                  <a:pt x="3" y="187"/>
                </a:cubicBezTo>
                <a:cubicBezTo>
                  <a:pt x="3" y="186"/>
                  <a:pt x="3" y="186"/>
                  <a:pt x="3" y="185"/>
                </a:cubicBezTo>
                <a:cubicBezTo>
                  <a:pt x="2" y="184"/>
                  <a:pt x="2" y="184"/>
                  <a:pt x="2" y="184"/>
                </a:cubicBezTo>
                <a:cubicBezTo>
                  <a:pt x="2" y="184"/>
                  <a:pt x="2" y="184"/>
                  <a:pt x="2" y="184"/>
                </a:cubicBezTo>
                <a:cubicBezTo>
                  <a:pt x="2" y="183"/>
                  <a:pt x="1" y="181"/>
                  <a:pt x="1" y="180"/>
                </a:cubicBezTo>
                <a:cubicBezTo>
                  <a:pt x="1" y="180"/>
                  <a:pt x="1" y="180"/>
                  <a:pt x="1" y="180"/>
                </a:cubicBezTo>
                <a:cubicBezTo>
                  <a:pt x="1" y="178"/>
                  <a:pt x="0" y="177"/>
                  <a:pt x="0" y="175"/>
                </a:cubicBezTo>
                <a:cubicBezTo>
                  <a:pt x="1" y="239"/>
                  <a:pt x="1" y="302"/>
                  <a:pt x="2" y="365"/>
                </a:cubicBezTo>
                <a:cubicBezTo>
                  <a:pt x="2" y="367"/>
                  <a:pt x="2" y="368"/>
                  <a:pt x="2" y="370"/>
                </a:cubicBezTo>
                <a:cubicBezTo>
                  <a:pt x="2" y="370"/>
                  <a:pt x="2" y="370"/>
                  <a:pt x="2" y="370"/>
                </a:cubicBezTo>
                <a:cubicBezTo>
                  <a:pt x="3" y="372"/>
                  <a:pt x="3" y="373"/>
                  <a:pt x="4" y="375"/>
                </a:cubicBezTo>
                <a:cubicBezTo>
                  <a:pt x="4" y="375"/>
                  <a:pt x="4" y="375"/>
                  <a:pt x="4" y="375"/>
                </a:cubicBezTo>
                <a:cubicBezTo>
                  <a:pt x="4" y="375"/>
                  <a:pt x="4" y="375"/>
                  <a:pt x="4" y="375"/>
                </a:cubicBezTo>
                <a:cubicBezTo>
                  <a:pt x="4" y="375"/>
                  <a:pt x="4" y="375"/>
                  <a:pt x="4" y="375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7"/>
                  <a:pt x="4" y="377"/>
                  <a:pt x="5" y="378"/>
                </a:cubicBezTo>
                <a:cubicBezTo>
                  <a:pt x="5" y="378"/>
                  <a:pt x="5" y="378"/>
                  <a:pt x="5" y="379"/>
                </a:cubicBezTo>
                <a:cubicBezTo>
                  <a:pt x="5" y="379"/>
                  <a:pt x="6" y="380"/>
                  <a:pt x="6" y="380"/>
                </a:cubicBezTo>
                <a:cubicBezTo>
                  <a:pt x="6" y="380"/>
                  <a:pt x="6" y="381"/>
                  <a:pt x="7" y="381"/>
                </a:cubicBezTo>
                <a:cubicBezTo>
                  <a:pt x="7" y="382"/>
                  <a:pt x="7" y="382"/>
                  <a:pt x="7" y="383"/>
                </a:cubicBezTo>
                <a:cubicBezTo>
                  <a:pt x="8" y="384"/>
                  <a:pt x="8" y="384"/>
                  <a:pt x="8" y="384"/>
                </a:cubicBezTo>
                <a:cubicBezTo>
                  <a:pt x="9" y="385"/>
                  <a:pt x="9" y="385"/>
                  <a:pt x="9" y="385"/>
                </a:cubicBezTo>
                <a:cubicBezTo>
                  <a:pt x="9" y="385"/>
                  <a:pt x="9" y="385"/>
                  <a:pt x="9" y="385"/>
                </a:cubicBezTo>
                <a:cubicBezTo>
                  <a:pt x="9" y="385"/>
                  <a:pt x="9" y="385"/>
                  <a:pt x="9" y="385"/>
                </a:cubicBezTo>
                <a:cubicBezTo>
                  <a:pt x="10" y="386"/>
                  <a:pt x="10" y="386"/>
                  <a:pt x="10" y="386"/>
                </a:cubicBezTo>
                <a:cubicBezTo>
                  <a:pt x="10" y="386"/>
                  <a:pt x="11" y="387"/>
                  <a:pt x="11" y="387"/>
                </a:cubicBezTo>
                <a:cubicBezTo>
                  <a:pt x="12" y="388"/>
                  <a:pt x="12" y="388"/>
                  <a:pt x="12" y="388"/>
                </a:cubicBezTo>
                <a:cubicBezTo>
                  <a:pt x="12" y="389"/>
                  <a:pt x="13" y="389"/>
                  <a:pt x="13" y="390"/>
                </a:cubicBezTo>
                <a:cubicBezTo>
                  <a:pt x="14" y="390"/>
                  <a:pt x="14" y="390"/>
                  <a:pt x="14" y="391"/>
                </a:cubicBezTo>
                <a:cubicBezTo>
                  <a:pt x="15" y="391"/>
                  <a:pt x="15" y="391"/>
                  <a:pt x="16" y="392"/>
                </a:cubicBezTo>
                <a:cubicBezTo>
                  <a:pt x="16" y="392"/>
                  <a:pt x="17" y="392"/>
                  <a:pt x="17" y="393"/>
                </a:cubicBezTo>
                <a:cubicBezTo>
                  <a:pt x="18" y="394"/>
                  <a:pt x="18" y="394"/>
                  <a:pt x="18" y="394"/>
                </a:cubicBezTo>
                <a:cubicBezTo>
                  <a:pt x="19" y="394"/>
                  <a:pt x="19" y="394"/>
                  <a:pt x="19" y="394"/>
                </a:cubicBezTo>
                <a:cubicBezTo>
                  <a:pt x="19" y="394"/>
                  <a:pt x="19" y="394"/>
                  <a:pt x="19" y="394"/>
                </a:cubicBezTo>
                <a:cubicBezTo>
                  <a:pt x="20" y="395"/>
                  <a:pt x="20" y="395"/>
                  <a:pt x="20" y="395"/>
                </a:cubicBezTo>
                <a:cubicBezTo>
                  <a:pt x="21" y="395"/>
                  <a:pt x="21" y="396"/>
                  <a:pt x="22" y="396"/>
                </a:cubicBezTo>
                <a:cubicBezTo>
                  <a:pt x="22" y="397"/>
                  <a:pt x="23" y="397"/>
                  <a:pt x="23" y="397"/>
                </a:cubicBezTo>
                <a:cubicBezTo>
                  <a:pt x="24" y="398"/>
                  <a:pt x="24" y="398"/>
                  <a:pt x="25" y="398"/>
                </a:cubicBezTo>
                <a:cubicBezTo>
                  <a:pt x="26" y="399"/>
                  <a:pt x="26" y="399"/>
                  <a:pt x="27" y="399"/>
                </a:cubicBezTo>
                <a:cubicBezTo>
                  <a:pt x="27" y="400"/>
                  <a:pt x="28" y="400"/>
                  <a:pt x="29" y="400"/>
                </a:cubicBezTo>
                <a:cubicBezTo>
                  <a:pt x="29" y="401"/>
                  <a:pt x="30" y="401"/>
                  <a:pt x="31" y="401"/>
                </a:cubicBezTo>
                <a:cubicBezTo>
                  <a:pt x="32" y="402"/>
                  <a:pt x="32" y="402"/>
                  <a:pt x="32" y="402"/>
                </a:cubicBezTo>
                <a:cubicBezTo>
                  <a:pt x="32" y="402"/>
                  <a:pt x="32" y="402"/>
                  <a:pt x="32" y="402"/>
                </a:cubicBezTo>
                <a:cubicBezTo>
                  <a:pt x="33" y="402"/>
                  <a:pt x="33" y="402"/>
                  <a:pt x="33" y="402"/>
                </a:cubicBezTo>
                <a:cubicBezTo>
                  <a:pt x="33" y="403"/>
                  <a:pt x="33" y="403"/>
                  <a:pt x="33" y="403"/>
                </a:cubicBezTo>
                <a:cubicBezTo>
                  <a:pt x="34" y="403"/>
                  <a:pt x="34" y="403"/>
                  <a:pt x="34" y="403"/>
                </a:cubicBezTo>
                <a:cubicBezTo>
                  <a:pt x="35" y="404"/>
                  <a:pt x="37" y="404"/>
                  <a:pt x="38" y="405"/>
                </a:cubicBezTo>
                <a:cubicBezTo>
                  <a:pt x="39" y="405"/>
                  <a:pt x="39" y="405"/>
                  <a:pt x="40" y="406"/>
                </a:cubicBezTo>
                <a:cubicBezTo>
                  <a:pt x="40" y="406"/>
                  <a:pt x="41" y="406"/>
                  <a:pt x="41" y="406"/>
                </a:cubicBezTo>
                <a:cubicBezTo>
                  <a:pt x="42" y="406"/>
                  <a:pt x="42" y="407"/>
                  <a:pt x="43" y="407"/>
                </a:cubicBezTo>
                <a:cubicBezTo>
                  <a:pt x="44" y="407"/>
                  <a:pt x="46" y="408"/>
                  <a:pt x="47" y="409"/>
                </a:cubicBezTo>
                <a:cubicBezTo>
                  <a:pt x="47" y="409"/>
                  <a:pt x="47" y="409"/>
                  <a:pt x="47" y="409"/>
                </a:cubicBezTo>
                <a:cubicBezTo>
                  <a:pt x="47" y="409"/>
                  <a:pt x="47" y="409"/>
                  <a:pt x="47" y="409"/>
                </a:cubicBezTo>
                <a:cubicBezTo>
                  <a:pt x="49" y="409"/>
                  <a:pt x="50" y="410"/>
                  <a:pt x="51" y="410"/>
                </a:cubicBezTo>
                <a:cubicBezTo>
                  <a:pt x="52" y="410"/>
                  <a:pt x="52" y="411"/>
                  <a:pt x="53" y="411"/>
                </a:cubicBezTo>
                <a:cubicBezTo>
                  <a:pt x="53" y="411"/>
                  <a:pt x="53" y="411"/>
                  <a:pt x="54" y="411"/>
                </a:cubicBezTo>
                <a:cubicBezTo>
                  <a:pt x="55" y="412"/>
                  <a:pt x="55" y="412"/>
                  <a:pt x="55" y="412"/>
                </a:cubicBezTo>
                <a:cubicBezTo>
                  <a:pt x="56" y="412"/>
                  <a:pt x="57" y="413"/>
                  <a:pt x="58" y="413"/>
                </a:cubicBezTo>
                <a:cubicBezTo>
                  <a:pt x="59" y="413"/>
                  <a:pt x="59" y="413"/>
                  <a:pt x="59" y="413"/>
                </a:cubicBezTo>
                <a:cubicBezTo>
                  <a:pt x="59" y="413"/>
                  <a:pt x="59" y="413"/>
                  <a:pt x="59" y="413"/>
                </a:cubicBezTo>
                <a:cubicBezTo>
                  <a:pt x="60" y="414"/>
                  <a:pt x="60" y="414"/>
                  <a:pt x="60" y="414"/>
                </a:cubicBezTo>
                <a:cubicBezTo>
                  <a:pt x="61" y="414"/>
                  <a:pt x="61" y="414"/>
                  <a:pt x="62" y="414"/>
                </a:cubicBezTo>
                <a:cubicBezTo>
                  <a:pt x="63" y="415"/>
                  <a:pt x="64" y="415"/>
                  <a:pt x="65" y="415"/>
                </a:cubicBezTo>
                <a:cubicBezTo>
                  <a:pt x="65" y="415"/>
                  <a:pt x="65" y="415"/>
                  <a:pt x="65" y="415"/>
                </a:cubicBezTo>
                <a:cubicBezTo>
                  <a:pt x="65" y="415"/>
                  <a:pt x="65" y="415"/>
                  <a:pt x="65" y="415"/>
                </a:cubicBezTo>
                <a:cubicBezTo>
                  <a:pt x="66" y="416"/>
                  <a:pt x="67" y="416"/>
                  <a:pt x="68" y="416"/>
                </a:cubicBezTo>
                <a:cubicBezTo>
                  <a:pt x="68" y="416"/>
                  <a:pt x="69" y="417"/>
                  <a:pt x="70" y="417"/>
                </a:cubicBezTo>
                <a:cubicBezTo>
                  <a:pt x="70" y="417"/>
                  <a:pt x="70" y="417"/>
                  <a:pt x="70" y="417"/>
                </a:cubicBezTo>
                <a:cubicBezTo>
                  <a:pt x="71" y="417"/>
                  <a:pt x="71" y="417"/>
                  <a:pt x="71" y="417"/>
                </a:cubicBezTo>
                <a:cubicBezTo>
                  <a:pt x="71" y="417"/>
                  <a:pt x="72" y="417"/>
                  <a:pt x="72" y="418"/>
                </a:cubicBezTo>
                <a:cubicBezTo>
                  <a:pt x="73" y="418"/>
                  <a:pt x="74" y="418"/>
                  <a:pt x="75" y="418"/>
                </a:cubicBezTo>
                <a:cubicBezTo>
                  <a:pt x="76" y="418"/>
                  <a:pt x="76" y="418"/>
                  <a:pt x="76" y="418"/>
                </a:cubicBezTo>
                <a:cubicBezTo>
                  <a:pt x="76" y="419"/>
                  <a:pt x="76" y="419"/>
                  <a:pt x="76" y="419"/>
                </a:cubicBezTo>
                <a:cubicBezTo>
                  <a:pt x="77" y="419"/>
                  <a:pt x="77" y="419"/>
                  <a:pt x="77" y="419"/>
                </a:cubicBezTo>
                <a:cubicBezTo>
                  <a:pt x="77" y="419"/>
                  <a:pt x="78" y="419"/>
                  <a:pt x="79" y="419"/>
                </a:cubicBezTo>
                <a:cubicBezTo>
                  <a:pt x="79" y="419"/>
                  <a:pt x="80" y="420"/>
                  <a:pt x="81" y="420"/>
                </a:cubicBezTo>
                <a:cubicBezTo>
                  <a:pt x="81" y="420"/>
                  <a:pt x="81" y="420"/>
                  <a:pt x="81" y="420"/>
                </a:cubicBezTo>
                <a:cubicBezTo>
                  <a:pt x="81" y="420"/>
                  <a:pt x="81" y="420"/>
                  <a:pt x="81" y="420"/>
                </a:cubicBezTo>
                <a:cubicBezTo>
                  <a:pt x="81" y="420"/>
                  <a:pt x="81" y="420"/>
                  <a:pt x="81" y="420"/>
                </a:cubicBezTo>
                <a:cubicBezTo>
                  <a:pt x="82" y="420"/>
                  <a:pt x="82" y="420"/>
                  <a:pt x="82" y="420"/>
                </a:cubicBezTo>
                <a:cubicBezTo>
                  <a:pt x="83" y="420"/>
                  <a:pt x="84" y="420"/>
                  <a:pt x="84" y="420"/>
                </a:cubicBezTo>
                <a:cubicBezTo>
                  <a:pt x="85" y="421"/>
                  <a:pt x="85" y="421"/>
                  <a:pt x="86" y="421"/>
                </a:cubicBezTo>
                <a:cubicBezTo>
                  <a:pt x="86" y="421"/>
                  <a:pt x="87" y="421"/>
                  <a:pt x="87" y="421"/>
                </a:cubicBezTo>
                <a:cubicBezTo>
                  <a:pt x="88" y="421"/>
                  <a:pt x="88" y="421"/>
                  <a:pt x="89" y="421"/>
                </a:cubicBezTo>
                <a:cubicBezTo>
                  <a:pt x="89" y="422"/>
                  <a:pt x="90" y="422"/>
                  <a:pt x="90" y="422"/>
                </a:cubicBezTo>
                <a:cubicBezTo>
                  <a:pt x="91" y="422"/>
                  <a:pt x="91" y="422"/>
                  <a:pt x="91" y="422"/>
                </a:cubicBezTo>
                <a:cubicBezTo>
                  <a:pt x="91" y="422"/>
                  <a:pt x="91" y="422"/>
                  <a:pt x="91" y="422"/>
                </a:cubicBezTo>
                <a:cubicBezTo>
                  <a:pt x="92" y="422"/>
                  <a:pt x="92" y="422"/>
                  <a:pt x="92" y="422"/>
                </a:cubicBezTo>
                <a:cubicBezTo>
                  <a:pt x="92" y="422"/>
                  <a:pt x="93" y="422"/>
                  <a:pt x="93" y="422"/>
                </a:cubicBezTo>
                <a:cubicBezTo>
                  <a:pt x="94" y="422"/>
                  <a:pt x="94" y="422"/>
                  <a:pt x="95" y="422"/>
                </a:cubicBezTo>
                <a:cubicBezTo>
                  <a:pt x="95" y="422"/>
                  <a:pt x="95" y="423"/>
                  <a:pt x="96" y="423"/>
                </a:cubicBezTo>
                <a:cubicBezTo>
                  <a:pt x="96" y="423"/>
                  <a:pt x="97" y="423"/>
                  <a:pt x="97" y="423"/>
                </a:cubicBezTo>
                <a:cubicBezTo>
                  <a:pt x="98" y="423"/>
                  <a:pt x="98" y="423"/>
                  <a:pt x="98" y="423"/>
                </a:cubicBezTo>
                <a:cubicBezTo>
                  <a:pt x="99" y="423"/>
                  <a:pt x="99" y="423"/>
                  <a:pt x="100" y="423"/>
                </a:cubicBezTo>
                <a:cubicBezTo>
                  <a:pt x="100" y="423"/>
                  <a:pt x="100" y="423"/>
                  <a:pt x="100" y="423"/>
                </a:cubicBezTo>
                <a:cubicBezTo>
                  <a:pt x="100" y="423"/>
                  <a:pt x="100" y="423"/>
                  <a:pt x="100" y="423"/>
                </a:cubicBezTo>
                <a:cubicBezTo>
                  <a:pt x="100" y="423"/>
                  <a:pt x="100" y="423"/>
                  <a:pt x="100" y="423"/>
                </a:cubicBezTo>
                <a:cubicBezTo>
                  <a:pt x="101" y="423"/>
                  <a:pt x="101" y="423"/>
                  <a:pt x="101" y="423"/>
                </a:cubicBezTo>
                <a:cubicBezTo>
                  <a:pt x="101" y="423"/>
                  <a:pt x="102" y="423"/>
                  <a:pt x="102" y="423"/>
                </a:cubicBezTo>
                <a:cubicBezTo>
                  <a:pt x="103" y="423"/>
                  <a:pt x="103" y="423"/>
                  <a:pt x="103" y="423"/>
                </a:cubicBezTo>
                <a:cubicBezTo>
                  <a:pt x="104" y="424"/>
                  <a:pt x="104" y="424"/>
                  <a:pt x="105" y="424"/>
                </a:cubicBezTo>
                <a:cubicBezTo>
                  <a:pt x="105" y="424"/>
                  <a:pt x="105" y="424"/>
                  <a:pt x="106" y="424"/>
                </a:cubicBezTo>
                <a:cubicBezTo>
                  <a:pt x="106" y="424"/>
                  <a:pt x="107" y="424"/>
                  <a:pt x="107" y="424"/>
                </a:cubicBezTo>
                <a:cubicBezTo>
                  <a:pt x="107" y="424"/>
                  <a:pt x="108" y="424"/>
                  <a:pt x="108" y="424"/>
                </a:cubicBezTo>
                <a:cubicBezTo>
                  <a:pt x="109" y="424"/>
                  <a:pt x="109" y="424"/>
                  <a:pt x="109" y="424"/>
                </a:cubicBezTo>
                <a:cubicBezTo>
                  <a:pt x="109" y="424"/>
                  <a:pt x="109" y="424"/>
                  <a:pt x="109" y="424"/>
                </a:cubicBezTo>
                <a:cubicBezTo>
                  <a:pt x="109" y="424"/>
                  <a:pt x="109" y="424"/>
                  <a:pt x="109" y="424"/>
                </a:cubicBezTo>
                <a:cubicBezTo>
                  <a:pt x="110" y="424"/>
                  <a:pt x="110" y="424"/>
                  <a:pt x="111" y="424"/>
                </a:cubicBezTo>
                <a:cubicBezTo>
                  <a:pt x="111" y="424"/>
                  <a:pt x="111" y="424"/>
                  <a:pt x="112" y="424"/>
                </a:cubicBezTo>
                <a:cubicBezTo>
                  <a:pt x="112" y="424"/>
                  <a:pt x="113" y="424"/>
                  <a:pt x="113" y="424"/>
                </a:cubicBezTo>
                <a:cubicBezTo>
                  <a:pt x="113" y="424"/>
                  <a:pt x="114" y="424"/>
                  <a:pt x="114" y="424"/>
                </a:cubicBezTo>
                <a:cubicBezTo>
                  <a:pt x="115" y="424"/>
                  <a:pt x="115" y="424"/>
                  <a:pt x="115" y="424"/>
                </a:cubicBezTo>
                <a:cubicBezTo>
                  <a:pt x="116" y="424"/>
                  <a:pt x="116" y="424"/>
                  <a:pt x="116" y="424"/>
                </a:cubicBezTo>
                <a:cubicBezTo>
                  <a:pt x="116" y="424"/>
                  <a:pt x="116" y="424"/>
                  <a:pt x="116" y="424"/>
                </a:cubicBezTo>
                <a:cubicBezTo>
                  <a:pt x="117" y="424"/>
                  <a:pt x="117" y="424"/>
                  <a:pt x="117" y="424"/>
                </a:cubicBezTo>
                <a:cubicBezTo>
                  <a:pt x="118" y="424"/>
                  <a:pt x="118" y="424"/>
                  <a:pt x="118" y="424"/>
                </a:cubicBezTo>
                <a:cubicBezTo>
                  <a:pt x="118" y="424"/>
                  <a:pt x="118" y="424"/>
                  <a:pt x="118" y="424"/>
                </a:cubicBezTo>
                <a:cubicBezTo>
                  <a:pt x="119" y="424"/>
                  <a:pt x="119" y="424"/>
                  <a:pt x="119" y="424"/>
                </a:cubicBezTo>
                <a:cubicBezTo>
                  <a:pt x="119" y="424"/>
                  <a:pt x="119" y="424"/>
                  <a:pt x="119" y="424"/>
                </a:cubicBezTo>
                <a:cubicBezTo>
                  <a:pt x="120" y="424"/>
                  <a:pt x="120" y="424"/>
                  <a:pt x="121" y="424"/>
                </a:cubicBezTo>
                <a:cubicBezTo>
                  <a:pt x="121" y="424"/>
                  <a:pt x="122" y="424"/>
                  <a:pt x="122" y="424"/>
                </a:cubicBezTo>
                <a:cubicBezTo>
                  <a:pt x="123" y="424"/>
                  <a:pt x="123" y="424"/>
                  <a:pt x="124" y="424"/>
                </a:cubicBezTo>
                <a:cubicBezTo>
                  <a:pt x="124" y="424"/>
                  <a:pt x="125" y="424"/>
                  <a:pt x="125" y="424"/>
                </a:cubicBezTo>
                <a:cubicBezTo>
                  <a:pt x="126" y="424"/>
                  <a:pt x="126" y="424"/>
                  <a:pt x="127" y="424"/>
                </a:cubicBezTo>
                <a:cubicBezTo>
                  <a:pt x="128" y="424"/>
                  <a:pt x="128" y="424"/>
                  <a:pt x="129" y="424"/>
                </a:cubicBezTo>
                <a:cubicBezTo>
                  <a:pt x="129" y="424"/>
                  <a:pt x="130" y="423"/>
                  <a:pt x="131" y="423"/>
                </a:cubicBezTo>
                <a:cubicBezTo>
                  <a:pt x="131" y="423"/>
                  <a:pt x="132" y="423"/>
                  <a:pt x="132" y="423"/>
                </a:cubicBezTo>
                <a:cubicBezTo>
                  <a:pt x="134" y="423"/>
                  <a:pt x="135" y="423"/>
                  <a:pt x="136" y="423"/>
                </a:cubicBezTo>
                <a:cubicBezTo>
                  <a:pt x="137" y="423"/>
                  <a:pt x="137" y="423"/>
                  <a:pt x="137" y="423"/>
                </a:cubicBezTo>
                <a:cubicBezTo>
                  <a:pt x="138" y="423"/>
                  <a:pt x="138" y="423"/>
                  <a:pt x="138" y="423"/>
                </a:cubicBezTo>
                <a:cubicBezTo>
                  <a:pt x="138" y="423"/>
                  <a:pt x="138" y="423"/>
                  <a:pt x="138" y="423"/>
                </a:cubicBezTo>
                <a:cubicBezTo>
                  <a:pt x="140" y="422"/>
                  <a:pt x="142" y="422"/>
                  <a:pt x="144" y="422"/>
                </a:cubicBezTo>
                <a:cubicBezTo>
                  <a:pt x="145" y="422"/>
                  <a:pt x="145" y="422"/>
                  <a:pt x="146" y="422"/>
                </a:cubicBezTo>
                <a:cubicBezTo>
                  <a:pt x="146" y="421"/>
                  <a:pt x="146" y="421"/>
                  <a:pt x="146" y="421"/>
                </a:cubicBezTo>
                <a:cubicBezTo>
                  <a:pt x="150" y="421"/>
                  <a:pt x="153" y="421"/>
                  <a:pt x="156" y="420"/>
                </a:cubicBezTo>
                <a:cubicBezTo>
                  <a:pt x="157" y="420"/>
                  <a:pt x="159" y="420"/>
                  <a:pt x="160" y="420"/>
                </a:cubicBezTo>
                <a:cubicBezTo>
                  <a:pt x="161" y="420"/>
                  <a:pt x="161" y="420"/>
                  <a:pt x="161" y="420"/>
                </a:cubicBezTo>
                <a:cubicBezTo>
                  <a:pt x="162" y="419"/>
                  <a:pt x="164" y="419"/>
                  <a:pt x="165" y="419"/>
                </a:cubicBezTo>
                <a:cubicBezTo>
                  <a:pt x="165" y="419"/>
                  <a:pt x="165" y="419"/>
                  <a:pt x="165" y="419"/>
                </a:cubicBezTo>
                <a:cubicBezTo>
                  <a:pt x="165" y="419"/>
                  <a:pt x="165" y="419"/>
                  <a:pt x="165" y="419"/>
                </a:cubicBezTo>
                <a:cubicBezTo>
                  <a:pt x="167" y="419"/>
                  <a:pt x="168" y="419"/>
                  <a:pt x="170" y="419"/>
                </a:cubicBezTo>
                <a:cubicBezTo>
                  <a:pt x="170" y="419"/>
                  <a:pt x="170" y="419"/>
                  <a:pt x="170" y="419"/>
                </a:cubicBezTo>
                <a:cubicBezTo>
                  <a:pt x="171" y="419"/>
                  <a:pt x="173" y="419"/>
                  <a:pt x="174" y="419"/>
                </a:cubicBezTo>
                <a:cubicBezTo>
                  <a:pt x="178" y="419"/>
                  <a:pt x="181" y="419"/>
                  <a:pt x="184" y="419"/>
                </a:cubicBezTo>
                <a:cubicBezTo>
                  <a:pt x="184" y="419"/>
                  <a:pt x="184" y="419"/>
                  <a:pt x="184" y="419"/>
                </a:cubicBezTo>
                <a:cubicBezTo>
                  <a:pt x="186" y="419"/>
                  <a:pt x="188" y="420"/>
                  <a:pt x="191" y="420"/>
                </a:cubicBezTo>
                <a:cubicBezTo>
                  <a:pt x="190" y="478"/>
                  <a:pt x="189" y="535"/>
                  <a:pt x="189" y="593"/>
                </a:cubicBezTo>
                <a:cubicBezTo>
                  <a:pt x="189" y="594"/>
                  <a:pt x="189" y="595"/>
                  <a:pt x="189" y="596"/>
                </a:cubicBezTo>
                <a:cubicBezTo>
                  <a:pt x="189" y="598"/>
                  <a:pt x="189" y="599"/>
                  <a:pt x="189" y="599"/>
                </a:cubicBezTo>
                <a:cubicBezTo>
                  <a:pt x="190" y="600"/>
                  <a:pt x="190" y="601"/>
                  <a:pt x="190" y="602"/>
                </a:cubicBezTo>
                <a:cubicBezTo>
                  <a:pt x="191" y="602"/>
                  <a:pt x="191" y="603"/>
                  <a:pt x="192" y="603"/>
                </a:cubicBezTo>
                <a:cubicBezTo>
                  <a:pt x="193" y="604"/>
                  <a:pt x="194" y="604"/>
                  <a:pt x="195" y="605"/>
                </a:cubicBezTo>
                <a:cubicBezTo>
                  <a:pt x="196" y="606"/>
                  <a:pt x="196" y="606"/>
                  <a:pt x="196" y="606"/>
                </a:cubicBezTo>
                <a:cubicBezTo>
                  <a:pt x="196" y="606"/>
                  <a:pt x="197" y="607"/>
                  <a:pt x="198" y="608"/>
                </a:cubicBezTo>
                <a:cubicBezTo>
                  <a:pt x="199" y="608"/>
                  <a:pt x="199" y="609"/>
                  <a:pt x="200" y="609"/>
                </a:cubicBezTo>
                <a:cubicBezTo>
                  <a:pt x="201" y="610"/>
                  <a:pt x="201" y="610"/>
                  <a:pt x="201" y="610"/>
                </a:cubicBezTo>
                <a:cubicBezTo>
                  <a:pt x="201" y="610"/>
                  <a:pt x="201" y="610"/>
                  <a:pt x="201" y="610"/>
                </a:cubicBezTo>
                <a:cubicBezTo>
                  <a:pt x="202" y="611"/>
                  <a:pt x="202" y="611"/>
                  <a:pt x="202" y="611"/>
                </a:cubicBezTo>
                <a:cubicBezTo>
                  <a:pt x="203" y="611"/>
                  <a:pt x="203" y="611"/>
                  <a:pt x="203" y="611"/>
                </a:cubicBezTo>
                <a:cubicBezTo>
                  <a:pt x="204" y="611"/>
                  <a:pt x="204" y="612"/>
                  <a:pt x="205" y="612"/>
                </a:cubicBezTo>
                <a:cubicBezTo>
                  <a:pt x="206" y="613"/>
                  <a:pt x="206" y="613"/>
                  <a:pt x="206" y="613"/>
                </a:cubicBezTo>
                <a:cubicBezTo>
                  <a:pt x="206" y="613"/>
                  <a:pt x="206" y="613"/>
                  <a:pt x="206" y="613"/>
                </a:cubicBezTo>
                <a:cubicBezTo>
                  <a:pt x="206" y="613"/>
                  <a:pt x="206" y="613"/>
                  <a:pt x="206" y="613"/>
                </a:cubicBezTo>
                <a:cubicBezTo>
                  <a:pt x="207" y="613"/>
                  <a:pt x="207" y="613"/>
                  <a:pt x="207" y="613"/>
                </a:cubicBezTo>
                <a:cubicBezTo>
                  <a:pt x="208" y="613"/>
                  <a:pt x="208" y="613"/>
                  <a:pt x="208" y="613"/>
                </a:cubicBezTo>
                <a:cubicBezTo>
                  <a:pt x="208" y="614"/>
                  <a:pt x="208" y="614"/>
                  <a:pt x="208" y="614"/>
                </a:cubicBezTo>
                <a:cubicBezTo>
                  <a:pt x="209" y="614"/>
                  <a:pt x="209" y="614"/>
                  <a:pt x="209" y="614"/>
                </a:cubicBezTo>
                <a:cubicBezTo>
                  <a:pt x="209" y="614"/>
                  <a:pt x="209" y="614"/>
                  <a:pt x="209" y="614"/>
                </a:cubicBezTo>
                <a:cubicBezTo>
                  <a:pt x="209" y="614"/>
                  <a:pt x="209" y="614"/>
                  <a:pt x="209" y="614"/>
                </a:cubicBezTo>
                <a:cubicBezTo>
                  <a:pt x="210" y="614"/>
                  <a:pt x="210" y="614"/>
                  <a:pt x="210" y="614"/>
                </a:cubicBezTo>
                <a:cubicBezTo>
                  <a:pt x="211" y="615"/>
                  <a:pt x="211" y="615"/>
                  <a:pt x="211" y="615"/>
                </a:cubicBezTo>
                <a:cubicBezTo>
                  <a:pt x="211" y="615"/>
                  <a:pt x="211" y="615"/>
                  <a:pt x="211" y="615"/>
                </a:cubicBezTo>
                <a:cubicBezTo>
                  <a:pt x="212" y="615"/>
                  <a:pt x="212" y="615"/>
                  <a:pt x="212" y="615"/>
                </a:cubicBezTo>
                <a:cubicBezTo>
                  <a:pt x="213" y="615"/>
                  <a:pt x="213" y="615"/>
                  <a:pt x="213" y="615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4" y="616"/>
                  <a:pt x="214" y="616"/>
                  <a:pt x="214" y="616"/>
                </a:cubicBezTo>
                <a:cubicBezTo>
                  <a:pt x="214" y="616"/>
                  <a:pt x="214" y="616"/>
                  <a:pt x="214" y="616"/>
                </a:cubicBezTo>
                <a:cubicBezTo>
                  <a:pt x="215" y="616"/>
                  <a:pt x="215" y="616"/>
                  <a:pt x="215" y="616"/>
                </a:cubicBezTo>
                <a:cubicBezTo>
                  <a:pt x="216" y="616"/>
                  <a:pt x="216" y="616"/>
                  <a:pt x="216" y="616"/>
                </a:cubicBezTo>
                <a:cubicBezTo>
                  <a:pt x="216" y="616"/>
                  <a:pt x="216" y="616"/>
                  <a:pt x="216" y="616"/>
                </a:cubicBezTo>
                <a:cubicBezTo>
                  <a:pt x="216" y="616"/>
                  <a:pt x="216" y="616"/>
                  <a:pt x="216" y="616"/>
                </a:cubicBezTo>
                <a:cubicBezTo>
                  <a:pt x="217" y="617"/>
                  <a:pt x="217" y="617"/>
                  <a:pt x="217" y="617"/>
                </a:cubicBezTo>
                <a:cubicBezTo>
                  <a:pt x="218" y="617"/>
                  <a:pt x="218" y="617"/>
                  <a:pt x="218" y="617"/>
                </a:cubicBezTo>
                <a:cubicBezTo>
                  <a:pt x="218" y="617"/>
                  <a:pt x="218" y="617"/>
                  <a:pt x="218" y="617"/>
                </a:cubicBezTo>
                <a:cubicBezTo>
                  <a:pt x="218" y="617"/>
                  <a:pt x="218" y="617"/>
                  <a:pt x="218" y="617"/>
                </a:cubicBezTo>
                <a:cubicBezTo>
                  <a:pt x="219" y="617"/>
                  <a:pt x="219" y="617"/>
                  <a:pt x="219" y="617"/>
                </a:cubicBezTo>
                <a:cubicBezTo>
                  <a:pt x="220" y="617"/>
                  <a:pt x="220" y="617"/>
                  <a:pt x="220" y="617"/>
                </a:cubicBezTo>
                <a:cubicBezTo>
                  <a:pt x="221" y="617"/>
                  <a:pt x="221" y="617"/>
                  <a:pt x="221" y="617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2" y="618"/>
                  <a:pt x="222" y="618"/>
                  <a:pt x="222" y="618"/>
                </a:cubicBezTo>
                <a:cubicBezTo>
                  <a:pt x="222" y="618"/>
                  <a:pt x="222" y="618"/>
                  <a:pt x="223" y="618"/>
                </a:cubicBezTo>
                <a:cubicBezTo>
                  <a:pt x="223" y="618"/>
                  <a:pt x="223" y="618"/>
                  <a:pt x="224" y="618"/>
                </a:cubicBezTo>
                <a:cubicBezTo>
                  <a:pt x="224" y="618"/>
                  <a:pt x="224" y="618"/>
                  <a:pt x="224" y="618"/>
                </a:cubicBezTo>
                <a:cubicBezTo>
                  <a:pt x="225" y="618"/>
                  <a:pt x="225" y="618"/>
                  <a:pt x="225" y="618"/>
                </a:cubicBezTo>
                <a:cubicBezTo>
                  <a:pt x="225" y="618"/>
                  <a:pt x="225" y="618"/>
                  <a:pt x="225" y="618"/>
                </a:cubicBezTo>
                <a:cubicBezTo>
                  <a:pt x="226" y="618"/>
                  <a:pt x="226" y="618"/>
                  <a:pt x="226" y="619"/>
                </a:cubicBezTo>
                <a:cubicBezTo>
                  <a:pt x="227" y="619"/>
                  <a:pt x="227" y="619"/>
                  <a:pt x="228" y="619"/>
                </a:cubicBezTo>
                <a:cubicBezTo>
                  <a:pt x="228" y="619"/>
                  <a:pt x="228" y="619"/>
                  <a:pt x="228" y="619"/>
                </a:cubicBezTo>
                <a:cubicBezTo>
                  <a:pt x="228" y="619"/>
                  <a:pt x="228" y="619"/>
                  <a:pt x="228" y="619"/>
                </a:cubicBezTo>
                <a:cubicBezTo>
                  <a:pt x="228" y="619"/>
                  <a:pt x="229" y="619"/>
                  <a:pt x="229" y="619"/>
                </a:cubicBezTo>
                <a:cubicBezTo>
                  <a:pt x="230" y="619"/>
                  <a:pt x="230" y="619"/>
                  <a:pt x="231" y="619"/>
                </a:cubicBezTo>
                <a:cubicBezTo>
                  <a:pt x="232" y="619"/>
                  <a:pt x="232" y="619"/>
                  <a:pt x="232" y="619"/>
                </a:cubicBezTo>
                <a:cubicBezTo>
                  <a:pt x="232" y="619"/>
                  <a:pt x="232" y="619"/>
                  <a:pt x="232" y="619"/>
                </a:cubicBezTo>
                <a:cubicBezTo>
                  <a:pt x="233" y="619"/>
                  <a:pt x="233" y="619"/>
                  <a:pt x="233" y="619"/>
                </a:cubicBezTo>
                <a:cubicBezTo>
                  <a:pt x="233" y="620"/>
                  <a:pt x="234" y="620"/>
                  <a:pt x="235" y="620"/>
                </a:cubicBezTo>
                <a:cubicBezTo>
                  <a:pt x="236" y="620"/>
                  <a:pt x="236" y="620"/>
                  <a:pt x="236" y="620"/>
                </a:cubicBezTo>
                <a:cubicBezTo>
                  <a:pt x="236" y="620"/>
                  <a:pt x="236" y="620"/>
                  <a:pt x="236" y="620"/>
                </a:cubicBezTo>
                <a:cubicBezTo>
                  <a:pt x="237" y="620"/>
                  <a:pt x="237" y="620"/>
                  <a:pt x="237" y="620"/>
                </a:cubicBezTo>
                <a:cubicBezTo>
                  <a:pt x="237" y="620"/>
                  <a:pt x="238" y="620"/>
                  <a:pt x="239" y="620"/>
                </a:cubicBezTo>
                <a:cubicBezTo>
                  <a:pt x="239" y="620"/>
                  <a:pt x="240" y="620"/>
                  <a:pt x="240" y="620"/>
                </a:cubicBezTo>
                <a:cubicBezTo>
                  <a:pt x="240" y="620"/>
                  <a:pt x="240" y="620"/>
                  <a:pt x="240" y="620"/>
                </a:cubicBezTo>
                <a:cubicBezTo>
                  <a:pt x="241" y="620"/>
                  <a:pt x="241" y="620"/>
                  <a:pt x="241" y="620"/>
                </a:cubicBezTo>
                <a:cubicBezTo>
                  <a:pt x="241" y="620"/>
                  <a:pt x="241" y="620"/>
                  <a:pt x="241" y="620"/>
                </a:cubicBezTo>
                <a:cubicBezTo>
                  <a:pt x="242" y="620"/>
                  <a:pt x="243" y="620"/>
                  <a:pt x="244" y="621"/>
                </a:cubicBezTo>
                <a:cubicBezTo>
                  <a:pt x="245" y="621"/>
                  <a:pt x="245" y="621"/>
                  <a:pt x="245" y="621"/>
                </a:cubicBezTo>
                <a:cubicBezTo>
                  <a:pt x="246" y="621"/>
                  <a:pt x="246" y="621"/>
                  <a:pt x="246" y="621"/>
                </a:cubicBezTo>
                <a:cubicBezTo>
                  <a:pt x="246" y="621"/>
                  <a:pt x="247" y="621"/>
                  <a:pt x="247" y="621"/>
                </a:cubicBezTo>
                <a:cubicBezTo>
                  <a:pt x="248" y="621"/>
                  <a:pt x="249" y="621"/>
                  <a:pt x="250" y="621"/>
                </a:cubicBezTo>
                <a:cubicBezTo>
                  <a:pt x="250" y="621"/>
                  <a:pt x="250" y="621"/>
                  <a:pt x="250" y="621"/>
                </a:cubicBezTo>
                <a:cubicBezTo>
                  <a:pt x="251" y="621"/>
                  <a:pt x="251" y="621"/>
                  <a:pt x="251" y="621"/>
                </a:cubicBezTo>
                <a:cubicBezTo>
                  <a:pt x="252" y="621"/>
                  <a:pt x="253" y="621"/>
                  <a:pt x="253" y="621"/>
                </a:cubicBezTo>
                <a:cubicBezTo>
                  <a:pt x="254" y="621"/>
                  <a:pt x="255" y="621"/>
                  <a:pt x="255" y="621"/>
                </a:cubicBezTo>
                <a:cubicBezTo>
                  <a:pt x="256" y="621"/>
                  <a:pt x="256" y="621"/>
                  <a:pt x="257" y="621"/>
                </a:cubicBezTo>
                <a:cubicBezTo>
                  <a:pt x="258" y="621"/>
                  <a:pt x="258" y="621"/>
                  <a:pt x="258" y="621"/>
                </a:cubicBezTo>
                <a:cubicBezTo>
                  <a:pt x="259" y="621"/>
                  <a:pt x="260" y="622"/>
                  <a:pt x="261" y="622"/>
                </a:cubicBezTo>
                <a:cubicBezTo>
                  <a:pt x="262" y="622"/>
                  <a:pt x="262" y="622"/>
                  <a:pt x="263" y="622"/>
                </a:cubicBezTo>
                <a:cubicBezTo>
                  <a:pt x="263" y="622"/>
                  <a:pt x="263" y="622"/>
                  <a:pt x="263" y="622"/>
                </a:cubicBezTo>
                <a:cubicBezTo>
                  <a:pt x="265" y="622"/>
                  <a:pt x="266" y="622"/>
                  <a:pt x="268" y="622"/>
                </a:cubicBezTo>
                <a:cubicBezTo>
                  <a:pt x="269" y="622"/>
                  <a:pt x="269" y="622"/>
                  <a:pt x="269" y="622"/>
                </a:cubicBezTo>
                <a:cubicBezTo>
                  <a:pt x="269" y="622"/>
                  <a:pt x="270" y="622"/>
                  <a:pt x="271" y="622"/>
                </a:cubicBezTo>
                <a:cubicBezTo>
                  <a:pt x="272" y="622"/>
                  <a:pt x="273" y="622"/>
                  <a:pt x="274" y="622"/>
                </a:cubicBezTo>
                <a:cubicBezTo>
                  <a:pt x="274" y="622"/>
                  <a:pt x="275" y="622"/>
                  <a:pt x="275" y="622"/>
                </a:cubicBezTo>
                <a:cubicBezTo>
                  <a:pt x="276" y="622"/>
                  <a:pt x="276" y="622"/>
                  <a:pt x="277" y="622"/>
                </a:cubicBezTo>
                <a:cubicBezTo>
                  <a:pt x="278" y="622"/>
                  <a:pt x="278" y="622"/>
                  <a:pt x="278" y="622"/>
                </a:cubicBezTo>
                <a:cubicBezTo>
                  <a:pt x="279" y="622"/>
                  <a:pt x="281" y="622"/>
                  <a:pt x="282" y="622"/>
                </a:cubicBezTo>
                <a:cubicBezTo>
                  <a:pt x="283" y="622"/>
                  <a:pt x="283" y="622"/>
                  <a:pt x="283" y="622"/>
                </a:cubicBezTo>
                <a:cubicBezTo>
                  <a:pt x="284" y="622"/>
                  <a:pt x="284" y="622"/>
                  <a:pt x="285" y="622"/>
                </a:cubicBezTo>
                <a:cubicBezTo>
                  <a:pt x="285" y="622"/>
                  <a:pt x="286" y="622"/>
                  <a:pt x="287" y="622"/>
                </a:cubicBezTo>
                <a:cubicBezTo>
                  <a:pt x="289" y="622"/>
                  <a:pt x="290" y="622"/>
                  <a:pt x="292" y="622"/>
                </a:cubicBezTo>
                <a:cubicBezTo>
                  <a:pt x="293" y="622"/>
                  <a:pt x="294" y="622"/>
                  <a:pt x="295" y="622"/>
                </a:cubicBezTo>
                <a:cubicBezTo>
                  <a:pt x="296" y="622"/>
                  <a:pt x="297" y="622"/>
                  <a:pt x="298" y="622"/>
                </a:cubicBezTo>
                <a:cubicBezTo>
                  <a:pt x="300" y="622"/>
                  <a:pt x="301" y="622"/>
                  <a:pt x="302" y="622"/>
                </a:cubicBezTo>
                <a:cubicBezTo>
                  <a:pt x="303" y="622"/>
                  <a:pt x="304" y="622"/>
                  <a:pt x="305" y="622"/>
                </a:cubicBezTo>
                <a:cubicBezTo>
                  <a:pt x="331" y="621"/>
                  <a:pt x="368" y="621"/>
                  <a:pt x="410" y="621"/>
                </a:cubicBezTo>
                <a:cubicBezTo>
                  <a:pt x="452" y="620"/>
                  <a:pt x="498" y="620"/>
                  <a:pt x="542" y="620"/>
                </a:cubicBezTo>
                <a:cubicBezTo>
                  <a:pt x="585" y="620"/>
                  <a:pt x="626" y="619"/>
                  <a:pt x="657" y="619"/>
                </a:cubicBezTo>
                <a:cubicBezTo>
                  <a:pt x="688" y="619"/>
                  <a:pt x="709" y="619"/>
                  <a:pt x="713" y="619"/>
                </a:cubicBezTo>
                <a:cubicBezTo>
                  <a:pt x="1004" y="612"/>
                  <a:pt x="1004" y="612"/>
                  <a:pt x="1004" y="612"/>
                </a:cubicBezTo>
                <a:cubicBezTo>
                  <a:pt x="1023" y="421"/>
                  <a:pt x="1023" y="421"/>
                  <a:pt x="1023" y="421"/>
                </a:cubicBezTo>
                <a:cubicBezTo>
                  <a:pt x="1023" y="421"/>
                  <a:pt x="1023" y="421"/>
                  <a:pt x="1023" y="421"/>
                </a:cubicBezTo>
                <a:cubicBezTo>
                  <a:pt x="1023" y="421"/>
                  <a:pt x="1024" y="421"/>
                  <a:pt x="1025" y="421"/>
                </a:cubicBezTo>
                <a:cubicBezTo>
                  <a:pt x="1025" y="422"/>
                  <a:pt x="1026" y="422"/>
                  <a:pt x="1026" y="422"/>
                </a:cubicBezTo>
                <a:cubicBezTo>
                  <a:pt x="1026" y="422"/>
                  <a:pt x="1026" y="422"/>
                  <a:pt x="1026" y="422"/>
                </a:cubicBezTo>
                <a:cubicBezTo>
                  <a:pt x="1026" y="422"/>
                  <a:pt x="1026" y="422"/>
                  <a:pt x="1026" y="422"/>
                </a:cubicBezTo>
                <a:cubicBezTo>
                  <a:pt x="1027" y="422"/>
                  <a:pt x="1027" y="422"/>
                  <a:pt x="1027" y="422"/>
                </a:cubicBezTo>
                <a:cubicBezTo>
                  <a:pt x="1028" y="422"/>
                  <a:pt x="1028" y="422"/>
                  <a:pt x="1029" y="422"/>
                </a:cubicBezTo>
                <a:cubicBezTo>
                  <a:pt x="1030" y="422"/>
                  <a:pt x="1031" y="422"/>
                  <a:pt x="1031" y="422"/>
                </a:cubicBezTo>
                <a:cubicBezTo>
                  <a:pt x="1032" y="423"/>
                  <a:pt x="1033" y="423"/>
                  <a:pt x="1034" y="423"/>
                </a:cubicBezTo>
                <a:cubicBezTo>
                  <a:pt x="1034" y="423"/>
                  <a:pt x="1035" y="423"/>
                  <a:pt x="1036" y="423"/>
                </a:cubicBezTo>
                <a:cubicBezTo>
                  <a:pt x="1036" y="423"/>
                  <a:pt x="1037" y="423"/>
                  <a:pt x="1038" y="423"/>
                </a:cubicBezTo>
                <a:cubicBezTo>
                  <a:pt x="1038" y="423"/>
                  <a:pt x="1039" y="423"/>
                  <a:pt x="1040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2" y="424"/>
                  <a:pt x="1042" y="424"/>
                  <a:pt x="1042" y="424"/>
                </a:cubicBezTo>
                <a:cubicBezTo>
                  <a:pt x="1043" y="424"/>
                  <a:pt x="1043" y="424"/>
                  <a:pt x="1044" y="424"/>
                </a:cubicBezTo>
                <a:cubicBezTo>
                  <a:pt x="1045" y="424"/>
                  <a:pt x="1045" y="424"/>
                  <a:pt x="1046" y="424"/>
                </a:cubicBezTo>
                <a:cubicBezTo>
                  <a:pt x="1047" y="424"/>
                  <a:pt x="1047" y="424"/>
                  <a:pt x="1048" y="424"/>
                </a:cubicBezTo>
                <a:cubicBezTo>
                  <a:pt x="1049" y="424"/>
                  <a:pt x="1049" y="424"/>
                  <a:pt x="1050" y="424"/>
                </a:cubicBezTo>
                <a:cubicBezTo>
                  <a:pt x="1051" y="424"/>
                  <a:pt x="1051" y="425"/>
                  <a:pt x="1052" y="425"/>
                </a:cubicBezTo>
                <a:cubicBezTo>
                  <a:pt x="1053" y="425"/>
                  <a:pt x="1053" y="425"/>
                  <a:pt x="1054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6" y="425"/>
                  <a:pt x="1056" y="425"/>
                  <a:pt x="1056" y="425"/>
                </a:cubicBezTo>
                <a:cubicBezTo>
                  <a:pt x="1057" y="425"/>
                  <a:pt x="1057" y="425"/>
                  <a:pt x="1058" y="425"/>
                </a:cubicBezTo>
                <a:cubicBezTo>
                  <a:pt x="1059" y="425"/>
                  <a:pt x="1059" y="425"/>
                  <a:pt x="1060" y="425"/>
                </a:cubicBezTo>
                <a:cubicBezTo>
                  <a:pt x="1061" y="425"/>
                  <a:pt x="1061" y="425"/>
                  <a:pt x="1062" y="425"/>
                </a:cubicBezTo>
                <a:cubicBezTo>
                  <a:pt x="1063" y="425"/>
                  <a:pt x="1063" y="425"/>
                  <a:pt x="1064" y="425"/>
                </a:cubicBezTo>
                <a:cubicBezTo>
                  <a:pt x="1064" y="425"/>
                  <a:pt x="1065" y="425"/>
                  <a:pt x="1065" y="425"/>
                </a:cubicBezTo>
                <a:cubicBezTo>
                  <a:pt x="1065" y="425"/>
                  <a:pt x="1066" y="425"/>
                  <a:pt x="1066" y="425"/>
                </a:cubicBezTo>
                <a:cubicBezTo>
                  <a:pt x="1066" y="425"/>
                  <a:pt x="1067" y="425"/>
                  <a:pt x="1067" y="425"/>
                </a:cubicBezTo>
                <a:cubicBezTo>
                  <a:pt x="1068" y="425"/>
                  <a:pt x="1068" y="425"/>
                  <a:pt x="1068" y="425"/>
                </a:cubicBezTo>
                <a:cubicBezTo>
                  <a:pt x="1069" y="425"/>
                  <a:pt x="1069" y="425"/>
                  <a:pt x="1069" y="425"/>
                </a:cubicBezTo>
                <a:cubicBezTo>
                  <a:pt x="1070" y="425"/>
                  <a:pt x="1070" y="425"/>
                  <a:pt x="1070" y="425"/>
                </a:cubicBezTo>
                <a:cubicBezTo>
                  <a:pt x="1071" y="425"/>
                  <a:pt x="1071" y="425"/>
                  <a:pt x="1071" y="425"/>
                </a:cubicBezTo>
                <a:cubicBezTo>
                  <a:pt x="1072" y="425"/>
                  <a:pt x="1072" y="425"/>
                  <a:pt x="1072" y="425"/>
                </a:cubicBezTo>
                <a:cubicBezTo>
                  <a:pt x="1072" y="425"/>
                  <a:pt x="1073" y="425"/>
                  <a:pt x="1074" y="425"/>
                </a:cubicBezTo>
                <a:cubicBezTo>
                  <a:pt x="1074" y="425"/>
                  <a:pt x="1075" y="425"/>
                  <a:pt x="1076" y="425"/>
                </a:cubicBezTo>
                <a:cubicBezTo>
                  <a:pt x="1076" y="425"/>
                  <a:pt x="1076" y="425"/>
                  <a:pt x="1077" y="425"/>
                </a:cubicBezTo>
                <a:cubicBezTo>
                  <a:pt x="1077" y="425"/>
                  <a:pt x="1077" y="425"/>
                  <a:pt x="1077" y="425"/>
                </a:cubicBezTo>
                <a:cubicBezTo>
                  <a:pt x="1078" y="425"/>
                  <a:pt x="1078" y="425"/>
                  <a:pt x="1078" y="425"/>
                </a:cubicBezTo>
                <a:cubicBezTo>
                  <a:pt x="1078" y="425"/>
                  <a:pt x="1079" y="425"/>
                  <a:pt x="1080" y="425"/>
                </a:cubicBezTo>
                <a:cubicBezTo>
                  <a:pt x="1080" y="425"/>
                  <a:pt x="1081" y="425"/>
                  <a:pt x="1082" y="425"/>
                </a:cubicBezTo>
                <a:cubicBezTo>
                  <a:pt x="1082" y="425"/>
                  <a:pt x="1083" y="424"/>
                  <a:pt x="1084" y="424"/>
                </a:cubicBezTo>
                <a:cubicBezTo>
                  <a:pt x="1084" y="424"/>
                  <a:pt x="1085" y="424"/>
                  <a:pt x="1085" y="424"/>
                </a:cubicBezTo>
                <a:cubicBezTo>
                  <a:pt x="1085" y="424"/>
                  <a:pt x="1085" y="424"/>
                  <a:pt x="1085" y="424"/>
                </a:cubicBezTo>
                <a:cubicBezTo>
                  <a:pt x="1086" y="424"/>
                  <a:pt x="1086" y="424"/>
                  <a:pt x="1086" y="424"/>
                </a:cubicBezTo>
                <a:cubicBezTo>
                  <a:pt x="1087" y="424"/>
                  <a:pt x="1087" y="424"/>
                  <a:pt x="1088" y="424"/>
                </a:cubicBezTo>
                <a:cubicBezTo>
                  <a:pt x="1089" y="424"/>
                  <a:pt x="1090" y="424"/>
                  <a:pt x="1090" y="424"/>
                </a:cubicBezTo>
                <a:cubicBezTo>
                  <a:pt x="1091" y="424"/>
                  <a:pt x="1092" y="424"/>
                  <a:pt x="1093" y="424"/>
                </a:cubicBezTo>
                <a:cubicBezTo>
                  <a:pt x="1093" y="423"/>
                  <a:pt x="1093" y="423"/>
                  <a:pt x="1093" y="423"/>
                </a:cubicBezTo>
                <a:cubicBezTo>
                  <a:pt x="1093" y="423"/>
                  <a:pt x="1093" y="423"/>
                  <a:pt x="1093" y="423"/>
                </a:cubicBezTo>
                <a:cubicBezTo>
                  <a:pt x="1094" y="423"/>
                  <a:pt x="1094" y="423"/>
                  <a:pt x="1095" y="423"/>
                </a:cubicBezTo>
                <a:cubicBezTo>
                  <a:pt x="1096" y="423"/>
                  <a:pt x="1097" y="423"/>
                  <a:pt x="1097" y="423"/>
                </a:cubicBezTo>
                <a:cubicBezTo>
                  <a:pt x="1099" y="423"/>
                  <a:pt x="1100" y="422"/>
                  <a:pt x="1101" y="422"/>
                </a:cubicBezTo>
                <a:cubicBezTo>
                  <a:pt x="1102" y="422"/>
                  <a:pt x="1103" y="422"/>
                  <a:pt x="1104" y="422"/>
                </a:cubicBezTo>
                <a:cubicBezTo>
                  <a:pt x="1105" y="421"/>
                  <a:pt x="1106" y="421"/>
                  <a:pt x="1107" y="421"/>
                </a:cubicBezTo>
                <a:cubicBezTo>
                  <a:pt x="1107" y="421"/>
                  <a:pt x="1107" y="421"/>
                  <a:pt x="1107" y="421"/>
                </a:cubicBezTo>
                <a:cubicBezTo>
                  <a:pt x="1108" y="421"/>
                  <a:pt x="1108" y="421"/>
                  <a:pt x="1108" y="421"/>
                </a:cubicBezTo>
                <a:cubicBezTo>
                  <a:pt x="1109" y="421"/>
                  <a:pt x="1110" y="421"/>
                  <a:pt x="1110" y="420"/>
                </a:cubicBezTo>
                <a:cubicBezTo>
                  <a:pt x="1111" y="420"/>
                  <a:pt x="1111" y="420"/>
                  <a:pt x="1112" y="420"/>
                </a:cubicBezTo>
                <a:cubicBezTo>
                  <a:pt x="1113" y="419"/>
                  <a:pt x="1115" y="419"/>
                  <a:pt x="1117" y="419"/>
                </a:cubicBezTo>
                <a:cubicBezTo>
                  <a:pt x="1117" y="418"/>
                  <a:pt x="1118" y="418"/>
                  <a:pt x="1118" y="418"/>
                </a:cubicBezTo>
                <a:cubicBezTo>
                  <a:pt x="1119" y="418"/>
                  <a:pt x="1119" y="418"/>
                  <a:pt x="1119" y="418"/>
                </a:cubicBezTo>
                <a:cubicBezTo>
                  <a:pt x="1121" y="417"/>
                  <a:pt x="1123" y="417"/>
                  <a:pt x="1124" y="416"/>
                </a:cubicBezTo>
                <a:cubicBezTo>
                  <a:pt x="1125" y="416"/>
                  <a:pt x="1125" y="416"/>
                  <a:pt x="1125" y="416"/>
                </a:cubicBezTo>
                <a:cubicBezTo>
                  <a:pt x="1126" y="416"/>
                  <a:pt x="1126" y="416"/>
                  <a:pt x="1126" y="416"/>
                </a:cubicBezTo>
                <a:cubicBezTo>
                  <a:pt x="1126" y="415"/>
                  <a:pt x="1126" y="415"/>
                  <a:pt x="1126" y="415"/>
                </a:cubicBezTo>
                <a:cubicBezTo>
                  <a:pt x="1128" y="415"/>
                  <a:pt x="1130" y="414"/>
                  <a:pt x="1132" y="413"/>
                </a:cubicBezTo>
                <a:cubicBezTo>
                  <a:pt x="1132" y="413"/>
                  <a:pt x="1132" y="413"/>
                  <a:pt x="1132" y="413"/>
                </a:cubicBezTo>
                <a:cubicBezTo>
                  <a:pt x="1132" y="413"/>
                  <a:pt x="1133" y="412"/>
                  <a:pt x="1133" y="412"/>
                </a:cubicBezTo>
                <a:cubicBezTo>
                  <a:pt x="1134" y="412"/>
                  <a:pt x="1136" y="411"/>
                  <a:pt x="1137" y="410"/>
                </a:cubicBezTo>
                <a:cubicBezTo>
                  <a:pt x="1138" y="410"/>
                  <a:pt x="1138" y="410"/>
                  <a:pt x="1138" y="410"/>
                </a:cubicBezTo>
                <a:cubicBezTo>
                  <a:pt x="1139" y="409"/>
                  <a:pt x="1139" y="409"/>
                  <a:pt x="1140" y="408"/>
                </a:cubicBezTo>
                <a:cubicBezTo>
                  <a:pt x="1140" y="408"/>
                  <a:pt x="1140" y="408"/>
                  <a:pt x="1140" y="408"/>
                </a:cubicBezTo>
                <a:cubicBezTo>
                  <a:pt x="1141" y="408"/>
                  <a:pt x="1141" y="408"/>
                  <a:pt x="1141" y="408"/>
                </a:cubicBezTo>
                <a:cubicBezTo>
                  <a:pt x="1141" y="408"/>
                  <a:pt x="1142" y="407"/>
                  <a:pt x="1142" y="407"/>
                </a:cubicBezTo>
                <a:cubicBezTo>
                  <a:pt x="1143" y="406"/>
                  <a:pt x="1143" y="406"/>
                  <a:pt x="1144" y="405"/>
                </a:cubicBezTo>
                <a:cubicBezTo>
                  <a:pt x="1144" y="405"/>
                  <a:pt x="1144" y="405"/>
                  <a:pt x="1144" y="405"/>
                </a:cubicBezTo>
                <a:cubicBezTo>
                  <a:pt x="1144" y="405"/>
                  <a:pt x="1144" y="405"/>
                  <a:pt x="1144" y="405"/>
                </a:cubicBezTo>
                <a:cubicBezTo>
                  <a:pt x="1144" y="405"/>
                  <a:pt x="1144" y="405"/>
                  <a:pt x="1144" y="405"/>
                </a:cubicBezTo>
                <a:cubicBezTo>
                  <a:pt x="1145" y="405"/>
                  <a:pt x="1145" y="404"/>
                  <a:pt x="1146" y="404"/>
                </a:cubicBezTo>
                <a:cubicBezTo>
                  <a:pt x="1146" y="404"/>
                  <a:pt x="1146" y="404"/>
                  <a:pt x="1146" y="404"/>
                </a:cubicBezTo>
                <a:cubicBezTo>
                  <a:pt x="1146" y="404"/>
                  <a:pt x="1147" y="403"/>
                  <a:pt x="1147" y="403"/>
                </a:cubicBezTo>
                <a:cubicBezTo>
                  <a:pt x="1147" y="403"/>
                  <a:pt x="1147" y="403"/>
                  <a:pt x="1147" y="403"/>
                </a:cubicBezTo>
                <a:cubicBezTo>
                  <a:pt x="1147" y="402"/>
                  <a:pt x="1147" y="402"/>
                  <a:pt x="1147" y="402"/>
                </a:cubicBezTo>
                <a:cubicBezTo>
                  <a:pt x="1148" y="402"/>
                  <a:pt x="1148" y="402"/>
                  <a:pt x="1148" y="402"/>
                </a:cubicBezTo>
                <a:cubicBezTo>
                  <a:pt x="1149" y="401"/>
                  <a:pt x="1149" y="401"/>
                  <a:pt x="1149" y="401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399"/>
                  <a:pt x="1150" y="399"/>
                  <a:pt x="1150" y="399"/>
                </a:cubicBezTo>
                <a:cubicBezTo>
                  <a:pt x="1150" y="399"/>
                  <a:pt x="1150" y="399"/>
                  <a:pt x="1150" y="399"/>
                </a:cubicBezTo>
                <a:cubicBezTo>
                  <a:pt x="1151" y="398"/>
                  <a:pt x="1151" y="398"/>
                  <a:pt x="1151" y="398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6"/>
                  <a:pt x="1152" y="396"/>
                  <a:pt x="1152" y="396"/>
                </a:cubicBezTo>
                <a:cubicBezTo>
                  <a:pt x="1152" y="396"/>
                  <a:pt x="1152" y="396"/>
                  <a:pt x="1152" y="396"/>
                </a:cubicBezTo>
                <a:cubicBezTo>
                  <a:pt x="1152" y="396"/>
                  <a:pt x="1152" y="396"/>
                  <a:pt x="1152" y="396"/>
                </a:cubicBezTo>
                <a:cubicBezTo>
                  <a:pt x="1153" y="396"/>
                  <a:pt x="1153" y="396"/>
                  <a:pt x="1153" y="396"/>
                </a:cubicBezTo>
                <a:cubicBezTo>
                  <a:pt x="1153" y="395"/>
                  <a:pt x="1153" y="395"/>
                  <a:pt x="1153" y="395"/>
                </a:cubicBezTo>
                <a:cubicBezTo>
                  <a:pt x="1153" y="394"/>
                  <a:pt x="1153" y="394"/>
                  <a:pt x="1153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3"/>
                  <a:pt x="1154" y="393"/>
                  <a:pt x="1154" y="393"/>
                </a:cubicBezTo>
                <a:cubicBezTo>
                  <a:pt x="1154" y="393"/>
                  <a:pt x="1154" y="393"/>
                  <a:pt x="1154" y="393"/>
                </a:cubicBezTo>
                <a:cubicBezTo>
                  <a:pt x="1154" y="393"/>
                  <a:pt x="1154" y="393"/>
                  <a:pt x="1154" y="393"/>
                </a:cubicBezTo>
                <a:cubicBezTo>
                  <a:pt x="1154" y="393"/>
                  <a:pt x="1154" y="393"/>
                  <a:pt x="1154" y="392"/>
                </a:cubicBezTo>
                <a:cubicBezTo>
                  <a:pt x="1154" y="392"/>
                  <a:pt x="1154" y="391"/>
                  <a:pt x="1154" y="391"/>
                </a:cubicBezTo>
                <a:cubicBezTo>
                  <a:pt x="1155" y="391"/>
                  <a:pt x="1155" y="390"/>
                  <a:pt x="1155" y="390"/>
                </a:cubicBezTo>
                <a:cubicBezTo>
                  <a:pt x="1155" y="390"/>
                  <a:pt x="1155" y="389"/>
                  <a:pt x="1155" y="389"/>
                </a:cubicBezTo>
                <a:cubicBezTo>
                  <a:pt x="1155" y="388"/>
                  <a:pt x="1155" y="388"/>
                  <a:pt x="1155" y="388"/>
                </a:cubicBezTo>
                <a:cubicBezTo>
                  <a:pt x="1155" y="388"/>
                  <a:pt x="1155" y="388"/>
                  <a:pt x="1155" y="388"/>
                </a:cubicBezTo>
                <a:cubicBezTo>
                  <a:pt x="1155" y="388"/>
                  <a:pt x="1155" y="388"/>
                  <a:pt x="1155" y="388"/>
                </a:cubicBezTo>
                <a:cubicBezTo>
                  <a:pt x="1155" y="387"/>
                  <a:pt x="1155" y="387"/>
                  <a:pt x="1155" y="387"/>
                </a:cubicBezTo>
                <a:cubicBezTo>
                  <a:pt x="1156" y="387"/>
                  <a:pt x="1156" y="387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5"/>
                  <a:pt x="1156" y="385"/>
                  <a:pt x="1156" y="385"/>
                </a:cubicBezTo>
                <a:cubicBezTo>
                  <a:pt x="1156" y="385"/>
                  <a:pt x="1156" y="385"/>
                  <a:pt x="1156" y="385"/>
                </a:cubicBezTo>
                <a:cubicBezTo>
                  <a:pt x="1156" y="384"/>
                  <a:pt x="1156" y="384"/>
                  <a:pt x="1156" y="383"/>
                </a:cubicBezTo>
                <a:cubicBezTo>
                  <a:pt x="1156" y="383"/>
                  <a:pt x="1156" y="383"/>
                  <a:pt x="1156" y="383"/>
                </a:cubicBezTo>
                <a:cubicBezTo>
                  <a:pt x="1156" y="383"/>
                  <a:pt x="1156" y="383"/>
                  <a:pt x="1156" y="383"/>
                </a:cubicBezTo>
                <a:cubicBezTo>
                  <a:pt x="1156" y="383"/>
                  <a:pt x="1156" y="383"/>
                  <a:pt x="1156" y="383"/>
                </a:cubicBezTo>
                <a:cubicBezTo>
                  <a:pt x="1156" y="383"/>
                  <a:pt x="1156" y="383"/>
                  <a:pt x="1156" y="383"/>
                </a:cubicBezTo>
                <a:cubicBezTo>
                  <a:pt x="1177" y="189"/>
                  <a:pt x="1177" y="189"/>
                  <a:pt x="1177" y="189"/>
                </a:cubicBezTo>
                <a:cubicBezTo>
                  <a:pt x="1177" y="190"/>
                  <a:pt x="1177" y="191"/>
                  <a:pt x="1177" y="192"/>
                </a:cubicBez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13"/>
          <p:cNvSpPr/>
          <p:nvPr/>
        </p:nvSpPr>
        <p:spPr>
          <a:xfrm>
            <a:off x="8874000" y="4041720"/>
            <a:ext cx="204840" cy="514440"/>
          </a:xfrm>
          <a:custGeom>
            <a:avLst/>
            <a:gdLst/>
            <a:ahLst/>
            <a:rect l="l" t="t" r="r" b="b"/>
            <a:pathLst>
              <a:path w="111" h="284">
                <a:moveTo>
                  <a:pt x="80" y="284"/>
                </a:moveTo>
                <a:cubicBezTo>
                  <a:pt x="111" y="80"/>
                  <a:pt x="111" y="80"/>
                  <a:pt x="111" y="80"/>
                </a:cubicBezTo>
                <a:cubicBezTo>
                  <a:pt x="111" y="79"/>
                  <a:pt x="111" y="77"/>
                  <a:pt x="111" y="76"/>
                </a:cubicBezTo>
                <a:cubicBezTo>
                  <a:pt x="110" y="74"/>
                  <a:pt x="110" y="73"/>
                  <a:pt x="109" y="71"/>
                </a:cubicBezTo>
                <a:cubicBezTo>
                  <a:pt x="108" y="70"/>
                  <a:pt x="106" y="68"/>
                  <a:pt x="105" y="66"/>
                </a:cubicBezTo>
                <a:cubicBezTo>
                  <a:pt x="103" y="65"/>
                  <a:pt x="101" y="63"/>
                  <a:pt x="99" y="61"/>
                </a:cubicBezTo>
                <a:cubicBezTo>
                  <a:pt x="94" y="58"/>
                  <a:pt x="87" y="54"/>
                  <a:pt x="79" y="49"/>
                </a:cubicBezTo>
                <a:cubicBezTo>
                  <a:pt x="71" y="44"/>
                  <a:pt x="63" y="39"/>
                  <a:pt x="55" y="33"/>
                </a:cubicBezTo>
                <a:cubicBezTo>
                  <a:pt x="47" y="28"/>
                  <a:pt x="40" y="22"/>
                  <a:pt x="36" y="16"/>
                </a:cubicBezTo>
                <a:cubicBezTo>
                  <a:pt x="31" y="11"/>
                  <a:pt x="28" y="5"/>
                  <a:pt x="29" y="0"/>
                </a:cubicBezTo>
                <a:cubicBezTo>
                  <a:pt x="1" y="198"/>
                  <a:pt x="1" y="198"/>
                  <a:pt x="1" y="198"/>
                </a:cubicBezTo>
                <a:cubicBezTo>
                  <a:pt x="0" y="204"/>
                  <a:pt x="2" y="210"/>
                  <a:pt x="7" y="216"/>
                </a:cubicBezTo>
                <a:cubicBezTo>
                  <a:pt x="12" y="221"/>
                  <a:pt x="18" y="228"/>
                  <a:pt x="26" y="233"/>
                </a:cubicBezTo>
                <a:cubicBezTo>
                  <a:pt x="33" y="239"/>
                  <a:pt x="41" y="245"/>
                  <a:pt x="49" y="250"/>
                </a:cubicBezTo>
                <a:cubicBezTo>
                  <a:pt x="57" y="255"/>
                  <a:pt x="63" y="260"/>
                  <a:pt x="68" y="264"/>
                </a:cubicBezTo>
                <a:cubicBezTo>
                  <a:pt x="71" y="265"/>
                  <a:pt x="73" y="267"/>
                  <a:pt x="74" y="269"/>
                </a:cubicBezTo>
                <a:cubicBezTo>
                  <a:pt x="76" y="271"/>
                  <a:pt x="77" y="272"/>
                  <a:pt x="78" y="274"/>
                </a:cubicBezTo>
                <a:cubicBezTo>
                  <a:pt x="79" y="276"/>
                  <a:pt x="79" y="277"/>
                  <a:pt x="80" y="279"/>
                </a:cubicBezTo>
                <a:cubicBezTo>
                  <a:pt x="80" y="280"/>
                  <a:pt x="80" y="281"/>
                  <a:pt x="80" y="282"/>
                </a:cubicBezTo>
                <a:cubicBezTo>
                  <a:pt x="80" y="282"/>
                  <a:pt x="80" y="283"/>
                  <a:pt x="80" y="28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14"/>
          <p:cNvSpPr/>
          <p:nvPr/>
        </p:nvSpPr>
        <p:spPr>
          <a:xfrm>
            <a:off x="8308800" y="4181400"/>
            <a:ext cx="2737080" cy="1387440"/>
          </a:xfrm>
          <a:custGeom>
            <a:avLst/>
            <a:gdLst/>
            <a:ahLst/>
            <a:rect l="l" t="t" r="r" b="b"/>
            <a:pathLst>
              <a:path w="1509" h="764">
                <a:moveTo>
                  <a:pt x="1508" y="498"/>
                </a:moveTo>
                <a:cubicBezTo>
                  <a:pt x="1508" y="498"/>
                  <a:pt x="1508" y="498"/>
                  <a:pt x="1508" y="498"/>
                </a:cubicBezTo>
                <a:cubicBezTo>
                  <a:pt x="1508" y="498"/>
                  <a:pt x="1508" y="499"/>
                  <a:pt x="1507" y="500"/>
                </a:cubicBezTo>
                <a:cubicBezTo>
                  <a:pt x="1507" y="500"/>
                  <a:pt x="1507" y="500"/>
                  <a:pt x="1507" y="500"/>
                </a:cubicBezTo>
                <a:cubicBezTo>
                  <a:pt x="1507" y="500"/>
                  <a:pt x="1506" y="501"/>
                  <a:pt x="1506" y="501"/>
                </a:cubicBezTo>
                <a:cubicBezTo>
                  <a:pt x="1505" y="501"/>
                  <a:pt x="1505" y="502"/>
                  <a:pt x="1504" y="502"/>
                </a:cubicBezTo>
                <a:cubicBezTo>
                  <a:pt x="1504" y="503"/>
                  <a:pt x="1504" y="503"/>
                  <a:pt x="1503" y="503"/>
                </a:cubicBezTo>
                <a:cubicBezTo>
                  <a:pt x="1502" y="504"/>
                  <a:pt x="1502" y="504"/>
                  <a:pt x="1502" y="504"/>
                </a:cubicBezTo>
                <a:cubicBezTo>
                  <a:pt x="1502" y="504"/>
                  <a:pt x="1502" y="504"/>
                  <a:pt x="1502" y="504"/>
                </a:cubicBezTo>
                <a:cubicBezTo>
                  <a:pt x="1501" y="504"/>
                  <a:pt x="1501" y="505"/>
                  <a:pt x="1501" y="505"/>
                </a:cubicBezTo>
                <a:cubicBezTo>
                  <a:pt x="1500" y="505"/>
                  <a:pt x="1500" y="505"/>
                  <a:pt x="1500" y="505"/>
                </a:cubicBezTo>
                <a:cubicBezTo>
                  <a:pt x="1500" y="505"/>
                  <a:pt x="1499" y="506"/>
                  <a:pt x="1499" y="506"/>
                </a:cubicBezTo>
                <a:cubicBezTo>
                  <a:pt x="1498" y="506"/>
                  <a:pt x="1498" y="506"/>
                  <a:pt x="1498" y="506"/>
                </a:cubicBezTo>
                <a:cubicBezTo>
                  <a:pt x="1498" y="506"/>
                  <a:pt x="1497" y="507"/>
                  <a:pt x="1496" y="507"/>
                </a:cubicBezTo>
                <a:cubicBezTo>
                  <a:pt x="1496" y="507"/>
                  <a:pt x="1496" y="507"/>
                  <a:pt x="1496" y="507"/>
                </a:cubicBezTo>
                <a:cubicBezTo>
                  <a:pt x="1495" y="507"/>
                  <a:pt x="1494" y="508"/>
                  <a:pt x="1493" y="508"/>
                </a:cubicBezTo>
                <a:cubicBezTo>
                  <a:pt x="1493" y="508"/>
                  <a:pt x="1493" y="508"/>
                  <a:pt x="1493" y="508"/>
                </a:cubicBezTo>
                <a:cubicBezTo>
                  <a:pt x="1492" y="509"/>
                  <a:pt x="1491" y="509"/>
                  <a:pt x="1491" y="509"/>
                </a:cubicBezTo>
                <a:cubicBezTo>
                  <a:pt x="1490" y="509"/>
                  <a:pt x="1490" y="509"/>
                  <a:pt x="1490" y="509"/>
                </a:cubicBezTo>
                <a:cubicBezTo>
                  <a:pt x="1489" y="510"/>
                  <a:pt x="1488" y="510"/>
                  <a:pt x="1488" y="510"/>
                </a:cubicBezTo>
                <a:cubicBezTo>
                  <a:pt x="1487" y="510"/>
                  <a:pt x="1487" y="510"/>
                  <a:pt x="1486" y="510"/>
                </a:cubicBezTo>
                <a:cubicBezTo>
                  <a:pt x="1486" y="511"/>
                  <a:pt x="1485" y="511"/>
                  <a:pt x="1484" y="511"/>
                </a:cubicBezTo>
                <a:cubicBezTo>
                  <a:pt x="1484" y="511"/>
                  <a:pt x="1484" y="511"/>
                  <a:pt x="1483" y="511"/>
                </a:cubicBezTo>
                <a:cubicBezTo>
                  <a:pt x="1482" y="511"/>
                  <a:pt x="1482" y="512"/>
                  <a:pt x="1481" y="512"/>
                </a:cubicBezTo>
                <a:cubicBezTo>
                  <a:pt x="1480" y="512"/>
                  <a:pt x="1480" y="512"/>
                  <a:pt x="1479" y="512"/>
                </a:cubicBezTo>
                <a:cubicBezTo>
                  <a:pt x="1479" y="512"/>
                  <a:pt x="1478" y="512"/>
                  <a:pt x="1477" y="513"/>
                </a:cubicBezTo>
                <a:cubicBezTo>
                  <a:pt x="1476" y="513"/>
                  <a:pt x="1476" y="513"/>
                  <a:pt x="1475" y="513"/>
                </a:cubicBezTo>
                <a:cubicBezTo>
                  <a:pt x="1474" y="513"/>
                  <a:pt x="1474" y="513"/>
                  <a:pt x="1474" y="513"/>
                </a:cubicBezTo>
                <a:cubicBezTo>
                  <a:pt x="1473" y="513"/>
                  <a:pt x="1472" y="513"/>
                  <a:pt x="1471" y="514"/>
                </a:cubicBezTo>
                <a:cubicBezTo>
                  <a:pt x="1471" y="514"/>
                  <a:pt x="1470" y="514"/>
                  <a:pt x="1470" y="514"/>
                </a:cubicBezTo>
                <a:cubicBezTo>
                  <a:pt x="1469" y="514"/>
                  <a:pt x="1468" y="514"/>
                  <a:pt x="1468" y="514"/>
                </a:cubicBezTo>
                <a:cubicBezTo>
                  <a:pt x="1467" y="514"/>
                  <a:pt x="1466" y="514"/>
                  <a:pt x="1465" y="515"/>
                </a:cubicBezTo>
                <a:cubicBezTo>
                  <a:pt x="1465" y="515"/>
                  <a:pt x="1464" y="515"/>
                  <a:pt x="1463" y="515"/>
                </a:cubicBezTo>
                <a:cubicBezTo>
                  <a:pt x="1462" y="515"/>
                  <a:pt x="1462" y="515"/>
                  <a:pt x="1461" y="515"/>
                </a:cubicBezTo>
                <a:cubicBezTo>
                  <a:pt x="1460" y="515"/>
                  <a:pt x="1459" y="515"/>
                  <a:pt x="1459" y="515"/>
                </a:cubicBezTo>
                <a:cubicBezTo>
                  <a:pt x="1458" y="515"/>
                  <a:pt x="1457" y="516"/>
                  <a:pt x="1456" y="516"/>
                </a:cubicBezTo>
                <a:cubicBezTo>
                  <a:pt x="1455" y="516"/>
                  <a:pt x="1455" y="516"/>
                  <a:pt x="1454" y="516"/>
                </a:cubicBezTo>
                <a:cubicBezTo>
                  <a:pt x="1453" y="516"/>
                  <a:pt x="1452" y="516"/>
                  <a:pt x="1451" y="516"/>
                </a:cubicBezTo>
                <a:cubicBezTo>
                  <a:pt x="1450" y="516"/>
                  <a:pt x="1449" y="516"/>
                  <a:pt x="1448" y="516"/>
                </a:cubicBezTo>
                <a:cubicBezTo>
                  <a:pt x="1448" y="516"/>
                  <a:pt x="1447" y="517"/>
                  <a:pt x="1446" y="517"/>
                </a:cubicBezTo>
                <a:cubicBezTo>
                  <a:pt x="1445" y="517"/>
                  <a:pt x="1444" y="517"/>
                  <a:pt x="1443" y="517"/>
                </a:cubicBezTo>
                <a:cubicBezTo>
                  <a:pt x="1442" y="517"/>
                  <a:pt x="1441" y="517"/>
                  <a:pt x="1440" y="517"/>
                </a:cubicBezTo>
                <a:cubicBezTo>
                  <a:pt x="1439" y="517"/>
                  <a:pt x="1438" y="517"/>
                  <a:pt x="1437" y="517"/>
                </a:cubicBezTo>
                <a:cubicBezTo>
                  <a:pt x="1436" y="517"/>
                  <a:pt x="1435" y="517"/>
                  <a:pt x="1434" y="517"/>
                </a:cubicBezTo>
                <a:cubicBezTo>
                  <a:pt x="1433" y="517"/>
                  <a:pt x="1432" y="517"/>
                  <a:pt x="1431" y="518"/>
                </a:cubicBezTo>
                <a:cubicBezTo>
                  <a:pt x="1430" y="518"/>
                  <a:pt x="1429" y="518"/>
                  <a:pt x="1427" y="518"/>
                </a:cubicBezTo>
                <a:cubicBezTo>
                  <a:pt x="1427" y="518"/>
                  <a:pt x="1426" y="518"/>
                  <a:pt x="1425" y="518"/>
                </a:cubicBezTo>
                <a:cubicBezTo>
                  <a:pt x="1424" y="518"/>
                  <a:pt x="1422" y="518"/>
                  <a:pt x="1421" y="518"/>
                </a:cubicBezTo>
                <a:cubicBezTo>
                  <a:pt x="1419" y="518"/>
                  <a:pt x="1418" y="518"/>
                  <a:pt x="1416" y="518"/>
                </a:cubicBezTo>
                <a:cubicBezTo>
                  <a:pt x="1415" y="518"/>
                  <a:pt x="1415" y="518"/>
                  <a:pt x="1414" y="518"/>
                </a:cubicBezTo>
                <a:cubicBezTo>
                  <a:pt x="1412" y="518"/>
                  <a:pt x="1409" y="518"/>
                  <a:pt x="1407" y="518"/>
                </a:cubicBezTo>
                <a:cubicBezTo>
                  <a:pt x="1406" y="518"/>
                  <a:pt x="1406" y="518"/>
                  <a:pt x="1406" y="518"/>
                </a:cubicBezTo>
                <a:cubicBezTo>
                  <a:pt x="1404" y="518"/>
                  <a:pt x="1401" y="518"/>
                  <a:pt x="1399" y="518"/>
                </a:cubicBezTo>
                <a:cubicBezTo>
                  <a:pt x="1397" y="518"/>
                  <a:pt x="1395" y="518"/>
                  <a:pt x="1393" y="518"/>
                </a:cubicBezTo>
                <a:cubicBezTo>
                  <a:pt x="1391" y="518"/>
                  <a:pt x="1389" y="518"/>
                  <a:pt x="1387" y="518"/>
                </a:cubicBezTo>
                <a:cubicBezTo>
                  <a:pt x="1385" y="518"/>
                  <a:pt x="1384" y="518"/>
                  <a:pt x="1382" y="518"/>
                </a:cubicBezTo>
                <a:cubicBezTo>
                  <a:pt x="1380" y="518"/>
                  <a:pt x="1378" y="518"/>
                  <a:pt x="1376" y="518"/>
                </a:cubicBezTo>
                <a:cubicBezTo>
                  <a:pt x="1327" y="518"/>
                  <a:pt x="1234" y="519"/>
                  <a:pt x="1121" y="520"/>
                </a:cubicBezTo>
                <a:cubicBezTo>
                  <a:pt x="1008" y="521"/>
                  <a:pt x="876" y="522"/>
                  <a:pt x="749" y="523"/>
                </a:cubicBezTo>
                <a:cubicBezTo>
                  <a:pt x="621" y="524"/>
                  <a:pt x="499" y="525"/>
                  <a:pt x="405" y="526"/>
                </a:cubicBezTo>
                <a:cubicBezTo>
                  <a:pt x="311" y="527"/>
                  <a:pt x="247" y="528"/>
                  <a:pt x="235" y="528"/>
                </a:cubicBezTo>
                <a:cubicBezTo>
                  <a:pt x="234" y="528"/>
                  <a:pt x="233" y="528"/>
                  <a:pt x="232" y="528"/>
                </a:cubicBezTo>
                <a:cubicBezTo>
                  <a:pt x="231" y="528"/>
                  <a:pt x="230" y="528"/>
                  <a:pt x="229" y="528"/>
                </a:cubicBezTo>
                <a:cubicBezTo>
                  <a:pt x="228" y="528"/>
                  <a:pt x="227" y="528"/>
                  <a:pt x="226" y="528"/>
                </a:cubicBezTo>
                <a:cubicBezTo>
                  <a:pt x="225" y="528"/>
                  <a:pt x="224" y="528"/>
                  <a:pt x="223" y="528"/>
                </a:cubicBezTo>
                <a:cubicBezTo>
                  <a:pt x="221" y="528"/>
                  <a:pt x="218" y="528"/>
                  <a:pt x="216" y="528"/>
                </a:cubicBezTo>
                <a:cubicBezTo>
                  <a:pt x="216" y="528"/>
                  <a:pt x="216" y="528"/>
                  <a:pt x="216" y="528"/>
                </a:cubicBezTo>
                <a:cubicBezTo>
                  <a:pt x="213" y="528"/>
                  <a:pt x="210" y="528"/>
                  <a:pt x="208" y="528"/>
                </a:cubicBezTo>
                <a:cubicBezTo>
                  <a:pt x="208" y="528"/>
                  <a:pt x="208" y="528"/>
                  <a:pt x="208" y="528"/>
                </a:cubicBezTo>
                <a:cubicBezTo>
                  <a:pt x="205" y="528"/>
                  <a:pt x="203" y="528"/>
                  <a:pt x="200" y="527"/>
                </a:cubicBezTo>
                <a:cubicBezTo>
                  <a:pt x="200" y="527"/>
                  <a:pt x="200" y="527"/>
                  <a:pt x="200" y="527"/>
                </a:cubicBezTo>
                <a:cubicBezTo>
                  <a:pt x="198" y="527"/>
                  <a:pt x="196" y="527"/>
                  <a:pt x="193" y="527"/>
                </a:cubicBezTo>
                <a:cubicBezTo>
                  <a:pt x="193" y="526"/>
                  <a:pt x="193" y="526"/>
                  <a:pt x="193" y="526"/>
                </a:cubicBezTo>
                <a:cubicBezTo>
                  <a:pt x="189" y="526"/>
                  <a:pt x="184" y="525"/>
                  <a:pt x="180" y="523"/>
                </a:cubicBezTo>
                <a:cubicBezTo>
                  <a:pt x="180" y="523"/>
                  <a:pt x="180" y="523"/>
                  <a:pt x="180" y="523"/>
                </a:cubicBezTo>
                <a:cubicBezTo>
                  <a:pt x="178" y="523"/>
                  <a:pt x="176" y="522"/>
                  <a:pt x="174" y="521"/>
                </a:cubicBezTo>
                <a:cubicBezTo>
                  <a:pt x="174" y="521"/>
                  <a:pt x="174" y="521"/>
                  <a:pt x="174" y="521"/>
                </a:cubicBezTo>
                <a:cubicBezTo>
                  <a:pt x="172" y="520"/>
                  <a:pt x="170" y="519"/>
                  <a:pt x="168" y="518"/>
                </a:cubicBezTo>
                <a:cubicBezTo>
                  <a:pt x="168" y="518"/>
                  <a:pt x="167" y="518"/>
                  <a:pt x="167" y="518"/>
                </a:cubicBezTo>
                <a:cubicBezTo>
                  <a:pt x="167" y="517"/>
                  <a:pt x="166" y="517"/>
                  <a:pt x="166" y="517"/>
                </a:cubicBezTo>
                <a:cubicBezTo>
                  <a:pt x="165" y="517"/>
                  <a:pt x="165" y="516"/>
                  <a:pt x="164" y="516"/>
                </a:cubicBezTo>
                <a:cubicBezTo>
                  <a:pt x="164" y="516"/>
                  <a:pt x="163" y="515"/>
                  <a:pt x="163" y="515"/>
                </a:cubicBezTo>
                <a:cubicBezTo>
                  <a:pt x="162" y="515"/>
                  <a:pt x="162" y="514"/>
                  <a:pt x="161" y="514"/>
                </a:cubicBezTo>
                <a:cubicBezTo>
                  <a:pt x="161" y="513"/>
                  <a:pt x="160" y="513"/>
                  <a:pt x="160" y="513"/>
                </a:cubicBezTo>
                <a:cubicBezTo>
                  <a:pt x="159" y="512"/>
                  <a:pt x="159" y="512"/>
                  <a:pt x="158" y="511"/>
                </a:cubicBezTo>
                <a:cubicBezTo>
                  <a:pt x="158" y="511"/>
                  <a:pt x="158" y="511"/>
                  <a:pt x="157" y="510"/>
                </a:cubicBezTo>
                <a:cubicBezTo>
                  <a:pt x="157" y="510"/>
                  <a:pt x="156" y="509"/>
                  <a:pt x="155" y="509"/>
                </a:cubicBezTo>
                <a:cubicBezTo>
                  <a:pt x="155" y="508"/>
                  <a:pt x="155" y="508"/>
                  <a:pt x="155" y="508"/>
                </a:cubicBezTo>
                <a:cubicBezTo>
                  <a:pt x="154" y="507"/>
                  <a:pt x="153" y="506"/>
                  <a:pt x="152" y="505"/>
                </a:cubicBezTo>
                <a:cubicBezTo>
                  <a:pt x="151" y="504"/>
                  <a:pt x="151" y="504"/>
                  <a:pt x="151" y="504"/>
                </a:cubicBezTo>
                <a:cubicBezTo>
                  <a:pt x="151" y="503"/>
                  <a:pt x="150" y="503"/>
                  <a:pt x="149" y="502"/>
                </a:cubicBezTo>
                <a:cubicBezTo>
                  <a:pt x="149" y="502"/>
                  <a:pt x="149" y="501"/>
                  <a:pt x="149" y="501"/>
                </a:cubicBezTo>
                <a:cubicBezTo>
                  <a:pt x="148" y="500"/>
                  <a:pt x="148" y="499"/>
                  <a:pt x="147" y="499"/>
                </a:cubicBezTo>
                <a:cubicBezTo>
                  <a:pt x="147" y="498"/>
                  <a:pt x="146" y="498"/>
                  <a:pt x="146" y="497"/>
                </a:cubicBezTo>
                <a:cubicBezTo>
                  <a:pt x="146" y="497"/>
                  <a:pt x="145" y="496"/>
                  <a:pt x="145" y="495"/>
                </a:cubicBezTo>
                <a:cubicBezTo>
                  <a:pt x="144" y="495"/>
                  <a:pt x="144" y="494"/>
                  <a:pt x="144" y="494"/>
                </a:cubicBezTo>
                <a:cubicBezTo>
                  <a:pt x="143" y="493"/>
                  <a:pt x="143" y="492"/>
                  <a:pt x="143" y="491"/>
                </a:cubicBezTo>
                <a:cubicBezTo>
                  <a:pt x="142" y="491"/>
                  <a:pt x="142" y="490"/>
                  <a:pt x="142" y="490"/>
                </a:cubicBezTo>
                <a:cubicBezTo>
                  <a:pt x="141" y="489"/>
                  <a:pt x="141" y="488"/>
                  <a:pt x="140" y="487"/>
                </a:cubicBezTo>
                <a:cubicBezTo>
                  <a:pt x="140" y="487"/>
                  <a:pt x="140" y="486"/>
                  <a:pt x="140" y="486"/>
                </a:cubicBezTo>
                <a:cubicBezTo>
                  <a:pt x="139" y="485"/>
                  <a:pt x="139" y="484"/>
                  <a:pt x="138" y="483"/>
                </a:cubicBezTo>
                <a:cubicBezTo>
                  <a:pt x="138" y="482"/>
                  <a:pt x="138" y="482"/>
                  <a:pt x="138" y="481"/>
                </a:cubicBezTo>
                <a:cubicBezTo>
                  <a:pt x="137" y="480"/>
                  <a:pt x="137" y="479"/>
                  <a:pt x="136" y="478"/>
                </a:cubicBezTo>
                <a:cubicBezTo>
                  <a:pt x="136" y="478"/>
                  <a:pt x="136" y="477"/>
                  <a:pt x="136" y="476"/>
                </a:cubicBezTo>
                <a:cubicBezTo>
                  <a:pt x="135" y="475"/>
                  <a:pt x="135" y="474"/>
                  <a:pt x="134" y="473"/>
                </a:cubicBezTo>
                <a:cubicBezTo>
                  <a:pt x="134" y="473"/>
                  <a:pt x="134" y="472"/>
                  <a:pt x="134" y="471"/>
                </a:cubicBezTo>
                <a:cubicBezTo>
                  <a:pt x="133" y="470"/>
                  <a:pt x="133" y="468"/>
                  <a:pt x="132" y="466"/>
                </a:cubicBezTo>
                <a:cubicBezTo>
                  <a:pt x="128" y="454"/>
                  <a:pt x="124" y="439"/>
                  <a:pt x="119" y="424"/>
                </a:cubicBezTo>
                <a:cubicBezTo>
                  <a:pt x="114" y="409"/>
                  <a:pt x="109" y="393"/>
                  <a:pt x="104" y="378"/>
                </a:cubicBezTo>
                <a:cubicBezTo>
                  <a:pt x="103" y="373"/>
                  <a:pt x="102" y="368"/>
                  <a:pt x="100" y="363"/>
                </a:cubicBezTo>
                <a:cubicBezTo>
                  <a:pt x="101" y="363"/>
                  <a:pt x="101" y="363"/>
                  <a:pt x="101" y="363"/>
                </a:cubicBezTo>
                <a:cubicBezTo>
                  <a:pt x="102" y="364"/>
                  <a:pt x="103" y="364"/>
                  <a:pt x="104" y="364"/>
                </a:cubicBezTo>
                <a:cubicBezTo>
                  <a:pt x="105" y="364"/>
                  <a:pt x="106" y="364"/>
                  <a:pt x="107" y="364"/>
                </a:cubicBezTo>
                <a:cubicBezTo>
                  <a:pt x="107" y="364"/>
                  <a:pt x="107" y="364"/>
                  <a:pt x="107" y="364"/>
                </a:cubicBezTo>
                <a:cubicBezTo>
                  <a:pt x="108" y="364"/>
                  <a:pt x="108" y="364"/>
                  <a:pt x="109" y="364"/>
                </a:cubicBezTo>
                <a:cubicBezTo>
                  <a:pt x="110" y="365"/>
                  <a:pt x="112" y="365"/>
                  <a:pt x="113" y="365"/>
                </a:cubicBezTo>
                <a:cubicBezTo>
                  <a:pt x="115" y="365"/>
                  <a:pt x="117" y="365"/>
                  <a:pt x="118" y="365"/>
                </a:cubicBezTo>
                <a:cubicBezTo>
                  <a:pt x="119" y="365"/>
                  <a:pt x="119" y="365"/>
                  <a:pt x="119" y="365"/>
                </a:cubicBezTo>
                <a:cubicBezTo>
                  <a:pt x="120" y="365"/>
                  <a:pt x="120" y="365"/>
                  <a:pt x="120" y="365"/>
                </a:cubicBezTo>
                <a:cubicBezTo>
                  <a:pt x="120" y="365"/>
                  <a:pt x="120" y="365"/>
                  <a:pt x="120" y="365"/>
                </a:cubicBezTo>
                <a:cubicBezTo>
                  <a:pt x="121" y="366"/>
                  <a:pt x="122" y="366"/>
                  <a:pt x="123" y="366"/>
                </a:cubicBezTo>
                <a:cubicBezTo>
                  <a:pt x="124" y="366"/>
                  <a:pt x="125" y="366"/>
                  <a:pt x="127" y="366"/>
                </a:cubicBezTo>
                <a:cubicBezTo>
                  <a:pt x="130" y="366"/>
                  <a:pt x="134" y="367"/>
                  <a:pt x="138" y="367"/>
                </a:cubicBezTo>
                <a:cubicBezTo>
                  <a:pt x="138" y="367"/>
                  <a:pt x="139" y="367"/>
                  <a:pt x="140" y="367"/>
                </a:cubicBezTo>
                <a:cubicBezTo>
                  <a:pt x="141" y="367"/>
                  <a:pt x="142" y="367"/>
                  <a:pt x="143" y="367"/>
                </a:cubicBezTo>
                <a:cubicBezTo>
                  <a:pt x="147" y="368"/>
                  <a:pt x="152" y="368"/>
                  <a:pt x="156" y="368"/>
                </a:cubicBezTo>
                <a:cubicBezTo>
                  <a:pt x="156" y="368"/>
                  <a:pt x="157" y="368"/>
                  <a:pt x="157" y="368"/>
                </a:cubicBezTo>
                <a:cubicBezTo>
                  <a:pt x="163" y="369"/>
                  <a:pt x="169" y="369"/>
                  <a:pt x="175" y="370"/>
                </a:cubicBezTo>
                <a:cubicBezTo>
                  <a:pt x="175" y="370"/>
                  <a:pt x="175" y="370"/>
                  <a:pt x="175" y="370"/>
                </a:cubicBezTo>
                <a:cubicBezTo>
                  <a:pt x="180" y="370"/>
                  <a:pt x="185" y="370"/>
                  <a:pt x="190" y="371"/>
                </a:cubicBezTo>
                <a:cubicBezTo>
                  <a:pt x="194" y="371"/>
                  <a:pt x="198" y="372"/>
                  <a:pt x="202" y="372"/>
                </a:cubicBezTo>
                <a:cubicBezTo>
                  <a:pt x="203" y="372"/>
                  <a:pt x="203" y="372"/>
                  <a:pt x="203" y="372"/>
                </a:cubicBezTo>
                <a:cubicBezTo>
                  <a:pt x="208" y="372"/>
                  <a:pt x="212" y="373"/>
                  <a:pt x="217" y="374"/>
                </a:cubicBezTo>
                <a:cubicBezTo>
                  <a:pt x="217" y="374"/>
                  <a:pt x="217" y="374"/>
                  <a:pt x="217" y="374"/>
                </a:cubicBezTo>
                <a:cubicBezTo>
                  <a:pt x="222" y="374"/>
                  <a:pt x="227" y="375"/>
                  <a:pt x="231" y="376"/>
                </a:cubicBezTo>
                <a:cubicBezTo>
                  <a:pt x="234" y="376"/>
                  <a:pt x="236" y="376"/>
                  <a:pt x="238" y="377"/>
                </a:cubicBezTo>
                <a:cubicBezTo>
                  <a:pt x="238" y="377"/>
                  <a:pt x="238" y="377"/>
                  <a:pt x="238" y="377"/>
                </a:cubicBezTo>
                <a:cubicBezTo>
                  <a:pt x="241" y="377"/>
                  <a:pt x="243" y="378"/>
                  <a:pt x="245" y="378"/>
                </a:cubicBezTo>
                <a:cubicBezTo>
                  <a:pt x="245" y="378"/>
                  <a:pt x="245" y="378"/>
                  <a:pt x="245" y="378"/>
                </a:cubicBezTo>
                <a:cubicBezTo>
                  <a:pt x="247" y="379"/>
                  <a:pt x="250" y="379"/>
                  <a:pt x="252" y="380"/>
                </a:cubicBezTo>
                <a:cubicBezTo>
                  <a:pt x="252" y="380"/>
                  <a:pt x="252" y="380"/>
                  <a:pt x="252" y="380"/>
                </a:cubicBezTo>
                <a:cubicBezTo>
                  <a:pt x="254" y="381"/>
                  <a:pt x="256" y="381"/>
                  <a:pt x="258" y="382"/>
                </a:cubicBezTo>
                <a:cubicBezTo>
                  <a:pt x="258" y="382"/>
                  <a:pt x="258" y="382"/>
                  <a:pt x="258" y="382"/>
                </a:cubicBezTo>
                <a:cubicBezTo>
                  <a:pt x="260" y="383"/>
                  <a:pt x="262" y="384"/>
                  <a:pt x="264" y="385"/>
                </a:cubicBezTo>
                <a:cubicBezTo>
                  <a:pt x="265" y="385"/>
                  <a:pt x="265" y="385"/>
                  <a:pt x="265" y="385"/>
                </a:cubicBezTo>
                <a:cubicBezTo>
                  <a:pt x="266" y="385"/>
                  <a:pt x="267" y="386"/>
                  <a:pt x="268" y="386"/>
                </a:cubicBezTo>
                <a:cubicBezTo>
                  <a:pt x="271" y="387"/>
                  <a:pt x="274" y="389"/>
                  <a:pt x="277" y="390"/>
                </a:cubicBezTo>
                <a:cubicBezTo>
                  <a:pt x="277" y="391"/>
                  <a:pt x="277" y="391"/>
                  <a:pt x="277" y="391"/>
                </a:cubicBezTo>
                <a:cubicBezTo>
                  <a:pt x="280" y="392"/>
                  <a:pt x="283" y="394"/>
                  <a:pt x="286" y="395"/>
                </a:cubicBezTo>
                <a:cubicBezTo>
                  <a:pt x="286" y="396"/>
                  <a:pt x="286" y="396"/>
                  <a:pt x="287" y="396"/>
                </a:cubicBezTo>
                <a:cubicBezTo>
                  <a:pt x="290" y="398"/>
                  <a:pt x="292" y="399"/>
                  <a:pt x="295" y="401"/>
                </a:cubicBezTo>
                <a:cubicBezTo>
                  <a:pt x="295" y="402"/>
                  <a:pt x="296" y="402"/>
                  <a:pt x="296" y="402"/>
                </a:cubicBezTo>
                <a:cubicBezTo>
                  <a:pt x="299" y="404"/>
                  <a:pt x="301" y="406"/>
                  <a:pt x="304" y="408"/>
                </a:cubicBezTo>
                <a:cubicBezTo>
                  <a:pt x="304" y="408"/>
                  <a:pt x="304" y="408"/>
                  <a:pt x="304" y="408"/>
                </a:cubicBezTo>
                <a:cubicBezTo>
                  <a:pt x="306" y="410"/>
                  <a:pt x="309" y="412"/>
                  <a:pt x="311" y="415"/>
                </a:cubicBezTo>
                <a:cubicBezTo>
                  <a:pt x="312" y="416"/>
                  <a:pt x="312" y="416"/>
                  <a:pt x="312" y="416"/>
                </a:cubicBezTo>
                <a:cubicBezTo>
                  <a:pt x="314" y="418"/>
                  <a:pt x="317" y="420"/>
                  <a:pt x="319" y="422"/>
                </a:cubicBezTo>
                <a:cubicBezTo>
                  <a:pt x="319" y="423"/>
                  <a:pt x="319" y="423"/>
                  <a:pt x="320" y="423"/>
                </a:cubicBezTo>
                <a:cubicBezTo>
                  <a:pt x="322" y="426"/>
                  <a:pt x="324" y="428"/>
                  <a:pt x="326" y="430"/>
                </a:cubicBezTo>
                <a:cubicBezTo>
                  <a:pt x="326" y="431"/>
                  <a:pt x="326" y="431"/>
                  <a:pt x="326" y="431"/>
                </a:cubicBezTo>
                <a:cubicBezTo>
                  <a:pt x="328" y="433"/>
                  <a:pt x="330" y="435"/>
                  <a:pt x="331" y="438"/>
                </a:cubicBezTo>
                <a:cubicBezTo>
                  <a:pt x="332" y="438"/>
                  <a:pt x="332" y="439"/>
                  <a:pt x="332" y="439"/>
                </a:cubicBezTo>
                <a:cubicBezTo>
                  <a:pt x="334" y="441"/>
                  <a:pt x="336" y="444"/>
                  <a:pt x="337" y="446"/>
                </a:cubicBezTo>
                <a:cubicBezTo>
                  <a:pt x="337" y="447"/>
                  <a:pt x="338" y="447"/>
                  <a:pt x="338" y="448"/>
                </a:cubicBezTo>
                <a:cubicBezTo>
                  <a:pt x="340" y="450"/>
                  <a:pt x="341" y="453"/>
                  <a:pt x="342" y="456"/>
                </a:cubicBezTo>
                <a:cubicBezTo>
                  <a:pt x="343" y="456"/>
                  <a:pt x="343" y="456"/>
                  <a:pt x="343" y="456"/>
                </a:cubicBezTo>
                <a:cubicBezTo>
                  <a:pt x="344" y="458"/>
                  <a:pt x="345" y="461"/>
                  <a:pt x="346" y="463"/>
                </a:cubicBezTo>
                <a:cubicBezTo>
                  <a:pt x="346" y="464"/>
                  <a:pt x="347" y="464"/>
                  <a:pt x="347" y="465"/>
                </a:cubicBezTo>
                <a:cubicBezTo>
                  <a:pt x="348" y="467"/>
                  <a:pt x="349" y="470"/>
                  <a:pt x="350" y="472"/>
                </a:cubicBezTo>
                <a:cubicBezTo>
                  <a:pt x="350" y="473"/>
                  <a:pt x="350" y="473"/>
                  <a:pt x="351" y="474"/>
                </a:cubicBezTo>
                <a:cubicBezTo>
                  <a:pt x="351" y="477"/>
                  <a:pt x="352" y="479"/>
                  <a:pt x="353" y="482"/>
                </a:cubicBezTo>
                <a:cubicBezTo>
                  <a:pt x="353" y="482"/>
                  <a:pt x="353" y="482"/>
                  <a:pt x="353" y="482"/>
                </a:cubicBezTo>
                <a:cubicBezTo>
                  <a:pt x="354" y="485"/>
                  <a:pt x="354" y="487"/>
                  <a:pt x="355" y="490"/>
                </a:cubicBezTo>
                <a:cubicBezTo>
                  <a:pt x="355" y="490"/>
                  <a:pt x="355" y="491"/>
                  <a:pt x="355" y="491"/>
                </a:cubicBezTo>
                <a:cubicBezTo>
                  <a:pt x="356" y="494"/>
                  <a:pt x="356" y="496"/>
                  <a:pt x="356" y="499"/>
                </a:cubicBezTo>
                <a:cubicBezTo>
                  <a:pt x="356" y="499"/>
                  <a:pt x="356" y="500"/>
                  <a:pt x="356" y="500"/>
                </a:cubicBezTo>
                <a:cubicBezTo>
                  <a:pt x="357" y="503"/>
                  <a:pt x="357" y="505"/>
                  <a:pt x="357" y="508"/>
                </a:cubicBezTo>
                <a:cubicBezTo>
                  <a:pt x="357" y="508"/>
                  <a:pt x="357" y="508"/>
                  <a:pt x="357" y="509"/>
                </a:cubicBezTo>
                <a:cubicBezTo>
                  <a:pt x="357" y="509"/>
                  <a:pt x="357" y="510"/>
                  <a:pt x="357" y="510"/>
                </a:cubicBezTo>
                <a:cubicBezTo>
                  <a:pt x="357" y="510"/>
                  <a:pt x="357" y="511"/>
                  <a:pt x="357" y="511"/>
                </a:cubicBezTo>
                <a:cubicBezTo>
                  <a:pt x="357" y="512"/>
                  <a:pt x="357" y="512"/>
                  <a:pt x="357" y="513"/>
                </a:cubicBezTo>
                <a:cubicBezTo>
                  <a:pt x="390" y="291"/>
                  <a:pt x="390" y="291"/>
                  <a:pt x="390" y="291"/>
                </a:cubicBezTo>
                <a:cubicBezTo>
                  <a:pt x="390" y="290"/>
                  <a:pt x="390" y="290"/>
                  <a:pt x="391" y="290"/>
                </a:cubicBezTo>
                <a:cubicBezTo>
                  <a:pt x="391" y="289"/>
                  <a:pt x="391" y="289"/>
                  <a:pt x="391" y="288"/>
                </a:cubicBezTo>
                <a:cubicBezTo>
                  <a:pt x="391" y="288"/>
                  <a:pt x="391" y="288"/>
                  <a:pt x="391" y="287"/>
                </a:cubicBezTo>
                <a:cubicBezTo>
                  <a:pt x="391" y="287"/>
                  <a:pt x="391" y="287"/>
                  <a:pt x="391" y="286"/>
                </a:cubicBezTo>
                <a:cubicBezTo>
                  <a:pt x="391" y="284"/>
                  <a:pt x="390" y="281"/>
                  <a:pt x="390" y="279"/>
                </a:cubicBezTo>
                <a:cubicBezTo>
                  <a:pt x="390" y="279"/>
                  <a:pt x="390" y="278"/>
                  <a:pt x="390" y="278"/>
                </a:cubicBezTo>
                <a:cubicBezTo>
                  <a:pt x="390" y="275"/>
                  <a:pt x="389" y="273"/>
                  <a:pt x="389" y="271"/>
                </a:cubicBezTo>
                <a:cubicBezTo>
                  <a:pt x="389" y="270"/>
                  <a:pt x="389" y="270"/>
                  <a:pt x="388" y="269"/>
                </a:cubicBezTo>
                <a:cubicBezTo>
                  <a:pt x="387" y="264"/>
                  <a:pt x="386" y="259"/>
                  <a:pt x="384" y="254"/>
                </a:cubicBezTo>
                <a:cubicBezTo>
                  <a:pt x="383" y="254"/>
                  <a:pt x="383" y="254"/>
                  <a:pt x="383" y="254"/>
                </a:cubicBezTo>
                <a:cubicBezTo>
                  <a:pt x="383" y="253"/>
                  <a:pt x="383" y="253"/>
                  <a:pt x="383" y="253"/>
                </a:cubicBezTo>
                <a:cubicBezTo>
                  <a:pt x="382" y="251"/>
                  <a:pt x="381" y="249"/>
                  <a:pt x="380" y="247"/>
                </a:cubicBezTo>
                <a:cubicBezTo>
                  <a:pt x="380" y="246"/>
                  <a:pt x="380" y="246"/>
                  <a:pt x="380" y="246"/>
                </a:cubicBezTo>
                <a:cubicBezTo>
                  <a:pt x="380" y="245"/>
                  <a:pt x="379" y="245"/>
                  <a:pt x="379" y="244"/>
                </a:cubicBezTo>
                <a:cubicBezTo>
                  <a:pt x="378" y="242"/>
                  <a:pt x="377" y="240"/>
                  <a:pt x="375" y="237"/>
                </a:cubicBezTo>
                <a:cubicBezTo>
                  <a:pt x="375" y="237"/>
                  <a:pt x="375" y="237"/>
                  <a:pt x="375" y="237"/>
                </a:cubicBezTo>
                <a:cubicBezTo>
                  <a:pt x="374" y="235"/>
                  <a:pt x="372" y="232"/>
                  <a:pt x="371" y="230"/>
                </a:cubicBezTo>
                <a:cubicBezTo>
                  <a:pt x="370" y="229"/>
                  <a:pt x="370" y="229"/>
                  <a:pt x="370" y="229"/>
                </a:cubicBezTo>
                <a:cubicBezTo>
                  <a:pt x="368" y="226"/>
                  <a:pt x="366" y="224"/>
                  <a:pt x="365" y="222"/>
                </a:cubicBezTo>
                <a:cubicBezTo>
                  <a:pt x="364" y="221"/>
                  <a:pt x="364" y="221"/>
                  <a:pt x="364" y="221"/>
                </a:cubicBezTo>
                <a:cubicBezTo>
                  <a:pt x="364" y="221"/>
                  <a:pt x="364" y="221"/>
                  <a:pt x="364" y="221"/>
                </a:cubicBezTo>
                <a:cubicBezTo>
                  <a:pt x="362" y="218"/>
                  <a:pt x="360" y="216"/>
                  <a:pt x="358" y="214"/>
                </a:cubicBezTo>
                <a:cubicBezTo>
                  <a:pt x="358" y="214"/>
                  <a:pt x="358" y="214"/>
                  <a:pt x="358" y="214"/>
                </a:cubicBezTo>
                <a:cubicBezTo>
                  <a:pt x="357" y="212"/>
                  <a:pt x="355" y="210"/>
                  <a:pt x="354" y="209"/>
                </a:cubicBezTo>
                <a:cubicBezTo>
                  <a:pt x="353" y="208"/>
                  <a:pt x="353" y="208"/>
                  <a:pt x="352" y="208"/>
                </a:cubicBezTo>
                <a:cubicBezTo>
                  <a:pt x="351" y="206"/>
                  <a:pt x="349" y="204"/>
                  <a:pt x="347" y="202"/>
                </a:cubicBezTo>
                <a:cubicBezTo>
                  <a:pt x="346" y="202"/>
                  <a:pt x="345" y="201"/>
                  <a:pt x="344" y="200"/>
                </a:cubicBezTo>
                <a:cubicBezTo>
                  <a:pt x="341" y="197"/>
                  <a:pt x="338" y="195"/>
                  <a:pt x="335" y="193"/>
                </a:cubicBezTo>
                <a:cubicBezTo>
                  <a:pt x="335" y="193"/>
                  <a:pt x="335" y="193"/>
                  <a:pt x="335" y="193"/>
                </a:cubicBezTo>
                <a:cubicBezTo>
                  <a:pt x="335" y="192"/>
                  <a:pt x="334" y="192"/>
                  <a:pt x="334" y="192"/>
                </a:cubicBezTo>
                <a:cubicBezTo>
                  <a:pt x="331" y="190"/>
                  <a:pt x="328" y="188"/>
                  <a:pt x="325" y="186"/>
                </a:cubicBezTo>
                <a:cubicBezTo>
                  <a:pt x="324" y="185"/>
                  <a:pt x="323" y="184"/>
                  <a:pt x="322" y="184"/>
                </a:cubicBezTo>
                <a:cubicBezTo>
                  <a:pt x="320" y="182"/>
                  <a:pt x="317" y="181"/>
                  <a:pt x="315" y="180"/>
                </a:cubicBezTo>
                <a:cubicBezTo>
                  <a:pt x="314" y="179"/>
                  <a:pt x="314" y="179"/>
                  <a:pt x="313" y="179"/>
                </a:cubicBezTo>
                <a:cubicBezTo>
                  <a:pt x="311" y="178"/>
                  <a:pt x="310" y="177"/>
                  <a:pt x="308" y="176"/>
                </a:cubicBezTo>
                <a:cubicBezTo>
                  <a:pt x="307" y="176"/>
                  <a:pt x="307" y="176"/>
                  <a:pt x="307" y="176"/>
                </a:cubicBezTo>
                <a:cubicBezTo>
                  <a:pt x="304" y="174"/>
                  <a:pt x="301" y="173"/>
                  <a:pt x="298" y="172"/>
                </a:cubicBezTo>
                <a:cubicBezTo>
                  <a:pt x="297" y="171"/>
                  <a:pt x="297" y="171"/>
                  <a:pt x="297" y="171"/>
                </a:cubicBezTo>
                <a:cubicBezTo>
                  <a:pt x="297" y="171"/>
                  <a:pt x="296" y="171"/>
                  <a:pt x="295" y="171"/>
                </a:cubicBezTo>
                <a:cubicBezTo>
                  <a:pt x="295" y="171"/>
                  <a:pt x="295" y="171"/>
                  <a:pt x="295" y="171"/>
                </a:cubicBezTo>
                <a:cubicBezTo>
                  <a:pt x="295" y="170"/>
                  <a:pt x="295" y="170"/>
                  <a:pt x="295" y="170"/>
                </a:cubicBezTo>
                <a:cubicBezTo>
                  <a:pt x="294" y="170"/>
                  <a:pt x="294" y="170"/>
                  <a:pt x="293" y="170"/>
                </a:cubicBezTo>
                <a:cubicBezTo>
                  <a:pt x="292" y="170"/>
                  <a:pt x="292" y="169"/>
                  <a:pt x="291" y="169"/>
                </a:cubicBezTo>
                <a:cubicBezTo>
                  <a:pt x="290" y="169"/>
                  <a:pt x="290" y="169"/>
                  <a:pt x="289" y="169"/>
                </a:cubicBezTo>
                <a:cubicBezTo>
                  <a:pt x="288" y="168"/>
                  <a:pt x="288" y="168"/>
                  <a:pt x="288" y="168"/>
                </a:cubicBezTo>
                <a:cubicBezTo>
                  <a:pt x="288" y="168"/>
                  <a:pt x="288" y="168"/>
                  <a:pt x="288" y="168"/>
                </a:cubicBezTo>
                <a:cubicBezTo>
                  <a:pt x="287" y="168"/>
                  <a:pt x="287" y="168"/>
                  <a:pt x="287" y="168"/>
                </a:cubicBezTo>
                <a:cubicBezTo>
                  <a:pt x="287" y="168"/>
                  <a:pt x="286" y="168"/>
                  <a:pt x="286" y="167"/>
                </a:cubicBezTo>
                <a:cubicBezTo>
                  <a:pt x="285" y="167"/>
                  <a:pt x="284" y="167"/>
                  <a:pt x="284" y="167"/>
                </a:cubicBezTo>
                <a:cubicBezTo>
                  <a:pt x="283" y="167"/>
                  <a:pt x="283" y="167"/>
                  <a:pt x="282" y="166"/>
                </a:cubicBezTo>
                <a:cubicBezTo>
                  <a:pt x="282" y="166"/>
                  <a:pt x="282" y="166"/>
                  <a:pt x="282" y="166"/>
                </a:cubicBezTo>
                <a:cubicBezTo>
                  <a:pt x="281" y="166"/>
                  <a:pt x="281" y="166"/>
                  <a:pt x="281" y="166"/>
                </a:cubicBezTo>
                <a:cubicBezTo>
                  <a:pt x="281" y="166"/>
                  <a:pt x="281" y="166"/>
                  <a:pt x="281" y="166"/>
                </a:cubicBezTo>
                <a:cubicBezTo>
                  <a:pt x="280" y="166"/>
                  <a:pt x="280" y="166"/>
                  <a:pt x="279" y="166"/>
                </a:cubicBezTo>
                <a:cubicBezTo>
                  <a:pt x="279" y="166"/>
                  <a:pt x="279" y="165"/>
                  <a:pt x="278" y="165"/>
                </a:cubicBezTo>
                <a:cubicBezTo>
                  <a:pt x="278" y="165"/>
                  <a:pt x="277" y="165"/>
                  <a:pt x="277" y="165"/>
                </a:cubicBezTo>
                <a:cubicBezTo>
                  <a:pt x="276" y="165"/>
                  <a:pt x="276" y="165"/>
                  <a:pt x="275" y="165"/>
                </a:cubicBezTo>
                <a:cubicBezTo>
                  <a:pt x="275" y="165"/>
                  <a:pt x="275" y="165"/>
                  <a:pt x="275" y="165"/>
                </a:cubicBezTo>
                <a:cubicBezTo>
                  <a:pt x="275" y="165"/>
                  <a:pt x="275" y="165"/>
                  <a:pt x="275" y="165"/>
                </a:cubicBezTo>
                <a:cubicBezTo>
                  <a:pt x="274" y="164"/>
                  <a:pt x="274" y="164"/>
                  <a:pt x="274" y="164"/>
                </a:cubicBezTo>
                <a:cubicBezTo>
                  <a:pt x="274" y="164"/>
                  <a:pt x="273" y="164"/>
                  <a:pt x="273" y="164"/>
                </a:cubicBezTo>
                <a:cubicBezTo>
                  <a:pt x="272" y="164"/>
                  <a:pt x="272" y="164"/>
                  <a:pt x="271" y="164"/>
                </a:cubicBezTo>
                <a:cubicBezTo>
                  <a:pt x="270" y="164"/>
                  <a:pt x="270" y="164"/>
                  <a:pt x="270" y="164"/>
                </a:cubicBezTo>
                <a:cubicBezTo>
                  <a:pt x="270" y="164"/>
                  <a:pt x="269" y="163"/>
                  <a:pt x="269" y="163"/>
                </a:cubicBezTo>
                <a:cubicBezTo>
                  <a:pt x="268" y="163"/>
                  <a:pt x="268" y="163"/>
                  <a:pt x="268" y="163"/>
                </a:cubicBezTo>
                <a:cubicBezTo>
                  <a:pt x="268" y="163"/>
                  <a:pt x="268" y="163"/>
                  <a:pt x="268" y="163"/>
                </a:cubicBezTo>
                <a:cubicBezTo>
                  <a:pt x="268" y="163"/>
                  <a:pt x="268" y="163"/>
                  <a:pt x="268" y="163"/>
                </a:cubicBezTo>
                <a:cubicBezTo>
                  <a:pt x="266" y="163"/>
                  <a:pt x="266" y="163"/>
                  <a:pt x="266" y="163"/>
                </a:cubicBezTo>
                <a:cubicBezTo>
                  <a:pt x="266" y="163"/>
                  <a:pt x="265" y="163"/>
                  <a:pt x="265" y="163"/>
                </a:cubicBezTo>
                <a:cubicBezTo>
                  <a:pt x="265" y="163"/>
                  <a:pt x="264" y="163"/>
                  <a:pt x="264" y="162"/>
                </a:cubicBezTo>
                <a:cubicBezTo>
                  <a:pt x="263" y="162"/>
                  <a:pt x="263" y="162"/>
                  <a:pt x="262" y="162"/>
                </a:cubicBezTo>
                <a:cubicBezTo>
                  <a:pt x="262" y="162"/>
                  <a:pt x="262" y="162"/>
                  <a:pt x="261" y="162"/>
                </a:cubicBezTo>
                <a:cubicBezTo>
                  <a:pt x="261" y="162"/>
                  <a:pt x="261" y="162"/>
                  <a:pt x="261" y="162"/>
                </a:cubicBezTo>
                <a:cubicBezTo>
                  <a:pt x="261" y="162"/>
                  <a:pt x="261" y="162"/>
                  <a:pt x="261" y="162"/>
                </a:cubicBezTo>
                <a:cubicBezTo>
                  <a:pt x="261" y="162"/>
                  <a:pt x="261" y="162"/>
                  <a:pt x="261" y="162"/>
                </a:cubicBezTo>
                <a:cubicBezTo>
                  <a:pt x="261" y="162"/>
                  <a:pt x="261" y="162"/>
                  <a:pt x="261" y="162"/>
                </a:cubicBezTo>
                <a:cubicBezTo>
                  <a:pt x="259" y="162"/>
                  <a:pt x="258" y="162"/>
                  <a:pt x="257" y="162"/>
                </a:cubicBezTo>
                <a:cubicBezTo>
                  <a:pt x="256" y="161"/>
                  <a:pt x="254" y="161"/>
                  <a:pt x="253" y="161"/>
                </a:cubicBezTo>
                <a:cubicBezTo>
                  <a:pt x="252" y="161"/>
                  <a:pt x="251" y="161"/>
                  <a:pt x="249" y="161"/>
                </a:cubicBezTo>
                <a:cubicBezTo>
                  <a:pt x="248" y="160"/>
                  <a:pt x="247" y="160"/>
                  <a:pt x="246" y="160"/>
                </a:cubicBezTo>
                <a:cubicBezTo>
                  <a:pt x="246" y="160"/>
                  <a:pt x="246" y="160"/>
                  <a:pt x="246" y="160"/>
                </a:cubicBezTo>
                <a:cubicBezTo>
                  <a:pt x="246" y="160"/>
                  <a:pt x="246" y="160"/>
                  <a:pt x="246" y="160"/>
                </a:cubicBezTo>
                <a:cubicBezTo>
                  <a:pt x="244" y="160"/>
                  <a:pt x="242" y="160"/>
                  <a:pt x="240" y="160"/>
                </a:cubicBezTo>
                <a:cubicBezTo>
                  <a:pt x="237" y="159"/>
                  <a:pt x="235" y="159"/>
                  <a:pt x="233" y="159"/>
                </a:cubicBezTo>
                <a:cubicBezTo>
                  <a:pt x="232" y="159"/>
                  <a:pt x="232" y="159"/>
                  <a:pt x="232" y="159"/>
                </a:cubicBezTo>
                <a:cubicBezTo>
                  <a:pt x="231" y="159"/>
                  <a:pt x="231" y="159"/>
                  <a:pt x="231" y="159"/>
                </a:cubicBezTo>
                <a:cubicBezTo>
                  <a:pt x="230" y="159"/>
                  <a:pt x="228" y="158"/>
                  <a:pt x="227" y="158"/>
                </a:cubicBezTo>
                <a:cubicBezTo>
                  <a:pt x="225" y="158"/>
                  <a:pt x="223" y="158"/>
                  <a:pt x="221" y="158"/>
                </a:cubicBezTo>
                <a:cubicBezTo>
                  <a:pt x="220" y="158"/>
                  <a:pt x="220" y="158"/>
                  <a:pt x="219" y="158"/>
                </a:cubicBezTo>
                <a:cubicBezTo>
                  <a:pt x="214" y="157"/>
                  <a:pt x="210" y="157"/>
                  <a:pt x="205" y="157"/>
                </a:cubicBezTo>
                <a:cubicBezTo>
                  <a:pt x="204" y="157"/>
                  <a:pt x="204" y="157"/>
                  <a:pt x="203" y="157"/>
                </a:cubicBezTo>
                <a:cubicBezTo>
                  <a:pt x="201" y="156"/>
                  <a:pt x="199" y="156"/>
                  <a:pt x="197" y="156"/>
                </a:cubicBezTo>
                <a:cubicBezTo>
                  <a:pt x="193" y="156"/>
                  <a:pt x="189" y="156"/>
                  <a:pt x="186" y="155"/>
                </a:cubicBezTo>
                <a:cubicBezTo>
                  <a:pt x="185" y="155"/>
                  <a:pt x="185" y="155"/>
                  <a:pt x="185" y="155"/>
                </a:cubicBezTo>
                <a:cubicBezTo>
                  <a:pt x="180" y="155"/>
                  <a:pt x="175" y="155"/>
                  <a:pt x="170" y="155"/>
                </a:cubicBezTo>
                <a:cubicBezTo>
                  <a:pt x="169" y="154"/>
                  <a:pt x="167" y="154"/>
                  <a:pt x="165" y="154"/>
                </a:cubicBezTo>
                <a:cubicBezTo>
                  <a:pt x="161" y="154"/>
                  <a:pt x="158" y="154"/>
                  <a:pt x="154" y="153"/>
                </a:cubicBezTo>
                <a:cubicBezTo>
                  <a:pt x="152" y="153"/>
                  <a:pt x="149" y="153"/>
                  <a:pt x="147" y="153"/>
                </a:cubicBezTo>
                <a:cubicBezTo>
                  <a:pt x="146" y="153"/>
                  <a:pt x="146" y="153"/>
                  <a:pt x="146" y="153"/>
                </a:cubicBezTo>
                <a:cubicBezTo>
                  <a:pt x="142" y="152"/>
                  <a:pt x="138" y="152"/>
                  <a:pt x="134" y="152"/>
                </a:cubicBezTo>
                <a:cubicBezTo>
                  <a:pt x="133" y="152"/>
                  <a:pt x="133" y="152"/>
                  <a:pt x="133" y="152"/>
                </a:cubicBezTo>
                <a:cubicBezTo>
                  <a:pt x="129" y="151"/>
                  <a:pt x="125" y="151"/>
                  <a:pt x="121" y="150"/>
                </a:cubicBezTo>
                <a:cubicBezTo>
                  <a:pt x="121" y="150"/>
                  <a:pt x="121" y="150"/>
                  <a:pt x="121" y="150"/>
                </a:cubicBezTo>
                <a:cubicBezTo>
                  <a:pt x="117" y="150"/>
                  <a:pt x="113" y="149"/>
                  <a:pt x="110" y="148"/>
                </a:cubicBezTo>
                <a:cubicBezTo>
                  <a:pt x="109" y="148"/>
                  <a:pt x="109" y="148"/>
                  <a:pt x="109" y="148"/>
                </a:cubicBezTo>
                <a:cubicBezTo>
                  <a:pt x="106" y="148"/>
                  <a:pt x="102" y="147"/>
                  <a:pt x="99" y="146"/>
                </a:cubicBezTo>
                <a:cubicBezTo>
                  <a:pt x="99" y="146"/>
                  <a:pt x="99" y="146"/>
                  <a:pt x="99" y="146"/>
                </a:cubicBezTo>
                <a:cubicBezTo>
                  <a:pt x="97" y="146"/>
                  <a:pt x="95" y="145"/>
                  <a:pt x="94" y="145"/>
                </a:cubicBezTo>
                <a:cubicBezTo>
                  <a:pt x="94" y="145"/>
                  <a:pt x="94" y="145"/>
                  <a:pt x="94" y="145"/>
                </a:cubicBezTo>
                <a:cubicBezTo>
                  <a:pt x="92" y="144"/>
                  <a:pt x="90" y="144"/>
                  <a:pt x="89" y="144"/>
                </a:cubicBezTo>
                <a:cubicBezTo>
                  <a:pt x="89" y="144"/>
                  <a:pt x="89" y="144"/>
                  <a:pt x="89" y="144"/>
                </a:cubicBezTo>
                <a:cubicBezTo>
                  <a:pt x="87" y="143"/>
                  <a:pt x="86" y="143"/>
                  <a:pt x="84" y="142"/>
                </a:cubicBezTo>
                <a:cubicBezTo>
                  <a:pt x="84" y="142"/>
                  <a:pt x="84" y="142"/>
                  <a:pt x="84" y="142"/>
                </a:cubicBezTo>
                <a:cubicBezTo>
                  <a:pt x="83" y="142"/>
                  <a:pt x="82" y="141"/>
                  <a:pt x="81" y="141"/>
                </a:cubicBezTo>
                <a:cubicBezTo>
                  <a:pt x="80" y="140"/>
                  <a:pt x="79" y="140"/>
                  <a:pt x="78" y="140"/>
                </a:cubicBezTo>
                <a:cubicBezTo>
                  <a:pt x="78" y="139"/>
                  <a:pt x="77" y="139"/>
                  <a:pt x="76" y="139"/>
                </a:cubicBezTo>
                <a:cubicBezTo>
                  <a:pt x="75" y="138"/>
                  <a:pt x="75" y="138"/>
                  <a:pt x="74" y="137"/>
                </a:cubicBezTo>
                <a:cubicBezTo>
                  <a:pt x="73" y="137"/>
                  <a:pt x="73" y="137"/>
                  <a:pt x="72" y="137"/>
                </a:cubicBezTo>
                <a:cubicBezTo>
                  <a:pt x="72" y="136"/>
                  <a:pt x="71" y="136"/>
                  <a:pt x="70" y="135"/>
                </a:cubicBezTo>
                <a:cubicBezTo>
                  <a:pt x="70" y="135"/>
                  <a:pt x="69" y="135"/>
                  <a:pt x="69" y="135"/>
                </a:cubicBezTo>
                <a:cubicBezTo>
                  <a:pt x="68" y="134"/>
                  <a:pt x="67" y="133"/>
                  <a:pt x="66" y="132"/>
                </a:cubicBezTo>
                <a:cubicBezTo>
                  <a:pt x="57" y="126"/>
                  <a:pt x="51" y="117"/>
                  <a:pt x="45" y="108"/>
                </a:cubicBezTo>
                <a:cubicBezTo>
                  <a:pt x="39" y="99"/>
                  <a:pt x="35" y="88"/>
                  <a:pt x="32" y="78"/>
                </a:cubicBezTo>
                <a:cubicBezTo>
                  <a:pt x="28" y="68"/>
                  <a:pt x="26" y="57"/>
                  <a:pt x="25" y="48"/>
                </a:cubicBezTo>
                <a:cubicBezTo>
                  <a:pt x="23" y="38"/>
                  <a:pt x="23" y="29"/>
                  <a:pt x="23" y="22"/>
                </a:cubicBezTo>
                <a:cubicBezTo>
                  <a:pt x="23" y="20"/>
                  <a:pt x="23" y="18"/>
                  <a:pt x="23" y="16"/>
                </a:cubicBezTo>
                <a:cubicBezTo>
                  <a:pt x="23" y="14"/>
                  <a:pt x="23" y="12"/>
                  <a:pt x="23" y="10"/>
                </a:cubicBezTo>
                <a:cubicBezTo>
                  <a:pt x="24" y="8"/>
                  <a:pt x="24" y="7"/>
                  <a:pt x="24" y="5"/>
                </a:cubicBezTo>
                <a:cubicBezTo>
                  <a:pt x="24" y="3"/>
                  <a:pt x="24" y="2"/>
                  <a:pt x="24" y="0"/>
                </a:cubicBezTo>
                <a:cubicBezTo>
                  <a:pt x="17" y="68"/>
                  <a:pt x="9" y="135"/>
                  <a:pt x="2" y="203"/>
                </a:cubicBezTo>
                <a:cubicBezTo>
                  <a:pt x="2" y="204"/>
                  <a:pt x="1" y="206"/>
                  <a:pt x="1" y="208"/>
                </a:cubicBezTo>
                <a:cubicBezTo>
                  <a:pt x="1" y="210"/>
                  <a:pt x="1" y="211"/>
                  <a:pt x="1" y="213"/>
                </a:cubicBezTo>
                <a:cubicBezTo>
                  <a:pt x="1" y="215"/>
                  <a:pt x="0" y="217"/>
                  <a:pt x="0" y="220"/>
                </a:cubicBezTo>
                <a:cubicBezTo>
                  <a:pt x="0" y="222"/>
                  <a:pt x="0" y="224"/>
                  <a:pt x="0" y="226"/>
                </a:cubicBezTo>
                <a:cubicBezTo>
                  <a:pt x="0" y="234"/>
                  <a:pt x="0" y="243"/>
                  <a:pt x="1" y="253"/>
                </a:cubicBezTo>
                <a:cubicBezTo>
                  <a:pt x="3" y="264"/>
                  <a:pt x="5" y="275"/>
                  <a:pt x="8" y="286"/>
                </a:cubicBezTo>
                <a:cubicBezTo>
                  <a:pt x="11" y="297"/>
                  <a:pt x="16" y="308"/>
                  <a:pt x="21" y="318"/>
                </a:cubicBezTo>
                <a:cubicBezTo>
                  <a:pt x="26" y="328"/>
                  <a:pt x="33" y="337"/>
                  <a:pt x="41" y="343"/>
                </a:cubicBezTo>
                <a:cubicBezTo>
                  <a:pt x="42" y="344"/>
                  <a:pt x="43" y="345"/>
                  <a:pt x="44" y="346"/>
                </a:cubicBezTo>
                <a:cubicBezTo>
                  <a:pt x="44" y="346"/>
                  <a:pt x="44" y="346"/>
                  <a:pt x="44" y="346"/>
                </a:cubicBezTo>
                <a:cubicBezTo>
                  <a:pt x="45" y="347"/>
                  <a:pt x="45" y="347"/>
                  <a:pt x="45" y="347"/>
                </a:cubicBezTo>
                <a:cubicBezTo>
                  <a:pt x="46" y="347"/>
                  <a:pt x="47" y="348"/>
                  <a:pt x="47" y="348"/>
                </a:cubicBezTo>
                <a:cubicBezTo>
                  <a:pt x="48" y="348"/>
                  <a:pt x="48" y="348"/>
                  <a:pt x="48" y="348"/>
                </a:cubicBezTo>
                <a:cubicBezTo>
                  <a:pt x="48" y="349"/>
                  <a:pt x="48" y="349"/>
                  <a:pt x="49" y="349"/>
                </a:cubicBezTo>
                <a:cubicBezTo>
                  <a:pt x="50" y="349"/>
                  <a:pt x="50" y="350"/>
                  <a:pt x="51" y="350"/>
                </a:cubicBezTo>
                <a:cubicBezTo>
                  <a:pt x="52" y="351"/>
                  <a:pt x="52" y="351"/>
                  <a:pt x="52" y="351"/>
                </a:cubicBezTo>
                <a:cubicBezTo>
                  <a:pt x="52" y="351"/>
                  <a:pt x="52" y="351"/>
                  <a:pt x="53" y="351"/>
                </a:cubicBezTo>
                <a:cubicBezTo>
                  <a:pt x="54" y="352"/>
                  <a:pt x="55" y="352"/>
                  <a:pt x="55" y="352"/>
                </a:cubicBezTo>
                <a:cubicBezTo>
                  <a:pt x="56" y="353"/>
                  <a:pt x="56" y="353"/>
                  <a:pt x="56" y="353"/>
                </a:cubicBezTo>
                <a:cubicBezTo>
                  <a:pt x="56" y="353"/>
                  <a:pt x="57" y="353"/>
                  <a:pt x="57" y="353"/>
                </a:cubicBezTo>
                <a:cubicBezTo>
                  <a:pt x="58" y="353"/>
                  <a:pt x="58" y="353"/>
                  <a:pt x="58" y="354"/>
                </a:cubicBezTo>
                <a:cubicBezTo>
                  <a:pt x="59" y="354"/>
                  <a:pt x="59" y="354"/>
                  <a:pt x="59" y="354"/>
                </a:cubicBezTo>
                <a:cubicBezTo>
                  <a:pt x="59" y="354"/>
                  <a:pt x="59" y="354"/>
                  <a:pt x="59" y="354"/>
                </a:cubicBezTo>
                <a:cubicBezTo>
                  <a:pt x="60" y="354"/>
                  <a:pt x="60" y="354"/>
                  <a:pt x="60" y="354"/>
                </a:cubicBezTo>
                <a:cubicBezTo>
                  <a:pt x="60" y="354"/>
                  <a:pt x="61" y="355"/>
                  <a:pt x="61" y="355"/>
                </a:cubicBezTo>
                <a:cubicBezTo>
                  <a:pt x="62" y="355"/>
                  <a:pt x="62" y="355"/>
                  <a:pt x="62" y="355"/>
                </a:cubicBezTo>
                <a:cubicBezTo>
                  <a:pt x="63" y="355"/>
                  <a:pt x="63" y="355"/>
                  <a:pt x="63" y="355"/>
                </a:cubicBezTo>
                <a:cubicBezTo>
                  <a:pt x="64" y="356"/>
                  <a:pt x="64" y="356"/>
                  <a:pt x="64" y="356"/>
                </a:cubicBezTo>
                <a:cubicBezTo>
                  <a:pt x="64" y="356"/>
                  <a:pt x="64" y="356"/>
                  <a:pt x="64" y="356"/>
                </a:cubicBezTo>
                <a:cubicBezTo>
                  <a:pt x="64" y="356"/>
                  <a:pt x="65" y="356"/>
                  <a:pt x="65" y="356"/>
                </a:cubicBezTo>
                <a:cubicBezTo>
                  <a:pt x="65" y="356"/>
                  <a:pt x="66" y="356"/>
                  <a:pt x="66" y="356"/>
                </a:cubicBezTo>
                <a:cubicBezTo>
                  <a:pt x="67" y="357"/>
                  <a:pt x="67" y="357"/>
                  <a:pt x="68" y="357"/>
                </a:cubicBezTo>
                <a:cubicBezTo>
                  <a:pt x="68" y="357"/>
                  <a:pt x="68" y="357"/>
                  <a:pt x="68" y="357"/>
                </a:cubicBezTo>
                <a:cubicBezTo>
                  <a:pt x="68" y="357"/>
                  <a:pt x="68" y="357"/>
                  <a:pt x="68" y="357"/>
                </a:cubicBezTo>
                <a:cubicBezTo>
                  <a:pt x="69" y="357"/>
                  <a:pt x="69" y="357"/>
                  <a:pt x="69" y="357"/>
                </a:cubicBezTo>
                <a:cubicBezTo>
                  <a:pt x="69" y="357"/>
                  <a:pt x="70" y="357"/>
                  <a:pt x="70" y="358"/>
                </a:cubicBezTo>
                <a:cubicBezTo>
                  <a:pt x="71" y="358"/>
                  <a:pt x="71" y="358"/>
                  <a:pt x="72" y="358"/>
                </a:cubicBezTo>
                <a:cubicBezTo>
                  <a:pt x="72" y="358"/>
                  <a:pt x="72" y="358"/>
                  <a:pt x="73" y="358"/>
                </a:cubicBezTo>
                <a:cubicBezTo>
                  <a:pt x="73" y="358"/>
                  <a:pt x="73" y="358"/>
                  <a:pt x="73" y="358"/>
                </a:cubicBezTo>
                <a:cubicBezTo>
                  <a:pt x="73" y="358"/>
                  <a:pt x="73" y="358"/>
                  <a:pt x="73" y="358"/>
                </a:cubicBezTo>
                <a:cubicBezTo>
                  <a:pt x="73" y="358"/>
                  <a:pt x="73" y="358"/>
                  <a:pt x="73" y="358"/>
                </a:cubicBezTo>
                <a:cubicBezTo>
                  <a:pt x="74" y="358"/>
                  <a:pt x="74" y="359"/>
                  <a:pt x="74" y="359"/>
                </a:cubicBezTo>
                <a:cubicBezTo>
                  <a:pt x="75" y="359"/>
                  <a:pt x="75" y="359"/>
                  <a:pt x="76" y="359"/>
                </a:cubicBezTo>
                <a:cubicBezTo>
                  <a:pt x="76" y="359"/>
                  <a:pt x="77" y="359"/>
                  <a:pt x="77" y="359"/>
                </a:cubicBezTo>
                <a:cubicBezTo>
                  <a:pt x="78" y="359"/>
                  <a:pt x="79" y="360"/>
                  <a:pt x="79" y="360"/>
                </a:cubicBezTo>
                <a:cubicBezTo>
                  <a:pt x="80" y="360"/>
                  <a:pt x="80" y="360"/>
                  <a:pt x="81" y="360"/>
                </a:cubicBezTo>
                <a:cubicBezTo>
                  <a:pt x="81" y="360"/>
                  <a:pt x="82" y="360"/>
                  <a:pt x="82" y="360"/>
                </a:cubicBezTo>
                <a:cubicBezTo>
                  <a:pt x="84" y="361"/>
                  <a:pt x="84" y="361"/>
                  <a:pt x="84" y="361"/>
                </a:cubicBezTo>
                <a:cubicBezTo>
                  <a:pt x="84" y="361"/>
                  <a:pt x="84" y="361"/>
                  <a:pt x="84" y="361"/>
                </a:cubicBezTo>
                <a:cubicBezTo>
                  <a:pt x="84" y="361"/>
                  <a:pt x="84" y="361"/>
                  <a:pt x="84" y="361"/>
                </a:cubicBezTo>
                <a:cubicBezTo>
                  <a:pt x="85" y="361"/>
                  <a:pt x="85" y="361"/>
                  <a:pt x="85" y="361"/>
                </a:cubicBezTo>
                <a:cubicBezTo>
                  <a:pt x="78" y="416"/>
                  <a:pt x="71" y="472"/>
                  <a:pt x="64" y="528"/>
                </a:cubicBezTo>
                <a:cubicBezTo>
                  <a:pt x="63" y="536"/>
                  <a:pt x="64" y="547"/>
                  <a:pt x="66" y="560"/>
                </a:cubicBezTo>
                <a:cubicBezTo>
                  <a:pt x="69" y="574"/>
                  <a:pt x="72" y="589"/>
                  <a:pt x="76" y="605"/>
                </a:cubicBezTo>
                <a:cubicBezTo>
                  <a:pt x="80" y="621"/>
                  <a:pt x="85" y="637"/>
                  <a:pt x="90" y="653"/>
                </a:cubicBezTo>
                <a:cubicBezTo>
                  <a:pt x="94" y="669"/>
                  <a:pt x="99" y="685"/>
                  <a:pt x="102" y="698"/>
                </a:cubicBezTo>
                <a:cubicBezTo>
                  <a:pt x="103" y="700"/>
                  <a:pt x="103" y="701"/>
                  <a:pt x="104" y="703"/>
                </a:cubicBezTo>
                <a:cubicBezTo>
                  <a:pt x="104" y="704"/>
                  <a:pt x="104" y="704"/>
                  <a:pt x="105" y="705"/>
                </a:cubicBezTo>
                <a:cubicBezTo>
                  <a:pt x="105" y="706"/>
                  <a:pt x="105" y="707"/>
                  <a:pt x="106" y="709"/>
                </a:cubicBezTo>
                <a:cubicBezTo>
                  <a:pt x="106" y="709"/>
                  <a:pt x="106" y="710"/>
                  <a:pt x="106" y="711"/>
                </a:cubicBezTo>
                <a:cubicBezTo>
                  <a:pt x="107" y="712"/>
                  <a:pt x="107" y="713"/>
                  <a:pt x="108" y="714"/>
                </a:cubicBezTo>
                <a:cubicBezTo>
                  <a:pt x="108" y="714"/>
                  <a:pt x="108" y="715"/>
                  <a:pt x="108" y="715"/>
                </a:cubicBezTo>
                <a:cubicBezTo>
                  <a:pt x="109" y="716"/>
                  <a:pt x="109" y="717"/>
                  <a:pt x="109" y="718"/>
                </a:cubicBezTo>
                <a:cubicBezTo>
                  <a:pt x="110" y="719"/>
                  <a:pt x="110" y="719"/>
                  <a:pt x="110" y="719"/>
                </a:cubicBezTo>
                <a:cubicBezTo>
                  <a:pt x="110" y="720"/>
                  <a:pt x="110" y="720"/>
                  <a:pt x="110" y="720"/>
                </a:cubicBezTo>
                <a:cubicBezTo>
                  <a:pt x="111" y="721"/>
                  <a:pt x="111" y="722"/>
                  <a:pt x="111" y="723"/>
                </a:cubicBezTo>
                <a:cubicBezTo>
                  <a:pt x="112" y="723"/>
                  <a:pt x="112" y="724"/>
                  <a:pt x="112" y="724"/>
                </a:cubicBezTo>
                <a:cubicBezTo>
                  <a:pt x="113" y="725"/>
                  <a:pt x="113" y="726"/>
                  <a:pt x="114" y="727"/>
                </a:cubicBezTo>
                <a:cubicBezTo>
                  <a:pt x="114" y="727"/>
                  <a:pt x="114" y="728"/>
                  <a:pt x="114" y="728"/>
                </a:cubicBezTo>
                <a:cubicBezTo>
                  <a:pt x="115" y="729"/>
                  <a:pt x="115" y="730"/>
                  <a:pt x="116" y="731"/>
                </a:cubicBezTo>
                <a:cubicBezTo>
                  <a:pt x="116" y="731"/>
                  <a:pt x="116" y="732"/>
                  <a:pt x="117" y="732"/>
                </a:cubicBezTo>
                <a:cubicBezTo>
                  <a:pt x="117" y="733"/>
                  <a:pt x="117" y="733"/>
                  <a:pt x="117" y="733"/>
                </a:cubicBezTo>
                <a:cubicBezTo>
                  <a:pt x="117" y="733"/>
                  <a:pt x="118" y="734"/>
                  <a:pt x="118" y="734"/>
                </a:cubicBezTo>
                <a:cubicBezTo>
                  <a:pt x="119" y="735"/>
                  <a:pt x="119" y="735"/>
                  <a:pt x="119" y="735"/>
                </a:cubicBezTo>
                <a:cubicBezTo>
                  <a:pt x="119" y="736"/>
                  <a:pt x="119" y="736"/>
                  <a:pt x="119" y="736"/>
                </a:cubicBezTo>
                <a:cubicBezTo>
                  <a:pt x="119" y="736"/>
                  <a:pt x="120" y="737"/>
                  <a:pt x="121" y="738"/>
                </a:cubicBezTo>
                <a:cubicBezTo>
                  <a:pt x="121" y="739"/>
                  <a:pt x="121" y="739"/>
                  <a:pt x="121" y="739"/>
                </a:cubicBezTo>
                <a:cubicBezTo>
                  <a:pt x="122" y="740"/>
                  <a:pt x="123" y="741"/>
                  <a:pt x="124" y="742"/>
                </a:cubicBezTo>
                <a:cubicBezTo>
                  <a:pt x="125" y="743"/>
                  <a:pt x="125" y="743"/>
                  <a:pt x="125" y="743"/>
                </a:cubicBezTo>
                <a:cubicBezTo>
                  <a:pt x="125" y="743"/>
                  <a:pt x="126" y="744"/>
                  <a:pt x="126" y="745"/>
                </a:cubicBezTo>
                <a:cubicBezTo>
                  <a:pt x="127" y="745"/>
                  <a:pt x="127" y="745"/>
                  <a:pt x="127" y="746"/>
                </a:cubicBezTo>
                <a:cubicBezTo>
                  <a:pt x="128" y="746"/>
                  <a:pt x="128" y="747"/>
                  <a:pt x="129" y="747"/>
                </a:cubicBezTo>
                <a:cubicBezTo>
                  <a:pt x="129" y="747"/>
                  <a:pt x="129" y="747"/>
                  <a:pt x="129" y="747"/>
                </a:cubicBezTo>
                <a:cubicBezTo>
                  <a:pt x="130" y="748"/>
                  <a:pt x="130" y="748"/>
                  <a:pt x="130" y="748"/>
                </a:cubicBezTo>
                <a:cubicBezTo>
                  <a:pt x="131" y="748"/>
                  <a:pt x="131" y="749"/>
                  <a:pt x="132" y="749"/>
                </a:cubicBezTo>
                <a:cubicBezTo>
                  <a:pt x="132" y="750"/>
                  <a:pt x="133" y="750"/>
                  <a:pt x="133" y="750"/>
                </a:cubicBezTo>
                <a:cubicBezTo>
                  <a:pt x="134" y="751"/>
                  <a:pt x="134" y="751"/>
                  <a:pt x="135" y="751"/>
                </a:cubicBezTo>
                <a:cubicBezTo>
                  <a:pt x="135" y="752"/>
                  <a:pt x="135" y="752"/>
                  <a:pt x="136" y="752"/>
                </a:cubicBezTo>
                <a:cubicBezTo>
                  <a:pt x="137" y="753"/>
                  <a:pt x="137" y="753"/>
                  <a:pt x="137" y="753"/>
                </a:cubicBezTo>
                <a:cubicBezTo>
                  <a:pt x="137" y="753"/>
                  <a:pt x="137" y="753"/>
                  <a:pt x="137" y="753"/>
                </a:cubicBezTo>
                <a:cubicBezTo>
                  <a:pt x="139" y="754"/>
                  <a:pt x="140" y="755"/>
                  <a:pt x="141" y="755"/>
                </a:cubicBezTo>
                <a:cubicBezTo>
                  <a:pt x="142" y="756"/>
                  <a:pt x="142" y="756"/>
                  <a:pt x="142" y="756"/>
                </a:cubicBezTo>
                <a:cubicBezTo>
                  <a:pt x="142" y="756"/>
                  <a:pt x="142" y="756"/>
                  <a:pt x="142" y="756"/>
                </a:cubicBezTo>
                <a:cubicBezTo>
                  <a:pt x="142" y="756"/>
                  <a:pt x="142" y="756"/>
                  <a:pt x="142" y="756"/>
                </a:cubicBezTo>
                <a:cubicBezTo>
                  <a:pt x="143" y="756"/>
                  <a:pt x="143" y="756"/>
                  <a:pt x="143" y="756"/>
                </a:cubicBezTo>
                <a:cubicBezTo>
                  <a:pt x="144" y="757"/>
                  <a:pt x="144" y="757"/>
                  <a:pt x="144" y="757"/>
                </a:cubicBezTo>
                <a:cubicBezTo>
                  <a:pt x="145" y="757"/>
                  <a:pt x="145" y="757"/>
                  <a:pt x="145" y="757"/>
                </a:cubicBezTo>
                <a:cubicBezTo>
                  <a:pt x="146" y="757"/>
                  <a:pt x="146" y="757"/>
                  <a:pt x="146" y="757"/>
                </a:cubicBezTo>
                <a:cubicBezTo>
                  <a:pt x="147" y="758"/>
                  <a:pt x="147" y="758"/>
                  <a:pt x="147" y="758"/>
                </a:cubicBezTo>
                <a:cubicBezTo>
                  <a:pt x="147" y="758"/>
                  <a:pt x="147" y="758"/>
                  <a:pt x="147" y="758"/>
                </a:cubicBezTo>
                <a:cubicBezTo>
                  <a:pt x="148" y="758"/>
                  <a:pt x="148" y="758"/>
                  <a:pt x="148" y="758"/>
                </a:cubicBezTo>
                <a:cubicBezTo>
                  <a:pt x="148" y="758"/>
                  <a:pt x="148" y="758"/>
                  <a:pt x="148" y="758"/>
                </a:cubicBezTo>
                <a:cubicBezTo>
                  <a:pt x="148" y="758"/>
                  <a:pt x="148" y="758"/>
                  <a:pt x="148" y="758"/>
                </a:cubicBezTo>
                <a:cubicBezTo>
                  <a:pt x="149" y="758"/>
                  <a:pt x="149" y="758"/>
                  <a:pt x="149" y="758"/>
                </a:cubicBezTo>
                <a:cubicBezTo>
                  <a:pt x="150" y="759"/>
                  <a:pt x="150" y="759"/>
                  <a:pt x="150" y="759"/>
                </a:cubicBezTo>
                <a:cubicBezTo>
                  <a:pt x="150" y="759"/>
                  <a:pt x="150" y="759"/>
                  <a:pt x="150" y="759"/>
                </a:cubicBezTo>
                <a:cubicBezTo>
                  <a:pt x="151" y="759"/>
                  <a:pt x="151" y="759"/>
                  <a:pt x="151" y="759"/>
                </a:cubicBezTo>
                <a:cubicBezTo>
                  <a:pt x="152" y="759"/>
                  <a:pt x="152" y="759"/>
                  <a:pt x="152" y="759"/>
                </a:cubicBezTo>
                <a:cubicBezTo>
                  <a:pt x="153" y="760"/>
                  <a:pt x="153" y="760"/>
                  <a:pt x="153" y="760"/>
                </a:cubicBezTo>
                <a:cubicBezTo>
                  <a:pt x="153" y="760"/>
                  <a:pt x="153" y="760"/>
                  <a:pt x="153" y="760"/>
                </a:cubicBezTo>
                <a:cubicBezTo>
                  <a:pt x="154" y="760"/>
                  <a:pt x="154" y="760"/>
                  <a:pt x="154" y="760"/>
                </a:cubicBezTo>
                <a:cubicBezTo>
                  <a:pt x="155" y="760"/>
                  <a:pt x="155" y="760"/>
                  <a:pt x="155" y="760"/>
                </a:cubicBezTo>
                <a:cubicBezTo>
                  <a:pt x="155" y="760"/>
                  <a:pt x="155" y="760"/>
                  <a:pt x="155" y="760"/>
                </a:cubicBezTo>
                <a:cubicBezTo>
                  <a:pt x="155" y="760"/>
                  <a:pt x="155" y="760"/>
                  <a:pt x="155" y="760"/>
                </a:cubicBezTo>
                <a:cubicBezTo>
                  <a:pt x="156" y="760"/>
                  <a:pt x="156" y="760"/>
                  <a:pt x="156" y="760"/>
                </a:cubicBezTo>
                <a:cubicBezTo>
                  <a:pt x="156" y="761"/>
                  <a:pt x="156" y="761"/>
                  <a:pt x="156" y="761"/>
                </a:cubicBezTo>
                <a:cubicBezTo>
                  <a:pt x="157" y="761"/>
                  <a:pt x="157" y="761"/>
                  <a:pt x="157" y="761"/>
                </a:cubicBezTo>
                <a:cubicBezTo>
                  <a:pt x="158" y="761"/>
                  <a:pt x="158" y="761"/>
                  <a:pt x="158" y="761"/>
                </a:cubicBezTo>
                <a:cubicBezTo>
                  <a:pt x="159" y="761"/>
                  <a:pt x="159" y="761"/>
                  <a:pt x="159" y="761"/>
                </a:cubicBezTo>
                <a:cubicBezTo>
                  <a:pt x="160" y="761"/>
                  <a:pt x="160" y="761"/>
                  <a:pt x="160" y="761"/>
                </a:cubicBezTo>
                <a:cubicBezTo>
                  <a:pt x="160" y="761"/>
                  <a:pt x="160" y="761"/>
                  <a:pt x="160" y="761"/>
                </a:cubicBezTo>
                <a:cubicBezTo>
                  <a:pt x="161" y="762"/>
                  <a:pt x="161" y="762"/>
                  <a:pt x="161" y="762"/>
                </a:cubicBezTo>
                <a:cubicBezTo>
                  <a:pt x="161" y="762"/>
                  <a:pt x="161" y="762"/>
                  <a:pt x="161" y="762"/>
                </a:cubicBezTo>
                <a:cubicBezTo>
                  <a:pt x="161" y="762"/>
                  <a:pt x="161" y="762"/>
                  <a:pt x="161" y="762"/>
                </a:cubicBezTo>
                <a:cubicBezTo>
                  <a:pt x="161" y="762"/>
                  <a:pt x="161" y="762"/>
                  <a:pt x="161" y="762"/>
                </a:cubicBezTo>
                <a:cubicBezTo>
                  <a:pt x="162" y="762"/>
                  <a:pt x="162" y="762"/>
                  <a:pt x="162" y="762"/>
                </a:cubicBezTo>
                <a:cubicBezTo>
                  <a:pt x="163" y="762"/>
                  <a:pt x="163" y="762"/>
                  <a:pt x="163" y="762"/>
                </a:cubicBezTo>
                <a:cubicBezTo>
                  <a:pt x="164" y="762"/>
                  <a:pt x="164" y="762"/>
                  <a:pt x="164" y="762"/>
                </a:cubicBezTo>
                <a:cubicBezTo>
                  <a:pt x="165" y="762"/>
                  <a:pt x="165" y="762"/>
                  <a:pt x="166" y="762"/>
                </a:cubicBezTo>
                <a:cubicBezTo>
                  <a:pt x="166" y="762"/>
                  <a:pt x="166" y="762"/>
                  <a:pt x="167" y="762"/>
                </a:cubicBezTo>
                <a:cubicBezTo>
                  <a:pt x="167" y="762"/>
                  <a:pt x="167" y="762"/>
                  <a:pt x="168" y="763"/>
                </a:cubicBezTo>
                <a:cubicBezTo>
                  <a:pt x="168" y="763"/>
                  <a:pt x="168" y="763"/>
                  <a:pt x="168" y="763"/>
                </a:cubicBezTo>
                <a:cubicBezTo>
                  <a:pt x="168" y="763"/>
                  <a:pt x="168" y="763"/>
                  <a:pt x="168" y="763"/>
                </a:cubicBezTo>
                <a:cubicBezTo>
                  <a:pt x="169" y="763"/>
                  <a:pt x="169" y="763"/>
                  <a:pt x="169" y="763"/>
                </a:cubicBezTo>
                <a:cubicBezTo>
                  <a:pt x="169" y="763"/>
                  <a:pt x="170" y="763"/>
                  <a:pt x="170" y="763"/>
                </a:cubicBezTo>
                <a:cubicBezTo>
                  <a:pt x="171" y="763"/>
                  <a:pt x="171" y="763"/>
                  <a:pt x="172" y="763"/>
                </a:cubicBezTo>
                <a:cubicBezTo>
                  <a:pt x="172" y="763"/>
                  <a:pt x="173" y="763"/>
                  <a:pt x="173" y="763"/>
                </a:cubicBezTo>
                <a:cubicBezTo>
                  <a:pt x="174" y="763"/>
                  <a:pt x="174" y="763"/>
                  <a:pt x="175" y="763"/>
                </a:cubicBezTo>
                <a:cubicBezTo>
                  <a:pt x="175" y="763"/>
                  <a:pt x="175" y="763"/>
                  <a:pt x="175" y="763"/>
                </a:cubicBezTo>
                <a:cubicBezTo>
                  <a:pt x="176" y="763"/>
                  <a:pt x="176" y="763"/>
                  <a:pt x="176" y="763"/>
                </a:cubicBezTo>
                <a:cubicBezTo>
                  <a:pt x="176" y="763"/>
                  <a:pt x="176" y="763"/>
                  <a:pt x="177" y="763"/>
                </a:cubicBezTo>
                <a:cubicBezTo>
                  <a:pt x="178" y="763"/>
                  <a:pt x="178" y="763"/>
                  <a:pt x="179" y="763"/>
                </a:cubicBezTo>
                <a:cubicBezTo>
                  <a:pt x="180" y="763"/>
                  <a:pt x="180" y="763"/>
                  <a:pt x="181" y="763"/>
                </a:cubicBezTo>
                <a:cubicBezTo>
                  <a:pt x="182" y="763"/>
                  <a:pt x="182" y="763"/>
                  <a:pt x="183" y="764"/>
                </a:cubicBezTo>
                <a:cubicBezTo>
                  <a:pt x="183" y="764"/>
                  <a:pt x="183" y="764"/>
                  <a:pt x="183" y="764"/>
                </a:cubicBezTo>
                <a:cubicBezTo>
                  <a:pt x="184" y="764"/>
                  <a:pt x="184" y="764"/>
                  <a:pt x="185" y="764"/>
                </a:cubicBezTo>
                <a:cubicBezTo>
                  <a:pt x="186" y="764"/>
                  <a:pt x="186" y="764"/>
                  <a:pt x="187" y="764"/>
                </a:cubicBezTo>
                <a:cubicBezTo>
                  <a:pt x="188" y="764"/>
                  <a:pt x="188" y="764"/>
                  <a:pt x="189" y="764"/>
                </a:cubicBezTo>
                <a:cubicBezTo>
                  <a:pt x="189" y="764"/>
                  <a:pt x="190" y="764"/>
                  <a:pt x="191" y="764"/>
                </a:cubicBezTo>
                <a:cubicBezTo>
                  <a:pt x="192" y="764"/>
                  <a:pt x="193" y="764"/>
                  <a:pt x="194" y="764"/>
                </a:cubicBezTo>
                <a:cubicBezTo>
                  <a:pt x="194" y="764"/>
                  <a:pt x="195" y="764"/>
                  <a:pt x="196" y="764"/>
                </a:cubicBezTo>
                <a:cubicBezTo>
                  <a:pt x="197" y="764"/>
                  <a:pt x="198" y="764"/>
                  <a:pt x="199" y="764"/>
                </a:cubicBezTo>
                <a:cubicBezTo>
                  <a:pt x="200" y="764"/>
                  <a:pt x="201" y="763"/>
                  <a:pt x="202" y="763"/>
                </a:cubicBezTo>
                <a:cubicBezTo>
                  <a:pt x="213" y="763"/>
                  <a:pt x="277" y="763"/>
                  <a:pt x="368" y="762"/>
                </a:cubicBezTo>
                <a:cubicBezTo>
                  <a:pt x="459" y="761"/>
                  <a:pt x="579" y="760"/>
                  <a:pt x="703" y="759"/>
                </a:cubicBezTo>
                <a:cubicBezTo>
                  <a:pt x="827" y="758"/>
                  <a:pt x="956" y="757"/>
                  <a:pt x="1066" y="757"/>
                </a:cubicBezTo>
                <a:cubicBezTo>
                  <a:pt x="1176" y="756"/>
                  <a:pt x="1267" y="755"/>
                  <a:pt x="1315" y="755"/>
                </a:cubicBezTo>
                <a:cubicBezTo>
                  <a:pt x="1317" y="755"/>
                  <a:pt x="1318" y="755"/>
                  <a:pt x="1320" y="755"/>
                </a:cubicBezTo>
                <a:cubicBezTo>
                  <a:pt x="1322" y="755"/>
                  <a:pt x="1324" y="755"/>
                  <a:pt x="1325" y="755"/>
                </a:cubicBezTo>
                <a:cubicBezTo>
                  <a:pt x="1327" y="755"/>
                  <a:pt x="1329" y="755"/>
                  <a:pt x="1331" y="755"/>
                </a:cubicBezTo>
                <a:cubicBezTo>
                  <a:pt x="1333" y="755"/>
                  <a:pt x="1335" y="755"/>
                  <a:pt x="1337" y="755"/>
                </a:cubicBezTo>
                <a:cubicBezTo>
                  <a:pt x="1338" y="755"/>
                  <a:pt x="1339" y="755"/>
                  <a:pt x="1340" y="755"/>
                </a:cubicBezTo>
                <a:cubicBezTo>
                  <a:pt x="1341" y="755"/>
                  <a:pt x="1343" y="755"/>
                  <a:pt x="1344" y="755"/>
                </a:cubicBezTo>
                <a:cubicBezTo>
                  <a:pt x="1344" y="755"/>
                  <a:pt x="1345" y="755"/>
                  <a:pt x="1345" y="755"/>
                </a:cubicBezTo>
                <a:cubicBezTo>
                  <a:pt x="1346" y="755"/>
                  <a:pt x="1347" y="755"/>
                  <a:pt x="1348" y="755"/>
                </a:cubicBezTo>
                <a:cubicBezTo>
                  <a:pt x="1349" y="755"/>
                  <a:pt x="1350" y="755"/>
                  <a:pt x="1351" y="755"/>
                </a:cubicBezTo>
                <a:cubicBezTo>
                  <a:pt x="1352" y="755"/>
                  <a:pt x="1352" y="755"/>
                  <a:pt x="1352" y="755"/>
                </a:cubicBezTo>
                <a:cubicBezTo>
                  <a:pt x="1352" y="755"/>
                  <a:pt x="1353" y="755"/>
                  <a:pt x="1353" y="755"/>
                </a:cubicBezTo>
                <a:cubicBezTo>
                  <a:pt x="1355" y="755"/>
                  <a:pt x="1356" y="755"/>
                  <a:pt x="1358" y="755"/>
                </a:cubicBezTo>
                <a:cubicBezTo>
                  <a:pt x="1358" y="755"/>
                  <a:pt x="1358" y="755"/>
                  <a:pt x="1358" y="755"/>
                </a:cubicBezTo>
                <a:cubicBezTo>
                  <a:pt x="1359" y="755"/>
                  <a:pt x="1360" y="755"/>
                  <a:pt x="1361" y="755"/>
                </a:cubicBezTo>
                <a:cubicBezTo>
                  <a:pt x="1362" y="755"/>
                  <a:pt x="1363" y="755"/>
                  <a:pt x="1365" y="755"/>
                </a:cubicBezTo>
                <a:cubicBezTo>
                  <a:pt x="1365" y="755"/>
                  <a:pt x="1365" y="755"/>
                  <a:pt x="1365" y="755"/>
                </a:cubicBezTo>
                <a:cubicBezTo>
                  <a:pt x="1366" y="755"/>
                  <a:pt x="1367" y="755"/>
                  <a:pt x="1367" y="755"/>
                </a:cubicBezTo>
                <a:cubicBezTo>
                  <a:pt x="1369" y="755"/>
                  <a:pt x="1370" y="755"/>
                  <a:pt x="1371" y="755"/>
                </a:cubicBezTo>
                <a:cubicBezTo>
                  <a:pt x="1371" y="754"/>
                  <a:pt x="1371" y="754"/>
                  <a:pt x="1371" y="754"/>
                </a:cubicBezTo>
                <a:cubicBezTo>
                  <a:pt x="1372" y="754"/>
                  <a:pt x="1373" y="754"/>
                  <a:pt x="1374" y="754"/>
                </a:cubicBezTo>
                <a:cubicBezTo>
                  <a:pt x="1375" y="754"/>
                  <a:pt x="1376" y="754"/>
                  <a:pt x="1377" y="754"/>
                </a:cubicBezTo>
                <a:cubicBezTo>
                  <a:pt x="1377" y="754"/>
                  <a:pt x="1377" y="754"/>
                  <a:pt x="1377" y="754"/>
                </a:cubicBezTo>
                <a:cubicBezTo>
                  <a:pt x="1378" y="754"/>
                  <a:pt x="1379" y="754"/>
                  <a:pt x="1380" y="754"/>
                </a:cubicBezTo>
                <a:cubicBezTo>
                  <a:pt x="1381" y="754"/>
                  <a:pt x="1381" y="754"/>
                  <a:pt x="1382" y="754"/>
                </a:cubicBezTo>
                <a:cubicBezTo>
                  <a:pt x="1383" y="754"/>
                  <a:pt x="1383" y="754"/>
                  <a:pt x="1383" y="754"/>
                </a:cubicBezTo>
                <a:cubicBezTo>
                  <a:pt x="1384" y="754"/>
                  <a:pt x="1384" y="754"/>
                  <a:pt x="1385" y="753"/>
                </a:cubicBezTo>
                <a:cubicBezTo>
                  <a:pt x="1386" y="753"/>
                  <a:pt x="1386" y="753"/>
                  <a:pt x="1387" y="753"/>
                </a:cubicBezTo>
                <a:cubicBezTo>
                  <a:pt x="1388" y="753"/>
                  <a:pt x="1388" y="753"/>
                  <a:pt x="1388" y="753"/>
                </a:cubicBezTo>
                <a:cubicBezTo>
                  <a:pt x="1389" y="753"/>
                  <a:pt x="1389" y="753"/>
                  <a:pt x="1389" y="753"/>
                </a:cubicBezTo>
                <a:cubicBezTo>
                  <a:pt x="1389" y="753"/>
                  <a:pt x="1390" y="753"/>
                  <a:pt x="1390" y="753"/>
                </a:cubicBezTo>
                <a:cubicBezTo>
                  <a:pt x="1391" y="753"/>
                  <a:pt x="1391" y="753"/>
                  <a:pt x="1392" y="753"/>
                </a:cubicBezTo>
                <a:cubicBezTo>
                  <a:pt x="1393" y="753"/>
                  <a:pt x="1393" y="753"/>
                  <a:pt x="1393" y="753"/>
                </a:cubicBezTo>
                <a:cubicBezTo>
                  <a:pt x="1394" y="753"/>
                  <a:pt x="1394" y="753"/>
                  <a:pt x="1395" y="752"/>
                </a:cubicBezTo>
                <a:cubicBezTo>
                  <a:pt x="1395" y="752"/>
                  <a:pt x="1396" y="752"/>
                  <a:pt x="1396" y="752"/>
                </a:cubicBezTo>
                <a:cubicBezTo>
                  <a:pt x="1397" y="752"/>
                  <a:pt x="1397" y="752"/>
                  <a:pt x="1398" y="752"/>
                </a:cubicBezTo>
                <a:cubicBezTo>
                  <a:pt x="1398" y="752"/>
                  <a:pt x="1399" y="752"/>
                  <a:pt x="1399" y="752"/>
                </a:cubicBezTo>
                <a:cubicBezTo>
                  <a:pt x="1401" y="752"/>
                  <a:pt x="1401" y="752"/>
                  <a:pt x="1401" y="752"/>
                </a:cubicBezTo>
                <a:cubicBezTo>
                  <a:pt x="1401" y="752"/>
                  <a:pt x="1402" y="752"/>
                  <a:pt x="1402" y="752"/>
                </a:cubicBezTo>
                <a:cubicBezTo>
                  <a:pt x="1403" y="751"/>
                  <a:pt x="1403" y="751"/>
                  <a:pt x="1404" y="751"/>
                </a:cubicBezTo>
                <a:cubicBezTo>
                  <a:pt x="1405" y="751"/>
                  <a:pt x="1405" y="751"/>
                  <a:pt x="1405" y="751"/>
                </a:cubicBezTo>
                <a:cubicBezTo>
                  <a:pt x="1405" y="751"/>
                  <a:pt x="1406" y="751"/>
                  <a:pt x="1406" y="751"/>
                </a:cubicBezTo>
                <a:cubicBezTo>
                  <a:pt x="1407" y="751"/>
                  <a:pt x="1407" y="751"/>
                  <a:pt x="1408" y="751"/>
                </a:cubicBezTo>
                <a:cubicBezTo>
                  <a:pt x="1408" y="750"/>
                  <a:pt x="1408" y="750"/>
                  <a:pt x="1408" y="750"/>
                </a:cubicBezTo>
                <a:cubicBezTo>
                  <a:pt x="1409" y="750"/>
                  <a:pt x="1410" y="750"/>
                  <a:pt x="1410" y="750"/>
                </a:cubicBezTo>
                <a:cubicBezTo>
                  <a:pt x="1411" y="750"/>
                  <a:pt x="1411" y="750"/>
                  <a:pt x="1411" y="750"/>
                </a:cubicBezTo>
                <a:cubicBezTo>
                  <a:pt x="1412" y="750"/>
                  <a:pt x="1412" y="750"/>
                  <a:pt x="1412" y="750"/>
                </a:cubicBezTo>
                <a:cubicBezTo>
                  <a:pt x="1412" y="750"/>
                  <a:pt x="1413" y="750"/>
                  <a:pt x="1413" y="750"/>
                </a:cubicBezTo>
                <a:cubicBezTo>
                  <a:pt x="1414" y="749"/>
                  <a:pt x="1415" y="749"/>
                  <a:pt x="1415" y="749"/>
                </a:cubicBezTo>
                <a:cubicBezTo>
                  <a:pt x="1416" y="749"/>
                  <a:pt x="1416" y="749"/>
                  <a:pt x="1416" y="749"/>
                </a:cubicBezTo>
                <a:cubicBezTo>
                  <a:pt x="1417" y="749"/>
                  <a:pt x="1417" y="749"/>
                  <a:pt x="1417" y="749"/>
                </a:cubicBezTo>
                <a:cubicBezTo>
                  <a:pt x="1418" y="748"/>
                  <a:pt x="1418" y="748"/>
                  <a:pt x="1419" y="748"/>
                </a:cubicBezTo>
                <a:cubicBezTo>
                  <a:pt x="1420" y="748"/>
                  <a:pt x="1420" y="748"/>
                  <a:pt x="1420" y="748"/>
                </a:cubicBezTo>
                <a:cubicBezTo>
                  <a:pt x="1420" y="748"/>
                  <a:pt x="1420" y="748"/>
                  <a:pt x="1420" y="748"/>
                </a:cubicBezTo>
                <a:cubicBezTo>
                  <a:pt x="1421" y="748"/>
                  <a:pt x="1421" y="748"/>
                  <a:pt x="1421" y="748"/>
                </a:cubicBezTo>
                <a:cubicBezTo>
                  <a:pt x="1422" y="747"/>
                  <a:pt x="1422" y="747"/>
                  <a:pt x="1422" y="747"/>
                </a:cubicBezTo>
                <a:cubicBezTo>
                  <a:pt x="1423" y="747"/>
                  <a:pt x="1423" y="747"/>
                  <a:pt x="1423" y="747"/>
                </a:cubicBezTo>
                <a:cubicBezTo>
                  <a:pt x="1424" y="747"/>
                  <a:pt x="1424" y="747"/>
                  <a:pt x="1424" y="747"/>
                </a:cubicBezTo>
                <a:cubicBezTo>
                  <a:pt x="1424" y="747"/>
                  <a:pt x="1425" y="746"/>
                  <a:pt x="1425" y="746"/>
                </a:cubicBezTo>
                <a:cubicBezTo>
                  <a:pt x="1426" y="746"/>
                  <a:pt x="1426" y="746"/>
                  <a:pt x="1426" y="746"/>
                </a:cubicBezTo>
                <a:cubicBezTo>
                  <a:pt x="1427" y="746"/>
                  <a:pt x="1427" y="746"/>
                  <a:pt x="1427" y="746"/>
                </a:cubicBezTo>
                <a:cubicBezTo>
                  <a:pt x="1427" y="746"/>
                  <a:pt x="1428" y="745"/>
                  <a:pt x="1428" y="745"/>
                </a:cubicBezTo>
                <a:cubicBezTo>
                  <a:pt x="1429" y="745"/>
                  <a:pt x="1429" y="745"/>
                  <a:pt x="1429" y="745"/>
                </a:cubicBezTo>
                <a:cubicBezTo>
                  <a:pt x="1430" y="745"/>
                  <a:pt x="1431" y="744"/>
                  <a:pt x="1432" y="744"/>
                </a:cubicBezTo>
                <a:cubicBezTo>
                  <a:pt x="1432" y="744"/>
                  <a:pt x="1432" y="744"/>
                  <a:pt x="1432" y="744"/>
                </a:cubicBezTo>
                <a:cubicBezTo>
                  <a:pt x="1432" y="744"/>
                  <a:pt x="1432" y="744"/>
                  <a:pt x="1432" y="744"/>
                </a:cubicBezTo>
                <a:cubicBezTo>
                  <a:pt x="1433" y="743"/>
                  <a:pt x="1433" y="743"/>
                  <a:pt x="1434" y="743"/>
                </a:cubicBezTo>
                <a:cubicBezTo>
                  <a:pt x="1435" y="742"/>
                  <a:pt x="1435" y="742"/>
                  <a:pt x="1435" y="742"/>
                </a:cubicBezTo>
                <a:cubicBezTo>
                  <a:pt x="1435" y="742"/>
                  <a:pt x="1435" y="742"/>
                  <a:pt x="1436" y="742"/>
                </a:cubicBezTo>
                <a:cubicBezTo>
                  <a:pt x="1436" y="742"/>
                  <a:pt x="1436" y="742"/>
                  <a:pt x="1436" y="742"/>
                </a:cubicBezTo>
                <a:cubicBezTo>
                  <a:pt x="1436" y="741"/>
                  <a:pt x="1436" y="741"/>
                  <a:pt x="1436" y="741"/>
                </a:cubicBezTo>
                <a:cubicBezTo>
                  <a:pt x="1438" y="741"/>
                  <a:pt x="1438" y="741"/>
                  <a:pt x="1438" y="741"/>
                </a:cubicBezTo>
                <a:cubicBezTo>
                  <a:pt x="1438" y="740"/>
                  <a:pt x="1438" y="740"/>
                  <a:pt x="1438" y="740"/>
                </a:cubicBezTo>
                <a:cubicBezTo>
                  <a:pt x="1439" y="740"/>
                  <a:pt x="1439" y="740"/>
                  <a:pt x="1439" y="740"/>
                </a:cubicBezTo>
                <a:cubicBezTo>
                  <a:pt x="1439" y="740"/>
                  <a:pt x="1439" y="740"/>
                  <a:pt x="1439" y="740"/>
                </a:cubicBezTo>
                <a:cubicBezTo>
                  <a:pt x="1439" y="739"/>
                  <a:pt x="1439" y="739"/>
                  <a:pt x="1439" y="739"/>
                </a:cubicBezTo>
                <a:cubicBezTo>
                  <a:pt x="1440" y="739"/>
                  <a:pt x="1440" y="739"/>
                  <a:pt x="1440" y="739"/>
                </a:cubicBezTo>
                <a:cubicBezTo>
                  <a:pt x="1441" y="738"/>
                  <a:pt x="1441" y="738"/>
                  <a:pt x="1441" y="737"/>
                </a:cubicBezTo>
                <a:cubicBezTo>
                  <a:pt x="1442" y="737"/>
                  <a:pt x="1442" y="737"/>
                  <a:pt x="1442" y="737"/>
                </a:cubicBezTo>
                <a:cubicBezTo>
                  <a:pt x="1443" y="736"/>
                  <a:pt x="1443" y="736"/>
                  <a:pt x="1443" y="736"/>
                </a:cubicBezTo>
                <a:cubicBezTo>
                  <a:pt x="1443" y="736"/>
                  <a:pt x="1443" y="736"/>
                  <a:pt x="1443" y="736"/>
                </a:cubicBezTo>
                <a:cubicBezTo>
                  <a:pt x="1443" y="736"/>
                  <a:pt x="1443" y="736"/>
                  <a:pt x="1443" y="736"/>
                </a:cubicBezTo>
                <a:cubicBezTo>
                  <a:pt x="1443" y="735"/>
                  <a:pt x="1443" y="735"/>
                  <a:pt x="1443" y="735"/>
                </a:cubicBezTo>
                <a:cubicBezTo>
                  <a:pt x="1444" y="734"/>
                  <a:pt x="1444" y="734"/>
                  <a:pt x="1444" y="734"/>
                </a:cubicBezTo>
                <a:cubicBezTo>
                  <a:pt x="1444" y="734"/>
                  <a:pt x="1444" y="734"/>
                  <a:pt x="1444" y="734"/>
                </a:cubicBezTo>
                <a:cubicBezTo>
                  <a:pt x="1444" y="734"/>
                  <a:pt x="1444" y="734"/>
                  <a:pt x="1444" y="734"/>
                </a:cubicBezTo>
                <a:cubicBezTo>
                  <a:pt x="1444" y="733"/>
                  <a:pt x="1444" y="733"/>
                  <a:pt x="1444" y="733"/>
                </a:cubicBezTo>
                <a:cubicBezTo>
                  <a:pt x="1444" y="733"/>
                  <a:pt x="1444" y="733"/>
                  <a:pt x="1444" y="733"/>
                </a:cubicBezTo>
                <a:cubicBezTo>
                  <a:pt x="1445" y="733"/>
                  <a:pt x="1445" y="733"/>
                  <a:pt x="1445" y="733"/>
                </a:cubicBezTo>
                <a:cubicBezTo>
                  <a:pt x="1445" y="732"/>
                  <a:pt x="1445" y="732"/>
                  <a:pt x="1445" y="732"/>
                </a:cubicBezTo>
                <a:cubicBezTo>
                  <a:pt x="1445" y="732"/>
                  <a:pt x="1445" y="732"/>
                  <a:pt x="1445" y="732"/>
                </a:cubicBezTo>
                <a:cubicBezTo>
                  <a:pt x="1454" y="697"/>
                  <a:pt x="1464" y="662"/>
                  <a:pt x="1473" y="627"/>
                </a:cubicBezTo>
                <a:cubicBezTo>
                  <a:pt x="1485" y="583"/>
                  <a:pt x="1497" y="540"/>
                  <a:pt x="1509" y="496"/>
                </a:cubicBezTo>
                <a:cubicBezTo>
                  <a:pt x="1509" y="496"/>
                  <a:pt x="1509" y="497"/>
                  <a:pt x="1508" y="498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15"/>
          <p:cNvSpPr/>
          <p:nvPr/>
        </p:nvSpPr>
        <p:spPr>
          <a:xfrm>
            <a:off x="3292560" y="2309760"/>
            <a:ext cx="1241280" cy="354240"/>
          </a:xfrm>
          <a:custGeom>
            <a:avLst/>
            <a:gdLst/>
            <a:ahLst/>
            <a:rect l="l" t="t" r="r" b="b"/>
            <a:pathLst>
              <a:path w="685" h="196">
                <a:moveTo>
                  <a:pt x="674" y="2"/>
                </a:moveTo>
                <a:cubicBezTo>
                  <a:pt x="674" y="2"/>
                  <a:pt x="674" y="2"/>
                  <a:pt x="674" y="2"/>
                </a:cubicBezTo>
                <a:cubicBezTo>
                  <a:pt x="674" y="3"/>
                  <a:pt x="674" y="4"/>
                  <a:pt x="674" y="4"/>
                </a:cubicBezTo>
                <a:cubicBezTo>
                  <a:pt x="673" y="5"/>
                  <a:pt x="673" y="5"/>
                  <a:pt x="673" y="5"/>
                </a:cubicBezTo>
                <a:cubicBezTo>
                  <a:pt x="673" y="5"/>
                  <a:pt x="673" y="5"/>
                  <a:pt x="673" y="5"/>
                </a:cubicBezTo>
                <a:cubicBezTo>
                  <a:pt x="673" y="5"/>
                  <a:pt x="673" y="5"/>
                  <a:pt x="673" y="5"/>
                </a:cubicBezTo>
                <a:cubicBezTo>
                  <a:pt x="673" y="5"/>
                  <a:pt x="673" y="5"/>
                  <a:pt x="673" y="5"/>
                </a:cubicBezTo>
                <a:cubicBezTo>
                  <a:pt x="673" y="6"/>
                  <a:pt x="673" y="6"/>
                  <a:pt x="673" y="6"/>
                </a:cubicBezTo>
                <a:cubicBezTo>
                  <a:pt x="673" y="6"/>
                  <a:pt x="673" y="6"/>
                  <a:pt x="673" y="6"/>
                </a:cubicBezTo>
                <a:cubicBezTo>
                  <a:pt x="673" y="6"/>
                  <a:pt x="673" y="6"/>
                  <a:pt x="673" y="6"/>
                </a:cubicBezTo>
                <a:cubicBezTo>
                  <a:pt x="672" y="6"/>
                  <a:pt x="672" y="7"/>
                  <a:pt x="672" y="7"/>
                </a:cubicBezTo>
                <a:cubicBezTo>
                  <a:pt x="672" y="7"/>
                  <a:pt x="672" y="7"/>
                  <a:pt x="672" y="7"/>
                </a:cubicBezTo>
                <a:cubicBezTo>
                  <a:pt x="672" y="7"/>
                  <a:pt x="672" y="7"/>
                  <a:pt x="672" y="7"/>
                </a:cubicBezTo>
                <a:cubicBezTo>
                  <a:pt x="671" y="7"/>
                  <a:pt x="671" y="7"/>
                  <a:pt x="671" y="7"/>
                </a:cubicBezTo>
                <a:cubicBezTo>
                  <a:pt x="670" y="8"/>
                  <a:pt x="670" y="8"/>
                  <a:pt x="670" y="8"/>
                </a:cubicBezTo>
                <a:cubicBezTo>
                  <a:pt x="670" y="8"/>
                  <a:pt x="670" y="8"/>
                  <a:pt x="670" y="8"/>
                </a:cubicBezTo>
                <a:cubicBezTo>
                  <a:pt x="670" y="9"/>
                  <a:pt x="670" y="9"/>
                  <a:pt x="670" y="9"/>
                </a:cubicBezTo>
                <a:cubicBezTo>
                  <a:pt x="669" y="9"/>
                  <a:pt x="669" y="9"/>
                  <a:pt x="669" y="9"/>
                </a:cubicBezTo>
                <a:cubicBezTo>
                  <a:pt x="669" y="9"/>
                  <a:pt x="669" y="9"/>
                  <a:pt x="669" y="9"/>
                </a:cubicBezTo>
                <a:cubicBezTo>
                  <a:pt x="669" y="9"/>
                  <a:pt x="669" y="9"/>
                  <a:pt x="669" y="9"/>
                </a:cubicBezTo>
                <a:cubicBezTo>
                  <a:pt x="669" y="10"/>
                  <a:pt x="668" y="10"/>
                  <a:pt x="668" y="10"/>
                </a:cubicBezTo>
                <a:cubicBezTo>
                  <a:pt x="667" y="11"/>
                  <a:pt x="667" y="11"/>
                  <a:pt x="667" y="11"/>
                </a:cubicBezTo>
                <a:cubicBezTo>
                  <a:pt x="667" y="11"/>
                  <a:pt x="667" y="11"/>
                  <a:pt x="667" y="11"/>
                </a:cubicBezTo>
                <a:cubicBezTo>
                  <a:pt x="667" y="11"/>
                  <a:pt x="666" y="11"/>
                  <a:pt x="665" y="12"/>
                </a:cubicBezTo>
                <a:cubicBezTo>
                  <a:pt x="665" y="12"/>
                  <a:pt x="665" y="12"/>
                  <a:pt x="665" y="12"/>
                </a:cubicBezTo>
                <a:cubicBezTo>
                  <a:pt x="665" y="12"/>
                  <a:pt x="665" y="12"/>
                  <a:pt x="665" y="12"/>
                </a:cubicBezTo>
                <a:cubicBezTo>
                  <a:pt x="665" y="12"/>
                  <a:pt x="665" y="12"/>
                  <a:pt x="665" y="12"/>
                </a:cubicBezTo>
                <a:cubicBezTo>
                  <a:pt x="664" y="12"/>
                  <a:pt x="664" y="12"/>
                  <a:pt x="664" y="12"/>
                </a:cubicBezTo>
                <a:cubicBezTo>
                  <a:pt x="663" y="13"/>
                  <a:pt x="663" y="13"/>
                  <a:pt x="663" y="13"/>
                </a:cubicBezTo>
                <a:cubicBezTo>
                  <a:pt x="663" y="13"/>
                  <a:pt x="663" y="13"/>
                  <a:pt x="663" y="13"/>
                </a:cubicBezTo>
                <a:cubicBezTo>
                  <a:pt x="663" y="13"/>
                  <a:pt x="662" y="13"/>
                  <a:pt x="662" y="14"/>
                </a:cubicBezTo>
                <a:cubicBezTo>
                  <a:pt x="661" y="14"/>
                  <a:pt x="661" y="14"/>
                  <a:pt x="661" y="14"/>
                </a:cubicBezTo>
                <a:cubicBezTo>
                  <a:pt x="661" y="14"/>
                  <a:pt x="661" y="14"/>
                  <a:pt x="661" y="14"/>
                </a:cubicBezTo>
                <a:cubicBezTo>
                  <a:pt x="660" y="14"/>
                  <a:pt x="659" y="15"/>
                  <a:pt x="658" y="15"/>
                </a:cubicBezTo>
                <a:cubicBezTo>
                  <a:pt x="657" y="15"/>
                  <a:pt x="657" y="15"/>
                  <a:pt x="657" y="15"/>
                </a:cubicBezTo>
                <a:cubicBezTo>
                  <a:pt x="656" y="16"/>
                  <a:pt x="656" y="16"/>
                  <a:pt x="655" y="16"/>
                </a:cubicBezTo>
                <a:cubicBezTo>
                  <a:pt x="655" y="16"/>
                  <a:pt x="655" y="16"/>
                  <a:pt x="655" y="16"/>
                </a:cubicBezTo>
                <a:cubicBezTo>
                  <a:pt x="655" y="16"/>
                  <a:pt x="654" y="16"/>
                  <a:pt x="654" y="16"/>
                </a:cubicBezTo>
                <a:cubicBezTo>
                  <a:pt x="654" y="16"/>
                  <a:pt x="653" y="17"/>
                  <a:pt x="653" y="17"/>
                </a:cubicBezTo>
                <a:cubicBezTo>
                  <a:pt x="652" y="17"/>
                  <a:pt x="652" y="17"/>
                  <a:pt x="652" y="17"/>
                </a:cubicBezTo>
                <a:cubicBezTo>
                  <a:pt x="652" y="17"/>
                  <a:pt x="652" y="17"/>
                  <a:pt x="652" y="17"/>
                </a:cubicBezTo>
                <a:cubicBezTo>
                  <a:pt x="651" y="17"/>
                  <a:pt x="650" y="17"/>
                  <a:pt x="649" y="18"/>
                </a:cubicBezTo>
                <a:cubicBezTo>
                  <a:pt x="644" y="19"/>
                  <a:pt x="640" y="20"/>
                  <a:pt x="636" y="20"/>
                </a:cubicBezTo>
                <a:cubicBezTo>
                  <a:pt x="632" y="21"/>
                  <a:pt x="629" y="22"/>
                  <a:pt x="625" y="23"/>
                </a:cubicBezTo>
                <a:cubicBezTo>
                  <a:pt x="622" y="23"/>
                  <a:pt x="620" y="23"/>
                  <a:pt x="617" y="24"/>
                </a:cubicBezTo>
                <a:cubicBezTo>
                  <a:pt x="616" y="24"/>
                  <a:pt x="615" y="24"/>
                  <a:pt x="614" y="24"/>
                </a:cubicBezTo>
                <a:cubicBezTo>
                  <a:pt x="614" y="24"/>
                  <a:pt x="614" y="24"/>
                  <a:pt x="614" y="24"/>
                </a:cubicBezTo>
                <a:cubicBezTo>
                  <a:pt x="611" y="24"/>
                  <a:pt x="608" y="24"/>
                  <a:pt x="604" y="24"/>
                </a:cubicBezTo>
                <a:cubicBezTo>
                  <a:pt x="602" y="24"/>
                  <a:pt x="601" y="24"/>
                  <a:pt x="599" y="24"/>
                </a:cubicBezTo>
                <a:cubicBezTo>
                  <a:pt x="598" y="24"/>
                  <a:pt x="597" y="24"/>
                  <a:pt x="596" y="24"/>
                </a:cubicBezTo>
                <a:cubicBezTo>
                  <a:pt x="596" y="24"/>
                  <a:pt x="596" y="24"/>
                  <a:pt x="596" y="24"/>
                </a:cubicBezTo>
                <a:cubicBezTo>
                  <a:pt x="595" y="24"/>
                  <a:pt x="594" y="24"/>
                  <a:pt x="593" y="24"/>
                </a:cubicBezTo>
                <a:cubicBezTo>
                  <a:pt x="591" y="24"/>
                  <a:pt x="589" y="24"/>
                  <a:pt x="587" y="24"/>
                </a:cubicBezTo>
                <a:cubicBezTo>
                  <a:pt x="585" y="23"/>
                  <a:pt x="583" y="23"/>
                  <a:pt x="581" y="23"/>
                </a:cubicBezTo>
                <a:cubicBezTo>
                  <a:pt x="578" y="22"/>
                  <a:pt x="574" y="22"/>
                  <a:pt x="571" y="21"/>
                </a:cubicBezTo>
                <a:cubicBezTo>
                  <a:pt x="567" y="21"/>
                  <a:pt x="563" y="21"/>
                  <a:pt x="560" y="20"/>
                </a:cubicBezTo>
                <a:cubicBezTo>
                  <a:pt x="556" y="20"/>
                  <a:pt x="552" y="19"/>
                  <a:pt x="549" y="19"/>
                </a:cubicBezTo>
                <a:cubicBezTo>
                  <a:pt x="545" y="19"/>
                  <a:pt x="542" y="19"/>
                  <a:pt x="538" y="19"/>
                </a:cubicBezTo>
                <a:cubicBezTo>
                  <a:pt x="536" y="19"/>
                  <a:pt x="534" y="19"/>
                  <a:pt x="531" y="19"/>
                </a:cubicBezTo>
                <a:cubicBezTo>
                  <a:pt x="529" y="20"/>
                  <a:pt x="527" y="20"/>
                  <a:pt x="525" y="20"/>
                </a:cubicBezTo>
                <a:cubicBezTo>
                  <a:pt x="523" y="21"/>
                  <a:pt x="521" y="21"/>
                  <a:pt x="520" y="22"/>
                </a:cubicBezTo>
                <a:cubicBezTo>
                  <a:pt x="518" y="22"/>
                  <a:pt x="517" y="23"/>
                  <a:pt x="515" y="24"/>
                </a:cubicBezTo>
                <a:cubicBezTo>
                  <a:pt x="512" y="26"/>
                  <a:pt x="508" y="29"/>
                  <a:pt x="505" y="33"/>
                </a:cubicBezTo>
                <a:cubicBezTo>
                  <a:pt x="501" y="37"/>
                  <a:pt x="497" y="41"/>
                  <a:pt x="494" y="45"/>
                </a:cubicBezTo>
                <a:cubicBezTo>
                  <a:pt x="491" y="49"/>
                  <a:pt x="487" y="53"/>
                  <a:pt x="485" y="56"/>
                </a:cubicBezTo>
                <a:cubicBezTo>
                  <a:pt x="483" y="59"/>
                  <a:pt x="481" y="61"/>
                  <a:pt x="481" y="62"/>
                </a:cubicBezTo>
                <a:cubicBezTo>
                  <a:pt x="481" y="62"/>
                  <a:pt x="481" y="62"/>
                  <a:pt x="481" y="62"/>
                </a:cubicBezTo>
                <a:cubicBezTo>
                  <a:pt x="480" y="63"/>
                  <a:pt x="479" y="64"/>
                  <a:pt x="477" y="64"/>
                </a:cubicBezTo>
                <a:cubicBezTo>
                  <a:pt x="475" y="65"/>
                  <a:pt x="471" y="66"/>
                  <a:pt x="466" y="67"/>
                </a:cubicBezTo>
                <a:cubicBezTo>
                  <a:pt x="460" y="67"/>
                  <a:pt x="453" y="68"/>
                  <a:pt x="443" y="68"/>
                </a:cubicBezTo>
                <a:cubicBezTo>
                  <a:pt x="433" y="69"/>
                  <a:pt x="419" y="69"/>
                  <a:pt x="404" y="69"/>
                </a:cubicBezTo>
                <a:cubicBezTo>
                  <a:pt x="389" y="70"/>
                  <a:pt x="373" y="70"/>
                  <a:pt x="357" y="70"/>
                </a:cubicBezTo>
                <a:cubicBezTo>
                  <a:pt x="351" y="70"/>
                  <a:pt x="344" y="70"/>
                  <a:pt x="338" y="71"/>
                </a:cubicBezTo>
                <a:cubicBezTo>
                  <a:pt x="337" y="71"/>
                  <a:pt x="337" y="71"/>
                  <a:pt x="337" y="71"/>
                </a:cubicBezTo>
                <a:cubicBezTo>
                  <a:pt x="336" y="71"/>
                  <a:pt x="334" y="71"/>
                  <a:pt x="333" y="71"/>
                </a:cubicBezTo>
                <a:cubicBezTo>
                  <a:pt x="332" y="71"/>
                  <a:pt x="332" y="71"/>
                  <a:pt x="332" y="71"/>
                </a:cubicBezTo>
                <a:cubicBezTo>
                  <a:pt x="331" y="71"/>
                  <a:pt x="330" y="71"/>
                  <a:pt x="329" y="71"/>
                </a:cubicBezTo>
                <a:cubicBezTo>
                  <a:pt x="326" y="71"/>
                  <a:pt x="324" y="71"/>
                  <a:pt x="321" y="71"/>
                </a:cubicBezTo>
                <a:cubicBezTo>
                  <a:pt x="320" y="71"/>
                  <a:pt x="319" y="71"/>
                  <a:pt x="318" y="71"/>
                </a:cubicBezTo>
                <a:cubicBezTo>
                  <a:pt x="317" y="71"/>
                  <a:pt x="315" y="71"/>
                  <a:pt x="314" y="71"/>
                </a:cubicBezTo>
                <a:cubicBezTo>
                  <a:pt x="314" y="71"/>
                  <a:pt x="314" y="71"/>
                  <a:pt x="314" y="71"/>
                </a:cubicBezTo>
                <a:cubicBezTo>
                  <a:pt x="314" y="71"/>
                  <a:pt x="314" y="71"/>
                  <a:pt x="314" y="71"/>
                </a:cubicBezTo>
                <a:cubicBezTo>
                  <a:pt x="305" y="71"/>
                  <a:pt x="299" y="71"/>
                  <a:pt x="298" y="71"/>
                </a:cubicBezTo>
                <a:cubicBezTo>
                  <a:pt x="297" y="71"/>
                  <a:pt x="295" y="71"/>
                  <a:pt x="292" y="71"/>
                </a:cubicBezTo>
                <a:cubicBezTo>
                  <a:pt x="290" y="71"/>
                  <a:pt x="288" y="71"/>
                  <a:pt x="285" y="71"/>
                </a:cubicBezTo>
                <a:cubicBezTo>
                  <a:pt x="283" y="70"/>
                  <a:pt x="281" y="70"/>
                  <a:pt x="279" y="69"/>
                </a:cubicBezTo>
                <a:cubicBezTo>
                  <a:pt x="277" y="68"/>
                  <a:pt x="276" y="67"/>
                  <a:pt x="275" y="66"/>
                </a:cubicBezTo>
                <a:cubicBezTo>
                  <a:pt x="274" y="64"/>
                  <a:pt x="273" y="63"/>
                  <a:pt x="274" y="61"/>
                </a:cubicBezTo>
                <a:cubicBezTo>
                  <a:pt x="274" y="60"/>
                  <a:pt x="275" y="59"/>
                  <a:pt x="276" y="58"/>
                </a:cubicBezTo>
                <a:cubicBezTo>
                  <a:pt x="277" y="57"/>
                  <a:pt x="280" y="56"/>
                  <a:pt x="282" y="55"/>
                </a:cubicBezTo>
                <a:cubicBezTo>
                  <a:pt x="285" y="54"/>
                  <a:pt x="288" y="52"/>
                  <a:pt x="293" y="51"/>
                </a:cubicBezTo>
                <a:cubicBezTo>
                  <a:pt x="297" y="49"/>
                  <a:pt x="300" y="48"/>
                  <a:pt x="302" y="46"/>
                </a:cubicBezTo>
                <a:cubicBezTo>
                  <a:pt x="305" y="45"/>
                  <a:pt x="306" y="43"/>
                  <a:pt x="307" y="42"/>
                </a:cubicBezTo>
                <a:cubicBezTo>
                  <a:pt x="307" y="41"/>
                  <a:pt x="307" y="41"/>
                  <a:pt x="307" y="40"/>
                </a:cubicBezTo>
                <a:cubicBezTo>
                  <a:pt x="306" y="39"/>
                  <a:pt x="306" y="39"/>
                  <a:pt x="306" y="39"/>
                </a:cubicBezTo>
                <a:cubicBezTo>
                  <a:pt x="306" y="38"/>
                  <a:pt x="306" y="38"/>
                  <a:pt x="306" y="38"/>
                </a:cubicBezTo>
                <a:cubicBezTo>
                  <a:pt x="305" y="38"/>
                  <a:pt x="305" y="38"/>
                  <a:pt x="305" y="38"/>
                </a:cubicBezTo>
                <a:cubicBezTo>
                  <a:pt x="305" y="37"/>
                  <a:pt x="305" y="37"/>
                  <a:pt x="305" y="37"/>
                </a:cubicBezTo>
                <a:cubicBezTo>
                  <a:pt x="305" y="37"/>
                  <a:pt x="305" y="37"/>
                  <a:pt x="305" y="37"/>
                </a:cubicBezTo>
                <a:cubicBezTo>
                  <a:pt x="304" y="37"/>
                  <a:pt x="304" y="37"/>
                  <a:pt x="304" y="37"/>
                </a:cubicBezTo>
                <a:cubicBezTo>
                  <a:pt x="303" y="36"/>
                  <a:pt x="303" y="36"/>
                  <a:pt x="303" y="36"/>
                </a:cubicBezTo>
                <a:cubicBezTo>
                  <a:pt x="303" y="36"/>
                  <a:pt x="303" y="36"/>
                  <a:pt x="303" y="36"/>
                </a:cubicBezTo>
                <a:cubicBezTo>
                  <a:pt x="303" y="36"/>
                  <a:pt x="303" y="36"/>
                  <a:pt x="303" y="36"/>
                </a:cubicBezTo>
                <a:cubicBezTo>
                  <a:pt x="302" y="36"/>
                  <a:pt x="302" y="36"/>
                  <a:pt x="302" y="36"/>
                </a:cubicBezTo>
                <a:cubicBezTo>
                  <a:pt x="302" y="36"/>
                  <a:pt x="301" y="35"/>
                  <a:pt x="301" y="35"/>
                </a:cubicBezTo>
                <a:cubicBezTo>
                  <a:pt x="300" y="35"/>
                  <a:pt x="299" y="35"/>
                  <a:pt x="299" y="35"/>
                </a:cubicBezTo>
                <a:cubicBezTo>
                  <a:pt x="299" y="35"/>
                  <a:pt x="299" y="35"/>
                  <a:pt x="299" y="35"/>
                </a:cubicBezTo>
                <a:cubicBezTo>
                  <a:pt x="298" y="34"/>
                  <a:pt x="297" y="34"/>
                  <a:pt x="296" y="34"/>
                </a:cubicBezTo>
                <a:cubicBezTo>
                  <a:pt x="295" y="33"/>
                  <a:pt x="294" y="33"/>
                  <a:pt x="293" y="33"/>
                </a:cubicBezTo>
                <a:cubicBezTo>
                  <a:pt x="293" y="33"/>
                  <a:pt x="293" y="33"/>
                  <a:pt x="293" y="33"/>
                </a:cubicBezTo>
                <a:cubicBezTo>
                  <a:pt x="293" y="33"/>
                  <a:pt x="293" y="33"/>
                  <a:pt x="293" y="33"/>
                </a:cubicBezTo>
                <a:cubicBezTo>
                  <a:pt x="292" y="33"/>
                  <a:pt x="290" y="33"/>
                  <a:pt x="289" y="33"/>
                </a:cubicBezTo>
                <a:cubicBezTo>
                  <a:pt x="289" y="33"/>
                  <a:pt x="289" y="33"/>
                  <a:pt x="289" y="33"/>
                </a:cubicBezTo>
                <a:cubicBezTo>
                  <a:pt x="289" y="33"/>
                  <a:pt x="289" y="33"/>
                  <a:pt x="289" y="33"/>
                </a:cubicBezTo>
                <a:cubicBezTo>
                  <a:pt x="289" y="33"/>
                  <a:pt x="289" y="33"/>
                  <a:pt x="289" y="33"/>
                </a:cubicBezTo>
                <a:cubicBezTo>
                  <a:pt x="289" y="33"/>
                  <a:pt x="289" y="33"/>
                  <a:pt x="289" y="33"/>
                </a:cubicBezTo>
                <a:cubicBezTo>
                  <a:pt x="289" y="33"/>
                  <a:pt x="289" y="33"/>
                  <a:pt x="289" y="33"/>
                </a:cubicBezTo>
                <a:cubicBezTo>
                  <a:pt x="289" y="33"/>
                  <a:pt x="289" y="33"/>
                  <a:pt x="289" y="33"/>
                </a:cubicBezTo>
                <a:cubicBezTo>
                  <a:pt x="288" y="32"/>
                  <a:pt x="287" y="32"/>
                  <a:pt x="285" y="32"/>
                </a:cubicBezTo>
                <a:cubicBezTo>
                  <a:pt x="285" y="32"/>
                  <a:pt x="285" y="32"/>
                  <a:pt x="285" y="32"/>
                </a:cubicBezTo>
                <a:cubicBezTo>
                  <a:pt x="284" y="32"/>
                  <a:pt x="283" y="32"/>
                  <a:pt x="281" y="32"/>
                </a:cubicBezTo>
                <a:cubicBezTo>
                  <a:pt x="281" y="32"/>
                  <a:pt x="281" y="32"/>
                  <a:pt x="281" y="32"/>
                </a:cubicBezTo>
                <a:cubicBezTo>
                  <a:pt x="281" y="32"/>
                  <a:pt x="281" y="32"/>
                  <a:pt x="281" y="32"/>
                </a:cubicBezTo>
                <a:cubicBezTo>
                  <a:pt x="278" y="32"/>
                  <a:pt x="275" y="31"/>
                  <a:pt x="272" y="31"/>
                </a:cubicBezTo>
                <a:cubicBezTo>
                  <a:pt x="272" y="31"/>
                  <a:pt x="272" y="31"/>
                  <a:pt x="272" y="31"/>
                </a:cubicBezTo>
                <a:cubicBezTo>
                  <a:pt x="269" y="31"/>
                  <a:pt x="266" y="31"/>
                  <a:pt x="262" y="31"/>
                </a:cubicBezTo>
                <a:cubicBezTo>
                  <a:pt x="258" y="31"/>
                  <a:pt x="254" y="32"/>
                  <a:pt x="250" y="32"/>
                </a:cubicBezTo>
                <a:cubicBezTo>
                  <a:pt x="250" y="32"/>
                  <a:pt x="250" y="32"/>
                  <a:pt x="250" y="32"/>
                </a:cubicBezTo>
                <a:cubicBezTo>
                  <a:pt x="250" y="32"/>
                  <a:pt x="250" y="32"/>
                  <a:pt x="250" y="32"/>
                </a:cubicBezTo>
                <a:cubicBezTo>
                  <a:pt x="250" y="32"/>
                  <a:pt x="250" y="32"/>
                  <a:pt x="250" y="32"/>
                </a:cubicBezTo>
                <a:cubicBezTo>
                  <a:pt x="248" y="32"/>
                  <a:pt x="246" y="32"/>
                  <a:pt x="245" y="32"/>
                </a:cubicBezTo>
                <a:cubicBezTo>
                  <a:pt x="244" y="32"/>
                  <a:pt x="244" y="32"/>
                  <a:pt x="244" y="32"/>
                </a:cubicBezTo>
                <a:cubicBezTo>
                  <a:pt x="244" y="32"/>
                  <a:pt x="244" y="32"/>
                  <a:pt x="244" y="32"/>
                </a:cubicBezTo>
                <a:cubicBezTo>
                  <a:pt x="244" y="32"/>
                  <a:pt x="244" y="32"/>
                  <a:pt x="244" y="32"/>
                </a:cubicBezTo>
                <a:cubicBezTo>
                  <a:pt x="242" y="32"/>
                  <a:pt x="241" y="32"/>
                  <a:pt x="239" y="33"/>
                </a:cubicBezTo>
                <a:cubicBezTo>
                  <a:pt x="239" y="33"/>
                  <a:pt x="239" y="33"/>
                  <a:pt x="239" y="33"/>
                </a:cubicBezTo>
                <a:cubicBezTo>
                  <a:pt x="239" y="33"/>
                  <a:pt x="239" y="33"/>
                  <a:pt x="239" y="33"/>
                </a:cubicBezTo>
                <a:cubicBezTo>
                  <a:pt x="239" y="33"/>
                  <a:pt x="239" y="33"/>
                  <a:pt x="239" y="33"/>
                </a:cubicBezTo>
                <a:cubicBezTo>
                  <a:pt x="239" y="33"/>
                  <a:pt x="239" y="33"/>
                  <a:pt x="239" y="33"/>
                </a:cubicBezTo>
                <a:cubicBezTo>
                  <a:pt x="237" y="33"/>
                  <a:pt x="235" y="33"/>
                  <a:pt x="234" y="33"/>
                </a:cubicBezTo>
                <a:cubicBezTo>
                  <a:pt x="233" y="33"/>
                  <a:pt x="233" y="33"/>
                  <a:pt x="233" y="33"/>
                </a:cubicBezTo>
                <a:cubicBezTo>
                  <a:pt x="233" y="33"/>
                  <a:pt x="233" y="33"/>
                  <a:pt x="233" y="33"/>
                </a:cubicBezTo>
                <a:cubicBezTo>
                  <a:pt x="232" y="34"/>
                  <a:pt x="230" y="34"/>
                  <a:pt x="229" y="34"/>
                </a:cubicBezTo>
                <a:cubicBezTo>
                  <a:pt x="229" y="34"/>
                  <a:pt x="229" y="34"/>
                  <a:pt x="229" y="34"/>
                </a:cubicBezTo>
                <a:cubicBezTo>
                  <a:pt x="229" y="34"/>
                  <a:pt x="229" y="34"/>
                  <a:pt x="229" y="34"/>
                </a:cubicBezTo>
                <a:cubicBezTo>
                  <a:pt x="228" y="34"/>
                  <a:pt x="228" y="34"/>
                  <a:pt x="228" y="34"/>
                </a:cubicBezTo>
                <a:cubicBezTo>
                  <a:pt x="228" y="34"/>
                  <a:pt x="228" y="34"/>
                  <a:pt x="228" y="34"/>
                </a:cubicBezTo>
                <a:cubicBezTo>
                  <a:pt x="227" y="34"/>
                  <a:pt x="226" y="34"/>
                  <a:pt x="225" y="35"/>
                </a:cubicBezTo>
                <a:cubicBezTo>
                  <a:pt x="225" y="35"/>
                  <a:pt x="225" y="35"/>
                  <a:pt x="225" y="35"/>
                </a:cubicBezTo>
                <a:cubicBezTo>
                  <a:pt x="224" y="35"/>
                  <a:pt x="224" y="35"/>
                  <a:pt x="224" y="35"/>
                </a:cubicBezTo>
                <a:cubicBezTo>
                  <a:pt x="224" y="35"/>
                  <a:pt x="224" y="35"/>
                  <a:pt x="224" y="35"/>
                </a:cubicBezTo>
                <a:cubicBezTo>
                  <a:pt x="223" y="35"/>
                  <a:pt x="222" y="35"/>
                  <a:pt x="221" y="36"/>
                </a:cubicBezTo>
                <a:cubicBezTo>
                  <a:pt x="219" y="36"/>
                  <a:pt x="217" y="37"/>
                  <a:pt x="215" y="37"/>
                </a:cubicBezTo>
                <a:cubicBezTo>
                  <a:pt x="215" y="37"/>
                  <a:pt x="215" y="37"/>
                  <a:pt x="215" y="37"/>
                </a:cubicBezTo>
                <a:cubicBezTo>
                  <a:pt x="215" y="37"/>
                  <a:pt x="215" y="37"/>
                  <a:pt x="215" y="37"/>
                </a:cubicBezTo>
                <a:cubicBezTo>
                  <a:pt x="213" y="38"/>
                  <a:pt x="212" y="38"/>
                  <a:pt x="210" y="39"/>
                </a:cubicBezTo>
                <a:cubicBezTo>
                  <a:pt x="210" y="39"/>
                  <a:pt x="210" y="39"/>
                  <a:pt x="210" y="39"/>
                </a:cubicBezTo>
                <a:cubicBezTo>
                  <a:pt x="210" y="39"/>
                  <a:pt x="210" y="39"/>
                  <a:pt x="210" y="39"/>
                </a:cubicBezTo>
                <a:cubicBezTo>
                  <a:pt x="210" y="39"/>
                  <a:pt x="210" y="39"/>
                  <a:pt x="210" y="39"/>
                </a:cubicBezTo>
                <a:cubicBezTo>
                  <a:pt x="207" y="40"/>
                  <a:pt x="204" y="41"/>
                  <a:pt x="201" y="42"/>
                </a:cubicBezTo>
                <a:cubicBezTo>
                  <a:pt x="199" y="44"/>
                  <a:pt x="197" y="45"/>
                  <a:pt x="195" y="47"/>
                </a:cubicBezTo>
                <a:cubicBezTo>
                  <a:pt x="194" y="47"/>
                  <a:pt x="194" y="48"/>
                  <a:pt x="193" y="49"/>
                </a:cubicBezTo>
                <a:cubicBezTo>
                  <a:pt x="193" y="49"/>
                  <a:pt x="193" y="49"/>
                  <a:pt x="193" y="49"/>
                </a:cubicBezTo>
                <a:cubicBezTo>
                  <a:pt x="192" y="50"/>
                  <a:pt x="192" y="51"/>
                  <a:pt x="192" y="52"/>
                </a:cubicBezTo>
                <a:cubicBezTo>
                  <a:pt x="191" y="52"/>
                  <a:pt x="191" y="52"/>
                  <a:pt x="191" y="53"/>
                </a:cubicBezTo>
                <a:cubicBezTo>
                  <a:pt x="191" y="53"/>
                  <a:pt x="191" y="53"/>
                  <a:pt x="191" y="53"/>
                </a:cubicBezTo>
                <a:cubicBezTo>
                  <a:pt x="191" y="53"/>
                  <a:pt x="191" y="53"/>
                  <a:pt x="191" y="53"/>
                </a:cubicBezTo>
                <a:cubicBezTo>
                  <a:pt x="191" y="53"/>
                  <a:pt x="191" y="53"/>
                  <a:pt x="191" y="53"/>
                </a:cubicBezTo>
                <a:cubicBezTo>
                  <a:pt x="190" y="53"/>
                  <a:pt x="190" y="53"/>
                  <a:pt x="190" y="53"/>
                </a:cubicBezTo>
                <a:cubicBezTo>
                  <a:pt x="190" y="54"/>
                  <a:pt x="190" y="54"/>
                  <a:pt x="190" y="54"/>
                </a:cubicBezTo>
                <a:cubicBezTo>
                  <a:pt x="190" y="54"/>
                  <a:pt x="190" y="54"/>
                  <a:pt x="190" y="54"/>
                </a:cubicBezTo>
                <a:cubicBezTo>
                  <a:pt x="189" y="55"/>
                  <a:pt x="189" y="55"/>
                  <a:pt x="189" y="55"/>
                </a:cubicBezTo>
                <a:cubicBezTo>
                  <a:pt x="188" y="56"/>
                  <a:pt x="188" y="56"/>
                  <a:pt x="187" y="57"/>
                </a:cubicBezTo>
                <a:cubicBezTo>
                  <a:pt x="187" y="57"/>
                  <a:pt x="187" y="57"/>
                  <a:pt x="187" y="57"/>
                </a:cubicBezTo>
                <a:cubicBezTo>
                  <a:pt x="187" y="57"/>
                  <a:pt x="187" y="57"/>
                  <a:pt x="187" y="57"/>
                </a:cubicBezTo>
                <a:cubicBezTo>
                  <a:pt x="187" y="57"/>
                  <a:pt x="187" y="57"/>
                  <a:pt x="187" y="57"/>
                </a:cubicBezTo>
                <a:cubicBezTo>
                  <a:pt x="184" y="59"/>
                  <a:pt x="180" y="61"/>
                  <a:pt x="176" y="62"/>
                </a:cubicBezTo>
                <a:cubicBezTo>
                  <a:pt x="176" y="62"/>
                  <a:pt x="176" y="62"/>
                  <a:pt x="176" y="62"/>
                </a:cubicBezTo>
                <a:cubicBezTo>
                  <a:pt x="175" y="63"/>
                  <a:pt x="174" y="63"/>
                  <a:pt x="173" y="63"/>
                </a:cubicBezTo>
                <a:cubicBezTo>
                  <a:pt x="173" y="64"/>
                  <a:pt x="173" y="64"/>
                  <a:pt x="173" y="64"/>
                </a:cubicBezTo>
                <a:cubicBezTo>
                  <a:pt x="172" y="64"/>
                  <a:pt x="171" y="64"/>
                  <a:pt x="170" y="65"/>
                </a:cubicBezTo>
                <a:cubicBezTo>
                  <a:pt x="170" y="65"/>
                  <a:pt x="170" y="65"/>
                  <a:pt x="170" y="65"/>
                </a:cubicBezTo>
                <a:cubicBezTo>
                  <a:pt x="170" y="65"/>
                  <a:pt x="170" y="65"/>
                  <a:pt x="170" y="65"/>
                </a:cubicBezTo>
                <a:cubicBezTo>
                  <a:pt x="168" y="65"/>
                  <a:pt x="167" y="65"/>
                  <a:pt x="166" y="65"/>
                </a:cubicBezTo>
                <a:cubicBezTo>
                  <a:pt x="166" y="66"/>
                  <a:pt x="166" y="66"/>
                  <a:pt x="166" y="66"/>
                </a:cubicBezTo>
                <a:cubicBezTo>
                  <a:pt x="165" y="66"/>
                  <a:pt x="164" y="66"/>
                  <a:pt x="162" y="66"/>
                </a:cubicBezTo>
                <a:cubicBezTo>
                  <a:pt x="162" y="66"/>
                  <a:pt x="162" y="66"/>
                  <a:pt x="162" y="66"/>
                </a:cubicBezTo>
                <a:cubicBezTo>
                  <a:pt x="162" y="66"/>
                  <a:pt x="162" y="66"/>
                  <a:pt x="162" y="66"/>
                </a:cubicBezTo>
                <a:cubicBezTo>
                  <a:pt x="160" y="67"/>
                  <a:pt x="158" y="67"/>
                  <a:pt x="156" y="67"/>
                </a:cubicBezTo>
                <a:cubicBezTo>
                  <a:pt x="155" y="67"/>
                  <a:pt x="155" y="68"/>
                  <a:pt x="154" y="68"/>
                </a:cubicBezTo>
                <a:cubicBezTo>
                  <a:pt x="154" y="68"/>
                  <a:pt x="154" y="68"/>
                  <a:pt x="154" y="68"/>
                </a:cubicBezTo>
                <a:cubicBezTo>
                  <a:pt x="152" y="68"/>
                  <a:pt x="149" y="68"/>
                  <a:pt x="146" y="68"/>
                </a:cubicBezTo>
                <a:cubicBezTo>
                  <a:pt x="145" y="68"/>
                  <a:pt x="145" y="68"/>
                  <a:pt x="145" y="68"/>
                </a:cubicBezTo>
                <a:cubicBezTo>
                  <a:pt x="145" y="68"/>
                  <a:pt x="145" y="68"/>
                  <a:pt x="145" y="68"/>
                </a:cubicBezTo>
                <a:cubicBezTo>
                  <a:pt x="145" y="68"/>
                  <a:pt x="145" y="68"/>
                  <a:pt x="145" y="68"/>
                </a:cubicBezTo>
                <a:cubicBezTo>
                  <a:pt x="145" y="68"/>
                  <a:pt x="145" y="68"/>
                  <a:pt x="145" y="68"/>
                </a:cubicBezTo>
                <a:cubicBezTo>
                  <a:pt x="144" y="68"/>
                  <a:pt x="144" y="68"/>
                  <a:pt x="144" y="68"/>
                </a:cubicBezTo>
                <a:cubicBezTo>
                  <a:pt x="144" y="68"/>
                  <a:pt x="144" y="68"/>
                  <a:pt x="144" y="68"/>
                </a:cubicBezTo>
                <a:cubicBezTo>
                  <a:pt x="143" y="68"/>
                  <a:pt x="143" y="68"/>
                  <a:pt x="143" y="68"/>
                </a:cubicBezTo>
                <a:cubicBezTo>
                  <a:pt x="142" y="68"/>
                  <a:pt x="142" y="68"/>
                  <a:pt x="141" y="68"/>
                </a:cubicBezTo>
                <a:cubicBezTo>
                  <a:pt x="140" y="68"/>
                  <a:pt x="140" y="68"/>
                  <a:pt x="140" y="68"/>
                </a:cubicBezTo>
                <a:cubicBezTo>
                  <a:pt x="139" y="68"/>
                  <a:pt x="139" y="68"/>
                  <a:pt x="139" y="68"/>
                </a:cubicBezTo>
                <a:cubicBezTo>
                  <a:pt x="139" y="68"/>
                  <a:pt x="139" y="68"/>
                  <a:pt x="138" y="68"/>
                </a:cubicBezTo>
                <a:cubicBezTo>
                  <a:pt x="138" y="68"/>
                  <a:pt x="138" y="68"/>
                  <a:pt x="138" y="68"/>
                </a:cubicBezTo>
                <a:cubicBezTo>
                  <a:pt x="137" y="68"/>
                  <a:pt x="137" y="68"/>
                  <a:pt x="137" y="68"/>
                </a:cubicBezTo>
                <a:cubicBezTo>
                  <a:pt x="136" y="68"/>
                  <a:pt x="135" y="68"/>
                  <a:pt x="135" y="68"/>
                </a:cubicBezTo>
                <a:cubicBezTo>
                  <a:pt x="134" y="68"/>
                  <a:pt x="134" y="68"/>
                  <a:pt x="134" y="68"/>
                </a:cubicBezTo>
                <a:cubicBezTo>
                  <a:pt x="132" y="68"/>
                  <a:pt x="130" y="67"/>
                  <a:pt x="128" y="67"/>
                </a:cubicBezTo>
                <a:cubicBezTo>
                  <a:pt x="127" y="67"/>
                  <a:pt x="127" y="67"/>
                  <a:pt x="127" y="67"/>
                </a:cubicBezTo>
                <a:cubicBezTo>
                  <a:pt x="126" y="67"/>
                  <a:pt x="125" y="67"/>
                  <a:pt x="125" y="67"/>
                </a:cubicBezTo>
                <a:cubicBezTo>
                  <a:pt x="125" y="67"/>
                  <a:pt x="125" y="67"/>
                  <a:pt x="125" y="67"/>
                </a:cubicBezTo>
                <a:cubicBezTo>
                  <a:pt x="123" y="67"/>
                  <a:pt x="122" y="67"/>
                  <a:pt x="120" y="67"/>
                </a:cubicBezTo>
                <a:cubicBezTo>
                  <a:pt x="120" y="67"/>
                  <a:pt x="120" y="67"/>
                  <a:pt x="120" y="67"/>
                </a:cubicBezTo>
                <a:cubicBezTo>
                  <a:pt x="120" y="67"/>
                  <a:pt x="120" y="67"/>
                  <a:pt x="120" y="67"/>
                </a:cubicBezTo>
                <a:cubicBezTo>
                  <a:pt x="117" y="67"/>
                  <a:pt x="114" y="66"/>
                  <a:pt x="111" y="66"/>
                </a:cubicBezTo>
                <a:cubicBezTo>
                  <a:pt x="108" y="66"/>
                  <a:pt x="104" y="66"/>
                  <a:pt x="100" y="66"/>
                </a:cubicBezTo>
                <a:cubicBezTo>
                  <a:pt x="100" y="66"/>
                  <a:pt x="100" y="66"/>
                  <a:pt x="100" y="66"/>
                </a:cubicBezTo>
                <a:cubicBezTo>
                  <a:pt x="100" y="66"/>
                  <a:pt x="100" y="66"/>
                  <a:pt x="100" y="66"/>
                </a:cubicBezTo>
                <a:cubicBezTo>
                  <a:pt x="97" y="65"/>
                  <a:pt x="94" y="65"/>
                  <a:pt x="91" y="65"/>
                </a:cubicBezTo>
                <a:cubicBezTo>
                  <a:pt x="91" y="65"/>
                  <a:pt x="90" y="65"/>
                  <a:pt x="89" y="65"/>
                </a:cubicBezTo>
                <a:cubicBezTo>
                  <a:pt x="89" y="65"/>
                  <a:pt x="89" y="65"/>
                  <a:pt x="88" y="65"/>
                </a:cubicBezTo>
                <a:cubicBezTo>
                  <a:pt x="80" y="64"/>
                  <a:pt x="73" y="64"/>
                  <a:pt x="65" y="63"/>
                </a:cubicBezTo>
                <a:cubicBezTo>
                  <a:pt x="61" y="63"/>
                  <a:pt x="57" y="63"/>
                  <a:pt x="53" y="62"/>
                </a:cubicBezTo>
                <a:cubicBezTo>
                  <a:pt x="53" y="62"/>
                  <a:pt x="52" y="62"/>
                  <a:pt x="51" y="62"/>
                </a:cubicBezTo>
                <a:cubicBezTo>
                  <a:pt x="44" y="62"/>
                  <a:pt x="38" y="61"/>
                  <a:pt x="32" y="61"/>
                </a:cubicBezTo>
                <a:cubicBezTo>
                  <a:pt x="28" y="61"/>
                  <a:pt x="25" y="60"/>
                  <a:pt x="22" y="60"/>
                </a:cubicBezTo>
                <a:cubicBezTo>
                  <a:pt x="16" y="60"/>
                  <a:pt x="10" y="59"/>
                  <a:pt x="7" y="59"/>
                </a:cubicBezTo>
                <a:cubicBezTo>
                  <a:pt x="6" y="59"/>
                  <a:pt x="5" y="59"/>
                  <a:pt x="4" y="59"/>
                </a:cubicBezTo>
                <a:cubicBezTo>
                  <a:pt x="2" y="59"/>
                  <a:pt x="1" y="59"/>
                  <a:pt x="0" y="59"/>
                </a:cubicBezTo>
                <a:cubicBezTo>
                  <a:pt x="19" y="181"/>
                  <a:pt x="19" y="181"/>
                  <a:pt x="19" y="181"/>
                </a:cubicBezTo>
                <a:cubicBezTo>
                  <a:pt x="19" y="181"/>
                  <a:pt x="21" y="181"/>
                  <a:pt x="24" y="182"/>
                </a:cubicBezTo>
                <a:cubicBezTo>
                  <a:pt x="27" y="182"/>
                  <a:pt x="30" y="182"/>
                  <a:pt x="35" y="183"/>
                </a:cubicBezTo>
                <a:cubicBezTo>
                  <a:pt x="44" y="183"/>
                  <a:pt x="56" y="184"/>
                  <a:pt x="69" y="185"/>
                </a:cubicBezTo>
                <a:cubicBezTo>
                  <a:pt x="70" y="185"/>
                  <a:pt x="70" y="185"/>
                  <a:pt x="70" y="185"/>
                </a:cubicBezTo>
                <a:cubicBezTo>
                  <a:pt x="73" y="186"/>
                  <a:pt x="75" y="186"/>
                  <a:pt x="77" y="186"/>
                </a:cubicBezTo>
                <a:cubicBezTo>
                  <a:pt x="79" y="186"/>
                  <a:pt x="80" y="186"/>
                  <a:pt x="81" y="186"/>
                </a:cubicBezTo>
                <a:cubicBezTo>
                  <a:pt x="82" y="186"/>
                  <a:pt x="82" y="186"/>
                  <a:pt x="83" y="186"/>
                </a:cubicBezTo>
                <a:cubicBezTo>
                  <a:pt x="84" y="186"/>
                  <a:pt x="85" y="186"/>
                  <a:pt x="86" y="187"/>
                </a:cubicBezTo>
                <a:cubicBezTo>
                  <a:pt x="88" y="187"/>
                  <a:pt x="90" y="187"/>
                  <a:pt x="93" y="187"/>
                </a:cubicBezTo>
                <a:cubicBezTo>
                  <a:pt x="94" y="187"/>
                  <a:pt x="95" y="187"/>
                  <a:pt x="96" y="187"/>
                </a:cubicBezTo>
                <a:cubicBezTo>
                  <a:pt x="98" y="188"/>
                  <a:pt x="100" y="188"/>
                  <a:pt x="102" y="188"/>
                </a:cubicBezTo>
                <a:cubicBezTo>
                  <a:pt x="104" y="188"/>
                  <a:pt x="106" y="188"/>
                  <a:pt x="107" y="188"/>
                </a:cubicBezTo>
                <a:cubicBezTo>
                  <a:pt x="108" y="188"/>
                  <a:pt x="109" y="188"/>
                  <a:pt x="110" y="188"/>
                </a:cubicBezTo>
                <a:cubicBezTo>
                  <a:pt x="114" y="189"/>
                  <a:pt x="118" y="189"/>
                  <a:pt x="122" y="189"/>
                </a:cubicBezTo>
                <a:cubicBezTo>
                  <a:pt x="123" y="189"/>
                  <a:pt x="123" y="189"/>
                  <a:pt x="124" y="189"/>
                </a:cubicBezTo>
                <a:cubicBezTo>
                  <a:pt x="125" y="190"/>
                  <a:pt x="126" y="190"/>
                  <a:pt x="127" y="190"/>
                </a:cubicBezTo>
                <a:cubicBezTo>
                  <a:pt x="128" y="190"/>
                  <a:pt x="128" y="190"/>
                  <a:pt x="129" y="190"/>
                </a:cubicBezTo>
                <a:cubicBezTo>
                  <a:pt x="131" y="190"/>
                  <a:pt x="134" y="190"/>
                  <a:pt x="137" y="190"/>
                </a:cubicBezTo>
                <a:cubicBezTo>
                  <a:pt x="137" y="190"/>
                  <a:pt x="137" y="190"/>
                  <a:pt x="137" y="190"/>
                </a:cubicBezTo>
                <a:cubicBezTo>
                  <a:pt x="138" y="190"/>
                  <a:pt x="139" y="191"/>
                  <a:pt x="141" y="191"/>
                </a:cubicBezTo>
                <a:cubicBezTo>
                  <a:pt x="141" y="191"/>
                  <a:pt x="141" y="191"/>
                  <a:pt x="141" y="191"/>
                </a:cubicBezTo>
                <a:cubicBezTo>
                  <a:pt x="142" y="191"/>
                  <a:pt x="143" y="191"/>
                  <a:pt x="144" y="191"/>
                </a:cubicBezTo>
                <a:cubicBezTo>
                  <a:pt x="145" y="191"/>
                  <a:pt x="145" y="191"/>
                  <a:pt x="145" y="191"/>
                </a:cubicBezTo>
                <a:cubicBezTo>
                  <a:pt x="145" y="191"/>
                  <a:pt x="145" y="191"/>
                  <a:pt x="145" y="191"/>
                </a:cubicBezTo>
                <a:cubicBezTo>
                  <a:pt x="145" y="191"/>
                  <a:pt x="145" y="191"/>
                  <a:pt x="145" y="191"/>
                </a:cubicBezTo>
                <a:cubicBezTo>
                  <a:pt x="146" y="191"/>
                  <a:pt x="147" y="191"/>
                  <a:pt x="148" y="191"/>
                </a:cubicBezTo>
                <a:cubicBezTo>
                  <a:pt x="149" y="191"/>
                  <a:pt x="149" y="191"/>
                  <a:pt x="149" y="191"/>
                </a:cubicBezTo>
                <a:cubicBezTo>
                  <a:pt x="150" y="191"/>
                  <a:pt x="150" y="191"/>
                  <a:pt x="150" y="191"/>
                </a:cubicBezTo>
                <a:cubicBezTo>
                  <a:pt x="151" y="191"/>
                  <a:pt x="151" y="191"/>
                  <a:pt x="152" y="191"/>
                </a:cubicBezTo>
                <a:cubicBezTo>
                  <a:pt x="153" y="191"/>
                  <a:pt x="153" y="191"/>
                  <a:pt x="153" y="191"/>
                </a:cubicBezTo>
                <a:cubicBezTo>
                  <a:pt x="153" y="191"/>
                  <a:pt x="153" y="191"/>
                  <a:pt x="153" y="191"/>
                </a:cubicBezTo>
                <a:cubicBezTo>
                  <a:pt x="154" y="191"/>
                  <a:pt x="155" y="192"/>
                  <a:pt x="155" y="192"/>
                </a:cubicBezTo>
                <a:cubicBezTo>
                  <a:pt x="156" y="192"/>
                  <a:pt x="156" y="192"/>
                  <a:pt x="156" y="192"/>
                </a:cubicBezTo>
                <a:cubicBezTo>
                  <a:pt x="157" y="192"/>
                  <a:pt x="157" y="192"/>
                  <a:pt x="157" y="192"/>
                </a:cubicBezTo>
                <a:cubicBezTo>
                  <a:pt x="157" y="192"/>
                  <a:pt x="158" y="192"/>
                  <a:pt x="158" y="192"/>
                </a:cubicBezTo>
                <a:cubicBezTo>
                  <a:pt x="159" y="192"/>
                  <a:pt x="159" y="192"/>
                  <a:pt x="159" y="192"/>
                </a:cubicBezTo>
                <a:cubicBezTo>
                  <a:pt x="159" y="192"/>
                  <a:pt x="159" y="192"/>
                  <a:pt x="159" y="192"/>
                </a:cubicBezTo>
                <a:cubicBezTo>
                  <a:pt x="159" y="192"/>
                  <a:pt x="159" y="192"/>
                  <a:pt x="159" y="192"/>
                </a:cubicBezTo>
                <a:cubicBezTo>
                  <a:pt x="159" y="192"/>
                  <a:pt x="159" y="192"/>
                  <a:pt x="159" y="192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61" y="192"/>
                  <a:pt x="161" y="192"/>
                  <a:pt x="161" y="192"/>
                </a:cubicBezTo>
                <a:cubicBezTo>
                  <a:pt x="161" y="192"/>
                  <a:pt x="161" y="192"/>
                  <a:pt x="161" y="192"/>
                </a:cubicBezTo>
                <a:cubicBezTo>
                  <a:pt x="161" y="192"/>
                  <a:pt x="161" y="192"/>
                  <a:pt x="161" y="192"/>
                </a:cubicBezTo>
                <a:cubicBezTo>
                  <a:pt x="162" y="192"/>
                  <a:pt x="162" y="192"/>
                  <a:pt x="162" y="192"/>
                </a:cubicBezTo>
                <a:cubicBezTo>
                  <a:pt x="162" y="192"/>
                  <a:pt x="162" y="192"/>
                  <a:pt x="162" y="192"/>
                </a:cubicBezTo>
                <a:cubicBezTo>
                  <a:pt x="162" y="192"/>
                  <a:pt x="162" y="192"/>
                  <a:pt x="162" y="192"/>
                </a:cubicBezTo>
                <a:cubicBezTo>
                  <a:pt x="162" y="192"/>
                  <a:pt x="162" y="192"/>
                  <a:pt x="162" y="192"/>
                </a:cubicBezTo>
                <a:cubicBezTo>
                  <a:pt x="162" y="192"/>
                  <a:pt x="162" y="192"/>
                  <a:pt x="162" y="192"/>
                </a:cubicBezTo>
                <a:cubicBezTo>
                  <a:pt x="163" y="192"/>
                  <a:pt x="163" y="192"/>
                  <a:pt x="163" y="192"/>
                </a:cubicBezTo>
                <a:cubicBezTo>
                  <a:pt x="163" y="192"/>
                  <a:pt x="163" y="192"/>
                  <a:pt x="163" y="192"/>
                </a:cubicBezTo>
                <a:cubicBezTo>
                  <a:pt x="163" y="192"/>
                  <a:pt x="163" y="192"/>
                  <a:pt x="163" y="192"/>
                </a:cubicBezTo>
                <a:cubicBezTo>
                  <a:pt x="163" y="192"/>
                  <a:pt x="163" y="192"/>
                  <a:pt x="163" y="192"/>
                </a:cubicBezTo>
                <a:cubicBezTo>
                  <a:pt x="163" y="192"/>
                  <a:pt x="163" y="192"/>
                  <a:pt x="163" y="192"/>
                </a:cubicBezTo>
                <a:cubicBezTo>
                  <a:pt x="164" y="192"/>
                  <a:pt x="164" y="192"/>
                  <a:pt x="164" y="192"/>
                </a:cubicBezTo>
                <a:cubicBezTo>
                  <a:pt x="164" y="192"/>
                  <a:pt x="164" y="192"/>
                  <a:pt x="164" y="192"/>
                </a:cubicBezTo>
                <a:cubicBezTo>
                  <a:pt x="164" y="192"/>
                  <a:pt x="164" y="192"/>
                  <a:pt x="164" y="192"/>
                </a:cubicBezTo>
                <a:cubicBezTo>
                  <a:pt x="164" y="192"/>
                  <a:pt x="164" y="192"/>
                  <a:pt x="164" y="192"/>
                </a:cubicBezTo>
                <a:cubicBezTo>
                  <a:pt x="165" y="192"/>
                  <a:pt x="165" y="192"/>
                  <a:pt x="165" y="192"/>
                </a:cubicBezTo>
                <a:cubicBezTo>
                  <a:pt x="165" y="192"/>
                  <a:pt x="165" y="192"/>
                  <a:pt x="165" y="192"/>
                </a:cubicBezTo>
                <a:cubicBezTo>
                  <a:pt x="165" y="192"/>
                  <a:pt x="165" y="192"/>
                  <a:pt x="165" y="192"/>
                </a:cubicBezTo>
                <a:cubicBezTo>
                  <a:pt x="166" y="192"/>
                  <a:pt x="166" y="192"/>
                  <a:pt x="166" y="192"/>
                </a:cubicBezTo>
                <a:cubicBezTo>
                  <a:pt x="166" y="192"/>
                  <a:pt x="166" y="192"/>
                  <a:pt x="166" y="192"/>
                </a:cubicBezTo>
                <a:cubicBezTo>
                  <a:pt x="167" y="192"/>
                  <a:pt x="167" y="192"/>
                  <a:pt x="167" y="192"/>
                </a:cubicBezTo>
                <a:cubicBezTo>
                  <a:pt x="167" y="192"/>
                  <a:pt x="167" y="192"/>
                  <a:pt x="167" y="192"/>
                </a:cubicBezTo>
                <a:cubicBezTo>
                  <a:pt x="168" y="192"/>
                  <a:pt x="168" y="192"/>
                  <a:pt x="168" y="192"/>
                </a:cubicBezTo>
                <a:cubicBezTo>
                  <a:pt x="168" y="192"/>
                  <a:pt x="168" y="192"/>
                  <a:pt x="168" y="192"/>
                </a:cubicBezTo>
                <a:cubicBezTo>
                  <a:pt x="169" y="192"/>
                  <a:pt x="169" y="192"/>
                  <a:pt x="169" y="192"/>
                </a:cubicBezTo>
                <a:cubicBezTo>
                  <a:pt x="169" y="192"/>
                  <a:pt x="169" y="192"/>
                  <a:pt x="169" y="192"/>
                </a:cubicBezTo>
                <a:cubicBezTo>
                  <a:pt x="170" y="191"/>
                  <a:pt x="170" y="191"/>
                  <a:pt x="170" y="191"/>
                </a:cubicBezTo>
                <a:cubicBezTo>
                  <a:pt x="171" y="191"/>
                  <a:pt x="171" y="191"/>
                  <a:pt x="171" y="191"/>
                </a:cubicBezTo>
                <a:cubicBezTo>
                  <a:pt x="171" y="191"/>
                  <a:pt x="171" y="191"/>
                  <a:pt x="171" y="191"/>
                </a:cubicBezTo>
                <a:cubicBezTo>
                  <a:pt x="172" y="191"/>
                  <a:pt x="172" y="191"/>
                  <a:pt x="172" y="191"/>
                </a:cubicBezTo>
                <a:cubicBezTo>
                  <a:pt x="173" y="191"/>
                  <a:pt x="173" y="191"/>
                  <a:pt x="174" y="191"/>
                </a:cubicBezTo>
                <a:cubicBezTo>
                  <a:pt x="175" y="191"/>
                  <a:pt x="175" y="191"/>
                  <a:pt x="176" y="191"/>
                </a:cubicBezTo>
                <a:cubicBezTo>
                  <a:pt x="177" y="190"/>
                  <a:pt x="177" y="190"/>
                  <a:pt x="178" y="190"/>
                </a:cubicBezTo>
                <a:cubicBezTo>
                  <a:pt x="179" y="190"/>
                  <a:pt x="179" y="190"/>
                  <a:pt x="179" y="190"/>
                </a:cubicBezTo>
                <a:cubicBezTo>
                  <a:pt x="179" y="190"/>
                  <a:pt x="179" y="190"/>
                  <a:pt x="179" y="190"/>
                </a:cubicBezTo>
                <a:cubicBezTo>
                  <a:pt x="179" y="190"/>
                  <a:pt x="179" y="190"/>
                  <a:pt x="179" y="190"/>
                </a:cubicBezTo>
                <a:cubicBezTo>
                  <a:pt x="180" y="190"/>
                  <a:pt x="180" y="190"/>
                  <a:pt x="180" y="190"/>
                </a:cubicBezTo>
                <a:cubicBezTo>
                  <a:pt x="180" y="190"/>
                  <a:pt x="180" y="190"/>
                  <a:pt x="180" y="190"/>
                </a:cubicBezTo>
                <a:cubicBezTo>
                  <a:pt x="180" y="190"/>
                  <a:pt x="180" y="190"/>
                  <a:pt x="180" y="190"/>
                </a:cubicBezTo>
                <a:cubicBezTo>
                  <a:pt x="180" y="190"/>
                  <a:pt x="180" y="190"/>
                  <a:pt x="180" y="190"/>
                </a:cubicBezTo>
                <a:cubicBezTo>
                  <a:pt x="180" y="190"/>
                  <a:pt x="181" y="190"/>
                  <a:pt x="181" y="189"/>
                </a:cubicBezTo>
                <a:cubicBezTo>
                  <a:pt x="181" y="189"/>
                  <a:pt x="182" y="189"/>
                  <a:pt x="182" y="189"/>
                </a:cubicBezTo>
                <a:cubicBezTo>
                  <a:pt x="183" y="189"/>
                  <a:pt x="183" y="189"/>
                  <a:pt x="183" y="189"/>
                </a:cubicBezTo>
                <a:cubicBezTo>
                  <a:pt x="183" y="189"/>
                  <a:pt x="183" y="189"/>
                  <a:pt x="183" y="189"/>
                </a:cubicBezTo>
                <a:cubicBezTo>
                  <a:pt x="183" y="189"/>
                  <a:pt x="183" y="189"/>
                  <a:pt x="183" y="189"/>
                </a:cubicBezTo>
                <a:cubicBezTo>
                  <a:pt x="184" y="189"/>
                  <a:pt x="184" y="189"/>
                  <a:pt x="184" y="189"/>
                </a:cubicBezTo>
                <a:cubicBezTo>
                  <a:pt x="185" y="188"/>
                  <a:pt x="185" y="188"/>
                  <a:pt x="185" y="188"/>
                </a:cubicBezTo>
                <a:cubicBezTo>
                  <a:pt x="186" y="188"/>
                  <a:pt x="186" y="188"/>
                  <a:pt x="186" y="188"/>
                </a:cubicBezTo>
                <a:cubicBezTo>
                  <a:pt x="186" y="188"/>
                  <a:pt x="186" y="188"/>
                  <a:pt x="186" y="188"/>
                </a:cubicBezTo>
                <a:cubicBezTo>
                  <a:pt x="186" y="188"/>
                  <a:pt x="186" y="188"/>
                  <a:pt x="186" y="188"/>
                </a:cubicBezTo>
                <a:cubicBezTo>
                  <a:pt x="187" y="188"/>
                  <a:pt x="187" y="188"/>
                  <a:pt x="187" y="188"/>
                </a:cubicBezTo>
                <a:cubicBezTo>
                  <a:pt x="187" y="188"/>
                  <a:pt x="187" y="188"/>
                  <a:pt x="187" y="188"/>
                </a:cubicBezTo>
                <a:cubicBezTo>
                  <a:pt x="188" y="187"/>
                  <a:pt x="188" y="187"/>
                  <a:pt x="188" y="187"/>
                </a:cubicBezTo>
                <a:cubicBezTo>
                  <a:pt x="189" y="187"/>
                  <a:pt x="189" y="187"/>
                  <a:pt x="189" y="187"/>
                </a:cubicBezTo>
                <a:cubicBezTo>
                  <a:pt x="189" y="187"/>
                  <a:pt x="189" y="187"/>
                  <a:pt x="189" y="187"/>
                </a:cubicBezTo>
                <a:cubicBezTo>
                  <a:pt x="190" y="187"/>
                  <a:pt x="190" y="187"/>
                  <a:pt x="190" y="187"/>
                </a:cubicBezTo>
                <a:cubicBezTo>
                  <a:pt x="190" y="187"/>
                  <a:pt x="190" y="187"/>
                  <a:pt x="190" y="187"/>
                </a:cubicBezTo>
                <a:cubicBezTo>
                  <a:pt x="190" y="187"/>
                  <a:pt x="190" y="187"/>
                  <a:pt x="190" y="187"/>
                </a:cubicBezTo>
                <a:cubicBezTo>
                  <a:pt x="191" y="187"/>
                  <a:pt x="191" y="187"/>
                  <a:pt x="191" y="187"/>
                </a:cubicBezTo>
                <a:cubicBezTo>
                  <a:pt x="191" y="186"/>
                  <a:pt x="191" y="186"/>
                  <a:pt x="191" y="186"/>
                </a:cubicBezTo>
                <a:cubicBezTo>
                  <a:pt x="192" y="186"/>
                  <a:pt x="192" y="186"/>
                  <a:pt x="192" y="186"/>
                </a:cubicBezTo>
                <a:cubicBezTo>
                  <a:pt x="192" y="186"/>
                  <a:pt x="192" y="186"/>
                  <a:pt x="192" y="186"/>
                </a:cubicBezTo>
                <a:cubicBezTo>
                  <a:pt x="193" y="186"/>
                  <a:pt x="193" y="186"/>
                  <a:pt x="193" y="186"/>
                </a:cubicBezTo>
                <a:cubicBezTo>
                  <a:pt x="193" y="186"/>
                  <a:pt x="193" y="186"/>
                  <a:pt x="193" y="186"/>
                </a:cubicBezTo>
                <a:cubicBezTo>
                  <a:pt x="193" y="186"/>
                  <a:pt x="193" y="186"/>
                  <a:pt x="193" y="186"/>
                </a:cubicBezTo>
                <a:cubicBezTo>
                  <a:pt x="193" y="186"/>
                  <a:pt x="193" y="186"/>
                  <a:pt x="193" y="186"/>
                </a:cubicBezTo>
                <a:cubicBezTo>
                  <a:pt x="194" y="185"/>
                  <a:pt x="194" y="185"/>
                  <a:pt x="194" y="185"/>
                </a:cubicBezTo>
                <a:cubicBezTo>
                  <a:pt x="194" y="185"/>
                  <a:pt x="194" y="185"/>
                  <a:pt x="194" y="185"/>
                </a:cubicBezTo>
                <a:cubicBezTo>
                  <a:pt x="195" y="185"/>
                  <a:pt x="195" y="185"/>
                  <a:pt x="195" y="185"/>
                </a:cubicBezTo>
                <a:cubicBezTo>
                  <a:pt x="195" y="185"/>
                  <a:pt x="195" y="185"/>
                  <a:pt x="195" y="185"/>
                </a:cubicBezTo>
                <a:cubicBezTo>
                  <a:pt x="196" y="184"/>
                  <a:pt x="196" y="184"/>
                  <a:pt x="196" y="184"/>
                </a:cubicBezTo>
                <a:cubicBezTo>
                  <a:pt x="196" y="184"/>
                  <a:pt x="196" y="184"/>
                  <a:pt x="196" y="184"/>
                </a:cubicBezTo>
                <a:cubicBezTo>
                  <a:pt x="196" y="184"/>
                  <a:pt x="196" y="184"/>
                  <a:pt x="196" y="184"/>
                </a:cubicBezTo>
                <a:cubicBezTo>
                  <a:pt x="196" y="184"/>
                  <a:pt x="196" y="184"/>
                  <a:pt x="196" y="184"/>
                </a:cubicBezTo>
                <a:cubicBezTo>
                  <a:pt x="197" y="184"/>
                  <a:pt x="197" y="184"/>
                  <a:pt x="197" y="184"/>
                </a:cubicBezTo>
                <a:cubicBezTo>
                  <a:pt x="197" y="183"/>
                  <a:pt x="197" y="183"/>
                  <a:pt x="197" y="183"/>
                </a:cubicBezTo>
                <a:cubicBezTo>
                  <a:pt x="198" y="183"/>
                  <a:pt x="198" y="183"/>
                  <a:pt x="198" y="183"/>
                </a:cubicBezTo>
                <a:cubicBezTo>
                  <a:pt x="198" y="183"/>
                  <a:pt x="198" y="183"/>
                  <a:pt x="198" y="183"/>
                </a:cubicBezTo>
                <a:cubicBezTo>
                  <a:pt x="199" y="183"/>
                  <a:pt x="199" y="183"/>
                  <a:pt x="199" y="183"/>
                </a:cubicBezTo>
                <a:cubicBezTo>
                  <a:pt x="199" y="182"/>
                  <a:pt x="199" y="182"/>
                  <a:pt x="199" y="182"/>
                </a:cubicBezTo>
                <a:cubicBezTo>
                  <a:pt x="200" y="182"/>
                  <a:pt x="200" y="182"/>
                  <a:pt x="200" y="182"/>
                </a:cubicBezTo>
                <a:cubicBezTo>
                  <a:pt x="200" y="182"/>
                  <a:pt x="200" y="182"/>
                  <a:pt x="200" y="182"/>
                </a:cubicBezTo>
                <a:cubicBezTo>
                  <a:pt x="201" y="182"/>
                  <a:pt x="201" y="182"/>
                  <a:pt x="201" y="182"/>
                </a:cubicBezTo>
                <a:cubicBezTo>
                  <a:pt x="201" y="181"/>
                  <a:pt x="201" y="181"/>
                  <a:pt x="201" y="181"/>
                </a:cubicBezTo>
                <a:cubicBezTo>
                  <a:pt x="202" y="181"/>
                  <a:pt x="202" y="181"/>
                  <a:pt x="202" y="181"/>
                </a:cubicBezTo>
                <a:cubicBezTo>
                  <a:pt x="202" y="181"/>
                  <a:pt x="202" y="181"/>
                  <a:pt x="202" y="181"/>
                </a:cubicBezTo>
                <a:cubicBezTo>
                  <a:pt x="202" y="180"/>
                  <a:pt x="202" y="180"/>
                  <a:pt x="202" y="180"/>
                </a:cubicBezTo>
                <a:cubicBezTo>
                  <a:pt x="203" y="180"/>
                  <a:pt x="203" y="180"/>
                  <a:pt x="203" y="180"/>
                </a:cubicBezTo>
                <a:cubicBezTo>
                  <a:pt x="203" y="180"/>
                  <a:pt x="203" y="180"/>
                  <a:pt x="203" y="180"/>
                </a:cubicBezTo>
                <a:cubicBezTo>
                  <a:pt x="203" y="180"/>
                  <a:pt x="203" y="180"/>
                  <a:pt x="203" y="180"/>
                </a:cubicBezTo>
                <a:cubicBezTo>
                  <a:pt x="203" y="180"/>
                  <a:pt x="203" y="180"/>
                  <a:pt x="203" y="180"/>
                </a:cubicBezTo>
                <a:cubicBezTo>
                  <a:pt x="203" y="180"/>
                  <a:pt x="203" y="180"/>
                  <a:pt x="203" y="180"/>
                </a:cubicBezTo>
                <a:cubicBezTo>
                  <a:pt x="204" y="179"/>
                  <a:pt x="204" y="179"/>
                  <a:pt x="204" y="179"/>
                </a:cubicBezTo>
                <a:cubicBezTo>
                  <a:pt x="204" y="179"/>
                  <a:pt x="204" y="179"/>
                  <a:pt x="204" y="179"/>
                </a:cubicBezTo>
                <a:cubicBezTo>
                  <a:pt x="204" y="179"/>
                  <a:pt x="204" y="179"/>
                  <a:pt x="204" y="179"/>
                </a:cubicBezTo>
                <a:cubicBezTo>
                  <a:pt x="205" y="178"/>
                  <a:pt x="205" y="178"/>
                  <a:pt x="205" y="178"/>
                </a:cubicBezTo>
                <a:cubicBezTo>
                  <a:pt x="205" y="178"/>
                  <a:pt x="205" y="178"/>
                  <a:pt x="205" y="178"/>
                </a:cubicBezTo>
                <a:cubicBezTo>
                  <a:pt x="205" y="178"/>
                  <a:pt x="205" y="178"/>
                  <a:pt x="205" y="178"/>
                </a:cubicBezTo>
                <a:cubicBezTo>
                  <a:pt x="205" y="178"/>
                  <a:pt x="205" y="178"/>
                  <a:pt x="205" y="178"/>
                </a:cubicBezTo>
                <a:cubicBezTo>
                  <a:pt x="205" y="178"/>
                  <a:pt x="205" y="178"/>
                  <a:pt x="205" y="178"/>
                </a:cubicBezTo>
                <a:cubicBezTo>
                  <a:pt x="206" y="177"/>
                  <a:pt x="206" y="177"/>
                  <a:pt x="206" y="177"/>
                </a:cubicBezTo>
                <a:cubicBezTo>
                  <a:pt x="206" y="177"/>
                  <a:pt x="206" y="177"/>
                  <a:pt x="206" y="177"/>
                </a:cubicBezTo>
                <a:cubicBezTo>
                  <a:pt x="206" y="177"/>
                  <a:pt x="206" y="177"/>
                  <a:pt x="206" y="177"/>
                </a:cubicBezTo>
                <a:cubicBezTo>
                  <a:pt x="206" y="177"/>
                  <a:pt x="206" y="177"/>
                  <a:pt x="206" y="177"/>
                </a:cubicBezTo>
                <a:cubicBezTo>
                  <a:pt x="206" y="177"/>
                  <a:pt x="206" y="177"/>
                  <a:pt x="206" y="177"/>
                </a:cubicBezTo>
                <a:cubicBezTo>
                  <a:pt x="206" y="177"/>
                  <a:pt x="206" y="177"/>
                  <a:pt x="206" y="177"/>
                </a:cubicBezTo>
                <a:cubicBezTo>
                  <a:pt x="207" y="176"/>
                  <a:pt x="207" y="176"/>
                  <a:pt x="207" y="176"/>
                </a:cubicBezTo>
                <a:cubicBezTo>
                  <a:pt x="207" y="176"/>
                  <a:pt x="207" y="176"/>
                  <a:pt x="207" y="176"/>
                </a:cubicBezTo>
                <a:cubicBezTo>
                  <a:pt x="207" y="176"/>
                  <a:pt x="207" y="176"/>
                  <a:pt x="207" y="176"/>
                </a:cubicBezTo>
                <a:cubicBezTo>
                  <a:pt x="207" y="175"/>
                  <a:pt x="207" y="175"/>
                  <a:pt x="207" y="175"/>
                </a:cubicBezTo>
                <a:cubicBezTo>
                  <a:pt x="207" y="175"/>
                  <a:pt x="207" y="175"/>
                  <a:pt x="207" y="175"/>
                </a:cubicBezTo>
                <a:cubicBezTo>
                  <a:pt x="207" y="175"/>
                  <a:pt x="207" y="175"/>
                  <a:pt x="207" y="175"/>
                </a:cubicBezTo>
                <a:cubicBezTo>
                  <a:pt x="207" y="175"/>
                  <a:pt x="207" y="175"/>
                  <a:pt x="207" y="175"/>
                </a:cubicBezTo>
                <a:cubicBezTo>
                  <a:pt x="208" y="175"/>
                  <a:pt x="208" y="175"/>
                  <a:pt x="208" y="175"/>
                </a:cubicBezTo>
                <a:cubicBezTo>
                  <a:pt x="208" y="174"/>
                  <a:pt x="208" y="174"/>
                  <a:pt x="208" y="174"/>
                </a:cubicBezTo>
                <a:cubicBezTo>
                  <a:pt x="208" y="174"/>
                  <a:pt x="208" y="174"/>
                  <a:pt x="208" y="174"/>
                </a:cubicBezTo>
                <a:cubicBezTo>
                  <a:pt x="208" y="173"/>
                  <a:pt x="209" y="172"/>
                  <a:pt x="209" y="171"/>
                </a:cubicBezTo>
                <a:cubicBezTo>
                  <a:pt x="209" y="171"/>
                  <a:pt x="209" y="171"/>
                  <a:pt x="209" y="171"/>
                </a:cubicBezTo>
                <a:cubicBezTo>
                  <a:pt x="210" y="170"/>
                  <a:pt x="210" y="169"/>
                  <a:pt x="211" y="169"/>
                </a:cubicBezTo>
                <a:cubicBezTo>
                  <a:pt x="211" y="169"/>
                  <a:pt x="211" y="169"/>
                  <a:pt x="211" y="169"/>
                </a:cubicBezTo>
                <a:cubicBezTo>
                  <a:pt x="212" y="168"/>
                  <a:pt x="213" y="167"/>
                  <a:pt x="214" y="166"/>
                </a:cubicBezTo>
                <a:cubicBezTo>
                  <a:pt x="214" y="166"/>
                  <a:pt x="214" y="166"/>
                  <a:pt x="214" y="166"/>
                </a:cubicBezTo>
                <a:cubicBezTo>
                  <a:pt x="215" y="166"/>
                  <a:pt x="216" y="165"/>
                  <a:pt x="217" y="164"/>
                </a:cubicBezTo>
                <a:cubicBezTo>
                  <a:pt x="217" y="164"/>
                  <a:pt x="217" y="164"/>
                  <a:pt x="217" y="164"/>
                </a:cubicBezTo>
                <a:cubicBezTo>
                  <a:pt x="220" y="163"/>
                  <a:pt x="223" y="161"/>
                  <a:pt x="226" y="160"/>
                </a:cubicBezTo>
                <a:cubicBezTo>
                  <a:pt x="226" y="160"/>
                  <a:pt x="226" y="160"/>
                  <a:pt x="226" y="160"/>
                </a:cubicBezTo>
                <a:cubicBezTo>
                  <a:pt x="228" y="160"/>
                  <a:pt x="229" y="159"/>
                  <a:pt x="231" y="158"/>
                </a:cubicBezTo>
                <a:cubicBezTo>
                  <a:pt x="231" y="158"/>
                  <a:pt x="231" y="158"/>
                  <a:pt x="231" y="158"/>
                </a:cubicBezTo>
                <a:cubicBezTo>
                  <a:pt x="233" y="158"/>
                  <a:pt x="235" y="157"/>
                  <a:pt x="237" y="157"/>
                </a:cubicBezTo>
                <a:cubicBezTo>
                  <a:pt x="238" y="156"/>
                  <a:pt x="239" y="156"/>
                  <a:pt x="240" y="156"/>
                </a:cubicBezTo>
                <a:cubicBezTo>
                  <a:pt x="240" y="156"/>
                  <a:pt x="240" y="156"/>
                  <a:pt x="240" y="156"/>
                </a:cubicBezTo>
                <a:cubicBezTo>
                  <a:pt x="241" y="156"/>
                  <a:pt x="243" y="155"/>
                  <a:pt x="244" y="155"/>
                </a:cubicBezTo>
                <a:cubicBezTo>
                  <a:pt x="245" y="155"/>
                  <a:pt x="245" y="155"/>
                  <a:pt x="245" y="155"/>
                </a:cubicBezTo>
                <a:cubicBezTo>
                  <a:pt x="246" y="155"/>
                  <a:pt x="247" y="154"/>
                  <a:pt x="249" y="154"/>
                </a:cubicBezTo>
                <a:cubicBezTo>
                  <a:pt x="249" y="154"/>
                  <a:pt x="249" y="154"/>
                  <a:pt x="249" y="154"/>
                </a:cubicBezTo>
                <a:cubicBezTo>
                  <a:pt x="251" y="154"/>
                  <a:pt x="253" y="154"/>
                  <a:pt x="254" y="154"/>
                </a:cubicBezTo>
                <a:cubicBezTo>
                  <a:pt x="256" y="153"/>
                  <a:pt x="258" y="153"/>
                  <a:pt x="260" y="153"/>
                </a:cubicBezTo>
                <a:cubicBezTo>
                  <a:pt x="260" y="153"/>
                  <a:pt x="260" y="153"/>
                  <a:pt x="260" y="153"/>
                </a:cubicBezTo>
                <a:cubicBezTo>
                  <a:pt x="262" y="153"/>
                  <a:pt x="264" y="153"/>
                  <a:pt x="266" y="153"/>
                </a:cubicBezTo>
                <a:cubicBezTo>
                  <a:pt x="266" y="153"/>
                  <a:pt x="266" y="153"/>
                  <a:pt x="266" y="153"/>
                </a:cubicBezTo>
                <a:cubicBezTo>
                  <a:pt x="270" y="152"/>
                  <a:pt x="274" y="152"/>
                  <a:pt x="278" y="152"/>
                </a:cubicBezTo>
                <a:cubicBezTo>
                  <a:pt x="280" y="152"/>
                  <a:pt x="283" y="152"/>
                  <a:pt x="285" y="152"/>
                </a:cubicBezTo>
                <a:cubicBezTo>
                  <a:pt x="286" y="164"/>
                  <a:pt x="288" y="175"/>
                  <a:pt x="289" y="186"/>
                </a:cubicBezTo>
                <a:cubicBezTo>
                  <a:pt x="289" y="187"/>
                  <a:pt x="289" y="187"/>
                  <a:pt x="289" y="187"/>
                </a:cubicBezTo>
                <a:cubicBezTo>
                  <a:pt x="290" y="188"/>
                  <a:pt x="290" y="188"/>
                  <a:pt x="290" y="188"/>
                </a:cubicBezTo>
                <a:cubicBezTo>
                  <a:pt x="290" y="189"/>
                  <a:pt x="290" y="189"/>
                  <a:pt x="290" y="189"/>
                </a:cubicBezTo>
                <a:cubicBezTo>
                  <a:pt x="290" y="189"/>
                  <a:pt x="290" y="189"/>
                  <a:pt x="290" y="189"/>
                </a:cubicBezTo>
                <a:cubicBezTo>
                  <a:pt x="291" y="190"/>
                  <a:pt x="291" y="190"/>
                  <a:pt x="291" y="191"/>
                </a:cubicBezTo>
                <a:cubicBezTo>
                  <a:pt x="291" y="191"/>
                  <a:pt x="291" y="191"/>
                  <a:pt x="291" y="191"/>
                </a:cubicBezTo>
                <a:cubicBezTo>
                  <a:pt x="292" y="191"/>
                  <a:pt x="292" y="191"/>
                  <a:pt x="292" y="191"/>
                </a:cubicBezTo>
                <a:cubicBezTo>
                  <a:pt x="292" y="192"/>
                  <a:pt x="292" y="192"/>
                  <a:pt x="292" y="192"/>
                </a:cubicBezTo>
                <a:cubicBezTo>
                  <a:pt x="292" y="192"/>
                  <a:pt x="292" y="192"/>
                  <a:pt x="292" y="192"/>
                </a:cubicBezTo>
                <a:cubicBezTo>
                  <a:pt x="293" y="192"/>
                  <a:pt x="293" y="192"/>
                  <a:pt x="293" y="192"/>
                </a:cubicBezTo>
                <a:cubicBezTo>
                  <a:pt x="294" y="192"/>
                  <a:pt x="294" y="192"/>
                  <a:pt x="294" y="192"/>
                </a:cubicBezTo>
                <a:cubicBezTo>
                  <a:pt x="294" y="193"/>
                  <a:pt x="294" y="193"/>
                  <a:pt x="294" y="193"/>
                </a:cubicBezTo>
                <a:cubicBezTo>
                  <a:pt x="294" y="193"/>
                  <a:pt x="294" y="193"/>
                  <a:pt x="294" y="193"/>
                </a:cubicBezTo>
                <a:cubicBezTo>
                  <a:pt x="295" y="193"/>
                  <a:pt x="295" y="193"/>
                  <a:pt x="295" y="193"/>
                </a:cubicBezTo>
                <a:cubicBezTo>
                  <a:pt x="295" y="193"/>
                  <a:pt x="295" y="193"/>
                  <a:pt x="295" y="193"/>
                </a:cubicBezTo>
                <a:cubicBezTo>
                  <a:pt x="296" y="193"/>
                  <a:pt x="296" y="193"/>
                  <a:pt x="296" y="193"/>
                </a:cubicBezTo>
                <a:cubicBezTo>
                  <a:pt x="296" y="194"/>
                  <a:pt x="296" y="194"/>
                  <a:pt x="296" y="194"/>
                </a:cubicBezTo>
                <a:cubicBezTo>
                  <a:pt x="296" y="194"/>
                  <a:pt x="296" y="194"/>
                  <a:pt x="296" y="194"/>
                </a:cubicBezTo>
                <a:cubicBezTo>
                  <a:pt x="297" y="194"/>
                  <a:pt x="297" y="194"/>
                  <a:pt x="297" y="194"/>
                </a:cubicBezTo>
                <a:cubicBezTo>
                  <a:pt x="297" y="194"/>
                  <a:pt x="297" y="194"/>
                  <a:pt x="297" y="194"/>
                </a:cubicBezTo>
                <a:cubicBezTo>
                  <a:pt x="298" y="194"/>
                  <a:pt x="298" y="194"/>
                  <a:pt x="298" y="194"/>
                </a:cubicBezTo>
                <a:cubicBezTo>
                  <a:pt x="298" y="194"/>
                  <a:pt x="298" y="194"/>
                  <a:pt x="298" y="194"/>
                </a:cubicBezTo>
                <a:cubicBezTo>
                  <a:pt x="298" y="194"/>
                  <a:pt x="298" y="194"/>
                  <a:pt x="298" y="194"/>
                </a:cubicBezTo>
                <a:cubicBezTo>
                  <a:pt x="298" y="194"/>
                  <a:pt x="298" y="194"/>
                  <a:pt x="298" y="194"/>
                </a:cubicBezTo>
                <a:cubicBezTo>
                  <a:pt x="299" y="194"/>
                  <a:pt x="299" y="194"/>
                  <a:pt x="299" y="194"/>
                </a:cubicBezTo>
                <a:cubicBezTo>
                  <a:pt x="299" y="194"/>
                  <a:pt x="299" y="194"/>
                  <a:pt x="299" y="194"/>
                </a:cubicBezTo>
                <a:cubicBezTo>
                  <a:pt x="299" y="195"/>
                  <a:pt x="299" y="195"/>
                  <a:pt x="299" y="195"/>
                </a:cubicBezTo>
                <a:cubicBezTo>
                  <a:pt x="300" y="195"/>
                  <a:pt x="300" y="195"/>
                  <a:pt x="300" y="195"/>
                </a:cubicBezTo>
                <a:cubicBezTo>
                  <a:pt x="300" y="195"/>
                  <a:pt x="300" y="195"/>
                  <a:pt x="300" y="195"/>
                </a:cubicBezTo>
                <a:cubicBezTo>
                  <a:pt x="301" y="195"/>
                  <a:pt x="301" y="195"/>
                  <a:pt x="301" y="195"/>
                </a:cubicBezTo>
                <a:cubicBezTo>
                  <a:pt x="301" y="195"/>
                  <a:pt x="301" y="195"/>
                  <a:pt x="301" y="195"/>
                </a:cubicBezTo>
                <a:cubicBezTo>
                  <a:pt x="301" y="195"/>
                  <a:pt x="301" y="195"/>
                  <a:pt x="301" y="195"/>
                </a:cubicBezTo>
                <a:cubicBezTo>
                  <a:pt x="302" y="195"/>
                  <a:pt x="302" y="195"/>
                  <a:pt x="302" y="195"/>
                </a:cubicBezTo>
                <a:cubicBezTo>
                  <a:pt x="302" y="195"/>
                  <a:pt x="302" y="195"/>
                  <a:pt x="302" y="195"/>
                </a:cubicBezTo>
                <a:cubicBezTo>
                  <a:pt x="302" y="195"/>
                  <a:pt x="302" y="195"/>
                  <a:pt x="302" y="195"/>
                </a:cubicBezTo>
                <a:cubicBezTo>
                  <a:pt x="303" y="195"/>
                  <a:pt x="303" y="195"/>
                  <a:pt x="303" y="195"/>
                </a:cubicBezTo>
                <a:cubicBezTo>
                  <a:pt x="303" y="195"/>
                  <a:pt x="303" y="195"/>
                  <a:pt x="303" y="195"/>
                </a:cubicBezTo>
                <a:cubicBezTo>
                  <a:pt x="304" y="195"/>
                  <a:pt x="304" y="195"/>
                  <a:pt x="304" y="195"/>
                </a:cubicBezTo>
                <a:cubicBezTo>
                  <a:pt x="304" y="195"/>
                  <a:pt x="304" y="195"/>
                  <a:pt x="304" y="195"/>
                </a:cubicBezTo>
                <a:cubicBezTo>
                  <a:pt x="304" y="195"/>
                  <a:pt x="304" y="195"/>
                  <a:pt x="304" y="195"/>
                </a:cubicBezTo>
                <a:cubicBezTo>
                  <a:pt x="304" y="195"/>
                  <a:pt x="304" y="195"/>
                  <a:pt x="304" y="195"/>
                </a:cubicBezTo>
                <a:cubicBezTo>
                  <a:pt x="304" y="195"/>
                  <a:pt x="304" y="195"/>
                  <a:pt x="304" y="195"/>
                </a:cubicBezTo>
                <a:cubicBezTo>
                  <a:pt x="305" y="195"/>
                  <a:pt x="305" y="195"/>
                  <a:pt x="305" y="195"/>
                </a:cubicBezTo>
                <a:cubicBezTo>
                  <a:pt x="305" y="195"/>
                  <a:pt x="305" y="195"/>
                  <a:pt x="305" y="195"/>
                </a:cubicBezTo>
                <a:cubicBezTo>
                  <a:pt x="306" y="195"/>
                  <a:pt x="306" y="195"/>
                  <a:pt x="306" y="195"/>
                </a:cubicBezTo>
                <a:cubicBezTo>
                  <a:pt x="306" y="195"/>
                  <a:pt x="306" y="195"/>
                  <a:pt x="306" y="195"/>
                </a:cubicBezTo>
                <a:cubicBezTo>
                  <a:pt x="306" y="196"/>
                  <a:pt x="306" y="196"/>
                  <a:pt x="306" y="196"/>
                </a:cubicBezTo>
                <a:cubicBezTo>
                  <a:pt x="307" y="196"/>
                  <a:pt x="307" y="196"/>
                  <a:pt x="307" y="196"/>
                </a:cubicBezTo>
                <a:cubicBezTo>
                  <a:pt x="307" y="196"/>
                  <a:pt x="307" y="196"/>
                  <a:pt x="307" y="196"/>
                </a:cubicBezTo>
                <a:cubicBezTo>
                  <a:pt x="308" y="196"/>
                  <a:pt x="308" y="196"/>
                  <a:pt x="308" y="196"/>
                </a:cubicBezTo>
                <a:cubicBezTo>
                  <a:pt x="308" y="196"/>
                  <a:pt x="308" y="196"/>
                  <a:pt x="308" y="196"/>
                </a:cubicBezTo>
                <a:cubicBezTo>
                  <a:pt x="308" y="196"/>
                  <a:pt x="308" y="196"/>
                  <a:pt x="308" y="196"/>
                </a:cubicBezTo>
                <a:cubicBezTo>
                  <a:pt x="308" y="196"/>
                  <a:pt x="308" y="196"/>
                  <a:pt x="308" y="196"/>
                </a:cubicBezTo>
                <a:cubicBezTo>
                  <a:pt x="308" y="196"/>
                  <a:pt x="308" y="196"/>
                  <a:pt x="308" y="196"/>
                </a:cubicBezTo>
                <a:cubicBezTo>
                  <a:pt x="309" y="196"/>
                  <a:pt x="309" y="196"/>
                  <a:pt x="309" y="196"/>
                </a:cubicBezTo>
                <a:cubicBezTo>
                  <a:pt x="309" y="196"/>
                  <a:pt x="309" y="196"/>
                  <a:pt x="309" y="196"/>
                </a:cubicBezTo>
                <a:cubicBezTo>
                  <a:pt x="310" y="196"/>
                  <a:pt x="310" y="196"/>
                  <a:pt x="310" y="196"/>
                </a:cubicBezTo>
                <a:cubicBezTo>
                  <a:pt x="310" y="196"/>
                  <a:pt x="310" y="196"/>
                  <a:pt x="310" y="196"/>
                </a:cubicBezTo>
                <a:cubicBezTo>
                  <a:pt x="310" y="196"/>
                  <a:pt x="310" y="196"/>
                  <a:pt x="310" y="196"/>
                </a:cubicBezTo>
                <a:cubicBezTo>
                  <a:pt x="310" y="196"/>
                  <a:pt x="310" y="196"/>
                  <a:pt x="310" y="196"/>
                </a:cubicBezTo>
                <a:cubicBezTo>
                  <a:pt x="310" y="196"/>
                  <a:pt x="310" y="196"/>
                  <a:pt x="310" y="196"/>
                </a:cubicBezTo>
                <a:cubicBezTo>
                  <a:pt x="311" y="196"/>
                  <a:pt x="311" y="196"/>
                  <a:pt x="311" y="196"/>
                </a:cubicBezTo>
                <a:cubicBezTo>
                  <a:pt x="311" y="196"/>
                  <a:pt x="311" y="196"/>
                  <a:pt x="311" y="196"/>
                </a:cubicBezTo>
                <a:cubicBezTo>
                  <a:pt x="311" y="196"/>
                  <a:pt x="311" y="196"/>
                  <a:pt x="311" y="196"/>
                </a:cubicBezTo>
                <a:cubicBezTo>
                  <a:pt x="311" y="196"/>
                  <a:pt x="311" y="196"/>
                  <a:pt x="311" y="196"/>
                </a:cubicBezTo>
                <a:cubicBezTo>
                  <a:pt x="312" y="196"/>
                  <a:pt x="312" y="196"/>
                  <a:pt x="312" y="196"/>
                </a:cubicBezTo>
                <a:cubicBezTo>
                  <a:pt x="312" y="196"/>
                  <a:pt x="312" y="196"/>
                  <a:pt x="312" y="196"/>
                </a:cubicBezTo>
                <a:cubicBezTo>
                  <a:pt x="312" y="196"/>
                  <a:pt x="312" y="196"/>
                  <a:pt x="312" y="196"/>
                </a:cubicBezTo>
                <a:cubicBezTo>
                  <a:pt x="313" y="196"/>
                  <a:pt x="313" y="196"/>
                  <a:pt x="313" y="196"/>
                </a:cubicBezTo>
                <a:cubicBezTo>
                  <a:pt x="313" y="196"/>
                  <a:pt x="313" y="196"/>
                  <a:pt x="313" y="196"/>
                </a:cubicBezTo>
                <a:cubicBezTo>
                  <a:pt x="313" y="196"/>
                  <a:pt x="313" y="196"/>
                  <a:pt x="313" y="196"/>
                </a:cubicBezTo>
                <a:cubicBezTo>
                  <a:pt x="315" y="196"/>
                  <a:pt x="322" y="196"/>
                  <a:pt x="332" y="195"/>
                </a:cubicBezTo>
                <a:cubicBezTo>
                  <a:pt x="333" y="195"/>
                  <a:pt x="334" y="195"/>
                  <a:pt x="335" y="195"/>
                </a:cubicBezTo>
                <a:cubicBezTo>
                  <a:pt x="335" y="195"/>
                  <a:pt x="335" y="195"/>
                  <a:pt x="335" y="195"/>
                </a:cubicBezTo>
                <a:cubicBezTo>
                  <a:pt x="339" y="195"/>
                  <a:pt x="343" y="195"/>
                  <a:pt x="347" y="195"/>
                </a:cubicBezTo>
                <a:cubicBezTo>
                  <a:pt x="348" y="195"/>
                  <a:pt x="348" y="195"/>
                  <a:pt x="348" y="195"/>
                </a:cubicBezTo>
                <a:cubicBezTo>
                  <a:pt x="348" y="195"/>
                  <a:pt x="348" y="195"/>
                  <a:pt x="348" y="195"/>
                </a:cubicBezTo>
                <a:cubicBezTo>
                  <a:pt x="350" y="195"/>
                  <a:pt x="351" y="195"/>
                  <a:pt x="352" y="195"/>
                </a:cubicBezTo>
                <a:cubicBezTo>
                  <a:pt x="354" y="195"/>
                  <a:pt x="357" y="195"/>
                  <a:pt x="359" y="195"/>
                </a:cubicBezTo>
                <a:cubicBezTo>
                  <a:pt x="360" y="195"/>
                  <a:pt x="361" y="195"/>
                  <a:pt x="361" y="195"/>
                </a:cubicBezTo>
                <a:cubicBezTo>
                  <a:pt x="362" y="195"/>
                  <a:pt x="363" y="195"/>
                  <a:pt x="364" y="195"/>
                </a:cubicBezTo>
                <a:cubicBezTo>
                  <a:pt x="366" y="195"/>
                  <a:pt x="369" y="195"/>
                  <a:pt x="372" y="195"/>
                </a:cubicBezTo>
                <a:cubicBezTo>
                  <a:pt x="374" y="195"/>
                  <a:pt x="376" y="195"/>
                  <a:pt x="378" y="195"/>
                </a:cubicBezTo>
                <a:cubicBezTo>
                  <a:pt x="379" y="194"/>
                  <a:pt x="379" y="194"/>
                  <a:pt x="379" y="194"/>
                </a:cubicBezTo>
                <a:cubicBezTo>
                  <a:pt x="379" y="194"/>
                  <a:pt x="379" y="194"/>
                  <a:pt x="379" y="194"/>
                </a:cubicBezTo>
                <a:cubicBezTo>
                  <a:pt x="384" y="194"/>
                  <a:pt x="389" y="194"/>
                  <a:pt x="394" y="194"/>
                </a:cubicBezTo>
                <a:cubicBezTo>
                  <a:pt x="395" y="194"/>
                  <a:pt x="395" y="194"/>
                  <a:pt x="395" y="194"/>
                </a:cubicBezTo>
                <a:cubicBezTo>
                  <a:pt x="400" y="194"/>
                  <a:pt x="405" y="194"/>
                  <a:pt x="409" y="194"/>
                </a:cubicBezTo>
                <a:cubicBezTo>
                  <a:pt x="410" y="194"/>
                  <a:pt x="411" y="194"/>
                  <a:pt x="412" y="194"/>
                </a:cubicBezTo>
                <a:cubicBezTo>
                  <a:pt x="413" y="194"/>
                  <a:pt x="414" y="194"/>
                  <a:pt x="416" y="194"/>
                </a:cubicBezTo>
                <a:cubicBezTo>
                  <a:pt x="416" y="194"/>
                  <a:pt x="417" y="194"/>
                  <a:pt x="418" y="194"/>
                </a:cubicBezTo>
                <a:cubicBezTo>
                  <a:pt x="420" y="194"/>
                  <a:pt x="421" y="194"/>
                  <a:pt x="423" y="194"/>
                </a:cubicBezTo>
                <a:cubicBezTo>
                  <a:pt x="423" y="194"/>
                  <a:pt x="424" y="194"/>
                  <a:pt x="424" y="194"/>
                </a:cubicBezTo>
                <a:cubicBezTo>
                  <a:pt x="429" y="193"/>
                  <a:pt x="433" y="193"/>
                  <a:pt x="436" y="193"/>
                </a:cubicBezTo>
                <a:cubicBezTo>
                  <a:pt x="437" y="193"/>
                  <a:pt x="438" y="193"/>
                  <a:pt x="439" y="193"/>
                </a:cubicBezTo>
                <a:cubicBezTo>
                  <a:pt x="439" y="193"/>
                  <a:pt x="440" y="193"/>
                  <a:pt x="441" y="193"/>
                </a:cubicBezTo>
                <a:cubicBezTo>
                  <a:pt x="441" y="193"/>
                  <a:pt x="442" y="193"/>
                  <a:pt x="442" y="193"/>
                </a:cubicBezTo>
                <a:cubicBezTo>
                  <a:pt x="444" y="193"/>
                  <a:pt x="446" y="193"/>
                  <a:pt x="447" y="193"/>
                </a:cubicBezTo>
                <a:cubicBezTo>
                  <a:pt x="447" y="193"/>
                  <a:pt x="447" y="193"/>
                  <a:pt x="447" y="193"/>
                </a:cubicBezTo>
                <a:cubicBezTo>
                  <a:pt x="447" y="193"/>
                  <a:pt x="447" y="193"/>
                  <a:pt x="447" y="193"/>
                </a:cubicBezTo>
                <a:cubicBezTo>
                  <a:pt x="449" y="193"/>
                  <a:pt x="450" y="193"/>
                  <a:pt x="451" y="193"/>
                </a:cubicBezTo>
                <a:cubicBezTo>
                  <a:pt x="452" y="193"/>
                  <a:pt x="452" y="193"/>
                  <a:pt x="452" y="193"/>
                </a:cubicBezTo>
                <a:cubicBezTo>
                  <a:pt x="454" y="193"/>
                  <a:pt x="455" y="193"/>
                  <a:pt x="457" y="193"/>
                </a:cubicBezTo>
                <a:cubicBezTo>
                  <a:pt x="458" y="193"/>
                  <a:pt x="458" y="193"/>
                  <a:pt x="458" y="193"/>
                </a:cubicBezTo>
                <a:cubicBezTo>
                  <a:pt x="459" y="193"/>
                  <a:pt x="459" y="193"/>
                  <a:pt x="459" y="193"/>
                </a:cubicBezTo>
                <a:cubicBezTo>
                  <a:pt x="460" y="193"/>
                  <a:pt x="460" y="193"/>
                  <a:pt x="460" y="193"/>
                </a:cubicBezTo>
                <a:cubicBezTo>
                  <a:pt x="460" y="192"/>
                  <a:pt x="460" y="192"/>
                  <a:pt x="460" y="192"/>
                </a:cubicBezTo>
                <a:cubicBezTo>
                  <a:pt x="461" y="192"/>
                  <a:pt x="462" y="192"/>
                  <a:pt x="462" y="192"/>
                </a:cubicBezTo>
                <a:cubicBezTo>
                  <a:pt x="463" y="192"/>
                  <a:pt x="463" y="192"/>
                  <a:pt x="463" y="192"/>
                </a:cubicBezTo>
                <a:cubicBezTo>
                  <a:pt x="463" y="192"/>
                  <a:pt x="463" y="192"/>
                  <a:pt x="463" y="192"/>
                </a:cubicBezTo>
                <a:cubicBezTo>
                  <a:pt x="464" y="192"/>
                  <a:pt x="464" y="192"/>
                  <a:pt x="464" y="192"/>
                </a:cubicBezTo>
                <a:cubicBezTo>
                  <a:pt x="465" y="192"/>
                  <a:pt x="465" y="192"/>
                  <a:pt x="466" y="192"/>
                </a:cubicBezTo>
                <a:cubicBezTo>
                  <a:pt x="466" y="192"/>
                  <a:pt x="467" y="192"/>
                  <a:pt x="467" y="192"/>
                </a:cubicBezTo>
                <a:cubicBezTo>
                  <a:pt x="468" y="192"/>
                  <a:pt x="468" y="192"/>
                  <a:pt x="469" y="192"/>
                </a:cubicBezTo>
                <a:cubicBezTo>
                  <a:pt x="470" y="192"/>
                  <a:pt x="470" y="192"/>
                  <a:pt x="470" y="192"/>
                </a:cubicBezTo>
                <a:cubicBezTo>
                  <a:pt x="471" y="192"/>
                  <a:pt x="471" y="192"/>
                  <a:pt x="472" y="192"/>
                </a:cubicBezTo>
                <a:cubicBezTo>
                  <a:pt x="472" y="192"/>
                  <a:pt x="473" y="192"/>
                  <a:pt x="473" y="192"/>
                </a:cubicBezTo>
                <a:cubicBezTo>
                  <a:pt x="474" y="192"/>
                  <a:pt x="474" y="192"/>
                  <a:pt x="474" y="192"/>
                </a:cubicBezTo>
                <a:cubicBezTo>
                  <a:pt x="474" y="192"/>
                  <a:pt x="474" y="192"/>
                  <a:pt x="474" y="192"/>
                </a:cubicBezTo>
                <a:cubicBezTo>
                  <a:pt x="475" y="191"/>
                  <a:pt x="475" y="191"/>
                  <a:pt x="475" y="191"/>
                </a:cubicBezTo>
                <a:cubicBezTo>
                  <a:pt x="475" y="191"/>
                  <a:pt x="476" y="191"/>
                  <a:pt x="476" y="191"/>
                </a:cubicBezTo>
                <a:cubicBezTo>
                  <a:pt x="477" y="191"/>
                  <a:pt x="477" y="191"/>
                  <a:pt x="478" y="191"/>
                </a:cubicBezTo>
                <a:cubicBezTo>
                  <a:pt x="478" y="191"/>
                  <a:pt x="478" y="191"/>
                  <a:pt x="478" y="191"/>
                </a:cubicBezTo>
                <a:cubicBezTo>
                  <a:pt x="478" y="191"/>
                  <a:pt x="478" y="191"/>
                  <a:pt x="478" y="191"/>
                </a:cubicBezTo>
                <a:cubicBezTo>
                  <a:pt x="478" y="191"/>
                  <a:pt x="478" y="191"/>
                  <a:pt x="478" y="191"/>
                </a:cubicBezTo>
                <a:cubicBezTo>
                  <a:pt x="479" y="191"/>
                  <a:pt x="479" y="191"/>
                  <a:pt x="479" y="191"/>
                </a:cubicBezTo>
                <a:cubicBezTo>
                  <a:pt x="480" y="191"/>
                  <a:pt x="481" y="191"/>
                  <a:pt x="481" y="191"/>
                </a:cubicBezTo>
                <a:cubicBezTo>
                  <a:pt x="482" y="191"/>
                  <a:pt x="482" y="191"/>
                  <a:pt x="482" y="191"/>
                </a:cubicBezTo>
                <a:cubicBezTo>
                  <a:pt x="482" y="191"/>
                  <a:pt x="482" y="191"/>
                  <a:pt x="482" y="191"/>
                </a:cubicBezTo>
                <a:cubicBezTo>
                  <a:pt x="482" y="191"/>
                  <a:pt x="483" y="190"/>
                  <a:pt x="484" y="190"/>
                </a:cubicBezTo>
                <a:cubicBezTo>
                  <a:pt x="484" y="190"/>
                  <a:pt x="484" y="190"/>
                  <a:pt x="484" y="190"/>
                </a:cubicBezTo>
                <a:cubicBezTo>
                  <a:pt x="485" y="190"/>
                  <a:pt x="485" y="190"/>
                  <a:pt x="485" y="190"/>
                </a:cubicBezTo>
                <a:cubicBezTo>
                  <a:pt x="486" y="190"/>
                  <a:pt x="486" y="190"/>
                  <a:pt x="486" y="190"/>
                </a:cubicBezTo>
                <a:cubicBezTo>
                  <a:pt x="486" y="190"/>
                  <a:pt x="487" y="190"/>
                  <a:pt x="487" y="190"/>
                </a:cubicBezTo>
                <a:cubicBezTo>
                  <a:pt x="487" y="190"/>
                  <a:pt x="487" y="190"/>
                  <a:pt x="487" y="190"/>
                </a:cubicBezTo>
                <a:cubicBezTo>
                  <a:pt x="488" y="189"/>
                  <a:pt x="488" y="189"/>
                  <a:pt x="488" y="189"/>
                </a:cubicBezTo>
                <a:cubicBezTo>
                  <a:pt x="488" y="189"/>
                  <a:pt x="488" y="189"/>
                  <a:pt x="488" y="189"/>
                </a:cubicBezTo>
                <a:cubicBezTo>
                  <a:pt x="489" y="189"/>
                  <a:pt x="489" y="189"/>
                  <a:pt x="489" y="189"/>
                </a:cubicBezTo>
                <a:cubicBezTo>
                  <a:pt x="489" y="189"/>
                  <a:pt x="489" y="189"/>
                  <a:pt x="489" y="189"/>
                </a:cubicBezTo>
                <a:cubicBezTo>
                  <a:pt x="489" y="189"/>
                  <a:pt x="489" y="189"/>
                  <a:pt x="489" y="189"/>
                </a:cubicBezTo>
                <a:cubicBezTo>
                  <a:pt x="489" y="189"/>
                  <a:pt x="489" y="189"/>
                  <a:pt x="489" y="189"/>
                </a:cubicBezTo>
                <a:cubicBezTo>
                  <a:pt x="490" y="189"/>
                  <a:pt x="490" y="189"/>
                  <a:pt x="490" y="189"/>
                </a:cubicBezTo>
                <a:cubicBezTo>
                  <a:pt x="490" y="189"/>
                  <a:pt x="490" y="189"/>
                  <a:pt x="490" y="189"/>
                </a:cubicBezTo>
                <a:cubicBezTo>
                  <a:pt x="490" y="189"/>
                  <a:pt x="490" y="189"/>
                  <a:pt x="490" y="189"/>
                </a:cubicBezTo>
                <a:cubicBezTo>
                  <a:pt x="490" y="189"/>
                  <a:pt x="490" y="189"/>
                  <a:pt x="490" y="189"/>
                </a:cubicBezTo>
                <a:cubicBezTo>
                  <a:pt x="491" y="189"/>
                  <a:pt x="491" y="189"/>
                  <a:pt x="491" y="189"/>
                </a:cubicBezTo>
                <a:cubicBezTo>
                  <a:pt x="491" y="188"/>
                  <a:pt x="491" y="188"/>
                  <a:pt x="491" y="188"/>
                </a:cubicBezTo>
                <a:cubicBezTo>
                  <a:pt x="491" y="188"/>
                  <a:pt x="491" y="188"/>
                  <a:pt x="491" y="188"/>
                </a:cubicBezTo>
                <a:cubicBezTo>
                  <a:pt x="491" y="188"/>
                  <a:pt x="491" y="188"/>
                  <a:pt x="491" y="188"/>
                </a:cubicBezTo>
                <a:cubicBezTo>
                  <a:pt x="491" y="188"/>
                  <a:pt x="491" y="188"/>
                  <a:pt x="491" y="188"/>
                </a:cubicBezTo>
                <a:cubicBezTo>
                  <a:pt x="491" y="188"/>
                  <a:pt x="491" y="188"/>
                  <a:pt x="491" y="188"/>
                </a:cubicBezTo>
                <a:cubicBezTo>
                  <a:pt x="491" y="188"/>
                  <a:pt x="491" y="188"/>
                  <a:pt x="491" y="188"/>
                </a:cubicBezTo>
                <a:cubicBezTo>
                  <a:pt x="491" y="188"/>
                  <a:pt x="491" y="188"/>
                  <a:pt x="491" y="188"/>
                </a:cubicBezTo>
                <a:cubicBezTo>
                  <a:pt x="492" y="188"/>
                  <a:pt x="492" y="188"/>
                  <a:pt x="492" y="188"/>
                </a:cubicBezTo>
                <a:cubicBezTo>
                  <a:pt x="492" y="188"/>
                  <a:pt x="492" y="188"/>
                  <a:pt x="492" y="188"/>
                </a:cubicBezTo>
                <a:cubicBezTo>
                  <a:pt x="492" y="188"/>
                  <a:pt x="492" y="188"/>
                  <a:pt x="492" y="188"/>
                </a:cubicBezTo>
                <a:cubicBezTo>
                  <a:pt x="492" y="188"/>
                  <a:pt x="492" y="188"/>
                  <a:pt x="492" y="188"/>
                </a:cubicBezTo>
                <a:cubicBezTo>
                  <a:pt x="492" y="188"/>
                  <a:pt x="492" y="188"/>
                  <a:pt x="492" y="188"/>
                </a:cubicBezTo>
                <a:cubicBezTo>
                  <a:pt x="492" y="188"/>
                  <a:pt x="492" y="188"/>
                  <a:pt x="492" y="188"/>
                </a:cubicBezTo>
                <a:cubicBezTo>
                  <a:pt x="492" y="188"/>
                  <a:pt x="492" y="188"/>
                  <a:pt x="492" y="188"/>
                </a:cubicBezTo>
                <a:cubicBezTo>
                  <a:pt x="492" y="188"/>
                  <a:pt x="492" y="188"/>
                  <a:pt x="492" y="188"/>
                </a:cubicBezTo>
                <a:cubicBezTo>
                  <a:pt x="492" y="188"/>
                  <a:pt x="492" y="188"/>
                  <a:pt x="492" y="188"/>
                </a:cubicBezTo>
                <a:cubicBezTo>
                  <a:pt x="492" y="188"/>
                  <a:pt x="492" y="188"/>
                  <a:pt x="492" y="188"/>
                </a:cubicBezTo>
                <a:cubicBezTo>
                  <a:pt x="493" y="188"/>
                  <a:pt x="493" y="188"/>
                  <a:pt x="493" y="188"/>
                </a:cubicBezTo>
                <a:cubicBezTo>
                  <a:pt x="493" y="188"/>
                  <a:pt x="493" y="188"/>
                  <a:pt x="493" y="188"/>
                </a:cubicBezTo>
                <a:cubicBezTo>
                  <a:pt x="493" y="188"/>
                  <a:pt x="493" y="188"/>
                  <a:pt x="493" y="188"/>
                </a:cubicBezTo>
                <a:cubicBezTo>
                  <a:pt x="493" y="188"/>
                  <a:pt x="493" y="188"/>
                  <a:pt x="493" y="188"/>
                </a:cubicBezTo>
                <a:cubicBezTo>
                  <a:pt x="493" y="187"/>
                  <a:pt x="493" y="187"/>
                  <a:pt x="493" y="187"/>
                </a:cubicBezTo>
                <a:cubicBezTo>
                  <a:pt x="493" y="187"/>
                  <a:pt x="493" y="187"/>
                  <a:pt x="493" y="187"/>
                </a:cubicBezTo>
                <a:cubicBezTo>
                  <a:pt x="493" y="187"/>
                  <a:pt x="493" y="187"/>
                  <a:pt x="493" y="187"/>
                </a:cubicBezTo>
                <a:cubicBezTo>
                  <a:pt x="493" y="187"/>
                  <a:pt x="493" y="187"/>
                  <a:pt x="493" y="187"/>
                </a:cubicBezTo>
                <a:cubicBezTo>
                  <a:pt x="493" y="187"/>
                  <a:pt x="493" y="187"/>
                  <a:pt x="493" y="187"/>
                </a:cubicBezTo>
                <a:cubicBezTo>
                  <a:pt x="493" y="187"/>
                  <a:pt x="493" y="187"/>
                  <a:pt x="493" y="187"/>
                </a:cubicBezTo>
                <a:cubicBezTo>
                  <a:pt x="493" y="187"/>
                  <a:pt x="493" y="187"/>
                  <a:pt x="493" y="187"/>
                </a:cubicBezTo>
                <a:cubicBezTo>
                  <a:pt x="493" y="187"/>
                  <a:pt x="493" y="187"/>
                  <a:pt x="493" y="187"/>
                </a:cubicBezTo>
                <a:cubicBezTo>
                  <a:pt x="493" y="187"/>
                  <a:pt x="493" y="187"/>
                  <a:pt x="493" y="187"/>
                </a:cubicBezTo>
                <a:cubicBezTo>
                  <a:pt x="493" y="187"/>
                  <a:pt x="493" y="187"/>
                  <a:pt x="493" y="187"/>
                </a:cubicBezTo>
                <a:cubicBezTo>
                  <a:pt x="493" y="187"/>
                  <a:pt x="493" y="187"/>
                  <a:pt x="493" y="187"/>
                </a:cubicBezTo>
                <a:cubicBezTo>
                  <a:pt x="494" y="187"/>
                  <a:pt x="494" y="187"/>
                  <a:pt x="494" y="187"/>
                </a:cubicBezTo>
                <a:cubicBezTo>
                  <a:pt x="494" y="187"/>
                  <a:pt x="494" y="187"/>
                  <a:pt x="494" y="187"/>
                </a:cubicBezTo>
                <a:cubicBezTo>
                  <a:pt x="494" y="187"/>
                  <a:pt x="494" y="187"/>
                  <a:pt x="494" y="187"/>
                </a:cubicBezTo>
                <a:cubicBezTo>
                  <a:pt x="494" y="187"/>
                  <a:pt x="494" y="187"/>
                  <a:pt x="494" y="187"/>
                </a:cubicBezTo>
                <a:cubicBezTo>
                  <a:pt x="494" y="187"/>
                  <a:pt x="494" y="187"/>
                  <a:pt x="494" y="187"/>
                </a:cubicBezTo>
                <a:cubicBezTo>
                  <a:pt x="494" y="187"/>
                  <a:pt x="494" y="187"/>
                  <a:pt x="494" y="187"/>
                </a:cubicBezTo>
                <a:cubicBezTo>
                  <a:pt x="494" y="187"/>
                  <a:pt x="494" y="187"/>
                  <a:pt x="494" y="187"/>
                </a:cubicBezTo>
                <a:cubicBezTo>
                  <a:pt x="494" y="187"/>
                  <a:pt x="494" y="187"/>
                  <a:pt x="494" y="187"/>
                </a:cubicBezTo>
                <a:cubicBezTo>
                  <a:pt x="494" y="187"/>
                  <a:pt x="494" y="187"/>
                  <a:pt x="494" y="187"/>
                </a:cubicBezTo>
                <a:cubicBezTo>
                  <a:pt x="494" y="187"/>
                  <a:pt x="494" y="187"/>
                  <a:pt x="494" y="187"/>
                </a:cubicBezTo>
                <a:cubicBezTo>
                  <a:pt x="494" y="187"/>
                  <a:pt x="494" y="187"/>
                  <a:pt x="494" y="187"/>
                </a:cubicBezTo>
                <a:cubicBezTo>
                  <a:pt x="494" y="186"/>
                  <a:pt x="494" y="186"/>
                  <a:pt x="494" y="186"/>
                </a:cubicBezTo>
                <a:cubicBezTo>
                  <a:pt x="494" y="186"/>
                  <a:pt x="494" y="186"/>
                  <a:pt x="494" y="186"/>
                </a:cubicBezTo>
                <a:cubicBezTo>
                  <a:pt x="494" y="186"/>
                  <a:pt x="494" y="186"/>
                  <a:pt x="494" y="186"/>
                </a:cubicBezTo>
                <a:cubicBezTo>
                  <a:pt x="494" y="186"/>
                  <a:pt x="494" y="186"/>
                  <a:pt x="494" y="186"/>
                </a:cubicBezTo>
                <a:cubicBezTo>
                  <a:pt x="494" y="186"/>
                  <a:pt x="494" y="186"/>
                  <a:pt x="494" y="186"/>
                </a:cubicBezTo>
                <a:cubicBezTo>
                  <a:pt x="494" y="186"/>
                  <a:pt x="494" y="186"/>
                  <a:pt x="494" y="186"/>
                </a:cubicBezTo>
                <a:cubicBezTo>
                  <a:pt x="494" y="186"/>
                  <a:pt x="494" y="186"/>
                  <a:pt x="494" y="186"/>
                </a:cubicBezTo>
                <a:cubicBezTo>
                  <a:pt x="494" y="186"/>
                  <a:pt x="494" y="186"/>
                  <a:pt x="494" y="186"/>
                </a:cubicBezTo>
                <a:cubicBezTo>
                  <a:pt x="494" y="186"/>
                  <a:pt x="494" y="186"/>
                  <a:pt x="494" y="186"/>
                </a:cubicBezTo>
                <a:cubicBezTo>
                  <a:pt x="494" y="186"/>
                  <a:pt x="494" y="186"/>
                  <a:pt x="494" y="186"/>
                </a:cubicBezTo>
                <a:cubicBezTo>
                  <a:pt x="494" y="186"/>
                  <a:pt x="494" y="186"/>
                  <a:pt x="494" y="186"/>
                </a:cubicBezTo>
                <a:cubicBezTo>
                  <a:pt x="494" y="186"/>
                  <a:pt x="494" y="186"/>
                  <a:pt x="494" y="186"/>
                </a:cubicBezTo>
                <a:cubicBezTo>
                  <a:pt x="494" y="186"/>
                  <a:pt x="494" y="186"/>
                  <a:pt x="494" y="186"/>
                </a:cubicBezTo>
                <a:cubicBezTo>
                  <a:pt x="494" y="186"/>
                  <a:pt x="494" y="186"/>
                  <a:pt x="494" y="186"/>
                </a:cubicBezTo>
                <a:cubicBezTo>
                  <a:pt x="494" y="186"/>
                  <a:pt x="494" y="186"/>
                  <a:pt x="494" y="186"/>
                </a:cubicBezTo>
                <a:cubicBezTo>
                  <a:pt x="494" y="186"/>
                  <a:pt x="494" y="186"/>
                  <a:pt x="494" y="186"/>
                </a:cubicBezTo>
                <a:cubicBezTo>
                  <a:pt x="494" y="186"/>
                  <a:pt x="494" y="186"/>
                  <a:pt x="494" y="186"/>
                </a:cubicBezTo>
                <a:cubicBezTo>
                  <a:pt x="494" y="186"/>
                  <a:pt x="494" y="186"/>
                  <a:pt x="494" y="186"/>
                </a:cubicBezTo>
                <a:cubicBezTo>
                  <a:pt x="494" y="186"/>
                  <a:pt x="494" y="186"/>
                  <a:pt x="494" y="186"/>
                </a:cubicBezTo>
                <a:cubicBezTo>
                  <a:pt x="494" y="186"/>
                  <a:pt x="494" y="186"/>
                  <a:pt x="494" y="186"/>
                </a:cubicBezTo>
                <a:cubicBezTo>
                  <a:pt x="494" y="186"/>
                  <a:pt x="494" y="186"/>
                  <a:pt x="494" y="186"/>
                </a:cubicBezTo>
                <a:cubicBezTo>
                  <a:pt x="494" y="186"/>
                  <a:pt x="494" y="186"/>
                  <a:pt x="494" y="186"/>
                </a:cubicBezTo>
                <a:cubicBezTo>
                  <a:pt x="494" y="186"/>
                  <a:pt x="494" y="186"/>
                  <a:pt x="494" y="186"/>
                </a:cubicBezTo>
                <a:cubicBezTo>
                  <a:pt x="494" y="186"/>
                  <a:pt x="494" y="186"/>
                  <a:pt x="494" y="186"/>
                </a:cubicBezTo>
                <a:cubicBezTo>
                  <a:pt x="494" y="185"/>
                  <a:pt x="494" y="185"/>
                  <a:pt x="494" y="185"/>
                </a:cubicBezTo>
                <a:cubicBezTo>
                  <a:pt x="495" y="185"/>
                  <a:pt x="496" y="183"/>
                  <a:pt x="498" y="180"/>
                </a:cubicBezTo>
                <a:cubicBezTo>
                  <a:pt x="498" y="180"/>
                  <a:pt x="498" y="180"/>
                  <a:pt x="498" y="180"/>
                </a:cubicBezTo>
                <a:cubicBezTo>
                  <a:pt x="499" y="179"/>
                  <a:pt x="499" y="179"/>
                  <a:pt x="499" y="178"/>
                </a:cubicBezTo>
                <a:cubicBezTo>
                  <a:pt x="500" y="178"/>
                  <a:pt x="500" y="177"/>
                  <a:pt x="500" y="177"/>
                </a:cubicBezTo>
                <a:cubicBezTo>
                  <a:pt x="500" y="177"/>
                  <a:pt x="501" y="176"/>
                  <a:pt x="501" y="176"/>
                </a:cubicBezTo>
                <a:cubicBezTo>
                  <a:pt x="502" y="175"/>
                  <a:pt x="502" y="175"/>
                  <a:pt x="502" y="174"/>
                </a:cubicBezTo>
                <a:cubicBezTo>
                  <a:pt x="503" y="174"/>
                  <a:pt x="503" y="173"/>
                  <a:pt x="503" y="173"/>
                </a:cubicBezTo>
                <a:cubicBezTo>
                  <a:pt x="504" y="172"/>
                  <a:pt x="504" y="171"/>
                  <a:pt x="505" y="171"/>
                </a:cubicBezTo>
                <a:cubicBezTo>
                  <a:pt x="505" y="170"/>
                  <a:pt x="505" y="170"/>
                  <a:pt x="506" y="169"/>
                </a:cubicBezTo>
                <a:cubicBezTo>
                  <a:pt x="506" y="169"/>
                  <a:pt x="507" y="168"/>
                  <a:pt x="507" y="168"/>
                </a:cubicBezTo>
                <a:cubicBezTo>
                  <a:pt x="508" y="166"/>
                  <a:pt x="510" y="164"/>
                  <a:pt x="512" y="162"/>
                </a:cubicBezTo>
                <a:cubicBezTo>
                  <a:pt x="512" y="161"/>
                  <a:pt x="512" y="161"/>
                  <a:pt x="513" y="161"/>
                </a:cubicBezTo>
                <a:cubicBezTo>
                  <a:pt x="514" y="159"/>
                  <a:pt x="516" y="157"/>
                  <a:pt x="517" y="155"/>
                </a:cubicBezTo>
                <a:cubicBezTo>
                  <a:pt x="517" y="155"/>
                  <a:pt x="517" y="155"/>
                  <a:pt x="517" y="155"/>
                </a:cubicBezTo>
                <a:cubicBezTo>
                  <a:pt x="518" y="154"/>
                  <a:pt x="520" y="153"/>
                  <a:pt x="521" y="152"/>
                </a:cubicBezTo>
                <a:cubicBezTo>
                  <a:pt x="521" y="151"/>
                  <a:pt x="522" y="150"/>
                  <a:pt x="523" y="149"/>
                </a:cubicBezTo>
                <a:cubicBezTo>
                  <a:pt x="523" y="149"/>
                  <a:pt x="523" y="149"/>
                  <a:pt x="523" y="149"/>
                </a:cubicBezTo>
                <a:cubicBezTo>
                  <a:pt x="524" y="148"/>
                  <a:pt x="524" y="148"/>
                  <a:pt x="525" y="147"/>
                </a:cubicBezTo>
                <a:cubicBezTo>
                  <a:pt x="525" y="147"/>
                  <a:pt x="525" y="147"/>
                  <a:pt x="525" y="147"/>
                </a:cubicBezTo>
                <a:cubicBezTo>
                  <a:pt x="526" y="146"/>
                  <a:pt x="527" y="146"/>
                  <a:pt x="528" y="145"/>
                </a:cubicBezTo>
                <a:cubicBezTo>
                  <a:pt x="529" y="144"/>
                  <a:pt x="530" y="143"/>
                  <a:pt x="532" y="143"/>
                </a:cubicBezTo>
                <a:cubicBezTo>
                  <a:pt x="533" y="142"/>
                  <a:pt x="534" y="142"/>
                  <a:pt x="535" y="142"/>
                </a:cubicBezTo>
                <a:cubicBezTo>
                  <a:pt x="535" y="142"/>
                  <a:pt x="535" y="142"/>
                  <a:pt x="535" y="142"/>
                </a:cubicBezTo>
                <a:cubicBezTo>
                  <a:pt x="536" y="141"/>
                  <a:pt x="536" y="141"/>
                  <a:pt x="537" y="141"/>
                </a:cubicBezTo>
                <a:cubicBezTo>
                  <a:pt x="538" y="141"/>
                  <a:pt x="538" y="141"/>
                  <a:pt x="538" y="141"/>
                </a:cubicBezTo>
                <a:cubicBezTo>
                  <a:pt x="539" y="140"/>
                  <a:pt x="542" y="140"/>
                  <a:pt x="544" y="140"/>
                </a:cubicBezTo>
                <a:cubicBezTo>
                  <a:pt x="546" y="140"/>
                  <a:pt x="548" y="140"/>
                  <a:pt x="551" y="140"/>
                </a:cubicBezTo>
                <a:cubicBezTo>
                  <a:pt x="554" y="139"/>
                  <a:pt x="557" y="140"/>
                  <a:pt x="561" y="140"/>
                </a:cubicBezTo>
                <a:cubicBezTo>
                  <a:pt x="564" y="140"/>
                  <a:pt x="568" y="140"/>
                  <a:pt x="572" y="141"/>
                </a:cubicBezTo>
                <a:cubicBezTo>
                  <a:pt x="572" y="141"/>
                  <a:pt x="572" y="141"/>
                  <a:pt x="572" y="141"/>
                </a:cubicBezTo>
                <a:cubicBezTo>
                  <a:pt x="575" y="141"/>
                  <a:pt x="579" y="142"/>
                  <a:pt x="582" y="142"/>
                </a:cubicBezTo>
                <a:cubicBezTo>
                  <a:pt x="583" y="142"/>
                  <a:pt x="583" y="142"/>
                  <a:pt x="583" y="142"/>
                </a:cubicBezTo>
                <a:cubicBezTo>
                  <a:pt x="586" y="143"/>
                  <a:pt x="590" y="143"/>
                  <a:pt x="593" y="144"/>
                </a:cubicBezTo>
                <a:cubicBezTo>
                  <a:pt x="594" y="144"/>
                  <a:pt x="594" y="144"/>
                  <a:pt x="594" y="144"/>
                </a:cubicBezTo>
                <a:cubicBezTo>
                  <a:pt x="595" y="144"/>
                  <a:pt x="595" y="144"/>
                  <a:pt x="595" y="144"/>
                </a:cubicBezTo>
                <a:cubicBezTo>
                  <a:pt x="596" y="144"/>
                  <a:pt x="596" y="144"/>
                  <a:pt x="596" y="144"/>
                </a:cubicBezTo>
                <a:cubicBezTo>
                  <a:pt x="596" y="144"/>
                  <a:pt x="596" y="144"/>
                  <a:pt x="596" y="144"/>
                </a:cubicBezTo>
                <a:cubicBezTo>
                  <a:pt x="597" y="144"/>
                  <a:pt x="597" y="144"/>
                  <a:pt x="597" y="144"/>
                </a:cubicBezTo>
                <a:cubicBezTo>
                  <a:pt x="598" y="145"/>
                  <a:pt x="598" y="145"/>
                  <a:pt x="598" y="145"/>
                </a:cubicBezTo>
                <a:cubicBezTo>
                  <a:pt x="599" y="145"/>
                  <a:pt x="599" y="145"/>
                  <a:pt x="599" y="145"/>
                </a:cubicBezTo>
                <a:cubicBezTo>
                  <a:pt x="599" y="145"/>
                  <a:pt x="599" y="145"/>
                  <a:pt x="599" y="145"/>
                </a:cubicBezTo>
                <a:cubicBezTo>
                  <a:pt x="599" y="145"/>
                  <a:pt x="599" y="145"/>
                  <a:pt x="599" y="145"/>
                </a:cubicBezTo>
                <a:cubicBezTo>
                  <a:pt x="599" y="145"/>
                  <a:pt x="599" y="145"/>
                  <a:pt x="599" y="145"/>
                </a:cubicBezTo>
                <a:cubicBezTo>
                  <a:pt x="600" y="145"/>
                  <a:pt x="600" y="145"/>
                  <a:pt x="600" y="145"/>
                </a:cubicBezTo>
                <a:cubicBezTo>
                  <a:pt x="601" y="145"/>
                  <a:pt x="601" y="145"/>
                  <a:pt x="601" y="145"/>
                </a:cubicBezTo>
                <a:cubicBezTo>
                  <a:pt x="602" y="145"/>
                  <a:pt x="602" y="145"/>
                  <a:pt x="602" y="145"/>
                </a:cubicBezTo>
                <a:cubicBezTo>
                  <a:pt x="603" y="145"/>
                  <a:pt x="603" y="145"/>
                  <a:pt x="603" y="145"/>
                </a:cubicBezTo>
                <a:cubicBezTo>
                  <a:pt x="604" y="145"/>
                  <a:pt x="604" y="145"/>
                  <a:pt x="604" y="145"/>
                </a:cubicBezTo>
                <a:cubicBezTo>
                  <a:pt x="605" y="145"/>
                  <a:pt x="605" y="145"/>
                  <a:pt x="605" y="145"/>
                </a:cubicBezTo>
                <a:cubicBezTo>
                  <a:pt x="605" y="145"/>
                  <a:pt x="605" y="145"/>
                  <a:pt x="605" y="145"/>
                </a:cubicBezTo>
                <a:cubicBezTo>
                  <a:pt x="606" y="145"/>
                  <a:pt x="606" y="145"/>
                  <a:pt x="606" y="145"/>
                </a:cubicBezTo>
                <a:cubicBezTo>
                  <a:pt x="607" y="145"/>
                  <a:pt x="607" y="145"/>
                  <a:pt x="607" y="145"/>
                </a:cubicBezTo>
                <a:cubicBezTo>
                  <a:pt x="607" y="145"/>
                  <a:pt x="607" y="145"/>
                  <a:pt x="607" y="145"/>
                </a:cubicBezTo>
                <a:cubicBezTo>
                  <a:pt x="608" y="145"/>
                  <a:pt x="608" y="145"/>
                  <a:pt x="608" y="145"/>
                </a:cubicBezTo>
                <a:cubicBezTo>
                  <a:pt x="609" y="145"/>
                  <a:pt x="609" y="145"/>
                  <a:pt x="609" y="145"/>
                </a:cubicBezTo>
                <a:cubicBezTo>
                  <a:pt x="609" y="145"/>
                  <a:pt x="609" y="145"/>
                  <a:pt x="609" y="145"/>
                </a:cubicBezTo>
                <a:cubicBezTo>
                  <a:pt x="609" y="145"/>
                  <a:pt x="609" y="145"/>
                  <a:pt x="609" y="145"/>
                </a:cubicBezTo>
                <a:cubicBezTo>
                  <a:pt x="609" y="145"/>
                  <a:pt x="609" y="145"/>
                  <a:pt x="609" y="145"/>
                </a:cubicBezTo>
                <a:cubicBezTo>
                  <a:pt x="609" y="145"/>
                  <a:pt x="609" y="145"/>
                  <a:pt x="609" y="145"/>
                </a:cubicBezTo>
                <a:cubicBezTo>
                  <a:pt x="610" y="146"/>
                  <a:pt x="610" y="146"/>
                  <a:pt x="610" y="146"/>
                </a:cubicBezTo>
                <a:cubicBezTo>
                  <a:pt x="611" y="146"/>
                  <a:pt x="611" y="146"/>
                  <a:pt x="611" y="146"/>
                </a:cubicBezTo>
                <a:cubicBezTo>
                  <a:pt x="611" y="146"/>
                  <a:pt x="611" y="146"/>
                  <a:pt x="611" y="146"/>
                </a:cubicBezTo>
                <a:cubicBezTo>
                  <a:pt x="612" y="146"/>
                  <a:pt x="612" y="146"/>
                  <a:pt x="612" y="146"/>
                </a:cubicBezTo>
                <a:cubicBezTo>
                  <a:pt x="612" y="146"/>
                  <a:pt x="612" y="146"/>
                  <a:pt x="612" y="146"/>
                </a:cubicBezTo>
                <a:cubicBezTo>
                  <a:pt x="613" y="146"/>
                  <a:pt x="613" y="146"/>
                  <a:pt x="613" y="146"/>
                </a:cubicBezTo>
                <a:cubicBezTo>
                  <a:pt x="614" y="146"/>
                  <a:pt x="614" y="146"/>
                  <a:pt x="614" y="146"/>
                </a:cubicBezTo>
                <a:cubicBezTo>
                  <a:pt x="614" y="146"/>
                  <a:pt x="614" y="146"/>
                  <a:pt x="614" y="146"/>
                </a:cubicBezTo>
                <a:cubicBezTo>
                  <a:pt x="615" y="146"/>
                  <a:pt x="615" y="146"/>
                  <a:pt x="615" y="146"/>
                </a:cubicBezTo>
                <a:cubicBezTo>
                  <a:pt x="615" y="146"/>
                  <a:pt x="615" y="146"/>
                  <a:pt x="615" y="146"/>
                </a:cubicBezTo>
                <a:cubicBezTo>
                  <a:pt x="615" y="146"/>
                  <a:pt x="615" y="146"/>
                  <a:pt x="615" y="146"/>
                </a:cubicBezTo>
                <a:cubicBezTo>
                  <a:pt x="616" y="146"/>
                  <a:pt x="616" y="146"/>
                  <a:pt x="616" y="146"/>
                </a:cubicBezTo>
                <a:cubicBezTo>
                  <a:pt x="616" y="146"/>
                  <a:pt x="616" y="146"/>
                  <a:pt x="616" y="146"/>
                </a:cubicBezTo>
                <a:cubicBezTo>
                  <a:pt x="617" y="146"/>
                  <a:pt x="617" y="146"/>
                  <a:pt x="617" y="146"/>
                </a:cubicBezTo>
                <a:cubicBezTo>
                  <a:pt x="617" y="146"/>
                  <a:pt x="617" y="146"/>
                  <a:pt x="617" y="146"/>
                </a:cubicBezTo>
                <a:cubicBezTo>
                  <a:pt x="618" y="146"/>
                  <a:pt x="618" y="146"/>
                  <a:pt x="618" y="146"/>
                </a:cubicBezTo>
                <a:cubicBezTo>
                  <a:pt x="618" y="145"/>
                  <a:pt x="618" y="145"/>
                  <a:pt x="618" y="145"/>
                </a:cubicBezTo>
                <a:cubicBezTo>
                  <a:pt x="619" y="145"/>
                  <a:pt x="619" y="145"/>
                  <a:pt x="619" y="145"/>
                </a:cubicBezTo>
                <a:cubicBezTo>
                  <a:pt x="620" y="145"/>
                  <a:pt x="620" y="145"/>
                  <a:pt x="620" y="145"/>
                </a:cubicBezTo>
                <a:cubicBezTo>
                  <a:pt x="620" y="145"/>
                  <a:pt x="620" y="145"/>
                  <a:pt x="620" y="145"/>
                </a:cubicBezTo>
                <a:cubicBezTo>
                  <a:pt x="621" y="145"/>
                  <a:pt x="621" y="145"/>
                  <a:pt x="621" y="145"/>
                </a:cubicBezTo>
                <a:cubicBezTo>
                  <a:pt x="621" y="145"/>
                  <a:pt x="621" y="145"/>
                  <a:pt x="621" y="145"/>
                </a:cubicBezTo>
                <a:cubicBezTo>
                  <a:pt x="621" y="145"/>
                  <a:pt x="621" y="145"/>
                  <a:pt x="621" y="145"/>
                </a:cubicBezTo>
                <a:cubicBezTo>
                  <a:pt x="622" y="145"/>
                  <a:pt x="622" y="145"/>
                  <a:pt x="622" y="145"/>
                </a:cubicBezTo>
                <a:cubicBezTo>
                  <a:pt x="622" y="145"/>
                  <a:pt x="622" y="145"/>
                  <a:pt x="622" y="145"/>
                </a:cubicBezTo>
                <a:cubicBezTo>
                  <a:pt x="623" y="145"/>
                  <a:pt x="623" y="145"/>
                  <a:pt x="623" y="145"/>
                </a:cubicBezTo>
                <a:cubicBezTo>
                  <a:pt x="624" y="145"/>
                  <a:pt x="624" y="145"/>
                  <a:pt x="624" y="145"/>
                </a:cubicBezTo>
                <a:cubicBezTo>
                  <a:pt x="625" y="145"/>
                  <a:pt x="625" y="145"/>
                  <a:pt x="625" y="145"/>
                </a:cubicBezTo>
                <a:cubicBezTo>
                  <a:pt x="625" y="145"/>
                  <a:pt x="625" y="145"/>
                  <a:pt x="625" y="145"/>
                </a:cubicBezTo>
                <a:cubicBezTo>
                  <a:pt x="625" y="145"/>
                  <a:pt x="625" y="145"/>
                  <a:pt x="625" y="145"/>
                </a:cubicBezTo>
                <a:cubicBezTo>
                  <a:pt x="625" y="145"/>
                  <a:pt x="625" y="145"/>
                  <a:pt x="626" y="145"/>
                </a:cubicBezTo>
                <a:cubicBezTo>
                  <a:pt x="626" y="145"/>
                  <a:pt x="627" y="145"/>
                  <a:pt x="627" y="145"/>
                </a:cubicBezTo>
                <a:cubicBezTo>
                  <a:pt x="628" y="145"/>
                  <a:pt x="628" y="145"/>
                  <a:pt x="628" y="145"/>
                </a:cubicBezTo>
                <a:cubicBezTo>
                  <a:pt x="629" y="145"/>
                  <a:pt x="629" y="145"/>
                  <a:pt x="630" y="145"/>
                </a:cubicBezTo>
                <a:cubicBezTo>
                  <a:pt x="632" y="144"/>
                  <a:pt x="633" y="144"/>
                  <a:pt x="635" y="144"/>
                </a:cubicBezTo>
                <a:cubicBezTo>
                  <a:pt x="636" y="144"/>
                  <a:pt x="636" y="144"/>
                  <a:pt x="636" y="144"/>
                </a:cubicBezTo>
                <a:cubicBezTo>
                  <a:pt x="636" y="144"/>
                  <a:pt x="636" y="144"/>
                  <a:pt x="636" y="144"/>
                </a:cubicBezTo>
                <a:cubicBezTo>
                  <a:pt x="638" y="143"/>
                  <a:pt x="640" y="143"/>
                  <a:pt x="641" y="143"/>
                </a:cubicBezTo>
                <a:cubicBezTo>
                  <a:pt x="642" y="143"/>
                  <a:pt x="642" y="143"/>
                  <a:pt x="642" y="143"/>
                </a:cubicBezTo>
                <a:cubicBezTo>
                  <a:pt x="642" y="143"/>
                  <a:pt x="642" y="143"/>
                  <a:pt x="642" y="143"/>
                </a:cubicBezTo>
                <a:cubicBezTo>
                  <a:pt x="643" y="142"/>
                  <a:pt x="645" y="142"/>
                  <a:pt x="647" y="141"/>
                </a:cubicBezTo>
                <a:cubicBezTo>
                  <a:pt x="648" y="141"/>
                  <a:pt x="648" y="141"/>
                  <a:pt x="648" y="141"/>
                </a:cubicBezTo>
                <a:cubicBezTo>
                  <a:pt x="648" y="141"/>
                  <a:pt x="648" y="141"/>
                  <a:pt x="648" y="141"/>
                </a:cubicBezTo>
                <a:cubicBezTo>
                  <a:pt x="649" y="141"/>
                  <a:pt x="649" y="141"/>
                  <a:pt x="650" y="141"/>
                </a:cubicBezTo>
                <a:cubicBezTo>
                  <a:pt x="652" y="140"/>
                  <a:pt x="653" y="140"/>
                  <a:pt x="654" y="140"/>
                </a:cubicBezTo>
                <a:cubicBezTo>
                  <a:pt x="655" y="140"/>
                  <a:pt x="655" y="140"/>
                  <a:pt x="655" y="140"/>
                </a:cubicBezTo>
                <a:cubicBezTo>
                  <a:pt x="655" y="139"/>
                  <a:pt x="656" y="139"/>
                  <a:pt x="656" y="139"/>
                </a:cubicBezTo>
                <a:cubicBezTo>
                  <a:pt x="656" y="139"/>
                  <a:pt x="657" y="139"/>
                  <a:pt x="657" y="139"/>
                </a:cubicBezTo>
                <a:cubicBezTo>
                  <a:pt x="658" y="139"/>
                  <a:pt x="658" y="139"/>
                  <a:pt x="658" y="139"/>
                </a:cubicBezTo>
                <a:cubicBezTo>
                  <a:pt x="659" y="139"/>
                  <a:pt x="659" y="138"/>
                  <a:pt x="660" y="138"/>
                </a:cubicBezTo>
                <a:cubicBezTo>
                  <a:pt x="660" y="138"/>
                  <a:pt x="660" y="138"/>
                  <a:pt x="661" y="138"/>
                </a:cubicBezTo>
                <a:cubicBezTo>
                  <a:pt x="661" y="138"/>
                  <a:pt x="662" y="138"/>
                  <a:pt x="662" y="138"/>
                </a:cubicBezTo>
                <a:cubicBezTo>
                  <a:pt x="663" y="138"/>
                  <a:pt x="663" y="138"/>
                  <a:pt x="663" y="138"/>
                </a:cubicBezTo>
                <a:cubicBezTo>
                  <a:pt x="663" y="137"/>
                  <a:pt x="663" y="137"/>
                  <a:pt x="663" y="137"/>
                </a:cubicBezTo>
                <a:cubicBezTo>
                  <a:pt x="663" y="137"/>
                  <a:pt x="663" y="137"/>
                  <a:pt x="663" y="137"/>
                </a:cubicBezTo>
                <a:cubicBezTo>
                  <a:pt x="664" y="137"/>
                  <a:pt x="664" y="137"/>
                  <a:pt x="664" y="137"/>
                </a:cubicBezTo>
                <a:cubicBezTo>
                  <a:pt x="665" y="137"/>
                  <a:pt x="665" y="137"/>
                  <a:pt x="665" y="137"/>
                </a:cubicBezTo>
                <a:cubicBezTo>
                  <a:pt x="666" y="137"/>
                  <a:pt x="666" y="137"/>
                  <a:pt x="666" y="137"/>
                </a:cubicBezTo>
                <a:cubicBezTo>
                  <a:pt x="666" y="136"/>
                  <a:pt x="666" y="136"/>
                  <a:pt x="666" y="136"/>
                </a:cubicBezTo>
                <a:cubicBezTo>
                  <a:pt x="666" y="136"/>
                  <a:pt x="666" y="136"/>
                  <a:pt x="666" y="136"/>
                </a:cubicBezTo>
                <a:cubicBezTo>
                  <a:pt x="666" y="136"/>
                  <a:pt x="666" y="136"/>
                  <a:pt x="666" y="136"/>
                </a:cubicBezTo>
                <a:cubicBezTo>
                  <a:pt x="667" y="136"/>
                  <a:pt x="667" y="136"/>
                  <a:pt x="667" y="136"/>
                </a:cubicBezTo>
                <a:cubicBezTo>
                  <a:pt x="668" y="136"/>
                  <a:pt x="668" y="136"/>
                  <a:pt x="668" y="136"/>
                </a:cubicBezTo>
                <a:cubicBezTo>
                  <a:pt x="669" y="136"/>
                  <a:pt x="669" y="136"/>
                  <a:pt x="669" y="136"/>
                </a:cubicBezTo>
                <a:cubicBezTo>
                  <a:pt x="669" y="135"/>
                  <a:pt x="669" y="135"/>
                  <a:pt x="669" y="135"/>
                </a:cubicBezTo>
                <a:cubicBezTo>
                  <a:pt x="669" y="135"/>
                  <a:pt x="669" y="135"/>
                  <a:pt x="669" y="135"/>
                </a:cubicBezTo>
                <a:cubicBezTo>
                  <a:pt x="669" y="135"/>
                  <a:pt x="669" y="135"/>
                  <a:pt x="669" y="135"/>
                </a:cubicBezTo>
                <a:cubicBezTo>
                  <a:pt x="670" y="135"/>
                  <a:pt x="670" y="135"/>
                  <a:pt x="670" y="135"/>
                </a:cubicBezTo>
                <a:cubicBezTo>
                  <a:pt x="670" y="135"/>
                  <a:pt x="670" y="135"/>
                  <a:pt x="670" y="135"/>
                </a:cubicBezTo>
                <a:cubicBezTo>
                  <a:pt x="671" y="135"/>
                  <a:pt x="671" y="135"/>
                  <a:pt x="671" y="135"/>
                </a:cubicBezTo>
                <a:cubicBezTo>
                  <a:pt x="671" y="134"/>
                  <a:pt x="671" y="134"/>
                  <a:pt x="671" y="134"/>
                </a:cubicBezTo>
                <a:cubicBezTo>
                  <a:pt x="672" y="134"/>
                  <a:pt x="672" y="134"/>
                  <a:pt x="672" y="134"/>
                </a:cubicBezTo>
                <a:cubicBezTo>
                  <a:pt x="672" y="134"/>
                  <a:pt x="672" y="134"/>
                  <a:pt x="672" y="134"/>
                </a:cubicBezTo>
                <a:cubicBezTo>
                  <a:pt x="672" y="134"/>
                  <a:pt x="672" y="134"/>
                  <a:pt x="672" y="134"/>
                </a:cubicBezTo>
                <a:cubicBezTo>
                  <a:pt x="672" y="134"/>
                  <a:pt x="672" y="134"/>
                  <a:pt x="672" y="134"/>
                </a:cubicBezTo>
                <a:cubicBezTo>
                  <a:pt x="673" y="134"/>
                  <a:pt x="673" y="134"/>
                  <a:pt x="673" y="134"/>
                </a:cubicBezTo>
                <a:cubicBezTo>
                  <a:pt x="673" y="134"/>
                  <a:pt x="673" y="134"/>
                  <a:pt x="673" y="134"/>
                </a:cubicBezTo>
                <a:cubicBezTo>
                  <a:pt x="674" y="133"/>
                  <a:pt x="674" y="133"/>
                  <a:pt x="674" y="133"/>
                </a:cubicBezTo>
                <a:cubicBezTo>
                  <a:pt x="674" y="133"/>
                  <a:pt x="674" y="133"/>
                  <a:pt x="674" y="133"/>
                </a:cubicBezTo>
                <a:cubicBezTo>
                  <a:pt x="674" y="133"/>
                  <a:pt x="674" y="133"/>
                  <a:pt x="674" y="133"/>
                </a:cubicBezTo>
                <a:cubicBezTo>
                  <a:pt x="674" y="133"/>
                  <a:pt x="674" y="133"/>
                  <a:pt x="674" y="133"/>
                </a:cubicBezTo>
                <a:cubicBezTo>
                  <a:pt x="674" y="133"/>
                  <a:pt x="674" y="133"/>
                  <a:pt x="674" y="133"/>
                </a:cubicBezTo>
                <a:cubicBezTo>
                  <a:pt x="675" y="133"/>
                  <a:pt x="675" y="133"/>
                  <a:pt x="675" y="133"/>
                </a:cubicBezTo>
                <a:cubicBezTo>
                  <a:pt x="675" y="132"/>
                  <a:pt x="675" y="132"/>
                  <a:pt x="675" y="132"/>
                </a:cubicBezTo>
                <a:cubicBezTo>
                  <a:pt x="676" y="132"/>
                  <a:pt x="676" y="132"/>
                  <a:pt x="676" y="132"/>
                </a:cubicBezTo>
                <a:cubicBezTo>
                  <a:pt x="676" y="132"/>
                  <a:pt x="676" y="132"/>
                  <a:pt x="676" y="132"/>
                </a:cubicBezTo>
                <a:cubicBezTo>
                  <a:pt x="676" y="132"/>
                  <a:pt x="676" y="132"/>
                  <a:pt x="676" y="132"/>
                </a:cubicBezTo>
                <a:cubicBezTo>
                  <a:pt x="676" y="132"/>
                  <a:pt x="676" y="132"/>
                  <a:pt x="676" y="132"/>
                </a:cubicBezTo>
                <a:cubicBezTo>
                  <a:pt x="677" y="132"/>
                  <a:pt x="677" y="132"/>
                  <a:pt x="677" y="132"/>
                </a:cubicBezTo>
                <a:cubicBezTo>
                  <a:pt x="677" y="131"/>
                  <a:pt x="677" y="131"/>
                  <a:pt x="677" y="131"/>
                </a:cubicBezTo>
                <a:cubicBezTo>
                  <a:pt x="678" y="131"/>
                  <a:pt x="678" y="131"/>
                  <a:pt x="678" y="131"/>
                </a:cubicBezTo>
                <a:cubicBezTo>
                  <a:pt x="678" y="131"/>
                  <a:pt x="678" y="131"/>
                  <a:pt x="678" y="131"/>
                </a:cubicBezTo>
                <a:cubicBezTo>
                  <a:pt x="678" y="131"/>
                  <a:pt x="678" y="131"/>
                  <a:pt x="678" y="131"/>
                </a:cubicBezTo>
                <a:cubicBezTo>
                  <a:pt x="678" y="131"/>
                  <a:pt x="678" y="131"/>
                  <a:pt x="678" y="131"/>
                </a:cubicBezTo>
                <a:cubicBezTo>
                  <a:pt x="678" y="130"/>
                  <a:pt x="678" y="130"/>
                  <a:pt x="678" y="130"/>
                </a:cubicBezTo>
                <a:cubicBezTo>
                  <a:pt x="679" y="130"/>
                  <a:pt x="679" y="130"/>
                  <a:pt x="679" y="130"/>
                </a:cubicBezTo>
                <a:cubicBezTo>
                  <a:pt x="679" y="130"/>
                  <a:pt x="679" y="130"/>
                  <a:pt x="679" y="130"/>
                </a:cubicBezTo>
                <a:cubicBezTo>
                  <a:pt x="680" y="130"/>
                  <a:pt x="680" y="130"/>
                  <a:pt x="680" y="130"/>
                </a:cubicBezTo>
                <a:cubicBezTo>
                  <a:pt x="680" y="129"/>
                  <a:pt x="680" y="129"/>
                  <a:pt x="680" y="129"/>
                </a:cubicBezTo>
                <a:cubicBezTo>
                  <a:pt x="680" y="129"/>
                  <a:pt x="680" y="129"/>
                  <a:pt x="680" y="129"/>
                </a:cubicBezTo>
                <a:cubicBezTo>
                  <a:pt x="680" y="129"/>
                  <a:pt x="680" y="129"/>
                  <a:pt x="680" y="129"/>
                </a:cubicBezTo>
                <a:cubicBezTo>
                  <a:pt x="680" y="129"/>
                  <a:pt x="680" y="129"/>
                  <a:pt x="680" y="129"/>
                </a:cubicBezTo>
                <a:cubicBezTo>
                  <a:pt x="680" y="129"/>
                  <a:pt x="680" y="129"/>
                  <a:pt x="680" y="129"/>
                </a:cubicBezTo>
                <a:cubicBezTo>
                  <a:pt x="681" y="129"/>
                  <a:pt x="681" y="129"/>
                  <a:pt x="681" y="129"/>
                </a:cubicBezTo>
                <a:cubicBezTo>
                  <a:pt x="681" y="128"/>
                  <a:pt x="681" y="128"/>
                  <a:pt x="681" y="128"/>
                </a:cubicBezTo>
                <a:cubicBezTo>
                  <a:pt x="681" y="128"/>
                  <a:pt x="681" y="128"/>
                  <a:pt x="681" y="128"/>
                </a:cubicBezTo>
                <a:cubicBezTo>
                  <a:pt x="681" y="128"/>
                  <a:pt x="681" y="128"/>
                  <a:pt x="681" y="128"/>
                </a:cubicBezTo>
                <a:cubicBezTo>
                  <a:pt x="681" y="128"/>
                  <a:pt x="681" y="128"/>
                  <a:pt x="681" y="128"/>
                </a:cubicBezTo>
                <a:cubicBezTo>
                  <a:pt x="682" y="127"/>
                  <a:pt x="682" y="127"/>
                  <a:pt x="682" y="127"/>
                </a:cubicBezTo>
                <a:cubicBezTo>
                  <a:pt x="682" y="127"/>
                  <a:pt x="682" y="127"/>
                  <a:pt x="682" y="127"/>
                </a:cubicBezTo>
                <a:cubicBezTo>
                  <a:pt x="682" y="127"/>
                  <a:pt x="682" y="127"/>
                  <a:pt x="682" y="127"/>
                </a:cubicBezTo>
                <a:cubicBezTo>
                  <a:pt x="682" y="127"/>
                  <a:pt x="682" y="127"/>
                  <a:pt x="682" y="127"/>
                </a:cubicBezTo>
                <a:cubicBezTo>
                  <a:pt x="682" y="127"/>
                  <a:pt x="682" y="127"/>
                  <a:pt x="682" y="127"/>
                </a:cubicBezTo>
                <a:cubicBezTo>
                  <a:pt x="683" y="126"/>
                  <a:pt x="683" y="126"/>
                  <a:pt x="683" y="126"/>
                </a:cubicBezTo>
                <a:cubicBezTo>
                  <a:pt x="683" y="126"/>
                  <a:pt x="683" y="126"/>
                  <a:pt x="683" y="126"/>
                </a:cubicBezTo>
                <a:cubicBezTo>
                  <a:pt x="683" y="125"/>
                  <a:pt x="683" y="125"/>
                  <a:pt x="683" y="125"/>
                </a:cubicBezTo>
                <a:cubicBezTo>
                  <a:pt x="684" y="125"/>
                  <a:pt x="684" y="125"/>
                  <a:pt x="684" y="125"/>
                </a:cubicBezTo>
                <a:cubicBezTo>
                  <a:pt x="684" y="125"/>
                  <a:pt x="684" y="125"/>
                  <a:pt x="684" y="125"/>
                </a:cubicBezTo>
                <a:cubicBezTo>
                  <a:pt x="684" y="124"/>
                  <a:pt x="684" y="124"/>
                  <a:pt x="684" y="124"/>
                </a:cubicBezTo>
                <a:cubicBezTo>
                  <a:pt x="684" y="124"/>
                  <a:pt x="684" y="124"/>
                  <a:pt x="684" y="124"/>
                </a:cubicBezTo>
                <a:cubicBezTo>
                  <a:pt x="684" y="124"/>
                  <a:pt x="684" y="124"/>
                  <a:pt x="684" y="124"/>
                </a:cubicBezTo>
                <a:cubicBezTo>
                  <a:pt x="684" y="124"/>
                  <a:pt x="684" y="124"/>
                  <a:pt x="684" y="124"/>
                </a:cubicBezTo>
                <a:cubicBezTo>
                  <a:pt x="685" y="123"/>
                  <a:pt x="685" y="123"/>
                  <a:pt x="685" y="123"/>
                </a:cubicBezTo>
                <a:cubicBezTo>
                  <a:pt x="685" y="123"/>
                  <a:pt x="685" y="123"/>
                  <a:pt x="685" y="123"/>
                </a:cubicBezTo>
                <a:cubicBezTo>
                  <a:pt x="685" y="122"/>
                  <a:pt x="685" y="122"/>
                  <a:pt x="685" y="122"/>
                </a:cubicBezTo>
                <a:cubicBezTo>
                  <a:pt x="685" y="121"/>
                  <a:pt x="685" y="121"/>
                  <a:pt x="685" y="121"/>
                </a:cubicBezTo>
                <a:cubicBezTo>
                  <a:pt x="685" y="121"/>
                  <a:pt x="685" y="121"/>
                  <a:pt x="685" y="121"/>
                </a:cubicBezTo>
                <a:cubicBezTo>
                  <a:pt x="685" y="120"/>
                  <a:pt x="685" y="120"/>
                  <a:pt x="685" y="120"/>
                </a:cubicBezTo>
                <a:cubicBezTo>
                  <a:pt x="685" y="120"/>
                  <a:pt x="685" y="120"/>
                  <a:pt x="685" y="120"/>
                </a:cubicBezTo>
                <a:cubicBezTo>
                  <a:pt x="685" y="119"/>
                  <a:pt x="685" y="119"/>
                  <a:pt x="685" y="119"/>
                </a:cubicBezTo>
                <a:cubicBezTo>
                  <a:pt x="685" y="119"/>
                  <a:pt x="685" y="119"/>
                  <a:pt x="685" y="119"/>
                </a:cubicBezTo>
                <a:cubicBezTo>
                  <a:pt x="685" y="119"/>
                  <a:pt x="685" y="119"/>
                  <a:pt x="685" y="119"/>
                </a:cubicBezTo>
                <a:cubicBezTo>
                  <a:pt x="685" y="119"/>
                  <a:pt x="685" y="119"/>
                  <a:pt x="685" y="119"/>
                </a:cubicBezTo>
                <a:cubicBezTo>
                  <a:pt x="685" y="119"/>
                  <a:pt x="685" y="119"/>
                  <a:pt x="685" y="119"/>
                </a:cubicBezTo>
                <a:cubicBezTo>
                  <a:pt x="683" y="92"/>
                  <a:pt x="683" y="92"/>
                  <a:pt x="683" y="92"/>
                </a:cubicBezTo>
                <a:cubicBezTo>
                  <a:pt x="675" y="0"/>
                  <a:pt x="675" y="0"/>
                  <a:pt x="675" y="0"/>
                </a:cubicBezTo>
                <a:cubicBezTo>
                  <a:pt x="675" y="0"/>
                  <a:pt x="675" y="0"/>
                  <a:pt x="675" y="0"/>
                </a:cubicBezTo>
                <a:cubicBezTo>
                  <a:pt x="675" y="1"/>
                  <a:pt x="675" y="1"/>
                  <a:pt x="674" y="2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16"/>
          <p:cNvSpPr/>
          <p:nvPr/>
        </p:nvSpPr>
        <p:spPr>
          <a:xfrm>
            <a:off x="3281400" y="2200320"/>
            <a:ext cx="1236600" cy="236520"/>
          </a:xfrm>
          <a:custGeom>
            <a:avLst/>
            <a:gdLst/>
            <a:ahLst/>
            <a:rect l="l" t="t" r="r" b="b"/>
            <a:pathLst>
              <a:path w="682" h="131">
                <a:moveTo>
                  <a:pt x="681" y="59"/>
                </a:moveTo>
                <a:cubicBezTo>
                  <a:pt x="681" y="57"/>
                  <a:pt x="680" y="55"/>
                  <a:pt x="677" y="53"/>
                </a:cubicBezTo>
                <a:cubicBezTo>
                  <a:pt x="676" y="52"/>
                  <a:pt x="673" y="51"/>
                  <a:pt x="670" y="50"/>
                </a:cubicBezTo>
                <a:cubicBezTo>
                  <a:pt x="667" y="49"/>
                  <a:pt x="663" y="49"/>
                  <a:pt x="659" y="48"/>
                </a:cubicBezTo>
                <a:cubicBezTo>
                  <a:pt x="655" y="48"/>
                  <a:pt x="650" y="48"/>
                  <a:pt x="646" y="47"/>
                </a:cubicBezTo>
                <a:cubicBezTo>
                  <a:pt x="641" y="47"/>
                  <a:pt x="637" y="47"/>
                  <a:pt x="632" y="47"/>
                </a:cubicBezTo>
                <a:cubicBezTo>
                  <a:pt x="631" y="47"/>
                  <a:pt x="629" y="47"/>
                  <a:pt x="627" y="47"/>
                </a:cubicBezTo>
                <a:cubicBezTo>
                  <a:pt x="626" y="47"/>
                  <a:pt x="624" y="47"/>
                  <a:pt x="623" y="48"/>
                </a:cubicBezTo>
                <a:cubicBezTo>
                  <a:pt x="621" y="48"/>
                  <a:pt x="620" y="48"/>
                  <a:pt x="618" y="48"/>
                </a:cubicBezTo>
                <a:cubicBezTo>
                  <a:pt x="617" y="48"/>
                  <a:pt x="616" y="48"/>
                  <a:pt x="615" y="48"/>
                </a:cubicBezTo>
                <a:cubicBezTo>
                  <a:pt x="613" y="48"/>
                  <a:pt x="610" y="49"/>
                  <a:pt x="608" y="49"/>
                </a:cubicBezTo>
                <a:cubicBezTo>
                  <a:pt x="606" y="49"/>
                  <a:pt x="604" y="49"/>
                  <a:pt x="602" y="50"/>
                </a:cubicBezTo>
                <a:cubicBezTo>
                  <a:pt x="601" y="50"/>
                  <a:pt x="600" y="50"/>
                  <a:pt x="599" y="50"/>
                </a:cubicBezTo>
                <a:cubicBezTo>
                  <a:pt x="598" y="50"/>
                  <a:pt x="596" y="50"/>
                  <a:pt x="595" y="50"/>
                </a:cubicBezTo>
                <a:cubicBezTo>
                  <a:pt x="593" y="50"/>
                  <a:pt x="590" y="50"/>
                  <a:pt x="588" y="50"/>
                </a:cubicBezTo>
                <a:cubicBezTo>
                  <a:pt x="587" y="50"/>
                  <a:pt x="585" y="50"/>
                  <a:pt x="583" y="50"/>
                </a:cubicBezTo>
                <a:cubicBezTo>
                  <a:pt x="582" y="50"/>
                  <a:pt x="580" y="50"/>
                  <a:pt x="578" y="50"/>
                </a:cubicBezTo>
                <a:cubicBezTo>
                  <a:pt x="577" y="50"/>
                  <a:pt x="575" y="50"/>
                  <a:pt x="573" y="50"/>
                </a:cubicBezTo>
                <a:cubicBezTo>
                  <a:pt x="571" y="50"/>
                  <a:pt x="570" y="49"/>
                  <a:pt x="568" y="49"/>
                </a:cubicBezTo>
                <a:cubicBezTo>
                  <a:pt x="563" y="49"/>
                  <a:pt x="562" y="47"/>
                  <a:pt x="563" y="44"/>
                </a:cubicBezTo>
                <a:cubicBezTo>
                  <a:pt x="564" y="42"/>
                  <a:pt x="567" y="38"/>
                  <a:pt x="571" y="35"/>
                </a:cubicBezTo>
                <a:cubicBezTo>
                  <a:pt x="574" y="31"/>
                  <a:pt x="579" y="28"/>
                  <a:pt x="583" y="25"/>
                </a:cubicBezTo>
                <a:cubicBezTo>
                  <a:pt x="587" y="22"/>
                  <a:pt x="591" y="19"/>
                  <a:pt x="593" y="17"/>
                </a:cubicBezTo>
                <a:cubicBezTo>
                  <a:pt x="595" y="15"/>
                  <a:pt x="596" y="14"/>
                  <a:pt x="596" y="13"/>
                </a:cubicBezTo>
                <a:cubicBezTo>
                  <a:pt x="596" y="12"/>
                  <a:pt x="595" y="11"/>
                  <a:pt x="594" y="11"/>
                </a:cubicBezTo>
                <a:cubicBezTo>
                  <a:pt x="593" y="10"/>
                  <a:pt x="592" y="10"/>
                  <a:pt x="591" y="10"/>
                </a:cubicBezTo>
                <a:cubicBezTo>
                  <a:pt x="590" y="9"/>
                  <a:pt x="589" y="9"/>
                  <a:pt x="589" y="9"/>
                </a:cubicBezTo>
                <a:cubicBezTo>
                  <a:pt x="589" y="9"/>
                  <a:pt x="587" y="9"/>
                  <a:pt x="584" y="9"/>
                </a:cubicBezTo>
                <a:cubicBezTo>
                  <a:pt x="582" y="9"/>
                  <a:pt x="578" y="8"/>
                  <a:pt x="573" y="8"/>
                </a:cubicBezTo>
                <a:cubicBezTo>
                  <a:pt x="568" y="7"/>
                  <a:pt x="563" y="7"/>
                  <a:pt x="556" y="6"/>
                </a:cubicBezTo>
                <a:cubicBezTo>
                  <a:pt x="549" y="6"/>
                  <a:pt x="542" y="5"/>
                  <a:pt x="534" y="5"/>
                </a:cubicBezTo>
                <a:cubicBezTo>
                  <a:pt x="529" y="5"/>
                  <a:pt x="524" y="4"/>
                  <a:pt x="519" y="4"/>
                </a:cubicBezTo>
                <a:cubicBezTo>
                  <a:pt x="515" y="4"/>
                  <a:pt x="511" y="4"/>
                  <a:pt x="507" y="4"/>
                </a:cubicBezTo>
                <a:cubicBezTo>
                  <a:pt x="503" y="3"/>
                  <a:pt x="499" y="3"/>
                  <a:pt x="496" y="3"/>
                </a:cubicBezTo>
                <a:cubicBezTo>
                  <a:pt x="492" y="3"/>
                  <a:pt x="489" y="3"/>
                  <a:pt x="485" y="3"/>
                </a:cubicBezTo>
                <a:cubicBezTo>
                  <a:pt x="483" y="3"/>
                  <a:pt x="482" y="3"/>
                  <a:pt x="480" y="3"/>
                </a:cubicBezTo>
                <a:cubicBezTo>
                  <a:pt x="478" y="3"/>
                  <a:pt x="476" y="3"/>
                  <a:pt x="474" y="4"/>
                </a:cubicBezTo>
                <a:cubicBezTo>
                  <a:pt x="472" y="4"/>
                  <a:pt x="470" y="4"/>
                  <a:pt x="469" y="4"/>
                </a:cubicBezTo>
                <a:cubicBezTo>
                  <a:pt x="467" y="4"/>
                  <a:pt x="465" y="5"/>
                  <a:pt x="463" y="5"/>
                </a:cubicBezTo>
                <a:cubicBezTo>
                  <a:pt x="458" y="6"/>
                  <a:pt x="455" y="7"/>
                  <a:pt x="452" y="8"/>
                </a:cubicBezTo>
                <a:cubicBezTo>
                  <a:pt x="450" y="9"/>
                  <a:pt x="449" y="10"/>
                  <a:pt x="448" y="11"/>
                </a:cubicBezTo>
                <a:cubicBezTo>
                  <a:pt x="448" y="12"/>
                  <a:pt x="448" y="13"/>
                  <a:pt x="449" y="14"/>
                </a:cubicBezTo>
                <a:cubicBezTo>
                  <a:pt x="449" y="16"/>
                  <a:pt x="451" y="17"/>
                  <a:pt x="452" y="18"/>
                </a:cubicBezTo>
                <a:cubicBezTo>
                  <a:pt x="453" y="19"/>
                  <a:pt x="453" y="20"/>
                  <a:pt x="453" y="21"/>
                </a:cubicBezTo>
                <a:cubicBezTo>
                  <a:pt x="453" y="22"/>
                  <a:pt x="452" y="23"/>
                  <a:pt x="450" y="24"/>
                </a:cubicBezTo>
                <a:cubicBezTo>
                  <a:pt x="448" y="24"/>
                  <a:pt x="445" y="25"/>
                  <a:pt x="441" y="27"/>
                </a:cubicBezTo>
                <a:cubicBezTo>
                  <a:pt x="437" y="28"/>
                  <a:pt x="431" y="29"/>
                  <a:pt x="424" y="30"/>
                </a:cubicBezTo>
                <a:cubicBezTo>
                  <a:pt x="421" y="31"/>
                  <a:pt x="418" y="31"/>
                  <a:pt x="415" y="32"/>
                </a:cubicBezTo>
                <a:cubicBezTo>
                  <a:pt x="412" y="32"/>
                  <a:pt x="410" y="32"/>
                  <a:pt x="407" y="33"/>
                </a:cubicBezTo>
                <a:cubicBezTo>
                  <a:pt x="404" y="33"/>
                  <a:pt x="401" y="33"/>
                  <a:pt x="398" y="33"/>
                </a:cubicBezTo>
                <a:cubicBezTo>
                  <a:pt x="395" y="33"/>
                  <a:pt x="393" y="34"/>
                  <a:pt x="390" y="34"/>
                </a:cubicBezTo>
                <a:cubicBezTo>
                  <a:pt x="385" y="34"/>
                  <a:pt x="380" y="34"/>
                  <a:pt x="375" y="33"/>
                </a:cubicBezTo>
                <a:cubicBezTo>
                  <a:pt x="371" y="33"/>
                  <a:pt x="366" y="33"/>
                  <a:pt x="362" y="33"/>
                </a:cubicBezTo>
                <a:cubicBezTo>
                  <a:pt x="358" y="32"/>
                  <a:pt x="354" y="32"/>
                  <a:pt x="350" y="31"/>
                </a:cubicBezTo>
                <a:cubicBezTo>
                  <a:pt x="346" y="31"/>
                  <a:pt x="343" y="30"/>
                  <a:pt x="340" y="30"/>
                </a:cubicBezTo>
                <a:cubicBezTo>
                  <a:pt x="335" y="29"/>
                  <a:pt x="333" y="28"/>
                  <a:pt x="333" y="26"/>
                </a:cubicBezTo>
                <a:cubicBezTo>
                  <a:pt x="332" y="25"/>
                  <a:pt x="333" y="23"/>
                  <a:pt x="335" y="21"/>
                </a:cubicBezTo>
                <a:cubicBezTo>
                  <a:pt x="337" y="20"/>
                  <a:pt x="340" y="18"/>
                  <a:pt x="343" y="16"/>
                </a:cubicBezTo>
                <a:cubicBezTo>
                  <a:pt x="346" y="14"/>
                  <a:pt x="349" y="13"/>
                  <a:pt x="352" y="12"/>
                </a:cubicBezTo>
                <a:cubicBezTo>
                  <a:pt x="354" y="10"/>
                  <a:pt x="356" y="9"/>
                  <a:pt x="357" y="8"/>
                </a:cubicBezTo>
                <a:cubicBezTo>
                  <a:pt x="359" y="7"/>
                  <a:pt x="360" y="6"/>
                  <a:pt x="360" y="5"/>
                </a:cubicBezTo>
                <a:cubicBezTo>
                  <a:pt x="360" y="4"/>
                  <a:pt x="359" y="4"/>
                  <a:pt x="358" y="3"/>
                </a:cubicBezTo>
                <a:cubicBezTo>
                  <a:pt x="356" y="2"/>
                  <a:pt x="354" y="1"/>
                  <a:pt x="351" y="1"/>
                </a:cubicBezTo>
                <a:cubicBezTo>
                  <a:pt x="350" y="1"/>
                  <a:pt x="347" y="1"/>
                  <a:pt x="344" y="0"/>
                </a:cubicBezTo>
                <a:cubicBezTo>
                  <a:pt x="340" y="0"/>
                  <a:pt x="336" y="0"/>
                  <a:pt x="331" y="0"/>
                </a:cubicBezTo>
                <a:cubicBezTo>
                  <a:pt x="325" y="0"/>
                  <a:pt x="319" y="0"/>
                  <a:pt x="313" y="0"/>
                </a:cubicBezTo>
                <a:cubicBezTo>
                  <a:pt x="306" y="1"/>
                  <a:pt x="299" y="1"/>
                  <a:pt x="291" y="1"/>
                </a:cubicBezTo>
                <a:cubicBezTo>
                  <a:pt x="279" y="1"/>
                  <a:pt x="267" y="1"/>
                  <a:pt x="254" y="1"/>
                </a:cubicBezTo>
                <a:cubicBezTo>
                  <a:pt x="242" y="2"/>
                  <a:pt x="230" y="2"/>
                  <a:pt x="220" y="2"/>
                </a:cubicBezTo>
                <a:cubicBezTo>
                  <a:pt x="215" y="2"/>
                  <a:pt x="210" y="2"/>
                  <a:pt x="206" y="3"/>
                </a:cubicBezTo>
                <a:cubicBezTo>
                  <a:pt x="201" y="3"/>
                  <a:pt x="197" y="3"/>
                  <a:pt x="194" y="3"/>
                </a:cubicBezTo>
                <a:cubicBezTo>
                  <a:pt x="188" y="3"/>
                  <a:pt x="183" y="3"/>
                  <a:pt x="183" y="3"/>
                </a:cubicBezTo>
                <a:cubicBezTo>
                  <a:pt x="181" y="4"/>
                  <a:pt x="171" y="10"/>
                  <a:pt x="157" y="19"/>
                </a:cubicBezTo>
                <a:cubicBezTo>
                  <a:pt x="143" y="27"/>
                  <a:pt x="124" y="38"/>
                  <a:pt x="104" y="50"/>
                </a:cubicBezTo>
                <a:cubicBezTo>
                  <a:pt x="84" y="62"/>
                  <a:pt x="63" y="75"/>
                  <a:pt x="46" y="85"/>
                </a:cubicBezTo>
                <a:cubicBezTo>
                  <a:pt x="29" y="96"/>
                  <a:pt x="15" y="104"/>
                  <a:pt x="10" y="108"/>
                </a:cubicBezTo>
                <a:cubicBezTo>
                  <a:pt x="7" y="110"/>
                  <a:pt x="5" y="112"/>
                  <a:pt x="3" y="114"/>
                </a:cubicBezTo>
                <a:cubicBezTo>
                  <a:pt x="1" y="115"/>
                  <a:pt x="1" y="116"/>
                  <a:pt x="1" y="117"/>
                </a:cubicBezTo>
                <a:cubicBezTo>
                  <a:pt x="0" y="118"/>
                  <a:pt x="1" y="118"/>
                  <a:pt x="2" y="119"/>
                </a:cubicBezTo>
                <a:cubicBezTo>
                  <a:pt x="2" y="119"/>
                  <a:pt x="3" y="119"/>
                  <a:pt x="4" y="119"/>
                </a:cubicBezTo>
                <a:cubicBezTo>
                  <a:pt x="4" y="119"/>
                  <a:pt x="5" y="119"/>
                  <a:pt x="5" y="119"/>
                </a:cubicBezTo>
                <a:cubicBezTo>
                  <a:pt x="6" y="119"/>
                  <a:pt x="6" y="119"/>
                  <a:pt x="6" y="119"/>
                </a:cubicBezTo>
                <a:cubicBezTo>
                  <a:pt x="7" y="119"/>
                  <a:pt x="7" y="119"/>
                  <a:pt x="7" y="119"/>
                </a:cubicBezTo>
                <a:cubicBezTo>
                  <a:pt x="7" y="119"/>
                  <a:pt x="7" y="119"/>
                  <a:pt x="7" y="119"/>
                </a:cubicBezTo>
                <a:cubicBezTo>
                  <a:pt x="8" y="119"/>
                  <a:pt x="9" y="119"/>
                  <a:pt x="11" y="119"/>
                </a:cubicBezTo>
                <a:cubicBezTo>
                  <a:pt x="12" y="119"/>
                  <a:pt x="13" y="119"/>
                  <a:pt x="14" y="119"/>
                </a:cubicBezTo>
                <a:cubicBezTo>
                  <a:pt x="15" y="119"/>
                  <a:pt x="16" y="119"/>
                  <a:pt x="17" y="119"/>
                </a:cubicBezTo>
                <a:cubicBezTo>
                  <a:pt x="19" y="119"/>
                  <a:pt x="21" y="120"/>
                  <a:pt x="24" y="120"/>
                </a:cubicBezTo>
                <a:cubicBezTo>
                  <a:pt x="28" y="120"/>
                  <a:pt x="33" y="120"/>
                  <a:pt x="39" y="121"/>
                </a:cubicBezTo>
                <a:cubicBezTo>
                  <a:pt x="45" y="121"/>
                  <a:pt x="53" y="122"/>
                  <a:pt x="60" y="122"/>
                </a:cubicBezTo>
                <a:cubicBezTo>
                  <a:pt x="69" y="123"/>
                  <a:pt x="78" y="124"/>
                  <a:pt x="87" y="124"/>
                </a:cubicBezTo>
                <a:cubicBezTo>
                  <a:pt x="88" y="124"/>
                  <a:pt x="89" y="124"/>
                  <a:pt x="90" y="124"/>
                </a:cubicBezTo>
                <a:cubicBezTo>
                  <a:pt x="92" y="125"/>
                  <a:pt x="93" y="125"/>
                  <a:pt x="95" y="125"/>
                </a:cubicBezTo>
                <a:cubicBezTo>
                  <a:pt x="96" y="125"/>
                  <a:pt x="97" y="125"/>
                  <a:pt x="98" y="125"/>
                </a:cubicBezTo>
                <a:cubicBezTo>
                  <a:pt x="101" y="125"/>
                  <a:pt x="104" y="125"/>
                  <a:pt x="107" y="126"/>
                </a:cubicBezTo>
                <a:cubicBezTo>
                  <a:pt x="107" y="126"/>
                  <a:pt x="107" y="126"/>
                  <a:pt x="107" y="126"/>
                </a:cubicBezTo>
                <a:cubicBezTo>
                  <a:pt x="107" y="126"/>
                  <a:pt x="108" y="126"/>
                  <a:pt x="108" y="126"/>
                </a:cubicBezTo>
                <a:cubicBezTo>
                  <a:pt x="109" y="126"/>
                  <a:pt x="110" y="126"/>
                  <a:pt x="111" y="126"/>
                </a:cubicBezTo>
                <a:cubicBezTo>
                  <a:pt x="116" y="126"/>
                  <a:pt x="121" y="127"/>
                  <a:pt x="126" y="127"/>
                </a:cubicBezTo>
                <a:cubicBezTo>
                  <a:pt x="127" y="127"/>
                  <a:pt x="127" y="127"/>
                  <a:pt x="127" y="127"/>
                </a:cubicBezTo>
                <a:cubicBezTo>
                  <a:pt x="127" y="127"/>
                  <a:pt x="127" y="127"/>
                  <a:pt x="127" y="127"/>
                </a:cubicBezTo>
                <a:cubicBezTo>
                  <a:pt x="128" y="127"/>
                  <a:pt x="129" y="127"/>
                  <a:pt x="130" y="127"/>
                </a:cubicBezTo>
                <a:cubicBezTo>
                  <a:pt x="131" y="127"/>
                  <a:pt x="131" y="127"/>
                  <a:pt x="132" y="127"/>
                </a:cubicBezTo>
                <a:cubicBezTo>
                  <a:pt x="133" y="127"/>
                  <a:pt x="134" y="127"/>
                  <a:pt x="135" y="127"/>
                </a:cubicBezTo>
                <a:cubicBezTo>
                  <a:pt x="135" y="127"/>
                  <a:pt x="135" y="127"/>
                  <a:pt x="136" y="127"/>
                </a:cubicBezTo>
                <a:cubicBezTo>
                  <a:pt x="137" y="127"/>
                  <a:pt x="137" y="127"/>
                  <a:pt x="138" y="127"/>
                </a:cubicBezTo>
                <a:cubicBezTo>
                  <a:pt x="139" y="128"/>
                  <a:pt x="139" y="128"/>
                  <a:pt x="140" y="128"/>
                </a:cubicBezTo>
                <a:cubicBezTo>
                  <a:pt x="140" y="128"/>
                  <a:pt x="141" y="128"/>
                  <a:pt x="141" y="128"/>
                </a:cubicBezTo>
                <a:cubicBezTo>
                  <a:pt x="142" y="128"/>
                  <a:pt x="143" y="128"/>
                  <a:pt x="144" y="128"/>
                </a:cubicBezTo>
                <a:cubicBezTo>
                  <a:pt x="144" y="128"/>
                  <a:pt x="144" y="128"/>
                  <a:pt x="144" y="128"/>
                </a:cubicBezTo>
                <a:cubicBezTo>
                  <a:pt x="145" y="128"/>
                  <a:pt x="145" y="128"/>
                  <a:pt x="145" y="128"/>
                </a:cubicBezTo>
                <a:cubicBezTo>
                  <a:pt x="145" y="128"/>
                  <a:pt x="146" y="128"/>
                  <a:pt x="146" y="128"/>
                </a:cubicBezTo>
                <a:cubicBezTo>
                  <a:pt x="147" y="128"/>
                  <a:pt x="147" y="128"/>
                  <a:pt x="147" y="128"/>
                </a:cubicBezTo>
                <a:cubicBezTo>
                  <a:pt x="147" y="128"/>
                  <a:pt x="147" y="128"/>
                  <a:pt x="147" y="128"/>
                </a:cubicBezTo>
                <a:cubicBezTo>
                  <a:pt x="148" y="128"/>
                  <a:pt x="149" y="128"/>
                  <a:pt x="150" y="128"/>
                </a:cubicBezTo>
                <a:cubicBezTo>
                  <a:pt x="151" y="128"/>
                  <a:pt x="151" y="128"/>
                  <a:pt x="151" y="128"/>
                </a:cubicBezTo>
                <a:cubicBezTo>
                  <a:pt x="151" y="128"/>
                  <a:pt x="151" y="128"/>
                  <a:pt x="151" y="128"/>
                </a:cubicBezTo>
                <a:cubicBezTo>
                  <a:pt x="152" y="128"/>
                  <a:pt x="152" y="128"/>
                  <a:pt x="152" y="128"/>
                </a:cubicBezTo>
                <a:cubicBezTo>
                  <a:pt x="152" y="128"/>
                  <a:pt x="152" y="128"/>
                  <a:pt x="152" y="128"/>
                </a:cubicBezTo>
                <a:cubicBezTo>
                  <a:pt x="152" y="128"/>
                  <a:pt x="152" y="128"/>
                  <a:pt x="152" y="128"/>
                </a:cubicBezTo>
                <a:cubicBezTo>
                  <a:pt x="153" y="128"/>
                  <a:pt x="153" y="128"/>
                  <a:pt x="153" y="128"/>
                </a:cubicBezTo>
                <a:cubicBezTo>
                  <a:pt x="156" y="128"/>
                  <a:pt x="159" y="128"/>
                  <a:pt x="161" y="128"/>
                </a:cubicBezTo>
                <a:cubicBezTo>
                  <a:pt x="161" y="128"/>
                  <a:pt x="161" y="128"/>
                  <a:pt x="161" y="128"/>
                </a:cubicBezTo>
                <a:cubicBezTo>
                  <a:pt x="162" y="128"/>
                  <a:pt x="162" y="127"/>
                  <a:pt x="163" y="127"/>
                </a:cubicBezTo>
                <a:cubicBezTo>
                  <a:pt x="165" y="127"/>
                  <a:pt x="167" y="127"/>
                  <a:pt x="169" y="126"/>
                </a:cubicBezTo>
                <a:cubicBezTo>
                  <a:pt x="169" y="126"/>
                  <a:pt x="169" y="126"/>
                  <a:pt x="169" y="126"/>
                </a:cubicBezTo>
                <a:cubicBezTo>
                  <a:pt x="172" y="126"/>
                  <a:pt x="174" y="125"/>
                  <a:pt x="177" y="125"/>
                </a:cubicBezTo>
                <a:cubicBezTo>
                  <a:pt x="177" y="125"/>
                  <a:pt x="177" y="125"/>
                  <a:pt x="177" y="125"/>
                </a:cubicBezTo>
                <a:cubicBezTo>
                  <a:pt x="177" y="125"/>
                  <a:pt x="177" y="125"/>
                  <a:pt x="177" y="125"/>
                </a:cubicBezTo>
                <a:cubicBezTo>
                  <a:pt x="179" y="124"/>
                  <a:pt x="181" y="123"/>
                  <a:pt x="183" y="122"/>
                </a:cubicBezTo>
                <a:cubicBezTo>
                  <a:pt x="183" y="122"/>
                  <a:pt x="183" y="122"/>
                  <a:pt x="183" y="122"/>
                </a:cubicBezTo>
                <a:cubicBezTo>
                  <a:pt x="185" y="122"/>
                  <a:pt x="187" y="121"/>
                  <a:pt x="189" y="120"/>
                </a:cubicBezTo>
                <a:cubicBezTo>
                  <a:pt x="189" y="120"/>
                  <a:pt x="189" y="120"/>
                  <a:pt x="189" y="120"/>
                </a:cubicBezTo>
                <a:cubicBezTo>
                  <a:pt x="190" y="119"/>
                  <a:pt x="191" y="119"/>
                  <a:pt x="191" y="118"/>
                </a:cubicBezTo>
                <a:cubicBezTo>
                  <a:pt x="191" y="118"/>
                  <a:pt x="191" y="118"/>
                  <a:pt x="191" y="118"/>
                </a:cubicBezTo>
                <a:cubicBezTo>
                  <a:pt x="192" y="118"/>
                  <a:pt x="193" y="118"/>
                  <a:pt x="193" y="117"/>
                </a:cubicBezTo>
                <a:cubicBezTo>
                  <a:pt x="194" y="117"/>
                  <a:pt x="194" y="117"/>
                  <a:pt x="194" y="117"/>
                </a:cubicBezTo>
                <a:cubicBezTo>
                  <a:pt x="194" y="117"/>
                  <a:pt x="194" y="117"/>
                  <a:pt x="194" y="117"/>
                </a:cubicBezTo>
                <a:cubicBezTo>
                  <a:pt x="195" y="116"/>
                  <a:pt x="195" y="116"/>
                  <a:pt x="195" y="116"/>
                </a:cubicBezTo>
                <a:cubicBezTo>
                  <a:pt x="195" y="116"/>
                  <a:pt x="195" y="116"/>
                  <a:pt x="195" y="116"/>
                </a:cubicBezTo>
                <a:cubicBezTo>
                  <a:pt x="196" y="115"/>
                  <a:pt x="196" y="115"/>
                  <a:pt x="196" y="115"/>
                </a:cubicBezTo>
                <a:cubicBezTo>
                  <a:pt x="196" y="115"/>
                  <a:pt x="196" y="115"/>
                  <a:pt x="197" y="114"/>
                </a:cubicBezTo>
                <a:cubicBezTo>
                  <a:pt x="197" y="114"/>
                  <a:pt x="197" y="114"/>
                  <a:pt x="197" y="114"/>
                </a:cubicBezTo>
                <a:cubicBezTo>
                  <a:pt x="197" y="113"/>
                  <a:pt x="197" y="113"/>
                  <a:pt x="197" y="113"/>
                </a:cubicBezTo>
                <a:cubicBezTo>
                  <a:pt x="198" y="113"/>
                  <a:pt x="198" y="113"/>
                  <a:pt x="198" y="113"/>
                </a:cubicBezTo>
                <a:cubicBezTo>
                  <a:pt x="198" y="113"/>
                  <a:pt x="198" y="113"/>
                  <a:pt x="198" y="113"/>
                </a:cubicBezTo>
                <a:cubicBezTo>
                  <a:pt x="198" y="112"/>
                  <a:pt x="198" y="112"/>
                  <a:pt x="199" y="112"/>
                </a:cubicBezTo>
                <a:cubicBezTo>
                  <a:pt x="199" y="111"/>
                  <a:pt x="199" y="111"/>
                  <a:pt x="199" y="111"/>
                </a:cubicBezTo>
                <a:cubicBezTo>
                  <a:pt x="199" y="111"/>
                  <a:pt x="199" y="111"/>
                  <a:pt x="199" y="111"/>
                </a:cubicBezTo>
                <a:cubicBezTo>
                  <a:pt x="199" y="110"/>
                  <a:pt x="199" y="110"/>
                  <a:pt x="199" y="110"/>
                </a:cubicBezTo>
                <a:cubicBezTo>
                  <a:pt x="199" y="110"/>
                  <a:pt x="199" y="110"/>
                  <a:pt x="199" y="110"/>
                </a:cubicBezTo>
                <a:cubicBezTo>
                  <a:pt x="200" y="109"/>
                  <a:pt x="200" y="109"/>
                  <a:pt x="200" y="109"/>
                </a:cubicBezTo>
                <a:cubicBezTo>
                  <a:pt x="200" y="109"/>
                  <a:pt x="200" y="109"/>
                  <a:pt x="200" y="109"/>
                </a:cubicBezTo>
                <a:cubicBezTo>
                  <a:pt x="200" y="109"/>
                  <a:pt x="200" y="109"/>
                  <a:pt x="200" y="109"/>
                </a:cubicBezTo>
                <a:cubicBezTo>
                  <a:pt x="200" y="109"/>
                  <a:pt x="200" y="109"/>
                  <a:pt x="200" y="109"/>
                </a:cubicBezTo>
                <a:cubicBezTo>
                  <a:pt x="200" y="109"/>
                  <a:pt x="200" y="109"/>
                  <a:pt x="200" y="109"/>
                </a:cubicBezTo>
                <a:cubicBezTo>
                  <a:pt x="200" y="109"/>
                  <a:pt x="200" y="109"/>
                  <a:pt x="200" y="109"/>
                </a:cubicBezTo>
                <a:cubicBezTo>
                  <a:pt x="200" y="108"/>
                  <a:pt x="200" y="108"/>
                  <a:pt x="200" y="108"/>
                </a:cubicBezTo>
                <a:cubicBezTo>
                  <a:pt x="201" y="108"/>
                  <a:pt x="201" y="108"/>
                  <a:pt x="201" y="108"/>
                </a:cubicBezTo>
                <a:cubicBezTo>
                  <a:pt x="201" y="108"/>
                  <a:pt x="201" y="108"/>
                  <a:pt x="201" y="108"/>
                </a:cubicBezTo>
                <a:cubicBezTo>
                  <a:pt x="201" y="107"/>
                  <a:pt x="201" y="107"/>
                  <a:pt x="201" y="107"/>
                </a:cubicBezTo>
                <a:cubicBezTo>
                  <a:pt x="202" y="107"/>
                  <a:pt x="202" y="107"/>
                  <a:pt x="202" y="107"/>
                </a:cubicBezTo>
                <a:cubicBezTo>
                  <a:pt x="202" y="107"/>
                  <a:pt x="202" y="107"/>
                  <a:pt x="202" y="107"/>
                </a:cubicBezTo>
                <a:cubicBezTo>
                  <a:pt x="202" y="107"/>
                  <a:pt x="202" y="107"/>
                  <a:pt x="202" y="107"/>
                </a:cubicBezTo>
                <a:cubicBezTo>
                  <a:pt x="202" y="107"/>
                  <a:pt x="202" y="107"/>
                  <a:pt x="202" y="107"/>
                </a:cubicBezTo>
                <a:cubicBezTo>
                  <a:pt x="202" y="106"/>
                  <a:pt x="202" y="106"/>
                  <a:pt x="202" y="106"/>
                </a:cubicBezTo>
                <a:cubicBezTo>
                  <a:pt x="203" y="106"/>
                  <a:pt x="203" y="106"/>
                  <a:pt x="203" y="106"/>
                </a:cubicBezTo>
                <a:cubicBezTo>
                  <a:pt x="203" y="106"/>
                  <a:pt x="203" y="106"/>
                  <a:pt x="203" y="106"/>
                </a:cubicBezTo>
                <a:cubicBezTo>
                  <a:pt x="203" y="106"/>
                  <a:pt x="203" y="106"/>
                  <a:pt x="203" y="106"/>
                </a:cubicBezTo>
                <a:cubicBezTo>
                  <a:pt x="204" y="105"/>
                  <a:pt x="204" y="105"/>
                  <a:pt x="204" y="105"/>
                </a:cubicBezTo>
                <a:cubicBezTo>
                  <a:pt x="204" y="105"/>
                  <a:pt x="204" y="105"/>
                  <a:pt x="204" y="105"/>
                </a:cubicBezTo>
                <a:cubicBezTo>
                  <a:pt x="204" y="105"/>
                  <a:pt x="204" y="105"/>
                  <a:pt x="204" y="105"/>
                </a:cubicBezTo>
                <a:cubicBezTo>
                  <a:pt x="205" y="105"/>
                  <a:pt x="205" y="105"/>
                  <a:pt x="205" y="105"/>
                </a:cubicBezTo>
                <a:cubicBezTo>
                  <a:pt x="205" y="104"/>
                  <a:pt x="205" y="104"/>
                  <a:pt x="205" y="104"/>
                </a:cubicBezTo>
                <a:cubicBezTo>
                  <a:pt x="205" y="104"/>
                  <a:pt x="205" y="104"/>
                  <a:pt x="205" y="104"/>
                </a:cubicBezTo>
                <a:cubicBezTo>
                  <a:pt x="205" y="104"/>
                  <a:pt x="205" y="104"/>
                  <a:pt x="205" y="104"/>
                </a:cubicBezTo>
                <a:cubicBezTo>
                  <a:pt x="205" y="104"/>
                  <a:pt x="205" y="104"/>
                  <a:pt x="205" y="104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8" y="103"/>
                  <a:pt x="208" y="103"/>
                  <a:pt x="208" y="103"/>
                </a:cubicBezTo>
                <a:cubicBezTo>
                  <a:pt x="208" y="103"/>
                  <a:pt x="208" y="103"/>
                  <a:pt x="208" y="103"/>
                </a:cubicBezTo>
                <a:cubicBezTo>
                  <a:pt x="208" y="102"/>
                  <a:pt x="208" y="102"/>
                  <a:pt x="208" y="102"/>
                </a:cubicBezTo>
                <a:cubicBezTo>
                  <a:pt x="208" y="102"/>
                  <a:pt x="208" y="102"/>
                  <a:pt x="208" y="102"/>
                </a:cubicBezTo>
                <a:cubicBezTo>
                  <a:pt x="208" y="102"/>
                  <a:pt x="208" y="102"/>
                  <a:pt x="208" y="102"/>
                </a:cubicBezTo>
                <a:cubicBezTo>
                  <a:pt x="209" y="102"/>
                  <a:pt x="209" y="102"/>
                  <a:pt x="209" y="102"/>
                </a:cubicBezTo>
                <a:cubicBezTo>
                  <a:pt x="209" y="102"/>
                  <a:pt x="209" y="102"/>
                  <a:pt x="209" y="102"/>
                </a:cubicBezTo>
                <a:cubicBezTo>
                  <a:pt x="210" y="102"/>
                  <a:pt x="210" y="102"/>
                  <a:pt x="210" y="102"/>
                </a:cubicBezTo>
                <a:cubicBezTo>
                  <a:pt x="210" y="102"/>
                  <a:pt x="210" y="102"/>
                  <a:pt x="210" y="102"/>
                </a:cubicBezTo>
                <a:cubicBezTo>
                  <a:pt x="211" y="101"/>
                  <a:pt x="211" y="101"/>
                  <a:pt x="211" y="101"/>
                </a:cubicBezTo>
                <a:cubicBezTo>
                  <a:pt x="211" y="101"/>
                  <a:pt x="211" y="101"/>
                  <a:pt x="211" y="101"/>
                </a:cubicBezTo>
                <a:cubicBezTo>
                  <a:pt x="212" y="101"/>
                  <a:pt x="212" y="101"/>
                  <a:pt x="212" y="101"/>
                </a:cubicBezTo>
                <a:cubicBezTo>
                  <a:pt x="212" y="101"/>
                  <a:pt x="212" y="101"/>
                  <a:pt x="212" y="101"/>
                </a:cubicBezTo>
                <a:cubicBezTo>
                  <a:pt x="212" y="101"/>
                  <a:pt x="212" y="101"/>
                  <a:pt x="212" y="101"/>
                </a:cubicBezTo>
                <a:cubicBezTo>
                  <a:pt x="213" y="101"/>
                  <a:pt x="213" y="101"/>
                  <a:pt x="213" y="101"/>
                </a:cubicBezTo>
                <a:cubicBezTo>
                  <a:pt x="213" y="100"/>
                  <a:pt x="213" y="100"/>
                  <a:pt x="213" y="100"/>
                </a:cubicBezTo>
                <a:cubicBezTo>
                  <a:pt x="214" y="100"/>
                  <a:pt x="214" y="100"/>
                  <a:pt x="214" y="100"/>
                </a:cubicBezTo>
                <a:cubicBezTo>
                  <a:pt x="214" y="100"/>
                  <a:pt x="214" y="100"/>
                  <a:pt x="214" y="100"/>
                </a:cubicBezTo>
                <a:cubicBezTo>
                  <a:pt x="215" y="100"/>
                  <a:pt x="215" y="100"/>
                  <a:pt x="215" y="100"/>
                </a:cubicBezTo>
                <a:cubicBezTo>
                  <a:pt x="216" y="99"/>
                  <a:pt x="216" y="99"/>
                  <a:pt x="216" y="99"/>
                </a:cubicBezTo>
                <a:cubicBezTo>
                  <a:pt x="217" y="99"/>
                  <a:pt x="217" y="99"/>
                  <a:pt x="217" y="99"/>
                </a:cubicBezTo>
                <a:cubicBezTo>
                  <a:pt x="217" y="99"/>
                  <a:pt x="217" y="99"/>
                  <a:pt x="217" y="99"/>
                </a:cubicBezTo>
                <a:cubicBezTo>
                  <a:pt x="217" y="99"/>
                  <a:pt x="217" y="99"/>
                  <a:pt x="217" y="99"/>
                </a:cubicBezTo>
                <a:cubicBezTo>
                  <a:pt x="217" y="99"/>
                  <a:pt x="217" y="99"/>
                  <a:pt x="217" y="99"/>
                </a:cubicBezTo>
                <a:cubicBezTo>
                  <a:pt x="217" y="99"/>
                  <a:pt x="217" y="99"/>
                  <a:pt x="217" y="99"/>
                </a:cubicBezTo>
                <a:cubicBezTo>
                  <a:pt x="218" y="99"/>
                  <a:pt x="218" y="99"/>
                  <a:pt x="218" y="99"/>
                </a:cubicBezTo>
                <a:cubicBezTo>
                  <a:pt x="218" y="99"/>
                  <a:pt x="218" y="98"/>
                  <a:pt x="219" y="98"/>
                </a:cubicBezTo>
                <a:cubicBezTo>
                  <a:pt x="219" y="98"/>
                  <a:pt x="220" y="98"/>
                  <a:pt x="220" y="98"/>
                </a:cubicBezTo>
                <a:cubicBezTo>
                  <a:pt x="221" y="98"/>
                  <a:pt x="221" y="98"/>
                  <a:pt x="221" y="97"/>
                </a:cubicBezTo>
                <a:cubicBezTo>
                  <a:pt x="222" y="97"/>
                  <a:pt x="222" y="97"/>
                  <a:pt x="222" y="97"/>
                </a:cubicBezTo>
                <a:cubicBezTo>
                  <a:pt x="222" y="97"/>
                  <a:pt x="222" y="97"/>
                  <a:pt x="222" y="97"/>
                </a:cubicBezTo>
                <a:cubicBezTo>
                  <a:pt x="222" y="97"/>
                  <a:pt x="222" y="97"/>
                  <a:pt x="222" y="97"/>
                </a:cubicBezTo>
                <a:cubicBezTo>
                  <a:pt x="223" y="97"/>
                  <a:pt x="223" y="97"/>
                  <a:pt x="223" y="97"/>
                </a:cubicBezTo>
                <a:cubicBezTo>
                  <a:pt x="223" y="97"/>
                  <a:pt x="224" y="97"/>
                  <a:pt x="224" y="97"/>
                </a:cubicBezTo>
                <a:cubicBezTo>
                  <a:pt x="224" y="97"/>
                  <a:pt x="225" y="96"/>
                  <a:pt x="225" y="96"/>
                </a:cubicBezTo>
                <a:cubicBezTo>
                  <a:pt x="226" y="96"/>
                  <a:pt x="226" y="96"/>
                  <a:pt x="227" y="96"/>
                </a:cubicBezTo>
                <a:cubicBezTo>
                  <a:pt x="227" y="96"/>
                  <a:pt x="227" y="96"/>
                  <a:pt x="228" y="96"/>
                </a:cubicBezTo>
                <a:cubicBezTo>
                  <a:pt x="228" y="96"/>
                  <a:pt x="228" y="96"/>
                  <a:pt x="228" y="96"/>
                </a:cubicBezTo>
                <a:cubicBezTo>
                  <a:pt x="228" y="95"/>
                  <a:pt x="228" y="95"/>
                  <a:pt x="228" y="95"/>
                </a:cubicBezTo>
                <a:cubicBezTo>
                  <a:pt x="228" y="95"/>
                  <a:pt x="228" y="95"/>
                  <a:pt x="228" y="95"/>
                </a:cubicBezTo>
                <a:cubicBezTo>
                  <a:pt x="229" y="95"/>
                  <a:pt x="229" y="95"/>
                  <a:pt x="229" y="95"/>
                </a:cubicBezTo>
                <a:cubicBezTo>
                  <a:pt x="229" y="95"/>
                  <a:pt x="229" y="95"/>
                  <a:pt x="229" y="95"/>
                </a:cubicBezTo>
                <a:cubicBezTo>
                  <a:pt x="230" y="95"/>
                  <a:pt x="230" y="95"/>
                  <a:pt x="230" y="95"/>
                </a:cubicBezTo>
                <a:cubicBezTo>
                  <a:pt x="231" y="95"/>
                  <a:pt x="231" y="95"/>
                  <a:pt x="231" y="95"/>
                </a:cubicBezTo>
                <a:cubicBezTo>
                  <a:pt x="231" y="95"/>
                  <a:pt x="231" y="95"/>
                  <a:pt x="231" y="95"/>
                </a:cubicBezTo>
                <a:cubicBezTo>
                  <a:pt x="231" y="95"/>
                  <a:pt x="231" y="95"/>
                  <a:pt x="231" y="95"/>
                </a:cubicBezTo>
                <a:cubicBezTo>
                  <a:pt x="232" y="95"/>
                  <a:pt x="232" y="95"/>
                  <a:pt x="232" y="95"/>
                </a:cubicBezTo>
                <a:cubicBezTo>
                  <a:pt x="232" y="95"/>
                  <a:pt x="233" y="94"/>
                  <a:pt x="234" y="94"/>
                </a:cubicBezTo>
                <a:cubicBezTo>
                  <a:pt x="234" y="94"/>
                  <a:pt x="235" y="94"/>
                  <a:pt x="235" y="94"/>
                </a:cubicBezTo>
                <a:cubicBezTo>
                  <a:pt x="236" y="94"/>
                  <a:pt x="236" y="94"/>
                  <a:pt x="236" y="94"/>
                </a:cubicBezTo>
                <a:cubicBezTo>
                  <a:pt x="236" y="94"/>
                  <a:pt x="236" y="94"/>
                  <a:pt x="236" y="94"/>
                </a:cubicBezTo>
                <a:cubicBezTo>
                  <a:pt x="236" y="94"/>
                  <a:pt x="236" y="94"/>
                  <a:pt x="236" y="94"/>
                </a:cubicBezTo>
                <a:cubicBezTo>
                  <a:pt x="237" y="94"/>
                  <a:pt x="238" y="94"/>
                  <a:pt x="239" y="93"/>
                </a:cubicBezTo>
                <a:cubicBezTo>
                  <a:pt x="240" y="93"/>
                  <a:pt x="240" y="93"/>
                  <a:pt x="240" y="93"/>
                </a:cubicBezTo>
                <a:cubicBezTo>
                  <a:pt x="241" y="93"/>
                  <a:pt x="241" y="93"/>
                  <a:pt x="241" y="93"/>
                </a:cubicBezTo>
                <a:cubicBezTo>
                  <a:pt x="241" y="93"/>
                  <a:pt x="241" y="93"/>
                  <a:pt x="241" y="93"/>
                </a:cubicBezTo>
                <a:cubicBezTo>
                  <a:pt x="241" y="93"/>
                  <a:pt x="242" y="93"/>
                  <a:pt x="242" y="93"/>
                </a:cubicBezTo>
                <a:cubicBezTo>
                  <a:pt x="243" y="93"/>
                  <a:pt x="243" y="93"/>
                  <a:pt x="244" y="93"/>
                </a:cubicBezTo>
                <a:cubicBezTo>
                  <a:pt x="244" y="93"/>
                  <a:pt x="245" y="93"/>
                  <a:pt x="246" y="93"/>
                </a:cubicBezTo>
                <a:cubicBezTo>
                  <a:pt x="246" y="93"/>
                  <a:pt x="246" y="93"/>
                  <a:pt x="246" y="93"/>
                </a:cubicBezTo>
                <a:cubicBezTo>
                  <a:pt x="246" y="93"/>
                  <a:pt x="246" y="93"/>
                  <a:pt x="246" y="93"/>
                </a:cubicBezTo>
                <a:cubicBezTo>
                  <a:pt x="246" y="93"/>
                  <a:pt x="247" y="93"/>
                  <a:pt x="248" y="93"/>
                </a:cubicBezTo>
                <a:cubicBezTo>
                  <a:pt x="248" y="92"/>
                  <a:pt x="249" y="92"/>
                  <a:pt x="249" y="92"/>
                </a:cubicBezTo>
                <a:cubicBezTo>
                  <a:pt x="250" y="92"/>
                  <a:pt x="250" y="92"/>
                  <a:pt x="251" y="92"/>
                </a:cubicBezTo>
                <a:cubicBezTo>
                  <a:pt x="251" y="92"/>
                  <a:pt x="251" y="92"/>
                  <a:pt x="251" y="92"/>
                </a:cubicBezTo>
                <a:cubicBezTo>
                  <a:pt x="252" y="92"/>
                  <a:pt x="252" y="92"/>
                  <a:pt x="252" y="92"/>
                </a:cubicBezTo>
                <a:cubicBezTo>
                  <a:pt x="252" y="92"/>
                  <a:pt x="252" y="92"/>
                  <a:pt x="252" y="92"/>
                </a:cubicBezTo>
                <a:cubicBezTo>
                  <a:pt x="253" y="92"/>
                  <a:pt x="253" y="92"/>
                  <a:pt x="254" y="92"/>
                </a:cubicBezTo>
                <a:cubicBezTo>
                  <a:pt x="254" y="92"/>
                  <a:pt x="255" y="92"/>
                  <a:pt x="255" y="92"/>
                </a:cubicBezTo>
                <a:cubicBezTo>
                  <a:pt x="256" y="92"/>
                  <a:pt x="256" y="92"/>
                  <a:pt x="257" y="92"/>
                </a:cubicBezTo>
                <a:cubicBezTo>
                  <a:pt x="257" y="92"/>
                  <a:pt x="257" y="92"/>
                  <a:pt x="257" y="92"/>
                </a:cubicBezTo>
                <a:cubicBezTo>
                  <a:pt x="257" y="92"/>
                  <a:pt x="257" y="92"/>
                  <a:pt x="257" y="92"/>
                </a:cubicBezTo>
                <a:cubicBezTo>
                  <a:pt x="257" y="92"/>
                  <a:pt x="257" y="92"/>
                  <a:pt x="257" y="92"/>
                </a:cubicBezTo>
                <a:cubicBezTo>
                  <a:pt x="257" y="92"/>
                  <a:pt x="257" y="92"/>
                  <a:pt x="257" y="92"/>
                </a:cubicBezTo>
                <a:cubicBezTo>
                  <a:pt x="258" y="92"/>
                  <a:pt x="258" y="92"/>
                  <a:pt x="258" y="92"/>
                </a:cubicBezTo>
                <a:cubicBezTo>
                  <a:pt x="259" y="92"/>
                  <a:pt x="259" y="92"/>
                  <a:pt x="260" y="92"/>
                </a:cubicBezTo>
                <a:cubicBezTo>
                  <a:pt x="260" y="92"/>
                  <a:pt x="261" y="92"/>
                  <a:pt x="261" y="92"/>
                </a:cubicBezTo>
                <a:cubicBezTo>
                  <a:pt x="262" y="92"/>
                  <a:pt x="262" y="92"/>
                  <a:pt x="263" y="92"/>
                </a:cubicBezTo>
                <a:cubicBezTo>
                  <a:pt x="263" y="92"/>
                  <a:pt x="264" y="92"/>
                  <a:pt x="264" y="92"/>
                </a:cubicBezTo>
                <a:cubicBezTo>
                  <a:pt x="265" y="91"/>
                  <a:pt x="265" y="91"/>
                  <a:pt x="266" y="91"/>
                </a:cubicBezTo>
                <a:cubicBezTo>
                  <a:pt x="266" y="91"/>
                  <a:pt x="267" y="91"/>
                  <a:pt x="267" y="91"/>
                </a:cubicBezTo>
                <a:cubicBezTo>
                  <a:pt x="268" y="91"/>
                  <a:pt x="268" y="91"/>
                  <a:pt x="268" y="91"/>
                </a:cubicBezTo>
                <a:cubicBezTo>
                  <a:pt x="268" y="91"/>
                  <a:pt x="268" y="91"/>
                  <a:pt x="268" y="91"/>
                </a:cubicBezTo>
                <a:cubicBezTo>
                  <a:pt x="269" y="91"/>
                  <a:pt x="269" y="91"/>
                  <a:pt x="269" y="91"/>
                </a:cubicBezTo>
                <a:cubicBezTo>
                  <a:pt x="269" y="91"/>
                  <a:pt x="269" y="91"/>
                  <a:pt x="269" y="91"/>
                </a:cubicBezTo>
                <a:cubicBezTo>
                  <a:pt x="270" y="91"/>
                  <a:pt x="270" y="91"/>
                  <a:pt x="270" y="91"/>
                </a:cubicBezTo>
                <a:cubicBezTo>
                  <a:pt x="271" y="91"/>
                  <a:pt x="271" y="91"/>
                  <a:pt x="271" y="91"/>
                </a:cubicBezTo>
                <a:cubicBezTo>
                  <a:pt x="272" y="91"/>
                  <a:pt x="272" y="91"/>
                  <a:pt x="272" y="91"/>
                </a:cubicBezTo>
                <a:cubicBezTo>
                  <a:pt x="273" y="91"/>
                  <a:pt x="273" y="91"/>
                  <a:pt x="273" y="91"/>
                </a:cubicBezTo>
                <a:cubicBezTo>
                  <a:pt x="273" y="91"/>
                  <a:pt x="273" y="91"/>
                  <a:pt x="274" y="91"/>
                </a:cubicBezTo>
                <a:cubicBezTo>
                  <a:pt x="274" y="91"/>
                  <a:pt x="275" y="91"/>
                  <a:pt x="275" y="91"/>
                </a:cubicBezTo>
                <a:cubicBezTo>
                  <a:pt x="275" y="91"/>
                  <a:pt x="276" y="91"/>
                  <a:pt x="276" y="91"/>
                </a:cubicBezTo>
                <a:cubicBezTo>
                  <a:pt x="277" y="91"/>
                  <a:pt x="277" y="91"/>
                  <a:pt x="278" y="91"/>
                </a:cubicBezTo>
                <a:cubicBezTo>
                  <a:pt x="278" y="91"/>
                  <a:pt x="278" y="91"/>
                  <a:pt x="279" y="91"/>
                </a:cubicBezTo>
                <a:cubicBezTo>
                  <a:pt x="279" y="91"/>
                  <a:pt x="279" y="91"/>
                  <a:pt x="279" y="91"/>
                </a:cubicBezTo>
                <a:cubicBezTo>
                  <a:pt x="279" y="91"/>
                  <a:pt x="279" y="91"/>
                  <a:pt x="279" y="91"/>
                </a:cubicBezTo>
                <a:cubicBezTo>
                  <a:pt x="280" y="91"/>
                  <a:pt x="280" y="91"/>
                  <a:pt x="280" y="91"/>
                </a:cubicBezTo>
                <a:cubicBezTo>
                  <a:pt x="280" y="91"/>
                  <a:pt x="281" y="91"/>
                  <a:pt x="281" y="91"/>
                </a:cubicBezTo>
                <a:cubicBezTo>
                  <a:pt x="281" y="91"/>
                  <a:pt x="282" y="91"/>
                  <a:pt x="282" y="91"/>
                </a:cubicBezTo>
                <a:cubicBezTo>
                  <a:pt x="283" y="92"/>
                  <a:pt x="283" y="92"/>
                  <a:pt x="283" y="92"/>
                </a:cubicBezTo>
                <a:cubicBezTo>
                  <a:pt x="284" y="92"/>
                  <a:pt x="284" y="92"/>
                  <a:pt x="284" y="92"/>
                </a:cubicBezTo>
                <a:cubicBezTo>
                  <a:pt x="284" y="92"/>
                  <a:pt x="284" y="92"/>
                  <a:pt x="284" y="92"/>
                </a:cubicBezTo>
                <a:cubicBezTo>
                  <a:pt x="284" y="92"/>
                  <a:pt x="284" y="92"/>
                  <a:pt x="284" y="92"/>
                </a:cubicBezTo>
                <a:cubicBezTo>
                  <a:pt x="285" y="92"/>
                  <a:pt x="285" y="92"/>
                  <a:pt x="285" y="92"/>
                </a:cubicBezTo>
                <a:cubicBezTo>
                  <a:pt x="286" y="92"/>
                  <a:pt x="286" y="92"/>
                  <a:pt x="286" y="92"/>
                </a:cubicBezTo>
                <a:cubicBezTo>
                  <a:pt x="287" y="92"/>
                  <a:pt x="287" y="92"/>
                  <a:pt x="287" y="92"/>
                </a:cubicBezTo>
                <a:cubicBezTo>
                  <a:pt x="288" y="92"/>
                  <a:pt x="288" y="92"/>
                  <a:pt x="288" y="92"/>
                </a:cubicBezTo>
                <a:cubicBezTo>
                  <a:pt x="288" y="92"/>
                  <a:pt x="288" y="92"/>
                  <a:pt x="288" y="92"/>
                </a:cubicBezTo>
                <a:cubicBezTo>
                  <a:pt x="288" y="92"/>
                  <a:pt x="288" y="92"/>
                  <a:pt x="288" y="92"/>
                </a:cubicBezTo>
                <a:cubicBezTo>
                  <a:pt x="289" y="92"/>
                  <a:pt x="289" y="92"/>
                  <a:pt x="289" y="92"/>
                </a:cubicBezTo>
                <a:cubicBezTo>
                  <a:pt x="290" y="92"/>
                  <a:pt x="290" y="92"/>
                  <a:pt x="290" y="92"/>
                </a:cubicBezTo>
                <a:cubicBezTo>
                  <a:pt x="291" y="92"/>
                  <a:pt x="291" y="92"/>
                  <a:pt x="291" y="92"/>
                </a:cubicBezTo>
                <a:cubicBezTo>
                  <a:pt x="292" y="92"/>
                  <a:pt x="292" y="92"/>
                  <a:pt x="292" y="92"/>
                </a:cubicBezTo>
                <a:cubicBezTo>
                  <a:pt x="292" y="92"/>
                  <a:pt x="292" y="92"/>
                  <a:pt x="292" y="92"/>
                </a:cubicBezTo>
                <a:cubicBezTo>
                  <a:pt x="292" y="92"/>
                  <a:pt x="292" y="92"/>
                  <a:pt x="292" y="92"/>
                </a:cubicBezTo>
                <a:cubicBezTo>
                  <a:pt x="292" y="92"/>
                  <a:pt x="292" y="92"/>
                  <a:pt x="292" y="92"/>
                </a:cubicBezTo>
                <a:cubicBezTo>
                  <a:pt x="293" y="92"/>
                  <a:pt x="293" y="92"/>
                  <a:pt x="293" y="92"/>
                </a:cubicBezTo>
                <a:cubicBezTo>
                  <a:pt x="294" y="92"/>
                  <a:pt x="294" y="92"/>
                  <a:pt x="294" y="92"/>
                </a:cubicBezTo>
                <a:cubicBezTo>
                  <a:pt x="295" y="92"/>
                  <a:pt x="295" y="92"/>
                  <a:pt x="295" y="92"/>
                </a:cubicBezTo>
                <a:cubicBezTo>
                  <a:pt x="295" y="92"/>
                  <a:pt x="295" y="92"/>
                  <a:pt x="295" y="92"/>
                </a:cubicBezTo>
                <a:cubicBezTo>
                  <a:pt x="296" y="93"/>
                  <a:pt x="296" y="93"/>
                  <a:pt x="296" y="93"/>
                </a:cubicBezTo>
                <a:cubicBezTo>
                  <a:pt x="296" y="93"/>
                  <a:pt x="296" y="93"/>
                  <a:pt x="296" y="93"/>
                </a:cubicBezTo>
                <a:cubicBezTo>
                  <a:pt x="296" y="93"/>
                  <a:pt x="296" y="93"/>
                  <a:pt x="296" y="93"/>
                </a:cubicBezTo>
                <a:cubicBezTo>
                  <a:pt x="296" y="93"/>
                  <a:pt x="296" y="93"/>
                  <a:pt x="296" y="93"/>
                </a:cubicBezTo>
                <a:cubicBezTo>
                  <a:pt x="296" y="93"/>
                  <a:pt x="296" y="93"/>
                  <a:pt x="296" y="93"/>
                </a:cubicBezTo>
                <a:cubicBezTo>
                  <a:pt x="297" y="93"/>
                  <a:pt x="297" y="93"/>
                  <a:pt x="297" y="93"/>
                </a:cubicBezTo>
                <a:cubicBezTo>
                  <a:pt x="297" y="93"/>
                  <a:pt x="297" y="93"/>
                  <a:pt x="297" y="93"/>
                </a:cubicBezTo>
                <a:cubicBezTo>
                  <a:pt x="298" y="93"/>
                  <a:pt x="298" y="93"/>
                  <a:pt x="298" y="93"/>
                </a:cubicBezTo>
                <a:cubicBezTo>
                  <a:pt x="299" y="93"/>
                  <a:pt x="299" y="93"/>
                  <a:pt x="299" y="93"/>
                </a:cubicBezTo>
                <a:cubicBezTo>
                  <a:pt x="299" y="93"/>
                  <a:pt x="299" y="93"/>
                  <a:pt x="299" y="93"/>
                </a:cubicBezTo>
                <a:cubicBezTo>
                  <a:pt x="300" y="93"/>
                  <a:pt x="300" y="93"/>
                  <a:pt x="300" y="93"/>
                </a:cubicBezTo>
                <a:cubicBezTo>
                  <a:pt x="300" y="93"/>
                  <a:pt x="300" y="93"/>
                  <a:pt x="300" y="93"/>
                </a:cubicBezTo>
                <a:cubicBezTo>
                  <a:pt x="300" y="93"/>
                  <a:pt x="300" y="93"/>
                  <a:pt x="300" y="93"/>
                </a:cubicBezTo>
                <a:cubicBezTo>
                  <a:pt x="300" y="93"/>
                  <a:pt x="300" y="93"/>
                  <a:pt x="300" y="93"/>
                </a:cubicBezTo>
                <a:cubicBezTo>
                  <a:pt x="300" y="93"/>
                  <a:pt x="300" y="93"/>
                  <a:pt x="300" y="93"/>
                </a:cubicBezTo>
                <a:cubicBezTo>
                  <a:pt x="301" y="93"/>
                  <a:pt x="301" y="93"/>
                  <a:pt x="301" y="93"/>
                </a:cubicBezTo>
                <a:cubicBezTo>
                  <a:pt x="301" y="93"/>
                  <a:pt x="301" y="93"/>
                  <a:pt x="301" y="93"/>
                </a:cubicBezTo>
                <a:cubicBezTo>
                  <a:pt x="302" y="94"/>
                  <a:pt x="302" y="94"/>
                  <a:pt x="302" y="94"/>
                </a:cubicBezTo>
                <a:cubicBezTo>
                  <a:pt x="302" y="94"/>
                  <a:pt x="302" y="94"/>
                  <a:pt x="302" y="94"/>
                </a:cubicBezTo>
                <a:cubicBezTo>
                  <a:pt x="303" y="94"/>
                  <a:pt x="303" y="94"/>
                  <a:pt x="303" y="94"/>
                </a:cubicBezTo>
                <a:cubicBezTo>
                  <a:pt x="303" y="94"/>
                  <a:pt x="303" y="94"/>
                  <a:pt x="303" y="94"/>
                </a:cubicBezTo>
                <a:cubicBezTo>
                  <a:pt x="303" y="94"/>
                  <a:pt x="303" y="94"/>
                  <a:pt x="303" y="94"/>
                </a:cubicBezTo>
                <a:cubicBezTo>
                  <a:pt x="303" y="94"/>
                  <a:pt x="303" y="94"/>
                  <a:pt x="303" y="94"/>
                </a:cubicBezTo>
                <a:cubicBezTo>
                  <a:pt x="303" y="94"/>
                  <a:pt x="303" y="94"/>
                  <a:pt x="303" y="94"/>
                </a:cubicBezTo>
                <a:cubicBezTo>
                  <a:pt x="304" y="94"/>
                  <a:pt x="304" y="94"/>
                  <a:pt x="304" y="94"/>
                </a:cubicBezTo>
                <a:cubicBezTo>
                  <a:pt x="305" y="94"/>
                  <a:pt x="305" y="94"/>
                  <a:pt x="305" y="94"/>
                </a:cubicBezTo>
                <a:cubicBezTo>
                  <a:pt x="305" y="94"/>
                  <a:pt x="305" y="94"/>
                  <a:pt x="305" y="94"/>
                </a:cubicBezTo>
                <a:cubicBezTo>
                  <a:pt x="305" y="94"/>
                  <a:pt x="305" y="94"/>
                  <a:pt x="305" y="94"/>
                </a:cubicBezTo>
                <a:cubicBezTo>
                  <a:pt x="306" y="95"/>
                  <a:pt x="306" y="95"/>
                  <a:pt x="306" y="95"/>
                </a:cubicBezTo>
                <a:cubicBezTo>
                  <a:pt x="306" y="95"/>
                  <a:pt x="306" y="95"/>
                  <a:pt x="306" y="95"/>
                </a:cubicBezTo>
                <a:cubicBezTo>
                  <a:pt x="306" y="95"/>
                  <a:pt x="306" y="95"/>
                  <a:pt x="306" y="95"/>
                </a:cubicBezTo>
                <a:cubicBezTo>
                  <a:pt x="307" y="95"/>
                  <a:pt x="307" y="95"/>
                  <a:pt x="307" y="95"/>
                </a:cubicBezTo>
                <a:cubicBezTo>
                  <a:pt x="307" y="95"/>
                  <a:pt x="307" y="95"/>
                  <a:pt x="307" y="95"/>
                </a:cubicBezTo>
                <a:cubicBezTo>
                  <a:pt x="307" y="95"/>
                  <a:pt x="307" y="95"/>
                  <a:pt x="307" y="95"/>
                </a:cubicBezTo>
                <a:cubicBezTo>
                  <a:pt x="308" y="95"/>
                  <a:pt x="308" y="95"/>
                  <a:pt x="308" y="95"/>
                </a:cubicBezTo>
                <a:cubicBezTo>
                  <a:pt x="308" y="95"/>
                  <a:pt x="309" y="96"/>
                  <a:pt x="309" y="96"/>
                </a:cubicBezTo>
                <a:cubicBezTo>
                  <a:pt x="310" y="96"/>
                  <a:pt x="310" y="96"/>
                  <a:pt x="310" y="96"/>
                </a:cubicBezTo>
                <a:cubicBezTo>
                  <a:pt x="310" y="96"/>
                  <a:pt x="310" y="96"/>
                  <a:pt x="310" y="96"/>
                </a:cubicBezTo>
                <a:cubicBezTo>
                  <a:pt x="310" y="96"/>
                  <a:pt x="310" y="96"/>
                  <a:pt x="310" y="96"/>
                </a:cubicBezTo>
                <a:cubicBezTo>
                  <a:pt x="310" y="96"/>
                  <a:pt x="310" y="96"/>
                  <a:pt x="310" y="96"/>
                </a:cubicBezTo>
                <a:cubicBezTo>
                  <a:pt x="311" y="97"/>
                  <a:pt x="311" y="97"/>
                  <a:pt x="311" y="97"/>
                </a:cubicBezTo>
                <a:cubicBezTo>
                  <a:pt x="311" y="97"/>
                  <a:pt x="311" y="97"/>
                  <a:pt x="311" y="97"/>
                </a:cubicBezTo>
                <a:cubicBezTo>
                  <a:pt x="312" y="97"/>
                  <a:pt x="312" y="97"/>
                  <a:pt x="312" y="97"/>
                </a:cubicBezTo>
                <a:cubicBezTo>
                  <a:pt x="312" y="97"/>
                  <a:pt x="312" y="97"/>
                  <a:pt x="312" y="97"/>
                </a:cubicBezTo>
                <a:cubicBezTo>
                  <a:pt x="312" y="97"/>
                  <a:pt x="312" y="97"/>
                  <a:pt x="312" y="97"/>
                </a:cubicBezTo>
                <a:cubicBezTo>
                  <a:pt x="312" y="97"/>
                  <a:pt x="312" y="97"/>
                  <a:pt x="312" y="97"/>
                </a:cubicBezTo>
                <a:cubicBezTo>
                  <a:pt x="312" y="98"/>
                  <a:pt x="312" y="98"/>
                  <a:pt x="312" y="98"/>
                </a:cubicBezTo>
                <a:cubicBezTo>
                  <a:pt x="313" y="98"/>
                  <a:pt x="313" y="98"/>
                  <a:pt x="313" y="98"/>
                </a:cubicBezTo>
                <a:cubicBezTo>
                  <a:pt x="313" y="98"/>
                  <a:pt x="313" y="98"/>
                  <a:pt x="313" y="98"/>
                </a:cubicBezTo>
                <a:cubicBezTo>
                  <a:pt x="313" y="99"/>
                  <a:pt x="313" y="99"/>
                  <a:pt x="313" y="99"/>
                </a:cubicBezTo>
                <a:cubicBezTo>
                  <a:pt x="313" y="99"/>
                  <a:pt x="313" y="99"/>
                  <a:pt x="313" y="99"/>
                </a:cubicBezTo>
                <a:cubicBezTo>
                  <a:pt x="313" y="99"/>
                  <a:pt x="313" y="99"/>
                  <a:pt x="313" y="99"/>
                </a:cubicBezTo>
                <a:cubicBezTo>
                  <a:pt x="313" y="99"/>
                  <a:pt x="313" y="99"/>
                  <a:pt x="313" y="99"/>
                </a:cubicBezTo>
                <a:cubicBezTo>
                  <a:pt x="314" y="100"/>
                  <a:pt x="314" y="100"/>
                  <a:pt x="314" y="100"/>
                </a:cubicBezTo>
                <a:cubicBezTo>
                  <a:pt x="314" y="101"/>
                  <a:pt x="314" y="101"/>
                  <a:pt x="314" y="102"/>
                </a:cubicBezTo>
                <a:cubicBezTo>
                  <a:pt x="313" y="103"/>
                  <a:pt x="312" y="105"/>
                  <a:pt x="309" y="106"/>
                </a:cubicBezTo>
                <a:cubicBezTo>
                  <a:pt x="307" y="108"/>
                  <a:pt x="304" y="109"/>
                  <a:pt x="300" y="111"/>
                </a:cubicBezTo>
                <a:cubicBezTo>
                  <a:pt x="295" y="112"/>
                  <a:pt x="292" y="114"/>
                  <a:pt x="289" y="115"/>
                </a:cubicBezTo>
                <a:cubicBezTo>
                  <a:pt x="287" y="116"/>
                  <a:pt x="284" y="117"/>
                  <a:pt x="283" y="118"/>
                </a:cubicBezTo>
                <a:cubicBezTo>
                  <a:pt x="282" y="119"/>
                  <a:pt x="281" y="120"/>
                  <a:pt x="281" y="121"/>
                </a:cubicBezTo>
                <a:cubicBezTo>
                  <a:pt x="280" y="123"/>
                  <a:pt x="281" y="124"/>
                  <a:pt x="282" y="126"/>
                </a:cubicBezTo>
                <a:cubicBezTo>
                  <a:pt x="283" y="127"/>
                  <a:pt x="284" y="128"/>
                  <a:pt x="286" y="129"/>
                </a:cubicBezTo>
                <a:cubicBezTo>
                  <a:pt x="288" y="130"/>
                  <a:pt x="290" y="130"/>
                  <a:pt x="292" y="131"/>
                </a:cubicBezTo>
                <a:cubicBezTo>
                  <a:pt x="295" y="131"/>
                  <a:pt x="297" y="131"/>
                  <a:pt x="299" y="131"/>
                </a:cubicBezTo>
                <a:cubicBezTo>
                  <a:pt x="302" y="131"/>
                  <a:pt x="304" y="131"/>
                  <a:pt x="305" y="131"/>
                </a:cubicBezTo>
                <a:cubicBezTo>
                  <a:pt x="306" y="131"/>
                  <a:pt x="312" y="131"/>
                  <a:pt x="321" y="131"/>
                </a:cubicBezTo>
                <a:cubicBezTo>
                  <a:pt x="322" y="131"/>
                  <a:pt x="323" y="131"/>
                  <a:pt x="324" y="131"/>
                </a:cubicBezTo>
                <a:cubicBezTo>
                  <a:pt x="326" y="131"/>
                  <a:pt x="327" y="131"/>
                  <a:pt x="328" y="131"/>
                </a:cubicBezTo>
                <a:cubicBezTo>
                  <a:pt x="330" y="131"/>
                  <a:pt x="333" y="131"/>
                  <a:pt x="336" y="131"/>
                </a:cubicBezTo>
                <a:cubicBezTo>
                  <a:pt x="336" y="131"/>
                  <a:pt x="336" y="131"/>
                  <a:pt x="336" y="131"/>
                </a:cubicBezTo>
                <a:cubicBezTo>
                  <a:pt x="337" y="131"/>
                  <a:pt x="339" y="131"/>
                  <a:pt x="340" y="131"/>
                </a:cubicBezTo>
                <a:cubicBezTo>
                  <a:pt x="340" y="131"/>
                  <a:pt x="340" y="131"/>
                  <a:pt x="340" y="131"/>
                </a:cubicBezTo>
                <a:cubicBezTo>
                  <a:pt x="342" y="131"/>
                  <a:pt x="343" y="131"/>
                  <a:pt x="344" y="131"/>
                </a:cubicBezTo>
                <a:cubicBezTo>
                  <a:pt x="345" y="131"/>
                  <a:pt x="345" y="131"/>
                  <a:pt x="345" y="131"/>
                </a:cubicBezTo>
                <a:cubicBezTo>
                  <a:pt x="351" y="130"/>
                  <a:pt x="358" y="130"/>
                  <a:pt x="364" y="130"/>
                </a:cubicBezTo>
                <a:cubicBezTo>
                  <a:pt x="380" y="130"/>
                  <a:pt x="396" y="130"/>
                  <a:pt x="411" y="129"/>
                </a:cubicBezTo>
                <a:cubicBezTo>
                  <a:pt x="426" y="129"/>
                  <a:pt x="440" y="129"/>
                  <a:pt x="450" y="128"/>
                </a:cubicBezTo>
                <a:cubicBezTo>
                  <a:pt x="460" y="128"/>
                  <a:pt x="467" y="127"/>
                  <a:pt x="473" y="127"/>
                </a:cubicBezTo>
                <a:cubicBezTo>
                  <a:pt x="478" y="126"/>
                  <a:pt x="482" y="125"/>
                  <a:pt x="484" y="124"/>
                </a:cubicBezTo>
                <a:cubicBezTo>
                  <a:pt x="486" y="124"/>
                  <a:pt x="487" y="123"/>
                  <a:pt x="488" y="122"/>
                </a:cubicBezTo>
                <a:cubicBezTo>
                  <a:pt x="488" y="122"/>
                  <a:pt x="488" y="122"/>
                  <a:pt x="488" y="122"/>
                </a:cubicBezTo>
                <a:cubicBezTo>
                  <a:pt x="488" y="121"/>
                  <a:pt x="490" y="119"/>
                  <a:pt x="492" y="116"/>
                </a:cubicBezTo>
                <a:cubicBezTo>
                  <a:pt x="494" y="113"/>
                  <a:pt x="498" y="109"/>
                  <a:pt x="501" y="105"/>
                </a:cubicBezTo>
                <a:cubicBezTo>
                  <a:pt x="504" y="101"/>
                  <a:pt x="508" y="97"/>
                  <a:pt x="512" y="93"/>
                </a:cubicBezTo>
                <a:cubicBezTo>
                  <a:pt x="515" y="89"/>
                  <a:pt x="519" y="86"/>
                  <a:pt x="522" y="84"/>
                </a:cubicBezTo>
                <a:cubicBezTo>
                  <a:pt x="524" y="83"/>
                  <a:pt x="525" y="82"/>
                  <a:pt x="527" y="82"/>
                </a:cubicBezTo>
                <a:cubicBezTo>
                  <a:pt x="528" y="81"/>
                  <a:pt x="530" y="81"/>
                  <a:pt x="532" y="80"/>
                </a:cubicBezTo>
                <a:cubicBezTo>
                  <a:pt x="534" y="80"/>
                  <a:pt x="536" y="80"/>
                  <a:pt x="538" y="79"/>
                </a:cubicBezTo>
                <a:cubicBezTo>
                  <a:pt x="541" y="79"/>
                  <a:pt x="543" y="79"/>
                  <a:pt x="545" y="79"/>
                </a:cubicBezTo>
                <a:cubicBezTo>
                  <a:pt x="549" y="79"/>
                  <a:pt x="552" y="79"/>
                  <a:pt x="556" y="79"/>
                </a:cubicBezTo>
                <a:cubicBezTo>
                  <a:pt x="559" y="79"/>
                  <a:pt x="563" y="80"/>
                  <a:pt x="567" y="80"/>
                </a:cubicBezTo>
                <a:cubicBezTo>
                  <a:pt x="570" y="81"/>
                  <a:pt x="574" y="81"/>
                  <a:pt x="578" y="81"/>
                </a:cubicBezTo>
                <a:cubicBezTo>
                  <a:pt x="581" y="82"/>
                  <a:pt x="585" y="82"/>
                  <a:pt x="588" y="83"/>
                </a:cubicBezTo>
                <a:cubicBezTo>
                  <a:pt x="590" y="83"/>
                  <a:pt x="592" y="83"/>
                  <a:pt x="594" y="84"/>
                </a:cubicBezTo>
                <a:cubicBezTo>
                  <a:pt x="596" y="84"/>
                  <a:pt x="598" y="84"/>
                  <a:pt x="600" y="84"/>
                </a:cubicBezTo>
                <a:cubicBezTo>
                  <a:pt x="601" y="84"/>
                  <a:pt x="602" y="84"/>
                  <a:pt x="603" y="84"/>
                </a:cubicBezTo>
                <a:cubicBezTo>
                  <a:pt x="604" y="84"/>
                  <a:pt x="605" y="84"/>
                  <a:pt x="606" y="84"/>
                </a:cubicBezTo>
                <a:cubicBezTo>
                  <a:pt x="608" y="84"/>
                  <a:pt x="609" y="84"/>
                  <a:pt x="611" y="84"/>
                </a:cubicBezTo>
                <a:cubicBezTo>
                  <a:pt x="615" y="84"/>
                  <a:pt x="618" y="84"/>
                  <a:pt x="621" y="84"/>
                </a:cubicBezTo>
                <a:cubicBezTo>
                  <a:pt x="621" y="84"/>
                  <a:pt x="621" y="84"/>
                  <a:pt x="621" y="84"/>
                </a:cubicBezTo>
                <a:cubicBezTo>
                  <a:pt x="622" y="84"/>
                  <a:pt x="623" y="84"/>
                  <a:pt x="624" y="84"/>
                </a:cubicBezTo>
                <a:cubicBezTo>
                  <a:pt x="627" y="83"/>
                  <a:pt x="629" y="83"/>
                  <a:pt x="632" y="83"/>
                </a:cubicBezTo>
                <a:cubicBezTo>
                  <a:pt x="633" y="82"/>
                  <a:pt x="635" y="82"/>
                  <a:pt x="637" y="82"/>
                </a:cubicBezTo>
                <a:cubicBezTo>
                  <a:pt x="637" y="82"/>
                  <a:pt x="637" y="82"/>
                  <a:pt x="637" y="82"/>
                </a:cubicBezTo>
                <a:cubicBezTo>
                  <a:pt x="639" y="81"/>
                  <a:pt x="641" y="81"/>
                  <a:pt x="644" y="80"/>
                </a:cubicBezTo>
                <a:cubicBezTo>
                  <a:pt x="644" y="80"/>
                  <a:pt x="645" y="80"/>
                  <a:pt x="646" y="80"/>
                </a:cubicBezTo>
                <a:cubicBezTo>
                  <a:pt x="647" y="80"/>
                  <a:pt x="649" y="79"/>
                  <a:pt x="650" y="79"/>
                </a:cubicBezTo>
                <a:cubicBezTo>
                  <a:pt x="652" y="79"/>
                  <a:pt x="654" y="78"/>
                  <a:pt x="656" y="78"/>
                </a:cubicBezTo>
                <a:cubicBezTo>
                  <a:pt x="657" y="77"/>
                  <a:pt x="659" y="77"/>
                  <a:pt x="660" y="77"/>
                </a:cubicBezTo>
                <a:cubicBezTo>
                  <a:pt x="660" y="77"/>
                  <a:pt x="661" y="76"/>
                  <a:pt x="661" y="76"/>
                </a:cubicBezTo>
                <a:cubicBezTo>
                  <a:pt x="662" y="76"/>
                  <a:pt x="663" y="76"/>
                  <a:pt x="664" y="75"/>
                </a:cubicBezTo>
                <a:cubicBezTo>
                  <a:pt x="665" y="75"/>
                  <a:pt x="665" y="75"/>
                  <a:pt x="665" y="75"/>
                </a:cubicBezTo>
                <a:cubicBezTo>
                  <a:pt x="666" y="75"/>
                  <a:pt x="667" y="74"/>
                  <a:pt x="668" y="74"/>
                </a:cubicBezTo>
                <a:cubicBezTo>
                  <a:pt x="669" y="74"/>
                  <a:pt x="669" y="74"/>
                  <a:pt x="669" y="74"/>
                </a:cubicBezTo>
                <a:cubicBezTo>
                  <a:pt x="670" y="73"/>
                  <a:pt x="670" y="73"/>
                  <a:pt x="671" y="72"/>
                </a:cubicBezTo>
                <a:cubicBezTo>
                  <a:pt x="672" y="72"/>
                  <a:pt x="672" y="72"/>
                  <a:pt x="672" y="72"/>
                </a:cubicBezTo>
                <a:cubicBezTo>
                  <a:pt x="673" y="72"/>
                  <a:pt x="674" y="71"/>
                  <a:pt x="674" y="71"/>
                </a:cubicBezTo>
                <a:cubicBezTo>
                  <a:pt x="674" y="71"/>
                  <a:pt x="674" y="71"/>
                  <a:pt x="674" y="71"/>
                </a:cubicBezTo>
                <a:cubicBezTo>
                  <a:pt x="675" y="70"/>
                  <a:pt x="675" y="70"/>
                  <a:pt x="675" y="70"/>
                </a:cubicBezTo>
                <a:cubicBezTo>
                  <a:pt x="675" y="70"/>
                  <a:pt x="676" y="70"/>
                  <a:pt x="676" y="69"/>
                </a:cubicBezTo>
                <a:cubicBezTo>
                  <a:pt x="677" y="69"/>
                  <a:pt x="677" y="69"/>
                  <a:pt x="677" y="69"/>
                </a:cubicBezTo>
                <a:cubicBezTo>
                  <a:pt x="677" y="68"/>
                  <a:pt x="678" y="68"/>
                  <a:pt x="678" y="67"/>
                </a:cubicBezTo>
                <a:cubicBezTo>
                  <a:pt x="679" y="67"/>
                  <a:pt x="679" y="67"/>
                  <a:pt x="679" y="67"/>
                </a:cubicBezTo>
                <a:cubicBezTo>
                  <a:pt x="679" y="67"/>
                  <a:pt x="679" y="66"/>
                  <a:pt x="680" y="66"/>
                </a:cubicBezTo>
                <a:cubicBezTo>
                  <a:pt x="680" y="65"/>
                  <a:pt x="680" y="65"/>
                  <a:pt x="680" y="65"/>
                </a:cubicBezTo>
                <a:cubicBezTo>
                  <a:pt x="681" y="64"/>
                  <a:pt x="681" y="64"/>
                  <a:pt x="681" y="64"/>
                </a:cubicBezTo>
                <a:cubicBezTo>
                  <a:pt x="681" y="64"/>
                  <a:pt x="681" y="63"/>
                  <a:pt x="681" y="62"/>
                </a:cubicBezTo>
                <a:cubicBezTo>
                  <a:pt x="681" y="62"/>
                  <a:pt x="681" y="62"/>
                  <a:pt x="681" y="62"/>
                </a:cubicBezTo>
                <a:cubicBezTo>
                  <a:pt x="682" y="61"/>
                  <a:pt x="682" y="61"/>
                  <a:pt x="682" y="60"/>
                </a:cubicBezTo>
                <a:cubicBezTo>
                  <a:pt x="682" y="60"/>
                  <a:pt x="682" y="59"/>
                  <a:pt x="681" y="59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17"/>
          <p:cNvSpPr/>
          <p:nvPr/>
        </p:nvSpPr>
        <p:spPr>
          <a:xfrm>
            <a:off x="5937120" y="2222640"/>
            <a:ext cx="876600" cy="357120"/>
          </a:xfrm>
          <a:custGeom>
            <a:avLst/>
            <a:gdLst/>
            <a:ahLst/>
            <a:rect l="l" t="t" r="r" b="b"/>
            <a:pathLst>
              <a:path w="483" h="198">
                <a:moveTo>
                  <a:pt x="106" y="149"/>
                </a:moveTo>
                <a:cubicBezTo>
                  <a:pt x="113" y="149"/>
                  <a:pt x="120" y="149"/>
                  <a:pt x="127" y="149"/>
                </a:cubicBezTo>
                <a:cubicBezTo>
                  <a:pt x="134" y="148"/>
                  <a:pt x="141" y="148"/>
                  <a:pt x="148" y="148"/>
                </a:cubicBezTo>
                <a:cubicBezTo>
                  <a:pt x="155" y="149"/>
                  <a:pt x="161" y="149"/>
                  <a:pt x="166" y="149"/>
                </a:cubicBezTo>
                <a:cubicBezTo>
                  <a:pt x="172" y="149"/>
                  <a:pt x="176" y="150"/>
                  <a:pt x="180" y="150"/>
                </a:cubicBezTo>
                <a:cubicBezTo>
                  <a:pt x="184" y="151"/>
                  <a:pt x="186" y="151"/>
                  <a:pt x="187" y="152"/>
                </a:cubicBezTo>
                <a:cubicBezTo>
                  <a:pt x="189" y="154"/>
                  <a:pt x="190" y="155"/>
                  <a:pt x="191" y="157"/>
                </a:cubicBezTo>
                <a:cubicBezTo>
                  <a:pt x="191" y="158"/>
                  <a:pt x="191" y="160"/>
                  <a:pt x="191" y="161"/>
                </a:cubicBezTo>
                <a:cubicBezTo>
                  <a:pt x="190" y="162"/>
                  <a:pt x="189" y="164"/>
                  <a:pt x="187" y="165"/>
                </a:cubicBezTo>
                <a:cubicBezTo>
                  <a:pt x="186" y="166"/>
                  <a:pt x="184" y="167"/>
                  <a:pt x="182" y="169"/>
                </a:cubicBezTo>
                <a:cubicBezTo>
                  <a:pt x="180" y="170"/>
                  <a:pt x="179" y="172"/>
                  <a:pt x="178" y="174"/>
                </a:cubicBezTo>
                <a:cubicBezTo>
                  <a:pt x="178" y="176"/>
                  <a:pt x="178" y="178"/>
                  <a:pt x="179" y="181"/>
                </a:cubicBezTo>
                <a:cubicBezTo>
                  <a:pt x="180" y="183"/>
                  <a:pt x="182" y="186"/>
                  <a:pt x="186" y="188"/>
                </a:cubicBezTo>
                <a:cubicBezTo>
                  <a:pt x="190" y="190"/>
                  <a:pt x="195" y="192"/>
                  <a:pt x="201" y="193"/>
                </a:cubicBezTo>
                <a:cubicBezTo>
                  <a:pt x="205" y="194"/>
                  <a:pt x="209" y="195"/>
                  <a:pt x="214" y="195"/>
                </a:cubicBezTo>
                <a:cubicBezTo>
                  <a:pt x="218" y="196"/>
                  <a:pt x="223" y="196"/>
                  <a:pt x="228" y="197"/>
                </a:cubicBezTo>
                <a:cubicBezTo>
                  <a:pt x="233" y="197"/>
                  <a:pt x="239" y="198"/>
                  <a:pt x="244" y="198"/>
                </a:cubicBezTo>
                <a:cubicBezTo>
                  <a:pt x="249" y="198"/>
                  <a:pt x="254" y="198"/>
                  <a:pt x="260" y="198"/>
                </a:cubicBezTo>
                <a:cubicBezTo>
                  <a:pt x="263" y="198"/>
                  <a:pt x="267" y="198"/>
                  <a:pt x="271" y="198"/>
                </a:cubicBezTo>
                <a:cubicBezTo>
                  <a:pt x="275" y="197"/>
                  <a:pt x="278" y="197"/>
                  <a:pt x="282" y="197"/>
                </a:cubicBezTo>
                <a:cubicBezTo>
                  <a:pt x="285" y="196"/>
                  <a:pt x="288" y="196"/>
                  <a:pt x="291" y="195"/>
                </a:cubicBezTo>
                <a:cubicBezTo>
                  <a:pt x="294" y="194"/>
                  <a:pt x="297" y="194"/>
                  <a:pt x="300" y="193"/>
                </a:cubicBezTo>
                <a:cubicBezTo>
                  <a:pt x="306" y="191"/>
                  <a:pt x="311" y="189"/>
                  <a:pt x="315" y="187"/>
                </a:cubicBezTo>
                <a:cubicBezTo>
                  <a:pt x="318" y="186"/>
                  <a:pt x="321" y="184"/>
                  <a:pt x="323" y="182"/>
                </a:cubicBezTo>
                <a:cubicBezTo>
                  <a:pt x="325" y="180"/>
                  <a:pt x="325" y="179"/>
                  <a:pt x="324" y="177"/>
                </a:cubicBezTo>
                <a:cubicBezTo>
                  <a:pt x="324" y="175"/>
                  <a:pt x="322" y="173"/>
                  <a:pt x="318" y="170"/>
                </a:cubicBezTo>
                <a:cubicBezTo>
                  <a:pt x="315" y="168"/>
                  <a:pt x="311" y="165"/>
                  <a:pt x="308" y="163"/>
                </a:cubicBezTo>
                <a:cubicBezTo>
                  <a:pt x="306" y="160"/>
                  <a:pt x="303" y="158"/>
                  <a:pt x="303" y="156"/>
                </a:cubicBezTo>
                <a:cubicBezTo>
                  <a:pt x="302" y="154"/>
                  <a:pt x="303" y="152"/>
                  <a:pt x="306" y="151"/>
                </a:cubicBezTo>
                <a:cubicBezTo>
                  <a:pt x="308" y="149"/>
                  <a:pt x="313" y="148"/>
                  <a:pt x="321" y="148"/>
                </a:cubicBezTo>
                <a:cubicBezTo>
                  <a:pt x="322" y="148"/>
                  <a:pt x="324" y="148"/>
                  <a:pt x="325" y="148"/>
                </a:cubicBezTo>
                <a:cubicBezTo>
                  <a:pt x="326" y="147"/>
                  <a:pt x="328" y="147"/>
                  <a:pt x="329" y="147"/>
                </a:cubicBezTo>
                <a:cubicBezTo>
                  <a:pt x="330" y="147"/>
                  <a:pt x="332" y="147"/>
                  <a:pt x="334" y="147"/>
                </a:cubicBezTo>
                <a:cubicBezTo>
                  <a:pt x="335" y="147"/>
                  <a:pt x="337" y="147"/>
                  <a:pt x="339" y="147"/>
                </a:cubicBezTo>
                <a:cubicBezTo>
                  <a:pt x="349" y="147"/>
                  <a:pt x="361" y="147"/>
                  <a:pt x="374" y="147"/>
                </a:cubicBezTo>
                <a:cubicBezTo>
                  <a:pt x="387" y="147"/>
                  <a:pt x="400" y="147"/>
                  <a:pt x="412" y="147"/>
                </a:cubicBezTo>
                <a:cubicBezTo>
                  <a:pt x="425" y="147"/>
                  <a:pt x="435" y="148"/>
                  <a:pt x="444" y="148"/>
                </a:cubicBezTo>
                <a:cubicBezTo>
                  <a:pt x="452" y="148"/>
                  <a:pt x="457" y="148"/>
                  <a:pt x="458" y="148"/>
                </a:cubicBezTo>
                <a:cubicBezTo>
                  <a:pt x="458" y="148"/>
                  <a:pt x="458" y="148"/>
                  <a:pt x="458" y="148"/>
                </a:cubicBezTo>
                <a:cubicBezTo>
                  <a:pt x="459" y="148"/>
                  <a:pt x="459" y="148"/>
                  <a:pt x="459" y="148"/>
                </a:cubicBezTo>
                <a:cubicBezTo>
                  <a:pt x="460" y="148"/>
                  <a:pt x="460" y="148"/>
                  <a:pt x="460" y="148"/>
                </a:cubicBezTo>
                <a:cubicBezTo>
                  <a:pt x="461" y="148"/>
                  <a:pt x="461" y="148"/>
                  <a:pt x="462" y="148"/>
                </a:cubicBezTo>
                <a:cubicBezTo>
                  <a:pt x="463" y="148"/>
                  <a:pt x="465" y="148"/>
                  <a:pt x="467" y="148"/>
                </a:cubicBezTo>
                <a:cubicBezTo>
                  <a:pt x="469" y="147"/>
                  <a:pt x="471" y="147"/>
                  <a:pt x="472" y="146"/>
                </a:cubicBezTo>
                <a:cubicBezTo>
                  <a:pt x="474" y="145"/>
                  <a:pt x="476" y="144"/>
                  <a:pt x="477" y="143"/>
                </a:cubicBezTo>
                <a:cubicBezTo>
                  <a:pt x="478" y="142"/>
                  <a:pt x="479" y="140"/>
                  <a:pt x="480" y="137"/>
                </a:cubicBezTo>
                <a:cubicBezTo>
                  <a:pt x="480" y="134"/>
                  <a:pt x="481" y="130"/>
                  <a:pt x="481" y="125"/>
                </a:cubicBezTo>
                <a:cubicBezTo>
                  <a:pt x="481" y="121"/>
                  <a:pt x="482" y="115"/>
                  <a:pt x="482" y="111"/>
                </a:cubicBezTo>
                <a:cubicBezTo>
                  <a:pt x="482" y="106"/>
                  <a:pt x="482" y="102"/>
                  <a:pt x="482" y="98"/>
                </a:cubicBezTo>
                <a:cubicBezTo>
                  <a:pt x="482" y="95"/>
                  <a:pt x="482" y="93"/>
                  <a:pt x="482" y="93"/>
                </a:cubicBezTo>
                <a:cubicBezTo>
                  <a:pt x="482" y="93"/>
                  <a:pt x="483" y="92"/>
                  <a:pt x="482" y="92"/>
                </a:cubicBezTo>
                <a:cubicBezTo>
                  <a:pt x="482" y="91"/>
                  <a:pt x="482" y="90"/>
                  <a:pt x="481" y="89"/>
                </a:cubicBezTo>
                <a:cubicBezTo>
                  <a:pt x="479" y="89"/>
                  <a:pt x="478" y="88"/>
                  <a:pt x="475" y="87"/>
                </a:cubicBezTo>
                <a:cubicBezTo>
                  <a:pt x="471" y="86"/>
                  <a:pt x="467" y="85"/>
                  <a:pt x="461" y="84"/>
                </a:cubicBezTo>
                <a:cubicBezTo>
                  <a:pt x="459" y="83"/>
                  <a:pt x="456" y="83"/>
                  <a:pt x="454" y="83"/>
                </a:cubicBezTo>
                <a:cubicBezTo>
                  <a:pt x="452" y="82"/>
                  <a:pt x="449" y="82"/>
                  <a:pt x="447" y="82"/>
                </a:cubicBezTo>
                <a:cubicBezTo>
                  <a:pt x="445" y="82"/>
                  <a:pt x="443" y="82"/>
                  <a:pt x="442" y="82"/>
                </a:cubicBezTo>
                <a:cubicBezTo>
                  <a:pt x="440" y="82"/>
                  <a:pt x="438" y="82"/>
                  <a:pt x="436" y="82"/>
                </a:cubicBezTo>
                <a:cubicBezTo>
                  <a:pt x="434" y="82"/>
                  <a:pt x="433" y="82"/>
                  <a:pt x="431" y="82"/>
                </a:cubicBezTo>
                <a:cubicBezTo>
                  <a:pt x="429" y="82"/>
                  <a:pt x="427" y="82"/>
                  <a:pt x="425" y="82"/>
                </a:cubicBezTo>
                <a:cubicBezTo>
                  <a:pt x="423" y="83"/>
                  <a:pt x="421" y="83"/>
                  <a:pt x="418" y="83"/>
                </a:cubicBezTo>
                <a:cubicBezTo>
                  <a:pt x="416" y="84"/>
                  <a:pt x="414" y="84"/>
                  <a:pt x="411" y="84"/>
                </a:cubicBezTo>
                <a:cubicBezTo>
                  <a:pt x="409" y="85"/>
                  <a:pt x="408" y="85"/>
                  <a:pt x="406" y="85"/>
                </a:cubicBezTo>
                <a:cubicBezTo>
                  <a:pt x="404" y="85"/>
                  <a:pt x="403" y="85"/>
                  <a:pt x="401" y="85"/>
                </a:cubicBezTo>
                <a:cubicBezTo>
                  <a:pt x="399" y="86"/>
                  <a:pt x="398" y="86"/>
                  <a:pt x="396" y="86"/>
                </a:cubicBezTo>
                <a:cubicBezTo>
                  <a:pt x="394" y="86"/>
                  <a:pt x="393" y="86"/>
                  <a:pt x="391" y="86"/>
                </a:cubicBezTo>
                <a:cubicBezTo>
                  <a:pt x="387" y="86"/>
                  <a:pt x="384" y="86"/>
                  <a:pt x="380" y="86"/>
                </a:cubicBezTo>
                <a:cubicBezTo>
                  <a:pt x="376" y="85"/>
                  <a:pt x="373" y="85"/>
                  <a:pt x="369" y="85"/>
                </a:cubicBezTo>
                <a:cubicBezTo>
                  <a:pt x="366" y="84"/>
                  <a:pt x="362" y="83"/>
                  <a:pt x="359" y="82"/>
                </a:cubicBezTo>
                <a:cubicBezTo>
                  <a:pt x="356" y="82"/>
                  <a:pt x="353" y="81"/>
                  <a:pt x="350" y="80"/>
                </a:cubicBezTo>
                <a:cubicBezTo>
                  <a:pt x="347" y="78"/>
                  <a:pt x="344" y="76"/>
                  <a:pt x="343" y="74"/>
                </a:cubicBezTo>
                <a:cubicBezTo>
                  <a:pt x="341" y="72"/>
                  <a:pt x="341" y="69"/>
                  <a:pt x="342" y="67"/>
                </a:cubicBezTo>
                <a:cubicBezTo>
                  <a:pt x="342" y="65"/>
                  <a:pt x="344" y="63"/>
                  <a:pt x="346" y="61"/>
                </a:cubicBezTo>
                <a:cubicBezTo>
                  <a:pt x="348" y="60"/>
                  <a:pt x="351" y="58"/>
                  <a:pt x="355" y="57"/>
                </a:cubicBezTo>
                <a:cubicBezTo>
                  <a:pt x="357" y="57"/>
                  <a:pt x="360" y="56"/>
                  <a:pt x="362" y="56"/>
                </a:cubicBezTo>
                <a:cubicBezTo>
                  <a:pt x="365" y="56"/>
                  <a:pt x="368" y="55"/>
                  <a:pt x="370" y="55"/>
                </a:cubicBezTo>
                <a:cubicBezTo>
                  <a:pt x="373" y="54"/>
                  <a:pt x="376" y="54"/>
                  <a:pt x="379" y="54"/>
                </a:cubicBezTo>
                <a:cubicBezTo>
                  <a:pt x="382" y="54"/>
                  <a:pt x="385" y="54"/>
                  <a:pt x="388" y="54"/>
                </a:cubicBezTo>
                <a:cubicBezTo>
                  <a:pt x="390" y="54"/>
                  <a:pt x="391" y="54"/>
                  <a:pt x="393" y="54"/>
                </a:cubicBezTo>
                <a:cubicBezTo>
                  <a:pt x="395" y="54"/>
                  <a:pt x="396" y="54"/>
                  <a:pt x="398" y="54"/>
                </a:cubicBezTo>
                <a:cubicBezTo>
                  <a:pt x="400" y="54"/>
                  <a:pt x="402" y="54"/>
                  <a:pt x="404" y="54"/>
                </a:cubicBezTo>
                <a:cubicBezTo>
                  <a:pt x="405" y="54"/>
                  <a:pt x="407" y="54"/>
                  <a:pt x="409" y="54"/>
                </a:cubicBezTo>
                <a:cubicBezTo>
                  <a:pt x="411" y="54"/>
                  <a:pt x="412" y="54"/>
                  <a:pt x="413" y="54"/>
                </a:cubicBezTo>
                <a:cubicBezTo>
                  <a:pt x="415" y="55"/>
                  <a:pt x="416" y="55"/>
                  <a:pt x="417" y="55"/>
                </a:cubicBezTo>
                <a:cubicBezTo>
                  <a:pt x="419" y="55"/>
                  <a:pt x="420" y="55"/>
                  <a:pt x="422" y="55"/>
                </a:cubicBezTo>
                <a:cubicBezTo>
                  <a:pt x="423" y="55"/>
                  <a:pt x="424" y="55"/>
                  <a:pt x="426" y="55"/>
                </a:cubicBezTo>
                <a:cubicBezTo>
                  <a:pt x="431" y="55"/>
                  <a:pt x="436" y="54"/>
                  <a:pt x="441" y="54"/>
                </a:cubicBezTo>
                <a:cubicBezTo>
                  <a:pt x="445" y="53"/>
                  <a:pt x="450" y="53"/>
                  <a:pt x="453" y="52"/>
                </a:cubicBezTo>
                <a:cubicBezTo>
                  <a:pt x="457" y="51"/>
                  <a:pt x="459" y="50"/>
                  <a:pt x="461" y="49"/>
                </a:cubicBezTo>
                <a:cubicBezTo>
                  <a:pt x="463" y="48"/>
                  <a:pt x="463" y="47"/>
                  <a:pt x="463" y="46"/>
                </a:cubicBezTo>
                <a:cubicBezTo>
                  <a:pt x="462" y="44"/>
                  <a:pt x="459" y="40"/>
                  <a:pt x="455" y="36"/>
                </a:cubicBezTo>
                <a:cubicBezTo>
                  <a:pt x="452" y="32"/>
                  <a:pt x="447" y="27"/>
                  <a:pt x="443" y="22"/>
                </a:cubicBezTo>
                <a:cubicBezTo>
                  <a:pt x="438" y="17"/>
                  <a:pt x="434" y="13"/>
                  <a:pt x="431" y="9"/>
                </a:cubicBezTo>
                <a:cubicBezTo>
                  <a:pt x="428" y="6"/>
                  <a:pt x="425" y="3"/>
                  <a:pt x="425" y="3"/>
                </a:cubicBezTo>
                <a:cubicBezTo>
                  <a:pt x="426" y="2"/>
                  <a:pt x="426" y="2"/>
                  <a:pt x="426" y="2"/>
                </a:cubicBezTo>
                <a:cubicBezTo>
                  <a:pt x="426" y="2"/>
                  <a:pt x="426" y="1"/>
                  <a:pt x="424" y="1"/>
                </a:cubicBezTo>
                <a:cubicBezTo>
                  <a:pt x="423" y="1"/>
                  <a:pt x="420" y="0"/>
                  <a:pt x="414" y="0"/>
                </a:cubicBezTo>
                <a:cubicBezTo>
                  <a:pt x="409" y="0"/>
                  <a:pt x="401" y="0"/>
                  <a:pt x="389" y="0"/>
                </a:cubicBezTo>
                <a:cubicBezTo>
                  <a:pt x="389" y="0"/>
                  <a:pt x="389" y="0"/>
                  <a:pt x="389" y="0"/>
                </a:cubicBezTo>
                <a:cubicBezTo>
                  <a:pt x="388" y="0"/>
                  <a:pt x="388" y="0"/>
                  <a:pt x="388" y="0"/>
                </a:cubicBezTo>
                <a:cubicBezTo>
                  <a:pt x="388" y="0"/>
                  <a:pt x="388" y="0"/>
                  <a:pt x="388" y="0"/>
                </a:cubicBezTo>
                <a:cubicBezTo>
                  <a:pt x="387" y="0"/>
                  <a:pt x="387" y="0"/>
                  <a:pt x="387" y="0"/>
                </a:cubicBezTo>
                <a:cubicBezTo>
                  <a:pt x="374" y="0"/>
                  <a:pt x="345" y="1"/>
                  <a:pt x="310" y="2"/>
                </a:cubicBezTo>
                <a:cubicBezTo>
                  <a:pt x="274" y="3"/>
                  <a:pt x="231" y="4"/>
                  <a:pt x="189" y="6"/>
                </a:cubicBezTo>
                <a:cubicBezTo>
                  <a:pt x="148" y="7"/>
                  <a:pt x="107" y="8"/>
                  <a:pt x="76" y="9"/>
                </a:cubicBezTo>
                <a:cubicBezTo>
                  <a:pt x="45" y="10"/>
                  <a:pt x="23" y="11"/>
                  <a:pt x="19" y="11"/>
                </a:cubicBezTo>
                <a:cubicBezTo>
                  <a:pt x="19" y="12"/>
                  <a:pt x="17" y="15"/>
                  <a:pt x="15" y="19"/>
                </a:cubicBezTo>
                <a:cubicBezTo>
                  <a:pt x="13" y="24"/>
                  <a:pt x="10" y="29"/>
                  <a:pt x="8" y="35"/>
                </a:cubicBezTo>
                <a:cubicBezTo>
                  <a:pt x="5" y="41"/>
                  <a:pt x="3" y="47"/>
                  <a:pt x="2" y="52"/>
                </a:cubicBezTo>
                <a:cubicBezTo>
                  <a:pt x="1" y="57"/>
                  <a:pt x="0" y="61"/>
                  <a:pt x="2" y="62"/>
                </a:cubicBezTo>
                <a:cubicBezTo>
                  <a:pt x="4" y="63"/>
                  <a:pt x="6" y="64"/>
                  <a:pt x="8" y="65"/>
                </a:cubicBezTo>
                <a:cubicBezTo>
                  <a:pt x="9" y="65"/>
                  <a:pt x="12" y="66"/>
                  <a:pt x="14" y="66"/>
                </a:cubicBezTo>
                <a:cubicBezTo>
                  <a:pt x="17" y="67"/>
                  <a:pt x="19" y="67"/>
                  <a:pt x="22" y="67"/>
                </a:cubicBezTo>
                <a:cubicBezTo>
                  <a:pt x="25" y="67"/>
                  <a:pt x="28" y="67"/>
                  <a:pt x="31" y="67"/>
                </a:cubicBezTo>
                <a:cubicBezTo>
                  <a:pt x="32" y="67"/>
                  <a:pt x="34" y="67"/>
                  <a:pt x="35" y="67"/>
                </a:cubicBezTo>
                <a:cubicBezTo>
                  <a:pt x="36" y="67"/>
                  <a:pt x="37" y="67"/>
                  <a:pt x="38" y="67"/>
                </a:cubicBezTo>
                <a:cubicBezTo>
                  <a:pt x="39" y="67"/>
                  <a:pt x="40" y="67"/>
                  <a:pt x="41" y="67"/>
                </a:cubicBezTo>
                <a:cubicBezTo>
                  <a:pt x="42" y="67"/>
                  <a:pt x="43" y="67"/>
                  <a:pt x="45" y="67"/>
                </a:cubicBezTo>
                <a:cubicBezTo>
                  <a:pt x="47" y="66"/>
                  <a:pt x="49" y="66"/>
                  <a:pt x="52" y="66"/>
                </a:cubicBezTo>
                <a:cubicBezTo>
                  <a:pt x="55" y="66"/>
                  <a:pt x="58" y="66"/>
                  <a:pt x="61" y="66"/>
                </a:cubicBezTo>
                <a:cubicBezTo>
                  <a:pt x="64" y="65"/>
                  <a:pt x="67" y="65"/>
                  <a:pt x="70" y="65"/>
                </a:cubicBezTo>
                <a:cubicBezTo>
                  <a:pt x="73" y="65"/>
                  <a:pt x="76" y="65"/>
                  <a:pt x="80" y="65"/>
                </a:cubicBezTo>
                <a:cubicBezTo>
                  <a:pt x="83" y="65"/>
                  <a:pt x="87" y="65"/>
                  <a:pt x="91" y="65"/>
                </a:cubicBezTo>
                <a:cubicBezTo>
                  <a:pt x="94" y="65"/>
                  <a:pt x="98" y="65"/>
                  <a:pt x="101" y="65"/>
                </a:cubicBezTo>
                <a:cubicBezTo>
                  <a:pt x="104" y="66"/>
                  <a:pt x="107" y="66"/>
                  <a:pt x="109" y="67"/>
                </a:cubicBezTo>
                <a:cubicBezTo>
                  <a:pt x="112" y="68"/>
                  <a:pt x="114" y="68"/>
                  <a:pt x="115" y="69"/>
                </a:cubicBezTo>
                <a:cubicBezTo>
                  <a:pt x="118" y="71"/>
                  <a:pt x="121" y="73"/>
                  <a:pt x="123" y="75"/>
                </a:cubicBezTo>
                <a:cubicBezTo>
                  <a:pt x="126" y="78"/>
                  <a:pt x="127" y="80"/>
                  <a:pt x="128" y="83"/>
                </a:cubicBezTo>
                <a:cubicBezTo>
                  <a:pt x="129" y="85"/>
                  <a:pt x="128" y="88"/>
                  <a:pt x="126" y="90"/>
                </a:cubicBezTo>
                <a:cubicBezTo>
                  <a:pt x="124" y="92"/>
                  <a:pt x="121" y="95"/>
                  <a:pt x="115" y="97"/>
                </a:cubicBezTo>
                <a:cubicBezTo>
                  <a:pt x="112" y="98"/>
                  <a:pt x="108" y="99"/>
                  <a:pt x="105" y="100"/>
                </a:cubicBezTo>
                <a:cubicBezTo>
                  <a:pt x="102" y="100"/>
                  <a:pt x="100" y="101"/>
                  <a:pt x="97" y="102"/>
                </a:cubicBezTo>
                <a:cubicBezTo>
                  <a:pt x="94" y="102"/>
                  <a:pt x="92" y="103"/>
                  <a:pt x="90" y="103"/>
                </a:cubicBezTo>
                <a:cubicBezTo>
                  <a:pt x="87" y="103"/>
                  <a:pt x="85" y="103"/>
                  <a:pt x="83" y="103"/>
                </a:cubicBezTo>
                <a:cubicBezTo>
                  <a:pt x="81" y="103"/>
                  <a:pt x="80" y="103"/>
                  <a:pt x="78" y="103"/>
                </a:cubicBezTo>
                <a:cubicBezTo>
                  <a:pt x="77" y="103"/>
                  <a:pt x="75" y="103"/>
                  <a:pt x="74" y="103"/>
                </a:cubicBezTo>
                <a:cubicBezTo>
                  <a:pt x="72" y="103"/>
                  <a:pt x="71" y="103"/>
                  <a:pt x="69" y="102"/>
                </a:cubicBezTo>
                <a:cubicBezTo>
                  <a:pt x="68" y="102"/>
                  <a:pt x="66" y="102"/>
                  <a:pt x="64" y="102"/>
                </a:cubicBezTo>
                <a:cubicBezTo>
                  <a:pt x="62" y="101"/>
                  <a:pt x="59" y="101"/>
                  <a:pt x="56" y="100"/>
                </a:cubicBezTo>
                <a:cubicBezTo>
                  <a:pt x="53" y="100"/>
                  <a:pt x="51" y="99"/>
                  <a:pt x="48" y="99"/>
                </a:cubicBezTo>
                <a:cubicBezTo>
                  <a:pt x="45" y="99"/>
                  <a:pt x="42" y="98"/>
                  <a:pt x="39" y="98"/>
                </a:cubicBezTo>
                <a:cubicBezTo>
                  <a:pt x="36" y="98"/>
                  <a:pt x="33" y="98"/>
                  <a:pt x="30" y="98"/>
                </a:cubicBezTo>
                <a:cubicBezTo>
                  <a:pt x="29" y="98"/>
                  <a:pt x="27" y="98"/>
                  <a:pt x="26" y="98"/>
                </a:cubicBezTo>
                <a:cubicBezTo>
                  <a:pt x="24" y="98"/>
                  <a:pt x="22" y="98"/>
                  <a:pt x="21" y="99"/>
                </a:cubicBezTo>
                <a:cubicBezTo>
                  <a:pt x="19" y="99"/>
                  <a:pt x="18" y="99"/>
                  <a:pt x="17" y="100"/>
                </a:cubicBezTo>
                <a:cubicBezTo>
                  <a:pt x="15" y="100"/>
                  <a:pt x="14" y="100"/>
                  <a:pt x="13" y="101"/>
                </a:cubicBezTo>
                <a:cubicBezTo>
                  <a:pt x="9" y="102"/>
                  <a:pt x="7" y="104"/>
                  <a:pt x="6" y="105"/>
                </a:cubicBezTo>
                <a:cubicBezTo>
                  <a:pt x="4" y="107"/>
                  <a:pt x="4" y="109"/>
                  <a:pt x="4" y="111"/>
                </a:cubicBezTo>
                <a:cubicBezTo>
                  <a:pt x="4" y="113"/>
                  <a:pt x="5" y="115"/>
                  <a:pt x="6" y="117"/>
                </a:cubicBezTo>
                <a:cubicBezTo>
                  <a:pt x="7" y="120"/>
                  <a:pt x="8" y="122"/>
                  <a:pt x="9" y="125"/>
                </a:cubicBezTo>
                <a:cubicBezTo>
                  <a:pt x="11" y="128"/>
                  <a:pt x="12" y="131"/>
                  <a:pt x="14" y="134"/>
                </a:cubicBezTo>
                <a:cubicBezTo>
                  <a:pt x="16" y="136"/>
                  <a:pt x="18" y="138"/>
                  <a:pt x="19" y="140"/>
                </a:cubicBezTo>
                <a:cubicBezTo>
                  <a:pt x="21" y="142"/>
                  <a:pt x="22" y="144"/>
                  <a:pt x="23" y="145"/>
                </a:cubicBezTo>
                <a:cubicBezTo>
                  <a:pt x="24" y="146"/>
                  <a:pt x="25" y="146"/>
                  <a:pt x="25" y="146"/>
                </a:cubicBezTo>
                <a:cubicBezTo>
                  <a:pt x="25" y="147"/>
                  <a:pt x="25" y="147"/>
                  <a:pt x="26" y="147"/>
                </a:cubicBezTo>
                <a:cubicBezTo>
                  <a:pt x="26" y="148"/>
                  <a:pt x="27" y="148"/>
                  <a:pt x="29" y="149"/>
                </a:cubicBezTo>
                <a:cubicBezTo>
                  <a:pt x="31" y="149"/>
                  <a:pt x="34" y="150"/>
                  <a:pt x="39" y="150"/>
                </a:cubicBezTo>
                <a:cubicBezTo>
                  <a:pt x="43" y="150"/>
                  <a:pt x="49" y="151"/>
                  <a:pt x="56" y="150"/>
                </a:cubicBezTo>
                <a:cubicBezTo>
                  <a:pt x="60" y="150"/>
                  <a:pt x="64" y="150"/>
                  <a:pt x="69" y="150"/>
                </a:cubicBezTo>
                <a:cubicBezTo>
                  <a:pt x="75" y="150"/>
                  <a:pt x="80" y="150"/>
                  <a:pt x="87" y="150"/>
                </a:cubicBezTo>
                <a:cubicBezTo>
                  <a:pt x="93" y="149"/>
                  <a:pt x="100" y="149"/>
                  <a:pt x="106" y="149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18"/>
          <p:cNvSpPr/>
          <p:nvPr/>
        </p:nvSpPr>
        <p:spPr>
          <a:xfrm>
            <a:off x="4465800" y="2517840"/>
            <a:ext cx="1414440" cy="353880"/>
          </a:xfrm>
          <a:custGeom>
            <a:avLst/>
            <a:gdLst/>
            <a:ahLst/>
            <a:rect l="l" t="t" r="r" b="b"/>
            <a:pathLst>
              <a:path w="779" h="196">
                <a:moveTo>
                  <a:pt x="765" y="68"/>
                </a:moveTo>
                <a:cubicBezTo>
                  <a:pt x="760" y="65"/>
                  <a:pt x="754" y="62"/>
                  <a:pt x="747" y="60"/>
                </a:cubicBezTo>
                <a:cubicBezTo>
                  <a:pt x="745" y="59"/>
                  <a:pt x="743" y="59"/>
                  <a:pt x="741" y="58"/>
                </a:cubicBezTo>
                <a:cubicBezTo>
                  <a:pt x="739" y="58"/>
                  <a:pt x="737" y="57"/>
                  <a:pt x="735" y="57"/>
                </a:cubicBezTo>
                <a:cubicBezTo>
                  <a:pt x="732" y="57"/>
                  <a:pt x="730" y="57"/>
                  <a:pt x="728" y="56"/>
                </a:cubicBezTo>
                <a:cubicBezTo>
                  <a:pt x="726" y="56"/>
                  <a:pt x="723" y="56"/>
                  <a:pt x="721" y="56"/>
                </a:cubicBezTo>
                <a:cubicBezTo>
                  <a:pt x="715" y="56"/>
                  <a:pt x="709" y="57"/>
                  <a:pt x="703" y="58"/>
                </a:cubicBezTo>
                <a:cubicBezTo>
                  <a:pt x="697" y="58"/>
                  <a:pt x="691" y="59"/>
                  <a:pt x="685" y="60"/>
                </a:cubicBezTo>
                <a:cubicBezTo>
                  <a:pt x="679" y="61"/>
                  <a:pt x="674" y="62"/>
                  <a:pt x="669" y="63"/>
                </a:cubicBezTo>
                <a:cubicBezTo>
                  <a:pt x="664" y="64"/>
                  <a:pt x="659" y="65"/>
                  <a:pt x="656" y="66"/>
                </a:cubicBezTo>
                <a:cubicBezTo>
                  <a:pt x="655" y="66"/>
                  <a:pt x="654" y="66"/>
                  <a:pt x="654" y="67"/>
                </a:cubicBezTo>
                <a:cubicBezTo>
                  <a:pt x="653" y="67"/>
                  <a:pt x="653" y="67"/>
                  <a:pt x="652" y="67"/>
                </a:cubicBezTo>
                <a:cubicBezTo>
                  <a:pt x="652" y="67"/>
                  <a:pt x="651" y="67"/>
                  <a:pt x="650" y="67"/>
                </a:cubicBezTo>
                <a:cubicBezTo>
                  <a:pt x="650" y="67"/>
                  <a:pt x="649" y="67"/>
                  <a:pt x="649" y="67"/>
                </a:cubicBezTo>
                <a:cubicBezTo>
                  <a:pt x="645" y="67"/>
                  <a:pt x="642" y="66"/>
                  <a:pt x="639" y="65"/>
                </a:cubicBezTo>
                <a:cubicBezTo>
                  <a:pt x="637" y="64"/>
                  <a:pt x="635" y="63"/>
                  <a:pt x="633" y="61"/>
                </a:cubicBezTo>
                <a:cubicBezTo>
                  <a:pt x="632" y="60"/>
                  <a:pt x="631" y="59"/>
                  <a:pt x="630" y="58"/>
                </a:cubicBezTo>
                <a:cubicBezTo>
                  <a:pt x="629" y="56"/>
                  <a:pt x="629" y="56"/>
                  <a:pt x="629" y="55"/>
                </a:cubicBezTo>
                <a:cubicBezTo>
                  <a:pt x="648" y="4"/>
                  <a:pt x="648" y="4"/>
                  <a:pt x="648" y="4"/>
                </a:cubicBezTo>
                <a:cubicBezTo>
                  <a:pt x="646" y="4"/>
                  <a:pt x="639" y="4"/>
                  <a:pt x="627" y="4"/>
                </a:cubicBezTo>
                <a:cubicBezTo>
                  <a:pt x="615" y="4"/>
                  <a:pt x="600" y="3"/>
                  <a:pt x="583" y="3"/>
                </a:cubicBezTo>
                <a:cubicBezTo>
                  <a:pt x="567" y="3"/>
                  <a:pt x="548" y="3"/>
                  <a:pt x="531" y="3"/>
                </a:cubicBezTo>
                <a:cubicBezTo>
                  <a:pt x="514" y="2"/>
                  <a:pt x="498" y="2"/>
                  <a:pt x="485" y="3"/>
                </a:cubicBezTo>
                <a:cubicBezTo>
                  <a:pt x="483" y="3"/>
                  <a:pt x="482" y="3"/>
                  <a:pt x="480" y="3"/>
                </a:cubicBezTo>
                <a:cubicBezTo>
                  <a:pt x="479" y="3"/>
                  <a:pt x="478" y="3"/>
                  <a:pt x="476" y="3"/>
                </a:cubicBezTo>
                <a:cubicBezTo>
                  <a:pt x="475" y="3"/>
                  <a:pt x="474" y="3"/>
                  <a:pt x="472" y="3"/>
                </a:cubicBezTo>
                <a:cubicBezTo>
                  <a:pt x="471" y="3"/>
                  <a:pt x="470" y="3"/>
                  <a:pt x="469" y="3"/>
                </a:cubicBezTo>
                <a:cubicBezTo>
                  <a:pt x="459" y="3"/>
                  <a:pt x="453" y="5"/>
                  <a:pt x="450" y="8"/>
                </a:cubicBezTo>
                <a:cubicBezTo>
                  <a:pt x="446" y="11"/>
                  <a:pt x="445" y="15"/>
                  <a:pt x="445" y="19"/>
                </a:cubicBezTo>
                <a:cubicBezTo>
                  <a:pt x="445" y="23"/>
                  <a:pt x="446" y="27"/>
                  <a:pt x="447" y="31"/>
                </a:cubicBezTo>
                <a:cubicBezTo>
                  <a:pt x="448" y="35"/>
                  <a:pt x="449" y="39"/>
                  <a:pt x="448" y="42"/>
                </a:cubicBezTo>
                <a:cubicBezTo>
                  <a:pt x="447" y="44"/>
                  <a:pt x="446" y="45"/>
                  <a:pt x="443" y="46"/>
                </a:cubicBezTo>
                <a:cubicBezTo>
                  <a:pt x="440" y="48"/>
                  <a:pt x="437" y="49"/>
                  <a:pt x="432" y="49"/>
                </a:cubicBezTo>
                <a:cubicBezTo>
                  <a:pt x="428" y="50"/>
                  <a:pt x="422" y="51"/>
                  <a:pt x="416" y="52"/>
                </a:cubicBezTo>
                <a:cubicBezTo>
                  <a:pt x="410" y="52"/>
                  <a:pt x="404" y="52"/>
                  <a:pt x="397" y="52"/>
                </a:cubicBezTo>
                <a:cubicBezTo>
                  <a:pt x="393" y="52"/>
                  <a:pt x="388" y="52"/>
                  <a:pt x="383" y="52"/>
                </a:cubicBezTo>
                <a:cubicBezTo>
                  <a:pt x="378" y="52"/>
                  <a:pt x="374" y="52"/>
                  <a:pt x="369" y="52"/>
                </a:cubicBezTo>
                <a:cubicBezTo>
                  <a:pt x="364" y="51"/>
                  <a:pt x="359" y="51"/>
                  <a:pt x="354" y="51"/>
                </a:cubicBezTo>
                <a:cubicBezTo>
                  <a:pt x="350" y="50"/>
                  <a:pt x="345" y="49"/>
                  <a:pt x="340" y="49"/>
                </a:cubicBezTo>
                <a:cubicBezTo>
                  <a:pt x="329" y="47"/>
                  <a:pt x="324" y="45"/>
                  <a:pt x="323" y="41"/>
                </a:cubicBezTo>
                <a:cubicBezTo>
                  <a:pt x="322" y="38"/>
                  <a:pt x="324" y="35"/>
                  <a:pt x="328" y="31"/>
                </a:cubicBezTo>
                <a:cubicBezTo>
                  <a:pt x="333" y="27"/>
                  <a:pt x="339" y="23"/>
                  <a:pt x="344" y="20"/>
                </a:cubicBezTo>
                <a:cubicBezTo>
                  <a:pt x="350" y="17"/>
                  <a:pt x="355" y="14"/>
                  <a:pt x="358" y="11"/>
                </a:cubicBezTo>
                <a:cubicBezTo>
                  <a:pt x="360" y="9"/>
                  <a:pt x="359" y="7"/>
                  <a:pt x="356" y="5"/>
                </a:cubicBezTo>
                <a:cubicBezTo>
                  <a:pt x="352" y="4"/>
                  <a:pt x="347" y="3"/>
                  <a:pt x="341" y="2"/>
                </a:cubicBezTo>
                <a:cubicBezTo>
                  <a:pt x="335" y="1"/>
                  <a:pt x="328" y="1"/>
                  <a:pt x="323" y="0"/>
                </a:cubicBezTo>
                <a:cubicBezTo>
                  <a:pt x="318" y="0"/>
                  <a:pt x="315" y="0"/>
                  <a:pt x="314" y="0"/>
                </a:cubicBezTo>
                <a:cubicBezTo>
                  <a:pt x="313" y="0"/>
                  <a:pt x="307" y="0"/>
                  <a:pt x="297" y="0"/>
                </a:cubicBezTo>
                <a:cubicBezTo>
                  <a:pt x="288" y="0"/>
                  <a:pt x="276" y="0"/>
                  <a:pt x="263" y="0"/>
                </a:cubicBezTo>
                <a:cubicBezTo>
                  <a:pt x="250" y="0"/>
                  <a:pt x="236" y="0"/>
                  <a:pt x="223" y="0"/>
                </a:cubicBezTo>
                <a:cubicBezTo>
                  <a:pt x="210" y="0"/>
                  <a:pt x="199" y="0"/>
                  <a:pt x="190" y="0"/>
                </a:cubicBezTo>
                <a:cubicBezTo>
                  <a:pt x="183" y="0"/>
                  <a:pt x="177" y="1"/>
                  <a:pt x="173" y="2"/>
                </a:cubicBezTo>
                <a:cubicBezTo>
                  <a:pt x="169" y="3"/>
                  <a:pt x="167" y="5"/>
                  <a:pt x="165" y="7"/>
                </a:cubicBezTo>
                <a:cubicBezTo>
                  <a:pt x="164" y="9"/>
                  <a:pt x="163" y="10"/>
                  <a:pt x="163" y="12"/>
                </a:cubicBezTo>
                <a:cubicBezTo>
                  <a:pt x="162" y="13"/>
                  <a:pt x="162" y="14"/>
                  <a:pt x="163" y="14"/>
                </a:cubicBezTo>
                <a:cubicBezTo>
                  <a:pt x="163" y="15"/>
                  <a:pt x="163" y="17"/>
                  <a:pt x="164" y="21"/>
                </a:cubicBezTo>
                <a:cubicBezTo>
                  <a:pt x="165" y="24"/>
                  <a:pt x="166" y="29"/>
                  <a:pt x="168" y="34"/>
                </a:cubicBezTo>
                <a:cubicBezTo>
                  <a:pt x="169" y="39"/>
                  <a:pt x="170" y="45"/>
                  <a:pt x="172" y="50"/>
                </a:cubicBezTo>
                <a:cubicBezTo>
                  <a:pt x="173" y="55"/>
                  <a:pt x="175" y="59"/>
                  <a:pt x="176" y="62"/>
                </a:cubicBezTo>
                <a:cubicBezTo>
                  <a:pt x="177" y="64"/>
                  <a:pt x="176" y="66"/>
                  <a:pt x="174" y="67"/>
                </a:cubicBezTo>
                <a:cubicBezTo>
                  <a:pt x="172" y="69"/>
                  <a:pt x="169" y="70"/>
                  <a:pt x="166" y="71"/>
                </a:cubicBezTo>
                <a:cubicBezTo>
                  <a:pt x="162" y="73"/>
                  <a:pt x="158" y="73"/>
                  <a:pt x="153" y="74"/>
                </a:cubicBezTo>
                <a:cubicBezTo>
                  <a:pt x="148" y="75"/>
                  <a:pt x="144" y="75"/>
                  <a:pt x="139" y="75"/>
                </a:cubicBezTo>
                <a:cubicBezTo>
                  <a:pt x="138" y="75"/>
                  <a:pt x="136" y="75"/>
                  <a:pt x="134" y="75"/>
                </a:cubicBezTo>
                <a:cubicBezTo>
                  <a:pt x="133" y="75"/>
                  <a:pt x="131" y="75"/>
                  <a:pt x="130" y="75"/>
                </a:cubicBezTo>
                <a:cubicBezTo>
                  <a:pt x="129" y="75"/>
                  <a:pt x="127" y="74"/>
                  <a:pt x="126" y="74"/>
                </a:cubicBezTo>
                <a:cubicBezTo>
                  <a:pt x="125" y="74"/>
                  <a:pt x="124" y="74"/>
                  <a:pt x="123" y="73"/>
                </a:cubicBezTo>
                <a:cubicBezTo>
                  <a:pt x="121" y="73"/>
                  <a:pt x="119" y="72"/>
                  <a:pt x="116" y="72"/>
                </a:cubicBezTo>
                <a:cubicBezTo>
                  <a:pt x="113" y="72"/>
                  <a:pt x="110" y="71"/>
                  <a:pt x="107" y="71"/>
                </a:cubicBezTo>
                <a:cubicBezTo>
                  <a:pt x="104" y="71"/>
                  <a:pt x="100" y="71"/>
                  <a:pt x="97" y="71"/>
                </a:cubicBezTo>
                <a:cubicBezTo>
                  <a:pt x="93" y="71"/>
                  <a:pt x="89" y="70"/>
                  <a:pt x="85" y="71"/>
                </a:cubicBezTo>
                <a:cubicBezTo>
                  <a:pt x="80" y="71"/>
                  <a:pt x="75" y="71"/>
                  <a:pt x="71" y="71"/>
                </a:cubicBezTo>
                <a:cubicBezTo>
                  <a:pt x="66" y="71"/>
                  <a:pt x="61" y="72"/>
                  <a:pt x="56" y="72"/>
                </a:cubicBezTo>
                <a:cubicBezTo>
                  <a:pt x="51" y="73"/>
                  <a:pt x="46" y="74"/>
                  <a:pt x="42" y="74"/>
                </a:cubicBezTo>
                <a:cubicBezTo>
                  <a:pt x="37" y="75"/>
                  <a:pt x="33" y="76"/>
                  <a:pt x="29" y="77"/>
                </a:cubicBezTo>
                <a:cubicBezTo>
                  <a:pt x="22" y="79"/>
                  <a:pt x="16" y="82"/>
                  <a:pt x="11" y="84"/>
                </a:cubicBezTo>
                <a:cubicBezTo>
                  <a:pt x="7" y="87"/>
                  <a:pt x="4" y="90"/>
                  <a:pt x="2" y="93"/>
                </a:cubicBezTo>
                <a:cubicBezTo>
                  <a:pt x="0" y="96"/>
                  <a:pt x="0" y="98"/>
                  <a:pt x="0" y="101"/>
                </a:cubicBezTo>
                <a:cubicBezTo>
                  <a:pt x="0" y="104"/>
                  <a:pt x="1" y="107"/>
                  <a:pt x="3" y="109"/>
                </a:cubicBezTo>
                <a:cubicBezTo>
                  <a:pt x="5" y="111"/>
                  <a:pt x="8" y="112"/>
                  <a:pt x="11" y="114"/>
                </a:cubicBezTo>
                <a:cubicBezTo>
                  <a:pt x="14" y="115"/>
                  <a:pt x="19" y="117"/>
                  <a:pt x="24" y="118"/>
                </a:cubicBezTo>
                <a:cubicBezTo>
                  <a:pt x="29" y="119"/>
                  <a:pt x="35" y="120"/>
                  <a:pt x="41" y="120"/>
                </a:cubicBezTo>
                <a:cubicBezTo>
                  <a:pt x="48" y="121"/>
                  <a:pt x="55" y="121"/>
                  <a:pt x="63" y="121"/>
                </a:cubicBezTo>
                <a:cubicBezTo>
                  <a:pt x="66" y="121"/>
                  <a:pt x="69" y="121"/>
                  <a:pt x="72" y="121"/>
                </a:cubicBezTo>
                <a:cubicBezTo>
                  <a:pt x="75" y="121"/>
                  <a:pt x="78" y="120"/>
                  <a:pt x="81" y="120"/>
                </a:cubicBezTo>
                <a:cubicBezTo>
                  <a:pt x="84" y="120"/>
                  <a:pt x="87" y="120"/>
                  <a:pt x="91" y="119"/>
                </a:cubicBezTo>
                <a:cubicBezTo>
                  <a:pt x="94" y="119"/>
                  <a:pt x="97" y="118"/>
                  <a:pt x="100" y="118"/>
                </a:cubicBezTo>
                <a:cubicBezTo>
                  <a:pt x="104" y="117"/>
                  <a:pt x="107" y="117"/>
                  <a:pt x="110" y="116"/>
                </a:cubicBezTo>
                <a:cubicBezTo>
                  <a:pt x="114" y="116"/>
                  <a:pt x="117" y="116"/>
                  <a:pt x="119" y="115"/>
                </a:cubicBezTo>
                <a:cubicBezTo>
                  <a:pt x="122" y="115"/>
                  <a:pt x="124" y="115"/>
                  <a:pt x="127" y="115"/>
                </a:cubicBezTo>
                <a:cubicBezTo>
                  <a:pt x="129" y="115"/>
                  <a:pt x="131" y="115"/>
                  <a:pt x="133" y="114"/>
                </a:cubicBezTo>
                <a:cubicBezTo>
                  <a:pt x="138" y="114"/>
                  <a:pt x="142" y="115"/>
                  <a:pt x="145" y="115"/>
                </a:cubicBezTo>
                <a:cubicBezTo>
                  <a:pt x="148" y="116"/>
                  <a:pt x="150" y="116"/>
                  <a:pt x="153" y="117"/>
                </a:cubicBezTo>
                <a:cubicBezTo>
                  <a:pt x="155" y="118"/>
                  <a:pt x="157" y="119"/>
                  <a:pt x="159" y="120"/>
                </a:cubicBezTo>
                <a:cubicBezTo>
                  <a:pt x="160" y="121"/>
                  <a:pt x="162" y="122"/>
                  <a:pt x="164" y="123"/>
                </a:cubicBezTo>
                <a:cubicBezTo>
                  <a:pt x="167" y="124"/>
                  <a:pt x="166" y="129"/>
                  <a:pt x="163" y="136"/>
                </a:cubicBezTo>
                <a:cubicBezTo>
                  <a:pt x="160" y="142"/>
                  <a:pt x="155" y="151"/>
                  <a:pt x="149" y="159"/>
                </a:cubicBezTo>
                <a:cubicBezTo>
                  <a:pt x="143" y="168"/>
                  <a:pt x="136" y="176"/>
                  <a:pt x="131" y="183"/>
                </a:cubicBezTo>
                <a:cubicBezTo>
                  <a:pt x="126" y="190"/>
                  <a:pt x="122" y="195"/>
                  <a:pt x="121" y="196"/>
                </a:cubicBezTo>
                <a:cubicBezTo>
                  <a:pt x="310" y="195"/>
                  <a:pt x="310" y="195"/>
                  <a:pt x="310" y="195"/>
                </a:cubicBezTo>
                <a:cubicBezTo>
                  <a:pt x="313" y="195"/>
                  <a:pt x="327" y="195"/>
                  <a:pt x="347" y="195"/>
                </a:cubicBezTo>
                <a:cubicBezTo>
                  <a:pt x="367" y="195"/>
                  <a:pt x="394" y="194"/>
                  <a:pt x="422" y="194"/>
                </a:cubicBezTo>
                <a:cubicBezTo>
                  <a:pt x="451" y="194"/>
                  <a:pt x="481" y="193"/>
                  <a:pt x="508" y="193"/>
                </a:cubicBezTo>
                <a:cubicBezTo>
                  <a:pt x="536" y="193"/>
                  <a:pt x="560" y="192"/>
                  <a:pt x="577" y="192"/>
                </a:cubicBezTo>
                <a:cubicBezTo>
                  <a:pt x="578" y="192"/>
                  <a:pt x="579" y="192"/>
                  <a:pt x="580" y="192"/>
                </a:cubicBezTo>
                <a:cubicBezTo>
                  <a:pt x="580" y="192"/>
                  <a:pt x="581" y="192"/>
                  <a:pt x="582" y="192"/>
                </a:cubicBezTo>
                <a:cubicBezTo>
                  <a:pt x="583" y="192"/>
                  <a:pt x="583" y="192"/>
                  <a:pt x="584" y="192"/>
                </a:cubicBezTo>
                <a:cubicBezTo>
                  <a:pt x="585" y="192"/>
                  <a:pt x="585" y="192"/>
                  <a:pt x="586" y="192"/>
                </a:cubicBezTo>
                <a:cubicBezTo>
                  <a:pt x="601" y="192"/>
                  <a:pt x="612" y="192"/>
                  <a:pt x="620" y="191"/>
                </a:cubicBezTo>
                <a:cubicBezTo>
                  <a:pt x="628" y="191"/>
                  <a:pt x="634" y="190"/>
                  <a:pt x="638" y="189"/>
                </a:cubicBezTo>
                <a:cubicBezTo>
                  <a:pt x="642" y="188"/>
                  <a:pt x="644" y="187"/>
                  <a:pt x="646" y="186"/>
                </a:cubicBezTo>
                <a:cubicBezTo>
                  <a:pt x="648" y="186"/>
                  <a:pt x="650" y="185"/>
                  <a:pt x="652" y="184"/>
                </a:cubicBezTo>
                <a:cubicBezTo>
                  <a:pt x="654" y="183"/>
                  <a:pt x="654" y="180"/>
                  <a:pt x="653" y="175"/>
                </a:cubicBezTo>
                <a:cubicBezTo>
                  <a:pt x="651" y="170"/>
                  <a:pt x="649" y="164"/>
                  <a:pt x="646" y="158"/>
                </a:cubicBezTo>
                <a:cubicBezTo>
                  <a:pt x="642" y="151"/>
                  <a:pt x="639" y="144"/>
                  <a:pt x="636" y="139"/>
                </a:cubicBezTo>
                <a:cubicBezTo>
                  <a:pt x="633" y="133"/>
                  <a:pt x="630" y="127"/>
                  <a:pt x="629" y="124"/>
                </a:cubicBezTo>
                <a:cubicBezTo>
                  <a:pt x="628" y="121"/>
                  <a:pt x="629" y="119"/>
                  <a:pt x="630" y="117"/>
                </a:cubicBezTo>
                <a:cubicBezTo>
                  <a:pt x="631" y="115"/>
                  <a:pt x="634" y="113"/>
                  <a:pt x="637" y="112"/>
                </a:cubicBezTo>
                <a:cubicBezTo>
                  <a:pt x="640" y="111"/>
                  <a:pt x="643" y="110"/>
                  <a:pt x="647" y="109"/>
                </a:cubicBezTo>
                <a:cubicBezTo>
                  <a:pt x="652" y="109"/>
                  <a:pt x="656" y="108"/>
                  <a:pt x="661" y="108"/>
                </a:cubicBezTo>
                <a:cubicBezTo>
                  <a:pt x="662" y="108"/>
                  <a:pt x="663" y="108"/>
                  <a:pt x="664" y="108"/>
                </a:cubicBezTo>
                <a:cubicBezTo>
                  <a:pt x="665" y="108"/>
                  <a:pt x="666" y="108"/>
                  <a:pt x="667" y="108"/>
                </a:cubicBezTo>
                <a:cubicBezTo>
                  <a:pt x="668" y="108"/>
                  <a:pt x="669" y="108"/>
                  <a:pt x="670" y="109"/>
                </a:cubicBezTo>
                <a:cubicBezTo>
                  <a:pt x="671" y="109"/>
                  <a:pt x="672" y="109"/>
                  <a:pt x="673" y="109"/>
                </a:cubicBezTo>
                <a:cubicBezTo>
                  <a:pt x="675" y="109"/>
                  <a:pt x="678" y="109"/>
                  <a:pt x="680" y="109"/>
                </a:cubicBezTo>
                <a:cubicBezTo>
                  <a:pt x="682" y="109"/>
                  <a:pt x="684" y="109"/>
                  <a:pt x="686" y="110"/>
                </a:cubicBezTo>
                <a:cubicBezTo>
                  <a:pt x="688" y="110"/>
                  <a:pt x="690" y="110"/>
                  <a:pt x="693" y="110"/>
                </a:cubicBezTo>
                <a:cubicBezTo>
                  <a:pt x="695" y="110"/>
                  <a:pt x="697" y="110"/>
                  <a:pt x="700" y="110"/>
                </a:cubicBezTo>
                <a:cubicBezTo>
                  <a:pt x="703" y="110"/>
                  <a:pt x="707" y="110"/>
                  <a:pt x="711" y="109"/>
                </a:cubicBezTo>
                <a:cubicBezTo>
                  <a:pt x="715" y="109"/>
                  <a:pt x="719" y="108"/>
                  <a:pt x="724" y="108"/>
                </a:cubicBezTo>
                <a:cubicBezTo>
                  <a:pt x="728" y="107"/>
                  <a:pt x="733" y="106"/>
                  <a:pt x="739" y="105"/>
                </a:cubicBezTo>
                <a:cubicBezTo>
                  <a:pt x="744" y="103"/>
                  <a:pt x="750" y="102"/>
                  <a:pt x="756" y="100"/>
                </a:cubicBezTo>
                <a:cubicBezTo>
                  <a:pt x="766" y="97"/>
                  <a:pt x="772" y="94"/>
                  <a:pt x="775" y="90"/>
                </a:cubicBezTo>
                <a:cubicBezTo>
                  <a:pt x="778" y="86"/>
                  <a:pt x="779" y="82"/>
                  <a:pt x="776" y="79"/>
                </a:cubicBezTo>
                <a:cubicBezTo>
                  <a:pt x="774" y="75"/>
                  <a:pt x="770" y="71"/>
                  <a:pt x="765" y="68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19"/>
          <p:cNvSpPr/>
          <p:nvPr/>
        </p:nvSpPr>
        <p:spPr>
          <a:xfrm>
            <a:off x="6157800" y="3546360"/>
            <a:ext cx="2140200" cy="809640"/>
          </a:xfrm>
          <a:custGeom>
            <a:avLst/>
            <a:gdLst/>
            <a:ahLst/>
            <a:rect l="l" t="t" r="r" b="b"/>
            <a:pathLst>
              <a:path w="1178" h="445">
                <a:moveTo>
                  <a:pt x="1170" y="193"/>
                </a:moveTo>
                <a:cubicBezTo>
                  <a:pt x="1166" y="187"/>
                  <a:pt x="1161" y="180"/>
                  <a:pt x="1153" y="175"/>
                </a:cubicBezTo>
                <a:cubicBezTo>
                  <a:pt x="1145" y="169"/>
                  <a:pt x="1135" y="164"/>
                  <a:pt x="1124" y="160"/>
                </a:cubicBezTo>
                <a:cubicBezTo>
                  <a:pt x="1117" y="158"/>
                  <a:pt x="1110" y="156"/>
                  <a:pt x="1103" y="154"/>
                </a:cubicBezTo>
                <a:cubicBezTo>
                  <a:pt x="1096" y="152"/>
                  <a:pt x="1088" y="151"/>
                  <a:pt x="1081" y="150"/>
                </a:cubicBezTo>
                <a:cubicBezTo>
                  <a:pt x="1073" y="149"/>
                  <a:pt x="1066" y="148"/>
                  <a:pt x="1058" y="148"/>
                </a:cubicBezTo>
                <a:cubicBezTo>
                  <a:pt x="1051" y="147"/>
                  <a:pt x="1043" y="147"/>
                  <a:pt x="1036" y="147"/>
                </a:cubicBezTo>
                <a:cubicBezTo>
                  <a:pt x="1030" y="147"/>
                  <a:pt x="1024" y="148"/>
                  <a:pt x="1018" y="148"/>
                </a:cubicBezTo>
                <a:cubicBezTo>
                  <a:pt x="1013" y="148"/>
                  <a:pt x="1008" y="149"/>
                  <a:pt x="1003" y="150"/>
                </a:cubicBezTo>
                <a:cubicBezTo>
                  <a:pt x="998" y="150"/>
                  <a:pt x="994" y="151"/>
                  <a:pt x="990" y="152"/>
                </a:cubicBezTo>
                <a:cubicBezTo>
                  <a:pt x="986" y="153"/>
                  <a:pt x="983" y="154"/>
                  <a:pt x="980" y="155"/>
                </a:cubicBezTo>
                <a:cubicBezTo>
                  <a:pt x="979" y="156"/>
                  <a:pt x="977" y="157"/>
                  <a:pt x="975" y="157"/>
                </a:cubicBezTo>
                <a:cubicBezTo>
                  <a:pt x="974" y="158"/>
                  <a:pt x="972" y="158"/>
                  <a:pt x="970" y="158"/>
                </a:cubicBezTo>
                <a:cubicBezTo>
                  <a:pt x="968" y="159"/>
                  <a:pt x="965" y="159"/>
                  <a:pt x="963" y="159"/>
                </a:cubicBezTo>
                <a:cubicBezTo>
                  <a:pt x="961" y="159"/>
                  <a:pt x="958" y="159"/>
                  <a:pt x="956" y="159"/>
                </a:cubicBezTo>
                <a:cubicBezTo>
                  <a:pt x="949" y="160"/>
                  <a:pt x="942" y="159"/>
                  <a:pt x="934" y="158"/>
                </a:cubicBezTo>
                <a:cubicBezTo>
                  <a:pt x="927" y="157"/>
                  <a:pt x="920" y="155"/>
                  <a:pt x="915" y="152"/>
                </a:cubicBezTo>
                <a:cubicBezTo>
                  <a:pt x="909" y="150"/>
                  <a:pt x="904" y="147"/>
                  <a:pt x="900" y="144"/>
                </a:cubicBezTo>
                <a:cubicBezTo>
                  <a:pt x="897" y="140"/>
                  <a:pt x="896" y="136"/>
                  <a:pt x="896" y="132"/>
                </a:cubicBezTo>
                <a:cubicBezTo>
                  <a:pt x="897" y="126"/>
                  <a:pt x="898" y="116"/>
                  <a:pt x="899" y="106"/>
                </a:cubicBezTo>
                <a:cubicBezTo>
                  <a:pt x="900" y="95"/>
                  <a:pt x="900" y="83"/>
                  <a:pt x="901" y="72"/>
                </a:cubicBezTo>
                <a:cubicBezTo>
                  <a:pt x="901" y="61"/>
                  <a:pt x="902" y="51"/>
                  <a:pt x="902" y="43"/>
                </a:cubicBezTo>
                <a:cubicBezTo>
                  <a:pt x="902" y="36"/>
                  <a:pt x="902" y="31"/>
                  <a:pt x="902" y="30"/>
                </a:cubicBezTo>
                <a:cubicBezTo>
                  <a:pt x="902" y="29"/>
                  <a:pt x="902" y="27"/>
                  <a:pt x="901" y="24"/>
                </a:cubicBezTo>
                <a:cubicBezTo>
                  <a:pt x="901" y="21"/>
                  <a:pt x="899" y="18"/>
                  <a:pt x="896" y="14"/>
                </a:cubicBezTo>
                <a:cubicBezTo>
                  <a:pt x="893" y="11"/>
                  <a:pt x="888" y="7"/>
                  <a:pt x="882" y="4"/>
                </a:cubicBezTo>
                <a:cubicBezTo>
                  <a:pt x="875" y="2"/>
                  <a:pt x="867" y="0"/>
                  <a:pt x="855" y="0"/>
                </a:cubicBezTo>
                <a:cubicBezTo>
                  <a:pt x="843" y="1"/>
                  <a:pt x="827" y="1"/>
                  <a:pt x="808" y="2"/>
                </a:cubicBezTo>
                <a:cubicBezTo>
                  <a:pt x="790" y="2"/>
                  <a:pt x="770" y="3"/>
                  <a:pt x="751" y="3"/>
                </a:cubicBezTo>
                <a:cubicBezTo>
                  <a:pt x="731" y="4"/>
                  <a:pt x="714" y="5"/>
                  <a:pt x="700" y="5"/>
                </a:cubicBezTo>
                <a:cubicBezTo>
                  <a:pt x="687" y="5"/>
                  <a:pt x="677" y="6"/>
                  <a:pt x="676" y="6"/>
                </a:cubicBezTo>
                <a:cubicBezTo>
                  <a:pt x="675" y="6"/>
                  <a:pt x="669" y="6"/>
                  <a:pt x="662" y="7"/>
                </a:cubicBezTo>
                <a:cubicBezTo>
                  <a:pt x="655" y="8"/>
                  <a:pt x="645" y="10"/>
                  <a:pt x="637" y="12"/>
                </a:cubicBezTo>
                <a:cubicBezTo>
                  <a:pt x="628" y="14"/>
                  <a:pt x="620" y="16"/>
                  <a:pt x="616" y="19"/>
                </a:cubicBezTo>
                <a:cubicBezTo>
                  <a:pt x="611" y="23"/>
                  <a:pt x="610" y="27"/>
                  <a:pt x="614" y="31"/>
                </a:cubicBezTo>
                <a:cubicBezTo>
                  <a:pt x="618" y="36"/>
                  <a:pt x="627" y="43"/>
                  <a:pt x="635" y="50"/>
                </a:cubicBezTo>
                <a:cubicBezTo>
                  <a:pt x="644" y="57"/>
                  <a:pt x="654" y="64"/>
                  <a:pt x="661" y="72"/>
                </a:cubicBezTo>
                <a:cubicBezTo>
                  <a:pt x="668" y="80"/>
                  <a:pt x="673" y="87"/>
                  <a:pt x="671" y="94"/>
                </a:cubicBezTo>
                <a:cubicBezTo>
                  <a:pt x="670" y="101"/>
                  <a:pt x="663" y="107"/>
                  <a:pt x="647" y="111"/>
                </a:cubicBezTo>
                <a:cubicBezTo>
                  <a:pt x="640" y="112"/>
                  <a:pt x="634" y="114"/>
                  <a:pt x="627" y="115"/>
                </a:cubicBezTo>
                <a:cubicBezTo>
                  <a:pt x="620" y="116"/>
                  <a:pt x="613" y="117"/>
                  <a:pt x="605" y="118"/>
                </a:cubicBezTo>
                <a:cubicBezTo>
                  <a:pt x="598" y="119"/>
                  <a:pt x="591" y="120"/>
                  <a:pt x="584" y="120"/>
                </a:cubicBezTo>
                <a:cubicBezTo>
                  <a:pt x="577" y="121"/>
                  <a:pt x="570" y="121"/>
                  <a:pt x="563" y="121"/>
                </a:cubicBezTo>
                <a:cubicBezTo>
                  <a:pt x="553" y="121"/>
                  <a:pt x="544" y="121"/>
                  <a:pt x="535" y="120"/>
                </a:cubicBezTo>
                <a:cubicBezTo>
                  <a:pt x="526" y="119"/>
                  <a:pt x="518" y="118"/>
                  <a:pt x="511" y="116"/>
                </a:cubicBezTo>
                <a:cubicBezTo>
                  <a:pt x="504" y="114"/>
                  <a:pt x="498" y="112"/>
                  <a:pt x="494" y="110"/>
                </a:cubicBezTo>
                <a:cubicBezTo>
                  <a:pt x="490" y="107"/>
                  <a:pt x="487" y="104"/>
                  <a:pt x="486" y="100"/>
                </a:cubicBezTo>
                <a:cubicBezTo>
                  <a:pt x="485" y="95"/>
                  <a:pt x="486" y="87"/>
                  <a:pt x="486" y="78"/>
                </a:cubicBezTo>
                <a:cubicBezTo>
                  <a:pt x="487" y="69"/>
                  <a:pt x="488" y="60"/>
                  <a:pt x="487" y="51"/>
                </a:cubicBezTo>
                <a:cubicBezTo>
                  <a:pt x="487" y="43"/>
                  <a:pt x="485" y="35"/>
                  <a:pt x="479" y="29"/>
                </a:cubicBezTo>
                <a:cubicBezTo>
                  <a:pt x="473" y="23"/>
                  <a:pt x="464" y="20"/>
                  <a:pt x="449" y="19"/>
                </a:cubicBezTo>
                <a:cubicBezTo>
                  <a:pt x="448" y="19"/>
                  <a:pt x="446" y="19"/>
                  <a:pt x="444" y="19"/>
                </a:cubicBezTo>
                <a:cubicBezTo>
                  <a:pt x="443" y="19"/>
                  <a:pt x="441" y="19"/>
                  <a:pt x="439" y="19"/>
                </a:cubicBezTo>
                <a:cubicBezTo>
                  <a:pt x="437" y="19"/>
                  <a:pt x="435" y="19"/>
                  <a:pt x="433" y="19"/>
                </a:cubicBezTo>
                <a:cubicBezTo>
                  <a:pt x="431" y="19"/>
                  <a:pt x="429" y="19"/>
                  <a:pt x="426" y="19"/>
                </a:cubicBezTo>
                <a:cubicBezTo>
                  <a:pt x="408" y="19"/>
                  <a:pt x="384" y="20"/>
                  <a:pt x="359" y="21"/>
                </a:cubicBezTo>
                <a:cubicBezTo>
                  <a:pt x="334" y="22"/>
                  <a:pt x="307" y="23"/>
                  <a:pt x="283" y="24"/>
                </a:cubicBezTo>
                <a:cubicBezTo>
                  <a:pt x="258" y="26"/>
                  <a:pt x="236" y="27"/>
                  <a:pt x="219" y="28"/>
                </a:cubicBezTo>
                <a:cubicBezTo>
                  <a:pt x="203" y="29"/>
                  <a:pt x="192" y="29"/>
                  <a:pt x="190" y="30"/>
                </a:cubicBezTo>
                <a:cubicBezTo>
                  <a:pt x="220" y="137"/>
                  <a:pt x="220" y="137"/>
                  <a:pt x="220" y="137"/>
                </a:cubicBezTo>
                <a:cubicBezTo>
                  <a:pt x="220" y="138"/>
                  <a:pt x="220" y="139"/>
                  <a:pt x="219" y="142"/>
                </a:cubicBezTo>
                <a:cubicBezTo>
                  <a:pt x="218" y="144"/>
                  <a:pt x="216" y="147"/>
                  <a:pt x="214" y="151"/>
                </a:cubicBezTo>
                <a:cubicBezTo>
                  <a:pt x="212" y="154"/>
                  <a:pt x="209" y="157"/>
                  <a:pt x="206" y="159"/>
                </a:cubicBezTo>
                <a:cubicBezTo>
                  <a:pt x="202" y="161"/>
                  <a:pt x="197" y="163"/>
                  <a:pt x="191" y="163"/>
                </a:cubicBezTo>
                <a:cubicBezTo>
                  <a:pt x="191" y="163"/>
                  <a:pt x="190" y="163"/>
                  <a:pt x="189" y="163"/>
                </a:cubicBezTo>
                <a:cubicBezTo>
                  <a:pt x="188" y="163"/>
                  <a:pt x="187" y="163"/>
                  <a:pt x="187" y="163"/>
                </a:cubicBezTo>
                <a:cubicBezTo>
                  <a:pt x="186" y="163"/>
                  <a:pt x="185" y="163"/>
                  <a:pt x="184" y="162"/>
                </a:cubicBezTo>
                <a:cubicBezTo>
                  <a:pt x="183" y="162"/>
                  <a:pt x="182" y="162"/>
                  <a:pt x="181" y="162"/>
                </a:cubicBezTo>
                <a:cubicBezTo>
                  <a:pt x="176" y="160"/>
                  <a:pt x="169" y="158"/>
                  <a:pt x="162" y="156"/>
                </a:cubicBezTo>
                <a:cubicBezTo>
                  <a:pt x="154" y="154"/>
                  <a:pt x="146" y="152"/>
                  <a:pt x="138" y="150"/>
                </a:cubicBezTo>
                <a:cubicBezTo>
                  <a:pt x="129" y="148"/>
                  <a:pt x="120" y="146"/>
                  <a:pt x="111" y="145"/>
                </a:cubicBezTo>
                <a:cubicBezTo>
                  <a:pt x="102" y="144"/>
                  <a:pt x="93" y="143"/>
                  <a:pt x="85" y="143"/>
                </a:cubicBezTo>
                <a:cubicBezTo>
                  <a:pt x="81" y="143"/>
                  <a:pt x="78" y="143"/>
                  <a:pt x="74" y="144"/>
                </a:cubicBezTo>
                <a:cubicBezTo>
                  <a:pt x="71" y="144"/>
                  <a:pt x="67" y="144"/>
                  <a:pt x="64" y="145"/>
                </a:cubicBezTo>
                <a:cubicBezTo>
                  <a:pt x="61" y="146"/>
                  <a:pt x="58" y="147"/>
                  <a:pt x="55" y="148"/>
                </a:cubicBezTo>
                <a:cubicBezTo>
                  <a:pt x="52" y="149"/>
                  <a:pt x="49" y="150"/>
                  <a:pt x="46" y="151"/>
                </a:cubicBezTo>
                <a:cubicBezTo>
                  <a:pt x="36" y="157"/>
                  <a:pt x="27" y="163"/>
                  <a:pt x="20" y="170"/>
                </a:cubicBezTo>
                <a:cubicBezTo>
                  <a:pt x="12" y="178"/>
                  <a:pt x="6" y="186"/>
                  <a:pt x="3" y="194"/>
                </a:cubicBezTo>
                <a:cubicBezTo>
                  <a:pt x="0" y="202"/>
                  <a:pt x="0" y="210"/>
                  <a:pt x="4" y="218"/>
                </a:cubicBezTo>
                <a:cubicBezTo>
                  <a:pt x="9" y="226"/>
                  <a:pt x="18" y="234"/>
                  <a:pt x="33" y="240"/>
                </a:cubicBezTo>
                <a:cubicBezTo>
                  <a:pt x="42" y="244"/>
                  <a:pt x="51" y="247"/>
                  <a:pt x="59" y="250"/>
                </a:cubicBezTo>
                <a:cubicBezTo>
                  <a:pt x="67" y="253"/>
                  <a:pt x="74" y="254"/>
                  <a:pt x="81" y="256"/>
                </a:cubicBezTo>
                <a:cubicBezTo>
                  <a:pt x="88" y="257"/>
                  <a:pt x="95" y="258"/>
                  <a:pt x="101" y="259"/>
                </a:cubicBezTo>
                <a:cubicBezTo>
                  <a:pt x="107" y="260"/>
                  <a:pt x="112" y="260"/>
                  <a:pt x="118" y="260"/>
                </a:cubicBezTo>
                <a:cubicBezTo>
                  <a:pt x="121" y="260"/>
                  <a:pt x="125" y="260"/>
                  <a:pt x="128" y="259"/>
                </a:cubicBezTo>
                <a:cubicBezTo>
                  <a:pt x="132" y="259"/>
                  <a:pt x="135" y="259"/>
                  <a:pt x="138" y="259"/>
                </a:cubicBezTo>
                <a:cubicBezTo>
                  <a:pt x="141" y="258"/>
                  <a:pt x="145" y="258"/>
                  <a:pt x="148" y="257"/>
                </a:cubicBezTo>
                <a:cubicBezTo>
                  <a:pt x="151" y="257"/>
                  <a:pt x="154" y="257"/>
                  <a:pt x="157" y="256"/>
                </a:cubicBezTo>
                <a:cubicBezTo>
                  <a:pt x="159" y="256"/>
                  <a:pt x="160" y="256"/>
                  <a:pt x="162" y="256"/>
                </a:cubicBezTo>
                <a:cubicBezTo>
                  <a:pt x="164" y="255"/>
                  <a:pt x="165" y="255"/>
                  <a:pt x="167" y="255"/>
                </a:cubicBezTo>
                <a:cubicBezTo>
                  <a:pt x="168" y="255"/>
                  <a:pt x="170" y="255"/>
                  <a:pt x="171" y="255"/>
                </a:cubicBezTo>
                <a:cubicBezTo>
                  <a:pt x="173" y="255"/>
                  <a:pt x="175" y="255"/>
                  <a:pt x="176" y="255"/>
                </a:cubicBezTo>
                <a:cubicBezTo>
                  <a:pt x="183" y="255"/>
                  <a:pt x="190" y="255"/>
                  <a:pt x="196" y="256"/>
                </a:cubicBezTo>
                <a:cubicBezTo>
                  <a:pt x="202" y="257"/>
                  <a:pt x="208" y="259"/>
                  <a:pt x="212" y="262"/>
                </a:cubicBezTo>
                <a:cubicBezTo>
                  <a:pt x="217" y="264"/>
                  <a:pt x="221" y="268"/>
                  <a:pt x="223" y="272"/>
                </a:cubicBezTo>
                <a:cubicBezTo>
                  <a:pt x="225" y="276"/>
                  <a:pt x="226" y="282"/>
                  <a:pt x="225" y="288"/>
                </a:cubicBezTo>
                <a:cubicBezTo>
                  <a:pt x="223" y="296"/>
                  <a:pt x="219" y="308"/>
                  <a:pt x="215" y="322"/>
                </a:cubicBezTo>
                <a:cubicBezTo>
                  <a:pt x="211" y="336"/>
                  <a:pt x="206" y="351"/>
                  <a:pt x="202" y="366"/>
                </a:cubicBezTo>
                <a:cubicBezTo>
                  <a:pt x="198" y="381"/>
                  <a:pt x="194" y="395"/>
                  <a:pt x="192" y="407"/>
                </a:cubicBezTo>
                <a:cubicBezTo>
                  <a:pt x="190" y="418"/>
                  <a:pt x="191" y="426"/>
                  <a:pt x="194" y="428"/>
                </a:cubicBezTo>
                <a:cubicBezTo>
                  <a:pt x="197" y="429"/>
                  <a:pt x="200" y="431"/>
                  <a:pt x="203" y="433"/>
                </a:cubicBezTo>
                <a:cubicBezTo>
                  <a:pt x="206" y="435"/>
                  <a:pt x="210" y="437"/>
                  <a:pt x="216" y="439"/>
                </a:cubicBezTo>
                <a:cubicBezTo>
                  <a:pt x="222" y="441"/>
                  <a:pt x="231" y="443"/>
                  <a:pt x="244" y="444"/>
                </a:cubicBezTo>
                <a:cubicBezTo>
                  <a:pt x="257" y="445"/>
                  <a:pt x="274" y="445"/>
                  <a:pt x="296" y="445"/>
                </a:cubicBezTo>
                <a:cubicBezTo>
                  <a:pt x="297" y="445"/>
                  <a:pt x="299" y="445"/>
                  <a:pt x="300" y="445"/>
                </a:cubicBezTo>
                <a:cubicBezTo>
                  <a:pt x="301" y="445"/>
                  <a:pt x="302" y="445"/>
                  <a:pt x="303" y="445"/>
                </a:cubicBezTo>
                <a:cubicBezTo>
                  <a:pt x="304" y="445"/>
                  <a:pt x="305" y="445"/>
                  <a:pt x="307" y="445"/>
                </a:cubicBezTo>
                <a:cubicBezTo>
                  <a:pt x="308" y="445"/>
                  <a:pt x="309" y="445"/>
                  <a:pt x="310" y="445"/>
                </a:cubicBezTo>
                <a:cubicBezTo>
                  <a:pt x="336" y="445"/>
                  <a:pt x="375" y="444"/>
                  <a:pt x="417" y="444"/>
                </a:cubicBezTo>
                <a:cubicBezTo>
                  <a:pt x="460" y="443"/>
                  <a:pt x="507" y="443"/>
                  <a:pt x="552" y="443"/>
                </a:cubicBezTo>
                <a:cubicBezTo>
                  <a:pt x="596" y="442"/>
                  <a:pt x="638" y="442"/>
                  <a:pt x="670" y="442"/>
                </a:cubicBezTo>
                <a:cubicBezTo>
                  <a:pt x="701" y="442"/>
                  <a:pt x="723" y="441"/>
                  <a:pt x="726" y="441"/>
                </a:cubicBezTo>
                <a:cubicBezTo>
                  <a:pt x="1024" y="435"/>
                  <a:pt x="1024" y="435"/>
                  <a:pt x="1024" y="435"/>
                </a:cubicBezTo>
                <a:cubicBezTo>
                  <a:pt x="1023" y="433"/>
                  <a:pt x="1015" y="421"/>
                  <a:pt x="1004" y="406"/>
                </a:cubicBezTo>
                <a:cubicBezTo>
                  <a:pt x="994" y="390"/>
                  <a:pt x="981" y="370"/>
                  <a:pt x="968" y="350"/>
                </a:cubicBezTo>
                <a:cubicBezTo>
                  <a:pt x="956" y="331"/>
                  <a:pt x="945" y="312"/>
                  <a:pt x="938" y="297"/>
                </a:cubicBezTo>
                <a:cubicBezTo>
                  <a:pt x="931" y="282"/>
                  <a:pt x="929" y="271"/>
                  <a:pt x="933" y="267"/>
                </a:cubicBezTo>
                <a:cubicBezTo>
                  <a:pt x="936" y="265"/>
                  <a:pt x="938" y="263"/>
                  <a:pt x="941" y="260"/>
                </a:cubicBezTo>
                <a:cubicBezTo>
                  <a:pt x="943" y="258"/>
                  <a:pt x="946" y="256"/>
                  <a:pt x="949" y="254"/>
                </a:cubicBezTo>
                <a:cubicBezTo>
                  <a:pt x="952" y="252"/>
                  <a:pt x="955" y="250"/>
                  <a:pt x="960" y="249"/>
                </a:cubicBezTo>
                <a:cubicBezTo>
                  <a:pt x="965" y="248"/>
                  <a:pt x="971" y="247"/>
                  <a:pt x="978" y="247"/>
                </a:cubicBezTo>
                <a:cubicBezTo>
                  <a:pt x="981" y="247"/>
                  <a:pt x="984" y="247"/>
                  <a:pt x="988" y="247"/>
                </a:cubicBezTo>
                <a:cubicBezTo>
                  <a:pt x="991" y="247"/>
                  <a:pt x="995" y="248"/>
                  <a:pt x="999" y="248"/>
                </a:cubicBezTo>
                <a:cubicBezTo>
                  <a:pt x="1004" y="249"/>
                  <a:pt x="1008" y="249"/>
                  <a:pt x="1013" y="250"/>
                </a:cubicBezTo>
                <a:cubicBezTo>
                  <a:pt x="1018" y="251"/>
                  <a:pt x="1023" y="252"/>
                  <a:pt x="1029" y="253"/>
                </a:cubicBezTo>
                <a:cubicBezTo>
                  <a:pt x="1034" y="254"/>
                  <a:pt x="1040" y="255"/>
                  <a:pt x="1045" y="256"/>
                </a:cubicBezTo>
                <a:cubicBezTo>
                  <a:pt x="1050" y="256"/>
                  <a:pt x="1055" y="257"/>
                  <a:pt x="1060" y="258"/>
                </a:cubicBezTo>
                <a:cubicBezTo>
                  <a:pt x="1065" y="258"/>
                  <a:pt x="1069" y="258"/>
                  <a:pt x="1074" y="259"/>
                </a:cubicBezTo>
                <a:cubicBezTo>
                  <a:pt x="1079" y="259"/>
                  <a:pt x="1083" y="259"/>
                  <a:pt x="1088" y="259"/>
                </a:cubicBezTo>
                <a:cubicBezTo>
                  <a:pt x="1100" y="259"/>
                  <a:pt x="1111" y="258"/>
                  <a:pt x="1121" y="256"/>
                </a:cubicBezTo>
                <a:cubicBezTo>
                  <a:pt x="1130" y="255"/>
                  <a:pt x="1139" y="252"/>
                  <a:pt x="1147" y="250"/>
                </a:cubicBezTo>
                <a:cubicBezTo>
                  <a:pt x="1154" y="247"/>
                  <a:pt x="1160" y="244"/>
                  <a:pt x="1165" y="240"/>
                </a:cubicBezTo>
                <a:cubicBezTo>
                  <a:pt x="1170" y="237"/>
                  <a:pt x="1173" y="233"/>
                  <a:pt x="1175" y="229"/>
                </a:cubicBezTo>
                <a:cubicBezTo>
                  <a:pt x="1177" y="224"/>
                  <a:pt x="1178" y="218"/>
                  <a:pt x="1177" y="211"/>
                </a:cubicBezTo>
                <a:cubicBezTo>
                  <a:pt x="1176" y="205"/>
                  <a:pt x="1174" y="199"/>
                  <a:pt x="1170" y="193"/>
                </a:cubicBezTo>
                <a:close/>
              </a:path>
            </a:pathLst>
          </a:custGeom>
          <a:gradFill rotWithShape="0">
            <a:gsLst>
              <a:gs pos="0">
                <a:srgbClr val="e20000"/>
              </a:gs>
              <a:gs pos="100000">
                <a:srgbClr val="cc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20"/>
          <p:cNvSpPr/>
          <p:nvPr/>
        </p:nvSpPr>
        <p:spPr>
          <a:xfrm>
            <a:off x="8350200" y="3995640"/>
            <a:ext cx="2698920" cy="1144800"/>
          </a:xfrm>
          <a:custGeom>
            <a:avLst/>
            <a:gdLst/>
            <a:ahLst/>
            <a:rect l="l" t="t" r="r" b="b"/>
            <a:pathLst>
              <a:path w="1487" h="631">
                <a:moveTo>
                  <a:pt x="1486" y="593"/>
                </a:moveTo>
                <a:cubicBezTo>
                  <a:pt x="1484" y="589"/>
                  <a:pt x="1482" y="587"/>
                  <a:pt x="1482" y="587"/>
                </a:cubicBezTo>
                <a:cubicBezTo>
                  <a:pt x="1091" y="173"/>
                  <a:pt x="1091" y="173"/>
                  <a:pt x="1091" y="173"/>
                </a:cubicBezTo>
                <a:cubicBezTo>
                  <a:pt x="1077" y="158"/>
                  <a:pt x="1077" y="158"/>
                  <a:pt x="1077" y="158"/>
                </a:cubicBezTo>
                <a:cubicBezTo>
                  <a:pt x="1077" y="158"/>
                  <a:pt x="1076" y="156"/>
                  <a:pt x="1074" y="154"/>
                </a:cubicBezTo>
                <a:cubicBezTo>
                  <a:pt x="1072" y="152"/>
                  <a:pt x="1069" y="150"/>
                  <a:pt x="1066" y="147"/>
                </a:cubicBezTo>
                <a:cubicBezTo>
                  <a:pt x="1062" y="145"/>
                  <a:pt x="1058" y="142"/>
                  <a:pt x="1053" y="140"/>
                </a:cubicBezTo>
                <a:cubicBezTo>
                  <a:pt x="1048" y="138"/>
                  <a:pt x="1042" y="136"/>
                  <a:pt x="1035" y="136"/>
                </a:cubicBezTo>
                <a:cubicBezTo>
                  <a:pt x="1035" y="136"/>
                  <a:pt x="1034" y="136"/>
                  <a:pt x="1033" y="136"/>
                </a:cubicBezTo>
                <a:cubicBezTo>
                  <a:pt x="1032" y="136"/>
                  <a:pt x="1031" y="136"/>
                  <a:pt x="1030" y="136"/>
                </a:cubicBezTo>
                <a:cubicBezTo>
                  <a:pt x="1029" y="136"/>
                  <a:pt x="1028" y="136"/>
                  <a:pt x="1026" y="136"/>
                </a:cubicBezTo>
                <a:cubicBezTo>
                  <a:pt x="1025" y="136"/>
                  <a:pt x="1023" y="136"/>
                  <a:pt x="1022" y="136"/>
                </a:cubicBezTo>
                <a:cubicBezTo>
                  <a:pt x="1014" y="136"/>
                  <a:pt x="1005" y="136"/>
                  <a:pt x="994" y="136"/>
                </a:cubicBezTo>
                <a:cubicBezTo>
                  <a:pt x="982" y="136"/>
                  <a:pt x="969" y="137"/>
                  <a:pt x="955" y="137"/>
                </a:cubicBezTo>
                <a:cubicBezTo>
                  <a:pt x="941" y="138"/>
                  <a:pt x="926" y="138"/>
                  <a:pt x="910" y="139"/>
                </a:cubicBezTo>
                <a:cubicBezTo>
                  <a:pt x="894" y="139"/>
                  <a:pt x="877" y="140"/>
                  <a:pt x="860" y="140"/>
                </a:cubicBezTo>
                <a:cubicBezTo>
                  <a:pt x="844" y="141"/>
                  <a:pt x="827" y="142"/>
                  <a:pt x="811" y="142"/>
                </a:cubicBezTo>
                <a:cubicBezTo>
                  <a:pt x="795" y="143"/>
                  <a:pt x="779" y="143"/>
                  <a:pt x="765" y="144"/>
                </a:cubicBezTo>
                <a:cubicBezTo>
                  <a:pt x="750" y="144"/>
                  <a:pt x="737" y="145"/>
                  <a:pt x="725" y="145"/>
                </a:cubicBezTo>
                <a:cubicBezTo>
                  <a:pt x="713" y="145"/>
                  <a:pt x="703" y="145"/>
                  <a:pt x="695" y="145"/>
                </a:cubicBezTo>
                <a:cubicBezTo>
                  <a:pt x="694" y="145"/>
                  <a:pt x="693" y="145"/>
                  <a:pt x="692" y="145"/>
                </a:cubicBezTo>
                <a:cubicBezTo>
                  <a:pt x="692" y="145"/>
                  <a:pt x="691" y="145"/>
                  <a:pt x="690" y="145"/>
                </a:cubicBezTo>
                <a:cubicBezTo>
                  <a:pt x="689" y="145"/>
                  <a:pt x="689" y="145"/>
                  <a:pt x="688" y="145"/>
                </a:cubicBezTo>
                <a:cubicBezTo>
                  <a:pt x="687" y="145"/>
                  <a:pt x="687" y="145"/>
                  <a:pt x="686" y="145"/>
                </a:cubicBezTo>
                <a:cubicBezTo>
                  <a:pt x="672" y="145"/>
                  <a:pt x="660" y="143"/>
                  <a:pt x="650" y="140"/>
                </a:cubicBezTo>
                <a:cubicBezTo>
                  <a:pt x="640" y="138"/>
                  <a:pt x="632" y="133"/>
                  <a:pt x="626" y="129"/>
                </a:cubicBezTo>
                <a:cubicBezTo>
                  <a:pt x="620" y="124"/>
                  <a:pt x="616" y="119"/>
                  <a:pt x="613" y="114"/>
                </a:cubicBezTo>
                <a:cubicBezTo>
                  <a:pt x="611" y="109"/>
                  <a:pt x="609" y="103"/>
                  <a:pt x="608" y="98"/>
                </a:cubicBezTo>
                <a:cubicBezTo>
                  <a:pt x="608" y="94"/>
                  <a:pt x="607" y="89"/>
                  <a:pt x="605" y="84"/>
                </a:cubicBezTo>
                <a:cubicBezTo>
                  <a:pt x="603" y="79"/>
                  <a:pt x="600" y="74"/>
                  <a:pt x="596" y="69"/>
                </a:cubicBezTo>
                <a:cubicBezTo>
                  <a:pt x="592" y="63"/>
                  <a:pt x="586" y="57"/>
                  <a:pt x="579" y="51"/>
                </a:cubicBezTo>
                <a:cubicBezTo>
                  <a:pt x="571" y="44"/>
                  <a:pt x="562" y="37"/>
                  <a:pt x="551" y="29"/>
                </a:cubicBezTo>
                <a:cubicBezTo>
                  <a:pt x="544" y="24"/>
                  <a:pt x="535" y="20"/>
                  <a:pt x="524" y="16"/>
                </a:cubicBezTo>
                <a:cubicBezTo>
                  <a:pt x="514" y="12"/>
                  <a:pt x="502" y="9"/>
                  <a:pt x="489" y="7"/>
                </a:cubicBezTo>
                <a:cubicBezTo>
                  <a:pt x="476" y="4"/>
                  <a:pt x="463" y="3"/>
                  <a:pt x="449" y="1"/>
                </a:cubicBezTo>
                <a:cubicBezTo>
                  <a:pt x="435" y="0"/>
                  <a:pt x="422" y="0"/>
                  <a:pt x="409" y="0"/>
                </a:cubicBezTo>
                <a:cubicBezTo>
                  <a:pt x="400" y="0"/>
                  <a:pt x="392" y="0"/>
                  <a:pt x="385" y="1"/>
                </a:cubicBezTo>
                <a:cubicBezTo>
                  <a:pt x="377" y="1"/>
                  <a:pt x="370" y="2"/>
                  <a:pt x="363" y="3"/>
                </a:cubicBezTo>
                <a:cubicBezTo>
                  <a:pt x="357" y="4"/>
                  <a:pt x="351" y="5"/>
                  <a:pt x="345" y="7"/>
                </a:cubicBezTo>
                <a:cubicBezTo>
                  <a:pt x="340" y="8"/>
                  <a:pt x="335" y="10"/>
                  <a:pt x="331" y="12"/>
                </a:cubicBezTo>
                <a:cubicBezTo>
                  <a:pt x="321" y="17"/>
                  <a:pt x="318" y="23"/>
                  <a:pt x="319" y="30"/>
                </a:cubicBezTo>
                <a:cubicBezTo>
                  <a:pt x="320" y="36"/>
                  <a:pt x="327" y="43"/>
                  <a:pt x="335" y="50"/>
                </a:cubicBezTo>
                <a:cubicBezTo>
                  <a:pt x="343" y="57"/>
                  <a:pt x="353" y="64"/>
                  <a:pt x="363" y="70"/>
                </a:cubicBezTo>
                <a:cubicBezTo>
                  <a:pt x="373" y="76"/>
                  <a:pt x="382" y="82"/>
                  <a:pt x="389" y="86"/>
                </a:cubicBezTo>
                <a:cubicBezTo>
                  <a:pt x="395" y="91"/>
                  <a:pt x="399" y="95"/>
                  <a:pt x="400" y="100"/>
                </a:cubicBezTo>
                <a:cubicBezTo>
                  <a:pt x="402" y="104"/>
                  <a:pt x="401" y="108"/>
                  <a:pt x="398" y="112"/>
                </a:cubicBezTo>
                <a:cubicBezTo>
                  <a:pt x="395" y="116"/>
                  <a:pt x="390" y="119"/>
                  <a:pt x="383" y="122"/>
                </a:cubicBezTo>
                <a:cubicBezTo>
                  <a:pt x="376" y="125"/>
                  <a:pt x="368" y="127"/>
                  <a:pt x="358" y="129"/>
                </a:cubicBezTo>
                <a:cubicBezTo>
                  <a:pt x="357" y="129"/>
                  <a:pt x="357" y="129"/>
                  <a:pt x="356" y="129"/>
                </a:cubicBezTo>
                <a:cubicBezTo>
                  <a:pt x="356" y="129"/>
                  <a:pt x="355" y="129"/>
                  <a:pt x="354" y="129"/>
                </a:cubicBezTo>
                <a:cubicBezTo>
                  <a:pt x="354" y="129"/>
                  <a:pt x="353" y="129"/>
                  <a:pt x="352" y="129"/>
                </a:cubicBezTo>
                <a:cubicBezTo>
                  <a:pt x="351" y="129"/>
                  <a:pt x="351" y="129"/>
                  <a:pt x="350" y="129"/>
                </a:cubicBezTo>
                <a:cubicBezTo>
                  <a:pt x="334" y="129"/>
                  <a:pt x="305" y="126"/>
                  <a:pt x="270" y="122"/>
                </a:cubicBezTo>
                <a:cubicBezTo>
                  <a:pt x="236" y="118"/>
                  <a:pt x="196" y="112"/>
                  <a:pt x="157" y="106"/>
                </a:cubicBezTo>
                <a:cubicBezTo>
                  <a:pt x="119" y="100"/>
                  <a:pt x="83" y="94"/>
                  <a:pt x="55" y="90"/>
                </a:cubicBezTo>
                <a:cubicBezTo>
                  <a:pt x="28" y="85"/>
                  <a:pt x="9" y="82"/>
                  <a:pt x="5" y="81"/>
                </a:cubicBezTo>
                <a:cubicBezTo>
                  <a:pt x="5" y="82"/>
                  <a:pt x="5" y="83"/>
                  <a:pt x="4" y="84"/>
                </a:cubicBezTo>
                <a:cubicBezTo>
                  <a:pt x="4" y="86"/>
                  <a:pt x="3" y="89"/>
                  <a:pt x="3" y="93"/>
                </a:cubicBezTo>
                <a:cubicBezTo>
                  <a:pt x="2" y="96"/>
                  <a:pt x="2" y="101"/>
                  <a:pt x="1" y="106"/>
                </a:cubicBezTo>
                <a:cubicBezTo>
                  <a:pt x="1" y="112"/>
                  <a:pt x="0" y="118"/>
                  <a:pt x="0" y="125"/>
                </a:cubicBezTo>
                <a:cubicBezTo>
                  <a:pt x="0" y="132"/>
                  <a:pt x="0" y="141"/>
                  <a:pt x="2" y="151"/>
                </a:cubicBezTo>
                <a:cubicBezTo>
                  <a:pt x="3" y="160"/>
                  <a:pt x="5" y="171"/>
                  <a:pt x="9" y="181"/>
                </a:cubicBezTo>
                <a:cubicBezTo>
                  <a:pt x="12" y="191"/>
                  <a:pt x="16" y="202"/>
                  <a:pt x="22" y="211"/>
                </a:cubicBezTo>
                <a:cubicBezTo>
                  <a:pt x="28" y="220"/>
                  <a:pt x="34" y="229"/>
                  <a:pt x="43" y="235"/>
                </a:cubicBezTo>
                <a:cubicBezTo>
                  <a:pt x="51" y="242"/>
                  <a:pt x="62" y="246"/>
                  <a:pt x="76" y="249"/>
                </a:cubicBezTo>
                <a:cubicBezTo>
                  <a:pt x="90" y="252"/>
                  <a:pt x="106" y="254"/>
                  <a:pt x="123" y="256"/>
                </a:cubicBezTo>
                <a:cubicBezTo>
                  <a:pt x="141" y="257"/>
                  <a:pt x="160" y="258"/>
                  <a:pt x="179" y="260"/>
                </a:cubicBezTo>
                <a:cubicBezTo>
                  <a:pt x="199" y="261"/>
                  <a:pt x="218" y="262"/>
                  <a:pt x="238" y="265"/>
                </a:cubicBezTo>
                <a:cubicBezTo>
                  <a:pt x="257" y="268"/>
                  <a:pt x="274" y="274"/>
                  <a:pt x="290" y="282"/>
                </a:cubicBezTo>
                <a:cubicBezTo>
                  <a:pt x="306" y="290"/>
                  <a:pt x="319" y="300"/>
                  <a:pt x="331" y="312"/>
                </a:cubicBezTo>
                <a:cubicBezTo>
                  <a:pt x="342" y="324"/>
                  <a:pt x="351" y="337"/>
                  <a:pt x="357" y="350"/>
                </a:cubicBezTo>
                <a:cubicBezTo>
                  <a:pt x="364" y="363"/>
                  <a:pt x="367" y="377"/>
                  <a:pt x="368" y="389"/>
                </a:cubicBezTo>
                <a:cubicBezTo>
                  <a:pt x="368" y="396"/>
                  <a:pt x="366" y="402"/>
                  <a:pt x="361" y="407"/>
                </a:cubicBezTo>
                <a:cubicBezTo>
                  <a:pt x="357" y="412"/>
                  <a:pt x="351" y="416"/>
                  <a:pt x="343" y="419"/>
                </a:cubicBezTo>
                <a:cubicBezTo>
                  <a:pt x="336" y="422"/>
                  <a:pt x="327" y="424"/>
                  <a:pt x="317" y="426"/>
                </a:cubicBezTo>
                <a:cubicBezTo>
                  <a:pt x="307" y="427"/>
                  <a:pt x="296" y="428"/>
                  <a:pt x="286" y="428"/>
                </a:cubicBezTo>
                <a:cubicBezTo>
                  <a:pt x="277" y="428"/>
                  <a:pt x="267" y="428"/>
                  <a:pt x="258" y="427"/>
                </a:cubicBezTo>
                <a:cubicBezTo>
                  <a:pt x="249" y="426"/>
                  <a:pt x="240" y="425"/>
                  <a:pt x="232" y="423"/>
                </a:cubicBezTo>
                <a:cubicBezTo>
                  <a:pt x="224" y="421"/>
                  <a:pt x="216" y="419"/>
                  <a:pt x="209" y="417"/>
                </a:cubicBezTo>
                <a:cubicBezTo>
                  <a:pt x="202" y="415"/>
                  <a:pt x="196" y="412"/>
                  <a:pt x="191" y="409"/>
                </a:cubicBezTo>
                <a:cubicBezTo>
                  <a:pt x="184" y="406"/>
                  <a:pt x="178" y="402"/>
                  <a:pt x="171" y="400"/>
                </a:cubicBezTo>
                <a:cubicBezTo>
                  <a:pt x="165" y="397"/>
                  <a:pt x="158" y="395"/>
                  <a:pt x="152" y="394"/>
                </a:cubicBezTo>
                <a:cubicBezTo>
                  <a:pt x="145" y="392"/>
                  <a:pt x="139" y="391"/>
                  <a:pt x="133" y="391"/>
                </a:cubicBezTo>
                <a:cubicBezTo>
                  <a:pt x="127" y="390"/>
                  <a:pt x="121" y="390"/>
                  <a:pt x="115" y="390"/>
                </a:cubicBezTo>
                <a:cubicBezTo>
                  <a:pt x="111" y="390"/>
                  <a:pt x="108" y="390"/>
                  <a:pt x="104" y="390"/>
                </a:cubicBezTo>
                <a:cubicBezTo>
                  <a:pt x="100" y="390"/>
                  <a:pt x="96" y="391"/>
                  <a:pt x="93" y="392"/>
                </a:cubicBezTo>
                <a:cubicBezTo>
                  <a:pt x="90" y="392"/>
                  <a:pt x="87" y="393"/>
                  <a:pt x="84" y="394"/>
                </a:cubicBezTo>
                <a:cubicBezTo>
                  <a:pt x="81" y="394"/>
                  <a:pt x="78" y="395"/>
                  <a:pt x="75" y="396"/>
                </a:cubicBezTo>
                <a:cubicBezTo>
                  <a:pt x="70" y="399"/>
                  <a:pt x="68" y="407"/>
                  <a:pt x="68" y="418"/>
                </a:cubicBezTo>
                <a:cubicBezTo>
                  <a:pt x="69" y="430"/>
                  <a:pt x="72" y="446"/>
                  <a:pt x="76" y="463"/>
                </a:cubicBezTo>
                <a:cubicBezTo>
                  <a:pt x="81" y="480"/>
                  <a:pt x="87" y="499"/>
                  <a:pt x="93" y="518"/>
                </a:cubicBezTo>
                <a:cubicBezTo>
                  <a:pt x="99" y="536"/>
                  <a:pt x="105" y="554"/>
                  <a:pt x="109" y="569"/>
                </a:cubicBezTo>
                <a:cubicBezTo>
                  <a:pt x="113" y="583"/>
                  <a:pt x="118" y="594"/>
                  <a:pt x="124" y="602"/>
                </a:cubicBezTo>
                <a:cubicBezTo>
                  <a:pt x="130" y="611"/>
                  <a:pt x="137" y="617"/>
                  <a:pt x="145" y="621"/>
                </a:cubicBezTo>
                <a:cubicBezTo>
                  <a:pt x="152" y="625"/>
                  <a:pt x="161" y="628"/>
                  <a:pt x="170" y="630"/>
                </a:cubicBezTo>
                <a:cubicBezTo>
                  <a:pt x="180" y="631"/>
                  <a:pt x="190" y="631"/>
                  <a:pt x="200" y="631"/>
                </a:cubicBezTo>
                <a:cubicBezTo>
                  <a:pt x="201" y="631"/>
                  <a:pt x="202" y="631"/>
                  <a:pt x="203" y="631"/>
                </a:cubicBezTo>
                <a:cubicBezTo>
                  <a:pt x="204" y="631"/>
                  <a:pt x="205" y="631"/>
                  <a:pt x="206" y="631"/>
                </a:cubicBezTo>
                <a:cubicBezTo>
                  <a:pt x="207" y="631"/>
                  <a:pt x="208" y="631"/>
                  <a:pt x="209" y="631"/>
                </a:cubicBezTo>
                <a:cubicBezTo>
                  <a:pt x="210" y="631"/>
                  <a:pt x="211" y="631"/>
                  <a:pt x="212" y="631"/>
                </a:cubicBezTo>
                <a:cubicBezTo>
                  <a:pt x="224" y="631"/>
                  <a:pt x="288" y="630"/>
                  <a:pt x="382" y="629"/>
                </a:cubicBezTo>
                <a:cubicBezTo>
                  <a:pt x="476" y="628"/>
                  <a:pt x="598" y="627"/>
                  <a:pt x="726" y="626"/>
                </a:cubicBezTo>
                <a:cubicBezTo>
                  <a:pt x="853" y="625"/>
                  <a:pt x="985" y="624"/>
                  <a:pt x="1098" y="623"/>
                </a:cubicBezTo>
                <a:cubicBezTo>
                  <a:pt x="1211" y="622"/>
                  <a:pt x="1304" y="621"/>
                  <a:pt x="1353" y="621"/>
                </a:cubicBezTo>
                <a:cubicBezTo>
                  <a:pt x="1355" y="621"/>
                  <a:pt x="1357" y="621"/>
                  <a:pt x="1359" y="621"/>
                </a:cubicBezTo>
                <a:cubicBezTo>
                  <a:pt x="1361" y="621"/>
                  <a:pt x="1362" y="621"/>
                  <a:pt x="1364" y="621"/>
                </a:cubicBezTo>
                <a:cubicBezTo>
                  <a:pt x="1366" y="621"/>
                  <a:pt x="1368" y="621"/>
                  <a:pt x="1370" y="621"/>
                </a:cubicBezTo>
                <a:cubicBezTo>
                  <a:pt x="1372" y="621"/>
                  <a:pt x="1374" y="621"/>
                  <a:pt x="1376" y="621"/>
                </a:cubicBezTo>
                <a:cubicBezTo>
                  <a:pt x="1411" y="621"/>
                  <a:pt x="1436" y="619"/>
                  <a:pt x="1452" y="616"/>
                </a:cubicBezTo>
                <a:cubicBezTo>
                  <a:pt x="1469" y="613"/>
                  <a:pt x="1478" y="609"/>
                  <a:pt x="1482" y="604"/>
                </a:cubicBezTo>
                <a:cubicBezTo>
                  <a:pt x="1487" y="600"/>
                  <a:pt x="1487" y="596"/>
                  <a:pt x="1486" y="593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21"/>
          <p:cNvSpPr/>
          <p:nvPr/>
        </p:nvSpPr>
        <p:spPr>
          <a:xfrm>
            <a:off x="4844880" y="695160"/>
            <a:ext cx="881280" cy="2078280"/>
          </a:xfrm>
          <a:custGeom>
            <a:avLst/>
            <a:gdLst/>
            <a:ahLst/>
            <a:rect l="l" t="t" r="r" b="b"/>
            <a:pathLst>
              <a:path w="486" h="1145">
                <a:moveTo>
                  <a:pt x="56" y="1136"/>
                </a:moveTo>
                <a:cubicBezTo>
                  <a:pt x="67" y="1145"/>
                  <a:pt x="102" y="1144"/>
                  <a:pt x="117" y="1131"/>
                </a:cubicBezTo>
                <a:cubicBezTo>
                  <a:pt x="132" y="1118"/>
                  <a:pt x="147" y="1089"/>
                  <a:pt x="153" y="1084"/>
                </a:cubicBezTo>
                <a:cubicBezTo>
                  <a:pt x="160" y="1078"/>
                  <a:pt x="164" y="1076"/>
                  <a:pt x="164" y="1076"/>
                </a:cubicBezTo>
                <a:cubicBezTo>
                  <a:pt x="165" y="1096"/>
                  <a:pt x="165" y="1096"/>
                  <a:pt x="165" y="1096"/>
                </a:cubicBezTo>
                <a:cubicBezTo>
                  <a:pt x="172" y="1095"/>
                  <a:pt x="172" y="1095"/>
                  <a:pt x="172" y="1095"/>
                </a:cubicBezTo>
                <a:cubicBezTo>
                  <a:pt x="172" y="1095"/>
                  <a:pt x="171" y="1071"/>
                  <a:pt x="175" y="1066"/>
                </a:cubicBezTo>
                <a:cubicBezTo>
                  <a:pt x="180" y="1060"/>
                  <a:pt x="185" y="1036"/>
                  <a:pt x="177" y="1023"/>
                </a:cubicBezTo>
                <a:cubicBezTo>
                  <a:pt x="169" y="1011"/>
                  <a:pt x="166" y="966"/>
                  <a:pt x="167" y="951"/>
                </a:cubicBezTo>
                <a:cubicBezTo>
                  <a:pt x="168" y="935"/>
                  <a:pt x="173" y="869"/>
                  <a:pt x="167" y="846"/>
                </a:cubicBezTo>
                <a:cubicBezTo>
                  <a:pt x="162" y="823"/>
                  <a:pt x="170" y="775"/>
                  <a:pt x="177" y="762"/>
                </a:cubicBezTo>
                <a:cubicBezTo>
                  <a:pt x="183" y="749"/>
                  <a:pt x="191" y="723"/>
                  <a:pt x="191" y="723"/>
                </a:cubicBezTo>
                <a:cubicBezTo>
                  <a:pt x="240" y="731"/>
                  <a:pt x="240" y="731"/>
                  <a:pt x="240" y="731"/>
                </a:cubicBezTo>
                <a:cubicBezTo>
                  <a:pt x="240" y="731"/>
                  <a:pt x="240" y="770"/>
                  <a:pt x="247" y="799"/>
                </a:cubicBezTo>
                <a:cubicBezTo>
                  <a:pt x="253" y="828"/>
                  <a:pt x="251" y="872"/>
                  <a:pt x="251" y="882"/>
                </a:cubicBezTo>
                <a:cubicBezTo>
                  <a:pt x="251" y="892"/>
                  <a:pt x="255" y="934"/>
                  <a:pt x="247" y="955"/>
                </a:cubicBezTo>
                <a:cubicBezTo>
                  <a:pt x="240" y="976"/>
                  <a:pt x="235" y="999"/>
                  <a:pt x="236" y="1008"/>
                </a:cubicBezTo>
                <a:cubicBezTo>
                  <a:pt x="236" y="1017"/>
                  <a:pt x="243" y="1091"/>
                  <a:pt x="258" y="1102"/>
                </a:cubicBezTo>
                <a:cubicBezTo>
                  <a:pt x="273" y="1113"/>
                  <a:pt x="299" y="1111"/>
                  <a:pt x="297" y="1088"/>
                </a:cubicBezTo>
                <a:cubicBezTo>
                  <a:pt x="296" y="1066"/>
                  <a:pt x="287" y="1045"/>
                  <a:pt x="285" y="1034"/>
                </a:cubicBezTo>
                <a:cubicBezTo>
                  <a:pt x="282" y="1023"/>
                  <a:pt x="277" y="1020"/>
                  <a:pt x="277" y="1010"/>
                </a:cubicBezTo>
                <a:cubicBezTo>
                  <a:pt x="277" y="1000"/>
                  <a:pt x="276" y="1003"/>
                  <a:pt x="276" y="992"/>
                </a:cubicBezTo>
                <a:cubicBezTo>
                  <a:pt x="276" y="980"/>
                  <a:pt x="281" y="963"/>
                  <a:pt x="281" y="963"/>
                </a:cubicBezTo>
                <a:cubicBezTo>
                  <a:pt x="281" y="963"/>
                  <a:pt x="316" y="886"/>
                  <a:pt x="315" y="843"/>
                </a:cubicBezTo>
                <a:cubicBezTo>
                  <a:pt x="314" y="800"/>
                  <a:pt x="313" y="786"/>
                  <a:pt x="313" y="768"/>
                </a:cubicBezTo>
                <a:cubicBezTo>
                  <a:pt x="314" y="751"/>
                  <a:pt x="322" y="736"/>
                  <a:pt x="322" y="736"/>
                </a:cubicBezTo>
                <a:cubicBezTo>
                  <a:pt x="359" y="724"/>
                  <a:pt x="359" y="724"/>
                  <a:pt x="359" y="724"/>
                </a:cubicBezTo>
                <a:cubicBezTo>
                  <a:pt x="342" y="561"/>
                  <a:pt x="342" y="561"/>
                  <a:pt x="342" y="561"/>
                </a:cubicBezTo>
                <a:cubicBezTo>
                  <a:pt x="342" y="561"/>
                  <a:pt x="356" y="551"/>
                  <a:pt x="363" y="552"/>
                </a:cubicBezTo>
                <a:cubicBezTo>
                  <a:pt x="370" y="552"/>
                  <a:pt x="386" y="548"/>
                  <a:pt x="391" y="545"/>
                </a:cubicBezTo>
                <a:cubicBezTo>
                  <a:pt x="396" y="542"/>
                  <a:pt x="410" y="535"/>
                  <a:pt x="415" y="527"/>
                </a:cubicBezTo>
                <a:cubicBezTo>
                  <a:pt x="421" y="519"/>
                  <a:pt x="486" y="431"/>
                  <a:pt x="485" y="418"/>
                </a:cubicBezTo>
                <a:cubicBezTo>
                  <a:pt x="484" y="404"/>
                  <a:pt x="467" y="355"/>
                  <a:pt x="433" y="302"/>
                </a:cubicBezTo>
                <a:cubicBezTo>
                  <a:pt x="400" y="249"/>
                  <a:pt x="383" y="234"/>
                  <a:pt x="371" y="229"/>
                </a:cubicBezTo>
                <a:cubicBezTo>
                  <a:pt x="359" y="224"/>
                  <a:pt x="347" y="213"/>
                  <a:pt x="347" y="213"/>
                </a:cubicBezTo>
                <a:cubicBezTo>
                  <a:pt x="347" y="213"/>
                  <a:pt x="346" y="212"/>
                  <a:pt x="346" y="209"/>
                </a:cubicBezTo>
                <a:cubicBezTo>
                  <a:pt x="349" y="206"/>
                  <a:pt x="352" y="203"/>
                  <a:pt x="354" y="200"/>
                </a:cubicBezTo>
                <a:cubicBezTo>
                  <a:pt x="358" y="193"/>
                  <a:pt x="354" y="178"/>
                  <a:pt x="347" y="168"/>
                </a:cubicBezTo>
                <a:cubicBezTo>
                  <a:pt x="347" y="162"/>
                  <a:pt x="346" y="157"/>
                  <a:pt x="340" y="144"/>
                </a:cubicBezTo>
                <a:cubicBezTo>
                  <a:pt x="331" y="126"/>
                  <a:pt x="330" y="123"/>
                  <a:pt x="330" y="114"/>
                </a:cubicBezTo>
                <a:cubicBezTo>
                  <a:pt x="331" y="113"/>
                  <a:pt x="331" y="111"/>
                  <a:pt x="331" y="110"/>
                </a:cubicBezTo>
                <a:cubicBezTo>
                  <a:pt x="333" y="122"/>
                  <a:pt x="348" y="147"/>
                  <a:pt x="354" y="156"/>
                </a:cubicBezTo>
                <a:cubicBezTo>
                  <a:pt x="360" y="166"/>
                  <a:pt x="355" y="195"/>
                  <a:pt x="355" y="195"/>
                </a:cubicBezTo>
                <a:cubicBezTo>
                  <a:pt x="355" y="195"/>
                  <a:pt x="355" y="195"/>
                  <a:pt x="357" y="185"/>
                </a:cubicBezTo>
                <a:cubicBezTo>
                  <a:pt x="359" y="175"/>
                  <a:pt x="362" y="160"/>
                  <a:pt x="351" y="143"/>
                </a:cubicBezTo>
                <a:cubicBezTo>
                  <a:pt x="340" y="126"/>
                  <a:pt x="339" y="119"/>
                  <a:pt x="338" y="100"/>
                </a:cubicBezTo>
                <a:cubicBezTo>
                  <a:pt x="338" y="95"/>
                  <a:pt x="336" y="90"/>
                  <a:pt x="332" y="85"/>
                </a:cubicBezTo>
                <a:cubicBezTo>
                  <a:pt x="331" y="78"/>
                  <a:pt x="329" y="71"/>
                  <a:pt x="324" y="63"/>
                </a:cubicBezTo>
                <a:cubicBezTo>
                  <a:pt x="319" y="56"/>
                  <a:pt x="311" y="50"/>
                  <a:pt x="303" y="45"/>
                </a:cubicBezTo>
                <a:cubicBezTo>
                  <a:pt x="288" y="30"/>
                  <a:pt x="253" y="7"/>
                  <a:pt x="253" y="7"/>
                </a:cubicBezTo>
                <a:cubicBezTo>
                  <a:pt x="253" y="7"/>
                  <a:pt x="215" y="0"/>
                  <a:pt x="199" y="27"/>
                </a:cubicBezTo>
                <a:cubicBezTo>
                  <a:pt x="183" y="55"/>
                  <a:pt x="169" y="72"/>
                  <a:pt x="158" y="90"/>
                </a:cubicBezTo>
                <a:cubicBezTo>
                  <a:pt x="147" y="108"/>
                  <a:pt x="140" y="117"/>
                  <a:pt x="150" y="137"/>
                </a:cubicBezTo>
                <a:cubicBezTo>
                  <a:pt x="151" y="139"/>
                  <a:pt x="152" y="142"/>
                  <a:pt x="153" y="144"/>
                </a:cubicBezTo>
                <a:cubicBezTo>
                  <a:pt x="149" y="152"/>
                  <a:pt x="146" y="160"/>
                  <a:pt x="149" y="166"/>
                </a:cubicBezTo>
                <a:cubicBezTo>
                  <a:pt x="152" y="175"/>
                  <a:pt x="155" y="183"/>
                  <a:pt x="155" y="191"/>
                </a:cubicBezTo>
                <a:cubicBezTo>
                  <a:pt x="154" y="194"/>
                  <a:pt x="154" y="196"/>
                  <a:pt x="154" y="198"/>
                </a:cubicBezTo>
                <a:cubicBezTo>
                  <a:pt x="153" y="201"/>
                  <a:pt x="151" y="204"/>
                  <a:pt x="148" y="206"/>
                </a:cubicBezTo>
                <a:cubicBezTo>
                  <a:pt x="137" y="216"/>
                  <a:pt x="137" y="216"/>
                  <a:pt x="137" y="216"/>
                </a:cubicBezTo>
                <a:cubicBezTo>
                  <a:pt x="137" y="216"/>
                  <a:pt x="150" y="212"/>
                  <a:pt x="155" y="204"/>
                </a:cubicBezTo>
                <a:cubicBezTo>
                  <a:pt x="157" y="210"/>
                  <a:pt x="157" y="210"/>
                  <a:pt x="157" y="210"/>
                </a:cubicBezTo>
                <a:cubicBezTo>
                  <a:pt x="157" y="210"/>
                  <a:pt x="118" y="230"/>
                  <a:pt x="111" y="265"/>
                </a:cubicBezTo>
                <a:cubicBezTo>
                  <a:pt x="103" y="300"/>
                  <a:pt x="100" y="313"/>
                  <a:pt x="100" y="313"/>
                </a:cubicBezTo>
                <a:cubicBezTo>
                  <a:pt x="14" y="265"/>
                  <a:pt x="14" y="265"/>
                  <a:pt x="14" y="265"/>
                </a:cubicBezTo>
                <a:cubicBezTo>
                  <a:pt x="0" y="296"/>
                  <a:pt x="0" y="296"/>
                  <a:pt x="0" y="296"/>
                </a:cubicBezTo>
                <a:cubicBezTo>
                  <a:pt x="85" y="376"/>
                  <a:pt x="85" y="376"/>
                  <a:pt x="85" y="376"/>
                </a:cubicBezTo>
                <a:cubicBezTo>
                  <a:pt x="85" y="376"/>
                  <a:pt x="71" y="428"/>
                  <a:pt x="81" y="435"/>
                </a:cubicBezTo>
                <a:cubicBezTo>
                  <a:pt x="91" y="442"/>
                  <a:pt x="131" y="461"/>
                  <a:pt x="139" y="461"/>
                </a:cubicBezTo>
                <a:cubicBezTo>
                  <a:pt x="147" y="461"/>
                  <a:pt x="154" y="461"/>
                  <a:pt x="154" y="461"/>
                </a:cubicBezTo>
                <a:cubicBezTo>
                  <a:pt x="154" y="461"/>
                  <a:pt x="138" y="522"/>
                  <a:pt x="139" y="528"/>
                </a:cubicBezTo>
                <a:cubicBezTo>
                  <a:pt x="139" y="534"/>
                  <a:pt x="139" y="534"/>
                  <a:pt x="139" y="534"/>
                </a:cubicBezTo>
                <a:cubicBezTo>
                  <a:pt x="139" y="534"/>
                  <a:pt x="125" y="599"/>
                  <a:pt x="119" y="617"/>
                </a:cubicBezTo>
                <a:cubicBezTo>
                  <a:pt x="113" y="634"/>
                  <a:pt x="107" y="658"/>
                  <a:pt x="103" y="671"/>
                </a:cubicBezTo>
                <a:cubicBezTo>
                  <a:pt x="100" y="684"/>
                  <a:pt x="95" y="701"/>
                  <a:pt x="95" y="701"/>
                </a:cubicBezTo>
                <a:cubicBezTo>
                  <a:pt x="97" y="706"/>
                  <a:pt x="97" y="706"/>
                  <a:pt x="97" y="706"/>
                </a:cubicBezTo>
                <a:cubicBezTo>
                  <a:pt x="97" y="706"/>
                  <a:pt x="87" y="803"/>
                  <a:pt x="94" y="830"/>
                </a:cubicBezTo>
                <a:cubicBezTo>
                  <a:pt x="101" y="857"/>
                  <a:pt x="123" y="1003"/>
                  <a:pt x="121" y="1024"/>
                </a:cubicBezTo>
                <a:cubicBezTo>
                  <a:pt x="120" y="1045"/>
                  <a:pt x="110" y="1078"/>
                  <a:pt x="92" y="1091"/>
                </a:cubicBezTo>
                <a:cubicBezTo>
                  <a:pt x="73" y="1105"/>
                  <a:pt x="46" y="1128"/>
                  <a:pt x="56" y="1136"/>
                </a:cubicBezTo>
                <a:close/>
                <a:moveTo>
                  <a:pt x="328" y="92"/>
                </a:moveTo>
                <a:cubicBezTo>
                  <a:pt x="328" y="93"/>
                  <a:pt x="328" y="95"/>
                  <a:pt x="328" y="98"/>
                </a:cubicBezTo>
                <a:cubicBezTo>
                  <a:pt x="326" y="92"/>
                  <a:pt x="323" y="84"/>
                  <a:pt x="320" y="76"/>
                </a:cubicBezTo>
                <a:cubicBezTo>
                  <a:pt x="321" y="77"/>
                  <a:pt x="322" y="78"/>
                  <a:pt x="323" y="79"/>
                </a:cubicBezTo>
                <a:cubicBezTo>
                  <a:pt x="325" y="80"/>
                  <a:pt x="327" y="82"/>
                  <a:pt x="328" y="83"/>
                </a:cubicBezTo>
                <a:cubicBezTo>
                  <a:pt x="328" y="87"/>
                  <a:pt x="328" y="90"/>
                  <a:pt x="328" y="92"/>
                </a:cubicBezTo>
                <a:close/>
                <a:moveTo>
                  <a:pt x="346" y="207"/>
                </a:moveTo>
                <a:cubicBezTo>
                  <a:pt x="344" y="200"/>
                  <a:pt x="343" y="189"/>
                  <a:pt x="344" y="179"/>
                </a:cubicBezTo>
                <a:cubicBezTo>
                  <a:pt x="347" y="183"/>
                  <a:pt x="349" y="186"/>
                  <a:pt x="351" y="189"/>
                </a:cubicBezTo>
                <a:cubicBezTo>
                  <a:pt x="354" y="194"/>
                  <a:pt x="350" y="201"/>
                  <a:pt x="346" y="207"/>
                </a:cubicBezTo>
                <a:close/>
                <a:moveTo>
                  <a:pt x="334" y="392"/>
                </a:moveTo>
                <a:cubicBezTo>
                  <a:pt x="359" y="339"/>
                  <a:pt x="361" y="336"/>
                  <a:pt x="379" y="346"/>
                </a:cubicBezTo>
                <a:cubicBezTo>
                  <a:pt x="397" y="356"/>
                  <a:pt x="410" y="370"/>
                  <a:pt x="416" y="381"/>
                </a:cubicBezTo>
                <a:cubicBezTo>
                  <a:pt x="421" y="392"/>
                  <a:pt x="417" y="391"/>
                  <a:pt x="425" y="399"/>
                </a:cubicBezTo>
                <a:cubicBezTo>
                  <a:pt x="432" y="407"/>
                  <a:pt x="435" y="410"/>
                  <a:pt x="432" y="415"/>
                </a:cubicBezTo>
                <a:cubicBezTo>
                  <a:pt x="430" y="420"/>
                  <a:pt x="420" y="437"/>
                  <a:pt x="419" y="440"/>
                </a:cubicBezTo>
                <a:cubicBezTo>
                  <a:pt x="417" y="443"/>
                  <a:pt x="422" y="438"/>
                  <a:pt x="412" y="451"/>
                </a:cubicBezTo>
                <a:cubicBezTo>
                  <a:pt x="402" y="463"/>
                  <a:pt x="396" y="479"/>
                  <a:pt x="393" y="485"/>
                </a:cubicBezTo>
                <a:cubicBezTo>
                  <a:pt x="389" y="491"/>
                  <a:pt x="378" y="493"/>
                  <a:pt x="376" y="499"/>
                </a:cubicBezTo>
                <a:cubicBezTo>
                  <a:pt x="375" y="506"/>
                  <a:pt x="366" y="511"/>
                  <a:pt x="364" y="511"/>
                </a:cubicBezTo>
                <a:cubicBezTo>
                  <a:pt x="362" y="511"/>
                  <a:pt x="357" y="510"/>
                  <a:pt x="357" y="510"/>
                </a:cubicBezTo>
                <a:cubicBezTo>
                  <a:pt x="336" y="504"/>
                  <a:pt x="336" y="504"/>
                  <a:pt x="336" y="504"/>
                </a:cubicBezTo>
                <a:cubicBezTo>
                  <a:pt x="336" y="504"/>
                  <a:pt x="309" y="445"/>
                  <a:pt x="334" y="392"/>
                </a:cubicBezTo>
                <a:close/>
                <a:moveTo>
                  <a:pt x="312" y="59"/>
                </a:moveTo>
                <a:cubicBezTo>
                  <a:pt x="320" y="64"/>
                  <a:pt x="324" y="70"/>
                  <a:pt x="326" y="76"/>
                </a:cubicBezTo>
                <a:cubicBezTo>
                  <a:pt x="322" y="71"/>
                  <a:pt x="318" y="67"/>
                  <a:pt x="314" y="63"/>
                </a:cubicBezTo>
                <a:cubicBezTo>
                  <a:pt x="314" y="61"/>
                  <a:pt x="313" y="60"/>
                  <a:pt x="312" y="59"/>
                </a:cubicBezTo>
                <a:close/>
                <a:moveTo>
                  <a:pt x="158" y="133"/>
                </a:moveTo>
                <a:cubicBezTo>
                  <a:pt x="159" y="134"/>
                  <a:pt x="159" y="134"/>
                  <a:pt x="159" y="135"/>
                </a:cubicBezTo>
                <a:cubicBezTo>
                  <a:pt x="157" y="137"/>
                  <a:pt x="156" y="139"/>
                  <a:pt x="154" y="142"/>
                </a:cubicBezTo>
                <a:cubicBezTo>
                  <a:pt x="151" y="131"/>
                  <a:pt x="149" y="117"/>
                  <a:pt x="153" y="110"/>
                </a:cubicBezTo>
                <a:cubicBezTo>
                  <a:pt x="160" y="96"/>
                  <a:pt x="174" y="85"/>
                  <a:pt x="174" y="85"/>
                </a:cubicBezTo>
                <a:cubicBezTo>
                  <a:pt x="174" y="85"/>
                  <a:pt x="154" y="110"/>
                  <a:pt x="158" y="133"/>
                </a:cubicBezTo>
                <a:close/>
                <a:moveTo>
                  <a:pt x="156" y="188"/>
                </a:moveTo>
                <a:cubicBezTo>
                  <a:pt x="155" y="178"/>
                  <a:pt x="155" y="167"/>
                  <a:pt x="155" y="164"/>
                </a:cubicBezTo>
                <a:cubicBezTo>
                  <a:pt x="156" y="162"/>
                  <a:pt x="157" y="159"/>
                  <a:pt x="159" y="156"/>
                </a:cubicBezTo>
                <a:cubicBezTo>
                  <a:pt x="159" y="156"/>
                  <a:pt x="159" y="156"/>
                  <a:pt x="159" y="156"/>
                </a:cubicBezTo>
                <a:cubicBezTo>
                  <a:pt x="159" y="156"/>
                  <a:pt x="159" y="156"/>
                  <a:pt x="159" y="156"/>
                </a:cubicBezTo>
                <a:cubicBezTo>
                  <a:pt x="160" y="154"/>
                  <a:pt x="161" y="152"/>
                  <a:pt x="163" y="151"/>
                </a:cubicBezTo>
                <a:cubicBezTo>
                  <a:pt x="166" y="160"/>
                  <a:pt x="167" y="164"/>
                  <a:pt x="163" y="170"/>
                </a:cubicBezTo>
                <a:cubicBezTo>
                  <a:pt x="160" y="175"/>
                  <a:pt x="158" y="182"/>
                  <a:pt x="156" y="188"/>
                </a:cubicBezTo>
                <a:close/>
                <a:moveTo>
                  <a:pt x="155" y="358"/>
                </a:moveTo>
                <a:cubicBezTo>
                  <a:pt x="144" y="345"/>
                  <a:pt x="144" y="345"/>
                  <a:pt x="144" y="345"/>
                </a:cubicBezTo>
                <a:cubicBezTo>
                  <a:pt x="151" y="326"/>
                  <a:pt x="151" y="326"/>
                  <a:pt x="151" y="326"/>
                </a:cubicBezTo>
                <a:cubicBezTo>
                  <a:pt x="151" y="326"/>
                  <a:pt x="147" y="340"/>
                  <a:pt x="151" y="349"/>
                </a:cubicBezTo>
                <a:cubicBezTo>
                  <a:pt x="155" y="358"/>
                  <a:pt x="155" y="358"/>
                  <a:pt x="155" y="35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22"/>
          <p:cNvSpPr/>
          <p:nvPr/>
        </p:nvSpPr>
        <p:spPr>
          <a:xfrm>
            <a:off x="5259240" y="1087560"/>
            <a:ext cx="149400" cy="112680"/>
          </a:xfrm>
          <a:custGeom>
            <a:avLst/>
            <a:gdLst/>
            <a:ahLst/>
            <a:rect l="l" t="t" r="r" b="b"/>
            <a:pathLst>
              <a:path w="82" h="62">
                <a:moveTo>
                  <a:pt x="58" y="0"/>
                </a:moveTo>
                <a:cubicBezTo>
                  <a:pt x="58" y="0"/>
                  <a:pt x="20" y="18"/>
                  <a:pt x="10" y="37"/>
                </a:cubicBezTo>
                <a:cubicBezTo>
                  <a:pt x="0" y="57"/>
                  <a:pt x="0" y="57"/>
                  <a:pt x="0" y="57"/>
                </a:cubicBezTo>
                <a:cubicBezTo>
                  <a:pt x="29" y="62"/>
                  <a:pt x="29" y="62"/>
                  <a:pt x="29" y="62"/>
                </a:cubicBezTo>
                <a:cubicBezTo>
                  <a:pt x="29" y="62"/>
                  <a:pt x="39" y="31"/>
                  <a:pt x="56" y="19"/>
                </a:cubicBezTo>
                <a:cubicBezTo>
                  <a:pt x="72" y="7"/>
                  <a:pt x="82" y="1"/>
                  <a:pt x="82" y="1"/>
                </a:cubicBezTo>
                <a:lnTo>
                  <a:pt x="5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23"/>
          <p:cNvSpPr/>
          <p:nvPr/>
        </p:nvSpPr>
        <p:spPr>
          <a:xfrm>
            <a:off x="5197320" y="1081080"/>
            <a:ext cx="46080" cy="104760"/>
          </a:xfrm>
          <a:custGeom>
            <a:avLst/>
            <a:gdLst/>
            <a:ahLst/>
            <a:rect l="l" t="t" r="r" b="b"/>
            <a:pathLst>
              <a:path w="26" h="59">
                <a:moveTo>
                  <a:pt x="3" y="0"/>
                </a:moveTo>
                <a:cubicBezTo>
                  <a:pt x="3" y="0"/>
                  <a:pt x="9" y="23"/>
                  <a:pt x="5" y="33"/>
                </a:cubicBezTo>
                <a:cubicBezTo>
                  <a:pt x="0" y="43"/>
                  <a:pt x="0" y="43"/>
                  <a:pt x="0" y="43"/>
                </a:cubicBezTo>
                <a:cubicBezTo>
                  <a:pt x="26" y="59"/>
                  <a:pt x="26" y="59"/>
                  <a:pt x="26" y="59"/>
                </a:cubicBezTo>
                <a:cubicBezTo>
                  <a:pt x="26" y="59"/>
                  <a:pt x="22" y="25"/>
                  <a:pt x="16" y="15"/>
                </a:cubicBezTo>
                <a:cubicBezTo>
                  <a:pt x="10" y="5"/>
                  <a:pt x="3" y="0"/>
                  <a:pt x="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24"/>
          <p:cNvSpPr/>
          <p:nvPr/>
        </p:nvSpPr>
        <p:spPr>
          <a:xfrm>
            <a:off x="3470400" y="709560"/>
            <a:ext cx="514080" cy="1722600"/>
          </a:xfrm>
          <a:custGeom>
            <a:avLst/>
            <a:gdLst/>
            <a:ahLst/>
            <a:rect l="l" t="t" r="r" b="b"/>
            <a:pathLst>
              <a:path w="283" h="949">
                <a:moveTo>
                  <a:pt x="91" y="143"/>
                </a:moveTo>
                <a:cubicBezTo>
                  <a:pt x="92" y="143"/>
                  <a:pt x="97" y="140"/>
                  <a:pt x="99" y="135"/>
                </a:cubicBezTo>
                <a:cubicBezTo>
                  <a:pt x="100" y="130"/>
                  <a:pt x="102" y="118"/>
                  <a:pt x="102" y="118"/>
                </a:cubicBezTo>
                <a:cubicBezTo>
                  <a:pt x="106" y="117"/>
                  <a:pt x="106" y="117"/>
                  <a:pt x="106" y="117"/>
                </a:cubicBezTo>
                <a:cubicBezTo>
                  <a:pt x="107" y="88"/>
                  <a:pt x="107" y="88"/>
                  <a:pt x="107" y="88"/>
                </a:cubicBezTo>
                <a:cubicBezTo>
                  <a:pt x="107" y="88"/>
                  <a:pt x="99" y="88"/>
                  <a:pt x="98" y="81"/>
                </a:cubicBezTo>
                <a:cubicBezTo>
                  <a:pt x="97" y="75"/>
                  <a:pt x="98" y="64"/>
                  <a:pt x="101" y="63"/>
                </a:cubicBezTo>
                <a:cubicBezTo>
                  <a:pt x="103" y="62"/>
                  <a:pt x="103" y="62"/>
                  <a:pt x="103" y="62"/>
                </a:cubicBezTo>
                <a:cubicBezTo>
                  <a:pt x="103" y="62"/>
                  <a:pt x="100" y="29"/>
                  <a:pt x="106" y="21"/>
                </a:cubicBezTo>
                <a:cubicBezTo>
                  <a:pt x="112" y="13"/>
                  <a:pt x="121" y="5"/>
                  <a:pt x="129" y="2"/>
                </a:cubicBezTo>
                <a:cubicBezTo>
                  <a:pt x="137" y="0"/>
                  <a:pt x="147" y="2"/>
                  <a:pt x="149" y="2"/>
                </a:cubicBezTo>
                <a:cubicBezTo>
                  <a:pt x="150" y="2"/>
                  <a:pt x="152" y="2"/>
                  <a:pt x="155" y="2"/>
                </a:cubicBezTo>
                <a:cubicBezTo>
                  <a:pt x="158" y="3"/>
                  <a:pt x="177" y="17"/>
                  <a:pt x="180" y="23"/>
                </a:cubicBezTo>
                <a:cubicBezTo>
                  <a:pt x="183" y="29"/>
                  <a:pt x="190" y="50"/>
                  <a:pt x="188" y="58"/>
                </a:cubicBezTo>
                <a:cubicBezTo>
                  <a:pt x="187" y="66"/>
                  <a:pt x="186" y="69"/>
                  <a:pt x="186" y="69"/>
                </a:cubicBezTo>
                <a:cubicBezTo>
                  <a:pt x="186" y="69"/>
                  <a:pt x="191" y="73"/>
                  <a:pt x="190" y="77"/>
                </a:cubicBezTo>
                <a:cubicBezTo>
                  <a:pt x="189" y="81"/>
                  <a:pt x="185" y="100"/>
                  <a:pt x="182" y="100"/>
                </a:cubicBezTo>
                <a:cubicBezTo>
                  <a:pt x="180" y="99"/>
                  <a:pt x="178" y="98"/>
                  <a:pt x="178" y="98"/>
                </a:cubicBezTo>
                <a:cubicBezTo>
                  <a:pt x="178" y="98"/>
                  <a:pt x="167" y="120"/>
                  <a:pt x="166" y="125"/>
                </a:cubicBezTo>
                <a:cubicBezTo>
                  <a:pt x="166" y="129"/>
                  <a:pt x="165" y="133"/>
                  <a:pt x="165" y="133"/>
                </a:cubicBezTo>
                <a:cubicBezTo>
                  <a:pt x="173" y="155"/>
                  <a:pt x="173" y="155"/>
                  <a:pt x="173" y="155"/>
                </a:cubicBezTo>
                <a:cubicBezTo>
                  <a:pt x="173" y="155"/>
                  <a:pt x="224" y="162"/>
                  <a:pt x="230" y="173"/>
                </a:cubicBezTo>
                <a:cubicBezTo>
                  <a:pt x="237" y="183"/>
                  <a:pt x="239" y="191"/>
                  <a:pt x="241" y="195"/>
                </a:cubicBezTo>
                <a:cubicBezTo>
                  <a:pt x="244" y="199"/>
                  <a:pt x="249" y="204"/>
                  <a:pt x="250" y="209"/>
                </a:cubicBezTo>
                <a:cubicBezTo>
                  <a:pt x="250" y="214"/>
                  <a:pt x="253" y="223"/>
                  <a:pt x="257" y="228"/>
                </a:cubicBezTo>
                <a:cubicBezTo>
                  <a:pt x="260" y="232"/>
                  <a:pt x="279" y="250"/>
                  <a:pt x="279" y="268"/>
                </a:cubicBezTo>
                <a:cubicBezTo>
                  <a:pt x="279" y="287"/>
                  <a:pt x="281" y="311"/>
                  <a:pt x="266" y="311"/>
                </a:cubicBezTo>
                <a:cubicBezTo>
                  <a:pt x="251" y="312"/>
                  <a:pt x="235" y="310"/>
                  <a:pt x="235" y="310"/>
                </a:cubicBezTo>
                <a:cubicBezTo>
                  <a:pt x="225" y="310"/>
                  <a:pt x="225" y="310"/>
                  <a:pt x="225" y="310"/>
                </a:cubicBezTo>
                <a:cubicBezTo>
                  <a:pt x="225" y="310"/>
                  <a:pt x="214" y="363"/>
                  <a:pt x="215" y="368"/>
                </a:cubicBezTo>
                <a:cubicBezTo>
                  <a:pt x="216" y="374"/>
                  <a:pt x="227" y="443"/>
                  <a:pt x="224" y="450"/>
                </a:cubicBezTo>
                <a:cubicBezTo>
                  <a:pt x="221" y="457"/>
                  <a:pt x="219" y="461"/>
                  <a:pt x="219" y="467"/>
                </a:cubicBezTo>
                <a:cubicBezTo>
                  <a:pt x="218" y="472"/>
                  <a:pt x="220" y="487"/>
                  <a:pt x="220" y="487"/>
                </a:cubicBezTo>
                <a:cubicBezTo>
                  <a:pt x="220" y="487"/>
                  <a:pt x="211" y="634"/>
                  <a:pt x="212" y="650"/>
                </a:cubicBezTo>
                <a:cubicBezTo>
                  <a:pt x="212" y="667"/>
                  <a:pt x="218" y="715"/>
                  <a:pt x="216" y="739"/>
                </a:cubicBezTo>
                <a:cubicBezTo>
                  <a:pt x="214" y="763"/>
                  <a:pt x="214" y="793"/>
                  <a:pt x="214" y="793"/>
                </a:cubicBezTo>
                <a:cubicBezTo>
                  <a:pt x="214" y="793"/>
                  <a:pt x="223" y="801"/>
                  <a:pt x="225" y="811"/>
                </a:cubicBezTo>
                <a:cubicBezTo>
                  <a:pt x="228" y="821"/>
                  <a:pt x="230" y="833"/>
                  <a:pt x="231" y="834"/>
                </a:cubicBezTo>
                <a:cubicBezTo>
                  <a:pt x="232" y="835"/>
                  <a:pt x="248" y="845"/>
                  <a:pt x="253" y="847"/>
                </a:cubicBezTo>
                <a:cubicBezTo>
                  <a:pt x="258" y="849"/>
                  <a:pt x="278" y="849"/>
                  <a:pt x="280" y="855"/>
                </a:cubicBezTo>
                <a:cubicBezTo>
                  <a:pt x="283" y="861"/>
                  <a:pt x="283" y="864"/>
                  <a:pt x="283" y="864"/>
                </a:cubicBezTo>
                <a:cubicBezTo>
                  <a:pt x="283" y="864"/>
                  <a:pt x="267" y="875"/>
                  <a:pt x="254" y="875"/>
                </a:cubicBezTo>
                <a:cubicBezTo>
                  <a:pt x="241" y="874"/>
                  <a:pt x="227" y="872"/>
                  <a:pt x="217" y="866"/>
                </a:cubicBezTo>
                <a:cubicBezTo>
                  <a:pt x="207" y="860"/>
                  <a:pt x="191" y="854"/>
                  <a:pt x="191" y="854"/>
                </a:cubicBezTo>
                <a:cubicBezTo>
                  <a:pt x="188" y="862"/>
                  <a:pt x="188" y="862"/>
                  <a:pt x="188" y="862"/>
                </a:cubicBezTo>
                <a:cubicBezTo>
                  <a:pt x="188" y="862"/>
                  <a:pt x="158" y="862"/>
                  <a:pt x="153" y="859"/>
                </a:cubicBezTo>
                <a:cubicBezTo>
                  <a:pt x="148" y="856"/>
                  <a:pt x="148" y="854"/>
                  <a:pt x="148" y="854"/>
                </a:cubicBezTo>
                <a:cubicBezTo>
                  <a:pt x="150" y="841"/>
                  <a:pt x="150" y="841"/>
                  <a:pt x="150" y="841"/>
                </a:cubicBezTo>
                <a:cubicBezTo>
                  <a:pt x="150" y="841"/>
                  <a:pt x="148" y="823"/>
                  <a:pt x="150" y="817"/>
                </a:cubicBezTo>
                <a:cubicBezTo>
                  <a:pt x="153" y="811"/>
                  <a:pt x="152" y="811"/>
                  <a:pt x="154" y="807"/>
                </a:cubicBezTo>
                <a:cubicBezTo>
                  <a:pt x="156" y="803"/>
                  <a:pt x="162" y="799"/>
                  <a:pt x="161" y="796"/>
                </a:cubicBezTo>
                <a:cubicBezTo>
                  <a:pt x="161" y="793"/>
                  <a:pt x="158" y="754"/>
                  <a:pt x="154" y="743"/>
                </a:cubicBezTo>
                <a:cubicBezTo>
                  <a:pt x="149" y="733"/>
                  <a:pt x="144" y="714"/>
                  <a:pt x="144" y="710"/>
                </a:cubicBezTo>
                <a:cubicBezTo>
                  <a:pt x="144" y="705"/>
                  <a:pt x="137" y="651"/>
                  <a:pt x="135" y="634"/>
                </a:cubicBezTo>
                <a:cubicBezTo>
                  <a:pt x="132" y="617"/>
                  <a:pt x="126" y="574"/>
                  <a:pt x="126" y="574"/>
                </a:cubicBezTo>
                <a:cubicBezTo>
                  <a:pt x="126" y="574"/>
                  <a:pt x="118" y="595"/>
                  <a:pt x="114" y="608"/>
                </a:cubicBezTo>
                <a:cubicBezTo>
                  <a:pt x="109" y="621"/>
                  <a:pt x="95" y="691"/>
                  <a:pt x="93" y="710"/>
                </a:cubicBezTo>
                <a:cubicBezTo>
                  <a:pt x="90" y="730"/>
                  <a:pt x="88" y="737"/>
                  <a:pt x="87" y="743"/>
                </a:cubicBezTo>
                <a:cubicBezTo>
                  <a:pt x="87" y="750"/>
                  <a:pt x="88" y="826"/>
                  <a:pt x="86" y="836"/>
                </a:cubicBezTo>
                <a:cubicBezTo>
                  <a:pt x="84" y="846"/>
                  <a:pt x="86" y="856"/>
                  <a:pt x="77" y="865"/>
                </a:cubicBezTo>
                <a:cubicBezTo>
                  <a:pt x="68" y="874"/>
                  <a:pt x="58" y="885"/>
                  <a:pt x="58" y="885"/>
                </a:cubicBezTo>
                <a:cubicBezTo>
                  <a:pt x="58" y="885"/>
                  <a:pt x="73" y="929"/>
                  <a:pt x="69" y="937"/>
                </a:cubicBezTo>
                <a:cubicBezTo>
                  <a:pt x="64" y="945"/>
                  <a:pt x="51" y="949"/>
                  <a:pt x="40" y="948"/>
                </a:cubicBezTo>
                <a:cubicBezTo>
                  <a:pt x="29" y="948"/>
                  <a:pt x="15" y="944"/>
                  <a:pt x="10" y="932"/>
                </a:cubicBezTo>
                <a:cubicBezTo>
                  <a:pt x="6" y="921"/>
                  <a:pt x="9" y="882"/>
                  <a:pt x="9" y="882"/>
                </a:cubicBezTo>
                <a:cubicBezTo>
                  <a:pt x="0" y="853"/>
                  <a:pt x="0" y="853"/>
                  <a:pt x="0" y="853"/>
                </a:cubicBezTo>
                <a:cubicBezTo>
                  <a:pt x="0" y="853"/>
                  <a:pt x="3" y="841"/>
                  <a:pt x="8" y="838"/>
                </a:cubicBezTo>
                <a:cubicBezTo>
                  <a:pt x="13" y="835"/>
                  <a:pt x="18" y="828"/>
                  <a:pt x="15" y="820"/>
                </a:cubicBezTo>
                <a:cubicBezTo>
                  <a:pt x="11" y="811"/>
                  <a:pt x="15" y="713"/>
                  <a:pt x="16" y="708"/>
                </a:cubicBezTo>
                <a:cubicBezTo>
                  <a:pt x="17" y="704"/>
                  <a:pt x="18" y="680"/>
                  <a:pt x="18" y="676"/>
                </a:cubicBezTo>
                <a:cubicBezTo>
                  <a:pt x="19" y="672"/>
                  <a:pt x="36" y="598"/>
                  <a:pt x="34" y="586"/>
                </a:cubicBezTo>
                <a:cubicBezTo>
                  <a:pt x="33" y="574"/>
                  <a:pt x="37" y="535"/>
                  <a:pt x="37" y="532"/>
                </a:cubicBezTo>
                <a:cubicBezTo>
                  <a:pt x="37" y="529"/>
                  <a:pt x="39" y="470"/>
                  <a:pt x="40" y="468"/>
                </a:cubicBezTo>
                <a:cubicBezTo>
                  <a:pt x="41" y="466"/>
                  <a:pt x="42" y="447"/>
                  <a:pt x="42" y="447"/>
                </a:cubicBezTo>
                <a:cubicBezTo>
                  <a:pt x="42" y="447"/>
                  <a:pt x="30" y="421"/>
                  <a:pt x="37" y="402"/>
                </a:cubicBezTo>
                <a:cubicBezTo>
                  <a:pt x="43" y="383"/>
                  <a:pt x="57" y="332"/>
                  <a:pt x="57" y="331"/>
                </a:cubicBezTo>
                <a:cubicBezTo>
                  <a:pt x="57" y="330"/>
                  <a:pt x="58" y="321"/>
                  <a:pt x="58" y="321"/>
                </a:cubicBezTo>
                <a:cubicBezTo>
                  <a:pt x="58" y="321"/>
                  <a:pt x="49" y="296"/>
                  <a:pt x="43" y="286"/>
                </a:cubicBezTo>
                <a:cubicBezTo>
                  <a:pt x="38" y="276"/>
                  <a:pt x="21" y="240"/>
                  <a:pt x="24" y="219"/>
                </a:cubicBezTo>
                <a:cubicBezTo>
                  <a:pt x="27" y="198"/>
                  <a:pt x="25" y="193"/>
                  <a:pt x="28" y="184"/>
                </a:cubicBezTo>
                <a:cubicBezTo>
                  <a:pt x="31" y="176"/>
                  <a:pt x="34" y="168"/>
                  <a:pt x="36" y="165"/>
                </a:cubicBezTo>
                <a:cubicBezTo>
                  <a:pt x="37" y="163"/>
                  <a:pt x="52" y="153"/>
                  <a:pt x="58" y="151"/>
                </a:cubicBezTo>
                <a:cubicBezTo>
                  <a:pt x="65" y="148"/>
                  <a:pt x="73" y="149"/>
                  <a:pt x="78" y="148"/>
                </a:cubicBezTo>
                <a:cubicBezTo>
                  <a:pt x="84" y="147"/>
                  <a:pt x="91" y="143"/>
                  <a:pt x="91" y="14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25"/>
          <p:cNvSpPr/>
          <p:nvPr/>
        </p:nvSpPr>
        <p:spPr>
          <a:xfrm>
            <a:off x="3714840" y="990720"/>
            <a:ext cx="141120" cy="374400"/>
          </a:xfrm>
          <a:custGeom>
            <a:avLst/>
            <a:gdLst/>
            <a:ahLst/>
            <a:rect l="l" t="t" r="r" b="b"/>
            <a:pathLst>
              <a:path w="77" h="206">
                <a:moveTo>
                  <a:pt x="7" y="0"/>
                </a:moveTo>
                <a:cubicBezTo>
                  <a:pt x="7" y="0"/>
                  <a:pt x="16" y="3"/>
                  <a:pt x="19" y="2"/>
                </a:cubicBezTo>
                <a:cubicBezTo>
                  <a:pt x="21" y="0"/>
                  <a:pt x="21" y="0"/>
                  <a:pt x="21" y="0"/>
                </a:cubicBezTo>
                <a:cubicBezTo>
                  <a:pt x="21" y="0"/>
                  <a:pt x="28" y="6"/>
                  <a:pt x="29" y="8"/>
                </a:cubicBezTo>
                <a:cubicBezTo>
                  <a:pt x="30" y="10"/>
                  <a:pt x="27" y="24"/>
                  <a:pt x="27" y="24"/>
                </a:cubicBezTo>
                <a:cubicBezTo>
                  <a:pt x="27" y="24"/>
                  <a:pt x="30" y="41"/>
                  <a:pt x="37" y="48"/>
                </a:cubicBezTo>
                <a:cubicBezTo>
                  <a:pt x="44" y="55"/>
                  <a:pt x="58" y="94"/>
                  <a:pt x="58" y="94"/>
                </a:cubicBezTo>
                <a:cubicBezTo>
                  <a:pt x="58" y="94"/>
                  <a:pt x="71" y="165"/>
                  <a:pt x="74" y="171"/>
                </a:cubicBezTo>
                <a:cubicBezTo>
                  <a:pt x="77" y="178"/>
                  <a:pt x="77" y="179"/>
                  <a:pt x="77" y="179"/>
                </a:cubicBezTo>
                <a:cubicBezTo>
                  <a:pt x="61" y="206"/>
                  <a:pt x="61" y="206"/>
                  <a:pt x="61" y="206"/>
                </a:cubicBezTo>
                <a:cubicBezTo>
                  <a:pt x="61" y="206"/>
                  <a:pt x="34" y="182"/>
                  <a:pt x="29" y="171"/>
                </a:cubicBezTo>
                <a:cubicBezTo>
                  <a:pt x="23" y="161"/>
                  <a:pt x="14" y="74"/>
                  <a:pt x="15" y="66"/>
                </a:cubicBezTo>
                <a:cubicBezTo>
                  <a:pt x="15" y="59"/>
                  <a:pt x="13" y="32"/>
                  <a:pt x="13" y="32"/>
                </a:cubicBezTo>
                <a:cubicBezTo>
                  <a:pt x="14" y="25"/>
                  <a:pt x="14" y="25"/>
                  <a:pt x="14" y="25"/>
                </a:cubicBezTo>
                <a:cubicBezTo>
                  <a:pt x="0" y="8"/>
                  <a:pt x="0" y="8"/>
                  <a:pt x="0" y="8"/>
                </a:cubicBezTo>
                <a:lnTo>
                  <a:pt x="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26"/>
          <p:cNvSpPr/>
          <p:nvPr/>
        </p:nvSpPr>
        <p:spPr>
          <a:xfrm>
            <a:off x="6846840" y="988920"/>
            <a:ext cx="1144800" cy="3259080"/>
          </a:xfrm>
          <a:custGeom>
            <a:avLst/>
            <a:gdLst/>
            <a:ahLst/>
            <a:rect l="l" t="t" r="r" b="b"/>
            <a:pathLst>
              <a:path w="630" h="1795">
                <a:moveTo>
                  <a:pt x="28" y="785"/>
                </a:moveTo>
                <a:cubicBezTo>
                  <a:pt x="28" y="809"/>
                  <a:pt x="36" y="827"/>
                  <a:pt x="35" y="834"/>
                </a:cubicBezTo>
                <a:cubicBezTo>
                  <a:pt x="35" y="842"/>
                  <a:pt x="28" y="852"/>
                  <a:pt x="31" y="858"/>
                </a:cubicBezTo>
                <a:cubicBezTo>
                  <a:pt x="34" y="863"/>
                  <a:pt x="41" y="857"/>
                  <a:pt x="47" y="848"/>
                </a:cubicBezTo>
                <a:cubicBezTo>
                  <a:pt x="52" y="839"/>
                  <a:pt x="61" y="840"/>
                  <a:pt x="61" y="840"/>
                </a:cubicBezTo>
                <a:cubicBezTo>
                  <a:pt x="61" y="840"/>
                  <a:pt x="62" y="861"/>
                  <a:pt x="61" y="882"/>
                </a:cubicBezTo>
                <a:cubicBezTo>
                  <a:pt x="61" y="903"/>
                  <a:pt x="74" y="922"/>
                  <a:pt x="78" y="929"/>
                </a:cubicBezTo>
                <a:cubicBezTo>
                  <a:pt x="82" y="937"/>
                  <a:pt x="93" y="943"/>
                  <a:pt x="93" y="943"/>
                </a:cubicBezTo>
                <a:cubicBezTo>
                  <a:pt x="93" y="943"/>
                  <a:pt x="93" y="943"/>
                  <a:pt x="97" y="948"/>
                </a:cubicBezTo>
                <a:cubicBezTo>
                  <a:pt x="101" y="954"/>
                  <a:pt x="113" y="958"/>
                  <a:pt x="113" y="958"/>
                </a:cubicBezTo>
                <a:cubicBezTo>
                  <a:pt x="113" y="958"/>
                  <a:pt x="113" y="965"/>
                  <a:pt x="113" y="977"/>
                </a:cubicBezTo>
                <a:cubicBezTo>
                  <a:pt x="112" y="990"/>
                  <a:pt x="115" y="1007"/>
                  <a:pt x="126" y="1026"/>
                </a:cubicBezTo>
                <a:cubicBezTo>
                  <a:pt x="137" y="1044"/>
                  <a:pt x="127" y="1073"/>
                  <a:pt x="127" y="1087"/>
                </a:cubicBezTo>
                <a:cubicBezTo>
                  <a:pt x="128" y="1101"/>
                  <a:pt x="130" y="1115"/>
                  <a:pt x="130" y="1151"/>
                </a:cubicBezTo>
                <a:cubicBezTo>
                  <a:pt x="130" y="1187"/>
                  <a:pt x="118" y="1242"/>
                  <a:pt x="119" y="1267"/>
                </a:cubicBezTo>
                <a:cubicBezTo>
                  <a:pt x="121" y="1291"/>
                  <a:pt x="116" y="1292"/>
                  <a:pt x="106" y="1342"/>
                </a:cubicBezTo>
                <a:cubicBezTo>
                  <a:pt x="96" y="1392"/>
                  <a:pt x="104" y="1418"/>
                  <a:pt x="108" y="1460"/>
                </a:cubicBezTo>
                <a:cubicBezTo>
                  <a:pt x="111" y="1502"/>
                  <a:pt x="106" y="1541"/>
                  <a:pt x="113" y="1551"/>
                </a:cubicBezTo>
                <a:cubicBezTo>
                  <a:pt x="120" y="1560"/>
                  <a:pt x="114" y="1560"/>
                  <a:pt x="96" y="1569"/>
                </a:cubicBezTo>
                <a:cubicBezTo>
                  <a:pt x="77" y="1577"/>
                  <a:pt x="84" y="1578"/>
                  <a:pt x="81" y="1604"/>
                </a:cubicBezTo>
                <a:cubicBezTo>
                  <a:pt x="79" y="1631"/>
                  <a:pt x="94" y="1644"/>
                  <a:pt x="94" y="1644"/>
                </a:cubicBezTo>
                <a:cubicBezTo>
                  <a:pt x="94" y="1644"/>
                  <a:pt x="83" y="1682"/>
                  <a:pt x="78" y="1713"/>
                </a:cubicBezTo>
                <a:cubicBezTo>
                  <a:pt x="74" y="1743"/>
                  <a:pt x="75" y="1757"/>
                  <a:pt x="89" y="1776"/>
                </a:cubicBezTo>
                <a:cubicBezTo>
                  <a:pt x="102" y="1795"/>
                  <a:pt x="134" y="1794"/>
                  <a:pt x="155" y="1787"/>
                </a:cubicBezTo>
                <a:cubicBezTo>
                  <a:pt x="176" y="1781"/>
                  <a:pt x="179" y="1759"/>
                  <a:pt x="183" y="1742"/>
                </a:cubicBezTo>
                <a:cubicBezTo>
                  <a:pt x="186" y="1725"/>
                  <a:pt x="187" y="1648"/>
                  <a:pt x="187" y="1648"/>
                </a:cubicBezTo>
                <a:cubicBezTo>
                  <a:pt x="187" y="1648"/>
                  <a:pt x="187" y="1648"/>
                  <a:pt x="196" y="1641"/>
                </a:cubicBezTo>
                <a:cubicBezTo>
                  <a:pt x="204" y="1634"/>
                  <a:pt x="207" y="1623"/>
                  <a:pt x="208" y="1608"/>
                </a:cubicBezTo>
                <a:cubicBezTo>
                  <a:pt x="208" y="1592"/>
                  <a:pt x="216" y="1581"/>
                  <a:pt x="229" y="1562"/>
                </a:cubicBezTo>
                <a:cubicBezTo>
                  <a:pt x="241" y="1542"/>
                  <a:pt x="235" y="1519"/>
                  <a:pt x="232" y="1492"/>
                </a:cubicBezTo>
                <a:cubicBezTo>
                  <a:pt x="229" y="1464"/>
                  <a:pt x="229" y="1379"/>
                  <a:pt x="240" y="1358"/>
                </a:cubicBezTo>
                <a:cubicBezTo>
                  <a:pt x="250" y="1337"/>
                  <a:pt x="235" y="1298"/>
                  <a:pt x="239" y="1280"/>
                </a:cubicBezTo>
                <a:cubicBezTo>
                  <a:pt x="243" y="1262"/>
                  <a:pt x="253" y="1238"/>
                  <a:pt x="253" y="1221"/>
                </a:cubicBezTo>
                <a:cubicBezTo>
                  <a:pt x="253" y="1203"/>
                  <a:pt x="262" y="1173"/>
                  <a:pt x="275" y="1145"/>
                </a:cubicBezTo>
                <a:cubicBezTo>
                  <a:pt x="287" y="1117"/>
                  <a:pt x="314" y="1026"/>
                  <a:pt x="315" y="1022"/>
                </a:cubicBezTo>
                <a:cubicBezTo>
                  <a:pt x="315" y="1019"/>
                  <a:pt x="320" y="1019"/>
                  <a:pt x="322" y="1030"/>
                </a:cubicBezTo>
                <a:cubicBezTo>
                  <a:pt x="324" y="1042"/>
                  <a:pt x="323" y="1042"/>
                  <a:pt x="321" y="1085"/>
                </a:cubicBezTo>
                <a:cubicBezTo>
                  <a:pt x="320" y="1129"/>
                  <a:pt x="341" y="1192"/>
                  <a:pt x="342" y="1218"/>
                </a:cubicBezTo>
                <a:cubicBezTo>
                  <a:pt x="343" y="1244"/>
                  <a:pt x="349" y="1285"/>
                  <a:pt x="339" y="1331"/>
                </a:cubicBezTo>
                <a:cubicBezTo>
                  <a:pt x="329" y="1376"/>
                  <a:pt x="341" y="1439"/>
                  <a:pt x="341" y="1449"/>
                </a:cubicBezTo>
                <a:cubicBezTo>
                  <a:pt x="340" y="1473"/>
                  <a:pt x="340" y="1473"/>
                  <a:pt x="340" y="1473"/>
                </a:cubicBezTo>
                <a:cubicBezTo>
                  <a:pt x="340" y="1483"/>
                  <a:pt x="337" y="1480"/>
                  <a:pt x="335" y="1486"/>
                </a:cubicBezTo>
                <a:cubicBezTo>
                  <a:pt x="333" y="1492"/>
                  <a:pt x="336" y="1500"/>
                  <a:pt x="337" y="1518"/>
                </a:cubicBezTo>
                <a:cubicBezTo>
                  <a:pt x="338" y="1535"/>
                  <a:pt x="338" y="1544"/>
                  <a:pt x="338" y="1544"/>
                </a:cubicBezTo>
                <a:cubicBezTo>
                  <a:pt x="338" y="1544"/>
                  <a:pt x="339" y="1548"/>
                  <a:pt x="343" y="1555"/>
                </a:cubicBezTo>
                <a:cubicBezTo>
                  <a:pt x="347" y="1562"/>
                  <a:pt x="383" y="1568"/>
                  <a:pt x="410" y="1578"/>
                </a:cubicBezTo>
                <a:cubicBezTo>
                  <a:pt x="438" y="1588"/>
                  <a:pt x="453" y="1607"/>
                  <a:pt x="478" y="1618"/>
                </a:cubicBezTo>
                <a:cubicBezTo>
                  <a:pt x="502" y="1628"/>
                  <a:pt x="534" y="1626"/>
                  <a:pt x="547" y="1619"/>
                </a:cubicBezTo>
                <a:cubicBezTo>
                  <a:pt x="561" y="1611"/>
                  <a:pt x="561" y="1600"/>
                  <a:pt x="554" y="1586"/>
                </a:cubicBezTo>
                <a:cubicBezTo>
                  <a:pt x="547" y="1571"/>
                  <a:pt x="509" y="1547"/>
                  <a:pt x="496" y="1541"/>
                </a:cubicBezTo>
                <a:cubicBezTo>
                  <a:pt x="482" y="1535"/>
                  <a:pt x="465" y="1502"/>
                  <a:pt x="465" y="1502"/>
                </a:cubicBezTo>
                <a:cubicBezTo>
                  <a:pt x="465" y="1502"/>
                  <a:pt x="467" y="1484"/>
                  <a:pt x="463" y="1473"/>
                </a:cubicBezTo>
                <a:cubicBezTo>
                  <a:pt x="459" y="1461"/>
                  <a:pt x="456" y="1442"/>
                  <a:pt x="446" y="1399"/>
                </a:cubicBezTo>
                <a:cubicBezTo>
                  <a:pt x="436" y="1357"/>
                  <a:pt x="452" y="1321"/>
                  <a:pt x="461" y="1288"/>
                </a:cubicBezTo>
                <a:cubicBezTo>
                  <a:pt x="470" y="1256"/>
                  <a:pt x="462" y="1239"/>
                  <a:pt x="456" y="1233"/>
                </a:cubicBezTo>
                <a:cubicBezTo>
                  <a:pt x="451" y="1226"/>
                  <a:pt x="447" y="1225"/>
                  <a:pt x="452" y="1213"/>
                </a:cubicBezTo>
                <a:cubicBezTo>
                  <a:pt x="457" y="1201"/>
                  <a:pt x="453" y="1186"/>
                  <a:pt x="450" y="1179"/>
                </a:cubicBezTo>
                <a:cubicBezTo>
                  <a:pt x="447" y="1173"/>
                  <a:pt x="461" y="1154"/>
                  <a:pt x="472" y="1136"/>
                </a:cubicBezTo>
                <a:cubicBezTo>
                  <a:pt x="482" y="1119"/>
                  <a:pt x="480" y="1078"/>
                  <a:pt x="481" y="1065"/>
                </a:cubicBezTo>
                <a:cubicBezTo>
                  <a:pt x="481" y="1052"/>
                  <a:pt x="489" y="1018"/>
                  <a:pt x="495" y="996"/>
                </a:cubicBezTo>
                <a:cubicBezTo>
                  <a:pt x="501" y="974"/>
                  <a:pt x="495" y="929"/>
                  <a:pt x="495" y="929"/>
                </a:cubicBezTo>
                <a:cubicBezTo>
                  <a:pt x="495" y="929"/>
                  <a:pt x="496" y="929"/>
                  <a:pt x="498" y="927"/>
                </a:cubicBezTo>
                <a:cubicBezTo>
                  <a:pt x="501" y="925"/>
                  <a:pt x="500" y="905"/>
                  <a:pt x="499" y="852"/>
                </a:cubicBezTo>
                <a:cubicBezTo>
                  <a:pt x="498" y="799"/>
                  <a:pt x="484" y="687"/>
                  <a:pt x="484" y="687"/>
                </a:cubicBezTo>
                <a:cubicBezTo>
                  <a:pt x="484" y="687"/>
                  <a:pt x="487" y="698"/>
                  <a:pt x="488" y="710"/>
                </a:cubicBezTo>
                <a:cubicBezTo>
                  <a:pt x="490" y="721"/>
                  <a:pt x="514" y="804"/>
                  <a:pt x="515" y="818"/>
                </a:cubicBezTo>
                <a:cubicBezTo>
                  <a:pt x="517" y="832"/>
                  <a:pt x="540" y="874"/>
                  <a:pt x="540" y="874"/>
                </a:cubicBezTo>
                <a:cubicBezTo>
                  <a:pt x="540" y="874"/>
                  <a:pt x="540" y="874"/>
                  <a:pt x="546" y="886"/>
                </a:cubicBezTo>
                <a:cubicBezTo>
                  <a:pt x="551" y="897"/>
                  <a:pt x="558" y="901"/>
                  <a:pt x="558" y="901"/>
                </a:cubicBezTo>
                <a:cubicBezTo>
                  <a:pt x="558" y="901"/>
                  <a:pt x="558" y="901"/>
                  <a:pt x="558" y="904"/>
                </a:cubicBezTo>
                <a:cubicBezTo>
                  <a:pt x="558" y="907"/>
                  <a:pt x="557" y="914"/>
                  <a:pt x="558" y="925"/>
                </a:cubicBezTo>
                <a:cubicBezTo>
                  <a:pt x="558" y="937"/>
                  <a:pt x="565" y="934"/>
                  <a:pt x="569" y="932"/>
                </a:cubicBezTo>
                <a:cubicBezTo>
                  <a:pt x="572" y="930"/>
                  <a:pt x="576" y="901"/>
                  <a:pt x="576" y="901"/>
                </a:cubicBezTo>
                <a:cubicBezTo>
                  <a:pt x="576" y="901"/>
                  <a:pt x="578" y="901"/>
                  <a:pt x="583" y="901"/>
                </a:cubicBezTo>
                <a:cubicBezTo>
                  <a:pt x="589" y="901"/>
                  <a:pt x="592" y="899"/>
                  <a:pt x="594" y="902"/>
                </a:cubicBezTo>
                <a:cubicBezTo>
                  <a:pt x="596" y="905"/>
                  <a:pt x="599" y="913"/>
                  <a:pt x="599" y="916"/>
                </a:cubicBezTo>
                <a:cubicBezTo>
                  <a:pt x="599" y="919"/>
                  <a:pt x="599" y="926"/>
                  <a:pt x="599" y="926"/>
                </a:cubicBezTo>
                <a:cubicBezTo>
                  <a:pt x="599" y="926"/>
                  <a:pt x="599" y="926"/>
                  <a:pt x="598" y="926"/>
                </a:cubicBezTo>
                <a:cubicBezTo>
                  <a:pt x="596" y="926"/>
                  <a:pt x="589" y="932"/>
                  <a:pt x="589" y="932"/>
                </a:cubicBezTo>
                <a:cubicBezTo>
                  <a:pt x="585" y="932"/>
                  <a:pt x="585" y="932"/>
                  <a:pt x="585" y="932"/>
                </a:cubicBezTo>
                <a:cubicBezTo>
                  <a:pt x="585" y="932"/>
                  <a:pt x="575" y="932"/>
                  <a:pt x="573" y="933"/>
                </a:cubicBezTo>
                <a:cubicBezTo>
                  <a:pt x="571" y="935"/>
                  <a:pt x="570" y="940"/>
                  <a:pt x="572" y="942"/>
                </a:cubicBezTo>
                <a:cubicBezTo>
                  <a:pt x="575" y="944"/>
                  <a:pt x="581" y="944"/>
                  <a:pt x="581" y="944"/>
                </a:cubicBezTo>
                <a:cubicBezTo>
                  <a:pt x="581" y="944"/>
                  <a:pt x="576" y="945"/>
                  <a:pt x="571" y="945"/>
                </a:cubicBezTo>
                <a:cubicBezTo>
                  <a:pt x="567" y="945"/>
                  <a:pt x="565" y="946"/>
                  <a:pt x="564" y="950"/>
                </a:cubicBezTo>
                <a:cubicBezTo>
                  <a:pt x="562" y="954"/>
                  <a:pt x="570" y="959"/>
                  <a:pt x="570" y="959"/>
                </a:cubicBezTo>
                <a:cubicBezTo>
                  <a:pt x="570" y="959"/>
                  <a:pt x="570" y="959"/>
                  <a:pt x="567" y="960"/>
                </a:cubicBezTo>
                <a:cubicBezTo>
                  <a:pt x="565" y="962"/>
                  <a:pt x="565" y="964"/>
                  <a:pt x="568" y="966"/>
                </a:cubicBezTo>
                <a:cubicBezTo>
                  <a:pt x="570" y="968"/>
                  <a:pt x="584" y="967"/>
                  <a:pt x="592" y="963"/>
                </a:cubicBezTo>
                <a:cubicBezTo>
                  <a:pt x="600" y="958"/>
                  <a:pt x="618" y="942"/>
                  <a:pt x="622" y="927"/>
                </a:cubicBezTo>
                <a:cubicBezTo>
                  <a:pt x="627" y="913"/>
                  <a:pt x="629" y="901"/>
                  <a:pt x="630" y="895"/>
                </a:cubicBezTo>
                <a:cubicBezTo>
                  <a:pt x="630" y="888"/>
                  <a:pt x="622" y="873"/>
                  <a:pt x="622" y="873"/>
                </a:cubicBezTo>
                <a:cubicBezTo>
                  <a:pt x="622" y="873"/>
                  <a:pt x="622" y="873"/>
                  <a:pt x="624" y="873"/>
                </a:cubicBezTo>
                <a:cubicBezTo>
                  <a:pt x="627" y="873"/>
                  <a:pt x="628" y="865"/>
                  <a:pt x="623" y="851"/>
                </a:cubicBezTo>
                <a:cubicBezTo>
                  <a:pt x="618" y="837"/>
                  <a:pt x="609" y="788"/>
                  <a:pt x="606" y="777"/>
                </a:cubicBezTo>
                <a:cubicBezTo>
                  <a:pt x="604" y="767"/>
                  <a:pt x="591" y="704"/>
                  <a:pt x="591" y="704"/>
                </a:cubicBezTo>
                <a:cubicBezTo>
                  <a:pt x="581" y="685"/>
                  <a:pt x="565" y="612"/>
                  <a:pt x="545" y="545"/>
                </a:cubicBezTo>
                <a:cubicBezTo>
                  <a:pt x="526" y="478"/>
                  <a:pt x="510" y="357"/>
                  <a:pt x="506" y="350"/>
                </a:cubicBezTo>
                <a:cubicBezTo>
                  <a:pt x="502" y="343"/>
                  <a:pt x="438" y="316"/>
                  <a:pt x="425" y="305"/>
                </a:cubicBezTo>
                <a:cubicBezTo>
                  <a:pt x="412" y="293"/>
                  <a:pt x="381" y="273"/>
                  <a:pt x="381" y="273"/>
                </a:cubicBezTo>
                <a:cubicBezTo>
                  <a:pt x="372" y="245"/>
                  <a:pt x="372" y="245"/>
                  <a:pt x="372" y="245"/>
                </a:cubicBezTo>
                <a:cubicBezTo>
                  <a:pt x="372" y="245"/>
                  <a:pt x="372" y="245"/>
                  <a:pt x="375" y="231"/>
                </a:cubicBezTo>
                <a:cubicBezTo>
                  <a:pt x="377" y="216"/>
                  <a:pt x="392" y="189"/>
                  <a:pt x="392" y="189"/>
                </a:cubicBezTo>
                <a:cubicBezTo>
                  <a:pt x="392" y="189"/>
                  <a:pt x="405" y="181"/>
                  <a:pt x="407" y="166"/>
                </a:cubicBezTo>
                <a:cubicBezTo>
                  <a:pt x="410" y="152"/>
                  <a:pt x="407" y="138"/>
                  <a:pt x="407" y="138"/>
                </a:cubicBezTo>
                <a:cubicBezTo>
                  <a:pt x="407" y="138"/>
                  <a:pt x="413" y="86"/>
                  <a:pt x="402" y="51"/>
                </a:cubicBezTo>
                <a:cubicBezTo>
                  <a:pt x="392" y="16"/>
                  <a:pt x="356" y="0"/>
                  <a:pt x="344" y="0"/>
                </a:cubicBezTo>
                <a:cubicBezTo>
                  <a:pt x="331" y="1"/>
                  <a:pt x="309" y="0"/>
                  <a:pt x="270" y="30"/>
                </a:cubicBezTo>
                <a:cubicBezTo>
                  <a:pt x="232" y="59"/>
                  <a:pt x="247" y="108"/>
                  <a:pt x="242" y="122"/>
                </a:cubicBezTo>
                <a:cubicBezTo>
                  <a:pt x="238" y="136"/>
                  <a:pt x="250" y="166"/>
                  <a:pt x="257" y="172"/>
                </a:cubicBezTo>
                <a:cubicBezTo>
                  <a:pt x="264" y="179"/>
                  <a:pt x="258" y="220"/>
                  <a:pt x="258" y="220"/>
                </a:cubicBezTo>
                <a:cubicBezTo>
                  <a:pt x="258" y="220"/>
                  <a:pt x="247" y="228"/>
                  <a:pt x="220" y="245"/>
                </a:cubicBezTo>
                <a:cubicBezTo>
                  <a:pt x="193" y="261"/>
                  <a:pt x="111" y="254"/>
                  <a:pt x="101" y="253"/>
                </a:cubicBezTo>
                <a:cubicBezTo>
                  <a:pt x="90" y="253"/>
                  <a:pt x="63" y="301"/>
                  <a:pt x="63" y="319"/>
                </a:cubicBezTo>
                <a:cubicBezTo>
                  <a:pt x="62" y="336"/>
                  <a:pt x="55" y="339"/>
                  <a:pt x="47" y="375"/>
                </a:cubicBezTo>
                <a:cubicBezTo>
                  <a:pt x="39" y="412"/>
                  <a:pt x="29" y="465"/>
                  <a:pt x="29" y="465"/>
                </a:cubicBezTo>
                <a:cubicBezTo>
                  <a:pt x="29" y="465"/>
                  <a:pt x="13" y="564"/>
                  <a:pt x="7" y="622"/>
                </a:cubicBezTo>
                <a:cubicBezTo>
                  <a:pt x="0" y="680"/>
                  <a:pt x="27" y="760"/>
                  <a:pt x="28" y="785"/>
                </a:cubicBezTo>
                <a:close/>
                <a:moveTo>
                  <a:pt x="121" y="611"/>
                </a:moveTo>
                <a:cubicBezTo>
                  <a:pt x="122" y="593"/>
                  <a:pt x="135" y="551"/>
                  <a:pt x="135" y="551"/>
                </a:cubicBezTo>
                <a:cubicBezTo>
                  <a:pt x="135" y="551"/>
                  <a:pt x="136" y="562"/>
                  <a:pt x="141" y="600"/>
                </a:cubicBezTo>
                <a:cubicBezTo>
                  <a:pt x="145" y="638"/>
                  <a:pt x="123" y="706"/>
                  <a:pt x="123" y="706"/>
                </a:cubicBezTo>
                <a:cubicBezTo>
                  <a:pt x="123" y="706"/>
                  <a:pt x="122" y="694"/>
                  <a:pt x="120" y="676"/>
                </a:cubicBezTo>
                <a:cubicBezTo>
                  <a:pt x="118" y="658"/>
                  <a:pt x="120" y="629"/>
                  <a:pt x="121" y="61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27"/>
          <p:cNvSpPr/>
          <p:nvPr/>
        </p:nvSpPr>
        <p:spPr>
          <a:xfrm>
            <a:off x="7294680" y="1386000"/>
            <a:ext cx="342720" cy="404640"/>
          </a:xfrm>
          <a:custGeom>
            <a:avLst/>
            <a:gdLst/>
            <a:ahLst/>
            <a:rect l="l" t="t" r="r" b="b"/>
            <a:pathLst>
              <a:path w="189" h="223">
                <a:moveTo>
                  <a:pt x="11" y="1"/>
                </a:moveTo>
                <a:cubicBezTo>
                  <a:pt x="11" y="1"/>
                  <a:pt x="11" y="1"/>
                  <a:pt x="11" y="0"/>
                </a:cubicBezTo>
                <a:cubicBezTo>
                  <a:pt x="15" y="1"/>
                  <a:pt x="19" y="4"/>
                  <a:pt x="23" y="6"/>
                </a:cubicBezTo>
                <a:cubicBezTo>
                  <a:pt x="35" y="13"/>
                  <a:pt x="66" y="38"/>
                  <a:pt x="74" y="42"/>
                </a:cubicBezTo>
                <a:cubicBezTo>
                  <a:pt x="81" y="46"/>
                  <a:pt x="91" y="52"/>
                  <a:pt x="92" y="53"/>
                </a:cubicBezTo>
                <a:cubicBezTo>
                  <a:pt x="94" y="53"/>
                  <a:pt x="109" y="45"/>
                  <a:pt x="118" y="37"/>
                </a:cubicBezTo>
                <a:cubicBezTo>
                  <a:pt x="123" y="32"/>
                  <a:pt x="125" y="28"/>
                  <a:pt x="126" y="26"/>
                </a:cubicBezTo>
                <a:cubicBezTo>
                  <a:pt x="134" y="54"/>
                  <a:pt x="134" y="54"/>
                  <a:pt x="134" y="54"/>
                </a:cubicBezTo>
                <a:cubicBezTo>
                  <a:pt x="134" y="59"/>
                  <a:pt x="144" y="72"/>
                  <a:pt x="156" y="89"/>
                </a:cubicBezTo>
                <a:cubicBezTo>
                  <a:pt x="168" y="106"/>
                  <a:pt x="178" y="120"/>
                  <a:pt x="183" y="151"/>
                </a:cubicBezTo>
                <a:cubicBezTo>
                  <a:pt x="189" y="182"/>
                  <a:pt x="178" y="223"/>
                  <a:pt x="178" y="223"/>
                </a:cubicBezTo>
                <a:cubicBezTo>
                  <a:pt x="178" y="223"/>
                  <a:pt x="174" y="202"/>
                  <a:pt x="163" y="177"/>
                </a:cubicBezTo>
                <a:cubicBezTo>
                  <a:pt x="152" y="151"/>
                  <a:pt x="127" y="114"/>
                  <a:pt x="122" y="104"/>
                </a:cubicBezTo>
                <a:cubicBezTo>
                  <a:pt x="118" y="94"/>
                  <a:pt x="128" y="88"/>
                  <a:pt x="128" y="88"/>
                </a:cubicBezTo>
                <a:cubicBezTo>
                  <a:pt x="128" y="88"/>
                  <a:pt x="112" y="60"/>
                  <a:pt x="110" y="63"/>
                </a:cubicBezTo>
                <a:cubicBezTo>
                  <a:pt x="109" y="67"/>
                  <a:pt x="104" y="63"/>
                  <a:pt x="95" y="58"/>
                </a:cubicBezTo>
                <a:cubicBezTo>
                  <a:pt x="87" y="53"/>
                  <a:pt x="72" y="53"/>
                  <a:pt x="64" y="53"/>
                </a:cubicBezTo>
                <a:cubicBezTo>
                  <a:pt x="56" y="52"/>
                  <a:pt x="50" y="62"/>
                  <a:pt x="53" y="64"/>
                </a:cubicBezTo>
                <a:cubicBezTo>
                  <a:pt x="55" y="66"/>
                  <a:pt x="89" y="100"/>
                  <a:pt x="89" y="100"/>
                </a:cubicBezTo>
                <a:cubicBezTo>
                  <a:pt x="89" y="100"/>
                  <a:pt x="88" y="102"/>
                  <a:pt x="84" y="110"/>
                </a:cubicBezTo>
                <a:cubicBezTo>
                  <a:pt x="79" y="118"/>
                  <a:pt x="79" y="133"/>
                  <a:pt x="79" y="133"/>
                </a:cubicBezTo>
                <a:cubicBezTo>
                  <a:pt x="79" y="133"/>
                  <a:pt x="44" y="64"/>
                  <a:pt x="31" y="42"/>
                </a:cubicBezTo>
                <a:cubicBezTo>
                  <a:pt x="23" y="29"/>
                  <a:pt x="9" y="16"/>
                  <a:pt x="0" y="9"/>
                </a:cubicBezTo>
                <a:cubicBezTo>
                  <a:pt x="8" y="4"/>
                  <a:pt x="11" y="1"/>
                  <a:pt x="11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28"/>
          <p:cNvSpPr/>
          <p:nvPr/>
        </p:nvSpPr>
        <p:spPr>
          <a:xfrm>
            <a:off x="9139320" y="1881360"/>
            <a:ext cx="958680" cy="2920680"/>
          </a:xfrm>
          <a:custGeom>
            <a:avLst/>
            <a:gdLst/>
            <a:ahLst/>
            <a:rect l="l" t="t" r="r" b="b"/>
            <a:pathLst>
              <a:path w="527" h="1608">
                <a:moveTo>
                  <a:pt x="9" y="593"/>
                </a:moveTo>
                <a:cubicBezTo>
                  <a:pt x="9" y="611"/>
                  <a:pt x="0" y="664"/>
                  <a:pt x="1" y="689"/>
                </a:cubicBezTo>
                <a:cubicBezTo>
                  <a:pt x="2" y="714"/>
                  <a:pt x="18" y="758"/>
                  <a:pt x="23" y="772"/>
                </a:cubicBezTo>
                <a:cubicBezTo>
                  <a:pt x="28" y="786"/>
                  <a:pt x="28" y="770"/>
                  <a:pt x="28" y="770"/>
                </a:cubicBezTo>
                <a:cubicBezTo>
                  <a:pt x="28" y="770"/>
                  <a:pt x="39" y="792"/>
                  <a:pt x="39" y="802"/>
                </a:cubicBezTo>
                <a:cubicBezTo>
                  <a:pt x="40" y="811"/>
                  <a:pt x="45" y="796"/>
                  <a:pt x="45" y="796"/>
                </a:cubicBezTo>
                <a:cubicBezTo>
                  <a:pt x="45" y="796"/>
                  <a:pt x="46" y="799"/>
                  <a:pt x="47" y="802"/>
                </a:cubicBezTo>
                <a:cubicBezTo>
                  <a:pt x="48" y="805"/>
                  <a:pt x="48" y="814"/>
                  <a:pt x="50" y="827"/>
                </a:cubicBezTo>
                <a:cubicBezTo>
                  <a:pt x="53" y="841"/>
                  <a:pt x="47" y="865"/>
                  <a:pt x="47" y="871"/>
                </a:cubicBezTo>
                <a:cubicBezTo>
                  <a:pt x="48" y="877"/>
                  <a:pt x="53" y="898"/>
                  <a:pt x="56" y="912"/>
                </a:cubicBezTo>
                <a:cubicBezTo>
                  <a:pt x="60" y="925"/>
                  <a:pt x="70" y="989"/>
                  <a:pt x="72" y="1006"/>
                </a:cubicBezTo>
                <a:cubicBezTo>
                  <a:pt x="74" y="1023"/>
                  <a:pt x="87" y="1080"/>
                  <a:pt x="90" y="1089"/>
                </a:cubicBezTo>
                <a:cubicBezTo>
                  <a:pt x="92" y="1098"/>
                  <a:pt x="88" y="1100"/>
                  <a:pt x="91" y="1120"/>
                </a:cubicBezTo>
                <a:cubicBezTo>
                  <a:pt x="93" y="1139"/>
                  <a:pt x="99" y="1179"/>
                  <a:pt x="89" y="1202"/>
                </a:cubicBezTo>
                <a:cubicBezTo>
                  <a:pt x="80" y="1226"/>
                  <a:pt x="112" y="1316"/>
                  <a:pt x="115" y="1325"/>
                </a:cubicBezTo>
                <a:cubicBezTo>
                  <a:pt x="117" y="1334"/>
                  <a:pt x="122" y="1338"/>
                  <a:pt x="116" y="1353"/>
                </a:cubicBezTo>
                <a:cubicBezTo>
                  <a:pt x="110" y="1368"/>
                  <a:pt x="111" y="1383"/>
                  <a:pt x="111" y="1393"/>
                </a:cubicBezTo>
                <a:cubicBezTo>
                  <a:pt x="111" y="1402"/>
                  <a:pt x="110" y="1408"/>
                  <a:pt x="110" y="1408"/>
                </a:cubicBezTo>
                <a:cubicBezTo>
                  <a:pt x="110" y="1408"/>
                  <a:pt x="81" y="1442"/>
                  <a:pt x="64" y="1461"/>
                </a:cubicBezTo>
                <a:cubicBezTo>
                  <a:pt x="47" y="1480"/>
                  <a:pt x="50" y="1490"/>
                  <a:pt x="54" y="1499"/>
                </a:cubicBezTo>
                <a:cubicBezTo>
                  <a:pt x="57" y="1508"/>
                  <a:pt x="71" y="1514"/>
                  <a:pt x="92" y="1515"/>
                </a:cubicBezTo>
                <a:cubicBezTo>
                  <a:pt x="113" y="1516"/>
                  <a:pt x="138" y="1499"/>
                  <a:pt x="150" y="1484"/>
                </a:cubicBezTo>
                <a:cubicBezTo>
                  <a:pt x="162" y="1469"/>
                  <a:pt x="176" y="1461"/>
                  <a:pt x="192" y="1453"/>
                </a:cubicBezTo>
                <a:cubicBezTo>
                  <a:pt x="208" y="1445"/>
                  <a:pt x="214" y="1437"/>
                  <a:pt x="214" y="1437"/>
                </a:cubicBezTo>
                <a:cubicBezTo>
                  <a:pt x="214" y="1410"/>
                  <a:pt x="214" y="1410"/>
                  <a:pt x="214" y="1410"/>
                </a:cubicBezTo>
                <a:cubicBezTo>
                  <a:pt x="214" y="1410"/>
                  <a:pt x="218" y="1406"/>
                  <a:pt x="222" y="1398"/>
                </a:cubicBezTo>
                <a:cubicBezTo>
                  <a:pt x="226" y="1390"/>
                  <a:pt x="227" y="1368"/>
                  <a:pt x="224" y="1360"/>
                </a:cubicBezTo>
                <a:cubicBezTo>
                  <a:pt x="221" y="1351"/>
                  <a:pt x="218" y="1346"/>
                  <a:pt x="223" y="1334"/>
                </a:cubicBezTo>
                <a:cubicBezTo>
                  <a:pt x="227" y="1322"/>
                  <a:pt x="223" y="1291"/>
                  <a:pt x="220" y="1263"/>
                </a:cubicBezTo>
                <a:cubicBezTo>
                  <a:pt x="217" y="1235"/>
                  <a:pt x="202" y="1176"/>
                  <a:pt x="199" y="1173"/>
                </a:cubicBezTo>
                <a:cubicBezTo>
                  <a:pt x="195" y="1169"/>
                  <a:pt x="198" y="1163"/>
                  <a:pt x="200" y="1156"/>
                </a:cubicBezTo>
                <a:cubicBezTo>
                  <a:pt x="203" y="1148"/>
                  <a:pt x="200" y="1151"/>
                  <a:pt x="196" y="1144"/>
                </a:cubicBezTo>
                <a:cubicBezTo>
                  <a:pt x="192" y="1138"/>
                  <a:pt x="191" y="1139"/>
                  <a:pt x="195" y="1133"/>
                </a:cubicBezTo>
                <a:cubicBezTo>
                  <a:pt x="198" y="1126"/>
                  <a:pt x="203" y="1124"/>
                  <a:pt x="199" y="1114"/>
                </a:cubicBezTo>
                <a:cubicBezTo>
                  <a:pt x="194" y="1104"/>
                  <a:pt x="197" y="1093"/>
                  <a:pt x="201" y="1086"/>
                </a:cubicBezTo>
                <a:cubicBezTo>
                  <a:pt x="206" y="1079"/>
                  <a:pt x="205" y="1072"/>
                  <a:pt x="207" y="1060"/>
                </a:cubicBezTo>
                <a:cubicBezTo>
                  <a:pt x="208" y="1048"/>
                  <a:pt x="218" y="1008"/>
                  <a:pt x="221" y="993"/>
                </a:cubicBezTo>
                <a:cubicBezTo>
                  <a:pt x="224" y="978"/>
                  <a:pt x="221" y="949"/>
                  <a:pt x="222" y="938"/>
                </a:cubicBezTo>
                <a:cubicBezTo>
                  <a:pt x="224" y="927"/>
                  <a:pt x="231" y="916"/>
                  <a:pt x="231" y="916"/>
                </a:cubicBezTo>
                <a:cubicBezTo>
                  <a:pt x="231" y="916"/>
                  <a:pt x="231" y="917"/>
                  <a:pt x="234" y="930"/>
                </a:cubicBezTo>
                <a:cubicBezTo>
                  <a:pt x="237" y="943"/>
                  <a:pt x="253" y="998"/>
                  <a:pt x="256" y="1007"/>
                </a:cubicBezTo>
                <a:cubicBezTo>
                  <a:pt x="259" y="1016"/>
                  <a:pt x="271" y="1075"/>
                  <a:pt x="274" y="1089"/>
                </a:cubicBezTo>
                <a:cubicBezTo>
                  <a:pt x="278" y="1103"/>
                  <a:pt x="275" y="1110"/>
                  <a:pt x="283" y="1129"/>
                </a:cubicBezTo>
                <a:cubicBezTo>
                  <a:pt x="292" y="1148"/>
                  <a:pt x="289" y="1181"/>
                  <a:pt x="288" y="1187"/>
                </a:cubicBezTo>
                <a:cubicBezTo>
                  <a:pt x="287" y="1193"/>
                  <a:pt x="288" y="1197"/>
                  <a:pt x="294" y="1217"/>
                </a:cubicBezTo>
                <a:cubicBezTo>
                  <a:pt x="301" y="1238"/>
                  <a:pt x="300" y="1264"/>
                  <a:pt x="301" y="1298"/>
                </a:cubicBezTo>
                <a:cubicBezTo>
                  <a:pt x="303" y="1331"/>
                  <a:pt x="318" y="1374"/>
                  <a:pt x="327" y="1388"/>
                </a:cubicBezTo>
                <a:cubicBezTo>
                  <a:pt x="335" y="1403"/>
                  <a:pt x="333" y="1417"/>
                  <a:pt x="326" y="1428"/>
                </a:cubicBezTo>
                <a:cubicBezTo>
                  <a:pt x="319" y="1438"/>
                  <a:pt x="328" y="1457"/>
                  <a:pt x="331" y="1466"/>
                </a:cubicBezTo>
                <a:cubicBezTo>
                  <a:pt x="333" y="1476"/>
                  <a:pt x="352" y="1496"/>
                  <a:pt x="352" y="1496"/>
                </a:cubicBezTo>
                <a:cubicBezTo>
                  <a:pt x="352" y="1496"/>
                  <a:pt x="352" y="1496"/>
                  <a:pt x="357" y="1509"/>
                </a:cubicBezTo>
                <a:cubicBezTo>
                  <a:pt x="363" y="1522"/>
                  <a:pt x="358" y="1534"/>
                  <a:pt x="357" y="1558"/>
                </a:cubicBezTo>
                <a:cubicBezTo>
                  <a:pt x="356" y="1581"/>
                  <a:pt x="367" y="1589"/>
                  <a:pt x="380" y="1598"/>
                </a:cubicBezTo>
                <a:cubicBezTo>
                  <a:pt x="392" y="1608"/>
                  <a:pt x="433" y="1606"/>
                  <a:pt x="440" y="1599"/>
                </a:cubicBezTo>
                <a:cubicBezTo>
                  <a:pt x="448" y="1592"/>
                  <a:pt x="449" y="1567"/>
                  <a:pt x="448" y="1556"/>
                </a:cubicBezTo>
                <a:cubicBezTo>
                  <a:pt x="447" y="1545"/>
                  <a:pt x="440" y="1488"/>
                  <a:pt x="440" y="1488"/>
                </a:cubicBezTo>
                <a:cubicBezTo>
                  <a:pt x="440" y="1488"/>
                  <a:pt x="439" y="1480"/>
                  <a:pt x="442" y="1467"/>
                </a:cubicBezTo>
                <a:cubicBezTo>
                  <a:pt x="446" y="1454"/>
                  <a:pt x="437" y="1430"/>
                  <a:pt x="434" y="1421"/>
                </a:cubicBezTo>
                <a:cubicBezTo>
                  <a:pt x="431" y="1413"/>
                  <a:pt x="424" y="1411"/>
                  <a:pt x="418" y="1402"/>
                </a:cubicBezTo>
                <a:cubicBezTo>
                  <a:pt x="413" y="1393"/>
                  <a:pt x="418" y="1389"/>
                  <a:pt x="424" y="1375"/>
                </a:cubicBezTo>
                <a:cubicBezTo>
                  <a:pt x="431" y="1361"/>
                  <a:pt x="427" y="1345"/>
                  <a:pt x="424" y="1332"/>
                </a:cubicBezTo>
                <a:cubicBezTo>
                  <a:pt x="421" y="1318"/>
                  <a:pt x="424" y="1316"/>
                  <a:pt x="425" y="1308"/>
                </a:cubicBezTo>
                <a:cubicBezTo>
                  <a:pt x="426" y="1300"/>
                  <a:pt x="423" y="1252"/>
                  <a:pt x="422" y="1243"/>
                </a:cubicBezTo>
                <a:cubicBezTo>
                  <a:pt x="420" y="1235"/>
                  <a:pt x="418" y="1232"/>
                  <a:pt x="423" y="1223"/>
                </a:cubicBezTo>
                <a:cubicBezTo>
                  <a:pt x="428" y="1213"/>
                  <a:pt x="421" y="1199"/>
                  <a:pt x="418" y="1192"/>
                </a:cubicBezTo>
                <a:cubicBezTo>
                  <a:pt x="416" y="1185"/>
                  <a:pt x="410" y="1172"/>
                  <a:pt x="418" y="1156"/>
                </a:cubicBezTo>
                <a:cubicBezTo>
                  <a:pt x="426" y="1140"/>
                  <a:pt x="416" y="1151"/>
                  <a:pt x="413" y="1134"/>
                </a:cubicBezTo>
                <a:cubicBezTo>
                  <a:pt x="410" y="1117"/>
                  <a:pt x="409" y="1090"/>
                  <a:pt x="405" y="1080"/>
                </a:cubicBezTo>
                <a:cubicBezTo>
                  <a:pt x="402" y="1069"/>
                  <a:pt x="401" y="1065"/>
                  <a:pt x="401" y="1052"/>
                </a:cubicBezTo>
                <a:cubicBezTo>
                  <a:pt x="401" y="1040"/>
                  <a:pt x="400" y="1040"/>
                  <a:pt x="400" y="1025"/>
                </a:cubicBezTo>
                <a:cubicBezTo>
                  <a:pt x="399" y="1011"/>
                  <a:pt x="404" y="955"/>
                  <a:pt x="405" y="940"/>
                </a:cubicBezTo>
                <a:cubicBezTo>
                  <a:pt x="406" y="924"/>
                  <a:pt x="408" y="860"/>
                  <a:pt x="408" y="860"/>
                </a:cubicBezTo>
                <a:cubicBezTo>
                  <a:pt x="408" y="860"/>
                  <a:pt x="411" y="858"/>
                  <a:pt x="414" y="858"/>
                </a:cubicBezTo>
                <a:cubicBezTo>
                  <a:pt x="416" y="857"/>
                  <a:pt x="412" y="840"/>
                  <a:pt x="412" y="840"/>
                </a:cubicBezTo>
                <a:cubicBezTo>
                  <a:pt x="412" y="840"/>
                  <a:pt x="412" y="840"/>
                  <a:pt x="414" y="837"/>
                </a:cubicBezTo>
                <a:cubicBezTo>
                  <a:pt x="417" y="834"/>
                  <a:pt x="424" y="818"/>
                  <a:pt x="424" y="818"/>
                </a:cubicBezTo>
                <a:cubicBezTo>
                  <a:pt x="424" y="818"/>
                  <a:pt x="424" y="818"/>
                  <a:pt x="425" y="816"/>
                </a:cubicBezTo>
                <a:cubicBezTo>
                  <a:pt x="427" y="813"/>
                  <a:pt x="432" y="808"/>
                  <a:pt x="436" y="807"/>
                </a:cubicBezTo>
                <a:cubicBezTo>
                  <a:pt x="439" y="807"/>
                  <a:pt x="442" y="810"/>
                  <a:pt x="441" y="816"/>
                </a:cubicBezTo>
                <a:cubicBezTo>
                  <a:pt x="440" y="822"/>
                  <a:pt x="440" y="835"/>
                  <a:pt x="440" y="835"/>
                </a:cubicBezTo>
                <a:cubicBezTo>
                  <a:pt x="440" y="835"/>
                  <a:pt x="436" y="839"/>
                  <a:pt x="434" y="844"/>
                </a:cubicBezTo>
                <a:cubicBezTo>
                  <a:pt x="432" y="848"/>
                  <a:pt x="428" y="860"/>
                  <a:pt x="423" y="865"/>
                </a:cubicBezTo>
                <a:cubicBezTo>
                  <a:pt x="418" y="871"/>
                  <a:pt x="425" y="876"/>
                  <a:pt x="425" y="876"/>
                </a:cubicBezTo>
                <a:cubicBezTo>
                  <a:pt x="425" y="876"/>
                  <a:pt x="425" y="878"/>
                  <a:pt x="427" y="880"/>
                </a:cubicBezTo>
                <a:cubicBezTo>
                  <a:pt x="429" y="881"/>
                  <a:pt x="432" y="881"/>
                  <a:pt x="438" y="879"/>
                </a:cubicBezTo>
                <a:cubicBezTo>
                  <a:pt x="443" y="877"/>
                  <a:pt x="453" y="870"/>
                  <a:pt x="453" y="870"/>
                </a:cubicBezTo>
                <a:cubicBezTo>
                  <a:pt x="453" y="870"/>
                  <a:pt x="453" y="870"/>
                  <a:pt x="456" y="870"/>
                </a:cubicBezTo>
                <a:cubicBezTo>
                  <a:pt x="460" y="870"/>
                  <a:pt x="468" y="865"/>
                  <a:pt x="468" y="865"/>
                </a:cubicBezTo>
                <a:cubicBezTo>
                  <a:pt x="468" y="865"/>
                  <a:pt x="468" y="865"/>
                  <a:pt x="469" y="865"/>
                </a:cubicBezTo>
                <a:cubicBezTo>
                  <a:pt x="471" y="865"/>
                  <a:pt x="479" y="861"/>
                  <a:pt x="487" y="858"/>
                </a:cubicBezTo>
                <a:cubicBezTo>
                  <a:pt x="494" y="854"/>
                  <a:pt x="500" y="829"/>
                  <a:pt x="503" y="822"/>
                </a:cubicBezTo>
                <a:cubicBezTo>
                  <a:pt x="505" y="815"/>
                  <a:pt x="505" y="798"/>
                  <a:pt x="505" y="798"/>
                </a:cubicBezTo>
                <a:cubicBezTo>
                  <a:pt x="507" y="798"/>
                  <a:pt x="508" y="790"/>
                  <a:pt x="510" y="780"/>
                </a:cubicBezTo>
                <a:cubicBezTo>
                  <a:pt x="511" y="770"/>
                  <a:pt x="512" y="748"/>
                  <a:pt x="516" y="728"/>
                </a:cubicBezTo>
                <a:cubicBezTo>
                  <a:pt x="520" y="709"/>
                  <a:pt x="527" y="637"/>
                  <a:pt x="527" y="607"/>
                </a:cubicBezTo>
                <a:cubicBezTo>
                  <a:pt x="527" y="577"/>
                  <a:pt x="509" y="488"/>
                  <a:pt x="501" y="460"/>
                </a:cubicBezTo>
                <a:cubicBezTo>
                  <a:pt x="493" y="432"/>
                  <a:pt x="468" y="338"/>
                  <a:pt x="466" y="315"/>
                </a:cubicBezTo>
                <a:cubicBezTo>
                  <a:pt x="465" y="292"/>
                  <a:pt x="450" y="285"/>
                  <a:pt x="435" y="282"/>
                </a:cubicBezTo>
                <a:cubicBezTo>
                  <a:pt x="420" y="279"/>
                  <a:pt x="347" y="263"/>
                  <a:pt x="339" y="259"/>
                </a:cubicBezTo>
                <a:cubicBezTo>
                  <a:pt x="332" y="254"/>
                  <a:pt x="311" y="236"/>
                  <a:pt x="311" y="236"/>
                </a:cubicBezTo>
                <a:cubicBezTo>
                  <a:pt x="311" y="236"/>
                  <a:pt x="311" y="236"/>
                  <a:pt x="311" y="233"/>
                </a:cubicBezTo>
                <a:cubicBezTo>
                  <a:pt x="311" y="231"/>
                  <a:pt x="305" y="227"/>
                  <a:pt x="305" y="227"/>
                </a:cubicBezTo>
                <a:cubicBezTo>
                  <a:pt x="305" y="227"/>
                  <a:pt x="305" y="227"/>
                  <a:pt x="306" y="216"/>
                </a:cubicBezTo>
                <a:cubicBezTo>
                  <a:pt x="307" y="205"/>
                  <a:pt x="312" y="171"/>
                  <a:pt x="312" y="171"/>
                </a:cubicBezTo>
                <a:cubicBezTo>
                  <a:pt x="312" y="171"/>
                  <a:pt x="312" y="171"/>
                  <a:pt x="317" y="171"/>
                </a:cubicBezTo>
                <a:cubicBezTo>
                  <a:pt x="323" y="171"/>
                  <a:pt x="327" y="151"/>
                  <a:pt x="329" y="140"/>
                </a:cubicBezTo>
                <a:cubicBezTo>
                  <a:pt x="331" y="128"/>
                  <a:pt x="329" y="117"/>
                  <a:pt x="326" y="116"/>
                </a:cubicBezTo>
                <a:cubicBezTo>
                  <a:pt x="324" y="116"/>
                  <a:pt x="318" y="121"/>
                  <a:pt x="318" y="121"/>
                </a:cubicBezTo>
                <a:cubicBezTo>
                  <a:pt x="318" y="121"/>
                  <a:pt x="320" y="89"/>
                  <a:pt x="318" y="84"/>
                </a:cubicBezTo>
                <a:cubicBezTo>
                  <a:pt x="317" y="78"/>
                  <a:pt x="320" y="71"/>
                  <a:pt x="317" y="64"/>
                </a:cubicBezTo>
                <a:cubicBezTo>
                  <a:pt x="315" y="56"/>
                  <a:pt x="308" y="33"/>
                  <a:pt x="305" y="29"/>
                </a:cubicBezTo>
                <a:cubicBezTo>
                  <a:pt x="302" y="24"/>
                  <a:pt x="300" y="25"/>
                  <a:pt x="295" y="22"/>
                </a:cubicBezTo>
                <a:cubicBezTo>
                  <a:pt x="291" y="20"/>
                  <a:pt x="291" y="15"/>
                  <a:pt x="288" y="10"/>
                </a:cubicBezTo>
                <a:cubicBezTo>
                  <a:pt x="284" y="6"/>
                  <a:pt x="281" y="9"/>
                  <a:pt x="277" y="7"/>
                </a:cubicBezTo>
                <a:cubicBezTo>
                  <a:pt x="274" y="6"/>
                  <a:pt x="272" y="5"/>
                  <a:pt x="269" y="3"/>
                </a:cubicBezTo>
                <a:cubicBezTo>
                  <a:pt x="265" y="2"/>
                  <a:pt x="264" y="3"/>
                  <a:pt x="261" y="2"/>
                </a:cubicBezTo>
                <a:cubicBezTo>
                  <a:pt x="259" y="2"/>
                  <a:pt x="254" y="1"/>
                  <a:pt x="250" y="0"/>
                </a:cubicBezTo>
                <a:cubicBezTo>
                  <a:pt x="245" y="0"/>
                  <a:pt x="242" y="3"/>
                  <a:pt x="239" y="2"/>
                </a:cubicBezTo>
                <a:cubicBezTo>
                  <a:pt x="236" y="2"/>
                  <a:pt x="234" y="2"/>
                  <a:pt x="234" y="2"/>
                </a:cubicBezTo>
                <a:cubicBezTo>
                  <a:pt x="234" y="2"/>
                  <a:pt x="230" y="2"/>
                  <a:pt x="227" y="4"/>
                </a:cubicBezTo>
                <a:cubicBezTo>
                  <a:pt x="223" y="5"/>
                  <a:pt x="220" y="7"/>
                  <a:pt x="220" y="7"/>
                </a:cubicBezTo>
                <a:cubicBezTo>
                  <a:pt x="220" y="7"/>
                  <a:pt x="219" y="7"/>
                  <a:pt x="211" y="10"/>
                </a:cubicBezTo>
                <a:cubicBezTo>
                  <a:pt x="203" y="13"/>
                  <a:pt x="205" y="16"/>
                  <a:pt x="199" y="19"/>
                </a:cubicBezTo>
                <a:cubicBezTo>
                  <a:pt x="194" y="22"/>
                  <a:pt x="194" y="22"/>
                  <a:pt x="190" y="26"/>
                </a:cubicBezTo>
                <a:cubicBezTo>
                  <a:pt x="185" y="30"/>
                  <a:pt x="188" y="32"/>
                  <a:pt x="186" y="33"/>
                </a:cubicBezTo>
                <a:cubicBezTo>
                  <a:pt x="185" y="34"/>
                  <a:pt x="182" y="36"/>
                  <a:pt x="179" y="39"/>
                </a:cubicBezTo>
                <a:cubicBezTo>
                  <a:pt x="176" y="42"/>
                  <a:pt x="176" y="47"/>
                  <a:pt x="174" y="58"/>
                </a:cubicBezTo>
                <a:cubicBezTo>
                  <a:pt x="172" y="68"/>
                  <a:pt x="172" y="73"/>
                  <a:pt x="172" y="91"/>
                </a:cubicBezTo>
                <a:cubicBezTo>
                  <a:pt x="172" y="106"/>
                  <a:pt x="176" y="126"/>
                  <a:pt x="177" y="130"/>
                </a:cubicBezTo>
                <a:cubicBezTo>
                  <a:pt x="177" y="130"/>
                  <a:pt x="176" y="129"/>
                  <a:pt x="176" y="128"/>
                </a:cubicBezTo>
                <a:cubicBezTo>
                  <a:pt x="176" y="125"/>
                  <a:pt x="169" y="125"/>
                  <a:pt x="166" y="131"/>
                </a:cubicBezTo>
                <a:cubicBezTo>
                  <a:pt x="163" y="137"/>
                  <a:pt x="171" y="165"/>
                  <a:pt x="174" y="175"/>
                </a:cubicBezTo>
                <a:cubicBezTo>
                  <a:pt x="177" y="185"/>
                  <a:pt x="187" y="180"/>
                  <a:pt x="187" y="180"/>
                </a:cubicBezTo>
                <a:cubicBezTo>
                  <a:pt x="187" y="180"/>
                  <a:pt x="187" y="180"/>
                  <a:pt x="189" y="185"/>
                </a:cubicBezTo>
                <a:cubicBezTo>
                  <a:pt x="191" y="189"/>
                  <a:pt x="201" y="218"/>
                  <a:pt x="201" y="218"/>
                </a:cubicBezTo>
                <a:cubicBezTo>
                  <a:pt x="201" y="218"/>
                  <a:pt x="201" y="221"/>
                  <a:pt x="197" y="235"/>
                </a:cubicBezTo>
                <a:cubicBezTo>
                  <a:pt x="192" y="248"/>
                  <a:pt x="175" y="262"/>
                  <a:pt x="175" y="262"/>
                </a:cubicBezTo>
                <a:cubicBezTo>
                  <a:pt x="175" y="262"/>
                  <a:pt x="150" y="270"/>
                  <a:pt x="129" y="277"/>
                </a:cubicBezTo>
                <a:cubicBezTo>
                  <a:pt x="107" y="284"/>
                  <a:pt x="72" y="298"/>
                  <a:pt x="66" y="303"/>
                </a:cubicBezTo>
                <a:cubicBezTo>
                  <a:pt x="60" y="309"/>
                  <a:pt x="55" y="341"/>
                  <a:pt x="52" y="360"/>
                </a:cubicBezTo>
                <a:cubicBezTo>
                  <a:pt x="50" y="379"/>
                  <a:pt x="41" y="395"/>
                  <a:pt x="38" y="403"/>
                </a:cubicBezTo>
                <a:cubicBezTo>
                  <a:pt x="35" y="410"/>
                  <a:pt x="35" y="413"/>
                  <a:pt x="31" y="442"/>
                </a:cubicBezTo>
                <a:cubicBezTo>
                  <a:pt x="27" y="471"/>
                  <a:pt x="22" y="498"/>
                  <a:pt x="15" y="529"/>
                </a:cubicBezTo>
                <a:cubicBezTo>
                  <a:pt x="9" y="560"/>
                  <a:pt x="8" y="576"/>
                  <a:pt x="9" y="593"/>
                </a:cubicBezTo>
                <a:close/>
                <a:moveTo>
                  <a:pt x="408" y="514"/>
                </a:moveTo>
                <a:cubicBezTo>
                  <a:pt x="408" y="514"/>
                  <a:pt x="408" y="520"/>
                  <a:pt x="409" y="532"/>
                </a:cubicBezTo>
                <a:cubicBezTo>
                  <a:pt x="410" y="544"/>
                  <a:pt x="413" y="567"/>
                  <a:pt x="417" y="576"/>
                </a:cubicBezTo>
                <a:cubicBezTo>
                  <a:pt x="421" y="585"/>
                  <a:pt x="419" y="613"/>
                  <a:pt x="423" y="644"/>
                </a:cubicBezTo>
                <a:cubicBezTo>
                  <a:pt x="428" y="675"/>
                  <a:pt x="435" y="697"/>
                  <a:pt x="431" y="706"/>
                </a:cubicBezTo>
                <a:cubicBezTo>
                  <a:pt x="427" y="716"/>
                  <a:pt x="427" y="731"/>
                  <a:pt x="427" y="743"/>
                </a:cubicBezTo>
                <a:cubicBezTo>
                  <a:pt x="428" y="755"/>
                  <a:pt x="422" y="768"/>
                  <a:pt x="421" y="774"/>
                </a:cubicBezTo>
                <a:cubicBezTo>
                  <a:pt x="420" y="781"/>
                  <a:pt x="414" y="788"/>
                  <a:pt x="414" y="788"/>
                </a:cubicBezTo>
                <a:cubicBezTo>
                  <a:pt x="414" y="788"/>
                  <a:pt x="413" y="727"/>
                  <a:pt x="412" y="716"/>
                </a:cubicBezTo>
                <a:cubicBezTo>
                  <a:pt x="411" y="706"/>
                  <a:pt x="406" y="653"/>
                  <a:pt x="398" y="605"/>
                </a:cubicBezTo>
                <a:cubicBezTo>
                  <a:pt x="390" y="557"/>
                  <a:pt x="408" y="514"/>
                  <a:pt x="408" y="51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29"/>
          <p:cNvSpPr/>
          <p:nvPr/>
        </p:nvSpPr>
        <p:spPr>
          <a:xfrm>
            <a:off x="9485280" y="2289240"/>
            <a:ext cx="220680" cy="582480"/>
          </a:xfrm>
          <a:custGeom>
            <a:avLst/>
            <a:gdLst/>
            <a:ahLst/>
            <a:rect l="l" t="t" r="r" b="b"/>
            <a:pathLst>
              <a:path w="122" h="321">
                <a:moveTo>
                  <a:pt x="2" y="18"/>
                </a:moveTo>
                <a:cubicBezTo>
                  <a:pt x="4" y="15"/>
                  <a:pt x="6" y="12"/>
                  <a:pt x="7" y="9"/>
                </a:cubicBezTo>
                <a:cubicBezTo>
                  <a:pt x="8" y="6"/>
                  <a:pt x="8" y="4"/>
                  <a:pt x="9" y="2"/>
                </a:cubicBezTo>
                <a:cubicBezTo>
                  <a:pt x="9" y="3"/>
                  <a:pt x="10" y="6"/>
                  <a:pt x="10" y="11"/>
                </a:cubicBezTo>
                <a:cubicBezTo>
                  <a:pt x="10" y="23"/>
                  <a:pt x="34" y="41"/>
                  <a:pt x="39" y="43"/>
                </a:cubicBezTo>
                <a:cubicBezTo>
                  <a:pt x="42" y="44"/>
                  <a:pt x="48" y="46"/>
                  <a:pt x="53" y="47"/>
                </a:cubicBezTo>
                <a:cubicBezTo>
                  <a:pt x="54" y="47"/>
                  <a:pt x="54" y="47"/>
                  <a:pt x="54" y="47"/>
                </a:cubicBezTo>
                <a:cubicBezTo>
                  <a:pt x="54" y="48"/>
                  <a:pt x="54" y="48"/>
                  <a:pt x="54" y="48"/>
                </a:cubicBezTo>
                <a:cubicBezTo>
                  <a:pt x="56" y="48"/>
                  <a:pt x="57" y="49"/>
                  <a:pt x="57" y="49"/>
                </a:cubicBezTo>
                <a:cubicBezTo>
                  <a:pt x="57" y="49"/>
                  <a:pt x="57" y="49"/>
                  <a:pt x="60" y="46"/>
                </a:cubicBezTo>
                <a:cubicBezTo>
                  <a:pt x="63" y="44"/>
                  <a:pt x="76" y="43"/>
                  <a:pt x="80" y="39"/>
                </a:cubicBezTo>
                <a:cubicBezTo>
                  <a:pt x="84" y="35"/>
                  <a:pt x="99" y="17"/>
                  <a:pt x="105" y="13"/>
                </a:cubicBezTo>
                <a:cubicBezTo>
                  <a:pt x="109" y="11"/>
                  <a:pt x="113" y="5"/>
                  <a:pt x="115" y="0"/>
                </a:cubicBezTo>
                <a:cubicBezTo>
                  <a:pt x="115" y="1"/>
                  <a:pt x="115" y="1"/>
                  <a:pt x="115" y="1"/>
                </a:cubicBezTo>
                <a:cubicBezTo>
                  <a:pt x="115" y="1"/>
                  <a:pt x="121" y="5"/>
                  <a:pt x="121" y="7"/>
                </a:cubicBezTo>
                <a:cubicBezTo>
                  <a:pt x="121" y="10"/>
                  <a:pt x="121" y="10"/>
                  <a:pt x="121" y="10"/>
                </a:cubicBezTo>
                <a:cubicBezTo>
                  <a:pt x="121" y="10"/>
                  <a:pt x="122" y="10"/>
                  <a:pt x="122" y="11"/>
                </a:cubicBezTo>
                <a:cubicBezTo>
                  <a:pt x="122" y="22"/>
                  <a:pt x="122" y="26"/>
                  <a:pt x="117" y="36"/>
                </a:cubicBezTo>
                <a:cubicBezTo>
                  <a:pt x="111" y="47"/>
                  <a:pt x="113" y="65"/>
                  <a:pt x="112" y="70"/>
                </a:cubicBezTo>
                <a:cubicBezTo>
                  <a:pt x="112" y="75"/>
                  <a:pt x="105" y="86"/>
                  <a:pt x="105" y="92"/>
                </a:cubicBezTo>
                <a:cubicBezTo>
                  <a:pt x="105" y="98"/>
                  <a:pt x="98" y="121"/>
                  <a:pt x="98" y="121"/>
                </a:cubicBezTo>
                <a:cubicBezTo>
                  <a:pt x="98" y="121"/>
                  <a:pt x="98" y="121"/>
                  <a:pt x="95" y="117"/>
                </a:cubicBezTo>
                <a:cubicBezTo>
                  <a:pt x="92" y="113"/>
                  <a:pt x="77" y="94"/>
                  <a:pt x="77" y="94"/>
                </a:cubicBezTo>
                <a:cubicBezTo>
                  <a:pt x="77" y="94"/>
                  <a:pt x="73" y="79"/>
                  <a:pt x="73" y="78"/>
                </a:cubicBezTo>
                <a:cubicBezTo>
                  <a:pt x="73" y="77"/>
                  <a:pt x="75" y="73"/>
                  <a:pt x="78" y="70"/>
                </a:cubicBezTo>
                <a:cubicBezTo>
                  <a:pt x="63" y="51"/>
                  <a:pt x="63" y="51"/>
                  <a:pt x="63" y="51"/>
                </a:cubicBezTo>
                <a:cubicBezTo>
                  <a:pt x="59" y="49"/>
                  <a:pt x="55" y="49"/>
                  <a:pt x="53" y="49"/>
                </a:cubicBezTo>
                <a:cubicBezTo>
                  <a:pt x="32" y="65"/>
                  <a:pt x="32" y="65"/>
                  <a:pt x="32" y="65"/>
                </a:cubicBezTo>
                <a:cubicBezTo>
                  <a:pt x="38" y="71"/>
                  <a:pt x="51" y="86"/>
                  <a:pt x="51" y="86"/>
                </a:cubicBezTo>
                <a:cubicBezTo>
                  <a:pt x="53" y="98"/>
                  <a:pt x="53" y="98"/>
                  <a:pt x="53" y="98"/>
                </a:cubicBezTo>
                <a:cubicBezTo>
                  <a:pt x="53" y="98"/>
                  <a:pt x="45" y="114"/>
                  <a:pt x="40" y="132"/>
                </a:cubicBezTo>
                <a:cubicBezTo>
                  <a:pt x="35" y="150"/>
                  <a:pt x="39" y="197"/>
                  <a:pt x="42" y="214"/>
                </a:cubicBezTo>
                <a:cubicBezTo>
                  <a:pt x="45" y="230"/>
                  <a:pt x="46" y="256"/>
                  <a:pt x="44" y="273"/>
                </a:cubicBezTo>
                <a:cubicBezTo>
                  <a:pt x="41" y="290"/>
                  <a:pt x="33" y="321"/>
                  <a:pt x="33" y="321"/>
                </a:cubicBezTo>
                <a:cubicBezTo>
                  <a:pt x="33" y="321"/>
                  <a:pt x="32" y="318"/>
                  <a:pt x="29" y="302"/>
                </a:cubicBezTo>
                <a:cubicBezTo>
                  <a:pt x="27" y="287"/>
                  <a:pt x="17" y="226"/>
                  <a:pt x="13" y="210"/>
                </a:cubicBezTo>
                <a:cubicBezTo>
                  <a:pt x="10" y="194"/>
                  <a:pt x="2" y="117"/>
                  <a:pt x="1" y="102"/>
                </a:cubicBezTo>
                <a:cubicBezTo>
                  <a:pt x="1" y="88"/>
                  <a:pt x="0" y="48"/>
                  <a:pt x="1" y="43"/>
                </a:cubicBezTo>
                <a:cubicBezTo>
                  <a:pt x="2" y="37"/>
                  <a:pt x="5" y="32"/>
                  <a:pt x="2" y="26"/>
                </a:cubicBezTo>
                <a:cubicBezTo>
                  <a:pt x="1" y="23"/>
                  <a:pt x="2" y="21"/>
                  <a:pt x="2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30"/>
          <p:cNvSpPr/>
          <p:nvPr/>
        </p:nvSpPr>
        <p:spPr>
          <a:xfrm>
            <a:off x="6091200" y="600120"/>
            <a:ext cx="596880" cy="1806480"/>
          </a:xfrm>
          <a:custGeom>
            <a:avLst/>
            <a:gdLst/>
            <a:ahLst/>
            <a:rect l="l" t="t" r="r" b="b"/>
            <a:pathLst>
              <a:path w="330" h="995">
                <a:moveTo>
                  <a:pt x="196" y="71"/>
                </a:moveTo>
                <a:cubicBezTo>
                  <a:pt x="196" y="71"/>
                  <a:pt x="193" y="41"/>
                  <a:pt x="190" y="37"/>
                </a:cubicBezTo>
                <a:cubicBezTo>
                  <a:pt x="188" y="33"/>
                  <a:pt x="187" y="31"/>
                  <a:pt x="183" y="24"/>
                </a:cubicBezTo>
                <a:cubicBezTo>
                  <a:pt x="178" y="18"/>
                  <a:pt x="175" y="14"/>
                  <a:pt x="171" y="11"/>
                </a:cubicBezTo>
                <a:cubicBezTo>
                  <a:pt x="167" y="8"/>
                  <a:pt x="167" y="7"/>
                  <a:pt x="163" y="5"/>
                </a:cubicBezTo>
                <a:cubicBezTo>
                  <a:pt x="159" y="4"/>
                  <a:pt x="157" y="3"/>
                  <a:pt x="155" y="4"/>
                </a:cubicBezTo>
                <a:cubicBezTo>
                  <a:pt x="153" y="4"/>
                  <a:pt x="153" y="4"/>
                  <a:pt x="150" y="4"/>
                </a:cubicBezTo>
                <a:cubicBezTo>
                  <a:pt x="148" y="3"/>
                  <a:pt x="146" y="1"/>
                  <a:pt x="145" y="1"/>
                </a:cubicBezTo>
                <a:cubicBezTo>
                  <a:pt x="143" y="2"/>
                  <a:pt x="142" y="2"/>
                  <a:pt x="140" y="2"/>
                </a:cubicBezTo>
                <a:cubicBezTo>
                  <a:pt x="138" y="2"/>
                  <a:pt x="137" y="2"/>
                  <a:pt x="134" y="2"/>
                </a:cubicBezTo>
                <a:cubicBezTo>
                  <a:pt x="131" y="3"/>
                  <a:pt x="130" y="0"/>
                  <a:pt x="127" y="4"/>
                </a:cubicBezTo>
                <a:cubicBezTo>
                  <a:pt x="124" y="7"/>
                  <a:pt x="122" y="8"/>
                  <a:pt x="119" y="10"/>
                </a:cubicBezTo>
                <a:cubicBezTo>
                  <a:pt x="116" y="12"/>
                  <a:pt x="115" y="13"/>
                  <a:pt x="113" y="15"/>
                </a:cubicBezTo>
                <a:cubicBezTo>
                  <a:pt x="112" y="18"/>
                  <a:pt x="100" y="45"/>
                  <a:pt x="100" y="52"/>
                </a:cubicBezTo>
                <a:cubicBezTo>
                  <a:pt x="100" y="60"/>
                  <a:pt x="100" y="67"/>
                  <a:pt x="101" y="75"/>
                </a:cubicBezTo>
                <a:cubicBezTo>
                  <a:pt x="103" y="82"/>
                  <a:pt x="103" y="82"/>
                  <a:pt x="103" y="82"/>
                </a:cubicBezTo>
                <a:cubicBezTo>
                  <a:pt x="103" y="82"/>
                  <a:pt x="98" y="83"/>
                  <a:pt x="98" y="91"/>
                </a:cubicBezTo>
                <a:cubicBezTo>
                  <a:pt x="99" y="99"/>
                  <a:pt x="102" y="107"/>
                  <a:pt x="103" y="111"/>
                </a:cubicBezTo>
                <a:cubicBezTo>
                  <a:pt x="103" y="115"/>
                  <a:pt x="106" y="118"/>
                  <a:pt x="109" y="116"/>
                </a:cubicBezTo>
                <a:cubicBezTo>
                  <a:pt x="112" y="115"/>
                  <a:pt x="112" y="115"/>
                  <a:pt x="112" y="115"/>
                </a:cubicBezTo>
                <a:cubicBezTo>
                  <a:pt x="112" y="115"/>
                  <a:pt x="120" y="140"/>
                  <a:pt x="120" y="145"/>
                </a:cubicBezTo>
                <a:cubicBezTo>
                  <a:pt x="120" y="149"/>
                  <a:pt x="121" y="151"/>
                  <a:pt x="121" y="151"/>
                </a:cubicBezTo>
                <a:cubicBezTo>
                  <a:pt x="121" y="151"/>
                  <a:pt x="118" y="157"/>
                  <a:pt x="118" y="159"/>
                </a:cubicBezTo>
                <a:cubicBezTo>
                  <a:pt x="118" y="160"/>
                  <a:pt x="118" y="160"/>
                  <a:pt x="118" y="160"/>
                </a:cubicBezTo>
                <a:cubicBezTo>
                  <a:pt x="118" y="160"/>
                  <a:pt x="107" y="172"/>
                  <a:pt x="101" y="176"/>
                </a:cubicBezTo>
                <a:cubicBezTo>
                  <a:pt x="95" y="179"/>
                  <a:pt x="28" y="198"/>
                  <a:pt x="28" y="205"/>
                </a:cubicBezTo>
                <a:cubicBezTo>
                  <a:pt x="27" y="211"/>
                  <a:pt x="23" y="254"/>
                  <a:pt x="17" y="273"/>
                </a:cubicBezTo>
                <a:cubicBezTo>
                  <a:pt x="11" y="293"/>
                  <a:pt x="11" y="325"/>
                  <a:pt x="8" y="343"/>
                </a:cubicBezTo>
                <a:cubicBezTo>
                  <a:pt x="5" y="362"/>
                  <a:pt x="0" y="397"/>
                  <a:pt x="4" y="409"/>
                </a:cubicBezTo>
                <a:cubicBezTo>
                  <a:pt x="8" y="421"/>
                  <a:pt x="9" y="432"/>
                  <a:pt x="10" y="443"/>
                </a:cubicBezTo>
                <a:cubicBezTo>
                  <a:pt x="11" y="454"/>
                  <a:pt x="22" y="494"/>
                  <a:pt x="30" y="504"/>
                </a:cubicBezTo>
                <a:cubicBezTo>
                  <a:pt x="39" y="514"/>
                  <a:pt x="40" y="515"/>
                  <a:pt x="40" y="515"/>
                </a:cubicBezTo>
                <a:cubicBezTo>
                  <a:pt x="40" y="515"/>
                  <a:pt x="39" y="508"/>
                  <a:pt x="42" y="508"/>
                </a:cubicBezTo>
                <a:cubicBezTo>
                  <a:pt x="45" y="507"/>
                  <a:pt x="45" y="507"/>
                  <a:pt x="45" y="507"/>
                </a:cubicBezTo>
                <a:cubicBezTo>
                  <a:pt x="45" y="507"/>
                  <a:pt x="47" y="514"/>
                  <a:pt x="48" y="521"/>
                </a:cubicBezTo>
                <a:cubicBezTo>
                  <a:pt x="48" y="528"/>
                  <a:pt x="52" y="570"/>
                  <a:pt x="52" y="589"/>
                </a:cubicBezTo>
                <a:cubicBezTo>
                  <a:pt x="51" y="608"/>
                  <a:pt x="55" y="624"/>
                  <a:pt x="53" y="641"/>
                </a:cubicBezTo>
                <a:cubicBezTo>
                  <a:pt x="52" y="659"/>
                  <a:pt x="50" y="672"/>
                  <a:pt x="54" y="684"/>
                </a:cubicBezTo>
                <a:cubicBezTo>
                  <a:pt x="57" y="697"/>
                  <a:pt x="60" y="713"/>
                  <a:pt x="56" y="730"/>
                </a:cubicBezTo>
                <a:cubicBezTo>
                  <a:pt x="52" y="747"/>
                  <a:pt x="51" y="759"/>
                  <a:pt x="52" y="766"/>
                </a:cubicBezTo>
                <a:cubicBezTo>
                  <a:pt x="53" y="774"/>
                  <a:pt x="49" y="801"/>
                  <a:pt x="52" y="813"/>
                </a:cubicBezTo>
                <a:cubicBezTo>
                  <a:pt x="55" y="826"/>
                  <a:pt x="57" y="847"/>
                  <a:pt x="53" y="855"/>
                </a:cubicBezTo>
                <a:cubicBezTo>
                  <a:pt x="48" y="862"/>
                  <a:pt x="41" y="878"/>
                  <a:pt x="38" y="885"/>
                </a:cubicBezTo>
                <a:cubicBezTo>
                  <a:pt x="36" y="892"/>
                  <a:pt x="33" y="904"/>
                  <a:pt x="36" y="911"/>
                </a:cubicBezTo>
                <a:cubicBezTo>
                  <a:pt x="40" y="918"/>
                  <a:pt x="40" y="918"/>
                  <a:pt x="40" y="918"/>
                </a:cubicBezTo>
                <a:cubicBezTo>
                  <a:pt x="40" y="918"/>
                  <a:pt x="28" y="949"/>
                  <a:pt x="22" y="957"/>
                </a:cubicBezTo>
                <a:cubicBezTo>
                  <a:pt x="16" y="965"/>
                  <a:pt x="13" y="982"/>
                  <a:pt x="16" y="988"/>
                </a:cubicBezTo>
                <a:cubicBezTo>
                  <a:pt x="20" y="993"/>
                  <a:pt x="45" y="995"/>
                  <a:pt x="54" y="990"/>
                </a:cubicBezTo>
                <a:cubicBezTo>
                  <a:pt x="62" y="984"/>
                  <a:pt x="71" y="976"/>
                  <a:pt x="75" y="965"/>
                </a:cubicBezTo>
                <a:cubicBezTo>
                  <a:pt x="79" y="954"/>
                  <a:pt x="84" y="948"/>
                  <a:pt x="93" y="940"/>
                </a:cubicBezTo>
                <a:cubicBezTo>
                  <a:pt x="101" y="932"/>
                  <a:pt x="107" y="930"/>
                  <a:pt x="107" y="924"/>
                </a:cubicBezTo>
                <a:cubicBezTo>
                  <a:pt x="107" y="917"/>
                  <a:pt x="107" y="917"/>
                  <a:pt x="107" y="917"/>
                </a:cubicBezTo>
                <a:cubicBezTo>
                  <a:pt x="107" y="917"/>
                  <a:pt x="111" y="905"/>
                  <a:pt x="110" y="900"/>
                </a:cubicBezTo>
                <a:cubicBezTo>
                  <a:pt x="110" y="896"/>
                  <a:pt x="105" y="890"/>
                  <a:pt x="109" y="885"/>
                </a:cubicBezTo>
                <a:cubicBezTo>
                  <a:pt x="114" y="880"/>
                  <a:pt x="116" y="880"/>
                  <a:pt x="115" y="874"/>
                </a:cubicBezTo>
                <a:cubicBezTo>
                  <a:pt x="113" y="868"/>
                  <a:pt x="112" y="853"/>
                  <a:pt x="111" y="837"/>
                </a:cubicBezTo>
                <a:cubicBezTo>
                  <a:pt x="111" y="820"/>
                  <a:pt x="114" y="784"/>
                  <a:pt x="118" y="771"/>
                </a:cubicBezTo>
                <a:cubicBezTo>
                  <a:pt x="122" y="758"/>
                  <a:pt x="115" y="761"/>
                  <a:pt x="118" y="749"/>
                </a:cubicBezTo>
                <a:cubicBezTo>
                  <a:pt x="121" y="736"/>
                  <a:pt x="124" y="737"/>
                  <a:pt x="128" y="729"/>
                </a:cubicBezTo>
                <a:cubicBezTo>
                  <a:pt x="133" y="721"/>
                  <a:pt x="129" y="706"/>
                  <a:pt x="134" y="695"/>
                </a:cubicBezTo>
                <a:cubicBezTo>
                  <a:pt x="140" y="685"/>
                  <a:pt x="137" y="678"/>
                  <a:pt x="141" y="668"/>
                </a:cubicBezTo>
                <a:cubicBezTo>
                  <a:pt x="146" y="659"/>
                  <a:pt x="148" y="627"/>
                  <a:pt x="152" y="618"/>
                </a:cubicBezTo>
                <a:cubicBezTo>
                  <a:pt x="155" y="609"/>
                  <a:pt x="164" y="589"/>
                  <a:pt x="164" y="583"/>
                </a:cubicBezTo>
                <a:cubicBezTo>
                  <a:pt x="164" y="578"/>
                  <a:pt x="164" y="576"/>
                  <a:pt x="167" y="580"/>
                </a:cubicBezTo>
                <a:cubicBezTo>
                  <a:pt x="169" y="585"/>
                  <a:pt x="171" y="578"/>
                  <a:pt x="174" y="594"/>
                </a:cubicBezTo>
                <a:cubicBezTo>
                  <a:pt x="176" y="609"/>
                  <a:pt x="180" y="616"/>
                  <a:pt x="182" y="628"/>
                </a:cubicBezTo>
                <a:cubicBezTo>
                  <a:pt x="183" y="641"/>
                  <a:pt x="182" y="676"/>
                  <a:pt x="188" y="688"/>
                </a:cubicBezTo>
                <a:cubicBezTo>
                  <a:pt x="194" y="700"/>
                  <a:pt x="193" y="702"/>
                  <a:pt x="193" y="710"/>
                </a:cubicBezTo>
                <a:cubicBezTo>
                  <a:pt x="193" y="717"/>
                  <a:pt x="194" y="720"/>
                  <a:pt x="195" y="726"/>
                </a:cubicBezTo>
                <a:cubicBezTo>
                  <a:pt x="196" y="733"/>
                  <a:pt x="197" y="755"/>
                  <a:pt x="191" y="766"/>
                </a:cubicBezTo>
                <a:cubicBezTo>
                  <a:pt x="186" y="777"/>
                  <a:pt x="182" y="783"/>
                  <a:pt x="179" y="794"/>
                </a:cubicBezTo>
                <a:cubicBezTo>
                  <a:pt x="176" y="804"/>
                  <a:pt x="175" y="831"/>
                  <a:pt x="173" y="845"/>
                </a:cubicBezTo>
                <a:cubicBezTo>
                  <a:pt x="172" y="859"/>
                  <a:pt x="168" y="871"/>
                  <a:pt x="173" y="884"/>
                </a:cubicBezTo>
                <a:cubicBezTo>
                  <a:pt x="177" y="897"/>
                  <a:pt x="175" y="905"/>
                  <a:pt x="179" y="910"/>
                </a:cubicBezTo>
                <a:cubicBezTo>
                  <a:pt x="182" y="914"/>
                  <a:pt x="184" y="917"/>
                  <a:pt x="184" y="917"/>
                </a:cubicBezTo>
                <a:cubicBezTo>
                  <a:pt x="184" y="917"/>
                  <a:pt x="184" y="922"/>
                  <a:pt x="188" y="928"/>
                </a:cubicBezTo>
                <a:cubicBezTo>
                  <a:pt x="192" y="934"/>
                  <a:pt x="194" y="937"/>
                  <a:pt x="195" y="946"/>
                </a:cubicBezTo>
                <a:cubicBezTo>
                  <a:pt x="197" y="954"/>
                  <a:pt x="197" y="976"/>
                  <a:pt x="210" y="982"/>
                </a:cubicBezTo>
                <a:cubicBezTo>
                  <a:pt x="223" y="988"/>
                  <a:pt x="233" y="988"/>
                  <a:pt x="240" y="985"/>
                </a:cubicBezTo>
                <a:cubicBezTo>
                  <a:pt x="247" y="981"/>
                  <a:pt x="259" y="974"/>
                  <a:pt x="254" y="956"/>
                </a:cubicBezTo>
                <a:cubicBezTo>
                  <a:pt x="249" y="937"/>
                  <a:pt x="237" y="916"/>
                  <a:pt x="237" y="916"/>
                </a:cubicBezTo>
                <a:cubicBezTo>
                  <a:pt x="237" y="916"/>
                  <a:pt x="245" y="903"/>
                  <a:pt x="245" y="902"/>
                </a:cubicBezTo>
                <a:cubicBezTo>
                  <a:pt x="246" y="900"/>
                  <a:pt x="248" y="899"/>
                  <a:pt x="245" y="895"/>
                </a:cubicBezTo>
                <a:cubicBezTo>
                  <a:pt x="242" y="890"/>
                  <a:pt x="241" y="891"/>
                  <a:pt x="236" y="884"/>
                </a:cubicBezTo>
                <a:cubicBezTo>
                  <a:pt x="231" y="877"/>
                  <a:pt x="229" y="875"/>
                  <a:pt x="234" y="867"/>
                </a:cubicBezTo>
                <a:cubicBezTo>
                  <a:pt x="238" y="860"/>
                  <a:pt x="253" y="836"/>
                  <a:pt x="253" y="810"/>
                </a:cubicBezTo>
                <a:cubicBezTo>
                  <a:pt x="252" y="785"/>
                  <a:pt x="251" y="789"/>
                  <a:pt x="254" y="772"/>
                </a:cubicBezTo>
                <a:cubicBezTo>
                  <a:pt x="258" y="755"/>
                  <a:pt x="263" y="691"/>
                  <a:pt x="265" y="679"/>
                </a:cubicBezTo>
                <a:cubicBezTo>
                  <a:pt x="267" y="666"/>
                  <a:pt x="285" y="594"/>
                  <a:pt x="283" y="563"/>
                </a:cubicBezTo>
                <a:cubicBezTo>
                  <a:pt x="281" y="531"/>
                  <a:pt x="285" y="525"/>
                  <a:pt x="285" y="525"/>
                </a:cubicBezTo>
                <a:cubicBezTo>
                  <a:pt x="292" y="531"/>
                  <a:pt x="292" y="531"/>
                  <a:pt x="292" y="531"/>
                </a:cubicBezTo>
                <a:cubicBezTo>
                  <a:pt x="288" y="516"/>
                  <a:pt x="288" y="516"/>
                  <a:pt x="288" y="516"/>
                </a:cubicBezTo>
                <a:cubicBezTo>
                  <a:pt x="288" y="516"/>
                  <a:pt x="294" y="512"/>
                  <a:pt x="294" y="508"/>
                </a:cubicBezTo>
                <a:cubicBezTo>
                  <a:pt x="294" y="504"/>
                  <a:pt x="301" y="495"/>
                  <a:pt x="301" y="494"/>
                </a:cubicBezTo>
                <a:cubicBezTo>
                  <a:pt x="302" y="493"/>
                  <a:pt x="303" y="502"/>
                  <a:pt x="303" y="502"/>
                </a:cubicBezTo>
                <a:cubicBezTo>
                  <a:pt x="303" y="502"/>
                  <a:pt x="330" y="448"/>
                  <a:pt x="329" y="438"/>
                </a:cubicBezTo>
                <a:cubicBezTo>
                  <a:pt x="329" y="428"/>
                  <a:pt x="328" y="416"/>
                  <a:pt x="328" y="412"/>
                </a:cubicBezTo>
                <a:cubicBezTo>
                  <a:pt x="328" y="407"/>
                  <a:pt x="323" y="349"/>
                  <a:pt x="316" y="310"/>
                </a:cubicBezTo>
                <a:cubicBezTo>
                  <a:pt x="309" y="271"/>
                  <a:pt x="309" y="263"/>
                  <a:pt x="301" y="241"/>
                </a:cubicBezTo>
                <a:cubicBezTo>
                  <a:pt x="294" y="219"/>
                  <a:pt x="289" y="212"/>
                  <a:pt x="289" y="203"/>
                </a:cubicBezTo>
                <a:cubicBezTo>
                  <a:pt x="288" y="193"/>
                  <a:pt x="287" y="187"/>
                  <a:pt x="284" y="184"/>
                </a:cubicBezTo>
                <a:cubicBezTo>
                  <a:pt x="281" y="181"/>
                  <a:pt x="219" y="171"/>
                  <a:pt x="213" y="167"/>
                </a:cubicBezTo>
                <a:cubicBezTo>
                  <a:pt x="206" y="164"/>
                  <a:pt x="198" y="157"/>
                  <a:pt x="195" y="152"/>
                </a:cubicBezTo>
                <a:cubicBezTo>
                  <a:pt x="191" y="148"/>
                  <a:pt x="188" y="145"/>
                  <a:pt x="188" y="145"/>
                </a:cubicBezTo>
                <a:cubicBezTo>
                  <a:pt x="188" y="145"/>
                  <a:pt x="189" y="135"/>
                  <a:pt x="189" y="123"/>
                </a:cubicBezTo>
                <a:cubicBezTo>
                  <a:pt x="189" y="111"/>
                  <a:pt x="190" y="107"/>
                  <a:pt x="193" y="108"/>
                </a:cubicBezTo>
                <a:cubicBezTo>
                  <a:pt x="196" y="108"/>
                  <a:pt x="201" y="103"/>
                  <a:pt x="202" y="95"/>
                </a:cubicBezTo>
                <a:cubicBezTo>
                  <a:pt x="204" y="86"/>
                  <a:pt x="204" y="79"/>
                  <a:pt x="202" y="76"/>
                </a:cubicBezTo>
                <a:cubicBezTo>
                  <a:pt x="200" y="73"/>
                  <a:pt x="196" y="71"/>
                  <a:pt x="196" y="7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31"/>
          <p:cNvSpPr/>
          <p:nvPr/>
        </p:nvSpPr>
        <p:spPr>
          <a:xfrm>
            <a:off x="6302520" y="868320"/>
            <a:ext cx="141120" cy="325440"/>
          </a:xfrm>
          <a:custGeom>
            <a:avLst/>
            <a:gdLst/>
            <a:ahLst/>
            <a:rect l="l" t="t" r="r" b="b"/>
            <a:pathLst>
              <a:path w="78" h="181">
                <a:moveTo>
                  <a:pt x="43" y="27"/>
                </a:moveTo>
                <a:cubicBezTo>
                  <a:pt x="43" y="27"/>
                  <a:pt x="43" y="27"/>
                  <a:pt x="43" y="27"/>
                </a:cubicBezTo>
                <a:close/>
                <a:moveTo>
                  <a:pt x="38" y="27"/>
                </a:moveTo>
                <a:cubicBezTo>
                  <a:pt x="38" y="27"/>
                  <a:pt x="32" y="28"/>
                  <a:pt x="24" y="24"/>
                </a:cubicBezTo>
                <a:cubicBezTo>
                  <a:pt x="19" y="22"/>
                  <a:pt x="10" y="12"/>
                  <a:pt x="4" y="5"/>
                </a:cubicBezTo>
                <a:cubicBezTo>
                  <a:pt x="4" y="5"/>
                  <a:pt x="4" y="5"/>
                  <a:pt x="4" y="5"/>
                </a:cubicBezTo>
                <a:cubicBezTo>
                  <a:pt x="4" y="5"/>
                  <a:pt x="3" y="8"/>
                  <a:pt x="2" y="10"/>
                </a:cubicBezTo>
                <a:cubicBezTo>
                  <a:pt x="3" y="12"/>
                  <a:pt x="2" y="19"/>
                  <a:pt x="1" y="42"/>
                </a:cubicBezTo>
                <a:cubicBezTo>
                  <a:pt x="0" y="66"/>
                  <a:pt x="11" y="109"/>
                  <a:pt x="11" y="109"/>
                </a:cubicBezTo>
                <a:cubicBezTo>
                  <a:pt x="11" y="109"/>
                  <a:pt x="11" y="109"/>
                  <a:pt x="12" y="100"/>
                </a:cubicBezTo>
                <a:cubicBezTo>
                  <a:pt x="12" y="92"/>
                  <a:pt x="25" y="61"/>
                  <a:pt x="27" y="56"/>
                </a:cubicBezTo>
                <a:cubicBezTo>
                  <a:pt x="30" y="50"/>
                  <a:pt x="24" y="45"/>
                  <a:pt x="26" y="38"/>
                </a:cubicBezTo>
                <a:cubicBezTo>
                  <a:pt x="28" y="31"/>
                  <a:pt x="31" y="31"/>
                  <a:pt x="35" y="31"/>
                </a:cubicBezTo>
                <a:cubicBezTo>
                  <a:pt x="39" y="30"/>
                  <a:pt x="38" y="27"/>
                  <a:pt x="38" y="27"/>
                </a:cubicBezTo>
                <a:close/>
                <a:moveTo>
                  <a:pt x="78" y="6"/>
                </a:moveTo>
                <a:cubicBezTo>
                  <a:pt x="75" y="3"/>
                  <a:pt x="73" y="1"/>
                  <a:pt x="72" y="0"/>
                </a:cubicBezTo>
                <a:cubicBezTo>
                  <a:pt x="70" y="5"/>
                  <a:pt x="66" y="11"/>
                  <a:pt x="61" y="15"/>
                </a:cubicBezTo>
                <a:cubicBezTo>
                  <a:pt x="53" y="22"/>
                  <a:pt x="45" y="26"/>
                  <a:pt x="43" y="27"/>
                </a:cubicBezTo>
                <a:cubicBezTo>
                  <a:pt x="44" y="26"/>
                  <a:pt x="48" y="26"/>
                  <a:pt x="55" y="31"/>
                </a:cubicBezTo>
                <a:cubicBezTo>
                  <a:pt x="63" y="38"/>
                  <a:pt x="63" y="38"/>
                  <a:pt x="63" y="38"/>
                </a:cubicBezTo>
                <a:cubicBezTo>
                  <a:pt x="63" y="38"/>
                  <a:pt x="48" y="42"/>
                  <a:pt x="45" y="48"/>
                </a:cubicBezTo>
                <a:cubicBezTo>
                  <a:pt x="43" y="55"/>
                  <a:pt x="41" y="60"/>
                  <a:pt x="41" y="60"/>
                </a:cubicBezTo>
                <a:cubicBezTo>
                  <a:pt x="41" y="60"/>
                  <a:pt x="55" y="78"/>
                  <a:pt x="56" y="92"/>
                </a:cubicBezTo>
                <a:cubicBezTo>
                  <a:pt x="58" y="106"/>
                  <a:pt x="59" y="157"/>
                  <a:pt x="59" y="169"/>
                </a:cubicBezTo>
                <a:cubicBezTo>
                  <a:pt x="58" y="180"/>
                  <a:pt x="58" y="181"/>
                  <a:pt x="58" y="181"/>
                </a:cubicBezTo>
                <a:cubicBezTo>
                  <a:pt x="58" y="181"/>
                  <a:pt x="65" y="104"/>
                  <a:pt x="70" y="74"/>
                </a:cubicBezTo>
                <a:cubicBezTo>
                  <a:pt x="74" y="43"/>
                  <a:pt x="75" y="28"/>
                  <a:pt x="76" y="21"/>
                </a:cubicBezTo>
                <a:cubicBezTo>
                  <a:pt x="77" y="14"/>
                  <a:pt x="77" y="13"/>
                  <a:pt x="78" y="8"/>
                </a:cubicBezTo>
                <a:cubicBezTo>
                  <a:pt x="78" y="7"/>
                  <a:pt x="78" y="7"/>
                  <a:pt x="78" y="7"/>
                </a:cubicBezTo>
                <a:lnTo>
                  <a:pt x="78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2"/>
          <p:cNvSpPr/>
          <p:nvPr/>
        </p:nvSpPr>
        <p:spPr>
          <a:xfrm>
            <a:off x="820800" y="4770360"/>
            <a:ext cx="27255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3"/>
          <p:cNvSpPr/>
          <p:nvPr/>
        </p:nvSpPr>
        <p:spPr>
          <a:xfrm>
            <a:off x="1461240" y="44164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4"/>
          <p:cNvSpPr/>
          <p:nvPr/>
        </p:nvSpPr>
        <p:spPr>
          <a:xfrm>
            <a:off x="820800" y="3618000"/>
            <a:ext cx="27255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5"/>
          <p:cNvSpPr/>
          <p:nvPr/>
        </p:nvSpPr>
        <p:spPr>
          <a:xfrm>
            <a:off x="1461240" y="326376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单击此处添加标题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WordArt 36"/>
          <p:cNvSpPr txBox="1"/>
          <p:nvPr/>
        </p:nvSpPr>
        <p:spPr>
          <a:xfrm>
            <a:off x="882720" y="5748480"/>
            <a:ext cx="5060880" cy="50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cc0000"/>
                </a:solidFill>
                <a:latin typeface="微软雅黑"/>
              </a:rPr>
              <a:t>双击此处添加标题文字</a:t>
            </a:r>
            <a:endParaRPr b="1" lang="en-US" sz="1800" spc="-1" strike="noStrike">
              <a:ln w="0">
                <a:noFill/>
              </a:ln>
              <a:solidFill>
                <a:srgbClr val="cc0000"/>
              </a:solidFill>
              <a:latin typeface="微软雅黑"/>
              <a:ea typeface="微软雅黑"/>
            </a:endParaRPr>
          </a:p>
        </p:txBody>
      </p:sp>
    </p:spTree>
  </p:cSld>
  <p:transition spd="slow" advTm="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A64E2-29F2-4090-8011-3451AEDEF61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156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158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8516880" y="2422440"/>
            <a:ext cx="1720800" cy="363564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3"/>
          <p:cNvSpPr/>
          <p:nvPr/>
        </p:nvSpPr>
        <p:spPr>
          <a:xfrm>
            <a:off x="6534000" y="2435400"/>
            <a:ext cx="1757520" cy="3641400"/>
          </a:xfrm>
          <a:custGeom>
            <a:avLst/>
            <a:gdLst/>
            <a:ahLst/>
            <a:rect l="l" t="t" r="r" b="b"/>
            <a:pathLst>
              <a:path w="123" h="255">
                <a:moveTo>
                  <a:pt x="0" y="255"/>
                </a:moveTo>
                <a:cubicBezTo>
                  <a:pt x="123" y="255"/>
                  <a:pt x="123" y="255"/>
                  <a:pt x="123" y="255"/>
                </a:cubicBezTo>
                <a:cubicBezTo>
                  <a:pt x="123" y="0"/>
                  <a:pt x="123" y="0"/>
                  <a:pt x="123" y="0"/>
                </a:cubicBezTo>
                <a:cubicBezTo>
                  <a:pt x="87" y="4"/>
                  <a:pt x="46" y="12"/>
                  <a:pt x="0" y="24"/>
                </a:cubicBezTo>
                <a:lnTo>
                  <a:pt x="0" y="255"/>
                </a:ln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4"/>
          <p:cNvSpPr/>
          <p:nvPr/>
        </p:nvSpPr>
        <p:spPr>
          <a:xfrm>
            <a:off x="2641680" y="3564000"/>
            <a:ext cx="1714320" cy="2512800"/>
          </a:xfrm>
          <a:custGeom>
            <a:avLst/>
            <a:gdLst/>
            <a:ahLst/>
            <a:rect l="l" t="t" r="r" b="b"/>
            <a:pathLst>
              <a:path w="120" h="176">
                <a:moveTo>
                  <a:pt x="0" y="176"/>
                </a:moveTo>
                <a:cubicBezTo>
                  <a:pt x="120" y="176"/>
                  <a:pt x="120" y="176"/>
                  <a:pt x="120" y="176"/>
                </a:cubicBezTo>
                <a:cubicBezTo>
                  <a:pt x="120" y="0"/>
                  <a:pt x="120" y="0"/>
                  <a:pt x="120" y="0"/>
                </a:cubicBezTo>
                <a:cubicBezTo>
                  <a:pt x="81" y="19"/>
                  <a:pt x="41" y="41"/>
                  <a:pt x="0" y="67"/>
                </a:cubicBezTo>
                <a:lnTo>
                  <a:pt x="0" y="176"/>
                </a:ln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5"/>
          <p:cNvSpPr/>
          <p:nvPr/>
        </p:nvSpPr>
        <p:spPr>
          <a:xfrm>
            <a:off x="4583160" y="2835360"/>
            <a:ext cx="1720800" cy="3241440"/>
          </a:xfrm>
          <a:custGeom>
            <a:avLst/>
            <a:gdLst/>
            <a:ahLst/>
            <a:rect l="l" t="t" r="r" b="b"/>
            <a:pathLst>
              <a:path w="120" h="227">
                <a:moveTo>
                  <a:pt x="0" y="44"/>
                </a:moveTo>
                <a:cubicBezTo>
                  <a:pt x="0" y="227"/>
                  <a:pt x="0" y="227"/>
                  <a:pt x="0" y="227"/>
                </a:cubicBezTo>
                <a:cubicBezTo>
                  <a:pt x="120" y="227"/>
                  <a:pt x="120" y="227"/>
                  <a:pt x="120" y="227"/>
                </a:cubicBezTo>
                <a:cubicBezTo>
                  <a:pt x="120" y="0"/>
                  <a:pt x="120" y="0"/>
                  <a:pt x="120" y="0"/>
                </a:cubicBezTo>
                <a:cubicBezTo>
                  <a:pt x="82" y="11"/>
                  <a:pt x="42" y="25"/>
                  <a:pt x="0" y="44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6"/>
          <p:cNvSpPr/>
          <p:nvPr/>
        </p:nvSpPr>
        <p:spPr>
          <a:xfrm>
            <a:off x="677880" y="4676760"/>
            <a:ext cx="1736640" cy="1400040"/>
          </a:xfrm>
          <a:custGeom>
            <a:avLst/>
            <a:gdLst/>
            <a:ahLst/>
            <a:rect l="l" t="t" r="r" b="b"/>
            <a:pathLst>
              <a:path w="121" h="98">
                <a:moveTo>
                  <a:pt x="121" y="98"/>
                </a:moveTo>
                <a:cubicBezTo>
                  <a:pt x="121" y="0"/>
                  <a:pt x="121" y="0"/>
                  <a:pt x="121" y="0"/>
                </a:cubicBezTo>
                <a:cubicBezTo>
                  <a:pt x="81" y="28"/>
                  <a:pt x="40" y="60"/>
                  <a:pt x="0" y="98"/>
                </a:cubicBezTo>
                <a:lnTo>
                  <a:pt x="121" y="98"/>
                </a:ln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7"/>
          <p:cNvSpPr/>
          <p:nvPr/>
        </p:nvSpPr>
        <p:spPr>
          <a:xfrm>
            <a:off x="635040" y="3948120"/>
            <a:ext cx="1779480" cy="1657440"/>
          </a:xfrm>
          <a:custGeom>
            <a:avLst/>
            <a:gdLst/>
            <a:ahLst/>
            <a:rect l="l" t="t" r="r" b="b"/>
            <a:pathLst>
              <a:path w="124" h="116">
                <a:moveTo>
                  <a:pt x="0" y="94"/>
                </a:moveTo>
                <a:cubicBezTo>
                  <a:pt x="0" y="116"/>
                  <a:pt x="0" y="116"/>
                  <a:pt x="0" y="116"/>
                </a:cubicBezTo>
                <a:cubicBezTo>
                  <a:pt x="2" y="116"/>
                  <a:pt x="2" y="116"/>
                  <a:pt x="2" y="116"/>
                </a:cubicBezTo>
                <a:cubicBezTo>
                  <a:pt x="22" y="96"/>
                  <a:pt x="63" y="59"/>
                  <a:pt x="124" y="19"/>
                </a:cubicBezTo>
                <a:cubicBezTo>
                  <a:pt x="124" y="0"/>
                  <a:pt x="124" y="0"/>
                  <a:pt x="124" y="0"/>
                </a:cubicBezTo>
                <a:cubicBezTo>
                  <a:pt x="83" y="26"/>
                  <a:pt x="42" y="57"/>
                  <a:pt x="0" y="94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8"/>
          <p:cNvSpPr/>
          <p:nvPr/>
        </p:nvSpPr>
        <p:spPr>
          <a:xfrm>
            <a:off x="2641680" y="2921040"/>
            <a:ext cx="1714320" cy="1155600"/>
          </a:xfrm>
          <a:custGeom>
            <a:avLst/>
            <a:gdLst/>
            <a:ahLst/>
            <a:rect l="l" t="t" r="r" b="b"/>
            <a:pathLst>
              <a:path w="120" h="81">
                <a:moveTo>
                  <a:pt x="120" y="0"/>
                </a:moveTo>
                <a:cubicBezTo>
                  <a:pt x="81" y="17"/>
                  <a:pt x="41" y="37"/>
                  <a:pt x="0" y="62"/>
                </a:cubicBezTo>
                <a:cubicBezTo>
                  <a:pt x="0" y="81"/>
                  <a:pt x="0" y="81"/>
                  <a:pt x="0" y="81"/>
                </a:cubicBezTo>
                <a:cubicBezTo>
                  <a:pt x="35" y="59"/>
                  <a:pt x="75" y="38"/>
                  <a:pt x="120" y="18"/>
                </a:cubicBezTo>
                <a:lnTo>
                  <a:pt x="120" y="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cc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9"/>
          <p:cNvSpPr/>
          <p:nvPr/>
        </p:nvSpPr>
        <p:spPr>
          <a:xfrm>
            <a:off x="4583160" y="2262240"/>
            <a:ext cx="1720800" cy="830160"/>
          </a:xfrm>
          <a:custGeom>
            <a:avLst/>
            <a:gdLst/>
            <a:ahLst/>
            <a:rect l="l" t="t" r="r" b="b"/>
            <a:pathLst>
              <a:path w="120" h="58">
                <a:moveTo>
                  <a:pt x="120" y="0"/>
                </a:moveTo>
                <a:cubicBezTo>
                  <a:pt x="83" y="9"/>
                  <a:pt x="42" y="22"/>
                  <a:pt x="0" y="39"/>
                </a:cubicBezTo>
                <a:cubicBezTo>
                  <a:pt x="0" y="58"/>
                  <a:pt x="0" y="58"/>
                  <a:pt x="0" y="58"/>
                </a:cubicBezTo>
                <a:cubicBezTo>
                  <a:pt x="37" y="43"/>
                  <a:pt x="77" y="30"/>
                  <a:pt x="120" y="19"/>
                </a:cubicBezTo>
                <a:lnTo>
                  <a:pt x="120" y="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e2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10"/>
          <p:cNvSpPr/>
          <p:nvPr/>
        </p:nvSpPr>
        <p:spPr>
          <a:xfrm>
            <a:off x="6534000" y="1920960"/>
            <a:ext cx="1757520" cy="557280"/>
          </a:xfrm>
          <a:custGeom>
            <a:avLst/>
            <a:gdLst/>
            <a:ahLst/>
            <a:rect l="l" t="t" r="r" b="b"/>
            <a:pathLst>
              <a:path w="123" h="39">
                <a:moveTo>
                  <a:pt x="123" y="0"/>
                </a:moveTo>
                <a:cubicBezTo>
                  <a:pt x="88" y="3"/>
                  <a:pt x="47" y="9"/>
                  <a:pt x="0" y="20"/>
                </a:cubicBezTo>
                <a:cubicBezTo>
                  <a:pt x="0" y="39"/>
                  <a:pt x="0" y="39"/>
                  <a:pt x="0" y="39"/>
                </a:cubicBezTo>
                <a:cubicBezTo>
                  <a:pt x="39" y="30"/>
                  <a:pt x="80" y="24"/>
                  <a:pt x="123" y="20"/>
                </a:cubicBezTo>
                <a:lnTo>
                  <a:pt x="123" y="0"/>
                </a:lnTo>
                <a:close/>
              </a:path>
            </a:pathLst>
          </a:custGeom>
          <a:gradFill rotWithShape="0">
            <a:gsLst>
              <a:gs pos="0">
                <a:srgbClr val="e20000"/>
              </a:gs>
              <a:gs pos="100000">
                <a:srgbClr val="cc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1"/>
          <p:cNvSpPr/>
          <p:nvPr/>
        </p:nvSpPr>
        <p:spPr>
          <a:xfrm>
            <a:off x="635040" y="6064200"/>
            <a:ext cx="9866160" cy="0"/>
          </a:xfrm>
          <a:prstGeom prst="line">
            <a:avLst/>
          </a:prstGeom>
          <a:ln w="19080">
            <a:solidFill>
              <a:srgbClr val="4d4d4d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2"/>
          <p:cNvSpPr/>
          <p:nvPr/>
        </p:nvSpPr>
        <p:spPr>
          <a:xfrm flipV="1">
            <a:off x="635040" y="775800"/>
            <a:ext cx="0" cy="5288040"/>
          </a:xfrm>
          <a:prstGeom prst="line">
            <a:avLst/>
          </a:prstGeom>
          <a:ln w="19080">
            <a:solidFill>
              <a:srgbClr val="4d4d4d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3"/>
          <p:cNvSpPr/>
          <p:nvPr/>
        </p:nvSpPr>
        <p:spPr>
          <a:xfrm>
            <a:off x="8516880" y="1746360"/>
            <a:ext cx="1854360" cy="547560"/>
          </a:xfrm>
          <a:prstGeom prst="rightArrow">
            <a:avLst>
              <a:gd name="adj1" fmla="val 49648"/>
              <a:gd name="adj2" fmla="val 65458"/>
            </a:avLst>
          </a:prstGeom>
          <a:gradFill rotWithShape="0">
            <a:gsLst>
              <a:gs pos="0">
                <a:srgbClr val="cc0000"/>
              </a:gs>
              <a:gs pos="100000">
                <a:srgbClr val="8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4"/>
          <p:cNvSpPr/>
          <p:nvPr/>
        </p:nvSpPr>
        <p:spPr>
          <a:xfrm rot="16200000">
            <a:off x="228960" y="188964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5"/>
          <p:cNvSpPr/>
          <p:nvPr/>
        </p:nvSpPr>
        <p:spPr>
          <a:xfrm>
            <a:off x="8475840" y="3828960"/>
            <a:ext cx="17618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6"/>
          <p:cNvSpPr/>
          <p:nvPr/>
        </p:nvSpPr>
        <p:spPr>
          <a:xfrm>
            <a:off x="8923320" y="3067200"/>
            <a:ext cx="91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WordArt 17"/>
          <p:cNvSpPr txBox="1"/>
          <p:nvPr/>
        </p:nvSpPr>
        <p:spPr>
          <a:xfrm>
            <a:off x="8916840" y="5580000"/>
            <a:ext cx="90972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2016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6" name="WordArt 18"/>
          <p:cNvSpPr txBox="1"/>
          <p:nvPr/>
        </p:nvSpPr>
        <p:spPr>
          <a:xfrm>
            <a:off x="6959520" y="5580000"/>
            <a:ext cx="90828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2015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7" name="WordArt 19"/>
          <p:cNvSpPr txBox="1"/>
          <p:nvPr/>
        </p:nvSpPr>
        <p:spPr>
          <a:xfrm>
            <a:off x="5000760" y="5580000"/>
            <a:ext cx="90936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2014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8" name="WordArt 20"/>
          <p:cNvSpPr txBox="1"/>
          <p:nvPr/>
        </p:nvSpPr>
        <p:spPr>
          <a:xfrm>
            <a:off x="3043080" y="5580000"/>
            <a:ext cx="90972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2013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9" name="WordArt 21"/>
          <p:cNvSpPr txBox="1"/>
          <p:nvPr/>
        </p:nvSpPr>
        <p:spPr>
          <a:xfrm>
            <a:off x="1319040" y="5580000"/>
            <a:ext cx="90828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2012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0" name="WordArt 22"/>
          <p:cNvSpPr txBox="1"/>
          <p:nvPr/>
        </p:nvSpPr>
        <p:spPr>
          <a:xfrm>
            <a:off x="2840040" y="2451240"/>
            <a:ext cx="1144440" cy="35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cc0000"/>
                </a:solidFill>
                <a:latin typeface="Arial"/>
              </a:rPr>
              <a:t>+30%</a:t>
            </a:r>
            <a:endParaRPr b="1" lang="en-US" sz="1800" spc="-1" strike="noStrike">
              <a:ln w="0">
                <a:noFill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</p:spTree>
  </p:cSld>
  <p:transition spd="slow" advTm="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CFB46-FF3D-4CFB-8BE5-9D4E6715F26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183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184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185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187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2206800" y="4146480"/>
            <a:ext cx="5927400" cy="15336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2206800" y="4116240"/>
            <a:ext cx="415908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 rot="5400000">
            <a:off x="7188840" y="4474080"/>
            <a:ext cx="2555640" cy="9288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b2b2b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2471760" y="3219480"/>
            <a:ext cx="6459480" cy="9288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b2b2b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3002040" y="1273320"/>
            <a:ext cx="5929200" cy="15332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8"/>
          <p:cNvSpPr/>
          <p:nvPr/>
        </p:nvSpPr>
        <p:spPr>
          <a:xfrm rot="5400000">
            <a:off x="1300320" y="2094840"/>
            <a:ext cx="2555640" cy="9284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b2b2b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9"/>
          <p:cNvGrpSpPr/>
          <p:nvPr/>
        </p:nvGrpSpPr>
        <p:grpSpPr>
          <a:xfrm>
            <a:off x="1628640" y="741240"/>
            <a:ext cx="1876320" cy="1863360"/>
            <a:chOff x="1628640" y="741240"/>
            <a:chExt cx="1876320" cy="1863360"/>
          </a:xfrm>
        </p:grpSpPr>
        <p:grpSp>
          <p:nvGrpSpPr>
            <p:cNvPr id="196" name="Group 10"/>
            <p:cNvGrpSpPr/>
            <p:nvPr/>
          </p:nvGrpSpPr>
          <p:grpSpPr>
            <a:xfrm>
              <a:off x="1823400" y="741240"/>
              <a:ext cx="1528560" cy="1493280"/>
              <a:chOff x="1823400" y="741240"/>
              <a:chExt cx="1528560" cy="1493280"/>
            </a:xfrm>
          </p:grpSpPr>
          <p:grpSp>
            <p:nvGrpSpPr>
              <p:cNvPr id="197" name="Group 11"/>
              <p:cNvGrpSpPr/>
              <p:nvPr/>
            </p:nvGrpSpPr>
            <p:grpSpPr>
              <a:xfrm>
                <a:off x="1823400" y="741240"/>
                <a:ext cx="1528560" cy="1493280"/>
                <a:chOff x="1823400" y="741240"/>
                <a:chExt cx="1528560" cy="1493280"/>
              </a:xfrm>
            </p:grpSpPr>
            <p:pic>
              <p:nvPicPr>
                <p:cNvPr id="198" name="Picture 12" descr="circuler_1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823400" y="741240"/>
                  <a:ext cx="1528560" cy="1488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9" name="Oval 13"/>
                <p:cNvSpPr/>
                <p:nvPr/>
              </p:nvSpPr>
              <p:spPr>
                <a:xfrm>
                  <a:off x="1823400" y="741240"/>
                  <a:ext cx="1518120" cy="1493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00" name="Picture 14" descr="Picture2"/>
              <p:cNvPicPr/>
              <p:nvPr/>
            </p:nvPicPr>
            <p:blipFill>
              <a:blip r:embed="rId7"/>
              <a:stretch/>
            </p:blipFill>
            <p:spPr>
              <a:xfrm>
                <a:off x="1976040" y="755640"/>
                <a:ext cx="1207080" cy="5274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01" name="WordArt 15" descr=""/>
            <p:cNvPicPr/>
            <p:nvPr/>
          </p:nvPicPr>
          <p:blipFill>
            <a:blip r:embed="rId8"/>
            <a:stretch/>
          </p:blipFill>
          <p:spPr>
            <a:xfrm>
              <a:off x="2027880" y="1181880"/>
              <a:ext cx="1077840" cy="61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Oval 16"/>
            <p:cNvSpPr/>
            <p:nvPr/>
          </p:nvSpPr>
          <p:spPr>
            <a:xfrm>
              <a:off x="1628640" y="2324880"/>
              <a:ext cx="1876320" cy="279720"/>
            </a:xfrm>
            <a:prstGeom prst="ellipse">
              <a:avLst/>
            </a:prstGeom>
            <a:gradFill rotWithShape="0">
              <a:gsLst>
                <a:gs pos="0">
                  <a:srgbClr val="990000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17"/>
          <p:cNvGrpSpPr/>
          <p:nvPr/>
        </p:nvGrpSpPr>
        <p:grpSpPr>
          <a:xfrm>
            <a:off x="7515360" y="4989600"/>
            <a:ext cx="1875960" cy="1868040"/>
            <a:chOff x="7515360" y="4989600"/>
            <a:chExt cx="1875960" cy="1868040"/>
          </a:xfrm>
        </p:grpSpPr>
        <p:grpSp>
          <p:nvGrpSpPr>
            <p:cNvPr id="204" name="Group 18"/>
            <p:cNvGrpSpPr/>
            <p:nvPr/>
          </p:nvGrpSpPr>
          <p:grpSpPr>
            <a:xfrm>
              <a:off x="7696800" y="4989600"/>
              <a:ext cx="1528920" cy="1491840"/>
              <a:chOff x="7696800" y="4989600"/>
              <a:chExt cx="1528920" cy="1491840"/>
            </a:xfrm>
          </p:grpSpPr>
          <p:grpSp>
            <p:nvGrpSpPr>
              <p:cNvPr id="205" name="Group 19"/>
              <p:cNvGrpSpPr/>
              <p:nvPr/>
            </p:nvGrpSpPr>
            <p:grpSpPr>
              <a:xfrm>
                <a:off x="7696800" y="4989600"/>
                <a:ext cx="1528920" cy="1491840"/>
                <a:chOff x="7696800" y="4989600"/>
                <a:chExt cx="1528920" cy="1491840"/>
              </a:xfrm>
            </p:grpSpPr>
            <p:pic>
              <p:nvPicPr>
                <p:cNvPr id="206" name="Picture 20" descr="circuler_1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7696800" y="4989600"/>
                  <a:ext cx="1528920" cy="1487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7" name="Oval 21"/>
                <p:cNvSpPr/>
                <p:nvPr/>
              </p:nvSpPr>
              <p:spPr>
                <a:xfrm>
                  <a:off x="7696800" y="4989600"/>
                  <a:ext cx="1518480" cy="149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517"/>
                    </a:gs>
                    <a:gs pos="100000">
                      <a:srgbClr val="bc000d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08" name="Picture 22" descr="Picture2"/>
              <p:cNvPicPr/>
              <p:nvPr/>
            </p:nvPicPr>
            <p:blipFill>
              <a:blip r:embed="rId10"/>
              <a:stretch/>
            </p:blipFill>
            <p:spPr>
              <a:xfrm>
                <a:off x="7849440" y="5004000"/>
                <a:ext cx="1207440" cy="5270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09" name="WordArt 23" descr=""/>
            <p:cNvPicPr/>
            <p:nvPr/>
          </p:nvPicPr>
          <p:blipFill>
            <a:blip r:embed="rId11"/>
            <a:stretch/>
          </p:blipFill>
          <p:spPr>
            <a:xfrm>
              <a:off x="7935120" y="5429880"/>
              <a:ext cx="1076400" cy="61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24"/>
            <p:cNvSpPr/>
            <p:nvPr/>
          </p:nvSpPr>
          <p:spPr>
            <a:xfrm>
              <a:off x="7515360" y="6579720"/>
              <a:ext cx="1875960" cy="277920"/>
            </a:xfrm>
            <a:prstGeom prst="ellipse">
              <a:avLst/>
            </a:prstGeom>
            <a:gradFill rotWithShape="0">
              <a:gsLst>
                <a:gs pos="0">
                  <a:srgbClr val="ff0517"/>
                </a:gs>
                <a:gs pos="100000">
                  <a:srgbClr val="ff051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25"/>
          <p:cNvGrpSpPr/>
          <p:nvPr/>
        </p:nvGrpSpPr>
        <p:grpSpPr>
          <a:xfrm>
            <a:off x="1639800" y="2867040"/>
            <a:ext cx="1877760" cy="1868040"/>
            <a:chOff x="1639800" y="2867040"/>
            <a:chExt cx="1877760" cy="1868040"/>
          </a:xfrm>
        </p:grpSpPr>
        <p:grpSp>
          <p:nvGrpSpPr>
            <p:cNvPr id="212" name="Group 26"/>
            <p:cNvGrpSpPr/>
            <p:nvPr/>
          </p:nvGrpSpPr>
          <p:grpSpPr>
            <a:xfrm>
              <a:off x="1796040" y="2867040"/>
              <a:ext cx="1528560" cy="1491840"/>
              <a:chOff x="1796040" y="2867040"/>
              <a:chExt cx="1528560" cy="1491840"/>
            </a:xfrm>
          </p:grpSpPr>
          <p:grpSp>
            <p:nvGrpSpPr>
              <p:cNvPr id="213" name="Group 27"/>
              <p:cNvGrpSpPr/>
              <p:nvPr/>
            </p:nvGrpSpPr>
            <p:grpSpPr>
              <a:xfrm>
                <a:off x="1796040" y="2867040"/>
                <a:ext cx="1528560" cy="1491840"/>
                <a:chOff x="1796040" y="2867040"/>
                <a:chExt cx="1528560" cy="1491840"/>
              </a:xfrm>
            </p:grpSpPr>
            <p:pic>
              <p:nvPicPr>
                <p:cNvPr id="214" name="Picture 28" descr="circuler_1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1796040" y="2867040"/>
                  <a:ext cx="1528560" cy="1487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5" name="Oval 29"/>
                <p:cNvSpPr/>
                <p:nvPr/>
              </p:nvSpPr>
              <p:spPr>
                <a:xfrm>
                  <a:off x="1796040" y="2867040"/>
                  <a:ext cx="1518120" cy="149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517"/>
                    </a:gs>
                    <a:gs pos="100000">
                      <a:srgbClr val="bc000d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16" name="Picture 30" descr="Picture2"/>
              <p:cNvPicPr/>
              <p:nvPr/>
            </p:nvPicPr>
            <p:blipFill>
              <a:blip r:embed="rId13"/>
              <a:stretch/>
            </p:blipFill>
            <p:spPr>
              <a:xfrm>
                <a:off x="1948680" y="2881440"/>
                <a:ext cx="1207080" cy="5270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17" name="WordArt 31" descr=""/>
            <p:cNvPicPr/>
            <p:nvPr/>
          </p:nvPicPr>
          <p:blipFill>
            <a:blip r:embed="rId14"/>
            <a:stretch/>
          </p:blipFill>
          <p:spPr>
            <a:xfrm>
              <a:off x="2072880" y="3307320"/>
              <a:ext cx="1077480" cy="61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Oval 32"/>
            <p:cNvSpPr/>
            <p:nvPr/>
          </p:nvSpPr>
          <p:spPr>
            <a:xfrm>
              <a:off x="1639800" y="4457160"/>
              <a:ext cx="1877760" cy="277920"/>
            </a:xfrm>
            <a:prstGeom prst="ellipse">
              <a:avLst/>
            </a:prstGeom>
            <a:gradFill rotWithShape="0">
              <a:gsLst>
                <a:gs pos="0">
                  <a:srgbClr val="ff0517"/>
                </a:gs>
                <a:gs pos="100000">
                  <a:srgbClr val="ff051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Rectangle 33"/>
          <p:cNvSpPr/>
          <p:nvPr/>
        </p:nvSpPr>
        <p:spPr>
          <a:xfrm>
            <a:off x="4683240" y="1243080"/>
            <a:ext cx="415908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34"/>
          <p:cNvGrpSpPr/>
          <p:nvPr/>
        </p:nvGrpSpPr>
        <p:grpSpPr>
          <a:xfrm>
            <a:off x="7515360" y="2867040"/>
            <a:ext cx="1875960" cy="1868040"/>
            <a:chOff x="7515360" y="2867040"/>
            <a:chExt cx="1875960" cy="1868040"/>
          </a:xfrm>
        </p:grpSpPr>
        <p:grpSp>
          <p:nvGrpSpPr>
            <p:cNvPr id="221" name="Group 35"/>
            <p:cNvGrpSpPr/>
            <p:nvPr/>
          </p:nvGrpSpPr>
          <p:grpSpPr>
            <a:xfrm>
              <a:off x="7671240" y="2867040"/>
              <a:ext cx="1526760" cy="1491840"/>
              <a:chOff x="7671240" y="2867040"/>
              <a:chExt cx="1526760" cy="1491840"/>
            </a:xfrm>
          </p:grpSpPr>
          <p:grpSp>
            <p:nvGrpSpPr>
              <p:cNvPr id="222" name="Group 36"/>
              <p:cNvGrpSpPr/>
              <p:nvPr/>
            </p:nvGrpSpPr>
            <p:grpSpPr>
              <a:xfrm>
                <a:off x="7671240" y="2867040"/>
                <a:ext cx="1526760" cy="1491840"/>
                <a:chOff x="7671240" y="2867040"/>
                <a:chExt cx="1526760" cy="1491840"/>
              </a:xfrm>
            </p:grpSpPr>
            <p:pic>
              <p:nvPicPr>
                <p:cNvPr id="223" name="Picture 37" descr="circuler_1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7671240" y="2867040"/>
                  <a:ext cx="1526760" cy="1487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4" name="Oval 38"/>
                <p:cNvSpPr/>
                <p:nvPr/>
              </p:nvSpPr>
              <p:spPr>
                <a:xfrm>
                  <a:off x="7671240" y="2867040"/>
                  <a:ext cx="1516320" cy="149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517"/>
                    </a:gs>
                    <a:gs pos="100000">
                      <a:srgbClr val="bc000d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25" name="Picture 39" descr="Picture2"/>
              <p:cNvPicPr/>
              <p:nvPr/>
            </p:nvPicPr>
            <p:blipFill>
              <a:blip r:embed="rId16"/>
              <a:stretch/>
            </p:blipFill>
            <p:spPr>
              <a:xfrm>
                <a:off x="7823520" y="2881440"/>
                <a:ext cx="1205640" cy="5270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26" name="WordArt 40" descr=""/>
            <p:cNvPicPr/>
            <p:nvPr/>
          </p:nvPicPr>
          <p:blipFill>
            <a:blip r:embed="rId17"/>
            <a:stretch/>
          </p:blipFill>
          <p:spPr>
            <a:xfrm>
              <a:off x="7948080" y="3307320"/>
              <a:ext cx="1076400" cy="61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Oval 41"/>
            <p:cNvSpPr/>
            <p:nvPr/>
          </p:nvSpPr>
          <p:spPr>
            <a:xfrm>
              <a:off x="7515360" y="4457160"/>
              <a:ext cx="1875960" cy="277920"/>
            </a:xfrm>
            <a:prstGeom prst="ellipse">
              <a:avLst/>
            </a:prstGeom>
            <a:gradFill rotWithShape="0">
              <a:gsLst>
                <a:gs pos="0">
                  <a:srgbClr val="ff0517"/>
                </a:gs>
                <a:gs pos="100000">
                  <a:srgbClr val="ff051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42"/>
          <p:cNvSpPr/>
          <p:nvPr/>
        </p:nvSpPr>
        <p:spPr>
          <a:xfrm>
            <a:off x="2558880" y="2335320"/>
            <a:ext cx="1800" cy="44280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bevel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43"/>
          <p:cNvSpPr/>
          <p:nvPr/>
        </p:nvSpPr>
        <p:spPr>
          <a:xfrm>
            <a:off x="3620520" y="3706920"/>
            <a:ext cx="3717720" cy="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bevel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44"/>
          <p:cNvSpPr/>
          <p:nvPr/>
        </p:nvSpPr>
        <p:spPr>
          <a:xfrm>
            <a:off x="8488440" y="4457880"/>
            <a:ext cx="0" cy="44280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bevel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D1E16-5EBF-4B5C-8882-C30462555B2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233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235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237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"/>
          <p:cNvSpPr/>
          <p:nvPr/>
        </p:nvSpPr>
        <p:spPr>
          <a:xfrm>
            <a:off x="3917880" y="1276200"/>
            <a:ext cx="3184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3"/>
          <p:cNvSpPr/>
          <p:nvPr/>
        </p:nvSpPr>
        <p:spPr>
          <a:xfrm>
            <a:off x="1488960" y="1276200"/>
            <a:ext cx="2384640" cy="517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e20000"/>
              </a:gs>
              <a:gs pos="100000">
                <a:srgbClr val="8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4"/>
          <p:cNvSpPr/>
          <p:nvPr/>
        </p:nvSpPr>
        <p:spPr>
          <a:xfrm>
            <a:off x="649440" y="4218120"/>
            <a:ext cx="9218520" cy="30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461" y="21600"/>
                </a:lnTo>
                <a:lnTo>
                  <a:pt x="21139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5"/>
          <p:cNvSpPr/>
          <p:nvPr/>
        </p:nvSpPr>
        <p:spPr>
          <a:xfrm>
            <a:off x="649440" y="3068640"/>
            <a:ext cx="9218520" cy="30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461" y="21600"/>
                </a:lnTo>
                <a:lnTo>
                  <a:pt x="21139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6"/>
          <p:cNvSpPr/>
          <p:nvPr/>
        </p:nvSpPr>
        <p:spPr>
          <a:xfrm>
            <a:off x="649440" y="1930320"/>
            <a:ext cx="9218520" cy="308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461" y="21600"/>
                </a:lnTo>
                <a:lnTo>
                  <a:pt x="21139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7"/>
          <p:cNvSpPr/>
          <p:nvPr/>
        </p:nvSpPr>
        <p:spPr>
          <a:xfrm>
            <a:off x="649440" y="5411880"/>
            <a:ext cx="9218520" cy="30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461" y="21600"/>
                </a:lnTo>
                <a:lnTo>
                  <a:pt x="21139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8"/>
          <p:cNvSpPr/>
          <p:nvPr/>
        </p:nvSpPr>
        <p:spPr>
          <a:xfrm>
            <a:off x="649440" y="6551640"/>
            <a:ext cx="9218520" cy="30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461" y="21600"/>
                </a:lnTo>
                <a:lnTo>
                  <a:pt x="21139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9"/>
          <p:cNvSpPr/>
          <p:nvPr/>
        </p:nvSpPr>
        <p:spPr>
          <a:xfrm>
            <a:off x="6595920" y="2365200"/>
            <a:ext cx="31863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0"/>
          <p:cNvSpPr/>
          <p:nvPr/>
        </p:nvSpPr>
        <p:spPr>
          <a:xfrm>
            <a:off x="4168800" y="2365200"/>
            <a:ext cx="2382840" cy="517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1"/>
          <p:cNvSpPr/>
          <p:nvPr/>
        </p:nvSpPr>
        <p:spPr>
          <a:xfrm>
            <a:off x="5091120" y="3538440"/>
            <a:ext cx="31845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12"/>
          <p:cNvSpPr/>
          <p:nvPr/>
        </p:nvSpPr>
        <p:spPr>
          <a:xfrm>
            <a:off x="2664000" y="3538440"/>
            <a:ext cx="2382840" cy="517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e20000"/>
              </a:gs>
              <a:gs pos="100000">
                <a:srgbClr val="8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3"/>
          <p:cNvSpPr/>
          <p:nvPr/>
        </p:nvSpPr>
        <p:spPr>
          <a:xfrm>
            <a:off x="6595920" y="5884920"/>
            <a:ext cx="31863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14"/>
          <p:cNvSpPr/>
          <p:nvPr/>
        </p:nvSpPr>
        <p:spPr>
          <a:xfrm>
            <a:off x="4168800" y="5884920"/>
            <a:ext cx="2382840" cy="5173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e20000"/>
              </a:gs>
              <a:gs pos="100000">
                <a:srgbClr val="8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5"/>
          <p:cNvSpPr/>
          <p:nvPr/>
        </p:nvSpPr>
        <p:spPr>
          <a:xfrm>
            <a:off x="3162240" y="4699080"/>
            <a:ext cx="31845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16"/>
          <p:cNvSpPr/>
          <p:nvPr/>
        </p:nvSpPr>
        <p:spPr>
          <a:xfrm>
            <a:off x="733320" y="4699080"/>
            <a:ext cx="2384640" cy="5173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cc0000"/>
              </a:gs>
              <a:gs pos="100000">
                <a:srgbClr val="8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A7AE6-5498-4FEF-99EC-75B72FD943D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257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258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260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15"/>
          <p:cNvSpPr/>
          <p:nvPr/>
        </p:nvSpPr>
        <p:spPr>
          <a:xfrm>
            <a:off x="6084720" y="4151160"/>
            <a:ext cx="1190880" cy="1177920"/>
          </a:xfrm>
          <a:custGeom>
            <a:avLst/>
            <a:gdLst/>
            <a:ahLst/>
            <a:rect l="l" t="t" r="r" b="b"/>
            <a:pathLst>
              <a:path w="95" h="94">
                <a:moveTo>
                  <a:pt x="54" y="94"/>
                </a:moveTo>
                <a:cubicBezTo>
                  <a:pt x="56" y="81"/>
                  <a:pt x="56" y="81"/>
                  <a:pt x="56" y="81"/>
                </a:cubicBezTo>
                <a:cubicBezTo>
                  <a:pt x="66" y="78"/>
                  <a:pt x="66" y="78"/>
                  <a:pt x="66" y="78"/>
                </a:cubicBezTo>
                <a:cubicBezTo>
                  <a:pt x="76" y="85"/>
                  <a:pt x="76" y="85"/>
                  <a:pt x="76" y="85"/>
                </a:cubicBezTo>
                <a:cubicBezTo>
                  <a:pt x="86" y="75"/>
                  <a:pt x="86" y="75"/>
                  <a:pt x="86" y="75"/>
                </a:cubicBezTo>
                <a:cubicBezTo>
                  <a:pt x="78" y="65"/>
                  <a:pt x="78" y="65"/>
                  <a:pt x="78" y="65"/>
                </a:cubicBezTo>
                <a:cubicBezTo>
                  <a:pt x="82" y="56"/>
                  <a:pt x="82" y="56"/>
                  <a:pt x="82" y="56"/>
                </a:cubicBezTo>
                <a:cubicBezTo>
                  <a:pt x="95" y="54"/>
                  <a:pt x="95" y="54"/>
                  <a:pt x="95" y="54"/>
                </a:cubicBezTo>
                <a:cubicBezTo>
                  <a:pt x="95" y="40"/>
                  <a:pt x="95" y="40"/>
                  <a:pt x="95" y="40"/>
                </a:cubicBezTo>
                <a:cubicBezTo>
                  <a:pt x="82" y="38"/>
                  <a:pt x="82" y="38"/>
                  <a:pt x="82" y="38"/>
                </a:cubicBezTo>
                <a:cubicBezTo>
                  <a:pt x="82" y="37"/>
                  <a:pt x="82" y="37"/>
                  <a:pt x="82" y="37"/>
                </a:cubicBezTo>
                <a:cubicBezTo>
                  <a:pt x="82" y="37"/>
                  <a:pt x="82" y="37"/>
                  <a:pt x="82" y="37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1"/>
                  <a:pt x="80" y="31"/>
                  <a:pt x="80" y="31"/>
                </a:cubicBezTo>
                <a:cubicBezTo>
                  <a:pt x="80" y="31"/>
                  <a:pt x="80" y="31"/>
                  <a:pt x="80" y="31"/>
                </a:cubicBezTo>
                <a:cubicBezTo>
                  <a:pt x="78" y="29"/>
                  <a:pt x="78" y="29"/>
                  <a:pt x="78" y="29"/>
                </a:cubicBezTo>
                <a:cubicBezTo>
                  <a:pt x="86" y="18"/>
                  <a:pt x="86" y="18"/>
                  <a:pt x="86" y="18"/>
                </a:cubicBezTo>
                <a:cubicBezTo>
                  <a:pt x="76" y="9"/>
                  <a:pt x="76" y="9"/>
                  <a:pt x="76" y="9"/>
                </a:cubicBezTo>
                <a:cubicBezTo>
                  <a:pt x="66" y="16"/>
                  <a:pt x="66" y="16"/>
                  <a:pt x="66" y="16"/>
                </a:cubicBezTo>
                <a:cubicBezTo>
                  <a:pt x="56" y="12"/>
                  <a:pt x="56" y="12"/>
                  <a:pt x="56" y="12"/>
                </a:cubicBezTo>
                <a:cubicBezTo>
                  <a:pt x="54" y="0"/>
                  <a:pt x="54" y="0"/>
                  <a:pt x="54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38" y="12"/>
                  <a:pt x="38" y="12"/>
                  <a:pt x="38" y="12"/>
                </a:cubicBezTo>
                <a:cubicBezTo>
                  <a:pt x="29" y="16"/>
                  <a:pt x="29" y="16"/>
                  <a:pt x="29" y="16"/>
                </a:cubicBezTo>
                <a:cubicBezTo>
                  <a:pt x="19" y="9"/>
                  <a:pt x="19" y="9"/>
                  <a:pt x="19" y="9"/>
                </a:cubicBezTo>
                <a:cubicBezTo>
                  <a:pt x="9" y="18"/>
                  <a:pt x="9" y="18"/>
                  <a:pt x="9" y="18"/>
                </a:cubicBezTo>
                <a:cubicBezTo>
                  <a:pt x="17" y="29"/>
                  <a:pt x="17" y="29"/>
                  <a:pt x="17" y="29"/>
                </a:cubicBezTo>
                <a:cubicBezTo>
                  <a:pt x="13" y="38"/>
                  <a:pt x="13" y="38"/>
                  <a:pt x="13" y="38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54"/>
                  <a:pt x="0" y="54"/>
                  <a:pt x="0" y="54"/>
                </a:cubicBezTo>
                <a:cubicBezTo>
                  <a:pt x="13" y="56"/>
                  <a:pt x="13" y="56"/>
                  <a:pt x="13" y="56"/>
                </a:cubicBezTo>
                <a:cubicBezTo>
                  <a:pt x="16" y="65"/>
                  <a:pt x="16" y="65"/>
                  <a:pt x="16" y="65"/>
                </a:cubicBezTo>
                <a:cubicBezTo>
                  <a:pt x="9" y="75"/>
                  <a:pt x="9" y="75"/>
                  <a:pt x="9" y="75"/>
                </a:cubicBezTo>
                <a:cubicBezTo>
                  <a:pt x="19" y="85"/>
                  <a:pt x="19" y="85"/>
                  <a:pt x="19" y="85"/>
                </a:cubicBezTo>
                <a:cubicBezTo>
                  <a:pt x="29" y="78"/>
                  <a:pt x="29" y="78"/>
                  <a:pt x="29" y="78"/>
                </a:cubicBezTo>
                <a:cubicBezTo>
                  <a:pt x="38" y="82"/>
                  <a:pt x="38" y="82"/>
                  <a:pt x="38" y="82"/>
                </a:cubicBezTo>
                <a:cubicBezTo>
                  <a:pt x="41" y="94"/>
                  <a:pt x="41" y="94"/>
                  <a:pt x="41" y="94"/>
                </a:cubicBezTo>
                <a:cubicBezTo>
                  <a:pt x="54" y="94"/>
                  <a:pt x="54" y="94"/>
                  <a:pt x="54" y="94"/>
                </a:cubicBezTo>
                <a:close/>
                <a:moveTo>
                  <a:pt x="72" y="43"/>
                </a:moveTo>
                <a:cubicBezTo>
                  <a:pt x="74" y="57"/>
                  <a:pt x="65" y="70"/>
                  <a:pt x="51" y="72"/>
                </a:cubicBezTo>
                <a:cubicBezTo>
                  <a:pt x="37" y="74"/>
                  <a:pt x="24" y="64"/>
                  <a:pt x="22" y="50"/>
                </a:cubicBezTo>
                <a:cubicBezTo>
                  <a:pt x="21" y="36"/>
                  <a:pt x="30" y="24"/>
                  <a:pt x="44" y="22"/>
                </a:cubicBezTo>
                <a:cubicBezTo>
                  <a:pt x="48" y="21"/>
                  <a:pt x="52" y="22"/>
                  <a:pt x="56" y="23"/>
                </a:cubicBezTo>
                <a:cubicBezTo>
                  <a:pt x="56" y="23"/>
                  <a:pt x="56" y="23"/>
                  <a:pt x="56" y="23"/>
                </a:cubicBezTo>
                <a:cubicBezTo>
                  <a:pt x="59" y="24"/>
                  <a:pt x="63" y="26"/>
                  <a:pt x="65" y="29"/>
                </a:cubicBezTo>
                <a:cubicBezTo>
                  <a:pt x="67" y="30"/>
                  <a:pt x="68" y="32"/>
                  <a:pt x="69" y="34"/>
                </a:cubicBezTo>
                <a:cubicBezTo>
                  <a:pt x="71" y="37"/>
                  <a:pt x="72" y="40"/>
                  <a:pt x="72" y="43"/>
                </a:cubicBezTo>
                <a:close/>
              </a:path>
            </a:pathLst>
          </a:cu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16"/>
          <p:cNvSpPr/>
          <p:nvPr/>
        </p:nvSpPr>
        <p:spPr>
          <a:xfrm>
            <a:off x="6485040" y="4502160"/>
            <a:ext cx="388800" cy="439560"/>
          </a:xfrm>
          <a:custGeom>
            <a:avLst/>
            <a:gdLst/>
            <a:ahLst/>
            <a:rect l="l" t="t" r="r" b="b"/>
            <a:pathLst>
              <a:path w="31" h="35">
                <a:moveTo>
                  <a:pt x="15" y="0"/>
                </a:moveTo>
                <a:cubicBezTo>
                  <a:pt x="20" y="0"/>
                  <a:pt x="24" y="4"/>
                  <a:pt x="24" y="8"/>
                </a:cubicBezTo>
                <a:cubicBezTo>
                  <a:pt x="24" y="13"/>
                  <a:pt x="20" y="17"/>
                  <a:pt x="15" y="17"/>
                </a:cubicBezTo>
                <a:cubicBezTo>
                  <a:pt x="11" y="17"/>
                  <a:pt x="7" y="13"/>
                  <a:pt x="7" y="8"/>
                </a:cubicBezTo>
                <a:cubicBezTo>
                  <a:pt x="7" y="4"/>
                  <a:pt x="11" y="0"/>
                  <a:pt x="15" y="0"/>
                </a:cubicBezTo>
                <a:close/>
                <a:moveTo>
                  <a:pt x="6" y="19"/>
                </a:moveTo>
                <a:cubicBezTo>
                  <a:pt x="10" y="19"/>
                  <a:pt x="10" y="19"/>
                  <a:pt x="10" y="19"/>
                </a:cubicBezTo>
                <a:cubicBezTo>
                  <a:pt x="14" y="24"/>
                  <a:pt x="14" y="24"/>
                  <a:pt x="14" y="24"/>
                </a:cubicBezTo>
                <a:cubicBezTo>
                  <a:pt x="15" y="26"/>
                  <a:pt x="16" y="26"/>
                  <a:pt x="17" y="24"/>
                </a:cubicBezTo>
                <a:cubicBezTo>
                  <a:pt x="21" y="19"/>
                  <a:pt x="21" y="19"/>
                  <a:pt x="21" y="19"/>
                </a:cubicBezTo>
                <a:cubicBezTo>
                  <a:pt x="24" y="19"/>
                  <a:pt x="24" y="19"/>
                  <a:pt x="24" y="19"/>
                </a:cubicBezTo>
                <a:cubicBezTo>
                  <a:pt x="28" y="19"/>
                  <a:pt x="31" y="21"/>
                  <a:pt x="31" y="25"/>
                </a:cubicBezTo>
                <a:cubicBezTo>
                  <a:pt x="31" y="35"/>
                  <a:pt x="31" y="35"/>
                  <a:pt x="31" y="35"/>
                </a:cubicBezTo>
                <a:cubicBezTo>
                  <a:pt x="26" y="35"/>
                  <a:pt x="5" y="35"/>
                  <a:pt x="0" y="3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21"/>
                  <a:pt x="3" y="19"/>
                  <a:pt x="6" y="19"/>
                </a:cubicBezTo>
                <a:close/>
              </a:path>
            </a:pathLst>
          </a:custGeom>
          <a:solidFill>
            <a:srgbClr val="ecdc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17"/>
          <p:cNvSpPr/>
          <p:nvPr/>
        </p:nvSpPr>
        <p:spPr>
          <a:xfrm>
            <a:off x="6084720" y="1467000"/>
            <a:ext cx="1177920" cy="1193760"/>
          </a:xfrm>
          <a:custGeom>
            <a:avLst/>
            <a:gdLst/>
            <a:ahLst/>
            <a:rect l="l" t="t" r="r" b="b"/>
            <a:pathLst>
              <a:path w="94" h="95">
                <a:moveTo>
                  <a:pt x="54" y="95"/>
                </a:moveTo>
                <a:cubicBezTo>
                  <a:pt x="56" y="82"/>
                  <a:pt x="56" y="82"/>
                  <a:pt x="56" y="82"/>
                </a:cubicBezTo>
                <a:cubicBezTo>
                  <a:pt x="65" y="78"/>
                  <a:pt x="65" y="78"/>
                  <a:pt x="65" y="78"/>
                </a:cubicBezTo>
                <a:cubicBezTo>
                  <a:pt x="75" y="86"/>
                  <a:pt x="75" y="86"/>
                  <a:pt x="75" y="86"/>
                </a:cubicBezTo>
                <a:cubicBezTo>
                  <a:pt x="85" y="76"/>
                  <a:pt x="85" y="76"/>
                  <a:pt x="85" y="76"/>
                </a:cubicBezTo>
                <a:cubicBezTo>
                  <a:pt x="78" y="66"/>
                  <a:pt x="78" y="66"/>
                  <a:pt x="78" y="66"/>
                </a:cubicBezTo>
                <a:cubicBezTo>
                  <a:pt x="82" y="56"/>
                  <a:pt x="82" y="56"/>
                  <a:pt x="82" y="56"/>
                </a:cubicBezTo>
                <a:cubicBezTo>
                  <a:pt x="94" y="54"/>
                  <a:pt x="94" y="54"/>
                  <a:pt x="94" y="54"/>
                </a:cubicBezTo>
                <a:cubicBezTo>
                  <a:pt x="94" y="41"/>
                  <a:pt x="94" y="41"/>
                  <a:pt x="94" y="41"/>
                </a:cubicBezTo>
                <a:cubicBezTo>
                  <a:pt x="82" y="38"/>
                  <a:pt x="82" y="38"/>
                  <a:pt x="82" y="38"/>
                </a:cubicBezTo>
                <a:cubicBezTo>
                  <a:pt x="81" y="37"/>
                  <a:pt x="81" y="37"/>
                  <a:pt x="81" y="37"/>
                </a:cubicBezTo>
                <a:cubicBezTo>
                  <a:pt x="81" y="37"/>
                  <a:pt x="81" y="37"/>
                  <a:pt x="81" y="37"/>
                </a:cubicBezTo>
                <a:cubicBezTo>
                  <a:pt x="80" y="34"/>
                  <a:pt x="80" y="34"/>
                  <a:pt x="80" y="34"/>
                </a:cubicBezTo>
                <a:cubicBezTo>
                  <a:pt x="79" y="32"/>
                  <a:pt x="79" y="32"/>
                  <a:pt x="79" y="32"/>
                </a:cubicBezTo>
                <a:cubicBezTo>
                  <a:pt x="79" y="32"/>
                  <a:pt x="79" y="32"/>
                  <a:pt x="79" y="32"/>
                </a:cubicBezTo>
                <a:cubicBezTo>
                  <a:pt x="78" y="29"/>
                  <a:pt x="78" y="29"/>
                  <a:pt x="78" y="29"/>
                </a:cubicBezTo>
                <a:cubicBezTo>
                  <a:pt x="85" y="19"/>
                  <a:pt x="85" y="19"/>
                  <a:pt x="85" y="19"/>
                </a:cubicBezTo>
                <a:cubicBezTo>
                  <a:pt x="75" y="9"/>
                  <a:pt x="75" y="9"/>
                  <a:pt x="75" y="9"/>
                </a:cubicBezTo>
                <a:cubicBezTo>
                  <a:pt x="65" y="16"/>
                  <a:pt x="65" y="16"/>
                  <a:pt x="65" y="16"/>
                </a:cubicBezTo>
                <a:cubicBezTo>
                  <a:pt x="56" y="13"/>
                  <a:pt x="56" y="13"/>
                  <a:pt x="56" y="13"/>
                </a:cubicBezTo>
                <a:cubicBezTo>
                  <a:pt x="54" y="0"/>
                  <a:pt x="54" y="0"/>
                  <a:pt x="54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38" y="13"/>
                  <a:pt x="38" y="13"/>
                  <a:pt x="38" y="13"/>
                </a:cubicBezTo>
                <a:cubicBezTo>
                  <a:pt x="29" y="16"/>
                  <a:pt x="29" y="16"/>
                  <a:pt x="29" y="16"/>
                </a:cubicBezTo>
                <a:cubicBezTo>
                  <a:pt x="18" y="9"/>
                  <a:pt x="18" y="9"/>
                  <a:pt x="18" y="9"/>
                </a:cubicBezTo>
                <a:cubicBezTo>
                  <a:pt x="9" y="19"/>
                  <a:pt x="9" y="19"/>
                  <a:pt x="9" y="19"/>
                </a:cubicBezTo>
                <a:cubicBezTo>
                  <a:pt x="16" y="29"/>
                  <a:pt x="16" y="29"/>
                  <a:pt x="16" y="29"/>
                </a:cubicBezTo>
                <a:cubicBezTo>
                  <a:pt x="12" y="38"/>
                  <a:pt x="12" y="38"/>
                  <a:pt x="12" y="38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54"/>
                  <a:pt x="0" y="54"/>
                  <a:pt x="0" y="54"/>
                </a:cubicBezTo>
                <a:cubicBezTo>
                  <a:pt x="12" y="56"/>
                  <a:pt x="12" y="56"/>
                  <a:pt x="12" y="56"/>
                </a:cubicBezTo>
                <a:cubicBezTo>
                  <a:pt x="16" y="66"/>
                  <a:pt x="16" y="66"/>
                  <a:pt x="16" y="66"/>
                </a:cubicBezTo>
                <a:cubicBezTo>
                  <a:pt x="9" y="76"/>
                  <a:pt x="9" y="76"/>
                  <a:pt x="9" y="76"/>
                </a:cubicBezTo>
                <a:cubicBezTo>
                  <a:pt x="18" y="86"/>
                  <a:pt x="18" y="86"/>
                  <a:pt x="18" y="86"/>
                </a:cubicBezTo>
                <a:cubicBezTo>
                  <a:pt x="29" y="78"/>
                  <a:pt x="29" y="78"/>
                  <a:pt x="29" y="78"/>
                </a:cubicBezTo>
                <a:cubicBezTo>
                  <a:pt x="38" y="82"/>
                  <a:pt x="38" y="82"/>
                  <a:pt x="38" y="82"/>
                </a:cubicBezTo>
                <a:cubicBezTo>
                  <a:pt x="40" y="95"/>
                  <a:pt x="40" y="95"/>
                  <a:pt x="40" y="95"/>
                </a:cubicBezTo>
                <a:cubicBezTo>
                  <a:pt x="54" y="95"/>
                  <a:pt x="54" y="95"/>
                  <a:pt x="54" y="95"/>
                </a:cubicBezTo>
                <a:close/>
                <a:moveTo>
                  <a:pt x="72" y="44"/>
                </a:moveTo>
                <a:cubicBezTo>
                  <a:pt x="74" y="58"/>
                  <a:pt x="64" y="71"/>
                  <a:pt x="50" y="72"/>
                </a:cubicBezTo>
                <a:cubicBezTo>
                  <a:pt x="37" y="74"/>
                  <a:pt x="24" y="65"/>
                  <a:pt x="22" y="51"/>
                </a:cubicBezTo>
                <a:cubicBezTo>
                  <a:pt x="20" y="37"/>
                  <a:pt x="30" y="24"/>
                  <a:pt x="44" y="22"/>
                </a:cubicBezTo>
                <a:cubicBezTo>
                  <a:pt x="48" y="22"/>
                  <a:pt x="52" y="22"/>
                  <a:pt x="55" y="24"/>
                </a:cubicBezTo>
                <a:cubicBezTo>
                  <a:pt x="55" y="24"/>
                  <a:pt x="55" y="24"/>
                  <a:pt x="55" y="24"/>
                </a:cubicBezTo>
                <a:cubicBezTo>
                  <a:pt x="59" y="25"/>
                  <a:pt x="62" y="27"/>
                  <a:pt x="65" y="30"/>
                </a:cubicBezTo>
                <a:cubicBezTo>
                  <a:pt x="66" y="31"/>
                  <a:pt x="68" y="33"/>
                  <a:pt x="69" y="35"/>
                </a:cubicBezTo>
                <a:cubicBezTo>
                  <a:pt x="70" y="38"/>
                  <a:pt x="72" y="41"/>
                  <a:pt x="72" y="44"/>
                </a:cubicBezTo>
                <a:close/>
              </a:path>
            </a:pathLst>
          </a:custGeom>
          <a:solidFill>
            <a:srgbClr val="a66c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18"/>
          <p:cNvSpPr/>
          <p:nvPr/>
        </p:nvSpPr>
        <p:spPr>
          <a:xfrm>
            <a:off x="6485040" y="1832040"/>
            <a:ext cx="376200" cy="436320"/>
          </a:xfrm>
          <a:custGeom>
            <a:avLst/>
            <a:gdLst/>
            <a:ahLst/>
            <a:rect l="l" t="t" r="r" b="b"/>
            <a:pathLst>
              <a:path w="30" h="35">
                <a:moveTo>
                  <a:pt x="15" y="0"/>
                </a:moveTo>
                <a:cubicBezTo>
                  <a:pt x="20" y="0"/>
                  <a:pt x="23" y="3"/>
                  <a:pt x="23" y="8"/>
                </a:cubicBezTo>
                <a:cubicBezTo>
                  <a:pt x="23" y="13"/>
                  <a:pt x="20" y="16"/>
                  <a:pt x="15" y="16"/>
                </a:cubicBezTo>
                <a:cubicBezTo>
                  <a:pt x="10" y="16"/>
                  <a:pt x="7" y="13"/>
                  <a:pt x="7" y="8"/>
                </a:cubicBezTo>
                <a:cubicBezTo>
                  <a:pt x="7" y="3"/>
                  <a:pt x="10" y="0"/>
                  <a:pt x="15" y="0"/>
                </a:cubicBezTo>
                <a:close/>
                <a:moveTo>
                  <a:pt x="6" y="18"/>
                </a:moveTo>
                <a:cubicBezTo>
                  <a:pt x="10" y="18"/>
                  <a:pt x="10" y="18"/>
                  <a:pt x="10" y="18"/>
                </a:cubicBezTo>
                <a:cubicBezTo>
                  <a:pt x="13" y="24"/>
                  <a:pt x="13" y="24"/>
                  <a:pt x="13" y="24"/>
                </a:cubicBezTo>
                <a:cubicBezTo>
                  <a:pt x="14" y="26"/>
                  <a:pt x="16" y="26"/>
                  <a:pt x="17" y="24"/>
                </a:cubicBezTo>
                <a:cubicBezTo>
                  <a:pt x="20" y="18"/>
                  <a:pt x="20" y="18"/>
                  <a:pt x="20" y="18"/>
                </a:cubicBezTo>
                <a:cubicBezTo>
                  <a:pt x="24" y="18"/>
                  <a:pt x="24" y="18"/>
                  <a:pt x="24" y="18"/>
                </a:cubicBezTo>
                <a:cubicBezTo>
                  <a:pt x="27" y="18"/>
                  <a:pt x="30" y="21"/>
                  <a:pt x="30" y="25"/>
                </a:cubicBezTo>
                <a:cubicBezTo>
                  <a:pt x="30" y="35"/>
                  <a:pt x="30" y="35"/>
                  <a:pt x="30" y="35"/>
                </a:cubicBezTo>
                <a:cubicBezTo>
                  <a:pt x="25" y="35"/>
                  <a:pt x="5" y="35"/>
                  <a:pt x="0" y="3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21"/>
                  <a:pt x="3" y="18"/>
                  <a:pt x="6" y="18"/>
                </a:cubicBezTo>
                <a:close/>
              </a:path>
            </a:pathLst>
          </a:custGeom>
          <a:solidFill>
            <a:srgbClr val="dac3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19"/>
          <p:cNvSpPr/>
          <p:nvPr/>
        </p:nvSpPr>
        <p:spPr>
          <a:xfrm>
            <a:off x="4849920" y="2419200"/>
            <a:ext cx="1954080" cy="1957680"/>
          </a:xfrm>
          <a:custGeom>
            <a:avLst/>
            <a:gdLst/>
            <a:ahLst/>
            <a:rect l="l" t="t" r="r" b="b"/>
            <a:pathLst>
              <a:path w="156" h="156">
                <a:moveTo>
                  <a:pt x="89" y="156"/>
                </a:moveTo>
                <a:cubicBezTo>
                  <a:pt x="93" y="135"/>
                  <a:pt x="93" y="135"/>
                  <a:pt x="93" y="135"/>
                </a:cubicBezTo>
                <a:cubicBezTo>
                  <a:pt x="108" y="129"/>
                  <a:pt x="108" y="129"/>
                  <a:pt x="108" y="129"/>
                </a:cubicBezTo>
                <a:cubicBezTo>
                  <a:pt x="125" y="141"/>
                  <a:pt x="125" y="141"/>
                  <a:pt x="125" y="141"/>
                </a:cubicBezTo>
                <a:cubicBezTo>
                  <a:pt x="141" y="125"/>
                  <a:pt x="141" y="125"/>
                  <a:pt x="141" y="125"/>
                </a:cubicBezTo>
                <a:cubicBezTo>
                  <a:pt x="129" y="108"/>
                  <a:pt x="129" y="108"/>
                  <a:pt x="129" y="108"/>
                </a:cubicBezTo>
                <a:cubicBezTo>
                  <a:pt x="135" y="93"/>
                  <a:pt x="135" y="93"/>
                  <a:pt x="135" y="93"/>
                </a:cubicBezTo>
                <a:cubicBezTo>
                  <a:pt x="156" y="89"/>
                  <a:pt x="156" y="89"/>
                  <a:pt x="156" y="89"/>
                </a:cubicBezTo>
                <a:cubicBezTo>
                  <a:pt x="156" y="67"/>
                  <a:pt x="156" y="67"/>
                  <a:pt x="156" y="67"/>
                </a:cubicBezTo>
                <a:cubicBezTo>
                  <a:pt x="135" y="63"/>
                  <a:pt x="135" y="63"/>
                  <a:pt x="135" y="63"/>
                </a:cubicBezTo>
                <a:cubicBezTo>
                  <a:pt x="135" y="62"/>
                  <a:pt x="135" y="62"/>
                  <a:pt x="135" y="62"/>
                </a:cubicBezTo>
                <a:cubicBezTo>
                  <a:pt x="135" y="62"/>
                  <a:pt x="135" y="62"/>
                  <a:pt x="135" y="62"/>
                </a:cubicBezTo>
                <a:cubicBezTo>
                  <a:pt x="132" y="56"/>
                  <a:pt x="132" y="56"/>
                  <a:pt x="132" y="56"/>
                </a:cubicBezTo>
                <a:cubicBezTo>
                  <a:pt x="131" y="53"/>
                  <a:pt x="131" y="53"/>
                  <a:pt x="131" y="53"/>
                </a:cubicBezTo>
                <a:cubicBezTo>
                  <a:pt x="131" y="53"/>
                  <a:pt x="131" y="53"/>
                  <a:pt x="131" y="53"/>
                </a:cubicBezTo>
                <a:cubicBezTo>
                  <a:pt x="129" y="48"/>
                  <a:pt x="129" y="48"/>
                  <a:pt x="129" y="48"/>
                </a:cubicBezTo>
                <a:cubicBezTo>
                  <a:pt x="141" y="31"/>
                  <a:pt x="141" y="31"/>
                  <a:pt x="141" y="31"/>
                </a:cubicBezTo>
                <a:cubicBezTo>
                  <a:pt x="125" y="15"/>
                  <a:pt x="125" y="15"/>
                  <a:pt x="125" y="15"/>
                </a:cubicBezTo>
                <a:cubicBezTo>
                  <a:pt x="108" y="27"/>
                  <a:pt x="108" y="27"/>
                  <a:pt x="108" y="27"/>
                </a:cubicBezTo>
                <a:cubicBezTo>
                  <a:pt x="93" y="21"/>
                  <a:pt x="93" y="21"/>
                  <a:pt x="93" y="21"/>
                </a:cubicBezTo>
                <a:cubicBezTo>
                  <a:pt x="89" y="0"/>
                  <a:pt x="89" y="0"/>
                  <a:pt x="89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63" y="21"/>
                  <a:pt x="63" y="21"/>
                  <a:pt x="63" y="21"/>
                </a:cubicBezTo>
                <a:cubicBezTo>
                  <a:pt x="48" y="27"/>
                  <a:pt x="48" y="27"/>
                  <a:pt x="48" y="27"/>
                </a:cubicBezTo>
                <a:cubicBezTo>
                  <a:pt x="31" y="15"/>
                  <a:pt x="31" y="15"/>
                  <a:pt x="31" y="15"/>
                </a:cubicBezTo>
                <a:cubicBezTo>
                  <a:pt x="15" y="31"/>
                  <a:pt x="15" y="31"/>
                  <a:pt x="15" y="31"/>
                </a:cubicBezTo>
                <a:cubicBezTo>
                  <a:pt x="27" y="48"/>
                  <a:pt x="27" y="48"/>
                  <a:pt x="27" y="48"/>
                </a:cubicBezTo>
                <a:cubicBezTo>
                  <a:pt x="21" y="63"/>
                  <a:pt x="21" y="63"/>
                  <a:pt x="21" y="63"/>
                </a:cubicBezTo>
                <a:cubicBezTo>
                  <a:pt x="0" y="67"/>
                  <a:pt x="0" y="67"/>
                  <a:pt x="0" y="67"/>
                </a:cubicBezTo>
                <a:cubicBezTo>
                  <a:pt x="0" y="89"/>
                  <a:pt x="0" y="89"/>
                  <a:pt x="0" y="89"/>
                </a:cubicBezTo>
                <a:cubicBezTo>
                  <a:pt x="21" y="93"/>
                  <a:pt x="21" y="93"/>
                  <a:pt x="21" y="93"/>
                </a:cubicBezTo>
                <a:cubicBezTo>
                  <a:pt x="27" y="108"/>
                  <a:pt x="27" y="108"/>
                  <a:pt x="27" y="108"/>
                </a:cubicBezTo>
                <a:cubicBezTo>
                  <a:pt x="15" y="125"/>
                  <a:pt x="15" y="125"/>
                  <a:pt x="15" y="125"/>
                </a:cubicBezTo>
                <a:cubicBezTo>
                  <a:pt x="31" y="141"/>
                  <a:pt x="31" y="141"/>
                  <a:pt x="31" y="141"/>
                </a:cubicBezTo>
                <a:cubicBezTo>
                  <a:pt x="48" y="129"/>
                  <a:pt x="48" y="129"/>
                  <a:pt x="48" y="129"/>
                </a:cubicBezTo>
                <a:cubicBezTo>
                  <a:pt x="63" y="135"/>
                  <a:pt x="63" y="135"/>
                  <a:pt x="63" y="135"/>
                </a:cubicBezTo>
                <a:cubicBezTo>
                  <a:pt x="67" y="156"/>
                  <a:pt x="67" y="156"/>
                  <a:pt x="67" y="156"/>
                </a:cubicBezTo>
                <a:cubicBezTo>
                  <a:pt x="89" y="156"/>
                  <a:pt x="89" y="156"/>
                  <a:pt x="89" y="156"/>
                </a:cubicBezTo>
                <a:close/>
                <a:moveTo>
                  <a:pt x="119" y="72"/>
                </a:moveTo>
                <a:cubicBezTo>
                  <a:pt x="122" y="95"/>
                  <a:pt x="106" y="116"/>
                  <a:pt x="84" y="119"/>
                </a:cubicBezTo>
                <a:cubicBezTo>
                  <a:pt x="61" y="122"/>
                  <a:pt x="40" y="106"/>
                  <a:pt x="37" y="84"/>
                </a:cubicBezTo>
                <a:cubicBezTo>
                  <a:pt x="34" y="61"/>
                  <a:pt x="50" y="40"/>
                  <a:pt x="72" y="37"/>
                </a:cubicBezTo>
                <a:cubicBezTo>
                  <a:pt x="79" y="36"/>
                  <a:pt x="86" y="37"/>
                  <a:pt x="92" y="39"/>
                </a:cubicBezTo>
                <a:cubicBezTo>
                  <a:pt x="92" y="39"/>
                  <a:pt x="92" y="39"/>
                  <a:pt x="92" y="39"/>
                </a:cubicBezTo>
                <a:cubicBezTo>
                  <a:pt x="98" y="41"/>
                  <a:pt x="103" y="44"/>
                  <a:pt x="107" y="49"/>
                </a:cubicBezTo>
                <a:cubicBezTo>
                  <a:pt x="110" y="51"/>
                  <a:pt x="112" y="54"/>
                  <a:pt x="114" y="57"/>
                </a:cubicBezTo>
                <a:cubicBezTo>
                  <a:pt x="117" y="62"/>
                  <a:pt x="119" y="67"/>
                  <a:pt x="119" y="72"/>
                </a:cubicBezTo>
                <a:close/>
              </a:path>
            </a:pathLst>
          </a:custGeom>
          <a:solidFill>
            <a:srgbClr val="c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20"/>
          <p:cNvSpPr/>
          <p:nvPr/>
        </p:nvSpPr>
        <p:spPr>
          <a:xfrm>
            <a:off x="5513400" y="3009960"/>
            <a:ext cx="627120" cy="726840"/>
          </a:xfrm>
          <a:custGeom>
            <a:avLst/>
            <a:gdLst/>
            <a:ahLst/>
            <a:rect l="l" t="t" r="r" b="b"/>
            <a:pathLst>
              <a:path w="50" h="58">
                <a:moveTo>
                  <a:pt x="25" y="0"/>
                </a:moveTo>
                <a:cubicBezTo>
                  <a:pt x="33" y="0"/>
                  <a:pt x="39" y="6"/>
                  <a:pt x="39" y="14"/>
                </a:cubicBezTo>
                <a:cubicBezTo>
                  <a:pt x="39" y="21"/>
                  <a:pt x="33" y="28"/>
                  <a:pt x="25" y="28"/>
                </a:cubicBezTo>
                <a:cubicBezTo>
                  <a:pt x="17" y="28"/>
                  <a:pt x="11" y="21"/>
                  <a:pt x="11" y="14"/>
                </a:cubicBezTo>
                <a:cubicBezTo>
                  <a:pt x="11" y="6"/>
                  <a:pt x="17" y="0"/>
                  <a:pt x="25" y="0"/>
                </a:cubicBezTo>
                <a:close/>
                <a:moveTo>
                  <a:pt x="10" y="31"/>
                </a:moveTo>
                <a:cubicBezTo>
                  <a:pt x="16" y="31"/>
                  <a:pt x="16" y="31"/>
                  <a:pt x="16" y="31"/>
                </a:cubicBezTo>
                <a:cubicBezTo>
                  <a:pt x="22" y="40"/>
                  <a:pt x="22" y="40"/>
                  <a:pt x="22" y="40"/>
                </a:cubicBezTo>
                <a:cubicBezTo>
                  <a:pt x="24" y="43"/>
                  <a:pt x="26" y="43"/>
                  <a:pt x="28" y="40"/>
                </a:cubicBezTo>
                <a:cubicBezTo>
                  <a:pt x="34" y="31"/>
                  <a:pt x="34" y="31"/>
                  <a:pt x="34" y="31"/>
                </a:cubicBezTo>
                <a:cubicBezTo>
                  <a:pt x="40" y="31"/>
                  <a:pt x="40" y="31"/>
                  <a:pt x="40" y="31"/>
                </a:cubicBezTo>
                <a:cubicBezTo>
                  <a:pt x="45" y="31"/>
                  <a:pt x="50" y="36"/>
                  <a:pt x="50" y="41"/>
                </a:cubicBezTo>
                <a:cubicBezTo>
                  <a:pt x="50" y="58"/>
                  <a:pt x="50" y="58"/>
                  <a:pt x="50" y="58"/>
                </a:cubicBezTo>
                <a:cubicBezTo>
                  <a:pt x="42" y="58"/>
                  <a:pt x="8" y="58"/>
                  <a:pt x="0" y="58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36"/>
                  <a:pt x="5" y="31"/>
                  <a:pt x="10" y="31"/>
                </a:cubicBezTo>
                <a:close/>
              </a:path>
            </a:pathLst>
          </a:custGeom>
          <a:solidFill>
            <a:srgbClr val="e9b6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任意多边形 7"/>
          <p:cNvSpPr/>
          <p:nvPr/>
        </p:nvSpPr>
        <p:spPr>
          <a:xfrm flipV="1">
            <a:off x="7083360" y="1313280"/>
            <a:ext cx="3902040" cy="303480"/>
          </a:xfrm>
          <a:custGeom>
            <a:avLst/>
            <a:gdLst/>
            <a:ahLst/>
            <a:rect l="l" t="t" r="r" b="b"/>
            <a:pathLst>
              <a:path w="3575098" h="226882">
                <a:moveTo>
                  <a:pt x="0" y="0"/>
                </a:moveTo>
                <a:lnTo>
                  <a:pt x="226882" y="226882"/>
                </a:lnTo>
                <a:lnTo>
                  <a:pt x="3575098" y="226882"/>
                </a:lnTo>
              </a:path>
            </a:pathLst>
          </a:custGeom>
          <a:noFill/>
          <a:ln w="6480">
            <a:solidFill>
              <a:srgbClr val="c9a6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任意多边形 8"/>
          <p:cNvSpPr/>
          <p:nvPr/>
        </p:nvSpPr>
        <p:spPr>
          <a:xfrm>
            <a:off x="7083360" y="5175360"/>
            <a:ext cx="3902040" cy="301680"/>
          </a:xfrm>
          <a:custGeom>
            <a:avLst/>
            <a:gdLst/>
            <a:ahLst/>
            <a:rect l="l" t="t" r="r" b="b"/>
            <a:pathLst>
              <a:path w="3575098" h="226882">
                <a:moveTo>
                  <a:pt x="0" y="0"/>
                </a:moveTo>
                <a:lnTo>
                  <a:pt x="226882" y="226882"/>
                </a:lnTo>
                <a:lnTo>
                  <a:pt x="3575098" y="226882"/>
                </a:lnTo>
              </a:path>
            </a:pathLst>
          </a:custGeom>
          <a:noFill/>
          <a:ln w="6480">
            <a:solidFill>
              <a:srgbClr val="e2c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任意多边形 9"/>
          <p:cNvSpPr/>
          <p:nvPr/>
        </p:nvSpPr>
        <p:spPr>
          <a:xfrm flipH="1">
            <a:off x="950040" y="3398760"/>
            <a:ext cx="3900600" cy="303120"/>
          </a:xfrm>
          <a:custGeom>
            <a:avLst/>
            <a:gdLst/>
            <a:ahLst/>
            <a:rect l="l" t="t" r="r" b="b"/>
            <a:pathLst>
              <a:path w="3575098" h="226882">
                <a:moveTo>
                  <a:pt x="0" y="0"/>
                </a:moveTo>
                <a:lnTo>
                  <a:pt x="226882" y="226882"/>
                </a:lnTo>
                <a:lnTo>
                  <a:pt x="3575098" y="226882"/>
                </a:lnTo>
              </a:path>
            </a:pathLst>
          </a:custGeom>
          <a:noFill/>
          <a:ln w="6480">
            <a:solidFill>
              <a:srgbClr val="de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10"/>
          <p:cNvSpPr/>
          <p:nvPr/>
        </p:nvSpPr>
        <p:spPr>
          <a:xfrm>
            <a:off x="1335240" y="2755440"/>
            <a:ext cx="318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b6b6b"/>
                </a:solidFill>
                <a:latin typeface="微软雅黑"/>
                <a:ea typeface="微软雅黑"/>
              </a:rPr>
              <a:t>请您在此处输入您的文本，或者将您的文本粘贴到此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11"/>
          <p:cNvSpPr/>
          <p:nvPr/>
        </p:nvSpPr>
        <p:spPr>
          <a:xfrm>
            <a:off x="7410600" y="1358640"/>
            <a:ext cx="318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b6b6b"/>
                </a:solidFill>
                <a:latin typeface="微软雅黑"/>
                <a:ea typeface="微软雅黑"/>
              </a:rPr>
              <a:t>请您在此处输入您的文本，或者将您的文本粘贴到此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12"/>
          <p:cNvSpPr/>
          <p:nvPr/>
        </p:nvSpPr>
        <p:spPr>
          <a:xfrm>
            <a:off x="7410600" y="4533480"/>
            <a:ext cx="318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b6b6b"/>
                </a:solidFill>
                <a:latin typeface="微软雅黑"/>
                <a:ea typeface="微软雅黑"/>
              </a:rPr>
              <a:t>请您在此处输入您的文本，或者将您的文本粘贴到此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9T01:19:00Z</dcterms:created>
  <dc:creator>+</dc:creator>
  <dc:description/>
  <dc:language>en-US</dc:language>
  <cp:lastModifiedBy>Administrator</cp:lastModifiedBy>
  <dcterms:modified xsi:type="dcterms:W3CDTF">2016-08-02T04:15:36Z</dcterms:modified>
  <cp:revision>52</cp:revision>
  <dc:subject/>
  <dc:title>g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