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35A-903A-4862-8F4C-399770CA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058-9395-48DF-8DF4-C3D0A595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A57-1ECC-48C6-A481-962BC7BA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E58-CACF-4CA7-B7DA-4F3AE524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51A-BCA6-4729-86E1-84582E6D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DFF-AE38-4B5D-B22B-ED602A22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E41-B3C2-4DB1-8422-A13ED79F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983-1287-49DA-B9E8-31AC213B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288-4F2B-4691-9D56-82FC2576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03A-F50C-49BE-B743-382D7567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188-1BC4-4411-8D58-02D30379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B17-7CE1-484C-82C8-2EFAD81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016C-FEA2-4EE7-BE83-7721A148E4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024"/>
          <p:cNvGrpSpPr/>
          <p:nvPr/>
        </p:nvGrpSpPr>
        <p:grpSpPr>
          <a:xfrm>
            <a:off x="628200" y="211680"/>
            <a:ext cx="1360800" cy="1572480"/>
            <a:chOff x="628200" y="211680"/>
            <a:chExt cx="1360800" cy="1572480"/>
          </a:xfrm>
        </p:grpSpPr>
        <p:sp>
          <p:nvSpPr>
            <p:cNvPr id="51" name="矩形 16"/>
            <p:cNvSpPr/>
            <p:nvPr/>
          </p:nvSpPr>
          <p:spPr>
            <a:xfrm>
              <a:off x="722880" y="1489320"/>
              <a:ext cx="11592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y:@</a:t>
              </a: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花生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e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组合 21"/>
            <p:cNvGrpSpPr/>
            <p:nvPr/>
          </p:nvGrpSpPr>
          <p:grpSpPr>
            <a:xfrm>
              <a:off x="628200" y="211680"/>
              <a:ext cx="1360800" cy="1361160"/>
              <a:chOff x="628200" y="211680"/>
              <a:chExt cx="1360800" cy="1361160"/>
            </a:xfrm>
          </p:grpSpPr>
          <p:pic>
            <p:nvPicPr>
              <p:cNvPr id="53" name="TextBox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380600" y="591120"/>
                <a:ext cx="412560" cy="68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4" descr="c:\DOCUME~1\ADMINI~1\APPLIC~1\360se6\USERDA~1\Temp\DNZDYP~1.JPG"/>
              <p:cNvPicPr/>
              <p:nvPr/>
            </p:nvPicPr>
            <p:blipFill>
              <a:blip r:embed="rId5"/>
              <a:stretch/>
            </p:blipFill>
            <p:spPr>
              <a:xfrm>
                <a:off x="907200" y="487800"/>
                <a:ext cx="80100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空心弧 24"/>
              <p:cNvSpPr/>
              <p:nvPr/>
            </p:nvSpPr>
            <p:spPr>
              <a:xfrm rot="18770400">
                <a:off x="825840" y="411480"/>
                <a:ext cx="965160" cy="960840"/>
              </a:xfrm>
              <a:custGeom>
                <a:avLst/>
                <a:gdLst/>
                <a:ahLst/>
                <a:rect l="l" t="t" r="r" b="b"/>
                <a:pathLst>
                  <a:path w="1931538" h="1931076">
                    <a:moveTo>
                      <a:pt x="1257264" y="1886046"/>
                    </a:moveTo>
                    <a:cubicBezTo>
                      <a:pt x="859077" y="2012079"/>
                      <a:pt x="424973" y="1867926"/>
                      <a:pt x="181336" y="1528763"/>
                    </a:cubicBezTo>
                    <a:cubicBezTo>
                      <a:pt x="-62385" y="1189482"/>
                      <a:pt x="-60245" y="731988"/>
                      <a:pt x="186640" y="395001"/>
                    </a:cubicBezTo>
                    <a:cubicBezTo>
                      <a:pt x="433438" y="58132"/>
                      <a:pt x="868871" y="-81955"/>
                      <a:pt x="1265861" y="47795"/>
                    </a:cubicBezTo>
                    <a:cubicBezTo>
                      <a:pt x="1662937" y="177573"/>
                      <a:pt x="1931538" y="547882"/>
                      <a:pt x="1931538" y="965538"/>
                    </a:cubicBezTo>
                    <a:lnTo>
                      <a:pt x="1846783" y="965538"/>
                    </a:lnTo>
                    <a:cubicBezTo>
                      <a:pt x="1846783" y="584542"/>
                      <a:pt x="1601752" y="246737"/>
                      <a:pt x="1239519" y="128353"/>
                    </a:cubicBezTo>
                    <a:cubicBezTo>
                      <a:pt x="877373" y="9997"/>
                      <a:pt x="480160" y="137784"/>
                      <a:pt x="255021" y="445076"/>
                    </a:cubicBezTo>
                    <a:cubicBezTo>
                      <a:pt x="29795" y="752485"/>
                      <a:pt x="27843" y="1169829"/>
                      <a:pt x="250183" y="1479331"/>
                    </a:cubicBezTo>
                    <a:cubicBezTo>
                      <a:pt x="472438" y="1788715"/>
                      <a:pt x="868439" y="1920211"/>
                      <a:pt x="1231677" y="1805245"/>
                    </a:cubicBezTo>
                    <a:lnTo>
                      <a:pt x="1257264" y="188604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20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5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60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61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5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71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4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1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8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4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4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9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2040" cy="8101080"/>
          </a:xfrm>
          <a:prstGeom prst="rect">
            <a:avLst/>
          </a:prstGeom>
          <a:ln w="0">
            <a:noFill/>
          </a:ln>
        </p:spPr>
      </p:pic>
      <p:sp>
        <p:nvSpPr>
          <p:cNvPr id="140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7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5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82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2-08T02:09:50Z</dcterms:modified>
  <cp:revision>15</cp:revision>
  <dc:subject/>
  <dc:title>PowerPoint 演示文稿</dc:title>
</cp:coreProperties>
</file>