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E99-9416-4968-B445-387A34DA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D72-D232-456A-9BBB-E6723950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623-4475-4F6A-805A-7E5DDAA2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E48-0A48-4EB4-8E7B-991C2317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7B4-671A-4F53-957F-D6F79B86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3D2-A390-431D-A8D3-5E8E9452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584-0AC5-4E2F-B7D5-6352686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3FA-2687-4A4A-A514-16AB2E0B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07E-642B-42C1-8D6C-616C948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B7D-44A2-4E44-BA6E-CB56BE5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22C-D226-4AAF-99BB-5CB1AC4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AB2-3B69-4F1C-9B2E-5B448E7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CC2-A47D-4B10-B01D-37DBDB90C0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1F6C-23E2-40F6-A2E7-B2BE8F352F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4902840" y="5079960"/>
            <a:ext cx="30852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394c"/>
                </a:solidFill>
                <a:latin typeface="微软雅黑"/>
              </a:rPr>
              <a:t>WorkInspir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4"/>
          <p:cNvSpPr/>
          <p:nvPr/>
        </p:nvSpPr>
        <p:spPr>
          <a:xfrm>
            <a:off x="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24680" y="8166240"/>
            <a:ext cx="70898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ols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novati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de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77840" y="0"/>
            <a:ext cx="12826800" cy="7327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684720" y="8255160"/>
            <a:ext cx="98330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dventur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lver,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ion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760320" y="8255160"/>
            <a:ext cx="8267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?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e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4193640" y="3708360"/>
            <a:ext cx="8741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80899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700" spc="-1" strike="noStrike">
                <a:solidFill>
                  <a:srgbClr val="4e4e4e"/>
                </a:solidFill>
                <a:latin typeface="微软雅黑"/>
              </a:rPr>
              <a:t>Yo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67440" y="8255160"/>
            <a:ext cx="5038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gether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705600" y="8255160"/>
            <a:ext cx="680688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r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677160" y="8178840"/>
            <a:ext cx="5452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des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co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3"/>
          <p:cNvSpPr/>
          <p:nvPr/>
        </p:nvSpPr>
        <p:spPr>
          <a:xfrm>
            <a:off x="0" y="5511960"/>
            <a:ext cx="13004640" cy="4241520"/>
          </a:xfrm>
          <a:prstGeom prst="pie">
            <a:avLst/>
          </a:prstGeom>
          <a:solidFill>
            <a:srgbClr val="544a5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7327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888840" y="8255160"/>
            <a:ext cx="102571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t’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tuck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solated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st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gotten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lowly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725400" y="8255160"/>
            <a:ext cx="80103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710640" y="8255160"/>
            <a:ext cx="758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spired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now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exp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75080" y="8255160"/>
            <a:ext cx="106603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ea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peo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ultipl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713880" y="8255160"/>
            <a:ext cx="82015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plac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pan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globe.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Follows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856800" y="8255160"/>
            <a:ext cx="806040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have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work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2800" spc="-1" strike="noStrike">
                <a:solidFill>
                  <a:srgbClr val="f4efeb"/>
                </a:solidFill>
                <a:latin typeface="微软雅黑"/>
              </a:rPr>
              <a:t>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8102520" y="9220320"/>
            <a:ext cx="49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坛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aku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rapidbbs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dc:language>en-US</dc:language>
  <cp:lastModifiedBy>杨光</cp:lastModifiedBy>
  <dcterms:modified xsi:type="dcterms:W3CDTF">2015-01-10T08:38:01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