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8FA-3100-4F51-836C-4DC9F78A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0E6-00CE-461E-8A99-2E5632B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2EA-D2B9-4BE5-BFE7-9C34BB3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8DC-07A9-4238-AEB7-AA1F742E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B4E-3B68-4BBB-BD28-B6B0EF5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17A-C9CF-4B1B-AF34-4C24D3A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88C-48DD-4B1E-B86B-E675253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492-9B90-4A7F-BD05-DD81272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804-8168-424D-AFE1-4DECBAE9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976-2441-41BD-B5BD-D8F6863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F3A-5920-459D-922C-F444071A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193-7FE5-4A67-992A-201108B5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DB19-37F5-41C9-B0B6-7F37C95F73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3D56-0F61-4F78-BE43-2D82F68186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902840" y="5079960"/>
            <a:ext cx="30852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394c"/>
                </a:solidFill>
                <a:latin typeface="微软雅黑"/>
              </a:rPr>
              <a:t>WorkInspi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4"/>
          <p:cNvSpPr/>
          <p:nvPr/>
        </p:nvSpPr>
        <p:spPr>
          <a:xfrm>
            <a:off x="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24680" y="8166240"/>
            <a:ext cx="70898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ols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d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77840" y="0"/>
            <a:ext cx="12826800" cy="7327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684720" y="8255160"/>
            <a:ext cx="98330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dventur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lv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ion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760320" y="8255160"/>
            <a:ext cx="8267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?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e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4193640" y="3708360"/>
            <a:ext cx="8741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7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67440" y="8255160"/>
            <a:ext cx="5038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gether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705600" y="8255160"/>
            <a:ext cx="68068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677160" y="8178840"/>
            <a:ext cx="5452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es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co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88840" y="8255160"/>
            <a:ext cx="102571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tuck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olate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st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gotten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725400" y="8255160"/>
            <a:ext cx="80103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710640" y="8255160"/>
            <a:ext cx="758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x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75080" y="8255160"/>
            <a:ext cx="106603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ea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713880" y="8255160"/>
            <a:ext cx="82015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pla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pan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lobe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ll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856800" y="8255160"/>
            <a:ext cx="8060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杨光</cp:lastModifiedBy>
  <dcterms:modified xsi:type="dcterms:W3CDTF">2015-01-10T08:38:01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