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B31-28C2-43C9-8685-5D47039F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AAC-77D2-48F0-A54C-51C2BD54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2D68D-F115-4EB9-BA03-338FFFE0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68596-FE7A-4DAF-B9C5-847116C4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FC9F3-51D7-4728-9F2B-CDDF0FA2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FCFEF-7809-440A-AF0D-2DCE5365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AC9C3-48C0-4370-A790-0DFD6896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E0AD2-CDBB-47AA-A693-DC09D9BB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C1AA1-6EA7-481A-95E4-F0F6F479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E80FB-F8A2-4402-8040-3EA83626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9D7C2-08B4-4268-913B-D949A60E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0B56D-58D2-4F49-8A25-094E7762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F59-02EE-4093-B9BA-8F0E54DD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62B82-7DC2-4CBD-814F-A45B172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61304-5ECA-4E3E-97C4-BB6F125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D6A30-FB52-408E-A70E-E8706A2F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BC46D-EBED-4B60-8785-0BF9CC63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9AA25-0C8E-4447-BE84-8DD7A589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6BE26-415E-45EC-AE8F-3F5089CD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D0D8A-ACDE-41B4-AC26-E5DA1813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D288E-EF4F-4498-94E2-F3E4112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383E2-D714-484B-8EA6-0497E645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3565F-C114-4FBC-B074-275A7891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7ED-DB67-4FC1-A6D0-A409DFD4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219A2-8774-437E-BFE6-DE017084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5E4FB-1B23-4A65-BEAB-CFC061A9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888A-EFAD-4C4B-B871-3514FE77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2630B-E2FD-4197-B58A-14F82CAB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A97A5-C108-4ED6-AC08-5DE79C64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4FAC4-0167-4B22-ACE7-A522C36C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141F6-DDC0-43C7-B425-7A82164C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4F739-2D5B-423F-8869-02A07C26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4592C-0705-4617-BF78-8E2537F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5CB0B-8AF7-4E80-9CC2-AECC9A9D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5E8F-D17C-4895-B204-63898DF4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149D1-5831-4FB1-A815-96A377EB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CCAE3-C60C-4D83-9CE5-20AB9B67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EE4BC-397C-44D6-8ADA-7BAEF981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7FC32-8496-40CE-A961-7A844FED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6BE57-A462-4495-A9B5-C46EFB8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9BADF-68CF-4F3D-BEF6-8E6B2FC9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B941D-CAE9-482A-A9BE-57F68C3F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57971-C153-4AAC-963E-1DF762D9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49272-0F50-4533-8D16-42F31CD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4BC8D-E0BD-48BE-B7CB-3459852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8C5B-4B4E-46E7-93A3-77A0BD6B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83AA0-661A-4801-8100-1DC5030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45846-8F65-4CF0-9D15-13B1701F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851B6-617A-4646-997F-9772AE92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38181-8092-4BBC-B511-F9E230EA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947BA-35D1-4166-810D-56E4A82B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8498E-3B67-466E-AB19-39D8B651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31720-CEBA-4729-9095-4253FD8F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0F60C-CC94-4C6D-B3B7-0EC7EE39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309A8-EB15-40BE-80F1-99BB7938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1105F-55A8-4504-82A6-1DEC8D27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1997-DCD0-4FE5-93DA-6B63C3B4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BBDD2-F8E8-45E9-A445-897FA213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9530D-F248-4040-8155-2D705BC6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3B569-8935-46F5-BB42-5CD1985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0E83A-555E-4DDD-AF2D-A6290CAE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DE8EE-FC10-4332-8A38-A1A47103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F5832-2E96-433D-BC16-979F88CD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57F68-AF6E-4BB8-BC1A-A56EFFB2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B257-7C9B-40CA-B327-E500B98B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FB36-4EAE-4A4D-8A18-9E8F4BDA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7CF4-AC1F-44B0-81FF-3503AA39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3F4E-3E03-48CA-BB1A-158168A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42A-3C19-48BB-808A-9776529E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5908-D815-4152-B1DA-414F7C56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6640-BB4A-411F-B2FE-9F3B574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2E89-C3BB-41DB-A5C8-579A038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30BC-DBE2-4288-BB8C-991EC372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79D3-B31B-4DA1-BF68-5B2A732F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DA4B-B6B9-4C7A-A0A0-9774E553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36C5-B5C7-4A90-8B0C-AF60C5E6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4536A-7B2E-433A-B643-1A190F40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1443-4A28-4815-A527-8BA41CAA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D44E-4AAF-40E7-A095-0B41567E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C42-A52C-4D2E-AF35-8C86FB2A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1790-5E4F-4D60-821D-03C8C486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C1885-AFD6-4A87-830B-3F0C14C3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B2B9-1E3D-46F3-8E8D-E76C2D61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2103-7CF2-4C2B-AFD8-0C29523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6028-5E9B-4DBF-833E-F659568C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CB64-327E-4181-90C3-05F4F1CB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5BAC-EA00-4BF8-8E86-FC9BE384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47A6-DC77-45E0-BAB1-627BEE3F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0AD4-8D70-449D-A0D6-2D509F59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2196-B7F8-4E7E-9897-E7660BE6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139-0E2A-414F-B5F7-2FC78ABE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0CA4-8643-4D36-97A4-82D5367C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BD8D-6B43-4595-A1F5-A877BBF9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1C4E9-D5C5-4355-864F-B7909672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43DFB-95DB-4128-BB20-FD3EF7F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DE15-E7AF-436F-A5E8-30EFF0B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5F982-43F7-4CAF-A5A2-35E9FD0C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4339-F13A-496E-974C-80EB5305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0BCE0-1AF5-4145-A6E5-64C08B08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DBCB-7715-4160-9980-3282A463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09E16-74CA-4259-9048-B1395008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44E-EC0E-4FC9-8184-9CB294C2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F6585-760B-4B0E-A642-26537659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2378-91AC-42BA-9337-D6E9A754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8415E-6552-490A-A381-D0585D8E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3200-C7E2-42F0-B419-DC7A58DF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B8459-F3D6-451B-B3FE-656A3A3E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7B91-3EED-4033-A2BA-A307B291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660CB-C9F3-4300-8CD3-531F8F4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660F-B597-463D-942E-D8A2D2A6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7865-D041-449A-860E-D9C40055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7076-BF72-4529-B2BA-708DA859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BC1-A15D-4E79-B2FD-A3E7F949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2C79-18C0-434D-BF24-CDED91E4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06F75-C430-4B5B-B514-6A5F6CD8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8307C-345E-4283-8D24-F786C55D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A8E9-BA15-4C90-8802-E4DB3485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EE02-A390-49E6-88BA-43C0F866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474A0-CA4D-4ADB-B18E-BDC9C747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9AA46-33E2-4CF5-A196-8E2DCFFB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D3BF-E9E4-45BA-B5C9-D30A6D2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4E9EB-CB9A-4882-B462-0E562C33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C37D8-7AFC-4487-AF85-55B66AE7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7A0-16C4-4086-9D4C-9488003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A5815-6E71-4AE9-9E10-BD2CFDB9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266A-2877-4A9A-A9E9-AADE8017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2399B-A1AB-4238-AA0E-D16AD713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644AB-853E-4853-8B8A-99471E16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91A9-F0E2-4A5A-B060-4C6CC4BC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14918-BC3F-470C-8D0F-5F6D1039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98E06-88A3-4076-9FC7-31156FB4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1F50-6C1C-4121-88DC-3CE0E5A0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015D7-7304-4D0E-AFFB-CF3FA48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F325-B8FC-40B7-A80D-886FE49B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AE5-0167-4612-AFD8-C2845F84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D30FF-C955-4B22-80CA-9D7AD5D2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D2487-DEF6-439D-B6A7-D0D1E7F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B674E-A37A-4BC2-8703-7C00FD71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E1111-900D-4E65-9928-DE08516B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DDDA-EE33-435F-A018-6A595619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B2512-E7C0-421F-A638-048AB819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85B58-D30A-4DA7-BC22-E518AA82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9C1C9-077A-49E8-A0D2-BE522AE8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E0993-FDB5-4C5A-8D55-C4FE07D2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31DA4-FAAC-4805-8D91-C683BB5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34E-1DBE-4370-9EF3-23405CF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D1C19-96C9-469B-A07A-601BE496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AA271-96BB-4F55-9B9C-FAEEC1AD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2AA64-8E87-44DA-9B3D-449ED999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B7418-7D9D-401D-9C8D-A84A1F40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C940A-75C9-49A8-9ED5-75BBF925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95754-DA96-450F-A20B-6A942DEC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A8EE9-BEEE-4D9A-B697-7F7D5BAA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673D6-B7B6-4391-AE80-A23C20D3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B36DA-9DE3-470E-BE43-E7F8BC6D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F25C0-48A6-4679-BF34-6F04F9AA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431D-16F7-42B4-9FAE-7BB35F6E10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606-0BD7-46B3-B092-4578C5BADF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35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37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38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439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EC29-5704-4760-9957-40F9BFBC3D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2451-63BE-4F36-B92B-64E6781BD0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84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86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87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488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F34C-867A-4106-8B7C-7462519C9F0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7F51-16B7-4AC7-AC06-72738B98AE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533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35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36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537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1605-ED3A-496D-9F05-49EA30A404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1411-D929-4E15-9A5A-75513C4C28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582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84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85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58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8A9E-8761-4B8F-85D4-974F48081F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3794-1207-4F00-9E33-89DD62EAF4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BA9F-B8D6-4AE2-96C6-A7640CC0403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C992-7049-4287-B222-80A7B91C6E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1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52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95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9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6E09-1C52-4CC7-A551-5629EA4907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F811-208C-4E83-8001-BF3ED7026F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41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44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145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240-3107-4DCB-9D44-8DF20D5AF6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5BDA-57BB-41B0-8136-590E40FDC4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90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92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93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194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26B0-A880-4CDA-921D-E1DFC60A2F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BA98-A49F-4A4D-856C-B5ED85120B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41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42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243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C89-014C-4880-8665-392738C5BE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550A-66A7-4B23-BE81-F04FD2ED1E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88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90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91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292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AC2B-B9CF-49B8-9265-008E1A1493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7371-EEEB-4145-B055-490139F7AD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37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39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40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341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37DA-EBE2-455C-9E2F-3D0CAFFD5D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9D3F-1336-4417-98EB-07BC3DB4C5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86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88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89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390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109-72BF-4ED6-8F3B-BECDDCAB75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0FA4-76C4-4986-8EDE-26F01AD7A3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media1.mp3" descr=""/>
          <p:cNvPicPr/>
          <p:nvPr/>
        </p:nvPicPr>
        <p:blipFill>
          <a:blip r:embed="rId1"/>
          <a:stretch/>
        </p:blipFill>
        <p:spPr>
          <a:xfrm>
            <a:off x="9683640" y="2844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3"/>
          <p:cNvGrpSpPr/>
          <p:nvPr/>
        </p:nvGrpSpPr>
        <p:grpSpPr>
          <a:xfrm>
            <a:off x="2837160" y="1225440"/>
            <a:ext cx="3469680" cy="2636640"/>
            <a:chOff x="2837160" y="1225440"/>
            <a:chExt cx="3469680" cy="2636640"/>
          </a:xfrm>
        </p:grpSpPr>
        <p:sp>
          <p:nvSpPr>
            <p:cNvPr id="632" name="矩形 9"/>
            <p:cNvSpPr/>
            <p:nvPr/>
          </p:nvSpPr>
          <p:spPr>
            <a:xfrm>
              <a:off x="2908800" y="1225440"/>
              <a:ext cx="3326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alibri"/>
                </a:rPr>
                <a:t>A PROFIL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矩形 10"/>
            <p:cNvSpPr/>
            <p:nvPr/>
          </p:nvSpPr>
          <p:spPr>
            <a:xfrm>
              <a:off x="2837160" y="1722960"/>
              <a:ext cx="3469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c00000"/>
                  </a:solidFill>
                  <a:latin typeface="Calibri"/>
                </a:rPr>
                <a:t>INSER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11"/>
            <p:cNvSpPr/>
            <p:nvPr/>
          </p:nvSpPr>
          <p:spPr>
            <a:xfrm>
              <a:off x="2877480" y="2626560"/>
              <a:ext cx="338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36c09"/>
                  </a:solidFill>
                  <a:latin typeface="Calibri"/>
                </a:rPr>
                <a:t>YOUR NAM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12"/>
            <p:cNvSpPr/>
            <p:nvPr/>
          </p:nvSpPr>
          <p:spPr>
            <a:xfrm>
              <a:off x="2869200" y="3097800"/>
              <a:ext cx="340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FOR EXEMP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3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" dur="2200" fill="hold"/>
                                        <p:tgtEl>
                                          <p:spTgt spid="63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2340000" y="482760"/>
            <a:ext cx="144360" cy="3384360"/>
            <a:chOff x="2340000" y="482760"/>
            <a:chExt cx="144360" cy="3384360"/>
          </a:xfrm>
        </p:grpSpPr>
        <p:sp>
          <p:nvSpPr>
            <p:cNvPr id="813" name="矩形 3"/>
            <p:cNvSpPr/>
            <p:nvPr/>
          </p:nvSpPr>
          <p:spPr>
            <a:xfrm>
              <a:off x="2340000" y="482760"/>
              <a:ext cx="46440" cy="338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矩形 4"/>
            <p:cNvSpPr/>
            <p:nvPr/>
          </p:nvSpPr>
          <p:spPr>
            <a:xfrm>
              <a:off x="2340720" y="48276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矩形 5"/>
            <p:cNvSpPr/>
            <p:nvPr/>
          </p:nvSpPr>
          <p:spPr>
            <a:xfrm>
              <a:off x="2340720" y="214128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6"/>
            <p:cNvSpPr/>
            <p:nvPr/>
          </p:nvSpPr>
          <p:spPr>
            <a:xfrm>
              <a:off x="2340720" y="379512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矩形 8"/>
          <p:cNvSpPr/>
          <p:nvPr/>
        </p:nvSpPr>
        <p:spPr>
          <a:xfrm>
            <a:off x="2581560" y="3795840"/>
            <a:ext cx="40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E YOUR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10"/>
          <p:cNvSpPr/>
          <p:nvPr/>
        </p:nvSpPr>
        <p:spPr>
          <a:xfrm>
            <a:off x="2728800" y="-7365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20"/>
          <p:cNvSpPr/>
          <p:nvPr/>
        </p:nvSpPr>
        <p:spPr>
          <a:xfrm>
            <a:off x="3351240" y="-12445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30"/>
          <p:cNvSpPr/>
          <p:nvPr/>
        </p:nvSpPr>
        <p:spPr>
          <a:xfrm>
            <a:off x="4007880" y="-15289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40"/>
          <p:cNvSpPr/>
          <p:nvPr/>
        </p:nvSpPr>
        <p:spPr>
          <a:xfrm>
            <a:off x="4647600" y="-18860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50"/>
          <p:cNvSpPr/>
          <p:nvPr/>
        </p:nvSpPr>
        <p:spPr>
          <a:xfrm>
            <a:off x="5295960" y="-23479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60"/>
          <p:cNvSpPr/>
          <p:nvPr/>
        </p:nvSpPr>
        <p:spPr>
          <a:xfrm>
            <a:off x="5933520" y="-2681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1"/>
          <p:cNvSpPr/>
          <p:nvPr/>
        </p:nvSpPr>
        <p:spPr>
          <a:xfrm>
            <a:off x="2725560" y="3363840"/>
            <a:ext cx="503280" cy="46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2"/>
          <p:cNvSpPr/>
          <p:nvPr/>
        </p:nvSpPr>
        <p:spPr>
          <a:xfrm>
            <a:off x="3348000" y="2860560"/>
            <a:ext cx="503280" cy="97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3"/>
          <p:cNvSpPr/>
          <p:nvPr/>
        </p:nvSpPr>
        <p:spPr>
          <a:xfrm>
            <a:off x="3995640" y="2571840"/>
            <a:ext cx="505080" cy="12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4"/>
          <p:cNvSpPr/>
          <p:nvPr/>
        </p:nvSpPr>
        <p:spPr>
          <a:xfrm>
            <a:off x="4643280" y="2214720"/>
            <a:ext cx="505080" cy="1617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5"/>
          <p:cNvSpPr/>
          <p:nvPr/>
        </p:nvSpPr>
        <p:spPr>
          <a:xfrm>
            <a:off x="5292720" y="1779480"/>
            <a:ext cx="503280" cy="20527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6"/>
          <p:cNvSpPr/>
          <p:nvPr/>
        </p:nvSpPr>
        <p:spPr>
          <a:xfrm>
            <a:off x="5940360" y="1419120"/>
            <a:ext cx="504720" cy="2413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2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2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0.70802 L 0.00052 0.79506 E">
                                      <p:cBhvr>
                                        <p:cTn id="939" dur="1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41" dur="200" fill="hold"/>
                                        <p:tgtEl>
                                          <p:spTgt spid="8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43" dur="100" fill="hold"/>
                                        <p:tgtEl>
                                          <p:spTgt spid="81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4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8.33333E-007 0.70802 L 0.00052 0.79506 E">
                                      <p:cBhvr>
                                        <p:cTn id="945" dur="1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47" dur="200" fill="hold"/>
                                        <p:tgtEl>
                                          <p:spTgt spid="81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49" dur="100" fill="hold"/>
                                        <p:tgtEl>
                                          <p:spTgt spid="81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5.55556E-007 0.70803 L 0.00052 0.79507 E">
                                      <p:cBhvr>
                                        <p:cTn id="951" dur="1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53" dur="200" fill="hold"/>
                                        <p:tgtEl>
                                          <p:spTgt spid="82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55" dur="100" fill="hold"/>
                                        <p:tgtEl>
                                          <p:spTgt spid="82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5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0.70802 L 0.00052 0.79506 E">
                                      <p:cBhvr>
                                        <p:cTn id="957" dur="1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59" dur="2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61" dur="100" fill="hold"/>
                                        <p:tgtEl>
                                          <p:spTgt spid="82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0.70803 L 0.00052 0.79507 E">
                                      <p:cBhvr>
                                        <p:cTn id="963" dur="1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65" dur="200" fill="hold"/>
                                        <p:tgtEl>
                                          <p:spTgt spid="8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967" dur="100" fill="hold"/>
                                        <p:tgtEl>
                                          <p:spTgt spid="82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8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8.33333E-007 0.70802 L 0.00052 0.79506 E">
                                      <p:cBhvr>
                                        <p:cTn id="969" dur="1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71" dur="200" fill="hold"/>
                                        <p:tgtEl>
                                          <p:spTgt spid="8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73" dur="100" fill="hold"/>
                                        <p:tgtEl>
                                          <p:spTgt spid="82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8" dur="1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80" dur="3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82" dur="200" fill="hold"/>
                                        <p:tgtEl>
                                          <p:spTgt spid="81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83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84" dur="2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86" dur="100" fill="hold"/>
                                        <p:tgtEl>
                                          <p:spTgt spid="81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矩形 1"/>
          <p:cNvSpPr/>
          <p:nvPr/>
        </p:nvSpPr>
        <p:spPr>
          <a:xfrm>
            <a:off x="495360" y="1509840"/>
            <a:ext cx="814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NEED TO KNOW MO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ABOUT M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0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1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000" dur="200" fill="hold"/>
                                        <p:tgtEl>
                                          <p:spTgt spid="83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02" dur="1200" fill="hold"/>
                                        <p:tgtEl>
                                          <p:spTgt spid="8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矩形 1"/>
          <p:cNvSpPr/>
          <p:nvPr/>
        </p:nvSpPr>
        <p:spPr>
          <a:xfrm>
            <a:off x="1752840" y="2017800"/>
            <a:ext cx="563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CONTACT ME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0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1" dur="1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13" dur="200" fill="hold"/>
                                        <p:tgtEl>
                                          <p:spTgt spid="83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15" dur="1200" fill="hold"/>
                                        <p:tgtEl>
                                          <p:spTgt spid="8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矩形 1"/>
          <p:cNvSpPr/>
          <p:nvPr/>
        </p:nvSpPr>
        <p:spPr>
          <a:xfrm>
            <a:off x="1022760" y="2109960"/>
            <a:ext cx="709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angpengsos@126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027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矩形 1"/>
          <p:cNvSpPr/>
          <p:nvPr/>
        </p:nvSpPr>
        <p:spPr>
          <a:xfrm>
            <a:off x="2369160" y="210996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Q 3634396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2"/>
          <p:cNvSpPr/>
          <p:nvPr/>
        </p:nvSpPr>
        <p:spPr>
          <a:xfrm>
            <a:off x="1022760" y="2109960"/>
            <a:ext cx="709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angpengsos@126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同心圆 3"/>
          <p:cNvSpPr/>
          <p:nvPr/>
        </p:nvSpPr>
        <p:spPr>
          <a:xfrm>
            <a:off x="5435640" y="1060560"/>
            <a:ext cx="1103400" cy="1101600"/>
          </a:xfrm>
          <a:custGeom>
            <a:avLst/>
            <a:gdLst>
              <a:gd name="textAreaLeft" fmla="*/ 161280 w 1103400"/>
              <a:gd name="textAreaRight" fmla="*/ 942120 w 1103400"/>
              <a:gd name="textAreaTop" fmla="*/ 161280 h 1101600"/>
              <a:gd name="textAreaBottom" fmla="*/ 94032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同心圆 4"/>
          <p:cNvSpPr/>
          <p:nvPr/>
        </p:nvSpPr>
        <p:spPr>
          <a:xfrm>
            <a:off x="3635280" y="1611360"/>
            <a:ext cx="1513080" cy="1511280"/>
          </a:xfrm>
          <a:custGeom>
            <a:avLst/>
            <a:gdLst>
              <a:gd name="textAreaLeft" fmla="*/ 221400 w 1513080"/>
              <a:gd name="textAreaRight" fmla="*/ 1291680 w 1513080"/>
              <a:gd name="textAreaTop" fmla="*/ 221040 h 1511280"/>
              <a:gd name="textAreaBottom" fmla="*/ 12902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同心圆 5"/>
          <p:cNvSpPr/>
          <p:nvPr/>
        </p:nvSpPr>
        <p:spPr>
          <a:xfrm>
            <a:off x="1581120" y="2109960"/>
            <a:ext cx="1109520" cy="1109520"/>
          </a:xfrm>
          <a:custGeom>
            <a:avLst/>
            <a:gdLst>
              <a:gd name="textAreaLeft" fmla="*/ 162360 w 1109520"/>
              <a:gd name="textAreaRight" fmla="*/ 947160 w 1109520"/>
              <a:gd name="textAreaTop" fmla="*/ 162360 h 1109520"/>
              <a:gd name="textAreaBottom" fmla="*/ 947160 h 110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同心圆 6"/>
          <p:cNvSpPr/>
          <p:nvPr/>
        </p:nvSpPr>
        <p:spPr>
          <a:xfrm>
            <a:off x="990720" y="2874960"/>
            <a:ext cx="1512720" cy="1512720"/>
          </a:xfrm>
          <a:custGeom>
            <a:avLst/>
            <a:gdLst>
              <a:gd name="textAreaLeft" fmla="*/ 221400 w 1512720"/>
              <a:gd name="textAreaRight" fmla="*/ 1291320 w 1512720"/>
              <a:gd name="textAreaTop" fmla="*/ 221400 h 1512720"/>
              <a:gd name="textAreaBottom" fmla="*/ 12913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同心圆 7"/>
          <p:cNvSpPr/>
          <p:nvPr/>
        </p:nvSpPr>
        <p:spPr>
          <a:xfrm>
            <a:off x="2411280" y="2181240"/>
            <a:ext cx="1908360" cy="1908000"/>
          </a:xfrm>
          <a:custGeom>
            <a:avLst/>
            <a:gdLst>
              <a:gd name="textAreaLeft" fmla="*/ 279360 w 1908360"/>
              <a:gd name="textAreaRight" fmla="*/ 1629000 w 1908360"/>
              <a:gd name="textAreaTop" fmla="*/ 279360 h 1908000"/>
              <a:gd name="textAreaBottom" fmla="*/ 1628640 h 19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同心圆 8"/>
          <p:cNvSpPr/>
          <p:nvPr/>
        </p:nvSpPr>
        <p:spPr>
          <a:xfrm>
            <a:off x="6108840" y="1060560"/>
            <a:ext cx="1325520" cy="1323720"/>
          </a:xfrm>
          <a:custGeom>
            <a:avLst/>
            <a:gdLst>
              <a:gd name="textAreaLeft" fmla="*/ 194040 w 1325520"/>
              <a:gd name="textAreaRight" fmla="*/ 1131480 w 1325520"/>
              <a:gd name="textAreaTop" fmla="*/ 193680 h 1323720"/>
              <a:gd name="textAreaBottom" fmla="*/ 1130040 h 13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同心圆 9"/>
          <p:cNvSpPr/>
          <p:nvPr/>
        </p:nvSpPr>
        <p:spPr>
          <a:xfrm>
            <a:off x="4861080" y="1541520"/>
            <a:ext cx="1677960" cy="1677960"/>
          </a:xfrm>
          <a:custGeom>
            <a:avLst/>
            <a:gdLst>
              <a:gd name="textAreaLeft" fmla="*/ 245520 w 1677960"/>
              <a:gd name="textAreaRight" fmla="*/ 1432440 w 1677960"/>
              <a:gd name="textAreaTop" fmla="*/ 245520 h 1677960"/>
              <a:gd name="textAreaBottom" fmla="*/ 1432440 h 1677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同心圆 10"/>
          <p:cNvSpPr/>
          <p:nvPr/>
        </p:nvSpPr>
        <p:spPr>
          <a:xfrm>
            <a:off x="623880" y="1251000"/>
            <a:ext cx="1511280" cy="151272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221400 h 1512720"/>
              <a:gd name="textAreaBottom" fmla="*/ 12913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同心圆 11"/>
          <p:cNvSpPr/>
          <p:nvPr/>
        </p:nvSpPr>
        <p:spPr>
          <a:xfrm>
            <a:off x="6099120" y="2006640"/>
            <a:ext cx="1511280" cy="151272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221400 h 1512720"/>
              <a:gd name="textAreaBottom" fmla="*/ 12913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045" dur="3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047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4" dur="2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2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0" dur="2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8" dur="2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6" dur="2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4" dur="2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2" dur="2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0" dur="2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8" dur="2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"/>
          <p:cNvSpPr/>
          <p:nvPr/>
        </p:nvSpPr>
        <p:spPr>
          <a:xfrm>
            <a:off x="2369160" y="210996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Q 3634396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2"/>
          <p:cNvSpPr/>
          <p:nvPr/>
        </p:nvSpPr>
        <p:spPr>
          <a:xfrm>
            <a:off x="1851840" y="2109960"/>
            <a:ext cx="54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本视频由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PT2010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nodeType="clickEffect" fill="hold">
                      <p:stCondLst>
                        <p:cond delay="0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131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139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矩形 1"/>
          <p:cNvSpPr/>
          <p:nvPr/>
        </p:nvSpPr>
        <p:spPr>
          <a:xfrm>
            <a:off x="1851840" y="2109960"/>
            <a:ext cx="54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本视频由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PT2010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2"/>
          <p:cNvSpPr/>
          <p:nvPr/>
        </p:nvSpPr>
        <p:spPr>
          <a:xfrm>
            <a:off x="2405880" y="2109960"/>
            <a:ext cx="43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欢迎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Q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，邮件骚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4"/>
          <p:cNvGrpSpPr/>
          <p:nvPr/>
        </p:nvGrpSpPr>
        <p:grpSpPr>
          <a:xfrm>
            <a:off x="1471680" y="2017800"/>
            <a:ext cx="5158440" cy="1099440"/>
            <a:chOff x="1471680" y="2017800"/>
            <a:chExt cx="5158440" cy="1099440"/>
          </a:xfrm>
        </p:grpSpPr>
        <p:pic>
          <p:nvPicPr>
            <p:cNvPr id="849" name="图片 5" descr=""/>
            <p:cNvPicPr/>
            <p:nvPr/>
          </p:nvPicPr>
          <p:blipFill>
            <a:blip r:embed="rId1"/>
            <a:srcRect l="0" t="10745" r="0" b="10745"/>
            <a:stretch/>
          </p:blipFill>
          <p:spPr>
            <a:xfrm>
              <a:off x="1471680" y="2111760"/>
              <a:ext cx="919800" cy="92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矩形 6"/>
            <p:cNvSpPr/>
            <p:nvPr/>
          </p:nvSpPr>
          <p:spPr>
            <a:xfrm>
              <a:off x="3431880" y="2017800"/>
              <a:ext cx="3198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Calibri"/>
                </a:rPr>
                <a:t>毛主席说我帅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0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151" dur="3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159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2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3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8" dur="1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170" dur="200" fill="hold"/>
                                        <p:tgtEl>
                                          <p:spTgt spid="8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7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172" dur="1200" fill="hold"/>
                                        <p:tgtEl>
                                          <p:spTgt spid="84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3008880" y="1758960"/>
            <a:ext cx="3126600" cy="1641240"/>
            <a:chOff x="3008880" y="1758960"/>
            <a:chExt cx="3126600" cy="1641240"/>
          </a:xfrm>
        </p:grpSpPr>
        <p:sp>
          <p:nvSpPr>
            <p:cNvPr id="637" name="矩形 4"/>
            <p:cNvSpPr/>
            <p:nvPr/>
          </p:nvSpPr>
          <p:spPr>
            <a:xfrm>
              <a:off x="3008880" y="1758960"/>
              <a:ext cx="3126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Calibri"/>
                </a:rPr>
                <a:t>WHA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6"/>
            <p:cNvSpPr/>
            <p:nvPr/>
          </p:nvSpPr>
          <p:spPr>
            <a:xfrm>
              <a:off x="3274200" y="2757600"/>
              <a:ext cx="25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36c09"/>
                  </a:solidFill>
                  <a:latin typeface="Calibri"/>
                </a:rPr>
                <a:t>ABOUT ME 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同心圆 5"/>
          <p:cNvSpPr/>
          <p:nvPr/>
        </p:nvSpPr>
        <p:spPr>
          <a:xfrm>
            <a:off x="3713040" y="1722600"/>
            <a:ext cx="1702080" cy="1701720"/>
          </a:xfrm>
          <a:custGeom>
            <a:avLst/>
            <a:gdLst>
              <a:gd name="textAreaLeft" fmla="*/ 249120 w 1702080"/>
              <a:gd name="textAreaRight" fmla="*/ 1452960 w 17020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23" y="10800"/>
                </a:moveTo>
                <a:cubicBezTo>
                  <a:pt x="1823" y="15758"/>
                  <a:pt x="5842" y="19777"/>
                  <a:pt x="10800" y="19777"/>
                </a:cubicBezTo>
                <a:cubicBezTo>
                  <a:pt x="15758" y="19777"/>
                  <a:pt x="19777" y="15758"/>
                  <a:pt x="19777" y="10800"/>
                </a:cubicBezTo>
                <a:cubicBezTo>
                  <a:pt x="19777" y="5842"/>
                  <a:pt x="15758" y="1823"/>
                  <a:pt x="10800" y="1823"/>
                </a:cubicBezTo>
                <a:cubicBezTo>
                  <a:pt x="5842" y="1823"/>
                  <a:pt x="1823" y="5842"/>
                  <a:pt x="1823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同心圆 9"/>
          <p:cNvSpPr/>
          <p:nvPr/>
        </p:nvSpPr>
        <p:spPr>
          <a:xfrm>
            <a:off x="3635280" y="1644480"/>
            <a:ext cx="1855800" cy="1854360"/>
          </a:xfrm>
          <a:custGeom>
            <a:avLst/>
            <a:gdLst>
              <a:gd name="textAreaLeft" fmla="*/ 271800 w 1855800"/>
              <a:gd name="textAreaRight" fmla="*/ 1584000 w 1855800"/>
              <a:gd name="textAreaTop" fmla="*/ 271440 h 1854360"/>
              <a:gd name="textAreaBottom" fmla="*/ 1582920 h 185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2" y="10800"/>
                </a:moveTo>
                <a:cubicBezTo>
                  <a:pt x="82" y="16719"/>
                  <a:pt x="4881" y="21518"/>
                  <a:pt x="10800" y="21518"/>
                </a:cubicBezTo>
                <a:cubicBezTo>
                  <a:pt x="16719" y="21518"/>
                  <a:pt x="21518" y="16719"/>
                  <a:pt x="21518" y="10800"/>
                </a:cubicBezTo>
                <a:cubicBezTo>
                  <a:pt x="21518" y="4881"/>
                  <a:pt x="16719" y="82"/>
                  <a:pt x="10800" y="82"/>
                </a:cubicBezTo>
                <a:cubicBezTo>
                  <a:pt x="4881" y="82"/>
                  <a:pt x="82" y="4881"/>
                  <a:pt x="82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11" descr=""/>
          <p:cNvPicPr/>
          <p:nvPr/>
        </p:nvPicPr>
        <p:blipFill>
          <a:blip r:embed="rId1"/>
          <a:stretch/>
        </p:blipFill>
        <p:spPr>
          <a:xfrm>
            <a:off x="3708360" y="1652760"/>
            <a:ext cx="1806480" cy="22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8" dur="200" fill="hold"/>
                                        <p:tgtEl>
                                          <p:spTgt spid="6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0" dur="1300" fill="hold"/>
                                        <p:tgtEl>
                                          <p:spTgt spid="63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" dur="1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1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47" dur="200" fill="hold"/>
                                        <p:tgtEl>
                                          <p:spTgt spid="64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49" dur="100" fill="hold"/>
                                        <p:tgtEl>
                                          <p:spTgt spid="64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3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2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4930200" y="-1282680"/>
            <a:ext cx="1659600" cy="1163880"/>
            <a:chOff x="4930200" y="-1282680"/>
            <a:chExt cx="1659600" cy="1163880"/>
          </a:xfrm>
        </p:grpSpPr>
        <p:grpSp>
          <p:nvGrpSpPr>
            <p:cNvPr id="643" name="Group 3"/>
            <p:cNvGrpSpPr/>
            <p:nvPr/>
          </p:nvGrpSpPr>
          <p:grpSpPr>
            <a:xfrm>
              <a:off x="5068080" y="-1282680"/>
              <a:ext cx="1338480" cy="1163880"/>
              <a:chOff x="5068080" y="-1282680"/>
              <a:chExt cx="1338480" cy="1163880"/>
            </a:xfrm>
          </p:grpSpPr>
          <p:sp>
            <p:nvSpPr>
              <p:cNvPr id="644" name="等腰三角形 4"/>
              <p:cNvSpPr/>
              <p:nvPr/>
            </p:nvSpPr>
            <p:spPr>
              <a:xfrm rot="14711400">
                <a:off x="5458320" y="-79488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圆角矩形 3"/>
              <p:cNvSpPr/>
              <p:nvPr/>
            </p:nvSpPr>
            <p:spPr>
              <a:xfrm rot="1297800">
                <a:off x="5159880" y="-109512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矩形 21"/>
            <p:cNvSpPr/>
            <p:nvPr/>
          </p:nvSpPr>
          <p:spPr>
            <a:xfrm rot="1297800">
              <a:off x="4946040" y="-93492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7"/>
          <p:cNvGrpSpPr/>
          <p:nvPr/>
        </p:nvGrpSpPr>
        <p:grpSpPr>
          <a:xfrm>
            <a:off x="5226480" y="-1382760"/>
            <a:ext cx="1180800" cy="1298160"/>
            <a:chOff x="5226480" y="-1382760"/>
            <a:chExt cx="1180800" cy="1298160"/>
          </a:xfrm>
        </p:grpSpPr>
        <p:grpSp>
          <p:nvGrpSpPr>
            <p:cNvPr id="648" name="Group 8"/>
            <p:cNvGrpSpPr/>
            <p:nvPr/>
          </p:nvGrpSpPr>
          <p:grpSpPr>
            <a:xfrm>
              <a:off x="5226480" y="-1382760"/>
              <a:ext cx="1180800" cy="1281240"/>
              <a:chOff x="5226480" y="-1382760"/>
              <a:chExt cx="1180800" cy="1281240"/>
            </a:xfrm>
          </p:grpSpPr>
          <p:sp>
            <p:nvSpPr>
              <p:cNvPr id="649" name="等腰三角形 7"/>
              <p:cNvSpPr/>
              <p:nvPr/>
            </p:nvSpPr>
            <p:spPr>
              <a:xfrm rot="18075600">
                <a:off x="5447160" y="-101592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圆角矩形 8"/>
              <p:cNvSpPr/>
              <p:nvPr/>
            </p:nvSpPr>
            <p:spPr>
              <a:xfrm rot="4662000">
                <a:off x="5354640" y="-110232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矩形 22"/>
            <p:cNvSpPr/>
            <p:nvPr/>
          </p:nvSpPr>
          <p:spPr>
            <a:xfrm rot="4662000">
              <a:off x="5220360" y="-1061280"/>
              <a:ext cx="112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Tw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2"/>
          <p:cNvGrpSpPr/>
          <p:nvPr/>
        </p:nvGrpSpPr>
        <p:grpSpPr>
          <a:xfrm>
            <a:off x="4004640" y="6329160"/>
            <a:ext cx="1422720" cy="1189080"/>
            <a:chOff x="4004640" y="6329160"/>
            <a:chExt cx="1422720" cy="1189080"/>
          </a:xfrm>
        </p:grpSpPr>
        <p:grpSp>
          <p:nvGrpSpPr>
            <p:cNvPr id="653" name="Group 13"/>
            <p:cNvGrpSpPr/>
            <p:nvPr/>
          </p:nvGrpSpPr>
          <p:grpSpPr>
            <a:xfrm>
              <a:off x="4123800" y="6329160"/>
              <a:ext cx="1292400" cy="1189080"/>
              <a:chOff x="4123800" y="6329160"/>
              <a:chExt cx="1292400" cy="1189080"/>
            </a:xfrm>
          </p:grpSpPr>
          <p:sp>
            <p:nvSpPr>
              <p:cNvPr id="654" name="等腰三角形 10"/>
              <p:cNvSpPr/>
              <p:nvPr/>
            </p:nvSpPr>
            <p:spPr>
              <a:xfrm rot="1785600">
                <a:off x="4494960" y="637164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圆角矩形 11"/>
              <p:cNvSpPr/>
              <p:nvPr/>
            </p:nvSpPr>
            <p:spPr>
              <a:xfrm rot="9972000">
                <a:off x="4192920" y="6671160"/>
                <a:ext cx="115380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矩形 23"/>
            <p:cNvSpPr/>
            <p:nvPr/>
          </p:nvSpPr>
          <p:spPr>
            <a:xfrm rot="9972000">
              <a:off x="4069800" y="6545160"/>
              <a:ext cx="129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Th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7"/>
          <p:cNvGrpSpPr/>
          <p:nvPr/>
        </p:nvGrpSpPr>
        <p:grpSpPr>
          <a:xfrm>
            <a:off x="2734920" y="5931360"/>
            <a:ext cx="1411560" cy="1321200"/>
            <a:chOff x="2734920" y="5931360"/>
            <a:chExt cx="1411560" cy="1321200"/>
          </a:xfrm>
        </p:grpSpPr>
        <p:grpSp>
          <p:nvGrpSpPr>
            <p:cNvPr id="658" name="Group 18"/>
            <p:cNvGrpSpPr/>
            <p:nvPr/>
          </p:nvGrpSpPr>
          <p:grpSpPr>
            <a:xfrm>
              <a:off x="2734920" y="6068880"/>
              <a:ext cx="1357920" cy="1183680"/>
              <a:chOff x="2734920" y="6068880"/>
              <a:chExt cx="1357920" cy="1183680"/>
            </a:xfrm>
          </p:grpSpPr>
          <p:sp>
            <p:nvSpPr>
              <p:cNvPr id="659" name="等腰三角形 13"/>
              <p:cNvSpPr/>
              <p:nvPr/>
            </p:nvSpPr>
            <p:spPr>
              <a:xfrm rot="4326600">
                <a:off x="3364560" y="6015960"/>
                <a:ext cx="362520" cy="719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圆角矩形 14"/>
              <p:cNvSpPr/>
              <p:nvPr/>
            </p:nvSpPr>
            <p:spPr>
              <a:xfrm rot="12512400">
                <a:off x="2836440" y="6300720"/>
                <a:ext cx="1154520" cy="719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矩形 24"/>
            <p:cNvSpPr/>
            <p:nvPr/>
          </p:nvSpPr>
          <p:spPr>
            <a:xfrm rot="12512400">
              <a:off x="2887560" y="6165720"/>
              <a:ext cx="116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F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22"/>
          <p:cNvGrpSpPr/>
          <p:nvPr/>
        </p:nvGrpSpPr>
        <p:grpSpPr>
          <a:xfrm>
            <a:off x="2714760" y="-1454760"/>
            <a:ext cx="1344960" cy="1403280"/>
            <a:chOff x="2714760" y="-1454760"/>
            <a:chExt cx="1344960" cy="1403280"/>
          </a:xfrm>
        </p:grpSpPr>
        <p:grpSp>
          <p:nvGrpSpPr>
            <p:cNvPr id="663" name="Group 23"/>
            <p:cNvGrpSpPr/>
            <p:nvPr/>
          </p:nvGrpSpPr>
          <p:grpSpPr>
            <a:xfrm>
              <a:off x="2714760" y="-1454760"/>
              <a:ext cx="1216080" cy="1360440"/>
              <a:chOff x="2714760" y="-1454760"/>
              <a:chExt cx="1216080" cy="1360440"/>
            </a:xfrm>
          </p:grpSpPr>
          <p:sp>
            <p:nvSpPr>
              <p:cNvPr id="664" name="等腰三角形 16"/>
              <p:cNvSpPr/>
              <p:nvPr/>
            </p:nvSpPr>
            <p:spPr>
              <a:xfrm rot="9899400">
                <a:off x="3419640" y="-98784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圆角矩形 17"/>
              <p:cNvSpPr/>
              <p:nvPr/>
            </p:nvSpPr>
            <p:spPr>
              <a:xfrm rot="18085800">
                <a:off x="2745720" y="-1134360"/>
                <a:ext cx="115416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矩形 25"/>
            <p:cNvSpPr/>
            <p:nvPr/>
          </p:nvSpPr>
          <p:spPr>
            <a:xfrm rot="18085800">
              <a:off x="2916000" y="-1059480"/>
              <a:ext cx="110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F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27"/>
          <p:cNvGrpSpPr/>
          <p:nvPr/>
        </p:nvGrpSpPr>
        <p:grpSpPr>
          <a:xfrm>
            <a:off x="3716280" y="-1170000"/>
            <a:ext cx="1279440" cy="1179000"/>
            <a:chOff x="3716280" y="-1170000"/>
            <a:chExt cx="1279440" cy="1179000"/>
          </a:xfrm>
        </p:grpSpPr>
        <p:grpSp>
          <p:nvGrpSpPr>
            <p:cNvPr id="668" name="Group 28"/>
            <p:cNvGrpSpPr/>
            <p:nvPr/>
          </p:nvGrpSpPr>
          <p:grpSpPr>
            <a:xfrm>
              <a:off x="3716280" y="-1170000"/>
              <a:ext cx="1279440" cy="1179000"/>
              <a:chOff x="3716280" y="-1170000"/>
              <a:chExt cx="1279440" cy="1179000"/>
            </a:xfrm>
          </p:grpSpPr>
          <p:sp>
            <p:nvSpPr>
              <p:cNvPr id="669" name="等腰三角形 19"/>
              <p:cNvSpPr/>
              <p:nvPr/>
            </p:nvSpPr>
            <p:spPr>
              <a:xfrm rot="12688800">
                <a:off x="4259880" y="-75348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圆角矩形 20"/>
              <p:cNvSpPr/>
              <p:nvPr/>
            </p:nvSpPr>
            <p:spPr>
              <a:xfrm rot="20875200">
                <a:off x="3778920" y="-105696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矩形 26"/>
            <p:cNvSpPr/>
            <p:nvPr/>
          </p:nvSpPr>
          <p:spPr>
            <a:xfrm rot="20875200">
              <a:off x="3896280" y="-899640"/>
              <a:ext cx="982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S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椭圆 33"/>
          <p:cNvSpPr/>
          <p:nvPr/>
        </p:nvSpPr>
        <p:spPr>
          <a:xfrm>
            <a:off x="3780000" y="1781280"/>
            <a:ext cx="158400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图片 2" descr=""/>
          <p:cNvPicPr/>
          <p:nvPr/>
        </p:nvPicPr>
        <p:blipFill>
          <a:blip r:embed="rId1"/>
          <a:srcRect l="12510" t="12150" r="17060" b="32196"/>
          <a:stretch/>
        </p:blipFill>
        <p:spPr>
          <a:xfrm>
            <a:off x="3933720" y="193032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1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2.71605E-006 L -0.02326 -0.01729 L 0.00903 -0.04013 L -2.5E-006 2.71605E-006 Z">
                                      <p:cBhvr>
                                        <p:cTn id="73" dur="4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17 0.73673 L -0.13211 0.63889 E">
                                      <p:cBhvr>
                                        <p:cTn id="75" dur="2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-0.58943 L -0.01545 -0.83905 E">
                                      <p:cBhvr>
                                        <p:cTn id="77" dur="2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0.47778 L -0.12326 0.61358 E">
                                      <p:cBhvr>
                                        <p:cTn id="79" dur="2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62284 L 0.11945 -0.76698 E">
                                      <p:cBhvr>
                                        <p:cTn id="81" dur="2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35 0.55895 L 0.12188 0.6358 E">
                                      <p:cBhvr>
                                        <p:cTn id="83" dur="2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35 0.36049 L 0.01997 0.60617 E">
                                      <p:cBhvr>
                                        <p:cTn id="85" dur="2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"/>
          <p:cNvSpPr/>
          <p:nvPr/>
        </p:nvSpPr>
        <p:spPr>
          <a:xfrm rot="20626800">
            <a:off x="4187880" y="-1203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Y"/>
          <p:cNvSpPr/>
          <p:nvPr/>
        </p:nvSpPr>
        <p:spPr>
          <a:xfrm rot="18677400">
            <a:off x="3781080" y="-9331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N"/>
          <p:cNvSpPr/>
          <p:nvPr/>
        </p:nvSpPr>
        <p:spPr>
          <a:xfrm rot="1252800">
            <a:off x="4694400" y="-118872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"/>
          <p:cNvSpPr/>
          <p:nvPr/>
        </p:nvSpPr>
        <p:spPr>
          <a:xfrm rot="1890000">
            <a:off x="4860360" y="-1098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M"/>
          <p:cNvSpPr/>
          <p:nvPr/>
        </p:nvSpPr>
        <p:spPr>
          <a:xfrm rot="2767200">
            <a:off x="4983480" y="-9622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E"/>
          <p:cNvSpPr/>
          <p:nvPr/>
        </p:nvSpPr>
        <p:spPr>
          <a:xfrm rot="3528000">
            <a:off x="5142600" y="-8319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"/>
          <p:cNvSpPr/>
          <p:nvPr/>
        </p:nvSpPr>
        <p:spPr>
          <a:xfrm rot="19320600">
            <a:off x="3867480" y="-104580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U"/>
          <p:cNvSpPr/>
          <p:nvPr/>
        </p:nvSpPr>
        <p:spPr>
          <a:xfrm rot="19938600">
            <a:off x="4019040" y="-1143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图片 2" descr=""/>
          <p:cNvPicPr/>
          <p:nvPr/>
        </p:nvPicPr>
        <p:blipFill>
          <a:blip r:embed="rId1"/>
          <a:stretch/>
        </p:blipFill>
        <p:spPr>
          <a:xfrm>
            <a:off x="2544840" y="558720"/>
            <a:ext cx="4054320" cy="4025880"/>
          </a:xfrm>
          <a:prstGeom prst="rect">
            <a:avLst/>
          </a:prstGeom>
          <a:ln w="0">
            <a:noFill/>
          </a:ln>
        </p:spPr>
      </p:pic>
      <p:pic>
        <p:nvPicPr>
          <p:cNvPr id="683" name="遮挡" descr=""/>
          <p:cNvPicPr/>
          <p:nvPr/>
        </p:nvPicPr>
        <p:blipFill>
          <a:blip r:embed="rId2"/>
          <a:srcRect l="46921" t="39035" r="47011" b="39349"/>
          <a:stretch/>
        </p:blipFill>
        <p:spPr>
          <a:xfrm>
            <a:off x="4311720" y="2009880"/>
            <a:ext cx="557280" cy="111276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1" descr=""/>
          <p:cNvPicPr/>
          <p:nvPr/>
        </p:nvPicPr>
        <p:blipFill>
          <a:blip r:embed="rId3"/>
          <a:srcRect l="12510" t="12150" r="17060" b="32196"/>
          <a:stretch/>
        </p:blipFill>
        <p:spPr>
          <a:xfrm>
            <a:off x="3755880" y="1774800"/>
            <a:ext cx="1594080" cy="1593720"/>
          </a:xfrm>
          <a:prstGeom prst="rect">
            <a:avLst/>
          </a:prstGeom>
          <a:ln w="0">
            <a:noFill/>
          </a:ln>
        </p:spPr>
      </p:pic>
      <p:pic>
        <p:nvPicPr>
          <p:cNvPr id="685" name="ren" descr=""/>
          <p:cNvPicPr/>
          <p:nvPr/>
        </p:nvPicPr>
        <p:blipFill>
          <a:blip r:embed="rId4"/>
          <a:srcRect l="14259" t="16041" r="18144" b="24448"/>
          <a:stretch/>
        </p:blipFill>
        <p:spPr>
          <a:xfrm>
            <a:off x="3728880" y="1720800"/>
            <a:ext cx="1690920" cy="1690560"/>
          </a:xfrm>
          <a:prstGeom prst="rect">
            <a:avLst/>
          </a:prstGeom>
          <a:ln w="0">
            <a:noFill/>
          </a:ln>
        </p:spPr>
      </p:pic>
      <p:sp>
        <p:nvSpPr>
          <p:cNvPr id="686" name="内圆"/>
          <p:cNvSpPr/>
          <p:nvPr/>
        </p:nvSpPr>
        <p:spPr>
          <a:xfrm>
            <a:off x="3610080" y="1601640"/>
            <a:ext cx="1927080" cy="1927440"/>
          </a:xfrm>
          <a:custGeom>
            <a:avLst/>
            <a:gdLst>
              <a:gd name="textAreaLeft" fmla="*/ 282240 w 1927080"/>
              <a:gd name="textAreaRight" fmla="*/ 1644840 w 1927080"/>
              <a:gd name="textAreaTop" fmla="*/ 282240 h 1927440"/>
              <a:gd name="textAreaBottom" fmla="*/ 1645200 h 192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6" y="10800"/>
                </a:moveTo>
                <a:cubicBezTo>
                  <a:pt x="286" y="16607"/>
                  <a:pt x="4993" y="21314"/>
                  <a:pt x="10800" y="21314"/>
                </a:cubicBezTo>
                <a:cubicBezTo>
                  <a:pt x="16607" y="21314"/>
                  <a:pt x="21314" y="16607"/>
                  <a:pt x="21314" y="10800"/>
                </a:cubicBezTo>
                <a:cubicBezTo>
                  <a:pt x="21314" y="4993"/>
                  <a:pt x="16607" y="286"/>
                  <a:pt x="10800" y="286"/>
                </a:cubicBezTo>
                <a:cubicBezTo>
                  <a:pt x="4993" y="286"/>
                  <a:pt x="286" y="4993"/>
                  <a:pt x="286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外圆"/>
          <p:cNvSpPr/>
          <p:nvPr/>
        </p:nvSpPr>
        <p:spPr>
          <a:xfrm>
            <a:off x="3419640" y="1413000"/>
            <a:ext cx="2304720" cy="2305080"/>
          </a:xfrm>
          <a:custGeom>
            <a:avLst/>
            <a:gdLst>
              <a:gd name="textAreaLeft" fmla="*/ 337320 w 2304720"/>
              <a:gd name="textAreaRight" fmla="*/ 1967400 w 2304720"/>
              <a:gd name="textAreaTop" fmla="*/ 337320 h 2305080"/>
              <a:gd name="textAreaBottom" fmla="*/ 19677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56" y="10800"/>
                </a:moveTo>
                <a:cubicBezTo>
                  <a:pt x="1256" y="16071"/>
                  <a:pt x="5529" y="20344"/>
                  <a:pt x="10800" y="20344"/>
                </a:cubicBezTo>
                <a:cubicBezTo>
                  <a:pt x="16071" y="20344"/>
                  <a:pt x="20344" y="16071"/>
                  <a:pt x="20344" y="10800"/>
                </a:cubicBezTo>
                <a:cubicBezTo>
                  <a:pt x="20344" y="5529"/>
                  <a:pt x="16071" y="1256"/>
                  <a:pt x="10800" y="1256"/>
                </a:cubicBezTo>
                <a:cubicBezTo>
                  <a:pt x="5529" y="1256"/>
                  <a:pt x="1256" y="5529"/>
                  <a:pt x="1256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mption"/>
          <p:cNvSpPr/>
          <p:nvPr/>
        </p:nvSpPr>
        <p:spPr>
          <a:xfrm>
            <a:off x="3546720" y="320976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TION 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同心圆 4"/>
          <p:cNvSpPr/>
          <p:nvPr/>
        </p:nvSpPr>
        <p:spPr>
          <a:xfrm>
            <a:off x="3705120" y="1698480"/>
            <a:ext cx="1737000" cy="1735200"/>
          </a:xfrm>
          <a:custGeom>
            <a:avLst/>
            <a:gdLst>
              <a:gd name="textAreaLeft" fmla="*/ 254160 w 1737000"/>
              <a:gd name="textAreaRight" fmla="*/ 1482840 w 1737000"/>
              <a:gd name="textAreaTop" fmla="*/ 253800 h 1735200"/>
              <a:gd name="textAreaBottom" fmla="*/ 1481400 h 173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91" y="10800"/>
                </a:moveTo>
                <a:cubicBezTo>
                  <a:pt x="1391" y="15996"/>
                  <a:pt x="5604" y="20209"/>
                  <a:pt x="10800" y="20209"/>
                </a:cubicBezTo>
                <a:cubicBezTo>
                  <a:pt x="15996" y="20209"/>
                  <a:pt x="20209" y="15996"/>
                  <a:pt x="20209" y="10800"/>
                </a:cubicBezTo>
                <a:cubicBezTo>
                  <a:pt x="20209" y="5604"/>
                  <a:pt x="15996" y="1391"/>
                  <a:pt x="10800" y="1391"/>
                </a:cubicBezTo>
                <a:cubicBezTo>
                  <a:pt x="5604" y="1391"/>
                  <a:pt x="1391" y="5604"/>
                  <a:pt x="1391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5"/>
          <a:stretch/>
        </p:blipFill>
        <p:spPr>
          <a:xfrm>
            <a:off x="3589200" y="1596960"/>
            <a:ext cx="1951200" cy="194940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19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692" name="椭圆 5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6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1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6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6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6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6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3" dur="600" fill="hold"/>
                                        <p:tgtEl>
                                          <p:spTgt spid="68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5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8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4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6" presetSubtype="32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3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36" dur="200" fill="hold"/>
                                        <p:tgtEl>
                                          <p:spTgt spid="68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8.33333E-007 0.54167 L 0.06927 0.64445 E">
                                      <p:cBhvr>
                                        <p:cTn id="138" dur="1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5E-006 0.54166 L 0.05781 0.66605 E">
                                      <p:cBhvr>
                                        <p:cTn id="140" dur="1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3.05556E-006 0.54167 L 0.04149 0.68488 E">
                                      <p:cBhvr>
                                        <p:cTn id="142" dur="1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94444E-006 0.54167 L 0.02413 0.69661 E">
                                      <p:cBhvr>
                                        <p:cTn id="144" dur="1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4.72222E-006 0.54167 L -0.03247 0.69383 E">
                                      <p:cBhvr>
                                        <p:cTn id="146" dur="1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61111E-006 0.54167 L -0.04983 0.67624 E">
                                      <p:cBhvr>
                                        <p:cTn id="148" dur="1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2.77778E-007 0.54166 L -0.06684 0.65031 E">
                                      <p:cBhvr>
                                        <p:cTn id="150" dur="1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3.05556E-006 0.54167 L -0.07899 0.6247 E">
                                      <p:cBhvr>
                                        <p:cTn id="152" dur="1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42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1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1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1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1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1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1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45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1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3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2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11" dur="200" fill="hold"/>
                                        <p:tgtEl>
                                          <p:spTgt spid="6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13" dur="300" fill="hold"/>
                                        <p:tgtEl>
                                          <p:spTgt spid="6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3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20" dur="2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22" dur="300" fill="hold"/>
                                        <p:tgtEl>
                                          <p:spTgt spid="694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24" dur="2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26" dur="300" fill="hold"/>
                                        <p:tgtEl>
                                          <p:spTgt spid="69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3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33" dur="2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35" dur="300" fill="hold"/>
                                        <p:tgtEl>
                                          <p:spTgt spid="695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37" dur="2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39" dur="300" fill="hold"/>
                                        <p:tgtEl>
                                          <p:spTgt spid="69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4" dur="3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48" dur="300" fill="hold"/>
                                        <p:tgtEl>
                                          <p:spTgt spid="697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0" dur="2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52" dur="300" fill="hold"/>
                                        <p:tgtEl>
                                          <p:spTgt spid="69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59" dur="2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61" dur="300" fill="hold"/>
                                        <p:tgtEl>
                                          <p:spTgt spid="70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63" dur="2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65" dur="300" fill="hold"/>
                                        <p:tgtEl>
                                          <p:spTgt spid="70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3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72" dur="200" fill="hold"/>
                                        <p:tgtEl>
                                          <p:spTgt spid="69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74" dur="300" fill="hold"/>
                                        <p:tgtEl>
                                          <p:spTgt spid="69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76" dur="200" fill="hold"/>
                                        <p:tgtEl>
                                          <p:spTgt spid="6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78" dur="300" fill="hold"/>
                                        <p:tgtEl>
                                          <p:spTgt spid="696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3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85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87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89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91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3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98" dur="200" fill="hold"/>
                                        <p:tgtEl>
                                          <p:spTgt spid="699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300" dur="300" fill="hold"/>
                                        <p:tgtEl>
                                          <p:spTgt spid="699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302" dur="200" fill="hold"/>
                                        <p:tgtEl>
                                          <p:spTgt spid="6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304" dur="300" fill="hold"/>
                                        <p:tgtEl>
                                          <p:spTgt spid="69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311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15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317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0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711" name="椭圆 15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16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3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714" name="椭圆 10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11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8"/>
          <p:cNvSpPr/>
          <p:nvPr/>
        </p:nvSpPr>
        <p:spPr>
          <a:xfrm>
            <a:off x="6631200" y="23749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4"/>
          <p:cNvSpPr/>
          <p:nvPr/>
        </p:nvSpPr>
        <p:spPr>
          <a:xfrm>
            <a:off x="6190560" y="3570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"/>
          <p:cNvSpPr/>
          <p:nvPr/>
        </p:nvSpPr>
        <p:spPr>
          <a:xfrm>
            <a:off x="1200600" y="1349280"/>
            <a:ext cx="13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2"/>
          <p:cNvSpPr/>
          <p:nvPr/>
        </p:nvSpPr>
        <p:spPr>
          <a:xfrm>
            <a:off x="2638800" y="17928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5"/>
          <p:cNvSpPr/>
          <p:nvPr/>
        </p:nvSpPr>
        <p:spPr>
          <a:xfrm>
            <a:off x="5317920" y="5652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7"/>
          <p:cNvSpPr/>
          <p:nvPr/>
        </p:nvSpPr>
        <p:spPr>
          <a:xfrm>
            <a:off x="1271520" y="3197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6"/>
          <p:cNvSpPr/>
          <p:nvPr/>
        </p:nvSpPr>
        <p:spPr>
          <a:xfrm>
            <a:off x="2643480" y="4032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2"/>
          <p:cNvSpPr/>
          <p:nvPr/>
        </p:nvSpPr>
        <p:spPr>
          <a:xfrm>
            <a:off x="4715640" y="45165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1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1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1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1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5" dur="1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1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6" dur="1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68" dur="2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70" dur="300" fill="hold"/>
                                        <p:tgtEl>
                                          <p:spTgt spid="716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72" dur="2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74" dur="300" fill="hold"/>
                                        <p:tgtEl>
                                          <p:spTgt spid="71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" dur="1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81" dur="2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83" dur="300" fill="hold"/>
                                        <p:tgtEl>
                                          <p:spTgt spid="717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5" dur="2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87" dur="300" fill="hold"/>
                                        <p:tgtEl>
                                          <p:spTgt spid="71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2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2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4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99" dur="2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01" dur="300" fill="hold"/>
                                        <p:tgtEl>
                                          <p:spTgt spid="71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1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08" dur="2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10" dur="300" fill="hold"/>
                                        <p:tgtEl>
                                          <p:spTgt spid="718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12" dur="2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14" dur="300" fill="hold"/>
                                        <p:tgtEl>
                                          <p:spTgt spid="71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1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21" dur="200" fill="hold"/>
                                        <p:tgtEl>
                                          <p:spTgt spid="719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23" dur="300" fill="hold"/>
                                        <p:tgtEl>
                                          <p:spTgt spid="719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7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427" dur="300" fill="hold"/>
                                        <p:tgtEl>
                                          <p:spTgt spid="71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1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34" dur="200" fill="hold"/>
                                        <p:tgtEl>
                                          <p:spTgt spid="72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436" dur="300" fill="hold"/>
                                        <p:tgtEl>
                                          <p:spTgt spid="72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38" dur="200" fill="hold"/>
                                        <p:tgtEl>
                                          <p:spTgt spid="7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40" dur="300" fill="hold"/>
                                        <p:tgtEl>
                                          <p:spTgt spid="72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1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47" dur="200" fill="hold"/>
                                        <p:tgtEl>
                                          <p:spTgt spid="72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49" dur="300" fill="hold"/>
                                        <p:tgtEl>
                                          <p:spTgt spid="72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51" dur="200" fill="hold"/>
                                        <p:tgtEl>
                                          <p:spTgt spid="7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53" dur="300" fill="hold"/>
                                        <p:tgtEl>
                                          <p:spTgt spid="72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460" dur="2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62" dur="300" fill="hold"/>
                                        <p:tgtEl>
                                          <p:spTgt spid="722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64" dur="2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66" dur="300" fill="hold"/>
                                        <p:tgtEl>
                                          <p:spTgt spid="72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1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73" dur="2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75" dur="300" fill="hold"/>
                                        <p:tgtEl>
                                          <p:spTgt spid="723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77" dur="2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9" dur="300" fill="hold"/>
                                        <p:tgtEl>
                                          <p:spTgt spid="72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1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1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2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2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1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3" dur="1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1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8" dur="1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2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2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8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1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1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8" dur="1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725" name="椭圆 8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9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0"/>
          <p:cNvSpPr/>
          <p:nvPr/>
        </p:nvSpPr>
        <p:spPr>
          <a:xfrm>
            <a:off x="1836720" y="1847880"/>
            <a:ext cx="547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WHAT E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1"/>
          <p:cNvSpPr/>
          <p:nvPr/>
        </p:nvSpPr>
        <p:spPr>
          <a:xfrm>
            <a:off x="1564920" y="1787400"/>
            <a:ext cx="59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ORTFOLI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7"/>
          <p:cNvGrpSpPr/>
          <p:nvPr/>
        </p:nvGrpSpPr>
        <p:grpSpPr>
          <a:xfrm>
            <a:off x="395280" y="3098880"/>
            <a:ext cx="2521080" cy="1554120"/>
            <a:chOff x="395280" y="3098880"/>
            <a:chExt cx="2521080" cy="1554120"/>
          </a:xfrm>
        </p:grpSpPr>
        <p:sp>
          <p:nvSpPr>
            <p:cNvPr id="730" name="矩形 15"/>
            <p:cNvSpPr/>
            <p:nvPr/>
          </p:nvSpPr>
          <p:spPr>
            <a:xfrm>
              <a:off x="395280" y="309888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3"/>
            <p:cNvSpPr/>
            <p:nvPr/>
          </p:nvSpPr>
          <p:spPr>
            <a:xfrm>
              <a:off x="725760" y="35460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0"/>
          <p:cNvGrpSpPr/>
          <p:nvPr/>
        </p:nvGrpSpPr>
        <p:grpSpPr>
          <a:xfrm>
            <a:off x="395280" y="434880"/>
            <a:ext cx="2521080" cy="1555920"/>
            <a:chOff x="395280" y="434880"/>
            <a:chExt cx="2521080" cy="1555920"/>
          </a:xfrm>
        </p:grpSpPr>
        <p:sp>
          <p:nvSpPr>
            <p:cNvPr id="733" name="矩形 11"/>
            <p:cNvSpPr/>
            <p:nvPr/>
          </p:nvSpPr>
          <p:spPr>
            <a:xfrm>
              <a:off x="39528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16"/>
            <p:cNvSpPr/>
            <p:nvPr/>
          </p:nvSpPr>
          <p:spPr>
            <a:xfrm>
              <a:off x="72576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13"/>
          <p:cNvGrpSpPr/>
          <p:nvPr/>
        </p:nvGrpSpPr>
        <p:grpSpPr>
          <a:xfrm>
            <a:off x="3311640" y="434880"/>
            <a:ext cx="2520720" cy="1555920"/>
            <a:chOff x="3311640" y="434880"/>
            <a:chExt cx="2520720" cy="1555920"/>
          </a:xfrm>
        </p:grpSpPr>
        <p:sp>
          <p:nvSpPr>
            <p:cNvPr id="736" name="矩形 2"/>
            <p:cNvSpPr/>
            <p:nvPr/>
          </p:nvSpPr>
          <p:spPr>
            <a:xfrm>
              <a:off x="3311640" y="434880"/>
              <a:ext cx="252072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矩形 17"/>
            <p:cNvSpPr/>
            <p:nvPr/>
          </p:nvSpPr>
          <p:spPr>
            <a:xfrm>
              <a:off x="36313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16"/>
          <p:cNvGrpSpPr/>
          <p:nvPr/>
        </p:nvGrpSpPr>
        <p:grpSpPr>
          <a:xfrm>
            <a:off x="6227640" y="434880"/>
            <a:ext cx="2521080" cy="1555920"/>
            <a:chOff x="6227640" y="434880"/>
            <a:chExt cx="2521080" cy="1555920"/>
          </a:xfrm>
        </p:grpSpPr>
        <p:sp>
          <p:nvSpPr>
            <p:cNvPr id="739" name="矩形 12"/>
            <p:cNvSpPr/>
            <p:nvPr/>
          </p:nvSpPr>
          <p:spPr>
            <a:xfrm>
              <a:off x="622764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矩形 18"/>
            <p:cNvSpPr/>
            <p:nvPr/>
          </p:nvSpPr>
          <p:spPr>
            <a:xfrm>
              <a:off x="65581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19"/>
          <p:cNvGrpSpPr/>
          <p:nvPr/>
        </p:nvGrpSpPr>
        <p:grpSpPr>
          <a:xfrm>
            <a:off x="6227640" y="3122640"/>
            <a:ext cx="2521080" cy="1554120"/>
            <a:chOff x="6227640" y="3122640"/>
            <a:chExt cx="2521080" cy="1554120"/>
          </a:xfrm>
        </p:grpSpPr>
        <p:sp>
          <p:nvSpPr>
            <p:cNvPr id="742" name="矩形 14"/>
            <p:cNvSpPr/>
            <p:nvPr/>
          </p:nvSpPr>
          <p:spPr>
            <a:xfrm>
              <a:off x="6227640" y="312264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19"/>
            <p:cNvSpPr/>
            <p:nvPr/>
          </p:nvSpPr>
          <p:spPr>
            <a:xfrm>
              <a:off x="655812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22"/>
          <p:cNvGrpSpPr/>
          <p:nvPr/>
        </p:nvGrpSpPr>
        <p:grpSpPr>
          <a:xfrm>
            <a:off x="3300480" y="3122640"/>
            <a:ext cx="2520720" cy="1554120"/>
            <a:chOff x="3300480" y="3122640"/>
            <a:chExt cx="2520720" cy="1554120"/>
          </a:xfrm>
        </p:grpSpPr>
        <p:sp>
          <p:nvSpPr>
            <p:cNvPr id="745" name="矩形 13"/>
            <p:cNvSpPr/>
            <p:nvPr/>
          </p:nvSpPr>
          <p:spPr>
            <a:xfrm>
              <a:off x="3300480" y="3122640"/>
              <a:ext cx="252072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0"/>
            <p:cNvSpPr/>
            <p:nvPr/>
          </p:nvSpPr>
          <p:spPr>
            <a:xfrm>
              <a:off x="364176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25"/>
          <p:cNvGrpSpPr/>
          <p:nvPr/>
        </p:nvGrpSpPr>
        <p:grpSpPr>
          <a:xfrm>
            <a:off x="395280" y="6051600"/>
            <a:ext cx="2521080" cy="1555560"/>
            <a:chOff x="395280" y="6051600"/>
            <a:chExt cx="2521080" cy="1555560"/>
          </a:xfrm>
        </p:grpSpPr>
        <p:sp>
          <p:nvSpPr>
            <p:cNvPr id="748" name="矩形 28"/>
            <p:cNvSpPr/>
            <p:nvPr/>
          </p:nvSpPr>
          <p:spPr>
            <a:xfrm>
              <a:off x="395280" y="605160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矩形 29"/>
            <p:cNvSpPr/>
            <p:nvPr/>
          </p:nvSpPr>
          <p:spPr>
            <a:xfrm>
              <a:off x="7257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8"/>
          <p:cNvGrpSpPr/>
          <p:nvPr/>
        </p:nvGrpSpPr>
        <p:grpSpPr>
          <a:xfrm>
            <a:off x="3300480" y="6051600"/>
            <a:ext cx="2520720" cy="1555560"/>
            <a:chOff x="3300480" y="6051600"/>
            <a:chExt cx="2520720" cy="1555560"/>
          </a:xfrm>
        </p:grpSpPr>
        <p:sp>
          <p:nvSpPr>
            <p:cNvPr id="751" name="矩形 31"/>
            <p:cNvSpPr/>
            <p:nvPr/>
          </p:nvSpPr>
          <p:spPr>
            <a:xfrm>
              <a:off x="3300480" y="6051600"/>
              <a:ext cx="252072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矩形 32"/>
            <p:cNvSpPr/>
            <p:nvPr/>
          </p:nvSpPr>
          <p:spPr>
            <a:xfrm>
              <a:off x="36309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31"/>
          <p:cNvGrpSpPr/>
          <p:nvPr/>
        </p:nvGrpSpPr>
        <p:grpSpPr>
          <a:xfrm>
            <a:off x="6227640" y="6027840"/>
            <a:ext cx="2521080" cy="1555560"/>
            <a:chOff x="6227640" y="6027840"/>
            <a:chExt cx="2521080" cy="1555560"/>
          </a:xfrm>
        </p:grpSpPr>
        <p:sp>
          <p:nvSpPr>
            <p:cNvPr id="754" name="矩形 34"/>
            <p:cNvSpPr/>
            <p:nvPr/>
          </p:nvSpPr>
          <p:spPr>
            <a:xfrm>
              <a:off x="6227640" y="602784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35"/>
            <p:cNvSpPr/>
            <p:nvPr/>
          </p:nvSpPr>
          <p:spPr>
            <a:xfrm>
              <a:off x="6558120" y="645156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34"/>
          <p:cNvGrpSpPr/>
          <p:nvPr/>
        </p:nvGrpSpPr>
        <p:grpSpPr>
          <a:xfrm>
            <a:off x="6245280" y="8836200"/>
            <a:ext cx="2519280" cy="1555560"/>
            <a:chOff x="6245280" y="8836200"/>
            <a:chExt cx="2519280" cy="1555560"/>
          </a:xfrm>
        </p:grpSpPr>
        <p:sp>
          <p:nvSpPr>
            <p:cNvPr id="757" name="矩形 37"/>
            <p:cNvSpPr/>
            <p:nvPr/>
          </p:nvSpPr>
          <p:spPr>
            <a:xfrm>
              <a:off x="6245280" y="8836200"/>
              <a:ext cx="25192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矩形 38"/>
            <p:cNvSpPr/>
            <p:nvPr/>
          </p:nvSpPr>
          <p:spPr>
            <a:xfrm>
              <a:off x="6575040" y="92599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7"/>
          <p:cNvGrpSpPr/>
          <p:nvPr/>
        </p:nvGrpSpPr>
        <p:grpSpPr>
          <a:xfrm>
            <a:off x="3313080" y="8834400"/>
            <a:ext cx="2519280" cy="1555920"/>
            <a:chOff x="3313080" y="8834400"/>
            <a:chExt cx="2519280" cy="1555920"/>
          </a:xfrm>
        </p:grpSpPr>
        <p:sp>
          <p:nvSpPr>
            <p:cNvPr id="760" name="矩形 40"/>
            <p:cNvSpPr/>
            <p:nvPr/>
          </p:nvSpPr>
          <p:spPr>
            <a:xfrm>
              <a:off x="3313080" y="8834400"/>
              <a:ext cx="25192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矩形 41"/>
            <p:cNvSpPr/>
            <p:nvPr/>
          </p:nvSpPr>
          <p:spPr>
            <a:xfrm>
              <a:off x="364284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40"/>
          <p:cNvGrpSpPr/>
          <p:nvPr/>
        </p:nvGrpSpPr>
        <p:grpSpPr>
          <a:xfrm>
            <a:off x="395280" y="8834400"/>
            <a:ext cx="2521080" cy="1555920"/>
            <a:chOff x="395280" y="8834400"/>
            <a:chExt cx="2521080" cy="1555920"/>
          </a:xfrm>
        </p:grpSpPr>
        <p:sp>
          <p:nvSpPr>
            <p:cNvPr id="763" name="矩形 43"/>
            <p:cNvSpPr/>
            <p:nvPr/>
          </p:nvSpPr>
          <p:spPr>
            <a:xfrm>
              <a:off x="395280" y="883440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矩形 44"/>
            <p:cNvSpPr/>
            <p:nvPr/>
          </p:nvSpPr>
          <p:spPr>
            <a:xfrm>
              <a:off x="72576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24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4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4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7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553" dur="100" fill="hold"/>
                                        <p:tgtEl>
                                          <p:spTgt spid="728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00122 0 L 0.00122 -0.02809 E">
                                      <p:cBhvr>
                                        <p:cTn id="555" dur="1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62" dur="100" fill="hold"/>
                                        <p:tgtEl>
                                          <p:spTgt spid="7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64" dur="200" fill="hold"/>
                                        <p:tgtEl>
                                          <p:spTgt spid="73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66" dur="100" fill="hold"/>
                                        <p:tgtEl>
                                          <p:spTgt spid="7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68" dur="200" fill="hold"/>
                                        <p:tgtEl>
                                          <p:spTgt spid="73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3" dur="1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75" dur="1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77" dur="200" fill="hold"/>
                                        <p:tgtEl>
                                          <p:spTgt spid="72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79" dur="1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81" dur="200" fill="hold"/>
                                        <p:tgtEl>
                                          <p:spTgt spid="72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6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88" dur="100" fill="hold"/>
                                        <p:tgtEl>
                                          <p:spTgt spid="7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590" dur="200" fill="hold"/>
                                        <p:tgtEl>
                                          <p:spTgt spid="73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92" dur="100" fill="hold"/>
                                        <p:tgtEl>
                                          <p:spTgt spid="7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594" dur="200" fill="hold"/>
                                        <p:tgtEl>
                                          <p:spTgt spid="73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1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01" dur="1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03" dur="200" fill="hold"/>
                                        <p:tgtEl>
                                          <p:spTgt spid="73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05" dur="1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07" dur="200" fill="hold"/>
                                        <p:tgtEl>
                                          <p:spTgt spid="7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2" dur="1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14" dur="100" fill="hold"/>
                                        <p:tgtEl>
                                          <p:spTgt spid="74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616" dur="200" fill="hold"/>
                                        <p:tgtEl>
                                          <p:spTgt spid="74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18" dur="100" fill="hold"/>
                                        <p:tgtEl>
                                          <p:spTgt spid="7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20" dur="200" fill="hold"/>
                                        <p:tgtEl>
                                          <p:spTgt spid="74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27" dur="1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29" dur="200" fill="hold"/>
                                        <p:tgtEl>
                                          <p:spTgt spid="74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31" dur="1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633" dur="200" fill="hold"/>
                                        <p:tgtEl>
                                          <p:spTgt spid="74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5" dur="3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82716E-006 L -0.004 1.09044 E">
                                      <p:cBhvr>
                                        <p:cTn id="637" dur="5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9" dur="3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29626E-006 L 3.61111E-006 1.11956 E">
                                      <p:cBhvr>
                                        <p:cTn id="641" dur="5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940">
                                      <p:cBhvr>
                                        <p:cTn id="643" dur="3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-2.07909E-006 L -3.61111E-006 1.09144 E">
                                      <p:cBhvr>
                                        <p:cTn id="645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940">
                                      <p:cBhvr>
                                        <p:cTn id="647" dur="3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2.78344E-006 L -3.61111E-006 1.11492 E">
                                      <p:cBhvr>
                                        <p:cTn id="649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51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2.07909E-006 L 0 1.07754 E">
                                      <p:cBhvr>
                                        <p:cTn id="653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940">
                                      <p:cBhvr>
                                        <p:cTn id="655" dur="3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72222E-006 2.78344E-006 L 0.00122 1.11492 E">
                                      <p:cBhvr>
                                        <p:cTn id="657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59" dur="5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4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61" dur="3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3" dur="4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6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65" dur="5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4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67" dur="3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9" dur="4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64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71" dur="5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3" dur="3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75" dur="4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64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77" dur="5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2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9" dur="3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81" dur="4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45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64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88" dur="5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42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90" dur="3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2" dur="4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64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94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42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96" dur="3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8" dur="4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842040" y="1708200"/>
            <a:ext cx="7473240" cy="1727280"/>
            <a:chOff x="842040" y="1708200"/>
            <a:chExt cx="7473240" cy="1727280"/>
          </a:xfrm>
        </p:grpSpPr>
        <p:sp>
          <p:nvSpPr>
            <p:cNvPr id="766" name="矩形 1"/>
            <p:cNvSpPr/>
            <p:nvPr/>
          </p:nvSpPr>
          <p:spPr>
            <a:xfrm>
              <a:off x="842040" y="2310480"/>
              <a:ext cx="40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An illustration goes her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梯形 3"/>
            <p:cNvSpPr/>
            <p:nvPr/>
          </p:nvSpPr>
          <p:spPr>
            <a:xfrm flipV="1" rot="16200000">
              <a:off x="6119640" y="1239840"/>
              <a:ext cx="1727280" cy="2664000"/>
            </a:xfrm>
            <a:custGeom>
              <a:avLst/>
              <a:gdLst>
                <a:gd name="textAreaLeft" fmla="*/ 207360 w 1727280"/>
                <a:gd name="textAreaRight" fmla="*/ 1519920 w 1727280"/>
                <a:gd name="textAreaTop" fmla="*/ 320040 h 2664000"/>
                <a:gd name="textAreaBottom" fmla="*/ 234396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90" y="21600"/>
                  </a:lnTo>
                  <a:lnTo>
                    <a:pt x="2001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矩形 4"/>
            <p:cNvSpPr/>
            <p:nvPr/>
          </p:nvSpPr>
          <p:spPr>
            <a:xfrm>
              <a:off x="5887080" y="215640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6"/>
          <p:cNvGrpSpPr/>
          <p:nvPr/>
        </p:nvGrpSpPr>
        <p:grpSpPr>
          <a:xfrm>
            <a:off x="6561000" y="-2176560"/>
            <a:ext cx="2665440" cy="1728720"/>
            <a:chOff x="6561000" y="-2176560"/>
            <a:chExt cx="2665440" cy="1728720"/>
          </a:xfrm>
        </p:grpSpPr>
        <p:sp>
          <p:nvSpPr>
            <p:cNvPr id="770" name="梯形 6"/>
            <p:cNvSpPr/>
            <p:nvPr/>
          </p:nvSpPr>
          <p:spPr>
            <a:xfrm flipV="1" rot="5400000">
              <a:off x="7029360" y="-2644920"/>
              <a:ext cx="1728720" cy="2665440"/>
            </a:xfrm>
            <a:custGeom>
              <a:avLst/>
              <a:gdLst>
                <a:gd name="textAreaLeft" fmla="*/ 207720 w 1728720"/>
                <a:gd name="textAreaRight" fmla="*/ 1521000 w 1728720"/>
                <a:gd name="textAreaTop" fmla="*/ 320040 h 2665440"/>
                <a:gd name="textAreaBottom" fmla="*/ 234540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90" y="21600"/>
                  </a:lnTo>
                  <a:lnTo>
                    <a:pt x="2001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矩形 7"/>
            <p:cNvSpPr/>
            <p:nvPr/>
          </p:nvSpPr>
          <p:spPr>
            <a:xfrm>
              <a:off x="6797520" y="-172188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矩形 2"/>
          <p:cNvSpPr/>
          <p:nvPr/>
        </p:nvSpPr>
        <p:spPr>
          <a:xfrm>
            <a:off x="9243000" y="230976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ther on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2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2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708" dur="1300" fill="hold"/>
                                        <p:tgtEl>
                                          <p:spTgt spid="765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6997 0.05591 L -0.60729 0.75656 E">
                                      <p:cBhvr>
                                        <p:cTn id="714" dur="9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-3.39203E-006 L -0.48993 -3.39203E-006 E">
                                      <p:cBhvr>
                                        <p:cTn id="716" dur="9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18" dur="1300" fill="hold"/>
                                        <p:tgtEl>
                                          <p:spTgt spid="769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20" dur="1300" fill="hold"/>
                                        <p:tgtEl>
                                          <p:spTgt spid="772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roup 2"/>
          <p:cNvGrpSpPr/>
          <p:nvPr/>
        </p:nvGrpSpPr>
        <p:grpSpPr>
          <a:xfrm>
            <a:off x="1986120" y="5388120"/>
            <a:ext cx="5173200" cy="2643840"/>
            <a:chOff x="1986120" y="5388120"/>
            <a:chExt cx="5173200" cy="2643840"/>
          </a:xfrm>
        </p:grpSpPr>
        <p:sp>
          <p:nvSpPr>
            <p:cNvPr id="774" name="矩形 4"/>
            <p:cNvSpPr/>
            <p:nvPr/>
          </p:nvSpPr>
          <p:spPr>
            <a:xfrm>
              <a:off x="2058480" y="5480280"/>
              <a:ext cx="50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Calibri"/>
                </a:rPr>
                <a:t>THIS PROJECT WAS MADE WITH THE VER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5"/>
            <p:cNvSpPr/>
            <p:nvPr/>
          </p:nvSpPr>
          <p:spPr>
            <a:xfrm>
              <a:off x="1992960" y="5388120"/>
              <a:ext cx="2384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000000"/>
                  </a:solidFill>
                  <a:latin typeface="Calibri"/>
                </a:rPr>
                <a:t>CS4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矩形 6"/>
            <p:cNvSpPr/>
            <p:nvPr/>
          </p:nvSpPr>
          <p:spPr>
            <a:xfrm>
              <a:off x="4201560" y="5866920"/>
              <a:ext cx="28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OF AFTER EFFE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矩形 7"/>
            <p:cNvSpPr/>
            <p:nvPr/>
          </p:nvSpPr>
          <p:spPr>
            <a:xfrm>
              <a:off x="4318920" y="6360120"/>
              <a:ext cx="26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alibri"/>
                </a:rPr>
                <a:t>IN HD RE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矩形 8"/>
            <p:cNvSpPr/>
            <p:nvPr/>
          </p:nvSpPr>
          <p:spPr>
            <a:xfrm>
              <a:off x="1986120" y="6474960"/>
              <a:ext cx="5173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00000"/>
                  </a:solidFill>
                  <a:latin typeface="Calibri"/>
                </a:rPr>
                <a:t>1280X720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8"/>
          <p:cNvGrpSpPr/>
          <p:nvPr/>
        </p:nvGrpSpPr>
        <p:grpSpPr>
          <a:xfrm>
            <a:off x="1206360" y="2120760"/>
            <a:ext cx="6730920" cy="880200"/>
            <a:chOff x="1206360" y="2120760"/>
            <a:chExt cx="6730920" cy="880200"/>
          </a:xfrm>
        </p:grpSpPr>
        <p:sp>
          <p:nvSpPr>
            <p:cNvPr id="780" name="矩形 1"/>
            <p:cNvSpPr/>
            <p:nvPr/>
          </p:nvSpPr>
          <p:spPr>
            <a:xfrm>
              <a:off x="1206360" y="2120760"/>
              <a:ext cx="67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ERE YOU CAN PLACE YOUR OWN MESS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"/>
            <p:cNvSpPr/>
            <p:nvPr/>
          </p:nvSpPr>
          <p:spPr>
            <a:xfrm>
              <a:off x="2378520" y="248040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OR INSERT ANOTHER MED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t"/>
          <p:cNvSpPr/>
          <p:nvPr/>
        </p:nvSpPr>
        <p:spPr>
          <a:xfrm>
            <a:off x="2057760" y="1276200"/>
            <a:ext cx="50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alibri"/>
              </a:rPr>
              <a:t>THIS PROJECT WAS MADE WITH THE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c"/>
          <p:cNvSpPr/>
          <p:nvPr/>
        </p:nvSpPr>
        <p:spPr>
          <a:xfrm>
            <a:off x="1992240" y="1203480"/>
            <a:ext cx="2384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CS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"/>
          <p:cNvSpPr/>
          <p:nvPr/>
        </p:nvSpPr>
        <p:spPr>
          <a:xfrm>
            <a:off x="4201200" y="163512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AFT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i"/>
          <p:cNvSpPr/>
          <p:nvPr/>
        </p:nvSpPr>
        <p:spPr>
          <a:xfrm>
            <a:off x="4318200" y="213984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IN H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1"/>
          <p:cNvSpPr/>
          <p:nvPr/>
        </p:nvSpPr>
        <p:spPr>
          <a:xfrm>
            <a:off x="1986120" y="2298600"/>
            <a:ext cx="517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00000"/>
                </a:solidFill>
                <a:latin typeface="Calibri"/>
              </a:rPr>
              <a:t>1280X7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1192320" y="777960"/>
            <a:ext cx="6602400" cy="373068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17"/>
          <p:cNvGrpSpPr/>
          <p:nvPr/>
        </p:nvGrpSpPr>
        <p:grpSpPr>
          <a:xfrm>
            <a:off x="1137240" y="1874880"/>
            <a:ext cx="6870960" cy="1335960"/>
            <a:chOff x="1137240" y="1874880"/>
            <a:chExt cx="6870960" cy="1335960"/>
          </a:xfrm>
        </p:grpSpPr>
        <p:sp>
          <p:nvSpPr>
            <p:cNvPr id="789" name="矩形 9"/>
            <p:cNvSpPr/>
            <p:nvPr/>
          </p:nvSpPr>
          <p:spPr>
            <a:xfrm>
              <a:off x="1137240" y="1874880"/>
              <a:ext cx="687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33"/>
                  </a:solidFill>
                  <a:latin typeface="Calibri"/>
                </a:rPr>
                <a:t>THIS IS ANOTHER P LACE FOR YOU 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11"/>
            <p:cNvSpPr/>
            <p:nvPr/>
          </p:nvSpPr>
          <p:spPr>
            <a:xfrm>
              <a:off x="2908800" y="2019600"/>
              <a:ext cx="330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Calibri"/>
                </a:rPr>
                <a:t>EDIT IT !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732" dur="3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45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-0.82593 L 0 -0.81945 E">
                                      <p:cBhvr>
                                        <p:cTn id="743" dur="1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2" dur="200" fill="hold"/>
                                        <p:tgtEl>
                                          <p:spTgt spid="7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4" dur="100" fill="hold"/>
                                        <p:tgtEl>
                                          <p:spTgt spid="78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6" dur="200" fill="hold"/>
                                        <p:tgtEl>
                                          <p:spTgt spid="78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8" dur="100" fill="hold"/>
                                        <p:tgtEl>
                                          <p:spTgt spid="78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70" dur="200" fill="hold"/>
                                        <p:tgtEl>
                                          <p:spTgt spid="7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772" dur="100" fill="hold"/>
                                        <p:tgtEl>
                                          <p:spTgt spid="78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774" dur="200" fill="hold"/>
                                        <p:tgtEl>
                                          <p:spTgt spid="78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6" dur="100" fill="hold"/>
                                        <p:tgtEl>
                                          <p:spTgt spid="78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8" dur="200" fill="hold"/>
                                        <p:tgtEl>
                                          <p:spTgt spid="7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780" dur="100" fill="hold"/>
                                        <p:tgtEl>
                                          <p:spTgt spid="78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45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3995640" y="1995480"/>
            <a:ext cx="1152720" cy="1152360"/>
            <a:chOff x="3995640" y="1995480"/>
            <a:chExt cx="1152720" cy="1152360"/>
          </a:xfrm>
        </p:grpSpPr>
        <p:sp>
          <p:nvSpPr>
            <p:cNvPr id="792" name="椭圆 1"/>
            <p:cNvSpPr/>
            <p:nvPr/>
          </p:nvSpPr>
          <p:spPr>
            <a:xfrm>
              <a:off x="3995640" y="1995480"/>
              <a:ext cx="1152720" cy="1152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2"/>
            <p:cNvSpPr/>
            <p:nvPr/>
          </p:nvSpPr>
          <p:spPr>
            <a:xfrm>
              <a:off x="4030560" y="2217600"/>
              <a:ext cx="108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FOL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E 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5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795" name="矩形 11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矩形 12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8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798" name="矩形 17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矩形 18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11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01" name="矩形 20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矩形 21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14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04" name="矩形 23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矩形 24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17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07" name="矩形 26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矩形 27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20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10" name="矩形 29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矩形 30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0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2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22" dur="200" fill="hold"/>
                                        <p:tgtEl>
                                          <p:spTgt spid="7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24" dur="100" fill="hold"/>
                                        <p:tgtEl>
                                          <p:spTgt spid="7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700000">
                                      <p:cBhvr>
                                        <p:cTn id="828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30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32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34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36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40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42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44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46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50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2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54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8" dur="1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60" dur="1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64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68" dur="4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0" dur="4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2" dur="4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4" dur="4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6" dur="4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8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80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4" dur="4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4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4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4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4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4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4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4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4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2" dur="4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4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4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4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4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9" dur="4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4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4" dur="4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1:58:00Z</dcterms:created>
  <dc:creator>Microsoft</dc:creator>
  <dc:description/>
  <cp:keywords/>
  <dc:language>en-US</dc:language>
  <cp:lastModifiedBy>Administrator</cp:lastModifiedBy>
  <dcterms:modified xsi:type="dcterms:W3CDTF">2016-08-10T05:39:54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