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539288" cy="53276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B5BF-8483-4B8C-9DE6-B8F7E19A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4443-C233-4D18-A19B-F13DBC5A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170-EA81-472C-9B40-0BE61D8B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6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0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2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6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0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344-798A-4C67-B119-30DAE638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99F4-0EAB-47EE-AEFA-054790AC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826-7AA5-45A6-B77A-6DD07754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630-A728-4A69-9ED6-7447B438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117-3520-4969-8F9C-DCB8BFE6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6280" y="212400"/>
            <a:ext cx="85867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EC33-D614-41AB-8ECE-C50E1AA7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1C63-5A3F-47D0-92B6-C0823AC3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AA7-966C-4169-94DF-E74BF734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252D-FFC9-4B4D-B5B2-C1FB2A9E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1000"/>
          </a:bodyPr>
          <a:p>
            <a:pPr marL="295920" indent="-295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116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197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82400" indent="-197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9080" y="4851360"/>
            <a:ext cx="30211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53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1310-512D-4A3E-BD59-61BF75EE8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22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83.png"/><Relationship Id="rId7" Type="http://schemas.openxmlformats.org/officeDocument/2006/relationships/image" Target="../media/image84.png"/><Relationship Id="rId8" Type="http://schemas.openxmlformats.org/officeDocument/2006/relationships/image" Target="../media/image85.png"/><Relationship Id="rId9" Type="http://schemas.openxmlformats.org/officeDocument/2006/relationships/image" Target="../media/image86.png"/><Relationship Id="rId10" Type="http://schemas.openxmlformats.org/officeDocument/2006/relationships/image" Target="../media/image87.png"/><Relationship Id="rId11" Type="http://schemas.openxmlformats.org/officeDocument/2006/relationships/image" Target="../media/image76.png"/><Relationship Id="rId12" Type="http://schemas.openxmlformats.org/officeDocument/2006/relationships/image" Target="../media/image76.png"/><Relationship Id="rId13" Type="http://schemas.openxmlformats.org/officeDocument/2006/relationships/image" Target="../media/image76.png"/><Relationship Id="rId14" Type="http://schemas.openxmlformats.org/officeDocument/2006/relationships/image" Target="../media/image76.png"/><Relationship Id="rId15" Type="http://schemas.openxmlformats.org/officeDocument/2006/relationships/image" Target="../media/image88.png"/><Relationship Id="rId16" Type="http://schemas.openxmlformats.org/officeDocument/2006/relationships/image" Target="../media/image89.png"/><Relationship Id="rId17" Type="http://schemas.openxmlformats.org/officeDocument/2006/relationships/image" Target="../media/image90.png"/><Relationship Id="rId18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38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45.png"/><Relationship Id="rId1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42" name="Rihanna take a bow" descr=""/>
          <p:cNvPicPr/>
          <p:nvPr/>
        </p:nvPicPr>
        <p:blipFill>
          <a:blip r:embed="rId2"/>
          <a:stretch/>
        </p:blipFill>
        <p:spPr>
          <a:xfrm>
            <a:off x="95400" y="4927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5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2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4187880"/>
            <a:ext cx="9539280" cy="1139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0" y="3755880"/>
            <a:ext cx="9539280" cy="419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312920" y="1217520"/>
            <a:ext cx="1779480" cy="2249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3714840" y="1008000"/>
            <a:ext cx="2109600" cy="266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537240" y="1200240"/>
            <a:ext cx="16891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4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4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6" presetSubtype="32">
                                  <p:stCondLst>
                                    <p:cond delay="78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65" dur="99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4385" t="18212" r="5989" b="0"/>
          <a:stretch/>
        </p:blipFill>
        <p:spPr>
          <a:xfrm>
            <a:off x="419040" y="969840"/>
            <a:ext cx="8550360" cy="4357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6" presetSubtype="32">
                                  <p:stCondLst>
                                    <p:cond delay="4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13" dur="99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94000" y="1319040"/>
            <a:ext cx="5343840" cy="268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13916" r="18069" b="19234"/>
          <a:stretch/>
        </p:blipFill>
        <p:spPr>
          <a:xfrm>
            <a:off x="4349880" y="1693800"/>
            <a:ext cx="4379760" cy="1797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409840" y="990720"/>
            <a:ext cx="2000160" cy="3346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409840" y="1727280"/>
            <a:ext cx="2000160" cy="495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2409840" y="2239920"/>
            <a:ext cx="2000160" cy="10717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8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1080" y="566640"/>
            <a:ext cx="7931160" cy="2962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80920" y="3611520"/>
            <a:ext cx="3651480" cy="781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1176480"/>
            <a:ext cx="811080" cy="2974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8740800" y="1176480"/>
            <a:ext cx="798480" cy="2974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996840" y="773280"/>
            <a:ext cx="7545600" cy="253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0" y="4522680"/>
            <a:ext cx="9539280" cy="8780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1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1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82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0" y="1008000"/>
            <a:ext cx="9539280" cy="26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143000" y="1371600"/>
            <a:ext cx="6291360" cy="2013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7618320" y="2592360"/>
            <a:ext cx="895320" cy="932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0" y="3745080"/>
            <a:ext cx="9539280" cy="353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0" y="4176720"/>
            <a:ext cx="9539280" cy="809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3762360" y="1584360"/>
            <a:ext cx="828720" cy="341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5562720" y="2492280"/>
            <a:ext cx="828720" cy="343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55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907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00800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67692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952560" y="3745080"/>
            <a:ext cx="2036880" cy="846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622920" y="3745080"/>
            <a:ext cx="2035440" cy="846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3041640" y="1197000"/>
            <a:ext cx="3413160" cy="2932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6" presetSubtype="16">
                                  <p:stCondLst>
                                    <p:cond delay="6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2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6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35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096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97180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518328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72914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123516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3398760" y="2922480"/>
            <a:ext cx="749520" cy="389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5608800" y="2922480"/>
            <a:ext cx="750600" cy="389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772308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1"/>
          <a:srcRect l="0" t="37952" r="0" b="0"/>
          <a:stretch/>
        </p:blipFill>
        <p:spPr>
          <a:xfrm>
            <a:off x="59364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2"/>
          <a:srcRect l="0" t="37952" r="0" b="0"/>
          <a:stretch/>
        </p:blipFill>
        <p:spPr>
          <a:xfrm>
            <a:off x="275580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3"/>
          <a:srcRect l="0" t="37952" r="0" b="0"/>
          <a:stretch/>
        </p:blipFill>
        <p:spPr>
          <a:xfrm>
            <a:off x="496584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4"/>
          <a:srcRect l="0" t="37952" r="0" b="0"/>
          <a:stretch/>
        </p:blipFill>
        <p:spPr>
          <a:xfrm>
            <a:off x="707400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5"/>
          <a:stretch/>
        </p:blipFill>
        <p:spPr>
          <a:xfrm>
            <a:off x="7723080" y="4014720"/>
            <a:ext cx="1005120" cy="541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6"/>
          <a:srcRect l="0" t="19952" r="0" b="0"/>
          <a:stretch/>
        </p:blipFill>
        <p:spPr>
          <a:xfrm>
            <a:off x="0" y="4486320"/>
            <a:ext cx="9539280" cy="839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7"/>
          <a:srcRect l="2476" t="40106" r="2895" b="-3652"/>
          <a:stretch/>
        </p:blipFill>
        <p:spPr>
          <a:xfrm>
            <a:off x="304920" y="4210200"/>
            <a:ext cx="9028080" cy="3459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path" presetID="35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85402 0.001788 L -1.144911 0.001788 E">
                                      <p:cBhvr>
                                        <p:cTn id="955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2698 -0.006913 L 0.075551 -0.007032 E">
                                      <p:cBhvr>
                                        <p:cTn id="961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2" nodeType="withEffect" fill="hold" presetClass="path" presetID="35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0.090594 -0.007032 L -0.943487 -0.006675 E">
                                      <p:cBhvr>
                                        <p:cTn id="96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path" presetID="51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0 0 L -0.04 0.08933 C -0.049 0.108 -0.054 0.136 -0.054 0.16533 C -0.054 0.19867 -0.049 0.22533 -0.04 0.244 L 0 0.33333 E">
                                      <p:cBhvr>
                                        <p:cTn id="97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6" presetSubtype="32">
                                  <p:stCondLst>
                                    <p:cond delay="1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00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532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52560" y="2914560"/>
            <a:ext cx="4621320" cy="2413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57520" y="1728720"/>
            <a:ext cx="936720" cy="147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413240" y="1892160"/>
            <a:ext cx="5127480" cy="15433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1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2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7940" t="5208" r="5616" b="5404"/>
          <a:stretch/>
        </p:blipFill>
        <p:spPr>
          <a:xfrm>
            <a:off x="3521160" y="1349280"/>
            <a:ext cx="2570040" cy="2627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373640" y="2313000"/>
            <a:ext cx="828720" cy="701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454120" y="755640"/>
            <a:ext cx="1657440" cy="170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218360" y="1295280"/>
            <a:ext cx="2084400" cy="354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rcRect l="2910" t="7388" r="7427" b="5525"/>
          <a:stretch/>
        </p:blipFill>
        <p:spPr>
          <a:xfrm>
            <a:off x="5610240" y="988920"/>
            <a:ext cx="1485720" cy="1481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2394000" y="2664000"/>
            <a:ext cx="1657440" cy="1701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rcRect l="3974" t="7028" r="7687" b="7875"/>
          <a:stretch/>
        </p:blipFill>
        <p:spPr>
          <a:xfrm>
            <a:off x="5626080" y="2884320"/>
            <a:ext cx="1465200" cy="1446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304920" y="1195560"/>
            <a:ext cx="2200320" cy="433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378000" y="3860640"/>
            <a:ext cx="2095200" cy="244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7218360" y="3860640"/>
            <a:ext cx="2030400" cy="2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4584600" y="0"/>
            <a:ext cx="3353040" cy="1649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1103400" y="287280"/>
            <a:ext cx="4243320" cy="3448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 repeatCount="6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6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 repeatCount="6000">
                                  <p:stCondLst>
                                    <p:cond delay="2000"/>
                                  </p:stCondLst>
                                  <p:childTnLst>
                                    <p:animRot by="-21599219">
                                      <p:cBhvr>
                                        <p:cTn id="7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 repeatCount="5000">
                                  <p:stCondLst>
                                    <p:cond delay="7000"/>
                                  </p:stCondLst>
                                  <p:childTnLst>
                                    <p:animRot by="-21599280">
                                      <p:cBhvr>
                                        <p:cTn id="8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 repeatCount="4000">
                                  <p:stCondLst>
                                    <p:cond delay="11500"/>
                                  </p:stCondLst>
                                  <p:childTnLst>
                                    <p:animRot by="-21599219">
                                      <p:cBhvr>
                                        <p:cTn id="8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 repeatCount="3000">
                                  <p:stCondLst>
                                    <p:cond delay="15500"/>
                                  </p:stCondLst>
                                  <p:childTnLst>
                                    <p:animRot by="-21599219">
                                      <p:cBhvr>
                                        <p:cTn id="9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499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6" presetSubtype="32">
                                  <p:stCondLst>
                                    <p:cond delay="227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9" dur="998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22319" r="62831" b="8780"/>
          <a:stretch/>
        </p:blipFill>
        <p:spPr>
          <a:xfrm>
            <a:off x="4962600" y="593640"/>
            <a:ext cx="1701720" cy="171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rcRect l="36083" t="60078" r="14204" b="18270"/>
          <a:stretch/>
        </p:blipFill>
        <p:spPr>
          <a:xfrm>
            <a:off x="6664320" y="1622520"/>
            <a:ext cx="2274840" cy="536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132680" y="2725560"/>
            <a:ext cx="2116080" cy="2017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418000" y="3733920"/>
            <a:ext cx="2219400" cy="585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88920" y="1295280"/>
            <a:ext cx="3651120" cy="779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0" y="2158920"/>
            <a:ext cx="4705200" cy="207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999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999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45728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481640" y="305928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50240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0" y="3406680"/>
            <a:ext cx="9539280" cy="1920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0" y="3852720"/>
            <a:ext cx="9539280" cy="1474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7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7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42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7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42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7840" cy="5327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6040" cy="781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486320" y="0"/>
            <a:ext cx="566640" cy="5327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486320" y="11523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486320" y="21747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4486320" y="324000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4486320" y="4264200"/>
            <a:ext cx="566640" cy="56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2212920" y="129528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2212920" y="337356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5052960" y="230364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5052960" y="439272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5052960" y="1295280"/>
            <a:ext cx="639720" cy="298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3"/>
          <a:stretch/>
        </p:blipFill>
        <p:spPr>
          <a:xfrm>
            <a:off x="3816360" y="2274840"/>
            <a:ext cx="669960" cy="316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4"/>
          <a:stretch/>
        </p:blipFill>
        <p:spPr>
          <a:xfrm>
            <a:off x="5052960" y="3348000"/>
            <a:ext cx="689040" cy="384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5"/>
          <a:stretch/>
        </p:blipFill>
        <p:spPr>
          <a:xfrm>
            <a:off x="3814920" y="4356000"/>
            <a:ext cx="658800" cy="3351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7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7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7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7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7" presetSubtype="2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6" presetSubtype="32">
                                  <p:stCondLst>
                                    <p:cond delay="95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816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3808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3808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07332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307332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515952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724860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515952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724860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880920" y="158436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11472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520236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7289640" y="158436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9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53:16Z</dcterms:created>
  <dc:creator>Administrator</dc:creator>
  <dc:description/>
  <dc:language>en-US</dc:language>
  <cp:lastModifiedBy/>
  <dcterms:modified xsi:type="dcterms:W3CDTF">2014-04-24T11:51:4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