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629B-B6B5-411A-A625-91067DFBF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BCB3-3978-4E96-BBAA-911D28999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25A7-1F8F-4FBB-AC17-5963C3DB6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3404-48D7-4FB4-B2EC-707AAA114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5F3B-0DEA-40F4-97EE-3022DE57A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AE44-EE34-4082-B261-82FBCA311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40AE-2AB9-4DBB-BB38-95753F1B8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643E-AAF4-4072-860D-617F988BF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EEDF-2F38-41BA-8FC7-4D25BED1A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DF0D-CB00-4181-B5A5-A4985480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C18F-6A73-4C14-853C-1B62862E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C0DA-30E9-4AFA-BB92-6A71D2CD6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38D44-2A64-407D-A727-F427DE09C27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56F15-0C6C-4978-84B4-C7B90DDA40B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slide-1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1" descr="slide-10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1" descr="slide-11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1" descr="slide-12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1" descr="slide-13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1" descr="slide-14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1" descr="slide-15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1" descr="slide-16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1" descr="slide-17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1" descr="slide-18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1" descr="slide-19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1" descr="slide-2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1" descr="slide-20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图片 1" descr="slide-21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图片 1" descr="slide-22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图片 1" descr="slide-23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1" descr="slide-24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图片 1" descr="slide-25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图片 1" descr="slide-26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图片 1" descr="slide-27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图片 1" descr="slide-28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图片 1" descr="slide-29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1" descr="slide-3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图片 1" descr="slide-30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1" descr="slide-31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图片 1" descr="slide-32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图片 1" descr="slide-33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1" descr="slide-4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" descr="slide-5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1" descr="slide-6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1" descr="slide-7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slide-8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1" descr="slide-9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0T16:10:00Z</dcterms:created>
  <dc:creator>陈魁</dc:creator>
  <dc:description/>
  <dc:language>en-US</dc:language>
  <cp:lastModifiedBy>for_yang@qq.com</cp:lastModifiedBy>
  <dcterms:modified xsi:type="dcterms:W3CDTF">2014-07-19T08:04:59Z</dcterms:modified>
  <cp:revision>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