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8D9-92DD-4163-97EB-88C83968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795-22FE-4C34-B84E-EA36D54C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F8B-D755-4416-8426-CE6D5D0B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B71-7D27-475D-88DF-13CECC53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B14-9AFC-42D8-9241-F279BDFA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579-E80F-4029-867E-D9D5B6B2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541-66B5-4014-8102-FCAA54EC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BBA-B256-4B81-BFEB-7A1A9B7E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8DF-91B1-441C-8A9C-5D5FF755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7B7-8ACD-4F4B-9B95-B7AB2692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098-BACA-4F59-AB9E-A9BB1A75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1D2-5E55-40F5-92D5-0E41BFBB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0CC4-D9FB-4715-A77C-675F08BCE19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11EB-EDFC-442F-81E5-7869985457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slide-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slide-1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slide-1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slide-1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slide-1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slide-1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slide-1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slide-1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slide-1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slide-1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slide-1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slide-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slide-2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slide-2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slide-2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slide-2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slide-2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slide-2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slide-2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slide-2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slide-2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slide-2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slide-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slide-3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slide-3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slide-3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slide-3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slide-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slide-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slide-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slide-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slide-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slide-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16:10:00Z</dcterms:created>
  <dc:creator>陈魁</dc:creator>
  <dc:description/>
  <dc:language>en-US</dc:language>
  <cp:lastModifiedBy>for_yang@qq.com</cp:lastModifiedBy>
  <dcterms:modified xsi:type="dcterms:W3CDTF">2014-07-19T08:04:59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