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1C45-4B58-4495-BAF3-708E33D38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E338-D51F-4E04-9C7F-5CD3B990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0119-1C7F-4D22-8A7B-CF52A112B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6E6D-FBC0-4DCC-9EA3-B23EEA32E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B89C-E5F3-4502-84EA-814E4AF7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6B3A-3FC6-4349-AC2B-D067D2E1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0D91-0630-45EB-A815-25242647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7F6A-8F2D-4628-BF27-50DE361B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19D2-F7F2-43BE-A402-BC7BA75E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5207-598D-452E-A726-E3F53ABD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0E8E-747F-4C43-9095-4FD57C4F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ACC8-3136-46B6-A6ED-87E0D0E1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D56C-9160-47BF-922F-04D485AA55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封面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C:\Users\冰凝\Desktop\ppt 比赛\未标题-1-01.jpg"/>
          <p:cNvPicPr/>
          <p:nvPr/>
        </p:nvPicPr>
        <p:blipFill>
          <a:blip r:embed="rId1"/>
          <a:stretch/>
        </p:blipFill>
        <p:spPr>
          <a:xfrm>
            <a:off x="0" y="0"/>
            <a:ext cx="1218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目录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C:\Users\冰凝\Desktop\ppt 比赛\未标题-1-02.jpg"/>
          <p:cNvPicPr/>
          <p:nvPr/>
        </p:nvPicPr>
        <p:blipFill>
          <a:blip r:embed="rId1"/>
          <a:stretch/>
        </p:blipFill>
        <p:spPr>
          <a:xfrm>
            <a:off x="0" y="0"/>
            <a:ext cx="1218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C:\Users\冰凝\Desktop\ppt 比赛\未标题-1-03.jpg"/>
          <p:cNvPicPr/>
          <p:nvPr/>
        </p:nvPicPr>
        <p:blipFill>
          <a:blip r:embed="rId1"/>
          <a:stretch/>
        </p:blipFill>
        <p:spPr>
          <a:xfrm>
            <a:off x="0" y="0"/>
            <a:ext cx="1218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C:\Users\冰凝\Desktop\ppt 比赛\未标题-1-04.jpg"/>
          <p:cNvPicPr/>
          <p:nvPr/>
        </p:nvPicPr>
        <p:blipFill>
          <a:blip r:embed="rId1"/>
          <a:stretch/>
        </p:blipFill>
        <p:spPr>
          <a:xfrm>
            <a:off x="4680" y="0"/>
            <a:ext cx="1218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冰凝\Desktop\ppt 比赛\未标题-1-05.jpg"/>
          <p:cNvPicPr/>
          <p:nvPr/>
        </p:nvPicPr>
        <p:blipFill>
          <a:blip r:embed="rId1"/>
          <a:stretch/>
        </p:blipFill>
        <p:spPr>
          <a:xfrm>
            <a:off x="3240" y="-3240"/>
            <a:ext cx="121888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自定义页（可选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C:\Users\冰凝\Desktop\ppt 比赛\未标题-1-06.jpg"/>
          <p:cNvPicPr/>
          <p:nvPr/>
        </p:nvPicPr>
        <p:blipFill>
          <a:blip r:embed="rId1"/>
          <a:stretch/>
        </p:blipFill>
        <p:spPr>
          <a:xfrm>
            <a:off x="0" y="0"/>
            <a:ext cx="1218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自定义页（可选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冰凝\Desktop\ppt 比赛\未标题-1-07.jpg"/>
          <p:cNvPicPr/>
          <p:nvPr/>
        </p:nvPicPr>
        <p:blipFill>
          <a:blip r:embed="rId1"/>
          <a:stretch/>
        </p:blipFill>
        <p:spPr>
          <a:xfrm>
            <a:off x="4680" y="0"/>
            <a:ext cx="1218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自定义页（可选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冰凝\Desktop\ppt 比赛\未标题-1-08.jpg"/>
          <p:cNvPicPr/>
          <p:nvPr/>
        </p:nvPicPr>
        <p:blipFill>
          <a:blip r:embed="rId1"/>
          <a:stretch/>
        </p:blipFill>
        <p:spPr>
          <a:xfrm>
            <a:off x="0" y="-3240"/>
            <a:ext cx="121888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微软用户</cp:lastModifiedBy>
  <dcterms:modified xsi:type="dcterms:W3CDTF">2014-09-06T14:41:4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