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7.wmf" ContentType="image/x-wmf"/>
  <Override PartName="/ppt/media/image8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C8C-69D7-4A7B-9C11-CE4809F9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78F-AB07-4B54-A467-52F0ED4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080-9715-416B-9880-C9D40011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932-2099-4CA4-9C3F-05C7C257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68EA-5077-44FF-B3A7-C6548B3C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BF7A-E4CC-464C-8C46-696EC319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64F2-7969-435A-A4D1-4E77C2D3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B669-4A60-41F9-A5DE-EFA50ED4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565E-DBE0-46B9-9D38-587C238F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B5F5-281A-4A25-BF28-CE341019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1289-D0C0-46B5-AD05-0EF90D46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05C-6CD8-4DD9-945F-55EC1393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7BE4-A3E3-473B-AE39-BC3D940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9121-9057-4363-88FB-CDCEBA1A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8EE7-30A5-4A1B-85F1-2ED476AC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99D-1F1A-4600-BEFF-35649BA6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A30A-7439-4F9B-87B5-8F827169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442B-CF80-458C-8FC2-8081EC93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06EF-A774-4314-B348-8274305F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9113-E4E0-4768-B775-D3FE90CF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8178-9E37-4D76-A3A0-C661C67C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B124-EB25-45DC-93AE-EF56125F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495-2F82-4FD3-B7F8-817E47FC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7E37-4104-414B-A96D-52729173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C3D3-F1E2-44A6-B92F-A4E599BE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9ACC-DE82-4DC4-914D-A6EF7B8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1D73-A28F-43DE-8DA0-F01D8FF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F93A-4ACF-4785-9E82-1808538E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9EC4-ADFA-42A2-96DC-BCE1AAB7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03C8-06D3-4FB7-84EC-E5849454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E05-AFA2-4858-9002-3BBD3076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793-7CBD-49C9-BD9F-B452EB6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3EE-1579-4841-9FF4-3CAACC4E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058-703F-473C-97D0-E5383893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08F-2CBA-458F-9333-9487762C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926-07B9-428D-8922-A5D0777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5F1D-BBE5-497C-BCCF-93A671083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0CD7-CF30-4EFD-925E-8D0AC1A507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D9A-23DE-41DA-AC81-94B2943C8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f67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f67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e3789"/>
                </a:gs>
                <a:gs pos="50000">
                  <a:srgbClr val="af67ff"/>
                </a:gs>
                <a:gs pos="100000">
                  <a:srgbClr val="5e37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0"/>
                  </a:srgbClr>
                </a:gs>
                <a:gs pos="100000">
                  <a:srgbClr val="6e4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26d89"/>
                </a:gs>
                <a:gs pos="50000">
                  <a:srgbClr val="99ccff"/>
                </a:gs>
                <a:gs pos="100000">
                  <a:srgbClr val="52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608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090e2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dbffe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7947b1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e4"/>
                </a:gs>
                <a:gs pos="100000">
                  <a:srgbClr val="3333cc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12187"/>
                </a:gs>
                <a:gs pos="100000">
                  <a:srgbClr val="3333cc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cb9dfe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9e9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dedfe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4e9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cedfe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233360" y="3166200"/>
              <a:ext cx="1647720" cy="656640"/>
              <a:chOff x="1233360" y="3166200"/>
              <a:chExt cx="1647720" cy="65664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521000" y="3166200"/>
                <a:ext cx="1360080" cy="616680"/>
                <a:chOff x="1521000" y="3166200"/>
                <a:chExt cx="1360080" cy="616680"/>
              </a:xfrm>
            </p:grpSpPr>
            <p:sp>
              <p:nvSpPr>
                <p:cNvPr id="544" name=""/>
                <p:cNvSpPr/>
                <p:nvPr/>
              </p:nvSpPr>
              <p:spPr>
                <a:xfrm flipH="1" flipV="1" rot="3964800">
                  <a:off x="2262600" y="297936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549" name="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3" name="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280880" y="5522040"/>
              <a:ext cx="1647720" cy="656640"/>
              <a:chOff x="1280880" y="5522040"/>
              <a:chExt cx="1647720" cy="6566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1568520" y="5522040"/>
                <a:ext cx="1360080" cy="616680"/>
                <a:chOff x="1568520" y="5522040"/>
                <a:chExt cx="1360080" cy="61668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3964800">
                  <a:off x="2310120" y="53352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564" name="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8" name="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69" name="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7a7d1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3" name="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a7d1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77" name="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f54d1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87" name="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1" name="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5" name="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599" name="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06" name="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0" name="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a6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37" name="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1" name="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4" name="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b7da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3e0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5" name="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56" name="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0" name="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4" name="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68" name="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5b6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1" name="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2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081a1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Puzzle2"/>
              <p:cNvSpPr/>
              <p:nvPr/>
            </p:nvSpPr>
            <p:spPr>
              <a:xfrm>
                <a:off x="4043880" y="344664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e6e6fe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Puzzle4"/>
              <p:cNvSpPr/>
              <p:nvPr/>
            </p:nvSpPr>
            <p:spPr>
              <a:xfrm>
                <a:off x="2971080" y="342036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595e3"/>
                  </a:gs>
                  <a:gs pos="100000">
                    <a:srgbClr val="3333cc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502f75"/>
                  </a:gs>
                  <a:gs pos="100000">
                    <a:srgbClr val="af67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67ff">
                  <a:alpha val="50196"/>
                </a:srgbClr>
              </a:gs>
              <a:gs pos="100000">
                <a:srgbClr val="d2abfe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3acfe"/>
              </a:gs>
              <a:gs pos="100000">
                <a:srgbClr val="af67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2abfe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d1a42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d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18" name="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19" name="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4" name="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29" name="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0" name="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5" name="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0" name="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1" name="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46" name="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0" name="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1" name="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66" name="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7b4fe"/>
              </a:gs>
              <a:gs pos="100000">
                <a:srgbClr val="af67ff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798" name="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4" name="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07" name="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0" name="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a6a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dddfe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3d8fe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868d8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8bfe"/>
              </a:gs>
              <a:gs pos="50000">
                <a:srgbClr val="af67ff"/>
              </a:gs>
              <a:gs pos="100000">
                <a:srgbClr val="c18b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7d7fe"/>
              </a:gs>
              <a:gs pos="50000">
                <a:srgbClr val="ccccff"/>
              </a:gs>
              <a:gs pos="100000">
                <a:srgbClr val="d7d7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dec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4" name="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4" name="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2" name="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1" name="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3" name="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9f9fe">
                  <a:alpha val="80392"/>
                </a:srgbClr>
              </a:gs>
              <a:gs pos="100000">
                <a:srgbClr val="cccc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4cdfe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93040" y="28764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178160" y="4083120"/>
            <a:ext cx="14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787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05eea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cbbea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becfe"/>
                </a:gs>
                <a:gs pos="100000">
                  <a:srgbClr val="99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9b9ec"/>
                </a:gs>
                <a:gs pos="100000">
                  <a:srgbClr val="3333cc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495b"/>
                </a:gs>
                <a:gs pos="50000">
                  <a:srgbClr val="ccccff"/>
                </a:gs>
                <a:gs pos="100000">
                  <a:srgbClr val="49495b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cecfe"/>
                </a:gs>
                <a:gs pos="100000">
                  <a:srgbClr val="cc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61398e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cda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d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846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4f2f74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bbb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ddd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343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8b6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系统</cp:lastModifiedBy>
  <dcterms:modified xsi:type="dcterms:W3CDTF">2010-04-12T07:34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