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4EE9-B34A-4A38-8FE2-41FBE9D14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CB5E-F8F3-4FB9-B90C-CA4BA29B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82680-0FF3-42A9-939A-9E91BB53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E03ED-E383-4160-8D88-C500B60C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C3444-7B1C-4372-B6A5-2CAE8A3E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70C8E-49B9-4078-AEBE-FA3F600B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AD1A3-C4F2-4C50-9813-785D3693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876C1-B839-40F0-8148-111A2FEA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5BED4-1444-479B-90E1-E66A8CD7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FC2E4-591A-49FB-AFE0-956EDD666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A04E0-4D85-4E68-A313-BA8EF6288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9E9584-A4D2-44A8-80E8-C0E796B6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3838-4635-40C7-87D5-30A4FCF2E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A5FD6-A7C6-4044-9660-A7C03B54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3AAE6-105A-4D04-BA10-5F8959EF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265E7D-F82F-4D5C-97EA-302DD232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C5C3A1-A9B5-4A93-85DF-D9230E7E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50E47-B599-4825-B3B4-BC405F4D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323D0-3225-4FF2-A540-B4C3A49C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08B14-68AA-4F6D-BD5C-711D6287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D2E47-F584-425C-86F7-D71CBC98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136CB1-4187-40E4-9D27-4A8233D4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27946-64E4-428D-B1CC-AE70BD84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750B-A005-4B0A-8EBE-DFBD1179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1358C-3824-4555-BF0D-F5722F4AA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8E486-B07F-4FAC-BAEE-712D880C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A31C7-4F47-4277-A93D-71FFF1C3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5DBC0-DAA9-4813-BFEF-690CB2DC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84A3A-D80E-46C8-866D-953C0C4B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52EF2-B1EA-4852-A0CC-11B88A7D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E7BD3-1AB9-4B75-B4E9-D0E5B824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7B6C6-DCFB-4DB2-BA2A-2E7C4EC2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20D3D-B2E9-45E1-8593-FF66F489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96A74-7A63-4A87-ABF0-94074040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83B2-D7C5-495D-B5BB-8A5B5DFBA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B6A53-A3C6-48B4-B2D4-71DB4F1D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88A28-0FC8-47B9-BCAC-05E5BDDFF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390EB-6B72-4C70-9451-C9034A13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33FB35-02BF-4934-962E-DA83C9FC2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20F35D-4D76-4066-B6C4-CBB9FB3F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B8784C-17E0-4888-9462-2A8BD30E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0DCD7-2910-47CB-8D47-AFC736D2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B39799-375B-41B0-89B6-BDD1A018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762E6E-E627-4327-9F0A-171C6924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526D86-14A4-4385-8D25-1F6C7420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5246-FFCE-42F1-9CEB-8FA92E45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6E50E6-A4F2-4D47-A93A-A5C42E76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C573F1-EECC-4C9D-954A-28BC28A7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C42BF9-CC02-46E2-8E96-DA8A0447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D07CA-E418-4E58-B9F3-D6C8E1BA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CE5994-74CB-42E9-AD09-57CBF2F0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36B0FC-7D74-493C-B397-D5C4B793A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CA4DD9-ED79-49AB-A5B3-4D0E8C95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4B805B-53C5-4C4B-8567-E0E35F71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49DD53-C7A6-4B6E-8445-D7745FE4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17E544-3270-49BB-9683-BDA9D0B3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6571-7AAA-43A4-87A5-AAE09FA1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83584D-5818-4C9C-B6E6-3C1DF932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F0DB6D-59B7-4CFD-9EAA-7E503CB6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DF4C16-5728-4F6A-B060-B6354510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2A303A-CE3E-4CF6-8ACF-0ADA6FAF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A13A39-2C63-48DD-93F0-40E94BC0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379143-3CB1-4DFF-BDB5-0CF265920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EA3C8F-6AC7-4180-959F-74F6421EA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4B04-4DF7-480D-8768-790086E8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B7DC-9095-424D-8CE8-2A2DDD6A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12C9-B386-4E5D-9100-18BABACC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93E2-5305-426B-94A1-71B4203A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7487-3447-4CB3-A951-4C89AAC8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1F88-1E5B-4CD0-81B4-14457757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9E7A-B470-4F2D-A3F7-1C665A42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4FA1-FA54-442A-BF00-20C9A5B8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EF27-D853-4F48-83B7-E7E60036E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D187-4AF6-4857-82CA-1053CADD4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4DFE2-40FD-435E-9EEA-289572C0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2FC21-CF1B-4328-ACB4-59F2BC5F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43496-5E6F-4B79-9B20-6F3A746D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906C0-D5C2-4C5F-AC64-CB172A69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EC005-92CF-4EF5-A129-02760D56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06AB-528C-4D78-9308-939D2F85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BA6FC-9BF9-4C1D-AB28-DBB50DEA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0E2B4-7977-485D-B9AA-BEAC37C1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CFBB0-CF85-4616-851D-34B79BD0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132B1-C6B8-4390-B706-F1E5A63A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121AA-A4D8-4CD0-8213-8E739870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5DB0F-0971-4766-8641-890B32063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E6334-2591-4AF2-91BA-9F4C7CCAB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E78F1-3F54-4A50-B03C-2749D36DB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9CE29-7B74-48F6-AF0E-B3F985AC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547A7-64DA-4B57-9D9A-245B0402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82E7-82FE-48D2-9830-82A5ECCA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E3C82-9B02-401C-8F97-D9BDDFAC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6C0E2-B403-4BE0-9101-DF18D49E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F2AA5-6121-43CD-80F4-00DCA432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12764-10C3-4DC6-8DA6-C459D90A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7790E-217D-4FB9-95A7-6E129F03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6B42B-2BEB-495B-8C96-C81DF83F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82CC4-845C-4B6D-BD6C-8A4F2D91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435E6-7F11-4360-9ADB-FD475BB2E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43728-73DA-464A-BD19-CF00FBBB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7207E-99FF-4FF0-826F-11B5752F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AC94-C5AA-4BF6-BFEA-F9AB563C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6C3CB-5B4D-4AF9-A3AA-AAB9A280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37103-DB07-4B01-92CD-FB6C12CA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0FADE-397F-429D-BF9F-A5EFF035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DE388-3308-4594-801B-B9CA9BFD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AB367-3638-457D-AF84-CFED1E0A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7C32A-00ED-4016-8B0A-2D637474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47F93-9953-45D5-A997-1E8D1376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19BA3-1888-4E2F-9015-87632F0D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C5694-5B32-4736-A6A5-C19B3BF4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6EDF4-364A-4496-B7A1-D3282234B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5736-460C-4D84-A6FF-7027AD2D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FB849-0B1C-497C-8F95-6189F880F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9DAE6-7010-4D77-9EEC-C0A5C254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46B9C-7343-466D-BDBE-F66C1B0F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1C933-FC30-4823-8C23-A1489E72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8C22B-79BB-4954-93B6-7EE5CF0A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BE56F-1646-4304-A6D8-86067FE9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74E24-F72D-4231-B4D0-3D85286A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1B081-A095-4E3E-9374-E0A3A2FF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2F627-3AA6-4885-A956-E5F8EB3C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7A5BC-24EC-499D-8970-E84996D2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AA49-A63D-4B08-B986-0738C251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6B99A-AB1B-4C16-8EB2-79F0D3E5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4E42C-D132-472A-8293-833CF39A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1A07C-8CC2-4946-9963-3EE5834F4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7246F-0AC3-40CC-A541-2ACE321DF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C1E83-54BD-4885-9DEB-86A7D08A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AA5C9-832C-46D3-9300-7BF8F9F1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4B87D-A8EF-48BA-988E-3186E94E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82AF6-BAEA-444C-B6FF-011149CF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FEE0D-7DDC-4179-9E16-476A7861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2308C-F2ED-45BA-89B1-69FA7E3E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EDBD-8DAF-4012-AB42-615F697D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2B31B-32BE-4EB6-BF10-E0BAF1A3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4CF19-11A7-4101-AC96-93FD4527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05E9C-8124-4FD4-98D5-85DBD97D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F91C8-AE84-4672-8170-3010A40D7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CDED1-FED2-4F9C-8ECA-D828F11DC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EDC65-EBF3-4016-87B9-D4FDF6174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6ABE6-16B4-4C82-844B-424BE409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21A7B-F7EB-408B-BA0E-D3E2BE4A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753DD-4212-4DB5-8AAB-217E9E79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55386-B73A-49A9-A51F-9D6E97CD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316B-4ABF-4BE8-AB05-91E772C0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63110-DD44-41CC-A1CB-EA9BE5F4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47780-8DC0-41E8-B0B7-D6A52A3C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43ACD-3C3C-4351-BC37-8C13103A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36E02-F987-4E3A-A711-5B40594C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39D41-E4FB-481C-AB87-7426FAB4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3DEEA-8805-408F-8927-2A014DBE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5D370-A888-4FF6-8453-8BB832C09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EE893-525F-4C05-83C3-7FF8F00DA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94C78-EE00-490E-9800-F88BFD30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B5630-1E0A-4227-99E5-C953CB1E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E32D-E59C-4A3B-AFF8-E876824850D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F667-5592-418A-B12B-588B34F60BF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475D-31B9-497B-888E-90932848C5E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D57D-B697-4376-AE5C-6D2E04B6C76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51C8-A820-422D-AA68-55F70E290C6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D73A-D4FC-4407-98BA-77C5608969F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8C94-54CE-43E1-BCBD-90331D8CCF8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7BD9-A6DA-4959-9324-B0A8EB2BBE7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BF6D-6007-4400-B8D0-5298180F26C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4FAC-1B8A-417E-823C-E2A9541DCF3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15D7-FF6F-4B7A-BFBC-866EA577D75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D06C-E768-4FCA-9825-D8414E8DEF6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88B7-7DF4-46B8-8F2C-ECC4B003D1A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0A38-75E7-42A5-B369-B92BE6C5F64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2140-668F-41CC-B7D7-E1A0F661B54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0658-AAB4-4DF4-8332-F8D093CF1ED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91D4-E2D1-4457-83B5-6DF0A1D5B49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003B-302F-4306-ABB3-304ADFE8998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4357-523B-42CB-B6DE-37FA1227804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4283-BEA9-45BE-9E65-64A6366892F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D7A4-255E-4967-80A6-23D8E0B1F03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1519-234A-44F4-BAED-D74B5C09BEB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3EAF-0233-4C4C-99F6-8AF93C7B85F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B834-3A34-44EB-BBB2-A1D654122BC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91E1-A59C-4587-9D50-1A40D7F37B0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FC38-43D6-4B1E-B607-8F696958EF4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7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6.png"/><Relationship Id="rId2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3"/>
          <p:cNvSpPr/>
          <p:nvPr/>
        </p:nvSpPr>
        <p:spPr>
          <a:xfrm>
            <a:off x="695160" y="0"/>
            <a:ext cx="2448000" cy="43657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椭圆 4"/>
          <p:cNvSpPr/>
          <p:nvPr/>
        </p:nvSpPr>
        <p:spPr>
          <a:xfrm>
            <a:off x="1019160" y="2182680"/>
            <a:ext cx="1800360" cy="1800360"/>
          </a:xfrm>
          <a:prstGeom prst="ellipse">
            <a:avLst/>
          </a:prstGeom>
          <a:solidFill>
            <a:srgbClr val="5db3b0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5"/>
          <p:cNvSpPr/>
          <p:nvPr/>
        </p:nvSpPr>
        <p:spPr>
          <a:xfrm>
            <a:off x="623880" y="2708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ungsuh"/>
                <a:ea typeface="Gungsuh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6"/>
          <p:cNvSpPr/>
          <p:nvPr/>
        </p:nvSpPr>
        <p:spPr>
          <a:xfrm>
            <a:off x="3863880" y="2349360"/>
            <a:ext cx="71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37373"/>
                </a:solidFill>
                <a:latin typeface="微软雅黑"/>
                <a:ea typeface="造字工房悦黑体验版纤细体"/>
              </a:rPr>
              <a:t>The Presentation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7"/>
          <p:cNvSpPr/>
          <p:nvPr/>
        </p:nvSpPr>
        <p:spPr>
          <a:xfrm>
            <a:off x="3935520" y="36162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微软雅黑"/>
                <a:ea typeface="造字工房悦黑体验版纤细体"/>
              </a:rPr>
              <a:t>Presenter:Jig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2" descr="http://pic19.nipic.com/20120227/5183444_155554647000_2.jpg"/>
          <p:cNvPicPr/>
          <p:nvPr/>
        </p:nvPicPr>
        <p:blipFill>
          <a:blip r:embed="rId1"/>
          <a:srcRect l="0" t="29266" r="0" b="29390"/>
          <a:stretch/>
        </p:blipFill>
        <p:spPr>
          <a:xfrm>
            <a:off x="0" y="0"/>
            <a:ext cx="12173040" cy="3357720"/>
          </a:xfrm>
          <a:prstGeom prst="rect">
            <a:avLst/>
          </a:prstGeom>
          <a:ln w="0">
            <a:noFill/>
          </a:ln>
        </p:spPr>
      </p:pic>
      <p:sp>
        <p:nvSpPr>
          <p:cNvPr id="743" name="椭圆 1"/>
          <p:cNvSpPr/>
          <p:nvPr/>
        </p:nvSpPr>
        <p:spPr>
          <a:xfrm>
            <a:off x="984240" y="1557360"/>
            <a:ext cx="3598920" cy="3598920"/>
          </a:xfrm>
          <a:prstGeom prst="ellipse">
            <a:avLst/>
          </a:prstGeom>
          <a:solidFill>
            <a:srgbClr val="5db3b0"/>
          </a:solidFill>
          <a:ln w="76320">
            <a:solidFill>
              <a:srgbClr val="4797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矩形 2"/>
          <p:cNvSpPr/>
          <p:nvPr/>
        </p:nvSpPr>
        <p:spPr>
          <a:xfrm>
            <a:off x="1262520" y="2695680"/>
            <a:ext cx="304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ungsuh"/>
                <a:ea typeface="Gungsuh"/>
              </a:rPr>
              <a:t>LOG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图片 3" descr=""/>
          <p:cNvPicPr/>
          <p:nvPr/>
        </p:nvPicPr>
        <p:blipFill>
          <a:blip r:embed="rId2"/>
          <a:stretch/>
        </p:blipFill>
        <p:spPr>
          <a:xfrm>
            <a:off x="5951520" y="371808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746" name="图片 4" descr=""/>
          <p:cNvPicPr/>
          <p:nvPr/>
        </p:nvPicPr>
        <p:blipFill>
          <a:blip r:embed="rId3"/>
          <a:stretch/>
        </p:blipFill>
        <p:spPr>
          <a:xfrm>
            <a:off x="5951520" y="47322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747" name="图片 5" descr=""/>
          <p:cNvPicPr/>
          <p:nvPr/>
        </p:nvPicPr>
        <p:blipFill>
          <a:blip r:embed="rId4"/>
          <a:stretch/>
        </p:blipFill>
        <p:spPr>
          <a:xfrm>
            <a:off x="5951520" y="5746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48" name="图片 6" descr=""/>
          <p:cNvPicPr/>
          <p:nvPr/>
        </p:nvPicPr>
        <p:blipFill>
          <a:blip r:embed="rId5"/>
          <a:stretch/>
        </p:blipFill>
        <p:spPr>
          <a:xfrm>
            <a:off x="8975880" y="371808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7" descr=""/>
          <p:cNvPicPr/>
          <p:nvPr/>
        </p:nvPicPr>
        <p:blipFill>
          <a:blip r:embed="rId6"/>
          <a:stretch/>
        </p:blipFill>
        <p:spPr>
          <a:xfrm>
            <a:off x="8975880" y="4732200"/>
            <a:ext cx="720720" cy="719280"/>
          </a:xfrm>
          <a:prstGeom prst="rect">
            <a:avLst/>
          </a:prstGeom>
          <a:ln w="0">
            <a:noFill/>
          </a:ln>
        </p:spPr>
      </p:pic>
      <p:sp>
        <p:nvSpPr>
          <p:cNvPr id="750" name="文本框 8"/>
          <p:cNvSpPr/>
          <p:nvPr/>
        </p:nvSpPr>
        <p:spPr>
          <a:xfrm>
            <a:off x="6672240" y="38466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文本框 10"/>
          <p:cNvSpPr/>
          <p:nvPr/>
        </p:nvSpPr>
        <p:spPr>
          <a:xfrm>
            <a:off x="6672240" y="49258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文本框 11"/>
          <p:cNvSpPr/>
          <p:nvPr/>
        </p:nvSpPr>
        <p:spPr>
          <a:xfrm>
            <a:off x="6672240" y="5940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12"/>
          <p:cNvSpPr/>
          <p:nvPr/>
        </p:nvSpPr>
        <p:spPr>
          <a:xfrm>
            <a:off x="9696600" y="37958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文本框 13"/>
          <p:cNvSpPr/>
          <p:nvPr/>
        </p:nvSpPr>
        <p:spPr>
          <a:xfrm>
            <a:off x="9696600" y="49118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微软雅黑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组合 14"/>
          <p:cNvGrpSpPr/>
          <p:nvPr/>
        </p:nvGrpSpPr>
        <p:grpSpPr>
          <a:xfrm>
            <a:off x="4656240" y="1700280"/>
            <a:ext cx="934920" cy="3997080"/>
            <a:chOff x="4656240" y="1700280"/>
            <a:chExt cx="934920" cy="3997080"/>
          </a:xfrm>
        </p:grpSpPr>
        <p:sp>
          <p:nvSpPr>
            <p:cNvPr id="543" name="任意多边形 9"/>
            <p:cNvSpPr/>
            <p:nvPr/>
          </p:nvSpPr>
          <p:spPr>
            <a:xfrm>
              <a:off x="4656240" y="1700280"/>
              <a:ext cx="934920" cy="3997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 11"/>
            <p:cNvSpPr/>
            <p:nvPr/>
          </p:nvSpPr>
          <p:spPr>
            <a:xfrm>
              <a:off x="4763880" y="3369240"/>
              <a:ext cx="719280" cy="222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任意多边形 16"/>
          <p:cNvSpPr/>
          <p:nvPr/>
        </p:nvSpPr>
        <p:spPr>
          <a:xfrm>
            <a:off x="6743880" y="1700280"/>
            <a:ext cx="936360" cy="3997080"/>
          </a:xfrm>
          <a:prstGeom prst="pie">
            <a:avLst/>
          </a:prstGeom>
          <a:solidFill>
            <a:srgbClr val="5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任意多边形 22"/>
          <p:cNvSpPr/>
          <p:nvPr/>
        </p:nvSpPr>
        <p:spPr>
          <a:xfrm>
            <a:off x="6851520" y="2637000"/>
            <a:ext cx="720720" cy="295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直接连接符 24"/>
          <p:cNvSpPr/>
          <p:nvPr/>
        </p:nvSpPr>
        <p:spPr>
          <a:xfrm>
            <a:off x="1401840" y="3368520"/>
            <a:ext cx="3598920" cy="1800"/>
          </a:xfrm>
          <a:prstGeom prst="line">
            <a:avLst/>
          </a:prstGeom>
          <a:ln w="1260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直接连接符 26"/>
          <p:cNvSpPr/>
          <p:nvPr/>
        </p:nvSpPr>
        <p:spPr>
          <a:xfrm>
            <a:off x="7464600" y="2668680"/>
            <a:ext cx="3600360" cy="1440"/>
          </a:xfrm>
          <a:prstGeom prst="line">
            <a:avLst/>
          </a:prstGeom>
          <a:ln w="1260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27"/>
          <p:cNvSpPr/>
          <p:nvPr/>
        </p:nvSpPr>
        <p:spPr>
          <a:xfrm>
            <a:off x="1774800" y="26496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28"/>
          <p:cNvSpPr/>
          <p:nvPr/>
        </p:nvSpPr>
        <p:spPr>
          <a:xfrm>
            <a:off x="7751880" y="19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29"/>
          <p:cNvSpPr/>
          <p:nvPr/>
        </p:nvSpPr>
        <p:spPr>
          <a:xfrm>
            <a:off x="1271520" y="3471840"/>
            <a:ext cx="35989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 socie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30"/>
          <p:cNvSpPr/>
          <p:nvPr/>
        </p:nvSpPr>
        <p:spPr>
          <a:xfrm>
            <a:off x="7607160" y="2762280"/>
            <a:ext cx="3600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 socie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任意多边形 18"/>
          <p:cNvSpPr/>
          <p:nvPr/>
        </p:nvSpPr>
        <p:spPr>
          <a:xfrm>
            <a:off x="1703520" y="1623960"/>
            <a:ext cx="9245520" cy="4397400"/>
          </a:xfrm>
          <a:prstGeom prst="pie">
            <a:avLst/>
          </a:prstGeom>
          <a:solidFill>
            <a:srgbClr val="ffffff"/>
          </a:solidFill>
          <a:ln w="5724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19"/>
          <p:cNvSpPr/>
          <p:nvPr/>
        </p:nvSpPr>
        <p:spPr>
          <a:xfrm>
            <a:off x="2206800" y="191772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5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20"/>
          <p:cNvSpPr/>
          <p:nvPr/>
        </p:nvSpPr>
        <p:spPr>
          <a:xfrm>
            <a:off x="7756560" y="2135160"/>
            <a:ext cx="23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84%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21"/>
          <p:cNvSpPr/>
          <p:nvPr/>
        </p:nvSpPr>
        <p:spPr>
          <a:xfrm>
            <a:off x="5530680" y="179064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78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23"/>
          <p:cNvSpPr/>
          <p:nvPr/>
        </p:nvSpPr>
        <p:spPr>
          <a:xfrm>
            <a:off x="4743360" y="3757680"/>
            <a:ext cx="162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47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25"/>
          <p:cNvSpPr/>
          <p:nvPr/>
        </p:nvSpPr>
        <p:spPr>
          <a:xfrm>
            <a:off x="2162160" y="2852640"/>
            <a:ext cx="23907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31"/>
          <p:cNvSpPr/>
          <p:nvPr/>
        </p:nvSpPr>
        <p:spPr>
          <a:xfrm>
            <a:off x="7543800" y="3213000"/>
            <a:ext cx="280044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 society. It is no measure of health to be well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5"/>
          <p:cNvSpPr/>
          <p:nvPr/>
        </p:nvSpPr>
        <p:spPr>
          <a:xfrm>
            <a:off x="5375160" y="2259000"/>
            <a:ext cx="17510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6"/>
          <p:cNvSpPr/>
          <p:nvPr/>
        </p:nvSpPr>
        <p:spPr>
          <a:xfrm>
            <a:off x="4653000" y="4532400"/>
            <a:ext cx="180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图表 19" descr=""/>
          <p:cNvPicPr/>
          <p:nvPr/>
        </p:nvPicPr>
        <p:blipFill>
          <a:blip r:embed="rId1"/>
          <a:stretch/>
        </p:blipFill>
        <p:spPr>
          <a:xfrm>
            <a:off x="3287880" y="2278080"/>
            <a:ext cx="5327640" cy="3384360"/>
          </a:xfrm>
          <a:prstGeom prst="rect">
            <a:avLst/>
          </a:prstGeom>
          <a:ln w="0">
            <a:noFill/>
          </a:ln>
        </p:spPr>
      </p:pic>
      <p:grpSp>
        <p:nvGrpSpPr>
          <p:cNvPr id="567" name="组合 71"/>
          <p:cNvGrpSpPr/>
          <p:nvPr/>
        </p:nvGrpSpPr>
        <p:grpSpPr>
          <a:xfrm>
            <a:off x="3562200" y="4486320"/>
            <a:ext cx="1036800" cy="315720"/>
            <a:chOff x="3562200" y="4486320"/>
            <a:chExt cx="1036800" cy="315720"/>
          </a:xfrm>
        </p:grpSpPr>
        <p:sp>
          <p:nvSpPr>
            <p:cNvPr id="568" name="直接连接符 72"/>
            <p:cNvSpPr/>
            <p:nvPr/>
          </p:nvSpPr>
          <p:spPr>
            <a:xfrm flipH="1">
              <a:off x="4414680" y="4486320"/>
              <a:ext cx="184320" cy="315720"/>
            </a:xfrm>
            <a:prstGeom prst="line">
              <a:avLst/>
            </a:prstGeom>
            <a:ln w="12600">
              <a:solidFill>
                <a:srgbClr val="83bec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直接连接符 73"/>
            <p:cNvSpPr/>
            <p:nvPr/>
          </p:nvSpPr>
          <p:spPr>
            <a:xfrm flipH="1">
              <a:off x="3562200" y="4801680"/>
              <a:ext cx="852480" cy="0"/>
            </a:xfrm>
            <a:prstGeom prst="line">
              <a:avLst/>
            </a:prstGeom>
            <a:ln w="12600">
              <a:solidFill>
                <a:srgbClr val="83bec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68"/>
          <p:cNvGrpSpPr/>
          <p:nvPr/>
        </p:nvGrpSpPr>
        <p:grpSpPr>
          <a:xfrm>
            <a:off x="3866760" y="2205000"/>
            <a:ext cx="1274760" cy="504720"/>
            <a:chOff x="3866760" y="2205000"/>
            <a:chExt cx="1274760" cy="504720"/>
          </a:xfrm>
        </p:grpSpPr>
        <p:sp>
          <p:nvSpPr>
            <p:cNvPr id="571" name="直接连接符 69"/>
            <p:cNvSpPr/>
            <p:nvPr/>
          </p:nvSpPr>
          <p:spPr>
            <a:xfrm flipH="1" flipV="1">
              <a:off x="4915080" y="2205000"/>
              <a:ext cx="226440" cy="504720"/>
            </a:xfrm>
            <a:prstGeom prst="line">
              <a:avLst/>
            </a:prstGeom>
            <a:ln w="12600">
              <a:solidFill>
                <a:srgbClr val="b5d8d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70"/>
            <p:cNvSpPr/>
            <p:nvPr/>
          </p:nvSpPr>
          <p:spPr>
            <a:xfrm flipH="1">
              <a:off x="3866760" y="2205000"/>
              <a:ext cx="1048320" cy="0"/>
            </a:xfrm>
            <a:prstGeom prst="line">
              <a:avLst/>
            </a:prstGeom>
            <a:ln w="12600">
              <a:solidFill>
                <a:srgbClr val="b5d8d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组合 28"/>
          <p:cNvGrpSpPr/>
          <p:nvPr/>
        </p:nvGrpSpPr>
        <p:grpSpPr>
          <a:xfrm>
            <a:off x="6743880" y="2206440"/>
            <a:ext cx="1618920" cy="502920"/>
            <a:chOff x="6743880" y="2206440"/>
            <a:chExt cx="1618920" cy="502920"/>
          </a:xfrm>
        </p:grpSpPr>
        <p:sp>
          <p:nvSpPr>
            <p:cNvPr id="574" name="直接连接符 25"/>
            <p:cNvSpPr/>
            <p:nvPr/>
          </p:nvSpPr>
          <p:spPr>
            <a:xfrm flipV="1">
              <a:off x="6743880" y="2206440"/>
              <a:ext cx="287640" cy="502920"/>
            </a:xfrm>
            <a:prstGeom prst="line">
              <a:avLst/>
            </a:prstGeom>
            <a:ln w="12600">
              <a:solidFill>
                <a:srgbClr val="4797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直接连接符 27"/>
            <p:cNvSpPr/>
            <p:nvPr/>
          </p:nvSpPr>
          <p:spPr>
            <a:xfrm>
              <a:off x="7031520" y="2206800"/>
              <a:ext cx="1331280" cy="0"/>
            </a:xfrm>
            <a:prstGeom prst="line">
              <a:avLst/>
            </a:prstGeom>
            <a:ln w="12600">
              <a:solidFill>
                <a:srgbClr val="4797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组合 47"/>
          <p:cNvGrpSpPr/>
          <p:nvPr/>
        </p:nvGrpSpPr>
        <p:grpSpPr>
          <a:xfrm>
            <a:off x="8413920" y="1526040"/>
            <a:ext cx="1492200" cy="1255320"/>
            <a:chOff x="8413920" y="1526040"/>
            <a:chExt cx="1492200" cy="1255320"/>
          </a:xfrm>
        </p:grpSpPr>
        <p:grpSp>
          <p:nvGrpSpPr>
            <p:cNvPr id="581" name="组合 46"/>
            <p:cNvGrpSpPr/>
            <p:nvPr/>
          </p:nvGrpSpPr>
          <p:grpSpPr>
            <a:xfrm>
              <a:off x="8413920" y="1825200"/>
              <a:ext cx="1492200" cy="956160"/>
              <a:chOff x="8413920" y="1825200"/>
              <a:chExt cx="1492200" cy="956160"/>
            </a:xfrm>
          </p:grpSpPr>
          <p:sp>
            <p:nvSpPr>
              <p:cNvPr id="582" name="矩形 29"/>
              <p:cNvSpPr/>
              <p:nvPr/>
            </p:nvSpPr>
            <p:spPr>
              <a:xfrm>
                <a:off x="8413920" y="1825200"/>
                <a:ext cx="1492200" cy="956160"/>
              </a:xfrm>
              <a:prstGeom prst="rect">
                <a:avLst/>
              </a:prstGeom>
              <a:noFill/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矩形 34"/>
              <p:cNvSpPr/>
              <p:nvPr/>
            </p:nvSpPr>
            <p:spPr>
              <a:xfrm>
                <a:off x="8413920" y="2622240"/>
                <a:ext cx="1492200" cy="15912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直接连接符 36"/>
              <p:cNvSpPr/>
              <p:nvPr/>
            </p:nvSpPr>
            <p:spPr>
              <a:xfrm>
                <a:off x="9004320" y="2728440"/>
                <a:ext cx="2649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5" name="组合 42"/>
            <p:cNvGrpSpPr/>
            <p:nvPr/>
          </p:nvGrpSpPr>
          <p:grpSpPr>
            <a:xfrm>
              <a:off x="8820360" y="1559520"/>
              <a:ext cx="316800" cy="265680"/>
              <a:chOff x="8820360" y="1559520"/>
              <a:chExt cx="316800" cy="265680"/>
            </a:xfrm>
          </p:grpSpPr>
          <p:sp>
            <p:nvSpPr>
              <p:cNvPr id="586" name="直接连接符 38"/>
              <p:cNvSpPr/>
              <p:nvPr/>
            </p:nvSpPr>
            <p:spPr>
              <a:xfrm>
                <a:off x="8871840" y="1612440"/>
                <a:ext cx="265320" cy="212760"/>
              </a:xfrm>
              <a:prstGeom prst="line">
                <a:avLst/>
              </a:prstGeom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椭圆 39"/>
              <p:cNvSpPr/>
              <p:nvPr/>
            </p:nvSpPr>
            <p:spPr>
              <a:xfrm>
                <a:off x="8820360" y="1559520"/>
                <a:ext cx="105840" cy="10620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组合 43"/>
            <p:cNvGrpSpPr/>
            <p:nvPr/>
          </p:nvGrpSpPr>
          <p:grpSpPr>
            <a:xfrm>
              <a:off x="9188640" y="1526040"/>
              <a:ext cx="305280" cy="293040"/>
              <a:chOff x="9188640" y="1526040"/>
              <a:chExt cx="305280" cy="293040"/>
            </a:xfrm>
          </p:grpSpPr>
          <p:sp>
            <p:nvSpPr>
              <p:cNvPr id="589" name="直接连接符 44"/>
              <p:cNvSpPr/>
              <p:nvPr/>
            </p:nvSpPr>
            <p:spPr>
              <a:xfrm flipH="1">
                <a:off x="9188640" y="1584000"/>
                <a:ext cx="245880" cy="235080"/>
              </a:xfrm>
              <a:prstGeom prst="line">
                <a:avLst/>
              </a:prstGeom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椭圆 45"/>
              <p:cNvSpPr/>
              <p:nvPr/>
            </p:nvSpPr>
            <p:spPr>
              <a:xfrm rot="5861400">
                <a:off x="9381240" y="1532520"/>
                <a:ext cx="106200" cy="10584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1" name="组合 54"/>
          <p:cNvGrpSpPr/>
          <p:nvPr/>
        </p:nvGrpSpPr>
        <p:grpSpPr>
          <a:xfrm>
            <a:off x="8413920" y="4216320"/>
            <a:ext cx="790560" cy="1368360"/>
            <a:chOff x="8413920" y="4216320"/>
            <a:chExt cx="790560" cy="1368360"/>
          </a:xfrm>
        </p:grpSpPr>
        <p:grpSp>
          <p:nvGrpSpPr>
            <p:cNvPr id="592" name="组合 51"/>
            <p:cNvGrpSpPr/>
            <p:nvPr/>
          </p:nvGrpSpPr>
          <p:grpSpPr>
            <a:xfrm>
              <a:off x="8413920" y="4216320"/>
              <a:ext cx="790560" cy="1368360"/>
              <a:chOff x="8413920" y="4216320"/>
              <a:chExt cx="790560" cy="1368360"/>
            </a:xfrm>
          </p:grpSpPr>
          <p:sp>
            <p:nvSpPr>
              <p:cNvPr id="593" name="矩形 48"/>
              <p:cNvSpPr/>
              <p:nvPr/>
            </p:nvSpPr>
            <p:spPr>
              <a:xfrm>
                <a:off x="8413920" y="4216320"/>
                <a:ext cx="790560" cy="13683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矩形 49"/>
              <p:cNvSpPr/>
              <p:nvPr/>
            </p:nvSpPr>
            <p:spPr>
              <a:xfrm>
                <a:off x="8413920" y="5368680"/>
                <a:ext cx="790560" cy="21600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椭圆 50"/>
              <p:cNvSpPr/>
              <p:nvPr/>
            </p:nvSpPr>
            <p:spPr>
              <a:xfrm>
                <a:off x="8737200" y="5440680"/>
                <a:ext cx="143640" cy="144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矩形 52"/>
            <p:cNvSpPr/>
            <p:nvPr/>
          </p:nvSpPr>
          <p:spPr>
            <a:xfrm>
              <a:off x="8413920" y="4216320"/>
              <a:ext cx="790560" cy="1296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直接连接符 53"/>
            <p:cNvSpPr/>
            <p:nvPr/>
          </p:nvSpPr>
          <p:spPr>
            <a:xfrm>
              <a:off x="8737200" y="4288320"/>
              <a:ext cx="143640" cy="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组合 58"/>
          <p:cNvGrpSpPr/>
          <p:nvPr/>
        </p:nvGrpSpPr>
        <p:grpSpPr>
          <a:xfrm>
            <a:off x="2239560" y="4403880"/>
            <a:ext cx="1662120" cy="824760"/>
            <a:chOff x="2239560" y="4403880"/>
            <a:chExt cx="1662120" cy="824760"/>
          </a:xfrm>
        </p:grpSpPr>
        <p:sp>
          <p:nvSpPr>
            <p:cNvPr id="599" name="矩形 55"/>
            <p:cNvSpPr/>
            <p:nvPr/>
          </p:nvSpPr>
          <p:spPr>
            <a:xfrm>
              <a:off x="2462400" y="4403880"/>
              <a:ext cx="1187640" cy="704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梯形 56"/>
            <p:cNvSpPr/>
            <p:nvPr/>
          </p:nvSpPr>
          <p:spPr>
            <a:xfrm flipV="1" rot="10800000">
              <a:off x="2239560" y="5178240"/>
              <a:ext cx="1662120" cy="500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梯形 57"/>
            <p:cNvSpPr/>
            <p:nvPr/>
          </p:nvSpPr>
          <p:spPr>
            <a:xfrm flipV="1" rot="10800000">
              <a:off x="2944800" y="5182200"/>
              <a:ext cx="18684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组合 67"/>
          <p:cNvGrpSpPr/>
          <p:nvPr/>
        </p:nvGrpSpPr>
        <p:grpSpPr>
          <a:xfrm>
            <a:off x="2908440" y="1795320"/>
            <a:ext cx="993600" cy="979560"/>
            <a:chOff x="2908440" y="1795320"/>
            <a:chExt cx="993600" cy="979560"/>
          </a:xfrm>
        </p:grpSpPr>
        <p:grpSp>
          <p:nvGrpSpPr>
            <p:cNvPr id="603" name="组合 60"/>
            <p:cNvGrpSpPr/>
            <p:nvPr/>
          </p:nvGrpSpPr>
          <p:grpSpPr>
            <a:xfrm>
              <a:off x="2908440" y="1795320"/>
              <a:ext cx="921960" cy="979560"/>
              <a:chOff x="2908440" y="1795320"/>
              <a:chExt cx="921960" cy="979560"/>
            </a:xfrm>
          </p:grpSpPr>
          <p:sp>
            <p:nvSpPr>
              <p:cNvPr id="604" name="矩形 63"/>
              <p:cNvSpPr/>
              <p:nvPr/>
            </p:nvSpPr>
            <p:spPr>
              <a:xfrm>
                <a:off x="2908440" y="1795320"/>
                <a:ext cx="921960" cy="9795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矩形 64"/>
              <p:cNvSpPr/>
              <p:nvPr/>
            </p:nvSpPr>
            <p:spPr>
              <a:xfrm>
                <a:off x="2908440" y="2620440"/>
                <a:ext cx="921960" cy="15444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椭圆 65"/>
              <p:cNvSpPr/>
              <p:nvPr/>
            </p:nvSpPr>
            <p:spPr>
              <a:xfrm>
                <a:off x="3285720" y="2671920"/>
                <a:ext cx="167400" cy="102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" name="矩形 66"/>
            <p:cNvSpPr/>
            <p:nvPr/>
          </p:nvSpPr>
          <p:spPr>
            <a:xfrm>
              <a:off x="3830400" y="1939320"/>
              <a:ext cx="71640" cy="2160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组合 75"/>
          <p:cNvGrpSpPr/>
          <p:nvPr/>
        </p:nvGrpSpPr>
        <p:grpSpPr>
          <a:xfrm>
            <a:off x="7175520" y="4626000"/>
            <a:ext cx="1238400" cy="420840"/>
            <a:chOff x="7175520" y="4626000"/>
            <a:chExt cx="1238400" cy="420840"/>
          </a:xfrm>
        </p:grpSpPr>
        <p:sp>
          <p:nvSpPr>
            <p:cNvPr id="609" name="直接连接符 76"/>
            <p:cNvSpPr/>
            <p:nvPr/>
          </p:nvSpPr>
          <p:spPr>
            <a:xfrm>
              <a:off x="7175520" y="4626000"/>
              <a:ext cx="219960" cy="420840"/>
            </a:xfrm>
            <a:prstGeom prst="line">
              <a:avLst/>
            </a:prstGeom>
            <a:ln w="1260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直接连接符 77"/>
            <p:cNvSpPr/>
            <p:nvPr/>
          </p:nvSpPr>
          <p:spPr>
            <a:xfrm>
              <a:off x="7395480" y="5046480"/>
              <a:ext cx="1018440" cy="0"/>
            </a:xfrm>
            <a:prstGeom prst="line">
              <a:avLst/>
            </a:prstGeom>
            <a:ln w="1260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文本框 78"/>
          <p:cNvSpPr/>
          <p:nvPr/>
        </p:nvSpPr>
        <p:spPr>
          <a:xfrm>
            <a:off x="10045800" y="170028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46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79"/>
          <p:cNvSpPr/>
          <p:nvPr/>
        </p:nvSpPr>
        <p:spPr>
          <a:xfrm>
            <a:off x="9244080" y="429084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8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80"/>
          <p:cNvSpPr/>
          <p:nvPr/>
        </p:nvSpPr>
        <p:spPr>
          <a:xfrm>
            <a:off x="1011240" y="170028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27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81"/>
          <p:cNvSpPr/>
          <p:nvPr/>
        </p:nvSpPr>
        <p:spPr>
          <a:xfrm>
            <a:off x="539640" y="422100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图表 14" descr=""/>
          <p:cNvPicPr/>
          <p:nvPr/>
        </p:nvPicPr>
        <p:blipFill>
          <a:blip r:embed="rId1"/>
          <a:stretch/>
        </p:blipFill>
        <p:spPr>
          <a:xfrm>
            <a:off x="1919160" y="1700280"/>
            <a:ext cx="89298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http://image.zcool.com.cn/img3/56/55/1370567145327.jpg"/>
          <p:cNvPicPr/>
          <p:nvPr/>
        </p:nvPicPr>
        <p:blipFill>
          <a:blip r:embed="rId1"/>
          <a:stretch/>
        </p:blipFill>
        <p:spPr>
          <a:xfrm>
            <a:off x="4440240" y="2041560"/>
            <a:ext cx="1247760" cy="35481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4" descr="http://image.zcool.com.cn/img3/56/55/1370567145327.jpg"/>
          <p:cNvPicPr/>
          <p:nvPr/>
        </p:nvPicPr>
        <p:blipFill>
          <a:blip r:embed="rId2"/>
          <a:stretch/>
        </p:blipFill>
        <p:spPr>
          <a:xfrm>
            <a:off x="6707160" y="2041560"/>
            <a:ext cx="1620720" cy="3548160"/>
          </a:xfrm>
          <a:prstGeom prst="rect">
            <a:avLst/>
          </a:prstGeom>
          <a:ln w="0">
            <a:noFill/>
          </a:ln>
        </p:spPr>
      </p:pic>
      <p:grpSp>
        <p:nvGrpSpPr>
          <p:cNvPr id="626" name="组合 33"/>
          <p:cNvGrpSpPr/>
          <p:nvPr/>
        </p:nvGrpSpPr>
        <p:grpSpPr>
          <a:xfrm>
            <a:off x="1968480" y="1628640"/>
            <a:ext cx="3156120" cy="1459080"/>
            <a:chOff x="1968480" y="1628640"/>
            <a:chExt cx="3156120" cy="1459080"/>
          </a:xfrm>
        </p:grpSpPr>
        <p:grpSp>
          <p:nvGrpSpPr>
            <p:cNvPr id="627" name="组合 20"/>
            <p:cNvGrpSpPr/>
            <p:nvPr/>
          </p:nvGrpSpPr>
          <p:grpSpPr>
            <a:xfrm>
              <a:off x="1968480" y="1628640"/>
              <a:ext cx="1608840" cy="1440000"/>
              <a:chOff x="1968480" y="1628640"/>
              <a:chExt cx="1608840" cy="1440000"/>
            </a:xfrm>
          </p:grpSpPr>
          <p:sp>
            <p:nvSpPr>
              <p:cNvPr id="628" name="椭圆 18"/>
              <p:cNvSpPr/>
              <p:nvPr/>
            </p:nvSpPr>
            <p:spPr>
              <a:xfrm>
                <a:off x="2052360" y="1628640"/>
                <a:ext cx="1441080" cy="144000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矩形 32"/>
              <p:cNvSpPr/>
              <p:nvPr/>
            </p:nvSpPr>
            <p:spPr>
              <a:xfrm>
                <a:off x="1968480" y="2206440"/>
                <a:ext cx="1608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文本框 19"/>
              <p:cNvSpPr/>
              <p:nvPr/>
            </p:nvSpPr>
            <p:spPr>
              <a:xfrm>
                <a:off x="2124360" y="1766880"/>
                <a:ext cx="12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46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直接连接符 23"/>
            <p:cNvSpPr/>
            <p:nvPr/>
          </p:nvSpPr>
          <p:spPr>
            <a:xfrm>
              <a:off x="3421440" y="2708640"/>
              <a:ext cx="1523160" cy="25776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椭圆 25"/>
            <p:cNvSpPr/>
            <p:nvPr/>
          </p:nvSpPr>
          <p:spPr>
            <a:xfrm>
              <a:off x="4944600" y="290772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组合 36"/>
          <p:cNvGrpSpPr/>
          <p:nvPr/>
        </p:nvGrpSpPr>
        <p:grpSpPr>
          <a:xfrm>
            <a:off x="1023840" y="3144960"/>
            <a:ext cx="4023000" cy="1439640"/>
            <a:chOff x="1023840" y="3144960"/>
            <a:chExt cx="4023000" cy="1439640"/>
          </a:xfrm>
        </p:grpSpPr>
        <p:grpSp>
          <p:nvGrpSpPr>
            <p:cNvPr id="634" name="组合 37"/>
            <p:cNvGrpSpPr/>
            <p:nvPr/>
          </p:nvGrpSpPr>
          <p:grpSpPr>
            <a:xfrm>
              <a:off x="1023840" y="3144960"/>
              <a:ext cx="1608120" cy="1439640"/>
              <a:chOff x="1023840" y="3144960"/>
              <a:chExt cx="1608120" cy="1439640"/>
            </a:xfrm>
          </p:grpSpPr>
          <p:sp>
            <p:nvSpPr>
              <p:cNvPr id="635" name="椭圆 40"/>
              <p:cNvSpPr/>
              <p:nvPr/>
            </p:nvSpPr>
            <p:spPr>
              <a:xfrm>
                <a:off x="1107720" y="3144960"/>
                <a:ext cx="1440360" cy="143964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矩形 41"/>
              <p:cNvSpPr/>
              <p:nvPr/>
            </p:nvSpPr>
            <p:spPr>
              <a:xfrm>
                <a:off x="1023840" y="3718440"/>
                <a:ext cx="1608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文本框 42"/>
              <p:cNvSpPr/>
              <p:nvPr/>
            </p:nvSpPr>
            <p:spPr>
              <a:xfrm>
                <a:off x="1179720" y="3265560"/>
                <a:ext cx="1296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94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直接连接符 38"/>
            <p:cNvSpPr/>
            <p:nvPr/>
          </p:nvSpPr>
          <p:spPr>
            <a:xfrm flipV="1">
              <a:off x="2548080" y="3672360"/>
              <a:ext cx="2396520" cy="19224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椭圆 39"/>
            <p:cNvSpPr/>
            <p:nvPr/>
          </p:nvSpPr>
          <p:spPr>
            <a:xfrm>
              <a:off x="4866840" y="3572640"/>
              <a:ext cx="180000" cy="17964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组合 52"/>
          <p:cNvGrpSpPr/>
          <p:nvPr/>
        </p:nvGrpSpPr>
        <p:grpSpPr>
          <a:xfrm>
            <a:off x="2343240" y="4502160"/>
            <a:ext cx="2631960" cy="1587600"/>
            <a:chOff x="2343240" y="4502160"/>
            <a:chExt cx="2631960" cy="1587600"/>
          </a:xfrm>
        </p:grpSpPr>
        <p:grpSp>
          <p:nvGrpSpPr>
            <p:cNvPr id="641" name="组合 53"/>
            <p:cNvGrpSpPr/>
            <p:nvPr/>
          </p:nvGrpSpPr>
          <p:grpSpPr>
            <a:xfrm>
              <a:off x="2343240" y="4649400"/>
              <a:ext cx="1607400" cy="1440360"/>
              <a:chOff x="2343240" y="4649400"/>
              <a:chExt cx="1607400" cy="1440360"/>
            </a:xfrm>
          </p:grpSpPr>
          <p:sp>
            <p:nvSpPr>
              <p:cNvPr id="642" name="椭圆 56"/>
              <p:cNvSpPr/>
              <p:nvPr/>
            </p:nvSpPr>
            <p:spPr>
              <a:xfrm>
                <a:off x="2427120" y="4649400"/>
                <a:ext cx="1439640" cy="144036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矩形 57"/>
              <p:cNvSpPr/>
              <p:nvPr/>
            </p:nvSpPr>
            <p:spPr>
              <a:xfrm>
                <a:off x="2343240" y="5227200"/>
                <a:ext cx="1607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文本框 58"/>
              <p:cNvSpPr/>
              <p:nvPr/>
            </p:nvSpPr>
            <p:spPr>
              <a:xfrm>
                <a:off x="2499120" y="478764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37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直接连接符 54"/>
            <p:cNvSpPr/>
            <p:nvPr/>
          </p:nvSpPr>
          <p:spPr>
            <a:xfrm flipV="1">
              <a:off x="3866760" y="4584960"/>
              <a:ext cx="998640" cy="58608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椭圆 55"/>
            <p:cNvSpPr/>
            <p:nvPr/>
          </p:nvSpPr>
          <p:spPr>
            <a:xfrm>
              <a:off x="4795560" y="4502160"/>
              <a:ext cx="17964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组合 62"/>
          <p:cNvGrpSpPr/>
          <p:nvPr/>
        </p:nvGrpSpPr>
        <p:grpSpPr>
          <a:xfrm>
            <a:off x="7416720" y="1773360"/>
            <a:ext cx="2855880" cy="1555560"/>
            <a:chOff x="7416720" y="1773360"/>
            <a:chExt cx="2855880" cy="1555560"/>
          </a:xfrm>
        </p:grpSpPr>
        <p:grpSp>
          <p:nvGrpSpPr>
            <p:cNvPr id="648" name="组合 63"/>
            <p:cNvGrpSpPr/>
            <p:nvPr/>
          </p:nvGrpSpPr>
          <p:grpSpPr>
            <a:xfrm>
              <a:off x="8664120" y="1773360"/>
              <a:ext cx="1608480" cy="1440000"/>
              <a:chOff x="8664120" y="1773360"/>
              <a:chExt cx="1608480" cy="1440000"/>
            </a:xfrm>
          </p:grpSpPr>
          <p:sp>
            <p:nvSpPr>
              <p:cNvPr id="649" name="椭圆 66"/>
              <p:cNvSpPr/>
              <p:nvPr/>
            </p:nvSpPr>
            <p:spPr>
              <a:xfrm>
                <a:off x="8748000" y="1773360"/>
                <a:ext cx="1440720" cy="144000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矩形 67"/>
              <p:cNvSpPr/>
              <p:nvPr/>
            </p:nvSpPr>
            <p:spPr>
              <a:xfrm>
                <a:off x="8664120" y="2351160"/>
                <a:ext cx="1608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文本框 68"/>
              <p:cNvSpPr/>
              <p:nvPr/>
            </p:nvSpPr>
            <p:spPr>
              <a:xfrm>
                <a:off x="8820000" y="1911600"/>
                <a:ext cx="129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23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2" name="直接连接符 64"/>
            <p:cNvSpPr/>
            <p:nvPr/>
          </p:nvSpPr>
          <p:spPr>
            <a:xfrm flipV="1">
              <a:off x="7506720" y="2811240"/>
              <a:ext cx="1313280" cy="42768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椭圆 65"/>
            <p:cNvSpPr/>
            <p:nvPr/>
          </p:nvSpPr>
          <p:spPr>
            <a:xfrm>
              <a:off x="7416720" y="314892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组合 71"/>
          <p:cNvGrpSpPr/>
          <p:nvPr/>
        </p:nvGrpSpPr>
        <p:grpSpPr>
          <a:xfrm>
            <a:off x="7496280" y="3517920"/>
            <a:ext cx="4076640" cy="1440000"/>
            <a:chOff x="7496280" y="3517920"/>
            <a:chExt cx="4076640" cy="1440000"/>
          </a:xfrm>
        </p:grpSpPr>
        <p:grpSp>
          <p:nvGrpSpPr>
            <p:cNvPr id="655" name="组合 72"/>
            <p:cNvGrpSpPr/>
            <p:nvPr/>
          </p:nvGrpSpPr>
          <p:grpSpPr>
            <a:xfrm>
              <a:off x="9964440" y="3517920"/>
              <a:ext cx="1608480" cy="1440000"/>
              <a:chOff x="9964440" y="3517920"/>
              <a:chExt cx="1608480" cy="1440000"/>
            </a:xfrm>
          </p:grpSpPr>
          <p:sp>
            <p:nvSpPr>
              <p:cNvPr id="656" name="椭圆 75"/>
              <p:cNvSpPr/>
              <p:nvPr/>
            </p:nvSpPr>
            <p:spPr>
              <a:xfrm>
                <a:off x="10048320" y="3517920"/>
                <a:ext cx="1440720" cy="144000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矩形 76"/>
              <p:cNvSpPr/>
              <p:nvPr/>
            </p:nvSpPr>
            <p:spPr>
              <a:xfrm>
                <a:off x="9964440" y="4095720"/>
                <a:ext cx="1608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文本框 77"/>
              <p:cNvSpPr/>
              <p:nvPr/>
            </p:nvSpPr>
            <p:spPr>
              <a:xfrm>
                <a:off x="10120320" y="3656160"/>
                <a:ext cx="129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82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9" name="直接连接符 73"/>
            <p:cNvSpPr/>
            <p:nvPr/>
          </p:nvSpPr>
          <p:spPr>
            <a:xfrm>
              <a:off x="7650000" y="3971880"/>
              <a:ext cx="2387880" cy="26496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椭圆 74"/>
            <p:cNvSpPr/>
            <p:nvPr/>
          </p:nvSpPr>
          <p:spPr>
            <a:xfrm>
              <a:off x="7496280" y="386244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组合 82"/>
          <p:cNvGrpSpPr/>
          <p:nvPr/>
        </p:nvGrpSpPr>
        <p:grpSpPr>
          <a:xfrm>
            <a:off x="7661160" y="4672080"/>
            <a:ext cx="2635200" cy="1511280"/>
            <a:chOff x="7661160" y="4672080"/>
            <a:chExt cx="2635200" cy="1511280"/>
          </a:xfrm>
        </p:grpSpPr>
        <p:grpSp>
          <p:nvGrpSpPr>
            <p:cNvPr id="662" name="组合 83"/>
            <p:cNvGrpSpPr/>
            <p:nvPr/>
          </p:nvGrpSpPr>
          <p:grpSpPr>
            <a:xfrm>
              <a:off x="8687520" y="4743000"/>
              <a:ext cx="1608840" cy="1440360"/>
              <a:chOff x="8687520" y="4743000"/>
              <a:chExt cx="1608840" cy="1440360"/>
            </a:xfrm>
          </p:grpSpPr>
          <p:sp>
            <p:nvSpPr>
              <p:cNvPr id="663" name="椭圆 86"/>
              <p:cNvSpPr/>
              <p:nvPr/>
            </p:nvSpPr>
            <p:spPr>
              <a:xfrm>
                <a:off x="8771400" y="4743000"/>
                <a:ext cx="1441080" cy="144036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矩形 87"/>
              <p:cNvSpPr/>
              <p:nvPr/>
            </p:nvSpPr>
            <p:spPr>
              <a:xfrm>
                <a:off x="8687520" y="5320800"/>
                <a:ext cx="1608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文本框 88"/>
              <p:cNvSpPr/>
              <p:nvPr/>
            </p:nvSpPr>
            <p:spPr>
              <a:xfrm>
                <a:off x="8843400" y="4881240"/>
                <a:ext cx="12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67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6" name="直接连接符 84"/>
            <p:cNvSpPr/>
            <p:nvPr/>
          </p:nvSpPr>
          <p:spPr>
            <a:xfrm>
              <a:off x="7751160" y="4762080"/>
              <a:ext cx="1020600" cy="70128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椭圆 85"/>
            <p:cNvSpPr/>
            <p:nvPr/>
          </p:nvSpPr>
          <p:spPr>
            <a:xfrm>
              <a:off x="7661160" y="467208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4" descr="http://image.zcool.com.cn/img3/56/55/1370567145327.jpg"/>
          <p:cNvPicPr/>
          <p:nvPr/>
        </p:nvPicPr>
        <p:blipFill>
          <a:blip r:embed="rId1"/>
          <a:stretch/>
        </p:blipFill>
        <p:spPr>
          <a:xfrm>
            <a:off x="2320920" y="2212920"/>
            <a:ext cx="507960" cy="144144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" descr="http://image.zcool.com.cn/img3/56/55/1370567145327.jpg"/>
          <p:cNvPicPr/>
          <p:nvPr/>
        </p:nvPicPr>
        <p:blipFill>
          <a:blip r:embed="rId2"/>
          <a:stretch/>
        </p:blipFill>
        <p:spPr>
          <a:xfrm>
            <a:off x="2322360" y="4005360"/>
            <a:ext cx="658800" cy="143964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" descr="http://image.zcool.com.cn/img3/56/55/1370567145327.jpg"/>
          <p:cNvPicPr/>
          <p:nvPr/>
        </p:nvPicPr>
        <p:blipFill>
          <a:blip r:embed="rId3"/>
          <a:stretch/>
        </p:blipFill>
        <p:spPr>
          <a:xfrm>
            <a:off x="298944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" descr="http://image.zcool.com.cn/img3/56/55/1370567145327.jpg"/>
          <p:cNvPicPr/>
          <p:nvPr/>
        </p:nvPicPr>
        <p:blipFill>
          <a:blip r:embed="rId4"/>
          <a:stretch/>
        </p:blipFill>
        <p:spPr>
          <a:xfrm>
            <a:off x="365616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4" descr="http://image.zcool.com.cn/img3/56/55/1370567145327.jpg"/>
          <p:cNvPicPr/>
          <p:nvPr/>
        </p:nvPicPr>
        <p:blipFill>
          <a:blip r:embed="rId5"/>
          <a:stretch/>
        </p:blipFill>
        <p:spPr>
          <a:xfrm>
            <a:off x="432288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4" descr="http://image.zcool.com.cn/img3/56/55/1370567145327.jpg"/>
          <p:cNvPicPr/>
          <p:nvPr/>
        </p:nvPicPr>
        <p:blipFill>
          <a:blip r:embed="rId6"/>
          <a:stretch/>
        </p:blipFill>
        <p:spPr>
          <a:xfrm>
            <a:off x="498960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4" descr="http://image.zcool.com.cn/img3/56/55/1370567145327.jpg"/>
          <p:cNvPicPr/>
          <p:nvPr/>
        </p:nvPicPr>
        <p:blipFill>
          <a:blip r:embed="rId7"/>
          <a:stretch/>
        </p:blipFill>
        <p:spPr>
          <a:xfrm>
            <a:off x="5657760" y="2212920"/>
            <a:ext cx="506520" cy="14414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4" descr="http://image.zcool.com.cn/img3/56/55/1370567145327.jpg"/>
          <p:cNvPicPr/>
          <p:nvPr/>
        </p:nvPicPr>
        <p:blipFill>
          <a:blip r:embed="rId8"/>
          <a:stretch/>
        </p:blipFill>
        <p:spPr>
          <a:xfrm>
            <a:off x="6324480" y="2212920"/>
            <a:ext cx="506520" cy="144144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http://image.zcool.com.cn/img3/56/55/1370567145327.jpg"/>
          <p:cNvPicPr/>
          <p:nvPr/>
        </p:nvPicPr>
        <p:blipFill>
          <a:blip r:embed="rId9"/>
          <a:stretch/>
        </p:blipFill>
        <p:spPr>
          <a:xfrm>
            <a:off x="8325000" y="2212920"/>
            <a:ext cx="507960" cy="14414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4" descr="http://image.zcool.com.cn/img3/56/55/1370567145327.jpg"/>
          <p:cNvPicPr/>
          <p:nvPr/>
        </p:nvPicPr>
        <p:blipFill>
          <a:blip r:embed="rId10"/>
          <a:stretch/>
        </p:blipFill>
        <p:spPr>
          <a:xfrm>
            <a:off x="6991200" y="2212920"/>
            <a:ext cx="506520" cy="144144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4" descr="http://image.zcool.com.cn/img3/56/55/1370567145327.jpg"/>
          <p:cNvPicPr/>
          <p:nvPr/>
        </p:nvPicPr>
        <p:blipFill>
          <a:blip r:embed="rId11"/>
          <a:stretch/>
        </p:blipFill>
        <p:spPr>
          <a:xfrm>
            <a:off x="765828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4" descr="http://image.zcool.com.cn/img3/56/55/1370567145327.jpg"/>
          <p:cNvPicPr/>
          <p:nvPr/>
        </p:nvPicPr>
        <p:blipFill>
          <a:blip r:embed="rId12"/>
          <a:stretch/>
        </p:blipFill>
        <p:spPr>
          <a:xfrm>
            <a:off x="297324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4" descr="http://image.zcool.com.cn/img3/56/55/1370567145327.jpg"/>
          <p:cNvPicPr/>
          <p:nvPr/>
        </p:nvPicPr>
        <p:blipFill>
          <a:blip r:embed="rId13"/>
          <a:stretch/>
        </p:blipFill>
        <p:spPr>
          <a:xfrm>
            <a:off x="3622680" y="4005360"/>
            <a:ext cx="658800" cy="143964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4" descr="http://image.zcool.com.cn/img3/56/55/1370567145327.jpg"/>
          <p:cNvPicPr/>
          <p:nvPr/>
        </p:nvPicPr>
        <p:blipFill>
          <a:blip r:embed="rId14"/>
          <a:stretch/>
        </p:blipFill>
        <p:spPr>
          <a:xfrm>
            <a:off x="427356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4" descr="http://image.zcool.com.cn/img3/56/55/1370567145327.jpg"/>
          <p:cNvPicPr/>
          <p:nvPr/>
        </p:nvPicPr>
        <p:blipFill>
          <a:blip r:embed="rId15"/>
          <a:stretch/>
        </p:blipFill>
        <p:spPr>
          <a:xfrm>
            <a:off x="492444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4" descr="http://image.zcool.com.cn/img3/56/55/1370567145327.jpg"/>
          <p:cNvPicPr/>
          <p:nvPr/>
        </p:nvPicPr>
        <p:blipFill>
          <a:blip r:embed="rId16"/>
          <a:stretch/>
        </p:blipFill>
        <p:spPr>
          <a:xfrm>
            <a:off x="5573880" y="4005360"/>
            <a:ext cx="657000" cy="143964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4" descr="http://image.zcool.com.cn/img3/56/55/1370567145327.jpg"/>
          <p:cNvPicPr/>
          <p:nvPr/>
        </p:nvPicPr>
        <p:blipFill>
          <a:blip r:embed="rId17"/>
          <a:stretch/>
        </p:blipFill>
        <p:spPr>
          <a:xfrm>
            <a:off x="6222960" y="4005360"/>
            <a:ext cx="658800" cy="143964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4" descr="http://image.zcool.com.cn/img3/56/55/1370567145327.jpg"/>
          <p:cNvPicPr/>
          <p:nvPr/>
        </p:nvPicPr>
        <p:blipFill>
          <a:blip r:embed="rId18"/>
          <a:stretch/>
        </p:blipFill>
        <p:spPr>
          <a:xfrm>
            <a:off x="687384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4" descr="http://image.zcool.com.cn/img3/56/55/1370567145327.jpg"/>
          <p:cNvPicPr/>
          <p:nvPr/>
        </p:nvPicPr>
        <p:blipFill>
          <a:blip r:embed="rId19"/>
          <a:stretch/>
        </p:blipFill>
        <p:spPr>
          <a:xfrm>
            <a:off x="752472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4" descr="http://image.zcool.com.cn/img3/56/55/1370567145327.jpg"/>
          <p:cNvPicPr/>
          <p:nvPr/>
        </p:nvPicPr>
        <p:blipFill>
          <a:blip r:embed="rId20"/>
          <a:stretch/>
        </p:blipFill>
        <p:spPr>
          <a:xfrm>
            <a:off x="8174160" y="4005360"/>
            <a:ext cx="658800" cy="1439640"/>
          </a:xfrm>
          <a:prstGeom prst="rect">
            <a:avLst/>
          </a:prstGeom>
          <a:ln w="0">
            <a:noFill/>
          </a:ln>
        </p:spPr>
      </p:pic>
      <p:sp>
        <p:nvSpPr>
          <p:cNvPr id="692" name="直接连接符 6"/>
          <p:cNvSpPr/>
          <p:nvPr/>
        </p:nvSpPr>
        <p:spPr>
          <a:xfrm>
            <a:off x="2063880" y="3797280"/>
            <a:ext cx="9145440" cy="0"/>
          </a:xfrm>
          <a:prstGeom prst="line">
            <a:avLst/>
          </a:prstGeom>
          <a:ln w="1908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文本框 95"/>
          <p:cNvSpPr/>
          <p:nvPr/>
        </p:nvSpPr>
        <p:spPr>
          <a:xfrm>
            <a:off x="2320920" y="17254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文本框 96"/>
          <p:cNvSpPr/>
          <p:nvPr/>
        </p:nvSpPr>
        <p:spPr>
          <a:xfrm>
            <a:off x="2320920" y="54640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9"/>
          <p:cNvSpPr/>
          <p:nvPr/>
        </p:nvSpPr>
        <p:spPr>
          <a:xfrm>
            <a:off x="9264600" y="2130480"/>
            <a:ext cx="2232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60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Of 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97"/>
          <p:cNvSpPr/>
          <p:nvPr/>
        </p:nvSpPr>
        <p:spPr>
          <a:xfrm>
            <a:off x="9264600" y="3909960"/>
            <a:ext cx="2521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80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Of Wo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组合 10"/>
          <p:cNvGrpSpPr/>
          <p:nvPr/>
        </p:nvGrpSpPr>
        <p:grpSpPr>
          <a:xfrm>
            <a:off x="2784600" y="1844640"/>
            <a:ext cx="1452600" cy="3505320"/>
            <a:chOff x="2784600" y="1844640"/>
            <a:chExt cx="1452600" cy="3505320"/>
          </a:xfrm>
        </p:grpSpPr>
        <p:sp>
          <p:nvSpPr>
            <p:cNvPr id="702" name="任意多边形 40"/>
            <p:cNvSpPr/>
            <p:nvPr/>
          </p:nvSpPr>
          <p:spPr>
            <a:xfrm>
              <a:off x="2784600" y="50518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 43"/>
            <p:cNvSpPr/>
            <p:nvPr/>
          </p:nvSpPr>
          <p:spPr>
            <a:xfrm>
              <a:off x="2784600" y="46954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 44"/>
            <p:cNvSpPr/>
            <p:nvPr/>
          </p:nvSpPr>
          <p:spPr>
            <a:xfrm>
              <a:off x="2784600" y="43390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 45"/>
            <p:cNvSpPr/>
            <p:nvPr/>
          </p:nvSpPr>
          <p:spPr>
            <a:xfrm>
              <a:off x="2784600" y="39826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 46"/>
            <p:cNvSpPr/>
            <p:nvPr/>
          </p:nvSpPr>
          <p:spPr>
            <a:xfrm>
              <a:off x="2784600" y="36262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任意多边形 47"/>
            <p:cNvSpPr/>
            <p:nvPr/>
          </p:nvSpPr>
          <p:spPr>
            <a:xfrm>
              <a:off x="2784600" y="32698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任意多边形 48"/>
            <p:cNvSpPr/>
            <p:nvPr/>
          </p:nvSpPr>
          <p:spPr>
            <a:xfrm>
              <a:off x="2784600" y="29134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 52"/>
            <p:cNvSpPr/>
            <p:nvPr/>
          </p:nvSpPr>
          <p:spPr>
            <a:xfrm>
              <a:off x="2784600" y="25570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 53"/>
            <p:cNvSpPr/>
            <p:nvPr/>
          </p:nvSpPr>
          <p:spPr>
            <a:xfrm>
              <a:off x="2784600" y="22006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任意多边形 54"/>
            <p:cNvSpPr/>
            <p:nvPr/>
          </p:nvSpPr>
          <p:spPr>
            <a:xfrm>
              <a:off x="2784600" y="184464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组合 11"/>
          <p:cNvGrpSpPr/>
          <p:nvPr/>
        </p:nvGrpSpPr>
        <p:grpSpPr>
          <a:xfrm>
            <a:off x="4656240" y="2914560"/>
            <a:ext cx="1452600" cy="2435400"/>
            <a:chOff x="4656240" y="2914560"/>
            <a:chExt cx="1452600" cy="2435400"/>
          </a:xfrm>
        </p:grpSpPr>
        <p:sp>
          <p:nvSpPr>
            <p:cNvPr id="713" name="任意多边形 56"/>
            <p:cNvSpPr/>
            <p:nvPr/>
          </p:nvSpPr>
          <p:spPr>
            <a:xfrm>
              <a:off x="4656240" y="50518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任意多边形 57"/>
            <p:cNvSpPr/>
            <p:nvPr/>
          </p:nvSpPr>
          <p:spPr>
            <a:xfrm>
              <a:off x="4656240" y="46954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任意多边形 58"/>
            <p:cNvSpPr/>
            <p:nvPr/>
          </p:nvSpPr>
          <p:spPr>
            <a:xfrm>
              <a:off x="4656240" y="433944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任意多边形 62"/>
            <p:cNvSpPr/>
            <p:nvPr/>
          </p:nvSpPr>
          <p:spPr>
            <a:xfrm>
              <a:off x="4656240" y="398304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任意多边形 63"/>
            <p:cNvSpPr/>
            <p:nvPr/>
          </p:nvSpPr>
          <p:spPr>
            <a:xfrm>
              <a:off x="4656240" y="362700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64"/>
            <p:cNvSpPr/>
            <p:nvPr/>
          </p:nvSpPr>
          <p:spPr>
            <a:xfrm>
              <a:off x="4656240" y="327060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任意多边形 65"/>
            <p:cNvSpPr/>
            <p:nvPr/>
          </p:nvSpPr>
          <p:spPr>
            <a:xfrm>
              <a:off x="4656240" y="291456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组合 12"/>
          <p:cNvGrpSpPr/>
          <p:nvPr/>
        </p:nvGrpSpPr>
        <p:grpSpPr>
          <a:xfrm>
            <a:off x="6527880" y="3625920"/>
            <a:ext cx="1454040" cy="1724040"/>
            <a:chOff x="6527880" y="3625920"/>
            <a:chExt cx="1454040" cy="1724040"/>
          </a:xfrm>
        </p:grpSpPr>
        <p:sp>
          <p:nvSpPr>
            <p:cNvPr id="721" name="任意多边形 66"/>
            <p:cNvSpPr/>
            <p:nvPr/>
          </p:nvSpPr>
          <p:spPr>
            <a:xfrm>
              <a:off x="6527880" y="5051520"/>
              <a:ext cx="1454040" cy="29844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任意多边形 67"/>
            <p:cNvSpPr/>
            <p:nvPr/>
          </p:nvSpPr>
          <p:spPr>
            <a:xfrm>
              <a:off x="6527880" y="4695120"/>
              <a:ext cx="1454040" cy="29844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任意多边形 68"/>
            <p:cNvSpPr/>
            <p:nvPr/>
          </p:nvSpPr>
          <p:spPr>
            <a:xfrm>
              <a:off x="6527880" y="4338720"/>
              <a:ext cx="1454040" cy="29844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任意多边形 71"/>
            <p:cNvSpPr/>
            <p:nvPr/>
          </p:nvSpPr>
          <p:spPr>
            <a:xfrm>
              <a:off x="6527880" y="3982320"/>
              <a:ext cx="1454040" cy="29844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任意多边形 72"/>
            <p:cNvSpPr/>
            <p:nvPr/>
          </p:nvSpPr>
          <p:spPr>
            <a:xfrm>
              <a:off x="6527880" y="3625920"/>
              <a:ext cx="1454040" cy="29844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文本框 13"/>
          <p:cNvSpPr/>
          <p:nvPr/>
        </p:nvSpPr>
        <p:spPr>
          <a:xfrm>
            <a:off x="1919160" y="1844640"/>
            <a:ext cx="11937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15"/>
          <p:cNvSpPr/>
          <p:nvPr/>
        </p:nvSpPr>
        <p:spPr>
          <a:xfrm>
            <a:off x="2646360" y="55180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st</a:t>
            </a:r>
            <a:r>
              <a:rPr b="1" lang="zh-CN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73"/>
          <p:cNvSpPr/>
          <p:nvPr/>
        </p:nvSpPr>
        <p:spPr>
          <a:xfrm>
            <a:off x="4518000" y="55180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st</a:t>
            </a:r>
            <a:r>
              <a:rPr b="1" lang="zh-CN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74"/>
          <p:cNvSpPr/>
          <p:nvPr/>
        </p:nvSpPr>
        <p:spPr>
          <a:xfrm>
            <a:off x="6391440" y="55180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st</a:t>
            </a:r>
            <a:r>
              <a:rPr b="1" lang="zh-CN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文本框 75"/>
          <p:cNvSpPr/>
          <p:nvPr/>
        </p:nvSpPr>
        <p:spPr>
          <a:xfrm>
            <a:off x="8256600" y="3495600"/>
            <a:ext cx="316872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5%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图表 7" descr=""/>
          <p:cNvPicPr/>
          <p:nvPr/>
        </p:nvPicPr>
        <p:blipFill>
          <a:blip r:embed="rId1"/>
          <a:stretch/>
        </p:blipFill>
        <p:spPr>
          <a:xfrm>
            <a:off x="2031840" y="1440000"/>
            <a:ext cx="8128080" cy="4797360"/>
          </a:xfrm>
          <a:prstGeom prst="rect">
            <a:avLst/>
          </a:prstGeom>
          <a:ln w="0">
            <a:noFill/>
          </a:ln>
        </p:spPr>
      </p:pic>
      <p:sp>
        <p:nvSpPr>
          <p:cNvPr id="736" name="直接连接符 9"/>
          <p:cNvSpPr/>
          <p:nvPr/>
        </p:nvSpPr>
        <p:spPr>
          <a:xfrm>
            <a:off x="3755880" y="2808360"/>
            <a:ext cx="900360" cy="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下箭头 16"/>
          <p:cNvSpPr/>
          <p:nvPr/>
        </p:nvSpPr>
        <p:spPr>
          <a:xfrm>
            <a:off x="3765600" y="2808360"/>
            <a:ext cx="898560" cy="16556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262626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直接连接符 55"/>
          <p:cNvSpPr/>
          <p:nvPr/>
        </p:nvSpPr>
        <p:spPr>
          <a:xfrm>
            <a:off x="6276960" y="3551400"/>
            <a:ext cx="898560" cy="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直接连接符 59"/>
          <p:cNvSpPr/>
          <p:nvPr/>
        </p:nvSpPr>
        <p:spPr>
          <a:xfrm>
            <a:off x="8796240" y="2492280"/>
            <a:ext cx="900360" cy="180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下箭头 60"/>
          <p:cNvSpPr/>
          <p:nvPr/>
        </p:nvSpPr>
        <p:spPr>
          <a:xfrm>
            <a:off x="6289560" y="3551400"/>
            <a:ext cx="900360" cy="1563480"/>
          </a:xfrm>
          <a:prstGeom prst="downArrow">
            <a:avLst>
              <a:gd name="adj1" fmla="val 50000"/>
              <a:gd name="adj2" fmla="val 49948"/>
            </a:avLst>
          </a:prstGeom>
          <a:solidFill>
            <a:srgbClr val="262626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下箭头 61"/>
          <p:cNvSpPr/>
          <p:nvPr/>
        </p:nvSpPr>
        <p:spPr>
          <a:xfrm>
            <a:off x="8796240" y="2492280"/>
            <a:ext cx="900360" cy="1800360"/>
          </a:xfrm>
          <a:prstGeom prst="downArrow">
            <a:avLst>
              <a:gd name="adj1" fmla="val 50000"/>
              <a:gd name="adj2" fmla="val 49971"/>
            </a:avLst>
          </a:prstGeom>
          <a:solidFill>
            <a:srgbClr val="262626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8T01:07:00Z</dcterms:created>
  <dc:creator>Administrator</dc:creator>
  <dc:description/>
  <cp:keywords/>
  <dc:language>en-US</dc:language>
  <cp:lastModifiedBy>Administrator</cp:lastModifiedBy>
  <dcterms:modified xsi:type="dcterms:W3CDTF">2016-03-08T15:53:51Z</dcterms:modified>
  <cp:revision>3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