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4C1-9C15-41EC-8C82-F61FE1A2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280-7447-4558-BDF8-91B04B8D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FA6D2-D92E-4202-B851-187278A9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96860-D7A3-40C5-BDC2-E1EE7309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30E36-A436-4169-9F6B-C15AEEEC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CFADF-84FD-4512-8680-F7D49D66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A9C70-E7FA-4DF9-BC7D-A90A5C3E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9CF55-6F3A-4CCC-89A9-41EF11AE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8D899-1CFA-450D-9D77-B6E3BF3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2E9AA-E35B-4236-BACD-2AC17B03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F4392-64AB-413A-9203-4B2B1270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EC066-EB12-4CC5-8C32-30C1B595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642-E701-4C2D-B8F5-27CCF3A2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C9A61-583D-47F1-8E44-006932C1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779B4-F30E-4958-AAD5-CB43471B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8EDDA-EB42-4CB6-B557-E3433B94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5E075-72EA-4B97-BAEB-1627E40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A1751-7CC5-4C83-85EB-CA2AAF8C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C6FB1-C52E-4369-9052-CB42C49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B2FA8-4BF8-484A-8A56-81B13E0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4ED31-B600-4798-8890-3B9F391F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F1C77-D11C-411D-9955-4C2F2FA3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087A1-FA86-484C-BD94-92A4097E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1E1-87B8-4E93-A0DC-58C7B1C3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758A3-8673-4D93-A8F4-27BCC35F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25F8F-5220-4661-8124-932CDDA9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A77D3-009A-4DE2-AFFC-2EB56947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BFD68-7E3F-413F-A4A6-5F5D2503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B4051-4426-4C2D-A4BA-EB70637E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442B2-A1EE-4537-8A50-A5CA58F4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3DC35-EDBE-4993-99BB-D645234B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D4751-25DC-41C6-B727-FD43C6B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D7A27-D408-4501-B101-8A17949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11B62-AABE-4633-ACF2-825A9103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2F52-7B42-4D70-83FE-16D466E3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45956-FBE0-4900-A95E-6603A60F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C4491-ACB9-4CAA-819C-71357BE4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27DEB-321A-4FF4-8070-1D32CBA5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022E2-DD50-4240-AD8A-A3712825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1239B-7733-4576-B954-5CA7C47C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FEAD8-2E86-4172-A032-5222A1BA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89628-EA94-46EC-90DA-F9B1B2DE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C794B-FDC8-43DF-AB4B-AC4C3ABC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71B6C-FD1A-401F-B829-E30FC3F6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314E0-CCBE-4E1C-8176-FF49051D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BA46-C104-4F65-BBC0-E3BF2412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48888-37D9-433B-9E39-48D7B46A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E7B42-E0AE-45FA-A5B1-7FFAAC2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A3CF2-9C86-4847-802D-163601BD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416E7-4861-4DF1-89A4-0839E914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171A1-B419-4EEC-B27C-A25B5F7D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01BF3-8B4D-47A8-89F9-01CFE8D6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B9A47-247E-49F2-BE30-58DE2D86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1D7C7-95BD-4789-93BF-41B4A4FE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DD44C-B9AB-430A-801D-A27887FB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77362-B739-4C14-90F9-E3F13C14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9EA7-01E3-4CD5-B39A-AA7D88A5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CDF65-B7A2-44AE-9957-3AB7EE40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AA68A-D848-46C6-A8BE-79A48B1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BB756-B233-4B82-AB28-D166CBB1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5B63F-E41D-45F8-920C-A40B279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B095A-50E8-442A-B8E2-C26508D6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7AC96-163E-495A-9C88-85889A16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2F8F8-7BF3-4406-9929-97EA8871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AD28-D3F1-4EC9-9CEA-7AC7B3AB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F478-BA31-4631-B12C-B852F31B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151C-58E0-4DB8-8801-B0FCAB08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DFF2-12EB-435E-8409-C0D82DE5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87C-44CF-4BB8-9814-5BD99C87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E5E8-B696-4994-86E6-961AD2E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43E7-0A6E-4A2D-87FF-83685EB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74C8-173A-4C68-BF80-F20CCE78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8091-5503-442C-857B-2FC5E29B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FF87-8333-4E30-96DC-A85C78E1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9570-03AE-4068-BF5D-9206DF1D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8F83-8DB7-479E-A0AC-AA59895F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DD93-A1DF-4488-8735-893E4337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BCFB-A84C-401C-9E64-E913F7AB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EBF2-4261-497F-B725-CD787200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F3A-CD8F-407C-A6D2-8BF0ABE6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66BF-967F-434C-9A52-2A9578BC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DF31-7591-49A4-B6DD-B91DB2E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5F952-2342-4DA2-9290-F6EC40A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73A6-BB16-4B25-A4E9-D9E682C4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6942-1666-410D-BA82-B6454523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7D60-0328-4172-8349-969C5279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C578-BA85-4C59-8EEB-B275D08F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20BF-1394-42DC-AAA2-52DE37BD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5EF36-D2FF-4F11-9BCA-83609F85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340E-386D-4C64-9873-819C409A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6D5-09D7-42E0-B345-BE95A926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75606-7E37-4A1A-A785-6972C739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26C6-6BB6-47AF-A87A-6367416A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49C2-882D-4B08-960C-1EBBA0F2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FEB50-C2F6-4696-BB2B-D0CD7C1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3066E-2F0B-435F-A995-F2FF0B2C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2A756-48D0-43BB-9E74-0DFFA202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04F5-13C3-4845-BE5F-7D33E53F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F998B-4EFA-4930-9B37-BF5F5CBD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86132-7E8D-4655-A47C-C49E7056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9C57-51C8-4AB8-AA8A-00083C2C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17A-BB92-4CA6-8128-73625973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89FF6-4992-45B4-B83E-9F9FD28F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A097-EC02-40BD-81B2-12DD8DDC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7E3E6-E0AD-450A-9B0F-27837253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A5F8F-24D0-49FA-BB82-9B803D9C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6A2CD-EE60-4B3A-A642-D8D8D748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EAC84-F506-4C58-852A-788D590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28B53-70D7-463E-98A5-0F9F37B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203AD-707F-4D0B-9D20-BA5E687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AEABE-B726-44AA-AE01-D10B50B0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E85F2-367B-4C95-80C7-48AFA29C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FB8-F667-4CDF-9510-C4D844DB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C4075-17FE-49A7-95C1-2E8611C7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23A0B-D066-4D14-BD9B-35DFBEDE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DE454-52F0-4E69-90EA-F5E75414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D570A-9613-4FBB-9A6F-0E9B3E32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F38B9-4313-4492-A3DF-8BA4B547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A7469-6888-4417-AB18-ACA4E261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2D246-5CA6-4FC5-9922-09413FDC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A9EC0-52AB-4E42-B372-C612AA5D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C0DB5-D573-4065-ADFC-B94E64F1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E77A9-4157-4D68-BDED-CD65FAF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4CB-3966-4E27-8375-DED3B27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7A48D-F197-4308-808E-7F88832C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0A3AA-1682-4909-BCFB-181A964C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005AB-BF86-430C-8611-F722E734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1F028-26FB-478D-B951-072C1380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C6F1A-A67B-4F08-A4FC-1036D5F7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9D2EC-89A0-49E4-B0C7-0CA04085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252CA-6BF3-4B66-BAFC-34D5AFF0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174E9-CEF8-424D-AF88-751A0FAC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EC5CF-60A6-419E-B01B-2FC76B9A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E3070-2168-4ED4-8520-96141152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40B-AFCF-4CD8-91F6-C27525EE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389D0-F35A-4C6A-B067-19EB04E2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A7EC6-7776-49C8-83B1-9956C751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773B9-CEDF-4947-959F-D0A389E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2140-E3F4-48EC-823C-F47BF5FB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27610-9C1F-4968-B762-7E616F95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E5670-4CB9-41A8-9DE0-6508E03D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10F2-F303-48B6-933B-F97EDFF7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21BD5-8CE7-4249-B5BB-0F621B53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82C2E-923E-48DF-ACF5-08CBCE04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150D7-0B70-43E1-8187-786E61BC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E97-49C3-480D-945E-0D8899C1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D93C5-6837-4B8E-9413-5768C95E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153B9-EC36-4619-985A-3EBF5BB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2C951-69BD-4DDB-891D-A294E51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A85DA-BE8B-4CA7-AE3C-C3060A6D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48F80-0407-4F2A-BA72-9F26808B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8DC21-D1DA-4E20-8D03-52311A15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C9704-022B-4EA4-8CCA-160AE151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9721D-3BA8-42E4-A797-1490E3CC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CBD2B-6A36-459F-A685-92964D02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6116B-B387-4396-A716-B6847666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997E-D256-4D35-854B-9416A7383A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5B75-A5EF-4E38-A7C5-CE1C555A41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5F4F-B984-401B-A802-371B4BC0A0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8B42-6432-4CF4-991B-2991E21806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7715-6567-48D4-B4EC-0A4917C4218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695C-E77D-460E-BC8A-EF850C935B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6B50-538B-4670-B31A-B3E03CF3C65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0066-A2DA-4A00-9205-8C3C824E41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DF43-D9B7-4A4A-B161-F469A982CC4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A221-1DBD-4CF8-9779-9D34F7C622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6C44-ADFC-4703-B82C-EF6344AC36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D7F6-7DA2-4289-BB0C-391C52CC2C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53FC-E8F5-491D-8327-1653A2F8B6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CEAD-811B-4103-9C77-EF76F4EAA0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9A99-38D0-4EB2-A923-8C27B03E83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F712-BE2B-43D1-807B-B7D7F885CF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403F-526A-48BE-89AC-26CD007C327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9E7D-6A2A-43C0-B323-B0E67913AA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88F2-1D27-4B1E-BFBA-5A7DF2586E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9812-BB12-4490-83A5-29C04B7236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6B3-A594-40FB-8EEE-02C033FF1C8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BB9C-CB4C-4EDE-A4F3-06C919A712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BA67-2292-466D-8EDE-6A164D0B5C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90F3-1160-496A-BCAC-FF2812B17E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FE80-9B9C-489D-B577-B3D4537BC9F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139B-8BEB-4ADB-833C-71CC067005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微软雅黑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微软雅黑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prstGeom prst="pie">
            <a:avLst/>
          </a:pr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prstGeom prst="pie">
            <a:avLst/>
          </a:pr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6-03-08T15:53:51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