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624-1034-49DF-BCC1-0BAF3D05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F9D-B608-4282-9367-AE094AA5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D37-A974-46AE-9973-7B6FEDF9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0F1-D8A5-4129-BBA2-1E0E08B8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47E-3C9C-4694-ADD5-4248FC21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DC7-0B3F-41FD-8889-8712275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454-A21B-440D-BEB4-64D6944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076-0370-4C27-89BA-BDFE561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FCC-128F-457B-8234-99DEE81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096-1AC0-4DA8-A9C3-ABE2321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3FD-475C-4640-8050-9F2A1D7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B6D-8178-45D4-95A8-A8AF78A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1AA-BAA4-433C-8FE7-0A016E1135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/>
              <a:ahLst/>
              <a:rect l="l" t="t" r="r" b="b"/>
              <a:pathLst>
                <a:path w="1931538" h="1931076">
                  <a:moveTo>
                    <a:pt x="1257264" y="1886046"/>
                  </a:moveTo>
                  <a:cubicBezTo>
                    <a:pt x="859077" y="2012079"/>
                    <a:pt x="424973" y="1867926"/>
                    <a:pt x="181336" y="1528763"/>
                  </a:cubicBezTo>
                  <a:cubicBezTo>
                    <a:pt x="-62385" y="1189482"/>
                    <a:pt x="-60245" y="731988"/>
                    <a:pt x="186640" y="395001"/>
                  </a:cubicBezTo>
                  <a:cubicBezTo>
                    <a:pt x="433438" y="58132"/>
                    <a:pt x="868871" y="-81955"/>
                    <a:pt x="1265861" y="47795"/>
                  </a:cubicBezTo>
                  <a:cubicBezTo>
                    <a:pt x="1662937" y="177573"/>
                    <a:pt x="1931538" y="547882"/>
                    <a:pt x="1931538" y="965538"/>
                  </a:cubicBezTo>
                  <a:lnTo>
                    <a:pt x="1846783" y="965538"/>
                  </a:lnTo>
                  <a:cubicBezTo>
                    <a:pt x="1846783" y="584542"/>
                    <a:pt x="1601752" y="246737"/>
                    <a:pt x="1239519" y="128353"/>
                  </a:cubicBezTo>
                  <a:cubicBezTo>
                    <a:pt x="877373" y="9997"/>
                    <a:pt x="480160" y="137784"/>
                    <a:pt x="255021" y="445076"/>
                  </a:cubicBezTo>
                  <a:cubicBezTo>
                    <a:pt x="29795" y="752485"/>
                    <a:pt x="27843" y="1169829"/>
                    <a:pt x="250183" y="1479331"/>
                  </a:cubicBezTo>
                  <a:cubicBezTo>
                    <a:pt x="472438" y="1788715"/>
                    <a:pt x="868439" y="1920211"/>
                    <a:pt x="1231677" y="1805245"/>
                  </a:cubicBezTo>
                  <a:lnTo>
                    <a:pt x="1257264" y="188604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7520"/>
            <a:ext cx="89373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4:10:4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2Z</dcterms:modified>
  <cp:revision>20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