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251-E887-46D3-B3A0-A0E18723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CAD-81BE-4D38-9FF0-95F9139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205-F554-4248-A799-524C5A6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52F-6306-4B57-8C49-BC1C2599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F29-8F24-4D12-A56B-FC2F6CD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4C3-1E17-47C0-9225-50F23D2E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3AC-2550-49ED-8D5A-63F631A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1F8-B983-41CC-B8D2-99238D7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38D-00FC-468A-8DA9-0A86DBF9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58C-FB2E-4EED-9F57-4CDD35D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AEF-4CB3-4E93-9F4C-1CFBE6B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3AE-6EE7-4FB5-BAB1-15F3E3D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11A7-D08B-4159-8C39-EE4480AC5E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/>
              <a:ahLst/>
              <a:rect l="l" t="t" r="r" b="b"/>
              <a:pathLst>
                <a:path w="1931538" h="1931076">
                  <a:moveTo>
                    <a:pt x="1257264" y="1886046"/>
                  </a:moveTo>
                  <a:cubicBezTo>
                    <a:pt x="859077" y="2012079"/>
                    <a:pt x="424973" y="1867926"/>
                    <a:pt x="181336" y="1528763"/>
                  </a:cubicBezTo>
                  <a:cubicBezTo>
                    <a:pt x="-62385" y="1189482"/>
                    <a:pt x="-60245" y="731988"/>
                    <a:pt x="186640" y="395001"/>
                  </a:cubicBezTo>
                  <a:cubicBezTo>
                    <a:pt x="433438" y="58132"/>
                    <a:pt x="868871" y="-81955"/>
                    <a:pt x="1265861" y="47795"/>
                  </a:cubicBezTo>
                  <a:cubicBezTo>
                    <a:pt x="1662937" y="177573"/>
                    <a:pt x="1931538" y="547882"/>
                    <a:pt x="1931538" y="965538"/>
                  </a:cubicBezTo>
                  <a:lnTo>
                    <a:pt x="1846783" y="965538"/>
                  </a:lnTo>
                  <a:cubicBezTo>
                    <a:pt x="1846783" y="584542"/>
                    <a:pt x="1601752" y="246737"/>
                    <a:pt x="1239519" y="128353"/>
                  </a:cubicBezTo>
                  <a:cubicBezTo>
                    <a:pt x="877373" y="9997"/>
                    <a:pt x="480160" y="137784"/>
                    <a:pt x="255021" y="445076"/>
                  </a:cubicBezTo>
                  <a:cubicBezTo>
                    <a:pt x="29795" y="752485"/>
                    <a:pt x="27843" y="1169829"/>
                    <a:pt x="250183" y="1479331"/>
                  </a:cubicBezTo>
                  <a:cubicBezTo>
                    <a:pt x="472438" y="1788715"/>
                    <a:pt x="868439" y="1920211"/>
                    <a:pt x="1231677" y="1805245"/>
                  </a:cubicBezTo>
                  <a:lnTo>
                    <a:pt x="1257264" y="188604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7520"/>
            <a:ext cx="89373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4:10:4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2Z</dcterms:modified>
  <cp:revision>20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