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E533-37B9-47E9-A56A-9F2C7B675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A17D-2B15-49AE-8DBF-E202FA4E3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F980-4BDF-4EBD-997C-081433B99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D654-46BC-46BD-AF4B-50F29117E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21FA-A4A5-4A11-A91E-5854F97B0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31B0-1DAE-4E41-9E19-F2A5DED6E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EAF7-7F4A-41EC-8BDE-EBC26B168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2C72-1627-40D9-B1F1-AE033C024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5839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6D82-CBAB-4E09-A42C-920B244FD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B105-4FF1-418C-8840-8CEB171FF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A5F6-7EAA-494A-AD5A-F50845070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078D-9C15-4E34-855D-1C71CDD40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38052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02F1-2A22-4D21-B01D-22840E3357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558720"/>
            <a:ext cx="152280" cy="53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5"/>
          <p:cNvSpPr/>
          <p:nvPr/>
        </p:nvSpPr>
        <p:spPr>
          <a:xfrm>
            <a:off x="0" y="80172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6"/>
          <p:cNvSpPr/>
          <p:nvPr/>
        </p:nvSpPr>
        <p:spPr>
          <a:xfrm>
            <a:off x="0" y="86364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259680"/>
            <a:ext cx="914400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Chevron 17"/>
          <p:cNvSpPr/>
          <p:nvPr/>
        </p:nvSpPr>
        <p:spPr>
          <a:xfrm flipH="1">
            <a:off x="8065440" y="6491160"/>
            <a:ext cx="82440" cy="13356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Chevron 18"/>
          <p:cNvSpPr/>
          <p:nvPr/>
        </p:nvSpPr>
        <p:spPr>
          <a:xfrm>
            <a:off x="8523360" y="649116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56840" y="6374880"/>
            <a:ext cx="6629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7f7f7f"/>
                </a:solidFill>
                <a:latin typeface="方正兰亭粗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PRESENTED BY </a:t>
            </a: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哎呀小小草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Oval 4">
            <a:hlinkClick r:id="" action="ppaction://hlinkshowjump?jump=nextslide"/>
          </p:cNvPr>
          <p:cNvSpPr/>
          <p:nvPr/>
        </p:nvSpPr>
        <p:spPr>
          <a:xfrm>
            <a:off x="4343400" y="4770360"/>
            <a:ext cx="457200" cy="4572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209680" y="2184480"/>
            <a:ext cx="4876920" cy="1371600"/>
            <a:chOff x="2209680" y="2184480"/>
            <a:chExt cx="4876920" cy="1371600"/>
          </a:xfrm>
        </p:grpSpPr>
        <p:sp>
          <p:nvSpPr>
            <p:cNvPr id="53" name="Rectangle 11"/>
            <p:cNvSpPr/>
            <p:nvPr/>
          </p:nvSpPr>
          <p:spPr>
            <a:xfrm>
              <a:off x="2209680" y="2184480"/>
              <a:ext cx="4876920" cy="1371600"/>
            </a:xfrm>
            <a:prstGeom prst="rect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220968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93432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4"/>
          <p:cNvSpPr/>
          <p:nvPr/>
        </p:nvSpPr>
        <p:spPr>
          <a:xfrm>
            <a:off x="2666880" y="4191120"/>
            <a:ext cx="3810240" cy="45720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方正兰亭黑_GBK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25650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BUSINESS PLA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58" name="Chevron 5"/>
          <p:cNvSpPr/>
          <p:nvPr/>
        </p:nvSpPr>
        <p:spPr>
          <a:xfrm>
            <a:off x="4518000" y="4906800"/>
            <a:ext cx="108000" cy="165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2260440" y="2757600"/>
            <a:ext cx="101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260440" y="2819520"/>
            <a:ext cx="10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6934320" y="275760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6934320" y="281952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EET TH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REAM TEAM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2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16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方正兰亭粗黑_GBK"/>
              </a:rPr>
              <a:t>MATTHEW DO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290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2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290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MANAGING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909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CREATIVE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FINANCE MANAGE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057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HEAD OF HUMAN RESOURCES 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909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7057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698920" y="3825720"/>
            <a:ext cx="1463400" cy="319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36480" y="382572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DOUGHNUT </a:t>
            </a: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INFOGRAPHIC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79" name="Chart 3" descr=""/>
          <p:cNvPicPr/>
          <p:nvPr/>
        </p:nvPicPr>
        <p:blipFill>
          <a:blip r:embed="rId1"/>
          <a:stretch/>
        </p:blipFill>
        <p:spPr>
          <a:xfrm>
            <a:off x="2300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84312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50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2"/>
          <a:stretch/>
        </p:blipFill>
        <p:spPr>
          <a:xfrm>
            <a:off x="2284560" y="1755720"/>
            <a:ext cx="2280960" cy="180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895480" y="2197080"/>
            <a:ext cx="1067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74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Chart 9" descr=""/>
          <p:cNvPicPr/>
          <p:nvPr/>
        </p:nvPicPr>
        <p:blipFill>
          <a:blip r:embed="rId3"/>
          <a:stretch/>
        </p:blipFill>
        <p:spPr>
          <a:xfrm>
            <a:off x="430992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492444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82</a:t>
            </a:r>
            <a:r>
              <a:rPr b="0" lang="zh-CN" sz="2000" spc="-1" strike="noStrike">
                <a:solidFill>
                  <a:srgbClr val="262626"/>
                </a:solidFill>
                <a:latin typeface="Futura LT Condensed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1" descr=""/>
          <p:cNvPicPr/>
          <p:nvPr/>
        </p:nvPicPr>
        <p:blipFill>
          <a:blip r:embed="rId4"/>
          <a:stretch/>
        </p:blipFill>
        <p:spPr>
          <a:xfrm>
            <a:off x="63482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6854760" y="2197080"/>
            <a:ext cx="1320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95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3"/>
          <p:cNvSpPr/>
          <p:nvPr/>
        </p:nvSpPr>
        <p:spPr>
          <a:xfrm>
            <a:off x="533520" y="4622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76260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69584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4448160" y="182880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方正兰亭粗黑_GBK"/>
              </a:rPr>
              <a:t>DOUGHNUT INFOGRAPHIC </a:t>
            </a:r>
            <a:r>
              <a:rPr b="0" lang="zh-CN" sz="32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32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380880" y="1222200"/>
            <a:ext cx="1981440" cy="2206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3"/>
          <p:cNvSpPr/>
          <p:nvPr/>
        </p:nvSpPr>
        <p:spPr>
          <a:xfrm>
            <a:off x="4371840" y="2179800"/>
            <a:ext cx="4238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hart 29" descr=""/>
          <p:cNvPicPr/>
          <p:nvPr/>
        </p:nvPicPr>
        <p:blipFill>
          <a:blip r:embed="rId2"/>
          <a:stretch/>
        </p:blipFill>
        <p:spPr>
          <a:xfrm>
            <a:off x="380880" y="3355920"/>
            <a:ext cx="1981440" cy="2206800"/>
          </a:xfrm>
          <a:prstGeom prst="rect">
            <a:avLst/>
          </a:prstGeom>
          <a:ln w="0">
            <a:noFill/>
          </a:ln>
        </p:spPr>
      </p:pic>
      <p:pic>
        <p:nvPicPr>
          <p:cNvPr id="196" name="Chart 34" descr=""/>
          <p:cNvPicPr/>
          <p:nvPr/>
        </p:nvPicPr>
        <p:blipFill>
          <a:blip r:embed="rId3"/>
          <a:stretch/>
        </p:blipFill>
        <p:spPr>
          <a:xfrm>
            <a:off x="2133720" y="1222200"/>
            <a:ext cx="1981080" cy="2206800"/>
          </a:xfrm>
          <a:prstGeom prst="rect">
            <a:avLst/>
          </a:prstGeom>
          <a:ln w="0">
            <a:noFill/>
          </a:ln>
        </p:spPr>
      </p:pic>
      <p:pic>
        <p:nvPicPr>
          <p:cNvPr id="197" name="Chart 36" descr=""/>
          <p:cNvPicPr/>
          <p:nvPr/>
        </p:nvPicPr>
        <p:blipFill>
          <a:blip r:embed="rId4"/>
          <a:stretch/>
        </p:blipFill>
        <p:spPr>
          <a:xfrm>
            <a:off x="2133720" y="3355920"/>
            <a:ext cx="1981080" cy="2206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4448160" y="308916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3"/>
          <p:cNvSpPr/>
          <p:nvPr/>
        </p:nvSpPr>
        <p:spPr>
          <a:xfrm>
            <a:off x="4371840" y="343836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4448160" y="434808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3"/>
          <p:cNvSpPr/>
          <p:nvPr/>
        </p:nvSpPr>
        <p:spPr>
          <a:xfrm>
            <a:off x="4371840" y="475452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092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464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360" y="4184640"/>
            <a:ext cx="57780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360" y="2050920"/>
            <a:ext cx="577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33520" y="1511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71600" y="15112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hart Placeholder 10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8153280" cy="3900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2767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1148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0199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68580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10"/>
          <p:cNvSpPr/>
          <p:nvPr/>
        </p:nvSpPr>
        <p:spPr>
          <a:xfrm>
            <a:off x="4748040" y="2514600"/>
            <a:ext cx="1070280" cy="60948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Sept 12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ONTHLY SALE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PROJECTION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9" name="Chart Placeholder 1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3835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791320" y="243828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32763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91320" y="408924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91320" y="48765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480" y="4968360"/>
            <a:ext cx="5335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81480" y="415620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81480" y="2505240"/>
            <a:ext cx="533520" cy="36504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81480" y="334332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305920" y="3808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1910-FB85-46FF-8823-5A68899350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REVENUE PROJEC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INE GRAPH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231" name="Chart Placeholder 9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095520" y="3327480"/>
            <a:ext cx="25909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2200" y="2847600"/>
            <a:ext cx="23623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2013 Revenue projection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Rectangular Callout 8"/>
          <p:cNvSpPr/>
          <p:nvPr/>
        </p:nvSpPr>
        <p:spPr>
          <a:xfrm>
            <a:off x="4038480" y="2644920"/>
            <a:ext cx="914400" cy="48240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YRAMID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SMART AR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57200" y="2437920"/>
            <a:ext cx="4114800" cy="3124800"/>
            <a:chOff x="457200" y="2437920"/>
            <a:chExt cx="4114800" cy="3124800"/>
          </a:xfrm>
        </p:grpSpPr>
        <p:sp>
          <p:nvSpPr>
            <p:cNvPr id="240" name="AutoShape 5"/>
            <p:cNvSpPr/>
            <p:nvPr/>
          </p:nvSpPr>
          <p:spPr>
            <a:xfrm flipV="1">
              <a:off x="1983960" y="2437560"/>
              <a:ext cx="10612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983960" y="2438280"/>
              <a:ext cx="10612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V="1">
              <a:off x="1602000" y="3244320"/>
              <a:ext cx="18248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517" y="21600"/>
                  </a:lnTo>
                  <a:lnTo>
                    <a:pt x="170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921320" y="3244320"/>
              <a:ext cx="11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 flipV="1">
              <a:off x="1220400" y="3823920"/>
              <a:ext cx="25880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185" y="21600"/>
                  </a:lnTo>
                  <a:lnTo>
                    <a:pt x="184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673280" y="3823920"/>
              <a:ext cx="1682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eop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flipV="1">
              <a:off x="838800" y="4403520"/>
              <a:ext cx="33516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459" y="21600"/>
                  </a:lnTo>
                  <a:lnTo>
                    <a:pt x="191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425240" y="4403520"/>
              <a:ext cx="217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 flipV="1">
              <a:off x="457200" y="4983120"/>
              <a:ext cx="41148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03" y="21600"/>
                  </a:lnTo>
                  <a:lnTo>
                    <a:pt x="1959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177200" y="4983120"/>
              <a:ext cx="26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866920" y="251460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66920" y="332712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66920" y="414000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866920" y="495288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05160" y="258120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05160" y="34196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05160" y="4231800"/>
            <a:ext cx="60948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160" y="50450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HRE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COLUM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108160"/>
            <a:ext cx="2671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99840"/>
            <a:ext cx="210348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52320" y="1599840"/>
            <a:ext cx="21337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48520" y="1599840"/>
            <a:ext cx="213336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2108160"/>
            <a:ext cx="27432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72200" y="2108160"/>
            <a:ext cx="266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WO COLUM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160" y="22096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723920" y="223524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0060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UTER DISPLA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172728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95280" y="2031840"/>
            <a:ext cx="27432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95280" y="302256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95280" y="3327120"/>
            <a:ext cx="27432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95280" y="444492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94920" y="474948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3640" y="180828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drienne.reynolds\Desktop\tv.png"/>
          <p:cNvPicPr/>
          <p:nvPr/>
        </p:nvPicPr>
        <p:blipFill>
          <a:blip r:embed="rId2"/>
          <a:stretch/>
        </p:blipFill>
        <p:spPr>
          <a:xfrm>
            <a:off x="739800" y="1925640"/>
            <a:ext cx="349200" cy="404640"/>
          </a:xfrm>
          <a:prstGeom prst="rect">
            <a:avLst/>
          </a:prstGeom>
          <a:ln w="0">
            <a:noFill/>
          </a:ln>
        </p:spPr>
      </p:pic>
      <p:sp>
        <p:nvSpPr>
          <p:cNvPr id="283" name="Oval 12"/>
          <p:cNvSpPr/>
          <p:nvPr/>
        </p:nvSpPr>
        <p:spPr>
          <a:xfrm>
            <a:off x="593640" y="310356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593640" y="442440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adrienne.reynolds\Desktop\iphone.png"/>
          <p:cNvPicPr/>
          <p:nvPr/>
        </p:nvPicPr>
        <p:blipFill>
          <a:blip r:embed="rId3"/>
          <a:stretch/>
        </p:blipFill>
        <p:spPr>
          <a:xfrm>
            <a:off x="754200" y="3236760"/>
            <a:ext cx="32220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adrienne.reynolds\Desktop\camera.png"/>
          <p:cNvPicPr/>
          <p:nvPr/>
        </p:nvPicPr>
        <p:blipFill>
          <a:blip r:embed="rId4"/>
          <a:stretch/>
        </p:blipFill>
        <p:spPr>
          <a:xfrm>
            <a:off x="754200" y="4557600"/>
            <a:ext cx="322200" cy="37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43560" y="2072880"/>
            <a:ext cx="3860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52578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LAPTOP COMPUTER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91320" y="2921040"/>
            <a:ext cx="16761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4640" y="332568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1320" y="4322880"/>
            <a:ext cx="1676160" cy="36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4640" y="46735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4640" y="21589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LOREM IPSUM DOLOR SIT AMET ELITI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PROIN RECONSECTETUR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76480" y="2514240"/>
            <a:ext cx="36669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14440" y="1835280"/>
            <a:ext cx="2286000" cy="332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3276720" y="1805040"/>
            <a:ext cx="2286000" cy="33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6095880" y="1805040"/>
            <a:ext cx="2286000" cy="3327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PAD TABLE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OPTION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2864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4816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47032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5241960" y="1676520"/>
            <a:ext cx="54936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806148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93800" y="222876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5608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37524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2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3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hevron 22"/>
          <p:cNvSpPr/>
          <p:nvPr/>
        </p:nvSpPr>
        <p:spPr>
          <a:xfrm flipH="1">
            <a:off x="8065440" y="6364440"/>
            <a:ext cx="82440" cy="13320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hevron 23"/>
          <p:cNvSpPr/>
          <p:nvPr/>
        </p:nvSpPr>
        <p:spPr>
          <a:xfrm>
            <a:off x="8523360" y="6364440"/>
            <a:ext cx="82440" cy="133200"/>
          </a:xfrm>
          <a:custGeom>
            <a:avLst/>
            <a:gdLst>
              <a:gd name="textAreaLeft" fmla="*/ 0 w 82440"/>
              <a:gd name="textAreaRight" fmla="*/ 8280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160" y="2286000"/>
            <a:ext cx="739116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SECTION BREAK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PAGE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12" name="Picture 2" descr="C:\Users\ADRIEN~1.REY\AppData\Local\Temp\Rar$DR96.184\icons grid\alram_black.png"/>
          <p:cNvPicPr/>
          <p:nvPr/>
        </p:nvPicPr>
        <p:blipFill>
          <a:blip r:embed="rId2"/>
          <a:stretch/>
        </p:blipFill>
        <p:spPr>
          <a:xfrm>
            <a:off x="6934320" y="2971800"/>
            <a:ext cx="1066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DU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REVIEW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66960" y="289260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62440" y="290052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57920" y="2900520"/>
            <a:ext cx="135828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8392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2864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75240" y="4677840"/>
            <a:ext cx="2159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Right Arrow 10"/>
          <p:cNvSpPr/>
          <p:nvPr/>
        </p:nvSpPr>
        <p:spPr>
          <a:xfrm rot="5400000">
            <a:off x="385200" y="3281400"/>
            <a:ext cx="812880" cy="549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ight Arrow 11"/>
          <p:cNvSpPr/>
          <p:nvPr/>
        </p:nvSpPr>
        <p:spPr>
          <a:xfrm rot="5400000">
            <a:off x="3281400" y="328140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ight Arrow 12"/>
          <p:cNvSpPr/>
          <p:nvPr/>
        </p:nvSpPr>
        <p:spPr>
          <a:xfrm rot="16200000">
            <a:off x="6192720" y="322416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3"/>
          <p:cNvSpPr/>
          <p:nvPr/>
        </p:nvSpPr>
        <p:spPr>
          <a:xfrm>
            <a:off x="312408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4"/>
          <p:cNvSpPr/>
          <p:nvPr/>
        </p:nvSpPr>
        <p:spPr>
          <a:xfrm>
            <a:off x="601992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ASE STUD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2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57440" y="50544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440" y="3225600"/>
            <a:ext cx="3429000" cy="162540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257440" y="23112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2387520"/>
            <a:ext cx="4419360" cy="327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5"/>
          <p:cNvSpPr/>
          <p:nvPr/>
        </p:nvSpPr>
        <p:spPr>
          <a:xfrm>
            <a:off x="533520" y="990720"/>
            <a:ext cx="19810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6"/>
          <p:cNvSpPr/>
          <p:nvPr/>
        </p:nvSpPr>
        <p:spPr>
          <a:xfrm>
            <a:off x="533520" y="1473120"/>
            <a:ext cx="3343320" cy="50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91440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D CONT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5333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1397160"/>
            <a:ext cx="91440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OUR CLIEN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HAVE TO SA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4" name="Text Placeholder 1"/>
          <p:cNvSpPr/>
          <p:nvPr/>
        </p:nvSpPr>
        <p:spPr>
          <a:xfrm>
            <a:off x="5791320" y="2362320"/>
            <a:ext cx="2819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molestie. Pellentesque Lorem Ipsum Dolor Sit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set vulputate elementum lorem sed molestie. Pellentesque Lorem Ipsum Dolor Sit eer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09480" y="338760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ular Callout 5"/>
          <p:cNvSpPr/>
          <p:nvPr/>
        </p:nvSpPr>
        <p:spPr>
          <a:xfrm>
            <a:off x="952560" y="1962000"/>
            <a:ext cx="1905120" cy="979560"/>
          </a:xfrm>
          <a:prstGeom prst="wedgeRectCallout">
            <a:avLst>
              <a:gd name="adj1" fmla="val -35041"/>
              <a:gd name="adj2" fmla="val 85925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676520" y="454644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ular Callout 7"/>
          <p:cNvSpPr/>
          <p:nvPr/>
        </p:nvSpPr>
        <p:spPr>
          <a:xfrm>
            <a:off x="1905120" y="3265560"/>
            <a:ext cx="1904760" cy="979560"/>
          </a:xfrm>
          <a:prstGeom prst="wedgeRectCallout">
            <a:avLst>
              <a:gd name="adj1" fmla="val -33925"/>
              <a:gd name="adj2" fmla="val 84611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3932280" y="343836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ular Callout 9"/>
          <p:cNvSpPr/>
          <p:nvPr/>
        </p:nvSpPr>
        <p:spPr>
          <a:xfrm>
            <a:off x="3238560" y="1941480"/>
            <a:ext cx="1905120" cy="979560"/>
          </a:xfrm>
          <a:prstGeom prst="wedgeRectCallout">
            <a:avLst>
              <a:gd name="adj1" fmla="val 12907"/>
              <a:gd name="adj2" fmla="val 8718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791320" y="1941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CES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IAGRAM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622440" y="1981080"/>
            <a:ext cx="1461960" cy="146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3623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9625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55627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7178760" y="2209680"/>
            <a:ext cx="100476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36480" y="3938760"/>
            <a:ext cx="1463760" cy="1463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23781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39783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55785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>
            <a:off x="71787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ight Arrow 7"/>
          <p:cNvSpPr/>
          <p:nvPr/>
        </p:nvSpPr>
        <p:spPr>
          <a:xfrm>
            <a:off x="35053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8"/>
          <p:cNvSpPr/>
          <p:nvPr/>
        </p:nvSpPr>
        <p:spPr>
          <a:xfrm>
            <a:off x="51055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9"/>
          <p:cNvSpPr/>
          <p:nvPr/>
        </p:nvSpPr>
        <p:spPr>
          <a:xfrm>
            <a:off x="67057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32"/>
          <p:cNvSpPr/>
          <p:nvPr/>
        </p:nvSpPr>
        <p:spPr>
          <a:xfrm>
            <a:off x="35053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33"/>
          <p:cNvSpPr/>
          <p:nvPr/>
        </p:nvSpPr>
        <p:spPr>
          <a:xfrm>
            <a:off x="51055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ight Arrow 34"/>
          <p:cNvSpPr/>
          <p:nvPr/>
        </p:nvSpPr>
        <p:spPr>
          <a:xfrm>
            <a:off x="67057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240"/>
            <a:ext cx="619200" cy="56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29680" y="4425840"/>
            <a:ext cx="471240" cy="49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7280" y="44258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5840"/>
            <a:ext cx="47628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ELEMEN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NE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76" name="Text Placeholder 1"/>
          <p:cNvSpPr/>
          <p:nvPr/>
        </p:nvSpPr>
        <p:spPr>
          <a:xfrm>
            <a:off x="5257800" y="190512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Placeholder 2"/>
          <p:cNvSpPr/>
          <p:nvPr/>
        </p:nvSpPr>
        <p:spPr>
          <a:xfrm>
            <a:off x="5257800" y="391320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Placeholder 3"/>
          <p:cNvSpPr/>
          <p:nvPr/>
        </p:nvSpPr>
        <p:spPr>
          <a:xfrm>
            <a:off x="5257800" y="495288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Placeholder 7"/>
          <p:cNvSpPr/>
          <p:nvPr/>
        </p:nvSpPr>
        <p:spPr>
          <a:xfrm>
            <a:off x="5257800" y="2795760"/>
            <a:ext cx="33526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 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01560" y="200664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192480" y="20066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1560" y="2571840"/>
            <a:ext cx="1257480" cy="40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601560" y="3168720"/>
            <a:ext cx="990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01560" y="373392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601560" y="4343400"/>
            <a:ext cx="335304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601560" y="4908600"/>
            <a:ext cx="2133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917720" y="25718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1668600" y="3184560"/>
            <a:ext cx="53316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192480" y="373392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4038480" y="435276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849400" y="490860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JE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09720" y="1998360"/>
            <a:ext cx="2971800" cy="41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GROWTH OBJECTIV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10080" y="1523520"/>
            <a:ext cx="243864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FINANCIAL TARGET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09720" y="281916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409720" y="3632040"/>
            <a:ext cx="3429000" cy="152424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09720" y="525744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1498320"/>
            <a:ext cx="51814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CIRCL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10780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353016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4952880"/>
            <a:ext cx="27432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3505320" y="2773440"/>
            <a:ext cx="2560680" cy="2560680"/>
          </a:xfrm>
          <a:prstGeom prst="ellipse">
            <a:avLst/>
          </a:prstGeom>
          <a:solidFill>
            <a:srgbClr val="005ea4">
              <a:alpha val="8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5397480" y="3429000"/>
            <a:ext cx="1919160" cy="1920960"/>
          </a:xfrm>
          <a:prstGeom prst="ellipse">
            <a:avLst/>
          </a:prstGeom>
          <a:solidFill>
            <a:srgbClr val="262626">
              <a:alpha val="80000"/>
            </a:srgbClr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6912000" y="3780000"/>
            <a:ext cx="1555560" cy="1554120"/>
          </a:xfrm>
          <a:prstGeom prst="ellipse">
            <a:avLst/>
          </a:prstGeom>
          <a:solidFill>
            <a:srgbClr val="bfbfbf">
              <a:alpha val="80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方正兰亭粗黑_GBK"/>
                <a:ea typeface="宋体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733920" y="22096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91320" y="28195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201080" y="328284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ETITIV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3520" y="2158920"/>
          <a:ext cx="7772400" cy="2911680"/>
        </p:xfrm>
        <a:graphic>
          <a:graphicData uri="http://schemas.openxmlformats.org/drawingml/2006/table">
            <a:tbl>
              <a:tblPr/>
              <a:tblGrid>
                <a:gridCol w="1689120"/>
                <a:gridCol w="1520640"/>
                <a:gridCol w="1521000"/>
                <a:gridCol w="1520640"/>
                <a:gridCol w="152100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 txBox="1"/>
          <p:nvPr/>
        </p:nvSpPr>
        <p:spPr>
          <a:xfrm>
            <a:off x="457200" y="1523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5b0"/>
                </a:solidFill>
                <a:latin typeface="方正兰亭粗黑_GBK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5105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5486400" y="424188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OUR CONTA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ETAIL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160" y="2158920"/>
            <a:ext cx="4343400" cy="330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3460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1840" y="2311560"/>
            <a:ext cx="24382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71840" y="271728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71840" y="312372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71840" y="353016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67280" y="424152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867280" y="477468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10516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ADDRESS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105160" y="271728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WEBSIT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105160" y="312372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05160" y="353016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TELEPHON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0" name="Picture 15" descr="twitter.png"/>
          <p:cNvPicPr/>
          <p:nvPr/>
        </p:nvPicPr>
        <p:blipFill>
          <a:blip r:embed="rId1"/>
          <a:stretch/>
        </p:blipFill>
        <p:spPr>
          <a:xfrm>
            <a:off x="5562720" y="4278240"/>
            <a:ext cx="266760" cy="355680"/>
          </a:xfrm>
          <a:prstGeom prst="rect">
            <a:avLst/>
          </a:prstGeom>
          <a:ln w="0">
            <a:noFill/>
          </a:ln>
        </p:spPr>
      </p:pic>
      <p:sp>
        <p:nvSpPr>
          <p:cNvPr id="421" name="Oval 17"/>
          <p:cNvSpPr/>
          <p:nvPr/>
        </p:nvSpPr>
        <p:spPr>
          <a:xfrm>
            <a:off x="5486400" y="474984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9" descr="facebook.png"/>
          <p:cNvPicPr/>
          <p:nvPr/>
        </p:nvPicPr>
        <p:blipFill>
          <a:blip r:embed="rId2"/>
          <a:stretch/>
        </p:blipFill>
        <p:spPr>
          <a:xfrm>
            <a:off x="5572080" y="480060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6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520" y="22860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方正兰亭粗黑_GBK"/>
              </a:rPr>
              <a:t>THANKS </a:t>
            </a:r>
            <a:r>
              <a:rPr b="0" lang="zh-CN" sz="4800" spc="-1" strike="noStrike">
                <a:solidFill>
                  <a:srgbClr val="0065b0"/>
                </a:solidFill>
                <a:latin typeface="方正兰亭粗黑_GBK"/>
              </a:rPr>
              <a:t>FOR YOUR TIM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33523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9" name="Picture 3" descr="C:\Users\ADRIEN~1.REY\AppData\Local\Temp\Rar$DR63.888\icons grid\plane_black.png"/>
          <p:cNvPicPr/>
          <p:nvPr/>
        </p:nvPicPr>
        <p:blipFill>
          <a:blip r:embed="rId2"/>
          <a:stretch/>
        </p:blipFill>
        <p:spPr>
          <a:xfrm>
            <a:off x="7007400" y="2133720"/>
            <a:ext cx="12236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ometh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bout u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4978440"/>
            <a:ext cx="2438280" cy="380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GROWTH POTENTIAL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5358960"/>
            <a:ext cx="2971800" cy="3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PROPOSED SALES TARGETS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485136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320480"/>
            <a:ext cx="8001000" cy="332748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373040"/>
            <a:ext cx="7772400" cy="532080"/>
          </a:xfrm>
          <a:prstGeom prst="rect">
            <a:avLst/>
          </a:prstGeom>
          <a:solidFill>
            <a:srgbClr val="f2f2f2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W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FFER 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99840" y="2742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0960" y="24130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2742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90960" y="42418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9132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533520" y="1509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590920" y="1511280"/>
            <a:ext cx="2057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648320" y="1511280"/>
            <a:ext cx="1676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324480" y="1511280"/>
            <a:ext cx="1981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>
            <a:off x="259092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8"/>
          <p:cNvSpPr/>
          <p:nvPr/>
        </p:nvSpPr>
        <p:spPr>
          <a:xfrm>
            <a:off x="632448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9"/>
          <p:cNvSpPr/>
          <p:nvPr/>
        </p:nvSpPr>
        <p:spPr>
          <a:xfrm>
            <a:off x="4648320" y="1371600"/>
            <a:ext cx="0" cy="5317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420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6496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6496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20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6"/>
          <p:cNvSpPr/>
          <p:nvPr/>
        </p:nvSpPr>
        <p:spPr>
          <a:xfrm>
            <a:off x="320040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609588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ARKET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108160"/>
            <a:ext cx="2590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864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2412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864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2412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16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GALLER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ON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TWO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THRE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FOU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FIV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MAGE NUMBER  SIX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2408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WO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ALYSI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205704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2057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34304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43040" y="4343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625760"/>
            <a:ext cx="24382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040" y="16257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3962520"/>
            <a:ext cx="25905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040" y="39369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0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50" name="Chart Placeholder 10" descr=""/>
          <p:cNvPicPr/>
          <p:nvPr/>
        </p:nvPicPr>
        <p:blipFill>
          <a:blip r:embed="rId1"/>
          <a:stretch/>
        </p:blipFill>
        <p:spPr>
          <a:xfrm>
            <a:off x="3276720" y="1193760"/>
            <a:ext cx="5638680" cy="467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0816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353052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495288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9Z</dcterms:modified>
  <cp:revision>19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