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9BC-8617-47B5-80D2-02AAAF5B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1BB-784E-4090-8A94-4D995A09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EBC-D8DF-4A01-A43C-867ABFC7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AB7-B82C-4C59-98E7-7EECCFAC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5AB5-E51D-4E00-9B64-11DDD56F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5E13-5567-41A9-A80F-C7BF30B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C2B8-C9A2-48C0-B8AE-BB51B3FF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29CE-0193-4259-8B90-E6251C93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4897-7FBD-415D-822B-3AF1DBB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588-D43F-46F3-9546-88B7D435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E045-4B2C-4EBE-B569-C692CFE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A26-1690-4AFC-A99C-E87D46D7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AB9D-5E3B-49BB-870E-C5F13BED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4858-8674-40AD-90DF-FD651A6E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5E06-AE9B-44E9-AE93-5935D320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1179-38B3-4F6C-98DE-A8D8B221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099A-F01C-433B-ACC6-F06A9670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723-0C12-4CBF-941B-725B6800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D30-BA8E-4ECF-A27A-668F8A48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C5A-3D63-4CB8-8D6E-AEEAC56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A8B-60FB-4E36-BC63-62AE8049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D04-A1AB-4063-A275-023FCFF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309-22FE-4862-B68E-12388FD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175-B05C-4DAB-B9B8-7212FCEB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6128-629F-4A3E-8A3B-66E96DE62855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359-9C68-4824-BE06-878E1310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0" y="1935000"/>
            <a:ext cx="914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720d"/>
                </a:solidFill>
                <a:latin typeface="Helvetica LT Black"/>
              </a:rPr>
              <a:t>Research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91000" y="42703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41680" y="4078440"/>
            <a:ext cx="206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6f"/>
                </a:solidFill>
                <a:latin typeface="Arial"/>
              </a:rPr>
              <a:t>Office of 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62240" y="4365720"/>
            <a:ext cx="281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af6f"/>
                </a:solidFill>
                <a:latin typeface="Arial"/>
              </a:rPr>
              <a:t>Professor Laura Amrkhoul,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43640" y="360360"/>
            <a:ext cx="25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720d"/>
                </a:solidFill>
                <a:latin typeface="Helvetica LT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1670040"/>
            <a:ext cx="362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What 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Research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The advantages of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Ways of using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曲线 87"/>
          <p:cNvSpPr/>
          <p:nvPr/>
        </p:nvSpPr>
        <p:spPr>
          <a:xfrm>
            <a:off x="3406680" y="177336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曲线 87"/>
          <p:cNvSpPr/>
          <p:nvPr/>
        </p:nvSpPr>
        <p:spPr>
          <a:xfrm>
            <a:off x="3406680" y="23209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曲线 87"/>
          <p:cNvSpPr/>
          <p:nvPr/>
        </p:nvSpPr>
        <p:spPr>
          <a:xfrm>
            <a:off x="3406680" y="286704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曲线 87"/>
          <p:cNvSpPr/>
          <p:nvPr/>
        </p:nvSpPr>
        <p:spPr>
          <a:xfrm>
            <a:off x="3406680" y="342900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曲线 87"/>
          <p:cNvSpPr/>
          <p:nvPr/>
        </p:nvSpPr>
        <p:spPr>
          <a:xfrm>
            <a:off x="3406680" y="39625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曲线 87"/>
          <p:cNvSpPr/>
          <p:nvPr/>
        </p:nvSpPr>
        <p:spPr>
          <a:xfrm>
            <a:off x="3406680" y="4514760"/>
            <a:ext cx="1144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0480" y="249228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720d"/>
                </a:solidFill>
                <a:latin typeface="Arial"/>
              </a:rPr>
              <a:t>What i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79760" y="341316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Research is an ORGANIZED and SYSTEMATIC way of FINDING ANSWERS to QUES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71604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670040"/>
            <a:ext cx="478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Practice-based projects are those which include as an integral part the production of an original artefact in addition to, or perhaps instead of, the production of a written thesis. (UKCGE, UK Council for Graduate Education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68520" y="3286080"/>
            <a:ext cx="4780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4e46"/>
                </a:solidFill>
                <a:latin typeface="Arial"/>
              </a:rPr>
              <a:t>Positioning of the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Context and position,  researcher, practitioner or both Translat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hypothesis into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Relationship between theory and pract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to generate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as a reflection or informed by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曲线 87"/>
          <p:cNvSpPr/>
          <p:nvPr/>
        </p:nvSpPr>
        <p:spPr>
          <a:xfrm>
            <a:off x="2558880" y="3740040"/>
            <a:ext cx="6840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曲线 87"/>
          <p:cNvSpPr/>
          <p:nvPr/>
        </p:nvSpPr>
        <p:spPr>
          <a:xfrm>
            <a:off x="2556000" y="4086360"/>
            <a:ext cx="6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曲线 87"/>
          <p:cNvSpPr/>
          <p:nvPr/>
        </p:nvSpPr>
        <p:spPr>
          <a:xfrm>
            <a:off x="2556000" y="4290840"/>
            <a:ext cx="68040" cy="1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曲线 87"/>
          <p:cNvSpPr/>
          <p:nvPr/>
        </p:nvSpPr>
        <p:spPr>
          <a:xfrm>
            <a:off x="2556000" y="4505400"/>
            <a:ext cx="68040" cy="10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11640" y="342432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720d"/>
                </a:solidFill>
                <a:latin typeface="Arial"/>
              </a:rPr>
              <a:t>Research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4240" y="424008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Selecting your Topic (Novel/Feasible/Useful/Definable outcomes/Gap in knowled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160" y="2798640"/>
            <a:ext cx="914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sus</dc:creator>
  <dc:description/>
  <dc:language>en-US</dc:language>
  <cp:lastModifiedBy/>
  <dcterms:modified xsi:type="dcterms:W3CDTF">2014-09-06T14:54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