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69C-98D9-47E5-A3A6-D8DE497D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2CE-EAB2-4857-B20C-A4748D55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032-C5B8-417A-90C9-9F67F19A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04A-0A81-4BB1-9FE4-45FA34C51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02F-0FC7-4C63-90EB-057A8698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471-A4B1-43AA-8B6B-70EEABE7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25F-18AF-438F-BDCE-76E4730C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501-D958-4EAF-B85F-17E416E7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FA6-1A80-4E27-B713-22DA87B6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CB3-5606-4ADB-BEC4-7A9DE1C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8C3-E1BB-426B-82DD-FB4B0076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ED8-C35F-4BBC-AEC8-38F610C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C1D0-5187-4AA5-8A52-F4D91B33C7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封面背景"/>
          <p:cNvPicPr/>
          <p:nvPr/>
        </p:nvPicPr>
        <p:blipFill>
          <a:blip r:embed="rId1"/>
          <a:stretch/>
        </p:blipFill>
        <p:spPr>
          <a:xfrm>
            <a:off x="46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封面线条"/>
          <p:cNvPicPr/>
          <p:nvPr/>
        </p:nvPicPr>
        <p:blipFill>
          <a:blip r:embed="rId2"/>
          <a:stretch/>
        </p:blipFill>
        <p:spPr>
          <a:xfrm>
            <a:off x="22320" y="-3240"/>
            <a:ext cx="12191760" cy="6854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封面卷页"/>
          <p:cNvPicPr/>
          <p:nvPr/>
        </p:nvPicPr>
        <p:blipFill>
          <a:blip r:embed="rId3"/>
          <a:stretch/>
        </p:blipFill>
        <p:spPr>
          <a:xfrm>
            <a:off x="130320" y="0"/>
            <a:ext cx="12191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4297320" y="2243160"/>
            <a:ext cx="50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拥抱正能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73680" y="3862440"/>
            <a:ext cx="46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点燃正能量    引爆小宇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封面闪电"/>
          <p:cNvPicPr/>
          <p:nvPr/>
        </p:nvPicPr>
        <p:blipFill>
          <a:blip r:embed="rId4"/>
          <a:stretch/>
        </p:blipFill>
        <p:spPr>
          <a:xfrm>
            <a:off x="5716440" y="741240"/>
            <a:ext cx="1247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目录背景"/>
          <p:cNvPicPr/>
          <p:nvPr/>
        </p:nvPicPr>
        <p:blipFill>
          <a:blip r:embed="rId1"/>
          <a:stretch/>
        </p:blipFill>
        <p:spPr>
          <a:xfrm>
            <a:off x="1908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目录box"/>
          <p:cNvPicPr/>
          <p:nvPr/>
        </p:nvPicPr>
        <p:blipFill>
          <a:blip r:embed="rId2"/>
          <a:stretch/>
        </p:blipFill>
        <p:spPr>
          <a:xfrm>
            <a:off x="1009800" y="84600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目录丝带"/>
          <p:cNvPicPr/>
          <p:nvPr/>
        </p:nvPicPr>
        <p:blipFill>
          <a:blip r:embed="rId3"/>
          <a:stretch/>
        </p:blipFill>
        <p:spPr>
          <a:xfrm>
            <a:off x="-1263600" y="3517920"/>
            <a:ext cx="7764480" cy="45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目录box"/>
          <p:cNvPicPr/>
          <p:nvPr/>
        </p:nvPicPr>
        <p:blipFill>
          <a:blip r:embed="rId4"/>
          <a:stretch/>
        </p:blipFill>
        <p:spPr>
          <a:xfrm>
            <a:off x="1603440" y="1839960"/>
            <a:ext cx="2004840" cy="1627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目录box"/>
          <p:cNvPicPr/>
          <p:nvPr/>
        </p:nvPicPr>
        <p:blipFill>
          <a:blip r:embed="rId5"/>
          <a:stretch/>
        </p:blipFill>
        <p:spPr>
          <a:xfrm>
            <a:off x="2211480" y="2847960"/>
            <a:ext cx="2004840" cy="1625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目录box"/>
          <p:cNvPicPr/>
          <p:nvPr/>
        </p:nvPicPr>
        <p:blipFill>
          <a:blip r:embed="rId6"/>
          <a:stretch/>
        </p:blipFill>
        <p:spPr>
          <a:xfrm>
            <a:off x="2817720" y="3841920"/>
            <a:ext cx="2005200" cy="162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目录意可贴"/>
          <p:cNvPicPr/>
          <p:nvPr/>
        </p:nvPicPr>
        <p:blipFill>
          <a:blip r:embed="rId7"/>
          <a:stretch/>
        </p:blipFill>
        <p:spPr>
          <a:xfrm>
            <a:off x="8440560" y="-9360"/>
            <a:ext cx="4054680" cy="3300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9640800" y="1270080"/>
            <a:ext cx="176076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835280" y="13431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416320" y="233676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2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3022560" y="3355920"/>
            <a:ext cx="480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629160" y="4349880"/>
            <a:ext cx="4824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705040" y="102384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快 乐 的 能 量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298680" y="20448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爱 的 吸 引 力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932280" y="305100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命 运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幼圆"/>
              </a:rPr>
              <a:t>= 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习 惯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4406760" y="4044960"/>
            <a:ext cx="397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幼圆"/>
              </a:rPr>
              <a:t>重 塑 全 新 自 我  </a:t>
            </a:r>
            <a:r>
              <a:rPr b="1" lang="en-US" sz="3600" spc="-1" strike="noStrike">
                <a:solidFill>
                  <a:srgbClr val="ff9b05"/>
                </a:solidFill>
                <a:latin typeface="Calibri"/>
                <a:ea typeface="幼圆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076720" y="109548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724360" y="211608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6130800" y="3137040"/>
            <a:ext cx="314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AB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7232760" y="4130640"/>
            <a:ext cx="314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Calibri"/>
                <a:ea typeface="微软雅黑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过渡页橙色目录条"/>
          <p:cNvPicPr/>
          <p:nvPr/>
        </p:nvPicPr>
        <p:blipFill>
          <a:blip r:embed="rId2"/>
          <a:stretch/>
        </p:blipFill>
        <p:spPr>
          <a:xfrm>
            <a:off x="-154080" y="11160"/>
            <a:ext cx="12209400" cy="687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快乐图标"/>
          <p:cNvPicPr/>
          <p:nvPr/>
        </p:nvPicPr>
        <p:blipFill>
          <a:blip r:embed="rId3"/>
          <a:stretch/>
        </p:blipFill>
        <p:spPr>
          <a:xfrm>
            <a:off x="-135000" y="2041560"/>
            <a:ext cx="3183120" cy="250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6734160" y="2351160"/>
            <a:ext cx="6599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11111"/>
                </a:solidFill>
                <a:latin typeface="Calibri"/>
                <a:ea typeface="微软雅黑"/>
              </a:rPr>
              <a:t>快 乐 </a:t>
            </a:r>
            <a:r>
              <a:rPr b="0" lang="zh-CN" sz="4000" spc="-1" strike="noStrike">
                <a:solidFill>
                  <a:srgbClr val="ff9b05"/>
                </a:solidFill>
                <a:latin typeface="Calibri"/>
                <a:ea typeface="微软雅黑"/>
              </a:rPr>
              <a:t>的 能 量</a:t>
            </a:r>
            <a:r>
              <a:rPr b="0" lang="en-US" sz="40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05640" y="3476520"/>
            <a:ext cx="40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111111"/>
                </a:solidFill>
                <a:latin typeface="Calibri"/>
                <a:ea typeface="微软雅黑"/>
              </a:rPr>
              <a:t>POWER OF PLEA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微笑图片"/>
          <p:cNvPicPr/>
          <p:nvPr/>
        </p:nvPicPr>
        <p:blipFill>
          <a:blip r:embed="rId3"/>
          <a:stretch/>
        </p:blipFill>
        <p:spPr>
          <a:xfrm>
            <a:off x="9820440" y="552600"/>
            <a:ext cx="1993680" cy="58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十字标记"/>
          <p:cNvPicPr/>
          <p:nvPr/>
        </p:nvPicPr>
        <p:blipFill>
          <a:blip r:embed="rId4"/>
          <a:stretch/>
        </p:blipFill>
        <p:spPr>
          <a:xfrm>
            <a:off x="4419720" y="1778040"/>
            <a:ext cx="2851200" cy="291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948200" y="13255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控 制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075280" y="408132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创 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快 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969240" y="2646360"/>
            <a:ext cx="314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懂 得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幽 默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787480" y="2627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学 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方正少儿简体"/>
              </a:rPr>
              <a:t>天 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1480" y="1017720"/>
            <a:ext cx="314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情绪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Emotion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206800" y="1817640"/>
            <a:ext cx="839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情绪是指个体对本身需要和客观事物之间关系的短暂而强烈的反应。是一种主观感受、生理的反应、认知的互动，并表达出一些特定行为。情绪管理是将这些感受、反应、评估和特定行为挖掘并驾驭的一种手段。情绪管理是指通过研究个体和群体对自身情绪和他人情绪的认识、协调、引导、互动和控制，充分挖掘和培植个体和群体的情绪智商、培养驾驭情绪的能力，从而确保个体和群体保持良好的情绪状态，并由此产生良好管理效果的一种管理手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内容页图标"/>
          <p:cNvPicPr/>
          <p:nvPr/>
        </p:nvPicPr>
        <p:blipFill>
          <a:blip r:embed="rId2"/>
          <a:stretch/>
        </p:blipFill>
        <p:spPr>
          <a:xfrm>
            <a:off x="-1035000" y="1589040"/>
            <a:ext cx="3825720" cy="36687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88920" y="2262240"/>
            <a:ext cx="31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NO.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444760" y="3168720"/>
            <a:ext cx="3146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解压释放负能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9b05"/>
                </a:solidFill>
                <a:latin typeface="Calibri"/>
                <a:ea typeface="微软雅黑"/>
              </a:rPr>
              <a:t>（小窍门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虚线图标"/>
          <p:cNvPicPr/>
          <p:nvPr/>
        </p:nvPicPr>
        <p:blipFill>
          <a:blip r:embed="rId3"/>
          <a:stretch/>
        </p:blipFill>
        <p:spPr>
          <a:xfrm>
            <a:off x="4545000" y="162000"/>
            <a:ext cx="2712960" cy="6458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圆"/>
          <p:cNvPicPr/>
          <p:nvPr/>
        </p:nvPicPr>
        <p:blipFill>
          <a:blip r:embed="rId4"/>
          <a:stretch/>
        </p:blipFill>
        <p:spPr>
          <a:xfrm>
            <a:off x="5796000" y="1116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圆"/>
          <p:cNvPicPr/>
          <p:nvPr/>
        </p:nvPicPr>
        <p:blipFill>
          <a:blip r:embed="rId5"/>
          <a:stretch/>
        </p:blipFill>
        <p:spPr>
          <a:xfrm>
            <a:off x="5821200" y="1407960"/>
            <a:ext cx="2500560" cy="223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圆"/>
          <p:cNvPicPr/>
          <p:nvPr/>
        </p:nvPicPr>
        <p:blipFill>
          <a:blip r:embed="rId6"/>
          <a:stretch/>
        </p:blipFill>
        <p:spPr>
          <a:xfrm>
            <a:off x="5830920" y="302580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圆"/>
          <p:cNvPicPr/>
          <p:nvPr/>
        </p:nvPicPr>
        <p:blipFill>
          <a:blip r:embed="rId7"/>
          <a:stretch/>
        </p:blipFill>
        <p:spPr>
          <a:xfrm>
            <a:off x="5826240" y="4481640"/>
            <a:ext cx="2500200" cy="222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6427800" y="90180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0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晨 跑   做体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51560" y="231444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0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交 流   听音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448320" y="3946680"/>
            <a:ext cx="5162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6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发 呆   喝清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458040" y="5402160"/>
            <a:ext cx="5164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2: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泡 脚   听相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通用背景"/>
          <p:cNvPicPr/>
          <p:nvPr/>
        </p:nvPicPr>
        <p:blipFill>
          <a:blip r:embed="rId1"/>
          <a:stretch/>
        </p:blipFill>
        <p:spPr>
          <a:xfrm>
            <a:off x="-3240" y="6480"/>
            <a:ext cx="12198240" cy="686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结束页"/>
          <p:cNvPicPr/>
          <p:nvPr/>
        </p:nvPicPr>
        <p:blipFill>
          <a:blip r:embed="rId2"/>
          <a:stretch/>
        </p:blipFill>
        <p:spPr>
          <a:xfrm>
            <a:off x="1155600" y="917640"/>
            <a:ext cx="9783720" cy="5502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10080" y="2801880"/>
            <a:ext cx="503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alibri"/>
                <a:ea typeface="黑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35:1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