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00C-D6E9-458B-BA3B-4768C726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FE5-2B83-4BB9-9DD1-D1717D6D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0DD-039A-4609-8E24-99A11A71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7FF-1D8B-440F-A49E-94FD282D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8BA4-0088-4267-B133-476272A9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3EDC-C196-47FF-B7BD-0B0DCA63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BF55-D452-4A69-BDB9-0A469E38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0D0E-02E2-490A-B137-68E3C9B3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97BA-B1EE-4515-8E84-2FEC34AB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D2DE-7EB4-4EDE-A6E0-36815202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89CE-0577-45C5-BECE-F07B0AA8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B57-C3CB-4225-A2F0-4EE83F4C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E130-EDDA-465F-BA66-1DBE6F9B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0BB8-8438-45F2-8954-3855C4F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1C3F-24F9-4D06-8FB7-0DA084B5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9D6F-2DEE-4321-B95C-30AC1D7D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AFCC-C5CD-4EAA-8A77-283A856E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907-170D-4796-B75C-B3137245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507-E242-4D5A-8453-7907609A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0B3-A9D6-452B-9C85-C9851A81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6F0-71F9-4C8B-8628-8591EAF8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8A5-D31C-4F29-87ED-3EB64A0E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8D8-4C8B-47CF-8C13-86305A1E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B54-927F-4412-86C8-5F2ED039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378D-5FD5-4C54-B866-05CF4F3D23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77B9-EFF6-4B52-90C2-6129A353BF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7D90-1A08-4849-99B1-68B7C19DE4C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8728-A6E0-4056-8608-61B102A5E0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4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5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"/>
          <p:cNvSpPr/>
          <p:nvPr/>
        </p:nvSpPr>
        <p:spPr>
          <a:xfrm flipH="1">
            <a:off x="82224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"/>
          <p:cNvSpPr/>
          <p:nvPr/>
        </p:nvSpPr>
        <p:spPr>
          <a:xfrm flipH="1">
            <a:off x="3628440" y="2246400"/>
            <a:ext cx="10969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6"/>
          <p:cNvSpPr/>
          <p:nvPr/>
        </p:nvSpPr>
        <p:spPr>
          <a:xfrm flipH="1">
            <a:off x="643248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"/>
          <p:cNvSpPr/>
          <p:nvPr/>
        </p:nvSpPr>
        <p:spPr>
          <a:xfrm flipH="1">
            <a:off x="9238680" y="2247840"/>
            <a:ext cx="1096920" cy="221616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半闭框 9"/>
          <p:cNvSpPr/>
          <p:nvPr/>
        </p:nvSpPr>
        <p:spPr>
          <a:xfrm rot="8093400">
            <a:off x="290808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半闭框 10"/>
          <p:cNvSpPr/>
          <p:nvPr/>
        </p:nvSpPr>
        <p:spPr>
          <a:xfrm rot="8093400">
            <a:off x="574956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半闭框 11"/>
          <p:cNvSpPr/>
          <p:nvPr/>
        </p:nvSpPr>
        <p:spPr>
          <a:xfrm rot="8093400">
            <a:off x="857232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86" name="Freeform 19"/>
            <p:cNvSpPr/>
            <p:nvPr/>
          </p:nvSpPr>
          <p:spPr>
            <a:xfrm>
              <a:off x="10089720" y="2627280"/>
              <a:ext cx="255240" cy="256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10318680" y="2568600"/>
              <a:ext cx="180720" cy="1814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>
              <a:off x="9745560" y="2883960"/>
              <a:ext cx="1071720" cy="1062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"/>
            <p:cNvSpPr/>
            <p:nvPr/>
          </p:nvSpPr>
          <p:spPr>
            <a:xfrm>
              <a:off x="10282680" y="2741040"/>
              <a:ext cx="353880" cy="14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18"/>
          <p:cNvSpPr/>
          <p:nvPr/>
        </p:nvSpPr>
        <p:spPr>
          <a:xfrm>
            <a:off x="4211640" y="2873520"/>
            <a:ext cx="1052640" cy="9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2"/>
          <p:cNvSpPr/>
          <p:nvPr/>
        </p:nvSpPr>
        <p:spPr>
          <a:xfrm>
            <a:off x="1382760" y="2797200"/>
            <a:ext cx="1074600" cy="11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23"/>
          <p:cNvSpPr/>
          <p:nvPr/>
        </p:nvSpPr>
        <p:spPr>
          <a:xfrm>
            <a:off x="3157560" y="2741760"/>
            <a:ext cx="2181240" cy="167292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3044880" y="2494080"/>
            <a:ext cx="2041560" cy="1089000"/>
          </a:xfrm>
          <a:prstGeom prst="pie">
            <a:avLst/>
          </a:pr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1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23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3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bevel/>
            <a:tailEnd len="med" type="triangle" w="med"/>
          </a:ln>
        </p:spPr>
      </p:cxnSp>
      <p:sp>
        <p:nvSpPr>
          <p:cNvPr id="334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9"/>
          <p:cNvSpPr/>
          <p:nvPr/>
        </p:nvSpPr>
        <p:spPr>
          <a:xfrm flipH="1">
            <a:off x="1433520" y="340524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12"/>
          <p:cNvSpPr/>
          <p:nvPr/>
        </p:nvSpPr>
        <p:spPr>
          <a:xfrm flipH="1">
            <a:off x="4111560" y="341460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14"/>
          <p:cNvSpPr/>
          <p:nvPr/>
        </p:nvSpPr>
        <p:spPr>
          <a:xfrm flipH="1">
            <a:off x="6778080" y="3414600"/>
            <a:ext cx="51732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16"/>
          <p:cNvSpPr/>
          <p:nvPr/>
        </p:nvSpPr>
        <p:spPr>
          <a:xfrm flipH="1">
            <a:off x="9597960" y="3409920"/>
            <a:ext cx="517680" cy="104472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9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52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5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8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bevel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2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饼形 3"/>
            <p:cNvSpPr/>
            <p:nvPr/>
          </p:nvSpPr>
          <p:spPr>
            <a:xfrm>
              <a:off x="3262680" y="2103480"/>
              <a:ext cx="1811880" cy="1811880"/>
            </a:xfrm>
            <a:prstGeom prst="pie">
              <a:avLst/>
            </a:prstGeom>
            <a:solidFill>
              <a:srgbClr val="fff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7"/>
          <p:cNvSpPr/>
          <p:nvPr/>
        </p:nvSpPr>
        <p:spPr>
          <a:xfrm flipH="1">
            <a:off x="4669560" y="1488960"/>
            <a:ext cx="1629000" cy="325908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3"/>
          <p:cNvSpPr/>
          <p:nvPr/>
        </p:nvSpPr>
        <p:spPr>
          <a:xfrm flipH="1">
            <a:off x="1459080" y="1968480"/>
            <a:ext cx="114120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24"/>
          <p:cNvSpPr/>
          <p:nvPr/>
        </p:nvSpPr>
        <p:spPr>
          <a:xfrm flipH="1">
            <a:off x="8776440" y="1965240"/>
            <a:ext cx="114156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5" name="Freeform 86"/>
          <p:cNvSpPr/>
          <p:nvPr/>
        </p:nvSpPr>
        <p:spPr>
          <a:xfrm>
            <a:off x="2108160" y="2836800"/>
            <a:ext cx="663480" cy="66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8"/>
          <p:cNvSpPr/>
          <p:nvPr/>
        </p:nvSpPr>
        <p:spPr>
          <a:xfrm>
            <a:off x="2724120" y="2709720"/>
            <a:ext cx="39384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"/>
          <p:cNvSpPr/>
          <p:nvPr/>
        </p:nvSpPr>
        <p:spPr>
          <a:xfrm flipH="1">
            <a:off x="3958560" y="1622520"/>
            <a:ext cx="1989000" cy="39812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8"/>
          <p:cNvSpPr/>
          <p:nvPr/>
        </p:nvSpPr>
        <p:spPr>
          <a:xfrm>
            <a:off x="8956800" y="3171960"/>
            <a:ext cx="574560" cy="69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2" name="Freeform 79"/>
            <p:cNvSpPr/>
            <p:nvPr/>
          </p:nvSpPr>
          <p:spPr>
            <a:xfrm>
              <a:off x="2327400" y="4940640"/>
              <a:ext cx="930240" cy="32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2327400" y="4589640"/>
              <a:ext cx="93024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3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30"/>
            <p:cNvSpPr/>
            <p:nvPr/>
          </p:nvSpPr>
          <p:spPr>
            <a:xfrm>
              <a:off x="3095640" y="2534760"/>
              <a:ext cx="2171520" cy="1905480"/>
            </a:xfrm>
            <a:prstGeom prst="pie">
              <a:avLst/>
            </a:pr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6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弧形 11"/>
          <p:cNvSpPr/>
          <p:nvPr/>
        </p:nvSpPr>
        <p:spPr>
          <a:xfrm flipV="1" rot="2819400">
            <a:off x="3072960" y="247536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弧形 16"/>
          <p:cNvSpPr/>
          <p:nvPr/>
        </p:nvSpPr>
        <p:spPr>
          <a:xfrm rot="18780600">
            <a:off x="3060360" y="212544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半闭框 17"/>
          <p:cNvSpPr/>
          <p:nvPr/>
        </p:nvSpPr>
        <p:spPr>
          <a:xfrm rot="8093400">
            <a:off x="7461000" y="34160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12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5"/>
            <p:cNvSpPr/>
            <p:nvPr/>
          </p:nvSpPr>
          <p:spPr>
            <a:xfrm>
              <a:off x="5536440" y="3004560"/>
              <a:ext cx="1252800" cy="128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6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2326320" y="2903040"/>
              <a:ext cx="682560" cy="1389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20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prstGeom prst="pie">
              <a:avLst/>
            </a:pr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33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6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9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42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6" name="Freeform 15"/>
          <p:cNvSpPr/>
          <p:nvPr/>
        </p:nvSpPr>
        <p:spPr>
          <a:xfrm>
            <a:off x="6959520" y="3241800"/>
            <a:ext cx="965160" cy="9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54720" bIns="54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8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dc:language>en-US</dc:language>
  <cp:lastModifiedBy>NEE</cp:lastModifiedBy>
  <dcterms:modified xsi:type="dcterms:W3CDTF">2014-09-06T15:02:23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