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90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683-F04F-4514-B456-905D86AF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95C-7649-4560-BE4D-719DAA2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7D5-79D1-425E-8C6E-68215ED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750-D394-495F-A258-EB3F8E1C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794-B352-4393-BEE1-3F0A7AA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E75-D7CB-4F8C-8DD3-741A5BD8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B74-E149-456B-A449-8C96359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DE5-B6F4-4280-8654-36861FE4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E6C-83C7-4CA2-97A2-BB01167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E09-2BD0-4E97-90A2-AE48DBA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F11-EC66-49F8-B37A-07B0838A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D57-0E05-4DA6-A694-58664B20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DC0E-5DB6-439B-BC3E-31D5C8BF64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6"/>
          <p:cNvSpPr/>
          <p:nvPr/>
        </p:nvSpPr>
        <p:spPr>
          <a:xfrm>
            <a:off x="3238560" y="1681200"/>
            <a:ext cx="56023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4"/>
          <p:cNvSpPr/>
          <p:nvPr/>
        </p:nvSpPr>
        <p:spPr>
          <a:xfrm>
            <a:off x="4881600" y="4583160"/>
            <a:ext cx="21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mpact"/>
              </a:rPr>
              <a:t>小精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26"/>
          <p:cNvSpPr/>
          <p:nvPr/>
        </p:nvSpPr>
        <p:spPr>
          <a:xfrm>
            <a:off x="4133880" y="3949560"/>
            <a:ext cx="36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BUSINESS REPORT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24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248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0" name="图片 18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03" name="图片 63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6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文本框 6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117a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32b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26" name="图片 30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27" name="文本框 3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文本框 4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32bb99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74" name="图片 5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375" name="文本框 5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文本框 5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8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379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08" name="图片 3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7" name="图片 27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28" name="文本框 2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文本框 3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35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36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50" name="图片 3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51" name="文本框 3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文本框 3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稻壳儿小白白(http://dwz.cn/Wu2UP)"/>
          <p:cNvSpPr/>
          <p:nvPr/>
        </p:nvSpPr>
        <p:spPr>
          <a:xfrm>
            <a:off x="6313320" y="17762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68"/>
                </a:solidFill>
                <a:latin typeface="Arial"/>
              </a:rPr>
              <a:t>2015</a:t>
            </a:r>
            <a:r>
              <a:rPr b="1" lang="zh-CN" sz="2800" spc="-1" strike="noStrike">
                <a:solidFill>
                  <a:srgbClr val="117a68"/>
                </a:solidFill>
                <a:latin typeface="Arial"/>
              </a:rPr>
              <a:t>的结束，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a8ea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</a:t>
            </a:r>
            <a:r>
              <a:rPr b="0" lang="zh-CN" sz="2400" spc="-1" strike="noStrike">
                <a:solidFill>
                  <a:srgbClr val="7a8ea9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5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PREFACE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117a68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71" name="图片 2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3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文本框 35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5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476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117a6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9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49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49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16" name="图片 7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17" name="文本框 88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89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bb99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17a68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36" name="图片 3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3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文本框 3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558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78" name="图片 57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文本框 6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5ac8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409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0e62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289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96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597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8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pic>
        <p:nvPicPr>
          <p:cNvPr id="59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418520" y="2627280"/>
            <a:ext cx="1652400" cy="560520"/>
          </a:xfrm>
          <a:prstGeom prst="rect">
            <a:avLst/>
          </a:prstGeom>
          <a:ln w="0">
            <a:noFill/>
          </a:ln>
        </p:spPr>
      </p:pic>
      <p:sp>
        <p:nvSpPr>
          <p:cNvPr id="600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1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602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3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604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8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文本框 6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2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623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5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3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63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63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63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63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63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64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64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55" name="图片 46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56" name="文本框 47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文本框 48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98" name="图片 68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6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3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4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5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30" name="图片 3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31" name="文本框 40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文本框 41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6819840" y="123516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"/>
          <p:cNvSpPr/>
          <p:nvPr/>
        </p:nvSpPr>
        <p:spPr>
          <a:xfrm>
            <a:off x="7672320" y="1338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1"/>
          <p:cNvSpPr/>
          <p:nvPr/>
        </p:nvSpPr>
        <p:spPr>
          <a:xfrm>
            <a:off x="6819840" y="124776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" name="图片 24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6819840" y="21463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25"/>
          <p:cNvSpPr/>
          <p:nvPr/>
        </p:nvSpPr>
        <p:spPr>
          <a:xfrm>
            <a:off x="7672320" y="2249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完成情况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文本框 26"/>
          <p:cNvSpPr/>
          <p:nvPr/>
        </p:nvSpPr>
        <p:spPr>
          <a:xfrm>
            <a:off x="6819840" y="21589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8" name="图片 27" descr=""/>
          <p:cNvPicPr/>
          <p:nvPr/>
        </p:nvPicPr>
        <p:blipFill>
          <a:blip r:embed="rId3"/>
          <a:srcRect l="13634" t="9294" r="6711" b="5219"/>
          <a:stretch/>
        </p:blipFill>
        <p:spPr>
          <a:xfrm>
            <a:off x="6819840" y="303372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28"/>
          <p:cNvSpPr/>
          <p:nvPr/>
        </p:nvSpPr>
        <p:spPr>
          <a:xfrm>
            <a:off x="7672320" y="3137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文本框 29"/>
          <p:cNvSpPr/>
          <p:nvPr/>
        </p:nvSpPr>
        <p:spPr>
          <a:xfrm>
            <a:off x="6819840" y="304632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1" name="图片 30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6819840" y="3946680"/>
            <a:ext cx="725400" cy="664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31"/>
          <p:cNvSpPr/>
          <p:nvPr/>
        </p:nvSpPr>
        <p:spPr>
          <a:xfrm>
            <a:off x="7672320" y="4048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成功项目展示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文本框 33"/>
          <p:cNvSpPr/>
          <p:nvPr/>
        </p:nvSpPr>
        <p:spPr>
          <a:xfrm>
            <a:off x="6819840" y="395928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4" name="图片 34" descr=""/>
          <p:cNvPicPr/>
          <p:nvPr/>
        </p:nvPicPr>
        <p:blipFill>
          <a:blip r:embed="rId5"/>
          <a:srcRect l="13634" t="9294" r="6711" b="5219"/>
          <a:stretch/>
        </p:blipFill>
        <p:spPr>
          <a:xfrm>
            <a:off x="6819840" y="4857840"/>
            <a:ext cx="725400" cy="666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35"/>
          <p:cNvSpPr/>
          <p:nvPr/>
        </p:nvSpPr>
        <p:spPr>
          <a:xfrm>
            <a:off x="7672320" y="4959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f5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文本框 37"/>
          <p:cNvSpPr/>
          <p:nvPr/>
        </p:nvSpPr>
        <p:spPr>
          <a:xfrm>
            <a:off x="6819840" y="4870440"/>
            <a:ext cx="596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7" name="图片 18" descr=""/>
          <p:cNvPicPr/>
          <p:nvPr/>
        </p:nvPicPr>
        <p:blipFill>
          <a:blip r:embed="rId6"/>
          <a:stretch/>
        </p:blipFill>
        <p:spPr>
          <a:xfrm rot="20975400">
            <a:off x="423360" y="1515960"/>
            <a:ext cx="5759640" cy="34210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2"/>
          <p:cNvSpPr/>
          <p:nvPr/>
        </p:nvSpPr>
        <p:spPr>
          <a:xfrm>
            <a:off x="1251000" y="2717640"/>
            <a:ext cx="44449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48" name="图片 22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749" name="文本框 23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明年工作计划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文本框 24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图片 1" descr=""/>
          <p:cNvPicPr/>
          <p:nvPr/>
        </p:nvPicPr>
        <p:blipFill>
          <a:blip r:embed="rId1"/>
          <a:stretch/>
        </p:blipFill>
        <p:spPr>
          <a:xfrm rot="20975400">
            <a:off x="1617480" y="688680"/>
            <a:ext cx="8762760" cy="52052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6"/>
          <p:cNvSpPr/>
          <p:nvPr/>
        </p:nvSpPr>
        <p:spPr>
          <a:xfrm>
            <a:off x="2759040" y="2014560"/>
            <a:ext cx="674856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THANKS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81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16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1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81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81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820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823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7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828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29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830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831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832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833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4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835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836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837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38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839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2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843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44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45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6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7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8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849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850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851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852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853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85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856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858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859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860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861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9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0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4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5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7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8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2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3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4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5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6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9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0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1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2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3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4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7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8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9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0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1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2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3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5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6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7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8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e62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08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09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09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09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09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10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0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0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0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0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11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11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1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12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12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12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12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12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12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2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12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13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13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13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3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13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13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13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14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14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4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14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15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15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15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15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15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5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15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16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16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6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16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16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16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17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17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7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17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17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17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18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18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18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18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18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18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18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18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18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18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3"/>
          <p:cNvSpPr/>
          <p:nvPr/>
        </p:nvSpPr>
        <p:spPr>
          <a:xfrm>
            <a:off x="2967120" y="4416480"/>
            <a:ext cx="60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f58"/>
                </a:solidFill>
                <a:latin typeface="微软雅黑"/>
              </a:rPr>
              <a:t>年度工作概述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00" name="组合 4"/>
          <p:cNvGrpSpPr/>
          <p:nvPr/>
        </p:nvGrpSpPr>
        <p:grpSpPr>
          <a:xfrm>
            <a:off x="4357800" y="1117440"/>
            <a:ext cx="3155760" cy="2946600"/>
            <a:chOff x="4357800" y="1117440"/>
            <a:chExt cx="3155760" cy="2946600"/>
          </a:xfrm>
        </p:grpSpPr>
        <p:pic>
          <p:nvPicPr>
            <p:cNvPr id="101" name="图片 1" descr=""/>
            <p:cNvPicPr/>
            <p:nvPr/>
          </p:nvPicPr>
          <p:blipFill>
            <a:blip r:embed="rId1"/>
            <a:stretch/>
          </p:blipFill>
          <p:spPr>
            <a:xfrm>
              <a:off x="4359240" y="1117440"/>
              <a:ext cx="3154320" cy="29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3" descr=""/>
            <p:cNvPicPr/>
            <p:nvPr/>
          </p:nvPicPr>
          <p:blipFill>
            <a:blip r:embed="rId2"/>
            <a:stretch/>
          </p:blipFill>
          <p:spPr>
            <a:xfrm>
              <a:off x="4357800" y="1117440"/>
              <a:ext cx="3155760" cy="29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文本框 2"/>
          <p:cNvSpPr/>
          <p:nvPr/>
        </p:nvSpPr>
        <p:spPr>
          <a:xfrm>
            <a:off x="5130720" y="1338120"/>
            <a:ext cx="16099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1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4881600" y="51991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f58"/>
                </a:solidFill>
                <a:latin typeface="微软雅黑"/>
              </a:rPr>
              <a:t>单击此处添加标题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25560">
            <a:solidFill>
              <a:srgbClr val="117a68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2" name="图片 45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6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7" name="图片 41" descr=""/>
          <p:cNvPicPr/>
          <p:nvPr/>
        </p:nvPicPr>
        <p:blipFill>
          <a:blip r:embed="rId1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44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47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17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8" name="图片 41" descr=""/>
          <p:cNvPicPr/>
          <p:nvPr/>
        </p:nvPicPr>
        <p:blipFill>
          <a:blip r:embed="rId2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42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文本框 43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8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1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1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1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18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02" name="图片 53" descr=""/>
          <p:cNvPicPr/>
          <p:nvPr/>
        </p:nvPicPr>
        <p:blipFill>
          <a:blip r:embed="rId6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9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文本框 60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32b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13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4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5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216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217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22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228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229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117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38" name="图片 54" descr=""/>
          <p:cNvPicPr/>
          <p:nvPr/>
        </p:nvPicPr>
        <p:blipFill>
          <a:blip r:embed="rId4"/>
          <a:srcRect l="13634" t="9294" r="6711" b="5219"/>
          <a:stretch/>
        </p:blipFill>
        <p:spPr>
          <a:xfrm>
            <a:off x="262080" y="160200"/>
            <a:ext cx="725400" cy="66528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5"/>
          <p:cNvSpPr/>
          <p:nvPr/>
        </p:nvSpPr>
        <p:spPr>
          <a:xfrm>
            <a:off x="987480" y="266760"/>
            <a:ext cx="22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7a68"/>
                </a:solidFill>
                <a:latin typeface="微软雅黑"/>
              </a:rPr>
              <a:t>年度工作概述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文本框 56"/>
          <p:cNvSpPr/>
          <p:nvPr/>
        </p:nvSpPr>
        <p:spPr>
          <a:xfrm>
            <a:off x="262080" y="177840"/>
            <a:ext cx="626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3:21:24Z</dcterms:modified>
  <cp:revision>49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