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4A72-463F-4C8E-BF36-A0857670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822-8D5C-4D39-9DAD-DEB94183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657-B2FC-48C6-A82F-71D7F555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BFE-ED0E-4163-812C-2BE6173E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230F-6A11-4E68-BB3E-700C174A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CE1A-DED3-4784-8467-7AA26EA0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30B-93B8-4B39-A946-9393EA92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70A-EC51-4877-BA13-D6CB0928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D03-1F05-4039-B893-2291AB13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DB6-8C3D-4A5D-BC7D-035C5BF5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579-E014-4D66-8B3C-47A0AE93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612-8BE8-4A0A-B328-590BD142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511920" indent="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02420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536120" indent="-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572FBD09-54A2-4FFC-A24B-FC9A62C65110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1BB8BD1-D525-4488-A5AF-2BB40CFECBD0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19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03" name="Freeform 30"/>
            <p:cNvSpPr/>
            <p:nvPr/>
          </p:nvSpPr>
          <p:spPr>
            <a:xfrm>
              <a:off x="4869360" y="3670200"/>
              <a:ext cx="271116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1"/>
            <p:cNvSpPr/>
            <p:nvPr/>
          </p:nvSpPr>
          <p:spPr>
            <a:xfrm>
              <a:off x="7577280" y="2949480"/>
              <a:ext cx="271044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158560" y="4389120"/>
              <a:ext cx="2710800" cy="1440"/>
              <a:chOff x="2158560" y="4389120"/>
              <a:chExt cx="2710800" cy="1440"/>
            </a:xfrm>
          </p:grpSpPr>
          <p:sp>
            <p:nvSpPr>
              <p:cNvPr id="1306" name="Line 34"/>
              <p:cNvSpPr/>
              <p:nvPr/>
            </p:nvSpPr>
            <p:spPr>
              <a:xfrm flipH="1">
                <a:off x="2158560" y="4389120"/>
                <a:ext cx="2710440" cy="1440"/>
              </a:xfrm>
              <a:prstGeom prst="line">
                <a:avLst/>
              </a:prstGeom>
              <a:ln w="25560">
                <a:solidFill>
                  <a:srgbClr val="9e9e9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>
                <a:off x="2158920" y="4389120"/>
                <a:ext cx="2710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8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09" name="Freeform 5"/>
            <p:cNvSpPr/>
            <p:nvPr/>
          </p:nvSpPr>
          <p:spPr>
            <a:xfrm>
              <a:off x="2158920" y="318528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12" name="Freeform 5"/>
            <p:cNvSpPr/>
            <p:nvPr/>
          </p:nvSpPr>
          <p:spPr>
            <a:xfrm>
              <a:off x="5040360" y="241704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15" name="Freeform 5"/>
            <p:cNvSpPr/>
            <p:nvPr/>
          </p:nvSpPr>
          <p:spPr>
            <a:xfrm>
              <a:off x="7824960" y="1743840"/>
              <a:ext cx="576000" cy="11134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18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21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24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433-A28F-4CC0-8C03-37409F5CAC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3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2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43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46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49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1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873-4162-468A-91F8-88E8284F94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60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任意多边形 21"/>
          <p:cNvSpPr/>
          <p:nvPr/>
        </p:nvSpPr>
        <p:spPr>
          <a:xfrm rot="8017200">
            <a:off x="5154480" y="2786040"/>
            <a:ext cx="109512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任意多边形 22"/>
          <p:cNvSpPr/>
          <p:nvPr/>
        </p:nvSpPr>
        <p:spPr>
          <a:xfrm rot="13330800">
            <a:off x="4393800" y="35460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任意多边形 23"/>
          <p:cNvSpPr/>
          <p:nvPr/>
        </p:nvSpPr>
        <p:spPr>
          <a:xfrm rot="2853000">
            <a:off x="4488120" y="20286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任意多边形 24"/>
          <p:cNvSpPr/>
          <p:nvPr/>
        </p:nvSpPr>
        <p:spPr>
          <a:xfrm rot="18918600">
            <a:off x="5781240" y="2761920"/>
            <a:ext cx="109548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任意多边形 25"/>
          <p:cNvSpPr/>
          <p:nvPr/>
        </p:nvSpPr>
        <p:spPr>
          <a:xfrm rot="13330800">
            <a:off x="6486120" y="35398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任意多边形 26"/>
          <p:cNvSpPr/>
          <p:nvPr/>
        </p:nvSpPr>
        <p:spPr>
          <a:xfrm rot="2853000">
            <a:off x="6516720" y="21142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7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7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58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58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76E-A79B-4282-90E4-82E039F8FE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9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3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14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16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7F8-75C8-400E-A21A-28AB8259EE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2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5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46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8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49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1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52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4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55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F91-9256-42FF-AF6A-27FD74DF54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6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2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1980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1983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1986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8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1989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1992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91A-4CE6-4F27-8B82-ECFBF54C6A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0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037-258A-4652-A3EE-83206F6F1A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6" name="矩形​​ 3"/>
            <p:cNvSpPr/>
            <p:nvPr/>
          </p:nvSpPr>
          <p:spPr>
            <a:xfrm>
              <a:off x="2409840" y="3150720"/>
              <a:ext cx="974880" cy="81792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69" name="矩形​​ 3"/>
            <p:cNvSpPr/>
            <p:nvPr/>
          </p:nvSpPr>
          <p:spPr>
            <a:xfrm>
              <a:off x="2409840" y="4095360"/>
              <a:ext cx="974880" cy="82116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2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2"/>
          <p:cNvSpPr/>
          <p:nvPr/>
        </p:nvSpPr>
        <p:spPr>
          <a:xfrm>
            <a:off x="4446000" y="228456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3"/>
          <p:cNvSpPr/>
          <p:nvPr/>
        </p:nvSpPr>
        <p:spPr>
          <a:xfrm>
            <a:off x="4446000" y="3230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4"/>
          <p:cNvSpPr/>
          <p:nvPr/>
        </p:nvSpPr>
        <p:spPr>
          <a:xfrm>
            <a:off x="4446000" y="4157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5"/>
          <p:cNvSpPr/>
          <p:nvPr/>
        </p:nvSpPr>
        <p:spPr>
          <a:xfrm>
            <a:off x="4446000" y="50450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4" name="矩形​​ 3"/>
            <p:cNvSpPr/>
            <p:nvPr/>
          </p:nvSpPr>
          <p:spPr>
            <a:xfrm>
              <a:off x="2409840" y="2203560"/>
              <a:ext cx="974880" cy="82080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3B4-A677-40B0-8009-7013CE7D86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8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0A25F36-A393-4EF9-BEB5-D93384FF48FA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E37-786F-4EFA-A5B7-2760953A5C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0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0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1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2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25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6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27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0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1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2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35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38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7CF-4CD9-4090-815B-6EAB90D964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5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0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65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68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1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74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3C9-F5D9-4F17-8121-E1445B20B4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8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79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79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79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0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718-A539-4247-87C4-94093E1D23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1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9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E9A-DF92-451E-982D-015A06BE1A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2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6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37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38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41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44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47" name="Freeform 5"/>
            <p:cNvSpPr/>
            <p:nvPr/>
          </p:nvSpPr>
          <p:spPr>
            <a:xfrm>
              <a:off x="5645160" y="198216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50" name="Freeform 5"/>
            <p:cNvSpPr/>
            <p:nvPr/>
          </p:nvSpPr>
          <p:spPr>
            <a:xfrm>
              <a:off x="7661160" y="198216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53" name="Freeform 5"/>
            <p:cNvSpPr/>
            <p:nvPr/>
          </p:nvSpPr>
          <p:spPr>
            <a:xfrm>
              <a:off x="9677520" y="1982160"/>
              <a:ext cx="576000" cy="1113480"/>
            </a:xfrm>
            <a:prstGeom prst="pi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330-93CA-45B4-BFA1-36E7B3471C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6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72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任意多边形 21"/>
          <p:cNvSpPr/>
          <p:nvPr/>
        </p:nvSpPr>
        <p:spPr>
          <a:xfrm rot="8017200">
            <a:off x="3461400" y="2763000"/>
            <a:ext cx="1095480" cy="10555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任意多边形 22"/>
          <p:cNvSpPr/>
          <p:nvPr/>
        </p:nvSpPr>
        <p:spPr>
          <a:xfrm rot="13330800">
            <a:off x="2700000" y="3521160"/>
            <a:ext cx="1095480" cy="105552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任意多边形 23"/>
          <p:cNvSpPr/>
          <p:nvPr/>
        </p:nvSpPr>
        <p:spPr>
          <a:xfrm rot="2853000">
            <a:off x="2793960" y="200484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任意多边形 24"/>
          <p:cNvSpPr/>
          <p:nvPr/>
        </p:nvSpPr>
        <p:spPr>
          <a:xfrm rot="18918600">
            <a:off x="7692840" y="2652840"/>
            <a:ext cx="109512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任意多边形 25"/>
          <p:cNvSpPr/>
          <p:nvPr/>
        </p:nvSpPr>
        <p:spPr>
          <a:xfrm rot="13330800">
            <a:off x="8397360" y="3430080"/>
            <a:ext cx="1095480" cy="10558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6"/>
          <p:cNvSpPr/>
          <p:nvPr/>
        </p:nvSpPr>
        <p:spPr>
          <a:xfrm rot="2853000">
            <a:off x="8428320" y="200484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81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184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E61-88BA-4EA1-B851-57FD687D06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dc:language>en-US</dc:language>
  <cp:lastModifiedBy>Sky123.Org</cp:lastModifiedBy>
  <dcterms:modified xsi:type="dcterms:W3CDTF">2015-01-07T08:59:16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