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278-C2CD-4167-A9A0-58126643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1D4-70DD-49D3-BCBB-85754B5D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DC5-236E-44DE-94B8-6D6CA6BC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A6A-9444-4690-946B-1B0B9F8A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75D-0E97-4F47-B1E7-C49B7D68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D3D-B971-44DA-A2AB-ED5D3661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083-D790-41AF-847A-3D14B2C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DEC-3365-4119-9E62-3C6EE18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5DA-323D-4999-A088-B358B4BD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91C-1E98-4DB5-82BE-C2B9BCC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3C0-CE2D-4AFC-9777-44EE1CF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909-B9C8-4C39-B02C-F4A79DB1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CE27-9DD5-4E39-932D-741A1AFFD2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933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哎呀小小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3"/>
          <p:cNvSpPr/>
          <p:nvPr/>
        </p:nvSpPr>
        <p:spPr>
          <a:xfrm>
            <a:off x="1936800" y="43750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3"/>
          <p:cNvSpPr/>
          <p:nvPr/>
        </p:nvSpPr>
        <p:spPr>
          <a:xfrm>
            <a:off x="4044960" y="438480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6243480" y="4384800"/>
            <a:ext cx="1897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8345520" y="4403880"/>
            <a:ext cx="189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2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4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4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哎呀小小草，请在百度搜索：哎呀小小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5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5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69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2011320" y="1836720"/>
            <a:ext cx="33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33"/>
          <p:cNvSpPr/>
          <p:nvPr/>
        </p:nvSpPr>
        <p:spPr>
          <a:xfrm>
            <a:off x="202716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33"/>
          <p:cNvSpPr/>
          <p:nvPr/>
        </p:nvSpPr>
        <p:spPr>
          <a:xfrm>
            <a:off x="202716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7337520" y="183348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33"/>
          <p:cNvSpPr/>
          <p:nvPr/>
        </p:nvSpPr>
        <p:spPr>
          <a:xfrm>
            <a:off x="7337520" y="341640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33"/>
          <p:cNvSpPr/>
          <p:nvPr/>
        </p:nvSpPr>
        <p:spPr>
          <a:xfrm>
            <a:off x="7337520" y="4919760"/>
            <a:ext cx="33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哎呀小小草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哎呀小小草，请在百度搜索：哎呀小小草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8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82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5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8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91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25"/>
          <p:cNvSpPr/>
          <p:nvPr/>
        </p:nvSpPr>
        <p:spPr>
          <a:xfrm>
            <a:off x="94608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6"/>
          <p:cNvSpPr/>
          <p:nvPr/>
        </p:nvSpPr>
        <p:spPr>
          <a:xfrm>
            <a:off x="369252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6346800" y="4338720"/>
            <a:ext cx="21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9075600" y="4338720"/>
            <a:ext cx="21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哎呀小小草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哎呀小小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7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03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7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12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6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9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哎呀小小草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5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32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5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8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哎呀小小草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5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9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173520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6500880" y="3751200"/>
            <a:ext cx="365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，请在百度搜索：哎呀小小草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7555-B162-4301-B310-F4DAFC0F2040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66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9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72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75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8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81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84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7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因为专业、愈逐极致，更多关于哎呀小小草，请在百度搜索：哎呀小小草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35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91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哎呀小小草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9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202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205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208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哎呀小小草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6"/>
          <p:cNvSpPr/>
          <p:nvPr/>
        </p:nvSpPr>
        <p:spPr>
          <a:xfrm>
            <a:off x="108000" y="6245280"/>
            <a:ext cx="90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精彩模板，请搜索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哎呀小小草</dc:creator>
  <dc:description/>
  <cp:keywords/>
  <dc:language>en-US</dc:language>
  <cp:lastModifiedBy>Administrator</cp:lastModifiedBy>
  <dcterms:modified xsi:type="dcterms:W3CDTF">2016-08-22T03:56:34Z</dcterms:modified>
  <cp:revision>4</cp:revision>
  <dc:subject/>
  <dc:title>PowerPoint 演示文稿</dc:title>
</cp:coreProperties>
</file>