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B6B-4DE4-4DD9-BF78-F81AD835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5A5-CF00-478F-B987-D154293A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49B-4E05-4C82-A884-49D9421E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CFB-4207-47D3-982D-41CF79FB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7F1-DD8B-48C5-B010-09E79282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D76-4B69-468B-A359-525F1D2D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D4ED-D154-4D45-9239-5A7D867F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C5A-1A7F-400C-8C73-3DCA6BC6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F93-E92E-4AF9-AB36-14F7A0D7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133-038F-439E-A919-80540CC3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EAC-E7D1-4B48-AE19-463850A4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5B8-8F25-4D03-9537-10454C08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BDA1-DA70-4FE9-9BCA-CC48E22E5D3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D488-9B11-46A8-80B6-69188E1C8F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61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7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7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7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7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8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39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41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44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50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5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7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9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1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3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69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70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72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73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15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1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2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2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2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2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84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9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90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1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92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3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4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95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6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97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8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9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900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902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3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04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2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910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912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6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68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101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4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55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64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5" name="Text Box 38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97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99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2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53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57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66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1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1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3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3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8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9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9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2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60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61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62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9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4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4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80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5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21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23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4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6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8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8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40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72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4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76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80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1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12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13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14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7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20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23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5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26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7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30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36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40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42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45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9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哎呀小小草</dc:creator>
  <dc:description/>
  <cp:keywords/>
  <dc:language>en-US</dc:language>
  <cp:lastModifiedBy>Administrator</cp:lastModifiedBy>
  <dcterms:modified xsi:type="dcterms:W3CDTF">2016-08-22T03:59:34Z</dcterms:modified>
  <cp:revision>89</cp:revision>
  <dc:subject/>
  <dc:title>PowerPoint 演示文稿</dc:title>
</cp:coreProperties>
</file>