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67.jpeg" ContentType="image/jpeg"/>
  <Override PartName="/ppt/media/image21.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0.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AC13-E206-4DED-B6A5-806885623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5D88-B5B3-42AD-B685-C3E7CF91D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229DF-68CE-4671-A30C-FB8BC5E79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7F3D7-0F6A-49D4-9C1C-2EC84ED1D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840C-7E19-474B-89F9-057851ECE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C65A-BE4D-4E1C-B0CA-2F0B9098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3DCD-33AC-490C-9D31-D9268360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0B90-DB47-489E-9078-C6AD9C76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4F5C-DDF5-41EF-AE15-AC2B68CD0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1A26-1597-48BE-AE40-804187A0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85EE-BB22-4352-8939-0495F6604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D203F-3293-4BC5-9977-6DC3A95BF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1493-DE4D-4DD7-82D7-0CD5EB79B36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D0AA-7762-4578-8BEC-E9D544EFC8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30"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42" name="Picture 4" descr="C:\Users\admin\Desktop\1.jpg"/>
          <p:cNvPicPr/>
          <p:nvPr/>
        </p:nvPicPr>
        <p:blipFill>
          <a:blip r:embed="rId2"/>
          <a:stretch/>
        </p:blipFill>
        <p:spPr>
          <a:xfrm>
            <a:off x="3929040" y="3664080"/>
            <a:ext cx="722160" cy="688680"/>
          </a:xfrm>
          <a:prstGeom prst="rect">
            <a:avLst/>
          </a:prstGeom>
          <a:ln w="0">
            <a:noFill/>
          </a:ln>
        </p:spPr>
      </p:pic>
      <p:sp>
        <p:nvSpPr>
          <p:cNvPr id="643"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45"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47"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pan</cp:lastModifiedBy>
  <dcterms:modified xsi:type="dcterms:W3CDTF">2014-07-19T07:16:20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6</vt:lpwstr>
  </property>
</Properties>
</file>