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DF15-0FAC-444A-AE7E-9001435F09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3FD3-2366-4231-A623-C3E3539BFA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87D9-3AF7-4A24-907F-5F8AAB9716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E4E3-BE95-4D3D-90DC-D6A5EDD099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0EEE-B8FC-4434-997E-CBE6495BED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3FD1-A634-40BA-984C-2605B76C8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8CA9-7CCF-4813-8B2D-A1ABB4EF1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FAC9-FF0D-445E-B929-C783163FCD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0069-2276-4FBC-B15D-553CA85807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89C1-76E7-4012-A017-E635F48660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2FEE-2D23-46FA-8C50-82BC59AF1B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CB02-F494-4D04-8E51-0551E4120D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D7A-E370-42A7-B741-A6F1673201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209A-C83A-4951-82D5-470D05A40A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47F2-835F-4635-9070-AF1B19E487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781A-7CE1-4134-B3A5-0307A84437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6223-EED4-41B5-8E89-2A3EB655E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F66-48A8-4AE7-811A-0D0721DA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FF8-FDBD-464D-BEF8-C2A853D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580-274F-4AC3-A308-E61FA4E7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9E5-ABE3-4055-8BEF-B16080C2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04F-4F94-4A40-8F20-9436C5D5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179-7000-45E5-B60E-3B6CF4B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8A9-C557-462D-B6D2-76228C1B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B8F-16E6-412C-B46E-F44CAAA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0DD-BADF-4E68-8352-0BFD1EEF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59B-F819-4621-9A21-3CC186F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F46-01D0-489F-BCB1-128F25A4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70C-D1B3-4AB4-A9DF-0DC9FD15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akoa.taobao.com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iloveppt.org/forum.php?mod=forumdisplay&amp;fid=51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E61E-CE28-4194-8C4D-5A422483C0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95280" y="110952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1089000" y="1374840"/>
            <a:ext cx="9349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创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103640" y="1374840"/>
            <a:ext cx="9367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120080" y="1374840"/>
            <a:ext cx="934920" cy="936720"/>
          </a:xfrm>
          <a:prstGeom prst="ellipse">
            <a:avLst/>
          </a:prstGeom>
          <a:solidFill>
            <a:srgbClr val="e60000"/>
          </a:solidFill>
          <a:ln w="1260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395280" y="297180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84120" y="2523960"/>
            <a:ext cx="25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史上最新最全的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素材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3714840" y="25239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享受二年期的免费更新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445080" y="25239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1000G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高精度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SD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创意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395280" y="4096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梵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帝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精品资源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395280" y="6078600"/>
            <a:ext cx="468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更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素材集  请访问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http://wakoa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395280" y="580248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搜集整理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-  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旺旺：梵帝尼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QQ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56632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7"/>
          <p:cNvSpPr/>
          <p:nvPr/>
        </p:nvSpPr>
        <p:spPr>
          <a:xfrm>
            <a:off x="1655640" y="3840120"/>
            <a:ext cx="5832720" cy="72072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圆角矩形 18"/>
          <p:cNvGrpSpPr/>
          <p:nvPr/>
        </p:nvGrpSpPr>
        <p:grpSpPr>
          <a:xfrm>
            <a:off x="1773360" y="3986280"/>
            <a:ext cx="4383000" cy="549360"/>
            <a:chOff x="1773360" y="3986280"/>
            <a:chExt cx="4383000" cy="549360"/>
          </a:xfrm>
        </p:grpSpPr>
        <p:pic>
          <p:nvPicPr>
            <p:cNvPr id="54" name="圆角矩形 18" descr=""/>
            <p:cNvPicPr/>
            <p:nvPr/>
          </p:nvPicPr>
          <p:blipFill>
            <a:blip r:embed="rId3"/>
            <a:stretch/>
          </p:blipFill>
          <p:spPr>
            <a:xfrm>
              <a:off x="1773360" y="3986280"/>
              <a:ext cx="4383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8560" y="4013280"/>
              <a:ext cx="433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6868"/>
                  </a:solidFill>
                  <a:latin typeface="微软雅黑"/>
                  <a:ea typeface="微软雅黑"/>
                </a:rPr>
                <a:t>http://wakoa.taobao.c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19">
            <a:hlinkClick r:id="rId4"/>
          </p:cNvPr>
          <p:cNvSpPr/>
          <p:nvPr/>
        </p:nvSpPr>
        <p:spPr>
          <a:xfrm>
            <a:off x="6316560" y="3938760"/>
            <a:ext cx="1008000" cy="52380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f6bb00"/>
              </a:gs>
              <a:gs pos="100000">
                <a:srgbClr val="ffd243"/>
              </a:gs>
            </a:gsLst>
            <a:lin ang="16200000"/>
          </a:gradFill>
          <a:ln w="9360">
            <a:solidFill>
              <a:srgbClr val="ffd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86868"/>
                </a:solidFill>
                <a:latin typeface="微软雅黑"/>
                <a:ea typeface="微软雅黑"/>
              </a:rPr>
              <a:t>搜 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1655640" y="4586400"/>
            <a:ext cx="583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支持：梵帝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1"/>
          <p:cNvSpPr/>
          <p:nvPr/>
        </p:nvSpPr>
        <p:spPr>
          <a:xfrm>
            <a:off x="4071960" y="1357200"/>
            <a:ext cx="1000080" cy="10000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467735-lg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936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7279505-l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7358430-l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7557524-md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448920" cy="707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oten0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art-01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6824447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618023-lg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975600-lg"/>
          <p:cNvPicPr/>
          <p:nvPr/>
        </p:nvPicPr>
        <p:blipFill>
          <a:blip r:embed="rId1"/>
          <a:stretch/>
        </p:blipFill>
        <p:spPr>
          <a:xfrm>
            <a:off x="221148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6057225-l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Pooten05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3944000-l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6643156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4647590-lg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45:37Z</dcterms:created>
  <dc:creator>Elldin Zeneli</dc:creator>
  <dc:description/>
  <dc:language>en-US</dc:language>
  <cp:lastModifiedBy>zjp888</cp:lastModifiedBy>
  <dcterms:modified xsi:type="dcterms:W3CDTF">2012-04-10T13:31:11Z</dcterms:modified>
  <cp:revision>5</cp:revision>
  <dc:subject/>
  <dc:title>Slide 1</dc:title>
</cp:coreProperties>
</file>