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E0C-6960-4CB0-A634-E4A8A9E4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EE3-9352-4392-B7AB-2D527E75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5AD5B-5ADA-4DA4-8D20-F0C96A6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246E-62EA-4239-AD9F-2D48F9F0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D6C13-01D5-45EE-A5B9-A11FFE3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6763-760F-4309-BB52-44A7969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809A7-7482-4DC3-AE6C-C8C3ADF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3DA25-FCB8-4892-A159-DE6BC4B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3E1D5-750C-4524-BFDA-5F67CDE9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1AF4C-1A98-494B-94EF-58BD9CCC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7A945-8B75-4146-9C4F-22B450B4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9E7F5-F9FB-4066-9C34-68F9F40C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B37-03EF-4DF9-926A-C8401049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3AEF4-036E-4983-A366-7C7BDFA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E58D1-65B3-4DFA-A4FF-65847E1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8072-0CF0-41B3-9518-88E878C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401E-C6AB-4D6F-8E09-A16EE36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8F9A6-4602-4E8C-A3B3-995C611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FB9DD-AF32-4329-9D8B-2BFF8EA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B231E-9F5B-468A-BACF-09C4D1F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C62D-248A-4858-9A57-5F15AA6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722ED-B5E2-4ACA-957D-3F90FAB0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5C4F-B17F-447A-B346-AED548B9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E1A-10B0-4896-80FE-D6004BC4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0E063-062D-4062-811E-29976775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D8B23-AE16-4825-8B9C-A92B9215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8598-0E30-4D49-B3B5-136C950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5377-E7C9-482C-94EC-75CEBBB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76286-0D68-4D62-ABDB-547C740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2B74B-6D5E-426B-9C1A-F8AD7F6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D9D7F-CAE5-4ECD-915A-3615EC9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B66F-694D-43D3-8A69-AF0AF81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DAE3-63CB-4C1C-B460-F0671AF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E6627-E581-4BB2-AC76-7CE0BB3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B909-E54A-4323-9B47-9AB4B1BC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DD4C-5A53-4721-8095-7624811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BCC2-C027-4B55-BFEE-C3299ED2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512C2-66F5-4EFB-AC6D-A2D8AD5F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779C3-63EA-40B0-9952-1BAA2EE4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1F88-92E3-40C8-A9D8-8300389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26C7D-49E6-4248-B793-50F83D8D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4E70-EDB9-443B-9CED-74E69BA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F0776-3261-4E45-A999-FE408C1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EF95D-EFE5-475C-A46A-8F6CB4F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69186-1736-4F22-9CFE-811E109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6722-37E2-445E-9CA0-E493A1A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0AB49-36DB-4575-8E7F-2D60E17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F492C-1C6B-4B5B-BF22-8CF716C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0ED24-64A0-411E-B032-DDDD660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535D0-CA20-4158-8F83-E827D10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05357-0FA6-4F93-96D0-709E9517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2D414-977D-4E02-9372-1FB9FF00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35005-F9EA-40A0-8EA2-DE9B3B1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5D4D-4DE7-4534-B6B0-54F2ACE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21A8C-D6AB-45DE-9A9B-F0B52F9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AF5BC-C6D6-4A4A-84C6-1B593BE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CA5-44FC-4DDB-9E86-3605F0B3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0C220-FDFE-40A5-81E0-6498933D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F5758-1075-4177-958F-F55D9FDC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CF58A-7286-4D97-BAF4-B44FA2F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6566B-065A-476D-9917-41FA7FF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52D76-5F7B-4C24-A17E-E04A7F5D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45EE8-2CFE-48E2-A03A-83BA992F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21784-3002-41A6-B489-E577429B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C227-EB1D-4F47-A1ED-1F51993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FA67-ACA2-4355-B82A-5900E69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DC1F-F258-48A9-BC58-CF87641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71D-E25C-43B1-94A5-1038F27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409-BC33-46A8-A7A1-35E53392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A64-5264-4BDB-943A-EF88E830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CFA9-9161-456C-9FF0-3DC9C48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6B9-6219-472F-9BC4-71F0CACB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D886-4750-4FD0-AAC9-A327161C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3D8-27DD-447B-8B7C-27D65D1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7850-3BB2-469C-B75C-8D49349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B2F0-5160-46DB-836F-06B9FAC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245D-8EAB-4D5B-9166-13A182F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1CED-F196-4F47-B60B-F3B2A16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6256-9323-40A4-A0E9-9165C2B4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E09-6A57-4C83-A150-AC87882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70D0-FEFA-44D7-8AA3-6BA74937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550D-420F-4A53-AE08-F883EAE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94A4-B1FA-475D-AE8E-AE88E12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2BC3-9689-4FAA-B6F1-C43999B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A1C2-AB72-4C8A-A7B2-D1BFE3D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4736-97D3-43C2-A391-3EE67BF7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C19E-4F0D-448C-A892-B99F81F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9CEC-4403-42E8-8779-9C14E3DE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CCFB-D5EE-49C4-8BF5-74EC790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7C07-8306-491E-BA95-1F6A18E8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9CF-F81F-416C-8C8A-1839573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F010-8DEB-4699-BB43-170EDF4D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E0CF-E055-49A1-B19E-DDBD2E2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707F-05D4-4DE0-9E5E-07A0910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955C-6223-44AC-B6C8-DA63654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7C8C-D1AB-4A0D-AAC6-EA07262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3995-54C7-4796-A188-9D54E8E9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A71A-3D5E-46C0-8788-0CD1210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7EF7-BCE4-47C8-BE59-E6497224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ED7A-ED9C-4F08-8C18-8C6A0F0D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E4FD-C014-4452-B6A8-AC023161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82D-0B63-44F2-98E2-1772C512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A836C-19B9-4BDC-84C9-BCA6281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877E-1634-42BB-B50C-82C596F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BC90-076F-4D59-8EC0-220F8F5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6103-92A3-4414-9D60-76979BD5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0EF2-0876-4F00-ADED-71A2678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D410-650F-4731-B50A-CA5F7E5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028F-A3ED-4469-ABB1-F1F0FA0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8B46A-2291-4015-A65C-A87C1C7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E14B0-4463-4169-9827-F6407B29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EF114-0A73-4868-9FE1-730B351D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458-378B-43F1-83C2-B8DA2B2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06A4-B0A3-49A7-991A-4A059400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BD6C-4BD8-49AC-A1AE-019288D9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DA61-D0B8-4505-8A88-7BA1728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9C93-45AB-45B2-AB2F-38B4F29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401F-394F-4F36-9D6B-C937D3D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BEE0F-740B-498B-99BA-7A4A4D5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983B-0227-4872-91AE-AB92B983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7BCC-1A40-466D-A280-12C11EE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ED2C-B935-4756-914F-B703E8C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A790-57F8-4E51-8EBC-9944589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715-5975-4A68-811C-044DE43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0FEE4-E34D-43E5-99FD-C7FD550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4423-3E0F-452A-9C10-3A9D20C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ABC5-8A29-45E2-821E-1B87A4C8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8D106-D470-4BF9-9472-C476E3E7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7DF7A-AEDC-4DB5-A4AE-A66BD843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A4D5A-1090-457F-B5DC-2FB600DE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9AF3-1CCB-468C-9A93-285BAC9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AAA17-9D34-444C-82EB-9089F39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4DCF-433D-4504-AF55-354EE1DB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7572-A8A2-46C3-9C93-80F3D62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8E4-B02F-4666-B25E-DDFB703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E9E2A-9A82-434C-AFE1-3B9E4E7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BE4A3-36E8-4E6D-B623-F1F1289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9463-0F6B-417A-B87B-68E6B5F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DFF6-23BA-4B01-AF14-FF605AFC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3389E-D558-47B2-B03D-5CB5E9CE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A736-CD33-405D-9575-501FA81F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FF1B9-04D0-4F9C-8D06-2617610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2699-4BCF-4008-A5A3-831D4D03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DE287-0C2B-4CB1-A906-B93ACB1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EC4BD-09B3-44B9-8636-23A531B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9D0-C24D-4BC9-8E03-77A8D23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C0403-DB87-4792-A176-939EB94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FE60-7381-4BDD-B202-DB98B04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817C-496A-412E-921A-B27CBF1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C98E0-BE67-46F6-84EF-49E3E03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A97C-7558-4DCA-B8A6-34B629F4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B555F-45FA-45BE-A738-19A08112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A7EAD-07D5-4E84-A9D1-BD7D7C9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F011-4E69-407D-9277-9FA2ECC9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CE27-710A-43EA-9EB1-EE18C6A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2D0F4-341C-4BAE-923E-82853A55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7F1-04F1-49F8-B76F-8489AA07B6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FD4-EC25-4B05-8860-D0226D2F1B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023F-4FEC-4F09-89FD-45ADC8E7E2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5B4-A248-4250-AFF4-81F9A2E9A3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0BE-36ED-4F86-B282-8AC2CED8F3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7B2D-70CF-40D3-BCD7-B55A435011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1CA-5050-4A8E-9549-1C67A2AE48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D66D-7085-472B-9D48-05449FB525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73B-2A6C-4EF9-9B20-BF648D6376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48A-6DC8-415E-96F4-5AB22E9528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8766-280C-4220-9911-F18E5D4E4D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968-09AB-48C6-90E8-9AF6664450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2A03-F32A-47D8-8A0D-BE121933B8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9CB-A4E9-4542-8AD6-427AF79533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147-6539-4FE0-B40F-7E12AF43D3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140-DDA6-43DA-A216-BE6C2D4EFE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F25-A215-4839-B6F6-6794827932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4060-1AD3-47A0-83CB-88FE3751D0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9CC7-4CEB-494A-860F-5F373B8196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079-D1CA-4862-95FF-36EA31AA0E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C2EC-3B83-4C82-B0FE-8A55756483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6BB-42CE-40BE-8F37-DB5E8F8A8B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7A5-429C-4F1F-8B54-BF3A63E646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B516-8047-482D-9B29-50C27D94CA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E9D-72B5-4829-B472-13DE246900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9B4D-B10A-4466-BA1E-823B2FD5F6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prstGeom prst="pie">
            <a:avLst/>
          </a:pr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5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User</cp:lastModifiedBy>
  <dcterms:modified xsi:type="dcterms:W3CDTF">2015-03-15T10:20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