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243"/>
          <p:cNvGrpSpPr/>
          <p:nvPr/>
        </p:nvGrpSpPr>
        <p:grpSpPr>
          <a:xfrm>
            <a:off x="-360" y="0"/>
            <a:ext cx="12192120" cy="6858000"/>
            <a:chOff x="-360" y="0"/>
            <a:chExt cx="12192120" cy="6858000"/>
          </a:xfrm>
        </p:grpSpPr>
        <p:sp>
          <p:nvSpPr>
            <p:cNvPr id="1" name="Rectangle 6"/>
            <p:cNvSpPr/>
            <p:nvPr/>
          </p:nvSpPr>
          <p:spPr>
            <a:xfrm rot="5400000">
              <a:off x="2666520" y="-2666880"/>
              <a:ext cx="6858000" cy="121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 rot="5400000">
              <a:off x="11192400" y="-109440"/>
              <a:ext cx="889920" cy="110880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1108800"/>
                <a:gd name="textAreaBottom" fmla="*/ 1108800 h 1108800"/>
              </a:gdLst>
              <a:ahLst/>
              <a:rect l="textAreaLeft" t="textAreaTop" r="textAreaRight" b="textAreaBottom"/>
              <a:pathLst>
                <a:path w="716" h="716">
                  <a:moveTo>
                    <a:pt x="196" y="452"/>
                  </a:moveTo>
                  <a:lnTo>
                    <a:pt x="0" y="650"/>
                  </a:lnTo>
                  <a:lnTo>
                    <a:pt x="0" y="716"/>
                  </a:lnTo>
                  <a:lnTo>
                    <a:pt x="231" y="487"/>
                  </a:lnTo>
                  <a:lnTo>
                    <a:pt x="196" y="452"/>
                  </a:lnTo>
                  <a:close/>
                  <a:moveTo>
                    <a:pt x="288" y="362"/>
                  </a:moveTo>
                  <a:lnTo>
                    <a:pt x="215" y="435"/>
                  </a:lnTo>
                  <a:lnTo>
                    <a:pt x="248" y="468"/>
                  </a:lnTo>
                  <a:lnTo>
                    <a:pt x="321" y="395"/>
                  </a:lnTo>
                  <a:lnTo>
                    <a:pt x="288" y="362"/>
                  </a:lnTo>
                  <a:close/>
                  <a:moveTo>
                    <a:pt x="394" y="255"/>
                  </a:moveTo>
                  <a:lnTo>
                    <a:pt x="321" y="329"/>
                  </a:lnTo>
                  <a:lnTo>
                    <a:pt x="354" y="362"/>
                  </a:lnTo>
                  <a:lnTo>
                    <a:pt x="427" y="289"/>
                  </a:lnTo>
                  <a:lnTo>
                    <a:pt x="394" y="255"/>
                  </a:lnTo>
                  <a:close/>
                  <a:moveTo>
                    <a:pt x="716" y="0"/>
                  </a:moveTo>
                  <a:lnTo>
                    <a:pt x="650" y="0"/>
                  </a:lnTo>
                  <a:lnTo>
                    <a:pt x="411" y="239"/>
                  </a:lnTo>
                  <a:lnTo>
                    <a:pt x="444" y="272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 rot="5400000">
              <a:off x="11192400" y="-109440"/>
              <a:ext cx="889920" cy="110880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1108800"/>
                <a:gd name="textAreaBottom" fmla="*/ 1108800 h 1108800"/>
              </a:gdLst>
              <a:ahLst/>
              <a:rect l="textAreaLeft" t="textAreaTop" r="textAreaRight" b="textAreaBottom"/>
              <a:pathLst>
                <a:path w="716" h="716">
                  <a:moveTo>
                    <a:pt x="196" y="452"/>
                  </a:moveTo>
                  <a:lnTo>
                    <a:pt x="0" y="650"/>
                  </a:lnTo>
                  <a:lnTo>
                    <a:pt x="0" y="716"/>
                  </a:lnTo>
                  <a:lnTo>
                    <a:pt x="231" y="487"/>
                  </a:lnTo>
                  <a:lnTo>
                    <a:pt x="196" y="452"/>
                  </a:lnTo>
                  <a:moveTo>
                    <a:pt x="288" y="362"/>
                  </a:moveTo>
                  <a:lnTo>
                    <a:pt x="215" y="435"/>
                  </a:lnTo>
                  <a:lnTo>
                    <a:pt x="248" y="468"/>
                  </a:lnTo>
                  <a:lnTo>
                    <a:pt x="321" y="395"/>
                  </a:lnTo>
                  <a:lnTo>
                    <a:pt x="288" y="362"/>
                  </a:lnTo>
                  <a:moveTo>
                    <a:pt x="394" y="255"/>
                  </a:moveTo>
                  <a:lnTo>
                    <a:pt x="321" y="329"/>
                  </a:lnTo>
                  <a:lnTo>
                    <a:pt x="354" y="362"/>
                  </a:lnTo>
                  <a:lnTo>
                    <a:pt x="427" y="289"/>
                  </a:lnTo>
                  <a:lnTo>
                    <a:pt x="394" y="255"/>
                  </a:lnTo>
                  <a:moveTo>
                    <a:pt x="716" y="0"/>
                  </a:moveTo>
                  <a:lnTo>
                    <a:pt x="650" y="0"/>
                  </a:lnTo>
                  <a:lnTo>
                    <a:pt x="411" y="239"/>
                  </a:lnTo>
                  <a:lnTo>
                    <a:pt x="444" y="272"/>
                  </a:lnTo>
                  <a:lnTo>
                    <a:pt x="7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 rot="5400000">
              <a:off x="9491040" y="-294840"/>
              <a:ext cx="2405880" cy="2995560"/>
            </a:xfrm>
            <a:custGeom>
              <a:avLst/>
              <a:gdLst>
                <a:gd name="textAreaLeft" fmla="*/ 0 w 2405880"/>
                <a:gd name="textAreaRight" fmla="*/ 2406240 w 2405880"/>
                <a:gd name="textAreaTop" fmla="*/ 0 h 2995560"/>
                <a:gd name="textAreaBottom" fmla="*/ 2995920 h 2995560"/>
              </a:gdLst>
              <a:ahLst/>
              <a:rect l="textAreaLeft" t="textAreaTop" r="textAreaRight" b="textAreaBottom"/>
              <a:pathLst>
                <a:path w="1935" h="1934">
                  <a:moveTo>
                    <a:pt x="196" y="1671"/>
                  </a:moveTo>
                  <a:lnTo>
                    <a:pt x="0" y="1867"/>
                  </a:lnTo>
                  <a:lnTo>
                    <a:pt x="0" y="1934"/>
                  </a:lnTo>
                  <a:lnTo>
                    <a:pt x="229" y="1704"/>
                  </a:lnTo>
                  <a:lnTo>
                    <a:pt x="196" y="1671"/>
                  </a:lnTo>
                  <a:close/>
                  <a:moveTo>
                    <a:pt x="288" y="1579"/>
                  </a:moveTo>
                  <a:lnTo>
                    <a:pt x="212" y="1655"/>
                  </a:lnTo>
                  <a:lnTo>
                    <a:pt x="245" y="1688"/>
                  </a:lnTo>
                  <a:lnTo>
                    <a:pt x="321" y="1612"/>
                  </a:lnTo>
                  <a:lnTo>
                    <a:pt x="288" y="1579"/>
                  </a:lnTo>
                  <a:close/>
                  <a:moveTo>
                    <a:pt x="394" y="1473"/>
                  </a:moveTo>
                  <a:lnTo>
                    <a:pt x="321" y="1546"/>
                  </a:lnTo>
                  <a:lnTo>
                    <a:pt x="354" y="1579"/>
                  </a:lnTo>
                  <a:lnTo>
                    <a:pt x="427" y="1506"/>
                  </a:lnTo>
                  <a:lnTo>
                    <a:pt x="394" y="1473"/>
                  </a:lnTo>
                  <a:close/>
                  <a:moveTo>
                    <a:pt x="806" y="1061"/>
                  </a:moveTo>
                  <a:lnTo>
                    <a:pt x="411" y="1456"/>
                  </a:lnTo>
                  <a:lnTo>
                    <a:pt x="444" y="1489"/>
                  </a:lnTo>
                  <a:lnTo>
                    <a:pt x="839" y="1094"/>
                  </a:lnTo>
                  <a:lnTo>
                    <a:pt x="806" y="1061"/>
                  </a:lnTo>
                  <a:close/>
                  <a:moveTo>
                    <a:pt x="895" y="972"/>
                  </a:moveTo>
                  <a:lnTo>
                    <a:pt x="822" y="1045"/>
                  </a:lnTo>
                  <a:lnTo>
                    <a:pt x="855" y="1078"/>
                  </a:lnTo>
                  <a:lnTo>
                    <a:pt x="928" y="1005"/>
                  </a:lnTo>
                  <a:lnTo>
                    <a:pt x="895" y="972"/>
                  </a:lnTo>
                  <a:close/>
                  <a:moveTo>
                    <a:pt x="1004" y="863"/>
                  </a:moveTo>
                  <a:lnTo>
                    <a:pt x="928" y="938"/>
                  </a:lnTo>
                  <a:lnTo>
                    <a:pt x="964" y="972"/>
                  </a:lnTo>
                  <a:lnTo>
                    <a:pt x="1037" y="898"/>
                  </a:lnTo>
                  <a:lnTo>
                    <a:pt x="1004" y="863"/>
                  </a:lnTo>
                  <a:close/>
                  <a:moveTo>
                    <a:pt x="1415" y="454"/>
                  </a:moveTo>
                  <a:lnTo>
                    <a:pt x="1021" y="846"/>
                  </a:lnTo>
                  <a:lnTo>
                    <a:pt x="1054" y="879"/>
                  </a:lnTo>
                  <a:lnTo>
                    <a:pt x="1448" y="487"/>
                  </a:lnTo>
                  <a:lnTo>
                    <a:pt x="1415" y="454"/>
                  </a:lnTo>
                  <a:close/>
                  <a:moveTo>
                    <a:pt x="1505" y="362"/>
                  </a:moveTo>
                  <a:lnTo>
                    <a:pt x="1432" y="437"/>
                  </a:lnTo>
                  <a:lnTo>
                    <a:pt x="1465" y="471"/>
                  </a:lnTo>
                  <a:lnTo>
                    <a:pt x="1538" y="395"/>
                  </a:lnTo>
                  <a:lnTo>
                    <a:pt x="1505" y="362"/>
                  </a:lnTo>
                  <a:close/>
                  <a:moveTo>
                    <a:pt x="1614" y="255"/>
                  </a:moveTo>
                  <a:lnTo>
                    <a:pt x="1538" y="329"/>
                  </a:lnTo>
                  <a:lnTo>
                    <a:pt x="1571" y="362"/>
                  </a:lnTo>
                  <a:lnTo>
                    <a:pt x="1647" y="289"/>
                  </a:lnTo>
                  <a:lnTo>
                    <a:pt x="1614" y="255"/>
                  </a:lnTo>
                  <a:close/>
                  <a:moveTo>
                    <a:pt x="1935" y="0"/>
                  </a:moveTo>
                  <a:lnTo>
                    <a:pt x="1869" y="0"/>
                  </a:lnTo>
                  <a:lnTo>
                    <a:pt x="1630" y="239"/>
                  </a:lnTo>
                  <a:lnTo>
                    <a:pt x="1663" y="272"/>
                  </a:lnTo>
                  <a:lnTo>
                    <a:pt x="1935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 rot="5400000">
              <a:off x="9491040" y="-294840"/>
              <a:ext cx="2405880" cy="2995560"/>
            </a:xfrm>
            <a:custGeom>
              <a:avLst/>
              <a:gdLst>
                <a:gd name="textAreaLeft" fmla="*/ 0 w 2405880"/>
                <a:gd name="textAreaRight" fmla="*/ 2406240 w 2405880"/>
                <a:gd name="textAreaTop" fmla="*/ 0 h 2995560"/>
                <a:gd name="textAreaBottom" fmla="*/ 2995920 h 2995560"/>
              </a:gdLst>
              <a:ahLst/>
              <a:rect l="textAreaLeft" t="textAreaTop" r="textAreaRight" b="textAreaBottom"/>
              <a:pathLst>
                <a:path w="1935" h="1934">
                  <a:moveTo>
                    <a:pt x="196" y="1671"/>
                  </a:moveTo>
                  <a:lnTo>
                    <a:pt x="0" y="1867"/>
                  </a:lnTo>
                  <a:lnTo>
                    <a:pt x="0" y="1934"/>
                  </a:lnTo>
                  <a:lnTo>
                    <a:pt x="229" y="1704"/>
                  </a:lnTo>
                  <a:lnTo>
                    <a:pt x="196" y="1671"/>
                  </a:lnTo>
                  <a:moveTo>
                    <a:pt x="288" y="1579"/>
                  </a:moveTo>
                  <a:lnTo>
                    <a:pt x="212" y="1655"/>
                  </a:lnTo>
                  <a:lnTo>
                    <a:pt x="245" y="1688"/>
                  </a:lnTo>
                  <a:lnTo>
                    <a:pt x="321" y="1612"/>
                  </a:lnTo>
                  <a:lnTo>
                    <a:pt x="288" y="1579"/>
                  </a:lnTo>
                  <a:moveTo>
                    <a:pt x="394" y="1473"/>
                  </a:moveTo>
                  <a:lnTo>
                    <a:pt x="321" y="1546"/>
                  </a:lnTo>
                  <a:lnTo>
                    <a:pt x="354" y="1579"/>
                  </a:lnTo>
                  <a:lnTo>
                    <a:pt x="427" y="1506"/>
                  </a:lnTo>
                  <a:lnTo>
                    <a:pt x="394" y="1473"/>
                  </a:lnTo>
                  <a:moveTo>
                    <a:pt x="806" y="1061"/>
                  </a:moveTo>
                  <a:lnTo>
                    <a:pt x="411" y="1456"/>
                  </a:lnTo>
                  <a:lnTo>
                    <a:pt x="444" y="1489"/>
                  </a:lnTo>
                  <a:lnTo>
                    <a:pt x="839" y="1094"/>
                  </a:lnTo>
                  <a:lnTo>
                    <a:pt x="806" y="1061"/>
                  </a:lnTo>
                  <a:moveTo>
                    <a:pt x="895" y="972"/>
                  </a:moveTo>
                  <a:lnTo>
                    <a:pt x="822" y="1045"/>
                  </a:lnTo>
                  <a:lnTo>
                    <a:pt x="855" y="1078"/>
                  </a:lnTo>
                  <a:lnTo>
                    <a:pt x="928" y="1005"/>
                  </a:lnTo>
                  <a:lnTo>
                    <a:pt x="895" y="972"/>
                  </a:lnTo>
                  <a:moveTo>
                    <a:pt x="1004" y="863"/>
                  </a:moveTo>
                  <a:lnTo>
                    <a:pt x="928" y="938"/>
                  </a:lnTo>
                  <a:lnTo>
                    <a:pt x="964" y="972"/>
                  </a:lnTo>
                  <a:lnTo>
                    <a:pt x="1037" y="898"/>
                  </a:lnTo>
                  <a:lnTo>
                    <a:pt x="1004" y="863"/>
                  </a:lnTo>
                  <a:moveTo>
                    <a:pt x="1415" y="454"/>
                  </a:moveTo>
                  <a:lnTo>
                    <a:pt x="1021" y="846"/>
                  </a:lnTo>
                  <a:lnTo>
                    <a:pt x="1054" y="879"/>
                  </a:lnTo>
                  <a:lnTo>
                    <a:pt x="1448" y="487"/>
                  </a:lnTo>
                  <a:lnTo>
                    <a:pt x="1415" y="454"/>
                  </a:lnTo>
                  <a:moveTo>
                    <a:pt x="1505" y="362"/>
                  </a:moveTo>
                  <a:lnTo>
                    <a:pt x="1432" y="437"/>
                  </a:lnTo>
                  <a:lnTo>
                    <a:pt x="1465" y="471"/>
                  </a:lnTo>
                  <a:lnTo>
                    <a:pt x="1538" y="395"/>
                  </a:lnTo>
                  <a:lnTo>
                    <a:pt x="1505" y="362"/>
                  </a:lnTo>
                  <a:moveTo>
                    <a:pt x="1614" y="255"/>
                  </a:moveTo>
                  <a:lnTo>
                    <a:pt x="1538" y="329"/>
                  </a:lnTo>
                  <a:lnTo>
                    <a:pt x="1571" y="362"/>
                  </a:lnTo>
                  <a:lnTo>
                    <a:pt x="1647" y="289"/>
                  </a:lnTo>
                  <a:lnTo>
                    <a:pt x="1614" y="255"/>
                  </a:lnTo>
                  <a:moveTo>
                    <a:pt x="1935" y="0"/>
                  </a:moveTo>
                  <a:lnTo>
                    <a:pt x="1869" y="0"/>
                  </a:lnTo>
                  <a:lnTo>
                    <a:pt x="1630" y="239"/>
                  </a:lnTo>
                  <a:lnTo>
                    <a:pt x="1663" y="272"/>
                  </a:lnTo>
                  <a:lnTo>
                    <a:pt x="19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 rot="5400000">
              <a:off x="7790040" y="-479160"/>
              <a:ext cx="3922560" cy="4880880"/>
            </a:xfrm>
            <a:custGeom>
              <a:avLst/>
              <a:gdLst>
                <a:gd name="textAreaLeft" fmla="*/ 0 w 3922560"/>
                <a:gd name="textAreaRight" fmla="*/ 3922920 w 3922560"/>
                <a:gd name="textAreaTop" fmla="*/ 0 h 4880880"/>
                <a:gd name="textAreaBottom" fmla="*/ 4880880 h 4880880"/>
              </a:gdLst>
              <a:ahLst/>
              <a:rect l="textAreaLeft" t="textAreaTop" r="textAreaRight" b="textAreaBottom"/>
              <a:pathLst>
                <a:path w="3155" h="3151">
                  <a:moveTo>
                    <a:pt x="196" y="2888"/>
                  </a:moveTo>
                  <a:lnTo>
                    <a:pt x="0" y="3085"/>
                  </a:lnTo>
                  <a:lnTo>
                    <a:pt x="0" y="3151"/>
                  </a:lnTo>
                  <a:lnTo>
                    <a:pt x="229" y="2921"/>
                  </a:lnTo>
                  <a:lnTo>
                    <a:pt x="196" y="2888"/>
                  </a:lnTo>
                  <a:close/>
                  <a:moveTo>
                    <a:pt x="286" y="2799"/>
                  </a:moveTo>
                  <a:lnTo>
                    <a:pt x="212" y="2872"/>
                  </a:lnTo>
                  <a:lnTo>
                    <a:pt x="245" y="2905"/>
                  </a:lnTo>
                  <a:lnTo>
                    <a:pt x="319" y="2832"/>
                  </a:lnTo>
                  <a:lnTo>
                    <a:pt x="286" y="2799"/>
                  </a:lnTo>
                  <a:close/>
                  <a:moveTo>
                    <a:pt x="394" y="2690"/>
                  </a:moveTo>
                  <a:lnTo>
                    <a:pt x="319" y="2763"/>
                  </a:lnTo>
                  <a:lnTo>
                    <a:pt x="354" y="2799"/>
                  </a:lnTo>
                  <a:lnTo>
                    <a:pt x="427" y="2723"/>
                  </a:lnTo>
                  <a:lnTo>
                    <a:pt x="394" y="2690"/>
                  </a:lnTo>
                  <a:close/>
                  <a:moveTo>
                    <a:pt x="806" y="2279"/>
                  </a:moveTo>
                  <a:lnTo>
                    <a:pt x="411" y="2673"/>
                  </a:lnTo>
                  <a:lnTo>
                    <a:pt x="444" y="2706"/>
                  </a:lnTo>
                  <a:lnTo>
                    <a:pt x="839" y="2314"/>
                  </a:lnTo>
                  <a:lnTo>
                    <a:pt x="806" y="2279"/>
                  </a:lnTo>
                  <a:close/>
                  <a:moveTo>
                    <a:pt x="895" y="2189"/>
                  </a:moveTo>
                  <a:lnTo>
                    <a:pt x="822" y="2262"/>
                  </a:lnTo>
                  <a:lnTo>
                    <a:pt x="855" y="2295"/>
                  </a:lnTo>
                  <a:lnTo>
                    <a:pt x="928" y="2222"/>
                  </a:lnTo>
                  <a:lnTo>
                    <a:pt x="895" y="2189"/>
                  </a:lnTo>
                  <a:close/>
                  <a:moveTo>
                    <a:pt x="1002" y="2082"/>
                  </a:moveTo>
                  <a:lnTo>
                    <a:pt x="928" y="2156"/>
                  </a:lnTo>
                  <a:lnTo>
                    <a:pt x="962" y="2189"/>
                  </a:lnTo>
                  <a:lnTo>
                    <a:pt x="1037" y="2116"/>
                  </a:lnTo>
                  <a:lnTo>
                    <a:pt x="1002" y="2082"/>
                  </a:lnTo>
                  <a:close/>
                  <a:moveTo>
                    <a:pt x="1413" y="1671"/>
                  </a:moveTo>
                  <a:lnTo>
                    <a:pt x="1021" y="2066"/>
                  </a:lnTo>
                  <a:lnTo>
                    <a:pt x="1054" y="2099"/>
                  </a:lnTo>
                  <a:lnTo>
                    <a:pt x="1448" y="1704"/>
                  </a:lnTo>
                  <a:lnTo>
                    <a:pt x="1413" y="1671"/>
                  </a:lnTo>
                  <a:close/>
                  <a:moveTo>
                    <a:pt x="1505" y="1581"/>
                  </a:moveTo>
                  <a:lnTo>
                    <a:pt x="1432" y="1655"/>
                  </a:lnTo>
                  <a:lnTo>
                    <a:pt x="1465" y="1688"/>
                  </a:lnTo>
                  <a:lnTo>
                    <a:pt x="1538" y="1614"/>
                  </a:lnTo>
                  <a:lnTo>
                    <a:pt x="1505" y="1581"/>
                  </a:lnTo>
                  <a:close/>
                  <a:moveTo>
                    <a:pt x="1611" y="1473"/>
                  </a:moveTo>
                  <a:lnTo>
                    <a:pt x="1538" y="1546"/>
                  </a:lnTo>
                  <a:lnTo>
                    <a:pt x="1571" y="1581"/>
                  </a:lnTo>
                  <a:lnTo>
                    <a:pt x="1645" y="1506"/>
                  </a:lnTo>
                  <a:lnTo>
                    <a:pt x="1611" y="1473"/>
                  </a:lnTo>
                  <a:close/>
                  <a:moveTo>
                    <a:pt x="2023" y="1061"/>
                  </a:moveTo>
                  <a:lnTo>
                    <a:pt x="1628" y="1456"/>
                  </a:lnTo>
                  <a:lnTo>
                    <a:pt x="1661" y="1489"/>
                  </a:lnTo>
                  <a:lnTo>
                    <a:pt x="2056" y="1097"/>
                  </a:lnTo>
                  <a:lnTo>
                    <a:pt x="2023" y="1061"/>
                  </a:lnTo>
                  <a:close/>
                  <a:moveTo>
                    <a:pt x="2115" y="972"/>
                  </a:moveTo>
                  <a:lnTo>
                    <a:pt x="2039" y="1045"/>
                  </a:lnTo>
                  <a:lnTo>
                    <a:pt x="2072" y="1080"/>
                  </a:lnTo>
                  <a:lnTo>
                    <a:pt x="2148" y="1005"/>
                  </a:lnTo>
                  <a:lnTo>
                    <a:pt x="2115" y="972"/>
                  </a:lnTo>
                  <a:close/>
                  <a:moveTo>
                    <a:pt x="2221" y="865"/>
                  </a:moveTo>
                  <a:lnTo>
                    <a:pt x="2148" y="938"/>
                  </a:lnTo>
                  <a:lnTo>
                    <a:pt x="2181" y="972"/>
                  </a:lnTo>
                  <a:lnTo>
                    <a:pt x="2254" y="898"/>
                  </a:lnTo>
                  <a:lnTo>
                    <a:pt x="2221" y="865"/>
                  </a:lnTo>
                  <a:close/>
                  <a:moveTo>
                    <a:pt x="2632" y="454"/>
                  </a:moveTo>
                  <a:lnTo>
                    <a:pt x="2238" y="849"/>
                  </a:lnTo>
                  <a:lnTo>
                    <a:pt x="2271" y="882"/>
                  </a:lnTo>
                  <a:lnTo>
                    <a:pt x="2666" y="487"/>
                  </a:lnTo>
                  <a:lnTo>
                    <a:pt x="2632" y="454"/>
                  </a:lnTo>
                  <a:close/>
                  <a:moveTo>
                    <a:pt x="2722" y="364"/>
                  </a:moveTo>
                  <a:lnTo>
                    <a:pt x="2649" y="437"/>
                  </a:lnTo>
                  <a:lnTo>
                    <a:pt x="2682" y="471"/>
                  </a:lnTo>
                  <a:lnTo>
                    <a:pt x="2758" y="397"/>
                  </a:lnTo>
                  <a:lnTo>
                    <a:pt x="2722" y="364"/>
                  </a:lnTo>
                  <a:close/>
                  <a:moveTo>
                    <a:pt x="2831" y="255"/>
                  </a:moveTo>
                  <a:lnTo>
                    <a:pt x="2758" y="329"/>
                  </a:lnTo>
                  <a:lnTo>
                    <a:pt x="2791" y="364"/>
                  </a:lnTo>
                  <a:lnTo>
                    <a:pt x="2864" y="289"/>
                  </a:lnTo>
                  <a:lnTo>
                    <a:pt x="2831" y="255"/>
                  </a:lnTo>
                  <a:close/>
                  <a:moveTo>
                    <a:pt x="3155" y="0"/>
                  </a:moveTo>
                  <a:lnTo>
                    <a:pt x="3086" y="0"/>
                  </a:lnTo>
                  <a:lnTo>
                    <a:pt x="2847" y="239"/>
                  </a:lnTo>
                  <a:lnTo>
                    <a:pt x="2881" y="272"/>
                  </a:lnTo>
                  <a:lnTo>
                    <a:pt x="3155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 rot="5400000">
              <a:off x="7790040" y="-479160"/>
              <a:ext cx="3922560" cy="4880880"/>
            </a:xfrm>
            <a:custGeom>
              <a:avLst/>
              <a:gdLst>
                <a:gd name="textAreaLeft" fmla="*/ 0 w 3922560"/>
                <a:gd name="textAreaRight" fmla="*/ 3922920 w 3922560"/>
                <a:gd name="textAreaTop" fmla="*/ 0 h 4880880"/>
                <a:gd name="textAreaBottom" fmla="*/ 4880880 h 4880880"/>
              </a:gdLst>
              <a:ahLst/>
              <a:rect l="textAreaLeft" t="textAreaTop" r="textAreaRight" b="textAreaBottom"/>
              <a:pathLst>
                <a:path w="3155" h="3151">
                  <a:moveTo>
                    <a:pt x="196" y="2888"/>
                  </a:moveTo>
                  <a:lnTo>
                    <a:pt x="0" y="3085"/>
                  </a:lnTo>
                  <a:lnTo>
                    <a:pt x="0" y="3151"/>
                  </a:lnTo>
                  <a:lnTo>
                    <a:pt x="229" y="2921"/>
                  </a:lnTo>
                  <a:lnTo>
                    <a:pt x="196" y="2888"/>
                  </a:lnTo>
                  <a:moveTo>
                    <a:pt x="286" y="2799"/>
                  </a:moveTo>
                  <a:lnTo>
                    <a:pt x="212" y="2872"/>
                  </a:lnTo>
                  <a:lnTo>
                    <a:pt x="245" y="2905"/>
                  </a:lnTo>
                  <a:lnTo>
                    <a:pt x="319" y="2832"/>
                  </a:lnTo>
                  <a:lnTo>
                    <a:pt x="286" y="2799"/>
                  </a:lnTo>
                  <a:moveTo>
                    <a:pt x="394" y="2690"/>
                  </a:moveTo>
                  <a:lnTo>
                    <a:pt x="319" y="2763"/>
                  </a:lnTo>
                  <a:lnTo>
                    <a:pt x="354" y="2799"/>
                  </a:lnTo>
                  <a:lnTo>
                    <a:pt x="427" y="2723"/>
                  </a:lnTo>
                  <a:lnTo>
                    <a:pt x="394" y="2690"/>
                  </a:lnTo>
                  <a:moveTo>
                    <a:pt x="806" y="2279"/>
                  </a:moveTo>
                  <a:lnTo>
                    <a:pt x="411" y="2673"/>
                  </a:lnTo>
                  <a:lnTo>
                    <a:pt x="444" y="2706"/>
                  </a:lnTo>
                  <a:lnTo>
                    <a:pt x="839" y="2314"/>
                  </a:lnTo>
                  <a:lnTo>
                    <a:pt x="806" y="2279"/>
                  </a:lnTo>
                  <a:moveTo>
                    <a:pt x="895" y="2189"/>
                  </a:moveTo>
                  <a:lnTo>
                    <a:pt x="822" y="2262"/>
                  </a:lnTo>
                  <a:lnTo>
                    <a:pt x="855" y="2295"/>
                  </a:lnTo>
                  <a:lnTo>
                    <a:pt x="928" y="2222"/>
                  </a:lnTo>
                  <a:lnTo>
                    <a:pt x="895" y="2189"/>
                  </a:lnTo>
                  <a:moveTo>
                    <a:pt x="1002" y="2082"/>
                  </a:moveTo>
                  <a:lnTo>
                    <a:pt x="928" y="2156"/>
                  </a:lnTo>
                  <a:lnTo>
                    <a:pt x="962" y="2189"/>
                  </a:lnTo>
                  <a:lnTo>
                    <a:pt x="1037" y="2116"/>
                  </a:lnTo>
                  <a:lnTo>
                    <a:pt x="1002" y="2082"/>
                  </a:lnTo>
                  <a:moveTo>
                    <a:pt x="1413" y="1671"/>
                  </a:moveTo>
                  <a:lnTo>
                    <a:pt x="1021" y="2066"/>
                  </a:lnTo>
                  <a:lnTo>
                    <a:pt x="1054" y="2099"/>
                  </a:lnTo>
                  <a:lnTo>
                    <a:pt x="1448" y="1704"/>
                  </a:lnTo>
                  <a:lnTo>
                    <a:pt x="1413" y="1671"/>
                  </a:lnTo>
                  <a:moveTo>
                    <a:pt x="1505" y="1581"/>
                  </a:moveTo>
                  <a:lnTo>
                    <a:pt x="1432" y="1655"/>
                  </a:lnTo>
                  <a:lnTo>
                    <a:pt x="1465" y="1688"/>
                  </a:lnTo>
                  <a:lnTo>
                    <a:pt x="1538" y="1614"/>
                  </a:lnTo>
                  <a:lnTo>
                    <a:pt x="1505" y="1581"/>
                  </a:lnTo>
                  <a:moveTo>
                    <a:pt x="1611" y="1473"/>
                  </a:moveTo>
                  <a:lnTo>
                    <a:pt x="1538" y="1546"/>
                  </a:lnTo>
                  <a:lnTo>
                    <a:pt x="1571" y="1581"/>
                  </a:lnTo>
                  <a:lnTo>
                    <a:pt x="1645" y="1506"/>
                  </a:lnTo>
                  <a:lnTo>
                    <a:pt x="1611" y="1473"/>
                  </a:lnTo>
                  <a:moveTo>
                    <a:pt x="2023" y="1061"/>
                  </a:moveTo>
                  <a:lnTo>
                    <a:pt x="1628" y="1456"/>
                  </a:lnTo>
                  <a:lnTo>
                    <a:pt x="1661" y="1489"/>
                  </a:lnTo>
                  <a:lnTo>
                    <a:pt x="2056" y="1097"/>
                  </a:lnTo>
                  <a:lnTo>
                    <a:pt x="2023" y="1061"/>
                  </a:lnTo>
                  <a:moveTo>
                    <a:pt x="2115" y="972"/>
                  </a:moveTo>
                  <a:lnTo>
                    <a:pt x="2039" y="1045"/>
                  </a:lnTo>
                  <a:lnTo>
                    <a:pt x="2072" y="1080"/>
                  </a:lnTo>
                  <a:lnTo>
                    <a:pt x="2148" y="1005"/>
                  </a:lnTo>
                  <a:lnTo>
                    <a:pt x="2115" y="972"/>
                  </a:lnTo>
                  <a:moveTo>
                    <a:pt x="2221" y="865"/>
                  </a:moveTo>
                  <a:lnTo>
                    <a:pt x="2148" y="938"/>
                  </a:lnTo>
                  <a:lnTo>
                    <a:pt x="2181" y="972"/>
                  </a:lnTo>
                  <a:lnTo>
                    <a:pt x="2254" y="898"/>
                  </a:lnTo>
                  <a:lnTo>
                    <a:pt x="2221" y="865"/>
                  </a:lnTo>
                  <a:moveTo>
                    <a:pt x="2632" y="454"/>
                  </a:moveTo>
                  <a:lnTo>
                    <a:pt x="2238" y="849"/>
                  </a:lnTo>
                  <a:lnTo>
                    <a:pt x="2271" y="882"/>
                  </a:lnTo>
                  <a:lnTo>
                    <a:pt x="2666" y="487"/>
                  </a:lnTo>
                  <a:lnTo>
                    <a:pt x="2632" y="454"/>
                  </a:lnTo>
                  <a:moveTo>
                    <a:pt x="2722" y="364"/>
                  </a:moveTo>
                  <a:lnTo>
                    <a:pt x="2649" y="437"/>
                  </a:lnTo>
                  <a:lnTo>
                    <a:pt x="2682" y="471"/>
                  </a:lnTo>
                  <a:lnTo>
                    <a:pt x="2758" y="397"/>
                  </a:lnTo>
                  <a:lnTo>
                    <a:pt x="2722" y="364"/>
                  </a:lnTo>
                  <a:moveTo>
                    <a:pt x="2831" y="255"/>
                  </a:moveTo>
                  <a:lnTo>
                    <a:pt x="2758" y="329"/>
                  </a:lnTo>
                  <a:lnTo>
                    <a:pt x="2791" y="364"/>
                  </a:lnTo>
                  <a:lnTo>
                    <a:pt x="2864" y="289"/>
                  </a:lnTo>
                  <a:lnTo>
                    <a:pt x="2831" y="255"/>
                  </a:lnTo>
                  <a:moveTo>
                    <a:pt x="3155" y="0"/>
                  </a:moveTo>
                  <a:lnTo>
                    <a:pt x="3086" y="0"/>
                  </a:lnTo>
                  <a:lnTo>
                    <a:pt x="2847" y="239"/>
                  </a:lnTo>
                  <a:lnTo>
                    <a:pt x="2881" y="272"/>
                  </a:lnTo>
                  <a:lnTo>
                    <a:pt x="315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 rot="5400000">
              <a:off x="6090840" y="-664920"/>
              <a:ext cx="5435640" cy="6765840"/>
            </a:xfrm>
            <a:custGeom>
              <a:avLst/>
              <a:gdLst>
                <a:gd name="textAreaLeft" fmla="*/ 0 w 5435640"/>
                <a:gd name="textAreaRight" fmla="*/ 5436000 w 5435640"/>
                <a:gd name="textAreaTop" fmla="*/ 0 h 6765840"/>
                <a:gd name="textAreaBottom" fmla="*/ 6766200 h 6765840"/>
              </a:gdLst>
              <a:ahLst/>
              <a:rect l="textAreaLeft" t="textAreaTop" r="textAreaRight" b="textAreaBottom"/>
              <a:pathLst>
                <a:path w="4372" h="4368">
                  <a:moveTo>
                    <a:pt x="196" y="4106"/>
                  </a:moveTo>
                  <a:lnTo>
                    <a:pt x="0" y="4302"/>
                  </a:lnTo>
                  <a:lnTo>
                    <a:pt x="0" y="4368"/>
                  </a:lnTo>
                  <a:lnTo>
                    <a:pt x="229" y="4139"/>
                  </a:lnTo>
                  <a:lnTo>
                    <a:pt x="196" y="4106"/>
                  </a:lnTo>
                  <a:close/>
                  <a:moveTo>
                    <a:pt x="286" y="4016"/>
                  </a:moveTo>
                  <a:lnTo>
                    <a:pt x="212" y="4089"/>
                  </a:lnTo>
                  <a:lnTo>
                    <a:pt x="245" y="4122"/>
                  </a:lnTo>
                  <a:lnTo>
                    <a:pt x="319" y="4049"/>
                  </a:lnTo>
                  <a:lnTo>
                    <a:pt x="286" y="4016"/>
                  </a:lnTo>
                  <a:close/>
                  <a:moveTo>
                    <a:pt x="392" y="3907"/>
                  </a:moveTo>
                  <a:lnTo>
                    <a:pt x="319" y="3983"/>
                  </a:lnTo>
                  <a:lnTo>
                    <a:pt x="352" y="4016"/>
                  </a:lnTo>
                  <a:lnTo>
                    <a:pt x="427" y="3943"/>
                  </a:lnTo>
                  <a:lnTo>
                    <a:pt x="392" y="3907"/>
                  </a:lnTo>
                  <a:close/>
                  <a:moveTo>
                    <a:pt x="803" y="3498"/>
                  </a:moveTo>
                  <a:lnTo>
                    <a:pt x="409" y="3891"/>
                  </a:lnTo>
                  <a:lnTo>
                    <a:pt x="444" y="3926"/>
                  </a:lnTo>
                  <a:lnTo>
                    <a:pt x="839" y="3531"/>
                  </a:lnTo>
                  <a:lnTo>
                    <a:pt x="803" y="3498"/>
                  </a:lnTo>
                  <a:close/>
                  <a:moveTo>
                    <a:pt x="895" y="3406"/>
                  </a:moveTo>
                  <a:lnTo>
                    <a:pt x="820" y="3482"/>
                  </a:lnTo>
                  <a:lnTo>
                    <a:pt x="855" y="3515"/>
                  </a:lnTo>
                  <a:lnTo>
                    <a:pt x="928" y="3439"/>
                  </a:lnTo>
                  <a:lnTo>
                    <a:pt x="895" y="3406"/>
                  </a:lnTo>
                  <a:close/>
                  <a:moveTo>
                    <a:pt x="1002" y="3300"/>
                  </a:moveTo>
                  <a:lnTo>
                    <a:pt x="928" y="3373"/>
                  </a:lnTo>
                  <a:lnTo>
                    <a:pt x="962" y="3406"/>
                  </a:lnTo>
                  <a:lnTo>
                    <a:pt x="1035" y="3333"/>
                  </a:lnTo>
                  <a:lnTo>
                    <a:pt x="1002" y="3300"/>
                  </a:lnTo>
                  <a:close/>
                  <a:moveTo>
                    <a:pt x="1413" y="2888"/>
                  </a:moveTo>
                  <a:lnTo>
                    <a:pt x="1018" y="3283"/>
                  </a:lnTo>
                  <a:lnTo>
                    <a:pt x="1051" y="3316"/>
                  </a:lnTo>
                  <a:lnTo>
                    <a:pt x="1446" y="2921"/>
                  </a:lnTo>
                  <a:lnTo>
                    <a:pt x="1413" y="2888"/>
                  </a:lnTo>
                  <a:close/>
                  <a:moveTo>
                    <a:pt x="1505" y="2799"/>
                  </a:moveTo>
                  <a:lnTo>
                    <a:pt x="1429" y="2872"/>
                  </a:lnTo>
                  <a:lnTo>
                    <a:pt x="1463" y="2905"/>
                  </a:lnTo>
                  <a:lnTo>
                    <a:pt x="1538" y="2832"/>
                  </a:lnTo>
                  <a:lnTo>
                    <a:pt x="1505" y="2799"/>
                  </a:lnTo>
                  <a:close/>
                  <a:moveTo>
                    <a:pt x="1611" y="2690"/>
                  </a:moveTo>
                  <a:lnTo>
                    <a:pt x="1538" y="2766"/>
                  </a:lnTo>
                  <a:lnTo>
                    <a:pt x="1571" y="2799"/>
                  </a:lnTo>
                  <a:lnTo>
                    <a:pt x="1645" y="2725"/>
                  </a:lnTo>
                  <a:lnTo>
                    <a:pt x="1611" y="2690"/>
                  </a:lnTo>
                  <a:close/>
                  <a:moveTo>
                    <a:pt x="2023" y="2281"/>
                  </a:moveTo>
                  <a:lnTo>
                    <a:pt x="1628" y="2673"/>
                  </a:lnTo>
                  <a:lnTo>
                    <a:pt x="1661" y="2709"/>
                  </a:lnTo>
                  <a:lnTo>
                    <a:pt x="2056" y="2314"/>
                  </a:lnTo>
                  <a:lnTo>
                    <a:pt x="2023" y="2281"/>
                  </a:lnTo>
                  <a:close/>
                  <a:moveTo>
                    <a:pt x="2112" y="2189"/>
                  </a:moveTo>
                  <a:lnTo>
                    <a:pt x="2039" y="2264"/>
                  </a:lnTo>
                  <a:lnTo>
                    <a:pt x="2072" y="2298"/>
                  </a:lnTo>
                  <a:lnTo>
                    <a:pt x="2146" y="2224"/>
                  </a:lnTo>
                  <a:lnTo>
                    <a:pt x="2112" y="2189"/>
                  </a:lnTo>
                  <a:close/>
                  <a:moveTo>
                    <a:pt x="2221" y="2082"/>
                  </a:moveTo>
                  <a:lnTo>
                    <a:pt x="2146" y="2156"/>
                  </a:lnTo>
                  <a:lnTo>
                    <a:pt x="2181" y="2189"/>
                  </a:lnTo>
                  <a:lnTo>
                    <a:pt x="2254" y="2116"/>
                  </a:lnTo>
                  <a:lnTo>
                    <a:pt x="2221" y="2082"/>
                  </a:lnTo>
                  <a:close/>
                  <a:moveTo>
                    <a:pt x="2632" y="1671"/>
                  </a:moveTo>
                  <a:lnTo>
                    <a:pt x="2238" y="2066"/>
                  </a:lnTo>
                  <a:lnTo>
                    <a:pt x="2271" y="2099"/>
                  </a:lnTo>
                  <a:lnTo>
                    <a:pt x="2666" y="1704"/>
                  </a:lnTo>
                  <a:lnTo>
                    <a:pt x="2632" y="1671"/>
                  </a:lnTo>
                  <a:close/>
                  <a:moveTo>
                    <a:pt x="2722" y="1581"/>
                  </a:moveTo>
                  <a:lnTo>
                    <a:pt x="2649" y="1655"/>
                  </a:lnTo>
                  <a:lnTo>
                    <a:pt x="2682" y="1688"/>
                  </a:lnTo>
                  <a:lnTo>
                    <a:pt x="2755" y="1614"/>
                  </a:lnTo>
                  <a:lnTo>
                    <a:pt x="2722" y="1581"/>
                  </a:lnTo>
                  <a:close/>
                  <a:moveTo>
                    <a:pt x="2831" y="1473"/>
                  </a:moveTo>
                  <a:lnTo>
                    <a:pt x="2755" y="1548"/>
                  </a:lnTo>
                  <a:lnTo>
                    <a:pt x="2788" y="1581"/>
                  </a:lnTo>
                  <a:lnTo>
                    <a:pt x="2864" y="1508"/>
                  </a:lnTo>
                  <a:lnTo>
                    <a:pt x="2831" y="1473"/>
                  </a:lnTo>
                  <a:close/>
                  <a:moveTo>
                    <a:pt x="3242" y="1064"/>
                  </a:moveTo>
                  <a:lnTo>
                    <a:pt x="2847" y="1456"/>
                  </a:lnTo>
                  <a:lnTo>
                    <a:pt x="2881" y="1492"/>
                  </a:lnTo>
                  <a:lnTo>
                    <a:pt x="3275" y="1097"/>
                  </a:lnTo>
                  <a:lnTo>
                    <a:pt x="3242" y="1064"/>
                  </a:lnTo>
                  <a:close/>
                  <a:moveTo>
                    <a:pt x="3332" y="972"/>
                  </a:moveTo>
                  <a:lnTo>
                    <a:pt x="3259" y="1047"/>
                  </a:lnTo>
                  <a:lnTo>
                    <a:pt x="3292" y="1080"/>
                  </a:lnTo>
                  <a:lnTo>
                    <a:pt x="3365" y="1007"/>
                  </a:lnTo>
                  <a:lnTo>
                    <a:pt x="3332" y="972"/>
                  </a:lnTo>
                  <a:close/>
                  <a:moveTo>
                    <a:pt x="3438" y="865"/>
                  </a:moveTo>
                  <a:lnTo>
                    <a:pt x="3365" y="938"/>
                  </a:lnTo>
                  <a:lnTo>
                    <a:pt x="3398" y="972"/>
                  </a:lnTo>
                  <a:lnTo>
                    <a:pt x="3471" y="898"/>
                  </a:lnTo>
                  <a:lnTo>
                    <a:pt x="3438" y="865"/>
                  </a:lnTo>
                  <a:close/>
                  <a:moveTo>
                    <a:pt x="3850" y="454"/>
                  </a:moveTo>
                  <a:lnTo>
                    <a:pt x="3455" y="849"/>
                  </a:lnTo>
                  <a:lnTo>
                    <a:pt x="3490" y="882"/>
                  </a:lnTo>
                  <a:lnTo>
                    <a:pt x="3883" y="487"/>
                  </a:lnTo>
                  <a:lnTo>
                    <a:pt x="3850" y="454"/>
                  </a:lnTo>
                  <a:close/>
                  <a:moveTo>
                    <a:pt x="3942" y="364"/>
                  </a:moveTo>
                  <a:lnTo>
                    <a:pt x="3866" y="437"/>
                  </a:lnTo>
                  <a:lnTo>
                    <a:pt x="3902" y="471"/>
                  </a:lnTo>
                  <a:lnTo>
                    <a:pt x="3975" y="397"/>
                  </a:lnTo>
                  <a:lnTo>
                    <a:pt x="3942" y="364"/>
                  </a:lnTo>
                  <a:close/>
                  <a:moveTo>
                    <a:pt x="4048" y="255"/>
                  </a:moveTo>
                  <a:lnTo>
                    <a:pt x="3975" y="331"/>
                  </a:lnTo>
                  <a:lnTo>
                    <a:pt x="4008" y="364"/>
                  </a:lnTo>
                  <a:lnTo>
                    <a:pt x="4081" y="291"/>
                  </a:lnTo>
                  <a:lnTo>
                    <a:pt x="4048" y="255"/>
                  </a:lnTo>
                  <a:close/>
                  <a:moveTo>
                    <a:pt x="4372" y="0"/>
                  </a:moveTo>
                  <a:lnTo>
                    <a:pt x="4306" y="0"/>
                  </a:lnTo>
                  <a:lnTo>
                    <a:pt x="4065" y="239"/>
                  </a:lnTo>
                  <a:lnTo>
                    <a:pt x="4098" y="274"/>
                  </a:lnTo>
                  <a:lnTo>
                    <a:pt x="4372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 rot="5400000">
              <a:off x="6090840" y="-664920"/>
              <a:ext cx="5435640" cy="6765840"/>
            </a:xfrm>
            <a:custGeom>
              <a:avLst/>
              <a:gdLst>
                <a:gd name="textAreaLeft" fmla="*/ 0 w 5435640"/>
                <a:gd name="textAreaRight" fmla="*/ 5436000 w 5435640"/>
                <a:gd name="textAreaTop" fmla="*/ 0 h 6765840"/>
                <a:gd name="textAreaBottom" fmla="*/ 6766200 h 6765840"/>
              </a:gdLst>
              <a:ahLst/>
              <a:rect l="textAreaLeft" t="textAreaTop" r="textAreaRight" b="textAreaBottom"/>
              <a:pathLst>
                <a:path w="4372" h="4368">
                  <a:moveTo>
                    <a:pt x="196" y="4106"/>
                  </a:moveTo>
                  <a:lnTo>
                    <a:pt x="0" y="4302"/>
                  </a:lnTo>
                  <a:lnTo>
                    <a:pt x="0" y="4368"/>
                  </a:lnTo>
                  <a:lnTo>
                    <a:pt x="229" y="4139"/>
                  </a:lnTo>
                  <a:lnTo>
                    <a:pt x="196" y="4106"/>
                  </a:lnTo>
                  <a:moveTo>
                    <a:pt x="286" y="4016"/>
                  </a:moveTo>
                  <a:lnTo>
                    <a:pt x="212" y="4089"/>
                  </a:lnTo>
                  <a:lnTo>
                    <a:pt x="245" y="4122"/>
                  </a:lnTo>
                  <a:lnTo>
                    <a:pt x="319" y="4049"/>
                  </a:lnTo>
                  <a:lnTo>
                    <a:pt x="286" y="4016"/>
                  </a:lnTo>
                  <a:moveTo>
                    <a:pt x="392" y="3907"/>
                  </a:moveTo>
                  <a:lnTo>
                    <a:pt x="319" y="3983"/>
                  </a:lnTo>
                  <a:lnTo>
                    <a:pt x="352" y="4016"/>
                  </a:lnTo>
                  <a:lnTo>
                    <a:pt x="427" y="3943"/>
                  </a:lnTo>
                  <a:lnTo>
                    <a:pt x="392" y="3907"/>
                  </a:lnTo>
                  <a:moveTo>
                    <a:pt x="803" y="3498"/>
                  </a:moveTo>
                  <a:lnTo>
                    <a:pt x="409" y="3891"/>
                  </a:lnTo>
                  <a:lnTo>
                    <a:pt x="444" y="3926"/>
                  </a:lnTo>
                  <a:lnTo>
                    <a:pt x="839" y="3531"/>
                  </a:lnTo>
                  <a:lnTo>
                    <a:pt x="803" y="3498"/>
                  </a:lnTo>
                  <a:moveTo>
                    <a:pt x="895" y="3406"/>
                  </a:moveTo>
                  <a:lnTo>
                    <a:pt x="820" y="3482"/>
                  </a:lnTo>
                  <a:lnTo>
                    <a:pt x="855" y="3515"/>
                  </a:lnTo>
                  <a:lnTo>
                    <a:pt x="928" y="3439"/>
                  </a:lnTo>
                  <a:lnTo>
                    <a:pt x="895" y="3406"/>
                  </a:lnTo>
                  <a:moveTo>
                    <a:pt x="1002" y="3300"/>
                  </a:moveTo>
                  <a:lnTo>
                    <a:pt x="928" y="3373"/>
                  </a:lnTo>
                  <a:lnTo>
                    <a:pt x="962" y="3406"/>
                  </a:lnTo>
                  <a:lnTo>
                    <a:pt x="1035" y="3333"/>
                  </a:lnTo>
                  <a:lnTo>
                    <a:pt x="1002" y="3300"/>
                  </a:lnTo>
                  <a:moveTo>
                    <a:pt x="1413" y="2888"/>
                  </a:moveTo>
                  <a:lnTo>
                    <a:pt x="1018" y="3283"/>
                  </a:lnTo>
                  <a:lnTo>
                    <a:pt x="1051" y="3316"/>
                  </a:lnTo>
                  <a:lnTo>
                    <a:pt x="1446" y="2921"/>
                  </a:lnTo>
                  <a:lnTo>
                    <a:pt x="1413" y="2888"/>
                  </a:lnTo>
                  <a:moveTo>
                    <a:pt x="1505" y="2799"/>
                  </a:moveTo>
                  <a:lnTo>
                    <a:pt x="1429" y="2872"/>
                  </a:lnTo>
                  <a:lnTo>
                    <a:pt x="1463" y="2905"/>
                  </a:lnTo>
                  <a:lnTo>
                    <a:pt x="1538" y="2832"/>
                  </a:lnTo>
                  <a:lnTo>
                    <a:pt x="1505" y="2799"/>
                  </a:lnTo>
                  <a:moveTo>
                    <a:pt x="1611" y="2690"/>
                  </a:moveTo>
                  <a:lnTo>
                    <a:pt x="1538" y="2766"/>
                  </a:lnTo>
                  <a:lnTo>
                    <a:pt x="1571" y="2799"/>
                  </a:lnTo>
                  <a:lnTo>
                    <a:pt x="1645" y="2725"/>
                  </a:lnTo>
                  <a:lnTo>
                    <a:pt x="1611" y="2690"/>
                  </a:lnTo>
                  <a:moveTo>
                    <a:pt x="2023" y="2281"/>
                  </a:moveTo>
                  <a:lnTo>
                    <a:pt x="1628" y="2673"/>
                  </a:lnTo>
                  <a:lnTo>
                    <a:pt x="1661" y="2709"/>
                  </a:lnTo>
                  <a:lnTo>
                    <a:pt x="2056" y="2314"/>
                  </a:lnTo>
                  <a:lnTo>
                    <a:pt x="2023" y="2281"/>
                  </a:lnTo>
                  <a:moveTo>
                    <a:pt x="2112" y="2189"/>
                  </a:moveTo>
                  <a:lnTo>
                    <a:pt x="2039" y="2264"/>
                  </a:lnTo>
                  <a:lnTo>
                    <a:pt x="2072" y="2298"/>
                  </a:lnTo>
                  <a:lnTo>
                    <a:pt x="2146" y="2224"/>
                  </a:lnTo>
                  <a:lnTo>
                    <a:pt x="2112" y="2189"/>
                  </a:lnTo>
                  <a:moveTo>
                    <a:pt x="2221" y="2082"/>
                  </a:moveTo>
                  <a:lnTo>
                    <a:pt x="2146" y="2156"/>
                  </a:lnTo>
                  <a:lnTo>
                    <a:pt x="2181" y="2189"/>
                  </a:lnTo>
                  <a:lnTo>
                    <a:pt x="2254" y="2116"/>
                  </a:lnTo>
                  <a:lnTo>
                    <a:pt x="2221" y="2082"/>
                  </a:lnTo>
                  <a:moveTo>
                    <a:pt x="2632" y="1671"/>
                  </a:moveTo>
                  <a:lnTo>
                    <a:pt x="2238" y="2066"/>
                  </a:lnTo>
                  <a:lnTo>
                    <a:pt x="2271" y="2099"/>
                  </a:lnTo>
                  <a:lnTo>
                    <a:pt x="2666" y="1704"/>
                  </a:lnTo>
                  <a:lnTo>
                    <a:pt x="2632" y="1671"/>
                  </a:lnTo>
                  <a:moveTo>
                    <a:pt x="2722" y="1581"/>
                  </a:moveTo>
                  <a:lnTo>
                    <a:pt x="2649" y="1655"/>
                  </a:lnTo>
                  <a:lnTo>
                    <a:pt x="2682" y="1688"/>
                  </a:lnTo>
                  <a:lnTo>
                    <a:pt x="2755" y="1614"/>
                  </a:lnTo>
                  <a:lnTo>
                    <a:pt x="2722" y="1581"/>
                  </a:lnTo>
                  <a:moveTo>
                    <a:pt x="2831" y="1473"/>
                  </a:moveTo>
                  <a:lnTo>
                    <a:pt x="2755" y="1548"/>
                  </a:lnTo>
                  <a:lnTo>
                    <a:pt x="2788" y="1581"/>
                  </a:lnTo>
                  <a:lnTo>
                    <a:pt x="2864" y="1508"/>
                  </a:lnTo>
                  <a:lnTo>
                    <a:pt x="2831" y="1473"/>
                  </a:lnTo>
                  <a:moveTo>
                    <a:pt x="3242" y="1064"/>
                  </a:moveTo>
                  <a:lnTo>
                    <a:pt x="2847" y="1456"/>
                  </a:lnTo>
                  <a:lnTo>
                    <a:pt x="2881" y="1492"/>
                  </a:lnTo>
                  <a:lnTo>
                    <a:pt x="3275" y="1097"/>
                  </a:lnTo>
                  <a:lnTo>
                    <a:pt x="3242" y="1064"/>
                  </a:lnTo>
                  <a:moveTo>
                    <a:pt x="3332" y="972"/>
                  </a:moveTo>
                  <a:lnTo>
                    <a:pt x="3259" y="1047"/>
                  </a:lnTo>
                  <a:lnTo>
                    <a:pt x="3292" y="1080"/>
                  </a:lnTo>
                  <a:lnTo>
                    <a:pt x="3365" y="1007"/>
                  </a:lnTo>
                  <a:lnTo>
                    <a:pt x="3332" y="972"/>
                  </a:lnTo>
                  <a:moveTo>
                    <a:pt x="3438" y="865"/>
                  </a:moveTo>
                  <a:lnTo>
                    <a:pt x="3365" y="938"/>
                  </a:lnTo>
                  <a:lnTo>
                    <a:pt x="3398" y="972"/>
                  </a:lnTo>
                  <a:lnTo>
                    <a:pt x="3471" y="898"/>
                  </a:lnTo>
                  <a:lnTo>
                    <a:pt x="3438" y="865"/>
                  </a:lnTo>
                  <a:moveTo>
                    <a:pt x="3850" y="454"/>
                  </a:moveTo>
                  <a:lnTo>
                    <a:pt x="3455" y="849"/>
                  </a:lnTo>
                  <a:lnTo>
                    <a:pt x="3490" y="882"/>
                  </a:lnTo>
                  <a:lnTo>
                    <a:pt x="3883" y="487"/>
                  </a:lnTo>
                  <a:lnTo>
                    <a:pt x="3850" y="454"/>
                  </a:lnTo>
                  <a:moveTo>
                    <a:pt x="3942" y="364"/>
                  </a:moveTo>
                  <a:lnTo>
                    <a:pt x="3866" y="437"/>
                  </a:lnTo>
                  <a:lnTo>
                    <a:pt x="3902" y="471"/>
                  </a:lnTo>
                  <a:lnTo>
                    <a:pt x="3975" y="397"/>
                  </a:lnTo>
                  <a:lnTo>
                    <a:pt x="3942" y="364"/>
                  </a:lnTo>
                  <a:moveTo>
                    <a:pt x="4048" y="255"/>
                  </a:moveTo>
                  <a:lnTo>
                    <a:pt x="3975" y="331"/>
                  </a:lnTo>
                  <a:lnTo>
                    <a:pt x="4008" y="364"/>
                  </a:lnTo>
                  <a:lnTo>
                    <a:pt x="4081" y="291"/>
                  </a:lnTo>
                  <a:lnTo>
                    <a:pt x="4048" y="255"/>
                  </a:lnTo>
                  <a:moveTo>
                    <a:pt x="4372" y="0"/>
                  </a:moveTo>
                  <a:lnTo>
                    <a:pt x="4306" y="0"/>
                  </a:lnTo>
                  <a:lnTo>
                    <a:pt x="4065" y="239"/>
                  </a:lnTo>
                  <a:lnTo>
                    <a:pt x="4098" y="274"/>
                  </a:lnTo>
                  <a:lnTo>
                    <a:pt x="43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 rot="5400000">
              <a:off x="4431240" y="-891000"/>
              <a:ext cx="6858000" cy="864036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640360"/>
                <a:gd name="textAreaBottom" fmla="*/ 8640720 h 8640360"/>
              </a:gdLst>
              <a:ahLst/>
              <a:rect l="textAreaLeft" t="textAreaTop" r="textAreaRight" b="textAreaBottom"/>
              <a:pathLst>
                <a:path w="5516" h="5578">
                  <a:moveTo>
                    <a:pt x="193" y="5316"/>
                  </a:moveTo>
                  <a:lnTo>
                    <a:pt x="0" y="5510"/>
                  </a:lnTo>
                  <a:lnTo>
                    <a:pt x="0" y="5578"/>
                  </a:lnTo>
                  <a:lnTo>
                    <a:pt x="227" y="5351"/>
                  </a:lnTo>
                  <a:lnTo>
                    <a:pt x="193" y="5316"/>
                  </a:lnTo>
                  <a:close/>
                  <a:moveTo>
                    <a:pt x="286" y="5226"/>
                  </a:moveTo>
                  <a:lnTo>
                    <a:pt x="210" y="5299"/>
                  </a:lnTo>
                  <a:lnTo>
                    <a:pt x="245" y="5335"/>
                  </a:lnTo>
                  <a:lnTo>
                    <a:pt x="319" y="5259"/>
                  </a:lnTo>
                  <a:lnTo>
                    <a:pt x="286" y="5226"/>
                  </a:lnTo>
                  <a:close/>
                  <a:moveTo>
                    <a:pt x="392" y="5120"/>
                  </a:moveTo>
                  <a:lnTo>
                    <a:pt x="319" y="5193"/>
                  </a:lnTo>
                  <a:lnTo>
                    <a:pt x="352" y="5226"/>
                  </a:lnTo>
                  <a:lnTo>
                    <a:pt x="425" y="5153"/>
                  </a:lnTo>
                  <a:lnTo>
                    <a:pt x="392" y="5120"/>
                  </a:lnTo>
                  <a:close/>
                  <a:moveTo>
                    <a:pt x="803" y="4708"/>
                  </a:moveTo>
                  <a:lnTo>
                    <a:pt x="409" y="5103"/>
                  </a:lnTo>
                  <a:lnTo>
                    <a:pt x="442" y="5136"/>
                  </a:lnTo>
                  <a:lnTo>
                    <a:pt x="836" y="4742"/>
                  </a:lnTo>
                  <a:lnTo>
                    <a:pt x="803" y="4708"/>
                  </a:lnTo>
                  <a:close/>
                  <a:moveTo>
                    <a:pt x="893" y="4619"/>
                  </a:moveTo>
                  <a:lnTo>
                    <a:pt x="820" y="4692"/>
                  </a:lnTo>
                  <a:lnTo>
                    <a:pt x="853" y="4725"/>
                  </a:lnTo>
                  <a:lnTo>
                    <a:pt x="928" y="4652"/>
                  </a:lnTo>
                  <a:lnTo>
                    <a:pt x="893" y="4619"/>
                  </a:lnTo>
                  <a:close/>
                  <a:moveTo>
                    <a:pt x="1002" y="4510"/>
                  </a:moveTo>
                  <a:lnTo>
                    <a:pt x="928" y="4583"/>
                  </a:lnTo>
                  <a:lnTo>
                    <a:pt x="962" y="4619"/>
                  </a:lnTo>
                  <a:lnTo>
                    <a:pt x="1035" y="4543"/>
                  </a:lnTo>
                  <a:lnTo>
                    <a:pt x="1002" y="4510"/>
                  </a:lnTo>
                  <a:close/>
                  <a:moveTo>
                    <a:pt x="1413" y="4099"/>
                  </a:moveTo>
                  <a:lnTo>
                    <a:pt x="1018" y="4493"/>
                  </a:lnTo>
                  <a:lnTo>
                    <a:pt x="1051" y="4526"/>
                  </a:lnTo>
                  <a:lnTo>
                    <a:pt x="1446" y="4134"/>
                  </a:lnTo>
                  <a:lnTo>
                    <a:pt x="1413" y="4099"/>
                  </a:lnTo>
                  <a:close/>
                  <a:moveTo>
                    <a:pt x="1503" y="4009"/>
                  </a:moveTo>
                  <a:lnTo>
                    <a:pt x="1429" y="4082"/>
                  </a:lnTo>
                  <a:lnTo>
                    <a:pt x="1463" y="4118"/>
                  </a:lnTo>
                  <a:lnTo>
                    <a:pt x="1536" y="4042"/>
                  </a:lnTo>
                  <a:lnTo>
                    <a:pt x="1503" y="4009"/>
                  </a:lnTo>
                  <a:close/>
                  <a:moveTo>
                    <a:pt x="1611" y="3902"/>
                  </a:moveTo>
                  <a:lnTo>
                    <a:pt x="1536" y="3976"/>
                  </a:lnTo>
                  <a:lnTo>
                    <a:pt x="1571" y="4009"/>
                  </a:lnTo>
                  <a:lnTo>
                    <a:pt x="1645" y="3936"/>
                  </a:lnTo>
                  <a:lnTo>
                    <a:pt x="1611" y="3902"/>
                  </a:lnTo>
                  <a:close/>
                  <a:moveTo>
                    <a:pt x="2023" y="3491"/>
                  </a:moveTo>
                  <a:lnTo>
                    <a:pt x="1628" y="3886"/>
                  </a:lnTo>
                  <a:lnTo>
                    <a:pt x="1661" y="3919"/>
                  </a:lnTo>
                  <a:lnTo>
                    <a:pt x="2056" y="3524"/>
                  </a:lnTo>
                  <a:lnTo>
                    <a:pt x="2023" y="3491"/>
                  </a:lnTo>
                  <a:close/>
                  <a:moveTo>
                    <a:pt x="2112" y="3401"/>
                  </a:moveTo>
                  <a:lnTo>
                    <a:pt x="2039" y="3475"/>
                  </a:lnTo>
                  <a:lnTo>
                    <a:pt x="2072" y="3508"/>
                  </a:lnTo>
                  <a:lnTo>
                    <a:pt x="2146" y="3434"/>
                  </a:lnTo>
                  <a:lnTo>
                    <a:pt x="2112" y="3401"/>
                  </a:lnTo>
                  <a:close/>
                  <a:moveTo>
                    <a:pt x="2219" y="3293"/>
                  </a:moveTo>
                  <a:lnTo>
                    <a:pt x="2146" y="3366"/>
                  </a:lnTo>
                  <a:lnTo>
                    <a:pt x="2179" y="3401"/>
                  </a:lnTo>
                  <a:lnTo>
                    <a:pt x="2254" y="3326"/>
                  </a:lnTo>
                  <a:lnTo>
                    <a:pt x="2219" y="3293"/>
                  </a:lnTo>
                  <a:close/>
                  <a:moveTo>
                    <a:pt x="2630" y="2881"/>
                  </a:moveTo>
                  <a:lnTo>
                    <a:pt x="2238" y="3276"/>
                  </a:lnTo>
                  <a:lnTo>
                    <a:pt x="2271" y="3309"/>
                  </a:lnTo>
                  <a:lnTo>
                    <a:pt x="2666" y="2917"/>
                  </a:lnTo>
                  <a:lnTo>
                    <a:pt x="2630" y="2881"/>
                  </a:lnTo>
                  <a:close/>
                  <a:moveTo>
                    <a:pt x="2722" y="2792"/>
                  </a:moveTo>
                  <a:lnTo>
                    <a:pt x="2649" y="2865"/>
                  </a:lnTo>
                  <a:lnTo>
                    <a:pt x="2682" y="2900"/>
                  </a:lnTo>
                  <a:lnTo>
                    <a:pt x="2755" y="2825"/>
                  </a:lnTo>
                  <a:lnTo>
                    <a:pt x="2722" y="2792"/>
                  </a:lnTo>
                  <a:close/>
                  <a:moveTo>
                    <a:pt x="2829" y="2685"/>
                  </a:moveTo>
                  <a:lnTo>
                    <a:pt x="2755" y="2759"/>
                  </a:lnTo>
                  <a:lnTo>
                    <a:pt x="2788" y="2792"/>
                  </a:lnTo>
                  <a:lnTo>
                    <a:pt x="2862" y="2718"/>
                  </a:lnTo>
                  <a:lnTo>
                    <a:pt x="2829" y="2685"/>
                  </a:lnTo>
                  <a:close/>
                  <a:moveTo>
                    <a:pt x="3240" y="2274"/>
                  </a:moveTo>
                  <a:lnTo>
                    <a:pt x="2845" y="2669"/>
                  </a:lnTo>
                  <a:lnTo>
                    <a:pt x="2878" y="2702"/>
                  </a:lnTo>
                  <a:lnTo>
                    <a:pt x="3273" y="2307"/>
                  </a:lnTo>
                  <a:lnTo>
                    <a:pt x="3240" y="2274"/>
                  </a:lnTo>
                  <a:close/>
                  <a:moveTo>
                    <a:pt x="3332" y="2184"/>
                  </a:moveTo>
                  <a:lnTo>
                    <a:pt x="3256" y="2257"/>
                  </a:lnTo>
                  <a:lnTo>
                    <a:pt x="3289" y="2291"/>
                  </a:lnTo>
                  <a:lnTo>
                    <a:pt x="3365" y="2217"/>
                  </a:lnTo>
                  <a:lnTo>
                    <a:pt x="3332" y="2184"/>
                  </a:lnTo>
                  <a:close/>
                  <a:moveTo>
                    <a:pt x="3438" y="2075"/>
                  </a:moveTo>
                  <a:lnTo>
                    <a:pt x="3365" y="2151"/>
                  </a:lnTo>
                  <a:lnTo>
                    <a:pt x="3398" y="2184"/>
                  </a:lnTo>
                  <a:lnTo>
                    <a:pt x="3471" y="2109"/>
                  </a:lnTo>
                  <a:lnTo>
                    <a:pt x="3438" y="2075"/>
                  </a:lnTo>
                  <a:close/>
                  <a:moveTo>
                    <a:pt x="3850" y="1664"/>
                  </a:moveTo>
                  <a:lnTo>
                    <a:pt x="3455" y="2059"/>
                  </a:lnTo>
                  <a:lnTo>
                    <a:pt x="3488" y="2092"/>
                  </a:lnTo>
                  <a:lnTo>
                    <a:pt x="3883" y="1700"/>
                  </a:lnTo>
                  <a:lnTo>
                    <a:pt x="3850" y="1664"/>
                  </a:lnTo>
                  <a:close/>
                  <a:moveTo>
                    <a:pt x="3939" y="1574"/>
                  </a:moveTo>
                  <a:lnTo>
                    <a:pt x="3866" y="1648"/>
                  </a:lnTo>
                  <a:lnTo>
                    <a:pt x="3899" y="1683"/>
                  </a:lnTo>
                  <a:lnTo>
                    <a:pt x="3975" y="1607"/>
                  </a:lnTo>
                  <a:lnTo>
                    <a:pt x="3939" y="1574"/>
                  </a:lnTo>
                  <a:close/>
                  <a:moveTo>
                    <a:pt x="4048" y="1468"/>
                  </a:moveTo>
                  <a:lnTo>
                    <a:pt x="3975" y="1541"/>
                  </a:lnTo>
                  <a:lnTo>
                    <a:pt x="4008" y="1574"/>
                  </a:lnTo>
                  <a:lnTo>
                    <a:pt x="4081" y="1501"/>
                  </a:lnTo>
                  <a:lnTo>
                    <a:pt x="4048" y="1468"/>
                  </a:lnTo>
                  <a:close/>
                  <a:moveTo>
                    <a:pt x="4459" y="1057"/>
                  </a:moveTo>
                  <a:lnTo>
                    <a:pt x="4065" y="1451"/>
                  </a:lnTo>
                  <a:lnTo>
                    <a:pt x="4098" y="1485"/>
                  </a:lnTo>
                  <a:lnTo>
                    <a:pt x="4492" y="1090"/>
                  </a:lnTo>
                  <a:lnTo>
                    <a:pt x="4459" y="1057"/>
                  </a:lnTo>
                  <a:close/>
                  <a:moveTo>
                    <a:pt x="4549" y="967"/>
                  </a:moveTo>
                  <a:lnTo>
                    <a:pt x="4476" y="1040"/>
                  </a:lnTo>
                  <a:lnTo>
                    <a:pt x="4509" y="1073"/>
                  </a:lnTo>
                  <a:lnTo>
                    <a:pt x="4582" y="1000"/>
                  </a:lnTo>
                  <a:lnTo>
                    <a:pt x="4549" y="967"/>
                  </a:lnTo>
                  <a:close/>
                  <a:moveTo>
                    <a:pt x="4658" y="858"/>
                  </a:moveTo>
                  <a:lnTo>
                    <a:pt x="4582" y="934"/>
                  </a:lnTo>
                  <a:lnTo>
                    <a:pt x="4615" y="967"/>
                  </a:lnTo>
                  <a:lnTo>
                    <a:pt x="4691" y="891"/>
                  </a:lnTo>
                  <a:lnTo>
                    <a:pt x="4658" y="858"/>
                  </a:lnTo>
                  <a:close/>
                  <a:moveTo>
                    <a:pt x="5069" y="449"/>
                  </a:moveTo>
                  <a:lnTo>
                    <a:pt x="4674" y="842"/>
                  </a:lnTo>
                  <a:lnTo>
                    <a:pt x="4707" y="875"/>
                  </a:lnTo>
                  <a:lnTo>
                    <a:pt x="5102" y="482"/>
                  </a:lnTo>
                  <a:lnTo>
                    <a:pt x="5069" y="449"/>
                  </a:lnTo>
                  <a:close/>
                  <a:moveTo>
                    <a:pt x="5159" y="357"/>
                  </a:moveTo>
                  <a:lnTo>
                    <a:pt x="5086" y="430"/>
                  </a:lnTo>
                  <a:lnTo>
                    <a:pt x="5119" y="466"/>
                  </a:lnTo>
                  <a:lnTo>
                    <a:pt x="5192" y="390"/>
                  </a:lnTo>
                  <a:lnTo>
                    <a:pt x="5159" y="357"/>
                  </a:lnTo>
                  <a:close/>
                  <a:moveTo>
                    <a:pt x="5265" y="251"/>
                  </a:moveTo>
                  <a:lnTo>
                    <a:pt x="5192" y="324"/>
                  </a:lnTo>
                  <a:lnTo>
                    <a:pt x="5225" y="357"/>
                  </a:lnTo>
                  <a:lnTo>
                    <a:pt x="5301" y="284"/>
                  </a:lnTo>
                  <a:lnTo>
                    <a:pt x="5265" y="251"/>
                  </a:lnTo>
                  <a:close/>
                  <a:moveTo>
                    <a:pt x="5516" y="0"/>
                  </a:moveTo>
                  <a:lnTo>
                    <a:pt x="5284" y="234"/>
                  </a:lnTo>
                  <a:lnTo>
                    <a:pt x="5317" y="267"/>
                  </a:lnTo>
                  <a:lnTo>
                    <a:pt x="5516" y="69"/>
                  </a:lnTo>
                  <a:lnTo>
                    <a:pt x="5516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 rot="5400000">
              <a:off x="4431240" y="-891000"/>
              <a:ext cx="6858000" cy="864036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640360"/>
                <a:gd name="textAreaBottom" fmla="*/ 8640720 h 8640360"/>
              </a:gdLst>
              <a:ahLst/>
              <a:rect l="textAreaLeft" t="textAreaTop" r="textAreaRight" b="textAreaBottom"/>
              <a:pathLst>
                <a:path w="5516" h="5578">
                  <a:moveTo>
                    <a:pt x="193" y="5316"/>
                  </a:moveTo>
                  <a:lnTo>
                    <a:pt x="0" y="5510"/>
                  </a:lnTo>
                  <a:lnTo>
                    <a:pt x="0" y="5578"/>
                  </a:lnTo>
                  <a:lnTo>
                    <a:pt x="227" y="5351"/>
                  </a:lnTo>
                  <a:lnTo>
                    <a:pt x="193" y="5316"/>
                  </a:lnTo>
                  <a:moveTo>
                    <a:pt x="286" y="5226"/>
                  </a:moveTo>
                  <a:lnTo>
                    <a:pt x="210" y="5299"/>
                  </a:lnTo>
                  <a:lnTo>
                    <a:pt x="245" y="5335"/>
                  </a:lnTo>
                  <a:lnTo>
                    <a:pt x="319" y="5259"/>
                  </a:lnTo>
                  <a:lnTo>
                    <a:pt x="286" y="5226"/>
                  </a:lnTo>
                  <a:moveTo>
                    <a:pt x="392" y="5120"/>
                  </a:moveTo>
                  <a:lnTo>
                    <a:pt x="319" y="5193"/>
                  </a:lnTo>
                  <a:lnTo>
                    <a:pt x="352" y="5226"/>
                  </a:lnTo>
                  <a:lnTo>
                    <a:pt x="425" y="5153"/>
                  </a:lnTo>
                  <a:lnTo>
                    <a:pt x="392" y="5120"/>
                  </a:lnTo>
                  <a:moveTo>
                    <a:pt x="803" y="4708"/>
                  </a:moveTo>
                  <a:lnTo>
                    <a:pt x="409" y="5103"/>
                  </a:lnTo>
                  <a:lnTo>
                    <a:pt x="442" y="5136"/>
                  </a:lnTo>
                  <a:lnTo>
                    <a:pt x="836" y="4742"/>
                  </a:lnTo>
                  <a:lnTo>
                    <a:pt x="803" y="4708"/>
                  </a:lnTo>
                  <a:moveTo>
                    <a:pt x="893" y="4619"/>
                  </a:moveTo>
                  <a:lnTo>
                    <a:pt x="820" y="4692"/>
                  </a:lnTo>
                  <a:lnTo>
                    <a:pt x="853" y="4725"/>
                  </a:lnTo>
                  <a:lnTo>
                    <a:pt x="928" y="4652"/>
                  </a:lnTo>
                  <a:lnTo>
                    <a:pt x="893" y="4619"/>
                  </a:lnTo>
                  <a:moveTo>
                    <a:pt x="1002" y="4510"/>
                  </a:moveTo>
                  <a:lnTo>
                    <a:pt x="928" y="4583"/>
                  </a:lnTo>
                  <a:lnTo>
                    <a:pt x="962" y="4619"/>
                  </a:lnTo>
                  <a:lnTo>
                    <a:pt x="1035" y="4543"/>
                  </a:lnTo>
                  <a:lnTo>
                    <a:pt x="1002" y="4510"/>
                  </a:lnTo>
                  <a:moveTo>
                    <a:pt x="1413" y="4099"/>
                  </a:moveTo>
                  <a:lnTo>
                    <a:pt x="1018" y="4493"/>
                  </a:lnTo>
                  <a:lnTo>
                    <a:pt x="1051" y="4526"/>
                  </a:lnTo>
                  <a:lnTo>
                    <a:pt x="1446" y="4134"/>
                  </a:lnTo>
                  <a:lnTo>
                    <a:pt x="1413" y="4099"/>
                  </a:lnTo>
                  <a:moveTo>
                    <a:pt x="1503" y="4009"/>
                  </a:moveTo>
                  <a:lnTo>
                    <a:pt x="1429" y="4082"/>
                  </a:lnTo>
                  <a:lnTo>
                    <a:pt x="1463" y="4118"/>
                  </a:lnTo>
                  <a:lnTo>
                    <a:pt x="1536" y="4042"/>
                  </a:lnTo>
                  <a:lnTo>
                    <a:pt x="1503" y="4009"/>
                  </a:lnTo>
                  <a:moveTo>
                    <a:pt x="1611" y="3902"/>
                  </a:moveTo>
                  <a:lnTo>
                    <a:pt x="1536" y="3976"/>
                  </a:lnTo>
                  <a:lnTo>
                    <a:pt x="1571" y="4009"/>
                  </a:lnTo>
                  <a:lnTo>
                    <a:pt x="1645" y="3936"/>
                  </a:lnTo>
                  <a:lnTo>
                    <a:pt x="1611" y="3902"/>
                  </a:lnTo>
                  <a:moveTo>
                    <a:pt x="2023" y="3491"/>
                  </a:moveTo>
                  <a:lnTo>
                    <a:pt x="1628" y="3886"/>
                  </a:lnTo>
                  <a:lnTo>
                    <a:pt x="1661" y="3919"/>
                  </a:lnTo>
                  <a:lnTo>
                    <a:pt x="2056" y="3524"/>
                  </a:lnTo>
                  <a:lnTo>
                    <a:pt x="2023" y="3491"/>
                  </a:lnTo>
                  <a:moveTo>
                    <a:pt x="2112" y="3401"/>
                  </a:moveTo>
                  <a:lnTo>
                    <a:pt x="2039" y="3475"/>
                  </a:lnTo>
                  <a:lnTo>
                    <a:pt x="2072" y="3508"/>
                  </a:lnTo>
                  <a:lnTo>
                    <a:pt x="2146" y="3434"/>
                  </a:lnTo>
                  <a:lnTo>
                    <a:pt x="2112" y="3401"/>
                  </a:lnTo>
                  <a:moveTo>
                    <a:pt x="2219" y="3293"/>
                  </a:moveTo>
                  <a:lnTo>
                    <a:pt x="2146" y="3366"/>
                  </a:lnTo>
                  <a:lnTo>
                    <a:pt x="2179" y="3401"/>
                  </a:lnTo>
                  <a:lnTo>
                    <a:pt x="2254" y="3326"/>
                  </a:lnTo>
                  <a:lnTo>
                    <a:pt x="2219" y="3293"/>
                  </a:lnTo>
                  <a:moveTo>
                    <a:pt x="2630" y="2881"/>
                  </a:moveTo>
                  <a:lnTo>
                    <a:pt x="2238" y="3276"/>
                  </a:lnTo>
                  <a:lnTo>
                    <a:pt x="2271" y="3309"/>
                  </a:lnTo>
                  <a:lnTo>
                    <a:pt x="2666" y="2917"/>
                  </a:lnTo>
                  <a:lnTo>
                    <a:pt x="2630" y="2881"/>
                  </a:lnTo>
                  <a:moveTo>
                    <a:pt x="2722" y="2792"/>
                  </a:moveTo>
                  <a:lnTo>
                    <a:pt x="2649" y="2865"/>
                  </a:lnTo>
                  <a:lnTo>
                    <a:pt x="2682" y="2900"/>
                  </a:lnTo>
                  <a:lnTo>
                    <a:pt x="2755" y="2825"/>
                  </a:lnTo>
                  <a:lnTo>
                    <a:pt x="2722" y="2792"/>
                  </a:lnTo>
                  <a:moveTo>
                    <a:pt x="2829" y="2685"/>
                  </a:moveTo>
                  <a:lnTo>
                    <a:pt x="2755" y="2759"/>
                  </a:lnTo>
                  <a:lnTo>
                    <a:pt x="2788" y="2792"/>
                  </a:lnTo>
                  <a:lnTo>
                    <a:pt x="2862" y="2718"/>
                  </a:lnTo>
                  <a:lnTo>
                    <a:pt x="2829" y="2685"/>
                  </a:lnTo>
                  <a:moveTo>
                    <a:pt x="3240" y="2274"/>
                  </a:moveTo>
                  <a:lnTo>
                    <a:pt x="2845" y="2669"/>
                  </a:lnTo>
                  <a:lnTo>
                    <a:pt x="2878" y="2702"/>
                  </a:lnTo>
                  <a:lnTo>
                    <a:pt x="3273" y="2307"/>
                  </a:lnTo>
                  <a:lnTo>
                    <a:pt x="3240" y="2274"/>
                  </a:lnTo>
                  <a:moveTo>
                    <a:pt x="3332" y="2184"/>
                  </a:moveTo>
                  <a:lnTo>
                    <a:pt x="3256" y="2257"/>
                  </a:lnTo>
                  <a:lnTo>
                    <a:pt x="3289" y="2291"/>
                  </a:lnTo>
                  <a:lnTo>
                    <a:pt x="3365" y="2217"/>
                  </a:lnTo>
                  <a:lnTo>
                    <a:pt x="3332" y="2184"/>
                  </a:lnTo>
                  <a:moveTo>
                    <a:pt x="3438" y="2075"/>
                  </a:moveTo>
                  <a:lnTo>
                    <a:pt x="3365" y="2151"/>
                  </a:lnTo>
                  <a:lnTo>
                    <a:pt x="3398" y="2184"/>
                  </a:lnTo>
                  <a:lnTo>
                    <a:pt x="3471" y="2109"/>
                  </a:lnTo>
                  <a:lnTo>
                    <a:pt x="3438" y="2075"/>
                  </a:lnTo>
                  <a:moveTo>
                    <a:pt x="3850" y="1664"/>
                  </a:moveTo>
                  <a:lnTo>
                    <a:pt x="3455" y="2059"/>
                  </a:lnTo>
                  <a:lnTo>
                    <a:pt x="3488" y="2092"/>
                  </a:lnTo>
                  <a:lnTo>
                    <a:pt x="3883" y="1700"/>
                  </a:lnTo>
                  <a:lnTo>
                    <a:pt x="3850" y="1664"/>
                  </a:lnTo>
                  <a:moveTo>
                    <a:pt x="3939" y="1574"/>
                  </a:moveTo>
                  <a:lnTo>
                    <a:pt x="3866" y="1648"/>
                  </a:lnTo>
                  <a:lnTo>
                    <a:pt x="3899" y="1683"/>
                  </a:lnTo>
                  <a:lnTo>
                    <a:pt x="3975" y="1607"/>
                  </a:lnTo>
                  <a:lnTo>
                    <a:pt x="3939" y="1574"/>
                  </a:lnTo>
                  <a:moveTo>
                    <a:pt x="4048" y="1468"/>
                  </a:moveTo>
                  <a:lnTo>
                    <a:pt x="3975" y="1541"/>
                  </a:lnTo>
                  <a:lnTo>
                    <a:pt x="4008" y="1574"/>
                  </a:lnTo>
                  <a:lnTo>
                    <a:pt x="4081" y="1501"/>
                  </a:lnTo>
                  <a:lnTo>
                    <a:pt x="4048" y="1468"/>
                  </a:lnTo>
                  <a:moveTo>
                    <a:pt x="4459" y="1057"/>
                  </a:moveTo>
                  <a:lnTo>
                    <a:pt x="4065" y="1451"/>
                  </a:lnTo>
                  <a:lnTo>
                    <a:pt x="4098" y="1485"/>
                  </a:lnTo>
                  <a:lnTo>
                    <a:pt x="4492" y="1090"/>
                  </a:lnTo>
                  <a:lnTo>
                    <a:pt x="4459" y="1057"/>
                  </a:lnTo>
                  <a:moveTo>
                    <a:pt x="4549" y="967"/>
                  </a:moveTo>
                  <a:lnTo>
                    <a:pt x="4476" y="1040"/>
                  </a:lnTo>
                  <a:lnTo>
                    <a:pt x="4509" y="1073"/>
                  </a:lnTo>
                  <a:lnTo>
                    <a:pt x="4582" y="1000"/>
                  </a:lnTo>
                  <a:lnTo>
                    <a:pt x="4549" y="967"/>
                  </a:lnTo>
                  <a:moveTo>
                    <a:pt x="4658" y="858"/>
                  </a:moveTo>
                  <a:lnTo>
                    <a:pt x="4582" y="934"/>
                  </a:lnTo>
                  <a:lnTo>
                    <a:pt x="4615" y="967"/>
                  </a:lnTo>
                  <a:lnTo>
                    <a:pt x="4691" y="891"/>
                  </a:lnTo>
                  <a:lnTo>
                    <a:pt x="4658" y="858"/>
                  </a:lnTo>
                  <a:moveTo>
                    <a:pt x="5069" y="449"/>
                  </a:moveTo>
                  <a:lnTo>
                    <a:pt x="4674" y="842"/>
                  </a:lnTo>
                  <a:lnTo>
                    <a:pt x="4707" y="875"/>
                  </a:lnTo>
                  <a:lnTo>
                    <a:pt x="5102" y="482"/>
                  </a:lnTo>
                  <a:lnTo>
                    <a:pt x="5069" y="449"/>
                  </a:lnTo>
                  <a:moveTo>
                    <a:pt x="5159" y="357"/>
                  </a:moveTo>
                  <a:lnTo>
                    <a:pt x="5086" y="430"/>
                  </a:lnTo>
                  <a:lnTo>
                    <a:pt x="5119" y="466"/>
                  </a:lnTo>
                  <a:lnTo>
                    <a:pt x="5192" y="390"/>
                  </a:lnTo>
                  <a:lnTo>
                    <a:pt x="5159" y="357"/>
                  </a:lnTo>
                  <a:moveTo>
                    <a:pt x="5265" y="251"/>
                  </a:moveTo>
                  <a:lnTo>
                    <a:pt x="5192" y="324"/>
                  </a:lnTo>
                  <a:lnTo>
                    <a:pt x="5225" y="357"/>
                  </a:lnTo>
                  <a:lnTo>
                    <a:pt x="5301" y="284"/>
                  </a:lnTo>
                  <a:lnTo>
                    <a:pt x="5265" y="251"/>
                  </a:lnTo>
                  <a:moveTo>
                    <a:pt x="5516" y="0"/>
                  </a:moveTo>
                  <a:lnTo>
                    <a:pt x="5284" y="234"/>
                  </a:lnTo>
                  <a:lnTo>
                    <a:pt x="5317" y="267"/>
                  </a:lnTo>
                  <a:lnTo>
                    <a:pt x="5516" y="69"/>
                  </a:lnTo>
                  <a:lnTo>
                    <a:pt x="55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 rot="5400000">
              <a:off x="2546280" y="-891000"/>
              <a:ext cx="6858000" cy="864036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640360"/>
                <a:gd name="textAreaBottom" fmla="*/ 8640720 h 8640360"/>
              </a:gdLst>
              <a:ahLst/>
              <a:rect l="textAreaLeft" t="textAreaTop" r="textAreaRight" b="textAreaBottom"/>
              <a:pathLst>
                <a:path w="5516" h="5578">
                  <a:moveTo>
                    <a:pt x="193" y="5318"/>
                  </a:moveTo>
                  <a:lnTo>
                    <a:pt x="0" y="5510"/>
                  </a:lnTo>
                  <a:lnTo>
                    <a:pt x="0" y="5578"/>
                  </a:lnTo>
                  <a:lnTo>
                    <a:pt x="227" y="5352"/>
                  </a:lnTo>
                  <a:lnTo>
                    <a:pt x="193" y="5318"/>
                  </a:lnTo>
                  <a:close/>
                  <a:moveTo>
                    <a:pt x="283" y="5226"/>
                  </a:moveTo>
                  <a:lnTo>
                    <a:pt x="210" y="5302"/>
                  </a:lnTo>
                  <a:lnTo>
                    <a:pt x="243" y="5335"/>
                  </a:lnTo>
                  <a:lnTo>
                    <a:pt x="319" y="5262"/>
                  </a:lnTo>
                  <a:lnTo>
                    <a:pt x="283" y="5226"/>
                  </a:lnTo>
                  <a:close/>
                  <a:moveTo>
                    <a:pt x="392" y="5120"/>
                  </a:moveTo>
                  <a:lnTo>
                    <a:pt x="319" y="5193"/>
                  </a:lnTo>
                  <a:lnTo>
                    <a:pt x="352" y="5226"/>
                  </a:lnTo>
                  <a:lnTo>
                    <a:pt x="425" y="5153"/>
                  </a:lnTo>
                  <a:lnTo>
                    <a:pt x="392" y="5120"/>
                  </a:lnTo>
                  <a:close/>
                  <a:moveTo>
                    <a:pt x="803" y="4709"/>
                  </a:moveTo>
                  <a:lnTo>
                    <a:pt x="409" y="5103"/>
                  </a:lnTo>
                  <a:lnTo>
                    <a:pt x="442" y="5136"/>
                  </a:lnTo>
                  <a:lnTo>
                    <a:pt x="836" y="4742"/>
                  </a:lnTo>
                  <a:lnTo>
                    <a:pt x="803" y="4709"/>
                  </a:lnTo>
                  <a:close/>
                  <a:moveTo>
                    <a:pt x="893" y="4619"/>
                  </a:moveTo>
                  <a:lnTo>
                    <a:pt x="820" y="4692"/>
                  </a:lnTo>
                  <a:lnTo>
                    <a:pt x="853" y="4725"/>
                  </a:lnTo>
                  <a:lnTo>
                    <a:pt x="926" y="4652"/>
                  </a:lnTo>
                  <a:lnTo>
                    <a:pt x="893" y="4619"/>
                  </a:lnTo>
                  <a:close/>
                  <a:moveTo>
                    <a:pt x="1002" y="4510"/>
                  </a:moveTo>
                  <a:lnTo>
                    <a:pt x="926" y="4586"/>
                  </a:lnTo>
                  <a:lnTo>
                    <a:pt x="959" y="4619"/>
                  </a:lnTo>
                  <a:lnTo>
                    <a:pt x="1035" y="4546"/>
                  </a:lnTo>
                  <a:lnTo>
                    <a:pt x="1002" y="4510"/>
                  </a:lnTo>
                  <a:close/>
                  <a:moveTo>
                    <a:pt x="1413" y="4101"/>
                  </a:moveTo>
                  <a:lnTo>
                    <a:pt x="1018" y="4494"/>
                  </a:lnTo>
                  <a:lnTo>
                    <a:pt x="1051" y="4529"/>
                  </a:lnTo>
                  <a:lnTo>
                    <a:pt x="1446" y="4134"/>
                  </a:lnTo>
                  <a:lnTo>
                    <a:pt x="1413" y="4101"/>
                  </a:lnTo>
                  <a:close/>
                  <a:moveTo>
                    <a:pt x="1503" y="4009"/>
                  </a:moveTo>
                  <a:lnTo>
                    <a:pt x="1429" y="4085"/>
                  </a:lnTo>
                  <a:lnTo>
                    <a:pt x="1463" y="4118"/>
                  </a:lnTo>
                  <a:lnTo>
                    <a:pt x="1536" y="4044"/>
                  </a:lnTo>
                  <a:lnTo>
                    <a:pt x="1503" y="4009"/>
                  </a:lnTo>
                  <a:close/>
                  <a:moveTo>
                    <a:pt x="1609" y="3903"/>
                  </a:moveTo>
                  <a:lnTo>
                    <a:pt x="1536" y="3976"/>
                  </a:lnTo>
                  <a:lnTo>
                    <a:pt x="1569" y="4009"/>
                  </a:lnTo>
                  <a:lnTo>
                    <a:pt x="1645" y="3936"/>
                  </a:lnTo>
                  <a:lnTo>
                    <a:pt x="1609" y="3903"/>
                  </a:lnTo>
                  <a:close/>
                  <a:moveTo>
                    <a:pt x="2020" y="3491"/>
                  </a:moveTo>
                  <a:lnTo>
                    <a:pt x="1628" y="3886"/>
                  </a:lnTo>
                  <a:lnTo>
                    <a:pt x="1661" y="3919"/>
                  </a:lnTo>
                  <a:lnTo>
                    <a:pt x="2056" y="3525"/>
                  </a:lnTo>
                  <a:lnTo>
                    <a:pt x="2020" y="3491"/>
                  </a:lnTo>
                  <a:close/>
                  <a:moveTo>
                    <a:pt x="2112" y="3402"/>
                  </a:moveTo>
                  <a:lnTo>
                    <a:pt x="2037" y="3475"/>
                  </a:lnTo>
                  <a:lnTo>
                    <a:pt x="2072" y="3508"/>
                  </a:lnTo>
                  <a:lnTo>
                    <a:pt x="2146" y="3435"/>
                  </a:lnTo>
                  <a:lnTo>
                    <a:pt x="2112" y="3402"/>
                  </a:lnTo>
                  <a:close/>
                  <a:moveTo>
                    <a:pt x="2219" y="3293"/>
                  </a:moveTo>
                  <a:lnTo>
                    <a:pt x="2146" y="3369"/>
                  </a:lnTo>
                  <a:lnTo>
                    <a:pt x="2179" y="3402"/>
                  </a:lnTo>
                  <a:lnTo>
                    <a:pt x="2252" y="3328"/>
                  </a:lnTo>
                  <a:lnTo>
                    <a:pt x="2219" y="3293"/>
                  </a:lnTo>
                  <a:close/>
                  <a:moveTo>
                    <a:pt x="2630" y="2884"/>
                  </a:moveTo>
                  <a:lnTo>
                    <a:pt x="2235" y="3276"/>
                  </a:lnTo>
                  <a:lnTo>
                    <a:pt x="2268" y="3312"/>
                  </a:lnTo>
                  <a:lnTo>
                    <a:pt x="2663" y="2917"/>
                  </a:lnTo>
                  <a:lnTo>
                    <a:pt x="2630" y="2884"/>
                  </a:lnTo>
                  <a:close/>
                  <a:moveTo>
                    <a:pt x="2722" y="2792"/>
                  </a:moveTo>
                  <a:lnTo>
                    <a:pt x="2647" y="2867"/>
                  </a:lnTo>
                  <a:lnTo>
                    <a:pt x="2680" y="2901"/>
                  </a:lnTo>
                  <a:lnTo>
                    <a:pt x="2755" y="2827"/>
                  </a:lnTo>
                  <a:lnTo>
                    <a:pt x="2722" y="2792"/>
                  </a:lnTo>
                  <a:close/>
                  <a:moveTo>
                    <a:pt x="2829" y="2685"/>
                  </a:moveTo>
                  <a:lnTo>
                    <a:pt x="2755" y="2759"/>
                  </a:lnTo>
                  <a:lnTo>
                    <a:pt x="2788" y="2792"/>
                  </a:lnTo>
                  <a:lnTo>
                    <a:pt x="2862" y="2719"/>
                  </a:lnTo>
                  <a:lnTo>
                    <a:pt x="2829" y="2685"/>
                  </a:lnTo>
                  <a:close/>
                  <a:moveTo>
                    <a:pt x="3240" y="2274"/>
                  </a:moveTo>
                  <a:lnTo>
                    <a:pt x="2845" y="2669"/>
                  </a:lnTo>
                  <a:lnTo>
                    <a:pt x="2878" y="2702"/>
                  </a:lnTo>
                  <a:lnTo>
                    <a:pt x="3273" y="2307"/>
                  </a:lnTo>
                  <a:lnTo>
                    <a:pt x="3240" y="2274"/>
                  </a:lnTo>
                  <a:close/>
                  <a:moveTo>
                    <a:pt x="3330" y="2184"/>
                  </a:moveTo>
                  <a:lnTo>
                    <a:pt x="3256" y="2258"/>
                  </a:lnTo>
                  <a:lnTo>
                    <a:pt x="3289" y="2291"/>
                  </a:lnTo>
                  <a:lnTo>
                    <a:pt x="3363" y="2217"/>
                  </a:lnTo>
                  <a:lnTo>
                    <a:pt x="3330" y="2184"/>
                  </a:lnTo>
                  <a:close/>
                  <a:moveTo>
                    <a:pt x="3438" y="2078"/>
                  </a:moveTo>
                  <a:lnTo>
                    <a:pt x="3363" y="2151"/>
                  </a:lnTo>
                  <a:lnTo>
                    <a:pt x="3398" y="2184"/>
                  </a:lnTo>
                  <a:lnTo>
                    <a:pt x="3471" y="2111"/>
                  </a:lnTo>
                  <a:lnTo>
                    <a:pt x="3438" y="2078"/>
                  </a:lnTo>
                  <a:close/>
                  <a:moveTo>
                    <a:pt x="3850" y="1667"/>
                  </a:moveTo>
                  <a:lnTo>
                    <a:pt x="3455" y="2059"/>
                  </a:lnTo>
                  <a:lnTo>
                    <a:pt x="3488" y="2095"/>
                  </a:lnTo>
                  <a:lnTo>
                    <a:pt x="3883" y="1700"/>
                  </a:lnTo>
                  <a:lnTo>
                    <a:pt x="3850" y="1667"/>
                  </a:lnTo>
                  <a:close/>
                  <a:moveTo>
                    <a:pt x="3939" y="1575"/>
                  </a:moveTo>
                  <a:lnTo>
                    <a:pt x="3866" y="1650"/>
                  </a:lnTo>
                  <a:lnTo>
                    <a:pt x="3899" y="1683"/>
                  </a:lnTo>
                  <a:lnTo>
                    <a:pt x="3972" y="1610"/>
                  </a:lnTo>
                  <a:lnTo>
                    <a:pt x="3939" y="1575"/>
                  </a:lnTo>
                  <a:close/>
                  <a:moveTo>
                    <a:pt x="4048" y="1468"/>
                  </a:moveTo>
                  <a:lnTo>
                    <a:pt x="3972" y="1542"/>
                  </a:lnTo>
                  <a:lnTo>
                    <a:pt x="4006" y="1575"/>
                  </a:lnTo>
                  <a:lnTo>
                    <a:pt x="4081" y="1501"/>
                  </a:lnTo>
                  <a:lnTo>
                    <a:pt x="4048" y="1468"/>
                  </a:lnTo>
                  <a:close/>
                  <a:moveTo>
                    <a:pt x="4459" y="1057"/>
                  </a:moveTo>
                  <a:lnTo>
                    <a:pt x="4065" y="1452"/>
                  </a:lnTo>
                  <a:lnTo>
                    <a:pt x="4098" y="1485"/>
                  </a:lnTo>
                  <a:lnTo>
                    <a:pt x="4492" y="1090"/>
                  </a:lnTo>
                  <a:lnTo>
                    <a:pt x="4459" y="1057"/>
                  </a:lnTo>
                  <a:close/>
                  <a:moveTo>
                    <a:pt x="4549" y="967"/>
                  </a:moveTo>
                  <a:lnTo>
                    <a:pt x="4476" y="1040"/>
                  </a:lnTo>
                  <a:lnTo>
                    <a:pt x="4509" y="1074"/>
                  </a:lnTo>
                  <a:lnTo>
                    <a:pt x="4582" y="1000"/>
                  </a:lnTo>
                  <a:lnTo>
                    <a:pt x="4549" y="967"/>
                  </a:lnTo>
                  <a:close/>
                  <a:moveTo>
                    <a:pt x="4655" y="861"/>
                  </a:moveTo>
                  <a:lnTo>
                    <a:pt x="4582" y="934"/>
                  </a:lnTo>
                  <a:lnTo>
                    <a:pt x="4615" y="967"/>
                  </a:lnTo>
                  <a:lnTo>
                    <a:pt x="4691" y="894"/>
                  </a:lnTo>
                  <a:lnTo>
                    <a:pt x="4655" y="861"/>
                  </a:lnTo>
                  <a:close/>
                  <a:moveTo>
                    <a:pt x="5067" y="450"/>
                  </a:moveTo>
                  <a:lnTo>
                    <a:pt x="4672" y="842"/>
                  </a:lnTo>
                  <a:lnTo>
                    <a:pt x="4707" y="877"/>
                  </a:lnTo>
                  <a:lnTo>
                    <a:pt x="5100" y="483"/>
                  </a:lnTo>
                  <a:lnTo>
                    <a:pt x="5067" y="450"/>
                  </a:lnTo>
                  <a:close/>
                  <a:moveTo>
                    <a:pt x="5159" y="357"/>
                  </a:moveTo>
                  <a:lnTo>
                    <a:pt x="5083" y="433"/>
                  </a:lnTo>
                  <a:lnTo>
                    <a:pt x="5119" y="466"/>
                  </a:lnTo>
                  <a:lnTo>
                    <a:pt x="5192" y="393"/>
                  </a:lnTo>
                  <a:lnTo>
                    <a:pt x="5159" y="357"/>
                  </a:lnTo>
                  <a:close/>
                  <a:moveTo>
                    <a:pt x="5265" y="251"/>
                  </a:moveTo>
                  <a:lnTo>
                    <a:pt x="5192" y="324"/>
                  </a:lnTo>
                  <a:lnTo>
                    <a:pt x="5225" y="357"/>
                  </a:lnTo>
                  <a:lnTo>
                    <a:pt x="5298" y="284"/>
                  </a:lnTo>
                  <a:lnTo>
                    <a:pt x="5265" y="251"/>
                  </a:lnTo>
                  <a:close/>
                  <a:moveTo>
                    <a:pt x="5516" y="0"/>
                  </a:moveTo>
                  <a:lnTo>
                    <a:pt x="5282" y="234"/>
                  </a:lnTo>
                  <a:lnTo>
                    <a:pt x="5315" y="268"/>
                  </a:lnTo>
                  <a:lnTo>
                    <a:pt x="5516" y="69"/>
                  </a:lnTo>
                  <a:lnTo>
                    <a:pt x="5516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 rot="5400000">
              <a:off x="2546280" y="-891000"/>
              <a:ext cx="6858000" cy="864036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640360"/>
                <a:gd name="textAreaBottom" fmla="*/ 8640720 h 8640360"/>
              </a:gdLst>
              <a:ahLst/>
              <a:rect l="textAreaLeft" t="textAreaTop" r="textAreaRight" b="textAreaBottom"/>
              <a:pathLst>
                <a:path w="5516" h="5578">
                  <a:moveTo>
                    <a:pt x="193" y="5318"/>
                  </a:moveTo>
                  <a:lnTo>
                    <a:pt x="0" y="5510"/>
                  </a:lnTo>
                  <a:lnTo>
                    <a:pt x="0" y="5578"/>
                  </a:lnTo>
                  <a:lnTo>
                    <a:pt x="227" y="5352"/>
                  </a:lnTo>
                  <a:lnTo>
                    <a:pt x="193" y="5318"/>
                  </a:lnTo>
                  <a:moveTo>
                    <a:pt x="283" y="5226"/>
                  </a:moveTo>
                  <a:lnTo>
                    <a:pt x="210" y="5302"/>
                  </a:lnTo>
                  <a:lnTo>
                    <a:pt x="243" y="5335"/>
                  </a:lnTo>
                  <a:lnTo>
                    <a:pt x="319" y="5262"/>
                  </a:lnTo>
                  <a:lnTo>
                    <a:pt x="283" y="5226"/>
                  </a:lnTo>
                  <a:moveTo>
                    <a:pt x="392" y="5120"/>
                  </a:moveTo>
                  <a:lnTo>
                    <a:pt x="319" y="5193"/>
                  </a:lnTo>
                  <a:lnTo>
                    <a:pt x="352" y="5226"/>
                  </a:lnTo>
                  <a:lnTo>
                    <a:pt x="425" y="5153"/>
                  </a:lnTo>
                  <a:lnTo>
                    <a:pt x="392" y="5120"/>
                  </a:lnTo>
                  <a:moveTo>
                    <a:pt x="803" y="4709"/>
                  </a:moveTo>
                  <a:lnTo>
                    <a:pt x="409" y="5103"/>
                  </a:lnTo>
                  <a:lnTo>
                    <a:pt x="442" y="5136"/>
                  </a:lnTo>
                  <a:lnTo>
                    <a:pt x="836" y="4742"/>
                  </a:lnTo>
                  <a:lnTo>
                    <a:pt x="803" y="4709"/>
                  </a:lnTo>
                  <a:moveTo>
                    <a:pt x="893" y="4619"/>
                  </a:moveTo>
                  <a:lnTo>
                    <a:pt x="820" y="4692"/>
                  </a:lnTo>
                  <a:lnTo>
                    <a:pt x="853" y="4725"/>
                  </a:lnTo>
                  <a:lnTo>
                    <a:pt x="926" y="4652"/>
                  </a:lnTo>
                  <a:lnTo>
                    <a:pt x="893" y="4619"/>
                  </a:lnTo>
                  <a:moveTo>
                    <a:pt x="1002" y="4510"/>
                  </a:moveTo>
                  <a:lnTo>
                    <a:pt x="926" y="4586"/>
                  </a:lnTo>
                  <a:lnTo>
                    <a:pt x="959" y="4619"/>
                  </a:lnTo>
                  <a:lnTo>
                    <a:pt x="1035" y="4546"/>
                  </a:lnTo>
                  <a:lnTo>
                    <a:pt x="1002" y="4510"/>
                  </a:lnTo>
                  <a:moveTo>
                    <a:pt x="1413" y="4101"/>
                  </a:moveTo>
                  <a:lnTo>
                    <a:pt x="1018" y="4494"/>
                  </a:lnTo>
                  <a:lnTo>
                    <a:pt x="1051" y="4529"/>
                  </a:lnTo>
                  <a:lnTo>
                    <a:pt x="1446" y="4134"/>
                  </a:lnTo>
                  <a:lnTo>
                    <a:pt x="1413" y="4101"/>
                  </a:lnTo>
                  <a:moveTo>
                    <a:pt x="1503" y="4009"/>
                  </a:moveTo>
                  <a:lnTo>
                    <a:pt x="1429" y="4085"/>
                  </a:lnTo>
                  <a:lnTo>
                    <a:pt x="1463" y="4118"/>
                  </a:lnTo>
                  <a:lnTo>
                    <a:pt x="1536" y="4044"/>
                  </a:lnTo>
                  <a:lnTo>
                    <a:pt x="1503" y="4009"/>
                  </a:lnTo>
                  <a:moveTo>
                    <a:pt x="1609" y="3903"/>
                  </a:moveTo>
                  <a:lnTo>
                    <a:pt x="1536" y="3976"/>
                  </a:lnTo>
                  <a:lnTo>
                    <a:pt x="1569" y="4009"/>
                  </a:lnTo>
                  <a:lnTo>
                    <a:pt x="1645" y="3936"/>
                  </a:lnTo>
                  <a:lnTo>
                    <a:pt x="1609" y="3903"/>
                  </a:lnTo>
                  <a:moveTo>
                    <a:pt x="2020" y="3491"/>
                  </a:moveTo>
                  <a:lnTo>
                    <a:pt x="1628" y="3886"/>
                  </a:lnTo>
                  <a:lnTo>
                    <a:pt x="1661" y="3919"/>
                  </a:lnTo>
                  <a:lnTo>
                    <a:pt x="2056" y="3525"/>
                  </a:lnTo>
                  <a:lnTo>
                    <a:pt x="2020" y="3491"/>
                  </a:lnTo>
                  <a:moveTo>
                    <a:pt x="2112" y="3402"/>
                  </a:moveTo>
                  <a:lnTo>
                    <a:pt x="2037" y="3475"/>
                  </a:lnTo>
                  <a:lnTo>
                    <a:pt x="2072" y="3508"/>
                  </a:lnTo>
                  <a:lnTo>
                    <a:pt x="2146" y="3435"/>
                  </a:lnTo>
                  <a:lnTo>
                    <a:pt x="2112" y="3402"/>
                  </a:lnTo>
                  <a:moveTo>
                    <a:pt x="2219" y="3293"/>
                  </a:moveTo>
                  <a:lnTo>
                    <a:pt x="2146" y="3369"/>
                  </a:lnTo>
                  <a:lnTo>
                    <a:pt x="2179" y="3402"/>
                  </a:lnTo>
                  <a:lnTo>
                    <a:pt x="2252" y="3328"/>
                  </a:lnTo>
                  <a:lnTo>
                    <a:pt x="2219" y="3293"/>
                  </a:lnTo>
                  <a:moveTo>
                    <a:pt x="2630" y="2884"/>
                  </a:moveTo>
                  <a:lnTo>
                    <a:pt x="2235" y="3276"/>
                  </a:lnTo>
                  <a:lnTo>
                    <a:pt x="2268" y="3312"/>
                  </a:lnTo>
                  <a:lnTo>
                    <a:pt x="2663" y="2917"/>
                  </a:lnTo>
                  <a:lnTo>
                    <a:pt x="2630" y="2884"/>
                  </a:lnTo>
                  <a:moveTo>
                    <a:pt x="2722" y="2792"/>
                  </a:moveTo>
                  <a:lnTo>
                    <a:pt x="2647" y="2867"/>
                  </a:lnTo>
                  <a:lnTo>
                    <a:pt x="2680" y="2901"/>
                  </a:lnTo>
                  <a:lnTo>
                    <a:pt x="2755" y="2827"/>
                  </a:lnTo>
                  <a:lnTo>
                    <a:pt x="2722" y="2792"/>
                  </a:lnTo>
                  <a:moveTo>
                    <a:pt x="2829" y="2685"/>
                  </a:moveTo>
                  <a:lnTo>
                    <a:pt x="2755" y="2759"/>
                  </a:lnTo>
                  <a:lnTo>
                    <a:pt x="2788" y="2792"/>
                  </a:lnTo>
                  <a:lnTo>
                    <a:pt x="2862" y="2719"/>
                  </a:lnTo>
                  <a:lnTo>
                    <a:pt x="2829" y="2685"/>
                  </a:lnTo>
                  <a:moveTo>
                    <a:pt x="3240" y="2274"/>
                  </a:moveTo>
                  <a:lnTo>
                    <a:pt x="2845" y="2669"/>
                  </a:lnTo>
                  <a:lnTo>
                    <a:pt x="2878" y="2702"/>
                  </a:lnTo>
                  <a:lnTo>
                    <a:pt x="3273" y="2307"/>
                  </a:lnTo>
                  <a:lnTo>
                    <a:pt x="3240" y="2274"/>
                  </a:lnTo>
                  <a:moveTo>
                    <a:pt x="3330" y="2184"/>
                  </a:moveTo>
                  <a:lnTo>
                    <a:pt x="3256" y="2258"/>
                  </a:lnTo>
                  <a:lnTo>
                    <a:pt x="3289" y="2291"/>
                  </a:lnTo>
                  <a:lnTo>
                    <a:pt x="3363" y="2217"/>
                  </a:lnTo>
                  <a:lnTo>
                    <a:pt x="3330" y="2184"/>
                  </a:lnTo>
                  <a:moveTo>
                    <a:pt x="3438" y="2078"/>
                  </a:moveTo>
                  <a:lnTo>
                    <a:pt x="3363" y="2151"/>
                  </a:lnTo>
                  <a:lnTo>
                    <a:pt x="3398" y="2184"/>
                  </a:lnTo>
                  <a:lnTo>
                    <a:pt x="3471" y="2111"/>
                  </a:lnTo>
                  <a:lnTo>
                    <a:pt x="3438" y="2078"/>
                  </a:lnTo>
                  <a:moveTo>
                    <a:pt x="3850" y="1667"/>
                  </a:moveTo>
                  <a:lnTo>
                    <a:pt x="3455" y="2059"/>
                  </a:lnTo>
                  <a:lnTo>
                    <a:pt x="3488" y="2095"/>
                  </a:lnTo>
                  <a:lnTo>
                    <a:pt x="3883" y="1700"/>
                  </a:lnTo>
                  <a:lnTo>
                    <a:pt x="3850" y="1667"/>
                  </a:lnTo>
                  <a:moveTo>
                    <a:pt x="3939" y="1575"/>
                  </a:moveTo>
                  <a:lnTo>
                    <a:pt x="3866" y="1650"/>
                  </a:lnTo>
                  <a:lnTo>
                    <a:pt x="3899" y="1683"/>
                  </a:lnTo>
                  <a:lnTo>
                    <a:pt x="3972" y="1610"/>
                  </a:lnTo>
                  <a:lnTo>
                    <a:pt x="3939" y="1575"/>
                  </a:lnTo>
                  <a:moveTo>
                    <a:pt x="4048" y="1468"/>
                  </a:moveTo>
                  <a:lnTo>
                    <a:pt x="3972" y="1542"/>
                  </a:lnTo>
                  <a:lnTo>
                    <a:pt x="4006" y="1575"/>
                  </a:lnTo>
                  <a:lnTo>
                    <a:pt x="4081" y="1501"/>
                  </a:lnTo>
                  <a:lnTo>
                    <a:pt x="4048" y="1468"/>
                  </a:lnTo>
                  <a:moveTo>
                    <a:pt x="4459" y="1057"/>
                  </a:moveTo>
                  <a:lnTo>
                    <a:pt x="4065" y="1452"/>
                  </a:lnTo>
                  <a:lnTo>
                    <a:pt x="4098" y="1485"/>
                  </a:lnTo>
                  <a:lnTo>
                    <a:pt x="4492" y="1090"/>
                  </a:lnTo>
                  <a:lnTo>
                    <a:pt x="4459" y="1057"/>
                  </a:lnTo>
                  <a:moveTo>
                    <a:pt x="4549" y="967"/>
                  </a:moveTo>
                  <a:lnTo>
                    <a:pt x="4476" y="1040"/>
                  </a:lnTo>
                  <a:lnTo>
                    <a:pt x="4509" y="1074"/>
                  </a:lnTo>
                  <a:lnTo>
                    <a:pt x="4582" y="1000"/>
                  </a:lnTo>
                  <a:lnTo>
                    <a:pt x="4549" y="967"/>
                  </a:lnTo>
                  <a:moveTo>
                    <a:pt x="4655" y="861"/>
                  </a:moveTo>
                  <a:lnTo>
                    <a:pt x="4582" y="934"/>
                  </a:lnTo>
                  <a:lnTo>
                    <a:pt x="4615" y="967"/>
                  </a:lnTo>
                  <a:lnTo>
                    <a:pt x="4691" y="894"/>
                  </a:lnTo>
                  <a:lnTo>
                    <a:pt x="4655" y="861"/>
                  </a:lnTo>
                  <a:moveTo>
                    <a:pt x="5067" y="450"/>
                  </a:moveTo>
                  <a:lnTo>
                    <a:pt x="4672" y="842"/>
                  </a:lnTo>
                  <a:lnTo>
                    <a:pt x="4707" y="877"/>
                  </a:lnTo>
                  <a:lnTo>
                    <a:pt x="5100" y="483"/>
                  </a:lnTo>
                  <a:lnTo>
                    <a:pt x="5067" y="450"/>
                  </a:lnTo>
                  <a:moveTo>
                    <a:pt x="5159" y="357"/>
                  </a:moveTo>
                  <a:lnTo>
                    <a:pt x="5083" y="433"/>
                  </a:lnTo>
                  <a:lnTo>
                    <a:pt x="5119" y="466"/>
                  </a:lnTo>
                  <a:lnTo>
                    <a:pt x="5192" y="393"/>
                  </a:lnTo>
                  <a:lnTo>
                    <a:pt x="5159" y="357"/>
                  </a:lnTo>
                  <a:moveTo>
                    <a:pt x="5265" y="251"/>
                  </a:moveTo>
                  <a:lnTo>
                    <a:pt x="5192" y="324"/>
                  </a:lnTo>
                  <a:lnTo>
                    <a:pt x="5225" y="357"/>
                  </a:lnTo>
                  <a:lnTo>
                    <a:pt x="5298" y="284"/>
                  </a:lnTo>
                  <a:lnTo>
                    <a:pt x="5265" y="251"/>
                  </a:lnTo>
                  <a:moveTo>
                    <a:pt x="5516" y="0"/>
                  </a:moveTo>
                  <a:lnTo>
                    <a:pt x="5282" y="234"/>
                  </a:lnTo>
                  <a:lnTo>
                    <a:pt x="5315" y="268"/>
                  </a:lnTo>
                  <a:lnTo>
                    <a:pt x="5516" y="69"/>
                  </a:lnTo>
                  <a:lnTo>
                    <a:pt x="55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 rot="5400000">
              <a:off x="826200" y="-724680"/>
              <a:ext cx="6756120" cy="8409600"/>
            </a:xfrm>
            <a:custGeom>
              <a:avLst/>
              <a:gdLst>
                <a:gd name="textAreaLeft" fmla="*/ 0 w 6756120"/>
                <a:gd name="textAreaRight" fmla="*/ 6756480 w 6756120"/>
                <a:gd name="textAreaTop" fmla="*/ 0 h 8409600"/>
                <a:gd name="textAreaBottom" fmla="*/ 8409960 h 8409600"/>
              </a:gdLst>
              <a:ahLst/>
              <a:rect l="textAreaLeft" t="textAreaTop" r="textAreaRight" b="textAreaBottom"/>
              <a:pathLst>
                <a:path w="5434" h="5429">
                  <a:moveTo>
                    <a:pt x="111" y="5318"/>
                  </a:moveTo>
                  <a:lnTo>
                    <a:pt x="0" y="5429"/>
                  </a:lnTo>
                  <a:lnTo>
                    <a:pt x="67" y="5429"/>
                  </a:lnTo>
                  <a:lnTo>
                    <a:pt x="145" y="5351"/>
                  </a:lnTo>
                  <a:lnTo>
                    <a:pt x="111" y="5318"/>
                  </a:lnTo>
                  <a:close/>
                  <a:moveTo>
                    <a:pt x="201" y="5228"/>
                  </a:moveTo>
                  <a:lnTo>
                    <a:pt x="128" y="5301"/>
                  </a:lnTo>
                  <a:lnTo>
                    <a:pt x="161" y="5334"/>
                  </a:lnTo>
                  <a:lnTo>
                    <a:pt x="234" y="5261"/>
                  </a:lnTo>
                  <a:lnTo>
                    <a:pt x="201" y="5228"/>
                  </a:lnTo>
                  <a:close/>
                  <a:moveTo>
                    <a:pt x="310" y="5119"/>
                  </a:moveTo>
                  <a:lnTo>
                    <a:pt x="234" y="5192"/>
                  </a:lnTo>
                  <a:lnTo>
                    <a:pt x="267" y="5228"/>
                  </a:lnTo>
                  <a:lnTo>
                    <a:pt x="343" y="5152"/>
                  </a:lnTo>
                  <a:lnTo>
                    <a:pt x="310" y="5119"/>
                  </a:lnTo>
                  <a:close/>
                  <a:moveTo>
                    <a:pt x="721" y="4708"/>
                  </a:moveTo>
                  <a:lnTo>
                    <a:pt x="327" y="5103"/>
                  </a:lnTo>
                  <a:lnTo>
                    <a:pt x="360" y="5136"/>
                  </a:lnTo>
                  <a:lnTo>
                    <a:pt x="754" y="4743"/>
                  </a:lnTo>
                  <a:lnTo>
                    <a:pt x="721" y="4708"/>
                  </a:lnTo>
                  <a:close/>
                  <a:moveTo>
                    <a:pt x="811" y="4618"/>
                  </a:moveTo>
                  <a:lnTo>
                    <a:pt x="738" y="4691"/>
                  </a:lnTo>
                  <a:lnTo>
                    <a:pt x="771" y="4727"/>
                  </a:lnTo>
                  <a:lnTo>
                    <a:pt x="844" y="4651"/>
                  </a:lnTo>
                  <a:lnTo>
                    <a:pt x="811" y="4618"/>
                  </a:lnTo>
                  <a:close/>
                  <a:moveTo>
                    <a:pt x="917" y="4512"/>
                  </a:moveTo>
                  <a:lnTo>
                    <a:pt x="844" y="4585"/>
                  </a:lnTo>
                  <a:lnTo>
                    <a:pt x="877" y="4618"/>
                  </a:lnTo>
                  <a:lnTo>
                    <a:pt x="950" y="4545"/>
                  </a:lnTo>
                  <a:lnTo>
                    <a:pt x="917" y="4512"/>
                  </a:lnTo>
                  <a:close/>
                  <a:moveTo>
                    <a:pt x="1329" y="4100"/>
                  </a:moveTo>
                  <a:lnTo>
                    <a:pt x="934" y="4495"/>
                  </a:lnTo>
                  <a:lnTo>
                    <a:pt x="969" y="4528"/>
                  </a:lnTo>
                  <a:lnTo>
                    <a:pt x="1362" y="4134"/>
                  </a:lnTo>
                  <a:lnTo>
                    <a:pt x="1329" y="4100"/>
                  </a:lnTo>
                  <a:close/>
                  <a:moveTo>
                    <a:pt x="1421" y="4011"/>
                  </a:moveTo>
                  <a:lnTo>
                    <a:pt x="1345" y="4084"/>
                  </a:lnTo>
                  <a:lnTo>
                    <a:pt x="1381" y="4117"/>
                  </a:lnTo>
                  <a:lnTo>
                    <a:pt x="1454" y="4044"/>
                  </a:lnTo>
                  <a:lnTo>
                    <a:pt x="1421" y="4011"/>
                  </a:lnTo>
                  <a:close/>
                  <a:moveTo>
                    <a:pt x="1527" y="3902"/>
                  </a:moveTo>
                  <a:lnTo>
                    <a:pt x="1454" y="3978"/>
                  </a:lnTo>
                  <a:lnTo>
                    <a:pt x="1487" y="4011"/>
                  </a:lnTo>
                  <a:lnTo>
                    <a:pt x="1560" y="3935"/>
                  </a:lnTo>
                  <a:lnTo>
                    <a:pt x="1527" y="3902"/>
                  </a:lnTo>
                  <a:close/>
                  <a:moveTo>
                    <a:pt x="1938" y="3491"/>
                  </a:moveTo>
                  <a:lnTo>
                    <a:pt x="1544" y="3885"/>
                  </a:lnTo>
                  <a:lnTo>
                    <a:pt x="1577" y="3918"/>
                  </a:lnTo>
                  <a:lnTo>
                    <a:pt x="1971" y="3526"/>
                  </a:lnTo>
                  <a:lnTo>
                    <a:pt x="1938" y="3491"/>
                  </a:lnTo>
                  <a:close/>
                  <a:moveTo>
                    <a:pt x="2028" y="3401"/>
                  </a:moveTo>
                  <a:lnTo>
                    <a:pt x="1955" y="3474"/>
                  </a:lnTo>
                  <a:lnTo>
                    <a:pt x="1988" y="3510"/>
                  </a:lnTo>
                  <a:lnTo>
                    <a:pt x="2064" y="3434"/>
                  </a:lnTo>
                  <a:lnTo>
                    <a:pt x="2028" y="3401"/>
                  </a:lnTo>
                  <a:close/>
                  <a:moveTo>
                    <a:pt x="2137" y="3294"/>
                  </a:moveTo>
                  <a:lnTo>
                    <a:pt x="2064" y="3368"/>
                  </a:lnTo>
                  <a:lnTo>
                    <a:pt x="2097" y="3401"/>
                  </a:lnTo>
                  <a:lnTo>
                    <a:pt x="2170" y="3328"/>
                  </a:lnTo>
                  <a:lnTo>
                    <a:pt x="2137" y="3294"/>
                  </a:lnTo>
                  <a:close/>
                  <a:moveTo>
                    <a:pt x="2548" y="2883"/>
                  </a:moveTo>
                  <a:lnTo>
                    <a:pt x="2153" y="3278"/>
                  </a:lnTo>
                  <a:lnTo>
                    <a:pt x="2186" y="3311"/>
                  </a:lnTo>
                  <a:lnTo>
                    <a:pt x="2581" y="2916"/>
                  </a:lnTo>
                  <a:lnTo>
                    <a:pt x="2548" y="2883"/>
                  </a:lnTo>
                  <a:close/>
                  <a:moveTo>
                    <a:pt x="2638" y="2793"/>
                  </a:moveTo>
                  <a:lnTo>
                    <a:pt x="2565" y="2867"/>
                  </a:lnTo>
                  <a:lnTo>
                    <a:pt x="2598" y="2900"/>
                  </a:lnTo>
                  <a:lnTo>
                    <a:pt x="2671" y="2826"/>
                  </a:lnTo>
                  <a:lnTo>
                    <a:pt x="2638" y="2793"/>
                  </a:lnTo>
                  <a:close/>
                  <a:moveTo>
                    <a:pt x="2747" y="2685"/>
                  </a:moveTo>
                  <a:lnTo>
                    <a:pt x="2671" y="2760"/>
                  </a:lnTo>
                  <a:lnTo>
                    <a:pt x="2706" y="2793"/>
                  </a:lnTo>
                  <a:lnTo>
                    <a:pt x="2780" y="2718"/>
                  </a:lnTo>
                  <a:lnTo>
                    <a:pt x="2747" y="2685"/>
                  </a:lnTo>
                  <a:close/>
                  <a:moveTo>
                    <a:pt x="3158" y="2273"/>
                  </a:moveTo>
                  <a:lnTo>
                    <a:pt x="2763" y="2668"/>
                  </a:lnTo>
                  <a:lnTo>
                    <a:pt x="2796" y="2701"/>
                  </a:lnTo>
                  <a:lnTo>
                    <a:pt x="3191" y="2309"/>
                  </a:lnTo>
                  <a:lnTo>
                    <a:pt x="3158" y="2273"/>
                  </a:lnTo>
                  <a:close/>
                  <a:moveTo>
                    <a:pt x="3248" y="2184"/>
                  </a:moveTo>
                  <a:lnTo>
                    <a:pt x="3174" y="2257"/>
                  </a:lnTo>
                  <a:lnTo>
                    <a:pt x="3207" y="2292"/>
                  </a:lnTo>
                  <a:lnTo>
                    <a:pt x="3281" y="2217"/>
                  </a:lnTo>
                  <a:lnTo>
                    <a:pt x="3248" y="2184"/>
                  </a:lnTo>
                  <a:close/>
                  <a:moveTo>
                    <a:pt x="3356" y="2077"/>
                  </a:moveTo>
                  <a:lnTo>
                    <a:pt x="3281" y="2151"/>
                  </a:lnTo>
                  <a:lnTo>
                    <a:pt x="3314" y="2184"/>
                  </a:lnTo>
                  <a:lnTo>
                    <a:pt x="3389" y="2110"/>
                  </a:lnTo>
                  <a:lnTo>
                    <a:pt x="3356" y="2077"/>
                  </a:lnTo>
                  <a:close/>
                  <a:moveTo>
                    <a:pt x="3765" y="1666"/>
                  </a:moveTo>
                  <a:lnTo>
                    <a:pt x="3373" y="2061"/>
                  </a:lnTo>
                  <a:lnTo>
                    <a:pt x="3406" y="2094"/>
                  </a:lnTo>
                  <a:lnTo>
                    <a:pt x="3801" y="1699"/>
                  </a:lnTo>
                  <a:lnTo>
                    <a:pt x="3765" y="1666"/>
                  </a:lnTo>
                  <a:close/>
                  <a:moveTo>
                    <a:pt x="3857" y="1576"/>
                  </a:moveTo>
                  <a:lnTo>
                    <a:pt x="3784" y="1649"/>
                  </a:lnTo>
                  <a:lnTo>
                    <a:pt x="3817" y="1683"/>
                  </a:lnTo>
                  <a:lnTo>
                    <a:pt x="3890" y="1609"/>
                  </a:lnTo>
                  <a:lnTo>
                    <a:pt x="3857" y="1576"/>
                  </a:lnTo>
                  <a:close/>
                  <a:moveTo>
                    <a:pt x="3964" y="1467"/>
                  </a:moveTo>
                  <a:lnTo>
                    <a:pt x="3890" y="1543"/>
                  </a:lnTo>
                  <a:lnTo>
                    <a:pt x="3924" y="1576"/>
                  </a:lnTo>
                  <a:lnTo>
                    <a:pt x="3997" y="1501"/>
                  </a:lnTo>
                  <a:lnTo>
                    <a:pt x="3964" y="1467"/>
                  </a:lnTo>
                  <a:close/>
                  <a:moveTo>
                    <a:pt x="4375" y="1059"/>
                  </a:moveTo>
                  <a:lnTo>
                    <a:pt x="3980" y="1451"/>
                  </a:lnTo>
                  <a:lnTo>
                    <a:pt x="4016" y="1484"/>
                  </a:lnTo>
                  <a:lnTo>
                    <a:pt x="4408" y="1092"/>
                  </a:lnTo>
                  <a:lnTo>
                    <a:pt x="4375" y="1059"/>
                  </a:lnTo>
                  <a:close/>
                  <a:moveTo>
                    <a:pt x="4467" y="966"/>
                  </a:moveTo>
                  <a:lnTo>
                    <a:pt x="4391" y="1040"/>
                  </a:lnTo>
                  <a:lnTo>
                    <a:pt x="4425" y="1075"/>
                  </a:lnTo>
                  <a:lnTo>
                    <a:pt x="4500" y="999"/>
                  </a:lnTo>
                  <a:lnTo>
                    <a:pt x="4467" y="966"/>
                  </a:lnTo>
                  <a:close/>
                  <a:moveTo>
                    <a:pt x="4573" y="860"/>
                  </a:moveTo>
                  <a:lnTo>
                    <a:pt x="4500" y="933"/>
                  </a:lnTo>
                  <a:lnTo>
                    <a:pt x="4533" y="966"/>
                  </a:lnTo>
                  <a:lnTo>
                    <a:pt x="4607" y="893"/>
                  </a:lnTo>
                  <a:lnTo>
                    <a:pt x="4573" y="860"/>
                  </a:lnTo>
                  <a:close/>
                  <a:moveTo>
                    <a:pt x="4985" y="449"/>
                  </a:moveTo>
                  <a:lnTo>
                    <a:pt x="4590" y="843"/>
                  </a:lnTo>
                  <a:lnTo>
                    <a:pt x="4623" y="877"/>
                  </a:lnTo>
                  <a:lnTo>
                    <a:pt x="5018" y="482"/>
                  </a:lnTo>
                  <a:lnTo>
                    <a:pt x="4985" y="449"/>
                  </a:lnTo>
                  <a:close/>
                  <a:moveTo>
                    <a:pt x="5074" y="359"/>
                  </a:moveTo>
                  <a:lnTo>
                    <a:pt x="5001" y="432"/>
                  </a:lnTo>
                  <a:lnTo>
                    <a:pt x="5034" y="465"/>
                  </a:lnTo>
                  <a:lnTo>
                    <a:pt x="5110" y="392"/>
                  </a:lnTo>
                  <a:lnTo>
                    <a:pt x="5074" y="359"/>
                  </a:lnTo>
                  <a:close/>
                  <a:moveTo>
                    <a:pt x="5183" y="250"/>
                  </a:moveTo>
                  <a:lnTo>
                    <a:pt x="5110" y="326"/>
                  </a:lnTo>
                  <a:lnTo>
                    <a:pt x="5143" y="359"/>
                  </a:lnTo>
                  <a:lnTo>
                    <a:pt x="5216" y="283"/>
                  </a:lnTo>
                  <a:lnTo>
                    <a:pt x="5183" y="250"/>
                  </a:lnTo>
                  <a:close/>
                  <a:moveTo>
                    <a:pt x="5434" y="0"/>
                  </a:moveTo>
                  <a:lnTo>
                    <a:pt x="5200" y="234"/>
                  </a:lnTo>
                  <a:lnTo>
                    <a:pt x="5233" y="267"/>
                  </a:lnTo>
                  <a:lnTo>
                    <a:pt x="5434" y="68"/>
                  </a:lnTo>
                  <a:lnTo>
                    <a:pt x="5434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 rot="5400000">
              <a:off x="826200" y="-724680"/>
              <a:ext cx="6756120" cy="8409600"/>
            </a:xfrm>
            <a:custGeom>
              <a:avLst/>
              <a:gdLst>
                <a:gd name="textAreaLeft" fmla="*/ 0 w 6756120"/>
                <a:gd name="textAreaRight" fmla="*/ 6756480 w 6756120"/>
                <a:gd name="textAreaTop" fmla="*/ 0 h 8409600"/>
                <a:gd name="textAreaBottom" fmla="*/ 8409960 h 8409600"/>
              </a:gdLst>
              <a:ahLst/>
              <a:rect l="textAreaLeft" t="textAreaTop" r="textAreaRight" b="textAreaBottom"/>
              <a:pathLst>
                <a:path w="5434" h="5429">
                  <a:moveTo>
                    <a:pt x="111" y="5318"/>
                  </a:moveTo>
                  <a:lnTo>
                    <a:pt x="0" y="5429"/>
                  </a:lnTo>
                  <a:lnTo>
                    <a:pt x="67" y="5429"/>
                  </a:lnTo>
                  <a:lnTo>
                    <a:pt x="145" y="5351"/>
                  </a:lnTo>
                  <a:lnTo>
                    <a:pt x="111" y="5318"/>
                  </a:lnTo>
                  <a:moveTo>
                    <a:pt x="201" y="5228"/>
                  </a:moveTo>
                  <a:lnTo>
                    <a:pt x="128" y="5301"/>
                  </a:lnTo>
                  <a:lnTo>
                    <a:pt x="161" y="5334"/>
                  </a:lnTo>
                  <a:lnTo>
                    <a:pt x="234" y="5261"/>
                  </a:lnTo>
                  <a:lnTo>
                    <a:pt x="201" y="5228"/>
                  </a:lnTo>
                  <a:moveTo>
                    <a:pt x="310" y="5119"/>
                  </a:moveTo>
                  <a:lnTo>
                    <a:pt x="234" y="5192"/>
                  </a:lnTo>
                  <a:lnTo>
                    <a:pt x="267" y="5228"/>
                  </a:lnTo>
                  <a:lnTo>
                    <a:pt x="343" y="5152"/>
                  </a:lnTo>
                  <a:lnTo>
                    <a:pt x="310" y="5119"/>
                  </a:lnTo>
                  <a:moveTo>
                    <a:pt x="721" y="4708"/>
                  </a:moveTo>
                  <a:lnTo>
                    <a:pt x="327" y="5103"/>
                  </a:lnTo>
                  <a:lnTo>
                    <a:pt x="360" y="5136"/>
                  </a:lnTo>
                  <a:lnTo>
                    <a:pt x="754" y="4743"/>
                  </a:lnTo>
                  <a:lnTo>
                    <a:pt x="721" y="4708"/>
                  </a:lnTo>
                  <a:moveTo>
                    <a:pt x="811" y="4618"/>
                  </a:moveTo>
                  <a:lnTo>
                    <a:pt x="738" y="4691"/>
                  </a:lnTo>
                  <a:lnTo>
                    <a:pt x="771" y="4727"/>
                  </a:lnTo>
                  <a:lnTo>
                    <a:pt x="844" y="4651"/>
                  </a:lnTo>
                  <a:lnTo>
                    <a:pt x="811" y="4618"/>
                  </a:lnTo>
                  <a:moveTo>
                    <a:pt x="917" y="4512"/>
                  </a:moveTo>
                  <a:lnTo>
                    <a:pt x="844" y="4585"/>
                  </a:lnTo>
                  <a:lnTo>
                    <a:pt x="877" y="4618"/>
                  </a:lnTo>
                  <a:lnTo>
                    <a:pt x="950" y="4545"/>
                  </a:lnTo>
                  <a:lnTo>
                    <a:pt x="917" y="4512"/>
                  </a:lnTo>
                  <a:moveTo>
                    <a:pt x="1329" y="4100"/>
                  </a:moveTo>
                  <a:lnTo>
                    <a:pt x="934" y="4495"/>
                  </a:lnTo>
                  <a:lnTo>
                    <a:pt x="969" y="4528"/>
                  </a:lnTo>
                  <a:lnTo>
                    <a:pt x="1362" y="4134"/>
                  </a:lnTo>
                  <a:lnTo>
                    <a:pt x="1329" y="4100"/>
                  </a:lnTo>
                  <a:moveTo>
                    <a:pt x="1421" y="4011"/>
                  </a:moveTo>
                  <a:lnTo>
                    <a:pt x="1345" y="4084"/>
                  </a:lnTo>
                  <a:lnTo>
                    <a:pt x="1381" y="4117"/>
                  </a:lnTo>
                  <a:lnTo>
                    <a:pt x="1454" y="4044"/>
                  </a:lnTo>
                  <a:lnTo>
                    <a:pt x="1421" y="4011"/>
                  </a:lnTo>
                  <a:moveTo>
                    <a:pt x="1527" y="3902"/>
                  </a:moveTo>
                  <a:lnTo>
                    <a:pt x="1454" y="3978"/>
                  </a:lnTo>
                  <a:lnTo>
                    <a:pt x="1487" y="4011"/>
                  </a:lnTo>
                  <a:lnTo>
                    <a:pt x="1560" y="3935"/>
                  </a:lnTo>
                  <a:lnTo>
                    <a:pt x="1527" y="3902"/>
                  </a:lnTo>
                  <a:moveTo>
                    <a:pt x="1938" y="3491"/>
                  </a:moveTo>
                  <a:lnTo>
                    <a:pt x="1544" y="3885"/>
                  </a:lnTo>
                  <a:lnTo>
                    <a:pt x="1577" y="3918"/>
                  </a:lnTo>
                  <a:lnTo>
                    <a:pt x="1971" y="3526"/>
                  </a:lnTo>
                  <a:lnTo>
                    <a:pt x="1938" y="3491"/>
                  </a:lnTo>
                  <a:moveTo>
                    <a:pt x="2028" y="3401"/>
                  </a:moveTo>
                  <a:lnTo>
                    <a:pt x="1955" y="3474"/>
                  </a:lnTo>
                  <a:lnTo>
                    <a:pt x="1988" y="3510"/>
                  </a:lnTo>
                  <a:lnTo>
                    <a:pt x="2064" y="3434"/>
                  </a:lnTo>
                  <a:lnTo>
                    <a:pt x="2028" y="3401"/>
                  </a:lnTo>
                  <a:moveTo>
                    <a:pt x="2137" y="3294"/>
                  </a:moveTo>
                  <a:lnTo>
                    <a:pt x="2064" y="3368"/>
                  </a:lnTo>
                  <a:lnTo>
                    <a:pt x="2097" y="3401"/>
                  </a:lnTo>
                  <a:lnTo>
                    <a:pt x="2170" y="3328"/>
                  </a:lnTo>
                  <a:lnTo>
                    <a:pt x="2137" y="3294"/>
                  </a:lnTo>
                  <a:moveTo>
                    <a:pt x="2548" y="2883"/>
                  </a:moveTo>
                  <a:lnTo>
                    <a:pt x="2153" y="3278"/>
                  </a:lnTo>
                  <a:lnTo>
                    <a:pt x="2186" y="3311"/>
                  </a:lnTo>
                  <a:lnTo>
                    <a:pt x="2581" y="2916"/>
                  </a:lnTo>
                  <a:lnTo>
                    <a:pt x="2548" y="2883"/>
                  </a:lnTo>
                  <a:moveTo>
                    <a:pt x="2638" y="2793"/>
                  </a:moveTo>
                  <a:lnTo>
                    <a:pt x="2565" y="2867"/>
                  </a:lnTo>
                  <a:lnTo>
                    <a:pt x="2598" y="2900"/>
                  </a:lnTo>
                  <a:lnTo>
                    <a:pt x="2671" y="2826"/>
                  </a:lnTo>
                  <a:lnTo>
                    <a:pt x="2638" y="2793"/>
                  </a:lnTo>
                  <a:moveTo>
                    <a:pt x="2747" y="2685"/>
                  </a:moveTo>
                  <a:lnTo>
                    <a:pt x="2671" y="2760"/>
                  </a:lnTo>
                  <a:lnTo>
                    <a:pt x="2706" y="2793"/>
                  </a:lnTo>
                  <a:lnTo>
                    <a:pt x="2780" y="2718"/>
                  </a:lnTo>
                  <a:lnTo>
                    <a:pt x="2747" y="2685"/>
                  </a:lnTo>
                  <a:moveTo>
                    <a:pt x="3158" y="2273"/>
                  </a:moveTo>
                  <a:lnTo>
                    <a:pt x="2763" y="2668"/>
                  </a:lnTo>
                  <a:lnTo>
                    <a:pt x="2796" y="2701"/>
                  </a:lnTo>
                  <a:lnTo>
                    <a:pt x="3191" y="2309"/>
                  </a:lnTo>
                  <a:lnTo>
                    <a:pt x="3158" y="2273"/>
                  </a:lnTo>
                  <a:moveTo>
                    <a:pt x="3248" y="2184"/>
                  </a:moveTo>
                  <a:lnTo>
                    <a:pt x="3174" y="2257"/>
                  </a:lnTo>
                  <a:lnTo>
                    <a:pt x="3207" y="2292"/>
                  </a:lnTo>
                  <a:lnTo>
                    <a:pt x="3281" y="2217"/>
                  </a:lnTo>
                  <a:lnTo>
                    <a:pt x="3248" y="2184"/>
                  </a:lnTo>
                  <a:moveTo>
                    <a:pt x="3356" y="2077"/>
                  </a:moveTo>
                  <a:lnTo>
                    <a:pt x="3281" y="2151"/>
                  </a:lnTo>
                  <a:lnTo>
                    <a:pt x="3314" y="2184"/>
                  </a:lnTo>
                  <a:lnTo>
                    <a:pt x="3389" y="2110"/>
                  </a:lnTo>
                  <a:lnTo>
                    <a:pt x="3356" y="2077"/>
                  </a:lnTo>
                  <a:moveTo>
                    <a:pt x="3765" y="1666"/>
                  </a:moveTo>
                  <a:lnTo>
                    <a:pt x="3373" y="2061"/>
                  </a:lnTo>
                  <a:lnTo>
                    <a:pt x="3406" y="2094"/>
                  </a:lnTo>
                  <a:lnTo>
                    <a:pt x="3801" y="1699"/>
                  </a:lnTo>
                  <a:lnTo>
                    <a:pt x="3765" y="1666"/>
                  </a:lnTo>
                  <a:moveTo>
                    <a:pt x="3857" y="1576"/>
                  </a:moveTo>
                  <a:lnTo>
                    <a:pt x="3784" y="1649"/>
                  </a:lnTo>
                  <a:lnTo>
                    <a:pt x="3817" y="1683"/>
                  </a:lnTo>
                  <a:lnTo>
                    <a:pt x="3890" y="1609"/>
                  </a:lnTo>
                  <a:lnTo>
                    <a:pt x="3857" y="1576"/>
                  </a:lnTo>
                  <a:moveTo>
                    <a:pt x="3964" y="1467"/>
                  </a:moveTo>
                  <a:lnTo>
                    <a:pt x="3890" y="1543"/>
                  </a:lnTo>
                  <a:lnTo>
                    <a:pt x="3924" y="1576"/>
                  </a:lnTo>
                  <a:lnTo>
                    <a:pt x="3997" y="1501"/>
                  </a:lnTo>
                  <a:lnTo>
                    <a:pt x="3964" y="1467"/>
                  </a:lnTo>
                  <a:moveTo>
                    <a:pt x="4375" y="1059"/>
                  </a:moveTo>
                  <a:lnTo>
                    <a:pt x="3980" y="1451"/>
                  </a:lnTo>
                  <a:lnTo>
                    <a:pt x="4016" y="1484"/>
                  </a:lnTo>
                  <a:lnTo>
                    <a:pt x="4408" y="1092"/>
                  </a:lnTo>
                  <a:lnTo>
                    <a:pt x="4375" y="1059"/>
                  </a:lnTo>
                  <a:moveTo>
                    <a:pt x="4467" y="966"/>
                  </a:moveTo>
                  <a:lnTo>
                    <a:pt x="4391" y="1040"/>
                  </a:lnTo>
                  <a:lnTo>
                    <a:pt x="4425" y="1075"/>
                  </a:lnTo>
                  <a:lnTo>
                    <a:pt x="4500" y="999"/>
                  </a:lnTo>
                  <a:lnTo>
                    <a:pt x="4467" y="966"/>
                  </a:lnTo>
                  <a:moveTo>
                    <a:pt x="4573" y="860"/>
                  </a:moveTo>
                  <a:lnTo>
                    <a:pt x="4500" y="933"/>
                  </a:lnTo>
                  <a:lnTo>
                    <a:pt x="4533" y="966"/>
                  </a:lnTo>
                  <a:lnTo>
                    <a:pt x="4607" y="893"/>
                  </a:lnTo>
                  <a:lnTo>
                    <a:pt x="4573" y="860"/>
                  </a:lnTo>
                  <a:moveTo>
                    <a:pt x="4985" y="449"/>
                  </a:moveTo>
                  <a:lnTo>
                    <a:pt x="4590" y="843"/>
                  </a:lnTo>
                  <a:lnTo>
                    <a:pt x="4623" y="877"/>
                  </a:lnTo>
                  <a:lnTo>
                    <a:pt x="5018" y="482"/>
                  </a:lnTo>
                  <a:lnTo>
                    <a:pt x="4985" y="449"/>
                  </a:lnTo>
                  <a:moveTo>
                    <a:pt x="5074" y="359"/>
                  </a:moveTo>
                  <a:lnTo>
                    <a:pt x="5001" y="432"/>
                  </a:lnTo>
                  <a:lnTo>
                    <a:pt x="5034" y="465"/>
                  </a:lnTo>
                  <a:lnTo>
                    <a:pt x="5110" y="392"/>
                  </a:lnTo>
                  <a:lnTo>
                    <a:pt x="5074" y="359"/>
                  </a:lnTo>
                  <a:moveTo>
                    <a:pt x="5183" y="250"/>
                  </a:moveTo>
                  <a:lnTo>
                    <a:pt x="5110" y="326"/>
                  </a:lnTo>
                  <a:lnTo>
                    <a:pt x="5143" y="359"/>
                  </a:lnTo>
                  <a:lnTo>
                    <a:pt x="5216" y="283"/>
                  </a:lnTo>
                  <a:lnTo>
                    <a:pt x="5183" y="250"/>
                  </a:lnTo>
                  <a:moveTo>
                    <a:pt x="5434" y="0"/>
                  </a:moveTo>
                  <a:lnTo>
                    <a:pt x="5200" y="234"/>
                  </a:lnTo>
                  <a:lnTo>
                    <a:pt x="5233" y="267"/>
                  </a:lnTo>
                  <a:lnTo>
                    <a:pt x="5434" y="68"/>
                  </a:lnTo>
                  <a:lnTo>
                    <a:pt x="5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 rot="5400000">
              <a:off x="640080" y="974160"/>
              <a:ext cx="5243040" cy="6524280"/>
            </a:xfrm>
            <a:custGeom>
              <a:avLst/>
              <a:gdLst>
                <a:gd name="textAreaLeft" fmla="*/ 0 w 5243040"/>
                <a:gd name="textAreaRight" fmla="*/ 5243400 w 5243040"/>
                <a:gd name="textAreaTop" fmla="*/ 0 h 6524280"/>
                <a:gd name="textAreaBottom" fmla="*/ 6524640 h 6524280"/>
              </a:gdLst>
              <a:ahLst/>
              <a:rect l="textAreaLeft" t="textAreaTop" r="textAreaRight" b="textAreaBottom"/>
              <a:pathLst>
                <a:path w="4217" h="4212">
                  <a:moveTo>
                    <a:pt x="112" y="4101"/>
                  </a:moveTo>
                  <a:lnTo>
                    <a:pt x="0" y="4212"/>
                  </a:lnTo>
                  <a:lnTo>
                    <a:pt x="69" y="4212"/>
                  </a:lnTo>
                  <a:lnTo>
                    <a:pt x="145" y="4134"/>
                  </a:lnTo>
                  <a:lnTo>
                    <a:pt x="112" y="4101"/>
                  </a:lnTo>
                  <a:close/>
                  <a:moveTo>
                    <a:pt x="201" y="4011"/>
                  </a:moveTo>
                  <a:lnTo>
                    <a:pt x="128" y="4084"/>
                  </a:lnTo>
                  <a:lnTo>
                    <a:pt x="161" y="4117"/>
                  </a:lnTo>
                  <a:lnTo>
                    <a:pt x="237" y="4044"/>
                  </a:lnTo>
                  <a:lnTo>
                    <a:pt x="201" y="4011"/>
                  </a:lnTo>
                  <a:close/>
                  <a:moveTo>
                    <a:pt x="310" y="3902"/>
                  </a:moveTo>
                  <a:lnTo>
                    <a:pt x="237" y="3978"/>
                  </a:lnTo>
                  <a:lnTo>
                    <a:pt x="270" y="4011"/>
                  </a:lnTo>
                  <a:lnTo>
                    <a:pt x="343" y="3938"/>
                  </a:lnTo>
                  <a:lnTo>
                    <a:pt x="310" y="3902"/>
                  </a:lnTo>
                  <a:close/>
                  <a:moveTo>
                    <a:pt x="721" y="3493"/>
                  </a:moveTo>
                  <a:lnTo>
                    <a:pt x="327" y="3886"/>
                  </a:lnTo>
                  <a:lnTo>
                    <a:pt x="360" y="3921"/>
                  </a:lnTo>
                  <a:lnTo>
                    <a:pt x="754" y="3526"/>
                  </a:lnTo>
                  <a:lnTo>
                    <a:pt x="721" y="3493"/>
                  </a:lnTo>
                  <a:close/>
                  <a:moveTo>
                    <a:pt x="811" y="3401"/>
                  </a:moveTo>
                  <a:lnTo>
                    <a:pt x="738" y="3477"/>
                  </a:lnTo>
                  <a:lnTo>
                    <a:pt x="771" y="3510"/>
                  </a:lnTo>
                  <a:lnTo>
                    <a:pt x="844" y="3436"/>
                  </a:lnTo>
                  <a:lnTo>
                    <a:pt x="811" y="3401"/>
                  </a:lnTo>
                  <a:close/>
                  <a:moveTo>
                    <a:pt x="920" y="3295"/>
                  </a:moveTo>
                  <a:lnTo>
                    <a:pt x="844" y="3368"/>
                  </a:lnTo>
                  <a:lnTo>
                    <a:pt x="877" y="3401"/>
                  </a:lnTo>
                  <a:lnTo>
                    <a:pt x="953" y="3328"/>
                  </a:lnTo>
                  <a:lnTo>
                    <a:pt x="920" y="3295"/>
                  </a:lnTo>
                  <a:close/>
                  <a:moveTo>
                    <a:pt x="1331" y="2883"/>
                  </a:moveTo>
                  <a:lnTo>
                    <a:pt x="936" y="3278"/>
                  </a:lnTo>
                  <a:lnTo>
                    <a:pt x="969" y="3311"/>
                  </a:lnTo>
                  <a:lnTo>
                    <a:pt x="1364" y="2917"/>
                  </a:lnTo>
                  <a:lnTo>
                    <a:pt x="1331" y="2883"/>
                  </a:lnTo>
                  <a:close/>
                  <a:moveTo>
                    <a:pt x="1421" y="2794"/>
                  </a:moveTo>
                  <a:lnTo>
                    <a:pt x="1348" y="2867"/>
                  </a:lnTo>
                  <a:lnTo>
                    <a:pt x="1381" y="2900"/>
                  </a:lnTo>
                  <a:lnTo>
                    <a:pt x="1454" y="2827"/>
                  </a:lnTo>
                  <a:lnTo>
                    <a:pt x="1421" y="2794"/>
                  </a:lnTo>
                  <a:close/>
                  <a:moveTo>
                    <a:pt x="1527" y="2687"/>
                  </a:moveTo>
                  <a:lnTo>
                    <a:pt x="1454" y="2761"/>
                  </a:lnTo>
                  <a:lnTo>
                    <a:pt x="1487" y="2794"/>
                  </a:lnTo>
                  <a:lnTo>
                    <a:pt x="1563" y="2720"/>
                  </a:lnTo>
                  <a:lnTo>
                    <a:pt x="1527" y="2687"/>
                  </a:lnTo>
                  <a:close/>
                  <a:moveTo>
                    <a:pt x="1938" y="2276"/>
                  </a:moveTo>
                  <a:lnTo>
                    <a:pt x="1546" y="2668"/>
                  </a:lnTo>
                  <a:lnTo>
                    <a:pt x="1579" y="2704"/>
                  </a:lnTo>
                  <a:lnTo>
                    <a:pt x="1974" y="2309"/>
                  </a:lnTo>
                  <a:lnTo>
                    <a:pt x="1938" y="2276"/>
                  </a:lnTo>
                  <a:close/>
                  <a:moveTo>
                    <a:pt x="2031" y="2184"/>
                  </a:moveTo>
                  <a:lnTo>
                    <a:pt x="1955" y="2259"/>
                  </a:lnTo>
                  <a:lnTo>
                    <a:pt x="1990" y="2293"/>
                  </a:lnTo>
                  <a:lnTo>
                    <a:pt x="2064" y="2219"/>
                  </a:lnTo>
                  <a:lnTo>
                    <a:pt x="2031" y="2184"/>
                  </a:lnTo>
                  <a:close/>
                  <a:moveTo>
                    <a:pt x="2137" y="2077"/>
                  </a:moveTo>
                  <a:lnTo>
                    <a:pt x="2064" y="2151"/>
                  </a:lnTo>
                  <a:lnTo>
                    <a:pt x="2097" y="2184"/>
                  </a:lnTo>
                  <a:lnTo>
                    <a:pt x="2170" y="2111"/>
                  </a:lnTo>
                  <a:lnTo>
                    <a:pt x="2137" y="2077"/>
                  </a:lnTo>
                  <a:close/>
                  <a:moveTo>
                    <a:pt x="2548" y="1666"/>
                  </a:moveTo>
                  <a:lnTo>
                    <a:pt x="2154" y="2061"/>
                  </a:lnTo>
                  <a:lnTo>
                    <a:pt x="2187" y="2094"/>
                  </a:lnTo>
                  <a:lnTo>
                    <a:pt x="2581" y="1699"/>
                  </a:lnTo>
                  <a:lnTo>
                    <a:pt x="2548" y="1666"/>
                  </a:lnTo>
                  <a:close/>
                  <a:moveTo>
                    <a:pt x="2640" y="1576"/>
                  </a:moveTo>
                  <a:lnTo>
                    <a:pt x="2565" y="1650"/>
                  </a:lnTo>
                  <a:lnTo>
                    <a:pt x="2598" y="1683"/>
                  </a:lnTo>
                  <a:lnTo>
                    <a:pt x="2673" y="1609"/>
                  </a:lnTo>
                  <a:lnTo>
                    <a:pt x="2640" y="1576"/>
                  </a:lnTo>
                  <a:close/>
                  <a:moveTo>
                    <a:pt x="2747" y="1470"/>
                  </a:moveTo>
                  <a:lnTo>
                    <a:pt x="2673" y="1543"/>
                  </a:lnTo>
                  <a:lnTo>
                    <a:pt x="2707" y="1576"/>
                  </a:lnTo>
                  <a:lnTo>
                    <a:pt x="2780" y="1503"/>
                  </a:lnTo>
                  <a:lnTo>
                    <a:pt x="2747" y="1470"/>
                  </a:lnTo>
                  <a:close/>
                  <a:moveTo>
                    <a:pt x="3158" y="1059"/>
                  </a:moveTo>
                  <a:lnTo>
                    <a:pt x="2763" y="1451"/>
                  </a:lnTo>
                  <a:lnTo>
                    <a:pt x="2796" y="1487"/>
                  </a:lnTo>
                  <a:lnTo>
                    <a:pt x="3191" y="1092"/>
                  </a:lnTo>
                  <a:lnTo>
                    <a:pt x="3158" y="1059"/>
                  </a:lnTo>
                  <a:close/>
                  <a:moveTo>
                    <a:pt x="3248" y="967"/>
                  </a:moveTo>
                  <a:lnTo>
                    <a:pt x="3174" y="1042"/>
                  </a:lnTo>
                  <a:lnTo>
                    <a:pt x="3208" y="1075"/>
                  </a:lnTo>
                  <a:lnTo>
                    <a:pt x="3281" y="1002"/>
                  </a:lnTo>
                  <a:lnTo>
                    <a:pt x="3248" y="967"/>
                  </a:lnTo>
                  <a:close/>
                  <a:moveTo>
                    <a:pt x="3356" y="860"/>
                  </a:moveTo>
                  <a:lnTo>
                    <a:pt x="3283" y="934"/>
                  </a:lnTo>
                  <a:lnTo>
                    <a:pt x="3316" y="967"/>
                  </a:lnTo>
                  <a:lnTo>
                    <a:pt x="3390" y="893"/>
                  </a:lnTo>
                  <a:lnTo>
                    <a:pt x="3356" y="860"/>
                  </a:lnTo>
                  <a:close/>
                  <a:moveTo>
                    <a:pt x="3768" y="449"/>
                  </a:moveTo>
                  <a:lnTo>
                    <a:pt x="3373" y="844"/>
                  </a:lnTo>
                  <a:lnTo>
                    <a:pt x="3406" y="877"/>
                  </a:lnTo>
                  <a:lnTo>
                    <a:pt x="3801" y="482"/>
                  </a:lnTo>
                  <a:lnTo>
                    <a:pt x="3768" y="449"/>
                  </a:lnTo>
                  <a:close/>
                  <a:moveTo>
                    <a:pt x="3857" y="359"/>
                  </a:moveTo>
                  <a:lnTo>
                    <a:pt x="3784" y="432"/>
                  </a:lnTo>
                  <a:lnTo>
                    <a:pt x="3817" y="466"/>
                  </a:lnTo>
                  <a:lnTo>
                    <a:pt x="3891" y="392"/>
                  </a:lnTo>
                  <a:lnTo>
                    <a:pt x="3857" y="359"/>
                  </a:lnTo>
                  <a:close/>
                  <a:moveTo>
                    <a:pt x="3966" y="253"/>
                  </a:moveTo>
                  <a:lnTo>
                    <a:pt x="3891" y="326"/>
                  </a:lnTo>
                  <a:lnTo>
                    <a:pt x="3924" y="359"/>
                  </a:lnTo>
                  <a:lnTo>
                    <a:pt x="3999" y="286"/>
                  </a:lnTo>
                  <a:lnTo>
                    <a:pt x="3966" y="253"/>
                  </a:lnTo>
                  <a:close/>
                  <a:moveTo>
                    <a:pt x="4217" y="0"/>
                  </a:moveTo>
                  <a:lnTo>
                    <a:pt x="3983" y="234"/>
                  </a:lnTo>
                  <a:lnTo>
                    <a:pt x="4016" y="269"/>
                  </a:lnTo>
                  <a:lnTo>
                    <a:pt x="4217" y="68"/>
                  </a:lnTo>
                  <a:lnTo>
                    <a:pt x="4217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 rot="5400000">
              <a:off x="640080" y="974160"/>
              <a:ext cx="5243040" cy="6524280"/>
            </a:xfrm>
            <a:custGeom>
              <a:avLst/>
              <a:gdLst>
                <a:gd name="textAreaLeft" fmla="*/ 0 w 5243040"/>
                <a:gd name="textAreaRight" fmla="*/ 5243400 w 5243040"/>
                <a:gd name="textAreaTop" fmla="*/ 0 h 6524280"/>
                <a:gd name="textAreaBottom" fmla="*/ 6524640 h 6524280"/>
              </a:gdLst>
              <a:ahLst/>
              <a:rect l="textAreaLeft" t="textAreaTop" r="textAreaRight" b="textAreaBottom"/>
              <a:pathLst>
                <a:path w="4217" h="4212">
                  <a:moveTo>
                    <a:pt x="112" y="4101"/>
                  </a:moveTo>
                  <a:lnTo>
                    <a:pt x="0" y="4212"/>
                  </a:lnTo>
                  <a:lnTo>
                    <a:pt x="69" y="4212"/>
                  </a:lnTo>
                  <a:lnTo>
                    <a:pt x="145" y="4134"/>
                  </a:lnTo>
                  <a:lnTo>
                    <a:pt x="112" y="4101"/>
                  </a:lnTo>
                  <a:moveTo>
                    <a:pt x="201" y="4011"/>
                  </a:moveTo>
                  <a:lnTo>
                    <a:pt x="128" y="4084"/>
                  </a:lnTo>
                  <a:lnTo>
                    <a:pt x="161" y="4117"/>
                  </a:lnTo>
                  <a:lnTo>
                    <a:pt x="237" y="4044"/>
                  </a:lnTo>
                  <a:lnTo>
                    <a:pt x="201" y="4011"/>
                  </a:lnTo>
                  <a:moveTo>
                    <a:pt x="310" y="3902"/>
                  </a:moveTo>
                  <a:lnTo>
                    <a:pt x="237" y="3978"/>
                  </a:lnTo>
                  <a:lnTo>
                    <a:pt x="270" y="4011"/>
                  </a:lnTo>
                  <a:lnTo>
                    <a:pt x="343" y="3938"/>
                  </a:lnTo>
                  <a:lnTo>
                    <a:pt x="310" y="3902"/>
                  </a:lnTo>
                  <a:moveTo>
                    <a:pt x="721" y="3493"/>
                  </a:moveTo>
                  <a:lnTo>
                    <a:pt x="327" y="3886"/>
                  </a:lnTo>
                  <a:lnTo>
                    <a:pt x="360" y="3921"/>
                  </a:lnTo>
                  <a:lnTo>
                    <a:pt x="754" y="3526"/>
                  </a:lnTo>
                  <a:lnTo>
                    <a:pt x="721" y="3493"/>
                  </a:lnTo>
                  <a:moveTo>
                    <a:pt x="811" y="3401"/>
                  </a:moveTo>
                  <a:lnTo>
                    <a:pt x="738" y="3477"/>
                  </a:lnTo>
                  <a:lnTo>
                    <a:pt x="771" y="3510"/>
                  </a:lnTo>
                  <a:lnTo>
                    <a:pt x="844" y="3436"/>
                  </a:lnTo>
                  <a:lnTo>
                    <a:pt x="811" y="3401"/>
                  </a:lnTo>
                  <a:moveTo>
                    <a:pt x="920" y="3295"/>
                  </a:moveTo>
                  <a:lnTo>
                    <a:pt x="844" y="3368"/>
                  </a:lnTo>
                  <a:lnTo>
                    <a:pt x="877" y="3401"/>
                  </a:lnTo>
                  <a:lnTo>
                    <a:pt x="953" y="3328"/>
                  </a:lnTo>
                  <a:lnTo>
                    <a:pt x="920" y="3295"/>
                  </a:lnTo>
                  <a:moveTo>
                    <a:pt x="1331" y="2883"/>
                  </a:moveTo>
                  <a:lnTo>
                    <a:pt x="936" y="3278"/>
                  </a:lnTo>
                  <a:lnTo>
                    <a:pt x="969" y="3311"/>
                  </a:lnTo>
                  <a:lnTo>
                    <a:pt x="1364" y="2917"/>
                  </a:lnTo>
                  <a:lnTo>
                    <a:pt x="1331" y="2883"/>
                  </a:lnTo>
                  <a:moveTo>
                    <a:pt x="1421" y="2794"/>
                  </a:moveTo>
                  <a:lnTo>
                    <a:pt x="1348" y="2867"/>
                  </a:lnTo>
                  <a:lnTo>
                    <a:pt x="1381" y="2900"/>
                  </a:lnTo>
                  <a:lnTo>
                    <a:pt x="1454" y="2827"/>
                  </a:lnTo>
                  <a:lnTo>
                    <a:pt x="1421" y="2794"/>
                  </a:lnTo>
                  <a:moveTo>
                    <a:pt x="1527" y="2687"/>
                  </a:moveTo>
                  <a:lnTo>
                    <a:pt x="1454" y="2761"/>
                  </a:lnTo>
                  <a:lnTo>
                    <a:pt x="1487" y="2794"/>
                  </a:lnTo>
                  <a:lnTo>
                    <a:pt x="1563" y="2720"/>
                  </a:lnTo>
                  <a:lnTo>
                    <a:pt x="1527" y="2687"/>
                  </a:lnTo>
                  <a:moveTo>
                    <a:pt x="1938" y="2276"/>
                  </a:moveTo>
                  <a:lnTo>
                    <a:pt x="1546" y="2668"/>
                  </a:lnTo>
                  <a:lnTo>
                    <a:pt x="1579" y="2704"/>
                  </a:lnTo>
                  <a:lnTo>
                    <a:pt x="1974" y="2309"/>
                  </a:lnTo>
                  <a:lnTo>
                    <a:pt x="1938" y="2276"/>
                  </a:lnTo>
                  <a:moveTo>
                    <a:pt x="2031" y="2184"/>
                  </a:moveTo>
                  <a:lnTo>
                    <a:pt x="1955" y="2259"/>
                  </a:lnTo>
                  <a:lnTo>
                    <a:pt x="1990" y="2293"/>
                  </a:lnTo>
                  <a:lnTo>
                    <a:pt x="2064" y="2219"/>
                  </a:lnTo>
                  <a:lnTo>
                    <a:pt x="2031" y="2184"/>
                  </a:lnTo>
                  <a:moveTo>
                    <a:pt x="2137" y="2077"/>
                  </a:moveTo>
                  <a:lnTo>
                    <a:pt x="2064" y="2151"/>
                  </a:lnTo>
                  <a:lnTo>
                    <a:pt x="2097" y="2184"/>
                  </a:lnTo>
                  <a:lnTo>
                    <a:pt x="2170" y="2111"/>
                  </a:lnTo>
                  <a:lnTo>
                    <a:pt x="2137" y="2077"/>
                  </a:lnTo>
                  <a:moveTo>
                    <a:pt x="2548" y="1666"/>
                  </a:moveTo>
                  <a:lnTo>
                    <a:pt x="2154" y="2061"/>
                  </a:lnTo>
                  <a:lnTo>
                    <a:pt x="2187" y="2094"/>
                  </a:lnTo>
                  <a:lnTo>
                    <a:pt x="2581" y="1699"/>
                  </a:lnTo>
                  <a:lnTo>
                    <a:pt x="2548" y="1666"/>
                  </a:lnTo>
                  <a:moveTo>
                    <a:pt x="2640" y="1576"/>
                  </a:moveTo>
                  <a:lnTo>
                    <a:pt x="2565" y="1650"/>
                  </a:lnTo>
                  <a:lnTo>
                    <a:pt x="2598" y="1683"/>
                  </a:lnTo>
                  <a:lnTo>
                    <a:pt x="2673" y="1609"/>
                  </a:lnTo>
                  <a:lnTo>
                    <a:pt x="2640" y="1576"/>
                  </a:lnTo>
                  <a:moveTo>
                    <a:pt x="2747" y="1470"/>
                  </a:moveTo>
                  <a:lnTo>
                    <a:pt x="2673" y="1543"/>
                  </a:lnTo>
                  <a:lnTo>
                    <a:pt x="2707" y="1576"/>
                  </a:lnTo>
                  <a:lnTo>
                    <a:pt x="2780" y="1503"/>
                  </a:lnTo>
                  <a:lnTo>
                    <a:pt x="2747" y="1470"/>
                  </a:lnTo>
                  <a:moveTo>
                    <a:pt x="3158" y="1059"/>
                  </a:moveTo>
                  <a:lnTo>
                    <a:pt x="2763" y="1451"/>
                  </a:lnTo>
                  <a:lnTo>
                    <a:pt x="2796" y="1487"/>
                  </a:lnTo>
                  <a:lnTo>
                    <a:pt x="3191" y="1092"/>
                  </a:lnTo>
                  <a:lnTo>
                    <a:pt x="3158" y="1059"/>
                  </a:lnTo>
                  <a:moveTo>
                    <a:pt x="3248" y="967"/>
                  </a:moveTo>
                  <a:lnTo>
                    <a:pt x="3174" y="1042"/>
                  </a:lnTo>
                  <a:lnTo>
                    <a:pt x="3208" y="1075"/>
                  </a:lnTo>
                  <a:lnTo>
                    <a:pt x="3281" y="1002"/>
                  </a:lnTo>
                  <a:lnTo>
                    <a:pt x="3248" y="967"/>
                  </a:lnTo>
                  <a:moveTo>
                    <a:pt x="3356" y="860"/>
                  </a:moveTo>
                  <a:lnTo>
                    <a:pt x="3283" y="934"/>
                  </a:lnTo>
                  <a:lnTo>
                    <a:pt x="3316" y="967"/>
                  </a:lnTo>
                  <a:lnTo>
                    <a:pt x="3390" y="893"/>
                  </a:lnTo>
                  <a:lnTo>
                    <a:pt x="3356" y="860"/>
                  </a:lnTo>
                  <a:moveTo>
                    <a:pt x="3768" y="449"/>
                  </a:moveTo>
                  <a:lnTo>
                    <a:pt x="3373" y="844"/>
                  </a:lnTo>
                  <a:lnTo>
                    <a:pt x="3406" y="877"/>
                  </a:lnTo>
                  <a:lnTo>
                    <a:pt x="3801" y="482"/>
                  </a:lnTo>
                  <a:lnTo>
                    <a:pt x="3768" y="449"/>
                  </a:lnTo>
                  <a:moveTo>
                    <a:pt x="3857" y="359"/>
                  </a:moveTo>
                  <a:lnTo>
                    <a:pt x="3784" y="432"/>
                  </a:lnTo>
                  <a:lnTo>
                    <a:pt x="3817" y="466"/>
                  </a:lnTo>
                  <a:lnTo>
                    <a:pt x="3891" y="392"/>
                  </a:lnTo>
                  <a:lnTo>
                    <a:pt x="3857" y="359"/>
                  </a:lnTo>
                  <a:moveTo>
                    <a:pt x="3966" y="253"/>
                  </a:moveTo>
                  <a:lnTo>
                    <a:pt x="3891" y="326"/>
                  </a:lnTo>
                  <a:lnTo>
                    <a:pt x="3924" y="359"/>
                  </a:lnTo>
                  <a:lnTo>
                    <a:pt x="3999" y="286"/>
                  </a:lnTo>
                  <a:lnTo>
                    <a:pt x="3966" y="253"/>
                  </a:lnTo>
                  <a:moveTo>
                    <a:pt x="4217" y="0"/>
                  </a:moveTo>
                  <a:lnTo>
                    <a:pt x="3983" y="234"/>
                  </a:lnTo>
                  <a:lnTo>
                    <a:pt x="4016" y="269"/>
                  </a:lnTo>
                  <a:lnTo>
                    <a:pt x="4217" y="68"/>
                  </a:lnTo>
                  <a:lnTo>
                    <a:pt x="42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 rot="5400000">
              <a:off x="456120" y="2675160"/>
              <a:ext cx="3726000" cy="4639320"/>
            </a:xfrm>
            <a:custGeom>
              <a:avLst/>
              <a:gdLst>
                <a:gd name="textAreaLeft" fmla="*/ 0 w 3726000"/>
                <a:gd name="textAreaRight" fmla="*/ 3726360 w 3726000"/>
                <a:gd name="textAreaTop" fmla="*/ 0 h 4639320"/>
                <a:gd name="textAreaBottom" fmla="*/ 4639680 h 4639320"/>
              </a:gdLst>
              <a:ahLst/>
              <a:rect l="textAreaLeft" t="textAreaTop" r="textAreaRight" b="textAreaBottom"/>
              <a:pathLst>
                <a:path w="2997" h="2995">
                  <a:moveTo>
                    <a:pt x="109" y="2886"/>
                  </a:moveTo>
                  <a:lnTo>
                    <a:pt x="0" y="2995"/>
                  </a:lnTo>
                  <a:lnTo>
                    <a:pt x="66" y="2995"/>
                  </a:lnTo>
                  <a:lnTo>
                    <a:pt x="142" y="2919"/>
                  </a:lnTo>
                  <a:lnTo>
                    <a:pt x="109" y="2886"/>
                  </a:lnTo>
                  <a:close/>
                  <a:moveTo>
                    <a:pt x="201" y="2794"/>
                  </a:moveTo>
                  <a:lnTo>
                    <a:pt x="125" y="2867"/>
                  </a:lnTo>
                  <a:lnTo>
                    <a:pt x="161" y="2903"/>
                  </a:lnTo>
                  <a:lnTo>
                    <a:pt x="234" y="2827"/>
                  </a:lnTo>
                  <a:lnTo>
                    <a:pt x="201" y="2794"/>
                  </a:lnTo>
                  <a:close/>
                  <a:moveTo>
                    <a:pt x="307" y="2687"/>
                  </a:moveTo>
                  <a:lnTo>
                    <a:pt x="234" y="2761"/>
                  </a:lnTo>
                  <a:lnTo>
                    <a:pt x="267" y="2794"/>
                  </a:lnTo>
                  <a:lnTo>
                    <a:pt x="340" y="2721"/>
                  </a:lnTo>
                  <a:lnTo>
                    <a:pt x="307" y="2687"/>
                  </a:lnTo>
                  <a:close/>
                  <a:moveTo>
                    <a:pt x="718" y="2276"/>
                  </a:moveTo>
                  <a:lnTo>
                    <a:pt x="324" y="2671"/>
                  </a:lnTo>
                  <a:lnTo>
                    <a:pt x="357" y="2704"/>
                  </a:lnTo>
                  <a:lnTo>
                    <a:pt x="752" y="2309"/>
                  </a:lnTo>
                  <a:lnTo>
                    <a:pt x="718" y="2276"/>
                  </a:lnTo>
                  <a:close/>
                  <a:moveTo>
                    <a:pt x="808" y="2186"/>
                  </a:moveTo>
                  <a:lnTo>
                    <a:pt x="735" y="2260"/>
                  </a:lnTo>
                  <a:lnTo>
                    <a:pt x="768" y="2293"/>
                  </a:lnTo>
                  <a:lnTo>
                    <a:pt x="844" y="2219"/>
                  </a:lnTo>
                  <a:lnTo>
                    <a:pt x="808" y="2186"/>
                  </a:lnTo>
                  <a:close/>
                  <a:moveTo>
                    <a:pt x="917" y="2078"/>
                  </a:moveTo>
                  <a:lnTo>
                    <a:pt x="844" y="2153"/>
                  </a:lnTo>
                  <a:lnTo>
                    <a:pt x="877" y="2186"/>
                  </a:lnTo>
                  <a:lnTo>
                    <a:pt x="950" y="2111"/>
                  </a:lnTo>
                  <a:lnTo>
                    <a:pt x="917" y="2078"/>
                  </a:lnTo>
                  <a:close/>
                  <a:moveTo>
                    <a:pt x="1328" y="1669"/>
                  </a:moveTo>
                  <a:lnTo>
                    <a:pt x="934" y="2061"/>
                  </a:lnTo>
                  <a:lnTo>
                    <a:pt x="967" y="2094"/>
                  </a:lnTo>
                  <a:lnTo>
                    <a:pt x="1361" y="1702"/>
                  </a:lnTo>
                  <a:lnTo>
                    <a:pt x="1328" y="1669"/>
                  </a:lnTo>
                  <a:close/>
                  <a:moveTo>
                    <a:pt x="1418" y="1577"/>
                  </a:moveTo>
                  <a:lnTo>
                    <a:pt x="1345" y="1650"/>
                  </a:lnTo>
                  <a:lnTo>
                    <a:pt x="1378" y="1685"/>
                  </a:lnTo>
                  <a:lnTo>
                    <a:pt x="1451" y="1610"/>
                  </a:lnTo>
                  <a:lnTo>
                    <a:pt x="1418" y="1577"/>
                  </a:lnTo>
                  <a:close/>
                  <a:moveTo>
                    <a:pt x="1527" y="1470"/>
                  </a:moveTo>
                  <a:lnTo>
                    <a:pt x="1451" y="1544"/>
                  </a:lnTo>
                  <a:lnTo>
                    <a:pt x="1487" y="1577"/>
                  </a:lnTo>
                  <a:lnTo>
                    <a:pt x="1560" y="1503"/>
                  </a:lnTo>
                  <a:lnTo>
                    <a:pt x="1527" y="1470"/>
                  </a:lnTo>
                  <a:close/>
                  <a:moveTo>
                    <a:pt x="1938" y="1059"/>
                  </a:moveTo>
                  <a:lnTo>
                    <a:pt x="1543" y="1454"/>
                  </a:lnTo>
                  <a:lnTo>
                    <a:pt x="1576" y="1487"/>
                  </a:lnTo>
                  <a:lnTo>
                    <a:pt x="1971" y="1092"/>
                  </a:lnTo>
                  <a:lnTo>
                    <a:pt x="1938" y="1059"/>
                  </a:lnTo>
                  <a:close/>
                  <a:moveTo>
                    <a:pt x="2028" y="969"/>
                  </a:moveTo>
                  <a:lnTo>
                    <a:pt x="1954" y="1042"/>
                  </a:lnTo>
                  <a:lnTo>
                    <a:pt x="1988" y="1076"/>
                  </a:lnTo>
                  <a:lnTo>
                    <a:pt x="2061" y="1002"/>
                  </a:lnTo>
                  <a:lnTo>
                    <a:pt x="2028" y="969"/>
                  </a:lnTo>
                  <a:close/>
                  <a:moveTo>
                    <a:pt x="2136" y="860"/>
                  </a:moveTo>
                  <a:lnTo>
                    <a:pt x="2061" y="936"/>
                  </a:lnTo>
                  <a:lnTo>
                    <a:pt x="2094" y="969"/>
                  </a:lnTo>
                  <a:lnTo>
                    <a:pt x="2170" y="894"/>
                  </a:lnTo>
                  <a:lnTo>
                    <a:pt x="2136" y="860"/>
                  </a:lnTo>
                  <a:close/>
                  <a:moveTo>
                    <a:pt x="2545" y="452"/>
                  </a:moveTo>
                  <a:lnTo>
                    <a:pt x="2153" y="844"/>
                  </a:lnTo>
                  <a:lnTo>
                    <a:pt x="2186" y="877"/>
                  </a:lnTo>
                  <a:lnTo>
                    <a:pt x="2581" y="485"/>
                  </a:lnTo>
                  <a:lnTo>
                    <a:pt x="2545" y="452"/>
                  </a:lnTo>
                  <a:close/>
                  <a:moveTo>
                    <a:pt x="2637" y="359"/>
                  </a:moveTo>
                  <a:lnTo>
                    <a:pt x="2564" y="433"/>
                  </a:lnTo>
                  <a:lnTo>
                    <a:pt x="2597" y="468"/>
                  </a:lnTo>
                  <a:lnTo>
                    <a:pt x="2671" y="392"/>
                  </a:lnTo>
                  <a:lnTo>
                    <a:pt x="2637" y="359"/>
                  </a:lnTo>
                  <a:close/>
                  <a:moveTo>
                    <a:pt x="2744" y="253"/>
                  </a:moveTo>
                  <a:lnTo>
                    <a:pt x="2671" y="326"/>
                  </a:lnTo>
                  <a:lnTo>
                    <a:pt x="2704" y="359"/>
                  </a:lnTo>
                  <a:lnTo>
                    <a:pt x="2777" y="286"/>
                  </a:lnTo>
                  <a:lnTo>
                    <a:pt x="2744" y="253"/>
                  </a:lnTo>
                  <a:close/>
                  <a:moveTo>
                    <a:pt x="2997" y="0"/>
                  </a:moveTo>
                  <a:lnTo>
                    <a:pt x="2760" y="236"/>
                  </a:lnTo>
                  <a:lnTo>
                    <a:pt x="2796" y="270"/>
                  </a:lnTo>
                  <a:lnTo>
                    <a:pt x="2997" y="69"/>
                  </a:lnTo>
                  <a:lnTo>
                    <a:pt x="2997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 rot="5400000">
              <a:off x="456120" y="2675160"/>
              <a:ext cx="3726000" cy="4639320"/>
            </a:xfrm>
            <a:custGeom>
              <a:avLst/>
              <a:gdLst>
                <a:gd name="textAreaLeft" fmla="*/ 0 w 3726000"/>
                <a:gd name="textAreaRight" fmla="*/ 3726360 w 3726000"/>
                <a:gd name="textAreaTop" fmla="*/ 0 h 4639320"/>
                <a:gd name="textAreaBottom" fmla="*/ 4639680 h 4639320"/>
              </a:gdLst>
              <a:ahLst/>
              <a:rect l="textAreaLeft" t="textAreaTop" r="textAreaRight" b="textAreaBottom"/>
              <a:pathLst>
                <a:path w="2997" h="2995">
                  <a:moveTo>
                    <a:pt x="109" y="2886"/>
                  </a:moveTo>
                  <a:lnTo>
                    <a:pt x="0" y="2995"/>
                  </a:lnTo>
                  <a:lnTo>
                    <a:pt x="66" y="2995"/>
                  </a:lnTo>
                  <a:lnTo>
                    <a:pt x="142" y="2919"/>
                  </a:lnTo>
                  <a:lnTo>
                    <a:pt x="109" y="2886"/>
                  </a:lnTo>
                  <a:moveTo>
                    <a:pt x="201" y="2794"/>
                  </a:moveTo>
                  <a:lnTo>
                    <a:pt x="125" y="2867"/>
                  </a:lnTo>
                  <a:lnTo>
                    <a:pt x="161" y="2903"/>
                  </a:lnTo>
                  <a:lnTo>
                    <a:pt x="234" y="2827"/>
                  </a:lnTo>
                  <a:lnTo>
                    <a:pt x="201" y="2794"/>
                  </a:lnTo>
                  <a:moveTo>
                    <a:pt x="307" y="2687"/>
                  </a:moveTo>
                  <a:lnTo>
                    <a:pt x="234" y="2761"/>
                  </a:lnTo>
                  <a:lnTo>
                    <a:pt x="267" y="2794"/>
                  </a:lnTo>
                  <a:lnTo>
                    <a:pt x="340" y="2721"/>
                  </a:lnTo>
                  <a:lnTo>
                    <a:pt x="307" y="2687"/>
                  </a:lnTo>
                  <a:moveTo>
                    <a:pt x="718" y="2276"/>
                  </a:moveTo>
                  <a:lnTo>
                    <a:pt x="324" y="2671"/>
                  </a:lnTo>
                  <a:lnTo>
                    <a:pt x="357" y="2704"/>
                  </a:lnTo>
                  <a:lnTo>
                    <a:pt x="752" y="2309"/>
                  </a:lnTo>
                  <a:lnTo>
                    <a:pt x="718" y="2276"/>
                  </a:lnTo>
                  <a:moveTo>
                    <a:pt x="808" y="2186"/>
                  </a:moveTo>
                  <a:lnTo>
                    <a:pt x="735" y="2260"/>
                  </a:lnTo>
                  <a:lnTo>
                    <a:pt x="768" y="2293"/>
                  </a:lnTo>
                  <a:lnTo>
                    <a:pt x="844" y="2219"/>
                  </a:lnTo>
                  <a:lnTo>
                    <a:pt x="808" y="2186"/>
                  </a:lnTo>
                  <a:moveTo>
                    <a:pt x="917" y="2078"/>
                  </a:moveTo>
                  <a:lnTo>
                    <a:pt x="844" y="2153"/>
                  </a:lnTo>
                  <a:lnTo>
                    <a:pt x="877" y="2186"/>
                  </a:lnTo>
                  <a:lnTo>
                    <a:pt x="950" y="2111"/>
                  </a:lnTo>
                  <a:lnTo>
                    <a:pt x="917" y="2078"/>
                  </a:lnTo>
                  <a:moveTo>
                    <a:pt x="1328" y="1669"/>
                  </a:moveTo>
                  <a:lnTo>
                    <a:pt x="934" y="2061"/>
                  </a:lnTo>
                  <a:lnTo>
                    <a:pt x="967" y="2094"/>
                  </a:lnTo>
                  <a:lnTo>
                    <a:pt x="1361" y="1702"/>
                  </a:lnTo>
                  <a:lnTo>
                    <a:pt x="1328" y="1669"/>
                  </a:lnTo>
                  <a:moveTo>
                    <a:pt x="1418" y="1577"/>
                  </a:moveTo>
                  <a:lnTo>
                    <a:pt x="1345" y="1650"/>
                  </a:lnTo>
                  <a:lnTo>
                    <a:pt x="1378" y="1685"/>
                  </a:lnTo>
                  <a:lnTo>
                    <a:pt x="1451" y="1610"/>
                  </a:lnTo>
                  <a:lnTo>
                    <a:pt x="1418" y="1577"/>
                  </a:lnTo>
                  <a:moveTo>
                    <a:pt x="1527" y="1470"/>
                  </a:moveTo>
                  <a:lnTo>
                    <a:pt x="1451" y="1544"/>
                  </a:lnTo>
                  <a:lnTo>
                    <a:pt x="1487" y="1577"/>
                  </a:lnTo>
                  <a:lnTo>
                    <a:pt x="1560" y="1503"/>
                  </a:lnTo>
                  <a:lnTo>
                    <a:pt x="1527" y="1470"/>
                  </a:lnTo>
                  <a:moveTo>
                    <a:pt x="1938" y="1059"/>
                  </a:moveTo>
                  <a:lnTo>
                    <a:pt x="1543" y="1454"/>
                  </a:lnTo>
                  <a:lnTo>
                    <a:pt x="1576" y="1487"/>
                  </a:lnTo>
                  <a:lnTo>
                    <a:pt x="1971" y="1092"/>
                  </a:lnTo>
                  <a:lnTo>
                    <a:pt x="1938" y="1059"/>
                  </a:lnTo>
                  <a:moveTo>
                    <a:pt x="2028" y="969"/>
                  </a:moveTo>
                  <a:lnTo>
                    <a:pt x="1954" y="1042"/>
                  </a:lnTo>
                  <a:lnTo>
                    <a:pt x="1988" y="1076"/>
                  </a:lnTo>
                  <a:lnTo>
                    <a:pt x="2061" y="1002"/>
                  </a:lnTo>
                  <a:lnTo>
                    <a:pt x="2028" y="969"/>
                  </a:lnTo>
                  <a:moveTo>
                    <a:pt x="2136" y="860"/>
                  </a:moveTo>
                  <a:lnTo>
                    <a:pt x="2061" y="936"/>
                  </a:lnTo>
                  <a:lnTo>
                    <a:pt x="2094" y="969"/>
                  </a:lnTo>
                  <a:lnTo>
                    <a:pt x="2170" y="894"/>
                  </a:lnTo>
                  <a:lnTo>
                    <a:pt x="2136" y="860"/>
                  </a:lnTo>
                  <a:moveTo>
                    <a:pt x="2545" y="452"/>
                  </a:moveTo>
                  <a:lnTo>
                    <a:pt x="2153" y="844"/>
                  </a:lnTo>
                  <a:lnTo>
                    <a:pt x="2186" y="877"/>
                  </a:lnTo>
                  <a:lnTo>
                    <a:pt x="2581" y="485"/>
                  </a:lnTo>
                  <a:lnTo>
                    <a:pt x="2545" y="452"/>
                  </a:lnTo>
                  <a:moveTo>
                    <a:pt x="2637" y="359"/>
                  </a:moveTo>
                  <a:lnTo>
                    <a:pt x="2564" y="433"/>
                  </a:lnTo>
                  <a:lnTo>
                    <a:pt x="2597" y="468"/>
                  </a:lnTo>
                  <a:lnTo>
                    <a:pt x="2671" y="392"/>
                  </a:lnTo>
                  <a:lnTo>
                    <a:pt x="2637" y="359"/>
                  </a:lnTo>
                  <a:moveTo>
                    <a:pt x="2744" y="253"/>
                  </a:moveTo>
                  <a:lnTo>
                    <a:pt x="2671" y="326"/>
                  </a:lnTo>
                  <a:lnTo>
                    <a:pt x="2704" y="359"/>
                  </a:lnTo>
                  <a:lnTo>
                    <a:pt x="2777" y="286"/>
                  </a:lnTo>
                  <a:lnTo>
                    <a:pt x="2744" y="253"/>
                  </a:lnTo>
                  <a:moveTo>
                    <a:pt x="2997" y="0"/>
                  </a:moveTo>
                  <a:lnTo>
                    <a:pt x="2760" y="236"/>
                  </a:lnTo>
                  <a:lnTo>
                    <a:pt x="2796" y="270"/>
                  </a:lnTo>
                  <a:lnTo>
                    <a:pt x="2997" y="69"/>
                  </a:lnTo>
                  <a:lnTo>
                    <a:pt x="299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 rot="5400000">
              <a:off x="271440" y="4375800"/>
              <a:ext cx="2210400" cy="2754000"/>
            </a:xfrm>
            <a:custGeom>
              <a:avLst/>
              <a:gdLst>
                <a:gd name="textAreaLeft" fmla="*/ 0 w 2210400"/>
                <a:gd name="textAreaRight" fmla="*/ 2210760 w 221040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1778" h="1778">
                  <a:moveTo>
                    <a:pt x="109" y="1669"/>
                  </a:moveTo>
                  <a:lnTo>
                    <a:pt x="0" y="1778"/>
                  </a:lnTo>
                  <a:lnTo>
                    <a:pt x="67" y="1778"/>
                  </a:lnTo>
                  <a:lnTo>
                    <a:pt x="142" y="1702"/>
                  </a:lnTo>
                  <a:lnTo>
                    <a:pt x="109" y="1669"/>
                  </a:lnTo>
                  <a:close/>
                  <a:moveTo>
                    <a:pt x="199" y="1577"/>
                  </a:moveTo>
                  <a:lnTo>
                    <a:pt x="126" y="1652"/>
                  </a:lnTo>
                  <a:lnTo>
                    <a:pt x="159" y="1686"/>
                  </a:lnTo>
                  <a:lnTo>
                    <a:pt x="232" y="1612"/>
                  </a:lnTo>
                  <a:lnTo>
                    <a:pt x="199" y="1577"/>
                  </a:lnTo>
                  <a:close/>
                  <a:moveTo>
                    <a:pt x="305" y="1470"/>
                  </a:moveTo>
                  <a:lnTo>
                    <a:pt x="232" y="1544"/>
                  </a:lnTo>
                  <a:lnTo>
                    <a:pt x="265" y="1577"/>
                  </a:lnTo>
                  <a:lnTo>
                    <a:pt x="341" y="1504"/>
                  </a:lnTo>
                  <a:lnTo>
                    <a:pt x="305" y="1470"/>
                  </a:lnTo>
                  <a:close/>
                  <a:moveTo>
                    <a:pt x="717" y="1059"/>
                  </a:moveTo>
                  <a:lnTo>
                    <a:pt x="324" y="1454"/>
                  </a:lnTo>
                  <a:lnTo>
                    <a:pt x="357" y="1487"/>
                  </a:lnTo>
                  <a:lnTo>
                    <a:pt x="752" y="1092"/>
                  </a:lnTo>
                  <a:lnTo>
                    <a:pt x="717" y="1059"/>
                  </a:lnTo>
                  <a:close/>
                  <a:moveTo>
                    <a:pt x="809" y="969"/>
                  </a:moveTo>
                  <a:lnTo>
                    <a:pt x="733" y="1043"/>
                  </a:lnTo>
                  <a:lnTo>
                    <a:pt x="769" y="1076"/>
                  </a:lnTo>
                  <a:lnTo>
                    <a:pt x="842" y="1002"/>
                  </a:lnTo>
                  <a:lnTo>
                    <a:pt x="809" y="969"/>
                  </a:lnTo>
                  <a:close/>
                  <a:moveTo>
                    <a:pt x="915" y="863"/>
                  </a:moveTo>
                  <a:lnTo>
                    <a:pt x="842" y="936"/>
                  </a:lnTo>
                  <a:lnTo>
                    <a:pt x="875" y="969"/>
                  </a:lnTo>
                  <a:lnTo>
                    <a:pt x="948" y="896"/>
                  </a:lnTo>
                  <a:lnTo>
                    <a:pt x="915" y="863"/>
                  </a:lnTo>
                  <a:close/>
                  <a:moveTo>
                    <a:pt x="1326" y="452"/>
                  </a:moveTo>
                  <a:lnTo>
                    <a:pt x="932" y="846"/>
                  </a:lnTo>
                  <a:lnTo>
                    <a:pt x="965" y="880"/>
                  </a:lnTo>
                  <a:lnTo>
                    <a:pt x="1359" y="485"/>
                  </a:lnTo>
                  <a:lnTo>
                    <a:pt x="1326" y="452"/>
                  </a:lnTo>
                  <a:close/>
                  <a:moveTo>
                    <a:pt x="1418" y="360"/>
                  </a:moveTo>
                  <a:lnTo>
                    <a:pt x="1343" y="435"/>
                  </a:lnTo>
                  <a:lnTo>
                    <a:pt x="1376" y="468"/>
                  </a:lnTo>
                  <a:lnTo>
                    <a:pt x="1452" y="395"/>
                  </a:lnTo>
                  <a:lnTo>
                    <a:pt x="1418" y="360"/>
                  </a:lnTo>
                  <a:close/>
                  <a:moveTo>
                    <a:pt x="1525" y="253"/>
                  </a:moveTo>
                  <a:lnTo>
                    <a:pt x="1452" y="327"/>
                  </a:lnTo>
                  <a:lnTo>
                    <a:pt x="1485" y="362"/>
                  </a:lnTo>
                  <a:lnTo>
                    <a:pt x="1558" y="286"/>
                  </a:lnTo>
                  <a:lnTo>
                    <a:pt x="1525" y="253"/>
                  </a:lnTo>
                  <a:close/>
                  <a:moveTo>
                    <a:pt x="1778" y="0"/>
                  </a:moveTo>
                  <a:lnTo>
                    <a:pt x="1541" y="237"/>
                  </a:lnTo>
                  <a:lnTo>
                    <a:pt x="1574" y="270"/>
                  </a:lnTo>
                  <a:lnTo>
                    <a:pt x="1778" y="69"/>
                  </a:lnTo>
                  <a:lnTo>
                    <a:pt x="1778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 rot="5400000">
              <a:off x="271440" y="4375800"/>
              <a:ext cx="2210400" cy="2754000"/>
            </a:xfrm>
            <a:custGeom>
              <a:avLst/>
              <a:gdLst>
                <a:gd name="textAreaLeft" fmla="*/ 0 w 2210400"/>
                <a:gd name="textAreaRight" fmla="*/ 2210760 w 221040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1778" h="1778">
                  <a:moveTo>
                    <a:pt x="109" y="1669"/>
                  </a:moveTo>
                  <a:lnTo>
                    <a:pt x="0" y="1778"/>
                  </a:lnTo>
                  <a:lnTo>
                    <a:pt x="67" y="1778"/>
                  </a:lnTo>
                  <a:lnTo>
                    <a:pt x="142" y="1702"/>
                  </a:lnTo>
                  <a:lnTo>
                    <a:pt x="109" y="1669"/>
                  </a:lnTo>
                  <a:moveTo>
                    <a:pt x="199" y="1577"/>
                  </a:moveTo>
                  <a:lnTo>
                    <a:pt x="126" y="1652"/>
                  </a:lnTo>
                  <a:lnTo>
                    <a:pt x="159" y="1686"/>
                  </a:lnTo>
                  <a:lnTo>
                    <a:pt x="232" y="1612"/>
                  </a:lnTo>
                  <a:lnTo>
                    <a:pt x="199" y="1577"/>
                  </a:lnTo>
                  <a:moveTo>
                    <a:pt x="305" y="1470"/>
                  </a:moveTo>
                  <a:lnTo>
                    <a:pt x="232" y="1544"/>
                  </a:lnTo>
                  <a:lnTo>
                    <a:pt x="265" y="1577"/>
                  </a:lnTo>
                  <a:lnTo>
                    <a:pt x="341" y="1504"/>
                  </a:lnTo>
                  <a:lnTo>
                    <a:pt x="305" y="1470"/>
                  </a:lnTo>
                  <a:moveTo>
                    <a:pt x="717" y="1059"/>
                  </a:moveTo>
                  <a:lnTo>
                    <a:pt x="324" y="1454"/>
                  </a:lnTo>
                  <a:lnTo>
                    <a:pt x="357" y="1487"/>
                  </a:lnTo>
                  <a:lnTo>
                    <a:pt x="752" y="1092"/>
                  </a:lnTo>
                  <a:lnTo>
                    <a:pt x="717" y="1059"/>
                  </a:lnTo>
                  <a:moveTo>
                    <a:pt x="809" y="969"/>
                  </a:moveTo>
                  <a:lnTo>
                    <a:pt x="733" y="1043"/>
                  </a:lnTo>
                  <a:lnTo>
                    <a:pt x="769" y="1076"/>
                  </a:lnTo>
                  <a:lnTo>
                    <a:pt x="842" y="1002"/>
                  </a:lnTo>
                  <a:lnTo>
                    <a:pt x="809" y="969"/>
                  </a:lnTo>
                  <a:moveTo>
                    <a:pt x="915" y="863"/>
                  </a:moveTo>
                  <a:lnTo>
                    <a:pt x="842" y="936"/>
                  </a:lnTo>
                  <a:lnTo>
                    <a:pt x="875" y="969"/>
                  </a:lnTo>
                  <a:lnTo>
                    <a:pt x="948" y="896"/>
                  </a:lnTo>
                  <a:lnTo>
                    <a:pt x="915" y="863"/>
                  </a:lnTo>
                  <a:moveTo>
                    <a:pt x="1326" y="452"/>
                  </a:moveTo>
                  <a:lnTo>
                    <a:pt x="932" y="846"/>
                  </a:lnTo>
                  <a:lnTo>
                    <a:pt x="965" y="880"/>
                  </a:lnTo>
                  <a:lnTo>
                    <a:pt x="1359" y="485"/>
                  </a:lnTo>
                  <a:lnTo>
                    <a:pt x="1326" y="452"/>
                  </a:lnTo>
                  <a:moveTo>
                    <a:pt x="1418" y="360"/>
                  </a:moveTo>
                  <a:lnTo>
                    <a:pt x="1343" y="435"/>
                  </a:lnTo>
                  <a:lnTo>
                    <a:pt x="1376" y="468"/>
                  </a:lnTo>
                  <a:lnTo>
                    <a:pt x="1452" y="395"/>
                  </a:lnTo>
                  <a:lnTo>
                    <a:pt x="1418" y="360"/>
                  </a:lnTo>
                  <a:moveTo>
                    <a:pt x="1525" y="253"/>
                  </a:moveTo>
                  <a:lnTo>
                    <a:pt x="1452" y="327"/>
                  </a:lnTo>
                  <a:lnTo>
                    <a:pt x="1485" y="362"/>
                  </a:lnTo>
                  <a:lnTo>
                    <a:pt x="1558" y="286"/>
                  </a:lnTo>
                  <a:lnTo>
                    <a:pt x="1525" y="253"/>
                  </a:lnTo>
                  <a:moveTo>
                    <a:pt x="1778" y="0"/>
                  </a:moveTo>
                  <a:lnTo>
                    <a:pt x="1541" y="237"/>
                  </a:lnTo>
                  <a:lnTo>
                    <a:pt x="1574" y="270"/>
                  </a:lnTo>
                  <a:lnTo>
                    <a:pt x="1778" y="69"/>
                  </a:lnTo>
                  <a:lnTo>
                    <a:pt x="17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 rot="5400000">
              <a:off x="84960" y="6076080"/>
              <a:ext cx="696240" cy="86724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560" h="560">
                  <a:moveTo>
                    <a:pt x="108" y="451"/>
                  </a:moveTo>
                  <a:lnTo>
                    <a:pt x="0" y="560"/>
                  </a:lnTo>
                  <a:lnTo>
                    <a:pt x="68" y="560"/>
                  </a:lnTo>
                  <a:lnTo>
                    <a:pt x="141" y="484"/>
                  </a:lnTo>
                  <a:lnTo>
                    <a:pt x="108" y="451"/>
                  </a:lnTo>
                  <a:close/>
                  <a:moveTo>
                    <a:pt x="198" y="361"/>
                  </a:moveTo>
                  <a:lnTo>
                    <a:pt x="125" y="434"/>
                  </a:lnTo>
                  <a:lnTo>
                    <a:pt x="158" y="468"/>
                  </a:lnTo>
                  <a:lnTo>
                    <a:pt x="231" y="394"/>
                  </a:lnTo>
                  <a:lnTo>
                    <a:pt x="198" y="361"/>
                  </a:lnTo>
                  <a:close/>
                  <a:moveTo>
                    <a:pt x="307" y="252"/>
                  </a:moveTo>
                  <a:lnTo>
                    <a:pt x="231" y="328"/>
                  </a:lnTo>
                  <a:lnTo>
                    <a:pt x="267" y="361"/>
                  </a:lnTo>
                  <a:lnTo>
                    <a:pt x="340" y="288"/>
                  </a:lnTo>
                  <a:lnTo>
                    <a:pt x="307" y="252"/>
                  </a:lnTo>
                  <a:close/>
                  <a:moveTo>
                    <a:pt x="560" y="0"/>
                  </a:moveTo>
                  <a:lnTo>
                    <a:pt x="323" y="236"/>
                  </a:lnTo>
                  <a:lnTo>
                    <a:pt x="356" y="269"/>
                  </a:lnTo>
                  <a:lnTo>
                    <a:pt x="560" y="66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 rot="5400000">
              <a:off x="84960" y="6076080"/>
              <a:ext cx="696240" cy="86724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560" h="560">
                  <a:moveTo>
                    <a:pt x="108" y="451"/>
                  </a:moveTo>
                  <a:lnTo>
                    <a:pt x="0" y="560"/>
                  </a:lnTo>
                  <a:lnTo>
                    <a:pt x="68" y="560"/>
                  </a:lnTo>
                  <a:lnTo>
                    <a:pt x="141" y="484"/>
                  </a:lnTo>
                  <a:lnTo>
                    <a:pt x="108" y="451"/>
                  </a:lnTo>
                  <a:moveTo>
                    <a:pt x="198" y="361"/>
                  </a:moveTo>
                  <a:lnTo>
                    <a:pt x="125" y="434"/>
                  </a:lnTo>
                  <a:lnTo>
                    <a:pt x="158" y="468"/>
                  </a:lnTo>
                  <a:lnTo>
                    <a:pt x="231" y="394"/>
                  </a:lnTo>
                  <a:lnTo>
                    <a:pt x="198" y="361"/>
                  </a:lnTo>
                  <a:moveTo>
                    <a:pt x="307" y="252"/>
                  </a:moveTo>
                  <a:lnTo>
                    <a:pt x="231" y="328"/>
                  </a:lnTo>
                  <a:lnTo>
                    <a:pt x="267" y="361"/>
                  </a:lnTo>
                  <a:lnTo>
                    <a:pt x="340" y="288"/>
                  </a:lnTo>
                  <a:lnTo>
                    <a:pt x="307" y="252"/>
                  </a:lnTo>
                  <a:moveTo>
                    <a:pt x="560" y="0"/>
                  </a:moveTo>
                  <a:lnTo>
                    <a:pt x="323" y="236"/>
                  </a:lnTo>
                  <a:lnTo>
                    <a:pt x="356" y="269"/>
                  </a:lnTo>
                  <a:lnTo>
                    <a:pt x="560" y="66"/>
                  </a:lnTo>
                  <a:lnTo>
                    <a:pt x="5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 rot="5400000">
              <a:off x="10939680" y="-135720"/>
              <a:ext cx="1116360" cy="138780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898" h="896">
                  <a:moveTo>
                    <a:pt x="305" y="560"/>
                  </a:moveTo>
                  <a:lnTo>
                    <a:pt x="0" y="863"/>
                  </a:lnTo>
                  <a:lnTo>
                    <a:pt x="0" y="896"/>
                  </a:lnTo>
                  <a:lnTo>
                    <a:pt x="321" y="577"/>
                  </a:lnTo>
                  <a:lnTo>
                    <a:pt x="305" y="560"/>
                  </a:lnTo>
                  <a:close/>
                  <a:moveTo>
                    <a:pt x="394" y="468"/>
                  </a:moveTo>
                  <a:lnTo>
                    <a:pt x="321" y="544"/>
                  </a:lnTo>
                  <a:lnTo>
                    <a:pt x="338" y="560"/>
                  </a:lnTo>
                  <a:lnTo>
                    <a:pt x="411" y="485"/>
                  </a:lnTo>
                  <a:lnTo>
                    <a:pt x="394" y="468"/>
                  </a:lnTo>
                  <a:close/>
                  <a:moveTo>
                    <a:pt x="503" y="362"/>
                  </a:moveTo>
                  <a:lnTo>
                    <a:pt x="427" y="435"/>
                  </a:lnTo>
                  <a:lnTo>
                    <a:pt x="444" y="452"/>
                  </a:lnTo>
                  <a:lnTo>
                    <a:pt x="520" y="378"/>
                  </a:lnTo>
                  <a:lnTo>
                    <a:pt x="503" y="362"/>
                  </a:lnTo>
                  <a:close/>
                  <a:moveTo>
                    <a:pt x="898" y="0"/>
                  </a:moveTo>
                  <a:lnTo>
                    <a:pt x="865" y="0"/>
                  </a:lnTo>
                  <a:lnTo>
                    <a:pt x="520" y="345"/>
                  </a:lnTo>
                  <a:lnTo>
                    <a:pt x="536" y="362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 rot="5400000">
              <a:off x="10939680" y="-135720"/>
              <a:ext cx="1116360" cy="138780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898" h="896">
                  <a:moveTo>
                    <a:pt x="305" y="560"/>
                  </a:moveTo>
                  <a:lnTo>
                    <a:pt x="0" y="863"/>
                  </a:lnTo>
                  <a:lnTo>
                    <a:pt x="0" y="896"/>
                  </a:lnTo>
                  <a:lnTo>
                    <a:pt x="321" y="577"/>
                  </a:lnTo>
                  <a:lnTo>
                    <a:pt x="305" y="560"/>
                  </a:lnTo>
                  <a:moveTo>
                    <a:pt x="394" y="468"/>
                  </a:moveTo>
                  <a:lnTo>
                    <a:pt x="321" y="544"/>
                  </a:lnTo>
                  <a:lnTo>
                    <a:pt x="338" y="560"/>
                  </a:lnTo>
                  <a:lnTo>
                    <a:pt x="411" y="485"/>
                  </a:lnTo>
                  <a:lnTo>
                    <a:pt x="394" y="468"/>
                  </a:lnTo>
                  <a:moveTo>
                    <a:pt x="503" y="362"/>
                  </a:moveTo>
                  <a:lnTo>
                    <a:pt x="427" y="435"/>
                  </a:lnTo>
                  <a:lnTo>
                    <a:pt x="444" y="452"/>
                  </a:lnTo>
                  <a:lnTo>
                    <a:pt x="520" y="378"/>
                  </a:lnTo>
                  <a:lnTo>
                    <a:pt x="503" y="362"/>
                  </a:lnTo>
                  <a:moveTo>
                    <a:pt x="898" y="0"/>
                  </a:moveTo>
                  <a:lnTo>
                    <a:pt x="865" y="0"/>
                  </a:lnTo>
                  <a:lnTo>
                    <a:pt x="520" y="345"/>
                  </a:lnTo>
                  <a:lnTo>
                    <a:pt x="536" y="362"/>
                  </a:lnTo>
                  <a:lnTo>
                    <a:pt x="89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 rot="5400000">
              <a:off x="9239400" y="-320400"/>
              <a:ext cx="2631960" cy="3272760"/>
            </a:xfrm>
            <a:custGeom>
              <a:avLst/>
              <a:gdLst>
                <a:gd name="textAreaLeft" fmla="*/ 0 w 2631960"/>
                <a:gd name="textAreaRight" fmla="*/ 2632320 w 2631960"/>
                <a:gd name="textAreaTop" fmla="*/ 0 h 3272760"/>
                <a:gd name="textAreaBottom" fmla="*/ 3273120 h 3272760"/>
              </a:gdLst>
              <a:ahLst/>
              <a:rect l="textAreaLeft" t="textAreaTop" r="textAreaRight" b="textAreaBottom"/>
              <a:pathLst>
                <a:path w="2117" h="2113">
                  <a:moveTo>
                    <a:pt x="302" y="1778"/>
                  </a:moveTo>
                  <a:lnTo>
                    <a:pt x="0" y="2080"/>
                  </a:lnTo>
                  <a:lnTo>
                    <a:pt x="0" y="2113"/>
                  </a:lnTo>
                  <a:lnTo>
                    <a:pt x="321" y="1794"/>
                  </a:lnTo>
                  <a:lnTo>
                    <a:pt x="302" y="1778"/>
                  </a:lnTo>
                  <a:close/>
                  <a:moveTo>
                    <a:pt x="394" y="1688"/>
                  </a:moveTo>
                  <a:lnTo>
                    <a:pt x="321" y="1761"/>
                  </a:lnTo>
                  <a:lnTo>
                    <a:pt x="338" y="1778"/>
                  </a:lnTo>
                  <a:lnTo>
                    <a:pt x="411" y="1704"/>
                  </a:lnTo>
                  <a:lnTo>
                    <a:pt x="394" y="1688"/>
                  </a:lnTo>
                  <a:close/>
                  <a:moveTo>
                    <a:pt x="501" y="1579"/>
                  </a:moveTo>
                  <a:lnTo>
                    <a:pt x="427" y="1655"/>
                  </a:lnTo>
                  <a:lnTo>
                    <a:pt x="444" y="1671"/>
                  </a:lnTo>
                  <a:lnTo>
                    <a:pt x="517" y="1596"/>
                  </a:lnTo>
                  <a:lnTo>
                    <a:pt x="501" y="1579"/>
                  </a:lnTo>
                  <a:close/>
                  <a:moveTo>
                    <a:pt x="912" y="1168"/>
                  </a:moveTo>
                  <a:lnTo>
                    <a:pt x="517" y="1562"/>
                  </a:lnTo>
                  <a:lnTo>
                    <a:pt x="534" y="1579"/>
                  </a:lnTo>
                  <a:lnTo>
                    <a:pt x="928" y="1187"/>
                  </a:lnTo>
                  <a:lnTo>
                    <a:pt x="912" y="1168"/>
                  </a:lnTo>
                  <a:close/>
                  <a:moveTo>
                    <a:pt x="1004" y="1078"/>
                  </a:moveTo>
                  <a:lnTo>
                    <a:pt x="928" y="1151"/>
                  </a:lnTo>
                  <a:lnTo>
                    <a:pt x="945" y="1168"/>
                  </a:lnTo>
                  <a:lnTo>
                    <a:pt x="1021" y="1094"/>
                  </a:lnTo>
                  <a:lnTo>
                    <a:pt x="1004" y="1078"/>
                  </a:lnTo>
                  <a:close/>
                  <a:moveTo>
                    <a:pt x="1110" y="972"/>
                  </a:moveTo>
                  <a:lnTo>
                    <a:pt x="1037" y="1045"/>
                  </a:lnTo>
                  <a:lnTo>
                    <a:pt x="1054" y="1061"/>
                  </a:lnTo>
                  <a:lnTo>
                    <a:pt x="1127" y="988"/>
                  </a:lnTo>
                  <a:lnTo>
                    <a:pt x="1110" y="972"/>
                  </a:lnTo>
                  <a:close/>
                  <a:moveTo>
                    <a:pt x="1522" y="560"/>
                  </a:moveTo>
                  <a:lnTo>
                    <a:pt x="1127" y="955"/>
                  </a:lnTo>
                  <a:lnTo>
                    <a:pt x="1144" y="972"/>
                  </a:lnTo>
                  <a:lnTo>
                    <a:pt x="1538" y="577"/>
                  </a:lnTo>
                  <a:lnTo>
                    <a:pt x="1522" y="560"/>
                  </a:lnTo>
                  <a:close/>
                  <a:moveTo>
                    <a:pt x="1611" y="471"/>
                  </a:moveTo>
                  <a:lnTo>
                    <a:pt x="1538" y="544"/>
                  </a:lnTo>
                  <a:lnTo>
                    <a:pt x="1555" y="560"/>
                  </a:lnTo>
                  <a:lnTo>
                    <a:pt x="1628" y="487"/>
                  </a:lnTo>
                  <a:lnTo>
                    <a:pt x="1611" y="471"/>
                  </a:lnTo>
                  <a:close/>
                  <a:moveTo>
                    <a:pt x="1720" y="362"/>
                  </a:moveTo>
                  <a:lnTo>
                    <a:pt x="1647" y="437"/>
                  </a:lnTo>
                  <a:lnTo>
                    <a:pt x="1663" y="454"/>
                  </a:lnTo>
                  <a:lnTo>
                    <a:pt x="1737" y="378"/>
                  </a:lnTo>
                  <a:lnTo>
                    <a:pt x="1720" y="362"/>
                  </a:lnTo>
                  <a:close/>
                  <a:moveTo>
                    <a:pt x="2117" y="0"/>
                  </a:moveTo>
                  <a:lnTo>
                    <a:pt x="2082" y="0"/>
                  </a:lnTo>
                  <a:lnTo>
                    <a:pt x="1737" y="345"/>
                  </a:lnTo>
                  <a:lnTo>
                    <a:pt x="1753" y="362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 rot="5400000">
              <a:off x="9239400" y="-320400"/>
              <a:ext cx="2631960" cy="3272760"/>
            </a:xfrm>
            <a:custGeom>
              <a:avLst/>
              <a:gdLst>
                <a:gd name="textAreaLeft" fmla="*/ 0 w 2631960"/>
                <a:gd name="textAreaRight" fmla="*/ 2632320 w 2631960"/>
                <a:gd name="textAreaTop" fmla="*/ 0 h 3272760"/>
                <a:gd name="textAreaBottom" fmla="*/ 3273120 h 3272760"/>
              </a:gdLst>
              <a:ahLst/>
              <a:rect l="textAreaLeft" t="textAreaTop" r="textAreaRight" b="textAreaBottom"/>
              <a:pathLst>
                <a:path w="2117" h="2113">
                  <a:moveTo>
                    <a:pt x="302" y="1778"/>
                  </a:moveTo>
                  <a:lnTo>
                    <a:pt x="0" y="2080"/>
                  </a:lnTo>
                  <a:lnTo>
                    <a:pt x="0" y="2113"/>
                  </a:lnTo>
                  <a:lnTo>
                    <a:pt x="321" y="1794"/>
                  </a:lnTo>
                  <a:lnTo>
                    <a:pt x="302" y="1778"/>
                  </a:lnTo>
                  <a:moveTo>
                    <a:pt x="394" y="1688"/>
                  </a:moveTo>
                  <a:lnTo>
                    <a:pt x="321" y="1761"/>
                  </a:lnTo>
                  <a:lnTo>
                    <a:pt x="338" y="1778"/>
                  </a:lnTo>
                  <a:lnTo>
                    <a:pt x="411" y="1704"/>
                  </a:lnTo>
                  <a:lnTo>
                    <a:pt x="394" y="1688"/>
                  </a:lnTo>
                  <a:moveTo>
                    <a:pt x="501" y="1579"/>
                  </a:moveTo>
                  <a:lnTo>
                    <a:pt x="427" y="1655"/>
                  </a:lnTo>
                  <a:lnTo>
                    <a:pt x="444" y="1671"/>
                  </a:lnTo>
                  <a:lnTo>
                    <a:pt x="517" y="1596"/>
                  </a:lnTo>
                  <a:lnTo>
                    <a:pt x="501" y="1579"/>
                  </a:lnTo>
                  <a:moveTo>
                    <a:pt x="912" y="1168"/>
                  </a:moveTo>
                  <a:lnTo>
                    <a:pt x="517" y="1562"/>
                  </a:lnTo>
                  <a:lnTo>
                    <a:pt x="534" y="1579"/>
                  </a:lnTo>
                  <a:lnTo>
                    <a:pt x="928" y="1187"/>
                  </a:lnTo>
                  <a:lnTo>
                    <a:pt x="912" y="1168"/>
                  </a:lnTo>
                  <a:moveTo>
                    <a:pt x="1004" y="1078"/>
                  </a:moveTo>
                  <a:lnTo>
                    <a:pt x="928" y="1151"/>
                  </a:lnTo>
                  <a:lnTo>
                    <a:pt x="945" y="1168"/>
                  </a:lnTo>
                  <a:lnTo>
                    <a:pt x="1021" y="1094"/>
                  </a:lnTo>
                  <a:lnTo>
                    <a:pt x="1004" y="1078"/>
                  </a:lnTo>
                  <a:moveTo>
                    <a:pt x="1110" y="972"/>
                  </a:moveTo>
                  <a:lnTo>
                    <a:pt x="1037" y="1045"/>
                  </a:lnTo>
                  <a:lnTo>
                    <a:pt x="1054" y="1061"/>
                  </a:lnTo>
                  <a:lnTo>
                    <a:pt x="1127" y="988"/>
                  </a:lnTo>
                  <a:lnTo>
                    <a:pt x="1110" y="972"/>
                  </a:lnTo>
                  <a:moveTo>
                    <a:pt x="1522" y="560"/>
                  </a:moveTo>
                  <a:lnTo>
                    <a:pt x="1127" y="955"/>
                  </a:lnTo>
                  <a:lnTo>
                    <a:pt x="1144" y="972"/>
                  </a:lnTo>
                  <a:lnTo>
                    <a:pt x="1538" y="577"/>
                  </a:lnTo>
                  <a:lnTo>
                    <a:pt x="1522" y="560"/>
                  </a:lnTo>
                  <a:moveTo>
                    <a:pt x="1611" y="471"/>
                  </a:moveTo>
                  <a:lnTo>
                    <a:pt x="1538" y="544"/>
                  </a:lnTo>
                  <a:lnTo>
                    <a:pt x="1555" y="560"/>
                  </a:lnTo>
                  <a:lnTo>
                    <a:pt x="1628" y="487"/>
                  </a:lnTo>
                  <a:lnTo>
                    <a:pt x="1611" y="471"/>
                  </a:lnTo>
                  <a:moveTo>
                    <a:pt x="1720" y="362"/>
                  </a:moveTo>
                  <a:lnTo>
                    <a:pt x="1647" y="437"/>
                  </a:lnTo>
                  <a:lnTo>
                    <a:pt x="1663" y="454"/>
                  </a:lnTo>
                  <a:lnTo>
                    <a:pt x="1737" y="378"/>
                  </a:lnTo>
                  <a:lnTo>
                    <a:pt x="1720" y="362"/>
                  </a:lnTo>
                  <a:moveTo>
                    <a:pt x="2117" y="0"/>
                  </a:moveTo>
                  <a:lnTo>
                    <a:pt x="2082" y="0"/>
                  </a:lnTo>
                  <a:lnTo>
                    <a:pt x="1737" y="345"/>
                  </a:lnTo>
                  <a:lnTo>
                    <a:pt x="1753" y="362"/>
                  </a:lnTo>
                  <a:lnTo>
                    <a:pt x="21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 rot="5400000">
              <a:off x="7540200" y="-506520"/>
              <a:ext cx="4145040" cy="5158080"/>
            </a:xfrm>
            <a:custGeom>
              <a:avLst/>
              <a:gdLst>
                <a:gd name="textAreaLeft" fmla="*/ 0 w 4145040"/>
                <a:gd name="textAreaRight" fmla="*/ 4145400 w 41450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3334" h="3330">
                  <a:moveTo>
                    <a:pt x="302" y="2995"/>
                  </a:moveTo>
                  <a:lnTo>
                    <a:pt x="0" y="3297"/>
                  </a:lnTo>
                  <a:lnTo>
                    <a:pt x="0" y="3330"/>
                  </a:lnTo>
                  <a:lnTo>
                    <a:pt x="319" y="3011"/>
                  </a:lnTo>
                  <a:lnTo>
                    <a:pt x="302" y="2995"/>
                  </a:lnTo>
                  <a:close/>
                  <a:moveTo>
                    <a:pt x="394" y="2905"/>
                  </a:moveTo>
                  <a:lnTo>
                    <a:pt x="319" y="2978"/>
                  </a:lnTo>
                  <a:lnTo>
                    <a:pt x="335" y="2995"/>
                  </a:lnTo>
                  <a:lnTo>
                    <a:pt x="411" y="2921"/>
                  </a:lnTo>
                  <a:lnTo>
                    <a:pt x="394" y="2905"/>
                  </a:lnTo>
                  <a:close/>
                  <a:moveTo>
                    <a:pt x="501" y="2799"/>
                  </a:moveTo>
                  <a:lnTo>
                    <a:pt x="427" y="2872"/>
                  </a:lnTo>
                  <a:lnTo>
                    <a:pt x="444" y="2888"/>
                  </a:lnTo>
                  <a:lnTo>
                    <a:pt x="517" y="2815"/>
                  </a:lnTo>
                  <a:lnTo>
                    <a:pt x="501" y="2799"/>
                  </a:lnTo>
                  <a:close/>
                  <a:moveTo>
                    <a:pt x="912" y="2387"/>
                  </a:moveTo>
                  <a:lnTo>
                    <a:pt x="517" y="2780"/>
                  </a:lnTo>
                  <a:lnTo>
                    <a:pt x="534" y="2799"/>
                  </a:lnTo>
                  <a:lnTo>
                    <a:pt x="928" y="2404"/>
                  </a:lnTo>
                  <a:lnTo>
                    <a:pt x="912" y="2387"/>
                  </a:lnTo>
                  <a:close/>
                  <a:moveTo>
                    <a:pt x="1002" y="2295"/>
                  </a:moveTo>
                  <a:lnTo>
                    <a:pt x="928" y="2371"/>
                  </a:lnTo>
                  <a:lnTo>
                    <a:pt x="945" y="2387"/>
                  </a:lnTo>
                  <a:lnTo>
                    <a:pt x="1018" y="2312"/>
                  </a:lnTo>
                  <a:lnTo>
                    <a:pt x="1002" y="2295"/>
                  </a:lnTo>
                  <a:close/>
                  <a:moveTo>
                    <a:pt x="1110" y="2189"/>
                  </a:moveTo>
                  <a:lnTo>
                    <a:pt x="1035" y="2262"/>
                  </a:lnTo>
                  <a:lnTo>
                    <a:pt x="1054" y="2279"/>
                  </a:lnTo>
                  <a:lnTo>
                    <a:pt x="1127" y="2205"/>
                  </a:lnTo>
                  <a:lnTo>
                    <a:pt x="1110" y="2189"/>
                  </a:lnTo>
                  <a:close/>
                  <a:moveTo>
                    <a:pt x="1522" y="1778"/>
                  </a:moveTo>
                  <a:lnTo>
                    <a:pt x="1127" y="2172"/>
                  </a:lnTo>
                  <a:lnTo>
                    <a:pt x="1144" y="2189"/>
                  </a:lnTo>
                  <a:lnTo>
                    <a:pt x="1538" y="1794"/>
                  </a:lnTo>
                  <a:lnTo>
                    <a:pt x="1522" y="1778"/>
                  </a:lnTo>
                  <a:close/>
                  <a:moveTo>
                    <a:pt x="1611" y="1688"/>
                  </a:moveTo>
                  <a:lnTo>
                    <a:pt x="1538" y="1761"/>
                  </a:lnTo>
                  <a:lnTo>
                    <a:pt x="1555" y="1778"/>
                  </a:lnTo>
                  <a:lnTo>
                    <a:pt x="1628" y="1704"/>
                  </a:lnTo>
                  <a:lnTo>
                    <a:pt x="1611" y="1688"/>
                  </a:lnTo>
                  <a:close/>
                  <a:moveTo>
                    <a:pt x="1720" y="1581"/>
                  </a:moveTo>
                  <a:lnTo>
                    <a:pt x="1645" y="1655"/>
                  </a:lnTo>
                  <a:lnTo>
                    <a:pt x="1661" y="1671"/>
                  </a:lnTo>
                  <a:lnTo>
                    <a:pt x="1737" y="1598"/>
                  </a:lnTo>
                  <a:lnTo>
                    <a:pt x="1720" y="1581"/>
                  </a:lnTo>
                  <a:close/>
                  <a:moveTo>
                    <a:pt x="2131" y="1170"/>
                  </a:moveTo>
                  <a:lnTo>
                    <a:pt x="1737" y="1562"/>
                  </a:lnTo>
                  <a:lnTo>
                    <a:pt x="1753" y="1581"/>
                  </a:lnTo>
                  <a:lnTo>
                    <a:pt x="2148" y="1187"/>
                  </a:lnTo>
                  <a:lnTo>
                    <a:pt x="2131" y="1170"/>
                  </a:lnTo>
                  <a:close/>
                  <a:moveTo>
                    <a:pt x="2221" y="1078"/>
                  </a:moveTo>
                  <a:lnTo>
                    <a:pt x="2148" y="1154"/>
                  </a:lnTo>
                  <a:lnTo>
                    <a:pt x="2164" y="1170"/>
                  </a:lnTo>
                  <a:lnTo>
                    <a:pt x="2238" y="1097"/>
                  </a:lnTo>
                  <a:lnTo>
                    <a:pt x="2221" y="1078"/>
                  </a:lnTo>
                  <a:close/>
                  <a:moveTo>
                    <a:pt x="2328" y="972"/>
                  </a:moveTo>
                  <a:lnTo>
                    <a:pt x="2254" y="1045"/>
                  </a:lnTo>
                  <a:lnTo>
                    <a:pt x="2271" y="1061"/>
                  </a:lnTo>
                  <a:lnTo>
                    <a:pt x="2344" y="988"/>
                  </a:lnTo>
                  <a:lnTo>
                    <a:pt x="2328" y="972"/>
                  </a:lnTo>
                  <a:close/>
                  <a:moveTo>
                    <a:pt x="2739" y="560"/>
                  </a:moveTo>
                  <a:lnTo>
                    <a:pt x="2344" y="955"/>
                  </a:lnTo>
                  <a:lnTo>
                    <a:pt x="2363" y="972"/>
                  </a:lnTo>
                  <a:lnTo>
                    <a:pt x="2755" y="577"/>
                  </a:lnTo>
                  <a:lnTo>
                    <a:pt x="2739" y="560"/>
                  </a:lnTo>
                  <a:close/>
                  <a:moveTo>
                    <a:pt x="2831" y="471"/>
                  </a:moveTo>
                  <a:lnTo>
                    <a:pt x="2755" y="544"/>
                  </a:lnTo>
                  <a:lnTo>
                    <a:pt x="2772" y="560"/>
                  </a:lnTo>
                  <a:lnTo>
                    <a:pt x="2847" y="487"/>
                  </a:lnTo>
                  <a:lnTo>
                    <a:pt x="2831" y="471"/>
                  </a:lnTo>
                  <a:close/>
                  <a:moveTo>
                    <a:pt x="2937" y="364"/>
                  </a:moveTo>
                  <a:lnTo>
                    <a:pt x="2864" y="437"/>
                  </a:lnTo>
                  <a:lnTo>
                    <a:pt x="2881" y="454"/>
                  </a:lnTo>
                  <a:lnTo>
                    <a:pt x="2954" y="381"/>
                  </a:lnTo>
                  <a:lnTo>
                    <a:pt x="2937" y="364"/>
                  </a:lnTo>
                  <a:close/>
                  <a:moveTo>
                    <a:pt x="3334" y="0"/>
                  </a:moveTo>
                  <a:lnTo>
                    <a:pt x="3301" y="0"/>
                  </a:lnTo>
                  <a:lnTo>
                    <a:pt x="2954" y="345"/>
                  </a:lnTo>
                  <a:lnTo>
                    <a:pt x="2970" y="364"/>
                  </a:lnTo>
                  <a:lnTo>
                    <a:pt x="3334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 rot="5400000">
              <a:off x="7540200" y="-506520"/>
              <a:ext cx="4145040" cy="5158080"/>
            </a:xfrm>
            <a:custGeom>
              <a:avLst/>
              <a:gdLst>
                <a:gd name="textAreaLeft" fmla="*/ 0 w 4145040"/>
                <a:gd name="textAreaRight" fmla="*/ 4145400 w 41450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3334" h="3330">
                  <a:moveTo>
                    <a:pt x="302" y="2995"/>
                  </a:moveTo>
                  <a:lnTo>
                    <a:pt x="0" y="3297"/>
                  </a:lnTo>
                  <a:lnTo>
                    <a:pt x="0" y="3330"/>
                  </a:lnTo>
                  <a:lnTo>
                    <a:pt x="319" y="3011"/>
                  </a:lnTo>
                  <a:lnTo>
                    <a:pt x="302" y="2995"/>
                  </a:lnTo>
                  <a:moveTo>
                    <a:pt x="394" y="2905"/>
                  </a:moveTo>
                  <a:lnTo>
                    <a:pt x="319" y="2978"/>
                  </a:lnTo>
                  <a:lnTo>
                    <a:pt x="335" y="2995"/>
                  </a:lnTo>
                  <a:lnTo>
                    <a:pt x="411" y="2921"/>
                  </a:lnTo>
                  <a:lnTo>
                    <a:pt x="394" y="2905"/>
                  </a:lnTo>
                  <a:moveTo>
                    <a:pt x="501" y="2799"/>
                  </a:moveTo>
                  <a:lnTo>
                    <a:pt x="427" y="2872"/>
                  </a:lnTo>
                  <a:lnTo>
                    <a:pt x="444" y="2888"/>
                  </a:lnTo>
                  <a:lnTo>
                    <a:pt x="517" y="2815"/>
                  </a:lnTo>
                  <a:lnTo>
                    <a:pt x="501" y="2799"/>
                  </a:lnTo>
                  <a:moveTo>
                    <a:pt x="912" y="2387"/>
                  </a:moveTo>
                  <a:lnTo>
                    <a:pt x="517" y="2780"/>
                  </a:lnTo>
                  <a:lnTo>
                    <a:pt x="534" y="2799"/>
                  </a:lnTo>
                  <a:lnTo>
                    <a:pt x="928" y="2404"/>
                  </a:lnTo>
                  <a:lnTo>
                    <a:pt x="912" y="2387"/>
                  </a:lnTo>
                  <a:moveTo>
                    <a:pt x="1002" y="2295"/>
                  </a:moveTo>
                  <a:lnTo>
                    <a:pt x="928" y="2371"/>
                  </a:lnTo>
                  <a:lnTo>
                    <a:pt x="945" y="2387"/>
                  </a:lnTo>
                  <a:lnTo>
                    <a:pt x="1018" y="2312"/>
                  </a:lnTo>
                  <a:lnTo>
                    <a:pt x="1002" y="2295"/>
                  </a:lnTo>
                  <a:moveTo>
                    <a:pt x="1110" y="2189"/>
                  </a:moveTo>
                  <a:lnTo>
                    <a:pt x="1035" y="2262"/>
                  </a:lnTo>
                  <a:lnTo>
                    <a:pt x="1054" y="2279"/>
                  </a:lnTo>
                  <a:lnTo>
                    <a:pt x="1127" y="2205"/>
                  </a:lnTo>
                  <a:lnTo>
                    <a:pt x="1110" y="2189"/>
                  </a:lnTo>
                  <a:moveTo>
                    <a:pt x="1522" y="1778"/>
                  </a:moveTo>
                  <a:lnTo>
                    <a:pt x="1127" y="2172"/>
                  </a:lnTo>
                  <a:lnTo>
                    <a:pt x="1144" y="2189"/>
                  </a:lnTo>
                  <a:lnTo>
                    <a:pt x="1538" y="1794"/>
                  </a:lnTo>
                  <a:lnTo>
                    <a:pt x="1522" y="1778"/>
                  </a:lnTo>
                  <a:moveTo>
                    <a:pt x="1611" y="1688"/>
                  </a:moveTo>
                  <a:lnTo>
                    <a:pt x="1538" y="1761"/>
                  </a:lnTo>
                  <a:lnTo>
                    <a:pt x="1555" y="1778"/>
                  </a:lnTo>
                  <a:lnTo>
                    <a:pt x="1628" y="1704"/>
                  </a:lnTo>
                  <a:lnTo>
                    <a:pt x="1611" y="1688"/>
                  </a:lnTo>
                  <a:moveTo>
                    <a:pt x="1720" y="1581"/>
                  </a:moveTo>
                  <a:lnTo>
                    <a:pt x="1645" y="1655"/>
                  </a:lnTo>
                  <a:lnTo>
                    <a:pt x="1661" y="1671"/>
                  </a:lnTo>
                  <a:lnTo>
                    <a:pt x="1737" y="1598"/>
                  </a:lnTo>
                  <a:lnTo>
                    <a:pt x="1720" y="1581"/>
                  </a:lnTo>
                  <a:moveTo>
                    <a:pt x="2131" y="1170"/>
                  </a:moveTo>
                  <a:lnTo>
                    <a:pt x="1737" y="1562"/>
                  </a:lnTo>
                  <a:lnTo>
                    <a:pt x="1753" y="1581"/>
                  </a:lnTo>
                  <a:lnTo>
                    <a:pt x="2148" y="1187"/>
                  </a:lnTo>
                  <a:lnTo>
                    <a:pt x="2131" y="1170"/>
                  </a:lnTo>
                  <a:moveTo>
                    <a:pt x="2221" y="1078"/>
                  </a:moveTo>
                  <a:lnTo>
                    <a:pt x="2148" y="1154"/>
                  </a:lnTo>
                  <a:lnTo>
                    <a:pt x="2164" y="1170"/>
                  </a:lnTo>
                  <a:lnTo>
                    <a:pt x="2238" y="1097"/>
                  </a:lnTo>
                  <a:lnTo>
                    <a:pt x="2221" y="1078"/>
                  </a:lnTo>
                  <a:moveTo>
                    <a:pt x="2328" y="972"/>
                  </a:moveTo>
                  <a:lnTo>
                    <a:pt x="2254" y="1045"/>
                  </a:lnTo>
                  <a:lnTo>
                    <a:pt x="2271" y="1061"/>
                  </a:lnTo>
                  <a:lnTo>
                    <a:pt x="2344" y="988"/>
                  </a:lnTo>
                  <a:lnTo>
                    <a:pt x="2328" y="972"/>
                  </a:lnTo>
                  <a:moveTo>
                    <a:pt x="2739" y="560"/>
                  </a:moveTo>
                  <a:lnTo>
                    <a:pt x="2344" y="955"/>
                  </a:lnTo>
                  <a:lnTo>
                    <a:pt x="2363" y="972"/>
                  </a:lnTo>
                  <a:lnTo>
                    <a:pt x="2755" y="577"/>
                  </a:lnTo>
                  <a:lnTo>
                    <a:pt x="2739" y="560"/>
                  </a:lnTo>
                  <a:moveTo>
                    <a:pt x="2831" y="471"/>
                  </a:moveTo>
                  <a:lnTo>
                    <a:pt x="2755" y="544"/>
                  </a:lnTo>
                  <a:lnTo>
                    <a:pt x="2772" y="560"/>
                  </a:lnTo>
                  <a:lnTo>
                    <a:pt x="2847" y="487"/>
                  </a:lnTo>
                  <a:lnTo>
                    <a:pt x="2831" y="471"/>
                  </a:lnTo>
                  <a:moveTo>
                    <a:pt x="2937" y="364"/>
                  </a:moveTo>
                  <a:lnTo>
                    <a:pt x="2864" y="437"/>
                  </a:lnTo>
                  <a:lnTo>
                    <a:pt x="2881" y="454"/>
                  </a:lnTo>
                  <a:lnTo>
                    <a:pt x="2954" y="381"/>
                  </a:lnTo>
                  <a:lnTo>
                    <a:pt x="2937" y="364"/>
                  </a:lnTo>
                  <a:moveTo>
                    <a:pt x="3334" y="0"/>
                  </a:moveTo>
                  <a:lnTo>
                    <a:pt x="3301" y="0"/>
                  </a:lnTo>
                  <a:lnTo>
                    <a:pt x="2954" y="345"/>
                  </a:lnTo>
                  <a:lnTo>
                    <a:pt x="2970" y="364"/>
                  </a:lnTo>
                  <a:lnTo>
                    <a:pt x="33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 rot="5400000">
              <a:off x="5838120" y="-691200"/>
              <a:ext cx="5662080" cy="7044840"/>
            </a:xfrm>
            <a:custGeom>
              <a:avLst/>
              <a:gdLst>
                <a:gd name="textAreaLeft" fmla="*/ 0 w 5662080"/>
                <a:gd name="textAreaRight" fmla="*/ 5662440 w 5662080"/>
                <a:gd name="textAreaTop" fmla="*/ 0 h 7044840"/>
                <a:gd name="textAreaBottom" fmla="*/ 7045200 h 7044840"/>
              </a:gdLst>
              <a:ahLst/>
              <a:rect l="textAreaLeft" t="textAreaTop" r="textAreaRight" b="textAreaBottom"/>
              <a:pathLst>
                <a:path w="4554" h="4548">
                  <a:moveTo>
                    <a:pt x="302" y="4212"/>
                  </a:moveTo>
                  <a:lnTo>
                    <a:pt x="0" y="4515"/>
                  </a:lnTo>
                  <a:lnTo>
                    <a:pt x="0" y="4548"/>
                  </a:lnTo>
                  <a:lnTo>
                    <a:pt x="319" y="4231"/>
                  </a:lnTo>
                  <a:lnTo>
                    <a:pt x="302" y="4212"/>
                  </a:lnTo>
                  <a:close/>
                  <a:moveTo>
                    <a:pt x="392" y="4122"/>
                  </a:moveTo>
                  <a:lnTo>
                    <a:pt x="319" y="4195"/>
                  </a:lnTo>
                  <a:lnTo>
                    <a:pt x="335" y="4214"/>
                  </a:lnTo>
                  <a:lnTo>
                    <a:pt x="409" y="4139"/>
                  </a:lnTo>
                  <a:lnTo>
                    <a:pt x="392" y="4122"/>
                  </a:lnTo>
                  <a:close/>
                  <a:moveTo>
                    <a:pt x="501" y="4016"/>
                  </a:moveTo>
                  <a:lnTo>
                    <a:pt x="425" y="4089"/>
                  </a:lnTo>
                  <a:lnTo>
                    <a:pt x="442" y="4106"/>
                  </a:lnTo>
                  <a:lnTo>
                    <a:pt x="517" y="4032"/>
                  </a:lnTo>
                  <a:lnTo>
                    <a:pt x="501" y="4016"/>
                  </a:lnTo>
                  <a:close/>
                  <a:moveTo>
                    <a:pt x="912" y="3605"/>
                  </a:moveTo>
                  <a:lnTo>
                    <a:pt x="517" y="3999"/>
                  </a:lnTo>
                  <a:lnTo>
                    <a:pt x="534" y="4016"/>
                  </a:lnTo>
                  <a:lnTo>
                    <a:pt x="928" y="3621"/>
                  </a:lnTo>
                  <a:lnTo>
                    <a:pt x="912" y="3605"/>
                  </a:lnTo>
                  <a:close/>
                  <a:moveTo>
                    <a:pt x="1002" y="3515"/>
                  </a:moveTo>
                  <a:lnTo>
                    <a:pt x="928" y="3588"/>
                  </a:lnTo>
                  <a:lnTo>
                    <a:pt x="945" y="3605"/>
                  </a:lnTo>
                  <a:lnTo>
                    <a:pt x="1018" y="3531"/>
                  </a:lnTo>
                  <a:lnTo>
                    <a:pt x="1002" y="3515"/>
                  </a:lnTo>
                  <a:close/>
                  <a:moveTo>
                    <a:pt x="1108" y="3406"/>
                  </a:moveTo>
                  <a:lnTo>
                    <a:pt x="1035" y="3482"/>
                  </a:lnTo>
                  <a:lnTo>
                    <a:pt x="1051" y="3498"/>
                  </a:lnTo>
                  <a:lnTo>
                    <a:pt x="1127" y="3423"/>
                  </a:lnTo>
                  <a:lnTo>
                    <a:pt x="1108" y="3406"/>
                  </a:lnTo>
                  <a:close/>
                  <a:moveTo>
                    <a:pt x="1519" y="2997"/>
                  </a:moveTo>
                  <a:lnTo>
                    <a:pt x="1127" y="3389"/>
                  </a:lnTo>
                  <a:lnTo>
                    <a:pt x="1144" y="3406"/>
                  </a:lnTo>
                  <a:lnTo>
                    <a:pt x="1538" y="3014"/>
                  </a:lnTo>
                  <a:lnTo>
                    <a:pt x="1519" y="2997"/>
                  </a:lnTo>
                  <a:close/>
                  <a:moveTo>
                    <a:pt x="1611" y="2905"/>
                  </a:moveTo>
                  <a:lnTo>
                    <a:pt x="1538" y="2978"/>
                  </a:lnTo>
                  <a:lnTo>
                    <a:pt x="1555" y="2997"/>
                  </a:lnTo>
                  <a:lnTo>
                    <a:pt x="1628" y="2921"/>
                  </a:lnTo>
                  <a:lnTo>
                    <a:pt x="1611" y="2905"/>
                  </a:lnTo>
                  <a:close/>
                  <a:moveTo>
                    <a:pt x="1718" y="2799"/>
                  </a:moveTo>
                  <a:lnTo>
                    <a:pt x="1645" y="2872"/>
                  </a:lnTo>
                  <a:lnTo>
                    <a:pt x="1661" y="2888"/>
                  </a:lnTo>
                  <a:lnTo>
                    <a:pt x="1734" y="2815"/>
                  </a:lnTo>
                  <a:lnTo>
                    <a:pt x="1718" y="2799"/>
                  </a:lnTo>
                  <a:close/>
                  <a:moveTo>
                    <a:pt x="2129" y="2387"/>
                  </a:moveTo>
                  <a:lnTo>
                    <a:pt x="1734" y="2782"/>
                  </a:lnTo>
                  <a:lnTo>
                    <a:pt x="1751" y="2799"/>
                  </a:lnTo>
                  <a:lnTo>
                    <a:pt x="2146" y="2404"/>
                  </a:lnTo>
                  <a:lnTo>
                    <a:pt x="2129" y="2387"/>
                  </a:lnTo>
                  <a:close/>
                  <a:moveTo>
                    <a:pt x="2221" y="2298"/>
                  </a:moveTo>
                  <a:lnTo>
                    <a:pt x="2146" y="2371"/>
                  </a:lnTo>
                  <a:lnTo>
                    <a:pt x="2162" y="2387"/>
                  </a:lnTo>
                  <a:lnTo>
                    <a:pt x="2238" y="2314"/>
                  </a:lnTo>
                  <a:lnTo>
                    <a:pt x="2221" y="2298"/>
                  </a:lnTo>
                  <a:close/>
                  <a:moveTo>
                    <a:pt x="2328" y="2189"/>
                  </a:moveTo>
                  <a:lnTo>
                    <a:pt x="2254" y="2264"/>
                  </a:lnTo>
                  <a:lnTo>
                    <a:pt x="2271" y="2281"/>
                  </a:lnTo>
                  <a:lnTo>
                    <a:pt x="2344" y="2205"/>
                  </a:lnTo>
                  <a:lnTo>
                    <a:pt x="2328" y="2189"/>
                  </a:lnTo>
                  <a:close/>
                  <a:moveTo>
                    <a:pt x="2739" y="1780"/>
                  </a:moveTo>
                  <a:lnTo>
                    <a:pt x="2344" y="2172"/>
                  </a:lnTo>
                  <a:lnTo>
                    <a:pt x="2361" y="2189"/>
                  </a:lnTo>
                  <a:lnTo>
                    <a:pt x="2755" y="1796"/>
                  </a:lnTo>
                  <a:lnTo>
                    <a:pt x="2739" y="1780"/>
                  </a:lnTo>
                  <a:close/>
                  <a:moveTo>
                    <a:pt x="2829" y="1688"/>
                  </a:moveTo>
                  <a:lnTo>
                    <a:pt x="2755" y="1761"/>
                  </a:lnTo>
                  <a:lnTo>
                    <a:pt x="2772" y="1780"/>
                  </a:lnTo>
                  <a:lnTo>
                    <a:pt x="2845" y="1704"/>
                  </a:lnTo>
                  <a:lnTo>
                    <a:pt x="2829" y="1688"/>
                  </a:lnTo>
                  <a:close/>
                  <a:moveTo>
                    <a:pt x="2937" y="1581"/>
                  </a:moveTo>
                  <a:lnTo>
                    <a:pt x="2864" y="1655"/>
                  </a:lnTo>
                  <a:lnTo>
                    <a:pt x="2881" y="1671"/>
                  </a:lnTo>
                  <a:lnTo>
                    <a:pt x="2954" y="1598"/>
                  </a:lnTo>
                  <a:lnTo>
                    <a:pt x="2937" y="1581"/>
                  </a:lnTo>
                  <a:close/>
                  <a:moveTo>
                    <a:pt x="3349" y="1170"/>
                  </a:moveTo>
                  <a:lnTo>
                    <a:pt x="2954" y="1565"/>
                  </a:lnTo>
                  <a:lnTo>
                    <a:pt x="2970" y="1581"/>
                  </a:lnTo>
                  <a:lnTo>
                    <a:pt x="3365" y="1187"/>
                  </a:lnTo>
                  <a:lnTo>
                    <a:pt x="3349" y="1170"/>
                  </a:lnTo>
                  <a:close/>
                  <a:moveTo>
                    <a:pt x="3438" y="1080"/>
                  </a:moveTo>
                  <a:lnTo>
                    <a:pt x="3365" y="1154"/>
                  </a:lnTo>
                  <a:lnTo>
                    <a:pt x="3382" y="1170"/>
                  </a:lnTo>
                  <a:lnTo>
                    <a:pt x="3455" y="1097"/>
                  </a:lnTo>
                  <a:lnTo>
                    <a:pt x="3438" y="1080"/>
                  </a:lnTo>
                  <a:close/>
                  <a:moveTo>
                    <a:pt x="3547" y="972"/>
                  </a:moveTo>
                  <a:lnTo>
                    <a:pt x="3471" y="1047"/>
                  </a:lnTo>
                  <a:lnTo>
                    <a:pt x="3488" y="1064"/>
                  </a:lnTo>
                  <a:lnTo>
                    <a:pt x="3564" y="988"/>
                  </a:lnTo>
                  <a:lnTo>
                    <a:pt x="3547" y="972"/>
                  </a:lnTo>
                  <a:close/>
                  <a:moveTo>
                    <a:pt x="3958" y="563"/>
                  </a:moveTo>
                  <a:lnTo>
                    <a:pt x="3564" y="955"/>
                  </a:lnTo>
                  <a:lnTo>
                    <a:pt x="3580" y="972"/>
                  </a:lnTo>
                  <a:lnTo>
                    <a:pt x="3975" y="579"/>
                  </a:lnTo>
                  <a:lnTo>
                    <a:pt x="3958" y="563"/>
                  </a:lnTo>
                  <a:close/>
                  <a:moveTo>
                    <a:pt x="4048" y="471"/>
                  </a:moveTo>
                  <a:lnTo>
                    <a:pt x="3975" y="544"/>
                  </a:lnTo>
                  <a:lnTo>
                    <a:pt x="3991" y="563"/>
                  </a:lnTo>
                  <a:lnTo>
                    <a:pt x="4065" y="487"/>
                  </a:lnTo>
                  <a:lnTo>
                    <a:pt x="4048" y="471"/>
                  </a:lnTo>
                  <a:close/>
                  <a:moveTo>
                    <a:pt x="4154" y="364"/>
                  </a:moveTo>
                  <a:lnTo>
                    <a:pt x="4081" y="437"/>
                  </a:lnTo>
                  <a:lnTo>
                    <a:pt x="4098" y="454"/>
                  </a:lnTo>
                  <a:lnTo>
                    <a:pt x="4173" y="381"/>
                  </a:lnTo>
                  <a:lnTo>
                    <a:pt x="4154" y="364"/>
                  </a:lnTo>
                  <a:close/>
                  <a:moveTo>
                    <a:pt x="4554" y="0"/>
                  </a:moveTo>
                  <a:lnTo>
                    <a:pt x="4521" y="0"/>
                  </a:lnTo>
                  <a:lnTo>
                    <a:pt x="4173" y="348"/>
                  </a:lnTo>
                  <a:lnTo>
                    <a:pt x="4190" y="364"/>
                  </a:lnTo>
                  <a:lnTo>
                    <a:pt x="4554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 rot="5400000">
              <a:off x="5838120" y="-691200"/>
              <a:ext cx="5662080" cy="7044840"/>
            </a:xfrm>
            <a:custGeom>
              <a:avLst/>
              <a:gdLst>
                <a:gd name="textAreaLeft" fmla="*/ 0 w 5662080"/>
                <a:gd name="textAreaRight" fmla="*/ 5662440 w 5662080"/>
                <a:gd name="textAreaTop" fmla="*/ 0 h 7044840"/>
                <a:gd name="textAreaBottom" fmla="*/ 7045200 h 7044840"/>
              </a:gdLst>
              <a:ahLst/>
              <a:rect l="textAreaLeft" t="textAreaTop" r="textAreaRight" b="textAreaBottom"/>
              <a:pathLst>
                <a:path w="4554" h="4548">
                  <a:moveTo>
                    <a:pt x="302" y="4212"/>
                  </a:moveTo>
                  <a:lnTo>
                    <a:pt x="0" y="4515"/>
                  </a:lnTo>
                  <a:lnTo>
                    <a:pt x="0" y="4548"/>
                  </a:lnTo>
                  <a:lnTo>
                    <a:pt x="319" y="4231"/>
                  </a:lnTo>
                  <a:lnTo>
                    <a:pt x="302" y="4212"/>
                  </a:lnTo>
                  <a:moveTo>
                    <a:pt x="392" y="4122"/>
                  </a:moveTo>
                  <a:lnTo>
                    <a:pt x="319" y="4195"/>
                  </a:lnTo>
                  <a:lnTo>
                    <a:pt x="335" y="4214"/>
                  </a:lnTo>
                  <a:lnTo>
                    <a:pt x="409" y="4139"/>
                  </a:lnTo>
                  <a:lnTo>
                    <a:pt x="392" y="4122"/>
                  </a:lnTo>
                  <a:moveTo>
                    <a:pt x="501" y="4016"/>
                  </a:moveTo>
                  <a:lnTo>
                    <a:pt x="425" y="4089"/>
                  </a:lnTo>
                  <a:lnTo>
                    <a:pt x="442" y="4106"/>
                  </a:lnTo>
                  <a:lnTo>
                    <a:pt x="517" y="4032"/>
                  </a:lnTo>
                  <a:lnTo>
                    <a:pt x="501" y="4016"/>
                  </a:lnTo>
                  <a:moveTo>
                    <a:pt x="912" y="3605"/>
                  </a:moveTo>
                  <a:lnTo>
                    <a:pt x="517" y="3999"/>
                  </a:lnTo>
                  <a:lnTo>
                    <a:pt x="534" y="4016"/>
                  </a:lnTo>
                  <a:lnTo>
                    <a:pt x="928" y="3621"/>
                  </a:lnTo>
                  <a:lnTo>
                    <a:pt x="912" y="3605"/>
                  </a:lnTo>
                  <a:moveTo>
                    <a:pt x="1002" y="3515"/>
                  </a:moveTo>
                  <a:lnTo>
                    <a:pt x="928" y="3588"/>
                  </a:lnTo>
                  <a:lnTo>
                    <a:pt x="945" y="3605"/>
                  </a:lnTo>
                  <a:lnTo>
                    <a:pt x="1018" y="3531"/>
                  </a:lnTo>
                  <a:lnTo>
                    <a:pt x="1002" y="3515"/>
                  </a:lnTo>
                  <a:moveTo>
                    <a:pt x="1108" y="3406"/>
                  </a:moveTo>
                  <a:lnTo>
                    <a:pt x="1035" y="3482"/>
                  </a:lnTo>
                  <a:lnTo>
                    <a:pt x="1051" y="3498"/>
                  </a:lnTo>
                  <a:lnTo>
                    <a:pt x="1127" y="3423"/>
                  </a:lnTo>
                  <a:lnTo>
                    <a:pt x="1108" y="3406"/>
                  </a:lnTo>
                  <a:moveTo>
                    <a:pt x="1519" y="2997"/>
                  </a:moveTo>
                  <a:lnTo>
                    <a:pt x="1127" y="3389"/>
                  </a:lnTo>
                  <a:lnTo>
                    <a:pt x="1144" y="3406"/>
                  </a:lnTo>
                  <a:lnTo>
                    <a:pt x="1538" y="3014"/>
                  </a:lnTo>
                  <a:lnTo>
                    <a:pt x="1519" y="2997"/>
                  </a:lnTo>
                  <a:moveTo>
                    <a:pt x="1611" y="2905"/>
                  </a:moveTo>
                  <a:lnTo>
                    <a:pt x="1538" y="2978"/>
                  </a:lnTo>
                  <a:lnTo>
                    <a:pt x="1555" y="2997"/>
                  </a:lnTo>
                  <a:lnTo>
                    <a:pt x="1628" y="2921"/>
                  </a:lnTo>
                  <a:lnTo>
                    <a:pt x="1611" y="2905"/>
                  </a:lnTo>
                  <a:moveTo>
                    <a:pt x="1718" y="2799"/>
                  </a:moveTo>
                  <a:lnTo>
                    <a:pt x="1645" y="2872"/>
                  </a:lnTo>
                  <a:lnTo>
                    <a:pt x="1661" y="2888"/>
                  </a:lnTo>
                  <a:lnTo>
                    <a:pt x="1734" y="2815"/>
                  </a:lnTo>
                  <a:lnTo>
                    <a:pt x="1718" y="2799"/>
                  </a:lnTo>
                  <a:moveTo>
                    <a:pt x="2129" y="2387"/>
                  </a:moveTo>
                  <a:lnTo>
                    <a:pt x="1734" y="2782"/>
                  </a:lnTo>
                  <a:lnTo>
                    <a:pt x="1751" y="2799"/>
                  </a:lnTo>
                  <a:lnTo>
                    <a:pt x="2146" y="2404"/>
                  </a:lnTo>
                  <a:lnTo>
                    <a:pt x="2129" y="2387"/>
                  </a:lnTo>
                  <a:moveTo>
                    <a:pt x="2221" y="2298"/>
                  </a:moveTo>
                  <a:lnTo>
                    <a:pt x="2146" y="2371"/>
                  </a:lnTo>
                  <a:lnTo>
                    <a:pt x="2162" y="2387"/>
                  </a:lnTo>
                  <a:lnTo>
                    <a:pt x="2238" y="2314"/>
                  </a:lnTo>
                  <a:lnTo>
                    <a:pt x="2221" y="2298"/>
                  </a:lnTo>
                  <a:moveTo>
                    <a:pt x="2328" y="2189"/>
                  </a:moveTo>
                  <a:lnTo>
                    <a:pt x="2254" y="2264"/>
                  </a:lnTo>
                  <a:lnTo>
                    <a:pt x="2271" y="2281"/>
                  </a:lnTo>
                  <a:lnTo>
                    <a:pt x="2344" y="2205"/>
                  </a:lnTo>
                  <a:lnTo>
                    <a:pt x="2328" y="2189"/>
                  </a:lnTo>
                  <a:moveTo>
                    <a:pt x="2739" y="1780"/>
                  </a:moveTo>
                  <a:lnTo>
                    <a:pt x="2344" y="2172"/>
                  </a:lnTo>
                  <a:lnTo>
                    <a:pt x="2361" y="2189"/>
                  </a:lnTo>
                  <a:lnTo>
                    <a:pt x="2755" y="1796"/>
                  </a:lnTo>
                  <a:lnTo>
                    <a:pt x="2739" y="1780"/>
                  </a:lnTo>
                  <a:moveTo>
                    <a:pt x="2829" y="1688"/>
                  </a:moveTo>
                  <a:lnTo>
                    <a:pt x="2755" y="1761"/>
                  </a:lnTo>
                  <a:lnTo>
                    <a:pt x="2772" y="1780"/>
                  </a:lnTo>
                  <a:lnTo>
                    <a:pt x="2845" y="1704"/>
                  </a:lnTo>
                  <a:lnTo>
                    <a:pt x="2829" y="1688"/>
                  </a:lnTo>
                  <a:moveTo>
                    <a:pt x="2937" y="1581"/>
                  </a:moveTo>
                  <a:lnTo>
                    <a:pt x="2864" y="1655"/>
                  </a:lnTo>
                  <a:lnTo>
                    <a:pt x="2881" y="1671"/>
                  </a:lnTo>
                  <a:lnTo>
                    <a:pt x="2954" y="1598"/>
                  </a:lnTo>
                  <a:lnTo>
                    <a:pt x="2937" y="1581"/>
                  </a:lnTo>
                  <a:moveTo>
                    <a:pt x="3349" y="1170"/>
                  </a:moveTo>
                  <a:lnTo>
                    <a:pt x="2954" y="1565"/>
                  </a:lnTo>
                  <a:lnTo>
                    <a:pt x="2970" y="1581"/>
                  </a:lnTo>
                  <a:lnTo>
                    <a:pt x="3365" y="1187"/>
                  </a:lnTo>
                  <a:lnTo>
                    <a:pt x="3349" y="1170"/>
                  </a:lnTo>
                  <a:moveTo>
                    <a:pt x="3438" y="1080"/>
                  </a:moveTo>
                  <a:lnTo>
                    <a:pt x="3365" y="1154"/>
                  </a:lnTo>
                  <a:lnTo>
                    <a:pt x="3382" y="1170"/>
                  </a:lnTo>
                  <a:lnTo>
                    <a:pt x="3455" y="1097"/>
                  </a:lnTo>
                  <a:lnTo>
                    <a:pt x="3438" y="1080"/>
                  </a:lnTo>
                  <a:moveTo>
                    <a:pt x="3547" y="972"/>
                  </a:moveTo>
                  <a:lnTo>
                    <a:pt x="3471" y="1047"/>
                  </a:lnTo>
                  <a:lnTo>
                    <a:pt x="3488" y="1064"/>
                  </a:lnTo>
                  <a:lnTo>
                    <a:pt x="3564" y="988"/>
                  </a:lnTo>
                  <a:lnTo>
                    <a:pt x="3547" y="972"/>
                  </a:lnTo>
                  <a:moveTo>
                    <a:pt x="3958" y="563"/>
                  </a:moveTo>
                  <a:lnTo>
                    <a:pt x="3564" y="955"/>
                  </a:lnTo>
                  <a:lnTo>
                    <a:pt x="3580" y="972"/>
                  </a:lnTo>
                  <a:lnTo>
                    <a:pt x="3975" y="579"/>
                  </a:lnTo>
                  <a:lnTo>
                    <a:pt x="3958" y="563"/>
                  </a:lnTo>
                  <a:moveTo>
                    <a:pt x="4048" y="471"/>
                  </a:moveTo>
                  <a:lnTo>
                    <a:pt x="3975" y="544"/>
                  </a:lnTo>
                  <a:lnTo>
                    <a:pt x="3991" y="563"/>
                  </a:lnTo>
                  <a:lnTo>
                    <a:pt x="4065" y="487"/>
                  </a:lnTo>
                  <a:lnTo>
                    <a:pt x="4048" y="471"/>
                  </a:lnTo>
                  <a:moveTo>
                    <a:pt x="4154" y="364"/>
                  </a:moveTo>
                  <a:lnTo>
                    <a:pt x="4081" y="437"/>
                  </a:lnTo>
                  <a:lnTo>
                    <a:pt x="4098" y="454"/>
                  </a:lnTo>
                  <a:lnTo>
                    <a:pt x="4173" y="381"/>
                  </a:lnTo>
                  <a:lnTo>
                    <a:pt x="4154" y="364"/>
                  </a:lnTo>
                  <a:moveTo>
                    <a:pt x="4554" y="0"/>
                  </a:moveTo>
                  <a:lnTo>
                    <a:pt x="4521" y="0"/>
                  </a:lnTo>
                  <a:lnTo>
                    <a:pt x="4173" y="348"/>
                  </a:lnTo>
                  <a:lnTo>
                    <a:pt x="4190" y="364"/>
                  </a:lnTo>
                  <a:lnTo>
                    <a:pt x="455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 rot="5400000">
              <a:off x="4125600" y="-864000"/>
              <a:ext cx="6858000" cy="858600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6000"/>
                <a:gd name="textAreaBottom" fmla="*/ 8586360 h 8586000"/>
              </a:gdLst>
              <a:ahLst/>
              <a:rect l="textAreaLeft" t="textAreaTop" r="textAreaRight" b="textAreaBottom"/>
              <a:pathLst>
                <a:path w="5516" h="5543">
                  <a:moveTo>
                    <a:pt x="302" y="5210"/>
                  </a:moveTo>
                  <a:lnTo>
                    <a:pt x="0" y="5510"/>
                  </a:lnTo>
                  <a:lnTo>
                    <a:pt x="0" y="5543"/>
                  </a:lnTo>
                  <a:lnTo>
                    <a:pt x="319" y="5226"/>
                  </a:lnTo>
                  <a:lnTo>
                    <a:pt x="302" y="5210"/>
                  </a:lnTo>
                  <a:close/>
                  <a:moveTo>
                    <a:pt x="392" y="5117"/>
                  </a:moveTo>
                  <a:lnTo>
                    <a:pt x="319" y="5193"/>
                  </a:lnTo>
                  <a:lnTo>
                    <a:pt x="335" y="5210"/>
                  </a:lnTo>
                  <a:lnTo>
                    <a:pt x="409" y="5136"/>
                  </a:lnTo>
                  <a:lnTo>
                    <a:pt x="392" y="5117"/>
                  </a:lnTo>
                  <a:close/>
                  <a:moveTo>
                    <a:pt x="498" y="5011"/>
                  </a:moveTo>
                  <a:lnTo>
                    <a:pt x="425" y="5084"/>
                  </a:lnTo>
                  <a:lnTo>
                    <a:pt x="442" y="5101"/>
                  </a:lnTo>
                  <a:lnTo>
                    <a:pt x="515" y="5028"/>
                  </a:lnTo>
                  <a:lnTo>
                    <a:pt x="498" y="5011"/>
                  </a:lnTo>
                  <a:close/>
                  <a:moveTo>
                    <a:pt x="910" y="4600"/>
                  </a:moveTo>
                  <a:lnTo>
                    <a:pt x="515" y="4994"/>
                  </a:lnTo>
                  <a:lnTo>
                    <a:pt x="534" y="5011"/>
                  </a:lnTo>
                  <a:lnTo>
                    <a:pt x="926" y="4616"/>
                  </a:lnTo>
                  <a:lnTo>
                    <a:pt x="910" y="4600"/>
                  </a:lnTo>
                  <a:close/>
                  <a:moveTo>
                    <a:pt x="1002" y="4510"/>
                  </a:moveTo>
                  <a:lnTo>
                    <a:pt x="926" y="4583"/>
                  </a:lnTo>
                  <a:lnTo>
                    <a:pt x="945" y="4600"/>
                  </a:lnTo>
                  <a:lnTo>
                    <a:pt x="1018" y="4527"/>
                  </a:lnTo>
                  <a:lnTo>
                    <a:pt x="1002" y="4510"/>
                  </a:lnTo>
                  <a:close/>
                  <a:moveTo>
                    <a:pt x="1108" y="4404"/>
                  </a:moveTo>
                  <a:lnTo>
                    <a:pt x="1035" y="4477"/>
                  </a:lnTo>
                  <a:lnTo>
                    <a:pt x="1051" y="4493"/>
                  </a:lnTo>
                  <a:lnTo>
                    <a:pt x="1125" y="4420"/>
                  </a:lnTo>
                  <a:lnTo>
                    <a:pt x="1108" y="4404"/>
                  </a:lnTo>
                  <a:close/>
                  <a:moveTo>
                    <a:pt x="1519" y="3992"/>
                  </a:moveTo>
                  <a:lnTo>
                    <a:pt x="1125" y="4385"/>
                  </a:lnTo>
                  <a:lnTo>
                    <a:pt x="1141" y="4404"/>
                  </a:lnTo>
                  <a:lnTo>
                    <a:pt x="1536" y="4009"/>
                  </a:lnTo>
                  <a:lnTo>
                    <a:pt x="1519" y="3992"/>
                  </a:lnTo>
                  <a:close/>
                  <a:moveTo>
                    <a:pt x="1611" y="3900"/>
                  </a:moveTo>
                  <a:lnTo>
                    <a:pt x="1536" y="3976"/>
                  </a:lnTo>
                  <a:lnTo>
                    <a:pt x="1552" y="3992"/>
                  </a:lnTo>
                  <a:lnTo>
                    <a:pt x="1628" y="3919"/>
                  </a:lnTo>
                  <a:lnTo>
                    <a:pt x="1611" y="3900"/>
                  </a:lnTo>
                  <a:close/>
                  <a:moveTo>
                    <a:pt x="1718" y="3794"/>
                  </a:moveTo>
                  <a:lnTo>
                    <a:pt x="1645" y="3867"/>
                  </a:lnTo>
                  <a:lnTo>
                    <a:pt x="1661" y="3884"/>
                  </a:lnTo>
                  <a:lnTo>
                    <a:pt x="1734" y="3810"/>
                  </a:lnTo>
                  <a:lnTo>
                    <a:pt x="1718" y="3794"/>
                  </a:lnTo>
                  <a:close/>
                  <a:moveTo>
                    <a:pt x="2129" y="3383"/>
                  </a:moveTo>
                  <a:lnTo>
                    <a:pt x="1734" y="3777"/>
                  </a:lnTo>
                  <a:lnTo>
                    <a:pt x="1751" y="3794"/>
                  </a:lnTo>
                  <a:lnTo>
                    <a:pt x="2146" y="3399"/>
                  </a:lnTo>
                  <a:lnTo>
                    <a:pt x="2129" y="3383"/>
                  </a:lnTo>
                  <a:close/>
                  <a:moveTo>
                    <a:pt x="2219" y="3293"/>
                  </a:moveTo>
                  <a:lnTo>
                    <a:pt x="2146" y="3366"/>
                  </a:lnTo>
                  <a:lnTo>
                    <a:pt x="2162" y="3383"/>
                  </a:lnTo>
                  <a:lnTo>
                    <a:pt x="2235" y="3309"/>
                  </a:lnTo>
                  <a:lnTo>
                    <a:pt x="2219" y="3293"/>
                  </a:lnTo>
                  <a:close/>
                  <a:moveTo>
                    <a:pt x="2328" y="3186"/>
                  </a:moveTo>
                  <a:lnTo>
                    <a:pt x="2252" y="3260"/>
                  </a:lnTo>
                  <a:lnTo>
                    <a:pt x="2271" y="3276"/>
                  </a:lnTo>
                  <a:lnTo>
                    <a:pt x="2344" y="3203"/>
                  </a:lnTo>
                  <a:lnTo>
                    <a:pt x="2328" y="3186"/>
                  </a:lnTo>
                  <a:close/>
                  <a:moveTo>
                    <a:pt x="2739" y="2775"/>
                  </a:moveTo>
                  <a:lnTo>
                    <a:pt x="2344" y="3167"/>
                  </a:lnTo>
                  <a:lnTo>
                    <a:pt x="2361" y="3186"/>
                  </a:lnTo>
                  <a:lnTo>
                    <a:pt x="2755" y="2792"/>
                  </a:lnTo>
                  <a:lnTo>
                    <a:pt x="2739" y="2775"/>
                  </a:lnTo>
                  <a:close/>
                  <a:moveTo>
                    <a:pt x="2829" y="2683"/>
                  </a:moveTo>
                  <a:lnTo>
                    <a:pt x="2755" y="2759"/>
                  </a:lnTo>
                  <a:lnTo>
                    <a:pt x="2772" y="2775"/>
                  </a:lnTo>
                  <a:lnTo>
                    <a:pt x="2845" y="2702"/>
                  </a:lnTo>
                  <a:lnTo>
                    <a:pt x="2829" y="2683"/>
                  </a:lnTo>
                  <a:close/>
                  <a:moveTo>
                    <a:pt x="2937" y="2577"/>
                  </a:moveTo>
                  <a:lnTo>
                    <a:pt x="2862" y="2650"/>
                  </a:lnTo>
                  <a:lnTo>
                    <a:pt x="2878" y="2666"/>
                  </a:lnTo>
                  <a:lnTo>
                    <a:pt x="2954" y="2593"/>
                  </a:lnTo>
                  <a:lnTo>
                    <a:pt x="2937" y="2577"/>
                  </a:lnTo>
                  <a:close/>
                  <a:moveTo>
                    <a:pt x="3349" y="2165"/>
                  </a:moveTo>
                  <a:lnTo>
                    <a:pt x="2954" y="2560"/>
                  </a:lnTo>
                  <a:lnTo>
                    <a:pt x="2970" y="2577"/>
                  </a:lnTo>
                  <a:lnTo>
                    <a:pt x="3365" y="2182"/>
                  </a:lnTo>
                  <a:lnTo>
                    <a:pt x="3349" y="2165"/>
                  </a:lnTo>
                  <a:close/>
                  <a:moveTo>
                    <a:pt x="3438" y="2076"/>
                  </a:moveTo>
                  <a:lnTo>
                    <a:pt x="3365" y="2149"/>
                  </a:lnTo>
                  <a:lnTo>
                    <a:pt x="3382" y="2165"/>
                  </a:lnTo>
                  <a:lnTo>
                    <a:pt x="3455" y="2092"/>
                  </a:lnTo>
                  <a:lnTo>
                    <a:pt x="3438" y="2076"/>
                  </a:lnTo>
                  <a:close/>
                  <a:moveTo>
                    <a:pt x="3545" y="1969"/>
                  </a:moveTo>
                  <a:lnTo>
                    <a:pt x="3471" y="2042"/>
                  </a:lnTo>
                  <a:lnTo>
                    <a:pt x="3488" y="2059"/>
                  </a:lnTo>
                  <a:lnTo>
                    <a:pt x="3561" y="1986"/>
                  </a:lnTo>
                  <a:lnTo>
                    <a:pt x="3545" y="1969"/>
                  </a:lnTo>
                  <a:close/>
                  <a:moveTo>
                    <a:pt x="3956" y="1558"/>
                  </a:moveTo>
                  <a:lnTo>
                    <a:pt x="3561" y="1953"/>
                  </a:lnTo>
                  <a:lnTo>
                    <a:pt x="3580" y="1969"/>
                  </a:lnTo>
                  <a:lnTo>
                    <a:pt x="3972" y="1574"/>
                  </a:lnTo>
                  <a:lnTo>
                    <a:pt x="3956" y="1558"/>
                  </a:lnTo>
                  <a:close/>
                  <a:moveTo>
                    <a:pt x="4048" y="1466"/>
                  </a:moveTo>
                  <a:lnTo>
                    <a:pt x="3972" y="1541"/>
                  </a:lnTo>
                  <a:lnTo>
                    <a:pt x="3989" y="1558"/>
                  </a:lnTo>
                  <a:lnTo>
                    <a:pt x="4065" y="1485"/>
                  </a:lnTo>
                  <a:lnTo>
                    <a:pt x="4048" y="1466"/>
                  </a:lnTo>
                  <a:close/>
                  <a:moveTo>
                    <a:pt x="4154" y="1359"/>
                  </a:moveTo>
                  <a:lnTo>
                    <a:pt x="4081" y="1433"/>
                  </a:lnTo>
                  <a:lnTo>
                    <a:pt x="4098" y="1449"/>
                  </a:lnTo>
                  <a:lnTo>
                    <a:pt x="4171" y="1376"/>
                  </a:lnTo>
                  <a:lnTo>
                    <a:pt x="4154" y="1359"/>
                  </a:lnTo>
                  <a:close/>
                  <a:moveTo>
                    <a:pt x="4566" y="948"/>
                  </a:moveTo>
                  <a:lnTo>
                    <a:pt x="4171" y="1343"/>
                  </a:lnTo>
                  <a:lnTo>
                    <a:pt x="4188" y="1359"/>
                  </a:lnTo>
                  <a:lnTo>
                    <a:pt x="4582" y="965"/>
                  </a:lnTo>
                  <a:lnTo>
                    <a:pt x="4566" y="948"/>
                  </a:lnTo>
                  <a:close/>
                  <a:moveTo>
                    <a:pt x="4655" y="858"/>
                  </a:moveTo>
                  <a:lnTo>
                    <a:pt x="4582" y="932"/>
                  </a:lnTo>
                  <a:lnTo>
                    <a:pt x="4599" y="948"/>
                  </a:lnTo>
                  <a:lnTo>
                    <a:pt x="4674" y="875"/>
                  </a:lnTo>
                  <a:lnTo>
                    <a:pt x="4655" y="858"/>
                  </a:lnTo>
                  <a:close/>
                  <a:moveTo>
                    <a:pt x="4764" y="752"/>
                  </a:moveTo>
                  <a:lnTo>
                    <a:pt x="4691" y="825"/>
                  </a:lnTo>
                  <a:lnTo>
                    <a:pt x="4707" y="842"/>
                  </a:lnTo>
                  <a:lnTo>
                    <a:pt x="4781" y="768"/>
                  </a:lnTo>
                  <a:lnTo>
                    <a:pt x="4764" y="752"/>
                  </a:lnTo>
                  <a:close/>
                  <a:moveTo>
                    <a:pt x="5175" y="341"/>
                  </a:moveTo>
                  <a:lnTo>
                    <a:pt x="4781" y="735"/>
                  </a:lnTo>
                  <a:lnTo>
                    <a:pt x="4797" y="752"/>
                  </a:lnTo>
                  <a:lnTo>
                    <a:pt x="5192" y="357"/>
                  </a:lnTo>
                  <a:lnTo>
                    <a:pt x="5175" y="341"/>
                  </a:lnTo>
                  <a:close/>
                  <a:moveTo>
                    <a:pt x="5265" y="251"/>
                  </a:moveTo>
                  <a:lnTo>
                    <a:pt x="5192" y="324"/>
                  </a:lnTo>
                  <a:lnTo>
                    <a:pt x="5208" y="341"/>
                  </a:lnTo>
                  <a:lnTo>
                    <a:pt x="5282" y="267"/>
                  </a:lnTo>
                  <a:lnTo>
                    <a:pt x="5265" y="251"/>
                  </a:lnTo>
                  <a:close/>
                  <a:moveTo>
                    <a:pt x="5374" y="142"/>
                  </a:moveTo>
                  <a:lnTo>
                    <a:pt x="5298" y="215"/>
                  </a:lnTo>
                  <a:lnTo>
                    <a:pt x="5317" y="232"/>
                  </a:lnTo>
                  <a:lnTo>
                    <a:pt x="5390" y="159"/>
                  </a:lnTo>
                  <a:lnTo>
                    <a:pt x="5374" y="142"/>
                  </a:lnTo>
                  <a:close/>
                  <a:moveTo>
                    <a:pt x="5516" y="0"/>
                  </a:moveTo>
                  <a:lnTo>
                    <a:pt x="5390" y="126"/>
                  </a:lnTo>
                  <a:lnTo>
                    <a:pt x="5407" y="142"/>
                  </a:lnTo>
                  <a:lnTo>
                    <a:pt x="5516" y="33"/>
                  </a:lnTo>
                  <a:lnTo>
                    <a:pt x="55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 rot="5400000">
              <a:off x="4125600" y="-864000"/>
              <a:ext cx="6858000" cy="858600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6000"/>
                <a:gd name="textAreaBottom" fmla="*/ 8586360 h 8586000"/>
              </a:gdLst>
              <a:ahLst/>
              <a:rect l="textAreaLeft" t="textAreaTop" r="textAreaRight" b="textAreaBottom"/>
              <a:pathLst>
                <a:path w="5516" h="5543">
                  <a:moveTo>
                    <a:pt x="302" y="5210"/>
                  </a:moveTo>
                  <a:lnTo>
                    <a:pt x="0" y="5510"/>
                  </a:lnTo>
                  <a:lnTo>
                    <a:pt x="0" y="5543"/>
                  </a:lnTo>
                  <a:lnTo>
                    <a:pt x="319" y="5226"/>
                  </a:lnTo>
                  <a:lnTo>
                    <a:pt x="302" y="5210"/>
                  </a:lnTo>
                  <a:moveTo>
                    <a:pt x="392" y="5117"/>
                  </a:moveTo>
                  <a:lnTo>
                    <a:pt x="319" y="5193"/>
                  </a:lnTo>
                  <a:lnTo>
                    <a:pt x="335" y="5210"/>
                  </a:lnTo>
                  <a:lnTo>
                    <a:pt x="409" y="5136"/>
                  </a:lnTo>
                  <a:lnTo>
                    <a:pt x="392" y="5117"/>
                  </a:lnTo>
                  <a:moveTo>
                    <a:pt x="498" y="5011"/>
                  </a:moveTo>
                  <a:lnTo>
                    <a:pt x="425" y="5084"/>
                  </a:lnTo>
                  <a:lnTo>
                    <a:pt x="442" y="5101"/>
                  </a:lnTo>
                  <a:lnTo>
                    <a:pt x="515" y="5028"/>
                  </a:lnTo>
                  <a:lnTo>
                    <a:pt x="498" y="5011"/>
                  </a:lnTo>
                  <a:moveTo>
                    <a:pt x="910" y="4600"/>
                  </a:moveTo>
                  <a:lnTo>
                    <a:pt x="515" y="4994"/>
                  </a:lnTo>
                  <a:lnTo>
                    <a:pt x="534" y="5011"/>
                  </a:lnTo>
                  <a:lnTo>
                    <a:pt x="926" y="4616"/>
                  </a:lnTo>
                  <a:lnTo>
                    <a:pt x="910" y="4600"/>
                  </a:lnTo>
                  <a:moveTo>
                    <a:pt x="1002" y="4510"/>
                  </a:moveTo>
                  <a:lnTo>
                    <a:pt x="926" y="4583"/>
                  </a:lnTo>
                  <a:lnTo>
                    <a:pt x="945" y="4600"/>
                  </a:lnTo>
                  <a:lnTo>
                    <a:pt x="1018" y="4527"/>
                  </a:lnTo>
                  <a:lnTo>
                    <a:pt x="1002" y="4510"/>
                  </a:lnTo>
                  <a:moveTo>
                    <a:pt x="1108" y="4404"/>
                  </a:moveTo>
                  <a:lnTo>
                    <a:pt x="1035" y="4477"/>
                  </a:lnTo>
                  <a:lnTo>
                    <a:pt x="1051" y="4493"/>
                  </a:lnTo>
                  <a:lnTo>
                    <a:pt x="1125" y="4420"/>
                  </a:lnTo>
                  <a:lnTo>
                    <a:pt x="1108" y="4404"/>
                  </a:lnTo>
                  <a:moveTo>
                    <a:pt x="1519" y="3992"/>
                  </a:moveTo>
                  <a:lnTo>
                    <a:pt x="1125" y="4385"/>
                  </a:lnTo>
                  <a:lnTo>
                    <a:pt x="1141" y="4404"/>
                  </a:lnTo>
                  <a:lnTo>
                    <a:pt x="1536" y="4009"/>
                  </a:lnTo>
                  <a:lnTo>
                    <a:pt x="1519" y="3992"/>
                  </a:lnTo>
                  <a:moveTo>
                    <a:pt x="1611" y="3900"/>
                  </a:moveTo>
                  <a:lnTo>
                    <a:pt x="1536" y="3976"/>
                  </a:lnTo>
                  <a:lnTo>
                    <a:pt x="1552" y="3992"/>
                  </a:lnTo>
                  <a:lnTo>
                    <a:pt x="1628" y="3919"/>
                  </a:lnTo>
                  <a:lnTo>
                    <a:pt x="1611" y="3900"/>
                  </a:lnTo>
                  <a:moveTo>
                    <a:pt x="1718" y="3794"/>
                  </a:moveTo>
                  <a:lnTo>
                    <a:pt x="1645" y="3867"/>
                  </a:lnTo>
                  <a:lnTo>
                    <a:pt x="1661" y="3884"/>
                  </a:lnTo>
                  <a:lnTo>
                    <a:pt x="1734" y="3810"/>
                  </a:lnTo>
                  <a:lnTo>
                    <a:pt x="1718" y="3794"/>
                  </a:lnTo>
                  <a:moveTo>
                    <a:pt x="2129" y="3383"/>
                  </a:moveTo>
                  <a:lnTo>
                    <a:pt x="1734" y="3777"/>
                  </a:lnTo>
                  <a:lnTo>
                    <a:pt x="1751" y="3794"/>
                  </a:lnTo>
                  <a:lnTo>
                    <a:pt x="2146" y="3399"/>
                  </a:lnTo>
                  <a:lnTo>
                    <a:pt x="2129" y="3383"/>
                  </a:lnTo>
                  <a:moveTo>
                    <a:pt x="2219" y="3293"/>
                  </a:moveTo>
                  <a:lnTo>
                    <a:pt x="2146" y="3366"/>
                  </a:lnTo>
                  <a:lnTo>
                    <a:pt x="2162" y="3383"/>
                  </a:lnTo>
                  <a:lnTo>
                    <a:pt x="2235" y="3309"/>
                  </a:lnTo>
                  <a:lnTo>
                    <a:pt x="2219" y="3293"/>
                  </a:lnTo>
                  <a:moveTo>
                    <a:pt x="2328" y="3186"/>
                  </a:moveTo>
                  <a:lnTo>
                    <a:pt x="2252" y="3260"/>
                  </a:lnTo>
                  <a:lnTo>
                    <a:pt x="2271" y="3276"/>
                  </a:lnTo>
                  <a:lnTo>
                    <a:pt x="2344" y="3203"/>
                  </a:lnTo>
                  <a:lnTo>
                    <a:pt x="2328" y="3186"/>
                  </a:lnTo>
                  <a:moveTo>
                    <a:pt x="2739" y="2775"/>
                  </a:moveTo>
                  <a:lnTo>
                    <a:pt x="2344" y="3167"/>
                  </a:lnTo>
                  <a:lnTo>
                    <a:pt x="2361" y="3186"/>
                  </a:lnTo>
                  <a:lnTo>
                    <a:pt x="2755" y="2792"/>
                  </a:lnTo>
                  <a:lnTo>
                    <a:pt x="2739" y="2775"/>
                  </a:lnTo>
                  <a:moveTo>
                    <a:pt x="2829" y="2683"/>
                  </a:moveTo>
                  <a:lnTo>
                    <a:pt x="2755" y="2759"/>
                  </a:lnTo>
                  <a:lnTo>
                    <a:pt x="2772" y="2775"/>
                  </a:lnTo>
                  <a:lnTo>
                    <a:pt x="2845" y="2702"/>
                  </a:lnTo>
                  <a:lnTo>
                    <a:pt x="2829" y="2683"/>
                  </a:lnTo>
                  <a:moveTo>
                    <a:pt x="2937" y="2577"/>
                  </a:moveTo>
                  <a:lnTo>
                    <a:pt x="2862" y="2650"/>
                  </a:lnTo>
                  <a:lnTo>
                    <a:pt x="2878" y="2666"/>
                  </a:lnTo>
                  <a:lnTo>
                    <a:pt x="2954" y="2593"/>
                  </a:lnTo>
                  <a:lnTo>
                    <a:pt x="2937" y="2577"/>
                  </a:lnTo>
                  <a:moveTo>
                    <a:pt x="3349" y="2165"/>
                  </a:moveTo>
                  <a:lnTo>
                    <a:pt x="2954" y="2560"/>
                  </a:lnTo>
                  <a:lnTo>
                    <a:pt x="2970" y="2577"/>
                  </a:lnTo>
                  <a:lnTo>
                    <a:pt x="3365" y="2182"/>
                  </a:lnTo>
                  <a:lnTo>
                    <a:pt x="3349" y="2165"/>
                  </a:lnTo>
                  <a:moveTo>
                    <a:pt x="3438" y="2076"/>
                  </a:moveTo>
                  <a:lnTo>
                    <a:pt x="3365" y="2149"/>
                  </a:lnTo>
                  <a:lnTo>
                    <a:pt x="3382" y="2165"/>
                  </a:lnTo>
                  <a:lnTo>
                    <a:pt x="3455" y="2092"/>
                  </a:lnTo>
                  <a:lnTo>
                    <a:pt x="3438" y="2076"/>
                  </a:lnTo>
                  <a:moveTo>
                    <a:pt x="3545" y="1969"/>
                  </a:moveTo>
                  <a:lnTo>
                    <a:pt x="3471" y="2042"/>
                  </a:lnTo>
                  <a:lnTo>
                    <a:pt x="3488" y="2059"/>
                  </a:lnTo>
                  <a:lnTo>
                    <a:pt x="3561" y="1986"/>
                  </a:lnTo>
                  <a:lnTo>
                    <a:pt x="3545" y="1969"/>
                  </a:lnTo>
                  <a:moveTo>
                    <a:pt x="3956" y="1558"/>
                  </a:moveTo>
                  <a:lnTo>
                    <a:pt x="3561" y="1953"/>
                  </a:lnTo>
                  <a:lnTo>
                    <a:pt x="3580" y="1969"/>
                  </a:lnTo>
                  <a:lnTo>
                    <a:pt x="3972" y="1574"/>
                  </a:lnTo>
                  <a:lnTo>
                    <a:pt x="3956" y="1558"/>
                  </a:lnTo>
                  <a:moveTo>
                    <a:pt x="4048" y="1466"/>
                  </a:moveTo>
                  <a:lnTo>
                    <a:pt x="3972" y="1541"/>
                  </a:lnTo>
                  <a:lnTo>
                    <a:pt x="3989" y="1558"/>
                  </a:lnTo>
                  <a:lnTo>
                    <a:pt x="4065" y="1485"/>
                  </a:lnTo>
                  <a:lnTo>
                    <a:pt x="4048" y="1466"/>
                  </a:lnTo>
                  <a:moveTo>
                    <a:pt x="4154" y="1359"/>
                  </a:moveTo>
                  <a:lnTo>
                    <a:pt x="4081" y="1433"/>
                  </a:lnTo>
                  <a:lnTo>
                    <a:pt x="4098" y="1449"/>
                  </a:lnTo>
                  <a:lnTo>
                    <a:pt x="4171" y="1376"/>
                  </a:lnTo>
                  <a:lnTo>
                    <a:pt x="4154" y="1359"/>
                  </a:lnTo>
                  <a:moveTo>
                    <a:pt x="4566" y="948"/>
                  </a:moveTo>
                  <a:lnTo>
                    <a:pt x="4171" y="1343"/>
                  </a:lnTo>
                  <a:lnTo>
                    <a:pt x="4188" y="1359"/>
                  </a:lnTo>
                  <a:lnTo>
                    <a:pt x="4582" y="965"/>
                  </a:lnTo>
                  <a:lnTo>
                    <a:pt x="4566" y="948"/>
                  </a:lnTo>
                  <a:moveTo>
                    <a:pt x="4655" y="858"/>
                  </a:moveTo>
                  <a:lnTo>
                    <a:pt x="4582" y="932"/>
                  </a:lnTo>
                  <a:lnTo>
                    <a:pt x="4599" y="948"/>
                  </a:lnTo>
                  <a:lnTo>
                    <a:pt x="4674" y="875"/>
                  </a:lnTo>
                  <a:lnTo>
                    <a:pt x="4655" y="858"/>
                  </a:lnTo>
                  <a:moveTo>
                    <a:pt x="4764" y="752"/>
                  </a:moveTo>
                  <a:lnTo>
                    <a:pt x="4691" y="825"/>
                  </a:lnTo>
                  <a:lnTo>
                    <a:pt x="4707" y="842"/>
                  </a:lnTo>
                  <a:lnTo>
                    <a:pt x="4781" y="768"/>
                  </a:lnTo>
                  <a:lnTo>
                    <a:pt x="4764" y="752"/>
                  </a:lnTo>
                  <a:moveTo>
                    <a:pt x="5175" y="341"/>
                  </a:moveTo>
                  <a:lnTo>
                    <a:pt x="4781" y="735"/>
                  </a:lnTo>
                  <a:lnTo>
                    <a:pt x="4797" y="752"/>
                  </a:lnTo>
                  <a:lnTo>
                    <a:pt x="5192" y="357"/>
                  </a:lnTo>
                  <a:lnTo>
                    <a:pt x="5175" y="341"/>
                  </a:lnTo>
                  <a:moveTo>
                    <a:pt x="5265" y="251"/>
                  </a:moveTo>
                  <a:lnTo>
                    <a:pt x="5192" y="324"/>
                  </a:lnTo>
                  <a:lnTo>
                    <a:pt x="5208" y="341"/>
                  </a:lnTo>
                  <a:lnTo>
                    <a:pt x="5282" y="267"/>
                  </a:lnTo>
                  <a:lnTo>
                    <a:pt x="5265" y="251"/>
                  </a:lnTo>
                  <a:moveTo>
                    <a:pt x="5374" y="142"/>
                  </a:moveTo>
                  <a:lnTo>
                    <a:pt x="5298" y="215"/>
                  </a:lnTo>
                  <a:lnTo>
                    <a:pt x="5317" y="232"/>
                  </a:lnTo>
                  <a:lnTo>
                    <a:pt x="5390" y="159"/>
                  </a:lnTo>
                  <a:lnTo>
                    <a:pt x="5374" y="142"/>
                  </a:lnTo>
                  <a:moveTo>
                    <a:pt x="5516" y="0"/>
                  </a:moveTo>
                  <a:lnTo>
                    <a:pt x="5390" y="126"/>
                  </a:lnTo>
                  <a:lnTo>
                    <a:pt x="5407" y="142"/>
                  </a:lnTo>
                  <a:lnTo>
                    <a:pt x="5516" y="33"/>
                  </a:lnTo>
                  <a:lnTo>
                    <a:pt x="55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 rot="5400000">
              <a:off x="2239560" y="-863280"/>
              <a:ext cx="6858000" cy="858456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4560"/>
                <a:gd name="textAreaBottom" fmla="*/ 8584920 h 8584560"/>
              </a:gdLst>
              <a:ahLst/>
              <a:rect l="textAreaLeft" t="textAreaTop" r="textAreaRight" b="textAreaBottom"/>
              <a:pathLst>
                <a:path w="5516" h="5542">
                  <a:moveTo>
                    <a:pt x="300" y="5209"/>
                  </a:moveTo>
                  <a:lnTo>
                    <a:pt x="0" y="5509"/>
                  </a:lnTo>
                  <a:lnTo>
                    <a:pt x="0" y="5542"/>
                  </a:lnTo>
                  <a:lnTo>
                    <a:pt x="316" y="5225"/>
                  </a:lnTo>
                  <a:lnTo>
                    <a:pt x="300" y="5209"/>
                  </a:lnTo>
                  <a:close/>
                  <a:moveTo>
                    <a:pt x="392" y="5119"/>
                  </a:moveTo>
                  <a:lnTo>
                    <a:pt x="316" y="5192"/>
                  </a:lnTo>
                  <a:lnTo>
                    <a:pt x="333" y="5209"/>
                  </a:lnTo>
                  <a:lnTo>
                    <a:pt x="409" y="5136"/>
                  </a:lnTo>
                  <a:lnTo>
                    <a:pt x="392" y="5119"/>
                  </a:lnTo>
                  <a:close/>
                  <a:moveTo>
                    <a:pt x="498" y="5010"/>
                  </a:moveTo>
                  <a:lnTo>
                    <a:pt x="425" y="5086"/>
                  </a:lnTo>
                  <a:lnTo>
                    <a:pt x="442" y="5102"/>
                  </a:lnTo>
                  <a:lnTo>
                    <a:pt x="515" y="5027"/>
                  </a:lnTo>
                  <a:lnTo>
                    <a:pt x="498" y="5010"/>
                  </a:lnTo>
                  <a:close/>
                  <a:moveTo>
                    <a:pt x="910" y="4601"/>
                  </a:moveTo>
                  <a:lnTo>
                    <a:pt x="515" y="4994"/>
                  </a:lnTo>
                  <a:lnTo>
                    <a:pt x="531" y="5010"/>
                  </a:lnTo>
                  <a:lnTo>
                    <a:pt x="926" y="4618"/>
                  </a:lnTo>
                  <a:lnTo>
                    <a:pt x="910" y="4601"/>
                  </a:lnTo>
                  <a:close/>
                  <a:moveTo>
                    <a:pt x="999" y="4509"/>
                  </a:moveTo>
                  <a:lnTo>
                    <a:pt x="926" y="4582"/>
                  </a:lnTo>
                  <a:lnTo>
                    <a:pt x="943" y="4601"/>
                  </a:lnTo>
                  <a:lnTo>
                    <a:pt x="1018" y="4526"/>
                  </a:lnTo>
                  <a:lnTo>
                    <a:pt x="999" y="4509"/>
                  </a:lnTo>
                  <a:close/>
                  <a:moveTo>
                    <a:pt x="1108" y="4403"/>
                  </a:moveTo>
                  <a:lnTo>
                    <a:pt x="1035" y="4476"/>
                  </a:lnTo>
                  <a:lnTo>
                    <a:pt x="1051" y="4493"/>
                  </a:lnTo>
                  <a:lnTo>
                    <a:pt x="1125" y="4419"/>
                  </a:lnTo>
                  <a:lnTo>
                    <a:pt x="1108" y="4403"/>
                  </a:lnTo>
                  <a:close/>
                  <a:moveTo>
                    <a:pt x="1519" y="3992"/>
                  </a:moveTo>
                  <a:lnTo>
                    <a:pt x="1125" y="4386"/>
                  </a:lnTo>
                  <a:lnTo>
                    <a:pt x="1141" y="4403"/>
                  </a:lnTo>
                  <a:lnTo>
                    <a:pt x="1536" y="4008"/>
                  </a:lnTo>
                  <a:lnTo>
                    <a:pt x="1519" y="3992"/>
                  </a:lnTo>
                  <a:close/>
                  <a:moveTo>
                    <a:pt x="1609" y="3902"/>
                  </a:moveTo>
                  <a:lnTo>
                    <a:pt x="1536" y="3975"/>
                  </a:lnTo>
                  <a:lnTo>
                    <a:pt x="1552" y="3992"/>
                  </a:lnTo>
                  <a:lnTo>
                    <a:pt x="1626" y="3918"/>
                  </a:lnTo>
                  <a:lnTo>
                    <a:pt x="1609" y="3902"/>
                  </a:lnTo>
                  <a:close/>
                  <a:moveTo>
                    <a:pt x="1718" y="3793"/>
                  </a:moveTo>
                  <a:lnTo>
                    <a:pt x="1642" y="3869"/>
                  </a:lnTo>
                  <a:lnTo>
                    <a:pt x="1659" y="3885"/>
                  </a:lnTo>
                  <a:lnTo>
                    <a:pt x="1734" y="3810"/>
                  </a:lnTo>
                  <a:lnTo>
                    <a:pt x="1718" y="3793"/>
                  </a:lnTo>
                  <a:close/>
                  <a:moveTo>
                    <a:pt x="2129" y="3384"/>
                  </a:moveTo>
                  <a:lnTo>
                    <a:pt x="1734" y="3776"/>
                  </a:lnTo>
                  <a:lnTo>
                    <a:pt x="1751" y="3793"/>
                  </a:lnTo>
                  <a:lnTo>
                    <a:pt x="2146" y="3401"/>
                  </a:lnTo>
                  <a:lnTo>
                    <a:pt x="2129" y="3384"/>
                  </a:lnTo>
                  <a:close/>
                  <a:moveTo>
                    <a:pt x="2219" y="3292"/>
                  </a:moveTo>
                  <a:lnTo>
                    <a:pt x="2146" y="3365"/>
                  </a:lnTo>
                  <a:lnTo>
                    <a:pt x="2162" y="3384"/>
                  </a:lnTo>
                  <a:lnTo>
                    <a:pt x="2235" y="3309"/>
                  </a:lnTo>
                  <a:lnTo>
                    <a:pt x="2219" y="3292"/>
                  </a:lnTo>
                  <a:close/>
                  <a:moveTo>
                    <a:pt x="2328" y="3186"/>
                  </a:moveTo>
                  <a:lnTo>
                    <a:pt x="2252" y="3259"/>
                  </a:lnTo>
                  <a:lnTo>
                    <a:pt x="2268" y="3275"/>
                  </a:lnTo>
                  <a:lnTo>
                    <a:pt x="2344" y="3202"/>
                  </a:lnTo>
                  <a:lnTo>
                    <a:pt x="2328" y="3186"/>
                  </a:lnTo>
                  <a:close/>
                  <a:moveTo>
                    <a:pt x="2736" y="2774"/>
                  </a:moveTo>
                  <a:lnTo>
                    <a:pt x="2344" y="3169"/>
                  </a:lnTo>
                  <a:lnTo>
                    <a:pt x="2361" y="3186"/>
                  </a:lnTo>
                  <a:lnTo>
                    <a:pt x="2755" y="2791"/>
                  </a:lnTo>
                  <a:lnTo>
                    <a:pt x="2736" y="2774"/>
                  </a:lnTo>
                  <a:close/>
                  <a:moveTo>
                    <a:pt x="2829" y="2685"/>
                  </a:moveTo>
                  <a:lnTo>
                    <a:pt x="2755" y="2758"/>
                  </a:lnTo>
                  <a:lnTo>
                    <a:pt x="2772" y="2774"/>
                  </a:lnTo>
                  <a:lnTo>
                    <a:pt x="2845" y="2701"/>
                  </a:lnTo>
                  <a:lnTo>
                    <a:pt x="2829" y="2685"/>
                  </a:lnTo>
                  <a:close/>
                  <a:moveTo>
                    <a:pt x="2935" y="2576"/>
                  </a:moveTo>
                  <a:lnTo>
                    <a:pt x="2862" y="2651"/>
                  </a:lnTo>
                  <a:lnTo>
                    <a:pt x="2878" y="2668"/>
                  </a:lnTo>
                  <a:lnTo>
                    <a:pt x="2951" y="2592"/>
                  </a:lnTo>
                  <a:lnTo>
                    <a:pt x="2935" y="2576"/>
                  </a:lnTo>
                  <a:close/>
                  <a:moveTo>
                    <a:pt x="3346" y="2167"/>
                  </a:moveTo>
                  <a:lnTo>
                    <a:pt x="2951" y="2559"/>
                  </a:lnTo>
                  <a:lnTo>
                    <a:pt x="2968" y="2576"/>
                  </a:lnTo>
                  <a:lnTo>
                    <a:pt x="3363" y="2183"/>
                  </a:lnTo>
                  <a:lnTo>
                    <a:pt x="3346" y="2167"/>
                  </a:lnTo>
                  <a:close/>
                  <a:moveTo>
                    <a:pt x="3438" y="2075"/>
                  </a:moveTo>
                  <a:lnTo>
                    <a:pt x="3363" y="2150"/>
                  </a:lnTo>
                  <a:lnTo>
                    <a:pt x="3379" y="2167"/>
                  </a:lnTo>
                  <a:lnTo>
                    <a:pt x="3455" y="2091"/>
                  </a:lnTo>
                  <a:lnTo>
                    <a:pt x="3438" y="2075"/>
                  </a:lnTo>
                  <a:close/>
                  <a:moveTo>
                    <a:pt x="3545" y="1968"/>
                  </a:moveTo>
                  <a:lnTo>
                    <a:pt x="3471" y="2042"/>
                  </a:lnTo>
                  <a:lnTo>
                    <a:pt x="3488" y="2058"/>
                  </a:lnTo>
                  <a:lnTo>
                    <a:pt x="3561" y="1985"/>
                  </a:lnTo>
                  <a:lnTo>
                    <a:pt x="3545" y="1968"/>
                  </a:lnTo>
                  <a:close/>
                  <a:moveTo>
                    <a:pt x="3956" y="1557"/>
                  </a:moveTo>
                  <a:lnTo>
                    <a:pt x="3561" y="1952"/>
                  </a:lnTo>
                  <a:lnTo>
                    <a:pt x="3578" y="1968"/>
                  </a:lnTo>
                  <a:lnTo>
                    <a:pt x="3972" y="1574"/>
                  </a:lnTo>
                  <a:lnTo>
                    <a:pt x="3956" y="1557"/>
                  </a:lnTo>
                  <a:close/>
                  <a:moveTo>
                    <a:pt x="4046" y="1467"/>
                  </a:moveTo>
                  <a:lnTo>
                    <a:pt x="3972" y="1541"/>
                  </a:lnTo>
                  <a:lnTo>
                    <a:pt x="3989" y="1557"/>
                  </a:lnTo>
                  <a:lnTo>
                    <a:pt x="4062" y="1484"/>
                  </a:lnTo>
                  <a:lnTo>
                    <a:pt x="4046" y="1467"/>
                  </a:lnTo>
                  <a:close/>
                  <a:moveTo>
                    <a:pt x="4154" y="1359"/>
                  </a:moveTo>
                  <a:lnTo>
                    <a:pt x="4081" y="1434"/>
                  </a:lnTo>
                  <a:lnTo>
                    <a:pt x="4098" y="1451"/>
                  </a:lnTo>
                  <a:lnTo>
                    <a:pt x="4171" y="1375"/>
                  </a:lnTo>
                  <a:lnTo>
                    <a:pt x="4154" y="1359"/>
                  </a:lnTo>
                  <a:close/>
                  <a:moveTo>
                    <a:pt x="4566" y="950"/>
                  </a:moveTo>
                  <a:lnTo>
                    <a:pt x="4171" y="1342"/>
                  </a:lnTo>
                  <a:lnTo>
                    <a:pt x="4188" y="1359"/>
                  </a:lnTo>
                  <a:lnTo>
                    <a:pt x="4582" y="966"/>
                  </a:lnTo>
                  <a:lnTo>
                    <a:pt x="4566" y="950"/>
                  </a:lnTo>
                  <a:close/>
                  <a:moveTo>
                    <a:pt x="4655" y="858"/>
                  </a:moveTo>
                  <a:lnTo>
                    <a:pt x="4582" y="933"/>
                  </a:lnTo>
                  <a:lnTo>
                    <a:pt x="4599" y="950"/>
                  </a:lnTo>
                  <a:lnTo>
                    <a:pt x="4672" y="874"/>
                  </a:lnTo>
                  <a:lnTo>
                    <a:pt x="4655" y="858"/>
                  </a:lnTo>
                  <a:close/>
                  <a:moveTo>
                    <a:pt x="4764" y="751"/>
                  </a:moveTo>
                  <a:lnTo>
                    <a:pt x="4689" y="824"/>
                  </a:lnTo>
                  <a:lnTo>
                    <a:pt x="4705" y="841"/>
                  </a:lnTo>
                  <a:lnTo>
                    <a:pt x="4781" y="768"/>
                  </a:lnTo>
                  <a:lnTo>
                    <a:pt x="4764" y="751"/>
                  </a:lnTo>
                  <a:close/>
                  <a:moveTo>
                    <a:pt x="5175" y="340"/>
                  </a:moveTo>
                  <a:lnTo>
                    <a:pt x="4781" y="735"/>
                  </a:lnTo>
                  <a:lnTo>
                    <a:pt x="4797" y="751"/>
                  </a:lnTo>
                  <a:lnTo>
                    <a:pt x="5192" y="356"/>
                  </a:lnTo>
                  <a:lnTo>
                    <a:pt x="5175" y="340"/>
                  </a:lnTo>
                  <a:close/>
                  <a:moveTo>
                    <a:pt x="5265" y="250"/>
                  </a:moveTo>
                  <a:lnTo>
                    <a:pt x="5192" y="323"/>
                  </a:lnTo>
                  <a:lnTo>
                    <a:pt x="5208" y="340"/>
                  </a:lnTo>
                  <a:lnTo>
                    <a:pt x="5282" y="267"/>
                  </a:lnTo>
                  <a:lnTo>
                    <a:pt x="5265" y="250"/>
                  </a:lnTo>
                  <a:close/>
                  <a:moveTo>
                    <a:pt x="5372" y="141"/>
                  </a:moveTo>
                  <a:lnTo>
                    <a:pt x="5298" y="217"/>
                  </a:lnTo>
                  <a:lnTo>
                    <a:pt x="5315" y="234"/>
                  </a:lnTo>
                  <a:lnTo>
                    <a:pt x="5390" y="158"/>
                  </a:lnTo>
                  <a:lnTo>
                    <a:pt x="5372" y="141"/>
                  </a:lnTo>
                  <a:close/>
                  <a:moveTo>
                    <a:pt x="5516" y="0"/>
                  </a:moveTo>
                  <a:lnTo>
                    <a:pt x="5390" y="125"/>
                  </a:lnTo>
                  <a:lnTo>
                    <a:pt x="5407" y="141"/>
                  </a:lnTo>
                  <a:lnTo>
                    <a:pt x="5516" y="33"/>
                  </a:lnTo>
                  <a:lnTo>
                    <a:pt x="55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 rot="5400000">
              <a:off x="2239560" y="-863280"/>
              <a:ext cx="6858000" cy="858456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4560"/>
                <a:gd name="textAreaBottom" fmla="*/ 8584920 h 8584560"/>
              </a:gdLst>
              <a:ahLst/>
              <a:rect l="textAreaLeft" t="textAreaTop" r="textAreaRight" b="textAreaBottom"/>
              <a:pathLst>
                <a:path w="5516" h="5542">
                  <a:moveTo>
                    <a:pt x="300" y="5209"/>
                  </a:moveTo>
                  <a:lnTo>
                    <a:pt x="0" y="5509"/>
                  </a:lnTo>
                  <a:lnTo>
                    <a:pt x="0" y="5542"/>
                  </a:lnTo>
                  <a:lnTo>
                    <a:pt x="316" y="5225"/>
                  </a:lnTo>
                  <a:lnTo>
                    <a:pt x="300" y="5209"/>
                  </a:lnTo>
                  <a:moveTo>
                    <a:pt x="392" y="5119"/>
                  </a:moveTo>
                  <a:lnTo>
                    <a:pt x="316" y="5192"/>
                  </a:lnTo>
                  <a:lnTo>
                    <a:pt x="333" y="5209"/>
                  </a:lnTo>
                  <a:lnTo>
                    <a:pt x="409" y="5136"/>
                  </a:lnTo>
                  <a:lnTo>
                    <a:pt x="392" y="5119"/>
                  </a:lnTo>
                  <a:moveTo>
                    <a:pt x="498" y="5010"/>
                  </a:moveTo>
                  <a:lnTo>
                    <a:pt x="425" y="5086"/>
                  </a:lnTo>
                  <a:lnTo>
                    <a:pt x="442" y="5102"/>
                  </a:lnTo>
                  <a:lnTo>
                    <a:pt x="515" y="5027"/>
                  </a:lnTo>
                  <a:lnTo>
                    <a:pt x="498" y="5010"/>
                  </a:lnTo>
                  <a:moveTo>
                    <a:pt x="910" y="4601"/>
                  </a:moveTo>
                  <a:lnTo>
                    <a:pt x="515" y="4994"/>
                  </a:lnTo>
                  <a:lnTo>
                    <a:pt x="531" y="5010"/>
                  </a:lnTo>
                  <a:lnTo>
                    <a:pt x="926" y="4618"/>
                  </a:lnTo>
                  <a:lnTo>
                    <a:pt x="910" y="4601"/>
                  </a:lnTo>
                  <a:moveTo>
                    <a:pt x="999" y="4509"/>
                  </a:moveTo>
                  <a:lnTo>
                    <a:pt x="926" y="4582"/>
                  </a:lnTo>
                  <a:lnTo>
                    <a:pt x="943" y="4601"/>
                  </a:lnTo>
                  <a:lnTo>
                    <a:pt x="1018" y="4526"/>
                  </a:lnTo>
                  <a:lnTo>
                    <a:pt x="999" y="4509"/>
                  </a:lnTo>
                  <a:moveTo>
                    <a:pt x="1108" y="4403"/>
                  </a:moveTo>
                  <a:lnTo>
                    <a:pt x="1035" y="4476"/>
                  </a:lnTo>
                  <a:lnTo>
                    <a:pt x="1051" y="4493"/>
                  </a:lnTo>
                  <a:lnTo>
                    <a:pt x="1125" y="4419"/>
                  </a:lnTo>
                  <a:lnTo>
                    <a:pt x="1108" y="4403"/>
                  </a:lnTo>
                  <a:moveTo>
                    <a:pt x="1519" y="3992"/>
                  </a:moveTo>
                  <a:lnTo>
                    <a:pt x="1125" y="4386"/>
                  </a:lnTo>
                  <a:lnTo>
                    <a:pt x="1141" y="4403"/>
                  </a:lnTo>
                  <a:lnTo>
                    <a:pt x="1536" y="4008"/>
                  </a:lnTo>
                  <a:lnTo>
                    <a:pt x="1519" y="3992"/>
                  </a:lnTo>
                  <a:moveTo>
                    <a:pt x="1609" y="3902"/>
                  </a:moveTo>
                  <a:lnTo>
                    <a:pt x="1536" y="3975"/>
                  </a:lnTo>
                  <a:lnTo>
                    <a:pt x="1552" y="3992"/>
                  </a:lnTo>
                  <a:lnTo>
                    <a:pt x="1626" y="3918"/>
                  </a:lnTo>
                  <a:lnTo>
                    <a:pt x="1609" y="3902"/>
                  </a:lnTo>
                  <a:moveTo>
                    <a:pt x="1718" y="3793"/>
                  </a:moveTo>
                  <a:lnTo>
                    <a:pt x="1642" y="3869"/>
                  </a:lnTo>
                  <a:lnTo>
                    <a:pt x="1659" y="3885"/>
                  </a:lnTo>
                  <a:lnTo>
                    <a:pt x="1734" y="3810"/>
                  </a:lnTo>
                  <a:lnTo>
                    <a:pt x="1718" y="3793"/>
                  </a:lnTo>
                  <a:moveTo>
                    <a:pt x="2129" y="3384"/>
                  </a:moveTo>
                  <a:lnTo>
                    <a:pt x="1734" y="3776"/>
                  </a:lnTo>
                  <a:lnTo>
                    <a:pt x="1751" y="3793"/>
                  </a:lnTo>
                  <a:lnTo>
                    <a:pt x="2146" y="3401"/>
                  </a:lnTo>
                  <a:lnTo>
                    <a:pt x="2129" y="3384"/>
                  </a:lnTo>
                  <a:moveTo>
                    <a:pt x="2219" y="3292"/>
                  </a:moveTo>
                  <a:lnTo>
                    <a:pt x="2146" y="3365"/>
                  </a:lnTo>
                  <a:lnTo>
                    <a:pt x="2162" y="3384"/>
                  </a:lnTo>
                  <a:lnTo>
                    <a:pt x="2235" y="3309"/>
                  </a:lnTo>
                  <a:lnTo>
                    <a:pt x="2219" y="3292"/>
                  </a:lnTo>
                  <a:moveTo>
                    <a:pt x="2328" y="3186"/>
                  </a:moveTo>
                  <a:lnTo>
                    <a:pt x="2252" y="3259"/>
                  </a:lnTo>
                  <a:lnTo>
                    <a:pt x="2268" y="3275"/>
                  </a:lnTo>
                  <a:lnTo>
                    <a:pt x="2344" y="3202"/>
                  </a:lnTo>
                  <a:lnTo>
                    <a:pt x="2328" y="3186"/>
                  </a:lnTo>
                  <a:moveTo>
                    <a:pt x="2736" y="2774"/>
                  </a:moveTo>
                  <a:lnTo>
                    <a:pt x="2344" y="3169"/>
                  </a:lnTo>
                  <a:lnTo>
                    <a:pt x="2361" y="3186"/>
                  </a:lnTo>
                  <a:lnTo>
                    <a:pt x="2755" y="2791"/>
                  </a:lnTo>
                  <a:lnTo>
                    <a:pt x="2736" y="2774"/>
                  </a:lnTo>
                  <a:moveTo>
                    <a:pt x="2829" y="2685"/>
                  </a:moveTo>
                  <a:lnTo>
                    <a:pt x="2755" y="2758"/>
                  </a:lnTo>
                  <a:lnTo>
                    <a:pt x="2772" y="2774"/>
                  </a:lnTo>
                  <a:lnTo>
                    <a:pt x="2845" y="2701"/>
                  </a:lnTo>
                  <a:lnTo>
                    <a:pt x="2829" y="2685"/>
                  </a:lnTo>
                  <a:moveTo>
                    <a:pt x="2935" y="2576"/>
                  </a:moveTo>
                  <a:lnTo>
                    <a:pt x="2862" y="2651"/>
                  </a:lnTo>
                  <a:lnTo>
                    <a:pt x="2878" y="2668"/>
                  </a:lnTo>
                  <a:lnTo>
                    <a:pt x="2951" y="2592"/>
                  </a:lnTo>
                  <a:lnTo>
                    <a:pt x="2935" y="2576"/>
                  </a:lnTo>
                  <a:moveTo>
                    <a:pt x="3346" y="2167"/>
                  </a:moveTo>
                  <a:lnTo>
                    <a:pt x="2951" y="2559"/>
                  </a:lnTo>
                  <a:lnTo>
                    <a:pt x="2968" y="2576"/>
                  </a:lnTo>
                  <a:lnTo>
                    <a:pt x="3363" y="2183"/>
                  </a:lnTo>
                  <a:lnTo>
                    <a:pt x="3346" y="2167"/>
                  </a:lnTo>
                  <a:moveTo>
                    <a:pt x="3438" y="2075"/>
                  </a:moveTo>
                  <a:lnTo>
                    <a:pt x="3363" y="2150"/>
                  </a:lnTo>
                  <a:lnTo>
                    <a:pt x="3379" y="2167"/>
                  </a:lnTo>
                  <a:lnTo>
                    <a:pt x="3455" y="2091"/>
                  </a:lnTo>
                  <a:lnTo>
                    <a:pt x="3438" y="2075"/>
                  </a:lnTo>
                  <a:moveTo>
                    <a:pt x="3545" y="1968"/>
                  </a:moveTo>
                  <a:lnTo>
                    <a:pt x="3471" y="2042"/>
                  </a:lnTo>
                  <a:lnTo>
                    <a:pt x="3488" y="2058"/>
                  </a:lnTo>
                  <a:lnTo>
                    <a:pt x="3561" y="1985"/>
                  </a:lnTo>
                  <a:lnTo>
                    <a:pt x="3545" y="1968"/>
                  </a:lnTo>
                  <a:moveTo>
                    <a:pt x="3956" y="1557"/>
                  </a:moveTo>
                  <a:lnTo>
                    <a:pt x="3561" y="1952"/>
                  </a:lnTo>
                  <a:lnTo>
                    <a:pt x="3578" y="1968"/>
                  </a:lnTo>
                  <a:lnTo>
                    <a:pt x="3972" y="1574"/>
                  </a:lnTo>
                  <a:lnTo>
                    <a:pt x="3956" y="1557"/>
                  </a:lnTo>
                  <a:moveTo>
                    <a:pt x="4046" y="1467"/>
                  </a:moveTo>
                  <a:lnTo>
                    <a:pt x="3972" y="1541"/>
                  </a:lnTo>
                  <a:lnTo>
                    <a:pt x="3989" y="1557"/>
                  </a:lnTo>
                  <a:lnTo>
                    <a:pt x="4062" y="1484"/>
                  </a:lnTo>
                  <a:lnTo>
                    <a:pt x="4046" y="1467"/>
                  </a:lnTo>
                  <a:moveTo>
                    <a:pt x="4154" y="1359"/>
                  </a:moveTo>
                  <a:lnTo>
                    <a:pt x="4081" y="1434"/>
                  </a:lnTo>
                  <a:lnTo>
                    <a:pt x="4098" y="1451"/>
                  </a:lnTo>
                  <a:lnTo>
                    <a:pt x="4171" y="1375"/>
                  </a:lnTo>
                  <a:lnTo>
                    <a:pt x="4154" y="1359"/>
                  </a:lnTo>
                  <a:moveTo>
                    <a:pt x="4566" y="950"/>
                  </a:moveTo>
                  <a:lnTo>
                    <a:pt x="4171" y="1342"/>
                  </a:lnTo>
                  <a:lnTo>
                    <a:pt x="4188" y="1359"/>
                  </a:lnTo>
                  <a:lnTo>
                    <a:pt x="4582" y="966"/>
                  </a:lnTo>
                  <a:lnTo>
                    <a:pt x="4566" y="950"/>
                  </a:lnTo>
                  <a:moveTo>
                    <a:pt x="4655" y="858"/>
                  </a:moveTo>
                  <a:lnTo>
                    <a:pt x="4582" y="933"/>
                  </a:lnTo>
                  <a:lnTo>
                    <a:pt x="4599" y="950"/>
                  </a:lnTo>
                  <a:lnTo>
                    <a:pt x="4672" y="874"/>
                  </a:lnTo>
                  <a:lnTo>
                    <a:pt x="4655" y="858"/>
                  </a:lnTo>
                  <a:moveTo>
                    <a:pt x="4764" y="751"/>
                  </a:moveTo>
                  <a:lnTo>
                    <a:pt x="4689" y="824"/>
                  </a:lnTo>
                  <a:lnTo>
                    <a:pt x="4705" y="841"/>
                  </a:lnTo>
                  <a:lnTo>
                    <a:pt x="4781" y="768"/>
                  </a:lnTo>
                  <a:lnTo>
                    <a:pt x="4764" y="751"/>
                  </a:lnTo>
                  <a:moveTo>
                    <a:pt x="5175" y="340"/>
                  </a:moveTo>
                  <a:lnTo>
                    <a:pt x="4781" y="735"/>
                  </a:lnTo>
                  <a:lnTo>
                    <a:pt x="4797" y="751"/>
                  </a:lnTo>
                  <a:lnTo>
                    <a:pt x="5192" y="356"/>
                  </a:lnTo>
                  <a:lnTo>
                    <a:pt x="5175" y="340"/>
                  </a:lnTo>
                  <a:moveTo>
                    <a:pt x="5265" y="250"/>
                  </a:moveTo>
                  <a:lnTo>
                    <a:pt x="5192" y="323"/>
                  </a:lnTo>
                  <a:lnTo>
                    <a:pt x="5208" y="340"/>
                  </a:lnTo>
                  <a:lnTo>
                    <a:pt x="5282" y="267"/>
                  </a:lnTo>
                  <a:lnTo>
                    <a:pt x="5265" y="250"/>
                  </a:lnTo>
                  <a:moveTo>
                    <a:pt x="5372" y="141"/>
                  </a:moveTo>
                  <a:lnTo>
                    <a:pt x="5298" y="217"/>
                  </a:lnTo>
                  <a:lnTo>
                    <a:pt x="5315" y="234"/>
                  </a:lnTo>
                  <a:lnTo>
                    <a:pt x="5390" y="158"/>
                  </a:lnTo>
                  <a:lnTo>
                    <a:pt x="5372" y="141"/>
                  </a:lnTo>
                  <a:moveTo>
                    <a:pt x="5516" y="0"/>
                  </a:moveTo>
                  <a:lnTo>
                    <a:pt x="5390" y="125"/>
                  </a:lnTo>
                  <a:lnTo>
                    <a:pt x="5407" y="141"/>
                  </a:lnTo>
                  <a:lnTo>
                    <a:pt x="5516" y="33"/>
                  </a:lnTo>
                  <a:lnTo>
                    <a:pt x="55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 rot="5400000">
              <a:off x="793440" y="-424800"/>
              <a:ext cx="6489000" cy="8076600"/>
            </a:xfrm>
            <a:custGeom>
              <a:avLst/>
              <a:gdLst>
                <a:gd name="textAreaLeft" fmla="*/ 0 w 6489000"/>
                <a:gd name="textAreaRight" fmla="*/ 6489360 w 6489000"/>
                <a:gd name="textAreaTop" fmla="*/ 0 h 8076600"/>
                <a:gd name="textAreaBottom" fmla="*/ 8076960 h 8076600"/>
              </a:gdLst>
              <a:ahLst/>
              <a:rect l="textAreaLeft" t="textAreaTop" r="textAreaRight" b="textAreaBottom"/>
              <a:pathLst>
                <a:path w="5219" h="5214">
                  <a:moveTo>
                    <a:pt x="3" y="5209"/>
                  </a:moveTo>
                  <a:lnTo>
                    <a:pt x="0" y="5214"/>
                  </a:lnTo>
                  <a:lnTo>
                    <a:pt x="5" y="5214"/>
                  </a:lnTo>
                  <a:lnTo>
                    <a:pt x="3" y="5209"/>
                  </a:lnTo>
                  <a:close/>
                  <a:moveTo>
                    <a:pt x="93" y="5119"/>
                  </a:moveTo>
                  <a:lnTo>
                    <a:pt x="19" y="5192"/>
                  </a:lnTo>
                  <a:lnTo>
                    <a:pt x="36" y="5209"/>
                  </a:lnTo>
                  <a:lnTo>
                    <a:pt x="109" y="5136"/>
                  </a:lnTo>
                  <a:lnTo>
                    <a:pt x="93" y="5119"/>
                  </a:lnTo>
                  <a:close/>
                  <a:moveTo>
                    <a:pt x="201" y="5013"/>
                  </a:moveTo>
                  <a:lnTo>
                    <a:pt x="128" y="5086"/>
                  </a:lnTo>
                  <a:lnTo>
                    <a:pt x="145" y="5103"/>
                  </a:lnTo>
                  <a:lnTo>
                    <a:pt x="218" y="5029"/>
                  </a:lnTo>
                  <a:lnTo>
                    <a:pt x="201" y="5013"/>
                  </a:lnTo>
                  <a:close/>
                  <a:moveTo>
                    <a:pt x="613" y="4602"/>
                  </a:moveTo>
                  <a:lnTo>
                    <a:pt x="218" y="4994"/>
                  </a:lnTo>
                  <a:lnTo>
                    <a:pt x="234" y="5013"/>
                  </a:lnTo>
                  <a:lnTo>
                    <a:pt x="629" y="4618"/>
                  </a:lnTo>
                  <a:lnTo>
                    <a:pt x="613" y="4602"/>
                  </a:lnTo>
                  <a:close/>
                  <a:moveTo>
                    <a:pt x="702" y="4509"/>
                  </a:moveTo>
                  <a:lnTo>
                    <a:pt x="629" y="4585"/>
                  </a:lnTo>
                  <a:lnTo>
                    <a:pt x="646" y="4602"/>
                  </a:lnTo>
                  <a:lnTo>
                    <a:pt x="719" y="4528"/>
                  </a:lnTo>
                  <a:lnTo>
                    <a:pt x="702" y="4509"/>
                  </a:lnTo>
                  <a:close/>
                  <a:moveTo>
                    <a:pt x="811" y="4403"/>
                  </a:moveTo>
                  <a:lnTo>
                    <a:pt x="735" y="4476"/>
                  </a:lnTo>
                  <a:lnTo>
                    <a:pt x="752" y="4493"/>
                  </a:lnTo>
                  <a:lnTo>
                    <a:pt x="828" y="4420"/>
                  </a:lnTo>
                  <a:lnTo>
                    <a:pt x="811" y="4403"/>
                  </a:lnTo>
                  <a:close/>
                  <a:moveTo>
                    <a:pt x="1222" y="3992"/>
                  </a:moveTo>
                  <a:lnTo>
                    <a:pt x="828" y="4386"/>
                  </a:lnTo>
                  <a:lnTo>
                    <a:pt x="844" y="4403"/>
                  </a:lnTo>
                  <a:lnTo>
                    <a:pt x="1239" y="4008"/>
                  </a:lnTo>
                  <a:lnTo>
                    <a:pt x="1222" y="3992"/>
                  </a:lnTo>
                  <a:close/>
                  <a:moveTo>
                    <a:pt x="1312" y="3902"/>
                  </a:moveTo>
                  <a:lnTo>
                    <a:pt x="1239" y="3975"/>
                  </a:lnTo>
                  <a:lnTo>
                    <a:pt x="1255" y="3992"/>
                  </a:lnTo>
                  <a:lnTo>
                    <a:pt x="1329" y="3919"/>
                  </a:lnTo>
                  <a:lnTo>
                    <a:pt x="1312" y="3902"/>
                  </a:lnTo>
                  <a:close/>
                  <a:moveTo>
                    <a:pt x="1418" y="3796"/>
                  </a:moveTo>
                  <a:lnTo>
                    <a:pt x="1345" y="3869"/>
                  </a:lnTo>
                  <a:lnTo>
                    <a:pt x="1362" y="3885"/>
                  </a:lnTo>
                  <a:lnTo>
                    <a:pt x="1437" y="3812"/>
                  </a:lnTo>
                  <a:lnTo>
                    <a:pt x="1418" y="3796"/>
                  </a:lnTo>
                  <a:close/>
                  <a:moveTo>
                    <a:pt x="1830" y="3384"/>
                  </a:moveTo>
                  <a:lnTo>
                    <a:pt x="1437" y="3779"/>
                  </a:lnTo>
                  <a:lnTo>
                    <a:pt x="1454" y="3796"/>
                  </a:lnTo>
                  <a:lnTo>
                    <a:pt x="1846" y="3401"/>
                  </a:lnTo>
                  <a:lnTo>
                    <a:pt x="1830" y="3384"/>
                  </a:lnTo>
                  <a:close/>
                  <a:moveTo>
                    <a:pt x="1922" y="3292"/>
                  </a:moveTo>
                  <a:lnTo>
                    <a:pt x="1846" y="3368"/>
                  </a:lnTo>
                  <a:lnTo>
                    <a:pt x="1865" y="3384"/>
                  </a:lnTo>
                  <a:lnTo>
                    <a:pt x="1938" y="3311"/>
                  </a:lnTo>
                  <a:lnTo>
                    <a:pt x="1922" y="3292"/>
                  </a:lnTo>
                  <a:close/>
                  <a:moveTo>
                    <a:pt x="2028" y="3186"/>
                  </a:moveTo>
                  <a:lnTo>
                    <a:pt x="1955" y="3259"/>
                  </a:lnTo>
                  <a:lnTo>
                    <a:pt x="1971" y="3276"/>
                  </a:lnTo>
                  <a:lnTo>
                    <a:pt x="2045" y="3202"/>
                  </a:lnTo>
                  <a:lnTo>
                    <a:pt x="2028" y="3186"/>
                  </a:lnTo>
                  <a:close/>
                  <a:moveTo>
                    <a:pt x="2439" y="2775"/>
                  </a:moveTo>
                  <a:lnTo>
                    <a:pt x="2045" y="3169"/>
                  </a:lnTo>
                  <a:lnTo>
                    <a:pt x="2061" y="3186"/>
                  </a:lnTo>
                  <a:lnTo>
                    <a:pt x="2456" y="2791"/>
                  </a:lnTo>
                  <a:lnTo>
                    <a:pt x="2439" y="2775"/>
                  </a:lnTo>
                  <a:close/>
                  <a:moveTo>
                    <a:pt x="2532" y="2685"/>
                  </a:moveTo>
                  <a:lnTo>
                    <a:pt x="2456" y="2758"/>
                  </a:lnTo>
                  <a:lnTo>
                    <a:pt x="2472" y="2775"/>
                  </a:lnTo>
                  <a:lnTo>
                    <a:pt x="2548" y="2701"/>
                  </a:lnTo>
                  <a:lnTo>
                    <a:pt x="2532" y="2685"/>
                  </a:lnTo>
                  <a:close/>
                  <a:moveTo>
                    <a:pt x="2638" y="2578"/>
                  </a:moveTo>
                  <a:lnTo>
                    <a:pt x="2565" y="2652"/>
                  </a:lnTo>
                  <a:lnTo>
                    <a:pt x="2581" y="2668"/>
                  </a:lnTo>
                  <a:lnTo>
                    <a:pt x="2654" y="2595"/>
                  </a:lnTo>
                  <a:lnTo>
                    <a:pt x="2638" y="2578"/>
                  </a:lnTo>
                  <a:close/>
                  <a:moveTo>
                    <a:pt x="3049" y="2167"/>
                  </a:moveTo>
                  <a:lnTo>
                    <a:pt x="2654" y="2562"/>
                  </a:lnTo>
                  <a:lnTo>
                    <a:pt x="2671" y="2578"/>
                  </a:lnTo>
                  <a:lnTo>
                    <a:pt x="3066" y="2184"/>
                  </a:lnTo>
                  <a:lnTo>
                    <a:pt x="3049" y="2167"/>
                  </a:lnTo>
                  <a:close/>
                  <a:moveTo>
                    <a:pt x="3139" y="2077"/>
                  </a:moveTo>
                  <a:lnTo>
                    <a:pt x="3066" y="2151"/>
                  </a:lnTo>
                  <a:lnTo>
                    <a:pt x="3082" y="2167"/>
                  </a:lnTo>
                  <a:lnTo>
                    <a:pt x="3156" y="2094"/>
                  </a:lnTo>
                  <a:lnTo>
                    <a:pt x="3139" y="2077"/>
                  </a:lnTo>
                  <a:close/>
                  <a:moveTo>
                    <a:pt x="3248" y="1969"/>
                  </a:moveTo>
                  <a:lnTo>
                    <a:pt x="3174" y="2042"/>
                  </a:lnTo>
                  <a:lnTo>
                    <a:pt x="3191" y="2058"/>
                  </a:lnTo>
                  <a:lnTo>
                    <a:pt x="3264" y="1985"/>
                  </a:lnTo>
                  <a:lnTo>
                    <a:pt x="3248" y="1969"/>
                  </a:lnTo>
                  <a:close/>
                  <a:moveTo>
                    <a:pt x="3659" y="1557"/>
                  </a:moveTo>
                  <a:lnTo>
                    <a:pt x="3264" y="1952"/>
                  </a:lnTo>
                  <a:lnTo>
                    <a:pt x="3281" y="1969"/>
                  </a:lnTo>
                  <a:lnTo>
                    <a:pt x="3675" y="1574"/>
                  </a:lnTo>
                  <a:lnTo>
                    <a:pt x="3659" y="1557"/>
                  </a:lnTo>
                  <a:close/>
                  <a:moveTo>
                    <a:pt x="3749" y="1468"/>
                  </a:moveTo>
                  <a:lnTo>
                    <a:pt x="3675" y="1541"/>
                  </a:lnTo>
                  <a:lnTo>
                    <a:pt x="3692" y="1557"/>
                  </a:lnTo>
                  <a:lnTo>
                    <a:pt x="3765" y="1484"/>
                  </a:lnTo>
                  <a:lnTo>
                    <a:pt x="3749" y="1468"/>
                  </a:lnTo>
                  <a:close/>
                  <a:moveTo>
                    <a:pt x="3857" y="1361"/>
                  </a:moveTo>
                  <a:lnTo>
                    <a:pt x="3782" y="1434"/>
                  </a:lnTo>
                  <a:lnTo>
                    <a:pt x="3798" y="1451"/>
                  </a:lnTo>
                  <a:lnTo>
                    <a:pt x="3874" y="1378"/>
                  </a:lnTo>
                  <a:lnTo>
                    <a:pt x="3857" y="1361"/>
                  </a:lnTo>
                  <a:close/>
                  <a:moveTo>
                    <a:pt x="4269" y="950"/>
                  </a:moveTo>
                  <a:lnTo>
                    <a:pt x="3874" y="1345"/>
                  </a:lnTo>
                  <a:lnTo>
                    <a:pt x="3891" y="1361"/>
                  </a:lnTo>
                  <a:lnTo>
                    <a:pt x="4285" y="966"/>
                  </a:lnTo>
                  <a:lnTo>
                    <a:pt x="4269" y="950"/>
                  </a:lnTo>
                  <a:close/>
                  <a:moveTo>
                    <a:pt x="4358" y="860"/>
                  </a:moveTo>
                  <a:lnTo>
                    <a:pt x="4285" y="933"/>
                  </a:lnTo>
                  <a:lnTo>
                    <a:pt x="4302" y="950"/>
                  </a:lnTo>
                  <a:lnTo>
                    <a:pt x="4375" y="877"/>
                  </a:lnTo>
                  <a:lnTo>
                    <a:pt x="4358" y="860"/>
                  </a:lnTo>
                  <a:close/>
                  <a:moveTo>
                    <a:pt x="4465" y="751"/>
                  </a:moveTo>
                  <a:lnTo>
                    <a:pt x="4392" y="825"/>
                  </a:lnTo>
                  <a:lnTo>
                    <a:pt x="4408" y="841"/>
                  </a:lnTo>
                  <a:lnTo>
                    <a:pt x="4481" y="768"/>
                  </a:lnTo>
                  <a:lnTo>
                    <a:pt x="4465" y="751"/>
                  </a:lnTo>
                  <a:close/>
                  <a:moveTo>
                    <a:pt x="4876" y="340"/>
                  </a:moveTo>
                  <a:lnTo>
                    <a:pt x="4481" y="735"/>
                  </a:lnTo>
                  <a:lnTo>
                    <a:pt x="4500" y="751"/>
                  </a:lnTo>
                  <a:lnTo>
                    <a:pt x="4893" y="357"/>
                  </a:lnTo>
                  <a:lnTo>
                    <a:pt x="4876" y="340"/>
                  </a:lnTo>
                  <a:close/>
                  <a:moveTo>
                    <a:pt x="4968" y="250"/>
                  </a:moveTo>
                  <a:lnTo>
                    <a:pt x="4893" y="324"/>
                  </a:lnTo>
                  <a:lnTo>
                    <a:pt x="4909" y="340"/>
                  </a:lnTo>
                  <a:lnTo>
                    <a:pt x="4985" y="267"/>
                  </a:lnTo>
                  <a:lnTo>
                    <a:pt x="4968" y="250"/>
                  </a:lnTo>
                  <a:close/>
                  <a:moveTo>
                    <a:pt x="5075" y="144"/>
                  </a:moveTo>
                  <a:lnTo>
                    <a:pt x="5001" y="217"/>
                  </a:lnTo>
                  <a:lnTo>
                    <a:pt x="5018" y="234"/>
                  </a:lnTo>
                  <a:lnTo>
                    <a:pt x="5091" y="160"/>
                  </a:lnTo>
                  <a:lnTo>
                    <a:pt x="5075" y="144"/>
                  </a:lnTo>
                  <a:close/>
                  <a:moveTo>
                    <a:pt x="5219" y="0"/>
                  </a:moveTo>
                  <a:lnTo>
                    <a:pt x="5091" y="127"/>
                  </a:lnTo>
                  <a:lnTo>
                    <a:pt x="5108" y="144"/>
                  </a:lnTo>
                  <a:lnTo>
                    <a:pt x="5219" y="33"/>
                  </a:lnTo>
                  <a:lnTo>
                    <a:pt x="5219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 rot="5400000">
              <a:off x="793440" y="-424800"/>
              <a:ext cx="6489000" cy="8076600"/>
            </a:xfrm>
            <a:custGeom>
              <a:avLst/>
              <a:gdLst>
                <a:gd name="textAreaLeft" fmla="*/ 0 w 6489000"/>
                <a:gd name="textAreaRight" fmla="*/ 6489360 w 6489000"/>
                <a:gd name="textAreaTop" fmla="*/ 0 h 8076600"/>
                <a:gd name="textAreaBottom" fmla="*/ 8076960 h 8076600"/>
              </a:gdLst>
              <a:ahLst/>
              <a:rect l="textAreaLeft" t="textAreaTop" r="textAreaRight" b="textAreaBottom"/>
              <a:pathLst>
                <a:path w="5219" h="5214">
                  <a:moveTo>
                    <a:pt x="3" y="5209"/>
                  </a:moveTo>
                  <a:lnTo>
                    <a:pt x="0" y="5214"/>
                  </a:lnTo>
                  <a:lnTo>
                    <a:pt x="5" y="5214"/>
                  </a:lnTo>
                  <a:lnTo>
                    <a:pt x="3" y="5209"/>
                  </a:lnTo>
                  <a:moveTo>
                    <a:pt x="93" y="5119"/>
                  </a:moveTo>
                  <a:lnTo>
                    <a:pt x="19" y="5192"/>
                  </a:lnTo>
                  <a:lnTo>
                    <a:pt x="36" y="5209"/>
                  </a:lnTo>
                  <a:lnTo>
                    <a:pt x="109" y="5136"/>
                  </a:lnTo>
                  <a:lnTo>
                    <a:pt x="93" y="5119"/>
                  </a:lnTo>
                  <a:moveTo>
                    <a:pt x="201" y="5013"/>
                  </a:moveTo>
                  <a:lnTo>
                    <a:pt x="128" y="5086"/>
                  </a:lnTo>
                  <a:lnTo>
                    <a:pt x="145" y="5103"/>
                  </a:lnTo>
                  <a:lnTo>
                    <a:pt x="218" y="5029"/>
                  </a:lnTo>
                  <a:lnTo>
                    <a:pt x="201" y="5013"/>
                  </a:lnTo>
                  <a:moveTo>
                    <a:pt x="613" y="4602"/>
                  </a:moveTo>
                  <a:lnTo>
                    <a:pt x="218" y="4994"/>
                  </a:lnTo>
                  <a:lnTo>
                    <a:pt x="234" y="5013"/>
                  </a:lnTo>
                  <a:lnTo>
                    <a:pt x="629" y="4618"/>
                  </a:lnTo>
                  <a:lnTo>
                    <a:pt x="613" y="4602"/>
                  </a:lnTo>
                  <a:moveTo>
                    <a:pt x="702" y="4509"/>
                  </a:moveTo>
                  <a:lnTo>
                    <a:pt x="629" y="4585"/>
                  </a:lnTo>
                  <a:lnTo>
                    <a:pt x="646" y="4602"/>
                  </a:lnTo>
                  <a:lnTo>
                    <a:pt x="719" y="4528"/>
                  </a:lnTo>
                  <a:lnTo>
                    <a:pt x="702" y="4509"/>
                  </a:lnTo>
                  <a:moveTo>
                    <a:pt x="811" y="4403"/>
                  </a:moveTo>
                  <a:lnTo>
                    <a:pt x="735" y="4476"/>
                  </a:lnTo>
                  <a:lnTo>
                    <a:pt x="752" y="4493"/>
                  </a:lnTo>
                  <a:lnTo>
                    <a:pt x="828" y="4420"/>
                  </a:lnTo>
                  <a:lnTo>
                    <a:pt x="811" y="4403"/>
                  </a:lnTo>
                  <a:moveTo>
                    <a:pt x="1222" y="3992"/>
                  </a:moveTo>
                  <a:lnTo>
                    <a:pt x="828" y="4386"/>
                  </a:lnTo>
                  <a:lnTo>
                    <a:pt x="844" y="4403"/>
                  </a:lnTo>
                  <a:lnTo>
                    <a:pt x="1239" y="4008"/>
                  </a:lnTo>
                  <a:lnTo>
                    <a:pt x="1222" y="3992"/>
                  </a:lnTo>
                  <a:moveTo>
                    <a:pt x="1312" y="3902"/>
                  </a:moveTo>
                  <a:lnTo>
                    <a:pt x="1239" y="3975"/>
                  </a:lnTo>
                  <a:lnTo>
                    <a:pt x="1255" y="3992"/>
                  </a:lnTo>
                  <a:lnTo>
                    <a:pt x="1329" y="3919"/>
                  </a:lnTo>
                  <a:lnTo>
                    <a:pt x="1312" y="3902"/>
                  </a:lnTo>
                  <a:moveTo>
                    <a:pt x="1418" y="3796"/>
                  </a:moveTo>
                  <a:lnTo>
                    <a:pt x="1345" y="3869"/>
                  </a:lnTo>
                  <a:lnTo>
                    <a:pt x="1362" y="3885"/>
                  </a:lnTo>
                  <a:lnTo>
                    <a:pt x="1437" y="3812"/>
                  </a:lnTo>
                  <a:lnTo>
                    <a:pt x="1418" y="3796"/>
                  </a:lnTo>
                  <a:moveTo>
                    <a:pt x="1830" y="3384"/>
                  </a:moveTo>
                  <a:lnTo>
                    <a:pt x="1437" y="3779"/>
                  </a:lnTo>
                  <a:lnTo>
                    <a:pt x="1454" y="3796"/>
                  </a:lnTo>
                  <a:lnTo>
                    <a:pt x="1846" y="3401"/>
                  </a:lnTo>
                  <a:lnTo>
                    <a:pt x="1830" y="3384"/>
                  </a:lnTo>
                  <a:moveTo>
                    <a:pt x="1922" y="3292"/>
                  </a:moveTo>
                  <a:lnTo>
                    <a:pt x="1846" y="3368"/>
                  </a:lnTo>
                  <a:lnTo>
                    <a:pt x="1865" y="3384"/>
                  </a:lnTo>
                  <a:lnTo>
                    <a:pt x="1938" y="3311"/>
                  </a:lnTo>
                  <a:lnTo>
                    <a:pt x="1922" y="3292"/>
                  </a:lnTo>
                  <a:moveTo>
                    <a:pt x="2028" y="3186"/>
                  </a:moveTo>
                  <a:lnTo>
                    <a:pt x="1955" y="3259"/>
                  </a:lnTo>
                  <a:lnTo>
                    <a:pt x="1971" y="3276"/>
                  </a:lnTo>
                  <a:lnTo>
                    <a:pt x="2045" y="3202"/>
                  </a:lnTo>
                  <a:lnTo>
                    <a:pt x="2028" y="3186"/>
                  </a:lnTo>
                  <a:moveTo>
                    <a:pt x="2439" y="2775"/>
                  </a:moveTo>
                  <a:lnTo>
                    <a:pt x="2045" y="3169"/>
                  </a:lnTo>
                  <a:lnTo>
                    <a:pt x="2061" y="3186"/>
                  </a:lnTo>
                  <a:lnTo>
                    <a:pt x="2456" y="2791"/>
                  </a:lnTo>
                  <a:lnTo>
                    <a:pt x="2439" y="2775"/>
                  </a:lnTo>
                  <a:moveTo>
                    <a:pt x="2532" y="2685"/>
                  </a:moveTo>
                  <a:lnTo>
                    <a:pt x="2456" y="2758"/>
                  </a:lnTo>
                  <a:lnTo>
                    <a:pt x="2472" y="2775"/>
                  </a:lnTo>
                  <a:lnTo>
                    <a:pt x="2548" y="2701"/>
                  </a:lnTo>
                  <a:lnTo>
                    <a:pt x="2532" y="2685"/>
                  </a:lnTo>
                  <a:moveTo>
                    <a:pt x="2638" y="2578"/>
                  </a:moveTo>
                  <a:lnTo>
                    <a:pt x="2565" y="2652"/>
                  </a:lnTo>
                  <a:lnTo>
                    <a:pt x="2581" y="2668"/>
                  </a:lnTo>
                  <a:lnTo>
                    <a:pt x="2654" y="2595"/>
                  </a:lnTo>
                  <a:lnTo>
                    <a:pt x="2638" y="2578"/>
                  </a:lnTo>
                  <a:moveTo>
                    <a:pt x="3049" y="2167"/>
                  </a:moveTo>
                  <a:lnTo>
                    <a:pt x="2654" y="2562"/>
                  </a:lnTo>
                  <a:lnTo>
                    <a:pt x="2671" y="2578"/>
                  </a:lnTo>
                  <a:lnTo>
                    <a:pt x="3066" y="2184"/>
                  </a:lnTo>
                  <a:lnTo>
                    <a:pt x="3049" y="2167"/>
                  </a:lnTo>
                  <a:moveTo>
                    <a:pt x="3139" y="2077"/>
                  </a:moveTo>
                  <a:lnTo>
                    <a:pt x="3066" y="2151"/>
                  </a:lnTo>
                  <a:lnTo>
                    <a:pt x="3082" y="2167"/>
                  </a:lnTo>
                  <a:lnTo>
                    <a:pt x="3156" y="2094"/>
                  </a:lnTo>
                  <a:lnTo>
                    <a:pt x="3139" y="2077"/>
                  </a:lnTo>
                  <a:moveTo>
                    <a:pt x="3248" y="1969"/>
                  </a:moveTo>
                  <a:lnTo>
                    <a:pt x="3174" y="2042"/>
                  </a:lnTo>
                  <a:lnTo>
                    <a:pt x="3191" y="2058"/>
                  </a:lnTo>
                  <a:lnTo>
                    <a:pt x="3264" y="1985"/>
                  </a:lnTo>
                  <a:lnTo>
                    <a:pt x="3248" y="1969"/>
                  </a:lnTo>
                  <a:moveTo>
                    <a:pt x="3659" y="1557"/>
                  </a:moveTo>
                  <a:lnTo>
                    <a:pt x="3264" y="1952"/>
                  </a:lnTo>
                  <a:lnTo>
                    <a:pt x="3281" y="1969"/>
                  </a:lnTo>
                  <a:lnTo>
                    <a:pt x="3675" y="1574"/>
                  </a:lnTo>
                  <a:lnTo>
                    <a:pt x="3659" y="1557"/>
                  </a:lnTo>
                  <a:moveTo>
                    <a:pt x="3749" y="1468"/>
                  </a:moveTo>
                  <a:lnTo>
                    <a:pt x="3675" y="1541"/>
                  </a:lnTo>
                  <a:lnTo>
                    <a:pt x="3692" y="1557"/>
                  </a:lnTo>
                  <a:lnTo>
                    <a:pt x="3765" y="1484"/>
                  </a:lnTo>
                  <a:lnTo>
                    <a:pt x="3749" y="1468"/>
                  </a:lnTo>
                  <a:moveTo>
                    <a:pt x="3857" y="1361"/>
                  </a:moveTo>
                  <a:lnTo>
                    <a:pt x="3782" y="1434"/>
                  </a:lnTo>
                  <a:lnTo>
                    <a:pt x="3798" y="1451"/>
                  </a:lnTo>
                  <a:lnTo>
                    <a:pt x="3874" y="1378"/>
                  </a:lnTo>
                  <a:lnTo>
                    <a:pt x="3857" y="1361"/>
                  </a:lnTo>
                  <a:moveTo>
                    <a:pt x="4269" y="950"/>
                  </a:moveTo>
                  <a:lnTo>
                    <a:pt x="3874" y="1345"/>
                  </a:lnTo>
                  <a:lnTo>
                    <a:pt x="3891" y="1361"/>
                  </a:lnTo>
                  <a:lnTo>
                    <a:pt x="4285" y="966"/>
                  </a:lnTo>
                  <a:lnTo>
                    <a:pt x="4269" y="950"/>
                  </a:lnTo>
                  <a:moveTo>
                    <a:pt x="4358" y="860"/>
                  </a:moveTo>
                  <a:lnTo>
                    <a:pt x="4285" y="933"/>
                  </a:lnTo>
                  <a:lnTo>
                    <a:pt x="4302" y="950"/>
                  </a:lnTo>
                  <a:lnTo>
                    <a:pt x="4375" y="877"/>
                  </a:lnTo>
                  <a:lnTo>
                    <a:pt x="4358" y="860"/>
                  </a:lnTo>
                  <a:moveTo>
                    <a:pt x="4465" y="751"/>
                  </a:moveTo>
                  <a:lnTo>
                    <a:pt x="4392" y="825"/>
                  </a:lnTo>
                  <a:lnTo>
                    <a:pt x="4408" y="841"/>
                  </a:lnTo>
                  <a:lnTo>
                    <a:pt x="4481" y="768"/>
                  </a:lnTo>
                  <a:lnTo>
                    <a:pt x="4465" y="751"/>
                  </a:lnTo>
                  <a:moveTo>
                    <a:pt x="4876" y="340"/>
                  </a:moveTo>
                  <a:lnTo>
                    <a:pt x="4481" y="735"/>
                  </a:lnTo>
                  <a:lnTo>
                    <a:pt x="4500" y="751"/>
                  </a:lnTo>
                  <a:lnTo>
                    <a:pt x="4893" y="357"/>
                  </a:lnTo>
                  <a:lnTo>
                    <a:pt x="4876" y="340"/>
                  </a:lnTo>
                  <a:moveTo>
                    <a:pt x="4968" y="250"/>
                  </a:moveTo>
                  <a:lnTo>
                    <a:pt x="4893" y="324"/>
                  </a:lnTo>
                  <a:lnTo>
                    <a:pt x="4909" y="340"/>
                  </a:lnTo>
                  <a:lnTo>
                    <a:pt x="4985" y="267"/>
                  </a:lnTo>
                  <a:lnTo>
                    <a:pt x="4968" y="250"/>
                  </a:lnTo>
                  <a:moveTo>
                    <a:pt x="5075" y="144"/>
                  </a:moveTo>
                  <a:lnTo>
                    <a:pt x="5001" y="217"/>
                  </a:lnTo>
                  <a:lnTo>
                    <a:pt x="5018" y="234"/>
                  </a:lnTo>
                  <a:lnTo>
                    <a:pt x="5091" y="160"/>
                  </a:lnTo>
                  <a:lnTo>
                    <a:pt x="5075" y="144"/>
                  </a:lnTo>
                  <a:moveTo>
                    <a:pt x="5219" y="0"/>
                  </a:moveTo>
                  <a:lnTo>
                    <a:pt x="5091" y="127"/>
                  </a:lnTo>
                  <a:lnTo>
                    <a:pt x="5108" y="144"/>
                  </a:lnTo>
                  <a:lnTo>
                    <a:pt x="5219" y="33"/>
                  </a:lnTo>
                  <a:lnTo>
                    <a:pt x="52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 rot="5400000">
              <a:off x="607680" y="1274760"/>
              <a:ext cx="4974480" cy="6191280"/>
            </a:xfrm>
            <a:custGeom>
              <a:avLst/>
              <a:gdLst>
                <a:gd name="textAreaLeft" fmla="*/ 0 w 4974480"/>
                <a:gd name="textAreaRight" fmla="*/ 4974840 w 4974480"/>
                <a:gd name="textAreaTop" fmla="*/ 0 h 6191280"/>
                <a:gd name="textAreaBottom" fmla="*/ 6191640 h 6191280"/>
              </a:gdLst>
              <a:ahLst/>
              <a:rect l="textAreaLeft" t="textAreaTop" r="textAreaRight" b="textAreaBottom"/>
              <a:pathLst>
                <a:path w="4001" h="3997">
                  <a:moveTo>
                    <a:pt x="2" y="3994"/>
                  </a:moveTo>
                  <a:lnTo>
                    <a:pt x="0" y="3997"/>
                  </a:lnTo>
                  <a:lnTo>
                    <a:pt x="4" y="3997"/>
                  </a:lnTo>
                  <a:lnTo>
                    <a:pt x="2" y="3994"/>
                  </a:lnTo>
                  <a:close/>
                  <a:moveTo>
                    <a:pt x="94" y="3902"/>
                  </a:moveTo>
                  <a:lnTo>
                    <a:pt x="18" y="3978"/>
                  </a:lnTo>
                  <a:lnTo>
                    <a:pt x="35" y="3994"/>
                  </a:lnTo>
                  <a:lnTo>
                    <a:pt x="111" y="3919"/>
                  </a:lnTo>
                  <a:lnTo>
                    <a:pt x="94" y="3902"/>
                  </a:lnTo>
                  <a:close/>
                  <a:moveTo>
                    <a:pt x="200" y="3796"/>
                  </a:moveTo>
                  <a:lnTo>
                    <a:pt x="127" y="3869"/>
                  </a:lnTo>
                  <a:lnTo>
                    <a:pt x="144" y="3886"/>
                  </a:lnTo>
                  <a:lnTo>
                    <a:pt x="217" y="3812"/>
                  </a:lnTo>
                  <a:lnTo>
                    <a:pt x="200" y="3796"/>
                  </a:lnTo>
                  <a:close/>
                  <a:moveTo>
                    <a:pt x="612" y="3385"/>
                  </a:moveTo>
                  <a:lnTo>
                    <a:pt x="217" y="3779"/>
                  </a:lnTo>
                  <a:lnTo>
                    <a:pt x="234" y="3796"/>
                  </a:lnTo>
                  <a:lnTo>
                    <a:pt x="628" y="3401"/>
                  </a:lnTo>
                  <a:lnTo>
                    <a:pt x="612" y="3385"/>
                  </a:lnTo>
                  <a:close/>
                  <a:moveTo>
                    <a:pt x="701" y="3295"/>
                  </a:moveTo>
                  <a:lnTo>
                    <a:pt x="628" y="3368"/>
                  </a:lnTo>
                  <a:lnTo>
                    <a:pt x="645" y="3385"/>
                  </a:lnTo>
                  <a:lnTo>
                    <a:pt x="720" y="3311"/>
                  </a:lnTo>
                  <a:lnTo>
                    <a:pt x="701" y="3295"/>
                  </a:lnTo>
                  <a:close/>
                  <a:moveTo>
                    <a:pt x="810" y="3186"/>
                  </a:moveTo>
                  <a:lnTo>
                    <a:pt x="737" y="3262"/>
                  </a:lnTo>
                  <a:lnTo>
                    <a:pt x="753" y="3278"/>
                  </a:lnTo>
                  <a:lnTo>
                    <a:pt x="827" y="3203"/>
                  </a:lnTo>
                  <a:lnTo>
                    <a:pt x="810" y="3186"/>
                  </a:lnTo>
                  <a:close/>
                  <a:moveTo>
                    <a:pt x="1221" y="2777"/>
                  </a:moveTo>
                  <a:lnTo>
                    <a:pt x="827" y="3169"/>
                  </a:lnTo>
                  <a:lnTo>
                    <a:pt x="843" y="3186"/>
                  </a:lnTo>
                  <a:lnTo>
                    <a:pt x="1238" y="2794"/>
                  </a:lnTo>
                  <a:lnTo>
                    <a:pt x="1221" y="2777"/>
                  </a:lnTo>
                  <a:close/>
                  <a:moveTo>
                    <a:pt x="1311" y="2685"/>
                  </a:moveTo>
                  <a:lnTo>
                    <a:pt x="1238" y="2761"/>
                  </a:lnTo>
                  <a:lnTo>
                    <a:pt x="1254" y="2777"/>
                  </a:lnTo>
                  <a:lnTo>
                    <a:pt x="1328" y="2702"/>
                  </a:lnTo>
                  <a:lnTo>
                    <a:pt x="1311" y="2685"/>
                  </a:lnTo>
                  <a:close/>
                  <a:moveTo>
                    <a:pt x="1420" y="2579"/>
                  </a:moveTo>
                  <a:lnTo>
                    <a:pt x="1344" y="2652"/>
                  </a:lnTo>
                  <a:lnTo>
                    <a:pt x="1361" y="2668"/>
                  </a:lnTo>
                  <a:lnTo>
                    <a:pt x="1436" y="2595"/>
                  </a:lnTo>
                  <a:lnTo>
                    <a:pt x="1420" y="2579"/>
                  </a:lnTo>
                  <a:close/>
                  <a:moveTo>
                    <a:pt x="1831" y="2167"/>
                  </a:moveTo>
                  <a:lnTo>
                    <a:pt x="1436" y="2562"/>
                  </a:lnTo>
                  <a:lnTo>
                    <a:pt x="1453" y="2579"/>
                  </a:lnTo>
                  <a:lnTo>
                    <a:pt x="1848" y="2184"/>
                  </a:lnTo>
                  <a:lnTo>
                    <a:pt x="1831" y="2167"/>
                  </a:lnTo>
                  <a:close/>
                  <a:moveTo>
                    <a:pt x="1921" y="2078"/>
                  </a:moveTo>
                  <a:lnTo>
                    <a:pt x="1848" y="2151"/>
                  </a:lnTo>
                  <a:lnTo>
                    <a:pt x="1864" y="2167"/>
                  </a:lnTo>
                  <a:lnTo>
                    <a:pt x="1938" y="2094"/>
                  </a:lnTo>
                  <a:lnTo>
                    <a:pt x="1921" y="2078"/>
                  </a:lnTo>
                  <a:close/>
                  <a:moveTo>
                    <a:pt x="2030" y="1969"/>
                  </a:moveTo>
                  <a:lnTo>
                    <a:pt x="1954" y="2044"/>
                  </a:lnTo>
                  <a:lnTo>
                    <a:pt x="1971" y="2061"/>
                  </a:lnTo>
                  <a:lnTo>
                    <a:pt x="2046" y="1985"/>
                  </a:lnTo>
                  <a:lnTo>
                    <a:pt x="2030" y="1969"/>
                  </a:lnTo>
                  <a:close/>
                  <a:moveTo>
                    <a:pt x="2439" y="1560"/>
                  </a:moveTo>
                  <a:lnTo>
                    <a:pt x="2046" y="1952"/>
                  </a:lnTo>
                  <a:lnTo>
                    <a:pt x="2063" y="1969"/>
                  </a:lnTo>
                  <a:lnTo>
                    <a:pt x="2457" y="1576"/>
                  </a:lnTo>
                  <a:lnTo>
                    <a:pt x="2439" y="1560"/>
                  </a:lnTo>
                  <a:close/>
                  <a:moveTo>
                    <a:pt x="2531" y="1468"/>
                  </a:moveTo>
                  <a:lnTo>
                    <a:pt x="2457" y="1543"/>
                  </a:lnTo>
                  <a:lnTo>
                    <a:pt x="2474" y="1560"/>
                  </a:lnTo>
                  <a:lnTo>
                    <a:pt x="2547" y="1484"/>
                  </a:lnTo>
                  <a:lnTo>
                    <a:pt x="2531" y="1468"/>
                  </a:lnTo>
                  <a:close/>
                  <a:moveTo>
                    <a:pt x="2637" y="1361"/>
                  </a:moveTo>
                  <a:lnTo>
                    <a:pt x="2564" y="1435"/>
                  </a:lnTo>
                  <a:lnTo>
                    <a:pt x="2580" y="1451"/>
                  </a:lnTo>
                  <a:lnTo>
                    <a:pt x="2654" y="1378"/>
                  </a:lnTo>
                  <a:lnTo>
                    <a:pt x="2637" y="1361"/>
                  </a:lnTo>
                  <a:close/>
                  <a:moveTo>
                    <a:pt x="3048" y="950"/>
                  </a:moveTo>
                  <a:lnTo>
                    <a:pt x="2654" y="1345"/>
                  </a:lnTo>
                  <a:lnTo>
                    <a:pt x="2670" y="1361"/>
                  </a:lnTo>
                  <a:lnTo>
                    <a:pt x="3065" y="967"/>
                  </a:lnTo>
                  <a:lnTo>
                    <a:pt x="3048" y="950"/>
                  </a:lnTo>
                  <a:close/>
                  <a:moveTo>
                    <a:pt x="3140" y="860"/>
                  </a:moveTo>
                  <a:lnTo>
                    <a:pt x="3065" y="934"/>
                  </a:lnTo>
                  <a:lnTo>
                    <a:pt x="3081" y="950"/>
                  </a:lnTo>
                  <a:lnTo>
                    <a:pt x="3157" y="877"/>
                  </a:lnTo>
                  <a:lnTo>
                    <a:pt x="3140" y="860"/>
                  </a:lnTo>
                  <a:close/>
                  <a:moveTo>
                    <a:pt x="3247" y="752"/>
                  </a:moveTo>
                  <a:lnTo>
                    <a:pt x="3174" y="827"/>
                  </a:lnTo>
                  <a:lnTo>
                    <a:pt x="3190" y="844"/>
                  </a:lnTo>
                  <a:lnTo>
                    <a:pt x="3263" y="768"/>
                  </a:lnTo>
                  <a:lnTo>
                    <a:pt x="3247" y="752"/>
                  </a:lnTo>
                  <a:close/>
                  <a:moveTo>
                    <a:pt x="3658" y="343"/>
                  </a:moveTo>
                  <a:lnTo>
                    <a:pt x="3263" y="735"/>
                  </a:lnTo>
                  <a:lnTo>
                    <a:pt x="3280" y="752"/>
                  </a:lnTo>
                  <a:lnTo>
                    <a:pt x="3675" y="359"/>
                  </a:lnTo>
                  <a:lnTo>
                    <a:pt x="3658" y="343"/>
                  </a:lnTo>
                  <a:close/>
                  <a:moveTo>
                    <a:pt x="3748" y="251"/>
                  </a:moveTo>
                  <a:lnTo>
                    <a:pt x="3675" y="326"/>
                  </a:lnTo>
                  <a:lnTo>
                    <a:pt x="3691" y="343"/>
                  </a:lnTo>
                  <a:lnTo>
                    <a:pt x="3767" y="267"/>
                  </a:lnTo>
                  <a:lnTo>
                    <a:pt x="3748" y="251"/>
                  </a:lnTo>
                  <a:close/>
                  <a:moveTo>
                    <a:pt x="3857" y="144"/>
                  </a:moveTo>
                  <a:lnTo>
                    <a:pt x="3783" y="217"/>
                  </a:lnTo>
                  <a:lnTo>
                    <a:pt x="3800" y="234"/>
                  </a:lnTo>
                  <a:lnTo>
                    <a:pt x="3873" y="161"/>
                  </a:lnTo>
                  <a:lnTo>
                    <a:pt x="3857" y="144"/>
                  </a:lnTo>
                  <a:close/>
                  <a:moveTo>
                    <a:pt x="4001" y="0"/>
                  </a:moveTo>
                  <a:lnTo>
                    <a:pt x="3873" y="128"/>
                  </a:lnTo>
                  <a:lnTo>
                    <a:pt x="3890" y="144"/>
                  </a:lnTo>
                  <a:lnTo>
                    <a:pt x="4001" y="33"/>
                  </a:lnTo>
                  <a:lnTo>
                    <a:pt x="4001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 rot="5400000">
              <a:off x="607680" y="1274760"/>
              <a:ext cx="4974480" cy="6191280"/>
            </a:xfrm>
            <a:custGeom>
              <a:avLst/>
              <a:gdLst>
                <a:gd name="textAreaLeft" fmla="*/ 0 w 4974480"/>
                <a:gd name="textAreaRight" fmla="*/ 4974840 w 4974480"/>
                <a:gd name="textAreaTop" fmla="*/ 0 h 6191280"/>
                <a:gd name="textAreaBottom" fmla="*/ 6191640 h 6191280"/>
              </a:gdLst>
              <a:ahLst/>
              <a:rect l="textAreaLeft" t="textAreaTop" r="textAreaRight" b="textAreaBottom"/>
              <a:pathLst>
                <a:path w="4001" h="3997">
                  <a:moveTo>
                    <a:pt x="2" y="3994"/>
                  </a:moveTo>
                  <a:lnTo>
                    <a:pt x="0" y="3997"/>
                  </a:lnTo>
                  <a:lnTo>
                    <a:pt x="4" y="3997"/>
                  </a:lnTo>
                  <a:lnTo>
                    <a:pt x="2" y="3994"/>
                  </a:lnTo>
                  <a:moveTo>
                    <a:pt x="94" y="3902"/>
                  </a:moveTo>
                  <a:lnTo>
                    <a:pt x="18" y="3978"/>
                  </a:lnTo>
                  <a:lnTo>
                    <a:pt x="35" y="3994"/>
                  </a:lnTo>
                  <a:lnTo>
                    <a:pt x="111" y="3919"/>
                  </a:lnTo>
                  <a:lnTo>
                    <a:pt x="94" y="3902"/>
                  </a:lnTo>
                  <a:moveTo>
                    <a:pt x="200" y="3796"/>
                  </a:moveTo>
                  <a:lnTo>
                    <a:pt x="127" y="3869"/>
                  </a:lnTo>
                  <a:lnTo>
                    <a:pt x="144" y="3886"/>
                  </a:lnTo>
                  <a:lnTo>
                    <a:pt x="217" y="3812"/>
                  </a:lnTo>
                  <a:lnTo>
                    <a:pt x="200" y="3796"/>
                  </a:lnTo>
                  <a:moveTo>
                    <a:pt x="612" y="3385"/>
                  </a:moveTo>
                  <a:lnTo>
                    <a:pt x="217" y="3779"/>
                  </a:lnTo>
                  <a:lnTo>
                    <a:pt x="234" y="3796"/>
                  </a:lnTo>
                  <a:lnTo>
                    <a:pt x="628" y="3401"/>
                  </a:lnTo>
                  <a:lnTo>
                    <a:pt x="612" y="3385"/>
                  </a:lnTo>
                  <a:moveTo>
                    <a:pt x="701" y="3295"/>
                  </a:moveTo>
                  <a:lnTo>
                    <a:pt x="628" y="3368"/>
                  </a:lnTo>
                  <a:lnTo>
                    <a:pt x="645" y="3385"/>
                  </a:lnTo>
                  <a:lnTo>
                    <a:pt x="720" y="3311"/>
                  </a:lnTo>
                  <a:lnTo>
                    <a:pt x="701" y="3295"/>
                  </a:lnTo>
                  <a:moveTo>
                    <a:pt x="810" y="3186"/>
                  </a:moveTo>
                  <a:lnTo>
                    <a:pt x="737" y="3262"/>
                  </a:lnTo>
                  <a:lnTo>
                    <a:pt x="753" y="3278"/>
                  </a:lnTo>
                  <a:lnTo>
                    <a:pt x="827" y="3203"/>
                  </a:lnTo>
                  <a:lnTo>
                    <a:pt x="810" y="3186"/>
                  </a:lnTo>
                  <a:moveTo>
                    <a:pt x="1221" y="2777"/>
                  </a:moveTo>
                  <a:lnTo>
                    <a:pt x="827" y="3169"/>
                  </a:lnTo>
                  <a:lnTo>
                    <a:pt x="843" y="3186"/>
                  </a:lnTo>
                  <a:lnTo>
                    <a:pt x="1238" y="2794"/>
                  </a:lnTo>
                  <a:lnTo>
                    <a:pt x="1221" y="2777"/>
                  </a:lnTo>
                  <a:moveTo>
                    <a:pt x="1311" y="2685"/>
                  </a:moveTo>
                  <a:lnTo>
                    <a:pt x="1238" y="2761"/>
                  </a:lnTo>
                  <a:lnTo>
                    <a:pt x="1254" y="2777"/>
                  </a:lnTo>
                  <a:lnTo>
                    <a:pt x="1328" y="2702"/>
                  </a:lnTo>
                  <a:lnTo>
                    <a:pt x="1311" y="2685"/>
                  </a:lnTo>
                  <a:moveTo>
                    <a:pt x="1420" y="2579"/>
                  </a:moveTo>
                  <a:lnTo>
                    <a:pt x="1344" y="2652"/>
                  </a:lnTo>
                  <a:lnTo>
                    <a:pt x="1361" y="2668"/>
                  </a:lnTo>
                  <a:lnTo>
                    <a:pt x="1436" y="2595"/>
                  </a:lnTo>
                  <a:lnTo>
                    <a:pt x="1420" y="2579"/>
                  </a:lnTo>
                  <a:moveTo>
                    <a:pt x="1831" y="2167"/>
                  </a:moveTo>
                  <a:lnTo>
                    <a:pt x="1436" y="2562"/>
                  </a:lnTo>
                  <a:lnTo>
                    <a:pt x="1453" y="2579"/>
                  </a:lnTo>
                  <a:lnTo>
                    <a:pt x="1848" y="2184"/>
                  </a:lnTo>
                  <a:lnTo>
                    <a:pt x="1831" y="2167"/>
                  </a:lnTo>
                  <a:moveTo>
                    <a:pt x="1921" y="2078"/>
                  </a:moveTo>
                  <a:lnTo>
                    <a:pt x="1848" y="2151"/>
                  </a:lnTo>
                  <a:lnTo>
                    <a:pt x="1864" y="2167"/>
                  </a:lnTo>
                  <a:lnTo>
                    <a:pt x="1938" y="2094"/>
                  </a:lnTo>
                  <a:lnTo>
                    <a:pt x="1921" y="2078"/>
                  </a:lnTo>
                  <a:moveTo>
                    <a:pt x="2030" y="1969"/>
                  </a:moveTo>
                  <a:lnTo>
                    <a:pt x="1954" y="2044"/>
                  </a:lnTo>
                  <a:lnTo>
                    <a:pt x="1971" y="2061"/>
                  </a:lnTo>
                  <a:lnTo>
                    <a:pt x="2046" y="1985"/>
                  </a:lnTo>
                  <a:lnTo>
                    <a:pt x="2030" y="1969"/>
                  </a:lnTo>
                  <a:moveTo>
                    <a:pt x="2439" y="1560"/>
                  </a:moveTo>
                  <a:lnTo>
                    <a:pt x="2046" y="1952"/>
                  </a:lnTo>
                  <a:lnTo>
                    <a:pt x="2063" y="1969"/>
                  </a:lnTo>
                  <a:lnTo>
                    <a:pt x="2457" y="1576"/>
                  </a:lnTo>
                  <a:lnTo>
                    <a:pt x="2439" y="1560"/>
                  </a:lnTo>
                  <a:moveTo>
                    <a:pt x="2531" y="1468"/>
                  </a:moveTo>
                  <a:lnTo>
                    <a:pt x="2457" y="1543"/>
                  </a:lnTo>
                  <a:lnTo>
                    <a:pt x="2474" y="1560"/>
                  </a:lnTo>
                  <a:lnTo>
                    <a:pt x="2547" y="1484"/>
                  </a:lnTo>
                  <a:lnTo>
                    <a:pt x="2531" y="1468"/>
                  </a:lnTo>
                  <a:moveTo>
                    <a:pt x="2637" y="1361"/>
                  </a:moveTo>
                  <a:lnTo>
                    <a:pt x="2564" y="1435"/>
                  </a:lnTo>
                  <a:lnTo>
                    <a:pt x="2580" y="1451"/>
                  </a:lnTo>
                  <a:lnTo>
                    <a:pt x="2654" y="1378"/>
                  </a:lnTo>
                  <a:lnTo>
                    <a:pt x="2637" y="1361"/>
                  </a:lnTo>
                  <a:moveTo>
                    <a:pt x="3048" y="950"/>
                  </a:moveTo>
                  <a:lnTo>
                    <a:pt x="2654" y="1345"/>
                  </a:lnTo>
                  <a:lnTo>
                    <a:pt x="2670" y="1361"/>
                  </a:lnTo>
                  <a:lnTo>
                    <a:pt x="3065" y="967"/>
                  </a:lnTo>
                  <a:lnTo>
                    <a:pt x="3048" y="950"/>
                  </a:lnTo>
                  <a:moveTo>
                    <a:pt x="3140" y="860"/>
                  </a:moveTo>
                  <a:lnTo>
                    <a:pt x="3065" y="934"/>
                  </a:lnTo>
                  <a:lnTo>
                    <a:pt x="3081" y="950"/>
                  </a:lnTo>
                  <a:lnTo>
                    <a:pt x="3157" y="877"/>
                  </a:lnTo>
                  <a:lnTo>
                    <a:pt x="3140" y="860"/>
                  </a:lnTo>
                  <a:moveTo>
                    <a:pt x="3247" y="752"/>
                  </a:moveTo>
                  <a:lnTo>
                    <a:pt x="3174" y="827"/>
                  </a:lnTo>
                  <a:lnTo>
                    <a:pt x="3190" y="844"/>
                  </a:lnTo>
                  <a:lnTo>
                    <a:pt x="3263" y="768"/>
                  </a:lnTo>
                  <a:lnTo>
                    <a:pt x="3247" y="752"/>
                  </a:lnTo>
                  <a:moveTo>
                    <a:pt x="3658" y="343"/>
                  </a:moveTo>
                  <a:lnTo>
                    <a:pt x="3263" y="735"/>
                  </a:lnTo>
                  <a:lnTo>
                    <a:pt x="3280" y="752"/>
                  </a:lnTo>
                  <a:lnTo>
                    <a:pt x="3675" y="359"/>
                  </a:lnTo>
                  <a:lnTo>
                    <a:pt x="3658" y="343"/>
                  </a:lnTo>
                  <a:moveTo>
                    <a:pt x="3748" y="251"/>
                  </a:moveTo>
                  <a:lnTo>
                    <a:pt x="3675" y="326"/>
                  </a:lnTo>
                  <a:lnTo>
                    <a:pt x="3691" y="343"/>
                  </a:lnTo>
                  <a:lnTo>
                    <a:pt x="3767" y="267"/>
                  </a:lnTo>
                  <a:lnTo>
                    <a:pt x="3748" y="251"/>
                  </a:lnTo>
                  <a:moveTo>
                    <a:pt x="3857" y="144"/>
                  </a:moveTo>
                  <a:lnTo>
                    <a:pt x="3783" y="217"/>
                  </a:lnTo>
                  <a:lnTo>
                    <a:pt x="3800" y="234"/>
                  </a:lnTo>
                  <a:lnTo>
                    <a:pt x="3873" y="161"/>
                  </a:lnTo>
                  <a:lnTo>
                    <a:pt x="3857" y="144"/>
                  </a:lnTo>
                  <a:moveTo>
                    <a:pt x="4001" y="0"/>
                  </a:moveTo>
                  <a:lnTo>
                    <a:pt x="3873" y="128"/>
                  </a:lnTo>
                  <a:lnTo>
                    <a:pt x="3890" y="144"/>
                  </a:lnTo>
                  <a:lnTo>
                    <a:pt x="4001" y="33"/>
                  </a:lnTo>
                  <a:lnTo>
                    <a:pt x="40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 rot="5400000">
              <a:off x="423360" y="2975400"/>
              <a:ext cx="3458880" cy="430632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4306320"/>
                <a:gd name="textAreaBottom" fmla="*/ 4306680 h 4306320"/>
              </a:gdLst>
              <a:ahLst/>
              <a:rect l="textAreaLeft" t="textAreaTop" r="textAreaRight" b="textAreaBottom"/>
              <a:pathLst>
                <a:path w="2782" h="2780">
                  <a:moveTo>
                    <a:pt x="2" y="2777"/>
                  </a:moveTo>
                  <a:lnTo>
                    <a:pt x="0" y="2780"/>
                  </a:lnTo>
                  <a:lnTo>
                    <a:pt x="2" y="2780"/>
                  </a:lnTo>
                  <a:lnTo>
                    <a:pt x="2" y="2777"/>
                  </a:lnTo>
                  <a:close/>
                  <a:moveTo>
                    <a:pt x="92" y="2688"/>
                  </a:moveTo>
                  <a:lnTo>
                    <a:pt x="19" y="2761"/>
                  </a:lnTo>
                  <a:lnTo>
                    <a:pt x="35" y="2777"/>
                  </a:lnTo>
                  <a:lnTo>
                    <a:pt x="109" y="2704"/>
                  </a:lnTo>
                  <a:lnTo>
                    <a:pt x="92" y="2688"/>
                  </a:lnTo>
                  <a:close/>
                  <a:moveTo>
                    <a:pt x="199" y="2579"/>
                  </a:moveTo>
                  <a:lnTo>
                    <a:pt x="125" y="2652"/>
                  </a:lnTo>
                  <a:lnTo>
                    <a:pt x="142" y="2669"/>
                  </a:lnTo>
                  <a:lnTo>
                    <a:pt x="217" y="2595"/>
                  </a:lnTo>
                  <a:lnTo>
                    <a:pt x="199" y="2579"/>
                  </a:lnTo>
                  <a:close/>
                  <a:moveTo>
                    <a:pt x="610" y="2168"/>
                  </a:moveTo>
                  <a:lnTo>
                    <a:pt x="217" y="2562"/>
                  </a:lnTo>
                  <a:lnTo>
                    <a:pt x="234" y="2579"/>
                  </a:lnTo>
                  <a:lnTo>
                    <a:pt x="626" y="2184"/>
                  </a:lnTo>
                  <a:lnTo>
                    <a:pt x="610" y="2168"/>
                  </a:lnTo>
                  <a:close/>
                  <a:moveTo>
                    <a:pt x="702" y="2078"/>
                  </a:moveTo>
                  <a:lnTo>
                    <a:pt x="626" y="2151"/>
                  </a:lnTo>
                  <a:lnTo>
                    <a:pt x="645" y="2168"/>
                  </a:lnTo>
                  <a:lnTo>
                    <a:pt x="719" y="2094"/>
                  </a:lnTo>
                  <a:lnTo>
                    <a:pt x="702" y="2078"/>
                  </a:lnTo>
                  <a:close/>
                  <a:moveTo>
                    <a:pt x="808" y="1971"/>
                  </a:moveTo>
                  <a:lnTo>
                    <a:pt x="735" y="2045"/>
                  </a:lnTo>
                  <a:lnTo>
                    <a:pt x="752" y="2061"/>
                  </a:lnTo>
                  <a:lnTo>
                    <a:pt x="825" y="1988"/>
                  </a:lnTo>
                  <a:lnTo>
                    <a:pt x="808" y="1971"/>
                  </a:lnTo>
                  <a:close/>
                  <a:moveTo>
                    <a:pt x="1220" y="1560"/>
                  </a:moveTo>
                  <a:lnTo>
                    <a:pt x="825" y="1955"/>
                  </a:lnTo>
                  <a:lnTo>
                    <a:pt x="841" y="1971"/>
                  </a:lnTo>
                  <a:lnTo>
                    <a:pt x="1236" y="1577"/>
                  </a:lnTo>
                  <a:lnTo>
                    <a:pt x="1220" y="1560"/>
                  </a:lnTo>
                  <a:close/>
                  <a:moveTo>
                    <a:pt x="1312" y="1470"/>
                  </a:moveTo>
                  <a:lnTo>
                    <a:pt x="1236" y="1544"/>
                  </a:lnTo>
                  <a:lnTo>
                    <a:pt x="1253" y="1560"/>
                  </a:lnTo>
                  <a:lnTo>
                    <a:pt x="1328" y="1487"/>
                  </a:lnTo>
                  <a:lnTo>
                    <a:pt x="1312" y="1470"/>
                  </a:lnTo>
                  <a:close/>
                  <a:moveTo>
                    <a:pt x="1418" y="1362"/>
                  </a:moveTo>
                  <a:lnTo>
                    <a:pt x="1345" y="1435"/>
                  </a:lnTo>
                  <a:lnTo>
                    <a:pt x="1361" y="1451"/>
                  </a:lnTo>
                  <a:lnTo>
                    <a:pt x="1435" y="1378"/>
                  </a:lnTo>
                  <a:lnTo>
                    <a:pt x="1418" y="1362"/>
                  </a:lnTo>
                  <a:close/>
                  <a:moveTo>
                    <a:pt x="1829" y="950"/>
                  </a:moveTo>
                  <a:lnTo>
                    <a:pt x="1435" y="1345"/>
                  </a:lnTo>
                  <a:lnTo>
                    <a:pt x="1451" y="1362"/>
                  </a:lnTo>
                  <a:lnTo>
                    <a:pt x="1846" y="967"/>
                  </a:lnTo>
                  <a:lnTo>
                    <a:pt x="1829" y="950"/>
                  </a:lnTo>
                  <a:close/>
                  <a:moveTo>
                    <a:pt x="1919" y="861"/>
                  </a:moveTo>
                  <a:lnTo>
                    <a:pt x="1846" y="934"/>
                  </a:lnTo>
                  <a:lnTo>
                    <a:pt x="1862" y="950"/>
                  </a:lnTo>
                  <a:lnTo>
                    <a:pt x="1936" y="877"/>
                  </a:lnTo>
                  <a:lnTo>
                    <a:pt x="1919" y="861"/>
                  </a:lnTo>
                  <a:close/>
                  <a:moveTo>
                    <a:pt x="2028" y="754"/>
                  </a:moveTo>
                  <a:lnTo>
                    <a:pt x="1955" y="827"/>
                  </a:lnTo>
                  <a:lnTo>
                    <a:pt x="1971" y="844"/>
                  </a:lnTo>
                  <a:lnTo>
                    <a:pt x="2044" y="771"/>
                  </a:lnTo>
                  <a:lnTo>
                    <a:pt x="2028" y="754"/>
                  </a:lnTo>
                  <a:close/>
                  <a:moveTo>
                    <a:pt x="2439" y="343"/>
                  </a:moveTo>
                  <a:lnTo>
                    <a:pt x="2044" y="738"/>
                  </a:lnTo>
                  <a:lnTo>
                    <a:pt x="2061" y="754"/>
                  </a:lnTo>
                  <a:lnTo>
                    <a:pt x="2456" y="359"/>
                  </a:lnTo>
                  <a:lnTo>
                    <a:pt x="2439" y="343"/>
                  </a:lnTo>
                  <a:close/>
                  <a:moveTo>
                    <a:pt x="2529" y="253"/>
                  </a:moveTo>
                  <a:lnTo>
                    <a:pt x="2456" y="326"/>
                  </a:lnTo>
                  <a:lnTo>
                    <a:pt x="2472" y="343"/>
                  </a:lnTo>
                  <a:lnTo>
                    <a:pt x="2545" y="270"/>
                  </a:lnTo>
                  <a:lnTo>
                    <a:pt x="2529" y="253"/>
                  </a:lnTo>
                  <a:close/>
                  <a:moveTo>
                    <a:pt x="2638" y="144"/>
                  </a:moveTo>
                  <a:lnTo>
                    <a:pt x="2562" y="218"/>
                  </a:lnTo>
                  <a:lnTo>
                    <a:pt x="2578" y="237"/>
                  </a:lnTo>
                  <a:lnTo>
                    <a:pt x="2654" y="161"/>
                  </a:lnTo>
                  <a:lnTo>
                    <a:pt x="2638" y="144"/>
                  </a:lnTo>
                  <a:close/>
                  <a:moveTo>
                    <a:pt x="2782" y="0"/>
                  </a:moveTo>
                  <a:lnTo>
                    <a:pt x="2654" y="128"/>
                  </a:lnTo>
                  <a:lnTo>
                    <a:pt x="2671" y="144"/>
                  </a:lnTo>
                  <a:lnTo>
                    <a:pt x="2782" y="33"/>
                  </a:lnTo>
                  <a:lnTo>
                    <a:pt x="2782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 rot="5400000">
              <a:off x="423360" y="2975400"/>
              <a:ext cx="3458880" cy="430632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4306320"/>
                <a:gd name="textAreaBottom" fmla="*/ 4306680 h 4306320"/>
              </a:gdLst>
              <a:ahLst/>
              <a:rect l="textAreaLeft" t="textAreaTop" r="textAreaRight" b="textAreaBottom"/>
              <a:pathLst>
                <a:path w="2782" h="2780">
                  <a:moveTo>
                    <a:pt x="2" y="2777"/>
                  </a:moveTo>
                  <a:lnTo>
                    <a:pt x="0" y="2780"/>
                  </a:lnTo>
                  <a:lnTo>
                    <a:pt x="2" y="2780"/>
                  </a:lnTo>
                  <a:lnTo>
                    <a:pt x="2" y="2777"/>
                  </a:lnTo>
                  <a:moveTo>
                    <a:pt x="92" y="2688"/>
                  </a:moveTo>
                  <a:lnTo>
                    <a:pt x="19" y="2761"/>
                  </a:lnTo>
                  <a:lnTo>
                    <a:pt x="35" y="2777"/>
                  </a:lnTo>
                  <a:lnTo>
                    <a:pt x="109" y="2704"/>
                  </a:lnTo>
                  <a:lnTo>
                    <a:pt x="92" y="2688"/>
                  </a:lnTo>
                  <a:moveTo>
                    <a:pt x="199" y="2579"/>
                  </a:moveTo>
                  <a:lnTo>
                    <a:pt x="125" y="2652"/>
                  </a:lnTo>
                  <a:lnTo>
                    <a:pt x="142" y="2669"/>
                  </a:lnTo>
                  <a:lnTo>
                    <a:pt x="217" y="2595"/>
                  </a:lnTo>
                  <a:lnTo>
                    <a:pt x="199" y="2579"/>
                  </a:lnTo>
                  <a:moveTo>
                    <a:pt x="610" y="2168"/>
                  </a:moveTo>
                  <a:lnTo>
                    <a:pt x="217" y="2562"/>
                  </a:lnTo>
                  <a:lnTo>
                    <a:pt x="234" y="2579"/>
                  </a:lnTo>
                  <a:lnTo>
                    <a:pt x="626" y="2184"/>
                  </a:lnTo>
                  <a:lnTo>
                    <a:pt x="610" y="2168"/>
                  </a:lnTo>
                  <a:moveTo>
                    <a:pt x="702" y="2078"/>
                  </a:moveTo>
                  <a:lnTo>
                    <a:pt x="626" y="2151"/>
                  </a:lnTo>
                  <a:lnTo>
                    <a:pt x="645" y="2168"/>
                  </a:lnTo>
                  <a:lnTo>
                    <a:pt x="719" y="2094"/>
                  </a:lnTo>
                  <a:lnTo>
                    <a:pt x="702" y="2078"/>
                  </a:lnTo>
                  <a:moveTo>
                    <a:pt x="808" y="1971"/>
                  </a:moveTo>
                  <a:lnTo>
                    <a:pt x="735" y="2045"/>
                  </a:lnTo>
                  <a:lnTo>
                    <a:pt x="752" y="2061"/>
                  </a:lnTo>
                  <a:lnTo>
                    <a:pt x="825" y="1988"/>
                  </a:lnTo>
                  <a:lnTo>
                    <a:pt x="808" y="1971"/>
                  </a:lnTo>
                  <a:moveTo>
                    <a:pt x="1220" y="1560"/>
                  </a:moveTo>
                  <a:lnTo>
                    <a:pt x="825" y="1955"/>
                  </a:lnTo>
                  <a:lnTo>
                    <a:pt x="841" y="1971"/>
                  </a:lnTo>
                  <a:lnTo>
                    <a:pt x="1236" y="1577"/>
                  </a:lnTo>
                  <a:lnTo>
                    <a:pt x="1220" y="1560"/>
                  </a:lnTo>
                  <a:moveTo>
                    <a:pt x="1312" y="1470"/>
                  </a:moveTo>
                  <a:lnTo>
                    <a:pt x="1236" y="1544"/>
                  </a:lnTo>
                  <a:lnTo>
                    <a:pt x="1253" y="1560"/>
                  </a:lnTo>
                  <a:lnTo>
                    <a:pt x="1328" y="1487"/>
                  </a:lnTo>
                  <a:lnTo>
                    <a:pt x="1312" y="1470"/>
                  </a:lnTo>
                  <a:moveTo>
                    <a:pt x="1418" y="1362"/>
                  </a:moveTo>
                  <a:lnTo>
                    <a:pt x="1345" y="1435"/>
                  </a:lnTo>
                  <a:lnTo>
                    <a:pt x="1361" y="1451"/>
                  </a:lnTo>
                  <a:lnTo>
                    <a:pt x="1435" y="1378"/>
                  </a:lnTo>
                  <a:lnTo>
                    <a:pt x="1418" y="1362"/>
                  </a:lnTo>
                  <a:moveTo>
                    <a:pt x="1829" y="950"/>
                  </a:moveTo>
                  <a:lnTo>
                    <a:pt x="1435" y="1345"/>
                  </a:lnTo>
                  <a:lnTo>
                    <a:pt x="1451" y="1362"/>
                  </a:lnTo>
                  <a:lnTo>
                    <a:pt x="1846" y="967"/>
                  </a:lnTo>
                  <a:lnTo>
                    <a:pt x="1829" y="950"/>
                  </a:lnTo>
                  <a:moveTo>
                    <a:pt x="1919" y="861"/>
                  </a:moveTo>
                  <a:lnTo>
                    <a:pt x="1846" y="934"/>
                  </a:lnTo>
                  <a:lnTo>
                    <a:pt x="1862" y="950"/>
                  </a:lnTo>
                  <a:lnTo>
                    <a:pt x="1936" y="877"/>
                  </a:lnTo>
                  <a:lnTo>
                    <a:pt x="1919" y="861"/>
                  </a:lnTo>
                  <a:moveTo>
                    <a:pt x="2028" y="754"/>
                  </a:moveTo>
                  <a:lnTo>
                    <a:pt x="1955" y="827"/>
                  </a:lnTo>
                  <a:lnTo>
                    <a:pt x="1971" y="844"/>
                  </a:lnTo>
                  <a:lnTo>
                    <a:pt x="2044" y="771"/>
                  </a:lnTo>
                  <a:lnTo>
                    <a:pt x="2028" y="754"/>
                  </a:lnTo>
                  <a:moveTo>
                    <a:pt x="2439" y="343"/>
                  </a:moveTo>
                  <a:lnTo>
                    <a:pt x="2044" y="738"/>
                  </a:lnTo>
                  <a:lnTo>
                    <a:pt x="2061" y="754"/>
                  </a:lnTo>
                  <a:lnTo>
                    <a:pt x="2456" y="359"/>
                  </a:lnTo>
                  <a:lnTo>
                    <a:pt x="2439" y="343"/>
                  </a:lnTo>
                  <a:moveTo>
                    <a:pt x="2529" y="253"/>
                  </a:moveTo>
                  <a:lnTo>
                    <a:pt x="2456" y="326"/>
                  </a:lnTo>
                  <a:lnTo>
                    <a:pt x="2472" y="343"/>
                  </a:lnTo>
                  <a:lnTo>
                    <a:pt x="2545" y="270"/>
                  </a:lnTo>
                  <a:lnTo>
                    <a:pt x="2529" y="253"/>
                  </a:lnTo>
                  <a:moveTo>
                    <a:pt x="2638" y="144"/>
                  </a:moveTo>
                  <a:lnTo>
                    <a:pt x="2562" y="218"/>
                  </a:lnTo>
                  <a:lnTo>
                    <a:pt x="2578" y="237"/>
                  </a:lnTo>
                  <a:lnTo>
                    <a:pt x="2654" y="161"/>
                  </a:lnTo>
                  <a:lnTo>
                    <a:pt x="2638" y="144"/>
                  </a:lnTo>
                  <a:moveTo>
                    <a:pt x="2782" y="0"/>
                  </a:moveTo>
                  <a:lnTo>
                    <a:pt x="2654" y="128"/>
                  </a:lnTo>
                  <a:lnTo>
                    <a:pt x="2671" y="144"/>
                  </a:lnTo>
                  <a:lnTo>
                    <a:pt x="2782" y="33"/>
                  </a:lnTo>
                  <a:lnTo>
                    <a:pt x="278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 rot="5400000">
              <a:off x="237240" y="4674600"/>
              <a:ext cx="1945800" cy="2421000"/>
            </a:xfrm>
            <a:custGeom>
              <a:avLst/>
              <a:gdLst>
                <a:gd name="textAreaLeft" fmla="*/ 0 w 1945800"/>
                <a:gd name="textAreaRight" fmla="*/ 1946160 w 1945800"/>
                <a:gd name="textAreaTop" fmla="*/ 0 h 2421000"/>
                <a:gd name="textAreaBottom" fmla="*/ 2421360 h 2421000"/>
              </a:gdLst>
              <a:ahLst/>
              <a:rect l="textAreaLeft" t="textAreaTop" r="textAreaRight" b="textAreaBottom"/>
              <a:pathLst>
                <a:path w="1565" h="1563">
                  <a:moveTo>
                    <a:pt x="3" y="1560"/>
                  </a:moveTo>
                  <a:lnTo>
                    <a:pt x="0" y="1563"/>
                  </a:lnTo>
                  <a:lnTo>
                    <a:pt x="5" y="1563"/>
                  </a:lnTo>
                  <a:lnTo>
                    <a:pt x="3" y="1560"/>
                  </a:lnTo>
                  <a:close/>
                  <a:moveTo>
                    <a:pt x="92" y="1471"/>
                  </a:moveTo>
                  <a:lnTo>
                    <a:pt x="19" y="1544"/>
                  </a:lnTo>
                  <a:lnTo>
                    <a:pt x="36" y="1560"/>
                  </a:lnTo>
                  <a:lnTo>
                    <a:pt x="109" y="1487"/>
                  </a:lnTo>
                  <a:lnTo>
                    <a:pt x="92" y="1471"/>
                  </a:lnTo>
                  <a:close/>
                  <a:moveTo>
                    <a:pt x="201" y="1362"/>
                  </a:moveTo>
                  <a:lnTo>
                    <a:pt x="125" y="1437"/>
                  </a:lnTo>
                  <a:lnTo>
                    <a:pt x="144" y="1454"/>
                  </a:lnTo>
                  <a:lnTo>
                    <a:pt x="218" y="1378"/>
                  </a:lnTo>
                  <a:lnTo>
                    <a:pt x="201" y="1362"/>
                  </a:lnTo>
                  <a:close/>
                  <a:moveTo>
                    <a:pt x="612" y="953"/>
                  </a:moveTo>
                  <a:lnTo>
                    <a:pt x="218" y="1345"/>
                  </a:lnTo>
                  <a:lnTo>
                    <a:pt x="234" y="1362"/>
                  </a:lnTo>
                  <a:lnTo>
                    <a:pt x="629" y="969"/>
                  </a:lnTo>
                  <a:lnTo>
                    <a:pt x="612" y="953"/>
                  </a:lnTo>
                  <a:close/>
                  <a:moveTo>
                    <a:pt x="702" y="861"/>
                  </a:moveTo>
                  <a:lnTo>
                    <a:pt x="629" y="936"/>
                  </a:lnTo>
                  <a:lnTo>
                    <a:pt x="645" y="953"/>
                  </a:lnTo>
                  <a:lnTo>
                    <a:pt x="719" y="877"/>
                  </a:lnTo>
                  <a:lnTo>
                    <a:pt x="702" y="861"/>
                  </a:lnTo>
                  <a:close/>
                  <a:moveTo>
                    <a:pt x="811" y="754"/>
                  </a:moveTo>
                  <a:lnTo>
                    <a:pt x="735" y="828"/>
                  </a:lnTo>
                  <a:lnTo>
                    <a:pt x="752" y="844"/>
                  </a:lnTo>
                  <a:lnTo>
                    <a:pt x="827" y="771"/>
                  </a:lnTo>
                  <a:lnTo>
                    <a:pt x="811" y="754"/>
                  </a:lnTo>
                  <a:close/>
                  <a:moveTo>
                    <a:pt x="1220" y="343"/>
                  </a:moveTo>
                  <a:lnTo>
                    <a:pt x="827" y="738"/>
                  </a:lnTo>
                  <a:lnTo>
                    <a:pt x="844" y="754"/>
                  </a:lnTo>
                  <a:lnTo>
                    <a:pt x="1239" y="360"/>
                  </a:lnTo>
                  <a:lnTo>
                    <a:pt x="1220" y="343"/>
                  </a:lnTo>
                  <a:close/>
                  <a:moveTo>
                    <a:pt x="1312" y="253"/>
                  </a:moveTo>
                  <a:lnTo>
                    <a:pt x="1239" y="327"/>
                  </a:lnTo>
                  <a:lnTo>
                    <a:pt x="1255" y="343"/>
                  </a:lnTo>
                  <a:lnTo>
                    <a:pt x="1328" y="270"/>
                  </a:lnTo>
                  <a:lnTo>
                    <a:pt x="1312" y="253"/>
                  </a:lnTo>
                  <a:close/>
                  <a:moveTo>
                    <a:pt x="1418" y="145"/>
                  </a:moveTo>
                  <a:lnTo>
                    <a:pt x="1345" y="220"/>
                  </a:lnTo>
                  <a:lnTo>
                    <a:pt x="1361" y="237"/>
                  </a:lnTo>
                  <a:lnTo>
                    <a:pt x="1435" y="164"/>
                  </a:lnTo>
                  <a:lnTo>
                    <a:pt x="1418" y="145"/>
                  </a:lnTo>
                  <a:close/>
                  <a:moveTo>
                    <a:pt x="1565" y="0"/>
                  </a:moveTo>
                  <a:lnTo>
                    <a:pt x="1435" y="128"/>
                  </a:lnTo>
                  <a:lnTo>
                    <a:pt x="1451" y="145"/>
                  </a:lnTo>
                  <a:lnTo>
                    <a:pt x="1565" y="34"/>
                  </a:lnTo>
                  <a:lnTo>
                    <a:pt x="1565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 rot="5400000">
              <a:off x="237240" y="4674600"/>
              <a:ext cx="1945800" cy="2421000"/>
            </a:xfrm>
            <a:custGeom>
              <a:avLst/>
              <a:gdLst>
                <a:gd name="textAreaLeft" fmla="*/ 0 w 1945800"/>
                <a:gd name="textAreaRight" fmla="*/ 1946160 w 1945800"/>
                <a:gd name="textAreaTop" fmla="*/ 0 h 2421000"/>
                <a:gd name="textAreaBottom" fmla="*/ 2421360 h 2421000"/>
              </a:gdLst>
              <a:ahLst/>
              <a:rect l="textAreaLeft" t="textAreaTop" r="textAreaRight" b="textAreaBottom"/>
              <a:pathLst>
                <a:path w="1565" h="1563">
                  <a:moveTo>
                    <a:pt x="3" y="1560"/>
                  </a:moveTo>
                  <a:lnTo>
                    <a:pt x="0" y="1563"/>
                  </a:lnTo>
                  <a:lnTo>
                    <a:pt x="5" y="1563"/>
                  </a:lnTo>
                  <a:lnTo>
                    <a:pt x="3" y="1560"/>
                  </a:lnTo>
                  <a:moveTo>
                    <a:pt x="92" y="1471"/>
                  </a:moveTo>
                  <a:lnTo>
                    <a:pt x="19" y="1544"/>
                  </a:lnTo>
                  <a:lnTo>
                    <a:pt x="36" y="1560"/>
                  </a:lnTo>
                  <a:lnTo>
                    <a:pt x="109" y="1487"/>
                  </a:lnTo>
                  <a:lnTo>
                    <a:pt x="92" y="1471"/>
                  </a:lnTo>
                  <a:moveTo>
                    <a:pt x="201" y="1362"/>
                  </a:moveTo>
                  <a:lnTo>
                    <a:pt x="125" y="1437"/>
                  </a:lnTo>
                  <a:lnTo>
                    <a:pt x="144" y="1454"/>
                  </a:lnTo>
                  <a:lnTo>
                    <a:pt x="218" y="1378"/>
                  </a:lnTo>
                  <a:lnTo>
                    <a:pt x="201" y="1362"/>
                  </a:lnTo>
                  <a:moveTo>
                    <a:pt x="612" y="953"/>
                  </a:moveTo>
                  <a:lnTo>
                    <a:pt x="218" y="1345"/>
                  </a:lnTo>
                  <a:lnTo>
                    <a:pt x="234" y="1362"/>
                  </a:lnTo>
                  <a:lnTo>
                    <a:pt x="629" y="969"/>
                  </a:lnTo>
                  <a:lnTo>
                    <a:pt x="612" y="953"/>
                  </a:lnTo>
                  <a:moveTo>
                    <a:pt x="702" y="861"/>
                  </a:moveTo>
                  <a:lnTo>
                    <a:pt x="629" y="936"/>
                  </a:lnTo>
                  <a:lnTo>
                    <a:pt x="645" y="953"/>
                  </a:lnTo>
                  <a:lnTo>
                    <a:pt x="719" y="877"/>
                  </a:lnTo>
                  <a:lnTo>
                    <a:pt x="702" y="861"/>
                  </a:lnTo>
                  <a:moveTo>
                    <a:pt x="811" y="754"/>
                  </a:moveTo>
                  <a:lnTo>
                    <a:pt x="735" y="828"/>
                  </a:lnTo>
                  <a:lnTo>
                    <a:pt x="752" y="844"/>
                  </a:lnTo>
                  <a:lnTo>
                    <a:pt x="827" y="771"/>
                  </a:lnTo>
                  <a:lnTo>
                    <a:pt x="811" y="754"/>
                  </a:lnTo>
                  <a:moveTo>
                    <a:pt x="1220" y="343"/>
                  </a:moveTo>
                  <a:lnTo>
                    <a:pt x="827" y="738"/>
                  </a:lnTo>
                  <a:lnTo>
                    <a:pt x="844" y="754"/>
                  </a:lnTo>
                  <a:lnTo>
                    <a:pt x="1239" y="360"/>
                  </a:lnTo>
                  <a:lnTo>
                    <a:pt x="1220" y="343"/>
                  </a:lnTo>
                  <a:moveTo>
                    <a:pt x="1312" y="253"/>
                  </a:moveTo>
                  <a:lnTo>
                    <a:pt x="1239" y="327"/>
                  </a:lnTo>
                  <a:lnTo>
                    <a:pt x="1255" y="343"/>
                  </a:lnTo>
                  <a:lnTo>
                    <a:pt x="1328" y="270"/>
                  </a:lnTo>
                  <a:lnTo>
                    <a:pt x="1312" y="253"/>
                  </a:lnTo>
                  <a:moveTo>
                    <a:pt x="1418" y="145"/>
                  </a:moveTo>
                  <a:lnTo>
                    <a:pt x="1345" y="220"/>
                  </a:lnTo>
                  <a:lnTo>
                    <a:pt x="1361" y="237"/>
                  </a:lnTo>
                  <a:lnTo>
                    <a:pt x="1435" y="164"/>
                  </a:lnTo>
                  <a:lnTo>
                    <a:pt x="1418" y="145"/>
                  </a:lnTo>
                  <a:moveTo>
                    <a:pt x="1565" y="0"/>
                  </a:moveTo>
                  <a:lnTo>
                    <a:pt x="1435" y="128"/>
                  </a:lnTo>
                  <a:lnTo>
                    <a:pt x="1451" y="145"/>
                  </a:lnTo>
                  <a:lnTo>
                    <a:pt x="1565" y="34"/>
                  </a:lnTo>
                  <a:lnTo>
                    <a:pt x="156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 rot="5400000">
              <a:off x="52200" y="6376320"/>
              <a:ext cx="428760" cy="53424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534240"/>
                <a:gd name="textAreaBottom" fmla="*/ 534240 h 534240"/>
              </a:gdLst>
              <a:ahLst/>
              <a:rect l="textAreaLeft" t="textAreaTop" r="textAreaRight" b="textAreaBottom"/>
              <a:pathLst>
                <a:path w="345" h="345">
                  <a:moveTo>
                    <a:pt x="0" y="342"/>
                  </a:moveTo>
                  <a:lnTo>
                    <a:pt x="0" y="345"/>
                  </a:lnTo>
                  <a:lnTo>
                    <a:pt x="2" y="345"/>
                  </a:lnTo>
                  <a:lnTo>
                    <a:pt x="0" y="342"/>
                  </a:lnTo>
                  <a:close/>
                  <a:moveTo>
                    <a:pt x="92" y="253"/>
                  </a:moveTo>
                  <a:lnTo>
                    <a:pt x="16" y="326"/>
                  </a:lnTo>
                  <a:lnTo>
                    <a:pt x="33" y="342"/>
                  </a:lnTo>
                  <a:lnTo>
                    <a:pt x="108" y="269"/>
                  </a:lnTo>
                  <a:lnTo>
                    <a:pt x="92" y="253"/>
                  </a:lnTo>
                  <a:close/>
                  <a:moveTo>
                    <a:pt x="198" y="146"/>
                  </a:moveTo>
                  <a:lnTo>
                    <a:pt x="125" y="219"/>
                  </a:lnTo>
                  <a:lnTo>
                    <a:pt x="141" y="236"/>
                  </a:lnTo>
                  <a:lnTo>
                    <a:pt x="215" y="163"/>
                  </a:lnTo>
                  <a:lnTo>
                    <a:pt x="198" y="146"/>
                  </a:lnTo>
                  <a:close/>
                  <a:moveTo>
                    <a:pt x="345" y="0"/>
                  </a:moveTo>
                  <a:lnTo>
                    <a:pt x="215" y="130"/>
                  </a:lnTo>
                  <a:lnTo>
                    <a:pt x="231" y="146"/>
                  </a:lnTo>
                  <a:lnTo>
                    <a:pt x="345" y="33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 rot="5400000">
              <a:off x="52200" y="6376320"/>
              <a:ext cx="428760" cy="53424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534240"/>
                <a:gd name="textAreaBottom" fmla="*/ 534240 h 534240"/>
              </a:gdLst>
              <a:ahLst/>
              <a:rect l="textAreaLeft" t="textAreaTop" r="textAreaRight" b="textAreaBottom"/>
              <a:pathLst>
                <a:path w="345" h="345">
                  <a:moveTo>
                    <a:pt x="0" y="342"/>
                  </a:moveTo>
                  <a:lnTo>
                    <a:pt x="0" y="345"/>
                  </a:lnTo>
                  <a:lnTo>
                    <a:pt x="2" y="345"/>
                  </a:lnTo>
                  <a:lnTo>
                    <a:pt x="0" y="342"/>
                  </a:lnTo>
                  <a:moveTo>
                    <a:pt x="92" y="253"/>
                  </a:moveTo>
                  <a:lnTo>
                    <a:pt x="16" y="326"/>
                  </a:lnTo>
                  <a:lnTo>
                    <a:pt x="33" y="342"/>
                  </a:lnTo>
                  <a:lnTo>
                    <a:pt x="108" y="269"/>
                  </a:lnTo>
                  <a:lnTo>
                    <a:pt x="92" y="253"/>
                  </a:lnTo>
                  <a:moveTo>
                    <a:pt x="198" y="146"/>
                  </a:moveTo>
                  <a:lnTo>
                    <a:pt x="125" y="219"/>
                  </a:lnTo>
                  <a:lnTo>
                    <a:pt x="141" y="236"/>
                  </a:lnTo>
                  <a:lnTo>
                    <a:pt x="215" y="163"/>
                  </a:lnTo>
                  <a:lnTo>
                    <a:pt x="198" y="146"/>
                  </a:lnTo>
                  <a:moveTo>
                    <a:pt x="345" y="0"/>
                  </a:moveTo>
                  <a:lnTo>
                    <a:pt x="215" y="130"/>
                  </a:lnTo>
                  <a:lnTo>
                    <a:pt x="231" y="146"/>
                  </a:lnTo>
                  <a:lnTo>
                    <a:pt x="345" y="33"/>
                  </a:lnTo>
                  <a:lnTo>
                    <a:pt x="3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 rot="5400000">
              <a:off x="11492280" y="-76320"/>
              <a:ext cx="622800" cy="77580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501" h="501">
                  <a:moveTo>
                    <a:pt x="106" y="362"/>
                  </a:moveTo>
                  <a:lnTo>
                    <a:pt x="0" y="468"/>
                  </a:lnTo>
                  <a:lnTo>
                    <a:pt x="0" y="501"/>
                  </a:lnTo>
                  <a:lnTo>
                    <a:pt x="123" y="378"/>
                  </a:lnTo>
                  <a:lnTo>
                    <a:pt x="106" y="362"/>
                  </a:lnTo>
                  <a:close/>
                  <a:moveTo>
                    <a:pt x="196" y="272"/>
                  </a:moveTo>
                  <a:lnTo>
                    <a:pt x="123" y="345"/>
                  </a:lnTo>
                  <a:lnTo>
                    <a:pt x="139" y="362"/>
                  </a:lnTo>
                  <a:lnTo>
                    <a:pt x="212" y="289"/>
                  </a:lnTo>
                  <a:lnTo>
                    <a:pt x="196" y="272"/>
                  </a:lnTo>
                  <a:close/>
                  <a:moveTo>
                    <a:pt x="305" y="163"/>
                  </a:moveTo>
                  <a:lnTo>
                    <a:pt x="231" y="237"/>
                  </a:lnTo>
                  <a:lnTo>
                    <a:pt x="248" y="253"/>
                  </a:lnTo>
                  <a:lnTo>
                    <a:pt x="321" y="180"/>
                  </a:lnTo>
                  <a:lnTo>
                    <a:pt x="305" y="163"/>
                  </a:lnTo>
                  <a:close/>
                  <a:moveTo>
                    <a:pt x="501" y="0"/>
                  </a:moveTo>
                  <a:lnTo>
                    <a:pt x="468" y="0"/>
                  </a:lnTo>
                  <a:lnTo>
                    <a:pt x="321" y="147"/>
                  </a:lnTo>
                  <a:lnTo>
                    <a:pt x="338" y="163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 rot="5400000">
              <a:off x="11492280" y="-76320"/>
              <a:ext cx="622800" cy="77580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501" h="501">
                  <a:moveTo>
                    <a:pt x="106" y="362"/>
                  </a:moveTo>
                  <a:lnTo>
                    <a:pt x="0" y="468"/>
                  </a:lnTo>
                  <a:lnTo>
                    <a:pt x="0" y="501"/>
                  </a:lnTo>
                  <a:lnTo>
                    <a:pt x="123" y="378"/>
                  </a:lnTo>
                  <a:lnTo>
                    <a:pt x="106" y="362"/>
                  </a:lnTo>
                  <a:moveTo>
                    <a:pt x="196" y="272"/>
                  </a:moveTo>
                  <a:lnTo>
                    <a:pt x="123" y="345"/>
                  </a:lnTo>
                  <a:lnTo>
                    <a:pt x="139" y="362"/>
                  </a:lnTo>
                  <a:lnTo>
                    <a:pt x="212" y="289"/>
                  </a:lnTo>
                  <a:lnTo>
                    <a:pt x="196" y="272"/>
                  </a:lnTo>
                  <a:moveTo>
                    <a:pt x="305" y="163"/>
                  </a:moveTo>
                  <a:lnTo>
                    <a:pt x="231" y="237"/>
                  </a:lnTo>
                  <a:lnTo>
                    <a:pt x="248" y="253"/>
                  </a:lnTo>
                  <a:lnTo>
                    <a:pt x="321" y="180"/>
                  </a:lnTo>
                  <a:lnTo>
                    <a:pt x="305" y="163"/>
                  </a:lnTo>
                  <a:moveTo>
                    <a:pt x="501" y="0"/>
                  </a:moveTo>
                  <a:lnTo>
                    <a:pt x="468" y="0"/>
                  </a:lnTo>
                  <a:lnTo>
                    <a:pt x="321" y="147"/>
                  </a:lnTo>
                  <a:lnTo>
                    <a:pt x="338" y="163"/>
                  </a:lnTo>
                  <a:lnTo>
                    <a:pt x="5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 rot="5400000">
              <a:off x="9792000" y="-261360"/>
              <a:ext cx="2138400" cy="2661120"/>
            </a:xfrm>
            <a:custGeom>
              <a:avLst/>
              <a:gdLst>
                <a:gd name="textAreaLeft" fmla="*/ 0 w 2138400"/>
                <a:gd name="textAreaRight" fmla="*/ 2138760 w 2138400"/>
                <a:gd name="textAreaTop" fmla="*/ 0 h 2661120"/>
                <a:gd name="textAreaBottom" fmla="*/ 2661120 h 2661120"/>
              </a:gdLst>
              <a:ahLst/>
              <a:rect l="textAreaLeft" t="textAreaTop" r="textAreaRight" b="textAreaBottom"/>
              <a:pathLst>
                <a:path w="1720" h="1718">
                  <a:moveTo>
                    <a:pt x="106" y="1579"/>
                  </a:moveTo>
                  <a:lnTo>
                    <a:pt x="0" y="1685"/>
                  </a:lnTo>
                  <a:lnTo>
                    <a:pt x="0" y="1718"/>
                  </a:lnTo>
                  <a:lnTo>
                    <a:pt x="123" y="1596"/>
                  </a:lnTo>
                  <a:lnTo>
                    <a:pt x="106" y="1579"/>
                  </a:lnTo>
                  <a:close/>
                  <a:moveTo>
                    <a:pt x="196" y="1489"/>
                  </a:moveTo>
                  <a:lnTo>
                    <a:pt x="123" y="1562"/>
                  </a:lnTo>
                  <a:lnTo>
                    <a:pt x="139" y="1579"/>
                  </a:lnTo>
                  <a:lnTo>
                    <a:pt x="212" y="1506"/>
                  </a:lnTo>
                  <a:lnTo>
                    <a:pt x="196" y="1489"/>
                  </a:lnTo>
                  <a:close/>
                  <a:moveTo>
                    <a:pt x="305" y="1380"/>
                  </a:moveTo>
                  <a:lnTo>
                    <a:pt x="229" y="1456"/>
                  </a:lnTo>
                  <a:lnTo>
                    <a:pt x="245" y="1473"/>
                  </a:lnTo>
                  <a:lnTo>
                    <a:pt x="321" y="1397"/>
                  </a:lnTo>
                  <a:lnTo>
                    <a:pt x="305" y="1380"/>
                  </a:lnTo>
                  <a:close/>
                  <a:moveTo>
                    <a:pt x="713" y="972"/>
                  </a:moveTo>
                  <a:lnTo>
                    <a:pt x="321" y="1364"/>
                  </a:lnTo>
                  <a:lnTo>
                    <a:pt x="338" y="1380"/>
                  </a:lnTo>
                  <a:lnTo>
                    <a:pt x="732" y="988"/>
                  </a:lnTo>
                  <a:lnTo>
                    <a:pt x="713" y="972"/>
                  </a:lnTo>
                  <a:close/>
                  <a:moveTo>
                    <a:pt x="806" y="879"/>
                  </a:moveTo>
                  <a:lnTo>
                    <a:pt x="732" y="955"/>
                  </a:lnTo>
                  <a:lnTo>
                    <a:pt x="749" y="972"/>
                  </a:lnTo>
                  <a:lnTo>
                    <a:pt x="822" y="896"/>
                  </a:lnTo>
                  <a:lnTo>
                    <a:pt x="806" y="879"/>
                  </a:lnTo>
                  <a:close/>
                  <a:moveTo>
                    <a:pt x="912" y="773"/>
                  </a:moveTo>
                  <a:lnTo>
                    <a:pt x="839" y="846"/>
                  </a:lnTo>
                  <a:lnTo>
                    <a:pt x="855" y="863"/>
                  </a:lnTo>
                  <a:lnTo>
                    <a:pt x="928" y="790"/>
                  </a:lnTo>
                  <a:lnTo>
                    <a:pt x="912" y="773"/>
                  </a:lnTo>
                  <a:close/>
                  <a:moveTo>
                    <a:pt x="1323" y="362"/>
                  </a:moveTo>
                  <a:lnTo>
                    <a:pt x="928" y="757"/>
                  </a:lnTo>
                  <a:lnTo>
                    <a:pt x="945" y="773"/>
                  </a:lnTo>
                  <a:lnTo>
                    <a:pt x="1340" y="378"/>
                  </a:lnTo>
                  <a:lnTo>
                    <a:pt x="1323" y="362"/>
                  </a:lnTo>
                  <a:close/>
                  <a:moveTo>
                    <a:pt x="1415" y="272"/>
                  </a:moveTo>
                  <a:lnTo>
                    <a:pt x="1340" y="345"/>
                  </a:lnTo>
                  <a:lnTo>
                    <a:pt x="1356" y="362"/>
                  </a:lnTo>
                  <a:lnTo>
                    <a:pt x="1432" y="289"/>
                  </a:lnTo>
                  <a:lnTo>
                    <a:pt x="1415" y="272"/>
                  </a:lnTo>
                  <a:close/>
                  <a:moveTo>
                    <a:pt x="1522" y="163"/>
                  </a:moveTo>
                  <a:lnTo>
                    <a:pt x="1448" y="239"/>
                  </a:lnTo>
                  <a:lnTo>
                    <a:pt x="1465" y="255"/>
                  </a:lnTo>
                  <a:lnTo>
                    <a:pt x="1538" y="182"/>
                  </a:lnTo>
                  <a:lnTo>
                    <a:pt x="1522" y="163"/>
                  </a:lnTo>
                  <a:close/>
                  <a:moveTo>
                    <a:pt x="1720" y="0"/>
                  </a:moveTo>
                  <a:lnTo>
                    <a:pt x="1687" y="0"/>
                  </a:lnTo>
                  <a:lnTo>
                    <a:pt x="1538" y="147"/>
                  </a:lnTo>
                  <a:lnTo>
                    <a:pt x="1555" y="163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 rot="5400000">
              <a:off x="9792000" y="-261360"/>
              <a:ext cx="2138400" cy="2661120"/>
            </a:xfrm>
            <a:custGeom>
              <a:avLst/>
              <a:gdLst>
                <a:gd name="textAreaLeft" fmla="*/ 0 w 2138400"/>
                <a:gd name="textAreaRight" fmla="*/ 2138760 w 2138400"/>
                <a:gd name="textAreaTop" fmla="*/ 0 h 2661120"/>
                <a:gd name="textAreaBottom" fmla="*/ 2661120 h 2661120"/>
              </a:gdLst>
              <a:ahLst/>
              <a:rect l="textAreaLeft" t="textAreaTop" r="textAreaRight" b="textAreaBottom"/>
              <a:pathLst>
                <a:path w="1720" h="1718">
                  <a:moveTo>
                    <a:pt x="106" y="1579"/>
                  </a:moveTo>
                  <a:lnTo>
                    <a:pt x="0" y="1685"/>
                  </a:lnTo>
                  <a:lnTo>
                    <a:pt x="0" y="1718"/>
                  </a:lnTo>
                  <a:lnTo>
                    <a:pt x="123" y="1596"/>
                  </a:lnTo>
                  <a:lnTo>
                    <a:pt x="106" y="1579"/>
                  </a:lnTo>
                  <a:moveTo>
                    <a:pt x="196" y="1489"/>
                  </a:moveTo>
                  <a:lnTo>
                    <a:pt x="123" y="1562"/>
                  </a:lnTo>
                  <a:lnTo>
                    <a:pt x="139" y="1579"/>
                  </a:lnTo>
                  <a:lnTo>
                    <a:pt x="212" y="1506"/>
                  </a:lnTo>
                  <a:lnTo>
                    <a:pt x="196" y="1489"/>
                  </a:lnTo>
                  <a:moveTo>
                    <a:pt x="305" y="1380"/>
                  </a:moveTo>
                  <a:lnTo>
                    <a:pt x="229" y="1456"/>
                  </a:lnTo>
                  <a:lnTo>
                    <a:pt x="245" y="1473"/>
                  </a:lnTo>
                  <a:lnTo>
                    <a:pt x="321" y="1397"/>
                  </a:lnTo>
                  <a:lnTo>
                    <a:pt x="305" y="1380"/>
                  </a:lnTo>
                  <a:moveTo>
                    <a:pt x="713" y="972"/>
                  </a:moveTo>
                  <a:lnTo>
                    <a:pt x="321" y="1364"/>
                  </a:lnTo>
                  <a:lnTo>
                    <a:pt x="338" y="1380"/>
                  </a:lnTo>
                  <a:lnTo>
                    <a:pt x="732" y="988"/>
                  </a:lnTo>
                  <a:lnTo>
                    <a:pt x="713" y="972"/>
                  </a:lnTo>
                  <a:moveTo>
                    <a:pt x="806" y="879"/>
                  </a:moveTo>
                  <a:lnTo>
                    <a:pt x="732" y="955"/>
                  </a:lnTo>
                  <a:lnTo>
                    <a:pt x="749" y="972"/>
                  </a:lnTo>
                  <a:lnTo>
                    <a:pt x="822" y="896"/>
                  </a:lnTo>
                  <a:lnTo>
                    <a:pt x="806" y="879"/>
                  </a:lnTo>
                  <a:moveTo>
                    <a:pt x="912" y="773"/>
                  </a:moveTo>
                  <a:lnTo>
                    <a:pt x="839" y="846"/>
                  </a:lnTo>
                  <a:lnTo>
                    <a:pt x="855" y="863"/>
                  </a:lnTo>
                  <a:lnTo>
                    <a:pt x="928" y="790"/>
                  </a:lnTo>
                  <a:lnTo>
                    <a:pt x="912" y="773"/>
                  </a:lnTo>
                  <a:moveTo>
                    <a:pt x="1323" y="362"/>
                  </a:moveTo>
                  <a:lnTo>
                    <a:pt x="928" y="757"/>
                  </a:lnTo>
                  <a:lnTo>
                    <a:pt x="945" y="773"/>
                  </a:lnTo>
                  <a:lnTo>
                    <a:pt x="1340" y="378"/>
                  </a:lnTo>
                  <a:lnTo>
                    <a:pt x="1323" y="362"/>
                  </a:lnTo>
                  <a:moveTo>
                    <a:pt x="1415" y="272"/>
                  </a:moveTo>
                  <a:lnTo>
                    <a:pt x="1340" y="345"/>
                  </a:lnTo>
                  <a:lnTo>
                    <a:pt x="1356" y="362"/>
                  </a:lnTo>
                  <a:lnTo>
                    <a:pt x="1432" y="289"/>
                  </a:lnTo>
                  <a:lnTo>
                    <a:pt x="1415" y="272"/>
                  </a:lnTo>
                  <a:moveTo>
                    <a:pt x="1522" y="163"/>
                  </a:moveTo>
                  <a:lnTo>
                    <a:pt x="1448" y="239"/>
                  </a:lnTo>
                  <a:lnTo>
                    <a:pt x="1465" y="255"/>
                  </a:lnTo>
                  <a:lnTo>
                    <a:pt x="1538" y="182"/>
                  </a:lnTo>
                  <a:lnTo>
                    <a:pt x="1522" y="163"/>
                  </a:lnTo>
                  <a:moveTo>
                    <a:pt x="1720" y="0"/>
                  </a:moveTo>
                  <a:lnTo>
                    <a:pt x="1687" y="0"/>
                  </a:lnTo>
                  <a:lnTo>
                    <a:pt x="1538" y="147"/>
                  </a:lnTo>
                  <a:lnTo>
                    <a:pt x="1555" y="163"/>
                  </a:lnTo>
                  <a:lnTo>
                    <a:pt x="17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 rot="5400000">
              <a:off x="8092080" y="-448200"/>
              <a:ext cx="3651480" cy="4547880"/>
            </a:xfrm>
            <a:custGeom>
              <a:avLst/>
              <a:gdLst>
                <a:gd name="textAreaLeft" fmla="*/ 0 w 3651480"/>
                <a:gd name="textAreaRight" fmla="*/ 3651840 w 3651480"/>
                <a:gd name="textAreaTop" fmla="*/ 0 h 4547880"/>
                <a:gd name="textAreaBottom" fmla="*/ 4548240 h 4547880"/>
              </a:gdLst>
              <a:ahLst/>
              <a:rect l="textAreaLeft" t="textAreaTop" r="textAreaRight" b="textAreaBottom"/>
              <a:pathLst>
                <a:path w="2937" h="2936">
                  <a:moveTo>
                    <a:pt x="104" y="2796"/>
                  </a:moveTo>
                  <a:lnTo>
                    <a:pt x="0" y="2903"/>
                  </a:lnTo>
                  <a:lnTo>
                    <a:pt x="0" y="2936"/>
                  </a:lnTo>
                  <a:lnTo>
                    <a:pt x="120" y="2813"/>
                  </a:lnTo>
                  <a:lnTo>
                    <a:pt x="104" y="2796"/>
                  </a:lnTo>
                  <a:close/>
                  <a:moveTo>
                    <a:pt x="196" y="2706"/>
                  </a:moveTo>
                  <a:lnTo>
                    <a:pt x="120" y="2780"/>
                  </a:lnTo>
                  <a:lnTo>
                    <a:pt x="139" y="2796"/>
                  </a:lnTo>
                  <a:lnTo>
                    <a:pt x="212" y="2723"/>
                  </a:lnTo>
                  <a:lnTo>
                    <a:pt x="196" y="2706"/>
                  </a:lnTo>
                  <a:close/>
                  <a:moveTo>
                    <a:pt x="302" y="2600"/>
                  </a:moveTo>
                  <a:lnTo>
                    <a:pt x="229" y="2673"/>
                  </a:lnTo>
                  <a:lnTo>
                    <a:pt x="245" y="2690"/>
                  </a:lnTo>
                  <a:lnTo>
                    <a:pt x="319" y="2617"/>
                  </a:lnTo>
                  <a:lnTo>
                    <a:pt x="302" y="2600"/>
                  </a:lnTo>
                  <a:close/>
                  <a:moveTo>
                    <a:pt x="713" y="2189"/>
                  </a:moveTo>
                  <a:lnTo>
                    <a:pt x="319" y="2584"/>
                  </a:lnTo>
                  <a:lnTo>
                    <a:pt x="335" y="2600"/>
                  </a:lnTo>
                  <a:lnTo>
                    <a:pt x="730" y="2205"/>
                  </a:lnTo>
                  <a:lnTo>
                    <a:pt x="713" y="2189"/>
                  </a:lnTo>
                  <a:close/>
                  <a:moveTo>
                    <a:pt x="806" y="2099"/>
                  </a:moveTo>
                  <a:lnTo>
                    <a:pt x="730" y="2172"/>
                  </a:lnTo>
                  <a:lnTo>
                    <a:pt x="746" y="2189"/>
                  </a:lnTo>
                  <a:lnTo>
                    <a:pt x="822" y="2116"/>
                  </a:lnTo>
                  <a:lnTo>
                    <a:pt x="806" y="2099"/>
                  </a:lnTo>
                  <a:close/>
                  <a:moveTo>
                    <a:pt x="912" y="1990"/>
                  </a:moveTo>
                  <a:lnTo>
                    <a:pt x="839" y="2064"/>
                  </a:lnTo>
                  <a:lnTo>
                    <a:pt x="855" y="2082"/>
                  </a:lnTo>
                  <a:lnTo>
                    <a:pt x="928" y="2007"/>
                  </a:lnTo>
                  <a:lnTo>
                    <a:pt x="912" y="1990"/>
                  </a:lnTo>
                  <a:close/>
                  <a:moveTo>
                    <a:pt x="1323" y="1579"/>
                  </a:moveTo>
                  <a:lnTo>
                    <a:pt x="928" y="1974"/>
                  </a:lnTo>
                  <a:lnTo>
                    <a:pt x="945" y="1990"/>
                  </a:lnTo>
                  <a:lnTo>
                    <a:pt x="1340" y="1598"/>
                  </a:lnTo>
                  <a:lnTo>
                    <a:pt x="1323" y="1579"/>
                  </a:lnTo>
                  <a:close/>
                  <a:moveTo>
                    <a:pt x="1413" y="1489"/>
                  </a:moveTo>
                  <a:lnTo>
                    <a:pt x="1340" y="1562"/>
                  </a:lnTo>
                  <a:lnTo>
                    <a:pt x="1356" y="1579"/>
                  </a:lnTo>
                  <a:lnTo>
                    <a:pt x="1429" y="1506"/>
                  </a:lnTo>
                  <a:lnTo>
                    <a:pt x="1413" y="1489"/>
                  </a:lnTo>
                  <a:close/>
                  <a:moveTo>
                    <a:pt x="1522" y="1383"/>
                  </a:moveTo>
                  <a:lnTo>
                    <a:pt x="1448" y="1456"/>
                  </a:lnTo>
                  <a:lnTo>
                    <a:pt x="1465" y="1473"/>
                  </a:lnTo>
                  <a:lnTo>
                    <a:pt x="1538" y="1399"/>
                  </a:lnTo>
                  <a:lnTo>
                    <a:pt x="1522" y="1383"/>
                  </a:lnTo>
                  <a:close/>
                  <a:moveTo>
                    <a:pt x="1933" y="972"/>
                  </a:moveTo>
                  <a:lnTo>
                    <a:pt x="1538" y="1366"/>
                  </a:lnTo>
                  <a:lnTo>
                    <a:pt x="1555" y="1383"/>
                  </a:lnTo>
                  <a:lnTo>
                    <a:pt x="1949" y="988"/>
                  </a:lnTo>
                  <a:lnTo>
                    <a:pt x="1933" y="972"/>
                  </a:lnTo>
                  <a:close/>
                  <a:moveTo>
                    <a:pt x="2023" y="882"/>
                  </a:moveTo>
                  <a:lnTo>
                    <a:pt x="1949" y="955"/>
                  </a:lnTo>
                  <a:lnTo>
                    <a:pt x="1966" y="972"/>
                  </a:lnTo>
                  <a:lnTo>
                    <a:pt x="2039" y="898"/>
                  </a:lnTo>
                  <a:lnTo>
                    <a:pt x="2023" y="882"/>
                  </a:lnTo>
                  <a:close/>
                  <a:moveTo>
                    <a:pt x="2131" y="773"/>
                  </a:moveTo>
                  <a:lnTo>
                    <a:pt x="2056" y="846"/>
                  </a:lnTo>
                  <a:lnTo>
                    <a:pt x="2072" y="865"/>
                  </a:lnTo>
                  <a:lnTo>
                    <a:pt x="2148" y="790"/>
                  </a:lnTo>
                  <a:lnTo>
                    <a:pt x="2131" y="773"/>
                  </a:lnTo>
                  <a:close/>
                  <a:moveTo>
                    <a:pt x="2543" y="362"/>
                  </a:moveTo>
                  <a:lnTo>
                    <a:pt x="2148" y="757"/>
                  </a:lnTo>
                  <a:lnTo>
                    <a:pt x="2164" y="773"/>
                  </a:lnTo>
                  <a:lnTo>
                    <a:pt x="2559" y="381"/>
                  </a:lnTo>
                  <a:lnTo>
                    <a:pt x="2543" y="362"/>
                  </a:lnTo>
                  <a:close/>
                  <a:moveTo>
                    <a:pt x="2632" y="272"/>
                  </a:moveTo>
                  <a:lnTo>
                    <a:pt x="2559" y="345"/>
                  </a:lnTo>
                  <a:lnTo>
                    <a:pt x="2576" y="362"/>
                  </a:lnTo>
                  <a:lnTo>
                    <a:pt x="2649" y="289"/>
                  </a:lnTo>
                  <a:lnTo>
                    <a:pt x="2632" y="272"/>
                  </a:lnTo>
                  <a:close/>
                  <a:moveTo>
                    <a:pt x="2739" y="166"/>
                  </a:moveTo>
                  <a:lnTo>
                    <a:pt x="2666" y="239"/>
                  </a:lnTo>
                  <a:lnTo>
                    <a:pt x="2682" y="255"/>
                  </a:lnTo>
                  <a:lnTo>
                    <a:pt x="2755" y="182"/>
                  </a:lnTo>
                  <a:lnTo>
                    <a:pt x="2739" y="166"/>
                  </a:lnTo>
                  <a:close/>
                  <a:moveTo>
                    <a:pt x="2937" y="0"/>
                  </a:moveTo>
                  <a:lnTo>
                    <a:pt x="2904" y="0"/>
                  </a:lnTo>
                  <a:lnTo>
                    <a:pt x="2755" y="149"/>
                  </a:lnTo>
                  <a:lnTo>
                    <a:pt x="2774" y="166"/>
                  </a:lnTo>
                  <a:lnTo>
                    <a:pt x="2937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 rot="5400000">
              <a:off x="8092080" y="-448200"/>
              <a:ext cx="3651480" cy="4547880"/>
            </a:xfrm>
            <a:custGeom>
              <a:avLst/>
              <a:gdLst>
                <a:gd name="textAreaLeft" fmla="*/ 0 w 3651480"/>
                <a:gd name="textAreaRight" fmla="*/ 3651840 w 3651480"/>
                <a:gd name="textAreaTop" fmla="*/ 0 h 4547880"/>
                <a:gd name="textAreaBottom" fmla="*/ 4548240 h 4547880"/>
              </a:gdLst>
              <a:ahLst/>
              <a:rect l="textAreaLeft" t="textAreaTop" r="textAreaRight" b="textAreaBottom"/>
              <a:pathLst>
                <a:path w="2937" h="2936">
                  <a:moveTo>
                    <a:pt x="104" y="2796"/>
                  </a:moveTo>
                  <a:lnTo>
                    <a:pt x="0" y="2903"/>
                  </a:lnTo>
                  <a:lnTo>
                    <a:pt x="0" y="2936"/>
                  </a:lnTo>
                  <a:lnTo>
                    <a:pt x="120" y="2813"/>
                  </a:lnTo>
                  <a:lnTo>
                    <a:pt x="104" y="2796"/>
                  </a:lnTo>
                  <a:moveTo>
                    <a:pt x="196" y="2706"/>
                  </a:moveTo>
                  <a:lnTo>
                    <a:pt x="120" y="2780"/>
                  </a:lnTo>
                  <a:lnTo>
                    <a:pt x="139" y="2796"/>
                  </a:lnTo>
                  <a:lnTo>
                    <a:pt x="212" y="2723"/>
                  </a:lnTo>
                  <a:lnTo>
                    <a:pt x="196" y="2706"/>
                  </a:lnTo>
                  <a:moveTo>
                    <a:pt x="302" y="2600"/>
                  </a:moveTo>
                  <a:lnTo>
                    <a:pt x="229" y="2673"/>
                  </a:lnTo>
                  <a:lnTo>
                    <a:pt x="245" y="2690"/>
                  </a:lnTo>
                  <a:lnTo>
                    <a:pt x="319" y="2617"/>
                  </a:lnTo>
                  <a:lnTo>
                    <a:pt x="302" y="2600"/>
                  </a:lnTo>
                  <a:moveTo>
                    <a:pt x="713" y="2189"/>
                  </a:moveTo>
                  <a:lnTo>
                    <a:pt x="319" y="2584"/>
                  </a:lnTo>
                  <a:lnTo>
                    <a:pt x="335" y="2600"/>
                  </a:lnTo>
                  <a:lnTo>
                    <a:pt x="730" y="2205"/>
                  </a:lnTo>
                  <a:lnTo>
                    <a:pt x="713" y="2189"/>
                  </a:lnTo>
                  <a:moveTo>
                    <a:pt x="806" y="2099"/>
                  </a:moveTo>
                  <a:lnTo>
                    <a:pt x="730" y="2172"/>
                  </a:lnTo>
                  <a:lnTo>
                    <a:pt x="746" y="2189"/>
                  </a:lnTo>
                  <a:lnTo>
                    <a:pt x="822" y="2116"/>
                  </a:lnTo>
                  <a:lnTo>
                    <a:pt x="806" y="2099"/>
                  </a:lnTo>
                  <a:moveTo>
                    <a:pt x="912" y="1990"/>
                  </a:moveTo>
                  <a:lnTo>
                    <a:pt x="839" y="2064"/>
                  </a:lnTo>
                  <a:lnTo>
                    <a:pt x="855" y="2082"/>
                  </a:lnTo>
                  <a:lnTo>
                    <a:pt x="928" y="2007"/>
                  </a:lnTo>
                  <a:lnTo>
                    <a:pt x="912" y="1990"/>
                  </a:lnTo>
                  <a:moveTo>
                    <a:pt x="1323" y="1579"/>
                  </a:moveTo>
                  <a:lnTo>
                    <a:pt x="928" y="1974"/>
                  </a:lnTo>
                  <a:lnTo>
                    <a:pt x="945" y="1990"/>
                  </a:lnTo>
                  <a:lnTo>
                    <a:pt x="1340" y="1598"/>
                  </a:lnTo>
                  <a:lnTo>
                    <a:pt x="1323" y="1579"/>
                  </a:lnTo>
                  <a:moveTo>
                    <a:pt x="1413" y="1489"/>
                  </a:moveTo>
                  <a:lnTo>
                    <a:pt x="1340" y="1562"/>
                  </a:lnTo>
                  <a:lnTo>
                    <a:pt x="1356" y="1579"/>
                  </a:lnTo>
                  <a:lnTo>
                    <a:pt x="1429" y="1506"/>
                  </a:lnTo>
                  <a:lnTo>
                    <a:pt x="1413" y="1489"/>
                  </a:lnTo>
                  <a:moveTo>
                    <a:pt x="1522" y="1383"/>
                  </a:moveTo>
                  <a:lnTo>
                    <a:pt x="1448" y="1456"/>
                  </a:lnTo>
                  <a:lnTo>
                    <a:pt x="1465" y="1473"/>
                  </a:lnTo>
                  <a:lnTo>
                    <a:pt x="1538" y="1399"/>
                  </a:lnTo>
                  <a:lnTo>
                    <a:pt x="1522" y="1383"/>
                  </a:lnTo>
                  <a:moveTo>
                    <a:pt x="1933" y="972"/>
                  </a:moveTo>
                  <a:lnTo>
                    <a:pt x="1538" y="1366"/>
                  </a:lnTo>
                  <a:lnTo>
                    <a:pt x="1555" y="1383"/>
                  </a:lnTo>
                  <a:lnTo>
                    <a:pt x="1949" y="988"/>
                  </a:lnTo>
                  <a:lnTo>
                    <a:pt x="1933" y="972"/>
                  </a:lnTo>
                  <a:moveTo>
                    <a:pt x="2023" y="882"/>
                  </a:moveTo>
                  <a:lnTo>
                    <a:pt x="1949" y="955"/>
                  </a:lnTo>
                  <a:lnTo>
                    <a:pt x="1966" y="972"/>
                  </a:lnTo>
                  <a:lnTo>
                    <a:pt x="2039" y="898"/>
                  </a:lnTo>
                  <a:lnTo>
                    <a:pt x="2023" y="882"/>
                  </a:lnTo>
                  <a:moveTo>
                    <a:pt x="2131" y="773"/>
                  </a:moveTo>
                  <a:lnTo>
                    <a:pt x="2056" y="846"/>
                  </a:lnTo>
                  <a:lnTo>
                    <a:pt x="2072" y="865"/>
                  </a:lnTo>
                  <a:lnTo>
                    <a:pt x="2148" y="790"/>
                  </a:lnTo>
                  <a:lnTo>
                    <a:pt x="2131" y="773"/>
                  </a:lnTo>
                  <a:moveTo>
                    <a:pt x="2543" y="362"/>
                  </a:moveTo>
                  <a:lnTo>
                    <a:pt x="2148" y="757"/>
                  </a:lnTo>
                  <a:lnTo>
                    <a:pt x="2164" y="773"/>
                  </a:lnTo>
                  <a:lnTo>
                    <a:pt x="2559" y="381"/>
                  </a:lnTo>
                  <a:lnTo>
                    <a:pt x="2543" y="362"/>
                  </a:lnTo>
                  <a:moveTo>
                    <a:pt x="2632" y="272"/>
                  </a:moveTo>
                  <a:lnTo>
                    <a:pt x="2559" y="345"/>
                  </a:lnTo>
                  <a:lnTo>
                    <a:pt x="2576" y="362"/>
                  </a:lnTo>
                  <a:lnTo>
                    <a:pt x="2649" y="289"/>
                  </a:lnTo>
                  <a:lnTo>
                    <a:pt x="2632" y="272"/>
                  </a:lnTo>
                  <a:moveTo>
                    <a:pt x="2739" y="166"/>
                  </a:moveTo>
                  <a:lnTo>
                    <a:pt x="2666" y="239"/>
                  </a:lnTo>
                  <a:lnTo>
                    <a:pt x="2682" y="255"/>
                  </a:lnTo>
                  <a:lnTo>
                    <a:pt x="2755" y="182"/>
                  </a:lnTo>
                  <a:lnTo>
                    <a:pt x="2739" y="166"/>
                  </a:lnTo>
                  <a:moveTo>
                    <a:pt x="2937" y="0"/>
                  </a:moveTo>
                  <a:lnTo>
                    <a:pt x="2904" y="0"/>
                  </a:lnTo>
                  <a:lnTo>
                    <a:pt x="2755" y="149"/>
                  </a:lnTo>
                  <a:lnTo>
                    <a:pt x="2774" y="166"/>
                  </a:lnTo>
                  <a:lnTo>
                    <a:pt x="2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 rot="5400000">
              <a:off x="6391080" y="-632160"/>
              <a:ext cx="5168520" cy="643284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6432840"/>
                <a:gd name="textAreaBottom" fmla="*/ 6433200 h 6432840"/>
              </a:gdLst>
              <a:ahLst/>
              <a:rect l="textAreaLeft" t="textAreaTop" r="textAreaRight" b="textAreaBottom"/>
              <a:pathLst>
                <a:path w="4157" h="4153">
                  <a:moveTo>
                    <a:pt x="104" y="4016"/>
                  </a:moveTo>
                  <a:lnTo>
                    <a:pt x="0" y="4120"/>
                  </a:lnTo>
                  <a:lnTo>
                    <a:pt x="0" y="4153"/>
                  </a:lnTo>
                  <a:lnTo>
                    <a:pt x="120" y="4032"/>
                  </a:lnTo>
                  <a:lnTo>
                    <a:pt x="104" y="4016"/>
                  </a:lnTo>
                  <a:close/>
                  <a:moveTo>
                    <a:pt x="196" y="3924"/>
                  </a:moveTo>
                  <a:lnTo>
                    <a:pt x="120" y="3999"/>
                  </a:lnTo>
                  <a:lnTo>
                    <a:pt x="137" y="4016"/>
                  </a:lnTo>
                  <a:lnTo>
                    <a:pt x="212" y="3940"/>
                  </a:lnTo>
                  <a:lnTo>
                    <a:pt x="196" y="3924"/>
                  </a:lnTo>
                  <a:close/>
                  <a:moveTo>
                    <a:pt x="302" y="3817"/>
                  </a:moveTo>
                  <a:lnTo>
                    <a:pt x="229" y="3891"/>
                  </a:lnTo>
                  <a:lnTo>
                    <a:pt x="245" y="3907"/>
                  </a:lnTo>
                  <a:lnTo>
                    <a:pt x="319" y="3834"/>
                  </a:lnTo>
                  <a:lnTo>
                    <a:pt x="302" y="3817"/>
                  </a:lnTo>
                  <a:close/>
                  <a:moveTo>
                    <a:pt x="713" y="3406"/>
                  </a:moveTo>
                  <a:lnTo>
                    <a:pt x="319" y="3801"/>
                  </a:lnTo>
                  <a:lnTo>
                    <a:pt x="335" y="3817"/>
                  </a:lnTo>
                  <a:lnTo>
                    <a:pt x="730" y="3423"/>
                  </a:lnTo>
                  <a:lnTo>
                    <a:pt x="713" y="3406"/>
                  </a:lnTo>
                  <a:close/>
                  <a:moveTo>
                    <a:pt x="803" y="3316"/>
                  </a:moveTo>
                  <a:lnTo>
                    <a:pt x="730" y="3389"/>
                  </a:lnTo>
                  <a:lnTo>
                    <a:pt x="746" y="3406"/>
                  </a:lnTo>
                  <a:lnTo>
                    <a:pt x="820" y="3333"/>
                  </a:lnTo>
                  <a:lnTo>
                    <a:pt x="803" y="3316"/>
                  </a:lnTo>
                  <a:close/>
                  <a:moveTo>
                    <a:pt x="912" y="3207"/>
                  </a:moveTo>
                  <a:lnTo>
                    <a:pt x="836" y="3283"/>
                  </a:lnTo>
                  <a:lnTo>
                    <a:pt x="855" y="3300"/>
                  </a:lnTo>
                  <a:lnTo>
                    <a:pt x="928" y="3226"/>
                  </a:lnTo>
                  <a:lnTo>
                    <a:pt x="912" y="3207"/>
                  </a:lnTo>
                  <a:close/>
                  <a:moveTo>
                    <a:pt x="1323" y="2799"/>
                  </a:moveTo>
                  <a:lnTo>
                    <a:pt x="928" y="3191"/>
                  </a:lnTo>
                  <a:lnTo>
                    <a:pt x="945" y="3207"/>
                  </a:lnTo>
                  <a:lnTo>
                    <a:pt x="1340" y="2815"/>
                  </a:lnTo>
                  <a:lnTo>
                    <a:pt x="1323" y="2799"/>
                  </a:lnTo>
                  <a:close/>
                  <a:moveTo>
                    <a:pt x="1413" y="2706"/>
                  </a:moveTo>
                  <a:lnTo>
                    <a:pt x="1340" y="2782"/>
                  </a:lnTo>
                  <a:lnTo>
                    <a:pt x="1356" y="2799"/>
                  </a:lnTo>
                  <a:lnTo>
                    <a:pt x="1429" y="2723"/>
                  </a:lnTo>
                  <a:lnTo>
                    <a:pt x="1413" y="2706"/>
                  </a:lnTo>
                  <a:close/>
                  <a:moveTo>
                    <a:pt x="1522" y="2600"/>
                  </a:moveTo>
                  <a:lnTo>
                    <a:pt x="1446" y="2673"/>
                  </a:lnTo>
                  <a:lnTo>
                    <a:pt x="1463" y="2690"/>
                  </a:lnTo>
                  <a:lnTo>
                    <a:pt x="1538" y="2617"/>
                  </a:lnTo>
                  <a:lnTo>
                    <a:pt x="1522" y="2600"/>
                  </a:lnTo>
                  <a:close/>
                  <a:moveTo>
                    <a:pt x="1933" y="2189"/>
                  </a:moveTo>
                  <a:lnTo>
                    <a:pt x="1538" y="2584"/>
                  </a:lnTo>
                  <a:lnTo>
                    <a:pt x="1555" y="2600"/>
                  </a:lnTo>
                  <a:lnTo>
                    <a:pt x="1949" y="2205"/>
                  </a:lnTo>
                  <a:lnTo>
                    <a:pt x="1933" y="2189"/>
                  </a:lnTo>
                  <a:close/>
                  <a:moveTo>
                    <a:pt x="2023" y="2099"/>
                  </a:moveTo>
                  <a:lnTo>
                    <a:pt x="1949" y="2172"/>
                  </a:lnTo>
                  <a:lnTo>
                    <a:pt x="1966" y="2189"/>
                  </a:lnTo>
                  <a:lnTo>
                    <a:pt x="2039" y="2116"/>
                  </a:lnTo>
                  <a:lnTo>
                    <a:pt x="2023" y="2099"/>
                  </a:lnTo>
                  <a:close/>
                  <a:moveTo>
                    <a:pt x="2129" y="1990"/>
                  </a:moveTo>
                  <a:lnTo>
                    <a:pt x="2056" y="2066"/>
                  </a:lnTo>
                  <a:lnTo>
                    <a:pt x="2072" y="2082"/>
                  </a:lnTo>
                  <a:lnTo>
                    <a:pt x="2146" y="2009"/>
                  </a:lnTo>
                  <a:lnTo>
                    <a:pt x="2129" y="1990"/>
                  </a:lnTo>
                  <a:close/>
                  <a:moveTo>
                    <a:pt x="2540" y="1581"/>
                  </a:moveTo>
                  <a:lnTo>
                    <a:pt x="2146" y="1974"/>
                  </a:lnTo>
                  <a:lnTo>
                    <a:pt x="2162" y="1990"/>
                  </a:lnTo>
                  <a:lnTo>
                    <a:pt x="2557" y="1598"/>
                  </a:lnTo>
                  <a:lnTo>
                    <a:pt x="2540" y="1581"/>
                  </a:lnTo>
                  <a:close/>
                  <a:moveTo>
                    <a:pt x="2632" y="1489"/>
                  </a:moveTo>
                  <a:lnTo>
                    <a:pt x="2557" y="1565"/>
                  </a:lnTo>
                  <a:lnTo>
                    <a:pt x="2573" y="1581"/>
                  </a:lnTo>
                  <a:lnTo>
                    <a:pt x="2649" y="1506"/>
                  </a:lnTo>
                  <a:lnTo>
                    <a:pt x="2632" y="1489"/>
                  </a:lnTo>
                  <a:close/>
                  <a:moveTo>
                    <a:pt x="2739" y="1383"/>
                  </a:moveTo>
                  <a:lnTo>
                    <a:pt x="2666" y="1456"/>
                  </a:lnTo>
                  <a:lnTo>
                    <a:pt x="2682" y="1473"/>
                  </a:lnTo>
                  <a:lnTo>
                    <a:pt x="2755" y="1399"/>
                  </a:lnTo>
                  <a:lnTo>
                    <a:pt x="2739" y="1383"/>
                  </a:lnTo>
                  <a:close/>
                  <a:moveTo>
                    <a:pt x="3150" y="972"/>
                  </a:moveTo>
                  <a:lnTo>
                    <a:pt x="2755" y="1366"/>
                  </a:lnTo>
                  <a:lnTo>
                    <a:pt x="2772" y="1383"/>
                  </a:lnTo>
                  <a:lnTo>
                    <a:pt x="3167" y="988"/>
                  </a:lnTo>
                  <a:lnTo>
                    <a:pt x="3150" y="972"/>
                  </a:lnTo>
                  <a:close/>
                  <a:moveTo>
                    <a:pt x="3240" y="882"/>
                  </a:moveTo>
                  <a:lnTo>
                    <a:pt x="3167" y="955"/>
                  </a:lnTo>
                  <a:lnTo>
                    <a:pt x="3183" y="972"/>
                  </a:lnTo>
                  <a:lnTo>
                    <a:pt x="3259" y="898"/>
                  </a:lnTo>
                  <a:lnTo>
                    <a:pt x="3240" y="882"/>
                  </a:lnTo>
                  <a:close/>
                  <a:moveTo>
                    <a:pt x="3349" y="773"/>
                  </a:moveTo>
                  <a:lnTo>
                    <a:pt x="3275" y="849"/>
                  </a:lnTo>
                  <a:lnTo>
                    <a:pt x="3292" y="865"/>
                  </a:lnTo>
                  <a:lnTo>
                    <a:pt x="3365" y="792"/>
                  </a:lnTo>
                  <a:lnTo>
                    <a:pt x="3349" y="773"/>
                  </a:lnTo>
                  <a:close/>
                  <a:moveTo>
                    <a:pt x="3760" y="364"/>
                  </a:moveTo>
                  <a:lnTo>
                    <a:pt x="3365" y="757"/>
                  </a:lnTo>
                  <a:lnTo>
                    <a:pt x="3382" y="773"/>
                  </a:lnTo>
                  <a:lnTo>
                    <a:pt x="3776" y="381"/>
                  </a:lnTo>
                  <a:lnTo>
                    <a:pt x="3760" y="364"/>
                  </a:lnTo>
                  <a:close/>
                  <a:moveTo>
                    <a:pt x="3850" y="272"/>
                  </a:moveTo>
                  <a:lnTo>
                    <a:pt x="3776" y="348"/>
                  </a:lnTo>
                  <a:lnTo>
                    <a:pt x="3793" y="364"/>
                  </a:lnTo>
                  <a:lnTo>
                    <a:pt x="3866" y="289"/>
                  </a:lnTo>
                  <a:lnTo>
                    <a:pt x="3850" y="272"/>
                  </a:lnTo>
                  <a:close/>
                  <a:moveTo>
                    <a:pt x="3958" y="166"/>
                  </a:moveTo>
                  <a:lnTo>
                    <a:pt x="3883" y="239"/>
                  </a:lnTo>
                  <a:lnTo>
                    <a:pt x="3899" y="255"/>
                  </a:lnTo>
                  <a:lnTo>
                    <a:pt x="3975" y="182"/>
                  </a:lnTo>
                  <a:lnTo>
                    <a:pt x="3958" y="166"/>
                  </a:lnTo>
                  <a:close/>
                  <a:moveTo>
                    <a:pt x="4157" y="0"/>
                  </a:moveTo>
                  <a:lnTo>
                    <a:pt x="4124" y="0"/>
                  </a:lnTo>
                  <a:lnTo>
                    <a:pt x="3975" y="149"/>
                  </a:lnTo>
                  <a:lnTo>
                    <a:pt x="3991" y="166"/>
                  </a:lnTo>
                  <a:lnTo>
                    <a:pt x="4157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 rot="5400000">
              <a:off x="6391080" y="-632160"/>
              <a:ext cx="5168520" cy="643284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6432840"/>
                <a:gd name="textAreaBottom" fmla="*/ 6433200 h 6432840"/>
              </a:gdLst>
              <a:ahLst/>
              <a:rect l="textAreaLeft" t="textAreaTop" r="textAreaRight" b="textAreaBottom"/>
              <a:pathLst>
                <a:path w="4157" h="4153">
                  <a:moveTo>
                    <a:pt x="104" y="4016"/>
                  </a:moveTo>
                  <a:lnTo>
                    <a:pt x="0" y="4120"/>
                  </a:lnTo>
                  <a:lnTo>
                    <a:pt x="0" y="4153"/>
                  </a:lnTo>
                  <a:lnTo>
                    <a:pt x="120" y="4032"/>
                  </a:lnTo>
                  <a:lnTo>
                    <a:pt x="104" y="4016"/>
                  </a:lnTo>
                  <a:moveTo>
                    <a:pt x="196" y="3924"/>
                  </a:moveTo>
                  <a:lnTo>
                    <a:pt x="120" y="3999"/>
                  </a:lnTo>
                  <a:lnTo>
                    <a:pt x="137" y="4016"/>
                  </a:lnTo>
                  <a:lnTo>
                    <a:pt x="212" y="3940"/>
                  </a:lnTo>
                  <a:lnTo>
                    <a:pt x="196" y="3924"/>
                  </a:lnTo>
                  <a:moveTo>
                    <a:pt x="302" y="3817"/>
                  </a:moveTo>
                  <a:lnTo>
                    <a:pt x="229" y="3891"/>
                  </a:lnTo>
                  <a:lnTo>
                    <a:pt x="245" y="3907"/>
                  </a:lnTo>
                  <a:lnTo>
                    <a:pt x="319" y="3834"/>
                  </a:lnTo>
                  <a:lnTo>
                    <a:pt x="302" y="3817"/>
                  </a:lnTo>
                  <a:moveTo>
                    <a:pt x="713" y="3406"/>
                  </a:moveTo>
                  <a:lnTo>
                    <a:pt x="319" y="3801"/>
                  </a:lnTo>
                  <a:lnTo>
                    <a:pt x="335" y="3817"/>
                  </a:lnTo>
                  <a:lnTo>
                    <a:pt x="730" y="3423"/>
                  </a:lnTo>
                  <a:lnTo>
                    <a:pt x="713" y="3406"/>
                  </a:lnTo>
                  <a:moveTo>
                    <a:pt x="803" y="3316"/>
                  </a:moveTo>
                  <a:lnTo>
                    <a:pt x="730" y="3389"/>
                  </a:lnTo>
                  <a:lnTo>
                    <a:pt x="746" y="3406"/>
                  </a:lnTo>
                  <a:lnTo>
                    <a:pt x="820" y="3333"/>
                  </a:lnTo>
                  <a:lnTo>
                    <a:pt x="803" y="3316"/>
                  </a:lnTo>
                  <a:moveTo>
                    <a:pt x="912" y="3207"/>
                  </a:moveTo>
                  <a:lnTo>
                    <a:pt x="836" y="3283"/>
                  </a:lnTo>
                  <a:lnTo>
                    <a:pt x="855" y="3300"/>
                  </a:lnTo>
                  <a:lnTo>
                    <a:pt x="928" y="3226"/>
                  </a:lnTo>
                  <a:lnTo>
                    <a:pt x="912" y="3207"/>
                  </a:lnTo>
                  <a:moveTo>
                    <a:pt x="1323" y="2799"/>
                  </a:moveTo>
                  <a:lnTo>
                    <a:pt x="928" y="3191"/>
                  </a:lnTo>
                  <a:lnTo>
                    <a:pt x="945" y="3207"/>
                  </a:lnTo>
                  <a:lnTo>
                    <a:pt x="1340" y="2815"/>
                  </a:lnTo>
                  <a:lnTo>
                    <a:pt x="1323" y="2799"/>
                  </a:lnTo>
                  <a:moveTo>
                    <a:pt x="1413" y="2706"/>
                  </a:moveTo>
                  <a:lnTo>
                    <a:pt x="1340" y="2782"/>
                  </a:lnTo>
                  <a:lnTo>
                    <a:pt x="1356" y="2799"/>
                  </a:lnTo>
                  <a:lnTo>
                    <a:pt x="1429" y="2723"/>
                  </a:lnTo>
                  <a:lnTo>
                    <a:pt x="1413" y="2706"/>
                  </a:lnTo>
                  <a:moveTo>
                    <a:pt x="1522" y="2600"/>
                  </a:moveTo>
                  <a:lnTo>
                    <a:pt x="1446" y="2673"/>
                  </a:lnTo>
                  <a:lnTo>
                    <a:pt x="1463" y="2690"/>
                  </a:lnTo>
                  <a:lnTo>
                    <a:pt x="1538" y="2617"/>
                  </a:lnTo>
                  <a:lnTo>
                    <a:pt x="1522" y="2600"/>
                  </a:lnTo>
                  <a:moveTo>
                    <a:pt x="1933" y="2189"/>
                  </a:moveTo>
                  <a:lnTo>
                    <a:pt x="1538" y="2584"/>
                  </a:lnTo>
                  <a:lnTo>
                    <a:pt x="1555" y="2600"/>
                  </a:lnTo>
                  <a:lnTo>
                    <a:pt x="1949" y="2205"/>
                  </a:lnTo>
                  <a:lnTo>
                    <a:pt x="1933" y="2189"/>
                  </a:lnTo>
                  <a:moveTo>
                    <a:pt x="2023" y="2099"/>
                  </a:moveTo>
                  <a:lnTo>
                    <a:pt x="1949" y="2172"/>
                  </a:lnTo>
                  <a:lnTo>
                    <a:pt x="1966" y="2189"/>
                  </a:lnTo>
                  <a:lnTo>
                    <a:pt x="2039" y="2116"/>
                  </a:lnTo>
                  <a:lnTo>
                    <a:pt x="2023" y="2099"/>
                  </a:lnTo>
                  <a:moveTo>
                    <a:pt x="2129" y="1990"/>
                  </a:moveTo>
                  <a:lnTo>
                    <a:pt x="2056" y="2066"/>
                  </a:lnTo>
                  <a:lnTo>
                    <a:pt x="2072" y="2082"/>
                  </a:lnTo>
                  <a:lnTo>
                    <a:pt x="2146" y="2009"/>
                  </a:lnTo>
                  <a:lnTo>
                    <a:pt x="2129" y="1990"/>
                  </a:lnTo>
                  <a:moveTo>
                    <a:pt x="2540" y="1581"/>
                  </a:moveTo>
                  <a:lnTo>
                    <a:pt x="2146" y="1974"/>
                  </a:lnTo>
                  <a:lnTo>
                    <a:pt x="2162" y="1990"/>
                  </a:lnTo>
                  <a:lnTo>
                    <a:pt x="2557" y="1598"/>
                  </a:lnTo>
                  <a:lnTo>
                    <a:pt x="2540" y="1581"/>
                  </a:lnTo>
                  <a:moveTo>
                    <a:pt x="2632" y="1489"/>
                  </a:moveTo>
                  <a:lnTo>
                    <a:pt x="2557" y="1565"/>
                  </a:lnTo>
                  <a:lnTo>
                    <a:pt x="2573" y="1581"/>
                  </a:lnTo>
                  <a:lnTo>
                    <a:pt x="2649" y="1506"/>
                  </a:lnTo>
                  <a:lnTo>
                    <a:pt x="2632" y="1489"/>
                  </a:lnTo>
                  <a:moveTo>
                    <a:pt x="2739" y="1383"/>
                  </a:moveTo>
                  <a:lnTo>
                    <a:pt x="2666" y="1456"/>
                  </a:lnTo>
                  <a:lnTo>
                    <a:pt x="2682" y="1473"/>
                  </a:lnTo>
                  <a:lnTo>
                    <a:pt x="2755" y="1399"/>
                  </a:lnTo>
                  <a:lnTo>
                    <a:pt x="2739" y="1383"/>
                  </a:lnTo>
                  <a:moveTo>
                    <a:pt x="3150" y="972"/>
                  </a:moveTo>
                  <a:lnTo>
                    <a:pt x="2755" y="1366"/>
                  </a:lnTo>
                  <a:lnTo>
                    <a:pt x="2772" y="1383"/>
                  </a:lnTo>
                  <a:lnTo>
                    <a:pt x="3167" y="988"/>
                  </a:lnTo>
                  <a:lnTo>
                    <a:pt x="3150" y="972"/>
                  </a:lnTo>
                  <a:moveTo>
                    <a:pt x="3240" y="882"/>
                  </a:moveTo>
                  <a:lnTo>
                    <a:pt x="3167" y="955"/>
                  </a:lnTo>
                  <a:lnTo>
                    <a:pt x="3183" y="972"/>
                  </a:lnTo>
                  <a:lnTo>
                    <a:pt x="3259" y="898"/>
                  </a:lnTo>
                  <a:lnTo>
                    <a:pt x="3240" y="882"/>
                  </a:lnTo>
                  <a:moveTo>
                    <a:pt x="3349" y="773"/>
                  </a:moveTo>
                  <a:lnTo>
                    <a:pt x="3275" y="849"/>
                  </a:lnTo>
                  <a:lnTo>
                    <a:pt x="3292" y="865"/>
                  </a:lnTo>
                  <a:lnTo>
                    <a:pt x="3365" y="792"/>
                  </a:lnTo>
                  <a:lnTo>
                    <a:pt x="3349" y="773"/>
                  </a:lnTo>
                  <a:moveTo>
                    <a:pt x="3760" y="364"/>
                  </a:moveTo>
                  <a:lnTo>
                    <a:pt x="3365" y="757"/>
                  </a:lnTo>
                  <a:lnTo>
                    <a:pt x="3382" y="773"/>
                  </a:lnTo>
                  <a:lnTo>
                    <a:pt x="3776" y="381"/>
                  </a:lnTo>
                  <a:lnTo>
                    <a:pt x="3760" y="364"/>
                  </a:lnTo>
                  <a:moveTo>
                    <a:pt x="3850" y="272"/>
                  </a:moveTo>
                  <a:lnTo>
                    <a:pt x="3776" y="348"/>
                  </a:lnTo>
                  <a:lnTo>
                    <a:pt x="3793" y="364"/>
                  </a:lnTo>
                  <a:lnTo>
                    <a:pt x="3866" y="289"/>
                  </a:lnTo>
                  <a:lnTo>
                    <a:pt x="3850" y="272"/>
                  </a:lnTo>
                  <a:moveTo>
                    <a:pt x="3958" y="166"/>
                  </a:moveTo>
                  <a:lnTo>
                    <a:pt x="3883" y="239"/>
                  </a:lnTo>
                  <a:lnTo>
                    <a:pt x="3899" y="255"/>
                  </a:lnTo>
                  <a:lnTo>
                    <a:pt x="3975" y="182"/>
                  </a:lnTo>
                  <a:lnTo>
                    <a:pt x="3958" y="166"/>
                  </a:lnTo>
                  <a:moveTo>
                    <a:pt x="4157" y="0"/>
                  </a:moveTo>
                  <a:lnTo>
                    <a:pt x="4124" y="0"/>
                  </a:lnTo>
                  <a:lnTo>
                    <a:pt x="3975" y="149"/>
                  </a:lnTo>
                  <a:lnTo>
                    <a:pt x="3991" y="166"/>
                  </a:lnTo>
                  <a:lnTo>
                    <a:pt x="41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 rot="5400000">
              <a:off x="4690440" y="-816840"/>
              <a:ext cx="6684120" cy="8318160"/>
            </a:xfrm>
            <a:custGeom>
              <a:avLst/>
              <a:gdLst>
                <a:gd name="textAreaLeft" fmla="*/ 0 w 6684120"/>
                <a:gd name="textAreaRight" fmla="*/ 6684480 w 6684120"/>
                <a:gd name="textAreaTop" fmla="*/ 0 h 8318160"/>
                <a:gd name="textAreaBottom" fmla="*/ 8318520 h 8318160"/>
              </a:gdLst>
              <a:ahLst/>
              <a:rect l="textAreaLeft" t="textAreaTop" r="textAreaRight" b="textAreaBottom"/>
              <a:pathLst>
                <a:path w="5376" h="5370">
                  <a:moveTo>
                    <a:pt x="104" y="5233"/>
                  </a:moveTo>
                  <a:lnTo>
                    <a:pt x="0" y="5337"/>
                  </a:lnTo>
                  <a:lnTo>
                    <a:pt x="0" y="5370"/>
                  </a:lnTo>
                  <a:lnTo>
                    <a:pt x="120" y="5250"/>
                  </a:lnTo>
                  <a:lnTo>
                    <a:pt x="104" y="5233"/>
                  </a:lnTo>
                  <a:close/>
                  <a:moveTo>
                    <a:pt x="193" y="5143"/>
                  </a:moveTo>
                  <a:lnTo>
                    <a:pt x="120" y="5216"/>
                  </a:lnTo>
                  <a:lnTo>
                    <a:pt x="137" y="5233"/>
                  </a:lnTo>
                  <a:lnTo>
                    <a:pt x="210" y="5160"/>
                  </a:lnTo>
                  <a:lnTo>
                    <a:pt x="193" y="5143"/>
                  </a:lnTo>
                  <a:close/>
                  <a:moveTo>
                    <a:pt x="302" y="5034"/>
                  </a:moveTo>
                  <a:lnTo>
                    <a:pt x="227" y="5108"/>
                  </a:lnTo>
                  <a:lnTo>
                    <a:pt x="243" y="5127"/>
                  </a:lnTo>
                  <a:lnTo>
                    <a:pt x="319" y="5051"/>
                  </a:lnTo>
                  <a:lnTo>
                    <a:pt x="302" y="5034"/>
                  </a:lnTo>
                  <a:close/>
                  <a:moveTo>
                    <a:pt x="713" y="4623"/>
                  </a:moveTo>
                  <a:lnTo>
                    <a:pt x="319" y="5018"/>
                  </a:lnTo>
                  <a:lnTo>
                    <a:pt x="335" y="5034"/>
                  </a:lnTo>
                  <a:lnTo>
                    <a:pt x="730" y="4642"/>
                  </a:lnTo>
                  <a:lnTo>
                    <a:pt x="713" y="4623"/>
                  </a:lnTo>
                  <a:close/>
                  <a:moveTo>
                    <a:pt x="803" y="4533"/>
                  </a:moveTo>
                  <a:lnTo>
                    <a:pt x="730" y="4607"/>
                  </a:lnTo>
                  <a:lnTo>
                    <a:pt x="746" y="4623"/>
                  </a:lnTo>
                  <a:lnTo>
                    <a:pt x="820" y="4550"/>
                  </a:lnTo>
                  <a:lnTo>
                    <a:pt x="803" y="4533"/>
                  </a:lnTo>
                  <a:close/>
                  <a:moveTo>
                    <a:pt x="910" y="4427"/>
                  </a:moveTo>
                  <a:lnTo>
                    <a:pt x="836" y="4500"/>
                  </a:lnTo>
                  <a:lnTo>
                    <a:pt x="853" y="4517"/>
                  </a:lnTo>
                  <a:lnTo>
                    <a:pt x="928" y="4444"/>
                  </a:lnTo>
                  <a:lnTo>
                    <a:pt x="910" y="4427"/>
                  </a:lnTo>
                  <a:close/>
                  <a:moveTo>
                    <a:pt x="1321" y="4016"/>
                  </a:moveTo>
                  <a:lnTo>
                    <a:pt x="928" y="4411"/>
                  </a:lnTo>
                  <a:lnTo>
                    <a:pt x="945" y="4427"/>
                  </a:lnTo>
                  <a:lnTo>
                    <a:pt x="1340" y="4032"/>
                  </a:lnTo>
                  <a:lnTo>
                    <a:pt x="1321" y="4016"/>
                  </a:lnTo>
                  <a:close/>
                  <a:moveTo>
                    <a:pt x="1413" y="3926"/>
                  </a:moveTo>
                  <a:lnTo>
                    <a:pt x="1340" y="3999"/>
                  </a:lnTo>
                  <a:lnTo>
                    <a:pt x="1356" y="4016"/>
                  </a:lnTo>
                  <a:lnTo>
                    <a:pt x="1429" y="3943"/>
                  </a:lnTo>
                  <a:lnTo>
                    <a:pt x="1413" y="3926"/>
                  </a:lnTo>
                  <a:close/>
                  <a:moveTo>
                    <a:pt x="1519" y="3817"/>
                  </a:moveTo>
                  <a:lnTo>
                    <a:pt x="1446" y="3891"/>
                  </a:lnTo>
                  <a:lnTo>
                    <a:pt x="1463" y="3909"/>
                  </a:lnTo>
                  <a:lnTo>
                    <a:pt x="1536" y="3834"/>
                  </a:lnTo>
                  <a:lnTo>
                    <a:pt x="1519" y="3817"/>
                  </a:lnTo>
                  <a:close/>
                  <a:moveTo>
                    <a:pt x="1931" y="3406"/>
                  </a:moveTo>
                  <a:lnTo>
                    <a:pt x="1536" y="3801"/>
                  </a:lnTo>
                  <a:lnTo>
                    <a:pt x="1552" y="3817"/>
                  </a:lnTo>
                  <a:lnTo>
                    <a:pt x="1947" y="3425"/>
                  </a:lnTo>
                  <a:lnTo>
                    <a:pt x="1931" y="3406"/>
                  </a:lnTo>
                  <a:close/>
                  <a:moveTo>
                    <a:pt x="2023" y="3316"/>
                  </a:moveTo>
                  <a:lnTo>
                    <a:pt x="1947" y="3389"/>
                  </a:lnTo>
                  <a:lnTo>
                    <a:pt x="1964" y="3406"/>
                  </a:lnTo>
                  <a:lnTo>
                    <a:pt x="2039" y="3333"/>
                  </a:lnTo>
                  <a:lnTo>
                    <a:pt x="2023" y="3316"/>
                  </a:lnTo>
                  <a:close/>
                  <a:moveTo>
                    <a:pt x="2129" y="3210"/>
                  </a:moveTo>
                  <a:lnTo>
                    <a:pt x="2056" y="3283"/>
                  </a:lnTo>
                  <a:lnTo>
                    <a:pt x="2072" y="3300"/>
                  </a:lnTo>
                  <a:lnTo>
                    <a:pt x="2146" y="3226"/>
                  </a:lnTo>
                  <a:lnTo>
                    <a:pt x="2129" y="3210"/>
                  </a:lnTo>
                  <a:close/>
                  <a:moveTo>
                    <a:pt x="2540" y="2799"/>
                  </a:moveTo>
                  <a:lnTo>
                    <a:pt x="2146" y="3193"/>
                  </a:lnTo>
                  <a:lnTo>
                    <a:pt x="2162" y="3210"/>
                  </a:lnTo>
                  <a:lnTo>
                    <a:pt x="2557" y="2815"/>
                  </a:lnTo>
                  <a:lnTo>
                    <a:pt x="2540" y="2799"/>
                  </a:lnTo>
                  <a:close/>
                  <a:moveTo>
                    <a:pt x="2630" y="2709"/>
                  </a:moveTo>
                  <a:lnTo>
                    <a:pt x="2557" y="2782"/>
                  </a:lnTo>
                  <a:lnTo>
                    <a:pt x="2573" y="2799"/>
                  </a:lnTo>
                  <a:lnTo>
                    <a:pt x="2647" y="2725"/>
                  </a:lnTo>
                  <a:lnTo>
                    <a:pt x="2630" y="2709"/>
                  </a:lnTo>
                  <a:close/>
                  <a:moveTo>
                    <a:pt x="2739" y="2600"/>
                  </a:moveTo>
                  <a:lnTo>
                    <a:pt x="2666" y="2676"/>
                  </a:lnTo>
                  <a:lnTo>
                    <a:pt x="2682" y="2692"/>
                  </a:lnTo>
                  <a:lnTo>
                    <a:pt x="2755" y="2617"/>
                  </a:lnTo>
                  <a:lnTo>
                    <a:pt x="2739" y="2600"/>
                  </a:lnTo>
                  <a:close/>
                  <a:moveTo>
                    <a:pt x="3150" y="2189"/>
                  </a:moveTo>
                  <a:lnTo>
                    <a:pt x="2755" y="2584"/>
                  </a:lnTo>
                  <a:lnTo>
                    <a:pt x="2772" y="2600"/>
                  </a:lnTo>
                  <a:lnTo>
                    <a:pt x="3167" y="2208"/>
                  </a:lnTo>
                  <a:lnTo>
                    <a:pt x="3150" y="2189"/>
                  </a:lnTo>
                  <a:close/>
                  <a:moveTo>
                    <a:pt x="3240" y="2099"/>
                  </a:moveTo>
                  <a:lnTo>
                    <a:pt x="3167" y="2172"/>
                  </a:lnTo>
                  <a:lnTo>
                    <a:pt x="3183" y="2189"/>
                  </a:lnTo>
                  <a:lnTo>
                    <a:pt x="3256" y="2116"/>
                  </a:lnTo>
                  <a:lnTo>
                    <a:pt x="3240" y="2099"/>
                  </a:lnTo>
                  <a:close/>
                  <a:moveTo>
                    <a:pt x="3349" y="1993"/>
                  </a:moveTo>
                  <a:lnTo>
                    <a:pt x="3273" y="2066"/>
                  </a:lnTo>
                  <a:lnTo>
                    <a:pt x="3289" y="2082"/>
                  </a:lnTo>
                  <a:lnTo>
                    <a:pt x="3365" y="2009"/>
                  </a:lnTo>
                  <a:lnTo>
                    <a:pt x="3349" y="1993"/>
                  </a:lnTo>
                  <a:close/>
                  <a:moveTo>
                    <a:pt x="3760" y="1581"/>
                  </a:moveTo>
                  <a:lnTo>
                    <a:pt x="3365" y="1976"/>
                  </a:lnTo>
                  <a:lnTo>
                    <a:pt x="3382" y="1993"/>
                  </a:lnTo>
                  <a:lnTo>
                    <a:pt x="3776" y="1598"/>
                  </a:lnTo>
                  <a:lnTo>
                    <a:pt x="3760" y="1581"/>
                  </a:lnTo>
                  <a:close/>
                  <a:moveTo>
                    <a:pt x="3850" y="1492"/>
                  </a:moveTo>
                  <a:lnTo>
                    <a:pt x="3776" y="1565"/>
                  </a:lnTo>
                  <a:lnTo>
                    <a:pt x="3793" y="1581"/>
                  </a:lnTo>
                  <a:lnTo>
                    <a:pt x="3866" y="1508"/>
                  </a:lnTo>
                  <a:lnTo>
                    <a:pt x="3850" y="1492"/>
                  </a:lnTo>
                  <a:close/>
                  <a:moveTo>
                    <a:pt x="3956" y="1383"/>
                  </a:moveTo>
                  <a:lnTo>
                    <a:pt x="3883" y="1458"/>
                  </a:lnTo>
                  <a:lnTo>
                    <a:pt x="3899" y="1475"/>
                  </a:lnTo>
                  <a:lnTo>
                    <a:pt x="3972" y="1399"/>
                  </a:lnTo>
                  <a:lnTo>
                    <a:pt x="3956" y="1383"/>
                  </a:lnTo>
                  <a:close/>
                  <a:moveTo>
                    <a:pt x="4367" y="974"/>
                  </a:moveTo>
                  <a:lnTo>
                    <a:pt x="3972" y="1366"/>
                  </a:lnTo>
                  <a:lnTo>
                    <a:pt x="3991" y="1383"/>
                  </a:lnTo>
                  <a:lnTo>
                    <a:pt x="4384" y="990"/>
                  </a:lnTo>
                  <a:lnTo>
                    <a:pt x="4367" y="974"/>
                  </a:lnTo>
                  <a:close/>
                  <a:moveTo>
                    <a:pt x="4459" y="882"/>
                  </a:moveTo>
                  <a:lnTo>
                    <a:pt x="4384" y="955"/>
                  </a:lnTo>
                  <a:lnTo>
                    <a:pt x="4403" y="974"/>
                  </a:lnTo>
                  <a:lnTo>
                    <a:pt x="4476" y="898"/>
                  </a:lnTo>
                  <a:lnTo>
                    <a:pt x="4459" y="882"/>
                  </a:lnTo>
                  <a:close/>
                  <a:moveTo>
                    <a:pt x="4566" y="775"/>
                  </a:moveTo>
                  <a:lnTo>
                    <a:pt x="4492" y="849"/>
                  </a:lnTo>
                  <a:lnTo>
                    <a:pt x="4509" y="865"/>
                  </a:lnTo>
                  <a:lnTo>
                    <a:pt x="4582" y="792"/>
                  </a:lnTo>
                  <a:lnTo>
                    <a:pt x="4566" y="775"/>
                  </a:lnTo>
                  <a:close/>
                  <a:moveTo>
                    <a:pt x="4977" y="364"/>
                  </a:moveTo>
                  <a:lnTo>
                    <a:pt x="4582" y="759"/>
                  </a:lnTo>
                  <a:lnTo>
                    <a:pt x="4599" y="775"/>
                  </a:lnTo>
                  <a:lnTo>
                    <a:pt x="4993" y="381"/>
                  </a:lnTo>
                  <a:lnTo>
                    <a:pt x="4977" y="364"/>
                  </a:lnTo>
                  <a:close/>
                  <a:moveTo>
                    <a:pt x="5069" y="274"/>
                  </a:moveTo>
                  <a:lnTo>
                    <a:pt x="4993" y="348"/>
                  </a:lnTo>
                  <a:lnTo>
                    <a:pt x="5010" y="364"/>
                  </a:lnTo>
                  <a:lnTo>
                    <a:pt x="5086" y="291"/>
                  </a:lnTo>
                  <a:lnTo>
                    <a:pt x="5069" y="274"/>
                  </a:lnTo>
                  <a:close/>
                  <a:moveTo>
                    <a:pt x="5175" y="166"/>
                  </a:moveTo>
                  <a:lnTo>
                    <a:pt x="5102" y="241"/>
                  </a:lnTo>
                  <a:lnTo>
                    <a:pt x="5119" y="258"/>
                  </a:lnTo>
                  <a:lnTo>
                    <a:pt x="5192" y="182"/>
                  </a:lnTo>
                  <a:lnTo>
                    <a:pt x="5175" y="166"/>
                  </a:lnTo>
                  <a:close/>
                  <a:moveTo>
                    <a:pt x="5376" y="0"/>
                  </a:moveTo>
                  <a:lnTo>
                    <a:pt x="5341" y="0"/>
                  </a:lnTo>
                  <a:lnTo>
                    <a:pt x="5192" y="149"/>
                  </a:lnTo>
                  <a:lnTo>
                    <a:pt x="5208" y="166"/>
                  </a:lnTo>
                  <a:lnTo>
                    <a:pt x="537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 rot="5400000">
              <a:off x="4690440" y="-816840"/>
              <a:ext cx="6684120" cy="8318160"/>
            </a:xfrm>
            <a:custGeom>
              <a:avLst/>
              <a:gdLst>
                <a:gd name="textAreaLeft" fmla="*/ 0 w 6684120"/>
                <a:gd name="textAreaRight" fmla="*/ 6684480 w 6684120"/>
                <a:gd name="textAreaTop" fmla="*/ 0 h 8318160"/>
                <a:gd name="textAreaBottom" fmla="*/ 8318520 h 8318160"/>
              </a:gdLst>
              <a:ahLst/>
              <a:rect l="textAreaLeft" t="textAreaTop" r="textAreaRight" b="textAreaBottom"/>
              <a:pathLst>
                <a:path w="5376" h="5370">
                  <a:moveTo>
                    <a:pt x="104" y="5233"/>
                  </a:moveTo>
                  <a:lnTo>
                    <a:pt x="0" y="5337"/>
                  </a:lnTo>
                  <a:lnTo>
                    <a:pt x="0" y="5370"/>
                  </a:lnTo>
                  <a:lnTo>
                    <a:pt x="120" y="5250"/>
                  </a:lnTo>
                  <a:lnTo>
                    <a:pt x="104" y="5233"/>
                  </a:lnTo>
                  <a:moveTo>
                    <a:pt x="193" y="5143"/>
                  </a:moveTo>
                  <a:lnTo>
                    <a:pt x="120" y="5216"/>
                  </a:lnTo>
                  <a:lnTo>
                    <a:pt x="137" y="5233"/>
                  </a:lnTo>
                  <a:lnTo>
                    <a:pt x="210" y="5160"/>
                  </a:lnTo>
                  <a:lnTo>
                    <a:pt x="193" y="5143"/>
                  </a:lnTo>
                  <a:moveTo>
                    <a:pt x="302" y="5034"/>
                  </a:moveTo>
                  <a:lnTo>
                    <a:pt x="227" y="5108"/>
                  </a:lnTo>
                  <a:lnTo>
                    <a:pt x="243" y="5127"/>
                  </a:lnTo>
                  <a:lnTo>
                    <a:pt x="319" y="5051"/>
                  </a:lnTo>
                  <a:lnTo>
                    <a:pt x="302" y="5034"/>
                  </a:lnTo>
                  <a:moveTo>
                    <a:pt x="713" y="4623"/>
                  </a:moveTo>
                  <a:lnTo>
                    <a:pt x="319" y="5018"/>
                  </a:lnTo>
                  <a:lnTo>
                    <a:pt x="335" y="5034"/>
                  </a:lnTo>
                  <a:lnTo>
                    <a:pt x="730" y="4642"/>
                  </a:lnTo>
                  <a:lnTo>
                    <a:pt x="713" y="4623"/>
                  </a:lnTo>
                  <a:moveTo>
                    <a:pt x="803" y="4533"/>
                  </a:moveTo>
                  <a:lnTo>
                    <a:pt x="730" y="4607"/>
                  </a:lnTo>
                  <a:lnTo>
                    <a:pt x="746" y="4623"/>
                  </a:lnTo>
                  <a:lnTo>
                    <a:pt x="820" y="4550"/>
                  </a:lnTo>
                  <a:lnTo>
                    <a:pt x="803" y="4533"/>
                  </a:lnTo>
                  <a:moveTo>
                    <a:pt x="910" y="4427"/>
                  </a:moveTo>
                  <a:lnTo>
                    <a:pt x="836" y="4500"/>
                  </a:lnTo>
                  <a:lnTo>
                    <a:pt x="853" y="4517"/>
                  </a:lnTo>
                  <a:lnTo>
                    <a:pt x="928" y="4444"/>
                  </a:lnTo>
                  <a:lnTo>
                    <a:pt x="910" y="4427"/>
                  </a:lnTo>
                  <a:moveTo>
                    <a:pt x="1321" y="4016"/>
                  </a:moveTo>
                  <a:lnTo>
                    <a:pt x="928" y="4411"/>
                  </a:lnTo>
                  <a:lnTo>
                    <a:pt x="945" y="4427"/>
                  </a:lnTo>
                  <a:lnTo>
                    <a:pt x="1340" y="4032"/>
                  </a:lnTo>
                  <a:lnTo>
                    <a:pt x="1321" y="4016"/>
                  </a:lnTo>
                  <a:moveTo>
                    <a:pt x="1413" y="3926"/>
                  </a:moveTo>
                  <a:lnTo>
                    <a:pt x="1340" y="3999"/>
                  </a:lnTo>
                  <a:lnTo>
                    <a:pt x="1356" y="4016"/>
                  </a:lnTo>
                  <a:lnTo>
                    <a:pt x="1429" y="3943"/>
                  </a:lnTo>
                  <a:lnTo>
                    <a:pt x="1413" y="3926"/>
                  </a:lnTo>
                  <a:moveTo>
                    <a:pt x="1519" y="3817"/>
                  </a:moveTo>
                  <a:lnTo>
                    <a:pt x="1446" y="3891"/>
                  </a:lnTo>
                  <a:lnTo>
                    <a:pt x="1463" y="3909"/>
                  </a:lnTo>
                  <a:lnTo>
                    <a:pt x="1536" y="3834"/>
                  </a:lnTo>
                  <a:lnTo>
                    <a:pt x="1519" y="3817"/>
                  </a:lnTo>
                  <a:moveTo>
                    <a:pt x="1931" y="3406"/>
                  </a:moveTo>
                  <a:lnTo>
                    <a:pt x="1536" y="3801"/>
                  </a:lnTo>
                  <a:lnTo>
                    <a:pt x="1552" y="3817"/>
                  </a:lnTo>
                  <a:lnTo>
                    <a:pt x="1947" y="3425"/>
                  </a:lnTo>
                  <a:lnTo>
                    <a:pt x="1931" y="3406"/>
                  </a:lnTo>
                  <a:moveTo>
                    <a:pt x="2023" y="3316"/>
                  </a:moveTo>
                  <a:lnTo>
                    <a:pt x="1947" y="3389"/>
                  </a:lnTo>
                  <a:lnTo>
                    <a:pt x="1964" y="3406"/>
                  </a:lnTo>
                  <a:lnTo>
                    <a:pt x="2039" y="3333"/>
                  </a:lnTo>
                  <a:lnTo>
                    <a:pt x="2023" y="3316"/>
                  </a:lnTo>
                  <a:moveTo>
                    <a:pt x="2129" y="3210"/>
                  </a:moveTo>
                  <a:lnTo>
                    <a:pt x="2056" y="3283"/>
                  </a:lnTo>
                  <a:lnTo>
                    <a:pt x="2072" y="3300"/>
                  </a:lnTo>
                  <a:lnTo>
                    <a:pt x="2146" y="3226"/>
                  </a:lnTo>
                  <a:lnTo>
                    <a:pt x="2129" y="3210"/>
                  </a:lnTo>
                  <a:moveTo>
                    <a:pt x="2540" y="2799"/>
                  </a:moveTo>
                  <a:lnTo>
                    <a:pt x="2146" y="3193"/>
                  </a:lnTo>
                  <a:lnTo>
                    <a:pt x="2162" y="3210"/>
                  </a:lnTo>
                  <a:lnTo>
                    <a:pt x="2557" y="2815"/>
                  </a:lnTo>
                  <a:lnTo>
                    <a:pt x="2540" y="2799"/>
                  </a:lnTo>
                  <a:moveTo>
                    <a:pt x="2630" y="2709"/>
                  </a:moveTo>
                  <a:lnTo>
                    <a:pt x="2557" y="2782"/>
                  </a:lnTo>
                  <a:lnTo>
                    <a:pt x="2573" y="2799"/>
                  </a:lnTo>
                  <a:lnTo>
                    <a:pt x="2647" y="2725"/>
                  </a:lnTo>
                  <a:lnTo>
                    <a:pt x="2630" y="2709"/>
                  </a:lnTo>
                  <a:moveTo>
                    <a:pt x="2739" y="2600"/>
                  </a:moveTo>
                  <a:lnTo>
                    <a:pt x="2666" y="2676"/>
                  </a:lnTo>
                  <a:lnTo>
                    <a:pt x="2682" y="2692"/>
                  </a:lnTo>
                  <a:lnTo>
                    <a:pt x="2755" y="2617"/>
                  </a:lnTo>
                  <a:lnTo>
                    <a:pt x="2739" y="2600"/>
                  </a:lnTo>
                  <a:moveTo>
                    <a:pt x="3150" y="2189"/>
                  </a:moveTo>
                  <a:lnTo>
                    <a:pt x="2755" y="2584"/>
                  </a:lnTo>
                  <a:lnTo>
                    <a:pt x="2772" y="2600"/>
                  </a:lnTo>
                  <a:lnTo>
                    <a:pt x="3167" y="2208"/>
                  </a:lnTo>
                  <a:lnTo>
                    <a:pt x="3150" y="2189"/>
                  </a:lnTo>
                  <a:moveTo>
                    <a:pt x="3240" y="2099"/>
                  </a:moveTo>
                  <a:lnTo>
                    <a:pt x="3167" y="2172"/>
                  </a:lnTo>
                  <a:lnTo>
                    <a:pt x="3183" y="2189"/>
                  </a:lnTo>
                  <a:lnTo>
                    <a:pt x="3256" y="2116"/>
                  </a:lnTo>
                  <a:lnTo>
                    <a:pt x="3240" y="2099"/>
                  </a:lnTo>
                  <a:moveTo>
                    <a:pt x="3349" y="1993"/>
                  </a:moveTo>
                  <a:lnTo>
                    <a:pt x="3273" y="2066"/>
                  </a:lnTo>
                  <a:lnTo>
                    <a:pt x="3289" y="2082"/>
                  </a:lnTo>
                  <a:lnTo>
                    <a:pt x="3365" y="2009"/>
                  </a:lnTo>
                  <a:lnTo>
                    <a:pt x="3349" y="1993"/>
                  </a:lnTo>
                  <a:moveTo>
                    <a:pt x="3760" y="1581"/>
                  </a:moveTo>
                  <a:lnTo>
                    <a:pt x="3365" y="1976"/>
                  </a:lnTo>
                  <a:lnTo>
                    <a:pt x="3382" y="1993"/>
                  </a:lnTo>
                  <a:lnTo>
                    <a:pt x="3776" y="1598"/>
                  </a:lnTo>
                  <a:lnTo>
                    <a:pt x="3760" y="1581"/>
                  </a:lnTo>
                  <a:moveTo>
                    <a:pt x="3850" y="1492"/>
                  </a:moveTo>
                  <a:lnTo>
                    <a:pt x="3776" y="1565"/>
                  </a:lnTo>
                  <a:lnTo>
                    <a:pt x="3793" y="1581"/>
                  </a:lnTo>
                  <a:lnTo>
                    <a:pt x="3866" y="1508"/>
                  </a:lnTo>
                  <a:lnTo>
                    <a:pt x="3850" y="1492"/>
                  </a:lnTo>
                  <a:moveTo>
                    <a:pt x="3956" y="1383"/>
                  </a:moveTo>
                  <a:lnTo>
                    <a:pt x="3883" y="1458"/>
                  </a:lnTo>
                  <a:lnTo>
                    <a:pt x="3899" y="1475"/>
                  </a:lnTo>
                  <a:lnTo>
                    <a:pt x="3972" y="1399"/>
                  </a:lnTo>
                  <a:lnTo>
                    <a:pt x="3956" y="1383"/>
                  </a:lnTo>
                  <a:moveTo>
                    <a:pt x="4367" y="974"/>
                  </a:moveTo>
                  <a:lnTo>
                    <a:pt x="3972" y="1366"/>
                  </a:lnTo>
                  <a:lnTo>
                    <a:pt x="3991" y="1383"/>
                  </a:lnTo>
                  <a:lnTo>
                    <a:pt x="4384" y="990"/>
                  </a:lnTo>
                  <a:lnTo>
                    <a:pt x="4367" y="974"/>
                  </a:lnTo>
                  <a:moveTo>
                    <a:pt x="4459" y="882"/>
                  </a:moveTo>
                  <a:lnTo>
                    <a:pt x="4384" y="955"/>
                  </a:lnTo>
                  <a:lnTo>
                    <a:pt x="4403" y="974"/>
                  </a:lnTo>
                  <a:lnTo>
                    <a:pt x="4476" y="898"/>
                  </a:lnTo>
                  <a:lnTo>
                    <a:pt x="4459" y="882"/>
                  </a:lnTo>
                  <a:moveTo>
                    <a:pt x="4566" y="775"/>
                  </a:moveTo>
                  <a:lnTo>
                    <a:pt x="4492" y="849"/>
                  </a:lnTo>
                  <a:lnTo>
                    <a:pt x="4509" y="865"/>
                  </a:lnTo>
                  <a:lnTo>
                    <a:pt x="4582" y="792"/>
                  </a:lnTo>
                  <a:lnTo>
                    <a:pt x="4566" y="775"/>
                  </a:lnTo>
                  <a:moveTo>
                    <a:pt x="4977" y="364"/>
                  </a:moveTo>
                  <a:lnTo>
                    <a:pt x="4582" y="759"/>
                  </a:lnTo>
                  <a:lnTo>
                    <a:pt x="4599" y="775"/>
                  </a:lnTo>
                  <a:lnTo>
                    <a:pt x="4993" y="381"/>
                  </a:lnTo>
                  <a:lnTo>
                    <a:pt x="4977" y="364"/>
                  </a:lnTo>
                  <a:moveTo>
                    <a:pt x="5069" y="274"/>
                  </a:moveTo>
                  <a:lnTo>
                    <a:pt x="4993" y="348"/>
                  </a:lnTo>
                  <a:lnTo>
                    <a:pt x="5010" y="364"/>
                  </a:lnTo>
                  <a:lnTo>
                    <a:pt x="5086" y="291"/>
                  </a:lnTo>
                  <a:lnTo>
                    <a:pt x="5069" y="274"/>
                  </a:lnTo>
                  <a:moveTo>
                    <a:pt x="5175" y="166"/>
                  </a:moveTo>
                  <a:lnTo>
                    <a:pt x="5102" y="241"/>
                  </a:lnTo>
                  <a:lnTo>
                    <a:pt x="5119" y="258"/>
                  </a:lnTo>
                  <a:lnTo>
                    <a:pt x="5192" y="182"/>
                  </a:lnTo>
                  <a:lnTo>
                    <a:pt x="5175" y="166"/>
                  </a:lnTo>
                  <a:moveTo>
                    <a:pt x="5376" y="0"/>
                  </a:moveTo>
                  <a:lnTo>
                    <a:pt x="5341" y="0"/>
                  </a:lnTo>
                  <a:lnTo>
                    <a:pt x="5192" y="149"/>
                  </a:lnTo>
                  <a:lnTo>
                    <a:pt x="5208" y="166"/>
                  </a:lnTo>
                  <a:lnTo>
                    <a:pt x="53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 rot="5400000">
              <a:off x="2853720" y="-865440"/>
              <a:ext cx="6858000" cy="858924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9240"/>
                <a:gd name="textAreaBottom" fmla="*/ 8589600 h 8589240"/>
              </a:gdLst>
              <a:ahLst/>
              <a:rect l="textAreaLeft" t="textAreaTop" r="textAreaRight" b="textAreaBottom"/>
              <a:pathLst>
                <a:path w="5516" h="5545">
                  <a:moveTo>
                    <a:pt x="104" y="5408"/>
                  </a:moveTo>
                  <a:lnTo>
                    <a:pt x="0" y="5512"/>
                  </a:lnTo>
                  <a:lnTo>
                    <a:pt x="0" y="5545"/>
                  </a:lnTo>
                  <a:lnTo>
                    <a:pt x="120" y="5425"/>
                  </a:lnTo>
                  <a:lnTo>
                    <a:pt x="104" y="5408"/>
                  </a:lnTo>
                  <a:close/>
                  <a:moveTo>
                    <a:pt x="193" y="5318"/>
                  </a:moveTo>
                  <a:lnTo>
                    <a:pt x="120" y="5392"/>
                  </a:lnTo>
                  <a:lnTo>
                    <a:pt x="137" y="5408"/>
                  </a:lnTo>
                  <a:lnTo>
                    <a:pt x="210" y="5335"/>
                  </a:lnTo>
                  <a:lnTo>
                    <a:pt x="193" y="5318"/>
                  </a:lnTo>
                  <a:close/>
                  <a:moveTo>
                    <a:pt x="300" y="5210"/>
                  </a:moveTo>
                  <a:lnTo>
                    <a:pt x="227" y="5285"/>
                  </a:lnTo>
                  <a:lnTo>
                    <a:pt x="243" y="5302"/>
                  </a:lnTo>
                  <a:lnTo>
                    <a:pt x="316" y="5229"/>
                  </a:lnTo>
                  <a:lnTo>
                    <a:pt x="300" y="5210"/>
                  </a:lnTo>
                  <a:close/>
                  <a:moveTo>
                    <a:pt x="711" y="4801"/>
                  </a:moveTo>
                  <a:lnTo>
                    <a:pt x="316" y="5193"/>
                  </a:lnTo>
                  <a:lnTo>
                    <a:pt x="335" y="5210"/>
                  </a:lnTo>
                  <a:lnTo>
                    <a:pt x="728" y="4817"/>
                  </a:lnTo>
                  <a:lnTo>
                    <a:pt x="711" y="4801"/>
                  </a:lnTo>
                  <a:close/>
                  <a:moveTo>
                    <a:pt x="803" y="4709"/>
                  </a:moveTo>
                  <a:lnTo>
                    <a:pt x="728" y="4784"/>
                  </a:lnTo>
                  <a:lnTo>
                    <a:pt x="746" y="4801"/>
                  </a:lnTo>
                  <a:lnTo>
                    <a:pt x="820" y="4725"/>
                  </a:lnTo>
                  <a:lnTo>
                    <a:pt x="803" y="4709"/>
                  </a:lnTo>
                  <a:close/>
                  <a:moveTo>
                    <a:pt x="910" y="4602"/>
                  </a:moveTo>
                  <a:lnTo>
                    <a:pt x="836" y="4676"/>
                  </a:lnTo>
                  <a:lnTo>
                    <a:pt x="853" y="4692"/>
                  </a:lnTo>
                  <a:lnTo>
                    <a:pt x="926" y="4619"/>
                  </a:lnTo>
                  <a:lnTo>
                    <a:pt x="910" y="4602"/>
                  </a:lnTo>
                  <a:close/>
                  <a:moveTo>
                    <a:pt x="1321" y="4191"/>
                  </a:moveTo>
                  <a:lnTo>
                    <a:pt x="926" y="4586"/>
                  </a:lnTo>
                  <a:lnTo>
                    <a:pt x="943" y="4602"/>
                  </a:lnTo>
                  <a:lnTo>
                    <a:pt x="1337" y="4208"/>
                  </a:lnTo>
                  <a:lnTo>
                    <a:pt x="1321" y="4191"/>
                  </a:lnTo>
                  <a:close/>
                  <a:moveTo>
                    <a:pt x="1413" y="4101"/>
                  </a:moveTo>
                  <a:lnTo>
                    <a:pt x="1337" y="4174"/>
                  </a:lnTo>
                  <a:lnTo>
                    <a:pt x="1354" y="4191"/>
                  </a:lnTo>
                  <a:lnTo>
                    <a:pt x="1429" y="4118"/>
                  </a:lnTo>
                  <a:lnTo>
                    <a:pt x="1413" y="4101"/>
                  </a:lnTo>
                  <a:close/>
                  <a:moveTo>
                    <a:pt x="1519" y="3992"/>
                  </a:moveTo>
                  <a:lnTo>
                    <a:pt x="1446" y="4068"/>
                  </a:lnTo>
                  <a:lnTo>
                    <a:pt x="1463" y="4085"/>
                  </a:lnTo>
                  <a:lnTo>
                    <a:pt x="1536" y="4011"/>
                  </a:lnTo>
                  <a:lnTo>
                    <a:pt x="1519" y="3992"/>
                  </a:lnTo>
                  <a:close/>
                  <a:moveTo>
                    <a:pt x="1931" y="3584"/>
                  </a:moveTo>
                  <a:lnTo>
                    <a:pt x="1536" y="3976"/>
                  </a:lnTo>
                  <a:lnTo>
                    <a:pt x="1552" y="3992"/>
                  </a:lnTo>
                  <a:lnTo>
                    <a:pt x="1947" y="3600"/>
                  </a:lnTo>
                  <a:lnTo>
                    <a:pt x="1931" y="3584"/>
                  </a:lnTo>
                  <a:close/>
                  <a:moveTo>
                    <a:pt x="2020" y="3491"/>
                  </a:moveTo>
                  <a:lnTo>
                    <a:pt x="1947" y="3567"/>
                  </a:lnTo>
                  <a:lnTo>
                    <a:pt x="1964" y="3584"/>
                  </a:lnTo>
                  <a:lnTo>
                    <a:pt x="2037" y="3508"/>
                  </a:lnTo>
                  <a:lnTo>
                    <a:pt x="2020" y="3491"/>
                  </a:lnTo>
                  <a:close/>
                  <a:moveTo>
                    <a:pt x="2129" y="3385"/>
                  </a:moveTo>
                  <a:lnTo>
                    <a:pt x="2053" y="3458"/>
                  </a:lnTo>
                  <a:lnTo>
                    <a:pt x="2072" y="3475"/>
                  </a:lnTo>
                  <a:lnTo>
                    <a:pt x="2146" y="3402"/>
                  </a:lnTo>
                  <a:lnTo>
                    <a:pt x="2129" y="3385"/>
                  </a:lnTo>
                  <a:close/>
                  <a:moveTo>
                    <a:pt x="2540" y="2974"/>
                  </a:moveTo>
                  <a:lnTo>
                    <a:pt x="2146" y="3369"/>
                  </a:lnTo>
                  <a:lnTo>
                    <a:pt x="2162" y="3385"/>
                  </a:lnTo>
                  <a:lnTo>
                    <a:pt x="2557" y="2990"/>
                  </a:lnTo>
                  <a:lnTo>
                    <a:pt x="2540" y="2974"/>
                  </a:lnTo>
                  <a:close/>
                  <a:moveTo>
                    <a:pt x="2630" y="2884"/>
                  </a:moveTo>
                  <a:lnTo>
                    <a:pt x="2557" y="2957"/>
                  </a:lnTo>
                  <a:lnTo>
                    <a:pt x="2573" y="2974"/>
                  </a:lnTo>
                  <a:lnTo>
                    <a:pt x="2647" y="2901"/>
                  </a:lnTo>
                  <a:lnTo>
                    <a:pt x="2630" y="2884"/>
                  </a:lnTo>
                  <a:close/>
                  <a:moveTo>
                    <a:pt x="2739" y="2778"/>
                  </a:moveTo>
                  <a:lnTo>
                    <a:pt x="2663" y="2851"/>
                  </a:lnTo>
                  <a:lnTo>
                    <a:pt x="2680" y="2867"/>
                  </a:lnTo>
                  <a:lnTo>
                    <a:pt x="2755" y="2794"/>
                  </a:lnTo>
                  <a:lnTo>
                    <a:pt x="2739" y="2778"/>
                  </a:lnTo>
                  <a:close/>
                  <a:moveTo>
                    <a:pt x="3150" y="2366"/>
                  </a:moveTo>
                  <a:lnTo>
                    <a:pt x="2755" y="2759"/>
                  </a:lnTo>
                  <a:lnTo>
                    <a:pt x="2772" y="2778"/>
                  </a:lnTo>
                  <a:lnTo>
                    <a:pt x="3167" y="2383"/>
                  </a:lnTo>
                  <a:lnTo>
                    <a:pt x="3150" y="2366"/>
                  </a:lnTo>
                  <a:close/>
                  <a:moveTo>
                    <a:pt x="3240" y="2274"/>
                  </a:moveTo>
                  <a:lnTo>
                    <a:pt x="3167" y="2350"/>
                  </a:lnTo>
                  <a:lnTo>
                    <a:pt x="3183" y="2366"/>
                  </a:lnTo>
                  <a:lnTo>
                    <a:pt x="3256" y="2291"/>
                  </a:lnTo>
                  <a:lnTo>
                    <a:pt x="3240" y="2274"/>
                  </a:lnTo>
                  <a:close/>
                  <a:moveTo>
                    <a:pt x="3346" y="2168"/>
                  </a:moveTo>
                  <a:lnTo>
                    <a:pt x="3273" y="2241"/>
                  </a:lnTo>
                  <a:lnTo>
                    <a:pt x="3289" y="2258"/>
                  </a:lnTo>
                  <a:lnTo>
                    <a:pt x="3363" y="2184"/>
                  </a:lnTo>
                  <a:lnTo>
                    <a:pt x="3346" y="2168"/>
                  </a:lnTo>
                  <a:close/>
                  <a:moveTo>
                    <a:pt x="3757" y="1757"/>
                  </a:moveTo>
                  <a:lnTo>
                    <a:pt x="3363" y="2151"/>
                  </a:lnTo>
                  <a:lnTo>
                    <a:pt x="3379" y="2168"/>
                  </a:lnTo>
                  <a:lnTo>
                    <a:pt x="3774" y="1773"/>
                  </a:lnTo>
                  <a:lnTo>
                    <a:pt x="3757" y="1757"/>
                  </a:lnTo>
                  <a:close/>
                  <a:moveTo>
                    <a:pt x="3850" y="1667"/>
                  </a:moveTo>
                  <a:lnTo>
                    <a:pt x="3774" y="1740"/>
                  </a:lnTo>
                  <a:lnTo>
                    <a:pt x="3790" y="1757"/>
                  </a:lnTo>
                  <a:lnTo>
                    <a:pt x="3866" y="1683"/>
                  </a:lnTo>
                  <a:lnTo>
                    <a:pt x="3850" y="1667"/>
                  </a:lnTo>
                  <a:close/>
                  <a:moveTo>
                    <a:pt x="3956" y="1560"/>
                  </a:moveTo>
                  <a:lnTo>
                    <a:pt x="3883" y="1634"/>
                  </a:lnTo>
                  <a:lnTo>
                    <a:pt x="3899" y="1650"/>
                  </a:lnTo>
                  <a:lnTo>
                    <a:pt x="3972" y="1577"/>
                  </a:lnTo>
                  <a:lnTo>
                    <a:pt x="3956" y="1560"/>
                  </a:lnTo>
                  <a:close/>
                  <a:moveTo>
                    <a:pt x="4367" y="1149"/>
                  </a:moveTo>
                  <a:lnTo>
                    <a:pt x="3972" y="1542"/>
                  </a:lnTo>
                  <a:lnTo>
                    <a:pt x="3989" y="1560"/>
                  </a:lnTo>
                  <a:lnTo>
                    <a:pt x="4384" y="1166"/>
                  </a:lnTo>
                  <a:lnTo>
                    <a:pt x="4367" y="1149"/>
                  </a:lnTo>
                  <a:close/>
                  <a:moveTo>
                    <a:pt x="4457" y="1057"/>
                  </a:moveTo>
                  <a:lnTo>
                    <a:pt x="4384" y="1133"/>
                  </a:lnTo>
                  <a:lnTo>
                    <a:pt x="4400" y="1149"/>
                  </a:lnTo>
                  <a:lnTo>
                    <a:pt x="4476" y="1076"/>
                  </a:lnTo>
                  <a:lnTo>
                    <a:pt x="4457" y="1057"/>
                  </a:lnTo>
                  <a:close/>
                  <a:moveTo>
                    <a:pt x="4566" y="951"/>
                  </a:moveTo>
                  <a:lnTo>
                    <a:pt x="4492" y="1024"/>
                  </a:lnTo>
                  <a:lnTo>
                    <a:pt x="4509" y="1040"/>
                  </a:lnTo>
                  <a:lnTo>
                    <a:pt x="4582" y="967"/>
                  </a:lnTo>
                  <a:lnTo>
                    <a:pt x="4566" y="951"/>
                  </a:lnTo>
                  <a:close/>
                  <a:moveTo>
                    <a:pt x="4977" y="539"/>
                  </a:moveTo>
                  <a:lnTo>
                    <a:pt x="4582" y="934"/>
                  </a:lnTo>
                  <a:lnTo>
                    <a:pt x="4599" y="951"/>
                  </a:lnTo>
                  <a:lnTo>
                    <a:pt x="4993" y="556"/>
                  </a:lnTo>
                  <a:lnTo>
                    <a:pt x="4977" y="539"/>
                  </a:lnTo>
                  <a:close/>
                  <a:moveTo>
                    <a:pt x="5067" y="450"/>
                  </a:moveTo>
                  <a:lnTo>
                    <a:pt x="4993" y="523"/>
                  </a:lnTo>
                  <a:lnTo>
                    <a:pt x="5010" y="539"/>
                  </a:lnTo>
                  <a:lnTo>
                    <a:pt x="5083" y="466"/>
                  </a:lnTo>
                  <a:lnTo>
                    <a:pt x="5067" y="450"/>
                  </a:lnTo>
                  <a:close/>
                  <a:moveTo>
                    <a:pt x="5175" y="343"/>
                  </a:moveTo>
                  <a:lnTo>
                    <a:pt x="5100" y="416"/>
                  </a:lnTo>
                  <a:lnTo>
                    <a:pt x="5116" y="433"/>
                  </a:lnTo>
                  <a:lnTo>
                    <a:pt x="5192" y="360"/>
                  </a:lnTo>
                  <a:lnTo>
                    <a:pt x="5175" y="343"/>
                  </a:lnTo>
                  <a:close/>
                  <a:moveTo>
                    <a:pt x="5516" y="0"/>
                  </a:moveTo>
                  <a:lnTo>
                    <a:pt x="5192" y="324"/>
                  </a:lnTo>
                  <a:lnTo>
                    <a:pt x="5208" y="343"/>
                  </a:lnTo>
                  <a:lnTo>
                    <a:pt x="5516" y="36"/>
                  </a:lnTo>
                  <a:lnTo>
                    <a:pt x="55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 rot="5400000">
              <a:off x="2853720" y="-865440"/>
              <a:ext cx="6858000" cy="858924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9240"/>
                <a:gd name="textAreaBottom" fmla="*/ 8589600 h 8589240"/>
              </a:gdLst>
              <a:ahLst/>
              <a:rect l="textAreaLeft" t="textAreaTop" r="textAreaRight" b="textAreaBottom"/>
              <a:pathLst>
                <a:path w="5516" h="5545">
                  <a:moveTo>
                    <a:pt x="104" y="5408"/>
                  </a:moveTo>
                  <a:lnTo>
                    <a:pt x="0" y="5512"/>
                  </a:lnTo>
                  <a:lnTo>
                    <a:pt x="0" y="5545"/>
                  </a:lnTo>
                  <a:lnTo>
                    <a:pt x="120" y="5425"/>
                  </a:lnTo>
                  <a:lnTo>
                    <a:pt x="104" y="5408"/>
                  </a:lnTo>
                  <a:moveTo>
                    <a:pt x="193" y="5318"/>
                  </a:moveTo>
                  <a:lnTo>
                    <a:pt x="120" y="5392"/>
                  </a:lnTo>
                  <a:lnTo>
                    <a:pt x="137" y="5408"/>
                  </a:lnTo>
                  <a:lnTo>
                    <a:pt x="210" y="5335"/>
                  </a:lnTo>
                  <a:lnTo>
                    <a:pt x="193" y="5318"/>
                  </a:lnTo>
                  <a:moveTo>
                    <a:pt x="300" y="5210"/>
                  </a:moveTo>
                  <a:lnTo>
                    <a:pt x="227" y="5285"/>
                  </a:lnTo>
                  <a:lnTo>
                    <a:pt x="243" y="5302"/>
                  </a:lnTo>
                  <a:lnTo>
                    <a:pt x="316" y="5229"/>
                  </a:lnTo>
                  <a:lnTo>
                    <a:pt x="300" y="5210"/>
                  </a:lnTo>
                  <a:moveTo>
                    <a:pt x="711" y="4801"/>
                  </a:moveTo>
                  <a:lnTo>
                    <a:pt x="316" y="5193"/>
                  </a:lnTo>
                  <a:lnTo>
                    <a:pt x="335" y="5210"/>
                  </a:lnTo>
                  <a:lnTo>
                    <a:pt x="728" y="4817"/>
                  </a:lnTo>
                  <a:lnTo>
                    <a:pt x="711" y="4801"/>
                  </a:lnTo>
                  <a:moveTo>
                    <a:pt x="803" y="4709"/>
                  </a:moveTo>
                  <a:lnTo>
                    <a:pt x="728" y="4784"/>
                  </a:lnTo>
                  <a:lnTo>
                    <a:pt x="746" y="4801"/>
                  </a:lnTo>
                  <a:lnTo>
                    <a:pt x="820" y="4725"/>
                  </a:lnTo>
                  <a:lnTo>
                    <a:pt x="803" y="4709"/>
                  </a:lnTo>
                  <a:moveTo>
                    <a:pt x="910" y="4602"/>
                  </a:moveTo>
                  <a:lnTo>
                    <a:pt x="836" y="4676"/>
                  </a:lnTo>
                  <a:lnTo>
                    <a:pt x="853" y="4692"/>
                  </a:lnTo>
                  <a:lnTo>
                    <a:pt x="926" y="4619"/>
                  </a:lnTo>
                  <a:lnTo>
                    <a:pt x="910" y="4602"/>
                  </a:lnTo>
                  <a:moveTo>
                    <a:pt x="1321" y="4191"/>
                  </a:moveTo>
                  <a:lnTo>
                    <a:pt x="926" y="4586"/>
                  </a:lnTo>
                  <a:lnTo>
                    <a:pt x="943" y="4602"/>
                  </a:lnTo>
                  <a:lnTo>
                    <a:pt x="1337" y="4208"/>
                  </a:lnTo>
                  <a:lnTo>
                    <a:pt x="1321" y="4191"/>
                  </a:lnTo>
                  <a:moveTo>
                    <a:pt x="1413" y="4101"/>
                  </a:moveTo>
                  <a:lnTo>
                    <a:pt x="1337" y="4174"/>
                  </a:lnTo>
                  <a:lnTo>
                    <a:pt x="1354" y="4191"/>
                  </a:lnTo>
                  <a:lnTo>
                    <a:pt x="1429" y="4118"/>
                  </a:lnTo>
                  <a:lnTo>
                    <a:pt x="1413" y="4101"/>
                  </a:lnTo>
                  <a:moveTo>
                    <a:pt x="1519" y="3992"/>
                  </a:moveTo>
                  <a:lnTo>
                    <a:pt x="1446" y="4068"/>
                  </a:lnTo>
                  <a:lnTo>
                    <a:pt x="1463" y="4085"/>
                  </a:lnTo>
                  <a:lnTo>
                    <a:pt x="1536" y="4011"/>
                  </a:lnTo>
                  <a:lnTo>
                    <a:pt x="1519" y="3992"/>
                  </a:lnTo>
                  <a:moveTo>
                    <a:pt x="1931" y="3584"/>
                  </a:moveTo>
                  <a:lnTo>
                    <a:pt x="1536" y="3976"/>
                  </a:lnTo>
                  <a:lnTo>
                    <a:pt x="1552" y="3992"/>
                  </a:lnTo>
                  <a:lnTo>
                    <a:pt x="1947" y="3600"/>
                  </a:lnTo>
                  <a:lnTo>
                    <a:pt x="1931" y="3584"/>
                  </a:lnTo>
                  <a:moveTo>
                    <a:pt x="2020" y="3491"/>
                  </a:moveTo>
                  <a:lnTo>
                    <a:pt x="1947" y="3567"/>
                  </a:lnTo>
                  <a:lnTo>
                    <a:pt x="1964" y="3584"/>
                  </a:lnTo>
                  <a:lnTo>
                    <a:pt x="2037" y="3508"/>
                  </a:lnTo>
                  <a:lnTo>
                    <a:pt x="2020" y="3491"/>
                  </a:lnTo>
                  <a:moveTo>
                    <a:pt x="2129" y="3385"/>
                  </a:moveTo>
                  <a:lnTo>
                    <a:pt x="2053" y="3458"/>
                  </a:lnTo>
                  <a:lnTo>
                    <a:pt x="2072" y="3475"/>
                  </a:lnTo>
                  <a:lnTo>
                    <a:pt x="2146" y="3402"/>
                  </a:lnTo>
                  <a:lnTo>
                    <a:pt x="2129" y="3385"/>
                  </a:lnTo>
                  <a:moveTo>
                    <a:pt x="2540" y="2974"/>
                  </a:moveTo>
                  <a:lnTo>
                    <a:pt x="2146" y="3369"/>
                  </a:lnTo>
                  <a:lnTo>
                    <a:pt x="2162" y="3385"/>
                  </a:lnTo>
                  <a:lnTo>
                    <a:pt x="2557" y="2990"/>
                  </a:lnTo>
                  <a:lnTo>
                    <a:pt x="2540" y="2974"/>
                  </a:lnTo>
                  <a:moveTo>
                    <a:pt x="2630" y="2884"/>
                  </a:moveTo>
                  <a:lnTo>
                    <a:pt x="2557" y="2957"/>
                  </a:lnTo>
                  <a:lnTo>
                    <a:pt x="2573" y="2974"/>
                  </a:lnTo>
                  <a:lnTo>
                    <a:pt x="2647" y="2901"/>
                  </a:lnTo>
                  <a:lnTo>
                    <a:pt x="2630" y="2884"/>
                  </a:lnTo>
                  <a:moveTo>
                    <a:pt x="2739" y="2778"/>
                  </a:moveTo>
                  <a:lnTo>
                    <a:pt x="2663" y="2851"/>
                  </a:lnTo>
                  <a:lnTo>
                    <a:pt x="2680" y="2867"/>
                  </a:lnTo>
                  <a:lnTo>
                    <a:pt x="2755" y="2794"/>
                  </a:lnTo>
                  <a:lnTo>
                    <a:pt x="2739" y="2778"/>
                  </a:lnTo>
                  <a:moveTo>
                    <a:pt x="3150" y="2366"/>
                  </a:moveTo>
                  <a:lnTo>
                    <a:pt x="2755" y="2759"/>
                  </a:lnTo>
                  <a:lnTo>
                    <a:pt x="2772" y="2778"/>
                  </a:lnTo>
                  <a:lnTo>
                    <a:pt x="3167" y="2383"/>
                  </a:lnTo>
                  <a:lnTo>
                    <a:pt x="3150" y="2366"/>
                  </a:lnTo>
                  <a:moveTo>
                    <a:pt x="3240" y="2274"/>
                  </a:moveTo>
                  <a:lnTo>
                    <a:pt x="3167" y="2350"/>
                  </a:lnTo>
                  <a:lnTo>
                    <a:pt x="3183" y="2366"/>
                  </a:lnTo>
                  <a:lnTo>
                    <a:pt x="3256" y="2291"/>
                  </a:lnTo>
                  <a:lnTo>
                    <a:pt x="3240" y="2274"/>
                  </a:lnTo>
                  <a:moveTo>
                    <a:pt x="3346" y="2168"/>
                  </a:moveTo>
                  <a:lnTo>
                    <a:pt x="3273" y="2241"/>
                  </a:lnTo>
                  <a:lnTo>
                    <a:pt x="3289" y="2258"/>
                  </a:lnTo>
                  <a:lnTo>
                    <a:pt x="3363" y="2184"/>
                  </a:lnTo>
                  <a:lnTo>
                    <a:pt x="3346" y="2168"/>
                  </a:lnTo>
                  <a:moveTo>
                    <a:pt x="3757" y="1757"/>
                  </a:moveTo>
                  <a:lnTo>
                    <a:pt x="3363" y="2151"/>
                  </a:lnTo>
                  <a:lnTo>
                    <a:pt x="3379" y="2168"/>
                  </a:lnTo>
                  <a:lnTo>
                    <a:pt x="3774" y="1773"/>
                  </a:lnTo>
                  <a:lnTo>
                    <a:pt x="3757" y="1757"/>
                  </a:lnTo>
                  <a:moveTo>
                    <a:pt x="3850" y="1667"/>
                  </a:moveTo>
                  <a:lnTo>
                    <a:pt x="3774" y="1740"/>
                  </a:lnTo>
                  <a:lnTo>
                    <a:pt x="3790" y="1757"/>
                  </a:lnTo>
                  <a:lnTo>
                    <a:pt x="3866" y="1683"/>
                  </a:lnTo>
                  <a:lnTo>
                    <a:pt x="3850" y="1667"/>
                  </a:lnTo>
                  <a:moveTo>
                    <a:pt x="3956" y="1560"/>
                  </a:moveTo>
                  <a:lnTo>
                    <a:pt x="3883" y="1634"/>
                  </a:lnTo>
                  <a:lnTo>
                    <a:pt x="3899" y="1650"/>
                  </a:lnTo>
                  <a:lnTo>
                    <a:pt x="3972" y="1577"/>
                  </a:lnTo>
                  <a:lnTo>
                    <a:pt x="3956" y="1560"/>
                  </a:lnTo>
                  <a:moveTo>
                    <a:pt x="4367" y="1149"/>
                  </a:moveTo>
                  <a:lnTo>
                    <a:pt x="3972" y="1542"/>
                  </a:lnTo>
                  <a:lnTo>
                    <a:pt x="3989" y="1560"/>
                  </a:lnTo>
                  <a:lnTo>
                    <a:pt x="4384" y="1166"/>
                  </a:lnTo>
                  <a:lnTo>
                    <a:pt x="4367" y="1149"/>
                  </a:lnTo>
                  <a:moveTo>
                    <a:pt x="4457" y="1057"/>
                  </a:moveTo>
                  <a:lnTo>
                    <a:pt x="4384" y="1133"/>
                  </a:lnTo>
                  <a:lnTo>
                    <a:pt x="4400" y="1149"/>
                  </a:lnTo>
                  <a:lnTo>
                    <a:pt x="4476" y="1076"/>
                  </a:lnTo>
                  <a:lnTo>
                    <a:pt x="4457" y="1057"/>
                  </a:lnTo>
                  <a:moveTo>
                    <a:pt x="4566" y="951"/>
                  </a:moveTo>
                  <a:lnTo>
                    <a:pt x="4492" y="1024"/>
                  </a:lnTo>
                  <a:lnTo>
                    <a:pt x="4509" y="1040"/>
                  </a:lnTo>
                  <a:lnTo>
                    <a:pt x="4582" y="967"/>
                  </a:lnTo>
                  <a:lnTo>
                    <a:pt x="4566" y="951"/>
                  </a:lnTo>
                  <a:moveTo>
                    <a:pt x="4977" y="539"/>
                  </a:moveTo>
                  <a:lnTo>
                    <a:pt x="4582" y="934"/>
                  </a:lnTo>
                  <a:lnTo>
                    <a:pt x="4599" y="951"/>
                  </a:lnTo>
                  <a:lnTo>
                    <a:pt x="4993" y="556"/>
                  </a:lnTo>
                  <a:lnTo>
                    <a:pt x="4977" y="539"/>
                  </a:lnTo>
                  <a:moveTo>
                    <a:pt x="5067" y="450"/>
                  </a:moveTo>
                  <a:lnTo>
                    <a:pt x="4993" y="523"/>
                  </a:lnTo>
                  <a:lnTo>
                    <a:pt x="5010" y="539"/>
                  </a:lnTo>
                  <a:lnTo>
                    <a:pt x="5083" y="466"/>
                  </a:lnTo>
                  <a:lnTo>
                    <a:pt x="5067" y="450"/>
                  </a:lnTo>
                  <a:moveTo>
                    <a:pt x="5175" y="343"/>
                  </a:moveTo>
                  <a:lnTo>
                    <a:pt x="5100" y="416"/>
                  </a:lnTo>
                  <a:lnTo>
                    <a:pt x="5116" y="433"/>
                  </a:lnTo>
                  <a:lnTo>
                    <a:pt x="5192" y="360"/>
                  </a:lnTo>
                  <a:lnTo>
                    <a:pt x="5175" y="343"/>
                  </a:lnTo>
                  <a:moveTo>
                    <a:pt x="5516" y="0"/>
                  </a:moveTo>
                  <a:lnTo>
                    <a:pt x="5192" y="324"/>
                  </a:lnTo>
                  <a:lnTo>
                    <a:pt x="5208" y="343"/>
                  </a:lnTo>
                  <a:lnTo>
                    <a:pt x="5516" y="36"/>
                  </a:lnTo>
                  <a:lnTo>
                    <a:pt x="55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 rot="5400000">
              <a:off x="967320" y="-865440"/>
              <a:ext cx="6858000" cy="858924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9240"/>
                <a:gd name="textAreaBottom" fmla="*/ 8589600 h 8589240"/>
              </a:gdLst>
              <a:ahLst/>
              <a:rect l="textAreaLeft" t="textAreaTop" r="textAreaRight" b="textAreaBottom"/>
              <a:pathLst>
                <a:path w="5516" h="5545">
                  <a:moveTo>
                    <a:pt x="101" y="5407"/>
                  </a:moveTo>
                  <a:lnTo>
                    <a:pt x="0" y="5511"/>
                  </a:lnTo>
                  <a:lnTo>
                    <a:pt x="0" y="5545"/>
                  </a:lnTo>
                  <a:lnTo>
                    <a:pt x="118" y="5426"/>
                  </a:lnTo>
                  <a:lnTo>
                    <a:pt x="101" y="5407"/>
                  </a:lnTo>
                  <a:close/>
                  <a:moveTo>
                    <a:pt x="193" y="5318"/>
                  </a:moveTo>
                  <a:lnTo>
                    <a:pt x="118" y="5391"/>
                  </a:lnTo>
                  <a:lnTo>
                    <a:pt x="134" y="5407"/>
                  </a:lnTo>
                  <a:lnTo>
                    <a:pt x="210" y="5334"/>
                  </a:lnTo>
                  <a:lnTo>
                    <a:pt x="193" y="5318"/>
                  </a:lnTo>
                  <a:close/>
                  <a:moveTo>
                    <a:pt x="300" y="5211"/>
                  </a:moveTo>
                  <a:lnTo>
                    <a:pt x="227" y="5285"/>
                  </a:lnTo>
                  <a:lnTo>
                    <a:pt x="243" y="5301"/>
                  </a:lnTo>
                  <a:lnTo>
                    <a:pt x="316" y="5228"/>
                  </a:lnTo>
                  <a:lnTo>
                    <a:pt x="300" y="5211"/>
                  </a:lnTo>
                  <a:close/>
                  <a:moveTo>
                    <a:pt x="711" y="4800"/>
                  </a:moveTo>
                  <a:lnTo>
                    <a:pt x="316" y="5195"/>
                  </a:lnTo>
                  <a:lnTo>
                    <a:pt x="333" y="5211"/>
                  </a:lnTo>
                  <a:lnTo>
                    <a:pt x="728" y="4817"/>
                  </a:lnTo>
                  <a:lnTo>
                    <a:pt x="711" y="4800"/>
                  </a:lnTo>
                  <a:close/>
                  <a:moveTo>
                    <a:pt x="801" y="4710"/>
                  </a:moveTo>
                  <a:lnTo>
                    <a:pt x="728" y="4783"/>
                  </a:lnTo>
                  <a:lnTo>
                    <a:pt x="744" y="4800"/>
                  </a:lnTo>
                  <a:lnTo>
                    <a:pt x="820" y="4727"/>
                  </a:lnTo>
                  <a:lnTo>
                    <a:pt x="801" y="4710"/>
                  </a:lnTo>
                  <a:close/>
                  <a:moveTo>
                    <a:pt x="910" y="4601"/>
                  </a:moveTo>
                  <a:lnTo>
                    <a:pt x="836" y="4677"/>
                  </a:lnTo>
                  <a:lnTo>
                    <a:pt x="853" y="4694"/>
                  </a:lnTo>
                  <a:lnTo>
                    <a:pt x="926" y="4618"/>
                  </a:lnTo>
                  <a:lnTo>
                    <a:pt x="910" y="4601"/>
                  </a:lnTo>
                  <a:close/>
                  <a:moveTo>
                    <a:pt x="1321" y="4190"/>
                  </a:moveTo>
                  <a:lnTo>
                    <a:pt x="926" y="4585"/>
                  </a:lnTo>
                  <a:lnTo>
                    <a:pt x="943" y="4601"/>
                  </a:lnTo>
                  <a:lnTo>
                    <a:pt x="1337" y="4209"/>
                  </a:lnTo>
                  <a:lnTo>
                    <a:pt x="1321" y="4190"/>
                  </a:lnTo>
                  <a:close/>
                  <a:moveTo>
                    <a:pt x="1411" y="4100"/>
                  </a:moveTo>
                  <a:lnTo>
                    <a:pt x="1337" y="4174"/>
                  </a:lnTo>
                  <a:lnTo>
                    <a:pt x="1354" y="4190"/>
                  </a:lnTo>
                  <a:lnTo>
                    <a:pt x="1427" y="4117"/>
                  </a:lnTo>
                  <a:lnTo>
                    <a:pt x="1411" y="4100"/>
                  </a:lnTo>
                  <a:close/>
                  <a:moveTo>
                    <a:pt x="1519" y="3994"/>
                  </a:moveTo>
                  <a:lnTo>
                    <a:pt x="1444" y="4067"/>
                  </a:lnTo>
                  <a:lnTo>
                    <a:pt x="1460" y="4084"/>
                  </a:lnTo>
                  <a:lnTo>
                    <a:pt x="1536" y="4011"/>
                  </a:lnTo>
                  <a:lnTo>
                    <a:pt x="1519" y="3994"/>
                  </a:lnTo>
                  <a:close/>
                  <a:moveTo>
                    <a:pt x="1931" y="3583"/>
                  </a:moveTo>
                  <a:lnTo>
                    <a:pt x="1536" y="3978"/>
                  </a:lnTo>
                  <a:lnTo>
                    <a:pt x="1552" y="3994"/>
                  </a:lnTo>
                  <a:lnTo>
                    <a:pt x="1947" y="3599"/>
                  </a:lnTo>
                  <a:lnTo>
                    <a:pt x="1931" y="3583"/>
                  </a:lnTo>
                  <a:close/>
                  <a:moveTo>
                    <a:pt x="2020" y="3493"/>
                  </a:moveTo>
                  <a:lnTo>
                    <a:pt x="1947" y="3566"/>
                  </a:lnTo>
                  <a:lnTo>
                    <a:pt x="1964" y="3583"/>
                  </a:lnTo>
                  <a:lnTo>
                    <a:pt x="2037" y="3510"/>
                  </a:lnTo>
                  <a:lnTo>
                    <a:pt x="2020" y="3493"/>
                  </a:lnTo>
                  <a:close/>
                  <a:moveTo>
                    <a:pt x="2127" y="3384"/>
                  </a:moveTo>
                  <a:lnTo>
                    <a:pt x="2053" y="3460"/>
                  </a:lnTo>
                  <a:lnTo>
                    <a:pt x="2070" y="3476"/>
                  </a:lnTo>
                  <a:lnTo>
                    <a:pt x="2146" y="3401"/>
                  </a:lnTo>
                  <a:lnTo>
                    <a:pt x="2127" y="3384"/>
                  </a:lnTo>
                  <a:close/>
                  <a:moveTo>
                    <a:pt x="2538" y="2975"/>
                  </a:moveTo>
                  <a:lnTo>
                    <a:pt x="2146" y="3368"/>
                  </a:lnTo>
                  <a:lnTo>
                    <a:pt x="2162" y="3384"/>
                  </a:lnTo>
                  <a:lnTo>
                    <a:pt x="2557" y="2992"/>
                  </a:lnTo>
                  <a:lnTo>
                    <a:pt x="2538" y="2975"/>
                  </a:lnTo>
                  <a:close/>
                  <a:moveTo>
                    <a:pt x="2630" y="2883"/>
                  </a:moveTo>
                  <a:lnTo>
                    <a:pt x="2557" y="2956"/>
                  </a:lnTo>
                  <a:lnTo>
                    <a:pt x="2573" y="2975"/>
                  </a:lnTo>
                  <a:lnTo>
                    <a:pt x="2647" y="2900"/>
                  </a:lnTo>
                  <a:lnTo>
                    <a:pt x="2630" y="2883"/>
                  </a:lnTo>
                  <a:close/>
                  <a:moveTo>
                    <a:pt x="2736" y="2777"/>
                  </a:moveTo>
                  <a:lnTo>
                    <a:pt x="2663" y="2850"/>
                  </a:lnTo>
                  <a:lnTo>
                    <a:pt x="2680" y="2867"/>
                  </a:lnTo>
                  <a:lnTo>
                    <a:pt x="2753" y="2793"/>
                  </a:lnTo>
                  <a:lnTo>
                    <a:pt x="2736" y="2777"/>
                  </a:lnTo>
                  <a:close/>
                  <a:moveTo>
                    <a:pt x="3148" y="2366"/>
                  </a:moveTo>
                  <a:lnTo>
                    <a:pt x="2753" y="2760"/>
                  </a:lnTo>
                  <a:lnTo>
                    <a:pt x="2769" y="2777"/>
                  </a:lnTo>
                  <a:lnTo>
                    <a:pt x="3164" y="2382"/>
                  </a:lnTo>
                  <a:lnTo>
                    <a:pt x="3148" y="2366"/>
                  </a:lnTo>
                  <a:close/>
                  <a:moveTo>
                    <a:pt x="3240" y="2276"/>
                  </a:moveTo>
                  <a:lnTo>
                    <a:pt x="3164" y="2349"/>
                  </a:lnTo>
                  <a:lnTo>
                    <a:pt x="3181" y="2366"/>
                  </a:lnTo>
                  <a:lnTo>
                    <a:pt x="3256" y="2292"/>
                  </a:lnTo>
                  <a:lnTo>
                    <a:pt x="3240" y="2276"/>
                  </a:lnTo>
                  <a:close/>
                  <a:moveTo>
                    <a:pt x="3346" y="2167"/>
                  </a:moveTo>
                  <a:lnTo>
                    <a:pt x="3273" y="2243"/>
                  </a:lnTo>
                  <a:lnTo>
                    <a:pt x="3289" y="2259"/>
                  </a:lnTo>
                  <a:lnTo>
                    <a:pt x="3363" y="2184"/>
                  </a:lnTo>
                  <a:lnTo>
                    <a:pt x="3346" y="2167"/>
                  </a:lnTo>
                  <a:close/>
                  <a:moveTo>
                    <a:pt x="3757" y="1758"/>
                  </a:moveTo>
                  <a:lnTo>
                    <a:pt x="3363" y="2151"/>
                  </a:lnTo>
                  <a:lnTo>
                    <a:pt x="3379" y="2167"/>
                  </a:lnTo>
                  <a:lnTo>
                    <a:pt x="3774" y="1775"/>
                  </a:lnTo>
                  <a:lnTo>
                    <a:pt x="3757" y="1758"/>
                  </a:lnTo>
                  <a:close/>
                  <a:moveTo>
                    <a:pt x="3847" y="1666"/>
                  </a:moveTo>
                  <a:lnTo>
                    <a:pt x="3774" y="1739"/>
                  </a:lnTo>
                  <a:lnTo>
                    <a:pt x="3790" y="1758"/>
                  </a:lnTo>
                  <a:lnTo>
                    <a:pt x="3864" y="1683"/>
                  </a:lnTo>
                  <a:lnTo>
                    <a:pt x="3847" y="1666"/>
                  </a:lnTo>
                  <a:close/>
                  <a:moveTo>
                    <a:pt x="3956" y="1560"/>
                  </a:moveTo>
                  <a:lnTo>
                    <a:pt x="3883" y="1633"/>
                  </a:lnTo>
                  <a:lnTo>
                    <a:pt x="3899" y="1649"/>
                  </a:lnTo>
                  <a:lnTo>
                    <a:pt x="3972" y="1576"/>
                  </a:lnTo>
                  <a:lnTo>
                    <a:pt x="3956" y="1560"/>
                  </a:lnTo>
                  <a:close/>
                  <a:moveTo>
                    <a:pt x="4367" y="1148"/>
                  </a:moveTo>
                  <a:lnTo>
                    <a:pt x="3972" y="1543"/>
                  </a:lnTo>
                  <a:lnTo>
                    <a:pt x="3989" y="1560"/>
                  </a:lnTo>
                  <a:lnTo>
                    <a:pt x="4384" y="1165"/>
                  </a:lnTo>
                  <a:lnTo>
                    <a:pt x="4367" y="1148"/>
                  </a:lnTo>
                  <a:close/>
                  <a:moveTo>
                    <a:pt x="4457" y="1059"/>
                  </a:moveTo>
                  <a:lnTo>
                    <a:pt x="4384" y="1132"/>
                  </a:lnTo>
                  <a:lnTo>
                    <a:pt x="4400" y="1148"/>
                  </a:lnTo>
                  <a:lnTo>
                    <a:pt x="4473" y="1075"/>
                  </a:lnTo>
                  <a:lnTo>
                    <a:pt x="4457" y="1059"/>
                  </a:lnTo>
                  <a:close/>
                  <a:moveTo>
                    <a:pt x="4566" y="950"/>
                  </a:moveTo>
                  <a:lnTo>
                    <a:pt x="4490" y="1025"/>
                  </a:lnTo>
                  <a:lnTo>
                    <a:pt x="4507" y="1042"/>
                  </a:lnTo>
                  <a:lnTo>
                    <a:pt x="4582" y="966"/>
                  </a:lnTo>
                  <a:lnTo>
                    <a:pt x="4566" y="950"/>
                  </a:lnTo>
                  <a:close/>
                  <a:moveTo>
                    <a:pt x="4977" y="541"/>
                  </a:moveTo>
                  <a:lnTo>
                    <a:pt x="4582" y="933"/>
                  </a:lnTo>
                  <a:lnTo>
                    <a:pt x="4599" y="950"/>
                  </a:lnTo>
                  <a:lnTo>
                    <a:pt x="4993" y="557"/>
                  </a:lnTo>
                  <a:lnTo>
                    <a:pt x="4977" y="541"/>
                  </a:lnTo>
                  <a:close/>
                  <a:moveTo>
                    <a:pt x="5067" y="449"/>
                  </a:moveTo>
                  <a:lnTo>
                    <a:pt x="4993" y="522"/>
                  </a:lnTo>
                  <a:lnTo>
                    <a:pt x="5010" y="541"/>
                  </a:lnTo>
                  <a:lnTo>
                    <a:pt x="5083" y="465"/>
                  </a:lnTo>
                  <a:lnTo>
                    <a:pt x="5067" y="449"/>
                  </a:lnTo>
                  <a:close/>
                  <a:moveTo>
                    <a:pt x="5173" y="342"/>
                  </a:moveTo>
                  <a:lnTo>
                    <a:pt x="5100" y="416"/>
                  </a:lnTo>
                  <a:lnTo>
                    <a:pt x="5116" y="432"/>
                  </a:lnTo>
                  <a:lnTo>
                    <a:pt x="5190" y="359"/>
                  </a:lnTo>
                  <a:lnTo>
                    <a:pt x="5173" y="342"/>
                  </a:lnTo>
                  <a:close/>
                  <a:moveTo>
                    <a:pt x="5516" y="0"/>
                  </a:moveTo>
                  <a:lnTo>
                    <a:pt x="5192" y="326"/>
                  </a:lnTo>
                  <a:lnTo>
                    <a:pt x="5208" y="342"/>
                  </a:lnTo>
                  <a:lnTo>
                    <a:pt x="5516" y="35"/>
                  </a:lnTo>
                  <a:lnTo>
                    <a:pt x="55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 rot="5400000">
              <a:off x="967320" y="-865440"/>
              <a:ext cx="6858000" cy="858924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8589240"/>
                <a:gd name="textAreaBottom" fmla="*/ 8589600 h 8589240"/>
              </a:gdLst>
              <a:ahLst/>
              <a:rect l="textAreaLeft" t="textAreaTop" r="textAreaRight" b="textAreaBottom"/>
              <a:pathLst>
                <a:path w="5516" h="5545">
                  <a:moveTo>
                    <a:pt x="101" y="5407"/>
                  </a:moveTo>
                  <a:lnTo>
                    <a:pt x="0" y="5511"/>
                  </a:lnTo>
                  <a:lnTo>
                    <a:pt x="0" y="5545"/>
                  </a:lnTo>
                  <a:lnTo>
                    <a:pt x="118" y="5426"/>
                  </a:lnTo>
                  <a:lnTo>
                    <a:pt x="101" y="5407"/>
                  </a:lnTo>
                  <a:moveTo>
                    <a:pt x="193" y="5318"/>
                  </a:moveTo>
                  <a:lnTo>
                    <a:pt x="118" y="5391"/>
                  </a:lnTo>
                  <a:lnTo>
                    <a:pt x="134" y="5407"/>
                  </a:lnTo>
                  <a:lnTo>
                    <a:pt x="210" y="5334"/>
                  </a:lnTo>
                  <a:lnTo>
                    <a:pt x="193" y="5318"/>
                  </a:lnTo>
                  <a:moveTo>
                    <a:pt x="300" y="5211"/>
                  </a:moveTo>
                  <a:lnTo>
                    <a:pt x="227" y="5285"/>
                  </a:lnTo>
                  <a:lnTo>
                    <a:pt x="243" y="5301"/>
                  </a:lnTo>
                  <a:lnTo>
                    <a:pt x="316" y="5228"/>
                  </a:lnTo>
                  <a:lnTo>
                    <a:pt x="300" y="5211"/>
                  </a:lnTo>
                  <a:moveTo>
                    <a:pt x="711" y="4800"/>
                  </a:moveTo>
                  <a:lnTo>
                    <a:pt x="316" y="5195"/>
                  </a:lnTo>
                  <a:lnTo>
                    <a:pt x="333" y="5211"/>
                  </a:lnTo>
                  <a:lnTo>
                    <a:pt x="728" y="4817"/>
                  </a:lnTo>
                  <a:lnTo>
                    <a:pt x="711" y="4800"/>
                  </a:lnTo>
                  <a:moveTo>
                    <a:pt x="801" y="4710"/>
                  </a:moveTo>
                  <a:lnTo>
                    <a:pt x="728" y="4783"/>
                  </a:lnTo>
                  <a:lnTo>
                    <a:pt x="744" y="4800"/>
                  </a:lnTo>
                  <a:lnTo>
                    <a:pt x="820" y="4727"/>
                  </a:lnTo>
                  <a:lnTo>
                    <a:pt x="801" y="4710"/>
                  </a:lnTo>
                  <a:moveTo>
                    <a:pt x="910" y="4601"/>
                  </a:moveTo>
                  <a:lnTo>
                    <a:pt x="836" y="4677"/>
                  </a:lnTo>
                  <a:lnTo>
                    <a:pt x="853" y="4694"/>
                  </a:lnTo>
                  <a:lnTo>
                    <a:pt x="926" y="4618"/>
                  </a:lnTo>
                  <a:lnTo>
                    <a:pt x="910" y="4601"/>
                  </a:lnTo>
                  <a:moveTo>
                    <a:pt x="1321" y="4190"/>
                  </a:moveTo>
                  <a:lnTo>
                    <a:pt x="926" y="4585"/>
                  </a:lnTo>
                  <a:lnTo>
                    <a:pt x="943" y="4601"/>
                  </a:lnTo>
                  <a:lnTo>
                    <a:pt x="1337" y="4209"/>
                  </a:lnTo>
                  <a:lnTo>
                    <a:pt x="1321" y="4190"/>
                  </a:lnTo>
                  <a:moveTo>
                    <a:pt x="1411" y="4100"/>
                  </a:moveTo>
                  <a:lnTo>
                    <a:pt x="1337" y="4174"/>
                  </a:lnTo>
                  <a:lnTo>
                    <a:pt x="1354" y="4190"/>
                  </a:lnTo>
                  <a:lnTo>
                    <a:pt x="1427" y="4117"/>
                  </a:lnTo>
                  <a:lnTo>
                    <a:pt x="1411" y="4100"/>
                  </a:lnTo>
                  <a:moveTo>
                    <a:pt x="1519" y="3994"/>
                  </a:moveTo>
                  <a:lnTo>
                    <a:pt x="1444" y="4067"/>
                  </a:lnTo>
                  <a:lnTo>
                    <a:pt x="1460" y="4084"/>
                  </a:lnTo>
                  <a:lnTo>
                    <a:pt x="1536" y="4011"/>
                  </a:lnTo>
                  <a:lnTo>
                    <a:pt x="1519" y="3994"/>
                  </a:lnTo>
                  <a:moveTo>
                    <a:pt x="1931" y="3583"/>
                  </a:moveTo>
                  <a:lnTo>
                    <a:pt x="1536" y="3978"/>
                  </a:lnTo>
                  <a:lnTo>
                    <a:pt x="1552" y="3994"/>
                  </a:lnTo>
                  <a:lnTo>
                    <a:pt x="1947" y="3599"/>
                  </a:lnTo>
                  <a:lnTo>
                    <a:pt x="1931" y="3583"/>
                  </a:lnTo>
                  <a:moveTo>
                    <a:pt x="2020" y="3493"/>
                  </a:moveTo>
                  <a:lnTo>
                    <a:pt x="1947" y="3566"/>
                  </a:lnTo>
                  <a:lnTo>
                    <a:pt x="1964" y="3583"/>
                  </a:lnTo>
                  <a:lnTo>
                    <a:pt x="2037" y="3510"/>
                  </a:lnTo>
                  <a:lnTo>
                    <a:pt x="2020" y="3493"/>
                  </a:lnTo>
                  <a:moveTo>
                    <a:pt x="2127" y="3384"/>
                  </a:moveTo>
                  <a:lnTo>
                    <a:pt x="2053" y="3460"/>
                  </a:lnTo>
                  <a:lnTo>
                    <a:pt x="2070" y="3476"/>
                  </a:lnTo>
                  <a:lnTo>
                    <a:pt x="2146" y="3401"/>
                  </a:lnTo>
                  <a:lnTo>
                    <a:pt x="2127" y="3384"/>
                  </a:lnTo>
                  <a:moveTo>
                    <a:pt x="2538" y="2975"/>
                  </a:moveTo>
                  <a:lnTo>
                    <a:pt x="2146" y="3368"/>
                  </a:lnTo>
                  <a:lnTo>
                    <a:pt x="2162" y="3384"/>
                  </a:lnTo>
                  <a:lnTo>
                    <a:pt x="2557" y="2992"/>
                  </a:lnTo>
                  <a:lnTo>
                    <a:pt x="2538" y="2975"/>
                  </a:lnTo>
                  <a:moveTo>
                    <a:pt x="2630" y="2883"/>
                  </a:moveTo>
                  <a:lnTo>
                    <a:pt x="2557" y="2956"/>
                  </a:lnTo>
                  <a:lnTo>
                    <a:pt x="2573" y="2975"/>
                  </a:lnTo>
                  <a:lnTo>
                    <a:pt x="2647" y="2900"/>
                  </a:lnTo>
                  <a:lnTo>
                    <a:pt x="2630" y="2883"/>
                  </a:lnTo>
                  <a:moveTo>
                    <a:pt x="2736" y="2777"/>
                  </a:moveTo>
                  <a:lnTo>
                    <a:pt x="2663" y="2850"/>
                  </a:lnTo>
                  <a:lnTo>
                    <a:pt x="2680" y="2867"/>
                  </a:lnTo>
                  <a:lnTo>
                    <a:pt x="2753" y="2793"/>
                  </a:lnTo>
                  <a:lnTo>
                    <a:pt x="2736" y="2777"/>
                  </a:lnTo>
                  <a:moveTo>
                    <a:pt x="3148" y="2366"/>
                  </a:moveTo>
                  <a:lnTo>
                    <a:pt x="2753" y="2760"/>
                  </a:lnTo>
                  <a:lnTo>
                    <a:pt x="2769" y="2777"/>
                  </a:lnTo>
                  <a:lnTo>
                    <a:pt x="3164" y="2382"/>
                  </a:lnTo>
                  <a:lnTo>
                    <a:pt x="3148" y="2366"/>
                  </a:lnTo>
                  <a:moveTo>
                    <a:pt x="3240" y="2276"/>
                  </a:moveTo>
                  <a:lnTo>
                    <a:pt x="3164" y="2349"/>
                  </a:lnTo>
                  <a:lnTo>
                    <a:pt x="3181" y="2366"/>
                  </a:lnTo>
                  <a:lnTo>
                    <a:pt x="3256" y="2292"/>
                  </a:lnTo>
                  <a:lnTo>
                    <a:pt x="3240" y="2276"/>
                  </a:lnTo>
                  <a:moveTo>
                    <a:pt x="3346" y="2167"/>
                  </a:moveTo>
                  <a:lnTo>
                    <a:pt x="3273" y="2243"/>
                  </a:lnTo>
                  <a:lnTo>
                    <a:pt x="3289" y="2259"/>
                  </a:lnTo>
                  <a:lnTo>
                    <a:pt x="3363" y="2184"/>
                  </a:lnTo>
                  <a:lnTo>
                    <a:pt x="3346" y="2167"/>
                  </a:lnTo>
                  <a:moveTo>
                    <a:pt x="3757" y="1758"/>
                  </a:moveTo>
                  <a:lnTo>
                    <a:pt x="3363" y="2151"/>
                  </a:lnTo>
                  <a:lnTo>
                    <a:pt x="3379" y="2167"/>
                  </a:lnTo>
                  <a:lnTo>
                    <a:pt x="3774" y="1775"/>
                  </a:lnTo>
                  <a:lnTo>
                    <a:pt x="3757" y="1758"/>
                  </a:lnTo>
                  <a:moveTo>
                    <a:pt x="3847" y="1666"/>
                  </a:moveTo>
                  <a:lnTo>
                    <a:pt x="3774" y="1739"/>
                  </a:lnTo>
                  <a:lnTo>
                    <a:pt x="3790" y="1758"/>
                  </a:lnTo>
                  <a:lnTo>
                    <a:pt x="3864" y="1683"/>
                  </a:lnTo>
                  <a:lnTo>
                    <a:pt x="3847" y="1666"/>
                  </a:lnTo>
                  <a:moveTo>
                    <a:pt x="3956" y="1560"/>
                  </a:moveTo>
                  <a:lnTo>
                    <a:pt x="3883" y="1633"/>
                  </a:lnTo>
                  <a:lnTo>
                    <a:pt x="3899" y="1649"/>
                  </a:lnTo>
                  <a:lnTo>
                    <a:pt x="3972" y="1576"/>
                  </a:lnTo>
                  <a:lnTo>
                    <a:pt x="3956" y="1560"/>
                  </a:lnTo>
                  <a:moveTo>
                    <a:pt x="4367" y="1148"/>
                  </a:moveTo>
                  <a:lnTo>
                    <a:pt x="3972" y="1543"/>
                  </a:lnTo>
                  <a:lnTo>
                    <a:pt x="3989" y="1560"/>
                  </a:lnTo>
                  <a:lnTo>
                    <a:pt x="4384" y="1165"/>
                  </a:lnTo>
                  <a:lnTo>
                    <a:pt x="4367" y="1148"/>
                  </a:lnTo>
                  <a:moveTo>
                    <a:pt x="4457" y="1059"/>
                  </a:moveTo>
                  <a:lnTo>
                    <a:pt x="4384" y="1132"/>
                  </a:lnTo>
                  <a:lnTo>
                    <a:pt x="4400" y="1148"/>
                  </a:lnTo>
                  <a:lnTo>
                    <a:pt x="4473" y="1075"/>
                  </a:lnTo>
                  <a:lnTo>
                    <a:pt x="4457" y="1059"/>
                  </a:lnTo>
                  <a:moveTo>
                    <a:pt x="4566" y="950"/>
                  </a:moveTo>
                  <a:lnTo>
                    <a:pt x="4490" y="1025"/>
                  </a:lnTo>
                  <a:lnTo>
                    <a:pt x="4507" y="1042"/>
                  </a:lnTo>
                  <a:lnTo>
                    <a:pt x="4582" y="966"/>
                  </a:lnTo>
                  <a:lnTo>
                    <a:pt x="4566" y="950"/>
                  </a:lnTo>
                  <a:moveTo>
                    <a:pt x="4977" y="541"/>
                  </a:moveTo>
                  <a:lnTo>
                    <a:pt x="4582" y="933"/>
                  </a:lnTo>
                  <a:lnTo>
                    <a:pt x="4599" y="950"/>
                  </a:lnTo>
                  <a:lnTo>
                    <a:pt x="4993" y="557"/>
                  </a:lnTo>
                  <a:lnTo>
                    <a:pt x="4977" y="541"/>
                  </a:lnTo>
                  <a:moveTo>
                    <a:pt x="5067" y="449"/>
                  </a:moveTo>
                  <a:lnTo>
                    <a:pt x="4993" y="522"/>
                  </a:lnTo>
                  <a:lnTo>
                    <a:pt x="5010" y="541"/>
                  </a:lnTo>
                  <a:lnTo>
                    <a:pt x="5083" y="465"/>
                  </a:lnTo>
                  <a:lnTo>
                    <a:pt x="5067" y="449"/>
                  </a:lnTo>
                  <a:moveTo>
                    <a:pt x="5173" y="342"/>
                  </a:moveTo>
                  <a:lnTo>
                    <a:pt x="5100" y="416"/>
                  </a:lnTo>
                  <a:lnTo>
                    <a:pt x="5116" y="432"/>
                  </a:lnTo>
                  <a:lnTo>
                    <a:pt x="5190" y="359"/>
                  </a:lnTo>
                  <a:lnTo>
                    <a:pt x="5173" y="342"/>
                  </a:lnTo>
                  <a:moveTo>
                    <a:pt x="5516" y="0"/>
                  </a:moveTo>
                  <a:lnTo>
                    <a:pt x="5192" y="326"/>
                  </a:lnTo>
                  <a:lnTo>
                    <a:pt x="5208" y="342"/>
                  </a:lnTo>
                  <a:lnTo>
                    <a:pt x="5516" y="35"/>
                  </a:lnTo>
                  <a:lnTo>
                    <a:pt x="55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 rot="5400000">
              <a:off x="668520" y="720720"/>
              <a:ext cx="5468040" cy="680616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6806160"/>
                <a:gd name="textAreaBottom" fmla="*/ 6806520 h 6806160"/>
              </a:gdLst>
              <a:ahLst/>
              <a:rect l="textAreaLeft" t="textAreaTop" r="textAreaRight" b="textAreaBottom"/>
              <a:pathLst>
                <a:path w="4398" h="4394">
                  <a:moveTo>
                    <a:pt x="203" y="4193"/>
                  </a:moveTo>
                  <a:lnTo>
                    <a:pt x="0" y="4394"/>
                  </a:lnTo>
                  <a:lnTo>
                    <a:pt x="35" y="4394"/>
                  </a:lnTo>
                  <a:lnTo>
                    <a:pt x="219" y="4209"/>
                  </a:lnTo>
                  <a:lnTo>
                    <a:pt x="203" y="4193"/>
                  </a:lnTo>
                  <a:close/>
                  <a:moveTo>
                    <a:pt x="293" y="4101"/>
                  </a:moveTo>
                  <a:lnTo>
                    <a:pt x="219" y="4176"/>
                  </a:lnTo>
                  <a:lnTo>
                    <a:pt x="236" y="4193"/>
                  </a:lnTo>
                  <a:lnTo>
                    <a:pt x="309" y="4117"/>
                  </a:lnTo>
                  <a:lnTo>
                    <a:pt x="293" y="4101"/>
                  </a:lnTo>
                  <a:close/>
                  <a:moveTo>
                    <a:pt x="399" y="3994"/>
                  </a:moveTo>
                  <a:lnTo>
                    <a:pt x="326" y="4068"/>
                  </a:lnTo>
                  <a:lnTo>
                    <a:pt x="342" y="4084"/>
                  </a:lnTo>
                  <a:lnTo>
                    <a:pt x="415" y="4011"/>
                  </a:lnTo>
                  <a:lnTo>
                    <a:pt x="399" y="3994"/>
                  </a:lnTo>
                  <a:close/>
                  <a:moveTo>
                    <a:pt x="810" y="3583"/>
                  </a:moveTo>
                  <a:lnTo>
                    <a:pt x="415" y="3978"/>
                  </a:lnTo>
                  <a:lnTo>
                    <a:pt x="434" y="3994"/>
                  </a:lnTo>
                  <a:lnTo>
                    <a:pt x="827" y="3600"/>
                  </a:lnTo>
                  <a:lnTo>
                    <a:pt x="810" y="3583"/>
                  </a:lnTo>
                  <a:close/>
                  <a:moveTo>
                    <a:pt x="902" y="3493"/>
                  </a:moveTo>
                  <a:lnTo>
                    <a:pt x="827" y="3566"/>
                  </a:lnTo>
                  <a:lnTo>
                    <a:pt x="846" y="3583"/>
                  </a:lnTo>
                  <a:lnTo>
                    <a:pt x="919" y="3510"/>
                  </a:lnTo>
                  <a:lnTo>
                    <a:pt x="902" y="3493"/>
                  </a:lnTo>
                  <a:close/>
                  <a:moveTo>
                    <a:pt x="1009" y="3387"/>
                  </a:moveTo>
                  <a:lnTo>
                    <a:pt x="935" y="3460"/>
                  </a:lnTo>
                  <a:lnTo>
                    <a:pt x="952" y="3477"/>
                  </a:lnTo>
                  <a:lnTo>
                    <a:pt x="1025" y="3403"/>
                  </a:lnTo>
                  <a:lnTo>
                    <a:pt x="1009" y="3387"/>
                  </a:lnTo>
                  <a:close/>
                  <a:moveTo>
                    <a:pt x="1420" y="2976"/>
                  </a:moveTo>
                  <a:lnTo>
                    <a:pt x="1025" y="3368"/>
                  </a:lnTo>
                  <a:lnTo>
                    <a:pt x="1042" y="3387"/>
                  </a:lnTo>
                  <a:lnTo>
                    <a:pt x="1436" y="2992"/>
                  </a:lnTo>
                  <a:lnTo>
                    <a:pt x="1420" y="2976"/>
                  </a:lnTo>
                  <a:close/>
                  <a:moveTo>
                    <a:pt x="1512" y="2883"/>
                  </a:moveTo>
                  <a:lnTo>
                    <a:pt x="1436" y="2959"/>
                  </a:lnTo>
                  <a:lnTo>
                    <a:pt x="1453" y="2976"/>
                  </a:lnTo>
                  <a:lnTo>
                    <a:pt x="1529" y="2902"/>
                  </a:lnTo>
                  <a:lnTo>
                    <a:pt x="1512" y="2883"/>
                  </a:lnTo>
                  <a:close/>
                  <a:moveTo>
                    <a:pt x="1618" y="2777"/>
                  </a:moveTo>
                  <a:lnTo>
                    <a:pt x="1545" y="2850"/>
                  </a:lnTo>
                  <a:lnTo>
                    <a:pt x="1562" y="2867"/>
                  </a:lnTo>
                  <a:lnTo>
                    <a:pt x="1635" y="2794"/>
                  </a:lnTo>
                  <a:lnTo>
                    <a:pt x="1618" y="2777"/>
                  </a:lnTo>
                  <a:close/>
                  <a:moveTo>
                    <a:pt x="2030" y="2366"/>
                  </a:moveTo>
                  <a:lnTo>
                    <a:pt x="1635" y="2761"/>
                  </a:lnTo>
                  <a:lnTo>
                    <a:pt x="1651" y="2777"/>
                  </a:lnTo>
                  <a:lnTo>
                    <a:pt x="2046" y="2382"/>
                  </a:lnTo>
                  <a:lnTo>
                    <a:pt x="2030" y="2366"/>
                  </a:lnTo>
                  <a:close/>
                  <a:moveTo>
                    <a:pt x="2119" y="2276"/>
                  </a:moveTo>
                  <a:lnTo>
                    <a:pt x="2046" y="2349"/>
                  </a:lnTo>
                  <a:lnTo>
                    <a:pt x="2063" y="2366"/>
                  </a:lnTo>
                  <a:lnTo>
                    <a:pt x="2136" y="2293"/>
                  </a:lnTo>
                  <a:lnTo>
                    <a:pt x="2119" y="2276"/>
                  </a:lnTo>
                  <a:close/>
                  <a:moveTo>
                    <a:pt x="2228" y="2170"/>
                  </a:moveTo>
                  <a:lnTo>
                    <a:pt x="2153" y="2243"/>
                  </a:lnTo>
                  <a:lnTo>
                    <a:pt x="2171" y="2259"/>
                  </a:lnTo>
                  <a:lnTo>
                    <a:pt x="2245" y="2186"/>
                  </a:lnTo>
                  <a:lnTo>
                    <a:pt x="2228" y="2170"/>
                  </a:lnTo>
                  <a:close/>
                  <a:moveTo>
                    <a:pt x="2639" y="1758"/>
                  </a:moveTo>
                  <a:lnTo>
                    <a:pt x="2245" y="2151"/>
                  </a:lnTo>
                  <a:lnTo>
                    <a:pt x="2261" y="2170"/>
                  </a:lnTo>
                  <a:lnTo>
                    <a:pt x="2656" y="1775"/>
                  </a:lnTo>
                  <a:lnTo>
                    <a:pt x="2639" y="1758"/>
                  </a:lnTo>
                  <a:close/>
                  <a:moveTo>
                    <a:pt x="2729" y="1666"/>
                  </a:moveTo>
                  <a:lnTo>
                    <a:pt x="2656" y="1742"/>
                  </a:lnTo>
                  <a:lnTo>
                    <a:pt x="2672" y="1758"/>
                  </a:lnTo>
                  <a:lnTo>
                    <a:pt x="2746" y="1685"/>
                  </a:lnTo>
                  <a:lnTo>
                    <a:pt x="2729" y="1666"/>
                  </a:lnTo>
                  <a:close/>
                  <a:moveTo>
                    <a:pt x="2838" y="1560"/>
                  </a:moveTo>
                  <a:lnTo>
                    <a:pt x="2762" y="1633"/>
                  </a:lnTo>
                  <a:lnTo>
                    <a:pt x="2779" y="1650"/>
                  </a:lnTo>
                  <a:lnTo>
                    <a:pt x="2854" y="1576"/>
                  </a:lnTo>
                  <a:lnTo>
                    <a:pt x="2838" y="1560"/>
                  </a:lnTo>
                  <a:close/>
                  <a:moveTo>
                    <a:pt x="3249" y="1149"/>
                  </a:moveTo>
                  <a:lnTo>
                    <a:pt x="2854" y="1543"/>
                  </a:lnTo>
                  <a:lnTo>
                    <a:pt x="2871" y="1560"/>
                  </a:lnTo>
                  <a:lnTo>
                    <a:pt x="3266" y="1165"/>
                  </a:lnTo>
                  <a:lnTo>
                    <a:pt x="3249" y="1149"/>
                  </a:lnTo>
                  <a:close/>
                  <a:moveTo>
                    <a:pt x="3339" y="1059"/>
                  </a:moveTo>
                  <a:lnTo>
                    <a:pt x="3266" y="1132"/>
                  </a:lnTo>
                  <a:lnTo>
                    <a:pt x="3282" y="1149"/>
                  </a:lnTo>
                  <a:lnTo>
                    <a:pt x="3355" y="1075"/>
                  </a:lnTo>
                  <a:lnTo>
                    <a:pt x="3339" y="1059"/>
                  </a:lnTo>
                  <a:close/>
                  <a:moveTo>
                    <a:pt x="3445" y="952"/>
                  </a:moveTo>
                  <a:lnTo>
                    <a:pt x="3372" y="1026"/>
                  </a:lnTo>
                  <a:lnTo>
                    <a:pt x="3389" y="1042"/>
                  </a:lnTo>
                  <a:lnTo>
                    <a:pt x="3462" y="969"/>
                  </a:lnTo>
                  <a:lnTo>
                    <a:pt x="3445" y="952"/>
                  </a:lnTo>
                  <a:close/>
                  <a:moveTo>
                    <a:pt x="3857" y="541"/>
                  </a:moveTo>
                  <a:lnTo>
                    <a:pt x="3462" y="934"/>
                  </a:lnTo>
                  <a:lnTo>
                    <a:pt x="3481" y="952"/>
                  </a:lnTo>
                  <a:lnTo>
                    <a:pt x="3873" y="558"/>
                  </a:lnTo>
                  <a:lnTo>
                    <a:pt x="3857" y="541"/>
                  </a:lnTo>
                  <a:close/>
                  <a:moveTo>
                    <a:pt x="3949" y="449"/>
                  </a:moveTo>
                  <a:lnTo>
                    <a:pt x="3873" y="525"/>
                  </a:lnTo>
                  <a:lnTo>
                    <a:pt x="3890" y="541"/>
                  </a:lnTo>
                  <a:lnTo>
                    <a:pt x="3965" y="468"/>
                  </a:lnTo>
                  <a:lnTo>
                    <a:pt x="3949" y="449"/>
                  </a:lnTo>
                  <a:close/>
                  <a:moveTo>
                    <a:pt x="4055" y="343"/>
                  </a:moveTo>
                  <a:lnTo>
                    <a:pt x="3982" y="416"/>
                  </a:lnTo>
                  <a:lnTo>
                    <a:pt x="3998" y="432"/>
                  </a:lnTo>
                  <a:lnTo>
                    <a:pt x="4072" y="359"/>
                  </a:lnTo>
                  <a:lnTo>
                    <a:pt x="4055" y="343"/>
                  </a:lnTo>
                  <a:close/>
                  <a:moveTo>
                    <a:pt x="4398" y="0"/>
                  </a:moveTo>
                  <a:lnTo>
                    <a:pt x="4072" y="326"/>
                  </a:lnTo>
                  <a:lnTo>
                    <a:pt x="4088" y="343"/>
                  </a:lnTo>
                  <a:lnTo>
                    <a:pt x="4398" y="35"/>
                  </a:lnTo>
                  <a:lnTo>
                    <a:pt x="4398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 rot="5400000">
              <a:off x="668520" y="720720"/>
              <a:ext cx="5468040" cy="680616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6806160"/>
                <a:gd name="textAreaBottom" fmla="*/ 6806520 h 6806160"/>
              </a:gdLst>
              <a:ahLst/>
              <a:rect l="textAreaLeft" t="textAreaTop" r="textAreaRight" b="textAreaBottom"/>
              <a:pathLst>
                <a:path w="4398" h="4394">
                  <a:moveTo>
                    <a:pt x="203" y="4193"/>
                  </a:moveTo>
                  <a:lnTo>
                    <a:pt x="0" y="4394"/>
                  </a:lnTo>
                  <a:lnTo>
                    <a:pt x="35" y="4394"/>
                  </a:lnTo>
                  <a:lnTo>
                    <a:pt x="219" y="4209"/>
                  </a:lnTo>
                  <a:lnTo>
                    <a:pt x="203" y="4193"/>
                  </a:lnTo>
                  <a:moveTo>
                    <a:pt x="293" y="4101"/>
                  </a:moveTo>
                  <a:lnTo>
                    <a:pt x="219" y="4176"/>
                  </a:lnTo>
                  <a:lnTo>
                    <a:pt x="236" y="4193"/>
                  </a:lnTo>
                  <a:lnTo>
                    <a:pt x="309" y="4117"/>
                  </a:lnTo>
                  <a:lnTo>
                    <a:pt x="293" y="4101"/>
                  </a:lnTo>
                  <a:moveTo>
                    <a:pt x="399" y="3994"/>
                  </a:moveTo>
                  <a:lnTo>
                    <a:pt x="326" y="4068"/>
                  </a:lnTo>
                  <a:lnTo>
                    <a:pt x="342" y="4084"/>
                  </a:lnTo>
                  <a:lnTo>
                    <a:pt x="415" y="4011"/>
                  </a:lnTo>
                  <a:lnTo>
                    <a:pt x="399" y="3994"/>
                  </a:lnTo>
                  <a:moveTo>
                    <a:pt x="810" y="3583"/>
                  </a:moveTo>
                  <a:lnTo>
                    <a:pt x="415" y="3978"/>
                  </a:lnTo>
                  <a:lnTo>
                    <a:pt x="434" y="3994"/>
                  </a:lnTo>
                  <a:lnTo>
                    <a:pt x="827" y="3600"/>
                  </a:lnTo>
                  <a:lnTo>
                    <a:pt x="810" y="3583"/>
                  </a:lnTo>
                  <a:moveTo>
                    <a:pt x="902" y="3493"/>
                  </a:moveTo>
                  <a:lnTo>
                    <a:pt x="827" y="3566"/>
                  </a:lnTo>
                  <a:lnTo>
                    <a:pt x="846" y="3583"/>
                  </a:lnTo>
                  <a:lnTo>
                    <a:pt x="919" y="3510"/>
                  </a:lnTo>
                  <a:lnTo>
                    <a:pt x="902" y="3493"/>
                  </a:lnTo>
                  <a:moveTo>
                    <a:pt x="1009" y="3387"/>
                  </a:moveTo>
                  <a:lnTo>
                    <a:pt x="935" y="3460"/>
                  </a:lnTo>
                  <a:lnTo>
                    <a:pt x="952" y="3477"/>
                  </a:lnTo>
                  <a:lnTo>
                    <a:pt x="1025" y="3403"/>
                  </a:lnTo>
                  <a:lnTo>
                    <a:pt x="1009" y="3387"/>
                  </a:lnTo>
                  <a:moveTo>
                    <a:pt x="1420" y="2976"/>
                  </a:moveTo>
                  <a:lnTo>
                    <a:pt x="1025" y="3368"/>
                  </a:lnTo>
                  <a:lnTo>
                    <a:pt x="1042" y="3387"/>
                  </a:lnTo>
                  <a:lnTo>
                    <a:pt x="1436" y="2992"/>
                  </a:lnTo>
                  <a:lnTo>
                    <a:pt x="1420" y="2976"/>
                  </a:lnTo>
                  <a:moveTo>
                    <a:pt x="1512" y="2883"/>
                  </a:moveTo>
                  <a:lnTo>
                    <a:pt x="1436" y="2959"/>
                  </a:lnTo>
                  <a:lnTo>
                    <a:pt x="1453" y="2976"/>
                  </a:lnTo>
                  <a:lnTo>
                    <a:pt x="1529" y="2902"/>
                  </a:lnTo>
                  <a:lnTo>
                    <a:pt x="1512" y="2883"/>
                  </a:lnTo>
                  <a:moveTo>
                    <a:pt x="1618" y="2777"/>
                  </a:moveTo>
                  <a:lnTo>
                    <a:pt x="1545" y="2850"/>
                  </a:lnTo>
                  <a:lnTo>
                    <a:pt x="1562" y="2867"/>
                  </a:lnTo>
                  <a:lnTo>
                    <a:pt x="1635" y="2794"/>
                  </a:lnTo>
                  <a:lnTo>
                    <a:pt x="1618" y="2777"/>
                  </a:lnTo>
                  <a:moveTo>
                    <a:pt x="2030" y="2366"/>
                  </a:moveTo>
                  <a:lnTo>
                    <a:pt x="1635" y="2761"/>
                  </a:lnTo>
                  <a:lnTo>
                    <a:pt x="1651" y="2777"/>
                  </a:lnTo>
                  <a:lnTo>
                    <a:pt x="2046" y="2382"/>
                  </a:lnTo>
                  <a:lnTo>
                    <a:pt x="2030" y="2366"/>
                  </a:lnTo>
                  <a:moveTo>
                    <a:pt x="2119" y="2276"/>
                  </a:moveTo>
                  <a:lnTo>
                    <a:pt x="2046" y="2349"/>
                  </a:lnTo>
                  <a:lnTo>
                    <a:pt x="2063" y="2366"/>
                  </a:lnTo>
                  <a:lnTo>
                    <a:pt x="2136" y="2293"/>
                  </a:lnTo>
                  <a:lnTo>
                    <a:pt x="2119" y="2276"/>
                  </a:lnTo>
                  <a:moveTo>
                    <a:pt x="2228" y="2170"/>
                  </a:moveTo>
                  <a:lnTo>
                    <a:pt x="2153" y="2243"/>
                  </a:lnTo>
                  <a:lnTo>
                    <a:pt x="2171" y="2259"/>
                  </a:lnTo>
                  <a:lnTo>
                    <a:pt x="2245" y="2186"/>
                  </a:lnTo>
                  <a:lnTo>
                    <a:pt x="2228" y="2170"/>
                  </a:lnTo>
                  <a:moveTo>
                    <a:pt x="2639" y="1758"/>
                  </a:moveTo>
                  <a:lnTo>
                    <a:pt x="2245" y="2151"/>
                  </a:lnTo>
                  <a:lnTo>
                    <a:pt x="2261" y="2170"/>
                  </a:lnTo>
                  <a:lnTo>
                    <a:pt x="2656" y="1775"/>
                  </a:lnTo>
                  <a:lnTo>
                    <a:pt x="2639" y="1758"/>
                  </a:lnTo>
                  <a:moveTo>
                    <a:pt x="2729" y="1666"/>
                  </a:moveTo>
                  <a:lnTo>
                    <a:pt x="2656" y="1742"/>
                  </a:lnTo>
                  <a:lnTo>
                    <a:pt x="2672" y="1758"/>
                  </a:lnTo>
                  <a:lnTo>
                    <a:pt x="2746" y="1685"/>
                  </a:lnTo>
                  <a:lnTo>
                    <a:pt x="2729" y="1666"/>
                  </a:lnTo>
                  <a:moveTo>
                    <a:pt x="2838" y="1560"/>
                  </a:moveTo>
                  <a:lnTo>
                    <a:pt x="2762" y="1633"/>
                  </a:lnTo>
                  <a:lnTo>
                    <a:pt x="2779" y="1650"/>
                  </a:lnTo>
                  <a:lnTo>
                    <a:pt x="2854" y="1576"/>
                  </a:lnTo>
                  <a:lnTo>
                    <a:pt x="2838" y="1560"/>
                  </a:lnTo>
                  <a:moveTo>
                    <a:pt x="3249" y="1149"/>
                  </a:moveTo>
                  <a:lnTo>
                    <a:pt x="2854" y="1543"/>
                  </a:lnTo>
                  <a:lnTo>
                    <a:pt x="2871" y="1560"/>
                  </a:lnTo>
                  <a:lnTo>
                    <a:pt x="3266" y="1165"/>
                  </a:lnTo>
                  <a:lnTo>
                    <a:pt x="3249" y="1149"/>
                  </a:lnTo>
                  <a:moveTo>
                    <a:pt x="3339" y="1059"/>
                  </a:moveTo>
                  <a:lnTo>
                    <a:pt x="3266" y="1132"/>
                  </a:lnTo>
                  <a:lnTo>
                    <a:pt x="3282" y="1149"/>
                  </a:lnTo>
                  <a:lnTo>
                    <a:pt x="3355" y="1075"/>
                  </a:lnTo>
                  <a:lnTo>
                    <a:pt x="3339" y="1059"/>
                  </a:lnTo>
                  <a:moveTo>
                    <a:pt x="3445" y="952"/>
                  </a:moveTo>
                  <a:lnTo>
                    <a:pt x="3372" y="1026"/>
                  </a:lnTo>
                  <a:lnTo>
                    <a:pt x="3389" y="1042"/>
                  </a:lnTo>
                  <a:lnTo>
                    <a:pt x="3462" y="969"/>
                  </a:lnTo>
                  <a:lnTo>
                    <a:pt x="3445" y="952"/>
                  </a:lnTo>
                  <a:moveTo>
                    <a:pt x="3857" y="541"/>
                  </a:moveTo>
                  <a:lnTo>
                    <a:pt x="3462" y="934"/>
                  </a:lnTo>
                  <a:lnTo>
                    <a:pt x="3481" y="952"/>
                  </a:lnTo>
                  <a:lnTo>
                    <a:pt x="3873" y="558"/>
                  </a:lnTo>
                  <a:lnTo>
                    <a:pt x="3857" y="541"/>
                  </a:lnTo>
                  <a:moveTo>
                    <a:pt x="3949" y="449"/>
                  </a:moveTo>
                  <a:lnTo>
                    <a:pt x="3873" y="525"/>
                  </a:lnTo>
                  <a:lnTo>
                    <a:pt x="3890" y="541"/>
                  </a:lnTo>
                  <a:lnTo>
                    <a:pt x="3965" y="468"/>
                  </a:lnTo>
                  <a:lnTo>
                    <a:pt x="3949" y="449"/>
                  </a:lnTo>
                  <a:moveTo>
                    <a:pt x="4055" y="343"/>
                  </a:moveTo>
                  <a:lnTo>
                    <a:pt x="3982" y="416"/>
                  </a:lnTo>
                  <a:lnTo>
                    <a:pt x="3998" y="432"/>
                  </a:lnTo>
                  <a:lnTo>
                    <a:pt x="4072" y="359"/>
                  </a:lnTo>
                  <a:lnTo>
                    <a:pt x="4055" y="343"/>
                  </a:lnTo>
                  <a:moveTo>
                    <a:pt x="4398" y="0"/>
                  </a:moveTo>
                  <a:lnTo>
                    <a:pt x="4072" y="326"/>
                  </a:lnTo>
                  <a:lnTo>
                    <a:pt x="4088" y="343"/>
                  </a:lnTo>
                  <a:lnTo>
                    <a:pt x="4398" y="35"/>
                  </a:lnTo>
                  <a:lnTo>
                    <a:pt x="439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 rot="5400000">
              <a:off x="483840" y="2421000"/>
              <a:ext cx="3952440" cy="4921200"/>
            </a:xfrm>
            <a:custGeom>
              <a:avLst/>
              <a:gdLst>
                <a:gd name="textAreaLeft" fmla="*/ 0 w 3952440"/>
                <a:gd name="textAreaRight" fmla="*/ 3952800 w 3952440"/>
                <a:gd name="textAreaTop" fmla="*/ 0 h 4921200"/>
                <a:gd name="textAreaBottom" fmla="*/ 4921560 h 4921200"/>
              </a:gdLst>
              <a:ahLst/>
              <a:rect l="textAreaLeft" t="textAreaTop" r="textAreaRight" b="textAreaBottom"/>
              <a:pathLst>
                <a:path w="3179" h="3177">
                  <a:moveTo>
                    <a:pt x="201" y="2976"/>
                  </a:moveTo>
                  <a:lnTo>
                    <a:pt x="0" y="3177"/>
                  </a:lnTo>
                  <a:lnTo>
                    <a:pt x="33" y="3177"/>
                  </a:lnTo>
                  <a:lnTo>
                    <a:pt x="217" y="2992"/>
                  </a:lnTo>
                  <a:lnTo>
                    <a:pt x="201" y="2976"/>
                  </a:lnTo>
                  <a:close/>
                  <a:moveTo>
                    <a:pt x="291" y="2886"/>
                  </a:moveTo>
                  <a:lnTo>
                    <a:pt x="217" y="2959"/>
                  </a:lnTo>
                  <a:lnTo>
                    <a:pt x="234" y="2976"/>
                  </a:lnTo>
                  <a:lnTo>
                    <a:pt x="307" y="2903"/>
                  </a:lnTo>
                  <a:lnTo>
                    <a:pt x="291" y="2886"/>
                  </a:lnTo>
                  <a:close/>
                  <a:moveTo>
                    <a:pt x="399" y="2777"/>
                  </a:moveTo>
                  <a:lnTo>
                    <a:pt x="324" y="2853"/>
                  </a:lnTo>
                  <a:lnTo>
                    <a:pt x="340" y="2869"/>
                  </a:lnTo>
                  <a:lnTo>
                    <a:pt x="416" y="2794"/>
                  </a:lnTo>
                  <a:lnTo>
                    <a:pt x="399" y="2777"/>
                  </a:lnTo>
                  <a:close/>
                  <a:moveTo>
                    <a:pt x="811" y="2368"/>
                  </a:moveTo>
                  <a:lnTo>
                    <a:pt x="416" y="2761"/>
                  </a:lnTo>
                  <a:lnTo>
                    <a:pt x="432" y="2777"/>
                  </a:lnTo>
                  <a:lnTo>
                    <a:pt x="827" y="2385"/>
                  </a:lnTo>
                  <a:lnTo>
                    <a:pt x="811" y="2368"/>
                  </a:lnTo>
                  <a:close/>
                  <a:moveTo>
                    <a:pt x="900" y="2276"/>
                  </a:moveTo>
                  <a:lnTo>
                    <a:pt x="827" y="2349"/>
                  </a:lnTo>
                  <a:lnTo>
                    <a:pt x="844" y="2368"/>
                  </a:lnTo>
                  <a:lnTo>
                    <a:pt x="917" y="2293"/>
                  </a:lnTo>
                  <a:lnTo>
                    <a:pt x="900" y="2276"/>
                  </a:lnTo>
                  <a:close/>
                  <a:moveTo>
                    <a:pt x="1007" y="2170"/>
                  </a:moveTo>
                  <a:lnTo>
                    <a:pt x="934" y="2243"/>
                  </a:lnTo>
                  <a:lnTo>
                    <a:pt x="950" y="2260"/>
                  </a:lnTo>
                  <a:lnTo>
                    <a:pt x="1026" y="2186"/>
                  </a:lnTo>
                  <a:lnTo>
                    <a:pt x="1007" y="2170"/>
                  </a:lnTo>
                  <a:close/>
                  <a:moveTo>
                    <a:pt x="1418" y="1759"/>
                  </a:moveTo>
                  <a:lnTo>
                    <a:pt x="1026" y="2153"/>
                  </a:lnTo>
                  <a:lnTo>
                    <a:pt x="1042" y="2170"/>
                  </a:lnTo>
                  <a:lnTo>
                    <a:pt x="1437" y="1775"/>
                  </a:lnTo>
                  <a:lnTo>
                    <a:pt x="1418" y="1759"/>
                  </a:lnTo>
                  <a:close/>
                  <a:moveTo>
                    <a:pt x="1510" y="1669"/>
                  </a:moveTo>
                  <a:lnTo>
                    <a:pt x="1437" y="1742"/>
                  </a:lnTo>
                  <a:lnTo>
                    <a:pt x="1453" y="1759"/>
                  </a:lnTo>
                  <a:lnTo>
                    <a:pt x="1527" y="1685"/>
                  </a:lnTo>
                  <a:lnTo>
                    <a:pt x="1510" y="1669"/>
                  </a:lnTo>
                  <a:close/>
                  <a:moveTo>
                    <a:pt x="1617" y="1560"/>
                  </a:moveTo>
                  <a:lnTo>
                    <a:pt x="1543" y="1636"/>
                  </a:lnTo>
                  <a:lnTo>
                    <a:pt x="1560" y="1652"/>
                  </a:lnTo>
                  <a:lnTo>
                    <a:pt x="1633" y="1577"/>
                  </a:lnTo>
                  <a:lnTo>
                    <a:pt x="1617" y="1560"/>
                  </a:lnTo>
                  <a:close/>
                  <a:moveTo>
                    <a:pt x="2028" y="1151"/>
                  </a:moveTo>
                  <a:lnTo>
                    <a:pt x="1633" y="1544"/>
                  </a:lnTo>
                  <a:lnTo>
                    <a:pt x="1650" y="1560"/>
                  </a:lnTo>
                  <a:lnTo>
                    <a:pt x="2044" y="1168"/>
                  </a:lnTo>
                  <a:lnTo>
                    <a:pt x="2028" y="1151"/>
                  </a:lnTo>
                  <a:close/>
                  <a:moveTo>
                    <a:pt x="2120" y="1059"/>
                  </a:moveTo>
                  <a:lnTo>
                    <a:pt x="2044" y="1132"/>
                  </a:lnTo>
                  <a:lnTo>
                    <a:pt x="2061" y="1151"/>
                  </a:lnTo>
                  <a:lnTo>
                    <a:pt x="2136" y="1076"/>
                  </a:lnTo>
                  <a:lnTo>
                    <a:pt x="2120" y="1059"/>
                  </a:lnTo>
                  <a:close/>
                  <a:moveTo>
                    <a:pt x="2226" y="953"/>
                  </a:moveTo>
                  <a:lnTo>
                    <a:pt x="2153" y="1026"/>
                  </a:lnTo>
                  <a:lnTo>
                    <a:pt x="2170" y="1042"/>
                  </a:lnTo>
                  <a:lnTo>
                    <a:pt x="2243" y="969"/>
                  </a:lnTo>
                  <a:lnTo>
                    <a:pt x="2226" y="953"/>
                  </a:lnTo>
                  <a:close/>
                  <a:moveTo>
                    <a:pt x="2638" y="541"/>
                  </a:moveTo>
                  <a:lnTo>
                    <a:pt x="2243" y="936"/>
                  </a:lnTo>
                  <a:lnTo>
                    <a:pt x="2259" y="953"/>
                  </a:lnTo>
                  <a:lnTo>
                    <a:pt x="2654" y="558"/>
                  </a:lnTo>
                  <a:lnTo>
                    <a:pt x="2638" y="541"/>
                  </a:lnTo>
                  <a:close/>
                  <a:moveTo>
                    <a:pt x="2727" y="452"/>
                  </a:moveTo>
                  <a:lnTo>
                    <a:pt x="2654" y="525"/>
                  </a:lnTo>
                  <a:lnTo>
                    <a:pt x="2671" y="541"/>
                  </a:lnTo>
                  <a:lnTo>
                    <a:pt x="2744" y="468"/>
                  </a:lnTo>
                  <a:lnTo>
                    <a:pt x="2727" y="452"/>
                  </a:lnTo>
                  <a:close/>
                  <a:moveTo>
                    <a:pt x="2836" y="343"/>
                  </a:moveTo>
                  <a:lnTo>
                    <a:pt x="2763" y="418"/>
                  </a:lnTo>
                  <a:lnTo>
                    <a:pt x="2779" y="435"/>
                  </a:lnTo>
                  <a:lnTo>
                    <a:pt x="2853" y="359"/>
                  </a:lnTo>
                  <a:lnTo>
                    <a:pt x="2836" y="343"/>
                  </a:lnTo>
                  <a:close/>
                  <a:moveTo>
                    <a:pt x="3179" y="0"/>
                  </a:moveTo>
                  <a:lnTo>
                    <a:pt x="2853" y="326"/>
                  </a:lnTo>
                  <a:lnTo>
                    <a:pt x="2869" y="343"/>
                  </a:lnTo>
                  <a:lnTo>
                    <a:pt x="3179" y="36"/>
                  </a:lnTo>
                  <a:lnTo>
                    <a:pt x="3179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 rot="5400000">
              <a:off x="483840" y="2421000"/>
              <a:ext cx="3952440" cy="4921200"/>
            </a:xfrm>
            <a:custGeom>
              <a:avLst/>
              <a:gdLst>
                <a:gd name="textAreaLeft" fmla="*/ 0 w 3952440"/>
                <a:gd name="textAreaRight" fmla="*/ 3952800 w 3952440"/>
                <a:gd name="textAreaTop" fmla="*/ 0 h 4921200"/>
                <a:gd name="textAreaBottom" fmla="*/ 4921560 h 4921200"/>
              </a:gdLst>
              <a:ahLst/>
              <a:rect l="textAreaLeft" t="textAreaTop" r="textAreaRight" b="textAreaBottom"/>
              <a:pathLst>
                <a:path w="3179" h="3177">
                  <a:moveTo>
                    <a:pt x="201" y="2976"/>
                  </a:moveTo>
                  <a:lnTo>
                    <a:pt x="0" y="3177"/>
                  </a:lnTo>
                  <a:lnTo>
                    <a:pt x="33" y="3177"/>
                  </a:lnTo>
                  <a:lnTo>
                    <a:pt x="217" y="2992"/>
                  </a:lnTo>
                  <a:lnTo>
                    <a:pt x="201" y="2976"/>
                  </a:lnTo>
                  <a:moveTo>
                    <a:pt x="291" y="2886"/>
                  </a:moveTo>
                  <a:lnTo>
                    <a:pt x="217" y="2959"/>
                  </a:lnTo>
                  <a:lnTo>
                    <a:pt x="234" y="2976"/>
                  </a:lnTo>
                  <a:lnTo>
                    <a:pt x="307" y="2903"/>
                  </a:lnTo>
                  <a:lnTo>
                    <a:pt x="291" y="2886"/>
                  </a:lnTo>
                  <a:moveTo>
                    <a:pt x="399" y="2777"/>
                  </a:moveTo>
                  <a:lnTo>
                    <a:pt x="324" y="2853"/>
                  </a:lnTo>
                  <a:lnTo>
                    <a:pt x="340" y="2869"/>
                  </a:lnTo>
                  <a:lnTo>
                    <a:pt x="416" y="2794"/>
                  </a:lnTo>
                  <a:lnTo>
                    <a:pt x="399" y="2777"/>
                  </a:lnTo>
                  <a:moveTo>
                    <a:pt x="811" y="2368"/>
                  </a:moveTo>
                  <a:lnTo>
                    <a:pt x="416" y="2761"/>
                  </a:lnTo>
                  <a:lnTo>
                    <a:pt x="432" y="2777"/>
                  </a:lnTo>
                  <a:lnTo>
                    <a:pt x="827" y="2385"/>
                  </a:lnTo>
                  <a:lnTo>
                    <a:pt x="811" y="2368"/>
                  </a:lnTo>
                  <a:moveTo>
                    <a:pt x="900" y="2276"/>
                  </a:moveTo>
                  <a:lnTo>
                    <a:pt x="827" y="2349"/>
                  </a:lnTo>
                  <a:lnTo>
                    <a:pt x="844" y="2368"/>
                  </a:lnTo>
                  <a:lnTo>
                    <a:pt x="917" y="2293"/>
                  </a:lnTo>
                  <a:lnTo>
                    <a:pt x="900" y="2276"/>
                  </a:lnTo>
                  <a:moveTo>
                    <a:pt x="1007" y="2170"/>
                  </a:moveTo>
                  <a:lnTo>
                    <a:pt x="934" y="2243"/>
                  </a:lnTo>
                  <a:lnTo>
                    <a:pt x="950" y="2260"/>
                  </a:lnTo>
                  <a:lnTo>
                    <a:pt x="1026" y="2186"/>
                  </a:lnTo>
                  <a:lnTo>
                    <a:pt x="1007" y="2170"/>
                  </a:lnTo>
                  <a:moveTo>
                    <a:pt x="1418" y="1759"/>
                  </a:moveTo>
                  <a:lnTo>
                    <a:pt x="1026" y="2153"/>
                  </a:lnTo>
                  <a:lnTo>
                    <a:pt x="1042" y="2170"/>
                  </a:lnTo>
                  <a:lnTo>
                    <a:pt x="1437" y="1775"/>
                  </a:lnTo>
                  <a:lnTo>
                    <a:pt x="1418" y="1759"/>
                  </a:lnTo>
                  <a:moveTo>
                    <a:pt x="1510" y="1669"/>
                  </a:moveTo>
                  <a:lnTo>
                    <a:pt x="1437" y="1742"/>
                  </a:lnTo>
                  <a:lnTo>
                    <a:pt x="1453" y="1759"/>
                  </a:lnTo>
                  <a:lnTo>
                    <a:pt x="1527" y="1685"/>
                  </a:lnTo>
                  <a:lnTo>
                    <a:pt x="1510" y="1669"/>
                  </a:lnTo>
                  <a:moveTo>
                    <a:pt x="1617" y="1560"/>
                  </a:moveTo>
                  <a:lnTo>
                    <a:pt x="1543" y="1636"/>
                  </a:lnTo>
                  <a:lnTo>
                    <a:pt x="1560" y="1652"/>
                  </a:lnTo>
                  <a:lnTo>
                    <a:pt x="1633" y="1577"/>
                  </a:lnTo>
                  <a:lnTo>
                    <a:pt x="1617" y="1560"/>
                  </a:lnTo>
                  <a:moveTo>
                    <a:pt x="2028" y="1151"/>
                  </a:moveTo>
                  <a:lnTo>
                    <a:pt x="1633" y="1544"/>
                  </a:lnTo>
                  <a:lnTo>
                    <a:pt x="1650" y="1560"/>
                  </a:lnTo>
                  <a:lnTo>
                    <a:pt x="2044" y="1168"/>
                  </a:lnTo>
                  <a:lnTo>
                    <a:pt x="2028" y="1151"/>
                  </a:lnTo>
                  <a:moveTo>
                    <a:pt x="2120" y="1059"/>
                  </a:moveTo>
                  <a:lnTo>
                    <a:pt x="2044" y="1132"/>
                  </a:lnTo>
                  <a:lnTo>
                    <a:pt x="2061" y="1151"/>
                  </a:lnTo>
                  <a:lnTo>
                    <a:pt x="2136" y="1076"/>
                  </a:lnTo>
                  <a:lnTo>
                    <a:pt x="2120" y="1059"/>
                  </a:lnTo>
                  <a:moveTo>
                    <a:pt x="2226" y="953"/>
                  </a:moveTo>
                  <a:lnTo>
                    <a:pt x="2153" y="1026"/>
                  </a:lnTo>
                  <a:lnTo>
                    <a:pt x="2170" y="1042"/>
                  </a:lnTo>
                  <a:lnTo>
                    <a:pt x="2243" y="969"/>
                  </a:lnTo>
                  <a:lnTo>
                    <a:pt x="2226" y="953"/>
                  </a:lnTo>
                  <a:moveTo>
                    <a:pt x="2638" y="541"/>
                  </a:moveTo>
                  <a:lnTo>
                    <a:pt x="2243" y="936"/>
                  </a:lnTo>
                  <a:lnTo>
                    <a:pt x="2259" y="953"/>
                  </a:lnTo>
                  <a:lnTo>
                    <a:pt x="2654" y="558"/>
                  </a:lnTo>
                  <a:lnTo>
                    <a:pt x="2638" y="541"/>
                  </a:lnTo>
                  <a:moveTo>
                    <a:pt x="2727" y="452"/>
                  </a:moveTo>
                  <a:lnTo>
                    <a:pt x="2654" y="525"/>
                  </a:lnTo>
                  <a:lnTo>
                    <a:pt x="2671" y="541"/>
                  </a:lnTo>
                  <a:lnTo>
                    <a:pt x="2744" y="468"/>
                  </a:lnTo>
                  <a:lnTo>
                    <a:pt x="2727" y="452"/>
                  </a:lnTo>
                  <a:moveTo>
                    <a:pt x="2836" y="343"/>
                  </a:moveTo>
                  <a:lnTo>
                    <a:pt x="2763" y="418"/>
                  </a:lnTo>
                  <a:lnTo>
                    <a:pt x="2779" y="435"/>
                  </a:lnTo>
                  <a:lnTo>
                    <a:pt x="2853" y="359"/>
                  </a:lnTo>
                  <a:lnTo>
                    <a:pt x="2836" y="343"/>
                  </a:lnTo>
                  <a:moveTo>
                    <a:pt x="3179" y="0"/>
                  </a:moveTo>
                  <a:lnTo>
                    <a:pt x="2853" y="326"/>
                  </a:lnTo>
                  <a:lnTo>
                    <a:pt x="2869" y="343"/>
                  </a:lnTo>
                  <a:lnTo>
                    <a:pt x="3179" y="36"/>
                  </a:lnTo>
                  <a:lnTo>
                    <a:pt x="317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 rot="5400000">
              <a:off x="298800" y="4121640"/>
              <a:ext cx="2436840" cy="303588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3035880"/>
                <a:gd name="textAreaBottom" fmla="*/ 3036240 h 3035880"/>
              </a:gdLst>
              <a:ahLst/>
              <a:rect l="textAreaLeft" t="textAreaTop" r="textAreaRight" b="textAreaBottom"/>
              <a:pathLst>
                <a:path w="1960" h="1960">
                  <a:moveTo>
                    <a:pt x="199" y="1759"/>
                  </a:moveTo>
                  <a:lnTo>
                    <a:pt x="0" y="1960"/>
                  </a:lnTo>
                  <a:lnTo>
                    <a:pt x="34" y="1960"/>
                  </a:lnTo>
                  <a:lnTo>
                    <a:pt x="216" y="1775"/>
                  </a:lnTo>
                  <a:lnTo>
                    <a:pt x="199" y="1759"/>
                  </a:lnTo>
                  <a:close/>
                  <a:moveTo>
                    <a:pt x="291" y="1669"/>
                  </a:moveTo>
                  <a:lnTo>
                    <a:pt x="216" y="1742"/>
                  </a:lnTo>
                  <a:lnTo>
                    <a:pt x="232" y="1759"/>
                  </a:lnTo>
                  <a:lnTo>
                    <a:pt x="308" y="1686"/>
                  </a:lnTo>
                  <a:lnTo>
                    <a:pt x="291" y="1669"/>
                  </a:lnTo>
                  <a:close/>
                  <a:moveTo>
                    <a:pt x="398" y="1563"/>
                  </a:moveTo>
                  <a:lnTo>
                    <a:pt x="324" y="1636"/>
                  </a:lnTo>
                  <a:lnTo>
                    <a:pt x="341" y="1652"/>
                  </a:lnTo>
                  <a:lnTo>
                    <a:pt x="414" y="1579"/>
                  </a:lnTo>
                  <a:lnTo>
                    <a:pt x="398" y="1563"/>
                  </a:lnTo>
                  <a:close/>
                  <a:moveTo>
                    <a:pt x="809" y="1151"/>
                  </a:moveTo>
                  <a:lnTo>
                    <a:pt x="414" y="1546"/>
                  </a:lnTo>
                  <a:lnTo>
                    <a:pt x="431" y="1563"/>
                  </a:lnTo>
                  <a:lnTo>
                    <a:pt x="825" y="1168"/>
                  </a:lnTo>
                  <a:lnTo>
                    <a:pt x="809" y="1151"/>
                  </a:lnTo>
                  <a:close/>
                  <a:moveTo>
                    <a:pt x="899" y="1059"/>
                  </a:moveTo>
                  <a:lnTo>
                    <a:pt x="825" y="1135"/>
                  </a:lnTo>
                  <a:lnTo>
                    <a:pt x="842" y="1151"/>
                  </a:lnTo>
                  <a:lnTo>
                    <a:pt x="915" y="1078"/>
                  </a:lnTo>
                  <a:lnTo>
                    <a:pt x="899" y="1059"/>
                  </a:lnTo>
                  <a:close/>
                  <a:moveTo>
                    <a:pt x="1007" y="953"/>
                  </a:moveTo>
                  <a:lnTo>
                    <a:pt x="932" y="1026"/>
                  </a:lnTo>
                  <a:lnTo>
                    <a:pt x="951" y="1043"/>
                  </a:lnTo>
                  <a:lnTo>
                    <a:pt x="1024" y="969"/>
                  </a:lnTo>
                  <a:lnTo>
                    <a:pt x="1007" y="953"/>
                  </a:lnTo>
                  <a:close/>
                  <a:moveTo>
                    <a:pt x="1419" y="542"/>
                  </a:moveTo>
                  <a:lnTo>
                    <a:pt x="1024" y="936"/>
                  </a:lnTo>
                  <a:lnTo>
                    <a:pt x="1040" y="953"/>
                  </a:lnTo>
                  <a:lnTo>
                    <a:pt x="1435" y="558"/>
                  </a:lnTo>
                  <a:lnTo>
                    <a:pt x="1419" y="542"/>
                  </a:lnTo>
                  <a:close/>
                  <a:moveTo>
                    <a:pt x="1508" y="452"/>
                  </a:moveTo>
                  <a:lnTo>
                    <a:pt x="1435" y="525"/>
                  </a:lnTo>
                  <a:lnTo>
                    <a:pt x="1452" y="542"/>
                  </a:lnTo>
                  <a:lnTo>
                    <a:pt x="1525" y="468"/>
                  </a:lnTo>
                  <a:lnTo>
                    <a:pt x="1508" y="452"/>
                  </a:lnTo>
                  <a:close/>
                  <a:moveTo>
                    <a:pt x="1617" y="345"/>
                  </a:moveTo>
                  <a:lnTo>
                    <a:pt x="1541" y="419"/>
                  </a:lnTo>
                  <a:lnTo>
                    <a:pt x="1558" y="435"/>
                  </a:lnTo>
                  <a:lnTo>
                    <a:pt x="1634" y="362"/>
                  </a:lnTo>
                  <a:lnTo>
                    <a:pt x="1617" y="345"/>
                  </a:lnTo>
                  <a:close/>
                  <a:moveTo>
                    <a:pt x="1960" y="0"/>
                  </a:moveTo>
                  <a:lnTo>
                    <a:pt x="1634" y="329"/>
                  </a:lnTo>
                  <a:lnTo>
                    <a:pt x="1650" y="345"/>
                  </a:lnTo>
                  <a:lnTo>
                    <a:pt x="1960" y="3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 rot="5400000">
              <a:off x="298800" y="4121640"/>
              <a:ext cx="2436840" cy="303588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3035880"/>
                <a:gd name="textAreaBottom" fmla="*/ 3036240 h 3035880"/>
              </a:gdLst>
              <a:ahLst/>
              <a:rect l="textAreaLeft" t="textAreaTop" r="textAreaRight" b="textAreaBottom"/>
              <a:pathLst>
                <a:path w="1960" h="1960">
                  <a:moveTo>
                    <a:pt x="199" y="1759"/>
                  </a:moveTo>
                  <a:lnTo>
                    <a:pt x="0" y="1960"/>
                  </a:lnTo>
                  <a:lnTo>
                    <a:pt x="34" y="1960"/>
                  </a:lnTo>
                  <a:lnTo>
                    <a:pt x="216" y="1775"/>
                  </a:lnTo>
                  <a:lnTo>
                    <a:pt x="199" y="1759"/>
                  </a:lnTo>
                  <a:moveTo>
                    <a:pt x="291" y="1669"/>
                  </a:moveTo>
                  <a:lnTo>
                    <a:pt x="216" y="1742"/>
                  </a:lnTo>
                  <a:lnTo>
                    <a:pt x="232" y="1759"/>
                  </a:lnTo>
                  <a:lnTo>
                    <a:pt x="308" y="1686"/>
                  </a:lnTo>
                  <a:lnTo>
                    <a:pt x="291" y="1669"/>
                  </a:lnTo>
                  <a:moveTo>
                    <a:pt x="398" y="1563"/>
                  </a:moveTo>
                  <a:lnTo>
                    <a:pt x="324" y="1636"/>
                  </a:lnTo>
                  <a:lnTo>
                    <a:pt x="341" y="1652"/>
                  </a:lnTo>
                  <a:lnTo>
                    <a:pt x="414" y="1579"/>
                  </a:lnTo>
                  <a:lnTo>
                    <a:pt x="398" y="1563"/>
                  </a:lnTo>
                  <a:moveTo>
                    <a:pt x="809" y="1151"/>
                  </a:moveTo>
                  <a:lnTo>
                    <a:pt x="414" y="1546"/>
                  </a:lnTo>
                  <a:lnTo>
                    <a:pt x="431" y="1563"/>
                  </a:lnTo>
                  <a:lnTo>
                    <a:pt x="825" y="1168"/>
                  </a:lnTo>
                  <a:lnTo>
                    <a:pt x="809" y="1151"/>
                  </a:lnTo>
                  <a:moveTo>
                    <a:pt x="899" y="1059"/>
                  </a:moveTo>
                  <a:lnTo>
                    <a:pt x="825" y="1135"/>
                  </a:lnTo>
                  <a:lnTo>
                    <a:pt x="842" y="1151"/>
                  </a:lnTo>
                  <a:lnTo>
                    <a:pt x="915" y="1078"/>
                  </a:lnTo>
                  <a:lnTo>
                    <a:pt x="899" y="1059"/>
                  </a:lnTo>
                  <a:moveTo>
                    <a:pt x="1007" y="953"/>
                  </a:moveTo>
                  <a:lnTo>
                    <a:pt x="932" y="1026"/>
                  </a:lnTo>
                  <a:lnTo>
                    <a:pt x="951" y="1043"/>
                  </a:lnTo>
                  <a:lnTo>
                    <a:pt x="1024" y="969"/>
                  </a:lnTo>
                  <a:lnTo>
                    <a:pt x="1007" y="953"/>
                  </a:lnTo>
                  <a:moveTo>
                    <a:pt x="1419" y="542"/>
                  </a:moveTo>
                  <a:lnTo>
                    <a:pt x="1024" y="936"/>
                  </a:lnTo>
                  <a:lnTo>
                    <a:pt x="1040" y="953"/>
                  </a:lnTo>
                  <a:lnTo>
                    <a:pt x="1435" y="558"/>
                  </a:lnTo>
                  <a:lnTo>
                    <a:pt x="1419" y="542"/>
                  </a:lnTo>
                  <a:moveTo>
                    <a:pt x="1508" y="452"/>
                  </a:moveTo>
                  <a:lnTo>
                    <a:pt x="1435" y="525"/>
                  </a:lnTo>
                  <a:lnTo>
                    <a:pt x="1452" y="542"/>
                  </a:lnTo>
                  <a:lnTo>
                    <a:pt x="1525" y="468"/>
                  </a:lnTo>
                  <a:lnTo>
                    <a:pt x="1508" y="452"/>
                  </a:lnTo>
                  <a:moveTo>
                    <a:pt x="1617" y="345"/>
                  </a:moveTo>
                  <a:lnTo>
                    <a:pt x="1541" y="419"/>
                  </a:lnTo>
                  <a:lnTo>
                    <a:pt x="1558" y="435"/>
                  </a:lnTo>
                  <a:lnTo>
                    <a:pt x="1634" y="362"/>
                  </a:lnTo>
                  <a:lnTo>
                    <a:pt x="1617" y="345"/>
                  </a:lnTo>
                  <a:moveTo>
                    <a:pt x="1960" y="0"/>
                  </a:moveTo>
                  <a:lnTo>
                    <a:pt x="1634" y="329"/>
                  </a:lnTo>
                  <a:lnTo>
                    <a:pt x="1650" y="345"/>
                  </a:lnTo>
                  <a:lnTo>
                    <a:pt x="1960" y="33"/>
                  </a:lnTo>
                  <a:lnTo>
                    <a:pt x="19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 rot="5400000">
              <a:off x="113040" y="5822280"/>
              <a:ext cx="922320" cy="114912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742" h="742">
                  <a:moveTo>
                    <a:pt x="198" y="543"/>
                  </a:moveTo>
                  <a:lnTo>
                    <a:pt x="0" y="742"/>
                  </a:lnTo>
                  <a:lnTo>
                    <a:pt x="33" y="742"/>
                  </a:lnTo>
                  <a:lnTo>
                    <a:pt x="217" y="560"/>
                  </a:lnTo>
                  <a:lnTo>
                    <a:pt x="198" y="543"/>
                  </a:lnTo>
                  <a:close/>
                  <a:moveTo>
                    <a:pt x="290" y="451"/>
                  </a:moveTo>
                  <a:lnTo>
                    <a:pt x="217" y="527"/>
                  </a:lnTo>
                  <a:lnTo>
                    <a:pt x="234" y="543"/>
                  </a:lnTo>
                  <a:lnTo>
                    <a:pt x="307" y="468"/>
                  </a:lnTo>
                  <a:lnTo>
                    <a:pt x="290" y="451"/>
                  </a:lnTo>
                  <a:close/>
                  <a:moveTo>
                    <a:pt x="397" y="345"/>
                  </a:moveTo>
                  <a:lnTo>
                    <a:pt x="323" y="418"/>
                  </a:lnTo>
                  <a:lnTo>
                    <a:pt x="340" y="434"/>
                  </a:lnTo>
                  <a:lnTo>
                    <a:pt x="413" y="361"/>
                  </a:lnTo>
                  <a:lnTo>
                    <a:pt x="397" y="345"/>
                  </a:lnTo>
                  <a:close/>
                  <a:moveTo>
                    <a:pt x="742" y="0"/>
                  </a:moveTo>
                  <a:lnTo>
                    <a:pt x="413" y="328"/>
                  </a:lnTo>
                  <a:lnTo>
                    <a:pt x="430" y="345"/>
                  </a:lnTo>
                  <a:lnTo>
                    <a:pt x="742" y="33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 rot="5400000">
              <a:off x="113040" y="5822280"/>
              <a:ext cx="922320" cy="114912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742" h="742">
                  <a:moveTo>
                    <a:pt x="198" y="543"/>
                  </a:moveTo>
                  <a:lnTo>
                    <a:pt x="0" y="742"/>
                  </a:lnTo>
                  <a:lnTo>
                    <a:pt x="33" y="742"/>
                  </a:lnTo>
                  <a:lnTo>
                    <a:pt x="217" y="560"/>
                  </a:lnTo>
                  <a:lnTo>
                    <a:pt x="198" y="543"/>
                  </a:lnTo>
                  <a:moveTo>
                    <a:pt x="290" y="451"/>
                  </a:moveTo>
                  <a:lnTo>
                    <a:pt x="217" y="527"/>
                  </a:lnTo>
                  <a:lnTo>
                    <a:pt x="234" y="543"/>
                  </a:lnTo>
                  <a:lnTo>
                    <a:pt x="307" y="468"/>
                  </a:lnTo>
                  <a:lnTo>
                    <a:pt x="290" y="451"/>
                  </a:lnTo>
                  <a:moveTo>
                    <a:pt x="397" y="345"/>
                  </a:moveTo>
                  <a:lnTo>
                    <a:pt x="323" y="418"/>
                  </a:lnTo>
                  <a:lnTo>
                    <a:pt x="340" y="434"/>
                  </a:lnTo>
                  <a:lnTo>
                    <a:pt x="413" y="361"/>
                  </a:lnTo>
                  <a:lnTo>
                    <a:pt x="397" y="345"/>
                  </a:lnTo>
                  <a:moveTo>
                    <a:pt x="742" y="0"/>
                  </a:moveTo>
                  <a:lnTo>
                    <a:pt x="413" y="328"/>
                  </a:lnTo>
                  <a:lnTo>
                    <a:pt x="430" y="345"/>
                  </a:lnTo>
                  <a:lnTo>
                    <a:pt x="742" y="33"/>
                  </a:lnTo>
                  <a:lnTo>
                    <a:pt x="7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 rot="5400000">
              <a:off x="11395800" y="5659200"/>
              <a:ext cx="719640" cy="8719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579" h="563">
                  <a:moveTo>
                    <a:pt x="506" y="473"/>
                  </a:moveTo>
                  <a:lnTo>
                    <a:pt x="489" y="489"/>
                  </a:lnTo>
                  <a:lnTo>
                    <a:pt x="562" y="563"/>
                  </a:lnTo>
                  <a:lnTo>
                    <a:pt x="579" y="546"/>
                  </a:lnTo>
                  <a:lnTo>
                    <a:pt x="506" y="473"/>
                  </a:lnTo>
                  <a:close/>
                  <a:moveTo>
                    <a:pt x="397" y="364"/>
                  </a:moveTo>
                  <a:lnTo>
                    <a:pt x="380" y="381"/>
                  </a:lnTo>
                  <a:lnTo>
                    <a:pt x="456" y="456"/>
                  </a:lnTo>
                  <a:lnTo>
                    <a:pt x="473" y="437"/>
                  </a:lnTo>
                  <a:lnTo>
                    <a:pt x="397" y="364"/>
                  </a:lnTo>
                  <a:close/>
                  <a:moveTo>
                    <a:pt x="33" y="0"/>
                  </a:moveTo>
                  <a:lnTo>
                    <a:pt x="0" y="0"/>
                  </a:lnTo>
                  <a:lnTo>
                    <a:pt x="364" y="364"/>
                  </a:lnTo>
                  <a:lnTo>
                    <a:pt x="380" y="34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 rot="5400000">
              <a:off x="11395800" y="5659200"/>
              <a:ext cx="719640" cy="8719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579" h="563">
                  <a:moveTo>
                    <a:pt x="506" y="473"/>
                  </a:moveTo>
                  <a:lnTo>
                    <a:pt x="489" y="489"/>
                  </a:lnTo>
                  <a:lnTo>
                    <a:pt x="562" y="563"/>
                  </a:lnTo>
                  <a:lnTo>
                    <a:pt x="579" y="546"/>
                  </a:lnTo>
                  <a:lnTo>
                    <a:pt x="506" y="473"/>
                  </a:lnTo>
                  <a:moveTo>
                    <a:pt x="397" y="364"/>
                  </a:moveTo>
                  <a:lnTo>
                    <a:pt x="380" y="381"/>
                  </a:lnTo>
                  <a:lnTo>
                    <a:pt x="456" y="456"/>
                  </a:lnTo>
                  <a:lnTo>
                    <a:pt x="473" y="437"/>
                  </a:lnTo>
                  <a:lnTo>
                    <a:pt x="397" y="364"/>
                  </a:lnTo>
                  <a:moveTo>
                    <a:pt x="33" y="0"/>
                  </a:moveTo>
                  <a:lnTo>
                    <a:pt x="0" y="0"/>
                  </a:lnTo>
                  <a:lnTo>
                    <a:pt x="364" y="364"/>
                  </a:lnTo>
                  <a:lnTo>
                    <a:pt x="380" y="348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 rot="5400000">
              <a:off x="10854720" y="6393240"/>
              <a:ext cx="402840" cy="5263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324" h="340">
                  <a:moveTo>
                    <a:pt x="16" y="0"/>
                  </a:moveTo>
                  <a:lnTo>
                    <a:pt x="0" y="16"/>
                  </a:lnTo>
                  <a:lnTo>
                    <a:pt x="324" y="340"/>
                  </a:lnTo>
                  <a:lnTo>
                    <a:pt x="324" y="30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 rot="5400000">
              <a:off x="10854720" y="6393240"/>
              <a:ext cx="402840" cy="5263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324" h="340">
                  <a:moveTo>
                    <a:pt x="16" y="0"/>
                  </a:moveTo>
                  <a:lnTo>
                    <a:pt x="0" y="16"/>
                  </a:lnTo>
                  <a:lnTo>
                    <a:pt x="324" y="340"/>
                  </a:lnTo>
                  <a:lnTo>
                    <a:pt x="324" y="30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 rot="5400000">
              <a:off x="11443320" y="6293160"/>
              <a:ext cx="61920" cy="80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0" h="52">
                  <a:moveTo>
                    <a:pt x="17" y="0"/>
                  </a:moveTo>
                  <a:lnTo>
                    <a:pt x="0" y="19"/>
                  </a:lnTo>
                  <a:lnTo>
                    <a:pt x="33" y="52"/>
                  </a:lnTo>
                  <a:lnTo>
                    <a:pt x="5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 rot="5400000">
              <a:off x="11443320" y="6293160"/>
              <a:ext cx="61920" cy="80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0" h="52">
                  <a:moveTo>
                    <a:pt x="17" y="0"/>
                  </a:moveTo>
                  <a:lnTo>
                    <a:pt x="0" y="19"/>
                  </a:lnTo>
                  <a:lnTo>
                    <a:pt x="33" y="52"/>
                  </a:lnTo>
                  <a:lnTo>
                    <a:pt x="50" y="3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 rot="5400000">
              <a:off x="11300040" y="64292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 rot="5400000">
              <a:off x="11300040" y="64292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 rot="5400000">
              <a:off x="11606760" y="61830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 rot="5400000">
              <a:off x="11606760" y="61830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 rot="5400000">
              <a:off x="9696600" y="3960000"/>
              <a:ext cx="2232720" cy="2757240"/>
            </a:xfrm>
            <a:custGeom>
              <a:avLst/>
              <a:gdLst>
                <a:gd name="textAreaLeft" fmla="*/ 0 w 2232720"/>
                <a:gd name="textAreaRight" fmla="*/ 2233080 w 2232720"/>
                <a:gd name="textAreaTop" fmla="*/ 0 h 2757240"/>
                <a:gd name="textAreaBottom" fmla="*/ 2757240 h 2757240"/>
              </a:gdLst>
              <a:ahLst/>
              <a:rect l="textAreaLeft" t="textAreaTop" r="textAreaRight" b="textAreaBottom"/>
              <a:pathLst>
                <a:path w="1796" h="1780">
                  <a:moveTo>
                    <a:pt x="1723" y="1690"/>
                  </a:moveTo>
                  <a:lnTo>
                    <a:pt x="1704" y="1707"/>
                  </a:lnTo>
                  <a:lnTo>
                    <a:pt x="1779" y="1780"/>
                  </a:lnTo>
                  <a:lnTo>
                    <a:pt x="1796" y="1763"/>
                  </a:lnTo>
                  <a:lnTo>
                    <a:pt x="1723" y="1690"/>
                  </a:lnTo>
                  <a:close/>
                  <a:moveTo>
                    <a:pt x="1614" y="1581"/>
                  </a:moveTo>
                  <a:lnTo>
                    <a:pt x="1597" y="1598"/>
                  </a:lnTo>
                  <a:lnTo>
                    <a:pt x="1671" y="1674"/>
                  </a:lnTo>
                  <a:lnTo>
                    <a:pt x="1687" y="1657"/>
                  </a:lnTo>
                  <a:lnTo>
                    <a:pt x="1614" y="1581"/>
                  </a:lnTo>
                  <a:close/>
                  <a:moveTo>
                    <a:pt x="1203" y="1170"/>
                  </a:moveTo>
                  <a:lnTo>
                    <a:pt x="1186" y="1187"/>
                  </a:lnTo>
                  <a:lnTo>
                    <a:pt x="1581" y="1581"/>
                  </a:lnTo>
                  <a:lnTo>
                    <a:pt x="1597" y="1565"/>
                  </a:lnTo>
                  <a:lnTo>
                    <a:pt x="1203" y="1170"/>
                  </a:lnTo>
                  <a:close/>
                  <a:moveTo>
                    <a:pt x="1113" y="1080"/>
                  </a:moveTo>
                  <a:lnTo>
                    <a:pt x="1096" y="1097"/>
                  </a:lnTo>
                  <a:lnTo>
                    <a:pt x="1170" y="1170"/>
                  </a:lnTo>
                  <a:lnTo>
                    <a:pt x="1186" y="1154"/>
                  </a:lnTo>
                  <a:lnTo>
                    <a:pt x="1113" y="1080"/>
                  </a:lnTo>
                  <a:close/>
                  <a:moveTo>
                    <a:pt x="1007" y="974"/>
                  </a:moveTo>
                  <a:lnTo>
                    <a:pt x="988" y="990"/>
                  </a:lnTo>
                  <a:lnTo>
                    <a:pt x="1063" y="1064"/>
                  </a:lnTo>
                  <a:lnTo>
                    <a:pt x="1080" y="1047"/>
                  </a:lnTo>
                  <a:lnTo>
                    <a:pt x="1007" y="974"/>
                  </a:lnTo>
                  <a:close/>
                  <a:moveTo>
                    <a:pt x="595" y="563"/>
                  </a:moveTo>
                  <a:lnTo>
                    <a:pt x="579" y="579"/>
                  </a:lnTo>
                  <a:lnTo>
                    <a:pt x="971" y="974"/>
                  </a:lnTo>
                  <a:lnTo>
                    <a:pt x="988" y="955"/>
                  </a:lnTo>
                  <a:lnTo>
                    <a:pt x="595" y="563"/>
                  </a:lnTo>
                  <a:close/>
                  <a:moveTo>
                    <a:pt x="506" y="471"/>
                  </a:moveTo>
                  <a:lnTo>
                    <a:pt x="487" y="487"/>
                  </a:lnTo>
                  <a:lnTo>
                    <a:pt x="562" y="563"/>
                  </a:lnTo>
                  <a:lnTo>
                    <a:pt x="579" y="544"/>
                  </a:lnTo>
                  <a:lnTo>
                    <a:pt x="506" y="471"/>
                  </a:lnTo>
                  <a:close/>
                  <a:moveTo>
                    <a:pt x="397" y="364"/>
                  </a:moveTo>
                  <a:lnTo>
                    <a:pt x="380" y="381"/>
                  </a:lnTo>
                  <a:lnTo>
                    <a:pt x="454" y="454"/>
                  </a:lnTo>
                  <a:lnTo>
                    <a:pt x="470" y="437"/>
                  </a:lnTo>
                  <a:lnTo>
                    <a:pt x="397" y="364"/>
                  </a:lnTo>
                  <a:close/>
                  <a:moveTo>
                    <a:pt x="33" y="0"/>
                  </a:moveTo>
                  <a:lnTo>
                    <a:pt x="0" y="0"/>
                  </a:lnTo>
                  <a:lnTo>
                    <a:pt x="364" y="364"/>
                  </a:lnTo>
                  <a:lnTo>
                    <a:pt x="380" y="34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 rot="5400000">
              <a:off x="9696600" y="3960000"/>
              <a:ext cx="2232720" cy="2757240"/>
            </a:xfrm>
            <a:custGeom>
              <a:avLst/>
              <a:gdLst>
                <a:gd name="textAreaLeft" fmla="*/ 0 w 2232720"/>
                <a:gd name="textAreaRight" fmla="*/ 2233080 w 2232720"/>
                <a:gd name="textAreaTop" fmla="*/ 0 h 2757240"/>
                <a:gd name="textAreaBottom" fmla="*/ 2757240 h 2757240"/>
              </a:gdLst>
              <a:ahLst/>
              <a:rect l="textAreaLeft" t="textAreaTop" r="textAreaRight" b="textAreaBottom"/>
              <a:pathLst>
                <a:path w="1796" h="1780">
                  <a:moveTo>
                    <a:pt x="1723" y="1690"/>
                  </a:moveTo>
                  <a:lnTo>
                    <a:pt x="1704" y="1707"/>
                  </a:lnTo>
                  <a:lnTo>
                    <a:pt x="1779" y="1780"/>
                  </a:lnTo>
                  <a:lnTo>
                    <a:pt x="1796" y="1763"/>
                  </a:lnTo>
                  <a:lnTo>
                    <a:pt x="1723" y="1690"/>
                  </a:lnTo>
                  <a:moveTo>
                    <a:pt x="1614" y="1581"/>
                  </a:moveTo>
                  <a:lnTo>
                    <a:pt x="1597" y="1598"/>
                  </a:lnTo>
                  <a:lnTo>
                    <a:pt x="1671" y="1674"/>
                  </a:lnTo>
                  <a:lnTo>
                    <a:pt x="1687" y="1657"/>
                  </a:lnTo>
                  <a:lnTo>
                    <a:pt x="1614" y="1581"/>
                  </a:lnTo>
                  <a:moveTo>
                    <a:pt x="1203" y="1170"/>
                  </a:moveTo>
                  <a:lnTo>
                    <a:pt x="1186" y="1187"/>
                  </a:lnTo>
                  <a:lnTo>
                    <a:pt x="1581" y="1581"/>
                  </a:lnTo>
                  <a:lnTo>
                    <a:pt x="1597" y="1565"/>
                  </a:lnTo>
                  <a:lnTo>
                    <a:pt x="1203" y="1170"/>
                  </a:lnTo>
                  <a:moveTo>
                    <a:pt x="1113" y="1080"/>
                  </a:moveTo>
                  <a:lnTo>
                    <a:pt x="1096" y="1097"/>
                  </a:lnTo>
                  <a:lnTo>
                    <a:pt x="1170" y="1170"/>
                  </a:lnTo>
                  <a:lnTo>
                    <a:pt x="1186" y="1154"/>
                  </a:lnTo>
                  <a:lnTo>
                    <a:pt x="1113" y="1080"/>
                  </a:lnTo>
                  <a:moveTo>
                    <a:pt x="1007" y="974"/>
                  </a:moveTo>
                  <a:lnTo>
                    <a:pt x="988" y="990"/>
                  </a:lnTo>
                  <a:lnTo>
                    <a:pt x="1063" y="1064"/>
                  </a:lnTo>
                  <a:lnTo>
                    <a:pt x="1080" y="1047"/>
                  </a:lnTo>
                  <a:lnTo>
                    <a:pt x="1007" y="974"/>
                  </a:lnTo>
                  <a:moveTo>
                    <a:pt x="595" y="563"/>
                  </a:moveTo>
                  <a:lnTo>
                    <a:pt x="579" y="579"/>
                  </a:lnTo>
                  <a:lnTo>
                    <a:pt x="971" y="974"/>
                  </a:lnTo>
                  <a:lnTo>
                    <a:pt x="988" y="955"/>
                  </a:lnTo>
                  <a:lnTo>
                    <a:pt x="595" y="563"/>
                  </a:lnTo>
                  <a:moveTo>
                    <a:pt x="506" y="471"/>
                  </a:moveTo>
                  <a:lnTo>
                    <a:pt x="487" y="487"/>
                  </a:lnTo>
                  <a:lnTo>
                    <a:pt x="562" y="563"/>
                  </a:lnTo>
                  <a:lnTo>
                    <a:pt x="579" y="544"/>
                  </a:lnTo>
                  <a:lnTo>
                    <a:pt x="506" y="471"/>
                  </a:lnTo>
                  <a:moveTo>
                    <a:pt x="397" y="364"/>
                  </a:moveTo>
                  <a:lnTo>
                    <a:pt x="380" y="381"/>
                  </a:lnTo>
                  <a:lnTo>
                    <a:pt x="454" y="454"/>
                  </a:lnTo>
                  <a:lnTo>
                    <a:pt x="470" y="437"/>
                  </a:lnTo>
                  <a:lnTo>
                    <a:pt x="397" y="364"/>
                  </a:lnTo>
                  <a:moveTo>
                    <a:pt x="33" y="0"/>
                  </a:moveTo>
                  <a:lnTo>
                    <a:pt x="0" y="0"/>
                  </a:lnTo>
                  <a:lnTo>
                    <a:pt x="364" y="364"/>
                  </a:lnTo>
                  <a:lnTo>
                    <a:pt x="380" y="348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 rot="5400000">
              <a:off x="8967600" y="6391080"/>
              <a:ext cx="402840" cy="53100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531000"/>
                <a:gd name="textAreaBottom" fmla="*/ 531000 h 531000"/>
              </a:gdLst>
              <a:ahLst/>
              <a:rect l="textAreaLeft" t="textAreaTop" r="textAreaRight" b="textAreaBottom"/>
              <a:pathLst>
                <a:path w="324" h="343">
                  <a:moveTo>
                    <a:pt x="16" y="0"/>
                  </a:moveTo>
                  <a:lnTo>
                    <a:pt x="0" y="16"/>
                  </a:lnTo>
                  <a:lnTo>
                    <a:pt x="324" y="343"/>
                  </a:lnTo>
                  <a:lnTo>
                    <a:pt x="324" y="30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 rot="5400000">
              <a:off x="8967600" y="6391080"/>
              <a:ext cx="402840" cy="53100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531000"/>
                <a:gd name="textAreaBottom" fmla="*/ 531000 h 531000"/>
              </a:gdLst>
              <a:ahLst/>
              <a:rect l="textAreaLeft" t="textAreaTop" r="textAreaRight" b="textAreaBottom"/>
              <a:pathLst>
                <a:path w="324" h="343">
                  <a:moveTo>
                    <a:pt x="16" y="0"/>
                  </a:moveTo>
                  <a:lnTo>
                    <a:pt x="0" y="16"/>
                  </a:lnTo>
                  <a:lnTo>
                    <a:pt x="324" y="343"/>
                  </a:lnTo>
                  <a:lnTo>
                    <a:pt x="324" y="30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 rot="5400000">
              <a:off x="11443680" y="478044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2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 rot="5400000">
              <a:off x="11443680" y="478044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2" y="34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 rot="5400000">
              <a:off x="10499760" y="553608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90"/>
            <p:cNvSpPr/>
            <p:nvPr/>
          </p:nvSpPr>
          <p:spPr>
            <a:xfrm rot="5400000">
              <a:off x="10499760" y="553608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91"/>
            <p:cNvSpPr/>
            <p:nvPr/>
          </p:nvSpPr>
          <p:spPr>
            <a:xfrm rot="5400000">
              <a:off x="9554040" y="629352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2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2"/>
            <p:cNvSpPr/>
            <p:nvPr/>
          </p:nvSpPr>
          <p:spPr>
            <a:xfrm rot="5400000">
              <a:off x="9554040" y="629352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2" y="3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3"/>
            <p:cNvSpPr/>
            <p:nvPr/>
          </p:nvSpPr>
          <p:spPr>
            <a:xfrm rot="5400000">
              <a:off x="11301480" y="491436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35">
                  <a:moveTo>
                    <a:pt x="17" y="0"/>
                  </a:moveTo>
                  <a:lnTo>
                    <a:pt x="0" y="19"/>
                  </a:lnTo>
                  <a:lnTo>
                    <a:pt x="17" y="35"/>
                  </a:lnTo>
                  <a:lnTo>
                    <a:pt x="3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4"/>
            <p:cNvSpPr/>
            <p:nvPr/>
          </p:nvSpPr>
          <p:spPr>
            <a:xfrm rot="5400000">
              <a:off x="11301480" y="491436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35">
                  <a:moveTo>
                    <a:pt x="17" y="0"/>
                  </a:moveTo>
                  <a:lnTo>
                    <a:pt x="0" y="19"/>
                  </a:lnTo>
                  <a:lnTo>
                    <a:pt x="17" y="35"/>
                  </a:lnTo>
                  <a:lnTo>
                    <a:pt x="33" y="19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5"/>
            <p:cNvSpPr/>
            <p:nvPr/>
          </p:nvSpPr>
          <p:spPr>
            <a:xfrm rot="5400000">
              <a:off x="10358280" y="5671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6"/>
            <p:cNvSpPr/>
            <p:nvPr/>
          </p:nvSpPr>
          <p:spPr>
            <a:xfrm rot="5400000">
              <a:off x="10358280" y="5671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7"/>
            <p:cNvSpPr/>
            <p:nvPr/>
          </p:nvSpPr>
          <p:spPr>
            <a:xfrm rot="5400000">
              <a:off x="9415440" y="64292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8"/>
            <p:cNvSpPr/>
            <p:nvPr/>
          </p:nvSpPr>
          <p:spPr>
            <a:xfrm rot="5400000">
              <a:off x="9415440" y="64292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9"/>
            <p:cNvSpPr/>
            <p:nvPr/>
          </p:nvSpPr>
          <p:spPr>
            <a:xfrm rot="5400000">
              <a:off x="11606760" y="46699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0"/>
            <p:cNvSpPr/>
            <p:nvPr/>
          </p:nvSpPr>
          <p:spPr>
            <a:xfrm rot="5400000">
              <a:off x="11606760" y="46699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1"/>
            <p:cNvSpPr/>
            <p:nvPr/>
          </p:nvSpPr>
          <p:spPr>
            <a:xfrm rot="5400000">
              <a:off x="10662840" y="54248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5">
                  <a:moveTo>
                    <a:pt x="17" y="0"/>
                  </a:moveTo>
                  <a:lnTo>
                    <a:pt x="0" y="19"/>
                  </a:lnTo>
                  <a:lnTo>
                    <a:pt x="17" y="35"/>
                  </a:lnTo>
                  <a:lnTo>
                    <a:pt x="36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2"/>
            <p:cNvSpPr/>
            <p:nvPr/>
          </p:nvSpPr>
          <p:spPr>
            <a:xfrm rot="5400000">
              <a:off x="10662840" y="54248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5">
                  <a:moveTo>
                    <a:pt x="17" y="0"/>
                  </a:moveTo>
                  <a:lnTo>
                    <a:pt x="0" y="19"/>
                  </a:lnTo>
                  <a:lnTo>
                    <a:pt x="17" y="35"/>
                  </a:lnTo>
                  <a:lnTo>
                    <a:pt x="36" y="19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3"/>
            <p:cNvSpPr/>
            <p:nvPr/>
          </p:nvSpPr>
          <p:spPr>
            <a:xfrm rot="5400000">
              <a:off x="9721440" y="61830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4"/>
            <p:cNvSpPr/>
            <p:nvPr/>
          </p:nvSpPr>
          <p:spPr>
            <a:xfrm rot="5400000">
              <a:off x="9721440" y="61830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5"/>
            <p:cNvSpPr/>
            <p:nvPr/>
          </p:nvSpPr>
          <p:spPr>
            <a:xfrm rot="5400000">
              <a:off x="7998840" y="2259360"/>
              <a:ext cx="3743640" cy="4642200"/>
            </a:xfrm>
            <a:custGeom>
              <a:avLst/>
              <a:gdLst>
                <a:gd name="textAreaLeft" fmla="*/ 0 w 3743640"/>
                <a:gd name="textAreaRight" fmla="*/ 3744000 w 3743640"/>
                <a:gd name="textAreaTop" fmla="*/ 0 h 4642200"/>
                <a:gd name="textAreaBottom" fmla="*/ 4642560 h 4642200"/>
              </a:gdLst>
              <a:ahLst/>
              <a:rect l="textAreaLeft" t="textAreaTop" r="textAreaRight" b="textAreaBottom"/>
              <a:pathLst>
                <a:path w="3011" h="2997">
                  <a:moveTo>
                    <a:pt x="2937" y="2907"/>
                  </a:moveTo>
                  <a:lnTo>
                    <a:pt x="2921" y="2924"/>
                  </a:lnTo>
                  <a:lnTo>
                    <a:pt x="2994" y="2997"/>
                  </a:lnTo>
                  <a:lnTo>
                    <a:pt x="3011" y="2981"/>
                  </a:lnTo>
                  <a:lnTo>
                    <a:pt x="2937" y="2907"/>
                  </a:lnTo>
                  <a:close/>
                  <a:moveTo>
                    <a:pt x="2831" y="2801"/>
                  </a:moveTo>
                  <a:lnTo>
                    <a:pt x="2814" y="2817"/>
                  </a:lnTo>
                  <a:lnTo>
                    <a:pt x="2888" y="2891"/>
                  </a:lnTo>
                  <a:lnTo>
                    <a:pt x="2904" y="2874"/>
                  </a:lnTo>
                  <a:lnTo>
                    <a:pt x="2831" y="2801"/>
                  </a:lnTo>
                  <a:close/>
                  <a:moveTo>
                    <a:pt x="2420" y="2390"/>
                  </a:moveTo>
                  <a:lnTo>
                    <a:pt x="2403" y="2406"/>
                  </a:lnTo>
                  <a:lnTo>
                    <a:pt x="2798" y="2801"/>
                  </a:lnTo>
                  <a:lnTo>
                    <a:pt x="2814" y="2782"/>
                  </a:lnTo>
                  <a:lnTo>
                    <a:pt x="2420" y="2390"/>
                  </a:lnTo>
                  <a:close/>
                  <a:moveTo>
                    <a:pt x="2330" y="2298"/>
                  </a:moveTo>
                  <a:lnTo>
                    <a:pt x="2313" y="2314"/>
                  </a:lnTo>
                  <a:lnTo>
                    <a:pt x="2387" y="2390"/>
                  </a:lnTo>
                  <a:lnTo>
                    <a:pt x="2403" y="2373"/>
                  </a:lnTo>
                  <a:lnTo>
                    <a:pt x="2330" y="2298"/>
                  </a:lnTo>
                  <a:close/>
                  <a:moveTo>
                    <a:pt x="2221" y="2191"/>
                  </a:moveTo>
                  <a:lnTo>
                    <a:pt x="2205" y="2208"/>
                  </a:lnTo>
                  <a:lnTo>
                    <a:pt x="2280" y="2281"/>
                  </a:lnTo>
                  <a:lnTo>
                    <a:pt x="2297" y="2264"/>
                  </a:lnTo>
                  <a:lnTo>
                    <a:pt x="2221" y="2191"/>
                  </a:lnTo>
                  <a:close/>
                  <a:moveTo>
                    <a:pt x="1810" y="1780"/>
                  </a:moveTo>
                  <a:lnTo>
                    <a:pt x="1793" y="1796"/>
                  </a:lnTo>
                  <a:lnTo>
                    <a:pt x="2188" y="2191"/>
                  </a:lnTo>
                  <a:lnTo>
                    <a:pt x="2205" y="2175"/>
                  </a:lnTo>
                  <a:lnTo>
                    <a:pt x="1810" y="1780"/>
                  </a:lnTo>
                  <a:close/>
                  <a:moveTo>
                    <a:pt x="1720" y="1690"/>
                  </a:moveTo>
                  <a:lnTo>
                    <a:pt x="1704" y="1707"/>
                  </a:lnTo>
                  <a:lnTo>
                    <a:pt x="1777" y="1780"/>
                  </a:lnTo>
                  <a:lnTo>
                    <a:pt x="1793" y="1763"/>
                  </a:lnTo>
                  <a:lnTo>
                    <a:pt x="1720" y="1690"/>
                  </a:lnTo>
                  <a:close/>
                  <a:moveTo>
                    <a:pt x="1614" y="1581"/>
                  </a:moveTo>
                  <a:lnTo>
                    <a:pt x="1597" y="1598"/>
                  </a:lnTo>
                  <a:lnTo>
                    <a:pt x="1671" y="1671"/>
                  </a:lnTo>
                  <a:lnTo>
                    <a:pt x="1687" y="1655"/>
                  </a:lnTo>
                  <a:lnTo>
                    <a:pt x="1614" y="1581"/>
                  </a:lnTo>
                  <a:close/>
                  <a:moveTo>
                    <a:pt x="1203" y="1170"/>
                  </a:moveTo>
                  <a:lnTo>
                    <a:pt x="1186" y="1187"/>
                  </a:lnTo>
                  <a:lnTo>
                    <a:pt x="1581" y="1581"/>
                  </a:lnTo>
                  <a:lnTo>
                    <a:pt x="1597" y="1565"/>
                  </a:lnTo>
                  <a:lnTo>
                    <a:pt x="1203" y="1170"/>
                  </a:lnTo>
                  <a:close/>
                  <a:moveTo>
                    <a:pt x="1113" y="1080"/>
                  </a:moveTo>
                  <a:lnTo>
                    <a:pt x="1096" y="1097"/>
                  </a:lnTo>
                  <a:lnTo>
                    <a:pt x="1170" y="1170"/>
                  </a:lnTo>
                  <a:lnTo>
                    <a:pt x="1186" y="1154"/>
                  </a:lnTo>
                  <a:lnTo>
                    <a:pt x="1113" y="1080"/>
                  </a:lnTo>
                  <a:close/>
                  <a:moveTo>
                    <a:pt x="1004" y="972"/>
                  </a:moveTo>
                  <a:lnTo>
                    <a:pt x="988" y="988"/>
                  </a:lnTo>
                  <a:lnTo>
                    <a:pt x="1063" y="1064"/>
                  </a:lnTo>
                  <a:lnTo>
                    <a:pt x="1080" y="1047"/>
                  </a:lnTo>
                  <a:lnTo>
                    <a:pt x="1004" y="972"/>
                  </a:lnTo>
                  <a:close/>
                  <a:moveTo>
                    <a:pt x="593" y="560"/>
                  </a:moveTo>
                  <a:lnTo>
                    <a:pt x="576" y="577"/>
                  </a:lnTo>
                  <a:lnTo>
                    <a:pt x="971" y="972"/>
                  </a:lnTo>
                  <a:lnTo>
                    <a:pt x="988" y="955"/>
                  </a:lnTo>
                  <a:lnTo>
                    <a:pt x="593" y="560"/>
                  </a:lnTo>
                  <a:close/>
                  <a:moveTo>
                    <a:pt x="503" y="471"/>
                  </a:moveTo>
                  <a:lnTo>
                    <a:pt x="487" y="487"/>
                  </a:lnTo>
                  <a:lnTo>
                    <a:pt x="560" y="560"/>
                  </a:lnTo>
                  <a:lnTo>
                    <a:pt x="576" y="544"/>
                  </a:lnTo>
                  <a:lnTo>
                    <a:pt x="503" y="471"/>
                  </a:lnTo>
                  <a:close/>
                  <a:moveTo>
                    <a:pt x="397" y="362"/>
                  </a:moveTo>
                  <a:lnTo>
                    <a:pt x="380" y="381"/>
                  </a:lnTo>
                  <a:lnTo>
                    <a:pt x="453" y="454"/>
                  </a:lnTo>
                  <a:lnTo>
                    <a:pt x="470" y="437"/>
                  </a:lnTo>
                  <a:lnTo>
                    <a:pt x="397" y="362"/>
                  </a:lnTo>
                  <a:close/>
                  <a:moveTo>
                    <a:pt x="33" y="0"/>
                  </a:moveTo>
                  <a:lnTo>
                    <a:pt x="0" y="0"/>
                  </a:lnTo>
                  <a:lnTo>
                    <a:pt x="364" y="362"/>
                  </a:lnTo>
                  <a:lnTo>
                    <a:pt x="380" y="3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6"/>
            <p:cNvSpPr/>
            <p:nvPr/>
          </p:nvSpPr>
          <p:spPr>
            <a:xfrm rot="5400000">
              <a:off x="7998840" y="2259360"/>
              <a:ext cx="3743640" cy="4642200"/>
            </a:xfrm>
            <a:custGeom>
              <a:avLst/>
              <a:gdLst>
                <a:gd name="textAreaLeft" fmla="*/ 0 w 3743640"/>
                <a:gd name="textAreaRight" fmla="*/ 3744000 w 3743640"/>
                <a:gd name="textAreaTop" fmla="*/ 0 h 4642200"/>
                <a:gd name="textAreaBottom" fmla="*/ 4642560 h 4642200"/>
              </a:gdLst>
              <a:ahLst/>
              <a:rect l="textAreaLeft" t="textAreaTop" r="textAreaRight" b="textAreaBottom"/>
              <a:pathLst>
                <a:path w="3011" h="2997">
                  <a:moveTo>
                    <a:pt x="2937" y="2907"/>
                  </a:moveTo>
                  <a:lnTo>
                    <a:pt x="2921" y="2924"/>
                  </a:lnTo>
                  <a:lnTo>
                    <a:pt x="2994" y="2997"/>
                  </a:lnTo>
                  <a:lnTo>
                    <a:pt x="3011" y="2981"/>
                  </a:lnTo>
                  <a:lnTo>
                    <a:pt x="2937" y="2907"/>
                  </a:lnTo>
                  <a:moveTo>
                    <a:pt x="2831" y="2801"/>
                  </a:moveTo>
                  <a:lnTo>
                    <a:pt x="2814" y="2817"/>
                  </a:lnTo>
                  <a:lnTo>
                    <a:pt x="2888" y="2891"/>
                  </a:lnTo>
                  <a:lnTo>
                    <a:pt x="2904" y="2874"/>
                  </a:lnTo>
                  <a:lnTo>
                    <a:pt x="2831" y="2801"/>
                  </a:lnTo>
                  <a:moveTo>
                    <a:pt x="2420" y="2390"/>
                  </a:moveTo>
                  <a:lnTo>
                    <a:pt x="2403" y="2406"/>
                  </a:lnTo>
                  <a:lnTo>
                    <a:pt x="2798" y="2801"/>
                  </a:lnTo>
                  <a:lnTo>
                    <a:pt x="2814" y="2782"/>
                  </a:lnTo>
                  <a:lnTo>
                    <a:pt x="2420" y="2390"/>
                  </a:lnTo>
                  <a:moveTo>
                    <a:pt x="2330" y="2298"/>
                  </a:moveTo>
                  <a:lnTo>
                    <a:pt x="2313" y="2314"/>
                  </a:lnTo>
                  <a:lnTo>
                    <a:pt x="2387" y="2390"/>
                  </a:lnTo>
                  <a:lnTo>
                    <a:pt x="2403" y="2373"/>
                  </a:lnTo>
                  <a:lnTo>
                    <a:pt x="2330" y="2298"/>
                  </a:lnTo>
                  <a:moveTo>
                    <a:pt x="2221" y="2191"/>
                  </a:moveTo>
                  <a:lnTo>
                    <a:pt x="2205" y="2208"/>
                  </a:lnTo>
                  <a:lnTo>
                    <a:pt x="2280" y="2281"/>
                  </a:lnTo>
                  <a:lnTo>
                    <a:pt x="2297" y="2264"/>
                  </a:lnTo>
                  <a:lnTo>
                    <a:pt x="2221" y="2191"/>
                  </a:lnTo>
                  <a:moveTo>
                    <a:pt x="1810" y="1780"/>
                  </a:moveTo>
                  <a:lnTo>
                    <a:pt x="1793" y="1796"/>
                  </a:lnTo>
                  <a:lnTo>
                    <a:pt x="2188" y="2191"/>
                  </a:lnTo>
                  <a:lnTo>
                    <a:pt x="2205" y="2175"/>
                  </a:lnTo>
                  <a:lnTo>
                    <a:pt x="1810" y="1780"/>
                  </a:lnTo>
                  <a:moveTo>
                    <a:pt x="1720" y="1690"/>
                  </a:moveTo>
                  <a:lnTo>
                    <a:pt x="1704" y="1707"/>
                  </a:lnTo>
                  <a:lnTo>
                    <a:pt x="1777" y="1780"/>
                  </a:lnTo>
                  <a:lnTo>
                    <a:pt x="1793" y="1763"/>
                  </a:lnTo>
                  <a:lnTo>
                    <a:pt x="1720" y="1690"/>
                  </a:lnTo>
                  <a:moveTo>
                    <a:pt x="1614" y="1581"/>
                  </a:moveTo>
                  <a:lnTo>
                    <a:pt x="1597" y="1598"/>
                  </a:lnTo>
                  <a:lnTo>
                    <a:pt x="1671" y="1671"/>
                  </a:lnTo>
                  <a:lnTo>
                    <a:pt x="1687" y="1655"/>
                  </a:lnTo>
                  <a:lnTo>
                    <a:pt x="1614" y="1581"/>
                  </a:lnTo>
                  <a:moveTo>
                    <a:pt x="1203" y="1170"/>
                  </a:moveTo>
                  <a:lnTo>
                    <a:pt x="1186" y="1187"/>
                  </a:lnTo>
                  <a:lnTo>
                    <a:pt x="1581" y="1581"/>
                  </a:lnTo>
                  <a:lnTo>
                    <a:pt x="1597" y="1565"/>
                  </a:lnTo>
                  <a:lnTo>
                    <a:pt x="1203" y="1170"/>
                  </a:lnTo>
                  <a:moveTo>
                    <a:pt x="1113" y="1080"/>
                  </a:moveTo>
                  <a:lnTo>
                    <a:pt x="1096" y="1097"/>
                  </a:lnTo>
                  <a:lnTo>
                    <a:pt x="1170" y="1170"/>
                  </a:lnTo>
                  <a:lnTo>
                    <a:pt x="1186" y="1154"/>
                  </a:lnTo>
                  <a:lnTo>
                    <a:pt x="1113" y="1080"/>
                  </a:lnTo>
                  <a:moveTo>
                    <a:pt x="1004" y="972"/>
                  </a:moveTo>
                  <a:lnTo>
                    <a:pt x="988" y="988"/>
                  </a:lnTo>
                  <a:lnTo>
                    <a:pt x="1063" y="1064"/>
                  </a:lnTo>
                  <a:lnTo>
                    <a:pt x="1080" y="1047"/>
                  </a:lnTo>
                  <a:lnTo>
                    <a:pt x="1004" y="972"/>
                  </a:lnTo>
                  <a:moveTo>
                    <a:pt x="593" y="560"/>
                  </a:moveTo>
                  <a:lnTo>
                    <a:pt x="576" y="577"/>
                  </a:lnTo>
                  <a:lnTo>
                    <a:pt x="971" y="972"/>
                  </a:lnTo>
                  <a:lnTo>
                    <a:pt x="988" y="955"/>
                  </a:lnTo>
                  <a:lnTo>
                    <a:pt x="593" y="560"/>
                  </a:lnTo>
                  <a:moveTo>
                    <a:pt x="503" y="471"/>
                  </a:moveTo>
                  <a:lnTo>
                    <a:pt x="487" y="487"/>
                  </a:lnTo>
                  <a:lnTo>
                    <a:pt x="560" y="560"/>
                  </a:lnTo>
                  <a:lnTo>
                    <a:pt x="576" y="544"/>
                  </a:lnTo>
                  <a:lnTo>
                    <a:pt x="503" y="471"/>
                  </a:lnTo>
                  <a:moveTo>
                    <a:pt x="397" y="362"/>
                  </a:moveTo>
                  <a:lnTo>
                    <a:pt x="380" y="381"/>
                  </a:lnTo>
                  <a:lnTo>
                    <a:pt x="453" y="454"/>
                  </a:lnTo>
                  <a:lnTo>
                    <a:pt x="470" y="437"/>
                  </a:lnTo>
                  <a:lnTo>
                    <a:pt x="397" y="362"/>
                  </a:lnTo>
                  <a:moveTo>
                    <a:pt x="33" y="0"/>
                  </a:moveTo>
                  <a:lnTo>
                    <a:pt x="0" y="0"/>
                  </a:lnTo>
                  <a:lnTo>
                    <a:pt x="364" y="362"/>
                  </a:lnTo>
                  <a:lnTo>
                    <a:pt x="380" y="345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7"/>
            <p:cNvSpPr/>
            <p:nvPr/>
          </p:nvSpPr>
          <p:spPr>
            <a:xfrm rot="5400000">
              <a:off x="7081560" y="6390000"/>
              <a:ext cx="405000" cy="53100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31000"/>
                <a:gd name="textAreaBottom" fmla="*/ 531000 h 531000"/>
              </a:gdLst>
              <a:ahLst/>
              <a:rect l="textAreaLeft" t="textAreaTop" r="textAreaRight" b="textAreaBottom"/>
              <a:pathLst>
                <a:path w="326" h="343">
                  <a:moveTo>
                    <a:pt x="16" y="0"/>
                  </a:moveTo>
                  <a:lnTo>
                    <a:pt x="0" y="17"/>
                  </a:lnTo>
                  <a:lnTo>
                    <a:pt x="326" y="343"/>
                  </a:lnTo>
                  <a:lnTo>
                    <a:pt x="326" y="31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8"/>
            <p:cNvSpPr/>
            <p:nvPr/>
          </p:nvSpPr>
          <p:spPr>
            <a:xfrm rot="5400000">
              <a:off x="7081560" y="6390000"/>
              <a:ext cx="405000" cy="53100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31000"/>
                <a:gd name="textAreaBottom" fmla="*/ 531000 h 531000"/>
              </a:gdLst>
              <a:ahLst/>
              <a:rect l="textAreaLeft" t="textAreaTop" r="textAreaRight" b="textAreaBottom"/>
              <a:pathLst>
                <a:path w="326" h="343">
                  <a:moveTo>
                    <a:pt x="16" y="0"/>
                  </a:moveTo>
                  <a:lnTo>
                    <a:pt x="0" y="17"/>
                  </a:lnTo>
                  <a:lnTo>
                    <a:pt x="326" y="343"/>
                  </a:lnTo>
                  <a:lnTo>
                    <a:pt x="326" y="31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9"/>
            <p:cNvSpPr/>
            <p:nvPr/>
          </p:nvSpPr>
          <p:spPr>
            <a:xfrm rot="5400000">
              <a:off x="11444760" y="326448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4" y="50"/>
                  </a:lnTo>
                  <a:lnTo>
                    <a:pt x="5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0"/>
            <p:cNvSpPr/>
            <p:nvPr/>
          </p:nvSpPr>
          <p:spPr>
            <a:xfrm rot="5400000">
              <a:off x="11444760" y="326448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4" y="50"/>
                  </a:lnTo>
                  <a:lnTo>
                    <a:pt x="50" y="34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1"/>
            <p:cNvSpPr/>
            <p:nvPr/>
          </p:nvSpPr>
          <p:spPr>
            <a:xfrm rot="5400000">
              <a:off x="10499760" y="402300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2"/>
            <p:cNvSpPr/>
            <p:nvPr/>
          </p:nvSpPr>
          <p:spPr>
            <a:xfrm rot="5400000">
              <a:off x="10499760" y="402300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3"/>
            <p:cNvSpPr/>
            <p:nvPr/>
          </p:nvSpPr>
          <p:spPr>
            <a:xfrm rot="5400000">
              <a:off x="9557280" y="4777200"/>
              <a:ext cx="60840" cy="80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9" h="52">
                  <a:moveTo>
                    <a:pt x="16" y="0"/>
                  </a:moveTo>
                  <a:lnTo>
                    <a:pt x="0" y="16"/>
                  </a:lnTo>
                  <a:lnTo>
                    <a:pt x="33" y="52"/>
                  </a:lnTo>
                  <a:lnTo>
                    <a:pt x="49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4"/>
            <p:cNvSpPr/>
            <p:nvPr/>
          </p:nvSpPr>
          <p:spPr>
            <a:xfrm rot="5400000">
              <a:off x="9557280" y="4777200"/>
              <a:ext cx="60840" cy="80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9" h="52">
                  <a:moveTo>
                    <a:pt x="16" y="0"/>
                  </a:moveTo>
                  <a:lnTo>
                    <a:pt x="0" y="16"/>
                  </a:lnTo>
                  <a:lnTo>
                    <a:pt x="33" y="52"/>
                  </a:lnTo>
                  <a:lnTo>
                    <a:pt x="49" y="35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5"/>
            <p:cNvSpPr/>
            <p:nvPr/>
          </p:nvSpPr>
          <p:spPr>
            <a:xfrm rot="5400000">
              <a:off x="8615160" y="553608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6"/>
            <p:cNvSpPr/>
            <p:nvPr/>
          </p:nvSpPr>
          <p:spPr>
            <a:xfrm rot="5400000">
              <a:off x="8615160" y="553608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4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7"/>
            <p:cNvSpPr/>
            <p:nvPr/>
          </p:nvSpPr>
          <p:spPr>
            <a:xfrm rot="5400000">
              <a:off x="7670880" y="629172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8"/>
            <p:cNvSpPr/>
            <p:nvPr/>
          </p:nvSpPr>
          <p:spPr>
            <a:xfrm rot="5400000">
              <a:off x="7670880" y="629172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9"/>
            <p:cNvSpPr/>
            <p:nvPr/>
          </p:nvSpPr>
          <p:spPr>
            <a:xfrm rot="5400000">
              <a:off x="11303280" y="34002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0"/>
            <p:cNvSpPr/>
            <p:nvPr/>
          </p:nvSpPr>
          <p:spPr>
            <a:xfrm rot="5400000">
              <a:off x="11303280" y="34002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1"/>
            <p:cNvSpPr/>
            <p:nvPr/>
          </p:nvSpPr>
          <p:spPr>
            <a:xfrm rot="5400000">
              <a:off x="10358280" y="4158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2"/>
            <p:cNvSpPr/>
            <p:nvPr/>
          </p:nvSpPr>
          <p:spPr>
            <a:xfrm rot="5400000">
              <a:off x="10358280" y="4158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3"/>
            <p:cNvSpPr/>
            <p:nvPr/>
          </p:nvSpPr>
          <p:spPr>
            <a:xfrm rot="5400000">
              <a:off x="9415440" y="49136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4"/>
            <p:cNvSpPr/>
            <p:nvPr/>
          </p:nvSpPr>
          <p:spPr>
            <a:xfrm rot="5400000">
              <a:off x="9415440" y="49136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5"/>
            <p:cNvSpPr/>
            <p:nvPr/>
          </p:nvSpPr>
          <p:spPr>
            <a:xfrm rot="5400000">
              <a:off x="8470440" y="5671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6"/>
            <p:cNvSpPr/>
            <p:nvPr/>
          </p:nvSpPr>
          <p:spPr>
            <a:xfrm rot="5400000">
              <a:off x="8470440" y="5671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7"/>
            <p:cNvSpPr/>
            <p:nvPr/>
          </p:nvSpPr>
          <p:spPr>
            <a:xfrm rot="5400000">
              <a:off x="7528680" y="6426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8"/>
            <p:cNvSpPr/>
            <p:nvPr/>
          </p:nvSpPr>
          <p:spPr>
            <a:xfrm rot="5400000">
              <a:off x="7528680" y="6426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9"/>
            <p:cNvSpPr/>
            <p:nvPr/>
          </p:nvSpPr>
          <p:spPr>
            <a:xfrm rot="5400000">
              <a:off x="11608920" y="3153960"/>
              <a:ext cx="40680" cy="55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6">
                  <a:moveTo>
                    <a:pt x="16" y="0"/>
                  </a:moveTo>
                  <a:lnTo>
                    <a:pt x="0" y="17"/>
                  </a:lnTo>
                  <a:lnTo>
                    <a:pt x="16" y="36"/>
                  </a:lnTo>
                  <a:lnTo>
                    <a:pt x="33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0"/>
            <p:cNvSpPr/>
            <p:nvPr/>
          </p:nvSpPr>
          <p:spPr>
            <a:xfrm rot="5400000">
              <a:off x="11608920" y="3153960"/>
              <a:ext cx="40680" cy="55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6">
                  <a:moveTo>
                    <a:pt x="16" y="0"/>
                  </a:moveTo>
                  <a:lnTo>
                    <a:pt x="0" y="17"/>
                  </a:lnTo>
                  <a:lnTo>
                    <a:pt x="16" y="36"/>
                  </a:lnTo>
                  <a:lnTo>
                    <a:pt x="33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1"/>
            <p:cNvSpPr/>
            <p:nvPr/>
          </p:nvSpPr>
          <p:spPr>
            <a:xfrm rot="5400000">
              <a:off x="10666440" y="39114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2"/>
            <p:cNvSpPr/>
            <p:nvPr/>
          </p:nvSpPr>
          <p:spPr>
            <a:xfrm rot="5400000">
              <a:off x="10666440" y="39114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3"/>
            <p:cNvSpPr/>
            <p:nvPr/>
          </p:nvSpPr>
          <p:spPr>
            <a:xfrm rot="5400000">
              <a:off x="9721440" y="46699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4"/>
            <p:cNvSpPr/>
            <p:nvPr/>
          </p:nvSpPr>
          <p:spPr>
            <a:xfrm rot="5400000">
              <a:off x="9721440" y="46699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5"/>
            <p:cNvSpPr/>
            <p:nvPr/>
          </p:nvSpPr>
          <p:spPr>
            <a:xfrm rot="5400000">
              <a:off x="8777160" y="54244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6"/>
            <p:cNvSpPr/>
            <p:nvPr/>
          </p:nvSpPr>
          <p:spPr>
            <a:xfrm rot="5400000">
              <a:off x="8777160" y="54244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7"/>
            <p:cNvSpPr/>
            <p:nvPr/>
          </p:nvSpPr>
          <p:spPr>
            <a:xfrm rot="5400000">
              <a:off x="7835040" y="618120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35">
                  <a:moveTo>
                    <a:pt x="16" y="0"/>
                  </a:moveTo>
                  <a:lnTo>
                    <a:pt x="0" y="19"/>
                  </a:lnTo>
                  <a:lnTo>
                    <a:pt x="16" y="35"/>
                  </a:lnTo>
                  <a:lnTo>
                    <a:pt x="33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8"/>
            <p:cNvSpPr/>
            <p:nvPr/>
          </p:nvSpPr>
          <p:spPr>
            <a:xfrm rot="5400000">
              <a:off x="7835040" y="618120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35">
                  <a:moveTo>
                    <a:pt x="16" y="0"/>
                  </a:moveTo>
                  <a:lnTo>
                    <a:pt x="0" y="19"/>
                  </a:lnTo>
                  <a:lnTo>
                    <a:pt x="16" y="35"/>
                  </a:lnTo>
                  <a:lnTo>
                    <a:pt x="33" y="19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9"/>
            <p:cNvSpPr/>
            <p:nvPr/>
          </p:nvSpPr>
          <p:spPr>
            <a:xfrm rot="5400000">
              <a:off x="6297120" y="558000"/>
              <a:ext cx="5256720" cy="6532200"/>
            </a:xfrm>
            <a:custGeom>
              <a:avLst/>
              <a:gdLst>
                <a:gd name="textAreaLeft" fmla="*/ 0 w 5256720"/>
                <a:gd name="textAreaRight" fmla="*/ 5257080 w 5256720"/>
                <a:gd name="textAreaTop" fmla="*/ 0 h 6532200"/>
                <a:gd name="textAreaBottom" fmla="*/ 6532560 h 6532200"/>
              </a:gdLst>
              <a:ahLst/>
              <a:rect l="textAreaLeft" t="textAreaTop" r="textAreaRight" b="textAreaBottom"/>
              <a:pathLst>
                <a:path w="4228" h="4217">
                  <a:moveTo>
                    <a:pt x="4154" y="4125"/>
                  </a:moveTo>
                  <a:lnTo>
                    <a:pt x="4138" y="4141"/>
                  </a:lnTo>
                  <a:lnTo>
                    <a:pt x="4211" y="4217"/>
                  </a:lnTo>
                  <a:lnTo>
                    <a:pt x="4228" y="4200"/>
                  </a:lnTo>
                  <a:lnTo>
                    <a:pt x="4154" y="4125"/>
                  </a:lnTo>
                  <a:close/>
                  <a:moveTo>
                    <a:pt x="4046" y="4018"/>
                  </a:moveTo>
                  <a:lnTo>
                    <a:pt x="4029" y="4035"/>
                  </a:lnTo>
                  <a:lnTo>
                    <a:pt x="4105" y="4108"/>
                  </a:lnTo>
                  <a:lnTo>
                    <a:pt x="4121" y="4091"/>
                  </a:lnTo>
                  <a:lnTo>
                    <a:pt x="4046" y="4018"/>
                  </a:lnTo>
                  <a:close/>
                  <a:moveTo>
                    <a:pt x="3637" y="3607"/>
                  </a:moveTo>
                  <a:lnTo>
                    <a:pt x="3620" y="3623"/>
                  </a:lnTo>
                  <a:lnTo>
                    <a:pt x="4013" y="4018"/>
                  </a:lnTo>
                  <a:lnTo>
                    <a:pt x="4029" y="4002"/>
                  </a:lnTo>
                  <a:lnTo>
                    <a:pt x="3637" y="3607"/>
                  </a:lnTo>
                  <a:close/>
                  <a:moveTo>
                    <a:pt x="3545" y="3517"/>
                  </a:moveTo>
                  <a:lnTo>
                    <a:pt x="3528" y="3534"/>
                  </a:lnTo>
                  <a:lnTo>
                    <a:pt x="3604" y="3607"/>
                  </a:lnTo>
                  <a:lnTo>
                    <a:pt x="3620" y="3590"/>
                  </a:lnTo>
                  <a:lnTo>
                    <a:pt x="3545" y="3517"/>
                  </a:lnTo>
                  <a:close/>
                  <a:moveTo>
                    <a:pt x="3438" y="3408"/>
                  </a:moveTo>
                  <a:lnTo>
                    <a:pt x="3422" y="3425"/>
                  </a:lnTo>
                  <a:lnTo>
                    <a:pt x="3495" y="3501"/>
                  </a:lnTo>
                  <a:lnTo>
                    <a:pt x="3511" y="3482"/>
                  </a:lnTo>
                  <a:lnTo>
                    <a:pt x="3438" y="3408"/>
                  </a:lnTo>
                  <a:close/>
                  <a:moveTo>
                    <a:pt x="3027" y="2997"/>
                  </a:moveTo>
                  <a:lnTo>
                    <a:pt x="3010" y="3014"/>
                  </a:lnTo>
                  <a:lnTo>
                    <a:pt x="3405" y="3408"/>
                  </a:lnTo>
                  <a:lnTo>
                    <a:pt x="3422" y="3392"/>
                  </a:lnTo>
                  <a:lnTo>
                    <a:pt x="3027" y="2997"/>
                  </a:lnTo>
                  <a:close/>
                  <a:moveTo>
                    <a:pt x="2937" y="2907"/>
                  </a:moveTo>
                  <a:lnTo>
                    <a:pt x="2921" y="2924"/>
                  </a:lnTo>
                  <a:lnTo>
                    <a:pt x="2994" y="2997"/>
                  </a:lnTo>
                  <a:lnTo>
                    <a:pt x="3010" y="2981"/>
                  </a:lnTo>
                  <a:lnTo>
                    <a:pt x="2937" y="2907"/>
                  </a:lnTo>
                  <a:close/>
                  <a:moveTo>
                    <a:pt x="2828" y="2799"/>
                  </a:moveTo>
                  <a:lnTo>
                    <a:pt x="2812" y="2815"/>
                  </a:lnTo>
                  <a:lnTo>
                    <a:pt x="2888" y="2891"/>
                  </a:lnTo>
                  <a:lnTo>
                    <a:pt x="2904" y="2874"/>
                  </a:lnTo>
                  <a:lnTo>
                    <a:pt x="2828" y="2799"/>
                  </a:lnTo>
                  <a:close/>
                  <a:moveTo>
                    <a:pt x="2420" y="2387"/>
                  </a:moveTo>
                  <a:lnTo>
                    <a:pt x="2403" y="2404"/>
                  </a:lnTo>
                  <a:lnTo>
                    <a:pt x="2795" y="2799"/>
                  </a:lnTo>
                  <a:lnTo>
                    <a:pt x="2812" y="2782"/>
                  </a:lnTo>
                  <a:lnTo>
                    <a:pt x="2420" y="2387"/>
                  </a:lnTo>
                  <a:close/>
                  <a:moveTo>
                    <a:pt x="2327" y="2298"/>
                  </a:moveTo>
                  <a:lnTo>
                    <a:pt x="2311" y="2314"/>
                  </a:lnTo>
                  <a:lnTo>
                    <a:pt x="2387" y="2387"/>
                  </a:lnTo>
                  <a:lnTo>
                    <a:pt x="2403" y="2371"/>
                  </a:lnTo>
                  <a:lnTo>
                    <a:pt x="2327" y="2298"/>
                  </a:lnTo>
                  <a:close/>
                  <a:moveTo>
                    <a:pt x="2221" y="2189"/>
                  </a:moveTo>
                  <a:lnTo>
                    <a:pt x="2205" y="2208"/>
                  </a:lnTo>
                  <a:lnTo>
                    <a:pt x="2278" y="2281"/>
                  </a:lnTo>
                  <a:lnTo>
                    <a:pt x="2294" y="2264"/>
                  </a:lnTo>
                  <a:lnTo>
                    <a:pt x="2221" y="2189"/>
                  </a:lnTo>
                  <a:close/>
                  <a:moveTo>
                    <a:pt x="1810" y="1780"/>
                  </a:moveTo>
                  <a:lnTo>
                    <a:pt x="1793" y="1796"/>
                  </a:lnTo>
                  <a:lnTo>
                    <a:pt x="2188" y="2189"/>
                  </a:lnTo>
                  <a:lnTo>
                    <a:pt x="2205" y="2172"/>
                  </a:lnTo>
                  <a:lnTo>
                    <a:pt x="1810" y="1780"/>
                  </a:lnTo>
                  <a:close/>
                  <a:moveTo>
                    <a:pt x="1720" y="1688"/>
                  </a:moveTo>
                  <a:lnTo>
                    <a:pt x="1704" y="1704"/>
                  </a:lnTo>
                  <a:lnTo>
                    <a:pt x="1777" y="1780"/>
                  </a:lnTo>
                  <a:lnTo>
                    <a:pt x="1793" y="1761"/>
                  </a:lnTo>
                  <a:lnTo>
                    <a:pt x="1720" y="1688"/>
                  </a:lnTo>
                  <a:close/>
                  <a:moveTo>
                    <a:pt x="1611" y="1581"/>
                  </a:moveTo>
                  <a:lnTo>
                    <a:pt x="1595" y="1598"/>
                  </a:lnTo>
                  <a:lnTo>
                    <a:pt x="1670" y="1671"/>
                  </a:lnTo>
                  <a:lnTo>
                    <a:pt x="1687" y="1655"/>
                  </a:lnTo>
                  <a:lnTo>
                    <a:pt x="1611" y="1581"/>
                  </a:lnTo>
                  <a:close/>
                  <a:moveTo>
                    <a:pt x="1202" y="1170"/>
                  </a:moveTo>
                  <a:lnTo>
                    <a:pt x="1186" y="1187"/>
                  </a:lnTo>
                  <a:lnTo>
                    <a:pt x="1578" y="1581"/>
                  </a:lnTo>
                  <a:lnTo>
                    <a:pt x="1595" y="1565"/>
                  </a:lnTo>
                  <a:lnTo>
                    <a:pt x="1202" y="1170"/>
                  </a:lnTo>
                  <a:close/>
                  <a:moveTo>
                    <a:pt x="1110" y="1080"/>
                  </a:moveTo>
                  <a:lnTo>
                    <a:pt x="1094" y="1097"/>
                  </a:lnTo>
                  <a:lnTo>
                    <a:pt x="1169" y="1170"/>
                  </a:lnTo>
                  <a:lnTo>
                    <a:pt x="1186" y="1154"/>
                  </a:lnTo>
                  <a:lnTo>
                    <a:pt x="1110" y="1080"/>
                  </a:lnTo>
                  <a:close/>
                  <a:moveTo>
                    <a:pt x="1004" y="972"/>
                  </a:moveTo>
                  <a:lnTo>
                    <a:pt x="987" y="988"/>
                  </a:lnTo>
                  <a:lnTo>
                    <a:pt x="1061" y="1061"/>
                  </a:lnTo>
                  <a:lnTo>
                    <a:pt x="1077" y="1045"/>
                  </a:lnTo>
                  <a:lnTo>
                    <a:pt x="1004" y="972"/>
                  </a:lnTo>
                  <a:close/>
                  <a:moveTo>
                    <a:pt x="593" y="560"/>
                  </a:moveTo>
                  <a:lnTo>
                    <a:pt x="576" y="577"/>
                  </a:lnTo>
                  <a:lnTo>
                    <a:pt x="971" y="972"/>
                  </a:lnTo>
                  <a:lnTo>
                    <a:pt x="987" y="955"/>
                  </a:lnTo>
                  <a:lnTo>
                    <a:pt x="593" y="560"/>
                  </a:lnTo>
                  <a:close/>
                  <a:moveTo>
                    <a:pt x="503" y="471"/>
                  </a:moveTo>
                  <a:lnTo>
                    <a:pt x="486" y="487"/>
                  </a:lnTo>
                  <a:lnTo>
                    <a:pt x="560" y="560"/>
                  </a:lnTo>
                  <a:lnTo>
                    <a:pt x="576" y="544"/>
                  </a:lnTo>
                  <a:lnTo>
                    <a:pt x="503" y="471"/>
                  </a:lnTo>
                  <a:close/>
                  <a:moveTo>
                    <a:pt x="394" y="362"/>
                  </a:moveTo>
                  <a:lnTo>
                    <a:pt x="378" y="378"/>
                  </a:lnTo>
                  <a:lnTo>
                    <a:pt x="453" y="454"/>
                  </a:lnTo>
                  <a:lnTo>
                    <a:pt x="470" y="437"/>
                  </a:lnTo>
                  <a:lnTo>
                    <a:pt x="394" y="362"/>
                  </a:lnTo>
                  <a:close/>
                  <a:moveTo>
                    <a:pt x="33" y="0"/>
                  </a:moveTo>
                  <a:lnTo>
                    <a:pt x="0" y="0"/>
                  </a:lnTo>
                  <a:lnTo>
                    <a:pt x="361" y="362"/>
                  </a:lnTo>
                  <a:lnTo>
                    <a:pt x="378" y="3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0"/>
            <p:cNvSpPr/>
            <p:nvPr/>
          </p:nvSpPr>
          <p:spPr>
            <a:xfrm rot="5400000">
              <a:off x="6297120" y="558000"/>
              <a:ext cx="5256720" cy="6532200"/>
            </a:xfrm>
            <a:custGeom>
              <a:avLst/>
              <a:gdLst>
                <a:gd name="textAreaLeft" fmla="*/ 0 w 5256720"/>
                <a:gd name="textAreaRight" fmla="*/ 5257080 w 5256720"/>
                <a:gd name="textAreaTop" fmla="*/ 0 h 6532200"/>
                <a:gd name="textAreaBottom" fmla="*/ 6532560 h 6532200"/>
              </a:gdLst>
              <a:ahLst/>
              <a:rect l="textAreaLeft" t="textAreaTop" r="textAreaRight" b="textAreaBottom"/>
              <a:pathLst>
                <a:path w="4228" h="4217">
                  <a:moveTo>
                    <a:pt x="4154" y="4125"/>
                  </a:moveTo>
                  <a:lnTo>
                    <a:pt x="4138" y="4141"/>
                  </a:lnTo>
                  <a:lnTo>
                    <a:pt x="4211" y="4217"/>
                  </a:lnTo>
                  <a:lnTo>
                    <a:pt x="4228" y="4200"/>
                  </a:lnTo>
                  <a:lnTo>
                    <a:pt x="4154" y="4125"/>
                  </a:lnTo>
                  <a:moveTo>
                    <a:pt x="4046" y="4018"/>
                  </a:moveTo>
                  <a:lnTo>
                    <a:pt x="4029" y="4035"/>
                  </a:lnTo>
                  <a:lnTo>
                    <a:pt x="4105" y="4108"/>
                  </a:lnTo>
                  <a:lnTo>
                    <a:pt x="4121" y="4091"/>
                  </a:lnTo>
                  <a:lnTo>
                    <a:pt x="4046" y="4018"/>
                  </a:lnTo>
                  <a:moveTo>
                    <a:pt x="3637" y="3607"/>
                  </a:moveTo>
                  <a:lnTo>
                    <a:pt x="3620" y="3623"/>
                  </a:lnTo>
                  <a:lnTo>
                    <a:pt x="4013" y="4018"/>
                  </a:lnTo>
                  <a:lnTo>
                    <a:pt x="4029" y="4002"/>
                  </a:lnTo>
                  <a:lnTo>
                    <a:pt x="3637" y="3607"/>
                  </a:lnTo>
                  <a:moveTo>
                    <a:pt x="3545" y="3517"/>
                  </a:moveTo>
                  <a:lnTo>
                    <a:pt x="3528" y="3534"/>
                  </a:lnTo>
                  <a:lnTo>
                    <a:pt x="3604" y="3607"/>
                  </a:lnTo>
                  <a:lnTo>
                    <a:pt x="3620" y="3590"/>
                  </a:lnTo>
                  <a:lnTo>
                    <a:pt x="3545" y="3517"/>
                  </a:lnTo>
                  <a:moveTo>
                    <a:pt x="3438" y="3408"/>
                  </a:moveTo>
                  <a:lnTo>
                    <a:pt x="3422" y="3425"/>
                  </a:lnTo>
                  <a:lnTo>
                    <a:pt x="3495" y="3501"/>
                  </a:lnTo>
                  <a:lnTo>
                    <a:pt x="3511" y="3482"/>
                  </a:lnTo>
                  <a:lnTo>
                    <a:pt x="3438" y="3408"/>
                  </a:lnTo>
                  <a:moveTo>
                    <a:pt x="3027" y="2997"/>
                  </a:moveTo>
                  <a:lnTo>
                    <a:pt x="3010" y="3014"/>
                  </a:lnTo>
                  <a:lnTo>
                    <a:pt x="3405" y="3408"/>
                  </a:lnTo>
                  <a:lnTo>
                    <a:pt x="3422" y="3392"/>
                  </a:lnTo>
                  <a:lnTo>
                    <a:pt x="3027" y="2997"/>
                  </a:lnTo>
                  <a:moveTo>
                    <a:pt x="2937" y="2907"/>
                  </a:moveTo>
                  <a:lnTo>
                    <a:pt x="2921" y="2924"/>
                  </a:lnTo>
                  <a:lnTo>
                    <a:pt x="2994" y="2997"/>
                  </a:lnTo>
                  <a:lnTo>
                    <a:pt x="3010" y="2981"/>
                  </a:lnTo>
                  <a:lnTo>
                    <a:pt x="2937" y="2907"/>
                  </a:lnTo>
                  <a:moveTo>
                    <a:pt x="2828" y="2799"/>
                  </a:moveTo>
                  <a:lnTo>
                    <a:pt x="2812" y="2815"/>
                  </a:lnTo>
                  <a:lnTo>
                    <a:pt x="2888" y="2891"/>
                  </a:lnTo>
                  <a:lnTo>
                    <a:pt x="2904" y="2874"/>
                  </a:lnTo>
                  <a:lnTo>
                    <a:pt x="2828" y="2799"/>
                  </a:lnTo>
                  <a:moveTo>
                    <a:pt x="2420" y="2387"/>
                  </a:moveTo>
                  <a:lnTo>
                    <a:pt x="2403" y="2404"/>
                  </a:lnTo>
                  <a:lnTo>
                    <a:pt x="2795" y="2799"/>
                  </a:lnTo>
                  <a:lnTo>
                    <a:pt x="2812" y="2782"/>
                  </a:lnTo>
                  <a:lnTo>
                    <a:pt x="2420" y="2387"/>
                  </a:lnTo>
                  <a:moveTo>
                    <a:pt x="2327" y="2298"/>
                  </a:moveTo>
                  <a:lnTo>
                    <a:pt x="2311" y="2314"/>
                  </a:lnTo>
                  <a:lnTo>
                    <a:pt x="2387" y="2387"/>
                  </a:lnTo>
                  <a:lnTo>
                    <a:pt x="2403" y="2371"/>
                  </a:lnTo>
                  <a:lnTo>
                    <a:pt x="2327" y="2298"/>
                  </a:lnTo>
                  <a:moveTo>
                    <a:pt x="2221" y="2189"/>
                  </a:moveTo>
                  <a:lnTo>
                    <a:pt x="2205" y="2208"/>
                  </a:lnTo>
                  <a:lnTo>
                    <a:pt x="2278" y="2281"/>
                  </a:lnTo>
                  <a:lnTo>
                    <a:pt x="2294" y="2264"/>
                  </a:lnTo>
                  <a:lnTo>
                    <a:pt x="2221" y="2189"/>
                  </a:lnTo>
                  <a:moveTo>
                    <a:pt x="1810" y="1780"/>
                  </a:moveTo>
                  <a:lnTo>
                    <a:pt x="1793" y="1796"/>
                  </a:lnTo>
                  <a:lnTo>
                    <a:pt x="2188" y="2189"/>
                  </a:lnTo>
                  <a:lnTo>
                    <a:pt x="2205" y="2172"/>
                  </a:lnTo>
                  <a:lnTo>
                    <a:pt x="1810" y="1780"/>
                  </a:lnTo>
                  <a:moveTo>
                    <a:pt x="1720" y="1688"/>
                  </a:moveTo>
                  <a:lnTo>
                    <a:pt x="1704" y="1704"/>
                  </a:lnTo>
                  <a:lnTo>
                    <a:pt x="1777" y="1780"/>
                  </a:lnTo>
                  <a:lnTo>
                    <a:pt x="1793" y="1761"/>
                  </a:lnTo>
                  <a:lnTo>
                    <a:pt x="1720" y="1688"/>
                  </a:lnTo>
                  <a:moveTo>
                    <a:pt x="1611" y="1581"/>
                  </a:moveTo>
                  <a:lnTo>
                    <a:pt x="1595" y="1598"/>
                  </a:lnTo>
                  <a:lnTo>
                    <a:pt x="1670" y="1671"/>
                  </a:lnTo>
                  <a:lnTo>
                    <a:pt x="1687" y="1655"/>
                  </a:lnTo>
                  <a:lnTo>
                    <a:pt x="1611" y="1581"/>
                  </a:lnTo>
                  <a:moveTo>
                    <a:pt x="1202" y="1170"/>
                  </a:moveTo>
                  <a:lnTo>
                    <a:pt x="1186" y="1187"/>
                  </a:lnTo>
                  <a:lnTo>
                    <a:pt x="1578" y="1581"/>
                  </a:lnTo>
                  <a:lnTo>
                    <a:pt x="1595" y="1565"/>
                  </a:lnTo>
                  <a:lnTo>
                    <a:pt x="1202" y="1170"/>
                  </a:lnTo>
                  <a:moveTo>
                    <a:pt x="1110" y="1080"/>
                  </a:moveTo>
                  <a:lnTo>
                    <a:pt x="1094" y="1097"/>
                  </a:lnTo>
                  <a:lnTo>
                    <a:pt x="1169" y="1170"/>
                  </a:lnTo>
                  <a:lnTo>
                    <a:pt x="1186" y="1154"/>
                  </a:lnTo>
                  <a:lnTo>
                    <a:pt x="1110" y="1080"/>
                  </a:lnTo>
                  <a:moveTo>
                    <a:pt x="1004" y="972"/>
                  </a:moveTo>
                  <a:lnTo>
                    <a:pt x="987" y="988"/>
                  </a:lnTo>
                  <a:lnTo>
                    <a:pt x="1061" y="1061"/>
                  </a:lnTo>
                  <a:lnTo>
                    <a:pt x="1077" y="1045"/>
                  </a:lnTo>
                  <a:lnTo>
                    <a:pt x="1004" y="972"/>
                  </a:lnTo>
                  <a:moveTo>
                    <a:pt x="593" y="560"/>
                  </a:moveTo>
                  <a:lnTo>
                    <a:pt x="576" y="577"/>
                  </a:lnTo>
                  <a:lnTo>
                    <a:pt x="971" y="972"/>
                  </a:lnTo>
                  <a:lnTo>
                    <a:pt x="987" y="955"/>
                  </a:lnTo>
                  <a:lnTo>
                    <a:pt x="593" y="560"/>
                  </a:lnTo>
                  <a:moveTo>
                    <a:pt x="503" y="471"/>
                  </a:moveTo>
                  <a:lnTo>
                    <a:pt x="486" y="487"/>
                  </a:lnTo>
                  <a:lnTo>
                    <a:pt x="560" y="560"/>
                  </a:lnTo>
                  <a:lnTo>
                    <a:pt x="576" y="544"/>
                  </a:lnTo>
                  <a:lnTo>
                    <a:pt x="503" y="471"/>
                  </a:lnTo>
                  <a:moveTo>
                    <a:pt x="394" y="362"/>
                  </a:moveTo>
                  <a:lnTo>
                    <a:pt x="378" y="378"/>
                  </a:lnTo>
                  <a:lnTo>
                    <a:pt x="453" y="454"/>
                  </a:lnTo>
                  <a:lnTo>
                    <a:pt x="470" y="437"/>
                  </a:lnTo>
                  <a:lnTo>
                    <a:pt x="394" y="362"/>
                  </a:lnTo>
                  <a:moveTo>
                    <a:pt x="33" y="0"/>
                  </a:moveTo>
                  <a:lnTo>
                    <a:pt x="0" y="0"/>
                  </a:lnTo>
                  <a:lnTo>
                    <a:pt x="361" y="362"/>
                  </a:lnTo>
                  <a:lnTo>
                    <a:pt x="378" y="345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1"/>
            <p:cNvSpPr/>
            <p:nvPr/>
          </p:nvSpPr>
          <p:spPr>
            <a:xfrm rot="5400000">
              <a:off x="5192280" y="6390720"/>
              <a:ext cx="405000" cy="529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326" h="342">
                  <a:moveTo>
                    <a:pt x="16" y="0"/>
                  </a:moveTo>
                  <a:lnTo>
                    <a:pt x="0" y="16"/>
                  </a:lnTo>
                  <a:lnTo>
                    <a:pt x="326" y="342"/>
                  </a:lnTo>
                  <a:lnTo>
                    <a:pt x="326" y="30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2"/>
            <p:cNvSpPr/>
            <p:nvPr/>
          </p:nvSpPr>
          <p:spPr>
            <a:xfrm rot="5400000">
              <a:off x="5192280" y="6390720"/>
              <a:ext cx="405000" cy="529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326" h="342">
                  <a:moveTo>
                    <a:pt x="16" y="0"/>
                  </a:moveTo>
                  <a:lnTo>
                    <a:pt x="0" y="16"/>
                  </a:lnTo>
                  <a:lnTo>
                    <a:pt x="326" y="342"/>
                  </a:lnTo>
                  <a:lnTo>
                    <a:pt x="326" y="309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3"/>
            <p:cNvSpPr/>
            <p:nvPr/>
          </p:nvSpPr>
          <p:spPr>
            <a:xfrm rot="5400000">
              <a:off x="11444760" y="175140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4"/>
            <p:cNvSpPr/>
            <p:nvPr/>
          </p:nvSpPr>
          <p:spPr>
            <a:xfrm rot="5400000">
              <a:off x="11444760" y="175140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7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4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5"/>
            <p:cNvSpPr/>
            <p:nvPr/>
          </p:nvSpPr>
          <p:spPr>
            <a:xfrm rot="5400000">
              <a:off x="10502280" y="2505240"/>
              <a:ext cx="60840" cy="80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9" h="52">
                  <a:moveTo>
                    <a:pt x="16" y="0"/>
                  </a:moveTo>
                  <a:lnTo>
                    <a:pt x="0" y="16"/>
                  </a:lnTo>
                  <a:lnTo>
                    <a:pt x="33" y="52"/>
                  </a:lnTo>
                  <a:lnTo>
                    <a:pt x="49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6"/>
            <p:cNvSpPr/>
            <p:nvPr/>
          </p:nvSpPr>
          <p:spPr>
            <a:xfrm rot="5400000">
              <a:off x="10502280" y="2505240"/>
              <a:ext cx="60840" cy="80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9" h="52">
                  <a:moveTo>
                    <a:pt x="16" y="0"/>
                  </a:moveTo>
                  <a:lnTo>
                    <a:pt x="0" y="16"/>
                  </a:lnTo>
                  <a:lnTo>
                    <a:pt x="33" y="52"/>
                  </a:lnTo>
                  <a:lnTo>
                    <a:pt x="49" y="35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7"/>
            <p:cNvSpPr/>
            <p:nvPr/>
          </p:nvSpPr>
          <p:spPr>
            <a:xfrm rot="5400000">
              <a:off x="9559080" y="3265560"/>
              <a:ext cx="61920" cy="75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50" h="49">
                  <a:moveTo>
                    <a:pt x="17" y="0"/>
                  </a:moveTo>
                  <a:lnTo>
                    <a:pt x="0" y="16"/>
                  </a:lnTo>
                  <a:lnTo>
                    <a:pt x="34" y="49"/>
                  </a:lnTo>
                  <a:lnTo>
                    <a:pt x="50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8"/>
            <p:cNvSpPr/>
            <p:nvPr/>
          </p:nvSpPr>
          <p:spPr>
            <a:xfrm rot="5400000">
              <a:off x="9559080" y="3265560"/>
              <a:ext cx="61920" cy="75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50" h="49">
                  <a:moveTo>
                    <a:pt x="17" y="0"/>
                  </a:moveTo>
                  <a:lnTo>
                    <a:pt x="0" y="16"/>
                  </a:lnTo>
                  <a:lnTo>
                    <a:pt x="34" y="49"/>
                  </a:lnTo>
                  <a:lnTo>
                    <a:pt x="50" y="3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9"/>
            <p:cNvSpPr/>
            <p:nvPr/>
          </p:nvSpPr>
          <p:spPr>
            <a:xfrm rot="5400000">
              <a:off x="8615880" y="402012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0"/>
            <p:cNvSpPr/>
            <p:nvPr/>
          </p:nvSpPr>
          <p:spPr>
            <a:xfrm rot="5400000">
              <a:off x="8615880" y="402012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4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1"/>
            <p:cNvSpPr/>
            <p:nvPr/>
          </p:nvSpPr>
          <p:spPr>
            <a:xfrm rot="5400000">
              <a:off x="7670880" y="477864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2"/>
            <p:cNvSpPr/>
            <p:nvPr/>
          </p:nvSpPr>
          <p:spPr>
            <a:xfrm rot="5400000">
              <a:off x="7670880" y="477864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3"/>
            <p:cNvSpPr/>
            <p:nvPr/>
          </p:nvSpPr>
          <p:spPr>
            <a:xfrm rot="5400000">
              <a:off x="6726960" y="5532120"/>
              <a:ext cx="61920" cy="80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0" h="52">
                  <a:moveTo>
                    <a:pt x="16" y="0"/>
                  </a:moveTo>
                  <a:lnTo>
                    <a:pt x="0" y="19"/>
                  </a:lnTo>
                  <a:lnTo>
                    <a:pt x="33" y="52"/>
                  </a:lnTo>
                  <a:lnTo>
                    <a:pt x="5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4"/>
            <p:cNvSpPr/>
            <p:nvPr/>
          </p:nvSpPr>
          <p:spPr>
            <a:xfrm rot="5400000">
              <a:off x="6726960" y="5532120"/>
              <a:ext cx="61920" cy="80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0" h="52">
                  <a:moveTo>
                    <a:pt x="16" y="0"/>
                  </a:moveTo>
                  <a:lnTo>
                    <a:pt x="0" y="19"/>
                  </a:lnTo>
                  <a:lnTo>
                    <a:pt x="33" y="52"/>
                  </a:lnTo>
                  <a:lnTo>
                    <a:pt x="50" y="35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5"/>
            <p:cNvSpPr/>
            <p:nvPr/>
          </p:nvSpPr>
          <p:spPr>
            <a:xfrm rot="5400000">
              <a:off x="5785560" y="629172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6"/>
            <p:cNvSpPr/>
            <p:nvPr/>
          </p:nvSpPr>
          <p:spPr>
            <a:xfrm rot="5400000">
              <a:off x="5785560" y="629172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4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7"/>
            <p:cNvSpPr/>
            <p:nvPr/>
          </p:nvSpPr>
          <p:spPr>
            <a:xfrm rot="5400000">
              <a:off x="11303280" y="18871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8"/>
            <p:cNvSpPr/>
            <p:nvPr/>
          </p:nvSpPr>
          <p:spPr>
            <a:xfrm rot="5400000">
              <a:off x="11303280" y="18871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9"/>
            <p:cNvSpPr/>
            <p:nvPr/>
          </p:nvSpPr>
          <p:spPr>
            <a:xfrm rot="5400000">
              <a:off x="10358280" y="26442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0"/>
            <p:cNvSpPr/>
            <p:nvPr/>
          </p:nvSpPr>
          <p:spPr>
            <a:xfrm rot="5400000">
              <a:off x="10358280" y="26442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1"/>
            <p:cNvSpPr/>
            <p:nvPr/>
          </p:nvSpPr>
          <p:spPr>
            <a:xfrm rot="5400000">
              <a:off x="9416520" y="339840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35">
                  <a:moveTo>
                    <a:pt x="16" y="0"/>
                  </a:moveTo>
                  <a:lnTo>
                    <a:pt x="0" y="19"/>
                  </a:lnTo>
                  <a:lnTo>
                    <a:pt x="16" y="35"/>
                  </a:lnTo>
                  <a:lnTo>
                    <a:pt x="33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2"/>
            <p:cNvSpPr/>
            <p:nvPr/>
          </p:nvSpPr>
          <p:spPr>
            <a:xfrm rot="5400000">
              <a:off x="9416520" y="339840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35">
                  <a:moveTo>
                    <a:pt x="16" y="0"/>
                  </a:moveTo>
                  <a:lnTo>
                    <a:pt x="0" y="19"/>
                  </a:lnTo>
                  <a:lnTo>
                    <a:pt x="16" y="35"/>
                  </a:lnTo>
                  <a:lnTo>
                    <a:pt x="33" y="19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3"/>
            <p:cNvSpPr/>
            <p:nvPr/>
          </p:nvSpPr>
          <p:spPr>
            <a:xfrm rot="5400000">
              <a:off x="8473320" y="4158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4"/>
            <p:cNvSpPr/>
            <p:nvPr/>
          </p:nvSpPr>
          <p:spPr>
            <a:xfrm rot="5400000">
              <a:off x="8473320" y="4158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5"/>
            <p:cNvSpPr/>
            <p:nvPr/>
          </p:nvSpPr>
          <p:spPr>
            <a:xfrm rot="5400000">
              <a:off x="7528680" y="49136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6"/>
            <p:cNvSpPr/>
            <p:nvPr/>
          </p:nvSpPr>
          <p:spPr>
            <a:xfrm rot="5400000">
              <a:off x="7528680" y="491364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7"/>
            <p:cNvSpPr/>
            <p:nvPr/>
          </p:nvSpPr>
          <p:spPr>
            <a:xfrm rot="5400000">
              <a:off x="6585120" y="5671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8"/>
            <p:cNvSpPr/>
            <p:nvPr/>
          </p:nvSpPr>
          <p:spPr>
            <a:xfrm rot="5400000">
              <a:off x="6585120" y="5671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9"/>
            <p:cNvSpPr/>
            <p:nvPr/>
          </p:nvSpPr>
          <p:spPr>
            <a:xfrm rot="5400000">
              <a:off x="5640120" y="6426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0"/>
            <p:cNvSpPr/>
            <p:nvPr/>
          </p:nvSpPr>
          <p:spPr>
            <a:xfrm rot="5400000">
              <a:off x="5640120" y="64267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71"/>
            <p:cNvSpPr/>
            <p:nvPr/>
          </p:nvSpPr>
          <p:spPr>
            <a:xfrm rot="5400000">
              <a:off x="11611440" y="1639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2"/>
            <p:cNvSpPr/>
            <p:nvPr/>
          </p:nvSpPr>
          <p:spPr>
            <a:xfrm rot="5400000">
              <a:off x="11611440" y="163980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3"/>
            <p:cNvSpPr/>
            <p:nvPr/>
          </p:nvSpPr>
          <p:spPr>
            <a:xfrm rot="5400000">
              <a:off x="10666440" y="23983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4"/>
            <p:cNvSpPr/>
            <p:nvPr/>
          </p:nvSpPr>
          <p:spPr>
            <a:xfrm rot="5400000">
              <a:off x="10666440" y="239832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  <a:lnTo>
                    <a:pt x="33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5"/>
            <p:cNvSpPr/>
            <p:nvPr/>
          </p:nvSpPr>
          <p:spPr>
            <a:xfrm rot="5400000">
              <a:off x="9721440" y="31528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6"/>
            <p:cNvSpPr/>
            <p:nvPr/>
          </p:nvSpPr>
          <p:spPr>
            <a:xfrm rot="5400000">
              <a:off x="9721440" y="31528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7"/>
            <p:cNvSpPr/>
            <p:nvPr/>
          </p:nvSpPr>
          <p:spPr>
            <a:xfrm rot="5400000">
              <a:off x="8779320" y="3908880"/>
              <a:ext cx="40680" cy="55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6">
                  <a:moveTo>
                    <a:pt x="17" y="0"/>
                  </a:moveTo>
                  <a:lnTo>
                    <a:pt x="0" y="17"/>
                  </a:lnTo>
                  <a:lnTo>
                    <a:pt x="17" y="36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8"/>
            <p:cNvSpPr/>
            <p:nvPr/>
          </p:nvSpPr>
          <p:spPr>
            <a:xfrm rot="5400000">
              <a:off x="8779320" y="3908880"/>
              <a:ext cx="40680" cy="55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6">
                  <a:moveTo>
                    <a:pt x="17" y="0"/>
                  </a:moveTo>
                  <a:lnTo>
                    <a:pt x="0" y="17"/>
                  </a:lnTo>
                  <a:lnTo>
                    <a:pt x="17" y="36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9"/>
            <p:cNvSpPr/>
            <p:nvPr/>
          </p:nvSpPr>
          <p:spPr>
            <a:xfrm rot="5400000">
              <a:off x="7836840" y="466596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0"/>
            <p:cNvSpPr/>
            <p:nvPr/>
          </p:nvSpPr>
          <p:spPr>
            <a:xfrm rot="5400000">
              <a:off x="7836840" y="466596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7"/>
                  </a:lnTo>
                  <a:lnTo>
                    <a:pt x="17" y="33"/>
                  </a:lnTo>
                  <a:lnTo>
                    <a:pt x="33" y="17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81"/>
            <p:cNvSpPr/>
            <p:nvPr/>
          </p:nvSpPr>
          <p:spPr>
            <a:xfrm rot="5400000">
              <a:off x="6891840" y="54244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2"/>
            <p:cNvSpPr/>
            <p:nvPr/>
          </p:nvSpPr>
          <p:spPr>
            <a:xfrm rot="5400000">
              <a:off x="6891840" y="54244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0"/>
                  </a:moveTo>
                  <a:lnTo>
                    <a:pt x="0" y="16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3"/>
            <p:cNvSpPr/>
            <p:nvPr/>
          </p:nvSpPr>
          <p:spPr>
            <a:xfrm rot="5400000">
              <a:off x="5946840" y="61804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4"/>
            <p:cNvSpPr/>
            <p:nvPr/>
          </p:nvSpPr>
          <p:spPr>
            <a:xfrm rot="5400000">
              <a:off x="5946840" y="6180480"/>
              <a:ext cx="40680" cy="507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lnTo>
                    <a:pt x="0" y="16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5"/>
            <p:cNvSpPr/>
            <p:nvPr/>
          </p:nvSpPr>
          <p:spPr>
            <a:xfrm rot="5400000">
              <a:off x="4584240" y="-810000"/>
              <a:ext cx="6453000" cy="8073360"/>
            </a:xfrm>
            <a:custGeom>
              <a:avLst/>
              <a:gdLst>
                <a:gd name="textAreaLeft" fmla="*/ 0 w 6453000"/>
                <a:gd name="textAreaRight" fmla="*/ 6453360 w 6453000"/>
                <a:gd name="textAreaTop" fmla="*/ 0 h 8073360"/>
                <a:gd name="textAreaBottom" fmla="*/ 8073720 h 8073360"/>
              </a:gdLst>
              <a:ahLst/>
              <a:rect l="textAreaLeft" t="textAreaTop" r="textAreaRight" b="textAreaBottom"/>
              <a:pathLst>
                <a:path w="5190" h="5212">
                  <a:moveTo>
                    <a:pt x="5116" y="5122"/>
                  </a:moveTo>
                  <a:lnTo>
                    <a:pt x="5100" y="5139"/>
                  </a:lnTo>
                  <a:lnTo>
                    <a:pt x="5173" y="5212"/>
                  </a:lnTo>
                  <a:lnTo>
                    <a:pt x="5190" y="5195"/>
                  </a:lnTo>
                  <a:lnTo>
                    <a:pt x="5116" y="5122"/>
                  </a:lnTo>
                  <a:close/>
                  <a:moveTo>
                    <a:pt x="5008" y="5013"/>
                  </a:moveTo>
                  <a:lnTo>
                    <a:pt x="4991" y="5030"/>
                  </a:lnTo>
                  <a:lnTo>
                    <a:pt x="5064" y="5106"/>
                  </a:lnTo>
                  <a:lnTo>
                    <a:pt x="5083" y="5087"/>
                  </a:lnTo>
                  <a:lnTo>
                    <a:pt x="5008" y="5013"/>
                  </a:lnTo>
                  <a:close/>
                  <a:moveTo>
                    <a:pt x="4596" y="4602"/>
                  </a:moveTo>
                  <a:lnTo>
                    <a:pt x="4580" y="4619"/>
                  </a:lnTo>
                  <a:lnTo>
                    <a:pt x="4975" y="5013"/>
                  </a:lnTo>
                  <a:lnTo>
                    <a:pt x="4991" y="4997"/>
                  </a:lnTo>
                  <a:lnTo>
                    <a:pt x="4596" y="4602"/>
                  </a:lnTo>
                  <a:close/>
                  <a:moveTo>
                    <a:pt x="4507" y="4512"/>
                  </a:moveTo>
                  <a:lnTo>
                    <a:pt x="4490" y="4529"/>
                  </a:lnTo>
                  <a:lnTo>
                    <a:pt x="4563" y="4602"/>
                  </a:lnTo>
                  <a:lnTo>
                    <a:pt x="4580" y="4586"/>
                  </a:lnTo>
                  <a:lnTo>
                    <a:pt x="4507" y="4512"/>
                  </a:lnTo>
                  <a:close/>
                  <a:moveTo>
                    <a:pt x="4400" y="4404"/>
                  </a:moveTo>
                  <a:lnTo>
                    <a:pt x="4384" y="4420"/>
                  </a:lnTo>
                  <a:lnTo>
                    <a:pt x="4457" y="4496"/>
                  </a:lnTo>
                  <a:lnTo>
                    <a:pt x="4473" y="4479"/>
                  </a:lnTo>
                  <a:lnTo>
                    <a:pt x="4400" y="4404"/>
                  </a:lnTo>
                  <a:close/>
                  <a:moveTo>
                    <a:pt x="3989" y="3992"/>
                  </a:moveTo>
                  <a:lnTo>
                    <a:pt x="3972" y="4009"/>
                  </a:lnTo>
                  <a:lnTo>
                    <a:pt x="4367" y="4404"/>
                  </a:lnTo>
                  <a:lnTo>
                    <a:pt x="4384" y="4387"/>
                  </a:lnTo>
                  <a:lnTo>
                    <a:pt x="3989" y="3992"/>
                  </a:lnTo>
                  <a:close/>
                  <a:moveTo>
                    <a:pt x="3899" y="3903"/>
                  </a:moveTo>
                  <a:lnTo>
                    <a:pt x="3883" y="3919"/>
                  </a:lnTo>
                  <a:lnTo>
                    <a:pt x="3956" y="3992"/>
                  </a:lnTo>
                  <a:lnTo>
                    <a:pt x="3972" y="3976"/>
                  </a:lnTo>
                  <a:lnTo>
                    <a:pt x="3899" y="3903"/>
                  </a:lnTo>
                  <a:close/>
                  <a:moveTo>
                    <a:pt x="3790" y="3796"/>
                  </a:moveTo>
                  <a:lnTo>
                    <a:pt x="3774" y="3813"/>
                  </a:lnTo>
                  <a:lnTo>
                    <a:pt x="3847" y="3886"/>
                  </a:lnTo>
                  <a:lnTo>
                    <a:pt x="3866" y="3869"/>
                  </a:lnTo>
                  <a:lnTo>
                    <a:pt x="3790" y="3796"/>
                  </a:lnTo>
                  <a:close/>
                  <a:moveTo>
                    <a:pt x="3379" y="3385"/>
                  </a:moveTo>
                  <a:lnTo>
                    <a:pt x="3363" y="3401"/>
                  </a:lnTo>
                  <a:lnTo>
                    <a:pt x="3757" y="3796"/>
                  </a:lnTo>
                  <a:lnTo>
                    <a:pt x="3774" y="3777"/>
                  </a:lnTo>
                  <a:lnTo>
                    <a:pt x="3379" y="3385"/>
                  </a:lnTo>
                  <a:close/>
                  <a:moveTo>
                    <a:pt x="3289" y="3293"/>
                  </a:moveTo>
                  <a:lnTo>
                    <a:pt x="3273" y="3309"/>
                  </a:lnTo>
                  <a:lnTo>
                    <a:pt x="3346" y="3385"/>
                  </a:lnTo>
                  <a:lnTo>
                    <a:pt x="3363" y="3368"/>
                  </a:lnTo>
                  <a:lnTo>
                    <a:pt x="3289" y="3293"/>
                  </a:lnTo>
                  <a:close/>
                  <a:moveTo>
                    <a:pt x="3183" y="3186"/>
                  </a:moveTo>
                  <a:lnTo>
                    <a:pt x="3167" y="3203"/>
                  </a:lnTo>
                  <a:lnTo>
                    <a:pt x="3240" y="3276"/>
                  </a:lnTo>
                  <a:lnTo>
                    <a:pt x="3256" y="3260"/>
                  </a:lnTo>
                  <a:lnTo>
                    <a:pt x="3183" y="3186"/>
                  </a:lnTo>
                  <a:close/>
                  <a:moveTo>
                    <a:pt x="2772" y="2775"/>
                  </a:moveTo>
                  <a:lnTo>
                    <a:pt x="2755" y="2792"/>
                  </a:lnTo>
                  <a:lnTo>
                    <a:pt x="3150" y="3186"/>
                  </a:lnTo>
                  <a:lnTo>
                    <a:pt x="3167" y="3170"/>
                  </a:lnTo>
                  <a:lnTo>
                    <a:pt x="2772" y="2775"/>
                  </a:lnTo>
                  <a:close/>
                  <a:moveTo>
                    <a:pt x="2682" y="2685"/>
                  </a:moveTo>
                  <a:lnTo>
                    <a:pt x="2666" y="2702"/>
                  </a:lnTo>
                  <a:lnTo>
                    <a:pt x="2739" y="2775"/>
                  </a:lnTo>
                  <a:lnTo>
                    <a:pt x="2755" y="2759"/>
                  </a:lnTo>
                  <a:lnTo>
                    <a:pt x="2682" y="2685"/>
                  </a:lnTo>
                  <a:close/>
                  <a:moveTo>
                    <a:pt x="2573" y="2577"/>
                  </a:moveTo>
                  <a:lnTo>
                    <a:pt x="2557" y="2593"/>
                  </a:lnTo>
                  <a:lnTo>
                    <a:pt x="2630" y="2666"/>
                  </a:lnTo>
                  <a:lnTo>
                    <a:pt x="2649" y="2650"/>
                  </a:lnTo>
                  <a:lnTo>
                    <a:pt x="2573" y="2577"/>
                  </a:lnTo>
                  <a:close/>
                  <a:moveTo>
                    <a:pt x="2162" y="2165"/>
                  </a:moveTo>
                  <a:lnTo>
                    <a:pt x="2146" y="2182"/>
                  </a:lnTo>
                  <a:lnTo>
                    <a:pt x="2540" y="2577"/>
                  </a:lnTo>
                  <a:lnTo>
                    <a:pt x="2557" y="2560"/>
                  </a:lnTo>
                  <a:lnTo>
                    <a:pt x="2162" y="2165"/>
                  </a:lnTo>
                  <a:close/>
                  <a:moveTo>
                    <a:pt x="2072" y="2076"/>
                  </a:moveTo>
                  <a:lnTo>
                    <a:pt x="2056" y="2092"/>
                  </a:lnTo>
                  <a:lnTo>
                    <a:pt x="2129" y="2165"/>
                  </a:lnTo>
                  <a:lnTo>
                    <a:pt x="2146" y="2149"/>
                  </a:lnTo>
                  <a:lnTo>
                    <a:pt x="2072" y="2076"/>
                  </a:lnTo>
                  <a:close/>
                  <a:moveTo>
                    <a:pt x="1966" y="1967"/>
                  </a:moveTo>
                  <a:lnTo>
                    <a:pt x="1949" y="1983"/>
                  </a:lnTo>
                  <a:lnTo>
                    <a:pt x="2023" y="2059"/>
                  </a:lnTo>
                  <a:lnTo>
                    <a:pt x="2039" y="2042"/>
                  </a:lnTo>
                  <a:lnTo>
                    <a:pt x="1966" y="1967"/>
                  </a:lnTo>
                  <a:close/>
                  <a:moveTo>
                    <a:pt x="1555" y="1556"/>
                  </a:moveTo>
                  <a:lnTo>
                    <a:pt x="1538" y="1572"/>
                  </a:lnTo>
                  <a:lnTo>
                    <a:pt x="1933" y="1967"/>
                  </a:lnTo>
                  <a:lnTo>
                    <a:pt x="1949" y="1950"/>
                  </a:lnTo>
                  <a:lnTo>
                    <a:pt x="1555" y="1556"/>
                  </a:lnTo>
                  <a:close/>
                  <a:moveTo>
                    <a:pt x="1465" y="1466"/>
                  </a:moveTo>
                  <a:lnTo>
                    <a:pt x="1448" y="1482"/>
                  </a:lnTo>
                  <a:lnTo>
                    <a:pt x="1522" y="1556"/>
                  </a:lnTo>
                  <a:lnTo>
                    <a:pt x="1538" y="1539"/>
                  </a:lnTo>
                  <a:lnTo>
                    <a:pt x="1465" y="1466"/>
                  </a:lnTo>
                  <a:close/>
                  <a:moveTo>
                    <a:pt x="1356" y="1357"/>
                  </a:moveTo>
                  <a:lnTo>
                    <a:pt x="1340" y="1376"/>
                  </a:lnTo>
                  <a:lnTo>
                    <a:pt x="1413" y="1449"/>
                  </a:lnTo>
                  <a:lnTo>
                    <a:pt x="1432" y="1433"/>
                  </a:lnTo>
                  <a:lnTo>
                    <a:pt x="1356" y="1357"/>
                  </a:lnTo>
                  <a:close/>
                  <a:moveTo>
                    <a:pt x="945" y="946"/>
                  </a:moveTo>
                  <a:lnTo>
                    <a:pt x="928" y="965"/>
                  </a:lnTo>
                  <a:lnTo>
                    <a:pt x="1323" y="1357"/>
                  </a:lnTo>
                  <a:lnTo>
                    <a:pt x="1340" y="1340"/>
                  </a:lnTo>
                  <a:lnTo>
                    <a:pt x="945" y="946"/>
                  </a:lnTo>
                  <a:close/>
                  <a:moveTo>
                    <a:pt x="855" y="856"/>
                  </a:moveTo>
                  <a:lnTo>
                    <a:pt x="839" y="872"/>
                  </a:lnTo>
                  <a:lnTo>
                    <a:pt x="912" y="946"/>
                  </a:lnTo>
                  <a:lnTo>
                    <a:pt x="928" y="929"/>
                  </a:lnTo>
                  <a:lnTo>
                    <a:pt x="855" y="856"/>
                  </a:lnTo>
                  <a:close/>
                  <a:moveTo>
                    <a:pt x="749" y="750"/>
                  </a:moveTo>
                  <a:lnTo>
                    <a:pt x="732" y="766"/>
                  </a:lnTo>
                  <a:lnTo>
                    <a:pt x="806" y="839"/>
                  </a:lnTo>
                  <a:lnTo>
                    <a:pt x="822" y="823"/>
                  </a:lnTo>
                  <a:lnTo>
                    <a:pt x="749" y="750"/>
                  </a:lnTo>
                  <a:close/>
                  <a:moveTo>
                    <a:pt x="338" y="338"/>
                  </a:moveTo>
                  <a:lnTo>
                    <a:pt x="321" y="355"/>
                  </a:lnTo>
                  <a:lnTo>
                    <a:pt x="713" y="750"/>
                  </a:lnTo>
                  <a:lnTo>
                    <a:pt x="732" y="733"/>
                  </a:lnTo>
                  <a:lnTo>
                    <a:pt x="338" y="338"/>
                  </a:lnTo>
                  <a:close/>
                  <a:moveTo>
                    <a:pt x="248" y="246"/>
                  </a:moveTo>
                  <a:lnTo>
                    <a:pt x="231" y="265"/>
                  </a:lnTo>
                  <a:lnTo>
                    <a:pt x="305" y="338"/>
                  </a:lnTo>
                  <a:lnTo>
                    <a:pt x="321" y="322"/>
                  </a:lnTo>
                  <a:lnTo>
                    <a:pt x="248" y="246"/>
                  </a:lnTo>
                  <a:close/>
                  <a:moveTo>
                    <a:pt x="139" y="140"/>
                  </a:moveTo>
                  <a:lnTo>
                    <a:pt x="123" y="156"/>
                  </a:lnTo>
                  <a:lnTo>
                    <a:pt x="196" y="230"/>
                  </a:lnTo>
                  <a:lnTo>
                    <a:pt x="215" y="213"/>
                  </a:lnTo>
                  <a:lnTo>
                    <a:pt x="139" y="140"/>
                  </a:lnTo>
                  <a:close/>
                  <a:moveTo>
                    <a:pt x="0" y="0"/>
                  </a:moveTo>
                  <a:lnTo>
                    <a:pt x="0" y="33"/>
                  </a:lnTo>
                  <a:lnTo>
                    <a:pt x="106" y="140"/>
                  </a:lnTo>
                  <a:lnTo>
                    <a:pt x="123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6"/>
            <p:cNvSpPr/>
            <p:nvPr/>
          </p:nvSpPr>
          <p:spPr>
            <a:xfrm rot="5400000">
              <a:off x="4584240" y="-810000"/>
              <a:ext cx="6453000" cy="8073360"/>
            </a:xfrm>
            <a:custGeom>
              <a:avLst/>
              <a:gdLst>
                <a:gd name="textAreaLeft" fmla="*/ 0 w 6453000"/>
                <a:gd name="textAreaRight" fmla="*/ 6453360 w 6453000"/>
                <a:gd name="textAreaTop" fmla="*/ 0 h 8073360"/>
                <a:gd name="textAreaBottom" fmla="*/ 8073720 h 8073360"/>
              </a:gdLst>
              <a:ahLst/>
              <a:rect l="textAreaLeft" t="textAreaTop" r="textAreaRight" b="textAreaBottom"/>
              <a:pathLst>
                <a:path w="5190" h="5212">
                  <a:moveTo>
                    <a:pt x="5116" y="5122"/>
                  </a:moveTo>
                  <a:lnTo>
                    <a:pt x="5100" y="5139"/>
                  </a:lnTo>
                  <a:lnTo>
                    <a:pt x="5173" y="5212"/>
                  </a:lnTo>
                  <a:lnTo>
                    <a:pt x="5190" y="5195"/>
                  </a:lnTo>
                  <a:lnTo>
                    <a:pt x="5116" y="5122"/>
                  </a:lnTo>
                  <a:moveTo>
                    <a:pt x="5008" y="5013"/>
                  </a:moveTo>
                  <a:lnTo>
                    <a:pt x="4991" y="5030"/>
                  </a:lnTo>
                  <a:lnTo>
                    <a:pt x="5064" y="5106"/>
                  </a:lnTo>
                  <a:lnTo>
                    <a:pt x="5083" y="5087"/>
                  </a:lnTo>
                  <a:lnTo>
                    <a:pt x="5008" y="5013"/>
                  </a:lnTo>
                  <a:moveTo>
                    <a:pt x="4596" y="4602"/>
                  </a:moveTo>
                  <a:lnTo>
                    <a:pt x="4580" y="4619"/>
                  </a:lnTo>
                  <a:lnTo>
                    <a:pt x="4975" y="5013"/>
                  </a:lnTo>
                  <a:lnTo>
                    <a:pt x="4991" y="4997"/>
                  </a:lnTo>
                  <a:lnTo>
                    <a:pt x="4596" y="4602"/>
                  </a:lnTo>
                  <a:moveTo>
                    <a:pt x="4507" y="4512"/>
                  </a:moveTo>
                  <a:lnTo>
                    <a:pt x="4490" y="4529"/>
                  </a:lnTo>
                  <a:lnTo>
                    <a:pt x="4563" y="4602"/>
                  </a:lnTo>
                  <a:lnTo>
                    <a:pt x="4580" y="4586"/>
                  </a:lnTo>
                  <a:lnTo>
                    <a:pt x="4507" y="4512"/>
                  </a:lnTo>
                  <a:moveTo>
                    <a:pt x="4400" y="4404"/>
                  </a:moveTo>
                  <a:lnTo>
                    <a:pt x="4384" y="4420"/>
                  </a:lnTo>
                  <a:lnTo>
                    <a:pt x="4457" y="4496"/>
                  </a:lnTo>
                  <a:lnTo>
                    <a:pt x="4473" y="4479"/>
                  </a:lnTo>
                  <a:lnTo>
                    <a:pt x="4400" y="4404"/>
                  </a:lnTo>
                  <a:moveTo>
                    <a:pt x="3989" y="3992"/>
                  </a:moveTo>
                  <a:lnTo>
                    <a:pt x="3972" y="4009"/>
                  </a:lnTo>
                  <a:lnTo>
                    <a:pt x="4367" y="4404"/>
                  </a:lnTo>
                  <a:lnTo>
                    <a:pt x="4384" y="4387"/>
                  </a:lnTo>
                  <a:lnTo>
                    <a:pt x="3989" y="3992"/>
                  </a:lnTo>
                  <a:moveTo>
                    <a:pt x="3899" y="3903"/>
                  </a:moveTo>
                  <a:lnTo>
                    <a:pt x="3883" y="3919"/>
                  </a:lnTo>
                  <a:lnTo>
                    <a:pt x="3956" y="3992"/>
                  </a:lnTo>
                  <a:lnTo>
                    <a:pt x="3972" y="3976"/>
                  </a:lnTo>
                  <a:lnTo>
                    <a:pt x="3899" y="3903"/>
                  </a:lnTo>
                  <a:moveTo>
                    <a:pt x="3790" y="3796"/>
                  </a:moveTo>
                  <a:lnTo>
                    <a:pt x="3774" y="3813"/>
                  </a:lnTo>
                  <a:lnTo>
                    <a:pt x="3847" y="3886"/>
                  </a:lnTo>
                  <a:lnTo>
                    <a:pt x="3866" y="3869"/>
                  </a:lnTo>
                  <a:lnTo>
                    <a:pt x="3790" y="3796"/>
                  </a:lnTo>
                  <a:moveTo>
                    <a:pt x="3379" y="3385"/>
                  </a:moveTo>
                  <a:lnTo>
                    <a:pt x="3363" y="3401"/>
                  </a:lnTo>
                  <a:lnTo>
                    <a:pt x="3757" y="3796"/>
                  </a:lnTo>
                  <a:lnTo>
                    <a:pt x="3774" y="3777"/>
                  </a:lnTo>
                  <a:lnTo>
                    <a:pt x="3379" y="3385"/>
                  </a:lnTo>
                  <a:moveTo>
                    <a:pt x="3289" y="3293"/>
                  </a:moveTo>
                  <a:lnTo>
                    <a:pt x="3273" y="3309"/>
                  </a:lnTo>
                  <a:lnTo>
                    <a:pt x="3346" y="3385"/>
                  </a:lnTo>
                  <a:lnTo>
                    <a:pt x="3363" y="3368"/>
                  </a:lnTo>
                  <a:lnTo>
                    <a:pt x="3289" y="3293"/>
                  </a:lnTo>
                  <a:moveTo>
                    <a:pt x="3183" y="3186"/>
                  </a:moveTo>
                  <a:lnTo>
                    <a:pt x="3167" y="3203"/>
                  </a:lnTo>
                  <a:lnTo>
                    <a:pt x="3240" y="3276"/>
                  </a:lnTo>
                  <a:lnTo>
                    <a:pt x="3256" y="3260"/>
                  </a:lnTo>
                  <a:lnTo>
                    <a:pt x="3183" y="3186"/>
                  </a:lnTo>
                  <a:moveTo>
                    <a:pt x="2772" y="2775"/>
                  </a:moveTo>
                  <a:lnTo>
                    <a:pt x="2755" y="2792"/>
                  </a:lnTo>
                  <a:lnTo>
                    <a:pt x="3150" y="3186"/>
                  </a:lnTo>
                  <a:lnTo>
                    <a:pt x="3167" y="3170"/>
                  </a:lnTo>
                  <a:lnTo>
                    <a:pt x="2772" y="2775"/>
                  </a:lnTo>
                  <a:moveTo>
                    <a:pt x="2682" y="2685"/>
                  </a:moveTo>
                  <a:lnTo>
                    <a:pt x="2666" y="2702"/>
                  </a:lnTo>
                  <a:lnTo>
                    <a:pt x="2739" y="2775"/>
                  </a:lnTo>
                  <a:lnTo>
                    <a:pt x="2755" y="2759"/>
                  </a:lnTo>
                  <a:lnTo>
                    <a:pt x="2682" y="2685"/>
                  </a:lnTo>
                  <a:moveTo>
                    <a:pt x="2573" y="2577"/>
                  </a:moveTo>
                  <a:lnTo>
                    <a:pt x="2557" y="2593"/>
                  </a:lnTo>
                  <a:lnTo>
                    <a:pt x="2630" y="2666"/>
                  </a:lnTo>
                  <a:lnTo>
                    <a:pt x="2649" y="2650"/>
                  </a:lnTo>
                  <a:lnTo>
                    <a:pt x="2573" y="2577"/>
                  </a:lnTo>
                  <a:moveTo>
                    <a:pt x="2162" y="2165"/>
                  </a:moveTo>
                  <a:lnTo>
                    <a:pt x="2146" y="2182"/>
                  </a:lnTo>
                  <a:lnTo>
                    <a:pt x="2540" y="2577"/>
                  </a:lnTo>
                  <a:lnTo>
                    <a:pt x="2557" y="2560"/>
                  </a:lnTo>
                  <a:lnTo>
                    <a:pt x="2162" y="2165"/>
                  </a:lnTo>
                  <a:moveTo>
                    <a:pt x="2072" y="2076"/>
                  </a:moveTo>
                  <a:lnTo>
                    <a:pt x="2056" y="2092"/>
                  </a:lnTo>
                  <a:lnTo>
                    <a:pt x="2129" y="2165"/>
                  </a:lnTo>
                  <a:lnTo>
                    <a:pt x="2146" y="2149"/>
                  </a:lnTo>
                  <a:lnTo>
                    <a:pt x="2072" y="2076"/>
                  </a:lnTo>
                  <a:moveTo>
                    <a:pt x="1966" y="1967"/>
                  </a:moveTo>
                  <a:lnTo>
                    <a:pt x="1949" y="1983"/>
                  </a:lnTo>
                  <a:lnTo>
                    <a:pt x="2023" y="2059"/>
                  </a:lnTo>
                  <a:lnTo>
                    <a:pt x="2039" y="2042"/>
                  </a:lnTo>
                  <a:lnTo>
                    <a:pt x="1966" y="1967"/>
                  </a:lnTo>
                  <a:moveTo>
                    <a:pt x="1555" y="1556"/>
                  </a:moveTo>
                  <a:lnTo>
                    <a:pt x="1538" y="1572"/>
                  </a:lnTo>
                  <a:lnTo>
                    <a:pt x="1933" y="1967"/>
                  </a:lnTo>
                  <a:lnTo>
                    <a:pt x="1949" y="1950"/>
                  </a:lnTo>
                  <a:lnTo>
                    <a:pt x="1555" y="1556"/>
                  </a:lnTo>
                  <a:moveTo>
                    <a:pt x="1465" y="1466"/>
                  </a:moveTo>
                  <a:lnTo>
                    <a:pt x="1448" y="1482"/>
                  </a:lnTo>
                  <a:lnTo>
                    <a:pt x="1522" y="1556"/>
                  </a:lnTo>
                  <a:lnTo>
                    <a:pt x="1538" y="1539"/>
                  </a:lnTo>
                  <a:lnTo>
                    <a:pt x="1465" y="1466"/>
                  </a:lnTo>
                  <a:moveTo>
                    <a:pt x="1356" y="1357"/>
                  </a:moveTo>
                  <a:lnTo>
                    <a:pt x="1340" y="1376"/>
                  </a:lnTo>
                  <a:lnTo>
                    <a:pt x="1413" y="1449"/>
                  </a:lnTo>
                  <a:lnTo>
                    <a:pt x="1432" y="1433"/>
                  </a:lnTo>
                  <a:lnTo>
                    <a:pt x="1356" y="1357"/>
                  </a:lnTo>
                  <a:moveTo>
                    <a:pt x="945" y="946"/>
                  </a:moveTo>
                  <a:lnTo>
                    <a:pt x="928" y="965"/>
                  </a:lnTo>
                  <a:lnTo>
                    <a:pt x="1323" y="1357"/>
                  </a:lnTo>
                  <a:lnTo>
                    <a:pt x="1340" y="1340"/>
                  </a:lnTo>
                  <a:lnTo>
                    <a:pt x="945" y="946"/>
                  </a:lnTo>
                  <a:moveTo>
                    <a:pt x="855" y="856"/>
                  </a:moveTo>
                  <a:lnTo>
                    <a:pt x="839" y="872"/>
                  </a:lnTo>
                  <a:lnTo>
                    <a:pt x="912" y="946"/>
                  </a:lnTo>
                  <a:lnTo>
                    <a:pt x="928" y="929"/>
                  </a:lnTo>
                  <a:lnTo>
                    <a:pt x="855" y="856"/>
                  </a:lnTo>
                  <a:moveTo>
                    <a:pt x="749" y="750"/>
                  </a:moveTo>
                  <a:lnTo>
                    <a:pt x="732" y="766"/>
                  </a:lnTo>
                  <a:lnTo>
                    <a:pt x="806" y="839"/>
                  </a:lnTo>
                  <a:lnTo>
                    <a:pt x="822" y="823"/>
                  </a:lnTo>
                  <a:lnTo>
                    <a:pt x="749" y="750"/>
                  </a:lnTo>
                  <a:moveTo>
                    <a:pt x="338" y="338"/>
                  </a:moveTo>
                  <a:lnTo>
                    <a:pt x="321" y="355"/>
                  </a:lnTo>
                  <a:lnTo>
                    <a:pt x="713" y="750"/>
                  </a:lnTo>
                  <a:lnTo>
                    <a:pt x="732" y="733"/>
                  </a:lnTo>
                  <a:lnTo>
                    <a:pt x="338" y="338"/>
                  </a:lnTo>
                  <a:moveTo>
                    <a:pt x="248" y="246"/>
                  </a:moveTo>
                  <a:lnTo>
                    <a:pt x="231" y="265"/>
                  </a:lnTo>
                  <a:lnTo>
                    <a:pt x="305" y="338"/>
                  </a:lnTo>
                  <a:lnTo>
                    <a:pt x="321" y="322"/>
                  </a:lnTo>
                  <a:lnTo>
                    <a:pt x="248" y="246"/>
                  </a:lnTo>
                  <a:moveTo>
                    <a:pt x="139" y="140"/>
                  </a:moveTo>
                  <a:lnTo>
                    <a:pt x="123" y="156"/>
                  </a:lnTo>
                  <a:lnTo>
                    <a:pt x="196" y="230"/>
                  </a:lnTo>
                  <a:lnTo>
                    <a:pt x="215" y="213"/>
                  </a:lnTo>
                  <a:lnTo>
                    <a:pt x="139" y="140"/>
                  </a:lnTo>
                  <a:moveTo>
                    <a:pt x="0" y="0"/>
                  </a:moveTo>
                  <a:lnTo>
                    <a:pt x="0" y="33"/>
                  </a:lnTo>
                  <a:lnTo>
                    <a:pt x="106" y="140"/>
                  </a:lnTo>
                  <a:lnTo>
                    <a:pt x="123" y="12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7"/>
            <p:cNvSpPr/>
            <p:nvPr/>
          </p:nvSpPr>
          <p:spPr>
            <a:xfrm rot="5400000">
              <a:off x="3306600" y="6390000"/>
              <a:ext cx="405000" cy="53100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31000"/>
                <a:gd name="textAreaBottom" fmla="*/ 531000 h 531000"/>
              </a:gdLst>
              <a:ahLst/>
              <a:rect l="textAreaLeft" t="textAreaTop" r="textAreaRight" b="textAreaBottom"/>
              <a:pathLst>
                <a:path w="326" h="343">
                  <a:moveTo>
                    <a:pt x="16" y="0"/>
                  </a:moveTo>
                  <a:lnTo>
                    <a:pt x="0" y="16"/>
                  </a:lnTo>
                  <a:lnTo>
                    <a:pt x="326" y="343"/>
                  </a:lnTo>
                  <a:lnTo>
                    <a:pt x="326" y="31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8"/>
            <p:cNvSpPr/>
            <p:nvPr/>
          </p:nvSpPr>
          <p:spPr>
            <a:xfrm rot="5400000">
              <a:off x="3306600" y="6390000"/>
              <a:ext cx="405000" cy="53100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31000"/>
                <a:gd name="textAreaBottom" fmla="*/ 531000 h 531000"/>
              </a:gdLst>
              <a:ahLst/>
              <a:rect l="textAreaLeft" t="textAreaTop" r="textAreaRight" b="textAreaBottom"/>
              <a:pathLst>
                <a:path w="326" h="343">
                  <a:moveTo>
                    <a:pt x="16" y="0"/>
                  </a:moveTo>
                  <a:lnTo>
                    <a:pt x="0" y="16"/>
                  </a:lnTo>
                  <a:lnTo>
                    <a:pt x="326" y="343"/>
                  </a:lnTo>
                  <a:lnTo>
                    <a:pt x="326" y="31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9"/>
            <p:cNvSpPr/>
            <p:nvPr/>
          </p:nvSpPr>
          <p:spPr>
            <a:xfrm rot="5400000">
              <a:off x="11445480" y="235440"/>
              <a:ext cx="64440" cy="802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52">
                  <a:moveTo>
                    <a:pt x="19" y="0"/>
                  </a:moveTo>
                  <a:lnTo>
                    <a:pt x="0" y="17"/>
                  </a:lnTo>
                  <a:lnTo>
                    <a:pt x="35" y="52"/>
                  </a:lnTo>
                  <a:lnTo>
                    <a:pt x="52" y="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0"/>
            <p:cNvSpPr/>
            <p:nvPr/>
          </p:nvSpPr>
          <p:spPr>
            <a:xfrm rot="5400000">
              <a:off x="11445480" y="235440"/>
              <a:ext cx="64440" cy="802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52">
                  <a:moveTo>
                    <a:pt x="19" y="0"/>
                  </a:moveTo>
                  <a:lnTo>
                    <a:pt x="0" y="17"/>
                  </a:lnTo>
                  <a:lnTo>
                    <a:pt x="35" y="52"/>
                  </a:lnTo>
                  <a:lnTo>
                    <a:pt x="52" y="33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1"/>
            <p:cNvSpPr/>
            <p:nvPr/>
          </p:nvSpPr>
          <p:spPr>
            <a:xfrm rot="5400000">
              <a:off x="10504440" y="994320"/>
              <a:ext cx="60840" cy="756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49" h="49">
                  <a:moveTo>
                    <a:pt x="16" y="0"/>
                  </a:moveTo>
                  <a:lnTo>
                    <a:pt x="0" y="16"/>
                  </a:lnTo>
                  <a:lnTo>
                    <a:pt x="33" y="49"/>
                  </a:lnTo>
                  <a:lnTo>
                    <a:pt x="49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2"/>
            <p:cNvSpPr/>
            <p:nvPr/>
          </p:nvSpPr>
          <p:spPr>
            <a:xfrm rot="5400000">
              <a:off x="10504440" y="994320"/>
              <a:ext cx="60840" cy="756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49" h="49">
                  <a:moveTo>
                    <a:pt x="16" y="0"/>
                  </a:moveTo>
                  <a:lnTo>
                    <a:pt x="0" y="16"/>
                  </a:lnTo>
                  <a:lnTo>
                    <a:pt x="33" y="49"/>
                  </a:lnTo>
                  <a:lnTo>
                    <a:pt x="49" y="3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3"/>
            <p:cNvSpPr/>
            <p:nvPr/>
          </p:nvSpPr>
          <p:spPr>
            <a:xfrm rot="5400000">
              <a:off x="9557640" y="1751040"/>
              <a:ext cx="64440" cy="75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52" h="49">
                  <a:moveTo>
                    <a:pt x="19" y="0"/>
                  </a:moveTo>
                  <a:lnTo>
                    <a:pt x="0" y="16"/>
                  </a:lnTo>
                  <a:lnTo>
                    <a:pt x="35" y="49"/>
                  </a:lnTo>
                  <a:lnTo>
                    <a:pt x="52" y="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4"/>
            <p:cNvSpPr/>
            <p:nvPr/>
          </p:nvSpPr>
          <p:spPr>
            <a:xfrm rot="5400000">
              <a:off x="9557640" y="1751040"/>
              <a:ext cx="64440" cy="75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52" h="49">
                  <a:moveTo>
                    <a:pt x="19" y="0"/>
                  </a:moveTo>
                  <a:lnTo>
                    <a:pt x="0" y="16"/>
                  </a:lnTo>
                  <a:lnTo>
                    <a:pt x="35" y="49"/>
                  </a:lnTo>
                  <a:lnTo>
                    <a:pt x="52" y="33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5"/>
            <p:cNvSpPr/>
            <p:nvPr/>
          </p:nvSpPr>
          <p:spPr>
            <a:xfrm rot="5400000">
              <a:off x="8615880" y="250668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6"/>
            <p:cNvSpPr/>
            <p:nvPr/>
          </p:nvSpPr>
          <p:spPr>
            <a:xfrm rot="5400000">
              <a:off x="8615880" y="250668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49" y="34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7"/>
            <p:cNvSpPr/>
            <p:nvPr/>
          </p:nvSpPr>
          <p:spPr>
            <a:xfrm rot="5400000">
              <a:off x="7670880" y="3261960"/>
              <a:ext cx="64440" cy="802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52">
                  <a:moveTo>
                    <a:pt x="19" y="0"/>
                  </a:moveTo>
                  <a:lnTo>
                    <a:pt x="0" y="16"/>
                  </a:lnTo>
                  <a:lnTo>
                    <a:pt x="36" y="52"/>
                  </a:lnTo>
                  <a:lnTo>
                    <a:pt x="52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8"/>
            <p:cNvSpPr/>
            <p:nvPr/>
          </p:nvSpPr>
          <p:spPr>
            <a:xfrm rot="5400000">
              <a:off x="7670880" y="3261960"/>
              <a:ext cx="64440" cy="802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52">
                  <a:moveTo>
                    <a:pt x="19" y="0"/>
                  </a:moveTo>
                  <a:lnTo>
                    <a:pt x="0" y="16"/>
                  </a:lnTo>
                  <a:lnTo>
                    <a:pt x="36" y="52"/>
                  </a:lnTo>
                  <a:lnTo>
                    <a:pt x="52" y="35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9"/>
            <p:cNvSpPr/>
            <p:nvPr/>
          </p:nvSpPr>
          <p:spPr>
            <a:xfrm rot="5400000">
              <a:off x="6729840" y="4020840"/>
              <a:ext cx="60840" cy="756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49" h="49">
                  <a:moveTo>
                    <a:pt x="16" y="0"/>
                  </a:moveTo>
                  <a:lnTo>
                    <a:pt x="0" y="16"/>
                  </a:lnTo>
                  <a:lnTo>
                    <a:pt x="33" y="49"/>
                  </a:lnTo>
                  <a:lnTo>
                    <a:pt x="49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0"/>
            <p:cNvSpPr/>
            <p:nvPr/>
          </p:nvSpPr>
          <p:spPr>
            <a:xfrm rot="5400000">
              <a:off x="6729840" y="4020840"/>
              <a:ext cx="60840" cy="756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49" h="49">
                  <a:moveTo>
                    <a:pt x="16" y="0"/>
                  </a:moveTo>
                  <a:lnTo>
                    <a:pt x="0" y="16"/>
                  </a:lnTo>
                  <a:lnTo>
                    <a:pt x="33" y="49"/>
                  </a:lnTo>
                  <a:lnTo>
                    <a:pt x="49" y="3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1"/>
            <p:cNvSpPr/>
            <p:nvPr/>
          </p:nvSpPr>
          <p:spPr>
            <a:xfrm rot="5400000">
              <a:off x="5783760" y="477648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19" y="0"/>
                  </a:moveTo>
                  <a:lnTo>
                    <a:pt x="0" y="17"/>
                  </a:lnTo>
                  <a:lnTo>
                    <a:pt x="36" y="50"/>
                  </a:lnTo>
                  <a:lnTo>
                    <a:pt x="52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2"/>
            <p:cNvSpPr/>
            <p:nvPr/>
          </p:nvSpPr>
          <p:spPr>
            <a:xfrm rot="5400000">
              <a:off x="5783760" y="477648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19" y="0"/>
                  </a:moveTo>
                  <a:lnTo>
                    <a:pt x="0" y="17"/>
                  </a:lnTo>
                  <a:lnTo>
                    <a:pt x="36" y="50"/>
                  </a:lnTo>
                  <a:lnTo>
                    <a:pt x="52" y="34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3"/>
            <p:cNvSpPr/>
            <p:nvPr/>
          </p:nvSpPr>
          <p:spPr>
            <a:xfrm rot="5400000">
              <a:off x="4840200" y="553356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4"/>
            <p:cNvSpPr/>
            <p:nvPr/>
          </p:nvSpPr>
          <p:spPr>
            <a:xfrm rot="5400000">
              <a:off x="4840200" y="553356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16" y="0"/>
                  </a:moveTo>
                  <a:lnTo>
                    <a:pt x="0" y="17"/>
                  </a:lnTo>
                  <a:lnTo>
                    <a:pt x="33" y="50"/>
                  </a:lnTo>
                  <a:lnTo>
                    <a:pt x="50" y="3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406"/>
            <p:cNvGrpSpPr/>
            <p:nvPr/>
          </p:nvGrpSpPr>
          <p:grpSpPr>
            <a:xfrm>
              <a:off x="-360" y="0"/>
              <a:ext cx="11657520" cy="6857640"/>
              <a:chOff x="-360" y="0"/>
              <a:chExt cx="11657520" cy="6857640"/>
            </a:xfrm>
          </p:grpSpPr>
          <p:sp>
            <p:nvSpPr>
              <p:cNvPr id="201" name="Freeform 206"/>
              <p:cNvSpPr/>
              <p:nvPr/>
            </p:nvSpPr>
            <p:spPr>
              <a:xfrm rot="5400000">
                <a:off x="3895560" y="628812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9" y="0"/>
                    </a:moveTo>
                    <a:lnTo>
                      <a:pt x="0" y="19"/>
                    </a:lnTo>
                    <a:lnTo>
                      <a:pt x="36" y="52"/>
                    </a:lnTo>
                    <a:lnTo>
                      <a:pt x="52" y="3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07"/>
              <p:cNvSpPr/>
              <p:nvPr/>
            </p:nvSpPr>
            <p:spPr>
              <a:xfrm rot="5400000">
                <a:off x="3895560" y="628812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9" y="0"/>
                    </a:moveTo>
                    <a:lnTo>
                      <a:pt x="0" y="19"/>
                    </a:lnTo>
                    <a:lnTo>
                      <a:pt x="36" y="52"/>
                    </a:lnTo>
                    <a:lnTo>
                      <a:pt x="52" y="35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08"/>
              <p:cNvSpPr/>
              <p:nvPr/>
            </p:nvSpPr>
            <p:spPr>
              <a:xfrm rot="5400000">
                <a:off x="11302920" y="3740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09"/>
              <p:cNvSpPr/>
              <p:nvPr/>
            </p:nvSpPr>
            <p:spPr>
              <a:xfrm rot="5400000">
                <a:off x="11302920" y="3740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10"/>
              <p:cNvSpPr/>
              <p:nvPr/>
            </p:nvSpPr>
            <p:spPr>
              <a:xfrm rot="5400000">
                <a:off x="10360440" y="112608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7"/>
                    </a:lnTo>
                    <a:lnTo>
                      <a:pt x="16" y="36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11"/>
              <p:cNvSpPr/>
              <p:nvPr/>
            </p:nvSpPr>
            <p:spPr>
              <a:xfrm rot="5400000">
                <a:off x="10360440" y="112608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7"/>
                    </a:lnTo>
                    <a:lnTo>
                      <a:pt x="16" y="36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12"/>
              <p:cNvSpPr/>
              <p:nvPr/>
            </p:nvSpPr>
            <p:spPr>
              <a:xfrm rot="5400000">
                <a:off x="9417960" y="18867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13"/>
              <p:cNvSpPr/>
              <p:nvPr/>
            </p:nvSpPr>
            <p:spPr>
              <a:xfrm rot="5400000">
                <a:off x="9417960" y="18867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14"/>
              <p:cNvSpPr/>
              <p:nvPr/>
            </p:nvSpPr>
            <p:spPr>
              <a:xfrm rot="5400000">
                <a:off x="8472960" y="2641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15"/>
              <p:cNvSpPr/>
              <p:nvPr/>
            </p:nvSpPr>
            <p:spPr>
              <a:xfrm rot="5400000">
                <a:off x="8472960" y="2641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6"/>
              <p:cNvSpPr/>
              <p:nvPr/>
            </p:nvSpPr>
            <p:spPr>
              <a:xfrm rot="5400000">
                <a:off x="7527960" y="34002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17"/>
              <p:cNvSpPr/>
              <p:nvPr/>
            </p:nvSpPr>
            <p:spPr>
              <a:xfrm rot="5400000">
                <a:off x="7527960" y="34002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18"/>
              <p:cNvSpPr/>
              <p:nvPr/>
            </p:nvSpPr>
            <p:spPr>
              <a:xfrm rot="5400000">
                <a:off x="6585120" y="41547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19"/>
              <p:cNvSpPr/>
              <p:nvPr/>
            </p:nvSpPr>
            <p:spPr>
              <a:xfrm rot="5400000">
                <a:off x="6585120" y="41547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20"/>
              <p:cNvSpPr/>
              <p:nvPr/>
            </p:nvSpPr>
            <p:spPr>
              <a:xfrm rot="5400000">
                <a:off x="5643360" y="49132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21"/>
              <p:cNvSpPr/>
              <p:nvPr/>
            </p:nvSpPr>
            <p:spPr>
              <a:xfrm rot="5400000">
                <a:off x="5643360" y="49132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22"/>
              <p:cNvSpPr/>
              <p:nvPr/>
            </p:nvSpPr>
            <p:spPr>
              <a:xfrm rot="5400000">
                <a:off x="4698360" y="5668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23"/>
              <p:cNvSpPr/>
              <p:nvPr/>
            </p:nvSpPr>
            <p:spPr>
              <a:xfrm rot="5400000">
                <a:off x="4698360" y="5668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24"/>
              <p:cNvSpPr/>
              <p:nvPr/>
            </p:nvSpPr>
            <p:spPr>
              <a:xfrm rot="5400000">
                <a:off x="3754800" y="64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25"/>
              <p:cNvSpPr/>
              <p:nvPr/>
            </p:nvSpPr>
            <p:spPr>
              <a:xfrm rot="5400000">
                <a:off x="3754800" y="64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26"/>
              <p:cNvSpPr/>
              <p:nvPr/>
            </p:nvSpPr>
            <p:spPr>
              <a:xfrm rot="5400000">
                <a:off x="11611080" y="1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27"/>
              <p:cNvSpPr/>
              <p:nvPr/>
            </p:nvSpPr>
            <p:spPr>
              <a:xfrm rot="5400000">
                <a:off x="11611080" y="1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28"/>
              <p:cNvSpPr/>
              <p:nvPr/>
            </p:nvSpPr>
            <p:spPr>
              <a:xfrm rot="5400000">
                <a:off x="10664280" y="883080"/>
                <a:ext cx="44640" cy="50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6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29"/>
              <p:cNvSpPr/>
              <p:nvPr/>
            </p:nvSpPr>
            <p:spPr>
              <a:xfrm rot="5400000">
                <a:off x="10664280" y="883080"/>
                <a:ext cx="44640" cy="50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6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30"/>
              <p:cNvSpPr/>
              <p:nvPr/>
            </p:nvSpPr>
            <p:spPr>
              <a:xfrm rot="5400000">
                <a:off x="9723600" y="1637640"/>
                <a:ext cx="41040" cy="55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7"/>
                    </a:lnTo>
                    <a:lnTo>
                      <a:pt x="17" y="36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31"/>
              <p:cNvSpPr/>
              <p:nvPr/>
            </p:nvSpPr>
            <p:spPr>
              <a:xfrm rot="5400000">
                <a:off x="9723600" y="1637640"/>
                <a:ext cx="41040" cy="55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7"/>
                    </a:lnTo>
                    <a:lnTo>
                      <a:pt x="17" y="36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32"/>
              <p:cNvSpPr/>
              <p:nvPr/>
            </p:nvSpPr>
            <p:spPr>
              <a:xfrm rot="5400000">
                <a:off x="8781120" y="23979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33"/>
              <p:cNvSpPr/>
              <p:nvPr/>
            </p:nvSpPr>
            <p:spPr>
              <a:xfrm rot="5400000">
                <a:off x="8781120" y="23979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34"/>
              <p:cNvSpPr/>
              <p:nvPr/>
            </p:nvSpPr>
            <p:spPr>
              <a:xfrm rot="5400000">
                <a:off x="7836480" y="31525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5"/>
              <p:cNvSpPr/>
              <p:nvPr/>
            </p:nvSpPr>
            <p:spPr>
              <a:xfrm rot="5400000">
                <a:off x="7836480" y="31525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36"/>
              <p:cNvSpPr/>
              <p:nvPr/>
            </p:nvSpPr>
            <p:spPr>
              <a:xfrm rot="5400000">
                <a:off x="6891480" y="39110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37"/>
              <p:cNvSpPr/>
              <p:nvPr/>
            </p:nvSpPr>
            <p:spPr>
              <a:xfrm rot="5400000">
                <a:off x="6891480" y="39110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38"/>
              <p:cNvSpPr/>
              <p:nvPr/>
            </p:nvSpPr>
            <p:spPr>
              <a:xfrm rot="5400000">
                <a:off x="5948640" y="466344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9"/>
              <p:cNvSpPr/>
              <p:nvPr/>
            </p:nvSpPr>
            <p:spPr>
              <a:xfrm rot="5400000">
                <a:off x="5948640" y="466344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40"/>
              <p:cNvSpPr/>
              <p:nvPr/>
            </p:nvSpPr>
            <p:spPr>
              <a:xfrm rot="5400000">
                <a:off x="5006520" y="54241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41"/>
              <p:cNvSpPr/>
              <p:nvPr/>
            </p:nvSpPr>
            <p:spPr>
              <a:xfrm rot="5400000">
                <a:off x="5006520" y="54241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42"/>
              <p:cNvSpPr/>
              <p:nvPr/>
            </p:nvSpPr>
            <p:spPr>
              <a:xfrm rot="5400000">
                <a:off x="4061520" y="61801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3"/>
              <p:cNvSpPr/>
              <p:nvPr/>
            </p:nvSpPr>
            <p:spPr>
              <a:xfrm rot="5400000">
                <a:off x="4061520" y="61801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4"/>
              <p:cNvSpPr/>
              <p:nvPr/>
            </p:nvSpPr>
            <p:spPr>
              <a:xfrm rot="5400000">
                <a:off x="2698920" y="-809640"/>
                <a:ext cx="6452280" cy="8071560"/>
              </a:xfrm>
              <a:custGeom>
                <a:avLst/>
                <a:gdLst>
                  <a:gd name="textAreaLeft" fmla="*/ 0 w 6452280"/>
                  <a:gd name="textAreaRight" fmla="*/ 6452640 w 6452280"/>
                  <a:gd name="textAreaTop" fmla="*/ 0 h 8071560"/>
                  <a:gd name="textAreaBottom" fmla="*/ 8071920 h 8071560"/>
                </a:gdLst>
                <a:ahLst/>
                <a:rect l="textAreaLeft" t="textAreaTop" r="textAreaRight" b="textAreaBottom"/>
                <a:pathLst>
                  <a:path w="5190" h="5211">
                    <a:moveTo>
                      <a:pt x="5114" y="5121"/>
                    </a:moveTo>
                    <a:lnTo>
                      <a:pt x="5097" y="5138"/>
                    </a:lnTo>
                    <a:lnTo>
                      <a:pt x="5171" y="5211"/>
                    </a:lnTo>
                    <a:lnTo>
                      <a:pt x="5190" y="5195"/>
                    </a:lnTo>
                    <a:lnTo>
                      <a:pt x="5114" y="5121"/>
                    </a:lnTo>
                    <a:close/>
                    <a:moveTo>
                      <a:pt x="5008" y="5013"/>
                    </a:moveTo>
                    <a:lnTo>
                      <a:pt x="4991" y="5029"/>
                    </a:lnTo>
                    <a:lnTo>
                      <a:pt x="5064" y="5105"/>
                    </a:lnTo>
                    <a:lnTo>
                      <a:pt x="5081" y="5088"/>
                    </a:lnTo>
                    <a:lnTo>
                      <a:pt x="5008" y="5013"/>
                    </a:lnTo>
                    <a:close/>
                    <a:moveTo>
                      <a:pt x="4596" y="4601"/>
                    </a:moveTo>
                    <a:lnTo>
                      <a:pt x="4580" y="4618"/>
                    </a:lnTo>
                    <a:lnTo>
                      <a:pt x="4975" y="5013"/>
                    </a:lnTo>
                    <a:lnTo>
                      <a:pt x="4991" y="4996"/>
                    </a:lnTo>
                    <a:lnTo>
                      <a:pt x="4596" y="4601"/>
                    </a:lnTo>
                    <a:close/>
                    <a:moveTo>
                      <a:pt x="4507" y="4512"/>
                    </a:moveTo>
                    <a:lnTo>
                      <a:pt x="4490" y="4528"/>
                    </a:lnTo>
                    <a:lnTo>
                      <a:pt x="4563" y="4601"/>
                    </a:lnTo>
                    <a:lnTo>
                      <a:pt x="4580" y="4585"/>
                    </a:lnTo>
                    <a:lnTo>
                      <a:pt x="4507" y="4512"/>
                    </a:lnTo>
                    <a:close/>
                    <a:moveTo>
                      <a:pt x="4398" y="4405"/>
                    </a:moveTo>
                    <a:lnTo>
                      <a:pt x="4381" y="4422"/>
                    </a:lnTo>
                    <a:lnTo>
                      <a:pt x="4457" y="4495"/>
                    </a:lnTo>
                    <a:lnTo>
                      <a:pt x="4473" y="4478"/>
                    </a:lnTo>
                    <a:lnTo>
                      <a:pt x="4398" y="4405"/>
                    </a:lnTo>
                    <a:close/>
                    <a:moveTo>
                      <a:pt x="3989" y="3994"/>
                    </a:moveTo>
                    <a:lnTo>
                      <a:pt x="3972" y="4010"/>
                    </a:lnTo>
                    <a:lnTo>
                      <a:pt x="4365" y="4405"/>
                    </a:lnTo>
                    <a:lnTo>
                      <a:pt x="4381" y="4386"/>
                    </a:lnTo>
                    <a:lnTo>
                      <a:pt x="3989" y="3994"/>
                    </a:lnTo>
                    <a:close/>
                    <a:moveTo>
                      <a:pt x="3897" y="3902"/>
                    </a:moveTo>
                    <a:lnTo>
                      <a:pt x="3880" y="3918"/>
                    </a:lnTo>
                    <a:lnTo>
                      <a:pt x="3954" y="3994"/>
                    </a:lnTo>
                    <a:lnTo>
                      <a:pt x="3972" y="3977"/>
                    </a:lnTo>
                    <a:lnTo>
                      <a:pt x="3897" y="3902"/>
                    </a:lnTo>
                    <a:close/>
                    <a:moveTo>
                      <a:pt x="3790" y="3795"/>
                    </a:moveTo>
                    <a:lnTo>
                      <a:pt x="3774" y="3812"/>
                    </a:lnTo>
                    <a:lnTo>
                      <a:pt x="3847" y="3885"/>
                    </a:lnTo>
                    <a:lnTo>
                      <a:pt x="3864" y="3869"/>
                    </a:lnTo>
                    <a:lnTo>
                      <a:pt x="3790" y="3795"/>
                    </a:lnTo>
                    <a:close/>
                    <a:moveTo>
                      <a:pt x="3379" y="3384"/>
                    </a:moveTo>
                    <a:lnTo>
                      <a:pt x="3363" y="3401"/>
                    </a:lnTo>
                    <a:lnTo>
                      <a:pt x="3757" y="3795"/>
                    </a:lnTo>
                    <a:lnTo>
                      <a:pt x="3774" y="3779"/>
                    </a:lnTo>
                    <a:lnTo>
                      <a:pt x="3379" y="3384"/>
                    </a:lnTo>
                    <a:close/>
                    <a:moveTo>
                      <a:pt x="3289" y="3294"/>
                    </a:moveTo>
                    <a:lnTo>
                      <a:pt x="3273" y="3311"/>
                    </a:lnTo>
                    <a:lnTo>
                      <a:pt x="3346" y="3384"/>
                    </a:lnTo>
                    <a:lnTo>
                      <a:pt x="3363" y="3368"/>
                    </a:lnTo>
                    <a:lnTo>
                      <a:pt x="3289" y="3294"/>
                    </a:lnTo>
                    <a:close/>
                    <a:moveTo>
                      <a:pt x="3181" y="3186"/>
                    </a:moveTo>
                    <a:lnTo>
                      <a:pt x="3164" y="3202"/>
                    </a:lnTo>
                    <a:lnTo>
                      <a:pt x="3240" y="3275"/>
                    </a:lnTo>
                    <a:lnTo>
                      <a:pt x="3256" y="3259"/>
                    </a:lnTo>
                    <a:lnTo>
                      <a:pt x="3181" y="3186"/>
                    </a:lnTo>
                    <a:close/>
                    <a:moveTo>
                      <a:pt x="2772" y="2774"/>
                    </a:moveTo>
                    <a:lnTo>
                      <a:pt x="2755" y="2791"/>
                    </a:lnTo>
                    <a:lnTo>
                      <a:pt x="3148" y="3186"/>
                    </a:lnTo>
                    <a:lnTo>
                      <a:pt x="3164" y="3169"/>
                    </a:lnTo>
                    <a:lnTo>
                      <a:pt x="2772" y="2774"/>
                    </a:lnTo>
                    <a:close/>
                    <a:moveTo>
                      <a:pt x="2680" y="2685"/>
                    </a:moveTo>
                    <a:lnTo>
                      <a:pt x="2663" y="2701"/>
                    </a:lnTo>
                    <a:lnTo>
                      <a:pt x="2736" y="2774"/>
                    </a:lnTo>
                    <a:lnTo>
                      <a:pt x="2755" y="2758"/>
                    </a:lnTo>
                    <a:lnTo>
                      <a:pt x="2680" y="2685"/>
                    </a:lnTo>
                    <a:close/>
                    <a:moveTo>
                      <a:pt x="2573" y="2576"/>
                    </a:moveTo>
                    <a:lnTo>
                      <a:pt x="2557" y="2592"/>
                    </a:lnTo>
                    <a:lnTo>
                      <a:pt x="2630" y="2668"/>
                    </a:lnTo>
                    <a:lnTo>
                      <a:pt x="2647" y="2651"/>
                    </a:lnTo>
                    <a:lnTo>
                      <a:pt x="2573" y="2576"/>
                    </a:lnTo>
                    <a:close/>
                    <a:moveTo>
                      <a:pt x="2162" y="2165"/>
                    </a:moveTo>
                    <a:lnTo>
                      <a:pt x="2146" y="2181"/>
                    </a:lnTo>
                    <a:lnTo>
                      <a:pt x="2540" y="2576"/>
                    </a:lnTo>
                    <a:lnTo>
                      <a:pt x="2557" y="2559"/>
                    </a:lnTo>
                    <a:lnTo>
                      <a:pt x="2162" y="2165"/>
                    </a:lnTo>
                    <a:close/>
                    <a:moveTo>
                      <a:pt x="2072" y="2075"/>
                    </a:moveTo>
                    <a:lnTo>
                      <a:pt x="2056" y="2091"/>
                    </a:lnTo>
                    <a:lnTo>
                      <a:pt x="2129" y="2165"/>
                    </a:lnTo>
                    <a:lnTo>
                      <a:pt x="2146" y="2148"/>
                    </a:lnTo>
                    <a:lnTo>
                      <a:pt x="2072" y="2075"/>
                    </a:lnTo>
                    <a:close/>
                    <a:moveTo>
                      <a:pt x="1964" y="1966"/>
                    </a:moveTo>
                    <a:lnTo>
                      <a:pt x="1947" y="1985"/>
                    </a:lnTo>
                    <a:lnTo>
                      <a:pt x="2023" y="2058"/>
                    </a:lnTo>
                    <a:lnTo>
                      <a:pt x="2039" y="2042"/>
                    </a:lnTo>
                    <a:lnTo>
                      <a:pt x="1964" y="1966"/>
                    </a:lnTo>
                    <a:close/>
                    <a:moveTo>
                      <a:pt x="1555" y="1557"/>
                    </a:moveTo>
                    <a:lnTo>
                      <a:pt x="1538" y="1574"/>
                    </a:lnTo>
                    <a:lnTo>
                      <a:pt x="1931" y="1966"/>
                    </a:lnTo>
                    <a:lnTo>
                      <a:pt x="1947" y="1949"/>
                    </a:lnTo>
                    <a:lnTo>
                      <a:pt x="1555" y="1557"/>
                    </a:lnTo>
                    <a:close/>
                    <a:moveTo>
                      <a:pt x="1463" y="1465"/>
                    </a:moveTo>
                    <a:lnTo>
                      <a:pt x="1446" y="1481"/>
                    </a:lnTo>
                    <a:lnTo>
                      <a:pt x="1519" y="1557"/>
                    </a:lnTo>
                    <a:lnTo>
                      <a:pt x="1538" y="1538"/>
                    </a:lnTo>
                    <a:lnTo>
                      <a:pt x="1463" y="1465"/>
                    </a:lnTo>
                    <a:close/>
                    <a:moveTo>
                      <a:pt x="1356" y="1359"/>
                    </a:moveTo>
                    <a:lnTo>
                      <a:pt x="1340" y="1375"/>
                    </a:lnTo>
                    <a:lnTo>
                      <a:pt x="1413" y="1448"/>
                    </a:lnTo>
                    <a:lnTo>
                      <a:pt x="1429" y="1432"/>
                    </a:lnTo>
                    <a:lnTo>
                      <a:pt x="1356" y="1359"/>
                    </a:lnTo>
                    <a:close/>
                    <a:moveTo>
                      <a:pt x="945" y="947"/>
                    </a:moveTo>
                    <a:lnTo>
                      <a:pt x="928" y="964"/>
                    </a:lnTo>
                    <a:lnTo>
                      <a:pt x="1323" y="1359"/>
                    </a:lnTo>
                    <a:lnTo>
                      <a:pt x="1340" y="1342"/>
                    </a:lnTo>
                    <a:lnTo>
                      <a:pt x="945" y="947"/>
                    </a:lnTo>
                    <a:close/>
                    <a:moveTo>
                      <a:pt x="855" y="855"/>
                    </a:moveTo>
                    <a:lnTo>
                      <a:pt x="839" y="874"/>
                    </a:lnTo>
                    <a:lnTo>
                      <a:pt x="912" y="947"/>
                    </a:lnTo>
                    <a:lnTo>
                      <a:pt x="928" y="931"/>
                    </a:lnTo>
                    <a:lnTo>
                      <a:pt x="855" y="855"/>
                    </a:lnTo>
                    <a:close/>
                    <a:moveTo>
                      <a:pt x="746" y="749"/>
                    </a:moveTo>
                    <a:lnTo>
                      <a:pt x="730" y="765"/>
                    </a:lnTo>
                    <a:lnTo>
                      <a:pt x="806" y="839"/>
                    </a:lnTo>
                    <a:lnTo>
                      <a:pt x="822" y="822"/>
                    </a:lnTo>
                    <a:lnTo>
                      <a:pt x="746" y="749"/>
                    </a:lnTo>
                    <a:close/>
                    <a:moveTo>
                      <a:pt x="338" y="338"/>
                    </a:moveTo>
                    <a:lnTo>
                      <a:pt x="321" y="354"/>
                    </a:lnTo>
                    <a:lnTo>
                      <a:pt x="713" y="749"/>
                    </a:lnTo>
                    <a:lnTo>
                      <a:pt x="730" y="732"/>
                    </a:lnTo>
                    <a:lnTo>
                      <a:pt x="338" y="338"/>
                    </a:lnTo>
                    <a:close/>
                    <a:moveTo>
                      <a:pt x="245" y="248"/>
                    </a:moveTo>
                    <a:lnTo>
                      <a:pt x="229" y="264"/>
                    </a:lnTo>
                    <a:lnTo>
                      <a:pt x="302" y="338"/>
                    </a:lnTo>
                    <a:lnTo>
                      <a:pt x="321" y="321"/>
                    </a:lnTo>
                    <a:lnTo>
                      <a:pt x="245" y="248"/>
                    </a:lnTo>
                    <a:close/>
                    <a:moveTo>
                      <a:pt x="139" y="139"/>
                    </a:moveTo>
                    <a:lnTo>
                      <a:pt x="123" y="156"/>
                    </a:lnTo>
                    <a:lnTo>
                      <a:pt x="196" y="231"/>
                    </a:lnTo>
                    <a:lnTo>
                      <a:pt x="212" y="215"/>
                    </a:lnTo>
                    <a:lnTo>
                      <a:pt x="139" y="139"/>
                    </a:lnTo>
                    <a:close/>
                    <a:moveTo>
                      <a:pt x="0" y="0"/>
                    </a:moveTo>
                    <a:lnTo>
                      <a:pt x="0" y="35"/>
                    </a:lnTo>
                    <a:lnTo>
                      <a:pt x="106" y="139"/>
                    </a:lnTo>
                    <a:lnTo>
                      <a:pt x="123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5"/>
              <p:cNvSpPr/>
              <p:nvPr/>
            </p:nvSpPr>
            <p:spPr>
              <a:xfrm rot="5400000">
                <a:off x="2698920" y="-809640"/>
                <a:ext cx="6452280" cy="8071560"/>
              </a:xfrm>
              <a:custGeom>
                <a:avLst/>
                <a:gdLst>
                  <a:gd name="textAreaLeft" fmla="*/ 0 w 6452280"/>
                  <a:gd name="textAreaRight" fmla="*/ 6452640 w 6452280"/>
                  <a:gd name="textAreaTop" fmla="*/ 0 h 8071560"/>
                  <a:gd name="textAreaBottom" fmla="*/ 8071920 h 8071560"/>
                </a:gdLst>
                <a:ahLst/>
                <a:rect l="textAreaLeft" t="textAreaTop" r="textAreaRight" b="textAreaBottom"/>
                <a:pathLst>
                  <a:path w="5190" h="5211">
                    <a:moveTo>
                      <a:pt x="5114" y="5121"/>
                    </a:moveTo>
                    <a:lnTo>
                      <a:pt x="5097" y="5138"/>
                    </a:lnTo>
                    <a:lnTo>
                      <a:pt x="5171" y="5211"/>
                    </a:lnTo>
                    <a:lnTo>
                      <a:pt x="5190" y="5195"/>
                    </a:lnTo>
                    <a:lnTo>
                      <a:pt x="5114" y="5121"/>
                    </a:lnTo>
                    <a:moveTo>
                      <a:pt x="5008" y="5013"/>
                    </a:moveTo>
                    <a:lnTo>
                      <a:pt x="4991" y="5029"/>
                    </a:lnTo>
                    <a:lnTo>
                      <a:pt x="5064" y="5105"/>
                    </a:lnTo>
                    <a:lnTo>
                      <a:pt x="5081" y="5088"/>
                    </a:lnTo>
                    <a:lnTo>
                      <a:pt x="5008" y="5013"/>
                    </a:lnTo>
                    <a:moveTo>
                      <a:pt x="4596" y="4601"/>
                    </a:moveTo>
                    <a:lnTo>
                      <a:pt x="4580" y="4618"/>
                    </a:lnTo>
                    <a:lnTo>
                      <a:pt x="4975" y="5013"/>
                    </a:lnTo>
                    <a:lnTo>
                      <a:pt x="4991" y="4996"/>
                    </a:lnTo>
                    <a:lnTo>
                      <a:pt x="4596" y="4601"/>
                    </a:lnTo>
                    <a:moveTo>
                      <a:pt x="4507" y="4512"/>
                    </a:moveTo>
                    <a:lnTo>
                      <a:pt x="4490" y="4528"/>
                    </a:lnTo>
                    <a:lnTo>
                      <a:pt x="4563" y="4601"/>
                    </a:lnTo>
                    <a:lnTo>
                      <a:pt x="4580" y="4585"/>
                    </a:lnTo>
                    <a:lnTo>
                      <a:pt x="4507" y="4512"/>
                    </a:lnTo>
                    <a:moveTo>
                      <a:pt x="4398" y="4405"/>
                    </a:moveTo>
                    <a:lnTo>
                      <a:pt x="4381" y="4422"/>
                    </a:lnTo>
                    <a:lnTo>
                      <a:pt x="4457" y="4495"/>
                    </a:lnTo>
                    <a:lnTo>
                      <a:pt x="4473" y="4478"/>
                    </a:lnTo>
                    <a:lnTo>
                      <a:pt x="4398" y="4405"/>
                    </a:lnTo>
                    <a:moveTo>
                      <a:pt x="3989" y="3994"/>
                    </a:moveTo>
                    <a:lnTo>
                      <a:pt x="3972" y="4010"/>
                    </a:lnTo>
                    <a:lnTo>
                      <a:pt x="4365" y="4405"/>
                    </a:lnTo>
                    <a:lnTo>
                      <a:pt x="4381" y="4386"/>
                    </a:lnTo>
                    <a:lnTo>
                      <a:pt x="3989" y="3994"/>
                    </a:lnTo>
                    <a:moveTo>
                      <a:pt x="3897" y="3902"/>
                    </a:moveTo>
                    <a:lnTo>
                      <a:pt x="3880" y="3918"/>
                    </a:lnTo>
                    <a:lnTo>
                      <a:pt x="3954" y="3994"/>
                    </a:lnTo>
                    <a:lnTo>
                      <a:pt x="3972" y="3977"/>
                    </a:lnTo>
                    <a:lnTo>
                      <a:pt x="3897" y="3902"/>
                    </a:lnTo>
                    <a:moveTo>
                      <a:pt x="3790" y="3795"/>
                    </a:moveTo>
                    <a:lnTo>
                      <a:pt x="3774" y="3812"/>
                    </a:lnTo>
                    <a:lnTo>
                      <a:pt x="3847" y="3885"/>
                    </a:lnTo>
                    <a:lnTo>
                      <a:pt x="3864" y="3869"/>
                    </a:lnTo>
                    <a:lnTo>
                      <a:pt x="3790" y="3795"/>
                    </a:lnTo>
                    <a:moveTo>
                      <a:pt x="3379" y="3384"/>
                    </a:moveTo>
                    <a:lnTo>
                      <a:pt x="3363" y="3401"/>
                    </a:lnTo>
                    <a:lnTo>
                      <a:pt x="3757" y="3795"/>
                    </a:lnTo>
                    <a:lnTo>
                      <a:pt x="3774" y="3779"/>
                    </a:lnTo>
                    <a:lnTo>
                      <a:pt x="3379" y="3384"/>
                    </a:lnTo>
                    <a:moveTo>
                      <a:pt x="3289" y="3294"/>
                    </a:moveTo>
                    <a:lnTo>
                      <a:pt x="3273" y="3311"/>
                    </a:lnTo>
                    <a:lnTo>
                      <a:pt x="3346" y="3384"/>
                    </a:lnTo>
                    <a:lnTo>
                      <a:pt x="3363" y="3368"/>
                    </a:lnTo>
                    <a:lnTo>
                      <a:pt x="3289" y="3294"/>
                    </a:lnTo>
                    <a:moveTo>
                      <a:pt x="3181" y="3186"/>
                    </a:moveTo>
                    <a:lnTo>
                      <a:pt x="3164" y="3202"/>
                    </a:lnTo>
                    <a:lnTo>
                      <a:pt x="3240" y="3275"/>
                    </a:lnTo>
                    <a:lnTo>
                      <a:pt x="3256" y="3259"/>
                    </a:lnTo>
                    <a:lnTo>
                      <a:pt x="3181" y="3186"/>
                    </a:lnTo>
                    <a:moveTo>
                      <a:pt x="2772" y="2774"/>
                    </a:moveTo>
                    <a:lnTo>
                      <a:pt x="2755" y="2791"/>
                    </a:lnTo>
                    <a:lnTo>
                      <a:pt x="3148" y="3186"/>
                    </a:lnTo>
                    <a:lnTo>
                      <a:pt x="3164" y="3169"/>
                    </a:lnTo>
                    <a:lnTo>
                      <a:pt x="2772" y="2774"/>
                    </a:lnTo>
                    <a:moveTo>
                      <a:pt x="2680" y="2685"/>
                    </a:moveTo>
                    <a:lnTo>
                      <a:pt x="2663" y="2701"/>
                    </a:lnTo>
                    <a:lnTo>
                      <a:pt x="2736" y="2774"/>
                    </a:lnTo>
                    <a:lnTo>
                      <a:pt x="2755" y="2758"/>
                    </a:lnTo>
                    <a:lnTo>
                      <a:pt x="2680" y="2685"/>
                    </a:lnTo>
                    <a:moveTo>
                      <a:pt x="2573" y="2576"/>
                    </a:moveTo>
                    <a:lnTo>
                      <a:pt x="2557" y="2592"/>
                    </a:lnTo>
                    <a:lnTo>
                      <a:pt x="2630" y="2668"/>
                    </a:lnTo>
                    <a:lnTo>
                      <a:pt x="2647" y="2651"/>
                    </a:lnTo>
                    <a:lnTo>
                      <a:pt x="2573" y="2576"/>
                    </a:lnTo>
                    <a:moveTo>
                      <a:pt x="2162" y="2165"/>
                    </a:moveTo>
                    <a:lnTo>
                      <a:pt x="2146" y="2181"/>
                    </a:lnTo>
                    <a:lnTo>
                      <a:pt x="2540" y="2576"/>
                    </a:lnTo>
                    <a:lnTo>
                      <a:pt x="2557" y="2559"/>
                    </a:lnTo>
                    <a:lnTo>
                      <a:pt x="2162" y="2165"/>
                    </a:lnTo>
                    <a:moveTo>
                      <a:pt x="2072" y="2075"/>
                    </a:moveTo>
                    <a:lnTo>
                      <a:pt x="2056" y="2091"/>
                    </a:lnTo>
                    <a:lnTo>
                      <a:pt x="2129" y="2165"/>
                    </a:lnTo>
                    <a:lnTo>
                      <a:pt x="2146" y="2148"/>
                    </a:lnTo>
                    <a:lnTo>
                      <a:pt x="2072" y="2075"/>
                    </a:lnTo>
                    <a:moveTo>
                      <a:pt x="1964" y="1966"/>
                    </a:moveTo>
                    <a:lnTo>
                      <a:pt x="1947" y="1985"/>
                    </a:lnTo>
                    <a:lnTo>
                      <a:pt x="2023" y="2058"/>
                    </a:lnTo>
                    <a:lnTo>
                      <a:pt x="2039" y="2042"/>
                    </a:lnTo>
                    <a:lnTo>
                      <a:pt x="1964" y="1966"/>
                    </a:lnTo>
                    <a:moveTo>
                      <a:pt x="1555" y="1557"/>
                    </a:moveTo>
                    <a:lnTo>
                      <a:pt x="1538" y="1574"/>
                    </a:lnTo>
                    <a:lnTo>
                      <a:pt x="1931" y="1966"/>
                    </a:lnTo>
                    <a:lnTo>
                      <a:pt x="1947" y="1949"/>
                    </a:lnTo>
                    <a:lnTo>
                      <a:pt x="1555" y="1557"/>
                    </a:lnTo>
                    <a:moveTo>
                      <a:pt x="1463" y="1465"/>
                    </a:moveTo>
                    <a:lnTo>
                      <a:pt x="1446" y="1481"/>
                    </a:lnTo>
                    <a:lnTo>
                      <a:pt x="1519" y="1557"/>
                    </a:lnTo>
                    <a:lnTo>
                      <a:pt x="1538" y="1538"/>
                    </a:lnTo>
                    <a:lnTo>
                      <a:pt x="1463" y="1465"/>
                    </a:lnTo>
                    <a:moveTo>
                      <a:pt x="1356" y="1359"/>
                    </a:moveTo>
                    <a:lnTo>
                      <a:pt x="1340" y="1375"/>
                    </a:lnTo>
                    <a:lnTo>
                      <a:pt x="1413" y="1448"/>
                    </a:lnTo>
                    <a:lnTo>
                      <a:pt x="1429" y="1432"/>
                    </a:lnTo>
                    <a:lnTo>
                      <a:pt x="1356" y="1359"/>
                    </a:lnTo>
                    <a:moveTo>
                      <a:pt x="945" y="947"/>
                    </a:moveTo>
                    <a:lnTo>
                      <a:pt x="928" y="964"/>
                    </a:lnTo>
                    <a:lnTo>
                      <a:pt x="1323" y="1359"/>
                    </a:lnTo>
                    <a:lnTo>
                      <a:pt x="1340" y="1342"/>
                    </a:lnTo>
                    <a:lnTo>
                      <a:pt x="945" y="947"/>
                    </a:lnTo>
                    <a:moveTo>
                      <a:pt x="855" y="855"/>
                    </a:moveTo>
                    <a:lnTo>
                      <a:pt x="839" y="874"/>
                    </a:lnTo>
                    <a:lnTo>
                      <a:pt x="912" y="947"/>
                    </a:lnTo>
                    <a:lnTo>
                      <a:pt x="928" y="931"/>
                    </a:lnTo>
                    <a:lnTo>
                      <a:pt x="855" y="855"/>
                    </a:lnTo>
                    <a:moveTo>
                      <a:pt x="746" y="749"/>
                    </a:moveTo>
                    <a:lnTo>
                      <a:pt x="730" y="765"/>
                    </a:lnTo>
                    <a:lnTo>
                      <a:pt x="806" y="839"/>
                    </a:lnTo>
                    <a:lnTo>
                      <a:pt x="822" y="822"/>
                    </a:lnTo>
                    <a:lnTo>
                      <a:pt x="746" y="749"/>
                    </a:lnTo>
                    <a:moveTo>
                      <a:pt x="338" y="338"/>
                    </a:moveTo>
                    <a:lnTo>
                      <a:pt x="321" y="354"/>
                    </a:lnTo>
                    <a:lnTo>
                      <a:pt x="713" y="749"/>
                    </a:lnTo>
                    <a:lnTo>
                      <a:pt x="730" y="732"/>
                    </a:lnTo>
                    <a:lnTo>
                      <a:pt x="338" y="338"/>
                    </a:lnTo>
                    <a:moveTo>
                      <a:pt x="245" y="248"/>
                    </a:moveTo>
                    <a:lnTo>
                      <a:pt x="229" y="264"/>
                    </a:lnTo>
                    <a:lnTo>
                      <a:pt x="302" y="338"/>
                    </a:lnTo>
                    <a:lnTo>
                      <a:pt x="321" y="321"/>
                    </a:lnTo>
                    <a:lnTo>
                      <a:pt x="245" y="248"/>
                    </a:lnTo>
                    <a:moveTo>
                      <a:pt x="139" y="139"/>
                    </a:moveTo>
                    <a:lnTo>
                      <a:pt x="123" y="156"/>
                    </a:lnTo>
                    <a:lnTo>
                      <a:pt x="196" y="231"/>
                    </a:lnTo>
                    <a:lnTo>
                      <a:pt x="212" y="215"/>
                    </a:lnTo>
                    <a:lnTo>
                      <a:pt x="139" y="139"/>
                    </a:lnTo>
                    <a:moveTo>
                      <a:pt x="0" y="0"/>
                    </a:moveTo>
                    <a:lnTo>
                      <a:pt x="0" y="35"/>
                    </a:lnTo>
                    <a:lnTo>
                      <a:pt x="106" y="139"/>
                    </a:lnTo>
                    <a:lnTo>
                      <a:pt x="123" y="1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6"/>
              <p:cNvSpPr/>
              <p:nvPr/>
            </p:nvSpPr>
            <p:spPr>
              <a:xfrm rot="5400000">
                <a:off x="1419480" y="6387840"/>
                <a:ext cx="405360" cy="534240"/>
              </a:xfrm>
              <a:custGeom>
                <a:avLst/>
                <a:gdLst>
                  <a:gd name="textAreaLeft" fmla="*/ 0 w 405360"/>
                  <a:gd name="textAreaRight" fmla="*/ 405720 w 405360"/>
                  <a:gd name="textAreaTop" fmla="*/ 0 h 534240"/>
                  <a:gd name="textAreaBottom" fmla="*/ 534240 h 534240"/>
                </a:gdLst>
                <a:ahLst/>
                <a:rect l="textAreaLeft" t="textAreaTop" r="textAreaRight" b="textAreaBottom"/>
                <a:pathLst>
                  <a:path w="326" h="345">
                    <a:moveTo>
                      <a:pt x="16" y="0"/>
                    </a:moveTo>
                    <a:lnTo>
                      <a:pt x="0" y="17"/>
                    </a:lnTo>
                    <a:lnTo>
                      <a:pt x="326" y="345"/>
                    </a:lnTo>
                    <a:lnTo>
                      <a:pt x="326" y="31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7"/>
              <p:cNvSpPr/>
              <p:nvPr/>
            </p:nvSpPr>
            <p:spPr>
              <a:xfrm rot="5400000">
                <a:off x="1419480" y="6387840"/>
                <a:ext cx="405360" cy="534240"/>
              </a:xfrm>
              <a:custGeom>
                <a:avLst/>
                <a:gdLst>
                  <a:gd name="textAreaLeft" fmla="*/ 0 w 405360"/>
                  <a:gd name="textAreaRight" fmla="*/ 405720 w 405360"/>
                  <a:gd name="textAreaTop" fmla="*/ 0 h 534240"/>
                  <a:gd name="textAreaBottom" fmla="*/ 534240 h 534240"/>
                </a:gdLst>
                <a:ahLst/>
                <a:rect l="textAreaLeft" t="textAreaTop" r="textAreaRight" b="textAreaBottom"/>
                <a:pathLst>
                  <a:path w="326" h="345">
                    <a:moveTo>
                      <a:pt x="16" y="0"/>
                    </a:moveTo>
                    <a:lnTo>
                      <a:pt x="0" y="17"/>
                    </a:lnTo>
                    <a:lnTo>
                      <a:pt x="326" y="345"/>
                    </a:lnTo>
                    <a:lnTo>
                      <a:pt x="326" y="31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8"/>
              <p:cNvSpPr/>
              <p:nvPr/>
            </p:nvSpPr>
            <p:spPr>
              <a:xfrm rot="5400000">
                <a:off x="9559440" y="2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9"/>
              <p:cNvSpPr/>
              <p:nvPr/>
            </p:nvSpPr>
            <p:spPr>
              <a:xfrm rot="5400000">
                <a:off x="9559440" y="2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50"/>
              <p:cNvSpPr/>
              <p:nvPr/>
            </p:nvSpPr>
            <p:spPr>
              <a:xfrm rot="5400000">
                <a:off x="8617320" y="9918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51"/>
              <p:cNvSpPr/>
              <p:nvPr/>
            </p:nvSpPr>
            <p:spPr>
              <a:xfrm rot="5400000">
                <a:off x="8617320" y="9918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52"/>
              <p:cNvSpPr/>
              <p:nvPr/>
            </p:nvSpPr>
            <p:spPr>
              <a:xfrm rot="5400000">
                <a:off x="7674480" y="17499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53"/>
              <p:cNvSpPr/>
              <p:nvPr/>
            </p:nvSpPr>
            <p:spPr>
              <a:xfrm rot="5400000">
                <a:off x="7674480" y="17499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54"/>
              <p:cNvSpPr/>
              <p:nvPr/>
            </p:nvSpPr>
            <p:spPr>
              <a:xfrm rot="5400000">
                <a:off x="6729840" y="25074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55"/>
              <p:cNvSpPr/>
              <p:nvPr/>
            </p:nvSpPr>
            <p:spPr>
              <a:xfrm rot="5400000">
                <a:off x="6729840" y="25074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56"/>
              <p:cNvSpPr/>
              <p:nvPr/>
            </p:nvSpPr>
            <p:spPr>
              <a:xfrm rot="5400000">
                <a:off x="5785200" y="32623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57"/>
              <p:cNvSpPr/>
              <p:nvPr/>
            </p:nvSpPr>
            <p:spPr>
              <a:xfrm rot="5400000">
                <a:off x="5785200" y="32623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58"/>
              <p:cNvSpPr/>
              <p:nvPr/>
            </p:nvSpPr>
            <p:spPr>
              <a:xfrm rot="5400000">
                <a:off x="4842360" y="401868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49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9"/>
              <p:cNvSpPr/>
              <p:nvPr/>
            </p:nvSpPr>
            <p:spPr>
              <a:xfrm rot="5400000">
                <a:off x="4842360" y="401868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49" y="35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0"/>
              <p:cNvSpPr/>
              <p:nvPr/>
            </p:nvSpPr>
            <p:spPr>
              <a:xfrm rot="5400000">
                <a:off x="3898800" y="477576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61"/>
              <p:cNvSpPr/>
              <p:nvPr/>
            </p:nvSpPr>
            <p:spPr>
              <a:xfrm rot="5400000">
                <a:off x="3898800" y="477576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62"/>
              <p:cNvSpPr/>
              <p:nvPr/>
            </p:nvSpPr>
            <p:spPr>
              <a:xfrm rot="5400000">
                <a:off x="2955240" y="553356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63"/>
              <p:cNvSpPr/>
              <p:nvPr/>
            </p:nvSpPr>
            <p:spPr>
              <a:xfrm rot="5400000">
                <a:off x="2955240" y="553356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64"/>
              <p:cNvSpPr/>
              <p:nvPr/>
            </p:nvSpPr>
            <p:spPr>
              <a:xfrm rot="5400000">
                <a:off x="2010240" y="628812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65"/>
              <p:cNvSpPr/>
              <p:nvPr/>
            </p:nvSpPr>
            <p:spPr>
              <a:xfrm rot="5400000">
                <a:off x="2010240" y="628812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66"/>
              <p:cNvSpPr/>
              <p:nvPr/>
            </p:nvSpPr>
            <p:spPr>
              <a:xfrm rot="5400000">
                <a:off x="9416160" y="371880"/>
                <a:ext cx="44280" cy="51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6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67"/>
              <p:cNvSpPr/>
              <p:nvPr/>
            </p:nvSpPr>
            <p:spPr>
              <a:xfrm rot="5400000">
                <a:off x="9416160" y="371880"/>
                <a:ext cx="44280" cy="51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6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8"/>
              <p:cNvSpPr/>
              <p:nvPr/>
            </p:nvSpPr>
            <p:spPr>
              <a:xfrm rot="5400000">
                <a:off x="8472960" y="11282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69"/>
              <p:cNvSpPr/>
              <p:nvPr/>
            </p:nvSpPr>
            <p:spPr>
              <a:xfrm rot="5400000">
                <a:off x="8472960" y="11282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70"/>
              <p:cNvSpPr/>
              <p:nvPr/>
            </p:nvSpPr>
            <p:spPr>
              <a:xfrm rot="5400000">
                <a:off x="7528320" y="1882440"/>
                <a:ext cx="44640" cy="558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19" y="0"/>
                    </a:moveTo>
                    <a:lnTo>
                      <a:pt x="0" y="19"/>
                    </a:lnTo>
                    <a:lnTo>
                      <a:pt x="19" y="36"/>
                    </a:lnTo>
                    <a:lnTo>
                      <a:pt x="36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71"/>
              <p:cNvSpPr/>
              <p:nvPr/>
            </p:nvSpPr>
            <p:spPr>
              <a:xfrm rot="5400000">
                <a:off x="7528320" y="1882440"/>
                <a:ext cx="44640" cy="558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19" y="0"/>
                    </a:moveTo>
                    <a:lnTo>
                      <a:pt x="0" y="19"/>
                    </a:lnTo>
                    <a:lnTo>
                      <a:pt x="19" y="36"/>
                    </a:lnTo>
                    <a:lnTo>
                      <a:pt x="36" y="19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72"/>
              <p:cNvSpPr/>
              <p:nvPr/>
            </p:nvSpPr>
            <p:spPr>
              <a:xfrm rot="5400000">
                <a:off x="6587640" y="2641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73"/>
              <p:cNvSpPr/>
              <p:nvPr/>
            </p:nvSpPr>
            <p:spPr>
              <a:xfrm rot="5400000">
                <a:off x="6587640" y="2641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74"/>
              <p:cNvSpPr/>
              <p:nvPr/>
            </p:nvSpPr>
            <p:spPr>
              <a:xfrm rot="5400000">
                <a:off x="5641200" y="3398400"/>
                <a:ext cx="44640" cy="50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6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75"/>
              <p:cNvSpPr/>
              <p:nvPr/>
            </p:nvSpPr>
            <p:spPr>
              <a:xfrm rot="5400000">
                <a:off x="5641200" y="3398400"/>
                <a:ext cx="44640" cy="50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6" y="1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76"/>
              <p:cNvSpPr/>
              <p:nvPr/>
            </p:nvSpPr>
            <p:spPr>
              <a:xfrm rot="5400000">
                <a:off x="4698360" y="41547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77"/>
              <p:cNvSpPr/>
              <p:nvPr/>
            </p:nvSpPr>
            <p:spPr>
              <a:xfrm rot="5400000">
                <a:off x="4698360" y="41547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78"/>
              <p:cNvSpPr/>
              <p:nvPr/>
            </p:nvSpPr>
            <p:spPr>
              <a:xfrm rot="5400000">
                <a:off x="3753720" y="491184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7"/>
                    </a:lnTo>
                    <a:lnTo>
                      <a:pt x="18" y="33"/>
                    </a:lnTo>
                    <a:lnTo>
                      <a:pt x="35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79"/>
              <p:cNvSpPr/>
              <p:nvPr/>
            </p:nvSpPr>
            <p:spPr>
              <a:xfrm rot="5400000">
                <a:off x="3753720" y="491184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7"/>
                    </a:lnTo>
                    <a:lnTo>
                      <a:pt x="18" y="33"/>
                    </a:lnTo>
                    <a:lnTo>
                      <a:pt x="35" y="17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80"/>
              <p:cNvSpPr/>
              <p:nvPr/>
            </p:nvSpPr>
            <p:spPr>
              <a:xfrm rot="5400000">
                <a:off x="2813040" y="5667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81"/>
              <p:cNvSpPr/>
              <p:nvPr/>
            </p:nvSpPr>
            <p:spPr>
              <a:xfrm rot="5400000">
                <a:off x="2813040" y="5667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82"/>
              <p:cNvSpPr/>
              <p:nvPr/>
            </p:nvSpPr>
            <p:spPr>
              <a:xfrm rot="5400000">
                <a:off x="1866960" y="642492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5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83"/>
              <p:cNvSpPr/>
              <p:nvPr/>
            </p:nvSpPr>
            <p:spPr>
              <a:xfrm rot="5400000">
                <a:off x="1866960" y="642492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5" y="1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84"/>
              <p:cNvSpPr/>
              <p:nvPr/>
            </p:nvSpPr>
            <p:spPr>
              <a:xfrm rot="5400000">
                <a:off x="9725040" y="12564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85"/>
              <p:cNvSpPr/>
              <p:nvPr/>
            </p:nvSpPr>
            <p:spPr>
              <a:xfrm rot="5400000">
                <a:off x="9725040" y="12564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86"/>
              <p:cNvSpPr/>
              <p:nvPr/>
            </p:nvSpPr>
            <p:spPr>
              <a:xfrm rot="5400000">
                <a:off x="8781120" y="8812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87"/>
              <p:cNvSpPr/>
              <p:nvPr/>
            </p:nvSpPr>
            <p:spPr>
              <a:xfrm rot="5400000">
                <a:off x="8781120" y="8812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88"/>
              <p:cNvSpPr/>
              <p:nvPr/>
            </p:nvSpPr>
            <p:spPr>
              <a:xfrm rot="5400000">
                <a:off x="7836480" y="16398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89"/>
              <p:cNvSpPr/>
              <p:nvPr/>
            </p:nvSpPr>
            <p:spPr>
              <a:xfrm rot="5400000">
                <a:off x="7836480" y="16398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90"/>
              <p:cNvSpPr/>
              <p:nvPr/>
            </p:nvSpPr>
            <p:spPr>
              <a:xfrm rot="5400000">
                <a:off x="6893640" y="239292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7"/>
                    </a:lnTo>
                    <a:lnTo>
                      <a:pt x="16" y="36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91"/>
              <p:cNvSpPr/>
              <p:nvPr/>
            </p:nvSpPr>
            <p:spPr>
              <a:xfrm rot="5400000">
                <a:off x="6893640" y="239292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7"/>
                    </a:lnTo>
                    <a:lnTo>
                      <a:pt x="16" y="36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92"/>
              <p:cNvSpPr/>
              <p:nvPr/>
            </p:nvSpPr>
            <p:spPr>
              <a:xfrm rot="5400000">
                <a:off x="5951160" y="31525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93"/>
              <p:cNvSpPr/>
              <p:nvPr/>
            </p:nvSpPr>
            <p:spPr>
              <a:xfrm rot="5400000">
                <a:off x="5951160" y="31525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4"/>
              <p:cNvSpPr/>
              <p:nvPr/>
            </p:nvSpPr>
            <p:spPr>
              <a:xfrm rot="5400000">
                <a:off x="5006520" y="39085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95"/>
              <p:cNvSpPr/>
              <p:nvPr/>
            </p:nvSpPr>
            <p:spPr>
              <a:xfrm rot="5400000">
                <a:off x="5006520" y="39085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96"/>
              <p:cNvSpPr/>
              <p:nvPr/>
            </p:nvSpPr>
            <p:spPr>
              <a:xfrm rot="5400000">
                <a:off x="4061520" y="46659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97"/>
              <p:cNvSpPr/>
              <p:nvPr/>
            </p:nvSpPr>
            <p:spPr>
              <a:xfrm rot="5400000">
                <a:off x="4061520" y="46659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98"/>
              <p:cNvSpPr/>
              <p:nvPr/>
            </p:nvSpPr>
            <p:spPr>
              <a:xfrm rot="5400000">
                <a:off x="3119040" y="5419440"/>
                <a:ext cx="41040" cy="55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99"/>
              <p:cNvSpPr/>
              <p:nvPr/>
            </p:nvSpPr>
            <p:spPr>
              <a:xfrm rot="5400000">
                <a:off x="3119040" y="5419440"/>
                <a:ext cx="41040" cy="55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00"/>
              <p:cNvSpPr/>
              <p:nvPr/>
            </p:nvSpPr>
            <p:spPr>
              <a:xfrm rot="5400000">
                <a:off x="2176200" y="618012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01"/>
              <p:cNvSpPr/>
              <p:nvPr/>
            </p:nvSpPr>
            <p:spPr>
              <a:xfrm rot="5400000">
                <a:off x="2176200" y="618012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02"/>
              <p:cNvSpPr/>
              <p:nvPr/>
            </p:nvSpPr>
            <p:spPr>
              <a:xfrm rot="5400000">
                <a:off x="799920" y="-800280"/>
                <a:ext cx="6472440" cy="8073360"/>
              </a:xfrm>
              <a:custGeom>
                <a:avLst/>
                <a:gdLst>
                  <a:gd name="textAreaLeft" fmla="*/ 0 w 6472440"/>
                  <a:gd name="textAreaRight" fmla="*/ 6472800 w 6472440"/>
                  <a:gd name="textAreaTop" fmla="*/ 0 h 8073360"/>
                  <a:gd name="textAreaBottom" fmla="*/ 8073720 h 8073360"/>
                </a:gdLst>
                <a:ahLst/>
                <a:rect l="textAreaLeft" t="textAreaTop" r="textAreaRight" b="textAreaBottom"/>
                <a:pathLst>
                  <a:path w="5206" h="5212">
                    <a:moveTo>
                      <a:pt x="5204" y="5209"/>
                    </a:moveTo>
                    <a:lnTo>
                      <a:pt x="5204" y="5212"/>
                    </a:lnTo>
                    <a:lnTo>
                      <a:pt x="5206" y="5212"/>
                    </a:lnTo>
                    <a:lnTo>
                      <a:pt x="5204" y="5209"/>
                    </a:lnTo>
                    <a:close/>
                    <a:moveTo>
                      <a:pt x="5114" y="5120"/>
                    </a:moveTo>
                    <a:lnTo>
                      <a:pt x="5097" y="5136"/>
                    </a:lnTo>
                    <a:lnTo>
                      <a:pt x="5171" y="5209"/>
                    </a:lnTo>
                    <a:lnTo>
                      <a:pt x="5187" y="5193"/>
                    </a:lnTo>
                    <a:lnTo>
                      <a:pt x="5114" y="5120"/>
                    </a:lnTo>
                    <a:close/>
                    <a:moveTo>
                      <a:pt x="5008" y="5013"/>
                    </a:moveTo>
                    <a:lnTo>
                      <a:pt x="4991" y="5030"/>
                    </a:lnTo>
                    <a:lnTo>
                      <a:pt x="5064" y="5103"/>
                    </a:lnTo>
                    <a:lnTo>
                      <a:pt x="5081" y="5086"/>
                    </a:lnTo>
                    <a:lnTo>
                      <a:pt x="5008" y="5013"/>
                    </a:lnTo>
                    <a:close/>
                    <a:moveTo>
                      <a:pt x="4596" y="4602"/>
                    </a:moveTo>
                    <a:lnTo>
                      <a:pt x="4580" y="4618"/>
                    </a:lnTo>
                    <a:lnTo>
                      <a:pt x="4972" y="5013"/>
                    </a:lnTo>
                    <a:lnTo>
                      <a:pt x="4991" y="4997"/>
                    </a:lnTo>
                    <a:lnTo>
                      <a:pt x="4596" y="4602"/>
                    </a:lnTo>
                    <a:close/>
                    <a:moveTo>
                      <a:pt x="4507" y="4510"/>
                    </a:moveTo>
                    <a:lnTo>
                      <a:pt x="4490" y="4526"/>
                    </a:lnTo>
                    <a:lnTo>
                      <a:pt x="4563" y="4602"/>
                    </a:lnTo>
                    <a:lnTo>
                      <a:pt x="4580" y="4585"/>
                    </a:lnTo>
                    <a:lnTo>
                      <a:pt x="4507" y="4510"/>
                    </a:lnTo>
                    <a:close/>
                    <a:moveTo>
                      <a:pt x="4398" y="4403"/>
                    </a:moveTo>
                    <a:lnTo>
                      <a:pt x="4381" y="4420"/>
                    </a:lnTo>
                    <a:lnTo>
                      <a:pt x="4455" y="4493"/>
                    </a:lnTo>
                    <a:lnTo>
                      <a:pt x="4471" y="4477"/>
                    </a:lnTo>
                    <a:lnTo>
                      <a:pt x="4398" y="4403"/>
                    </a:lnTo>
                    <a:close/>
                    <a:moveTo>
                      <a:pt x="3987" y="3992"/>
                    </a:moveTo>
                    <a:lnTo>
                      <a:pt x="3970" y="4009"/>
                    </a:lnTo>
                    <a:lnTo>
                      <a:pt x="4365" y="4403"/>
                    </a:lnTo>
                    <a:lnTo>
                      <a:pt x="4381" y="4387"/>
                    </a:lnTo>
                    <a:lnTo>
                      <a:pt x="3987" y="3992"/>
                    </a:lnTo>
                    <a:close/>
                    <a:moveTo>
                      <a:pt x="3897" y="3902"/>
                    </a:moveTo>
                    <a:lnTo>
                      <a:pt x="3880" y="3919"/>
                    </a:lnTo>
                    <a:lnTo>
                      <a:pt x="3954" y="3992"/>
                    </a:lnTo>
                    <a:lnTo>
                      <a:pt x="3970" y="3976"/>
                    </a:lnTo>
                    <a:lnTo>
                      <a:pt x="3897" y="3902"/>
                    </a:lnTo>
                    <a:close/>
                    <a:moveTo>
                      <a:pt x="3790" y="3794"/>
                    </a:moveTo>
                    <a:lnTo>
                      <a:pt x="3774" y="3810"/>
                    </a:lnTo>
                    <a:lnTo>
                      <a:pt x="3847" y="3886"/>
                    </a:lnTo>
                    <a:lnTo>
                      <a:pt x="3864" y="3867"/>
                    </a:lnTo>
                    <a:lnTo>
                      <a:pt x="3790" y="3794"/>
                    </a:lnTo>
                    <a:close/>
                    <a:moveTo>
                      <a:pt x="3379" y="3382"/>
                    </a:moveTo>
                    <a:lnTo>
                      <a:pt x="3363" y="3399"/>
                    </a:lnTo>
                    <a:lnTo>
                      <a:pt x="3755" y="3794"/>
                    </a:lnTo>
                    <a:lnTo>
                      <a:pt x="3774" y="3777"/>
                    </a:lnTo>
                    <a:lnTo>
                      <a:pt x="3379" y="3382"/>
                    </a:lnTo>
                    <a:close/>
                    <a:moveTo>
                      <a:pt x="3289" y="3293"/>
                    </a:moveTo>
                    <a:lnTo>
                      <a:pt x="3273" y="3309"/>
                    </a:lnTo>
                    <a:lnTo>
                      <a:pt x="3346" y="3382"/>
                    </a:lnTo>
                    <a:lnTo>
                      <a:pt x="3363" y="3366"/>
                    </a:lnTo>
                    <a:lnTo>
                      <a:pt x="3289" y="3293"/>
                    </a:lnTo>
                    <a:close/>
                    <a:moveTo>
                      <a:pt x="3181" y="3184"/>
                    </a:moveTo>
                    <a:lnTo>
                      <a:pt x="3164" y="3200"/>
                    </a:lnTo>
                    <a:lnTo>
                      <a:pt x="3237" y="3276"/>
                    </a:lnTo>
                    <a:lnTo>
                      <a:pt x="3254" y="3259"/>
                    </a:lnTo>
                    <a:lnTo>
                      <a:pt x="3181" y="3184"/>
                    </a:lnTo>
                    <a:close/>
                    <a:moveTo>
                      <a:pt x="2769" y="2773"/>
                    </a:moveTo>
                    <a:lnTo>
                      <a:pt x="2753" y="2789"/>
                    </a:lnTo>
                    <a:lnTo>
                      <a:pt x="3148" y="3184"/>
                    </a:lnTo>
                    <a:lnTo>
                      <a:pt x="3164" y="3167"/>
                    </a:lnTo>
                    <a:lnTo>
                      <a:pt x="2769" y="2773"/>
                    </a:lnTo>
                    <a:close/>
                    <a:moveTo>
                      <a:pt x="2680" y="2683"/>
                    </a:moveTo>
                    <a:lnTo>
                      <a:pt x="2663" y="2699"/>
                    </a:lnTo>
                    <a:lnTo>
                      <a:pt x="2736" y="2773"/>
                    </a:lnTo>
                    <a:lnTo>
                      <a:pt x="2753" y="2756"/>
                    </a:lnTo>
                    <a:lnTo>
                      <a:pt x="2680" y="2683"/>
                    </a:lnTo>
                    <a:close/>
                    <a:moveTo>
                      <a:pt x="2573" y="2576"/>
                    </a:moveTo>
                    <a:lnTo>
                      <a:pt x="2557" y="2593"/>
                    </a:lnTo>
                    <a:lnTo>
                      <a:pt x="2630" y="2666"/>
                    </a:lnTo>
                    <a:lnTo>
                      <a:pt x="2647" y="2650"/>
                    </a:lnTo>
                    <a:lnTo>
                      <a:pt x="2573" y="2576"/>
                    </a:lnTo>
                    <a:close/>
                    <a:moveTo>
                      <a:pt x="2162" y="2165"/>
                    </a:moveTo>
                    <a:lnTo>
                      <a:pt x="2146" y="2182"/>
                    </a:lnTo>
                    <a:lnTo>
                      <a:pt x="2538" y="2576"/>
                    </a:lnTo>
                    <a:lnTo>
                      <a:pt x="2557" y="2557"/>
                    </a:lnTo>
                    <a:lnTo>
                      <a:pt x="2162" y="2165"/>
                    </a:lnTo>
                    <a:close/>
                    <a:moveTo>
                      <a:pt x="2072" y="2073"/>
                    </a:moveTo>
                    <a:lnTo>
                      <a:pt x="2056" y="2090"/>
                    </a:lnTo>
                    <a:lnTo>
                      <a:pt x="2129" y="2165"/>
                    </a:lnTo>
                    <a:lnTo>
                      <a:pt x="2146" y="2146"/>
                    </a:lnTo>
                    <a:lnTo>
                      <a:pt x="2072" y="2073"/>
                    </a:lnTo>
                    <a:close/>
                    <a:moveTo>
                      <a:pt x="1964" y="1967"/>
                    </a:moveTo>
                    <a:lnTo>
                      <a:pt x="1947" y="1983"/>
                    </a:lnTo>
                    <a:lnTo>
                      <a:pt x="2020" y="2056"/>
                    </a:lnTo>
                    <a:lnTo>
                      <a:pt x="2037" y="2040"/>
                    </a:lnTo>
                    <a:lnTo>
                      <a:pt x="1964" y="1967"/>
                    </a:lnTo>
                    <a:close/>
                    <a:moveTo>
                      <a:pt x="1552" y="1555"/>
                    </a:moveTo>
                    <a:lnTo>
                      <a:pt x="1536" y="1572"/>
                    </a:lnTo>
                    <a:lnTo>
                      <a:pt x="1931" y="1967"/>
                    </a:lnTo>
                    <a:lnTo>
                      <a:pt x="1947" y="1950"/>
                    </a:lnTo>
                    <a:lnTo>
                      <a:pt x="1552" y="1555"/>
                    </a:lnTo>
                    <a:close/>
                    <a:moveTo>
                      <a:pt x="1463" y="1466"/>
                    </a:moveTo>
                    <a:lnTo>
                      <a:pt x="1446" y="1482"/>
                    </a:lnTo>
                    <a:lnTo>
                      <a:pt x="1519" y="1555"/>
                    </a:lnTo>
                    <a:lnTo>
                      <a:pt x="1536" y="1539"/>
                    </a:lnTo>
                    <a:lnTo>
                      <a:pt x="1463" y="1466"/>
                    </a:lnTo>
                    <a:close/>
                    <a:moveTo>
                      <a:pt x="1356" y="1357"/>
                    </a:moveTo>
                    <a:lnTo>
                      <a:pt x="1340" y="1373"/>
                    </a:lnTo>
                    <a:lnTo>
                      <a:pt x="1413" y="1447"/>
                    </a:lnTo>
                    <a:lnTo>
                      <a:pt x="1429" y="1430"/>
                    </a:lnTo>
                    <a:lnTo>
                      <a:pt x="1356" y="1357"/>
                    </a:lnTo>
                    <a:close/>
                    <a:moveTo>
                      <a:pt x="945" y="946"/>
                    </a:moveTo>
                    <a:lnTo>
                      <a:pt x="928" y="962"/>
                    </a:lnTo>
                    <a:lnTo>
                      <a:pt x="1321" y="1357"/>
                    </a:lnTo>
                    <a:lnTo>
                      <a:pt x="1340" y="1340"/>
                    </a:lnTo>
                    <a:lnTo>
                      <a:pt x="945" y="946"/>
                    </a:lnTo>
                    <a:close/>
                    <a:moveTo>
                      <a:pt x="855" y="856"/>
                    </a:moveTo>
                    <a:lnTo>
                      <a:pt x="839" y="872"/>
                    </a:lnTo>
                    <a:lnTo>
                      <a:pt x="912" y="946"/>
                    </a:lnTo>
                    <a:lnTo>
                      <a:pt x="928" y="929"/>
                    </a:lnTo>
                    <a:lnTo>
                      <a:pt x="855" y="856"/>
                    </a:lnTo>
                    <a:close/>
                    <a:moveTo>
                      <a:pt x="746" y="747"/>
                    </a:moveTo>
                    <a:lnTo>
                      <a:pt x="730" y="764"/>
                    </a:lnTo>
                    <a:lnTo>
                      <a:pt x="803" y="839"/>
                    </a:lnTo>
                    <a:lnTo>
                      <a:pt x="820" y="823"/>
                    </a:lnTo>
                    <a:lnTo>
                      <a:pt x="746" y="747"/>
                    </a:lnTo>
                    <a:close/>
                    <a:moveTo>
                      <a:pt x="335" y="336"/>
                    </a:moveTo>
                    <a:lnTo>
                      <a:pt x="319" y="352"/>
                    </a:lnTo>
                    <a:lnTo>
                      <a:pt x="713" y="747"/>
                    </a:lnTo>
                    <a:lnTo>
                      <a:pt x="730" y="730"/>
                    </a:lnTo>
                    <a:lnTo>
                      <a:pt x="335" y="336"/>
                    </a:lnTo>
                    <a:close/>
                    <a:moveTo>
                      <a:pt x="245" y="246"/>
                    </a:moveTo>
                    <a:lnTo>
                      <a:pt x="229" y="262"/>
                    </a:lnTo>
                    <a:lnTo>
                      <a:pt x="302" y="336"/>
                    </a:lnTo>
                    <a:lnTo>
                      <a:pt x="319" y="319"/>
                    </a:lnTo>
                    <a:lnTo>
                      <a:pt x="245" y="246"/>
                    </a:lnTo>
                    <a:close/>
                    <a:moveTo>
                      <a:pt x="139" y="137"/>
                    </a:moveTo>
                    <a:lnTo>
                      <a:pt x="120" y="154"/>
                    </a:lnTo>
                    <a:lnTo>
                      <a:pt x="196" y="229"/>
                    </a:lnTo>
                    <a:lnTo>
                      <a:pt x="212" y="213"/>
                    </a:lnTo>
                    <a:lnTo>
                      <a:pt x="139" y="137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104" y="137"/>
                    </a:lnTo>
                    <a:lnTo>
                      <a:pt x="12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03"/>
              <p:cNvSpPr/>
              <p:nvPr/>
            </p:nvSpPr>
            <p:spPr>
              <a:xfrm rot="5400000">
                <a:off x="799920" y="-800280"/>
                <a:ext cx="6472440" cy="8073360"/>
              </a:xfrm>
              <a:custGeom>
                <a:avLst/>
                <a:gdLst>
                  <a:gd name="textAreaLeft" fmla="*/ 0 w 6472440"/>
                  <a:gd name="textAreaRight" fmla="*/ 6472800 w 6472440"/>
                  <a:gd name="textAreaTop" fmla="*/ 0 h 8073360"/>
                  <a:gd name="textAreaBottom" fmla="*/ 8073720 h 8073360"/>
                </a:gdLst>
                <a:ahLst/>
                <a:rect l="textAreaLeft" t="textAreaTop" r="textAreaRight" b="textAreaBottom"/>
                <a:pathLst>
                  <a:path w="5206" h="5212">
                    <a:moveTo>
                      <a:pt x="5204" y="5209"/>
                    </a:moveTo>
                    <a:lnTo>
                      <a:pt x="5204" y="5212"/>
                    </a:lnTo>
                    <a:lnTo>
                      <a:pt x="5206" y="5212"/>
                    </a:lnTo>
                    <a:lnTo>
                      <a:pt x="5204" y="5209"/>
                    </a:lnTo>
                    <a:moveTo>
                      <a:pt x="5114" y="5120"/>
                    </a:moveTo>
                    <a:lnTo>
                      <a:pt x="5097" y="5136"/>
                    </a:lnTo>
                    <a:lnTo>
                      <a:pt x="5171" y="5209"/>
                    </a:lnTo>
                    <a:lnTo>
                      <a:pt x="5187" y="5193"/>
                    </a:lnTo>
                    <a:lnTo>
                      <a:pt x="5114" y="5120"/>
                    </a:lnTo>
                    <a:moveTo>
                      <a:pt x="5008" y="5013"/>
                    </a:moveTo>
                    <a:lnTo>
                      <a:pt x="4991" y="5030"/>
                    </a:lnTo>
                    <a:lnTo>
                      <a:pt x="5064" y="5103"/>
                    </a:lnTo>
                    <a:lnTo>
                      <a:pt x="5081" y="5086"/>
                    </a:lnTo>
                    <a:lnTo>
                      <a:pt x="5008" y="5013"/>
                    </a:lnTo>
                    <a:moveTo>
                      <a:pt x="4596" y="4602"/>
                    </a:moveTo>
                    <a:lnTo>
                      <a:pt x="4580" y="4618"/>
                    </a:lnTo>
                    <a:lnTo>
                      <a:pt x="4972" y="5013"/>
                    </a:lnTo>
                    <a:lnTo>
                      <a:pt x="4991" y="4997"/>
                    </a:lnTo>
                    <a:lnTo>
                      <a:pt x="4596" y="4602"/>
                    </a:lnTo>
                    <a:moveTo>
                      <a:pt x="4507" y="4510"/>
                    </a:moveTo>
                    <a:lnTo>
                      <a:pt x="4490" y="4526"/>
                    </a:lnTo>
                    <a:lnTo>
                      <a:pt x="4563" y="4602"/>
                    </a:lnTo>
                    <a:lnTo>
                      <a:pt x="4580" y="4585"/>
                    </a:lnTo>
                    <a:lnTo>
                      <a:pt x="4507" y="4510"/>
                    </a:lnTo>
                    <a:moveTo>
                      <a:pt x="4398" y="4403"/>
                    </a:moveTo>
                    <a:lnTo>
                      <a:pt x="4381" y="4420"/>
                    </a:lnTo>
                    <a:lnTo>
                      <a:pt x="4455" y="4493"/>
                    </a:lnTo>
                    <a:lnTo>
                      <a:pt x="4471" y="4477"/>
                    </a:lnTo>
                    <a:lnTo>
                      <a:pt x="4398" y="4403"/>
                    </a:lnTo>
                    <a:moveTo>
                      <a:pt x="3987" y="3992"/>
                    </a:moveTo>
                    <a:lnTo>
                      <a:pt x="3970" y="4009"/>
                    </a:lnTo>
                    <a:lnTo>
                      <a:pt x="4365" y="4403"/>
                    </a:lnTo>
                    <a:lnTo>
                      <a:pt x="4381" y="4387"/>
                    </a:lnTo>
                    <a:lnTo>
                      <a:pt x="3987" y="3992"/>
                    </a:lnTo>
                    <a:moveTo>
                      <a:pt x="3897" y="3902"/>
                    </a:moveTo>
                    <a:lnTo>
                      <a:pt x="3880" y="3919"/>
                    </a:lnTo>
                    <a:lnTo>
                      <a:pt x="3954" y="3992"/>
                    </a:lnTo>
                    <a:lnTo>
                      <a:pt x="3970" y="3976"/>
                    </a:lnTo>
                    <a:lnTo>
                      <a:pt x="3897" y="3902"/>
                    </a:lnTo>
                    <a:moveTo>
                      <a:pt x="3790" y="3794"/>
                    </a:moveTo>
                    <a:lnTo>
                      <a:pt x="3774" y="3810"/>
                    </a:lnTo>
                    <a:lnTo>
                      <a:pt x="3847" y="3886"/>
                    </a:lnTo>
                    <a:lnTo>
                      <a:pt x="3864" y="3867"/>
                    </a:lnTo>
                    <a:lnTo>
                      <a:pt x="3790" y="3794"/>
                    </a:lnTo>
                    <a:moveTo>
                      <a:pt x="3379" y="3382"/>
                    </a:moveTo>
                    <a:lnTo>
                      <a:pt x="3363" y="3399"/>
                    </a:lnTo>
                    <a:lnTo>
                      <a:pt x="3755" y="3794"/>
                    </a:lnTo>
                    <a:lnTo>
                      <a:pt x="3774" y="3777"/>
                    </a:lnTo>
                    <a:lnTo>
                      <a:pt x="3379" y="3382"/>
                    </a:lnTo>
                    <a:moveTo>
                      <a:pt x="3289" y="3293"/>
                    </a:moveTo>
                    <a:lnTo>
                      <a:pt x="3273" y="3309"/>
                    </a:lnTo>
                    <a:lnTo>
                      <a:pt x="3346" y="3382"/>
                    </a:lnTo>
                    <a:lnTo>
                      <a:pt x="3363" y="3366"/>
                    </a:lnTo>
                    <a:lnTo>
                      <a:pt x="3289" y="3293"/>
                    </a:lnTo>
                    <a:moveTo>
                      <a:pt x="3181" y="3184"/>
                    </a:moveTo>
                    <a:lnTo>
                      <a:pt x="3164" y="3200"/>
                    </a:lnTo>
                    <a:lnTo>
                      <a:pt x="3237" y="3276"/>
                    </a:lnTo>
                    <a:lnTo>
                      <a:pt x="3254" y="3259"/>
                    </a:lnTo>
                    <a:lnTo>
                      <a:pt x="3181" y="3184"/>
                    </a:lnTo>
                    <a:moveTo>
                      <a:pt x="2769" y="2773"/>
                    </a:moveTo>
                    <a:lnTo>
                      <a:pt x="2753" y="2789"/>
                    </a:lnTo>
                    <a:lnTo>
                      <a:pt x="3148" y="3184"/>
                    </a:lnTo>
                    <a:lnTo>
                      <a:pt x="3164" y="3167"/>
                    </a:lnTo>
                    <a:lnTo>
                      <a:pt x="2769" y="2773"/>
                    </a:lnTo>
                    <a:moveTo>
                      <a:pt x="2680" y="2683"/>
                    </a:moveTo>
                    <a:lnTo>
                      <a:pt x="2663" y="2699"/>
                    </a:lnTo>
                    <a:lnTo>
                      <a:pt x="2736" y="2773"/>
                    </a:lnTo>
                    <a:lnTo>
                      <a:pt x="2753" y="2756"/>
                    </a:lnTo>
                    <a:lnTo>
                      <a:pt x="2680" y="2683"/>
                    </a:lnTo>
                    <a:moveTo>
                      <a:pt x="2573" y="2576"/>
                    </a:moveTo>
                    <a:lnTo>
                      <a:pt x="2557" y="2593"/>
                    </a:lnTo>
                    <a:lnTo>
                      <a:pt x="2630" y="2666"/>
                    </a:lnTo>
                    <a:lnTo>
                      <a:pt x="2647" y="2650"/>
                    </a:lnTo>
                    <a:lnTo>
                      <a:pt x="2573" y="2576"/>
                    </a:lnTo>
                    <a:moveTo>
                      <a:pt x="2162" y="2165"/>
                    </a:moveTo>
                    <a:lnTo>
                      <a:pt x="2146" y="2182"/>
                    </a:lnTo>
                    <a:lnTo>
                      <a:pt x="2538" y="2576"/>
                    </a:lnTo>
                    <a:lnTo>
                      <a:pt x="2557" y="2557"/>
                    </a:lnTo>
                    <a:lnTo>
                      <a:pt x="2162" y="2165"/>
                    </a:lnTo>
                    <a:moveTo>
                      <a:pt x="2072" y="2073"/>
                    </a:moveTo>
                    <a:lnTo>
                      <a:pt x="2056" y="2090"/>
                    </a:lnTo>
                    <a:lnTo>
                      <a:pt x="2129" y="2165"/>
                    </a:lnTo>
                    <a:lnTo>
                      <a:pt x="2146" y="2146"/>
                    </a:lnTo>
                    <a:lnTo>
                      <a:pt x="2072" y="2073"/>
                    </a:lnTo>
                    <a:moveTo>
                      <a:pt x="1964" y="1967"/>
                    </a:moveTo>
                    <a:lnTo>
                      <a:pt x="1947" y="1983"/>
                    </a:lnTo>
                    <a:lnTo>
                      <a:pt x="2020" y="2056"/>
                    </a:lnTo>
                    <a:lnTo>
                      <a:pt x="2037" y="2040"/>
                    </a:lnTo>
                    <a:lnTo>
                      <a:pt x="1964" y="1967"/>
                    </a:lnTo>
                    <a:moveTo>
                      <a:pt x="1552" y="1555"/>
                    </a:moveTo>
                    <a:lnTo>
                      <a:pt x="1536" y="1572"/>
                    </a:lnTo>
                    <a:lnTo>
                      <a:pt x="1931" y="1967"/>
                    </a:lnTo>
                    <a:lnTo>
                      <a:pt x="1947" y="1950"/>
                    </a:lnTo>
                    <a:lnTo>
                      <a:pt x="1552" y="1555"/>
                    </a:lnTo>
                    <a:moveTo>
                      <a:pt x="1463" y="1466"/>
                    </a:moveTo>
                    <a:lnTo>
                      <a:pt x="1446" y="1482"/>
                    </a:lnTo>
                    <a:lnTo>
                      <a:pt x="1519" y="1555"/>
                    </a:lnTo>
                    <a:lnTo>
                      <a:pt x="1536" y="1539"/>
                    </a:lnTo>
                    <a:lnTo>
                      <a:pt x="1463" y="1466"/>
                    </a:lnTo>
                    <a:moveTo>
                      <a:pt x="1356" y="1357"/>
                    </a:moveTo>
                    <a:lnTo>
                      <a:pt x="1340" y="1373"/>
                    </a:lnTo>
                    <a:lnTo>
                      <a:pt x="1413" y="1447"/>
                    </a:lnTo>
                    <a:lnTo>
                      <a:pt x="1429" y="1430"/>
                    </a:lnTo>
                    <a:lnTo>
                      <a:pt x="1356" y="1357"/>
                    </a:lnTo>
                    <a:moveTo>
                      <a:pt x="945" y="946"/>
                    </a:moveTo>
                    <a:lnTo>
                      <a:pt x="928" y="962"/>
                    </a:lnTo>
                    <a:lnTo>
                      <a:pt x="1321" y="1357"/>
                    </a:lnTo>
                    <a:lnTo>
                      <a:pt x="1340" y="1340"/>
                    </a:lnTo>
                    <a:lnTo>
                      <a:pt x="945" y="946"/>
                    </a:lnTo>
                    <a:moveTo>
                      <a:pt x="855" y="856"/>
                    </a:moveTo>
                    <a:lnTo>
                      <a:pt x="839" y="872"/>
                    </a:lnTo>
                    <a:lnTo>
                      <a:pt x="912" y="946"/>
                    </a:lnTo>
                    <a:lnTo>
                      <a:pt x="928" y="929"/>
                    </a:lnTo>
                    <a:lnTo>
                      <a:pt x="855" y="856"/>
                    </a:lnTo>
                    <a:moveTo>
                      <a:pt x="746" y="747"/>
                    </a:moveTo>
                    <a:lnTo>
                      <a:pt x="730" y="764"/>
                    </a:lnTo>
                    <a:lnTo>
                      <a:pt x="803" y="839"/>
                    </a:lnTo>
                    <a:lnTo>
                      <a:pt x="820" y="823"/>
                    </a:lnTo>
                    <a:lnTo>
                      <a:pt x="746" y="747"/>
                    </a:lnTo>
                    <a:moveTo>
                      <a:pt x="335" y="336"/>
                    </a:moveTo>
                    <a:lnTo>
                      <a:pt x="319" y="352"/>
                    </a:lnTo>
                    <a:lnTo>
                      <a:pt x="713" y="747"/>
                    </a:lnTo>
                    <a:lnTo>
                      <a:pt x="730" y="730"/>
                    </a:lnTo>
                    <a:lnTo>
                      <a:pt x="335" y="336"/>
                    </a:lnTo>
                    <a:moveTo>
                      <a:pt x="245" y="246"/>
                    </a:moveTo>
                    <a:lnTo>
                      <a:pt x="229" y="262"/>
                    </a:lnTo>
                    <a:lnTo>
                      <a:pt x="302" y="336"/>
                    </a:lnTo>
                    <a:lnTo>
                      <a:pt x="319" y="319"/>
                    </a:lnTo>
                    <a:lnTo>
                      <a:pt x="245" y="246"/>
                    </a:lnTo>
                    <a:moveTo>
                      <a:pt x="139" y="137"/>
                    </a:moveTo>
                    <a:lnTo>
                      <a:pt x="120" y="154"/>
                    </a:lnTo>
                    <a:lnTo>
                      <a:pt x="196" y="229"/>
                    </a:lnTo>
                    <a:lnTo>
                      <a:pt x="212" y="213"/>
                    </a:lnTo>
                    <a:lnTo>
                      <a:pt x="139" y="137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104" y="137"/>
                    </a:lnTo>
                    <a:lnTo>
                      <a:pt x="120" y="1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04"/>
              <p:cNvSpPr/>
              <p:nvPr/>
            </p:nvSpPr>
            <p:spPr>
              <a:xfrm rot="5400000">
                <a:off x="7674840" y="2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05"/>
              <p:cNvSpPr/>
              <p:nvPr/>
            </p:nvSpPr>
            <p:spPr>
              <a:xfrm rot="5400000">
                <a:off x="7674840" y="2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06"/>
              <p:cNvSpPr/>
              <p:nvPr/>
            </p:nvSpPr>
            <p:spPr>
              <a:xfrm rot="5400000">
                <a:off x="6728040" y="9925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17" y="0"/>
                    </a:moveTo>
                    <a:lnTo>
                      <a:pt x="0" y="16"/>
                    </a:lnTo>
                    <a:lnTo>
                      <a:pt x="36" y="49"/>
                    </a:lnTo>
                    <a:lnTo>
                      <a:pt x="52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07"/>
              <p:cNvSpPr/>
              <p:nvPr/>
            </p:nvSpPr>
            <p:spPr>
              <a:xfrm rot="5400000">
                <a:off x="6728040" y="9925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17" y="0"/>
                    </a:moveTo>
                    <a:lnTo>
                      <a:pt x="0" y="16"/>
                    </a:lnTo>
                    <a:lnTo>
                      <a:pt x="36" y="49"/>
                    </a:lnTo>
                    <a:lnTo>
                      <a:pt x="52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08"/>
              <p:cNvSpPr/>
              <p:nvPr/>
            </p:nvSpPr>
            <p:spPr>
              <a:xfrm rot="5400000">
                <a:off x="5786640" y="1747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09"/>
              <p:cNvSpPr/>
              <p:nvPr/>
            </p:nvSpPr>
            <p:spPr>
              <a:xfrm rot="5400000">
                <a:off x="5786640" y="1747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10"/>
              <p:cNvSpPr/>
              <p:nvPr/>
            </p:nvSpPr>
            <p:spPr>
              <a:xfrm rot="5400000">
                <a:off x="4842000" y="250488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7" y="0"/>
                    </a:moveTo>
                    <a:lnTo>
                      <a:pt x="0" y="16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311"/>
              <p:cNvSpPr/>
              <p:nvPr/>
            </p:nvSpPr>
            <p:spPr>
              <a:xfrm rot="5400000">
                <a:off x="4842000" y="250488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7" y="0"/>
                    </a:moveTo>
                    <a:lnTo>
                      <a:pt x="0" y="16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12"/>
              <p:cNvSpPr/>
              <p:nvPr/>
            </p:nvSpPr>
            <p:spPr>
              <a:xfrm rot="5400000">
                <a:off x="3899160" y="32630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13"/>
              <p:cNvSpPr/>
              <p:nvPr/>
            </p:nvSpPr>
            <p:spPr>
              <a:xfrm rot="5400000">
                <a:off x="3899160" y="32630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14"/>
              <p:cNvSpPr/>
              <p:nvPr/>
            </p:nvSpPr>
            <p:spPr>
              <a:xfrm rot="5400000">
                <a:off x="2953800" y="40179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7" y="0"/>
                    </a:moveTo>
                    <a:lnTo>
                      <a:pt x="0" y="17"/>
                    </a:lnTo>
                    <a:lnTo>
                      <a:pt x="36" y="50"/>
                    </a:lnTo>
                    <a:lnTo>
                      <a:pt x="52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15"/>
              <p:cNvSpPr/>
              <p:nvPr/>
            </p:nvSpPr>
            <p:spPr>
              <a:xfrm rot="5400000">
                <a:off x="2953800" y="40179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7" y="0"/>
                    </a:moveTo>
                    <a:lnTo>
                      <a:pt x="0" y="17"/>
                    </a:lnTo>
                    <a:lnTo>
                      <a:pt x="36" y="50"/>
                    </a:lnTo>
                    <a:lnTo>
                      <a:pt x="52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16"/>
              <p:cNvSpPr/>
              <p:nvPr/>
            </p:nvSpPr>
            <p:spPr>
              <a:xfrm rot="5400000">
                <a:off x="2011680" y="4773240"/>
                <a:ext cx="62280" cy="80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17"/>
              <p:cNvSpPr/>
              <p:nvPr/>
            </p:nvSpPr>
            <p:spPr>
              <a:xfrm rot="5400000">
                <a:off x="2011680" y="4773240"/>
                <a:ext cx="62280" cy="80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18"/>
              <p:cNvSpPr/>
              <p:nvPr/>
            </p:nvSpPr>
            <p:spPr>
              <a:xfrm rot="5400000">
                <a:off x="1067760" y="5532840"/>
                <a:ext cx="64800" cy="759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16" y="0"/>
                    </a:moveTo>
                    <a:lnTo>
                      <a:pt x="0" y="16"/>
                    </a:lnTo>
                    <a:lnTo>
                      <a:pt x="35" y="49"/>
                    </a:lnTo>
                    <a:lnTo>
                      <a:pt x="52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19"/>
              <p:cNvSpPr/>
              <p:nvPr/>
            </p:nvSpPr>
            <p:spPr>
              <a:xfrm rot="5400000">
                <a:off x="1067760" y="5532840"/>
                <a:ext cx="64800" cy="759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16" y="0"/>
                    </a:moveTo>
                    <a:lnTo>
                      <a:pt x="0" y="16"/>
                    </a:lnTo>
                    <a:lnTo>
                      <a:pt x="35" y="49"/>
                    </a:lnTo>
                    <a:lnTo>
                      <a:pt x="52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20"/>
              <p:cNvSpPr/>
              <p:nvPr/>
            </p:nvSpPr>
            <p:spPr>
              <a:xfrm rot="5400000">
                <a:off x="125280" y="628848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21"/>
              <p:cNvSpPr/>
              <p:nvPr/>
            </p:nvSpPr>
            <p:spPr>
              <a:xfrm rot="5400000">
                <a:off x="125280" y="628848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22"/>
              <p:cNvSpPr/>
              <p:nvPr/>
            </p:nvSpPr>
            <p:spPr>
              <a:xfrm rot="5400000">
                <a:off x="7533000" y="3704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23"/>
              <p:cNvSpPr/>
              <p:nvPr/>
            </p:nvSpPr>
            <p:spPr>
              <a:xfrm rot="5400000">
                <a:off x="7533000" y="3704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24"/>
              <p:cNvSpPr/>
              <p:nvPr/>
            </p:nvSpPr>
            <p:spPr>
              <a:xfrm rot="5400000">
                <a:off x="6588000" y="11286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25"/>
              <p:cNvSpPr/>
              <p:nvPr/>
            </p:nvSpPr>
            <p:spPr>
              <a:xfrm rot="5400000">
                <a:off x="6588000" y="11286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26"/>
              <p:cNvSpPr/>
              <p:nvPr/>
            </p:nvSpPr>
            <p:spPr>
              <a:xfrm rot="5400000">
                <a:off x="5643000" y="18831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27"/>
              <p:cNvSpPr/>
              <p:nvPr/>
            </p:nvSpPr>
            <p:spPr>
              <a:xfrm rot="5400000">
                <a:off x="5643000" y="18831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28"/>
              <p:cNvSpPr/>
              <p:nvPr/>
            </p:nvSpPr>
            <p:spPr>
              <a:xfrm rot="5400000">
                <a:off x="4700520" y="263916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29"/>
              <p:cNvSpPr/>
              <p:nvPr/>
            </p:nvSpPr>
            <p:spPr>
              <a:xfrm rot="5400000">
                <a:off x="4700520" y="263916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30"/>
              <p:cNvSpPr/>
              <p:nvPr/>
            </p:nvSpPr>
            <p:spPr>
              <a:xfrm rot="5400000">
                <a:off x="3758040" y="3396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31"/>
              <p:cNvSpPr/>
              <p:nvPr/>
            </p:nvSpPr>
            <p:spPr>
              <a:xfrm rot="5400000">
                <a:off x="3758040" y="3396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32"/>
              <p:cNvSpPr/>
              <p:nvPr/>
            </p:nvSpPr>
            <p:spPr>
              <a:xfrm rot="5400000">
                <a:off x="2813040" y="41544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33"/>
              <p:cNvSpPr/>
              <p:nvPr/>
            </p:nvSpPr>
            <p:spPr>
              <a:xfrm rot="5400000">
                <a:off x="2813040" y="41544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4"/>
              <p:cNvSpPr/>
              <p:nvPr/>
            </p:nvSpPr>
            <p:spPr>
              <a:xfrm rot="5400000">
                <a:off x="1868040" y="49107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35"/>
              <p:cNvSpPr/>
              <p:nvPr/>
            </p:nvSpPr>
            <p:spPr>
              <a:xfrm rot="5400000">
                <a:off x="1868040" y="49107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36"/>
              <p:cNvSpPr/>
              <p:nvPr/>
            </p:nvSpPr>
            <p:spPr>
              <a:xfrm rot="5400000">
                <a:off x="924840" y="5668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37"/>
              <p:cNvSpPr/>
              <p:nvPr/>
            </p:nvSpPr>
            <p:spPr>
              <a:xfrm rot="5400000">
                <a:off x="924840" y="5668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38"/>
              <p:cNvSpPr/>
              <p:nvPr/>
            </p:nvSpPr>
            <p:spPr>
              <a:xfrm rot="5400000">
                <a:off x="-6120" y="6434640"/>
                <a:ext cx="40680" cy="29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6" y="0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39"/>
              <p:cNvSpPr/>
              <p:nvPr/>
            </p:nvSpPr>
            <p:spPr>
              <a:xfrm rot="5400000">
                <a:off x="-6120" y="6434640"/>
                <a:ext cx="40680" cy="29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6" y="0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0"/>
              <p:cNvSpPr/>
              <p:nvPr/>
            </p:nvSpPr>
            <p:spPr>
              <a:xfrm rot="5400000">
                <a:off x="7838280" y="12528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41"/>
              <p:cNvSpPr/>
              <p:nvPr/>
            </p:nvSpPr>
            <p:spPr>
              <a:xfrm rot="5400000">
                <a:off x="7838280" y="12528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42"/>
              <p:cNvSpPr/>
              <p:nvPr/>
            </p:nvSpPr>
            <p:spPr>
              <a:xfrm rot="5400000">
                <a:off x="6895440" y="88056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3"/>
              <p:cNvSpPr/>
              <p:nvPr/>
            </p:nvSpPr>
            <p:spPr>
              <a:xfrm rot="5400000">
                <a:off x="6895440" y="88056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44"/>
              <p:cNvSpPr/>
              <p:nvPr/>
            </p:nvSpPr>
            <p:spPr>
              <a:xfrm rot="5400000">
                <a:off x="5949720" y="163836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5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45"/>
              <p:cNvSpPr/>
              <p:nvPr/>
            </p:nvSpPr>
            <p:spPr>
              <a:xfrm rot="5400000">
                <a:off x="5949720" y="163836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5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6"/>
              <p:cNvSpPr/>
              <p:nvPr/>
            </p:nvSpPr>
            <p:spPr>
              <a:xfrm rot="5400000">
                <a:off x="5006520" y="239544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47"/>
              <p:cNvSpPr/>
              <p:nvPr/>
            </p:nvSpPr>
            <p:spPr>
              <a:xfrm rot="5400000">
                <a:off x="5006520" y="239544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48"/>
              <p:cNvSpPr/>
              <p:nvPr/>
            </p:nvSpPr>
            <p:spPr>
              <a:xfrm rot="5400000">
                <a:off x="4062240" y="3148920"/>
                <a:ext cx="43200" cy="5580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19" y="0"/>
                    </a:moveTo>
                    <a:lnTo>
                      <a:pt x="0" y="19"/>
                    </a:lnTo>
                    <a:lnTo>
                      <a:pt x="19" y="36"/>
                    </a:lnTo>
                    <a:lnTo>
                      <a:pt x="35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9"/>
              <p:cNvSpPr/>
              <p:nvPr/>
            </p:nvSpPr>
            <p:spPr>
              <a:xfrm rot="5400000">
                <a:off x="4062240" y="3148920"/>
                <a:ext cx="43200" cy="5580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19" y="0"/>
                    </a:moveTo>
                    <a:lnTo>
                      <a:pt x="0" y="19"/>
                    </a:lnTo>
                    <a:lnTo>
                      <a:pt x="19" y="36"/>
                    </a:lnTo>
                    <a:lnTo>
                      <a:pt x="35" y="19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0"/>
              <p:cNvSpPr/>
              <p:nvPr/>
            </p:nvSpPr>
            <p:spPr>
              <a:xfrm rot="5400000">
                <a:off x="3121560" y="39088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51"/>
              <p:cNvSpPr/>
              <p:nvPr/>
            </p:nvSpPr>
            <p:spPr>
              <a:xfrm rot="5400000">
                <a:off x="3121560" y="39088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52"/>
              <p:cNvSpPr/>
              <p:nvPr/>
            </p:nvSpPr>
            <p:spPr>
              <a:xfrm rot="5400000">
                <a:off x="2175120" y="466452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5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53"/>
              <p:cNvSpPr/>
              <p:nvPr/>
            </p:nvSpPr>
            <p:spPr>
              <a:xfrm rot="5400000">
                <a:off x="2175120" y="466452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5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54"/>
              <p:cNvSpPr/>
              <p:nvPr/>
            </p:nvSpPr>
            <p:spPr>
              <a:xfrm rot="5400000">
                <a:off x="1231200" y="54216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5"/>
              <p:cNvSpPr/>
              <p:nvPr/>
            </p:nvSpPr>
            <p:spPr>
              <a:xfrm rot="5400000">
                <a:off x="1231200" y="54216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56"/>
              <p:cNvSpPr/>
              <p:nvPr/>
            </p:nvSpPr>
            <p:spPr>
              <a:xfrm rot="5400000">
                <a:off x="284760" y="6178320"/>
                <a:ext cx="44640" cy="51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6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57"/>
              <p:cNvSpPr/>
              <p:nvPr/>
            </p:nvSpPr>
            <p:spPr>
              <a:xfrm rot="5400000">
                <a:off x="284760" y="6178320"/>
                <a:ext cx="44640" cy="51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6" y="1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8"/>
              <p:cNvSpPr/>
              <p:nvPr/>
            </p:nvSpPr>
            <p:spPr>
              <a:xfrm rot="5400000">
                <a:off x="613800" y="-614160"/>
                <a:ext cx="4959360" cy="618804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6188040"/>
                  <a:gd name="textAreaBottom" fmla="*/ 6188400 h 6188040"/>
                </a:gdLst>
                <a:ahLst/>
                <a:rect l="textAreaLeft" t="textAreaTop" r="textAreaRight" b="textAreaBottom"/>
                <a:pathLst>
                  <a:path w="3989" h="3995">
                    <a:moveTo>
                      <a:pt x="3987" y="3992"/>
                    </a:moveTo>
                    <a:lnTo>
                      <a:pt x="3984" y="3995"/>
                    </a:lnTo>
                    <a:lnTo>
                      <a:pt x="3989" y="3995"/>
                    </a:lnTo>
                    <a:lnTo>
                      <a:pt x="3987" y="3992"/>
                    </a:lnTo>
                    <a:close/>
                    <a:moveTo>
                      <a:pt x="3897" y="3903"/>
                    </a:moveTo>
                    <a:lnTo>
                      <a:pt x="3880" y="3919"/>
                    </a:lnTo>
                    <a:lnTo>
                      <a:pt x="3954" y="3992"/>
                    </a:lnTo>
                    <a:lnTo>
                      <a:pt x="3970" y="3976"/>
                    </a:lnTo>
                    <a:lnTo>
                      <a:pt x="3897" y="3903"/>
                    </a:lnTo>
                    <a:close/>
                    <a:moveTo>
                      <a:pt x="3788" y="3794"/>
                    </a:moveTo>
                    <a:lnTo>
                      <a:pt x="3772" y="3810"/>
                    </a:lnTo>
                    <a:lnTo>
                      <a:pt x="3847" y="3886"/>
                    </a:lnTo>
                    <a:lnTo>
                      <a:pt x="3864" y="3869"/>
                    </a:lnTo>
                    <a:lnTo>
                      <a:pt x="3788" y="3794"/>
                    </a:lnTo>
                    <a:close/>
                    <a:moveTo>
                      <a:pt x="3379" y="3383"/>
                    </a:moveTo>
                    <a:lnTo>
                      <a:pt x="3360" y="3399"/>
                    </a:lnTo>
                    <a:lnTo>
                      <a:pt x="3755" y="3794"/>
                    </a:lnTo>
                    <a:lnTo>
                      <a:pt x="3772" y="3777"/>
                    </a:lnTo>
                    <a:lnTo>
                      <a:pt x="3379" y="3383"/>
                    </a:lnTo>
                    <a:close/>
                    <a:moveTo>
                      <a:pt x="3287" y="3293"/>
                    </a:moveTo>
                    <a:lnTo>
                      <a:pt x="3271" y="3309"/>
                    </a:lnTo>
                    <a:lnTo>
                      <a:pt x="3344" y="3383"/>
                    </a:lnTo>
                    <a:lnTo>
                      <a:pt x="3360" y="3366"/>
                    </a:lnTo>
                    <a:lnTo>
                      <a:pt x="3287" y="3293"/>
                    </a:lnTo>
                    <a:close/>
                    <a:moveTo>
                      <a:pt x="3181" y="3186"/>
                    </a:moveTo>
                    <a:lnTo>
                      <a:pt x="3164" y="3203"/>
                    </a:lnTo>
                    <a:lnTo>
                      <a:pt x="3237" y="3276"/>
                    </a:lnTo>
                    <a:lnTo>
                      <a:pt x="3254" y="3260"/>
                    </a:lnTo>
                    <a:lnTo>
                      <a:pt x="3181" y="3186"/>
                    </a:lnTo>
                    <a:close/>
                    <a:moveTo>
                      <a:pt x="2769" y="2775"/>
                    </a:moveTo>
                    <a:lnTo>
                      <a:pt x="2753" y="2792"/>
                    </a:lnTo>
                    <a:lnTo>
                      <a:pt x="3148" y="3186"/>
                    </a:lnTo>
                    <a:lnTo>
                      <a:pt x="3164" y="3167"/>
                    </a:lnTo>
                    <a:lnTo>
                      <a:pt x="2769" y="2775"/>
                    </a:lnTo>
                    <a:close/>
                    <a:moveTo>
                      <a:pt x="2680" y="2683"/>
                    </a:moveTo>
                    <a:lnTo>
                      <a:pt x="2663" y="2700"/>
                    </a:lnTo>
                    <a:lnTo>
                      <a:pt x="2736" y="2775"/>
                    </a:lnTo>
                    <a:lnTo>
                      <a:pt x="2753" y="2759"/>
                    </a:lnTo>
                    <a:lnTo>
                      <a:pt x="2680" y="2683"/>
                    </a:lnTo>
                    <a:close/>
                    <a:moveTo>
                      <a:pt x="2571" y="2577"/>
                    </a:moveTo>
                    <a:lnTo>
                      <a:pt x="2554" y="2593"/>
                    </a:lnTo>
                    <a:lnTo>
                      <a:pt x="2630" y="2666"/>
                    </a:lnTo>
                    <a:lnTo>
                      <a:pt x="2647" y="2650"/>
                    </a:lnTo>
                    <a:lnTo>
                      <a:pt x="2571" y="2577"/>
                    </a:lnTo>
                    <a:close/>
                    <a:moveTo>
                      <a:pt x="2162" y="2165"/>
                    </a:moveTo>
                    <a:lnTo>
                      <a:pt x="2143" y="2182"/>
                    </a:lnTo>
                    <a:lnTo>
                      <a:pt x="2538" y="2577"/>
                    </a:lnTo>
                    <a:lnTo>
                      <a:pt x="2554" y="2560"/>
                    </a:lnTo>
                    <a:lnTo>
                      <a:pt x="2162" y="2165"/>
                    </a:lnTo>
                    <a:close/>
                    <a:moveTo>
                      <a:pt x="2070" y="2076"/>
                    </a:moveTo>
                    <a:lnTo>
                      <a:pt x="2053" y="2092"/>
                    </a:lnTo>
                    <a:lnTo>
                      <a:pt x="2127" y="2165"/>
                    </a:lnTo>
                    <a:lnTo>
                      <a:pt x="2143" y="2149"/>
                    </a:lnTo>
                    <a:lnTo>
                      <a:pt x="2070" y="2076"/>
                    </a:lnTo>
                    <a:close/>
                    <a:moveTo>
                      <a:pt x="1964" y="1967"/>
                    </a:moveTo>
                    <a:lnTo>
                      <a:pt x="1947" y="1983"/>
                    </a:lnTo>
                    <a:lnTo>
                      <a:pt x="2020" y="2057"/>
                    </a:lnTo>
                    <a:lnTo>
                      <a:pt x="2037" y="2040"/>
                    </a:lnTo>
                    <a:lnTo>
                      <a:pt x="1964" y="1967"/>
                    </a:lnTo>
                    <a:close/>
                    <a:moveTo>
                      <a:pt x="1552" y="1556"/>
                    </a:moveTo>
                    <a:lnTo>
                      <a:pt x="1536" y="1572"/>
                    </a:lnTo>
                    <a:lnTo>
                      <a:pt x="1931" y="1967"/>
                    </a:lnTo>
                    <a:lnTo>
                      <a:pt x="1947" y="1950"/>
                    </a:lnTo>
                    <a:lnTo>
                      <a:pt x="1552" y="1556"/>
                    </a:lnTo>
                    <a:close/>
                    <a:moveTo>
                      <a:pt x="1463" y="1466"/>
                    </a:moveTo>
                    <a:lnTo>
                      <a:pt x="1446" y="1482"/>
                    </a:lnTo>
                    <a:lnTo>
                      <a:pt x="1519" y="1556"/>
                    </a:lnTo>
                    <a:lnTo>
                      <a:pt x="1536" y="1539"/>
                    </a:lnTo>
                    <a:lnTo>
                      <a:pt x="1463" y="1466"/>
                    </a:lnTo>
                    <a:close/>
                    <a:moveTo>
                      <a:pt x="1354" y="1357"/>
                    </a:moveTo>
                    <a:lnTo>
                      <a:pt x="1337" y="1374"/>
                    </a:lnTo>
                    <a:lnTo>
                      <a:pt x="1413" y="1449"/>
                    </a:lnTo>
                    <a:lnTo>
                      <a:pt x="1429" y="1433"/>
                    </a:lnTo>
                    <a:lnTo>
                      <a:pt x="1354" y="1357"/>
                    </a:lnTo>
                    <a:close/>
                    <a:moveTo>
                      <a:pt x="945" y="946"/>
                    </a:moveTo>
                    <a:lnTo>
                      <a:pt x="926" y="962"/>
                    </a:lnTo>
                    <a:lnTo>
                      <a:pt x="1321" y="1357"/>
                    </a:lnTo>
                    <a:lnTo>
                      <a:pt x="1337" y="1340"/>
                    </a:lnTo>
                    <a:lnTo>
                      <a:pt x="945" y="946"/>
                    </a:lnTo>
                    <a:close/>
                    <a:moveTo>
                      <a:pt x="853" y="856"/>
                    </a:moveTo>
                    <a:lnTo>
                      <a:pt x="836" y="873"/>
                    </a:lnTo>
                    <a:lnTo>
                      <a:pt x="910" y="946"/>
                    </a:lnTo>
                    <a:lnTo>
                      <a:pt x="926" y="929"/>
                    </a:lnTo>
                    <a:lnTo>
                      <a:pt x="853" y="856"/>
                    </a:lnTo>
                    <a:close/>
                    <a:moveTo>
                      <a:pt x="746" y="747"/>
                    </a:moveTo>
                    <a:lnTo>
                      <a:pt x="730" y="766"/>
                    </a:lnTo>
                    <a:lnTo>
                      <a:pt x="803" y="839"/>
                    </a:lnTo>
                    <a:lnTo>
                      <a:pt x="820" y="823"/>
                    </a:lnTo>
                    <a:lnTo>
                      <a:pt x="746" y="747"/>
                    </a:lnTo>
                    <a:close/>
                    <a:moveTo>
                      <a:pt x="335" y="338"/>
                    </a:moveTo>
                    <a:lnTo>
                      <a:pt x="319" y="355"/>
                    </a:lnTo>
                    <a:lnTo>
                      <a:pt x="713" y="747"/>
                    </a:lnTo>
                    <a:lnTo>
                      <a:pt x="730" y="731"/>
                    </a:lnTo>
                    <a:lnTo>
                      <a:pt x="335" y="338"/>
                    </a:lnTo>
                    <a:close/>
                    <a:moveTo>
                      <a:pt x="245" y="246"/>
                    </a:moveTo>
                    <a:lnTo>
                      <a:pt x="229" y="263"/>
                    </a:lnTo>
                    <a:lnTo>
                      <a:pt x="302" y="336"/>
                    </a:lnTo>
                    <a:lnTo>
                      <a:pt x="319" y="319"/>
                    </a:lnTo>
                    <a:lnTo>
                      <a:pt x="245" y="246"/>
                    </a:lnTo>
                    <a:close/>
                    <a:moveTo>
                      <a:pt x="137" y="140"/>
                    </a:moveTo>
                    <a:lnTo>
                      <a:pt x="120" y="156"/>
                    </a:lnTo>
                    <a:lnTo>
                      <a:pt x="196" y="230"/>
                    </a:lnTo>
                    <a:lnTo>
                      <a:pt x="212" y="213"/>
                    </a:lnTo>
                    <a:lnTo>
                      <a:pt x="137" y="140"/>
                    </a:lnTo>
                    <a:close/>
                    <a:moveTo>
                      <a:pt x="0" y="0"/>
                    </a:moveTo>
                    <a:lnTo>
                      <a:pt x="0" y="36"/>
                    </a:lnTo>
                    <a:lnTo>
                      <a:pt x="104" y="140"/>
                    </a:lnTo>
                    <a:lnTo>
                      <a:pt x="120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59"/>
              <p:cNvSpPr/>
              <p:nvPr/>
            </p:nvSpPr>
            <p:spPr>
              <a:xfrm rot="5400000">
                <a:off x="613800" y="-614160"/>
                <a:ext cx="4959360" cy="618804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6188040"/>
                  <a:gd name="textAreaBottom" fmla="*/ 6188400 h 6188040"/>
                </a:gdLst>
                <a:ahLst/>
                <a:rect l="textAreaLeft" t="textAreaTop" r="textAreaRight" b="textAreaBottom"/>
                <a:pathLst>
                  <a:path w="3989" h="3995">
                    <a:moveTo>
                      <a:pt x="3987" y="3992"/>
                    </a:moveTo>
                    <a:lnTo>
                      <a:pt x="3984" y="3995"/>
                    </a:lnTo>
                    <a:lnTo>
                      <a:pt x="3989" y="3995"/>
                    </a:lnTo>
                    <a:lnTo>
                      <a:pt x="3987" y="3992"/>
                    </a:lnTo>
                    <a:moveTo>
                      <a:pt x="3897" y="3903"/>
                    </a:moveTo>
                    <a:lnTo>
                      <a:pt x="3880" y="3919"/>
                    </a:lnTo>
                    <a:lnTo>
                      <a:pt x="3954" y="3992"/>
                    </a:lnTo>
                    <a:lnTo>
                      <a:pt x="3970" y="3976"/>
                    </a:lnTo>
                    <a:lnTo>
                      <a:pt x="3897" y="3903"/>
                    </a:lnTo>
                    <a:moveTo>
                      <a:pt x="3788" y="3794"/>
                    </a:moveTo>
                    <a:lnTo>
                      <a:pt x="3772" y="3810"/>
                    </a:lnTo>
                    <a:lnTo>
                      <a:pt x="3847" y="3886"/>
                    </a:lnTo>
                    <a:lnTo>
                      <a:pt x="3864" y="3869"/>
                    </a:lnTo>
                    <a:lnTo>
                      <a:pt x="3788" y="3794"/>
                    </a:lnTo>
                    <a:moveTo>
                      <a:pt x="3379" y="3383"/>
                    </a:moveTo>
                    <a:lnTo>
                      <a:pt x="3360" y="3399"/>
                    </a:lnTo>
                    <a:lnTo>
                      <a:pt x="3755" y="3794"/>
                    </a:lnTo>
                    <a:lnTo>
                      <a:pt x="3772" y="3777"/>
                    </a:lnTo>
                    <a:lnTo>
                      <a:pt x="3379" y="3383"/>
                    </a:lnTo>
                    <a:moveTo>
                      <a:pt x="3287" y="3293"/>
                    </a:moveTo>
                    <a:lnTo>
                      <a:pt x="3271" y="3309"/>
                    </a:lnTo>
                    <a:lnTo>
                      <a:pt x="3344" y="3383"/>
                    </a:lnTo>
                    <a:lnTo>
                      <a:pt x="3360" y="3366"/>
                    </a:lnTo>
                    <a:lnTo>
                      <a:pt x="3287" y="3293"/>
                    </a:lnTo>
                    <a:moveTo>
                      <a:pt x="3181" y="3186"/>
                    </a:moveTo>
                    <a:lnTo>
                      <a:pt x="3164" y="3203"/>
                    </a:lnTo>
                    <a:lnTo>
                      <a:pt x="3237" y="3276"/>
                    </a:lnTo>
                    <a:lnTo>
                      <a:pt x="3254" y="3260"/>
                    </a:lnTo>
                    <a:lnTo>
                      <a:pt x="3181" y="3186"/>
                    </a:lnTo>
                    <a:moveTo>
                      <a:pt x="2769" y="2775"/>
                    </a:moveTo>
                    <a:lnTo>
                      <a:pt x="2753" y="2792"/>
                    </a:lnTo>
                    <a:lnTo>
                      <a:pt x="3148" y="3186"/>
                    </a:lnTo>
                    <a:lnTo>
                      <a:pt x="3164" y="3167"/>
                    </a:lnTo>
                    <a:lnTo>
                      <a:pt x="2769" y="2775"/>
                    </a:lnTo>
                    <a:moveTo>
                      <a:pt x="2680" y="2683"/>
                    </a:moveTo>
                    <a:lnTo>
                      <a:pt x="2663" y="2700"/>
                    </a:lnTo>
                    <a:lnTo>
                      <a:pt x="2736" y="2775"/>
                    </a:lnTo>
                    <a:lnTo>
                      <a:pt x="2753" y="2759"/>
                    </a:lnTo>
                    <a:lnTo>
                      <a:pt x="2680" y="2683"/>
                    </a:lnTo>
                    <a:moveTo>
                      <a:pt x="2571" y="2577"/>
                    </a:moveTo>
                    <a:lnTo>
                      <a:pt x="2554" y="2593"/>
                    </a:lnTo>
                    <a:lnTo>
                      <a:pt x="2630" y="2666"/>
                    </a:lnTo>
                    <a:lnTo>
                      <a:pt x="2647" y="2650"/>
                    </a:lnTo>
                    <a:lnTo>
                      <a:pt x="2571" y="2577"/>
                    </a:lnTo>
                    <a:moveTo>
                      <a:pt x="2162" y="2165"/>
                    </a:moveTo>
                    <a:lnTo>
                      <a:pt x="2143" y="2182"/>
                    </a:lnTo>
                    <a:lnTo>
                      <a:pt x="2538" y="2577"/>
                    </a:lnTo>
                    <a:lnTo>
                      <a:pt x="2554" y="2560"/>
                    </a:lnTo>
                    <a:lnTo>
                      <a:pt x="2162" y="2165"/>
                    </a:lnTo>
                    <a:moveTo>
                      <a:pt x="2070" y="2076"/>
                    </a:moveTo>
                    <a:lnTo>
                      <a:pt x="2053" y="2092"/>
                    </a:lnTo>
                    <a:lnTo>
                      <a:pt x="2127" y="2165"/>
                    </a:lnTo>
                    <a:lnTo>
                      <a:pt x="2143" y="2149"/>
                    </a:lnTo>
                    <a:lnTo>
                      <a:pt x="2070" y="2076"/>
                    </a:lnTo>
                    <a:moveTo>
                      <a:pt x="1964" y="1967"/>
                    </a:moveTo>
                    <a:lnTo>
                      <a:pt x="1947" y="1983"/>
                    </a:lnTo>
                    <a:lnTo>
                      <a:pt x="2020" y="2057"/>
                    </a:lnTo>
                    <a:lnTo>
                      <a:pt x="2037" y="2040"/>
                    </a:lnTo>
                    <a:lnTo>
                      <a:pt x="1964" y="1967"/>
                    </a:lnTo>
                    <a:moveTo>
                      <a:pt x="1552" y="1556"/>
                    </a:moveTo>
                    <a:lnTo>
                      <a:pt x="1536" y="1572"/>
                    </a:lnTo>
                    <a:lnTo>
                      <a:pt x="1931" y="1967"/>
                    </a:lnTo>
                    <a:lnTo>
                      <a:pt x="1947" y="1950"/>
                    </a:lnTo>
                    <a:lnTo>
                      <a:pt x="1552" y="1556"/>
                    </a:lnTo>
                    <a:moveTo>
                      <a:pt x="1463" y="1466"/>
                    </a:moveTo>
                    <a:lnTo>
                      <a:pt x="1446" y="1482"/>
                    </a:lnTo>
                    <a:lnTo>
                      <a:pt x="1519" y="1556"/>
                    </a:lnTo>
                    <a:lnTo>
                      <a:pt x="1536" y="1539"/>
                    </a:lnTo>
                    <a:lnTo>
                      <a:pt x="1463" y="1466"/>
                    </a:lnTo>
                    <a:moveTo>
                      <a:pt x="1354" y="1357"/>
                    </a:moveTo>
                    <a:lnTo>
                      <a:pt x="1337" y="1374"/>
                    </a:lnTo>
                    <a:lnTo>
                      <a:pt x="1413" y="1449"/>
                    </a:lnTo>
                    <a:lnTo>
                      <a:pt x="1429" y="1433"/>
                    </a:lnTo>
                    <a:lnTo>
                      <a:pt x="1354" y="1357"/>
                    </a:lnTo>
                    <a:moveTo>
                      <a:pt x="945" y="946"/>
                    </a:moveTo>
                    <a:lnTo>
                      <a:pt x="926" y="962"/>
                    </a:lnTo>
                    <a:lnTo>
                      <a:pt x="1321" y="1357"/>
                    </a:lnTo>
                    <a:lnTo>
                      <a:pt x="1337" y="1340"/>
                    </a:lnTo>
                    <a:lnTo>
                      <a:pt x="945" y="946"/>
                    </a:lnTo>
                    <a:moveTo>
                      <a:pt x="853" y="856"/>
                    </a:moveTo>
                    <a:lnTo>
                      <a:pt x="836" y="873"/>
                    </a:lnTo>
                    <a:lnTo>
                      <a:pt x="910" y="946"/>
                    </a:lnTo>
                    <a:lnTo>
                      <a:pt x="926" y="929"/>
                    </a:lnTo>
                    <a:lnTo>
                      <a:pt x="853" y="856"/>
                    </a:lnTo>
                    <a:moveTo>
                      <a:pt x="746" y="747"/>
                    </a:moveTo>
                    <a:lnTo>
                      <a:pt x="730" y="766"/>
                    </a:lnTo>
                    <a:lnTo>
                      <a:pt x="803" y="839"/>
                    </a:lnTo>
                    <a:lnTo>
                      <a:pt x="820" y="823"/>
                    </a:lnTo>
                    <a:lnTo>
                      <a:pt x="746" y="747"/>
                    </a:lnTo>
                    <a:moveTo>
                      <a:pt x="335" y="338"/>
                    </a:moveTo>
                    <a:lnTo>
                      <a:pt x="319" y="355"/>
                    </a:lnTo>
                    <a:lnTo>
                      <a:pt x="713" y="747"/>
                    </a:lnTo>
                    <a:lnTo>
                      <a:pt x="730" y="731"/>
                    </a:lnTo>
                    <a:lnTo>
                      <a:pt x="335" y="338"/>
                    </a:lnTo>
                    <a:moveTo>
                      <a:pt x="245" y="246"/>
                    </a:moveTo>
                    <a:lnTo>
                      <a:pt x="229" y="263"/>
                    </a:lnTo>
                    <a:lnTo>
                      <a:pt x="302" y="336"/>
                    </a:lnTo>
                    <a:lnTo>
                      <a:pt x="319" y="319"/>
                    </a:lnTo>
                    <a:lnTo>
                      <a:pt x="245" y="246"/>
                    </a:lnTo>
                    <a:moveTo>
                      <a:pt x="137" y="140"/>
                    </a:moveTo>
                    <a:lnTo>
                      <a:pt x="120" y="156"/>
                    </a:lnTo>
                    <a:lnTo>
                      <a:pt x="196" y="230"/>
                    </a:lnTo>
                    <a:lnTo>
                      <a:pt x="212" y="213"/>
                    </a:lnTo>
                    <a:lnTo>
                      <a:pt x="137" y="140"/>
                    </a:lnTo>
                    <a:moveTo>
                      <a:pt x="0" y="0"/>
                    </a:moveTo>
                    <a:lnTo>
                      <a:pt x="0" y="36"/>
                    </a:lnTo>
                    <a:lnTo>
                      <a:pt x="104" y="140"/>
                    </a:lnTo>
                    <a:lnTo>
                      <a:pt x="120" y="1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360"/>
              <p:cNvSpPr/>
              <p:nvPr/>
            </p:nvSpPr>
            <p:spPr>
              <a:xfrm rot="5400000">
                <a:off x="5788800" y="2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61"/>
              <p:cNvSpPr/>
              <p:nvPr/>
            </p:nvSpPr>
            <p:spPr>
              <a:xfrm rot="5400000">
                <a:off x="5788800" y="2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362"/>
              <p:cNvSpPr/>
              <p:nvPr/>
            </p:nvSpPr>
            <p:spPr>
              <a:xfrm rot="5400000">
                <a:off x="4843440" y="990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63"/>
              <p:cNvSpPr/>
              <p:nvPr/>
            </p:nvSpPr>
            <p:spPr>
              <a:xfrm rot="5400000">
                <a:off x="4843440" y="990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4"/>
              <p:cNvSpPr/>
              <p:nvPr/>
            </p:nvSpPr>
            <p:spPr>
              <a:xfrm rot="5400000">
                <a:off x="3899160" y="17499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65"/>
              <p:cNvSpPr/>
              <p:nvPr/>
            </p:nvSpPr>
            <p:spPr>
              <a:xfrm rot="5400000">
                <a:off x="3899160" y="17499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366"/>
              <p:cNvSpPr/>
              <p:nvPr/>
            </p:nvSpPr>
            <p:spPr>
              <a:xfrm rot="5400000">
                <a:off x="2956320" y="250200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7"/>
              <p:cNvSpPr/>
              <p:nvPr/>
            </p:nvSpPr>
            <p:spPr>
              <a:xfrm rot="5400000">
                <a:off x="2956320" y="250200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68"/>
              <p:cNvSpPr/>
              <p:nvPr/>
            </p:nvSpPr>
            <p:spPr>
              <a:xfrm rot="5400000">
                <a:off x="2013480" y="32619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69"/>
              <p:cNvSpPr/>
              <p:nvPr/>
            </p:nvSpPr>
            <p:spPr>
              <a:xfrm rot="5400000">
                <a:off x="2013480" y="32619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70"/>
              <p:cNvSpPr/>
              <p:nvPr/>
            </p:nvSpPr>
            <p:spPr>
              <a:xfrm rot="5400000">
                <a:off x="1069200" y="4017600"/>
                <a:ext cx="62280" cy="759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4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71"/>
              <p:cNvSpPr/>
              <p:nvPr/>
            </p:nvSpPr>
            <p:spPr>
              <a:xfrm rot="5400000">
                <a:off x="1069200" y="4017600"/>
                <a:ext cx="62280" cy="759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4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72"/>
              <p:cNvSpPr/>
              <p:nvPr/>
            </p:nvSpPr>
            <p:spPr>
              <a:xfrm rot="5400000">
                <a:off x="124920" y="4775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3"/>
              <p:cNvSpPr/>
              <p:nvPr/>
            </p:nvSpPr>
            <p:spPr>
              <a:xfrm rot="5400000">
                <a:off x="124920" y="4775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74"/>
              <p:cNvSpPr/>
              <p:nvPr/>
            </p:nvSpPr>
            <p:spPr>
              <a:xfrm rot="5400000">
                <a:off x="5645520" y="36792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7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75"/>
              <p:cNvSpPr/>
              <p:nvPr/>
            </p:nvSpPr>
            <p:spPr>
              <a:xfrm rot="5400000">
                <a:off x="5645520" y="36792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7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6"/>
              <p:cNvSpPr/>
              <p:nvPr/>
            </p:nvSpPr>
            <p:spPr>
              <a:xfrm rot="5400000">
                <a:off x="4701960" y="112716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77"/>
              <p:cNvSpPr/>
              <p:nvPr/>
            </p:nvSpPr>
            <p:spPr>
              <a:xfrm rot="5400000">
                <a:off x="4701960" y="112716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78"/>
              <p:cNvSpPr/>
              <p:nvPr/>
            </p:nvSpPr>
            <p:spPr>
              <a:xfrm rot="5400000">
                <a:off x="3758040" y="1883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9"/>
              <p:cNvSpPr/>
              <p:nvPr/>
            </p:nvSpPr>
            <p:spPr>
              <a:xfrm rot="5400000">
                <a:off x="3758040" y="1883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80"/>
              <p:cNvSpPr/>
              <p:nvPr/>
            </p:nvSpPr>
            <p:spPr>
              <a:xfrm rot="5400000">
                <a:off x="2811600" y="264024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81"/>
              <p:cNvSpPr/>
              <p:nvPr/>
            </p:nvSpPr>
            <p:spPr>
              <a:xfrm rot="5400000">
                <a:off x="2811600" y="264024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82"/>
              <p:cNvSpPr/>
              <p:nvPr/>
            </p:nvSpPr>
            <p:spPr>
              <a:xfrm rot="5400000">
                <a:off x="1868040" y="3396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83"/>
              <p:cNvSpPr/>
              <p:nvPr/>
            </p:nvSpPr>
            <p:spPr>
              <a:xfrm rot="5400000">
                <a:off x="1868040" y="3396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4"/>
              <p:cNvSpPr/>
              <p:nvPr/>
            </p:nvSpPr>
            <p:spPr>
              <a:xfrm rot="5400000">
                <a:off x="926640" y="415332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5"/>
              <p:cNvSpPr/>
              <p:nvPr/>
            </p:nvSpPr>
            <p:spPr>
              <a:xfrm rot="5400000">
                <a:off x="926640" y="415332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86"/>
              <p:cNvSpPr/>
              <p:nvPr/>
            </p:nvSpPr>
            <p:spPr>
              <a:xfrm rot="5400000">
                <a:off x="-6120" y="4921560"/>
                <a:ext cx="41040" cy="291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6" y="0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87"/>
              <p:cNvSpPr/>
              <p:nvPr/>
            </p:nvSpPr>
            <p:spPr>
              <a:xfrm rot="5400000">
                <a:off x="-6120" y="4921560"/>
                <a:ext cx="41040" cy="291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6" y="0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8"/>
              <p:cNvSpPr/>
              <p:nvPr/>
            </p:nvSpPr>
            <p:spPr>
              <a:xfrm rot="5400000">
                <a:off x="5951160" y="123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89"/>
              <p:cNvSpPr/>
              <p:nvPr/>
            </p:nvSpPr>
            <p:spPr>
              <a:xfrm rot="5400000">
                <a:off x="5951160" y="123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90"/>
              <p:cNvSpPr/>
              <p:nvPr/>
            </p:nvSpPr>
            <p:spPr>
              <a:xfrm rot="5400000">
                <a:off x="5007600" y="879480"/>
                <a:ext cx="41040" cy="54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91"/>
              <p:cNvSpPr/>
              <p:nvPr/>
            </p:nvSpPr>
            <p:spPr>
              <a:xfrm rot="5400000">
                <a:off x="5007600" y="879480"/>
                <a:ext cx="41040" cy="54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92"/>
              <p:cNvSpPr/>
              <p:nvPr/>
            </p:nvSpPr>
            <p:spPr>
              <a:xfrm rot="5400000">
                <a:off x="4065120" y="163656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93"/>
              <p:cNvSpPr/>
              <p:nvPr/>
            </p:nvSpPr>
            <p:spPr>
              <a:xfrm rot="5400000">
                <a:off x="4065120" y="163656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94"/>
              <p:cNvSpPr/>
              <p:nvPr/>
            </p:nvSpPr>
            <p:spPr>
              <a:xfrm rot="5400000">
                <a:off x="3121200" y="239544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5"/>
              <p:cNvSpPr/>
              <p:nvPr/>
            </p:nvSpPr>
            <p:spPr>
              <a:xfrm rot="5400000">
                <a:off x="3121200" y="239544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96"/>
              <p:cNvSpPr/>
              <p:nvPr/>
            </p:nvSpPr>
            <p:spPr>
              <a:xfrm rot="5400000">
                <a:off x="2176560" y="31503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97"/>
              <p:cNvSpPr/>
              <p:nvPr/>
            </p:nvSpPr>
            <p:spPr>
              <a:xfrm rot="5400000">
                <a:off x="2176560" y="31503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98"/>
              <p:cNvSpPr/>
              <p:nvPr/>
            </p:nvSpPr>
            <p:spPr>
              <a:xfrm rot="5400000">
                <a:off x="1234080" y="390636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99"/>
              <p:cNvSpPr/>
              <p:nvPr/>
            </p:nvSpPr>
            <p:spPr>
              <a:xfrm rot="5400000">
                <a:off x="1234080" y="390636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00"/>
              <p:cNvSpPr/>
              <p:nvPr/>
            </p:nvSpPr>
            <p:spPr>
              <a:xfrm rot="5400000">
                <a:off x="291240" y="4663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01"/>
              <p:cNvSpPr/>
              <p:nvPr/>
            </p:nvSpPr>
            <p:spPr>
              <a:xfrm rot="5400000">
                <a:off x="291240" y="4663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02"/>
              <p:cNvSpPr/>
              <p:nvPr/>
            </p:nvSpPr>
            <p:spPr>
              <a:xfrm rot="5400000">
                <a:off x="425520" y="-425880"/>
                <a:ext cx="3446280" cy="4298400"/>
              </a:xfrm>
              <a:custGeom>
                <a:avLst/>
                <a:gdLst>
                  <a:gd name="textAreaLeft" fmla="*/ 0 w 3446280"/>
                  <a:gd name="textAreaRight" fmla="*/ 3446640 w 3446280"/>
                  <a:gd name="textAreaTop" fmla="*/ 0 h 4298400"/>
                  <a:gd name="textAreaBottom" fmla="*/ 4298760 h 4298400"/>
                </a:gdLst>
                <a:ahLst/>
                <a:rect l="textAreaLeft" t="textAreaTop" r="textAreaRight" b="textAreaBottom"/>
                <a:pathLst>
                  <a:path w="2772" h="2775">
                    <a:moveTo>
                      <a:pt x="2769" y="2772"/>
                    </a:moveTo>
                    <a:lnTo>
                      <a:pt x="2767" y="2775"/>
                    </a:lnTo>
                    <a:lnTo>
                      <a:pt x="2772" y="2775"/>
                    </a:lnTo>
                    <a:lnTo>
                      <a:pt x="2769" y="2772"/>
                    </a:lnTo>
                    <a:close/>
                    <a:moveTo>
                      <a:pt x="2680" y="2683"/>
                    </a:moveTo>
                    <a:lnTo>
                      <a:pt x="2661" y="2699"/>
                    </a:lnTo>
                    <a:lnTo>
                      <a:pt x="2736" y="2772"/>
                    </a:lnTo>
                    <a:lnTo>
                      <a:pt x="2753" y="2756"/>
                    </a:lnTo>
                    <a:lnTo>
                      <a:pt x="2680" y="2683"/>
                    </a:lnTo>
                    <a:close/>
                    <a:moveTo>
                      <a:pt x="2571" y="2574"/>
                    </a:moveTo>
                    <a:lnTo>
                      <a:pt x="2554" y="2590"/>
                    </a:lnTo>
                    <a:lnTo>
                      <a:pt x="2628" y="2666"/>
                    </a:lnTo>
                    <a:lnTo>
                      <a:pt x="2644" y="2647"/>
                    </a:lnTo>
                    <a:lnTo>
                      <a:pt x="2571" y="2574"/>
                    </a:lnTo>
                    <a:close/>
                    <a:moveTo>
                      <a:pt x="2160" y="2163"/>
                    </a:moveTo>
                    <a:lnTo>
                      <a:pt x="2143" y="2179"/>
                    </a:lnTo>
                    <a:lnTo>
                      <a:pt x="2538" y="2574"/>
                    </a:lnTo>
                    <a:lnTo>
                      <a:pt x="2554" y="2557"/>
                    </a:lnTo>
                    <a:lnTo>
                      <a:pt x="2160" y="2163"/>
                    </a:lnTo>
                    <a:close/>
                    <a:moveTo>
                      <a:pt x="2070" y="2073"/>
                    </a:moveTo>
                    <a:lnTo>
                      <a:pt x="2053" y="2089"/>
                    </a:lnTo>
                    <a:lnTo>
                      <a:pt x="2127" y="2163"/>
                    </a:lnTo>
                    <a:lnTo>
                      <a:pt x="2143" y="2146"/>
                    </a:lnTo>
                    <a:lnTo>
                      <a:pt x="2070" y="2073"/>
                    </a:lnTo>
                    <a:close/>
                    <a:moveTo>
                      <a:pt x="1964" y="1964"/>
                    </a:moveTo>
                    <a:lnTo>
                      <a:pt x="1945" y="1981"/>
                    </a:lnTo>
                    <a:lnTo>
                      <a:pt x="2020" y="2056"/>
                    </a:lnTo>
                    <a:lnTo>
                      <a:pt x="2037" y="2040"/>
                    </a:lnTo>
                    <a:lnTo>
                      <a:pt x="1964" y="1964"/>
                    </a:lnTo>
                    <a:close/>
                    <a:moveTo>
                      <a:pt x="1552" y="1553"/>
                    </a:moveTo>
                    <a:lnTo>
                      <a:pt x="1536" y="1569"/>
                    </a:lnTo>
                    <a:lnTo>
                      <a:pt x="1928" y="1964"/>
                    </a:lnTo>
                    <a:lnTo>
                      <a:pt x="1945" y="1947"/>
                    </a:lnTo>
                    <a:lnTo>
                      <a:pt x="1552" y="1553"/>
                    </a:lnTo>
                    <a:close/>
                    <a:moveTo>
                      <a:pt x="1463" y="1463"/>
                    </a:moveTo>
                    <a:lnTo>
                      <a:pt x="1444" y="1480"/>
                    </a:lnTo>
                    <a:lnTo>
                      <a:pt x="1519" y="1553"/>
                    </a:lnTo>
                    <a:lnTo>
                      <a:pt x="1536" y="1536"/>
                    </a:lnTo>
                    <a:lnTo>
                      <a:pt x="1463" y="1463"/>
                    </a:lnTo>
                    <a:close/>
                    <a:moveTo>
                      <a:pt x="1354" y="1354"/>
                    </a:moveTo>
                    <a:lnTo>
                      <a:pt x="1337" y="1373"/>
                    </a:lnTo>
                    <a:lnTo>
                      <a:pt x="1411" y="1446"/>
                    </a:lnTo>
                    <a:lnTo>
                      <a:pt x="1427" y="1430"/>
                    </a:lnTo>
                    <a:lnTo>
                      <a:pt x="1354" y="1354"/>
                    </a:lnTo>
                    <a:close/>
                    <a:moveTo>
                      <a:pt x="943" y="945"/>
                    </a:moveTo>
                    <a:lnTo>
                      <a:pt x="926" y="962"/>
                    </a:lnTo>
                    <a:lnTo>
                      <a:pt x="1321" y="1354"/>
                    </a:lnTo>
                    <a:lnTo>
                      <a:pt x="1337" y="1338"/>
                    </a:lnTo>
                    <a:lnTo>
                      <a:pt x="943" y="945"/>
                    </a:lnTo>
                    <a:close/>
                    <a:moveTo>
                      <a:pt x="853" y="853"/>
                    </a:moveTo>
                    <a:lnTo>
                      <a:pt x="836" y="870"/>
                    </a:lnTo>
                    <a:lnTo>
                      <a:pt x="910" y="945"/>
                    </a:lnTo>
                    <a:lnTo>
                      <a:pt x="926" y="926"/>
                    </a:lnTo>
                    <a:lnTo>
                      <a:pt x="853" y="853"/>
                    </a:lnTo>
                    <a:close/>
                    <a:moveTo>
                      <a:pt x="746" y="747"/>
                    </a:moveTo>
                    <a:lnTo>
                      <a:pt x="728" y="763"/>
                    </a:lnTo>
                    <a:lnTo>
                      <a:pt x="803" y="837"/>
                    </a:lnTo>
                    <a:lnTo>
                      <a:pt x="820" y="820"/>
                    </a:lnTo>
                    <a:lnTo>
                      <a:pt x="746" y="747"/>
                    </a:lnTo>
                    <a:close/>
                    <a:moveTo>
                      <a:pt x="335" y="336"/>
                    </a:moveTo>
                    <a:lnTo>
                      <a:pt x="319" y="352"/>
                    </a:lnTo>
                    <a:lnTo>
                      <a:pt x="711" y="747"/>
                    </a:lnTo>
                    <a:lnTo>
                      <a:pt x="728" y="730"/>
                    </a:lnTo>
                    <a:lnTo>
                      <a:pt x="335" y="336"/>
                    </a:lnTo>
                    <a:close/>
                    <a:moveTo>
                      <a:pt x="245" y="246"/>
                    </a:moveTo>
                    <a:lnTo>
                      <a:pt x="227" y="262"/>
                    </a:lnTo>
                    <a:lnTo>
                      <a:pt x="302" y="336"/>
                    </a:lnTo>
                    <a:lnTo>
                      <a:pt x="319" y="319"/>
                    </a:lnTo>
                    <a:lnTo>
                      <a:pt x="245" y="246"/>
                    </a:lnTo>
                    <a:close/>
                    <a:moveTo>
                      <a:pt x="137" y="137"/>
                    </a:moveTo>
                    <a:lnTo>
                      <a:pt x="120" y="154"/>
                    </a:lnTo>
                    <a:lnTo>
                      <a:pt x="193" y="227"/>
                    </a:lnTo>
                    <a:lnTo>
                      <a:pt x="210" y="210"/>
                    </a:lnTo>
                    <a:lnTo>
                      <a:pt x="137" y="137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104" y="137"/>
                    </a:lnTo>
                    <a:lnTo>
                      <a:pt x="12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03"/>
              <p:cNvSpPr/>
              <p:nvPr/>
            </p:nvSpPr>
            <p:spPr>
              <a:xfrm rot="5400000">
                <a:off x="425520" y="-425880"/>
                <a:ext cx="3446280" cy="4298400"/>
              </a:xfrm>
              <a:custGeom>
                <a:avLst/>
                <a:gdLst>
                  <a:gd name="textAreaLeft" fmla="*/ 0 w 3446280"/>
                  <a:gd name="textAreaRight" fmla="*/ 3446640 w 3446280"/>
                  <a:gd name="textAreaTop" fmla="*/ 0 h 4298400"/>
                  <a:gd name="textAreaBottom" fmla="*/ 4298760 h 4298400"/>
                </a:gdLst>
                <a:ahLst/>
                <a:rect l="textAreaLeft" t="textAreaTop" r="textAreaRight" b="textAreaBottom"/>
                <a:pathLst>
                  <a:path w="2772" h="2775">
                    <a:moveTo>
                      <a:pt x="2769" y="2772"/>
                    </a:moveTo>
                    <a:lnTo>
                      <a:pt x="2767" y="2775"/>
                    </a:lnTo>
                    <a:lnTo>
                      <a:pt x="2772" y="2775"/>
                    </a:lnTo>
                    <a:lnTo>
                      <a:pt x="2769" y="2772"/>
                    </a:lnTo>
                    <a:moveTo>
                      <a:pt x="2680" y="2683"/>
                    </a:moveTo>
                    <a:lnTo>
                      <a:pt x="2661" y="2699"/>
                    </a:lnTo>
                    <a:lnTo>
                      <a:pt x="2736" y="2772"/>
                    </a:lnTo>
                    <a:lnTo>
                      <a:pt x="2753" y="2756"/>
                    </a:lnTo>
                    <a:lnTo>
                      <a:pt x="2680" y="2683"/>
                    </a:lnTo>
                    <a:moveTo>
                      <a:pt x="2571" y="2574"/>
                    </a:moveTo>
                    <a:lnTo>
                      <a:pt x="2554" y="2590"/>
                    </a:lnTo>
                    <a:lnTo>
                      <a:pt x="2628" y="2666"/>
                    </a:lnTo>
                    <a:lnTo>
                      <a:pt x="2644" y="2647"/>
                    </a:lnTo>
                    <a:lnTo>
                      <a:pt x="2571" y="2574"/>
                    </a:lnTo>
                    <a:moveTo>
                      <a:pt x="2160" y="2163"/>
                    </a:moveTo>
                    <a:lnTo>
                      <a:pt x="2143" y="2179"/>
                    </a:lnTo>
                    <a:lnTo>
                      <a:pt x="2538" y="2574"/>
                    </a:lnTo>
                    <a:lnTo>
                      <a:pt x="2554" y="2557"/>
                    </a:lnTo>
                    <a:lnTo>
                      <a:pt x="2160" y="2163"/>
                    </a:lnTo>
                    <a:moveTo>
                      <a:pt x="2070" y="2073"/>
                    </a:moveTo>
                    <a:lnTo>
                      <a:pt x="2053" y="2089"/>
                    </a:lnTo>
                    <a:lnTo>
                      <a:pt x="2127" y="2163"/>
                    </a:lnTo>
                    <a:lnTo>
                      <a:pt x="2143" y="2146"/>
                    </a:lnTo>
                    <a:lnTo>
                      <a:pt x="2070" y="2073"/>
                    </a:lnTo>
                    <a:moveTo>
                      <a:pt x="1964" y="1964"/>
                    </a:moveTo>
                    <a:lnTo>
                      <a:pt x="1945" y="1981"/>
                    </a:lnTo>
                    <a:lnTo>
                      <a:pt x="2020" y="2056"/>
                    </a:lnTo>
                    <a:lnTo>
                      <a:pt x="2037" y="2040"/>
                    </a:lnTo>
                    <a:lnTo>
                      <a:pt x="1964" y="1964"/>
                    </a:lnTo>
                    <a:moveTo>
                      <a:pt x="1552" y="1553"/>
                    </a:moveTo>
                    <a:lnTo>
                      <a:pt x="1536" y="1569"/>
                    </a:lnTo>
                    <a:lnTo>
                      <a:pt x="1928" y="1964"/>
                    </a:lnTo>
                    <a:lnTo>
                      <a:pt x="1945" y="1947"/>
                    </a:lnTo>
                    <a:lnTo>
                      <a:pt x="1552" y="1553"/>
                    </a:lnTo>
                    <a:moveTo>
                      <a:pt x="1463" y="1463"/>
                    </a:moveTo>
                    <a:lnTo>
                      <a:pt x="1444" y="1480"/>
                    </a:lnTo>
                    <a:lnTo>
                      <a:pt x="1519" y="1553"/>
                    </a:lnTo>
                    <a:lnTo>
                      <a:pt x="1536" y="1536"/>
                    </a:lnTo>
                    <a:lnTo>
                      <a:pt x="1463" y="1463"/>
                    </a:lnTo>
                    <a:moveTo>
                      <a:pt x="1354" y="1354"/>
                    </a:moveTo>
                    <a:lnTo>
                      <a:pt x="1337" y="1373"/>
                    </a:lnTo>
                    <a:lnTo>
                      <a:pt x="1411" y="1446"/>
                    </a:lnTo>
                    <a:lnTo>
                      <a:pt x="1427" y="1430"/>
                    </a:lnTo>
                    <a:lnTo>
                      <a:pt x="1354" y="1354"/>
                    </a:lnTo>
                    <a:moveTo>
                      <a:pt x="943" y="945"/>
                    </a:moveTo>
                    <a:lnTo>
                      <a:pt x="926" y="962"/>
                    </a:lnTo>
                    <a:lnTo>
                      <a:pt x="1321" y="1354"/>
                    </a:lnTo>
                    <a:lnTo>
                      <a:pt x="1337" y="1338"/>
                    </a:lnTo>
                    <a:lnTo>
                      <a:pt x="943" y="945"/>
                    </a:lnTo>
                    <a:moveTo>
                      <a:pt x="853" y="853"/>
                    </a:moveTo>
                    <a:lnTo>
                      <a:pt x="836" y="870"/>
                    </a:lnTo>
                    <a:lnTo>
                      <a:pt x="910" y="945"/>
                    </a:lnTo>
                    <a:lnTo>
                      <a:pt x="926" y="926"/>
                    </a:lnTo>
                    <a:lnTo>
                      <a:pt x="853" y="853"/>
                    </a:lnTo>
                    <a:moveTo>
                      <a:pt x="746" y="747"/>
                    </a:moveTo>
                    <a:lnTo>
                      <a:pt x="728" y="763"/>
                    </a:lnTo>
                    <a:lnTo>
                      <a:pt x="803" y="837"/>
                    </a:lnTo>
                    <a:lnTo>
                      <a:pt x="820" y="820"/>
                    </a:lnTo>
                    <a:lnTo>
                      <a:pt x="746" y="747"/>
                    </a:lnTo>
                    <a:moveTo>
                      <a:pt x="335" y="336"/>
                    </a:moveTo>
                    <a:lnTo>
                      <a:pt x="319" y="352"/>
                    </a:lnTo>
                    <a:lnTo>
                      <a:pt x="711" y="747"/>
                    </a:lnTo>
                    <a:lnTo>
                      <a:pt x="728" y="730"/>
                    </a:lnTo>
                    <a:lnTo>
                      <a:pt x="335" y="336"/>
                    </a:lnTo>
                    <a:moveTo>
                      <a:pt x="245" y="246"/>
                    </a:moveTo>
                    <a:lnTo>
                      <a:pt x="227" y="262"/>
                    </a:lnTo>
                    <a:lnTo>
                      <a:pt x="302" y="336"/>
                    </a:lnTo>
                    <a:lnTo>
                      <a:pt x="319" y="319"/>
                    </a:lnTo>
                    <a:lnTo>
                      <a:pt x="245" y="246"/>
                    </a:lnTo>
                    <a:moveTo>
                      <a:pt x="137" y="137"/>
                    </a:moveTo>
                    <a:lnTo>
                      <a:pt x="120" y="154"/>
                    </a:lnTo>
                    <a:lnTo>
                      <a:pt x="193" y="227"/>
                    </a:lnTo>
                    <a:lnTo>
                      <a:pt x="210" y="210"/>
                    </a:lnTo>
                    <a:lnTo>
                      <a:pt x="137" y="137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104" y="137"/>
                    </a:lnTo>
                    <a:lnTo>
                      <a:pt x="12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04"/>
              <p:cNvSpPr/>
              <p:nvPr/>
            </p:nvSpPr>
            <p:spPr>
              <a:xfrm rot="5400000">
                <a:off x="3900240" y="23184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7" y="0"/>
                    </a:moveTo>
                    <a:lnTo>
                      <a:pt x="0" y="17"/>
                    </a:lnTo>
                    <a:lnTo>
                      <a:pt x="34" y="52"/>
                    </a:lnTo>
                    <a:lnTo>
                      <a:pt x="52" y="3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05"/>
              <p:cNvSpPr/>
              <p:nvPr/>
            </p:nvSpPr>
            <p:spPr>
              <a:xfrm rot="5400000">
                <a:off x="3900240" y="23184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7" y="0"/>
                    </a:moveTo>
                    <a:lnTo>
                      <a:pt x="0" y="17"/>
                    </a:lnTo>
                    <a:lnTo>
                      <a:pt x="34" y="52"/>
                    </a:lnTo>
                    <a:lnTo>
                      <a:pt x="52" y="3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607"/>
            <p:cNvGrpSpPr/>
            <p:nvPr/>
          </p:nvGrpSpPr>
          <p:grpSpPr>
            <a:xfrm>
              <a:off x="0" y="0"/>
              <a:ext cx="12191760" cy="6857640"/>
              <a:chOff x="0" y="0"/>
              <a:chExt cx="12191760" cy="6857640"/>
            </a:xfrm>
          </p:grpSpPr>
          <p:sp>
            <p:nvSpPr>
              <p:cNvPr id="402" name="Freeform 407"/>
              <p:cNvSpPr/>
              <p:nvPr/>
            </p:nvSpPr>
            <p:spPr>
              <a:xfrm rot="5400000">
                <a:off x="2958480" y="990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408"/>
              <p:cNvSpPr/>
              <p:nvPr/>
            </p:nvSpPr>
            <p:spPr>
              <a:xfrm rot="5400000">
                <a:off x="2958480" y="990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409"/>
              <p:cNvSpPr/>
              <p:nvPr/>
            </p:nvSpPr>
            <p:spPr>
              <a:xfrm rot="5400000">
                <a:off x="2012400" y="174744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2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10"/>
              <p:cNvSpPr/>
              <p:nvPr/>
            </p:nvSpPr>
            <p:spPr>
              <a:xfrm rot="5400000">
                <a:off x="2012400" y="174744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2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411"/>
              <p:cNvSpPr/>
              <p:nvPr/>
            </p:nvSpPr>
            <p:spPr>
              <a:xfrm rot="5400000">
                <a:off x="1069560" y="250452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12"/>
              <p:cNvSpPr/>
              <p:nvPr/>
            </p:nvSpPr>
            <p:spPr>
              <a:xfrm rot="5400000">
                <a:off x="1069560" y="250452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3"/>
              <p:cNvSpPr/>
              <p:nvPr/>
            </p:nvSpPr>
            <p:spPr>
              <a:xfrm rot="5400000">
                <a:off x="125640" y="3259080"/>
                <a:ext cx="64440" cy="80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6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2" y="3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414"/>
              <p:cNvSpPr/>
              <p:nvPr/>
            </p:nvSpPr>
            <p:spPr>
              <a:xfrm rot="5400000">
                <a:off x="125640" y="3259080"/>
                <a:ext cx="64440" cy="80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6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2" y="3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15"/>
              <p:cNvSpPr/>
              <p:nvPr/>
            </p:nvSpPr>
            <p:spPr>
              <a:xfrm rot="5400000">
                <a:off x="3758400" y="3704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16"/>
              <p:cNvSpPr/>
              <p:nvPr/>
            </p:nvSpPr>
            <p:spPr>
              <a:xfrm rot="5400000">
                <a:off x="3758400" y="3704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17"/>
              <p:cNvSpPr/>
              <p:nvPr/>
            </p:nvSpPr>
            <p:spPr>
              <a:xfrm rot="5400000">
                <a:off x="2815920" y="112356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418"/>
              <p:cNvSpPr/>
              <p:nvPr/>
            </p:nvSpPr>
            <p:spPr>
              <a:xfrm rot="5400000">
                <a:off x="2815920" y="112356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419"/>
              <p:cNvSpPr/>
              <p:nvPr/>
            </p:nvSpPr>
            <p:spPr>
              <a:xfrm rot="5400000">
                <a:off x="1873080" y="1883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420"/>
              <p:cNvSpPr/>
              <p:nvPr/>
            </p:nvSpPr>
            <p:spPr>
              <a:xfrm rot="5400000">
                <a:off x="1873080" y="1883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421"/>
              <p:cNvSpPr/>
              <p:nvPr/>
            </p:nvSpPr>
            <p:spPr>
              <a:xfrm rot="5400000">
                <a:off x="928080" y="2639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422"/>
              <p:cNvSpPr/>
              <p:nvPr/>
            </p:nvSpPr>
            <p:spPr>
              <a:xfrm rot="5400000">
                <a:off x="928080" y="2639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423"/>
              <p:cNvSpPr/>
              <p:nvPr/>
            </p:nvSpPr>
            <p:spPr>
              <a:xfrm rot="5400000">
                <a:off x="-5760" y="3407400"/>
                <a:ext cx="41040" cy="291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7" y="0"/>
                    </a:moveTo>
                    <a:lnTo>
                      <a:pt x="0" y="16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424"/>
              <p:cNvSpPr/>
              <p:nvPr/>
            </p:nvSpPr>
            <p:spPr>
              <a:xfrm rot="5400000">
                <a:off x="-5760" y="3407400"/>
                <a:ext cx="41040" cy="291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7" y="0"/>
                    </a:moveTo>
                    <a:lnTo>
                      <a:pt x="0" y="16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425"/>
              <p:cNvSpPr/>
              <p:nvPr/>
            </p:nvSpPr>
            <p:spPr>
              <a:xfrm rot="5400000">
                <a:off x="4065480" y="12312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26"/>
              <p:cNvSpPr/>
              <p:nvPr/>
            </p:nvSpPr>
            <p:spPr>
              <a:xfrm rot="5400000">
                <a:off x="4065480" y="12312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27"/>
              <p:cNvSpPr/>
              <p:nvPr/>
            </p:nvSpPr>
            <p:spPr>
              <a:xfrm rot="5400000">
                <a:off x="3120120" y="87984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5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8"/>
              <p:cNvSpPr/>
              <p:nvPr/>
            </p:nvSpPr>
            <p:spPr>
              <a:xfrm rot="5400000">
                <a:off x="3120120" y="87984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5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29"/>
              <p:cNvSpPr/>
              <p:nvPr/>
            </p:nvSpPr>
            <p:spPr>
              <a:xfrm rot="5400000">
                <a:off x="2178360" y="163584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30"/>
              <p:cNvSpPr/>
              <p:nvPr/>
            </p:nvSpPr>
            <p:spPr>
              <a:xfrm rot="5400000">
                <a:off x="2178360" y="163584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31"/>
              <p:cNvSpPr/>
              <p:nvPr/>
            </p:nvSpPr>
            <p:spPr>
              <a:xfrm rot="5400000">
                <a:off x="1233720" y="2392920"/>
                <a:ext cx="44640" cy="52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6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32"/>
              <p:cNvSpPr/>
              <p:nvPr/>
            </p:nvSpPr>
            <p:spPr>
              <a:xfrm rot="5400000">
                <a:off x="1233720" y="2392920"/>
                <a:ext cx="44640" cy="52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6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433"/>
              <p:cNvSpPr/>
              <p:nvPr/>
            </p:nvSpPr>
            <p:spPr>
              <a:xfrm rot="5400000">
                <a:off x="291600" y="31503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34"/>
              <p:cNvSpPr/>
              <p:nvPr/>
            </p:nvSpPr>
            <p:spPr>
              <a:xfrm rot="5400000">
                <a:off x="291600" y="31503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35"/>
              <p:cNvSpPr/>
              <p:nvPr/>
            </p:nvSpPr>
            <p:spPr>
              <a:xfrm rot="5400000">
                <a:off x="237600" y="-237600"/>
                <a:ext cx="1933200" cy="2408400"/>
              </a:xfrm>
              <a:custGeom>
                <a:avLst/>
                <a:gdLst>
                  <a:gd name="textAreaLeft" fmla="*/ 0 w 1933200"/>
                  <a:gd name="textAreaRight" fmla="*/ 1933560 w 1933200"/>
                  <a:gd name="textAreaTop" fmla="*/ 0 h 2408400"/>
                  <a:gd name="textAreaBottom" fmla="*/ 2408760 h 2408400"/>
                </a:gdLst>
                <a:ahLst/>
                <a:rect l="textAreaLeft" t="textAreaTop" r="textAreaRight" b="textAreaBottom"/>
                <a:pathLst>
                  <a:path w="1555" h="1555">
                    <a:moveTo>
                      <a:pt x="1550" y="1552"/>
                    </a:moveTo>
                    <a:lnTo>
                      <a:pt x="1548" y="1555"/>
                    </a:lnTo>
                    <a:lnTo>
                      <a:pt x="1555" y="1555"/>
                    </a:lnTo>
                    <a:lnTo>
                      <a:pt x="1550" y="1552"/>
                    </a:lnTo>
                    <a:close/>
                    <a:moveTo>
                      <a:pt x="1460" y="1460"/>
                    </a:moveTo>
                    <a:lnTo>
                      <a:pt x="1444" y="1477"/>
                    </a:lnTo>
                    <a:lnTo>
                      <a:pt x="1517" y="1552"/>
                    </a:lnTo>
                    <a:lnTo>
                      <a:pt x="1533" y="1536"/>
                    </a:lnTo>
                    <a:lnTo>
                      <a:pt x="1460" y="1460"/>
                    </a:lnTo>
                    <a:close/>
                    <a:moveTo>
                      <a:pt x="1354" y="1354"/>
                    </a:moveTo>
                    <a:lnTo>
                      <a:pt x="1337" y="1370"/>
                    </a:lnTo>
                    <a:lnTo>
                      <a:pt x="1411" y="1444"/>
                    </a:lnTo>
                    <a:lnTo>
                      <a:pt x="1427" y="1427"/>
                    </a:lnTo>
                    <a:lnTo>
                      <a:pt x="1354" y="1354"/>
                    </a:lnTo>
                    <a:close/>
                    <a:moveTo>
                      <a:pt x="943" y="943"/>
                    </a:moveTo>
                    <a:lnTo>
                      <a:pt x="926" y="959"/>
                    </a:lnTo>
                    <a:lnTo>
                      <a:pt x="1321" y="1354"/>
                    </a:lnTo>
                    <a:lnTo>
                      <a:pt x="1337" y="1337"/>
                    </a:lnTo>
                    <a:lnTo>
                      <a:pt x="943" y="943"/>
                    </a:lnTo>
                    <a:close/>
                    <a:moveTo>
                      <a:pt x="853" y="853"/>
                    </a:moveTo>
                    <a:lnTo>
                      <a:pt x="836" y="869"/>
                    </a:lnTo>
                    <a:lnTo>
                      <a:pt x="910" y="943"/>
                    </a:lnTo>
                    <a:lnTo>
                      <a:pt x="926" y="926"/>
                    </a:lnTo>
                    <a:lnTo>
                      <a:pt x="853" y="853"/>
                    </a:lnTo>
                    <a:close/>
                    <a:moveTo>
                      <a:pt x="744" y="744"/>
                    </a:moveTo>
                    <a:lnTo>
                      <a:pt x="728" y="761"/>
                    </a:lnTo>
                    <a:lnTo>
                      <a:pt x="803" y="834"/>
                    </a:lnTo>
                    <a:lnTo>
                      <a:pt x="820" y="817"/>
                    </a:lnTo>
                    <a:lnTo>
                      <a:pt x="744" y="744"/>
                    </a:lnTo>
                    <a:close/>
                    <a:moveTo>
                      <a:pt x="333" y="333"/>
                    </a:moveTo>
                    <a:lnTo>
                      <a:pt x="316" y="349"/>
                    </a:lnTo>
                    <a:lnTo>
                      <a:pt x="711" y="744"/>
                    </a:lnTo>
                    <a:lnTo>
                      <a:pt x="728" y="727"/>
                    </a:lnTo>
                    <a:lnTo>
                      <a:pt x="333" y="333"/>
                    </a:lnTo>
                    <a:close/>
                    <a:moveTo>
                      <a:pt x="243" y="243"/>
                    </a:moveTo>
                    <a:lnTo>
                      <a:pt x="227" y="260"/>
                    </a:lnTo>
                    <a:lnTo>
                      <a:pt x="300" y="333"/>
                    </a:lnTo>
                    <a:lnTo>
                      <a:pt x="316" y="316"/>
                    </a:lnTo>
                    <a:lnTo>
                      <a:pt x="243" y="243"/>
                    </a:lnTo>
                    <a:close/>
                    <a:moveTo>
                      <a:pt x="137" y="134"/>
                    </a:moveTo>
                    <a:lnTo>
                      <a:pt x="120" y="151"/>
                    </a:lnTo>
                    <a:lnTo>
                      <a:pt x="193" y="226"/>
                    </a:lnTo>
                    <a:lnTo>
                      <a:pt x="210" y="210"/>
                    </a:lnTo>
                    <a:lnTo>
                      <a:pt x="137" y="134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104" y="134"/>
                    </a:lnTo>
                    <a:lnTo>
                      <a:pt x="120" y="1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36"/>
              <p:cNvSpPr/>
              <p:nvPr/>
            </p:nvSpPr>
            <p:spPr>
              <a:xfrm rot="5400000">
                <a:off x="237600" y="-237600"/>
                <a:ext cx="1933200" cy="2408400"/>
              </a:xfrm>
              <a:custGeom>
                <a:avLst/>
                <a:gdLst>
                  <a:gd name="textAreaLeft" fmla="*/ 0 w 1933200"/>
                  <a:gd name="textAreaRight" fmla="*/ 1933560 w 1933200"/>
                  <a:gd name="textAreaTop" fmla="*/ 0 h 2408400"/>
                  <a:gd name="textAreaBottom" fmla="*/ 2408760 h 2408400"/>
                </a:gdLst>
                <a:ahLst/>
                <a:rect l="textAreaLeft" t="textAreaTop" r="textAreaRight" b="textAreaBottom"/>
                <a:pathLst>
                  <a:path w="1555" h="1555">
                    <a:moveTo>
                      <a:pt x="1550" y="1552"/>
                    </a:moveTo>
                    <a:lnTo>
                      <a:pt x="1548" y="1555"/>
                    </a:lnTo>
                    <a:lnTo>
                      <a:pt x="1555" y="1555"/>
                    </a:lnTo>
                    <a:lnTo>
                      <a:pt x="1550" y="1552"/>
                    </a:lnTo>
                    <a:moveTo>
                      <a:pt x="1460" y="1460"/>
                    </a:moveTo>
                    <a:lnTo>
                      <a:pt x="1444" y="1477"/>
                    </a:lnTo>
                    <a:lnTo>
                      <a:pt x="1517" y="1552"/>
                    </a:lnTo>
                    <a:lnTo>
                      <a:pt x="1533" y="1536"/>
                    </a:lnTo>
                    <a:lnTo>
                      <a:pt x="1460" y="1460"/>
                    </a:lnTo>
                    <a:moveTo>
                      <a:pt x="1354" y="1354"/>
                    </a:moveTo>
                    <a:lnTo>
                      <a:pt x="1337" y="1370"/>
                    </a:lnTo>
                    <a:lnTo>
                      <a:pt x="1411" y="1444"/>
                    </a:lnTo>
                    <a:lnTo>
                      <a:pt x="1427" y="1427"/>
                    </a:lnTo>
                    <a:lnTo>
                      <a:pt x="1354" y="1354"/>
                    </a:lnTo>
                    <a:moveTo>
                      <a:pt x="943" y="943"/>
                    </a:moveTo>
                    <a:lnTo>
                      <a:pt x="926" y="959"/>
                    </a:lnTo>
                    <a:lnTo>
                      <a:pt x="1321" y="1354"/>
                    </a:lnTo>
                    <a:lnTo>
                      <a:pt x="1337" y="1337"/>
                    </a:lnTo>
                    <a:lnTo>
                      <a:pt x="943" y="943"/>
                    </a:lnTo>
                    <a:moveTo>
                      <a:pt x="853" y="853"/>
                    </a:moveTo>
                    <a:lnTo>
                      <a:pt x="836" y="869"/>
                    </a:lnTo>
                    <a:lnTo>
                      <a:pt x="910" y="943"/>
                    </a:lnTo>
                    <a:lnTo>
                      <a:pt x="926" y="926"/>
                    </a:lnTo>
                    <a:lnTo>
                      <a:pt x="853" y="853"/>
                    </a:lnTo>
                    <a:moveTo>
                      <a:pt x="744" y="744"/>
                    </a:moveTo>
                    <a:lnTo>
                      <a:pt x="728" y="761"/>
                    </a:lnTo>
                    <a:lnTo>
                      <a:pt x="803" y="834"/>
                    </a:lnTo>
                    <a:lnTo>
                      <a:pt x="820" y="817"/>
                    </a:lnTo>
                    <a:lnTo>
                      <a:pt x="744" y="744"/>
                    </a:lnTo>
                    <a:moveTo>
                      <a:pt x="333" y="333"/>
                    </a:moveTo>
                    <a:lnTo>
                      <a:pt x="316" y="349"/>
                    </a:lnTo>
                    <a:lnTo>
                      <a:pt x="711" y="744"/>
                    </a:lnTo>
                    <a:lnTo>
                      <a:pt x="728" y="727"/>
                    </a:lnTo>
                    <a:lnTo>
                      <a:pt x="333" y="333"/>
                    </a:lnTo>
                    <a:moveTo>
                      <a:pt x="243" y="243"/>
                    </a:moveTo>
                    <a:lnTo>
                      <a:pt x="227" y="260"/>
                    </a:lnTo>
                    <a:lnTo>
                      <a:pt x="300" y="333"/>
                    </a:lnTo>
                    <a:lnTo>
                      <a:pt x="316" y="316"/>
                    </a:lnTo>
                    <a:lnTo>
                      <a:pt x="243" y="243"/>
                    </a:lnTo>
                    <a:moveTo>
                      <a:pt x="137" y="134"/>
                    </a:moveTo>
                    <a:lnTo>
                      <a:pt x="120" y="151"/>
                    </a:lnTo>
                    <a:lnTo>
                      <a:pt x="193" y="226"/>
                    </a:lnTo>
                    <a:lnTo>
                      <a:pt x="210" y="210"/>
                    </a:lnTo>
                    <a:lnTo>
                      <a:pt x="137" y="134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104" y="134"/>
                    </a:lnTo>
                    <a:lnTo>
                      <a:pt x="120" y="1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37"/>
              <p:cNvSpPr/>
              <p:nvPr/>
            </p:nvSpPr>
            <p:spPr>
              <a:xfrm rot="5400000">
                <a:off x="2013480" y="23220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38"/>
              <p:cNvSpPr/>
              <p:nvPr/>
            </p:nvSpPr>
            <p:spPr>
              <a:xfrm rot="5400000">
                <a:off x="2013480" y="23220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39"/>
              <p:cNvSpPr/>
              <p:nvPr/>
            </p:nvSpPr>
            <p:spPr>
              <a:xfrm rot="5400000">
                <a:off x="1071720" y="98892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440"/>
              <p:cNvSpPr/>
              <p:nvPr/>
            </p:nvSpPr>
            <p:spPr>
              <a:xfrm rot="5400000">
                <a:off x="1071720" y="98892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441"/>
              <p:cNvSpPr/>
              <p:nvPr/>
            </p:nvSpPr>
            <p:spPr>
              <a:xfrm rot="5400000">
                <a:off x="129240" y="174564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42"/>
              <p:cNvSpPr/>
              <p:nvPr/>
            </p:nvSpPr>
            <p:spPr>
              <a:xfrm rot="5400000">
                <a:off x="129240" y="174564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443"/>
              <p:cNvSpPr/>
              <p:nvPr/>
            </p:nvSpPr>
            <p:spPr>
              <a:xfrm rot="5400000">
                <a:off x="1873080" y="367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44"/>
              <p:cNvSpPr/>
              <p:nvPr/>
            </p:nvSpPr>
            <p:spPr>
              <a:xfrm rot="5400000">
                <a:off x="1873080" y="367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445"/>
              <p:cNvSpPr/>
              <p:nvPr/>
            </p:nvSpPr>
            <p:spPr>
              <a:xfrm rot="5400000">
                <a:off x="928080" y="11257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446"/>
              <p:cNvSpPr/>
              <p:nvPr/>
            </p:nvSpPr>
            <p:spPr>
              <a:xfrm rot="5400000">
                <a:off x="928080" y="112572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447"/>
              <p:cNvSpPr/>
              <p:nvPr/>
            </p:nvSpPr>
            <p:spPr>
              <a:xfrm rot="5400000">
                <a:off x="-5760" y="1891800"/>
                <a:ext cx="40680" cy="29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6" y="0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31" y="19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48"/>
              <p:cNvSpPr/>
              <p:nvPr/>
            </p:nvSpPr>
            <p:spPr>
              <a:xfrm rot="5400000">
                <a:off x="-5760" y="1891800"/>
                <a:ext cx="40680" cy="29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16" y="0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31" y="19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49"/>
              <p:cNvSpPr/>
              <p:nvPr/>
            </p:nvSpPr>
            <p:spPr>
              <a:xfrm rot="5400000">
                <a:off x="2179800" y="123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50"/>
              <p:cNvSpPr/>
              <p:nvPr/>
            </p:nvSpPr>
            <p:spPr>
              <a:xfrm rot="5400000">
                <a:off x="2179800" y="123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51"/>
              <p:cNvSpPr/>
              <p:nvPr/>
            </p:nvSpPr>
            <p:spPr>
              <a:xfrm rot="5400000">
                <a:off x="1235520" y="87804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52"/>
              <p:cNvSpPr/>
              <p:nvPr/>
            </p:nvSpPr>
            <p:spPr>
              <a:xfrm rot="5400000">
                <a:off x="1235520" y="87804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453"/>
              <p:cNvSpPr/>
              <p:nvPr/>
            </p:nvSpPr>
            <p:spPr>
              <a:xfrm rot="5400000">
                <a:off x="291240" y="16372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54"/>
              <p:cNvSpPr/>
              <p:nvPr/>
            </p:nvSpPr>
            <p:spPr>
              <a:xfrm rot="5400000">
                <a:off x="291240" y="16372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55"/>
              <p:cNvSpPr/>
              <p:nvPr/>
            </p:nvSpPr>
            <p:spPr>
              <a:xfrm rot="5400000">
                <a:off x="51840" y="-51840"/>
                <a:ext cx="419760" cy="523440"/>
              </a:xfrm>
              <a:custGeom>
                <a:avLst/>
                <a:gdLst>
                  <a:gd name="textAreaLeft" fmla="*/ 0 w 419760"/>
                  <a:gd name="textAreaRight" fmla="*/ 420120 w 419760"/>
                  <a:gd name="textAreaTop" fmla="*/ 0 h 523440"/>
                  <a:gd name="textAreaBottom" fmla="*/ 523800 h 523440"/>
                </a:gdLst>
                <a:ahLst/>
                <a:rect l="textAreaLeft" t="textAreaTop" r="textAreaRight" b="textAreaBottom"/>
                <a:pathLst>
                  <a:path w="338" h="338">
                    <a:moveTo>
                      <a:pt x="333" y="333"/>
                    </a:moveTo>
                    <a:lnTo>
                      <a:pt x="331" y="338"/>
                    </a:lnTo>
                    <a:lnTo>
                      <a:pt x="338" y="338"/>
                    </a:lnTo>
                    <a:lnTo>
                      <a:pt x="333" y="333"/>
                    </a:lnTo>
                    <a:close/>
                    <a:moveTo>
                      <a:pt x="243" y="243"/>
                    </a:moveTo>
                    <a:lnTo>
                      <a:pt x="227" y="260"/>
                    </a:lnTo>
                    <a:lnTo>
                      <a:pt x="300" y="333"/>
                    </a:lnTo>
                    <a:lnTo>
                      <a:pt x="316" y="316"/>
                    </a:lnTo>
                    <a:lnTo>
                      <a:pt x="243" y="243"/>
                    </a:lnTo>
                    <a:close/>
                    <a:moveTo>
                      <a:pt x="134" y="134"/>
                    </a:moveTo>
                    <a:lnTo>
                      <a:pt x="118" y="153"/>
                    </a:lnTo>
                    <a:lnTo>
                      <a:pt x="193" y="227"/>
                    </a:lnTo>
                    <a:lnTo>
                      <a:pt x="210" y="210"/>
                    </a:lnTo>
                    <a:lnTo>
                      <a:pt x="134" y="134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101" y="134"/>
                    </a:lnTo>
                    <a:lnTo>
                      <a:pt x="118" y="1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456"/>
              <p:cNvSpPr/>
              <p:nvPr/>
            </p:nvSpPr>
            <p:spPr>
              <a:xfrm rot="5400000">
                <a:off x="51840" y="-51840"/>
                <a:ext cx="419760" cy="523440"/>
              </a:xfrm>
              <a:custGeom>
                <a:avLst/>
                <a:gdLst>
                  <a:gd name="textAreaLeft" fmla="*/ 0 w 419760"/>
                  <a:gd name="textAreaRight" fmla="*/ 420120 w 419760"/>
                  <a:gd name="textAreaTop" fmla="*/ 0 h 523440"/>
                  <a:gd name="textAreaBottom" fmla="*/ 523800 h 523440"/>
                </a:gdLst>
                <a:ahLst/>
                <a:rect l="textAreaLeft" t="textAreaTop" r="textAreaRight" b="textAreaBottom"/>
                <a:pathLst>
                  <a:path w="338" h="338">
                    <a:moveTo>
                      <a:pt x="333" y="333"/>
                    </a:moveTo>
                    <a:lnTo>
                      <a:pt x="331" y="338"/>
                    </a:lnTo>
                    <a:lnTo>
                      <a:pt x="338" y="338"/>
                    </a:lnTo>
                    <a:lnTo>
                      <a:pt x="333" y="333"/>
                    </a:lnTo>
                    <a:moveTo>
                      <a:pt x="243" y="243"/>
                    </a:moveTo>
                    <a:lnTo>
                      <a:pt x="227" y="260"/>
                    </a:lnTo>
                    <a:lnTo>
                      <a:pt x="300" y="333"/>
                    </a:lnTo>
                    <a:lnTo>
                      <a:pt x="316" y="316"/>
                    </a:lnTo>
                    <a:lnTo>
                      <a:pt x="243" y="243"/>
                    </a:lnTo>
                    <a:moveTo>
                      <a:pt x="134" y="134"/>
                    </a:moveTo>
                    <a:lnTo>
                      <a:pt x="118" y="153"/>
                    </a:lnTo>
                    <a:lnTo>
                      <a:pt x="193" y="227"/>
                    </a:lnTo>
                    <a:lnTo>
                      <a:pt x="210" y="210"/>
                    </a:lnTo>
                    <a:lnTo>
                      <a:pt x="134" y="134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101" y="134"/>
                    </a:lnTo>
                    <a:lnTo>
                      <a:pt x="118" y="1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57"/>
              <p:cNvSpPr/>
              <p:nvPr/>
            </p:nvSpPr>
            <p:spPr>
              <a:xfrm rot="5400000">
                <a:off x="128520" y="2322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58"/>
              <p:cNvSpPr/>
              <p:nvPr/>
            </p:nvSpPr>
            <p:spPr>
              <a:xfrm rot="5400000">
                <a:off x="128520" y="2322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459"/>
              <p:cNvSpPr/>
              <p:nvPr/>
            </p:nvSpPr>
            <p:spPr>
              <a:xfrm rot="5400000">
                <a:off x="-3240" y="376200"/>
                <a:ext cx="40680" cy="338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16" y="0"/>
                    </a:moveTo>
                    <a:lnTo>
                      <a:pt x="0" y="17"/>
                    </a:lnTo>
                    <a:lnTo>
                      <a:pt x="2" y="22"/>
                    </a:lnTo>
                    <a:lnTo>
                      <a:pt x="31" y="22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460"/>
              <p:cNvSpPr/>
              <p:nvPr/>
            </p:nvSpPr>
            <p:spPr>
              <a:xfrm rot="5400000">
                <a:off x="-3240" y="376200"/>
                <a:ext cx="40680" cy="338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16" y="0"/>
                    </a:moveTo>
                    <a:lnTo>
                      <a:pt x="0" y="17"/>
                    </a:lnTo>
                    <a:lnTo>
                      <a:pt x="2" y="22"/>
                    </a:lnTo>
                    <a:lnTo>
                      <a:pt x="31" y="22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61"/>
              <p:cNvSpPr/>
              <p:nvPr/>
            </p:nvSpPr>
            <p:spPr>
              <a:xfrm rot="5400000">
                <a:off x="293040" y="11880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462"/>
              <p:cNvSpPr/>
              <p:nvPr/>
            </p:nvSpPr>
            <p:spPr>
              <a:xfrm rot="5400000">
                <a:off x="293040" y="11880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63"/>
              <p:cNvSpPr/>
              <p:nvPr/>
            </p:nvSpPr>
            <p:spPr>
              <a:xfrm rot="5400000">
                <a:off x="11673720" y="6182640"/>
                <a:ext cx="471960" cy="56376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80" h="364">
                    <a:moveTo>
                      <a:pt x="307" y="274"/>
                    </a:moveTo>
                    <a:lnTo>
                      <a:pt x="291" y="291"/>
                    </a:lnTo>
                    <a:lnTo>
                      <a:pt x="364" y="364"/>
                    </a:lnTo>
                    <a:lnTo>
                      <a:pt x="380" y="348"/>
                    </a:lnTo>
                    <a:lnTo>
                      <a:pt x="307" y="274"/>
                    </a:lnTo>
                    <a:close/>
                    <a:moveTo>
                      <a:pt x="198" y="166"/>
                    </a:moveTo>
                    <a:lnTo>
                      <a:pt x="182" y="182"/>
                    </a:lnTo>
                    <a:lnTo>
                      <a:pt x="255" y="258"/>
                    </a:lnTo>
                    <a:lnTo>
                      <a:pt x="274" y="241"/>
                    </a:lnTo>
                    <a:lnTo>
                      <a:pt x="198" y="166"/>
                    </a:lnTo>
                    <a:close/>
                    <a:moveTo>
                      <a:pt x="33" y="0"/>
                    </a:moveTo>
                    <a:lnTo>
                      <a:pt x="0" y="0"/>
                    </a:lnTo>
                    <a:lnTo>
                      <a:pt x="165" y="166"/>
                    </a:lnTo>
                    <a:lnTo>
                      <a:pt x="182" y="1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464"/>
              <p:cNvSpPr/>
              <p:nvPr/>
            </p:nvSpPr>
            <p:spPr>
              <a:xfrm rot="5400000">
                <a:off x="11673720" y="6182640"/>
                <a:ext cx="471960" cy="56376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80" h="364">
                    <a:moveTo>
                      <a:pt x="307" y="274"/>
                    </a:moveTo>
                    <a:lnTo>
                      <a:pt x="291" y="291"/>
                    </a:lnTo>
                    <a:lnTo>
                      <a:pt x="364" y="364"/>
                    </a:lnTo>
                    <a:lnTo>
                      <a:pt x="380" y="348"/>
                    </a:lnTo>
                    <a:lnTo>
                      <a:pt x="307" y="274"/>
                    </a:lnTo>
                    <a:moveTo>
                      <a:pt x="198" y="166"/>
                    </a:moveTo>
                    <a:lnTo>
                      <a:pt x="182" y="182"/>
                    </a:lnTo>
                    <a:lnTo>
                      <a:pt x="255" y="258"/>
                    </a:lnTo>
                    <a:lnTo>
                      <a:pt x="274" y="241"/>
                    </a:lnTo>
                    <a:lnTo>
                      <a:pt x="198" y="166"/>
                    </a:lnTo>
                    <a:moveTo>
                      <a:pt x="33" y="0"/>
                    </a:moveTo>
                    <a:lnTo>
                      <a:pt x="0" y="0"/>
                    </a:lnTo>
                    <a:lnTo>
                      <a:pt x="165" y="166"/>
                    </a:lnTo>
                    <a:lnTo>
                      <a:pt x="182" y="149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465"/>
              <p:cNvSpPr/>
              <p:nvPr/>
            </p:nvSpPr>
            <p:spPr>
              <a:xfrm rot="5400000">
                <a:off x="11439360" y="6669360"/>
                <a:ext cx="156600" cy="219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26" h="142">
                    <a:moveTo>
                      <a:pt x="17" y="0"/>
                    </a:moveTo>
                    <a:lnTo>
                      <a:pt x="0" y="17"/>
                    </a:lnTo>
                    <a:lnTo>
                      <a:pt x="126" y="142"/>
                    </a:lnTo>
                    <a:lnTo>
                      <a:pt x="126" y="10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66"/>
              <p:cNvSpPr/>
              <p:nvPr/>
            </p:nvSpPr>
            <p:spPr>
              <a:xfrm rot="5400000">
                <a:off x="11439360" y="6669360"/>
                <a:ext cx="156600" cy="219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26" h="142">
                    <a:moveTo>
                      <a:pt x="17" y="0"/>
                    </a:moveTo>
                    <a:lnTo>
                      <a:pt x="0" y="17"/>
                    </a:lnTo>
                    <a:lnTo>
                      <a:pt x="126" y="142"/>
                    </a:lnTo>
                    <a:lnTo>
                      <a:pt x="126" y="10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67"/>
              <p:cNvSpPr/>
              <p:nvPr/>
            </p:nvSpPr>
            <p:spPr>
              <a:xfrm rot="5400000">
                <a:off x="11747160" y="65394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7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68"/>
              <p:cNvSpPr/>
              <p:nvPr/>
            </p:nvSpPr>
            <p:spPr>
              <a:xfrm rot="5400000">
                <a:off x="11747160" y="65394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7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9"/>
              <p:cNvSpPr/>
              <p:nvPr/>
            </p:nvSpPr>
            <p:spPr>
              <a:xfrm rot="5400000">
                <a:off x="11606760" y="6676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70"/>
              <p:cNvSpPr/>
              <p:nvPr/>
            </p:nvSpPr>
            <p:spPr>
              <a:xfrm rot="5400000">
                <a:off x="11606760" y="6676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71"/>
              <p:cNvSpPr/>
              <p:nvPr/>
            </p:nvSpPr>
            <p:spPr>
              <a:xfrm rot="5400000">
                <a:off x="11914560" y="64288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72"/>
              <p:cNvSpPr/>
              <p:nvPr/>
            </p:nvSpPr>
            <p:spPr>
              <a:xfrm rot="5400000">
                <a:off x="11914560" y="64288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3"/>
              <p:cNvSpPr/>
              <p:nvPr/>
            </p:nvSpPr>
            <p:spPr>
              <a:xfrm rot="5400000">
                <a:off x="9974520" y="4483800"/>
                <a:ext cx="1985400" cy="2448720"/>
              </a:xfrm>
              <a:custGeom>
                <a:avLst/>
                <a:gdLst>
                  <a:gd name="textAreaLeft" fmla="*/ 0 w 1985400"/>
                  <a:gd name="textAreaRight" fmla="*/ 1985760 w 1985400"/>
                  <a:gd name="textAreaTop" fmla="*/ 0 h 2448720"/>
                  <a:gd name="textAreaBottom" fmla="*/ 2449080 h 2448720"/>
                </a:gdLst>
                <a:ahLst/>
                <a:rect l="textAreaLeft" t="textAreaTop" r="textAreaRight" b="textAreaBottom"/>
                <a:pathLst>
                  <a:path w="1597" h="1581">
                    <a:moveTo>
                      <a:pt x="1522" y="1492"/>
                    </a:moveTo>
                    <a:lnTo>
                      <a:pt x="1505" y="1508"/>
                    </a:lnTo>
                    <a:lnTo>
                      <a:pt x="1579" y="1581"/>
                    </a:lnTo>
                    <a:lnTo>
                      <a:pt x="1597" y="1565"/>
                    </a:lnTo>
                    <a:lnTo>
                      <a:pt x="1522" y="1492"/>
                    </a:lnTo>
                    <a:close/>
                    <a:moveTo>
                      <a:pt x="1415" y="1385"/>
                    </a:moveTo>
                    <a:lnTo>
                      <a:pt x="1399" y="1402"/>
                    </a:lnTo>
                    <a:lnTo>
                      <a:pt x="1472" y="1475"/>
                    </a:lnTo>
                    <a:lnTo>
                      <a:pt x="1489" y="1458"/>
                    </a:lnTo>
                    <a:lnTo>
                      <a:pt x="1415" y="1385"/>
                    </a:lnTo>
                    <a:close/>
                    <a:moveTo>
                      <a:pt x="1004" y="974"/>
                    </a:moveTo>
                    <a:lnTo>
                      <a:pt x="988" y="990"/>
                    </a:lnTo>
                    <a:lnTo>
                      <a:pt x="1382" y="1385"/>
                    </a:lnTo>
                    <a:lnTo>
                      <a:pt x="1399" y="1366"/>
                    </a:lnTo>
                    <a:lnTo>
                      <a:pt x="1004" y="974"/>
                    </a:lnTo>
                    <a:close/>
                    <a:moveTo>
                      <a:pt x="914" y="882"/>
                    </a:moveTo>
                    <a:lnTo>
                      <a:pt x="898" y="898"/>
                    </a:lnTo>
                    <a:lnTo>
                      <a:pt x="971" y="974"/>
                    </a:lnTo>
                    <a:lnTo>
                      <a:pt x="988" y="957"/>
                    </a:lnTo>
                    <a:lnTo>
                      <a:pt x="914" y="882"/>
                    </a:lnTo>
                    <a:close/>
                    <a:moveTo>
                      <a:pt x="806" y="775"/>
                    </a:moveTo>
                    <a:lnTo>
                      <a:pt x="789" y="792"/>
                    </a:lnTo>
                    <a:lnTo>
                      <a:pt x="865" y="865"/>
                    </a:lnTo>
                    <a:lnTo>
                      <a:pt x="881" y="849"/>
                    </a:lnTo>
                    <a:lnTo>
                      <a:pt x="806" y="775"/>
                    </a:lnTo>
                    <a:close/>
                    <a:moveTo>
                      <a:pt x="397" y="364"/>
                    </a:moveTo>
                    <a:lnTo>
                      <a:pt x="380" y="381"/>
                    </a:lnTo>
                    <a:lnTo>
                      <a:pt x="773" y="775"/>
                    </a:lnTo>
                    <a:lnTo>
                      <a:pt x="789" y="759"/>
                    </a:lnTo>
                    <a:lnTo>
                      <a:pt x="397" y="364"/>
                    </a:lnTo>
                    <a:close/>
                    <a:moveTo>
                      <a:pt x="305" y="274"/>
                    </a:moveTo>
                    <a:lnTo>
                      <a:pt x="288" y="291"/>
                    </a:lnTo>
                    <a:lnTo>
                      <a:pt x="361" y="364"/>
                    </a:lnTo>
                    <a:lnTo>
                      <a:pt x="380" y="348"/>
                    </a:lnTo>
                    <a:lnTo>
                      <a:pt x="305" y="274"/>
                    </a:lnTo>
                    <a:close/>
                    <a:moveTo>
                      <a:pt x="198" y="166"/>
                    </a:moveTo>
                    <a:lnTo>
                      <a:pt x="182" y="182"/>
                    </a:lnTo>
                    <a:lnTo>
                      <a:pt x="255" y="255"/>
                    </a:lnTo>
                    <a:lnTo>
                      <a:pt x="272" y="239"/>
                    </a:lnTo>
                    <a:lnTo>
                      <a:pt x="198" y="166"/>
                    </a:lnTo>
                    <a:close/>
                    <a:moveTo>
                      <a:pt x="33" y="0"/>
                    </a:moveTo>
                    <a:lnTo>
                      <a:pt x="0" y="0"/>
                    </a:lnTo>
                    <a:lnTo>
                      <a:pt x="165" y="166"/>
                    </a:lnTo>
                    <a:lnTo>
                      <a:pt x="182" y="1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74"/>
              <p:cNvSpPr/>
              <p:nvPr/>
            </p:nvSpPr>
            <p:spPr>
              <a:xfrm rot="5400000">
                <a:off x="9974520" y="4483800"/>
                <a:ext cx="1985400" cy="2448720"/>
              </a:xfrm>
              <a:custGeom>
                <a:avLst/>
                <a:gdLst>
                  <a:gd name="textAreaLeft" fmla="*/ 0 w 1985400"/>
                  <a:gd name="textAreaRight" fmla="*/ 1985760 w 1985400"/>
                  <a:gd name="textAreaTop" fmla="*/ 0 h 2448720"/>
                  <a:gd name="textAreaBottom" fmla="*/ 2449080 h 2448720"/>
                </a:gdLst>
                <a:ahLst/>
                <a:rect l="textAreaLeft" t="textAreaTop" r="textAreaRight" b="textAreaBottom"/>
                <a:pathLst>
                  <a:path w="1597" h="1581">
                    <a:moveTo>
                      <a:pt x="1522" y="1492"/>
                    </a:moveTo>
                    <a:lnTo>
                      <a:pt x="1505" y="1508"/>
                    </a:lnTo>
                    <a:lnTo>
                      <a:pt x="1579" y="1581"/>
                    </a:lnTo>
                    <a:lnTo>
                      <a:pt x="1597" y="1565"/>
                    </a:lnTo>
                    <a:lnTo>
                      <a:pt x="1522" y="1492"/>
                    </a:lnTo>
                    <a:moveTo>
                      <a:pt x="1415" y="1385"/>
                    </a:moveTo>
                    <a:lnTo>
                      <a:pt x="1399" y="1402"/>
                    </a:lnTo>
                    <a:lnTo>
                      <a:pt x="1472" y="1475"/>
                    </a:lnTo>
                    <a:lnTo>
                      <a:pt x="1489" y="1458"/>
                    </a:lnTo>
                    <a:lnTo>
                      <a:pt x="1415" y="1385"/>
                    </a:lnTo>
                    <a:moveTo>
                      <a:pt x="1004" y="974"/>
                    </a:moveTo>
                    <a:lnTo>
                      <a:pt x="988" y="990"/>
                    </a:lnTo>
                    <a:lnTo>
                      <a:pt x="1382" y="1385"/>
                    </a:lnTo>
                    <a:lnTo>
                      <a:pt x="1399" y="1366"/>
                    </a:lnTo>
                    <a:lnTo>
                      <a:pt x="1004" y="974"/>
                    </a:lnTo>
                    <a:moveTo>
                      <a:pt x="914" y="882"/>
                    </a:moveTo>
                    <a:lnTo>
                      <a:pt x="898" y="898"/>
                    </a:lnTo>
                    <a:lnTo>
                      <a:pt x="971" y="974"/>
                    </a:lnTo>
                    <a:lnTo>
                      <a:pt x="988" y="957"/>
                    </a:lnTo>
                    <a:lnTo>
                      <a:pt x="914" y="882"/>
                    </a:lnTo>
                    <a:moveTo>
                      <a:pt x="806" y="775"/>
                    </a:moveTo>
                    <a:lnTo>
                      <a:pt x="789" y="792"/>
                    </a:lnTo>
                    <a:lnTo>
                      <a:pt x="865" y="865"/>
                    </a:lnTo>
                    <a:lnTo>
                      <a:pt x="881" y="849"/>
                    </a:lnTo>
                    <a:lnTo>
                      <a:pt x="806" y="775"/>
                    </a:lnTo>
                    <a:moveTo>
                      <a:pt x="397" y="364"/>
                    </a:moveTo>
                    <a:lnTo>
                      <a:pt x="380" y="381"/>
                    </a:lnTo>
                    <a:lnTo>
                      <a:pt x="773" y="775"/>
                    </a:lnTo>
                    <a:lnTo>
                      <a:pt x="789" y="759"/>
                    </a:lnTo>
                    <a:lnTo>
                      <a:pt x="397" y="364"/>
                    </a:lnTo>
                    <a:moveTo>
                      <a:pt x="305" y="274"/>
                    </a:moveTo>
                    <a:lnTo>
                      <a:pt x="288" y="291"/>
                    </a:lnTo>
                    <a:lnTo>
                      <a:pt x="361" y="364"/>
                    </a:lnTo>
                    <a:lnTo>
                      <a:pt x="380" y="348"/>
                    </a:lnTo>
                    <a:lnTo>
                      <a:pt x="305" y="274"/>
                    </a:lnTo>
                    <a:moveTo>
                      <a:pt x="198" y="166"/>
                    </a:moveTo>
                    <a:lnTo>
                      <a:pt x="182" y="182"/>
                    </a:lnTo>
                    <a:lnTo>
                      <a:pt x="255" y="255"/>
                    </a:lnTo>
                    <a:lnTo>
                      <a:pt x="272" y="239"/>
                    </a:lnTo>
                    <a:lnTo>
                      <a:pt x="198" y="166"/>
                    </a:lnTo>
                    <a:moveTo>
                      <a:pt x="33" y="0"/>
                    </a:moveTo>
                    <a:lnTo>
                      <a:pt x="0" y="0"/>
                    </a:lnTo>
                    <a:lnTo>
                      <a:pt x="165" y="166"/>
                    </a:lnTo>
                    <a:lnTo>
                      <a:pt x="182" y="149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75"/>
              <p:cNvSpPr/>
              <p:nvPr/>
            </p:nvSpPr>
            <p:spPr>
              <a:xfrm rot="5400000">
                <a:off x="9552240" y="6667200"/>
                <a:ext cx="156600" cy="22428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26" h="145">
                    <a:moveTo>
                      <a:pt x="17" y="0"/>
                    </a:moveTo>
                    <a:lnTo>
                      <a:pt x="0" y="17"/>
                    </a:lnTo>
                    <a:lnTo>
                      <a:pt x="126" y="145"/>
                    </a:lnTo>
                    <a:lnTo>
                      <a:pt x="126" y="11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76"/>
              <p:cNvSpPr/>
              <p:nvPr/>
            </p:nvSpPr>
            <p:spPr>
              <a:xfrm rot="5400000">
                <a:off x="9552240" y="6667200"/>
                <a:ext cx="156600" cy="22428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26" h="145">
                    <a:moveTo>
                      <a:pt x="17" y="0"/>
                    </a:moveTo>
                    <a:lnTo>
                      <a:pt x="0" y="17"/>
                    </a:lnTo>
                    <a:lnTo>
                      <a:pt x="126" y="145"/>
                    </a:lnTo>
                    <a:lnTo>
                      <a:pt x="126" y="111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77"/>
              <p:cNvSpPr/>
              <p:nvPr/>
            </p:nvSpPr>
            <p:spPr>
              <a:xfrm rot="5400000">
                <a:off x="11750040" y="5023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78"/>
              <p:cNvSpPr/>
              <p:nvPr/>
            </p:nvSpPr>
            <p:spPr>
              <a:xfrm rot="5400000">
                <a:off x="11750040" y="5023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79"/>
              <p:cNvSpPr/>
              <p:nvPr/>
            </p:nvSpPr>
            <p:spPr>
              <a:xfrm rot="5400000">
                <a:off x="10807920" y="57834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480"/>
              <p:cNvSpPr/>
              <p:nvPr/>
            </p:nvSpPr>
            <p:spPr>
              <a:xfrm rot="5400000">
                <a:off x="10807920" y="57834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481"/>
              <p:cNvSpPr/>
              <p:nvPr/>
            </p:nvSpPr>
            <p:spPr>
              <a:xfrm rot="5400000">
                <a:off x="9863280" y="653832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82"/>
              <p:cNvSpPr/>
              <p:nvPr/>
            </p:nvSpPr>
            <p:spPr>
              <a:xfrm rot="5400000">
                <a:off x="9863280" y="653832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83"/>
              <p:cNvSpPr/>
              <p:nvPr/>
            </p:nvSpPr>
            <p:spPr>
              <a:xfrm rot="5400000">
                <a:off x="11604600" y="5161320"/>
                <a:ext cx="44640" cy="50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6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84"/>
              <p:cNvSpPr/>
              <p:nvPr/>
            </p:nvSpPr>
            <p:spPr>
              <a:xfrm rot="5400000">
                <a:off x="11604600" y="5161320"/>
                <a:ext cx="44640" cy="50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6" y="1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85"/>
              <p:cNvSpPr/>
              <p:nvPr/>
            </p:nvSpPr>
            <p:spPr>
              <a:xfrm rot="5400000">
                <a:off x="10663200" y="59176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86"/>
              <p:cNvSpPr/>
              <p:nvPr/>
            </p:nvSpPr>
            <p:spPr>
              <a:xfrm rot="5400000">
                <a:off x="10663200" y="59176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87"/>
              <p:cNvSpPr/>
              <p:nvPr/>
            </p:nvSpPr>
            <p:spPr>
              <a:xfrm rot="5400000">
                <a:off x="9720360" y="667476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6"/>
                    </a:lnTo>
                    <a:lnTo>
                      <a:pt x="18" y="33"/>
                    </a:lnTo>
                    <a:lnTo>
                      <a:pt x="35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88"/>
              <p:cNvSpPr/>
              <p:nvPr/>
            </p:nvSpPr>
            <p:spPr>
              <a:xfrm rot="5400000">
                <a:off x="9720360" y="667476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6"/>
                    </a:lnTo>
                    <a:lnTo>
                      <a:pt x="18" y="33"/>
                    </a:lnTo>
                    <a:lnTo>
                      <a:pt x="35" y="16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89"/>
              <p:cNvSpPr/>
              <p:nvPr/>
            </p:nvSpPr>
            <p:spPr>
              <a:xfrm rot="5400000">
                <a:off x="11914560" y="49154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90"/>
              <p:cNvSpPr/>
              <p:nvPr/>
            </p:nvSpPr>
            <p:spPr>
              <a:xfrm rot="5400000">
                <a:off x="11914560" y="49154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91"/>
              <p:cNvSpPr/>
              <p:nvPr/>
            </p:nvSpPr>
            <p:spPr>
              <a:xfrm rot="5400000">
                <a:off x="10969920" y="56714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92"/>
              <p:cNvSpPr/>
              <p:nvPr/>
            </p:nvSpPr>
            <p:spPr>
              <a:xfrm rot="5400000">
                <a:off x="10969920" y="56714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93"/>
              <p:cNvSpPr/>
              <p:nvPr/>
            </p:nvSpPr>
            <p:spPr>
              <a:xfrm rot="5400000">
                <a:off x="10027440" y="6426720"/>
                <a:ext cx="41040" cy="55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94"/>
              <p:cNvSpPr/>
              <p:nvPr/>
            </p:nvSpPr>
            <p:spPr>
              <a:xfrm rot="5400000">
                <a:off x="10027440" y="6426720"/>
                <a:ext cx="41040" cy="55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95"/>
              <p:cNvSpPr/>
              <p:nvPr/>
            </p:nvSpPr>
            <p:spPr>
              <a:xfrm rot="5400000">
                <a:off x="8274240" y="2781000"/>
                <a:ext cx="3496320" cy="4338720"/>
              </a:xfrm>
              <a:custGeom>
                <a:avLst/>
                <a:gdLst>
                  <a:gd name="textAreaLeft" fmla="*/ 0 w 3496320"/>
                  <a:gd name="textAreaRight" fmla="*/ 3496680 w 3496320"/>
                  <a:gd name="textAreaTop" fmla="*/ 0 h 4338720"/>
                  <a:gd name="textAreaBottom" fmla="*/ 4339080 h 4338720"/>
                </a:gdLst>
                <a:ahLst/>
                <a:rect l="textAreaLeft" t="textAreaTop" r="textAreaRight" b="textAreaBottom"/>
                <a:pathLst>
                  <a:path w="2812" h="2801">
                    <a:moveTo>
                      <a:pt x="2739" y="2709"/>
                    </a:moveTo>
                    <a:lnTo>
                      <a:pt x="2722" y="2725"/>
                    </a:lnTo>
                    <a:lnTo>
                      <a:pt x="2796" y="2801"/>
                    </a:lnTo>
                    <a:lnTo>
                      <a:pt x="2812" y="2784"/>
                    </a:lnTo>
                    <a:lnTo>
                      <a:pt x="2739" y="2709"/>
                    </a:lnTo>
                    <a:close/>
                    <a:moveTo>
                      <a:pt x="2632" y="2602"/>
                    </a:moveTo>
                    <a:lnTo>
                      <a:pt x="2614" y="2619"/>
                    </a:lnTo>
                    <a:lnTo>
                      <a:pt x="2689" y="2692"/>
                    </a:lnTo>
                    <a:lnTo>
                      <a:pt x="2706" y="2676"/>
                    </a:lnTo>
                    <a:lnTo>
                      <a:pt x="2632" y="2602"/>
                    </a:lnTo>
                    <a:close/>
                    <a:moveTo>
                      <a:pt x="2221" y="2191"/>
                    </a:moveTo>
                    <a:lnTo>
                      <a:pt x="2205" y="2208"/>
                    </a:lnTo>
                    <a:lnTo>
                      <a:pt x="2597" y="2602"/>
                    </a:lnTo>
                    <a:lnTo>
                      <a:pt x="2616" y="2586"/>
                    </a:lnTo>
                    <a:lnTo>
                      <a:pt x="2221" y="2191"/>
                    </a:lnTo>
                    <a:close/>
                    <a:moveTo>
                      <a:pt x="2131" y="2101"/>
                    </a:moveTo>
                    <a:lnTo>
                      <a:pt x="2115" y="2118"/>
                    </a:lnTo>
                    <a:lnTo>
                      <a:pt x="2188" y="2191"/>
                    </a:lnTo>
                    <a:lnTo>
                      <a:pt x="2205" y="2175"/>
                    </a:lnTo>
                    <a:lnTo>
                      <a:pt x="2131" y="2101"/>
                    </a:lnTo>
                    <a:close/>
                    <a:moveTo>
                      <a:pt x="2023" y="1993"/>
                    </a:moveTo>
                    <a:lnTo>
                      <a:pt x="2006" y="2009"/>
                    </a:lnTo>
                    <a:lnTo>
                      <a:pt x="2079" y="2085"/>
                    </a:lnTo>
                    <a:lnTo>
                      <a:pt x="2096" y="2066"/>
                    </a:lnTo>
                    <a:lnTo>
                      <a:pt x="2023" y="1993"/>
                    </a:lnTo>
                    <a:close/>
                    <a:moveTo>
                      <a:pt x="1612" y="1581"/>
                    </a:moveTo>
                    <a:lnTo>
                      <a:pt x="1595" y="1598"/>
                    </a:lnTo>
                    <a:lnTo>
                      <a:pt x="1990" y="1993"/>
                    </a:lnTo>
                    <a:lnTo>
                      <a:pt x="2006" y="1976"/>
                    </a:lnTo>
                    <a:lnTo>
                      <a:pt x="1612" y="1581"/>
                    </a:lnTo>
                    <a:close/>
                    <a:moveTo>
                      <a:pt x="1522" y="1492"/>
                    </a:moveTo>
                    <a:lnTo>
                      <a:pt x="1505" y="1508"/>
                    </a:lnTo>
                    <a:lnTo>
                      <a:pt x="1578" y="1581"/>
                    </a:lnTo>
                    <a:lnTo>
                      <a:pt x="1595" y="1565"/>
                    </a:lnTo>
                    <a:lnTo>
                      <a:pt x="1522" y="1492"/>
                    </a:lnTo>
                    <a:close/>
                    <a:moveTo>
                      <a:pt x="1415" y="1383"/>
                    </a:moveTo>
                    <a:lnTo>
                      <a:pt x="1396" y="1399"/>
                    </a:lnTo>
                    <a:lnTo>
                      <a:pt x="1472" y="1475"/>
                    </a:lnTo>
                    <a:lnTo>
                      <a:pt x="1489" y="1458"/>
                    </a:lnTo>
                    <a:lnTo>
                      <a:pt x="1415" y="1383"/>
                    </a:lnTo>
                    <a:close/>
                    <a:moveTo>
                      <a:pt x="1004" y="972"/>
                    </a:moveTo>
                    <a:lnTo>
                      <a:pt x="988" y="988"/>
                    </a:lnTo>
                    <a:lnTo>
                      <a:pt x="1380" y="1383"/>
                    </a:lnTo>
                    <a:lnTo>
                      <a:pt x="1396" y="1366"/>
                    </a:lnTo>
                    <a:lnTo>
                      <a:pt x="1004" y="972"/>
                    </a:lnTo>
                    <a:close/>
                    <a:moveTo>
                      <a:pt x="914" y="882"/>
                    </a:moveTo>
                    <a:lnTo>
                      <a:pt x="895" y="898"/>
                    </a:lnTo>
                    <a:lnTo>
                      <a:pt x="971" y="972"/>
                    </a:lnTo>
                    <a:lnTo>
                      <a:pt x="988" y="955"/>
                    </a:lnTo>
                    <a:lnTo>
                      <a:pt x="914" y="882"/>
                    </a:lnTo>
                    <a:close/>
                    <a:moveTo>
                      <a:pt x="806" y="773"/>
                    </a:moveTo>
                    <a:lnTo>
                      <a:pt x="789" y="792"/>
                    </a:lnTo>
                    <a:lnTo>
                      <a:pt x="862" y="865"/>
                    </a:lnTo>
                    <a:lnTo>
                      <a:pt x="879" y="849"/>
                    </a:lnTo>
                    <a:lnTo>
                      <a:pt x="806" y="773"/>
                    </a:lnTo>
                    <a:close/>
                    <a:moveTo>
                      <a:pt x="394" y="364"/>
                    </a:moveTo>
                    <a:lnTo>
                      <a:pt x="378" y="381"/>
                    </a:lnTo>
                    <a:lnTo>
                      <a:pt x="773" y="773"/>
                    </a:lnTo>
                    <a:lnTo>
                      <a:pt x="789" y="757"/>
                    </a:lnTo>
                    <a:lnTo>
                      <a:pt x="394" y="364"/>
                    </a:lnTo>
                    <a:close/>
                    <a:moveTo>
                      <a:pt x="305" y="272"/>
                    </a:moveTo>
                    <a:lnTo>
                      <a:pt x="288" y="289"/>
                    </a:lnTo>
                    <a:lnTo>
                      <a:pt x="361" y="364"/>
                    </a:lnTo>
                    <a:lnTo>
                      <a:pt x="378" y="345"/>
                    </a:lnTo>
                    <a:lnTo>
                      <a:pt x="305" y="272"/>
                    </a:lnTo>
                    <a:close/>
                    <a:moveTo>
                      <a:pt x="198" y="166"/>
                    </a:moveTo>
                    <a:lnTo>
                      <a:pt x="179" y="182"/>
                    </a:lnTo>
                    <a:lnTo>
                      <a:pt x="255" y="255"/>
                    </a:lnTo>
                    <a:lnTo>
                      <a:pt x="271" y="239"/>
                    </a:lnTo>
                    <a:lnTo>
                      <a:pt x="198" y="166"/>
                    </a:lnTo>
                    <a:close/>
                    <a:moveTo>
                      <a:pt x="33" y="0"/>
                    </a:moveTo>
                    <a:lnTo>
                      <a:pt x="0" y="0"/>
                    </a:lnTo>
                    <a:lnTo>
                      <a:pt x="163" y="166"/>
                    </a:lnTo>
                    <a:lnTo>
                      <a:pt x="179" y="1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496"/>
              <p:cNvSpPr/>
              <p:nvPr/>
            </p:nvSpPr>
            <p:spPr>
              <a:xfrm rot="5400000">
                <a:off x="8274240" y="2781000"/>
                <a:ext cx="3496320" cy="4338720"/>
              </a:xfrm>
              <a:custGeom>
                <a:avLst/>
                <a:gdLst>
                  <a:gd name="textAreaLeft" fmla="*/ 0 w 3496320"/>
                  <a:gd name="textAreaRight" fmla="*/ 3496680 w 3496320"/>
                  <a:gd name="textAreaTop" fmla="*/ 0 h 4338720"/>
                  <a:gd name="textAreaBottom" fmla="*/ 4339080 h 4338720"/>
                </a:gdLst>
                <a:ahLst/>
                <a:rect l="textAreaLeft" t="textAreaTop" r="textAreaRight" b="textAreaBottom"/>
                <a:pathLst>
                  <a:path w="2812" h="2801">
                    <a:moveTo>
                      <a:pt x="2739" y="2709"/>
                    </a:moveTo>
                    <a:lnTo>
                      <a:pt x="2722" y="2725"/>
                    </a:lnTo>
                    <a:lnTo>
                      <a:pt x="2796" y="2801"/>
                    </a:lnTo>
                    <a:lnTo>
                      <a:pt x="2812" y="2784"/>
                    </a:lnTo>
                    <a:lnTo>
                      <a:pt x="2739" y="2709"/>
                    </a:lnTo>
                    <a:moveTo>
                      <a:pt x="2632" y="2602"/>
                    </a:moveTo>
                    <a:lnTo>
                      <a:pt x="2614" y="2619"/>
                    </a:lnTo>
                    <a:lnTo>
                      <a:pt x="2689" y="2692"/>
                    </a:lnTo>
                    <a:lnTo>
                      <a:pt x="2706" y="2676"/>
                    </a:lnTo>
                    <a:lnTo>
                      <a:pt x="2632" y="2602"/>
                    </a:lnTo>
                    <a:moveTo>
                      <a:pt x="2221" y="2191"/>
                    </a:moveTo>
                    <a:lnTo>
                      <a:pt x="2205" y="2208"/>
                    </a:lnTo>
                    <a:lnTo>
                      <a:pt x="2597" y="2602"/>
                    </a:lnTo>
                    <a:lnTo>
                      <a:pt x="2616" y="2586"/>
                    </a:lnTo>
                    <a:lnTo>
                      <a:pt x="2221" y="2191"/>
                    </a:lnTo>
                    <a:moveTo>
                      <a:pt x="2131" y="2101"/>
                    </a:moveTo>
                    <a:lnTo>
                      <a:pt x="2115" y="2118"/>
                    </a:lnTo>
                    <a:lnTo>
                      <a:pt x="2188" y="2191"/>
                    </a:lnTo>
                    <a:lnTo>
                      <a:pt x="2205" y="2175"/>
                    </a:lnTo>
                    <a:lnTo>
                      <a:pt x="2131" y="2101"/>
                    </a:lnTo>
                    <a:moveTo>
                      <a:pt x="2023" y="1993"/>
                    </a:moveTo>
                    <a:lnTo>
                      <a:pt x="2006" y="2009"/>
                    </a:lnTo>
                    <a:lnTo>
                      <a:pt x="2079" y="2085"/>
                    </a:lnTo>
                    <a:lnTo>
                      <a:pt x="2096" y="2066"/>
                    </a:lnTo>
                    <a:lnTo>
                      <a:pt x="2023" y="1993"/>
                    </a:lnTo>
                    <a:moveTo>
                      <a:pt x="1612" y="1581"/>
                    </a:moveTo>
                    <a:lnTo>
                      <a:pt x="1595" y="1598"/>
                    </a:lnTo>
                    <a:lnTo>
                      <a:pt x="1990" y="1993"/>
                    </a:lnTo>
                    <a:lnTo>
                      <a:pt x="2006" y="1976"/>
                    </a:lnTo>
                    <a:lnTo>
                      <a:pt x="1612" y="1581"/>
                    </a:lnTo>
                    <a:moveTo>
                      <a:pt x="1522" y="1492"/>
                    </a:moveTo>
                    <a:lnTo>
                      <a:pt x="1505" y="1508"/>
                    </a:lnTo>
                    <a:lnTo>
                      <a:pt x="1578" y="1581"/>
                    </a:lnTo>
                    <a:lnTo>
                      <a:pt x="1595" y="1565"/>
                    </a:lnTo>
                    <a:lnTo>
                      <a:pt x="1522" y="1492"/>
                    </a:lnTo>
                    <a:moveTo>
                      <a:pt x="1415" y="1383"/>
                    </a:moveTo>
                    <a:lnTo>
                      <a:pt x="1396" y="1399"/>
                    </a:lnTo>
                    <a:lnTo>
                      <a:pt x="1472" y="1475"/>
                    </a:lnTo>
                    <a:lnTo>
                      <a:pt x="1489" y="1458"/>
                    </a:lnTo>
                    <a:lnTo>
                      <a:pt x="1415" y="1383"/>
                    </a:lnTo>
                    <a:moveTo>
                      <a:pt x="1004" y="972"/>
                    </a:moveTo>
                    <a:lnTo>
                      <a:pt x="988" y="988"/>
                    </a:lnTo>
                    <a:lnTo>
                      <a:pt x="1380" y="1383"/>
                    </a:lnTo>
                    <a:lnTo>
                      <a:pt x="1396" y="1366"/>
                    </a:lnTo>
                    <a:lnTo>
                      <a:pt x="1004" y="972"/>
                    </a:lnTo>
                    <a:moveTo>
                      <a:pt x="914" y="882"/>
                    </a:moveTo>
                    <a:lnTo>
                      <a:pt x="895" y="898"/>
                    </a:lnTo>
                    <a:lnTo>
                      <a:pt x="971" y="972"/>
                    </a:lnTo>
                    <a:lnTo>
                      <a:pt x="988" y="955"/>
                    </a:lnTo>
                    <a:lnTo>
                      <a:pt x="914" y="882"/>
                    </a:lnTo>
                    <a:moveTo>
                      <a:pt x="806" y="773"/>
                    </a:moveTo>
                    <a:lnTo>
                      <a:pt x="789" y="792"/>
                    </a:lnTo>
                    <a:lnTo>
                      <a:pt x="862" y="865"/>
                    </a:lnTo>
                    <a:lnTo>
                      <a:pt x="879" y="849"/>
                    </a:lnTo>
                    <a:lnTo>
                      <a:pt x="806" y="773"/>
                    </a:lnTo>
                    <a:moveTo>
                      <a:pt x="394" y="364"/>
                    </a:moveTo>
                    <a:lnTo>
                      <a:pt x="378" y="381"/>
                    </a:lnTo>
                    <a:lnTo>
                      <a:pt x="773" y="773"/>
                    </a:lnTo>
                    <a:lnTo>
                      <a:pt x="789" y="757"/>
                    </a:lnTo>
                    <a:lnTo>
                      <a:pt x="394" y="364"/>
                    </a:lnTo>
                    <a:moveTo>
                      <a:pt x="305" y="272"/>
                    </a:moveTo>
                    <a:lnTo>
                      <a:pt x="288" y="289"/>
                    </a:lnTo>
                    <a:lnTo>
                      <a:pt x="361" y="364"/>
                    </a:lnTo>
                    <a:lnTo>
                      <a:pt x="378" y="345"/>
                    </a:lnTo>
                    <a:lnTo>
                      <a:pt x="305" y="272"/>
                    </a:lnTo>
                    <a:moveTo>
                      <a:pt x="198" y="166"/>
                    </a:moveTo>
                    <a:lnTo>
                      <a:pt x="179" y="182"/>
                    </a:lnTo>
                    <a:lnTo>
                      <a:pt x="255" y="255"/>
                    </a:lnTo>
                    <a:lnTo>
                      <a:pt x="271" y="239"/>
                    </a:lnTo>
                    <a:lnTo>
                      <a:pt x="198" y="166"/>
                    </a:lnTo>
                    <a:moveTo>
                      <a:pt x="33" y="0"/>
                    </a:moveTo>
                    <a:lnTo>
                      <a:pt x="0" y="0"/>
                    </a:lnTo>
                    <a:lnTo>
                      <a:pt x="163" y="166"/>
                    </a:lnTo>
                    <a:lnTo>
                      <a:pt x="179" y="149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497"/>
              <p:cNvSpPr/>
              <p:nvPr/>
            </p:nvSpPr>
            <p:spPr>
              <a:xfrm rot="5400000">
                <a:off x="7662240" y="6666840"/>
                <a:ext cx="158760" cy="222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7" y="0"/>
                    </a:moveTo>
                    <a:lnTo>
                      <a:pt x="0" y="16"/>
                    </a:lnTo>
                    <a:lnTo>
                      <a:pt x="128" y="144"/>
                    </a:lnTo>
                    <a:lnTo>
                      <a:pt x="128" y="10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98"/>
              <p:cNvSpPr/>
              <p:nvPr/>
            </p:nvSpPr>
            <p:spPr>
              <a:xfrm rot="5400000">
                <a:off x="7662240" y="6666840"/>
                <a:ext cx="158760" cy="222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7" y="0"/>
                    </a:moveTo>
                    <a:lnTo>
                      <a:pt x="0" y="16"/>
                    </a:lnTo>
                    <a:lnTo>
                      <a:pt x="128" y="144"/>
                    </a:lnTo>
                    <a:lnTo>
                      <a:pt x="128" y="10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99"/>
              <p:cNvSpPr/>
              <p:nvPr/>
            </p:nvSpPr>
            <p:spPr>
              <a:xfrm rot="5400000">
                <a:off x="11751840" y="351216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500"/>
              <p:cNvSpPr/>
              <p:nvPr/>
            </p:nvSpPr>
            <p:spPr>
              <a:xfrm rot="5400000">
                <a:off x="11751840" y="351216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501"/>
              <p:cNvSpPr/>
              <p:nvPr/>
            </p:nvSpPr>
            <p:spPr>
              <a:xfrm rot="5400000">
                <a:off x="10806120" y="42685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2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502"/>
              <p:cNvSpPr/>
              <p:nvPr/>
            </p:nvSpPr>
            <p:spPr>
              <a:xfrm rot="5400000">
                <a:off x="10806120" y="42685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2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03"/>
              <p:cNvSpPr/>
              <p:nvPr/>
            </p:nvSpPr>
            <p:spPr>
              <a:xfrm rot="5400000">
                <a:off x="9863280" y="50248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504"/>
              <p:cNvSpPr/>
              <p:nvPr/>
            </p:nvSpPr>
            <p:spPr>
              <a:xfrm rot="5400000">
                <a:off x="9863280" y="50248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505"/>
              <p:cNvSpPr/>
              <p:nvPr/>
            </p:nvSpPr>
            <p:spPr>
              <a:xfrm rot="5400000">
                <a:off x="8919000" y="5779440"/>
                <a:ext cx="64800" cy="80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7" y="0"/>
                    </a:moveTo>
                    <a:lnTo>
                      <a:pt x="0" y="19"/>
                    </a:lnTo>
                    <a:lnTo>
                      <a:pt x="36" y="52"/>
                    </a:lnTo>
                    <a:lnTo>
                      <a:pt x="52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506"/>
              <p:cNvSpPr/>
              <p:nvPr/>
            </p:nvSpPr>
            <p:spPr>
              <a:xfrm rot="5400000">
                <a:off x="8919000" y="5779440"/>
                <a:ext cx="64800" cy="80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7" y="0"/>
                    </a:moveTo>
                    <a:lnTo>
                      <a:pt x="0" y="19"/>
                    </a:lnTo>
                    <a:lnTo>
                      <a:pt x="36" y="52"/>
                    </a:lnTo>
                    <a:lnTo>
                      <a:pt x="52" y="3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507"/>
              <p:cNvSpPr/>
              <p:nvPr/>
            </p:nvSpPr>
            <p:spPr>
              <a:xfrm rot="5400000">
                <a:off x="7977960" y="653904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508"/>
              <p:cNvSpPr/>
              <p:nvPr/>
            </p:nvSpPr>
            <p:spPr>
              <a:xfrm rot="5400000">
                <a:off x="7977960" y="653904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509"/>
              <p:cNvSpPr/>
              <p:nvPr/>
            </p:nvSpPr>
            <p:spPr>
              <a:xfrm rot="5400000">
                <a:off x="11608560" y="364392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10"/>
              <p:cNvSpPr/>
              <p:nvPr/>
            </p:nvSpPr>
            <p:spPr>
              <a:xfrm rot="5400000">
                <a:off x="11608560" y="3643920"/>
                <a:ext cx="41040" cy="55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511"/>
              <p:cNvSpPr/>
              <p:nvPr/>
            </p:nvSpPr>
            <p:spPr>
              <a:xfrm rot="5400000">
                <a:off x="10666440" y="4404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512"/>
              <p:cNvSpPr/>
              <p:nvPr/>
            </p:nvSpPr>
            <p:spPr>
              <a:xfrm rot="5400000">
                <a:off x="10666440" y="4404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513"/>
              <p:cNvSpPr/>
              <p:nvPr/>
            </p:nvSpPr>
            <p:spPr>
              <a:xfrm rot="5400000">
                <a:off x="9720720" y="5159880"/>
                <a:ext cx="42120" cy="51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4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514"/>
              <p:cNvSpPr/>
              <p:nvPr/>
            </p:nvSpPr>
            <p:spPr>
              <a:xfrm rot="5400000">
                <a:off x="9720720" y="5159880"/>
                <a:ext cx="42120" cy="51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4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515"/>
              <p:cNvSpPr/>
              <p:nvPr/>
            </p:nvSpPr>
            <p:spPr>
              <a:xfrm rot="5400000">
                <a:off x="8776800" y="59176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516"/>
              <p:cNvSpPr/>
              <p:nvPr/>
            </p:nvSpPr>
            <p:spPr>
              <a:xfrm rot="5400000">
                <a:off x="8776800" y="59176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517"/>
              <p:cNvSpPr/>
              <p:nvPr/>
            </p:nvSpPr>
            <p:spPr>
              <a:xfrm rot="5400000">
                <a:off x="7833240" y="6673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518"/>
              <p:cNvSpPr/>
              <p:nvPr/>
            </p:nvSpPr>
            <p:spPr>
              <a:xfrm rot="5400000">
                <a:off x="7833240" y="6673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519"/>
              <p:cNvSpPr/>
              <p:nvPr/>
            </p:nvSpPr>
            <p:spPr>
              <a:xfrm rot="5400000">
                <a:off x="11913120" y="340128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520"/>
              <p:cNvSpPr/>
              <p:nvPr/>
            </p:nvSpPr>
            <p:spPr>
              <a:xfrm rot="5400000">
                <a:off x="11913120" y="340128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521"/>
              <p:cNvSpPr/>
              <p:nvPr/>
            </p:nvSpPr>
            <p:spPr>
              <a:xfrm rot="5400000">
                <a:off x="10971000" y="4156920"/>
                <a:ext cx="41040" cy="54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522"/>
              <p:cNvSpPr/>
              <p:nvPr/>
            </p:nvSpPr>
            <p:spPr>
              <a:xfrm rot="5400000">
                <a:off x="10971000" y="4156920"/>
                <a:ext cx="41040" cy="54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523"/>
              <p:cNvSpPr/>
              <p:nvPr/>
            </p:nvSpPr>
            <p:spPr>
              <a:xfrm rot="5400000">
                <a:off x="10028520" y="491436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524"/>
              <p:cNvSpPr/>
              <p:nvPr/>
            </p:nvSpPr>
            <p:spPr>
              <a:xfrm rot="5400000">
                <a:off x="10028520" y="491436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525"/>
              <p:cNvSpPr/>
              <p:nvPr/>
            </p:nvSpPr>
            <p:spPr>
              <a:xfrm rot="5400000">
                <a:off x="9085320" y="56718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26"/>
              <p:cNvSpPr/>
              <p:nvPr/>
            </p:nvSpPr>
            <p:spPr>
              <a:xfrm rot="5400000">
                <a:off x="9085320" y="56718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527"/>
              <p:cNvSpPr/>
              <p:nvPr/>
            </p:nvSpPr>
            <p:spPr>
              <a:xfrm rot="5400000">
                <a:off x="8138880" y="6427800"/>
                <a:ext cx="43560" cy="507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5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528"/>
              <p:cNvSpPr/>
              <p:nvPr/>
            </p:nvSpPr>
            <p:spPr>
              <a:xfrm rot="5400000">
                <a:off x="8138880" y="6427800"/>
                <a:ext cx="43560" cy="507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5" y="1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529"/>
              <p:cNvSpPr/>
              <p:nvPr/>
            </p:nvSpPr>
            <p:spPr>
              <a:xfrm rot="5400000">
                <a:off x="6575400" y="1081800"/>
                <a:ext cx="5009040" cy="6223680"/>
              </a:xfrm>
              <a:custGeom>
                <a:avLst/>
                <a:gdLst>
                  <a:gd name="textAreaLeft" fmla="*/ 0 w 5009040"/>
                  <a:gd name="textAreaRight" fmla="*/ 5009400 w 5009040"/>
                  <a:gd name="textAreaTop" fmla="*/ 0 h 6223680"/>
                  <a:gd name="textAreaBottom" fmla="*/ 6224040 h 6223680"/>
                </a:gdLst>
                <a:ahLst/>
                <a:rect l="textAreaLeft" t="textAreaTop" r="textAreaRight" b="textAreaBottom"/>
                <a:pathLst>
                  <a:path w="4029" h="4018">
                    <a:moveTo>
                      <a:pt x="3956" y="3928"/>
                    </a:moveTo>
                    <a:lnTo>
                      <a:pt x="3939" y="3945"/>
                    </a:lnTo>
                    <a:lnTo>
                      <a:pt x="4013" y="4018"/>
                    </a:lnTo>
                    <a:lnTo>
                      <a:pt x="4029" y="4002"/>
                    </a:lnTo>
                    <a:lnTo>
                      <a:pt x="3956" y="3928"/>
                    </a:lnTo>
                    <a:close/>
                    <a:moveTo>
                      <a:pt x="3847" y="3820"/>
                    </a:moveTo>
                    <a:lnTo>
                      <a:pt x="3831" y="3836"/>
                    </a:lnTo>
                    <a:lnTo>
                      <a:pt x="3906" y="3912"/>
                    </a:lnTo>
                    <a:lnTo>
                      <a:pt x="3923" y="3893"/>
                    </a:lnTo>
                    <a:lnTo>
                      <a:pt x="3847" y="3820"/>
                    </a:lnTo>
                    <a:close/>
                    <a:moveTo>
                      <a:pt x="3438" y="3408"/>
                    </a:moveTo>
                    <a:lnTo>
                      <a:pt x="3419" y="3425"/>
                    </a:lnTo>
                    <a:lnTo>
                      <a:pt x="3814" y="3820"/>
                    </a:lnTo>
                    <a:lnTo>
                      <a:pt x="3831" y="3803"/>
                    </a:lnTo>
                    <a:lnTo>
                      <a:pt x="3438" y="3408"/>
                    </a:lnTo>
                    <a:close/>
                    <a:moveTo>
                      <a:pt x="3346" y="3319"/>
                    </a:moveTo>
                    <a:lnTo>
                      <a:pt x="3330" y="3335"/>
                    </a:lnTo>
                    <a:lnTo>
                      <a:pt x="3403" y="3408"/>
                    </a:lnTo>
                    <a:lnTo>
                      <a:pt x="3419" y="3392"/>
                    </a:lnTo>
                    <a:lnTo>
                      <a:pt x="3346" y="3319"/>
                    </a:lnTo>
                    <a:close/>
                    <a:moveTo>
                      <a:pt x="3240" y="3210"/>
                    </a:moveTo>
                    <a:lnTo>
                      <a:pt x="3223" y="3226"/>
                    </a:lnTo>
                    <a:lnTo>
                      <a:pt x="3296" y="3302"/>
                    </a:lnTo>
                    <a:lnTo>
                      <a:pt x="3313" y="3285"/>
                    </a:lnTo>
                    <a:lnTo>
                      <a:pt x="3240" y="3210"/>
                    </a:lnTo>
                    <a:close/>
                    <a:moveTo>
                      <a:pt x="2829" y="2799"/>
                    </a:moveTo>
                    <a:lnTo>
                      <a:pt x="2812" y="2815"/>
                    </a:lnTo>
                    <a:lnTo>
                      <a:pt x="3207" y="3210"/>
                    </a:lnTo>
                    <a:lnTo>
                      <a:pt x="3223" y="3193"/>
                    </a:lnTo>
                    <a:lnTo>
                      <a:pt x="2829" y="2799"/>
                    </a:lnTo>
                    <a:close/>
                    <a:moveTo>
                      <a:pt x="2739" y="2709"/>
                    </a:moveTo>
                    <a:lnTo>
                      <a:pt x="2722" y="2725"/>
                    </a:lnTo>
                    <a:lnTo>
                      <a:pt x="2795" y="2799"/>
                    </a:lnTo>
                    <a:lnTo>
                      <a:pt x="2812" y="2782"/>
                    </a:lnTo>
                    <a:lnTo>
                      <a:pt x="2739" y="2709"/>
                    </a:lnTo>
                    <a:close/>
                    <a:moveTo>
                      <a:pt x="2630" y="2602"/>
                    </a:moveTo>
                    <a:lnTo>
                      <a:pt x="2613" y="2619"/>
                    </a:lnTo>
                    <a:lnTo>
                      <a:pt x="2689" y="2692"/>
                    </a:lnTo>
                    <a:lnTo>
                      <a:pt x="2706" y="2676"/>
                    </a:lnTo>
                    <a:lnTo>
                      <a:pt x="2630" y="2602"/>
                    </a:lnTo>
                    <a:close/>
                    <a:moveTo>
                      <a:pt x="2221" y="2191"/>
                    </a:moveTo>
                    <a:lnTo>
                      <a:pt x="2202" y="2208"/>
                    </a:lnTo>
                    <a:lnTo>
                      <a:pt x="2597" y="2602"/>
                    </a:lnTo>
                    <a:lnTo>
                      <a:pt x="2613" y="2584"/>
                    </a:lnTo>
                    <a:lnTo>
                      <a:pt x="2221" y="2191"/>
                    </a:lnTo>
                    <a:close/>
                    <a:moveTo>
                      <a:pt x="2129" y="2099"/>
                    </a:moveTo>
                    <a:lnTo>
                      <a:pt x="2112" y="2116"/>
                    </a:lnTo>
                    <a:lnTo>
                      <a:pt x="2186" y="2191"/>
                    </a:lnTo>
                    <a:lnTo>
                      <a:pt x="2202" y="2175"/>
                    </a:lnTo>
                    <a:lnTo>
                      <a:pt x="2129" y="2099"/>
                    </a:lnTo>
                    <a:close/>
                    <a:moveTo>
                      <a:pt x="2023" y="1993"/>
                    </a:moveTo>
                    <a:lnTo>
                      <a:pt x="2006" y="2009"/>
                    </a:lnTo>
                    <a:lnTo>
                      <a:pt x="2079" y="2082"/>
                    </a:lnTo>
                    <a:lnTo>
                      <a:pt x="2096" y="2066"/>
                    </a:lnTo>
                    <a:lnTo>
                      <a:pt x="2023" y="1993"/>
                    </a:lnTo>
                    <a:close/>
                    <a:moveTo>
                      <a:pt x="1611" y="1581"/>
                    </a:moveTo>
                    <a:lnTo>
                      <a:pt x="1595" y="1598"/>
                    </a:lnTo>
                    <a:lnTo>
                      <a:pt x="1990" y="1993"/>
                    </a:lnTo>
                    <a:lnTo>
                      <a:pt x="2006" y="1976"/>
                    </a:lnTo>
                    <a:lnTo>
                      <a:pt x="1611" y="1581"/>
                    </a:lnTo>
                    <a:close/>
                    <a:moveTo>
                      <a:pt x="1522" y="1492"/>
                    </a:moveTo>
                    <a:lnTo>
                      <a:pt x="1505" y="1508"/>
                    </a:lnTo>
                    <a:lnTo>
                      <a:pt x="1578" y="1581"/>
                    </a:lnTo>
                    <a:lnTo>
                      <a:pt x="1595" y="1565"/>
                    </a:lnTo>
                    <a:lnTo>
                      <a:pt x="1522" y="1492"/>
                    </a:lnTo>
                    <a:close/>
                    <a:moveTo>
                      <a:pt x="1413" y="1383"/>
                    </a:moveTo>
                    <a:lnTo>
                      <a:pt x="1396" y="1399"/>
                    </a:lnTo>
                    <a:lnTo>
                      <a:pt x="1472" y="1473"/>
                    </a:lnTo>
                    <a:lnTo>
                      <a:pt x="1488" y="1456"/>
                    </a:lnTo>
                    <a:lnTo>
                      <a:pt x="1413" y="1383"/>
                    </a:lnTo>
                    <a:close/>
                    <a:moveTo>
                      <a:pt x="1004" y="972"/>
                    </a:moveTo>
                    <a:lnTo>
                      <a:pt x="985" y="988"/>
                    </a:lnTo>
                    <a:lnTo>
                      <a:pt x="1380" y="1383"/>
                    </a:lnTo>
                    <a:lnTo>
                      <a:pt x="1396" y="1366"/>
                    </a:lnTo>
                    <a:lnTo>
                      <a:pt x="1004" y="972"/>
                    </a:lnTo>
                    <a:close/>
                    <a:moveTo>
                      <a:pt x="912" y="882"/>
                    </a:moveTo>
                    <a:lnTo>
                      <a:pt x="895" y="898"/>
                    </a:lnTo>
                    <a:lnTo>
                      <a:pt x="969" y="972"/>
                    </a:lnTo>
                    <a:lnTo>
                      <a:pt x="985" y="955"/>
                    </a:lnTo>
                    <a:lnTo>
                      <a:pt x="912" y="882"/>
                    </a:lnTo>
                    <a:close/>
                    <a:moveTo>
                      <a:pt x="805" y="773"/>
                    </a:moveTo>
                    <a:lnTo>
                      <a:pt x="789" y="790"/>
                    </a:lnTo>
                    <a:lnTo>
                      <a:pt x="862" y="865"/>
                    </a:lnTo>
                    <a:lnTo>
                      <a:pt x="879" y="849"/>
                    </a:lnTo>
                    <a:lnTo>
                      <a:pt x="805" y="773"/>
                    </a:lnTo>
                    <a:close/>
                    <a:moveTo>
                      <a:pt x="394" y="362"/>
                    </a:moveTo>
                    <a:lnTo>
                      <a:pt x="378" y="378"/>
                    </a:lnTo>
                    <a:lnTo>
                      <a:pt x="772" y="773"/>
                    </a:lnTo>
                    <a:lnTo>
                      <a:pt x="789" y="757"/>
                    </a:lnTo>
                    <a:lnTo>
                      <a:pt x="394" y="362"/>
                    </a:lnTo>
                    <a:close/>
                    <a:moveTo>
                      <a:pt x="304" y="272"/>
                    </a:moveTo>
                    <a:lnTo>
                      <a:pt x="288" y="289"/>
                    </a:lnTo>
                    <a:lnTo>
                      <a:pt x="361" y="362"/>
                    </a:lnTo>
                    <a:lnTo>
                      <a:pt x="378" y="345"/>
                    </a:lnTo>
                    <a:lnTo>
                      <a:pt x="304" y="272"/>
                    </a:lnTo>
                    <a:close/>
                    <a:moveTo>
                      <a:pt x="196" y="163"/>
                    </a:moveTo>
                    <a:lnTo>
                      <a:pt x="179" y="182"/>
                    </a:lnTo>
                    <a:lnTo>
                      <a:pt x="255" y="255"/>
                    </a:lnTo>
                    <a:lnTo>
                      <a:pt x="271" y="239"/>
                    </a:lnTo>
                    <a:lnTo>
                      <a:pt x="196" y="163"/>
                    </a:lnTo>
                    <a:close/>
                    <a:moveTo>
                      <a:pt x="33" y="0"/>
                    </a:moveTo>
                    <a:lnTo>
                      <a:pt x="0" y="0"/>
                    </a:lnTo>
                    <a:lnTo>
                      <a:pt x="163" y="163"/>
                    </a:lnTo>
                    <a:lnTo>
                      <a:pt x="179" y="14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530"/>
              <p:cNvSpPr/>
              <p:nvPr/>
            </p:nvSpPr>
            <p:spPr>
              <a:xfrm rot="5400000">
                <a:off x="6575400" y="1081800"/>
                <a:ext cx="5009040" cy="6223680"/>
              </a:xfrm>
              <a:custGeom>
                <a:avLst/>
                <a:gdLst>
                  <a:gd name="textAreaLeft" fmla="*/ 0 w 5009040"/>
                  <a:gd name="textAreaRight" fmla="*/ 5009400 w 5009040"/>
                  <a:gd name="textAreaTop" fmla="*/ 0 h 6223680"/>
                  <a:gd name="textAreaBottom" fmla="*/ 6224040 h 6223680"/>
                </a:gdLst>
                <a:ahLst/>
                <a:rect l="textAreaLeft" t="textAreaTop" r="textAreaRight" b="textAreaBottom"/>
                <a:pathLst>
                  <a:path w="4029" h="4018">
                    <a:moveTo>
                      <a:pt x="3956" y="3928"/>
                    </a:moveTo>
                    <a:lnTo>
                      <a:pt x="3939" y="3945"/>
                    </a:lnTo>
                    <a:lnTo>
                      <a:pt x="4013" y="4018"/>
                    </a:lnTo>
                    <a:lnTo>
                      <a:pt x="4029" y="4002"/>
                    </a:lnTo>
                    <a:lnTo>
                      <a:pt x="3956" y="3928"/>
                    </a:lnTo>
                    <a:moveTo>
                      <a:pt x="3847" y="3820"/>
                    </a:moveTo>
                    <a:lnTo>
                      <a:pt x="3831" y="3836"/>
                    </a:lnTo>
                    <a:lnTo>
                      <a:pt x="3906" y="3912"/>
                    </a:lnTo>
                    <a:lnTo>
                      <a:pt x="3923" y="3893"/>
                    </a:lnTo>
                    <a:lnTo>
                      <a:pt x="3847" y="3820"/>
                    </a:lnTo>
                    <a:moveTo>
                      <a:pt x="3438" y="3408"/>
                    </a:moveTo>
                    <a:lnTo>
                      <a:pt x="3419" y="3425"/>
                    </a:lnTo>
                    <a:lnTo>
                      <a:pt x="3814" y="3820"/>
                    </a:lnTo>
                    <a:lnTo>
                      <a:pt x="3831" y="3803"/>
                    </a:lnTo>
                    <a:lnTo>
                      <a:pt x="3438" y="3408"/>
                    </a:lnTo>
                    <a:moveTo>
                      <a:pt x="3346" y="3319"/>
                    </a:moveTo>
                    <a:lnTo>
                      <a:pt x="3330" y="3335"/>
                    </a:lnTo>
                    <a:lnTo>
                      <a:pt x="3403" y="3408"/>
                    </a:lnTo>
                    <a:lnTo>
                      <a:pt x="3419" y="3392"/>
                    </a:lnTo>
                    <a:lnTo>
                      <a:pt x="3346" y="3319"/>
                    </a:lnTo>
                    <a:moveTo>
                      <a:pt x="3240" y="3210"/>
                    </a:moveTo>
                    <a:lnTo>
                      <a:pt x="3223" y="3226"/>
                    </a:lnTo>
                    <a:lnTo>
                      <a:pt x="3296" y="3302"/>
                    </a:lnTo>
                    <a:lnTo>
                      <a:pt x="3313" y="3285"/>
                    </a:lnTo>
                    <a:lnTo>
                      <a:pt x="3240" y="3210"/>
                    </a:lnTo>
                    <a:moveTo>
                      <a:pt x="2829" y="2799"/>
                    </a:moveTo>
                    <a:lnTo>
                      <a:pt x="2812" y="2815"/>
                    </a:lnTo>
                    <a:lnTo>
                      <a:pt x="3207" y="3210"/>
                    </a:lnTo>
                    <a:lnTo>
                      <a:pt x="3223" y="3193"/>
                    </a:lnTo>
                    <a:lnTo>
                      <a:pt x="2829" y="2799"/>
                    </a:lnTo>
                    <a:moveTo>
                      <a:pt x="2739" y="2709"/>
                    </a:moveTo>
                    <a:lnTo>
                      <a:pt x="2722" y="2725"/>
                    </a:lnTo>
                    <a:lnTo>
                      <a:pt x="2795" y="2799"/>
                    </a:lnTo>
                    <a:lnTo>
                      <a:pt x="2812" y="2782"/>
                    </a:lnTo>
                    <a:lnTo>
                      <a:pt x="2739" y="2709"/>
                    </a:lnTo>
                    <a:moveTo>
                      <a:pt x="2630" y="2602"/>
                    </a:moveTo>
                    <a:lnTo>
                      <a:pt x="2613" y="2619"/>
                    </a:lnTo>
                    <a:lnTo>
                      <a:pt x="2689" y="2692"/>
                    </a:lnTo>
                    <a:lnTo>
                      <a:pt x="2706" y="2676"/>
                    </a:lnTo>
                    <a:lnTo>
                      <a:pt x="2630" y="2602"/>
                    </a:lnTo>
                    <a:moveTo>
                      <a:pt x="2221" y="2191"/>
                    </a:moveTo>
                    <a:lnTo>
                      <a:pt x="2202" y="2208"/>
                    </a:lnTo>
                    <a:lnTo>
                      <a:pt x="2597" y="2602"/>
                    </a:lnTo>
                    <a:lnTo>
                      <a:pt x="2613" y="2584"/>
                    </a:lnTo>
                    <a:lnTo>
                      <a:pt x="2221" y="2191"/>
                    </a:lnTo>
                    <a:moveTo>
                      <a:pt x="2129" y="2099"/>
                    </a:moveTo>
                    <a:lnTo>
                      <a:pt x="2112" y="2116"/>
                    </a:lnTo>
                    <a:lnTo>
                      <a:pt x="2186" y="2191"/>
                    </a:lnTo>
                    <a:lnTo>
                      <a:pt x="2202" y="2175"/>
                    </a:lnTo>
                    <a:lnTo>
                      <a:pt x="2129" y="2099"/>
                    </a:lnTo>
                    <a:moveTo>
                      <a:pt x="2023" y="1993"/>
                    </a:moveTo>
                    <a:lnTo>
                      <a:pt x="2006" y="2009"/>
                    </a:lnTo>
                    <a:lnTo>
                      <a:pt x="2079" y="2082"/>
                    </a:lnTo>
                    <a:lnTo>
                      <a:pt x="2096" y="2066"/>
                    </a:lnTo>
                    <a:lnTo>
                      <a:pt x="2023" y="1993"/>
                    </a:lnTo>
                    <a:moveTo>
                      <a:pt x="1611" y="1581"/>
                    </a:moveTo>
                    <a:lnTo>
                      <a:pt x="1595" y="1598"/>
                    </a:lnTo>
                    <a:lnTo>
                      <a:pt x="1990" y="1993"/>
                    </a:lnTo>
                    <a:lnTo>
                      <a:pt x="2006" y="1976"/>
                    </a:lnTo>
                    <a:lnTo>
                      <a:pt x="1611" y="1581"/>
                    </a:lnTo>
                    <a:moveTo>
                      <a:pt x="1522" y="1492"/>
                    </a:moveTo>
                    <a:lnTo>
                      <a:pt x="1505" y="1508"/>
                    </a:lnTo>
                    <a:lnTo>
                      <a:pt x="1578" y="1581"/>
                    </a:lnTo>
                    <a:lnTo>
                      <a:pt x="1595" y="1565"/>
                    </a:lnTo>
                    <a:lnTo>
                      <a:pt x="1522" y="1492"/>
                    </a:lnTo>
                    <a:moveTo>
                      <a:pt x="1413" y="1383"/>
                    </a:moveTo>
                    <a:lnTo>
                      <a:pt x="1396" y="1399"/>
                    </a:lnTo>
                    <a:lnTo>
                      <a:pt x="1472" y="1473"/>
                    </a:lnTo>
                    <a:lnTo>
                      <a:pt x="1488" y="1456"/>
                    </a:lnTo>
                    <a:lnTo>
                      <a:pt x="1413" y="1383"/>
                    </a:lnTo>
                    <a:moveTo>
                      <a:pt x="1004" y="972"/>
                    </a:moveTo>
                    <a:lnTo>
                      <a:pt x="985" y="988"/>
                    </a:lnTo>
                    <a:lnTo>
                      <a:pt x="1380" y="1383"/>
                    </a:lnTo>
                    <a:lnTo>
                      <a:pt x="1396" y="1366"/>
                    </a:lnTo>
                    <a:lnTo>
                      <a:pt x="1004" y="972"/>
                    </a:lnTo>
                    <a:moveTo>
                      <a:pt x="912" y="882"/>
                    </a:moveTo>
                    <a:lnTo>
                      <a:pt x="895" y="898"/>
                    </a:lnTo>
                    <a:lnTo>
                      <a:pt x="969" y="972"/>
                    </a:lnTo>
                    <a:lnTo>
                      <a:pt x="985" y="955"/>
                    </a:lnTo>
                    <a:lnTo>
                      <a:pt x="912" y="882"/>
                    </a:lnTo>
                    <a:moveTo>
                      <a:pt x="805" y="773"/>
                    </a:moveTo>
                    <a:lnTo>
                      <a:pt x="789" y="790"/>
                    </a:lnTo>
                    <a:lnTo>
                      <a:pt x="862" y="865"/>
                    </a:lnTo>
                    <a:lnTo>
                      <a:pt x="879" y="849"/>
                    </a:lnTo>
                    <a:lnTo>
                      <a:pt x="805" y="773"/>
                    </a:lnTo>
                    <a:moveTo>
                      <a:pt x="394" y="362"/>
                    </a:moveTo>
                    <a:lnTo>
                      <a:pt x="378" y="378"/>
                    </a:lnTo>
                    <a:lnTo>
                      <a:pt x="772" y="773"/>
                    </a:lnTo>
                    <a:lnTo>
                      <a:pt x="789" y="757"/>
                    </a:lnTo>
                    <a:lnTo>
                      <a:pt x="394" y="362"/>
                    </a:lnTo>
                    <a:moveTo>
                      <a:pt x="304" y="272"/>
                    </a:moveTo>
                    <a:lnTo>
                      <a:pt x="288" y="289"/>
                    </a:lnTo>
                    <a:lnTo>
                      <a:pt x="361" y="362"/>
                    </a:lnTo>
                    <a:lnTo>
                      <a:pt x="378" y="345"/>
                    </a:lnTo>
                    <a:lnTo>
                      <a:pt x="304" y="272"/>
                    </a:lnTo>
                    <a:moveTo>
                      <a:pt x="196" y="163"/>
                    </a:moveTo>
                    <a:lnTo>
                      <a:pt x="179" y="182"/>
                    </a:lnTo>
                    <a:lnTo>
                      <a:pt x="255" y="255"/>
                    </a:lnTo>
                    <a:lnTo>
                      <a:pt x="271" y="239"/>
                    </a:lnTo>
                    <a:lnTo>
                      <a:pt x="196" y="163"/>
                    </a:lnTo>
                    <a:moveTo>
                      <a:pt x="33" y="0"/>
                    </a:moveTo>
                    <a:lnTo>
                      <a:pt x="0" y="0"/>
                    </a:lnTo>
                    <a:lnTo>
                      <a:pt x="163" y="163"/>
                    </a:lnTo>
                    <a:lnTo>
                      <a:pt x="179" y="14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31"/>
              <p:cNvSpPr/>
              <p:nvPr/>
            </p:nvSpPr>
            <p:spPr>
              <a:xfrm rot="5400000">
                <a:off x="5777280" y="6666840"/>
                <a:ext cx="158760" cy="222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7" y="0"/>
                    </a:moveTo>
                    <a:lnTo>
                      <a:pt x="0" y="17"/>
                    </a:lnTo>
                    <a:lnTo>
                      <a:pt x="128" y="144"/>
                    </a:lnTo>
                    <a:lnTo>
                      <a:pt x="128" y="11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32"/>
              <p:cNvSpPr/>
              <p:nvPr/>
            </p:nvSpPr>
            <p:spPr>
              <a:xfrm rot="5400000">
                <a:off x="5777280" y="6666840"/>
                <a:ext cx="158760" cy="222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17" y="0"/>
                    </a:moveTo>
                    <a:lnTo>
                      <a:pt x="0" y="17"/>
                    </a:lnTo>
                    <a:lnTo>
                      <a:pt x="128" y="144"/>
                    </a:lnTo>
                    <a:lnTo>
                      <a:pt x="128" y="111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533"/>
              <p:cNvSpPr/>
              <p:nvPr/>
            </p:nvSpPr>
            <p:spPr>
              <a:xfrm rot="5400000">
                <a:off x="11752200" y="199800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534"/>
              <p:cNvSpPr/>
              <p:nvPr/>
            </p:nvSpPr>
            <p:spPr>
              <a:xfrm rot="5400000">
                <a:off x="11752200" y="199800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535"/>
              <p:cNvSpPr/>
              <p:nvPr/>
            </p:nvSpPr>
            <p:spPr>
              <a:xfrm rot="5400000">
                <a:off x="10807560" y="27543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536"/>
              <p:cNvSpPr/>
              <p:nvPr/>
            </p:nvSpPr>
            <p:spPr>
              <a:xfrm rot="5400000">
                <a:off x="10807560" y="27543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537"/>
              <p:cNvSpPr/>
              <p:nvPr/>
            </p:nvSpPr>
            <p:spPr>
              <a:xfrm rot="5400000">
                <a:off x="9864720" y="351036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38"/>
              <p:cNvSpPr/>
              <p:nvPr/>
            </p:nvSpPr>
            <p:spPr>
              <a:xfrm rot="5400000">
                <a:off x="9864720" y="351036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39"/>
              <p:cNvSpPr/>
              <p:nvPr/>
            </p:nvSpPr>
            <p:spPr>
              <a:xfrm rot="5400000">
                <a:off x="8921880" y="42663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40"/>
              <p:cNvSpPr/>
              <p:nvPr/>
            </p:nvSpPr>
            <p:spPr>
              <a:xfrm rot="5400000">
                <a:off x="8921880" y="42663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41"/>
              <p:cNvSpPr/>
              <p:nvPr/>
            </p:nvSpPr>
            <p:spPr>
              <a:xfrm rot="5400000">
                <a:off x="7978320" y="50259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42"/>
              <p:cNvSpPr/>
              <p:nvPr/>
            </p:nvSpPr>
            <p:spPr>
              <a:xfrm rot="5400000">
                <a:off x="7978320" y="502596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43"/>
              <p:cNvSpPr/>
              <p:nvPr/>
            </p:nvSpPr>
            <p:spPr>
              <a:xfrm rot="5400000">
                <a:off x="7033680" y="577980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4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44"/>
              <p:cNvSpPr/>
              <p:nvPr/>
            </p:nvSpPr>
            <p:spPr>
              <a:xfrm rot="5400000">
                <a:off x="7033680" y="577980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4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45"/>
              <p:cNvSpPr/>
              <p:nvPr/>
            </p:nvSpPr>
            <p:spPr>
              <a:xfrm rot="5400000">
                <a:off x="6090480" y="653688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46"/>
              <p:cNvSpPr/>
              <p:nvPr/>
            </p:nvSpPr>
            <p:spPr>
              <a:xfrm rot="5400000">
                <a:off x="6090480" y="653688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47"/>
              <p:cNvSpPr/>
              <p:nvPr/>
            </p:nvSpPr>
            <p:spPr>
              <a:xfrm rot="5400000">
                <a:off x="11611080" y="21330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548"/>
              <p:cNvSpPr/>
              <p:nvPr/>
            </p:nvSpPr>
            <p:spPr>
              <a:xfrm rot="5400000">
                <a:off x="11611080" y="21330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549"/>
              <p:cNvSpPr/>
              <p:nvPr/>
            </p:nvSpPr>
            <p:spPr>
              <a:xfrm rot="5400000">
                <a:off x="10665360" y="289044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550"/>
              <p:cNvSpPr/>
              <p:nvPr/>
            </p:nvSpPr>
            <p:spPr>
              <a:xfrm rot="5400000">
                <a:off x="10665360" y="289044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5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551"/>
              <p:cNvSpPr/>
              <p:nvPr/>
            </p:nvSpPr>
            <p:spPr>
              <a:xfrm rot="5400000">
                <a:off x="9721440" y="364644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552"/>
              <p:cNvSpPr/>
              <p:nvPr/>
            </p:nvSpPr>
            <p:spPr>
              <a:xfrm rot="5400000">
                <a:off x="9721440" y="364644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553"/>
              <p:cNvSpPr/>
              <p:nvPr/>
            </p:nvSpPr>
            <p:spPr>
              <a:xfrm rot="5400000">
                <a:off x="8775360" y="440316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554"/>
              <p:cNvSpPr/>
              <p:nvPr/>
            </p:nvSpPr>
            <p:spPr>
              <a:xfrm rot="5400000">
                <a:off x="8775360" y="4403160"/>
                <a:ext cx="43560" cy="511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555"/>
              <p:cNvSpPr/>
              <p:nvPr/>
            </p:nvSpPr>
            <p:spPr>
              <a:xfrm rot="5400000">
                <a:off x="7836120" y="5160240"/>
                <a:ext cx="42120" cy="50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556"/>
              <p:cNvSpPr/>
              <p:nvPr/>
            </p:nvSpPr>
            <p:spPr>
              <a:xfrm rot="5400000">
                <a:off x="7836120" y="5160240"/>
                <a:ext cx="42120" cy="50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557"/>
              <p:cNvSpPr/>
              <p:nvPr/>
            </p:nvSpPr>
            <p:spPr>
              <a:xfrm rot="5400000">
                <a:off x="6890400" y="591660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58"/>
              <p:cNvSpPr/>
              <p:nvPr/>
            </p:nvSpPr>
            <p:spPr>
              <a:xfrm rot="5400000">
                <a:off x="6890400" y="591660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559"/>
              <p:cNvSpPr/>
              <p:nvPr/>
            </p:nvSpPr>
            <p:spPr>
              <a:xfrm rot="5400000">
                <a:off x="5946840" y="6673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560"/>
              <p:cNvSpPr/>
              <p:nvPr/>
            </p:nvSpPr>
            <p:spPr>
              <a:xfrm rot="5400000">
                <a:off x="5946840" y="6673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561"/>
              <p:cNvSpPr/>
              <p:nvPr/>
            </p:nvSpPr>
            <p:spPr>
              <a:xfrm rot="5400000">
                <a:off x="11916360" y="188532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562"/>
              <p:cNvSpPr/>
              <p:nvPr/>
            </p:nvSpPr>
            <p:spPr>
              <a:xfrm rot="5400000">
                <a:off x="11916360" y="188532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563"/>
              <p:cNvSpPr/>
              <p:nvPr/>
            </p:nvSpPr>
            <p:spPr>
              <a:xfrm rot="5400000">
                <a:off x="10972800" y="26442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564"/>
              <p:cNvSpPr/>
              <p:nvPr/>
            </p:nvSpPr>
            <p:spPr>
              <a:xfrm rot="5400000">
                <a:off x="10972800" y="26442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565"/>
              <p:cNvSpPr/>
              <p:nvPr/>
            </p:nvSpPr>
            <p:spPr>
              <a:xfrm rot="5400000">
                <a:off x="10029600" y="34002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566"/>
              <p:cNvSpPr/>
              <p:nvPr/>
            </p:nvSpPr>
            <p:spPr>
              <a:xfrm rot="5400000">
                <a:off x="10029600" y="34002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567"/>
              <p:cNvSpPr/>
              <p:nvPr/>
            </p:nvSpPr>
            <p:spPr>
              <a:xfrm rot="5400000">
                <a:off x="9084960" y="415872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568"/>
              <p:cNvSpPr/>
              <p:nvPr/>
            </p:nvSpPr>
            <p:spPr>
              <a:xfrm rot="5400000">
                <a:off x="9084960" y="415872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69"/>
              <p:cNvSpPr/>
              <p:nvPr/>
            </p:nvSpPr>
            <p:spPr>
              <a:xfrm rot="5400000">
                <a:off x="8141760" y="4911480"/>
                <a:ext cx="40680" cy="540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8"/>
                    </a:lnTo>
                    <a:lnTo>
                      <a:pt x="16" y="35"/>
                    </a:lnTo>
                    <a:lnTo>
                      <a:pt x="33" y="1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570"/>
              <p:cNvSpPr/>
              <p:nvPr/>
            </p:nvSpPr>
            <p:spPr>
              <a:xfrm rot="5400000">
                <a:off x="8141760" y="4911480"/>
                <a:ext cx="40680" cy="540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8"/>
                    </a:lnTo>
                    <a:lnTo>
                      <a:pt x="16" y="35"/>
                    </a:lnTo>
                    <a:lnTo>
                      <a:pt x="33" y="18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571"/>
              <p:cNvSpPr/>
              <p:nvPr/>
            </p:nvSpPr>
            <p:spPr>
              <a:xfrm rot="5400000">
                <a:off x="7200000" y="56714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572"/>
              <p:cNvSpPr/>
              <p:nvPr/>
            </p:nvSpPr>
            <p:spPr>
              <a:xfrm rot="5400000">
                <a:off x="7200000" y="56714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573"/>
              <p:cNvSpPr/>
              <p:nvPr/>
            </p:nvSpPr>
            <p:spPr>
              <a:xfrm rot="5400000">
                <a:off x="6255000" y="64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574"/>
              <p:cNvSpPr/>
              <p:nvPr/>
            </p:nvSpPr>
            <p:spPr>
              <a:xfrm rot="5400000">
                <a:off x="6255000" y="64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575"/>
              <p:cNvSpPr/>
              <p:nvPr/>
            </p:nvSpPr>
            <p:spPr>
              <a:xfrm rot="5400000">
                <a:off x="4875480" y="-617400"/>
                <a:ext cx="6523560" cy="8109000"/>
              </a:xfrm>
              <a:custGeom>
                <a:avLst/>
                <a:gdLst>
                  <a:gd name="textAreaLeft" fmla="*/ 0 w 6523560"/>
                  <a:gd name="textAreaRight" fmla="*/ 6523920 w 6523560"/>
                  <a:gd name="textAreaTop" fmla="*/ 0 h 8109000"/>
                  <a:gd name="textAreaBottom" fmla="*/ 8109360 h 8109000"/>
                </a:gdLst>
                <a:ahLst/>
                <a:rect l="textAreaLeft" t="textAreaTop" r="textAreaRight" b="textAreaBottom"/>
                <a:pathLst>
                  <a:path w="5247" h="5235">
                    <a:moveTo>
                      <a:pt x="5174" y="5146"/>
                    </a:moveTo>
                    <a:lnTo>
                      <a:pt x="5155" y="5162"/>
                    </a:lnTo>
                    <a:lnTo>
                      <a:pt x="5231" y="5235"/>
                    </a:lnTo>
                    <a:lnTo>
                      <a:pt x="5247" y="5219"/>
                    </a:lnTo>
                    <a:lnTo>
                      <a:pt x="5174" y="5146"/>
                    </a:lnTo>
                    <a:close/>
                    <a:moveTo>
                      <a:pt x="5065" y="5037"/>
                    </a:moveTo>
                    <a:lnTo>
                      <a:pt x="5049" y="5053"/>
                    </a:lnTo>
                    <a:lnTo>
                      <a:pt x="5122" y="5129"/>
                    </a:lnTo>
                    <a:lnTo>
                      <a:pt x="5138" y="5112"/>
                    </a:lnTo>
                    <a:lnTo>
                      <a:pt x="5065" y="5037"/>
                    </a:lnTo>
                    <a:close/>
                    <a:moveTo>
                      <a:pt x="4654" y="4626"/>
                    </a:moveTo>
                    <a:lnTo>
                      <a:pt x="4637" y="4642"/>
                    </a:lnTo>
                    <a:lnTo>
                      <a:pt x="5032" y="5037"/>
                    </a:lnTo>
                    <a:lnTo>
                      <a:pt x="5049" y="5020"/>
                    </a:lnTo>
                    <a:lnTo>
                      <a:pt x="4654" y="4626"/>
                    </a:lnTo>
                    <a:close/>
                    <a:moveTo>
                      <a:pt x="4564" y="4536"/>
                    </a:moveTo>
                    <a:lnTo>
                      <a:pt x="4548" y="4552"/>
                    </a:lnTo>
                    <a:lnTo>
                      <a:pt x="4621" y="4626"/>
                    </a:lnTo>
                    <a:lnTo>
                      <a:pt x="4637" y="4609"/>
                    </a:lnTo>
                    <a:lnTo>
                      <a:pt x="4564" y="4536"/>
                    </a:lnTo>
                    <a:close/>
                    <a:moveTo>
                      <a:pt x="4458" y="4429"/>
                    </a:moveTo>
                    <a:lnTo>
                      <a:pt x="4439" y="4446"/>
                    </a:lnTo>
                    <a:lnTo>
                      <a:pt x="4514" y="4519"/>
                    </a:lnTo>
                    <a:lnTo>
                      <a:pt x="4531" y="4503"/>
                    </a:lnTo>
                    <a:lnTo>
                      <a:pt x="4458" y="4429"/>
                    </a:lnTo>
                    <a:close/>
                    <a:moveTo>
                      <a:pt x="4047" y="4018"/>
                    </a:moveTo>
                    <a:lnTo>
                      <a:pt x="4030" y="4035"/>
                    </a:lnTo>
                    <a:lnTo>
                      <a:pt x="4422" y="4429"/>
                    </a:lnTo>
                    <a:lnTo>
                      <a:pt x="4439" y="4411"/>
                    </a:lnTo>
                    <a:lnTo>
                      <a:pt x="4047" y="4018"/>
                    </a:lnTo>
                    <a:close/>
                    <a:moveTo>
                      <a:pt x="3957" y="3926"/>
                    </a:moveTo>
                    <a:lnTo>
                      <a:pt x="3938" y="3943"/>
                    </a:lnTo>
                    <a:lnTo>
                      <a:pt x="4013" y="4018"/>
                    </a:lnTo>
                    <a:lnTo>
                      <a:pt x="4030" y="4002"/>
                    </a:lnTo>
                    <a:lnTo>
                      <a:pt x="3957" y="3926"/>
                    </a:lnTo>
                    <a:close/>
                    <a:moveTo>
                      <a:pt x="3848" y="3820"/>
                    </a:moveTo>
                    <a:lnTo>
                      <a:pt x="3831" y="3836"/>
                    </a:lnTo>
                    <a:lnTo>
                      <a:pt x="3905" y="3909"/>
                    </a:lnTo>
                    <a:lnTo>
                      <a:pt x="3921" y="3893"/>
                    </a:lnTo>
                    <a:lnTo>
                      <a:pt x="3848" y="3820"/>
                    </a:lnTo>
                    <a:close/>
                    <a:moveTo>
                      <a:pt x="3437" y="3408"/>
                    </a:moveTo>
                    <a:lnTo>
                      <a:pt x="3420" y="3425"/>
                    </a:lnTo>
                    <a:lnTo>
                      <a:pt x="3815" y="3820"/>
                    </a:lnTo>
                    <a:lnTo>
                      <a:pt x="3831" y="3803"/>
                    </a:lnTo>
                    <a:lnTo>
                      <a:pt x="3437" y="3408"/>
                    </a:lnTo>
                    <a:close/>
                    <a:moveTo>
                      <a:pt x="3347" y="3319"/>
                    </a:moveTo>
                    <a:lnTo>
                      <a:pt x="3330" y="3335"/>
                    </a:lnTo>
                    <a:lnTo>
                      <a:pt x="3404" y="3408"/>
                    </a:lnTo>
                    <a:lnTo>
                      <a:pt x="3420" y="3392"/>
                    </a:lnTo>
                    <a:lnTo>
                      <a:pt x="3347" y="3319"/>
                    </a:lnTo>
                    <a:close/>
                    <a:moveTo>
                      <a:pt x="3238" y="3210"/>
                    </a:moveTo>
                    <a:lnTo>
                      <a:pt x="3222" y="3226"/>
                    </a:lnTo>
                    <a:lnTo>
                      <a:pt x="3297" y="3302"/>
                    </a:lnTo>
                    <a:lnTo>
                      <a:pt x="3314" y="3283"/>
                    </a:lnTo>
                    <a:lnTo>
                      <a:pt x="3238" y="3210"/>
                    </a:lnTo>
                    <a:close/>
                    <a:moveTo>
                      <a:pt x="2829" y="2799"/>
                    </a:moveTo>
                    <a:lnTo>
                      <a:pt x="2813" y="2815"/>
                    </a:lnTo>
                    <a:lnTo>
                      <a:pt x="3205" y="3210"/>
                    </a:lnTo>
                    <a:lnTo>
                      <a:pt x="3222" y="3193"/>
                    </a:lnTo>
                    <a:lnTo>
                      <a:pt x="2829" y="2799"/>
                    </a:lnTo>
                    <a:close/>
                    <a:moveTo>
                      <a:pt x="2737" y="2709"/>
                    </a:moveTo>
                    <a:lnTo>
                      <a:pt x="2721" y="2725"/>
                    </a:lnTo>
                    <a:lnTo>
                      <a:pt x="2796" y="2799"/>
                    </a:lnTo>
                    <a:lnTo>
                      <a:pt x="2813" y="2782"/>
                    </a:lnTo>
                    <a:lnTo>
                      <a:pt x="2737" y="2709"/>
                    </a:lnTo>
                    <a:close/>
                    <a:moveTo>
                      <a:pt x="2631" y="2600"/>
                    </a:moveTo>
                    <a:lnTo>
                      <a:pt x="2614" y="2617"/>
                    </a:lnTo>
                    <a:lnTo>
                      <a:pt x="2688" y="2692"/>
                    </a:lnTo>
                    <a:lnTo>
                      <a:pt x="2704" y="2676"/>
                    </a:lnTo>
                    <a:lnTo>
                      <a:pt x="2631" y="2600"/>
                    </a:lnTo>
                    <a:close/>
                    <a:moveTo>
                      <a:pt x="2220" y="2189"/>
                    </a:moveTo>
                    <a:lnTo>
                      <a:pt x="2203" y="2205"/>
                    </a:lnTo>
                    <a:lnTo>
                      <a:pt x="2598" y="2600"/>
                    </a:lnTo>
                    <a:lnTo>
                      <a:pt x="2614" y="2584"/>
                    </a:lnTo>
                    <a:lnTo>
                      <a:pt x="2220" y="2189"/>
                    </a:lnTo>
                    <a:close/>
                    <a:moveTo>
                      <a:pt x="2130" y="2099"/>
                    </a:moveTo>
                    <a:lnTo>
                      <a:pt x="2113" y="2116"/>
                    </a:lnTo>
                    <a:lnTo>
                      <a:pt x="2187" y="2189"/>
                    </a:lnTo>
                    <a:lnTo>
                      <a:pt x="2203" y="2172"/>
                    </a:lnTo>
                    <a:lnTo>
                      <a:pt x="2130" y="2099"/>
                    </a:lnTo>
                    <a:close/>
                    <a:moveTo>
                      <a:pt x="2021" y="1990"/>
                    </a:moveTo>
                    <a:lnTo>
                      <a:pt x="2005" y="2009"/>
                    </a:lnTo>
                    <a:lnTo>
                      <a:pt x="2080" y="2082"/>
                    </a:lnTo>
                    <a:lnTo>
                      <a:pt x="2097" y="2066"/>
                    </a:lnTo>
                    <a:lnTo>
                      <a:pt x="2021" y="1990"/>
                    </a:lnTo>
                    <a:close/>
                    <a:moveTo>
                      <a:pt x="1612" y="1581"/>
                    </a:moveTo>
                    <a:lnTo>
                      <a:pt x="1596" y="1598"/>
                    </a:lnTo>
                    <a:lnTo>
                      <a:pt x="1988" y="1990"/>
                    </a:lnTo>
                    <a:lnTo>
                      <a:pt x="2005" y="1974"/>
                    </a:lnTo>
                    <a:lnTo>
                      <a:pt x="1612" y="1581"/>
                    </a:lnTo>
                    <a:close/>
                    <a:moveTo>
                      <a:pt x="1520" y="1489"/>
                    </a:moveTo>
                    <a:lnTo>
                      <a:pt x="1504" y="1506"/>
                    </a:lnTo>
                    <a:lnTo>
                      <a:pt x="1579" y="1581"/>
                    </a:lnTo>
                    <a:lnTo>
                      <a:pt x="1596" y="1562"/>
                    </a:lnTo>
                    <a:lnTo>
                      <a:pt x="1520" y="1489"/>
                    </a:lnTo>
                    <a:close/>
                    <a:moveTo>
                      <a:pt x="1414" y="1383"/>
                    </a:moveTo>
                    <a:lnTo>
                      <a:pt x="1397" y="1399"/>
                    </a:lnTo>
                    <a:lnTo>
                      <a:pt x="1470" y="1473"/>
                    </a:lnTo>
                    <a:lnTo>
                      <a:pt x="1487" y="1456"/>
                    </a:lnTo>
                    <a:lnTo>
                      <a:pt x="1414" y="1383"/>
                    </a:lnTo>
                    <a:close/>
                    <a:moveTo>
                      <a:pt x="1003" y="972"/>
                    </a:moveTo>
                    <a:lnTo>
                      <a:pt x="986" y="988"/>
                    </a:lnTo>
                    <a:lnTo>
                      <a:pt x="1381" y="1383"/>
                    </a:lnTo>
                    <a:lnTo>
                      <a:pt x="1397" y="1366"/>
                    </a:lnTo>
                    <a:lnTo>
                      <a:pt x="1003" y="972"/>
                    </a:lnTo>
                    <a:close/>
                    <a:moveTo>
                      <a:pt x="913" y="879"/>
                    </a:moveTo>
                    <a:lnTo>
                      <a:pt x="896" y="898"/>
                    </a:lnTo>
                    <a:lnTo>
                      <a:pt x="969" y="972"/>
                    </a:lnTo>
                    <a:lnTo>
                      <a:pt x="986" y="955"/>
                    </a:lnTo>
                    <a:lnTo>
                      <a:pt x="913" y="879"/>
                    </a:lnTo>
                    <a:close/>
                    <a:moveTo>
                      <a:pt x="804" y="773"/>
                    </a:moveTo>
                    <a:lnTo>
                      <a:pt x="787" y="790"/>
                    </a:lnTo>
                    <a:lnTo>
                      <a:pt x="863" y="863"/>
                    </a:lnTo>
                    <a:lnTo>
                      <a:pt x="880" y="846"/>
                    </a:lnTo>
                    <a:lnTo>
                      <a:pt x="804" y="773"/>
                    </a:lnTo>
                    <a:close/>
                    <a:moveTo>
                      <a:pt x="395" y="362"/>
                    </a:moveTo>
                    <a:lnTo>
                      <a:pt x="379" y="378"/>
                    </a:lnTo>
                    <a:lnTo>
                      <a:pt x="771" y="773"/>
                    </a:lnTo>
                    <a:lnTo>
                      <a:pt x="787" y="757"/>
                    </a:lnTo>
                    <a:lnTo>
                      <a:pt x="395" y="362"/>
                    </a:lnTo>
                    <a:close/>
                    <a:moveTo>
                      <a:pt x="303" y="272"/>
                    </a:moveTo>
                    <a:lnTo>
                      <a:pt x="286" y="289"/>
                    </a:lnTo>
                    <a:lnTo>
                      <a:pt x="362" y="362"/>
                    </a:lnTo>
                    <a:lnTo>
                      <a:pt x="379" y="345"/>
                    </a:lnTo>
                    <a:lnTo>
                      <a:pt x="303" y="272"/>
                    </a:lnTo>
                    <a:close/>
                    <a:moveTo>
                      <a:pt x="197" y="163"/>
                    </a:moveTo>
                    <a:lnTo>
                      <a:pt x="180" y="180"/>
                    </a:lnTo>
                    <a:lnTo>
                      <a:pt x="253" y="255"/>
                    </a:lnTo>
                    <a:lnTo>
                      <a:pt x="270" y="239"/>
                    </a:lnTo>
                    <a:lnTo>
                      <a:pt x="197" y="163"/>
                    </a:lnTo>
                    <a:close/>
                    <a:moveTo>
                      <a:pt x="34" y="0"/>
                    </a:moveTo>
                    <a:lnTo>
                      <a:pt x="0" y="0"/>
                    </a:lnTo>
                    <a:lnTo>
                      <a:pt x="164" y="163"/>
                    </a:lnTo>
                    <a:lnTo>
                      <a:pt x="180" y="14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76"/>
              <p:cNvSpPr/>
              <p:nvPr/>
            </p:nvSpPr>
            <p:spPr>
              <a:xfrm rot="5400000">
                <a:off x="4875480" y="-617400"/>
                <a:ext cx="6523560" cy="8109000"/>
              </a:xfrm>
              <a:custGeom>
                <a:avLst/>
                <a:gdLst>
                  <a:gd name="textAreaLeft" fmla="*/ 0 w 6523560"/>
                  <a:gd name="textAreaRight" fmla="*/ 6523920 w 6523560"/>
                  <a:gd name="textAreaTop" fmla="*/ 0 h 8109000"/>
                  <a:gd name="textAreaBottom" fmla="*/ 8109360 h 8109000"/>
                </a:gdLst>
                <a:ahLst/>
                <a:rect l="textAreaLeft" t="textAreaTop" r="textAreaRight" b="textAreaBottom"/>
                <a:pathLst>
                  <a:path w="5247" h="5235">
                    <a:moveTo>
                      <a:pt x="5174" y="5146"/>
                    </a:moveTo>
                    <a:lnTo>
                      <a:pt x="5155" y="5162"/>
                    </a:lnTo>
                    <a:lnTo>
                      <a:pt x="5231" y="5235"/>
                    </a:lnTo>
                    <a:lnTo>
                      <a:pt x="5247" y="5219"/>
                    </a:lnTo>
                    <a:lnTo>
                      <a:pt x="5174" y="5146"/>
                    </a:lnTo>
                    <a:moveTo>
                      <a:pt x="5065" y="5037"/>
                    </a:moveTo>
                    <a:lnTo>
                      <a:pt x="5049" y="5053"/>
                    </a:lnTo>
                    <a:lnTo>
                      <a:pt x="5122" y="5129"/>
                    </a:lnTo>
                    <a:lnTo>
                      <a:pt x="5138" y="5112"/>
                    </a:lnTo>
                    <a:lnTo>
                      <a:pt x="5065" y="5037"/>
                    </a:lnTo>
                    <a:moveTo>
                      <a:pt x="4654" y="4626"/>
                    </a:moveTo>
                    <a:lnTo>
                      <a:pt x="4637" y="4642"/>
                    </a:lnTo>
                    <a:lnTo>
                      <a:pt x="5032" y="5037"/>
                    </a:lnTo>
                    <a:lnTo>
                      <a:pt x="5049" y="5020"/>
                    </a:lnTo>
                    <a:lnTo>
                      <a:pt x="4654" y="4626"/>
                    </a:lnTo>
                    <a:moveTo>
                      <a:pt x="4564" y="4536"/>
                    </a:moveTo>
                    <a:lnTo>
                      <a:pt x="4548" y="4552"/>
                    </a:lnTo>
                    <a:lnTo>
                      <a:pt x="4621" y="4626"/>
                    </a:lnTo>
                    <a:lnTo>
                      <a:pt x="4637" y="4609"/>
                    </a:lnTo>
                    <a:lnTo>
                      <a:pt x="4564" y="4536"/>
                    </a:lnTo>
                    <a:moveTo>
                      <a:pt x="4458" y="4429"/>
                    </a:moveTo>
                    <a:lnTo>
                      <a:pt x="4439" y="4446"/>
                    </a:lnTo>
                    <a:lnTo>
                      <a:pt x="4514" y="4519"/>
                    </a:lnTo>
                    <a:lnTo>
                      <a:pt x="4531" y="4503"/>
                    </a:lnTo>
                    <a:lnTo>
                      <a:pt x="4458" y="4429"/>
                    </a:lnTo>
                    <a:moveTo>
                      <a:pt x="4047" y="4018"/>
                    </a:moveTo>
                    <a:lnTo>
                      <a:pt x="4030" y="4035"/>
                    </a:lnTo>
                    <a:lnTo>
                      <a:pt x="4422" y="4429"/>
                    </a:lnTo>
                    <a:lnTo>
                      <a:pt x="4439" y="4411"/>
                    </a:lnTo>
                    <a:lnTo>
                      <a:pt x="4047" y="4018"/>
                    </a:lnTo>
                    <a:moveTo>
                      <a:pt x="3957" y="3926"/>
                    </a:moveTo>
                    <a:lnTo>
                      <a:pt x="3938" y="3943"/>
                    </a:lnTo>
                    <a:lnTo>
                      <a:pt x="4013" y="4018"/>
                    </a:lnTo>
                    <a:lnTo>
                      <a:pt x="4030" y="4002"/>
                    </a:lnTo>
                    <a:lnTo>
                      <a:pt x="3957" y="3926"/>
                    </a:lnTo>
                    <a:moveTo>
                      <a:pt x="3848" y="3820"/>
                    </a:moveTo>
                    <a:lnTo>
                      <a:pt x="3831" y="3836"/>
                    </a:lnTo>
                    <a:lnTo>
                      <a:pt x="3905" y="3909"/>
                    </a:lnTo>
                    <a:lnTo>
                      <a:pt x="3921" y="3893"/>
                    </a:lnTo>
                    <a:lnTo>
                      <a:pt x="3848" y="3820"/>
                    </a:lnTo>
                    <a:moveTo>
                      <a:pt x="3437" y="3408"/>
                    </a:moveTo>
                    <a:lnTo>
                      <a:pt x="3420" y="3425"/>
                    </a:lnTo>
                    <a:lnTo>
                      <a:pt x="3815" y="3820"/>
                    </a:lnTo>
                    <a:lnTo>
                      <a:pt x="3831" y="3803"/>
                    </a:lnTo>
                    <a:lnTo>
                      <a:pt x="3437" y="3408"/>
                    </a:lnTo>
                    <a:moveTo>
                      <a:pt x="3347" y="3319"/>
                    </a:moveTo>
                    <a:lnTo>
                      <a:pt x="3330" y="3335"/>
                    </a:lnTo>
                    <a:lnTo>
                      <a:pt x="3404" y="3408"/>
                    </a:lnTo>
                    <a:lnTo>
                      <a:pt x="3420" y="3392"/>
                    </a:lnTo>
                    <a:lnTo>
                      <a:pt x="3347" y="3319"/>
                    </a:lnTo>
                    <a:moveTo>
                      <a:pt x="3238" y="3210"/>
                    </a:moveTo>
                    <a:lnTo>
                      <a:pt x="3222" y="3226"/>
                    </a:lnTo>
                    <a:lnTo>
                      <a:pt x="3297" y="3302"/>
                    </a:lnTo>
                    <a:lnTo>
                      <a:pt x="3314" y="3283"/>
                    </a:lnTo>
                    <a:lnTo>
                      <a:pt x="3238" y="3210"/>
                    </a:lnTo>
                    <a:moveTo>
                      <a:pt x="2829" y="2799"/>
                    </a:moveTo>
                    <a:lnTo>
                      <a:pt x="2813" y="2815"/>
                    </a:lnTo>
                    <a:lnTo>
                      <a:pt x="3205" y="3210"/>
                    </a:lnTo>
                    <a:lnTo>
                      <a:pt x="3222" y="3193"/>
                    </a:lnTo>
                    <a:lnTo>
                      <a:pt x="2829" y="2799"/>
                    </a:lnTo>
                    <a:moveTo>
                      <a:pt x="2737" y="2709"/>
                    </a:moveTo>
                    <a:lnTo>
                      <a:pt x="2721" y="2725"/>
                    </a:lnTo>
                    <a:lnTo>
                      <a:pt x="2796" y="2799"/>
                    </a:lnTo>
                    <a:lnTo>
                      <a:pt x="2813" y="2782"/>
                    </a:lnTo>
                    <a:lnTo>
                      <a:pt x="2737" y="2709"/>
                    </a:lnTo>
                    <a:moveTo>
                      <a:pt x="2631" y="2600"/>
                    </a:moveTo>
                    <a:lnTo>
                      <a:pt x="2614" y="2617"/>
                    </a:lnTo>
                    <a:lnTo>
                      <a:pt x="2688" y="2692"/>
                    </a:lnTo>
                    <a:lnTo>
                      <a:pt x="2704" y="2676"/>
                    </a:lnTo>
                    <a:lnTo>
                      <a:pt x="2631" y="2600"/>
                    </a:lnTo>
                    <a:moveTo>
                      <a:pt x="2220" y="2189"/>
                    </a:moveTo>
                    <a:lnTo>
                      <a:pt x="2203" y="2205"/>
                    </a:lnTo>
                    <a:lnTo>
                      <a:pt x="2598" y="2600"/>
                    </a:lnTo>
                    <a:lnTo>
                      <a:pt x="2614" y="2584"/>
                    </a:lnTo>
                    <a:lnTo>
                      <a:pt x="2220" y="2189"/>
                    </a:lnTo>
                    <a:moveTo>
                      <a:pt x="2130" y="2099"/>
                    </a:moveTo>
                    <a:lnTo>
                      <a:pt x="2113" y="2116"/>
                    </a:lnTo>
                    <a:lnTo>
                      <a:pt x="2187" y="2189"/>
                    </a:lnTo>
                    <a:lnTo>
                      <a:pt x="2203" y="2172"/>
                    </a:lnTo>
                    <a:lnTo>
                      <a:pt x="2130" y="2099"/>
                    </a:lnTo>
                    <a:moveTo>
                      <a:pt x="2021" y="1990"/>
                    </a:moveTo>
                    <a:lnTo>
                      <a:pt x="2005" y="2009"/>
                    </a:lnTo>
                    <a:lnTo>
                      <a:pt x="2080" y="2082"/>
                    </a:lnTo>
                    <a:lnTo>
                      <a:pt x="2097" y="2066"/>
                    </a:lnTo>
                    <a:lnTo>
                      <a:pt x="2021" y="1990"/>
                    </a:lnTo>
                    <a:moveTo>
                      <a:pt x="1612" y="1581"/>
                    </a:moveTo>
                    <a:lnTo>
                      <a:pt x="1596" y="1598"/>
                    </a:lnTo>
                    <a:lnTo>
                      <a:pt x="1988" y="1990"/>
                    </a:lnTo>
                    <a:lnTo>
                      <a:pt x="2005" y="1974"/>
                    </a:lnTo>
                    <a:lnTo>
                      <a:pt x="1612" y="1581"/>
                    </a:lnTo>
                    <a:moveTo>
                      <a:pt x="1520" y="1489"/>
                    </a:moveTo>
                    <a:lnTo>
                      <a:pt x="1504" y="1506"/>
                    </a:lnTo>
                    <a:lnTo>
                      <a:pt x="1579" y="1581"/>
                    </a:lnTo>
                    <a:lnTo>
                      <a:pt x="1596" y="1562"/>
                    </a:lnTo>
                    <a:lnTo>
                      <a:pt x="1520" y="1489"/>
                    </a:lnTo>
                    <a:moveTo>
                      <a:pt x="1414" y="1383"/>
                    </a:moveTo>
                    <a:lnTo>
                      <a:pt x="1397" y="1399"/>
                    </a:lnTo>
                    <a:lnTo>
                      <a:pt x="1470" y="1473"/>
                    </a:lnTo>
                    <a:lnTo>
                      <a:pt x="1487" y="1456"/>
                    </a:lnTo>
                    <a:lnTo>
                      <a:pt x="1414" y="1383"/>
                    </a:lnTo>
                    <a:moveTo>
                      <a:pt x="1003" y="972"/>
                    </a:moveTo>
                    <a:lnTo>
                      <a:pt x="986" y="988"/>
                    </a:lnTo>
                    <a:lnTo>
                      <a:pt x="1381" y="1383"/>
                    </a:lnTo>
                    <a:lnTo>
                      <a:pt x="1397" y="1366"/>
                    </a:lnTo>
                    <a:lnTo>
                      <a:pt x="1003" y="972"/>
                    </a:lnTo>
                    <a:moveTo>
                      <a:pt x="913" y="879"/>
                    </a:moveTo>
                    <a:lnTo>
                      <a:pt x="896" y="898"/>
                    </a:lnTo>
                    <a:lnTo>
                      <a:pt x="969" y="972"/>
                    </a:lnTo>
                    <a:lnTo>
                      <a:pt x="986" y="955"/>
                    </a:lnTo>
                    <a:lnTo>
                      <a:pt x="913" y="879"/>
                    </a:lnTo>
                    <a:moveTo>
                      <a:pt x="804" y="773"/>
                    </a:moveTo>
                    <a:lnTo>
                      <a:pt x="787" y="790"/>
                    </a:lnTo>
                    <a:lnTo>
                      <a:pt x="863" y="863"/>
                    </a:lnTo>
                    <a:lnTo>
                      <a:pt x="880" y="846"/>
                    </a:lnTo>
                    <a:lnTo>
                      <a:pt x="804" y="773"/>
                    </a:lnTo>
                    <a:moveTo>
                      <a:pt x="395" y="362"/>
                    </a:moveTo>
                    <a:lnTo>
                      <a:pt x="379" y="378"/>
                    </a:lnTo>
                    <a:lnTo>
                      <a:pt x="771" y="773"/>
                    </a:lnTo>
                    <a:lnTo>
                      <a:pt x="787" y="757"/>
                    </a:lnTo>
                    <a:lnTo>
                      <a:pt x="395" y="362"/>
                    </a:lnTo>
                    <a:moveTo>
                      <a:pt x="303" y="272"/>
                    </a:moveTo>
                    <a:lnTo>
                      <a:pt x="286" y="289"/>
                    </a:lnTo>
                    <a:lnTo>
                      <a:pt x="362" y="362"/>
                    </a:lnTo>
                    <a:lnTo>
                      <a:pt x="379" y="345"/>
                    </a:lnTo>
                    <a:lnTo>
                      <a:pt x="303" y="272"/>
                    </a:lnTo>
                    <a:moveTo>
                      <a:pt x="197" y="163"/>
                    </a:moveTo>
                    <a:lnTo>
                      <a:pt x="180" y="180"/>
                    </a:lnTo>
                    <a:lnTo>
                      <a:pt x="253" y="255"/>
                    </a:lnTo>
                    <a:lnTo>
                      <a:pt x="270" y="239"/>
                    </a:lnTo>
                    <a:lnTo>
                      <a:pt x="197" y="163"/>
                    </a:lnTo>
                    <a:moveTo>
                      <a:pt x="34" y="0"/>
                    </a:moveTo>
                    <a:lnTo>
                      <a:pt x="0" y="0"/>
                    </a:lnTo>
                    <a:lnTo>
                      <a:pt x="164" y="163"/>
                    </a:lnTo>
                    <a:lnTo>
                      <a:pt x="180" y="147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77"/>
              <p:cNvSpPr/>
              <p:nvPr/>
            </p:nvSpPr>
            <p:spPr>
              <a:xfrm rot="5400000">
                <a:off x="3889440" y="6664320"/>
                <a:ext cx="158760" cy="227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28" h="147">
                    <a:moveTo>
                      <a:pt x="17" y="0"/>
                    </a:moveTo>
                    <a:lnTo>
                      <a:pt x="0" y="17"/>
                    </a:lnTo>
                    <a:lnTo>
                      <a:pt x="128" y="147"/>
                    </a:lnTo>
                    <a:lnTo>
                      <a:pt x="128" y="11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78"/>
              <p:cNvSpPr/>
              <p:nvPr/>
            </p:nvSpPr>
            <p:spPr>
              <a:xfrm rot="5400000">
                <a:off x="3889440" y="6664320"/>
                <a:ext cx="158760" cy="227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28" h="147">
                    <a:moveTo>
                      <a:pt x="17" y="0"/>
                    </a:moveTo>
                    <a:lnTo>
                      <a:pt x="0" y="17"/>
                    </a:lnTo>
                    <a:lnTo>
                      <a:pt x="128" y="147"/>
                    </a:lnTo>
                    <a:lnTo>
                      <a:pt x="128" y="111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79"/>
              <p:cNvSpPr/>
              <p:nvPr/>
            </p:nvSpPr>
            <p:spPr>
              <a:xfrm rot="5400000">
                <a:off x="11751480" y="482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580"/>
              <p:cNvSpPr/>
              <p:nvPr/>
            </p:nvSpPr>
            <p:spPr>
              <a:xfrm rot="5400000">
                <a:off x="11751480" y="482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581"/>
              <p:cNvSpPr/>
              <p:nvPr/>
            </p:nvSpPr>
            <p:spPr>
              <a:xfrm rot="5400000">
                <a:off x="10809720" y="123912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82"/>
              <p:cNvSpPr/>
              <p:nvPr/>
            </p:nvSpPr>
            <p:spPr>
              <a:xfrm rot="5400000">
                <a:off x="10809720" y="123912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83"/>
              <p:cNvSpPr/>
              <p:nvPr/>
            </p:nvSpPr>
            <p:spPr>
              <a:xfrm rot="5400000">
                <a:off x="9866160" y="19951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84"/>
              <p:cNvSpPr/>
              <p:nvPr/>
            </p:nvSpPr>
            <p:spPr>
              <a:xfrm rot="5400000">
                <a:off x="9866160" y="19951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85"/>
              <p:cNvSpPr/>
              <p:nvPr/>
            </p:nvSpPr>
            <p:spPr>
              <a:xfrm rot="5400000">
                <a:off x="8921880" y="27532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86"/>
              <p:cNvSpPr/>
              <p:nvPr/>
            </p:nvSpPr>
            <p:spPr>
              <a:xfrm rot="5400000">
                <a:off x="8921880" y="27532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87"/>
              <p:cNvSpPr/>
              <p:nvPr/>
            </p:nvSpPr>
            <p:spPr>
              <a:xfrm rot="5400000">
                <a:off x="7978680" y="35096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88"/>
              <p:cNvSpPr/>
              <p:nvPr/>
            </p:nvSpPr>
            <p:spPr>
              <a:xfrm rot="5400000">
                <a:off x="7978680" y="35096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89"/>
              <p:cNvSpPr/>
              <p:nvPr/>
            </p:nvSpPr>
            <p:spPr>
              <a:xfrm rot="5400000">
                <a:off x="7035480" y="426492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90"/>
              <p:cNvSpPr/>
              <p:nvPr/>
            </p:nvSpPr>
            <p:spPr>
              <a:xfrm rot="5400000">
                <a:off x="7035480" y="426492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50" y="3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91"/>
              <p:cNvSpPr/>
              <p:nvPr/>
            </p:nvSpPr>
            <p:spPr>
              <a:xfrm rot="5400000">
                <a:off x="6090840" y="502380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2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92"/>
              <p:cNvSpPr/>
              <p:nvPr/>
            </p:nvSpPr>
            <p:spPr>
              <a:xfrm rot="5400000">
                <a:off x="6090840" y="502380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2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93"/>
              <p:cNvSpPr/>
              <p:nvPr/>
            </p:nvSpPr>
            <p:spPr>
              <a:xfrm rot="5400000">
                <a:off x="5147640" y="578052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4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94"/>
              <p:cNvSpPr/>
              <p:nvPr/>
            </p:nvSpPr>
            <p:spPr>
              <a:xfrm rot="5400000">
                <a:off x="5147640" y="578052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4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95"/>
              <p:cNvSpPr/>
              <p:nvPr/>
            </p:nvSpPr>
            <p:spPr>
              <a:xfrm rot="5400000">
                <a:off x="4202280" y="6537240"/>
                <a:ext cx="64800" cy="77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2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96"/>
              <p:cNvSpPr/>
              <p:nvPr/>
            </p:nvSpPr>
            <p:spPr>
              <a:xfrm rot="5400000">
                <a:off x="4202280" y="6537240"/>
                <a:ext cx="64800" cy="77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2" y="3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97"/>
              <p:cNvSpPr/>
              <p:nvPr/>
            </p:nvSpPr>
            <p:spPr>
              <a:xfrm rot="5400000">
                <a:off x="11611080" y="6202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98"/>
              <p:cNvSpPr/>
              <p:nvPr/>
            </p:nvSpPr>
            <p:spPr>
              <a:xfrm rot="5400000">
                <a:off x="11611080" y="6202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99"/>
              <p:cNvSpPr/>
              <p:nvPr/>
            </p:nvSpPr>
            <p:spPr>
              <a:xfrm rot="5400000">
                <a:off x="10665720" y="1375200"/>
                <a:ext cx="42120" cy="51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00"/>
              <p:cNvSpPr/>
              <p:nvPr/>
            </p:nvSpPr>
            <p:spPr>
              <a:xfrm rot="5400000">
                <a:off x="10665720" y="1375200"/>
                <a:ext cx="42120" cy="51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601"/>
              <p:cNvSpPr/>
              <p:nvPr/>
            </p:nvSpPr>
            <p:spPr>
              <a:xfrm rot="5400000">
                <a:off x="9723960" y="213084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602"/>
              <p:cNvSpPr/>
              <p:nvPr/>
            </p:nvSpPr>
            <p:spPr>
              <a:xfrm rot="5400000">
                <a:off x="9723960" y="213084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9"/>
                    </a:lnTo>
                    <a:lnTo>
                      <a:pt x="17" y="36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03"/>
              <p:cNvSpPr/>
              <p:nvPr/>
            </p:nvSpPr>
            <p:spPr>
              <a:xfrm rot="5400000">
                <a:off x="8781840" y="28893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604"/>
              <p:cNvSpPr/>
              <p:nvPr/>
            </p:nvSpPr>
            <p:spPr>
              <a:xfrm rot="5400000">
                <a:off x="8781840" y="28893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05"/>
              <p:cNvSpPr/>
              <p:nvPr/>
            </p:nvSpPr>
            <p:spPr>
              <a:xfrm rot="5400000">
                <a:off x="7836480" y="364644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06"/>
              <p:cNvSpPr/>
              <p:nvPr/>
            </p:nvSpPr>
            <p:spPr>
              <a:xfrm rot="5400000">
                <a:off x="7836480" y="364644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808"/>
            <p:cNvGrpSpPr/>
            <p:nvPr/>
          </p:nvGrpSpPr>
          <p:grpSpPr>
            <a:xfrm>
              <a:off x="-360" y="0"/>
              <a:ext cx="11964240" cy="6857640"/>
              <a:chOff x="-360" y="0"/>
              <a:chExt cx="11964240" cy="6857640"/>
            </a:xfrm>
          </p:grpSpPr>
          <p:sp>
            <p:nvSpPr>
              <p:cNvPr id="603" name="Freeform 608"/>
              <p:cNvSpPr/>
              <p:nvPr/>
            </p:nvSpPr>
            <p:spPr>
              <a:xfrm rot="5400000">
                <a:off x="6891480" y="44020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609"/>
              <p:cNvSpPr/>
              <p:nvPr/>
            </p:nvSpPr>
            <p:spPr>
              <a:xfrm rot="5400000">
                <a:off x="6891480" y="44020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610"/>
              <p:cNvSpPr/>
              <p:nvPr/>
            </p:nvSpPr>
            <p:spPr>
              <a:xfrm rot="5400000">
                <a:off x="5946120" y="5159880"/>
                <a:ext cx="42120" cy="51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4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611"/>
              <p:cNvSpPr/>
              <p:nvPr/>
            </p:nvSpPr>
            <p:spPr>
              <a:xfrm rot="5400000">
                <a:off x="5946120" y="5159880"/>
                <a:ext cx="42120" cy="51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4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612"/>
              <p:cNvSpPr/>
              <p:nvPr/>
            </p:nvSpPr>
            <p:spPr>
              <a:xfrm rot="5400000">
                <a:off x="5006520" y="59155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613"/>
              <p:cNvSpPr/>
              <p:nvPr/>
            </p:nvSpPr>
            <p:spPr>
              <a:xfrm rot="5400000">
                <a:off x="5006520" y="59155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14"/>
              <p:cNvSpPr/>
              <p:nvPr/>
            </p:nvSpPr>
            <p:spPr>
              <a:xfrm rot="5400000">
                <a:off x="4061520" y="6673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15"/>
              <p:cNvSpPr/>
              <p:nvPr/>
            </p:nvSpPr>
            <p:spPr>
              <a:xfrm rot="5400000">
                <a:off x="4061520" y="6673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616"/>
              <p:cNvSpPr/>
              <p:nvPr/>
            </p:nvSpPr>
            <p:spPr>
              <a:xfrm rot="5400000">
                <a:off x="11917800" y="3736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617"/>
              <p:cNvSpPr/>
              <p:nvPr/>
            </p:nvSpPr>
            <p:spPr>
              <a:xfrm rot="5400000">
                <a:off x="11917800" y="3736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618"/>
              <p:cNvSpPr/>
              <p:nvPr/>
            </p:nvSpPr>
            <p:spPr>
              <a:xfrm rot="5400000">
                <a:off x="10973160" y="11286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619"/>
              <p:cNvSpPr/>
              <p:nvPr/>
            </p:nvSpPr>
            <p:spPr>
              <a:xfrm rot="5400000">
                <a:off x="10973160" y="11286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620"/>
              <p:cNvSpPr/>
              <p:nvPr/>
            </p:nvSpPr>
            <p:spPr>
              <a:xfrm rot="5400000">
                <a:off x="10029600" y="18867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621"/>
              <p:cNvSpPr/>
              <p:nvPr/>
            </p:nvSpPr>
            <p:spPr>
              <a:xfrm rot="5400000">
                <a:off x="10029600" y="18867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622"/>
              <p:cNvSpPr/>
              <p:nvPr/>
            </p:nvSpPr>
            <p:spPr>
              <a:xfrm rot="5400000">
                <a:off x="9086400" y="264024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623"/>
              <p:cNvSpPr/>
              <p:nvPr/>
            </p:nvSpPr>
            <p:spPr>
              <a:xfrm rot="5400000">
                <a:off x="9086400" y="264024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624"/>
              <p:cNvSpPr/>
              <p:nvPr/>
            </p:nvSpPr>
            <p:spPr>
              <a:xfrm rot="5400000">
                <a:off x="8143200" y="34002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625"/>
              <p:cNvSpPr/>
              <p:nvPr/>
            </p:nvSpPr>
            <p:spPr>
              <a:xfrm rot="5400000">
                <a:off x="8143200" y="34002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626"/>
              <p:cNvSpPr/>
              <p:nvPr/>
            </p:nvSpPr>
            <p:spPr>
              <a:xfrm rot="5400000">
                <a:off x="7199640" y="41544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627"/>
              <p:cNvSpPr/>
              <p:nvPr/>
            </p:nvSpPr>
            <p:spPr>
              <a:xfrm rot="5400000">
                <a:off x="7199640" y="41544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628"/>
              <p:cNvSpPr/>
              <p:nvPr/>
            </p:nvSpPr>
            <p:spPr>
              <a:xfrm rot="5400000">
                <a:off x="6255000" y="49132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629"/>
              <p:cNvSpPr/>
              <p:nvPr/>
            </p:nvSpPr>
            <p:spPr>
              <a:xfrm rot="5400000">
                <a:off x="6255000" y="49132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630"/>
              <p:cNvSpPr/>
              <p:nvPr/>
            </p:nvSpPr>
            <p:spPr>
              <a:xfrm rot="5400000">
                <a:off x="5309640" y="5668200"/>
                <a:ext cx="44280" cy="54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6" h="35">
                    <a:moveTo>
                      <a:pt x="17" y="0"/>
                    </a:moveTo>
                    <a:lnTo>
                      <a:pt x="0" y="18"/>
                    </a:lnTo>
                    <a:lnTo>
                      <a:pt x="17" y="35"/>
                    </a:lnTo>
                    <a:lnTo>
                      <a:pt x="36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631"/>
              <p:cNvSpPr/>
              <p:nvPr/>
            </p:nvSpPr>
            <p:spPr>
              <a:xfrm rot="5400000">
                <a:off x="5309640" y="5668200"/>
                <a:ext cx="44280" cy="54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6" h="35">
                    <a:moveTo>
                      <a:pt x="17" y="0"/>
                    </a:moveTo>
                    <a:lnTo>
                      <a:pt x="0" y="18"/>
                    </a:lnTo>
                    <a:lnTo>
                      <a:pt x="17" y="35"/>
                    </a:lnTo>
                    <a:lnTo>
                      <a:pt x="36" y="18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32"/>
              <p:cNvSpPr/>
              <p:nvPr/>
            </p:nvSpPr>
            <p:spPr>
              <a:xfrm rot="5400000">
                <a:off x="4369680" y="64263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633"/>
              <p:cNvSpPr/>
              <p:nvPr/>
            </p:nvSpPr>
            <p:spPr>
              <a:xfrm rot="5400000">
                <a:off x="4369680" y="64263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634"/>
              <p:cNvSpPr/>
              <p:nvPr/>
            </p:nvSpPr>
            <p:spPr>
              <a:xfrm rot="5400000">
                <a:off x="3036240" y="-840240"/>
                <a:ext cx="6696360" cy="8376840"/>
              </a:xfrm>
              <a:custGeom>
                <a:avLst/>
                <a:gdLst>
                  <a:gd name="textAreaLeft" fmla="*/ 0 w 6696360"/>
                  <a:gd name="textAreaRight" fmla="*/ 6696720 w 6696360"/>
                  <a:gd name="textAreaTop" fmla="*/ 0 h 8376840"/>
                  <a:gd name="textAreaBottom" fmla="*/ 8376840 h 8376840"/>
                </a:gdLst>
                <a:ahLst/>
                <a:rect l="textAreaLeft" t="textAreaTop" r="textAreaRight" b="textAreaBottom"/>
                <a:pathLst>
                  <a:path w="5386" h="5408">
                    <a:moveTo>
                      <a:pt x="5312" y="5318"/>
                    </a:moveTo>
                    <a:lnTo>
                      <a:pt x="5296" y="5334"/>
                    </a:lnTo>
                    <a:lnTo>
                      <a:pt x="5369" y="5408"/>
                    </a:lnTo>
                    <a:lnTo>
                      <a:pt x="5386" y="5391"/>
                    </a:lnTo>
                    <a:lnTo>
                      <a:pt x="5312" y="5318"/>
                    </a:lnTo>
                    <a:close/>
                    <a:moveTo>
                      <a:pt x="5206" y="5211"/>
                    </a:moveTo>
                    <a:lnTo>
                      <a:pt x="5190" y="5228"/>
                    </a:lnTo>
                    <a:lnTo>
                      <a:pt x="5263" y="5301"/>
                    </a:lnTo>
                    <a:lnTo>
                      <a:pt x="5279" y="5285"/>
                    </a:lnTo>
                    <a:lnTo>
                      <a:pt x="5206" y="5211"/>
                    </a:lnTo>
                    <a:close/>
                    <a:moveTo>
                      <a:pt x="4795" y="4800"/>
                    </a:moveTo>
                    <a:lnTo>
                      <a:pt x="4778" y="4817"/>
                    </a:lnTo>
                    <a:lnTo>
                      <a:pt x="5173" y="5211"/>
                    </a:lnTo>
                    <a:lnTo>
                      <a:pt x="5190" y="5195"/>
                    </a:lnTo>
                    <a:lnTo>
                      <a:pt x="4795" y="4800"/>
                    </a:lnTo>
                    <a:close/>
                    <a:moveTo>
                      <a:pt x="4705" y="4708"/>
                    </a:moveTo>
                    <a:lnTo>
                      <a:pt x="4689" y="4725"/>
                    </a:lnTo>
                    <a:lnTo>
                      <a:pt x="4762" y="4800"/>
                    </a:lnTo>
                    <a:lnTo>
                      <a:pt x="4778" y="4784"/>
                    </a:lnTo>
                    <a:lnTo>
                      <a:pt x="4705" y="4708"/>
                    </a:lnTo>
                    <a:close/>
                    <a:moveTo>
                      <a:pt x="4596" y="4602"/>
                    </a:moveTo>
                    <a:lnTo>
                      <a:pt x="4580" y="4618"/>
                    </a:lnTo>
                    <a:lnTo>
                      <a:pt x="4655" y="4691"/>
                    </a:lnTo>
                    <a:lnTo>
                      <a:pt x="4672" y="4675"/>
                    </a:lnTo>
                    <a:lnTo>
                      <a:pt x="4596" y="4602"/>
                    </a:lnTo>
                    <a:close/>
                    <a:moveTo>
                      <a:pt x="4185" y="4190"/>
                    </a:moveTo>
                    <a:lnTo>
                      <a:pt x="4169" y="4207"/>
                    </a:lnTo>
                    <a:lnTo>
                      <a:pt x="4563" y="4602"/>
                    </a:lnTo>
                    <a:lnTo>
                      <a:pt x="4580" y="4585"/>
                    </a:lnTo>
                    <a:lnTo>
                      <a:pt x="4185" y="4190"/>
                    </a:lnTo>
                    <a:close/>
                    <a:moveTo>
                      <a:pt x="4095" y="4101"/>
                    </a:moveTo>
                    <a:lnTo>
                      <a:pt x="4079" y="4117"/>
                    </a:lnTo>
                    <a:lnTo>
                      <a:pt x="4152" y="4190"/>
                    </a:lnTo>
                    <a:lnTo>
                      <a:pt x="4169" y="4174"/>
                    </a:lnTo>
                    <a:lnTo>
                      <a:pt x="4095" y="4101"/>
                    </a:lnTo>
                    <a:close/>
                    <a:moveTo>
                      <a:pt x="3989" y="3992"/>
                    </a:moveTo>
                    <a:lnTo>
                      <a:pt x="3972" y="4008"/>
                    </a:lnTo>
                    <a:lnTo>
                      <a:pt x="4046" y="4084"/>
                    </a:lnTo>
                    <a:lnTo>
                      <a:pt x="4062" y="4065"/>
                    </a:lnTo>
                    <a:lnTo>
                      <a:pt x="3989" y="3992"/>
                    </a:lnTo>
                    <a:close/>
                    <a:moveTo>
                      <a:pt x="3578" y="3581"/>
                    </a:moveTo>
                    <a:lnTo>
                      <a:pt x="3561" y="3597"/>
                    </a:lnTo>
                    <a:lnTo>
                      <a:pt x="3956" y="3992"/>
                    </a:lnTo>
                    <a:lnTo>
                      <a:pt x="3972" y="3975"/>
                    </a:lnTo>
                    <a:lnTo>
                      <a:pt x="3578" y="3581"/>
                    </a:lnTo>
                    <a:close/>
                    <a:moveTo>
                      <a:pt x="3488" y="3491"/>
                    </a:moveTo>
                    <a:lnTo>
                      <a:pt x="3471" y="3507"/>
                    </a:lnTo>
                    <a:lnTo>
                      <a:pt x="3545" y="3581"/>
                    </a:lnTo>
                    <a:lnTo>
                      <a:pt x="3561" y="3564"/>
                    </a:lnTo>
                    <a:lnTo>
                      <a:pt x="3488" y="3491"/>
                    </a:lnTo>
                    <a:close/>
                    <a:moveTo>
                      <a:pt x="3379" y="3382"/>
                    </a:moveTo>
                    <a:lnTo>
                      <a:pt x="3363" y="3399"/>
                    </a:lnTo>
                    <a:lnTo>
                      <a:pt x="3438" y="3474"/>
                    </a:lnTo>
                    <a:lnTo>
                      <a:pt x="3455" y="3458"/>
                    </a:lnTo>
                    <a:lnTo>
                      <a:pt x="3379" y="3382"/>
                    </a:lnTo>
                    <a:close/>
                    <a:moveTo>
                      <a:pt x="2968" y="2971"/>
                    </a:moveTo>
                    <a:lnTo>
                      <a:pt x="2951" y="2987"/>
                    </a:lnTo>
                    <a:lnTo>
                      <a:pt x="3346" y="3382"/>
                    </a:lnTo>
                    <a:lnTo>
                      <a:pt x="3363" y="3366"/>
                    </a:lnTo>
                    <a:lnTo>
                      <a:pt x="2968" y="2971"/>
                    </a:lnTo>
                    <a:close/>
                    <a:moveTo>
                      <a:pt x="2878" y="2881"/>
                    </a:moveTo>
                    <a:lnTo>
                      <a:pt x="2862" y="2898"/>
                    </a:lnTo>
                    <a:lnTo>
                      <a:pt x="2935" y="2971"/>
                    </a:lnTo>
                    <a:lnTo>
                      <a:pt x="2951" y="2954"/>
                    </a:lnTo>
                    <a:lnTo>
                      <a:pt x="2878" y="2881"/>
                    </a:lnTo>
                    <a:close/>
                    <a:moveTo>
                      <a:pt x="2772" y="2775"/>
                    </a:moveTo>
                    <a:lnTo>
                      <a:pt x="2755" y="2791"/>
                    </a:lnTo>
                    <a:lnTo>
                      <a:pt x="2829" y="2864"/>
                    </a:lnTo>
                    <a:lnTo>
                      <a:pt x="2845" y="2848"/>
                    </a:lnTo>
                    <a:lnTo>
                      <a:pt x="2772" y="2775"/>
                    </a:lnTo>
                    <a:close/>
                    <a:moveTo>
                      <a:pt x="2361" y="2363"/>
                    </a:moveTo>
                    <a:lnTo>
                      <a:pt x="2344" y="2380"/>
                    </a:lnTo>
                    <a:lnTo>
                      <a:pt x="2739" y="2775"/>
                    </a:lnTo>
                    <a:lnTo>
                      <a:pt x="2755" y="2756"/>
                    </a:lnTo>
                    <a:lnTo>
                      <a:pt x="2361" y="2363"/>
                    </a:lnTo>
                    <a:close/>
                    <a:moveTo>
                      <a:pt x="2271" y="2271"/>
                    </a:moveTo>
                    <a:lnTo>
                      <a:pt x="2254" y="2288"/>
                    </a:lnTo>
                    <a:lnTo>
                      <a:pt x="2328" y="2363"/>
                    </a:lnTo>
                    <a:lnTo>
                      <a:pt x="2344" y="2344"/>
                    </a:lnTo>
                    <a:lnTo>
                      <a:pt x="2271" y="2271"/>
                    </a:lnTo>
                    <a:close/>
                    <a:moveTo>
                      <a:pt x="2162" y="2165"/>
                    </a:moveTo>
                    <a:lnTo>
                      <a:pt x="2146" y="2181"/>
                    </a:lnTo>
                    <a:lnTo>
                      <a:pt x="2219" y="2255"/>
                    </a:lnTo>
                    <a:lnTo>
                      <a:pt x="2238" y="2238"/>
                    </a:lnTo>
                    <a:lnTo>
                      <a:pt x="2162" y="2165"/>
                    </a:lnTo>
                    <a:close/>
                    <a:moveTo>
                      <a:pt x="1751" y="1754"/>
                    </a:moveTo>
                    <a:lnTo>
                      <a:pt x="1734" y="1770"/>
                    </a:lnTo>
                    <a:lnTo>
                      <a:pt x="2129" y="2165"/>
                    </a:lnTo>
                    <a:lnTo>
                      <a:pt x="2146" y="2148"/>
                    </a:lnTo>
                    <a:lnTo>
                      <a:pt x="1751" y="1754"/>
                    </a:lnTo>
                    <a:close/>
                    <a:moveTo>
                      <a:pt x="1661" y="1664"/>
                    </a:moveTo>
                    <a:lnTo>
                      <a:pt x="1645" y="1680"/>
                    </a:lnTo>
                    <a:lnTo>
                      <a:pt x="1718" y="1754"/>
                    </a:lnTo>
                    <a:lnTo>
                      <a:pt x="1734" y="1737"/>
                    </a:lnTo>
                    <a:lnTo>
                      <a:pt x="1661" y="1664"/>
                    </a:lnTo>
                    <a:close/>
                    <a:moveTo>
                      <a:pt x="1555" y="1555"/>
                    </a:moveTo>
                    <a:lnTo>
                      <a:pt x="1538" y="1572"/>
                    </a:lnTo>
                    <a:lnTo>
                      <a:pt x="1611" y="1645"/>
                    </a:lnTo>
                    <a:lnTo>
                      <a:pt x="1628" y="1628"/>
                    </a:lnTo>
                    <a:lnTo>
                      <a:pt x="1555" y="1555"/>
                    </a:lnTo>
                    <a:close/>
                    <a:moveTo>
                      <a:pt x="1144" y="1144"/>
                    </a:moveTo>
                    <a:lnTo>
                      <a:pt x="1127" y="1160"/>
                    </a:lnTo>
                    <a:lnTo>
                      <a:pt x="1522" y="1555"/>
                    </a:lnTo>
                    <a:lnTo>
                      <a:pt x="1538" y="1539"/>
                    </a:lnTo>
                    <a:lnTo>
                      <a:pt x="1144" y="1144"/>
                    </a:lnTo>
                    <a:close/>
                    <a:moveTo>
                      <a:pt x="1054" y="1054"/>
                    </a:moveTo>
                    <a:lnTo>
                      <a:pt x="1037" y="1071"/>
                    </a:lnTo>
                    <a:lnTo>
                      <a:pt x="1110" y="1144"/>
                    </a:lnTo>
                    <a:lnTo>
                      <a:pt x="1127" y="1127"/>
                    </a:lnTo>
                    <a:lnTo>
                      <a:pt x="1054" y="1054"/>
                    </a:lnTo>
                    <a:close/>
                    <a:moveTo>
                      <a:pt x="945" y="945"/>
                    </a:moveTo>
                    <a:lnTo>
                      <a:pt x="928" y="962"/>
                    </a:lnTo>
                    <a:lnTo>
                      <a:pt x="1002" y="1037"/>
                    </a:lnTo>
                    <a:lnTo>
                      <a:pt x="1021" y="1021"/>
                    </a:lnTo>
                    <a:lnTo>
                      <a:pt x="945" y="945"/>
                    </a:lnTo>
                    <a:close/>
                    <a:moveTo>
                      <a:pt x="534" y="534"/>
                    </a:moveTo>
                    <a:lnTo>
                      <a:pt x="517" y="551"/>
                    </a:lnTo>
                    <a:lnTo>
                      <a:pt x="912" y="945"/>
                    </a:lnTo>
                    <a:lnTo>
                      <a:pt x="928" y="929"/>
                    </a:lnTo>
                    <a:lnTo>
                      <a:pt x="534" y="534"/>
                    </a:lnTo>
                    <a:close/>
                    <a:moveTo>
                      <a:pt x="444" y="444"/>
                    </a:moveTo>
                    <a:lnTo>
                      <a:pt x="427" y="461"/>
                    </a:lnTo>
                    <a:lnTo>
                      <a:pt x="501" y="534"/>
                    </a:lnTo>
                    <a:lnTo>
                      <a:pt x="517" y="517"/>
                    </a:lnTo>
                    <a:lnTo>
                      <a:pt x="444" y="444"/>
                    </a:lnTo>
                    <a:close/>
                    <a:moveTo>
                      <a:pt x="338" y="335"/>
                    </a:moveTo>
                    <a:lnTo>
                      <a:pt x="321" y="352"/>
                    </a:lnTo>
                    <a:lnTo>
                      <a:pt x="394" y="428"/>
                    </a:lnTo>
                    <a:lnTo>
                      <a:pt x="411" y="411"/>
                    </a:lnTo>
                    <a:lnTo>
                      <a:pt x="338" y="335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305" y="335"/>
                    </a:lnTo>
                    <a:lnTo>
                      <a:pt x="321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635"/>
              <p:cNvSpPr/>
              <p:nvPr/>
            </p:nvSpPr>
            <p:spPr>
              <a:xfrm rot="5400000">
                <a:off x="3036240" y="-840240"/>
                <a:ext cx="6696360" cy="8376840"/>
              </a:xfrm>
              <a:custGeom>
                <a:avLst/>
                <a:gdLst>
                  <a:gd name="textAreaLeft" fmla="*/ 0 w 6696360"/>
                  <a:gd name="textAreaRight" fmla="*/ 6696720 w 6696360"/>
                  <a:gd name="textAreaTop" fmla="*/ 0 h 8376840"/>
                  <a:gd name="textAreaBottom" fmla="*/ 8376840 h 8376840"/>
                </a:gdLst>
                <a:ahLst/>
                <a:rect l="textAreaLeft" t="textAreaTop" r="textAreaRight" b="textAreaBottom"/>
                <a:pathLst>
                  <a:path w="5386" h="5408">
                    <a:moveTo>
                      <a:pt x="5312" y="5318"/>
                    </a:moveTo>
                    <a:lnTo>
                      <a:pt x="5296" y="5334"/>
                    </a:lnTo>
                    <a:lnTo>
                      <a:pt x="5369" y="5408"/>
                    </a:lnTo>
                    <a:lnTo>
                      <a:pt x="5386" y="5391"/>
                    </a:lnTo>
                    <a:lnTo>
                      <a:pt x="5312" y="5318"/>
                    </a:lnTo>
                    <a:moveTo>
                      <a:pt x="5206" y="5211"/>
                    </a:moveTo>
                    <a:lnTo>
                      <a:pt x="5190" y="5228"/>
                    </a:lnTo>
                    <a:lnTo>
                      <a:pt x="5263" y="5301"/>
                    </a:lnTo>
                    <a:lnTo>
                      <a:pt x="5279" y="5285"/>
                    </a:lnTo>
                    <a:lnTo>
                      <a:pt x="5206" y="5211"/>
                    </a:lnTo>
                    <a:moveTo>
                      <a:pt x="4795" y="4800"/>
                    </a:moveTo>
                    <a:lnTo>
                      <a:pt x="4778" y="4817"/>
                    </a:lnTo>
                    <a:lnTo>
                      <a:pt x="5173" y="5211"/>
                    </a:lnTo>
                    <a:lnTo>
                      <a:pt x="5190" y="5195"/>
                    </a:lnTo>
                    <a:lnTo>
                      <a:pt x="4795" y="4800"/>
                    </a:lnTo>
                    <a:moveTo>
                      <a:pt x="4705" y="4708"/>
                    </a:moveTo>
                    <a:lnTo>
                      <a:pt x="4689" y="4725"/>
                    </a:lnTo>
                    <a:lnTo>
                      <a:pt x="4762" y="4800"/>
                    </a:lnTo>
                    <a:lnTo>
                      <a:pt x="4778" y="4784"/>
                    </a:lnTo>
                    <a:lnTo>
                      <a:pt x="4705" y="4708"/>
                    </a:lnTo>
                    <a:moveTo>
                      <a:pt x="4596" y="4602"/>
                    </a:moveTo>
                    <a:lnTo>
                      <a:pt x="4580" y="4618"/>
                    </a:lnTo>
                    <a:lnTo>
                      <a:pt x="4655" y="4691"/>
                    </a:lnTo>
                    <a:lnTo>
                      <a:pt x="4672" y="4675"/>
                    </a:lnTo>
                    <a:lnTo>
                      <a:pt x="4596" y="4602"/>
                    </a:lnTo>
                    <a:moveTo>
                      <a:pt x="4185" y="4190"/>
                    </a:moveTo>
                    <a:lnTo>
                      <a:pt x="4169" y="4207"/>
                    </a:lnTo>
                    <a:lnTo>
                      <a:pt x="4563" y="4602"/>
                    </a:lnTo>
                    <a:lnTo>
                      <a:pt x="4580" y="4585"/>
                    </a:lnTo>
                    <a:lnTo>
                      <a:pt x="4185" y="4190"/>
                    </a:lnTo>
                    <a:moveTo>
                      <a:pt x="4095" y="4101"/>
                    </a:moveTo>
                    <a:lnTo>
                      <a:pt x="4079" y="4117"/>
                    </a:lnTo>
                    <a:lnTo>
                      <a:pt x="4152" y="4190"/>
                    </a:lnTo>
                    <a:lnTo>
                      <a:pt x="4169" y="4174"/>
                    </a:lnTo>
                    <a:lnTo>
                      <a:pt x="4095" y="4101"/>
                    </a:lnTo>
                    <a:moveTo>
                      <a:pt x="3989" y="3992"/>
                    </a:moveTo>
                    <a:lnTo>
                      <a:pt x="3972" y="4008"/>
                    </a:lnTo>
                    <a:lnTo>
                      <a:pt x="4046" y="4084"/>
                    </a:lnTo>
                    <a:lnTo>
                      <a:pt x="4062" y="4065"/>
                    </a:lnTo>
                    <a:lnTo>
                      <a:pt x="3989" y="3992"/>
                    </a:lnTo>
                    <a:moveTo>
                      <a:pt x="3578" y="3581"/>
                    </a:moveTo>
                    <a:lnTo>
                      <a:pt x="3561" y="3597"/>
                    </a:lnTo>
                    <a:lnTo>
                      <a:pt x="3956" y="3992"/>
                    </a:lnTo>
                    <a:lnTo>
                      <a:pt x="3972" y="3975"/>
                    </a:lnTo>
                    <a:lnTo>
                      <a:pt x="3578" y="3581"/>
                    </a:lnTo>
                    <a:moveTo>
                      <a:pt x="3488" y="3491"/>
                    </a:moveTo>
                    <a:lnTo>
                      <a:pt x="3471" y="3507"/>
                    </a:lnTo>
                    <a:lnTo>
                      <a:pt x="3545" y="3581"/>
                    </a:lnTo>
                    <a:lnTo>
                      <a:pt x="3561" y="3564"/>
                    </a:lnTo>
                    <a:lnTo>
                      <a:pt x="3488" y="3491"/>
                    </a:lnTo>
                    <a:moveTo>
                      <a:pt x="3379" y="3382"/>
                    </a:moveTo>
                    <a:lnTo>
                      <a:pt x="3363" y="3399"/>
                    </a:lnTo>
                    <a:lnTo>
                      <a:pt x="3438" y="3474"/>
                    </a:lnTo>
                    <a:lnTo>
                      <a:pt x="3455" y="3458"/>
                    </a:lnTo>
                    <a:lnTo>
                      <a:pt x="3379" y="3382"/>
                    </a:lnTo>
                    <a:moveTo>
                      <a:pt x="2968" y="2971"/>
                    </a:moveTo>
                    <a:lnTo>
                      <a:pt x="2951" y="2987"/>
                    </a:lnTo>
                    <a:lnTo>
                      <a:pt x="3346" y="3382"/>
                    </a:lnTo>
                    <a:lnTo>
                      <a:pt x="3363" y="3366"/>
                    </a:lnTo>
                    <a:lnTo>
                      <a:pt x="2968" y="2971"/>
                    </a:lnTo>
                    <a:moveTo>
                      <a:pt x="2878" y="2881"/>
                    </a:moveTo>
                    <a:lnTo>
                      <a:pt x="2862" y="2898"/>
                    </a:lnTo>
                    <a:lnTo>
                      <a:pt x="2935" y="2971"/>
                    </a:lnTo>
                    <a:lnTo>
                      <a:pt x="2951" y="2954"/>
                    </a:lnTo>
                    <a:lnTo>
                      <a:pt x="2878" y="2881"/>
                    </a:lnTo>
                    <a:moveTo>
                      <a:pt x="2772" y="2775"/>
                    </a:moveTo>
                    <a:lnTo>
                      <a:pt x="2755" y="2791"/>
                    </a:lnTo>
                    <a:lnTo>
                      <a:pt x="2829" y="2864"/>
                    </a:lnTo>
                    <a:lnTo>
                      <a:pt x="2845" y="2848"/>
                    </a:lnTo>
                    <a:lnTo>
                      <a:pt x="2772" y="2775"/>
                    </a:lnTo>
                    <a:moveTo>
                      <a:pt x="2361" y="2363"/>
                    </a:moveTo>
                    <a:lnTo>
                      <a:pt x="2344" y="2380"/>
                    </a:lnTo>
                    <a:lnTo>
                      <a:pt x="2739" y="2775"/>
                    </a:lnTo>
                    <a:lnTo>
                      <a:pt x="2755" y="2756"/>
                    </a:lnTo>
                    <a:lnTo>
                      <a:pt x="2361" y="2363"/>
                    </a:lnTo>
                    <a:moveTo>
                      <a:pt x="2271" y="2271"/>
                    </a:moveTo>
                    <a:lnTo>
                      <a:pt x="2254" y="2288"/>
                    </a:lnTo>
                    <a:lnTo>
                      <a:pt x="2328" y="2363"/>
                    </a:lnTo>
                    <a:lnTo>
                      <a:pt x="2344" y="2344"/>
                    </a:lnTo>
                    <a:lnTo>
                      <a:pt x="2271" y="2271"/>
                    </a:lnTo>
                    <a:moveTo>
                      <a:pt x="2162" y="2165"/>
                    </a:moveTo>
                    <a:lnTo>
                      <a:pt x="2146" y="2181"/>
                    </a:lnTo>
                    <a:lnTo>
                      <a:pt x="2219" y="2255"/>
                    </a:lnTo>
                    <a:lnTo>
                      <a:pt x="2238" y="2238"/>
                    </a:lnTo>
                    <a:lnTo>
                      <a:pt x="2162" y="2165"/>
                    </a:lnTo>
                    <a:moveTo>
                      <a:pt x="1751" y="1754"/>
                    </a:moveTo>
                    <a:lnTo>
                      <a:pt x="1734" y="1770"/>
                    </a:lnTo>
                    <a:lnTo>
                      <a:pt x="2129" y="2165"/>
                    </a:lnTo>
                    <a:lnTo>
                      <a:pt x="2146" y="2148"/>
                    </a:lnTo>
                    <a:lnTo>
                      <a:pt x="1751" y="1754"/>
                    </a:lnTo>
                    <a:moveTo>
                      <a:pt x="1661" y="1664"/>
                    </a:moveTo>
                    <a:lnTo>
                      <a:pt x="1645" y="1680"/>
                    </a:lnTo>
                    <a:lnTo>
                      <a:pt x="1718" y="1754"/>
                    </a:lnTo>
                    <a:lnTo>
                      <a:pt x="1734" y="1737"/>
                    </a:lnTo>
                    <a:lnTo>
                      <a:pt x="1661" y="1664"/>
                    </a:lnTo>
                    <a:moveTo>
                      <a:pt x="1555" y="1555"/>
                    </a:moveTo>
                    <a:lnTo>
                      <a:pt x="1538" y="1572"/>
                    </a:lnTo>
                    <a:lnTo>
                      <a:pt x="1611" y="1645"/>
                    </a:lnTo>
                    <a:lnTo>
                      <a:pt x="1628" y="1628"/>
                    </a:lnTo>
                    <a:lnTo>
                      <a:pt x="1555" y="1555"/>
                    </a:lnTo>
                    <a:moveTo>
                      <a:pt x="1144" y="1144"/>
                    </a:moveTo>
                    <a:lnTo>
                      <a:pt x="1127" y="1160"/>
                    </a:lnTo>
                    <a:lnTo>
                      <a:pt x="1522" y="1555"/>
                    </a:lnTo>
                    <a:lnTo>
                      <a:pt x="1538" y="1539"/>
                    </a:lnTo>
                    <a:lnTo>
                      <a:pt x="1144" y="1144"/>
                    </a:lnTo>
                    <a:moveTo>
                      <a:pt x="1054" y="1054"/>
                    </a:moveTo>
                    <a:lnTo>
                      <a:pt x="1037" y="1071"/>
                    </a:lnTo>
                    <a:lnTo>
                      <a:pt x="1110" y="1144"/>
                    </a:lnTo>
                    <a:lnTo>
                      <a:pt x="1127" y="1127"/>
                    </a:lnTo>
                    <a:lnTo>
                      <a:pt x="1054" y="1054"/>
                    </a:lnTo>
                    <a:moveTo>
                      <a:pt x="945" y="945"/>
                    </a:moveTo>
                    <a:lnTo>
                      <a:pt x="928" y="962"/>
                    </a:lnTo>
                    <a:lnTo>
                      <a:pt x="1002" y="1037"/>
                    </a:lnTo>
                    <a:lnTo>
                      <a:pt x="1021" y="1021"/>
                    </a:lnTo>
                    <a:lnTo>
                      <a:pt x="945" y="945"/>
                    </a:lnTo>
                    <a:moveTo>
                      <a:pt x="534" y="534"/>
                    </a:moveTo>
                    <a:lnTo>
                      <a:pt x="517" y="551"/>
                    </a:lnTo>
                    <a:lnTo>
                      <a:pt x="912" y="945"/>
                    </a:lnTo>
                    <a:lnTo>
                      <a:pt x="928" y="929"/>
                    </a:lnTo>
                    <a:lnTo>
                      <a:pt x="534" y="534"/>
                    </a:lnTo>
                    <a:moveTo>
                      <a:pt x="444" y="444"/>
                    </a:moveTo>
                    <a:lnTo>
                      <a:pt x="427" y="461"/>
                    </a:lnTo>
                    <a:lnTo>
                      <a:pt x="501" y="534"/>
                    </a:lnTo>
                    <a:lnTo>
                      <a:pt x="517" y="517"/>
                    </a:lnTo>
                    <a:lnTo>
                      <a:pt x="444" y="444"/>
                    </a:lnTo>
                    <a:moveTo>
                      <a:pt x="338" y="335"/>
                    </a:moveTo>
                    <a:lnTo>
                      <a:pt x="321" y="352"/>
                    </a:lnTo>
                    <a:lnTo>
                      <a:pt x="394" y="428"/>
                    </a:lnTo>
                    <a:lnTo>
                      <a:pt x="411" y="411"/>
                    </a:lnTo>
                    <a:lnTo>
                      <a:pt x="338" y="335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305" y="335"/>
                    </a:lnTo>
                    <a:lnTo>
                      <a:pt x="321" y="3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636"/>
              <p:cNvSpPr/>
              <p:nvPr/>
            </p:nvSpPr>
            <p:spPr>
              <a:xfrm rot="5400000">
                <a:off x="2002320" y="6663960"/>
                <a:ext cx="161280" cy="2260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30" h="146">
                    <a:moveTo>
                      <a:pt x="16" y="0"/>
                    </a:moveTo>
                    <a:lnTo>
                      <a:pt x="0" y="19"/>
                    </a:lnTo>
                    <a:lnTo>
                      <a:pt x="130" y="146"/>
                    </a:lnTo>
                    <a:lnTo>
                      <a:pt x="130" y="1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637"/>
              <p:cNvSpPr/>
              <p:nvPr/>
            </p:nvSpPr>
            <p:spPr>
              <a:xfrm rot="5400000">
                <a:off x="2002320" y="6663960"/>
                <a:ext cx="161280" cy="2260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30" h="146">
                    <a:moveTo>
                      <a:pt x="16" y="0"/>
                    </a:moveTo>
                    <a:lnTo>
                      <a:pt x="0" y="19"/>
                    </a:lnTo>
                    <a:lnTo>
                      <a:pt x="130" y="146"/>
                    </a:lnTo>
                    <a:lnTo>
                      <a:pt x="130" y="11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38"/>
              <p:cNvSpPr/>
              <p:nvPr/>
            </p:nvSpPr>
            <p:spPr>
              <a:xfrm rot="5400000">
                <a:off x="9866160" y="48204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39"/>
              <p:cNvSpPr/>
              <p:nvPr/>
            </p:nvSpPr>
            <p:spPr>
              <a:xfrm rot="5400000">
                <a:off x="9866160" y="48204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40"/>
              <p:cNvSpPr/>
              <p:nvPr/>
            </p:nvSpPr>
            <p:spPr>
              <a:xfrm rot="5400000">
                <a:off x="8920800" y="123912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6"/>
                    </a:lnTo>
                    <a:lnTo>
                      <a:pt x="35" y="50"/>
                    </a:lnTo>
                    <a:lnTo>
                      <a:pt x="52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41"/>
              <p:cNvSpPr/>
              <p:nvPr/>
            </p:nvSpPr>
            <p:spPr>
              <a:xfrm rot="5400000">
                <a:off x="8920800" y="123912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6"/>
                    </a:lnTo>
                    <a:lnTo>
                      <a:pt x="35" y="50"/>
                    </a:lnTo>
                    <a:lnTo>
                      <a:pt x="52" y="3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2"/>
              <p:cNvSpPr/>
              <p:nvPr/>
            </p:nvSpPr>
            <p:spPr>
              <a:xfrm rot="5400000">
                <a:off x="7980120" y="199368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4" y="52"/>
                    </a:lnTo>
                    <a:lnTo>
                      <a:pt x="50" y="3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43"/>
              <p:cNvSpPr/>
              <p:nvPr/>
            </p:nvSpPr>
            <p:spPr>
              <a:xfrm rot="5400000">
                <a:off x="7980120" y="199368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7"/>
                    </a:lnTo>
                    <a:lnTo>
                      <a:pt x="34" y="52"/>
                    </a:lnTo>
                    <a:lnTo>
                      <a:pt x="50" y="3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44"/>
              <p:cNvSpPr/>
              <p:nvPr/>
            </p:nvSpPr>
            <p:spPr>
              <a:xfrm rot="5400000">
                <a:off x="7035480" y="27522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7"/>
                    </a:lnTo>
                    <a:lnTo>
                      <a:pt x="35" y="50"/>
                    </a:lnTo>
                    <a:lnTo>
                      <a:pt x="52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45"/>
              <p:cNvSpPr/>
              <p:nvPr/>
            </p:nvSpPr>
            <p:spPr>
              <a:xfrm rot="5400000">
                <a:off x="7035480" y="27522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7"/>
                    </a:lnTo>
                    <a:lnTo>
                      <a:pt x="35" y="50"/>
                    </a:lnTo>
                    <a:lnTo>
                      <a:pt x="52" y="3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46"/>
              <p:cNvSpPr/>
              <p:nvPr/>
            </p:nvSpPr>
            <p:spPr>
              <a:xfrm rot="5400000">
                <a:off x="6092280" y="35089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47"/>
              <p:cNvSpPr/>
              <p:nvPr/>
            </p:nvSpPr>
            <p:spPr>
              <a:xfrm rot="5400000">
                <a:off x="6092280" y="35089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648"/>
              <p:cNvSpPr/>
              <p:nvPr/>
            </p:nvSpPr>
            <p:spPr>
              <a:xfrm rot="5400000">
                <a:off x="5147640" y="42674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649"/>
              <p:cNvSpPr/>
              <p:nvPr/>
            </p:nvSpPr>
            <p:spPr>
              <a:xfrm rot="5400000">
                <a:off x="5147640" y="42674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650"/>
              <p:cNvSpPr/>
              <p:nvPr/>
            </p:nvSpPr>
            <p:spPr>
              <a:xfrm rot="5400000">
                <a:off x="4205520" y="50202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49" y="3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51"/>
              <p:cNvSpPr/>
              <p:nvPr/>
            </p:nvSpPr>
            <p:spPr>
              <a:xfrm rot="5400000">
                <a:off x="4205520" y="50202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9"/>
                    </a:lnTo>
                    <a:lnTo>
                      <a:pt x="33" y="52"/>
                    </a:lnTo>
                    <a:lnTo>
                      <a:pt x="49" y="3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652"/>
              <p:cNvSpPr/>
              <p:nvPr/>
            </p:nvSpPr>
            <p:spPr>
              <a:xfrm rot="5400000">
                <a:off x="3261600" y="57798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653"/>
              <p:cNvSpPr/>
              <p:nvPr/>
            </p:nvSpPr>
            <p:spPr>
              <a:xfrm rot="5400000">
                <a:off x="3261600" y="57798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654"/>
              <p:cNvSpPr/>
              <p:nvPr/>
            </p:nvSpPr>
            <p:spPr>
              <a:xfrm rot="5400000">
                <a:off x="2318400" y="65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655"/>
              <p:cNvSpPr/>
              <p:nvPr/>
            </p:nvSpPr>
            <p:spPr>
              <a:xfrm rot="5400000">
                <a:off x="2318400" y="65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656"/>
              <p:cNvSpPr/>
              <p:nvPr/>
            </p:nvSpPr>
            <p:spPr>
              <a:xfrm rot="5400000">
                <a:off x="9725040" y="61704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657"/>
              <p:cNvSpPr/>
              <p:nvPr/>
            </p:nvSpPr>
            <p:spPr>
              <a:xfrm rot="5400000">
                <a:off x="9725040" y="617040"/>
                <a:ext cx="41040" cy="52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658"/>
              <p:cNvSpPr/>
              <p:nvPr/>
            </p:nvSpPr>
            <p:spPr>
              <a:xfrm rot="5400000">
                <a:off x="8780760" y="1375560"/>
                <a:ext cx="42120" cy="50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659"/>
              <p:cNvSpPr/>
              <p:nvPr/>
            </p:nvSpPr>
            <p:spPr>
              <a:xfrm rot="5400000">
                <a:off x="8780760" y="1375560"/>
                <a:ext cx="42120" cy="50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660"/>
              <p:cNvSpPr/>
              <p:nvPr/>
            </p:nvSpPr>
            <p:spPr>
              <a:xfrm rot="5400000">
                <a:off x="7836480" y="21308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661"/>
              <p:cNvSpPr/>
              <p:nvPr/>
            </p:nvSpPr>
            <p:spPr>
              <a:xfrm rot="5400000">
                <a:off x="7836480" y="21308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662"/>
              <p:cNvSpPr/>
              <p:nvPr/>
            </p:nvSpPr>
            <p:spPr>
              <a:xfrm rot="5400000">
                <a:off x="6894000" y="288684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663"/>
              <p:cNvSpPr/>
              <p:nvPr/>
            </p:nvSpPr>
            <p:spPr>
              <a:xfrm rot="5400000">
                <a:off x="6894000" y="288684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6" y="0"/>
                    </a:moveTo>
                    <a:lnTo>
                      <a:pt x="0" y="19"/>
                    </a:lnTo>
                    <a:lnTo>
                      <a:pt x="16" y="36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664"/>
              <p:cNvSpPr/>
              <p:nvPr/>
            </p:nvSpPr>
            <p:spPr>
              <a:xfrm rot="5400000">
                <a:off x="5951160" y="3643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665"/>
              <p:cNvSpPr/>
              <p:nvPr/>
            </p:nvSpPr>
            <p:spPr>
              <a:xfrm rot="5400000">
                <a:off x="5951160" y="3643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666"/>
              <p:cNvSpPr/>
              <p:nvPr/>
            </p:nvSpPr>
            <p:spPr>
              <a:xfrm rot="5400000">
                <a:off x="5006520" y="44020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667"/>
              <p:cNvSpPr/>
              <p:nvPr/>
            </p:nvSpPr>
            <p:spPr>
              <a:xfrm rot="5400000">
                <a:off x="5006520" y="44020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68"/>
              <p:cNvSpPr/>
              <p:nvPr/>
            </p:nvSpPr>
            <p:spPr>
              <a:xfrm rot="5400000">
                <a:off x="4061520" y="51570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669"/>
              <p:cNvSpPr/>
              <p:nvPr/>
            </p:nvSpPr>
            <p:spPr>
              <a:xfrm rot="5400000">
                <a:off x="4061520" y="51570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70"/>
              <p:cNvSpPr/>
              <p:nvPr/>
            </p:nvSpPr>
            <p:spPr>
              <a:xfrm rot="5400000">
                <a:off x="3116520" y="59155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71"/>
              <p:cNvSpPr/>
              <p:nvPr/>
            </p:nvSpPr>
            <p:spPr>
              <a:xfrm rot="5400000">
                <a:off x="3116520" y="591552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672"/>
              <p:cNvSpPr/>
              <p:nvPr/>
            </p:nvSpPr>
            <p:spPr>
              <a:xfrm rot="5400000">
                <a:off x="2174040" y="6667560"/>
                <a:ext cx="40680" cy="554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7"/>
                    </a:lnTo>
                    <a:lnTo>
                      <a:pt x="17" y="36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73"/>
              <p:cNvSpPr/>
              <p:nvPr/>
            </p:nvSpPr>
            <p:spPr>
              <a:xfrm rot="5400000">
                <a:off x="2174040" y="6667560"/>
                <a:ext cx="40680" cy="554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7" y="0"/>
                    </a:moveTo>
                    <a:lnTo>
                      <a:pt x="0" y="17"/>
                    </a:lnTo>
                    <a:lnTo>
                      <a:pt x="17" y="36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74"/>
              <p:cNvSpPr/>
              <p:nvPr/>
            </p:nvSpPr>
            <p:spPr>
              <a:xfrm rot="5400000">
                <a:off x="10032840" y="3740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75"/>
              <p:cNvSpPr/>
              <p:nvPr/>
            </p:nvSpPr>
            <p:spPr>
              <a:xfrm rot="5400000">
                <a:off x="10032840" y="37404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76"/>
              <p:cNvSpPr/>
              <p:nvPr/>
            </p:nvSpPr>
            <p:spPr>
              <a:xfrm rot="5400000">
                <a:off x="9088200" y="11286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77"/>
              <p:cNvSpPr/>
              <p:nvPr/>
            </p:nvSpPr>
            <p:spPr>
              <a:xfrm rot="5400000">
                <a:off x="9088200" y="11286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78"/>
              <p:cNvSpPr/>
              <p:nvPr/>
            </p:nvSpPr>
            <p:spPr>
              <a:xfrm rot="5400000">
                <a:off x="8143200" y="18867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79"/>
              <p:cNvSpPr/>
              <p:nvPr/>
            </p:nvSpPr>
            <p:spPr>
              <a:xfrm rot="5400000">
                <a:off x="8143200" y="18867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680"/>
              <p:cNvSpPr/>
              <p:nvPr/>
            </p:nvSpPr>
            <p:spPr>
              <a:xfrm rot="5400000">
                <a:off x="7199640" y="2641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681"/>
              <p:cNvSpPr/>
              <p:nvPr/>
            </p:nvSpPr>
            <p:spPr>
              <a:xfrm rot="5400000">
                <a:off x="7199640" y="2641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682"/>
              <p:cNvSpPr/>
              <p:nvPr/>
            </p:nvSpPr>
            <p:spPr>
              <a:xfrm rot="5400000">
                <a:off x="6256440" y="339876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9"/>
                    </a:lnTo>
                    <a:lnTo>
                      <a:pt x="16" y="35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683"/>
              <p:cNvSpPr/>
              <p:nvPr/>
            </p:nvSpPr>
            <p:spPr>
              <a:xfrm rot="5400000">
                <a:off x="6256440" y="339876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9"/>
                    </a:lnTo>
                    <a:lnTo>
                      <a:pt x="16" y="35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84"/>
              <p:cNvSpPr/>
              <p:nvPr/>
            </p:nvSpPr>
            <p:spPr>
              <a:xfrm rot="5400000">
                <a:off x="5312880" y="41544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85"/>
              <p:cNvSpPr/>
              <p:nvPr/>
            </p:nvSpPr>
            <p:spPr>
              <a:xfrm rot="5400000">
                <a:off x="5312880" y="41544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86"/>
              <p:cNvSpPr/>
              <p:nvPr/>
            </p:nvSpPr>
            <p:spPr>
              <a:xfrm rot="5400000">
                <a:off x="4370040" y="49132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87"/>
              <p:cNvSpPr/>
              <p:nvPr/>
            </p:nvSpPr>
            <p:spPr>
              <a:xfrm rot="5400000">
                <a:off x="4370040" y="49132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688"/>
              <p:cNvSpPr/>
              <p:nvPr/>
            </p:nvSpPr>
            <p:spPr>
              <a:xfrm rot="5400000">
                <a:off x="3425040" y="5668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689"/>
              <p:cNvSpPr/>
              <p:nvPr/>
            </p:nvSpPr>
            <p:spPr>
              <a:xfrm rot="5400000">
                <a:off x="3425040" y="566820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690"/>
              <p:cNvSpPr/>
              <p:nvPr/>
            </p:nvSpPr>
            <p:spPr>
              <a:xfrm rot="5400000">
                <a:off x="2480040" y="64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691"/>
              <p:cNvSpPr/>
              <p:nvPr/>
            </p:nvSpPr>
            <p:spPr>
              <a:xfrm rot="5400000">
                <a:off x="2480040" y="64263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692"/>
              <p:cNvSpPr/>
              <p:nvPr/>
            </p:nvSpPr>
            <p:spPr>
              <a:xfrm rot="5400000">
                <a:off x="1149840" y="-841680"/>
                <a:ext cx="6696360" cy="8379720"/>
              </a:xfrm>
              <a:custGeom>
                <a:avLst/>
                <a:gdLst>
                  <a:gd name="textAreaLeft" fmla="*/ 0 w 6696360"/>
                  <a:gd name="textAreaRight" fmla="*/ 6696720 w 6696360"/>
                  <a:gd name="textAreaTop" fmla="*/ 0 h 8379720"/>
                  <a:gd name="textAreaBottom" fmla="*/ 8380080 h 8379720"/>
                </a:gdLst>
                <a:ahLst/>
                <a:rect l="textAreaLeft" t="textAreaTop" r="textAreaRight" b="textAreaBottom"/>
                <a:pathLst>
                  <a:path w="5386" h="5410">
                    <a:moveTo>
                      <a:pt x="5312" y="5318"/>
                    </a:moveTo>
                    <a:lnTo>
                      <a:pt x="5296" y="5337"/>
                    </a:lnTo>
                    <a:lnTo>
                      <a:pt x="5369" y="5410"/>
                    </a:lnTo>
                    <a:lnTo>
                      <a:pt x="5386" y="5394"/>
                    </a:lnTo>
                    <a:lnTo>
                      <a:pt x="5312" y="5318"/>
                    </a:lnTo>
                    <a:close/>
                    <a:moveTo>
                      <a:pt x="5204" y="5212"/>
                    </a:moveTo>
                    <a:lnTo>
                      <a:pt x="5187" y="5228"/>
                    </a:lnTo>
                    <a:lnTo>
                      <a:pt x="5263" y="5301"/>
                    </a:lnTo>
                    <a:lnTo>
                      <a:pt x="5279" y="5285"/>
                    </a:lnTo>
                    <a:lnTo>
                      <a:pt x="5204" y="5212"/>
                    </a:lnTo>
                    <a:close/>
                    <a:moveTo>
                      <a:pt x="4795" y="4800"/>
                    </a:moveTo>
                    <a:lnTo>
                      <a:pt x="4778" y="4817"/>
                    </a:lnTo>
                    <a:lnTo>
                      <a:pt x="5171" y="5212"/>
                    </a:lnTo>
                    <a:lnTo>
                      <a:pt x="5187" y="5195"/>
                    </a:lnTo>
                    <a:lnTo>
                      <a:pt x="4795" y="4800"/>
                    </a:lnTo>
                    <a:close/>
                    <a:moveTo>
                      <a:pt x="4703" y="4711"/>
                    </a:moveTo>
                    <a:lnTo>
                      <a:pt x="4686" y="4727"/>
                    </a:lnTo>
                    <a:lnTo>
                      <a:pt x="4762" y="4800"/>
                    </a:lnTo>
                    <a:lnTo>
                      <a:pt x="4778" y="4784"/>
                    </a:lnTo>
                    <a:lnTo>
                      <a:pt x="4703" y="4711"/>
                    </a:lnTo>
                    <a:close/>
                    <a:moveTo>
                      <a:pt x="4596" y="4602"/>
                    </a:moveTo>
                    <a:lnTo>
                      <a:pt x="4580" y="4618"/>
                    </a:lnTo>
                    <a:lnTo>
                      <a:pt x="4653" y="4694"/>
                    </a:lnTo>
                    <a:lnTo>
                      <a:pt x="4670" y="4677"/>
                    </a:lnTo>
                    <a:lnTo>
                      <a:pt x="4596" y="4602"/>
                    </a:lnTo>
                    <a:close/>
                    <a:moveTo>
                      <a:pt x="4185" y="4191"/>
                    </a:moveTo>
                    <a:lnTo>
                      <a:pt x="4169" y="4207"/>
                    </a:lnTo>
                    <a:lnTo>
                      <a:pt x="4563" y="4602"/>
                    </a:lnTo>
                    <a:lnTo>
                      <a:pt x="4580" y="4585"/>
                    </a:lnTo>
                    <a:lnTo>
                      <a:pt x="4185" y="4191"/>
                    </a:lnTo>
                    <a:close/>
                    <a:moveTo>
                      <a:pt x="4095" y="4101"/>
                    </a:moveTo>
                    <a:lnTo>
                      <a:pt x="4079" y="4117"/>
                    </a:lnTo>
                    <a:lnTo>
                      <a:pt x="4152" y="4191"/>
                    </a:lnTo>
                    <a:lnTo>
                      <a:pt x="4169" y="4174"/>
                    </a:lnTo>
                    <a:lnTo>
                      <a:pt x="4095" y="4101"/>
                    </a:lnTo>
                    <a:close/>
                    <a:moveTo>
                      <a:pt x="3987" y="3992"/>
                    </a:moveTo>
                    <a:lnTo>
                      <a:pt x="3970" y="4009"/>
                    </a:lnTo>
                    <a:lnTo>
                      <a:pt x="4046" y="4084"/>
                    </a:lnTo>
                    <a:lnTo>
                      <a:pt x="4062" y="4068"/>
                    </a:lnTo>
                    <a:lnTo>
                      <a:pt x="3987" y="3992"/>
                    </a:lnTo>
                    <a:close/>
                    <a:moveTo>
                      <a:pt x="3578" y="3581"/>
                    </a:moveTo>
                    <a:lnTo>
                      <a:pt x="3561" y="3597"/>
                    </a:lnTo>
                    <a:lnTo>
                      <a:pt x="3954" y="3992"/>
                    </a:lnTo>
                    <a:lnTo>
                      <a:pt x="3970" y="3976"/>
                    </a:lnTo>
                    <a:lnTo>
                      <a:pt x="3578" y="3581"/>
                    </a:lnTo>
                    <a:close/>
                    <a:moveTo>
                      <a:pt x="3486" y="3491"/>
                    </a:moveTo>
                    <a:lnTo>
                      <a:pt x="3469" y="3508"/>
                    </a:lnTo>
                    <a:lnTo>
                      <a:pt x="3545" y="3581"/>
                    </a:lnTo>
                    <a:lnTo>
                      <a:pt x="3561" y="3564"/>
                    </a:lnTo>
                    <a:lnTo>
                      <a:pt x="3486" y="3491"/>
                    </a:lnTo>
                    <a:close/>
                    <a:moveTo>
                      <a:pt x="3379" y="3385"/>
                    </a:moveTo>
                    <a:lnTo>
                      <a:pt x="3363" y="3401"/>
                    </a:lnTo>
                    <a:lnTo>
                      <a:pt x="3436" y="3474"/>
                    </a:lnTo>
                    <a:lnTo>
                      <a:pt x="3453" y="3458"/>
                    </a:lnTo>
                    <a:lnTo>
                      <a:pt x="3379" y="3385"/>
                    </a:lnTo>
                    <a:close/>
                    <a:moveTo>
                      <a:pt x="2968" y="2973"/>
                    </a:moveTo>
                    <a:lnTo>
                      <a:pt x="2951" y="2990"/>
                    </a:lnTo>
                    <a:lnTo>
                      <a:pt x="3346" y="3385"/>
                    </a:lnTo>
                    <a:lnTo>
                      <a:pt x="3363" y="3366"/>
                    </a:lnTo>
                    <a:lnTo>
                      <a:pt x="2968" y="2973"/>
                    </a:lnTo>
                    <a:close/>
                    <a:moveTo>
                      <a:pt x="2878" y="2881"/>
                    </a:moveTo>
                    <a:lnTo>
                      <a:pt x="2862" y="2898"/>
                    </a:lnTo>
                    <a:lnTo>
                      <a:pt x="2935" y="2973"/>
                    </a:lnTo>
                    <a:lnTo>
                      <a:pt x="2951" y="2957"/>
                    </a:lnTo>
                    <a:lnTo>
                      <a:pt x="2878" y="2881"/>
                    </a:lnTo>
                    <a:close/>
                    <a:moveTo>
                      <a:pt x="2769" y="2775"/>
                    </a:moveTo>
                    <a:lnTo>
                      <a:pt x="2753" y="2791"/>
                    </a:lnTo>
                    <a:lnTo>
                      <a:pt x="2829" y="2865"/>
                    </a:lnTo>
                    <a:lnTo>
                      <a:pt x="2845" y="2848"/>
                    </a:lnTo>
                    <a:lnTo>
                      <a:pt x="2769" y="2775"/>
                    </a:lnTo>
                    <a:close/>
                    <a:moveTo>
                      <a:pt x="2361" y="2364"/>
                    </a:moveTo>
                    <a:lnTo>
                      <a:pt x="2344" y="2380"/>
                    </a:lnTo>
                    <a:lnTo>
                      <a:pt x="2736" y="2775"/>
                    </a:lnTo>
                    <a:lnTo>
                      <a:pt x="2753" y="2758"/>
                    </a:lnTo>
                    <a:lnTo>
                      <a:pt x="2361" y="2364"/>
                    </a:lnTo>
                    <a:close/>
                    <a:moveTo>
                      <a:pt x="2268" y="2274"/>
                    </a:moveTo>
                    <a:lnTo>
                      <a:pt x="2252" y="2290"/>
                    </a:lnTo>
                    <a:lnTo>
                      <a:pt x="2328" y="2364"/>
                    </a:lnTo>
                    <a:lnTo>
                      <a:pt x="2344" y="2347"/>
                    </a:lnTo>
                    <a:lnTo>
                      <a:pt x="2268" y="2274"/>
                    </a:lnTo>
                    <a:close/>
                    <a:moveTo>
                      <a:pt x="2162" y="2165"/>
                    </a:moveTo>
                    <a:lnTo>
                      <a:pt x="2146" y="2182"/>
                    </a:lnTo>
                    <a:lnTo>
                      <a:pt x="2219" y="2255"/>
                    </a:lnTo>
                    <a:lnTo>
                      <a:pt x="2235" y="2238"/>
                    </a:lnTo>
                    <a:lnTo>
                      <a:pt x="2162" y="2165"/>
                    </a:lnTo>
                    <a:close/>
                    <a:moveTo>
                      <a:pt x="1751" y="1754"/>
                    </a:moveTo>
                    <a:lnTo>
                      <a:pt x="1734" y="1770"/>
                    </a:lnTo>
                    <a:lnTo>
                      <a:pt x="2129" y="2165"/>
                    </a:lnTo>
                    <a:lnTo>
                      <a:pt x="2146" y="2149"/>
                    </a:lnTo>
                    <a:lnTo>
                      <a:pt x="1751" y="1754"/>
                    </a:lnTo>
                    <a:close/>
                    <a:moveTo>
                      <a:pt x="1661" y="1664"/>
                    </a:moveTo>
                    <a:lnTo>
                      <a:pt x="1645" y="1681"/>
                    </a:lnTo>
                    <a:lnTo>
                      <a:pt x="1718" y="1754"/>
                    </a:lnTo>
                    <a:lnTo>
                      <a:pt x="1734" y="1737"/>
                    </a:lnTo>
                    <a:lnTo>
                      <a:pt x="1661" y="1664"/>
                    </a:lnTo>
                    <a:close/>
                    <a:moveTo>
                      <a:pt x="1552" y="1555"/>
                    </a:moveTo>
                    <a:lnTo>
                      <a:pt x="1536" y="1572"/>
                    </a:lnTo>
                    <a:lnTo>
                      <a:pt x="1611" y="1647"/>
                    </a:lnTo>
                    <a:lnTo>
                      <a:pt x="1628" y="1631"/>
                    </a:lnTo>
                    <a:lnTo>
                      <a:pt x="1552" y="1555"/>
                    </a:lnTo>
                    <a:close/>
                    <a:moveTo>
                      <a:pt x="1144" y="1144"/>
                    </a:moveTo>
                    <a:lnTo>
                      <a:pt x="1127" y="1161"/>
                    </a:lnTo>
                    <a:lnTo>
                      <a:pt x="1519" y="1555"/>
                    </a:lnTo>
                    <a:lnTo>
                      <a:pt x="1536" y="1539"/>
                    </a:lnTo>
                    <a:lnTo>
                      <a:pt x="1144" y="1144"/>
                    </a:lnTo>
                    <a:close/>
                    <a:moveTo>
                      <a:pt x="1051" y="1054"/>
                    </a:moveTo>
                    <a:lnTo>
                      <a:pt x="1035" y="1071"/>
                    </a:lnTo>
                    <a:lnTo>
                      <a:pt x="1108" y="1144"/>
                    </a:lnTo>
                    <a:lnTo>
                      <a:pt x="1127" y="1127"/>
                    </a:lnTo>
                    <a:lnTo>
                      <a:pt x="1051" y="1054"/>
                    </a:lnTo>
                    <a:close/>
                    <a:moveTo>
                      <a:pt x="945" y="945"/>
                    </a:moveTo>
                    <a:lnTo>
                      <a:pt x="928" y="964"/>
                    </a:lnTo>
                    <a:lnTo>
                      <a:pt x="1002" y="1038"/>
                    </a:lnTo>
                    <a:lnTo>
                      <a:pt x="1018" y="1021"/>
                    </a:lnTo>
                    <a:lnTo>
                      <a:pt x="945" y="945"/>
                    </a:lnTo>
                    <a:close/>
                    <a:moveTo>
                      <a:pt x="534" y="537"/>
                    </a:moveTo>
                    <a:lnTo>
                      <a:pt x="517" y="553"/>
                    </a:lnTo>
                    <a:lnTo>
                      <a:pt x="912" y="945"/>
                    </a:lnTo>
                    <a:lnTo>
                      <a:pt x="928" y="929"/>
                    </a:lnTo>
                    <a:lnTo>
                      <a:pt x="534" y="537"/>
                    </a:lnTo>
                    <a:close/>
                    <a:moveTo>
                      <a:pt x="444" y="444"/>
                    </a:moveTo>
                    <a:lnTo>
                      <a:pt x="427" y="461"/>
                    </a:lnTo>
                    <a:lnTo>
                      <a:pt x="501" y="537"/>
                    </a:lnTo>
                    <a:lnTo>
                      <a:pt x="517" y="518"/>
                    </a:lnTo>
                    <a:lnTo>
                      <a:pt x="444" y="444"/>
                    </a:lnTo>
                    <a:close/>
                    <a:moveTo>
                      <a:pt x="335" y="338"/>
                    </a:moveTo>
                    <a:lnTo>
                      <a:pt x="319" y="355"/>
                    </a:lnTo>
                    <a:lnTo>
                      <a:pt x="394" y="428"/>
                    </a:lnTo>
                    <a:lnTo>
                      <a:pt x="411" y="411"/>
                    </a:lnTo>
                    <a:lnTo>
                      <a:pt x="335" y="338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302" y="338"/>
                    </a:lnTo>
                    <a:lnTo>
                      <a:pt x="319" y="3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93"/>
              <p:cNvSpPr/>
              <p:nvPr/>
            </p:nvSpPr>
            <p:spPr>
              <a:xfrm rot="5400000">
                <a:off x="1149840" y="-841680"/>
                <a:ext cx="6696360" cy="8379720"/>
              </a:xfrm>
              <a:custGeom>
                <a:avLst/>
                <a:gdLst>
                  <a:gd name="textAreaLeft" fmla="*/ 0 w 6696360"/>
                  <a:gd name="textAreaRight" fmla="*/ 6696720 w 6696360"/>
                  <a:gd name="textAreaTop" fmla="*/ 0 h 8379720"/>
                  <a:gd name="textAreaBottom" fmla="*/ 8380080 h 8379720"/>
                </a:gdLst>
                <a:ahLst/>
                <a:rect l="textAreaLeft" t="textAreaTop" r="textAreaRight" b="textAreaBottom"/>
                <a:pathLst>
                  <a:path w="5386" h="5410">
                    <a:moveTo>
                      <a:pt x="5312" y="5318"/>
                    </a:moveTo>
                    <a:lnTo>
                      <a:pt x="5296" y="5337"/>
                    </a:lnTo>
                    <a:lnTo>
                      <a:pt x="5369" y="5410"/>
                    </a:lnTo>
                    <a:lnTo>
                      <a:pt x="5386" y="5394"/>
                    </a:lnTo>
                    <a:lnTo>
                      <a:pt x="5312" y="5318"/>
                    </a:lnTo>
                    <a:moveTo>
                      <a:pt x="5204" y="5212"/>
                    </a:moveTo>
                    <a:lnTo>
                      <a:pt x="5187" y="5228"/>
                    </a:lnTo>
                    <a:lnTo>
                      <a:pt x="5263" y="5301"/>
                    </a:lnTo>
                    <a:lnTo>
                      <a:pt x="5279" y="5285"/>
                    </a:lnTo>
                    <a:lnTo>
                      <a:pt x="5204" y="5212"/>
                    </a:lnTo>
                    <a:moveTo>
                      <a:pt x="4795" y="4800"/>
                    </a:moveTo>
                    <a:lnTo>
                      <a:pt x="4778" y="4817"/>
                    </a:lnTo>
                    <a:lnTo>
                      <a:pt x="5171" y="5212"/>
                    </a:lnTo>
                    <a:lnTo>
                      <a:pt x="5187" y="5195"/>
                    </a:lnTo>
                    <a:lnTo>
                      <a:pt x="4795" y="4800"/>
                    </a:lnTo>
                    <a:moveTo>
                      <a:pt x="4703" y="4711"/>
                    </a:moveTo>
                    <a:lnTo>
                      <a:pt x="4686" y="4727"/>
                    </a:lnTo>
                    <a:lnTo>
                      <a:pt x="4762" y="4800"/>
                    </a:lnTo>
                    <a:lnTo>
                      <a:pt x="4778" y="4784"/>
                    </a:lnTo>
                    <a:lnTo>
                      <a:pt x="4703" y="4711"/>
                    </a:lnTo>
                    <a:moveTo>
                      <a:pt x="4596" y="4602"/>
                    </a:moveTo>
                    <a:lnTo>
                      <a:pt x="4580" y="4618"/>
                    </a:lnTo>
                    <a:lnTo>
                      <a:pt x="4653" y="4694"/>
                    </a:lnTo>
                    <a:lnTo>
                      <a:pt x="4670" y="4677"/>
                    </a:lnTo>
                    <a:lnTo>
                      <a:pt x="4596" y="4602"/>
                    </a:lnTo>
                    <a:moveTo>
                      <a:pt x="4185" y="4191"/>
                    </a:moveTo>
                    <a:lnTo>
                      <a:pt x="4169" y="4207"/>
                    </a:lnTo>
                    <a:lnTo>
                      <a:pt x="4563" y="4602"/>
                    </a:lnTo>
                    <a:lnTo>
                      <a:pt x="4580" y="4585"/>
                    </a:lnTo>
                    <a:lnTo>
                      <a:pt x="4185" y="4191"/>
                    </a:lnTo>
                    <a:moveTo>
                      <a:pt x="4095" y="4101"/>
                    </a:moveTo>
                    <a:lnTo>
                      <a:pt x="4079" y="4117"/>
                    </a:lnTo>
                    <a:lnTo>
                      <a:pt x="4152" y="4191"/>
                    </a:lnTo>
                    <a:lnTo>
                      <a:pt x="4169" y="4174"/>
                    </a:lnTo>
                    <a:lnTo>
                      <a:pt x="4095" y="4101"/>
                    </a:lnTo>
                    <a:moveTo>
                      <a:pt x="3987" y="3992"/>
                    </a:moveTo>
                    <a:lnTo>
                      <a:pt x="3970" y="4009"/>
                    </a:lnTo>
                    <a:lnTo>
                      <a:pt x="4046" y="4084"/>
                    </a:lnTo>
                    <a:lnTo>
                      <a:pt x="4062" y="4068"/>
                    </a:lnTo>
                    <a:lnTo>
                      <a:pt x="3987" y="3992"/>
                    </a:lnTo>
                    <a:moveTo>
                      <a:pt x="3578" y="3581"/>
                    </a:moveTo>
                    <a:lnTo>
                      <a:pt x="3561" y="3597"/>
                    </a:lnTo>
                    <a:lnTo>
                      <a:pt x="3954" y="3992"/>
                    </a:lnTo>
                    <a:lnTo>
                      <a:pt x="3970" y="3976"/>
                    </a:lnTo>
                    <a:lnTo>
                      <a:pt x="3578" y="3581"/>
                    </a:lnTo>
                    <a:moveTo>
                      <a:pt x="3486" y="3491"/>
                    </a:moveTo>
                    <a:lnTo>
                      <a:pt x="3469" y="3508"/>
                    </a:lnTo>
                    <a:lnTo>
                      <a:pt x="3545" y="3581"/>
                    </a:lnTo>
                    <a:lnTo>
                      <a:pt x="3561" y="3564"/>
                    </a:lnTo>
                    <a:lnTo>
                      <a:pt x="3486" y="3491"/>
                    </a:lnTo>
                    <a:moveTo>
                      <a:pt x="3379" y="3385"/>
                    </a:moveTo>
                    <a:lnTo>
                      <a:pt x="3363" y="3401"/>
                    </a:lnTo>
                    <a:lnTo>
                      <a:pt x="3436" y="3474"/>
                    </a:lnTo>
                    <a:lnTo>
                      <a:pt x="3453" y="3458"/>
                    </a:lnTo>
                    <a:lnTo>
                      <a:pt x="3379" y="3385"/>
                    </a:lnTo>
                    <a:moveTo>
                      <a:pt x="2968" y="2973"/>
                    </a:moveTo>
                    <a:lnTo>
                      <a:pt x="2951" y="2990"/>
                    </a:lnTo>
                    <a:lnTo>
                      <a:pt x="3346" y="3385"/>
                    </a:lnTo>
                    <a:lnTo>
                      <a:pt x="3363" y="3366"/>
                    </a:lnTo>
                    <a:lnTo>
                      <a:pt x="2968" y="2973"/>
                    </a:lnTo>
                    <a:moveTo>
                      <a:pt x="2878" y="2881"/>
                    </a:moveTo>
                    <a:lnTo>
                      <a:pt x="2862" y="2898"/>
                    </a:lnTo>
                    <a:lnTo>
                      <a:pt x="2935" y="2973"/>
                    </a:lnTo>
                    <a:lnTo>
                      <a:pt x="2951" y="2957"/>
                    </a:lnTo>
                    <a:lnTo>
                      <a:pt x="2878" y="2881"/>
                    </a:lnTo>
                    <a:moveTo>
                      <a:pt x="2769" y="2775"/>
                    </a:moveTo>
                    <a:lnTo>
                      <a:pt x="2753" y="2791"/>
                    </a:lnTo>
                    <a:lnTo>
                      <a:pt x="2829" y="2865"/>
                    </a:lnTo>
                    <a:lnTo>
                      <a:pt x="2845" y="2848"/>
                    </a:lnTo>
                    <a:lnTo>
                      <a:pt x="2769" y="2775"/>
                    </a:lnTo>
                    <a:moveTo>
                      <a:pt x="2361" y="2364"/>
                    </a:moveTo>
                    <a:lnTo>
                      <a:pt x="2344" y="2380"/>
                    </a:lnTo>
                    <a:lnTo>
                      <a:pt x="2736" y="2775"/>
                    </a:lnTo>
                    <a:lnTo>
                      <a:pt x="2753" y="2758"/>
                    </a:lnTo>
                    <a:lnTo>
                      <a:pt x="2361" y="2364"/>
                    </a:lnTo>
                    <a:moveTo>
                      <a:pt x="2268" y="2274"/>
                    </a:moveTo>
                    <a:lnTo>
                      <a:pt x="2252" y="2290"/>
                    </a:lnTo>
                    <a:lnTo>
                      <a:pt x="2328" y="2364"/>
                    </a:lnTo>
                    <a:lnTo>
                      <a:pt x="2344" y="2347"/>
                    </a:lnTo>
                    <a:lnTo>
                      <a:pt x="2268" y="2274"/>
                    </a:lnTo>
                    <a:moveTo>
                      <a:pt x="2162" y="2165"/>
                    </a:moveTo>
                    <a:lnTo>
                      <a:pt x="2146" y="2182"/>
                    </a:lnTo>
                    <a:lnTo>
                      <a:pt x="2219" y="2255"/>
                    </a:lnTo>
                    <a:lnTo>
                      <a:pt x="2235" y="2238"/>
                    </a:lnTo>
                    <a:lnTo>
                      <a:pt x="2162" y="2165"/>
                    </a:lnTo>
                    <a:moveTo>
                      <a:pt x="1751" y="1754"/>
                    </a:moveTo>
                    <a:lnTo>
                      <a:pt x="1734" y="1770"/>
                    </a:lnTo>
                    <a:lnTo>
                      <a:pt x="2129" y="2165"/>
                    </a:lnTo>
                    <a:lnTo>
                      <a:pt x="2146" y="2149"/>
                    </a:lnTo>
                    <a:lnTo>
                      <a:pt x="1751" y="1754"/>
                    </a:lnTo>
                    <a:moveTo>
                      <a:pt x="1661" y="1664"/>
                    </a:moveTo>
                    <a:lnTo>
                      <a:pt x="1645" y="1681"/>
                    </a:lnTo>
                    <a:lnTo>
                      <a:pt x="1718" y="1754"/>
                    </a:lnTo>
                    <a:lnTo>
                      <a:pt x="1734" y="1737"/>
                    </a:lnTo>
                    <a:lnTo>
                      <a:pt x="1661" y="1664"/>
                    </a:lnTo>
                    <a:moveTo>
                      <a:pt x="1552" y="1555"/>
                    </a:moveTo>
                    <a:lnTo>
                      <a:pt x="1536" y="1572"/>
                    </a:lnTo>
                    <a:lnTo>
                      <a:pt x="1611" y="1647"/>
                    </a:lnTo>
                    <a:lnTo>
                      <a:pt x="1628" y="1631"/>
                    </a:lnTo>
                    <a:lnTo>
                      <a:pt x="1552" y="1555"/>
                    </a:lnTo>
                    <a:moveTo>
                      <a:pt x="1144" y="1144"/>
                    </a:moveTo>
                    <a:lnTo>
                      <a:pt x="1127" y="1161"/>
                    </a:lnTo>
                    <a:lnTo>
                      <a:pt x="1519" y="1555"/>
                    </a:lnTo>
                    <a:lnTo>
                      <a:pt x="1536" y="1539"/>
                    </a:lnTo>
                    <a:lnTo>
                      <a:pt x="1144" y="1144"/>
                    </a:lnTo>
                    <a:moveTo>
                      <a:pt x="1051" y="1054"/>
                    </a:moveTo>
                    <a:lnTo>
                      <a:pt x="1035" y="1071"/>
                    </a:lnTo>
                    <a:lnTo>
                      <a:pt x="1108" y="1144"/>
                    </a:lnTo>
                    <a:lnTo>
                      <a:pt x="1127" y="1127"/>
                    </a:lnTo>
                    <a:lnTo>
                      <a:pt x="1051" y="1054"/>
                    </a:lnTo>
                    <a:moveTo>
                      <a:pt x="945" y="945"/>
                    </a:moveTo>
                    <a:lnTo>
                      <a:pt x="928" y="964"/>
                    </a:lnTo>
                    <a:lnTo>
                      <a:pt x="1002" y="1038"/>
                    </a:lnTo>
                    <a:lnTo>
                      <a:pt x="1018" y="1021"/>
                    </a:lnTo>
                    <a:lnTo>
                      <a:pt x="945" y="945"/>
                    </a:lnTo>
                    <a:moveTo>
                      <a:pt x="534" y="537"/>
                    </a:moveTo>
                    <a:lnTo>
                      <a:pt x="517" y="553"/>
                    </a:lnTo>
                    <a:lnTo>
                      <a:pt x="912" y="945"/>
                    </a:lnTo>
                    <a:lnTo>
                      <a:pt x="928" y="929"/>
                    </a:lnTo>
                    <a:lnTo>
                      <a:pt x="534" y="537"/>
                    </a:lnTo>
                    <a:moveTo>
                      <a:pt x="444" y="444"/>
                    </a:moveTo>
                    <a:lnTo>
                      <a:pt x="427" y="461"/>
                    </a:lnTo>
                    <a:lnTo>
                      <a:pt x="501" y="537"/>
                    </a:lnTo>
                    <a:lnTo>
                      <a:pt x="517" y="518"/>
                    </a:lnTo>
                    <a:lnTo>
                      <a:pt x="444" y="444"/>
                    </a:lnTo>
                    <a:moveTo>
                      <a:pt x="335" y="338"/>
                    </a:moveTo>
                    <a:lnTo>
                      <a:pt x="319" y="355"/>
                    </a:lnTo>
                    <a:lnTo>
                      <a:pt x="394" y="428"/>
                    </a:lnTo>
                    <a:lnTo>
                      <a:pt x="411" y="411"/>
                    </a:lnTo>
                    <a:lnTo>
                      <a:pt x="335" y="338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302" y="338"/>
                    </a:lnTo>
                    <a:lnTo>
                      <a:pt x="319" y="3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94"/>
              <p:cNvSpPr/>
              <p:nvPr/>
            </p:nvSpPr>
            <p:spPr>
              <a:xfrm rot="5400000">
                <a:off x="113400" y="6663240"/>
                <a:ext cx="161280" cy="22752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30" h="147">
                    <a:moveTo>
                      <a:pt x="16" y="0"/>
                    </a:moveTo>
                    <a:lnTo>
                      <a:pt x="0" y="17"/>
                    </a:lnTo>
                    <a:lnTo>
                      <a:pt x="130" y="147"/>
                    </a:lnTo>
                    <a:lnTo>
                      <a:pt x="130" y="1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95"/>
              <p:cNvSpPr/>
              <p:nvPr/>
            </p:nvSpPr>
            <p:spPr>
              <a:xfrm rot="5400000">
                <a:off x="113400" y="6663240"/>
                <a:ext cx="161280" cy="22752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30" h="147">
                    <a:moveTo>
                      <a:pt x="16" y="0"/>
                    </a:moveTo>
                    <a:lnTo>
                      <a:pt x="0" y="17"/>
                    </a:lnTo>
                    <a:lnTo>
                      <a:pt x="130" y="147"/>
                    </a:lnTo>
                    <a:lnTo>
                      <a:pt x="130" y="11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96"/>
              <p:cNvSpPr/>
              <p:nvPr/>
            </p:nvSpPr>
            <p:spPr>
              <a:xfrm rot="5400000">
                <a:off x="7981560" y="482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97"/>
              <p:cNvSpPr/>
              <p:nvPr/>
            </p:nvSpPr>
            <p:spPr>
              <a:xfrm rot="5400000">
                <a:off x="7981560" y="482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98"/>
              <p:cNvSpPr/>
              <p:nvPr/>
            </p:nvSpPr>
            <p:spPr>
              <a:xfrm rot="5400000">
                <a:off x="7037280" y="12373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99"/>
              <p:cNvSpPr/>
              <p:nvPr/>
            </p:nvSpPr>
            <p:spPr>
              <a:xfrm rot="5400000">
                <a:off x="7037280" y="12373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700"/>
              <p:cNvSpPr/>
              <p:nvPr/>
            </p:nvSpPr>
            <p:spPr>
              <a:xfrm rot="5400000">
                <a:off x="6091560" y="19951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701"/>
              <p:cNvSpPr/>
              <p:nvPr/>
            </p:nvSpPr>
            <p:spPr>
              <a:xfrm rot="5400000">
                <a:off x="6091560" y="19951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4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702"/>
              <p:cNvSpPr/>
              <p:nvPr/>
            </p:nvSpPr>
            <p:spPr>
              <a:xfrm rot="5400000">
                <a:off x="5150520" y="274896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49" y="3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703"/>
              <p:cNvSpPr/>
              <p:nvPr/>
            </p:nvSpPr>
            <p:spPr>
              <a:xfrm rot="5400000">
                <a:off x="5150520" y="274896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7"/>
                    </a:lnTo>
                    <a:lnTo>
                      <a:pt x="33" y="52"/>
                    </a:lnTo>
                    <a:lnTo>
                      <a:pt x="49" y="3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704"/>
              <p:cNvSpPr/>
              <p:nvPr/>
            </p:nvSpPr>
            <p:spPr>
              <a:xfrm rot="5400000">
                <a:off x="4207320" y="350892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705"/>
              <p:cNvSpPr/>
              <p:nvPr/>
            </p:nvSpPr>
            <p:spPr>
              <a:xfrm rot="5400000">
                <a:off x="4207320" y="350892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706"/>
              <p:cNvSpPr/>
              <p:nvPr/>
            </p:nvSpPr>
            <p:spPr>
              <a:xfrm rot="5400000">
                <a:off x="3261600" y="426384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707"/>
              <p:cNvSpPr/>
              <p:nvPr/>
            </p:nvSpPr>
            <p:spPr>
              <a:xfrm rot="5400000">
                <a:off x="3261600" y="426384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708"/>
              <p:cNvSpPr/>
              <p:nvPr/>
            </p:nvSpPr>
            <p:spPr>
              <a:xfrm rot="5400000">
                <a:off x="2318400" y="502272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709"/>
              <p:cNvSpPr/>
              <p:nvPr/>
            </p:nvSpPr>
            <p:spPr>
              <a:xfrm rot="5400000">
                <a:off x="2318400" y="502272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16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710"/>
              <p:cNvSpPr/>
              <p:nvPr/>
            </p:nvSpPr>
            <p:spPr>
              <a:xfrm rot="5400000">
                <a:off x="1373400" y="57772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711"/>
              <p:cNvSpPr/>
              <p:nvPr/>
            </p:nvSpPr>
            <p:spPr>
              <a:xfrm rot="5400000">
                <a:off x="1373400" y="57772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712"/>
              <p:cNvSpPr/>
              <p:nvPr/>
            </p:nvSpPr>
            <p:spPr>
              <a:xfrm rot="5400000">
                <a:off x="430920" y="653364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713"/>
              <p:cNvSpPr/>
              <p:nvPr/>
            </p:nvSpPr>
            <p:spPr>
              <a:xfrm rot="5400000">
                <a:off x="430920" y="653364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714"/>
              <p:cNvSpPr/>
              <p:nvPr/>
            </p:nvSpPr>
            <p:spPr>
              <a:xfrm rot="5400000">
                <a:off x="7837920" y="61632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9"/>
                    </a:lnTo>
                    <a:lnTo>
                      <a:pt x="16" y="35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715"/>
              <p:cNvSpPr/>
              <p:nvPr/>
            </p:nvSpPr>
            <p:spPr>
              <a:xfrm rot="5400000">
                <a:off x="7837920" y="61632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9"/>
                    </a:lnTo>
                    <a:lnTo>
                      <a:pt x="16" y="35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716"/>
              <p:cNvSpPr/>
              <p:nvPr/>
            </p:nvSpPr>
            <p:spPr>
              <a:xfrm rot="5400000">
                <a:off x="6893640" y="1373400"/>
                <a:ext cx="44640" cy="52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19" y="0"/>
                    </a:moveTo>
                    <a:lnTo>
                      <a:pt x="0" y="17"/>
                    </a:lnTo>
                    <a:lnTo>
                      <a:pt x="19" y="34"/>
                    </a:lnTo>
                    <a:lnTo>
                      <a:pt x="36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717"/>
              <p:cNvSpPr/>
              <p:nvPr/>
            </p:nvSpPr>
            <p:spPr>
              <a:xfrm rot="5400000">
                <a:off x="6893640" y="1373400"/>
                <a:ext cx="44640" cy="52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19" y="0"/>
                    </a:moveTo>
                    <a:lnTo>
                      <a:pt x="0" y="17"/>
                    </a:lnTo>
                    <a:lnTo>
                      <a:pt x="19" y="34"/>
                    </a:lnTo>
                    <a:lnTo>
                      <a:pt x="36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718"/>
              <p:cNvSpPr/>
              <p:nvPr/>
            </p:nvSpPr>
            <p:spPr>
              <a:xfrm rot="5400000">
                <a:off x="5951160" y="21304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719"/>
              <p:cNvSpPr/>
              <p:nvPr/>
            </p:nvSpPr>
            <p:spPr>
              <a:xfrm rot="5400000">
                <a:off x="5951160" y="21304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720"/>
              <p:cNvSpPr/>
              <p:nvPr/>
            </p:nvSpPr>
            <p:spPr>
              <a:xfrm rot="5400000">
                <a:off x="5006520" y="28890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721"/>
              <p:cNvSpPr/>
              <p:nvPr/>
            </p:nvSpPr>
            <p:spPr>
              <a:xfrm rot="5400000">
                <a:off x="5006520" y="288900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722"/>
              <p:cNvSpPr/>
              <p:nvPr/>
            </p:nvSpPr>
            <p:spPr>
              <a:xfrm rot="5400000">
                <a:off x="4061520" y="3643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723"/>
              <p:cNvSpPr/>
              <p:nvPr/>
            </p:nvSpPr>
            <p:spPr>
              <a:xfrm rot="5400000">
                <a:off x="4061520" y="3643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724"/>
              <p:cNvSpPr/>
              <p:nvPr/>
            </p:nvSpPr>
            <p:spPr>
              <a:xfrm rot="5400000">
                <a:off x="3121200" y="44020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725"/>
              <p:cNvSpPr/>
              <p:nvPr/>
            </p:nvSpPr>
            <p:spPr>
              <a:xfrm rot="5400000">
                <a:off x="3121200" y="44020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726"/>
              <p:cNvSpPr/>
              <p:nvPr/>
            </p:nvSpPr>
            <p:spPr>
              <a:xfrm rot="5400000">
                <a:off x="2176200" y="51570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727"/>
              <p:cNvSpPr/>
              <p:nvPr/>
            </p:nvSpPr>
            <p:spPr>
              <a:xfrm rot="5400000">
                <a:off x="2176200" y="51570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28"/>
              <p:cNvSpPr/>
              <p:nvPr/>
            </p:nvSpPr>
            <p:spPr>
              <a:xfrm rot="5400000">
                <a:off x="1231200" y="591552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729"/>
              <p:cNvSpPr/>
              <p:nvPr/>
            </p:nvSpPr>
            <p:spPr>
              <a:xfrm rot="5400000">
                <a:off x="1231200" y="591552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730"/>
              <p:cNvSpPr/>
              <p:nvPr/>
            </p:nvSpPr>
            <p:spPr>
              <a:xfrm rot="5400000">
                <a:off x="286560" y="66700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731"/>
              <p:cNvSpPr/>
              <p:nvPr/>
            </p:nvSpPr>
            <p:spPr>
              <a:xfrm rot="5400000">
                <a:off x="286560" y="66700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732"/>
              <p:cNvSpPr/>
              <p:nvPr/>
            </p:nvSpPr>
            <p:spPr>
              <a:xfrm rot="5400000">
                <a:off x="8143200" y="370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733"/>
              <p:cNvSpPr/>
              <p:nvPr/>
            </p:nvSpPr>
            <p:spPr>
              <a:xfrm rot="5400000">
                <a:off x="8143200" y="370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734"/>
              <p:cNvSpPr/>
              <p:nvPr/>
            </p:nvSpPr>
            <p:spPr>
              <a:xfrm rot="5400000">
                <a:off x="7201440" y="11268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735"/>
              <p:cNvSpPr/>
              <p:nvPr/>
            </p:nvSpPr>
            <p:spPr>
              <a:xfrm rot="5400000">
                <a:off x="7201440" y="11268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6"/>
                    </a:lnTo>
                    <a:lnTo>
                      <a:pt x="16" y="35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736"/>
              <p:cNvSpPr/>
              <p:nvPr/>
            </p:nvSpPr>
            <p:spPr>
              <a:xfrm rot="5400000">
                <a:off x="6257880" y="1883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737"/>
              <p:cNvSpPr/>
              <p:nvPr/>
            </p:nvSpPr>
            <p:spPr>
              <a:xfrm rot="5400000">
                <a:off x="6257880" y="18831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738"/>
              <p:cNvSpPr/>
              <p:nvPr/>
            </p:nvSpPr>
            <p:spPr>
              <a:xfrm rot="5400000">
                <a:off x="5312880" y="2641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739"/>
              <p:cNvSpPr/>
              <p:nvPr/>
            </p:nvSpPr>
            <p:spPr>
              <a:xfrm rot="5400000">
                <a:off x="5312880" y="264168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740"/>
              <p:cNvSpPr/>
              <p:nvPr/>
            </p:nvSpPr>
            <p:spPr>
              <a:xfrm rot="5400000">
                <a:off x="4369680" y="33966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741"/>
              <p:cNvSpPr/>
              <p:nvPr/>
            </p:nvSpPr>
            <p:spPr>
              <a:xfrm rot="5400000">
                <a:off x="4369680" y="33966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742"/>
              <p:cNvSpPr/>
              <p:nvPr/>
            </p:nvSpPr>
            <p:spPr>
              <a:xfrm rot="5400000">
                <a:off x="3426480" y="4152960"/>
                <a:ext cx="40680" cy="540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9"/>
                    </a:lnTo>
                    <a:lnTo>
                      <a:pt x="17" y="35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743"/>
              <p:cNvSpPr/>
              <p:nvPr/>
            </p:nvSpPr>
            <p:spPr>
              <a:xfrm rot="5400000">
                <a:off x="3426480" y="4152960"/>
                <a:ext cx="40680" cy="540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9"/>
                    </a:lnTo>
                    <a:lnTo>
                      <a:pt x="17" y="35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744"/>
              <p:cNvSpPr/>
              <p:nvPr/>
            </p:nvSpPr>
            <p:spPr>
              <a:xfrm rot="5400000">
                <a:off x="2482920" y="49107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745"/>
              <p:cNvSpPr/>
              <p:nvPr/>
            </p:nvSpPr>
            <p:spPr>
              <a:xfrm rot="5400000">
                <a:off x="2482920" y="49107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746"/>
              <p:cNvSpPr/>
              <p:nvPr/>
            </p:nvSpPr>
            <p:spPr>
              <a:xfrm rot="5400000">
                <a:off x="1539720" y="5667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747"/>
              <p:cNvSpPr/>
              <p:nvPr/>
            </p:nvSpPr>
            <p:spPr>
              <a:xfrm rot="5400000">
                <a:off x="1539720" y="566784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748"/>
              <p:cNvSpPr/>
              <p:nvPr/>
            </p:nvSpPr>
            <p:spPr>
              <a:xfrm rot="5400000">
                <a:off x="594720" y="64234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749"/>
              <p:cNvSpPr/>
              <p:nvPr/>
            </p:nvSpPr>
            <p:spPr>
              <a:xfrm rot="5400000">
                <a:off x="594720" y="64234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750"/>
              <p:cNvSpPr/>
              <p:nvPr/>
            </p:nvSpPr>
            <p:spPr>
              <a:xfrm rot="5400000">
                <a:off x="673560" y="-673920"/>
                <a:ext cx="5450400" cy="6798600"/>
              </a:xfrm>
              <a:custGeom>
                <a:avLst/>
                <a:gdLst>
                  <a:gd name="textAreaLeft" fmla="*/ 0 w 5450400"/>
                  <a:gd name="textAreaRight" fmla="*/ 5450760 w 5450400"/>
                  <a:gd name="textAreaTop" fmla="*/ 0 h 6798600"/>
                  <a:gd name="textAreaBottom" fmla="*/ 6798960 h 6798600"/>
                </a:gdLst>
                <a:ahLst/>
                <a:rect l="textAreaLeft" t="textAreaTop" r="textAreaRight" b="textAreaBottom"/>
                <a:pathLst>
                  <a:path w="4384" h="4389">
                    <a:moveTo>
                      <a:pt x="4185" y="4188"/>
                    </a:moveTo>
                    <a:lnTo>
                      <a:pt x="4169" y="4204"/>
                    </a:lnTo>
                    <a:lnTo>
                      <a:pt x="4351" y="4389"/>
                    </a:lnTo>
                    <a:lnTo>
                      <a:pt x="4384" y="4389"/>
                    </a:lnTo>
                    <a:lnTo>
                      <a:pt x="4185" y="4188"/>
                    </a:lnTo>
                    <a:close/>
                    <a:moveTo>
                      <a:pt x="4095" y="4098"/>
                    </a:moveTo>
                    <a:lnTo>
                      <a:pt x="4079" y="4115"/>
                    </a:lnTo>
                    <a:lnTo>
                      <a:pt x="4152" y="4188"/>
                    </a:lnTo>
                    <a:lnTo>
                      <a:pt x="4169" y="4171"/>
                    </a:lnTo>
                    <a:lnTo>
                      <a:pt x="4095" y="4098"/>
                    </a:lnTo>
                    <a:close/>
                    <a:moveTo>
                      <a:pt x="3987" y="3992"/>
                    </a:moveTo>
                    <a:lnTo>
                      <a:pt x="3970" y="4008"/>
                    </a:lnTo>
                    <a:lnTo>
                      <a:pt x="4043" y="4081"/>
                    </a:lnTo>
                    <a:lnTo>
                      <a:pt x="4062" y="4065"/>
                    </a:lnTo>
                    <a:lnTo>
                      <a:pt x="3987" y="3992"/>
                    </a:lnTo>
                    <a:close/>
                    <a:moveTo>
                      <a:pt x="3575" y="3580"/>
                    </a:moveTo>
                    <a:lnTo>
                      <a:pt x="3559" y="3597"/>
                    </a:lnTo>
                    <a:lnTo>
                      <a:pt x="3954" y="3992"/>
                    </a:lnTo>
                    <a:lnTo>
                      <a:pt x="3970" y="3975"/>
                    </a:lnTo>
                    <a:lnTo>
                      <a:pt x="3575" y="3580"/>
                    </a:lnTo>
                    <a:close/>
                    <a:moveTo>
                      <a:pt x="3486" y="3488"/>
                    </a:moveTo>
                    <a:lnTo>
                      <a:pt x="3469" y="3505"/>
                    </a:lnTo>
                    <a:lnTo>
                      <a:pt x="3542" y="3580"/>
                    </a:lnTo>
                    <a:lnTo>
                      <a:pt x="3559" y="3564"/>
                    </a:lnTo>
                    <a:lnTo>
                      <a:pt x="3486" y="3488"/>
                    </a:lnTo>
                    <a:close/>
                    <a:moveTo>
                      <a:pt x="3379" y="3382"/>
                    </a:moveTo>
                    <a:lnTo>
                      <a:pt x="3363" y="3398"/>
                    </a:lnTo>
                    <a:lnTo>
                      <a:pt x="3436" y="3472"/>
                    </a:lnTo>
                    <a:lnTo>
                      <a:pt x="3453" y="3455"/>
                    </a:lnTo>
                    <a:lnTo>
                      <a:pt x="3379" y="3382"/>
                    </a:lnTo>
                    <a:close/>
                    <a:moveTo>
                      <a:pt x="2968" y="2971"/>
                    </a:moveTo>
                    <a:lnTo>
                      <a:pt x="2951" y="2987"/>
                    </a:lnTo>
                    <a:lnTo>
                      <a:pt x="3344" y="3382"/>
                    </a:lnTo>
                    <a:lnTo>
                      <a:pt x="3363" y="3365"/>
                    </a:lnTo>
                    <a:lnTo>
                      <a:pt x="2968" y="2971"/>
                    </a:lnTo>
                    <a:close/>
                    <a:moveTo>
                      <a:pt x="2878" y="2881"/>
                    </a:moveTo>
                    <a:lnTo>
                      <a:pt x="2862" y="2897"/>
                    </a:lnTo>
                    <a:lnTo>
                      <a:pt x="2935" y="2971"/>
                    </a:lnTo>
                    <a:lnTo>
                      <a:pt x="2951" y="2954"/>
                    </a:lnTo>
                    <a:lnTo>
                      <a:pt x="2878" y="2881"/>
                    </a:lnTo>
                    <a:close/>
                    <a:moveTo>
                      <a:pt x="2769" y="2772"/>
                    </a:moveTo>
                    <a:lnTo>
                      <a:pt x="2753" y="2789"/>
                    </a:lnTo>
                    <a:lnTo>
                      <a:pt x="2826" y="2864"/>
                    </a:lnTo>
                    <a:lnTo>
                      <a:pt x="2845" y="2845"/>
                    </a:lnTo>
                    <a:lnTo>
                      <a:pt x="2769" y="2772"/>
                    </a:lnTo>
                    <a:close/>
                    <a:moveTo>
                      <a:pt x="2358" y="2361"/>
                    </a:moveTo>
                    <a:lnTo>
                      <a:pt x="2342" y="2377"/>
                    </a:lnTo>
                    <a:lnTo>
                      <a:pt x="2736" y="2772"/>
                    </a:lnTo>
                    <a:lnTo>
                      <a:pt x="2753" y="2756"/>
                    </a:lnTo>
                    <a:lnTo>
                      <a:pt x="2358" y="2361"/>
                    </a:lnTo>
                    <a:close/>
                    <a:moveTo>
                      <a:pt x="2268" y="2271"/>
                    </a:moveTo>
                    <a:lnTo>
                      <a:pt x="2252" y="2288"/>
                    </a:lnTo>
                    <a:lnTo>
                      <a:pt x="2325" y="2361"/>
                    </a:lnTo>
                    <a:lnTo>
                      <a:pt x="2342" y="2344"/>
                    </a:lnTo>
                    <a:lnTo>
                      <a:pt x="2268" y="2271"/>
                    </a:lnTo>
                    <a:close/>
                    <a:moveTo>
                      <a:pt x="2162" y="2162"/>
                    </a:moveTo>
                    <a:lnTo>
                      <a:pt x="2146" y="2179"/>
                    </a:lnTo>
                    <a:lnTo>
                      <a:pt x="2219" y="2254"/>
                    </a:lnTo>
                    <a:lnTo>
                      <a:pt x="2235" y="2238"/>
                    </a:lnTo>
                    <a:lnTo>
                      <a:pt x="2162" y="2162"/>
                    </a:lnTo>
                    <a:close/>
                    <a:moveTo>
                      <a:pt x="1751" y="1751"/>
                    </a:moveTo>
                    <a:lnTo>
                      <a:pt x="1734" y="1768"/>
                    </a:lnTo>
                    <a:lnTo>
                      <a:pt x="2127" y="2162"/>
                    </a:lnTo>
                    <a:lnTo>
                      <a:pt x="2146" y="2146"/>
                    </a:lnTo>
                    <a:lnTo>
                      <a:pt x="1751" y="1751"/>
                    </a:lnTo>
                    <a:close/>
                    <a:moveTo>
                      <a:pt x="1661" y="1661"/>
                    </a:moveTo>
                    <a:lnTo>
                      <a:pt x="1645" y="1678"/>
                    </a:lnTo>
                    <a:lnTo>
                      <a:pt x="1718" y="1751"/>
                    </a:lnTo>
                    <a:lnTo>
                      <a:pt x="1734" y="1734"/>
                    </a:lnTo>
                    <a:lnTo>
                      <a:pt x="1661" y="1661"/>
                    </a:lnTo>
                    <a:close/>
                    <a:moveTo>
                      <a:pt x="1552" y="1552"/>
                    </a:moveTo>
                    <a:lnTo>
                      <a:pt x="1536" y="1571"/>
                    </a:lnTo>
                    <a:lnTo>
                      <a:pt x="1609" y="1645"/>
                    </a:lnTo>
                    <a:lnTo>
                      <a:pt x="1628" y="1628"/>
                    </a:lnTo>
                    <a:lnTo>
                      <a:pt x="1552" y="1552"/>
                    </a:lnTo>
                    <a:close/>
                    <a:moveTo>
                      <a:pt x="1141" y="1144"/>
                    </a:moveTo>
                    <a:lnTo>
                      <a:pt x="1125" y="1160"/>
                    </a:lnTo>
                    <a:lnTo>
                      <a:pt x="1519" y="1552"/>
                    </a:lnTo>
                    <a:lnTo>
                      <a:pt x="1536" y="1536"/>
                    </a:lnTo>
                    <a:lnTo>
                      <a:pt x="1141" y="1144"/>
                    </a:lnTo>
                    <a:close/>
                    <a:moveTo>
                      <a:pt x="1051" y="1051"/>
                    </a:moveTo>
                    <a:lnTo>
                      <a:pt x="1035" y="1068"/>
                    </a:lnTo>
                    <a:lnTo>
                      <a:pt x="1108" y="1144"/>
                    </a:lnTo>
                    <a:lnTo>
                      <a:pt x="1125" y="1125"/>
                    </a:lnTo>
                    <a:lnTo>
                      <a:pt x="1051" y="1051"/>
                    </a:lnTo>
                    <a:close/>
                    <a:moveTo>
                      <a:pt x="945" y="945"/>
                    </a:moveTo>
                    <a:lnTo>
                      <a:pt x="928" y="962"/>
                    </a:lnTo>
                    <a:lnTo>
                      <a:pt x="1002" y="1035"/>
                    </a:lnTo>
                    <a:lnTo>
                      <a:pt x="1018" y="1018"/>
                    </a:lnTo>
                    <a:lnTo>
                      <a:pt x="945" y="945"/>
                    </a:lnTo>
                    <a:close/>
                    <a:moveTo>
                      <a:pt x="534" y="534"/>
                    </a:moveTo>
                    <a:lnTo>
                      <a:pt x="517" y="550"/>
                    </a:lnTo>
                    <a:lnTo>
                      <a:pt x="910" y="945"/>
                    </a:lnTo>
                    <a:lnTo>
                      <a:pt x="928" y="929"/>
                    </a:lnTo>
                    <a:lnTo>
                      <a:pt x="534" y="534"/>
                    </a:lnTo>
                    <a:close/>
                    <a:moveTo>
                      <a:pt x="444" y="444"/>
                    </a:moveTo>
                    <a:lnTo>
                      <a:pt x="427" y="461"/>
                    </a:lnTo>
                    <a:lnTo>
                      <a:pt x="501" y="534"/>
                    </a:lnTo>
                    <a:lnTo>
                      <a:pt x="517" y="517"/>
                    </a:lnTo>
                    <a:lnTo>
                      <a:pt x="444" y="444"/>
                    </a:lnTo>
                    <a:close/>
                    <a:moveTo>
                      <a:pt x="335" y="335"/>
                    </a:moveTo>
                    <a:lnTo>
                      <a:pt x="319" y="352"/>
                    </a:lnTo>
                    <a:lnTo>
                      <a:pt x="392" y="425"/>
                    </a:lnTo>
                    <a:lnTo>
                      <a:pt x="409" y="409"/>
                    </a:lnTo>
                    <a:lnTo>
                      <a:pt x="335" y="335"/>
                    </a:lnTo>
                    <a:close/>
                    <a:moveTo>
                      <a:pt x="0" y="0"/>
                    </a:moveTo>
                    <a:lnTo>
                      <a:pt x="0" y="33"/>
                    </a:lnTo>
                    <a:lnTo>
                      <a:pt x="302" y="335"/>
                    </a:lnTo>
                    <a:lnTo>
                      <a:pt x="319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51"/>
              <p:cNvSpPr/>
              <p:nvPr/>
            </p:nvSpPr>
            <p:spPr>
              <a:xfrm rot="5400000">
                <a:off x="673560" y="-673920"/>
                <a:ext cx="5450400" cy="6798600"/>
              </a:xfrm>
              <a:custGeom>
                <a:avLst/>
                <a:gdLst>
                  <a:gd name="textAreaLeft" fmla="*/ 0 w 5450400"/>
                  <a:gd name="textAreaRight" fmla="*/ 5450760 w 5450400"/>
                  <a:gd name="textAreaTop" fmla="*/ 0 h 6798600"/>
                  <a:gd name="textAreaBottom" fmla="*/ 6798960 h 6798600"/>
                </a:gdLst>
                <a:ahLst/>
                <a:rect l="textAreaLeft" t="textAreaTop" r="textAreaRight" b="textAreaBottom"/>
                <a:pathLst>
                  <a:path w="4384" h="4389">
                    <a:moveTo>
                      <a:pt x="4185" y="4188"/>
                    </a:moveTo>
                    <a:lnTo>
                      <a:pt x="4169" y="4204"/>
                    </a:lnTo>
                    <a:lnTo>
                      <a:pt x="4351" y="4389"/>
                    </a:lnTo>
                    <a:lnTo>
                      <a:pt x="4384" y="4389"/>
                    </a:lnTo>
                    <a:lnTo>
                      <a:pt x="4185" y="4188"/>
                    </a:lnTo>
                    <a:moveTo>
                      <a:pt x="4095" y="4098"/>
                    </a:moveTo>
                    <a:lnTo>
                      <a:pt x="4079" y="4115"/>
                    </a:lnTo>
                    <a:lnTo>
                      <a:pt x="4152" y="4188"/>
                    </a:lnTo>
                    <a:lnTo>
                      <a:pt x="4169" y="4171"/>
                    </a:lnTo>
                    <a:lnTo>
                      <a:pt x="4095" y="4098"/>
                    </a:lnTo>
                    <a:moveTo>
                      <a:pt x="3987" y="3992"/>
                    </a:moveTo>
                    <a:lnTo>
                      <a:pt x="3970" y="4008"/>
                    </a:lnTo>
                    <a:lnTo>
                      <a:pt x="4043" y="4081"/>
                    </a:lnTo>
                    <a:lnTo>
                      <a:pt x="4062" y="4065"/>
                    </a:lnTo>
                    <a:lnTo>
                      <a:pt x="3987" y="3992"/>
                    </a:lnTo>
                    <a:moveTo>
                      <a:pt x="3575" y="3580"/>
                    </a:moveTo>
                    <a:lnTo>
                      <a:pt x="3559" y="3597"/>
                    </a:lnTo>
                    <a:lnTo>
                      <a:pt x="3954" y="3992"/>
                    </a:lnTo>
                    <a:lnTo>
                      <a:pt x="3970" y="3975"/>
                    </a:lnTo>
                    <a:lnTo>
                      <a:pt x="3575" y="3580"/>
                    </a:lnTo>
                    <a:moveTo>
                      <a:pt x="3486" y="3488"/>
                    </a:moveTo>
                    <a:lnTo>
                      <a:pt x="3469" y="3505"/>
                    </a:lnTo>
                    <a:lnTo>
                      <a:pt x="3542" y="3580"/>
                    </a:lnTo>
                    <a:lnTo>
                      <a:pt x="3559" y="3564"/>
                    </a:lnTo>
                    <a:lnTo>
                      <a:pt x="3486" y="3488"/>
                    </a:lnTo>
                    <a:moveTo>
                      <a:pt x="3379" y="3382"/>
                    </a:moveTo>
                    <a:lnTo>
                      <a:pt x="3363" y="3398"/>
                    </a:lnTo>
                    <a:lnTo>
                      <a:pt x="3436" y="3472"/>
                    </a:lnTo>
                    <a:lnTo>
                      <a:pt x="3453" y="3455"/>
                    </a:lnTo>
                    <a:lnTo>
                      <a:pt x="3379" y="3382"/>
                    </a:lnTo>
                    <a:moveTo>
                      <a:pt x="2968" y="2971"/>
                    </a:moveTo>
                    <a:lnTo>
                      <a:pt x="2951" y="2987"/>
                    </a:lnTo>
                    <a:lnTo>
                      <a:pt x="3344" y="3382"/>
                    </a:lnTo>
                    <a:lnTo>
                      <a:pt x="3363" y="3365"/>
                    </a:lnTo>
                    <a:lnTo>
                      <a:pt x="2968" y="2971"/>
                    </a:lnTo>
                    <a:moveTo>
                      <a:pt x="2878" y="2881"/>
                    </a:moveTo>
                    <a:lnTo>
                      <a:pt x="2862" y="2897"/>
                    </a:lnTo>
                    <a:lnTo>
                      <a:pt x="2935" y="2971"/>
                    </a:lnTo>
                    <a:lnTo>
                      <a:pt x="2951" y="2954"/>
                    </a:lnTo>
                    <a:lnTo>
                      <a:pt x="2878" y="2881"/>
                    </a:lnTo>
                    <a:moveTo>
                      <a:pt x="2769" y="2772"/>
                    </a:moveTo>
                    <a:lnTo>
                      <a:pt x="2753" y="2789"/>
                    </a:lnTo>
                    <a:lnTo>
                      <a:pt x="2826" y="2864"/>
                    </a:lnTo>
                    <a:lnTo>
                      <a:pt x="2845" y="2845"/>
                    </a:lnTo>
                    <a:lnTo>
                      <a:pt x="2769" y="2772"/>
                    </a:lnTo>
                    <a:moveTo>
                      <a:pt x="2358" y="2361"/>
                    </a:moveTo>
                    <a:lnTo>
                      <a:pt x="2342" y="2377"/>
                    </a:lnTo>
                    <a:lnTo>
                      <a:pt x="2736" y="2772"/>
                    </a:lnTo>
                    <a:lnTo>
                      <a:pt x="2753" y="2756"/>
                    </a:lnTo>
                    <a:lnTo>
                      <a:pt x="2358" y="2361"/>
                    </a:lnTo>
                    <a:moveTo>
                      <a:pt x="2268" y="2271"/>
                    </a:moveTo>
                    <a:lnTo>
                      <a:pt x="2252" y="2288"/>
                    </a:lnTo>
                    <a:lnTo>
                      <a:pt x="2325" y="2361"/>
                    </a:lnTo>
                    <a:lnTo>
                      <a:pt x="2342" y="2344"/>
                    </a:lnTo>
                    <a:lnTo>
                      <a:pt x="2268" y="2271"/>
                    </a:lnTo>
                    <a:moveTo>
                      <a:pt x="2162" y="2162"/>
                    </a:moveTo>
                    <a:lnTo>
                      <a:pt x="2146" y="2179"/>
                    </a:lnTo>
                    <a:lnTo>
                      <a:pt x="2219" y="2254"/>
                    </a:lnTo>
                    <a:lnTo>
                      <a:pt x="2235" y="2238"/>
                    </a:lnTo>
                    <a:lnTo>
                      <a:pt x="2162" y="2162"/>
                    </a:lnTo>
                    <a:moveTo>
                      <a:pt x="1751" y="1751"/>
                    </a:moveTo>
                    <a:lnTo>
                      <a:pt x="1734" y="1768"/>
                    </a:lnTo>
                    <a:lnTo>
                      <a:pt x="2127" y="2162"/>
                    </a:lnTo>
                    <a:lnTo>
                      <a:pt x="2146" y="2146"/>
                    </a:lnTo>
                    <a:lnTo>
                      <a:pt x="1751" y="1751"/>
                    </a:lnTo>
                    <a:moveTo>
                      <a:pt x="1661" y="1661"/>
                    </a:moveTo>
                    <a:lnTo>
                      <a:pt x="1645" y="1678"/>
                    </a:lnTo>
                    <a:lnTo>
                      <a:pt x="1718" y="1751"/>
                    </a:lnTo>
                    <a:lnTo>
                      <a:pt x="1734" y="1734"/>
                    </a:lnTo>
                    <a:lnTo>
                      <a:pt x="1661" y="1661"/>
                    </a:lnTo>
                    <a:moveTo>
                      <a:pt x="1552" y="1552"/>
                    </a:moveTo>
                    <a:lnTo>
                      <a:pt x="1536" y="1571"/>
                    </a:lnTo>
                    <a:lnTo>
                      <a:pt x="1609" y="1645"/>
                    </a:lnTo>
                    <a:lnTo>
                      <a:pt x="1628" y="1628"/>
                    </a:lnTo>
                    <a:lnTo>
                      <a:pt x="1552" y="1552"/>
                    </a:lnTo>
                    <a:moveTo>
                      <a:pt x="1141" y="1144"/>
                    </a:moveTo>
                    <a:lnTo>
                      <a:pt x="1125" y="1160"/>
                    </a:lnTo>
                    <a:lnTo>
                      <a:pt x="1519" y="1552"/>
                    </a:lnTo>
                    <a:lnTo>
                      <a:pt x="1536" y="1536"/>
                    </a:lnTo>
                    <a:lnTo>
                      <a:pt x="1141" y="1144"/>
                    </a:lnTo>
                    <a:moveTo>
                      <a:pt x="1051" y="1051"/>
                    </a:moveTo>
                    <a:lnTo>
                      <a:pt x="1035" y="1068"/>
                    </a:lnTo>
                    <a:lnTo>
                      <a:pt x="1108" y="1144"/>
                    </a:lnTo>
                    <a:lnTo>
                      <a:pt x="1125" y="1125"/>
                    </a:lnTo>
                    <a:lnTo>
                      <a:pt x="1051" y="1051"/>
                    </a:lnTo>
                    <a:moveTo>
                      <a:pt x="945" y="945"/>
                    </a:moveTo>
                    <a:lnTo>
                      <a:pt x="928" y="962"/>
                    </a:lnTo>
                    <a:lnTo>
                      <a:pt x="1002" y="1035"/>
                    </a:lnTo>
                    <a:lnTo>
                      <a:pt x="1018" y="1018"/>
                    </a:lnTo>
                    <a:lnTo>
                      <a:pt x="945" y="945"/>
                    </a:lnTo>
                    <a:moveTo>
                      <a:pt x="534" y="534"/>
                    </a:moveTo>
                    <a:lnTo>
                      <a:pt x="517" y="550"/>
                    </a:lnTo>
                    <a:lnTo>
                      <a:pt x="910" y="945"/>
                    </a:lnTo>
                    <a:lnTo>
                      <a:pt x="928" y="929"/>
                    </a:lnTo>
                    <a:lnTo>
                      <a:pt x="534" y="534"/>
                    </a:lnTo>
                    <a:moveTo>
                      <a:pt x="444" y="444"/>
                    </a:moveTo>
                    <a:lnTo>
                      <a:pt x="427" y="461"/>
                    </a:lnTo>
                    <a:lnTo>
                      <a:pt x="501" y="534"/>
                    </a:lnTo>
                    <a:lnTo>
                      <a:pt x="517" y="517"/>
                    </a:lnTo>
                    <a:lnTo>
                      <a:pt x="444" y="444"/>
                    </a:lnTo>
                    <a:moveTo>
                      <a:pt x="335" y="335"/>
                    </a:moveTo>
                    <a:lnTo>
                      <a:pt x="319" y="352"/>
                    </a:lnTo>
                    <a:lnTo>
                      <a:pt x="392" y="425"/>
                    </a:lnTo>
                    <a:lnTo>
                      <a:pt x="409" y="409"/>
                    </a:lnTo>
                    <a:lnTo>
                      <a:pt x="335" y="335"/>
                    </a:lnTo>
                    <a:moveTo>
                      <a:pt x="0" y="0"/>
                    </a:moveTo>
                    <a:lnTo>
                      <a:pt x="0" y="33"/>
                    </a:lnTo>
                    <a:lnTo>
                      <a:pt x="302" y="335"/>
                    </a:lnTo>
                    <a:lnTo>
                      <a:pt x="319" y="3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752"/>
              <p:cNvSpPr/>
              <p:nvPr/>
            </p:nvSpPr>
            <p:spPr>
              <a:xfrm rot="5400000">
                <a:off x="6092280" y="47952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7" y="0"/>
                    </a:moveTo>
                    <a:lnTo>
                      <a:pt x="0" y="16"/>
                    </a:lnTo>
                    <a:lnTo>
                      <a:pt x="35" y="52"/>
                    </a:lnTo>
                    <a:lnTo>
                      <a:pt x="52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753"/>
              <p:cNvSpPr/>
              <p:nvPr/>
            </p:nvSpPr>
            <p:spPr>
              <a:xfrm rot="5400000">
                <a:off x="6092280" y="47952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7" y="0"/>
                    </a:moveTo>
                    <a:lnTo>
                      <a:pt x="0" y="16"/>
                    </a:lnTo>
                    <a:lnTo>
                      <a:pt x="35" y="52"/>
                    </a:lnTo>
                    <a:lnTo>
                      <a:pt x="52" y="3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754"/>
              <p:cNvSpPr/>
              <p:nvPr/>
            </p:nvSpPr>
            <p:spPr>
              <a:xfrm rot="5400000">
                <a:off x="5151960" y="12373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755"/>
              <p:cNvSpPr/>
              <p:nvPr/>
            </p:nvSpPr>
            <p:spPr>
              <a:xfrm rot="5400000">
                <a:off x="5151960" y="12373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756"/>
              <p:cNvSpPr/>
              <p:nvPr/>
            </p:nvSpPr>
            <p:spPr>
              <a:xfrm rot="5400000">
                <a:off x="4205160" y="199368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7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757"/>
              <p:cNvSpPr/>
              <p:nvPr/>
            </p:nvSpPr>
            <p:spPr>
              <a:xfrm rot="5400000">
                <a:off x="4205160" y="199368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7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758"/>
              <p:cNvSpPr/>
              <p:nvPr/>
            </p:nvSpPr>
            <p:spPr>
              <a:xfrm rot="5400000">
                <a:off x="3262320" y="275040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759"/>
              <p:cNvSpPr/>
              <p:nvPr/>
            </p:nvSpPr>
            <p:spPr>
              <a:xfrm rot="5400000">
                <a:off x="3262320" y="275040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760"/>
              <p:cNvSpPr/>
              <p:nvPr/>
            </p:nvSpPr>
            <p:spPr>
              <a:xfrm rot="5400000">
                <a:off x="2318760" y="350568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9" y="0"/>
                    </a:moveTo>
                    <a:lnTo>
                      <a:pt x="0" y="19"/>
                    </a:lnTo>
                    <a:lnTo>
                      <a:pt x="36" y="52"/>
                    </a:lnTo>
                    <a:lnTo>
                      <a:pt x="52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761"/>
              <p:cNvSpPr/>
              <p:nvPr/>
            </p:nvSpPr>
            <p:spPr>
              <a:xfrm rot="5400000">
                <a:off x="2318760" y="350568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19" y="0"/>
                    </a:moveTo>
                    <a:lnTo>
                      <a:pt x="0" y="19"/>
                    </a:lnTo>
                    <a:lnTo>
                      <a:pt x="36" y="52"/>
                    </a:lnTo>
                    <a:lnTo>
                      <a:pt x="52" y="3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762"/>
              <p:cNvSpPr/>
              <p:nvPr/>
            </p:nvSpPr>
            <p:spPr>
              <a:xfrm rot="5400000">
                <a:off x="1376640" y="426384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763"/>
              <p:cNvSpPr/>
              <p:nvPr/>
            </p:nvSpPr>
            <p:spPr>
              <a:xfrm rot="5400000">
                <a:off x="1376640" y="426384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764"/>
              <p:cNvSpPr/>
              <p:nvPr/>
            </p:nvSpPr>
            <p:spPr>
              <a:xfrm rot="5400000">
                <a:off x="430560" y="50202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6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765"/>
              <p:cNvSpPr/>
              <p:nvPr/>
            </p:nvSpPr>
            <p:spPr>
              <a:xfrm rot="5400000">
                <a:off x="430560" y="50202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9" y="0"/>
                    </a:moveTo>
                    <a:lnTo>
                      <a:pt x="0" y="16"/>
                    </a:lnTo>
                    <a:lnTo>
                      <a:pt x="36" y="50"/>
                    </a:lnTo>
                    <a:lnTo>
                      <a:pt x="52" y="3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766"/>
              <p:cNvSpPr/>
              <p:nvPr/>
            </p:nvSpPr>
            <p:spPr>
              <a:xfrm rot="5400000">
                <a:off x="5951160" y="6177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767"/>
              <p:cNvSpPr/>
              <p:nvPr/>
            </p:nvSpPr>
            <p:spPr>
              <a:xfrm rot="5400000">
                <a:off x="5951160" y="6177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768"/>
              <p:cNvSpPr/>
              <p:nvPr/>
            </p:nvSpPr>
            <p:spPr>
              <a:xfrm rot="5400000">
                <a:off x="5007960" y="137052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9"/>
                    </a:lnTo>
                    <a:lnTo>
                      <a:pt x="17" y="35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769"/>
              <p:cNvSpPr/>
              <p:nvPr/>
            </p:nvSpPr>
            <p:spPr>
              <a:xfrm rot="5400000">
                <a:off x="5007960" y="137052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9"/>
                    </a:lnTo>
                    <a:lnTo>
                      <a:pt x="17" y="35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70"/>
              <p:cNvSpPr/>
              <p:nvPr/>
            </p:nvSpPr>
            <p:spPr>
              <a:xfrm rot="5400000">
                <a:off x="4065480" y="212976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71"/>
              <p:cNvSpPr/>
              <p:nvPr/>
            </p:nvSpPr>
            <p:spPr>
              <a:xfrm rot="5400000">
                <a:off x="4065480" y="212976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6" y="0"/>
                    </a:moveTo>
                    <a:lnTo>
                      <a:pt x="0" y="17"/>
                    </a:lnTo>
                    <a:lnTo>
                      <a:pt x="16" y="34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772"/>
              <p:cNvSpPr/>
              <p:nvPr/>
            </p:nvSpPr>
            <p:spPr>
              <a:xfrm rot="5400000">
                <a:off x="3121560" y="28857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773"/>
              <p:cNvSpPr/>
              <p:nvPr/>
            </p:nvSpPr>
            <p:spPr>
              <a:xfrm rot="5400000">
                <a:off x="3121560" y="288576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74"/>
              <p:cNvSpPr/>
              <p:nvPr/>
            </p:nvSpPr>
            <p:spPr>
              <a:xfrm rot="5400000">
                <a:off x="2176560" y="364392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75"/>
              <p:cNvSpPr/>
              <p:nvPr/>
            </p:nvSpPr>
            <p:spPr>
              <a:xfrm rot="5400000">
                <a:off x="2176560" y="364392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76"/>
              <p:cNvSpPr/>
              <p:nvPr/>
            </p:nvSpPr>
            <p:spPr>
              <a:xfrm rot="5400000">
                <a:off x="1231200" y="43984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77"/>
              <p:cNvSpPr/>
              <p:nvPr/>
            </p:nvSpPr>
            <p:spPr>
              <a:xfrm rot="5400000">
                <a:off x="1231200" y="43984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778"/>
              <p:cNvSpPr/>
              <p:nvPr/>
            </p:nvSpPr>
            <p:spPr>
              <a:xfrm rot="5400000">
                <a:off x="291240" y="51570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779"/>
              <p:cNvSpPr/>
              <p:nvPr/>
            </p:nvSpPr>
            <p:spPr>
              <a:xfrm rot="5400000">
                <a:off x="291240" y="51570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80"/>
              <p:cNvSpPr/>
              <p:nvPr/>
            </p:nvSpPr>
            <p:spPr>
              <a:xfrm rot="5400000">
                <a:off x="6257880" y="370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81"/>
              <p:cNvSpPr/>
              <p:nvPr/>
            </p:nvSpPr>
            <p:spPr>
              <a:xfrm rot="5400000">
                <a:off x="6257880" y="370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82"/>
              <p:cNvSpPr/>
              <p:nvPr/>
            </p:nvSpPr>
            <p:spPr>
              <a:xfrm rot="5400000">
                <a:off x="5311800" y="112716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6"/>
                    </a:lnTo>
                    <a:lnTo>
                      <a:pt x="18" y="33"/>
                    </a:lnTo>
                    <a:lnTo>
                      <a:pt x="35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83"/>
              <p:cNvSpPr/>
              <p:nvPr/>
            </p:nvSpPr>
            <p:spPr>
              <a:xfrm rot="5400000">
                <a:off x="5311800" y="112716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6"/>
                    </a:lnTo>
                    <a:lnTo>
                      <a:pt x="18" y="33"/>
                    </a:lnTo>
                    <a:lnTo>
                      <a:pt x="35" y="16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84"/>
              <p:cNvSpPr/>
              <p:nvPr/>
            </p:nvSpPr>
            <p:spPr>
              <a:xfrm rot="5400000">
                <a:off x="4371120" y="188172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785"/>
              <p:cNvSpPr/>
              <p:nvPr/>
            </p:nvSpPr>
            <p:spPr>
              <a:xfrm rot="5400000">
                <a:off x="4371120" y="188172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6"/>
                    </a:lnTo>
                    <a:lnTo>
                      <a:pt x="17" y="35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86"/>
              <p:cNvSpPr/>
              <p:nvPr/>
            </p:nvSpPr>
            <p:spPr>
              <a:xfrm rot="5400000">
                <a:off x="3426840" y="2640600"/>
                <a:ext cx="43560" cy="507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5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87"/>
              <p:cNvSpPr/>
              <p:nvPr/>
            </p:nvSpPr>
            <p:spPr>
              <a:xfrm rot="5400000">
                <a:off x="3426840" y="2640600"/>
                <a:ext cx="43560" cy="507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6"/>
                    </a:lnTo>
                    <a:lnTo>
                      <a:pt x="19" y="33"/>
                    </a:lnTo>
                    <a:lnTo>
                      <a:pt x="35" y="1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88"/>
              <p:cNvSpPr/>
              <p:nvPr/>
            </p:nvSpPr>
            <p:spPr>
              <a:xfrm rot="5400000">
                <a:off x="2482920" y="33966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89"/>
              <p:cNvSpPr/>
              <p:nvPr/>
            </p:nvSpPr>
            <p:spPr>
              <a:xfrm rot="5400000">
                <a:off x="2482920" y="339660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790"/>
              <p:cNvSpPr/>
              <p:nvPr/>
            </p:nvSpPr>
            <p:spPr>
              <a:xfrm rot="5400000">
                <a:off x="1538640" y="415332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5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791"/>
              <p:cNvSpPr/>
              <p:nvPr/>
            </p:nvSpPr>
            <p:spPr>
              <a:xfrm rot="5400000">
                <a:off x="1538640" y="415332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5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92"/>
              <p:cNvSpPr/>
              <p:nvPr/>
            </p:nvSpPr>
            <p:spPr>
              <a:xfrm rot="5400000">
                <a:off x="594720" y="49107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93"/>
              <p:cNvSpPr/>
              <p:nvPr/>
            </p:nvSpPr>
            <p:spPr>
              <a:xfrm rot="5400000">
                <a:off x="594720" y="491076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7"/>
                    </a:lnTo>
                    <a:lnTo>
                      <a:pt x="16" y="33"/>
                    </a:lnTo>
                    <a:lnTo>
                      <a:pt x="33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94"/>
              <p:cNvSpPr/>
              <p:nvPr/>
            </p:nvSpPr>
            <p:spPr>
              <a:xfrm rot="5400000">
                <a:off x="487440" y="-487800"/>
                <a:ext cx="3937320" cy="4913280"/>
              </a:xfrm>
              <a:custGeom>
                <a:avLst/>
                <a:gdLst>
                  <a:gd name="textAreaLeft" fmla="*/ 0 w 3937320"/>
                  <a:gd name="textAreaRight" fmla="*/ 3937680 w 3937320"/>
                  <a:gd name="textAreaTop" fmla="*/ 0 h 4913280"/>
                  <a:gd name="textAreaBottom" fmla="*/ 4913640 h 4913280"/>
                </a:gdLst>
                <a:ahLst/>
                <a:rect l="textAreaLeft" t="textAreaTop" r="textAreaRight" b="textAreaBottom"/>
                <a:pathLst>
                  <a:path w="3167" h="3172">
                    <a:moveTo>
                      <a:pt x="2968" y="2971"/>
                    </a:moveTo>
                    <a:lnTo>
                      <a:pt x="2951" y="2987"/>
                    </a:lnTo>
                    <a:lnTo>
                      <a:pt x="3133" y="3172"/>
                    </a:lnTo>
                    <a:lnTo>
                      <a:pt x="3167" y="3172"/>
                    </a:lnTo>
                    <a:lnTo>
                      <a:pt x="2968" y="2971"/>
                    </a:lnTo>
                    <a:close/>
                    <a:moveTo>
                      <a:pt x="2876" y="2881"/>
                    </a:moveTo>
                    <a:lnTo>
                      <a:pt x="2859" y="2898"/>
                    </a:lnTo>
                    <a:lnTo>
                      <a:pt x="2933" y="2971"/>
                    </a:lnTo>
                    <a:lnTo>
                      <a:pt x="2951" y="2954"/>
                    </a:lnTo>
                    <a:lnTo>
                      <a:pt x="2876" y="2881"/>
                    </a:lnTo>
                    <a:close/>
                    <a:moveTo>
                      <a:pt x="2769" y="2772"/>
                    </a:moveTo>
                    <a:lnTo>
                      <a:pt x="2753" y="2789"/>
                    </a:lnTo>
                    <a:lnTo>
                      <a:pt x="2826" y="2864"/>
                    </a:lnTo>
                    <a:lnTo>
                      <a:pt x="2843" y="2848"/>
                    </a:lnTo>
                    <a:lnTo>
                      <a:pt x="2769" y="2772"/>
                    </a:lnTo>
                    <a:close/>
                    <a:moveTo>
                      <a:pt x="2358" y="2361"/>
                    </a:moveTo>
                    <a:lnTo>
                      <a:pt x="2342" y="2378"/>
                    </a:lnTo>
                    <a:lnTo>
                      <a:pt x="2736" y="2772"/>
                    </a:lnTo>
                    <a:lnTo>
                      <a:pt x="2753" y="2756"/>
                    </a:lnTo>
                    <a:lnTo>
                      <a:pt x="2358" y="2361"/>
                    </a:lnTo>
                    <a:close/>
                    <a:moveTo>
                      <a:pt x="2268" y="2271"/>
                    </a:moveTo>
                    <a:lnTo>
                      <a:pt x="2252" y="2288"/>
                    </a:lnTo>
                    <a:lnTo>
                      <a:pt x="2325" y="2361"/>
                    </a:lnTo>
                    <a:lnTo>
                      <a:pt x="2342" y="2344"/>
                    </a:lnTo>
                    <a:lnTo>
                      <a:pt x="2268" y="2271"/>
                    </a:lnTo>
                    <a:close/>
                    <a:moveTo>
                      <a:pt x="2160" y="2165"/>
                    </a:moveTo>
                    <a:lnTo>
                      <a:pt x="2143" y="2181"/>
                    </a:lnTo>
                    <a:lnTo>
                      <a:pt x="2219" y="2255"/>
                    </a:lnTo>
                    <a:lnTo>
                      <a:pt x="2235" y="2238"/>
                    </a:lnTo>
                    <a:lnTo>
                      <a:pt x="2160" y="2165"/>
                    </a:lnTo>
                    <a:close/>
                    <a:moveTo>
                      <a:pt x="1751" y="1754"/>
                    </a:moveTo>
                    <a:lnTo>
                      <a:pt x="1734" y="1770"/>
                    </a:lnTo>
                    <a:lnTo>
                      <a:pt x="2127" y="2165"/>
                    </a:lnTo>
                    <a:lnTo>
                      <a:pt x="2143" y="2146"/>
                    </a:lnTo>
                    <a:lnTo>
                      <a:pt x="1751" y="1754"/>
                    </a:lnTo>
                    <a:close/>
                    <a:moveTo>
                      <a:pt x="1659" y="1661"/>
                    </a:moveTo>
                    <a:lnTo>
                      <a:pt x="1642" y="1678"/>
                    </a:lnTo>
                    <a:lnTo>
                      <a:pt x="1715" y="1754"/>
                    </a:lnTo>
                    <a:lnTo>
                      <a:pt x="1734" y="1737"/>
                    </a:lnTo>
                    <a:lnTo>
                      <a:pt x="1659" y="1661"/>
                    </a:lnTo>
                    <a:close/>
                    <a:moveTo>
                      <a:pt x="1552" y="1555"/>
                    </a:moveTo>
                    <a:lnTo>
                      <a:pt x="1536" y="1572"/>
                    </a:lnTo>
                    <a:lnTo>
                      <a:pt x="1609" y="1645"/>
                    </a:lnTo>
                    <a:lnTo>
                      <a:pt x="1626" y="1628"/>
                    </a:lnTo>
                    <a:lnTo>
                      <a:pt x="1552" y="1555"/>
                    </a:lnTo>
                    <a:close/>
                    <a:moveTo>
                      <a:pt x="1141" y="1144"/>
                    </a:moveTo>
                    <a:lnTo>
                      <a:pt x="1125" y="1160"/>
                    </a:lnTo>
                    <a:lnTo>
                      <a:pt x="1519" y="1555"/>
                    </a:lnTo>
                    <a:lnTo>
                      <a:pt x="1536" y="1539"/>
                    </a:lnTo>
                    <a:lnTo>
                      <a:pt x="1141" y="1144"/>
                    </a:lnTo>
                    <a:close/>
                    <a:moveTo>
                      <a:pt x="1051" y="1054"/>
                    </a:moveTo>
                    <a:lnTo>
                      <a:pt x="1035" y="1071"/>
                    </a:lnTo>
                    <a:lnTo>
                      <a:pt x="1108" y="1144"/>
                    </a:lnTo>
                    <a:lnTo>
                      <a:pt x="1125" y="1127"/>
                    </a:lnTo>
                    <a:lnTo>
                      <a:pt x="1051" y="1054"/>
                    </a:lnTo>
                    <a:close/>
                    <a:moveTo>
                      <a:pt x="943" y="945"/>
                    </a:moveTo>
                    <a:lnTo>
                      <a:pt x="926" y="962"/>
                    </a:lnTo>
                    <a:lnTo>
                      <a:pt x="1002" y="1035"/>
                    </a:lnTo>
                    <a:lnTo>
                      <a:pt x="1018" y="1019"/>
                    </a:lnTo>
                    <a:lnTo>
                      <a:pt x="943" y="945"/>
                    </a:lnTo>
                    <a:close/>
                    <a:moveTo>
                      <a:pt x="534" y="534"/>
                    </a:moveTo>
                    <a:lnTo>
                      <a:pt x="515" y="551"/>
                    </a:lnTo>
                    <a:lnTo>
                      <a:pt x="910" y="945"/>
                    </a:lnTo>
                    <a:lnTo>
                      <a:pt x="926" y="929"/>
                    </a:lnTo>
                    <a:lnTo>
                      <a:pt x="534" y="534"/>
                    </a:lnTo>
                    <a:close/>
                    <a:moveTo>
                      <a:pt x="442" y="444"/>
                    </a:moveTo>
                    <a:lnTo>
                      <a:pt x="425" y="461"/>
                    </a:lnTo>
                    <a:lnTo>
                      <a:pt x="498" y="534"/>
                    </a:lnTo>
                    <a:lnTo>
                      <a:pt x="515" y="517"/>
                    </a:lnTo>
                    <a:lnTo>
                      <a:pt x="442" y="444"/>
                    </a:lnTo>
                    <a:close/>
                    <a:moveTo>
                      <a:pt x="335" y="335"/>
                    </a:moveTo>
                    <a:lnTo>
                      <a:pt x="319" y="352"/>
                    </a:lnTo>
                    <a:lnTo>
                      <a:pt x="392" y="428"/>
                    </a:lnTo>
                    <a:lnTo>
                      <a:pt x="409" y="411"/>
                    </a:lnTo>
                    <a:lnTo>
                      <a:pt x="335" y="335"/>
                    </a:lnTo>
                    <a:close/>
                    <a:moveTo>
                      <a:pt x="0" y="0"/>
                    </a:moveTo>
                    <a:lnTo>
                      <a:pt x="0" y="35"/>
                    </a:lnTo>
                    <a:lnTo>
                      <a:pt x="302" y="335"/>
                    </a:lnTo>
                    <a:lnTo>
                      <a:pt x="319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95"/>
              <p:cNvSpPr/>
              <p:nvPr/>
            </p:nvSpPr>
            <p:spPr>
              <a:xfrm rot="5400000">
                <a:off x="487440" y="-487800"/>
                <a:ext cx="3937320" cy="4913280"/>
              </a:xfrm>
              <a:custGeom>
                <a:avLst/>
                <a:gdLst>
                  <a:gd name="textAreaLeft" fmla="*/ 0 w 3937320"/>
                  <a:gd name="textAreaRight" fmla="*/ 3937680 w 3937320"/>
                  <a:gd name="textAreaTop" fmla="*/ 0 h 4913280"/>
                  <a:gd name="textAreaBottom" fmla="*/ 4913640 h 4913280"/>
                </a:gdLst>
                <a:ahLst/>
                <a:rect l="textAreaLeft" t="textAreaTop" r="textAreaRight" b="textAreaBottom"/>
                <a:pathLst>
                  <a:path w="3167" h="3172">
                    <a:moveTo>
                      <a:pt x="2968" y="2971"/>
                    </a:moveTo>
                    <a:lnTo>
                      <a:pt x="2951" y="2987"/>
                    </a:lnTo>
                    <a:lnTo>
                      <a:pt x="3133" y="3172"/>
                    </a:lnTo>
                    <a:lnTo>
                      <a:pt x="3167" y="3172"/>
                    </a:lnTo>
                    <a:lnTo>
                      <a:pt x="2968" y="2971"/>
                    </a:lnTo>
                    <a:moveTo>
                      <a:pt x="2876" y="2881"/>
                    </a:moveTo>
                    <a:lnTo>
                      <a:pt x="2859" y="2898"/>
                    </a:lnTo>
                    <a:lnTo>
                      <a:pt x="2933" y="2971"/>
                    </a:lnTo>
                    <a:lnTo>
                      <a:pt x="2951" y="2954"/>
                    </a:lnTo>
                    <a:lnTo>
                      <a:pt x="2876" y="2881"/>
                    </a:lnTo>
                    <a:moveTo>
                      <a:pt x="2769" y="2772"/>
                    </a:moveTo>
                    <a:lnTo>
                      <a:pt x="2753" y="2789"/>
                    </a:lnTo>
                    <a:lnTo>
                      <a:pt x="2826" y="2864"/>
                    </a:lnTo>
                    <a:lnTo>
                      <a:pt x="2843" y="2848"/>
                    </a:lnTo>
                    <a:lnTo>
                      <a:pt x="2769" y="2772"/>
                    </a:lnTo>
                    <a:moveTo>
                      <a:pt x="2358" y="2361"/>
                    </a:moveTo>
                    <a:lnTo>
                      <a:pt x="2342" y="2378"/>
                    </a:lnTo>
                    <a:lnTo>
                      <a:pt x="2736" y="2772"/>
                    </a:lnTo>
                    <a:lnTo>
                      <a:pt x="2753" y="2756"/>
                    </a:lnTo>
                    <a:lnTo>
                      <a:pt x="2358" y="2361"/>
                    </a:lnTo>
                    <a:moveTo>
                      <a:pt x="2268" y="2271"/>
                    </a:moveTo>
                    <a:lnTo>
                      <a:pt x="2252" y="2288"/>
                    </a:lnTo>
                    <a:lnTo>
                      <a:pt x="2325" y="2361"/>
                    </a:lnTo>
                    <a:lnTo>
                      <a:pt x="2342" y="2344"/>
                    </a:lnTo>
                    <a:lnTo>
                      <a:pt x="2268" y="2271"/>
                    </a:lnTo>
                    <a:moveTo>
                      <a:pt x="2160" y="2165"/>
                    </a:moveTo>
                    <a:lnTo>
                      <a:pt x="2143" y="2181"/>
                    </a:lnTo>
                    <a:lnTo>
                      <a:pt x="2219" y="2255"/>
                    </a:lnTo>
                    <a:lnTo>
                      <a:pt x="2235" y="2238"/>
                    </a:lnTo>
                    <a:lnTo>
                      <a:pt x="2160" y="2165"/>
                    </a:lnTo>
                    <a:moveTo>
                      <a:pt x="1751" y="1754"/>
                    </a:moveTo>
                    <a:lnTo>
                      <a:pt x="1734" y="1770"/>
                    </a:lnTo>
                    <a:lnTo>
                      <a:pt x="2127" y="2165"/>
                    </a:lnTo>
                    <a:lnTo>
                      <a:pt x="2143" y="2146"/>
                    </a:lnTo>
                    <a:lnTo>
                      <a:pt x="1751" y="1754"/>
                    </a:lnTo>
                    <a:moveTo>
                      <a:pt x="1659" y="1661"/>
                    </a:moveTo>
                    <a:lnTo>
                      <a:pt x="1642" y="1678"/>
                    </a:lnTo>
                    <a:lnTo>
                      <a:pt x="1715" y="1754"/>
                    </a:lnTo>
                    <a:lnTo>
                      <a:pt x="1734" y="1737"/>
                    </a:lnTo>
                    <a:lnTo>
                      <a:pt x="1659" y="1661"/>
                    </a:lnTo>
                    <a:moveTo>
                      <a:pt x="1552" y="1555"/>
                    </a:moveTo>
                    <a:lnTo>
                      <a:pt x="1536" y="1572"/>
                    </a:lnTo>
                    <a:lnTo>
                      <a:pt x="1609" y="1645"/>
                    </a:lnTo>
                    <a:lnTo>
                      <a:pt x="1626" y="1628"/>
                    </a:lnTo>
                    <a:lnTo>
                      <a:pt x="1552" y="1555"/>
                    </a:lnTo>
                    <a:moveTo>
                      <a:pt x="1141" y="1144"/>
                    </a:moveTo>
                    <a:lnTo>
                      <a:pt x="1125" y="1160"/>
                    </a:lnTo>
                    <a:lnTo>
                      <a:pt x="1519" y="1555"/>
                    </a:lnTo>
                    <a:lnTo>
                      <a:pt x="1536" y="1539"/>
                    </a:lnTo>
                    <a:lnTo>
                      <a:pt x="1141" y="1144"/>
                    </a:lnTo>
                    <a:moveTo>
                      <a:pt x="1051" y="1054"/>
                    </a:moveTo>
                    <a:lnTo>
                      <a:pt x="1035" y="1071"/>
                    </a:lnTo>
                    <a:lnTo>
                      <a:pt x="1108" y="1144"/>
                    </a:lnTo>
                    <a:lnTo>
                      <a:pt x="1125" y="1127"/>
                    </a:lnTo>
                    <a:lnTo>
                      <a:pt x="1051" y="1054"/>
                    </a:lnTo>
                    <a:moveTo>
                      <a:pt x="943" y="945"/>
                    </a:moveTo>
                    <a:lnTo>
                      <a:pt x="926" y="962"/>
                    </a:lnTo>
                    <a:lnTo>
                      <a:pt x="1002" y="1035"/>
                    </a:lnTo>
                    <a:lnTo>
                      <a:pt x="1018" y="1019"/>
                    </a:lnTo>
                    <a:lnTo>
                      <a:pt x="943" y="945"/>
                    </a:lnTo>
                    <a:moveTo>
                      <a:pt x="534" y="534"/>
                    </a:moveTo>
                    <a:lnTo>
                      <a:pt x="515" y="551"/>
                    </a:lnTo>
                    <a:lnTo>
                      <a:pt x="910" y="945"/>
                    </a:lnTo>
                    <a:lnTo>
                      <a:pt x="926" y="929"/>
                    </a:lnTo>
                    <a:lnTo>
                      <a:pt x="534" y="534"/>
                    </a:lnTo>
                    <a:moveTo>
                      <a:pt x="442" y="444"/>
                    </a:moveTo>
                    <a:lnTo>
                      <a:pt x="425" y="461"/>
                    </a:lnTo>
                    <a:lnTo>
                      <a:pt x="498" y="534"/>
                    </a:lnTo>
                    <a:lnTo>
                      <a:pt x="515" y="517"/>
                    </a:lnTo>
                    <a:lnTo>
                      <a:pt x="442" y="444"/>
                    </a:lnTo>
                    <a:moveTo>
                      <a:pt x="335" y="335"/>
                    </a:moveTo>
                    <a:lnTo>
                      <a:pt x="319" y="352"/>
                    </a:lnTo>
                    <a:lnTo>
                      <a:pt x="392" y="428"/>
                    </a:lnTo>
                    <a:lnTo>
                      <a:pt x="409" y="411"/>
                    </a:lnTo>
                    <a:lnTo>
                      <a:pt x="335" y="335"/>
                    </a:lnTo>
                    <a:moveTo>
                      <a:pt x="0" y="0"/>
                    </a:moveTo>
                    <a:lnTo>
                      <a:pt x="0" y="35"/>
                    </a:lnTo>
                    <a:lnTo>
                      <a:pt x="302" y="335"/>
                    </a:lnTo>
                    <a:lnTo>
                      <a:pt x="319" y="3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796"/>
              <p:cNvSpPr/>
              <p:nvPr/>
            </p:nvSpPr>
            <p:spPr>
              <a:xfrm rot="5400000">
                <a:off x="4206600" y="47952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797"/>
              <p:cNvSpPr/>
              <p:nvPr/>
            </p:nvSpPr>
            <p:spPr>
              <a:xfrm rot="5400000">
                <a:off x="4206600" y="47952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98"/>
              <p:cNvSpPr/>
              <p:nvPr/>
            </p:nvSpPr>
            <p:spPr>
              <a:xfrm rot="5400000">
                <a:off x="3263760" y="123588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49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99"/>
              <p:cNvSpPr/>
              <p:nvPr/>
            </p:nvSpPr>
            <p:spPr>
              <a:xfrm rot="5400000">
                <a:off x="3263760" y="123588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16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49" y="35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800"/>
              <p:cNvSpPr/>
              <p:nvPr/>
            </p:nvSpPr>
            <p:spPr>
              <a:xfrm rot="5400000">
                <a:off x="2321280" y="19926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801"/>
              <p:cNvSpPr/>
              <p:nvPr/>
            </p:nvSpPr>
            <p:spPr>
              <a:xfrm rot="5400000">
                <a:off x="2321280" y="19926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2"/>
              <p:cNvSpPr/>
              <p:nvPr/>
            </p:nvSpPr>
            <p:spPr>
              <a:xfrm rot="5400000">
                <a:off x="1377360" y="275040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803"/>
              <p:cNvSpPr/>
              <p:nvPr/>
            </p:nvSpPr>
            <p:spPr>
              <a:xfrm rot="5400000">
                <a:off x="1377360" y="275040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16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49" y="3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04"/>
              <p:cNvSpPr/>
              <p:nvPr/>
            </p:nvSpPr>
            <p:spPr>
              <a:xfrm rot="5400000">
                <a:off x="432000" y="350604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05"/>
              <p:cNvSpPr/>
              <p:nvPr/>
            </p:nvSpPr>
            <p:spPr>
              <a:xfrm rot="5400000">
                <a:off x="432000" y="350604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6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806"/>
              <p:cNvSpPr/>
              <p:nvPr/>
            </p:nvSpPr>
            <p:spPr>
              <a:xfrm rot="5400000">
                <a:off x="4063680" y="614880"/>
                <a:ext cx="44640" cy="52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6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807"/>
              <p:cNvSpPr/>
              <p:nvPr/>
            </p:nvSpPr>
            <p:spPr>
              <a:xfrm rot="5400000">
                <a:off x="4063680" y="614880"/>
                <a:ext cx="44640" cy="52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6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1009"/>
            <p:cNvGrpSpPr/>
            <p:nvPr/>
          </p:nvGrpSpPr>
          <p:grpSpPr>
            <a:xfrm>
              <a:off x="0" y="0"/>
              <a:ext cx="12191760" cy="6857640"/>
              <a:chOff x="0" y="0"/>
              <a:chExt cx="12191760" cy="6857640"/>
            </a:xfrm>
          </p:grpSpPr>
          <p:sp>
            <p:nvSpPr>
              <p:cNvPr id="804" name="Freeform 809"/>
              <p:cNvSpPr/>
              <p:nvPr/>
            </p:nvSpPr>
            <p:spPr>
              <a:xfrm rot="5400000">
                <a:off x="3121560" y="13719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10"/>
              <p:cNvSpPr/>
              <p:nvPr/>
            </p:nvSpPr>
            <p:spPr>
              <a:xfrm rot="5400000">
                <a:off x="3121560" y="13719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11"/>
              <p:cNvSpPr/>
              <p:nvPr/>
            </p:nvSpPr>
            <p:spPr>
              <a:xfrm rot="5400000">
                <a:off x="2175120" y="2129040"/>
                <a:ext cx="44280" cy="50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6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812"/>
              <p:cNvSpPr/>
              <p:nvPr/>
            </p:nvSpPr>
            <p:spPr>
              <a:xfrm rot="5400000">
                <a:off x="2175120" y="2129040"/>
                <a:ext cx="44280" cy="50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19" y="0"/>
                    </a:moveTo>
                    <a:lnTo>
                      <a:pt x="0" y="17"/>
                    </a:lnTo>
                    <a:lnTo>
                      <a:pt x="19" y="33"/>
                    </a:lnTo>
                    <a:lnTo>
                      <a:pt x="36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813"/>
              <p:cNvSpPr/>
              <p:nvPr/>
            </p:nvSpPr>
            <p:spPr>
              <a:xfrm rot="5400000">
                <a:off x="1235520" y="288468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814"/>
              <p:cNvSpPr/>
              <p:nvPr/>
            </p:nvSpPr>
            <p:spPr>
              <a:xfrm rot="5400000">
                <a:off x="1235520" y="288468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815"/>
              <p:cNvSpPr/>
              <p:nvPr/>
            </p:nvSpPr>
            <p:spPr>
              <a:xfrm rot="5400000">
                <a:off x="290160" y="364248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7"/>
                    </a:lnTo>
                    <a:lnTo>
                      <a:pt x="18" y="33"/>
                    </a:lnTo>
                    <a:lnTo>
                      <a:pt x="35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816"/>
              <p:cNvSpPr/>
              <p:nvPr/>
            </p:nvSpPr>
            <p:spPr>
              <a:xfrm rot="5400000">
                <a:off x="290160" y="3642480"/>
                <a:ext cx="43200" cy="50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8" y="0"/>
                    </a:moveTo>
                    <a:lnTo>
                      <a:pt x="0" y="17"/>
                    </a:lnTo>
                    <a:lnTo>
                      <a:pt x="18" y="33"/>
                    </a:lnTo>
                    <a:lnTo>
                      <a:pt x="35" y="17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817"/>
              <p:cNvSpPr/>
              <p:nvPr/>
            </p:nvSpPr>
            <p:spPr>
              <a:xfrm rot="5400000">
                <a:off x="4372920" y="370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818"/>
              <p:cNvSpPr/>
              <p:nvPr/>
            </p:nvSpPr>
            <p:spPr>
              <a:xfrm rot="5400000">
                <a:off x="4372920" y="37008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819"/>
              <p:cNvSpPr/>
              <p:nvPr/>
            </p:nvSpPr>
            <p:spPr>
              <a:xfrm rot="5400000">
                <a:off x="3428640" y="11260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820"/>
              <p:cNvSpPr/>
              <p:nvPr/>
            </p:nvSpPr>
            <p:spPr>
              <a:xfrm rot="5400000">
                <a:off x="3428640" y="11260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821"/>
              <p:cNvSpPr/>
              <p:nvPr/>
            </p:nvSpPr>
            <p:spPr>
              <a:xfrm rot="5400000">
                <a:off x="2483280" y="18831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822"/>
              <p:cNvSpPr/>
              <p:nvPr/>
            </p:nvSpPr>
            <p:spPr>
              <a:xfrm rot="5400000">
                <a:off x="2483280" y="188316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823"/>
              <p:cNvSpPr/>
              <p:nvPr/>
            </p:nvSpPr>
            <p:spPr>
              <a:xfrm rot="5400000">
                <a:off x="1541520" y="263772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9"/>
                    </a:lnTo>
                    <a:lnTo>
                      <a:pt x="16" y="35"/>
                    </a:lnTo>
                    <a:lnTo>
                      <a:pt x="33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824"/>
              <p:cNvSpPr/>
              <p:nvPr/>
            </p:nvSpPr>
            <p:spPr>
              <a:xfrm rot="5400000">
                <a:off x="1541520" y="263772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6" y="0"/>
                    </a:moveTo>
                    <a:lnTo>
                      <a:pt x="0" y="19"/>
                    </a:lnTo>
                    <a:lnTo>
                      <a:pt x="16" y="35"/>
                    </a:lnTo>
                    <a:lnTo>
                      <a:pt x="33" y="19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825"/>
              <p:cNvSpPr/>
              <p:nvPr/>
            </p:nvSpPr>
            <p:spPr>
              <a:xfrm rot="5400000">
                <a:off x="598320" y="3396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826"/>
              <p:cNvSpPr/>
              <p:nvPr/>
            </p:nvSpPr>
            <p:spPr>
              <a:xfrm rot="5400000">
                <a:off x="598320" y="33966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827"/>
              <p:cNvSpPr/>
              <p:nvPr/>
            </p:nvSpPr>
            <p:spPr>
              <a:xfrm rot="5400000">
                <a:off x="300600" y="-300960"/>
                <a:ext cx="2423160" cy="3025080"/>
              </a:xfrm>
              <a:custGeom>
                <a:avLst/>
                <a:gdLst>
                  <a:gd name="textAreaLeft" fmla="*/ 0 w 2423160"/>
                  <a:gd name="textAreaRight" fmla="*/ 2423520 w 2423160"/>
                  <a:gd name="textAreaTop" fmla="*/ 0 h 3025080"/>
                  <a:gd name="textAreaBottom" fmla="*/ 3025440 h 3025080"/>
                </a:gdLst>
                <a:ahLst/>
                <a:rect l="textAreaLeft" t="textAreaTop" r="textAreaRight" b="textAreaBottom"/>
                <a:pathLst>
                  <a:path w="1949" h="1953">
                    <a:moveTo>
                      <a:pt x="1749" y="1752"/>
                    </a:moveTo>
                    <a:lnTo>
                      <a:pt x="1732" y="1768"/>
                    </a:lnTo>
                    <a:lnTo>
                      <a:pt x="1916" y="1953"/>
                    </a:lnTo>
                    <a:lnTo>
                      <a:pt x="1949" y="1953"/>
                    </a:lnTo>
                    <a:lnTo>
                      <a:pt x="1749" y="1752"/>
                    </a:lnTo>
                    <a:close/>
                    <a:moveTo>
                      <a:pt x="1659" y="1662"/>
                    </a:moveTo>
                    <a:lnTo>
                      <a:pt x="1642" y="1679"/>
                    </a:lnTo>
                    <a:lnTo>
                      <a:pt x="1715" y="1752"/>
                    </a:lnTo>
                    <a:lnTo>
                      <a:pt x="1732" y="1735"/>
                    </a:lnTo>
                    <a:lnTo>
                      <a:pt x="1659" y="1662"/>
                    </a:lnTo>
                    <a:close/>
                    <a:moveTo>
                      <a:pt x="1552" y="1553"/>
                    </a:moveTo>
                    <a:lnTo>
                      <a:pt x="1533" y="1570"/>
                    </a:lnTo>
                    <a:lnTo>
                      <a:pt x="1609" y="1643"/>
                    </a:lnTo>
                    <a:lnTo>
                      <a:pt x="1626" y="1627"/>
                    </a:lnTo>
                    <a:lnTo>
                      <a:pt x="1552" y="1553"/>
                    </a:lnTo>
                    <a:close/>
                    <a:moveTo>
                      <a:pt x="1141" y="1142"/>
                    </a:moveTo>
                    <a:lnTo>
                      <a:pt x="1125" y="1159"/>
                    </a:lnTo>
                    <a:lnTo>
                      <a:pt x="1517" y="1553"/>
                    </a:lnTo>
                    <a:lnTo>
                      <a:pt x="1533" y="1537"/>
                    </a:lnTo>
                    <a:lnTo>
                      <a:pt x="1141" y="1142"/>
                    </a:lnTo>
                    <a:close/>
                    <a:moveTo>
                      <a:pt x="1051" y="1052"/>
                    </a:moveTo>
                    <a:lnTo>
                      <a:pt x="1032" y="1069"/>
                    </a:lnTo>
                    <a:lnTo>
                      <a:pt x="1108" y="1142"/>
                    </a:lnTo>
                    <a:lnTo>
                      <a:pt x="1125" y="1125"/>
                    </a:lnTo>
                    <a:lnTo>
                      <a:pt x="1051" y="1052"/>
                    </a:lnTo>
                    <a:close/>
                    <a:moveTo>
                      <a:pt x="943" y="943"/>
                    </a:moveTo>
                    <a:lnTo>
                      <a:pt x="926" y="960"/>
                    </a:lnTo>
                    <a:lnTo>
                      <a:pt x="999" y="1036"/>
                    </a:lnTo>
                    <a:lnTo>
                      <a:pt x="1016" y="1019"/>
                    </a:lnTo>
                    <a:lnTo>
                      <a:pt x="943" y="943"/>
                    </a:lnTo>
                    <a:close/>
                    <a:moveTo>
                      <a:pt x="531" y="532"/>
                    </a:moveTo>
                    <a:lnTo>
                      <a:pt x="515" y="549"/>
                    </a:lnTo>
                    <a:lnTo>
                      <a:pt x="910" y="943"/>
                    </a:lnTo>
                    <a:lnTo>
                      <a:pt x="926" y="927"/>
                    </a:lnTo>
                    <a:lnTo>
                      <a:pt x="531" y="532"/>
                    </a:lnTo>
                    <a:close/>
                    <a:moveTo>
                      <a:pt x="442" y="442"/>
                    </a:moveTo>
                    <a:lnTo>
                      <a:pt x="425" y="459"/>
                    </a:lnTo>
                    <a:lnTo>
                      <a:pt x="498" y="532"/>
                    </a:lnTo>
                    <a:lnTo>
                      <a:pt x="515" y="516"/>
                    </a:lnTo>
                    <a:lnTo>
                      <a:pt x="442" y="442"/>
                    </a:lnTo>
                    <a:close/>
                    <a:moveTo>
                      <a:pt x="335" y="334"/>
                    </a:moveTo>
                    <a:lnTo>
                      <a:pt x="316" y="353"/>
                    </a:lnTo>
                    <a:lnTo>
                      <a:pt x="392" y="426"/>
                    </a:lnTo>
                    <a:lnTo>
                      <a:pt x="409" y="409"/>
                    </a:lnTo>
                    <a:lnTo>
                      <a:pt x="335" y="334"/>
                    </a:lnTo>
                    <a:close/>
                    <a:moveTo>
                      <a:pt x="0" y="0"/>
                    </a:moveTo>
                    <a:lnTo>
                      <a:pt x="0" y="34"/>
                    </a:lnTo>
                    <a:lnTo>
                      <a:pt x="300" y="334"/>
                    </a:lnTo>
                    <a:lnTo>
                      <a:pt x="316" y="3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828"/>
              <p:cNvSpPr/>
              <p:nvPr/>
            </p:nvSpPr>
            <p:spPr>
              <a:xfrm rot="5400000">
                <a:off x="300600" y="-300960"/>
                <a:ext cx="2423160" cy="3025080"/>
              </a:xfrm>
              <a:custGeom>
                <a:avLst/>
                <a:gdLst>
                  <a:gd name="textAreaLeft" fmla="*/ 0 w 2423160"/>
                  <a:gd name="textAreaRight" fmla="*/ 2423520 w 2423160"/>
                  <a:gd name="textAreaTop" fmla="*/ 0 h 3025080"/>
                  <a:gd name="textAreaBottom" fmla="*/ 3025440 h 3025080"/>
                </a:gdLst>
                <a:ahLst/>
                <a:rect l="textAreaLeft" t="textAreaTop" r="textAreaRight" b="textAreaBottom"/>
                <a:pathLst>
                  <a:path w="1949" h="1953">
                    <a:moveTo>
                      <a:pt x="1749" y="1752"/>
                    </a:moveTo>
                    <a:lnTo>
                      <a:pt x="1732" y="1768"/>
                    </a:lnTo>
                    <a:lnTo>
                      <a:pt x="1916" y="1953"/>
                    </a:lnTo>
                    <a:lnTo>
                      <a:pt x="1949" y="1953"/>
                    </a:lnTo>
                    <a:lnTo>
                      <a:pt x="1749" y="1752"/>
                    </a:lnTo>
                    <a:moveTo>
                      <a:pt x="1659" y="1662"/>
                    </a:moveTo>
                    <a:lnTo>
                      <a:pt x="1642" y="1679"/>
                    </a:lnTo>
                    <a:lnTo>
                      <a:pt x="1715" y="1752"/>
                    </a:lnTo>
                    <a:lnTo>
                      <a:pt x="1732" y="1735"/>
                    </a:lnTo>
                    <a:lnTo>
                      <a:pt x="1659" y="1662"/>
                    </a:lnTo>
                    <a:moveTo>
                      <a:pt x="1552" y="1553"/>
                    </a:moveTo>
                    <a:lnTo>
                      <a:pt x="1533" y="1570"/>
                    </a:lnTo>
                    <a:lnTo>
                      <a:pt x="1609" y="1643"/>
                    </a:lnTo>
                    <a:lnTo>
                      <a:pt x="1626" y="1627"/>
                    </a:lnTo>
                    <a:lnTo>
                      <a:pt x="1552" y="1553"/>
                    </a:lnTo>
                    <a:moveTo>
                      <a:pt x="1141" y="1142"/>
                    </a:moveTo>
                    <a:lnTo>
                      <a:pt x="1125" y="1159"/>
                    </a:lnTo>
                    <a:lnTo>
                      <a:pt x="1517" y="1553"/>
                    </a:lnTo>
                    <a:lnTo>
                      <a:pt x="1533" y="1537"/>
                    </a:lnTo>
                    <a:lnTo>
                      <a:pt x="1141" y="1142"/>
                    </a:lnTo>
                    <a:moveTo>
                      <a:pt x="1051" y="1052"/>
                    </a:moveTo>
                    <a:lnTo>
                      <a:pt x="1032" y="1069"/>
                    </a:lnTo>
                    <a:lnTo>
                      <a:pt x="1108" y="1142"/>
                    </a:lnTo>
                    <a:lnTo>
                      <a:pt x="1125" y="1125"/>
                    </a:lnTo>
                    <a:lnTo>
                      <a:pt x="1051" y="1052"/>
                    </a:lnTo>
                    <a:moveTo>
                      <a:pt x="943" y="943"/>
                    </a:moveTo>
                    <a:lnTo>
                      <a:pt x="926" y="960"/>
                    </a:lnTo>
                    <a:lnTo>
                      <a:pt x="999" y="1036"/>
                    </a:lnTo>
                    <a:lnTo>
                      <a:pt x="1016" y="1019"/>
                    </a:lnTo>
                    <a:lnTo>
                      <a:pt x="943" y="943"/>
                    </a:lnTo>
                    <a:moveTo>
                      <a:pt x="531" y="532"/>
                    </a:moveTo>
                    <a:lnTo>
                      <a:pt x="515" y="549"/>
                    </a:lnTo>
                    <a:lnTo>
                      <a:pt x="910" y="943"/>
                    </a:lnTo>
                    <a:lnTo>
                      <a:pt x="926" y="927"/>
                    </a:lnTo>
                    <a:lnTo>
                      <a:pt x="531" y="532"/>
                    </a:lnTo>
                    <a:moveTo>
                      <a:pt x="442" y="442"/>
                    </a:moveTo>
                    <a:lnTo>
                      <a:pt x="425" y="459"/>
                    </a:lnTo>
                    <a:lnTo>
                      <a:pt x="498" y="532"/>
                    </a:lnTo>
                    <a:lnTo>
                      <a:pt x="515" y="516"/>
                    </a:lnTo>
                    <a:lnTo>
                      <a:pt x="442" y="442"/>
                    </a:lnTo>
                    <a:moveTo>
                      <a:pt x="335" y="334"/>
                    </a:moveTo>
                    <a:lnTo>
                      <a:pt x="316" y="353"/>
                    </a:lnTo>
                    <a:lnTo>
                      <a:pt x="392" y="426"/>
                    </a:lnTo>
                    <a:lnTo>
                      <a:pt x="409" y="409"/>
                    </a:lnTo>
                    <a:lnTo>
                      <a:pt x="335" y="334"/>
                    </a:lnTo>
                    <a:moveTo>
                      <a:pt x="0" y="0"/>
                    </a:moveTo>
                    <a:lnTo>
                      <a:pt x="0" y="34"/>
                    </a:lnTo>
                    <a:lnTo>
                      <a:pt x="300" y="334"/>
                    </a:lnTo>
                    <a:lnTo>
                      <a:pt x="316" y="3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829"/>
              <p:cNvSpPr/>
              <p:nvPr/>
            </p:nvSpPr>
            <p:spPr>
              <a:xfrm rot="5400000">
                <a:off x="2321640" y="47952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830"/>
              <p:cNvSpPr/>
              <p:nvPr/>
            </p:nvSpPr>
            <p:spPr>
              <a:xfrm rot="5400000">
                <a:off x="2321640" y="47952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831"/>
              <p:cNvSpPr/>
              <p:nvPr/>
            </p:nvSpPr>
            <p:spPr>
              <a:xfrm rot="5400000">
                <a:off x="1375560" y="12351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2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832"/>
              <p:cNvSpPr/>
              <p:nvPr/>
            </p:nvSpPr>
            <p:spPr>
              <a:xfrm rot="5400000">
                <a:off x="1375560" y="12351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17" y="0"/>
                    </a:moveTo>
                    <a:lnTo>
                      <a:pt x="0" y="17"/>
                    </a:lnTo>
                    <a:lnTo>
                      <a:pt x="33" y="50"/>
                    </a:lnTo>
                    <a:lnTo>
                      <a:pt x="52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833"/>
              <p:cNvSpPr/>
              <p:nvPr/>
            </p:nvSpPr>
            <p:spPr>
              <a:xfrm rot="5400000">
                <a:off x="433440" y="1990800"/>
                <a:ext cx="62280" cy="80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834"/>
              <p:cNvSpPr/>
              <p:nvPr/>
            </p:nvSpPr>
            <p:spPr>
              <a:xfrm rot="5400000">
                <a:off x="433440" y="1990800"/>
                <a:ext cx="62280" cy="80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7" y="0"/>
                    </a:moveTo>
                    <a:lnTo>
                      <a:pt x="0" y="16"/>
                    </a:lnTo>
                    <a:lnTo>
                      <a:pt x="33" y="52"/>
                    </a:lnTo>
                    <a:lnTo>
                      <a:pt x="50" y="3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835"/>
              <p:cNvSpPr/>
              <p:nvPr/>
            </p:nvSpPr>
            <p:spPr>
              <a:xfrm rot="5400000">
                <a:off x="2179800" y="6138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836"/>
              <p:cNvSpPr/>
              <p:nvPr/>
            </p:nvSpPr>
            <p:spPr>
              <a:xfrm rot="5400000">
                <a:off x="2179800" y="613800"/>
                <a:ext cx="41040" cy="51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0"/>
                    </a:moveTo>
                    <a:lnTo>
                      <a:pt x="0" y="16"/>
                    </a:lnTo>
                    <a:lnTo>
                      <a:pt x="17" y="33"/>
                    </a:lnTo>
                    <a:lnTo>
                      <a:pt x="33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837"/>
              <p:cNvSpPr/>
              <p:nvPr/>
            </p:nvSpPr>
            <p:spPr>
              <a:xfrm rot="5400000">
                <a:off x="1235520" y="137124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838"/>
              <p:cNvSpPr/>
              <p:nvPr/>
            </p:nvSpPr>
            <p:spPr>
              <a:xfrm rot="5400000">
                <a:off x="1235520" y="1371240"/>
                <a:ext cx="40680" cy="52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17" y="0"/>
                    </a:moveTo>
                    <a:lnTo>
                      <a:pt x="0" y="17"/>
                    </a:lnTo>
                    <a:lnTo>
                      <a:pt x="17" y="34"/>
                    </a:lnTo>
                    <a:lnTo>
                      <a:pt x="33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839"/>
              <p:cNvSpPr/>
              <p:nvPr/>
            </p:nvSpPr>
            <p:spPr>
              <a:xfrm rot="5400000">
                <a:off x="290880" y="2127960"/>
                <a:ext cx="42120" cy="50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840"/>
              <p:cNvSpPr/>
              <p:nvPr/>
            </p:nvSpPr>
            <p:spPr>
              <a:xfrm rot="5400000">
                <a:off x="290880" y="2127960"/>
                <a:ext cx="42120" cy="50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17" y="0"/>
                    </a:moveTo>
                    <a:lnTo>
                      <a:pt x="0" y="17"/>
                    </a:lnTo>
                    <a:lnTo>
                      <a:pt x="17" y="33"/>
                    </a:lnTo>
                    <a:lnTo>
                      <a:pt x="34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841"/>
              <p:cNvSpPr/>
              <p:nvPr/>
            </p:nvSpPr>
            <p:spPr>
              <a:xfrm rot="5400000">
                <a:off x="2484360" y="366840"/>
                <a:ext cx="43200" cy="55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16" y="0"/>
                    </a:moveTo>
                    <a:lnTo>
                      <a:pt x="0" y="17"/>
                    </a:lnTo>
                    <a:lnTo>
                      <a:pt x="16" y="36"/>
                    </a:lnTo>
                    <a:lnTo>
                      <a:pt x="35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842"/>
              <p:cNvSpPr/>
              <p:nvPr/>
            </p:nvSpPr>
            <p:spPr>
              <a:xfrm rot="5400000">
                <a:off x="2484360" y="366840"/>
                <a:ext cx="43200" cy="55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16" y="0"/>
                    </a:moveTo>
                    <a:lnTo>
                      <a:pt x="0" y="17"/>
                    </a:lnTo>
                    <a:lnTo>
                      <a:pt x="16" y="36"/>
                    </a:lnTo>
                    <a:lnTo>
                      <a:pt x="35" y="1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843"/>
              <p:cNvSpPr/>
              <p:nvPr/>
            </p:nvSpPr>
            <p:spPr>
              <a:xfrm rot="5400000">
                <a:off x="1543320" y="11260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844"/>
              <p:cNvSpPr/>
              <p:nvPr/>
            </p:nvSpPr>
            <p:spPr>
              <a:xfrm rot="5400000">
                <a:off x="1543320" y="1126080"/>
                <a:ext cx="40680" cy="50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845"/>
              <p:cNvSpPr/>
              <p:nvPr/>
            </p:nvSpPr>
            <p:spPr>
              <a:xfrm rot="5400000">
                <a:off x="597240" y="188208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846"/>
              <p:cNvSpPr/>
              <p:nvPr/>
            </p:nvSpPr>
            <p:spPr>
              <a:xfrm rot="5400000">
                <a:off x="597240" y="1882080"/>
                <a:ext cx="43200" cy="5112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5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847"/>
              <p:cNvSpPr/>
              <p:nvPr/>
            </p:nvSpPr>
            <p:spPr>
              <a:xfrm rot="5400000">
                <a:off x="114120" y="-114120"/>
                <a:ext cx="910080" cy="1138320"/>
              </a:xfrm>
              <a:custGeom>
                <a:avLst/>
                <a:gdLst>
                  <a:gd name="textAreaLeft" fmla="*/ 0 w 910080"/>
                  <a:gd name="textAreaRight" fmla="*/ 910440 w 91008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732" h="735">
                    <a:moveTo>
                      <a:pt x="531" y="534"/>
                    </a:moveTo>
                    <a:lnTo>
                      <a:pt x="515" y="550"/>
                    </a:lnTo>
                    <a:lnTo>
                      <a:pt x="699" y="735"/>
                    </a:lnTo>
                    <a:lnTo>
                      <a:pt x="732" y="735"/>
                    </a:lnTo>
                    <a:lnTo>
                      <a:pt x="531" y="534"/>
                    </a:lnTo>
                    <a:close/>
                    <a:moveTo>
                      <a:pt x="442" y="442"/>
                    </a:moveTo>
                    <a:lnTo>
                      <a:pt x="425" y="458"/>
                    </a:lnTo>
                    <a:lnTo>
                      <a:pt x="498" y="534"/>
                    </a:lnTo>
                    <a:lnTo>
                      <a:pt x="515" y="515"/>
                    </a:lnTo>
                    <a:lnTo>
                      <a:pt x="442" y="442"/>
                    </a:lnTo>
                    <a:close/>
                    <a:moveTo>
                      <a:pt x="333" y="335"/>
                    </a:moveTo>
                    <a:lnTo>
                      <a:pt x="316" y="352"/>
                    </a:lnTo>
                    <a:lnTo>
                      <a:pt x="392" y="425"/>
                    </a:lnTo>
                    <a:lnTo>
                      <a:pt x="409" y="409"/>
                    </a:lnTo>
                    <a:lnTo>
                      <a:pt x="333" y="335"/>
                    </a:lnTo>
                    <a:close/>
                    <a:moveTo>
                      <a:pt x="0" y="0"/>
                    </a:moveTo>
                    <a:lnTo>
                      <a:pt x="0" y="35"/>
                    </a:lnTo>
                    <a:lnTo>
                      <a:pt x="300" y="335"/>
                    </a:lnTo>
                    <a:lnTo>
                      <a:pt x="316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848"/>
              <p:cNvSpPr/>
              <p:nvPr/>
            </p:nvSpPr>
            <p:spPr>
              <a:xfrm rot="5400000">
                <a:off x="114120" y="-114120"/>
                <a:ext cx="910080" cy="1138320"/>
              </a:xfrm>
              <a:custGeom>
                <a:avLst/>
                <a:gdLst>
                  <a:gd name="textAreaLeft" fmla="*/ 0 w 910080"/>
                  <a:gd name="textAreaRight" fmla="*/ 910440 w 91008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732" h="735">
                    <a:moveTo>
                      <a:pt x="531" y="534"/>
                    </a:moveTo>
                    <a:lnTo>
                      <a:pt x="515" y="550"/>
                    </a:lnTo>
                    <a:lnTo>
                      <a:pt x="699" y="735"/>
                    </a:lnTo>
                    <a:lnTo>
                      <a:pt x="732" y="735"/>
                    </a:lnTo>
                    <a:lnTo>
                      <a:pt x="531" y="534"/>
                    </a:lnTo>
                    <a:moveTo>
                      <a:pt x="442" y="442"/>
                    </a:moveTo>
                    <a:lnTo>
                      <a:pt x="425" y="458"/>
                    </a:lnTo>
                    <a:lnTo>
                      <a:pt x="498" y="534"/>
                    </a:lnTo>
                    <a:lnTo>
                      <a:pt x="515" y="515"/>
                    </a:lnTo>
                    <a:lnTo>
                      <a:pt x="442" y="442"/>
                    </a:lnTo>
                    <a:moveTo>
                      <a:pt x="333" y="335"/>
                    </a:moveTo>
                    <a:lnTo>
                      <a:pt x="316" y="352"/>
                    </a:lnTo>
                    <a:lnTo>
                      <a:pt x="392" y="425"/>
                    </a:lnTo>
                    <a:lnTo>
                      <a:pt x="409" y="409"/>
                    </a:lnTo>
                    <a:lnTo>
                      <a:pt x="333" y="335"/>
                    </a:lnTo>
                    <a:moveTo>
                      <a:pt x="0" y="0"/>
                    </a:moveTo>
                    <a:lnTo>
                      <a:pt x="0" y="35"/>
                    </a:lnTo>
                    <a:lnTo>
                      <a:pt x="300" y="335"/>
                    </a:lnTo>
                    <a:lnTo>
                      <a:pt x="316" y="3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849"/>
              <p:cNvSpPr/>
              <p:nvPr/>
            </p:nvSpPr>
            <p:spPr>
              <a:xfrm rot="5400000">
                <a:off x="436320" y="48060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850"/>
              <p:cNvSpPr/>
              <p:nvPr/>
            </p:nvSpPr>
            <p:spPr>
              <a:xfrm rot="5400000">
                <a:off x="436320" y="48060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17" y="0"/>
                    </a:moveTo>
                    <a:lnTo>
                      <a:pt x="0" y="16"/>
                    </a:lnTo>
                    <a:lnTo>
                      <a:pt x="33" y="49"/>
                    </a:lnTo>
                    <a:lnTo>
                      <a:pt x="50" y="3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851"/>
              <p:cNvSpPr/>
              <p:nvPr/>
            </p:nvSpPr>
            <p:spPr>
              <a:xfrm rot="5400000">
                <a:off x="293040" y="61236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9"/>
                    </a:lnTo>
                    <a:lnTo>
                      <a:pt x="17" y="35"/>
                    </a:lnTo>
                    <a:lnTo>
                      <a:pt x="33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852"/>
              <p:cNvSpPr/>
              <p:nvPr/>
            </p:nvSpPr>
            <p:spPr>
              <a:xfrm rot="5400000">
                <a:off x="293040" y="612360"/>
                <a:ext cx="41040" cy="54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7" y="0"/>
                    </a:moveTo>
                    <a:lnTo>
                      <a:pt x="0" y="19"/>
                    </a:lnTo>
                    <a:lnTo>
                      <a:pt x="17" y="35"/>
                    </a:lnTo>
                    <a:lnTo>
                      <a:pt x="33" y="19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853"/>
              <p:cNvSpPr/>
              <p:nvPr/>
            </p:nvSpPr>
            <p:spPr>
              <a:xfrm rot="5400000">
                <a:off x="598320" y="367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ae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854"/>
              <p:cNvSpPr/>
              <p:nvPr/>
            </p:nvSpPr>
            <p:spPr>
              <a:xfrm rot="5400000">
                <a:off x="598320" y="367560"/>
                <a:ext cx="40680" cy="511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6" y="0"/>
                    </a:moveTo>
                    <a:lnTo>
                      <a:pt x="0" y="16"/>
                    </a:lnTo>
                    <a:lnTo>
                      <a:pt x="16" y="33"/>
                    </a:lnTo>
                    <a:lnTo>
                      <a:pt x="33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855"/>
              <p:cNvSpPr/>
              <p:nvPr/>
            </p:nvSpPr>
            <p:spPr>
              <a:xfrm rot="5400000">
                <a:off x="11512800" y="5907960"/>
                <a:ext cx="625320" cy="732600"/>
              </a:xfrm>
              <a:custGeom>
                <a:avLst/>
                <a:gdLst>
                  <a:gd name="textAreaLeft" fmla="*/ 0 w 625320"/>
                  <a:gd name="textAreaRight" fmla="*/ 625680 w 625320"/>
                  <a:gd name="textAreaTop" fmla="*/ 0 h 732600"/>
                  <a:gd name="textAreaBottom" fmla="*/ 732960 h 732600"/>
                </a:gdLst>
                <a:ahLst/>
                <a:rect l="textAreaLeft" t="textAreaTop" r="textAreaRight" b="textAreaBottom"/>
                <a:pathLst>
                  <a:path w="503" h="473">
                    <a:moveTo>
                      <a:pt x="430" y="364"/>
                    </a:moveTo>
                    <a:lnTo>
                      <a:pt x="397" y="397"/>
                    </a:lnTo>
                    <a:lnTo>
                      <a:pt x="470" y="473"/>
                    </a:lnTo>
                    <a:lnTo>
                      <a:pt x="503" y="437"/>
                    </a:lnTo>
                    <a:lnTo>
                      <a:pt x="430" y="364"/>
                    </a:lnTo>
                    <a:close/>
                    <a:moveTo>
                      <a:pt x="324" y="258"/>
                    </a:moveTo>
                    <a:lnTo>
                      <a:pt x="291" y="291"/>
                    </a:lnTo>
                    <a:lnTo>
                      <a:pt x="364" y="364"/>
                    </a:lnTo>
                    <a:lnTo>
                      <a:pt x="397" y="331"/>
                    </a:lnTo>
                    <a:lnTo>
                      <a:pt x="324" y="258"/>
                    </a:lnTo>
                    <a:close/>
                    <a:moveTo>
                      <a:pt x="66" y="0"/>
                    </a:moveTo>
                    <a:lnTo>
                      <a:pt x="0" y="0"/>
                    </a:lnTo>
                    <a:lnTo>
                      <a:pt x="274" y="274"/>
                    </a:lnTo>
                    <a:lnTo>
                      <a:pt x="307" y="2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856"/>
              <p:cNvSpPr/>
              <p:nvPr/>
            </p:nvSpPr>
            <p:spPr>
              <a:xfrm rot="5400000">
                <a:off x="11512800" y="5907960"/>
                <a:ext cx="625320" cy="732600"/>
              </a:xfrm>
              <a:custGeom>
                <a:avLst/>
                <a:gdLst>
                  <a:gd name="textAreaLeft" fmla="*/ 0 w 625320"/>
                  <a:gd name="textAreaRight" fmla="*/ 625680 w 625320"/>
                  <a:gd name="textAreaTop" fmla="*/ 0 h 732600"/>
                  <a:gd name="textAreaBottom" fmla="*/ 732960 h 732600"/>
                </a:gdLst>
                <a:ahLst/>
                <a:rect l="textAreaLeft" t="textAreaTop" r="textAreaRight" b="textAreaBottom"/>
                <a:pathLst>
                  <a:path w="503" h="473">
                    <a:moveTo>
                      <a:pt x="430" y="364"/>
                    </a:moveTo>
                    <a:lnTo>
                      <a:pt x="397" y="397"/>
                    </a:lnTo>
                    <a:lnTo>
                      <a:pt x="470" y="473"/>
                    </a:lnTo>
                    <a:lnTo>
                      <a:pt x="503" y="437"/>
                    </a:lnTo>
                    <a:lnTo>
                      <a:pt x="430" y="364"/>
                    </a:lnTo>
                    <a:moveTo>
                      <a:pt x="324" y="258"/>
                    </a:moveTo>
                    <a:lnTo>
                      <a:pt x="291" y="291"/>
                    </a:lnTo>
                    <a:lnTo>
                      <a:pt x="364" y="364"/>
                    </a:lnTo>
                    <a:lnTo>
                      <a:pt x="397" y="331"/>
                    </a:lnTo>
                    <a:lnTo>
                      <a:pt x="324" y="258"/>
                    </a:lnTo>
                    <a:moveTo>
                      <a:pt x="66" y="0"/>
                    </a:moveTo>
                    <a:lnTo>
                      <a:pt x="0" y="0"/>
                    </a:lnTo>
                    <a:lnTo>
                      <a:pt x="274" y="274"/>
                    </a:lnTo>
                    <a:lnTo>
                      <a:pt x="307" y="241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857"/>
              <p:cNvSpPr/>
              <p:nvPr/>
            </p:nvSpPr>
            <p:spPr>
              <a:xfrm rot="5400000">
                <a:off x="11136240" y="6505560"/>
                <a:ext cx="290880" cy="41328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34" h="267">
                    <a:moveTo>
                      <a:pt x="35" y="0"/>
                    </a:moveTo>
                    <a:lnTo>
                      <a:pt x="0" y="35"/>
                    </a:lnTo>
                    <a:lnTo>
                      <a:pt x="234" y="267"/>
                    </a:lnTo>
                    <a:lnTo>
                      <a:pt x="234" y="20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858"/>
              <p:cNvSpPr/>
              <p:nvPr/>
            </p:nvSpPr>
            <p:spPr>
              <a:xfrm rot="5400000">
                <a:off x="11136240" y="6505560"/>
                <a:ext cx="290880" cy="41328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34" h="267">
                    <a:moveTo>
                      <a:pt x="35" y="0"/>
                    </a:moveTo>
                    <a:lnTo>
                      <a:pt x="0" y="35"/>
                    </a:lnTo>
                    <a:lnTo>
                      <a:pt x="234" y="267"/>
                    </a:lnTo>
                    <a:lnTo>
                      <a:pt x="234" y="20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859"/>
              <p:cNvSpPr/>
              <p:nvPr/>
            </p:nvSpPr>
            <p:spPr>
              <a:xfrm rot="5400000">
                <a:off x="11586960" y="64040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860"/>
              <p:cNvSpPr/>
              <p:nvPr/>
            </p:nvSpPr>
            <p:spPr>
              <a:xfrm rot="5400000">
                <a:off x="11586960" y="64040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861"/>
              <p:cNvSpPr/>
              <p:nvPr/>
            </p:nvSpPr>
            <p:spPr>
              <a:xfrm rot="5400000">
                <a:off x="11442240" y="653796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3" y="0"/>
                    </a:moveTo>
                    <a:lnTo>
                      <a:pt x="0" y="36"/>
                    </a:lnTo>
                    <a:lnTo>
                      <a:pt x="17" y="52"/>
                    </a:lnTo>
                    <a:lnTo>
                      <a:pt x="52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862"/>
              <p:cNvSpPr/>
              <p:nvPr/>
            </p:nvSpPr>
            <p:spPr>
              <a:xfrm rot="5400000">
                <a:off x="11442240" y="653796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3" y="0"/>
                    </a:moveTo>
                    <a:lnTo>
                      <a:pt x="0" y="36"/>
                    </a:lnTo>
                    <a:lnTo>
                      <a:pt x="17" y="52"/>
                    </a:lnTo>
                    <a:lnTo>
                      <a:pt x="52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863"/>
              <p:cNvSpPr/>
              <p:nvPr/>
            </p:nvSpPr>
            <p:spPr>
              <a:xfrm rot="5400000">
                <a:off x="11748600" y="629460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64"/>
              <p:cNvSpPr/>
              <p:nvPr/>
            </p:nvSpPr>
            <p:spPr>
              <a:xfrm rot="5400000">
                <a:off x="11748600" y="629460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865"/>
              <p:cNvSpPr/>
              <p:nvPr/>
            </p:nvSpPr>
            <p:spPr>
              <a:xfrm rot="5400000">
                <a:off x="9813600" y="4208760"/>
                <a:ext cx="2138400" cy="2617560"/>
              </a:xfrm>
              <a:custGeom>
                <a:avLst/>
                <a:gdLst>
                  <a:gd name="textAreaLeft" fmla="*/ 0 w 2138400"/>
                  <a:gd name="textAreaRight" fmla="*/ 2138760 w 2138400"/>
                  <a:gd name="textAreaTop" fmla="*/ 0 h 2617560"/>
                  <a:gd name="textAreaBottom" fmla="*/ 2617920 h 2617560"/>
                </a:gdLst>
                <a:ahLst/>
                <a:rect l="textAreaLeft" t="textAreaTop" r="textAreaRight" b="textAreaBottom"/>
                <a:pathLst>
                  <a:path w="1720" h="1690">
                    <a:moveTo>
                      <a:pt x="1647" y="1581"/>
                    </a:moveTo>
                    <a:lnTo>
                      <a:pt x="1614" y="1617"/>
                    </a:lnTo>
                    <a:lnTo>
                      <a:pt x="1687" y="1690"/>
                    </a:lnTo>
                    <a:lnTo>
                      <a:pt x="1720" y="1657"/>
                    </a:lnTo>
                    <a:lnTo>
                      <a:pt x="1647" y="1581"/>
                    </a:lnTo>
                    <a:close/>
                    <a:moveTo>
                      <a:pt x="1538" y="1475"/>
                    </a:moveTo>
                    <a:lnTo>
                      <a:pt x="1505" y="1508"/>
                    </a:lnTo>
                    <a:lnTo>
                      <a:pt x="1581" y="1581"/>
                    </a:lnTo>
                    <a:lnTo>
                      <a:pt x="1614" y="1548"/>
                    </a:lnTo>
                    <a:lnTo>
                      <a:pt x="1538" y="1475"/>
                    </a:lnTo>
                    <a:close/>
                    <a:moveTo>
                      <a:pt x="1129" y="1064"/>
                    </a:moveTo>
                    <a:lnTo>
                      <a:pt x="1096" y="1097"/>
                    </a:lnTo>
                    <a:lnTo>
                      <a:pt x="1489" y="1492"/>
                    </a:lnTo>
                    <a:lnTo>
                      <a:pt x="1522" y="1458"/>
                    </a:lnTo>
                    <a:lnTo>
                      <a:pt x="1129" y="1064"/>
                    </a:lnTo>
                    <a:close/>
                    <a:moveTo>
                      <a:pt x="1037" y="974"/>
                    </a:moveTo>
                    <a:lnTo>
                      <a:pt x="1004" y="1007"/>
                    </a:lnTo>
                    <a:lnTo>
                      <a:pt x="1077" y="1080"/>
                    </a:lnTo>
                    <a:lnTo>
                      <a:pt x="1113" y="1047"/>
                    </a:lnTo>
                    <a:lnTo>
                      <a:pt x="1037" y="974"/>
                    </a:lnTo>
                    <a:close/>
                    <a:moveTo>
                      <a:pt x="931" y="865"/>
                    </a:moveTo>
                    <a:lnTo>
                      <a:pt x="898" y="898"/>
                    </a:lnTo>
                    <a:lnTo>
                      <a:pt x="971" y="974"/>
                    </a:lnTo>
                    <a:lnTo>
                      <a:pt x="1004" y="941"/>
                    </a:lnTo>
                    <a:lnTo>
                      <a:pt x="931" y="865"/>
                    </a:lnTo>
                    <a:close/>
                    <a:moveTo>
                      <a:pt x="520" y="454"/>
                    </a:moveTo>
                    <a:lnTo>
                      <a:pt x="487" y="487"/>
                    </a:lnTo>
                    <a:lnTo>
                      <a:pt x="881" y="882"/>
                    </a:lnTo>
                    <a:lnTo>
                      <a:pt x="914" y="849"/>
                    </a:lnTo>
                    <a:lnTo>
                      <a:pt x="520" y="454"/>
                    </a:lnTo>
                    <a:close/>
                    <a:moveTo>
                      <a:pt x="430" y="364"/>
                    </a:moveTo>
                    <a:lnTo>
                      <a:pt x="397" y="397"/>
                    </a:lnTo>
                    <a:lnTo>
                      <a:pt x="470" y="471"/>
                    </a:lnTo>
                    <a:lnTo>
                      <a:pt x="503" y="437"/>
                    </a:lnTo>
                    <a:lnTo>
                      <a:pt x="430" y="364"/>
                    </a:lnTo>
                    <a:close/>
                    <a:moveTo>
                      <a:pt x="321" y="255"/>
                    </a:moveTo>
                    <a:lnTo>
                      <a:pt x="288" y="289"/>
                    </a:lnTo>
                    <a:lnTo>
                      <a:pt x="364" y="364"/>
                    </a:lnTo>
                    <a:lnTo>
                      <a:pt x="397" y="331"/>
                    </a:lnTo>
                    <a:lnTo>
                      <a:pt x="321" y="255"/>
                    </a:lnTo>
                    <a:close/>
                    <a:moveTo>
                      <a:pt x="66" y="0"/>
                    </a:moveTo>
                    <a:lnTo>
                      <a:pt x="0" y="0"/>
                    </a:lnTo>
                    <a:lnTo>
                      <a:pt x="272" y="272"/>
                    </a:lnTo>
                    <a:lnTo>
                      <a:pt x="305" y="239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866"/>
              <p:cNvSpPr/>
              <p:nvPr/>
            </p:nvSpPr>
            <p:spPr>
              <a:xfrm rot="5400000">
                <a:off x="9813600" y="4208760"/>
                <a:ext cx="2138400" cy="2617560"/>
              </a:xfrm>
              <a:custGeom>
                <a:avLst/>
                <a:gdLst>
                  <a:gd name="textAreaLeft" fmla="*/ 0 w 2138400"/>
                  <a:gd name="textAreaRight" fmla="*/ 2138760 w 2138400"/>
                  <a:gd name="textAreaTop" fmla="*/ 0 h 2617560"/>
                  <a:gd name="textAreaBottom" fmla="*/ 2617920 h 2617560"/>
                </a:gdLst>
                <a:ahLst/>
                <a:rect l="textAreaLeft" t="textAreaTop" r="textAreaRight" b="textAreaBottom"/>
                <a:pathLst>
                  <a:path w="1720" h="1690">
                    <a:moveTo>
                      <a:pt x="1647" y="1581"/>
                    </a:moveTo>
                    <a:lnTo>
                      <a:pt x="1614" y="1617"/>
                    </a:lnTo>
                    <a:lnTo>
                      <a:pt x="1687" y="1690"/>
                    </a:lnTo>
                    <a:lnTo>
                      <a:pt x="1720" y="1657"/>
                    </a:lnTo>
                    <a:lnTo>
                      <a:pt x="1647" y="1581"/>
                    </a:lnTo>
                    <a:moveTo>
                      <a:pt x="1538" y="1475"/>
                    </a:moveTo>
                    <a:lnTo>
                      <a:pt x="1505" y="1508"/>
                    </a:lnTo>
                    <a:lnTo>
                      <a:pt x="1581" y="1581"/>
                    </a:lnTo>
                    <a:lnTo>
                      <a:pt x="1614" y="1548"/>
                    </a:lnTo>
                    <a:lnTo>
                      <a:pt x="1538" y="1475"/>
                    </a:lnTo>
                    <a:moveTo>
                      <a:pt x="1129" y="1064"/>
                    </a:moveTo>
                    <a:lnTo>
                      <a:pt x="1096" y="1097"/>
                    </a:lnTo>
                    <a:lnTo>
                      <a:pt x="1489" y="1492"/>
                    </a:lnTo>
                    <a:lnTo>
                      <a:pt x="1522" y="1458"/>
                    </a:lnTo>
                    <a:lnTo>
                      <a:pt x="1129" y="1064"/>
                    </a:lnTo>
                    <a:moveTo>
                      <a:pt x="1037" y="974"/>
                    </a:moveTo>
                    <a:lnTo>
                      <a:pt x="1004" y="1007"/>
                    </a:lnTo>
                    <a:lnTo>
                      <a:pt x="1077" y="1080"/>
                    </a:lnTo>
                    <a:lnTo>
                      <a:pt x="1113" y="1047"/>
                    </a:lnTo>
                    <a:lnTo>
                      <a:pt x="1037" y="974"/>
                    </a:lnTo>
                    <a:moveTo>
                      <a:pt x="931" y="865"/>
                    </a:moveTo>
                    <a:lnTo>
                      <a:pt x="898" y="898"/>
                    </a:lnTo>
                    <a:lnTo>
                      <a:pt x="971" y="974"/>
                    </a:lnTo>
                    <a:lnTo>
                      <a:pt x="1004" y="941"/>
                    </a:lnTo>
                    <a:lnTo>
                      <a:pt x="931" y="865"/>
                    </a:lnTo>
                    <a:moveTo>
                      <a:pt x="520" y="454"/>
                    </a:moveTo>
                    <a:lnTo>
                      <a:pt x="487" y="487"/>
                    </a:lnTo>
                    <a:lnTo>
                      <a:pt x="881" y="882"/>
                    </a:lnTo>
                    <a:lnTo>
                      <a:pt x="914" y="849"/>
                    </a:lnTo>
                    <a:lnTo>
                      <a:pt x="520" y="454"/>
                    </a:lnTo>
                    <a:moveTo>
                      <a:pt x="430" y="364"/>
                    </a:moveTo>
                    <a:lnTo>
                      <a:pt x="397" y="397"/>
                    </a:lnTo>
                    <a:lnTo>
                      <a:pt x="470" y="471"/>
                    </a:lnTo>
                    <a:lnTo>
                      <a:pt x="503" y="437"/>
                    </a:lnTo>
                    <a:lnTo>
                      <a:pt x="430" y="364"/>
                    </a:lnTo>
                    <a:moveTo>
                      <a:pt x="321" y="255"/>
                    </a:moveTo>
                    <a:lnTo>
                      <a:pt x="288" y="289"/>
                    </a:lnTo>
                    <a:lnTo>
                      <a:pt x="364" y="364"/>
                    </a:lnTo>
                    <a:lnTo>
                      <a:pt x="397" y="331"/>
                    </a:lnTo>
                    <a:lnTo>
                      <a:pt x="321" y="255"/>
                    </a:lnTo>
                    <a:moveTo>
                      <a:pt x="66" y="0"/>
                    </a:moveTo>
                    <a:lnTo>
                      <a:pt x="0" y="0"/>
                    </a:lnTo>
                    <a:lnTo>
                      <a:pt x="272" y="272"/>
                    </a:lnTo>
                    <a:lnTo>
                      <a:pt x="305" y="239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867"/>
              <p:cNvSpPr/>
              <p:nvPr/>
            </p:nvSpPr>
            <p:spPr>
              <a:xfrm rot="5400000">
                <a:off x="9246600" y="6505560"/>
                <a:ext cx="290880" cy="41328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34" h="267">
                    <a:moveTo>
                      <a:pt x="33" y="0"/>
                    </a:moveTo>
                    <a:lnTo>
                      <a:pt x="0" y="33"/>
                    </a:lnTo>
                    <a:lnTo>
                      <a:pt x="234" y="267"/>
                    </a:lnTo>
                    <a:lnTo>
                      <a:pt x="234" y="20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868"/>
              <p:cNvSpPr/>
              <p:nvPr/>
            </p:nvSpPr>
            <p:spPr>
              <a:xfrm rot="5400000">
                <a:off x="9246600" y="6505560"/>
                <a:ext cx="290880" cy="41328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34" h="267">
                    <a:moveTo>
                      <a:pt x="33" y="0"/>
                    </a:moveTo>
                    <a:lnTo>
                      <a:pt x="0" y="33"/>
                    </a:lnTo>
                    <a:lnTo>
                      <a:pt x="234" y="267"/>
                    </a:lnTo>
                    <a:lnTo>
                      <a:pt x="234" y="20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869"/>
              <p:cNvSpPr/>
              <p:nvPr/>
            </p:nvSpPr>
            <p:spPr>
              <a:xfrm rot="5400000">
                <a:off x="11586960" y="48909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870"/>
              <p:cNvSpPr/>
              <p:nvPr/>
            </p:nvSpPr>
            <p:spPr>
              <a:xfrm rot="5400000">
                <a:off x="11586960" y="48909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871"/>
              <p:cNvSpPr/>
              <p:nvPr/>
            </p:nvSpPr>
            <p:spPr>
              <a:xfrm rot="5400000">
                <a:off x="10641960" y="56455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872"/>
              <p:cNvSpPr/>
              <p:nvPr/>
            </p:nvSpPr>
            <p:spPr>
              <a:xfrm rot="5400000">
                <a:off x="10641960" y="56455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873"/>
              <p:cNvSpPr/>
              <p:nvPr/>
            </p:nvSpPr>
            <p:spPr>
              <a:xfrm rot="5400000">
                <a:off x="9699480" y="6401520"/>
                <a:ext cx="81720" cy="106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6" h="69">
                    <a:moveTo>
                      <a:pt x="33" y="0"/>
                    </a:moveTo>
                    <a:lnTo>
                      <a:pt x="0" y="33"/>
                    </a:lnTo>
                    <a:lnTo>
                      <a:pt x="33" y="69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874"/>
              <p:cNvSpPr/>
              <p:nvPr/>
            </p:nvSpPr>
            <p:spPr>
              <a:xfrm rot="5400000">
                <a:off x="9699480" y="6401520"/>
                <a:ext cx="81720" cy="106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6" h="69">
                    <a:moveTo>
                      <a:pt x="33" y="0"/>
                    </a:moveTo>
                    <a:lnTo>
                      <a:pt x="0" y="33"/>
                    </a:lnTo>
                    <a:lnTo>
                      <a:pt x="33" y="69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875"/>
              <p:cNvSpPr/>
              <p:nvPr/>
            </p:nvSpPr>
            <p:spPr>
              <a:xfrm rot="5400000">
                <a:off x="11444760" y="50248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876"/>
              <p:cNvSpPr/>
              <p:nvPr/>
            </p:nvSpPr>
            <p:spPr>
              <a:xfrm rot="5400000">
                <a:off x="11444760" y="50248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877"/>
              <p:cNvSpPr/>
              <p:nvPr/>
            </p:nvSpPr>
            <p:spPr>
              <a:xfrm rot="5400000">
                <a:off x="10498680" y="5781240"/>
                <a:ext cx="64800" cy="77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3"/>
                    </a:lnTo>
                    <a:lnTo>
                      <a:pt x="19" y="50"/>
                    </a:lnTo>
                    <a:lnTo>
                      <a:pt x="52" y="1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878"/>
              <p:cNvSpPr/>
              <p:nvPr/>
            </p:nvSpPr>
            <p:spPr>
              <a:xfrm rot="5400000">
                <a:off x="10498680" y="5781240"/>
                <a:ext cx="64800" cy="77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3"/>
                    </a:lnTo>
                    <a:lnTo>
                      <a:pt x="19" y="50"/>
                    </a:lnTo>
                    <a:lnTo>
                      <a:pt x="52" y="17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879"/>
              <p:cNvSpPr/>
              <p:nvPr/>
            </p:nvSpPr>
            <p:spPr>
              <a:xfrm rot="5400000">
                <a:off x="9555120" y="65383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880"/>
              <p:cNvSpPr/>
              <p:nvPr/>
            </p:nvSpPr>
            <p:spPr>
              <a:xfrm rot="5400000">
                <a:off x="9555120" y="65383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881"/>
              <p:cNvSpPr/>
              <p:nvPr/>
            </p:nvSpPr>
            <p:spPr>
              <a:xfrm rot="5400000">
                <a:off x="11752200" y="47782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882"/>
              <p:cNvSpPr/>
              <p:nvPr/>
            </p:nvSpPr>
            <p:spPr>
              <a:xfrm rot="5400000">
                <a:off x="11752200" y="47782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883"/>
              <p:cNvSpPr/>
              <p:nvPr/>
            </p:nvSpPr>
            <p:spPr>
              <a:xfrm rot="5400000">
                <a:off x="10807560" y="553680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884"/>
              <p:cNvSpPr/>
              <p:nvPr/>
            </p:nvSpPr>
            <p:spPr>
              <a:xfrm rot="5400000">
                <a:off x="10807560" y="553680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885"/>
              <p:cNvSpPr/>
              <p:nvPr/>
            </p:nvSpPr>
            <p:spPr>
              <a:xfrm rot="5400000">
                <a:off x="9864000" y="629136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886"/>
              <p:cNvSpPr/>
              <p:nvPr/>
            </p:nvSpPr>
            <p:spPr>
              <a:xfrm rot="5400000">
                <a:off x="9864000" y="629136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87"/>
              <p:cNvSpPr/>
              <p:nvPr/>
            </p:nvSpPr>
            <p:spPr>
              <a:xfrm rot="5400000">
                <a:off x="8114400" y="2509200"/>
                <a:ext cx="3651480" cy="4502880"/>
              </a:xfrm>
              <a:custGeom>
                <a:avLst/>
                <a:gdLst>
                  <a:gd name="textAreaLeft" fmla="*/ 0 w 3651480"/>
                  <a:gd name="textAreaRight" fmla="*/ 3651840 w 3651480"/>
                  <a:gd name="textAreaTop" fmla="*/ 0 h 4502880"/>
                  <a:gd name="textAreaBottom" fmla="*/ 4503240 h 4502880"/>
                </a:gdLst>
                <a:ahLst/>
                <a:rect l="textAreaLeft" t="textAreaTop" r="textAreaRight" b="textAreaBottom"/>
                <a:pathLst>
                  <a:path w="2937" h="2907">
                    <a:moveTo>
                      <a:pt x="2864" y="2801"/>
                    </a:moveTo>
                    <a:lnTo>
                      <a:pt x="2831" y="2834"/>
                    </a:lnTo>
                    <a:lnTo>
                      <a:pt x="2904" y="2907"/>
                    </a:lnTo>
                    <a:lnTo>
                      <a:pt x="2937" y="2874"/>
                    </a:lnTo>
                    <a:lnTo>
                      <a:pt x="2864" y="2801"/>
                    </a:lnTo>
                    <a:close/>
                    <a:moveTo>
                      <a:pt x="2755" y="2692"/>
                    </a:moveTo>
                    <a:lnTo>
                      <a:pt x="2722" y="2725"/>
                    </a:lnTo>
                    <a:lnTo>
                      <a:pt x="2795" y="2801"/>
                    </a:lnTo>
                    <a:lnTo>
                      <a:pt x="2831" y="2768"/>
                    </a:lnTo>
                    <a:lnTo>
                      <a:pt x="2755" y="2692"/>
                    </a:lnTo>
                    <a:close/>
                    <a:moveTo>
                      <a:pt x="2344" y="2281"/>
                    </a:moveTo>
                    <a:lnTo>
                      <a:pt x="2311" y="2314"/>
                    </a:lnTo>
                    <a:lnTo>
                      <a:pt x="2706" y="2709"/>
                    </a:lnTo>
                    <a:lnTo>
                      <a:pt x="2739" y="2676"/>
                    </a:lnTo>
                    <a:lnTo>
                      <a:pt x="2344" y="2281"/>
                    </a:lnTo>
                    <a:close/>
                    <a:moveTo>
                      <a:pt x="2254" y="2191"/>
                    </a:moveTo>
                    <a:lnTo>
                      <a:pt x="2221" y="2224"/>
                    </a:lnTo>
                    <a:lnTo>
                      <a:pt x="2294" y="2298"/>
                    </a:lnTo>
                    <a:lnTo>
                      <a:pt x="2328" y="2264"/>
                    </a:lnTo>
                    <a:lnTo>
                      <a:pt x="2254" y="2191"/>
                    </a:lnTo>
                    <a:close/>
                    <a:moveTo>
                      <a:pt x="2148" y="2082"/>
                    </a:moveTo>
                    <a:lnTo>
                      <a:pt x="2115" y="2118"/>
                    </a:lnTo>
                    <a:lnTo>
                      <a:pt x="2188" y="2191"/>
                    </a:lnTo>
                    <a:lnTo>
                      <a:pt x="2221" y="2158"/>
                    </a:lnTo>
                    <a:lnTo>
                      <a:pt x="2148" y="2082"/>
                    </a:lnTo>
                    <a:close/>
                    <a:moveTo>
                      <a:pt x="1737" y="1671"/>
                    </a:moveTo>
                    <a:lnTo>
                      <a:pt x="1704" y="1707"/>
                    </a:lnTo>
                    <a:lnTo>
                      <a:pt x="2096" y="2099"/>
                    </a:lnTo>
                    <a:lnTo>
                      <a:pt x="2131" y="2066"/>
                    </a:lnTo>
                    <a:lnTo>
                      <a:pt x="1737" y="1671"/>
                    </a:lnTo>
                    <a:close/>
                    <a:moveTo>
                      <a:pt x="1647" y="1581"/>
                    </a:moveTo>
                    <a:lnTo>
                      <a:pt x="1614" y="1614"/>
                    </a:lnTo>
                    <a:lnTo>
                      <a:pt x="1687" y="1688"/>
                    </a:lnTo>
                    <a:lnTo>
                      <a:pt x="1720" y="1655"/>
                    </a:lnTo>
                    <a:lnTo>
                      <a:pt x="1647" y="1581"/>
                    </a:lnTo>
                    <a:close/>
                    <a:moveTo>
                      <a:pt x="1538" y="1475"/>
                    </a:moveTo>
                    <a:lnTo>
                      <a:pt x="1505" y="1508"/>
                    </a:lnTo>
                    <a:lnTo>
                      <a:pt x="1578" y="1581"/>
                    </a:lnTo>
                    <a:lnTo>
                      <a:pt x="1614" y="1548"/>
                    </a:lnTo>
                    <a:lnTo>
                      <a:pt x="1538" y="1475"/>
                    </a:lnTo>
                    <a:close/>
                    <a:moveTo>
                      <a:pt x="1127" y="1064"/>
                    </a:moveTo>
                    <a:lnTo>
                      <a:pt x="1094" y="1097"/>
                    </a:lnTo>
                    <a:lnTo>
                      <a:pt x="1489" y="1492"/>
                    </a:lnTo>
                    <a:lnTo>
                      <a:pt x="1522" y="1458"/>
                    </a:lnTo>
                    <a:lnTo>
                      <a:pt x="1127" y="1064"/>
                    </a:lnTo>
                    <a:close/>
                    <a:moveTo>
                      <a:pt x="1037" y="972"/>
                    </a:moveTo>
                    <a:lnTo>
                      <a:pt x="1004" y="1007"/>
                    </a:lnTo>
                    <a:lnTo>
                      <a:pt x="1077" y="1080"/>
                    </a:lnTo>
                    <a:lnTo>
                      <a:pt x="1110" y="1047"/>
                    </a:lnTo>
                    <a:lnTo>
                      <a:pt x="1037" y="972"/>
                    </a:lnTo>
                    <a:close/>
                    <a:moveTo>
                      <a:pt x="931" y="865"/>
                    </a:moveTo>
                    <a:lnTo>
                      <a:pt x="898" y="898"/>
                    </a:lnTo>
                    <a:lnTo>
                      <a:pt x="971" y="972"/>
                    </a:lnTo>
                    <a:lnTo>
                      <a:pt x="1004" y="938"/>
                    </a:lnTo>
                    <a:lnTo>
                      <a:pt x="931" y="865"/>
                    </a:lnTo>
                    <a:close/>
                    <a:moveTo>
                      <a:pt x="520" y="454"/>
                    </a:moveTo>
                    <a:lnTo>
                      <a:pt x="486" y="487"/>
                    </a:lnTo>
                    <a:lnTo>
                      <a:pt x="879" y="882"/>
                    </a:lnTo>
                    <a:lnTo>
                      <a:pt x="914" y="849"/>
                    </a:lnTo>
                    <a:lnTo>
                      <a:pt x="520" y="454"/>
                    </a:lnTo>
                    <a:close/>
                    <a:moveTo>
                      <a:pt x="430" y="364"/>
                    </a:moveTo>
                    <a:lnTo>
                      <a:pt x="397" y="397"/>
                    </a:lnTo>
                    <a:lnTo>
                      <a:pt x="470" y="471"/>
                    </a:lnTo>
                    <a:lnTo>
                      <a:pt x="503" y="437"/>
                    </a:lnTo>
                    <a:lnTo>
                      <a:pt x="430" y="364"/>
                    </a:lnTo>
                    <a:close/>
                    <a:moveTo>
                      <a:pt x="321" y="255"/>
                    </a:moveTo>
                    <a:lnTo>
                      <a:pt x="288" y="289"/>
                    </a:lnTo>
                    <a:lnTo>
                      <a:pt x="361" y="364"/>
                    </a:lnTo>
                    <a:lnTo>
                      <a:pt x="397" y="329"/>
                    </a:lnTo>
                    <a:lnTo>
                      <a:pt x="321" y="255"/>
                    </a:lnTo>
                    <a:close/>
                    <a:moveTo>
                      <a:pt x="66" y="0"/>
                    </a:moveTo>
                    <a:lnTo>
                      <a:pt x="0" y="0"/>
                    </a:lnTo>
                    <a:lnTo>
                      <a:pt x="271" y="272"/>
                    </a:lnTo>
                    <a:lnTo>
                      <a:pt x="305" y="239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88"/>
              <p:cNvSpPr/>
              <p:nvPr/>
            </p:nvSpPr>
            <p:spPr>
              <a:xfrm rot="5400000">
                <a:off x="8114400" y="2509200"/>
                <a:ext cx="3651480" cy="4502880"/>
              </a:xfrm>
              <a:custGeom>
                <a:avLst/>
                <a:gdLst>
                  <a:gd name="textAreaLeft" fmla="*/ 0 w 3651480"/>
                  <a:gd name="textAreaRight" fmla="*/ 3651840 w 3651480"/>
                  <a:gd name="textAreaTop" fmla="*/ 0 h 4502880"/>
                  <a:gd name="textAreaBottom" fmla="*/ 4503240 h 4502880"/>
                </a:gdLst>
                <a:ahLst/>
                <a:rect l="textAreaLeft" t="textAreaTop" r="textAreaRight" b="textAreaBottom"/>
                <a:pathLst>
                  <a:path w="2937" h="2907">
                    <a:moveTo>
                      <a:pt x="2864" y="2801"/>
                    </a:moveTo>
                    <a:lnTo>
                      <a:pt x="2831" y="2834"/>
                    </a:lnTo>
                    <a:lnTo>
                      <a:pt x="2904" y="2907"/>
                    </a:lnTo>
                    <a:lnTo>
                      <a:pt x="2937" y="2874"/>
                    </a:lnTo>
                    <a:lnTo>
                      <a:pt x="2864" y="2801"/>
                    </a:lnTo>
                    <a:moveTo>
                      <a:pt x="2755" y="2692"/>
                    </a:moveTo>
                    <a:lnTo>
                      <a:pt x="2722" y="2725"/>
                    </a:lnTo>
                    <a:lnTo>
                      <a:pt x="2795" y="2801"/>
                    </a:lnTo>
                    <a:lnTo>
                      <a:pt x="2831" y="2768"/>
                    </a:lnTo>
                    <a:lnTo>
                      <a:pt x="2755" y="2692"/>
                    </a:lnTo>
                    <a:moveTo>
                      <a:pt x="2344" y="2281"/>
                    </a:moveTo>
                    <a:lnTo>
                      <a:pt x="2311" y="2314"/>
                    </a:lnTo>
                    <a:lnTo>
                      <a:pt x="2706" y="2709"/>
                    </a:lnTo>
                    <a:lnTo>
                      <a:pt x="2739" y="2676"/>
                    </a:lnTo>
                    <a:lnTo>
                      <a:pt x="2344" y="2281"/>
                    </a:lnTo>
                    <a:moveTo>
                      <a:pt x="2254" y="2191"/>
                    </a:moveTo>
                    <a:lnTo>
                      <a:pt x="2221" y="2224"/>
                    </a:lnTo>
                    <a:lnTo>
                      <a:pt x="2294" y="2298"/>
                    </a:lnTo>
                    <a:lnTo>
                      <a:pt x="2328" y="2264"/>
                    </a:lnTo>
                    <a:lnTo>
                      <a:pt x="2254" y="2191"/>
                    </a:lnTo>
                    <a:moveTo>
                      <a:pt x="2148" y="2082"/>
                    </a:moveTo>
                    <a:lnTo>
                      <a:pt x="2115" y="2118"/>
                    </a:lnTo>
                    <a:lnTo>
                      <a:pt x="2188" y="2191"/>
                    </a:lnTo>
                    <a:lnTo>
                      <a:pt x="2221" y="2158"/>
                    </a:lnTo>
                    <a:lnTo>
                      <a:pt x="2148" y="2082"/>
                    </a:lnTo>
                    <a:moveTo>
                      <a:pt x="1737" y="1671"/>
                    </a:moveTo>
                    <a:lnTo>
                      <a:pt x="1704" y="1707"/>
                    </a:lnTo>
                    <a:lnTo>
                      <a:pt x="2096" y="2099"/>
                    </a:lnTo>
                    <a:lnTo>
                      <a:pt x="2131" y="2066"/>
                    </a:lnTo>
                    <a:lnTo>
                      <a:pt x="1737" y="1671"/>
                    </a:lnTo>
                    <a:moveTo>
                      <a:pt x="1647" y="1581"/>
                    </a:moveTo>
                    <a:lnTo>
                      <a:pt x="1614" y="1614"/>
                    </a:lnTo>
                    <a:lnTo>
                      <a:pt x="1687" y="1688"/>
                    </a:lnTo>
                    <a:lnTo>
                      <a:pt x="1720" y="1655"/>
                    </a:lnTo>
                    <a:lnTo>
                      <a:pt x="1647" y="1581"/>
                    </a:lnTo>
                    <a:moveTo>
                      <a:pt x="1538" y="1475"/>
                    </a:moveTo>
                    <a:lnTo>
                      <a:pt x="1505" y="1508"/>
                    </a:lnTo>
                    <a:lnTo>
                      <a:pt x="1578" y="1581"/>
                    </a:lnTo>
                    <a:lnTo>
                      <a:pt x="1614" y="1548"/>
                    </a:lnTo>
                    <a:lnTo>
                      <a:pt x="1538" y="1475"/>
                    </a:lnTo>
                    <a:moveTo>
                      <a:pt x="1127" y="1064"/>
                    </a:moveTo>
                    <a:lnTo>
                      <a:pt x="1094" y="1097"/>
                    </a:lnTo>
                    <a:lnTo>
                      <a:pt x="1489" y="1492"/>
                    </a:lnTo>
                    <a:lnTo>
                      <a:pt x="1522" y="1458"/>
                    </a:lnTo>
                    <a:lnTo>
                      <a:pt x="1127" y="1064"/>
                    </a:lnTo>
                    <a:moveTo>
                      <a:pt x="1037" y="972"/>
                    </a:moveTo>
                    <a:lnTo>
                      <a:pt x="1004" y="1007"/>
                    </a:lnTo>
                    <a:lnTo>
                      <a:pt x="1077" y="1080"/>
                    </a:lnTo>
                    <a:lnTo>
                      <a:pt x="1110" y="1047"/>
                    </a:lnTo>
                    <a:lnTo>
                      <a:pt x="1037" y="972"/>
                    </a:lnTo>
                    <a:moveTo>
                      <a:pt x="931" y="865"/>
                    </a:moveTo>
                    <a:lnTo>
                      <a:pt x="898" y="898"/>
                    </a:lnTo>
                    <a:lnTo>
                      <a:pt x="971" y="972"/>
                    </a:lnTo>
                    <a:lnTo>
                      <a:pt x="1004" y="938"/>
                    </a:lnTo>
                    <a:lnTo>
                      <a:pt x="931" y="865"/>
                    </a:lnTo>
                    <a:moveTo>
                      <a:pt x="520" y="454"/>
                    </a:moveTo>
                    <a:lnTo>
                      <a:pt x="486" y="487"/>
                    </a:lnTo>
                    <a:lnTo>
                      <a:pt x="879" y="882"/>
                    </a:lnTo>
                    <a:lnTo>
                      <a:pt x="914" y="849"/>
                    </a:lnTo>
                    <a:lnTo>
                      <a:pt x="520" y="454"/>
                    </a:lnTo>
                    <a:moveTo>
                      <a:pt x="430" y="364"/>
                    </a:moveTo>
                    <a:lnTo>
                      <a:pt x="397" y="397"/>
                    </a:lnTo>
                    <a:lnTo>
                      <a:pt x="470" y="471"/>
                    </a:lnTo>
                    <a:lnTo>
                      <a:pt x="503" y="437"/>
                    </a:lnTo>
                    <a:lnTo>
                      <a:pt x="430" y="364"/>
                    </a:lnTo>
                    <a:moveTo>
                      <a:pt x="321" y="255"/>
                    </a:moveTo>
                    <a:lnTo>
                      <a:pt x="288" y="289"/>
                    </a:lnTo>
                    <a:lnTo>
                      <a:pt x="361" y="364"/>
                    </a:lnTo>
                    <a:lnTo>
                      <a:pt x="397" y="329"/>
                    </a:lnTo>
                    <a:lnTo>
                      <a:pt x="321" y="255"/>
                    </a:lnTo>
                    <a:moveTo>
                      <a:pt x="66" y="0"/>
                    </a:moveTo>
                    <a:lnTo>
                      <a:pt x="0" y="0"/>
                    </a:lnTo>
                    <a:lnTo>
                      <a:pt x="271" y="272"/>
                    </a:lnTo>
                    <a:lnTo>
                      <a:pt x="305" y="239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89"/>
              <p:cNvSpPr/>
              <p:nvPr/>
            </p:nvSpPr>
            <p:spPr>
              <a:xfrm rot="5400000">
                <a:off x="7361640" y="6505560"/>
                <a:ext cx="290880" cy="41328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34" h="267">
                    <a:moveTo>
                      <a:pt x="33" y="0"/>
                    </a:moveTo>
                    <a:lnTo>
                      <a:pt x="0" y="33"/>
                    </a:lnTo>
                    <a:lnTo>
                      <a:pt x="234" y="267"/>
                    </a:lnTo>
                    <a:lnTo>
                      <a:pt x="234" y="20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90"/>
              <p:cNvSpPr/>
              <p:nvPr/>
            </p:nvSpPr>
            <p:spPr>
              <a:xfrm rot="5400000">
                <a:off x="7361640" y="6505560"/>
                <a:ext cx="290880" cy="41328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34" h="267">
                    <a:moveTo>
                      <a:pt x="33" y="0"/>
                    </a:moveTo>
                    <a:lnTo>
                      <a:pt x="0" y="33"/>
                    </a:lnTo>
                    <a:lnTo>
                      <a:pt x="234" y="267"/>
                    </a:lnTo>
                    <a:lnTo>
                      <a:pt x="234" y="201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91"/>
              <p:cNvSpPr/>
              <p:nvPr/>
            </p:nvSpPr>
            <p:spPr>
              <a:xfrm rot="5400000">
                <a:off x="11586600" y="3374280"/>
                <a:ext cx="85680" cy="1051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36" y="0"/>
                    </a:moveTo>
                    <a:lnTo>
                      <a:pt x="0" y="35"/>
                    </a:lnTo>
                    <a:lnTo>
                      <a:pt x="36" y="68"/>
                    </a:lnTo>
                    <a:lnTo>
                      <a:pt x="69" y="3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92"/>
              <p:cNvSpPr/>
              <p:nvPr/>
            </p:nvSpPr>
            <p:spPr>
              <a:xfrm rot="5400000">
                <a:off x="11586600" y="3374280"/>
                <a:ext cx="85680" cy="1051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36" y="0"/>
                    </a:moveTo>
                    <a:lnTo>
                      <a:pt x="0" y="35"/>
                    </a:lnTo>
                    <a:lnTo>
                      <a:pt x="36" y="68"/>
                    </a:lnTo>
                    <a:lnTo>
                      <a:pt x="69" y="35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93"/>
              <p:cNvSpPr/>
              <p:nvPr/>
            </p:nvSpPr>
            <p:spPr>
              <a:xfrm rot="5400000">
                <a:off x="10644480" y="4129920"/>
                <a:ext cx="81720" cy="106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6" h="69">
                    <a:moveTo>
                      <a:pt x="33" y="0"/>
                    </a:moveTo>
                    <a:lnTo>
                      <a:pt x="0" y="34"/>
                    </a:lnTo>
                    <a:lnTo>
                      <a:pt x="33" y="69"/>
                    </a:lnTo>
                    <a:lnTo>
                      <a:pt x="66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94"/>
              <p:cNvSpPr/>
              <p:nvPr/>
            </p:nvSpPr>
            <p:spPr>
              <a:xfrm rot="5400000">
                <a:off x="10644480" y="4129920"/>
                <a:ext cx="81720" cy="106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6" h="69">
                    <a:moveTo>
                      <a:pt x="33" y="0"/>
                    </a:moveTo>
                    <a:lnTo>
                      <a:pt x="0" y="34"/>
                    </a:lnTo>
                    <a:lnTo>
                      <a:pt x="33" y="69"/>
                    </a:lnTo>
                    <a:lnTo>
                      <a:pt x="66" y="3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5"/>
              <p:cNvSpPr/>
              <p:nvPr/>
            </p:nvSpPr>
            <p:spPr>
              <a:xfrm rot="5400000">
                <a:off x="9699840" y="488880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896"/>
              <p:cNvSpPr/>
              <p:nvPr/>
            </p:nvSpPr>
            <p:spPr>
              <a:xfrm rot="5400000">
                <a:off x="9699840" y="488880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897"/>
              <p:cNvSpPr/>
              <p:nvPr/>
            </p:nvSpPr>
            <p:spPr>
              <a:xfrm rot="5400000">
                <a:off x="8757360" y="56455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898"/>
              <p:cNvSpPr/>
              <p:nvPr/>
            </p:nvSpPr>
            <p:spPr>
              <a:xfrm rot="5400000">
                <a:off x="8757360" y="56455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899"/>
              <p:cNvSpPr/>
              <p:nvPr/>
            </p:nvSpPr>
            <p:spPr>
              <a:xfrm rot="5400000">
                <a:off x="7810560" y="640224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00"/>
              <p:cNvSpPr/>
              <p:nvPr/>
            </p:nvSpPr>
            <p:spPr>
              <a:xfrm rot="5400000">
                <a:off x="7810560" y="640224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01"/>
              <p:cNvSpPr/>
              <p:nvPr/>
            </p:nvSpPr>
            <p:spPr>
              <a:xfrm rot="5400000">
                <a:off x="11444760" y="351180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02"/>
              <p:cNvSpPr/>
              <p:nvPr/>
            </p:nvSpPr>
            <p:spPr>
              <a:xfrm rot="5400000">
                <a:off x="11444760" y="351180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03"/>
              <p:cNvSpPr/>
              <p:nvPr/>
            </p:nvSpPr>
            <p:spPr>
              <a:xfrm rot="5400000">
                <a:off x="10500120" y="4266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904"/>
              <p:cNvSpPr/>
              <p:nvPr/>
            </p:nvSpPr>
            <p:spPr>
              <a:xfrm rot="5400000">
                <a:off x="10500120" y="4266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905"/>
              <p:cNvSpPr/>
              <p:nvPr/>
            </p:nvSpPr>
            <p:spPr>
              <a:xfrm rot="5400000">
                <a:off x="9556920" y="5023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906"/>
              <p:cNvSpPr/>
              <p:nvPr/>
            </p:nvSpPr>
            <p:spPr>
              <a:xfrm rot="5400000">
                <a:off x="9556920" y="5023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907"/>
              <p:cNvSpPr/>
              <p:nvPr/>
            </p:nvSpPr>
            <p:spPr>
              <a:xfrm rot="5400000">
                <a:off x="8615160" y="577980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908"/>
              <p:cNvSpPr/>
              <p:nvPr/>
            </p:nvSpPr>
            <p:spPr>
              <a:xfrm rot="5400000">
                <a:off x="8615160" y="577980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909"/>
              <p:cNvSpPr/>
              <p:nvPr/>
            </p:nvSpPr>
            <p:spPr>
              <a:xfrm rot="5400000">
                <a:off x="7670160" y="65383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910"/>
              <p:cNvSpPr/>
              <p:nvPr/>
            </p:nvSpPr>
            <p:spPr>
              <a:xfrm rot="5400000">
                <a:off x="7670160" y="653832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911"/>
              <p:cNvSpPr/>
              <p:nvPr/>
            </p:nvSpPr>
            <p:spPr>
              <a:xfrm rot="5400000">
                <a:off x="11751480" y="32644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912"/>
              <p:cNvSpPr/>
              <p:nvPr/>
            </p:nvSpPr>
            <p:spPr>
              <a:xfrm rot="5400000">
                <a:off x="11751480" y="32644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913"/>
              <p:cNvSpPr/>
              <p:nvPr/>
            </p:nvSpPr>
            <p:spPr>
              <a:xfrm rot="5400000">
                <a:off x="10806120" y="402264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5" y="0"/>
                    </a:moveTo>
                    <a:lnTo>
                      <a:pt x="0" y="33"/>
                    </a:lnTo>
                    <a:lnTo>
                      <a:pt x="19" y="49"/>
                    </a:lnTo>
                    <a:lnTo>
                      <a:pt x="52" y="1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914"/>
              <p:cNvSpPr/>
              <p:nvPr/>
            </p:nvSpPr>
            <p:spPr>
              <a:xfrm rot="5400000">
                <a:off x="10806120" y="402264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5" y="0"/>
                    </a:moveTo>
                    <a:lnTo>
                      <a:pt x="0" y="33"/>
                    </a:lnTo>
                    <a:lnTo>
                      <a:pt x="19" y="49"/>
                    </a:lnTo>
                    <a:lnTo>
                      <a:pt x="52" y="16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915"/>
              <p:cNvSpPr/>
              <p:nvPr/>
            </p:nvSpPr>
            <p:spPr>
              <a:xfrm rot="5400000">
                <a:off x="9864000" y="477828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916"/>
              <p:cNvSpPr/>
              <p:nvPr/>
            </p:nvSpPr>
            <p:spPr>
              <a:xfrm rot="5400000">
                <a:off x="9864000" y="477828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17"/>
              <p:cNvSpPr/>
              <p:nvPr/>
            </p:nvSpPr>
            <p:spPr>
              <a:xfrm rot="5400000">
                <a:off x="8919000" y="5532840"/>
                <a:ext cx="64440" cy="80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5" y="0"/>
                    </a:moveTo>
                    <a:lnTo>
                      <a:pt x="0" y="33"/>
                    </a:lnTo>
                    <a:lnTo>
                      <a:pt x="19" y="52"/>
                    </a:lnTo>
                    <a:lnTo>
                      <a:pt x="52" y="1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18"/>
              <p:cNvSpPr/>
              <p:nvPr/>
            </p:nvSpPr>
            <p:spPr>
              <a:xfrm rot="5400000">
                <a:off x="8919000" y="5532840"/>
                <a:ext cx="64440" cy="80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5" y="0"/>
                    </a:moveTo>
                    <a:lnTo>
                      <a:pt x="0" y="33"/>
                    </a:lnTo>
                    <a:lnTo>
                      <a:pt x="19" y="52"/>
                    </a:lnTo>
                    <a:lnTo>
                      <a:pt x="52" y="16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19"/>
              <p:cNvSpPr/>
              <p:nvPr/>
            </p:nvSpPr>
            <p:spPr>
              <a:xfrm rot="5400000">
                <a:off x="7978680" y="629208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20"/>
              <p:cNvSpPr/>
              <p:nvPr/>
            </p:nvSpPr>
            <p:spPr>
              <a:xfrm rot="5400000">
                <a:off x="7978680" y="629208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921"/>
              <p:cNvSpPr/>
              <p:nvPr/>
            </p:nvSpPr>
            <p:spPr>
              <a:xfrm rot="5400000">
                <a:off x="6414840" y="809640"/>
                <a:ext cx="5164560" cy="6389280"/>
              </a:xfrm>
              <a:custGeom>
                <a:avLst/>
                <a:gdLst>
                  <a:gd name="textAreaLeft" fmla="*/ 0 w 5164560"/>
                  <a:gd name="textAreaRight" fmla="*/ 5164920 w 5164560"/>
                  <a:gd name="textAreaTop" fmla="*/ 0 h 6389280"/>
                  <a:gd name="textAreaBottom" fmla="*/ 6389640 h 6389280"/>
                </a:gdLst>
                <a:ahLst/>
                <a:rect l="textAreaLeft" t="textAreaTop" r="textAreaRight" b="textAreaBottom"/>
                <a:pathLst>
                  <a:path w="4154" h="4125">
                    <a:moveTo>
                      <a:pt x="4079" y="4018"/>
                    </a:moveTo>
                    <a:lnTo>
                      <a:pt x="4046" y="4051"/>
                    </a:lnTo>
                    <a:lnTo>
                      <a:pt x="4119" y="4125"/>
                    </a:lnTo>
                    <a:lnTo>
                      <a:pt x="4154" y="4091"/>
                    </a:lnTo>
                    <a:lnTo>
                      <a:pt x="4079" y="4018"/>
                    </a:lnTo>
                    <a:close/>
                    <a:moveTo>
                      <a:pt x="3972" y="3909"/>
                    </a:moveTo>
                    <a:lnTo>
                      <a:pt x="3939" y="3945"/>
                    </a:lnTo>
                    <a:lnTo>
                      <a:pt x="4012" y="4018"/>
                    </a:lnTo>
                    <a:lnTo>
                      <a:pt x="4046" y="3985"/>
                    </a:lnTo>
                    <a:lnTo>
                      <a:pt x="3972" y="3909"/>
                    </a:lnTo>
                    <a:close/>
                    <a:moveTo>
                      <a:pt x="3561" y="3498"/>
                    </a:moveTo>
                    <a:lnTo>
                      <a:pt x="3528" y="3534"/>
                    </a:lnTo>
                    <a:lnTo>
                      <a:pt x="3923" y="3926"/>
                    </a:lnTo>
                    <a:lnTo>
                      <a:pt x="3956" y="3893"/>
                    </a:lnTo>
                    <a:lnTo>
                      <a:pt x="3561" y="3498"/>
                    </a:lnTo>
                    <a:close/>
                    <a:moveTo>
                      <a:pt x="3471" y="3408"/>
                    </a:moveTo>
                    <a:lnTo>
                      <a:pt x="3438" y="3441"/>
                    </a:lnTo>
                    <a:lnTo>
                      <a:pt x="3511" y="3517"/>
                    </a:lnTo>
                    <a:lnTo>
                      <a:pt x="3545" y="3482"/>
                    </a:lnTo>
                    <a:lnTo>
                      <a:pt x="3471" y="3408"/>
                    </a:lnTo>
                    <a:close/>
                    <a:moveTo>
                      <a:pt x="3363" y="3302"/>
                    </a:moveTo>
                    <a:lnTo>
                      <a:pt x="3329" y="3335"/>
                    </a:lnTo>
                    <a:lnTo>
                      <a:pt x="3405" y="3408"/>
                    </a:lnTo>
                    <a:lnTo>
                      <a:pt x="3438" y="3375"/>
                    </a:lnTo>
                    <a:lnTo>
                      <a:pt x="3363" y="3302"/>
                    </a:lnTo>
                    <a:close/>
                    <a:moveTo>
                      <a:pt x="2954" y="2891"/>
                    </a:moveTo>
                    <a:lnTo>
                      <a:pt x="2918" y="2924"/>
                    </a:lnTo>
                    <a:lnTo>
                      <a:pt x="3313" y="3319"/>
                    </a:lnTo>
                    <a:lnTo>
                      <a:pt x="3346" y="3285"/>
                    </a:lnTo>
                    <a:lnTo>
                      <a:pt x="2954" y="2891"/>
                    </a:lnTo>
                    <a:close/>
                    <a:moveTo>
                      <a:pt x="2862" y="2799"/>
                    </a:moveTo>
                    <a:lnTo>
                      <a:pt x="2828" y="2834"/>
                    </a:lnTo>
                    <a:lnTo>
                      <a:pt x="2902" y="2907"/>
                    </a:lnTo>
                    <a:lnTo>
                      <a:pt x="2937" y="2874"/>
                    </a:lnTo>
                    <a:lnTo>
                      <a:pt x="2862" y="2799"/>
                    </a:lnTo>
                    <a:close/>
                    <a:moveTo>
                      <a:pt x="2755" y="2692"/>
                    </a:moveTo>
                    <a:lnTo>
                      <a:pt x="2722" y="2725"/>
                    </a:lnTo>
                    <a:lnTo>
                      <a:pt x="2795" y="2799"/>
                    </a:lnTo>
                    <a:lnTo>
                      <a:pt x="2828" y="2766"/>
                    </a:lnTo>
                    <a:lnTo>
                      <a:pt x="2755" y="2692"/>
                    </a:lnTo>
                    <a:close/>
                    <a:moveTo>
                      <a:pt x="2344" y="2281"/>
                    </a:moveTo>
                    <a:lnTo>
                      <a:pt x="2311" y="2314"/>
                    </a:lnTo>
                    <a:lnTo>
                      <a:pt x="2706" y="2709"/>
                    </a:lnTo>
                    <a:lnTo>
                      <a:pt x="2739" y="2676"/>
                    </a:lnTo>
                    <a:lnTo>
                      <a:pt x="2344" y="2281"/>
                    </a:lnTo>
                    <a:close/>
                    <a:moveTo>
                      <a:pt x="2254" y="2191"/>
                    </a:moveTo>
                    <a:lnTo>
                      <a:pt x="2221" y="2224"/>
                    </a:lnTo>
                    <a:lnTo>
                      <a:pt x="2294" y="2298"/>
                    </a:lnTo>
                    <a:lnTo>
                      <a:pt x="2327" y="2264"/>
                    </a:lnTo>
                    <a:lnTo>
                      <a:pt x="2254" y="2191"/>
                    </a:lnTo>
                    <a:close/>
                    <a:moveTo>
                      <a:pt x="2145" y="2082"/>
                    </a:moveTo>
                    <a:lnTo>
                      <a:pt x="2112" y="2116"/>
                    </a:lnTo>
                    <a:lnTo>
                      <a:pt x="2188" y="2191"/>
                    </a:lnTo>
                    <a:lnTo>
                      <a:pt x="2221" y="2158"/>
                    </a:lnTo>
                    <a:lnTo>
                      <a:pt x="2145" y="2082"/>
                    </a:lnTo>
                    <a:close/>
                    <a:moveTo>
                      <a:pt x="1737" y="1671"/>
                    </a:moveTo>
                    <a:lnTo>
                      <a:pt x="1701" y="1704"/>
                    </a:lnTo>
                    <a:lnTo>
                      <a:pt x="2096" y="2099"/>
                    </a:lnTo>
                    <a:lnTo>
                      <a:pt x="2129" y="2066"/>
                    </a:lnTo>
                    <a:lnTo>
                      <a:pt x="1737" y="1671"/>
                    </a:lnTo>
                    <a:close/>
                    <a:moveTo>
                      <a:pt x="1644" y="1581"/>
                    </a:moveTo>
                    <a:lnTo>
                      <a:pt x="1611" y="1614"/>
                    </a:lnTo>
                    <a:lnTo>
                      <a:pt x="1685" y="1688"/>
                    </a:lnTo>
                    <a:lnTo>
                      <a:pt x="1720" y="1655"/>
                    </a:lnTo>
                    <a:lnTo>
                      <a:pt x="1644" y="1581"/>
                    </a:lnTo>
                    <a:close/>
                    <a:moveTo>
                      <a:pt x="1538" y="1473"/>
                    </a:moveTo>
                    <a:lnTo>
                      <a:pt x="1505" y="1506"/>
                    </a:lnTo>
                    <a:lnTo>
                      <a:pt x="1578" y="1581"/>
                    </a:lnTo>
                    <a:lnTo>
                      <a:pt x="1611" y="1548"/>
                    </a:lnTo>
                    <a:lnTo>
                      <a:pt x="1538" y="1473"/>
                    </a:lnTo>
                    <a:close/>
                    <a:moveTo>
                      <a:pt x="1127" y="1061"/>
                    </a:moveTo>
                    <a:lnTo>
                      <a:pt x="1094" y="1097"/>
                    </a:lnTo>
                    <a:lnTo>
                      <a:pt x="1488" y="1489"/>
                    </a:lnTo>
                    <a:lnTo>
                      <a:pt x="1522" y="1456"/>
                    </a:lnTo>
                    <a:lnTo>
                      <a:pt x="1127" y="1061"/>
                    </a:lnTo>
                    <a:close/>
                    <a:moveTo>
                      <a:pt x="1037" y="972"/>
                    </a:moveTo>
                    <a:lnTo>
                      <a:pt x="1004" y="1005"/>
                    </a:lnTo>
                    <a:lnTo>
                      <a:pt x="1077" y="1078"/>
                    </a:lnTo>
                    <a:lnTo>
                      <a:pt x="1110" y="1045"/>
                    </a:lnTo>
                    <a:lnTo>
                      <a:pt x="1037" y="972"/>
                    </a:lnTo>
                    <a:close/>
                    <a:moveTo>
                      <a:pt x="928" y="865"/>
                    </a:moveTo>
                    <a:lnTo>
                      <a:pt x="895" y="898"/>
                    </a:lnTo>
                    <a:lnTo>
                      <a:pt x="971" y="972"/>
                    </a:lnTo>
                    <a:lnTo>
                      <a:pt x="1004" y="938"/>
                    </a:lnTo>
                    <a:lnTo>
                      <a:pt x="928" y="865"/>
                    </a:lnTo>
                    <a:close/>
                    <a:moveTo>
                      <a:pt x="519" y="454"/>
                    </a:moveTo>
                    <a:lnTo>
                      <a:pt x="484" y="487"/>
                    </a:lnTo>
                    <a:lnTo>
                      <a:pt x="879" y="882"/>
                    </a:lnTo>
                    <a:lnTo>
                      <a:pt x="912" y="846"/>
                    </a:lnTo>
                    <a:lnTo>
                      <a:pt x="519" y="454"/>
                    </a:lnTo>
                    <a:close/>
                    <a:moveTo>
                      <a:pt x="427" y="362"/>
                    </a:moveTo>
                    <a:lnTo>
                      <a:pt x="394" y="395"/>
                    </a:lnTo>
                    <a:lnTo>
                      <a:pt x="467" y="471"/>
                    </a:lnTo>
                    <a:lnTo>
                      <a:pt x="503" y="437"/>
                    </a:lnTo>
                    <a:lnTo>
                      <a:pt x="427" y="362"/>
                    </a:lnTo>
                    <a:close/>
                    <a:moveTo>
                      <a:pt x="321" y="255"/>
                    </a:moveTo>
                    <a:lnTo>
                      <a:pt x="288" y="289"/>
                    </a:lnTo>
                    <a:lnTo>
                      <a:pt x="361" y="362"/>
                    </a:lnTo>
                    <a:lnTo>
                      <a:pt x="394" y="329"/>
                    </a:lnTo>
                    <a:lnTo>
                      <a:pt x="321" y="255"/>
                    </a:lnTo>
                    <a:close/>
                    <a:moveTo>
                      <a:pt x="66" y="0"/>
                    </a:moveTo>
                    <a:lnTo>
                      <a:pt x="0" y="0"/>
                    </a:lnTo>
                    <a:lnTo>
                      <a:pt x="271" y="272"/>
                    </a:lnTo>
                    <a:lnTo>
                      <a:pt x="304" y="239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922"/>
              <p:cNvSpPr/>
              <p:nvPr/>
            </p:nvSpPr>
            <p:spPr>
              <a:xfrm rot="5400000">
                <a:off x="6414840" y="809640"/>
                <a:ext cx="5164560" cy="6389280"/>
              </a:xfrm>
              <a:custGeom>
                <a:avLst/>
                <a:gdLst>
                  <a:gd name="textAreaLeft" fmla="*/ 0 w 5164560"/>
                  <a:gd name="textAreaRight" fmla="*/ 5164920 w 5164560"/>
                  <a:gd name="textAreaTop" fmla="*/ 0 h 6389280"/>
                  <a:gd name="textAreaBottom" fmla="*/ 6389640 h 6389280"/>
                </a:gdLst>
                <a:ahLst/>
                <a:rect l="textAreaLeft" t="textAreaTop" r="textAreaRight" b="textAreaBottom"/>
                <a:pathLst>
                  <a:path w="4154" h="4125">
                    <a:moveTo>
                      <a:pt x="4079" y="4018"/>
                    </a:moveTo>
                    <a:lnTo>
                      <a:pt x="4046" y="4051"/>
                    </a:lnTo>
                    <a:lnTo>
                      <a:pt x="4119" y="4125"/>
                    </a:lnTo>
                    <a:lnTo>
                      <a:pt x="4154" y="4091"/>
                    </a:lnTo>
                    <a:lnTo>
                      <a:pt x="4079" y="4018"/>
                    </a:lnTo>
                    <a:moveTo>
                      <a:pt x="3972" y="3909"/>
                    </a:moveTo>
                    <a:lnTo>
                      <a:pt x="3939" y="3945"/>
                    </a:lnTo>
                    <a:lnTo>
                      <a:pt x="4012" y="4018"/>
                    </a:lnTo>
                    <a:lnTo>
                      <a:pt x="4046" y="3985"/>
                    </a:lnTo>
                    <a:lnTo>
                      <a:pt x="3972" y="3909"/>
                    </a:lnTo>
                    <a:moveTo>
                      <a:pt x="3561" y="3498"/>
                    </a:moveTo>
                    <a:lnTo>
                      <a:pt x="3528" y="3534"/>
                    </a:lnTo>
                    <a:lnTo>
                      <a:pt x="3923" y="3926"/>
                    </a:lnTo>
                    <a:lnTo>
                      <a:pt x="3956" y="3893"/>
                    </a:lnTo>
                    <a:lnTo>
                      <a:pt x="3561" y="3498"/>
                    </a:lnTo>
                    <a:moveTo>
                      <a:pt x="3471" y="3408"/>
                    </a:moveTo>
                    <a:lnTo>
                      <a:pt x="3438" y="3441"/>
                    </a:lnTo>
                    <a:lnTo>
                      <a:pt x="3511" y="3517"/>
                    </a:lnTo>
                    <a:lnTo>
                      <a:pt x="3545" y="3482"/>
                    </a:lnTo>
                    <a:lnTo>
                      <a:pt x="3471" y="3408"/>
                    </a:lnTo>
                    <a:moveTo>
                      <a:pt x="3363" y="3302"/>
                    </a:moveTo>
                    <a:lnTo>
                      <a:pt x="3329" y="3335"/>
                    </a:lnTo>
                    <a:lnTo>
                      <a:pt x="3405" y="3408"/>
                    </a:lnTo>
                    <a:lnTo>
                      <a:pt x="3438" y="3375"/>
                    </a:lnTo>
                    <a:lnTo>
                      <a:pt x="3363" y="3302"/>
                    </a:lnTo>
                    <a:moveTo>
                      <a:pt x="2954" y="2891"/>
                    </a:moveTo>
                    <a:lnTo>
                      <a:pt x="2918" y="2924"/>
                    </a:lnTo>
                    <a:lnTo>
                      <a:pt x="3313" y="3319"/>
                    </a:lnTo>
                    <a:lnTo>
                      <a:pt x="3346" y="3285"/>
                    </a:lnTo>
                    <a:lnTo>
                      <a:pt x="2954" y="2891"/>
                    </a:lnTo>
                    <a:moveTo>
                      <a:pt x="2862" y="2799"/>
                    </a:moveTo>
                    <a:lnTo>
                      <a:pt x="2828" y="2834"/>
                    </a:lnTo>
                    <a:lnTo>
                      <a:pt x="2902" y="2907"/>
                    </a:lnTo>
                    <a:lnTo>
                      <a:pt x="2937" y="2874"/>
                    </a:lnTo>
                    <a:lnTo>
                      <a:pt x="2862" y="2799"/>
                    </a:lnTo>
                    <a:moveTo>
                      <a:pt x="2755" y="2692"/>
                    </a:moveTo>
                    <a:lnTo>
                      <a:pt x="2722" y="2725"/>
                    </a:lnTo>
                    <a:lnTo>
                      <a:pt x="2795" y="2799"/>
                    </a:lnTo>
                    <a:lnTo>
                      <a:pt x="2828" y="2766"/>
                    </a:lnTo>
                    <a:lnTo>
                      <a:pt x="2755" y="2692"/>
                    </a:lnTo>
                    <a:moveTo>
                      <a:pt x="2344" y="2281"/>
                    </a:moveTo>
                    <a:lnTo>
                      <a:pt x="2311" y="2314"/>
                    </a:lnTo>
                    <a:lnTo>
                      <a:pt x="2706" y="2709"/>
                    </a:lnTo>
                    <a:lnTo>
                      <a:pt x="2739" y="2676"/>
                    </a:lnTo>
                    <a:lnTo>
                      <a:pt x="2344" y="2281"/>
                    </a:lnTo>
                    <a:moveTo>
                      <a:pt x="2254" y="2191"/>
                    </a:moveTo>
                    <a:lnTo>
                      <a:pt x="2221" y="2224"/>
                    </a:lnTo>
                    <a:lnTo>
                      <a:pt x="2294" y="2298"/>
                    </a:lnTo>
                    <a:lnTo>
                      <a:pt x="2327" y="2264"/>
                    </a:lnTo>
                    <a:lnTo>
                      <a:pt x="2254" y="2191"/>
                    </a:lnTo>
                    <a:moveTo>
                      <a:pt x="2145" y="2082"/>
                    </a:moveTo>
                    <a:lnTo>
                      <a:pt x="2112" y="2116"/>
                    </a:lnTo>
                    <a:lnTo>
                      <a:pt x="2188" y="2191"/>
                    </a:lnTo>
                    <a:lnTo>
                      <a:pt x="2221" y="2158"/>
                    </a:lnTo>
                    <a:lnTo>
                      <a:pt x="2145" y="2082"/>
                    </a:lnTo>
                    <a:moveTo>
                      <a:pt x="1737" y="1671"/>
                    </a:moveTo>
                    <a:lnTo>
                      <a:pt x="1701" y="1704"/>
                    </a:lnTo>
                    <a:lnTo>
                      <a:pt x="2096" y="2099"/>
                    </a:lnTo>
                    <a:lnTo>
                      <a:pt x="2129" y="2066"/>
                    </a:lnTo>
                    <a:lnTo>
                      <a:pt x="1737" y="1671"/>
                    </a:lnTo>
                    <a:moveTo>
                      <a:pt x="1644" y="1581"/>
                    </a:moveTo>
                    <a:lnTo>
                      <a:pt x="1611" y="1614"/>
                    </a:lnTo>
                    <a:lnTo>
                      <a:pt x="1685" y="1688"/>
                    </a:lnTo>
                    <a:lnTo>
                      <a:pt x="1720" y="1655"/>
                    </a:lnTo>
                    <a:lnTo>
                      <a:pt x="1644" y="1581"/>
                    </a:lnTo>
                    <a:moveTo>
                      <a:pt x="1538" y="1473"/>
                    </a:moveTo>
                    <a:lnTo>
                      <a:pt x="1505" y="1506"/>
                    </a:lnTo>
                    <a:lnTo>
                      <a:pt x="1578" y="1581"/>
                    </a:lnTo>
                    <a:lnTo>
                      <a:pt x="1611" y="1548"/>
                    </a:lnTo>
                    <a:lnTo>
                      <a:pt x="1538" y="1473"/>
                    </a:lnTo>
                    <a:moveTo>
                      <a:pt x="1127" y="1061"/>
                    </a:moveTo>
                    <a:lnTo>
                      <a:pt x="1094" y="1097"/>
                    </a:lnTo>
                    <a:lnTo>
                      <a:pt x="1488" y="1489"/>
                    </a:lnTo>
                    <a:lnTo>
                      <a:pt x="1522" y="1456"/>
                    </a:lnTo>
                    <a:lnTo>
                      <a:pt x="1127" y="1061"/>
                    </a:lnTo>
                    <a:moveTo>
                      <a:pt x="1037" y="972"/>
                    </a:moveTo>
                    <a:lnTo>
                      <a:pt x="1004" y="1005"/>
                    </a:lnTo>
                    <a:lnTo>
                      <a:pt x="1077" y="1078"/>
                    </a:lnTo>
                    <a:lnTo>
                      <a:pt x="1110" y="1045"/>
                    </a:lnTo>
                    <a:lnTo>
                      <a:pt x="1037" y="972"/>
                    </a:lnTo>
                    <a:moveTo>
                      <a:pt x="928" y="865"/>
                    </a:moveTo>
                    <a:lnTo>
                      <a:pt x="895" y="898"/>
                    </a:lnTo>
                    <a:lnTo>
                      <a:pt x="971" y="972"/>
                    </a:lnTo>
                    <a:lnTo>
                      <a:pt x="1004" y="938"/>
                    </a:lnTo>
                    <a:lnTo>
                      <a:pt x="928" y="865"/>
                    </a:lnTo>
                    <a:moveTo>
                      <a:pt x="519" y="454"/>
                    </a:moveTo>
                    <a:lnTo>
                      <a:pt x="484" y="487"/>
                    </a:lnTo>
                    <a:lnTo>
                      <a:pt x="879" y="882"/>
                    </a:lnTo>
                    <a:lnTo>
                      <a:pt x="912" y="846"/>
                    </a:lnTo>
                    <a:lnTo>
                      <a:pt x="519" y="454"/>
                    </a:lnTo>
                    <a:moveTo>
                      <a:pt x="427" y="362"/>
                    </a:moveTo>
                    <a:lnTo>
                      <a:pt x="394" y="395"/>
                    </a:lnTo>
                    <a:lnTo>
                      <a:pt x="467" y="471"/>
                    </a:lnTo>
                    <a:lnTo>
                      <a:pt x="503" y="437"/>
                    </a:lnTo>
                    <a:lnTo>
                      <a:pt x="427" y="362"/>
                    </a:lnTo>
                    <a:moveTo>
                      <a:pt x="321" y="255"/>
                    </a:moveTo>
                    <a:lnTo>
                      <a:pt x="288" y="289"/>
                    </a:lnTo>
                    <a:lnTo>
                      <a:pt x="361" y="362"/>
                    </a:lnTo>
                    <a:lnTo>
                      <a:pt x="394" y="329"/>
                    </a:lnTo>
                    <a:lnTo>
                      <a:pt x="321" y="255"/>
                    </a:lnTo>
                    <a:moveTo>
                      <a:pt x="66" y="0"/>
                    </a:moveTo>
                    <a:lnTo>
                      <a:pt x="0" y="0"/>
                    </a:lnTo>
                    <a:lnTo>
                      <a:pt x="271" y="272"/>
                    </a:lnTo>
                    <a:lnTo>
                      <a:pt x="304" y="239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923"/>
              <p:cNvSpPr/>
              <p:nvPr/>
            </p:nvSpPr>
            <p:spPr>
              <a:xfrm rot="5400000">
                <a:off x="5474880" y="6503760"/>
                <a:ext cx="290880" cy="4165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234" h="269">
                    <a:moveTo>
                      <a:pt x="33" y="0"/>
                    </a:moveTo>
                    <a:lnTo>
                      <a:pt x="0" y="33"/>
                    </a:lnTo>
                    <a:lnTo>
                      <a:pt x="234" y="269"/>
                    </a:lnTo>
                    <a:lnTo>
                      <a:pt x="234" y="20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924"/>
              <p:cNvSpPr/>
              <p:nvPr/>
            </p:nvSpPr>
            <p:spPr>
              <a:xfrm rot="5400000">
                <a:off x="5474880" y="6503760"/>
                <a:ext cx="290880" cy="4165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234" h="269">
                    <a:moveTo>
                      <a:pt x="33" y="0"/>
                    </a:moveTo>
                    <a:lnTo>
                      <a:pt x="0" y="33"/>
                    </a:lnTo>
                    <a:lnTo>
                      <a:pt x="234" y="269"/>
                    </a:lnTo>
                    <a:lnTo>
                      <a:pt x="234" y="20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925"/>
              <p:cNvSpPr/>
              <p:nvPr/>
            </p:nvSpPr>
            <p:spPr>
              <a:xfrm rot="5400000">
                <a:off x="11590200" y="18612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926"/>
              <p:cNvSpPr/>
              <p:nvPr/>
            </p:nvSpPr>
            <p:spPr>
              <a:xfrm rot="5400000">
                <a:off x="11590200" y="18612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927"/>
              <p:cNvSpPr/>
              <p:nvPr/>
            </p:nvSpPr>
            <p:spPr>
              <a:xfrm rot="5400000">
                <a:off x="10645920" y="2618280"/>
                <a:ext cx="81720" cy="1036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66" h="67">
                    <a:moveTo>
                      <a:pt x="33" y="0"/>
                    </a:moveTo>
                    <a:lnTo>
                      <a:pt x="0" y="34"/>
                    </a:lnTo>
                    <a:lnTo>
                      <a:pt x="33" y="67"/>
                    </a:lnTo>
                    <a:lnTo>
                      <a:pt x="66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928"/>
              <p:cNvSpPr/>
              <p:nvPr/>
            </p:nvSpPr>
            <p:spPr>
              <a:xfrm rot="5400000">
                <a:off x="10645920" y="2618280"/>
                <a:ext cx="81720" cy="1036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66" h="67">
                    <a:moveTo>
                      <a:pt x="33" y="0"/>
                    </a:moveTo>
                    <a:lnTo>
                      <a:pt x="0" y="34"/>
                    </a:lnTo>
                    <a:lnTo>
                      <a:pt x="33" y="67"/>
                    </a:lnTo>
                    <a:lnTo>
                      <a:pt x="66" y="3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929"/>
              <p:cNvSpPr/>
              <p:nvPr/>
            </p:nvSpPr>
            <p:spPr>
              <a:xfrm rot="5400000">
                <a:off x="9702000" y="33739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930"/>
              <p:cNvSpPr/>
              <p:nvPr/>
            </p:nvSpPr>
            <p:spPr>
              <a:xfrm rot="5400000">
                <a:off x="9702000" y="33739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931"/>
              <p:cNvSpPr/>
              <p:nvPr/>
            </p:nvSpPr>
            <p:spPr>
              <a:xfrm rot="5400000">
                <a:off x="8757360" y="41324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932"/>
              <p:cNvSpPr/>
              <p:nvPr/>
            </p:nvSpPr>
            <p:spPr>
              <a:xfrm rot="5400000">
                <a:off x="8757360" y="41324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933"/>
              <p:cNvSpPr/>
              <p:nvPr/>
            </p:nvSpPr>
            <p:spPr>
              <a:xfrm rot="5400000">
                <a:off x="7813080" y="4885920"/>
                <a:ext cx="83160" cy="10512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7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934"/>
              <p:cNvSpPr/>
              <p:nvPr/>
            </p:nvSpPr>
            <p:spPr>
              <a:xfrm rot="5400000">
                <a:off x="7813080" y="4885920"/>
                <a:ext cx="83160" cy="10512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7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935"/>
              <p:cNvSpPr/>
              <p:nvPr/>
            </p:nvSpPr>
            <p:spPr>
              <a:xfrm rot="5400000">
                <a:off x="6872400" y="56455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936"/>
              <p:cNvSpPr/>
              <p:nvPr/>
            </p:nvSpPr>
            <p:spPr>
              <a:xfrm rot="5400000">
                <a:off x="6872400" y="56455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937"/>
              <p:cNvSpPr/>
              <p:nvPr/>
            </p:nvSpPr>
            <p:spPr>
              <a:xfrm rot="5400000">
                <a:off x="5926680" y="640116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4" y="0"/>
                    </a:moveTo>
                    <a:lnTo>
                      <a:pt x="0" y="33"/>
                    </a:lnTo>
                    <a:lnTo>
                      <a:pt x="34" y="66"/>
                    </a:lnTo>
                    <a:lnTo>
                      <a:pt x="67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938"/>
              <p:cNvSpPr/>
              <p:nvPr/>
            </p:nvSpPr>
            <p:spPr>
              <a:xfrm rot="5400000">
                <a:off x="5926680" y="640116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4" y="0"/>
                    </a:moveTo>
                    <a:lnTo>
                      <a:pt x="0" y="33"/>
                    </a:lnTo>
                    <a:lnTo>
                      <a:pt x="34" y="66"/>
                    </a:lnTo>
                    <a:lnTo>
                      <a:pt x="67" y="33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939"/>
              <p:cNvSpPr/>
              <p:nvPr/>
            </p:nvSpPr>
            <p:spPr>
              <a:xfrm rot="5400000">
                <a:off x="11443680" y="199620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940"/>
              <p:cNvSpPr/>
              <p:nvPr/>
            </p:nvSpPr>
            <p:spPr>
              <a:xfrm rot="5400000">
                <a:off x="11443680" y="199620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941"/>
              <p:cNvSpPr/>
              <p:nvPr/>
            </p:nvSpPr>
            <p:spPr>
              <a:xfrm rot="5400000">
                <a:off x="10501560" y="27518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942"/>
              <p:cNvSpPr/>
              <p:nvPr/>
            </p:nvSpPr>
            <p:spPr>
              <a:xfrm rot="5400000">
                <a:off x="10501560" y="27518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43"/>
              <p:cNvSpPr/>
              <p:nvPr/>
            </p:nvSpPr>
            <p:spPr>
              <a:xfrm rot="5400000">
                <a:off x="9558000" y="351144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5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52" y="1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944"/>
              <p:cNvSpPr/>
              <p:nvPr/>
            </p:nvSpPr>
            <p:spPr>
              <a:xfrm rot="5400000">
                <a:off x="9558000" y="351144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5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52" y="16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945"/>
              <p:cNvSpPr/>
              <p:nvPr/>
            </p:nvSpPr>
            <p:spPr>
              <a:xfrm rot="5400000">
                <a:off x="8615520" y="4266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946"/>
              <p:cNvSpPr/>
              <p:nvPr/>
            </p:nvSpPr>
            <p:spPr>
              <a:xfrm rot="5400000">
                <a:off x="8615520" y="426672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947"/>
              <p:cNvSpPr/>
              <p:nvPr/>
            </p:nvSpPr>
            <p:spPr>
              <a:xfrm rot="5400000">
                <a:off x="7669080" y="50238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5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2" y="1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948"/>
              <p:cNvSpPr/>
              <p:nvPr/>
            </p:nvSpPr>
            <p:spPr>
              <a:xfrm rot="5400000">
                <a:off x="7669080" y="50238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5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2" y="17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949"/>
              <p:cNvSpPr/>
              <p:nvPr/>
            </p:nvSpPr>
            <p:spPr>
              <a:xfrm rot="5400000">
                <a:off x="6726960" y="577836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4" y="0"/>
                    </a:moveTo>
                    <a:lnTo>
                      <a:pt x="0" y="35"/>
                    </a:lnTo>
                    <a:lnTo>
                      <a:pt x="17" y="52"/>
                    </a:lnTo>
                    <a:lnTo>
                      <a:pt x="50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950"/>
              <p:cNvSpPr/>
              <p:nvPr/>
            </p:nvSpPr>
            <p:spPr>
              <a:xfrm rot="5400000">
                <a:off x="6726960" y="577836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4" y="0"/>
                    </a:moveTo>
                    <a:lnTo>
                      <a:pt x="0" y="35"/>
                    </a:lnTo>
                    <a:lnTo>
                      <a:pt x="17" y="52"/>
                    </a:lnTo>
                    <a:lnTo>
                      <a:pt x="50" y="16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951"/>
              <p:cNvSpPr/>
              <p:nvPr/>
            </p:nvSpPr>
            <p:spPr>
              <a:xfrm rot="5400000">
                <a:off x="5783760" y="653688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5" y="0"/>
                    </a:moveTo>
                    <a:lnTo>
                      <a:pt x="0" y="34"/>
                    </a:lnTo>
                    <a:lnTo>
                      <a:pt x="19" y="50"/>
                    </a:lnTo>
                    <a:lnTo>
                      <a:pt x="52" y="1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952"/>
              <p:cNvSpPr/>
              <p:nvPr/>
            </p:nvSpPr>
            <p:spPr>
              <a:xfrm rot="5400000">
                <a:off x="5783760" y="653688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5" y="0"/>
                    </a:moveTo>
                    <a:lnTo>
                      <a:pt x="0" y="34"/>
                    </a:lnTo>
                    <a:lnTo>
                      <a:pt x="19" y="50"/>
                    </a:lnTo>
                    <a:lnTo>
                      <a:pt x="52" y="17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953"/>
              <p:cNvSpPr/>
              <p:nvPr/>
            </p:nvSpPr>
            <p:spPr>
              <a:xfrm rot="5400000">
                <a:off x="11751840" y="175176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954"/>
              <p:cNvSpPr/>
              <p:nvPr/>
            </p:nvSpPr>
            <p:spPr>
              <a:xfrm rot="5400000">
                <a:off x="11751840" y="175176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955"/>
              <p:cNvSpPr/>
              <p:nvPr/>
            </p:nvSpPr>
            <p:spPr>
              <a:xfrm rot="5400000">
                <a:off x="10810440" y="250524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6"/>
                    </a:lnTo>
                    <a:lnTo>
                      <a:pt x="16" y="52"/>
                    </a:lnTo>
                    <a:lnTo>
                      <a:pt x="49" y="1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956"/>
              <p:cNvSpPr/>
              <p:nvPr/>
            </p:nvSpPr>
            <p:spPr>
              <a:xfrm rot="5400000">
                <a:off x="10810440" y="250524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6"/>
                    </a:lnTo>
                    <a:lnTo>
                      <a:pt x="16" y="52"/>
                    </a:lnTo>
                    <a:lnTo>
                      <a:pt x="49" y="19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957"/>
              <p:cNvSpPr/>
              <p:nvPr/>
            </p:nvSpPr>
            <p:spPr>
              <a:xfrm rot="5400000">
                <a:off x="9866160" y="32644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958"/>
              <p:cNvSpPr/>
              <p:nvPr/>
            </p:nvSpPr>
            <p:spPr>
              <a:xfrm rot="5400000">
                <a:off x="9866160" y="32644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59"/>
              <p:cNvSpPr/>
              <p:nvPr/>
            </p:nvSpPr>
            <p:spPr>
              <a:xfrm rot="5400000">
                <a:off x="8922600" y="402012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60"/>
              <p:cNvSpPr/>
              <p:nvPr/>
            </p:nvSpPr>
            <p:spPr>
              <a:xfrm rot="5400000">
                <a:off x="8922600" y="402012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961"/>
              <p:cNvSpPr/>
              <p:nvPr/>
            </p:nvSpPr>
            <p:spPr>
              <a:xfrm rot="5400000">
                <a:off x="7978680" y="47790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962"/>
              <p:cNvSpPr/>
              <p:nvPr/>
            </p:nvSpPr>
            <p:spPr>
              <a:xfrm rot="5400000">
                <a:off x="7978680" y="47790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963"/>
              <p:cNvSpPr/>
              <p:nvPr/>
            </p:nvSpPr>
            <p:spPr>
              <a:xfrm rot="5400000">
                <a:off x="7033680" y="553356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964"/>
              <p:cNvSpPr/>
              <p:nvPr/>
            </p:nvSpPr>
            <p:spPr>
              <a:xfrm rot="5400000">
                <a:off x="7033680" y="553356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965"/>
              <p:cNvSpPr/>
              <p:nvPr/>
            </p:nvSpPr>
            <p:spPr>
              <a:xfrm rot="5400000">
                <a:off x="6091200" y="628992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6"/>
              <p:cNvSpPr/>
              <p:nvPr/>
            </p:nvSpPr>
            <p:spPr>
              <a:xfrm rot="5400000">
                <a:off x="6091200" y="628992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67"/>
              <p:cNvSpPr/>
              <p:nvPr/>
            </p:nvSpPr>
            <p:spPr>
              <a:xfrm rot="5400000">
                <a:off x="4754880" y="-841320"/>
                <a:ext cx="6584400" cy="8267040"/>
              </a:xfrm>
              <a:custGeom>
                <a:avLst/>
                <a:gdLst>
                  <a:gd name="textAreaLeft" fmla="*/ 0 w 6584400"/>
                  <a:gd name="textAreaRight" fmla="*/ 6584760 w 6584400"/>
                  <a:gd name="textAreaTop" fmla="*/ 0 h 8267040"/>
                  <a:gd name="textAreaBottom" fmla="*/ 8267400 h 8267040"/>
                </a:gdLst>
                <a:ahLst/>
                <a:rect l="textAreaLeft" t="textAreaTop" r="textAreaRight" b="textAreaBottom"/>
                <a:pathLst>
                  <a:path w="5296" h="5337">
                    <a:moveTo>
                      <a:pt x="5223" y="5228"/>
                    </a:moveTo>
                    <a:lnTo>
                      <a:pt x="5190" y="5261"/>
                    </a:lnTo>
                    <a:lnTo>
                      <a:pt x="5263" y="5337"/>
                    </a:lnTo>
                    <a:lnTo>
                      <a:pt x="5296" y="5302"/>
                    </a:lnTo>
                    <a:lnTo>
                      <a:pt x="5223" y="5228"/>
                    </a:lnTo>
                    <a:close/>
                    <a:moveTo>
                      <a:pt x="5116" y="5122"/>
                    </a:moveTo>
                    <a:lnTo>
                      <a:pt x="5081" y="5155"/>
                    </a:lnTo>
                    <a:lnTo>
                      <a:pt x="5156" y="5228"/>
                    </a:lnTo>
                    <a:lnTo>
                      <a:pt x="5190" y="5195"/>
                    </a:lnTo>
                    <a:lnTo>
                      <a:pt x="5116" y="5122"/>
                    </a:lnTo>
                    <a:close/>
                    <a:moveTo>
                      <a:pt x="4705" y="4711"/>
                    </a:moveTo>
                    <a:lnTo>
                      <a:pt x="4672" y="4744"/>
                    </a:lnTo>
                    <a:lnTo>
                      <a:pt x="5064" y="5139"/>
                    </a:lnTo>
                    <a:lnTo>
                      <a:pt x="5100" y="5105"/>
                    </a:lnTo>
                    <a:lnTo>
                      <a:pt x="4705" y="4711"/>
                    </a:lnTo>
                    <a:close/>
                    <a:moveTo>
                      <a:pt x="4615" y="4619"/>
                    </a:moveTo>
                    <a:lnTo>
                      <a:pt x="4580" y="4654"/>
                    </a:lnTo>
                    <a:lnTo>
                      <a:pt x="4655" y="4727"/>
                    </a:lnTo>
                    <a:lnTo>
                      <a:pt x="4689" y="4694"/>
                    </a:lnTo>
                    <a:lnTo>
                      <a:pt x="4615" y="4619"/>
                    </a:lnTo>
                    <a:close/>
                    <a:moveTo>
                      <a:pt x="4507" y="4512"/>
                    </a:moveTo>
                    <a:lnTo>
                      <a:pt x="4473" y="4545"/>
                    </a:lnTo>
                    <a:lnTo>
                      <a:pt x="4547" y="4619"/>
                    </a:lnTo>
                    <a:lnTo>
                      <a:pt x="4582" y="4586"/>
                    </a:lnTo>
                    <a:lnTo>
                      <a:pt x="4507" y="4512"/>
                    </a:lnTo>
                    <a:close/>
                    <a:moveTo>
                      <a:pt x="4095" y="4101"/>
                    </a:moveTo>
                    <a:lnTo>
                      <a:pt x="4062" y="4134"/>
                    </a:lnTo>
                    <a:lnTo>
                      <a:pt x="4457" y="4529"/>
                    </a:lnTo>
                    <a:lnTo>
                      <a:pt x="4490" y="4496"/>
                    </a:lnTo>
                    <a:lnTo>
                      <a:pt x="4095" y="4101"/>
                    </a:lnTo>
                    <a:close/>
                    <a:moveTo>
                      <a:pt x="4006" y="4011"/>
                    </a:moveTo>
                    <a:lnTo>
                      <a:pt x="3972" y="4044"/>
                    </a:lnTo>
                    <a:lnTo>
                      <a:pt x="4046" y="4118"/>
                    </a:lnTo>
                    <a:lnTo>
                      <a:pt x="4079" y="4084"/>
                    </a:lnTo>
                    <a:lnTo>
                      <a:pt x="4006" y="4011"/>
                    </a:lnTo>
                    <a:close/>
                    <a:moveTo>
                      <a:pt x="3899" y="3902"/>
                    </a:moveTo>
                    <a:lnTo>
                      <a:pt x="3864" y="3936"/>
                    </a:lnTo>
                    <a:lnTo>
                      <a:pt x="3939" y="4011"/>
                    </a:lnTo>
                    <a:lnTo>
                      <a:pt x="3972" y="3978"/>
                    </a:lnTo>
                    <a:lnTo>
                      <a:pt x="3899" y="3902"/>
                    </a:lnTo>
                    <a:close/>
                    <a:moveTo>
                      <a:pt x="3488" y="3491"/>
                    </a:moveTo>
                    <a:lnTo>
                      <a:pt x="3455" y="3524"/>
                    </a:lnTo>
                    <a:lnTo>
                      <a:pt x="3847" y="3919"/>
                    </a:lnTo>
                    <a:lnTo>
                      <a:pt x="3883" y="3886"/>
                    </a:lnTo>
                    <a:lnTo>
                      <a:pt x="3488" y="3491"/>
                    </a:lnTo>
                    <a:close/>
                    <a:moveTo>
                      <a:pt x="3398" y="3401"/>
                    </a:moveTo>
                    <a:lnTo>
                      <a:pt x="3363" y="3434"/>
                    </a:lnTo>
                    <a:lnTo>
                      <a:pt x="3438" y="3508"/>
                    </a:lnTo>
                    <a:lnTo>
                      <a:pt x="3471" y="3475"/>
                    </a:lnTo>
                    <a:lnTo>
                      <a:pt x="3398" y="3401"/>
                    </a:lnTo>
                    <a:close/>
                    <a:moveTo>
                      <a:pt x="3289" y="3293"/>
                    </a:moveTo>
                    <a:lnTo>
                      <a:pt x="3256" y="3326"/>
                    </a:lnTo>
                    <a:lnTo>
                      <a:pt x="3330" y="3401"/>
                    </a:lnTo>
                    <a:lnTo>
                      <a:pt x="3363" y="3368"/>
                    </a:lnTo>
                    <a:lnTo>
                      <a:pt x="3289" y="3293"/>
                    </a:lnTo>
                    <a:close/>
                    <a:moveTo>
                      <a:pt x="2878" y="2881"/>
                    </a:moveTo>
                    <a:lnTo>
                      <a:pt x="2845" y="2917"/>
                    </a:lnTo>
                    <a:lnTo>
                      <a:pt x="3240" y="3309"/>
                    </a:lnTo>
                    <a:lnTo>
                      <a:pt x="3273" y="3276"/>
                    </a:lnTo>
                    <a:lnTo>
                      <a:pt x="2878" y="2881"/>
                    </a:lnTo>
                    <a:close/>
                    <a:moveTo>
                      <a:pt x="2788" y="2792"/>
                    </a:moveTo>
                    <a:lnTo>
                      <a:pt x="2755" y="2825"/>
                    </a:lnTo>
                    <a:lnTo>
                      <a:pt x="2829" y="2898"/>
                    </a:lnTo>
                    <a:lnTo>
                      <a:pt x="2862" y="2865"/>
                    </a:lnTo>
                    <a:lnTo>
                      <a:pt x="2788" y="2792"/>
                    </a:lnTo>
                    <a:close/>
                    <a:moveTo>
                      <a:pt x="2682" y="2685"/>
                    </a:moveTo>
                    <a:lnTo>
                      <a:pt x="2647" y="2718"/>
                    </a:lnTo>
                    <a:lnTo>
                      <a:pt x="2722" y="2792"/>
                    </a:lnTo>
                    <a:lnTo>
                      <a:pt x="2755" y="2759"/>
                    </a:lnTo>
                    <a:lnTo>
                      <a:pt x="2682" y="2685"/>
                    </a:lnTo>
                    <a:close/>
                    <a:moveTo>
                      <a:pt x="2271" y="2274"/>
                    </a:moveTo>
                    <a:lnTo>
                      <a:pt x="2238" y="2307"/>
                    </a:lnTo>
                    <a:lnTo>
                      <a:pt x="2630" y="2702"/>
                    </a:lnTo>
                    <a:lnTo>
                      <a:pt x="2666" y="2669"/>
                    </a:lnTo>
                    <a:lnTo>
                      <a:pt x="2271" y="2274"/>
                    </a:lnTo>
                    <a:close/>
                    <a:moveTo>
                      <a:pt x="2181" y="2182"/>
                    </a:moveTo>
                    <a:lnTo>
                      <a:pt x="2146" y="2217"/>
                    </a:lnTo>
                    <a:lnTo>
                      <a:pt x="2221" y="2291"/>
                    </a:lnTo>
                    <a:lnTo>
                      <a:pt x="2254" y="2257"/>
                    </a:lnTo>
                    <a:lnTo>
                      <a:pt x="2181" y="2182"/>
                    </a:lnTo>
                    <a:close/>
                    <a:moveTo>
                      <a:pt x="2072" y="2075"/>
                    </a:moveTo>
                    <a:lnTo>
                      <a:pt x="2039" y="2109"/>
                    </a:lnTo>
                    <a:lnTo>
                      <a:pt x="2112" y="2182"/>
                    </a:lnTo>
                    <a:lnTo>
                      <a:pt x="2146" y="2149"/>
                    </a:lnTo>
                    <a:lnTo>
                      <a:pt x="2072" y="2075"/>
                    </a:lnTo>
                    <a:close/>
                    <a:moveTo>
                      <a:pt x="1661" y="1664"/>
                    </a:moveTo>
                    <a:lnTo>
                      <a:pt x="1628" y="1697"/>
                    </a:lnTo>
                    <a:lnTo>
                      <a:pt x="2023" y="2092"/>
                    </a:lnTo>
                    <a:lnTo>
                      <a:pt x="2056" y="2059"/>
                    </a:lnTo>
                    <a:lnTo>
                      <a:pt x="1661" y="1664"/>
                    </a:lnTo>
                    <a:close/>
                    <a:moveTo>
                      <a:pt x="1571" y="1574"/>
                    </a:moveTo>
                    <a:lnTo>
                      <a:pt x="1538" y="1607"/>
                    </a:lnTo>
                    <a:lnTo>
                      <a:pt x="1611" y="1681"/>
                    </a:lnTo>
                    <a:lnTo>
                      <a:pt x="1645" y="1648"/>
                    </a:lnTo>
                    <a:lnTo>
                      <a:pt x="1571" y="1574"/>
                    </a:lnTo>
                    <a:close/>
                    <a:moveTo>
                      <a:pt x="1465" y="1466"/>
                    </a:moveTo>
                    <a:lnTo>
                      <a:pt x="1429" y="1499"/>
                    </a:lnTo>
                    <a:lnTo>
                      <a:pt x="1505" y="1574"/>
                    </a:lnTo>
                    <a:lnTo>
                      <a:pt x="1538" y="1539"/>
                    </a:lnTo>
                    <a:lnTo>
                      <a:pt x="1465" y="1466"/>
                    </a:lnTo>
                    <a:close/>
                    <a:moveTo>
                      <a:pt x="1054" y="1054"/>
                    </a:moveTo>
                    <a:lnTo>
                      <a:pt x="1021" y="1087"/>
                    </a:lnTo>
                    <a:lnTo>
                      <a:pt x="1413" y="1482"/>
                    </a:lnTo>
                    <a:lnTo>
                      <a:pt x="1448" y="1449"/>
                    </a:lnTo>
                    <a:lnTo>
                      <a:pt x="1054" y="1054"/>
                    </a:lnTo>
                    <a:close/>
                    <a:moveTo>
                      <a:pt x="964" y="965"/>
                    </a:moveTo>
                    <a:lnTo>
                      <a:pt x="928" y="998"/>
                    </a:lnTo>
                    <a:lnTo>
                      <a:pt x="1004" y="1071"/>
                    </a:lnTo>
                    <a:lnTo>
                      <a:pt x="1037" y="1038"/>
                    </a:lnTo>
                    <a:lnTo>
                      <a:pt x="964" y="965"/>
                    </a:lnTo>
                    <a:close/>
                    <a:moveTo>
                      <a:pt x="855" y="856"/>
                    </a:moveTo>
                    <a:lnTo>
                      <a:pt x="822" y="889"/>
                    </a:lnTo>
                    <a:lnTo>
                      <a:pt x="895" y="965"/>
                    </a:lnTo>
                    <a:lnTo>
                      <a:pt x="928" y="931"/>
                    </a:lnTo>
                    <a:lnTo>
                      <a:pt x="855" y="856"/>
                    </a:lnTo>
                    <a:close/>
                    <a:moveTo>
                      <a:pt x="444" y="445"/>
                    </a:moveTo>
                    <a:lnTo>
                      <a:pt x="411" y="478"/>
                    </a:lnTo>
                    <a:lnTo>
                      <a:pt x="806" y="872"/>
                    </a:lnTo>
                    <a:lnTo>
                      <a:pt x="839" y="839"/>
                    </a:lnTo>
                    <a:lnTo>
                      <a:pt x="444" y="445"/>
                    </a:lnTo>
                    <a:close/>
                    <a:moveTo>
                      <a:pt x="354" y="355"/>
                    </a:moveTo>
                    <a:lnTo>
                      <a:pt x="321" y="388"/>
                    </a:lnTo>
                    <a:lnTo>
                      <a:pt x="394" y="461"/>
                    </a:lnTo>
                    <a:lnTo>
                      <a:pt x="427" y="428"/>
                    </a:lnTo>
                    <a:lnTo>
                      <a:pt x="354" y="355"/>
                    </a:lnTo>
                    <a:close/>
                    <a:moveTo>
                      <a:pt x="248" y="246"/>
                    </a:moveTo>
                    <a:lnTo>
                      <a:pt x="212" y="282"/>
                    </a:lnTo>
                    <a:lnTo>
                      <a:pt x="288" y="355"/>
                    </a:lnTo>
                    <a:lnTo>
                      <a:pt x="321" y="322"/>
                    </a:lnTo>
                    <a:lnTo>
                      <a:pt x="248" y="246"/>
                    </a:lnTo>
                    <a:close/>
                    <a:moveTo>
                      <a:pt x="0" y="0"/>
                    </a:moveTo>
                    <a:lnTo>
                      <a:pt x="0" y="66"/>
                    </a:lnTo>
                    <a:lnTo>
                      <a:pt x="196" y="265"/>
                    </a:lnTo>
                    <a:lnTo>
                      <a:pt x="231" y="2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68"/>
              <p:cNvSpPr/>
              <p:nvPr/>
            </p:nvSpPr>
            <p:spPr>
              <a:xfrm rot="5400000">
                <a:off x="4754880" y="-841320"/>
                <a:ext cx="6584400" cy="8267040"/>
              </a:xfrm>
              <a:custGeom>
                <a:avLst/>
                <a:gdLst>
                  <a:gd name="textAreaLeft" fmla="*/ 0 w 6584400"/>
                  <a:gd name="textAreaRight" fmla="*/ 6584760 w 6584400"/>
                  <a:gd name="textAreaTop" fmla="*/ 0 h 8267040"/>
                  <a:gd name="textAreaBottom" fmla="*/ 8267400 h 8267040"/>
                </a:gdLst>
                <a:ahLst/>
                <a:rect l="textAreaLeft" t="textAreaTop" r="textAreaRight" b="textAreaBottom"/>
                <a:pathLst>
                  <a:path w="5296" h="5337">
                    <a:moveTo>
                      <a:pt x="5223" y="5228"/>
                    </a:moveTo>
                    <a:lnTo>
                      <a:pt x="5190" y="5261"/>
                    </a:lnTo>
                    <a:lnTo>
                      <a:pt x="5263" y="5337"/>
                    </a:lnTo>
                    <a:lnTo>
                      <a:pt x="5296" y="5302"/>
                    </a:lnTo>
                    <a:lnTo>
                      <a:pt x="5223" y="5228"/>
                    </a:lnTo>
                    <a:moveTo>
                      <a:pt x="5116" y="5122"/>
                    </a:moveTo>
                    <a:lnTo>
                      <a:pt x="5081" y="5155"/>
                    </a:lnTo>
                    <a:lnTo>
                      <a:pt x="5156" y="5228"/>
                    </a:lnTo>
                    <a:lnTo>
                      <a:pt x="5190" y="5195"/>
                    </a:lnTo>
                    <a:lnTo>
                      <a:pt x="5116" y="5122"/>
                    </a:lnTo>
                    <a:moveTo>
                      <a:pt x="4705" y="4711"/>
                    </a:moveTo>
                    <a:lnTo>
                      <a:pt x="4672" y="4744"/>
                    </a:lnTo>
                    <a:lnTo>
                      <a:pt x="5064" y="5139"/>
                    </a:lnTo>
                    <a:lnTo>
                      <a:pt x="5100" y="5105"/>
                    </a:lnTo>
                    <a:lnTo>
                      <a:pt x="4705" y="4711"/>
                    </a:lnTo>
                    <a:moveTo>
                      <a:pt x="4615" y="4619"/>
                    </a:moveTo>
                    <a:lnTo>
                      <a:pt x="4580" y="4654"/>
                    </a:lnTo>
                    <a:lnTo>
                      <a:pt x="4655" y="4727"/>
                    </a:lnTo>
                    <a:lnTo>
                      <a:pt x="4689" y="4694"/>
                    </a:lnTo>
                    <a:lnTo>
                      <a:pt x="4615" y="4619"/>
                    </a:lnTo>
                    <a:moveTo>
                      <a:pt x="4507" y="4512"/>
                    </a:moveTo>
                    <a:lnTo>
                      <a:pt x="4473" y="4545"/>
                    </a:lnTo>
                    <a:lnTo>
                      <a:pt x="4547" y="4619"/>
                    </a:lnTo>
                    <a:lnTo>
                      <a:pt x="4582" y="4586"/>
                    </a:lnTo>
                    <a:lnTo>
                      <a:pt x="4507" y="4512"/>
                    </a:lnTo>
                    <a:moveTo>
                      <a:pt x="4095" y="4101"/>
                    </a:moveTo>
                    <a:lnTo>
                      <a:pt x="4062" y="4134"/>
                    </a:lnTo>
                    <a:lnTo>
                      <a:pt x="4457" y="4529"/>
                    </a:lnTo>
                    <a:lnTo>
                      <a:pt x="4490" y="4496"/>
                    </a:lnTo>
                    <a:lnTo>
                      <a:pt x="4095" y="4101"/>
                    </a:lnTo>
                    <a:moveTo>
                      <a:pt x="4006" y="4011"/>
                    </a:moveTo>
                    <a:lnTo>
                      <a:pt x="3972" y="4044"/>
                    </a:lnTo>
                    <a:lnTo>
                      <a:pt x="4046" y="4118"/>
                    </a:lnTo>
                    <a:lnTo>
                      <a:pt x="4079" y="4084"/>
                    </a:lnTo>
                    <a:lnTo>
                      <a:pt x="4006" y="4011"/>
                    </a:lnTo>
                    <a:moveTo>
                      <a:pt x="3899" y="3902"/>
                    </a:moveTo>
                    <a:lnTo>
                      <a:pt x="3864" y="3936"/>
                    </a:lnTo>
                    <a:lnTo>
                      <a:pt x="3939" y="4011"/>
                    </a:lnTo>
                    <a:lnTo>
                      <a:pt x="3972" y="3978"/>
                    </a:lnTo>
                    <a:lnTo>
                      <a:pt x="3899" y="3902"/>
                    </a:lnTo>
                    <a:moveTo>
                      <a:pt x="3488" y="3491"/>
                    </a:moveTo>
                    <a:lnTo>
                      <a:pt x="3455" y="3524"/>
                    </a:lnTo>
                    <a:lnTo>
                      <a:pt x="3847" y="3919"/>
                    </a:lnTo>
                    <a:lnTo>
                      <a:pt x="3883" y="3886"/>
                    </a:lnTo>
                    <a:lnTo>
                      <a:pt x="3488" y="3491"/>
                    </a:lnTo>
                    <a:moveTo>
                      <a:pt x="3398" y="3401"/>
                    </a:moveTo>
                    <a:lnTo>
                      <a:pt x="3363" y="3434"/>
                    </a:lnTo>
                    <a:lnTo>
                      <a:pt x="3438" y="3508"/>
                    </a:lnTo>
                    <a:lnTo>
                      <a:pt x="3471" y="3475"/>
                    </a:lnTo>
                    <a:lnTo>
                      <a:pt x="3398" y="3401"/>
                    </a:lnTo>
                    <a:moveTo>
                      <a:pt x="3289" y="3293"/>
                    </a:moveTo>
                    <a:lnTo>
                      <a:pt x="3256" y="3326"/>
                    </a:lnTo>
                    <a:lnTo>
                      <a:pt x="3330" y="3401"/>
                    </a:lnTo>
                    <a:lnTo>
                      <a:pt x="3363" y="3368"/>
                    </a:lnTo>
                    <a:lnTo>
                      <a:pt x="3289" y="3293"/>
                    </a:lnTo>
                    <a:moveTo>
                      <a:pt x="2878" y="2881"/>
                    </a:moveTo>
                    <a:lnTo>
                      <a:pt x="2845" y="2917"/>
                    </a:lnTo>
                    <a:lnTo>
                      <a:pt x="3240" y="3309"/>
                    </a:lnTo>
                    <a:lnTo>
                      <a:pt x="3273" y="3276"/>
                    </a:lnTo>
                    <a:lnTo>
                      <a:pt x="2878" y="2881"/>
                    </a:lnTo>
                    <a:moveTo>
                      <a:pt x="2788" y="2792"/>
                    </a:moveTo>
                    <a:lnTo>
                      <a:pt x="2755" y="2825"/>
                    </a:lnTo>
                    <a:lnTo>
                      <a:pt x="2829" y="2898"/>
                    </a:lnTo>
                    <a:lnTo>
                      <a:pt x="2862" y="2865"/>
                    </a:lnTo>
                    <a:lnTo>
                      <a:pt x="2788" y="2792"/>
                    </a:lnTo>
                    <a:moveTo>
                      <a:pt x="2682" y="2685"/>
                    </a:moveTo>
                    <a:lnTo>
                      <a:pt x="2647" y="2718"/>
                    </a:lnTo>
                    <a:lnTo>
                      <a:pt x="2722" y="2792"/>
                    </a:lnTo>
                    <a:lnTo>
                      <a:pt x="2755" y="2759"/>
                    </a:lnTo>
                    <a:lnTo>
                      <a:pt x="2682" y="2685"/>
                    </a:lnTo>
                    <a:moveTo>
                      <a:pt x="2271" y="2274"/>
                    </a:moveTo>
                    <a:lnTo>
                      <a:pt x="2238" y="2307"/>
                    </a:lnTo>
                    <a:lnTo>
                      <a:pt x="2630" y="2702"/>
                    </a:lnTo>
                    <a:lnTo>
                      <a:pt x="2666" y="2669"/>
                    </a:lnTo>
                    <a:lnTo>
                      <a:pt x="2271" y="2274"/>
                    </a:lnTo>
                    <a:moveTo>
                      <a:pt x="2181" y="2182"/>
                    </a:moveTo>
                    <a:lnTo>
                      <a:pt x="2146" y="2217"/>
                    </a:lnTo>
                    <a:lnTo>
                      <a:pt x="2221" y="2291"/>
                    </a:lnTo>
                    <a:lnTo>
                      <a:pt x="2254" y="2257"/>
                    </a:lnTo>
                    <a:lnTo>
                      <a:pt x="2181" y="2182"/>
                    </a:lnTo>
                    <a:moveTo>
                      <a:pt x="2072" y="2075"/>
                    </a:moveTo>
                    <a:lnTo>
                      <a:pt x="2039" y="2109"/>
                    </a:lnTo>
                    <a:lnTo>
                      <a:pt x="2112" y="2182"/>
                    </a:lnTo>
                    <a:lnTo>
                      <a:pt x="2146" y="2149"/>
                    </a:lnTo>
                    <a:lnTo>
                      <a:pt x="2072" y="2075"/>
                    </a:lnTo>
                    <a:moveTo>
                      <a:pt x="1661" y="1664"/>
                    </a:moveTo>
                    <a:lnTo>
                      <a:pt x="1628" y="1697"/>
                    </a:lnTo>
                    <a:lnTo>
                      <a:pt x="2023" y="2092"/>
                    </a:lnTo>
                    <a:lnTo>
                      <a:pt x="2056" y="2059"/>
                    </a:lnTo>
                    <a:lnTo>
                      <a:pt x="1661" y="1664"/>
                    </a:lnTo>
                    <a:moveTo>
                      <a:pt x="1571" y="1574"/>
                    </a:moveTo>
                    <a:lnTo>
                      <a:pt x="1538" y="1607"/>
                    </a:lnTo>
                    <a:lnTo>
                      <a:pt x="1611" y="1681"/>
                    </a:lnTo>
                    <a:lnTo>
                      <a:pt x="1645" y="1648"/>
                    </a:lnTo>
                    <a:lnTo>
                      <a:pt x="1571" y="1574"/>
                    </a:lnTo>
                    <a:moveTo>
                      <a:pt x="1465" y="1466"/>
                    </a:moveTo>
                    <a:lnTo>
                      <a:pt x="1429" y="1499"/>
                    </a:lnTo>
                    <a:lnTo>
                      <a:pt x="1505" y="1574"/>
                    </a:lnTo>
                    <a:lnTo>
                      <a:pt x="1538" y="1539"/>
                    </a:lnTo>
                    <a:lnTo>
                      <a:pt x="1465" y="1466"/>
                    </a:lnTo>
                    <a:moveTo>
                      <a:pt x="1054" y="1054"/>
                    </a:moveTo>
                    <a:lnTo>
                      <a:pt x="1021" y="1087"/>
                    </a:lnTo>
                    <a:lnTo>
                      <a:pt x="1413" y="1482"/>
                    </a:lnTo>
                    <a:lnTo>
                      <a:pt x="1448" y="1449"/>
                    </a:lnTo>
                    <a:lnTo>
                      <a:pt x="1054" y="1054"/>
                    </a:lnTo>
                    <a:moveTo>
                      <a:pt x="964" y="965"/>
                    </a:moveTo>
                    <a:lnTo>
                      <a:pt x="928" y="998"/>
                    </a:lnTo>
                    <a:lnTo>
                      <a:pt x="1004" y="1071"/>
                    </a:lnTo>
                    <a:lnTo>
                      <a:pt x="1037" y="1038"/>
                    </a:lnTo>
                    <a:lnTo>
                      <a:pt x="964" y="965"/>
                    </a:lnTo>
                    <a:moveTo>
                      <a:pt x="855" y="856"/>
                    </a:moveTo>
                    <a:lnTo>
                      <a:pt x="822" y="889"/>
                    </a:lnTo>
                    <a:lnTo>
                      <a:pt x="895" y="965"/>
                    </a:lnTo>
                    <a:lnTo>
                      <a:pt x="928" y="931"/>
                    </a:lnTo>
                    <a:lnTo>
                      <a:pt x="855" y="856"/>
                    </a:lnTo>
                    <a:moveTo>
                      <a:pt x="444" y="445"/>
                    </a:moveTo>
                    <a:lnTo>
                      <a:pt x="411" y="478"/>
                    </a:lnTo>
                    <a:lnTo>
                      <a:pt x="806" y="872"/>
                    </a:lnTo>
                    <a:lnTo>
                      <a:pt x="839" y="839"/>
                    </a:lnTo>
                    <a:lnTo>
                      <a:pt x="444" y="445"/>
                    </a:lnTo>
                    <a:moveTo>
                      <a:pt x="354" y="355"/>
                    </a:moveTo>
                    <a:lnTo>
                      <a:pt x="321" y="388"/>
                    </a:lnTo>
                    <a:lnTo>
                      <a:pt x="394" y="461"/>
                    </a:lnTo>
                    <a:lnTo>
                      <a:pt x="427" y="428"/>
                    </a:lnTo>
                    <a:lnTo>
                      <a:pt x="354" y="355"/>
                    </a:lnTo>
                    <a:moveTo>
                      <a:pt x="248" y="246"/>
                    </a:moveTo>
                    <a:lnTo>
                      <a:pt x="212" y="282"/>
                    </a:lnTo>
                    <a:lnTo>
                      <a:pt x="288" y="355"/>
                    </a:lnTo>
                    <a:lnTo>
                      <a:pt x="321" y="322"/>
                    </a:lnTo>
                    <a:lnTo>
                      <a:pt x="248" y="246"/>
                    </a:lnTo>
                    <a:moveTo>
                      <a:pt x="0" y="0"/>
                    </a:moveTo>
                    <a:lnTo>
                      <a:pt x="0" y="66"/>
                    </a:lnTo>
                    <a:lnTo>
                      <a:pt x="196" y="265"/>
                    </a:lnTo>
                    <a:lnTo>
                      <a:pt x="231" y="2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69"/>
              <p:cNvSpPr/>
              <p:nvPr/>
            </p:nvSpPr>
            <p:spPr>
              <a:xfrm rot="5400000">
                <a:off x="3583080" y="6501960"/>
                <a:ext cx="294480" cy="4165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237" h="269">
                    <a:moveTo>
                      <a:pt x="33" y="0"/>
                    </a:moveTo>
                    <a:lnTo>
                      <a:pt x="0" y="33"/>
                    </a:lnTo>
                    <a:lnTo>
                      <a:pt x="237" y="269"/>
                    </a:lnTo>
                    <a:lnTo>
                      <a:pt x="237" y="20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970"/>
              <p:cNvSpPr/>
              <p:nvPr/>
            </p:nvSpPr>
            <p:spPr>
              <a:xfrm rot="5400000">
                <a:off x="3583080" y="6501960"/>
                <a:ext cx="294480" cy="4165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237" h="269">
                    <a:moveTo>
                      <a:pt x="33" y="0"/>
                    </a:moveTo>
                    <a:lnTo>
                      <a:pt x="0" y="33"/>
                    </a:lnTo>
                    <a:lnTo>
                      <a:pt x="237" y="269"/>
                    </a:lnTo>
                    <a:lnTo>
                      <a:pt x="237" y="20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971"/>
              <p:cNvSpPr/>
              <p:nvPr/>
            </p:nvSpPr>
            <p:spPr>
              <a:xfrm rot="5400000">
                <a:off x="11590200" y="3477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972"/>
              <p:cNvSpPr/>
              <p:nvPr/>
            </p:nvSpPr>
            <p:spPr>
              <a:xfrm rot="5400000">
                <a:off x="11590200" y="3477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973"/>
              <p:cNvSpPr/>
              <p:nvPr/>
            </p:nvSpPr>
            <p:spPr>
              <a:xfrm rot="5400000">
                <a:off x="10644120" y="1103760"/>
                <a:ext cx="85680" cy="1036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69" h="67">
                    <a:moveTo>
                      <a:pt x="33" y="0"/>
                    </a:moveTo>
                    <a:lnTo>
                      <a:pt x="0" y="34"/>
                    </a:lnTo>
                    <a:lnTo>
                      <a:pt x="33" y="67"/>
                    </a:lnTo>
                    <a:lnTo>
                      <a:pt x="69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974"/>
              <p:cNvSpPr/>
              <p:nvPr/>
            </p:nvSpPr>
            <p:spPr>
              <a:xfrm rot="5400000">
                <a:off x="10644120" y="1103760"/>
                <a:ext cx="85680" cy="1036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69" h="67">
                    <a:moveTo>
                      <a:pt x="33" y="0"/>
                    </a:moveTo>
                    <a:lnTo>
                      <a:pt x="0" y="34"/>
                    </a:lnTo>
                    <a:lnTo>
                      <a:pt x="33" y="67"/>
                    </a:lnTo>
                    <a:lnTo>
                      <a:pt x="69" y="3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975"/>
              <p:cNvSpPr/>
              <p:nvPr/>
            </p:nvSpPr>
            <p:spPr>
              <a:xfrm rot="5400000">
                <a:off x="9703440" y="185940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5"/>
                    </a:lnTo>
                    <a:lnTo>
                      <a:pt x="33" y="68"/>
                    </a:lnTo>
                    <a:lnTo>
                      <a:pt x="66" y="3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976"/>
              <p:cNvSpPr/>
              <p:nvPr/>
            </p:nvSpPr>
            <p:spPr>
              <a:xfrm rot="5400000">
                <a:off x="9703440" y="185940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5"/>
                    </a:lnTo>
                    <a:lnTo>
                      <a:pt x="33" y="68"/>
                    </a:lnTo>
                    <a:lnTo>
                      <a:pt x="66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977"/>
              <p:cNvSpPr/>
              <p:nvPr/>
            </p:nvSpPr>
            <p:spPr>
              <a:xfrm rot="5400000">
                <a:off x="8757000" y="2615760"/>
                <a:ext cx="85680" cy="1051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34" y="0"/>
                    </a:moveTo>
                    <a:lnTo>
                      <a:pt x="0" y="33"/>
                    </a:lnTo>
                    <a:lnTo>
                      <a:pt x="34" y="68"/>
                    </a:lnTo>
                    <a:lnTo>
                      <a:pt x="69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978"/>
              <p:cNvSpPr/>
              <p:nvPr/>
            </p:nvSpPr>
            <p:spPr>
              <a:xfrm rot="5400000">
                <a:off x="8757000" y="2615760"/>
                <a:ext cx="85680" cy="1051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34" y="0"/>
                    </a:moveTo>
                    <a:lnTo>
                      <a:pt x="0" y="33"/>
                    </a:lnTo>
                    <a:lnTo>
                      <a:pt x="34" y="68"/>
                    </a:lnTo>
                    <a:lnTo>
                      <a:pt x="69" y="33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979"/>
              <p:cNvSpPr/>
              <p:nvPr/>
            </p:nvSpPr>
            <p:spPr>
              <a:xfrm rot="5400000">
                <a:off x="7815600" y="33739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980"/>
              <p:cNvSpPr/>
              <p:nvPr/>
            </p:nvSpPr>
            <p:spPr>
              <a:xfrm rot="5400000">
                <a:off x="7815600" y="33739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981"/>
              <p:cNvSpPr/>
              <p:nvPr/>
            </p:nvSpPr>
            <p:spPr>
              <a:xfrm rot="5400000">
                <a:off x="6870960" y="4131000"/>
                <a:ext cx="84240" cy="101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8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8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982"/>
              <p:cNvSpPr/>
              <p:nvPr/>
            </p:nvSpPr>
            <p:spPr>
              <a:xfrm rot="5400000">
                <a:off x="6870960" y="4131000"/>
                <a:ext cx="84240" cy="101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8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8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983"/>
              <p:cNvSpPr/>
              <p:nvPr/>
            </p:nvSpPr>
            <p:spPr>
              <a:xfrm rot="5400000">
                <a:off x="5926680" y="488772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984"/>
              <p:cNvSpPr/>
              <p:nvPr/>
            </p:nvSpPr>
            <p:spPr>
              <a:xfrm rot="5400000">
                <a:off x="5926680" y="488772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985"/>
              <p:cNvSpPr/>
              <p:nvPr/>
            </p:nvSpPr>
            <p:spPr>
              <a:xfrm rot="5400000">
                <a:off x="4982760" y="5642640"/>
                <a:ext cx="84240" cy="105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8" h="68">
                    <a:moveTo>
                      <a:pt x="35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8" y="3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986"/>
              <p:cNvSpPr/>
              <p:nvPr/>
            </p:nvSpPr>
            <p:spPr>
              <a:xfrm rot="5400000">
                <a:off x="4982760" y="5642640"/>
                <a:ext cx="84240" cy="105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8" h="68">
                    <a:moveTo>
                      <a:pt x="35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8" y="33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987"/>
              <p:cNvSpPr/>
              <p:nvPr/>
            </p:nvSpPr>
            <p:spPr>
              <a:xfrm rot="5400000">
                <a:off x="4041720" y="640116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4" y="0"/>
                    </a:moveTo>
                    <a:lnTo>
                      <a:pt x="0" y="33"/>
                    </a:lnTo>
                    <a:lnTo>
                      <a:pt x="34" y="66"/>
                    </a:lnTo>
                    <a:lnTo>
                      <a:pt x="67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988"/>
              <p:cNvSpPr/>
              <p:nvPr/>
            </p:nvSpPr>
            <p:spPr>
              <a:xfrm rot="5400000">
                <a:off x="4041720" y="640116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4" y="0"/>
                    </a:moveTo>
                    <a:lnTo>
                      <a:pt x="0" y="33"/>
                    </a:lnTo>
                    <a:lnTo>
                      <a:pt x="34" y="66"/>
                    </a:lnTo>
                    <a:lnTo>
                      <a:pt x="67" y="33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989"/>
              <p:cNvSpPr/>
              <p:nvPr/>
            </p:nvSpPr>
            <p:spPr>
              <a:xfrm rot="5400000">
                <a:off x="11448000" y="48204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990"/>
              <p:cNvSpPr/>
              <p:nvPr/>
            </p:nvSpPr>
            <p:spPr>
              <a:xfrm rot="5400000">
                <a:off x="11448000" y="48204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91"/>
              <p:cNvSpPr/>
              <p:nvPr/>
            </p:nvSpPr>
            <p:spPr>
              <a:xfrm rot="5400000">
                <a:off x="10503720" y="124128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992"/>
              <p:cNvSpPr/>
              <p:nvPr/>
            </p:nvSpPr>
            <p:spPr>
              <a:xfrm rot="5400000">
                <a:off x="10503720" y="124128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993"/>
              <p:cNvSpPr/>
              <p:nvPr/>
            </p:nvSpPr>
            <p:spPr>
              <a:xfrm rot="5400000">
                <a:off x="9559080" y="199584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4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994"/>
              <p:cNvSpPr/>
              <p:nvPr/>
            </p:nvSpPr>
            <p:spPr>
              <a:xfrm rot="5400000">
                <a:off x="9559080" y="199584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4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995"/>
              <p:cNvSpPr/>
              <p:nvPr/>
            </p:nvSpPr>
            <p:spPr>
              <a:xfrm rot="5400000">
                <a:off x="8615520" y="275364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96"/>
              <p:cNvSpPr/>
              <p:nvPr/>
            </p:nvSpPr>
            <p:spPr>
              <a:xfrm rot="5400000">
                <a:off x="8615520" y="275364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97"/>
              <p:cNvSpPr/>
              <p:nvPr/>
            </p:nvSpPr>
            <p:spPr>
              <a:xfrm rot="5400000">
                <a:off x="7672680" y="350748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998"/>
              <p:cNvSpPr/>
              <p:nvPr/>
            </p:nvSpPr>
            <p:spPr>
              <a:xfrm rot="5400000">
                <a:off x="7672680" y="350748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999"/>
              <p:cNvSpPr/>
              <p:nvPr/>
            </p:nvSpPr>
            <p:spPr>
              <a:xfrm rot="5400000">
                <a:off x="6729480" y="42674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000"/>
              <p:cNvSpPr/>
              <p:nvPr/>
            </p:nvSpPr>
            <p:spPr>
              <a:xfrm rot="5400000">
                <a:off x="6729480" y="42674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001"/>
              <p:cNvSpPr/>
              <p:nvPr/>
            </p:nvSpPr>
            <p:spPr>
              <a:xfrm rot="5400000">
                <a:off x="5785920" y="502200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002"/>
              <p:cNvSpPr/>
              <p:nvPr/>
            </p:nvSpPr>
            <p:spPr>
              <a:xfrm rot="5400000">
                <a:off x="5785920" y="502200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003"/>
              <p:cNvSpPr/>
              <p:nvPr/>
            </p:nvSpPr>
            <p:spPr>
              <a:xfrm rot="5400000">
                <a:off x="4840200" y="57798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4"/>
              <p:cNvSpPr/>
              <p:nvPr/>
            </p:nvSpPr>
            <p:spPr>
              <a:xfrm rot="5400000">
                <a:off x="4840200" y="57798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05"/>
              <p:cNvSpPr/>
              <p:nvPr/>
            </p:nvSpPr>
            <p:spPr>
              <a:xfrm rot="5400000">
                <a:off x="3897360" y="653328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49" y="1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06"/>
              <p:cNvSpPr/>
              <p:nvPr/>
            </p:nvSpPr>
            <p:spPr>
              <a:xfrm rot="5400000">
                <a:off x="3897360" y="653328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49" y="19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07"/>
              <p:cNvSpPr/>
              <p:nvPr/>
            </p:nvSpPr>
            <p:spPr>
              <a:xfrm rot="5400000">
                <a:off x="11751840" y="235440"/>
                <a:ext cx="64800" cy="80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5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52" y="1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08"/>
              <p:cNvSpPr/>
              <p:nvPr/>
            </p:nvSpPr>
            <p:spPr>
              <a:xfrm rot="5400000">
                <a:off x="11751840" y="235440"/>
                <a:ext cx="64800" cy="80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5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52" y="16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4" name="Group 1210"/>
            <p:cNvGrpSpPr/>
            <p:nvPr/>
          </p:nvGrpSpPr>
          <p:grpSpPr>
            <a:xfrm>
              <a:off x="-360" y="0"/>
              <a:ext cx="10881360" cy="6857640"/>
              <a:chOff x="-360" y="0"/>
              <a:chExt cx="10881360" cy="6857640"/>
            </a:xfrm>
          </p:grpSpPr>
          <p:sp>
            <p:nvSpPr>
              <p:cNvPr id="1005" name="Freeform 1010"/>
              <p:cNvSpPr/>
              <p:nvPr/>
            </p:nvSpPr>
            <p:spPr>
              <a:xfrm rot="5400000">
                <a:off x="10811880" y="99360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11"/>
              <p:cNvSpPr/>
              <p:nvPr/>
            </p:nvSpPr>
            <p:spPr>
              <a:xfrm rot="5400000">
                <a:off x="10811880" y="99360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12"/>
              <p:cNvSpPr/>
              <p:nvPr/>
            </p:nvSpPr>
            <p:spPr>
              <a:xfrm rot="5400000">
                <a:off x="9865080" y="175032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5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2" y="1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13"/>
              <p:cNvSpPr/>
              <p:nvPr/>
            </p:nvSpPr>
            <p:spPr>
              <a:xfrm rot="5400000">
                <a:off x="9865080" y="175032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5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2" y="17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014"/>
              <p:cNvSpPr/>
              <p:nvPr/>
            </p:nvSpPr>
            <p:spPr>
              <a:xfrm rot="5400000">
                <a:off x="8922240" y="25066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015"/>
              <p:cNvSpPr/>
              <p:nvPr/>
            </p:nvSpPr>
            <p:spPr>
              <a:xfrm rot="5400000">
                <a:off x="8922240" y="25066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016"/>
              <p:cNvSpPr/>
              <p:nvPr/>
            </p:nvSpPr>
            <p:spPr>
              <a:xfrm rot="5400000">
                <a:off x="7976160" y="32641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6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2" y="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017"/>
              <p:cNvSpPr/>
              <p:nvPr/>
            </p:nvSpPr>
            <p:spPr>
              <a:xfrm rot="5400000">
                <a:off x="7976160" y="32641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6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2" y="16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018"/>
              <p:cNvSpPr/>
              <p:nvPr/>
            </p:nvSpPr>
            <p:spPr>
              <a:xfrm rot="5400000">
                <a:off x="7037280" y="402012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019"/>
              <p:cNvSpPr/>
              <p:nvPr/>
            </p:nvSpPr>
            <p:spPr>
              <a:xfrm rot="5400000">
                <a:off x="7037280" y="402012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020"/>
              <p:cNvSpPr/>
              <p:nvPr/>
            </p:nvSpPr>
            <p:spPr>
              <a:xfrm rot="5400000">
                <a:off x="6090120" y="477612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021"/>
              <p:cNvSpPr/>
              <p:nvPr/>
            </p:nvSpPr>
            <p:spPr>
              <a:xfrm rot="5400000">
                <a:off x="6090120" y="477612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6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22"/>
              <p:cNvSpPr/>
              <p:nvPr/>
            </p:nvSpPr>
            <p:spPr>
              <a:xfrm rot="5400000">
                <a:off x="5147280" y="553428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023"/>
              <p:cNvSpPr/>
              <p:nvPr/>
            </p:nvSpPr>
            <p:spPr>
              <a:xfrm rot="5400000">
                <a:off x="5147280" y="553428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024"/>
              <p:cNvSpPr/>
              <p:nvPr/>
            </p:nvSpPr>
            <p:spPr>
              <a:xfrm rot="5400000">
                <a:off x="4202280" y="628956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025"/>
              <p:cNvSpPr/>
              <p:nvPr/>
            </p:nvSpPr>
            <p:spPr>
              <a:xfrm rot="5400000">
                <a:off x="4202280" y="628956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026"/>
              <p:cNvSpPr/>
              <p:nvPr/>
            </p:nvSpPr>
            <p:spPr>
              <a:xfrm rot="5400000">
                <a:off x="2869560" y="-841320"/>
                <a:ext cx="6584400" cy="8267040"/>
              </a:xfrm>
              <a:custGeom>
                <a:avLst/>
                <a:gdLst>
                  <a:gd name="textAreaLeft" fmla="*/ 0 w 6584400"/>
                  <a:gd name="textAreaRight" fmla="*/ 6584760 w 6584400"/>
                  <a:gd name="textAreaTop" fmla="*/ 0 h 8267040"/>
                  <a:gd name="textAreaBottom" fmla="*/ 8267400 h 8267040"/>
                </a:gdLst>
                <a:ahLst/>
                <a:rect l="textAreaLeft" t="textAreaTop" r="textAreaRight" b="textAreaBottom"/>
                <a:pathLst>
                  <a:path w="5296" h="5337">
                    <a:moveTo>
                      <a:pt x="5223" y="5231"/>
                    </a:moveTo>
                    <a:lnTo>
                      <a:pt x="5190" y="5264"/>
                    </a:lnTo>
                    <a:lnTo>
                      <a:pt x="5263" y="5337"/>
                    </a:lnTo>
                    <a:lnTo>
                      <a:pt x="5296" y="5304"/>
                    </a:lnTo>
                    <a:lnTo>
                      <a:pt x="5223" y="5231"/>
                    </a:lnTo>
                    <a:close/>
                    <a:moveTo>
                      <a:pt x="5114" y="5122"/>
                    </a:moveTo>
                    <a:lnTo>
                      <a:pt x="5081" y="5155"/>
                    </a:lnTo>
                    <a:lnTo>
                      <a:pt x="5156" y="5229"/>
                    </a:lnTo>
                    <a:lnTo>
                      <a:pt x="5190" y="5196"/>
                    </a:lnTo>
                    <a:lnTo>
                      <a:pt x="5114" y="5122"/>
                    </a:lnTo>
                    <a:close/>
                    <a:moveTo>
                      <a:pt x="4705" y="4711"/>
                    </a:moveTo>
                    <a:lnTo>
                      <a:pt x="4670" y="4744"/>
                    </a:lnTo>
                    <a:lnTo>
                      <a:pt x="5064" y="5139"/>
                    </a:lnTo>
                    <a:lnTo>
                      <a:pt x="5097" y="5106"/>
                    </a:lnTo>
                    <a:lnTo>
                      <a:pt x="4705" y="4711"/>
                    </a:lnTo>
                    <a:close/>
                    <a:moveTo>
                      <a:pt x="4613" y="4621"/>
                    </a:moveTo>
                    <a:lnTo>
                      <a:pt x="4580" y="4654"/>
                    </a:lnTo>
                    <a:lnTo>
                      <a:pt x="4653" y="4728"/>
                    </a:lnTo>
                    <a:lnTo>
                      <a:pt x="4689" y="4694"/>
                    </a:lnTo>
                    <a:lnTo>
                      <a:pt x="4613" y="4621"/>
                    </a:lnTo>
                    <a:close/>
                    <a:moveTo>
                      <a:pt x="4507" y="4512"/>
                    </a:moveTo>
                    <a:lnTo>
                      <a:pt x="4473" y="4546"/>
                    </a:lnTo>
                    <a:lnTo>
                      <a:pt x="4547" y="4621"/>
                    </a:lnTo>
                    <a:lnTo>
                      <a:pt x="4580" y="4588"/>
                    </a:lnTo>
                    <a:lnTo>
                      <a:pt x="4507" y="4512"/>
                    </a:lnTo>
                    <a:close/>
                    <a:moveTo>
                      <a:pt x="4095" y="4101"/>
                    </a:moveTo>
                    <a:lnTo>
                      <a:pt x="4062" y="4134"/>
                    </a:lnTo>
                    <a:lnTo>
                      <a:pt x="4457" y="4529"/>
                    </a:lnTo>
                    <a:lnTo>
                      <a:pt x="4490" y="4496"/>
                    </a:lnTo>
                    <a:lnTo>
                      <a:pt x="4095" y="4101"/>
                    </a:lnTo>
                    <a:close/>
                    <a:moveTo>
                      <a:pt x="4006" y="4011"/>
                    </a:moveTo>
                    <a:lnTo>
                      <a:pt x="3972" y="4044"/>
                    </a:lnTo>
                    <a:lnTo>
                      <a:pt x="4046" y="4118"/>
                    </a:lnTo>
                    <a:lnTo>
                      <a:pt x="4079" y="4085"/>
                    </a:lnTo>
                    <a:lnTo>
                      <a:pt x="4006" y="4011"/>
                    </a:lnTo>
                    <a:close/>
                    <a:moveTo>
                      <a:pt x="3897" y="3903"/>
                    </a:moveTo>
                    <a:lnTo>
                      <a:pt x="3864" y="3938"/>
                    </a:lnTo>
                    <a:lnTo>
                      <a:pt x="3939" y="4011"/>
                    </a:lnTo>
                    <a:lnTo>
                      <a:pt x="3972" y="3978"/>
                    </a:lnTo>
                    <a:lnTo>
                      <a:pt x="3897" y="3903"/>
                    </a:lnTo>
                    <a:close/>
                    <a:moveTo>
                      <a:pt x="3488" y="3491"/>
                    </a:moveTo>
                    <a:lnTo>
                      <a:pt x="3453" y="3527"/>
                    </a:lnTo>
                    <a:lnTo>
                      <a:pt x="3847" y="3919"/>
                    </a:lnTo>
                    <a:lnTo>
                      <a:pt x="3880" y="3886"/>
                    </a:lnTo>
                    <a:lnTo>
                      <a:pt x="3488" y="3491"/>
                    </a:lnTo>
                    <a:close/>
                    <a:moveTo>
                      <a:pt x="3396" y="3402"/>
                    </a:moveTo>
                    <a:lnTo>
                      <a:pt x="3363" y="3435"/>
                    </a:lnTo>
                    <a:lnTo>
                      <a:pt x="3436" y="3510"/>
                    </a:lnTo>
                    <a:lnTo>
                      <a:pt x="3471" y="3475"/>
                    </a:lnTo>
                    <a:lnTo>
                      <a:pt x="3396" y="3402"/>
                    </a:lnTo>
                    <a:close/>
                    <a:moveTo>
                      <a:pt x="3289" y="3295"/>
                    </a:moveTo>
                    <a:lnTo>
                      <a:pt x="3256" y="3328"/>
                    </a:lnTo>
                    <a:lnTo>
                      <a:pt x="3330" y="3402"/>
                    </a:lnTo>
                    <a:lnTo>
                      <a:pt x="3363" y="3369"/>
                    </a:lnTo>
                    <a:lnTo>
                      <a:pt x="3289" y="3295"/>
                    </a:lnTo>
                    <a:close/>
                    <a:moveTo>
                      <a:pt x="2878" y="2884"/>
                    </a:moveTo>
                    <a:lnTo>
                      <a:pt x="2845" y="2917"/>
                    </a:lnTo>
                    <a:lnTo>
                      <a:pt x="3240" y="3312"/>
                    </a:lnTo>
                    <a:lnTo>
                      <a:pt x="3273" y="3279"/>
                    </a:lnTo>
                    <a:lnTo>
                      <a:pt x="2878" y="2884"/>
                    </a:lnTo>
                    <a:close/>
                    <a:moveTo>
                      <a:pt x="2788" y="2792"/>
                    </a:moveTo>
                    <a:lnTo>
                      <a:pt x="2755" y="2827"/>
                    </a:lnTo>
                    <a:lnTo>
                      <a:pt x="2829" y="2901"/>
                    </a:lnTo>
                    <a:lnTo>
                      <a:pt x="2862" y="2867"/>
                    </a:lnTo>
                    <a:lnTo>
                      <a:pt x="2788" y="2792"/>
                    </a:lnTo>
                    <a:close/>
                    <a:moveTo>
                      <a:pt x="2680" y="2685"/>
                    </a:moveTo>
                    <a:lnTo>
                      <a:pt x="2647" y="2719"/>
                    </a:lnTo>
                    <a:lnTo>
                      <a:pt x="2722" y="2792"/>
                    </a:lnTo>
                    <a:lnTo>
                      <a:pt x="2755" y="2759"/>
                    </a:lnTo>
                    <a:lnTo>
                      <a:pt x="2680" y="2685"/>
                    </a:lnTo>
                    <a:close/>
                    <a:moveTo>
                      <a:pt x="2271" y="2274"/>
                    </a:moveTo>
                    <a:lnTo>
                      <a:pt x="2235" y="2307"/>
                    </a:lnTo>
                    <a:lnTo>
                      <a:pt x="2630" y="2702"/>
                    </a:lnTo>
                    <a:lnTo>
                      <a:pt x="2663" y="2669"/>
                    </a:lnTo>
                    <a:lnTo>
                      <a:pt x="2271" y="2274"/>
                    </a:lnTo>
                    <a:close/>
                    <a:moveTo>
                      <a:pt x="2179" y="2184"/>
                    </a:moveTo>
                    <a:lnTo>
                      <a:pt x="2146" y="2217"/>
                    </a:lnTo>
                    <a:lnTo>
                      <a:pt x="2219" y="2291"/>
                    </a:lnTo>
                    <a:lnTo>
                      <a:pt x="2252" y="2258"/>
                    </a:lnTo>
                    <a:lnTo>
                      <a:pt x="2179" y="2184"/>
                    </a:lnTo>
                    <a:close/>
                    <a:moveTo>
                      <a:pt x="2072" y="2076"/>
                    </a:moveTo>
                    <a:lnTo>
                      <a:pt x="2039" y="2109"/>
                    </a:lnTo>
                    <a:lnTo>
                      <a:pt x="2112" y="2184"/>
                    </a:lnTo>
                    <a:lnTo>
                      <a:pt x="2146" y="2149"/>
                    </a:lnTo>
                    <a:lnTo>
                      <a:pt x="2072" y="2076"/>
                    </a:lnTo>
                    <a:close/>
                    <a:moveTo>
                      <a:pt x="1661" y="1664"/>
                    </a:moveTo>
                    <a:lnTo>
                      <a:pt x="1628" y="1697"/>
                    </a:lnTo>
                    <a:lnTo>
                      <a:pt x="2023" y="2092"/>
                    </a:lnTo>
                    <a:lnTo>
                      <a:pt x="2056" y="2059"/>
                    </a:lnTo>
                    <a:lnTo>
                      <a:pt x="1661" y="1664"/>
                    </a:lnTo>
                    <a:close/>
                    <a:moveTo>
                      <a:pt x="1571" y="1575"/>
                    </a:moveTo>
                    <a:lnTo>
                      <a:pt x="1538" y="1608"/>
                    </a:lnTo>
                    <a:lnTo>
                      <a:pt x="1611" y="1681"/>
                    </a:lnTo>
                    <a:lnTo>
                      <a:pt x="1645" y="1648"/>
                    </a:lnTo>
                    <a:lnTo>
                      <a:pt x="1571" y="1575"/>
                    </a:lnTo>
                    <a:close/>
                    <a:moveTo>
                      <a:pt x="1463" y="1466"/>
                    </a:moveTo>
                    <a:lnTo>
                      <a:pt x="1429" y="1499"/>
                    </a:lnTo>
                    <a:lnTo>
                      <a:pt x="1505" y="1575"/>
                    </a:lnTo>
                    <a:lnTo>
                      <a:pt x="1538" y="1542"/>
                    </a:lnTo>
                    <a:lnTo>
                      <a:pt x="1463" y="1466"/>
                    </a:lnTo>
                    <a:close/>
                    <a:moveTo>
                      <a:pt x="1054" y="1055"/>
                    </a:moveTo>
                    <a:lnTo>
                      <a:pt x="1018" y="1088"/>
                    </a:lnTo>
                    <a:lnTo>
                      <a:pt x="1413" y="1482"/>
                    </a:lnTo>
                    <a:lnTo>
                      <a:pt x="1446" y="1449"/>
                    </a:lnTo>
                    <a:lnTo>
                      <a:pt x="1054" y="1055"/>
                    </a:lnTo>
                    <a:close/>
                    <a:moveTo>
                      <a:pt x="962" y="965"/>
                    </a:moveTo>
                    <a:lnTo>
                      <a:pt x="928" y="998"/>
                    </a:lnTo>
                    <a:lnTo>
                      <a:pt x="1002" y="1071"/>
                    </a:lnTo>
                    <a:lnTo>
                      <a:pt x="1035" y="1038"/>
                    </a:lnTo>
                    <a:lnTo>
                      <a:pt x="962" y="965"/>
                    </a:lnTo>
                    <a:close/>
                    <a:moveTo>
                      <a:pt x="855" y="858"/>
                    </a:moveTo>
                    <a:lnTo>
                      <a:pt x="822" y="892"/>
                    </a:lnTo>
                    <a:lnTo>
                      <a:pt x="895" y="965"/>
                    </a:lnTo>
                    <a:lnTo>
                      <a:pt x="928" y="932"/>
                    </a:lnTo>
                    <a:lnTo>
                      <a:pt x="855" y="858"/>
                    </a:lnTo>
                    <a:close/>
                    <a:moveTo>
                      <a:pt x="444" y="447"/>
                    </a:moveTo>
                    <a:lnTo>
                      <a:pt x="411" y="480"/>
                    </a:lnTo>
                    <a:lnTo>
                      <a:pt x="806" y="875"/>
                    </a:lnTo>
                    <a:lnTo>
                      <a:pt x="839" y="840"/>
                    </a:lnTo>
                    <a:lnTo>
                      <a:pt x="444" y="447"/>
                    </a:lnTo>
                    <a:close/>
                    <a:moveTo>
                      <a:pt x="354" y="355"/>
                    </a:moveTo>
                    <a:lnTo>
                      <a:pt x="321" y="388"/>
                    </a:lnTo>
                    <a:lnTo>
                      <a:pt x="394" y="464"/>
                    </a:lnTo>
                    <a:lnTo>
                      <a:pt x="427" y="431"/>
                    </a:lnTo>
                    <a:lnTo>
                      <a:pt x="354" y="355"/>
                    </a:lnTo>
                    <a:close/>
                    <a:moveTo>
                      <a:pt x="245" y="249"/>
                    </a:moveTo>
                    <a:lnTo>
                      <a:pt x="212" y="282"/>
                    </a:lnTo>
                    <a:lnTo>
                      <a:pt x="288" y="355"/>
                    </a:lnTo>
                    <a:lnTo>
                      <a:pt x="321" y="322"/>
                    </a:lnTo>
                    <a:lnTo>
                      <a:pt x="245" y="249"/>
                    </a:lnTo>
                    <a:close/>
                    <a:moveTo>
                      <a:pt x="0" y="0"/>
                    </a:moveTo>
                    <a:lnTo>
                      <a:pt x="0" y="69"/>
                    </a:lnTo>
                    <a:lnTo>
                      <a:pt x="196" y="265"/>
                    </a:lnTo>
                    <a:lnTo>
                      <a:pt x="229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027"/>
              <p:cNvSpPr/>
              <p:nvPr/>
            </p:nvSpPr>
            <p:spPr>
              <a:xfrm rot="5400000">
                <a:off x="2869560" y="-841320"/>
                <a:ext cx="6584400" cy="8267040"/>
              </a:xfrm>
              <a:custGeom>
                <a:avLst/>
                <a:gdLst>
                  <a:gd name="textAreaLeft" fmla="*/ 0 w 6584400"/>
                  <a:gd name="textAreaRight" fmla="*/ 6584760 w 6584400"/>
                  <a:gd name="textAreaTop" fmla="*/ 0 h 8267040"/>
                  <a:gd name="textAreaBottom" fmla="*/ 8267400 h 8267040"/>
                </a:gdLst>
                <a:ahLst/>
                <a:rect l="textAreaLeft" t="textAreaTop" r="textAreaRight" b="textAreaBottom"/>
                <a:pathLst>
                  <a:path w="5296" h="5337">
                    <a:moveTo>
                      <a:pt x="5223" y="5231"/>
                    </a:moveTo>
                    <a:lnTo>
                      <a:pt x="5190" y="5264"/>
                    </a:lnTo>
                    <a:lnTo>
                      <a:pt x="5263" y="5337"/>
                    </a:lnTo>
                    <a:lnTo>
                      <a:pt x="5296" y="5304"/>
                    </a:lnTo>
                    <a:lnTo>
                      <a:pt x="5223" y="5231"/>
                    </a:lnTo>
                    <a:moveTo>
                      <a:pt x="5114" y="5122"/>
                    </a:moveTo>
                    <a:lnTo>
                      <a:pt x="5081" y="5155"/>
                    </a:lnTo>
                    <a:lnTo>
                      <a:pt x="5156" y="5229"/>
                    </a:lnTo>
                    <a:lnTo>
                      <a:pt x="5190" y="5196"/>
                    </a:lnTo>
                    <a:lnTo>
                      <a:pt x="5114" y="5122"/>
                    </a:lnTo>
                    <a:moveTo>
                      <a:pt x="4705" y="4711"/>
                    </a:moveTo>
                    <a:lnTo>
                      <a:pt x="4670" y="4744"/>
                    </a:lnTo>
                    <a:lnTo>
                      <a:pt x="5064" y="5139"/>
                    </a:lnTo>
                    <a:lnTo>
                      <a:pt x="5097" y="5106"/>
                    </a:lnTo>
                    <a:lnTo>
                      <a:pt x="4705" y="4711"/>
                    </a:lnTo>
                    <a:moveTo>
                      <a:pt x="4613" y="4621"/>
                    </a:moveTo>
                    <a:lnTo>
                      <a:pt x="4580" y="4654"/>
                    </a:lnTo>
                    <a:lnTo>
                      <a:pt x="4653" y="4728"/>
                    </a:lnTo>
                    <a:lnTo>
                      <a:pt x="4689" y="4694"/>
                    </a:lnTo>
                    <a:lnTo>
                      <a:pt x="4613" y="4621"/>
                    </a:lnTo>
                    <a:moveTo>
                      <a:pt x="4507" y="4512"/>
                    </a:moveTo>
                    <a:lnTo>
                      <a:pt x="4473" y="4546"/>
                    </a:lnTo>
                    <a:lnTo>
                      <a:pt x="4547" y="4621"/>
                    </a:lnTo>
                    <a:lnTo>
                      <a:pt x="4580" y="4588"/>
                    </a:lnTo>
                    <a:lnTo>
                      <a:pt x="4507" y="4512"/>
                    </a:lnTo>
                    <a:moveTo>
                      <a:pt x="4095" y="4101"/>
                    </a:moveTo>
                    <a:lnTo>
                      <a:pt x="4062" y="4134"/>
                    </a:lnTo>
                    <a:lnTo>
                      <a:pt x="4457" y="4529"/>
                    </a:lnTo>
                    <a:lnTo>
                      <a:pt x="4490" y="4496"/>
                    </a:lnTo>
                    <a:lnTo>
                      <a:pt x="4095" y="4101"/>
                    </a:lnTo>
                    <a:moveTo>
                      <a:pt x="4006" y="4011"/>
                    </a:moveTo>
                    <a:lnTo>
                      <a:pt x="3972" y="4044"/>
                    </a:lnTo>
                    <a:lnTo>
                      <a:pt x="4046" y="4118"/>
                    </a:lnTo>
                    <a:lnTo>
                      <a:pt x="4079" y="4085"/>
                    </a:lnTo>
                    <a:lnTo>
                      <a:pt x="4006" y="4011"/>
                    </a:lnTo>
                    <a:moveTo>
                      <a:pt x="3897" y="3903"/>
                    </a:moveTo>
                    <a:lnTo>
                      <a:pt x="3864" y="3938"/>
                    </a:lnTo>
                    <a:lnTo>
                      <a:pt x="3939" y="4011"/>
                    </a:lnTo>
                    <a:lnTo>
                      <a:pt x="3972" y="3978"/>
                    </a:lnTo>
                    <a:lnTo>
                      <a:pt x="3897" y="3903"/>
                    </a:lnTo>
                    <a:moveTo>
                      <a:pt x="3488" y="3491"/>
                    </a:moveTo>
                    <a:lnTo>
                      <a:pt x="3453" y="3527"/>
                    </a:lnTo>
                    <a:lnTo>
                      <a:pt x="3847" y="3919"/>
                    </a:lnTo>
                    <a:lnTo>
                      <a:pt x="3880" y="3886"/>
                    </a:lnTo>
                    <a:lnTo>
                      <a:pt x="3488" y="3491"/>
                    </a:lnTo>
                    <a:moveTo>
                      <a:pt x="3396" y="3402"/>
                    </a:moveTo>
                    <a:lnTo>
                      <a:pt x="3363" y="3435"/>
                    </a:lnTo>
                    <a:lnTo>
                      <a:pt x="3436" y="3510"/>
                    </a:lnTo>
                    <a:lnTo>
                      <a:pt x="3471" y="3475"/>
                    </a:lnTo>
                    <a:lnTo>
                      <a:pt x="3396" y="3402"/>
                    </a:lnTo>
                    <a:moveTo>
                      <a:pt x="3289" y="3295"/>
                    </a:moveTo>
                    <a:lnTo>
                      <a:pt x="3256" y="3328"/>
                    </a:lnTo>
                    <a:lnTo>
                      <a:pt x="3330" y="3402"/>
                    </a:lnTo>
                    <a:lnTo>
                      <a:pt x="3363" y="3369"/>
                    </a:lnTo>
                    <a:lnTo>
                      <a:pt x="3289" y="3295"/>
                    </a:lnTo>
                    <a:moveTo>
                      <a:pt x="2878" y="2884"/>
                    </a:moveTo>
                    <a:lnTo>
                      <a:pt x="2845" y="2917"/>
                    </a:lnTo>
                    <a:lnTo>
                      <a:pt x="3240" y="3312"/>
                    </a:lnTo>
                    <a:lnTo>
                      <a:pt x="3273" y="3279"/>
                    </a:lnTo>
                    <a:lnTo>
                      <a:pt x="2878" y="2884"/>
                    </a:lnTo>
                    <a:moveTo>
                      <a:pt x="2788" y="2792"/>
                    </a:moveTo>
                    <a:lnTo>
                      <a:pt x="2755" y="2827"/>
                    </a:lnTo>
                    <a:lnTo>
                      <a:pt x="2829" y="2901"/>
                    </a:lnTo>
                    <a:lnTo>
                      <a:pt x="2862" y="2867"/>
                    </a:lnTo>
                    <a:lnTo>
                      <a:pt x="2788" y="2792"/>
                    </a:lnTo>
                    <a:moveTo>
                      <a:pt x="2680" y="2685"/>
                    </a:moveTo>
                    <a:lnTo>
                      <a:pt x="2647" y="2719"/>
                    </a:lnTo>
                    <a:lnTo>
                      <a:pt x="2722" y="2792"/>
                    </a:lnTo>
                    <a:lnTo>
                      <a:pt x="2755" y="2759"/>
                    </a:lnTo>
                    <a:lnTo>
                      <a:pt x="2680" y="2685"/>
                    </a:lnTo>
                    <a:moveTo>
                      <a:pt x="2271" y="2274"/>
                    </a:moveTo>
                    <a:lnTo>
                      <a:pt x="2235" y="2307"/>
                    </a:lnTo>
                    <a:lnTo>
                      <a:pt x="2630" y="2702"/>
                    </a:lnTo>
                    <a:lnTo>
                      <a:pt x="2663" y="2669"/>
                    </a:lnTo>
                    <a:lnTo>
                      <a:pt x="2271" y="2274"/>
                    </a:lnTo>
                    <a:moveTo>
                      <a:pt x="2179" y="2184"/>
                    </a:moveTo>
                    <a:lnTo>
                      <a:pt x="2146" y="2217"/>
                    </a:lnTo>
                    <a:lnTo>
                      <a:pt x="2219" y="2291"/>
                    </a:lnTo>
                    <a:lnTo>
                      <a:pt x="2252" y="2258"/>
                    </a:lnTo>
                    <a:lnTo>
                      <a:pt x="2179" y="2184"/>
                    </a:lnTo>
                    <a:moveTo>
                      <a:pt x="2072" y="2076"/>
                    </a:moveTo>
                    <a:lnTo>
                      <a:pt x="2039" y="2109"/>
                    </a:lnTo>
                    <a:lnTo>
                      <a:pt x="2112" y="2184"/>
                    </a:lnTo>
                    <a:lnTo>
                      <a:pt x="2146" y="2149"/>
                    </a:lnTo>
                    <a:lnTo>
                      <a:pt x="2072" y="2076"/>
                    </a:lnTo>
                    <a:moveTo>
                      <a:pt x="1661" y="1664"/>
                    </a:moveTo>
                    <a:lnTo>
                      <a:pt x="1628" y="1697"/>
                    </a:lnTo>
                    <a:lnTo>
                      <a:pt x="2023" y="2092"/>
                    </a:lnTo>
                    <a:lnTo>
                      <a:pt x="2056" y="2059"/>
                    </a:lnTo>
                    <a:lnTo>
                      <a:pt x="1661" y="1664"/>
                    </a:lnTo>
                    <a:moveTo>
                      <a:pt x="1571" y="1575"/>
                    </a:moveTo>
                    <a:lnTo>
                      <a:pt x="1538" y="1608"/>
                    </a:lnTo>
                    <a:lnTo>
                      <a:pt x="1611" y="1681"/>
                    </a:lnTo>
                    <a:lnTo>
                      <a:pt x="1645" y="1648"/>
                    </a:lnTo>
                    <a:lnTo>
                      <a:pt x="1571" y="1575"/>
                    </a:lnTo>
                    <a:moveTo>
                      <a:pt x="1463" y="1466"/>
                    </a:moveTo>
                    <a:lnTo>
                      <a:pt x="1429" y="1499"/>
                    </a:lnTo>
                    <a:lnTo>
                      <a:pt x="1505" y="1575"/>
                    </a:lnTo>
                    <a:lnTo>
                      <a:pt x="1538" y="1542"/>
                    </a:lnTo>
                    <a:lnTo>
                      <a:pt x="1463" y="1466"/>
                    </a:lnTo>
                    <a:moveTo>
                      <a:pt x="1054" y="1055"/>
                    </a:moveTo>
                    <a:lnTo>
                      <a:pt x="1018" y="1088"/>
                    </a:lnTo>
                    <a:lnTo>
                      <a:pt x="1413" y="1482"/>
                    </a:lnTo>
                    <a:lnTo>
                      <a:pt x="1446" y="1449"/>
                    </a:lnTo>
                    <a:lnTo>
                      <a:pt x="1054" y="1055"/>
                    </a:lnTo>
                    <a:moveTo>
                      <a:pt x="962" y="965"/>
                    </a:moveTo>
                    <a:lnTo>
                      <a:pt x="928" y="998"/>
                    </a:lnTo>
                    <a:lnTo>
                      <a:pt x="1002" y="1071"/>
                    </a:lnTo>
                    <a:lnTo>
                      <a:pt x="1035" y="1038"/>
                    </a:lnTo>
                    <a:lnTo>
                      <a:pt x="962" y="965"/>
                    </a:lnTo>
                    <a:moveTo>
                      <a:pt x="855" y="858"/>
                    </a:moveTo>
                    <a:lnTo>
                      <a:pt x="822" y="892"/>
                    </a:lnTo>
                    <a:lnTo>
                      <a:pt x="895" y="965"/>
                    </a:lnTo>
                    <a:lnTo>
                      <a:pt x="928" y="932"/>
                    </a:lnTo>
                    <a:lnTo>
                      <a:pt x="855" y="858"/>
                    </a:lnTo>
                    <a:moveTo>
                      <a:pt x="444" y="447"/>
                    </a:moveTo>
                    <a:lnTo>
                      <a:pt x="411" y="480"/>
                    </a:lnTo>
                    <a:lnTo>
                      <a:pt x="806" y="875"/>
                    </a:lnTo>
                    <a:lnTo>
                      <a:pt x="839" y="840"/>
                    </a:lnTo>
                    <a:lnTo>
                      <a:pt x="444" y="447"/>
                    </a:lnTo>
                    <a:moveTo>
                      <a:pt x="354" y="355"/>
                    </a:moveTo>
                    <a:lnTo>
                      <a:pt x="321" y="388"/>
                    </a:lnTo>
                    <a:lnTo>
                      <a:pt x="394" y="464"/>
                    </a:lnTo>
                    <a:lnTo>
                      <a:pt x="427" y="431"/>
                    </a:lnTo>
                    <a:lnTo>
                      <a:pt x="354" y="355"/>
                    </a:lnTo>
                    <a:moveTo>
                      <a:pt x="245" y="249"/>
                    </a:moveTo>
                    <a:lnTo>
                      <a:pt x="212" y="282"/>
                    </a:lnTo>
                    <a:lnTo>
                      <a:pt x="288" y="355"/>
                    </a:lnTo>
                    <a:lnTo>
                      <a:pt x="321" y="322"/>
                    </a:lnTo>
                    <a:lnTo>
                      <a:pt x="245" y="249"/>
                    </a:lnTo>
                    <a:moveTo>
                      <a:pt x="0" y="0"/>
                    </a:moveTo>
                    <a:lnTo>
                      <a:pt x="0" y="69"/>
                    </a:lnTo>
                    <a:lnTo>
                      <a:pt x="196" y="265"/>
                    </a:lnTo>
                    <a:lnTo>
                      <a:pt x="229" y="2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028"/>
              <p:cNvSpPr/>
              <p:nvPr/>
            </p:nvSpPr>
            <p:spPr>
              <a:xfrm rot="5400000">
                <a:off x="1697760" y="6501960"/>
                <a:ext cx="294480" cy="4165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237" h="269">
                    <a:moveTo>
                      <a:pt x="33" y="0"/>
                    </a:moveTo>
                    <a:lnTo>
                      <a:pt x="0" y="33"/>
                    </a:lnTo>
                    <a:lnTo>
                      <a:pt x="237" y="269"/>
                    </a:lnTo>
                    <a:lnTo>
                      <a:pt x="237" y="20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029"/>
              <p:cNvSpPr/>
              <p:nvPr/>
            </p:nvSpPr>
            <p:spPr>
              <a:xfrm rot="5400000">
                <a:off x="1697760" y="6501960"/>
                <a:ext cx="294480" cy="4165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237" h="269">
                    <a:moveTo>
                      <a:pt x="33" y="0"/>
                    </a:moveTo>
                    <a:lnTo>
                      <a:pt x="0" y="33"/>
                    </a:lnTo>
                    <a:lnTo>
                      <a:pt x="237" y="269"/>
                    </a:lnTo>
                    <a:lnTo>
                      <a:pt x="237" y="20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030"/>
              <p:cNvSpPr/>
              <p:nvPr/>
            </p:nvSpPr>
            <p:spPr>
              <a:xfrm rot="5400000">
                <a:off x="9704520" y="3477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031"/>
              <p:cNvSpPr/>
              <p:nvPr/>
            </p:nvSpPr>
            <p:spPr>
              <a:xfrm rot="5400000">
                <a:off x="9704520" y="3477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032"/>
              <p:cNvSpPr/>
              <p:nvPr/>
            </p:nvSpPr>
            <p:spPr>
              <a:xfrm rot="5400000">
                <a:off x="8759520" y="110340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033"/>
              <p:cNvSpPr/>
              <p:nvPr/>
            </p:nvSpPr>
            <p:spPr>
              <a:xfrm rot="5400000">
                <a:off x="8759520" y="110340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034"/>
              <p:cNvSpPr/>
              <p:nvPr/>
            </p:nvSpPr>
            <p:spPr>
              <a:xfrm rot="5400000">
                <a:off x="7815240" y="18612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035"/>
              <p:cNvSpPr/>
              <p:nvPr/>
            </p:nvSpPr>
            <p:spPr>
              <a:xfrm rot="5400000">
                <a:off x="7815240" y="18612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036"/>
              <p:cNvSpPr/>
              <p:nvPr/>
            </p:nvSpPr>
            <p:spPr>
              <a:xfrm rot="5400000">
                <a:off x="6872760" y="2614320"/>
                <a:ext cx="83160" cy="10512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4" y="0"/>
                    </a:moveTo>
                    <a:lnTo>
                      <a:pt x="0" y="35"/>
                    </a:lnTo>
                    <a:lnTo>
                      <a:pt x="34" y="68"/>
                    </a:lnTo>
                    <a:lnTo>
                      <a:pt x="67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37"/>
              <p:cNvSpPr/>
              <p:nvPr/>
            </p:nvSpPr>
            <p:spPr>
              <a:xfrm rot="5400000">
                <a:off x="6872760" y="2614320"/>
                <a:ext cx="83160" cy="10512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4" y="0"/>
                    </a:moveTo>
                    <a:lnTo>
                      <a:pt x="0" y="35"/>
                    </a:lnTo>
                    <a:lnTo>
                      <a:pt x="34" y="68"/>
                    </a:lnTo>
                    <a:lnTo>
                      <a:pt x="67" y="35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038"/>
              <p:cNvSpPr/>
              <p:nvPr/>
            </p:nvSpPr>
            <p:spPr>
              <a:xfrm rot="5400000">
                <a:off x="5928480" y="337212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039"/>
              <p:cNvSpPr/>
              <p:nvPr/>
            </p:nvSpPr>
            <p:spPr>
              <a:xfrm rot="5400000">
                <a:off x="5928480" y="337212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040"/>
              <p:cNvSpPr/>
              <p:nvPr/>
            </p:nvSpPr>
            <p:spPr>
              <a:xfrm rot="5400000">
                <a:off x="4985280" y="41299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41"/>
              <p:cNvSpPr/>
              <p:nvPr/>
            </p:nvSpPr>
            <p:spPr>
              <a:xfrm rot="5400000">
                <a:off x="4985280" y="41299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042"/>
              <p:cNvSpPr/>
              <p:nvPr/>
            </p:nvSpPr>
            <p:spPr>
              <a:xfrm rot="5400000">
                <a:off x="4041000" y="488772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043"/>
              <p:cNvSpPr/>
              <p:nvPr/>
            </p:nvSpPr>
            <p:spPr>
              <a:xfrm rot="5400000">
                <a:off x="4041000" y="488772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044"/>
              <p:cNvSpPr/>
              <p:nvPr/>
            </p:nvSpPr>
            <p:spPr>
              <a:xfrm rot="5400000">
                <a:off x="3096720" y="56430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045"/>
              <p:cNvSpPr/>
              <p:nvPr/>
            </p:nvSpPr>
            <p:spPr>
              <a:xfrm rot="5400000">
                <a:off x="3096720" y="56430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046"/>
              <p:cNvSpPr/>
              <p:nvPr/>
            </p:nvSpPr>
            <p:spPr>
              <a:xfrm rot="5400000">
                <a:off x="2152440" y="6399360"/>
                <a:ext cx="83160" cy="10512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4" y="0"/>
                    </a:moveTo>
                    <a:lnTo>
                      <a:pt x="0" y="33"/>
                    </a:lnTo>
                    <a:lnTo>
                      <a:pt x="34" y="68"/>
                    </a:lnTo>
                    <a:lnTo>
                      <a:pt x="67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047"/>
              <p:cNvSpPr/>
              <p:nvPr/>
            </p:nvSpPr>
            <p:spPr>
              <a:xfrm rot="5400000">
                <a:off x="2152440" y="6399360"/>
                <a:ext cx="83160" cy="10512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4" y="0"/>
                    </a:moveTo>
                    <a:lnTo>
                      <a:pt x="0" y="33"/>
                    </a:lnTo>
                    <a:lnTo>
                      <a:pt x="34" y="68"/>
                    </a:lnTo>
                    <a:lnTo>
                      <a:pt x="67" y="35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048"/>
              <p:cNvSpPr/>
              <p:nvPr/>
            </p:nvSpPr>
            <p:spPr>
              <a:xfrm rot="5400000">
                <a:off x="9558720" y="482760"/>
                <a:ext cx="62280" cy="759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1049"/>
              <p:cNvSpPr/>
              <p:nvPr/>
            </p:nvSpPr>
            <p:spPr>
              <a:xfrm rot="5400000">
                <a:off x="9558720" y="482760"/>
                <a:ext cx="62280" cy="759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050"/>
              <p:cNvSpPr/>
              <p:nvPr/>
            </p:nvSpPr>
            <p:spPr>
              <a:xfrm rot="5400000">
                <a:off x="8616960" y="123912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2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1051"/>
              <p:cNvSpPr/>
              <p:nvPr/>
            </p:nvSpPr>
            <p:spPr>
              <a:xfrm rot="5400000">
                <a:off x="8616960" y="123912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2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052"/>
              <p:cNvSpPr/>
              <p:nvPr/>
            </p:nvSpPr>
            <p:spPr>
              <a:xfrm rot="5400000">
                <a:off x="7673760" y="199584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4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1053"/>
              <p:cNvSpPr/>
              <p:nvPr/>
            </p:nvSpPr>
            <p:spPr>
              <a:xfrm rot="5400000">
                <a:off x="7673760" y="199584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4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1054"/>
              <p:cNvSpPr/>
              <p:nvPr/>
            </p:nvSpPr>
            <p:spPr>
              <a:xfrm rot="5400000">
                <a:off x="6727680" y="27529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52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055"/>
              <p:cNvSpPr/>
              <p:nvPr/>
            </p:nvSpPr>
            <p:spPr>
              <a:xfrm rot="5400000">
                <a:off x="6727680" y="27529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52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056"/>
              <p:cNvSpPr/>
              <p:nvPr/>
            </p:nvSpPr>
            <p:spPr>
              <a:xfrm rot="5400000">
                <a:off x="5785200" y="35089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057"/>
              <p:cNvSpPr/>
              <p:nvPr/>
            </p:nvSpPr>
            <p:spPr>
              <a:xfrm rot="5400000">
                <a:off x="5785200" y="35089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058"/>
              <p:cNvSpPr/>
              <p:nvPr/>
            </p:nvSpPr>
            <p:spPr>
              <a:xfrm rot="5400000">
                <a:off x="4840200" y="426384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5" y="0"/>
                    </a:moveTo>
                    <a:lnTo>
                      <a:pt x="0" y="35"/>
                    </a:lnTo>
                    <a:lnTo>
                      <a:pt x="17" y="52"/>
                    </a:lnTo>
                    <a:lnTo>
                      <a:pt x="52" y="1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059"/>
              <p:cNvSpPr/>
              <p:nvPr/>
            </p:nvSpPr>
            <p:spPr>
              <a:xfrm rot="5400000">
                <a:off x="4840200" y="4263840"/>
                <a:ext cx="64440" cy="80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5" y="0"/>
                    </a:moveTo>
                    <a:lnTo>
                      <a:pt x="0" y="35"/>
                    </a:lnTo>
                    <a:lnTo>
                      <a:pt x="17" y="52"/>
                    </a:lnTo>
                    <a:lnTo>
                      <a:pt x="52" y="16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060"/>
              <p:cNvSpPr/>
              <p:nvPr/>
            </p:nvSpPr>
            <p:spPr>
              <a:xfrm rot="5400000">
                <a:off x="3899520" y="502272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1061"/>
              <p:cNvSpPr/>
              <p:nvPr/>
            </p:nvSpPr>
            <p:spPr>
              <a:xfrm rot="5400000">
                <a:off x="3899520" y="502272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1062"/>
              <p:cNvSpPr/>
              <p:nvPr/>
            </p:nvSpPr>
            <p:spPr>
              <a:xfrm rot="5400000">
                <a:off x="2953440" y="57783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063"/>
              <p:cNvSpPr/>
              <p:nvPr/>
            </p:nvSpPr>
            <p:spPr>
              <a:xfrm rot="5400000">
                <a:off x="2953440" y="57783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064"/>
              <p:cNvSpPr/>
              <p:nvPr/>
            </p:nvSpPr>
            <p:spPr>
              <a:xfrm rot="5400000">
                <a:off x="2010600" y="653508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065"/>
              <p:cNvSpPr/>
              <p:nvPr/>
            </p:nvSpPr>
            <p:spPr>
              <a:xfrm rot="5400000">
                <a:off x="2010600" y="653508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066"/>
              <p:cNvSpPr/>
              <p:nvPr/>
            </p:nvSpPr>
            <p:spPr>
              <a:xfrm rot="5400000">
                <a:off x="9866880" y="2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067"/>
              <p:cNvSpPr/>
              <p:nvPr/>
            </p:nvSpPr>
            <p:spPr>
              <a:xfrm rot="5400000">
                <a:off x="9866880" y="2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068"/>
              <p:cNvSpPr/>
              <p:nvPr/>
            </p:nvSpPr>
            <p:spPr>
              <a:xfrm rot="5400000">
                <a:off x="8924040" y="99216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49" y="18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069"/>
              <p:cNvSpPr/>
              <p:nvPr/>
            </p:nvSpPr>
            <p:spPr>
              <a:xfrm rot="5400000">
                <a:off x="8924040" y="992160"/>
                <a:ext cx="60840" cy="802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49" y="18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070"/>
              <p:cNvSpPr/>
              <p:nvPr/>
            </p:nvSpPr>
            <p:spPr>
              <a:xfrm rot="5400000">
                <a:off x="7981560" y="174924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071"/>
              <p:cNvSpPr/>
              <p:nvPr/>
            </p:nvSpPr>
            <p:spPr>
              <a:xfrm rot="5400000">
                <a:off x="7981560" y="174924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072"/>
              <p:cNvSpPr/>
              <p:nvPr/>
            </p:nvSpPr>
            <p:spPr>
              <a:xfrm rot="5400000">
                <a:off x="7037280" y="250668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073"/>
              <p:cNvSpPr/>
              <p:nvPr/>
            </p:nvSpPr>
            <p:spPr>
              <a:xfrm rot="5400000">
                <a:off x="7037280" y="2506680"/>
                <a:ext cx="60840" cy="774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074"/>
              <p:cNvSpPr/>
              <p:nvPr/>
            </p:nvSpPr>
            <p:spPr>
              <a:xfrm rot="5400000">
                <a:off x="6091560" y="32619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075"/>
              <p:cNvSpPr/>
              <p:nvPr/>
            </p:nvSpPr>
            <p:spPr>
              <a:xfrm rot="5400000">
                <a:off x="6091560" y="32619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076"/>
              <p:cNvSpPr/>
              <p:nvPr/>
            </p:nvSpPr>
            <p:spPr>
              <a:xfrm rot="5400000">
                <a:off x="5148000" y="40208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077"/>
              <p:cNvSpPr/>
              <p:nvPr/>
            </p:nvSpPr>
            <p:spPr>
              <a:xfrm rot="5400000">
                <a:off x="5148000" y="40208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078"/>
              <p:cNvSpPr/>
              <p:nvPr/>
            </p:nvSpPr>
            <p:spPr>
              <a:xfrm rot="5400000">
                <a:off x="4204800" y="477360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079"/>
              <p:cNvSpPr/>
              <p:nvPr/>
            </p:nvSpPr>
            <p:spPr>
              <a:xfrm rot="5400000">
                <a:off x="4204800" y="477360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080"/>
              <p:cNvSpPr/>
              <p:nvPr/>
            </p:nvSpPr>
            <p:spPr>
              <a:xfrm rot="5400000">
                <a:off x="3261600" y="553356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81"/>
              <p:cNvSpPr/>
              <p:nvPr/>
            </p:nvSpPr>
            <p:spPr>
              <a:xfrm rot="5400000">
                <a:off x="3261600" y="553356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082"/>
              <p:cNvSpPr/>
              <p:nvPr/>
            </p:nvSpPr>
            <p:spPr>
              <a:xfrm rot="5400000">
                <a:off x="2317680" y="628920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083"/>
              <p:cNvSpPr/>
              <p:nvPr/>
            </p:nvSpPr>
            <p:spPr>
              <a:xfrm rot="5400000">
                <a:off x="2317680" y="628920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084"/>
              <p:cNvSpPr/>
              <p:nvPr/>
            </p:nvSpPr>
            <p:spPr>
              <a:xfrm rot="5400000">
                <a:off x="833760" y="-834120"/>
                <a:ext cx="6737400" cy="8406000"/>
              </a:xfrm>
              <a:custGeom>
                <a:avLst/>
                <a:gdLst>
                  <a:gd name="textAreaLeft" fmla="*/ 0 w 6737400"/>
                  <a:gd name="textAreaRight" fmla="*/ 6737760 w 6737400"/>
                  <a:gd name="textAreaTop" fmla="*/ 0 h 8406000"/>
                  <a:gd name="textAreaBottom" fmla="*/ 8406000 h 8406000"/>
                </a:gdLst>
                <a:ahLst/>
                <a:rect l="textAreaLeft" t="textAreaTop" r="textAreaRight" b="textAreaBottom"/>
                <a:pathLst>
                  <a:path w="5419" h="5427">
                    <a:moveTo>
                      <a:pt x="5312" y="5318"/>
                    </a:moveTo>
                    <a:lnTo>
                      <a:pt x="5279" y="5351"/>
                    </a:lnTo>
                    <a:lnTo>
                      <a:pt x="5353" y="5427"/>
                    </a:lnTo>
                    <a:lnTo>
                      <a:pt x="5419" y="5427"/>
                    </a:lnTo>
                    <a:lnTo>
                      <a:pt x="5312" y="5318"/>
                    </a:lnTo>
                    <a:close/>
                    <a:moveTo>
                      <a:pt x="5223" y="5228"/>
                    </a:moveTo>
                    <a:lnTo>
                      <a:pt x="5187" y="5261"/>
                    </a:lnTo>
                    <a:lnTo>
                      <a:pt x="5263" y="5335"/>
                    </a:lnTo>
                    <a:lnTo>
                      <a:pt x="5296" y="5301"/>
                    </a:lnTo>
                    <a:lnTo>
                      <a:pt x="5223" y="5228"/>
                    </a:lnTo>
                    <a:close/>
                    <a:moveTo>
                      <a:pt x="5114" y="5119"/>
                    </a:moveTo>
                    <a:lnTo>
                      <a:pt x="5081" y="5153"/>
                    </a:lnTo>
                    <a:lnTo>
                      <a:pt x="5154" y="5228"/>
                    </a:lnTo>
                    <a:lnTo>
                      <a:pt x="5187" y="5195"/>
                    </a:lnTo>
                    <a:lnTo>
                      <a:pt x="5114" y="5119"/>
                    </a:lnTo>
                    <a:close/>
                    <a:moveTo>
                      <a:pt x="4703" y="4708"/>
                    </a:moveTo>
                    <a:lnTo>
                      <a:pt x="4670" y="4741"/>
                    </a:lnTo>
                    <a:lnTo>
                      <a:pt x="5064" y="5136"/>
                    </a:lnTo>
                    <a:lnTo>
                      <a:pt x="5097" y="5103"/>
                    </a:lnTo>
                    <a:lnTo>
                      <a:pt x="4703" y="4708"/>
                    </a:lnTo>
                    <a:close/>
                    <a:moveTo>
                      <a:pt x="4613" y="4618"/>
                    </a:moveTo>
                    <a:lnTo>
                      <a:pt x="4580" y="4651"/>
                    </a:lnTo>
                    <a:lnTo>
                      <a:pt x="4653" y="4725"/>
                    </a:lnTo>
                    <a:lnTo>
                      <a:pt x="4686" y="4692"/>
                    </a:lnTo>
                    <a:lnTo>
                      <a:pt x="4613" y="4618"/>
                    </a:lnTo>
                    <a:close/>
                    <a:moveTo>
                      <a:pt x="4507" y="4510"/>
                    </a:moveTo>
                    <a:lnTo>
                      <a:pt x="4471" y="4545"/>
                    </a:lnTo>
                    <a:lnTo>
                      <a:pt x="4547" y="4618"/>
                    </a:lnTo>
                    <a:lnTo>
                      <a:pt x="4580" y="4585"/>
                    </a:lnTo>
                    <a:lnTo>
                      <a:pt x="4507" y="4510"/>
                    </a:lnTo>
                    <a:close/>
                    <a:moveTo>
                      <a:pt x="4095" y="4098"/>
                    </a:moveTo>
                    <a:lnTo>
                      <a:pt x="4062" y="4134"/>
                    </a:lnTo>
                    <a:lnTo>
                      <a:pt x="4455" y="4526"/>
                    </a:lnTo>
                    <a:lnTo>
                      <a:pt x="4488" y="4493"/>
                    </a:lnTo>
                    <a:lnTo>
                      <a:pt x="4095" y="4098"/>
                    </a:lnTo>
                    <a:close/>
                    <a:moveTo>
                      <a:pt x="4006" y="4009"/>
                    </a:moveTo>
                    <a:lnTo>
                      <a:pt x="3970" y="4042"/>
                    </a:lnTo>
                    <a:lnTo>
                      <a:pt x="4046" y="4117"/>
                    </a:lnTo>
                    <a:lnTo>
                      <a:pt x="4079" y="4082"/>
                    </a:lnTo>
                    <a:lnTo>
                      <a:pt x="4006" y="4009"/>
                    </a:lnTo>
                    <a:close/>
                    <a:moveTo>
                      <a:pt x="3897" y="3902"/>
                    </a:moveTo>
                    <a:lnTo>
                      <a:pt x="3864" y="3935"/>
                    </a:lnTo>
                    <a:lnTo>
                      <a:pt x="3937" y="4009"/>
                    </a:lnTo>
                    <a:lnTo>
                      <a:pt x="3970" y="3976"/>
                    </a:lnTo>
                    <a:lnTo>
                      <a:pt x="3897" y="3902"/>
                    </a:lnTo>
                    <a:close/>
                    <a:moveTo>
                      <a:pt x="3486" y="3491"/>
                    </a:moveTo>
                    <a:lnTo>
                      <a:pt x="3453" y="3524"/>
                    </a:lnTo>
                    <a:lnTo>
                      <a:pt x="3847" y="3919"/>
                    </a:lnTo>
                    <a:lnTo>
                      <a:pt x="3880" y="3886"/>
                    </a:lnTo>
                    <a:lnTo>
                      <a:pt x="3486" y="3491"/>
                    </a:lnTo>
                    <a:close/>
                    <a:moveTo>
                      <a:pt x="3396" y="3399"/>
                    </a:moveTo>
                    <a:lnTo>
                      <a:pt x="3363" y="3434"/>
                    </a:lnTo>
                    <a:lnTo>
                      <a:pt x="3436" y="3508"/>
                    </a:lnTo>
                    <a:lnTo>
                      <a:pt x="3469" y="3474"/>
                    </a:lnTo>
                    <a:lnTo>
                      <a:pt x="3396" y="3399"/>
                    </a:lnTo>
                    <a:close/>
                    <a:moveTo>
                      <a:pt x="3289" y="3292"/>
                    </a:moveTo>
                    <a:lnTo>
                      <a:pt x="3254" y="3326"/>
                    </a:lnTo>
                    <a:lnTo>
                      <a:pt x="3330" y="3399"/>
                    </a:lnTo>
                    <a:lnTo>
                      <a:pt x="3363" y="3366"/>
                    </a:lnTo>
                    <a:lnTo>
                      <a:pt x="3289" y="3292"/>
                    </a:lnTo>
                    <a:close/>
                    <a:moveTo>
                      <a:pt x="2878" y="2881"/>
                    </a:moveTo>
                    <a:lnTo>
                      <a:pt x="2845" y="2914"/>
                    </a:lnTo>
                    <a:lnTo>
                      <a:pt x="3237" y="3309"/>
                    </a:lnTo>
                    <a:lnTo>
                      <a:pt x="3271" y="3276"/>
                    </a:lnTo>
                    <a:lnTo>
                      <a:pt x="2878" y="2881"/>
                    </a:lnTo>
                    <a:close/>
                    <a:moveTo>
                      <a:pt x="2788" y="2791"/>
                    </a:moveTo>
                    <a:lnTo>
                      <a:pt x="2753" y="2824"/>
                    </a:lnTo>
                    <a:lnTo>
                      <a:pt x="2829" y="2898"/>
                    </a:lnTo>
                    <a:lnTo>
                      <a:pt x="2862" y="2865"/>
                    </a:lnTo>
                    <a:lnTo>
                      <a:pt x="2788" y="2791"/>
                    </a:lnTo>
                    <a:close/>
                    <a:moveTo>
                      <a:pt x="2680" y="2683"/>
                    </a:moveTo>
                    <a:lnTo>
                      <a:pt x="2647" y="2716"/>
                    </a:lnTo>
                    <a:lnTo>
                      <a:pt x="2720" y="2791"/>
                    </a:lnTo>
                    <a:lnTo>
                      <a:pt x="2753" y="2758"/>
                    </a:lnTo>
                    <a:lnTo>
                      <a:pt x="2680" y="2683"/>
                    </a:lnTo>
                    <a:close/>
                    <a:moveTo>
                      <a:pt x="2268" y="2271"/>
                    </a:moveTo>
                    <a:lnTo>
                      <a:pt x="2235" y="2305"/>
                    </a:lnTo>
                    <a:lnTo>
                      <a:pt x="2630" y="2699"/>
                    </a:lnTo>
                    <a:lnTo>
                      <a:pt x="2663" y="2666"/>
                    </a:lnTo>
                    <a:lnTo>
                      <a:pt x="2268" y="2271"/>
                    </a:lnTo>
                    <a:close/>
                    <a:moveTo>
                      <a:pt x="2179" y="2182"/>
                    </a:moveTo>
                    <a:lnTo>
                      <a:pt x="2146" y="2215"/>
                    </a:lnTo>
                    <a:lnTo>
                      <a:pt x="2219" y="2288"/>
                    </a:lnTo>
                    <a:lnTo>
                      <a:pt x="2252" y="2255"/>
                    </a:lnTo>
                    <a:lnTo>
                      <a:pt x="2179" y="2182"/>
                    </a:lnTo>
                    <a:close/>
                    <a:moveTo>
                      <a:pt x="2072" y="2073"/>
                    </a:moveTo>
                    <a:lnTo>
                      <a:pt x="2037" y="2106"/>
                    </a:lnTo>
                    <a:lnTo>
                      <a:pt x="2112" y="2182"/>
                    </a:lnTo>
                    <a:lnTo>
                      <a:pt x="2146" y="2149"/>
                    </a:lnTo>
                    <a:lnTo>
                      <a:pt x="2072" y="2073"/>
                    </a:lnTo>
                    <a:close/>
                    <a:moveTo>
                      <a:pt x="1661" y="1662"/>
                    </a:moveTo>
                    <a:lnTo>
                      <a:pt x="1628" y="1697"/>
                    </a:lnTo>
                    <a:lnTo>
                      <a:pt x="2020" y="2089"/>
                    </a:lnTo>
                    <a:lnTo>
                      <a:pt x="2053" y="2056"/>
                    </a:lnTo>
                    <a:lnTo>
                      <a:pt x="1661" y="1662"/>
                    </a:lnTo>
                    <a:close/>
                    <a:moveTo>
                      <a:pt x="1571" y="1572"/>
                    </a:moveTo>
                    <a:lnTo>
                      <a:pt x="1536" y="1605"/>
                    </a:lnTo>
                    <a:lnTo>
                      <a:pt x="1611" y="1678"/>
                    </a:lnTo>
                    <a:lnTo>
                      <a:pt x="1645" y="1645"/>
                    </a:lnTo>
                    <a:lnTo>
                      <a:pt x="1571" y="1572"/>
                    </a:lnTo>
                    <a:close/>
                    <a:moveTo>
                      <a:pt x="1463" y="1465"/>
                    </a:moveTo>
                    <a:lnTo>
                      <a:pt x="1429" y="1499"/>
                    </a:lnTo>
                    <a:lnTo>
                      <a:pt x="1503" y="1572"/>
                    </a:lnTo>
                    <a:lnTo>
                      <a:pt x="1536" y="1539"/>
                    </a:lnTo>
                    <a:lnTo>
                      <a:pt x="1463" y="1465"/>
                    </a:lnTo>
                    <a:close/>
                    <a:moveTo>
                      <a:pt x="1051" y="1054"/>
                    </a:moveTo>
                    <a:lnTo>
                      <a:pt x="1018" y="1087"/>
                    </a:lnTo>
                    <a:lnTo>
                      <a:pt x="1413" y="1482"/>
                    </a:lnTo>
                    <a:lnTo>
                      <a:pt x="1446" y="1447"/>
                    </a:lnTo>
                    <a:lnTo>
                      <a:pt x="1051" y="1054"/>
                    </a:lnTo>
                    <a:close/>
                    <a:moveTo>
                      <a:pt x="962" y="962"/>
                    </a:moveTo>
                    <a:lnTo>
                      <a:pt x="928" y="995"/>
                    </a:lnTo>
                    <a:lnTo>
                      <a:pt x="1002" y="1071"/>
                    </a:lnTo>
                    <a:lnTo>
                      <a:pt x="1035" y="1038"/>
                    </a:lnTo>
                    <a:lnTo>
                      <a:pt x="962" y="962"/>
                    </a:lnTo>
                    <a:close/>
                    <a:moveTo>
                      <a:pt x="855" y="856"/>
                    </a:moveTo>
                    <a:lnTo>
                      <a:pt x="820" y="889"/>
                    </a:lnTo>
                    <a:lnTo>
                      <a:pt x="895" y="962"/>
                    </a:lnTo>
                    <a:lnTo>
                      <a:pt x="928" y="929"/>
                    </a:lnTo>
                    <a:lnTo>
                      <a:pt x="855" y="856"/>
                    </a:lnTo>
                    <a:close/>
                    <a:moveTo>
                      <a:pt x="444" y="444"/>
                    </a:moveTo>
                    <a:lnTo>
                      <a:pt x="411" y="477"/>
                    </a:lnTo>
                    <a:lnTo>
                      <a:pt x="803" y="872"/>
                    </a:lnTo>
                    <a:lnTo>
                      <a:pt x="836" y="839"/>
                    </a:lnTo>
                    <a:lnTo>
                      <a:pt x="444" y="444"/>
                    </a:lnTo>
                    <a:close/>
                    <a:moveTo>
                      <a:pt x="354" y="355"/>
                    </a:moveTo>
                    <a:lnTo>
                      <a:pt x="319" y="388"/>
                    </a:lnTo>
                    <a:lnTo>
                      <a:pt x="394" y="461"/>
                    </a:lnTo>
                    <a:lnTo>
                      <a:pt x="427" y="428"/>
                    </a:lnTo>
                    <a:lnTo>
                      <a:pt x="354" y="355"/>
                    </a:lnTo>
                    <a:close/>
                    <a:moveTo>
                      <a:pt x="245" y="246"/>
                    </a:moveTo>
                    <a:lnTo>
                      <a:pt x="212" y="279"/>
                    </a:lnTo>
                    <a:lnTo>
                      <a:pt x="286" y="355"/>
                    </a:lnTo>
                    <a:lnTo>
                      <a:pt x="319" y="319"/>
                    </a:lnTo>
                    <a:lnTo>
                      <a:pt x="245" y="246"/>
                    </a:lnTo>
                    <a:close/>
                    <a:moveTo>
                      <a:pt x="0" y="0"/>
                    </a:moveTo>
                    <a:lnTo>
                      <a:pt x="0" y="66"/>
                    </a:lnTo>
                    <a:lnTo>
                      <a:pt x="196" y="262"/>
                    </a:lnTo>
                    <a:lnTo>
                      <a:pt x="229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085"/>
              <p:cNvSpPr/>
              <p:nvPr/>
            </p:nvSpPr>
            <p:spPr>
              <a:xfrm rot="5400000">
                <a:off x="833760" y="-834120"/>
                <a:ext cx="6737400" cy="8406000"/>
              </a:xfrm>
              <a:custGeom>
                <a:avLst/>
                <a:gdLst>
                  <a:gd name="textAreaLeft" fmla="*/ 0 w 6737400"/>
                  <a:gd name="textAreaRight" fmla="*/ 6737760 w 6737400"/>
                  <a:gd name="textAreaTop" fmla="*/ 0 h 8406000"/>
                  <a:gd name="textAreaBottom" fmla="*/ 8406000 h 8406000"/>
                </a:gdLst>
                <a:ahLst/>
                <a:rect l="textAreaLeft" t="textAreaTop" r="textAreaRight" b="textAreaBottom"/>
                <a:pathLst>
                  <a:path w="5419" h="5427">
                    <a:moveTo>
                      <a:pt x="5312" y="5318"/>
                    </a:moveTo>
                    <a:lnTo>
                      <a:pt x="5279" y="5351"/>
                    </a:lnTo>
                    <a:lnTo>
                      <a:pt x="5353" y="5427"/>
                    </a:lnTo>
                    <a:lnTo>
                      <a:pt x="5419" y="5427"/>
                    </a:lnTo>
                    <a:lnTo>
                      <a:pt x="5312" y="5318"/>
                    </a:lnTo>
                    <a:moveTo>
                      <a:pt x="5223" y="5228"/>
                    </a:moveTo>
                    <a:lnTo>
                      <a:pt x="5187" y="5261"/>
                    </a:lnTo>
                    <a:lnTo>
                      <a:pt x="5263" y="5335"/>
                    </a:lnTo>
                    <a:lnTo>
                      <a:pt x="5296" y="5301"/>
                    </a:lnTo>
                    <a:lnTo>
                      <a:pt x="5223" y="5228"/>
                    </a:lnTo>
                    <a:moveTo>
                      <a:pt x="5114" y="5119"/>
                    </a:moveTo>
                    <a:lnTo>
                      <a:pt x="5081" y="5153"/>
                    </a:lnTo>
                    <a:lnTo>
                      <a:pt x="5154" y="5228"/>
                    </a:lnTo>
                    <a:lnTo>
                      <a:pt x="5187" y="5195"/>
                    </a:lnTo>
                    <a:lnTo>
                      <a:pt x="5114" y="5119"/>
                    </a:lnTo>
                    <a:moveTo>
                      <a:pt x="4703" y="4708"/>
                    </a:moveTo>
                    <a:lnTo>
                      <a:pt x="4670" y="4741"/>
                    </a:lnTo>
                    <a:lnTo>
                      <a:pt x="5064" y="5136"/>
                    </a:lnTo>
                    <a:lnTo>
                      <a:pt x="5097" y="5103"/>
                    </a:lnTo>
                    <a:lnTo>
                      <a:pt x="4703" y="4708"/>
                    </a:lnTo>
                    <a:moveTo>
                      <a:pt x="4613" y="4618"/>
                    </a:moveTo>
                    <a:lnTo>
                      <a:pt x="4580" y="4651"/>
                    </a:lnTo>
                    <a:lnTo>
                      <a:pt x="4653" y="4725"/>
                    </a:lnTo>
                    <a:lnTo>
                      <a:pt x="4686" y="4692"/>
                    </a:lnTo>
                    <a:lnTo>
                      <a:pt x="4613" y="4618"/>
                    </a:lnTo>
                    <a:moveTo>
                      <a:pt x="4507" y="4510"/>
                    </a:moveTo>
                    <a:lnTo>
                      <a:pt x="4471" y="4545"/>
                    </a:lnTo>
                    <a:lnTo>
                      <a:pt x="4547" y="4618"/>
                    </a:lnTo>
                    <a:lnTo>
                      <a:pt x="4580" y="4585"/>
                    </a:lnTo>
                    <a:lnTo>
                      <a:pt x="4507" y="4510"/>
                    </a:lnTo>
                    <a:moveTo>
                      <a:pt x="4095" y="4098"/>
                    </a:moveTo>
                    <a:lnTo>
                      <a:pt x="4062" y="4134"/>
                    </a:lnTo>
                    <a:lnTo>
                      <a:pt x="4455" y="4526"/>
                    </a:lnTo>
                    <a:lnTo>
                      <a:pt x="4488" y="4493"/>
                    </a:lnTo>
                    <a:lnTo>
                      <a:pt x="4095" y="4098"/>
                    </a:lnTo>
                    <a:moveTo>
                      <a:pt x="4006" y="4009"/>
                    </a:moveTo>
                    <a:lnTo>
                      <a:pt x="3970" y="4042"/>
                    </a:lnTo>
                    <a:lnTo>
                      <a:pt x="4046" y="4117"/>
                    </a:lnTo>
                    <a:lnTo>
                      <a:pt x="4079" y="4082"/>
                    </a:lnTo>
                    <a:lnTo>
                      <a:pt x="4006" y="4009"/>
                    </a:lnTo>
                    <a:moveTo>
                      <a:pt x="3897" y="3902"/>
                    </a:moveTo>
                    <a:lnTo>
                      <a:pt x="3864" y="3935"/>
                    </a:lnTo>
                    <a:lnTo>
                      <a:pt x="3937" y="4009"/>
                    </a:lnTo>
                    <a:lnTo>
                      <a:pt x="3970" y="3976"/>
                    </a:lnTo>
                    <a:lnTo>
                      <a:pt x="3897" y="3902"/>
                    </a:lnTo>
                    <a:moveTo>
                      <a:pt x="3486" y="3491"/>
                    </a:moveTo>
                    <a:lnTo>
                      <a:pt x="3453" y="3524"/>
                    </a:lnTo>
                    <a:lnTo>
                      <a:pt x="3847" y="3919"/>
                    </a:lnTo>
                    <a:lnTo>
                      <a:pt x="3880" y="3886"/>
                    </a:lnTo>
                    <a:lnTo>
                      <a:pt x="3486" y="3491"/>
                    </a:lnTo>
                    <a:moveTo>
                      <a:pt x="3396" y="3399"/>
                    </a:moveTo>
                    <a:lnTo>
                      <a:pt x="3363" y="3434"/>
                    </a:lnTo>
                    <a:lnTo>
                      <a:pt x="3436" y="3508"/>
                    </a:lnTo>
                    <a:lnTo>
                      <a:pt x="3469" y="3474"/>
                    </a:lnTo>
                    <a:lnTo>
                      <a:pt x="3396" y="3399"/>
                    </a:lnTo>
                    <a:moveTo>
                      <a:pt x="3289" y="3292"/>
                    </a:moveTo>
                    <a:lnTo>
                      <a:pt x="3254" y="3326"/>
                    </a:lnTo>
                    <a:lnTo>
                      <a:pt x="3330" y="3399"/>
                    </a:lnTo>
                    <a:lnTo>
                      <a:pt x="3363" y="3366"/>
                    </a:lnTo>
                    <a:lnTo>
                      <a:pt x="3289" y="3292"/>
                    </a:lnTo>
                    <a:moveTo>
                      <a:pt x="2878" y="2881"/>
                    </a:moveTo>
                    <a:lnTo>
                      <a:pt x="2845" y="2914"/>
                    </a:lnTo>
                    <a:lnTo>
                      <a:pt x="3237" y="3309"/>
                    </a:lnTo>
                    <a:lnTo>
                      <a:pt x="3271" y="3276"/>
                    </a:lnTo>
                    <a:lnTo>
                      <a:pt x="2878" y="2881"/>
                    </a:lnTo>
                    <a:moveTo>
                      <a:pt x="2788" y="2791"/>
                    </a:moveTo>
                    <a:lnTo>
                      <a:pt x="2753" y="2824"/>
                    </a:lnTo>
                    <a:lnTo>
                      <a:pt x="2829" y="2898"/>
                    </a:lnTo>
                    <a:lnTo>
                      <a:pt x="2862" y="2865"/>
                    </a:lnTo>
                    <a:lnTo>
                      <a:pt x="2788" y="2791"/>
                    </a:lnTo>
                    <a:moveTo>
                      <a:pt x="2680" y="2683"/>
                    </a:moveTo>
                    <a:lnTo>
                      <a:pt x="2647" y="2716"/>
                    </a:lnTo>
                    <a:lnTo>
                      <a:pt x="2720" y="2791"/>
                    </a:lnTo>
                    <a:lnTo>
                      <a:pt x="2753" y="2758"/>
                    </a:lnTo>
                    <a:lnTo>
                      <a:pt x="2680" y="2683"/>
                    </a:lnTo>
                    <a:moveTo>
                      <a:pt x="2268" y="2271"/>
                    </a:moveTo>
                    <a:lnTo>
                      <a:pt x="2235" y="2305"/>
                    </a:lnTo>
                    <a:lnTo>
                      <a:pt x="2630" y="2699"/>
                    </a:lnTo>
                    <a:lnTo>
                      <a:pt x="2663" y="2666"/>
                    </a:lnTo>
                    <a:lnTo>
                      <a:pt x="2268" y="2271"/>
                    </a:lnTo>
                    <a:moveTo>
                      <a:pt x="2179" y="2182"/>
                    </a:moveTo>
                    <a:lnTo>
                      <a:pt x="2146" y="2215"/>
                    </a:lnTo>
                    <a:lnTo>
                      <a:pt x="2219" y="2288"/>
                    </a:lnTo>
                    <a:lnTo>
                      <a:pt x="2252" y="2255"/>
                    </a:lnTo>
                    <a:lnTo>
                      <a:pt x="2179" y="2182"/>
                    </a:lnTo>
                    <a:moveTo>
                      <a:pt x="2072" y="2073"/>
                    </a:moveTo>
                    <a:lnTo>
                      <a:pt x="2037" y="2106"/>
                    </a:lnTo>
                    <a:lnTo>
                      <a:pt x="2112" y="2182"/>
                    </a:lnTo>
                    <a:lnTo>
                      <a:pt x="2146" y="2149"/>
                    </a:lnTo>
                    <a:lnTo>
                      <a:pt x="2072" y="2073"/>
                    </a:lnTo>
                    <a:moveTo>
                      <a:pt x="1661" y="1662"/>
                    </a:moveTo>
                    <a:lnTo>
                      <a:pt x="1628" y="1697"/>
                    </a:lnTo>
                    <a:lnTo>
                      <a:pt x="2020" y="2089"/>
                    </a:lnTo>
                    <a:lnTo>
                      <a:pt x="2053" y="2056"/>
                    </a:lnTo>
                    <a:lnTo>
                      <a:pt x="1661" y="1662"/>
                    </a:lnTo>
                    <a:moveTo>
                      <a:pt x="1571" y="1572"/>
                    </a:moveTo>
                    <a:lnTo>
                      <a:pt x="1536" y="1605"/>
                    </a:lnTo>
                    <a:lnTo>
                      <a:pt x="1611" y="1678"/>
                    </a:lnTo>
                    <a:lnTo>
                      <a:pt x="1645" y="1645"/>
                    </a:lnTo>
                    <a:lnTo>
                      <a:pt x="1571" y="1572"/>
                    </a:lnTo>
                    <a:moveTo>
                      <a:pt x="1463" y="1465"/>
                    </a:moveTo>
                    <a:lnTo>
                      <a:pt x="1429" y="1499"/>
                    </a:lnTo>
                    <a:lnTo>
                      <a:pt x="1503" y="1572"/>
                    </a:lnTo>
                    <a:lnTo>
                      <a:pt x="1536" y="1539"/>
                    </a:lnTo>
                    <a:lnTo>
                      <a:pt x="1463" y="1465"/>
                    </a:lnTo>
                    <a:moveTo>
                      <a:pt x="1051" y="1054"/>
                    </a:moveTo>
                    <a:lnTo>
                      <a:pt x="1018" y="1087"/>
                    </a:lnTo>
                    <a:lnTo>
                      <a:pt x="1413" y="1482"/>
                    </a:lnTo>
                    <a:lnTo>
                      <a:pt x="1446" y="1447"/>
                    </a:lnTo>
                    <a:lnTo>
                      <a:pt x="1051" y="1054"/>
                    </a:lnTo>
                    <a:moveTo>
                      <a:pt x="962" y="962"/>
                    </a:moveTo>
                    <a:lnTo>
                      <a:pt x="928" y="995"/>
                    </a:lnTo>
                    <a:lnTo>
                      <a:pt x="1002" y="1071"/>
                    </a:lnTo>
                    <a:lnTo>
                      <a:pt x="1035" y="1038"/>
                    </a:lnTo>
                    <a:lnTo>
                      <a:pt x="962" y="962"/>
                    </a:lnTo>
                    <a:moveTo>
                      <a:pt x="855" y="856"/>
                    </a:moveTo>
                    <a:lnTo>
                      <a:pt x="820" y="889"/>
                    </a:lnTo>
                    <a:lnTo>
                      <a:pt x="895" y="962"/>
                    </a:lnTo>
                    <a:lnTo>
                      <a:pt x="928" y="929"/>
                    </a:lnTo>
                    <a:lnTo>
                      <a:pt x="855" y="856"/>
                    </a:lnTo>
                    <a:moveTo>
                      <a:pt x="444" y="444"/>
                    </a:moveTo>
                    <a:lnTo>
                      <a:pt x="411" y="477"/>
                    </a:lnTo>
                    <a:lnTo>
                      <a:pt x="803" y="872"/>
                    </a:lnTo>
                    <a:lnTo>
                      <a:pt x="836" y="839"/>
                    </a:lnTo>
                    <a:lnTo>
                      <a:pt x="444" y="444"/>
                    </a:lnTo>
                    <a:moveTo>
                      <a:pt x="354" y="355"/>
                    </a:moveTo>
                    <a:lnTo>
                      <a:pt x="319" y="388"/>
                    </a:lnTo>
                    <a:lnTo>
                      <a:pt x="394" y="461"/>
                    </a:lnTo>
                    <a:lnTo>
                      <a:pt x="427" y="428"/>
                    </a:lnTo>
                    <a:lnTo>
                      <a:pt x="354" y="355"/>
                    </a:lnTo>
                    <a:moveTo>
                      <a:pt x="245" y="246"/>
                    </a:moveTo>
                    <a:lnTo>
                      <a:pt x="212" y="279"/>
                    </a:lnTo>
                    <a:lnTo>
                      <a:pt x="286" y="355"/>
                    </a:lnTo>
                    <a:lnTo>
                      <a:pt x="319" y="319"/>
                    </a:lnTo>
                    <a:lnTo>
                      <a:pt x="245" y="246"/>
                    </a:lnTo>
                    <a:moveTo>
                      <a:pt x="0" y="0"/>
                    </a:moveTo>
                    <a:lnTo>
                      <a:pt x="0" y="66"/>
                    </a:lnTo>
                    <a:lnTo>
                      <a:pt x="196" y="262"/>
                    </a:lnTo>
                    <a:lnTo>
                      <a:pt x="229" y="2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086"/>
              <p:cNvSpPr/>
              <p:nvPr/>
            </p:nvSpPr>
            <p:spPr>
              <a:xfrm rot="5400000">
                <a:off x="7815960" y="343800"/>
                <a:ext cx="84240" cy="1069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33" y="0"/>
                    </a:moveTo>
                    <a:lnTo>
                      <a:pt x="0" y="36"/>
                    </a:lnTo>
                    <a:lnTo>
                      <a:pt x="33" y="69"/>
                    </a:lnTo>
                    <a:lnTo>
                      <a:pt x="68" y="3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087"/>
              <p:cNvSpPr/>
              <p:nvPr/>
            </p:nvSpPr>
            <p:spPr>
              <a:xfrm rot="5400000">
                <a:off x="7815960" y="343800"/>
                <a:ext cx="84240" cy="1069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8" h="69">
                    <a:moveTo>
                      <a:pt x="33" y="0"/>
                    </a:moveTo>
                    <a:lnTo>
                      <a:pt x="0" y="36"/>
                    </a:lnTo>
                    <a:lnTo>
                      <a:pt x="33" y="69"/>
                    </a:lnTo>
                    <a:lnTo>
                      <a:pt x="68" y="3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088"/>
              <p:cNvSpPr/>
              <p:nvPr/>
            </p:nvSpPr>
            <p:spPr>
              <a:xfrm rot="5400000">
                <a:off x="6874560" y="110340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089"/>
              <p:cNvSpPr/>
              <p:nvPr/>
            </p:nvSpPr>
            <p:spPr>
              <a:xfrm rot="5400000">
                <a:off x="6874560" y="110340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7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090"/>
              <p:cNvSpPr/>
              <p:nvPr/>
            </p:nvSpPr>
            <p:spPr>
              <a:xfrm rot="5400000">
                <a:off x="5928840" y="1859400"/>
                <a:ext cx="84240" cy="101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8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8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091"/>
              <p:cNvSpPr/>
              <p:nvPr/>
            </p:nvSpPr>
            <p:spPr>
              <a:xfrm rot="5400000">
                <a:off x="5928840" y="1859400"/>
                <a:ext cx="84240" cy="101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8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8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092"/>
              <p:cNvSpPr/>
              <p:nvPr/>
            </p:nvSpPr>
            <p:spPr>
              <a:xfrm rot="5400000">
                <a:off x="4984560" y="261612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4" y="0"/>
                    </a:moveTo>
                    <a:lnTo>
                      <a:pt x="0" y="33"/>
                    </a:lnTo>
                    <a:lnTo>
                      <a:pt x="34" y="66"/>
                    </a:lnTo>
                    <a:lnTo>
                      <a:pt x="67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093"/>
              <p:cNvSpPr/>
              <p:nvPr/>
            </p:nvSpPr>
            <p:spPr>
              <a:xfrm rot="5400000">
                <a:off x="4984560" y="2616120"/>
                <a:ext cx="83160" cy="10188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34" y="0"/>
                    </a:moveTo>
                    <a:lnTo>
                      <a:pt x="0" y="33"/>
                    </a:lnTo>
                    <a:lnTo>
                      <a:pt x="34" y="66"/>
                    </a:lnTo>
                    <a:lnTo>
                      <a:pt x="67" y="33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094"/>
              <p:cNvSpPr/>
              <p:nvPr/>
            </p:nvSpPr>
            <p:spPr>
              <a:xfrm rot="5400000">
                <a:off x="4040280" y="3372480"/>
                <a:ext cx="84240" cy="101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8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8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095"/>
              <p:cNvSpPr/>
              <p:nvPr/>
            </p:nvSpPr>
            <p:spPr>
              <a:xfrm rot="5400000">
                <a:off x="4040280" y="3372480"/>
                <a:ext cx="84240" cy="101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8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8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096"/>
              <p:cNvSpPr/>
              <p:nvPr/>
            </p:nvSpPr>
            <p:spPr>
              <a:xfrm rot="5400000">
                <a:off x="3098160" y="412812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097"/>
              <p:cNvSpPr/>
              <p:nvPr/>
            </p:nvSpPr>
            <p:spPr>
              <a:xfrm rot="5400000">
                <a:off x="3098160" y="412812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098"/>
              <p:cNvSpPr/>
              <p:nvPr/>
            </p:nvSpPr>
            <p:spPr>
              <a:xfrm rot="5400000">
                <a:off x="2152800" y="488628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9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099"/>
              <p:cNvSpPr/>
              <p:nvPr/>
            </p:nvSpPr>
            <p:spPr>
              <a:xfrm rot="5400000">
                <a:off x="2152800" y="488628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9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100"/>
              <p:cNvSpPr/>
              <p:nvPr/>
            </p:nvSpPr>
            <p:spPr>
              <a:xfrm rot="5400000">
                <a:off x="1211760" y="56430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01"/>
              <p:cNvSpPr/>
              <p:nvPr/>
            </p:nvSpPr>
            <p:spPr>
              <a:xfrm rot="5400000">
                <a:off x="1211760" y="56430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102"/>
              <p:cNvSpPr/>
              <p:nvPr/>
            </p:nvSpPr>
            <p:spPr>
              <a:xfrm rot="5400000">
                <a:off x="264960" y="639972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9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103"/>
              <p:cNvSpPr/>
              <p:nvPr/>
            </p:nvSpPr>
            <p:spPr>
              <a:xfrm rot="5400000">
                <a:off x="264960" y="639972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9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104"/>
              <p:cNvSpPr/>
              <p:nvPr/>
            </p:nvSpPr>
            <p:spPr>
              <a:xfrm rot="5400000">
                <a:off x="7673760" y="48276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105"/>
              <p:cNvSpPr/>
              <p:nvPr/>
            </p:nvSpPr>
            <p:spPr>
              <a:xfrm rot="5400000">
                <a:off x="7673760" y="48276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106"/>
              <p:cNvSpPr/>
              <p:nvPr/>
            </p:nvSpPr>
            <p:spPr>
              <a:xfrm rot="5400000">
                <a:off x="6729480" y="12380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107"/>
              <p:cNvSpPr/>
              <p:nvPr/>
            </p:nvSpPr>
            <p:spPr>
              <a:xfrm rot="5400000">
                <a:off x="6729480" y="12380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108"/>
              <p:cNvSpPr/>
              <p:nvPr/>
            </p:nvSpPr>
            <p:spPr>
              <a:xfrm rot="5400000">
                <a:off x="5786280" y="199368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4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109"/>
              <p:cNvSpPr/>
              <p:nvPr/>
            </p:nvSpPr>
            <p:spPr>
              <a:xfrm rot="5400000">
                <a:off x="5786280" y="1993680"/>
                <a:ext cx="62280" cy="80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4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110"/>
              <p:cNvSpPr/>
              <p:nvPr/>
            </p:nvSpPr>
            <p:spPr>
              <a:xfrm rot="5400000">
                <a:off x="4843440" y="275040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111"/>
              <p:cNvSpPr/>
              <p:nvPr/>
            </p:nvSpPr>
            <p:spPr>
              <a:xfrm rot="5400000">
                <a:off x="4843440" y="275040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112"/>
              <p:cNvSpPr/>
              <p:nvPr/>
            </p:nvSpPr>
            <p:spPr>
              <a:xfrm rot="5400000">
                <a:off x="3899520" y="35096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113"/>
              <p:cNvSpPr/>
              <p:nvPr/>
            </p:nvSpPr>
            <p:spPr>
              <a:xfrm rot="5400000">
                <a:off x="3899520" y="350964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114"/>
              <p:cNvSpPr/>
              <p:nvPr/>
            </p:nvSpPr>
            <p:spPr>
              <a:xfrm rot="5400000">
                <a:off x="2954880" y="426384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115"/>
              <p:cNvSpPr/>
              <p:nvPr/>
            </p:nvSpPr>
            <p:spPr>
              <a:xfrm rot="5400000">
                <a:off x="2954880" y="426384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116"/>
              <p:cNvSpPr/>
              <p:nvPr/>
            </p:nvSpPr>
            <p:spPr>
              <a:xfrm rot="5400000">
                <a:off x="2012040" y="50202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117"/>
              <p:cNvSpPr/>
              <p:nvPr/>
            </p:nvSpPr>
            <p:spPr>
              <a:xfrm rot="5400000">
                <a:off x="2012040" y="50202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118"/>
              <p:cNvSpPr/>
              <p:nvPr/>
            </p:nvSpPr>
            <p:spPr>
              <a:xfrm rot="5400000">
                <a:off x="1068840" y="577800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119"/>
              <p:cNvSpPr/>
              <p:nvPr/>
            </p:nvSpPr>
            <p:spPr>
              <a:xfrm rot="5400000">
                <a:off x="1068840" y="577800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120"/>
              <p:cNvSpPr/>
              <p:nvPr/>
            </p:nvSpPr>
            <p:spPr>
              <a:xfrm rot="5400000">
                <a:off x="125280" y="65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121"/>
              <p:cNvSpPr/>
              <p:nvPr/>
            </p:nvSpPr>
            <p:spPr>
              <a:xfrm rot="5400000">
                <a:off x="125280" y="65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4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122"/>
              <p:cNvSpPr/>
              <p:nvPr/>
            </p:nvSpPr>
            <p:spPr>
              <a:xfrm rot="5400000">
                <a:off x="7981920" y="2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123"/>
              <p:cNvSpPr/>
              <p:nvPr/>
            </p:nvSpPr>
            <p:spPr>
              <a:xfrm rot="5400000">
                <a:off x="7981920" y="23508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124"/>
              <p:cNvSpPr/>
              <p:nvPr/>
            </p:nvSpPr>
            <p:spPr>
              <a:xfrm rot="5400000">
                <a:off x="7035480" y="99180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125"/>
              <p:cNvSpPr/>
              <p:nvPr/>
            </p:nvSpPr>
            <p:spPr>
              <a:xfrm rot="5400000">
                <a:off x="7035480" y="99180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126"/>
              <p:cNvSpPr/>
              <p:nvPr/>
            </p:nvSpPr>
            <p:spPr>
              <a:xfrm rot="5400000">
                <a:off x="6093000" y="1747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50" y="18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127"/>
              <p:cNvSpPr/>
              <p:nvPr/>
            </p:nvSpPr>
            <p:spPr>
              <a:xfrm rot="5400000">
                <a:off x="6093000" y="17474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5"/>
                    </a:lnTo>
                    <a:lnTo>
                      <a:pt x="16" y="52"/>
                    </a:lnTo>
                    <a:lnTo>
                      <a:pt x="50" y="18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128"/>
              <p:cNvSpPr/>
              <p:nvPr/>
            </p:nvSpPr>
            <p:spPr>
              <a:xfrm rot="5400000">
                <a:off x="5150160" y="250488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129"/>
              <p:cNvSpPr/>
              <p:nvPr/>
            </p:nvSpPr>
            <p:spPr>
              <a:xfrm rot="5400000">
                <a:off x="5150160" y="2504880"/>
                <a:ext cx="64440" cy="77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130"/>
              <p:cNvSpPr/>
              <p:nvPr/>
            </p:nvSpPr>
            <p:spPr>
              <a:xfrm rot="5400000">
                <a:off x="4206240" y="32619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131"/>
              <p:cNvSpPr/>
              <p:nvPr/>
            </p:nvSpPr>
            <p:spPr>
              <a:xfrm rot="5400000">
                <a:off x="4206240" y="32619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132"/>
              <p:cNvSpPr/>
              <p:nvPr/>
            </p:nvSpPr>
            <p:spPr>
              <a:xfrm rot="5400000">
                <a:off x="3260520" y="4018320"/>
                <a:ext cx="64800" cy="77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133"/>
              <p:cNvSpPr/>
              <p:nvPr/>
            </p:nvSpPr>
            <p:spPr>
              <a:xfrm rot="5400000">
                <a:off x="3260520" y="4018320"/>
                <a:ext cx="64800" cy="77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2" y="16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134"/>
              <p:cNvSpPr/>
              <p:nvPr/>
            </p:nvSpPr>
            <p:spPr>
              <a:xfrm rot="5400000">
                <a:off x="2317320" y="477576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135"/>
              <p:cNvSpPr/>
              <p:nvPr/>
            </p:nvSpPr>
            <p:spPr>
              <a:xfrm rot="5400000">
                <a:off x="2317320" y="477576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1136"/>
              <p:cNvSpPr/>
              <p:nvPr/>
            </p:nvSpPr>
            <p:spPr>
              <a:xfrm rot="5400000">
                <a:off x="1373400" y="5530680"/>
                <a:ext cx="64800" cy="80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52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137"/>
              <p:cNvSpPr/>
              <p:nvPr/>
            </p:nvSpPr>
            <p:spPr>
              <a:xfrm rot="5400000">
                <a:off x="1373400" y="5530680"/>
                <a:ext cx="64800" cy="80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52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138"/>
              <p:cNvSpPr/>
              <p:nvPr/>
            </p:nvSpPr>
            <p:spPr>
              <a:xfrm rot="5400000">
                <a:off x="431640" y="628848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1139"/>
              <p:cNvSpPr/>
              <p:nvPr/>
            </p:nvSpPr>
            <p:spPr>
              <a:xfrm rot="5400000">
                <a:off x="431640" y="628848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140"/>
              <p:cNvSpPr/>
              <p:nvPr/>
            </p:nvSpPr>
            <p:spPr>
              <a:xfrm rot="5400000">
                <a:off x="645480" y="-645840"/>
                <a:ext cx="5224320" cy="6516360"/>
              </a:xfrm>
              <a:custGeom>
                <a:avLst/>
                <a:gdLst>
                  <a:gd name="textAreaLeft" fmla="*/ 0 w 5224320"/>
                  <a:gd name="textAreaRight" fmla="*/ 5224680 w 5224320"/>
                  <a:gd name="textAreaTop" fmla="*/ 0 h 6516360"/>
                  <a:gd name="textAreaBottom" fmla="*/ 6516720 h 6516360"/>
                </a:gdLst>
                <a:ahLst/>
                <a:rect l="textAreaLeft" t="textAreaTop" r="textAreaRight" b="textAreaBottom"/>
                <a:pathLst>
                  <a:path w="4202" h="4207">
                    <a:moveTo>
                      <a:pt x="4095" y="4098"/>
                    </a:moveTo>
                    <a:lnTo>
                      <a:pt x="4060" y="4131"/>
                    </a:lnTo>
                    <a:lnTo>
                      <a:pt x="4136" y="4207"/>
                    </a:lnTo>
                    <a:lnTo>
                      <a:pt x="4202" y="4207"/>
                    </a:lnTo>
                    <a:lnTo>
                      <a:pt x="4095" y="4098"/>
                    </a:lnTo>
                    <a:close/>
                    <a:moveTo>
                      <a:pt x="4003" y="4006"/>
                    </a:moveTo>
                    <a:lnTo>
                      <a:pt x="3970" y="4041"/>
                    </a:lnTo>
                    <a:lnTo>
                      <a:pt x="4043" y="4115"/>
                    </a:lnTo>
                    <a:lnTo>
                      <a:pt x="4076" y="4081"/>
                    </a:lnTo>
                    <a:lnTo>
                      <a:pt x="4003" y="4006"/>
                    </a:lnTo>
                    <a:close/>
                    <a:moveTo>
                      <a:pt x="3897" y="3899"/>
                    </a:moveTo>
                    <a:lnTo>
                      <a:pt x="3864" y="3933"/>
                    </a:lnTo>
                    <a:lnTo>
                      <a:pt x="3937" y="4006"/>
                    </a:lnTo>
                    <a:lnTo>
                      <a:pt x="3970" y="3973"/>
                    </a:lnTo>
                    <a:lnTo>
                      <a:pt x="3897" y="3899"/>
                    </a:lnTo>
                    <a:close/>
                    <a:moveTo>
                      <a:pt x="3486" y="3488"/>
                    </a:moveTo>
                    <a:lnTo>
                      <a:pt x="3453" y="3521"/>
                    </a:lnTo>
                    <a:lnTo>
                      <a:pt x="3847" y="3916"/>
                    </a:lnTo>
                    <a:lnTo>
                      <a:pt x="3880" y="3883"/>
                    </a:lnTo>
                    <a:lnTo>
                      <a:pt x="3486" y="3488"/>
                    </a:lnTo>
                    <a:close/>
                    <a:moveTo>
                      <a:pt x="3396" y="3398"/>
                    </a:moveTo>
                    <a:lnTo>
                      <a:pt x="3363" y="3431"/>
                    </a:lnTo>
                    <a:lnTo>
                      <a:pt x="3436" y="3505"/>
                    </a:lnTo>
                    <a:lnTo>
                      <a:pt x="3469" y="3472"/>
                    </a:lnTo>
                    <a:lnTo>
                      <a:pt x="3396" y="3398"/>
                    </a:lnTo>
                    <a:close/>
                    <a:moveTo>
                      <a:pt x="3287" y="3290"/>
                    </a:moveTo>
                    <a:lnTo>
                      <a:pt x="3254" y="3323"/>
                    </a:lnTo>
                    <a:lnTo>
                      <a:pt x="3327" y="3398"/>
                    </a:lnTo>
                    <a:lnTo>
                      <a:pt x="3363" y="3365"/>
                    </a:lnTo>
                    <a:lnTo>
                      <a:pt x="3287" y="3290"/>
                    </a:lnTo>
                    <a:close/>
                    <a:moveTo>
                      <a:pt x="2876" y="2878"/>
                    </a:moveTo>
                    <a:lnTo>
                      <a:pt x="2843" y="2912"/>
                    </a:lnTo>
                    <a:lnTo>
                      <a:pt x="3237" y="3306"/>
                    </a:lnTo>
                    <a:lnTo>
                      <a:pt x="3271" y="3273"/>
                    </a:lnTo>
                    <a:lnTo>
                      <a:pt x="2876" y="2878"/>
                    </a:lnTo>
                    <a:close/>
                    <a:moveTo>
                      <a:pt x="2786" y="2789"/>
                    </a:moveTo>
                    <a:lnTo>
                      <a:pt x="2753" y="2822"/>
                    </a:lnTo>
                    <a:lnTo>
                      <a:pt x="2826" y="2895"/>
                    </a:lnTo>
                    <a:lnTo>
                      <a:pt x="2859" y="2862"/>
                    </a:lnTo>
                    <a:lnTo>
                      <a:pt x="2786" y="2789"/>
                    </a:lnTo>
                    <a:close/>
                    <a:moveTo>
                      <a:pt x="2680" y="2680"/>
                    </a:moveTo>
                    <a:lnTo>
                      <a:pt x="2647" y="2715"/>
                    </a:lnTo>
                    <a:lnTo>
                      <a:pt x="2720" y="2789"/>
                    </a:lnTo>
                    <a:lnTo>
                      <a:pt x="2753" y="2756"/>
                    </a:lnTo>
                    <a:lnTo>
                      <a:pt x="2680" y="2680"/>
                    </a:lnTo>
                    <a:close/>
                    <a:moveTo>
                      <a:pt x="2268" y="2269"/>
                    </a:moveTo>
                    <a:lnTo>
                      <a:pt x="2235" y="2304"/>
                    </a:lnTo>
                    <a:lnTo>
                      <a:pt x="2630" y="2696"/>
                    </a:lnTo>
                    <a:lnTo>
                      <a:pt x="2663" y="2663"/>
                    </a:lnTo>
                    <a:lnTo>
                      <a:pt x="2268" y="2269"/>
                    </a:lnTo>
                    <a:close/>
                    <a:moveTo>
                      <a:pt x="2179" y="2179"/>
                    </a:moveTo>
                    <a:lnTo>
                      <a:pt x="2146" y="2212"/>
                    </a:lnTo>
                    <a:lnTo>
                      <a:pt x="2219" y="2285"/>
                    </a:lnTo>
                    <a:lnTo>
                      <a:pt x="2252" y="2252"/>
                    </a:lnTo>
                    <a:lnTo>
                      <a:pt x="2179" y="2179"/>
                    </a:lnTo>
                    <a:close/>
                    <a:moveTo>
                      <a:pt x="2070" y="2072"/>
                    </a:moveTo>
                    <a:lnTo>
                      <a:pt x="2037" y="2106"/>
                    </a:lnTo>
                    <a:lnTo>
                      <a:pt x="2110" y="2179"/>
                    </a:lnTo>
                    <a:lnTo>
                      <a:pt x="2146" y="2146"/>
                    </a:lnTo>
                    <a:lnTo>
                      <a:pt x="2070" y="2072"/>
                    </a:lnTo>
                    <a:close/>
                    <a:moveTo>
                      <a:pt x="1659" y="1661"/>
                    </a:moveTo>
                    <a:lnTo>
                      <a:pt x="1626" y="1694"/>
                    </a:lnTo>
                    <a:lnTo>
                      <a:pt x="2020" y="2089"/>
                    </a:lnTo>
                    <a:lnTo>
                      <a:pt x="2053" y="2056"/>
                    </a:lnTo>
                    <a:lnTo>
                      <a:pt x="1659" y="1661"/>
                    </a:lnTo>
                    <a:close/>
                    <a:moveTo>
                      <a:pt x="1569" y="1569"/>
                    </a:moveTo>
                    <a:lnTo>
                      <a:pt x="1536" y="1604"/>
                    </a:lnTo>
                    <a:lnTo>
                      <a:pt x="1609" y="1678"/>
                    </a:lnTo>
                    <a:lnTo>
                      <a:pt x="1642" y="1645"/>
                    </a:lnTo>
                    <a:lnTo>
                      <a:pt x="1569" y="1569"/>
                    </a:lnTo>
                    <a:close/>
                    <a:moveTo>
                      <a:pt x="1463" y="1463"/>
                    </a:moveTo>
                    <a:lnTo>
                      <a:pt x="1429" y="1496"/>
                    </a:lnTo>
                    <a:lnTo>
                      <a:pt x="1503" y="1569"/>
                    </a:lnTo>
                    <a:lnTo>
                      <a:pt x="1536" y="1536"/>
                    </a:lnTo>
                    <a:lnTo>
                      <a:pt x="1463" y="1463"/>
                    </a:lnTo>
                    <a:close/>
                    <a:moveTo>
                      <a:pt x="1051" y="1051"/>
                    </a:moveTo>
                    <a:lnTo>
                      <a:pt x="1018" y="1085"/>
                    </a:lnTo>
                    <a:lnTo>
                      <a:pt x="1413" y="1479"/>
                    </a:lnTo>
                    <a:lnTo>
                      <a:pt x="1446" y="1446"/>
                    </a:lnTo>
                    <a:lnTo>
                      <a:pt x="1051" y="1051"/>
                    </a:lnTo>
                    <a:close/>
                    <a:moveTo>
                      <a:pt x="962" y="962"/>
                    </a:moveTo>
                    <a:lnTo>
                      <a:pt x="928" y="995"/>
                    </a:lnTo>
                    <a:lnTo>
                      <a:pt x="1002" y="1068"/>
                    </a:lnTo>
                    <a:lnTo>
                      <a:pt x="1035" y="1035"/>
                    </a:lnTo>
                    <a:lnTo>
                      <a:pt x="962" y="962"/>
                    </a:lnTo>
                    <a:close/>
                    <a:moveTo>
                      <a:pt x="853" y="853"/>
                    </a:moveTo>
                    <a:lnTo>
                      <a:pt x="820" y="886"/>
                    </a:lnTo>
                    <a:lnTo>
                      <a:pt x="893" y="962"/>
                    </a:lnTo>
                    <a:lnTo>
                      <a:pt x="928" y="926"/>
                    </a:lnTo>
                    <a:lnTo>
                      <a:pt x="853" y="853"/>
                    </a:lnTo>
                    <a:close/>
                    <a:moveTo>
                      <a:pt x="442" y="442"/>
                    </a:moveTo>
                    <a:lnTo>
                      <a:pt x="409" y="475"/>
                    </a:lnTo>
                    <a:lnTo>
                      <a:pt x="803" y="869"/>
                    </a:lnTo>
                    <a:lnTo>
                      <a:pt x="836" y="836"/>
                    </a:lnTo>
                    <a:lnTo>
                      <a:pt x="442" y="442"/>
                    </a:lnTo>
                    <a:close/>
                    <a:moveTo>
                      <a:pt x="352" y="352"/>
                    </a:moveTo>
                    <a:lnTo>
                      <a:pt x="319" y="385"/>
                    </a:lnTo>
                    <a:lnTo>
                      <a:pt x="392" y="458"/>
                    </a:lnTo>
                    <a:lnTo>
                      <a:pt x="425" y="425"/>
                    </a:lnTo>
                    <a:lnTo>
                      <a:pt x="352" y="352"/>
                    </a:lnTo>
                    <a:close/>
                    <a:moveTo>
                      <a:pt x="245" y="243"/>
                    </a:moveTo>
                    <a:lnTo>
                      <a:pt x="212" y="276"/>
                    </a:lnTo>
                    <a:lnTo>
                      <a:pt x="286" y="352"/>
                    </a:lnTo>
                    <a:lnTo>
                      <a:pt x="319" y="319"/>
                    </a:lnTo>
                    <a:lnTo>
                      <a:pt x="245" y="243"/>
                    </a:lnTo>
                    <a:close/>
                    <a:moveTo>
                      <a:pt x="0" y="0"/>
                    </a:moveTo>
                    <a:lnTo>
                      <a:pt x="0" y="66"/>
                    </a:lnTo>
                    <a:lnTo>
                      <a:pt x="196" y="260"/>
                    </a:lnTo>
                    <a:lnTo>
                      <a:pt x="229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141"/>
              <p:cNvSpPr/>
              <p:nvPr/>
            </p:nvSpPr>
            <p:spPr>
              <a:xfrm rot="5400000">
                <a:off x="645480" y="-645840"/>
                <a:ext cx="5224320" cy="6516360"/>
              </a:xfrm>
              <a:custGeom>
                <a:avLst/>
                <a:gdLst>
                  <a:gd name="textAreaLeft" fmla="*/ 0 w 5224320"/>
                  <a:gd name="textAreaRight" fmla="*/ 5224680 w 5224320"/>
                  <a:gd name="textAreaTop" fmla="*/ 0 h 6516360"/>
                  <a:gd name="textAreaBottom" fmla="*/ 6516720 h 6516360"/>
                </a:gdLst>
                <a:ahLst/>
                <a:rect l="textAreaLeft" t="textAreaTop" r="textAreaRight" b="textAreaBottom"/>
                <a:pathLst>
                  <a:path w="4202" h="4207">
                    <a:moveTo>
                      <a:pt x="4095" y="4098"/>
                    </a:moveTo>
                    <a:lnTo>
                      <a:pt x="4060" y="4131"/>
                    </a:lnTo>
                    <a:lnTo>
                      <a:pt x="4136" y="4207"/>
                    </a:lnTo>
                    <a:lnTo>
                      <a:pt x="4202" y="4207"/>
                    </a:lnTo>
                    <a:lnTo>
                      <a:pt x="4095" y="4098"/>
                    </a:lnTo>
                    <a:moveTo>
                      <a:pt x="4003" y="4006"/>
                    </a:moveTo>
                    <a:lnTo>
                      <a:pt x="3970" y="4041"/>
                    </a:lnTo>
                    <a:lnTo>
                      <a:pt x="4043" y="4115"/>
                    </a:lnTo>
                    <a:lnTo>
                      <a:pt x="4076" y="4081"/>
                    </a:lnTo>
                    <a:lnTo>
                      <a:pt x="4003" y="4006"/>
                    </a:lnTo>
                    <a:moveTo>
                      <a:pt x="3897" y="3899"/>
                    </a:moveTo>
                    <a:lnTo>
                      <a:pt x="3864" y="3933"/>
                    </a:lnTo>
                    <a:lnTo>
                      <a:pt x="3937" y="4006"/>
                    </a:lnTo>
                    <a:lnTo>
                      <a:pt x="3970" y="3973"/>
                    </a:lnTo>
                    <a:lnTo>
                      <a:pt x="3897" y="3899"/>
                    </a:lnTo>
                    <a:moveTo>
                      <a:pt x="3486" y="3488"/>
                    </a:moveTo>
                    <a:lnTo>
                      <a:pt x="3453" y="3521"/>
                    </a:lnTo>
                    <a:lnTo>
                      <a:pt x="3847" y="3916"/>
                    </a:lnTo>
                    <a:lnTo>
                      <a:pt x="3880" y="3883"/>
                    </a:lnTo>
                    <a:lnTo>
                      <a:pt x="3486" y="3488"/>
                    </a:lnTo>
                    <a:moveTo>
                      <a:pt x="3396" y="3398"/>
                    </a:moveTo>
                    <a:lnTo>
                      <a:pt x="3363" y="3431"/>
                    </a:lnTo>
                    <a:lnTo>
                      <a:pt x="3436" y="3505"/>
                    </a:lnTo>
                    <a:lnTo>
                      <a:pt x="3469" y="3472"/>
                    </a:lnTo>
                    <a:lnTo>
                      <a:pt x="3396" y="3398"/>
                    </a:lnTo>
                    <a:moveTo>
                      <a:pt x="3287" y="3290"/>
                    </a:moveTo>
                    <a:lnTo>
                      <a:pt x="3254" y="3323"/>
                    </a:lnTo>
                    <a:lnTo>
                      <a:pt x="3327" y="3398"/>
                    </a:lnTo>
                    <a:lnTo>
                      <a:pt x="3363" y="3365"/>
                    </a:lnTo>
                    <a:lnTo>
                      <a:pt x="3287" y="3290"/>
                    </a:lnTo>
                    <a:moveTo>
                      <a:pt x="2876" y="2878"/>
                    </a:moveTo>
                    <a:lnTo>
                      <a:pt x="2843" y="2912"/>
                    </a:lnTo>
                    <a:lnTo>
                      <a:pt x="3237" y="3306"/>
                    </a:lnTo>
                    <a:lnTo>
                      <a:pt x="3271" y="3273"/>
                    </a:lnTo>
                    <a:lnTo>
                      <a:pt x="2876" y="2878"/>
                    </a:lnTo>
                    <a:moveTo>
                      <a:pt x="2786" y="2789"/>
                    </a:moveTo>
                    <a:lnTo>
                      <a:pt x="2753" y="2822"/>
                    </a:lnTo>
                    <a:lnTo>
                      <a:pt x="2826" y="2895"/>
                    </a:lnTo>
                    <a:lnTo>
                      <a:pt x="2859" y="2862"/>
                    </a:lnTo>
                    <a:lnTo>
                      <a:pt x="2786" y="2789"/>
                    </a:lnTo>
                    <a:moveTo>
                      <a:pt x="2680" y="2680"/>
                    </a:moveTo>
                    <a:lnTo>
                      <a:pt x="2647" y="2715"/>
                    </a:lnTo>
                    <a:lnTo>
                      <a:pt x="2720" y="2789"/>
                    </a:lnTo>
                    <a:lnTo>
                      <a:pt x="2753" y="2756"/>
                    </a:lnTo>
                    <a:lnTo>
                      <a:pt x="2680" y="2680"/>
                    </a:lnTo>
                    <a:moveTo>
                      <a:pt x="2268" y="2269"/>
                    </a:moveTo>
                    <a:lnTo>
                      <a:pt x="2235" y="2304"/>
                    </a:lnTo>
                    <a:lnTo>
                      <a:pt x="2630" y="2696"/>
                    </a:lnTo>
                    <a:lnTo>
                      <a:pt x="2663" y="2663"/>
                    </a:lnTo>
                    <a:lnTo>
                      <a:pt x="2268" y="2269"/>
                    </a:lnTo>
                    <a:moveTo>
                      <a:pt x="2179" y="2179"/>
                    </a:moveTo>
                    <a:lnTo>
                      <a:pt x="2146" y="2212"/>
                    </a:lnTo>
                    <a:lnTo>
                      <a:pt x="2219" y="2285"/>
                    </a:lnTo>
                    <a:lnTo>
                      <a:pt x="2252" y="2252"/>
                    </a:lnTo>
                    <a:lnTo>
                      <a:pt x="2179" y="2179"/>
                    </a:lnTo>
                    <a:moveTo>
                      <a:pt x="2070" y="2072"/>
                    </a:moveTo>
                    <a:lnTo>
                      <a:pt x="2037" y="2106"/>
                    </a:lnTo>
                    <a:lnTo>
                      <a:pt x="2110" y="2179"/>
                    </a:lnTo>
                    <a:lnTo>
                      <a:pt x="2146" y="2146"/>
                    </a:lnTo>
                    <a:lnTo>
                      <a:pt x="2070" y="2072"/>
                    </a:lnTo>
                    <a:moveTo>
                      <a:pt x="1659" y="1661"/>
                    </a:moveTo>
                    <a:lnTo>
                      <a:pt x="1626" y="1694"/>
                    </a:lnTo>
                    <a:lnTo>
                      <a:pt x="2020" y="2089"/>
                    </a:lnTo>
                    <a:lnTo>
                      <a:pt x="2053" y="2056"/>
                    </a:lnTo>
                    <a:lnTo>
                      <a:pt x="1659" y="1661"/>
                    </a:lnTo>
                    <a:moveTo>
                      <a:pt x="1569" y="1569"/>
                    </a:moveTo>
                    <a:lnTo>
                      <a:pt x="1536" y="1604"/>
                    </a:lnTo>
                    <a:lnTo>
                      <a:pt x="1609" y="1678"/>
                    </a:lnTo>
                    <a:lnTo>
                      <a:pt x="1642" y="1645"/>
                    </a:lnTo>
                    <a:lnTo>
                      <a:pt x="1569" y="1569"/>
                    </a:lnTo>
                    <a:moveTo>
                      <a:pt x="1463" y="1463"/>
                    </a:moveTo>
                    <a:lnTo>
                      <a:pt x="1429" y="1496"/>
                    </a:lnTo>
                    <a:lnTo>
                      <a:pt x="1503" y="1569"/>
                    </a:lnTo>
                    <a:lnTo>
                      <a:pt x="1536" y="1536"/>
                    </a:lnTo>
                    <a:lnTo>
                      <a:pt x="1463" y="1463"/>
                    </a:lnTo>
                    <a:moveTo>
                      <a:pt x="1051" y="1051"/>
                    </a:moveTo>
                    <a:lnTo>
                      <a:pt x="1018" y="1085"/>
                    </a:lnTo>
                    <a:lnTo>
                      <a:pt x="1413" y="1479"/>
                    </a:lnTo>
                    <a:lnTo>
                      <a:pt x="1446" y="1446"/>
                    </a:lnTo>
                    <a:lnTo>
                      <a:pt x="1051" y="1051"/>
                    </a:lnTo>
                    <a:moveTo>
                      <a:pt x="962" y="962"/>
                    </a:moveTo>
                    <a:lnTo>
                      <a:pt x="928" y="995"/>
                    </a:lnTo>
                    <a:lnTo>
                      <a:pt x="1002" y="1068"/>
                    </a:lnTo>
                    <a:lnTo>
                      <a:pt x="1035" y="1035"/>
                    </a:lnTo>
                    <a:lnTo>
                      <a:pt x="962" y="962"/>
                    </a:lnTo>
                    <a:moveTo>
                      <a:pt x="853" y="853"/>
                    </a:moveTo>
                    <a:lnTo>
                      <a:pt x="820" y="886"/>
                    </a:lnTo>
                    <a:lnTo>
                      <a:pt x="893" y="962"/>
                    </a:lnTo>
                    <a:lnTo>
                      <a:pt x="928" y="926"/>
                    </a:lnTo>
                    <a:lnTo>
                      <a:pt x="853" y="853"/>
                    </a:lnTo>
                    <a:moveTo>
                      <a:pt x="442" y="442"/>
                    </a:moveTo>
                    <a:lnTo>
                      <a:pt x="409" y="475"/>
                    </a:lnTo>
                    <a:lnTo>
                      <a:pt x="803" y="869"/>
                    </a:lnTo>
                    <a:lnTo>
                      <a:pt x="836" y="836"/>
                    </a:lnTo>
                    <a:lnTo>
                      <a:pt x="442" y="442"/>
                    </a:lnTo>
                    <a:moveTo>
                      <a:pt x="352" y="352"/>
                    </a:moveTo>
                    <a:lnTo>
                      <a:pt x="319" y="385"/>
                    </a:lnTo>
                    <a:lnTo>
                      <a:pt x="392" y="458"/>
                    </a:lnTo>
                    <a:lnTo>
                      <a:pt x="425" y="425"/>
                    </a:lnTo>
                    <a:lnTo>
                      <a:pt x="352" y="352"/>
                    </a:lnTo>
                    <a:moveTo>
                      <a:pt x="245" y="243"/>
                    </a:moveTo>
                    <a:lnTo>
                      <a:pt x="212" y="276"/>
                    </a:lnTo>
                    <a:lnTo>
                      <a:pt x="286" y="352"/>
                    </a:lnTo>
                    <a:lnTo>
                      <a:pt x="319" y="319"/>
                    </a:lnTo>
                    <a:lnTo>
                      <a:pt x="245" y="243"/>
                    </a:lnTo>
                    <a:moveTo>
                      <a:pt x="0" y="0"/>
                    </a:moveTo>
                    <a:lnTo>
                      <a:pt x="0" y="66"/>
                    </a:lnTo>
                    <a:lnTo>
                      <a:pt x="196" y="260"/>
                    </a:lnTo>
                    <a:lnTo>
                      <a:pt x="229" y="2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142"/>
              <p:cNvSpPr/>
              <p:nvPr/>
            </p:nvSpPr>
            <p:spPr>
              <a:xfrm rot="5400000">
                <a:off x="5930280" y="3452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143"/>
              <p:cNvSpPr/>
              <p:nvPr/>
            </p:nvSpPr>
            <p:spPr>
              <a:xfrm rot="5400000">
                <a:off x="5930280" y="3452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144"/>
              <p:cNvSpPr/>
              <p:nvPr/>
            </p:nvSpPr>
            <p:spPr>
              <a:xfrm rot="5400000">
                <a:off x="4985640" y="1099800"/>
                <a:ext cx="85680" cy="106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6560"/>
                  <a:gd name="textAreaBottom" fmla="*/ 106560 h 106560"/>
                </a:gdLst>
                <a:ahLst/>
                <a:rect l="textAreaLeft" t="textAreaTop" r="textAreaRight" b="textAreaBottom"/>
                <a:pathLst>
                  <a:path w="69" h="69">
                    <a:moveTo>
                      <a:pt x="35" y="0"/>
                    </a:moveTo>
                    <a:lnTo>
                      <a:pt x="0" y="36"/>
                    </a:lnTo>
                    <a:lnTo>
                      <a:pt x="35" y="69"/>
                    </a:lnTo>
                    <a:lnTo>
                      <a:pt x="69" y="3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145"/>
              <p:cNvSpPr/>
              <p:nvPr/>
            </p:nvSpPr>
            <p:spPr>
              <a:xfrm rot="5400000">
                <a:off x="4985640" y="1099800"/>
                <a:ext cx="85680" cy="106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6560"/>
                  <a:gd name="textAreaBottom" fmla="*/ 106560 h 106560"/>
                </a:gdLst>
                <a:ahLst/>
                <a:rect l="textAreaLeft" t="textAreaTop" r="textAreaRight" b="textAreaBottom"/>
                <a:pathLst>
                  <a:path w="69" h="69">
                    <a:moveTo>
                      <a:pt x="35" y="0"/>
                    </a:moveTo>
                    <a:lnTo>
                      <a:pt x="0" y="36"/>
                    </a:lnTo>
                    <a:lnTo>
                      <a:pt x="35" y="69"/>
                    </a:lnTo>
                    <a:lnTo>
                      <a:pt x="69" y="36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146"/>
              <p:cNvSpPr/>
              <p:nvPr/>
            </p:nvSpPr>
            <p:spPr>
              <a:xfrm rot="5400000">
                <a:off x="4043160" y="185652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147"/>
              <p:cNvSpPr/>
              <p:nvPr/>
            </p:nvSpPr>
            <p:spPr>
              <a:xfrm rot="5400000">
                <a:off x="4043160" y="185652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148"/>
              <p:cNvSpPr/>
              <p:nvPr/>
            </p:nvSpPr>
            <p:spPr>
              <a:xfrm rot="5400000">
                <a:off x="3097800" y="261504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149"/>
              <p:cNvSpPr/>
              <p:nvPr/>
            </p:nvSpPr>
            <p:spPr>
              <a:xfrm rot="5400000">
                <a:off x="3097800" y="261504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1150"/>
              <p:cNvSpPr/>
              <p:nvPr/>
            </p:nvSpPr>
            <p:spPr>
              <a:xfrm rot="5400000">
                <a:off x="2154960" y="33714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1151"/>
              <p:cNvSpPr/>
              <p:nvPr/>
            </p:nvSpPr>
            <p:spPr>
              <a:xfrm rot="5400000">
                <a:off x="2154960" y="33714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152"/>
              <p:cNvSpPr/>
              <p:nvPr/>
            </p:nvSpPr>
            <p:spPr>
              <a:xfrm rot="5400000">
                <a:off x="1209600" y="412812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1153"/>
              <p:cNvSpPr/>
              <p:nvPr/>
            </p:nvSpPr>
            <p:spPr>
              <a:xfrm rot="5400000">
                <a:off x="1209600" y="4128120"/>
                <a:ext cx="85680" cy="1018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66">
                    <a:moveTo>
                      <a:pt x="36" y="0"/>
                    </a:moveTo>
                    <a:lnTo>
                      <a:pt x="0" y="33"/>
                    </a:lnTo>
                    <a:lnTo>
                      <a:pt x="36" y="66"/>
                    </a:lnTo>
                    <a:lnTo>
                      <a:pt x="69" y="33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154"/>
              <p:cNvSpPr/>
              <p:nvPr/>
            </p:nvSpPr>
            <p:spPr>
              <a:xfrm rot="5400000">
                <a:off x="268200" y="488268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155"/>
              <p:cNvSpPr/>
              <p:nvPr/>
            </p:nvSpPr>
            <p:spPr>
              <a:xfrm rot="5400000">
                <a:off x="268200" y="488268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156"/>
              <p:cNvSpPr/>
              <p:nvPr/>
            </p:nvSpPr>
            <p:spPr>
              <a:xfrm rot="5400000">
                <a:off x="5788080" y="47988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157"/>
              <p:cNvSpPr/>
              <p:nvPr/>
            </p:nvSpPr>
            <p:spPr>
              <a:xfrm rot="5400000">
                <a:off x="5788080" y="47988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158"/>
              <p:cNvSpPr/>
              <p:nvPr/>
            </p:nvSpPr>
            <p:spPr>
              <a:xfrm rot="5400000">
                <a:off x="4843440" y="12373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159"/>
              <p:cNvSpPr/>
              <p:nvPr/>
            </p:nvSpPr>
            <p:spPr>
              <a:xfrm rot="5400000">
                <a:off x="4843440" y="1237320"/>
                <a:ext cx="60840" cy="77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9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160"/>
              <p:cNvSpPr/>
              <p:nvPr/>
            </p:nvSpPr>
            <p:spPr>
              <a:xfrm rot="5400000">
                <a:off x="3898800" y="199332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1161"/>
              <p:cNvSpPr/>
              <p:nvPr/>
            </p:nvSpPr>
            <p:spPr>
              <a:xfrm rot="5400000">
                <a:off x="3898800" y="199332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1162"/>
              <p:cNvSpPr/>
              <p:nvPr/>
            </p:nvSpPr>
            <p:spPr>
              <a:xfrm rot="5400000">
                <a:off x="2956680" y="27486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49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163"/>
              <p:cNvSpPr/>
              <p:nvPr/>
            </p:nvSpPr>
            <p:spPr>
              <a:xfrm rot="5400000">
                <a:off x="2956680" y="2748600"/>
                <a:ext cx="60840" cy="80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33" y="0"/>
                    </a:moveTo>
                    <a:lnTo>
                      <a:pt x="0" y="33"/>
                    </a:lnTo>
                    <a:lnTo>
                      <a:pt x="16" y="52"/>
                    </a:lnTo>
                    <a:lnTo>
                      <a:pt x="49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164"/>
              <p:cNvSpPr/>
              <p:nvPr/>
            </p:nvSpPr>
            <p:spPr>
              <a:xfrm rot="5400000">
                <a:off x="2013120" y="35056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165"/>
              <p:cNvSpPr/>
              <p:nvPr/>
            </p:nvSpPr>
            <p:spPr>
              <a:xfrm rot="5400000">
                <a:off x="2013120" y="35056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166"/>
              <p:cNvSpPr/>
              <p:nvPr/>
            </p:nvSpPr>
            <p:spPr>
              <a:xfrm rot="5400000">
                <a:off x="1069200" y="426492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167"/>
              <p:cNvSpPr/>
              <p:nvPr/>
            </p:nvSpPr>
            <p:spPr>
              <a:xfrm rot="5400000">
                <a:off x="1069200" y="426492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168"/>
              <p:cNvSpPr/>
              <p:nvPr/>
            </p:nvSpPr>
            <p:spPr>
              <a:xfrm rot="5400000">
                <a:off x="123480" y="50202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169"/>
              <p:cNvSpPr/>
              <p:nvPr/>
            </p:nvSpPr>
            <p:spPr>
              <a:xfrm rot="5400000">
                <a:off x="123480" y="5020200"/>
                <a:ext cx="64440" cy="770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3" y="0"/>
                    </a:moveTo>
                    <a:lnTo>
                      <a:pt x="0" y="34"/>
                    </a:lnTo>
                    <a:lnTo>
                      <a:pt x="17" y="50"/>
                    </a:lnTo>
                    <a:lnTo>
                      <a:pt x="52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170"/>
              <p:cNvSpPr/>
              <p:nvPr/>
            </p:nvSpPr>
            <p:spPr>
              <a:xfrm rot="5400000">
                <a:off x="6095880" y="2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171"/>
              <p:cNvSpPr/>
              <p:nvPr/>
            </p:nvSpPr>
            <p:spPr>
              <a:xfrm rot="5400000">
                <a:off x="6095880" y="235800"/>
                <a:ext cx="60840" cy="75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33" y="0"/>
                    </a:moveTo>
                    <a:lnTo>
                      <a:pt x="0" y="33"/>
                    </a:lnTo>
                    <a:lnTo>
                      <a:pt x="16" y="49"/>
                    </a:lnTo>
                    <a:lnTo>
                      <a:pt x="49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172"/>
              <p:cNvSpPr/>
              <p:nvPr/>
            </p:nvSpPr>
            <p:spPr>
              <a:xfrm rot="5400000">
                <a:off x="5151240" y="9903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173"/>
              <p:cNvSpPr/>
              <p:nvPr/>
            </p:nvSpPr>
            <p:spPr>
              <a:xfrm rot="5400000">
                <a:off x="5151240" y="99036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174"/>
              <p:cNvSpPr/>
              <p:nvPr/>
            </p:nvSpPr>
            <p:spPr>
              <a:xfrm rot="5400000">
                <a:off x="4206240" y="17488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175"/>
              <p:cNvSpPr/>
              <p:nvPr/>
            </p:nvSpPr>
            <p:spPr>
              <a:xfrm rot="5400000">
                <a:off x="4206240" y="1748880"/>
                <a:ext cx="61920" cy="77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6" y="50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176"/>
              <p:cNvSpPr/>
              <p:nvPr/>
            </p:nvSpPr>
            <p:spPr>
              <a:xfrm rot="5400000">
                <a:off x="3261960" y="250380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177"/>
              <p:cNvSpPr/>
              <p:nvPr/>
            </p:nvSpPr>
            <p:spPr>
              <a:xfrm rot="5400000">
                <a:off x="3261960" y="2503800"/>
                <a:ext cx="61920" cy="77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178"/>
              <p:cNvSpPr/>
              <p:nvPr/>
            </p:nvSpPr>
            <p:spPr>
              <a:xfrm rot="5400000">
                <a:off x="2319480" y="326052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79"/>
              <p:cNvSpPr/>
              <p:nvPr/>
            </p:nvSpPr>
            <p:spPr>
              <a:xfrm rot="5400000">
                <a:off x="2319480" y="326052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180"/>
              <p:cNvSpPr/>
              <p:nvPr/>
            </p:nvSpPr>
            <p:spPr>
              <a:xfrm rot="5400000">
                <a:off x="1376280" y="40168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81"/>
              <p:cNvSpPr/>
              <p:nvPr/>
            </p:nvSpPr>
            <p:spPr>
              <a:xfrm rot="5400000">
                <a:off x="1376280" y="401688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7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82"/>
              <p:cNvSpPr/>
              <p:nvPr/>
            </p:nvSpPr>
            <p:spPr>
              <a:xfrm rot="5400000">
                <a:off x="431280" y="4775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83"/>
              <p:cNvSpPr/>
              <p:nvPr/>
            </p:nvSpPr>
            <p:spPr>
              <a:xfrm rot="5400000">
                <a:off x="431280" y="4775040"/>
                <a:ext cx="62280" cy="77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84"/>
              <p:cNvSpPr/>
              <p:nvPr/>
            </p:nvSpPr>
            <p:spPr>
              <a:xfrm rot="5400000">
                <a:off x="459720" y="-460080"/>
                <a:ext cx="3711240" cy="4631400"/>
              </a:xfrm>
              <a:custGeom>
                <a:avLst/>
                <a:gdLst>
                  <a:gd name="textAreaLeft" fmla="*/ 0 w 3711240"/>
                  <a:gd name="textAreaRight" fmla="*/ 3711600 w 3711240"/>
                  <a:gd name="textAreaTop" fmla="*/ 0 h 4631400"/>
                  <a:gd name="textAreaBottom" fmla="*/ 4631760 h 4631400"/>
                </a:gdLst>
                <a:ahLst/>
                <a:rect l="textAreaLeft" t="textAreaTop" r="textAreaRight" b="textAreaBottom"/>
                <a:pathLst>
                  <a:path w="2985" h="2990">
                    <a:moveTo>
                      <a:pt x="2876" y="2879"/>
                    </a:moveTo>
                    <a:lnTo>
                      <a:pt x="2843" y="2914"/>
                    </a:lnTo>
                    <a:lnTo>
                      <a:pt x="2918" y="2990"/>
                    </a:lnTo>
                    <a:lnTo>
                      <a:pt x="2985" y="2990"/>
                    </a:lnTo>
                    <a:lnTo>
                      <a:pt x="2876" y="2879"/>
                    </a:lnTo>
                    <a:close/>
                    <a:moveTo>
                      <a:pt x="2786" y="2789"/>
                    </a:moveTo>
                    <a:lnTo>
                      <a:pt x="2753" y="2822"/>
                    </a:lnTo>
                    <a:lnTo>
                      <a:pt x="2826" y="2898"/>
                    </a:lnTo>
                    <a:lnTo>
                      <a:pt x="2859" y="2862"/>
                    </a:lnTo>
                    <a:lnTo>
                      <a:pt x="2786" y="2789"/>
                    </a:lnTo>
                    <a:close/>
                    <a:moveTo>
                      <a:pt x="2677" y="2682"/>
                    </a:moveTo>
                    <a:lnTo>
                      <a:pt x="2644" y="2716"/>
                    </a:lnTo>
                    <a:lnTo>
                      <a:pt x="2720" y="2789"/>
                    </a:lnTo>
                    <a:lnTo>
                      <a:pt x="2753" y="2756"/>
                    </a:lnTo>
                    <a:lnTo>
                      <a:pt x="2677" y="2682"/>
                    </a:lnTo>
                    <a:close/>
                    <a:moveTo>
                      <a:pt x="2268" y="2271"/>
                    </a:moveTo>
                    <a:lnTo>
                      <a:pt x="2235" y="2304"/>
                    </a:lnTo>
                    <a:lnTo>
                      <a:pt x="2628" y="2699"/>
                    </a:lnTo>
                    <a:lnTo>
                      <a:pt x="2661" y="2666"/>
                    </a:lnTo>
                    <a:lnTo>
                      <a:pt x="2268" y="2271"/>
                    </a:lnTo>
                    <a:close/>
                    <a:moveTo>
                      <a:pt x="2176" y="2179"/>
                    </a:moveTo>
                    <a:lnTo>
                      <a:pt x="2143" y="2214"/>
                    </a:lnTo>
                    <a:lnTo>
                      <a:pt x="2216" y="2288"/>
                    </a:lnTo>
                    <a:lnTo>
                      <a:pt x="2252" y="2255"/>
                    </a:lnTo>
                    <a:lnTo>
                      <a:pt x="2176" y="2179"/>
                    </a:lnTo>
                    <a:close/>
                    <a:moveTo>
                      <a:pt x="2070" y="2073"/>
                    </a:moveTo>
                    <a:lnTo>
                      <a:pt x="2037" y="2106"/>
                    </a:lnTo>
                    <a:lnTo>
                      <a:pt x="2110" y="2179"/>
                    </a:lnTo>
                    <a:lnTo>
                      <a:pt x="2143" y="2146"/>
                    </a:lnTo>
                    <a:lnTo>
                      <a:pt x="2070" y="2073"/>
                    </a:lnTo>
                    <a:close/>
                    <a:moveTo>
                      <a:pt x="1659" y="1661"/>
                    </a:moveTo>
                    <a:lnTo>
                      <a:pt x="1626" y="1695"/>
                    </a:lnTo>
                    <a:lnTo>
                      <a:pt x="2020" y="2089"/>
                    </a:lnTo>
                    <a:lnTo>
                      <a:pt x="2053" y="2056"/>
                    </a:lnTo>
                    <a:lnTo>
                      <a:pt x="1659" y="1661"/>
                    </a:lnTo>
                    <a:close/>
                    <a:moveTo>
                      <a:pt x="1569" y="1572"/>
                    </a:moveTo>
                    <a:lnTo>
                      <a:pt x="1536" y="1605"/>
                    </a:lnTo>
                    <a:lnTo>
                      <a:pt x="1609" y="1678"/>
                    </a:lnTo>
                    <a:lnTo>
                      <a:pt x="1642" y="1645"/>
                    </a:lnTo>
                    <a:lnTo>
                      <a:pt x="1569" y="1572"/>
                    </a:lnTo>
                    <a:close/>
                    <a:moveTo>
                      <a:pt x="1460" y="1463"/>
                    </a:moveTo>
                    <a:lnTo>
                      <a:pt x="1427" y="1496"/>
                    </a:lnTo>
                    <a:lnTo>
                      <a:pt x="1503" y="1572"/>
                    </a:lnTo>
                    <a:lnTo>
                      <a:pt x="1536" y="1539"/>
                    </a:lnTo>
                    <a:lnTo>
                      <a:pt x="1460" y="1463"/>
                    </a:lnTo>
                    <a:close/>
                    <a:moveTo>
                      <a:pt x="1051" y="1052"/>
                    </a:moveTo>
                    <a:lnTo>
                      <a:pt x="1018" y="1085"/>
                    </a:lnTo>
                    <a:lnTo>
                      <a:pt x="1411" y="1479"/>
                    </a:lnTo>
                    <a:lnTo>
                      <a:pt x="1444" y="1446"/>
                    </a:lnTo>
                    <a:lnTo>
                      <a:pt x="1051" y="1052"/>
                    </a:lnTo>
                    <a:close/>
                    <a:moveTo>
                      <a:pt x="959" y="962"/>
                    </a:moveTo>
                    <a:lnTo>
                      <a:pt x="926" y="995"/>
                    </a:lnTo>
                    <a:lnTo>
                      <a:pt x="999" y="1068"/>
                    </a:lnTo>
                    <a:lnTo>
                      <a:pt x="1035" y="1035"/>
                    </a:lnTo>
                    <a:lnTo>
                      <a:pt x="959" y="962"/>
                    </a:lnTo>
                    <a:close/>
                    <a:moveTo>
                      <a:pt x="853" y="853"/>
                    </a:moveTo>
                    <a:lnTo>
                      <a:pt x="820" y="886"/>
                    </a:lnTo>
                    <a:lnTo>
                      <a:pt x="893" y="962"/>
                    </a:lnTo>
                    <a:lnTo>
                      <a:pt x="926" y="929"/>
                    </a:lnTo>
                    <a:lnTo>
                      <a:pt x="853" y="853"/>
                    </a:lnTo>
                    <a:close/>
                    <a:moveTo>
                      <a:pt x="442" y="442"/>
                    </a:moveTo>
                    <a:lnTo>
                      <a:pt x="409" y="477"/>
                    </a:lnTo>
                    <a:lnTo>
                      <a:pt x="803" y="870"/>
                    </a:lnTo>
                    <a:lnTo>
                      <a:pt x="836" y="837"/>
                    </a:lnTo>
                    <a:lnTo>
                      <a:pt x="442" y="442"/>
                    </a:lnTo>
                    <a:close/>
                    <a:moveTo>
                      <a:pt x="352" y="352"/>
                    </a:moveTo>
                    <a:lnTo>
                      <a:pt x="319" y="385"/>
                    </a:lnTo>
                    <a:lnTo>
                      <a:pt x="392" y="458"/>
                    </a:lnTo>
                    <a:lnTo>
                      <a:pt x="425" y="425"/>
                    </a:lnTo>
                    <a:lnTo>
                      <a:pt x="352" y="352"/>
                    </a:lnTo>
                    <a:close/>
                    <a:moveTo>
                      <a:pt x="243" y="246"/>
                    </a:moveTo>
                    <a:lnTo>
                      <a:pt x="210" y="279"/>
                    </a:lnTo>
                    <a:lnTo>
                      <a:pt x="286" y="352"/>
                    </a:lnTo>
                    <a:lnTo>
                      <a:pt x="319" y="319"/>
                    </a:lnTo>
                    <a:lnTo>
                      <a:pt x="243" y="246"/>
                    </a:lnTo>
                    <a:close/>
                    <a:moveTo>
                      <a:pt x="0" y="0"/>
                    </a:moveTo>
                    <a:lnTo>
                      <a:pt x="0" y="66"/>
                    </a:lnTo>
                    <a:lnTo>
                      <a:pt x="193" y="262"/>
                    </a:lnTo>
                    <a:lnTo>
                      <a:pt x="227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185"/>
              <p:cNvSpPr/>
              <p:nvPr/>
            </p:nvSpPr>
            <p:spPr>
              <a:xfrm rot="5400000">
                <a:off x="459720" y="-460080"/>
                <a:ext cx="3711240" cy="4631400"/>
              </a:xfrm>
              <a:custGeom>
                <a:avLst/>
                <a:gdLst>
                  <a:gd name="textAreaLeft" fmla="*/ 0 w 3711240"/>
                  <a:gd name="textAreaRight" fmla="*/ 3711600 w 3711240"/>
                  <a:gd name="textAreaTop" fmla="*/ 0 h 4631400"/>
                  <a:gd name="textAreaBottom" fmla="*/ 4631760 h 4631400"/>
                </a:gdLst>
                <a:ahLst/>
                <a:rect l="textAreaLeft" t="textAreaTop" r="textAreaRight" b="textAreaBottom"/>
                <a:pathLst>
                  <a:path w="2985" h="2990">
                    <a:moveTo>
                      <a:pt x="2876" y="2879"/>
                    </a:moveTo>
                    <a:lnTo>
                      <a:pt x="2843" y="2914"/>
                    </a:lnTo>
                    <a:lnTo>
                      <a:pt x="2918" y="2990"/>
                    </a:lnTo>
                    <a:lnTo>
                      <a:pt x="2985" y="2990"/>
                    </a:lnTo>
                    <a:lnTo>
                      <a:pt x="2876" y="2879"/>
                    </a:lnTo>
                    <a:moveTo>
                      <a:pt x="2786" y="2789"/>
                    </a:moveTo>
                    <a:lnTo>
                      <a:pt x="2753" y="2822"/>
                    </a:lnTo>
                    <a:lnTo>
                      <a:pt x="2826" y="2898"/>
                    </a:lnTo>
                    <a:lnTo>
                      <a:pt x="2859" y="2862"/>
                    </a:lnTo>
                    <a:lnTo>
                      <a:pt x="2786" y="2789"/>
                    </a:lnTo>
                    <a:moveTo>
                      <a:pt x="2677" y="2682"/>
                    </a:moveTo>
                    <a:lnTo>
                      <a:pt x="2644" y="2716"/>
                    </a:lnTo>
                    <a:lnTo>
                      <a:pt x="2720" y="2789"/>
                    </a:lnTo>
                    <a:lnTo>
                      <a:pt x="2753" y="2756"/>
                    </a:lnTo>
                    <a:lnTo>
                      <a:pt x="2677" y="2682"/>
                    </a:lnTo>
                    <a:moveTo>
                      <a:pt x="2268" y="2271"/>
                    </a:moveTo>
                    <a:lnTo>
                      <a:pt x="2235" y="2304"/>
                    </a:lnTo>
                    <a:lnTo>
                      <a:pt x="2628" y="2699"/>
                    </a:lnTo>
                    <a:lnTo>
                      <a:pt x="2661" y="2666"/>
                    </a:lnTo>
                    <a:lnTo>
                      <a:pt x="2268" y="2271"/>
                    </a:lnTo>
                    <a:moveTo>
                      <a:pt x="2176" y="2179"/>
                    </a:moveTo>
                    <a:lnTo>
                      <a:pt x="2143" y="2214"/>
                    </a:lnTo>
                    <a:lnTo>
                      <a:pt x="2216" y="2288"/>
                    </a:lnTo>
                    <a:lnTo>
                      <a:pt x="2252" y="2255"/>
                    </a:lnTo>
                    <a:lnTo>
                      <a:pt x="2176" y="2179"/>
                    </a:lnTo>
                    <a:moveTo>
                      <a:pt x="2070" y="2073"/>
                    </a:moveTo>
                    <a:lnTo>
                      <a:pt x="2037" y="2106"/>
                    </a:lnTo>
                    <a:lnTo>
                      <a:pt x="2110" y="2179"/>
                    </a:lnTo>
                    <a:lnTo>
                      <a:pt x="2143" y="2146"/>
                    </a:lnTo>
                    <a:lnTo>
                      <a:pt x="2070" y="2073"/>
                    </a:lnTo>
                    <a:moveTo>
                      <a:pt x="1659" y="1661"/>
                    </a:moveTo>
                    <a:lnTo>
                      <a:pt x="1626" y="1695"/>
                    </a:lnTo>
                    <a:lnTo>
                      <a:pt x="2020" y="2089"/>
                    </a:lnTo>
                    <a:lnTo>
                      <a:pt x="2053" y="2056"/>
                    </a:lnTo>
                    <a:lnTo>
                      <a:pt x="1659" y="1661"/>
                    </a:lnTo>
                    <a:moveTo>
                      <a:pt x="1569" y="1572"/>
                    </a:moveTo>
                    <a:lnTo>
                      <a:pt x="1536" y="1605"/>
                    </a:lnTo>
                    <a:lnTo>
                      <a:pt x="1609" y="1678"/>
                    </a:lnTo>
                    <a:lnTo>
                      <a:pt x="1642" y="1645"/>
                    </a:lnTo>
                    <a:lnTo>
                      <a:pt x="1569" y="1572"/>
                    </a:lnTo>
                    <a:moveTo>
                      <a:pt x="1460" y="1463"/>
                    </a:moveTo>
                    <a:lnTo>
                      <a:pt x="1427" y="1496"/>
                    </a:lnTo>
                    <a:lnTo>
                      <a:pt x="1503" y="1572"/>
                    </a:lnTo>
                    <a:lnTo>
                      <a:pt x="1536" y="1539"/>
                    </a:lnTo>
                    <a:lnTo>
                      <a:pt x="1460" y="1463"/>
                    </a:lnTo>
                    <a:moveTo>
                      <a:pt x="1051" y="1052"/>
                    </a:moveTo>
                    <a:lnTo>
                      <a:pt x="1018" y="1085"/>
                    </a:lnTo>
                    <a:lnTo>
                      <a:pt x="1411" y="1479"/>
                    </a:lnTo>
                    <a:lnTo>
                      <a:pt x="1444" y="1446"/>
                    </a:lnTo>
                    <a:lnTo>
                      <a:pt x="1051" y="1052"/>
                    </a:lnTo>
                    <a:moveTo>
                      <a:pt x="959" y="962"/>
                    </a:moveTo>
                    <a:lnTo>
                      <a:pt x="926" y="995"/>
                    </a:lnTo>
                    <a:lnTo>
                      <a:pt x="999" y="1068"/>
                    </a:lnTo>
                    <a:lnTo>
                      <a:pt x="1035" y="1035"/>
                    </a:lnTo>
                    <a:lnTo>
                      <a:pt x="959" y="962"/>
                    </a:lnTo>
                    <a:moveTo>
                      <a:pt x="853" y="853"/>
                    </a:moveTo>
                    <a:lnTo>
                      <a:pt x="820" y="886"/>
                    </a:lnTo>
                    <a:lnTo>
                      <a:pt x="893" y="962"/>
                    </a:lnTo>
                    <a:lnTo>
                      <a:pt x="926" y="929"/>
                    </a:lnTo>
                    <a:lnTo>
                      <a:pt x="853" y="853"/>
                    </a:lnTo>
                    <a:moveTo>
                      <a:pt x="442" y="442"/>
                    </a:moveTo>
                    <a:lnTo>
                      <a:pt x="409" y="477"/>
                    </a:lnTo>
                    <a:lnTo>
                      <a:pt x="803" y="870"/>
                    </a:lnTo>
                    <a:lnTo>
                      <a:pt x="836" y="837"/>
                    </a:lnTo>
                    <a:lnTo>
                      <a:pt x="442" y="442"/>
                    </a:lnTo>
                    <a:moveTo>
                      <a:pt x="352" y="352"/>
                    </a:moveTo>
                    <a:lnTo>
                      <a:pt x="319" y="385"/>
                    </a:lnTo>
                    <a:lnTo>
                      <a:pt x="392" y="458"/>
                    </a:lnTo>
                    <a:lnTo>
                      <a:pt x="425" y="425"/>
                    </a:lnTo>
                    <a:lnTo>
                      <a:pt x="352" y="352"/>
                    </a:lnTo>
                    <a:moveTo>
                      <a:pt x="243" y="246"/>
                    </a:moveTo>
                    <a:lnTo>
                      <a:pt x="210" y="279"/>
                    </a:lnTo>
                    <a:lnTo>
                      <a:pt x="286" y="352"/>
                    </a:lnTo>
                    <a:lnTo>
                      <a:pt x="319" y="319"/>
                    </a:lnTo>
                    <a:lnTo>
                      <a:pt x="243" y="246"/>
                    </a:lnTo>
                    <a:moveTo>
                      <a:pt x="0" y="0"/>
                    </a:moveTo>
                    <a:lnTo>
                      <a:pt x="0" y="66"/>
                    </a:lnTo>
                    <a:lnTo>
                      <a:pt x="193" y="262"/>
                    </a:lnTo>
                    <a:lnTo>
                      <a:pt x="227" y="2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186"/>
              <p:cNvSpPr/>
              <p:nvPr/>
            </p:nvSpPr>
            <p:spPr>
              <a:xfrm rot="5400000">
                <a:off x="4044960" y="3452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187"/>
              <p:cNvSpPr/>
              <p:nvPr/>
            </p:nvSpPr>
            <p:spPr>
              <a:xfrm rot="5400000">
                <a:off x="4044960" y="34524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188"/>
              <p:cNvSpPr/>
              <p:nvPr/>
            </p:nvSpPr>
            <p:spPr>
              <a:xfrm rot="5400000">
                <a:off x="3099960" y="11001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189"/>
              <p:cNvSpPr/>
              <p:nvPr/>
            </p:nvSpPr>
            <p:spPr>
              <a:xfrm rot="5400000">
                <a:off x="3099960" y="110016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190"/>
              <p:cNvSpPr/>
              <p:nvPr/>
            </p:nvSpPr>
            <p:spPr>
              <a:xfrm rot="5400000">
                <a:off x="2154960" y="18583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191"/>
              <p:cNvSpPr/>
              <p:nvPr/>
            </p:nvSpPr>
            <p:spPr>
              <a:xfrm rot="5400000">
                <a:off x="2154960" y="185832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192"/>
              <p:cNvSpPr/>
              <p:nvPr/>
            </p:nvSpPr>
            <p:spPr>
              <a:xfrm rot="5400000">
                <a:off x="1213200" y="261144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193"/>
              <p:cNvSpPr/>
              <p:nvPr/>
            </p:nvSpPr>
            <p:spPr>
              <a:xfrm rot="5400000">
                <a:off x="1213200" y="2611440"/>
                <a:ext cx="81720" cy="1051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33" y="0"/>
                    </a:moveTo>
                    <a:lnTo>
                      <a:pt x="0" y="33"/>
                    </a:lnTo>
                    <a:lnTo>
                      <a:pt x="33" y="68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194"/>
              <p:cNvSpPr/>
              <p:nvPr/>
            </p:nvSpPr>
            <p:spPr>
              <a:xfrm rot="5400000">
                <a:off x="270000" y="33714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1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195"/>
              <p:cNvSpPr/>
              <p:nvPr/>
            </p:nvSpPr>
            <p:spPr>
              <a:xfrm rot="5400000">
                <a:off x="270000" y="3371400"/>
                <a:ext cx="81720" cy="10188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6" h="66">
                    <a:moveTo>
                      <a:pt x="33" y="0"/>
                    </a:moveTo>
                    <a:lnTo>
                      <a:pt x="0" y="33"/>
                    </a:lnTo>
                    <a:lnTo>
                      <a:pt x="33" y="66"/>
                    </a:lnTo>
                    <a:lnTo>
                      <a:pt x="66" y="33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196"/>
              <p:cNvSpPr/>
              <p:nvPr/>
            </p:nvSpPr>
            <p:spPr>
              <a:xfrm rot="5400000">
                <a:off x="3901320" y="478080"/>
                <a:ext cx="61920" cy="80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197"/>
              <p:cNvSpPr/>
              <p:nvPr/>
            </p:nvSpPr>
            <p:spPr>
              <a:xfrm rot="5400000">
                <a:off x="3901320" y="478080"/>
                <a:ext cx="61920" cy="80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3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198"/>
              <p:cNvSpPr/>
              <p:nvPr/>
            </p:nvSpPr>
            <p:spPr>
              <a:xfrm rot="5400000">
                <a:off x="2956320" y="12351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3"/>
                    </a:lnTo>
                    <a:lnTo>
                      <a:pt x="19" y="50"/>
                    </a:lnTo>
                    <a:lnTo>
                      <a:pt x="52" y="1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199"/>
              <p:cNvSpPr/>
              <p:nvPr/>
            </p:nvSpPr>
            <p:spPr>
              <a:xfrm rot="5400000">
                <a:off x="2956320" y="1235160"/>
                <a:ext cx="64800" cy="774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0"/>
                    </a:moveTo>
                    <a:lnTo>
                      <a:pt x="0" y="33"/>
                    </a:lnTo>
                    <a:lnTo>
                      <a:pt x="19" y="50"/>
                    </a:lnTo>
                    <a:lnTo>
                      <a:pt x="52" y="17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200"/>
              <p:cNvSpPr/>
              <p:nvPr/>
            </p:nvSpPr>
            <p:spPr>
              <a:xfrm rot="5400000">
                <a:off x="2013120" y="19926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201"/>
              <p:cNvSpPr/>
              <p:nvPr/>
            </p:nvSpPr>
            <p:spPr>
              <a:xfrm rot="5400000">
                <a:off x="2013120" y="1992600"/>
                <a:ext cx="62280" cy="774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3" y="0"/>
                    </a:moveTo>
                    <a:lnTo>
                      <a:pt x="0" y="33"/>
                    </a:lnTo>
                    <a:lnTo>
                      <a:pt x="17" y="50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202"/>
              <p:cNvSpPr/>
              <p:nvPr/>
            </p:nvSpPr>
            <p:spPr>
              <a:xfrm rot="5400000">
                <a:off x="1067760" y="27493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6" y="0"/>
                    </a:moveTo>
                    <a:lnTo>
                      <a:pt x="0" y="33"/>
                    </a:lnTo>
                    <a:lnTo>
                      <a:pt x="19" y="49"/>
                    </a:lnTo>
                    <a:lnTo>
                      <a:pt x="52" y="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203"/>
              <p:cNvSpPr/>
              <p:nvPr/>
            </p:nvSpPr>
            <p:spPr>
              <a:xfrm rot="5400000">
                <a:off x="1067760" y="2749320"/>
                <a:ext cx="64440" cy="756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2" h="49">
                    <a:moveTo>
                      <a:pt x="36" y="0"/>
                    </a:moveTo>
                    <a:lnTo>
                      <a:pt x="0" y="33"/>
                    </a:lnTo>
                    <a:lnTo>
                      <a:pt x="19" y="49"/>
                    </a:lnTo>
                    <a:lnTo>
                      <a:pt x="52" y="16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204"/>
              <p:cNvSpPr/>
              <p:nvPr/>
            </p:nvSpPr>
            <p:spPr>
              <a:xfrm rot="5400000">
                <a:off x="126360" y="35042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6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205"/>
              <p:cNvSpPr/>
              <p:nvPr/>
            </p:nvSpPr>
            <p:spPr>
              <a:xfrm rot="5400000">
                <a:off x="126360" y="3504240"/>
                <a:ext cx="61920" cy="80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3" y="0"/>
                    </a:moveTo>
                    <a:lnTo>
                      <a:pt x="0" y="36"/>
                    </a:lnTo>
                    <a:lnTo>
                      <a:pt x="17" y="52"/>
                    </a:lnTo>
                    <a:lnTo>
                      <a:pt x="50" y="1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206"/>
              <p:cNvSpPr/>
              <p:nvPr/>
            </p:nvSpPr>
            <p:spPr>
              <a:xfrm rot="5400000">
                <a:off x="4207680" y="230400"/>
                <a:ext cx="62280" cy="80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4" y="0"/>
                    </a:moveTo>
                    <a:lnTo>
                      <a:pt x="0" y="35"/>
                    </a:lnTo>
                    <a:lnTo>
                      <a:pt x="17" y="52"/>
                    </a:lnTo>
                    <a:lnTo>
                      <a:pt x="50" y="1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207"/>
              <p:cNvSpPr/>
              <p:nvPr/>
            </p:nvSpPr>
            <p:spPr>
              <a:xfrm rot="5400000">
                <a:off x="4207680" y="230400"/>
                <a:ext cx="62280" cy="80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34" y="0"/>
                    </a:moveTo>
                    <a:lnTo>
                      <a:pt x="0" y="35"/>
                    </a:lnTo>
                    <a:lnTo>
                      <a:pt x="17" y="52"/>
                    </a:lnTo>
                    <a:lnTo>
                      <a:pt x="50" y="19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208"/>
              <p:cNvSpPr/>
              <p:nvPr/>
            </p:nvSpPr>
            <p:spPr>
              <a:xfrm rot="5400000">
                <a:off x="3265560" y="9914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6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209"/>
              <p:cNvSpPr/>
              <p:nvPr/>
            </p:nvSpPr>
            <p:spPr>
              <a:xfrm rot="5400000">
                <a:off x="3265560" y="991440"/>
                <a:ext cx="61920" cy="75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33" y="0"/>
                    </a:moveTo>
                    <a:lnTo>
                      <a:pt x="0" y="33"/>
                    </a:lnTo>
                    <a:lnTo>
                      <a:pt x="17" y="49"/>
                    </a:lnTo>
                    <a:lnTo>
                      <a:pt x="50" y="1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Freeform 1211"/>
            <p:cNvSpPr/>
            <p:nvPr/>
          </p:nvSpPr>
          <p:spPr>
            <a:xfrm rot="5400000">
              <a:off x="2322000" y="174600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33" y="0"/>
                  </a:moveTo>
                  <a:lnTo>
                    <a:pt x="0" y="33"/>
                  </a:lnTo>
                  <a:lnTo>
                    <a:pt x="16" y="50"/>
                  </a:lnTo>
                  <a:lnTo>
                    <a:pt x="49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212"/>
            <p:cNvSpPr/>
            <p:nvPr/>
          </p:nvSpPr>
          <p:spPr>
            <a:xfrm rot="5400000">
              <a:off x="2322000" y="174600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33" y="0"/>
                  </a:moveTo>
                  <a:lnTo>
                    <a:pt x="0" y="33"/>
                  </a:lnTo>
                  <a:lnTo>
                    <a:pt x="16" y="50"/>
                  </a:lnTo>
                  <a:lnTo>
                    <a:pt x="49" y="17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13"/>
            <p:cNvSpPr/>
            <p:nvPr/>
          </p:nvSpPr>
          <p:spPr>
            <a:xfrm rot="5400000">
              <a:off x="1376280" y="250344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3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214"/>
            <p:cNvSpPr/>
            <p:nvPr/>
          </p:nvSpPr>
          <p:spPr>
            <a:xfrm rot="5400000">
              <a:off x="1376280" y="250344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3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7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215"/>
            <p:cNvSpPr/>
            <p:nvPr/>
          </p:nvSpPr>
          <p:spPr>
            <a:xfrm rot="5400000">
              <a:off x="432360" y="325908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33" y="0"/>
                  </a:moveTo>
                  <a:lnTo>
                    <a:pt x="0" y="33"/>
                  </a:lnTo>
                  <a:lnTo>
                    <a:pt x="16" y="50"/>
                  </a:lnTo>
                  <a:lnTo>
                    <a:pt x="49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216"/>
            <p:cNvSpPr/>
            <p:nvPr/>
          </p:nvSpPr>
          <p:spPr>
            <a:xfrm rot="5400000">
              <a:off x="432360" y="3259080"/>
              <a:ext cx="60840" cy="77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9" h="50">
                  <a:moveTo>
                    <a:pt x="33" y="0"/>
                  </a:moveTo>
                  <a:lnTo>
                    <a:pt x="0" y="33"/>
                  </a:lnTo>
                  <a:lnTo>
                    <a:pt x="16" y="50"/>
                  </a:lnTo>
                  <a:lnTo>
                    <a:pt x="49" y="16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217"/>
            <p:cNvSpPr/>
            <p:nvPr/>
          </p:nvSpPr>
          <p:spPr>
            <a:xfrm rot="5400000">
              <a:off x="272880" y="-273240"/>
              <a:ext cx="2196720" cy="2743200"/>
            </a:xfrm>
            <a:custGeom>
              <a:avLst/>
              <a:gdLst>
                <a:gd name="textAreaLeft" fmla="*/ 0 w 2196720"/>
                <a:gd name="textAreaRight" fmla="*/ 2197080 w 21967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1767" h="1771">
                  <a:moveTo>
                    <a:pt x="1659" y="1660"/>
                  </a:moveTo>
                  <a:lnTo>
                    <a:pt x="1626" y="1693"/>
                  </a:lnTo>
                  <a:lnTo>
                    <a:pt x="1701" y="1771"/>
                  </a:lnTo>
                  <a:lnTo>
                    <a:pt x="1767" y="1771"/>
                  </a:lnTo>
                  <a:lnTo>
                    <a:pt x="1659" y="1660"/>
                  </a:lnTo>
                  <a:close/>
                  <a:moveTo>
                    <a:pt x="1569" y="1570"/>
                  </a:moveTo>
                  <a:lnTo>
                    <a:pt x="1536" y="1603"/>
                  </a:lnTo>
                  <a:lnTo>
                    <a:pt x="1609" y="1676"/>
                  </a:lnTo>
                  <a:lnTo>
                    <a:pt x="1642" y="1643"/>
                  </a:lnTo>
                  <a:lnTo>
                    <a:pt x="1569" y="1570"/>
                  </a:lnTo>
                  <a:close/>
                  <a:moveTo>
                    <a:pt x="1460" y="1461"/>
                  </a:moveTo>
                  <a:lnTo>
                    <a:pt x="1427" y="1494"/>
                  </a:lnTo>
                  <a:lnTo>
                    <a:pt x="1500" y="1570"/>
                  </a:lnTo>
                  <a:lnTo>
                    <a:pt x="1536" y="1537"/>
                  </a:lnTo>
                  <a:lnTo>
                    <a:pt x="1460" y="1461"/>
                  </a:lnTo>
                  <a:close/>
                  <a:moveTo>
                    <a:pt x="1049" y="1050"/>
                  </a:moveTo>
                  <a:lnTo>
                    <a:pt x="1016" y="1085"/>
                  </a:lnTo>
                  <a:lnTo>
                    <a:pt x="1411" y="1478"/>
                  </a:lnTo>
                  <a:lnTo>
                    <a:pt x="1444" y="1445"/>
                  </a:lnTo>
                  <a:lnTo>
                    <a:pt x="1049" y="1050"/>
                  </a:lnTo>
                  <a:close/>
                  <a:moveTo>
                    <a:pt x="959" y="960"/>
                  </a:moveTo>
                  <a:lnTo>
                    <a:pt x="926" y="993"/>
                  </a:lnTo>
                  <a:lnTo>
                    <a:pt x="999" y="1066"/>
                  </a:lnTo>
                  <a:lnTo>
                    <a:pt x="1032" y="1033"/>
                  </a:lnTo>
                  <a:lnTo>
                    <a:pt x="959" y="960"/>
                  </a:lnTo>
                  <a:close/>
                  <a:moveTo>
                    <a:pt x="853" y="854"/>
                  </a:moveTo>
                  <a:lnTo>
                    <a:pt x="820" y="887"/>
                  </a:lnTo>
                  <a:lnTo>
                    <a:pt x="893" y="960"/>
                  </a:lnTo>
                  <a:lnTo>
                    <a:pt x="926" y="927"/>
                  </a:lnTo>
                  <a:lnTo>
                    <a:pt x="853" y="854"/>
                  </a:lnTo>
                  <a:close/>
                  <a:moveTo>
                    <a:pt x="442" y="442"/>
                  </a:moveTo>
                  <a:lnTo>
                    <a:pt x="409" y="476"/>
                  </a:lnTo>
                  <a:lnTo>
                    <a:pt x="801" y="870"/>
                  </a:lnTo>
                  <a:lnTo>
                    <a:pt x="836" y="837"/>
                  </a:lnTo>
                  <a:lnTo>
                    <a:pt x="442" y="442"/>
                  </a:lnTo>
                  <a:close/>
                  <a:moveTo>
                    <a:pt x="352" y="350"/>
                  </a:moveTo>
                  <a:lnTo>
                    <a:pt x="319" y="386"/>
                  </a:lnTo>
                  <a:lnTo>
                    <a:pt x="392" y="459"/>
                  </a:lnTo>
                  <a:lnTo>
                    <a:pt x="425" y="426"/>
                  </a:lnTo>
                  <a:lnTo>
                    <a:pt x="352" y="350"/>
                  </a:lnTo>
                  <a:close/>
                  <a:moveTo>
                    <a:pt x="243" y="244"/>
                  </a:moveTo>
                  <a:lnTo>
                    <a:pt x="210" y="277"/>
                  </a:lnTo>
                  <a:lnTo>
                    <a:pt x="283" y="350"/>
                  </a:lnTo>
                  <a:lnTo>
                    <a:pt x="319" y="317"/>
                  </a:lnTo>
                  <a:lnTo>
                    <a:pt x="243" y="244"/>
                  </a:lnTo>
                  <a:close/>
                  <a:moveTo>
                    <a:pt x="0" y="0"/>
                  </a:moveTo>
                  <a:lnTo>
                    <a:pt x="0" y="67"/>
                  </a:lnTo>
                  <a:lnTo>
                    <a:pt x="193" y="260"/>
                  </a:lnTo>
                  <a:lnTo>
                    <a:pt x="227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218"/>
            <p:cNvSpPr/>
            <p:nvPr/>
          </p:nvSpPr>
          <p:spPr>
            <a:xfrm rot="5400000">
              <a:off x="272880" y="-273240"/>
              <a:ext cx="2196720" cy="2743200"/>
            </a:xfrm>
            <a:custGeom>
              <a:avLst/>
              <a:gdLst>
                <a:gd name="textAreaLeft" fmla="*/ 0 w 2196720"/>
                <a:gd name="textAreaRight" fmla="*/ 2197080 w 21967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1767" h="1771">
                  <a:moveTo>
                    <a:pt x="1659" y="1660"/>
                  </a:moveTo>
                  <a:lnTo>
                    <a:pt x="1626" y="1693"/>
                  </a:lnTo>
                  <a:lnTo>
                    <a:pt x="1701" y="1771"/>
                  </a:lnTo>
                  <a:lnTo>
                    <a:pt x="1767" y="1771"/>
                  </a:lnTo>
                  <a:lnTo>
                    <a:pt x="1659" y="1660"/>
                  </a:lnTo>
                  <a:moveTo>
                    <a:pt x="1569" y="1570"/>
                  </a:moveTo>
                  <a:lnTo>
                    <a:pt x="1536" y="1603"/>
                  </a:lnTo>
                  <a:lnTo>
                    <a:pt x="1609" y="1676"/>
                  </a:lnTo>
                  <a:lnTo>
                    <a:pt x="1642" y="1643"/>
                  </a:lnTo>
                  <a:lnTo>
                    <a:pt x="1569" y="1570"/>
                  </a:lnTo>
                  <a:moveTo>
                    <a:pt x="1460" y="1461"/>
                  </a:moveTo>
                  <a:lnTo>
                    <a:pt x="1427" y="1494"/>
                  </a:lnTo>
                  <a:lnTo>
                    <a:pt x="1500" y="1570"/>
                  </a:lnTo>
                  <a:lnTo>
                    <a:pt x="1536" y="1537"/>
                  </a:lnTo>
                  <a:lnTo>
                    <a:pt x="1460" y="1461"/>
                  </a:lnTo>
                  <a:moveTo>
                    <a:pt x="1049" y="1050"/>
                  </a:moveTo>
                  <a:lnTo>
                    <a:pt x="1016" y="1085"/>
                  </a:lnTo>
                  <a:lnTo>
                    <a:pt x="1411" y="1478"/>
                  </a:lnTo>
                  <a:lnTo>
                    <a:pt x="1444" y="1445"/>
                  </a:lnTo>
                  <a:lnTo>
                    <a:pt x="1049" y="1050"/>
                  </a:lnTo>
                  <a:moveTo>
                    <a:pt x="959" y="960"/>
                  </a:moveTo>
                  <a:lnTo>
                    <a:pt x="926" y="993"/>
                  </a:lnTo>
                  <a:lnTo>
                    <a:pt x="999" y="1066"/>
                  </a:lnTo>
                  <a:lnTo>
                    <a:pt x="1032" y="1033"/>
                  </a:lnTo>
                  <a:lnTo>
                    <a:pt x="959" y="960"/>
                  </a:lnTo>
                  <a:moveTo>
                    <a:pt x="853" y="854"/>
                  </a:moveTo>
                  <a:lnTo>
                    <a:pt x="820" y="887"/>
                  </a:lnTo>
                  <a:lnTo>
                    <a:pt x="893" y="960"/>
                  </a:lnTo>
                  <a:lnTo>
                    <a:pt x="926" y="927"/>
                  </a:lnTo>
                  <a:lnTo>
                    <a:pt x="853" y="854"/>
                  </a:lnTo>
                  <a:moveTo>
                    <a:pt x="442" y="442"/>
                  </a:moveTo>
                  <a:lnTo>
                    <a:pt x="409" y="476"/>
                  </a:lnTo>
                  <a:lnTo>
                    <a:pt x="801" y="870"/>
                  </a:lnTo>
                  <a:lnTo>
                    <a:pt x="836" y="837"/>
                  </a:lnTo>
                  <a:lnTo>
                    <a:pt x="442" y="442"/>
                  </a:lnTo>
                  <a:moveTo>
                    <a:pt x="352" y="350"/>
                  </a:moveTo>
                  <a:lnTo>
                    <a:pt x="319" y="386"/>
                  </a:lnTo>
                  <a:lnTo>
                    <a:pt x="392" y="459"/>
                  </a:lnTo>
                  <a:lnTo>
                    <a:pt x="425" y="426"/>
                  </a:lnTo>
                  <a:lnTo>
                    <a:pt x="352" y="350"/>
                  </a:lnTo>
                  <a:moveTo>
                    <a:pt x="243" y="244"/>
                  </a:moveTo>
                  <a:lnTo>
                    <a:pt x="210" y="277"/>
                  </a:lnTo>
                  <a:lnTo>
                    <a:pt x="283" y="350"/>
                  </a:lnTo>
                  <a:lnTo>
                    <a:pt x="319" y="317"/>
                  </a:lnTo>
                  <a:lnTo>
                    <a:pt x="243" y="244"/>
                  </a:lnTo>
                  <a:moveTo>
                    <a:pt x="0" y="0"/>
                  </a:moveTo>
                  <a:lnTo>
                    <a:pt x="0" y="67"/>
                  </a:lnTo>
                  <a:lnTo>
                    <a:pt x="193" y="260"/>
                  </a:lnTo>
                  <a:lnTo>
                    <a:pt x="227" y="2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219"/>
            <p:cNvSpPr/>
            <p:nvPr/>
          </p:nvSpPr>
          <p:spPr>
            <a:xfrm rot="5400000">
              <a:off x="2155680" y="341280"/>
              <a:ext cx="85680" cy="106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6560"/>
                <a:gd name="textAreaBottom" fmla="*/ 106560 h 106560"/>
              </a:gdLst>
              <a:ahLst/>
              <a:rect l="textAreaLeft" t="textAreaTop" r="textAreaRight" b="textAreaBottom"/>
              <a:pathLst>
                <a:path w="69" h="69">
                  <a:moveTo>
                    <a:pt x="36" y="0"/>
                  </a:moveTo>
                  <a:lnTo>
                    <a:pt x="0" y="33"/>
                  </a:lnTo>
                  <a:lnTo>
                    <a:pt x="36" y="69"/>
                  </a:lnTo>
                  <a:lnTo>
                    <a:pt x="69" y="3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1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220"/>
            <p:cNvSpPr/>
            <p:nvPr/>
          </p:nvSpPr>
          <p:spPr>
            <a:xfrm rot="5400000">
              <a:off x="2155680" y="341280"/>
              <a:ext cx="85680" cy="106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6560"/>
                <a:gd name="textAreaBottom" fmla="*/ 106560 h 106560"/>
              </a:gdLst>
              <a:ahLst/>
              <a:rect l="textAreaLeft" t="textAreaTop" r="textAreaRight" b="textAreaBottom"/>
              <a:pathLst>
                <a:path w="69" h="69">
                  <a:moveTo>
                    <a:pt x="36" y="0"/>
                  </a:moveTo>
                  <a:lnTo>
                    <a:pt x="0" y="33"/>
                  </a:lnTo>
                  <a:lnTo>
                    <a:pt x="36" y="69"/>
                  </a:lnTo>
                  <a:lnTo>
                    <a:pt x="69" y="33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221"/>
            <p:cNvSpPr/>
            <p:nvPr/>
          </p:nvSpPr>
          <p:spPr>
            <a:xfrm rot="5400000">
              <a:off x="1215000" y="1100160"/>
              <a:ext cx="81720" cy="1018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6" h="66">
                  <a:moveTo>
                    <a:pt x="33" y="0"/>
                  </a:moveTo>
                  <a:lnTo>
                    <a:pt x="0" y="33"/>
                  </a:lnTo>
                  <a:lnTo>
                    <a:pt x="33" y="66"/>
                  </a:lnTo>
                  <a:lnTo>
                    <a:pt x="66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1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222"/>
            <p:cNvSpPr/>
            <p:nvPr/>
          </p:nvSpPr>
          <p:spPr>
            <a:xfrm rot="5400000">
              <a:off x="1215000" y="1100160"/>
              <a:ext cx="81720" cy="1018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6" h="66">
                  <a:moveTo>
                    <a:pt x="33" y="0"/>
                  </a:moveTo>
                  <a:lnTo>
                    <a:pt x="0" y="33"/>
                  </a:lnTo>
                  <a:lnTo>
                    <a:pt x="33" y="66"/>
                  </a:lnTo>
                  <a:lnTo>
                    <a:pt x="66" y="33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223"/>
            <p:cNvSpPr/>
            <p:nvPr/>
          </p:nvSpPr>
          <p:spPr>
            <a:xfrm rot="5400000">
              <a:off x="267840" y="1856520"/>
              <a:ext cx="85680" cy="101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9" h="66">
                  <a:moveTo>
                    <a:pt x="36" y="0"/>
                  </a:moveTo>
                  <a:lnTo>
                    <a:pt x="0" y="33"/>
                  </a:lnTo>
                  <a:lnTo>
                    <a:pt x="36" y="66"/>
                  </a:lnTo>
                  <a:lnTo>
                    <a:pt x="69" y="3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1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224"/>
            <p:cNvSpPr/>
            <p:nvPr/>
          </p:nvSpPr>
          <p:spPr>
            <a:xfrm rot="5400000">
              <a:off x="267840" y="1856520"/>
              <a:ext cx="85680" cy="101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9" h="66">
                  <a:moveTo>
                    <a:pt x="36" y="0"/>
                  </a:moveTo>
                  <a:lnTo>
                    <a:pt x="0" y="33"/>
                  </a:lnTo>
                  <a:lnTo>
                    <a:pt x="36" y="66"/>
                  </a:lnTo>
                  <a:lnTo>
                    <a:pt x="69" y="33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225"/>
            <p:cNvSpPr/>
            <p:nvPr/>
          </p:nvSpPr>
          <p:spPr>
            <a:xfrm rot="5400000">
              <a:off x="2013120" y="47916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3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226"/>
            <p:cNvSpPr/>
            <p:nvPr/>
          </p:nvSpPr>
          <p:spPr>
            <a:xfrm rot="5400000">
              <a:off x="2013120" y="47916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3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6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27"/>
            <p:cNvSpPr/>
            <p:nvPr/>
          </p:nvSpPr>
          <p:spPr>
            <a:xfrm rot="5400000">
              <a:off x="1071360" y="1232640"/>
              <a:ext cx="61920" cy="80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0" h="52">
                  <a:moveTo>
                    <a:pt x="33" y="0"/>
                  </a:moveTo>
                  <a:lnTo>
                    <a:pt x="0" y="33"/>
                  </a:lnTo>
                  <a:lnTo>
                    <a:pt x="17" y="52"/>
                  </a:lnTo>
                  <a:lnTo>
                    <a:pt x="50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228"/>
            <p:cNvSpPr/>
            <p:nvPr/>
          </p:nvSpPr>
          <p:spPr>
            <a:xfrm rot="5400000">
              <a:off x="1071360" y="1232640"/>
              <a:ext cx="61920" cy="80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0" h="52">
                  <a:moveTo>
                    <a:pt x="33" y="0"/>
                  </a:moveTo>
                  <a:lnTo>
                    <a:pt x="0" y="33"/>
                  </a:lnTo>
                  <a:lnTo>
                    <a:pt x="17" y="52"/>
                  </a:lnTo>
                  <a:lnTo>
                    <a:pt x="50" y="17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229"/>
            <p:cNvSpPr/>
            <p:nvPr/>
          </p:nvSpPr>
          <p:spPr>
            <a:xfrm rot="5400000">
              <a:off x="127800" y="199260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3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230"/>
            <p:cNvSpPr/>
            <p:nvPr/>
          </p:nvSpPr>
          <p:spPr>
            <a:xfrm rot="5400000">
              <a:off x="127800" y="199260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3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7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231"/>
            <p:cNvSpPr/>
            <p:nvPr/>
          </p:nvSpPr>
          <p:spPr>
            <a:xfrm rot="5400000">
              <a:off x="2321280" y="23184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4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232"/>
            <p:cNvSpPr/>
            <p:nvPr/>
          </p:nvSpPr>
          <p:spPr>
            <a:xfrm rot="5400000">
              <a:off x="2321280" y="231840"/>
              <a:ext cx="61920" cy="77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50">
                  <a:moveTo>
                    <a:pt x="34" y="0"/>
                  </a:moveTo>
                  <a:lnTo>
                    <a:pt x="0" y="33"/>
                  </a:lnTo>
                  <a:lnTo>
                    <a:pt x="17" y="50"/>
                  </a:lnTo>
                  <a:lnTo>
                    <a:pt x="50" y="17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233"/>
            <p:cNvSpPr/>
            <p:nvPr/>
          </p:nvSpPr>
          <p:spPr>
            <a:xfrm rot="5400000">
              <a:off x="1375200" y="98928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35" y="0"/>
                  </a:moveTo>
                  <a:lnTo>
                    <a:pt x="0" y="33"/>
                  </a:lnTo>
                  <a:lnTo>
                    <a:pt x="19" y="50"/>
                  </a:lnTo>
                  <a:lnTo>
                    <a:pt x="52" y="1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34"/>
            <p:cNvSpPr/>
            <p:nvPr/>
          </p:nvSpPr>
          <p:spPr>
            <a:xfrm rot="5400000">
              <a:off x="1375200" y="98928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35" y="0"/>
                  </a:moveTo>
                  <a:lnTo>
                    <a:pt x="0" y="33"/>
                  </a:lnTo>
                  <a:lnTo>
                    <a:pt x="19" y="50"/>
                  </a:lnTo>
                  <a:lnTo>
                    <a:pt x="52" y="17"/>
                  </a:lnTo>
                  <a:lnTo>
                    <a:pt x="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235"/>
            <p:cNvSpPr/>
            <p:nvPr/>
          </p:nvSpPr>
          <p:spPr>
            <a:xfrm rot="5400000">
              <a:off x="435960" y="1746720"/>
              <a:ext cx="60840" cy="756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49" h="49">
                  <a:moveTo>
                    <a:pt x="33" y="0"/>
                  </a:moveTo>
                  <a:lnTo>
                    <a:pt x="0" y="33"/>
                  </a:lnTo>
                  <a:lnTo>
                    <a:pt x="16" y="49"/>
                  </a:lnTo>
                  <a:lnTo>
                    <a:pt x="49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236"/>
            <p:cNvSpPr/>
            <p:nvPr/>
          </p:nvSpPr>
          <p:spPr>
            <a:xfrm rot="5400000">
              <a:off x="435960" y="1746720"/>
              <a:ext cx="60840" cy="756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49" h="49">
                  <a:moveTo>
                    <a:pt x="33" y="0"/>
                  </a:moveTo>
                  <a:lnTo>
                    <a:pt x="0" y="33"/>
                  </a:lnTo>
                  <a:lnTo>
                    <a:pt x="16" y="49"/>
                  </a:lnTo>
                  <a:lnTo>
                    <a:pt x="49" y="16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37"/>
            <p:cNvSpPr/>
            <p:nvPr/>
          </p:nvSpPr>
          <p:spPr>
            <a:xfrm rot="5400000">
              <a:off x="86040" y="-86400"/>
              <a:ext cx="683640" cy="856440"/>
            </a:xfrm>
            <a:custGeom>
              <a:avLst/>
              <a:gdLst>
                <a:gd name="textAreaLeft" fmla="*/ 0 w 683640"/>
                <a:gd name="textAreaRight" fmla="*/ 684000 w 683640"/>
                <a:gd name="textAreaTop" fmla="*/ 0 h 856440"/>
                <a:gd name="textAreaBottom" fmla="*/ 856800 h 856440"/>
              </a:gdLst>
              <a:ahLst/>
              <a:rect l="textAreaLeft" t="textAreaTop" r="textAreaRight" b="textAreaBottom"/>
              <a:pathLst>
                <a:path w="550" h="553">
                  <a:moveTo>
                    <a:pt x="442" y="442"/>
                  </a:moveTo>
                  <a:lnTo>
                    <a:pt x="406" y="475"/>
                  </a:lnTo>
                  <a:lnTo>
                    <a:pt x="484" y="553"/>
                  </a:lnTo>
                  <a:lnTo>
                    <a:pt x="550" y="553"/>
                  </a:lnTo>
                  <a:lnTo>
                    <a:pt x="442" y="442"/>
                  </a:lnTo>
                  <a:close/>
                  <a:moveTo>
                    <a:pt x="349" y="352"/>
                  </a:moveTo>
                  <a:lnTo>
                    <a:pt x="316" y="385"/>
                  </a:lnTo>
                  <a:lnTo>
                    <a:pt x="390" y="458"/>
                  </a:lnTo>
                  <a:lnTo>
                    <a:pt x="425" y="425"/>
                  </a:lnTo>
                  <a:lnTo>
                    <a:pt x="349" y="352"/>
                  </a:lnTo>
                  <a:close/>
                  <a:moveTo>
                    <a:pt x="243" y="243"/>
                  </a:moveTo>
                  <a:lnTo>
                    <a:pt x="210" y="276"/>
                  </a:lnTo>
                  <a:lnTo>
                    <a:pt x="283" y="352"/>
                  </a:lnTo>
                  <a:lnTo>
                    <a:pt x="316" y="316"/>
                  </a:lnTo>
                  <a:lnTo>
                    <a:pt x="243" y="243"/>
                  </a:lnTo>
                  <a:close/>
                  <a:moveTo>
                    <a:pt x="0" y="0"/>
                  </a:moveTo>
                  <a:lnTo>
                    <a:pt x="0" y="68"/>
                  </a:lnTo>
                  <a:lnTo>
                    <a:pt x="193" y="260"/>
                  </a:lnTo>
                  <a:lnTo>
                    <a:pt x="227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238"/>
            <p:cNvSpPr/>
            <p:nvPr/>
          </p:nvSpPr>
          <p:spPr>
            <a:xfrm rot="5400000">
              <a:off x="86040" y="-86400"/>
              <a:ext cx="683640" cy="856440"/>
            </a:xfrm>
            <a:custGeom>
              <a:avLst/>
              <a:gdLst>
                <a:gd name="textAreaLeft" fmla="*/ 0 w 683640"/>
                <a:gd name="textAreaRight" fmla="*/ 684000 w 683640"/>
                <a:gd name="textAreaTop" fmla="*/ 0 h 856440"/>
                <a:gd name="textAreaBottom" fmla="*/ 856800 h 856440"/>
              </a:gdLst>
              <a:ahLst/>
              <a:rect l="textAreaLeft" t="textAreaTop" r="textAreaRight" b="textAreaBottom"/>
              <a:pathLst>
                <a:path w="550" h="553">
                  <a:moveTo>
                    <a:pt x="442" y="442"/>
                  </a:moveTo>
                  <a:lnTo>
                    <a:pt x="406" y="475"/>
                  </a:lnTo>
                  <a:lnTo>
                    <a:pt x="484" y="553"/>
                  </a:lnTo>
                  <a:lnTo>
                    <a:pt x="550" y="553"/>
                  </a:lnTo>
                  <a:lnTo>
                    <a:pt x="442" y="442"/>
                  </a:lnTo>
                  <a:moveTo>
                    <a:pt x="349" y="352"/>
                  </a:moveTo>
                  <a:lnTo>
                    <a:pt x="316" y="385"/>
                  </a:lnTo>
                  <a:lnTo>
                    <a:pt x="390" y="458"/>
                  </a:lnTo>
                  <a:lnTo>
                    <a:pt x="425" y="425"/>
                  </a:lnTo>
                  <a:lnTo>
                    <a:pt x="349" y="352"/>
                  </a:lnTo>
                  <a:moveTo>
                    <a:pt x="243" y="243"/>
                  </a:moveTo>
                  <a:lnTo>
                    <a:pt x="210" y="276"/>
                  </a:lnTo>
                  <a:lnTo>
                    <a:pt x="283" y="352"/>
                  </a:lnTo>
                  <a:lnTo>
                    <a:pt x="316" y="316"/>
                  </a:lnTo>
                  <a:lnTo>
                    <a:pt x="243" y="243"/>
                  </a:lnTo>
                  <a:moveTo>
                    <a:pt x="0" y="0"/>
                  </a:moveTo>
                  <a:lnTo>
                    <a:pt x="0" y="68"/>
                  </a:lnTo>
                  <a:lnTo>
                    <a:pt x="193" y="260"/>
                  </a:lnTo>
                  <a:lnTo>
                    <a:pt x="227" y="2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239"/>
            <p:cNvSpPr/>
            <p:nvPr/>
          </p:nvSpPr>
          <p:spPr>
            <a:xfrm rot="5400000">
              <a:off x="272160" y="339120"/>
              <a:ext cx="81720" cy="106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06560"/>
                <a:gd name="textAreaBottom" fmla="*/ 106560 h 106560"/>
              </a:gdLst>
              <a:ahLst/>
              <a:rect l="textAreaLeft" t="textAreaTop" r="textAreaRight" b="textAreaBottom"/>
              <a:pathLst>
                <a:path w="66" h="69">
                  <a:moveTo>
                    <a:pt x="33" y="0"/>
                  </a:moveTo>
                  <a:lnTo>
                    <a:pt x="0" y="36"/>
                  </a:lnTo>
                  <a:lnTo>
                    <a:pt x="33" y="69"/>
                  </a:lnTo>
                  <a:lnTo>
                    <a:pt x="66" y="3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1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240"/>
            <p:cNvSpPr/>
            <p:nvPr/>
          </p:nvSpPr>
          <p:spPr>
            <a:xfrm rot="5400000">
              <a:off x="272160" y="339120"/>
              <a:ext cx="81720" cy="106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06560"/>
                <a:gd name="textAreaBottom" fmla="*/ 106560 h 106560"/>
              </a:gdLst>
              <a:ahLst/>
              <a:rect l="textAreaLeft" t="textAreaTop" r="textAreaRight" b="textAreaBottom"/>
              <a:pathLst>
                <a:path w="66" h="69">
                  <a:moveTo>
                    <a:pt x="33" y="0"/>
                  </a:moveTo>
                  <a:lnTo>
                    <a:pt x="0" y="36"/>
                  </a:lnTo>
                  <a:lnTo>
                    <a:pt x="33" y="69"/>
                  </a:lnTo>
                  <a:lnTo>
                    <a:pt x="66" y="36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41"/>
            <p:cNvSpPr/>
            <p:nvPr/>
          </p:nvSpPr>
          <p:spPr>
            <a:xfrm rot="5400000">
              <a:off x="126720" y="47808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35" y="0"/>
                  </a:moveTo>
                  <a:lnTo>
                    <a:pt x="0" y="33"/>
                  </a:lnTo>
                  <a:lnTo>
                    <a:pt x="16" y="50"/>
                  </a:lnTo>
                  <a:lnTo>
                    <a:pt x="52" y="1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242"/>
            <p:cNvSpPr/>
            <p:nvPr/>
          </p:nvSpPr>
          <p:spPr>
            <a:xfrm rot="5400000">
              <a:off x="126720" y="478080"/>
              <a:ext cx="64440" cy="77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2" h="50">
                  <a:moveTo>
                    <a:pt x="35" y="0"/>
                  </a:moveTo>
                  <a:lnTo>
                    <a:pt x="0" y="33"/>
                  </a:lnTo>
                  <a:lnTo>
                    <a:pt x="16" y="50"/>
                  </a:lnTo>
                  <a:lnTo>
                    <a:pt x="52" y="17"/>
                  </a:lnTo>
                  <a:lnTo>
                    <a:pt x="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243"/>
            <p:cNvSpPr/>
            <p:nvPr/>
          </p:nvSpPr>
          <p:spPr>
            <a:xfrm rot="5400000">
              <a:off x="435600" y="232920"/>
              <a:ext cx="61920" cy="75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50" h="49">
                  <a:moveTo>
                    <a:pt x="34" y="0"/>
                  </a:moveTo>
                  <a:lnTo>
                    <a:pt x="0" y="33"/>
                  </a:lnTo>
                  <a:lnTo>
                    <a:pt x="17" y="49"/>
                  </a:lnTo>
                  <a:lnTo>
                    <a:pt x="50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6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244"/>
            <p:cNvSpPr/>
            <p:nvPr/>
          </p:nvSpPr>
          <p:spPr>
            <a:xfrm rot="5400000">
              <a:off x="435600" y="232920"/>
              <a:ext cx="61920" cy="75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5600"/>
                <a:gd name="textAreaBottom" fmla="*/ 75600 h 75600"/>
              </a:gdLst>
              <a:ahLst/>
              <a:rect l="textAreaLeft" t="textAreaTop" r="textAreaRight" b="textAreaBottom"/>
              <a:pathLst>
                <a:path w="50" h="49">
                  <a:moveTo>
                    <a:pt x="34" y="0"/>
                  </a:moveTo>
                  <a:lnTo>
                    <a:pt x="0" y="33"/>
                  </a:lnTo>
                  <a:lnTo>
                    <a:pt x="17" y="49"/>
                  </a:lnTo>
                  <a:lnTo>
                    <a:pt x="50" y="16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156"/>
          <p:cNvSpPr/>
          <p:nvPr/>
        </p:nvSpPr>
        <p:spPr>
          <a:xfrm>
            <a:off x="3421080" y="5559480"/>
            <a:ext cx="1461960" cy="20304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57"/>
          <p:cNvSpPr/>
          <p:nvPr/>
        </p:nvSpPr>
        <p:spPr>
          <a:xfrm>
            <a:off x="7354800" y="5559480"/>
            <a:ext cx="1462320" cy="20304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5"/>
          <p:cNvSpPr/>
          <p:nvPr/>
        </p:nvSpPr>
        <p:spPr>
          <a:xfrm>
            <a:off x="3815640" y="26748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90003"/>
                </a:solidFill>
                <a:latin typeface="微软雅黑"/>
                <a:ea typeface="微软雅黑"/>
              </a:rPr>
              <a:t>经典红毕业答辩通用型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矩形 8"/>
          <p:cNvSpPr/>
          <p:nvPr/>
        </p:nvSpPr>
        <p:spPr>
          <a:xfrm>
            <a:off x="5419080" y="3924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矩形 9"/>
          <p:cNvSpPr/>
          <p:nvPr/>
        </p:nvSpPr>
        <p:spPr>
          <a:xfrm>
            <a:off x="5379480" y="430524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矩形 10"/>
          <p:cNvSpPr/>
          <p:nvPr/>
        </p:nvSpPr>
        <p:spPr>
          <a:xfrm>
            <a:off x="5227200" y="468792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课题执行时间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矩形 11"/>
          <p:cNvSpPr/>
          <p:nvPr/>
        </p:nvSpPr>
        <p:spPr>
          <a:xfrm>
            <a:off x="5532120" y="50706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学院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矩形 1"/>
          <p:cNvSpPr/>
          <p:nvPr/>
        </p:nvSpPr>
        <p:spPr>
          <a:xfrm>
            <a:off x="5210640" y="547380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90003"/>
                </a:solidFill>
                <a:latin typeface="微软雅黑"/>
                <a:ea typeface="微软雅黑"/>
              </a:rPr>
              <a:t>美乐辰旗舰店</a:t>
            </a:r>
            <a:r>
              <a:rPr b="0" lang="en-US" sz="1800" spc="-1" strike="noStrike">
                <a:solidFill>
                  <a:srgbClr val="790003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790003"/>
                </a:solidFill>
                <a:latin typeface="微软雅黑"/>
                <a:ea typeface="微软雅黑"/>
              </a:rPr>
              <a:t>模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5"/>
          <p:cNvSpPr/>
          <p:nvPr/>
        </p:nvSpPr>
        <p:spPr>
          <a:xfrm>
            <a:off x="352440" y="5045040"/>
            <a:ext cx="1423800" cy="145908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19" h="119">
                <a:moveTo>
                  <a:pt x="64" y="52"/>
                </a:moveTo>
                <a:cubicBezTo>
                  <a:pt x="65" y="51"/>
                  <a:pt x="66" y="50"/>
                  <a:pt x="67" y="49"/>
                </a:cubicBezTo>
                <a:cubicBezTo>
                  <a:pt x="69" y="49"/>
                  <a:pt x="70" y="48"/>
                  <a:pt x="70" y="49"/>
                </a:cubicBezTo>
                <a:cubicBezTo>
                  <a:pt x="71" y="50"/>
                  <a:pt x="71" y="51"/>
                  <a:pt x="70" y="52"/>
                </a:cubicBezTo>
                <a:cubicBezTo>
                  <a:pt x="69" y="53"/>
                  <a:pt x="68" y="55"/>
                  <a:pt x="67" y="56"/>
                </a:cubicBezTo>
                <a:cubicBezTo>
                  <a:pt x="64" y="59"/>
                  <a:pt x="61" y="61"/>
                  <a:pt x="57" y="62"/>
                </a:cubicBezTo>
                <a:cubicBezTo>
                  <a:pt x="58" y="59"/>
                  <a:pt x="60" y="55"/>
                  <a:pt x="64" y="52"/>
                </a:cubicBezTo>
                <a:moveTo>
                  <a:pt x="69" y="57"/>
                </a:moveTo>
                <a:cubicBezTo>
                  <a:pt x="71" y="54"/>
                  <a:pt x="73" y="52"/>
                  <a:pt x="73" y="50"/>
                </a:cubicBezTo>
                <a:cubicBezTo>
                  <a:pt x="74" y="48"/>
                  <a:pt x="74" y="47"/>
                  <a:pt x="73" y="46"/>
                </a:cubicBezTo>
                <a:cubicBezTo>
                  <a:pt x="72" y="45"/>
                  <a:pt x="71" y="45"/>
                  <a:pt x="69" y="46"/>
                </a:cubicBezTo>
                <a:cubicBezTo>
                  <a:pt x="67" y="46"/>
                  <a:pt x="65" y="48"/>
                  <a:pt x="63" y="50"/>
                </a:cubicBezTo>
                <a:cubicBezTo>
                  <a:pt x="59" y="54"/>
                  <a:pt x="56" y="58"/>
                  <a:pt x="54" y="63"/>
                </a:cubicBezTo>
                <a:cubicBezTo>
                  <a:pt x="51" y="63"/>
                  <a:pt x="48" y="63"/>
                  <a:pt x="45" y="63"/>
                </a:cubicBezTo>
                <a:cubicBezTo>
                  <a:pt x="42" y="62"/>
                  <a:pt x="38" y="61"/>
                  <a:pt x="36" y="60"/>
                </a:cubicBezTo>
                <a:cubicBezTo>
                  <a:pt x="33" y="59"/>
                  <a:pt x="30" y="58"/>
                  <a:pt x="27" y="56"/>
                </a:cubicBezTo>
                <a:cubicBezTo>
                  <a:pt x="25" y="55"/>
                  <a:pt x="23" y="53"/>
                  <a:pt x="21" y="52"/>
                </a:cubicBezTo>
                <a:cubicBezTo>
                  <a:pt x="22" y="50"/>
                  <a:pt x="23" y="48"/>
                  <a:pt x="24" y="47"/>
                </a:cubicBezTo>
                <a:cubicBezTo>
                  <a:pt x="25" y="45"/>
                  <a:pt x="27" y="43"/>
                  <a:pt x="28" y="42"/>
                </a:cubicBezTo>
                <a:cubicBezTo>
                  <a:pt x="31" y="39"/>
                  <a:pt x="33" y="37"/>
                  <a:pt x="36" y="36"/>
                </a:cubicBezTo>
                <a:cubicBezTo>
                  <a:pt x="38" y="35"/>
                  <a:pt x="41" y="34"/>
                  <a:pt x="43" y="33"/>
                </a:cubicBezTo>
                <a:cubicBezTo>
                  <a:pt x="45" y="33"/>
                  <a:pt x="47" y="33"/>
                  <a:pt x="49" y="34"/>
                </a:cubicBezTo>
                <a:cubicBezTo>
                  <a:pt x="50" y="34"/>
                  <a:pt x="52" y="35"/>
                  <a:pt x="53" y="36"/>
                </a:cubicBezTo>
                <a:cubicBezTo>
                  <a:pt x="54" y="37"/>
                  <a:pt x="55" y="38"/>
                  <a:pt x="55" y="40"/>
                </a:cubicBezTo>
                <a:cubicBezTo>
                  <a:pt x="56" y="41"/>
                  <a:pt x="55" y="43"/>
                  <a:pt x="55" y="46"/>
                </a:cubicBezTo>
                <a:cubicBezTo>
                  <a:pt x="55" y="47"/>
                  <a:pt x="55" y="47"/>
                  <a:pt x="55" y="47"/>
                </a:cubicBezTo>
                <a:cubicBezTo>
                  <a:pt x="56" y="47"/>
                  <a:pt x="57" y="47"/>
                  <a:pt x="57" y="46"/>
                </a:cubicBezTo>
                <a:cubicBezTo>
                  <a:pt x="58" y="44"/>
                  <a:pt x="59" y="41"/>
                  <a:pt x="58" y="38"/>
                </a:cubicBezTo>
                <a:cubicBezTo>
                  <a:pt x="58" y="36"/>
                  <a:pt x="57" y="34"/>
                  <a:pt x="56" y="32"/>
                </a:cubicBezTo>
                <a:cubicBezTo>
                  <a:pt x="54" y="31"/>
                  <a:pt x="53" y="30"/>
                  <a:pt x="51" y="30"/>
                </a:cubicBezTo>
                <a:cubicBezTo>
                  <a:pt x="49" y="29"/>
                  <a:pt x="46" y="29"/>
                  <a:pt x="44" y="30"/>
                </a:cubicBezTo>
                <a:cubicBezTo>
                  <a:pt x="41" y="30"/>
                  <a:pt x="38" y="31"/>
                  <a:pt x="35" y="33"/>
                </a:cubicBezTo>
                <a:cubicBezTo>
                  <a:pt x="32" y="34"/>
                  <a:pt x="29" y="37"/>
                  <a:pt x="26" y="40"/>
                </a:cubicBezTo>
                <a:cubicBezTo>
                  <a:pt x="25" y="41"/>
                  <a:pt x="23" y="43"/>
                  <a:pt x="22" y="44"/>
                </a:cubicBezTo>
                <a:cubicBezTo>
                  <a:pt x="21" y="46"/>
                  <a:pt x="19" y="48"/>
                  <a:pt x="18" y="50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6"/>
                  <a:pt x="13" y="44"/>
                  <a:pt x="11" y="41"/>
                </a:cubicBezTo>
                <a:cubicBezTo>
                  <a:pt x="9" y="38"/>
                  <a:pt x="7" y="34"/>
                  <a:pt x="6" y="31"/>
                </a:cubicBezTo>
                <a:cubicBezTo>
                  <a:pt x="5" y="27"/>
                  <a:pt x="5" y="23"/>
                  <a:pt x="6" y="19"/>
                </a:cubicBezTo>
                <a:cubicBezTo>
                  <a:pt x="6" y="15"/>
                  <a:pt x="8" y="12"/>
                  <a:pt x="12" y="8"/>
                </a:cubicBezTo>
                <a:cubicBezTo>
                  <a:pt x="13" y="7"/>
                  <a:pt x="15" y="6"/>
                  <a:pt x="16" y="5"/>
                </a:cubicBezTo>
                <a:cubicBezTo>
                  <a:pt x="18" y="4"/>
                  <a:pt x="19" y="4"/>
                  <a:pt x="21" y="4"/>
                </a:cubicBezTo>
                <a:cubicBezTo>
                  <a:pt x="22" y="4"/>
                  <a:pt x="23" y="5"/>
                  <a:pt x="24" y="5"/>
                </a:cubicBezTo>
                <a:cubicBezTo>
                  <a:pt x="25" y="6"/>
                  <a:pt x="26" y="6"/>
                  <a:pt x="27" y="7"/>
                </a:cubicBezTo>
                <a:cubicBezTo>
                  <a:pt x="29" y="9"/>
                  <a:pt x="30" y="11"/>
                  <a:pt x="30" y="15"/>
                </a:cubicBezTo>
                <a:cubicBezTo>
                  <a:pt x="31" y="18"/>
                  <a:pt x="30" y="22"/>
                  <a:pt x="29" y="25"/>
                </a:cubicBezTo>
                <a:cubicBezTo>
                  <a:pt x="29" y="26"/>
                  <a:pt x="29" y="27"/>
                  <a:pt x="30" y="27"/>
                </a:cubicBezTo>
                <a:cubicBezTo>
                  <a:pt x="30" y="27"/>
                  <a:pt x="31" y="27"/>
                  <a:pt x="32" y="26"/>
                </a:cubicBezTo>
                <a:cubicBezTo>
                  <a:pt x="34" y="20"/>
                  <a:pt x="35" y="16"/>
                  <a:pt x="34" y="12"/>
                </a:cubicBezTo>
                <a:cubicBezTo>
                  <a:pt x="33" y="8"/>
                  <a:pt x="32" y="5"/>
                  <a:pt x="30" y="4"/>
                </a:cubicBezTo>
                <a:cubicBezTo>
                  <a:pt x="29" y="3"/>
                  <a:pt x="28" y="2"/>
                  <a:pt x="27" y="1"/>
                </a:cubicBezTo>
                <a:cubicBezTo>
                  <a:pt x="25" y="1"/>
                  <a:pt x="24" y="0"/>
                  <a:pt x="22" y="0"/>
                </a:cubicBezTo>
                <a:cubicBezTo>
                  <a:pt x="20" y="0"/>
                  <a:pt x="18" y="1"/>
                  <a:pt x="16" y="2"/>
                </a:cubicBezTo>
                <a:cubicBezTo>
                  <a:pt x="14" y="3"/>
                  <a:pt x="12" y="4"/>
                  <a:pt x="10" y="6"/>
                </a:cubicBezTo>
                <a:cubicBezTo>
                  <a:pt x="6" y="10"/>
                  <a:pt x="3" y="15"/>
                  <a:pt x="2" y="20"/>
                </a:cubicBezTo>
                <a:cubicBezTo>
                  <a:pt x="0" y="25"/>
                  <a:pt x="0" y="29"/>
                  <a:pt x="1" y="34"/>
                </a:cubicBezTo>
                <a:cubicBezTo>
                  <a:pt x="2" y="38"/>
                  <a:pt x="3" y="42"/>
                  <a:pt x="5" y="45"/>
                </a:cubicBezTo>
                <a:cubicBezTo>
                  <a:pt x="7" y="49"/>
                  <a:pt x="10" y="52"/>
                  <a:pt x="12" y="55"/>
                </a:cubicBezTo>
                <a:cubicBezTo>
                  <a:pt x="14" y="57"/>
                  <a:pt x="14" y="57"/>
                  <a:pt x="14" y="57"/>
                </a:cubicBezTo>
                <a:cubicBezTo>
                  <a:pt x="11" y="64"/>
                  <a:pt x="9" y="72"/>
                  <a:pt x="9" y="80"/>
                </a:cubicBezTo>
                <a:cubicBezTo>
                  <a:pt x="9" y="88"/>
                  <a:pt x="12" y="95"/>
                  <a:pt x="18" y="101"/>
                </a:cubicBezTo>
                <a:cubicBezTo>
                  <a:pt x="24" y="107"/>
                  <a:pt x="31" y="110"/>
                  <a:pt x="39" y="110"/>
                </a:cubicBezTo>
                <a:cubicBezTo>
                  <a:pt x="47" y="110"/>
                  <a:pt x="55" y="108"/>
                  <a:pt x="62" y="105"/>
                </a:cubicBezTo>
                <a:cubicBezTo>
                  <a:pt x="65" y="107"/>
                  <a:pt x="65" y="107"/>
                  <a:pt x="65" y="107"/>
                </a:cubicBezTo>
                <a:cubicBezTo>
                  <a:pt x="67" y="110"/>
                  <a:pt x="70" y="112"/>
                  <a:pt x="74" y="114"/>
                </a:cubicBezTo>
                <a:cubicBezTo>
                  <a:pt x="77" y="116"/>
                  <a:pt x="81" y="118"/>
                  <a:pt x="86" y="118"/>
                </a:cubicBezTo>
                <a:cubicBezTo>
                  <a:pt x="90" y="119"/>
                  <a:pt x="95" y="119"/>
                  <a:pt x="99" y="118"/>
                </a:cubicBezTo>
                <a:cubicBezTo>
                  <a:pt x="104" y="116"/>
                  <a:pt x="109" y="113"/>
                  <a:pt x="113" y="109"/>
                </a:cubicBezTo>
                <a:cubicBezTo>
                  <a:pt x="115" y="107"/>
                  <a:pt x="117" y="105"/>
                  <a:pt x="117" y="103"/>
                </a:cubicBezTo>
                <a:cubicBezTo>
                  <a:pt x="118" y="101"/>
                  <a:pt x="119" y="99"/>
                  <a:pt x="119" y="97"/>
                </a:cubicBezTo>
                <a:cubicBezTo>
                  <a:pt x="119" y="95"/>
                  <a:pt x="119" y="94"/>
                  <a:pt x="118" y="93"/>
                </a:cubicBezTo>
                <a:cubicBezTo>
                  <a:pt x="117" y="91"/>
                  <a:pt x="116" y="90"/>
                  <a:pt x="116" y="89"/>
                </a:cubicBezTo>
                <a:cubicBezTo>
                  <a:pt x="114" y="87"/>
                  <a:pt x="111" y="86"/>
                  <a:pt x="107" y="85"/>
                </a:cubicBezTo>
                <a:cubicBezTo>
                  <a:pt x="103" y="84"/>
                  <a:pt x="99" y="85"/>
                  <a:pt x="94" y="87"/>
                </a:cubicBezTo>
                <a:cubicBezTo>
                  <a:pt x="92" y="88"/>
                  <a:pt x="92" y="89"/>
                  <a:pt x="92" y="90"/>
                </a:cubicBezTo>
                <a:cubicBezTo>
                  <a:pt x="92" y="90"/>
                  <a:pt x="93" y="90"/>
                  <a:pt x="94" y="90"/>
                </a:cubicBezTo>
                <a:cubicBezTo>
                  <a:pt x="98" y="89"/>
                  <a:pt x="101" y="88"/>
                  <a:pt x="104" y="89"/>
                </a:cubicBezTo>
                <a:cubicBezTo>
                  <a:pt x="108" y="89"/>
                  <a:pt x="110" y="91"/>
                  <a:pt x="112" y="92"/>
                </a:cubicBezTo>
                <a:cubicBezTo>
                  <a:pt x="113" y="93"/>
                  <a:pt x="114" y="94"/>
                  <a:pt x="114" y="95"/>
                </a:cubicBezTo>
                <a:cubicBezTo>
                  <a:pt x="114" y="96"/>
                  <a:pt x="115" y="97"/>
                  <a:pt x="115" y="99"/>
                </a:cubicBezTo>
                <a:cubicBezTo>
                  <a:pt x="115" y="100"/>
                  <a:pt x="115" y="101"/>
                  <a:pt x="114" y="103"/>
                </a:cubicBezTo>
                <a:cubicBezTo>
                  <a:pt x="114" y="104"/>
                  <a:pt x="113" y="106"/>
                  <a:pt x="111" y="107"/>
                </a:cubicBezTo>
                <a:cubicBezTo>
                  <a:pt x="108" y="111"/>
                  <a:pt x="104" y="113"/>
                  <a:pt x="100" y="114"/>
                </a:cubicBezTo>
                <a:cubicBezTo>
                  <a:pt x="96" y="114"/>
                  <a:pt x="92" y="114"/>
                  <a:pt x="88" y="113"/>
                </a:cubicBezTo>
                <a:cubicBezTo>
                  <a:pt x="85" y="112"/>
                  <a:pt x="81" y="111"/>
                  <a:pt x="78" y="108"/>
                </a:cubicBezTo>
                <a:cubicBezTo>
                  <a:pt x="75" y="106"/>
                  <a:pt x="73" y="104"/>
                  <a:pt x="71" y="103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71" y="100"/>
                  <a:pt x="73" y="99"/>
                  <a:pt x="75" y="97"/>
                </a:cubicBezTo>
                <a:cubicBezTo>
                  <a:pt x="76" y="96"/>
                  <a:pt x="78" y="94"/>
                  <a:pt x="79" y="93"/>
                </a:cubicBezTo>
                <a:cubicBezTo>
                  <a:pt x="82" y="90"/>
                  <a:pt x="85" y="87"/>
                  <a:pt x="86" y="84"/>
                </a:cubicBezTo>
                <a:cubicBezTo>
                  <a:pt x="88" y="81"/>
                  <a:pt x="89" y="78"/>
                  <a:pt x="90" y="75"/>
                </a:cubicBezTo>
                <a:cubicBezTo>
                  <a:pt x="90" y="73"/>
                  <a:pt x="90" y="70"/>
                  <a:pt x="89" y="68"/>
                </a:cubicBezTo>
                <a:cubicBezTo>
                  <a:pt x="89" y="66"/>
                  <a:pt x="88" y="65"/>
                  <a:pt x="87" y="63"/>
                </a:cubicBezTo>
                <a:cubicBezTo>
                  <a:pt x="85" y="62"/>
                  <a:pt x="83" y="61"/>
                  <a:pt x="81" y="61"/>
                </a:cubicBezTo>
                <a:cubicBezTo>
                  <a:pt x="78" y="60"/>
                  <a:pt x="76" y="61"/>
                  <a:pt x="73" y="62"/>
                </a:cubicBezTo>
                <a:cubicBezTo>
                  <a:pt x="72" y="63"/>
                  <a:pt x="72" y="63"/>
                  <a:pt x="72" y="64"/>
                </a:cubicBezTo>
                <a:cubicBezTo>
                  <a:pt x="72" y="64"/>
                  <a:pt x="72" y="64"/>
                  <a:pt x="73" y="64"/>
                </a:cubicBezTo>
                <a:cubicBezTo>
                  <a:pt x="76" y="64"/>
                  <a:pt x="78" y="64"/>
                  <a:pt x="80" y="64"/>
                </a:cubicBezTo>
                <a:cubicBezTo>
                  <a:pt x="81" y="65"/>
                  <a:pt x="82" y="65"/>
                  <a:pt x="83" y="66"/>
                </a:cubicBezTo>
                <a:cubicBezTo>
                  <a:pt x="85" y="67"/>
                  <a:pt x="85" y="69"/>
                  <a:pt x="86" y="71"/>
                </a:cubicBezTo>
                <a:cubicBezTo>
                  <a:pt x="86" y="72"/>
                  <a:pt x="86" y="74"/>
                  <a:pt x="86" y="76"/>
                </a:cubicBezTo>
                <a:cubicBezTo>
                  <a:pt x="85" y="79"/>
                  <a:pt x="85" y="81"/>
                  <a:pt x="83" y="84"/>
                </a:cubicBezTo>
                <a:cubicBezTo>
                  <a:pt x="82" y="86"/>
                  <a:pt x="80" y="89"/>
                  <a:pt x="77" y="91"/>
                </a:cubicBezTo>
                <a:cubicBezTo>
                  <a:pt x="76" y="93"/>
                  <a:pt x="74" y="94"/>
                  <a:pt x="73" y="95"/>
                </a:cubicBezTo>
                <a:cubicBezTo>
                  <a:pt x="71" y="96"/>
                  <a:pt x="69" y="97"/>
                  <a:pt x="67" y="98"/>
                </a:cubicBezTo>
                <a:cubicBezTo>
                  <a:pt x="66" y="96"/>
                  <a:pt x="64" y="94"/>
                  <a:pt x="63" y="92"/>
                </a:cubicBezTo>
                <a:cubicBezTo>
                  <a:pt x="61" y="89"/>
                  <a:pt x="60" y="86"/>
                  <a:pt x="59" y="84"/>
                </a:cubicBezTo>
                <a:cubicBezTo>
                  <a:pt x="58" y="81"/>
                  <a:pt x="57" y="78"/>
                  <a:pt x="56" y="74"/>
                </a:cubicBezTo>
                <a:cubicBezTo>
                  <a:pt x="56" y="71"/>
                  <a:pt x="56" y="68"/>
                  <a:pt x="56" y="65"/>
                </a:cubicBezTo>
                <a:cubicBezTo>
                  <a:pt x="61" y="63"/>
                  <a:pt x="65" y="60"/>
                  <a:pt x="69" y="57"/>
                </a:cubicBezTo>
                <a:moveTo>
                  <a:pt x="25" y="94"/>
                </a:moveTo>
                <a:cubicBezTo>
                  <a:pt x="21" y="90"/>
                  <a:pt x="18" y="85"/>
                  <a:pt x="17" y="79"/>
                </a:cubicBezTo>
                <a:cubicBezTo>
                  <a:pt x="16" y="73"/>
                  <a:pt x="17" y="66"/>
                  <a:pt x="18" y="60"/>
                </a:cubicBezTo>
                <a:cubicBezTo>
                  <a:pt x="23" y="63"/>
                  <a:pt x="28" y="65"/>
                  <a:pt x="34" y="66"/>
                </a:cubicBezTo>
                <a:cubicBezTo>
                  <a:pt x="40" y="68"/>
                  <a:pt x="47" y="68"/>
                  <a:pt x="53" y="66"/>
                </a:cubicBezTo>
                <a:cubicBezTo>
                  <a:pt x="51" y="72"/>
                  <a:pt x="51" y="79"/>
                  <a:pt x="53" y="85"/>
                </a:cubicBezTo>
                <a:cubicBezTo>
                  <a:pt x="54" y="91"/>
                  <a:pt x="57" y="96"/>
                  <a:pt x="59" y="101"/>
                </a:cubicBezTo>
                <a:cubicBezTo>
                  <a:pt x="53" y="103"/>
                  <a:pt x="47" y="103"/>
                  <a:pt x="40" y="102"/>
                </a:cubicBezTo>
                <a:cubicBezTo>
                  <a:pt x="34" y="101"/>
                  <a:pt x="29" y="98"/>
                  <a:pt x="25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6"/>
          <p:cNvSpPr/>
          <p:nvPr/>
        </p:nvSpPr>
        <p:spPr>
          <a:xfrm>
            <a:off x="10434600" y="5045040"/>
            <a:ext cx="1419120" cy="14590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19" h="119">
                <a:moveTo>
                  <a:pt x="55" y="52"/>
                </a:moveTo>
                <a:cubicBezTo>
                  <a:pt x="58" y="55"/>
                  <a:pt x="61" y="59"/>
                  <a:pt x="62" y="62"/>
                </a:cubicBezTo>
                <a:cubicBezTo>
                  <a:pt x="58" y="61"/>
                  <a:pt x="55" y="59"/>
                  <a:pt x="52" y="56"/>
                </a:cubicBezTo>
                <a:cubicBezTo>
                  <a:pt x="51" y="55"/>
                  <a:pt x="50" y="53"/>
                  <a:pt x="49" y="52"/>
                </a:cubicBezTo>
                <a:cubicBezTo>
                  <a:pt x="48" y="51"/>
                  <a:pt x="48" y="50"/>
                  <a:pt x="49" y="49"/>
                </a:cubicBezTo>
                <a:cubicBezTo>
                  <a:pt x="49" y="48"/>
                  <a:pt x="50" y="49"/>
                  <a:pt x="52" y="49"/>
                </a:cubicBezTo>
                <a:cubicBezTo>
                  <a:pt x="53" y="50"/>
                  <a:pt x="54" y="51"/>
                  <a:pt x="55" y="52"/>
                </a:cubicBezTo>
                <a:moveTo>
                  <a:pt x="50" y="57"/>
                </a:moveTo>
                <a:cubicBezTo>
                  <a:pt x="53" y="60"/>
                  <a:pt x="58" y="63"/>
                  <a:pt x="62" y="65"/>
                </a:cubicBezTo>
                <a:cubicBezTo>
                  <a:pt x="63" y="68"/>
                  <a:pt x="63" y="71"/>
                  <a:pt x="62" y="74"/>
                </a:cubicBezTo>
                <a:cubicBezTo>
                  <a:pt x="62" y="78"/>
                  <a:pt x="61" y="81"/>
                  <a:pt x="60" y="84"/>
                </a:cubicBezTo>
                <a:cubicBezTo>
                  <a:pt x="59" y="86"/>
                  <a:pt x="58" y="89"/>
                  <a:pt x="56" y="92"/>
                </a:cubicBezTo>
                <a:cubicBezTo>
                  <a:pt x="55" y="94"/>
                  <a:pt x="53" y="96"/>
                  <a:pt x="52" y="98"/>
                </a:cubicBezTo>
                <a:cubicBezTo>
                  <a:pt x="50" y="97"/>
                  <a:pt x="48" y="96"/>
                  <a:pt x="46" y="95"/>
                </a:cubicBezTo>
                <a:cubicBezTo>
                  <a:pt x="44" y="94"/>
                  <a:pt x="43" y="93"/>
                  <a:pt x="42" y="91"/>
                </a:cubicBezTo>
                <a:cubicBezTo>
                  <a:pt x="39" y="89"/>
                  <a:pt x="37" y="86"/>
                  <a:pt x="36" y="84"/>
                </a:cubicBezTo>
                <a:cubicBezTo>
                  <a:pt x="34" y="81"/>
                  <a:pt x="33" y="79"/>
                  <a:pt x="33" y="76"/>
                </a:cubicBezTo>
                <a:cubicBezTo>
                  <a:pt x="33" y="74"/>
                  <a:pt x="33" y="72"/>
                  <a:pt x="33" y="71"/>
                </a:cubicBezTo>
                <a:cubicBezTo>
                  <a:pt x="34" y="69"/>
                  <a:pt x="34" y="67"/>
                  <a:pt x="35" y="66"/>
                </a:cubicBezTo>
                <a:cubicBezTo>
                  <a:pt x="36" y="65"/>
                  <a:pt x="38" y="65"/>
                  <a:pt x="39" y="64"/>
                </a:cubicBezTo>
                <a:cubicBezTo>
                  <a:pt x="41" y="64"/>
                  <a:pt x="43" y="64"/>
                  <a:pt x="45" y="64"/>
                </a:cubicBezTo>
                <a:cubicBezTo>
                  <a:pt x="46" y="64"/>
                  <a:pt x="47" y="64"/>
                  <a:pt x="47" y="64"/>
                </a:cubicBezTo>
                <a:cubicBezTo>
                  <a:pt x="47" y="63"/>
                  <a:pt x="47" y="63"/>
                  <a:pt x="46" y="62"/>
                </a:cubicBezTo>
                <a:cubicBezTo>
                  <a:pt x="43" y="61"/>
                  <a:pt x="41" y="60"/>
                  <a:pt x="38" y="61"/>
                </a:cubicBezTo>
                <a:cubicBezTo>
                  <a:pt x="35" y="61"/>
                  <a:pt x="33" y="62"/>
                  <a:pt x="32" y="63"/>
                </a:cubicBezTo>
                <a:cubicBezTo>
                  <a:pt x="31" y="65"/>
                  <a:pt x="30" y="66"/>
                  <a:pt x="29" y="68"/>
                </a:cubicBezTo>
                <a:cubicBezTo>
                  <a:pt x="29" y="70"/>
                  <a:pt x="29" y="73"/>
                  <a:pt x="29" y="75"/>
                </a:cubicBezTo>
                <a:cubicBezTo>
                  <a:pt x="30" y="78"/>
                  <a:pt x="31" y="81"/>
                  <a:pt x="32" y="84"/>
                </a:cubicBezTo>
                <a:cubicBezTo>
                  <a:pt x="34" y="87"/>
                  <a:pt x="36" y="90"/>
                  <a:pt x="40" y="93"/>
                </a:cubicBezTo>
                <a:cubicBezTo>
                  <a:pt x="41" y="94"/>
                  <a:pt x="43" y="96"/>
                  <a:pt x="44" y="97"/>
                </a:cubicBezTo>
                <a:cubicBezTo>
                  <a:pt x="46" y="99"/>
                  <a:pt x="47" y="100"/>
                  <a:pt x="49" y="101"/>
                </a:cubicBezTo>
                <a:cubicBezTo>
                  <a:pt x="48" y="103"/>
                  <a:pt x="48" y="103"/>
                  <a:pt x="48" y="103"/>
                </a:cubicBezTo>
                <a:cubicBezTo>
                  <a:pt x="46" y="104"/>
                  <a:pt x="43" y="106"/>
                  <a:pt x="40" y="108"/>
                </a:cubicBezTo>
                <a:cubicBezTo>
                  <a:pt x="37" y="111"/>
                  <a:pt x="34" y="112"/>
                  <a:pt x="30" y="113"/>
                </a:cubicBezTo>
                <a:cubicBezTo>
                  <a:pt x="27" y="114"/>
                  <a:pt x="23" y="114"/>
                  <a:pt x="19" y="114"/>
                </a:cubicBezTo>
                <a:cubicBezTo>
                  <a:pt x="15" y="113"/>
                  <a:pt x="11" y="111"/>
                  <a:pt x="8" y="107"/>
                </a:cubicBezTo>
                <a:cubicBezTo>
                  <a:pt x="6" y="106"/>
                  <a:pt x="5" y="104"/>
                  <a:pt x="5" y="103"/>
                </a:cubicBezTo>
                <a:cubicBezTo>
                  <a:pt x="4" y="101"/>
                  <a:pt x="4" y="100"/>
                  <a:pt x="4" y="99"/>
                </a:cubicBezTo>
                <a:cubicBezTo>
                  <a:pt x="4" y="97"/>
                  <a:pt x="4" y="96"/>
                  <a:pt x="5" y="95"/>
                </a:cubicBezTo>
                <a:cubicBezTo>
                  <a:pt x="5" y="94"/>
                  <a:pt x="6" y="93"/>
                  <a:pt x="7" y="92"/>
                </a:cubicBezTo>
                <a:cubicBezTo>
                  <a:pt x="9" y="91"/>
                  <a:pt x="11" y="89"/>
                  <a:pt x="14" y="89"/>
                </a:cubicBezTo>
                <a:cubicBezTo>
                  <a:pt x="18" y="88"/>
                  <a:pt x="21" y="89"/>
                  <a:pt x="25" y="90"/>
                </a:cubicBezTo>
                <a:cubicBezTo>
                  <a:pt x="26" y="90"/>
                  <a:pt x="27" y="90"/>
                  <a:pt x="27" y="90"/>
                </a:cubicBezTo>
                <a:cubicBezTo>
                  <a:pt x="27" y="89"/>
                  <a:pt x="27" y="88"/>
                  <a:pt x="25" y="87"/>
                </a:cubicBezTo>
                <a:cubicBezTo>
                  <a:pt x="20" y="85"/>
                  <a:pt x="16" y="84"/>
                  <a:pt x="12" y="85"/>
                </a:cubicBezTo>
                <a:cubicBezTo>
                  <a:pt x="8" y="86"/>
                  <a:pt x="5" y="87"/>
                  <a:pt x="3" y="89"/>
                </a:cubicBezTo>
                <a:cubicBezTo>
                  <a:pt x="2" y="90"/>
                  <a:pt x="2" y="91"/>
                  <a:pt x="1" y="93"/>
                </a:cubicBezTo>
                <a:cubicBezTo>
                  <a:pt x="0" y="94"/>
                  <a:pt x="0" y="95"/>
                  <a:pt x="0" y="97"/>
                </a:cubicBezTo>
                <a:cubicBezTo>
                  <a:pt x="0" y="99"/>
                  <a:pt x="1" y="101"/>
                  <a:pt x="1" y="103"/>
                </a:cubicBezTo>
                <a:cubicBezTo>
                  <a:pt x="2" y="105"/>
                  <a:pt x="4" y="107"/>
                  <a:pt x="6" y="109"/>
                </a:cubicBezTo>
                <a:cubicBezTo>
                  <a:pt x="10" y="113"/>
                  <a:pt x="15" y="116"/>
                  <a:pt x="20" y="118"/>
                </a:cubicBezTo>
                <a:cubicBezTo>
                  <a:pt x="24" y="119"/>
                  <a:pt x="29" y="119"/>
                  <a:pt x="33" y="118"/>
                </a:cubicBezTo>
                <a:cubicBezTo>
                  <a:pt x="37" y="118"/>
                  <a:pt x="41" y="116"/>
                  <a:pt x="45" y="114"/>
                </a:cubicBezTo>
                <a:cubicBezTo>
                  <a:pt x="49" y="112"/>
                  <a:pt x="52" y="110"/>
                  <a:pt x="54" y="107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4" y="108"/>
                  <a:pt x="72" y="110"/>
                  <a:pt x="80" y="110"/>
                </a:cubicBezTo>
                <a:cubicBezTo>
                  <a:pt x="88" y="110"/>
                  <a:pt x="95" y="107"/>
                  <a:pt x="101" y="101"/>
                </a:cubicBezTo>
                <a:cubicBezTo>
                  <a:pt x="107" y="95"/>
                  <a:pt x="109" y="88"/>
                  <a:pt x="110" y="80"/>
                </a:cubicBezTo>
                <a:cubicBezTo>
                  <a:pt x="110" y="72"/>
                  <a:pt x="108" y="64"/>
                  <a:pt x="105" y="57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9" y="52"/>
                  <a:pt x="111" y="49"/>
                  <a:pt x="114" y="45"/>
                </a:cubicBezTo>
                <a:cubicBezTo>
                  <a:pt x="116" y="42"/>
                  <a:pt x="117" y="38"/>
                  <a:pt x="118" y="34"/>
                </a:cubicBezTo>
                <a:cubicBezTo>
                  <a:pt x="119" y="29"/>
                  <a:pt x="119" y="25"/>
                  <a:pt x="117" y="20"/>
                </a:cubicBezTo>
                <a:cubicBezTo>
                  <a:pt x="116" y="15"/>
                  <a:pt x="113" y="10"/>
                  <a:pt x="108" y="6"/>
                </a:cubicBezTo>
                <a:cubicBezTo>
                  <a:pt x="106" y="4"/>
                  <a:pt x="104" y="3"/>
                  <a:pt x="102" y="2"/>
                </a:cubicBezTo>
                <a:cubicBezTo>
                  <a:pt x="100" y="1"/>
                  <a:pt x="99" y="0"/>
                  <a:pt x="97" y="0"/>
                </a:cubicBezTo>
                <a:cubicBezTo>
                  <a:pt x="95" y="0"/>
                  <a:pt x="94" y="1"/>
                  <a:pt x="92" y="1"/>
                </a:cubicBezTo>
                <a:cubicBezTo>
                  <a:pt x="91" y="2"/>
                  <a:pt x="90" y="3"/>
                  <a:pt x="89" y="4"/>
                </a:cubicBezTo>
                <a:cubicBezTo>
                  <a:pt x="87" y="5"/>
                  <a:pt x="85" y="8"/>
                  <a:pt x="85" y="12"/>
                </a:cubicBezTo>
                <a:cubicBezTo>
                  <a:pt x="84" y="16"/>
                  <a:pt x="84" y="20"/>
                  <a:pt x="87" y="26"/>
                </a:cubicBezTo>
                <a:cubicBezTo>
                  <a:pt x="88" y="27"/>
                  <a:pt x="89" y="27"/>
                  <a:pt x="89" y="27"/>
                </a:cubicBezTo>
                <a:cubicBezTo>
                  <a:pt x="90" y="27"/>
                  <a:pt x="90" y="26"/>
                  <a:pt x="90" y="25"/>
                </a:cubicBezTo>
                <a:cubicBezTo>
                  <a:pt x="88" y="22"/>
                  <a:pt x="88" y="18"/>
                  <a:pt x="88" y="15"/>
                </a:cubicBezTo>
                <a:cubicBezTo>
                  <a:pt x="89" y="11"/>
                  <a:pt x="90" y="9"/>
                  <a:pt x="92" y="7"/>
                </a:cubicBezTo>
                <a:cubicBezTo>
                  <a:pt x="93" y="6"/>
                  <a:pt x="94" y="6"/>
                  <a:pt x="95" y="5"/>
                </a:cubicBezTo>
                <a:cubicBezTo>
                  <a:pt x="96" y="5"/>
                  <a:pt x="97" y="4"/>
                  <a:pt x="98" y="4"/>
                </a:cubicBezTo>
                <a:cubicBezTo>
                  <a:pt x="100" y="4"/>
                  <a:pt x="101" y="4"/>
                  <a:pt x="102" y="5"/>
                </a:cubicBezTo>
                <a:cubicBezTo>
                  <a:pt x="104" y="6"/>
                  <a:pt x="105" y="7"/>
                  <a:pt x="107" y="8"/>
                </a:cubicBezTo>
                <a:cubicBezTo>
                  <a:pt x="110" y="12"/>
                  <a:pt x="113" y="15"/>
                  <a:pt x="113" y="19"/>
                </a:cubicBezTo>
                <a:cubicBezTo>
                  <a:pt x="114" y="23"/>
                  <a:pt x="114" y="27"/>
                  <a:pt x="113" y="31"/>
                </a:cubicBezTo>
                <a:cubicBezTo>
                  <a:pt x="112" y="34"/>
                  <a:pt x="110" y="38"/>
                  <a:pt x="108" y="41"/>
                </a:cubicBezTo>
                <a:cubicBezTo>
                  <a:pt x="106" y="44"/>
                  <a:pt x="104" y="46"/>
                  <a:pt x="102" y="48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99" y="48"/>
                  <a:pt x="98" y="46"/>
                  <a:pt x="97" y="44"/>
                </a:cubicBezTo>
                <a:cubicBezTo>
                  <a:pt x="95" y="43"/>
                  <a:pt x="94" y="41"/>
                  <a:pt x="93" y="40"/>
                </a:cubicBezTo>
                <a:cubicBezTo>
                  <a:pt x="90" y="37"/>
                  <a:pt x="86" y="34"/>
                  <a:pt x="83" y="33"/>
                </a:cubicBezTo>
                <a:cubicBezTo>
                  <a:pt x="80" y="31"/>
                  <a:pt x="78" y="30"/>
                  <a:pt x="75" y="30"/>
                </a:cubicBezTo>
                <a:cubicBezTo>
                  <a:pt x="72" y="29"/>
                  <a:pt x="70" y="29"/>
                  <a:pt x="68" y="30"/>
                </a:cubicBezTo>
                <a:cubicBezTo>
                  <a:pt x="66" y="30"/>
                  <a:pt x="64" y="31"/>
                  <a:pt x="63" y="32"/>
                </a:cubicBezTo>
                <a:cubicBezTo>
                  <a:pt x="62" y="34"/>
                  <a:pt x="61" y="36"/>
                  <a:pt x="60" y="38"/>
                </a:cubicBezTo>
                <a:cubicBezTo>
                  <a:pt x="60" y="41"/>
                  <a:pt x="61" y="44"/>
                  <a:pt x="62" y="46"/>
                </a:cubicBezTo>
                <a:cubicBezTo>
                  <a:pt x="62" y="47"/>
                  <a:pt x="63" y="47"/>
                  <a:pt x="63" y="47"/>
                </a:cubicBezTo>
                <a:cubicBezTo>
                  <a:pt x="64" y="47"/>
                  <a:pt x="64" y="47"/>
                  <a:pt x="64" y="46"/>
                </a:cubicBezTo>
                <a:cubicBezTo>
                  <a:pt x="63" y="43"/>
                  <a:pt x="63" y="41"/>
                  <a:pt x="64" y="40"/>
                </a:cubicBezTo>
                <a:cubicBezTo>
                  <a:pt x="64" y="38"/>
                  <a:pt x="65" y="37"/>
                  <a:pt x="66" y="36"/>
                </a:cubicBezTo>
                <a:cubicBezTo>
                  <a:pt x="67" y="35"/>
                  <a:pt x="68" y="34"/>
                  <a:pt x="70" y="34"/>
                </a:cubicBezTo>
                <a:cubicBezTo>
                  <a:pt x="72" y="33"/>
                  <a:pt x="74" y="33"/>
                  <a:pt x="76" y="33"/>
                </a:cubicBezTo>
                <a:cubicBezTo>
                  <a:pt x="78" y="34"/>
                  <a:pt x="81" y="35"/>
                  <a:pt x="83" y="36"/>
                </a:cubicBezTo>
                <a:cubicBezTo>
                  <a:pt x="86" y="37"/>
                  <a:pt x="88" y="39"/>
                  <a:pt x="91" y="42"/>
                </a:cubicBezTo>
                <a:cubicBezTo>
                  <a:pt x="92" y="43"/>
                  <a:pt x="94" y="45"/>
                  <a:pt x="95" y="47"/>
                </a:cubicBezTo>
                <a:cubicBezTo>
                  <a:pt x="96" y="48"/>
                  <a:pt x="97" y="50"/>
                  <a:pt x="98" y="52"/>
                </a:cubicBezTo>
                <a:cubicBezTo>
                  <a:pt x="96" y="53"/>
                  <a:pt x="94" y="55"/>
                  <a:pt x="91" y="56"/>
                </a:cubicBezTo>
                <a:cubicBezTo>
                  <a:pt x="89" y="58"/>
                  <a:pt x="86" y="59"/>
                  <a:pt x="83" y="60"/>
                </a:cubicBezTo>
                <a:cubicBezTo>
                  <a:pt x="80" y="61"/>
                  <a:pt x="77" y="62"/>
                  <a:pt x="74" y="63"/>
                </a:cubicBezTo>
                <a:cubicBezTo>
                  <a:pt x="71" y="63"/>
                  <a:pt x="68" y="63"/>
                  <a:pt x="65" y="63"/>
                </a:cubicBezTo>
                <a:cubicBezTo>
                  <a:pt x="63" y="58"/>
                  <a:pt x="60" y="54"/>
                  <a:pt x="56" y="50"/>
                </a:cubicBezTo>
                <a:cubicBezTo>
                  <a:pt x="54" y="48"/>
                  <a:pt x="52" y="46"/>
                  <a:pt x="50" y="46"/>
                </a:cubicBezTo>
                <a:cubicBezTo>
                  <a:pt x="48" y="45"/>
                  <a:pt x="47" y="45"/>
                  <a:pt x="46" y="46"/>
                </a:cubicBezTo>
                <a:cubicBezTo>
                  <a:pt x="45" y="47"/>
                  <a:pt x="45" y="48"/>
                  <a:pt x="45" y="50"/>
                </a:cubicBezTo>
                <a:cubicBezTo>
                  <a:pt x="46" y="52"/>
                  <a:pt x="47" y="54"/>
                  <a:pt x="50" y="57"/>
                </a:cubicBezTo>
                <a:moveTo>
                  <a:pt x="94" y="94"/>
                </a:moveTo>
                <a:cubicBezTo>
                  <a:pt x="90" y="98"/>
                  <a:pt x="85" y="101"/>
                  <a:pt x="79" y="102"/>
                </a:cubicBezTo>
                <a:cubicBezTo>
                  <a:pt x="72" y="103"/>
                  <a:pt x="66" y="103"/>
                  <a:pt x="59" y="101"/>
                </a:cubicBezTo>
                <a:cubicBezTo>
                  <a:pt x="62" y="96"/>
                  <a:pt x="65" y="91"/>
                  <a:pt x="66" y="85"/>
                </a:cubicBezTo>
                <a:cubicBezTo>
                  <a:pt x="68" y="79"/>
                  <a:pt x="68" y="72"/>
                  <a:pt x="66" y="66"/>
                </a:cubicBezTo>
                <a:cubicBezTo>
                  <a:pt x="72" y="68"/>
                  <a:pt x="78" y="68"/>
                  <a:pt x="85" y="66"/>
                </a:cubicBezTo>
                <a:cubicBezTo>
                  <a:pt x="91" y="65"/>
                  <a:pt x="96" y="63"/>
                  <a:pt x="101" y="60"/>
                </a:cubicBezTo>
                <a:cubicBezTo>
                  <a:pt x="102" y="66"/>
                  <a:pt x="103" y="73"/>
                  <a:pt x="102" y="79"/>
                </a:cubicBezTo>
                <a:cubicBezTo>
                  <a:pt x="100" y="85"/>
                  <a:pt x="98" y="90"/>
                  <a:pt x="94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组合 112"/>
          <p:cNvGrpSpPr/>
          <p:nvPr/>
        </p:nvGrpSpPr>
        <p:grpSpPr>
          <a:xfrm>
            <a:off x="3305160" y="1152360"/>
            <a:ext cx="5586480" cy="1570320"/>
            <a:chOff x="3305160" y="1152360"/>
            <a:chExt cx="5586480" cy="1570320"/>
          </a:xfrm>
        </p:grpSpPr>
        <p:sp>
          <p:nvSpPr>
            <p:cNvPr id="1286" name="Line 10"/>
            <p:cNvSpPr/>
            <p:nvPr/>
          </p:nvSpPr>
          <p:spPr>
            <a:xfrm>
              <a:off x="3305160" y="2442960"/>
              <a:ext cx="5586480" cy="0"/>
            </a:xfrm>
            <a:prstGeom prst="line">
              <a:avLst/>
            </a:prstGeom>
            <a:ln w="44280">
              <a:solidFill>
                <a:srgbClr val="3e3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4192560" y="1307160"/>
              <a:ext cx="2044800" cy="1145160"/>
            </a:xfrm>
            <a:custGeom>
              <a:avLst/>
              <a:gdLst>
                <a:gd name="textAreaLeft" fmla="*/ 0 w 2044800"/>
                <a:gd name="textAreaRight" fmla="*/ 2045160 w 204480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624" h="348">
                  <a:moveTo>
                    <a:pt x="157" y="283"/>
                  </a:moveTo>
                  <a:cubicBezTo>
                    <a:pt x="157" y="262"/>
                    <a:pt x="143" y="239"/>
                    <a:pt x="124" y="231"/>
                  </a:cubicBezTo>
                  <a:cubicBezTo>
                    <a:pt x="124" y="231"/>
                    <a:pt x="124" y="231"/>
                    <a:pt x="124" y="231"/>
                  </a:cubicBezTo>
                  <a:cubicBezTo>
                    <a:pt x="106" y="219"/>
                    <a:pt x="71" y="227"/>
                    <a:pt x="73" y="257"/>
                  </a:cubicBezTo>
                  <a:cubicBezTo>
                    <a:pt x="73" y="271"/>
                    <a:pt x="95" y="289"/>
                    <a:pt x="109" y="273"/>
                  </a:cubicBezTo>
                  <a:cubicBezTo>
                    <a:pt x="116" y="264"/>
                    <a:pt x="113" y="255"/>
                    <a:pt x="108" y="251"/>
                  </a:cubicBezTo>
                  <a:cubicBezTo>
                    <a:pt x="102" y="246"/>
                    <a:pt x="92" y="248"/>
                    <a:pt x="88" y="251"/>
                  </a:cubicBezTo>
                  <a:cubicBezTo>
                    <a:pt x="100" y="257"/>
                    <a:pt x="98" y="274"/>
                    <a:pt x="85" y="268"/>
                  </a:cubicBezTo>
                  <a:cubicBezTo>
                    <a:pt x="75" y="262"/>
                    <a:pt x="76" y="249"/>
                    <a:pt x="82" y="240"/>
                  </a:cubicBezTo>
                  <a:cubicBezTo>
                    <a:pt x="89" y="230"/>
                    <a:pt x="107" y="228"/>
                    <a:pt x="120" y="234"/>
                  </a:cubicBezTo>
                  <a:cubicBezTo>
                    <a:pt x="122" y="235"/>
                    <a:pt x="124" y="236"/>
                    <a:pt x="126" y="237"/>
                  </a:cubicBezTo>
                  <a:cubicBezTo>
                    <a:pt x="151" y="254"/>
                    <a:pt x="156" y="278"/>
                    <a:pt x="149" y="297"/>
                  </a:cubicBezTo>
                  <a:cubicBezTo>
                    <a:pt x="138" y="327"/>
                    <a:pt x="92" y="344"/>
                    <a:pt x="52" y="302"/>
                  </a:cubicBezTo>
                  <a:cubicBezTo>
                    <a:pt x="39" y="288"/>
                    <a:pt x="35" y="257"/>
                    <a:pt x="38" y="232"/>
                  </a:cubicBezTo>
                  <a:cubicBezTo>
                    <a:pt x="43" y="167"/>
                    <a:pt x="102" y="129"/>
                    <a:pt x="157" y="130"/>
                  </a:cubicBezTo>
                  <a:cubicBezTo>
                    <a:pt x="192" y="130"/>
                    <a:pt x="271" y="179"/>
                    <a:pt x="308" y="225"/>
                  </a:cubicBezTo>
                  <a:cubicBezTo>
                    <a:pt x="343" y="268"/>
                    <a:pt x="379" y="296"/>
                    <a:pt x="414" y="308"/>
                  </a:cubicBezTo>
                  <a:cubicBezTo>
                    <a:pt x="480" y="331"/>
                    <a:pt x="550" y="299"/>
                    <a:pt x="590" y="243"/>
                  </a:cubicBezTo>
                  <a:cubicBezTo>
                    <a:pt x="624" y="197"/>
                    <a:pt x="618" y="156"/>
                    <a:pt x="589" y="117"/>
                  </a:cubicBezTo>
                  <a:cubicBezTo>
                    <a:pt x="585" y="110"/>
                    <a:pt x="581" y="105"/>
                    <a:pt x="575" y="100"/>
                  </a:cubicBezTo>
                  <a:cubicBezTo>
                    <a:pt x="589" y="57"/>
                    <a:pt x="575" y="16"/>
                    <a:pt x="539" y="8"/>
                  </a:cubicBezTo>
                  <a:cubicBezTo>
                    <a:pt x="506" y="0"/>
                    <a:pt x="476" y="37"/>
                    <a:pt x="472" y="68"/>
                  </a:cubicBezTo>
                  <a:cubicBezTo>
                    <a:pt x="393" y="86"/>
                    <a:pt x="342" y="189"/>
                    <a:pt x="432" y="221"/>
                  </a:cubicBezTo>
                  <a:cubicBezTo>
                    <a:pt x="502" y="245"/>
                    <a:pt x="553" y="183"/>
                    <a:pt x="572" y="113"/>
                  </a:cubicBezTo>
                  <a:cubicBezTo>
                    <a:pt x="604" y="147"/>
                    <a:pt x="615" y="191"/>
                    <a:pt x="584" y="234"/>
                  </a:cubicBezTo>
                  <a:cubicBezTo>
                    <a:pt x="543" y="291"/>
                    <a:pt x="471" y="321"/>
                    <a:pt x="415" y="300"/>
                  </a:cubicBezTo>
                  <a:cubicBezTo>
                    <a:pt x="378" y="286"/>
                    <a:pt x="344" y="252"/>
                    <a:pt x="297" y="197"/>
                  </a:cubicBezTo>
                  <a:cubicBezTo>
                    <a:pt x="254" y="145"/>
                    <a:pt x="179" y="104"/>
                    <a:pt x="116" y="124"/>
                  </a:cubicBezTo>
                  <a:cubicBezTo>
                    <a:pt x="47" y="146"/>
                    <a:pt x="0" y="200"/>
                    <a:pt x="22" y="282"/>
                  </a:cubicBezTo>
                  <a:cubicBezTo>
                    <a:pt x="33" y="321"/>
                    <a:pt x="88" y="348"/>
                    <a:pt x="127" y="328"/>
                  </a:cubicBezTo>
                  <a:cubicBezTo>
                    <a:pt x="149" y="317"/>
                    <a:pt x="157" y="300"/>
                    <a:pt x="157" y="283"/>
                  </a:cubicBezTo>
                  <a:close/>
                  <a:moveTo>
                    <a:pt x="477" y="67"/>
                  </a:moveTo>
                  <a:cubicBezTo>
                    <a:pt x="483" y="39"/>
                    <a:pt x="504" y="8"/>
                    <a:pt x="537" y="14"/>
                  </a:cubicBezTo>
                  <a:cubicBezTo>
                    <a:pt x="568" y="19"/>
                    <a:pt x="581" y="59"/>
                    <a:pt x="570" y="95"/>
                  </a:cubicBezTo>
                  <a:cubicBezTo>
                    <a:pt x="539" y="69"/>
                    <a:pt x="506" y="62"/>
                    <a:pt x="477" y="67"/>
                  </a:cubicBezTo>
                  <a:close/>
                  <a:moveTo>
                    <a:pt x="567" y="108"/>
                  </a:moveTo>
                  <a:cubicBezTo>
                    <a:pt x="548" y="176"/>
                    <a:pt x="501" y="240"/>
                    <a:pt x="432" y="215"/>
                  </a:cubicBezTo>
                  <a:cubicBezTo>
                    <a:pt x="361" y="189"/>
                    <a:pt x="403" y="100"/>
                    <a:pt x="470" y="81"/>
                  </a:cubicBezTo>
                  <a:cubicBezTo>
                    <a:pt x="469" y="99"/>
                    <a:pt x="472" y="118"/>
                    <a:pt x="488" y="124"/>
                  </a:cubicBezTo>
                  <a:cubicBezTo>
                    <a:pt x="495" y="126"/>
                    <a:pt x="509" y="126"/>
                    <a:pt x="517" y="118"/>
                  </a:cubicBezTo>
                  <a:cubicBezTo>
                    <a:pt x="501" y="126"/>
                    <a:pt x="491" y="123"/>
                    <a:pt x="484" y="118"/>
                  </a:cubicBezTo>
                  <a:cubicBezTo>
                    <a:pt x="474" y="110"/>
                    <a:pt x="474" y="94"/>
                    <a:pt x="475" y="79"/>
                  </a:cubicBezTo>
                  <a:cubicBezTo>
                    <a:pt x="504" y="73"/>
                    <a:pt x="537" y="79"/>
                    <a:pt x="567" y="108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5002560" y="1242360"/>
              <a:ext cx="491400" cy="88488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884880"/>
                <a:gd name="textAreaBottom" fmla="*/ 885240 h 884880"/>
              </a:gdLst>
              <a:ahLst/>
              <a:rect l="textAreaLeft" t="textAreaTop" r="textAreaRight" b="textAreaBottom"/>
              <a:pathLst>
                <a:path w="150" h="269">
                  <a:moveTo>
                    <a:pt x="91" y="269"/>
                  </a:moveTo>
                  <a:cubicBezTo>
                    <a:pt x="82" y="265"/>
                    <a:pt x="78" y="248"/>
                    <a:pt x="70" y="243"/>
                  </a:cubicBezTo>
                  <a:cubicBezTo>
                    <a:pt x="27" y="214"/>
                    <a:pt x="0" y="162"/>
                    <a:pt x="3" y="121"/>
                  </a:cubicBezTo>
                  <a:cubicBezTo>
                    <a:pt x="7" y="77"/>
                    <a:pt x="22" y="48"/>
                    <a:pt x="49" y="24"/>
                  </a:cubicBezTo>
                  <a:cubicBezTo>
                    <a:pt x="76" y="0"/>
                    <a:pt x="112" y="0"/>
                    <a:pt x="127" y="7"/>
                  </a:cubicBezTo>
                  <a:cubicBezTo>
                    <a:pt x="138" y="12"/>
                    <a:pt x="150" y="24"/>
                    <a:pt x="141" y="35"/>
                  </a:cubicBezTo>
                  <a:cubicBezTo>
                    <a:pt x="132" y="47"/>
                    <a:pt x="119" y="37"/>
                    <a:pt x="115" y="32"/>
                  </a:cubicBezTo>
                  <a:cubicBezTo>
                    <a:pt x="109" y="26"/>
                    <a:pt x="98" y="18"/>
                    <a:pt x="78" y="21"/>
                  </a:cubicBezTo>
                  <a:cubicBezTo>
                    <a:pt x="60" y="24"/>
                    <a:pt x="24" y="55"/>
                    <a:pt x="15" y="91"/>
                  </a:cubicBezTo>
                  <a:cubicBezTo>
                    <a:pt x="15" y="91"/>
                    <a:pt x="15" y="92"/>
                    <a:pt x="14" y="93"/>
                  </a:cubicBezTo>
                  <a:cubicBezTo>
                    <a:pt x="16" y="87"/>
                    <a:pt x="21" y="71"/>
                    <a:pt x="31" y="62"/>
                  </a:cubicBezTo>
                  <a:cubicBezTo>
                    <a:pt x="42" y="51"/>
                    <a:pt x="61" y="39"/>
                    <a:pt x="82" y="53"/>
                  </a:cubicBezTo>
                  <a:cubicBezTo>
                    <a:pt x="101" y="66"/>
                    <a:pt x="95" y="83"/>
                    <a:pt x="93" y="85"/>
                  </a:cubicBezTo>
                  <a:cubicBezTo>
                    <a:pt x="91" y="88"/>
                    <a:pt x="81" y="93"/>
                    <a:pt x="76" y="78"/>
                  </a:cubicBezTo>
                  <a:cubicBezTo>
                    <a:pt x="70" y="63"/>
                    <a:pt x="64" y="57"/>
                    <a:pt x="54" y="57"/>
                  </a:cubicBezTo>
                  <a:cubicBezTo>
                    <a:pt x="44" y="56"/>
                    <a:pt x="33" y="62"/>
                    <a:pt x="27" y="69"/>
                  </a:cubicBezTo>
                  <a:cubicBezTo>
                    <a:pt x="22" y="75"/>
                    <a:pt x="15" y="91"/>
                    <a:pt x="14" y="94"/>
                  </a:cubicBezTo>
                  <a:cubicBezTo>
                    <a:pt x="8" y="122"/>
                    <a:pt x="7" y="143"/>
                    <a:pt x="15" y="165"/>
                  </a:cubicBezTo>
                  <a:cubicBezTo>
                    <a:pt x="14" y="161"/>
                    <a:pt x="13" y="155"/>
                    <a:pt x="12" y="148"/>
                  </a:cubicBezTo>
                  <a:cubicBezTo>
                    <a:pt x="9" y="127"/>
                    <a:pt x="15" y="104"/>
                    <a:pt x="32" y="97"/>
                  </a:cubicBezTo>
                  <a:cubicBezTo>
                    <a:pt x="50" y="89"/>
                    <a:pt x="56" y="98"/>
                    <a:pt x="57" y="107"/>
                  </a:cubicBezTo>
                  <a:cubicBezTo>
                    <a:pt x="59" y="115"/>
                    <a:pt x="50" y="119"/>
                    <a:pt x="47" y="116"/>
                  </a:cubicBezTo>
                  <a:cubicBezTo>
                    <a:pt x="43" y="114"/>
                    <a:pt x="43" y="109"/>
                    <a:pt x="43" y="109"/>
                  </a:cubicBezTo>
                  <a:cubicBezTo>
                    <a:pt x="43" y="109"/>
                    <a:pt x="41" y="100"/>
                    <a:pt x="31" y="105"/>
                  </a:cubicBezTo>
                  <a:cubicBezTo>
                    <a:pt x="20" y="109"/>
                    <a:pt x="15" y="123"/>
                    <a:pt x="13" y="139"/>
                  </a:cubicBezTo>
                  <a:cubicBezTo>
                    <a:pt x="13" y="151"/>
                    <a:pt x="16" y="165"/>
                    <a:pt x="19" y="176"/>
                  </a:cubicBezTo>
                  <a:cubicBezTo>
                    <a:pt x="25" y="188"/>
                    <a:pt x="34" y="202"/>
                    <a:pt x="45" y="217"/>
                  </a:cubicBezTo>
                  <a:lnTo>
                    <a:pt x="91" y="26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5022000" y="1574640"/>
              <a:ext cx="395640" cy="4971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497160"/>
                <a:gd name="textAreaBottom" fmla="*/ 497160 h 497160"/>
              </a:gdLst>
              <a:ahLst/>
              <a:rect l="textAreaLeft" t="textAreaTop" r="textAreaRight" b="textAreaBottom"/>
              <a:pathLst>
                <a:path w="121" h="151">
                  <a:moveTo>
                    <a:pt x="66" y="145"/>
                  </a:moveTo>
                  <a:cubicBezTo>
                    <a:pt x="63" y="136"/>
                    <a:pt x="60" y="126"/>
                    <a:pt x="53" y="118"/>
                  </a:cubicBezTo>
                  <a:cubicBezTo>
                    <a:pt x="39" y="101"/>
                    <a:pt x="27" y="86"/>
                    <a:pt x="34" y="57"/>
                  </a:cubicBezTo>
                  <a:cubicBezTo>
                    <a:pt x="40" y="30"/>
                    <a:pt x="79" y="0"/>
                    <a:pt x="108" y="28"/>
                  </a:cubicBezTo>
                  <a:cubicBezTo>
                    <a:pt x="121" y="42"/>
                    <a:pt x="106" y="46"/>
                    <a:pt x="100" y="58"/>
                  </a:cubicBezTo>
                  <a:cubicBezTo>
                    <a:pt x="92" y="72"/>
                    <a:pt x="104" y="84"/>
                    <a:pt x="111" y="91"/>
                  </a:cubicBezTo>
                  <a:cubicBezTo>
                    <a:pt x="98" y="75"/>
                    <a:pt x="116" y="63"/>
                    <a:pt x="119" y="50"/>
                  </a:cubicBezTo>
                  <a:cubicBezTo>
                    <a:pt x="120" y="39"/>
                    <a:pt x="113" y="28"/>
                    <a:pt x="106" y="22"/>
                  </a:cubicBezTo>
                  <a:cubicBezTo>
                    <a:pt x="85" y="2"/>
                    <a:pt x="49" y="18"/>
                    <a:pt x="37" y="41"/>
                  </a:cubicBezTo>
                  <a:cubicBezTo>
                    <a:pt x="0" y="106"/>
                    <a:pt x="69" y="151"/>
                    <a:pt x="66" y="14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4590000" y="1436040"/>
              <a:ext cx="465120" cy="29196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142" h="89">
                  <a:moveTo>
                    <a:pt x="122" y="35"/>
                  </a:moveTo>
                  <a:cubicBezTo>
                    <a:pt x="142" y="60"/>
                    <a:pt x="133" y="89"/>
                    <a:pt x="133" y="89"/>
                  </a:cubicBezTo>
                  <a:cubicBezTo>
                    <a:pt x="131" y="88"/>
                    <a:pt x="130" y="82"/>
                    <a:pt x="130" y="82"/>
                  </a:cubicBezTo>
                  <a:cubicBezTo>
                    <a:pt x="130" y="82"/>
                    <a:pt x="134" y="58"/>
                    <a:pt x="121" y="42"/>
                  </a:cubicBezTo>
                  <a:cubicBezTo>
                    <a:pt x="98" y="14"/>
                    <a:pt x="67" y="10"/>
                    <a:pt x="46" y="19"/>
                  </a:cubicBezTo>
                  <a:cubicBezTo>
                    <a:pt x="26" y="29"/>
                    <a:pt x="25" y="40"/>
                    <a:pt x="25" y="40"/>
                  </a:cubicBezTo>
                  <a:cubicBezTo>
                    <a:pt x="18" y="26"/>
                    <a:pt x="27" y="20"/>
                    <a:pt x="27" y="20"/>
                  </a:cubicBezTo>
                  <a:cubicBezTo>
                    <a:pt x="27" y="20"/>
                    <a:pt x="8" y="32"/>
                    <a:pt x="5" y="49"/>
                  </a:cubicBezTo>
                  <a:cubicBezTo>
                    <a:pt x="3" y="49"/>
                    <a:pt x="2" y="48"/>
                    <a:pt x="0" y="47"/>
                  </a:cubicBezTo>
                  <a:cubicBezTo>
                    <a:pt x="2" y="35"/>
                    <a:pt x="9" y="22"/>
                    <a:pt x="25" y="14"/>
                  </a:cubicBezTo>
                  <a:cubicBezTo>
                    <a:pt x="54" y="0"/>
                    <a:pt x="98" y="5"/>
                    <a:pt x="122" y="3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3717720" y="1761480"/>
              <a:ext cx="862560" cy="69516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63" h="211">
                  <a:moveTo>
                    <a:pt x="263" y="210"/>
                  </a:moveTo>
                  <a:cubicBezTo>
                    <a:pt x="157" y="209"/>
                    <a:pt x="0" y="39"/>
                    <a:pt x="159" y="0"/>
                  </a:cubicBezTo>
                  <a:cubicBezTo>
                    <a:pt x="55" y="9"/>
                    <a:pt x="59" y="136"/>
                    <a:pt x="190" y="211"/>
                  </a:cubicBezTo>
                  <a:lnTo>
                    <a:pt x="263" y="210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3498840" y="1337760"/>
              <a:ext cx="772560" cy="109260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1092600"/>
                <a:gd name="textAreaBottom" fmla="*/ 1092960 h 1092600"/>
              </a:gdLst>
              <a:ahLst/>
              <a:rect l="textAreaLeft" t="textAreaTop" r="textAreaRight" b="textAreaBottom"/>
              <a:pathLst>
                <a:path w="236" h="332">
                  <a:moveTo>
                    <a:pt x="236" y="330"/>
                  </a:moveTo>
                  <a:cubicBezTo>
                    <a:pt x="229" y="330"/>
                    <a:pt x="217" y="332"/>
                    <a:pt x="212" y="330"/>
                  </a:cubicBezTo>
                  <a:cubicBezTo>
                    <a:pt x="0" y="216"/>
                    <a:pt x="67" y="0"/>
                    <a:pt x="178" y="120"/>
                  </a:cubicBezTo>
                  <a:cubicBezTo>
                    <a:pt x="39" y="6"/>
                    <a:pt x="41" y="245"/>
                    <a:pt x="236" y="33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3750840" y="2009520"/>
              <a:ext cx="340560" cy="42372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04" h="129">
                  <a:moveTo>
                    <a:pt x="104" y="129"/>
                  </a:moveTo>
                  <a:cubicBezTo>
                    <a:pt x="38" y="86"/>
                    <a:pt x="7" y="25"/>
                    <a:pt x="0" y="0"/>
                  </a:cubicBezTo>
                  <a:cubicBezTo>
                    <a:pt x="5" y="34"/>
                    <a:pt x="41" y="95"/>
                    <a:pt x="95" y="129"/>
                  </a:cubicBezTo>
                  <a:lnTo>
                    <a:pt x="104" y="12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4566240" y="1906920"/>
              <a:ext cx="701640" cy="81576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14" h="248">
                  <a:moveTo>
                    <a:pt x="158" y="222"/>
                  </a:moveTo>
                  <a:cubicBezTo>
                    <a:pt x="145" y="211"/>
                    <a:pt x="135" y="199"/>
                    <a:pt x="126" y="186"/>
                  </a:cubicBezTo>
                  <a:cubicBezTo>
                    <a:pt x="116" y="173"/>
                    <a:pt x="108" y="159"/>
                    <a:pt x="101" y="146"/>
                  </a:cubicBezTo>
                  <a:cubicBezTo>
                    <a:pt x="94" y="132"/>
                    <a:pt x="88" y="118"/>
                    <a:pt x="83" y="105"/>
                  </a:cubicBezTo>
                  <a:cubicBezTo>
                    <a:pt x="78" y="92"/>
                    <a:pt x="73" y="79"/>
                    <a:pt x="69" y="68"/>
                  </a:cubicBezTo>
                  <a:cubicBezTo>
                    <a:pt x="64" y="56"/>
                    <a:pt x="60" y="46"/>
                    <a:pt x="55" y="38"/>
                  </a:cubicBezTo>
                  <a:cubicBezTo>
                    <a:pt x="51" y="29"/>
                    <a:pt x="47" y="22"/>
                    <a:pt x="42" y="18"/>
                  </a:cubicBezTo>
                  <a:cubicBezTo>
                    <a:pt x="36" y="12"/>
                    <a:pt x="29" y="8"/>
                    <a:pt x="21" y="6"/>
                  </a:cubicBezTo>
                  <a:cubicBezTo>
                    <a:pt x="13" y="3"/>
                    <a:pt x="6" y="1"/>
                    <a:pt x="0" y="1"/>
                  </a:cubicBezTo>
                  <a:cubicBezTo>
                    <a:pt x="7" y="0"/>
                    <a:pt x="15" y="1"/>
                    <a:pt x="25" y="5"/>
                  </a:cubicBezTo>
                  <a:cubicBezTo>
                    <a:pt x="35" y="9"/>
                    <a:pt x="45" y="16"/>
                    <a:pt x="55" y="25"/>
                  </a:cubicBezTo>
                  <a:cubicBezTo>
                    <a:pt x="64" y="33"/>
                    <a:pt x="72" y="42"/>
                    <a:pt x="78" y="53"/>
                  </a:cubicBezTo>
                  <a:cubicBezTo>
                    <a:pt x="84" y="63"/>
                    <a:pt x="90" y="74"/>
                    <a:pt x="95" y="86"/>
                  </a:cubicBezTo>
                  <a:cubicBezTo>
                    <a:pt x="100" y="98"/>
                    <a:pt x="105" y="110"/>
                    <a:pt x="110" y="123"/>
                  </a:cubicBezTo>
                  <a:cubicBezTo>
                    <a:pt x="114" y="135"/>
                    <a:pt x="119" y="148"/>
                    <a:pt x="124" y="160"/>
                  </a:cubicBezTo>
                  <a:cubicBezTo>
                    <a:pt x="129" y="172"/>
                    <a:pt x="135" y="183"/>
                    <a:pt x="142" y="194"/>
                  </a:cubicBezTo>
                  <a:cubicBezTo>
                    <a:pt x="149" y="205"/>
                    <a:pt x="157" y="214"/>
                    <a:pt x="166" y="223"/>
                  </a:cubicBezTo>
                  <a:cubicBezTo>
                    <a:pt x="172" y="228"/>
                    <a:pt x="179" y="233"/>
                    <a:pt x="187" y="238"/>
                  </a:cubicBezTo>
                  <a:cubicBezTo>
                    <a:pt x="195" y="242"/>
                    <a:pt x="204" y="246"/>
                    <a:pt x="214" y="248"/>
                  </a:cubicBezTo>
                  <a:cubicBezTo>
                    <a:pt x="209" y="248"/>
                    <a:pt x="204" y="248"/>
                    <a:pt x="199" y="246"/>
                  </a:cubicBezTo>
                  <a:cubicBezTo>
                    <a:pt x="194" y="245"/>
                    <a:pt x="189" y="243"/>
                    <a:pt x="184" y="241"/>
                  </a:cubicBezTo>
                  <a:cubicBezTo>
                    <a:pt x="179" y="238"/>
                    <a:pt x="175" y="235"/>
                    <a:pt x="170" y="232"/>
                  </a:cubicBezTo>
                  <a:cubicBezTo>
                    <a:pt x="166" y="229"/>
                    <a:pt x="162" y="226"/>
                    <a:pt x="158" y="222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4731120" y="1914120"/>
              <a:ext cx="671400" cy="6742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200" y="194"/>
                  </a:moveTo>
                  <a:cubicBezTo>
                    <a:pt x="203" y="190"/>
                    <a:pt x="205" y="185"/>
                    <a:pt x="205" y="179"/>
                  </a:cubicBezTo>
                  <a:cubicBezTo>
                    <a:pt x="205" y="173"/>
                    <a:pt x="204" y="167"/>
                    <a:pt x="202" y="161"/>
                  </a:cubicBezTo>
                  <a:cubicBezTo>
                    <a:pt x="200" y="155"/>
                    <a:pt x="197" y="149"/>
                    <a:pt x="193" y="143"/>
                  </a:cubicBezTo>
                  <a:cubicBezTo>
                    <a:pt x="189" y="137"/>
                    <a:pt x="184" y="132"/>
                    <a:pt x="179" y="128"/>
                  </a:cubicBezTo>
                  <a:cubicBezTo>
                    <a:pt x="175" y="125"/>
                    <a:pt x="171" y="122"/>
                    <a:pt x="166" y="120"/>
                  </a:cubicBezTo>
                  <a:cubicBezTo>
                    <a:pt x="161" y="117"/>
                    <a:pt x="155" y="115"/>
                    <a:pt x="150" y="114"/>
                  </a:cubicBezTo>
                  <a:cubicBezTo>
                    <a:pt x="145" y="113"/>
                    <a:pt x="139" y="113"/>
                    <a:pt x="134" y="113"/>
                  </a:cubicBezTo>
                  <a:cubicBezTo>
                    <a:pt x="128" y="114"/>
                    <a:pt x="123" y="115"/>
                    <a:pt x="117" y="118"/>
                  </a:cubicBezTo>
                  <a:cubicBezTo>
                    <a:pt x="124" y="117"/>
                    <a:pt x="132" y="117"/>
                    <a:pt x="140" y="118"/>
                  </a:cubicBezTo>
                  <a:cubicBezTo>
                    <a:pt x="147" y="118"/>
                    <a:pt x="155" y="122"/>
                    <a:pt x="162" y="127"/>
                  </a:cubicBezTo>
                  <a:cubicBezTo>
                    <a:pt x="169" y="133"/>
                    <a:pt x="175" y="139"/>
                    <a:pt x="180" y="145"/>
                  </a:cubicBezTo>
                  <a:cubicBezTo>
                    <a:pt x="185" y="152"/>
                    <a:pt x="189" y="158"/>
                    <a:pt x="192" y="164"/>
                  </a:cubicBezTo>
                  <a:cubicBezTo>
                    <a:pt x="195" y="170"/>
                    <a:pt x="197" y="176"/>
                    <a:pt x="197" y="181"/>
                  </a:cubicBezTo>
                  <a:cubicBezTo>
                    <a:pt x="198" y="187"/>
                    <a:pt x="197" y="191"/>
                    <a:pt x="194" y="194"/>
                  </a:cubicBezTo>
                  <a:cubicBezTo>
                    <a:pt x="191" y="197"/>
                    <a:pt x="188" y="200"/>
                    <a:pt x="184" y="201"/>
                  </a:cubicBezTo>
                  <a:cubicBezTo>
                    <a:pt x="180" y="202"/>
                    <a:pt x="175" y="202"/>
                    <a:pt x="171" y="201"/>
                  </a:cubicBezTo>
                  <a:cubicBezTo>
                    <a:pt x="166" y="200"/>
                    <a:pt x="162" y="199"/>
                    <a:pt x="158" y="197"/>
                  </a:cubicBezTo>
                  <a:cubicBezTo>
                    <a:pt x="153" y="195"/>
                    <a:pt x="150" y="193"/>
                    <a:pt x="147" y="190"/>
                  </a:cubicBezTo>
                  <a:cubicBezTo>
                    <a:pt x="139" y="184"/>
                    <a:pt x="132" y="177"/>
                    <a:pt x="127" y="168"/>
                  </a:cubicBezTo>
                  <a:cubicBezTo>
                    <a:pt x="122" y="159"/>
                    <a:pt x="117" y="150"/>
                    <a:pt x="112" y="140"/>
                  </a:cubicBezTo>
                  <a:cubicBezTo>
                    <a:pt x="108" y="130"/>
                    <a:pt x="103" y="120"/>
                    <a:pt x="99" y="109"/>
                  </a:cubicBezTo>
                  <a:cubicBezTo>
                    <a:pt x="95" y="98"/>
                    <a:pt x="90" y="87"/>
                    <a:pt x="85" y="77"/>
                  </a:cubicBezTo>
                  <a:cubicBezTo>
                    <a:pt x="80" y="66"/>
                    <a:pt x="74" y="56"/>
                    <a:pt x="67" y="46"/>
                  </a:cubicBezTo>
                  <a:cubicBezTo>
                    <a:pt x="60" y="36"/>
                    <a:pt x="52" y="27"/>
                    <a:pt x="42" y="19"/>
                  </a:cubicBezTo>
                  <a:cubicBezTo>
                    <a:pt x="36" y="14"/>
                    <a:pt x="29" y="10"/>
                    <a:pt x="22" y="6"/>
                  </a:cubicBezTo>
                  <a:cubicBezTo>
                    <a:pt x="15" y="2"/>
                    <a:pt x="8" y="0"/>
                    <a:pt x="0" y="0"/>
                  </a:cubicBezTo>
                  <a:cubicBezTo>
                    <a:pt x="4" y="1"/>
                    <a:pt x="7" y="3"/>
                    <a:pt x="11" y="4"/>
                  </a:cubicBezTo>
                  <a:cubicBezTo>
                    <a:pt x="15" y="6"/>
                    <a:pt x="19" y="8"/>
                    <a:pt x="22" y="11"/>
                  </a:cubicBezTo>
                  <a:cubicBezTo>
                    <a:pt x="31" y="18"/>
                    <a:pt x="38" y="26"/>
                    <a:pt x="44" y="35"/>
                  </a:cubicBezTo>
                  <a:cubicBezTo>
                    <a:pt x="50" y="44"/>
                    <a:pt x="56" y="54"/>
                    <a:pt x="61" y="65"/>
                  </a:cubicBezTo>
                  <a:cubicBezTo>
                    <a:pt x="66" y="75"/>
                    <a:pt x="71" y="87"/>
                    <a:pt x="76" y="98"/>
                  </a:cubicBezTo>
                  <a:cubicBezTo>
                    <a:pt x="80" y="109"/>
                    <a:pt x="86" y="121"/>
                    <a:pt x="91" y="132"/>
                  </a:cubicBezTo>
                  <a:cubicBezTo>
                    <a:pt x="97" y="143"/>
                    <a:pt x="103" y="153"/>
                    <a:pt x="110" y="163"/>
                  </a:cubicBezTo>
                  <a:cubicBezTo>
                    <a:pt x="117" y="173"/>
                    <a:pt x="125" y="182"/>
                    <a:pt x="134" y="189"/>
                  </a:cubicBezTo>
                  <a:cubicBezTo>
                    <a:pt x="139" y="193"/>
                    <a:pt x="144" y="196"/>
                    <a:pt x="150" y="199"/>
                  </a:cubicBezTo>
                  <a:cubicBezTo>
                    <a:pt x="155" y="201"/>
                    <a:pt x="161" y="203"/>
                    <a:pt x="167" y="204"/>
                  </a:cubicBezTo>
                  <a:cubicBezTo>
                    <a:pt x="174" y="205"/>
                    <a:pt x="179" y="205"/>
                    <a:pt x="185" y="204"/>
                  </a:cubicBezTo>
                  <a:cubicBezTo>
                    <a:pt x="191" y="202"/>
                    <a:pt x="196" y="199"/>
                    <a:pt x="200" y="194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5959080" y="1307160"/>
              <a:ext cx="2047680" cy="1145160"/>
            </a:xfrm>
            <a:custGeom>
              <a:avLst/>
              <a:gdLst>
                <a:gd name="textAreaLeft" fmla="*/ 0 w 2047680"/>
                <a:gd name="textAreaRight" fmla="*/ 2048040 w 204768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625" h="348">
                  <a:moveTo>
                    <a:pt x="468" y="283"/>
                  </a:moveTo>
                  <a:cubicBezTo>
                    <a:pt x="467" y="300"/>
                    <a:pt x="476" y="317"/>
                    <a:pt x="498" y="328"/>
                  </a:cubicBezTo>
                  <a:cubicBezTo>
                    <a:pt x="537" y="348"/>
                    <a:pt x="591" y="321"/>
                    <a:pt x="602" y="282"/>
                  </a:cubicBezTo>
                  <a:cubicBezTo>
                    <a:pt x="625" y="200"/>
                    <a:pt x="577" y="146"/>
                    <a:pt x="508" y="124"/>
                  </a:cubicBezTo>
                  <a:cubicBezTo>
                    <a:pt x="445" y="104"/>
                    <a:pt x="371" y="145"/>
                    <a:pt x="327" y="197"/>
                  </a:cubicBezTo>
                  <a:cubicBezTo>
                    <a:pt x="281" y="252"/>
                    <a:pt x="246" y="286"/>
                    <a:pt x="209" y="300"/>
                  </a:cubicBezTo>
                  <a:cubicBezTo>
                    <a:pt x="153" y="321"/>
                    <a:pt x="81" y="291"/>
                    <a:pt x="40" y="234"/>
                  </a:cubicBezTo>
                  <a:cubicBezTo>
                    <a:pt x="9" y="191"/>
                    <a:pt x="20" y="147"/>
                    <a:pt x="52" y="113"/>
                  </a:cubicBezTo>
                  <a:cubicBezTo>
                    <a:pt x="72" y="183"/>
                    <a:pt x="122" y="245"/>
                    <a:pt x="193" y="221"/>
                  </a:cubicBezTo>
                  <a:cubicBezTo>
                    <a:pt x="282" y="189"/>
                    <a:pt x="232" y="86"/>
                    <a:pt x="153" y="68"/>
                  </a:cubicBezTo>
                  <a:cubicBezTo>
                    <a:pt x="148" y="37"/>
                    <a:pt x="119" y="0"/>
                    <a:pt x="86" y="8"/>
                  </a:cubicBezTo>
                  <a:cubicBezTo>
                    <a:pt x="50" y="16"/>
                    <a:pt x="36" y="57"/>
                    <a:pt x="49" y="100"/>
                  </a:cubicBezTo>
                  <a:cubicBezTo>
                    <a:pt x="44" y="105"/>
                    <a:pt x="40" y="110"/>
                    <a:pt x="35" y="117"/>
                  </a:cubicBezTo>
                  <a:cubicBezTo>
                    <a:pt x="7" y="156"/>
                    <a:pt x="0" y="197"/>
                    <a:pt x="34" y="243"/>
                  </a:cubicBezTo>
                  <a:cubicBezTo>
                    <a:pt x="75" y="299"/>
                    <a:pt x="145" y="331"/>
                    <a:pt x="211" y="308"/>
                  </a:cubicBezTo>
                  <a:cubicBezTo>
                    <a:pt x="245" y="296"/>
                    <a:pt x="282" y="268"/>
                    <a:pt x="316" y="225"/>
                  </a:cubicBezTo>
                  <a:cubicBezTo>
                    <a:pt x="354" y="179"/>
                    <a:pt x="433" y="130"/>
                    <a:pt x="467" y="130"/>
                  </a:cubicBezTo>
                  <a:cubicBezTo>
                    <a:pt x="523" y="129"/>
                    <a:pt x="581" y="167"/>
                    <a:pt x="587" y="232"/>
                  </a:cubicBezTo>
                  <a:cubicBezTo>
                    <a:pt x="590" y="257"/>
                    <a:pt x="585" y="288"/>
                    <a:pt x="572" y="302"/>
                  </a:cubicBezTo>
                  <a:cubicBezTo>
                    <a:pt x="533" y="344"/>
                    <a:pt x="487" y="327"/>
                    <a:pt x="475" y="297"/>
                  </a:cubicBezTo>
                  <a:cubicBezTo>
                    <a:pt x="468" y="278"/>
                    <a:pt x="474" y="254"/>
                    <a:pt x="498" y="237"/>
                  </a:cubicBezTo>
                  <a:cubicBezTo>
                    <a:pt x="500" y="236"/>
                    <a:pt x="502" y="235"/>
                    <a:pt x="505" y="234"/>
                  </a:cubicBezTo>
                  <a:cubicBezTo>
                    <a:pt x="518" y="228"/>
                    <a:pt x="536" y="230"/>
                    <a:pt x="543" y="240"/>
                  </a:cubicBezTo>
                  <a:cubicBezTo>
                    <a:pt x="549" y="249"/>
                    <a:pt x="550" y="262"/>
                    <a:pt x="540" y="268"/>
                  </a:cubicBezTo>
                  <a:cubicBezTo>
                    <a:pt x="527" y="274"/>
                    <a:pt x="525" y="257"/>
                    <a:pt x="537" y="251"/>
                  </a:cubicBezTo>
                  <a:cubicBezTo>
                    <a:pt x="533" y="248"/>
                    <a:pt x="522" y="246"/>
                    <a:pt x="516" y="251"/>
                  </a:cubicBezTo>
                  <a:cubicBezTo>
                    <a:pt x="511" y="255"/>
                    <a:pt x="508" y="264"/>
                    <a:pt x="516" y="273"/>
                  </a:cubicBezTo>
                  <a:cubicBezTo>
                    <a:pt x="530" y="289"/>
                    <a:pt x="551" y="271"/>
                    <a:pt x="552" y="257"/>
                  </a:cubicBezTo>
                  <a:cubicBezTo>
                    <a:pt x="553" y="227"/>
                    <a:pt x="519" y="219"/>
                    <a:pt x="500" y="231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481" y="239"/>
                    <a:pt x="468" y="262"/>
                    <a:pt x="468" y="283"/>
                  </a:cubicBezTo>
                  <a:close/>
                  <a:moveTo>
                    <a:pt x="147" y="67"/>
                  </a:moveTo>
                  <a:cubicBezTo>
                    <a:pt x="118" y="62"/>
                    <a:pt x="86" y="69"/>
                    <a:pt x="55" y="95"/>
                  </a:cubicBezTo>
                  <a:cubicBezTo>
                    <a:pt x="43" y="59"/>
                    <a:pt x="56" y="19"/>
                    <a:pt x="87" y="14"/>
                  </a:cubicBezTo>
                  <a:cubicBezTo>
                    <a:pt x="120" y="8"/>
                    <a:pt x="141" y="39"/>
                    <a:pt x="147" y="67"/>
                  </a:cubicBezTo>
                  <a:close/>
                  <a:moveTo>
                    <a:pt x="149" y="79"/>
                  </a:moveTo>
                  <a:cubicBezTo>
                    <a:pt x="151" y="94"/>
                    <a:pt x="151" y="110"/>
                    <a:pt x="140" y="118"/>
                  </a:cubicBezTo>
                  <a:cubicBezTo>
                    <a:pt x="134" y="123"/>
                    <a:pt x="124" y="126"/>
                    <a:pt x="107" y="118"/>
                  </a:cubicBezTo>
                  <a:cubicBezTo>
                    <a:pt x="115" y="126"/>
                    <a:pt x="130" y="126"/>
                    <a:pt x="137" y="124"/>
                  </a:cubicBezTo>
                  <a:cubicBezTo>
                    <a:pt x="152" y="118"/>
                    <a:pt x="156" y="99"/>
                    <a:pt x="154" y="81"/>
                  </a:cubicBezTo>
                  <a:cubicBezTo>
                    <a:pt x="221" y="100"/>
                    <a:pt x="263" y="189"/>
                    <a:pt x="192" y="215"/>
                  </a:cubicBezTo>
                  <a:cubicBezTo>
                    <a:pt x="123" y="240"/>
                    <a:pt x="77" y="176"/>
                    <a:pt x="58" y="108"/>
                  </a:cubicBezTo>
                  <a:cubicBezTo>
                    <a:pt x="88" y="79"/>
                    <a:pt x="120" y="73"/>
                    <a:pt x="149" y="79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21"/>
            <p:cNvSpPr/>
            <p:nvPr/>
          </p:nvSpPr>
          <p:spPr>
            <a:xfrm>
              <a:off x="6702840" y="1242360"/>
              <a:ext cx="494280" cy="88488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884880"/>
                <a:gd name="textAreaBottom" fmla="*/ 885240 h 884880"/>
              </a:gdLst>
              <a:ahLst/>
              <a:rect l="textAreaLeft" t="textAreaTop" r="textAreaRight" b="textAreaBottom"/>
              <a:pathLst>
                <a:path w="151" h="269">
                  <a:moveTo>
                    <a:pt x="60" y="269"/>
                  </a:moveTo>
                  <a:cubicBezTo>
                    <a:pt x="68" y="265"/>
                    <a:pt x="72" y="248"/>
                    <a:pt x="80" y="243"/>
                  </a:cubicBezTo>
                  <a:cubicBezTo>
                    <a:pt x="123" y="214"/>
                    <a:pt x="151" y="162"/>
                    <a:pt x="147" y="121"/>
                  </a:cubicBezTo>
                  <a:cubicBezTo>
                    <a:pt x="143" y="77"/>
                    <a:pt x="129" y="48"/>
                    <a:pt x="102" y="24"/>
                  </a:cubicBezTo>
                  <a:cubicBezTo>
                    <a:pt x="75" y="0"/>
                    <a:pt x="38" y="0"/>
                    <a:pt x="23" y="7"/>
                  </a:cubicBezTo>
                  <a:cubicBezTo>
                    <a:pt x="12" y="12"/>
                    <a:pt x="0" y="24"/>
                    <a:pt x="9" y="35"/>
                  </a:cubicBezTo>
                  <a:cubicBezTo>
                    <a:pt x="19" y="47"/>
                    <a:pt x="31" y="37"/>
                    <a:pt x="36" y="32"/>
                  </a:cubicBezTo>
                  <a:cubicBezTo>
                    <a:pt x="41" y="26"/>
                    <a:pt x="53" y="18"/>
                    <a:pt x="73" y="21"/>
                  </a:cubicBezTo>
                  <a:cubicBezTo>
                    <a:pt x="91" y="24"/>
                    <a:pt x="127" y="55"/>
                    <a:pt x="136" y="91"/>
                  </a:cubicBezTo>
                  <a:cubicBezTo>
                    <a:pt x="136" y="91"/>
                    <a:pt x="136" y="92"/>
                    <a:pt x="136" y="93"/>
                  </a:cubicBezTo>
                  <a:cubicBezTo>
                    <a:pt x="134" y="87"/>
                    <a:pt x="129" y="71"/>
                    <a:pt x="120" y="62"/>
                  </a:cubicBezTo>
                  <a:cubicBezTo>
                    <a:pt x="109" y="51"/>
                    <a:pt x="90" y="39"/>
                    <a:pt x="69" y="53"/>
                  </a:cubicBezTo>
                  <a:cubicBezTo>
                    <a:pt x="49" y="66"/>
                    <a:pt x="56" y="83"/>
                    <a:pt x="58" y="85"/>
                  </a:cubicBezTo>
                  <a:cubicBezTo>
                    <a:pt x="60" y="88"/>
                    <a:pt x="70" y="93"/>
                    <a:pt x="75" y="78"/>
                  </a:cubicBezTo>
                  <a:cubicBezTo>
                    <a:pt x="80" y="63"/>
                    <a:pt x="87" y="57"/>
                    <a:pt x="97" y="57"/>
                  </a:cubicBezTo>
                  <a:cubicBezTo>
                    <a:pt x="107" y="56"/>
                    <a:pt x="117" y="62"/>
                    <a:pt x="123" y="69"/>
                  </a:cubicBezTo>
                  <a:cubicBezTo>
                    <a:pt x="128" y="75"/>
                    <a:pt x="135" y="91"/>
                    <a:pt x="136" y="94"/>
                  </a:cubicBezTo>
                  <a:cubicBezTo>
                    <a:pt x="143" y="122"/>
                    <a:pt x="143" y="143"/>
                    <a:pt x="135" y="165"/>
                  </a:cubicBezTo>
                  <a:cubicBezTo>
                    <a:pt x="137" y="161"/>
                    <a:pt x="138" y="155"/>
                    <a:pt x="139" y="148"/>
                  </a:cubicBezTo>
                  <a:cubicBezTo>
                    <a:pt x="142" y="127"/>
                    <a:pt x="135" y="104"/>
                    <a:pt x="119" y="97"/>
                  </a:cubicBezTo>
                  <a:cubicBezTo>
                    <a:pt x="101" y="89"/>
                    <a:pt x="95" y="98"/>
                    <a:pt x="93" y="107"/>
                  </a:cubicBezTo>
                  <a:cubicBezTo>
                    <a:pt x="92" y="115"/>
                    <a:pt x="100" y="119"/>
                    <a:pt x="104" y="116"/>
                  </a:cubicBezTo>
                  <a:cubicBezTo>
                    <a:pt x="107" y="114"/>
                    <a:pt x="108" y="109"/>
                    <a:pt x="108" y="109"/>
                  </a:cubicBezTo>
                  <a:cubicBezTo>
                    <a:pt x="108" y="109"/>
                    <a:pt x="110" y="100"/>
                    <a:pt x="120" y="105"/>
                  </a:cubicBezTo>
                  <a:cubicBezTo>
                    <a:pt x="131" y="109"/>
                    <a:pt x="136" y="123"/>
                    <a:pt x="137" y="139"/>
                  </a:cubicBezTo>
                  <a:cubicBezTo>
                    <a:pt x="138" y="151"/>
                    <a:pt x="135" y="165"/>
                    <a:pt x="131" y="176"/>
                  </a:cubicBezTo>
                  <a:cubicBezTo>
                    <a:pt x="125" y="188"/>
                    <a:pt x="117" y="202"/>
                    <a:pt x="105" y="217"/>
                  </a:cubicBezTo>
                  <a:lnTo>
                    <a:pt x="60" y="26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22"/>
            <p:cNvSpPr/>
            <p:nvPr/>
          </p:nvSpPr>
          <p:spPr>
            <a:xfrm>
              <a:off x="6777720" y="1574640"/>
              <a:ext cx="397080" cy="4971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97160"/>
                <a:gd name="textAreaBottom" fmla="*/ 497160 h 497160"/>
              </a:gdLst>
              <a:ahLst/>
              <a:rect l="textAreaLeft" t="textAreaTop" r="textAreaRight" b="textAreaBottom"/>
              <a:pathLst>
                <a:path w="121" h="151">
                  <a:moveTo>
                    <a:pt x="55" y="145"/>
                  </a:moveTo>
                  <a:cubicBezTo>
                    <a:pt x="59" y="136"/>
                    <a:pt x="62" y="126"/>
                    <a:pt x="68" y="118"/>
                  </a:cubicBezTo>
                  <a:cubicBezTo>
                    <a:pt x="83" y="101"/>
                    <a:pt x="94" y="86"/>
                    <a:pt x="88" y="57"/>
                  </a:cubicBezTo>
                  <a:cubicBezTo>
                    <a:pt x="81" y="30"/>
                    <a:pt x="43" y="0"/>
                    <a:pt x="13" y="28"/>
                  </a:cubicBezTo>
                  <a:cubicBezTo>
                    <a:pt x="0" y="42"/>
                    <a:pt x="16" y="46"/>
                    <a:pt x="22" y="58"/>
                  </a:cubicBezTo>
                  <a:cubicBezTo>
                    <a:pt x="29" y="72"/>
                    <a:pt x="17" y="84"/>
                    <a:pt x="11" y="91"/>
                  </a:cubicBezTo>
                  <a:cubicBezTo>
                    <a:pt x="23" y="75"/>
                    <a:pt x="5" y="63"/>
                    <a:pt x="3" y="50"/>
                  </a:cubicBezTo>
                  <a:cubicBezTo>
                    <a:pt x="1" y="39"/>
                    <a:pt x="8" y="28"/>
                    <a:pt x="15" y="22"/>
                  </a:cubicBezTo>
                  <a:cubicBezTo>
                    <a:pt x="36" y="2"/>
                    <a:pt x="72" y="18"/>
                    <a:pt x="84" y="41"/>
                  </a:cubicBezTo>
                  <a:cubicBezTo>
                    <a:pt x="121" y="106"/>
                    <a:pt x="53" y="151"/>
                    <a:pt x="55" y="14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23"/>
            <p:cNvSpPr/>
            <p:nvPr/>
          </p:nvSpPr>
          <p:spPr>
            <a:xfrm>
              <a:off x="7144560" y="1436040"/>
              <a:ext cx="462240" cy="2919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141" h="89">
                  <a:moveTo>
                    <a:pt x="19" y="35"/>
                  </a:moveTo>
                  <a:cubicBezTo>
                    <a:pt x="0" y="60"/>
                    <a:pt x="8" y="89"/>
                    <a:pt x="8" y="89"/>
                  </a:cubicBezTo>
                  <a:cubicBezTo>
                    <a:pt x="10" y="88"/>
                    <a:pt x="11" y="82"/>
                    <a:pt x="11" y="82"/>
                  </a:cubicBezTo>
                  <a:cubicBezTo>
                    <a:pt x="11" y="82"/>
                    <a:pt x="7" y="58"/>
                    <a:pt x="21" y="42"/>
                  </a:cubicBezTo>
                  <a:cubicBezTo>
                    <a:pt x="44" y="14"/>
                    <a:pt x="75" y="10"/>
                    <a:pt x="95" y="19"/>
                  </a:cubicBezTo>
                  <a:cubicBezTo>
                    <a:pt x="115" y="29"/>
                    <a:pt x="116" y="40"/>
                    <a:pt x="116" y="40"/>
                  </a:cubicBezTo>
                  <a:cubicBezTo>
                    <a:pt x="123" y="26"/>
                    <a:pt x="114" y="20"/>
                    <a:pt x="114" y="20"/>
                  </a:cubicBezTo>
                  <a:cubicBezTo>
                    <a:pt x="114" y="20"/>
                    <a:pt x="134" y="32"/>
                    <a:pt x="136" y="49"/>
                  </a:cubicBezTo>
                  <a:cubicBezTo>
                    <a:pt x="138" y="49"/>
                    <a:pt x="140" y="48"/>
                    <a:pt x="141" y="47"/>
                  </a:cubicBezTo>
                  <a:cubicBezTo>
                    <a:pt x="140" y="35"/>
                    <a:pt x="132" y="22"/>
                    <a:pt x="116" y="14"/>
                  </a:cubicBezTo>
                  <a:cubicBezTo>
                    <a:pt x="88" y="0"/>
                    <a:pt x="43" y="5"/>
                    <a:pt x="19" y="3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24"/>
            <p:cNvSpPr/>
            <p:nvPr/>
          </p:nvSpPr>
          <p:spPr>
            <a:xfrm>
              <a:off x="7616520" y="1761480"/>
              <a:ext cx="861120" cy="695160"/>
            </a:xfrm>
            <a:custGeom>
              <a:avLst/>
              <a:gdLst>
                <a:gd name="textAreaLeft" fmla="*/ 0 w 861120"/>
                <a:gd name="textAreaRight" fmla="*/ 861480 w 8611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63" h="211">
                  <a:moveTo>
                    <a:pt x="0" y="210"/>
                  </a:moveTo>
                  <a:cubicBezTo>
                    <a:pt x="107" y="209"/>
                    <a:pt x="263" y="39"/>
                    <a:pt x="104" y="0"/>
                  </a:cubicBezTo>
                  <a:cubicBezTo>
                    <a:pt x="209" y="9"/>
                    <a:pt x="204" y="136"/>
                    <a:pt x="73" y="211"/>
                  </a:cubicBezTo>
                  <a:lnTo>
                    <a:pt x="0" y="210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25"/>
            <p:cNvSpPr/>
            <p:nvPr/>
          </p:nvSpPr>
          <p:spPr>
            <a:xfrm>
              <a:off x="7925400" y="1337760"/>
              <a:ext cx="775080" cy="1092600"/>
            </a:xfrm>
            <a:custGeom>
              <a:avLst/>
              <a:gdLst>
                <a:gd name="textAreaLeft" fmla="*/ 0 w 775080"/>
                <a:gd name="textAreaRight" fmla="*/ 775440 w 775080"/>
                <a:gd name="textAreaTop" fmla="*/ 0 h 1092600"/>
                <a:gd name="textAreaBottom" fmla="*/ 1092960 h 1092600"/>
              </a:gdLst>
              <a:ahLst/>
              <a:rect l="textAreaLeft" t="textAreaTop" r="textAreaRight" b="textAreaBottom"/>
              <a:pathLst>
                <a:path w="237" h="332">
                  <a:moveTo>
                    <a:pt x="0" y="330"/>
                  </a:moveTo>
                  <a:cubicBezTo>
                    <a:pt x="7" y="330"/>
                    <a:pt x="20" y="332"/>
                    <a:pt x="24" y="330"/>
                  </a:cubicBezTo>
                  <a:cubicBezTo>
                    <a:pt x="237" y="216"/>
                    <a:pt x="169" y="0"/>
                    <a:pt x="59" y="120"/>
                  </a:cubicBezTo>
                  <a:cubicBezTo>
                    <a:pt x="198" y="6"/>
                    <a:pt x="195" y="245"/>
                    <a:pt x="0" y="33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26"/>
            <p:cNvSpPr/>
            <p:nvPr/>
          </p:nvSpPr>
          <p:spPr>
            <a:xfrm>
              <a:off x="8105400" y="2009520"/>
              <a:ext cx="343080" cy="4237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05" h="129">
                  <a:moveTo>
                    <a:pt x="0" y="129"/>
                  </a:moveTo>
                  <a:cubicBezTo>
                    <a:pt x="66" y="86"/>
                    <a:pt x="98" y="25"/>
                    <a:pt x="105" y="0"/>
                  </a:cubicBezTo>
                  <a:cubicBezTo>
                    <a:pt x="99" y="34"/>
                    <a:pt x="63" y="95"/>
                    <a:pt x="10" y="129"/>
                  </a:cubicBezTo>
                  <a:lnTo>
                    <a:pt x="0" y="12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7"/>
            <p:cNvSpPr/>
            <p:nvPr/>
          </p:nvSpPr>
          <p:spPr>
            <a:xfrm>
              <a:off x="6928560" y="1906920"/>
              <a:ext cx="701640" cy="81576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14" h="248">
                  <a:moveTo>
                    <a:pt x="56" y="222"/>
                  </a:moveTo>
                  <a:cubicBezTo>
                    <a:pt x="53" y="226"/>
                    <a:pt x="49" y="229"/>
                    <a:pt x="44" y="232"/>
                  </a:cubicBezTo>
                  <a:cubicBezTo>
                    <a:pt x="40" y="235"/>
                    <a:pt x="35" y="238"/>
                    <a:pt x="30" y="241"/>
                  </a:cubicBezTo>
                  <a:cubicBezTo>
                    <a:pt x="26" y="243"/>
                    <a:pt x="21" y="245"/>
                    <a:pt x="16" y="246"/>
                  </a:cubicBezTo>
                  <a:cubicBezTo>
                    <a:pt x="11" y="248"/>
                    <a:pt x="6" y="248"/>
                    <a:pt x="0" y="248"/>
                  </a:cubicBezTo>
                  <a:cubicBezTo>
                    <a:pt x="11" y="246"/>
                    <a:pt x="19" y="242"/>
                    <a:pt x="27" y="238"/>
                  </a:cubicBezTo>
                  <a:cubicBezTo>
                    <a:pt x="35" y="233"/>
                    <a:pt x="42" y="228"/>
                    <a:pt x="49" y="223"/>
                  </a:cubicBezTo>
                  <a:cubicBezTo>
                    <a:pt x="58" y="214"/>
                    <a:pt x="66" y="205"/>
                    <a:pt x="73" y="194"/>
                  </a:cubicBezTo>
                  <a:cubicBezTo>
                    <a:pt x="79" y="183"/>
                    <a:pt x="85" y="172"/>
                    <a:pt x="90" y="160"/>
                  </a:cubicBezTo>
                  <a:cubicBezTo>
                    <a:pt x="96" y="148"/>
                    <a:pt x="100" y="135"/>
                    <a:pt x="105" y="123"/>
                  </a:cubicBezTo>
                  <a:cubicBezTo>
                    <a:pt x="110" y="110"/>
                    <a:pt x="114" y="98"/>
                    <a:pt x="119" y="86"/>
                  </a:cubicBezTo>
                  <a:cubicBezTo>
                    <a:pt x="125" y="74"/>
                    <a:pt x="130" y="63"/>
                    <a:pt x="136" y="53"/>
                  </a:cubicBezTo>
                  <a:cubicBezTo>
                    <a:pt x="143" y="42"/>
                    <a:pt x="150" y="33"/>
                    <a:pt x="159" y="25"/>
                  </a:cubicBezTo>
                  <a:cubicBezTo>
                    <a:pt x="170" y="16"/>
                    <a:pt x="180" y="9"/>
                    <a:pt x="190" y="5"/>
                  </a:cubicBezTo>
                  <a:cubicBezTo>
                    <a:pt x="200" y="1"/>
                    <a:pt x="208" y="0"/>
                    <a:pt x="214" y="1"/>
                  </a:cubicBezTo>
                  <a:cubicBezTo>
                    <a:pt x="208" y="1"/>
                    <a:pt x="201" y="3"/>
                    <a:pt x="193" y="6"/>
                  </a:cubicBezTo>
                  <a:cubicBezTo>
                    <a:pt x="186" y="8"/>
                    <a:pt x="179" y="12"/>
                    <a:pt x="173" y="18"/>
                  </a:cubicBezTo>
                  <a:cubicBezTo>
                    <a:pt x="168" y="22"/>
                    <a:pt x="163" y="29"/>
                    <a:pt x="159" y="38"/>
                  </a:cubicBezTo>
                  <a:cubicBezTo>
                    <a:pt x="155" y="46"/>
                    <a:pt x="150" y="56"/>
                    <a:pt x="146" y="68"/>
                  </a:cubicBezTo>
                  <a:cubicBezTo>
                    <a:pt x="141" y="79"/>
                    <a:pt x="137" y="92"/>
                    <a:pt x="131" y="105"/>
                  </a:cubicBezTo>
                  <a:cubicBezTo>
                    <a:pt x="126" y="118"/>
                    <a:pt x="120" y="132"/>
                    <a:pt x="113" y="146"/>
                  </a:cubicBezTo>
                  <a:cubicBezTo>
                    <a:pt x="106" y="159"/>
                    <a:pt x="98" y="173"/>
                    <a:pt x="89" y="186"/>
                  </a:cubicBezTo>
                  <a:cubicBezTo>
                    <a:pt x="80" y="199"/>
                    <a:pt x="69" y="211"/>
                    <a:pt x="56" y="222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8"/>
            <p:cNvSpPr/>
            <p:nvPr/>
          </p:nvSpPr>
          <p:spPr>
            <a:xfrm>
              <a:off x="6794280" y="1914120"/>
              <a:ext cx="671400" cy="6742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6" y="194"/>
                  </a:moveTo>
                  <a:cubicBezTo>
                    <a:pt x="10" y="199"/>
                    <a:pt x="15" y="202"/>
                    <a:pt x="20" y="204"/>
                  </a:cubicBezTo>
                  <a:cubicBezTo>
                    <a:pt x="26" y="205"/>
                    <a:pt x="32" y="205"/>
                    <a:pt x="38" y="204"/>
                  </a:cubicBezTo>
                  <a:cubicBezTo>
                    <a:pt x="44" y="203"/>
                    <a:pt x="50" y="201"/>
                    <a:pt x="56" y="199"/>
                  </a:cubicBezTo>
                  <a:cubicBezTo>
                    <a:pt x="62" y="196"/>
                    <a:pt x="67" y="193"/>
                    <a:pt x="71" y="189"/>
                  </a:cubicBezTo>
                  <a:cubicBezTo>
                    <a:pt x="80" y="182"/>
                    <a:pt x="89" y="173"/>
                    <a:pt x="96" y="163"/>
                  </a:cubicBezTo>
                  <a:cubicBezTo>
                    <a:pt x="102" y="153"/>
                    <a:pt x="109" y="143"/>
                    <a:pt x="114" y="132"/>
                  </a:cubicBezTo>
                  <a:cubicBezTo>
                    <a:pt x="120" y="121"/>
                    <a:pt x="125" y="109"/>
                    <a:pt x="130" y="98"/>
                  </a:cubicBezTo>
                  <a:cubicBezTo>
                    <a:pt x="135" y="87"/>
                    <a:pt x="140" y="75"/>
                    <a:pt x="145" y="65"/>
                  </a:cubicBezTo>
                  <a:cubicBezTo>
                    <a:pt x="150" y="54"/>
                    <a:pt x="156" y="44"/>
                    <a:pt x="162" y="35"/>
                  </a:cubicBezTo>
                  <a:cubicBezTo>
                    <a:pt x="168" y="26"/>
                    <a:pt x="175" y="18"/>
                    <a:pt x="183" y="11"/>
                  </a:cubicBezTo>
                  <a:cubicBezTo>
                    <a:pt x="186" y="8"/>
                    <a:pt x="190" y="6"/>
                    <a:pt x="194" y="4"/>
                  </a:cubicBezTo>
                  <a:cubicBezTo>
                    <a:pt x="198" y="3"/>
                    <a:pt x="202" y="1"/>
                    <a:pt x="205" y="0"/>
                  </a:cubicBezTo>
                  <a:cubicBezTo>
                    <a:pt x="197" y="0"/>
                    <a:pt x="190" y="2"/>
                    <a:pt x="183" y="6"/>
                  </a:cubicBezTo>
                  <a:cubicBezTo>
                    <a:pt x="176" y="10"/>
                    <a:pt x="170" y="14"/>
                    <a:pt x="164" y="19"/>
                  </a:cubicBezTo>
                  <a:cubicBezTo>
                    <a:pt x="154" y="27"/>
                    <a:pt x="145" y="36"/>
                    <a:pt x="138" y="46"/>
                  </a:cubicBezTo>
                  <a:cubicBezTo>
                    <a:pt x="132" y="56"/>
                    <a:pt x="126" y="66"/>
                    <a:pt x="120" y="77"/>
                  </a:cubicBezTo>
                  <a:cubicBezTo>
                    <a:pt x="115" y="87"/>
                    <a:pt x="110" y="98"/>
                    <a:pt x="106" y="109"/>
                  </a:cubicBezTo>
                  <a:cubicBezTo>
                    <a:pt x="102" y="120"/>
                    <a:pt x="98" y="130"/>
                    <a:pt x="93" y="140"/>
                  </a:cubicBezTo>
                  <a:cubicBezTo>
                    <a:pt x="89" y="150"/>
                    <a:pt x="84" y="159"/>
                    <a:pt x="78" y="168"/>
                  </a:cubicBezTo>
                  <a:cubicBezTo>
                    <a:pt x="73" y="177"/>
                    <a:pt x="67" y="184"/>
                    <a:pt x="59" y="190"/>
                  </a:cubicBezTo>
                  <a:cubicBezTo>
                    <a:pt x="56" y="193"/>
                    <a:pt x="52" y="195"/>
                    <a:pt x="48" y="197"/>
                  </a:cubicBezTo>
                  <a:cubicBezTo>
                    <a:pt x="43" y="199"/>
                    <a:pt x="39" y="200"/>
                    <a:pt x="35" y="201"/>
                  </a:cubicBezTo>
                  <a:cubicBezTo>
                    <a:pt x="30" y="202"/>
                    <a:pt x="26" y="202"/>
                    <a:pt x="22" y="201"/>
                  </a:cubicBezTo>
                  <a:cubicBezTo>
                    <a:pt x="18" y="200"/>
                    <a:pt x="14" y="197"/>
                    <a:pt x="11" y="194"/>
                  </a:cubicBezTo>
                  <a:cubicBezTo>
                    <a:pt x="9" y="191"/>
                    <a:pt x="8" y="187"/>
                    <a:pt x="8" y="181"/>
                  </a:cubicBezTo>
                  <a:cubicBezTo>
                    <a:pt x="9" y="176"/>
                    <a:pt x="11" y="170"/>
                    <a:pt x="14" y="164"/>
                  </a:cubicBezTo>
                  <a:cubicBezTo>
                    <a:pt x="17" y="158"/>
                    <a:pt x="21" y="152"/>
                    <a:pt x="26" y="145"/>
                  </a:cubicBezTo>
                  <a:cubicBezTo>
                    <a:pt x="31" y="139"/>
                    <a:pt x="37" y="133"/>
                    <a:pt x="43" y="127"/>
                  </a:cubicBezTo>
                  <a:cubicBezTo>
                    <a:pt x="51" y="122"/>
                    <a:pt x="58" y="118"/>
                    <a:pt x="66" y="118"/>
                  </a:cubicBezTo>
                  <a:cubicBezTo>
                    <a:pt x="74" y="117"/>
                    <a:pt x="81" y="117"/>
                    <a:pt x="88" y="118"/>
                  </a:cubicBezTo>
                  <a:cubicBezTo>
                    <a:pt x="83" y="115"/>
                    <a:pt x="78" y="114"/>
                    <a:pt x="72" y="113"/>
                  </a:cubicBezTo>
                  <a:cubicBezTo>
                    <a:pt x="66" y="113"/>
                    <a:pt x="61" y="113"/>
                    <a:pt x="55" y="114"/>
                  </a:cubicBezTo>
                  <a:cubicBezTo>
                    <a:pt x="50" y="115"/>
                    <a:pt x="45" y="117"/>
                    <a:pt x="40" y="120"/>
                  </a:cubicBezTo>
                  <a:cubicBezTo>
                    <a:pt x="35" y="122"/>
                    <a:pt x="31" y="125"/>
                    <a:pt x="27" y="128"/>
                  </a:cubicBezTo>
                  <a:cubicBezTo>
                    <a:pt x="22" y="132"/>
                    <a:pt x="17" y="137"/>
                    <a:pt x="13" y="143"/>
                  </a:cubicBezTo>
                  <a:cubicBezTo>
                    <a:pt x="9" y="149"/>
                    <a:pt x="5" y="155"/>
                    <a:pt x="3" y="161"/>
                  </a:cubicBezTo>
                  <a:cubicBezTo>
                    <a:pt x="1" y="167"/>
                    <a:pt x="0" y="173"/>
                    <a:pt x="0" y="179"/>
                  </a:cubicBezTo>
                  <a:cubicBezTo>
                    <a:pt x="0" y="185"/>
                    <a:pt x="2" y="190"/>
                    <a:pt x="6" y="194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9"/>
            <p:cNvSpPr/>
            <p:nvPr/>
          </p:nvSpPr>
          <p:spPr>
            <a:xfrm>
              <a:off x="5923080" y="1152360"/>
              <a:ext cx="352800" cy="31716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08" h="96">
                  <a:moveTo>
                    <a:pt x="55" y="96"/>
                  </a:moveTo>
                  <a:cubicBezTo>
                    <a:pt x="55" y="90"/>
                    <a:pt x="56" y="84"/>
                    <a:pt x="56" y="77"/>
                  </a:cubicBezTo>
                  <a:cubicBezTo>
                    <a:pt x="56" y="77"/>
                    <a:pt x="59" y="32"/>
                    <a:pt x="108" y="0"/>
                  </a:cubicBezTo>
                  <a:cubicBezTo>
                    <a:pt x="94" y="0"/>
                    <a:pt x="80" y="5"/>
                    <a:pt x="69" y="13"/>
                  </a:cubicBezTo>
                  <a:cubicBezTo>
                    <a:pt x="65" y="8"/>
                    <a:pt x="58" y="2"/>
                    <a:pt x="54" y="2"/>
                  </a:cubicBezTo>
                  <a:cubicBezTo>
                    <a:pt x="50" y="2"/>
                    <a:pt x="43" y="8"/>
                    <a:pt x="39" y="13"/>
                  </a:cubicBezTo>
                  <a:cubicBezTo>
                    <a:pt x="28" y="5"/>
                    <a:pt x="14" y="0"/>
                    <a:pt x="0" y="0"/>
                  </a:cubicBezTo>
                  <a:cubicBezTo>
                    <a:pt x="49" y="32"/>
                    <a:pt x="52" y="77"/>
                    <a:pt x="52" y="77"/>
                  </a:cubicBezTo>
                  <a:cubicBezTo>
                    <a:pt x="52" y="84"/>
                    <a:pt x="53" y="90"/>
                    <a:pt x="53" y="96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Freeform 5"/>
          <p:cNvSpPr/>
          <p:nvPr/>
        </p:nvSpPr>
        <p:spPr>
          <a:xfrm rot="10800000">
            <a:off x="10389960" y="348840"/>
            <a:ext cx="1423800" cy="145728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19" h="119">
                <a:moveTo>
                  <a:pt x="64" y="52"/>
                </a:moveTo>
                <a:cubicBezTo>
                  <a:pt x="65" y="51"/>
                  <a:pt x="66" y="50"/>
                  <a:pt x="67" y="49"/>
                </a:cubicBezTo>
                <a:cubicBezTo>
                  <a:pt x="69" y="49"/>
                  <a:pt x="70" y="48"/>
                  <a:pt x="70" y="49"/>
                </a:cubicBezTo>
                <a:cubicBezTo>
                  <a:pt x="71" y="50"/>
                  <a:pt x="71" y="51"/>
                  <a:pt x="70" y="52"/>
                </a:cubicBezTo>
                <a:cubicBezTo>
                  <a:pt x="69" y="53"/>
                  <a:pt x="68" y="55"/>
                  <a:pt x="67" y="56"/>
                </a:cubicBezTo>
                <a:cubicBezTo>
                  <a:pt x="64" y="59"/>
                  <a:pt x="61" y="61"/>
                  <a:pt x="57" y="62"/>
                </a:cubicBezTo>
                <a:cubicBezTo>
                  <a:pt x="58" y="59"/>
                  <a:pt x="60" y="55"/>
                  <a:pt x="64" y="52"/>
                </a:cubicBezTo>
                <a:moveTo>
                  <a:pt x="69" y="57"/>
                </a:moveTo>
                <a:cubicBezTo>
                  <a:pt x="71" y="54"/>
                  <a:pt x="73" y="52"/>
                  <a:pt x="73" y="50"/>
                </a:cubicBezTo>
                <a:cubicBezTo>
                  <a:pt x="74" y="48"/>
                  <a:pt x="74" y="47"/>
                  <a:pt x="73" y="46"/>
                </a:cubicBezTo>
                <a:cubicBezTo>
                  <a:pt x="72" y="45"/>
                  <a:pt x="71" y="45"/>
                  <a:pt x="69" y="46"/>
                </a:cubicBezTo>
                <a:cubicBezTo>
                  <a:pt x="67" y="46"/>
                  <a:pt x="65" y="48"/>
                  <a:pt x="63" y="50"/>
                </a:cubicBezTo>
                <a:cubicBezTo>
                  <a:pt x="59" y="54"/>
                  <a:pt x="56" y="58"/>
                  <a:pt x="54" y="63"/>
                </a:cubicBezTo>
                <a:cubicBezTo>
                  <a:pt x="51" y="63"/>
                  <a:pt x="48" y="63"/>
                  <a:pt x="45" y="63"/>
                </a:cubicBezTo>
                <a:cubicBezTo>
                  <a:pt x="42" y="62"/>
                  <a:pt x="38" y="61"/>
                  <a:pt x="36" y="60"/>
                </a:cubicBezTo>
                <a:cubicBezTo>
                  <a:pt x="33" y="59"/>
                  <a:pt x="30" y="58"/>
                  <a:pt x="27" y="56"/>
                </a:cubicBezTo>
                <a:cubicBezTo>
                  <a:pt x="25" y="55"/>
                  <a:pt x="23" y="53"/>
                  <a:pt x="21" y="52"/>
                </a:cubicBezTo>
                <a:cubicBezTo>
                  <a:pt x="22" y="50"/>
                  <a:pt x="23" y="48"/>
                  <a:pt x="24" y="47"/>
                </a:cubicBezTo>
                <a:cubicBezTo>
                  <a:pt x="25" y="45"/>
                  <a:pt x="27" y="43"/>
                  <a:pt x="28" y="42"/>
                </a:cubicBezTo>
                <a:cubicBezTo>
                  <a:pt x="31" y="39"/>
                  <a:pt x="33" y="37"/>
                  <a:pt x="36" y="36"/>
                </a:cubicBezTo>
                <a:cubicBezTo>
                  <a:pt x="38" y="35"/>
                  <a:pt x="41" y="34"/>
                  <a:pt x="43" y="33"/>
                </a:cubicBezTo>
                <a:cubicBezTo>
                  <a:pt x="45" y="33"/>
                  <a:pt x="47" y="33"/>
                  <a:pt x="49" y="34"/>
                </a:cubicBezTo>
                <a:cubicBezTo>
                  <a:pt x="50" y="34"/>
                  <a:pt x="52" y="35"/>
                  <a:pt x="53" y="36"/>
                </a:cubicBezTo>
                <a:cubicBezTo>
                  <a:pt x="54" y="37"/>
                  <a:pt x="55" y="38"/>
                  <a:pt x="55" y="40"/>
                </a:cubicBezTo>
                <a:cubicBezTo>
                  <a:pt x="56" y="41"/>
                  <a:pt x="55" y="43"/>
                  <a:pt x="55" y="46"/>
                </a:cubicBezTo>
                <a:cubicBezTo>
                  <a:pt x="55" y="47"/>
                  <a:pt x="55" y="47"/>
                  <a:pt x="55" y="47"/>
                </a:cubicBezTo>
                <a:cubicBezTo>
                  <a:pt x="56" y="47"/>
                  <a:pt x="57" y="47"/>
                  <a:pt x="57" y="46"/>
                </a:cubicBezTo>
                <a:cubicBezTo>
                  <a:pt x="58" y="44"/>
                  <a:pt x="59" y="41"/>
                  <a:pt x="58" y="38"/>
                </a:cubicBezTo>
                <a:cubicBezTo>
                  <a:pt x="58" y="36"/>
                  <a:pt x="57" y="34"/>
                  <a:pt x="56" y="32"/>
                </a:cubicBezTo>
                <a:cubicBezTo>
                  <a:pt x="54" y="31"/>
                  <a:pt x="53" y="30"/>
                  <a:pt x="51" y="30"/>
                </a:cubicBezTo>
                <a:cubicBezTo>
                  <a:pt x="49" y="29"/>
                  <a:pt x="46" y="29"/>
                  <a:pt x="44" y="30"/>
                </a:cubicBezTo>
                <a:cubicBezTo>
                  <a:pt x="41" y="30"/>
                  <a:pt x="38" y="31"/>
                  <a:pt x="35" y="33"/>
                </a:cubicBezTo>
                <a:cubicBezTo>
                  <a:pt x="32" y="34"/>
                  <a:pt x="29" y="37"/>
                  <a:pt x="26" y="40"/>
                </a:cubicBezTo>
                <a:cubicBezTo>
                  <a:pt x="25" y="41"/>
                  <a:pt x="23" y="43"/>
                  <a:pt x="22" y="44"/>
                </a:cubicBezTo>
                <a:cubicBezTo>
                  <a:pt x="21" y="46"/>
                  <a:pt x="19" y="48"/>
                  <a:pt x="18" y="50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6"/>
                  <a:pt x="13" y="44"/>
                  <a:pt x="11" y="41"/>
                </a:cubicBezTo>
                <a:cubicBezTo>
                  <a:pt x="9" y="38"/>
                  <a:pt x="7" y="34"/>
                  <a:pt x="6" y="31"/>
                </a:cubicBezTo>
                <a:cubicBezTo>
                  <a:pt x="5" y="27"/>
                  <a:pt x="5" y="23"/>
                  <a:pt x="6" y="19"/>
                </a:cubicBezTo>
                <a:cubicBezTo>
                  <a:pt x="6" y="15"/>
                  <a:pt x="8" y="12"/>
                  <a:pt x="12" y="8"/>
                </a:cubicBezTo>
                <a:cubicBezTo>
                  <a:pt x="13" y="7"/>
                  <a:pt x="15" y="6"/>
                  <a:pt x="16" y="5"/>
                </a:cubicBezTo>
                <a:cubicBezTo>
                  <a:pt x="18" y="4"/>
                  <a:pt x="19" y="4"/>
                  <a:pt x="21" y="4"/>
                </a:cubicBezTo>
                <a:cubicBezTo>
                  <a:pt x="22" y="4"/>
                  <a:pt x="23" y="5"/>
                  <a:pt x="24" y="5"/>
                </a:cubicBezTo>
                <a:cubicBezTo>
                  <a:pt x="25" y="6"/>
                  <a:pt x="26" y="6"/>
                  <a:pt x="27" y="7"/>
                </a:cubicBezTo>
                <a:cubicBezTo>
                  <a:pt x="29" y="9"/>
                  <a:pt x="30" y="11"/>
                  <a:pt x="30" y="15"/>
                </a:cubicBezTo>
                <a:cubicBezTo>
                  <a:pt x="31" y="18"/>
                  <a:pt x="30" y="22"/>
                  <a:pt x="29" y="25"/>
                </a:cubicBezTo>
                <a:cubicBezTo>
                  <a:pt x="29" y="26"/>
                  <a:pt x="29" y="27"/>
                  <a:pt x="30" y="27"/>
                </a:cubicBezTo>
                <a:cubicBezTo>
                  <a:pt x="30" y="27"/>
                  <a:pt x="31" y="27"/>
                  <a:pt x="32" y="26"/>
                </a:cubicBezTo>
                <a:cubicBezTo>
                  <a:pt x="34" y="20"/>
                  <a:pt x="35" y="16"/>
                  <a:pt x="34" y="12"/>
                </a:cubicBezTo>
                <a:cubicBezTo>
                  <a:pt x="33" y="8"/>
                  <a:pt x="32" y="5"/>
                  <a:pt x="30" y="4"/>
                </a:cubicBezTo>
                <a:cubicBezTo>
                  <a:pt x="29" y="3"/>
                  <a:pt x="28" y="2"/>
                  <a:pt x="27" y="1"/>
                </a:cubicBezTo>
                <a:cubicBezTo>
                  <a:pt x="25" y="1"/>
                  <a:pt x="24" y="0"/>
                  <a:pt x="22" y="0"/>
                </a:cubicBezTo>
                <a:cubicBezTo>
                  <a:pt x="20" y="0"/>
                  <a:pt x="18" y="1"/>
                  <a:pt x="16" y="2"/>
                </a:cubicBezTo>
                <a:cubicBezTo>
                  <a:pt x="14" y="3"/>
                  <a:pt x="12" y="4"/>
                  <a:pt x="10" y="6"/>
                </a:cubicBezTo>
                <a:cubicBezTo>
                  <a:pt x="6" y="10"/>
                  <a:pt x="3" y="15"/>
                  <a:pt x="2" y="20"/>
                </a:cubicBezTo>
                <a:cubicBezTo>
                  <a:pt x="0" y="25"/>
                  <a:pt x="0" y="29"/>
                  <a:pt x="1" y="34"/>
                </a:cubicBezTo>
                <a:cubicBezTo>
                  <a:pt x="2" y="38"/>
                  <a:pt x="3" y="42"/>
                  <a:pt x="5" y="45"/>
                </a:cubicBezTo>
                <a:cubicBezTo>
                  <a:pt x="7" y="49"/>
                  <a:pt x="10" y="52"/>
                  <a:pt x="12" y="55"/>
                </a:cubicBezTo>
                <a:cubicBezTo>
                  <a:pt x="14" y="57"/>
                  <a:pt x="14" y="57"/>
                  <a:pt x="14" y="57"/>
                </a:cubicBezTo>
                <a:cubicBezTo>
                  <a:pt x="11" y="64"/>
                  <a:pt x="9" y="72"/>
                  <a:pt x="9" y="80"/>
                </a:cubicBezTo>
                <a:cubicBezTo>
                  <a:pt x="9" y="88"/>
                  <a:pt x="12" y="95"/>
                  <a:pt x="18" y="101"/>
                </a:cubicBezTo>
                <a:cubicBezTo>
                  <a:pt x="24" y="107"/>
                  <a:pt x="31" y="110"/>
                  <a:pt x="39" y="110"/>
                </a:cubicBezTo>
                <a:cubicBezTo>
                  <a:pt x="47" y="110"/>
                  <a:pt x="55" y="108"/>
                  <a:pt x="62" y="105"/>
                </a:cubicBezTo>
                <a:cubicBezTo>
                  <a:pt x="65" y="107"/>
                  <a:pt x="65" y="107"/>
                  <a:pt x="65" y="107"/>
                </a:cubicBezTo>
                <a:cubicBezTo>
                  <a:pt x="67" y="110"/>
                  <a:pt x="70" y="112"/>
                  <a:pt x="74" y="114"/>
                </a:cubicBezTo>
                <a:cubicBezTo>
                  <a:pt x="77" y="116"/>
                  <a:pt x="81" y="118"/>
                  <a:pt x="86" y="118"/>
                </a:cubicBezTo>
                <a:cubicBezTo>
                  <a:pt x="90" y="119"/>
                  <a:pt x="95" y="119"/>
                  <a:pt x="99" y="118"/>
                </a:cubicBezTo>
                <a:cubicBezTo>
                  <a:pt x="104" y="116"/>
                  <a:pt x="109" y="113"/>
                  <a:pt x="113" y="109"/>
                </a:cubicBezTo>
                <a:cubicBezTo>
                  <a:pt x="115" y="107"/>
                  <a:pt x="117" y="105"/>
                  <a:pt x="117" y="103"/>
                </a:cubicBezTo>
                <a:cubicBezTo>
                  <a:pt x="118" y="101"/>
                  <a:pt x="119" y="99"/>
                  <a:pt x="119" y="97"/>
                </a:cubicBezTo>
                <a:cubicBezTo>
                  <a:pt x="119" y="95"/>
                  <a:pt x="119" y="94"/>
                  <a:pt x="118" y="93"/>
                </a:cubicBezTo>
                <a:cubicBezTo>
                  <a:pt x="117" y="91"/>
                  <a:pt x="116" y="90"/>
                  <a:pt x="116" y="89"/>
                </a:cubicBezTo>
                <a:cubicBezTo>
                  <a:pt x="114" y="87"/>
                  <a:pt x="111" y="86"/>
                  <a:pt x="107" y="85"/>
                </a:cubicBezTo>
                <a:cubicBezTo>
                  <a:pt x="103" y="84"/>
                  <a:pt x="99" y="85"/>
                  <a:pt x="94" y="87"/>
                </a:cubicBezTo>
                <a:cubicBezTo>
                  <a:pt x="92" y="88"/>
                  <a:pt x="92" y="89"/>
                  <a:pt x="92" y="90"/>
                </a:cubicBezTo>
                <a:cubicBezTo>
                  <a:pt x="92" y="90"/>
                  <a:pt x="93" y="90"/>
                  <a:pt x="94" y="90"/>
                </a:cubicBezTo>
                <a:cubicBezTo>
                  <a:pt x="98" y="89"/>
                  <a:pt x="101" y="88"/>
                  <a:pt x="104" y="89"/>
                </a:cubicBezTo>
                <a:cubicBezTo>
                  <a:pt x="108" y="89"/>
                  <a:pt x="110" y="91"/>
                  <a:pt x="112" y="92"/>
                </a:cubicBezTo>
                <a:cubicBezTo>
                  <a:pt x="113" y="93"/>
                  <a:pt x="114" y="94"/>
                  <a:pt x="114" y="95"/>
                </a:cubicBezTo>
                <a:cubicBezTo>
                  <a:pt x="114" y="96"/>
                  <a:pt x="115" y="97"/>
                  <a:pt x="115" y="99"/>
                </a:cubicBezTo>
                <a:cubicBezTo>
                  <a:pt x="115" y="100"/>
                  <a:pt x="115" y="101"/>
                  <a:pt x="114" y="103"/>
                </a:cubicBezTo>
                <a:cubicBezTo>
                  <a:pt x="114" y="104"/>
                  <a:pt x="113" y="106"/>
                  <a:pt x="111" y="107"/>
                </a:cubicBezTo>
                <a:cubicBezTo>
                  <a:pt x="108" y="111"/>
                  <a:pt x="104" y="113"/>
                  <a:pt x="100" y="114"/>
                </a:cubicBezTo>
                <a:cubicBezTo>
                  <a:pt x="96" y="114"/>
                  <a:pt x="92" y="114"/>
                  <a:pt x="88" y="113"/>
                </a:cubicBezTo>
                <a:cubicBezTo>
                  <a:pt x="85" y="112"/>
                  <a:pt x="81" y="111"/>
                  <a:pt x="78" y="108"/>
                </a:cubicBezTo>
                <a:cubicBezTo>
                  <a:pt x="75" y="106"/>
                  <a:pt x="73" y="104"/>
                  <a:pt x="71" y="103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71" y="100"/>
                  <a:pt x="73" y="99"/>
                  <a:pt x="75" y="97"/>
                </a:cubicBezTo>
                <a:cubicBezTo>
                  <a:pt x="76" y="96"/>
                  <a:pt x="78" y="94"/>
                  <a:pt x="79" y="93"/>
                </a:cubicBezTo>
                <a:cubicBezTo>
                  <a:pt x="82" y="90"/>
                  <a:pt x="85" y="87"/>
                  <a:pt x="86" y="84"/>
                </a:cubicBezTo>
                <a:cubicBezTo>
                  <a:pt x="88" y="81"/>
                  <a:pt x="89" y="78"/>
                  <a:pt x="90" y="75"/>
                </a:cubicBezTo>
                <a:cubicBezTo>
                  <a:pt x="90" y="73"/>
                  <a:pt x="90" y="70"/>
                  <a:pt x="89" y="68"/>
                </a:cubicBezTo>
                <a:cubicBezTo>
                  <a:pt x="89" y="66"/>
                  <a:pt x="88" y="65"/>
                  <a:pt x="87" y="63"/>
                </a:cubicBezTo>
                <a:cubicBezTo>
                  <a:pt x="85" y="62"/>
                  <a:pt x="83" y="61"/>
                  <a:pt x="81" y="61"/>
                </a:cubicBezTo>
                <a:cubicBezTo>
                  <a:pt x="78" y="60"/>
                  <a:pt x="76" y="61"/>
                  <a:pt x="73" y="62"/>
                </a:cubicBezTo>
                <a:cubicBezTo>
                  <a:pt x="72" y="63"/>
                  <a:pt x="72" y="63"/>
                  <a:pt x="72" y="64"/>
                </a:cubicBezTo>
                <a:cubicBezTo>
                  <a:pt x="72" y="64"/>
                  <a:pt x="72" y="64"/>
                  <a:pt x="73" y="64"/>
                </a:cubicBezTo>
                <a:cubicBezTo>
                  <a:pt x="76" y="64"/>
                  <a:pt x="78" y="64"/>
                  <a:pt x="80" y="64"/>
                </a:cubicBezTo>
                <a:cubicBezTo>
                  <a:pt x="81" y="65"/>
                  <a:pt x="82" y="65"/>
                  <a:pt x="83" y="66"/>
                </a:cubicBezTo>
                <a:cubicBezTo>
                  <a:pt x="85" y="67"/>
                  <a:pt x="85" y="69"/>
                  <a:pt x="86" y="71"/>
                </a:cubicBezTo>
                <a:cubicBezTo>
                  <a:pt x="86" y="72"/>
                  <a:pt x="86" y="74"/>
                  <a:pt x="86" y="76"/>
                </a:cubicBezTo>
                <a:cubicBezTo>
                  <a:pt x="85" y="79"/>
                  <a:pt x="85" y="81"/>
                  <a:pt x="83" y="84"/>
                </a:cubicBezTo>
                <a:cubicBezTo>
                  <a:pt x="82" y="86"/>
                  <a:pt x="80" y="89"/>
                  <a:pt x="77" y="91"/>
                </a:cubicBezTo>
                <a:cubicBezTo>
                  <a:pt x="76" y="93"/>
                  <a:pt x="74" y="94"/>
                  <a:pt x="73" y="95"/>
                </a:cubicBezTo>
                <a:cubicBezTo>
                  <a:pt x="71" y="96"/>
                  <a:pt x="69" y="97"/>
                  <a:pt x="67" y="98"/>
                </a:cubicBezTo>
                <a:cubicBezTo>
                  <a:pt x="66" y="96"/>
                  <a:pt x="64" y="94"/>
                  <a:pt x="63" y="92"/>
                </a:cubicBezTo>
                <a:cubicBezTo>
                  <a:pt x="61" y="89"/>
                  <a:pt x="60" y="86"/>
                  <a:pt x="59" y="84"/>
                </a:cubicBezTo>
                <a:cubicBezTo>
                  <a:pt x="58" y="81"/>
                  <a:pt x="57" y="78"/>
                  <a:pt x="56" y="74"/>
                </a:cubicBezTo>
                <a:cubicBezTo>
                  <a:pt x="56" y="71"/>
                  <a:pt x="56" y="68"/>
                  <a:pt x="56" y="65"/>
                </a:cubicBezTo>
                <a:cubicBezTo>
                  <a:pt x="61" y="63"/>
                  <a:pt x="65" y="60"/>
                  <a:pt x="69" y="57"/>
                </a:cubicBezTo>
                <a:moveTo>
                  <a:pt x="25" y="94"/>
                </a:moveTo>
                <a:cubicBezTo>
                  <a:pt x="21" y="90"/>
                  <a:pt x="18" y="85"/>
                  <a:pt x="17" y="79"/>
                </a:cubicBezTo>
                <a:cubicBezTo>
                  <a:pt x="16" y="73"/>
                  <a:pt x="17" y="66"/>
                  <a:pt x="18" y="60"/>
                </a:cubicBezTo>
                <a:cubicBezTo>
                  <a:pt x="23" y="63"/>
                  <a:pt x="28" y="65"/>
                  <a:pt x="34" y="66"/>
                </a:cubicBezTo>
                <a:cubicBezTo>
                  <a:pt x="40" y="68"/>
                  <a:pt x="47" y="68"/>
                  <a:pt x="53" y="66"/>
                </a:cubicBezTo>
                <a:cubicBezTo>
                  <a:pt x="51" y="72"/>
                  <a:pt x="51" y="79"/>
                  <a:pt x="53" y="85"/>
                </a:cubicBezTo>
                <a:cubicBezTo>
                  <a:pt x="54" y="91"/>
                  <a:pt x="57" y="96"/>
                  <a:pt x="59" y="101"/>
                </a:cubicBezTo>
                <a:cubicBezTo>
                  <a:pt x="53" y="103"/>
                  <a:pt x="47" y="103"/>
                  <a:pt x="40" y="102"/>
                </a:cubicBezTo>
                <a:cubicBezTo>
                  <a:pt x="34" y="101"/>
                  <a:pt x="29" y="98"/>
                  <a:pt x="25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"/>
          <p:cNvSpPr/>
          <p:nvPr/>
        </p:nvSpPr>
        <p:spPr>
          <a:xfrm rot="10800000">
            <a:off x="352440" y="348840"/>
            <a:ext cx="1419120" cy="1457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19" h="119">
                <a:moveTo>
                  <a:pt x="55" y="52"/>
                </a:moveTo>
                <a:cubicBezTo>
                  <a:pt x="58" y="55"/>
                  <a:pt x="61" y="59"/>
                  <a:pt x="62" y="62"/>
                </a:cubicBezTo>
                <a:cubicBezTo>
                  <a:pt x="58" y="61"/>
                  <a:pt x="55" y="59"/>
                  <a:pt x="52" y="56"/>
                </a:cubicBezTo>
                <a:cubicBezTo>
                  <a:pt x="51" y="55"/>
                  <a:pt x="50" y="53"/>
                  <a:pt x="49" y="52"/>
                </a:cubicBezTo>
                <a:cubicBezTo>
                  <a:pt x="48" y="51"/>
                  <a:pt x="48" y="50"/>
                  <a:pt x="49" y="49"/>
                </a:cubicBezTo>
                <a:cubicBezTo>
                  <a:pt x="49" y="48"/>
                  <a:pt x="50" y="49"/>
                  <a:pt x="52" y="49"/>
                </a:cubicBezTo>
                <a:cubicBezTo>
                  <a:pt x="53" y="50"/>
                  <a:pt x="54" y="51"/>
                  <a:pt x="55" y="52"/>
                </a:cubicBezTo>
                <a:moveTo>
                  <a:pt x="50" y="57"/>
                </a:moveTo>
                <a:cubicBezTo>
                  <a:pt x="53" y="60"/>
                  <a:pt x="58" y="63"/>
                  <a:pt x="62" y="65"/>
                </a:cubicBezTo>
                <a:cubicBezTo>
                  <a:pt x="63" y="68"/>
                  <a:pt x="63" y="71"/>
                  <a:pt x="62" y="74"/>
                </a:cubicBezTo>
                <a:cubicBezTo>
                  <a:pt x="62" y="78"/>
                  <a:pt x="61" y="81"/>
                  <a:pt x="60" y="84"/>
                </a:cubicBezTo>
                <a:cubicBezTo>
                  <a:pt x="59" y="86"/>
                  <a:pt x="58" y="89"/>
                  <a:pt x="56" y="92"/>
                </a:cubicBezTo>
                <a:cubicBezTo>
                  <a:pt x="55" y="94"/>
                  <a:pt x="53" y="96"/>
                  <a:pt x="52" y="98"/>
                </a:cubicBezTo>
                <a:cubicBezTo>
                  <a:pt x="50" y="97"/>
                  <a:pt x="48" y="96"/>
                  <a:pt x="46" y="95"/>
                </a:cubicBezTo>
                <a:cubicBezTo>
                  <a:pt x="44" y="94"/>
                  <a:pt x="43" y="93"/>
                  <a:pt x="42" y="91"/>
                </a:cubicBezTo>
                <a:cubicBezTo>
                  <a:pt x="39" y="89"/>
                  <a:pt x="37" y="86"/>
                  <a:pt x="36" y="84"/>
                </a:cubicBezTo>
                <a:cubicBezTo>
                  <a:pt x="34" y="81"/>
                  <a:pt x="33" y="79"/>
                  <a:pt x="33" y="76"/>
                </a:cubicBezTo>
                <a:cubicBezTo>
                  <a:pt x="33" y="74"/>
                  <a:pt x="33" y="72"/>
                  <a:pt x="33" y="71"/>
                </a:cubicBezTo>
                <a:cubicBezTo>
                  <a:pt x="34" y="69"/>
                  <a:pt x="34" y="67"/>
                  <a:pt x="35" y="66"/>
                </a:cubicBezTo>
                <a:cubicBezTo>
                  <a:pt x="36" y="65"/>
                  <a:pt x="38" y="65"/>
                  <a:pt x="39" y="64"/>
                </a:cubicBezTo>
                <a:cubicBezTo>
                  <a:pt x="41" y="64"/>
                  <a:pt x="43" y="64"/>
                  <a:pt x="45" y="64"/>
                </a:cubicBezTo>
                <a:cubicBezTo>
                  <a:pt x="46" y="64"/>
                  <a:pt x="47" y="64"/>
                  <a:pt x="47" y="64"/>
                </a:cubicBezTo>
                <a:cubicBezTo>
                  <a:pt x="47" y="63"/>
                  <a:pt x="47" y="63"/>
                  <a:pt x="46" y="62"/>
                </a:cubicBezTo>
                <a:cubicBezTo>
                  <a:pt x="43" y="61"/>
                  <a:pt x="41" y="60"/>
                  <a:pt x="38" y="61"/>
                </a:cubicBezTo>
                <a:cubicBezTo>
                  <a:pt x="35" y="61"/>
                  <a:pt x="33" y="62"/>
                  <a:pt x="32" y="63"/>
                </a:cubicBezTo>
                <a:cubicBezTo>
                  <a:pt x="31" y="65"/>
                  <a:pt x="30" y="66"/>
                  <a:pt x="29" y="68"/>
                </a:cubicBezTo>
                <a:cubicBezTo>
                  <a:pt x="29" y="70"/>
                  <a:pt x="29" y="73"/>
                  <a:pt x="29" y="75"/>
                </a:cubicBezTo>
                <a:cubicBezTo>
                  <a:pt x="30" y="78"/>
                  <a:pt x="31" y="81"/>
                  <a:pt x="32" y="84"/>
                </a:cubicBezTo>
                <a:cubicBezTo>
                  <a:pt x="34" y="87"/>
                  <a:pt x="36" y="90"/>
                  <a:pt x="40" y="93"/>
                </a:cubicBezTo>
                <a:cubicBezTo>
                  <a:pt x="41" y="94"/>
                  <a:pt x="43" y="96"/>
                  <a:pt x="44" y="97"/>
                </a:cubicBezTo>
                <a:cubicBezTo>
                  <a:pt x="46" y="99"/>
                  <a:pt x="47" y="100"/>
                  <a:pt x="49" y="101"/>
                </a:cubicBezTo>
                <a:cubicBezTo>
                  <a:pt x="48" y="103"/>
                  <a:pt x="48" y="103"/>
                  <a:pt x="48" y="103"/>
                </a:cubicBezTo>
                <a:cubicBezTo>
                  <a:pt x="46" y="104"/>
                  <a:pt x="43" y="106"/>
                  <a:pt x="40" y="108"/>
                </a:cubicBezTo>
                <a:cubicBezTo>
                  <a:pt x="37" y="111"/>
                  <a:pt x="34" y="112"/>
                  <a:pt x="30" y="113"/>
                </a:cubicBezTo>
                <a:cubicBezTo>
                  <a:pt x="27" y="114"/>
                  <a:pt x="23" y="114"/>
                  <a:pt x="19" y="114"/>
                </a:cubicBezTo>
                <a:cubicBezTo>
                  <a:pt x="15" y="113"/>
                  <a:pt x="11" y="111"/>
                  <a:pt x="8" y="107"/>
                </a:cubicBezTo>
                <a:cubicBezTo>
                  <a:pt x="6" y="106"/>
                  <a:pt x="5" y="104"/>
                  <a:pt x="5" y="103"/>
                </a:cubicBezTo>
                <a:cubicBezTo>
                  <a:pt x="4" y="101"/>
                  <a:pt x="4" y="100"/>
                  <a:pt x="4" y="99"/>
                </a:cubicBezTo>
                <a:cubicBezTo>
                  <a:pt x="4" y="97"/>
                  <a:pt x="4" y="96"/>
                  <a:pt x="5" y="95"/>
                </a:cubicBezTo>
                <a:cubicBezTo>
                  <a:pt x="5" y="94"/>
                  <a:pt x="6" y="93"/>
                  <a:pt x="7" y="92"/>
                </a:cubicBezTo>
                <a:cubicBezTo>
                  <a:pt x="9" y="91"/>
                  <a:pt x="11" y="89"/>
                  <a:pt x="14" y="89"/>
                </a:cubicBezTo>
                <a:cubicBezTo>
                  <a:pt x="18" y="88"/>
                  <a:pt x="21" y="89"/>
                  <a:pt x="25" y="90"/>
                </a:cubicBezTo>
                <a:cubicBezTo>
                  <a:pt x="26" y="90"/>
                  <a:pt x="27" y="90"/>
                  <a:pt x="27" y="90"/>
                </a:cubicBezTo>
                <a:cubicBezTo>
                  <a:pt x="27" y="89"/>
                  <a:pt x="27" y="88"/>
                  <a:pt x="25" y="87"/>
                </a:cubicBezTo>
                <a:cubicBezTo>
                  <a:pt x="20" y="85"/>
                  <a:pt x="16" y="84"/>
                  <a:pt x="12" y="85"/>
                </a:cubicBezTo>
                <a:cubicBezTo>
                  <a:pt x="8" y="86"/>
                  <a:pt x="5" y="87"/>
                  <a:pt x="3" y="89"/>
                </a:cubicBezTo>
                <a:cubicBezTo>
                  <a:pt x="2" y="90"/>
                  <a:pt x="2" y="91"/>
                  <a:pt x="1" y="93"/>
                </a:cubicBezTo>
                <a:cubicBezTo>
                  <a:pt x="0" y="94"/>
                  <a:pt x="0" y="95"/>
                  <a:pt x="0" y="97"/>
                </a:cubicBezTo>
                <a:cubicBezTo>
                  <a:pt x="0" y="99"/>
                  <a:pt x="1" y="101"/>
                  <a:pt x="1" y="103"/>
                </a:cubicBezTo>
                <a:cubicBezTo>
                  <a:pt x="2" y="105"/>
                  <a:pt x="4" y="107"/>
                  <a:pt x="6" y="109"/>
                </a:cubicBezTo>
                <a:cubicBezTo>
                  <a:pt x="10" y="113"/>
                  <a:pt x="15" y="116"/>
                  <a:pt x="20" y="118"/>
                </a:cubicBezTo>
                <a:cubicBezTo>
                  <a:pt x="24" y="119"/>
                  <a:pt x="29" y="119"/>
                  <a:pt x="33" y="118"/>
                </a:cubicBezTo>
                <a:cubicBezTo>
                  <a:pt x="37" y="118"/>
                  <a:pt x="41" y="116"/>
                  <a:pt x="45" y="114"/>
                </a:cubicBezTo>
                <a:cubicBezTo>
                  <a:pt x="49" y="112"/>
                  <a:pt x="52" y="110"/>
                  <a:pt x="54" y="107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4" y="108"/>
                  <a:pt x="72" y="110"/>
                  <a:pt x="80" y="110"/>
                </a:cubicBezTo>
                <a:cubicBezTo>
                  <a:pt x="88" y="110"/>
                  <a:pt x="95" y="107"/>
                  <a:pt x="101" y="101"/>
                </a:cubicBezTo>
                <a:cubicBezTo>
                  <a:pt x="107" y="95"/>
                  <a:pt x="109" y="88"/>
                  <a:pt x="110" y="80"/>
                </a:cubicBezTo>
                <a:cubicBezTo>
                  <a:pt x="110" y="72"/>
                  <a:pt x="108" y="64"/>
                  <a:pt x="105" y="57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9" y="52"/>
                  <a:pt x="111" y="49"/>
                  <a:pt x="114" y="45"/>
                </a:cubicBezTo>
                <a:cubicBezTo>
                  <a:pt x="116" y="42"/>
                  <a:pt x="117" y="38"/>
                  <a:pt x="118" y="34"/>
                </a:cubicBezTo>
                <a:cubicBezTo>
                  <a:pt x="119" y="29"/>
                  <a:pt x="119" y="25"/>
                  <a:pt x="117" y="20"/>
                </a:cubicBezTo>
                <a:cubicBezTo>
                  <a:pt x="116" y="15"/>
                  <a:pt x="113" y="10"/>
                  <a:pt x="108" y="6"/>
                </a:cubicBezTo>
                <a:cubicBezTo>
                  <a:pt x="106" y="4"/>
                  <a:pt x="104" y="3"/>
                  <a:pt x="102" y="2"/>
                </a:cubicBezTo>
                <a:cubicBezTo>
                  <a:pt x="100" y="1"/>
                  <a:pt x="99" y="0"/>
                  <a:pt x="97" y="0"/>
                </a:cubicBezTo>
                <a:cubicBezTo>
                  <a:pt x="95" y="0"/>
                  <a:pt x="94" y="1"/>
                  <a:pt x="92" y="1"/>
                </a:cubicBezTo>
                <a:cubicBezTo>
                  <a:pt x="91" y="2"/>
                  <a:pt x="90" y="3"/>
                  <a:pt x="89" y="4"/>
                </a:cubicBezTo>
                <a:cubicBezTo>
                  <a:pt x="87" y="5"/>
                  <a:pt x="85" y="8"/>
                  <a:pt x="85" y="12"/>
                </a:cubicBezTo>
                <a:cubicBezTo>
                  <a:pt x="84" y="16"/>
                  <a:pt x="84" y="20"/>
                  <a:pt x="87" y="26"/>
                </a:cubicBezTo>
                <a:cubicBezTo>
                  <a:pt x="88" y="27"/>
                  <a:pt x="89" y="27"/>
                  <a:pt x="89" y="27"/>
                </a:cubicBezTo>
                <a:cubicBezTo>
                  <a:pt x="90" y="27"/>
                  <a:pt x="90" y="26"/>
                  <a:pt x="90" y="25"/>
                </a:cubicBezTo>
                <a:cubicBezTo>
                  <a:pt x="88" y="22"/>
                  <a:pt x="88" y="18"/>
                  <a:pt x="88" y="15"/>
                </a:cubicBezTo>
                <a:cubicBezTo>
                  <a:pt x="89" y="11"/>
                  <a:pt x="90" y="9"/>
                  <a:pt x="92" y="7"/>
                </a:cubicBezTo>
                <a:cubicBezTo>
                  <a:pt x="93" y="6"/>
                  <a:pt x="94" y="6"/>
                  <a:pt x="95" y="5"/>
                </a:cubicBezTo>
                <a:cubicBezTo>
                  <a:pt x="96" y="5"/>
                  <a:pt x="97" y="4"/>
                  <a:pt x="98" y="4"/>
                </a:cubicBezTo>
                <a:cubicBezTo>
                  <a:pt x="100" y="4"/>
                  <a:pt x="101" y="4"/>
                  <a:pt x="102" y="5"/>
                </a:cubicBezTo>
                <a:cubicBezTo>
                  <a:pt x="104" y="6"/>
                  <a:pt x="105" y="7"/>
                  <a:pt x="107" y="8"/>
                </a:cubicBezTo>
                <a:cubicBezTo>
                  <a:pt x="110" y="12"/>
                  <a:pt x="113" y="15"/>
                  <a:pt x="113" y="19"/>
                </a:cubicBezTo>
                <a:cubicBezTo>
                  <a:pt x="114" y="23"/>
                  <a:pt x="114" y="27"/>
                  <a:pt x="113" y="31"/>
                </a:cubicBezTo>
                <a:cubicBezTo>
                  <a:pt x="112" y="34"/>
                  <a:pt x="110" y="38"/>
                  <a:pt x="108" y="41"/>
                </a:cubicBezTo>
                <a:cubicBezTo>
                  <a:pt x="106" y="44"/>
                  <a:pt x="104" y="46"/>
                  <a:pt x="102" y="48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99" y="48"/>
                  <a:pt x="98" y="46"/>
                  <a:pt x="97" y="44"/>
                </a:cubicBezTo>
                <a:cubicBezTo>
                  <a:pt x="95" y="43"/>
                  <a:pt x="94" y="41"/>
                  <a:pt x="93" y="40"/>
                </a:cubicBezTo>
                <a:cubicBezTo>
                  <a:pt x="90" y="37"/>
                  <a:pt x="86" y="34"/>
                  <a:pt x="83" y="33"/>
                </a:cubicBezTo>
                <a:cubicBezTo>
                  <a:pt x="80" y="31"/>
                  <a:pt x="78" y="30"/>
                  <a:pt x="75" y="30"/>
                </a:cubicBezTo>
                <a:cubicBezTo>
                  <a:pt x="72" y="29"/>
                  <a:pt x="70" y="29"/>
                  <a:pt x="68" y="30"/>
                </a:cubicBezTo>
                <a:cubicBezTo>
                  <a:pt x="66" y="30"/>
                  <a:pt x="64" y="31"/>
                  <a:pt x="63" y="32"/>
                </a:cubicBezTo>
                <a:cubicBezTo>
                  <a:pt x="62" y="34"/>
                  <a:pt x="61" y="36"/>
                  <a:pt x="60" y="38"/>
                </a:cubicBezTo>
                <a:cubicBezTo>
                  <a:pt x="60" y="41"/>
                  <a:pt x="61" y="44"/>
                  <a:pt x="62" y="46"/>
                </a:cubicBezTo>
                <a:cubicBezTo>
                  <a:pt x="62" y="47"/>
                  <a:pt x="63" y="47"/>
                  <a:pt x="63" y="47"/>
                </a:cubicBezTo>
                <a:cubicBezTo>
                  <a:pt x="64" y="47"/>
                  <a:pt x="64" y="47"/>
                  <a:pt x="64" y="46"/>
                </a:cubicBezTo>
                <a:cubicBezTo>
                  <a:pt x="63" y="43"/>
                  <a:pt x="63" y="41"/>
                  <a:pt x="64" y="40"/>
                </a:cubicBezTo>
                <a:cubicBezTo>
                  <a:pt x="64" y="38"/>
                  <a:pt x="65" y="37"/>
                  <a:pt x="66" y="36"/>
                </a:cubicBezTo>
                <a:cubicBezTo>
                  <a:pt x="67" y="35"/>
                  <a:pt x="68" y="34"/>
                  <a:pt x="70" y="34"/>
                </a:cubicBezTo>
                <a:cubicBezTo>
                  <a:pt x="72" y="33"/>
                  <a:pt x="74" y="33"/>
                  <a:pt x="76" y="33"/>
                </a:cubicBezTo>
                <a:cubicBezTo>
                  <a:pt x="78" y="34"/>
                  <a:pt x="81" y="35"/>
                  <a:pt x="83" y="36"/>
                </a:cubicBezTo>
                <a:cubicBezTo>
                  <a:pt x="86" y="37"/>
                  <a:pt x="88" y="39"/>
                  <a:pt x="91" y="42"/>
                </a:cubicBezTo>
                <a:cubicBezTo>
                  <a:pt x="92" y="43"/>
                  <a:pt x="94" y="45"/>
                  <a:pt x="95" y="47"/>
                </a:cubicBezTo>
                <a:cubicBezTo>
                  <a:pt x="96" y="48"/>
                  <a:pt x="97" y="50"/>
                  <a:pt x="98" y="52"/>
                </a:cubicBezTo>
                <a:cubicBezTo>
                  <a:pt x="96" y="53"/>
                  <a:pt x="94" y="55"/>
                  <a:pt x="91" y="56"/>
                </a:cubicBezTo>
                <a:cubicBezTo>
                  <a:pt x="89" y="58"/>
                  <a:pt x="86" y="59"/>
                  <a:pt x="83" y="60"/>
                </a:cubicBezTo>
                <a:cubicBezTo>
                  <a:pt x="80" y="61"/>
                  <a:pt x="77" y="62"/>
                  <a:pt x="74" y="63"/>
                </a:cubicBezTo>
                <a:cubicBezTo>
                  <a:pt x="71" y="63"/>
                  <a:pt x="68" y="63"/>
                  <a:pt x="65" y="63"/>
                </a:cubicBezTo>
                <a:cubicBezTo>
                  <a:pt x="63" y="58"/>
                  <a:pt x="60" y="54"/>
                  <a:pt x="56" y="50"/>
                </a:cubicBezTo>
                <a:cubicBezTo>
                  <a:pt x="54" y="48"/>
                  <a:pt x="52" y="46"/>
                  <a:pt x="50" y="46"/>
                </a:cubicBezTo>
                <a:cubicBezTo>
                  <a:pt x="48" y="45"/>
                  <a:pt x="47" y="45"/>
                  <a:pt x="46" y="46"/>
                </a:cubicBezTo>
                <a:cubicBezTo>
                  <a:pt x="45" y="47"/>
                  <a:pt x="45" y="48"/>
                  <a:pt x="45" y="50"/>
                </a:cubicBezTo>
                <a:cubicBezTo>
                  <a:pt x="46" y="52"/>
                  <a:pt x="47" y="54"/>
                  <a:pt x="50" y="57"/>
                </a:cubicBezTo>
                <a:moveTo>
                  <a:pt x="94" y="94"/>
                </a:moveTo>
                <a:cubicBezTo>
                  <a:pt x="90" y="98"/>
                  <a:pt x="85" y="101"/>
                  <a:pt x="79" y="102"/>
                </a:cubicBezTo>
                <a:cubicBezTo>
                  <a:pt x="72" y="103"/>
                  <a:pt x="66" y="103"/>
                  <a:pt x="59" y="101"/>
                </a:cubicBezTo>
                <a:cubicBezTo>
                  <a:pt x="62" y="96"/>
                  <a:pt x="65" y="91"/>
                  <a:pt x="66" y="85"/>
                </a:cubicBezTo>
                <a:cubicBezTo>
                  <a:pt x="68" y="79"/>
                  <a:pt x="68" y="72"/>
                  <a:pt x="66" y="66"/>
                </a:cubicBezTo>
                <a:cubicBezTo>
                  <a:pt x="72" y="68"/>
                  <a:pt x="78" y="68"/>
                  <a:pt x="85" y="66"/>
                </a:cubicBezTo>
                <a:cubicBezTo>
                  <a:pt x="91" y="65"/>
                  <a:pt x="96" y="63"/>
                  <a:pt x="101" y="60"/>
                </a:cubicBezTo>
                <a:cubicBezTo>
                  <a:pt x="102" y="66"/>
                  <a:pt x="103" y="73"/>
                  <a:pt x="102" y="79"/>
                </a:cubicBezTo>
                <a:cubicBezTo>
                  <a:pt x="100" y="85"/>
                  <a:pt x="98" y="90"/>
                  <a:pt x="94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组合 115"/>
          <p:cNvGrpSpPr/>
          <p:nvPr/>
        </p:nvGrpSpPr>
        <p:grpSpPr>
          <a:xfrm>
            <a:off x="3813120" y="3537000"/>
            <a:ext cx="4572000" cy="199800"/>
            <a:chOff x="3813120" y="3537000"/>
            <a:chExt cx="4572000" cy="199800"/>
          </a:xfrm>
        </p:grpSpPr>
        <p:sp>
          <p:nvSpPr>
            <p:cNvPr id="1309" name="Freeform 5"/>
            <p:cNvSpPr/>
            <p:nvPr/>
          </p:nvSpPr>
          <p:spPr>
            <a:xfrm>
              <a:off x="6170400" y="3537000"/>
              <a:ext cx="2214720" cy="19980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89" h="50">
                  <a:moveTo>
                    <a:pt x="589" y="21"/>
                  </a:moveTo>
                  <a:cubicBezTo>
                    <a:pt x="512" y="21"/>
                    <a:pt x="512" y="21"/>
                    <a:pt x="512" y="21"/>
                  </a:cubicBezTo>
                  <a:cubicBezTo>
                    <a:pt x="512" y="21"/>
                    <a:pt x="512" y="21"/>
                    <a:pt x="512" y="21"/>
                  </a:cubicBezTo>
                  <a:cubicBezTo>
                    <a:pt x="220" y="22"/>
                    <a:pt x="220" y="22"/>
                    <a:pt x="220" y="22"/>
                  </a:cubicBezTo>
                  <a:cubicBezTo>
                    <a:pt x="220" y="17"/>
                    <a:pt x="214" y="14"/>
                    <a:pt x="208" y="14"/>
                  </a:cubicBezTo>
                  <a:cubicBezTo>
                    <a:pt x="201" y="14"/>
                    <a:pt x="196" y="17"/>
                    <a:pt x="195" y="22"/>
                  </a:cubicBezTo>
                  <a:cubicBezTo>
                    <a:pt x="159" y="22"/>
                    <a:pt x="159" y="22"/>
                    <a:pt x="159" y="22"/>
                  </a:cubicBezTo>
                  <a:cubicBezTo>
                    <a:pt x="169" y="20"/>
                    <a:pt x="179" y="17"/>
                    <a:pt x="187" y="13"/>
                  </a:cubicBezTo>
                  <a:cubicBezTo>
                    <a:pt x="125" y="32"/>
                    <a:pt x="63" y="28"/>
                    <a:pt x="17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29" y="18"/>
                    <a:pt x="48" y="29"/>
                    <a:pt x="103" y="29"/>
                  </a:cubicBezTo>
                  <a:cubicBezTo>
                    <a:pt x="109" y="29"/>
                    <a:pt x="124" y="28"/>
                    <a:pt x="140" y="26"/>
                  </a:cubicBezTo>
                  <a:cubicBezTo>
                    <a:pt x="196" y="26"/>
                    <a:pt x="196" y="26"/>
                    <a:pt x="196" y="26"/>
                  </a:cubicBezTo>
                  <a:cubicBezTo>
                    <a:pt x="198" y="29"/>
                    <a:pt x="203" y="32"/>
                    <a:pt x="208" y="32"/>
                  </a:cubicBezTo>
                  <a:cubicBezTo>
                    <a:pt x="213" y="32"/>
                    <a:pt x="217" y="29"/>
                    <a:pt x="219" y="26"/>
                  </a:cubicBezTo>
                  <a:cubicBezTo>
                    <a:pt x="515" y="28"/>
                    <a:pt x="515" y="28"/>
                    <a:pt x="515" y="28"/>
                  </a:cubicBezTo>
                  <a:cubicBezTo>
                    <a:pt x="529" y="28"/>
                    <a:pt x="534" y="38"/>
                    <a:pt x="542" y="50"/>
                  </a:cubicBezTo>
                  <a:cubicBezTo>
                    <a:pt x="538" y="38"/>
                    <a:pt x="556" y="28"/>
                    <a:pt x="589" y="2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6"/>
            <p:cNvSpPr/>
            <p:nvPr/>
          </p:nvSpPr>
          <p:spPr>
            <a:xfrm>
              <a:off x="6321240" y="3541680"/>
              <a:ext cx="450720" cy="759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20" h="19">
                  <a:moveTo>
                    <a:pt x="11" y="9"/>
                  </a:moveTo>
                  <a:cubicBezTo>
                    <a:pt x="27" y="16"/>
                    <a:pt x="44" y="18"/>
                    <a:pt x="62" y="19"/>
                  </a:cubicBezTo>
                  <a:cubicBezTo>
                    <a:pt x="76" y="19"/>
                    <a:pt x="105" y="16"/>
                    <a:pt x="120" y="10"/>
                  </a:cubicBezTo>
                  <a:cubicBezTo>
                    <a:pt x="80" y="19"/>
                    <a:pt x="48" y="15"/>
                    <a:pt x="16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11"/>
                    <a:pt x="6" y="11"/>
                    <a:pt x="6" y="11"/>
                  </a:cubicBezTo>
                  <a:lnTo>
                    <a:pt x="11" y="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7"/>
            <p:cNvSpPr/>
            <p:nvPr/>
          </p:nvSpPr>
          <p:spPr>
            <a:xfrm>
              <a:off x="5906880" y="3544920"/>
              <a:ext cx="384120" cy="1094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42" h="69">
                  <a:moveTo>
                    <a:pt x="216" y="46"/>
                  </a:moveTo>
                  <a:lnTo>
                    <a:pt x="121" y="0"/>
                  </a:lnTo>
                  <a:lnTo>
                    <a:pt x="26" y="46"/>
                  </a:lnTo>
                  <a:lnTo>
                    <a:pt x="17" y="41"/>
                  </a:lnTo>
                  <a:lnTo>
                    <a:pt x="0" y="46"/>
                  </a:lnTo>
                  <a:lnTo>
                    <a:pt x="41" y="69"/>
                  </a:lnTo>
                  <a:lnTo>
                    <a:pt x="121" y="31"/>
                  </a:lnTo>
                  <a:lnTo>
                    <a:pt x="204" y="69"/>
                  </a:lnTo>
                  <a:lnTo>
                    <a:pt x="242" y="46"/>
                  </a:lnTo>
                  <a:lnTo>
                    <a:pt x="228" y="41"/>
                  </a:lnTo>
                  <a:lnTo>
                    <a:pt x="216" y="46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8"/>
            <p:cNvSpPr/>
            <p:nvPr/>
          </p:nvSpPr>
          <p:spPr>
            <a:xfrm>
              <a:off x="5430600" y="3541680"/>
              <a:ext cx="446040" cy="759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19" h="19">
                  <a:moveTo>
                    <a:pt x="57" y="19"/>
                  </a:moveTo>
                  <a:cubicBezTo>
                    <a:pt x="75" y="18"/>
                    <a:pt x="92" y="16"/>
                    <a:pt x="109" y="9"/>
                  </a:cubicBezTo>
                  <a:cubicBezTo>
                    <a:pt x="113" y="11"/>
                    <a:pt x="113" y="11"/>
                    <a:pt x="113" y="11"/>
                  </a:cubicBezTo>
                  <a:cubicBezTo>
                    <a:pt x="119" y="9"/>
                    <a:pt x="119" y="9"/>
                    <a:pt x="119" y="9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71" y="15"/>
                    <a:pt x="40" y="19"/>
                    <a:pt x="0" y="10"/>
                  </a:cubicBezTo>
                  <a:cubicBezTo>
                    <a:pt x="15" y="16"/>
                    <a:pt x="44" y="19"/>
                    <a:pt x="57" y="19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"/>
            <p:cNvSpPr/>
            <p:nvPr/>
          </p:nvSpPr>
          <p:spPr>
            <a:xfrm>
              <a:off x="3813120" y="3537000"/>
              <a:ext cx="2214720" cy="19980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89" h="50">
                  <a:moveTo>
                    <a:pt x="583" y="12"/>
                  </a:moveTo>
                  <a:cubicBezTo>
                    <a:pt x="589" y="9"/>
                    <a:pt x="589" y="9"/>
                    <a:pt x="589" y="9"/>
                  </a:cubicBezTo>
                  <a:cubicBezTo>
                    <a:pt x="573" y="0"/>
                    <a:pt x="573" y="0"/>
                    <a:pt x="573" y="0"/>
                  </a:cubicBezTo>
                  <a:cubicBezTo>
                    <a:pt x="526" y="28"/>
                    <a:pt x="465" y="32"/>
                    <a:pt x="403" y="13"/>
                  </a:cubicBezTo>
                  <a:cubicBezTo>
                    <a:pt x="411" y="17"/>
                    <a:pt x="420" y="20"/>
                    <a:pt x="431" y="22"/>
                  </a:cubicBezTo>
                  <a:cubicBezTo>
                    <a:pt x="395" y="22"/>
                    <a:pt x="395" y="22"/>
                    <a:pt x="395" y="22"/>
                  </a:cubicBezTo>
                  <a:cubicBezTo>
                    <a:pt x="394" y="17"/>
                    <a:pt x="389" y="14"/>
                    <a:pt x="382" y="14"/>
                  </a:cubicBezTo>
                  <a:cubicBezTo>
                    <a:pt x="375" y="14"/>
                    <a:pt x="370" y="17"/>
                    <a:pt x="370" y="22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3" y="28"/>
                    <a:pt x="52" y="38"/>
                    <a:pt x="48" y="50"/>
                  </a:cubicBezTo>
                  <a:cubicBezTo>
                    <a:pt x="56" y="38"/>
                    <a:pt x="61" y="28"/>
                    <a:pt x="74" y="28"/>
                  </a:cubicBezTo>
                  <a:cubicBezTo>
                    <a:pt x="370" y="26"/>
                    <a:pt x="370" y="26"/>
                    <a:pt x="370" y="26"/>
                  </a:cubicBezTo>
                  <a:cubicBezTo>
                    <a:pt x="372" y="29"/>
                    <a:pt x="377" y="32"/>
                    <a:pt x="382" y="32"/>
                  </a:cubicBezTo>
                  <a:cubicBezTo>
                    <a:pt x="387" y="32"/>
                    <a:pt x="392" y="29"/>
                    <a:pt x="394" y="26"/>
                  </a:cubicBezTo>
                  <a:cubicBezTo>
                    <a:pt x="449" y="26"/>
                    <a:pt x="449" y="26"/>
                    <a:pt x="449" y="26"/>
                  </a:cubicBezTo>
                  <a:cubicBezTo>
                    <a:pt x="465" y="28"/>
                    <a:pt x="480" y="29"/>
                    <a:pt x="487" y="29"/>
                  </a:cubicBezTo>
                  <a:cubicBezTo>
                    <a:pt x="541" y="29"/>
                    <a:pt x="561" y="18"/>
                    <a:pt x="578" y="9"/>
                  </a:cubicBezTo>
                  <a:lnTo>
                    <a:pt x="583" y="12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"/>
            <p:cNvSpPr/>
            <p:nvPr/>
          </p:nvSpPr>
          <p:spPr>
            <a:xfrm>
              <a:off x="6057720" y="3609720"/>
              <a:ext cx="87120" cy="34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9">
                  <a:moveTo>
                    <a:pt x="12" y="2"/>
                  </a:move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2" y="2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5" name="图片 1" descr=""/>
          <p:cNvPicPr/>
          <p:nvPr/>
        </p:nvPicPr>
        <p:blipFill>
          <a:blip r:embed="rId1"/>
          <a:stretch/>
        </p:blipFill>
        <p:spPr>
          <a:xfrm>
            <a:off x="169920" y="216000"/>
            <a:ext cx="1650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圆角矩形 14"/>
          <p:cNvSpPr/>
          <p:nvPr/>
        </p:nvSpPr>
        <p:spPr>
          <a:xfrm>
            <a:off x="990720" y="4842000"/>
            <a:ext cx="4760640" cy="831600"/>
          </a:xfrm>
          <a:prstGeom prst="roundRect">
            <a:avLst>
              <a:gd name="adj" fmla="val 18653"/>
            </a:avLst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16"/>
          <p:cNvSpPr/>
          <p:nvPr/>
        </p:nvSpPr>
        <p:spPr>
          <a:xfrm>
            <a:off x="1141560" y="491796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圆角矩形 17"/>
          <p:cNvSpPr/>
          <p:nvPr/>
        </p:nvSpPr>
        <p:spPr>
          <a:xfrm>
            <a:off x="1000080" y="3552840"/>
            <a:ext cx="4761000" cy="831960"/>
          </a:xfrm>
          <a:prstGeom prst="roundRect">
            <a:avLst>
              <a:gd name="adj" fmla="val 18653"/>
            </a:avLst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18"/>
          <p:cNvSpPr/>
          <p:nvPr/>
        </p:nvSpPr>
        <p:spPr>
          <a:xfrm>
            <a:off x="1160640" y="3616200"/>
            <a:ext cx="44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圆角矩形 19"/>
          <p:cNvSpPr/>
          <p:nvPr/>
        </p:nvSpPr>
        <p:spPr>
          <a:xfrm>
            <a:off x="1000080" y="2282760"/>
            <a:ext cx="4761000" cy="833400"/>
          </a:xfrm>
          <a:prstGeom prst="roundRect">
            <a:avLst>
              <a:gd name="adj" fmla="val 18653"/>
            </a:avLst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20"/>
          <p:cNvSpPr/>
          <p:nvPr/>
        </p:nvSpPr>
        <p:spPr>
          <a:xfrm>
            <a:off x="1149480" y="236232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圆角矩形 21"/>
          <p:cNvSpPr/>
          <p:nvPr/>
        </p:nvSpPr>
        <p:spPr>
          <a:xfrm>
            <a:off x="6423120" y="4842000"/>
            <a:ext cx="4760640" cy="831600"/>
          </a:xfrm>
          <a:prstGeom prst="roundRect">
            <a:avLst>
              <a:gd name="adj" fmla="val 18653"/>
            </a:avLst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矩形 22"/>
          <p:cNvSpPr/>
          <p:nvPr/>
        </p:nvSpPr>
        <p:spPr>
          <a:xfrm>
            <a:off x="6572160" y="4917960"/>
            <a:ext cx="44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圆角矩形 23"/>
          <p:cNvSpPr/>
          <p:nvPr/>
        </p:nvSpPr>
        <p:spPr>
          <a:xfrm>
            <a:off x="6431040" y="3552840"/>
            <a:ext cx="4762440" cy="831960"/>
          </a:xfrm>
          <a:prstGeom prst="roundRect">
            <a:avLst>
              <a:gd name="adj" fmla="val 18653"/>
            </a:avLst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矩形 24"/>
          <p:cNvSpPr/>
          <p:nvPr/>
        </p:nvSpPr>
        <p:spPr>
          <a:xfrm>
            <a:off x="6593040" y="361620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组合 25"/>
          <p:cNvGrpSpPr/>
          <p:nvPr/>
        </p:nvGrpSpPr>
        <p:grpSpPr>
          <a:xfrm>
            <a:off x="5618160" y="3476520"/>
            <a:ext cx="955800" cy="974880"/>
            <a:chOff x="5618160" y="3476520"/>
            <a:chExt cx="955800" cy="974880"/>
          </a:xfrm>
        </p:grpSpPr>
        <p:sp>
          <p:nvSpPr>
            <p:cNvPr id="1565" name="Oval 42"/>
            <p:cNvSpPr/>
            <p:nvPr/>
          </p:nvSpPr>
          <p:spPr>
            <a:xfrm>
              <a:off x="5618160" y="3476520"/>
              <a:ext cx="955800" cy="974880"/>
            </a:xfrm>
            <a:prstGeom prst="ellipse">
              <a:avLst/>
            </a:prstGeom>
            <a:solidFill>
              <a:srgbClr val="ffffff"/>
            </a:solidFill>
            <a:ln w="77760">
              <a:solidFill>
                <a:srgbClr val="79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6" name="组合 27"/>
            <p:cNvGrpSpPr/>
            <p:nvPr/>
          </p:nvGrpSpPr>
          <p:grpSpPr>
            <a:xfrm>
              <a:off x="5830560" y="3757320"/>
              <a:ext cx="531000" cy="412920"/>
              <a:chOff x="5830560" y="3757320"/>
              <a:chExt cx="531000" cy="412920"/>
            </a:xfrm>
          </p:grpSpPr>
          <p:sp>
            <p:nvSpPr>
              <p:cNvPr id="1567" name="Freeform 5"/>
              <p:cNvSpPr/>
              <p:nvPr/>
            </p:nvSpPr>
            <p:spPr>
              <a:xfrm>
                <a:off x="5830560" y="3803400"/>
                <a:ext cx="459720" cy="3668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99" y="40"/>
                    </a:moveTo>
                    <a:cubicBezTo>
                      <a:pt x="94" y="39"/>
                      <a:pt x="96" y="36"/>
                      <a:pt x="96" y="36"/>
                    </a:cubicBezTo>
                    <a:cubicBezTo>
                      <a:pt x="96" y="36"/>
                      <a:pt x="101" y="28"/>
                      <a:pt x="95" y="22"/>
                    </a:cubicBezTo>
                    <a:cubicBezTo>
                      <a:pt x="88" y="14"/>
                      <a:pt x="70" y="23"/>
                      <a:pt x="70" y="23"/>
                    </a:cubicBezTo>
                    <a:cubicBezTo>
                      <a:pt x="63" y="25"/>
                      <a:pt x="65" y="22"/>
                      <a:pt x="66" y="16"/>
                    </a:cubicBezTo>
                    <a:cubicBezTo>
                      <a:pt x="66" y="10"/>
                      <a:pt x="64" y="0"/>
                      <a:pt x="45" y="6"/>
                    </a:cubicBezTo>
                    <a:cubicBezTo>
                      <a:pt x="27" y="12"/>
                      <a:pt x="11" y="34"/>
                      <a:pt x="11" y="34"/>
                    </a:cubicBezTo>
                    <a:cubicBezTo>
                      <a:pt x="0" y="49"/>
                      <a:pt x="2" y="60"/>
                      <a:pt x="2" y="60"/>
                    </a:cubicBezTo>
                    <a:cubicBezTo>
                      <a:pt x="5" y="85"/>
                      <a:pt x="31" y="91"/>
                      <a:pt x="51" y="93"/>
                    </a:cubicBezTo>
                    <a:cubicBezTo>
                      <a:pt x="73" y="95"/>
                      <a:pt x="102" y="86"/>
                      <a:pt x="111" y="67"/>
                    </a:cubicBezTo>
                    <a:cubicBezTo>
                      <a:pt x="120" y="48"/>
                      <a:pt x="104" y="41"/>
                      <a:pt x="99" y="40"/>
                    </a:cubicBezTo>
                    <a:close/>
                    <a:moveTo>
                      <a:pt x="53" y="86"/>
                    </a:moveTo>
                    <a:cubicBezTo>
                      <a:pt x="32" y="87"/>
                      <a:pt x="14" y="76"/>
                      <a:pt x="14" y="62"/>
                    </a:cubicBezTo>
                    <a:cubicBezTo>
                      <a:pt x="14" y="48"/>
                      <a:pt x="32" y="36"/>
                      <a:pt x="53" y="35"/>
                    </a:cubicBezTo>
                    <a:cubicBezTo>
                      <a:pt x="74" y="34"/>
                      <a:pt x="92" y="43"/>
                      <a:pt x="92" y="57"/>
                    </a:cubicBezTo>
                    <a:cubicBezTo>
                      <a:pt x="92" y="72"/>
                      <a:pt x="74" y="85"/>
                      <a:pt x="53" y="86"/>
                    </a:cubicBezTo>
                    <a:close/>
                  </a:path>
                </a:pathLst>
              </a:custGeom>
              <a:solidFill>
                <a:srgbClr val="790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6"/>
              <p:cNvSpPr/>
              <p:nvPr/>
            </p:nvSpPr>
            <p:spPr>
              <a:xfrm>
                <a:off x="5933880" y="3965400"/>
                <a:ext cx="179640" cy="16200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47" h="42">
                    <a:moveTo>
                      <a:pt x="22" y="3"/>
                    </a:moveTo>
                    <a:cubicBezTo>
                      <a:pt x="0" y="5"/>
                      <a:pt x="3" y="25"/>
                      <a:pt x="3" y="25"/>
                    </a:cubicBezTo>
                    <a:cubicBezTo>
                      <a:pt x="3" y="25"/>
                      <a:pt x="3" y="32"/>
                      <a:pt x="9" y="35"/>
                    </a:cubicBezTo>
                    <a:cubicBezTo>
                      <a:pt x="21" y="42"/>
                      <a:pt x="34" y="38"/>
                      <a:pt x="41" y="29"/>
                    </a:cubicBezTo>
                    <a:cubicBezTo>
                      <a:pt x="47" y="21"/>
                      <a:pt x="43" y="0"/>
                      <a:pt x="22" y="3"/>
                    </a:cubicBezTo>
                    <a:close/>
                    <a:moveTo>
                      <a:pt x="16" y="31"/>
                    </a:moveTo>
                    <a:cubicBezTo>
                      <a:pt x="12" y="31"/>
                      <a:pt x="9" y="29"/>
                      <a:pt x="9" y="26"/>
                    </a:cubicBezTo>
                    <a:cubicBezTo>
                      <a:pt x="9" y="22"/>
                      <a:pt x="12" y="19"/>
                      <a:pt x="16" y="19"/>
                    </a:cubicBezTo>
                    <a:cubicBezTo>
                      <a:pt x="21" y="18"/>
                      <a:pt x="24" y="21"/>
                      <a:pt x="24" y="24"/>
                    </a:cubicBezTo>
                    <a:cubicBezTo>
                      <a:pt x="24" y="27"/>
                      <a:pt x="20" y="31"/>
                      <a:pt x="16" y="31"/>
                    </a:cubicBezTo>
                    <a:close/>
                    <a:moveTo>
                      <a:pt x="29" y="20"/>
                    </a:moveTo>
                    <a:cubicBezTo>
                      <a:pt x="28" y="21"/>
                      <a:pt x="26" y="21"/>
                      <a:pt x="25" y="20"/>
                    </a:cubicBezTo>
                    <a:cubicBezTo>
                      <a:pt x="25" y="19"/>
                      <a:pt x="25" y="17"/>
                      <a:pt x="26" y="16"/>
                    </a:cubicBezTo>
                    <a:cubicBezTo>
                      <a:pt x="28" y="15"/>
                      <a:pt x="29" y="15"/>
                      <a:pt x="30" y="16"/>
                    </a:cubicBezTo>
                    <a:cubicBezTo>
                      <a:pt x="31" y="17"/>
                      <a:pt x="30" y="19"/>
                      <a:pt x="29" y="20"/>
                    </a:cubicBezTo>
                    <a:close/>
                  </a:path>
                </a:pathLst>
              </a:custGeom>
              <a:solidFill>
                <a:srgbClr val="790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7"/>
              <p:cNvSpPr/>
              <p:nvPr/>
            </p:nvSpPr>
            <p:spPr>
              <a:xfrm>
                <a:off x="6174000" y="3819240"/>
                <a:ext cx="96840" cy="1047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19" y="27"/>
                    </a:moveTo>
                    <a:cubicBezTo>
                      <a:pt x="21" y="27"/>
                      <a:pt x="22" y="26"/>
                      <a:pt x="23" y="24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5" y="0"/>
                      <a:pt x="3" y="4"/>
                      <a:pt x="3" y="4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1" y="11"/>
                      <a:pt x="3" y="11"/>
                    </a:cubicBezTo>
                    <a:cubicBezTo>
                      <a:pt x="19" y="8"/>
                      <a:pt x="16" y="23"/>
                      <a:pt x="16" y="23"/>
                    </a:cubicBezTo>
                    <a:cubicBezTo>
                      <a:pt x="16" y="25"/>
                      <a:pt x="17" y="27"/>
                      <a:pt x="19" y="27"/>
                    </a:cubicBezTo>
                    <a:close/>
                  </a:path>
                </a:pathLst>
              </a:custGeom>
              <a:solidFill>
                <a:srgbClr val="790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8"/>
              <p:cNvSpPr/>
              <p:nvPr/>
            </p:nvSpPr>
            <p:spPr>
              <a:xfrm>
                <a:off x="6154920" y="3757320"/>
                <a:ext cx="206640" cy="1936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22" y="2"/>
                    </a:moveTo>
                    <a:cubicBezTo>
                      <a:pt x="14" y="0"/>
                      <a:pt x="6" y="1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3"/>
                      <a:pt x="0" y="5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5" y="12"/>
                      <a:pt x="7" y="12"/>
                      <a:pt x="9" y="11"/>
                    </a:cubicBezTo>
                    <a:cubicBezTo>
                      <a:pt x="11" y="10"/>
                      <a:pt x="27" y="11"/>
                      <a:pt x="35" y="24"/>
                    </a:cubicBezTo>
                    <a:cubicBezTo>
                      <a:pt x="39" y="33"/>
                      <a:pt x="37" y="40"/>
                      <a:pt x="36" y="41"/>
                    </a:cubicBezTo>
                    <a:cubicBezTo>
                      <a:pt x="36" y="41"/>
                      <a:pt x="35" y="43"/>
                      <a:pt x="35" y="46"/>
                    </a:cubicBezTo>
                    <a:cubicBezTo>
                      <a:pt x="35" y="49"/>
                      <a:pt x="38" y="50"/>
                      <a:pt x="40" y="50"/>
                    </a:cubicBezTo>
                    <a:cubicBezTo>
                      <a:pt x="43" y="50"/>
                      <a:pt x="45" y="50"/>
                      <a:pt x="45" y="46"/>
                    </a:cubicBezTo>
                    <a:cubicBezTo>
                      <a:pt x="45" y="46"/>
                      <a:pt x="45" y="46"/>
                      <a:pt x="45" y="46"/>
                    </a:cubicBezTo>
                    <a:cubicBezTo>
                      <a:pt x="54" y="18"/>
                      <a:pt x="35" y="5"/>
                      <a:pt x="22" y="2"/>
                    </a:cubicBezTo>
                    <a:close/>
                  </a:path>
                </a:pathLst>
              </a:custGeom>
              <a:solidFill>
                <a:srgbClr val="790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1" name="圆角矩形 32"/>
          <p:cNvSpPr/>
          <p:nvPr/>
        </p:nvSpPr>
        <p:spPr>
          <a:xfrm>
            <a:off x="6431040" y="2282760"/>
            <a:ext cx="4762440" cy="833400"/>
          </a:xfrm>
          <a:prstGeom prst="roundRect">
            <a:avLst>
              <a:gd name="adj" fmla="val 18653"/>
            </a:avLst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矩形 33"/>
          <p:cNvSpPr/>
          <p:nvPr/>
        </p:nvSpPr>
        <p:spPr>
          <a:xfrm>
            <a:off x="6581880" y="236232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4"/>
          <p:cNvGrpSpPr/>
          <p:nvPr/>
        </p:nvGrpSpPr>
        <p:grpSpPr>
          <a:xfrm>
            <a:off x="5618160" y="4749840"/>
            <a:ext cx="955800" cy="974520"/>
            <a:chOff x="5618160" y="4749840"/>
            <a:chExt cx="955800" cy="974520"/>
          </a:xfrm>
        </p:grpSpPr>
        <p:sp>
          <p:nvSpPr>
            <p:cNvPr id="1574" name="Oval 42"/>
            <p:cNvSpPr/>
            <p:nvPr/>
          </p:nvSpPr>
          <p:spPr>
            <a:xfrm>
              <a:off x="5618160" y="4749840"/>
              <a:ext cx="955800" cy="974520"/>
            </a:xfrm>
            <a:prstGeom prst="ellipse">
              <a:avLst/>
            </a:prstGeom>
            <a:solidFill>
              <a:srgbClr val="ffffff"/>
            </a:solidFill>
            <a:ln w="77760">
              <a:solidFill>
                <a:srgbClr val="3e3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5" name="组合 36"/>
            <p:cNvGrpSpPr/>
            <p:nvPr/>
          </p:nvGrpSpPr>
          <p:grpSpPr>
            <a:xfrm>
              <a:off x="5849640" y="5036040"/>
              <a:ext cx="492480" cy="401760"/>
              <a:chOff x="5849640" y="5036040"/>
              <a:chExt cx="492480" cy="401760"/>
            </a:xfrm>
          </p:grpSpPr>
          <p:sp>
            <p:nvSpPr>
              <p:cNvPr id="1576" name="Freeform 24"/>
              <p:cNvSpPr/>
              <p:nvPr/>
            </p:nvSpPr>
            <p:spPr>
              <a:xfrm>
                <a:off x="5849640" y="5036040"/>
                <a:ext cx="349920" cy="320760"/>
              </a:xfrm>
              <a:custGeom>
                <a:avLst/>
                <a:gdLst>
                  <a:gd name="textAreaLeft" fmla="*/ 0 w 349920"/>
                  <a:gd name="textAreaRight" fmla="*/ 349920 w 34992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7" y="32"/>
                    </a:moveTo>
                    <a:cubicBezTo>
                      <a:pt x="88" y="32"/>
                      <a:pt x="89" y="32"/>
                      <a:pt x="91" y="32"/>
                    </a:cubicBezTo>
                    <a:cubicBezTo>
                      <a:pt x="87" y="14"/>
                      <a:pt x="68" y="0"/>
                      <a:pt x="45" y="0"/>
                    </a:cubicBezTo>
                    <a:cubicBezTo>
                      <a:pt x="21" y="0"/>
                      <a:pt x="0" y="17"/>
                      <a:pt x="0" y="39"/>
                    </a:cubicBezTo>
                    <a:cubicBezTo>
                      <a:pt x="0" y="51"/>
                      <a:pt x="7" y="61"/>
                      <a:pt x="18" y="69"/>
                    </a:cubicBezTo>
                    <a:cubicBezTo>
                      <a:pt x="14" y="83"/>
                      <a:pt x="14" y="83"/>
                      <a:pt x="14" y="83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35" y="76"/>
                      <a:pt x="40" y="77"/>
                      <a:pt x="45" y="77"/>
                    </a:cubicBezTo>
                    <a:cubicBezTo>
                      <a:pt x="47" y="77"/>
                      <a:pt x="48" y="77"/>
                      <a:pt x="50" y="77"/>
                    </a:cubicBezTo>
                    <a:cubicBezTo>
                      <a:pt x="49" y="74"/>
                      <a:pt x="48" y="71"/>
                      <a:pt x="48" y="67"/>
                    </a:cubicBezTo>
                    <a:cubicBezTo>
                      <a:pt x="48" y="48"/>
                      <a:pt x="65" y="32"/>
                      <a:pt x="87" y="32"/>
                    </a:cubicBezTo>
                    <a:close/>
                    <a:moveTo>
                      <a:pt x="62" y="19"/>
                    </a:moveTo>
                    <a:cubicBezTo>
                      <a:pt x="66" y="19"/>
                      <a:pt x="68" y="22"/>
                      <a:pt x="68" y="25"/>
                    </a:cubicBezTo>
                    <a:cubicBezTo>
                      <a:pt x="68" y="29"/>
                      <a:pt x="66" y="31"/>
                      <a:pt x="62" y="31"/>
                    </a:cubicBezTo>
                    <a:cubicBezTo>
                      <a:pt x="59" y="31"/>
                      <a:pt x="56" y="29"/>
                      <a:pt x="56" y="25"/>
                    </a:cubicBezTo>
                    <a:cubicBezTo>
                      <a:pt x="56" y="22"/>
                      <a:pt x="59" y="19"/>
                      <a:pt x="62" y="19"/>
                    </a:cubicBezTo>
                    <a:close/>
                    <a:moveTo>
                      <a:pt x="31" y="31"/>
                    </a:moveTo>
                    <a:cubicBezTo>
                      <a:pt x="27" y="31"/>
                      <a:pt x="24" y="29"/>
                      <a:pt x="24" y="25"/>
                    </a:cubicBezTo>
                    <a:cubicBezTo>
                      <a:pt x="24" y="22"/>
                      <a:pt x="27" y="19"/>
                      <a:pt x="31" y="19"/>
                    </a:cubicBezTo>
                    <a:cubicBezTo>
                      <a:pt x="34" y="19"/>
                      <a:pt x="36" y="22"/>
                      <a:pt x="36" y="25"/>
                    </a:cubicBezTo>
                    <a:cubicBezTo>
                      <a:pt x="36" y="29"/>
                      <a:pt x="34" y="31"/>
                      <a:pt x="31" y="31"/>
                    </a:cubicBezTo>
                    <a:close/>
                  </a:path>
                </a:pathLst>
              </a:custGeom>
              <a:solidFill>
                <a:srgbClr val="3e3a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25"/>
              <p:cNvSpPr/>
              <p:nvPr/>
            </p:nvSpPr>
            <p:spPr>
              <a:xfrm>
                <a:off x="6046560" y="5167800"/>
                <a:ext cx="295560" cy="2700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77" y="33"/>
                    </a:moveTo>
                    <a:cubicBezTo>
                      <a:pt x="77" y="15"/>
                      <a:pt x="59" y="0"/>
                      <a:pt x="38" y="0"/>
                    </a:cubicBezTo>
                    <a:cubicBezTo>
                      <a:pt x="17" y="0"/>
                      <a:pt x="0" y="15"/>
                      <a:pt x="0" y="33"/>
                    </a:cubicBezTo>
                    <a:cubicBezTo>
                      <a:pt x="0" y="51"/>
                      <a:pt x="17" y="66"/>
                      <a:pt x="38" y="66"/>
                    </a:cubicBezTo>
                    <a:cubicBezTo>
                      <a:pt x="43" y="66"/>
                      <a:pt x="47" y="65"/>
                      <a:pt x="52" y="63"/>
                    </a:cubicBezTo>
                    <a:cubicBezTo>
                      <a:pt x="64" y="70"/>
                      <a:pt x="64" y="70"/>
                      <a:pt x="64" y="70"/>
                    </a:cubicBezTo>
                    <a:cubicBezTo>
                      <a:pt x="61" y="59"/>
                      <a:pt x="61" y="59"/>
                      <a:pt x="61" y="59"/>
                    </a:cubicBezTo>
                    <a:cubicBezTo>
                      <a:pt x="70" y="52"/>
                      <a:pt x="77" y="43"/>
                      <a:pt x="77" y="33"/>
                    </a:cubicBezTo>
                    <a:close/>
                    <a:moveTo>
                      <a:pt x="26" y="27"/>
                    </a:moveTo>
                    <a:cubicBezTo>
                      <a:pt x="24" y="27"/>
                      <a:pt x="21" y="25"/>
                      <a:pt x="21" y="23"/>
                    </a:cubicBezTo>
                    <a:cubicBezTo>
                      <a:pt x="21" y="21"/>
                      <a:pt x="24" y="18"/>
                      <a:pt x="26" y="18"/>
                    </a:cubicBezTo>
                    <a:cubicBezTo>
                      <a:pt x="29" y="18"/>
                      <a:pt x="32" y="21"/>
                      <a:pt x="32" y="23"/>
                    </a:cubicBezTo>
                    <a:cubicBezTo>
                      <a:pt x="32" y="25"/>
                      <a:pt x="29" y="27"/>
                      <a:pt x="26" y="27"/>
                    </a:cubicBezTo>
                    <a:close/>
                    <a:moveTo>
                      <a:pt x="51" y="27"/>
                    </a:moveTo>
                    <a:cubicBezTo>
                      <a:pt x="49" y="27"/>
                      <a:pt x="46" y="25"/>
                      <a:pt x="46" y="23"/>
                    </a:cubicBezTo>
                    <a:cubicBezTo>
                      <a:pt x="46" y="21"/>
                      <a:pt x="49" y="18"/>
                      <a:pt x="51" y="18"/>
                    </a:cubicBezTo>
                    <a:cubicBezTo>
                      <a:pt x="54" y="18"/>
                      <a:pt x="56" y="21"/>
                      <a:pt x="56" y="23"/>
                    </a:cubicBezTo>
                    <a:cubicBezTo>
                      <a:pt x="56" y="25"/>
                      <a:pt x="54" y="27"/>
                      <a:pt x="51" y="27"/>
                    </a:cubicBezTo>
                    <a:close/>
                  </a:path>
                </a:pathLst>
              </a:custGeom>
              <a:solidFill>
                <a:srgbClr val="3e3a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8" name="组合 39"/>
          <p:cNvGrpSpPr/>
          <p:nvPr/>
        </p:nvGrpSpPr>
        <p:grpSpPr>
          <a:xfrm>
            <a:off x="5618160" y="2206800"/>
            <a:ext cx="955800" cy="973080"/>
            <a:chOff x="5618160" y="2206800"/>
            <a:chExt cx="955800" cy="973080"/>
          </a:xfrm>
        </p:grpSpPr>
        <p:sp>
          <p:nvSpPr>
            <p:cNvPr id="1579" name="Oval 42"/>
            <p:cNvSpPr/>
            <p:nvPr/>
          </p:nvSpPr>
          <p:spPr>
            <a:xfrm>
              <a:off x="5618160" y="2206800"/>
              <a:ext cx="955800" cy="973080"/>
            </a:xfrm>
            <a:prstGeom prst="ellipse">
              <a:avLst/>
            </a:prstGeom>
            <a:solidFill>
              <a:srgbClr val="ffffff"/>
            </a:solidFill>
            <a:ln w="77760">
              <a:solidFill>
                <a:srgbClr val="59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"/>
            <p:cNvSpPr/>
            <p:nvPr/>
          </p:nvSpPr>
          <p:spPr>
            <a:xfrm>
              <a:off x="5875200" y="2496600"/>
              <a:ext cx="441720" cy="39312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1" name="矩形 42"/>
          <p:cNvSpPr/>
          <p:nvPr/>
        </p:nvSpPr>
        <p:spPr>
          <a:xfrm>
            <a:off x="4878000" y="86184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15"/>
          <p:cNvSpPr/>
          <p:nvPr/>
        </p:nvSpPr>
        <p:spPr>
          <a:xfrm>
            <a:off x="4218120" y="142560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组合 35"/>
          <p:cNvGrpSpPr/>
          <p:nvPr/>
        </p:nvGrpSpPr>
        <p:grpSpPr>
          <a:xfrm>
            <a:off x="5022720" y="2674800"/>
            <a:ext cx="2241720" cy="2373480"/>
            <a:chOff x="5022720" y="2674800"/>
            <a:chExt cx="2241720" cy="2373480"/>
          </a:xfrm>
        </p:grpSpPr>
        <p:sp>
          <p:nvSpPr>
            <p:cNvPr id="1584" name="等腰三角形 36"/>
            <p:cNvSpPr/>
            <p:nvPr/>
          </p:nvSpPr>
          <p:spPr>
            <a:xfrm>
              <a:off x="502272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37"/>
            <p:cNvSpPr/>
            <p:nvPr/>
          </p:nvSpPr>
          <p:spPr>
            <a:xfrm>
              <a:off x="5022720" y="2776320"/>
              <a:ext cx="2241720" cy="227196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等腰三角形 38"/>
            <p:cNvSpPr/>
            <p:nvPr/>
          </p:nvSpPr>
          <p:spPr>
            <a:xfrm>
              <a:off x="529740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等腰三角形 39"/>
            <p:cNvSpPr/>
            <p:nvPr/>
          </p:nvSpPr>
          <p:spPr>
            <a:xfrm>
              <a:off x="557676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等腰三角形 40"/>
            <p:cNvSpPr/>
            <p:nvPr/>
          </p:nvSpPr>
          <p:spPr>
            <a:xfrm>
              <a:off x="585648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等腰三角形 41"/>
            <p:cNvSpPr/>
            <p:nvPr/>
          </p:nvSpPr>
          <p:spPr>
            <a:xfrm>
              <a:off x="613584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等腰三角形 42"/>
            <p:cNvSpPr/>
            <p:nvPr/>
          </p:nvSpPr>
          <p:spPr>
            <a:xfrm>
              <a:off x="641556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等腰三角形 43"/>
            <p:cNvSpPr/>
            <p:nvPr/>
          </p:nvSpPr>
          <p:spPr>
            <a:xfrm>
              <a:off x="669492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等腰三角形 44"/>
            <p:cNvSpPr/>
            <p:nvPr/>
          </p:nvSpPr>
          <p:spPr>
            <a:xfrm>
              <a:off x="6974640" y="267480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Oval 18"/>
          <p:cNvSpPr/>
          <p:nvPr/>
        </p:nvSpPr>
        <p:spPr>
          <a:xfrm>
            <a:off x="5495760" y="1231920"/>
            <a:ext cx="1219320" cy="121932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19"/>
          <p:cNvSpPr/>
          <p:nvPr/>
        </p:nvSpPr>
        <p:spPr>
          <a:xfrm>
            <a:off x="5838840" y="148608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12" h="274">
                <a:moveTo>
                  <a:pt x="212" y="257"/>
                </a:moveTo>
                <a:cubicBezTo>
                  <a:pt x="212" y="266"/>
                  <a:pt x="205" y="274"/>
                  <a:pt x="196" y="274"/>
                </a:cubicBezTo>
                <a:cubicBezTo>
                  <a:pt x="17" y="274"/>
                  <a:pt x="17" y="274"/>
                  <a:pt x="17" y="274"/>
                </a:cubicBezTo>
                <a:cubicBezTo>
                  <a:pt x="7" y="274"/>
                  <a:pt x="0" y="266"/>
                  <a:pt x="0" y="25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8"/>
                  <a:pt x="7" y="0"/>
                  <a:pt x="17" y="0"/>
                </a:cubicBezTo>
                <a:cubicBezTo>
                  <a:pt x="196" y="0"/>
                  <a:pt x="196" y="0"/>
                  <a:pt x="196" y="0"/>
                </a:cubicBezTo>
                <a:cubicBezTo>
                  <a:pt x="205" y="0"/>
                  <a:pt x="212" y="8"/>
                  <a:pt x="212" y="17"/>
                </a:cubicBezTo>
                <a:lnTo>
                  <a:pt x="212" y="2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20"/>
          <p:cNvSpPr/>
          <p:nvPr/>
        </p:nvSpPr>
        <p:spPr>
          <a:xfrm>
            <a:off x="5899320" y="1565280"/>
            <a:ext cx="428400" cy="550800"/>
          </a:xfrm>
          <a:custGeom>
            <a:avLst/>
            <a:gdLst>
              <a:gd name="textAreaLeft" fmla="*/ 0 w 428400"/>
              <a:gd name="textAreaRight" fmla="*/ 428760 w 4284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66" h="212">
                <a:moveTo>
                  <a:pt x="166" y="199"/>
                </a:moveTo>
                <a:cubicBezTo>
                  <a:pt x="166" y="206"/>
                  <a:pt x="160" y="212"/>
                  <a:pt x="153" y="212"/>
                </a:cubicBezTo>
                <a:cubicBezTo>
                  <a:pt x="13" y="212"/>
                  <a:pt x="13" y="212"/>
                  <a:pt x="13" y="212"/>
                </a:cubicBezTo>
                <a:cubicBezTo>
                  <a:pt x="6" y="212"/>
                  <a:pt x="0" y="206"/>
                  <a:pt x="0" y="19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5"/>
                  <a:pt x="6" y="0"/>
                  <a:pt x="1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60" y="0"/>
                  <a:pt x="166" y="5"/>
                  <a:pt x="166" y="13"/>
                </a:cubicBezTo>
                <a:lnTo>
                  <a:pt x="166" y="199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21"/>
          <p:cNvSpPr/>
          <p:nvPr/>
        </p:nvSpPr>
        <p:spPr>
          <a:xfrm>
            <a:off x="6031080" y="1679400"/>
            <a:ext cx="250560" cy="28800"/>
          </a:xfrm>
          <a:custGeom>
            <a:avLst/>
            <a:gdLst>
              <a:gd name="textAreaLeft" fmla="*/ 0 w 250560"/>
              <a:gd name="textAreaRight" fmla="*/ 250920 w 25056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97" h="11">
                <a:moveTo>
                  <a:pt x="97" y="8"/>
                </a:moveTo>
                <a:cubicBezTo>
                  <a:pt x="97" y="10"/>
                  <a:pt x="95" y="11"/>
                  <a:pt x="93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2" y="11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1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1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22"/>
          <p:cNvSpPr/>
          <p:nvPr/>
        </p:nvSpPr>
        <p:spPr>
          <a:xfrm>
            <a:off x="5951520" y="166680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7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7"/>
                </a:cubicBezTo>
                <a:cubicBezTo>
                  <a:pt x="0" y="4"/>
                  <a:pt x="0" y="4"/>
                  <a:pt x="0" y="4"/>
                </a:cubicBezTo>
                <a:cubicBezTo>
                  <a:pt x="0" y="1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1"/>
                  <a:pt x="22" y="4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23"/>
          <p:cNvSpPr/>
          <p:nvPr/>
        </p:nvSpPr>
        <p:spPr>
          <a:xfrm>
            <a:off x="6031080" y="1757520"/>
            <a:ext cx="250560" cy="29880"/>
          </a:xfrm>
          <a:custGeom>
            <a:avLst/>
            <a:gdLst>
              <a:gd name="textAreaLeft" fmla="*/ 0 w 250560"/>
              <a:gd name="textAreaRight" fmla="*/ 250920 w 2505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97" h="12">
                <a:moveTo>
                  <a:pt x="97" y="8"/>
                </a:moveTo>
                <a:cubicBezTo>
                  <a:pt x="97" y="10"/>
                  <a:pt x="95" y="12"/>
                  <a:pt x="93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2" y="12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2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24"/>
          <p:cNvSpPr/>
          <p:nvPr/>
        </p:nvSpPr>
        <p:spPr>
          <a:xfrm>
            <a:off x="5951520" y="174456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4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25"/>
          <p:cNvSpPr/>
          <p:nvPr/>
        </p:nvSpPr>
        <p:spPr>
          <a:xfrm>
            <a:off x="6031080" y="1835280"/>
            <a:ext cx="250560" cy="31680"/>
          </a:xfrm>
          <a:custGeom>
            <a:avLst/>
            <a:gdLst>
              <a:gd name="textAreaLeft" fmla="*/ 0 w 250560"/>
              <a:gd name="textAreaRight" fmla="*/ 250920 w 2505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7" h="12">
                <a:moveTo>
                  <a:pt x="97" y="8"/>
                </a:moveTo>
                <a:cubicBezTo>
                  <a:pt x="97" y="10"/>
                  <a:pt x="95" y="12"/>
                  <a:pt x="93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2" y="12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2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26"/>
          <p:cNvSpPr/>
          <p:nvPr/>
        </p:nvSpPr>
        <p:spPr>
          <a:xfrm>
            <a:off x="5951520" y="182232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4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27"/>
          <p:cNvSpPr/>
          <p:nvPr/>
        </p:nvSpPr>
        <p:spPr>
          <a:xfrm>
            <a:off x="6031080" y="1913040"/>
            <a:ext cx="250560" cy="31680"/>
          </a:xfrm>
          <a:custGeom>
            <a:avLst/>
            <a:gdLst>
              <a:gd name="textAreaLeft" fmla="*/ 0 w 250560"/>
              <a:gd name="textAreaRight" fmla="*/ 250920 w 2505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7" h="12">
                <a:moveTo>
                  <a:pt x="97" y="8"/>
                </a:moveTo>
                <a:cubicBezTo>
                  <a:pt x="97" y="10"/>
                  <a:pt x="95" y="12"/>
                  <a:pt x="93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2" y="12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2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28"/>
          <p:cNvSpPr/>
          <p:nvPr/>
        </p:nvSpPr>
        <p:spPr>
          <a:xfrm>
            <a:off x="5951520" y="190008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4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29"/>
          <p:cNvSpPr/>
          <p:nvPr/>
        </p:nvSpPr>
        <p:spPr>
          <a:xfrm>
            <a:off x="6031080" y="1994040"/>
            <a:ext cx="250560" cy="28440"/>
          </a:xfrm>
          <a:custGeom>
            <a:avLst/>
            <a:gdLst>
              <a:gd name="textAreaLeft" fmla="*/ 0 w 250560"/>
              <a:gd name="textAreaRight" fmla="*/ 250920 w 2505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97" h="11">
                <a:moveTo>
                  <a:pt x="97" y="7"/>
                </a:moveTo>
                <a:cubicBezTo>
                  <a:pt x="97" y="10"/>
                  <a:pt x="95" y="11"/>
                  <a:pt x="93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2" y="11"/>
                  <a:pt x="0" y="10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1"/>
                  <a:pt x="97" y="3"/>
                </a:cubicBezTo>
                <a:lnTo>
                  <a:pt x="97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30"/>
          <p:cNvSpPr/>
          <p:nvPr/>
        </p:nvSpPr>
        <p:spPr>
          <a:xfrm>
            <a:off x="5951520" y="1978200"/>
            <a:ext cx="58680" cy="56880"/>
          </a:xfrm>
          <a:custGeom>
            <a:avLst/>
            <a:gdLst>
              <a:gd name="textAreaLeft" fmla="*/ 0 w 58680"/>
              <a:gd name="textAreaRight" fmla="*/ 59040 w 586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1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1"/>
                  <a:pt x="0" y="18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5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31"/>
          <p:cNvSpPr/>
          <p:nvPr/>
        </p:nvSpPr>
        <p:spPr>
          <a:xfrm>
            <a:off x="6010200" y="1519200"/>
            <a:ext cx="195480" cy="101520"/>
          </a:xfrm>
          <a:custGeom>
            <a:avLst/>
            <a:gdLst>
              <a:gd name="textAreaLeft" fmla="*/ 0 w 195480"/>
              <a:gd name="textAreaRight" fmla="*/ 195840 w 195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6" h="39">
                <a:moveTo>
                  <a:pt x="76" y="25"/>
                </a:moveTo>
                <a:cubicBezTo>
                  <a:pt x="76" y="33"/>
                  <a:pt x="70" y="39"/>
                  <a:pt x="63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6" y="39"/>
                  <a:pt x="0" y="33"/>
                  <a:pt x="0" y="2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70" y="0"/>
                  <a:pt x="76" y="6"/>
                  <a:pt x="76" y="13"/>
                </a:cubicBezTo>
                <a:lnTo>
                  <a:pt x="7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矩形 3"/>
          <p:cNvSpPr/>
          <p:nvPr/>
        </p:nvSpPr>
        <p:spPr>
          <a:xfrm>
            <a:off x="5532120" y="2949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矩形 60"/>
          <p:cNvSpPr/>
          <p:nvPr/>
        </p:nvSpPr>
        <p:spPr>
          <a:xfrm>
            <a:off x="5251320" y="3538440"/>
            <a:ext cx="1743120" cy="460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矩形 26"/>
          <p:cNvSpPr/>
          <p:nvPr/>
        </p:nvSpPr>
        <p:spPr>
          <a:xfrm>
            <a:off x="5442120" y="356724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方案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矩形 28"/>
          <p:cNvSpPr/>
          <p:nvPr/>
        </p:nvSpPr>
        <p:spPr>
          <a:xfrm>
            <a:off x="5442120" y="39574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研究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矩形 29"/>
          <p:cNvSpPr/>
          <p:nvPr/>
        </p:nvSpPr>
        <p:spPr>
          <a:xfrm>
            <a:off x="5428080" y="43909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运行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椭圆 24"/>
          <p:cNvSpPr/>
          <p:nvPr/>
        </p:nvSpPr>
        <p:spPr>
          <a:xfrm>
            <a:off x="1536840" y="1790640"/>
            <a:ext cx="1987560" cy="1987560"/>
          </a:xfrm>
          <a:prstGeom prst="ellipse">
            <a:avLst/>
          </a:prstGeom>
          <a:solidFill>
            <a:srgbClr val="596f00"/>
          </a:solidFill>
          <a:ln w="41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组合 25"/>
          <p:cNvGrpSpPr/>
          <p:nvPr/>
        </p:nvGrpSpPr>
        <p:grpSpPr>
          <a:xfrm>
            <a:off x="1998720" y="2398680"/>
            <a:ext cx="1068480" cy="771480"/>
            <a:chOff x="1998720" y="2398680"/>
            <a:chExt cx="1068480" cy="771480"/>
          </a:xfrm>
        </p:grpSpPr>
        <p:sp>
          <p:nvSpPr>
            <p:cNvPr id="1614" name="Freeform 5"/>
            <p:cNvSpPr/>
            <p:nvPr/>
          </p:nvSpPr>
          <p:spPr>
            <a:xfrm>
              <a:off x="2097000" y="2450880"/>
              <a:ext cx="849600" cy="433440"/>
            </a:xfrm>
            <a:custGeom>
              <a:avLst/>
              <a:gdLst>
                <a:gd name="textAreaLeft" fmla="*/ 0 w 849600"/>
                <a:gd name="textAreaRight" fmla="*/ 849960 w 849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24" h="114">
                  <a:moveTo>
                    <a:pt x="224" y="92"/>
                  </a:moveTo>
                  <a:cubicBezTo>
                    <a:pt x="224" y="105"/>
                    <a:pt x="215" y="114"/>
                    <a:pt x="203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9" y="114"/>
                    <a:pt x="0" y="105"/>
                    <a:pt x="0" y="9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9" y="0"/>
                    <a:pt x="21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15" y="0"/>
                    <a:pt x="224" y="10"/>
                    <a:pt x="224" y="22"/>
                  </a:cubicBezTo>
                  <a:lnTo>
                    <a:pt x="22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6"/>
            <p:cNvSpPr/>
            <p:nvPr/>
          </p:nvSpPr>
          <p:spPr>
            <a:xfrm>
              <a:off x="1998720" y="3106800"/>
              <a:ext cx="1068480" cy="633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2" h="17">
                  <a:moveTo>
                    <a:pt x="281" y="0"/>
                  </a:moveTo>
                  <a:cubicBezTo>
                    <a:pt x="279" y="4"/>
                    <a:pt x="272" y="6"/>
                    <a:pt x="261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1" y="6"/>
                    <a:pt x="3" y="4"/>
                    <a:pt x="2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13"/>
                    <a:pt x="9" y="17"/>
                    <a:pt x="22" y="17"/>
                  </a:cubicBezTo>
                  <a:cubicBezTo>
                    <a:pt x="261" y="17"/>
                    <a:pt x="261" y="17"/>
                    <a:pt x="261" y="17"/>
                  </a:cubicBezTo>
                  <a:cubicBezTo>
                    <a:pt x="274" y="17"/>
                    <a:pt x="282" y="13"/>
                    <a:pt x="281" y="9"/>
                  </a:cubicBezTo>
                  <a:lnTo>
                    <a:pt x="2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"/>
            <p:cNvSpPr/>
            <p:nvPr/>
          </p:nvSpPr>
          <p:spPr>
            <a:xfrm>
              <a:off x="1998720" y="2398680"/>
              <a:ext cx="1068480" cy="70812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82" h="186">
                  <a:moveTo>
                    <a:pt x="281" y="178"/>
                  </a:moveTo>
                  <a:cubicBezTo>
                    <a:pt x="269" y="145"/>
                    <a:pt x="269" y="145"/>
                    <a:pt x="269" y="145"/>
                  </a:cubicBezTo>
                  <a:cubicBezTo>
                    <a:pt x="267" y="141"/>
                    <a:pt x="257" y="137"/>
                    <a:pt x="246" y="137"/>
                  </a:cubicBezTo>
                  <a:cubicBezTo>
                    <a:pt x="246" y="137"/>
                    <a:pt x="246" y="137"/>
                    <a:pt x="246" y="137"/>
                  </a:cubicBezTo>
                  <a:cubicBezTo>
                    <a:pt x="256" y="131"/>
                    <a:pt x="263" y="119"/>
                    <a:pt x="263" y="106"/>
                  </a:cubicBezTo>
                  <a:cubicBezTo>
                    <a:pt x="263" y="36"/>
                    <a:pt x="263" y="36"/>
                    <a:pt x="263" y="36"/>
                  </a:cubicBezTo>
                  <a:cubicBezTo>
                    <a:pt x="263" y="16"/>
                    <a:pt x="248" y="0"/>
                    <a:pt x="229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8" y="0"/>
                    <a:pt x="30" y="4"/>
                    <a:pt x="23" y="11"/>
                  </a:cubicBezTo>
                  <a:cubicBezTo>
                    <a:pt x="17" y="18"/>
                    <a:pt x="13" y="27"/>
                    <a:pt x="13" y="36"/>
                  </a:cubicBezTo>
                  <a:cubicBezTo>
                    <a:pt x="13" y="106"/>
                    <a:pt x="13" y="106"/>
                    <a:pt x="13" y="106"/>
                  </a:cubicBezTo>
                  <a:cubicBezTo>
                    <a:pt x="13" y="120"/>
                    <a:pt x="20" y="131"/>
                    <a:pt x="31" y="137"/>
                  </a:cubicBezTo>
                  <a:cubicBezTo>
                    <a:pt x="22" y="138"/>
                    <a:pt x="15" y="142"/>
                    <a:pt x="14" y="145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9" y="186"/>
                    <a:pt x="22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74" y="186"/>
                    <a:pt x="282" y="182"/>
                    <a:pt x="281" y="178"/>
                  </a:cubicBezTo>
                  <a:close/>
                  <a:moveTo>
                    <a:pt x="77" y="161"/>
                  </a:moveTo>
                  <a:cubicBezTo>
                    <a:pt x="78" y="158"/>
                    <a:pt x="84" y="156"/>
                    <a:pt x="90" y="156"/>
                  </a:cubicBezTo>
                  <a:cubicBezTo>
                    <a:pt x="97" y="156"/>
                    <a:pt x="102" y="158"/>
                    <a:pt x="102" y="161"/>
                  </a:cubicBezTo>
                  <a:cubicBezTo>
                    <a:pt x="102" y="163"/>
                    <a:pt x="96" y="165"/>
                    <a:pt x="89" y="165"/>
                  </a:cubicBezTo>
                  <a:cubicBezTo>
                    <a:pt x="82" y="165"/>
                    <a:pt x="77" y="163"/>
                    <a:pt x="77" y="161"/>
                  </a:cubicBezTo>
                  <a:close/>
                  <a:moveTo>
                    <a:pt x="75" y="153"/>
                  </a:moveTo>
                  <a:cubicBezTo>
                    <a:pt x="68" y="153"/>
                    <a:pt x="63" y="150"/>
                    <a:pt x="64" y="148"/>
                  </a:cubicBezTo>
                  <a:cubicBezTo>
                    <a:pt x="64" y="145"/>
                    <a:pt x="70" y="143"/>
                    <a:pt x="76" y="143"/>
                  </a:cubicBezTo>
                  <a:cubicBezTo>
                    <a:pt x="83" y="143"/>
                    <a:pt x="88" y="145"/>
                    <a:pt x="87" y="148"/>
                  </a:cubicBezTo>
                  <a:cubicBezTo>
                    <a:pt x="87" y="150"/>
                    <a:pt x="81" y="153"/>
                    <a:pt x="75" y="153"/>
                  </a:cubicBezTo>
                  <a:close/>
                  <a:moveTo>
                    <a:pt x="97" y="148"/>
                  </a:moveTo>
                  <a:cubicBezTo>
                    <a:pt x="97" y="145"/>
                    <a:pt x="102" y="143"/>
                    <a:pt x="109" y="143"/>
                  </a:cubicBezTo>
                  <a:cubicBezTo>
                    <a:pt x="115" y="143"/>
                    <a:pt x="120" y="145"/>
                    <a:pt x="120" y="148"/>
                  </a:cubicBezTo>
                  <a:cubicBezTo>
                    <a:pt x="120" y="150"/>
                    <a:pt x="115" y="153"/>
                    <a:pt x="108" y="153"/>
                  </a:cubicBezTo>
                  <a:cubicBezTo>
                    <a:pt x="101" y="153"/>
                    <a:pt x="96" y="150"/>
                    <a:pt x="97" y="148"/>
                  </a:cubicBezTo>
                  <a:close/>
                  <a:moveTo>
                    <a:pt x="124" y="156"/>
                  </a:moveTo>
                  <a:cubicBezTo>
                    <a:pt x="131" y="156"/>
                    <a:pt x="136" y="158"/>
                    <a:pt x="136" y="161"/>
                  </a:cubicBezTo>
                  <a:cubicBezTo>
                    <a:pt x="136" y="163"/>
                    <a:pt x="130" y="165"/>
                    <a:pt x="124" y="165"/>
                  </a:cubicBezTo>
                  <a:cubicBezTo>
                    <a:pt x="117" y="165"/>
                    <a:pt x="111" y="163"/>
                    <a:pt x="112" y="161"/>
                  </a:cubicBezTo>
                  <a:cubicBezTo>
                    <a:pt x="112" y="158"/>
                    <a:pt x="117" y="156"/>
                    <a:pt x="124" y="156"/>
                  </a:cubicBezTo>
                  <a:close/>
                  <a:moveTo>
                    <a:pt x="129" y="148"/>
                  </a:moveTo>
                  <a:cubicBezTo>
                    <a:pt x="130" y="145"/>
                    <a:pt x="135" y="143"/>
                    <a:pt x="141" y="143"/>
                  </a:cubicBezTo>
                  <a:cubicBezTo>
                    <a:pt x="148" y="143"/>
                    <a:pt x="153" y="145"/>
                    <a:pt x="153" y="148"/>
                  </a:cubicBezTo>
                  <a:cubicBezTo>
                    <a:pt x="153" y="150"/>
                    <a:pt x="148" y="153"/>
                    <a:pt x="141" y="153"/>
                  </a:cubicBezTo>
                  <a:cubicBezTo>
                    <a:pt x="135" y="153"/>
                    <a:pt x="129" y="150"/>
                    <a:pt x="129" y="148"/>
                  </a:cubicBezTo>
                  <a:close/>
                  <a:moveTo>
                    <a:pt x="158" y="156"/>
                  </a:moveTo>
                  <a:cubicBezTo>
                    <a:pt x="164" y="156"/>
                    <a:pt x="170" y="158"/>
                    <a:pt x="170" y="161"/>
                  </a:cubicBezTo>
                  <a:cubicBezTo>
                    <a:pt x="170" y="163"/>
                    <a:pt x="165" y="165"/>
                    <a:pt x="158" y="165"/>
                  </a:cubicBezTo>
                  <a:cubicBezTo>
                    <a:pt x="151" y="165"/>
                    <a:pt x="146" y="163"/>
                    <a:pt x="146" y="161"/>
                  </a:cubicBezTo>
                  <a:cubicBezTo>
                    <a:pt x="146" y="158"/>
                    <a:pt x="151" y="156"/>
                    <a:pt x="158" y="156"/>
                  </a:cubicBezTo>
                  <a:close/>
                  <a:moveTo>
                    <a:pt x="162" y="148"/>
                  </a:moveTo>
                  <a:cubicBezTo>
                    <a:pt x="162" y="145"/>
                    <a:pt x="167" y="143"/>
                    <a:pt x="174" y="143"/>
                  </a:cubicBezTo>
                  <a:cubicBezTo>
                    <a:pt x="180" y="143"/>
                    <a:pt x="186" y="145"/>
                    <a:pt x="186" y="148"/>
                  </a:cubicBezTo>
                  <a:cubicBezTo>
                    <a:pt x="186" y="150"/>
                    <a:pt x="181" y="153"/>
                    <a:pt x="175" y="153"/>
                  </a:cubicBezTo>
                  <a:cubicBezTo>
                    <a:pt x="168" y="153"/>
                    <a:pt x="163" y="150"/>
                    <a:pt x="162" y="148"/>
                  </a:cubicBezTo>
                  <a:close/>
                  <a:moveTo>
                    <a:pt x="191" y="156"/>
                  </a:moveTo>
                  <a:cubicBezTo>
                    <a:pt x="198" y="156"/>
                    <a:pt x="204" y="158"/>
                    <a:pt x="204" y="161"/>
                  </a:cubicBezTo>
                  <a:cubicBezTo>
                    <a:pt x="205" y="163"/>
                    <a:pt x="200" y="165"/>
                    <a:pt x="193" y="165"/>
                  </a:cubicBezTo>
                  <a:cubicBezTo>
                    <a:pt x="186" y="165"/>
                    <a:pt x="180" y="163"/>
                    <a:pt x="180" y="161"/>
                  </a:cubicBezTo>
                  <a:cubicBezTo>
                    <a:pt x="179" y="158"/>
                    <a:pt x="185" y="156"/>
                    <a:pt x="191" y="156"/>
                  </a:cubicBezTo>
                  <a:close/>
                  <a:moveTo>
                    <a:pt x="195" y="148"/>
                  </a:moveTo>
                  <a:cubicBezTo>
                    <a:pt x="195" y="145"/>
                    <a:pt x="200" y="143"/>
                    <a:pt x="206" y="143"/>
                  </a:cubicBezTo>
                  <a:cubicBezTo>
                    <a:pt x="213" y="143"/>
                    <a:pt x="218" y="145"/>
                    <a:pt x="219" y="148"/>
                  </a:cubicBezTo>
                  <a:cubicBezTo>
                    <a:pt x="220" y="150"/>
                    <a:pt x="215" y="153"/>
                    <a:pt x="208" y="153"/>
                  </a:cubicBezTo>
                  <a:cubicBezTo>
                    <a:pt x="201" y="153"/>
                    <a:pt x="196" y="150"/>
                    <a:pt x="195" y="148"/>
                  </a:cubicBezTo>
                  <a:close/>
                  <a:moveTo>
                    <a:pt x="18" y="106"/>
                  </a:moveTo>
                  <a:cubicBezTo>
                    <a:pt x="18" y="36"/>
                    <a:pt x="18" y="36"/>
                    <a:pt x="18" y="36"/>
                  </a:cubicBezTo>
                  <a:cubicBezTo>
                    <a:pt x="18" y="28"/>
                    <a:pt x="21" y="20"/>
                    <a:pt x="26" y="14"/>
                  </a:cubicBezTo>
                  <a:cubicBezTo>
                    <a:pt x="32" y="8"/>
                    <a:pt x="39" y="5"/>
                    <a:pt x="47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45" y="5"/>
                    <a:pt x="258" y="19"/>
                    <a:pt x="258" y="36"/>
                  </a:cubicBezTo>
                  <a:cubicBezTo>
                    <a:pt x="258" y="106"/>
                    <a:pt x="258" y="106"/>
                    <a:pt x="258" y="106"/>
                  </a:cubicBezTo>
                  <a:cubicBezTo>
                    <a:pt x="258" y="123"/>
                    <a:pt x="245" y="137"/>
                    <a:pt x="229" y="137"/>
                  </a:cubicBezTo>
                  <a:cubicBezTo>
                    <a:pt x="47" y="137"/>
                    <a:pt x="47" y="137"/>
                    <a:pt x="47" y="137"/>
                  </a:cubicBezTo>
                  <a:cubicBezTo>
                    <a:pt x="31" y="137"/>
                    <a:pt x="18" y="123"/>
                    <a:pt x="18" y="106"/>
                  </a:cubicBezTo>
                  <a:close/>
                  <a:moveTo>
                    <a:pt x="31" y="148"/>
                  </a:moveTo>
                  <a:cubicBezTo>
                    <a:pt x="32" y="145"/>
                    <a:pt x="37" y="143"/>
                    <a:pt x="44" y="143"/>
                  </a:cubicBezTo>
                  <a:cubicBezTo>
                    <a:pt x="50" y="143"/>
                    <a:pt x="55" y="145"/>
                    <a:pt x="54" y="148"/>
                  </a:cubicBezTo>
                  <a:cubicBezTo>
                    <a:pt x="54" y="150"/>
                    <a:pt x="48" y="153"/>
                    <a:pt x="41" y="153"/>
                  </a:cubicBezTo>
                  <a:cubicBezTo>
                    <a:pt x="35" y="153"/>
                    <a:pt x="30" y="150"/>
                    <a:pt x="31" y="148"/>
                  </a:cubicBezTo>
                  <a:close/>
                  <a:moveTo>
                    <a:pt x="43" y="161"/>
                  </a:moveTo>
                  <a:cubicBezTo>
                    <a:pt x="44" y="158"/>
                    <a:pt x="50" y="156"/>
                    <a:pt x="57" y="156"/>
                  </a:cubicBezTo>
                  <a:cubicBezTo>
                    <a:pt x="63" y="156"/>
                    <a:pt x="68" y="158"/>
                    <a:pt x="68" y="161"/>
                  </a:cubicBezTo>
                  <a:cubicBezTo>
                    <a:pt x="67" y="163"/>
                    <a:pt x="61" y="165"/>
                    <a:pt x="54" y="165"/>
                  </a:cubicBezTo>
                  <a:cubicBezTo>
                    <a:pt x="48" y="165"/>
                    <a:pt x="43" y="163"/>
                    <a:pt x="43" y="161"/>
                  </a:cubicBezTo>
                  <a:close/>
                  <a:moveTo>
                    <a:pt x="213" y="180"/>
                  </a:moveTo>
                  <a:cubicBezTo>
                    <a:pt x="70" y="180"/>
                    <a:pt x="70" y="180"/>
                    <a:pt x="70" y="180"/>
                  </a:cubicBezTo>
                  <a:cubicBezTo>
                    <a:pt x="64" y="180"/>
                    <a:pt x="59" y="178"/>
                    <a:pt x="59" y="176"/>
                  </a:cubicBezTo>
                  <a:cubicBezTo>
                    <a:pt x="60" y="174"/>
                    <a:pt x="65" y="172"/>
                    <a:pt x="71" y="172"/>
                  </a:cubicBezTo>
                  <a:cubicBezTo>
                    <a:pt x="211" y="172"/>
                    <a:pt x="211" y="172"/>
                    <a:pt x="211" y="172"/>
                  </a:cubicBezTo>
                  <a:cubicBezTo>
                    <a:pt x="217" y="172"/>
                    <a:pt x="223" y="174"/>
                    <a:pt x="223" y="176"/>
                  </a:cubicBezTo>
                  <a:cubicBezTo>
                    <a:pt x="224" y="178"/>
                    <a:pt x="219" y="180"/>
                    <a:pt x="213" y="180"/>
                  </a:cubicBezTo>
                  <a:close/>
                  <a:moveTo>
                    <a:pt x="227" y="165"/>
                  </a:moveTo>
                  <a:cubicBezTo>
                    <a:pt x="220" y="165"/>
                    <a:pt x="214" y="163"/>
                    <a:pt x="214" y="161"/>
                  </a:cubicBezTo>
                  <a:cubicBezTo>
                    <a:pt x="213" y="158"/>
                    <a:pt x="218" y="156"/>
                    <a:pt x="225" y="156"/>
                  </a:cubicBezTo>
                  <a:cubicBezTo>
                    <a:pt x="232" y="156"/>
                    <a:pt x="238" y="158"/>
                    <a:pt x="238" y="161"/>
                  </a:cubicBezTo>
                  <a:cubicBezTo>
                    <a:pt x="239" y="163"/>
                    <a:pt x="234" y="165"/>
                    <a:pt x="227" y="165"/>
                  </a:cubicBezTo>
                  <a:close/>
                  <a:moveTo>
                    <a:pt x="241" y="153"/>
                  </a:moveTo>
                  <a:cubicBezTo>
                    <a:pt x="235" y="153"/>
                    <a:pt x="229" y="150"/>
                    <a:pt x="228" y="148"/>
                  </a:cubicBezTo>
                  <a:cubicBezTo>
                    <a:pt x="228" y="145"/>
                    <a:pt x="232" y="143"/>
                    <a:pt x="239" y="143"/>
                  </a:cubicBezTo>
                  <a:cubicBezTo>
                    <a:pt x="245" y="143"/>
                    <a:pt x="251" y="145"/>
                    <a:pt x="252" y="148"/>
                  </a:cubicBezTo>
                  <a:cubicBezTo>
                    <a:pt x="253" y="150"/>
                    <a:pt x="248" y="153"/>
                    <a:pt x="241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7" name="椭圆 29"/>
          <p:cNvSpPr/>
          <p:nvPr/>
        </p:nvSpPr>
        <p:spPr>
          <a:xfrm>
            <a:off x="3922560" y="1790640"/>
            <a:ext cx="1987560" cy="1987560"/>
          </a:xfrm>
          <a:prstGeom prst="ellipse">
            <a:avLst/>
          </a:prstGeom>
          <a:solidFill>
            <a:srgbClr val="3e3a39"/>
          </a:solidFill>
          <a:ln w="41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组合 30"/>
          <p:cNvGrpSpPr/>
          <p:nvPr/>
        </p:nvGrpSpPr>
        <p:grpSpPr>
          <a:xfrm>
            <a:off x="4724280" y="2284560"/>
            <a:ext cx="385920" cy="1001520"/>
            <a:chOff x="4724280" y="2284560"/>
            <a:chExt cx="385920" cy="1001520"/>
          </a:xfrm>
        </p:grpSpPr>
        <p:sp>
          <p:nvSpPr>
            <p:cNvPr id="1619" name="Freeform 5"/>
            <p:cNvSpPr/>
            <p:nvPr/>
          </p:nvSpPr>
          <p:spPr>
            <a:xfrm>
              <a:off x="4870440" y="2284560"/>
              <a:ext cx="239760" cy="3952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62" h="104">
                  <a:moveTo>
                    <a:pt x="47" y="9"/>
                  </a:moveTo>
                  <a:cubicBezTo>
                    <a:pt x="47" y="15"/>
                    <a:pt x="47" y="22"/>
                    <a:pt x="47" y="28"/>
                  </a:cubicBezTo>
                  <a:cubicBezTo>
                    <a:pt x="47" y="35"/>
                    <a:pt x="43" y="40"/>
                    <a:pt x="37" y="43"/>
                  </a:cubicBezTo>
                  <a:cubicBezTo>
                    <a:pt x="32" y="46"/>
                    <a:pt x="25" y="45"/>
                    <a:pt x="20" y="47"/>
                  </a:cubicBezTo>
                  <a:cubicBezTo>
                    <a:pt x="0" y="56"/>
                    <a:pt x="1" y="76"/>
                    <a:pt x="1" y="95"/>
                  </a:cubicBezTo>
                  <a:cubicBezTo>
                    <a:pt x="1" y="104"/>
                    <a:pt x="15" y="104"/>
                    <a:pt x="15" y="95"/>
                  </a:cubicBezTo>
                  <a:cubicBezTo>
                    <a:pt x="15" y="89"/>
                    <a:pt x="15" y="82"/>
                    <a:pt x="15" y="76"/>
                  </a:cubicBezTo>
                  <a:cubicBezTo>
                    <a:pt x="15" y="69"/>
                    <a:pt x="19" y="64"/>
                    <a:pt x="25" y="61"/>
                  </a:cubicBezTo>
                  <a:cubicBezTo>
                    <a:pt x="30" y="58"/>
                    <a:pt x="37" y="59"/>
                    <a:pt x="42" y="57"/>
                  </a:cubicBezTo>
                  <a:cubicBezTo>
                    <a:pt x="62" y="48"/>
                    <a:pt x="61" y="28"/>
                    <a:pt x="61" y="9"/>
                  </a:cubicBezTo>
                  <a:cubicBezTo>
                    <a:pt x="61" y="0"/>
                    <a:pt x="47" y="0"/>
                    <a:pt x="4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6"/>
            <p:cNvSpPr/>
            <p:nvPr/>
          </p:nvSpPr>
          <p:spPr>
            <a:xfrm>
              <a:off x="4724280" y="2716200"/>
              <a:ext cx="363960" cy="56988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94" h="150">
                  <a:moveTo>
                    <a:pt x="39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0"/>
                  </a:lnTo>
                  <a:close/>
                  <a:moveTo>
                    <a:pt x="66" y="0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94" y="13"/>
                    <a:pt x="81" y="0"/>
                    <a:pt x="66" y="0"/>
                  </a:cubicBezTo>
                  <a:close/>
                  <a:moveTo>
                    <a:pt x="0" y="121"/>
                  </a:moveTo>
                  <a:cubicBezTo>
                    <a:pt x="0" y="137"/>
                    <a:pt x="12" y="150"/>
                    <a:pt x="27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81" y="150"/>
                    <a:pt x="94" y="137"/>
                    <a:pt x="94" y="121"/>
                  </a:cubicBezTo>
                  <a:cubicBezTo>
                    <a:pt x="94" y="57"/>
                    <a:pt x="94" y="57"/>
                    <a:pt x="94" y="57"/>
                  </a:cubicBezTo>
                  <a:cubicBezTo>
                    <a:pt x="0" y="57"/>
                    <a:pt x="0" y="57"/>
                    <a:pt x="0" y="57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1" name="椭圆 33"/>
          <p:cNvSpPr/>
          <p:nvPr/>
        </p:nvSpPr>
        <p:spPr>
          <a:xfrm>
            <a:off x="6307200" y="1790640"/>
            <a:ext cx="1985760" cy="1987560"/>
          </a:xfrm>
          <a:prstGeom prst="ellipse">
            <a:avLst/>
          </a:prstGeom>
          <a:solidFill>
            <a:srgbClr val="08a5ef"/>
          </a:solidFill>
          <a:ln w="41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组合 34"/>
          <p:cNvGrpSpPr/>
          <p:nvPr/>
        </p:nvGrpSpPr>
        <p:grpSpPr>
          <a:xfrm>
            <a:off x="6872400" y="2409840"/>
            <a:ext cx="860400" cy="750960"/>
            <a:chOff x="6872400" y="2409840"/>
            <a:chExt cx="860400" cy="750960"/>
          </a:xfrm>
        </p:grpSpPr>
        <p:sp>
          <p:nvSpPr>
            <p:cNvPr id="1623" name="Freeform 10"/>
            <p:cNvSpPr/>
            <p:nvPr/>
          </p:nvSpPr>
          <p:spPr>
            <a:xfrm>
              <a:off x="6872400" y="2670120"/>
              <a:ext cx="754200" cy="160200"/>
            </a:xfrm>
            <a:custGeom>
              <a:avLst/>
              <a:gdLst>
                <a:gd name="textAreaLeft" fmla="*/ 0 w 754200"/>
                <a:gd name="textAreaRight" fmla="*/ 754560 w 754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98" h="42">
                  <a:moveTo>
                    <a:pt x="7" y="8"/>
                  </a:moveTo>
                  <a:cubicBezTo>
                    <a:pt x="2" y="9"/>
                    <a:pt x="0" y="14"/>
                    <a:pt x="2" y="19"/>
                  </a:cubicBezTo>
                  <a:cubicBezTo>
                    <a:pt x="4" y="23"/>
                    <a:pt x="9" y="26"/>
                    <a:pt x="13" y="24"/>
                  </a:cubicBezTo>
                  <a:cubicBezTo>
                    <a:pt x="18" y="22"/>
                    <a:pt x="32" y="17"/>
                    <a:pt x="40" y="17"/>
                  </a:cubicBezTo>
                  <a:cubicBezTo>
                    <a:pt x="43" y="17"/>
                    <a:pt x="52" y="27"/>
                    <a:pt x="58" y="38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189" y="42"/>
                    <a:pt x="189" y="42"/>
                    <a:pt x="189" y="42"/>
                  </a:cubicBezTo>
                  <a:cubicBezTo>
                    <a:pt x="194" y="42"/>
                    <a:pt x="198" y="39"/>
                    <a:pt x="198" y="34"/>
                  </a:cubicBezTo>
                  <a:cubicBezTo>
                    <a:pt x="198" y="29"/>
                    <a:pt x="194" y="25"/>
                    <a:pt x="189" y="25"/>
                  </a:cubicBezTo>
                  <a:cubicBezTo>
                    <a:pt x="189" y="25"/>
                    <a:pt x="80" y="25"/>
                    <a:pt x="71" y="25"/>
                  </a:cubicBezTo>
                  <a:cubicBezTo>
                    <a:pt x="65" y="16"/>
                    <a:pt x="54" y="0"/>
                    <a:pt x="40" y="0"/>
                  </a:cubicBezTo>
                  <a:cubicBezTo>
                    <a:pt x="27" y="0"/>
                    <a:pt x="9" y="7"/>
                    <a:pt x="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1"/>
            <p:cNvSpPr/>
            <p:nvPr/>
          </p:nvSpPr>
          <p:spPr>
            <a:xfrm>
              <a:off x="7089840" y="2907000"/>
              <a:ext cx="460440" cy="6804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1" h="18">
                  <a:moveTo>
                    <a:pt x="8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8" y="18"/>
                  </a:cubicBezTo>
                  <a:cubicBezTo>
                    <a:pt x="113" y="18"/>
                    <a:pt x="113" y="18"/>
                    <a:pt x="113" y="18"/>
                  </a:cubicBezTo>
                  <a:cubicBezTo>
                    <a:pt x="118" y="18"/>
                    <a:pt x="121" y="14"/>
                    <a:pt x="121" y="9"/>
                  </a:cubicBezTo>
                  <a:cubicBezTo>
                    <a:pt x="121" y="4"/>
                    <a:pt x="118" y="0"/>
                    <a:pt x="113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Oval 12"/>
            <p:cNvSpPr/>
            <p:nvPr/>
          </p:nvSpPr>
          <p:spPr>
            <a:xfrm>
              <a:off x="7120080" y="30355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13"/>
            <p:cNvSpPr/>
            <p:nvPr/>
          </p:nvSpPr>
          <p:spPr>
            <a:xfrm>
              <a:off x="7405920" y="30355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4"/>
            <p:cNvSpPr/>
            <p:nvPr/>
          </p:nvSpPr>
          <p:spPr>
            <a:xfrm>
              <a:off x="7196040" y="2409840"/>
              <a:ext cx="536760" cy="30960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41" h="81">
                  <a:moveTo>
                    <a:pt x="95" y="22"/>
                  </a:moveTo>
                  <a:cubicBezTo>
                    <a:pt x="85" y="23"/>
                    <a:pt x="73" y="26"/>
                    <a:pt x="65" y="28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7" y="47"/>
                    <a:pt x="103" y="39"/>
                    <a:pt x="115" y="36"/>
                  </a:cubicBezTo>
                  <a:cubicBezTo>
                    <a:pt x="135" y="31"/>
                    <a:pt x="141" y="32"/>
                    <a:pt x="141" y="32"/>
                  </a:cubicBezTo>
                  <a:cubicBezTo>
                    <a:pt x="141" y="32"/>
                    <a:pt x="115" y="20"/>
                    <a:pt x="95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椭圆 40"/>
          <p:cNvSpPr/>
          <p:nvPr/>
        </p:nvSpPr>
        <p:spPr>
          <a:xfrm>
            <a:off x="8691480" y="1792440"/>
            <a:ext cx="1987560" cy="1985760"/>
          </a:xfrm>
          <a:prstGeom prst="ellipse">
            <a:avLst/>
          </a:prstGeom>
          <a:solidFill>
            <a:srgbClr val="790003"/>
          </a:solidFill>
          <a:ln w="41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组合 41"/>
          <p:cNvGrpSpPr/>
          <p:nvPr/>
        </p:nvGrpSpPr>
        <p:grpSpPr>
          <a:xfrm>
            <a:off x="9296280" y="2496960"/>
            <a:ext cx="779760" cy="574920"/>
            <a:chOff x="9296280" y="2496960"/>
            <a:chExt cx="779760" cy="574920"/>
          </a:xfrm>
        </p:grpSpPr>
        <p:sp>
          <p:nvSpPr>
            <p:cNvPr id="1630" name="Freeform 18"/>
            <p:cNvSpPr/>
            <p:nvPr/>
          </p:nvSpPr>
          <p:spPr>
            <a:xfrm>
              <a:off x="9296280" y="2496960"/>
              <a:ext cx="779760" cy="574920"/>
            </a:xfrm>
            <a:custGeom>
              <a:avLst/>
              <a:gdLst>
                <a:gd name="textAreaLeft" fmla="*/ 0 w 779760"/>
                <a:gd name="textAreaRight" fmla="*/ 780120 w 77976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205" h="150">
                  <a:moveTo>
                    <a:pt x="182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3"/>
                    <a:pt x="10" y="124"/>
                    <a:pt x="23" y="124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72" y="150"/>
                    <a:pt x="172" y="150"/>
                    <a:pt x="172" y="150"/>
                  </a:cubicBezTo>
                  <a:cubicBezTo>
                    <a:pt x="161" y="124"/>
                    <a:pt x="161" y="124"/>
                    <a:pt x="161" y="124"/>
                  </a:cubicBezTo>
                  <a:cubicBezTo>
                    <a:pt x="182" y="124"/>
                    <a:pt x="182" y="124"/>
                    <a:pt x="182" y="124"/>
                  </a:cubicBezTo>
                  <a:cubicBezTo>
                    <a:pt x="195" y="124"/>
                    <a:pt x="205" y="113"/>
                    <a:pt x="205" y="101"/>
                  </a:cubicBezTo>
                  <a:cubicBezTo>
                    <a:pt x="205" y="23"/>
                    <a:pt x="205" y="23"/>
                    <a:pt x="205" y="23"/>
                  </a:cubicBezTo>
                  <a:cubicBezTo>
                    <a:pt x="205" y="10"/>
                    <a:pt x="195" y="0"/>
                    <a:pt x="182" y="0"/>
                  </a:cubicBezTo>
                  <a:close/>
                  <a:moveTo>
                    <a:pt x="192" y="101"/>
                  </a:moveTo>
                  <a:cubicBezTo>
                    <a:pt x="192" y="106"/>
                    <a:pt x="188" y="110"/>
                    <a:pt x="182" y="110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18" y="110"/>
                    <a:pt x="13" y="106"/>
                    <a:pt x="13" y="101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17"/>
                    <a:pt x="18" y="13"/>
                    <a:pt x="23" y="13"/>
                  </a:cubicBezTo>
                  <a:cubicBezTo>
                    <a:pt x="182" y="13"/>
                    <a:pt x="182" y="13"/>
                    <a:pt x="182" y="13"/>
                  </a:cubicBezTo>
                  <a:cubicBezTo>
                    <a:pt x="188" y="13"/>
                    <a:pt x="192" y="17"/>
                    <a:pt x="192" y="23"/>
                  </a:cubicBezTo>
                  <a:lnTo>
                    <a:pt x="19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9"/>
            <p:cNvSpPr/>
            <p:nvPr/>
          </p:nvSpPr>
          <p:spPr>
            <a:xfrm>
              <a:off x="9710640" y="2678040"/>
              <a:ext cx="114120" cy="1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20"/>
            <p:cNvSpPr/>
            <p:nvPr/>
          </p:nvSpPr>
          <p:spPr>
            <a:xfrm>
              <a:off x="9558360" y="2678040"/>
              <a:ext cx="109440" cy="1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21"/>
            <p:cNvSpPr/>
            <p:nvPr/>
          </p:nvSpPr>
          <p:spPr>
            <a:xfrm>
              <a:off x="9405720" y="2678040"/>
              <a:ext cx="110880" cy="1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22"/>
            <p:cNvSpPr/>
            <p:nvPr/>
          </p:nvSpPr>
          <p:spPr>
            <a:xfrm>
              <a:off x="9866520" y="2678040"/>
              <a:ext cx="110880" cy="1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矩形 28"/>
          <p:cNvSpPr/>
          <p:nvPr/>
        </p:nvSpPr>
        <p:spPr>
          <a:xfrm>
            <a:off x="2080080" y="13273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52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矩形 29"/>
          <p:cNvSpPr/>
          <p:nvPr/>
        </p:nvSpPr>
        <p:spPr>
          <a:xfrm>
            <a:off x="4542480" y="13273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52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0"/>
          <p:cNvSpPr/>
          <p:nvPr/>
        </p:nvSpPr>
        <p:spPr>
          <a:xfrm>
            <a:off x="6895080" y="13273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52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矩形 31"/>
          <p:cNvSpPr/>
          <p:nvPr/>
        </p:nvSpPr>
        <p:spPr>
          <a:xfrm>
            <a:off x="9279720" y="13273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52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矩形 32"/>
          <p:cNvSpPr/>
          <p:nvPr/>
        </p:nvSpPr>
        <p:spPr>
          <a:xfrm>
            <a:off x="1646280" y="394164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矩形 33"/>
          <p:cNvSpPr/>
          <p:nvPr/>
        </p:nvSpPr>
        <p:spPr>
          <a:xfrm>
            <a:off x="4079880" y="394164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矩形 34"/>
          <p:cNvSpPr/>
          <p:nvPr/>
        </p:nvSpPr>
        <p:spPr>
          <a:xfrm>
            <a:off x="6512040" y="394164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矩形 35"/>
          <p:cNvSpPr/>
          <p:nvPr/>
        </p:nvSpPr>
        <p:spPr>
          <a:xfrm>
            <a:off x="8879040" y="394164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矩形 24"/>
          <p:cNvSpPr/>
          <p:nvPr/>
        </p:nvSpPr>
        <p:spPr>
          <a:xfrm>
            <a:off x="411120" y="3236760"/>
            <a:ext cx="1581120" cy="384480"/>
          </a:xfrm>
          <a:prstGeom prst="rect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矩形 25"/>
          <p:cNvSpPr/>
          <p:nvPr/>
        </p:nvSpPr>
        <p:spPr>
          <a:xfrm>
            <a:off x="2289240" y="3236760"/>
            <a:ext cx="1581120" cy="384480"/>
          </a:xfrm>
          <a:prstGeom prst="rect">
            <a:avLst/>
          </a:pr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矩形 26"/>
          <p:cNvSpPr/>
          <p:nvPr/>
        </p:nvSpPr>
        <p:spPr>
          <a:xfrm>
            <a:off x="4287960" y="3236760"/>
            <a:ext cx="1581120" cy="38448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矩形 27"/>
          <p:cNvSpPr/>
          <p:nvPr/>
        </p:nvSpPr>
        <p:spPr>
          <a:xfrm>
            <a:off x="6254640" y="3236760"/>
            <a:ext cx="1581120" cy="3844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矩形 28"/>
          <p:cNvSpPr/>
          <p:nvPr/>
        </p:nvSpPr>
        <p:spPr>
          <a:xfrm>
            <a:off x="8258040" y="3236760"/>
            <a:ext cx="1581120" cy="384480"/>
          </a:xfrm>
          <a:prstGeom prst="rect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矩形 29"/>
          <p:cNvSpPr/>
          <p:nvPr/>
        </p:nvSpPr>
        <p:spPr>
          <a:xfrm>
            <a:off x="10206000" y="3236760"/>
            <a:ext cx="1581120" cy="38448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矩形 30"/>
          <p:cNvSpPr/>
          <p:nvPr/>
        </p:nvSpPr>
        <p:spPr>
          <a:xfrm>
            <a:off x="7070760" y="47307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矩形 31"/>
          <p:cNvSpPr/>
          <p:nvPr/>
        </p:nvSpPr>
        <p:spPr>
          <a:xfrm>
            <a:off x="893880" y="1820880"/>
            <a:ext cx="43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直接连接符 32"/>
          <p:cNvSpPr/>
          <p:nvPr/>
        </p:nvSpPr>
        <p:spPr>
          <a:xfrm>
            <a:off x="893880" y="2523960"/>
            <a:ext cx="4092480" cy="0"/>
          </a:xfrm>
          <a:prstGeom prst="line">
            <a:avLst/>
          </a:prstGeom>
          <a:ln w="3168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直接连接符 33"/>
          <p:cNvSpPr/>
          <p:nvPr/>
        </p:nvSpPr>
        <p:spPr>
          <a:xfrm>
            <a:off x="7070760" y="4660920"/>
            <a:ext cx="4092480" cy="0"/>
          </a:xfrm>
          <a:prstGeom prst="line">
            <a:avLst/>
          </a:prstGeom>
          <a:ln w="3168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直接连接符 34"/>
          <p:cNvSpPr/>
          <p:nvPr/>
        </p:nvSpPr>
        <p:spPr>
          <a:xfrm flipV="1">
            <a:off x="3079800" y="2523960"/>
            <a:ext cx="3240" cy="712800"/>
          </a:xfrm>
          <a:prstGeom prst="line">
            <a:avLst/>
          </a:prstGeom>
          <a:ln w="3168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直接连接符 35"/>
          <p:cNvSpPr/>
          <p:nvPr/>
        </p:nvSpPr>
        <p:spPr>
          <a:xfrm flipH="1" flipV="1">
            <a:off x="7070400" y="3649320"/>
            <a:ext cx="27000" cy="1011240"/>
          </a:xfrm>
          <a:prstGeom prst="line">
            <a:avLst/>
          </a:prstGeom>
          <a:ln w="3168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矩形 36"/>
          <p:cNvSpPr/>
          <p:nvPr/>
        </p:nvSpPr>
        <p:spPr>
          <a:xfrm>
            <a:off x="6919920" y="18208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直接连接符 37"/>
          <p:cNvSpPr/>
          <p:nvPr/>
        </p:nvSpPr>
        <p:spPr>
          <a:xfrm>
            <a:off x="6927840" y="2523960"/>
            <a:ext cx="4092480" cy="0"/>
          </a:xfrm>
          <a:prstGeom prst="line">
            <a:avLst/>
          </a:prstGeom>
          <a:ln w="3168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直接连接符 38"/>
          <p:cNvSpPr/>
          <p:nvPr/>
        </p:nvSpPr>
        <p:spPr>
          <a:xfrm flipH="1" flipV="1">
            <a:off x="9040680" y="2523960"/>
            <a:ext cx="7920" cy="712800"/>
          </a:xfrm>
          <a:prstGeom prst="line">
            <a:avLst/>
          </a:prstGeom>
          <a:ln w="3168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矩形 39"/>
          <p:cNvSpPr/>
          <p:nvPr/>
        </p:nvSpPr>
        <p:spPr>
          <a:xfrm>
            <a:off x="928800" y="4745160"/>
            <a:ext cx="43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直接连接符 40"/>
          <p:cNvSpPr/>
          <p:nvPr/>
        </p:nvSpPr>
        <p:spPr>
          <a:xfrm>
            <a:off x="928800" y="4673520"/>
            <a:ext cx="4092480" cy="0"/>
          </a:xfrm>
          <a:prstGeom prst="line">
            <a:avLst/>
          </a:prstGeom>
          <a:ln w="3168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直接连接符 41"/>
          <p:cNvSpPr/>
          <p:nvPr/>
        </p:nvSpPr>
        <p:spPr>
          <a:xfrm flipV="1">
            <a:off x="5022720" y="3649320"/>
            <a:ext cx="0" cy="995400"/>
          </a:xfrm>
          <a:prstGeom prst="line">
            <a:avLst/>
          </a:prstGeom>
          <a:ln w="3168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矩形 117"/>
          <p:cNvSpPr/>
          <p:nvPr/>
        </p:nvSpPr>
        <p:spPr>
          <a:xfrm>
            <a:off x="2143080" y="4716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124"/>
          <p:cNvSpPr/>
          <p:nvPr/>
        </p:nvSpPr>
        <p:spPr>
          <a:xfrm>
            <a:off x="1766880" y="522936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本模版为大家提供毕业论文答辩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6"/>
          <p:cNvSpPr/>
          <p:nvPr/>
        </p:nvSpPr>
        <p:spPr>
          <a:xfrm>
            <a:off x="2048040" y="907920"/>
            <a:ext cx="1203120" cy="1051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7"/>
          <p:cNvSpPr/>
          <p:nvPr/>
        </p:nvSpPr>
        <p:spPr>
          <a:xfrm>
            <a:off x="2717640" y="2125800"/>
            <a:ext cx="1194120" cy="1035000"/>
          </a:xfrm>
          <a:custGeom>
            <a:avLst/>
            <a:gdLst>
              <a:gd name="textAreaLeft" fmla="*/ 0 w 1194120"/>
              <a:gd name="textAreaRight" fmla="*/ 1194480 w 119412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709" h="614">
                <a:moveTo>
                  <a:pt x="0" y="614"/>
                </a:moveTo>
                <a:lnTo>
                  <a:pt x="355" y="0"/>
                </a:lnTo>
                <a:lnTo>
                  <a:pt x="709" y="614"/>
                </a:lnTo>
                <a:lnTo>
                  <a:pt x="0" y="614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8"/>
          <p:cNvSpPr/>
          <p:nvPr/>
        </p:nvSpPr>
        <p:spPr>
          <a:xfrm>
            <a:off x="677880" y="3327480"/>
            <a:ext cx="1790640" cy="1035000"/>
          </a:xfrm>
          <a:prstGeom prst="pie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9"/>
          <p:cNvSpPr/>
          <p:nvPr/>
        </p:nvSpPr>
        <p:spPr>
          <a:xfrm>
            <a:off x="1360440" y="2125800"/>
            <a:ext cx="1785960" cy="1035000"/>
          </a:xfrm>
          <a:prstGeom prst="pi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0"/>
          <p:cNvSpPr/>
          <p:nvPr/>
        </p:nvSpPr>
        <p:spPr>
          <a:xfrm>
            <a:off x="2048040" y="3327480"/>
            <a:ext cx="2508120" cy="103968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w="1489" h="617">
                <a:moveTo>
                  <a:pt x="1137" y="0"/>
                </a:moveTo>
                <a:lnTo>
                  <a:pt x="360" y="0"/>
                </a:lnTo>
                <a:lnTo>
                  <a:pt x="355" y="0"/>
                </a:lnTo>
                <a:lnTo>
                  <a:pt x="0" y="617"/>
                </a:lnTo>
                <a:lnTo>
                  <a:pt x="709" y="617"/>
                </a:lnTo>
                <a:lnTo>
                  <a:pt x="714" y="617"/>
                </a:lnTo>
                <a:lnTo>
                  <a:pt x="1489" y="617"/>
                </a:lnTo>
                <a:lnTo>
                  <a:pt x="1137" y="0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文本框 16"/>
          <p:cNvSpPr/>
          <p:nvPr/>
        </p:nvSpPr>
        <p:spPr>
          <a:xfrm>
            <a:off x="3343320" y="12985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17"/>
          <p:cNvSpPr/>
          <p:nvPr/>
        </p:nvSpPr>
        <p:spPr>
          <a:xfrm>
            <a:off x="3292560" y="94140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文本框 19"/>
          <p:cNvSpPr/>
          <p:nvPr/>
        </p:nvSpPr>
        <p:spPr>
          <a:xfrm>
            <a:off x="4002120" y="250200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20"/>
          <p:cNvSpPr/>
          <p:nvPr/>
        </p:nvSpPr>
        <p:spPr>
          <a:xfrm>
            <a:off x="4002120" y="21495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文本框 22"/>
          <p:cNvSpPr/>
          <p:nvPr/>
        </p:nvSpPr>
        <p:spPr>
          <a:xfrm>
            <a:off x="4741920" y="3735360"/>
            <a:ext cx="66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矩形 23"/>
          <p:cNvSpPr/>
          <p:nvPr/>
        </p:nvSpPr>
        <p:spPr>
          <a:xfrm>
            <a:off x="4730760" y="337032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124"/>
          <p:cNvSpPr/>
          <p:nvPr/>
        </p:nvSpPr>
        <p:spPr>
          <a:xfrm>
            <a:off x="2092320" y="4357800"/>
            <a:ext cx="9209160" cy="1440"/>
          </a:xfrm>
          <a:prstGeom prst="line">
            <a:avLst/>
          </a:prstGeom>
          <a:ln w="28440">
            <a:solidFill>
              <a:srgbClr val="596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125"/>
          <p:cNvSpPr/>
          <p:nvPr/>
        </p:nvSpPr>
        <p:spPr>
          <a:xfrm>
            <a:off x="2762280" y="3149640"/>
            <a:ext cx="7602480" cy="0"/>
          </a:xfrm>
          <a:prstGeom prst="line">
            <a:avLst/>
          </a:prstGeom>
          <a:ln w="2844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126"/>
          <p:cNvSpPr/>
          <p:nvPr/>
        </p:nvSpPr>
        <p:spPr>
          <a:xfrm>
            <a:off x="2092320" y="1949400"/>
            <a:ext cx="7543800" cy="0"/>
          </a:xfrm>
          <a:prstGeom prst="line">
            <a:avLst/>
          </a:prstGeom>
          <a:ln w="28440">
            <a:solidFill>
              <a:srgbClr val="3e3a3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7" name="组合 26"/>
          <p:cNvGrpSpPr/>
          <p:nvPr/>
        </p:nvGrpSpPr>
        <p:grpSpPr>
          <a:xfrm>
            <a:off x="5018040" y="2658960"/>
            <a:ext cx="2239920" cy="2373480"/>
            <a:chOff x="5018040" y="2658960"/>
            <a:chExt cx="2239920" cy="2373480"/>
          </a:xfrm>
        </p:grpSpPr>
        <p:sp>
          <p:nvSpPr>
            <p:cNvPr id="1678" name="等腰三角形 27"/>
            <p:cNvSpPr/>
            <p:nvPr/>
          </p:nvSpPr>
          <p:spPr>
            <a:xfrm>
              <a:off x="501804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矩形 28"/>
            <p:cNvSpPr/>
            <p:nvPr/>
          </p:nvSpPr>
          <p:spPr>
            <a:xfrm>
              <a:off x="5018040" y="2760480"/>
              <a:ext cx="2239920" cy="227196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等腰三角形 29"/>
            <p:cNvSpPr/>
            <p:nvPr/>
          </p:nvSpPr>
          <p:spPr>
            <a:xfrm>
              <a:off x="529236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等腰三角形 30"/>
            <p:cNvSpPr/>
            <p:nvPr/>
          </p:nvSpPr>
          <p:spPr>
            <a:xfrm>
              <a:off x="557172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等腰三角形 31"/>
            <p:cNvSpPr/>
            <p:nvPr/>
          </p:nvSpPr>
          <p:spPr>
            <a:xfrm>
              <a:off x="585108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等腰三角形 32"/>
            <p:cNvSpPr/>
            <p:nvPr/>
          </p:nvSpPr>
          <p:spPr>
            <a:xfrm>
              <a:off x="613044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等腰三角形 33"/>
            <p:cNvSpPr/>
            <p:nvPr/>
          </p:nvSpPr>
          <p:spPr>
            <a:xfrm>
              <a:off x="640980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等腰三角形 34"/>
            <p:cNvSpPr/>
            <p:nvPr/>
          </p:nvSpPr>
          <p:spPr>
            <a:xfrm>
              <a:off x="668880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等腰三角形 35"/>
            <p:cNvSpPr/>
            <p:nvPr/>
          </p:nvSpPr>
          <p:spPr>
            <a:xfrm>
              <a:off x="6968160" y="265896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7" name="Oval 5"/>
          <p:cNvSpPr/>
          <p:nvPr/>
        </p:nvSpPr>
        <p:spPr>
          <a:xfrm>
            <a:off x="5486400" y="1230480"/>
            <a:ext cx="1219320" cy="121896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Freeform 6"/>
          <p:cNvSpPr/>
          <p:nvPr/>
        </p:nvSpPr>
        <p:spPr>
          <a:xfrm>
            <a:off x="5838840" y="1812960"/>
            <a:ext cx="558720" cy="320760"/>
          </a:xfrm>
          <a:custGeom>
            <a:avLst/>
            <a:gdLst>
              <a:gd name="textAreaLeft" fmla="*/ 0 w 558720"/>
              <a:gd name="textAreaRight" fmla="*/ 559080 w 5587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" h="123">
                <a:moveTo>
                  <a:pt x="216" y="81"/>
                </a:moveTo>
                <a:cubicBezTo>
                  <a:pt x="216" y="89"/>
                  <a:pt x="212" y="101"/>
                  <a:pt x="208" y="108"/>
                </a:cubicBezTo>
                <a:cubicBezTo>
                  <a:pt x="208" y="108"/>
                  <a:pt x="199" y="123"/>
                  <a:pt x="116" y="123"/>
                </a:cubicBezTo>
                <a:cubicBezTo>
                  <a:pt x="34" y="123"/>
                  <a:pt x="12" y="105"/>
                  <a:pt x="12" y="105"/>
                </a:cubicBezTo>
                <a:cubicBezTo>
                  <a:pt x="5" y="100"/>
                  <a:pt x="0" y="89"/>
                  <a:pt x="0" y="8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6"/>
                  <a:pt x="7" y="0"/>
                  <a:pt x="15" y="0"/>
                </a:cubicBezTo>
                <a:cubicBezTo>
                  <a:pt x="201" y="0"/>
                  <a:pt x="201" y="0"/>
                  <a:pt x="201" y="0"/>
                </a:cubicBezTo>
                <a:cubicBezTo>
                  <a:pt x="209" y="0"/>
                  <a:pt x="216" y="6"/>
                  <a:pt x="216" y="15"/>
                </a:cubicBezTo>
                <a:lnTo>
                  <a:pt x="21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7"/>
          <p:cNvSpPr/>
          <p:nvPr/>
        </p:nvSpPr>
        <p:spPr>
          <a:xfrm>
            <a:off x="5587920" y="1600200"/>
            <a:ext cx="1014480" cy="35388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391" h="136">
                <a:moveTo>
                  <a:pt x="8" y="60"/>
                </a:moveTo>
                <a:cubicBezTo>
                  <a:pt x="0" y="62"/>
                  <a:pt x="0" y="66"/>
                  <a:pt x="8" y="69"/>
                </a:cubicBezTo>
                <a:cubicBezTo>
                  <a:pt x="193" y="134"/>
                  <a:pt x="193" y="134"/>
                  <a:pt x="193" y="134"/>
                </a:cubicBezTo>
                <a:cubicBezTo>
                  <a:pt x="201" y="136"/>
                  <a:pt x="213" y="136"/>
                  <a:pt x="221" y="133"/>
                </a:cubicBezTo>
                <a:cubicBezTo>
                  <a:pt x="384" y="73"/>
                  <a:pt x="384" y="73"/>
                  <a:pt x="384" y="73"/>
                </a:cubicBezTo>
                <a:cubicBezTo>
                  <a:pt x="391" y="70"/>
                  <a:pt x="391" y="66"/>
                  <a:pt x="384" y="63"/>
                </a:cubicBezTo>
                <a:cubicBezTo>
                  <a:pt x="210" y="2"/>
                  <a:pt x="210" y="2"/>
                  <a:pt x="210" y="2"/>
                </a:cubicBezTo>
                <a:cubicBezTo>
                  <a:pt x="202" y="0"/>
                  <a:pt x="189" y="0"/>
                  <a:pt x="182" y="2"/>
                </a:cubicBezTo>
                <a:lnTo>
                  <a:pt x="8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8"/>
          <p:cNvSpPr/>
          <p:nvPr/>
        </p:nvSpPr>
        <p:spPr>
          <a:xfrm>
            <a:off x="6397560" y="1844640"/>
            <a:ext cx="39600" cy="244440"/>
          </a:xfrm>
          <a:custGeom>
            <a:avLst/>
            <a:gdLst>
              <a:gd name="textAreaLeft" fmla="*/ 0 w 39600"/>
              <a:gd name="textAreaRight" fmla="*/ 39960 w 39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" h="94">
                <a:moveTo>
                  <a:pt x="15" y="79"/>
                </a:moveTo>
                <a:cubicBezTo>
                  <a:pt x="15" y="87"/>
                  <a:pt x="11" y="94"/>
                  <a:pt x="7" y="94"/>
                </a:cubicBezTo>
                <a:cubicBezTo>
                  <a:pt x="3" y="94"/>
                  <a:pt x="0" y="87"/>
                  <a:pt x="0" y="79"/>
                </a:cubicBezTo>
                <a:cubicBezTo>
                  <a:pt x="0" y="6"/>
                  <a:pt x="0" y="6"/>
                  <a:pt x="0" y="6"/>
                </a:cubicBezTo>
                <a:cubicBezTo>
                  <a:pt x="15" y="0"/>
                  <a:pt x="15" y="0"/>
                  <a:pt x="15" y="0"/>
                </a:cubicBezTo>
                <a:lnTo>
                  <a:pt x="15" y="7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9"/>
          <p:cNvSpPr/>
          <p:nvPr/>
        </p:nvSpPr>
        <p:spPr>
          <a:xfrm>
            <a:off x="6367320" y="2063880"/>
            <a:ext cx="92160" cy="71280"/>
          </a:xfrm>
          <a:custGeom>
            <a:avLst/>
            <a:gdLst>
              <a:gd name="textAreaLeft" fmla="*/ 0 w 92160"/>
              <a:gd name="textAreaRight" fmla="*/ 92520 w 92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6" h="28">
                <a:moveTo>
                  <a:pt x="36" y="14"/>
                </a:moveTo>
                <a:cubicBezTo>
                  <a:pt x="36" y="22"/>
                  <a:pt x="30" y="28"/>
                  <a:pt x="22" y="28"/>
                </a:cubicBezTo>
                <a:cubicBezTo>
                  <a:pt x="15" y="28"/>
                  <a:pt x="15" y="28"/>
                  <a:pt x="15" y="28"/>
                </a:cubicBezTo>
                <a:cubicBezTo>
                  <a:pt x="7" y="28"/>
                  <a:pt x="0" y="22"/>
                  <a:pt x="0" y="14"/>
                </a:cubicBezTo>
                <a:cubicBezTo>
                  <a:pt x="0" y="7"/>
                  <a:pt x="7" y="0"/>
                  <a:pt x="1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6" y="7"/>
                  <a:pt x="36" y="1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790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3"/>
          <p:cNvSpPr/>
          <p:nvPr/>
        </p:nvSpPr>
        <p:spPr>
          <a:xfrm>
            <a:off x="5522760" y="2954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42"/>
          <p:cNvSpPr/>
          <p:nvPr/>
        </p:nvSpPr>
        <p:spPr>
          <a:xfrm>
            <a:off x="5241960" y="3543480"/>
            <a:ext cx="1743120" cy="4572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矩形 30"/>
          <p:cNvSpPr/>
          <p:nvPr/>
        </p:nvSpPr>
        <p:spPr>
          <a:xfrm>
            <a:off x="5416920" y="35701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研究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矩形 32"/>
          <p:cNvSpPr/>
          <p:nvPr/>
        </p:nvSpPr>
        <p:spPr>
          <a:xfrm>
            <a:off x="5416920" y="39607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实践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3"/>
          <p:cNvSpPr/>
          <p:nvPr/>
        </p:nvSpPr>
        <p:spPr>
          <a:xfrm>
            <a:off x="5404320" y="439416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整体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图表 32" descr=""/>
          <p:cNvPicPr/>
          <p:nvPr/>
        </p:nvPicPr>
        <p:blipFill>
          <a:blip r:embed="rId1"/>
          <a:stretch/>
        </p:blipFill>
        <p:spPr>
          <a:xfrm>
            <a:off x="5025960" y="1924200"/>
            <a:ext cx="2119320" cy="2296800"/>
          </a:xfrm>
          <a:prstGeom prst="rect">
            <a:avLst/>
          </a:prstGeom>
          <a:ln w="0">
            <a:noFill/>
          </a:ln>
        </p:spPr>
      </p:pic>
      <p:pic>
        <p:nvPicPr>
          <p:cNvPr id="1698" name="图表 20" descr=""/>
          <p:cNvPicPr/>
          <p:nvPr/>
        </p:nvPicPr>
        <p:blipFill>
          <a:blip r:embed="rId2"/>
          <a:stretch/>
        </p:blipFill>
        <p:spPr>
          <a:xfrm>
            <a:off x="1195560" y="1924200"/>
            <a:ext cx="2119320" cy="2296800"/>
          </a:xfrm>
          <a:prstGeom prst="rect">
            <a:avLst/>
          </a:prstGeom>
          <a:ln w="0">
            <a:noFill/>
          </a:ln>
        </p:spPr>
      </p:pic>
      <p:pic>
        <p:nvPicPr>
          <p:cNvPr id="1699" name="图表 27" descr=""/>
          <p:cNvPicPr/>
          <p:nvPr/>
        </p:nvPicPr>
        <p:blipFill>
          <a:blip r:embed="rId3"/>
          <a:stretch/>
        </p:blipFill>
        <p:spPr>
          <a:xfrm>
            <a:off x="8801280" y="1924200"/>
            <a:ext cx="2117520" cy="2296800"/>
          </a:xfrm>
          <a:prstGeom prst="rect">
            <a:avLst/>
          </a:prstGeom>
          <a:ln w="0">
            <a:noFill/>
          </a:ln>
        </p:spPr>
      </p:pic>
      <p:sp>
        <p:nvSpPr>
          <p:cNvPr id="1700" name="矩形 29"/>
          <p:cNvSpPr/>
          <p:nvPr/>
        </p:nvSpPr>
        <p:spPr>
          <a:xfrm>
            <a:off x="1684080" y="27622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矩形 30"/>
          <p:cNvSpPr/>
          <p:nvPr/>
        </p:nvSpPr>
        <p:spPr>
          <a:xfrm>
            <a:off x="5515200" y="27622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30"/>
          <p:cNvSpPr/>
          <p:nvPr/>
        </p:nvSpPr>
        <p:spPr>
          <a:xfrm>
            <a:off x="9259560" y="27622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30"/>
          <p:cNvSpPr/>
          <p:nvPr/>
        </p:nvSpPr>
        <p:spPr>
          <a:xfrm>
            <a:off x="1628640" y="412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31"/>
          <p:cNvSpPr/>
          <p:nvPr/>
        </p:nvSpPr>
        <p:spPr>
          <a:xfrm>
            <a:off x="5433120" y="4122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2"/>
          <p:cNvSpPr/>
          <p:nvPr/>
        </p:nvSpPr>
        <p:spPr>
          <a:xfrm>
            <a:off x="9291600" y="412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3"/>
          <p:cNvSpPr/>
          <p:nvPr/>
        </p:nvSpPr>
        <p:spPr>
          <a:xfrm>
            <a:off x="1012680" y="481176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34"/>
          <p:cNvSpPr/>
          <p:nvPr/>
        </p:nvSpPr>
        <p:spPr>
          <a:xfrm>
            <a:off x="4816440" y="4813200"/>
            <a:ext cx="25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矩形 35"/>
          <p:cNvSpPr/>
          <p:nvPr/>
        </p:nvSpPr>
        <p:spPr>
          <a:xfrm>
            <a:off x="8675640" y="481176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15"/>
          <p:cNvSpPr/>
          <p:nvPr/>
        </p:nvSpPr>
        <p:spPr>
          <a:xfrm>
            <a:off x="2978280" y="662040"/>
            <a:ext cx="623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过程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15"/>
          <p:cNvSpPr/>
          <p:nvPr/>
        </p:nvSpPr>
        <p:spPr>
          <a:xfrm>
            <a:off x="4218120" y="117648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矩形 46"/>
          <p:cNvSpPr/>
          <p:nvPr/>
        </p:nvSpPr>
        <p:spPr>
          <a:xfrm>
            <a:off x="2281320" y="2687760"/>
            <a:ext cx="365040" cy="155736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矩形 47"/>
          <p:cNvSpPr/>
          <p:nvPr/>
        </p:nvSpPr>
        <p:spPr>
          <a:xfrm>
            <a:off x="469800" y="4335480"/>
            <a:ext cx="11239560" cy="2060640"/>
          </a:xfrm>
          <a:prstGeom prst="rect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文本框 48"/>
          <p:cNvSpPr/>
          <p:nvPr/>
        </p:nvSpPr>
        <p:spPr>
          <a:xfrm>
            <a:off x="2214720" y="43736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文本框 49"/>
          <p:cNvSpPr/>
          <p:nvPr/>
        </p:nvSpPr>
        <p:spPr>
          <a:xfrm>
            <a:off x="2879640" y="43736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文本框 50"/>
          <p:cNvSpPr/>
          <p:nvPr/>
        </p:nvSpPr>
        <p:spPr>
          <a:xfrm>
            <a:off x="3544920" y="43736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文本框 51"/>
          <p:cNvSpPr/>
          <p:nvPr/>
        </p:nvSpPr>
        <p:spPr>
          <a:xfrm>
            <a:off x="4210200" y="43736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文本框 52"/>
          <p:cNvSpPr/>
          <p:nvPr/>
        </p:nvSpPr>
        <p:spPr>
          <a:xfrm>
            <a:off x="4875120" y="43736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文本框 53"/>
          <p:cNvSpPr/>
          <p:nvPr/>
        </p:nvSpPr>
        <p:spPr>
          <a:xfrm>
            <a:off x="5540400" y="43736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文本框 54"/>
          <p:cNvSpPr/>
          <p:nvPr/>
        </p:nvSpPr>
        <p:spPr>
          <a:xfrm>
            <a:off x="6205680" y="43736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文本框 55"/>
          <p:cNvSpPr/>
          <p:nvPr/>
        </p:nvSpPr>
        <p:spPr>
          <a:xfrm>
            <a:off x="6870600" y="43736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文本框 56"/>
          <p:cNvSpPr/>
          <p:nvPr/>
        </p:nvSpPr>
        <p:spPr>
          <a:xfrm>
            <a:off x="7535880" y="43736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文本框 57"/>
          <p:cNvSpPr/>
          <p:nvPr/>
        </p:nvSpPr>
        <p:spPr>
          <a:xfrm>
            <a:off x="8202600" y="43736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58"/>
          <p:cNvSpPr/>
          <p:nvPr/>
        </p:nvSpPr>
        <p:spPr>
          <a:xfrm>
            <a:off x="8867880" y="43736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文本框 59"/>
          <p:cNvSpPr/>
          <p:nvPr/>
        </p:nvSpPr>
        <p:spPr>
          <a:xfrm>
            <a:off x="9532800" y="43736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文本框 60"/>
          <p:cNvSpPr/>
          <p:nvPr/>
        </p:nvSpPr>
        <p:spPr>
          <a:xfrm>
            <a:off x="1525680" y="5021280"/>
            <a:ext cx="18525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文本框 61"/>
          <p:cNvSpPr/>
          <p:nvPr/>
        </p:nvSpPr>
        <p:spPr>
          <a:xfrm>
            <a:off x="3537000" y="5021280"/>
            <a:ext cx="19080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62"/>
          <p:cNvSpPr/>
          <p:nvPr/>
        </p:nvSpPr>
        <p:spPr>
          <a:xfrm>
            <a:off x="5711760" y="4964040"/>
            <a:ext cx="549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直接连接符 63"/>
          <p:cNvSpPr/>
          <p:nvPr/>
        </p:nvSpPr>
        <p:spPr>
          <a:xfrm>
            <a:off x="5506920" y="5086440"/>
            <a:ext cx="180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KSO_Shape"/>
          <p:cNvSpPr/>
          <p:nvPr/>
        </p:nvSpPr>
        <p:spPr>
          <a:xfrm>
            <a:off x="8228160" y="2736720"/>
            <a:ext cx="56484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KSO_Shape"/>
          <p:cNvSpPr/>
          <p:nvPr/>
        </p:nvSpPr>
        <p:spPr>
          <a:xfrm>
            <a:off x="6205680" y="952560"/>
            <a:ext cx="56484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矩形 66"/>
          <p:cNvSpPr/>
          <p:nvPr/>
        </p:nvSpPr>
        <p:spPr>
          <a:xfrm>
            <a:off x="2946240" y="3019320"/>
            <a:ext cx="365400" cy="122580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矩形 67"/>
          <p:cNvSpPr/>
          <p:nvPr/>
        </p:nvSpPr>
        <p:spPr>
          <a:xfrm>
            <a:off x="3611520" y="2230560"/>
            <a:ext cx="365040" cy="201456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矩形 68"/>
          <p:cNvSpPr/>
          <p:nvPr/>
        </p:nvSpPr>
        <p:spPr>
          <a:xfrm>
            <a:off x="4276800" y="2813040"/>
            <a:ext cx="365040" cy="143208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矩形 69"/>
          <p:cNvSpPr/>
          <p:nvPr/>
        </p:nvSpPr>
        <p:spPr>
          <a:xfrm>
            <a:off x="4943520" y="1916280"/>
            <a:ext cx="363600" cy="232884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矩形 70"/>
          <p:cNvSpPr/>
          <p:nvPr/>
        </p:nvSpPr>
        <p:spPr>
          <a:xfrm>
            <a:off x="5608800" y="2532240"/>
            <a:ext cx="365040" cy="171288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矩形 71"/>
          <p:cNvSpPr/>
          <p:nvPr/>
        </p:nvSpPr>
        <p:spPr>
          <a:xfrm>
            <a:off x="6273720" y="1565280"/>
            <a:ext cx="365040" cy="2679840"/>
          </a:xfrm>
          <a:prstGeom prst="rect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矩形 72"/>
          <p:cNvSpPr/>
          <p:nvPr/>
        </p:nvSpPr>
        <p:spPr>
          <a:xfrm>
            <a:off x="6939000" y="2432160"/>
            <a:ext cx="365040" cy="181296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矩形 73"/>
          <p:cNvSpPr/>
          <p:nvPr/>
        </p:nvSpPr>
        <p:spPr>
          <a:xfrm>
            <a:off x="7604280" y="2087640"/>
            <a:ext cx="365040" cy="215748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矩形 74"/>
          <p:cNvSpPr/>
          <p:nvPr/>
        </p:nvSpPr>
        <p:spPr>
          <a:xfrm>
            <a:off x="8271000" y="3470400"/>
            <a:ext cx="363240" cy="774720"/>
          </a:xfrm>
          <a:prstGeom prst="rect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矩形 75"/>
          <p:cNvSpPr/>
          <p:nvPr/>
        </p:nvSpPr>
        <p:spPr>
          <a:xfrm>
            <a:off x="8935920" y="2606760"/>
            <a:ext cx="363600" cy="163836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矩形 76"/>
          <p:cNvSpPr/>
          <p:nvPr/>
        </p:nvSpPr>
        <p:spPr>
          <a:xfrm>
            <a:off x="9601200" y="2206800"/>
            <a:ext cx="365040" cy="2038320"/>
          </a:xfrm>
          <a:prstGeom prst="rect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矩形 81"/>
          <p:cNvSpPr/>
          <p:nvPr/>
        </p:nvSpPr>
        <p:spPr>
          <a:xfrm>
            <a:off x="482760" y="4387680"/>
            <a:ext cx="11239200" cy="2060640"/>
          </a:xfrm>
          <a:prstGeom prst="rect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组合 16"/>
          <p:cNvGrpSpPr/>
          <p:nvPr/>
        </p:nvGrpSpPr>
        <p:grpSpPr>
          <a:xfrm>
            <a:off x="1104840" y="984240"/>
            <a:ext cx="1497240" cy="1496880"/>
            <a:chOff x="1104840" y="984240"/>
            <a:chExt cx="1497240" cy="1496880"/>
          </a:xfrm>
        </p:grpSpPr>
        <p:sp>
          <p:nvSpPr>
            <p:cNvPr id="1744" name="Oval 5"/>
            <p:cNvSpPr/>
            <p:nvPr/>
          </p:nvSpPr>
          <p:spPr>
            <a:xfrm>
              <a:off x="1104840" y="984240"/>
              <a:ext cx="1497240" cy="1496880"/>
            </a:xfrm>
            <a:prstGeom prst="ellipse">
              <a:avLst/>
            </a:prstGeom>
            <a:solidFill>
              <a:srgbClr val="790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6"/>
            <p:cNvSpPr/>
            <p:nvPr/>
          </p:nvSpPr>
          <p:spPr>
            <a:xfrm>
              <a:off x="1431720" y="1244520"/>
              <a:ext cx="830520" cy="430920"/>
            </a:xfrm>
            <a:custGeom>
              <a:avLst/>
              <a:gdLst>
                <a:gd name="textAreaLeft" fmla="*/ 0 w 830520"/>
                <a:gd name="textAreaRight" fmla="*/ 830880 w 83052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7"/>
            <p:cNvSpPr/>
            <p:nvPr/>
          </p:nvSpPr>
          <p:spPr>
            <a:xfrm>
              <a:off x="1600920" y="1369800"/>
              <a:ext cx="477000" cy="22680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790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8"/>
            <p:cNvSpPr/>
            <p:nvPr/>
          </p:nvSpPr>
          <p:spPr>
            <a:xfrm>
              <a:off x="1468440" y="168984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9"/>
            <p:cNvSpPr/>
            <p:nvPr/>
          </p:nvSpPr>
          <p:spPr>
            <a:xfrm>
              <a:off x="1740600" y="168984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0"/>
            <p:cNvSpPr/>
            <p:nvPr/>
          </p:nvSpPr>
          <p:spPr>
            <a:xfrm>
              <a:off x="2012760" y="168984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1"/>
            <p:cNvSpPr/>
            <p:nvPr/>
          </p:nvSpPr>
          <p:spPr>
            <a:xfrm>
              <a:off x="1468440" y="173520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2"/>
            <p:cNvSpPr/>
            <p:nvPr/>
          </p:nvSpPr>
          <p:spPr>
            <a:xfrm>
              <a:off x="1740600" y="173520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3"/>
            <p:cNvSpPr/>
            <p:nvPr/>
          </p:nvSpPr>
          <p:spPr>
            <a:xfrm>
              <a:off x="2012760" y="173520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4"/>
            <p:cNvSpPr/>
            <p:nvPr/>
          </p:nvSpPr>
          <p:spPr>
            <a:xfrm>
              <a:off x="1468440" y="205272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5"/>
            <p:cNvSpPr/>
            <p:nvPr/>
          </p:nvSpPr>
          <p:spPr>
            <a:xfrm>
              <a:off x="1740600" y="205272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6"/>
            <p:cNvSpPr/>
            <p:nvPr/>
          </p:nvSpPr>
          <p:spPr>
            <a:xfrm>
              <a:off x="2012760" y="205272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7"/>
            <p:cNvSpPr/>
            <p:nvPr/>
          </p:nvSpPr>
          <p:spPr>
            <a:xfrm>
              <a:off x="1468440" y="209808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8"/>
            <p:cNvSpPr/>
            <p:nvPr/>
          </p:nvSpPr>
          <p:spPr>
            <a:xfrm>
              <a:off x="1740600" y="209808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9"/>
            <p:cNvSpPr/>
            <p:nvPr/>
          </p:nvSpPr>
          <p:spPr>
            <a:xfrm>
              <a:off x="2012760" y="209808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20"/>
            <p:cNvSpPr/>
            <p:nvPr/>
          </p:nvSpPr>
          <p:spPr>
            <a:xfrm>
              <a:off x="1513800" y="176004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21"/>
            <p:cNvSpPr/>
            <p:nvPr/>
          </p:nvSpPr>
          <p:spPr>
            <a:xfrm>
              <a:off x="1794240" y="176004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22"/>
            <p:cNvSpPr/>
            <p:nvPr/>
          </p:nvSpPr>
          <p:spPr>
            <a:xfrm>
              <a:off x="2066400" y="176004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23"/>
            <p:cNvSpPr/>
            <p:nvPr/>
          </p:nvSpPr>
          <p:spPr>
            <a:xfrm>
              <a:off x="1442520" y="213732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24"/>
            <p:cNvSpPr/>
            <p:nvPr/>
          </p:nvSpPr>
          <p:spPr>
            <a:xfrm>
              <a:off x="1431720" y="2174400"/>
              <a:ext cx="81972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4" name="组合 4"/>
          <p:cNvGrpSpPr/>
          <p:nvPr/>
        </p:nvGrpSpPr>
        <p:grpSpPr>
          <a:xfrm>
            <a:off x="3948120" y="984240"/>
            <a:ext cx="1496880" cy="1496880"/>
            <a:chOff x="3948120" y="984240"/>
            <a:chExt cx="1496880" cy="1496880"/>
          </a:xfrm>
        </p:grpSpPr>
        <p:sp>
          <p:nvSpPr>
            <p:cNvPr id="1765" name="Oval 42"/>
            <p:cNvSpPr/>
            <p:nvPr/>
          </p:nvSpPr>
          <p:spPr>
            <a:xfrm>
              <a:off x="3948120" y="984240"/>
              <a:ext cx="1496880" cy="1496880"/>
            </a:xfrm>
            <a:prstGeom prst="ellipse">
              <a:avLst/>
            </a:pr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3"/>
            <p:cNvSpPr/>
            <p:nvPr/>
          </p:nvSpPr>
          <p:spPr>
            <a:xfrm>
              <a:off x="4784400" y="1526040"/>
              <a:ext cx="368640" cy="4474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4"/>
            <p:cNvSpPr/>
            <p:nvPr/>
          </p:nvSpPr>
          <p:spPr>
            <a:xfrm>
              <a:off x="4518360" y="1528560"/>
              <a:ext cx="333720" cy="4716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5"/>
            <p:cNvSpPr/>
            <p:nvPr/>
          </p:nvSpPr>
          <p:spPr>
            <a:xfrm>
              <a:off x="4166280" y="1591920"/>
              <a:ext cx="379080" cy="4356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46"/>
            <p:cNvSpPr/>
            <p:nvPr/>
          </p:nvSpPr>
          <p:spPr>
            <a:xfrm>
              <a:off x="4141080" y="179604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Oval 47"/>
            <p:cNvSpPr/>
            <p:nvPr/>
          </p:nvSpPr>
          <p:spPr>
            <a:xfrm>
              <a:off x="4211640" y="1854360"/>
              <a:ext cx="115560" cy="117000"/>
            </a:xfrm>
            <a:prstGeom prst="ellipse">
              <a:avLst/>
            </a:pr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48"/>
            <p:cNvSpPr/>
            <p:nvPr/>
          </p:nvSpPr>
          <p:spPr>
            <a:xfrm>
              <a:off x="4424040" y="144360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49"/>
            <p:cNvSpPr/>
            <p:nvPr/>
          </p:nvSpPr>
          <p:spPr>
            <a:xfrm>
              <a:off x="4695840" y="181872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50"/>
            <p:cNvSpPr/>
            <p:nvPr/>
          </p:nvSpPr>
          <p:spPr>
            <a:xfrm>
              <a:off x="4986000" y="140436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51"/>
            <p:cNvSpPr/>
            <p:nvPr/>
          </p:nvSpPr>
          <p:spPr>
            <a:xfrm>
              <a:off x="4495680" y="1517760"/>
              <a:ext cx="119160" cy="115560"/>
            </a:xfrm>
            <a:prstGeom prst="ellipse">
              <a:avLst/>
            </a:pr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52"/>
            <p:cNvSpPr/>
            <p:nvPr/>
          </p:nvSpPr>
          <p:spPr>
            <a:xfrm>
              <a:off x="4767480" y="1888920"/>
              <a:ext cx="119160" cy="115560"/>
            </a:xfrm>
            <a:prstGeom prst="ellipse">
              <a:avLst/>
            </a:pr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53"/>
            <p:cNvSpPr/>
            <p:nvPr/>
          </p:nvSpPr>
          <p:spPr>
            <a:xfrm>
              <a:off x="5056200" y="1474920"/>
              <a:ext cx="119160" cy="119160"/>
            </a:xfrm>
            <a:prstGeom prst="ellipse">
              <a:avLst/>
            </a:pr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组合 6"/>
          <p:cNvGrpSpPr/>
          <p:nvPr/>
        </p:nvGrpSpPr>
        <p:grpSpPr>
          <a:xfrm>
            <a:off x="9632880" y="987480"/>
            <a:ext cx="1506600" cy="1508040"/>
            <a:chOff x="9632880" y="987480"/>
            <a:chExt cx="1506600" cy="1508040"/>
          </a:xfrm>
        </p:grpSpPr>
        <p:sp>
          <p:nvSpPr>
            <p:cNvPr id="1778" name="Oval 57"/>
            <p:cNvSpPr/>
            <p:nvPr/>
          </p:nvSpPr>
          <p:spPr>
            <a:xfrm>
              <a:off x="9632880" y="987480"/>
              <a:ext cx="1506600" cy="150804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8"/>
            <p:cNvSpPr/>
            <p:nvPr/>
          </p:nvSpPr>
          <p:spPr>
            <a:xfrm>
              <a:off x="9954720" y="1358280"/>
              <a:ext cx="199080" cy="203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9"/>
            <p:cNvSpPr/>
            <p:nvPr/>
          </p:nvSpPr>
          <p:spPr>
            <a:xfrm>
              <a:off x="10647000" y="1497960"/>
              <a:ext cx="115560" cy="1216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0"/>
            <p:cNvSpPr/>
            <p:nvPr/>
          </p:nvSpPr>
          <p:spPr>
            <a:xfrm>
              <a:off x="10541880" y="1409760"/>
              <a:ext cx="65520" cy="67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1"/>
            <p:cNvSpPr/>
            <p:nvPr/>
          </p:nvSpPr>
          <p:spPr>
            <a:xfrm>
              <a:off x="10167120" y="1298880"/>
              <a:ext cx="116640" cy="119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"/>
            <p:cNvSpPr/>
            <p:nvPr/>
          </p:nvSpPr>
          <p:spPr>
            <a:xfrm>
              <a:off x="10233000" y="148968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3"/>
            <p:cNvSpPr/>
            <p:nvPr/>
          </p:nvSpPr>
          <p:spPr>
            <a:xfrm>
              <a:off x="10020600" y="1648440"/>
              <a:ext cx="356400" cy="123840"/>
            </a:xfrm>
            <a:custGeom>
              <a:avLst/>
              <a:gdLst>
                <a:gd name="textAreaLeft" fmla="*/ 0 w 356400"/>
                <a:gd name="textAreaRight" fmla="*/ 35640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"/>
            <p:cNvSpPr/>
            <p:nvPr/>
          </p:nvSpPr>
          <p:spPr>
            <a:xfrm>
              <a:off x="10397520" y="1648440"/>
              <a:ext cx="358920" cy="123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"/>
            <p:cNvSpPr/>
            <p:nvPr/>
          </p:nvSpPr>
          <p:spPr>
            <a:xfrm>
              <a:off x="9833040" y="181548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6"/>
            <p:cNvSpPr/>
            <p:nvPr/>
          </p:nvSpPr>
          <p:spPr>
            <a:xfrm>
              <a:off x="10207800" y="1815480"/>
              <a:ext cx="358920" cy="12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7"/>
            <p:cNvSpPr/>
            <p:nvPr/>
          </p:nvSpPr>
          <p:spPr>
            <a:xfrm>
              <a:off x="10581120" y="181548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组合 5"/>
          <p:cNvGrpSpPr/>
          <p:nvPr/>
        </p:nvGrpSpPr>
        <p:grpSpPr>
          <a:xfrm>
            <a:off x="6789600" y="984240"/>
            <a:ext cx="1498680" cy="1498680"/>
            <a:chOff x="6789600" y="984240"/>
            <a:chExt cx="1498680" cy="1498680"/>
          </a:xfrm>
        </p:grpSpPr>
        <p:sp>
          <p:nvSpPr>
            <p:cNvPr id="1790" name="Oval 103"/>
            <p:cNvSpPr/>
            <p:nvPr/>
          </p:nvSpPr>
          <p:spPr>
            <a:xfrm>
              <a:off x="6789600" y="984240"/>
              <a:ext cx="1498680" cy="1498680"/>
            </a:xfrm>
            <a:prstGeom prst="ellipse">
              <a:avLst/>
            </a:prstGeom>
            <a:solidFill>
              <a:srgbClr val="08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04"/>
            <p:cNvSpPr/>
            <p:nvPr/>
          </p:nvSpPr>
          <p:spPr>
            <a:xfrm>
              <a:off x="7216200" y="193248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05"/>
            <p:cNvSpPr/>
            <p:nvPr/>
          </p:nvSpPr>
          <p:spPr>
            <a:xfrm>
              <a:off x="7272360" y="167220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06"/>
            <p:cNvSpPr/>
            <p:nvPr/>
          </p:nvSpPr>
          <p:spPr>
            <a:xfrm>
              <a:off x="7420680" y="162900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07"/>
            <p:cNvSpPr/>
            <p:nvPr/>
          </p:nvSpPr>
          <p:spPr>
            <a:xfrm>
              <a:off x="7556760" y="156348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8"/>
            <p:cNvSpPr/>
            <p:nvPr/>
          </p:nvSpPr>
          <p:spPr>
            <a:xfrm>
              <a:off x="7701480" y="149292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6" name="矩形 117"/>
          <p:cNvSpPr/>
          <p:nvPr/>
        </p:nvSpPr>
        <p:spPr>
          <a:xfrm>
            <a:off x="1364760" y="250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矩形 124"/>
          <p:cNvSpPr/>
          <p:nvPr/>
        </p:nvSpPr>
        <p:spPr>
          <a:xfrm>
            <a:off x="663480" y="298440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矩形 125"/>
          <p:cNvSpPr/>
          <p:nvPr/>
        </p:nvSpPr>
        <p:spPr>
          <a:xfrm>
            <a:off x="3489480" y="299736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矩形 126"/>
          <p:cNvSpPr/>
          <p:nvPr/>
        </p:nvSpPr>
        <p:spPr>
          <a:xfrm>
            <a:off x="6372360" y="299736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矩形 127"/>
          <p:cNvSpPr/>
          <p:nvPr/>
        </p:nvSpPr>
        <p:spPr>
          <a:xfrm>
            <a:off x="9191520" y="299736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128"/>
          <p:cNvSpPr/>
          <p:nvPr/>
        </p:nvSpPr>
        <p:spPr>
          <a:xfrm>
            <a:off x="4264920" y="250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矩形 129"/>
          <p:cNvSpPr/>
          <p:nvPr/>
        </p:nvSpPr>
        <p:spPr>
          <a:xfrm>
            <a:off x="7097760" y="250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矩形 130"/>
          <p:cNvSpPr/>
          <p:nvPr/>
        </p:nvSpPr>
        <p:spPr>
          <a:xfrm>
            <a:off x="9999000" y="250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矩形 132"/>
          <p:cNvSpPr/>
          <p:nvPr/>
        </p:nvSpPr>
        <p:spPr>
          <a:xfrm>
            <a:off x="1961640" y="4575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79"/>
          <p:cNvSpPr/>
          <p:nvPr/>
        </p:nvSpPr>
        <p:spPr>
          <a:xfrm>
            <a:off x="1521000" y="5051520"/>
            <a:ext cx="25254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文本框 80"/>
          <p:cNvSpPr/>
          <p:nvPr/>
        </p:nvSpPr>
        <p:spPr>
          <a:xfrm>
            <a:off x="1413000" y="5207040"/>
            <a:ext cx="94867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文本框 5"/>
          <p:cNvSpPr/>
          <p:nvPr/>
        </p:nvSpPr>
        <p:spPr>
          <a:xfrm>
            <a:off x="5277960" y="2736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90003"/>
                </a:solidFill>
                <a:latin typeface="微软雅黑"/>
                <a:ea typeface="微软雅黑"/>
              </a:rPr>
              <a:t>感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矩形 8"/>
          <p:cNvSpPr/>
          <p:nvPr/>
        </p:nvSpPr>
        <p:spPr>
          <a:xfrm>
            <a:off x="5412960" y="3708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矩形 10"/>
          <p:cNvSpPr/>
          <p:nvPr/>
        </p:nvSpPr>
        <p:spPr>
          <a:xfrm>
            <a:off x="5526360" y="405756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矩形 11"/>
          <p:cNvSpPr/>
          <p:nvPr/>
        </p:nvSpPr>
        <p:spPr>
          <a:xfrm>
            <a:off x="5526360" y="444168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学院：</a:t>
            </a: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5"/>
          <p:cNvSpPr/>
          <p:nvPr/>
        </p:nvSpPr>
        <p:spPr>
          <a:xfrm>
            <a:off x="352440" y="5045040"/>
            <a:ext cx="1423800" cy="145908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19" h="119">
                <a:moveTo>
                  <a:pt x="64" y="52"/>
                </a:moveTo>
                <a:cubicBezTo>
                  <a:pt x="65" y="51"/>
                  <a:pt x="66" y="50"/>
                  <a:pt x="67" y="49"/>
                </a:cubicBezTo>
                <a:cubicBezTo>
                  <a:pt x="69" y="49"/>
                  <a:pt x="70" y="48"/>
                  <a:pt x="70" y="49"/>
                </a:cubicBezTo>
                <a:cubicBezTo>
                  <a:pt x="71" y="50"/>
                  <a:pt x="71" y="51"/>
                  <a:pt x="70" y="52"/>
                </a:cubicBezTo>
                <a:cubicBezTo>
                  <a:pt x="69" y="53"/>
                  <a:pt x="68" y="55"/>
                  <a:pt x="67" y="56"/>
                </a:cubicBezTo>
                <a:cubicBezTo>
                  <a:pt x="64" y="59"/>
                  <a:pt x="61" y="61"/>
                  <a:pt x="57" y="62"/>
                </a:cubicBezTo>
                <a:cubicBezTo>
                  <a:pt x="58" y="59"/>
                  <a:pt x="60" y="55"/>
                  <a:pt x="64" y="52"/>
                </a:cubicBezTo>
                <a:moveTo>
                  <a:pt x="69" y="57"/>
                </a:moveTo>
                <a:cubicBezTo>
                  <a:pt x="71" y="54"/>
                  <a:pt x="73" y="52"/>
                  <a:pt x="73" y="50"/>
                </a:cubicBezTo>
                <a:cubicBezTo>
                  <a:pt x="74" y="48"/>
                  <a:pt x="74" y="47"/>
                  <a:pt x="73" y="46"/>
                </a:cubicBezTo>
                <a:cubicBezTo>
                  <a:pt x="72" y="45"/>
                  <a:pt x="71" y="45"/>
                  <a:pt x="69" y="46"/>
                </a:cubicBezTo>
                <a:cubicBezTo>
                  <a:pt x="67" y="46"/>
                  <a:pt x="65" y="48"/>
                  <a:pt x="63" y="50"/>
                </a:cubicBezTo>
                <a:cubicBezTo>
                  <a:pt x="59" y="54"/>
                  <a:pt x="56" y="58"/>
                  <a:pt x="54" y="63"/>
                </a:cubicBezTo>
                <a:cubicBezTo>
                  <a:pt x="51" y="63"/>
                  <a:pt x="48" y="63"/>
                  <a:pt x="45" y="63"/>
                </a:cubicBezTo>
                <a:cubicBezTo>
                  <a:pt x="42" y="62"/>
                  <a:pt x="38" y="61"/>
                  <a:pt x="36" y="60"/>
                </a:cubicBezTo>
                <a:cubicBezTo>
                  <a:pt x="33" y="59"/>
                  <a:pt x="30" y="58"/>
                  <a:pt x="27" y="56"/>
                </a:cubicBezTo>
                <a:cubicBezTo>
                  <a:pt x="25" y="55"/>
                  <a:pt x="23" y="53"/>
                  <a:pt x="21" y="52"/>
                </a:cubicBezTo>
                <a:cubicBezTo>
                  <a:pt x="22" y="50"/>
                  <a:pt x="23" y="48"/>
                  <a:pt x="24" y="47"/>
                </a:cubicBezTo>
                <a:cubicBezTo>
                  <a:pt x="25" y="45"/>
                  <a:pt x="27" y="43"/>
                  <a:pt x="28" y="42"/>
                </a:cubicBezTo>
                <a:cubicBezTo>
                  <a:pt x="31" y="39"/>
                  <a:pt x="33" y="37"/>
                  <a:pt x="36" y="36"/>
                </a:cubicBezTo>
                <a:cubicBezTo>
                  <a:pt x="38" y="35"/>
                  <a:pt x="41" y="34"/>
                  <a:pt x="43" y="33"/>
                </a:cubicBezTo>
                <a:cubicBezTo>
                  <a:pt x="45" y="33"/>
                  <a:pt x="47" y="33"/>
                  <a:pt x="49" y="34"/>
                </a:cubicBezTo>
                <a:cubicBezTo>
                  <a:pt x="50" y="34"/>
                  <a:pt x="52" y="35"/>
                  <a:pt x="53" y="36"/>
                </a:cubicBezTo>
                <a:cubicBezTo>
                  <a:pt x="54" y="37"/>
                  <a:pt x="55" y="38"/>
                  <a:pt x="55" y="40"/>
                </a:cubicBezTo>
                <a:cubicBezTo>
                  <a:pt x="56" y="41"/>
                  <a:pt x="55" y="43"/>
                  <a:pt x="55" y="46"/>
                </a:cubicBezTo>
                <a:cubicBezTo>
                  <a:pt x="55" y="47"/>
                  <a:pt x="55" y="47"/>
                  <a:pt x="55" y="47"/>
                </a:cubicBezTo>
                <a:cubicBezTo>
                  <a:pt x="56" y="47"/>
                  <a:pt x="57" y="47"/>
                  <a:pt x="57" y="46"/>
                </a:cubicBezTo>
                <a:cubicBezTo>
                  <a:pt x="58" y="44"/>
                  <a:pt x="59" y="41"/>
                  <a:pt x="58" y="38"/>
                </a:cubicBezTo>
                <a:cubicBezTo>
                  <a:pt x="58" y="36"/>
                  <a:pt x="57" y="34"/>
                  <a:pt x="56" y="32"/>
                </a:cubicBezTo>
                <a:cubicBezTo>
                  <a:pt x="54" y="31"/>
                  <a:pt x="53" y="30"/>
                  <a:pt x="51" y="30"/>
                </a:cubicBezTo>
                <a:cubicBezTo>
                  <a:pt x="49" y="29"/>
                  <a:pt x="46" y="29"/>
                  <a:pt x="44" y="30"/>
                </a:cubicBezTo>
                <a:cubicBezTo>
                  <a:pt x="41" y="30"/>
                  <a:pt x="38" y="31"/>
                  <a:pt x="35" y="33"/>
                </a:cubicBezTo>
                <a:cubicBezTo>
                  <a:pt x="32" y="34"/>
                  <a:pt x="29" y="37"/>
                  <a:pt x="26" y="40"/>
                </a:cubicBezTo>
                <a:cubicBezTo>
                  <a:pt x="25" y="41"/>
                  <a:pt x="23" y="43"/>
                  <a:pt x="22" y="44"/>
                </a:cubicBezTo>
                <a:cubicBezTo>
                  <a:pt x="21" y="46"/>
                  <a:pt x="19" y="48"/>
                  <a:pt x="18" y="50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6"/>
                  <a:pt x="13" y="44"/>
                  <a:pt x="11" y="41"/>
                </a:cubicBezTo>
                <a:cubicBezTo>
                  <a:pt x="9" y="38"/>
                  <a:pt x="7" y="34"/>
                  <a:pt x="6" y="31"/>
                </a:cubicBezTo>
                <a:cubicBezTo>
                  <a:pt x="5" y="27"/>
                  <a:pt x="5" y="23"/>
                  <a:pt x="6" y="19"/>
                </a:cubicBezTo>
                <a:cubicBezTo>
                  <a:pt x="6" y="15"/>
                  <a:pt x="8" y="12"/>
                  <a:pt x="12" y="8"/>
                </a:cubicBezTo>
                <a:cubicBezTo>
                  <a:pt x="13" y="7"/>
                  <a:pt x="15" y="6"/>
                  <a:pt x="16" y="5"/>
                </a:cubicBezTo>
                <a:cubicBezTo>
                  <a:pt x="18" y="4"/>
                  <a:pt x="19" y="4"/>
                  <a:pt x="21" y="4"/>
                </a:cubicBezTo>
                <a:cubicBezTo>
                  <a:pt x="22" y="4"/>
                  <a:pt x="23" y="5"/>
                  <a:pt x="24" y="5"/>
                </a:cubicBezTo>
                <a:cubicBezTo>
                  <a:pt x="25" y="6"/>
                  <a:pt x="26" y="6"/>
                  <a:pt x="27" y="7"/>
                </a:cubicBezTo>
                <a:cubicBezTo>
                  <a:pt x="29" y="9"/>
                  <a:pt x="30" y="11"/>
                  <a:pt x="30" y="15"/>
                </a:cubicBezTo>
                <a:cubicBezTo>
                  <a:pt x="31" y="18"/>
                  <a:pt x="30" y="22"/>
                  <a:pt x="29" y="25"/>
                </a:cubicBezTo>
                <a:cubicBezTo>
                  <a:pt x="29" y="26"/>
                  <a:pt x="29" y="27"/>
                  <a:pt x="30" y="27"/>
                </a:cubicBezTo>
                <a:cubicBezTo>
                  <a:pt x="30" y="27"/>
                  <a:pt x="31" y="27"/>
                  <a:pt x="32" y="26"/>
                </a:cubicBezTo>
                <a:cubicBezTo>
                  <a:pt x="34" y="20"/>
                  <a:pt x="35" y="16"/>
                  <a:pt x="34" y="12"/>
                </a:cubicBezTo>
                <a:cubicBezTo>
                  <a:pt x="33" y="8"/>
                  <a:pt x="32" y="5"/>
                  <a:pt x="30" y="4"/>
                </a:cubicBezTo>
                <a:cubicBezTo>
                  <a:pt x="29" y="3"/>
                  <a:pt x="28" y="2"/>
                  <a:pt x="27" y="1"/>
                </a:cubicBezTo>
                <a:cubicBezTo>
                  <a:pt x="25" y="1"/>
                  <a:pt x="24" y="0"/>
                  <a:pt x="22" y="0"/>
                </a:cubicBezTo>
                <a:cubicBezTo>
                  <a:pt x="20" y="0"/>
                  <a:pt x="18" y="1"/>
                  <a:pt x="16" y="2"/>
                </a:cubicBezTo>
                <a:cubicBezTo>
                  <a:pt x="14" y="3"/>
                  <a:pt x="12" y="4"/>
                  <a:pt x="10" y="6"/>
                </a:cubicBezTo>
                <a:cubicBezTo>
                  <a:pt x="6" y="10"/>
                  <a:pt x="3" y="15"/>
                  <a:pt x="2" y="20"/>
                </a:cubicBezTo>
                <a:cubicBezTo>
                  <a:pt x="0" y="25"/>
                  <a:pt x="0" y="29"/>
                  <a:pt x="1" y="34"/>
                </a:cubicBezTo>
                <a:cubicBezTo>
                  <a:pt x="2" y="38"/>
                  <a:pt x="3" y="42"/>
                  <a:pt x="5" y="45"/>
                </a:cubicBezTo>
                <a:cubicBezTo>
                  <a:pt x="7" y="49"/>
                  <a:pt x="10" y="52"/>
                  <a:pt x="12" y="55"/>
                </a:cubicBezTo>
                <a:cubicBezTo>
                  <a:pt x="14" y="57"/>
                  <a:pt x="14" y="57"/>
                  <a:pt x="14" y="57"/>
                </a:cubicBezTo>
                <a:cubicBezTo>
                  <a:pt x="11" y="64"/>
                  <a:pt x="9" y="72"/>
                  <a:pt x="9" y="80"/>
                </a:cubicBezTo>
                <a:cubicBezTo>
                  <a:pt x="9" y="88"/>
                  <a:pt x="12" y="95"/>
                  <a:pt x="18" y="101"/>
                </a:cubicBezTo>
                <a:cubicBezTo>
                  <a:pt x="24" y="107"/>
                  <a:pt x="31" y="110"/>
                  <a:pt x="39" y="110"/>
                </a:cubicBezTo>
                <a:cubicBezTo>
                  <a:pt x="47" y="110"/>
                  <a:pt x="55" y="108"/>
                  <a:pt x="62" y="105"/>
                </a:cubicBezTo>
                <a:cubicBezTo>
                  <a:pt x="65" y="107"/>
                  <a:pt x="65" y="107"/>
                  <a:pt x="65" y="107"/>
                </a:cubicBezTo>
                <a:cubicBezTo>
                  <a:pt x="67" y="110"/>
                  <a:pt x="70" y="112"/>
                  <a:pt x="74" y="114"/>
                </a:cubicBezTo>
                <a:cubicBezTo>
                  <a:pt x="77" y="116"/>
                  <a:pt x="81" y="118"/>
                  <a:pt x="86" y="118"/>
                </a:cubicBezTo>
                <a:cubicBezTo>
                  <a:pt x="90" y="119"/>
                  <a:pt x="95" y="119"/>
                  <a:pt x="99" y="118"/>
                </a:cubicBezTo>
                <a:cubicBezTo>
                  <a:pt x="104" y="116"/>
                  <a:pt x="109" y="113"/>
                  <a:pt x="113" y="109"/>
                </a:cubicBezTo>
                <a:cubicBezTo>
                  <a:pt x="115" y="107"/>
                  <a:pt x="117" y="105"/>
                  <a:pt x="117" y="103"/>
                </a:cubicBezTo>
                <a:cubicBezTo>
                  <a:pt x="118" y="101"/>
                  <a:pt x="119" y="99"/>
                  <a:pt x="119" y="97"/>
                </a:cubicBezTo>
                <a:cubicBezTo>
                  <a:pt x="119" y="95"/>
                  <a:pt x="119" y="94"/>
                  <a:pt x="118" y="93"/>
                </a:cubicBezTo>
                <a:cubicBezTo>
                  <a:pt x="117" y="91"/>
                  <a:pt x="116" y="90"/>
                  <a:pt x="116" y="89"/>
                </a:cubicBezTo>
                <a:cubicBezTo>
                  <a:pt x="114" y="87"/>
                  <a:pt x="111" y="86"/>
                  <a:pt x="107" y="85"/>
                </a:cubicBezTo>
                <a:cubicBezTo>
                  <a:pt x="103" y="84"/>
                  <a:pt x="99" y="85"/>
                  <a:pt x="94" y="87"/>
                </a:cubicBezTo>
                <a:cubicBezTo>
                  <a:pt x="92" y="88"/>
                  <a:pt x="92" y="89"/>
                  <a:pt x="92" y="90"/>
                </a:cubicBezTo>
                <a:cubicBezTo>
                  <a:pt x="92" y="90"/>
                  <a:pt x="93" y="90"/>
                  <a:pt x="94" y="90"/>
                </a:cubicBezTo>
                <a:cubicBezTo>
                  <a:pt x="98" y="89"/>
                  <a:pt x="101" y="88"/>
                  <a:pt x="104" y="89"/>
                </a:cubicBezTo>
                <a:cubicBezTo>
                  <a:pt x="108" y="89"/>
                  <a:pt x="110" y="91"/>
                  <a:pt x="112" y="92"/>
                </a:cubicBezTo>
                <a:cubicBezTo>
                  <a:pt x="113" y="93"/>
                  <a:pt x="114" y="94"/>
                  <a:pt x="114" y="95"/>
                </a:cubicBezTo>
                <a:cubicBezTo>
                  <a:pt x="114" y="96"/>
                  <a:pt x="115" y="97"/>
                  <a:pt x="115" y="99"/>
                </a:cubicBezTo>
                <a:cubicBezTo>
                  <a:pt x="115" y="100"/>
                  <a:pt x="115" y="101"/>
                  <a:pt x="114" y="103"/>
                </a:cubicBezTo>
                <a:cubicBezTo>
                  <a:pt x="114" y="104"/>
                  <a:pt x="113" y="106"/>
                  <a:pt x="111" y="107"/>
                </a:cubicBezTo>
                <a:cubicBezTo>
                  <a:pt x="108" y="111"/>
                  <a:pt x="104" y="113"/>
                  <a:pt x="100" y="114"/>
                </a:cubicBezTo>
                <a:cubicBezTo>
                  <a:pt x="96" y="114"/>
                  <a:pt x="92" y="114"/>
                  <a:pt x="88" y="113"/>
                </a:cubicBezTo>
                <a:cubicBezTo>
                  <a:pt x="85" y="112"/>
                  <a:pt x="81" y="111"/>
                  <a:pt x="78" y="108"/>
                </a:cubicBezTo>
                <a:cubicBezTo>
                  <a:pt x="75" y="106"/>
                  <a:pt x="73" y="104"/>
                  <a:pt x="71" y="103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71" y="100"/>
                  <a:pt x="73" y="99"/>
                  <a:pt x="75" y="97"/>
                </a:cubicBezTo>
                <a:cubicBezTo>
                  <a:pt x="76" y="96"/>
                  <a:pt x="78" y="94"/>
                  <a:pt x="79" y="93"/>
                </a:cubicBezTo>
                <a:cubicBezTo>
                  <a:pt x="82" y="90"/>
                  <a:pt x="85" y="87"/>
                  <a:pt x="86" y="84"/>
                </a:cubicBezTo>
                <a:cubicBezTo>
                  <a:pt x="88" y="81"/>
                  <a:pt x="89" y="78"/>
                  <a:pt x="90" y="75"/>
                </a:cubicBezTo>
                <a:cubicBezTo>
                  <a:pt x="90" y="73"/>
                  <a:pt x="90" y="70"/>
                  <a:pt x="89" y="68"/>
                </a:cubicBezTo>
                <a:cubicBezTo>
                  <a:pt x="89" y="66"/>
                  <a:pt x="88" y="65"/>
                  <a:pt x="87" y="63"/>
                </a:cubicBezTo>
                <a:cubicBezTo>
                  <a:pt x="85" y="62"/>
                  <a:pt x="83" y="61"/>
                  <a:pt x="81" y="61"/>
                </a:cubicBezTo>
                <a:cubicBezTo>
                  <a:pt x="78" y="60"/>
                  <a:pt x="76" y="61"/>
                  <a:pt x="73" y="62"/>
                </a:cubicBezTo>
                <a:cubicBezTo>
                  <a:pt x="72" y="63"/>
                  <a:pt x="72" y="63"/>
                  <a:pt x="72" y="64"/>
                </a:cubicBezTo>
                <a:cubicBezTo>
                  <a:pt x="72" y="64"/>
                  <a:pt x="72" y="64"/>
                  <a:pt x="73" y="64"/>
                </a:cubicBezTo>
                <a:cubicBezTo>
                  <a:pt x="76" y="64"/>
                  <a:pt x="78" y="64"/>
                  <a:pt x="80" y="64"/>
                </a:cubicBezTo>
                <a:cubicBezTo>
                  <a:pt x="81" y="65"/>
                  <a:pt x="82" y="65"/>
                  <a:pt x="83" y="66"/>
                </a:cubicBezTo>
                <a:cubicBezTo>
                  <a:pt x="85" y="67"/>
                  <a:pt x="85" y="69"/>
                  <a:pt x="86" y="71"/>
                </a:cubicBezTo>
                <a:cubicBezTo>
                  <a:pt x="86" y="72"/>
                  <a:pt x="86" y="74"/>
                  <a:pt x="86" y="76"/>
                </a:cubicBezTo>
                <a:cubicBezTo>
                  <a:pt x="85" y="79"/>
                  <a:pt x="85" y="81"/>
                  <a:pt x="83" y="84"/>
                </a:cubicBezTo>
                <a:cubicBezTo>
                  <a:pt x="82" y="86"/>
                  <a:pt x="80" y="89"/>
                  <a:pt x="77" y="91"/>
                </a:cubicBezTo>
                <a:cubicBezTo>
                  <a:pt x="76" y="93"/>
                  <a:pt x="74" y="94"/>
                  <a:pt x="73" y="95"/>
                </a:cubicBezTo>
                <a:cubicBezTo>
                  <a:pt x="71" y="96"/>
                  <a:pt x="69" y="97"/>
                  <a:pt x="67" y="98"/>
                </a:cubicBezTo>
                <a:cubicBezTo>
                  <a:pt x="66" y="96"/>
                  <a:pt x="64" y="94"/>
                  <a:pt x="63" y="92"/>
                </a:cubicBezTo>
                <a:cubicBezTo>
                  <a:pt x="61" y="89"/>
                  <a:pt x="60" y="86"/>
                  <a:pt x="59" y="84"/>
                </a:cubicBezTo>
                <a:cubicBezTo>
                  <a:pt x="58" y="81"/>
                  <a:pt x="57" y="78"/>
                  <a:pt x="56" y="74"/>
                </a:cubicBezTo>
                <a:cubicBezTo>
                  <a:pt x="56" y="71"/>
                  <a:pt x="56" y="68"/>
                  <a:pt x="56" y="65"/>
                </a:cubicBezTo>
                <a:cubicBezTo>
                  <a:pt x="61" y="63"/>
                  <a:pt x="65" y="60"/>
                  <a:pt x="69" y="57"/>
                </a:cubicBezTo>
                <a:moveTo>
                  <a:pt x="25" y="94"/>
                </a:moveTo>
                <a:cubicBezTo>
                  <a:pt x="21" y="90"/>
                  <a:pt x="18" y="85"/>
                  <a:pt x="17" y="79"/>
                </a:cubicBezTo>
                <a:cubicBezTo>
                  <a:pt x="16" y="73"/>
                  <a:pt x="17" y="66"/>
                  <a:pt x="18" y="60"/>
                </a:cubicBezTo>
                <a:cubicBezTo>
                  <a:pt x="23" y="63"/>
                  <a:pt x="28" y="65"/>
                  <a:pt x="34" y="66"/>
                </a:cubicBezTo>
                <a:cubicBezTo>
                  <a:pt x="40" y="68"/>
                  <a:pt x="47" y="68"/>
                  <a:pt x="53" y="66"/>
                </a:cubicBezTo>
                <a:cubicBezTo>
                  <a:pt x="51" y="72"/>
                  <a:pt x="51" y="79"/>
                  <a:pt x="53" y="85"/>
                </a:cubicBezTo>
                <a:cubicBezTo>
                  <a:pt x="54" y="91"/>
                  <a:pt x="57" y="96"/>
                  <a:pt x="59" y="101"/>
                </a:cubicBezTo>
                <a:cubicBezTo>
                  <a:pt x="53" y="103"/>
                  <a:pt x="47" y="103"/>
                  <a:pt x="40" y="102"/>
                </a:cubicBezTo>
                <a:cubicBezTo>
                  <a:pt x="34" y="101"/>
                  <a:pt x="29" y="98"/>
                  <a:pt x="25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6"/>
          <p:cNvSpPr/>
          <p:nvPr/>
        </p:nvSpPr>
        <p:spPr>
          <a:xfrm>
            <a:off x="10434600" y="5045040"/>
            <a:ext cx="1419120" cy="14590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19" h="119">
                <a:moveTo>
                  <a:pt x="55" y="52"/>
                </a:moveTo>
                <a:cubicBezTo>
                  <a:pt x="58" y="55"/>
                  <a:pt x="61" y="59"/>
                  <a:pt x="62" y="62"/>
                </a:cubicBezTo>
                <a:cubicBezTo>
                  <a:pt x="58" y="61"/>
                  <a:pt x="55" y="59"/>
                  <a:pt x="52" y="56"/>
                </a:cubicBezTo>
                <a:cubicBezTo>
                  <a:pt x="51" y="55"/>
                  <a:pt x="50" y="53"/>
                  <a:pt x="49" y="52"/>
                </a:cubicBezTo>
                <a:cubicBezTo>
                  <a:pt x="48" y="51"/>
                  <a:pt x="48" y="50"/>
                  <a:pt x="49" y="49"/>
                </a:cubicBezTo>
                <a:cubicBezTo>
                  <a:pt x="49" y="48"/>
                  <a:pt x="50" y="49"/>
                  <a:pt x="52" y="49"/>
                </a:cubicBezTo>
                <a:cubicBezTo>
                  <a:pt x="53" y="50"/>
                  <a:pt x="54" y="51"/>
                  <a:pt x="55" y="52"/>
                </a:cubicBezTo>
                <a:moveTo>
                  <a:pt x="50" y="57"/>
                </a:moveTo>
                <a:cubicBezTo>
                  <a:pt x="53" y="60"/>
                  <a:pt x="58" y="63"/>
                  <a:pt x="62" y="65"/>
                </a:cubicBezTo>
                <a:cubicBezTo>
                  <a:pt x="63" y="68"/>
                  <a:pt x="63" y="71"/>
                  <a:pt x="62" y="74"/>
                </a:cubicBezTo>
                <a:cubicBezTo>
                  <a:pt x="62" y="78"/>
                  <a:pt x="61" y="81"/>
                  <a:pt x="60" y="84"/>
                </a:cubicBezTo>
                <a:cubicBezTo>
                  <a:pt x="59" y="86"/>
                  <a:pt x="58" y="89"/>
                  <a:pt x="56" y="92"/>
                </a:cubicBezTo>
                <a:cubicBezTo>
                  <a:pt x="55" y="94"/>
                  <a:pt x="53" y="96"/>
                  <a:pt x="52" y="98"/>
                </a:cubicBezTo>
                <a:cubicBezTo>
                  <a:pt x="50" y="97"/>
                  <a:pt x="48" y="96"/>
                  <a:pt x="46" y="95"/>
                </a:cubicBezTo>
                <a:cubicBezTo>
                  <a:pt x="44" y="94"/>
                  <a:pt x="43" y="93"/>
                  <a:pt x="42" y="91"/>
                </a:cubicBezTo>
                <a:cubicBezTo>
                  <a:pt x="39" y="89"/>
                  <a:pt x="37" y="86"/>
                  <a:pt x="36" y="84"/>
                </a:cubicBezTo>
                <a:cubicBezTo>
                  <a:pt x="34" y="81"/>
                  <a:pt x="33" y="79"/>
                  <a:pt x="33" y="76"/>
                </a:cubicBezTo>
                <a:cubicBezTo>
                  <a:pt x="33" y="74"/>
                  <a:pt x="33" y="72"/>
                  <a:pt x="33" y="71"/>
                </a:cubicBezTo>
                <a:cubicBezTo>
                  <a:pt x="34" y="69"/>
                  <a:pt x="34" y="67"/>
                  <a:pt x="35" y="66"/>
                </a:cubicBezTo>
                <a:cubicBezTo>
                  <a:pt x="36" y="65"/>
                  <a:pt x="38" y="65"/>
                  <a:pt x="39" y="64"/>
                </a:cubicBezTo>
                <a:cubicBezTo>
                  <a:pt x="41" y="64"/>
                  <a:pt x="43" y="64"/>
                  <a:pt x="45" y="64"/>
                </a:cubicBezTo>
                <a:cubicBezTo>
                  <a:pt x="46" y="64"/>
                  <a:pt x="47" y="64"/>
                  <a:pt x="47" y="64"/>
                </a:cubicBezTo>
                <a:cubicBezTo>
                  <a:pt x="47" y="63"/>
                  <a:pt x="47" y="63"/>
                  <a:pt x="46" y="62"/>
                </a:cubicBezTo>
                <a:cubicBezTo>
                  <a:pt x="43" y="61"/>
                  <a:pt x="41" y="60"/>
                  <a:pt x="38" y="61"/>
                </a:cubicBezTo>
                <a:cubicBezTo>
                  <a:pt x="35" y="61"/>
                  <a:pt x="33" y="62"/>
                  <a:pt x="32" y="63"/>
                </a:cubicBezTo>
                <a:cubicBezTo>
                  <a:pt x="31" y="65"/>
                  <a:pt x="30" y="66"/>
                  <a:pt x="29" y="68"/>
                </a:cubicBezTo>
                <a:cubicBezTo>
                  <a:pt x="29" y="70"/>
                  <a:pt x="29" y="73"/>
                  <a:pt x="29" y="75"/>
                </a:cubicBezTo>
                <a:cubicBezTo>
                  <a:pt x="30" y="78"/>
                  <a:pt x="31" y="81"/>
                  <a:pt x="32" y="84"/>
                </a:cubicBezTo>
                <a:cubicBezTo>
                  <a:pt x="34" y="87"/>
                  <a:pt x="36" y="90"/>
                  <a:pt x="40" y="93"/>
                </a:cubicBezTo>
                <a:cubicBezTo>
                  <a:pt x="41" y="94"/>
                  <a:pt x="43" y="96"/>
                  <a:pt x="44" y="97"/>
                </a:cubicBezTo>
                <a:cubicBezTo>
                  <a:pt x="46" y="99"/>
                  <a:pt x="47" y="100"/>
                  <a:pt x="49" y="101"/>
                </a:cubicBezTo>
                <a:cubicBezTo>
                  <a:pt x="48" y="103"/>
                  <a:pt x="48" y="103"/>
                  <a:pt x="48" y="103"/>
                </a:cubicBezTo>
                <a:cubicBezTo>
                  <a:pt x="46" y="104"/>
                  <a:pt x="43" y="106"/>
                  <a:pt x="40" y="108"/>
                </a:cubicBezTo>
                <a:cubicBezTo>
                  <a:pt x="37" y="111"/>
                  <a:pt x="34" y="112"/>
                  <a:pt x="30" y="113"/>
                </a:cubicBezTo>
                <a:cubicBezTo>
                  <a:pt x="27" y="114"/>
                  <a:pt x="23" y="114"/>
                  <a:pt x="19" y="114"/>
                </a:cubicBezTo>
                <a:cubicBezTo>
                  <a:pt x="15" y="113"/>
                  <a:pt x="11" y="111"/>
                  <a:pt x="8" y="107"/>
                </a:cubicBezTo>
                <a:cubicBezTo>
                  <a:pt x="6" y="106"/>
                  <a:pt x="5" y="104"/>
                  <a:pt x="5" y="103"/>
                </a:cubicBezTo>
                <a:cubicBezTo>
                  <a:pt x="4" y="101"/>
                  <a:pt x="4" y="100"/>
                  <a:pt x="4" y="99"/>
                </a:cubicBezTo>
                <a:cubicBezTo>
                  <a:pt x="4" y="97"/>
                  <a:pt x="4" y="96"/>
                  <a:pt x="5" y="95"/>
                </a:cubicBezTo>
                <a:cubicBezTo>
                  <a:pt x="5" y="94"/>
                  <a:pt x="6" y="93"/>
                  <a:pt x="7" y="92"/>
                </a:cubicBezTo>
                <a:cubicBezTo>
                  <a:pt x="9" y="91"/>
                  <a:pt x="11" y="89"/>
                  <a:pt x="14" y="89"/>
                </a:cubicBezTo>
                <a:cubicBezTo>
                  <a:pt x="18" y="88"/>
                  <a:pt x="21" y="89"/>
                  <a:pt x="25" y="90"/>
                </a:cubicBezTo>
                <a:cubicBezTo>
                  <a:pt x="26" y="90"/>
                  <a:pt x="27" y="90"/>
                  <a:pt x="27" y="90"/>
                </a:cubicBezTo>
                <a:cubicBezTo>
                  <a:pt x="27" y="89"/>
                  <a:pt x="27" y="88"/>
                  <a:pt x="25" y="87"/>
                </a:cubicBezTo>
                <a:cubicBezTo>
                  <a:pt x="20" y="85"/>
                  <a:pt x="16" y="84"/>
                  <a:pt x="12" y="85"/>
                </a:cubicBezTo>
                <a:cubicBezTo>
                  <a:pt x="8" y="86"/>
                  <a:pt x="5" y="87"/>
                  <a:pt x="3" y="89"/>
                </a:cubicBezTo>
                <a:cubicBezTo>
                  <a:pt x="2" y="90"/>
                  <a:pt x="2" y="91"/>
                  <a:pt x="1" y="93"/>
                </a:cubicBezTo>
                <a:cubicBezTo>
                  <a:pt x="0" y="94"/>
                  <a:pt x="0" y="95"/>
                  <a:pt x="0" y="97"/>
                </a:cubicBezTo>
                <a:cubicBezTo>
                  <a:pt x="0" y="99"/>
                  <a:pt x="1" y="101"/>
                  <a:pt x="1" y="103"/>
                </a:cubicBezTo>
                <a:cubicBezTo>
                  <a:pt x="2" y="105"/>
                  <a:pt x="4" y="107"/>
                  <a:pt x="6" y="109"/>
                </a:cubicBezTo>
                <a:cubicBezTo>
                  <a:pt x="10" y="113"/>
                  <a:pt x="15" y="116"/>
                  <a:pt x="20" y="118"/>
                </a:cubicBezTo>
                <a:cubicBezTo>
                  <a:pt x="24" y="119"/>
                  <a:pt x="29" y="119"/>
                  <a:pt x="33" y="118"/>
                </a:cubicBezTo>
                <a:cubicBezTo>
                  <a:pt x="37" y="118"/>
                  <a:pt x="41" y="116"/>
                  <a:pt x="45" y="114"/>
                </a:cubicBezTo>
                <a:cubicBezTo>
                  <a:pt x="49" y="112"/>
                  <a:pt x="52" y="110"/>
                  <a:pt x="54" y="107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4" y="108"/>
                  <a:pt x="72" y="110"/>
                  <a:pt x="80" y="110"/>
                </a:cubicBezTo>
                <a:cubicBezTo>
                  <a:pt x="88" y="110"/>
                  <a:pt x="95" y="107"/>
                  <a:pt x="101" y="101"/>
                </a:cubicBezTo>
                <a:cubicBezTo>
                  <a:pt x="107" y="95"/>
                  <a:pt x="109" y="88"/>
                  <a:pt x="110" y="80"/>
                </a:cubicBezTo>
                <a:cubicBezTo>
                  <a:pt x="110" y="72"/>
                  <a:pt x="108" y="64"/>
                  <a:pt x="105" y="57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9" y="52"/>
                  <a:pt x="111" y="49"/>
                  <a:pt x="114" y="45"/>
                </a:cubicBezTo>
                <a:cubicBezTo>
                  <a:pt x="116" y="42"/>
                  <a:pt x="117" y="38"/>
                  <a:pt x="118" y="34"/>
                </a:cubicBezTo>
                <a:cubicBezTo>
                  <a:pt x="119" y="29"/>
                  <a:pt x="119" y="25"/>
                  <a:pt x="117" y="20"/>
                </a:cubicBezTo>
                <a:cubicBezTo>
                  <a:pt x="116" y="15"/>
                  <a:pt x="113" y="10"/>
                  <a:pt x="108" y="6"/>
                </a:cubicBezTo>
                <a:cubicBezTo>
                  <a:pt x="106" y="4"/>
                  <a:pt x="104" y="3"/>
                  <a:pt x="102" y="2"/>
                </a:cubicBezTo>
                <a:cubicBezTo>
                  <a:pt x="100" y="1"/>
                  <a:pt x="99" y="0"/>
                  <a:pt x="97" y="0"/>
                </a:cubicBezTo>
                <a:cubicBezTo>
                  <a:pt x="95" y="0"/>
                  <a:pt x="94" y="1"/>
                  <a:pt x="92" y="1"/>
                </a:cubicBezTo>
                <a:cubicBezTo>
                  <a:pt x="91" y="2"/>
                  <a:pt x="90" y="3"/>
                  <a:pt x="89" y="4"/>
                </a:cubicBezTo>
                <a:cubicBezTo>
                  <a:pt x="87" y="5"/>
                  <a:pt x="85" y="8"/>
                  <a:pt x="85" y="12"/>
                </a:cubicBezTo>
                <a:cubicBezTo>
                  <a:pt x="84" y="16"/>
                  <a:pt x="84" y="20"/>
                  <a:pt x="87" y="26"/>
                </a:cubicBezTo>
                <a:cubicBezTo>
                  <a:pt x="88" y="27"/>
                  <a:pt x="89" y="27"/>
                  <a:pt x="89" y="27"/>
                </a:cubicBezTo>
                <a:cubicBezTo>
                  <a:pt x="90" y="27"/>
                  <a:pt x="90" y="26"/>
                  <a:pt x="90" y="25"/>
                </a:cubicBezTo>
                <a:cubicBezTo>
                  <a:pt x="88" y="22"/>
                  <a:pt x="88" y="18"/>
                  <a:pt x="88" y="15"/>
                </a:cubicBezTo>
                <a:cubicBezTo>
                  <a:pt x="89" y="11"/>
                  <a:pt x="90" y="9"/>
                  <a:pt x="92" y="7"/>
                </a:cubicBezTo>
                <a:cubicBezTo>
                  <a:pt x="93" y="6"/>
                  <a:pt x="94" y="6"/>
                  <a:pt x="95" y="5"/>
                </a:cubicBezTo>
                <a:cubicBezTo>
                  <a:pt x="96" y="5"/>
                  <a:pt x="97" y="4"/>
                  <a:pt x="98" y="4"/>
                </a:cubicBezTo>
                <a:cubicBezTo>
                  <a:pt x="100" y="4"/>
                  <a:pt x="101" y="4"/>
                  <a:pt x="102" y="5"/>
                </a:cubicBezTo>
                <a:cubicBezTo>
                  <a:pt x="104" y="6"/>
                  <a:pt x="105" y="7"/>
                  <a:pt x="107" y="8"/>
                </a:cubicBezTo>
                <a:cubicBezTo>
                  <a:pt x="110" y="12"/>
                  <a:pt x="113" y="15"/>
                  <a:pt x="113" y="19"/>
                </a:cubicBezTo>
                <a:cubicBezTo>
                  <a:pt x="114" y="23"/>
                  <a:pt x="114" y="27"/>
                  <a:pt x="113" y="31"/>
                </a:cubicBezTo>
                <a:cubicBezTo>
                  <a:pt x="112" y="34"/>
                  <a:pt x="110" y="38"/>
                  <a:pt x="108" y="41"/>
                </a:cubicBezTo>
                <a:cubicBezTo>
                  <a:pt x="106" y="44"/>
                  <a:pt x="104" y="46"/>
                  <a:pt x="102" y="48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99" y="48"/>
                  <a:pt x="98" y="46"/>
                  <a:pt x="97" y="44"/>
                </a:cubicBezTo>
                <a:cubicBezTo>
                  <a:pt x="95" y="43"/>
                  <a:pt x="94" y="41"/>
                  <a:pt x="93" y="40"/>
                </a:cubicBezTo>
                <a:cubicBezTo>
                  <a:pt x="90" y="37"/>
                  <a:pt x="86" y="34"/>
                  <a:pt x="83" y="33"/>
                </a:cubicBezTo>
                <a:cubicBezTo>
                  <a:pt x="80" y="31"/>
                  <a:pt x="78" y="30"/>
                  <a:pt x="75" y="30"/>
                </a:cubicBezTo>
                <a:cubicBezTo>
                  <a:pt x="72" y="29"/>
                  <a:pt x="70" y="29"/>
                  <a:pt x="68" y="30"/>
                </a:cubicBezTo>
                <a:cubicBezTo>
                  <a:pt x="66" y="30"/>
                  <a:pt x="64" y="31"/>
                  <a:pt x="63" y="32"/>
                </a:cubicBezTo>
                <a:cubicBezTo>
                  <a:pt x="62" y="34"/>
                  <a:pt x="61" y="36"/>
                  <a:pt x="60" y="38"/>
                </a:cubicBezTo>
                <a:cubicBezTo>
                  <a:pt x="60" y="41"/>
                  <a:pt x="61" y="44"/>
                  <a:pt x="62" y="46"/>
                </a:cubicBezTo>
                <a:cubicBezTo>
                  <a:pt x="62" y="47"/>
                  <a:pt x="63" y="47"/>
                  <a:pt x="63" y="47"/>
                </a:cubicBezTo>
                <a:cubicBezTo>
                  <a:pt x="64" y="47"/>
                  <a:pt x="64" y="47"/>
                  <a:pt x="64" y="46"/>
                </a:cubicBezTo>
                <a:cubicBezTo>
                  <a:pt x="63" y="43"/>
                  <a:pt x="63" y="41"/>
                  <a:pt x="64" y="40"/>
                </a:cubicBezTo>
                <a:cubicBezTo>
                  <a:pt x="64" y="38"/>
                  <a:pt x="65" y="37"/>
                  <a:pt x="66" y="36"/>
                </a:cubicBezTo>
                <a:cubicBezTo>
                  <a:pt x="67" y="35"/>
                  <a:pt x="68" y="34"/>
                  <a:pt x="70" y="34"/>
                </a:cubicBezTo>
                <a:cubicBezTo>
                  <a:pt x="72" y="33"/>
                  <a:pt x="74" y="33"/>
                  <a:pt x="76" y="33"/>
                </a:cubicBezTo>
                <a:cubicBezTo>
                  <a:pt x="78" y="34"/>
                  <a:pt x="81" y="35"/>
                  <a:pt x="83" y="36"/>
                </a:cubicBezTo>
                <a:cubicBezTo>
                  <a:pt x="86" y="37"/>
                  <a:pt x="88" y="39"/>
                  <a:pt x="91" y="42"/>
                </a:cubicBezTo>
                <a:cubicBezTo>
                  <a:pt x="92" y="43"/>
                  <a:pt x="94" y="45"/>
                  <a:pt x="95" y="47"/>
                </a:cubicBezTo>
                <a:cubicBezTo>
                  <a:pt x="96" y="48"/>
                  <a:pt x="97" y="50"/>
                  <a:pt x="98" y="52"/>
                </a:cubicBezTo>
                <a:cubicBezTo>
                  <a:pt x="96" y="53"/>
                  <a:pt x="94" y="55"/>
                  <a:pt x="91" y="56"/>
                </a:cubicBezTo>
                <a:cubicBezTo>
                  <a:pt x="89" y="58"/>
                  <a:pt x="86" y="59"/>
                  <a:pt x="83" y="60"/>
                </a:cubicBezTo>
                <a:cubicBezTo>
                  <a:pt x="80" y="61"/>
                  <a:pt x="77" y="62"/>
                  <a:pt x="74" y="63"/>
                </a:cubicBezTo>
                <a:cubicBezTo>
                  <a:pt x="71" y="63"/>
                  <a:pt x="68" y="63"/>
                  <a:pt x="65" y="63"/>
                </a:cubicBezTo>
                <a:cubicBezTo>
                  <a:pt x="63" y="58"/>
                  <a:pt x="60" y="54"/>
                  <a:pt x="56" y="50"/>
                </a:cubicBezTo>
                <a:cubicBezTo>
                  <a:pt x="54" y="48"/>
                  <a:pt x="52" y="46"/>
                  <a:pt x="50" y="46"/>
                </a:cubicBezTo>
                <a:cubicBezTo>
                  <a:pt x="48" y="45"/>
                  <a:pt x="47" y="45"/>
                  <a:pt x="46" y="46"/>
                </a:cubicBezTo>
                <a:cubicBezTo>
                  <a:pt x="45" y="47"/>
                  <a:pt x="45" y="48"/>
                  <a:pt x="45" y="50"/>
                </a:cubicBezTo>
                <a:cubicBezTo>
                  <a:pt x="46" y="52"/>
                  <a:pt x="47" y="54"/>
                  <a:pt x="50" y="57"/>
                </a:cubicBezTo>
                <a:moveTo>
                  <a:pt x="94" y="94"/>
                </a:moveTo>
                <a:cubicBezTo>
                  <a:pt x="90" y="98"/>
                  <a:pt x="85" y="101"/>
                  <a:pt x="79" y="102"/>
                </a:cubicBezTo>
                <a:cubicBezTo>
                  <a:pt x="72" y="103"/>
                  <a:pt x="66" y="103"/>
                  <a:pt x="59" y="101"/>
                </a:cubicBezTo>
                <a:cubicBezTo>
                  <a:pt x="62" y="96"/>
                  <a:pt x="65" y="91"/>
                  <a:pt x="66" y="85"/>
                </a:cubicBezTo>
                <a:cubicBezTo>
                  <a:pt x="68" y="79"/>
                  <a:pt x="68" y="72"/>
                  <a:pt x="66" y="66"/>
                </a:cubicBezTo>
                <a:cubicBezTo>
                  <a:pt x="72" y="68"/>
                  <a:pt x="78" y="68"/>
                  <a:pt x="85" y="66"/>
                </a:cubicBezTo>
                <a:cubicBezTo>
                  <a:pt x="91" y="65"/>
                  <a:pt x="96" y="63"/>
                  <a:pt x="101" y="60"/>
                </a:cubicBezTo>
                <a:cubicBezTo>
                  <a:pt x="102" y="66"/>
                  <a:pt x="103" y="73"/>
                  <a:pt x="102" y="79"/>
                </a:cubicBezTo>
                <a:cubicBezTo>
                  <a:pt x="100" y="85"/>
                  <a:pt x="98" y="90"/>
                  <a:pt x="94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组合 112"/>
          <p:cNvGrpSpPr/>
          <p:nvPr/>
        </p:nvGrpSpPr>
        <p:grpSpPr>
          <a:xfrm>
            <a:off x="4506840" y="1927080"/>
            <a:ext cx="3160800" cy="889200"/>
            <a:chOff x="4506840" y="1927080"/>
            <a:chExt cx="3160800" cy="889200"/>
          </a:xfrm>
        </p:grpSpPr>
        <p:sp>
          <p:nvSpPr>
            <p:cNvPr id="1814" name="Line 10"/>
            <p:cNvSpPr/>
            <p:nvPr/>
          </p:nvSpPr>
          <p:spPr>
            <a:xfrm>
              <a:off x="4506840" y="2657880"/>
              <a:ext cx="3160800" cy="0"/>
            </a:xfrm>
            <a:prstGeom prst="line">
              <a:avLst/>
            </a:prstGeom>
            <a:ln w="44280">
              <a:solidFill>
                <a:srgbClr val="3e3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1"/>
            <p:cNvSpPr/>
            <p:nvPr/>
          </p:nvSpPr>
          <p:spPr>
            <a:xfrm>
              <a:off x="5008680" y="2014920"/>
              <a:ext cx="1157040" cy="6487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624" h="348">
                  <a:moveTo>
                    <a:pt x="157" y="283"/>
                  </a:moveTo>
                  <a:cubicBezTo>
                    <a:pt x="157" y="262"/>
                    <a:pt x="143" y="239"/>
                    <a:pt x="124" y="231"/>
                  </a:cubicBezTo>
                  <a:cubicBezTo>
                    <a:pt x="124" y="231"/>
                    <a:pt x="124" y="231"/>
                    <a:pt x="124" y="231"/>
                  </a:cubicBezTo>
                  <a:cubicBezTo>
                    <a:pt x="106" y="219"/>
                    <a:pt x="71" y="227"/>
                    <a:pt x="73" y="257"/>
                  </a:cubicBezTo>
                  <a:cubicBezTo>
                    <a:pt x="73" y="271"/>
                    <a:pt x="95" y="289"/>
                    <a:pt x="109" y="273"/>
                  </a:cubicBezTo>
                  <a:cubicBezTo>
                    <a:pt x="116" y="264"/>
                    <a:pt x="113" y="255"/>
                    <a:pt x="108" y="251"/>
                  </a:cubicBezTo>
                  <a:cubicBezTo>
                    <a:pt x="102" y="246"/>
                    <a:pt x="92" y="248"/>
                    <a:pt x="88" y="251"/>
                  </a:cubicBezTo>
                  <a:cubicBezTo>
                    <a:pt x="100" y="257"/>
                    <a:pt x="98" y="274"/>
                    <a:pt x="85" y="268"/>
                  </a:cubicBezTo>
                  <a:cubicBezTo>
                    <a:pt x="75" y="262"/>
                    <a:pt x="76" y="249"/>
                    <a:pt x="82" y="240"/>
                  </a:cubicBezTo>
                  <a:cubicBezTo>
                    <a:pt x="89" y="230"/>
                    <a:pt x="107" y="228"/>
                    <a:pt x="120" y="234"/>
                  </a:cubicBezTo>
                  <a:cubicBezTo>
                    <a:pt x="122" y="235"/>
                    <a:pt x="124" y="236"/>
                    <a:pt x="126" y="237"/>
                  </a:cubicBezTo>
                  <a:cubicBezTo>
                    <a:pt x="151" y="254"/>
                    <a:pt x="156" y="278"/>
                    <a:pt x="149" y="297"/>
                  </a:cubicBezTo>
                  <a:cubicBezTo>
                    <a:pt x="138" y="327"/>
                    <a:pt x="92" y="344"/>
                    <a:pt x="52" y="302"/>
                  </a:cubicBezTo>
                  <a:cubicBezTo>
                    <a:pt x="39" y="288"/>
                    <a:pt x="35" y="257"/>
                    <a:pt x="38" y="232"/>
                  </a:cubicBezTo>
                  <a:cubicBezTo>
                    <a:pt x="43" y="167"/>
                    <a:pt x="102" y="129"/>
                    <a:pt x="157" y="130"/>
                  </a:cubicBezTo>
                  <a:cubicBezTo>
                    <a:pt x="192" y="130"/>
                    <a:pt x="271" y="179"/>
                    <a:pt x="308" y="225"/>
                  </a:cubicBezTo>
                  <a:cubicBezTo>
                    <a:pt x="343" y="268"/>
                    <a:pt x="379" y="296"/>
                    <a:pt x="414" y="308"/>
                  </a:cubicBezTo>
                  <a:cubicBezTo>
                    <a:pt x="480" y="331"/>
                    <a:pt x="550" y="299"/>
                    <a:pt x="590" y="243"/>
                  </a:cubicBezTo>
                  <a:cubicBezTo>
                    <a:pt x="624" y="197"/>
                    <a:pt x="618" y="156"/>
                    <a:pt x="589" y="117"/>
                  </a:cubicBezTo>
                  <a:cubicBezTo>
                    <a:pt x="585" y="110"/>
                    <a:pt x="581" y="105"/>
                    <a:pt x="575" y="100"/>
                  </a:cubicBezTo>
                  <a:cubicBezTo>
                    <a:pt x="589" y="57"/>
                    <a:pt x="575" y="16"/>
                    <a:pt x="539" y="8"/>
                  </a:cubicBezTo>
                  <a:cubicBezTo>
                    <a:pt x="506" y="0"/>
                    <a:pt x="476" y="37"/>
                    <a:pt x="472" y="68"/>
                  </a:cubicBezTo>
                  <a:cubicBezTo>
                    <a:pt x="393" y="86"/>
                    <a:pt x="342" y="189"/>
                    <a:pt x="432" y="221"/>
                  </a:cubicBezTo>
                  <a:cubicBezTo>
                    <a:pt x="502" y="245"/>
                    <a:pt x="553" y="183"/>
                    <a:pt x="572" y="113"/>
                  </a:cubicBezTo>
                  <a:cubicBezTo>
                    <a:pt x="604" y="147"/>
                    <a:pt x="615" y="191"/>
                    <a:pt x="584" y="234"/>
                  </a:cubicBezTo>
                  <a:cubicBezTo>
                    <a:pt x="543" y="291"/>
                    <a:pt x="471" y="321"/>
                    <a:pt x="415" y="300"/>
                  </a:cubicBezTo>
                  <a:cubicBezTo>
                    <a:pt x="378" y="286"/>
                    <a:pt x="344" y="252"/>
                    <a:pt x="297" y="197"/>
                  </a:cubicBezTo>
                  <a:cubicBezTo>
                    <a:pt x="254" y="145"/>
                    <a:pt x="179" y="104"/>
                    <a:pt x="116" y="124"/>
                  </a:cubicBezTo>
                  <a:cubicBezTo>
                    <a:pt x="47" y="146"/>
                    <a:pt x="0" y="200"/>
                    <a:pt x="22" y="282"/>
                  </a:cubicBezTo>
                  <a:cubicBezTo>
                    <a:pt x="33" y="321"/>
                    <a:pt x="88" y="348"/>
                    <a:pt x="127" y="328"/>
                  </a:cubicBezTo>
                  <a:cubicBezTo>
                    <a:pt x="149" y="317"/>
                    <a:pt x="157" y="300"/>
                    <a:pt x="157" y="283"/>
                  </a:cubicBezTo>
                  <a:close/>
                  <a:moveTo>
                    <a:pt x="477" y="67"/>
                  </a:moveTo>
                  <a:cubicBezTo>
                    <a:pt x="483" y="39"/>
                    <a:pt x="504" y="8"/>
                    <a:pt x="537" y="14"/>
                  </a:cubicBezTo>
                  <a:cubicBezTo>
                    <a:pt x="568" y="19"/>
                    <a:pt x="581" y="59"/>
                    <a:pt x="570" y="95"/>
                  </a:cubicBezTo>
                  <a:cubicBezTo>
                    <a:pt x="539" y="69"/>
                    <a:pt x="506" y="62"/>
                    <a:pt x="477" y="67"/>
                  </a:cubicBezTo>
                  <a:close/>
                  <a:moveTo>
                    <a:pt x="567" y="108"/>
                  </a:moveTo>
                  <a:cubicBezTo>
                    <a:pt x="548" y="176"/>
                    <a:pt x="501" y="240"/>
                    <a:pt x="432" y="215"/>
                  </a:cubicBezTo>
                  <a:cubicBezTo>
                    <a:pt x="361" y="189"/>
                    <a:pt x="403" y="100"/>
                    <a:pt x="470" y="81"/>
                  </a:cubicBezTo>
                  <a:cubicBezTo>
                    <a:pt x="469" y="99"/>
                    <a:pt x="472" y="118"/>
                    <a:pt x="488" y="124"/>
                  </a:cubicBezTo>
                  <a:cubicBezTo>
                    <a:pt x="495" y="126"/>
                    <a:pt x="509" y="126"/>
                    <a:pt x="517" y="118"/>
                  </a:cubicBezTo>
                  <a:cubicBezTo>
                    <a:pt x="501" y="126"/>
                    <a:pt x="491" y="123"/>
                    <a:pt x="484" y="118"/>
                  </a:cubicBezTo>
                  <a:cubicBezTo>
                    <a:pt x="474" y="110"/>
                    <a:pt x="474" y="94"/>
                    <a:pt x="475" y="79"/>
                  </a:cubicBezTo>
                  <a:cubicBezTo>
                    <a:pt x="504" y="73"/>
                    <a:pt x="537" y="79"/>
                    <a:pt x="567" y="108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2"/>
            <p:cNvSpPr/>
            <p:nvPr/>
          </p:nvSpPr>
          <p:spPr>
            <a:xfrm>
              <a:off x="5467320" y="1977840"/>
              <a:ext cx="277920" cy="50112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50" h="269">
                  <a:moveTo>
                    <a:pt x="91" y="269"/>
                  </a:moveTo>
                  <a:cubicBezTo>
                    <a:pt x="82" y="265"/>
                    <a:pt x="78" y="248"/>
                    <a:pt x="70" y="243"/>
                  </a:cubicBezTo>
                  <a:cubicBezTo>
                    <a:pt x="27" y="214"/>
                    <a:pt x="0" y="162"/>
                    <a:pt x="3" y="121"/>
                  </a:cubicBezTo>
                  <a:cubicBezTo>
                    <a:pt x="7" y="77"/>
                    <a:pt x="22" y="48"/>
                    <a:pt x="49" y="24"/>
                  </a:cubicBezTo>
                  <a:cubicBezTo>
                    <a:pt x="76" y="0"/>
                    <a:pt x="112" y="0"/>
                    <a:pt x="127" y="7"/>
                  </a:cubicBezTo>
                  <a:cubicBezTo>
                    <a:pt x="138" y="12"/>
                    <a:pt x="150" y="24"/>
                    <a:pt x="141" y="35"/>
                  </a:cubicBezTo>
                  <a:cubicBezTo>
                    <a:pt x="132" y="47"/>
                    <a:pt x="119" y="37"/>
                    <a:pt x="115" y="32"/>
                  </a:cubicBezTo>
                  <a:cubicBezTo>
                    <a:pt x="109" y="26"/>
                    <a:pt x="98" y="18"/>
                    <a:pt x="78" y="21"/>
                  </a:cubicBezTo>
                  <a:cubicBezTo>
                    <a:pt x="60" y="24"/>
                    <a:pt x="24" y="55"/>
                    <a:pt x="15" y="91"/>
                  </a:cubicBezTo>
                  <a:cubicBezTo>
                    <a:pt x="15" y="91"/>
                    <a:pt x="15" y="92"/>
                    <a:pt x="14" y="93"/>
                  </a:cubicBezTo>
                  <a:cubicBezTo>
                    <a:pt x="16" y="87"/>
                    <a:pt x="21" y="71"/>
                    <a:pt x="31" y="62"/>
                  </a:cubicBezTo>
                  <a:cubicBezTo>
                    <a:pt x="42" y="51"/>
                    <a:pt x="61" y="39"/>
                    <a:pt x="82" y="53"/>
                  </a:cubicBezTo>
                  <a:cubicBezTo>
                    <a:pt x="101" y="66"/>
                    <a:pt x="95" y="83"/>
                    <a:pt x="93" y="85"/>
                  </a:cubicBezTo>
                  <a:cubicBezTo>
                    <a:pt x="91" y="88"/>
                    <a:pt x="81" y="93"/>
                    <a:pt x="76" y="78"/>
                  </a:cubicBezTo>
                  <a:cubicBezTo>
                    <a:pt x="70" y="63"/>
                    <a:pt x="64" y="57"/>
                    <a:pt x="54" y="57"/>
                  </a:cubicBezTo>
                  <a:cubicBezTo>
                    <a:pt x="44" y="56"/>
                    <a:pt x="33" y="62"/>
                    <a:pt x="27" y="69"/>
                  </a:cubicBezTo>
                  <a:cubicBezTo>
                    <a:pt x="22" y="75"/>
                    <a:pt x="15" y="91"/>
                    <a:pt x="14" y="94"/>
                  </a:cubicBezTo>
                  <a:cubicBezTo>
                    <a:pt x="8" y="122"/>
                    <a:pt x="7" y="143"/>
                    <a:pt x="15" y="165"/>
                  </a:cubicBezTo>
                  <a:cubicBezTo>
                    <a:pt x="14" y="161"/>
                    <a:pt x="13" y="155"/>
                    <a:pt x="12" y="148"/>
                  </a:cubicBezTo>
                  <a:cubicBezTo>
                    <a:pt x="9" y="127"/>
                    <a:pt x="15" y="104"/>
                    <a:pt x="32" y="97"/>
                  </a:cubicBezTo>
                  <a:cubicBezTo>
                    <a:pt x="50" y="89"/>
                    <a:pt x="56" y="98"/>
                    <a:pt x="57" y="107"/>
                  </a:cubicBezTo>
                  <a:cubicBezTo>
                    <a:pt x="59" y="115"/>
                    <a:pt x="50" y="119"/>
                    <a:pt x="47" y="116"/>
                  </a:cubicBezTo>
                  <a:cubicBezTo>
                    <a:pt x="43" y="114"/>
                    <a:pt x="43" y="109"/>
                    <a:pt x="43" y="109"/>
                  </a:cubicBezTo>
                  <a:cubicBezTo>
                    <a:pt x="43" y="109"/>
                    <a:pt x="41" y="100"/>
                    <a:pt x="31" y="105"/>
                  </a:cubicBezTo>
                  <a:cubicBezTo>
                    <a:pt x="20" y="109"/>
                    <a:pt x="15" y="123"/>
                    <a:pt x="13" y="139"/>
                  </a:cubicBezTo>
                  <a:cubicBezTo>
                    <a:pt x="13" y="151"/>
                    <a:pt x="16" y="165"/>
                    <a:pt x="19" y="176"/>
                  </a:cubicBezTo>
                  <a:cubicBezTo>
                    <a:pt x="25" y="188"/>
                    <a:pt x="34" y="202"/>
                    <a:pt x="45" y="217"/>
                  </a:cubicBezTo>
                  <a:lnTo>
                    <a:pt x="91" y="26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3"/>
            <p:cNvSpPr/>
            <p:nvPr/>
          </p:nvSpPr>
          <p:spPr>
            <a:xfrm>
              <a:off x="5478120" y="2166120"/>
              <a:ext cx="223920" cy="281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21" h="151">
                  <a:moveTo>
                    <a:pt x="66" y="145"/>
                  </a:moveTo>
                  <a:cubicBezTo>
                    <a:pt x="63" y="136"/>
                    <a:pt x="60" y="126"/>
                    <a:pt x="53" y="118"/>
                  </a:cubicBezTo>
                  <a:cubicBezTo>
                    <a:pt x="39" y="101"/>
                    <a:pt x="27" y="86"/>
                    <a:pt x="34" y="57"/>
                  </a:cubicBezTo>
                  <a:cubicBezTo>
                    <a:pt x="40" y="30"/>
                    <a:pt x="79" y="0"/>
                    <a:pt x="108" y="28"/>
                  </a:cubicBezTo>
                  <a:cubicBezTo>
                    <a:pt x="121" y="42"/>
                    <a:pt x="106" y="46"/>
                    <a:pt x="100" y="58"/>
                  </a:cubicBezTo>
                  <a:cubicBezTo>
                    <a:pt x="92" y="72"/>
                    <a:pt x="104" y="84"/>
                    <a:pt x="111" y="91"/>
                  </a:cubicBezTo>
                  <a:cubicBezTo>
                    <a:pt x="98" y="75"/>
                    <a:pt x="116" y="63"/>
                    <a:pt x="119" y="50"/>
                  </a:cubicBezTo>
                  <a:cubicBezTo>
                    <a:pt x="120" y="39"/>
                    <a:pt x="113" y="28"/>
                    <a:pt x="106" y="22"/>
                  </a:cubicBezTo>
                  <a:cubicBezTo>
                    <a:pt x="85" y="2"/>
                    <a:pt x="49" y="18"/>
                    <a:pt x="37" y="41"/>
                  </a:cubicBezTo>
                  <a:cubicBezTo>
                    <a:pt x="0" y="106"/>
                    <a:pt x="69" y="151"/>
                    <a:pt x="66" y="14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4"/>
            <p:cNvSpPr/>
            <p:nvPr/>
          </p:nvSpPr>
          <p:spPr>
            <a:xfrm>
              <a:off x="5233680" y="2087640"/>
              <a:ext cx="263160" cy="1652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42" h="89">
                  <a:moveTo>
                    <a:pt x="122" y="35"/>
                  </a:moveTo>
                  <a:cubicBezTo>
                    <a:pt x="142" y="60"/>
                    <a:pt x="133" y="89"/>
                    <a:pt x="133" y="89"/>
                  </a:cubicBezTo>
                  <a:cubicBezTo>
                    <a:pt x="131" y="88"/>
                    <a:pt x="130" y="82"/>
                    <a:pt x="130" y="82"/>
                  </a:cubicBezTo>
                  <a:cubicBezTo>
                    <a:pt x="130" y="82"/>
                    <a:pt x="134" y="58"/>
                    <a:pt x="121" y="42"/>
                  </a:cubicBezTo>
                  <a:cubicBezTo>
                    <a:pt x="98" y="14"/>
                    <a:pt x="67" y="10"/>
                    <a:pt x="46" y="19"/>
                  </a:cubicBezTo>
                  <a:cubicBezTo>
                    <a:pt x="26" y="29"/>
                    <a:pt x="25" y="40"/>
                    <a:pt x="25" y="40"/>
                  </a:cubicBezTo>
                  <a:cubicBezTo>
                    <a:pt x="18" y="26"/>
                    <a:pt x="27" y="20"/>
                    <a:pt x="27" y="20"/>
                  </a:cubicBezTo>
                  <a:cubicBezTo>
                    <a:pt x="27" y="20"/>
                    <a:pt x="8" y="32"/>
                    <a:pt x="5" y="49"/>
                  </a:cubicBezTo>
                  <a:cubicBezTo>
                    <a:pt x="3" y="49"/>
                    <a:pt x="2" y="48"/>
                    <a:pt x="0" y="47"/>
                  </a:cubicBezTo>
                  <a:cubicBezTo>
                    <a:pt x="2" y="35"/>
                    <a:pt x="9" y="22"/>
                    <a:pt x="25" y="14"/>
                  </a:cubicBezTo>
                  <a:cubicBezTo>
                    <a:pt x="54" y="0"/>
                    <a:pt x="98" y="5"/>
                    <a:pt x="122" y="3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"/>
            <p:cNvSpPr/>
            <p:nvPr/>
          </p:nvSpPr>
          <p:spPr>
            <a:xfrm>
              <a:off x="4740120" y="2271960"/>
              <a:ext cx="487800" cy="39348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63" h="211">
                  <a:moveTo>
                    <a:pt x="263" y="210"/>
                  </a:moveTo>
                  <a:cubicBezTo>
                    <a:pt x="157" y="209"/>
                    <a:pt x="0" y="39"/>
                    <a:pt x="159" y="0"/>
                  </a:cubicBezTo>
                  <a:cubicBezTo>
                    <a:pt x="55" y="9"/>
                    <a:pt x="59" y="136"/>
                    <a:pt x="190" y="211"/>
                  </a:cubicBezTo>
                  <a:lnTo>
                    <a:pt x="263" y="210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6"/>
            <p:cNvSpPr/>
            <p:nvPr/>
          </p:nvSpPr>
          <p:spPr>
            <a:xfrm>
              <a:off x="4616280" y="2031840"/>
              <a:ext cx="437040" cy="61884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618840"/>
                <a:gd name="textAreaBottom" fmla="*/ 618840 h 618840"/>
              </a:gdLst>
              <a:ahLst/>
              <a:rect l="textAreaLeft" t="textAreaTop" r="textAreaRight" b="textAreaBottom"/>
              <a:pathLst>
                <a:path w="236" h="332">
                  <a:moveTo>
                    <a:pt x="236" y="330"/>
                  </a:moveTo>
                  <a:cubicBezTo>
                    <a:pt x="229" y="330"/>
                    <a:pt x="217" y="332"/>
                    <a:pt x="212" y="330"/>
                  </a:cubicBezTo>
                  <a:cubicBezTo>
                    <a:pt x="0" y="216"/>
                    <a:pt x="67" y="0"/>
                    <a:pt x="178" y="120"/>
                  </a:cubicBezTo>
                  <a:cubicBezTo>
                    <a:pt x="39" y="6"/>
                    <a:pt x="41" y="245"/>
                    <a:pt x="236" y="33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7"/>
            <p:cNvSpPr/>
            <p:nvPr/>
          </p:nvSpPr>
          <p:spPr>
            <a:xfrm>
              <a:off x="4758840" y="2412360"/>
              <a:ext cx="192600" cy="2397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04" h="129">
                  <a:moveTo>
                    <a:pt x="104" y="129"/>
                  </a:moveTo>
                  <a:cubicBezTo>
                    <a:pt x="38" y="86"/>
                    <a:pt x="7" y="25"/>
                    <a:pt x="0" y="0"/>
                  </a:cubicBezTo>
                  <a:cubicBezTo>
                    <a:pt x="5" y="34"/>
                    <a:pt x="41" y="95"/>
                    <a:pt x="95" y="129"/>
                  </a:cubicBezTo>
                  <a:lnTo>
                    <a:pt x="104" y="12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8"/>
            <p:cNvSpPr/>
            <p:nvPr/>
          </p:nvSpPr>
          <p:spPr>
            <a:xfrm>
              <a:off x="5220360" y="2354400"/>
              <a:ext cx="397080" cy="4618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4" h="248">
                  <a:moveTo>
                    <a:pt x="158" y="222"/>
                  </a:moveTo>
                  <a:cubicBezTo>
                    <a:pt x="145" y="211"/>
                    <a:pt x="135" y="199"/>
                    <a:pt x="126" y="186"/>
                  </a:cubicBezTo>
                  <a:cubicBezTo>
                    <a:pt x="116" y="173"/>
                    <a:pt x="108" y="159"/>
                    <a:pt x="101" y="146"/>
                  </a:cubicBezTo>
                  <a:cubicBezTo>
                    <a:pt x="94" y="132"/>
                    <a:pt x="88" y="118"/>
                    <a:pt x="83" y="105"/>
                  </a:cubicBezTo>
                  <a:cubicBezTo>
                    <a:pt x="78" y="92"/>
                    <a:pt x="73" y="79"/>
                    <a:pt x="69" y="68"/>
                  </a:cubicBezTo>
                  <a:cubicBezTo>
                    <a:pt x="64" y="56"/>
                    <a:pt x="60" y="46"/>
                    <a:pt x="55" y="38"/>
                  </a:cubicBezTo>
                  <a:cubicBezTo>
                    <a:pt x="51" y="29"/>
                    <a:pt x="47" y="22"/>
                    <a:pt x="42" y="18"/>
                  </a:cubicBezTo>
                  <a:cubicBezTo>
                    <a:pt x="36" y="12"/>
                    <a:pt x="29" y="8"/>
                    <a:pt x="21" y="6"/>
                  </a:cubicBezTo>
                  <a:cubicBezTo>
                    <a:pt x="13" y="3"/>
                    <a:pt x="6" y="1"/>
                    <a:pt x="0" y="1"/>
                  </a:cubicBezTo>
                  <a:cubicBezTo>
                    <a:pt x="7" y="0"/>
                    <a:pt x="15" y="1"/>
                    <a:pt x="25" y="5"/>
                  </a:cubicBezTo>
                  <a:cubicBezTo>
                    <a:pt x="35" y="9"/>
                    <a:pt x="45" y="16"/>
                    <a:pt x="55" y="25"/>
                  </a:cubicBezTo>
                  <a:cubicBezTo>
                    <a:pt x="64" y="33"/>
                    <a:pt x="72" y="42"/>
                    <a:pt x="78" y="53"/>
                  </a:cubicBezTo>
                  <a:cubicBezTo>
                    <a:pt x="84" y="63"/>
                    <a:pt x="90" y="74"/>
                    <a:pt x="95" y="86"/>
                  </a:cubicBezTo>
                  <a:cubicBezTo>
                    <a:pt x="100" y="98"/>
                    <a:pt x="105" y="110"/>
                    <a:pt x="110" y="123"/>
                  </a:cubicBezTo>
                  <a:cubicBezTo>
                    <a:pt x="114" y="135"/>
                    <a:pt x="119" y="148"/>
                    <a:pt x="124" y="160"/>
                  </a:cubicBezTo>
                  <a:cubicBezTo>
                    <a:pt x="129" y="172"/>
                    <a:pt x="135" y="183"/>
                    <a:pt x="142" y="194"/>
                  </a:cubicBezTo>
                  <a:cubicBezTo>
                    <a:pt x="149" y="205"/>
                    <a:pt x="157" y="214"/>
                    <a:pt x="166" y="223"/>
                  </a:cubicBezTo>
                  <a:cubicBezTo>
                    <a:pt x="172" y="228"/>
                    <a:pt x="179" y="233"/>
                    <a:pt x="187" y="238"/>
                  </a:cubicBezTo>
                  <a:cubicBezTo>
                    <a:pt x="195" y="242"/>
                    <a:pt x="204" y="246"/>
                    <a:pt x="214" y="248"/>
                  </a:cubicBezTo>
                  <a:cubicBezTo>
                    <a:pt x="209" y="248"/>
                    <a:pt x="204" y="248"/>
                    <a:pt x="199" y="246"/>
                  </a:cubicBezTo>
                  <a:cubicBezTo>
                    <a:pt x="194" y="245"/>
                    <a:pt x="189" y="243"/>
                    <a:pt x="184" y="241"/>
                  </a:cubicBezTo>
                  <a:cubicBezTo>
                    <a:pt x="179" y="238"/>
                    <a:pt x="175" y="235"/>
                    <a:pt x="170" y="232"/>
                  </a:cubicBezTo>
                  <a:cubicBezTo>
                    <a:pt x="166" y="229"/>
                    <a:pt x="162" y="226"/>
                    <a:pt x="158" y="222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9"/>
            <p:cNvSpPr/>
            <p:nvPr/>
          </p:nvSpPr>
          <p:spPr>
            <a:xfrm>
              <a:off x="5313600" y="2358360"/>
              <a:ext cx="379800" cy="381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205" h="205">
                  <a:moveTo>
                    <a:pt x="200" y="194"/>
                  </a:moveTo>
                  <a:cubicBezTo>
                    <a:pt x="203" y="190"/>
                    <a:pt x="205" y="185"/>
                    <a:pt x="205" y="179"/>
                  </a:cubicBezTo>
                  <a:cubicBezTo>
                    <a:pt x="205" y="173"/>
                    <a:pt x="204" y="167"/>
                    <a:pt x="202" y="161"/>
                  </a:cubicBezTo>
                  <a:cubicBezTo>
                    <a:pt x="200" y="155"/>
                    <a:pt x="197" y="149"/>
                    <a:pt x="193" y="143"/>
                  </a:cubicBezTo>
                  <a:cubicBezTo>
                    <a:pt x="189" y="137"/>
                    <a:pt x="184" y="132"/>
                    <a:pt x="179" y="128"/>
                  </a:cubicBezTo>
                  <a:cubicBezTo>
                    <a:pt x="175" y="125"/>
                    <a:pt x="171" y="122"/>
                    <a:pt x="166" y="120"/>
                  </a:cubicBezTo>
                  <a:cubicBezTo>
                    <a:pt x="161" y="117"/>
                    <a:pt x="155" y="115"/>
                    <a:pt x="150" y="114"/>
                  </a:cubicBezTo>
                  <a:cubicBezTo>
                    <a:pt x="145" y="113"/>
                    <a:pt x="139" y="113"/>
                    <a:pt x="134" y="113"/>
                  </a:cubicBezTo>
                  <a:cubicBezTo>
                    <a:pt x="128" y="114"/>
                    <a:pt x="123" y="115"/>
                    <a:pt x="117" y="118"/>
                  </a:cubicBezTo>
                  <a:cubicBezTo>
                    <a:pt x="124" y="117"/>
                    <a:pt x="132" y="117"/>
                    <a:pt x="140" y="118"/>
                  </a:cubicBezTo>
                  <a:cubicBezTo>
                    <a:pt x="147" y="118"/>
                    <a:pt x="155" y="122"/>
                    <a:pt x="162" y="127"/>
                  </a:cubicBezTo>
                  <a:cubicBezTo>
                    <a:pt x="169" y="133"/>
                    <a:pt x="175" y="139"/>
                    <a:pt x="180" y="145"/>
                  </a:cubicBezTo>
                  <a:cubicBezTo>
                    <a:pt x="185" y="152"/>
                    <a:pt x="189" y="158"/>
                    <a:pt x="192" y="164"/>
                  </a:cubicBezTo>
                  <a:cubicBezTo>
                    <a:pt x="195" y="170"/>
                    <a:pt x="197" y="176"/>
                    <a:pt x="197" y="181"/>
                  </a:cubicBezTo>
                  <a:cubicBezTo>
                    <a:pt x="198" y="187"/>
                    <a:pt x="197" y="191"/>
                    <a:pt x="194" y="194"/>
                  </a:cubicBezTo>
                  <a:cubicBezTo>
                    <a:pt x="191" y="197"/>
                    <a:pt x="188" y="200"/>
                    <a:pt x="184" y="201"/>
                  </a:cubicBezTo>
                  <a:cubicBezTo>
                    <a:pt x="180" y="202"/>
                    <a:pt x="175" y="202"/>
                    <a:pt x="171" y="201"/>
                  </a:cubicBezTo>
                  <a:cubicBezTo>
                    <a:pt x="166" y="200"/>
                    <a:pt x="162" y="199"/>
                    <a:pt x="158" y="197"/>
                  </a:cubicBezTo>
                  <a:cubicBezTo>
                    <a:pt x="153" y="195"/>
                    <a:pt x="150" y="193"/>
                    <a:pt x="147" y="190"/>
                  </a:cubicBezTo>
                  <a:cubicBezTo>
                    <a:pt x="139" y="184"/>
                    <a:pt x="132" y="177"/>
                    <a:pt x="127" y="168"/>
                  </a:cubicBezTo>
                  <a:cubicBezTo>
                    <a:pt x="122" y="159"/>
                    <a:pt x="117" y="150"/>
                    <a:pt x="112" y="140"/>
                  </a:cubicBezTo>
                  <a:cubicBezTo>
                    <a:pt x="108" y="130"/>
                    <a:pt x="103" y="120"/>
                    <a:pt x="99" y="109"/>
                  </a:cubicBezTo>
                  <a:cubicBezTo>
                    <a:pt x="95" y="98"/>
                    <a:pt x="90" y="87"/>
                    <a:pt x="85" y="77"/>
                  </a:cubicBezTo>
                  <a:cubicBezTo>
                    <a:pt x="80" y="66"/>
                    <a:pt x="74" y="56"/>
                    <a:pt x="67" y="46"/>
                  </a:cubicBezTo>
                  <a:cubicBezTo>
                    <a:pt x="60" y="36"/>
                    <a:pt x="52" y="27"/>
                    <a:pt x="42" y="19"/>
                  </a:cubicBezTo>
                  <a:cubicBezTo>
                    <a:pt x="36" y="14"/>
                    <a:pt x="29" y="10"/>
                    <a:pt x="22" y="6"/>
                  </a:cubicBezTo>
                  <a:cubicBezTo>
                    <a:pt x="15" y="2"/>
                    <a:pt x="8" y="0"/>
                    <a:pt x="0" y="0"/>
                  </a:cubicBezTo>
                  <a:cubicBezTo>
                    <a:pt x="4" y="1"/>
                    <a:pt x="7" y="3"/>
                    <a:pt x="11" y="4"/>
                  </a:cubicBezTo>
                  <a:cubicBezTo>
                    <a:pt x="15" y="6"/>
                    <a:pt x="19" y="8"/>
                    <a:pt x="22" y="11"/>
                  </a:cubicBezTo>
                  <a:cubicBezTo>
                    <a:pt x="31" y="18"/>
                    <a:pt x="38" y="26"/>
                    <a:pt x="44" y="35"/>
                  </a:cubicBezTo>
                  <a:cubicBezTo>
                    <a:pt x="50" y="44"/>
                    <a:pt x="56" y="54"/>
                    <a:pt x="61" y="65"/>
                  </a:cubicBezTo>
                  <a:cubicBezTo>
                    <a:pt x="66" y="75"/>
                    <a:pt x="71" y="87"/>
                    <a:pt x="76" y="98"/>
                  </a:cubicBezTo>
                  <a:cubicBezTo>
                    <a:pt x="80" y="109"/>
                    <a:pt x="86" y="121"/>
                    <a:pt x="91" y="132"/>
                  </a:cubicBezTo>
                  <a:cubicBezTo>
                    <a:pt x="97" y="143"/>
                    <a:pt x="103" y="153"/>
                    <a:pt x="110" y="163"/>
                  </a:cubicBezTo>
                  <a:cubicBezTo>
                    <a:pt x="117" y="173"/>
                    <a:pt x="125" y="182"/>
                    <a:pt x="134" y="189"/>
                  </a:cubicBezTo>
                  <a:cubicBezTo>
                    <a:pt x="139" y="193"/>
                    <a:pt x="144" y="196"/>
                    <a:pt x="150" y="199"/>
                  </a:cubicBezTo>
                  <a:cubicBezTo>
                    <a:pt x="155" y="201"/>
                    <a:pt x="161" y="203"/>
                    <a:pt x="167" y="204"/>
                  </a:cubicBezTo>
                  <a:cubicBezTo>
                    <a:pt x="174" y="205"/>
                    <a:pt x="179" y="205"/>
                    <a:pt x="185" y="204"/>
                  </a:cubicBezTo>
                  <a:cubicBezTo>
                    <a:pt x="191" y="202"/>
                    <a:pt x="196" y="199"/>
                    <a:pt x="200" y="194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0"/>
            <p:cNvSpPr/>
            <p:nvPr/>
          </p:nvSpPr>
          <p:spPr>
            <a:xfrm>
              <a:off x="6008400" y="2014920"/>
              <a:ext cx="1158480" cy="648720"/>
            </a:xfrm>
            <a:custGeom>
              <a:avLst/>
              <a:gdLst>
                <a:gd name="textAreaLeft" fmla="*/ 0 w 1158480"/>
                <a:gd name="textAreaRight" fmla="*/ 1158840 w 115848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625" h="348">
                  <a:moveTo>
                    <a:pt x="468" y="283"/>
                  </a:moveTo>
                  <a:cubicBezTo>
                    <a:pt x="467" y="300"/>
                    <a:pt x="476" y="317"/>
                    <a:pt x="498" y="328"/>
                  </a:cubicBezTo>
                  <a:cubicBezTo>
                    <a:pt x="537" y="348"/>
                    <a:pt x="591" y="321"/>
                    <a:pt x="602" y="282"/>
                  </a:cubicBezTo>
                  <a:cubicBezTo>
                    <a:pt x="625" y="200"/>
                    <a:pt x="577" y="146"/>
                    <a:pt x="508" y="124"/>
                  </a:cubicBezTo>
                  <a:cubicBezTo>
                    <a:pt x="445" y="104"/>
                    <a:pt x="371" y="145"/>
                    <a:pt x="327" y="197"/>
                  </a:cubicBezTo>
                  <a:cubicBezTo>
                    <a:pt x="281" y="252"/>
                    <a:pt x="246" y="286"/>
                    <a:pt x="209" y="300"/>
                  </a:cubicBezTo>
                  <a:cubicBezTo>
                    <a:pt x="153" y="321"/>
                    <a:pt x="81" y="291"/>
                    <a:pt x="40" y="234"/>
                  </a:cubicBezTo>
                  <a:cubicBezTo>
                    <a:pt x="9" y="191"/>
                    <a:pt x="20" y="147"/>
                    <a:pt x="52" y="113"/>
                  </a:cubicBezTo>
                  <a:cubicBezTo>
                    <a:pt x="72" y="183"/>
                    <a:pt x="122" y="245"/>
                    <a:pt x="193" y="221"/>
                  </a:cubicBezTo>
                  <a:cubicBezTo>
                    <a:pt x="282" y="189"/>
                    <a:pt x="232" y="86"/>
                    <a:pt x="153" y="68"/>
                  </a:cubicBezTo>
                  <a:cubicBezTo>
                    <a:pt x="148" y="37"/>
                    <a:pt x="119" y="0"/>
                    <a:pt x="86" y="8"/>
                  </a:cubicBezTo>
                  <a:cubicBezTo>
                    <a:pt x="50" y="16"/>
                    <a:pt x="36" y="57"/>
                    <a:pt x="49" y="100"/>
                  </a:cubicBezTo>
                  <a:cubicBezTo>
                    <a:pt x="44" y="105"/>
                    <a:pt x="40" y="110"/>
                    <a:pt x="35" y="117"/>
                  </a:cubicBezTo>
                  <a:cubicBezTo>
                    <a:pt x="7" y="156"/>
                    <a:pt x="0" y="197"/>
                    <a:pt x="34" y="243"/>
                  </a:cubicBezTo>
                  <a:cubicBezTo>
                    <a:pt x="75" y="299"/>
                    <a:pt x="145" y="331"/>
                    <a:pt x="211" y="308"/>
                  </a:cubicBezTo>
                  <a:cubicBezTo>
                    <a:pt x="245" y="296"/>
                    <a:pt x="282" y="268"/>
                    <a:pt x="316" y="225"/>
                  </a:cubicBezTo>
                  <a:cubicBezTo>
                    <a:pt x="354" y="179"/>
                    <a:pt x="433" y="130"/>
                    <a:pt x="467" y="130"/>
                  </a:cubicBezTo>
                  <a:cubicBezTo>
                    <a:pt x="523" y="129"/>
                    <a:pt x="581" y="167"/>
                    <a:pt x="587" y="232"/>
                  </a:cubicBezTo>
                  <a:cubicBezTo>
                    <a:pt x="590" y="257"/>
                    <a:pt x="585" y="288"/>
                    <a:pt x="572" y="302"/>
                  </a:cubicBezTo>
                  <a:cubicBezTo>
                    <a:pt x="533" y="344"/>
                    <a:pt x="487" y="327"/>
                    <a:pt x="475" y="297"/>
                  </a:cubicBezTo>
                  <a:cubicBezTo>
                    <a:pt x="468" y="278"/>
                    <a:pt x="474" y="254"/>
                    <a:pt x="498" y="237"/>
                  </a:cubicBezTo>
                  <a:cubicBezTo>
                    <a:pt x="500" y="236"/>
                    <a:pt x="502" y="235"/>
                    <a:pt x="505" y="234"/>
                  </a:cubicBezTo>
                  <a:cubicBezTo>
                    <a:pt x="518" y="228"/>
                    <a:pt x="536" y="230"/>
                    <a:pt x="543" y="240"/>
                  </a:cubicBezTo>
                  <a:cubicBezTo>
                    <a:pt x="549" y="249"/>
                    <a:pt x="550" y="262"/>
                    <a:pt x="540" y="268"/>
                  </a:cubicBezTo>
                  <a:cubicBezTo>
                    <a:pt x="527" y="274"/>
                    <a:pt x="525" y="257"/>
                    <a:pt x="537" y="251"/>
                  </a:cubicBezTo>
                  <a:cubicBezTo>
                    <a:pt x="533" y="248"/>
                    <a:pt x="522" y="246"/>
                    <a:pt x="516" y="251"/>
                  </a:cubicBezTo>
                  <a:cubicBezTo>
                    <a:pt x="511" y="255"/>
                    <a:pt x="508" y="264"/>
                    <a:pt x="516" y="273"/>
                  </a:cubicBezTo>
                  <a:cubicBezTo>
                    <a:pt x="530" y="289"/>
                    <a:pt x="551" y="271"/>
                    <a:pt x="552" y="257"/>
                  </a:cubicBezTo>
                  <a:cubicBezTo>
                    <a:pt x="553" y="227"/>
                    <a:pt x="519" y="219"/>
                    <a:pt x="500" y="231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481" y="239"/>
                    <a:pt x="468" y="262"/>
                    <a:pt x="468" y="283"/>
                  </a:cubicBezTo>
                  <a:close/>
                  <a:moveTo>
                    <a:pt x="147" y="67"/>
                  </a:moveTo>
                  <a:cubicBezTo>
                    <a:pt x="118" y="62"/>
                    <a:pt x="86" y="69"/>
                    <a:pt x="55" y="95"/>
                  </a:cubicBezTo>
                  <a:cubicBezTo>
                    <a:pt x="43" y="59"/>
                    <a:pt x="56" y="19"/>
                    <a:pt x="87" y="14"/>
                  </a:cubicBezTo>
                  <a:cubicBezTo>
                    <a:pt x="120" y="8"/>
                    <a:pt x="141" y="39"/>
                    <a:pt x="147" y="67"/>
                  </a:cubicBezTo>
                  <a:close/>
                  <a:moveTo>
                    <a:pt x="149" y="79"/>
                  </a:moveTo>
                  <a:cubicBezTo>
                    <a:pt x="151" y="94"/>
                    <a:pt x="151" y="110"/>
                    <a:pt x="140" y="118"/>
                  </a:cubicBezTo>
                  <a:cubicBezTo>
                    <a:pt x="134" y="123"/>
                    <a:pt x="124" y="126"/>
                    <a:pt x="107" y="118"/>
                  </a:cubicBezTo>
                  <a:cubicBezTo>
                    <a:pt x="115" y="126"/>
                    <a:pt x="130" y="126"/>
                    <a:pt x="137" y="124"/>
                  </a:cubicBezTo>
                  <a:cubicBezTo>
                    <a:pt x="152" y="118"/>
                    <a:pt x="156" y="99"/>
                    <a:pt x="154" y="81"/>
                  </a:cubicBezTo>
                  <a:cubicBezTo>
                    <a:pt x="221" y="100"/>
                    <a:pt x="263" y="189"/>
                    <a:pt x="192" y="215"/>
                  </a:cubicBezTo>
                  <a:cubicBezTo>
                    <a:pt x="123" y="240"/>
                    <a:pt x="77" y="176"/>
                    <a:pt x="58" y="108"/>
                  </a:cubicBezTo>
                  <a:cubicBezTo>
                    <a:pt x="88" y="79"/>
                    <a:pt x="120" y="73"/>
                    <a:pt x="149" y="79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"/>
            <p:cNvSpPr/>
            <p:nvPr/>
          </p:nvSpPr>
          <p:spPr>
            <a:xfrm>
              <a:off x="6429240" y="1977840"/>
              <a:ext cx="279360" cy="5011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51" h="269">
                  <a:moveTo>
                    <a:pt x="60" y="269"/>
                  </a:moveTo>
                  <a:cubicBezTo>
                    <a:pt x="68" y="265"/>
                    <a:pt x="72" y="248"/>
                    <a:pt x="80" y="243"/>
                  </a:cubicBezTo>
                  <a:cubicBezTo>
                    <a:pt x="123" y="214"/>
                    <a:pt x="151" y="162"/>
                    <a:pt x="147" y="121"/>
                  </a:cubicBezTo>
                  <a:cubicBezTo>
                    <a:pt x="143" y="77"/>
                    <a:pt x="129" y="48"/>
                    <a:pt x="102" y="24"/>
                  </a:cubicBezTo>
                  <a:cubicBezTo>
                    <a:pt x="75" y="0"/>
                    <a:pt x="38" y="0"/>
                    <a:pt x="23" y="7"/>
                  </a:cubicBezTo>
                  <a:cubicBezTo>
                    <a:pt x="12" y="12"/>
                    <a:pt x="0" y="24"/>
                    <a:pt x="9" y="35"/>
                  </a:cubicBezTo>
                  <a:cubicBezTo>
                    <a:pt x="19" y="47"/>
                    <a:pt x="31" y="37"/>
                    <a:pt x="36" y="32"/>
                  </a:cubicBezTo>
                  <a:cubicBezTo>
                    <a:pt x="41" y="26"/>
                    <a:pt x="53" y="18"/>
                    <a:pt x="73" y="21"/>
                  </a:cubicBezTo>
                  <a:cubicBezTo>
                    <a:pt x="91" y="24"/>
                    <a:pt x="127" y="55"/>
                    <a:pt x="136" y="91"/>
                  </a:cubicBezTo>
                  <a:cubicBezTo>
                    <a:pt x="136" y="91"/>
                    <a:pt x="136" y="92"/>
                    <a:pt x="136" y="93"/>
                  </a:cubicBezTo>
                  <a:cubicBezTo>
                    <a:pt x="134" y="87"/>
                    <a:pt x="129" y="71"/>
                    <a:pt x="120" y="62"/>
                  </a:cubicBezTo>
                  <a:cubicBezTo>
                    <a:pt x="109" y="51"/>
                    <a:pt x="90" y="39"/>
                    <a:pt x="69" y="53"/>
                  </a:cubicBezTo>
                  <a:cubicBezTo>
                    <a:pt x="49" y="66"/>
                    <a:pt x="56" y="83"/>
                    <a:pt x="58" y="85"/>
                  </a:cubicBezTo>
                  <a:cubicBezTo>
                    <a:pt x="60" y="88"/>
                    <a:pt x="70" y="93"/>
                    <a:pt x="75" y="78"/>
                  </a:cubicBezTo>
                  <a:cubicBezTo>
                    <a:pt x="80" y="63"/>
                    <a:pt x="87" y="57"/>
                    <a:pt x="97" y="57"/>
                  </a:cubicBezTo>
                  <a:cubicBezTo>
                    <a:pt x="107" y="56"/>
                    <a:pt x="117" y="62"/>
                    <a:pt x="123" y="69"/>
                  </a:cubicBezTo>
                  <a:cubicBezTo>
                    <a:pt x="128" y="75"/>
                    <a:pt x="135" y="91"/>
                    <a:pt x="136" y="94"/>
                  </a:cubicBezTo>
                  <a:cubicBezTo>
                    <a:pt x="143" y="122"/>
                    <a:pt x="143" y="143"/>
                    <a:pt x="135" y="165"/>
                  </a:cubicBezTo>
                  <a:cubicBezTo>
                    <a:pt x="137" y="161"/>
                    <a:pt x="138" y="155"/>
                    <a:pt x="139" y="148"/>
                  </a:cubicBezTo>
                  <a:cubicBezTo>
                    <a:pt x="142" y="127"/>
                    <a:pt x="135" y="104"/>
                    <a:pt x="119" y="97"/>
                  </a:cubicBezTo>
                  <a:cubicBezTo>
                    <a:pt x="101" y="89"/>
                    <a:pt x="95" y="98"/>
                    <a:pt x="93" y="107"/>
                  </a:cubicBezTo>
                  <a:cubicBezTo>
                    <a:pt x="92" y="115"/>
                    <a:pt x="100" y="119"/>
                    <a:pt x="104" y="116"/>
                  </a:cubicBezTo>
                  <a:cubicBezTo>
                    <a:pt x="107" y="114"/>
                    <a:pt x="108" y="109"/>
                    <a:pt x="108" y="109"/>
                  </a:cubicBezTo>
                  <a:cubicBezTo>
                    <a:pt x="108" y="109"/>
                    <a:pt x="110" y="100"/>
                    <a:pt x="120" y="105"/>
                  </a:cubicBezTo>
                  <a:cubicBezTo>
                    <a:pt x="131" y="109"/>
                    <a:pt x="136" y="123"/>
                    <a:pt x="137" y="139"/>
                  </a:cubicBezTo>
                  <a:cubicBezTo>
                    <a:pt x="138" y="151"/>
                    <a:pt x="135" y="165"/>
                    <a:pt x="131" y="176"/>
                  </a:cubicBezTo>
                  <a:cubicBezTo>
                    <a:pt x="125" y="188"/>
                    <a:pt x="117" y="202"/>
                    <a:pt x="105" y="217"/>
                  </a:cubicBezTo>
                  <a:lnTo>
                    <a:pt x="60" y="26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2"/>
            <p:cNvSpPr/>
            <p:nvPr/>
          </p:nvSpPr>
          <p:spPr>
            <a:xfrm>
              <a:off x="6471360" y="2166120"/>
              <a:ext cx="224640" cy="2815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21" h="151">
                  <a:moveTo>
                    <a:pt x="55" y="145"/>
                  </a:moveTo>
                  <a:cubicBezTo>
                    <a:pt x="59" y="136"/>
                    <a:pt x="62" y="126"/>
                    <a:pt x="68" y="118"/>
                  </a:cubicBezTo>
                  <a:cubicBezTo>
                    <a:pt x="83" y="101"/>
                    <a:pt x="94" y="86"/>
                    <a:pt x="88" y="57"/>
                  </a:cubicBezTo>
                  <a:cubicBezTo>
                    <a:pt x="81" y="30"/>
                    <a:pt x="43" y="0"/>
                    <a:pt x="13" y="28"/>
                  </a:cubicBezTo>
                  <a:cubicBezTo>
                    <a:pt x="0" y="42"/>
                    <a:pt x="16" y="46"/>
                    <a:pt x="22" y="58"/>
                  </a:cubicBezTo>
                  <a:cubicBezTo>
                    <a:pt x="29" y="72"/>
                    <a:pt x="17" y="84"/>
                    <a:pt x="11" y="91"/>
                  </a:cubicBezTo>
                  <a:cubicBezTo>
                    <a:pt x="23" y="75"/>
                    <a:pt x="5" y="63"/>
                    <a:pt x="3" y="50"/>
                  </a:cubicBezTo>
                  <a:cubicBezTo>
                    <a:pt x="1" y="39"/>
                    <a:pt x="8" y="28"/>
                    <a:pt x="15" y="22"/>
                  </a:cubicBezTo>
                  <a:cubicBezTo>
                    <a:pt x="36" y="2"/>
                    <a:pt x="72" y="18"/>
                    <a:pt x="84" y="41"/>
                  </a:cubicBezTo>
                  <a:cubicBezTo>
                    <a:pt x="121" y="106"/>
                    <a:pt x="53" y="151"/>
                    <a:pt x="55" y="14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3"/>
            <p:cNvSpPr/>
            <p:nvPr/>
          </p:nvSpPr>
          <p:spPr>
            <a:xfrm>
              <a:off x="6679080" y="2087640"/>
              <a:ext cx="261360" cy="165240"/>
            </a:xfrm>
            <a:custGeom>
              <a:avLst/>
              <a:gdLst>
                <a:gd name="textAreaLeft" fmla="*/ 0 w 261360"/>
                <a:gd name="textAreaRight" fmla="*/ 261360 w 261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41" h="89">
                  <a:moveTo>
                    <a:pt x="19" y="35"/>
                  </a:moveTo>
                  <a:cubicBezTo>
                    <a:pt x="0" y="60"/>
                    <a:pt x="8" y="89"/>
                    <a:pt x="8" y="89"/>
                  </a:cubicBezTo>
                  <a:cubicBezTo>
                    <a:pt x="10" y="88"/>
                    <a:pt x="11" y="82"/>
                    <a:pt x="11" y="82"/>
                  </a:cubicBezTo>
                  <a:cubicBezTo>
                    <a:pt x="11" y="82"/>
                    <a:pt x="7" y="58"/>
                    <a:pt x="21" y="42"/>
                  </a:cubicBezTo>
                  <a:cubicBezTo>
                    <a:pt x="44" y="14"/>
                    <a:pt x="75" y="10"/>
                    <a:pt x="95" y="19"/>
                  </a:cubicBezTo>
                  <a:cubicBezTo>
                    <a:pt x="115" y="29"/>
                    <a:pt x="116" y="40"/>
                    <a:pt x="116" y="40"/>
                  </a:cubicBezTo>
                  <a:cubicBezTo>
                    <a:pt x="123" y="26"/>
                    <a:pt x="114" y="20"/>
                    <a:pt x="114" y="20"/>
                  </a:cubicBezTo>
                  <a:cubicBezTo>
                    <a:pt x="114" y="20"/>
                    <a:pt x="134" y="32"/>
                    <a:pt x="136" y="49"/>
                  </a:cubicBezTo>
                  <a:cubicBezTo>
                    <a:pt x="138" y="49"/>
                    <a:pt x="140" y="48"/>
                    <a:pt x="141" y="47"/>
                  </a:cubicBezTo>
                  <a:cubicBezTo>
                    <a:pt x="140" y="35"/>
                    <a:pt x="132" y="22"/>
                    <a:pt x="116" y="14"/>
                  </a:cubicBezTo>
                  <a:cubicBezTo>
                    <a:pt x="88" y="0"/>
                    <a:pt x="43" y="5"/>
                    <a:pt x="19" y="35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4"/>
            <p:cNvSpPr/>
            <p:nvPr/>
          </p:nvSpPr>
          <p:spPr>
            <a:xfrm>
              <a:off x="6946200" y="2271960"/>
              <a:ext cx="487080" cy="39348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63" h="211">
                  <a:moveTo>
                    <a:pt x="0" y="210"/>
                  </a:moveTo>
                  <a:cubicBezTo>
                    <a:pt x="107" y="209"/>
                    <a:pt x="263" y="39"/>
                    <a:pt x="104" y="0"/>
                  </a:cubicBezTo>
                  <a:cubicBezTo>
                    <a:pt x="209" y="9"/>
                    <a:pt x="204" y="136"/>
                    <a:pt x="73" y="211"/>
                  </a:cubicBezTo>
                  <a:lnTo>
                    <a:pt x="0" y="210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5"/>
            <p:cNvSpPr/>
            <p:nvPr/>
          </p:nvSpPr>
          <p:spPr>
            <a:xfrm>
              <a:off x="7121160" y="2031840"/>
              <a:ext cx="438480" cy="61884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618840"/>
                <a:gd name="textAreaBottom" fmla="*/ 618840 h 618840"/>
              </a:gdLst>
              <a:ahLst/>
              <a:rect l="textAreaLeft" t="textAreaTop" r="textAreaRight" b="textAreaBottom"/>
              <a:pathLst>
                <a:path w="237" h="332">
                  <a:moveTo>
                    <a:pt x="0" y="330"/>
                  </a:moveTo>
                  <a:cubicBezTo>
                    <a:pt x="7" y="330"/>
                    <a:pt x="20" y="332"/>
                    <a:pt x="24" y="330"/>
                  </a:cubicBezTo>
                  <a:cubicBezTo>
                    <a:pt x="237" y="216"/>
                    <a:pt x="169" y="0"/>
                    <a:pt x="59" y="120"/>
                  </a:cubicBezTo>
                  <a:cubicBezTo>
                    <a:pt x="198" y="6"/>
                    <a:pt x="195" y="245"/>
                    <a:pt x="0" y="33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6"/>
            <p:cNvSpPr/>
            <p:nvPr/>
          </p:nvSpPr>
          <p:spPr>
            <a:xfrm>
              <a:off x="7222680" y="2412360"/>
              <a:ext cx="194040" cy="2397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05" h="129">
                  <a:moveTo>
                    <a:pt x="0" y="129"/>
                  </a:moveTo>
                  <a:cubicBezTo>
                    <a:pt x="66" y="86"/>
                    <a:pt x="98" y="25"/>
                    <a:pt x="105" y="0"/>
                  </a:cubicBezTo>
                  <a:cubicBezTo>
                    <a:pt x="99" y="34"/>
                    <a:pt x="63" y="95"/>
                    <a:pt x="10" y="129"/>
                  </a:cubicBezTo>
                  <a:lnTo>
                    <a:pt x="0" y="12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7"/>
            <p:cNvSpPr/>
            <p:nvPr/>
          </p:nvSpPr>
          <p:spPr>
            <a:xfrm>
              <a:off x="6557040" y="2354400"/>
              <a:ext cx="397080" cy="4618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14" h="248">
                  <a:moveTo>
                    <a:pt x="56" y="222"/>
                  </a:moveTo>
                  <a:cubicBezTo>
                    <a:pt x="53" y="226"/>
                    <a:pt x="49" y="229"/>
                    <a:pt x="44" y="232"/>
                  </a:cubicBezTo>
                  <a:cubicBezTo>
                    <a:pt x="40" y="235"/>
                    <a:pt x="35" y="238"/>
                    <a:pt x="30" y="241"/>
                  </a:cubicBezTo>
                  <a:cubicBezTo>
                    <a:pt x="26" y="243"/>
                    <a:pt x="21" y="245"/>
                    <a:pt x="16" y="246"/>
                  </a:cubicBezTo>
                  <a:cubicBezTo>
                    <a:pt x="11" y="248"/>
                    <a:pt x="6" y="248"/>
                    <a:pt x="0" y="248"/>
                  </a:cubicBezTo>
                  <a:cubicBezTo>
                    <a:pt x="11" y="246"/>
                    <a:pt x="19" y="242"/>
                    <a:pt x="27" y="238"/>
                  </a:cubicBezTo>
                  <a:cubicBezTo>
                    <a:pt x="35" y="233"/>
                    <a:pt x="42" y="228"/>
                    <a:pt x="49" y="223"/>
                  </a:cubicBezTo>
                  <a:cubicBezTo>
                    <a:pt x="58" y="214"/>
                    <a:pt x="66" y="205"/>
                    <a:pt x="73" y="194"/>
                  </a:cubicBezTo>
                  <a:cubicBezTo>
                    <a:pt x="79" y="183"/>
                    <a:pt x="85" y="172"/>
                    <a:pt x="90" y="160"/>
                  </a:cubicBezTo>
                  <a:cubicBezTo>
                    <a:pt x="96" y="148"/>
                    <a:pt x="100" y="135"/>
                    <a:pt x="105" y="123"/>
                  </a:cubicBezTo>
                  <a:cubicBezTo>
                    <a:pt x="110" y="110"/>
                    <a:pt x="114" y="98"/>
                    <a:pt x="119" y="86"/>
                  </a:cubicBezTo>
                  <a:cubicBezTo>
                    <a:pt x="125" y="74"/>
                    <a:pt x="130" y="63"/>
                    <a:pt x="136" y="53"/>
                  </a:cubicBezTo>
                  <a:cubicBezTo>
                    <a:pt x="143" y="42"/>
                    <a:pt x="150" y="33"/>
                    <a:pt x="159" y="25"/>
                  </a:cubicBezTo>
                  <a:cubicBezTo>
                    <a:pt x="170" y="16"/>
                    <a:pt x="180" y="9"/>
                    <a:pt x="190" y="5"/>
                  </a:cubicBezTo>
                  <a:cubicBezTo>
                    <a:pt x="200" y="1"/>
                    <a:pt x="208" y="0"/>
                    <a:pt x="214" y="1"/>
                  </a:cubicBezTo>
                  <a:cubicBezTo>
                    <a:pt x="208" y="1"/>
                    <a:pt x="201" y="3"/>
                    <a:pt x="193" y="6"/>
                  </a:cubicBezTo>
                  <a:cubicBezTo>
                    <a:pt x="186" y="8"/>
                    <a:pt x="179" y="12"/>
                    <a:pt x="173" y="18"/>
                  </a:cubicBezTo>
                  <a:cubicBezTo>
                    <a:pt x="168" y="22"/>
                    <a:pt x="163" y="29"/>
                    <a:pt x="159" y="38"/>
                  </a:cubicBezTo>
                  <a:cubicBezTo>
                    <a:pt x="155" y="46"/>
                    <a:pt x="150" y="56"/>
                    <a:pt x="146" y="68"/>
                  </a:cubicBezTo>
                  <a:cubicBezTo>
                    <a:pt x="141" y="79"/>
                    <a:pt x="137" y="92"/>
                    <a:pt x="131" y="105"/>
                  </a:cubicBezTo>
                  <a:cubicBezTo>
                    <a:pt x="126" y="118"/>
                    <a:pt x="120" y="132"/>
                    <a:pt x="113" y="146"/>
                  </a:cubicBezTo>
                  <a:cubicBezTo>
                    <a:pt x="106" y="159"/>
                    <a:pt x="98" y="173"/>
                    <a:pt x="89" y="186"/>
                  </a:cubicBezTo>
                  <a:cubicBezTo>
                    <a:pt x="80" y="199"/>
                    <a:pt x="69" y="211"/>
                    <a:pt x="56" y="222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8"/>
            <p:cNvSpPr/>
            <p:nvPr/>
          </p:nvSpPr>
          <p:spPr>
            <a:xfrm>
              <a:off x="6481080" y="2358360"/>
              <a:ext cx="379800" cy="381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205" h="205">
                  <a:moveTo>
                    <a:pt x="6" y="194"/>
                  </a:moveTo>
                  <a:cubicBezTo>
                    <a:pt x="10" y="199"/>
                    <a:pt x="15" y="202"/>
                    <a:pt x="20" y="204"/>
                  </a:cubicBezTo>
                  <a:cubicBezTo>
                    <a:pt x="26" y="205"/>
                    <a:pt x="32" y="205"/>
                    <a:pt x="38" y="204"/>
                  </a:cubicBezTo>
                  <a:cubicBezTo>
                    <a:pt x="44" y="203"/>
                    <a:pt x="50" y="201"/>
                    <a:pt x="56" y="199"/>
                  </a:cubicBezTo>
                  <a:cubicBezTo>
                    <a:pt x="62" y="196"/>
                    <a:pt x="67" y="193"/>
                    <a:pt x="71" y="189"/>
                  </a:cubicBezTo>
                  <a:cubicBezTo>
                    <a:pt x="80" y="182"/>
                    <a:pt x="89" y="173"/>
                    <a:pt x="96" y="163"/>
                  </a:cubicBezTo>
                  <a:cubicBezTo>
                    <a:pt x="102" y="153"/>
                    <a:pt x="109" y="143"/>
                    <a:pt x="114" y="132"/>
                  </a:cubicBezTo>
                  <a:cubicBezTo>
                    <a:pt x="120" y="121"/>
                    <a:pt x="125" y="109"/>
                    <a:pt x="130" y="98"/>
                  </a:cubicBezTo>
                  <a:cubicBezTo>
                    <a:pt x="135" y="87"/>
                    <a:pt x="140" y="75"/>
                    <a:pt x="145" y="65"/>
                  </a:cubicBezTo>
                  <a:cubicBezTo>
                    <a:pt x="150" y="54"/>
                    <a:pt x="156" y="44"/>
                    <a:pt x="162" y="35"/>
                  </a:cubicBezTo>
                  <a:cubicBezTo>
                    <a:pt x="168" y="26"/>
                    <a:pt x="175" y="18"/>
                    <a:pt x="183" y="11"/>
                  </a:cubicBezTo>
                  <a:cubicBezTo>
                    <a:pt x="186" y="8"/>
                    <a:pt x="190" y="6"/>
                    <a:pt x="194" y="4"/>
                  </a:cubicBezTo>
                  <a:cubicBezTo>
                    <a:pt x="198" y="3"/>
                    <a:pt x="202" y="1"/>
                    <a:pt x="205" y="0"/>
                  </a:cubicBezTo>
                  <a:cubicBezTo>
                    <a:pt x="197" y="0"/>
                    <a:pt x="190" y="2"/>
                    <a:pt x="183" y="6"/>
                  </a:cubicBezTo>
                  <a:cubicBezTo>
                    <a:pt x="176" y="10"/>
                    <a:pt x="170" y="14"/>
                    <a:pt x="164" y="19"/>
                  </a:cubicBezTo>
                  <a:cubicBezTo>
                    <a:pt x="154" y="27"/>
                    <a:pt x="145" y="36"/>
                    <a:pt x="138" y="46"/>
                  </a:cubicBezTo>
                  <a:cubicBezTo>
                    <a:pt x="132" y="56"/>
                    <a:pt x="126" y="66"/>
                    <a:pt x="120" y="77"/>
                  </a:cubicBezTo>
                  <a:cubicBezTo>
                    <a:pt x="115" y="87"/>
                    <a:pt x="110" y="98"/>
                    <a:pt x="106" y="109"/>
                  </a:cubicBezTo>
                  <a:cubicBezTo>
                    <a:pt x="102" y="120"/>
                    <a:pt x="98" y="130"/>
                    <a:pt x="93" y="140"/>
                  </a:cubicBezTo>
                  <a:cubicBezTo>
                    <a:pt x="89" y="150"/>
                    <a:pt x="84" y="159"/>
                    <a:pt x="78" y="168"/>
                  </a:cubicBezTo>
                  <a:cubicBezTo>
                    <a:pt x="73" y="177"/>
                    <a:pt x="67" y="184"/>
                    <a:pt x="59" y="190"/>
                  </a:cubicBezTo>
                  <a:cubicBezTo>
                    <a:pt x="56" y="193"/>
                    <a:pt x="52" y="195"/>
                    <a:pt x="48" y="197"/>
                  </a:cubicBezTo>
                  <a:cubicBezTo>
                    <a:pt x="43" y="199"/>
                    <a:pt x="39" y="200"/>
                    <a:pt x="35" y="201"/>
                  </a:cubicBezTo>
                  <a:cubicBezTo>
                    <a:pt x="30" y="202"/>
                    <a:pt x="26" y="202"/>
                    <a:pt x="22" y="201"/>
                  </a:cubicBezTo>
                  <a:cubicBezTo>
                    <a:pt x="18" y="200"/>
                    <a:pt x="14" y="197"/>
                    <a:pt x="11" y="194"/>
                  </a:cubicBezTo>
                  <a:cubicBezTo>
                    <a:pt x="9" y="191"/>
                    <a:pt x="8" y="187"/>
                    <a:pt x="8" y="181"/>
                  </a:cubicBezTo>
                  <a:cubicBezTo>
                    <a:pt x="9" y="176"/>
                    <a:pt x="11" y="170"/>
                    <a:pt x="14" y="164"/>
                  </a:cubicBezTo>
                  <a:cubicBezTo>
                    <a:pt x="17" y="158"/>
                    <a:pt x="21" y="152"/>
                    <a:pt x="26" y="145"/>
                  </a:cubicBezTo>
                  <a:cubicBezTo>
                    <a:pt x="31" y="139"/>
                    <a:pt x="37" y="133"/>
                    <a:pt x="43" y="127"/>
                  </a:cubicBezTo>
                  <a:cubicBezTo>
                    <a:pt x="51" y="122"/>
                    <a:pt x="58" y="118"/>
                    <a:pt x="66" y="118"/>
                  </a:cubicBezTo>
                  <a:cubicBezTo>
                    <a:pt x="74" y="117"/>
                    <a:pt x="81" y="117"/>
                    <a:pt x="88" y="118"/>
                  </a:cubicBezTo>
                  <a:cubicBezTo>
                    <a:pt x="83" y="115"/>
                    <a:pt x="78" y="114"/>
                    <a:pt x="72" y="113"/>
                  </a:cubicBezTo>
                  <a:cubicBezTo>
                    <a:pt x="66" y="113"/>
                    <a:pt x="61" y="113"/>
                    <a:pt x="55" y="114"/>
                  </a:cubicBezTo>
                  <a:cubicBezTo>
                    <a:pt x="50" y="115"/>
                    <a:pt x="45" y="117"/>
                    <a:pt x="40" y="120"/>
                  </a:cubicBezTo>
                  <a:cubicBezTo>
                    <a:pt x="35" y="122"/>
                    <a:pt x="31" y="125"/>
                    <a:pt x="27" y="128"/>
                  </a:cubicBezTo>
                  <a:cubicBezTo>
                    <a:pt x="22" y="132"/>
                    <a:pt x="17" y="137"/>
                    <a:pt x="13" y="143"/>
                  </a:cubicBezTo>
                  <a:cubicBezTo>
                    <a:pt x="9" y="149"/>
                    <a:pt x="5" y="155"/>
                    <a:pt x="3" y="161"/>
                  </a:cubicBezTo>
                  <a:cubicBezTo>
                    <a:pt x="1" y="167"/>
                    <a:pt x="0" y="173"/>
                    <a:pt x="0" y="179"/>
                  </a:cubicBezTo>
                  <a:cubicBezTo>
                    <a:pt x="0" y="185"/>
                    <a:pt x="2" y="190"/>
                    <a:pt x="6" y="194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9"/>
            <p:cNvSpPr/>
            <p:nvPr/>
          </p:nvSpPr>
          <p:spPr>
            <a:xfrm>
              <a:off x="5988240" y="1927080"/>
              <a:ext cx="199440" cy="1792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8" h="96">
                  <a:moveTo>
                    <a:pt x="55" y="96"/>
                  </a:moveTo>
                  <a:cubicBezTo>
                    <a:pt x="55" y="90"/>
                    <a:pt x="56" y="84"/>
                    <a:pt x="56" y="77"/>
                  </a:cubicBezTo>
                  <a:cubicBezTo>
                    <a:pt x="56" y="77"/>
                    <a:pt x="59" y="32"/>
                    <a:pt x="108" y="0"/>
                  </a:cubicBezTo>
                  <a:cubicBezTo>
                    <a:pt x="94" y="0"/>
                    <a:pt x="80" y="5"/>
                    <a:pt x="69" y="13"/>
                  </a:cubicBezTo>
                  <a:cubicBezTo>
                    <a:pt x="65" y="8"/>
                    <a:pt x="58" y="2"/>
                    <a:pt x="54" y="2"/>
                  </a:cubicBezTo>
                  <a:cubicBezTo>
                    <a:pt x="50" y="2"/>
                    <a:pt x="43" y="8"/>
                    <a:pt x="39" y="13"/>
                  </a:cubicBezTo>
                  <a:cubicBezTo>
                    <a:pt x="28" y="5"/>
                    <a:pt x="14" y="0"/>
                    <a:pt x="0" y="0"/>
                  </a:cubicBezTo>
                  <a:cubicBezTo>
                    <a:pt x="49" y="32"/>
                    <a:pt x="52" y="77"/>
                    <a:pt x="52" y="77"/>
                  </a:cubicBezTo>
                  <a:cubicBezTo>
                    <a:pt x="52" y="84"/>
                    <a:pt x="53" y="90"/>
                    <a:pt x="53" y="96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Freeform 5"/>
          <p:cNvSpPr/>
          <p:nvPr/>
        </p:nvSpPr>
        <p:spPr>
          <a:xfrm rot="10800000">
            <a:off x="10389960" y="348840"/>
            <a:ext cx="1423800" cy="145728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19" h="119">
                <a:moveTo>
                  <a:pt x="64" y="52"/>
                </a:moveTo>
                <a:cubicBezTo>
                  <a:pt x="65" y="51"/>
                  <a:pt x="66" y="50"/>
                  <a:pt x="67" y="49"/>
                </a:cubicBezTo>
                <a:cubicBezTo>
                  <a:pt x="69" y="49"/>
                  <a:pt x="70" y="48"/>
                  <a:pt x="70" y="49"/>
                </a:cubicBezTo>
                <a:cubicBezTo>
                  <a:pt x="71" y="50"/>
                  <a:pt x="71" y="51"/>
                  <a:pt x="70" y="52"/>
                </a:cubicBezTo>
                <a:cubicBezTo>
                  <a:pt x="69" y="53"/>
                  <a:pt x="68" y="55"/>
                  <a:pt x="67" y="56"/>
                </a:cubicBezTo>
                <a:cubicBezTo>
                  <a:pt x="64" y="59"/>
                  <a:pt x="61" y="61"/>
                  <a:pt x="57" y="62"/>
                </a:cubicBezTo>
                <a:cubicBezTo>
                  <a:pt x="58" y="59"/>
                  <a:pt x="60" y="55"/>
                  <a:pt x="64" y="52"/>
                </a:cubicBezTo>
                <a:moveTo>
                  <a:pt x="69" y="57"/>
                </a:moveTo>
                <a:cubicBezTo>
                  <a:pt x="71" y="54"/>
                  <a:pt x="73" y="52"/>
                  <a:pt x="73" y="50"/>
                </a:cubicBezTo>
                <a:cubicBezTo>
                  <a:pt x="74" y="48"/>
                  <a:pt x="74" y="47"/>
                  <a:pt x="73" y="46"/>
                </a:cubicBezTo>
                <a:cubicBezTo>
                  <a:pt x="72" y="45"/>
                  <a:pt x="71" y="45"/>
                  <a:pt x="69" y="46"/>
                </a:cubicBezTo>
                <a:cubicBezTo>
                  <a:pt x="67" y="46"/>
                  <a:pt x="65" y="48"/>
                  <a:pt x="63" y="50"/>
                </a:cubicBezTo>
                <a:cubicBezTo>
                  <a:pt x="59" y="54"/>
                  <a:pt x="56" y="58"/>
                  <a:pt x="54" y="63"/>
                </a:cubicBezTo>
                <a:cubicBezTo>
                  <a:pt x="51" y="63"/>
                  <a:pt x="48" y="63"/>
                  <a:pt x="45" y="63"/>
                </a:cubicBezTo>
                <a:cubicBezTo>
                  <a:pt x="42" y="62"/>
                  <a:pt x="38" y="61"/>
                  <a:pt x="36" y="60"/>
                </a:cubicBezTo>
                <a:cubicBezTo>
                  <a:pt x="33" y="59"/>
                  <a:pt x="30" y="58"/>
                  <a:pt x="27" y="56"/>
                </a:cubicBezTo>
                <a:cubicBezTo>
                  <a:pt x="25" y="55"/>
                  <a:pt x="23" y="53"/>
                  <a:pt x="21" y="52"/>
                </a:cubicBezTo>
                <a:cubicBezTo>
                  <a:pt x="22" y="50"/>
                  <a:pt x="23" y="48"/>
                  <a:pt x="24" y="47"/>
                </a:cubicBezTo>
                <a:cubicBezTo>
                  <a:pt x="25" y="45"/>
                  <a:pt x="27" y="43"/>
                  <a:pt x="28" y="42"/>
                </a:cubicBezTo>
                <a:cubicBezTo>
                  <a:pt x="31" y="39"/>
                  <a:pt x="33" y="37"/>
                  <a:pt x="36" y="36"/>
                </a:cubicBezTo>
                <a:cubicBezTo>
                  <a:pt x="38" y="35"/>
                  <a:pt x="41" y="34"/>
                  <a:pt x="43" y="33"/>
                </a:cubicBezTo>
                <a:cubicBezTo>
                  <a:pt x="45" y="33"/>
                  <a:pt x="47" y="33"/>
                  <a:pt x="49" y="34"/>
                </a:cubicBezTo>
                <a:cubicBezTo>
                  <a:pt x="50" y="34"/>
                  <a:pt x="52" y="35"/>
                  <a:pt x="53" y="36"/>
                </a:cubicBezTo>
                <a:cubicBezTo>
                  <a:pt x="54" y="37"/>
                  <a:pt x="55" y="38"/>
                  <a:pt x="55" y="40"/>
                </a:cubicBezTo>
                <a:cubicBezTo>
                  <a:pt x="56" y="41"/>
                  <a:pt x="55" y="43"/>
                  <a:pt x="55" y="46"/>
                </a:cubicBezTo>
                <a:cubicBezTo>
                  <a:pt x="55" y="47"/>
                  <a:pt x="55" y="47"/>
                  <a:pt x="55" y="47"/>
                </a:cubicBezTo>
                <a:cubicBezTo>
                  <a:pt x="56" y="47"/>
                  <a:pt x="57" y="47"/>
                  <a:pt x="57" y="46"/>
                </a:cubicBezTo>
                <a:cubicBezTo>
                  <a:pt x="58" y="44"/>
                  <a:pt x="59" y="41"/>
                  <a:pt x="58" y="38"/>
                </a:cubicBezTo>
                <a:cubicBezTo>
                  <a:pt x="58" y="36"/>
                  <a:pt x="57" y="34"/>
                  <a:pt x="56" y="32"/>
                </a:cubicBezTo>
                <a:cubicBezTo>
                  <a:pt x="54" y="31"/>
                  <a:pt x="53" y="30"/>
                  <a:pt x="51" y="30"/>
                </a:cubicBezTo>
                <a:cubicBezTo>
                  <a:pt x="49" y="29"/>
                  <a:pt x="46" y="29"/>
                  <a:pt x="44" y="30"/>
                </a:cubicBezTo>
                <a:cubicBezTo>
                  <a:pt x="41" y="30"/>
                  <a:pt x="38" y="31"/>
                  <a:pt x="35" y="33"/>
                </a:cubicBezTo>
                <a:cubicBezTo>
                  <a:pt x="32" y="34"/>
                  <a:pt x="29" y="37"/>
                  <a:pt x="26" y="40"/>
                </a:cubicBezTo>
                <a:cubicBezTo>
                  <a:pt x="25" y="41"/>
                  <a:pt x="23" y="43"/>
                  <a:pt x="22" y="44"/>
                </a:cubicBezTo>
                <a:cubicBezTo>
                  <a:pt x="21" y="46"/>
                  <a:pt x="19" y="48"/>
                  <a:pt x="18" y="50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6"/>
                  <a:pt x="13" y="44"/>
                  <a:pt x="11" y="41"/>
                </a:cubicBezTo>
                <a:cubicBezTo>
                  <a:pt x="9" y="38"/>
                  <a:pt x="7" y="34"/>
                  <a:pt x="6" y="31"/>
                </a:cubicBezTo>
                <a:cubicBezTo>
                  <a:pt x="5" y="27"/>
                  <a:pt x="5" y="23"/>
                  <a:pt x="6" y="19"/>
                </a:cubicBezTo>
                <a:cubicBezTo>
                  <a:pt x="6" y="15"/>
                  <a:pt x="8" y="12"/>
                  <a:pt x="12" y="8"/>
                </a:cubicBezTo>
                <a:cubicBezTo>
                  <a:pt x="13" y="7"/>
                  <a:pt x="15" y="6"/>
                  <a:pt x="16" y="5"/>
                </a:cubicBezTo>
                <a:cubicBezTo>
                  <a:pt x="18" y="4"/>
                  <a:pt x="19" y="4"/>
                  <a:pt x="21" y="4"/>
                </a:cubicBezTo>
                <a:cubicBezTo>
                  <a:pt x="22" y="4"/>
                  <a:pt x="23" y="5"/>
                  <a:pt x="24" y="5"/>
                </a:cubicBezTo>
                <a:cubicBezTo>
                  <a:pt x="25" y="6"/>
                  <a:pt x="26" y="6"/>
                  <a:pt x="27" y="7"/>
                </a:cubicBezTo>
                <a:cubicBezTo>
                  <a:pt x="29" y="9"/>
                  <a:pt x="30" y="11"/>
                  <a:pt x="30" y="15"/>
                </a:cubicBezTo>
                <a:cubicBezTo>
                  <a:pt x="31" y="18"/>
                  <a:pt x="30" y="22"/>
                  <a:pt x="29" y="25"/>
                </a:cubicBezTo>
                <a:cubicBezTo>
                  <a:pt x="29" y="26"/>
                  <a:pt x="29" y="27"/>
                  <a:pt x="30" y="27"/>
                </a:cubicBezTo>
                <a:cubicBezTo>
                  <a:pt x="30" y="27"/>
                  <a:pt x="31" y="27"/>
                  <a:pt x="32" y="26"/>
                </a:cubicBezTo>
                <a:cubicBezTo>
                  <a:pt x="34" y="20"/>
                  <a:pt x="35" y="16"/>
                  <a:pt x="34" y="12"/>
                </a:cubicBezTo>
                <a:cubicBezTo>
                  <a:pt x="33" y="8"/>
                  <a:pt x="32" y="5"/>
                  <a:pt x="30" y="4"/>
                </a:cubicBezTo>
                <a:cubicBezTo>
                  <a:pt x="29" y="3"/>
                  <a:pt x="28" y="2"/>
                  <a:pt x="27" y="1"/>
                </a:cubicBezTo>
                <a:cubicBezTo>
                  <a:pt x="25" y="1"/>
                  <a:pt x="24" y="0"/>
                  <a:pt x="22" y="0"/>
                </a:cubicBezTo>
                <a:cubicBezTo>
                  <a:pt x="20" y="0"/>
                  <a:pt x="18" y="1"/>
                  <a:pt x="16" y="2"/>
                </a:cubicBezTo>
                <a:cubicBezTo>
                  <a:pt x="14" y="3"/>
                  <a:pt x="12" y="4"/>
                  <a:pt x="10" y="6"/>
                </a:cubicBezTo>
                <a:cubicBezTo>
                  <a:pt x="6" y="10"/>
                  <a:pt x="3" y="15"/>
                  <a:pt x="2" y="20"/>
                </a:cubicBezTo>
                <a:cubicBezTo>
                  <a:pt x="0" y="25"/>
                  <a:pt x="0" y="29"/>
                  <a:pt x="1" y="34"/>
                </a:cubicBezTo>
                <a:cubicBezTo>
                  <a:pt x="2" y="38"/>
                  <a:pt x="3" y="42"/>
                  <a:pt x="5" y="45"/>
                </a:cubicBezTo>
                <a:cubicBezTo>
                  <a:pt x="7" y="49"/>
                  <a:pt x="10" y="52"/>
                  <a:pt x="12" y="55"/>
                </a:cubicBezTo>
                <a:cubicBezTo>
                  <a:pt x="14" y="57"/>
                  <a:pt x="14" y="57"/>
                  <a:pt x="14" y="57"/>
                </a:cubicBezTo>
                <a:cubicBezTo>
                  <a:pt x="11" y="64"/>
                  <a:pt x="9" y="72"/>
                  <a:pt x="9" y="80"/>
                </a:cubicBezTo>
                <a:cubicBezTo>
                  <a:pt x="9" y="88"/>
                  <a:pt x="12" y="95"/>
                  <a:pt x="18" y="101"/>
                </a:cubicBezTo>
                <a:cubicBezTo>
                  <a:pt x="24" y="107"/>
                  <a:pt x="31" y="110"/>
                  <a:pt x="39" y="110"/>
                </a:cubicBezTo>
                <a:cubicBezTo>
                  <a:pt x="47" y="110"/>
                  <a:pt x="55" y="108"/>
                  <a:pt x="62" y="105"/>
                </a:cubicBezTo>
                <a:cubicBezTo>
                  <a:pt x="65" y="107"/>
                  <a:pt x="65" y="107"/>
                  <a:pt x="65" y="107"/>
                </a:cubicBezTo>
                <a:cubicBezTo>
                  <a:pt x="67" y="110"/>
                  <a:pt x="70" y="112"/>
                  <a:pt x="74" y="114"/>
                </a:cubicBezTo>
                <a:cubicBezTo>
                  <a:pt x="77" y="116"/>
                  <a:pt x="81" y="118"/>
                  <a:pt x="86" y="118"/>
                </a:cubicBezTo>
                <a:cubicBezTo>
                  <a:pt x="90" y="119"/>
                  <a:pt x="95" y="119"/>
                  <a:pt x="99" y="118"/>
                </a:cubicBezTo>
                <a:cubicBezTo>
                  <a:pt x="104" y="116"/>
                  <a:pt x="109" y="113"/>
                  <a:pt x="113" y="109"/>
                </a:cubicBezTo>
                <a:cubicBezTo>
                  <a:pt x="115" y="107"/>
                  <a:pt x="117" y="105"/>
                  <a:pt x="117" y="103"/>
                </a:cubicBezTo>
                <a:cubicBezTo>
                  <a:pt x="118" y="101"/>
                  <a:pt x="119" y="99"/>
                  <a:pt x="119" y="97"/>
                </a:cubicBezTo>
                <a:cubicBezTo>
                  <a:pt x="119" y="95"/>
                  <a:pt x="119" y="94"/>
                  <a:pt x="118" y="93"/>
                </a:cubicBezTo>
                <a:cubicBezTo>
                  <a:pt x="117" y="91"/>
                  <a:pt x="116" y="90"/>
                  <a:pt x="116" y="89"/>
                </a:cubicBezTo>
                <a:cubicBezTo>
                  <a:pt x="114" y="87"/>
                  <a:pt x="111" y="86"/>
                  <a:pt x="107" y="85"/>
                </a:cubicBezTo>
                <a:cubicBezTo>
                  <a:pt x="103" y="84"/>
                  <a:pt x="99" y="85"/>
                  <a:pt x="94" y="87"/>
                </a:cubicBezTo>
                <a:cubicBezTo>
                  <a:pt x="92" y="88"/>
                  <a:pt x="92" y="89"/>
                  <a:pt x="92" y="90"/>
                </a:cubicBezTo>
                <a:cubicBezTo>
                  <a:pt x="92" y="90"/>
                  <a:pt x="93" y="90"/>
                  <a:pt x="94" y="90"/>
                </a:cubicBezTo>
                <a:cubicBezTo>
                  <a:pt x="98" y="89"/>
                  <a:pt x="101" y="88"/>
                  <a:pt x="104" y="89"/>
                </a:cubicBezTo>
                <a:cubicBezTo>
                  <a:pt x="108" y="89"/>
                  <a:pt x="110" y="91"/>
                  <a:pt x="112" y="92"/>
                </a:cubicBezTo>
                <a:cubicBezTo>
                  <a:pt x="113" y="93"/>
                  <a:pt x="114" y="94"/>
                  <a:pt x="114" y="95"/>
                </a:cubicBezTo>
                <a:cubicBezTo>
                  <a:pt x="114" y="96"/>
                  <a:pt x="115" y="97"/>
                  <a:pt x="115" y="99"/>
                </a:cubicBezTo>
                <a:cubicBezTo>
                  <a:pt x="115" y="100"/>
                  <a:pt x="115" y="101"/>
                  <a:pt x="114" y="103"/>
                </a:cubicBezTo>
                <a:cubicBezTo>
                  <a:pt x="114" y="104"/>
                  <a:pt x="113" y="106"/>
                  <a:pt x="111" y="107"/>
                </a:cubicBezTo>
                <a:cubicBezTo>
                  <a:pt x="108" y="111"/>
                  <a:pt x="104" y="113"/>
                  <a:pt x="100" y="114"/>
                </a:cubicBezTo>
                <a:cubicBezTo>
                  <a:pt x="96" y="114"/>
                  <a:pt x="92" y="114"/>
                  <a:pt x="88" y="113"/>
                </a:cubicBezTo>
                <a:cubicBezTo>
                  <a:pt x="85" y="112"/>
                  <a:pt x="81" y="111"/>
                  <a:pt x="78" y="108"/>
                </a:cubicBezTo>
                <a:cubicBezTo>
                  <a:pt x="75" y="106"/>
                  <a:pt x="73" y="104"/>
                  <a:pt x="71" y="103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71" y="100"/>
                  <a:pt x="73" y="99"/>
                  <a:pt x="75" y="97"/>
                </a:cubicBezTo>
                <a:cubicBezTo>
                  <a:pt x="76" y="96"/>
                  <a:pt x="78" y="94"/>
                  <a:pt x="79" y="93"/>
                </a:cubicBezTo>
                <a:cubicBezTo>
                  <a:pt x="82" y="90"/>
                  <a:pt x="85" y="87"/>
                  <a:pt x="86" y="84"/>
                </a:cubicBezTo>
                <a:cubicBezTo>
                  <a:pt x="88" y="81"/>
                  <a:pt x="89" y="78"/>
                  <a:pt x="90" y="75"/>
                </a:cubicBezTo>
                <a:cubicBezTo>
                  <a:pt x="90" y="73"/>
                  <a:pt x="90" y="70"/>
                  <a:pt x="89" y="68"/>
                </a:cubicBezTo>
                <a:cubicBezTo>
                  <a:pt x="89" y="66"/>
                  <a:pt x="88" y="65"/>
                  <a:pt x="87" y="63"/>
                </a:cubicBezTo>
                <a:cubicBezTo>
                  <a:pt x="85" y="62"/>
                  <a:pt x="83" y="61"/>
                  <a:pt x="81" y="61"/>
                </a:cubicBezTo>
                <a:cubicBezTo>
                  <a:pt x="78" y="60"/>
                  <a:pt x="76" y="61"/>
                  <a:pt x="73" y="62"/>
                </a:cubicBezTo>
                <a:cubicBezTo>
                  <a:pt x="72" y="63"/>
                  <a:pt x="72" y="63"/>
                  <a:pt x="72" y="64"/>
                </a:cubicBezTo>
                <a:cubicBezTo>
                  <a:pt x="72" y="64"/>
                  <a:pt x="72" y="64"/>
                  <a:pt x="73" y="64"/>
                </a:cubicBezTo>
                <a:cubicBezTo>
                  <a:pt x="76" y="64"/>
                  <a:pt x="78" y="64"/>
                  <a:pt x="80" y="64"/>
                </a:cubicBezTo>
                <a:cubicBezTo>
                  <a:pt x="81" y="65"/>
                  <a:pt x="82" y="65"/>
                  <a:pt x="83" y="66"/>
                </a:cubicBezTo>
                <a:cubicBezTo>
                  <a:pt x="85" y="67"/>
                  <a:pt x="85" y="69"/>
                  <a:pt x="86" y="71"/>
                </a:cubicBezTo>
                <a:cubicBezTo>
                  <a:pt x="86" y="72"/>
                  <a:pt x="86" y="74"/>
                  <a:pt x="86" y="76"/>
                </a:cubicBezTo>
                <a:cubicBezTo>
                  <a:pt x="85" y="79"/>
                  <a:pt x="85" y="81"/>
                  <a:pt x="83" y="84"/>
                </a:cubicBezTo>
                <a:cubicBezTo>
                  <a:pt x="82" y="86"/>
                  <a:pt x="80" y="89"/>
                  <a:pt x="77" y="91"/>
                </a:cubicBezTo>
                <a:cubicBezTo>
                  <a:pt x="76" y="93"/>
                  <a:pt x="74" y="94"/>
                  <a:pt x="73" y="95"/>
                </a:cubicBezTo>
                <a:cubicBezTo>
                  <a:pt x="71" y="96"/>
                  <a:pt x="69" y="97"/>
                  <a:pt x="67" y="98"/>
                </a:cubicBezTo>
                <a:cubicBezTo>
                  <a:pt x="66" y="96"/>
                  <a:pt x="64" y="94"/>
                  <a:pt x="63" y="92"/>
                </a:cubicBezTo>
                <a:cubicBezTo>
                  <a:pt x="61" y="89"/>
                  <a:pt x="60" y="86"/>
                  <a:pt x="59" y="84"/>
                </a:cubicBezTo>
                <a:cubicBezTo>
                  <a:pt x="58" y="81"/>
                  <a:pt x="57" y="78"/>
                  <a:pt x="56" y="74"/>
                </a:cubicBezTo>
                <a:cubicBezTo>
                  <a:pt x="56" y="71"/>
                  <a:pt x="56" y="68"/>
                  <a:pt x="56" y="65"/>
                </a:cubicBezTo>
                <a:cubicBezTo>
                  <a:pt x="61" y="63"/>
                  <a:pt x="65" y="60"/>
                  <a:pt x="69" y="57"/>
                </a:cubicBezTo>
                <a:moveTo>
                  <a:pt x="25" y="94"/>
                </a:moveTo>
                <a:cubicBezTo>
                  <a:pt x="21" y="90"/>
                  <a:pt x="18" y="85"/>
                  <a:pt x="17" y="79"/>
                </a:cubicBezTo>
                <a:cubicBezTo>
                  <a:pt x="16" y="73"/>
                  <a:pt x="17" y="66"/>
                  <a:pt x="18" y="60"/>
                </a:cubicBezTo>
                <a:cubicBezTo>
                  <a:pt x="23" y="63"/>
                  <a:pt x="28" y="65"/>
                  <a:pt x="34" y="66"/>
                </a:cubicBezTo>
                <a:cubicBezTo>
                  <a:pt x="40" y="68"/>
                  <a:pt x="47" y="68"/>
                  <a:pt x="53" y="66"/>
                </a:cubicBezTo>
                <a:cubicBezTo>
                  <a:pt x="51" y="72"/>
                  <a:pt x="51" y="79"/>
                  <a:pt x="53" y="85"/>
                </a:cubicBezTo>
                <a:cubicBezTo>
                  <a:pt x="54" y="91"/>
                  <a:pt x="57" y="96"/>
                  <a:pt x="59" y="101"/>
                </a:cubicBezTo>
                <a:cubicBezTo>
                  <a:pt x="53" y="103"/>
                  <a:pt x="47" y="103"/>
                  <a:pt x="40" y="102"/>
                </a:cubicBezTo>
                <a:cubicBezTo>
                  <a:pt x="34" y="101"/>
                  <a:pt x="29" y="98"/>
                  <a:pt x="25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6"/>
          <p:cNvSpPr/>
          <p:nvPr/>
        </p:nvSpPr>
        <p:spPr>
          <a:xfrm rot="10800000">
            <a:off x="352440" y="348840"/>
            <a:ext cx="1419120" cy="1457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19" h="119">
                <a:moveTo>
                  <a:pt x="55" y="52"/>
                </a:moveTo>
                <a:cubicBezTo>
                  <a:pt x="58" y="55"/>
                  <a:pt x="61" y="59"/>
                  <a:pt x="62" y="62"/>
                </a:cubicBezTo>
                <a:cubicBezTo>
                  <a:pt x="58" y="61"/>
                  <a:pt x="55" y="59"/>
                  <a:pt x="52" y="56"/>
                </a:cubicBezTo>
                <a:cubicBezTo>
                  <a:pt x="51" y="55"/>
                  <a:pt x="50" y="53"/>
                  <a:pt x="49" y="52"/>
                </a:cubicBezTo>
                <a:cubicBezTo>
                  <a:pt x="48" y="51"/>
                  <a:pt x="48" y="50"/>
                  <a:pt x="49" y="49"/>
                </a:cubicBezTo>
                <a:cubicBezTo>
                  <a:pt x="49" y="48"/>
                  <a:pt x="50" y="49"/>
                  <a:pt x="52" y="49"/>
                </a:cubicBezTo>
                <a:cubicBezTo>
                  <a:pt x="53" y="50"/>
                  <a:pt x="54" y="51"/>
                  <a:pt x="55" y="52"/>
                </a:cubicBezTo>
                <a:moveTo>
                  <a:pt x="50" y="57"/>
                </a:moveTo>
                <a:cubicBezTo>
                  <a:pt x="53" y="60"/>
                  <a:pt x="58" y="63"/>
                  <a:pt x="62" y="65"/>
                </a:cubicBezTo>
                <a:cubicBezTo>
                  <a:pt x="63" y="68"/>
                  <a:pt x="63" y="71"/>
                  <a:pt x="62" y="74"/>
                </a:cubicBezTo>
                <a:cubicBezTo>
                  <a:pt x="62" y="78"/>
                  <a:pt x="61" y="81"/>
                  <a:pt x="60" y="84"/>
                </a:cubicBezTo>
                <a:cubicBezTo>
                  <a:pt x="59" y="86"/>
                  <a:pt x="58" y="89"/>
                  <a:pt x="56" y="92"/>
                </a:cubicBezTo>
                <a:cubicBezTo>
                  <a:pt x="55" y="94"/>
                  <a:pt x="53" y="96"/>
                  <a:pt x="52" y="98"/>
                </a:cubicBezTo>
                <a:cubicBezTo>
                  <a:pt x="50" y="97"/>
                  <a:pt x="48" y="96"/>
                  <a:pt x="46" y="95"/>
                </a:cubicBezTo>
                <a:cubicBezTo>
                  <a:pt x="44" y="94"/>
                  <a:pt x="43" y="93"/>
                  <a:pt x="42" y="91"/>
                </a:cubicBezTo>
                <a:cubicBezTo>
                  <a:pt x="39" y="89"/>
                  <a:pt x="37" y="86"/>
                  <a:pt x="36" y="84"/>
                </a:cubicBezTo>
                <a:cubicBezTo>
                  <a:pt x="34" y="81"/>
                  <a:pt x="33" y="79"/>
                  <a:pt x="33" y="76"/>
                </a:cubicBezTo>
                <a:cubicBezTo>
                  <a:pt x="33" y="74"/>
                  <a:pt x="33" y="72"/>
                  <a:pt x="33" y="71"/>
                </a:cubicBezTo>
                <a:cubicBezTo>
                  <a:pt x="34" y="69"/>
                  <a:pt x="34" y="67"/>
                  <a:pt x="35" y="66"/>
                </a:cubicBezTo>
                <a:cubicBezTo>
                  <a:pt x="36" y="65"/>
                  <a:pt x="38" y="65"/>
                  <a:pt x="39" y="64"/>
                </a:cubicBezTo>
                <a:cubicBezTo>
                  <a:pt x="41" y="64"/>
                  <a:pt x="43" y="64"/>
                  <a:pt x="45" y="64"/>
                </a:cubicBezTo>
                <a:cubicBezTo>
                  <a:pt x="46" y="64"/>
                  <a:pt x="47" y="64"/>
                  <a:pt x="47" y="64"/>
                </a:cubicBezTo>
                <a:cubicBezTo>
                  <a:pt x="47" y="63"/>
                  <a:pt x="47" y="63"/>
                  <a:pt x="46" y="62"/>
                </a:cubicBezTo>
                <a:cubicBezTo>
                  <a:pt x="43" y="61"/>
                  <a:pt x="41" y="60"/>
                  <a:pt x="38" y="61"/>
                </a:cubicBezTo>
                <a:cubicBezTo>
                  <a:pt x="35" y="61"/>
                  <a:pt x="33" y="62"/>
                  <a:pt x="32" y="63"/>
                </a:cubicBezTo>
                <a:cubicBezTo>
                  <a:pt x="31" y="65"/>
                  <a:pt x="30" y="66"/>
                  <a:pt x="29" y="68"/>
                </a:cubicBezTo>
                <a:cubicBezTo>
                  <a:pt x="29" y="70"/>
                  <a:pt x="29" y="73"/>
                  <a:pt x="29" y="75"/>
                </a:cubicBezTo>
                <a:cubicBezTo>
                  <a:pt x="30" y="78"/>
                  <a:pt x="31" y="81"/>
                  <a:pt x="32" y="84"/>
                </a:cubicBezTo>
                <a:cubicBezTo>
                  <a:pt x="34" y="87"/>
                  <a:pt x="36" y="90"/>
                  <a:pt x="40" y="93"/>
                </a:cubicBezTo>
                <a:cubicBezTo>
                  <a:pt x="41" y="94"/>
                  <a:pt x="43" y="96"/>
                  <a:pt x="44" y="97"/>
                </a:cubicBezTo>
                <a:cubicBezTo>
                  <a:pt x="46" y="99"/>
                  <a:pt x="47" y="100"/>
                  <a:pt x="49" y="101"/>
                </a:cubicBezTo>
                <a:cubicBezTo>
                  <a:pt x="48" y="103"/>
                  <a:pt x="48" y="103"/>
                  <a:pt x="48" y="103"/>
                </a:cubicBezTo>
                <a:cubicBezTo>
                  <a:pt x="46" y="104"/>
                  <a:pt x="43" y="106"/>
                  <a:pt x="40" y="108"/>
                </a:cubicBezTo>
                <a:cubicBezTo>
                  <a:pt x="37" y="111"/>
                  <a:pt x="34" y="112"/>
                  <a:pt x="30" y="113"/>
                </a:cubicBezTo>
                <a:cubicBezTo>
                  <a:pt x="27" y="114"/>
                  <a:pt x="23" y="114"/>
                  <a:pt x="19" y="114"/>
                </a:cubicBezTo>
                <a:cubicBezTo>
                  <a:pt x="15" y="113"/>
                  <a:pt x="11" y="111"/>
                  <a:pt x="8" y="107"/>
                </a:cubicBezTo>
                <a:cubicBezTo>
                  <a:pt x="6" y="106"/>
                  <a:pt x="5" y="104"/>
                  <a:pt x="5" y="103"/>
                </a:cubicBezTo>
                <a:cubicBezTo>
                  <a:pt x="4" y="101"/>
                  <a:pt x="4" y="100"/>
                  <a:pt x="4" y="99"/>
                </a:cubicBezTo>
                <a:cubicBezTo>
                  <a:pt x="4" y="97"/>
                  <a:pt x="4" y="96"/>
                  <a:pt x="5" y="95"/>
                </a:cubicBezTo>
                <a:cubicBezTo>
                  <a:pt x="5" y="94"/>
                  <a:pt x="6" y="93"/>
                  <a:pt x="7" y="92"/>
                </a:cubicBezTo>
                <a:cubicBezTo>
                  <a:pt x="9" y="91"/>
                  <a:pt x="11" y="89"/>
                  <a:pt x="14" y="89"/>
                </a:cubicBezTo>
                <a:cubicBezTo>
                  <a:pt x="18" y="88"/>
                  <a:pt x="21" y="89"/>
                  <a:pt x="25" y="90"/>
                </a:cubicBezTo>
                <a:cubicBezTo>
                  <a:pt x="26" y="90"/>
                  <a:pt x="27" y="90"/>
                  <a:pt x="27" y="90"/>
                </a:cubicBezTo>
                <a:cubicBezTo>
                  <a:pt x="27" y="89"/>
                  <a:pt x="27" y="88"/>
                  <a:pt x="25" y="87"/>
                </a:cubicBezTo>
                <a:cubicBezTo>
                  <a:pt x="20" y="85"/>
                  <a:pt x="16" y="84"/>
                  <a:pt x="12" y="85"/>
                </a:cubicBezTo>
                <a:cubicBezTo>
                  <a:pt x="8" y="86"/>
                  <a:pt x="5" y="87"/>
                  <a:pt x="3" y="89"/>
                </a:cubicBezTo>
                <a:cubicBezTo>
                  <a:pt x="2" y="90"/>
                  <a:pt x="2" y="91"/>
                  <a:pt x="1" y="93"/>
                </a:cubicBezTo>
                <a:cubicBezTo>
                  <a:pt x="0" y="94"/>
                  <a:pt x="0" y="95"/>
                  <a:pt x="0" y="97"/>
                </a:cubicBezTo>
                <a:cubicBezTo>
                  <a:pt x="0" y="99"/>
                  <a:pt x="1" y="101"/>
                  <a:pt x="1" y="103"/>
                </a:cubicBezTo>
                <a:cubicBezTo>
                  <a:pt x="2" y="105"/>
                  <a:pt x="4" y="107"/>
                  <a:pt x="6" y="109"/>
                </a:cubicBezTo>
                <a:cubicBezTo>
                  <a:pt x="10" y="113"/>
                  <a:pt x="15" y="116"/>
                  <a:pt x="20" y="118"/>
                </a:cubicBezTo>
                <a:cubicBezTo>
                  <a:pt x="24" y="119"/>
                  <a:pt x="29" y="119"/>
                  <a:pt x="33" y="118"/>
                </a:cubicBezTo>
                <a:cubicBezTo>
                  <a:pt x="37" y="118"/>
                  <a:pt x="41" y="116"/>
                  <a:pt x="45" y="114"/>
                </a:cubicBezTo>
                <a:cubicBezTo>
                  <a:pt x="49" y="112"/>
                  <a:pt x="52" y="110"/>
                  <a:pt x="54" y="107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4" y="108"/>
                  <a:pt x="72" y="110"/>
                  <a:pt x="80" y="110"/>
                </a:cubicBezTo>
                <a:cubicBezTo>
                  <a:pt x="88" y="110"/>
                  <a:pt x="95" y="107"/>
                  <a:pt x="101" y="101"/>
                </a:cubicBezTo>
                <a:cubicBezTo>
                  <a:pt x="107" y="95"/>
                  <a:pt x="109" y="88"/>
                  <a:pt x="110" y="80"/>
                </a:cubicBezTo>
                <a:cubicBezTo>
                  <a:pt x="110" y="72"/>
                  <a:pt x="108" y="64"/>
                  <a:pt x="105" y="57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9" y="52"/>
                  <a:pt x="111" y="49"/>
                  <a:pt x="114" y="45"/>
                </a:cubicBezTo>
                <a:cubicBezTo>
                  <a:pt x="116" y="42"/>
                  <a:pt x="117" y="38"/>
                  <a:pt x="118" y="34"/>
                </a:cubicBezTo>
                <a:cubicBezTo>
                  <a:pt x="119" y="29"/>
                  <a:pt x="119" y="25"/>
                  <a:pt x="117" y="20"/>
                </a:cubicBezTo>
                <a:cubicBezTo>
                  <a:pt x="116" y="15"/>
                  <a:pt x="113" y="10"/>
                  <a:pt x="108" y="6"/>
                </a:cubicBezTo>
                <a:cubicBezTo>
                  <a:pt x="106" y="4"/>
                  <a:pt x="104" y="3"/>
                  <a:pt x="102" y="2"/>
                </a:cubicBezTo>
                <a:cubicBezTo>
                  <a:pt x="100" y="1"/>
                  <a:pt x="99" y="0"/>
                  <a:pt x="97" y="0"/>
                </a:cubicBezTo>
                <a:cubicBezTo>
                  <a:pt x="95" y="0"/>
                  <a:pt x="94" y="1"/>
                  <a:pt x="92" y="1"/>
                </a:cubicBezTo>
                <a:cubicBezTo>
                  <a:pt x="91" y="2"/>
                  <a:pt x="90" y="3"/>
                  <a:pt x="89" y="4"/>
                </a:cubicBezTo>
                <a:cubicBezTo>
                  <a:pt x="87" y="5"/>
                  <a:pt x="85" y="8"/>
                  <a:pt x="85" y="12"/>
                </a:cubicBezTo>
                <a:cubicBezTo>
                  <a:pt x="84" y="16"/>
                  <a:pt x="84" y="20"/>
                  <a:pt x="87" y="26"/>
                </a:cubicBezTo>
                <a:cubicBezTo>
                  <a:pt x="88" y="27"/>
                  <a:pt x="89" y="27"/>
                  <a:pt x="89" y="27"/>
                </a:cubicBezTo>
                <a:cubicBezTo>
                  <a:pt x="90" y="27"/>
                  <a:pt x="90" y="26"/>
                  <a:pt x="90" y="25"/>
                </a:cubicBezTo>
                <a:cubicBezTo>
                  <a:pt x="88" y="22"/>
                  <a:pt x="88" y="18"/>
                  <a:pt x="88" y="15"/>
                </a:cubicBezTo>
                <a:cubicBezTo>
                  <a:pt x="89" y="11"/>
                  <a:pt x="90" y="9"/>
                  <a:pt x="92" y="7"/>
                </a:cubicBezTo>
                <a:cubicBezTo>
                  <a:pt x="93" y="6"/>
                  <a:pt x="94" y="6"/>
                  <a:pt x="95" y="5"/>
                </a:cubicBezTo>
                <a:cubicBezTo>
                  <a:pt x="96" y="5"/>
                  <a:pt x="97" y="4"/>
                  <a:pt x="98" y="4"/>
                </a:cubicBezTo>
                <a:cubicBezTo>
                  <a:pt x="100" y="4"/>
                  <a:pt x="101" y="4"/>
                  <a:pt x="102" y="5"/>
                </a:cubicBezTo>
                <a:cubicBezTo>
                  <a:pt x="104" y="6"/>
                  <a:pt x="105" y="7"/>
                  <a:pt x="107" y="8"/>
                </a:cubicBezTo>
                <a:cubicBezTo>
                  <a:pt x="110" y="12"/>
                  <a:pt x="113" y="15"/>
                  <a:pt x="113" y="19"/>
                </a:cubicBezTo>
                <a:cubicBezTo>
                  <a:pt x="114" y="23"/>
                  <a:pt x="114" y="27"/>
                  <a:pt x="113" y="31"/>
                </a:cubicBezTo>
                <a:cubicBezTo>
                  <a:pt x="112" y="34"/>
                  <a:pt x="110" y="38"/>
                  <a:pt x="108" y="41"/>
                </a:cubicBezTo>
                <a:cubicBezTo>
                  <a:pt x="106" y="44"/>
                  <a:pt x="104" y="46"/>
                  <a:pt x="102" y="48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99" y="48"/>
                  <a:pt x="98" y="46"/>
                  <a:pt x="97" y="44"/>
                </a:cubicBezTo>
                <a:cubicBezTo>
                  <a:pt x="95" y="43"/>
                  <a:pt x="94" y="41"/>
                  <a:pt x="93" y="40"/>
                </a:cubicBezTo>
                <a:cubicBezTo>
                  <a:pt x="90" y="37"/>
                  <a:pt x="86" y="34"/>
                  <a:pt x="83" y="33"/>
                </a:cubicBezTo>
                <a:cubicBezTo>
                  <a:pt x="80" y="31"/>
                  <a:pt x="78" y="30"/>
                  <a:pt x="75" y="30"/>
                </a:cubicBezTo>
                <a:cubicBezTo>
                  <a:pt x="72" y="29"/>
                  <a:pt x="70" y="29"/>
                  <a:pt x="68" y="30"/>
                </a:cubicBezTo>
                <a:cubicBezTo>
                  <a:pt x="66" y="30"/>
                  <a:pt x="64" y="31"/>
                  <a:pt x="63" y="32"/>
                </a:cubicBezTo>
                <a:cubicBezTo>
                  <a:pt x="62" y="34"/>
                  <a:pt x="61" y="36"/>
                  <a:pt x="60" y="38"/>
                </a:cubicBezTo>
                <a:cubicBezTo>
                  <a:pt x="60" y="41"/>
                  <a:pt x="61" y="44"/>
                  <a:pt x="62" y="46"/>
                </a:cubicBezTo>
                <a:cubicBezTo>
                  <a:pt x="62" y="47"/>
                  <a:pt x="63" y="47"/>
                  <a:pt x="63" y="47"/>
                </a:cubicBezTo>
                <a:cubicBezTo>
                  <a:pt x="64" y="47"/>
                  <a:pt x="64" y="47"/>
                  <a:pt x="64" y="46"/>
                </a:cubicBezTo>
                <a:cubicBezTo>
                  <a:pt x="63" y="43"/>
                  <a:pt x="63" y="41"/>
                  <a:pt x="64" y="40"/>
                </a:cubicBezTo>
                <a:cubicBezTo>
                  <a:pt x="64" y="38"/>
                  <a:pt x="65" y="37"/>
                  <a:pt x="66" y="36"/>
                </a:cubicBezTo>
                <a:cubicBezTo>
                  <a:pt x="67" y="35"/>
                  <a:pt x="68" y="34"/>
                  <a:pt x="70" y="34"/>
                </a:cubicBezTo>
                <a:cubicBezTo>
                  <a:pt x="72" y="33"/>
                  <a:pt x="74" y="33"/>
                  <a:pt x="76" y="33"/>
                </a:cubicBezTo>
                <a:cubicBezTo>
                  <a:pt x="78" y="34"/>
                  <a:pt x="81" y="35"/>
                  <a:pt x="83" y="36"/>
                </a:cubicBezTo>
                <a:cubicBezTo>
                  <a:pt x="86" y="37"/>
                  <a:pt x="88" y="39"/>
                  <a:pt x="91" y="42"/>
                </a:cubicBezTo>
                <a:cubicBezTo>
                  <a:pt x="92" y="43"/>
                  <a:pt x="94" y="45"/>
                  <a:pt x="95" y="47"/>
                </a:cubicBezTo>
                <a:cubicBezTo>
                  <a:pt x="96" y="48"/>
                  <a:pt x="97" y="50"/>
                  <a:pt x="98" y="52"/>
                </a:cubicBezTo>
                <a:cubicBezTo>
                  <a:pt x="96" y="53"/>
                  <a:pt x="94" y="55"/>
                  <a:pt x="91" y="56"/>
                </a:cubicBezTo>
                <a:cubicBezTo>
                  <a:pt x="89" y="58"/>
                  <a:pt x="86" y="59"/>
                  <a:pt x="83" y="60"/>
                </a:cubicBezTo>
                <a:cubicBezTo>
                  <a:pt x="80" y="61"/>
                  <a:pt x="77" y="62"/>
                  <a:pt x="74" y="63"/>
                </a:cubicBezTo>
                <a:cubicBezTo>
                  <a:pt x="71" y="63"/>
                  <a:pt x="68" y="63"/>
                  <a:pt x="65" y="63"/>
                </a:cubicBezTo>
                <a:cubicBezTo>
                  <a:pt x="63" y="58"/>
                  <a:pt x="60" y="54"/>
                  <a:pt x="56" y="50"/>
                </a:cubicBezTo>
                <a:cubicBezTo>
                  <a:pt x="54" y="48"/>
                  <a:pt x="52" y="46"/>
                  <a:pt x="50" y="46"/>
                </a:cubicBezTo>
                <a:cubicBezTo>
                  <a:pt x="48" y="45"/>
                  <a:pt x="47" y="45"/>
                  <a:pt x="46" y="46"/>
                </a:cubicBezTo>
                <a:cubicBezTo>
                  <a:pt x="45" y="47"/>
                  <a:pt x="45" y="48"/>
                  <a:pt x="45" y="50"/>
                </a:cubicBezTo>
                <a:cubicBezTo>
                  <a:pt x="46" y="52"/>
                  <a:pt x="47" y="54"/>
                  <a:pt x="50" y="57"/>
                </a:cubicBezTo>
                <a:moveTo>
                  <a:pt x="94" y="94"/>
                </a:moveTo>
                <a:cubicBezTo>
                  <a:pt x="90" y="98"/>
                  <a:pt x="85" y="101"/>
                  <a:pt x="79" y="102"/>
                </a:cubicBezTo>
                <a:cubicBezTo>
                  <a:pt x="72" y="103"/>
                  <a:pt x="66" y="103"/>
                  <a:pt x="59" y="101"/>
                </a:cubicBezTo>
                <a:cubicBezTo>
                  <a:pt x="62" y="96"/>
                  <a:pt x="65" y="91"/>
                  <a:pt x="66" y="85"/>
                </a:cubicBezTo>
                <a:cubicBezTo>
                  <a:pt x="68" y="79"/>
                  <a:pt x="68" y="72"/>
                  <a:pt x="66" y="66"/>
                </a:cubicBezTo>
                <a:cubicBezTo>
                  <a:pt x="72" y="68"/>
                  <a:pt x="78" y="68"/>
                  <a:pt x="85" y="66"/>
                </a:cubicBezTo>
                <a:cubicBezTo>
                  <a:pt x="91" y="65"/>
                  <a:pt x="96" y="63"/>
                  <a:pt x="101" y="60"/>
                </a:cubicBezTo>
                <a:cubicBezTo>
                  <a:pt x="102" y="66"/>
                  <a:pt x="103" y="73"/>
                  <a:pt x="102" y="79"/>
                </a:cubicBezTo>
                <a:cubicBezTo>
                  <a:pt x="100" y="85"/>
                  <a:pt x="98" y="90"/>
                  <a:pt x="94" y="94"/>
                </a:cubicBezTo>
              </a:path>
            </a:pathLst>
          </a:custGeom>
          <a:solidFill>
            <a:srgbClr val="79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6" name="组合 11"/>
          <p:cNvGrpSpPr/>
          <p:nvPr/>
        </p:nvGrpSpPr>
        <p:grpSpPr>
          <a:xfrm>
            <a:off x="3809880" y="3502080"/>
            <a:ext cx="4572000" cy="199800"/>
            <a:chOff x="3809880" y="3502080"/>
            <a:chExt cx="4572000" cy="199800"/>
          </a:xfrm>
        </p:grpSpPr>
        <p:sp>
          <p:nvSpPr>
            <p:cNvPr id="1837" name="Freeform 5"/>
            <p:cNvSpPr/>
            <p:nvPr/>
          </p:nvSpPr>
          <p:spPr>
            <a:xfrm>
              <a:off x="6167160" y="3502080"/>
              <a:ext cx="2214720" cy="19980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89" h="50">
                  <a:moveTo>
                    <a:pt x="589" y="21"/>
                  </a:moveTo>
                  <a:cubicBezTo>
                    <a:pt x="512" y="21"/>
                    <a:pt x="512" y="21"/>
                    <a:pt x="512" y="21"/>
                  </a:cubicBezTo>
                  <a:cubicBezTo>
                    <a:pt x="512" y="21"/>
                    <a:pt x="512" y="21"/>
                    <a:pt x="512" y="21"/>
                  </a:cubicBezTo>
                  <a:cubicBezTo>
                    <a:pt x="220" y="22"/>
                    <a:pt x="220" y="22"/>
                    <a:pt x="220" y="22"/>
                  </a:cubicBezTo>
                  <a:cubicBezTo>
                    <a:pt x="220" y="17"/>
                    <a:pt x="214" y="14"/>
                    <a:pt x="208" y="14"/>
                  </a:cubicBezTo>
                  <a:cubicBezTo>
                    <a:pt x="201" y="14"/>
                    <a:pt x="196" y="17"/>
                    <a:pt x="195" y="22"/>
                  </a:cubicBezTo>
                  <a:cubicBezTo>
                    <a:pt x="159" y="22"/>
                    <a:pt x="159" y="22"/>
                    <a:pt x="159" y="22"/>
                  </a:cubicBezTo>
                  <a:cubicBezTo>
                    <a:pt x="169" y="20"/>
                    <a:pt x="179" y="17"/>
                    <a:pt x="187" y="13"/>
                  </a:cubicBezTo>
                  <a:cubicBezTo>
                    <a:pt x="125" y="32"/>
                    <a:pt x="63" y="28"/>
                    <a:pt x="17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29" y="18"/>
                    <a:pt x="48" y="29"/>
                    <a:pt x="103" y="29"/>
                  </a:cubicBezTo>
                  <a:cubicBezTo>
                    <a:pt x="109" y="29"/>
                    <a:pt x="124" y="28"/>
                    <a:pt x="140" y="26"/>
                  </a:cubicBezTo>
                  <a:cubicBezTo>
                    <a:pt x="196" y="26"/>
                    <a:pt x="196" y="26"/>
                    <a:pt x="196" y="26"/>
                  </a:cubicBezTo>
                  <a:cubicBezTo>
                    <a:pt x="198" y="29"/>
                    <a:pt x="203" y="32"/>
                    <a:pt x="208" y="32"/>
                  </a:cubicBezTo>
                  <a:cubicBezTo>
                    <a:pt x="213" y="32"/>
                    <a:pt x="217" y="29"/>
                    <a:pt x="219" y="26"/>
                  </a:cubicBezTo>
                  <a:cubicBezTo>
                    <a:pt x="515" y="28"/>
                    <a:pt x="515" y="28"/>
                    <a:pt x="515" y="28"/>
                  </a:cubicBezTo>
                  <a:cubicBezTo>
                    <a:pt x="529" y="28"/>
                    <a:pt x="534" y="38"/>
                    <a:pt x="542" y="50"/>
                  </a:cubicBezTo>
                  <a:cubicBezTo>
                    <a:pt x="538" y="38"/>
                    <a:pt x="556" y="28"/>
                    <a:pt x="589" y="2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6"/>
            <p:cNvSpPr/>
            <p:nvPr/>
          </p:nvSpPr>
          <p:spPr>
            <a:xfrm>
              <a:off x="6318000" y="3506760"/>
              <a:ext cx="450720" cy="759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20" h="19">
                  <a:moveTo>
                    <a:pt x="11" y="9"/>
                  </a:moveTo>
                  <a:cubicBezTo>
                    <a:pt x="27" y="16"/>
                    <a:pt x="44" y="18"/>
                    <a:pt x="62" y="19"/>
                  </a:cubicBezTo>
                  <a:cubicBezTo>
                    <a:pt x="76" y="19"/>
                    <a:pt x="105" y="16"/>
                    <a:pt x="120" y="10"/>
                  </a:cubicBezTo>
                  <a:cubicBezTo>
                    <a:pt x="80" y="19"/>
                    <a:pt x="48" y="15"/>
                    <a:pt x="16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11"/>
                    <a:pt x="6" y="11"/>
                    <a:pt x="6" y="11"/>
                  </a:cubicBezTo>
                  <a:lnTo>
                    <a:pt x="11" y="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7"/>
            <p:cNvSpPr/>
            <p:nvPr/>
          </p:nvSpPr>
          <p:spPr>
            <a:xfrm>
              <a:off x="5903640" y="3510000"/>
              <a:ext cx="384120" cy="1094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42" h="69">
                  <a:moveTo>
                    <a:pt x="216" y="46"/>
                  </a:moveTo>
                  <a:lnTo>
                    <a:pt x="121" y="0"/>
                  </a:lnTo>
                  <a:lnTo>
                    <a:pt x="26" y="46"/>
                  </a:lnTo>
                  <a:lnTo>
                    <a:pt x="17" y="41"/>
                  </a:lnTo>
                  <a:lnTo>
                    <a:pt x="0" y="46"/>
                  </a:lnTo>
                  <a:lnTo>
                    <a:pt x="41" y="69"/>
                  </a:lnTo>
                  <a:lnTo>
                    <a:pt x="121" y="31"/>
                  </a:lnTo>
                  <a:lnTo>
                    <a:pt x="204" y="69"/>
                  </a:lnTo>
                  <a:lnTo>
                    <a:pt x="242" y="46"/>
                  </a:lnTo>
                  <a:lnTo>
                    <a:pt x="228" y="41"/>
                  </a:lnTo>
                  <a:lnTo>
                    <a:pt x="216" y="46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8"/>
            <p:cNvSpPr/>
            <p:nvPr/>
          </p:nvSpPr>
          <p:spPr>
            <a:xfrm>
              <a:off x="5427360" y="3506760"/>
              <a:ext cx="446040" cy="759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19" h="19">
                  <a:moveTo>
                    <a:pt x="57" y="19"/>
                  </a:moveTo>
                  <a:cubicBezTo>
                    <a:pt x="75" y="18"/>
                    <a:pt x="92" y="16"/>
                    <a:pt x="109" y="9"/>
                  </a:cubicBezTo>
                  <a:cubicBezTo>
                    <a:pt x="113" y="11"/>
                    <a:pt x="113" y="11"/>
                    <a:pt x="113" y="11"/>
                  </a:cubicBezTo>
                  <a:cubicBezTo>
                    <a:pt x="119" y="9"/>
                    <a:pt x="119" y="9"/>
                    <a:pt x="119" y="9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71" y="15"/>
                    <a:pt x="40" y="19"/>
                    <a:pt x="0" y="10"/>
                  </a:cubicBezTo>
                  <a:cubicBezTo>
                    <a:pt x="15" y="16"/>
                    <a:pt x="44" y="19"/>
                    <a:pt x="57" y="19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"/>
            <p:cNvSpPr/>
            <p:nvPr/>
          </p:nvSpPr>
          <p:spPr>
            <a:xfrm>
              <a:off x="3809880" y="3502080"/>
              <a:ext cx="2214720" cy="19980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89" h="50">
                  <a:moveTo>
                    <a:pt x="583" y="12"/>
                  </a:moveTo>
                  <a:cubicBezTo>
                    <a:pt x="589" y="9"/>
                    <a:pt x="589" y="9"/>
                    <a:pt x="589" y="9"/>
                  </a:cubicBezTo>
                  <a:cubicBezTo>
                    <a:pt x="573" y="0"/>
                    <a:pt x="573" y="0"/>
                    <a:pt x="573" y="0"/>
                  </a:cubicBezTo>
                  <a:cubicBezTo>
                    <a:pt x="526" y="28"/>
                    <a:pt x="465" y="32"/>
                    <a:pt x="403" y="13"/>
                  </a:cubicBezTo>
                  <a:cubicBezTo>
                    <a:pt x="411" y="17"/>
                    <a:pt x="420" y="20"/>
                    <a:pt x="431" y="22"/>
                  </a:cubicBezTo>
                  <a:cubicBezTo>
                    <a:pt x="395" y="22"/>
                    <a:pt x="395" y="22"/>
                    <a:pt x="395" y="22"/>
                  </a:cubicBezTo>
                  <a:cubicBezTo>
                    <a:pt x="394" y="17"/>
                    <a:pt x="389" y="14"/>
                    <a:pt x="382" y="14"/>
                  </a:cubicBezTo>
                  <a:cubicBezTo>
                    <a:pt x="375" y="14"/>
                    <a:pt x="370" y="17"/>
                    <a:pt x="370" y="22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3" y="28"/>
                    <a:pt x="52" y="38"/>
                    <a:pt x="48" y="50"/>
                  </a:cubicBezTo>
                  <a:cubicBezTo>
                    <a:pt x="56" y="38"/>
                    <a:pt x="61" y="28"/>
                    <a:pt x="74" y="28"/>
                  </a:cubicBezTo>
                  <a:cubicBezTo>
                    <a:pt x="370" y="26"/>
                    <a:pt x="370" y="26"/>
                    <a:pt x="370" y="26"/>
                  </a:cubicBezTo>
                  <a:cubicBezTo>
                    <a:pt x="372" y="29"/>
                    <a:pt x="377" y="32"/>
                    <a:pt x="382" y="32"/>
                  </a:cubicBezTo>
                  <a:cubicBezTo>
                    <a:pt x="387" y="32"/>
                    <a:pt x="392" y="29"/>
                    <a:pt x="394" y="26"/>
                  </a:cubicBezTo>
                  <a:cubicBezTo>
                    <a:pt x="449" y="26"/>
                    <a:pt x="449" y="26"/>
                    <a:pt x="449" y="26"/>
                  </a:cubicBezTo>
                  <a:cubicBezTo>
                    <a:pt x="465" y="28"/>
                    <a:pt x="480" y="29"/>
                    <a:pt x="487" y="29"/>
                  </a:cubicBezTo>
                  <a:cubicBezTo>
                    <a:pt x="541" y="29"/>
                    <a:pt x="561" y="18"/>
                    <a:pt x="578" y="9"/>
                  </a:cubicBezTo>
                  <a:lnTo>
                    <a:pt x="583" y="12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0"/>
            <p:cNvSpPr/>
            <p:nvPr/>
          </p:nvSpPr>
          <p:spPr>
            <a:xfrm>
              <a:off x="6054480" y="3574800"/>
              <a:ext cx="87120" cy="34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9">
                  <a:moveTo>
                    <a:pt x="12" y="2"/>
                  </a:move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2" y="2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TextBox 6"/>
          <p:cNvSpPr/>
          <p:nvPr/>
        </p:nvSpPr>
        <p:spPr>
          <a:xfrm>
            <a:off x="5237280" y="573120"/>
            <a:ext cx="172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90003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7"/>
          <p:cNvSpPr/>
          <p:nvPr/>
        </p:nvSpPr>
        <p:spPr>
          <a:xfrm>
            <a:off x="5008680" y="137484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0003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组合 1"/>
          <p:cNvGrpSpPr/>
          <p:nvPr/>
        </p:nvGrpSpPr>
        <p:grpSpPr>
          <a:xfrm>
            <a:off x="898560" y="3652920"/>
            <a:ext cx="2241360" cy="2373120"/>
            <a:chOff x="898560" y="3652920"/>
            <a:chExt cx="2241360" cy="2373120"/>
          </a:xfrm>
        </p:grpSpPr>
        <p:sp>
          <p:nvSpPr>
            <p:cNvPr id="1319" name="等腰三角形 7"/>
            <p:cNvSpPr/>
            <p:nvPr/>
          </p:nvSpPr>
          <p:spPr>
            <a:xfrm>
              <a:off x="8985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矩形 8"/>
            <p:cNvSpPr/>
            <p:nvPr/>
          </p:nvSpPr>
          <p:spPr>
            <a:xfrm>
              <a:off x="898560" y="3754440"/>
              <a:ext cx="2241360" cy="22716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等腰三角形 33"/>
            <p:cNvSpPr/>
            <p:nvPr/>
          </p:nvSpPr>
          <p:spPr>
            <a:xfrm>
              <a:off x="11728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等腰三角形 34"/>
            <p:cNvSpPr/>
            <p:nvPr/>
          </p:nvSpPr>
          <p:spPr>
            <a:xfrm>
              <a:off x="14526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等腰三角形 35"/>
            <p:cNvSpPr/>
            <p:nvPr/>
          </p:nvSpPr>
          <p:spPr>
            <a:xfrm>
              <a:off x="17319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等腰三角形 36"/>
            <p:cNvSpPr/>
            <p:nvPr/>
          </p:nvSpPr>
          <p:spPr>
            <a:xfrm>
              <a:off x="20116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等腰三角形 37"/>
            <p:cNvSpPr/>
            <p:nvPr/>
          </p:nvSpPr>
          <p:spPr>
            <a:xfrm>
              <a:off x="229104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等腰三角形 38"/>
            <p:cNvSpPr/>
            <p:nvPr/>
          </p:nvSpPr>
          <p:spPr>
            <a:xfrm>
              <a:off x="25704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等腰三角形 39"/>
            <p:cNvSpPr/>
            <p:nvPr/>
          </p:nvSpPr>
          <p:spPr>
            <a:xfrm>
              <a:off x="285012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矩形 3"/>
          <p:cNvSpPr/>
          <p:nvPr/>
        </p:nvSpPr>
        <p:spPr>
          <a:xfrm>
            <a:off x="1419840" y="38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矩形 4"/>
          <p:cNvSpPr/>
          <p:nvPr/>
        </p:nvSpPr>
        <p:spPr>
          <a:xfrm>
            <a:off x="1337040" y="45370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阐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74"/>
          <p:cNvSpPr/>
          <p:nvPr/>
        </p:nvSpPr>
        <p:spPr>
          <a:xfrm>
            <a:off x="1138320" y="4451400"/>
            <a:ext cx="1743120" cy="460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6"/>
          <p:cNvSpPr/>
          <p:nvPr/>
        </p:nvSpPr>
        <p:spPr>
          <a:xfrm>
            <a:off x="1337040" y="4927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概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5"/>
          <p:cNvSpPr/>
          <p:nvPr/>
        </p:nvSpPr>
        <p:spPr>
          <a:xfrm>
            <a:off x="1400040" y="2208240"/>
            <a:ext cx="1216080" cy="121752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6"/>
          <p:cNvSpPr/>
          <p:nvPr/>
        </p:nvSpPr>
        <p:spPr>
          <a:xfrm>
            <a:off x="1965240" y="2768760"/>
            <a:ext cx="1065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7"/>
          <p:cNvSpPr/>
          <p:nvPr/>
        </p:nvSpPr>
        <p:spPr>
          <a:xfrm>
            <a:off x="1819440" y="2365200"/>
            <a:ext cx="396720" cy="901800"/>
          </a:xfrm>
          <a:custGeom>
            <a:avLst/>
            <a:gdLst>
              <a:gd name="textAreaLeft" fmla="*/ 0 w 396720"/>
              <a:gd name="textAreaRight" fmla="*/ 397080 w 3967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3" h="348">
                <a:moveTo>
                  <a:pt x="77" y="348"/>
                </a:moveTo>
                <a:cubicBezTo>
                  <a:pt x="34" y="348"/>
                  <a:pt x="0" y="272"/>
                  <a:pt x="0" y="174"/>
                </a:cubicBezTo>
                <a:cubicBezTo>
                  <a:pt x="0" y="77"/>
                  <a:pt x="34" y="0"/>
                  <a:pt x="77" y="0"/>
                </a:cubicBezTo>
                <a:cubicBezTo>
                  <a:pt x="120" y="0"/>
                  <a:pt x="153" y="77"/>
                  <a:pt x="153" y="174"/>
                </a:cubicBezTo>
                <a:cubicBezTo>
                  <a:pt x="153" y="272"/>
                  <a:pt x="120" y="348"/>
                  <a:pt x="77" y="348"/>
                </a:cubicBezTo>
                <a:close/>
                <a:moveTo>
                  <a:pt x="77" y="13"/>
                </a:moveTo>
                <a:cubicBezTo>
                  <a:pt x="42" y="13"/>
                  <a:pt x="13" y="87"/>
                  <a:pt x="13" y="174"/>
                </a:cubicBezTo>
                <a:cubicBezTo>
                  <a:pt x="13" y="262"/>
                  <a:pt x="42" y="336"/>
                  <a:pt x="77" y="336"/>
                </a:cubicBezTo>
                <a:cubicBezTo>
                  <a:pt x="111" y="336"/>
                  <a:pt x="141" y="262"/>
                  <a:pt x="141" y="174"/>
                </a:cubicBezTo>
                <a:cubicBezTo>
                  <a:pt x="141" y="87"/>
                  <a:pt x="111" y="13"/>
                  <a:pt x="7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8"/>
          <p:cNvSpPr/>
          <p:nvPr/>
        </p:nvSpPr>
        <p:spPr>
          <a:xfrm>
            <a:off x="1568520" y="2619360"/>
            <a:ext cx="901800" cy="396720"/>
          </a:xfrm>
          <a:custGeom>
            <a:avLst/>
            <a:gdLst>
              <a:gd name="textAreaLeft" fmla="*/ 0 w 901800"/>
              <a:gd name="textAreaRight" fmla="*/ 902160 w 9018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48" h="153">
                <a:moveTo>
                  <a:pt x="174" y="153"/>
                </a:moveTo>
                <a:cubicBezTo>
                  <a:pt x="76" y="153"/>
                  <a:pt x="0" y="119"/>
                  <a:pt x="0" y="76"/>
                </a:cubicBezTo>
                <a:cubicBezTo>
                  <a:pt x="0" y="33"/>
                  <a:pt x="76" y="0"/>
                  <a:pt x="174" y="0"/>
                </a:cubicBezTo>
                <a:cubicBezTo>
                  <a:pt x="271" y="0"/>
                  <a:pt x="348" y="33"/>
                  <a:pt x="348" y="76"/>
                </a:cubicBezTo>
                <a:cubicBezTo>
                  <a:pt x="348" y="119"/>
                  <a:pt x="271" y="153"/>
                  <a:pt x="174" y="153"/>
                </a:cubicBezTo>
                <a:close/>
                <a:moveTo>
                  <a:pt x="174" y="12"/>
                </a:moveTo>
                <a:cubicBezTo>
                  <a:pt x="86" y="12"/>
                  <a:pt x="12" y="42"/>
                  <a:pt x="12" y="76"/>
                </a:cubicBezTo>
                <a:cubicBezTo>
                  <a:pt x="12" y="111"/>
                  <a:pt x="86" y="140"/>
                  <a:pt x="174" y="140"/>
                </a:cubicBezTo>
                <a:cubicBezTo>
                  <a:pt x="261" y="140"/>
                  <a:pt x="335" y="111"/>
                  <a:pt x="335" y="76"/>
                </a:cubicBezTo>
                <a:cubicBezTo>
                  <a:pt x="335" y="42"/>
                  <a:pt x="261" y="12"/>
                  <a:pt x="17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9"/>
          <p:cNvSpPr/>
          <p:nvPr/>
        </p:nvSpPr>
        <p:spPr>
          <a:xfrm>
            <a:off x="1658880" y="2467080"/>
            <a:ext cx="720720" cy="699840"/>
          </a:xfrm>
          <a:custGeom>
            <a:avLst/>
            <a:gdLst>
              <a:gd name="textAreaLeft" fmla="*/ 0 w 720720"/>
              <a:gd name="textAreaRight" fmla="*/ 721080 w 72072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278" h="270">
                <a:moveTo>
                  <a:pt x="229" y="270"/>
                </a:moveTo>
                <a:cubicBezTo>
                  <a:pt x="190" y="270"/>
                  <a:pt x="134" y="238"/>
                  <a:pt x="85" y="189"/>
                </a:cubicBezTo>
                <a:cubicBezTo>
                  <a:pt x="52" y="157"/>
                  <a:pt x="27" y="121"/>
                  <a:pt x="14" y="89"/>
                </a:cubicBezTo>
                <a:cubicBezTo>
                  <a:pt x="0" y="55"/>
                  <a:pt x="0" y="27"/>
                  <a:pt x="16" y="12"/>
                </a:cubicBezTo>
                <a:cubicBezTo>
                  <a:pt x="24" y="4"/>
                  <a:pt x="35" y="0"/>
                  <a:pt x="48" y="0"/>
                </a:cubicBezTo>
                <a:cubicBezTo>
                  <a:pt x="87" y="0"/>
                  <a:pt x="144" y="32"/>
                  <a:pt x="193" y="81"/>
                </a:cubicBezTo>
                <a:cubicBezTo>
                  <a:pt x="225" y="113"/>
                  <a:pt x="250" y="149"/>
                  <a:pt x="264" y="182"/>
                </a:cubicBezTo>
                <a:cubicBezTo>
                  <a:pt x="278" y="216"/>
                  <a:pt x="277" y="243"/>
                  <a:pt x="262" y="258"/>
                </a:cubicBezTo>
                <a:cubicBezTo>
                  <a:pt x="254" y="266"/>
                  <a:pt x="243" y="270"/>
                  <a:pt x="229" y="270"/>
                </a:cubicBezTo>
                <a:close/>
                <a:moveTo>
                  <a:pt x="48" y="13"/>
                </a:moveTo>
                <a:cubicBezTo>
                  <a:pt x="38" y="13"/>
                  <a:pt x="30" y="16"/>
                  <a:pt x="25" y="21"/>
                </a:cubicBezTo>
                <a:cubicBezTo>
                  <a:pt x="13" y="32"/>
                  <a:pt x="14" y="55"/>
                  <a:pt x="26" y="84"/>
                </a:cubicBezTo>
                <a:cubicBezTo>
                  <a:pt x="38" y="115"/>
                  <a:pt x="62" y="149"/>
                  <a:pt x="94" y="180"/>
                </a:cubicBezTo>
                <a:cubicBezTo>
                  <a:pt x="140" y="227"/>
                  <a:pt x="194" y="258"/>
                  <a:pt x="229" y="258"/>
                </a:cubicBezTo>
                <a:cubicBezTo>
                  <a:pt x="239" y="258"/>
                  <a:pt x="247" y="255"/>
                  <a:pt x="253" y="249"/>
                </a:cubicBezTo>
                <a:cubicBezTo>
                  <a:pt x="264" y="238"/>
                  <a:pt x="264" y="215"/>
                  <a:pt x="252" y="186"/>
                </a:cubicBezTo>
                <a:cubicBezTo>
                  <a:pt x="239" y="155"/>
                  <a:pt x="215" y="121"/>
                  <a:pt x="184" y="90"/>
                </a:cubicBezTo>
                <a:cubicBezTo>
                  <a:pt x="138" y="44"/>
                  <a:pt x="83" y="13"/>
                  <a:pt x="4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100"/>
          <p:cNvGrpSpPr/>
          <p:nvPr/>
        </p:nvGrpSpPr>
        <p:grpSpPr>
          <a:xfrm>
            <a:off x="3670200" y="3652920"/>
            <a:ext cx="2239920" cy="2373120"/>
            <a:chOff x="3670200" y="3652920"/>
            <a:chExt cx="2239920" cy="2373120"/>
          </a:xfrm>
        </p:grpSpPr>
        <p:sp>
          <p:nvSpPr>
            <p:cNvPr id="1338" name="等腰三角形 120"/>
            <p:cNvSpPr/>
            <p:nvPr/>
          </p:nvSpPr>
          <p:spPr>
            <a:xfrm>
              <a:off x="36702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121"/>
            <p:cNvSpPr/>
            <p:nvPr/>
          </p:nvSpPr>
          <p:spPr>
            <a:xfrm>
              <a:off x="3670200" y="3754440"/>
              <a:ext cx="2239920" cy="22716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等腰三角形 122"/>
            <p:cNvSpPr/>
            <p:nvPr/>
          </p:nvSpPr>
          <p:spPr>
            <a:xfrm>
              <a:off x="394452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等腰三角形 134"/>
            <p:cNvSpPr/>
            <p:nvPr/>
          </p:nvSpPr>
          <p:spPr>
            <a:xfrm>
              <a:off x="42238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等腰三角形 135"/>
            <p:cNvSpPr/>
            <p:nvPr/>
          </p:nvSpPr>
          <p:spPr>
            <a:xfrm>
              <a:off x="450324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等腰三角形 136"/>
            <p:cNvSpPr/>
            <p:nvPr/>
          </p:nvSpPr>
          <p:spPr>
            <a:xfrm>
              <a:off x="47826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等腰三角形 137"/>
            <p:cNvSpPr/>
            <p:nvPr/>
          </p:nvSpPr>
          <p:spPr>
            <a:xfrm>
              <a:off x="50619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等腰三角形 138"/>
            <p:cNvSpPr/>
            <p:nvPr/>
          </p:nvSpPr>
          <p:spPr>
            <a:xfrm>
              <a:off x="53409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等腰三角形 139"/>
            <p:cNvSpPr/>
            <p:nvPr/>
          </p:nvSpPr>
          <p:spPr>
            <a:xfrm>
              <a:off x="562032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140"/>
          <p:cNvGrpSpPr/>
          <p:nvPr/>
        </p:nvGrpSpPr>
        <p:grpSpPr>
          <a:xfrm>
            <a:off x="6392880" y="3652920"/>
            <a:ext cx="2241360" cy="2373120"/>
            <a:chOff x="6392880" y="3652920"/>
            <a:chExt cx="2241360" cy="2373120"/>
          </a:xfrm>
        </p:grpSpPr>
        <p:sp>
          <p:nvSpPr>
            <p:cNvPr id="1348" name="等腰三角形 141"/>
            <p:cNvSpPr/>
            <p:nvPr/>
          </p:nvSpPr>
          <p:spPr>
            <a:xfrm>
              <a:off x="63928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矩形 142"/>
            <p:cNvSpPr/>
            <p:nvPr/>
          </p:nvSpPr>
          <p:spPr>
            <a:xfrm>
              <a:off x="6392880" y="3754440"/>
              <a:ext cx="2241360" cy="22716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等腰三角形 143"/>
            <p:cNvSpPr/>
            <p:nvPr/>
          </p:nvSpPr>
          <p:spPr>
            <a:xfrm>
              <a:off x="66672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等腰三角形 144"/>
            <p:cNvSpPr/>
            <p:nvPr/>
          </p:nvSpPr>
          <p:spPr>
            <a:xfrm>
              <a:off x="694692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等腰三角形 145"/>
            <p:cNvSpPr/>
            <p:nvPr/>
          </p:nvSpPr>
          <p:spPr>
            <a:xfrm>
              <a:off x="72262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等腰三角形 146"/>
            <p:cNvSpPr/>
            <p:nvPr/>
          </p:nvSpPr>
          <p:spPr>
            <a:xfrm>
              <a:off x="75060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等腰三角形 147"/>
            <p:cNvSpPr/>
            <p:nvPr/>
          </p:nvSpPr>
          <p:spPr>
            <a:xfrm>
              <a:off x="77853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等腰三角形 148"/>
            <p:cNvSpPr/>
            <p:nvPr/>
          </p:nvSpPr>
          <p:spPr>
            <a:xfrm>
              <a:off x="806472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等腰三角形 149"/>
            <p:cNvSpPr/>
            <p:nvPr/>
          </p:nvSpPr>
          <p:spPr>
            <a:xfrm>
              <a:off x="834444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150"/>
          <p:cNvGrpSpPr/>
          <p:nvPr/>
        </p:nvGrpSpPr>
        <p:grpSpPr>
          <a:xfrm>
            <a:off x="8953560" y="3652920"/>
            <a:ext cx="2241360" cy="2373120"/>
            <a:chOff x="8953560" y="3652920"/>
            <a:chExt cx="2241360" cy="2373120"/>
          </a:xfrm>
        </p:grpSpPr>
        <p:sp>
          <p:nvSpPr>
            <p:cNvPr id="1358" name="等腰三角形 151"/>
            <p:cNvSpPr/>
            <p:nvPr/>
          </p:nvSpPr>
          <p:spPr>
            <a:xfrm>
              <a:off x="89535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152"/>
            <p:cNvSpPr/>
            <p:nvPr/>
          </p:nvSpPr>
          <p:spPr>
            <a:xfrm>
              <a:off x="8953560" y="3754440"/>
              <a:ext cx="2241360" cy="22716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等腰三角形 153"/>
            <p:cNvSpPr/>
            <p:nvPr/>
          </p:nvSpPr>
          <p:spPr>
            <a:xfrm>
              <a:off x="92278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等腰三角形 154"/>
            <p:cNvSpPr/>
            <p:nvPr/>
          </p:nvSpPr>
          <p:spPr>
            <a:xfrm>
              <a:off x="95076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等腰三角形 155"/>
            <p:cNvSpPr/>
            <p:nvPr/>
          </p:nvSpPr>
          <p:spPr>
            <a:xfrm>
              <a:off x="978696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等腰三角形 156"/>
            <p:cNvSpPr/>
            <p:nvPr/>
          </p:nvSpPr>
          <p:spPr>
            <a:xfrm>
              <a:off x="1006668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等腰三角形 157"/>
            <p:cNvSpPr/>
            <p:nvPr/>
          </p:nvSpPr>
          <p:spPr>
            <a:xfrm>
              <a:off x="1034604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等腰三角形 158"/>
            <p:cNvSpPr/>
            <p:nvPr/>
          </p:nvSpPr>
          <p:spPr>
            <a:xfrm>
              <a:off x="1062540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等腰三角形 159"/>
            <p:cNvSpPr/>
            <p:nvPr/>
          </p:nvSpPr>
          <p:spPr>
            <a:xfrm>
              <a:off x="10905120" y="36529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Freeform 10"/>
          <p:cNvSpPr/>
          <p:nvPr/>
        </p:nvSpPr>
        <p:spPr>
          <a:xfrm>
            <a:off x="1658880" y="2467080"/>
            <a:ext cx="720720" cy="699840"/>
          </a:xfrm>
          <a:custGeom>
            <a:avLst/>
            <a:gdLst>
              <a:gd name="textAreaLeft" fmla="*/ 0 w 720720"/>
              <a:gd name="textAreaRight" fmla="*/ 721080 w 72072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278" h="270">
                <a:moveTo>
                  <a:pt x="48" y="270"/>
                </a:moveTo>
                <a:cubicBezTo>
                  <a:pt x="35" y="270"/>
                  <a:pt x="24" y="266"/>
                  <a:pt x="16" y="258"/>
                </a:cubicBezTo>
                <a:cubicBezTo>
                  <a:pt x="0" y="243"/>
                  <a:pt x="0" y="216"/>
                  <a:pt x="14" y="182"/>
                </a:cubicBezTo>
                <a:cubicBezTo>
                  <a:pt x="27" y="149"/>
                  <a:pt x="52" y="113"/>
                  <a:pt x="85" y="81"/>
                </a:cubicBezTo>
                <a:cubicBezTo>
                  <a:pt x="134" y="32"/>
                  <a:pt x="190" y="0"/>
                  <a:pt x="229" y="0"/>
                </a:cubicBezTo>
                <a:cubicBezTo>
                  <a:pt x="243" y="0"/>
                  <a:pt x="254" y="4"/>
                  <a:pt x="262" y="12"/>
                </a:cubicBezTo>
                <a:cubicBezTo>
                  <a:pt x="277" y="27"/>
                  <a:pt x="278" y="55"/>
                  <a:pt x="264" y="89"/>
                </a:cubicBezTo>
                <a:cubicBezTo>
                  <a:pt x="250" y="121"/>
                  <a:pt x="225" y="157"/>
                  <a:pt x="193" y="189"/>
                </a:cubicBezTo>
                <a:cubicBezTo>
                  <a:pt x="144" y="238"/>
                  <a:pt x="87" y="270"/>
                  <a:pt x="48" y="270"/>
                </a:cubicBezTo>
                <a:close/>
                <a:moveTo>
                  <a:pt x="229" y="13"/>
                </a:moveTo>
                <a:cubicBezTo>
                  <a:pt x="194" y="13"/>
                  <a:pt x="140" y="44"/>
                  <a:pt x="94" y="90"/>
                </a:cubicBezTo>
                <a:cubicBezTo>
                  <a:pt x="62" y="121"/>
                  <a:pt x="38" y="155"/>
                  <a:pt x="26" y="186"/>
                </a:cubicBezTo>
                <a:cubicBezTo>
                  <a:pt x="14" y="215"/>
                  <a:pt x="13" y="238"/>
                  <a:pt x="25" y="249"/>
                </a:cubicBezTo>
                <a:cubicBezTo>
                  <a:pt x="30" y="255"/>
                  <a:pt x="38" y="258"/>
                  <a:pt x="48" y="258"/>
                </a:cubicBezTo>
                <a:cubicBezTo>
                  <a:pt x="83" y="258"/>
                  <a:pt x="138" y="227"/>
                  <a:pt x="184" y="180"/>
                </a:cubicBezTo>
                <a:cubicBezTo>
                  <a:pt x="215" y="149"/>
                  <a:pt x="239" y="115"/>
                  <a:pt x="252" y="84"/>
                </a:cubicBezTo>
                <a:cubicBezTo>
                  <a:pt x="264" y="55"/>
                  <a:pt x="264" y="32"/>
                  <a:pt x="253" y="21"/>
                </a:cubicBezTo>
                <a:cubicBezTo>
                  <a:pt x="247" y="16"/>
                  <a:pt x="239" y="13"/>
                  <a:pt x="22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85"/>
          <p:cNvSpPr/>
          <p:nvPr/>
        </p:nvSpPr>
        <p:spPr>
          <a:xfrm>
            <a:off x="3879720" y="4448160"/>
            <a:ext cx="1743120" cy="4752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"/>
          <p:cNvSpPr/>
          <p:nvPr/>
        </p:nvSpPr>
        <p:spPr>
          <a:xfrm>
            <a:off x="4141800" y="2197080"/>
            <a:ext cx="1216080" cy="121608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组合 50"/>
          <p:cNvGrpSpPr/>
          <p:nvPr/>
        </p:nvGrpSpPr>
        <p:grpSpPr>
          <a:xfrm>
            <a:off x="4305240" y="2365200"/>
            <a:ext cx="890640" cy="879480"/>
            <a:chOff x="4305240" y="2365200"/>
            <a:chExt cx="890640" cy="879480"/>
          </a:xfrm>
        </p:grpSpPr>
        <p:sp>
          <p:nvSpPr>
            <p:cNvPr id="1371" name="AutoShape 11"/>
            <p:cNvSpPr/>
            <p:nvPr/>
          </p:nvSpPr>
          <p:spPr>
            <a:xfrm>
              <a:off x="4305240" y="2368800"/>
              <a:ext cx="890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3"/>
            <p:cNvSpPr/>
            <p:nvPr/>
          </p:nvSpPr>
          <p:spPr>
            <a:xfrm>
              <a:off x="4308840" y="2365200"/>
              <a:ext cx="883440" cy="87948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02" h="202">
                  <a:moveTo>
                    <a:pt x="115" y="184"/>
                  </a:moveTo>
                  <a:cubicBezTo>
                    <a:pt x="114" y="190"/>
                    <a:pt x="113" y="196"/>
                    <a:pt x="113" y="202"/>
                  </a:cubicBezTo>
                  <a:cubicBezTo>
                    <a:pt x="106" y="202"/>
                    <a:pt x="98" y="202"/>
                    <a:pt x="90" y="202"/>
                  </a:cubicBezTo>
                  <a:cubicBezTo>
                    <a:pt x="90" y="196"/>
                    <a:pt x="89" y="191"/>
                    <a:pt x="89" y="184"/>
                  </a:cubicBezTo>
                  <a:cubicBezTo>
                    <a:pt x="52" y="175"/>
                    <a:pt x="28" y="152"/>
                    <a:pt x="19" y="114"/>
                  </a:cubicBezTo>
                  <a:cubicBezTo>
                    <a:pt x="13" y="114"/>
                    <a:pt x="7" y="113"/>
                    <a:pt x="0" y="113"/>
                  </a:cubicBezTo>
                  <a:cubicBezTo>
                    <a:pt x="0" y="105"/>
                    <a:pt x="0" y="98"/>
                    <a:pt x="0" y="90"/>
                  </a:cubicBezTo>
                  <a:cubicBezTo>
                    <a:pt x="6" y="89"/>
                    <a:pt x="13" y="89"/>
                    <a:pt x="19" y="88"/>
                  </a:cubicBezTo>
                  <a:cubicBezTo>
                    <a:pt x="28" y="50"/>
                    <a:pt x="51" y="27"/>
                    <a:pt x="89" y="18"/>
                  </a:cubicBezTo>
                  <a:cubicBezTo>
                    <a:pt x="89" y="12"/>
                    <a:pt x="89" y="6"/>
                    <a:pt x="90" y="0"/>
                  </a:cubicBezTo>
                  <a:cubicBezTo>
                    <a:pt x="98" y="0"/>
                    <a:pt x="105" y="0"/>
                    <a:pt x="113" y="0"/>
                  </a:cubicBezTo>
                  <a:cubicBezTo>
                    <a:pt x="114" y="6"/>
                    <a:pt x="114" y="12"/>
                    <a:pt x="115" y="19"/>
                  </a:cubicBezTo>
                  <a:cubicBezTo>
                    <a:pt x="153" y="27"/>
                    <a:pt x="176" y="51"/>
                    <a:pt x="184" y="88"/>
                  </a:cubicBezTo>
                  <a:cubicBezTo>
                    <a:pt x="190" y="89"/>
                    <a:pt x="196" y="89"/>
                    <a:pt x="202" y="89"/>
                  </a:cubicBezTo>
                  <a:cubicBezTo>
                    <a:pt x="202" y="97"/>
                    <a:pt x="202" y="104"/>
                    <a:pt x="202" y="112"/>
                  </a:cubicBezTo>
                  <a:cubicBezTo>
                    <a:pt x="196" y="113"/>
                    <a:pt x="190" y="114"/>
                    <a:pt x="184" y="114"/>
                  </a:cubicBezTo>
                  <a:cubicBezTo>
                    <a:pt x="175" y="151"/>
                    <a:pt x="153" y="175"/>
                    <a:pt x="115" y="184"/>
                  </a:cubicBezTo>
                  <a:close/>
                  <a:moveTo>
                    <a:pt x="102" y="37"/>
                  </a:moveTo>
                  <a:cubicBezTo>
                    <a:pt x="66" y="37"/>
                    <a:pt x="37" y="65"/>
                    <a:pt x="37" y="102"/>
                  </a:cubicBezTo>
                  <a:cubicBezTo>
                    <a:pt x="37" y="138"/>
                    <a:pt x="66" y="166"/>
                    <a:pt x="102" y="166"/>
                  </a:cubicBezTo>
                  <a:cubicBezTo>
                    <a:pt x="138" y="165"/>
                    <a:pt x="166" y="137"/>
                    <a:pt x="166" y="102"/>
                  </a:cubicBezTo>
                  <a:cubicBezTo>
                    <a:pt x="166" y="66"/>
                    <a:pt x="138" y="37"/>
                    <a:pt x="10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4"/>
            <p:cNvSpPr/>
            <p:nvPr/>
          </p:nvSpPr>
          <p:spPr>
            <a:xfrm>
              <a:off x="4558320" y="2612160"/>
              <a:ext cx="388080" cy="3888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89" h="89">
                  <a:moveTo>
                    <a:pt x="45" y="0"/>
                  </a:moveTo>
                  <a:cubicBezTo>
                    <a:pt x="69" y="0"/>
                    <a:pt x="89" y="19"/>
                    <a:pt x="89" y="44"/>
                  </a:cubicBezTo>
                  <a:cubicBezTo>
                    <a:pt x="89" y="69"/>
                    <a:pt x="69" y="89"/>
                    <a:pt x="44" y="88"/>
                  </a:cubicBezTo>
                  <a:cubicBezTo>
                    <a:pt x="20" y="88"/>
                    <a:pt x="0" y="69"/>
                    <a:pt x="0" y="44"/>
                  </a:cubicBezTo>
                  <a:cubicBezTo>
                    <a:pt x="0" y="20"/>
                    <a:pt x="20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矩形 22"/>
          <p:cNvSpPr/>
          <p:nvPr/>
        </p:nvSpPr>
        <p:spPr>
          <a:xfrm>
            <a:off x="4069080" y="45244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整体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24"/>
          <p:cNvSpPr/>
          <p:nvPr/>
        </p:nvSpPr>
        <p:spPr>
          <a:xfrm>
            <a:off x="4069080" y="49150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现状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25"/>
          <p:cNvSpPr/>
          <p:nvPr/>
        </p:nvSpPr>
        <p:spPr>
          <a:xfrm>
            <a:off x="4054680" y="534996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标概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3"/>
          <p:cNvSpPr/>
          <p:nvPr/>
        </p:nvSpPr>
        <p:spPr>
          <a:xfrm>
            <a:off x="4174200" y="38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18"/>
          <p:cNvSpPr/>
          <p:nvPr/>
        </p:nvSpPr>
        <p:spPr>
          <a:xfrm>
            <a:off x="6865920" y="2209680"/>
            <a:ext cx="1219320" cy="121932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19"/>
          <p:cNvSpPr/>
          <p:nvPr/>
        </p:nvSpPr>
        <p:spPr>
          <a:xfrm>
            <a:off x="7209000" y="2463840"/>
            <a:ext cx="549000" cy="711000"/>
          </a:xfrm>
          <a:custGeom>
            <a:avLst/>
            <a:gdLst>
              <a:gd name="textAreaLeft" fmla="*/ 0 w 549000"/>
              <a:gd name="textAreaRight" fmla="*/ 549360 w 54900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12" h="274">
                <a:moveTo>
                  <a:pt x="212" y="257"/>
                </a:moveTo>
                <a:cubicBezTo>
                  <a:pt x="212" y="266"/>
                  <a:pt x="205" y="274"/>
                  <a:pt x="196" y="274"/>
                </a:cubicBezTo>
                <a:cubicBezTo>
                  <a:pt x="17" y="274"/>
                  <a:pt x="17" y="274"/>
                  <a:pt x="17" y="274"/>
                </a:cubicBezTo>
                <a:cubicBezTo>
                  <a:pt x="7" y="274"/>
                  <a:pt x="0" y="266"/>
                  <a:pt x="0" y="25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8"/>
                  <a:pt x="7" y="0"/>
                  <a:pt x="17" y="0"/>
                </a:cubicBezTo>
                <a:cubicBezTo>
                  <a:pt x="196" y="0"/>
                  <a:pt x="196" y="0"/>
                  <a:pt x="196" y="0"/>
                </a:cubicBezTo>
                <a:cubicBezTo>
                  <a:pt x="205" y="0"/>
                  <a:pt x="212" y="8"/>
                  <a:pt x="212" y="17"/>
                </a:cubicBezTo>
                <a:lnTo>
                  <a:pt x="212" y="2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0"/>
          <p:cNvSpPr/>
          <p:nvPr/>
        </p:nvSpPr>
        <p:spPr>
          <a:xfrm>
            <a:off x="7267680" y="2543040"/>
            <a:ext cx="430200" cy="551160"/>
          </a:xfrm>
          <a:custGeom>
            <a:avLst/>
            <a:gdLst>
              <a:gd name="textAreaLeft" fmla="*/ 0 w 430200"/>
              <a:gd name="textAreaRight" fmla="*/ 430560 w 430200"/>
              <a:gd name="textAreaTop" fmla="*/ 0 h 551160"/>
              <a:gd name="textAreaBottom" fmla="*/ 551520 h 551160"/>
            </a:gdLst>
            <a:ahLst/>
            <a:rect l="textAreaLeft" t="textAreaTop" r="textAreaRight" b="textAreaBottom"/>
            <a:pathLst>
              <a:path w="166" h="212">
                <a:moveTo>
                  <a:pt x="166" y="199"/>
                </a:moveTo>
                <a:cubicBezTo>
                  <a:pt x="166" y="206"/>
                  <a:pt x="160" y="212"/>
                  <a:pt x="153" y="212"/>
                </a:cubicBezTo>
                <a:cubicBezTo>
                  <a:pt x="13" y="212"/>
                  <a:pt x="13" y="212"/>
                  <a:pt x="13" y="212"/>
                </a:cubicBezTo>
                <a:cubicBezTo>
                  <a:pt x="6" y="212"/>
                  <a:pt x="0" y="206"/>
                  <a:pt x="0" y="19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5"/>
                  <a:pt x="6" y="0"/>
                  <a:pt x="1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60" y="0"/>
                  <a:pt x="166" y="5"/>
                  <a:pt x="166" y="13"/>
                </a:cubicBezTo>
                <a:lnTo>
                  <a:pt x="166" y="199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1"/>
          <p:cNvSpPr/>
          <p:nvPr/>
        </p:nvSpPr>
        <p:spPr>
          <a:xfrm>
            <a:off x="7400880" y="2614680"/>
            <a:ext cx="250920" cy="28440"/>
          </a:xfrm>
          <a:custGeom>
            <a:avLst/>
            <a:gdLst>
              <a:gd name="textAreaLeft" fmla="*/ 0 w 250920"/>
              <a:gd name="textAreaRight" fmla="*/ 251280 w 2509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97" h="11">
                <a:moveTo>
                  <a:pt x="97" y="8"/>
                </a:moveTo>
                <a:cubicBezTo>
                  <a:pt x="97" y="10"/>
                  <a:pt x="95" y="11"/>
                  <a:pt x="93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2" y="11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1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1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22"/>
          <p:cNvSpPr/>
          <p:nvPr/>
        </p:nvSpPr>
        <p:spPr>
          <a:xfrm>
            <a:off x="7321680" y="2600280"/>
            <a:ext cx="58680" cy="58680"/>
          </a:xfrm>
          <a:custGeom>
            <a:avLst/>
            <a:gdLst>
              <a:gd name="textAreaLeft" fmla="*/ 0 w 58680"/>
              <a:gd name="textAreaRight" fmla="*/ 59040 w 58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2" h="22">
                <a:moveTo>
                  <a:pt x="22" y="17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7"/>
                </a:cubicBezTo>
                <a:cubicBezTo>
                  <a:pt x="0" y="4"/>
                  <a:pt x="0" y="4"/>
                  <a:pt x="0" y="4"/>
                </a:cubicBezTo>
                <a:cubicBezTo>
                  <a:pt x="0" y="1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1"/>
                  <a:pt x="22" y="4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23"/>
          <p:cNvSpPr/>
          <p:nvPr/>
        </p:nvSpPr>
        <p:spPr>
          <a:xfrm>
            <a:off x="7400880" y="2735280"/>
            <a:ext cx="250920" cy="30240"/>
          </a:xfrm>
          <a:custGeom>
            <a:avLst/>
            <a:gdLst>
              <a:gd name="textAreaLeft" fmla="*/ 0 w 250920"/>
              <a:gd name="textAreaRight" fmla="*/ 251280 w 25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97" h="12">
                <a:moveTo>
                  <a:pt x="97" y="8"/>
                </a:moveTo>
                <a:cubicBezTo>
                  <a:pt x="97" y="10"/>
                  <a:pt x="95" y="12"/>
                  <a:pt x="93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2" y="12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2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24"/>
          <p:cNvSpPr/>
          <p:nvPr/>
        </p:nvSpPr>
        <p:spPr>
          <a:xfrm>
            <a:off x="7321680" y="2722680"/>
            <a:ext cx="58680" cy="56880"/>
          </a:xfrm>
          <a:custGeom>
            <a:avLst/>
            <a:gdLst>
              <a:gd name="textAreaLeft" fmla="*/ 0 w 58680"/>
              <a:gd name="textAreaRight" fmla="*/ 59040 w 586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4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25"/>
          <p:cNvSpPr/>
          <p:nvPr/>
        </p:nvSpPr>
        <p:spPr>
          <a:xfrm>
            <a:off x="7400880" y="2813040"/>
            <a:ext cx="250920" cy="31680"/>
          </a:xfrm>
          <a:custGeom>
            <a:avLst/>
            <a:gdLst>
              <a:gd name="textAreaLeft" fmla="*/ 0 w 250920"/>
              <a:gd name="textAreaRight" fmla="*/ 251280 w 250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7" h="12">
                <a:moveTo>
                  <a:pt x="97" y="8"/>
                </a:moveTo>
                <a:cubicBezTo>
                  <a:pt x="97" y="10"/>
                  <a:pt x="95" y="12"/>
                  <a:pt x="93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2" y="12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2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26"/>
          <p:cNvSpPr/>
          <p:nvPr/>
        </p:nvSpPr>
        <p:spPr>
          <a:xfrm>
            <a:off x="7321680" y="280044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4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27"/>
          <p:cNvSpPr/>
          <p:nvPr/>
        </p:nvSpPr>
        <p:spPr>
          <a:xfrm>
            <a:off x="7400880" y="2890800"/>
            <a:ext cx="250920" cy="31680"/>
          </a:xfrm>
          <a:custGeom>
            <a:avLst/>
            <a:gdLst>
              <a:gd name="textAreaLeft" fmla="*/ 0 w 250920"/>
              <a:gd name="textAreaRight" fmla="*/ 251280 w 250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7" h="12">
                <a:moveTo>
                  <a:pt x="97" y="8"/>
                </a:moveTo>
                <a:cubicBezTo>
                  <a:pt x="97" y="10"/>
                  <a:pt x="95" y="12"/>
                  <a:pt x="93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2" y="12"/>
                  <a:pt x="0" y="10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2"/>
                  <a:pt x="97" y="4"/>
                </a:cubicBezTo>
                <a:lnTo>
                  <a:pt x="97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28"/>
          <p:cNvSpPr/>
          <p:nvPr/>
        </p:nvSpPr>
        <p:spPr>
          <a:xfrm>
            <a:off x="7321680" y="287820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0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0"/>
                  <a:pt x="0" y="1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4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29"/>
          <p:cNvSpPr/>
          <p:nvPr/>
        </p:nvSpPr>
        <p:spPr>
          <a:xfrm>
            <a:off x="7400880" y="2971800"/>
            <a:ext cx="250920" cy="28440"/>
          </a:xfrm>
          <a:custGeom>
            <a:avLst/>
            <a:gdLst>
              <a:gd name="textAreaLeft" fmla="*/ 0 w 250920"/>
              <a:gd name="textAreaRight" fmla="*/ 251280 w 2509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97" h="11">
                <a:moveTo>
                  <a:pt x="97" y="7"/>
                </a:moveTo>
                <a:cubicBezTo>
                  <a:pt x="97" y="10"/>
                  <a:pt x="95" y="11"/>
                  <a:pt x="93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2" y="11"/>
                  <a:pt x="0" y="10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5" y="0"/>
                  <a:pt x="97" y="1"/>
                  <a:pt x="97" y="3"/>
                </a:cubicBezTo>
                <a:lnTo>
                  <a:pt x="97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0"/>
          <p:cNvSpPr/>
          <p:nvPr/>
        </p:nvSpPr>
        <p:spPr>
          <a:xfrm>
            <a:off x="7321680" y="2955960"/>
            <a:ext cx="58680" cy="57240"/>
          </a:xfrm>
          <a:custGeom>
            <a:avLst/>
            <a:gdLst>
              <a:gd name="textAreaLeft" fmla="*/ 0 w 58680"/>
              <a:gd name="textAreaRight" fmla="*/ 59040 w 58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2">
                <a:moveTo>
                  <a:pt x="22" y="18"/>
                </a:moveTo>
                <a:cubicBezTo>
                  <a:pt x="22" y="21"/>
                  <a:pt x="20" y="22"/>
                  <a:pt x="18" y="22"/>
                </a:cubicBezTo>
                <a:cubicBezTo>
                  <a:pt x="4" y="22"/>
                  <a:pt x="4" y="22"/>
                  <a:pt x="4" y="22"/>
                </a:cubicBezTo>
                <a:cubicBezTo>
                  <a:pt x="2" y="22"/>
                  <a:pt x="0" y="21"/>
                  <a:pt x="0" y="18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2" y="2"/>
                  <a:pt x="22" y="5"/>
                </a:cubicBezTo>
                <a:lnTo>
                  <a:pt x="2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1"/>
          <p:cNvSpPr/>
          <p:nvPr/>
        </p:nvSpPr>
        <p:spPr>
          <a:xfrm>
            <a:off x="7380360" y="2454120"/>
            <a:ext cx="195120" cy="10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76" h="39">
                <a:moveTo>
                  <a:pt x="76" y="25"/>
                </a:moveTo>
                <a:cubicBezTo>
                  <a:pt x="76" y="33"/>
                  <a:pt x="70" y="39"/>
                  <a:pt x="63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6" y="39"/>
                  <a:pt x="0" y="33"/>
                  <a:pt x="0" y="2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70" y="0"/>
                  <a:pt x="76" y="6"/>
                  <a:pt x="76" y="13"/>
                </a:cubicBezTo>
                <a:lnTo>
                  <a:pt x="7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3"/>
          <p:cNvSpPr/>
          <p:nvPr/>
        </p:nvSpPr>
        <p:spPr>
          <a:xfrm>
            <a:off x="6903000" y="3927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16"/>
          <p:cNvSpPr/>
          <p:nvPr/>
        </p:nvSpPr>
        <p:spPr>
          <a:xfrm>
            <a:off x="6621480" y="4516560"/>
            <a:ext cx="1743120" cy="460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26"/>
          <p:cNvSpPr/>
          <p:nvPr/>
        </p:nvSpPr>
        <p:spPr>
          <a:xfrm>
            <a:off x="6812280" y="4545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方案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28"/>
          <p:cNvSpPr/>
          <p:nvPr/>
        </p:nvSpPr>
        <p:spPr>
          <a:xfrm>
            <a:off x="6812280" y="49356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研究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29"/>
          <p:cNvSpPr/>
          <p:nvPr/>
        </p:nvSpPr>
        <p:spPr>
          <a:xfrm>
            <a:off x="6797880" y="536904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运行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5"/>
          <p:cNvSpPr/>
          <p:nvPr/>
        </p:nvSpPr>
        <p:spPr>
          <a:xfrm>
            <a:off x="9423360" y="2224080"/>
            <a:ext cx="1219320" cy="121932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6"/>
          <p:cNvSpPr/>
          <p:nvPr/>
        </p:nvSpPr>
        <p:spPr>
          <a:xfrm>
            <a:off x="9774360" y="2806560"/>
            <a:ext cx="560160" cy="320760"/>
          </a:xfrm>
          <a:custGeom>
            <a:avLst/>
            <a:gdLst>
              <a:gd name="textAreaLeft" fmla="*/ 0 w 560160"/>
              <a:gd name="textAreaRight" fmla="*/ 560520 w 56016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" h="123">
                <a:moveTo>
                  <a:pt x="216" y="81"/>
                </a:moveTo>
                <a:cubicBezTo>
                  <a:pt x="216" y="89"/>
                  <a:pt x="212" y="101"/>
                  <a:pt x="208" y="108"/>
                </a:cubicBezTo>
                <a:cubicBezTo>
                  <a:pt x="208" y="108"/>
                  <a:pt x="199" y="123"/>
                  <a:pt x="116" y="123"/>
                </a:cubicBezTo>
                <a:cubicBezTo>
                  <a:pt x="34" y="123"/>
                  <a:pt x="12" y="105"/>
                  <a:pt x="12" y="105"/>
                </a:cubicBezTo>
                <a:cubicBezTo>
                  <a:pt x="5" y="100"/>
                  <a:pt x="0" y="89"/>
                  <a:pt x="0" y="8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6"/>
                  <a:pt x="7" y="0"/>
                  <a:pt x="15" y="0"/>
                </a:cubicBezTo>
                <a:cubicBezTo>
                  <a:pt x="201" y="0"/>
                  <a:pt x="201" y="0"/>
                  <a:pt x="201" y="0"/>
                </a:cubicBezTo>
                <a:cubicBezTo>
                  <a:pt x="209" y="0"/>
                  <a:pt x="216" y="6"/>
                  <a:pt x="216" y="15"/>
                </a:cubicBezTo>
                <a:lnTo>
                  <a:pt x="21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7"/>
          <p:cNvSpPr/>
          <p:nvPr/>
        </p:nvSpPr>
        <p:spPr>
          <a:xfrm>
            <a:off x="9524880" y="2593800"/>
            <a:ext cx="1013040" cy="35424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391" h="136">
                <a:moveTo>
                  <a:pt x="8" y="60"/>
                </a:moveTo>
                <a:cubicBezTo>
                  <a:pt x="0" y="62"/>
                  <a:pt x="0" y="66"/>
                  <a:pt x="8" y="69"/>
                </a:cubicBezTo>
                <a:cubicBezTo>
                  <a:pt x="193" y="134"/>
                  <a:pt x="193" y="134"/>
                  <a:pt x="193" y="134"/>
                </a:cubicBezTo>
                <a:cubicBezTo>
                  <a:pt x="201" y="136"/>
                  <a:pt x="213" y="136"/>
                  <a:pt x="221" y="133"/>
                </a:cubicBezTo>
                <a:cubicBezTo>
                  <a:pt x="384" y="73"/>
                  <a:pt x="384" y="73"/>
                  <a:pt x="384" y="73"/>
                </a:cubicBezTo>
                <a:cubicBezTo>
                  <a:pt x="391" y="70"/>
                  <a:pt x="391" y="66"/>
                  <a:pt x="384" y="63"/>
                </a:cubicBezTo>
                <a:cubicBezTo>
                  <a:pt x="210" y="2"/>
                  <a:pt x="210" y="2"/>
                  <a:pt x="210" y="2"/>
                </a:cubicBezTo>
                <a:cubicBezTo>
                  <a:pt x="202" y="0"/>
                  <a:pt x="189" y="0"/>
                  <a:pt x="182" y="2"/>
                </a:cubicBezTo>
                <a:lnTo>
                  <a:pt x="8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8"/>
          <p:cNvSpPr/>
          <p:nvPr/>
        </p:nvSpPr>
        <p:spPr>
          <a:xfrm>
            <a:off x="10334520" y="2838600"/>
            <a:ext cx="38160" cy="244440"/>
          </a:xfrm>
          <a:custGeom>
            <a:avLst/>
            <a:gdLst>
              <a:gd name="textAreaLeft" fmla="*/ 0 w 38160"/>
              <a:gd name="textAreaRight" fmla="*/ 38520 w 381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" h="94">
                <a:moveTo>
                  <a:pt x="15" y="79"/>
                </a:moveTo>
                <a:cubicBezTo>
                  <a:pt x="15" y="87"/>
                  <a:pt x="11" y="94"/>
                  <a:pt x="7" y="94"/>
                </a:cubicBezTo>
                <a:cubicBezTo>
                  <a:pt x="3" y="94"/>
                  <a:pt x="0" y="87"/>
                  <a:pt x="0" y="79"/>
                </a:cubicBezTo>
                <a:cubicBezTo>
                  <a:pt x="0" y="6"/>
                  <a:pt x="0" y="6"/>
                  <a:pt x="0" y="6"/>
                </a:cubicBezTo>
                <a:cubicBezTo>
                  <a:pt x="15" y="0"/>
                  <a:pt x="15" y="0"/>
                  <a:pt x="15" y="0"/>
                </a:cubicBezTo>
                <a:lnTo>
                  <a:pt x="15" y="7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596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9"/>
          <p:cNvSpPr/>
          <p:nvPr/>
        </p:nvSpPr>
        <p:spPr>
          <a:xfrm>
            <a:off x="10302840" y="3057480"/>
            <a:ext cx="92160" cy="71640"/>
          </a:xfrm>
          <a:custGeom>
            <a:avLst/>
            <a:gdLst>
              <a:gd name="textAreaLeft" fmla="*/ 0 w 92160"/>
              <a:gd name="textAreaRight" fmla="*/ 92520 w 921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6" h="28">
                <a:moveTo>
                  <a:pt x="36" y="14"/>
                </a:moveTo>
                <a:cubicBezTo>
                  <a:pt x="36" y="22"/>
                  <a:pt x="30" y="28"/>
                  <a:pt x="22" y="28"/>
                </a:cubicBezTo>
                <a:cubicBezTo>
                  <a:pt x="15" y="28"/>
                  <a:pt x="15" y="28"/>
                  <a:pt x="15" y="28"/>
                </a:cubicBezTo>
                <a:cubicBezTo>
                  <a:pt x="7" y="28"/>
                  <a:pt x="0" y="22"/>
                  <a:pt x="0" y="14"/>
                </a:cubicBezTo>
                <a:cubicBezTo>
                  <a:pt x="0" y="7"/>
                  <a:pt x="7" y="0"/>
                  <a:pt x="1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6" y="7"/>
                  <a:pt x="36" y="1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596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3"/>
          <p:cNvSpPr/>
          <p:nvPr/>
        </p:nvSpPr>
        <p:spPr>
          <a:xfrm>
            <a:off x="9459000" y="3948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9"/>
          <p:cNvSpPr/>
          <p:nvPr/>
        </p:nvSpPr>
        <p:spPr>
          <a:xfrm>
            <a:off x="9177480" y="4537080"/>
            <a:ext cx="1742760" cy="460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30"/>
          <p:cNvSpPr/>
          <p:nvPr/>
        </p:nvSpPr>
        <p:spPr>
          <a:xfrm>
            <a:off x="9353880" y="45640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研究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32"/>
          <p:cNvSpPr/>
          <p:nvPr/>
        </p:nvSpPr>
        <p:spPr>
          <a:xfrm>
            <a:off x="9353880" y="4954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实践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33"/>
          <p:cNvSpPr/>
          <p:nvPr/>
        </p:nvSpPr>
        <p:spPr>
          <a:xfrm>
            <a:off x="9341280" y="53881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整体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6"/>
          <p:cNvSpPr/>
          <p:nvPr/>
        </p:nvSpPr>
        <p:spPr>
          <a:xfrm>
            <a:off x="1337040" y="534996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来源概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组合 99"/>
          <p:cNvGrpSpPr/>
          <p:nvPr/>
        </p:nvGrpSpPr>
        <p:grpSpPr>
          <a:xfrm>
            <a:off x="3813120" y="1739880"/>
            <a:ext cx="4572000" cy="200160"/>
            <a:chOff x="3813120" y="1739880"/>
            <a:chExt cx="4572000" cy="200160"/>
          </a:xfrm>
        </p:grpSpPr>
        <p:sp>
          <p:nvSpPr>
            <p:cNvPr id="1409" name="Freeform 5"/>
            <p:cNvSpPr/>
            <p:nvPr/>
          </p:nvSpPr>
          <p:spPr>
            <a:xfrm>
              <a:off x="6170400" y="1739880"/>
              <a:ext cx="2214720" cy="20016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89" h="50">
                  <a:moveTo>
                    <a:pt x="589" y="21"/>
                  </a:moveTo>
                  <a:cubicBezTo>
                    <a:pt x="512" y="21"/>
                    <a:pt x="512" y="21"/>
                    <a:pt x="512" y="21"/>
                  </a:cubicBezTo>
                  <a:cubicBezTo>
                    <a:pt x="512" y="21"/>
                    <a:pt x="512" y="21"/>
                    <a:pt x="512" y="21"/>
                  </a:cubicBezTo>
                  <a:cubicBezTo>
                    <a:pt x="220" y="22"/>
                    <a:pt x="220" y="22"/>
                    <a:pt x="220" y="22"/>
                  </a:cubicBezTo>
                  <a:cubicBezTo>
                    <a:pt x="220" y="17"/>
                    <a:pt x="214" y="14"/>
                    <a:pt x="208" y="14"/>
                  </a:cubicBezTo>
                  <a:cubicBezTo>
                    <a:pt x="201" y="14"/>
                    <a:pt x="196" y="17"/>
                    <a:pt x="195" y="22"/>
                  </a:cubicBezTo>
                  <a:cubicBezTo>
                    <a:pt x="159" y="22"/>
                    <a:pt x="159" y="22"/>
                    <a:pt x="159" y="22"/>
                  </a:cubicBezTo>
                  <a:cubicBezTo>
                    <a:pt x="169" y="20"/>
                    <a:pt x="179" y="17"/>
                    <a:pt x="187" y="13"/>
                  </a:cubicBezTo>
                  <a:cubicBezTo>
                    <a:pt x="125" y="32"/>
                    <a:pt x="63" y="28"/>
                    <a:pt x="17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29" y="18"/>
                    <a:pt x="48" y="29"/>
                    <a:pt x="103" y="29"/>
                  </a:cubicBezTo>
                  <a:cubicBezTo>
                    <a:pt x="109" y="29"/>
                    <a:pt x="124" y="28"/>
                    <a:pt x="140" y="26"/>
                  </a:cubicBezTo>
                  <a:cubicBezTo>
                    <a:pt x="196" y="26"/>
                    <a:pt x="196" y="26"/>
                    <a:pt x="196" y="26"/>
                  </a:cubicBezTo>
                  <a:cubicBezTo>
                    <a:pt x="198" y="29"/>
                    <a:pt x="203" y="32"/>
                    <a:pt x="208" y="32"/>
                  </a:cubicBezTo>
                  <a:cubicBezTo>
                    <a:pt x="213" y="32"/>
                    <a:pt x="217" y="29"/>
                    <a:pt x="219" y="26"/>
                  </a:cubicBezTo>
                  <a:cubicBezTo>
                    <a:pt x="515" y="28"/>
                    <a:pt x="515" y="28"/>
                    <a:pt x="515" y="28"/>
                  </a:cubicBezTo>
                  <a:cubicBezTo>
                    <a:pt x="529" y="28"/>
                    <a:pt x="534" y="38"/>
                    <a:pt x="542" y="50"/>
                  </a:cubicBezTo>
                  <a:cubicBezTo>
                    <a:pt x="538" y="38"/>
                    <a:pt x="556" y="28"/>
                    <a:pt x="589" y="2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6321240" y="1744560"/>
              <a:ext cx="450720" cy="7632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" h="19">
                  <a:moveTo>
                    <a:pt x="11" y="9"/>
                  </a:moveTo>
                  <a:cubicBezTo>
                    <a:pt x="27" y="16"/>
                    <a:pt x="44" y="18"/>
                    <a:pt x="62" y="19"/>
                  </a:cubicBezTo>
                  <a:cubicBezTo>
                    <a:pt x="76" y="19"/>
                    <a:pt x="105" y="16"/>
                    <a:pt x="120" y="10"/>
                  </a:cubicBezTo>
                  <a:cubicBezTo>
                    <a:pt x="80" y="19"/>
                    <a:pt x="48" y="15"/>
                    <a:pt x="16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11"/>
                    <a:pt x="6" y="11"/>
                    <a:pt x="6" y="11"/>
                  </a:cubicBezTo>
                  <a:lnTo>
                    <a:pt x="11" y="9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7"/>
            <p:cNvSpPr/>
            <p:nvPr/>
          </p:nvSpPr>
          <p:spPr>
            <a:xfrm>
              <a:off x="5906880" y="1747800"/>
              <a:ext cx="384120" cy="109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42" h="69">
                  <a:moveTo>
                    <a:pt x="216" y="46"/>
                  </a:moveTo>
                  <a:lnTo>
                    <a:pt x="121" y="0"/>
                  </a:lnTo>
                  <a:lnTo>
                    <a:pt x="26" y="46"/>
                  </a:lnTo>
                  <a:lnTo>
                    <a:pt x="17" y="41"/>
                  </a:lnTo>
                  <a:lnTo>
                    <a:pt x="0" y="46"/>
                  </a:lnTo>
                  <a:lnTo>
                    <a:pt x="41" y="69"/>
                  </a:lnTo>
                  <a:lnTo>
                    <a:pt x="121" y="31"/>
                  </a:lnTo>
                  <a:lnTo>
                    <a:pt x="204" y="69"/>
                  </a:lnTo>
                  <a:lnTo>
                    <a:pt x="242" y="46"/>
                  </a:lnTo>
                  <a:lnTo>
                    <a:pt x="228" y="41"/>
                  </a:lnTo>
                  <a:lnTo>
                    <a:pt x="216" y="46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"/>
            <p:cNvSpPr/>
            <p:nvPr/>
          </p:nvSpPr>
          <p:spPr>
            <a:xfrm>
              <a:off x="5430600" y="1744560"/>
              <a:ext cx="446040" cy="763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9" h="19">
                  <a:moveTo>
                    <a:pt x="57" y="19"/>
                  </a:moveTo>
                  <a:cubicBezTo>
                    <a:pt x="75" y="18"/>
                    <a:pt x="92" y="16"/>
                    <a:pt x="109" y="9"/>
                  </a:cubicBezTo>
                  <a:cubicBezTo>
                    <a:pt x="113" y="11"/>
                    <a:pt x="113" y="11"/>
                    <a:pt x="113" y="11"/>
                  </a:cubicBezTo>
                  <a:cubicBezTo>
                    <a:pt x="119" y="9"/>
                    <a:pt x="119" y="9"/>
                    <a:pt x="119" y="9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71" y="15"/>
                    <a:pt x="40" y="19"/>
                    <a:pt x="0" y="10"/>
                  </a:cubicBezTo>
                  <a:cubicBezTo>
                    <a:pt x="15" y="16"/>
                    <a:pt x="44" y="19"/>
                    <a:pt x="57" y="19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9"/>
            <p:cNvSpPr/>
            <p:nvPr/>
          </p:nvSpPr>
          <p:spPr>
            <a:xfrm>
              <a:off x="3813120" y="1739880"/>
              <a:ext cx="2214720" cy="20016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89" h="50">
                  <a:moveTo>
                    <a:pt x="583" y="12"/>
                  </a:moveTo>
                  <a:cubicBezTo>
                    <a:pt x="589" y="9"/>
                    <a:pt x="589" y="9"/>
                    <a:pt x="589" y="9"/>
                  </a:cubicBezTo>
                  <a:cubicBezTo>
                    <a:pt x="573" y="0"/>
                    <a:pt x="573" y="0"/>
                    <a:pt x="573" y="0"/>
                  </a:cubicBezTo>
                  <a:cubicBezTo>
                    <a:pt x="526" y="28"/>
                    <a:pt x="465" y="32"/>
                    <a:pt x="403" y="13"/>
                  </a:cubicBezTo>
                  <a:cubicBezTo>
                    <a:pt x="411" y="17"/>
                    <a:pt x="420" y="20"/>
                    <a:pt x="431" y="22"/>
                  </a:cubicBezTo>
                  <a:cubicBezTo>
                    <a:pt x="395" y="22"/>
                    <a:pt x="395" y="22"/>
                    <a:pt x="395" y="22"/>
                  </a:cubicBezTo>
                  <a:cubicBezTo>
                    <a:pt x="394" y="17"/>
                    <a:pt x="389" y="14"/>
                    <a:pt x="382" y="14"/>
                  </a:cubicBezTo>
                  <a:cubicBezTo>
                    <a:pt x="375" y="14"/>
                    <a:pt x="370" y="17"/>
                    <a:pt x="370" y="22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3" y="28"/>
                    <a:pt x="52" y="38"/>
                    <a:pt x="48" y="50"/>
                  </a:cubicBezTo>
                  <a:cubicBezTo>
                    <a:pt x="56" y="38"/>
                    <a:pt x="61" y="28"/>
                    <a:pt x="74" y="28"/>
                  </a:cubicBezTo>
                  <a:cubicBezTo>
                    <a:pt x="370" y="26"/>
                    <a:pt x="370" y="26"/>
                    <a:pt x="370" y="26"/>
                  </a:cubicBezTo>
                  <a:cubicBezTo>
                    <a:pt x="372" y="29"/>
                    <a:pt x="377" y="32"/>
                    <a:pt x="382" y="32"/>
                  </a:cubicBezTo>
                  <a:cubicBezTo>
                    <a:pt x="387" y="32"/>
                    <a:pt x="392" y="29"/>
                    <a:pt x="394" y="26"/>
                  </a:cubicBezTo>
                  <a:cubicBezTo>
                    <a:pt x="449" y="26"/>
                    <a:pt x="449" y="26"/>
                    <a:pt x="449" y="26"/>
                  </a:cubicBezTo>
                  <a:cubicBezTo>
                    <a:pt x="465" y="28"/>
                    <a:pt x="480" y="29"/>
                    <a:pt x="487" y="29"/>
                  </a:cubicBezTo>
                  <a:cubicBezTo>
                    <a:pt x="541" y="29"/>
                    <a:pt x="561" y="18"/>
                    <a:pt x="578" y="9"/>
                  </a:cubicBezTo>
                  <a:lnTo>
                    <a:pt x="583" y="12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0"/>
            <p:cNvSpPr/>
            <p:nvPr/>
          </p:nvSpPr>
          <p:spPr>
            <a:xfrm>
              <a:off x="6057720" y="1812960"/>
              <a:ext cx="87120" cy="34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9">
                  <a:moveTo>
                    <a:pt x="12" y="2"/>
                  </a:move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2" y="2"/>
                  </a:ln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组合 27"/>
          <p:cNvGrpSpPr/>
          <p:nvPr/>
        </p:nvGrpSpPr>
        <p:grpSpPr>
          <a:xfrm>
            <a:off x="4984920" y="2738520"/>
            <a:ext cx="2241360" cy="2373120"/>
            <a:chOff x="4984920" y="2738520"/>
            <a:chExt cx="2241360" cy="2373120"/>
          </a:xfrm>
        </p:grpSpPr>
        <p:sp>
          <p:nvSpPr>
            <p:cNvPr id="1416" name="等腰三角形 28"/>
            <p:cNvSpPr/>
            <p:nvPr/>
          </p:nvSpPr>
          <p:spPr>
            <a:xfrm>
              <a:off x="498492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9"/>
            <p:cNvSpPr/>
            <p:nvPr/>
          </p:nvSpPr>
          <p:spPr>
            <a:xfrm>
              <a:off x="4984920" y="2840040"/>
              <a:ext cx="2241360" cy="22716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等腰三角形 30"/>
            <p:cNvSpPr/>
            <p:nvPr/>
          </p:nvSpPr>
          <p:spPr>
            <a:xfrm>
              <a:off x="525924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等腰三角形 31"/>
            <p:cNvSpPr/>
            <p:nvPr/>
          </p:nvSpPr>
          <p:spPr>
            <a:xfrm>
              <a:off x="553896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等腰三角形 32"/>
            <p:cNvSpPr/>
            <p:nvPr/>
          </p:nvSpPr>
          <p:spPr>
            <a:xfrm>
              <a:off x="581832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等腰三角形 40"/>
            <p:cNvSpPr/>
            <p:nvPr/>
          </p:nvSpPr>
          <p:spPr>
            <a:xfrm>
              <a:off x="609804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等腰三角形 41"/>
            <p:cNvSpPr/>
            <p:nvPr/>
          </p:nvSpPr>
          <p:spPr>
            <a:xfrm>
              <a:off x="637740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等腰三角形 42"/>
            <p:cNvSpPr/>
            <p:nvPr/>
          </p:nvSpPr>
          <p:spPr>
            <a:xfrm>
              <a:off x="665676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等腰三角形 43"/>
            <p:cNvSpPr/>
            <p:nvPr/>
          </p:nvSpPr>
          <p:spPr>
            <a:xfrm>
              <a:off x="693648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矩形 3"/>
          <p:cNvSpPr/>
          <p:nvPr/>
        </p:nvSpPr>
        <p:spPr>
          <a:xfrm>
            <a:off x="5505840" y="2946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4"/>
          <p:cNvSpPr/>
          <p:nvPr/>
        </p:nvSpPr>
        <p:spPr>
          <a:xfrm>
            <a:off x="5423400" y="3622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阐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矩形 46"/>
          <p:cNvSpPr/>
          <p:nvPr/>
        </p:nvSpPr>
        <p:spPr>
          <a:xfrm>
            <a:off x="5224320" y="3537000"/>
            <a:ext cx="1743120" cy="460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矩形 6"/>
          <p:cNvSpPr/>
          <p:nvPr/>
        </p:nvSpPr>
        <p:spPr>
          <a:xfrm>
            <a:off x="5423400" y="40132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概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5"/>
          <p:cNvSpPr/>
          <p:nvPr/>
        </p:nvSpPr>
        <p:spPr>
          <a:xfrm>
            <a:off x="5486400" y="1293840"/>
            <a:ext cx="1216080" cy="121752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6"/>
          <p:cNvSpPr/>
          <p:nvPr/>
        </p:nvSpPr>
        <p:spPr>
          <a:xfrm>
            <a:off x="6051600" y="1854360"/>
            <a:ext cx="10620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"/>
          <p:cNvSpPr/>
          <p:nvPr/>
        </p:nvSpPr>
        <p:spPr>
          <a:xfrm>
            <a:off x="5907240" y="1450800"/>
            <a:ext cx="396720" cy="901800"/>
          </a:xfrm>
          <a:custGeom>
            <a:avLst/>
            <a:gdLst>
              <a:gd name="textAreaLeft" fmla="*/ 0 w 396720"/>
              <a:gd name="textAreaRight" fmla="*/ 397080 w 3967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3" h="348">
                <a:moveTo>
                  <a:pt x="77" y="348"/>
                </a:moveTo>
                <a:cubicBezTo>
                  <a:pt x="34" y="348"/>
                  <a:pt x="0" y="272"/>
                  <a:pt x="0" y="174"/>
                </a:cubicBezTo>
                <a:cubicBezTo>
                  <a:pt x="0" y="77"/>
                  <a:pt x="34" y="0"/>
                  <a:pt x="77" y="0"/>
                </a:cubicBezTo>
                <a:cubicBezTo>
                  <a:pt x="120" y="0"/>
                  <a:pt x="153" y="77"/>
                  <a:pt x="153" y="174"/>
                </a:cubicBezTo>
                <a:cubicBezTo>
                  <a:pt x="153" y="272"/>
                  <a:pt x="120" y="348"/>
                  <a:pt x="77" y="348"/>
                </a:cubicBezTo>
                <a:close/>
                <a:moveTo>
                  <a:pt x="77" y="13"/>
                </a:moveTo>
                <a:cubicBezTo>
                  <a:pt x="42" y="13"/>
                  <a:pt x="13" y="87"/>
                  <a:pt x="13" y="174"/>
                </a:cubicBezTo>
                <a:cubicBezTo>
                  <a:pt x="13" y="262"/>
                  <a:pt x="42" y="336"/>
                  <a:pt x="77" y="336"/>
                </a:cubicBezTo>
                <a:cubicBezTo>
                  <a:pt x="111" y="336"/>
                  <a:pt x="141" y="262"/>
                  <a:pt x="141" y="174"/>
                </a:cubicBezTo>
                <a:cubicBezTo>
                  <a:pt x="141" y="87"/>
                  <a:pt x="111" y="13"/>
                  <a:pt x="7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"/>
          <p:cNvSpPr/>
          <p:nvPr/>
        </p:nvSpPr>
        <p:spPr>
          <a:xfrm>
            <a:off x="5656320" y="1704960"/>
            <a:ext cx="901800" cy="396720"/>
          </a:xfrm>
          <a:custGeom>
            <a:avLst/>
            <a:gdLst>
              <a:gd name="textAreaLeft" fmla="*/ 0 w 901800"/>
              <a:gd name="textAreaRight" fmla="*/ 902160 w 9018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48" h="153">
                <a:moveTo>
                  <a:pt x="174" y="153"/>
                </a:moveTo>
                <a:cubicBezTo>
                  <a:pt x="76" y="153"/>
                  <a:pt x="0" y="119"/>
                  <a:pt x="0" y="76"/>
                </a:cubicBezTo>
                <a:cubicBezTo>
                  <a:pt x="0" y="33"/>
                  <a:pt x="76" y="0"/>
                  <a:pt x="174" y="0"/>
                </a:cubicBezTo>
                <a:cubicBezTo>
                  <a:pt x="271" y="0"/>
                  <a:pt x="348" y="33"/>
                  <a:pt x="348" y="76"/>
                </a:cubicBezTo>
                <a:cubicBezTo>
                  <a:pt x="348" y="119"/>
                  <a:pt x="271" y="153"/>
                  <a:pt x="174" y="153"/>
                </a:cubicBezTo>
                <a:close/>
                <a:moveTo>
                  <a:pt x="174" y="12"/>
                </a:moveTo>
                <a:cubicBezTo>
                  <a:pt x="86" y="12"/>
                  <a:pt x="12" y="42"/>
                  <a:pt x="12" y="76"/>
                </a:cubicBezTo>
                <a:cubicBezTo>
                  <a:pt x="12" y="111"/>
                  <a:pt x="86" y="140"/>
                  <a:pt x="174" y="140"/>
                </a:cubicBezTo>
                <a:cubicBezTo>
                  <a:pt x="261" y="140"/>
                  <a:pt x="335" y="111"/>
                  <a:pt x="335" y="76"/>
                </a:cubicBezTo>
                <a:cubicBezTo>
                  <a:pt x="335" y="42"/>
                  <a:pt x="261" y="12"/>
                  <a:pt x="17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9"/>
          <p:cNvSpPr/>
          <p:nvPr/>
        </p:nvSpPr>
        <p:spPr>
          <a:xfrm>
            <a:off x="5746680" y="1552680"/>
            <a:ext cx="719280" cy="699840"/>
          </a:xfrm>
          <a:custGeom>
            <a:avLst/>
            <a:gdLst>
              <a:gd name="textAreaLeft" fmla="*/ 0 w 719280"/>
              <a:gd name="textAreaRight" fmla="*/ 719640 w 71928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278" h="270">
                <a:moveTo>
                  <a:pt x="229" y="270"/>
                </a:moveTo>
                <a:cubicBezTo>
                  <a:pt x="190" y="270"/>
                  <a:pt x="134" y="238"/>
                  <a:pt x="85" y="189"/>
                </a:cubicBezTo>
                <a:cubicBezTo>
                  <a:pt x="52" y="157"/>
                  <a:pt x="27" y="121"/>
                  <a:pt x="14" y="89"/>
                </a:cubicBezTo>
                <a:cubicBezTo>
                  <a:pt x="0" y="55"/>
                  <a:pt x="0" y="27"/>
                  <a:pt x="16" y="12"/>
                </a:cubicBezTo>
                <a:cubicBezTo>
                  <a:pt x="24" y="4"/>
                  <a:pt x="35" y="0"/>
                  <a:pt x="48" y="0"/>
                </a:cubicBezTo>
                <a:cubicBezTo>
                  <a:pt x="87" y="0"/>
                  <a:pt x="144" y="32"/>
                  <a:pt x="193" y="81"/>
                </a:cubicBezTo>
                <a:cubicBezTo>
                  <a:pt x="225" y="113"/>
                  <a:pt x="250" y="149"/>
                  <a:pt x="264" y="182"/>
                </a:cubicBezTo>
                <a:cubicBezTo>
                  <a:pt x="278" y="216"/>
                  <a:pt x="277" y="243"/>
                  <a:pt x="262" y="258"/>
                </a:cubicBezTo>
                <a:cubicBezTo>
                  <a:pt x="254" y="266"/>
                  <a:pt x="243" y="270"/>
                  <a:pt x="229" y="270"/>
                </a:cubicBezTo>
                <a:close/>
                <a:moveTo>
                  <a:pt x="48" y="13"/>
                </a:moveTo>
                <a:cubicBezTo>
                  <a:pt x="38" y="13"/>
                  <a:pt x="30" y="16"/>
                  <a:pt x="25" y="21"/>
                </a:cubicBezTo>
                <a:cubicBezTo>
                  <a:pt x="13" y="32"/>
                  <a:pt x="14" y="55"/>
                  <a:pt x="26" y="84"/>
                </a:cubicBezTo>
                <a:cubicBezTo>
                  <a:pt x="38" y="115"/>
                  <a:pt x="62" y="149"/>
                  <a:pt x="94" y="180"/>
                </a:cubicBezTo>
                <a:cubicBezTo>
                  <a:pt x="140" y="227"/>
                  <a:pt x="194" y="258"/>
                  <a:pt x="229" y="258"/>
                </a:cubicBezTo>
                <a:cubicBezTo>
                  <a:pt x="239" y="258"/>
                  <a:pt x="247" y="255"/>
                  <a:pt x="253" y="249"/>
                </a:cubicBezTo>
                <a:cubicBezTo>
                  <a:pt x="264" y="238"/>
                  <a:pt x="264" y="215"/>
                  <a:pt x="252" y="186"/>
                </a:cubicBezTo>
                <a:cubicBezTo>
                  <a:pt x="239" y="155"/>
                  <a:pt x="215" y="121"/>
                  <a:pt x="184" y="90"/>
                </a:cubicBezTo>
                <a:cubicBezTo>
                  <a:pt x="138" y="44"/>
                  <a:pt x="83" y="13"/>
                  <a:pt x="4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10"/>
          <p:cNvSpPr/>
          <p:nvPr/>
        </p:nvSpPr>
        <p:spPr>
          <a:xfrm>
            <a:off x="5746680" y="1552680"/>
            <a:ext cx="719280" cy="699840"/>
          </a:xfrm>
          <a:custGeom>
            <a:avLst/>
            <a:gdLst>
              <a:gd name="textAreaLeft" fmla="*/ 0 w 719280"/>
              <a:gd name="textAreaRight" fmla="*/ 719640 w 71928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278" h="270">
                <a:moveTo>
                  <a:pt x="48" y="270"/>
                </a:moveTo>
                <a:cubicBezTo>
                  <a:pt x="35" y="270"/>
                  <a:pt x="24" y="266"/>
                  <a:pt x="16" y="258"/>
                </a:cubicBezTo>
                <a:cubicBezTo>
                  <a:pt x="0" y="243"/>
                  <a:pt x="0" y="216"/>
                  <a:pt x="14" y="182"/>
                </a:cubicBezTo>
                <a:cubicBezTo>
                  <a:pt x="27" y="149"/>
                  <a:pt x="52" y="113"/>
                  <a:pt x="85" y="81"/>
                </a:cubicBezTo>
                <a:cubicBezTo>
                  <a:pt x="134" y="32"/>
                  <a:pt x="190" y="0"/>
                  <a:pt x="229" y="0"/>
                </a:cubicBezTo>
                <a:cubicBezTo>
                  <a:pt x="243" y="0"/>
                  <a:pt x="254" y="4"/>
                  <a:pt x="262" y="12"/>
                </a:cubicBezTo>
                <a:cubicBezTo>
                  <a:pt x="277" y="27"/>
                  <a:pt x="278" y="55"/>
                  <a:pt x="264" y="89"/>
                </a:cubicBezTo>
                <a:cubicBezTo>
                  <a:pt x="250" y="121"/>
                  <a:pt x="225" y="157"/>
                  <a:pt x="193" y="189"/>
                </a:cubicBezTo>
                <a:cubicBezTo>
                  <a:pt x="144" y="238"/>
                  <a:pt x="87" y="270"/>
                  <a:pt x="48" y="270"/>
                </a:cubicBezTo>
                <a:close/>
                <a:moveTo>
                  <a:pt x="229" y="13"/>
                </a:moveTo>
                <a:cubicBezTo>
                  <a:pt x="194" y="13"/>
                  <a:pt x="140" y="44"/>
                  <a:pt x="94" y="90"/>
                </a:cubicBezTo>
                <a:cubicBezTo>
                  <a:pt x="62" y="121"/>
                  <a:pt x="38" y="155"/>
                  <a:pt x="26" y="186"/>
                </a:cubicBezTo>
                <a:cubicBezTo>
                  <a:pt x="14" y="215"/>
                  <a:pt x="13" y="238"/>
                  <a:pt x="25" y="249"/>
                </a:cubicBezTo>
                <a:cubicBezTo>
                  <a:pt x="30" y="255"/>
                  <a:pt x="38" y="258"/>
                  <a:pt x="48" y="258"/>
                </a:cubicBezTo>
                <a:cubicBezTo>
                  <a:pt x="83" y="258"/>
                  <a:pt x="138" y="227"/>
                  <a:pt x="184" y="180"/>
                </a:cubicBezTo>
                <a:cubicBezTo>
                  <a:pt x="215" y="149"/>
                  <a:pt x="239" y="115"/>
                  <a:pt x="252" y="84"/>
                </a:cubicBezTo>
                <a:cubicBezTo>
                  <a:pt x="264" y="55"/>
                  <a:pt x="264" y="32"/>
                  <a:pt x="253" y="21"/>
                </a:cubicBezTo>
                <a:cubicBezTo>
                  <a:pt x="247" y="16"/>
                  <a:pt x="239" y="13"/>
                  <a:pt x="22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6"/>
          <p:cNvSpPr/>
          <p:nvPr/>
        </p:nvSpPr>
        <p:spPr>
          <a:xfrm>
            <a:off x="5423400" y="443556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来源概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矩形 67"/>
          <p:cNvSpPr/>
          <p:nvPr/>
        </p:nvSpPr>
        <p:spPr>
          <a:xfrm>
            <a:off x="5059440" y="2174760"/>
            <a:ext cx="2087640" cy="258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68"/>
          <p:cNvSpPr/>
          <p:nvPr/>
        </p:nvSpPr>
        <p:spPr>
          <a:xfrm>
            <a:off x="2984400" y="2425680"/>
            <a:ext cx="1684440" cy="208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69"/>
          <p:cNvSpPr/>
          <p:nvPr/>
        </p:nvSpPr>
        <p:spPr>
          <a:xfrm>
            <a:off x="7539120" y="2425680"/>
            <a:ext cx="1682640" cy="208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文本框 70"/>
          <p:cNvSpPr/>
          <p:nvPr/>
        </p:nvSpPr>
        <p:spPr>
          <a:xfrm>
            <a:off x="2925720" y="4668840"/>
            <a:ext cx="19638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e79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文本框 71"/>
          <p:cNvSpPr/>
          <p:nvPr/>
        </p:nvSpPr>
        <p:spPr>
          <a:xfrm>
            <a:off x="7499520" y="4668840"/>
            <a:ext cx="181764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e79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Box 15"/>
          <p:cNvSpPr/>
          <p:nvPr/>
        </p:nvSpPr>
        <p:spPr>
          <a:xfrm>
            <a:off x="2978280" y="765000"/>
            <a:ext cx="623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来源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15"/>
          <p:cNvSpPr/>
          <p:nvPr/>
        </p:nvSpPr>
        <p:spPr>
          <a:xfrm>
            <a:off x="4218120" y="1279440"/>
            <a:ext cx="3744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84"/>
          <p:cNvSpPr/>
          <p:nvPr/>
        </p:nvSpPr>
        <p:spPr>
          <a:xfrm>
            <a:off x="5114880" y="4906800"/>
            <a:ext cx="1965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e79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矩形 23"/>
          <p:cNvSpPr/>
          <p:nvPr/>
        </p:nvSpPr>
        <p:spPr>
          <a:xfrm>
            <a:off x="6407280" y="2424240"/>
            <a:ext cx="37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Box 15"/>
          <p:cNvSpPr/>
          <p:nvPr/>
        </p:nvSpPr>
        <p:spPr>
          <a:xfrm>
            <a:off x="6559560" y="1695600"/>
            <a:ext cx="2041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图片 2" descr=""/>
          <p:cNvPicPr/>
          <p:nvPr/>
        </p:nvPicPr>
        <p:blipFill>
          <a:blip r:embed="rId1"/>
          <a:stretch/>
        </p:blipFill>
        <p:spPr>
          <a:xfrm>
            <a:off x="2106720" y="1422360"/>
            <a:ext cx="3343320" cy="39736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26"/>
          <p:cNvSpPr/>
          <p:nvPr/>
        </p:nvSpPr>
        <p:spPr>
          <a:xfrm>
            <a:off x="6559560" y="2209680"/>
            <a:ext cx="1743120" cy="4608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矩形 5"/>
          <p:cNvSpPr/>
          <p:nvPr/>
        </p:nvSpPr>
        <p:spPr>
          <a:xfrm>
            <a:off x="2774880" y="1482840"/>
            <a:ext cx="6642000" cy="2624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Box 15"/>
          <p:cNvSpPr/>
          <p:nvPr/>
        </p:nvSpPr>
        <p:spPr>
          <a:xfrm>
            <a:off x="2774880" y="803160"/>
            <a:ext cx="2041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0"/>
          <p:cNvSpPr/>
          <p:nvPr/>
        </p:nvSpPr>
        <p:spPr>
          <a:xfrm>
            <a:off x="2774880" y="1317600"/>
            <a:ext cx="1743120" cy="4752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1"/>
          <p:cNvSpPr/>
          <p:nvPr/>
        </p:nvSpPr>
        <p:spPr>
          <a:xfrm>
            <a:off x="2744640" y="4356000"/>
            <a:ext cx="67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组合 26"/>
          <p:cNvGrpSpPr/>
          <p:nvPr/>
        </p:nvGrpSpPr>
        <p:grpSpPr>
          <a:xfrm>
            <a:off x="5022720" y="2738520"/>
            <a:ext cx="2241720" cy="2373120"/>
            <a:chOff x="5022720" y="2738520"/>
            <a:chExt cx="2241720" cy="2373120"/>
          </a:xfrm>
        </p:grpSpPr>
        <p:sp>
          <p:nvSpPr>
            <p:cNvPr id="1453" name="等腰三角形 27"/>
            <p:cNvSpPr/>
            <p:nvPr/>
          </p:nvSpPr>
          <p:spPr>
            <a:xfrm>
              <a:off x="502272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矩形 28"/>
            <p:cNvSpPr/>
            <p:nvPr/>
          </p:nvSpPr>
          <p:spPr>
            <a:xfrm>
              <a:off x="5022720" y="2840040"/>
              <a:ext cx="2241720" cy="22716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等腰三角形 29"/>
            <p:cNvSpPr/>
            <p:nvPr/>
          </p:nvSpPr>
          <p:spPr>
            <a:xfrm>
              <a:off x="529740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等腰三角形 30"/>
            <p:cNvSpPr/>
            <p:nvPr/>
          </p:nvSpPr>
          <p:spPr>
            <a:xfrm>
              <a:off x="557676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等腰三角形 31"/>
            <p:cNvSpPr/>
            <p:nvPr/>
          </p:nvSpPr>
          <p:spPr>
            <a:xfrm>
              <a:off x="585648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等腰三角形 32"/>
            <p:cNvSpPr/>
            <p:nvPr/>
          </p:nvSpPr>
          <p:spPr>
            <a:xfrm>
              <a:off x="613584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等腰三角形 33"/>
            <p:cNvSpPr/>
            <p:nvPr/>
          </p:nvSpPr>
          <p:spPr>
            <a:xfrm>
              <a:off x="641556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等腰三角形 34"/>
            <p:cNvSpPr/>
            <p:nvPr/>
          </p:nvSpPr>
          <p:spPr>
            <a:xfrm>
              <a:off x="669492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等腰三角形 35"/>
            <p:cNvSpPr/>
            <p:nvPr/>
          </p:nvSpPr>
          <p:spPr>
            <a:xfrm>
              <a:off x="6974640" y="2738520"/>
              <a:ext cx="289800" cy="101520"/>
            </a:xfrm>
            <a:prstGeom prst="triangle">
              <a:avLst>
                <a:gd name="adj" fmla="val 50000"/>
              </a:avLst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矩形 36"/>
          <p:cNvSpPr/>
          <p:nvPr/>
        </p:nvSpPr>
        <p:spPr>
          <a:xfrm>
            <a:off x="5232240" y="3533760"/>
            <a:ext cx="1743120" cy="47520"/>
          </a:xfrm>
          <a:prstGeom prst="rect">
            <a:avLst/>
          </a:pr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5"/>
          <p:cNvSpPr/>
          <p:nvPr/>
        </p:nvSpPr>
        <p:spPr>
          <a:xfrm>
            <a:off x="5495760" y="1282680"/>
            <a:ext cx="1216080" cy="1216080"/>
          </a:xfrm>
          <a:prstGeom prst="ellipse">
            <a:avLst/>
          </a:pr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组合 50"/>
          <p:cNvGrpSpPr/>
          <p:nvPr/>
        </p:nvGrpSpPr>
        <p:grpSpPr>
          <a:xfrm>
            <a:off x="5657760" y="1450800"/>
            <a:ext cx="890640" cy="879480"/>
            <a:chOff x="5657760" y="1450800"/>
            <a:chExt cx="890640" cy="879480"/>
          </a:xfrm>
        </p:grpSpPr>
        <p:sp>
          <p:nvSpPr>
            <p:cNvPr id="1465" name="AutoShape 11"/>
            <p:cNvSpPr/>
            <p:nvPr/>
          </p:nvSpPr>
          <p:spPr>
            <a:xfrm>
              <a:off x="5657760" y="1454400"/>
              <a:ext cx="890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3"/>
            <p:cNvSpPr/>
            <p:nvPr/>
          </p:nvSpPr>
          <p:spPr>
            <a:xfrm>
              <a:off x="5661360" y="1450800"/>
              <a:ext cx="883440" cy="87948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02" h="202">
                  <a:moveTo>
                    <a:pt x="115" y="184"/>
                  </a:moveTo>
                  <a:cubicBezTo>
                    <a:pt x="114" y="190"/>
                    <a:pt x="113" y="196"/>
                    <a:pt x="113" y="202"/>
                  </a:cubicBezTo>
                  <a:cubicBezTo>
                    <a:pt x="106" y="202"/>
                    <a:pt x="98" y="202"/>
                    <a:pt x="90" y="202"/>
                  </a:cubicBezTo>
                  <a:cubicBezTo>
                    <a:pt x="90" y="196"/>
                    <a:pt x="89" y="191"/>
                    <a:pt x="89" y="184"/>
                  </a:cubicBezTo>
                  <a:cubicBezTo>
                    <a:pt x="52" y="175"/>
                    <a:pt x="28" y="152"/>
                    <a:pt x="19" y="114"/>
                  </a:cubicBezTo>
                  <a:cubicBezTo>
                    <a:pt x="13" y="114"/>
                    <a:pt x="7" y="113"/>
                    <a:pt x="0" y="113"/>
                  </a:cubicBezTo>
                  <a:cubicBezTo>
                    <a:pt x="0" y="105"/>
                    <a:pt x="0" y="98"/>
                    <a:pt x="0" y="90"/>
                  </a:cubicBezTo>
                  <a:cubicBezTo>
                    <a:pt x="6" y="89"/>
                    <a:pt x="13" y="89"/>
                    <a:pt x="19" y="88"/>
                  </a:cubicBezTo>
                  <a:cubicBezTo>
                    <a:pt x="28" y="50"/>
                    <a:pt x="51" y="27"/>
                    <a:pt x="89" y="18"/>
                  </a:cubicBezTo>
                  <a:cubicBezTo>
                    <a:pt x="89" y="12"/>
                    <a:pt x="89" y="6"/>
                    <a:pt x="90" y="0"/>
                  </a:cubicBezTo>
                  <a:cubicBezTo>
                    <a:pt x="98" y="0"/>
                    <a:pt x="105" y="0"/>
                    <a:pt x="113" y="0"/>
                  </a:cubicBezTo>
                  <a:cubicBezTo>
                    <a:pt x="114" y="6"/>
                    <a:pt x="114" y="12"/>
                    <a:pt x="115" y="19"/>
                  </a:cubicBezTo>
                  <a:cubicBezTo>
                    <a:pt x="153" y="27"/>
                    <a:pt x="176" y="51"/>
                    <a:pt x="184" y="88"/>
                  </a:cubicBezTo>
                  <a:cubicBezTo>
                    <a:pt x="190" y="89"/>
                    <a:pt x="196" y="89"/>
                    <a:pt x="202" y="89"/>
                  </a:cubicBezTo>
                  <a:cubicBezTo>
                    <a:pt x="202" y="97"/>
                    <a:pt x="202" y="104"/>
                    <a:pt x="202" y="112"/>
                  </a:cubicBezTo>
                  <a:cubicBezTo>
                    <a:pt x="196" y="113"/>
                    <a:pt x="190" y="114"/>
                    <a:pt x="184" y="114"/>
                  </a:cubicBezTo>
                  <a:cubicBezTo>
                    <a:pt x="175" y="151"/>
                    <a:pt x="153" y="175"/>
                    <a:pt x="115" y="184"/>
                  </a:cubicBezTo>
                  <a:close/>
                  <a:moveTo>
                    <a:pt x="102" y="37"/>
                  </a:moveTo>
                  <a:cubicBezTo>
                    <a:pt x="66" y="37"/>
                    <a:pt x="37" y="65"/>
                    <a:pt x="37" y="102"/>
                  </a:cubicBezTo>
                  <a:cubicBezTo>
                    <a:pt x="37" y="138"/>
                    <a:pt x="66" y="166"/>
                    <a:pt x="102" y="166"/>
                  </a:cubicBezTo>
                  <a:cubicBezTo>
                    <a:pt x="138" y="165"/>
                    <a:pt x="166" y="137"/>
                    <a:pt x="166" y="102"/>
                  </a:cubicBezTo>
                  <a:cubicBezTo>
                    <a:pt x="166" y="66"/>
                    <a:pt x="138" y="37"/>
                    <a:pt x="10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4"/>
            <p:cNvSpPr/>
            <p:nvPr/>
          </p:nvSpPr>
          <p:spPr>
            <a:xfrm>
              <a:off x="5910840" y="1697760"/>
              <a:ext cx="388080" cy="3888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89" h="89">
                  <a:moveTo>
                    <a:pt x="45" y="0"/>
                  </a:moveTo>
                  <a:cubicBezTo>
                    <a:pt x="69" y="0"/>
                    <a:pt x="89" y="19"/>
                    <a:pt x="89" y="44"/>
                  </a:cubicBezTo>
                  <a:cubicBezTo>
                    <a:pt x="89" y="69"/>
                    <a:pt x="69" y="89"/>
                    <a:pt x="44" y="88"/>
                  </a:cubicBezTo>
                  <a:cubicBezTo>
                    <a:pt x="20" y="88"/>
                    <a:pt x="0" y="69"/>
                    <a:pt x="0" y="44"/>
                  </a:cubicBezTo>
                  <a:cubicBezTo>
                    <a:pt x="0" y="20"/>
                    <a:pt x="20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矩形 22"/>
          <p:cNvSpPr/>
          <p:nvPr/>
        </p:nvSpPr>
        <p:spPr>
          <a:xfrm>
            <a:off x="5423400" y="36100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整体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24"/>
          <p:cNvSpPr/>
          <p:nvPr/>
        </p:nvSpPr>
        <p:spPr>
          <a:xfrm>
            <a:off x="5423400" y="4000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现状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25"/>
          <p:cNvSpPr/>
          <p:nvPr/>
        </p:nvSpPr>
        <p:spPr>
          <a:xfrm>
            <a:off x="5407200" y="443556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标概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"/>
          <p:cNvSpPr/>
          <p:nvPr/>
        </p:nvSpPr>
        <p:spPr>
          <a:xfrm>
            <a:off x="5527440" y="2946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组合 316"/>
          <p:cNvGrpSpPr/>
          <p:nvPr/>
        </p:nvGrpSpPr>
        <p:grpSpPr>
          <a:xfrm>
            <a:off x="8809200" y="4970520"/>
            <a:ext cx="461880" cy="490320"/>
            <a:chOff x="8809200" y="4970520"/>
            <a:chExt cx="461880" cy="490320"/>
          </a:xfrm>
        </p:grpSpPr>
        <p:sp>
          <p:nvSpPr>
            <p:cNvPr id="1473" name="Freeform 8"/>
            <p:cNvSpPr/>
            <p:nvPr/>
          </p:nvSpPr>
          <p:spPr>
            <a:xfrm>
              <a:off x="8942400" y="4970520"/>
              <a:ext cx="201600" cy="104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9"/>
            <p:cNvSpPr/>
            <p:nvPr/>
          </p:nvSpPr>
          <p:spPr>
            <a:xfrm>
              <a:off x="8809200" y="5103720"/>
              <a:ext cx="461880" cy="14112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0"/>
            <p:cNvSpPr/>
            <p:nvPr/>
          </p:nvSpPr>
          <p:spPr>
            <a:xfrm>
              <a:off x="8809200" y="5261040"/>
              <a:ext cx="461880" cy="199800"/>
            </a:xfrm>
            <a:prstGeom prst="rect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Freeform 136"/>
          <p:cNvSpPr/>
          <p:nvPr/>
        </p:nvSpPr>
        <p:spPr>
          <a:xfrm>
            <a:off x="8488440" y="3726000"/>
            <a:ext cx="320760" cy="528480"/>
          </a:xfrm>
          <a:custGeom>
            <a:avLst/>
            <a:gdLst>
              <a:gd name="textAreaLeft" fmla="*/ 0 w 320760"/>
              <a:gd name="textAreaRight" fmla="*/ 321120 w 32076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组合 313"/>
          <p:cNvGrpSpPr/>
          <p:nvPr/>
        </p:nvGrpSpPr>
        <p:grpSpPr>
          <a:xfrm>
            <a:off x="7605720" y="1168560"/>
            <a:ext cx="403200" cy="512640"/>
            <a:chOff x="7605720" y="1168560"/>
            <a:chExt cx="403200" cy="512640"/>
          </a:xfrm>
        </p:grpSpPr>
        <p:sp>
          <p:nvSpPr>
            <p:cNvPr id="1478" name="Freeform 142"/>
            <p:cNvSpPr/>
            <p:nvPr/>
          </p:nvSpPr>
          <p:spPr>
            <a:xfrm>
              <a:off x="7754760" y="1168560"/>
              <a:ext cx="104760" cy="51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43"/>
            <p:cNvSpPr/>
            <p:nvPr/>
          </p:nvSpPr>
          <p:spPr>
            <a:xfrm>
              <a:off x="7605720" y="1481400"/>
              <a:ext cx="104760" cy="199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44"/>
            <p:cNvSpPr/>
            <p:nvPr/>
          </p:nvSpPr>
          <p:spPr>
            <a:xfrm>
              <a:off x="7904160" y="1332000"/>
              <a:ext cx="104760" cy="349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Freeform 271"/>
          <p:cNvSpPr/>
          <p:nvPr/>
        </p:nvSpPr>
        <p:spPr>
          <a:xfrm>
            <a:off x="8023320" y="2428920"/>
            <a:ext cx="449280" cy="446040"/>
          </a:xfrm>
          <a:custGeom>
            <a:avLst/>
            <a:gdLst>
              <a:gd name="textAreaLeft" fmla="*/ 0 w 449280"/>
              <a:gd name="textAreaRight" fmla="*/ 449640 w 44928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五边形 25"/>
          <p:cNvSpPr/>
          <p:nvPr/>
        </p:nvSpPr>
        <p:spPr>
          <a:xfrm>
            <a:off x="414360" y="1168560"/>
            <a:ext cx="6111720" cy="75384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五边形 26"/>
          <p:cNvSpPr/>
          <p:nvPr/>
        </p:nvSpPr>
        <p:spPr>
          <a:xfrm>
            <a:off x="414360" y="239544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五边形 27"/>
          <p:cNvSpPr/>
          <p:nvPr/>
        </p:nvSpPr>
        <p:spPr>
          <a:xfrm>
            <a:off x="398520" y="362412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五边形 28"/>
          <p:cNvSpPr/>
          <p:nvPr/>
        </p:nvSpPr>
        <p:spPr>
          <a:xfrm>
            <a:off x="414360" y="4851360"/>
            <a:ext cx="7656480" cy="75420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322"/>
          <p:cNvSpPr/>
          <p:nvPr/>
        </p:nvSpPr>
        <p:spPr>
          <a:xfrm>
            <a:off x="8473320" y="118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323"/>
          <p:cNvSpPr/>
          <p:nvPr/>
        </p:nvSpPr>
        <p:spPr>
          <a:xfrm>
            <a:off x="865080" y="1241280"/>
            <a:ext cx="51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324"/>
          <p:cNvSpPr/>
          <p:nvPr/>
        </p:nvSpPr>
        <p:spPr>
          <a:xfrm>
            <a:off x="865080" y="2500200"/>
            <a:ext cx="51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325"/>
          <p:cNvSpPr/>
          <p:nvPr/>
        </p:nvSpPr>
        <p:spPr>
          <a:xfrm>
            <a:off x="865080" y="3718080"/>
            <a:ext cx="51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326"/>
          <p:cNvSpPr/>
          <p:nvPr/>
        </p:nvSpPr>
        <p:spPr>
          <a:xfrm>
            <a:off x="865080" y="4946760"/>
            <a:ext cx="51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327"/>
          <p:cNvSpPr/>
          <p:nvPr/>
        </p:nvSpPr>
        <p:spPr>
          <a:xfrm>
            <a:off x="8938440" y="24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328"/>
          <p:cNvSpPr/>
          <p:nvPr/>
        </p:nvSpPr>
        <p:spPr>
          <a:xfrm>
            <a:off x="9343440" y="377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329"/>
          <p:cNvSpPr/>
          <p:nvPr/>
        </p:nvSpPr>
        <p:spPr>
          <a:xfrm>
            <a:off x="9851400" y="500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表 97" descr=""/>
          <p:cNvPicPr/>
          <p:nvPr/>
        </p:nvPicPr>
        <p:blipFill>
          <a:blip r:embed="rId1"/>
          <a:stretch/>
        </p:blipFill>
        <p:spPr>
          <a:xfrm>
            <a:off x="1473120" y="1492200"/>
            <a:ext cx="3165480" cy="2873520"/>
          </a:xfrm>
          <a:prstGeom prst="rect">
            <a:avLst/>
          </a:prstGeom>
          <a:ln w="0">
            <a:noFill/>
          </a:ln>
        </p:spPr>
      </p:pic>
      <p:pic>
        <p:nvPicPr>
          <p:cNvPr id="1495" name="图表 98" descr=""/>
          <p:cNvPicPr/>
          <p:nvPr/>
        </p:nvPicPr>
        <p:blipFill>
          <a:blip r:embed="rId2"/>
          <a:stretch/>
        </p:blipFill>
        <p:spPr>
          <a:xfrm>
            <a:off x="852480" y="928800"/>
            <a:ext cx="4406760" cy="4000320"/>
          </a:xfrm>
          <a:prstGeom prst="rect">
            <a:avLst/>
          </a:prstGeom>
          <a:ln w="0">
            <a:noFill/>
          </a:ln>
        </p:spPr>
      </p:pic>
      <p:pic>
        <p:nvPicPr>
          <p:cNvPr id="1496" name="图表 96" descr=""/>
          <p:cNvPicPr/>
          <p:nvPr/>
        </p:nvPicPr>
        <p:blipFill>
          <a:blip r:embed="rId3"/>
          <a:stretch/>
        </p:blipFill>
        <p:spPr>
          <a:xfrm>
            <a:off x="1173240" y="1219320"/>
            <a:ext cx="3765600" cy="3419280"/>
          </a:xfrm>
          <a:prstGeom prst="rect">
            <a:avLst/>
          </a:prstGeom>
          <a:ln w="0">
            <a:noFill/>
          </a:ln>
        </p:spPr>
      </p:pic>
      <p:pic>
        <p:nvPicPr>
          <p:cNvPr id="1497" name="图表 99" descr=""/>
          <p:cNvPicPr/>
          <p:nvPr/>
        </p:nvPicPr>
        <p:blipFill>
          <a:blip r:embed="rId4"/>
          <a:stretch/>
        </p:blipFill>
        <p:spPr>
          <a:xfrm>
            <a:off x="1797120" y="1785960"/>
            <a:ext cx="2517840" cy="2286000"/>
          </a:xfrm>
          <a:prstGeom prst="rect">
            <a:avLst/>
          </a:prstGeom>
          <a:ln w="0">
            <a:noFill/>
          </a:ln>
        </p:spPr>
      </p:pic>
      <p:sp>
        <p:nvSpPr>
          <p:cNvPr id="1498" name="直接连接符 100"/>
          <p:cNvSpPr/>
          <p:nvPr/>
        </p:nvSpPr>
        <p:spPr>
          <a:xfrm flipH="1">
            <a:off x="3079800" y="2050920"/>
            <a:ext cx="1147680" cy="0"/>
          </a:xfrm>
          <a:prstGeom prst="line">
            <a:avLst/>
          </a:prstGeom>
          <a:ln w="28440">
            <a:solidFill>
              <a:srgbClr val="3e3a3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01"/>
          <p:cNvSpPr/>
          <p:nvPr/>
        </p:nvSpPr>
        <p:spPr>
          <a:xfrm flipV="1" rot="15832800">
            <a:off x="4229280" y="1989720"/>
            <a:ext cx="120960" cy="119160"/>
          </a:xfrm>
          <a:custGeom>
            <a:avLst/>
            <a:gdLst>
              <a:gd name="textAreaLeft" fmla="*/ 0 w 120960"/>
              <a:gd name="textAreaRight" fmla="*/ 121320 w 120960"/>
              <a:gd name="textAreaTop" fmla="*/ -360 h 119160"/>
              <a:gd name="textAreaBottom" fmla="*/ 119160 h 11916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2"/>
          <p:cNvSpPr/>
          <p:nvPr/>
        </p:nvSpPr>
        <p:spPr>
          <a:xfrm>
            <a:off x="4329000" y="186696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直接连接符 103"/>
          <p:cNvSpPr/>
          <p:nvPr/>
        </p:nvSpPr>
        <p:spPr>
          <a:xfrm flipH="1">
            <a:off x="3079800" y="1751040"/>
            <a:ext cx="1147680" cy="0"/>
          </a:xfrm>
          <a:prstGeom prst="line">
            <a:avLst/>
          </a:prstGeom>
          <a:ln w="28440">
            <a:solidFill>
              <a:srgbClr val="596f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任意多边形 104"/>
          <p:cNvSpPr/>
          <p:nvPr/>
        </p:nvSpPr>
        <p:spPr>
          <a:xfrm flipV="1" rot="15832800">
            <a:off x="4229280" y="1689840"/>
            <a:ext cx="120600" cy="119160"/>
          </a:xfrm>
          <a:custGeom>
            <a:avLst/>
            <a:gdLst>
              <a:gd name="textAreaLeft" fmla="*/ 0 w 120600"/>
              <a:gd name="textAreaRight" fmla="*/ 120960 w 120600"/>
              <a:gd name="textAreaTop" fmla="*/ -360 h 119160"/>
              <a:gd name="textAreaBottom" fmla="*/ 119160 h 11916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5"/>
          <p:cNvSpPr/>
          <p:nvPr/>
        </p:nvSpPr>
        <p:spPr>
          <a:xfrm>
            <a:off x="4329000" y="156672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直接连接符 106"/>
          <p:cNvSpPr/>
          <p:nvPr/>
        </p:nvSpPr>
        <p:spPr>
          <a:xfrm flipH="1">
            <a:off x="3079800" y="1459080"/>
            <a:ext cx="1147680" cy="0"/>
          </a:xfrm>
          <a:prstGeom prst="line">
            <a:avLst/>
          </a:prstGeom>
          <a:ln w="28440">
            <a:solidFill>
              <a:srgbClr val="08a5e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任意多边形 107"/>
          <p:cNvSpPr/>
          <p:nvPr/>
        </p:nvSpPr>
        <p:spPr>
          <a:xfrm flipV="1" rot="15832800">
            <a:off x="4229280" y="1397880"/>
            <a:ext cx="120600" cy="119160"/>
          </a:xfrm>
          <a:custGeom>
            <a:avLst/>
            <a:gdLst>
              <a:gd name="textAreaLeft" fmla="*/ 0 w 120600"/>
              <a:gd name="textAreaRight" fmla="*/ 120960 w 120600"/>
              <a:gd name="textAreaTop" fmla="*/ -360 h 119160"/>
              <a:gd name="textAreaBottom" fmla="*/ 119160 h 11916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8"/>
          <p:cNvSpPr/>
          <p:nvPr/>
        </p:nvSpPr>
        <p:spPr>
          <a:xfrm>
            <a:off x="4329000" y="127476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任意多边形 110"/>
          <p:cNvSpPr/>
          <p:nvPr/>
        </p:nvSpPr>
        <p:spPr>
          <a:xfrm flipV="1" rot="15832800">
            <a:off x="4229280" y="1121400"/>
            <a:ext cx="120600" cy="119160"/>
          </a:xfrm>
          <a:custGeom>
            <a:avLst/>
            <a:gdLst>
              <a:gd name="textAreaLeft" fmla="*/ 0 w 120600"/>
              <a:gd name="textAreaRight" fmla="*/ 120960 w 120600"/>
              <a:gd name="textAreaTop" fmla="*/ -360 h 119160"/>
              <a:gd name="textAreaBottom" fmla="*/ 119160 h 11916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1"/>
          <p:cNvSpPr/>
          <p:nvPr/>
        </p:nvSpPr>
        <p:spPr>
          <a:xfrm>
            <a:off x="4329000" y="99684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5"/>
          <p:cNvSpPr/>
          <p:nvPr/>
        </p:nvSpPr>
        <p:spPr>
          <a:xfrm>
            <a:off x="7626240" y="1459080"/>
            <a:ext cx="316080" cy="326880"/>
          </a:xfrm>
          <a:custGeom>
            <a:avLst/>
            <a:gdLst/>
            <a:ahLst/>
            <a:rect l="l" t="t" r="r" b="b"/>
            <a:pathLst>
              <a:path w="199" h="206">
                <a:moveTo>
                  <a:pt x="0" y="33"/>
                </a:moveTo>
                <a:lnTo>
                  <a:pt x="33" y="0"/>
                </a:lnTo>
                <a:lnTo>
                  <a:pt x="199" y="172"/>
                </a:lnTo>
                <a:lnTo>
                  <a:pt x="166" y="206"/>
                </a:lnTo>
                <a:lnTo>
                  <a:pt x="0" y="33"/>
                </a:ln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6"/>
          <p:cNvSpPr/>
          <p:nvPr/>
        </p:nvSpPr>
        <p:spPr>
          <a:xfrm>
            <a:off x="8901000" y="1673280"/>
            <a:ext cx="393840" cy="247680"/>
          </a:xfrm>
          <a:custGeom>
            <a:avLst/>
            <a:gdLst>
              <a:gd name="textAreaLeft" fmla="*/ 0 w 393840"/>
              <a:gd name="textAreaRight" fmla="*/ 394200 w 393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48" h="156">
                <a:moveTo>
                  <a:pt x="0" y="113"/>
                </a:moveTo>
                <a:lnTo>
                  <a:pt x="227" y="0"/>
                </a:lnTo>
                <a:lnTo>
                  <a:pt x="248" y="42"/>
                </a:lnTo>
                <a:lnTo>
                  <a:pt x="21" y="156"/>
                </a:lnTo>
                <a:lnTo>
                  <a:pt x="0" y="113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7"/>
          <p:cNvSpPr/>
          <p:nvPr/>
        </p:nvSpPr>
        <p:spPr>
          <a:xfrm>
            <a:off x="8758080" y="2560680"/>
            <a:ext cx="781200" cy="758880"/>
          </a:xfrm>
          <a:custGeom>
            <a:avLst/>
            <a:gdLst>
              <a:gd name="textAreaLeft" fmla="*/ 0 w 781200"/>
              <a:gd name="textAreaRight" fmla="*/ 781560 w 7812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92" h="478">
                <a:moveTo>
                  <a:pt x="0" y="33"/>
                </a:moveTo>
                <a:lnTo>
                  <a:pt x="33" y="0"/>
                </a:lnTo>
                <a:lnTo>
                  <a:pt x="492" y="445"/>
                </a:lnTo>
                <a:lnTo>
                  <a:pt x="459" y="478"/>
                </a:lnTo>
                <a:lnTo>
                  <a:pt x="0" y="33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8"/>
          <p:cNvSpPr/>
          <p:nvPr/>
        </p:nvSpPr>
        <p:spPr>
          <a:xfrm>
            <a:off x="8091360" y="2759040"/>
            <a:ext cx="173160" cy="372960"/>
          </a:xfrm>
          <a:custGeom>
            <a:avLst/>
            <a:gdLst>
              <a:gd name="textAreaLeft" fmla="*/ 0 w 173160"/>
              <a:gd name="textAreaRight" fmla="*/ 173160 w 1731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09" h="235">
                <a:moveTo>
                  <a:pt x="0" y="223"/>
                </a:moveTo>
                <a:lnTo>
                  <a:pt x="64" y="0"/>
                </a:lnTo>
                <a:lnTo>
                  <a:pt x="109" y="12"/>
                </a:lnTo>
                <a:lnTo>
                  <a:pt x="45" y="235"/>
                </a:lnTo>
                <a:lnTo>
                  <a:pt x="0" y="223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9"/>
          <p:cNvSpPr/>
          <p:nvPr/>
        </p:nvSpPr>
        <p:spPr>
          <a:xfrm>
            <a:off x="9167760" y="3981600"/>
            <a:ext cx="292320" cy="2268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4" h="143">
                <a:moveTo>
                  <a:pt x="0" y="102"/>
                </a:moveTo>
                <a:lnTo>
                  <a:pt x="158" y="0"/>
                </a:lnTo>
                <a:lnTo>
                  <a:pt x="184" y="38"/>
                </a:lnTo>
                <a:lnTo>
                  <a:pt x="26" y="143"/>
                </a:lnTo>
                <a:lnTo>
                  <a:pt x="0" y="102"/>
                </a:ln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4"/>
          <p:cNvSpPr/>
          <p:nvPr/>
        </p:nvSpPr>
        <p:spPr>
          <a:xfrm>
            <a:off x="6859440" y="709560"/>
            <a:ext cx="970200" cy="966960"/>
          </a:xfrm>
          <a:custGeom>
            <a:avLst/>
            <a:gdLst>
              <a:gd name="textAreaLeft" fmla="*/ 0 w 970200"/>
              <a:gd name="textAreaRight" fmla="*/ 970560 w 97020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58" h="257">
                <a:moveTo>
                  <a:pt x="129" y="0"/>
                </a:moveTo>
                <a:cubicBezTo>
                  <a:pt x="58" y="0"/>
                  <a:pt x="0" y="57"/>
                  <a:pt x="0" y="129"/>
                </a:cubicBezTo>
                <a:cubicBezTo>
                  <a:pt x="0" y="200"/>
                  <a:pt x="58" y="257"/>
                  <a:pt x="129" y="257"/>
                </a:cubicBezTo>
                <a:cubicBezTo>
                  <a:pt x="200" y="257"/>
                  <a:pt x="258" y="200"/>
                  <a:pt x="258" y="129"/>
                </a:cubicBezTo>
                <a:cubicBezTo>
                  <a:pt x="258" y="57"/>
                  <a:pt x="200" y="0"/>
                  <a:pt x="129" y="0"/>
                </a:cubicBezTo>
                <a:close/>
                <a:moveTo>
                  <a:pt x="129" y="220"/>
                </a:moveTo>
                <a:cubicBezTo>
                  <a:pt x="78" y="220"/>
                  <a:pt x="37" y="179"/>
                  <a:pt x="37" y="129"/>
                </a:cubicBezTo>
                <a:cubicBezTo>
                  <a:pt x="37" y="78"/>
                  <a:pt x="78" y="37"/>
                  <a:pt x="129" y="37"/>
                </a:cubicBezTo>
                <a:cubicBezTo>
                  <a:pt x="180" y="37"/>
                  <a:pt x="221" y="78"/>
                  <a:pt x="221" y="129"/>
                </a:cubicBezTo>
                <a:cubicBezTo>
                  <a:pt x="221" y="179"/>
                  <a:pt x="180" y="220"/>
                  <a:pt x="129" y="220"/>
                </a:cubicBez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5"/>
          <p:cNvSpPr/>
          <p:nvPr/>
        </p:nvSpPr>
        <p:spPr>
          <a:xfrm>
            <a:off x="8352000" y="4497480"/>
            <a:ext cx="326880" cy="360360"/>
          </a:xfrm>
          <a:custGeom>
            <a:avLst/>
            <a:gdLst>
              <a:gd name="textAreaLeft" fmla="*/ 0 w 326880"/>
              <a:gd name="textAreaRight" fmla="*/ 327240 w 3268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7" h="96">
                <a:moveTo>
                  <a:pt x="36" y="0"/>
                </a:moveTo>
                <a:cubicBezTo>
                  <a:pt x="0" y="6"/>
                  <a:pt x="0" y="6"/>
                  <a:pt x="0" y="6"/>
                </a:cubicBezTo>
                <a:cubicBezTo>
                  <a:pt x="9" y="46"/>
                  <a:pt x="36" y="80"/>
                  <a:pt x="74" y="96"/>
                </a:cubicBezTo>
                <a:cubicBezTo>
                  <a:pt x="87" y="61"/>
                  <a:pt x="87" y="61"/>
                  <a:pt x="87" y="61"/>
                </a:cubicBezTo>
                <a:cubicBezTo>
                  <a:pt x="62" y="49"/>
                  <a:pt x="43" y="27"/>
                  <a:pt x="36" y="0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"/>
          <p:cNvSpPr/>
          <p:nvPr/>
        </p:nvSpPr>
        <p:spPr>
          <a:xfrm>
            <a:off x="8335800" y="3895560"/>
            <a:ext cx="1005120" cy="103356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267" h="275">
                <a:moveTo>
                  <a:pt x="1" y="152"/>
                </a:moveTo>
                <a:cubicBezTo>
                  <a:pt x="38" y="146"/>
                  <a:pt x="38" y="146"/>
                  <a:pt x="38" y="146"/>
                </a:cubicBezTo>
                <a:cubicBezTo>
                  <a:pt x="37" y="139"/>
                  <a:pt x="38" y="132"/>
                  <a:pt x="39" y="125"/>
                </a:cubicBezTo>
                <a:cubicBezTo>
                  <a:pt x="46" y="75"/>
                  <a:pt x="92" y="40"/>
                  <a:pt x="142" y="47"/>
                </a:cubicBezTo>
                <a:cubicBezTo>
                  <a:pt x="192" y="54"/>
                  <a:pt x="227" y="101"/>
                  <a:pt x="220" y="151"/>
                </a:cubicBezTo>
                <a:cubicBezTo>
                  <a:pt x="213" y="201"/>
                  <a:pt x="167" y="236"/>
                  <a:pt x="117" y="229"/>
                </a:cubicBezTo>
                <a:cubicBezTo>
                  <a:pt x="112" y="228"/>
                  <a:pt x="108" y="227"/>
                  <a:pt x="105" y="226"/>
                </a:cubicBezTo>
                <a:cubicBezTo>
                  <a:pt x="92" y="261"/>
                  <a:pt x="92" y="261"/>
                  <a:pt x="92" y="261"/>
                </a:cubicBezTo>
                <a:cubicBezTo>
                  <a:pt x="98" y="263"/>
                  <a:pt x="105" y="264"/>
                  <a:pt x="111" y="265"/>
                </a:cubicBezTo>
                <a:cubicBezTo>
                  <a:pt x="182" y="275"/>
                  <a:pt x="247" y="226"/>
                  <a:pt x="257" y="156"/>
                </a:cubicBezTo>
                <a:cubicBezTo>
                  <a:pt x="267" y="85"/>
                  <a:pt x="218" y="20"/>
                  <a:pt x="147" y="10"/>
                </a:cubicBezTo>
                <a:cubicBezTo>
                  <a:pt x="77" y="0"/>
                  <a:pt x="12" y="49"/>
                  <a:pt x="2" y="120"/>
                </a:cubicBezTo>
                <a:cubicBezTo>
                  <a:pt x="0" y="131"/>
                  <a:pt x="0" y="141"/>
                  <a:pt x="1" y="152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7"/>
          <p:cNvSpPr/>
          <p:nvPr/>
        </p:nvSpPr>
        <p:spPr>
          <a:xfrm>
            <a:off x="7599240" y="1454040"/>
            <a:ext cx="868320" cy="1309680"/>
          </a:xfrm>
          <a:custGeom>
            <a:avLst/>
            <a:gdLst>
              <a:gd name="textAreaLeft" fmla="*/ 0 w 868320"/>
              <a:gd name="textAreaRight" fmla="*/ 868680 w 86832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31" h="348">
                <a:moveTo>
                  <a:pt x="64" y="200"/>
                </a:moveTo>
                <a:cubicBezTo>
                  <a:pt x="57" y="127"/>
                  <a:pt x="111" y="62"/>
                  <a:pt x="184" y="55"/>
                </a:cubicBezTo>
                <a:cubicBezTo>
                  <a:pt x="196" y="54"/>
                  <a:pt x="207" y="55"/>
                  <a:pt x="218" y="56"/>
                </a:cubicBezTo>
                <a:cubicBezTo>
                  <a:pt x="231" y="4"/>
                  <a:pt x="231" y="4"/>
                  <a:pt x="231" y="4"/>
                </a:cubicBezTo>
                <a:cubicBezTo>
                  <a:pt x="214" y="1"/>
                  <a:pt x="197" y="0"/>
                  <a:pt x="179" y="1"/>
                </a:cubicBezTo>
                <a:cubicBezTo>
                  <a:pt x="76" y="11"/>
                  <a:pt x="0" y="102"/>
                  <a:pt x="10" y="205"/>
                </a:cubicBezTo>
                <a:cubicBezTo>
                  <a:pt x="16" y="266"/>
                  <a:pt x="50" y="318"/>
                  <a:pt x="98" y="348"/>
                </a:cubicBezTo>
                <a:cubicBezTo>
                  <a:pt x="124" y="300"/>
                  <a:pt x="124" y="300"/>
                  <a:pt x="124" y="300"/>
                </a:cubicBezTo>
                <a:cubicBezTo>
                  <a:pt x="91" y="278"/>
                  <a:pt x="68" y="243"/>
                  <a:pt x="64" y="200"/>
                </a:cubicBez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8"/>
          <p:cNvSpPr/>
          <p:nvPr/>
        </p:nvSpPr>
        <p:spPr>
          <a:xfrm>
            <a:off x="8494560" y="1487520"/>
            <a:ext cx="560520" cy="1001520"/>
          </a:xfrm>
          <a:custGeom>
            <a:avLst/>
            <a:gdLst>
              <a:gd name="textAreaLeft" fmla="*/ 0 w 560520"/>
              <a:gd name="textAreaRight" fmla="*/ 560880 w 56052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149" h="266">
                <a:moveTo>
                  <a:pt x="13" y="0"/>
                </a:moveTo>
                <a:cubicBezTo>
                  <a:pt x="0" y="52"/>
                  <a:pt x="0" y="52"/>
                  <a:pt x="0" y="52"/>
                </a:cubicBezTo>
                <a:cubicBezTo>
                  <a:pt x="49" y="69"/>
                  <a:pt x="86" y="112"/>
                  <a:pt x="91" y="167"/>
                </a:cubicBezTo>
                <a:cubicBezTo>
                  <a:pt x="94" y="192"/>
                  <a:pt x="88" y="217"/>
                  <a:pt x="78" y="238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141" y="235"/>
                  <a:pt x="149" y="199"/>
                  <a:pt x="145" y="162"/>
                </a:cubicBezTo>
                <a:cubicBezTo>
                  <a:pt x="138" y="84"/>
                  <a:pt x="84" y="21"/>
                  <a:pt x="13" y="0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9"/>
          <p:cNvSpPr/>
          <p:nvPr/>
        </p:nvSpPr>
        <p:spPr>
          <a:xfrm>
            <a:off x="8039160" y="2620800"/>
            <a:ext cx="571320" cy="255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52" h="68">
                <a:moveTo>
                  <a:pt x="92" y="11"/>
                </a:moveTo>
                <a:cubicBezTo>
                  <a:pt x="68" y="13"/>
                  <a:pt x="46" y="9"/>
                  <a:pt x="26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9" y="61"/>
                  <a:pt x="62" y="68"/>
                  <a:pt x="97" y="65"/>
                </a:cubicBezTo>
                <a:cubicBezTo>
                  <a:pt x="116" y="63"/>
                  <a:pt x="135" y="58"/>
                  <a:pt x="152" y="51"/>
                </a:cubicBezTo>
                <a:cubicBezTo>
                  <a:pt x="128" y="2"/>
                  <a:pt x="128" y="2"/>
                  <a:pt x="128" y="2"/>
                </a:cubicBezTo>
                <a:cubicBezTo>
                  <a:pt x="117" y="6"/>
                  <a:pt x="105" y="9"/>
                  <a:pt x="92" y="11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20"/>
          <p:cNvSpPr/>
          <p:nvPr/>
        </p:nvSpPr>
        <p:spPr>
          <a:xfrm>
            <a:off x="8591400" y="2451240"/>
            <a:ext cx="331920" cy="323640"/>
          </a:xfrm>
          <a:custGeom>
            <a:avLst/>
            <a:gdLst>
              <a:gd name="textAreaLeft" fmla="*/ 0 w 331920"/>
              <a:gd name="textAreaRight" fmla="*/ 332280 w 331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88" h="86">
                <a:moveTo>
                  <a:pt x="0" y="38"/>
                </a:moveTo>
                <a:cubicBezTo>
                  <a:pt x="24" y="86"/>
                  <a:pt x="24" y="86"/>
                  <a:pt x="24" y="86"/>
                </a:cubicBezTo>
                <a:cubicBezTo>
                  <a:pt x="50" y="72"/>
                  <a:pt x="71" y="52"/>
                  <a:pt x="88" y="28"/>
                </a:cubicBezTo>
                <a:cubicBezTo>
                  <a:pt x="41" y="0"/>
                  <a:pt x="41" y="0"/>
                  <a:pt x="41" y="0"/>
                </a:cubicBezTo>
                <a:cubicBezTo>
                  <a:pt x="30" y="15"/>
                  <a:pt x="16" y="28"/>
                  <a:pt x="0" y="38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21"/>
          <p:cNvSpPr/>
          <p:nvPr/>
        </p:nvSpPr>
        <p:spPr>
          <a:xfrm>
            <a:off x="9645480" y="2955960"/>
            <a:ext cx="954360" cy="469800"/>
          </a:xfrm>
          <a:custGeom>
            <a:avLst/>
            <a:gdLst>
              <a:gd name="textAreaLeft" fmla="*/ 0 w 954360"/>
              <a:gd name="textAreaRight" fmla="*/ 954720 w 9543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54" h="125">
                <a:moveTo>
                  <a:pt x="141" y="71"/>
                </a:moveTo>
                <a:cubicBezTo>
                  <a:pt x="169" y="82"/>
                  <a:pt x="191" y="101"/>
                  <a:pt x="206" y="125"/>
                </a:cubicBezTo>
                <a:cubicBezTo>
                  <a:pt x="254" y="99"/>
                  <a:pt x="254" y="99"/>
                  <a:pt x="254" y="99"/>
                </a:cubicBezTo>
                <a:cubicBezTo>
                  <a:pt x="233" y="64"/>
                  <a:pt x="201" y="36"/>
                  <a:pt x="160" y="21"/>
                </a:cubicBezTo>
                <a:cubicBezTo>
                  <a:pt x="105" y="0"/>
                  <a:pt x="47" y="7"/>
                  <a:pt x="0" y="34"/>
                </a:cubicBezTo>
                <a:cubicBezTo>
                  <a:pt x="30" y="79"/>
                  <a:pt x="30" y="79"/>
                  <a:pt x="30" y="79"/>
                </a:cubicBezTo>
                <a:cubicBezTo>
                  <a:pt x="63" y="61"/>
                  <a:pt x="103" y="57"/>
                  <a:pt x="141" y="71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22"/>
          <p:cNvSpPr/>
          <p:nvPr/>
        </p:nvSpPr>
        <p:spPr>
          <a:xfrm>
            <a:off x="10456920" y="3398760"/>
            <a:ext cx="241200" cy="222480"/>
          </a:xfrm>
          <a:custGeom>
            <a:avLst/>
            <a:gdLst>
              <a:gd name="textAreaLeft" fmla="*/ 0 w 241200"/>
              <a:gd name="textAreaRight" fmla="*/ 241560 w 2412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64" h="59">
                <a:moveTo>
                  <a:pt x="10" y="59"/>
                </a:moveTo>
                <a:cubicBezTo>
                  <a:pt x="64" y="55"/>
                  <a:pt x="64" y="55"/>
                  <a:pt x="64" y="55"/>
                </a:cubicBezTo>
                <a:cubicBezTo>
                  <a:pt x="62" y="36"/>
                  <a:pt x="56" y="17"/>
                  <a:pt x="48" y="0"/>
                </a:cubicBezTo>
                <a:cubicBezTo>
                  <a:pt x="0" y="25"/>
                  <a:pt x="0" y="25"/>
                  <a:pt x="0" y="25"/>
                </a:cubicBezTo>
                <a:cubicBezTo>
                  <a:pt x="5" y="36"/>
                  <a:pt x="8" y="47"/>
                  <a:pt x="10" y="59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23"/>
          <p:cNvSpPr/>
          <p:nvPr/>
        </p:nvSpPr>
        <p:spPr>
          <a:xfrm>
            <a:off x="10360080" y="3684600"/>
            <a:ext cx="344520" cy="507960"/>
          </a:xfrm>
          <a:custGeom>
            <a:avLst/>
            <a:gdLst>
              <a:gd name="textAreaLeft" fmla="*/ 0 w 344520"/>
              <a:gd name="textAreaRight" fmla="*/ 344880 w 344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2" h="135">
                <a:moveTo>
                  <a:pt x="91" y="0"/>
                </a:moveTo>
                <a:cubicBezTo>
                  <a:pt x="37" y="4"/>
                  <a:pt x="37" y="4"/>
                  <a:pt x="37" y="4"/>
                </a:cubicBezTo>
                <a:cubicBezTo>
                  <a:pt x="37" y="19"/>
                  <a:pt x="34" y="34"/>
                  <a:pt x="29" y="49"/>
                </a:cubicBezTo>
                <a:cubicBezTo>
                  <a:pt x="22" y="66"/>
                  <a:pt x="12" y="82"/>
                  <a:pt x="0" y="94"/>
                </a:cubicBezTo>
                <a:cubicBezTo>
                  <a:pt x="36" y="135"/>
                  <a:pt x="36" y="135"/>
                  <a:pt x="36" y="135"/>
                </a:cubicBezTo>
                <a:cubicBezTo>
                  <a:pt x="54" y="117"/>
                  <a:pt x="70" y="94"/>
                  <a:pt x="79" y="68"/>
                </a:cubicBezTo>
                <a:cubicBezTo>
                  <a:pt x="88" y="46"/>
                  <a:pt x="92" y="23"/>
                  <a:pt x="91" y="0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24"/>
          <p:cNvSpPr/>
          <p:nvPr/>
        </p:nvSpPr>
        <p:spPr>
          <a:xfrm>
            <a:off x="9250200" y="3129120"/>
            <a:ext cx="439920" cy="995040"/>
          </a:xfrm>
          <a:custGeom>
            <a:avLst/>
            <a:gdLst>
              <a:gd name="textAreaLeft" fmla="*/ 0 w 439920"/>
              <a:gd name="textAreaRight" fmla="*/ 440280 w 43992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117" h="265">
                <a:moveTo>
                  <a:pt x="74" y="103"/>
                </a:moveTo>
                <a:cubicBezTo>
                  <a:pt x="83" y="79"/>
                  <a:pt x="98" y="59"/>
                  <a:pt x="117" y="45"/>
                </a:cubicBezTo>
                <a:cubicBezTo>
                  <a:pt x="87" y="0"/>
                  <a:pt x="87" y="0"/>
                  <a:pt x="87" y="0"/>
                </a:cubicBezTo>
                <a:cubicBezTo>
                  <a:pt x="59" y="20"/>
                  <a:pt x="37" y="49"/>
                  <a:pt x="24" y="84"/>
                </a:cubicBezTo>
                <a:cubicBezTo>
                  <a:pt x="0" y="147"/>
                  <a:pt x="12" y="215"/>
                  <a:pt x="51" y="265"/>
                </a:cubicBezTo>
                <a:cubicBezTo>
                  <a:pt x="92" y="229"/>
                  <a:pt x="92" y="229"/>
                  <a:pt x="92" y="229"/>
                </a:cubicBezTo>
                <a:cubicBezTo>
                  <a:pt x="66" y="194"/>
                  <a:pt x="58" y="147"/>
                  <a:pt x="74" y="103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25"/>
          <p:cNvSpPr/>
          <p:nvPr/>
        </p:nvSpPr>
        <p:spPr>
          <a:xfrm>
            <a:off x="9495000" y="4049640"/>
            <a:ext cx="939600" cy="390600"/>
          </a:xfrm>
          <a:custGeom>
            <a:avLst/>
            <a:gdLst>
              <a:gd name="textAreaLeft" fmla="*/ 0 w 939600"/>
              <a:gd name="textAreaRight" fmla="*/ 939960 w 939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50" h="104">
                <a:moveTo>
                  <a:pt x="87" y="30"/>
                </a:moveTo>
                <a:cubicBezTo>
                  <a:pt x="69" y="23"/>
                  <a:pt x="54" y="13"/>
                  <a:pt x="41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8" y="55"/>
                  <a:pt x="41" y="70"/>
                  <a:pt x="68" y="80"/>
                </a:cubicBezTo>
                <a:cubicBezTo>
                  <a:pt x="132" y="104"/>
                  <a:pt x="200" y="91"/>
                  <a:pt x="250" y="52"/>
                </a:cubicBezTo>
                <a:cubicBezTo>
                  <a:pt x="214" y="11"/>
                  <a:pt x="214" y="11"/>
                  <a:pt x="214" y="11"/>
                </a:cubicBezTo>
                <a:cubicBezTo>
                  <a:pt x="179" y="38"/>
                  <a:pt x="131" y="46"/>
                  <a:pt x="87" y="30"/>
                </a:cubicBez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26"/>
          <p:cNvSpPr/>
          <p:nvPr/>
        </p:nvSpPr>
        <p:spPr>
          <a:xfrm>
            <a:off x="7937640" y="3027240"/>
            <a:ext cx="463320" cy="285840"/>
          </a:xfrm>
          <a:custGeom>
            <a:avLst/>
            <a:gdLst>
              <a:gd name="textAreaLeft" fmla="*/ 0 w 463320"/>
              <a:gd name="textAreaRight" fmla="*/ 463680 w 4633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3" h="76">
                <a:moveTo>
                  <a:pt x="63" y="51"/>
                </a:moveTo>
                <a:cubicBezTo>
                  <a:pt x="75" y="58"/>
                  <a:pt x="84" y="66"/>
                  <a:pt x="91" y="7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12" y="42"/>
                  <a:pt x="99" y="29"/>
                  <a:pt x="82" y="19"/>
                </a:cubicBezTo>
                <a:cubicBezTo>
                  <a:pt x="56" y="4"/>
                  <a:pt x="28" y="0"/>
                  <a:pt x="0" y="3"/>
                </a:cubicBezTo>
                <a:cubicBezTo>
                  <a:pt x="8" y="40"/>
                  <a:pt x="8" y="40"/>
                  <a:pt x="8" y="40"/>
                </a:cubicBezTo>
                <a:cubicBezTo>
                  <a:pt x="26" y="38"/>
                  <a:pt x="46" y="41"/>
                  <a:pt x="63" y="51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27"/>
          <p:cNvSpPr/>
          <p:nvPr/>
        </p:nvSpPr>
        <p:spPr>
          <a:xfrm>
            <a:off x="7467480" y="3049560"/>
            <a:ext cx="444600" cy="835200"/>
          </a:xfrm>
          <a:custGeom>
            <a:avLst/>
            <a:gdLst>
              <a:gd name="textAreaLeft" fmla="*/ 0 w 444600"/>
              <a:gd name="textAreaRight" fmla="*/ 444960 w 4446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18" h="222">
                <a:moveTo>
                  <a:pt x="63" y="79"/>
                </a:moveTo>
                <a:cubicBezTo>
                  <a:pt x="76" y="57"/>
                  <a:pt x="96" y="43"/>
                  <a:pt x="118" y="37"/>
                </a:cubicBezTo>
                <a:cubicBezTo>
                  <a:pt x="111" y="0"/>
                  <a:pt x="111" y="0"/>
                  <a:pt x="111" y="0"/>
                </a:cubicBezTo>
                <a:cubicBezTo>
                  <a:pt x="79" y="8"/>
                  <a:pt x="49" y="29"/>
                  <a:pt x="31" y="61"/>
                </a:cubicBezTo>
                <a:cubicBezTo>
                  <a:pt x="0" y="115"/>
                  <a:pt x="12" y="182"/>
                  <a:pt x="58" y="222"/>
                </a:cubicBezTo>
                <a:cubicBezTo>
                  <a:pt x="81" y="192"/>
                  <a:pt x="81" y="192"/>
                  <a:pt x="81" y="192"/>
                </a:cubicBezTo>
                <a:cubicBezTo>
                  <a:pt x="50" y="164"/>
                  <a:pt x="41" y="117"/>
                  <a:pt x="63" y="79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28"/>
          <p:cNvSpPr/>
          <p:nvPr/>
        </p:nvSpPr>
        <p:spPr>
          <a:xfrm>
            <a:off x="7728120" y="3286080"/>
            <a:ext cx="785520" cy="785880"/>
          </a:xfrm>
          <a:custGeom>
            <a:avLst/>
            <a:gdLst>
              <a:gd name="textAreaLeft" fmla="*/ 0 w 785520"/>
              <a:gd name="textAreaRight" fmla="*/ 785880 w 78552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09" h="209">
                <a:moveTo>
                  <a:pt x="186" y="0"/>
                </a:moveTo>
                <a:cubicBezTo>
                  <a:pt x="155" y="19"/>
                  <a:pt x="155" y="19"/>
                  <a:pt x="155" y="19"/>
                </a:cubicBezTo>
                <a:cubicBezTo>
                  <a:pt x="169" y="46"/>
                  <a:pt x="169" y="79"/>
                  <a:pt x="153" y="108"/>
                </a:cubicBezTo>
                <a:cubicBezTo>
                  <a:pt x="128" y="151"/>
                  <a:pt x="72" y="167"/>
                  <a:pt x="28" y="141"/>
                </a:cubicBezTo>
                <a:cubicBezTo>
                  <a:pt x="26" y="140"/>
                  <a:pt x="25" y="139"/>
                  <a:pt x="23" y="138"/>
                </a:cubicBezTo>
                <a:cubicBezTo>
                  <a:pt x="0" y="168"/>
                  <a:pt x="0" y="168"/>
                  <a:pt x="0" y="168"/>
                </a:cubicBezTo>
                <a:cubicBezTo>
                  <a:pt x="3" y="170"/>
                  <a:pt x="6" y="172"/>
                  <a:pt x="9" y="174"/>
                </a:cubicBezTo>
                <a:cubicBezTo>
                  <a:pt x="71" y="209"/>
                  <a:pt x="150" y="188"/>
                  <a:pt x="185" y="126"/>
                </a:cubicBezTo>
                <a:cubicBezTo>
                  <a:pt x="209" y="86"/>
                  <a:pt x="207" y="38"/>
                  <a:pt x="186" y="0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29"/>
          <p:cNvSpPr/>
          <p:nvPr/>
        </p:nvSpPr>
        <p:spPr>
          <a:xfrm>
            <a:off x="9363240" y="1838160"/>
            <a:ext cx="156960" cy="173160"/>
          </a:xfrm>
          <a:custGeom>
            <a:avLst/>
            <a:gdLst>
              <a:gd name="textAreaLeft" fmla="*/ 0 w 156960"/>
              <a:gd name="textAreaRight" fmla="*/ 157320 w 1569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42" h="46">
                <a:moveTo>
                  <a:pt x="0" y="30"/>
                </a:moveTo>
                <a:cubicBezTo>
                  <a:pt x="10" y="37"/>
                  <a:pt x="21" y="42"/>
                  <a:pt x="33" y="46"/>
                </a:cubicBezTo>
                <a:cubicBezTo>
                  <a:pt x="42" y="10"/>
                  <a:pt x="42" y="10"/>
                  <a:pt x="42" y="10"/>
                </a:cubicBezTo>
                <a:cubicBezTo>
                  <a:pt x="35" y="7"/>
                  <a:pt x="29" y="4"/>
                  <a:pt x="23" y="0"/>
                </a:cubicBezTo>
                <a:lnTo>
                  <a:pt x="0" y="30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30"/>
          <p:cNvSpPr/>
          <p:nvPr/>
        </p:nvSpPr>
        <p:spPr>
          <a:xfrm>
            <a:off x="9283680" y="1792440"/>
            <a:ext cx="120600" cy="125280"/>
          </a:xfrm>
          <a:custGeom>
            <a:avLst/>
            <a:gdLst>
              <a:gd name="textAreaLeft" fmla="*/ 0 w 120600"/>
              <a:gd name="textAreaRight" fmla="*/ 120960 w 1206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2" h="33">
                <a:moveTo>
                  <a:pt x="28" y="0"/>
                </a:moveTo>
                <a:cubicBezTo>
                  <a:pt x="0" y="24"/>
                  <a:pt x="0" y="24"/>
                  <a:pt x="0" y="24"/>
                </a:cubicBezTo>
                <a:cubicBezTo>
                  <a:pt x="3" y="27"/>
                  <a:pt x="6" y="30"/>
                  <a:pt x="10" y="3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2"/>
                  <a:pt x="30" y="1"/>
                  <a:pt x="28" y="0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31"/>
          <p:cNvSpPr/>
          <p:nvPr/>
        </p:nvSpPr>
        <p:spPr>
          <a:xfrm>
            <a:off x="9156600" y="1604880"/>
            <a:ext cx="198360" cy="236520"/>
          </a:xfrm>
          <a:custGeom>
            <a:avLst/>
            <a:gdLst>
              <a:gd name="textAreaLeft" fmla="*/ 0 w 198360"/>
              <a:gd name="textAreaRight" fmla="*/ 198720 w 1983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3" h="63">
                <a:moveTo>
                  <a:pt x="37" y="0"/>
                </a:moveTo>
                <a:cubicBezTo>
                  <a:pt x="0" y="4"/>
                  <a:pt x="0" y="4"/>
                  <a:pt x="0" y="4"/>
                </a:cubicBezTo>
                <a:cubicBezTo>
                  <a:pt x="3" y="26"/>
                  <a:pt x="12" y="46"/>
                  <a:pt x="25" y="63"/>
                </a:cubicBezTo>
                <a:cubicBezTo>
                  <a:pt x="53" y="39"/>
                  <a:pt x="53" y="39"/>
                  <a:pt x="53" y="39"/>
                </a:cubicBezTo>
                <a:cubicBezTo>
                  <a:pt x="45" y="28"/>
                  <a:pt x="39" y="15"/>
                  <a:pt x="37" y="0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32"/>
          <p:cNvSpPr/>
          <p:nvPr/>
        </p:nvSpPr>
        <p:spPr>
          <a:xfrm>
            <a:off x="9539280" y="1887480"/>
            <a:ext cx="109440" cy="146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9" h="39">
                <a:moveTo>
                  <a:pt x="0" y="36"/>
                </a:moveTo>
                <a:cubicBezTo>
                  <a:pt x="9" y="38"/>
                  <a:pt x="19" y="39"/>
                  <a:pt x="29" y="39"/>
                </a:cubicBezTo>
                <a:cubicBezTo>
                  <a:pt x="26" y="2"/>
                  <a:pt x="26" y="2"/>
                  <a:pt x="26" y="2"/>
                </a:cubicBezTo>
                <a:cubicBezTo>
                  <a:pt x="20" y="2"/>
                  <a:pt x="15" y="1"/>
                  <a:pt x="9" y="0"/>
                </a:cubicBezTo>
                <a:lnTo>
                  <a:pt x="0" y="36"/>
                </a:ln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33"/>
          <p:cNvSpPr/>
          <p:nvPr/>
        </p:nvSpPr>
        <p:spPr>
          <a:xfrm>
            <a:off x="9140760" y="1041480"/>
            <a:ext cx="1000080" cy="98424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66" h="262">
                <a:moveTo>
                  <a:pt x="123" y="44"/>
                </a:moveTo>
                <a:cubicBezTo>
                  <a:pt x="173" y="39"/>
                  <a:pt x="218" y="76"/>
                  <a:pt x="222" y="127"/>
                </a:cubicBezTo>
                <a:cubicBezTo>
                  <a:pt x="227" y="175"/>
                  <a:pt x="193" y="217"/>
                  <a:pt x="146" y="225"/>
                </a:cubicBezTo>
                <a:cubicBezTo>
                  <a:pt x="150" y="262"/>
                  <a:pt x="150" y="262"/>
                  <a:pt x="150" y="262"/>
                </a:cubicBezTo>
                <a:cubicBezTo>
                  <a:pt x="217" y="253"/>
                  <a:pt x="266" y="192"/>
                  <a:pt x="259" y="123"/>
                </a:cubicBezTo>
                <a:cubicBezTo>
                  <a:pt x="253" y="52"/>
                  <a:pt x="190" y="0"/>
                  <a:pt x="120" y="7"/>
                </a:cubicBezTo>
                <a:cubicBezTo>
                  <a:pt x="51" y="13"/>
                  <a:pt x="0" y="71"/>
                  <a:pt x="2" y="139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39" y="88"/>
                  <a:pt x="75" y="48"/>
                  <a:pt x="123" y="44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34"/>
          <p:cNvSpPr/>
          <p:nvPr/>
        </p:nvSpPr>
        <p:spPr>
          <a:xfrm>
            <a:off x="7238880" y="912960"/>
            <a:ext cx="209520" cy="560160"/>
          </a:xfrm>
          <a:custGeom>
            <a:avLst/>
            <a:gdLst>
              <a:gd name="textAreaLeft" fmla="*/ 0 w 209520"/>
              <a:gd name="textAreaRight" fmla="*/ 209880 w 2095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35"/>
          <p:cNvSpPr/>
          <p:nvPr/>
        </p:nvSpPr>
        <p:spPr>
          <a:xfrm>
            <a:off x="8723160" y="4132440"/>
            <a:ext cx="211320" cy="560160"/>
          </a:xfrm>
          <a:custGeom>
            <a:avLst/>
            <a:gdLst>
              <a:gd name="textAreaLeft" fmla="*/ 0 w 211320"/>
              <a:gd name="textAreaRight" fmla="*/ 211680 w 2113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36"/>
          <p:cNvSpPr/>
          <p:nvPr/>
        </p:nvSpPr>
        <p:spPr>
          <a:xfrm>
            <a:off x="8186760" y="1755720"/>
            <a:ext cx="299880" cy="811440"/>
          </a:xfrm>
          <a:custGeom>
            <a:avLst/>
            <a:gdLst>
              <a:gd name="textAreaLeft" fmla="*/ 0 w 299880"/>
              <a:gd name="textAreaRight" fmla="*/ 300240 w 29988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08a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37"/>
          <p:cNvSpPr/>
          <p:nvPr/>
        </p:nvSpPr>
        <p:spPr>
          <a:xfrm>
            <a:off x="9847440" y="3274920"/>
            <a:ext cx="301320" cy="812880"/>
          </a:xfrm>
          <a:custGeom>
            <a:avLst/>
            <a:gdLst>
              <a:gd name="textAreaLeft" fmla="*/ 0 w 301320"/>
              <a:gd name="textAreaRight" fmla="*/ 301680 w 30132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38"/>
          <p:cNvSpPr/>
          <p:nvPr/>
        </p:nvSpPr>
        <p:spPr>
          <a:xfrm>
            <a:off x="7907400" y="3230640"/>
            <a:ext cx="208080" cy="560160"/>
          </a:xfrm>
          <a:custGeom>
            <a:avLst/>
            <a:gdLst>
              <a:gd name="textAreaLeft" fmla="*/ 0 w 208080"/>
              <a:gd name="textAreaRight" fmla="*/ 208440 w 2080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5" h="149">
                <a:moveTo>
                  <a:pt x="27" y="26"/>
                </a:moveTo>
                <a:cubicBezTo>
                  <a:pt x="35" y="26"/>
                  <a:pt x="40" y="20"/>
                  <a:pt x="40" y="13"/>
                </a:cubicBezTo>
                <a:cubicBezTo>
                  <a:pt x="40" y="6"/>
                  <a:pt x="35" y="0"/>
                  <a:pt x="27" y="0"/>
                </a:cubicBezTo>
                <a:cubicBezTo>
                  <a:pt x="20" y="0"/>
                  <a:pt x="15" y="6"/>
                  <a:pt x="15" y="13"/>
                </a:cubicBezTo>
                <a:cubicBezTo>
                  <a:pt x="15" y="20"/>
                  <a:pt x="20" y="26"/>
                  <a:pt x="27" y="26"/>
                </a:cubicBezTo>
                <a:close/>
                <a:moveTo>
                  <a:pt x="55" y="45"/>
                </a:moveTo>
                <a:cubicBezTo>
                  <a:pt x="55" y="37"/>
                  <a:pt x="49" y="30"/>
                  <a:pt x="40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6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lose/>
              </a:path>
            </a:pathLst>
          </a:custGeom>
          <a:solidFill>
            <a:srgbClr val="5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39"/>
          <p:cNvSpPr/>
          <p:nvPr/>
        </p:nvSpPr>
        <p:spPr>
          <a:xfrm>
            <a:off x="9528120" y="1258920"/>
            <a:ext cx="211320" cy="560520"/>
          </a:xfrm>
          <a:custGeom>
            <a:avLst/>
            <a:gdLst>
              <a:gd name="textAreaLeft" fmla="*/ 0 w 211320"/>
              <a:gd name="textAreaRight" fmla="*/ 211680 w 21132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79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49"/>
          <p:cNvGrpSpPr/>
          <p:nvPr/>
        </p:nvGrpSpPr>
        <p:grpSpPr>
          <a:xfrm>
            <a:off x="8034480" y="870120"/>
            <a:ext cx="1147680" cy="528480"/>
            <a:chOff x="8034480" y="870120"/>
            <a:chExt cx="1147680" cy="528480"/>
          </a:xfrm>
        </p:grpSpPr>
        <p:sp>
          <p:nvSpPr>
            <p:cNvPr id="1541" name="Freeform 10"/>
            <p:cNvSpPr/>
            <p:nvPr/>
          </p:nvSpPr>
          <p:spPr>
            <a:xfrm>
              <a:off x="8182080" y="1085760"/>
              <a:ext cx="153720" cy="3128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08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矩形 192"/>
            <p:cNvSpPr/>
            <p:nvPr/>
          </p:nvSpPr>
          <p:spPr>
            <a:xfrm>
              <a:off x="8034480" y="870120"/>
              <a:ext cx="1147680" cy="368280"/>
            </a:xfrm>
            <a:prstGeom prst="rect">
              <a:avLst/>
            </a:prstGeom>
            <a:solidFill>
              <a:srgbClr val="08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Group 52"/>
          <p:cNvGrpSpPr/>
          <p:nvPr/>
        </p:nvGrpSpPr>
        <p:grpSpPr>
          <a:xfrm>
            <a:off x="9804240" y="2382840"/>
            <a:ext cx="1148040" cy="528480"/>
            <a:chOff x="9804240" y="2382840"/>
            <a:chExt cx="1148040" cy="528480"/>
          </a:xfrm>
        </p:grpSpPr>
        <p:sp>
          <p:nvSpPr>
            <p:cNvPr id="1544" name="Freeform 10"/>
            <p:cNvSpPr/>
            <p:nvPr/>
          </p:nvSpPr>
          <p:spPr>
            <a:xfrm>
              <a:off x="9952200" y="2598480"/>
              <a:ext cx="153720" cy="3128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矩形 196"/>
            <p:cNvSpPr/>
            <p:nvPr/>
          </p:nvSpPr>
          <p:spPr>
            <a:xfrm>
              <a:off x="9804240" y="2382840"/>
              <a:ext cx="1148040" cy="368280"/>
            </a:xfrm>
            <a:prstGeom prst="rect">
              <a:avLst/>
            </a:prstGeom>
            <a:solidFill>
              <a:srgbClr val="59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矩形 199"/>
          <p:cNvSpPr/>
          <p:nvPr/>
        </p:nvSpPr>
        <p:spPr>
          <a:xfrm>
            <a:off x="7416720" y="5541840"/>
            <a:ext cx="40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200"/>
          <p:cNvSpPr/>
          <p:nvPr/>
        </p:nvSpPr>
        <p:spPr>
          <a:xfrm>
            <a:off x="7627320" y="5075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直接连接符 201"/>
          <p:cNvSpPr/>
          <p:nvPr/>
        </p:nvSpPr>
        <p:spPr>
          <a:xfrm flipH="1">
            <a:off x="7476840" y="5459400"/>
            <a:ext cx="117324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直接连接符 205"/>
          <p:cNvSpPr/>
          <p:nvPr/>
        </p:nvSpPr>
        <p:spPr>
          <a:xfrm>
            <a:off x="6095880" y="974880"/>
            <a:ext cx="0" cy="4397400"/>
          </a:xfrm>
          <a:prstGeom prst="line">
            <a:avLst/>
          </a:prstGeom>
          <a:ln w="6480">
            <a:solidFill>
              <a:srgbClr val="20386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206"/>
          <p:cNvSpPr/>
          <p:nvPr/>
        </p:nvSpPr>
        <p:spPr>
          <a:xfrm>
            <a:off x="1219320" y="554184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207"/>
          <p:cNvSpPr/>
          <p:nvPr/>
        </p:nvSpPr>
        <p:spPr>
          <a:xfrm>
            <a:off x="1429560" y="5075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直接连接符 208"/>
          <p:cNvSpPr/>
          <p:nvPr/>
        </p:nvSpPr>
        <p:spPr>
          <a:xfrm flipH="1">
            <a:off x="1279080" y="5459400"/>
            <a:ext cx="117324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直接连接符 106"/>
          <p:cNvSpPr/>
          <p:nvPr/>
        </p:nvSpPr>
        <p:spPr>
          <a:xfrm flipH="1">
            <a:off x="3079800" y="1184400"/>
            <a:ext cx="1147680" cy="0"/>
          </a:xfrm>
          <a:prstGeom prst="line">
            <a:avLst/>
          </a:prstGeom>
          <a:ln w="28440">
            <a:solidFill>
              <a:srgbClr val="79000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2:00:00Z</dcterms:created>
  <dc:creator>Administrator</dc:creator>
  <dc:description/>
  <dc:language>en-US</dc:language>
  <cp:lastModifiedBy>Administrator</cp:lastModifiedBy>
  <dcterms:modified xsi:type="dcterms:W3CDTF">2016-07-25T03:10:18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d610000000000001024100</vt:lpwstr>
  </property>
</Properties>
</file>