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23.png" ContentType="image/png"/>
  <Override PartName="/ppt/media/image13.jpeg" ContentType="image/jpeg"/>
  <Override PartName="/ppt/media/image8.jpeg" ContentType="image/jpeg"/>
  <Override PartName="/ppt/media/image35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37.png" ContentType="image/png"/>
  <Override PartName="/ppt/media/image31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7B36-A64C-4CB5-AEDF-087A6AD81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297F-C8A8-4FC2-85C6-E49A3DF4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876C7-5A14-4A81-BFBF-DCFBE90B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22AE6-5D0D-4EA5-B003-F0302C59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3225D-6477-4D4C-82A5-0CA97E74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E4F3C-08FC-4C69-85CB-E7CBD1CD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E8143-93D5-4978-98C1-1554EA36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FDCE0-00DD-4A62-BC6E-AE80502C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F9259-87B8-436F-AA84-23C292A1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24BAA-1E03-4B13-9FEB-891168420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32C07-C8C8-41C4-9F7D-C3AB9AC79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A2A17-6361-4CA9-B29C-D491410F8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1B70-34B6-4813-A87F-97077F450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E4166-C5EB-4A9A-9FA2-05F339D9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19DA6-6AA4-4256-9CFE-7B48E8C1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20EAB-51F5-4A58-8F5D-D3AE0E03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9B80E-61FC-421E-A79A-D5840F3C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5F6D8-79F7-4022-B499-D4482F2D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9F5F8-9314-4FF6-9154-1B56422D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E6E62-2C4B-426D-8F16-03C5874D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2140E-02BC-4935-BD46-4124215D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94CBC-31D8-45E3-B3B1-D578C393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5C8AC-DA90-46F2-A2E1-29AE14A71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A352-CA2A-4397-B1C2-953DC2C45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9E2F7-D0E8-4B0D-8D27-5C069EF61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13B91-249A-4F81-BFD8-C61A65B2E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49AA3-8998-4484-9E36-F1D28922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E8955-E71A-4F22-A8F0-5983B12C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3749D-1F94-4CBC-A6E8-D5EC69F2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AB029-D2C6-4292-9597-3E92C014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34BE3-9225-4525-993B-4D3C3807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7B6DF-05D9-455E-9A45-E6A783A5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F5F2D-FF74-4ACA-A1BF-7F412ED7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A6277-C702-41C8-B671-6E56BEA7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8889F-9651-4204-9A2D-58B79228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6B79A-B829-4BD9-A2BD-06CCE1449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0F7EF-3285-4CA3-A591-8DC40DF2D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779ED3-C84B-491F-9D38-13DDF8ED0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F1174-7ECF-4DCE-A82A-13CFFFB4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61B1C0-F8A1-4D56-9011-5162187D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AC362-9CFD-431B-B6FA-9617C3E2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7683FA-178E-4BB8-A2E7-CB548D62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F1A5DE-FCD6-4862-973E-ECB730D1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AECB9-29C0-4EA4-913E-51CD7518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5E0A60-1281-457C-88C7-320BD67B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BA5554-56EB-44C3-B94B-DCC3FDAC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2FB96D-0969-4135-94CD-E347595B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D314DA-735E-4088-AE73-2B35CF85E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40FF20-A1C6-4930-AF95-1428777E7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EF348-0B3E-42FC-9F6F-B13FD4CD6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8539F-46AF-4AD9-8C7F-53FA5654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2122B-BDA3-4B1C-B2CD-883D26AE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ADBF57-C0B4-4269-9618-718284FF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8BF1F-F00D-4EA6-B414-D9E31D8A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78253-D4D6-4051-A451-373F808E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0D462-0983-4967-9234-EDF045C6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01BF3-B835-4954-94BA-2967FAB2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1454A-34FB-48CC-B096-ED387360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E7F58-DC6E-4B39-BFAE-2E990B30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849D3-CF88-47F3-88BC-5D7690A0D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6FE0B-AB3E-425D-B9D6-B3A6350D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0480-9092-415A-841F-6864202F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C80D-C7CC-40B0-B701-E4AEED16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EE6B-771E-4A26-AD54-91E61E3CD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A90F-A367-494E-A075-3DC67F7E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73F9-4FB2-46B1-9814-3211C335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58EC-318C-4253-A4CF-04965193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EB15-94EC-4652-BAEC-EE537545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6FC3-D096-4D9B-95B0-14C22E06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BB6F-2608-4888-8157-BCB19AAE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DAC4-DBEE-48B1-91F8-9A21CCD0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0385-B6F0-4C1C-9911-DA46D482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3A61-8392-4E2D-956A-79C8AB2C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DE77-A6C4-44DF-9916-83AF9945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5846-0274-4509-B1A9-797738264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7470-2F03-4D45-8A5E-043BC1DDA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DE818-77F8-4E3B-B498-5EDEA64EB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F069-ED73-4428-A308-C26937D0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68408-2810-4147-88D7-BFD5597E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E4782-F1B6-4F09-BBEC-3B6A5139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0480B-1425-4215-BD2C-0704386E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4EC9A-92F8-41AC-86FA-F1364E84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46DF2-B7E1-43FB-836F-5F390D9E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FB6B8-90D9-4130-81F4-0F890677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4B193-887B-4287-8172-A65496DC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52EDD-CBF2-46FD-9202-FDFBA862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3D86C-3957-4CA6-9A84-3C3A446B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9FB19-C82F-4D69-8DCD-E1386FBA5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B7A4-057A-4F3C-996F-6E4AA68B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909B4-F798-4D0E-AC35-76B94871E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A54F9-2E76-4FC6-9A15-2B48E868B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55A60-2086-453F-A426-D1DAFF32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4A12F-1CDB-4333-B9A6-81B545F2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99DF8-E954-407B-8D09-5E68CE19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6C74F-C36E-45EC-9E1D-96F0195F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6DA0C-70A6-4A9B-AEAD-4FDE7DF7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E8D9B-206F-46B5-B983-46563D18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B449A-0F18-49F3-8DB4-94EC6E08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37920-7F01-4E85-AC89-A3DD6C46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F5BA-51D5-4D2A-BBA3-D8C4C33F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C55BD-EFBF-47DD-904D-B483194F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489A1-71A5-4881-A4D6-0355094A8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FC2B6-A617-44EA-9B3C-D39439033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9CC60-3D6F-4CB8-B3CC-FD7036CDE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3ABA4-DDFC-43D4-AC98-0237819D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264F5-320E-4190-BF6C-CBFC11DC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2B6FF-28D0-439A-B395-2B2A47EC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D79B0-D5CE-4D6F-B02C-B549B088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3D9B2-C215-4ABC-8C3E-EAA9F49E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96BB2-252F-4798-9027-2DBA24A1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AEFF-8AEC-479D-9E0A-0F9D77E5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8F6DC-C18B-4066-ADD2-004399F0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EF40B-D19A-4E52-9412-6DBF6DBE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04BD0-4892-48E6-B18F-793008A0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7288B-5266-431E-9D34-A8A549C13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D030C-E3F3-458D-8DAC-8477AED89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A2928-BBCF-4401-841F-AB89737EF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AF853-614C-403D-AC98-65357354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8C870-968B-41E2-B486-9B5A71B3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406A6-CD5C-4AE0-B26D-4D94DBD5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1991B-4447-4DF5-8231-AF30E6B2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0052-4389-4CB9-8EFB-E6A0D67E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D3FC1-93E1-4DBE-A71E-164ED790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53255-7408-4ED4-8277-2D07985E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50224-1AD4-46BB-8998-4DA35B84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0A534-C070-4E8B-BEF6-388FA0E3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C32D5-7BA2-4A92-B926-A9D90D49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2E373-A3C9-4D6A-B7E9-5C296B645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EC8C3-4D63-49DA-A0A2-A4763C8E7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8E479-1AA8-4F39-A785-6131BB5B7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6B365-0F83-4450-8003-CA716E33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902B5-FE83-4836-B40D-4BAD2281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素彩网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www.sc115.com-ppt</a:t>
            </a: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模板免费下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ADBF-4546-4ECC-A8F4-10BFD094E23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8374-9202-4A9C-92BD-DC98E598D25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1CF1-4310-4883-BB8D-84DFDD654EE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5398-137A-45B1-9576-858BD7F2BE7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7E56-B9DE-4481-9994-E1DD0EB070F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979200"/>
            <a:ext cx="82072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979200"/>
            <a:ext cx="82072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61E0-9078-4EED-A8C5-A0C2157772E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4A53-28E7-46C1-AAC9-2688487F631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7652-5795-4DA8-94F2-5FC92F22CB6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C04C-DB53-4D30-B039-A9A9FB71513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4C41-BC30-4A85-A498-1153D2DF25F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C914-842C-4240-AEF9-C52A9768763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矩形 19"/>
          <p:cNvSpPr/>
          <p:nvPr/>
        </p:nvSpPr>
        <p:spPr>
          <a:xfrm>
            <a:off x="4108320" y="2166840"/>
            <a:ext cx="4977000" cy="1579680"/>
          </a:xfrm>
          <a:custGeom>
            <a:avLst/>
            <a:gdLst>
              <a:gd name="textAreaLeft" fmla="*/ 0 w 4977000"/>
              <a:gd name="textAreaRight" fmla="*/ 4977360 w 4977000"/>
              <a:gd name="textAreaTop" fmla="*/ 0 h 1579680"/>
              <a:gd name="textAreaBottom" fmla="*/ 1580040 h 1579680"/>
            </a:gdLst>
            <a:ahLst/>
            <a:rect l="textAreaLeft" t="textAreaTop" r="textAreaRight" b="textAreaBottom"/>
            <a:pathLst>
              <a:path w="5148064" h="1578165">
                <a:moveTo>
                  <a:pt x="0" y="0"/>
                </a:moveTo>
                <a:lnTo>
                  <a:pt x="5148064" y="0"/>
                </a:lnTo>
                <a:lnTo>
                  <a:pt x="5100563" y="1411909"/>
                </a:lnTo>
                <a:cubicBezTo>
                  <a:pt x="3384542" y="1411909"/>
                  <a:pt x="1343404" y="1471286"/>
                  <a:pt x="0" y="1578165"/>
                </a:cubicBezTo>
                <a:lnTo>
                  <a:pt x="0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矩形 5"/>
          <p:cNvSpPr/>
          <p:nvPr/>
        </p:nvSpPr>
        <p:spPr>
          <a:xfrm>
            <a:off x="3995640" y="2014560"/>
            <a:ext cx="5148360" cy="1577880"/>
          </a:xfrm>
          <a:prstGeom prst="rect">
            <a:avLst/>
          </a:prstGeom>
          <a:solidFill>
            <a:srgbClr val="cd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矩形 6"/>
          <p:cNvSpPr/>
          <p:nvPr/>
        </p:nvSpPr>
        <p:spPr>
          <a:xfrm>
            <a:off x="4437000" y="1703520"/>
            <a:ext cx="2232000" cy="6490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矩形 7"/>
          <p:cNvSpPr/>
          <p:nvPr/>
        </p:nvSpPr>
        <p:spPr>
          <a:xfrm>
            <a:off x="5096880" y="1735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树枝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684360" y="2303640"/>
            <a:ext cx="2778120" cy="374328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4" descr=""/>
          <p:cNvPicPr/>
          <p:nvPr/>
        </p:nvPicPr>
        <p:blipFill>
          <a:blip r:embed="rId2"/>
          <a:stretch/>
        </p:blipFill>
        <p:spPr>
          <a:xfrm>
            <a:off x="4649760" y="3029040"/>
            <a:ext cx="2249640" cy="68904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5" descr=""/>
          <p:cNvPicPr/>
          <p:nvPr/>
        </p:nvPicPr>
        <p:blipFill>
          <a:blip r:embed="rId3"/>
          <a:srcRect l="0" t="0" r="58180" b="0"/>
          <a:stretch/>
        </p:blipFill>
        <p:spPr>
          <a:xfrm>
            <a:off x="4738680" y="4175280"/>
            <a:ext cx="1522440" cy="2292120"/>
          </a:xfrm>
          <a:prstGeom prst="rect">
            <a:avLst/>
          </a:prstGeom>
          <a:ln w="0">
            <a:noFill/>
          </a:ln>
        </p:spPr>
      </p:pic>
      <p:sp>
        <p:nvSpPr>
          <p:cNvPr id="536" name="椭圆 1"/>
          <p:cNvSpPr/>
          <p:nvPr/>
        </p:nvSpPr>
        <p:spPr>
          <a:xfrm>
            <a:off x="539640" y="260280"/>
            <a:ext cx="576360" cy="576360"/>
          </a:xfrm>
          <a:prstGeom prst="ellipse">
            <a:avLst/>
          </a:prstGeom>
          <a:noFill/>
          <a:ln w="93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矩形 2"/>
          <p:cNvSpPr/>
          <p:nvPr/>
        </p:nvSpPr>
        <p:spPr>
          <a:xfrm>
            <a:off x="496440" y="380880"/>
            <a:ext cx="66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4"/>
          <p:cNvSpPr/>
          <p:nvPr/>
        </p:nvSpPr>
        <p:spPr>
          <a:xfrm>
            <a:off x="5373000" y="24512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超粗黑简体"/>
                <a:ea typeface="方正超粗黑简体"/>
              </a:rPr>
              <a:t>在这里写答辩题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页脚占位符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"/>
          <p:cNvPicPr/>
          <p:nvPr/>
        </p:nvPicPr>
        <p:blipFill>
          <a:blip r:embed="rId1"/>
          <a:stretch/>
        </p:blipFill>
        <p:spPr>
          <a:xfrm>
            <a:off x="2725560" y="2637000"/>
            <a:ext cx="2816280" cy="37922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3" descr=""/>
          <p:cNvPicPr/>
          <p:nvPr/>
        </p:nvPicPr>
        <p:blipFill>
          <a:blip r:embed="rId2"/>
          <a:stretch/>
        </p:blipFill>
        <p:spPr>
          <a:xfrm>
            <a:off x="5173560" y="806400"/>
            <a:ext cx="1652760" cy="19321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2" descr=""/>
          <p:cNvPicPr/>
          <p:nvPr/>
        </p:nvPicPr>
        <p:blipFill>
          <a:blip r:embed="rId3"/>
          <a:stretch/>
        </p:blipFill>
        <p:spPr>
          <a:xfrm>
            <a:off x="1644480" y="1789200"/>
            <a:ext cx="408240" cy="29196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2" descr=""/>
          <p:cNvPicPr/>
          <p:nvPr/>
        </p:nvPicPr>
        <p:blipFill>
          <a:blip r:embed="rId4"/>
          <a:stretch/>
        </p:blipFill>
        <p:spPr>
          <a:xfrm>
            <a:off x="1650960" y="1062000"/>
            <a:ext cx="407880" cy="291960"/>
          </a:xfrm>
          <a:prstGeom prst="rect">
            <a:avLst/>
          </a:prstGeom>
          <a:ln w="0">
            <a:noFill/>
          </a:ln>
        </p:spPr>
      </p:pic>
      <p:sp>
        <p:nvSpPr>
          <p:cNvPr id="607" name="矩形 23"/>
          <p:cNvSpPr/>
          <p:nvPr/>
        </p:nvSpPr>
        <p:spPr>
          <a:xfrm>
            <a:off x="2057400" y="1042920"/>
            <a:ext cx="811080" cy="325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矩形 24"/>
          <p:cNvSpPr/>
          <p:nvPr/>
        </p:nvSpPr>
        <p:spPr>
          <a:xfrm>
            <a:off x="841320" y="1038240"/>
            <a:ext cx="811440" cy="32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矩形 25"/>
          <p:cNvSpPr/>
          <p:nvPr/>
        </p:nvSpPr>
        <p:spPr>
          <a:xfrm>
            <a:off x="835200" y="1773360"/>
            <a:ext cx="811080" cy="3236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矩形 26"/>
          <p:cNvSpPr/>
          <p:nvPr/>
        </p:nvSpPr>
        <p:spPr>
          <a:xfrm>
            <a:off x="2049480" y="1773360"/>
            <a:ext cx="811080" cy="323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Box 27"/>
          <p:cNvSpPr/>
          <p:nvPr/>
        </p:nvSpPr>
        <p:spPr>
          <a:xfrm>
            <a:off x="1415160" y="10620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TextBox 28"/>
          <p:cNvSpPr/>
          <p:nvPr/>
        </p:nvSpPr>
        <p:spPr>
          <a:xfrm>
            <a:off x="2050920" y="106668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Box 29"/>
          <p:cNvSpPr/>
          <p:nvPr/>
        </p:nvSpPr>
        <p:spPr>
          <a:xfrm>
            <a:off x="1406160" y="179712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30"/>
          <p:cNvSpPr/>
          <p:nvPr/>
        </p:nvSpPr>
        <p:spPr>
          <a:xfrm>
            <a:off x="2025000" y="17971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5" name="Picture 2" descr=""/>
          <p:cNvPicPr/>
          <p:nvPr/>
        </p:nvPicPr>
        <p:blipFill>
          <a:blip r:embed="rId5"/>
          <a:stretch/>
        </p:blipFill>
        <p:spPr>
          <a:xfrm>
            <a:off x="277920" y="189000"/>
            <a:ext cx="1590480" cy="646200"/>
          </a:xfrm>
          <a:prstGeom prst="rect">
            <a:avLst/>
          </a:prstGeom>
          <a:ln w="0">
            <a:noFill/>
          </a:ln>
        </p:spPr>
      </p:pic>
      <p:sp>
        <p:nvSpPr>
          <p:cNvPr id="616" name="页脚占位符 1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1654200" y="1830240"/>
            <a:ext cx="407880" cy="2923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2" descr=""/>
          <p:cNvPicPr/>
          <p:nvPr/>
        </p:nvPicPr>
        <p:blipFill>
          <a:blip r:embed="rId2"/>
          <a:stretch/>
        </p:blipFill>
        <p:spPr>
          <a:xfrm>
            <a:off x="1650960" y="1062000"/>
            <a:ext cx="407880" cy="291960"/>
          </a:xfrm>
          <a:prstGeom prst="rect">
            <a:avLst/>
          </a:prstGeom>
          <a:ln w="0">
            <a:noFill/>
          </a:ln>
        </p:spPr>
      </p:pic>
      <p:sp>
        <p:nvSpPr>
          <p:cNvPr id="619" name="右箭头 33"/>
          <p:cNvSpPr/>
          <p:nvPr/>
        </p:nvSpPr>
        <p:spPr>
          <a:xfrm>
            <a:off x="2089080" y="4719600"/>
            <a:ext cx="520920" cy="1890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右箭头 34"/>
          <p:cNvSpPr/>
          <p:nvPr/>
        </p:nvSpPr>
        <p:spPr>
          <a:xfrm>
            <a:off x="4576680" y="4699080"/>
            <a:ext cx="520920" cy="19044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1" name="Group 6"/>
          <p:cNvGrpSpPr/>
          <p:nvPr/>
        </p:nvGrpSpPr>
        <p:grpSpPr>
          <a:xfrm>
            <a:off x="690480" y="3738600"/>
            <a:ext cx="1362240" cy="1892160"/>
            <a:chOff x="690480" y="3738600"/>
            <a:chExt cx="1362240" cy="1892160"/>
          </a:xfrm>
        </p:grpSpPr>
        <p:sp>
          <p:nvSpPr>
            <p:cNvPr id="622" name="椭圆 11"/>
            <p:cNvSpPr/>
            <p:nvPr/>
          </p:nvSpPr>
          <p:spPr>
            <a:xfrm>
              <a:off x="690480" y="5214960"/>
              <a:ext cx="415800" cy="415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3" name="Picture 2" descr=""/>
            <p:cNvPicPr/>
            <p:nvPr/>
          </p:nvPicPr>
          <p:blipFill>
            <a:blip r:embed="rId3"/>
            <a:stretch/>
          </p:blipFill>
          <p:spPr>
            <a:xfrm>
              <a:off x="770760" y="3738600"/>
              <a:ext cx="1281960" cy="172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4" name="Group 9"/>
          <p:cNvGrpSpPr/>
          <p:nvPr/>
        </p:nvGrpSpPr>
        <p:grpSpPr>
          <a:xfrm>
            <a:off x="2868480" y="3241800"/>
            <a:ext cx="1851120" cy="2501640"/>
            <a:chOff x="2868480" y="3241800"/>
            <a:chExt cx="1851120" cy="2501640"/>
          </a:xfrm>
        </p:grpSpPr>
        <p:sp>
          <p:nvSpPr>
            <p:cNvPr id="625" name="椭圆 17"/>
            <p:cNvSpPr/>
            <p:nvPr/>
          </p:nvSpPr>
          <p:spPr>
            <a:xfrm>
              <a:off x="2868480" y="5327640"/>
              <a:ext cx="415800" cy="415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6" name="Picture 4" descr=""/>
            <p:cNvPicPr/>
            <p:nvPr/>
          </p:nvPicPr>
          <p:blipFill>
            <a:blip r:embed="rId4"/>
            <a:stretch/>
          </p:blipFill>
          <p:spPr>
            <a:xfrm>
              <a:off x="2974320" y="3241800"/>
              <a:ext cx="1745280" cy="234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7" name="Group 12"/>
          <p:cNvGrpSpPr/>
          <p:nvPr/>
        </p:nvGrpSpPr>
        <p:grpSpPr>
          <a:xfrm>
            <a:off x="5156640" y="1452960"/>
            <a:ext cx="3873240" cy="4290480"/>
            <a:chOff x="5156640" y="1452960"/>
            <a:chExt cx="3873240" cy="4290480"/>
          </a:xfrm>
        </p:grpSpPr>
        <p:sp>
          <p:nvSpPr>
            <p:cNvPr id="628" name="椭圆 32"/>
            <p:cNvSpPr/>
            <p:nvPr/>
          </p:nvSpPr>
          <p:spPr>
            <a:xfrm>
              <a:off x="5291280" y="5327640"/>
              <a:ext cx="415800" cy="415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9" name="Picture 4" descr=""/>
            <p:cNvPicPr/>
            <p:nvPr/>
          </p:nvPicPr>
          <p:blipFill>
            <a:blip r:embed="rId5"/>
            <a:stretch/>
          </p:blipFill>
          <p:spPr>
            <a:xfrm>
              <a:off x="5407560" y="3218040"/>
              <a:ext cx="1744200" cy="23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2" descr=""/>
            <p:cNvPicPr/>
            <p:nvPr/>
          </p:nvPicPr>
          <p:blipFill>
            <a:blip r:embed="rId6"/>
            <a:stretch/>
          </p:blipFill>
          <p:spPr>
            <a:xfrm rot="18427200">
              <a:off x="5590800" y="1621800"/>
              <a:ext cx="1282680" cy="17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2" descr=""/>
            <p:cNvPicPr/>
            <p:nvPr/>
          </p:nvPicPr>
          <p:blipFill>
            <a:blip r:embed="rId7"/>
            <a:stretch/>
          </p:blipFill>
          <p:spPr>
            <a:xfrm rot="3054600">
              <a:off x="7313400" y="2706840"/>
              <a:ext cx="1282680" cy="172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2" name="矩形 9"/>
          <p:cNvSpPr/>
          <p:nvPr/>
        </p:nvSpPr>
        <p:spPr>
          <a:xfrm>
            <a:off x="2057400" y="1042920"/>
            <a:ext cx="811080" cy="325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矩形 42"/>
          <p:cNvSpPr/>
          <p:nvPr/>
        </p:nvSpPr>
        <p:spPr>
          <a:xfrm>
            <a:off x="841320" y="1038240"/>
            <a:ext cx="811440" cy="32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矩形 43"/>
          <p:cNvSpPr/>
          <p:nvPr/>
        </p:nvSpPr>
        <p:spPr>
          <a:xfrm>
            <a:off x="844560" y="1812960"/>
            <a:ext cx="811080" cy="3254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矩形 44"/>
          <p:cNvSpPr/>
          <p:nvPr/>
        </p:nvSpPr>
        <p:spPr>
          <a:xfrm>
            <a:off x="2058840" y="1812960"/>
            <a:ext cx="811440" cy="325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extBox 10"/>
          <p:cNvSpPr/>
          <p:nvPr/>
        </p:nvSpPr>
        <p:spPr>
          <a:xfrm>
            <a:off x="1415160" y="10620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TextBox 45"/>
          <p:cNvSpPr/>
          <p:nvPr/>
        </p:nvSpPr>
        <p:spPr>
          <a:xfrm>
            <a:off x="2050920" y="106668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TextBox 46"/>
          <p:cNvSpPr/>
          <p:nvPr/>
        </p:nvSpPr>
        <p:spPr>
          <a:xfrm>
            <a:off x="1415880" y="183672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TextBox 47"/>
          <p:cNvSpPr/>
          <p:nvPr/>
        </p:nvSpPr>
        <p:spPr>
          <a:xfrm>
            <a:off x="2034360" y="18367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0" name="Picture 2" descr=""/>
          <p:cNvPicPr/>
          <p:nvPr/>
        </p:nvPicPr>
        <p:blipFill>
          <a:blip r:embed="rId8"/>
          <a:stretch/>
        </p:blipFill>
        <p:spPr>
          <a:xfrm>
            <a:off x="277920" y="189000"/>
            <a:ext cx="1590480" cy="646200"/>
          </a:xfrm>
          <a:prstGeom prst="rect">
            <a:avLst/>
          </a:prstGeom>
          <a:ln w="0">
            <a:noFill/>
          </a:ln>
        </p:spPr>
      </p:pic>
      <p:sp>
        <p:nvSpPr>
          <p:cNvPr id="641" name="页脚占位符 2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矩形 19"/>
          <p:cNvSpPr/>
          <p:nvPr/>
        </p:nvSpPr>
        <p:spPr>
          <a:xfrm>
            <a:off x="4108320" y="2166840"/>
            <a:ext cx="4977000" cy="1579680"/>
          </a:xfrm>
          <a:custGeom>
            <a:avLst/>
            <a:gdLst>
              <a:gd name="textAreaLeft" fmla="*/ 0 w 4977000"/>
              <a:gd name="textAreaRight" fmla="*/ 4977360 w 4977000"/>
              <a:gd name="textAreaTop" fmla="*/ 0 h 1579680"/>
              <a:gd name="textAreaBottom" fmla="*/ 1580040 h 1579680"/>
            </a:gdLst>
            <a:ahLst/>
            <a:rect l="textAreaLeft" t="textAreaTop" r="textAreaRight" b="textAreaBottom"/>
            <a:pathLst>
              <a:path w="5148064" h="1578165">
                <a:moveTo>
                  <a:pt x="0" y="0"/>
                </a:moveTo>
                <a:lnTo>
                  <a:pt x="5148064" y="0"/>
                </a:lnTo>
                <a:lnTo>
                  <a:pt x="5100563" y="1411909"/>
                </a:lnTo>
                <a:cubicBezTo>
                  <a:pt x="3384542" y="1411909"/>
                  <a:pt x="1343404" y="1471286"/>
                  <a:pt x="0" y="1578165"/>
                </a:cubicBezTo>
                <a:lnTo>
                  <a:pt x="0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矩形 5"/>
          <p:cNvSpPr/>
          <p:nvPr/>
        </p:nvSpPr>
        <p:spPr>
          <a:xfrm>
            <a:off x="3995640" y="2014560"/>
            <a:ext cx="5148360" cy="1577880"/>
          </a:xfrm>
          <a:prstGeom prst="rect">
            <a:avLst/>
          </a:prstGeom>
          <a:solidFill>
            <a:srgbClr val="cd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矩形 6"/>
          <p:cNvSpPr/>
          <p:nvPr/>
        </p:nvSpPr>
        <p:spPr>
          <a:xfrm>
            <a:off x="4437000" y="1703520"/>
            <a:ext cx="2232000" cy="6490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矩形 7"/>
          <p:cNvSpPr/>
          <p:nvPr/>
        </p:nvSpPr>
        <p:spPr>
          <a:xfrm>
            <a:off x="5096880" y="1735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树枝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6" name="Picture 2" descr=""/>
          <p:cNvPicPr/>
          <p:nvPr/>
        </p:nvPicPr>
        <p:blipFill>
          <a:blip r:embed="rId1"/>
          <a:stretch/>
        </p:blipFill>
        <p:spPr>
          <a:xfrm>
            <a:off x="684360" y="2303640"/>
            <a:ext cx="2778120" cy="37432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4" descr=""/>
          <p:cNvPicPr/>
          <p:nvPr/>
        </p:nvPicPr>
        <p:blipFill>
          <a:blip r:embed="rId2"/>
          <a:stretch/>
        </p:blipFill>
        <p:spPr>
          <a:xfrm>
            <a:off x="4649760" y="3029040"/>
            <a:ext cx="2249640" cy="68904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5" descr=""/>
          <p:cNvPicPr/>
          <p:nvPr/>
        </p:nvPicPr>
        <p:blipFill>
          <a:blip r:embed="rId3"/>
          <a:srcRect l="0" t="0" r="58180" b="0"/>
          <a:stretch/>
        </p:blipFill>
        <p:spPr>
          <a:xfrm>
            <a:off x="4738680" y="4175280"/>
            <a:ext cx="1522440" cy="2292120"/>
          </a:xfrm>
          <a:prstGeom prst="rect">
            <a:avLst/>
          </a:prstGeom>
          <a:ln w="0">
            <a:noFill/>
          </a:ln>
        </p:spPr>
      </p:pic>
      <p:sp>
        <p:nvSpPr>
          <p:cNvPr id="649" name="椭圆 1"/>
          <p:cNvSpPr/>
          <p:nvPr/>
        </p:nvSpPr>
        <p:spPr>
          <a:xfrm>
            <a:off x="539640" y="260280"/>
            <a:ext cx="576360" cy="576360"/>
          </a:xfrm>
          <a:prstGeom prst="ellipse">
            <a:avLst/>
          </a:prstGeom>
          <a:noFill/>
          <a:ln w="93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矩形 2"/>
          <p:cNvSpPr/>
          <p:nvPr/>
        </p:nvSpPr>
        <p:spPr>
          <a:xfrm>
            <a:off x="496440" y="380880"/>
            <a:ext cx="66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Box 4"/>
          <p:cNvSpPr/>
          <p:nvPr/>
        </p:nvSpPr>
        <p:spPr>
          <a:xfrm>
            <a:off x="5373000" y="24512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超粗黑简体"/>
                <a:ea typeface="方正超粗黑简体"/>
              </a:rPr>
              <a:t>在这里写答辩题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页脚占位符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图片 1" descr=""/>
          <p:cNvPicPr/>
          <p:nvPr/>
        </p:nvPicPr>
        <p:blipFill>
          <a:blip r:embed="rId1"/>
          <a:srcRect l="9607" t="25379" r="3188" b="11018"/>
          <a:stretch/>
        </p:blipFill>
        <p:spPr>
          <a:xfrm>
            <a:off x="1763640" y="1268280"/>
            <a:ext cx="5545080" cy="4981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41" name="Picture 2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200320" cy="646200"/>
          </a:xfrm>
          <a:prstGeom prst="rect">
            <a:avLst/>
          </a:prstGeom>
          <a:ln w="0">
            <a:noFill/>
          </a:ln>
        </p:spPr>
      </p:pic>
      <p:sp>
        <p:nvSpPr>
          <p:cNvPr id="542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矩形 15"/>
          <p:cNvSpPr/>
          <p:nvPr/>
        </p:nvSpPr>
        <p:spPr>
          <a:xfrm>
            <a:off x="971640" y="4995720"/>
            <a:ext cx="7416720" cy="1584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矩形 14"/>
          <p:cNvSpPr/>
          <p:nvPr/>
        </p:nvSpPr>
        <p:spPr>
          <a:xfrm>
            <a:off x="4846680" y="5848200"/>
            <a:ext cx="3095640" cy="544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矩形 13"/>
          <p:cNvSpPr/>
          <p:nvPr/>
        </p:nvSpPr>
        <p:spPr>
          <a:xfrm>
            <a:off x="1407960" y="5843520"/>
            <a:ext cx="3095640" cy="5428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矩形 12"/>
          <p:cNvSpPr/>
          <p:nvPr/>
        </p:nvSpPr>
        <p:spPr>
          <a:xfrm>
            <a:off x="4846680" y="5197320"/>
            <a:ext cx="3095640" cy="544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矩形 11"/>
          <p:cNvSpPr/>
          <p:nvPr/>
        </p:nvSpPr>
        <p:spPr>
          <a:xfrm>
            <a:off x="1407960" y="5191200"/>
            <a:ext cx="3095640" cy="544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图片 9" descr=""/>
          <p:cNvPicPr/>
          <p:nvPr/>
        </p:nvPicPr>
        <p:blipFill>
          <a:blip r:embed="rId1"/>
          <a:srcRect l="39477" t="0" r="0" b="8170"/>
          <a:stretch/>
        </p:blipFill>
        <p:spPr>
          <a:xfrm>
            <a:off x="5276880" y="1319040"/>
            <a:ext cx="2679840" cy="256572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10" descr=""/>
          <p:cNvPicPr/>
          <p:nvPr/>
        </p:nvPicPr>
        <p:blipFill>
          <a:blip r:embed="rId2"/>
          <a:srcRect l="0" t="0" r="52754" b="0"/>
          <a:stretch/>
        </p:blipFill>
        <p:spPr>
          <a:xfrm>
            <a:off x="1527120" y="1538280"/>
            <a:ext cx="2152800" cy="21258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2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3724200" cy="6462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7" descr=""/>
          <p:cNvPicPr/>
          <p:nvPr/>
        </p:nvPicPr>
        <p:blipFill>
          <a:blip r:embed="rId4"/>
          <a:stretch/>
        </p:blipFill>
        <p:spPr>
          <a:xfrm>
            <a:off x="1717560" y="3876840"/>
            <a:ext cx="5707080" cy="5490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12" descr=""/>
          <p:cNvPicPr/>
          <p:nvPr/>
        </p:nvPicPr>
        <p:blipFill>
          <a:blip r:embed="rId5"/>
          <a:stretch/>
        </p:blipFill>
        <p:spPr>
          <a:xfrm>
            <a:off x="2013120" y="5238720"/>
            <a:ext cx="5333760" cy="1219320"/>
          </a:xfrm>
          <a:prstGeom prst="rect">
            <a:avLst/>
          </a:prstGeom>
          <a:ln w="0">
            <a:noFill/>
          </a:ln>
        </p:spPr>
      </p:pic>
      <p:sp>
        <p:nvSpPr>
          <p:cNvPr id="553" name="页脚占位符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矩形 13"/>
          <p:cNvSpPr/>
          <p:nvPr/>
        </p:nvSpPr>
        <p:spPr>
          <a:xfrm>
            <a:off x="992160" y="3629160"/>
            <a:ext cx="3036960" cy="792000"/>
          </a:xfrm>
          <a:custGeom>
            <a:avLst/>
            <a:gdLst>
              <a:gd name="textAreaLeft" fmla="*/ 0 w 3036960"/>
              <a:gd name="textAreaRight" fmla="*/ 3037320 w 303696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3161918" h="791386">
                <a:moveTo>
                  <a:pt x="0" y="0"/>
                </a:moveTo>
                <a:lnTo>
                  <a:pt x="3161918" y="0"/>
                </a:lnTo>
                <a:lnTo>
                  <a:pt x="3161918" y="791386"/>
                </a:lnTo>
                <a:cubicBezTo>
                  <a:pt x="2345451" y="672633"/>
                  <a:pt x="1137100" y="625132"/>
                  <a:pt x="0" y="791386"/>
                </a:cubicBezTo>
                <a:lnTo>
                  <a:pt x="0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图片 1" descr=""/>
          <p:cNvPicPr/>
          <p:nvPr/>
        </p:nvPicPr>
        <p:blipFill>
          <a:blip r:embed="rId1"/>
          <a:stretch/>
        </p:blipFill>
        <p:spPr>
          <a:xfrm>
            <a:off x="930240" y="1538280"/>
            <a:ext cx="3160800" cy="2766960"/>
          </a:xfrm>
          <a:prstGeom prst="rect">
            <a:avLst/>
          </a:prstGeom>
          <a:ln w="0">
            <a:noFill/>
          </a:ln>
        </p:spPr>
      </p:pic>
      <p:sp>
        <p:nvSpPr>
          <p:cNvPr id="556" name="矩形 10"/>
          <p:cNvSpPr/>
          <p:nvPr/>
        </p:nvSpPr>
        <p:spPr>
          <a:xfrm>
            <a:off x="4487760" y="3782880"/>
            <a:ext cx="3961080" cy="544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矩形 7"/>
          <p:cNvSpPr/>
          <p:nvPr/>
        </p:nvSpPr>
        <p:spPr>
          <a:xfrm>
            <a:off x="4500720" y="1560600"/>
            <a:ext cx="3958920" cy="544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矩形 8"/>
          <p:cNvSpPr/>
          <p:nvPr/>
        </p:nvSpPr>
        <p:spPr>
          <a:xfrm>
            <a:off x="4487760" y="2235240"/>
            <a:ext cx="3961080" cy="744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矩形 9"/>
          <p:cNvSpPr/>
          <p:nvPr/>
        </p:nvSpPr>
        <p:spPr>
          <a:xfrm>
            <a:off x="4500720" y="3110040"/>
            <a:ext cx="3958920" cy="5428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矩形 17"/>
          <p:cNvSpPr/>
          <p:nvPr/>
        </p:nvSpPr>
        <p:spPr>
          <a:xfrm>
            <a:off x="662040" y="5229360"/>
            <a:ext cx="7777080" cy="131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c,A.;Douce,T.B.;Ahuja,N.;Kotlyar,A.. AnticancerDrugs 2008, 19,143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ylor,A.M.;Goddard,W.A.;Keifer,G.E.;Tomalia,D.A. J.Am.Chem.Soc. 1989, 111,2339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e,C.C.;MacKay,J.A.;Frechet,J.M.J.;Szoka,F.C..  Nat.Biotechnol. 2005, 23,1517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oya,T.;Lee,J.;Park,K. Bioconj.Chem. 2004, 15,122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extBox 18"/>
          <p:cNvSpPr/>
          <p:nvPr/>
        </p:nvSpPr>
        <p:spPr>
          <a:xfrm>
            <a:off x="642240" y="486900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2" name="图片 20" descr=""/>
          <p:cNvPicPr/>
          <p:nvPr/>
        </p:nvPicPr>
        <p:blipFill>
          <a:blip r:embed="rId2"/>
          <a:srcRect l="62470" t="4676" r="25308" b="77239"/>
          <a:stretch/>
        </p:blipFill>
        <p:spPr>
          <a:xfrm>
            <a:off x="3679920" y="1474920"/>
            <a:ext cx="531720" cy="7855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2" descr=""/>
          <p:cNvPicPr/>
          <p:nvPr/>
        </p:nvPicPr>
        <p:blipFill>
          <a:blip r:embed="rId3"/>
          <a:stretch/>
        </p:blipFill>
        <p:spPr>
          <a:xfrm>
            <a:off x="687240" y="839880"/>
            <a:ext cx="6164280" cy="6462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17" descr=""/>
          <p:cNvPicPr/>
          <p:nvPr/>
        </p:nvPicPr>
        <p:blipFill>
          <a:blip r:embed="rId4"/>
          <a:stretch/>
        </p:blipFill>
        <p:spPr>
          <a:xfrm>
            <a:off x="4579920" y="1587600"/>
            <a:ext cx="1878120" cy="2773440"/>
          </a:xfrm>
          <a:prstGeom prst="rect">
            <a:avLst/>
          </a:prstGeom>
          <a:ln w="0">
            <a:noFill/>
          </a:ln>
        </p:spPr>
      </p:pic>
      <p:sp>
        <p:nvSpPr>
          <p:cNvPr id="565" name="页脚占位符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矩形 11"/>
          <p:cNvSpPr/>
          <p:nvPr/>
        </p:nvSpPr>
        <p:spPr>
          <a:xfrm>
            <a:off x="1116000" y="1425600"/>
            <a:ext cx="7012080" cy="5443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矩形 12"/>
          <p:cNvSpPr/>
          <p:nvPr/>
        </p:nvSpPr>
        <p:spPr>
          <a:xfrm>
            <a:off x="1116000" y="2143080"/>
            <a:ext cx="7012080" cy="5446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矩形 13"/>
          <p:cNvSpPr/>
          <p:nvPr/>
        </p:nvSpPr>
        <p:spPr>
          <a:xfrm>
            <a:off x="1116000" y="2830680"/>
            <a:ext cx="7012080" cy="5443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矩形 14"/>
          <p:cNvSpPr/>
          <p:nvPr/>
        </p:nvSpPr>
        <p:spPr>
          <a:xfrm>
            <a:off x="1116000" y="3487680"/>
            <a:ext cx="7012080" cy="5446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矩形 2"/>
          <p:cNvSpPr/>
          <p:nvPr/>
        </p:nvSpPr>
        <p:spPr>
          <a:xfrm>
            <a:off x="1921680" y="149868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此处添加文本，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矩形 3"/>
          <p:cNvSpPr/>
          <p:nvPr/>
        </p:nvSpPr>
        <p:spPr>
          <a:xfrm>
            <a:off x="1921680" y="221616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此处添加文本，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矩形 4"/>
          <p:cNvSpPr/>
          <p:nvPr/>
        </p:nvSpPr>
        <p:spPr>
          <a:xfrm>
            <a:off x="1921680" y="286380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此处添加文本，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矩形 5"/>
          <p:cNvSpPr/>
          <p:nvPr/>
        </p:nvSpPr>
        <p:spPr>
          <a:xfrm>
            <a:off x="1243080" y="3581280"/>
            <a:ext cx="66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此处添加文本，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矩形 6"/>
          <p:cNvSpPr/>
          <p:nvPr/>
        </p:nvSpPr>
        <p:spPr>
          <a:xfrm>
            <a:off x="765000" y="1440000"/>
            <a:ext cx="117720" cy="542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矩形 7"/>
          <p:cNvSpPr/>
          <p:nvPr/>
        </p:nvSpPr>
        <p:spPr>
          <a:xfrm>
            <a:off x="888840" y="1440000"/>
            <a:ext cx="117720" cy="542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矩形 8"/>
          <p:cNvSpPr/>
          <p:nvPr/>
        </p:nvSpPr>
        <p:spPr>
          <a:xfrm>
            <a:off x="880920" y="2135160"/>
            <a:ext cx="117720" cy="544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矩形 9"/>
          <p:cNvSpPr/>
          <p:nvPr/>
        </p:nvSpPr>
        <p:spPr>
          <a:xfrm>
            <a:off x="880920" y="2790720"/>
            <a:ext cx="117720" cy="544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矩形 10"/>
          <p:cNvSpPr/>
          <p:nvPr/>
        </p:nvSpPr>
        <p:spPr>
          <a:xfrm>
            <a:off x="865080" y="3487680"/>
            <a:ext cx="117720" cy="544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矩形 15"/>
          <p:cNvSpPr/>
          <p:nvPr/>
        </p:nvSpPr>
        <p:spPr>
          <a:xfrm>
            <a:off x="458640" y="4878360"/>
            <a:ext cx="8229600" cy="1554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ancesco M. Veronese, Gianfranco Pasut. Drug Discovery Today, 2005, 10(21), 1451-1458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antinos M. Paleos, Dimitris Tsiourvas, Zili Sideratou, Leto Tziveleka. Current Topics in Medicinal Chemistry, 2008, 8, 1204-1224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u Hui Corresponding, Fan Xiaodong, Cao Zhonglin. Polymer, 2005, 46(22), 9514-952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iaoqiangYang, JamisonJ. Grailer, Srikanth Pilla, Douglas A. Steeber, Shaoqin Gong. Bioconjugate Chem. 2010, 21, 496–504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16"/>
          <p:cNvSpPr/>
          <p:nvPr/>
        </p:nvSpPr>
        <p:spPr>
          <a:xfrm>
            <a:off x="437400" y="451800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5859720" cy="646200"/>
          </a:xfrm>
          <a:prstGeom prst="rect">
            <a:avLst/>
          </a:prstGeom>
          <a:ln w="0">
            <a:noFill/>
          </a:ln>
        </p:spPr>
      </p:pic>
      <p:sp>
        <p:nvSpPr>
          <p:cNvPr id="582" name="页脚占位符 1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图片 2" descr=""/>
          <p:cNvPicPr/>
          <p:nvPr/>
        </p:nvPicPr>
        <p:blipFill>
          <a:blip r:embed="rId1"/>
          <a:stretch/>
        </p:blipFill>
        <p:spPr>
          <a:xfrm>
            <a:off x="1701720" y="1268280"/>
            <a:ext cx="5770800" cy="47149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" descr=""/>
          <p:cNvPicPr/>
          <p:nvPr/>
        </p:nvPicPr>
        <p:blipFill>
          <a:blip r:embed="rId2"/>
          <a:stretch/>
        </p:blipFill>
        <p:spPr>
          <a:xfrm>
            <a:off x="601560" y="404640"/>
            <a:ext cx="2200320" cy="646200"/>
          </a:xfrm>
          <a:prstGeom prst="rect">
            <a:avLst/>
          </a:prstGeom>
          <a:ln w="0">
            <a:noFill/>
          </a:ln>
        </p:spPr>
      </p:pic>
      <p:sp>
        <p:nvSpPr>
          <p:cNvPr id="585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3" descr=""/>
          <p:cNvPicPr/>
          <p:nvPr/>
        </p:nvPicPr>
        <p:blipFill>
          <a:blip r:embed="rId1"/>
          <a:srcRect l="49940" t="18838" r="27042" b="60309"/>
          <a:stretch/>
        </p:blipFill>
        <p:spPr>
          <a:xfrm>
            <a:off x="1979640" y="1914480"/>
            <a:ext cx="1670040" cy="14446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2" descr=""/>
          <p:cNvPicPr/>
          <p:nvPr/>
        </p:nvPicPr>
        <p:blipFill>
          <a:blip r:embed="rId2"/>
          <a:stretch/>
        </p:blipFill>
        <p:spPr>
          <a:xfrm>
            <a:off x="755640" y="692280"/>
            <a:ext cx="981000" cy="64584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4" descr=""/>
          <p:cNvPicPr/>
          <p:nvPr/>
        </p:nvPicPr>
        <p:blipFill>
          <a:blip r:embed="rId3"/>
          <a:stretch/>
        </p:blipFill>
        <p:spPr>
          <a:xfrm>
            <a:off x="1744560" y="2637000"/>
            <a:ext cx="5694480" cy="2292120"/>
          </a:xfrm>
          <a:prstGeom prst="rect">
            <a:avLst/>
          </a:prstGeom>
          <a:ln w="0">
            <a:noFill/>
          </a:ln>
        </p:spPr>
      </p:pic>
      <p:sp>
        <p:nvSpPr>
          <p:cNvPr id="589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"/>
          <p:cNvPicPr/>
          <p:nvPr/>
        </p:nvPicPr>
        <p:blipFill>
          <a:blip r:embed="rId1"/>
          <a:stretch/>
        </p:blipFill>
        <p:spPr>
          <a:xfrm>
            <a:off x="3132000" y="1268280"/>
            <a:ext cx="3303720" cy="40784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2" descr=""/>
          <p:cNvPicPr/>
          <p:nvPr/>
        </p:nvPicPr>
        <p:blipFill>
          <a:blip r:embed="rId2"/>
          <a:stretch/>
        </p:blipFill>
        <p:spPr>
          <a:xfrm>
            <a:off x="277920" y="189000"/>
            <a:ext cx="1590480" cy="646200"/>
          </a:xfrm>
          <a:prstGeom prst="rect">
            <a:avLst/>
          </a:prstGeom>
          <a:ln w="0">
            <a:noFill/>
          </a:ln>
        </p:spPr>
      </p:pic>
      <p:sp>
        <p:nvSpPr>
          <p:cNvPr id="592" name="页脚占位符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图片 10" descr=""/>
          <p:cNvPicPr/>
          <p:nvPr/>
        </p:nvPicPr>
        <p:blipFill>
          <a:blip r:embed="rId1"/>
          <a:stretch/>
        </p:blipFill>
        <p:spPr>
          <a:xfrm>
            <a:off x="2109960" y="4608360"/>
            <a:ext cx="1139760" cy="1060560"/>
          </a:xfrm>
          <a:prstGeom prst="rect">
            <a:avLst/>
          </a:prstGeom>
          <a:ln w="0">
            <a:noFill/>
          </a:ln>
        </p:spPr>
      </p:pic>
      <p:pic>
        <p:nvPicPr>
          <p:cNvPr id="594" name="图片 29" descr=""/>
          <p:cNvPicPr/>
          <p:nvPr/>
        </p:nvPicPr>
        <p:blipFill>
          <a:blip r:embed="rId2"/>
          <a:stretch/>
        </p:blipFill>
        <p:spPr>
          <a:xfrm>
            <a:off x="3444840" y="3706920"/>
            <a:ext cx="1120680" cy="1090440"/>
          </a:xfrm>
          <a:prstGeom prst="rect">
            <a:avLst/>
          </a:prstGeom>
          <a:ln w="0">
            <a:noFill/>
          </a:ln>
        </p:spPr>
      </p:pic>
      <p:pic>
        <p:nvPicPr>
          <p:cNvPr id="595" name="图片 35" descr=""/>
          <p:cNvPicPr/>
          <p:nvPr/>
        </p:nvPicPr>
        <p:blipFill>
          <a:blip r:embed="rId3"/>
          <a:stretch/>
        </p:blipFill>
        <p:spPr>
          <a:xfrm>
            <a:off x="2077920" y="2968560"/>
            <a:ext cx="1128960" cy="1079640"/>
          </a:xfrm>
          <a:prstGeom prst="rect">
            <a:avLst/>
          </a:prstGeom>
          <a:ln w="0">
            <a:noFill/>
          </a:ln>
        </p:spPr>
      </p:pic>
      <p:pic>
        <p:nvPicPr>
          <p:cNvPr id="596" name="图片 41" descr=""/>
          <p:cNvPicPr/>
          <p:nvPr/>
        </p:nvPicPr>
        <p:blipFill>
          <a:blip r:embed="rId4"/>
          <a:stretch/>
        </p:blipFill>
        <p:spPr>
          <a:xfrm>
            <a:off x="5041800" y="3809880"/>
            <a:ext cx="1077840" cy="1133640"/>
          </a:xfrm>
          <a:prstGeom prst="rect">
            <a:avLst/>
          </a:prstGeom>
          <a:ln w="0">
            <a:noFill/>
          </a:ln>
        </p:spPr>
      </p:pic>
      <p:pic>
        <p:nvPicPr>
          <p:cNvPr id="597" name="图片 47" descr=""/>
          <p:cNvPicPr/>
          <p:nvPr/>
        </p:nvPicPr>
        <p:blipFill>
          <a:blip r:embed="rId5"/>
          <a:stretch/>
        </p:blipFill>
        <p:spPr>
          <a:xfrm>
            <a:off x="2998800" y="1657440"/>
            <a:ext cx="1146240" cy="1066680"/>
          </a:xfrm>
          <a:prstGeom prst="rect">
            <a:avLst/>
          </a:prstGeom>
          <a:ln w="0">
            <a:noFill/>
          </a:ln>
        </p:spPr>
      </p:pic>
      <p:pic>
        <p:nvPicPr>
          <p:cNvPr id="598" name="图片 53" descr=""/>
          <p:cNvPicPr/>
          <p:nvPr/>
        </p:nvPicPr>
        <p:blipFill>
          <a:blip r:embed="rId6"/>
          <a:stretch/>
        </p:blipFill>
        <p:spPr>
          <a:xfrm>
            <a:off x="4218120" y="762120"/>
            <a:ext cx="1139760" cy="1073160"/>
          </a:xfrm>
          <a:prstGeom prst="rect">
            <a:avLst/>
          </a:prstGeom>
          <a:ln w="0">
            <a:noFill/>
          </a:ln>
        </p:spPr>
      </p:pic>
      <p:pic>
        <p:nvPicPr>
          <p:cNvPr id="599" name="图片 59" descr=""/>
          <p:cNvPicPr/>
          <p:nvPr/>
        </p:nvPicPr>
        <p:blipFill>
          <a:blip r:embed="rId7"/>
          <a:stretch/>
        </p:blipFill>
        <p:spPr>
          <a:xfrm>
            <a:off x="6345360" y="3078000"/>
            <a:ext cx="1128600" cy="1079640"/>
          </a:xfrm>
          <a:prstGeom prst="rect">
            <a:avLst/>
          </a:prstGeom>
          <a:ln w="0">
            <a:noFill/>
          </a:ln>
        </p:spPr>
      </p:pic>
      <p:pic>
        <p:nvPicPr>
          <p:cNvPr id="600" name="图片 65" descr=""/>
          <p:cNvPicPr/>
          <p:nvPr/>
        </p:nvPicPr>
        <p:blipFill>
          <a:blip r:embed="rId8"/>
          <a:stretch/>
        </p:blipFill>
        <p:spPr>
          <a:xfrm>
            <a:off x="6357960" y="4632480"/>
            <a:ext cx="1066680" cy="11397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2" descr=""/>
          <p:cNvPicPr/>
          <p:nvPr/>
        </p:nvPicPr>
        <p:blipFill>
          <a:blip r:embed="rId9"/>
          <a:stretch/>
        </p:blipFill>
        <p:spPr>
          <a:xfrm>
            <a:off x="277920" y="189000"/>
            <a:ext cx="1590480" cy="646200"/>
          </a:xfrm>
          <a:prstGeom prst="rect">
            <a:avLst/>
          </a:prstGeom>
          <a:ln w="0">
            <a:noFill/>
          </a:ln>
        </p:spPr>
      </p:pic>
      <p:sp>
        <p:nvSpPr>
          <p:cNvPr id="602" name="页脚占位符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08:50:05Z</dcterms:created>
  <dc:creator>LIU Tao</dc:creator>
  <dc:description/>
  <cp:keywords/>
  <dc:language>en-US</dc:language>
  <cp:lastModifiedBy>Administrator</cp:lastModifiedBy>
  <cp:lastPrinted>1899-12-30T00:00:00Z</cp:lastPrinted>
  <dcterms:modified xsi:type="dcterms:W3CDTF">2016-07-25T09:26:51Z</dcterms:modified>
  <cp:revision>5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